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773-A602-4D4C-B136-6B00125E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050-A880-4100-9580-250FB87D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5E3-FB05-4588-8443-1A6E51BA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0BDD-5725-4EF2-9EEE-0B5CC803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C93-3256-4368-B65A-CDFA9809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5C4-4104-4BF7-B451-B5E3A4CA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E83-A0A0-4D93-B9F1-23E39AC5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DB3-5D80-4AE8-90AD-F9CCAD52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0F5-F212-4228-BD64-B27C916D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21B-BA52-4FDC-B752-D3CA3D4E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9B2-E90F-4306-A502-3E79BC1C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09E-BE3E-426F-8D08-57C41449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FE72-1CFD-4D35-A50A-6589E6404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0" y="5373720"/>
          <a:ext cx="111600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73720"/>
                    <a:ext cx="111600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319920" y="573120"/>
            <a:ext cx="2928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HIV TESTING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03600" y="1135080"/>
            <a:ext cx="203688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9240"/>
                </a:solidFill>
                <a:latin typeface="Geometr231 Hv BT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440000" y="2057400"/>
            <a:ext cx="6484680" cy="4389480"/>
            <a:chOff x="1440000" y="2057400"/>
            <a:chExt cx="6484680" cy="4389480"/>
          </a:xfrm>
        </p:grpSpPr>
        <p:sp>
          <p:nvSpPr>
            <p:cNvPr id="732" name=""/>
            <p:cNvSpPr/>
            <p:nvPr/>
          </p:nvSpPr>
          <p:spPr>
            <a:xfrm>
              <a:off x="1676520" y="2057400"/>
              <a:ext cx="6248160" cy="43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May relieve anx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Could motivate behaviour 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Allows for planning if posi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Effective prevention of  some opportunistic infe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Earlier diagnosis and more effective management of AIDS-related prob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Reduce risk of unknowingly spreading HIV to part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Can focus on healthy life sty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440000" y="213192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440000" y="268452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440000" y="3218040"/>
              <a:ext cx="169560" cy="13464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440000" y="376884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440000" y="430200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40000" y="512280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40000" y="568008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2448000" y="838080"/>
            <a:ext cx="42447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1460520" y="657360"/>
            <a:ext cx="63010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TEST RESULTS AR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EITHER POSITIVE OR NEGA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94200" y="2333520"/>
            <a:ext cx="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94200" y="25970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232160" y="3370320"/>
            <a:ext cx="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32160" y="3633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2160" y="4021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32160" y="4406760"/>
            <a:ext cx="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32160" y="4670280"/>
            <a:ext cx="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232160" y="4935600"/>
            <a:ext cx="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232160" y="51991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094200" y="55864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219320" y="2209680"/>
            <a:ext cx="7086600" cy="3659400"/>
            <a:chOff x="1219320" y="2209680"/>
            <a:chExt cx="7086600" cy="3659400"/>
          </a:xfrm>
        </p:grpSpPr>
        <p:sp>
          <p:nvSpPr>
            <p:cNvPr id="753" name=""/>
            <p:cNvSpPr/>
            <p:nvPr/>
          </p:nvSpPr>
          <p:spPr>
            <a:xfrm>
              <a:off x="1676520" y="2209680"/>
              <a:ext cx="6629400" cy="36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"Positive" result means the virus is in your bod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"Negative" result means eithe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You do not have the virus in your b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The virus is in your body, but the test doesn't 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detect it because you are still in the window peri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If your test is negative, you should b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19320" y="2209680"/>
              <a:ext cx="320400" cy="320760"/>
            </a:xfrm>
            <a:custGeom>
              <a:avLst/>
              <a:gdLst/>
              <a:ahLst/>
              <a:rect l="l" t="t" r="r" b="b"/>
              <a:pathLst>
                <a:path w="1009" h="1008">
                  <a:moveTo>
                    <a:pt x="429" y="116"/>
                  </a:moveTo>
                  <a:lnTo>
                    <a:pt x="580" y="116"/>
                  </a:lnTo>
                  <a:lnTo>
                    <a:pt x="580" y="430"/>
                  </a:lnTo>
                  <a:lnTo>
                    <a:pt x="884" y="430"/>
                  </a:lnTo>
                  <a:lnTo>
                    <a:pt x="884" y="578"/>
                  </a:lnTo>
                  <a:lnTo>
                    <a:pt x="580" y="578"/>
                  </a:lnTo>
                  <a:lnTo>
                    <a:pt x="580" y="892"/>
                  </a:lnTo>
                  <a:lnTo>
                    <a:pt x="429" y="892"/>
                  </a:lnTo>
                  <a:lnTo>
                    <a:pt x="429" y="578"/>
                  </a:lnTo>
                  <a:lnTo>
                    <a:pt x="123" y="578"/>
                  </a:lnTo>
                  <a:lnTo>
                    <a:pt x="123" y="430"/>
                  </a:lnTo>
                  <a:lnTo>
                    <a:pt x="429" y="430"/>
                  </a:lnTo>
                  <a:lnTo>
                    <a:pt x="429" y="116"/>
                  </a:lnTo>
                  <a:close/>
                  <a:moveTo>
                    <a:pt x="505" y="0"/>
                  </a:moveTo>
                  <a:lnTo>
                    <a:pt x="531" y="1"/>
                  </a:lnTo>
                  <a:lnTo>
                    <a:pt x="556" y="2"/>
                  </a:lnTo>
                  <a:lnTo>
                    <a:pt x="581" y="6"/>
                  </a:lnTo>
                  <a:lnTo>
                    <a:pt x="606" y="11"/>
                  </a:lnTo>
                  <a:lnTo>
                    <a:pt x="630" y="16"/>
                  </a:lnTo>
                  <a:lnTo>
                    <a:pt x="654" y="23"/>
                  </a:lnTo>
                  <a:lnTo>
                    <a:pt x="678" y="31"/>
                  </a:lnTo>
                  <a:lnTo>
                    <a:pt x="701" y="40"/>
                  </a:lnTo>
                  <a:lnTo>
                    <a:pt x="723" y="50"/>
                  </a:lnTo>
                  <a:lnTo>
                    <a:pt x="745" y="61"/>
                  </a:lnTo>
                  <a:lnTo>
                    <a:pt x="766" y="74"/>
                  </a:lnTo>
                  <a:lnTo>
                    <a:pt x="787" y="86"/>
                  </a:lnTo>
                  <a:lnTo>
                    <a:pt x="806" y="101"/>
                  </a:lnTo>
                  <a:lnTo>
                    <a:pt x="826" y="116"/>
                  </a:lnTo>
                  <a:lnTo>
                    <a:pt x="843" y="132"/>
                  </a:lnTo>
                  <a:lnTo>
                    <a:pt x="861" y="148"/>
                  </a:lnTo>
                  <a:lnTo>
                    <a:pt x="878" y="166"/>
                  </a:lnTo>
                  <a:lnTo>
                    <a:pt x="894" y="184"/>
                  </a:lnTo>
                  <a:lnTo>
                    <a:pt x="909" y="203"/>
                  </a:lnTo>
                  <a:lnTo>
                    <a:pt x="922" y="223"/>
                  </a:lnTo>
                  <a:lnTo>
                    <a:pt x="936" y="243"/>
                  </a:lnTo>
                  <a:lnTo>
                    <a:pt x="948" y="265"/>
                  </a:lnTo>
                  <a:lnTo>
                    <a:pt x="959" y="286"/>
                  </a:lnTo>
                  <a:lnTo>
                    <a:pt x="969" y="308"/>
                  </a:lnTo>
                  <a:lnTo>
                    <a:pt x="978" y="331"/>
                  </a:lnTo>
                  <a:lnTo>
                    <a:pt x="986" y="355"/>
                  </a:lnTo>
                  <a:lnTo>
                    <a:pt x="993" y="378"/>
                  </a:lnTo>
                  <a:lnTo>
                    <a:pt x="999" y="402"/>
                  </a:lnTo>
                  <a:lnTo>
                    <a:pt x="1003" y="428"/>
                  </a:lnTo>
                  <a:lnTo>
                    <a:pt x="1006" y="453"/>
                  </a:lnTo>
                  <a:lnTo>
                    <a:pt x="1008" y="478"/>
                  </a:lnTo>
                  <a:lnTo>
                    <a:pt x="1009" y="504"/>
                  </a:lnTo>
                  <a:lnTo>
                    <a:pt x="1008" y="531"/>
                  </a:lnTo>
                  <a:lnTo>
                    <a:pt x="1006" y="556"/>
                  </a:lnTo>
                  <a:lnTo>
                    <a:pt x="1003" y="581"/>
                  </a:lnTo>
                  <a:lnTo>
                    <a:pt x="999" y="606"/>
                  </a:lnTo>
                  <a:lnTo>
                    <a:pt x="993" y="630"/>
                  </a:lnTo>
                  <a:lnTo>
                    <a:pt x="986" y="653"/>
                  </a:lnTo>
                  <a:lnTo>
                    <a:pt x="978" y="678"/>
                  </a:lnTo>
                  <a:lnTo>
                    <a:pt x="969" y="701"/>
                  </a:lnTo>
                  <a:lnTo>
                    <a:pt x="959" y="723"/>
                  </a:lnTo>
                  <a:lnTo>
                    <a:pt x="948" y="745"/>
                  </a:lnTo>
                  <a:lnTo>
                    <a:pt x="936" y="766"/>
                  </a:lnTo>
                  <a:lnTo>
                    <a:pt x="922" y="786"/>
                  </a:lnTo>
                  <a:lnTo>
                    <a:pt x="909" y="806"/>
                  </a:lnTo>
                  <a:lnTo>
                    <a:pt x="894" y="825"/>
                  </a:lnTo>
                  <a:lnTo>
                    <a:pt x="878" y="843"/>
                  </a:lnTo>
                  <a:lnTo>
                    <a:pt x="861" y="860"/>
                  </a:lnTo>
                  <a:lnTo>
                    <a:pt x="843" y="877"/>
                  </a:lnTo>
                  <a:lnTo>
                    <a:pt x="826" y="893"/>
                  </a:lnTo>
                  <a:lnTo>
                    <a:pt x="806" y="909"/>
                  </a:lnTo>
                  <a:lnTo>
                    <a:pt x="787" y="922"/>
                  </a:lnTo>
                  <a:lnTo>
                    <a:pt x="766" y="936"/>
                  </a:lnTo>
                  <a:lnTo>
                    <a:pt x="745" y="947"/>
                  </a:lnTo>
                  <a:lnTo>
                    <a:pt x="723" y="959"/>
                  </a:lnTo>
                  <a:lnTo>
                    <a:pt x="701" y="968"/>
                  </a:lnTo>
                  <a:lnTo>
                    <a:pt x="678" y="978"/>
                  </a:lnTo>
                  <a:lnTo>
                    <a:pt x="654" y="985"/>
                  </a:lnTo>
                  <a:lnTo>
                    <a:pt x="630" y="993"/>
                  </a:lnTo>
                  <a:lnTo>
                    <a:pt x="606" y="998"/>
                  </a:lnTo>
                  <a:lnTo>
                    <a:pt x="581" y="1003"/>
                  </a:lnTo>
                  <a:lnTo>
                    <a:pt x="556" y="1006"/>
                  </a:lnTo>
                  <a:lnTo>
                    <a:pt x="531" y="1007"/>
                  </a:lnTo>
                  <a:lnTo>
                    <a:pt x="505" y="1008"/>
                  </a:lnTo>
                  <a:lnTo>
                    <a:pt x="479" y="1007"/>
                  </a:lnTo>
                  <a:lnTo>
                    <a:pt x="454" y="1006"/>
                  </a:lnTo>
                  <a:lnTo>
                    <a:pt x="429" y="1003"/>
                  </a:lnTo>
                  <a:lnTo>
                    <a:pt x="404" y="998"/>
                  </a:lnTo>
                  <a:lnTo>
                    <a:pt x="379" y="993"/>
                  </a:lnTo>
                  <a:lnTo>
                    <a:pt x="355" y="985"/>
                  </a:lnTo>
                  <a:lnTo>
                    <a:pt x="332" y="978"/>
                  </a:lnTo>
                  <a:lnTo>
                    <a:pt x="309" y="968"/>
                  </a:lnTo>
                  <a:lnTo>
                    <a:pt x="287" y="959"/>
                  </a:lnTo>
                  <a:lnTo>
                    <a:pt x="265" y="947"/>
                  </a:lnTo>
                  <a:lnTo>
                    <a:pt x="244" y="936"/>
                  </a:lnTo>
                  <a:lnTo>
                    <a:pt x="223" y="922"/>
                  </a:lnTo>
                  <a:lnTo>
                    <a:pt x="204" y="909"/>
                  </a:lnTo>
                  <a:lnTo>
                    <a:pt x="184" y="893"/>
                  </a:lnTo>
                  <a:lnTo>
                    <a:pt x="166" y="877"/>
                  </a:lnTo>
                  <a:lnTo>
                    <a:pt x="148" y="860"/>
                  </a:lnTo>
                  <a:lnTo>
                    <a:pt x="132" y="843"/>
                  </a:lnTo>
                  <a:lnTo>
                    <a:pt x="116" y="825"/>
                  </a:lnTo>
                  <a:lnTo>
                    <a:pt x="101" y="806"/>
                  </a:lnTo>
                  <a:lnTo>
                    <a:pt x="88" y="786"/>
                  </a:lnTo>
                  <a:lnTo>
                    <a:pt x="74" y="766"/>
                  </a:lnTo>
                  <a:lnTo>
                    <a:pt x="61" y="745"/>
                  </a:lnTo>
                  <a:lnTo>
                    <a:pt x="51" y="723"/>
                  </a:lnTo>
                  <a:lnTo>
                    <a:pt x="40" y="701"/>
                  </a:lnTo>
                  <a:lnTo>
                    <a:pt x="32" y="678"/>
                  </a:lnTo>
                  <a:lnTo>
                    <a:pt x="23" y="653"/>
                  </a:lnTo>
                  <a:lnTo>
                    <a:pt x="17" y="630"/>
                  </a:lnTo>
                  <a:lnTo>
                    <a:pt x="11" y="606"/>
                  </a:lnTo>
                  <a:lnTo>
                    <a:pt x="7" y="581"/>
                  </a:lnTo>
                  <a:lnTo>
                    <a:pt x="4" y="556"/>
                  </a:lnTo>
                  <a:lnTo>
                    <a:pt x="1" y="531"/>
                  </a:lnTo>
                  <a:lnTo>
                    <a:pt x="0" y="504"/>
                  </a:lnTo>
                  <a:lnTo>
                    <a:pt x="1" y="478"/>
                  </a:lnTo>
                  <a:lnTo>
                    <a:pt x="4" y="453"/>
                  </a:lnTo>
                  <a:lnTo>
                    <a:pt x="7" y="428"/>
                  </a:lnTo>
                  <a:lnTo>
                    <a:pt x="11" y="402"/>
                  </a:lnTo>
                  <a:lnTo>
                    <a:pt x="17" y="378"/>
                  </a:lnTo>
                  <a:lnTo>
                    <a:pt x="23" y="355"/>
                  </a:lnTo>
                  <a:lnTo>
                    <a:pt x="32" y="331"/>
                  </a:lnTo>
                  <a:lnTo>
                    <a:pt x="40" y="308"/>
                  </a:lnTo>
                  <a:lnTo>
                    <a:pt x="51" y="286"/>
                  </a:lnTo>
                  <a:lnTo>
                    <a:pt x="61" y="265"/>
                  </a:lnTo>
                  <a:lnTo>
                    <a:pt x="74" y="243"/>
                  </a:lnTo>
                  <a:lnTo>
                    <a:pt x="88" y="223"/>
                  </a:lnTo>
                  <a:lnTo>
                    <a:pt x="101" y="203"/>
                  </a:lnTo>
                  <a:lnTo>
                    <a:pt x="116" y="184"/>
                  </a:lnTo>
                  <a:lnTo>
                    <a:pt x="132" y="166"/>
                  </a:lnTo>
                  <a:lnTo>
                    <a:pt x="148" y="148"/>
                  </a:lnTo>
                  <a:lnTo>
                    <a:pt x="166" y="132"/>
                  </a:lnTo>
                  <a:lnTo>
                    <a:pt x="184" y="116"/>
                  </a:lnTo>
                  <a:lnTo>
                    <a:pt x="204" y="101"/>
                  </a:lnTo>
                  <a:lnTo>
                    <a:pt x="223" y="86"/>
                  </a:lnTo>
                  <a:lnTo>
                    <a:pt x="244" y="74"/>
                  </a:lnTo>
                  <a:lnTo>
                    <a:pt x="265" y="61"/>
                  </a:lnTo>
                  <a:lnTo>
                    <a:pt x="287" y="50"/>
                  </a:lnTo>
                  <a:lnTo>
                    <a:pt x="309" y="40"/>
                  </a:lnTo>
                  <a:lnTo>
                    <a:pt x="332" y="31"/>
                  </a:lnTo>
                  <a:lnTo>
                    <a:pt x="355" y="23"/>
                  </a:lnTo>
                  <a:lnTo>
                    <a:pt x="379" y="16"/>
                  </a:lnTo>
                  <a:lnTo>
                    <a:pt x="404" y="11"/>
                  </a:lnTo>
                  <a:lnTo>
                    <a:pt x="429" y="6"/>
                  </a:lnTo>
                  <a:lnTo>
                    <a:pt x="454" y="2"/>
                  </a:lnTo>
                  <a:lnTo>
                    <a:pt x="479" y="1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19320" y="2801880"/>
              <a:ext cx="320400" cy="319320"/>
            </a:xfrm>
            <a:custGeom>
              <a:avLst/>
              <a:gdLst/>
              <a:ahLst/>
              <a:rect l="l" t="t" r="r" b="b"/>
              <a:pathLst>
                <a:path w="1008" h="1008">
                  <a:moveTo>
                    <a:pt x="178" y="430"/>
                  </a:moveTo>
                  <a:lnTo>
                    <a:pt x="829" y="427"/>
                  </a:lnTo>
                  <a:lnTo>
                    <a:pt x="829" y="579"/>
                  </a:lnTo>
                  <a:lnTo>
                    <a:pt x="178" y="579"/>
                  </a:lnTo>
                  <a:lnTo>
                    <a:pt x="178" y="430"/>
                  </a:lnTo>
                  <a:close/>
                  <a:moveTo>
                    <a:pt x="504" y="0"/>
                  </a:moveTo>
                  <a:lnTo>
                    <a:pt x="530" y="0"/>
                  </a:lnTo>
                  <a:lnTo>
                    <a:pt x="555" y="2"/>
                  </a:lnTo>
                  <a:lnTo>
                    <a:pt x="581" y="5"/>
                  </a:lnTo>
                  <a:lnTo>
                    <a:pt x="606" y="11"/>
                  </a:lnTo>
                  <a:lnTo>
                    <a:pt x="630" y="16"/>
                  </a:lnTo>
                  <a:lnTo>
                    <a:pt x="654" y="22"/>
                  </a:lnTo>
                  <a:lnTo>
                    <a:pt x="677" y="31"/>
                  </a:lnTo>
                  <a:lnTo>
                    <a:pt x="700" y="40"/>
                  </a:lnTo>
                  <a:lnTo>
                    <a:pt x="722" y="49"/>
                  </a:lnTo>
                  <a:lnTo>
                    <a:pt x="744" y="61"/>
                  </a:lnTo>
                  <a:lnTo>
                    <a:pt x="765" y="74"/>
                  </a:lnTo>
                  <a:lnTo>
                    <a:pt x="785" y="86"/>
                  </a:lnTo>
                  <a:lnTo>
                    <a:pt x="805" y="100"/>
                  </a:lnTo>
                  <a:lnTo>
                    <a:pt x="824" y="116"/>
                  </a:lnTo>
                  <a:lnTo>
                    <a:pt x="843" y="131"/>
                  </a:lnTo>
                  <a:lnTo>
                    <a:pt x="860" y="148"/>
                  </a:lnTo>
                  <a:lnTo>
                    <a:pt x="877" y="165"/>
                  </a:lnTo>
                  <a:lnTo>
                    <a:pt x="892" y="184"/>
                  </a:lnTo>
                  <a:lnTo>
                    <a:pt x="908" y="203"/>
                  </a:lnTo>
                  <a:lnTo>
                    <a:pt x="922" y="223"/>
                  </a:lnTo>
                  <a:lnTo>
                    <a:pt x="934" y="243"/>
                  </a:lnTo>
                  <a:lnTo>
                    <a:pt x="947" y="264"/>
                  </a:lnTo>
                  <a:lnTo>
                    <a:pt x="959" y="286"/>
                  </a:lnTo>
                  <a:lnTo>
                    <a:pt x="968" y="308"/>
                  </a:lnTo>
                  <a:lnTo>
                    <a:pt x="977" y="331"/>
                  </a:lnTo>
                  <a:lnTo>
                    <a:pt x="986" y="354"/>
                  </a:lnTo>
                  <a:lnTo>
                    <a:pt x="992" y="378"/>
                  </a:lnTo>
                  <a:lnTo>
                    <a:pt x="997" y="402"/>
                  </a:lnTo>
                  <a:lnTo>
                    <a:pt x="1003" y="427"/>
                  </a:lnTo>
                  <a:lnTo>
                    <a:pt x="1006" y="453"/>
                  </a:lnTo>
                  <a:lnTo>
                    <a:pt x="1008" y="478"/>
                  </a:lnTo>
                  <a:lnTo>
                    <a:pt x="1008" y="504"/>
                  </a:lnTo>
                  <a:lnTo>
                    <a:pt x="1008" y="530"/>
                  </a:lnTo>
                  <a:lnTo>
                    <a:pt x="1006" y="556"/>
                  </a:lnTo>
                  <a:lnTo>
                    <a:pt x="1003" y="581"/>
                  </a:lnTo>
                  <a:lnTo>
                    <a:pt x="997" y="605"/>
                  </a:lnTo>
                  <a:lnTo>
                    <a:pt x="992" y="630"/>
                  </a:lnTo>
                  <a:lnTo>
                    <a:pt x="986" y="653"/>
                  </a:lnTo>
                  <a:lnTo>
                    <a:pt x="977" y="677"/>
                  </a:lnTo>
                  <a:lnTo>
                    <a:pt x="968" y="699"/>
                  </a:lnTo>
                  <a:lnTo>
                    <a:pt x="959" y="722"/>
                  </a:lnTo>
                  <a:lnTo>
                    <a:pt x="947" y="743"/>
                  </a:lnTo>
                  <a:lnTo>
                    <a:pt x="934" y="766"/>
                  </a:lnTo>
                  <a:lnTo>
                    <a:pt x="922" y="785"/>
                  </a:lnTo>
                  <a:lnTo>
                    <a:pt x="908" y="805"/>
                  </a:lnTo>
                  <a:lnTo>
                    <a:pt x="892" y="824"/>
                  </a:lnTo>
                  <a:lnTo>
                    <a:pt x="877" y="842"/>
                  </a:lnTo>
                  <a:lnTo>
                    <a:pt x="860" y="860"/>
                  </a:lnTo>
                  <a:lnTo>
                    <a:pt x="843" y="877"/>
                  </a:lnTo>
                  <a:lnTo>
                    <a:pt x="824" y="893"/>
                  </a:lnTo>
                  <a:lnTo>
                    <a:pt x="805" y="907"/>
                  </a:lnTo>
                  <a:lnTo>
                    <a:pt x="785" y="922"/>
                  </a:lnTo>
                  <a:lnTo>
                    <a:pt x="765" y="935"/>
                  </a:lnTo>
                  <a:lnTo>
                    <a:pt x="744" y="947"/>
                  </a:lnTo>
                  <a:lnTo>
                    <a:pt x="722" y="959"/>
                  </a:lnTo>
                  <a:lnTo>
                    <a:pt x="700" y="968"/>
                  </a:lnTo>
                  <a:lnTo>
                    <a:pt x="677" y="978"/>
                  </a:lnTo>
                  <a:lnTo>
                    <a:pt x="654" y="985"/>
                  </a:lnTo>
                  <a:lnTo>
                    <a:pt x="630" y="992"/>
                  </a:lnTo>
                  <a:lnTo>
                    <a:pt x="606" y="998"/>
                  </a:lnTo>
                  <a:lnTo>
                    <a:pt x="581" y="1002"/>
                  </a:lnTo>
                  <a:lnTo>
                    <a:pt x="555" y="1006"/>
                  </a:lnTo>
                  <a:lnTo>
                    <a:pt x="530" y="1007"/>
                  </a:lnTo>
                  <a:lnTo>
                    <a:pt x="504" y="1008"/>
                  </a:lnTo>
                  <a:lnTo>
                    <a:pt x="478" y="1007"/>
                  </a:lnTo>
                  <a:lnTo>
                    <a:pt x="452" y="1006"/>
                  </a:lnTo>
                  <a:lnTo>
                    <a:pt x="427" y="1002"/>
                  </a:lnTo>
                  <a:lnTo>
                    <a:pt x="403" y="998"/>
                  </a:lnTo>
                  <a:lnTo>
                    <a:pt x="378" y="992"/>
                  </a:lnTo>
                  <a:lnTo>
                    <a:pt x="355" y="985"/>
                  </a:lnTo>
                  <a:lnTo>
                    <a:pt x="331" y="978"/>
                  </a:lnTo>
                  <a:lnTo>
                    <a:pt x="309" y="968"/>
                  </a:lnTo>
                  <a:lnTo>
                    <a:pt x="286" y="959"/>
                  </a:lnTo>
                  <a:lnTo>
                    <a:pt x="265" y="947"/>
                  </a:lnTo>
                  <a:lnTo>
                    <a:pt x="243" y="935"/>
                  </a:lnTo>
                  <a:lnTo>
                    <a:pt x="223" y="922"/>
                  </a:lnTo>
                  <a:lnTo>
                    <a:pt x="203" y="907"/>
                  </a:lnTo>
                  <a:lnTo>
                    <a:pt x="184" y="893"/>
                  </a:lnTo>
                  <a:lnTo>
                    <a:pt x="166" y="877"/>
                  </a:lnTo>
                  <a:lnTo>
                    <a:pt x="148" y="860"/>
                  </a:lnTo>
                  <a:lnTo>
                    <a:pt x="131" y="842"/>
                  </a:lnTo>
                  <a:lnTo>
                    <a:pt x="115" y="824"/>
                  </a:lnTo>
                  <a:lnTo>
                    <a:pt x="101" y="805"/>
                  </a:lnTo>
                  <a:lnTo>
                    <a:pt x="86" y="785"/>
                  </a:lnTo>
                  <a:lnTo>
                    <a:pt x="73" y="766"/>
                  </a:lnTo>
                  <a:lnTo>
                    <a:pt x="61" y="743"/>
                  </a:lnTo>
                  <a:lnTo>
                    <a:pt x="49" y="722"/>
                  </a:lnTo>
                  <a:lnTo>
                    <a:pt x="40" y="699"/>
                  </a:lnTo>
                  <a:lnTo>
                    <a:pt x="30" y="677"/>
                  </a:lnTo>
                  <a:lnTo>
                    <a:pt x="23" y="653"/>
                  </a:lnTo>
                  <a:lnTo>
                    <a:pt x="16" y="630"/>
                  </a:lnTo>
                  <a:lnTo>
                    <a:pt x="10" y="605"/>
                  </a:lnTo>
                  <a:lnTo>
                    <a:pt x="5" y="581"/>
                  </a:lnTo>
                  <a:lnTo>
                    <a:pt x="2" y="556"/>
                  </a:lnTo>
                  <a:lnTo>
                    <a:pt x="1" y="530"/>
                  </a:lnTo>
                  <a:lnTo>
                    <a:pt x="0" y="504"/>
                  </a:lnTo>
                  <a:lnTo>
                    <a:pt x="1" y="478"/>
                  </a:lnTo>
                  <a:lnTo>
                    <a:pt x="2" y="453"/>
                  </a:lnTo>
                  <a:lnTo>
                    <a:pt x="5" y="427"/>
                  </a:lnTo>
                  <a:lnTo>
                    <a:pt x="10" y="402"/>
                  </a:lnTo>
                  <a:lnTo>
                    <a:pt x="16" y="378"/>
                  </a:lnTo>
                  <a:lnTo>
                    <a:pt x="23" y="354"/>
                  </a:lnTo>
                  <a:lnTo>
                    <a:pt x="30" y="331"/>
                  </a:lnTo>
                  <a:lnTo>
                    <a:pt x="40" y="308"/>
                  </a:lnTo>
                  <a:lnTo>
                    <a:pt x="49" y="286"/>
                  </a:lnTo>
                  <a:lnTo>
                    <a:pt x="61" y="264"/>
                  </a:lnTo>
                  <a:lnTo>
                    <a:pt x="73" y="243"/>
                  </a:lnTo>
                  <a:lnTo>
                    <a:pt x="86" y="223"/>
                  </a:lnTo>
                  <a:lnTo>
                    <a:pt x="101" y="203"/>
                  </a:lnTo>
                  <a:lnTo>
                    <a:pt x="115" y="184"/>
                  </a:lnTo>
                  <a:lnTo>
                    <a:pt x="131" y="165"/>
                  </a:lnTo>
                  <a:lnTo>
                    <a:pt x="148" y="148"/>
                  </a:lnTo>
                  <a:lnTo>
                    <a:pt x="166" y="131"/>
                  </a:lnTo>
                  <a:lnTo>
                    <a:pt x="184" y="116"/>
                  </a:lnTo>
                  <a:lnTo>
                    <a:pt x="203" y="100"/>
                  </a:lnTo>
                  <a:lnTo>
                    <a:pt x="223" y="86"/>
                  </a:lnTo>
                  <a:lnTo>
                    <a:pt x="243" y="74"/>
                  </a:lnTo>
                  <a:lnTo>
                    <a:pt x="265" y="61"/>
                  </a:lnTo>
                  <a:lnTo>
                    <a:pt x="286" y="49"/>
                  </a:lnTo>
                  <a:lnTo>
                    <a:pt x="309" y="40"/>
                  </a:lnTo>
                  <a:lnTo>
                    <a:pt x="331" y="31"/>
                  </a:lnTo>
                  <a:lnTo>
                    <a:pt x="355" y="22"/>
                  </a:lnTo>
                  <a:lnTo>
                    <a:pt x="378" y="16"/>
                  </a:lnTo>
                  <a:lnTo>
                    <a:pt x="403" y="11"/>
                  </a:lnTo>
                  <a:lnTo>
                    <a:pt x="427" y="5"/>
                  </a:lnTo>
                  <a:lnTo>
                    <a:pt x="452" y="2"/>
                  </a:lnTo>
                  <a:lnTo>
                    <a:pt x="478" y="0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2284560" y="3218040"/>
              <a:ext cx="153360" cy="1371240"/>
              <a:chOff x="2284560" y="3218040"/>
              <a:chExt cx="153360" cy="1371240"/>
            </a:xfrm>
          </p:grpSpPr>
          <p:sp>
            <p:nvSpPr>
              <p:cNvPr id="757" name=""/>
              <p:cNvSpPr/>
              <p:nvPr/>
            </p:nvSpPr>
            <p:spPr>
              <a:xfrm>
                <a:off x="2284560" y="3218040"/>
                <a:ext cx="153360" cy="153360"/>
              </a:xfrm>
              <a:custGeom>
                <a:avLst/>
                <a:gdLst/>
                <a:ahLst/>
                <a:rect l="l" t="t" r="r" b="b"/>
                <a:pathLst>
                  <a:path w="410" h="410">
                    <a:moveTo>
                      <a:pt x="72" y="174"/>
                    </a:moveTo>
                    <a:lnTo>
                      <a:pt x="338" y="174"/>
                    </a:lnTo>
                    <a:lnTo>
                      <a:pt x="338" y="235"/>
                    </a:lnTo>
                    <a:lnTo>
                      <a:pt x="72" y="235"/>
                    </a:lnTo>
                    <a:lnTo>
                      <a:pt x="72" y="174"/>
                    </a:lnTo>
                    <a:close/>
                    <a:moveTo>
                      <a:pt x="204" y="0"/>
                    </a:moveTo>
                    <a:lnTo>
                      <a:pt x="225" y="1"/>
                    </a:lnTo>
                    <a:lnTo>
                      <a:pt x="246" y="4"/>
                    </a:lnTo>
                    <a:lnTo>
                      <a:pt x="265" y="8"/>
                    </a:lnTo>
                    <a:lnTo>
                      <a:pt x="284" y="15"/>
                    </a:lnTo>
                    <a:lnTo>
                      <a:pt x="302" y="24"/>
                    </a:lnTo>
                    <a:lnTo>
                      <a:pt x="320" y="34"/>
                    </a:lnTo>
                    <a:lnTo>
                      <a:pt x="336" y="46"/>
                    </a:lnTo>
                    <a:lnTo>
                      <a:pt x="350" y="59"/>
                    </a:lnTo>
                    <a:lnTo>
                      <a:pt x="363" y="74"/>
                    </a:lnTo>
                    <a:lnTo>
                      <a:pt x="375" y="90"/>
                    </a:lnTo>
                    <a:lnTo>
                      <a:pt x="385" y="107"/>
                    </a:lnTo>
                    <a:lnTo>
                      <a:pt x="393" y="125"/>
                    </a:lnTo>
                    <a:lnTo>
                      <a:pt x="401" y="143"/>
                    </a:lnTo>
                    <a:lnTo>
                      <a:pt x="406" y="163"/>
                    </a:lnTo>
                    <a:lnTo>
                      <a:pt x="409" y="183"/>
                    </a:lnTo>
                    <a:lnTo>
                      <a:pt x="410" y="204"/>
                    </a:lnTo>
                    <a:lnTo>
                      <a:pt x="409" y="225"/>
                    </a:lnTo>
                    <a:lnTo>
                      <a:pt x="406" y="245"/>
                    </a:lnTo>
                    <a:lnTo>
                      <a:pt x="401" y="265"/>
                    </a:lnTo>
                    <a:lnTo>
                      <a:pt x="393" y="284"/>
                    </a:lnTo>
                    <a:lnTo>
                      <a:pt x="385" y="302"/>
                    </a:lnTo>
                    <a:lnTo>
                      <a:pt x="375" y="319"/>
                    </a:lnTo>
                    <a:lnTo>
                      <a:pt x="363" y="335"/>
                    </a:lnTo>
                    <a:lnTo>
                      <a:pt x="350" y="349"/>
                    </a:lnTo>
                    <a:lnTo>
                      <a:pt x="336" y="363"/>
                    </a:lnTo>
                    <a:lnTo>
                      <a:pt x="320" y="374"/>
                    </a:lnTo>
                    <a:lnTo>
                      <a:pt x="302" y="385"/>
                    </a:lnTo>
                    <a:lnTo>
                      <a:pt x="284" y="393"/>
                    </a:lnTo>
                    <a:lnTo>
                      <a:pt x="265" y="401"/>
                    </a:lnTo>
                    <a:lnTo>
                      <a:pt x="246" y="406"/>
                    </a:lnTo>
                    <a:lnTo>
                      <a:pt x="236" y="407"/>
                    </a:lnTo>
                    <a:lnTo>
                      <a:pt x="225" y="409"/>
                    </a:lnTo>
                    <a:lnTo>
                      <a:pt x="215" y="409"/>
                    </a:lnTo>
                    <a:lnTo>
                      <a:pt x="204" y="410"/>
                    </a:lnTo>
                    <a:lnTo>
                      <a:pt x="194" y="409"/>
                    </a:lnTo>
                    <a:lnTo>
                      <a:pt x="183" y="409"/>
                    </a:lnTo>
                    <a:lnTo>
                      <a:pt x="174" y="407"/>
                    </a:lnTo>
                    <a:lnTo>
                      <a:pt x="164" y="406"/>
                    </a:lnTo>
                    <a:lnTo>
                      <a:pt x="144" y="401"/>
                    </a:lnTo>
                    <a:lnTo>
                      <a:pt x="125" y="393"/>
                    </a:lnTo>
                    <a:lnTo>
                      <a:pt x="107" y="385"/>
                    </a:lnTo>
                    <a:lnTo>
                      <a:pt x="90" y="374"/>
                    </a:lnTo>
                    <a:lnTo>
                      <a:pt x="74" y="363"/>
                    </a:lnTo>
                    <a:lnTo>
                      <a:pt x="60" y="349"/>
                    </a:lnTo>
                    <a:lnTo>
                      <a:pt x="47" y="335"/>
                    </a:lnTo>
                    <a:lnTo>
                      <a:pt x="34" y="319"/>
                    </a:lnTo>
                    <a:lnTo>
                      <a:pt x="25" y="302"/>
                    </a:lnTo>
                    <a:lnTo>
                      <a:pt x="15" y="284"/>
                    </a:lnTo>
                    <a:lnTo>
                      <a:pt x="9" y="265"/>
                    </a:lnTo>
                    <a:lnTo>
                      <a:pt x="4" y="245"/>
                    </a:lnTo>
                    <a:lnTo>
                      <a:pt x="2" y="236"/>
                    </a:lnTo>
                    <a:lnTo>
                      <a:pt x="1" y="225"/>
                    </a:lnTo>
                    <a:lnTo>
                      <a:pt x="0" y="215"/>
                    </a:lnTo>
                    <a:lnTo>
                      <a:pt x="0" y="204"/>
                    </a:lnTo>
                    <a:lnTo>
                      <a:pt x="0" y="194"/>
                    </a:lnTo>
                    <a:lnTo>
                      <a:pt x="1" y="183"/>
                    </a:lnTo>
                    <a:lnTo>
                      <a:pt x="2" y="173"/>
                    </a:lnTo>
                    <a:lnTo>
                      <a:pt x="4" y="163"/>
                    </a:lnTo>
                    <a:lnTo>
                      <a:pt x="9" y="143"/>
                    </a:lnTo>
                    <a:lnTo>
                      <a:pt x="15" y="125"/>
                    </a:lnTo>
                    <a:lnTo>
                      <a:pt x="25" y="107"/>
                    </a:lnTo>
                    <a:lnTo>
                      <a:pt x="34" y="90"/>
                    </a:lnTo>
                    <a:lnTo>
                      <a:pt x="47" y="74"/>
                    </a:lnTo>
                    <a:lnTo>
                      <a:pt x="60" y="59"/>
                    </a:lnTo>
                    <a:lnTo>
                      <a:pt x="74" y="46"/>
                    </a:lnTo>
                    <a:lnTo>
                      <a:pt x="90" y="34"/>
                    </a:lnTo>
                    <a:lnTo>
                      <a:pt x="107" y="24"/>
                    </a:lnTo>
                    <a:lnTo>
                      <a:pt x="125" y="15"/>
                    </a:lnTo>
                    <a:lnTo>
                      <a:pt x="144" y="8"/>
                    </a:lnTo>
                    <a:lnTo>
                      <a:pt x="164" y="4"/>
                    </a:lnTo>
                    <a:lnTo>
                      <a:pt x="183" y="1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4560" y="4435920"/>
                <a:ext cx="153360" cy="153360"/>
              </a:xfrm>
              <a:custGeom>
                <a:avLst/>
                <a:gdLst/>
                <a:ahLst/>
                <a:rect l="l" t="t" r="r" b="b"/>
                <a:pathLst>
                  <a:path w="410" h="411">
                    <a:moveTo>
                      <a:pt x="72" y="175"/>
                    </a:moveTo>
                    <a:lnTo>
                      <a:pt x="338" y="174"/>
                    </a:lnTo>
                    <a:lnTo>
                      <a:pt x="338" y="235"/>
                    </a:lnTo>
                    <a:lnTo>
                      <a:pt x="72" y="235"/>
                    </a:lnTo>
                    <a:lnTo>
                      <a:pt x="72" y="175"/>
                    </a:lnTo>
                    <a:close/>
                    <a:moveTo>
                      <a:pt x="204" y="0"/>
                    </a:moveTo>
                    <a:lnTo>
                      <a:pt x="225" y="1"/>
                    </a:lnTo>
                    <a:lnTo>
                      <a:pt x="246" y="4"/>
                    </a:lnTo>
                    <a:lnTo>
                      <a:pt x="265" y="9"/>
                    </a:lnTo>
                    <a:lnTo>
                      <a:pt x="284" y="17"/>
                    </a:lnTo>
                    <a:lnTo>
                      <a:pt x="302" y="25"/>
                    </a:lnTo>
                    <a:lnTo>
                      <a:pt x="320" y="36"/>
                    </a:lnTo>
                    <a:lnTo>
                      <a:pt x="336" y="47"/>
                    </a:lnTo>
                    <a:lnTo>
                      <a:pt x="350" y="61"/>
                    </a:lnTo>
                    <a:lnTo>
                      <a:pt x="363" y="75"/>
                    </a:lnTo>
                    <a:lnTo>
                      <a:pt x="375" y="91"/>
                    </a:lnTo>
                    <a:lnTo>
                      <a:pt x="385" y="108"/>
                    </a:lnTo>
                    <a:lnTo>
                      <a:pt x="393" y="126"/>
                    </a:lnTo>
                    <a:lnTo>
                      <a:pt x="401" y="145"/>
                    </a:lnTo>
                    <a:lnTo>
                      <a:pt x="406" y="164"/>
                    </a:lnTo>
                    <a:lnTo>
                      <a:pt x="409" y="185"/>
                    </a:lnTo>
                    <a:lnTo>
                      <a:pt x="410" y="206"/>
                    </a:lnTo>
                    <a:lnTo>
                      <a:pt x="409" y="227"/>
                    </a:lnTo>
                    <a:lnTo>
                      <a:pt x="406" y="247"/>
                    </a:lnTo>
                    <a:lnTo>
                      <a:pt x="401" y="267"/>
                    </a:lnTo>
                    <a:lnTo>
                      <a:pt x="393" y="286"/>
                    </a:lnTo>
                    <a:lnTo>
                      <a:pt x="385" y="303"/>
                    </a:lnTo>
                    <a:lnTo>
                      <a:pt x="375" y="320"/>
                    </a:lnTo>
                    <a:lnTo>
                      <a:pt x="363" y="336"/>
                    </a:lnTo>
                    <a:lnTo>
                      <a:pt x="350" y="351"/>
                    </a:lnTo>
                    <a:lnTo>
                      <a:pt x="336" y="363"/>
                    </a:lnTo>
                    <a:lnTo>
                      <a:pt x="320" y="376"/>
                    </a:lnTo>
                    <a:lnTo>
                      <a:pt x="302" y="385"/>
                    </a:lnTo>
                    <a:lnTo>
                      <a:pt x="284" y="395"/>
                    </a:lnTo>
                    <a:lnTo>
                      <a:pt x="265" y="401"/>
                    </a:lnTo>
                    <a:lnTo>
                      <a:pt x="246" y="406"/>
                    </a:lnTo>
                    <a:lnTo>
                      <a:pt x="236" y="408"/>
                    </a:lnTo>
                    <a:lnTo>
                      <a:pt x="225" y="409"/>
                    </a:lnTo>
                    <a:lnTo>
                      <a:pt x="215" y="411"/>
                    </a:lnTo>
                    <a:lnTo>
                      <a:pt x="204" y="411"/>
                    </a:lnTo>
                    <a:lnTo>
                      <a:pt x="194" y="411"/>
                    </a:lnTo>
                    <a:lnTo>
                      <a:pt x="183" y="409"/>
                    </a:lnTo>
                    <a:lnTo>
                      <a:pt x="174" y="408"/>
                    </a:lnTo>
                    <a:lnTo>
                      <a:pt x="164" y="406"/>
                    </a:lnTo>
                    <a:lnTo>
                      <a:pt x="144" y="401"/>
                    </a:lnTo>
                    <a:lnTo>
                      <a:pt x="125" y="395"/>
                    </a:lnTo>
                    <a:lnTo>
                      <a:pt x="107" y="385"/>
                    </a:lnTo>
                    <a:lnTo>
                      <a:pt x="90" y="376"/>
                    </a:lnTo>
                    <a:lnTo>
                      <a:pt x="74" y="363"/>
                    </a:lnTo>
                    <a:lnTo>
                      <a:pt x="60" y="351"/>
                    </a:lnTo>
                    <a:lnTo>
                      <a:pt x="47" y="336"/>
                    </a:lnTo>
                    <a:lnTo>
                      <a:pt x="34" y="320"/>
                    </a:lnTo>
                    <a:lnTo>
                      <a:pt x="25" y="303"/>
                    </a:lnTo>
                    <a:lnTo>
                      <a:pt x="15" y="286"/>
                    </a:lnTo>
                    <a:lnTo>
                      <a:pt x="9" y="267"/>
                    </a:lnTo>
                    <a:lnTo>
                      <a:pt x="4" y="247"/>
                    </a:lnTo>
                    <a:lnTo>
                      <a:pt x="2" y="236"/>
                    </a:lnTo>
                    <a:lnTo>
                      <a:pt x="1" y="227"/>
                    </a:lnTo>
                    <a:lnTo>
                      <a:pt x="0" y="216"/>
                    </a:lnTo>
                    <a:lnTo>
                      <a:pt x="0" y="206"/>
                    </a:lnTo>
                    <a:lnTo>
                      <a:pt x="0" y="195"/>
                    </a:lnTo>
                    <a:lnTo>
                      <a:pt x="1" y="185"/>
                    </a:lnTo>
                    <a:lnTo>
                      <a:pt x="2" y="174"/>
                    </a:lnTo>
                    <a:lnTo>
                      <a:pt x="4" y="164"/>
                    </a:lnTo>
                    <a:lnTo>
                      <a:pt x="9" y="145"/>
                    </a:lnTo>
                    <a:lnTo>
                      <a:pt x="15" y="126"/>
                    </a:lnTo>
                    <a:lnTo>
                      <a:pt x="25" y="108"/>
                    </a:lnTo>
                    <a:lnTo>
                      <a:pt x="34" y="91"/>
                    </a:lnTo>
                    <a:lnTo>
                      <a:pt x="47" y="75"/>
                    </a:lnTo>
                    <a:lnTo>
                      <a:pt x="60" y="61"/>
                    </a:lnTo>
                    <a:lnTo>
                      <a:pt x="74" y="47"/>
                    </a:lnTo>
                    <a:lnTo>
                      <a:pt x="90" y="36"/>
                    </a:lnTo>
                    <a:lnTo>
                      <a:pt x="107" y="25"/>
                    </a:lnTo>
                    <a:lnTo>
                      <a:pt x="125" y="17"/>
                    </a:lnTo>
                    <a:lnTo>
                      <a:pt x="144" y="9"/>
                    </a:lnTo>
                    <a:lnTo>
                      <a:pt x="164" y="4"/>
                    </a:lnTo>
                    <a:lnTo>
                      <a:pt x="183" y="1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1219320" y="5257800"/>
              <a:ext cx="320400" cy="318960"/>
            </a:xfrm>
            <a:custGeom>
              <a:avLst/>
              <a:gdLst/>
              <a:ahLst/>
              <a:rect l="l" t="t" r="r" b="b"/>
              <a:pathLst>
                <a:path w="1008" h="1008">
                  <a:moveTo>
                    <a:pt x="178" y="430"/>
                  </a:moveTo>
                  <a:lnTo>
                    <a:pt x="829" y="427"/>
                  </a:lnTo>
                  <a:lnTo>
                    <a:pt x="829" y="579"/>
                  </a:lnTo>
                  <a:lnTo>
                    <a:pt x="178" y="579"/>
                  </a:lnTo>
                  <a:lnTo>
                    <a:pt x="178" y="430"/>
                  </a:lnTo>
                  <a:close/>
                  <a:moveTo>
                    <a:pt x="504" y="0"/>
                  </a:moveTo>
                  <a:lnTo>
                    <a:pt x="530" y="0"/>
                  </a:lnTo>
                  <a:lnTo>
                    <a:pt x="555" y="2"/>
                  </a:lnTo>
                  <a:lnTo>
                    <a:pt x="581" y="5"/>
                  </a:lnTo>
                  <a:lnTo>
                    <a:pt x="606" y="11"/>
                  </a:lnTo>
                  <a:lnTo>
                    <a:pt x="630" y="16"/>
                  </a:lnTo>
                  <a:lnTo>
                    <a:pt x="654" y="22"/>
                  </a:lnTo>
                  <a:lnTo>
                    <a:pt x="677" y="31"/>
                  </a:lnTo>
                  <a:lnTo>
                    <a:pt x="700" y="40"/>
                  </a:lnTo>
                  <a:lnTo>
                    <a:pt x="722" y="49"/>
                  </a:lnTo>
                  <a:lnTo>
                    <a:pt x="744" y="61"/>
                  </a:lnTo>
                  <a:lnTo>
                    <a:pt x="765" y="74"/>
                  </a:lnTo>
                  <a:lnTo>
                    <a:pt x="785" y="86"/>
                  </a:lnTo>
                  <a:lnTo>
                    <a:pt x="805" y="100"/>
                  </a:lnTo>
                  <a:lnTo>
                    <a:pt x="824" y="116"/>
                  </a:lnTo>
                  <a:lnTo>
                    <a:pt x="843" y="131"/>
                  </a:lnTo>
                  <a:lnTo>
                    <a:pt x="860" y="148"/>
                  </a:lnTo>
                  <a:lnTo>
                    <a:pt x="877" y="165"/>
                  </a:lnTo>
                  <a:lnTo>
                    <a:pt x="892" y="184"/>
                  </a:lnTo>
                  <a:lnTo>
                    <a:pt x="908" y="203"/>
                  </a:lnTo>
                  <a:lnTo>
                    <a:pt x="922" y="223"/>
                  </a:lnTo>
                  <a:lnTo>
                    <a:pt x="934" y="243"/>
                  </a:lnTo>
                  <a:lnTo>
                    <a:pt x="947" y="264"/>
                  </a:lnTo>
                  <a:lnTo>
                    <a:pt x="959" y="286"/>
                  </a:lnTo>
                  <a:lnTo>
                    <a:pt x="968" y="308"/>
                  </a:lnTo>
                  <a:lnTo>
                    <a:pt x="977" y="331"/>
                  </a:lnTo>
                  <a:lnTo>
                    <a:pt x="986" y="354"/>
                  </a:lnTo>
                  <a:lnTo>
                    <a:pt x="992" y="378"/>
                  </a:lnTo>
                  <a:lnTo>
                    <a:pt x="997" y="402"/>
                  </a:lnTo>
                  <a:lnTo>
                    <a:pt x="1003" y="427"/>
                  </a:lnTo>
                  <a:lnTo>
                    <a:pt x="1006" y="453"/>
                  </a:lnTo>
                  <a:lnTo>
                    <a:pt x="1008" y="478"/>
                  </a:lnTo>
                  <a:lnTo>
                    <a:pt x="1008" y="504"/>
                  </a:lnTo>
                  <a:lnTo>
                    <a:pt x="1008" y="530"/>
                  </a:lnTo>
                  <a:lnTo>
                    <a:pt x="1006" y="556"/>
                  </a:lnTo>
                  <a:lnTo>
                    <a:pt x="1003" y="581"/>
                  </a:lnTo>
                  <a:lnTo>
                    <a:pt x="997" y="605"/>
                  </a:lnTo>
                  <a:lnTo>
                    <a:pt x="992" y="630"/>
                  </a:lnTo>
                  <a:lnTo>
                    <a:pt x="986" y="653"/>
                  </a:lnTo>
                  <a:lnTo>
                    <a:pt x="977" y="677"/>
                  </a:lnTo>
                  <a:lnTo>
                    <a:pt x="968" y="699"/>
                  </a:lnTo>
                  <a:lnTo>
                    <a:pt x="959" y="722"/>
                  </a:lnTo>
                  <a:lnTo>
                    <a:pt x="947" y="743"/>
                  </a:lnTo>
                  <a:lnTo>
                    <a:pt x="934" y="766"/>
                  </a:lnTo>
                  <a:lnTo>
                    <a:pt x="922" y="785"/>
                  </a:lnTo>
                  <a:lnTo>
                    <a:pt x="908" y="805"/>
                  </a:lnTo>
                  <a:lnTo>
                    <a:pt x="892" y="824"/>
                  </a:lnTo>
                  <a:lnTo>
                    <a:pt x="877" y="842"/>
                  </a:lnTo>
                  <a:lnTo>
                    <a:pt x="860" y="860"/>
                  </a:lnTo>
                  <a:lnTo>
                    <a:pt x="843" y="877"/>
                  </a:lnTo>
                  <a:lnTo>
                    <a:pt x="824" y="893"/>
                  </a:lnTo>
                  <a:lnTo>
                    <a:pt x="805" y="907"/>
                  </a:lnTo>
                  <a:lnTo>
                    <a:pt x="785" y="922"/>
                  </a:lnTo>
                  <a:lnTo>
                    <a:pt x="765" y="935"/>
                  </a:lnTo>
                  <a:lnTo>
                    <a:pt x="744" y="947"/>
                  </a:lnTo>
                  <a:lnTo>
                    <a:pt x="722" y="959"/>
                  </a:lnTo>
                  <a:lnTo>
                    <a:pt x="700" y="968"/>
                  </a:lnTo>
                  <a:lnTo>
                    <a:pt x="677" y="978"/>
                  </a:lnTo>
                  <a:lnTo>
                    <a:pt x="654" y="985"/>
                  </a:lnTo>
                  <a:lnTo>
                    <a:pt x="630" y="992"/>
                  </a:lnTo>
                  <a:lnTo>
                    <a:pt x="606" y="998"/>
                  </a:lnTo>
                  <a:lnTo>
                    <a:pt x="581" y="1002"/>
                  </a:lnTo>
                  <a:lnTo>
                    <a:pt x="555" y="1006"/>
                  </a:lnTo>
                  <a:lnTo>
                    <a:pt x="530" y="1007"/>
                  </a:lnTo>
                  <a:lnTo>
                    <a:pt x="504" y="1008"/>
                  </a:lnTo>
                  <a:lnTo>
                    <a:pt x="478" y="1007"/>
                  </a:lnTo>
                  <a:lnTo>
                    <a:pt x="452" y="1006"/>
                  </a:lnTo>
                  <a:lnTo>
                    <a:pt x="427" y="1002"/>
                  </a:lnTo>
                  <a:lnTo>
                    <a:pt x="403" y="998"/>
                  </a:lnTo>
                  <a:lnTo>
                    <a:pt x="378" y="992"/>
                  </a:lnTo>
                  <a:lnTo>
                    <a:pt x="355" y="985"/>
                  </a:lnTo>
                  <a:lnTo>
                    <a:pt x="331" y="978"/>
                  </a:lnTo>
                  <a:lnTo>
                    <a:pt x="309" y="968"/>
                  </a:lnTo>
                  <a:lnTo>
                    <a:pt x="286" y="959"/>
                  </a:lnTo>
                  <a:lnTo>
                    <a:pt x="265" y="947"/>
                  </a:lnTo>
                  <a:lnTo>
                    <a:pt x="243" y="935"/>
                  </a:lnTo>
                  <a:lnTo>
                    <a:pt x="223" y="922"/>
                  </a:lnTo>
                  <a:lnTo>
                    <a:pt x="203" y="907"/>
                  </a:lnTo>
                  <a:lnTo>
                    <a:pt x="184" y="893"/>
                  </a:lnTo>
                  <a:lnTo>
                    <a:pt x="166" y="877"/>
                  </a:lnTo>
                  <a:lnTo>
                    <a:pt x="148" y="860"/>
                  </a:lnTo>
                  <a:lnTo>
                    <a:pt x="131" y="842"/>
                  </a:lnTo>
                  <a:lnTo>
                    <a:pt x="115" y="824"/>
                  </a:lnTo>
                  <a:lnTo>
                    <a:pt x="101" y="805"/>
                  </a:lnTo>
                  <a:lnTo>
                    <a:pt x="86" y="785"/>
                  </a:lnTo>
                  <a:lnTo>
                    <a:pt x="73" y="766"/>
                  </a:lnTo>
                  <a:lnTo>
                    <a:pt x="61" y="743"/>
                  </a:lnTo>
                  <a:lnTo>
                    <a:pt x="49" y="722"/>
                  </a:lnTo>
                  <a:lnTo>
                    <a:pt x="40" y="699"/>
                  </a:lnTo>
                  <a:lnTo>
                    <a:pt x="30" y="677"/>
                  </a:lnTo>
                  <a:lnTo>
                    <a:pt x="23" y="653"/>
                  </a:lnTo>
                  <a:lnTo>
                    <a:pt x="16" y="630"/>
                  </a:lnTo>
                  <a:lnTo>
                    <a:pt x="10" y="605"/>
                  </a:lnTo>
                  <a:lnTo>
                    <a:pt x="5" y="581"/>
                  </a:lnTo>
                  <a:lnTo>
                    <a:pt x="2" y="556"/>
                  </a:lnTo>
                  <a:lnTo>
                    <a:pt x="1" y="530"/>
                  </a:lnTo>
                  <a:lnTo>
                    <a:pt x="0" y="504"/>
                  </a:lnTo>
                  <a:lnTo>
                    <a:pt x="1" y="478"/>
                  </a:lnTo>
                  <a:lnTo>
                    <a:pt x="2" y="453"/>
                  </a:lnTo>
                  <a:lnTo>
                    <a:pt x="5" y="427"/>
                  </a:lnTo>
                  <a:lnTo>
                    <a:pt x="10" y="402"/>
                  </a:lnTo>
                  <a:lnTo>
                    <a:pt x="16" y="378"/>
                  </a:lnTo>
                  <a:lnTo>
                    <a:pt x="23" y="354"/>
                  </a:lnTo>
                  <a:lnTo>
                    <a:pt x="30" y="331"/>
                  </a:lnTo>
                  <a:lnTo>
                    <a:pt x="40" y="308"/>
                  </a:lnTo>
                  <a:lnTo>
                    <a:pt x="49" y="286"/>
                  </a:lnTo>
                  <a:lnTo>
                    <a:pt x="61" y="264"/>
                  </a:lnTo>
                  <a:lnTo>
                    <a:pt x="73" y="243"/>
                  </a:lnTo>
                  <a:lnTo>
                    <a:pt x="86" y="223"/>
                  </a:lnTo>
                  <a:lnTo>
                    <a:pt x="101" y="203"/>
                  </a:lnTo>
                  <a:lnTo>
                    <a:pt x="115" y="184"/>
                  </a:lnTo>
                  <a:lnTo>
                    <a:pt x="131" y="165"/>
                  </a:lnTo>
                  <a:lnTo>
                    <a:pt x="148" y="148"/>
                  </a:lnTo>
                  <a:lnTo>
                    <a:pt x="166" y="131"/>
                  </a:lnTo>
                  <a:lnTo>
                    <a:pt x="184" y="116"/>
                  </a:lnTo>
                  <a:lnTo>
                    <a:pt x="203" y="100"/>
                  </a:lnTo>
                  <a:lnTo>
                    <a:pt x="223" y="86"/>
                  </a:lnTo>
                  <a:lnTo>
                    <a:pt x="243" y="74"/>
                  </a:lnTo>
                  <a:lnTo>
                    <a:pt x="265" y="61"/>
                  </a:lnTo>
                  <a:lnTo>
                    <a:pt x="286" y="49"/>
                  </a:lnTo>
                  <a:lnTo>
                    <a:pt x="309" y="40"/>
                  </a:lnTo>
                  <a:lnTo>
                    <a:pt x="331" y="31"/>
                  </a:lnTo>
                  <a:lnTo>
                    <a:pt x="355" y="22"/>
                  </a:lnTo>
                  <a:lnTo>
                    <a:pt x="378" y="16"/>
                  </a:lnTo>
                  <a:lnTo>
                    <a:pt x="403" y="11"/>
                  </a:lnTo>
                  <a:lnTo>
                    <a:pt x="427" y="5"/>
                  </a:lnTo>
                  <a:lnTo>
                    <a:pt x="452" y="2"/>
                  </a:lnTo>
                  <a:lnTo>
                    <a:pt x="478" y="0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2234160" y="934920"/>
            <a:ext cx="49554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HIV+ TEST RESUL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80240" y="1593720"/>
            <a:ext cx="4851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CANNOT TELL YOU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474920" y="2743200"/>
            <a:ext cx="6190200" cy="2986560"/>
            <a:chOff x="1474920" y="2743200"/>
            <a:chExt cx="6190200" cy="2986560"/>
          </a:xfrm>
        </p:grpSpPr>
        <p:sp>
          <p:nvSpPr>
            <p:cNvPr id="763" name=""/>
            <p:cNvSpPr/>
            <p:nvPr/>
          </p:nvSpPr>
          <p:spPr>
            <a:xfrm>
              <a:off x="1548720" y="2743200"/>
              <a:ext cx="6116400" cy="29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If you have AI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When you are going to develop AI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When you became infec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How you became infec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74920" y="2868480"/>
              <a:ext cx="201600" cy="158760"/>
            </a:xfrm>
            <a:custGeom>
              <a:avLst/>
              <a:gdLst/>
              <a:ahLst/>
              <a:rect l="l" t="t" r="r" b="b"/>
              <a:pathLst>
                <a:path w="759" h="599">
                  <a:moveTo>
                    <a:pt x="0" y="599"/>
                  </a:moveTo>
                  <a:lnTo>
                    <a:pt x="0" y="0"/>
                  </a:lnTo>
                  <a:lnTo>
                    <a:pt x="759" y="2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474920" y="3743280"/>
              <a:ext cx="201600" cy="158760"/>
            </a:xfrm>
            <a:custGeom>
              <a:avLst/>
              <a:gdLst/>
              <a:ahLst/>
              <a:rect l="l" t="t" r="r" b="b"/>
              <a:pathLst>
                <a:path w="759" h="599">
                  <a:moveTo>
                    <a:pt x="0" y="599"/>
                  </a:moveTo>
                  <a:lnTo>
                    <a:pt x="0" y="0"/>
                  </a:lnTo>
                  <a:lnTo>
                    <a:pt x="759" y="2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74920" y="4564080"/>
              <a:ext cx="201600" cy="158760"/>
            </a:xfrm>
            <a:custGeom>
              <a:avLst/>
              <a:gdLst/>
              <a:ahLst/>
              <a:rect l="l" t="t" r="r" b="b"/>
              <a:pathLst>
                <a:path w="759" h="599">
                  <a:moveTo>
                    <a:pt x="0" y="599"/>
                  </a:moveTo>
                  <a:lnTo>
                    <a:pt x="0" y="0"/>
                  </a:lnTo>
                  <a:lnTo>
                    <a:pt x="759" y="2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474920" y="5425920"/>
              <a:ext cx="201600" cy="158760"/>
            </a:xfrm>
            <a:custGeom>
              <a:avLst/>
              <a:gdLst/>
              <a:ahLst/>
              <a:rect l="l" t="t" r="r" b="b"/>
              <a:pathLst>
                <a:path w="759" h="599">
                  <a:moveTo>
                    <a:pt x="0" y="599"/>
                  </a:moveTo>
                  <a:lnTo>
                    <a:pt x="0" y="0"/>
                  </a:lnTo>
                  <a:lnTo>
                    <a:pt x="759" y="2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2600640" y="719280"/>
            <a:ext cx="4146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TESTING FOR 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1422360" y="2362320"/>
            <a:ext cx="6426360" cy="3047400"/>
            <a:chOff x="1422360" y="2362320"/>
            <a:chExt cx="6426360" cy="3047400"/>
          </a:xfrm>
        </p:grpSpPr>
        <p:sp>
          <p:nvSpPr>
            <p:cNvPr id="770" name=""/>
            <p:cNvSpPr/>
            <p:nvPr/>
          </p:nvSpPr>
          <p:spPr>
            <a:xfrm>
              <a:off x="1689120" y="2362320"/>
              <a:ext cx="6159600" cy="30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1f1a17"/>
                  </a:solidFill>
                  <a:latin typeface="Geometr231 Hv BT"/>
                </a:rPr>
                <a:t>Screening Test = ELISA , (enzyme-linked immunosorbent assay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1f1a17"/>
                  </a:solidFill>
                  <a:latin typeface="Geometr231 Hv BT"/>
                </a:rPr>
                <a:t>This is a test designed to detect antibodies produced by the body to the HIV infection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1f1a17"/>
                  </a:solidFill>
                  <a:latin typeface="Geometr231 Hv BT"/>
                </a:rPr>
                <a:t>Usually positive 6 weeks to 6 month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22360" y="2490840"/>
              <a:ext cx="177840" cy="139680"/>
            </a:xfrm>
            <a:custGeom>
              <a:avLst/>
              <a:gdLst/>
              <a:ahLst/>
              <a:rect l="l" t="t" r="r" b="b"/>
              <a:pathLst>
                <a:path w="558" h="441">
                  <a:moveTo>
                    <a:pt x="0" y="441"/>
                  </a:moveTo>
                  <a:lnTo>
                    <a:pt x="0" y="0"/>
                  </a:lnTo>
                  <a:lnTo>
                    <a:pt x="558" y="22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422360" y="3591000"/>
              <a:ext cx="177840" cy="139680"/>
            </a:xfrm>
            <a:custGeom>
              <a:avLst/>
              <a:gdLst/>
              <a:ahLst/>
              <a:rect l="l" t="t" r="r" b="b"/>
              <a:pathLst>
                <a:path w="558" h="441">
                  <a:moveTo>
                    <a:pt x="0" y="441"/>
                  </a:moveTo>
                  <a:lnTo>
                    <a:pt x="0" y="0"/>
                  </a:lnTo>
                  <a:lnTo>
                    <a:pt x="558" y="22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422360" y="4734000"/>
              <a:ext cx="177840" cy="139680"/>
            </a:xfrm>
            <a:custGeom>
              <a:avLst/>
              <a:gdLst/>
              <a:ahLst/>
              <a:rect l="l" t="t" r="r" b="b"/>
              <a:pathLst>
                <a:path w="558" h="441">
                  <a:moveTo>
                    <a:pt x="0" y="441"/>
                  </a:moveTo>
                  <a:lnTo>
                    <a:pt x="0" y="0"/>
                  </a:lnTo>
                  <a:lnTo>
                    <a:pt x="558" y="22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2460600" y="696960"/>
            <a:ext cx="435636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100" spc="-1" strike="noStrike">
                <a:solidFill>
                  <a:srgbClr val="1f1a17"/>
                </a:solidFill>
                <a:latin typeface="Geometr231 Hv BT"/>
              </a:rPr>
              <a:t>ELISA Test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2592360" y="2690640"/>
            <a:ext cx="1960560" cy="2040120"/>
            <a:chOff x="2592360" y="2690640"/>
            <a:chExt cx="1960560" cy="2040120"/>
          </a:xfrm>
        </p:grpSpPr>
        <p:sp>
          <p:nvSpPr>
            <p:cNvPr id="776" name=""/>
            <p:cNvSpPr/>
            <p:nvPr/>
          </p:nvSpPr>
          <p:spPr>
            <a:xfrm>
              <a:off x="3768840" y="3098880"/>
              <a:ext cx="66600" cy="66600"/>
            </a:xfrm>
            <a:custGeom>
              <a:avLst/>
              <a:gdLst/>
              <a:ahLst/>
              <a:rect l="l" t="t" r="r" b="b"/>
              <a:pathLst>
                <a:path w="255" h="256">
                  <a:moveTo>
                    <a:pt x="255" y="0"/>
                  </a:moveTo>
                  <a:lnTo>
                    <a:pt x="0" y="256"/>
                  </a:lnTo>
                  <a:lnTo>
                    <a:pt x="27" y="223"/>
                  </a:lnTo>
                  <a:lnTo>
                    <a:pt x="57" y="189"/>
                  </a:lnTo>
                  <a:lnTo>
                    <a:pt x="87" y="156"/>
                  </a:lnTo>
                  <a:lnTo>
                    <a:pt x="119" y="124"/>
                  </a:lnTo>
                  <a:lnTo>
                    <a:pt x="151" y="93"/>
                  </a:lnTo>
                  <a:lnTo>
                    <a:pt x="184" y="61"/>
                  </a:lnTo>
                  <a:lnTo>
                    <a:pt x="220" y="31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736800" y="3065400"/>
              <a:ext cx="142920" cy="144360"/>
            </a:xfrm>
            <a:custGeom>
              <a:avLst/>
              <a:gdLst/>
              <a:ahLst/>
              <a:rect l="l" t="t" r="r" b="b"/>
              <a:pathLst>
                <a:path w="545" h="545">
                  <a:moveTo>
                    <a:pt x="545" y="0"/>
                  </a:moveTo>
                  <a:lnTo>
                    <a:pt x="0" y="545"/>
                  </a:lnTo>
                  <a:lnTo>
                    <a:pt x="25" y="508"/>
                  </a:lnTo>
                  <a:lnTo>
                    <a:pt x="52" y="470"/>
                  </a:lnTo>
                  <a:lnTo>
                    <a:pt x="80" y="433"/>
                  </a:lnTo>
                  <a:lnTo>
                    <a:pt x="108" y="396"/>
                  </a:lnTo>
                  <a:lnTo>
                    <a:pt x="138" y="361"/>
                  </a:lnTo>
                  <a:lnTo>
                    <a:pt x="169" y="325"/>
                  </a:lnTo>
                  <a:lnTo>
                    <a:pt x="201" y="290"/>
                  </a:lnTo>
                  <a:lnTo>
                    <a:pt x="234" y="255"/>
                  </a:lnTo>
                  <a:lnTo>
                    <a:pt x="268" y="221"/>
                  </a:lnTo>
                  <a:lnTo>
                    <a:pt x="304" y="187"/>
                  </a:lnTo>
                  <a:lnTo>
                    <a:pt x="341" y="155"/>
                  </a:lnTo>
                  <a:lnTo>
                    <a:pt x="379" y="123"/>
                  </a:lnTo>
                  <a:lnTo>
                    <a:pt x="418" y="91"/>
                  </a:lnTo>
                  <a:lnTo>
                    <a:pt x="459" y="60"/>
                  </a:lnTo>
                  <a:lnTo>
                    <a:pt x="501" y="29"/>
                  </a:lnTo>
                  <a:lnTo>
                    <a:pt x="545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718080" y="3046320"/>
              <a:ext cx="193680" cy="193680"/>
            </a:xfrm>
            <a:custGeom>
              <a:avLst/>
              <a:gdLst/>
              <a:ahLst/>
              <a:rect l="l" t="t" r="r" b="b"/>
              <a:pathLst>
                <a:path w="731" h="732">
                  <a:moveTo>
                    <a:pt x="190" y="453"/>
                  </a:moveTo>
                  <a:lnTo>
                    <a:pt x="445" y="197"/>
                  </a:lnTo>
                  <a:lnTo>
                    <a:pt x="477" y="171"/>
                  </a:lnTo>
                  <a:lnTo>
                    <a:pt x="511" y="145"/>
                  </a:lnTo>
                  <a:lnTo>
                    <a:pt x="545" y="120"/>
                  </a:lnTo>
                  <a:lnTo>
                    <a:pt x="581" y="95"/>
                  </a:lnTo>
                  <a:lnTo>
                    <a:pt x="616" y="70"/>
                  </a:lnTo>
                  <a:lnTo>
                    <a:pt x="654" y="47"/>
                  </a:lnTo>
                  <a:lnTo>
                    <a:pt x="692" y="23"/>
                  </a:lnTo>
                  <a:lnTo>
                    <a:pt x="731" y="0"/>
                  </a:lnTo>
                  <a:lnTo>
                    <a:pt x="0" y="732"/>
                  </a:lnTo>
                  <a:lnTo>
                    <a:pt x="22" y="696"/>
                  </a:lnTo>
                  <a:lnTo>
                    <a:pt x="43" y="660"/>
                  </a:lnTo>
                  <a:lnTo>
                    <a:pt x="65" y="624"/>
                  </a:lnTo>
                  <a:lnTo>
                    <a:pt x="88" y="589"/>
                  </a:lnTo>
                  <a:lnTo>
                    <a:pt x="112" y="555"/>
                  </a:lnTo>
                  <a:lnTo>
                    <a:pt x="137" y="521"/>
                  </a:lnTo>
                  <a:lnTo>
                    <a:pt x="163" y="486"/>
                  </a:lnTo>
                  <a:lnTo>
                    <a:pt x="190" y="453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05120" y="3032280"/>
              <a:ext cx="231840" cy="233280"/>
            </a:xfrm>
            <a:custGeom>
              <a:avLst/>
              <a:gdLst/>
              <a:ahLst/>
              <a:rect l="l" t="t" r="r" b="b"/>
              <a:pathLst>
                <a:path w="880" h="879">
                  <a:moveTo>
                    <a:pt x="119" y="671"/>
                  </a:moveTo>
                  <a:lnTo>
                    <a:pt x="664" y="126"/>
                  </a:lnTo>
                  <a:lnTo>
                    <a:pt x="690" y="109"/>
                  </a:lnTo>
                  <a:lnTo>
                    <a:pt x="715" y="92"/>
                  </a:lnTo>
                  <a:lnTo>
                    <a:pt x="742" y="77"/>
                  </a:lnTo>
                  <a:lnTo>
                    <a:pt x="768" y="60"/>
                  </a:lnTo>
                  <a:lnTo>
                    <a:pt x="795" y="45"/>
                  </a:lnTo>
                  <a:lnTo>
                    <a:pt x="823" y="29"/>
                  </a:lnTo>
                  <a:lnTo>
                    <a:pt x="851" y="14"/>
                  </a:lnTo>
                  <a:lnTo>
                    <a:pt x="880" y="0"/>
                  </a:lnTo>
                  <a:lnTo>
                    <a:pt x="0" y="879"/>
                  </a:lnTo>
                  <a:lnTo>
                    <a:pt x="15" y="853"/>
                  </a:lnTo>
                  <a:lnTo>
                    <a:pt x="28" y="827"/>
                  </a:lnTo>
                  <a:lnTo>
                    <a:pt x="42" y="800"/>
                  </a:lnTo>
                  <a:lnTo>
                    <a:pt x="56" y="774"/>
                  </a:lnTo>
                  <a:lnTo>
                    <a:pt x="72" y="748"/>
                  </a:lnTo>
                  <a:lnTo>
                    <a:pt x="87" y="722"/>
                  </a:lnTo>
                  <a:lnTo>
                    <a:pt x="102" y="697"/>
                  </a:lnTo>
                  <a:lnTo>
                    <a:pt x="119" y="671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93960" y="3021120"/>
              <a:ext cx="266760" cy="266760"/>
            </a:xfrm>
            <a:custGeom>
              <a:avLst/>
              <a:gdLst/>
              <a:ahLst/>
              <a:rect l="l" t="t" r="r" b="b"/>
              <a:pathLst>
                <a:path w="1007" h="1007">
                  <a:moveTo>
                    <a:pt x="89" y="828"/>
                  </a:moveTo>
                  <a:lnTo>
                    <a:pt x="820" y="96"/>
                  </a:lnTo>
                  <a:lnTo>
                    <a:pt x="843" y="83"/>
                  </a:lnTo>
                  <a:lnTo>
                    <a:pt x="865" y="71"/>
                  </a:lnTo>
                  <a:lnTo>
                    <a:pt x="888" y="59"/>
                  </a:lnTo>
                  <a:lnTo>
                    <a:pt x="910" y="46"/>
                  </a:lnTo>
                  <a:lnTo>
                    <a:pt x="934" y="34"/>
                  </a:lnTo>
                  <a:lnTo>
                    <a:pt x="958" y="23"/>
                  </a:lnTo>
                  <a:lnTo>
                    <a:pt x="982" y="12"/>
                  </a:lnTo>
                  <a:lnTo>
                    <a:pt x="1007" y="0"/>
                  </a:lnTo>
                  <a:lnTo>
                    <a:pt x="0" y="1007"/>
                  </a:lnTo>
                  <a:lnTo>
                    <a:pt x="10" y="985"/>
                  </a:lnTo>
                  <a:lnTo>
                    <a:pt x="20" y="962"/>
                  </a:lnTo>
                  <a:lnTo>
                    <a:pt x="31" y="940"/>
                  </a:lnTo>
                  <a:lnTo>
                    <a:pt x="43" y="917"/>
                  </a:lnTo>
                  <a:lnTo>
                    <a:pt x="54" y="895"/>
                  </a:lnTo>
                  <a:lnTo>
                    <a:pt x="65" y="872"/>
                  </a:lnTo>
                  <a:lnTo>
                    <a:pt x="77" y="849"/>
                  </a:lnTo>
                  <a:lnTo>
                    <a:pt x="89" y="82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86040" y="3019320"/>
              <a:ext cx="281160" cy="289080"/>
            </a:xfrm>
            <a:custGeom>
              <a:avLst/>
              <a:gdLst/>
              <a:ahLst/>
              <a:rect l="l" t="t" r="r" b="b"/>
              <a:pathLst>
                <a:path w="1062" h="1090">
                  <a:moveTo>
                    <a:pt x="72" y="926"/>
                  </a:moveTo>
                  <a:lnTo>
                    <a:pt x="952" y="47"/>
                  </a:lnTo>
                  <a:lnTo>
                    <a:pt x="72" y="926"/>
                  </a:lnTo>
                  <a:close/>
                  <a:moveTo>
                    <a:pt x="1062" y="25"/>
                  </a:moveTo>
                  <a:lnTo>
                    <a:pt x="0" y="1090"/>
                  </a:lnTo>
                  <a:lnTo>
                    <a:pt x="8" y="1068"/>
                  </a:lnTo>
                  <a:lnTo>
                    <a:pt x="17" y="1048"/>
                  </a:lnTo>
                  <a:lnTo>
                    <a:pt x="25" y="1028"/>
                  </a:lnTo>
                  <a:lnTo>
                    <a:pt x="34" y="1007"/>
                  </a:lnTo>
                  <a:lnTo>
                    <a:pt x="44" y="986"/>
                  </a:lnTo>
                  <a:lnTo>
                    <a:pt x="53" y="966"/>
                  </a:lnTo>
                  <a:lnTo>
                    <a:pt x="63" y="946"/>
                  </a:lnTo>
                  <a:lnTo>
                    <a:pt x="72" y="926"/>
                  </a:lnTo>
                  <a:lnTo>
                    <a:pt x="1062" y="25"/>
                  </a:lnTo>
                  <a:close/>
                  <a:moveTo>
                    <a:pt x="1045" y="0"/>
                  </a:moveTo>
                  <a:lnTo>
                    <a:pt x="1048" y="4"/>
                  </a:lnTo>
                  <a:lnTo>
                    <a:pt x="1049" y="8"/>
                  </a:lnTo>
                  <a:lnTo>
                    <a:pt x="1051" y="10"/>
                  </a:lnTo>
                  <a:lnTo>
                    <a:pt x="1054" y="13"/>
                  </a:lnTo>
                  <a:lnTo>
                    <a:pt x="1056" y="17"/>
                  </a:lnTo>
                  <a:lnTo>
                    <a:pt x="1057" y="19"/>
                  </a:lnTo>
                  <a:lnTo>
                    <a:pt x="1060" y="23"/>
                  </a:lnTo>
                  <a:lnTo>
                    <a:pt x="1062" y="25"/>
                  </a:lnTo>
                  <a:lnTo>
                    <a:pt x="1045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78120" y="3019320"/>
              <a:ext cx="293760" cy="308160"/>
            </a:xfrm>
            <a:custGeom>
              <a:avLst/>
              <a:gdLst/>
              <a:ahLst/>
              <a:rect l="l" t="t" r="r" b="b"/>
              <a:pathLst>
                <a:path w="1109" h="1162">
                  <a:moveTo>
                    <a:pt x="62" y="1011"/>
                  </a:moveTo>
                  <a:lnTo>
                    <a:pt x="1069" y="4"/>
                  </a:lnTo>
                  <a:lnTo>
                    <a:pt x="1069" y="4"/>
                  </a:lnTo>
                  <a:lnTo>
                    <a:pt x="1070" y="3"/>
                  </a:lnTo>
                  <a:lnTo>
                    <a:pt x="1070" y="3"/>
                  </a:lnTo>
                  <a:lnTo>
                    <a:pt x="1071" y="3"/>
                  </a:lnTo>
                  <a:lnTo>
                    <a:pt x="1072" y="2"/>
                  </a:lnTo>
                  <a:lnTo>
                    <a:pt x="1073" y="2"/>
                  </a:lnTo>
                  <a:lnTo>
                    <a:pt x="1073" y="2"/>
                  </a:lnTo>
                  <a:lnTo>
                    <a:pt x="1074" y="0"/>
                  </a:lnTo>
                  <a:lnTo>
                    <a:pt x="1078" y="8"/>
                  </a:lnTo>
                  <a:lnTo>
                    <a:pt x="1083" y="13"/>
                  </a:lnTo>
                  <a:lnTo>
                    <a:pt x="1088" y="21"/>
                  </a:lnTo>
                  <a:lnTo>
                    <a:pt x="1091" y="27"/>
                  </a:lnTo>
                  <a:lnTo>
                    <a:pt x="1096" y="34"/>
                  </a:lnTo>
                  <a:lnTo>
                    <a:pt x="1099" y="40"/>
                  </a:lnTo>
                  <a:lnTo>
                    <a:pt x="1104" y="47"/>
                  </a:lnTo>
                  <a:lnTo>
                    <a:pt x="1109" y="53"/>
                  </a:lnTo>
                  <a:lnTo>
                    <a:pt x="0" y="1162"/>
                  </a:lnTo>
                  <a:lnTo>
                    <a:pt x="8" y="1143"/>
                  </a:lnTo>
                  <a:lnTo>
                    <a:pt x="15" y="1124"/>
                  </a:lnTo>
                  <a:lnTo>
                    <a:pt x="22" y="1105"/>
                  </a:lnTo>
                  <a:lnTo>
                    <a:pt x="30" y="1086"/>
                  </a:lnTo>
                  <a:lnTo>
                    <a:pt x="37" y="1067"/>
                  </a:lnTo>
                  <a:lnTo>
                    <a:pt x="46" y="1048"/>
                  </a:lnTo>
                  <a:lnTo>
                    <a:pt x="54" y="1030"/>
                  </a:lnTo>
                  <a:lnTo>
                    <a:pt x="62" y="1011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72000" y="3027240"/>
              <a:ext cx="304560" cy="319320"/>
            </a:xfrm>
            <a:custGeom>
              <a:avLst/>
              <a:gdLst/>
              <a:ahLst/>
              <a:rect l="l" t="t" r="r" b="b"/>
              <a:pathLst>
                <a:path w="1151" h="1207">
                  <a:moveTo>
                    <a:pt x="53" y="1065"/>
                  </a:moveTo>
                  <a:lnTo>
                    <a:pt x="1115" y="0"/>
                  </a:lnTo>
                  <a:lnTo>
                    <a:pt x="1119" y="7"/>
                  </a:lnTo>
                  <a:lnTo>
                    <a:pt x="1123" y="15"/>
                  </a:lnTo>
                  <a:lnTo>
                    <a:pt x="1128" y="21"/>
                  </a:lnTo>
                  <a:lnTo>
                    <a:pt x="1133" y="28"/>
                  </a:lnTo>
                  <a:lnTo>
                    <a:pt x="1136" y="35"/>
                  </a:lnTo>
                  <a:lnTo>
                    <a:pt x="1141" y="42"/>
                  </a:lnTo>
                  <a:lnTo>
                    <a:pt x="1146" y="48"/>
                  </a:lnTo>
                  <a:lnTo>
                    <a:pt x="1151" y="55"/>
                  </a:lnTo>
                  <a:lnTo>
                    <a:pt x="0" y="1207"/>
                  </a:lnTo>
                  <a:lnTo>
                    <a:pt x="5" y="1190"/>
                  </a:lnTo>
                  <a:lnTo>
                    <a:pt x="11" y="1171"/>
                  </a:lnTo>
                  <a:lnTo>
                    <a:pt x="19" y="1153"/>
                  </a:lnTo>
                  <a:lnTo>
                    <a:pt x="24" y="1135"/>
                  </a:lnTo>
                  <a:lnTo>
                    <a:pt x="32" y="1117"/>
                  </a:lnTo>
                  <a:lnTo>
                    <a:pt x="39" y="1099"/>
                  </a:lnTo>
                  <a:lnTo>
                    <a:pt x="46" y="1081"/>
                  </a:lnTo>
                  <a:lnTo>
                    <a:pt x="53" y="1065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665520" y="3033720"/>
              <a:ext cx="316080" cy="330120"/>
            </a:xfrm>
            <a:custGeom>
              <a:avLst/>
              <a:gdLst/>
              <a:ahLst/>
              <a:rect l="l" t="t" r="r" b="b"/>
              <a:pathLst>
                <a:path w="1190" h="1246">
                  <a:moveTo>
                    <a:pt x="47" y="1109"/>
                  </a:moveTo>
                  <a:lnTo>
                    <a:pt x="1156" y="0"/>
                  </a:lnTo>
                  <a:lnTo>
                    <a:pt x="1159" y="7"/>
                  </a:lnTo>
                  <a:lnTo>
                    <a:pt x="1164" y="14"/>
                  </a:lnTo>
                  <a:lnTo>
                    <a:pt x="1169" y="20"/>
                  </a:lnTo>
                  <a:lnTo>
                    <a:pt x="1173" y="27"/>
                  </a:lnTo>
                  <a:lnTo>
                    <a:pt x="1177" y="34"/>
                  </a:lnTo>
                  <a:lnTo>
                    <a:pt x="1182" y="40"/>
                  </a:lnTo>
                  <a:lnTo>
                    <a:pt x="1187" y="47"/>
                  </a:lnTo>
                  <a:lnTo>
                    <a:pt x="1190" y="54"/>
                  </a:lnTo>
                  <a:lnTo>
                    <a:pt x="0" y="1246"/>
                  </a:lnTo>
                  <a:lnTo>
                    <a:pt x="6" y="1228"/>
                  </a:lnTo>
                  <a:lnTo>
                    <a:pt x="12" y="1211"/>
                  </a:lnTo>
                  <a:lnTo>
                    <a:pt x="17" y="1195"/>
                  </a:lnTo>
                  <a:lnTo>
                    <a:pt x="23" y="1177"/>
                  </a:lnTo>
                  <a:lnTo>
                    <a:pt x="28" y="1160"/>
                  </a:lnTo>
                  <a:lnTo>
                    <a:pt x="34" y="1144"/>
                  </a:lnTo>
                  <a:lnTo>
                    <a:pt x="40" y="1126"/>
                  </a:lnTo>
                  <a:lnTo>
                    <a:pt x="47" y="1109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660840" y="3041640"/>
              <a:ext cx="325440" cy="339840"/>
            </a:xfrm>
            <a:custGeom>
              <a:avLst/>
              <a:gdLst/>
              <a:ahLst/>
              <a:rect l="l" t="t" r="r" b="b"/>
              <a:pathLst>
                <a:path w="1227" h="1283">
                  <a:moveTo>
                    <a:pt x="42" y="1152"/>
                  </a:moveTo>
                  <a:lnTo>
                    <a:pt x="1193" y="0"/>
                  </a:lnTo>
                  <a:lnTo>
                    <a:pt x="1196" y="7"/>
                  </a:lnTo>
                  <a:lnTo>
                    <a:pt x="1201" y="13"/>
                  </a:lnTo>
                  <a:lnTo>
                    <a:pt x="1206" y="20"/>
                  </a:lnTo>
                  <a:lnTo>
                    <a:pt x="1209" y="27"/>
                  </a:lnTo>
                  <a:lnTo>
                    <a:pt x="1214" y="33"/>
                  </a:lnTo>
                  <a:lnTo>
                    <a:pt x="1219" y="40"/>
                  </a:lnTo>
                  <a:lnTo>
                    <a:pt x="1222" y="48"/>
                  </a:lnTo>
                  <a:lnTo>
                    <a:pt x="1227" y="55"/>
                  </a:lnTo>
                  <a:lnTo>
                    <a:pt x="0" y="1283"/>
                  </a:lnTo>
                  <a:lnTo>
                    <a:pt x="5" y="1266"/>
                  </a:lnTo>
                  <a:lnTo>
                    <a:pt x="10" y="1250"/>
                  </a:lnTo>
                  <a:lnTo>
                    <a:pt x="14" y="1234"/>
                  </a:lnTo>
                  <a:lnTo>
                    <a:pt x="20" y="1218"/>
                  </a:lnTo>
                  <a:lnTo>
                    <a:pt x="25" y="1201"/>
                  </a:lnTo>
                  <a:lnTo>
                    <a:pt x="31" y="1184"/>
                  </a:lnTo>
                  <a:lnTo>
                    <a:pt x="36" y="1168"/>
                  </a:lnTo>
                  <a:lnTo>
                    <a:pt x="42" y="1152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656160" y="3048120"/>
              <a:ext cx="333360" cy="349200"/>
            </a:xfrm>
            <a:custGeom>
              <a:avLst/>
              <a:gdLst/>
              <a:ahLst/>
              <a:rect l="l" t="t" r="r" b="b"/>
              <a:pathLst>
                <a:path w="1263" h="1319">
                  <a:moveTo>
                    <a:pt x="37" y="1192"/>
                  </a:moveTo>
                  <a:lnTo>
                    <a:pt x="1227" y="0"/>
                  </a:lnTo>
                  <a:lnTo>
                    <a:pt x="1232" y="6"/>
                  </a:lnTo>
                  <a:lnTo>
                    <a:pt x="1237" y="13"/>
                  </a:lnTo>
                  <a:lnTo>
                    <a:pt x="1240" y="21"/>
                  </a:lnTo>
                  <a:lnTo>
                    <a:pt x="1245" y="28"/>
                  </a:lnTo>
                  <a:lnTo>
                    <a:pt x="1250" y="34"/>
                  </a:lnTo>
                  <a:lnTo>
                    <a:pt x="1255" y="41"/>
                  </a:lnTo>
                  <a:lnTo>
                    <a:pt x="1258" y="48"/>
                  </a:lnTo>
                  <a:lnTo>
                    <a:pt x="1263" y="55"/>
                  </a:lnTo>
                  <a:lnTo>
                    <a:pt x="0" y="1319"/>
                  </a:lnTo>
                  <a:lnTo>
                    <a:pt x="4" y="1304"/>
                  </a:lnTo>
                  <a:lnTo>
                    <a:pt x="9" y="1287"/>
                  </a:lnTo>
                  <a:lnTo>
                    <a:pt x="13" y="1271"/>
                  </a:lnTo>
                  <a:lnTo>
                    <a:pt x="18" y="1255"/>
                  </a:lnTo>
                  <a:lnTo>
                    <a:pt x="23" y="1239"/>
                  </a:lnTo>
                  <a:lnTo>
                    <a:pt x="28" y="1223"/>
                  </a:lnTo>
                  <a:lnTo>
                    <a:pt x="32" y="1207"/>
                  </a:lnTo>
                  <a:lnTo>
                    <a:pt x="37" y="1192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651120" y="3056040"/>
              <a:ext cx="343080" cy="357120"/>
            </a:xfrm>
            <a:custGeom>
              <a:avLst/>
              <a:gdLst/>
              <a:ahLst/>
              <a:rect l="l" t="t" r="r" b="b"/>
              <a:pathLst>
                <a:path w="1297" h="1353">
                  <a:moveTo>
                    <a:pt x="34" y="1228"/>
                  </a:moveTo>
                  <a:lnTo>
                    <a:pt x="1261" y="0"/>
                  </a:lnTo>
                  <a:lnTo>
                    <a:pt x="1266" y="6"/>
                  </a:lnTo>
                  <a:lnTo>
                    <a:pt x="1271" y="13"/>
                  </a:lnTo>
                  <a:lnTo>
                    <a:pt x="1274" y="20"/>
                  </a:lnTo>
                  <a:lnTo>
                    <a:pt x="1279" y="26"/>
                  </a:lnTo>
                  <a:lnTo>
                    <a:pt x="1284" y="33"/>
                  </a:lnTo>
                  <a:lnTo>
                    <a:pt x="1287" y="40"/>
                  </a:lnTo>
                  <a:lnTo>
                    <a:pt x="1292" y="47"/>
                  </a:lnTo>
                  <a:lnTo>
                    <a:pt x="1297" y="53"/>
                  </a:lnTo>
                  <a:lnTo>
                    <a:pt x="0" y="1353"/>
                  </a:lnTo>
                  <a:lnTo>
                    <a:pt x="3" y="1337"/>
                  </a:lnTo>
                  <a:lnTo>
                    <a:pt x="8" y="1321"/>
                  </a:lnTo>
                  <a:lnTo>
                    <a:pt x="11" y="1305"/>
                  </a:lnTo>
                  <a:lnTo>
                    <a:pt x="16" y="1290"/>
                  </a:lnTo>
                  <a:lnTo>
                    <a:pt x="20" y="1274"/>
                  </a:lnTo>
                  <a:lnTo>
                    <a:pt x="25" y="1259"/>
                  </a:lnTo>
                  <a:lnTo>
                    <a:pt x="29" y="1243"/>
                  </a:lnTo>
                  <a:lnTo>
                    <a:pt x="34" y="1228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648240" y="3062160"/>
              <a:ext cx="350640" cy="366840"/>
            </a:xfrm>
            <a:custGeom>
              <a:avLst/>
              <a:gdLst/>
              <a:ahLst/>
              <a:rect l="l" t="t" r="r" b="b"/>
              <a:pathLst>
                <a:path w="1331" h="1385">
                  <a:moveTo>
                    <a:pt x="32" y="1264"/>
                  </a:moveTo>
                  <a:lnTo>
                    <a:pt x="1295" y="0"/>
                  </a:lnTo>
                  <a:lnTo>
                    <a:pt x="1300" y="6"/>
                  </a:lnTo>
                  <a:lnTo>
                    <a:pt x="1303" y="13"/>
                  </a:lnTo>
                  <a:lnTo>
                    <a:pt x="1308" y="20"/>
                  </a:lnTo>
                  <a:lnTo>
                    <a:pt x="1313" y="26"/>
                  </a:lnTo>
                  <a:lnTo>
                    <a:pt x="1317" y="33"/>
                  </a:lnTo>
                  <a:lnTo>
                    <a:pt x="1321" y="40"/>
                  </a:lnTo>
                  <a:lnTo>
                    <a:pt x="1326" y="48"/>
                  </a:lnTo>
                  <a:lnTo>
                    <a:pt x="1331" y="53"/>
                  </a:lnTo>
                  <a:lnTo>
                    <a:pt x="0" y="1385"/>
                  </a:lnTo>
                  <a:lnTo>
                    <a:pt x="4" y="1370"/>
                  </a:lnTo>
                  <a:lnTo>
                    <a:pt x="7" y="1354"/>
                  </a:lnTo>
                  <a:lnTo>
                    <a:pt x="12" y="1340"/>
                  </a:lnTo>
                  <a:lnTo>
                    <a:pt x="16" y="1325"/>
                  </a:lnTo>
                  <a:lnTo>
                    <a:pt x="19" y="1309"/>
                  </a:lnTo>
                  <a:lnTo>
                    <a:pt x="24" y="1294"/>
                  </a:lnTo>
                  <a:lnTo>
                    <a:pt x="27" y="1279"/>
                  </a:lnTo>
                  <a:lnTo>
                    <a:pt x="32" y="1264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643200" y="3070080"/>
              <a:ext cx="360360" cy="374760"/>
            </a:xfrm>
            <a:custGeom>
              <a:avLst/>
              <a:gdLst/>
              <a:ahLst/>
              <a:rect l="l" t="t" r="r" b="b"/>
              <a:pathLst>
                <a:path w="1362" h="1417">
                  <a:moveTo>
                    <a:pt x="30" y="1300"/>
                  </a:moveTo>
                  <a:lnTo>
                    <a:pt x="1327" y="0"/>
                  </a:lnTo>
                  <a:lnTo>
                    <a:pt x="1331" y="7"/>
                  </a:lnTo>
                  <a:lnTo>
                    <a:pt x="1335" y="14"/>
                  </a:lnTo>
                  <a:lnTo>
                    <a:pt x="1340" y="20"/>
                  </a:lnTo>
                  <a:lnTo>
                    <a:pt x="1345" y="27"/>
                  </a:lnTo>
                  <a:lnTo>
                    <a:pt x="1348" y="35"/>
                  </a:lnTo>
                  <a:lnTo>
                    <a:pt x="1353" y="42"/>
                  </a:lnTo>
                  <a:lnTo>
                    <a:pt x="1358" y="48"/>
                  </a:lnTo>
                  <a:lnTo>
                    <a:pt x="1362" y="55"/>
                  </a:lnTo>
                  <a:lnTo>
                    <a:pt x="0" y="1417"/>
                  </a:lnTo>
                  <a:lnTo>
                    <a:pt x="3" y="1403"/>
                  </a:lnTo>
                  <a:lnTo>
                    <a:pt x="7" y="1388"/>
                  </a:lnTo>
                  <a:lnTo>
                    <a:pt x="11" y="1373"/>
                  </a:lnTo>
                  <a:lnTo>
                    <a:pt x="14" y="1358"/>
                  </a:lnTo>
                  <a:lnTo>
                    <a:pt x="18" y="1344"/>
                  </a:lnTo>
                  <a:lnTo>
                    <a:pt x="21" y="1328"/>
                  </a:lnTo>
                  <a:lnTo>
                    <a:pt x="25" y="1314"/>
                  </a:lnTo>
                  <a:lnTo>
                    <a:pt x="30" y="130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39960" y="3076560"/>
              <a:ext cx="368640" cy="384120"/>
            </a:xfrm>
            <a:custGeom>
              <a:avLst/>
              <a:gdLst/>
              <a:ahLst/>
              <a:rect l="l" t="t" r="r" b="b"/>
              <a:pathLst>
                <a:path w="1392" h="1449">
                  <a:moveTo>
                    <a:pt x="27" y="1332"/>
                  </a:moveTo>
                  <a:lnTo>
                    <a:pt x="1358" y="0"/>
                  </a:lnTo>
                  <a:lnTo>
                    <a:pt x="1361" y="8"/>
                  </a:lnTo>
                  <a:lnTo>
                    <a:pt x="1366" y="15"/>
                  </a:lnTo>
                  <a:lnTo>
                    <a:pt x="1371" y="21"/>
                  </a:lnTo>
                  <a:lnTo>
                    <a:pt x="1374" y="28"/>
                  </a:lnTo>
                  <a:lnTo>
                    <a:pt x="1379" y="35"/>
                  </a:lnTo>
                  <a:lnTo>
                    <a:pt x="1384" y="42"/>
                  </a:lnTo>
                  <a:lnTo>
                    <a:pt x="1388" y="48"/>
                  </a:lnTo>
                  <a:lnTo>
                    <a:pt x="1392" y="55"/>
                  </a:lnTo>
                  <a:lnTo>
                    <a:pt x="0" y="1449"/>
                  </a:lnTo>
                  <a:lnTo>
                    <a:pt x="3" y="1434"/>
                  </a:lnTo>
                  <a:lnTo>
                    <a:pt x="7" y="1419"/>
                  </a:lnTo>
                  <a:lnTo>
                    <a:pt x="11" y="1405"/>
                  </a:lnTo>
                  <a:lnTo>
                    <a:pt x="13" y="1390"/>
                  </a:lnTo>
                  <a:lnTo>
                    <a:pt x="16" y="1376"/>
                  </a:lnTo>
                  <a:lnTo>
                    <a:pt x="20" y="1361"/>
                  </a:lnTo>
                  <a:lnTo>
                    <a:pt x="24" y="1346"/>
                  </a:lnTo>
                  <a:lnTo>
                    <a:pt x="27" y="1332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37080" y="3084480"/>
              <a:ext cx="376200" cy="390600"/>
            </a:xfrm>
            <a:custGeom>
              <a:avLst/>
              <a:gdLst/>
              <a:ahLst/>
              <a:rect l="l" t="t" r="r" b="b"/>
              <a:pathLst>
                <a:path w="1422" h="1478">
                  <a:moveTo>
                    <a:pt x="25" y="1362"/>
                  </a:moveTo>
                  <a:lnTo>
                    <a:pt x="1387" y="0"/>
                  </a:lnTo>
                  <a:lnTo>
                    <a:pt x="1391" y="7"/>
                  </a:lnTo>
                  <a:lnTo>
                    <a:pt x="1396" y="14"/>
                  </a:lnTo>
                  <a:lnTo>
                    <a:pt x="1400" y="20"/>
                  </a:lnTo>
                  <a:lnTo>
                    <a:pt x="1404" y="27"/>
                  </a:lnTo>
                  <a:lnTo>
                    <a:pt x="1409" y="34"/>
                  </a:lnTo>
                  <a:lnTo>
                    <a:pt x="1413" y="40"/>
                  </a:lnTo>
                  <a:lnTo>
                    <a:pt x="1417" y="47"/>
                  </a:lnTo>
                  <a:lnTo>
                    <a:pt x="1422" y="54"/>
                  </a:lnTo>
                  <a:lnTo>
                    <a:pt x="0" y="1478"/>
                  </a:lnTo>
                  <a:lnTo>
                    <a:pt x="2" y="1463"/>
                  </a:lnTo>
                  <a:lnTo>
                    <a:pt x="6" y="1449"/>
                  </a:lnTo>
                  <a:lnTo>
                    <a:pt x="10" y="1435"/>
                  </a:lnTo>
                  <a:lnTo>
                    <a:pt x="12" y="1421"/>
                  </a:lnTo>
                  <a:lnTo>
                    <a:pt x="15" y="1406"/>
                  </a:lnTo>
                  <a:lnTo>
                    <a:pt x="19" y="1391"/>
                  </a:lnTo>
                  <a:lnTo>
                    <a:pt x="23" y="1377"/>
                  </a:lnTo>
                  <a:lnTo>
                    <a:pt x="25" y="1362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633840" y="3090960"/>
              <a:ext cx="384120" cy="398520"/>
            </a:xfrm>
            <a:custGeom>
              <a:avLst/>
              <a:gdLst/>
              <a:ahLst/>
              <a:rect l="l" t="t" r="r" b="b"/>
              <a:pathLst>
                <a:path w="1452" h="1506">
                  <a:moveTo>
                    <a:pt x="24" y="1394"/>
                  </a:moveTo>
                  <a:lnTo>
                    <a:pt x="1416" y="0"/>
                  </a:lnTo>
                  <a:lnTo>
                    <a:pt x="1421" y="7"/>
                  </a:lnTo>
                  <a:lnTo>
                    <a:pt x="1425" y="13"/>
                  </a:lnTo>
                  <a:lnTo>
                    <a:pt x="1429" y="20"/>
                  </a:lnTo>
                  <a:lnTo>
                    <a:pt x="1434" y="27"/>
                  </a:lnTo>
                  <a:lnTo>
                    <a:pt x="1438" y="35"/>
                  </a:lnTo>
                  <a:lnTo>
                    <a:pt x="1442" y="40"/>
                  </a:lnTo>
                  <a:lnTo>
                    <a:pt x="1447" y="48"/>
                  </a:lnTo>
                  <a:lnTo>
                    <a:pt x="1452" y="55"/>
                  </a:lnTo>
                  <a:lnTo>
                    <a:pt x="0" y="1506"/>
                  </a:lnTo>
                  <a:lnTo>
                    <a:pt x="4" y="1492"/>
                  </a:lnTo>
                  <a:lnTo>
                    <a:pt x="6" y="1478"/>
                  </a:lnTo>
                  <a:lnTo>
                    <a:pt x="10" y="1465"/>
                  </a:lnTo>
                  <a:lnTo>
                    <a:pt x="12" y="1451"/>
                  </a:lnTo>
                  <a:lnTo>
                    <a:pt x="16" y="1436"/>
                  </a:lnTo>
                  <a:lnTo>
                    <a:pt x="18" y="1422"/>
                  </a:lnTo>
                  <a:lnTo>
                    <a:pt x="22" y="1408"/>
                  </a:lnTo>
                  <a:lnTo>
                    <a:pt x="24" y="1394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630600" y="3098880"/>
              <a:ext cx="392040" cy="406440"/>
            </a:xfrm>
            <a:custGeom>
              <a:avLst/>
              <a:gdLst/>
              <a:ahLst/>
              <a:rect l="l" t="t" r="r" b="b"/>
              <a:pathLst>
                <a:path w="1479" h="1535">
                  <a:moveTo>
                    <a:pt x="23" y="1424"/>
                  </a:moveTo>
                  <a:lnTo>
                    <a:pt x="1445" y="0"/>
                  </a:lnTo>
                  <a:lnTo>
                    <a:pt x="1449" y="8"/>
                  </a:lnTo>
                  <a:lnTo>
                    <a:pt x="1453" y="13"/>
                  </a:lnTo>
                  <a:lnTo>
                    <a:pt x="1458" y="21"/>
                  </a:lnTo>
                  <a:lnTo>
                    <a:pt x="1463" y="28"/>
                  </a:lnTo>
                  <a:lnTo>
                    <a:pt x="1466" y="35"/>
                  </a:lnTo>
                  <a:lnTo>
                    <a:pt x="1471" y="41"/>
                  </a:lnTo>
                  <a:lnTo>
                    <a:pt x="1476" y="48"/>
                  </a:lnTo>
                  <a:lnTo>
                    <a:pt x="1479" y="55"/>
                  </a:lnTo>
                  <a:lnTo>
                    <a:pt x="0" y="1535"/>
                  </a:lnTo>
                  <a:lnTo>
                    <a:pt x="3" y="1522"/>
                  </a:lnTo>
                  <a:lnTo>
                    <a:pt x="6" y="1508"/>
                  </a:lnTo>
                  <a:lnTo>
                    <a:pt x="9" y="1494"/>
                  </a:lnTo>
                  <a:lnTo>
                    <a:pt x="11" y="1479"/>
                  </a:lnTo>
                  <a:lnTo>
                    <a:pt x="15" y="1465"/>
                  </a:lnTo>
                  <a:lnTo>
                    <a:pt x="17" y="1452"/>
                  </a:lnTo>
                  <a:lnTo>
                    <a:pt x="19" y="1438"/>
                  </a:lnTo>
                  <a:lnTo>
                    <a:pt x="23" y="1424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29160" y="3105000"/>
              <a:ext cx="398160" cy="414360"/>
            </a:xfrm>
            <a:custGeom>
              <a:avLst/>
              <a:gdLst/>
              <a:ahLst/>
              <a:rect l="l" t="t" r="r" b="b"/>
              <a:pathLst>
                <a:path w="1507" h="1563">
                  <a:moveTo>
                    <a:pt x="21" y="1451"/>
                  </a:moveTo>
                  <a:lnTo>
                    <a:pt x="1473" y="0"/>
                  </a:lnTo>
                  <a:lnTo>
                    <a:pt x="1476" y="7"/>
                  </a:lnTo>
                  <a:lnTo>
                    <a:pt x="1481" y="13"/>
                  </a:lnTo>
                  <a:lnTo>
                    <a:pt x="1486" y="20"/>
                  </a:lnTo>
                  <a:lnTo>
                    <a:pt x="1489" y="27"/>
                  </a:lnTo>
                  <a:lnTo>
                    <a:pt x="1494" y="34"/>
                  </a:lnTo>
                  <a:lnTo>
                    <a:pt x="1499" y="40"/>
                  </a:lnTo>
                  <a:lnTo>
                    <a:pt x="1502" y="47"/>
                  </a:lnTo>
                  <a:lnTo>
                    <a:pt x="1507" y="54"/>
                  </a:lnTo>
                  <a:lnTo>
                    <a:pt x="0" y="1563"/>
                  </a:lnTo>
                  <a:lnTo>
                    <a:pt x="2" y="1549"/>
                  </a:lnTo>
                  <a:lnTo>
                    <a:pt x="5" y="1535"/>
                  </a:lnTo>
                  <a:lnTo>
                    <a:pt x="8" y="1522"/>
                  </a:lnTo>
                  <a:lnTo>
                    <a:pt x="10" y="1507"/>
                  </a:lnTo>
                  <a:lnTo>
                    <a:pt x="13" y="1493"/>
                  </a:lnTo>
                  <a:lnTo>
                    <a:pt x="16" y="1480"/>
                  </a:lnTo>
                  <a:lnTo>
                    <a:pt x="19" y="1466"/>
                  </a:lnTo>
                  <a:lnTo>
                    <a:pt x="21" y="1451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625920" y="3112920"/>
              <a:ext cx="406440" cy="420840"/>
            </a:xfrm>
            <a:custGeom>
              <a:avLst/>
              <a:gdLst/>
              <a:ahLst/>
              <a:rect l="l" t="t" r="r" b="b"/>
              <a:pathLst>
                <a:path w="1536" h="1591">
                  <a:moveTo>
                    <a:pt x="21" y="1480"/>
                  </a:moveTo>
                  <a:lnTo>
                    <a:pt x="1500" y="0"/>
                  </a:lnTo>
                  <a:lnTo>
                    <a:pt x="1505" y="7"/>
                  </a:lnTo>
                  <a:lnTo>
                    <a:pt x="1510" y="13"/>
                  </a:lnTo>
                  <a:lnTo>
                    <a:pt x="1513" y="20"/>
                  </a:lnTo>
                  <a:lnTo>
                    <a:pt x="1518" y="27"/>
                  </a:lnTo>
                  <a:lnTo>
                    <a:pt x="1523" y="35"/>
                  </a:lnTo>
                  <a:lnTo>
                    <a:pt x="1526" y="40"/>
                  </a:lnTo>
                  <a:lnTo>
                    <a:pt x="1531" y="48"/>
                  </a:lnTo>
                  <a:lnTo>
                    <a:pt x="1536" y="55"/>
                  </a:lnTo>
                  <a:lnTo>
                    <a:pt x="0" y="1591"/>
                  </a:lnTo>
                  <a:lnTo>
                    <a:pt x="4" y="1578"/>
                  </a:lnTo>
                  <a:lnTo>
                    <a:pt x="6" y="1563"/>
                  </a:lnTo>
                  <a:lnTo>
                    <a:pt x="8" y="1549"/>
                  </a:lnTo>
                  <a:lnTo>
                    <a:pt x="11" y="1536"/>
                  </a:lnTo>
                  <a:lnTo>
                    <a:pt x="13" y="1522"/>
                  </a:lnTo>
                  <a:lnTo>
                    <a:pt x="17" y="1509"/>
                  </a:lnTo>
                  <a:lnTo>
                    <a:pt x="19" y="1495"/>
                  </a:lnTo>
                  <a:lnTo>
                    <a:pt x="21" y="148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622680" y="3121200"/>
              <a:ext cx="414360" cy="426960"/>
            </a:xfrm>
            <a:custGeom>
              <a:avLst/>
              <a:gdLst/>
              <a:ahLst/>
              <a:rect l="l" t="t" r="r" b="b"/>
              <a:pathLst>
                <a:path w="1561" h="1618">
                  <a:moveTo>
                    <a:pt x="20" y="1509"/>
                  </a:moveTo>
                  <a:lnTo>
                    <a:pt x="1527" y="0"/>
                  </a:lnTo>
                  <a:lnTo>
                    <a:pt x="1532" y="8"/>
                  </a:lnTo>
                  <a:lnTo>
                    <a:pt x="1535" y="13"/>
                  </a:lnTo>
                  <a:lnTo>
                    <a:pt x="1540" y="21"/>
                  </a:lnTo>
                  <a:lnTo>
                    <a:pt x="1545" y="28"/>
                  </a:lnTo>
                  <a:lnTo>
                    <a:pt x="1548" y="35"/>
                  </a:lnTo>
                  <a:lnTo>
                    <a:pt x="1553" y="41"/>
                  </a:lnTo>
                  <a:lnTo>
                    <a:pt x="1558" y="48"/>
                  </a:lnTo>
                  <a:lnTo>
                    <a:pt x="1561" y="55"/>
                  </a:lnTo>
                  <a:lnTo>
                    <a:pt x="0" y="1618"/>
                  </a:lnTo>
                  <a:lnTo>
                    <a:pt x="2" y="1605"/>
                  </a:lnTo>
                  <a:lnTo>
                    <a:pt x="4" y="1591"/>
                  </a:lnTo>
                  <a:lnTo>
                    <a:pt x="7" y="1578"/>
                  </a:lnTo>
                  <a:lnTo>
                    <a:pt x="10" y="1564"/>
                  </a:lnTo>
                  <a:lnTo>
                    <a:pt x="13" y="1550"/>
                  </a:lnTo>
                  <a:lnTo>
                    <a:pt x="15" y="1536"/>
                  </a:lnTo>
                  <a:lnTo>
                    <a:pt x="17" y="1522"/>
                  </a:lnTo>
                  <a:lnTo>
                    <a:pt x="20" y="1509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621240" y="3127320"/>
              <a:ext cx="420480" cy="434880"/>
            </a:xfrm>
            <a:custGeom>
              <a:avLst/>
              <a:gdLst/>
              <a:ahLst/>
              <a:rect l="l" t="t" r="r" b="b"/>
              <a:pathLst>
                <a:path w="1589" h="1645">
                  <a:moveTo>
                    <a:pt x="19" y="1536"/>
                  </a:moveTo>
                  <a:lnTo>
                    <a:pt x="1555" y="0"/>
                  </a:lnTo>
                  <a:lnTo>
                    <a:pt x="1558" y="7"/>
                  </a:lnTo>
                  <a:lnTo>
                    <a:pt x="1563" y="13"/>
                  </a:lnTo>
                  <a:lnTo>
                    <a:pt x="1568" y="20"/>
                  </a:lnTo>
                  <a:lnTo>
                    <a:pt x="1571" y="27"/>
                  </a:lnTo>
                  <a:lnTo>
                    <a:pt x="1576" y="34"/>
                  </a:lnTo>
                  <a:lnTo>
                    <a:pt x="1581" y="41"/>
                  </a:lnTo>
                  <a:lnTo>
                    <a:pt x="1584" y="47"/>
                  </a:lnTo>
                  <a:lnTo>
                    <a:pt x="1589" y="54"/>
                  </a:lnTo>
                  <a:lnTo>
                    <a:pt x="0" y="1645"/>
                  </a:lnTo>
                  <a:lnTo>
                    <a:pt x="2" y="1632"/>
                  </a:lnTo>
                  <a:lnTo>
                    <a:pt x="5" y="1618"/>
                  </a:lnTo>
                  <a:lnTo>
                    <a:pt x="7" y="1605"/>
                  </a:lnTo>
                  <a:lnTo>
                    <a:pt x="10" y="1590"/>
                  </a:lnTo>
                  <a:lnTo>
                    <a:pt x="12" y="1577"/>
                  </a:lnTo>
                  <a:lnTo>
                    <a:pt x="14" y="1563"/>
                  </a:lnTo>
                  <a:lnTo>
                    <a:pt x="17" y="1550"/>
                  </a:lnTo>
                  <a:lnTo>
                    <a:pt x="19" y="1536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618000" y="3135240"/>
              <a:ext cx="426960" cy="441360"/>
            </a:xfrm>
            <a:custGeom>
              <a:avLst/>
              <a:gdLst/>
              <a:ahLst/>
              <a:rect l="l" t="t" r="r" b="b"/>
              <a:pathLst>
                <a:path w="1616" h="1673">
                  <a:moveTo>
                    <a:pt x="19" y="1563"/>
                  </a:moveTo>
                  <a:lnTo>
                    <a:pt x="1580" y="0"/>
                  </a:lnTo>
                  <a:lnTo>
                    <a:pt x="1585" y="7"/>
                  </a:lnTo>
                  <a:lnTo>
                    <a:pt x="1590" y="14"/>
                  </a:lnTo>
                  <a:lnTo>
                    <a:pt x="1593" y="20"/>
                  </a:lnTo>
                  <a:lnTo>
                    <a:pt x="1598" y="27"/>
                  </a:lnTo>
                  <a:lnTo>
                    <a:pt x="1603" y="34"/>
                  </a:lnTo>
                  <a:lnTo>
                    <a:pt x="1606" y="42"/>
                  </a:lnTo>
                  <a:lnTo>
                    <a:pt x="1611" y="48"/>
                  </a:lnTo>
                  <a:lnTo>
                    <a:pt x="1616" y="55"/>
                  </a:lnTo>
                  <a:lnTo>
                    <a:pt x="0" y="1673"/>
                  </a:lnTo>
                  <a:lnTo>
                    <a:pt x="2" y="1658"/>
                  </a:lnTo>
                  <a:lnTo>
                    <a:pt x="4" y="1645"/>
                  </a:lnTo>
                  <a:lnTo>
                    <a:pt x="7" y="1631"/>
                  </a:lnTo>
                  <a:lnTo>
                    <a:pt x="9" y="1618"/>
                  </a:lnTo>
                  <a:lnTo>
                    <a:pt x="11" y="1604"/>
                  </a:lnTo>
                  <a:lnTo>
                    <a:pt x="14" y="1591"/>
                  </a:lnTo>
                  <a:lnTo>
                    <a:pt x="16" y="1578"/>
                  </a:lnTo>
                  <a:lnTo>
                    <a:pt x="19" y="1563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616200" y="3141720"/>
              <a:ext cx="433440" cy="449280"/>
            </a:xfrm>
            <a:custGeom>
              <a:avLst/>
              <a:gdLst/>
              <a:ahLst/>
              <a:rect l="l" t="t" r="r" b="b"/>
              <a:pathLst>
                <a:path w="1643" h="1699">
                  <a:moveTo>
                    <a:pt x="19" y="1591"/>
                  </a:moveTo>
                  <a:lnTo>
                    <a:pt x="1608" y="0"/>
                  </a:lnTo>
                  <a:lnTo>
                    <a:pt x="1613" y="7"/>
                  </a:lnTo>
                  <a:lnTo>
                    <a:pt x="1616" y="15"/>
                  </a:lnTo>
                  <a:lnTo>
                    <a:pt x="1621" y="21"/>
                  </a:lnTo>
                  <a:lnTo>
                    <a:pt x="1626" y="28"/>
                  </a:lnTo>
                  <a:lnTo>
                    <a:pt x="1630" y="35"/>
                  </a:lnTo>
                  <a:lnTo>
                    <a:pt x="1634" y="42"/>
                  </a:lnTo>
                  <a:lnTo>
                    <a:pt x="1638" y="49"/>
                  </a:lnTo>
                  <a:lnTo>
                    <a:pt x="1643" y="55"/>
                  </a:lnTo>
                  <a:lnTo>
                    <a:pt x="0" y="1699"/>
                  </a:lnTo>
                  <a:lnTo>
                    <a:pt x="2" y="1686"/>
                  </a:lnTo>
                  <a:lnTo>
                    <a:pt x="5" y="1672"/>
                  </a:lnTo>
                  <a:lnTo>
                    <a:pt x="7" y="1659"/>
                  </a:lnTo>
                  <a:lnTo>
                    <a:pt x="10" y="1646"/>
                  </a:lnTo>
                  <a:lnTo>
                    <a:pt x="12" y="1631"/>
                  </a:lnTo>
                  <a:lnTo>
                    <a:pt x="14" y="1618"/>
                  </a:lnTo>
                  <a:lnTo>
                    <a:pt x="17" y="1604"/>
                  </a:lnTo>
                  <a:lnTo>
                    <a:pt x="19" y="1591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13320" y="3149640"/>
              <a:ext cx="441000" cy="455400"/>
            </a:xfrm>
            <a:custGeom>
              <a:avLst/>
              <a:gdLst/>
              <a:ahLst/>
              <a:rect l="l" t="t" r="r" b="b"/>
              <a:pathLst>
                <a:path w="1668" h="1725">
                  <a:moveTo>
                    <a:pt x="18" y="1618"/>
                  </a:moveTo>
                  <a:lnTo>
                    <a:pt x="1634" y="0"/>
                  </a:lnTo>
                  <a:lnTo>
                    <a:pt x="1638" y="7"/>
                  </a:lnTo>
                  <a:lnTo>
                    <a:pt x="1642" y="14"/>
                  </a:lnTo>
                  <a:lnTo>
                    <a:pt x="1646" y="21"/>
                  </a:lnTo>
                  <a:lnTo>
                    <a:pt x="1651" y="27"/>
                  </a:lnTo>
                  <a:lnTo>
                    <a:pt x="1655" y="34"/>
                  </a:lnTo>
                  <a:lnTo>
                    <a:pt x="1659" y="41"/>
                  </a:lnTo>
                  <a:lnTo>
                    <a:pt x="1664" y="48"/>
                  </a:lnTo>
                  <a:lnTo>
                    <a:pt x="1668" y="54"/>
                  </a:lnTo>
                  <a:lnTo>
                    <a:pt x="0" y="1725"/>
                  </a:lnTo>
                  <a:lnTo>
                    <a:pt x="1" y="1712"/>
                  </a:lnTo>
                  <a:lnTo>
                    <a:pt x="3" y="1699"/>
                  </a:lnTo>
                  <a:lnTo>
                    <a:pt x="6" y="1684"/>
                  </a:lnTo>
                  <a:lnTo>
                    <a:pt x="8" y="1671"/>
                  </a:lnTo>
                  <a:lnTo>
                    <a:pt x="10" y="1658"/>
                  </a:lnTo>
                  <a:lnTo>
                    <a:pt x="13" y="1644"/>
                  </a:lnTo>
                  <a:lnTo>
                    <a:pt x="15" y="1631"/>
                  </a:lnTo>
                  <a:lnTo>
                    <a:pt x="18" y="1618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611520" y="3156120"/>
              <a:ext cx="447840" cy="463320"/>
            </a:xfrm>
            <a:custGeom>
              <a:avLst/>
              <a:gdLst/>
              <a:ahLst/>
              <a:rect l="l" t="t" r="r" b="b"/>
              <a:pathLst>
                <a:path w="1695" h="1752">
                  <a:moveTo>
                    <a:pt x="18" y="1644"/>
                  </a:moveTo>
                  <a:lnTo>
                    <a:pt x="1661" y="0"/>
                  </a:lnTo>
                  <a:lnTo>
                    <a:pt x="1665" y="7"/>
                  </a:lnTo>
                  <a:lnTo>
                    <a:pt x="1669" y="14"/>
                  </a:lnTo>
                  <a:lnTo>
                    <a:pt x="1674" y="21"/>
                  </a:lnTo>
                  <a:lnTo>
                    <a:pt x="1678" y="27"/>
                  </a:lnTo>
                  <a:lnTo>
                    <a:pt x="1682" y="34"/>
                  </a:lnTo>
                  <a:lnTo>
                    <a:pt x="1687" y="42"/>
                  </a:lnTo>
                  <a:lnTo>
                    <a:pt x="1690" y="49"/>
                  </a:lnTo>
                  <a:lnTo>
                    <a:pt x="1695" y="56"/>
                  </a:lnTo>
                  <a:lnTo>
                    <a:pt x="0" y="1752"/>
                  </a:lnTo>
                  <a:lnTo>
                    <a:pt x="3" y="1739"/>
                  </a:lnTo>
                  <a:lnTo>
                    <a:pt x="5" y="1725"/>
                  </a:lnTo>
                  <a:lnTo>
                    <a:pt x="7" y="1712"/>
                  </a:lnTo>
                  <a:lnTo>
                    <a:pt x="10" y="1699"/>
                  </a:lnTo>
                  <a:lnTo>
                    <a:pt x="12" y="1685"/>
                  </a:lnTo>
                  <a:lnTo>
                    <a:pt x="13" y="1672"/>
                  </a:lnTo>
                  <a:lnTo>
                    <a:pt x="16" y="1657"/>
                  </a:lnTo>
                  <a:lnTo>
                    <a:pt x="18" y="1644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608280" y="3164040"/>
              <a:ext cx="455760" cy="469800"/>
            </a:xfrm>
            <a:custGeom>
              <a:avLst/>
              <a:gdLst/>
              <a:ahLst/>
              <a:rect l="l" t="t" r="r" b="b"/>
              <a:pathLst>
                <a:path w="1722" h="1780">
                  <a:moveTo>
                    <a:pt x="19" y="1671"/>
                  </a:moveTo>
                  <a:lnTo>
                    <a:pt x="1687" y="0"/>
                  </a:lnTo>
                  <a:lnTo>
                    <a:pt x="1691" y="7"/>
                  </a:lnTo>
                  <a:lnTo>
                    <a:pt x="1696" y="15"/>
                  </a:lnTo>
                  <a:lnTo>
                    <a:pt x="1699" y="22"/>
                  </a:lnTo>
                  <a:lnTo>
                    <a:pt x="1704" y="29"/>
                  </a:lnTo>
                  <a:lnTo>
                    <a:pt x="1709" y="36"/>
                  </a:lnTo>
                  <a:lnTo>
                    <a:pt x="1712" y="42"/>
                  </a:lnTo>
                  <a:lnTo>
                    <a:pt x="1717" y="49"/>
                  </a:lnTo>
                  <a:lnTo>
                    <a:pt x="1722" y="56"/>
                  </a:lnTo>
                  <a:lnTo>
                    <a:pt x="0" y="1780"/>
                  </a:lnTo>
                  <a:lnTo>
                    <a:pt x="2" y="1766"/>
                  </a:lnTo>
                  <a:lnTo>
                    <a:pt x="5" y="1753"/>
                  </a:lnTo>
                  <a:lnTo>
                    <a:pt x="7" y="1740"/>
                  </a:lnTo>
                  <a:lnTo>
                    <a:pt x="9" y="1725"/>
                  </a:lnTo>
                  <a:lnTo>
                    <a:pt x="12" y="1712"/>
                  </a:lnTo>
                  <a:lnTo>
                    <a:pt x="14" y="1698"/>
                  </a:lnTo>
                  <a:lnTo>
                    <a:pt x="16" y="1685"/>
                  </a:lnTo>
                  <a:lnTo>
                    <a:pt x="19" y="167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05040" y="3171960"/>
              <a:ext cx="463680" cy="476280"/>
            </a:xfrm>
            <a:custGeom>
              <a:avLst/>
              <a:gdLst/>
              <a:ahLst/>
              <a:rect l="l" t="t" r="r" b="b"/>
              <a:pathLst>
                <a:path w="1748" h="1804">
                  <a:moveTo>
                    <a:pt x="19" y="1696"/>
                  </a:moveTo>
                  <a:lnTo>
                    <a:pt x="1714" y="0"/>
                  </a:lnTo>
                  <a:lnTo>
                    <a:pt x="1719" y="7"/>
                  </a:lnTo>
                  <a:lnTo>
                    <a:pt x="1722" y="13"/>
                  </a:lnTo>
                  <a:lnTo>
                    <a:pt x="1727" y="20"/>
                  </a:lnTo>
                  <a:lnTo>
                    <a:pt x="1731" y="27"/>
                  </a:lnTo>
                  <a:lnTo>
                    <a:pt x="1735" y="34"/>
                  </a:lnTo>
                  <a:lnTo>
                    <a:pt x="1740" y="41"/>
                  </a:lnTo>
                  <a:lnTo>
                    <a:pt x="1744" y="47"/>
                  </a:lnTo>
                  <a:lnTo>
                    <a:pt x="1748" y="54"/>
                  </a:lnTo>
                  <a:lnTo>
                    <a:pt x="0" y="1804"/>
                  </a:lnTo>
                  <a:lnTo>
                    <a:pt x="3" y="1791"/>
                  </a:lnTo>
                  <a:lnTo>
                    <a:pt x="5" y="1778"/>
                  </a:lnTo>
                  <a:lnTo>
                    <a:pt x="7" y="1764"/>
                  </a:lnTo>
                  <a:lnTo>
                    <a:pt x="10" y="1751"/>
                  </a:lnTo>
                  <a:lnTo>
                    <a:pt x="12" y="1737"/>
                  </a:lnTo>
                  <a:lnTo>
                    <a:pt x="15" y="1724"/>
                  </a:lnTo>
                  <a:lnTo>
                    <a:pt x="17" y="1709"/>
                  </a:lnTo>
                  <a:lnTo>
                    <a:pt x="19" y="1696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03600" y="3178080"/>
              <a:ext cx="469800" cy="486000"/>
            </a:xfrm>
            <a:custGeom>
              <a:avLst/>
              <a:gdLst/>
              <a:ahLst/>
              <a:rect l="l" t="t" r="r" b="b"/>
              <a:pathLst>
                <a:path w="1774" h="1832">
                  <a:moveTo>
                    <a:pt x="19" y="1724"/>
                  </a:moveTo>
                  <a:lnTo>
                    <a:pt x="1741" y="0"/>
                  </a:lnTo>
                  <a:lnTo>
                    <a:pt x="1744" y="7"/>
                  </a:lnTo>
                  <a:lnTo>
                    <a:pt x="1749" y="14"/>
                  </a:lnTo>
                  <a:lnTo>
                    <a:pt x="1753" y="20"/>
                  </a:lnTo>
                  <a:lnTo>
                    <a:pt x="1757" y="27"/>
                  </a:lnTo>
                  <a:lnTo>
                    <a:pt x="1761" y="35"/>
                  </a:lnTo>
                  <a:lnTo>
                    <a:pt x="1766" y="42"/>
                  </a:lnTo>
                  <a:lnTo>
                    <a:pt x="1770" y="49"/>
                  </a:lnTo>
                  <a:lnTo>
                    <a:pt x="1774" y="56"/>
                  </a:lnTo>
                  <a:lnTo>
                    <a:pt x="0" y="1832"/>
                  </a:lnTo>
                  <a:lnTo>
                    <a:pt x="2" y="1819"/>
                  </a:lnTo>
                  <a:lnTo>
                    <a:pt x="5" y="1805"/>
                  </a:lnTo>
                  <a:lnTo>
                    <a:pt x="7" y="1792"/>
                  </a:lnTo>
                  <a:lnTo>
                    <a:pt x="9" y="1777"/>
                  </a:lnTo>
                  <a:lnTo>
                    <a:pt x="12" y="1764"/>
                  </a:lnTo>
                  <a:lnTo>
                    <a:pt x="14" y="1751"/>
                  </a:lnTo>
                  <a:lnTo>
                    <a:pt x="16" y="1737"/>
                  </a:lnTo>
                  <a:lnTo>
                    <a:pt x="19" y="1724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00360" y="3186000"/>
              <a:ext cx="476280" cy="492120"/>
            </a:xfrm>
            <a:custGeom>
              <a:avLst/>
              <a:gdLst/>
              <a:ahLst/>
              <a:rect l="l" t="t" r="r" b="b"/>
              <a:pathLst>
                <a:path w="1803" h="1860">
                  <a:moveTo>
                    <a:pt x="20" y="1750"/>
                  </a:moveTo>
                  <a:lnTo>
                    <a:pt x="1768" y="0"/>
                  </a:lnTo>
                  <a:lnTo>
                    <a:pt x="1773" y="8"/>
                  </a:lnTo>
                  <a:lnTo>
                    <a:pt x="1777" y="15"/>
                  </a:lnTo>
                  <a:lnTo>
                    <a:pt x="1781" y="22"/>
                  </a:lnTo>
                  <a:lnTo>
                    <a:pt x="1785" y="28"/>
                  </a:lnTo>
                  <a:lnTo>
                    <a:pt x="1790" y="35"/>
                  </a:lnTo>
                  <a:lnTo>
                    <a:pt x="1793" y="42"/>
                  </a:lnTo>
                  <a:lnTo>
                    <a:pt x="1798" y="49"/>
                  </a:lnTo>
                  <a:lnTo>
                    <a:pt x="1803" y="56"/>
                  </a:lnTo>
                  <a:lnTo>
                    <a:pt x="0" y="1860"/>
                  </a:lnTo>
                  <a:lnTo>
                    <a:pt x="3" y="1847"/>
                  </a:lnTo>
                  <a:lnTo>
                    <a:pt x="5" y="1832"/>
                  </a:lnTo>
                  <a:lnTo>
                    <a:pt x="7" y="1819"/>
                  </a:lnTo>
                  <a:lnTo>
                    <a:pt x="11" y="1805"/>
                  </a:lnTo>
                  <a:lnTo>
                    <a:pt x="13" y="1792"/>
                  </a:lnTo>
                  <a:lnTo>
                    <a:pt x="16" y="1778"/>
                  </a:lnTo>
                  <a:lnTo>
                    <a:pt x="18" y="1765"/>
                  </a:lnTo>
                  <a:lnTo>
                    <a:pt x="20" y="175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597120" y="3193920"/>
              <a:ext cx="484200" cy="498600"/>
            </a:xfrm>
            <a:custGeom>
              <a:avLst/>
              <a:gdLst/>
              <a:ahLst/>
              <a:rect l="l" t="t" r="r" b="b"/>
              <a:pathLst>
                <a:path w="1830" h="1887">
                  <a:moveTo>
                    <a:pt x="22" y="1776"/>
                  </a:moveTo>
                  <a:lnTo>
                    <a:pt x="1796" y="0"/>
                  </a:lnTo>
                  <a:lnTo>
                    <a:pt x="1801" y="6"/>
                  </a:lnTo>
                  <a:lnTo>
                    <a:pt x="1804" y="13"/>
                  </a:lnTo>
                  <a:lnTo>
                    <a:pt x="1809" y="20"/>
                  </a:lnTo>
                  <a:lnTo>
                    <a:pt x="1814" y="27"/>
                  </a:lnTo>
                  <a:lnTo>
                    <a:pt x="1817" y="34"/>
                  </a:lnTo>
                  <a:lnTo>
                    <a:pt x="1822" y="42"/>
                  </a:lnTo>
                  <a:lnTo>
                    <a:pt x="1826" y="48"/>
                  </a:lnTo>
                  <a:lnTo>
                    <a:pt x="1830" y="55"/>
                  </a:lnTo>
                  <a:lnTo>
                    <a:pt x="0" y="1887"/>
                  </a:lnTo>
                  <a:lnTo>
                    <a:pt x="4" y="1872"/>
                  </a:lnTo>
                  <a:lnTo>
                    <a:pt x="6" y="1859"/>
                  </a:lnTo>
                  <a:lnTo>
                    <a:pt x="9" y="1845"/>
                  </a:lnTo>
                  <a:lnTo>
                    <a:pt x="11" y="1832"/>
                  </a:lnTo>
                  <a:lnTo>
                    <a:pt x="14" y="1818"/>
                  </a:lnTo>
                  <a:lnTo>
                    <a:pt x="16" y="1803"/>
                  </a:lnTo>
                  <a:lnTo>
                    <a:pt x="18" y="1790"/>
                  </a:lnTo>
                  <a:lnTo>
                    <a:pt x="22" y="1776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594240" y="3200400"/>
              <a:ext cx="492120" cy="506520"/>
            </a:xfrm>
            <a:custGeom>
              <a:avLst/>
              <a:gdLst/>
              <a:ahLst/>
              <a:rect l="l" t="t" r="r" b="b"/>
              <a:pathLst>
                <a:path w="1857" h="1914">
                  <a:moveTo>
                    <a:pt x="21" y="1804"/>
                  </a:moveTo>
                  <a:lnTo>
                    <a:pt x="1824" y="0"/>
                  </a:lnTo>
                  <a:lnTo>
                    <a:pt x="1827" y="7"/>
                  </a:lnTo>
                  <a:lnTo>
                    <a:pt x="1832" y="13"/>
                  </a:lnTo>
                  <a:lnTo>
                    <a:pt x="1836" y="21"/>
                  </a:lnTo>
                  <a:lnTo>
                    <a:pt x="1840" y="28"/>
                  </a:lnTo>
                  <a:lnTo>
                    <a:pt x="1845" y="35"/>
                  </a:lnTo>
                  <a:lnTo>
                    <a:pt x="1849" y="42"/>
                  </a:lnTo>
                  <a:lnTo>
                    <a:pt x="1854" y="49"/>
                  </a:lnTo>
                  <a:lnTo>
                    <a:pt x="1857" y="56"/>
                  </a:lnTo>
                  <a:lnTo>
                    <a:pt x="0" y="1914"/>
                  </a:lnTo>
                  <a:lnTo>
                    <a:pt x="3" y="1901"/>
                  </a:lnTo>
                  <a:lnTo>
                    <a:pt x="6" y="1887"/>
                  </a:lnTo>
                  <a:lnTo>
                    <a:pt x="8" y="1874"/>
                  </a:lnTo>
                  <a:lnTo>
                    <a:pt x="10" y="1860"/>
                  </a:lnTo>
                  <a:lnTo>
                    <a:pt x="14" y="1845"/>
                  </a:lnTo>
                  <a:lnTo>
                    <a:pt x="16" y="1832"/>
                  </a:lnTo>
                  <a:lnTo>
                    <a:pt x="19" y="1818"/>
                  </a:lnTo>
                  <a:lnTo>
                    <a:pt x="21" y="180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92440" y="3208320"/>
              <a:ext cx="498600" cy="514440"/>
            </a:xfrm>
            <a:custGeom>
              <a:avLst/>
              <a:gdLst/>
              <a:ahLst/>
              <a:rect l="l" t="t" r="r" b="b"/>
              <a:pathLst>
                <a:path w="1886" h="1943">
                  <a:moveTo>
                    <a:pt x="21" y="1832"/>
                  </a:moveTo>
                  <a:lnTo>
                    <a:pt x="1851" y="0"/>
                  </a:lnTo>
                  <a:lnTo>
                    <a:pt x="1856" y="7"/>
                  </a:lnTo>
                  <a:lnTo>
                    <a:pt x="1860" y="14"/>
                  </a:lnTo>
                  <a:lnTo>
                    <a:pt x="1865" y="21"/>
                  </a:lnTo>
                  <a:lnTo>
                    <a:pt x="1868" y="27"/>
                  </a:lnTo>
                  <a:lnTo>
                    <a:pt x="1873" y="34"/>
                  </a:lnTo>
                  <a:lnTo>
                    <a:pt x="1876" y="41"/>
                  </a:lnTo>
                  <a:lnTo>
                    <a:pt x="1881" y="48"/>
                  </a:lnTo>
                  <a:lnTo>
                    <a:pt x="1886" y="55"/>
                  </a:lnTo>
                  <a:lnTo>
                    <a:pt x="0" y="1943"/>
                  </a:lnTo>
                  <a:lnTo>
                    <a:pt x="2" y="1929"/>
                  </a:lnTo>
                  <a:lnTo>
                    <a:pt x="6" y="1915"/>
                  </a:lnTo>
                  <a:lnTo>
                    <a:pt x="8" y="1902"/>
                  </a:lnTo>
                  <a:lnTo>
                    <a:pt x="11" y="1887"/>
                  </a:lnTo>
                  <a:lnTo>
                    <a:pt x="14" y="1873"/>
                  </a:lnTo>
                  <a:lnTo>
                    <a:pt x="17" y="1859"/>
                  </a:lnTo>
                  <a:lnTo>
                    <a:pt x="19" y="1846"/>
                  </a:lnTo>
                  <a:lnTo>
                    <a:pt x="21" y="1832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9200" y="3214800"/>
              <a:ext cx="506520" cy="522000"/>
            </a:xfrm>
            <a:custGeom>
              <a:avLst/>
              <a:gdLst/>
              <a:ahLst/>
              <a:rect l="l" t="t" r="r" b="b"/>
              <a:pathLst>
                <a:path w="1914" h="1971">
                  <a:moveTo>
                    <a:pt x="23" y="1858"/>
                  </a:moveTo>
                  <a:lnTo>
                    <a:pt x="1880" y="0"/>
                  </a:lnTo>
                  <a:lnTo>
                    <a:pt x="1885" y="6"/>
                  </a:lnTo>
                  <a:lnTo>
                    <a:pt x="1888" y="13"/>
                  </a:lnTo>
                  <a:lnTo>
                    <a:pt x="1893" y="20"/>
                  </a:lnTo>
                  <a:lnTo>
                    <a:pt x="1898" y="27"/>
                  </a:lnTo>
                  <a:lnTo>
                    <a:pt x="1901" y="35"/>
                  </a:lnTo>
                  <a:lnTo>
                    <a:pt x="1906" y="42"/>
                  </a:lnTo>
                  <a:lnTo>
                    <a:pt x="1910" y="49"/>
                  </a:lnTo>
                  <a:lnTo>
                    <a:pt x="1914" y="55"/>
                  </a:lnTo>
                  <a:lnTo>
                    <a:pt x="0" y="1971"/>
                  </a:lnTo>
                  <a:lnTo>
                    <a:pt x="3" y="1958"/>
                  </a:lnTo>
                  <a:lnTo>
                    <a:pt x="6" y="1944"/>
                  </a:lnTo>
                  <a:lnTo>
                    <a:pt x="9" y="1929"/>
                  </a:lnTo>
                  <a:lnTo>
                    <a:pt x="12" y="1915"/>
                  </a:lnTo>
                  <a:lnTo>
                    <a:pt x="14" y="1901"/>
                  </a:lnTo>
                  <a:lnTo>
                    <a:pt x="18" y="1887"/>
                  </a:lnTo>
                  <a:lnTo>
                    <a:pt x="20" y="1872"/>
                  </a:lnTo>
                  <a:lnTo>
                    <a:pt x="23" y="1858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86320" y="3222720"/>
              <a:ext cx="514080" cy="530280"/>
            </a:xfrm>
            <a:custGeom>
              <a:avLst/>
              <a:gdLst/>
              <a:ahLst/>
              <a:rect l="l" t="t" r="r" b="b"/>
              <a:pathLst>
                <a:path w="1944" h="2002">
                  <a:moveTo>
                    <a:pt x="25" y="1888"/>
                  </a:moveTo>
                  <a:lnTo>
                    <a:pt x="1911" y="0"/>
                  </a:lnTo>
                  <a:lnTo>
                    <a:pt x="1914" y="8"/>
                  </a:lnTo>
                  <a:lnTo>
                    <a:pt x="1919" y="15"/>
                  </a:lnTo>
                  <a:lnTo>
                    <a:pt x="1923" y="22"/>
                  </a:lnTo>
                  <a:lnTo>
                    <a:pt x="1927" y="28"/>
                  </a:lnTo>
                  <a:lnTo>
                    <a:pt x="1931" y="35"/>
                  </a:lnTo>
                  <a:lnTo>
                    <a:pt x="1936" y="42"/>
                  </a:lnTo>
                  <a:lnTo>
                    <a:pt x="1939" y="49"/>
                  </a:lnTo>
                  <a:lnTo>
                    <a:pt x="1944" y="56"/>
                  </a:lnTo>
                  <a:lnTo>
                    <a:pt x="0" y="2002"/>
                  </a:lnTo>
                  <a:lnTo>
                    <a:pt x="4" y="1988"/>
                  </a:lnTo>
                  <a:lnTo>
                    <a:pt x="7" y="1974"/>
                  </a:lnTo>
                  <a:lnTo>
                    <a:pt x="10" y="1959"/>
                  </a:lnTo>
                  <a:lnTo>
                    <a:pt x="13" y="1945"/>
                  </a:lnTo>
                  <a:lnTo>
                    <a:pt x="16" y="1931"/>
                  </a:lnTo>
                  <a:lnTo>
                    <a:pt x="19" y="1917"/>
                  </a:lnTo>
                  <a:lnTo>
                    <a:pt x="22" y="1902"/>
                  </a:lnTo>
                  <a:lnTo>
                    <a:pt x="25" y="188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581280" y="3228840"/>
              <a:ext cx="522360" cy="538200"/>
            </a:xfrm>
            <a:custGeom>
              <a:avLst/>
              <a:gdLst/>
              <a:ahLst/>
              <a:rect l="l" t="t" r="r" b="b"/>
              <a:pathLst>
                <a:path w="1974" h="2032">
                  <a:moveTo>
                    <a:pt x="26" y="1916"/>
                  </a:moveTo>
                  <a:lnTo>
                    <a:pt x="1940" y="0"/>
                  </a:lnTo>
                  <a:lnTo>
                    <a:pt x="1944" y="7"/>
                  </a:lnTo>
                  <a:lnTo>
                    <a:pt x="1949" y="14"/>
                  </a:lnTo>
                  <a:lnTo>
                    <a:pt x="1952" y="21"/>
                  </a:lnTo>
                  <a:lnTo>
                    <a:pt x="1957" y="28"/>
                  </a:lnTo>
                  <a:lnTo>
                    <a:pt x="1961" y="35"/>
                  </a:lnTo>
                  <a:lnTo>
                    <a:pt x="1965" y="43"/>
                  </a:lnTo>
                  <a:lnTo>
                    <a:pt x="1970" y="50"/>
                  </a:lnTo>
                  <a:lnTo>
                    <a:pt x="1974" y="56"/>
                  </a:lnTo>
                  <a:lnTo>
                    <a:pt x="0" y="2032"/>
                  </a:lnTo>
                  <a:lnTo>
                    <a:pt x="4" y="2018"/>
                  </a:lnTo>
                  <a:lnTo>
                    <a:pt x="6" y="2004"/>
                  </a:lnTo>
                  <a:lnTo>
                    <a:pt x="10" y="1989"/>
                  </a:lnTo>
                  <a:lnTo>
                    <a:pt x="13" y="1974"/>
                  </a:lnTo>
                  <a:lnTo>
                    <a:pt x="17" y="1960"/>
                  </a:lnTo>
                  <a:lnTo>
                    <a:pt x="19" y="1946"/>
                  </a:lnTo>
                  <a:lnTo>
                    <a:pt x="23" y="1931"/>
                  </a:lnTo>
                  <a:lnTo>
                    <a:pt x="26" y="1916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578400" y="3236760"/>
              <a:ext cx="529920" cy="546120"/>
            </a:xfrm>
            <a:custGeom>
              <a:avLst/>
              <a:gdLst/>
              <a:ahLst/>
              <a:rect l="l" t="t" r="r" b="b"/>
              <a:pathLst>
                <a:path w="2004" h="2064">
                  <a:moveTo>
                    <a:pt x="27" y="1946"/>
                  </a:moveTo>
                  <a:lnTo>
                    <a:pt x="1971" y="0"/>
                  </a:lnTo>
                  <a:lnTo>
                    <a:pt x="1975" y="7"/>
                  </a:lnTo>
                  <a:lnTo>
                    <a:pt x="1979" y="15"/>
                  </a:lnTo>
                  <a:lnTo>
                    <a:pt x="1984" y="22"/>
                  </a:lnTo>
                  <a:lnTo>
                    <a:pt x="1988" y="28"/>
                  </a:lnTo>
                  <a:lnTo>
                    <a:pt x="1992" y="35"/>
                  </a:lnTo>
                  <a:lnTo>
                    <a:pt x="1996" y="42"/>
                  </a:lnTo>
                  <a:lnTo>
                    <a:pt x="2001" y="49"/>
                  </a:lnTo>
                  <a:lnTo>
                    <a:pt x="2004" y="56"/>
                  </a:lnTo>
                  <a:lnTo>
                    <a:pt x="0" y="2064"/>
                  </a:lnTo>
                  <a:lnTo>
                    <a:pt x="3" y="2048"/>
                  </a:lnTo>
                  <a:lnTo>
                    <a:pt x="7" y="2034"/>
                  </a:lnTo>
                  <a:lnTo>
                    <a:pt x="11" y="2020"/>
                  </a:lnTo>
                  <a:lnTo>
                    <a:pt x="14" y="2004"/>
                  </a:lnTo>
                  <a:lnTo>
                    <a:pt x="18" y="1990"/>
                  </a:lnTo>
                  <a:lnTo>
                    <a:pt x="21" y="1976"/>
                  </a:lnTo>
                  <a:lnTo>
                    <a:pt x="24" y="1961"/>
                  </a:lnTo>
                  <a:lnTo>
                    <a:pt x="27" y="1946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573360" y="3244680"/>
              <a:ext cx="540000" cy="554040"/>
            </a:xfrm>
            <a:custGeom>
              <a:avLst/>
              <a:gdLst/>
              <a:ahLst/>
              <a:rect l="l" t="t" r="r" b="b"/>
              <a:pathLst>
                <a:path w="2038" h="2096">
                  <a:moveTo>
                    <a:pt x="31" y="1976"/>
                  </a:moveTo>
                  <a:lnTo>
                    <a:pt x="2005" y="0"/>
                  </a:lnTo>
                  <a:lnTo>
                    <a:pt x="2009" y="7"/>
                  </a:lnTo>
                  <a:lnTo>
                    <a:pt x="2013" y="14"/>
                  </a:lnTo>
                  <a:lnTo>
                    <a:pt x="2018" y="21"/>
                  </a:lnTo>
                  <a:lnTo>
                    <a:pt x="2021" y="28"/>
                  </a:lnTo>
                  <a:lnTo>
                    <a:pt x="2026" y="35"/>
                  </a:lnTo>
                  <a:lnTo>
                    <a:pt x="2030" y="42"/>
                  </a:lnTo>
                  <a:lnTo>
                    <a:pt x="2034" y="50"/>
                  </a:lnTo>
                  <a:lnTo>
                    <a:pt x="2038" y="57"/>
                  </a:lnTo>
                  <a:lnTo>
                    <a:pt x="0" y="2096"/>
                  </a:lnTo>
                  <a:lnTo>
                    <a:pt x="5" y="2081"/>
                  </a:lnTo>
                  <a:lnTo>
                    <a:pt x="9" y="2067"/>
                  </a:lnTo>
                  <a:lnTo>
                    <a:pt x="12" y="2051"/>
                  </a:lnTo>
                  <a:lnTo>
                    <a:pt x="16" y="2036"/>
                  </a:lnTo>
                  <a:lnTo>
                    <a:pt x="19" y="2022"/>
                  </a:lnTo>
                  <a:lnTo>
                    <a:pt x="24" y="2006"/>
                  </a:lnTo>
                  <a:lnTo>
                    <a:pt x="28" y="1991"/>
                  </a:lnTo>
                  <a:lnTo>
                    <a:pt x="31" y="1976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568680" y="3252960"/>
              <a:ext cx="549360" cy="563400"/>
            </a:xfrm>
            <a:custGeom>
              <a:avLst/>
              <a:gdLst/>
              <a:ahLst/>
              <a:rect l="l" t="t" r="r" b="b"/>
              <a:pathLst>
                <a:path w="2071" h="2130">
                  <a:moveTo>
                    <a:pt x="33" y="2008"/>
                  </a:moveTo>
                  <a:lnTo>
                    <a:pt x="2037" y="0"/>
                  </a:lnTo>
                  <a:lnTo>
                    <a:pt x="2042" y="7"/>
                  </a:lnTo>
                  <a:lnTo>
                    <a:pt x="2046" y="14"/>
                  </a:lnTo>
                  <a:lnTo>
                    <a:pt x="2050" y="22"/>
                  </a:lnTo>
                  <a:lnTo>
                    <a:pt x="2054" y="29"/>
                  </a:lnTo>
                  <a:lnTo>
                    <a:pt x="2059" y="36"/>
                  </a:lnTo>
                  <a:lnTo>
                    <a:pt x="2062" y="42"/>
                  </a:lnTo>
                  <a:lnTo>
                    <a:pt x="2067" y="49"/>
                  </a:lnTo>
                  <a:lnTo>
                    <a:pt x="2071" y="56"/>
                  </a:lnTo>
                  <a:lnTo>
                    <a:pt x="0" y="2130"/>
                  </a:lnTo>
                  <a:lnTo>
                    <a:pt x="4" y="2115"/>
                  </a:lnTo>
                  <a:lnTo>
                    <a:pt x="8" y="2099"/>
                  </a:lnTo>
                  <a:lnTo>
                    <a:pt x="13" y="2084"/>
                  </a:lnTo>
                  <a:lnTo>
                    <a:pt x="16" y="2068"/>
                  </a:lnTo>
                  <a:lnTo>
                    <a:pt x="21" y="2053"/>
                  </a:lnTo>
                  <a:lnTo>
                    <a:pt x="25" y="2039"/>
                  </a:lnTo>
                  <a:lnTo>
                    <a:pt x="28" y="2023"/>
                  </a:lnTo>
                  <a:lnTo>
                    <a:pt x="33" y="2008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564000" y="3259080"/>
              <a:ext cx="557280" cy="573120"/>
            </a:xfrm>
            <a:custGeom>
              <a:avLst/>
              <a:gdLst/>
              <a:ahLst/>
              <a:rect l="l" t="t" r="r" b="b"/>
              <a:pathLst>
                <a:path w="2106" h="2164">
                  <a:moveTo>
                    <a:pt x="35" y="2039"/>
                  </a:moveTo>
                  <a:lnTo>
                    <a:pt x="2073" y="0"/>
                  </a:lnTo>
                  <a:lnTo>
                    <a:pt x="2078" y="7"/>
                  </a:lnTo>
                  <a:lnTo>
                    <a:pt x="2081" y="13"/>
                  </a:lnTo>
                  <a:lnTo>
                    <a:pt x="2086" y="20"/>
                  </a:lnTo>
                  <a:lnTo>
                    <a:pt x="2090" y="27"/>
                  </a:lnTo>
                  <a:lnTo>
                    <a:pt x="2094" y="34"/>
                  </a:lnTo>
                  <a:lnTo>
                    <a:pt x="2098" y="41"/>
                  </a:lnTo>
                  <a:lnTo>
                    <a:pt x="2103" y="48"/>
                  </a:lnTo>
                  <a:lnTo>
                    <a:pt x="2106" y="56"/>
                  </a:lnTo>
                  <a:lnTo>
                    <a:pt x="0" y="2164"/>
                  </a:lnTo>
                  <a:lnTo>
                    <a:pt x="4" y="2149"/>
                  </a:lnTo>
                  <a:lnTo>
                    <a:pt x="9" y="2133"/>
                  </a:lnTo>
                  <a:lnTo>
                    <a:pt x="14" y="2118"/>
                  </a:lnTo>
                  <a:lnTo>
                    <a:pt x="19" y="2102"/>
                  </a:lnTo>
                  <a:lnTo>
                    <a:pt x="22" y="2086"/>
                  </a:lnTo>
                  <a:lnTo>
                    <a:pt x="27" y="2070"/>
                  </a:lnTo>
                  <a:lnTo>
                    <a:pt x="32" y="2055"/>
                  </a:lnTo>
                  <a:lnTo>
                    <a:pt x="35" y="2039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59320" y="3267000"/>
              <a:ext cx="566640" cy="582840"/>
            </a:xfrm>
            <a:custGeom>
              <a:avLst/>
              <a:gdLst/>
              <a:ahLst/>
              <a:rect l="l" t="t" r="r" b="b"/>
              <a:pathLst>
                <a:path w="2143" h="2203">
                  <a:moveTo>
                    <a:pt x="39" y="2074"/>
                  </a:moveTo>
                  <a:lnTo>
                    <a:pt x="2110" y="0"/>
                  </a:lnTo>
                  <a:lnTo>
                    <a:pt x="2114" y="7"/>
                  </a:lnTo>
                  <a:lnTo>
                    <a:pt x="2118" y="14"/>
                  </a:lnTo>
                  <a:lnTo>
                    <a:pt x="2123" y="21"/>
                  </a:lnTo>
                  <a:lnTo>
                    <a:pt x="2126" y="29"/>
                  </a:lnTo>
                  <a:lnTo>
                    <a:pt x="2131" y="36"/>
                  </a:lnTo>
                  <a:lnTo>
                    <a:pt x="2134" y="43"/>
                  </a:lnTo>
                  <a:lnTo>
                    <a:pt x="2139" y="50"/>
                  </a:lnTo>
                  <a:lnTo>
                    <a:pt x="2143" y="57"/>
                  </a:lnTo>
                  <a:lnTo>
                    <a:pt x="0" y="2203"/>
                  </a:lnTo>
                  <a:lnTo>
                    <a:pt x="4" y="2187"/>
                  </a:lnTo>
                  <a:lnTo>
                    <a:pt x="9" y="2170"/>
                  </a:lnTo>
                  <a:lnTo>
                    <a:pt x="15" y="2155"/>
                  </a:lnTo>
                  <a:lnTo>
                    <a:pt x="20" y="2138"/>
                  </a:lnTo>
                  <a:lnTo>
                    <a:pt x="24" y="2123"/>
                  </a:lnTo>
                  <a:lnTo>
                    <a:pt x="29" y="2106"/>
                  </a:lnTo>
                  <a:lnTo>
                    <a:pt x="34" y="2090"/>
                  </a:lnTo>
                  <a:lnTo>
                    <a:pt x="39" y="2074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52840" y="3274920"/>
              <a:ext cx="577800" cy="592200"/>
            </a:xfrm>
            <a:custGeom>
              <a:avLst/>
              <a:gdLst/>
              <a:ahLst/>
              <a:rect l="l" t="t" r="r" b="b"/>
              <a:pathLst>
                <a:path w="2183" h="2242">
                  <a:moveTo>
                    <a:pt x="44" y="2108"/>
                  </a:moveTo>
                  <a:lnTo>
                    <a:pt x="2150" y="0"/>
                  </a:lnTo>
                  <a:lnTo>
                    <a:pt x="2155" y="7"/>
                  </a:lnTo>
                  <a:lnTo>
                    <a:pt x="2158" y="14"/>
                  </a:lnTo>
                  <a:lnTo>
                    <a:pt x="2163" y="21"/>
                  </a:lnTo>
                  <a:lnTo>
                    <a:pt x="2167" y="28"/>
                  </a:lnTo>
                  <a:lnTo>
                    <a:pt x="2172" y="35"/>
                  </a:lnTo>
                  <a:lnTo>
                    <a:pt x="2175" y="41"/>
                  </a:lnTo>
                  <a:lnTo>
                    <a:pt x="2180" y="48"/>
                  </a:lnTo>
                  <a:lnTo>
                    <a:pt x="2183" y="55"/>
                  </a:lnTo>
                  <a:lnTo>
                    <a:pt x="0" y="2242"/>
                  </a:lnTo>
                  <a:lnTo>
                    <a:pt x="6" y="2226"/>
                  </a:lnTo>
                  <a:lnTo>
                    <a:pt x="12" y="2209"/>
                  </a:lnTo>
                  <a:lnTo>
                    <a:pt x="16" y="2193"/>
                  </a:lnTo>
                  <a:lnTo>
                    <a:pt x="22" y="2176"/>
                  </a:lnTo>
                  <a:lnTo>
                    <a:pt x="28" y="2159"/>
                  </a:lnTo>
                  <a:lnTo>
                    <a:pt x="33" y="2143"/>
                  </a:lnTo>
                  <a:lnTo>
                    <a:pt x="39" y="2125"/>
                  </a:lnTo>
                  <a:lnTo>
                    <a:pt x="44" y="210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546360" y="3281400"/>
              <a:ext cx="588960" cy="604800"/>
            </a:xfrm>
            <a:custGeom>
              <a:avLst/>
              <a:gdLst/>
              <a:ahLst/>
              <a:rect l="l" t="t" r="r" b="b"/>
              <a:pathLst>
                <a:path w="2226" h="2286">
                  <a:moveTo>
                    <a:pt x="50" y="2146"/>
                  </a:moveTo>
                  <a:lnTo>
                    <a:pt x="2193" y="0"/>
                  </a:lnTo>
                  <a:lnTo>
                    <a:pt x="2198" y="7"/>
                  </a:lnTo>
                  <a:lnTo>
                    <a:pt x="2201" y="13"/>
                  </a:lnTo>
                  <a:lnTo>
                    <a:pt x="2206" y="20"/>
                  </a:lnTo>
                  <a:lnTo>
                    <a:pt x="2209" y="27"/>
                  </a:lnTo>
                  <a:lnTo>
                    <a:pt x="2214" y="34"/>
                  </a:lnTo>
                  <a:lnTo>
                    <a:pt x="2218" y="42"/>
                  </a:lnTo>
                  <a:lnTo>
                    <a:pt x="2222" y="49"/>
                  </a:lnTo>
                  <a:lnTo>
                    <a:pt x="2226" y="56"/>
                  </a:lnTo>
                  <a:lnTo>
                    <a:pt x="0" y="2286"/>
                  </a:lnTo>
                  <a:lnTo>
                    <a:pt x="6" y="2268"/>
                  </a:lnTo>
                  <a:lnTo>
                    <a:pt x="13" y="2251"/>
                  </a:lnTo>
                  <a:lnTo>
                    <a:pt x="19" y="2233"/>
                  </a:lnTo>
                  <a:lnTo>
                    <a:pt x="25" y="2216"/>
                  </a:lnTo>
                  <a:lnTo>
                    <a:pt x="31" y="2199"/>
                  </a:lnTo>
                  <a:lnTo>
                    <a:pt x="38" y="2181"/>
                  </a:lnTo>
                  <a:lnTo>
                    <a:pt x="44" y="2163"/>
                  </a:lnTo>
                  <a:lnTo>
                    <a:pt x="50" y="2146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537000" y="3289320"/>
              <a:ext cx="601560" cy="617400"/>
            </a:xfrm>
            <a:custGeom>
              <a:avLst/>
              <a:gdLst/>
              <a:ahLst/>
              <a:rect l="l" t="t" r="r" b="b"/>
              <a:pathLst>
                <a:path w="2274" h="2334">
                  <a:moveTo>
                    <a:pt x="57" y="2187"/>
                  </a:moveTo>
                  <a:lnTo>
                    <a:pt x="2240" y="0"/>
                  </a:lnTo>
                  <a:lnTo>
                    <a:pt x="2245" y="7"/>
                  </a:lnTo>
                  <a:lnTo>
                    <a:pt x="2249" y="15"/>
                  </a:lnTo>
                  <a:lnTo>
                    <a:pt x="2253" y="22"/>
                  </a:lnTo>
                  <a:lnTo>
                    <a:pt x="2257" y="29"/>
                  </a:lnTo>
                  <a:lnTo>
                    <a:pt x="2262" y="36"/>
                  </a:lnTo>
                  <a:lnTo>
                    <a:pt x="2265" y="43"/>
                  </a:lnTo>
                  <a:lnTo>
                    <a:pt x="2270" y="50"/>
                  </a:lnTo>
                  <a:lnTo>
                    <a:pt x="2274" y="57"/>
                  </a:lnTo>
                  <a:lnTo>
                    <a:pt x="0" y="2334"/>
                  </a:lnTo>
                  <a:lnTo>
                    <a:pt x="7" y="2316"/>
                  </a:lnTo>
                  <a:lnTo>
                    <a:pt x="15" y="2298"/>
                  </a:lnTo>
                  <a:lnTo>
                    <a:pt x="22" y="2279"/>
                  </a:lnTo>
                  <a:lnTo>
                    <a:pt x="29" y="2261"/>
                  </a:lnTo>
                  <a:lnTo>
                    <a:pt x="37" y="2242"/>
                  </a:lnTo>
                  <a:lnTo>
                    <a:pt x="44" y="2224"/>
                  </a:lnTo>
                  <a:lnTo>
                    <a:pt x="50" y="2205"/>
                  </a:lnTo>
                  <a:lnTo>
                    <a:pt x="57" y="2187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265560" y="3297240"/>
              <a:ext cx="877680" cy="888840"/>
            </a:xfrm>
            <a:custGeom>
              <a:avLst/>
              <a:gdLst/>
              <a:ahLst/>
              <a:rect l="l" t="t" r="r" b="b"/>
              <a:pathLst>
                <a:path w="3321" h="3360">
                  <a:moveTo>
                    <a:pt x="1062" y="2230"/>
                  </a:moveTo>
                  <a:lnTo>
                    <a:pt x="3288" y="0"/>
                  </a:lnTo>
                  <a:lnTo>
                    <a:pt x="3293" y="7"/>
                  </a:lnTo>
                  <a:lnTo>
                    <a:pt x="3296" y="14"/>
                  </a:lnTo>
                  <a:lnTo>
                    <a:pt x="3301" y="21"/>
                  </a:lnTo>
                  <a:lnTo>
                    <a:pt x="3305" y="28"/>
                  </a:lnTo>
                  <a:lnTo>
                    <a:pt x="3309" y="35"/>
                  </a:lnTo>
                  <a:lnTo>
                    <a:pt x="3313" y="43"/>
                  </a:lnTo>
                  <a:lnTo>
                    <a:pt x="3318" y="50"/>
                  </a:lnTo>
                  <a:lnTo>
                    <a:pt x="3321" y="57"/>
                  </a:lnTo>
                  <a:lnTo>
                    <a:pt x="995" y="2385"/>
                  </a:lnTo>
                  <a:lnTo>
                    <a:pt x="1004" y="2366"/>
                  </a:lnTo>
                  <a:lnTo>
                    <a:pt x="1013" y="2347"/>
                  </a:lnTo>
                  <a:lnTo>
                    <a:pt x="1021" y="2327"/>
                  </a:lnTo>
                  <a:lnTo>
                    <a:pt x="1030" y="2308"/>
                  </a:lnTo>
                  <a:lnTo>
                    <a:pt x="1038" y="2288"/>
                  </a:lnTo>
                  <a:lnTo>
                    <a:pt x="1045" y="2269"/>
                  </a:lnTo>
                  <a:lnTo>
                    <a:pt x="1053" y="2249"/>
                  </a:lnTo>
                  <a:lnTo>
                    <a:pt x="1062" y="2230"/>
                  </a:lnTo>
                  <a:close/>
                  <a:moveTo>
                    <a:pt x="46" y="3335"/>
                  </a:moveTo>
                  <a:lnTo>
                    <a:pt x="22" y="3360"/>
                  </a:lnTo>
                  <a:lnTo>
                    <a:pt x="19" y="3360"/>
                  </a:lnTo>
                  <a:lnTo>
                    <a:pt x="16" y="3360"/>
                  </a:lnTo>
                  <a:lnTo>
                    <a:pt x="14" y="3358"/>
                  </a:lnTo>
                  <a:lnTo>
                    <a:pt x="10" y="3358"/>
                  </a:lnTo>
                  <a:lnTo>
                    <a:pt x="8" y="3358"/>
                  </a:lnTo>
                  <a:lnTo>
                    <a:pt x="4" y="3358"/>
                  </a:lnTo>
                  <a:lnTo>
                    <a:pt x="2" y="3358"/>
                  </a:lnTo>
                  <a:lnTo>
                    <a:pt x="0" y="3358"/>
                  </a:lnTo>
                  <a:lnTo>
                    <a:pt x="5" y="3355"/>
                  </a:lnTo>
                  <a:lnTo>
                    <a:pt x="11" y="3352"/>
                  </a:lnTo>
                  <a:lnTo>
                    <a:pt x="17" y="3350"/>
                  </a:lnTo>
                  <a:lnTo>
                    <a:pt x="23" y="3346"/>
                  </a:lnTo>
                  <a:lnTo>
                    <a:pt x="28" y="3344"/>
                  </a:lnTo>
                  <a:lnTo>
                    <a:pt x="34" y="3341"/>
                  </a:lnTo>
                  <a:lnTo>
                    <a:pt x="40" y="3338"/>
                  </a:lnTo>
                  <a:lnTo>
                    <a:pt x="46" y="3335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265560" y="3303720"/>
              <a:ext cx="882720" cy="882360"/>
            </a:xfrm>
            <a:custGeom>
              <a:avLst/>
              <a:gdLst/>
              <a:ahLst/>
              <a:rect l="l" t="t" r="r" b="b"/>
              <a:pathLst>
                <a:path w="3338" h="3334">
                  <a:moveTo>
                    <a:pt x="1031" y="2277"/>
                  </a:moveTo>
                  <a:lnTo>
                    <a:pt x="3305" y="0"/>
                  </a:lnTo>
                  <a:lnTo>
                    <a:pt x="3309" y="7"/>
                  </a:lnTo>
                  <a:lnTo>
                    <a:pt x="3313" y="15"/>
                  </a:lnTo>
                  <a:lnTo>
                    <a:pt x="3318" y="22"/>
                  </a:lnTo>
                  <a:lnTo>
                    <a:pt x="3321" y="29"/>
                  </a:lnTo>
                  <a:lnTo>
                    <a:pt x="3325" y="36"/>
                  </a:lnTo>
                  <a:lnTo>
                    <a:pt x="3330" y="43"/>
                  </a:lnTo>
                  <a:lnTo>
                    <a:pt x="3333" y="50"/>
                  </a:lnTo>
                  <a:lnTo>
                    <a:pt x="3338" y="57"/>
                  </a:lnTo>
                  <a:lnTo>
                    <a:pt x="951" y="2445"/>
                  </a:lnTo>
                  <a:lnTo>
                    <a:pt x="962" y="2425"/>
                  </a:lnTo>
                  <a:lnTo>
                    <a:pt x="973" y="2404"/>
                  </a:lnTo>
                  <a:lnTo>
                    <a:pt x="983" y="2383"/>
                  </a:lnTo>
                  <a:lnTo>
                    <a:pt x="993" y="2362"/>
                  </a:lnTo>
                  <a:lnTo>
                    <a:pt x="1002" y="2341"/>
                  </a:lnTo>
                  <a:lnTo>
                    <a:pt x="1012" y="2319"/>
                  </a:lnTo>
                  <a:lnTo>
                    <a:pt x="1021" y="2298"/>
                  </a:lnTo>
                  <a:lnTo>
                    <a:pt x="1031" y="2277"/>
                  </a:lnTo>
                  <a:close/>
                  <a:moveTo>
                    <a:pt x="138" y="3259"/>
                  </a:moveTo>
                  <a:lnTo>
                    <a:pt x="65" y="3334"/>
                  </a:lnTo>
                  <a:lnTo>
                    <a:pt x="56" y="3333"/>
                  </a:lnTo>
                  <a:lnTo>
                    <a:pt x="48" y="3333"/>
                  </a:lnTo>
                  <a:lnTo>
                    <a:pt x="40" y="3333"/>
                  </a:lnTo>
                  <a:lnTo>
                    <a:pt x="32" y="3332"/>
                  </a:lnTo>
                  <a:lnTo>
                    <a:pt x="23" y="3332"/>
                  </a:lnTo>
                  <a:lnTo>
                    <a:pt x="15" y="3332"/>
                  </a:lnTo>
                  <a:lnTo>
                    <a:pt x="7" y="3330"/>
                  </a:lnTo>
                  <a:lnTo>
                    <a:pt x="0" y="3330"/>
                  </a:lnTo>
                  <a:lnTo>
                    <a:pt x="17" y="3322"/>
                  </a:lnTo>
                  <a:lnTo>
                    <a:pt x="35" y="3314"/>
                  </a:lnTo>
                  <a:lnTo>
                    <a:pt x="53" y="3304"/>
                  </a:lnTo>
                  <a:lnTo>
                    <a:pt x="70" y="3296"/>
                  </a:lnTo>
                  <a:lnTo>
                    <a:pt x="87" y="3286"/>
                  </a:lnTo>
                  <a:lnTo>
                    <a:pt x="104" y="3278"/>
                  </a:lnTo>
                  <a:lnTo>
                    <a:pt x="122" y="3269"/>
                  </a:lnTo>
                  <a:lnTo>
                    <a:pt x="138" y="325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70240" y="3311640"/>
              <a:ext cx="882720" cy="874440"/>
            </a:xfrm>
            <a:custGeom>
              <a:avLst/>
              <a:gdLst/>
              <a:ahLst/>
              <a:rect l="l" t="t" r="r" b="b"/>
              <a:pathLst>
                <a:path w="3332" h="3306">
                  <a:moveTo>
                    <a:pt x="0" y="3303"/>
                  </a:moveTo>
                  <a:lnTo>
                    <a:pt x="24" y="3278"/>
                  </a:lnTo>
                  <a:lnTo>
                    <a:pt x="50" y="3266"/>
                  </a:lnTo>
                  <a:lnTo>
                    <a:pt x="76" y="3253"/>
                  </a:lnTo>
                  <a:lnTo>
                    <a:pt x="101" y="3238"/>
                  </a:lnTo>
                  <a:lnTo>
                    <a:pt x="126" y="3225"/>
                  </a:lnTo>
                  <a:lnTo>
                    <a:pt x="151" y="3212"/>
                  </a:lnTo>
                  <a:lnTo>
                    <a:pt x="175" y="3198"/>
                  </a:lnTo>
                  <a:lnTo>
                    <a:pt x="198" y="3184"/>
                  </a:lnTo>
                  <a:lnTo>
                    <a:pt x="222" y="3169"/>
                  </a:lnTo>
                  <a:lnTo>
                    <a:pt x="86" y="3306"/>
                  </a:lnTo>
                  <a:lnTo>
                    <a:pt x="75" y="3306"/>
                  </a:lnTo>
                  <a:lnTo>
                    <a:pt x="64" y="3306"/>
                  </a:lnTo>
                  <a:lnTo>
                    <a:pt x="53" y="3305"/>
                  </a:lnTo>
                  <a:lnTo>
                    <a:pt x="43" y="3305"/>
                  </a:lnTo>
                  <a:lnTo>
                    <a:pt x="32" y="3304"/>
                  </a:lnTo>
                  <a:lnTo>
                    <a:pt x="21" y="3304"/>
                  </a:lnTo>
                  <a:lnTo>
                    <a:pt x="11" y="3303"/>
                  </a:lnTo>
                  <a:lnTo>
                    <a:pt x="0" y="3303"/>
                  </a:lnTo>
                  <a:close/>
                  <a:moveTo>
                    <a:pt x="973" y="2328"/>
                  </a:moveTo>
                  <a:lnTo>
                    <a:pt x="3299" y="0"/>
                  </a:lnTo>
                  <a:lnTo>
                    <a:pt x="3303" y="7"/>
                  </a:lnTo>
                  <a:lnTo>
                    <a:pt x="3308" y="14"/>
                  </a:lnTo>
                  <a:lnTo>
                    <a:pt x="3311" y="21"/>
                  </a:lnTo>
                  <a:lnTo>
                    <a:pt x="3316" y="28"/>
                  </a:lnTo>
                  <a:lnTo>
                    <a:pt x="3319" y="36"/>
                  </a:lnTo>
                  <a:lnTo>
                    <a:pt x="3324" y="43"/>
                  </a:lnTo>
                  <a:lnTo>
                    <a:pt x="3328" y="50"/>
                  </a:lnTo>
                  <a:lnTo>
                    <a:pt x="3332" y="57"/>
                  </a:lnTo>
                  <a:lnTo>
                    <a:pt x="871" y="2520"/>
                  </a:lnTo>
                  <a:lnTo>
                    <a:pt x="885" y="2496"/>
                  </a:lnTo>
                  <a:lnTo>
                    <a:pt x="898" y="2473"/>
                  </a:lnTo>
                  <a:lnTo>
                    <a:pt x="911" y="2450"/>
                  </a:lnTo>
                  <a:lnTo>
                    <a:pt x="925" y="2425"/>
                  </a:lnTo>
                  <a:lnTo>
                    <a:pt x="938" y="2401"/>
                  </a:lnTo>
                  <a:lnTo>
                    <a:pt x="949" y="2377"/>
                  </a:lnTo>
                  <a:lnTo>
                    <a:pt x="961" y="2352"/>
                  </a:lnTo>
                  <a:lnTo>
                    <a:pt x="973" y="232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81400" y="3319560"/>
              <a:ext cx="874800" cy="868320"/>
            </a:xfrm>
            <a:custGeom>
              <a:avLst/>
              <a:gdLst/>
              <a:ahLst/>
              <a:rect l="l" t="t" r="r" b="b"/>
              <a:pathLst>
                <a:path w="3305" h="3280">
                  <a:moveTo>
                    <a:pt x="0" y="3277"/>
                  </a:moveTo>
                  <a:lnTo>
                    <a:pt x="73" y="3202"/>
                  </a:lnTo>
                  <a:lnTo>
                    <a:pt x="105" y="3185"/>
                  </a:lnTo>
                  <a:lnTo>
                    <a:pt x="136" y="3166"/>
                  </a:lnTo>
                  <a:lnTo>
                    <a:pt x="167" y="3149"/>
                  </a:lnTo>
                  <a:lnTo>
                    <a:pt x="198" y="3130"/>
                  </a:lnTo>
                  <a:lnTo>
                    <a:pt x="228" y="3112"/>
                  </a:lnTo>
                  <a:lnTo>
                    <a:pt x="256" y="3092"/>
                  </a:lnTo>
                  <a:lnTo>
                    <a:pt x="285" y="3073"/>
                  </a:lnTo>
                  <a:lnTo>
                    <a:pt x="312" y="3054"/>
                  </a:lnTo>
                  <a:lnTo>
                    <a:pt x="85" y="3280"/>
                  </a:lnTo>
                  <a:lnTo>
                    <a:pt x="75" y="3280"/>
                  </a:lnTo>
                  <a:lnTo>
                    <a:pt x="64" y="3279"/>
                  </a:lnTo>
                  <a:lnTo>
                    <a:pt x="53" y="3279"/>
                  </a:lnTo>
                  <a:lnTo>
                    <a:pt x="43" y="3278"/>
                  </a:lnTo>
                  <a:lnTo>
                    <a:pt x="32" y="3278"/>
                  </a:lnTo>
                  <a:lnTo>
                    <a:pt x="21" y="3278"/>
                  </a:lnTo>
                  <a:lnTo>
                    <a:pt x="10" y="3277"/>
                  </a:lnTo>
                  <a:lnTo>
                    <a:pt x="0" y="3277"/>
                  </a:lnTo>
                  <a:close/>
                  <a:moveTo>
                    <a:pt x="886" y="2388"/>
                  </a:moveTo>
                  <a:lnTo>
                    <a:pt x="3273" y="0"/>
                  </a:lnTo>
                  <a:lnTo>
                    <a:pt x="3276" y="8"/>
                  </a:lnTo>
                  <a:lnTo>
                    <a:pt x="3281" y="15"/>
                  </a:lnTo>
                  <a:lnTo>
                    <a:pt x="3285" y="22"/>
                  </a:lnTo>
                  <a:lnTo>
                    <a:pt x="3289" y="28"/>
                  </a:lnTo>
                  <a:lnTo>
                    <a:pt x="3293" y="36"/>
                  </a:lnTo>
                  <a:lnTo>
                    <a:pt x="3297" y="43"/>
                  </a:lnTo>
                  <a:lnTo>
                    <a:pt x="3301" y="50"/>
                  </a:lnTo>
                  <a:lnTo>
                    <a:pt x="3305" y="57"/>
                  </a:lnTo>
                  <a:lnTo>
                    <a:pt x="743" y="2621"/>
                  </a:lnTo>
                  <a:lnTo>
                    <a:pt x="763" y="2594"/>
                  </a:lnTo>
                  <a:lnTo>
                    <a:pt x="782" y="2565"/>
                  </a:lnTo>
                  <a:lnTo>
                    <a:pt x="801" y="2536"/>
                  </a:lnTo>
                  <a:lnTo>
                    <a:pt x="819" y="2507"/>
                  </a:lnTo>
                  <a:lnTo>
                    <a:pt x="836" y="2477"/>
                  </a:lnTo>
                  <a:lnTo>
                    <a:pt x="854" y="2449"/>
                  </a:lnTo>
                  <a:lnTo>
                    <a:pt x="871" y="2419"/>
                  </a:lnTo>
                  <a:lnTo>
                    <a:pt x="886" y="2388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94000" y="3327480"/>
              <a:ext cx="866880" cy="860400"/>
            </a:xfrm>
            <a:custGeom>
              <a:avLst/>
              <a:gdLst/>
              <a:ahLst/>
              <a:rect l="l" t="t" r="r" b="b"/>
              <a:pathLst>
                <a:path w="3279" h="3254">
                  <a:moveTo>
                    <a:pt x="0" y="3249"/>
                  </a:moveTo>
                  <a:lnTo>
                    <a:pt x="136" y="3112"/>
                  </a:lnTo>
                  <a:lnTo>
                    <a:pt x="189" y="3078"/>
                  </a:lnTo>
                  <a:lnTo>
                    <a:pt x="243" y="3044"/>
                  </a:lnTo>
                  <a:lnTo>
                    <a:pt x="293" y="3007"/>
                  </a:lnTo>
                  <a:lnTo>
                    <a:pt x="341" y="2970"/>
                  </a:lnTo>
                  <a:lnTo>
                    <a:pt x="388" y="2932"/>
                  </a:lnTo>
                  <a:lnTo>
                    <a:pt x="431" y="2893"/>
                  </a:lnTo>
                  <a:lnTo>
                    <a:pt x="474" y="2853"/>
                  </a:lnTo>
                  <a:lnTo>
                    <a:pt x="516" y="2813"/>
                  </a:lnTo>
                  <a:lnTo>
                    <a:pt x="555" y="2772"/>
                  </a:lnTo>
                  <a:lnTo>
                    <a:pt x="593" y="2730"/>
                  </a:lnTo>
                  <a:lnTo>
                    <a:pt x="628" y="2687"/>
                  </a:lnTo>
                  <a:lnTo>
                    <a:pt x="663" y="2643"/>
                  </a:lnTo>
                  <a:lnTo>
                    <a:pt x="695" y="2599"/>
                  </a:lnTo>
                  <a:lnTo>
                    <a:pt x="727" y="2554"/>
                  </a:lnTo>
                  <a:lnTo>
                    <a:pt x="757" y="2509"/>
                  </a:lnTo>
                  <a:lnTo>
                    <a:pt x="785" y="2463"/>
                  </a:lnTo>
                  <a:lnTo>
                    <a:pt x="3246" y="0"/>
                  </a:lnTo>
                  <a:lnTo>
                    <a:pt x="3250" y="7"/>
                  </a:lnTo>
                  <a:lnTo>
                    <a:pt x="3254" y="14"/>
                  </a:lnTo>
                  <a:lnTo>
                    <a:pt x="3258" y="21"/>
                  </a:lnTo>
                  <a:lnTo>
                    <a:pt x="3262" y="27"/>
                  </a:lnTo>
                  <a:lnTo>
                    <a:pt x="3267" y="36"/>
                  </a:lnTo>
                  <a:lnTo>
                    <a:pt x="3270" y="43"/>
                  </a:lnTo>
                  <a:lnTo>
                    <a:pt x="3275" y="50"/>
                  </a:lnTo>
                  <a:lnTo>
                    <a:pt x="3279" y="57"/>
                  </a:lnTo>
                  <a:lnTo>
                    <a:pt x="84" y="3254"/>
                  </a:lnTo>
                  <a:lnTo>
                    <a:pt x="73" y="3254"/>
                  </a:lnTo>
                  <a:lnTo>
                    <a:pt x="64" y="3253"/>
                  </a:lnTo>
                  <a:lnTo>
                    <a:pt x="53" y="3253"/>
                  </a:lnTo>
                  <a:lnTo>
                    <a:pt x="42" y="3251"/>
                  </a:lnTo>
                  <a:lnTo>
                    <a:pt x="32" y="3251"/>
                  </a:lnTo>
                  <a:lnTo>
                    <a:pt x="21" y="3250"/>
                  </a:lnTo>
                  <a:lnTo>
                    <a:pt x="10" y="3250"/>
                  </a:lnTo>
                  <a:lnTo>
                    <a:pt x="0" y="3249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305160" y="3333600"/>
              <a:ext cx="860400" cy="854280"/>
            </a:xfrm>
            <a:custGeom>
              <a:avLst/>
              <a:gdLst/>
              <a:ahLst/>
              <a:rect l="l" t="t" r="r" b="b"/>
              <a:pathLst>
                <a:path w="3253" h="3228">
                  <a:moveTo>
                    <a:pt x="0" y="3223"/>
                  </a:moveTo>
                  <a:lnTo>
                    <a:pt x="227" y="2997"/>
                  </a:lnTo>
                  <a:lnTo>
                    <a:pt x="260" y="2972"/>
                  </a:lnTo>
                  <a:lnTo>
                    <a:pt x="292" y="2947"/>
                  </a:lnTo>
                  <a:lnTo>
                    <a:pt x="323" y="2922"/>
                  </a:lnTo>
                  <a:lnTo>
                    <a:pt x="354" y="2897"/>
                  </a:lnTo>
                  <a:lnTo>
                    <a:pt x="384" y="2871"/>
                  </a:lnTo>
                  <a:lnTo>
                    <a:pt x="412" y="2844"/>
                  </a:lnTo>
                  <a:lnTo>
                    <a:pt x="439" y="2818"/>
                  </a:lnTo>
                  <a:lnTo>
                    <a:pt x="467" y="2791"/>
                  </a:lnTo>
                  <a:lnTo>
                    <a:pt x="494" y="2764"/>
                  </a:lnTo>
                  <a:lnTo>
                    <a:pt x="519" y="2736"/>
                  </a:lnTo>
                  <a:lnTo>
                    <a:pt x="544" y="2709"/>
                  </a:lnTo>
                  <a:lnTo>
                    <a:pt x="569" y="2681"/>
                  </a:lnTo>
                  <a:lnTo>
                    <a:pt x="591" y="2652"/>
                  </a:lnTo>
                  <a:lnTo>
                    <a:pt x="615" y="2624"/>
                  </a:lnTo>
                  <a:lnTo>
                    <a:pt x="636" y="2594"/>
                  </a:lnTo>
                  <a:lnTo>
                    <a:pt x="658" y="2564"/>
                  </a:lnTo>
                  <a:lnTo>
                    <a:pt x="3220" y="0"/>
                  </a:lnTo>
                  <a:lnTo>
                    <a:pt x="3225" y="8"/>
                  </a:lnTo>
                  <a:lnTo>
                    <a:pt x="3228" y="15"/>
                  </a:lnTo>
                  <a:lnTo>
                    <a:pt x="3232" y="22"/>
                  </a:lnTo>
                  <a:lnTo>
                    <a:pt x="3237" y="28"/>
                  </a:lnTo>
                  <a:lnTo>
                    <a:pt x="3240" y="36"/>
                  </a:lnTo>
                  <a:lnTo>
                    <a:pt x="3245" y="43"/>
                  </a:lnTo>
                  <a:lnTo>
                    <a:pt x="3248" y="50"/>
                  </a:lnTo>
                  <a:lnTo>
                    <a:pt x="3253" y="57"/>
                  </a:lnTo>
                  <a:lnTo>
                    <a:pt x="84" y="3228"/>
                  </a:lnTo>
                  <a:lnTo>
                    <a:pt x="74" y="3227"/>
                  </a:lnTo>
                  <a:lnTo>
                    <a:pt x="63" y="3227"/>
                  </a:lnTo>
                  <a:lnTo>
                    <a:pt x="52" y="3227"/>
                  </a:lnTo>
                  <a:lnTo>
                    <a:pt x="42" y="3226"/>
                  </a:lnTo>
                  <a:lnTo>
                    <a:pt x="32" y="3226"/>
                  </a:lnTo>
                  <a:lnTo>
                    <a:pt x="22" y="3225"/>
                  </a:lnTo>
                  <a:lnTo>
                    <a:pt x="11" y="3225"/>
                  </a:lnTo>
                  <a:lnTo>
                    <a:pt x="0" y="3223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316320" y="3341520"/>
              <a:ext cx="852480" cy="847800"/>
            </a:xfrm>
            <a:custGeom>
              <a:avLst/>
              <a:gdLst/>
              <a:ahLst/>
              <a:rect l="l" t="t" r="r" b="b"/>
              <a:pathLst>
                <a:path w="3227" h="3202">
                  <a:moveTo>
                    <a:pt x="0" y="3197"/>
                  </a:moveTo>
                  <a:lnTo>
                    <a:pt x="3195" y="0"/>
                  </a:lnTo>
                  <a:lnTo>
                    <a:pt x="3198" y="7"/>
                  </a:lnTo>
                  <a:lnTo>
                    <a:pt x="3203" y="14"/>
                  </a:lnTo>
                  <a:lnTo>
                    <a:pt x="3206" y="21"/>
                  </a:lnTo>
                  <a:lnTo>
                    <a:pt x="3211" y="28"/>
                  </a:lnTo>
                  <a:lnTo>
                    <a:pt x="3215" y="36"/>
                  </a:lnTo>
                  <a:lnTo>
                    <a:pt x="3218" y="43"/>
                  </a:lnTo>
                  <a:lnTo>
                    <a:pt x="3223" y="50"/>
                  </a:lnTo>
                  <a:lnTo>
                    <a:pt x="3227" y="57"/>
                  </a:lnTo>
                  <a:lnTo>
                    <a:pt x="85" y="3202"/>
                  </a:lnTo>
                  <a:lnTo>
                    <a:pt x="75" y="3200"/>
                  </a:lnTo>
                  <a:lnTo>
                    <a:pt x="64" y="3200"/>
                  </a:lnTo>
                  <a:lnTo>
                    <a:pt x="53" y="3199"/>
                  </a:lnTo>
                  <a:lnTo>
                    <a:pt x="42" y="3199"/>
                  </a:lnTo>
                  <a:lnTo>
                    <a:pt x="32" y="3198"/>
                  </a:lnTo>
                  <a:lnTo>
                    <a:pt x="21" y="3198"/>
                  </a:lnTo>
                  <a:lnTo>
                    <a:pt x="10" y="3197"/>
                  </a:lnTo>
                  <a:lnTo>
                    <a:pt x="0" y="3197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327480" y="3349800"/>
              <a:ext cx="846000" cy="839520"/>
            </a:xfrm>
            <a:custGeom>
              <a:avLst/>
              <a:gdLst/>
              <a:ahLst/>
              <a:rect l="l" t="t" r="r" b="b"/>
              <a:pathLst>
                <a:path w="3201" h="3175">
                  <a:moveTo>
                    <a:pt x="0" y="3171"/>
                  </a:moveTo>
                  <a:lnTo>
                    <a:pt x="3169" y="0"/>
                  </a:lnTo>
                  <a:lnTo>
                    <a:pt x="3173" y="8"/>
                  </a:lnTo>
                  <a:lnTo>
                    <a:pt x="3176" y="15"/>
                  </a:lnTo>
                  <a:lnTo>
                    <a:pt x="3181" y="22"/>
                  </a:lnTo>
                  <a:lnTo>
                    <a:pt x="3185" y="29"/>
                  </a:lnTo>
                  <a:lnTo>
                    <a:pt x="3188" y="36"/>
                  </a:lnTo>
                  <a:lnTo>
                    <a:pt x="3193" y="43"/>
                  </a:lnTo>
                  <a:lnTo>
                    <a:pt x="3196" y="50"/>
                  </a:lnTo>
                  <a:lnTo>
                    <a:pt x="3201" y="57"/>
                  </a:lnTo>
                  <a:lnTo>
                    <a:pt x="86" y="3175"/>
                  </a:lnTo>
                  <a:lnTo>
                    <a:pt x="75" y="3175"/>
                  </a:lnTo>
                  <a:lnTo>
                    <a:pt x="65" y="3175"/>
                  </a:lnTo>
                  <a:lnTo>
                    <a:pt x="54" y="3174"/>
                  </a:lnTo>
                  <a:lnTo>
                    <a:pt x="43" y="3174"/>
                  </a:lnTo>
                  <a:lnTo>
                    <a:pt x="33" y="3172"/>
                  </a:lnTo>
                  <a:lnTo>
                    <a:pt x="22" y="3172"/>
                  </a:lnTo>
                  <a:lnTo>
                    <a:pt x="11" y="3171"/>
                  </a:lnTo>
                  <a:lnTo>
                    <a:pt x="0" y="3171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338640" y="3357720"/>
              <a:ext cx="839520" cy="831600"/>
            </a:xfrm>
            <a:custGeom>
              <a:avLst/>
              <a:gdLst/>
              <a:ahLst/>
              <a:rect l="l" t="t" r="r" b="b"/>
              <a:pathLst>
                <a:path w="3174" h="3148">
                  <a:moveTo>
                    <a:pt x="0" y="3145"/>
                  </a:moveTo>
                  <a:lnTo>
                    <a:pt x="3142" y="0"/>
                  </a:lnTo>
                  <a:lnTo>
                    <a:pt x="3146" y="7"/>
                  </a:lnTo>
                  <a:lnTo>
                    <a:pt x="3150" y="14"/>
                  </a:lnTo>
                  <a:lnTo>
                    <a:pt x="3153" y="21"/>
                  </a:lnTo>
                  <a:lnTo>
                    <a:pt x="3158" y="28"/>
                  </a:lnTo>
                  <a:lnTo>
                    <a:pt x="3162" y="36"/>
                  </a:lnTo>
                  <a:lnTo>
                    <a:pt x="3165" y="43"/>
                  </a:lnTo>
                  <a:lnTo>
                    <a:pt x="3170" y="50"/>
                  </a:lnTo>
                  <a:lnTo>
                    <a:pt x="3174" y="57"/>
                  </a:lnTo>
                  <a:lnTo>
                    <a:pt x="86" y="3148"/>
                  </a:lnTo>
                  <a:lnTo>
                    <a:pt x="75" y="3148"/>
                  </a:lnTo>
                  <a:lnTo>
                    <a:pt x="64" y="3147"/>
                  </a:lnTo>
                  <a:lnTo>
                    <a:pt x="54" y="3147"/>
                  </a:lnTo>
                  <a:lnTo>
                    <a:pt x="43" y="3147"/>
                  </a:lnTo>
                  <a:lnTo>
                    <a:pt x="32" y="3146"/>
                  </a:lnTo>
                  <a:lnTo>
                    <a:pt x="22" y="3146"/>
                  </a:lnTo>
                  <a:lnTo>
                    <a:pt x="11" y="3145"/>
                  </a:lnTo>
                  <a:lnTo>
                    <a:pt x="0" y="3145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349800" y="3363840"/>
              <a:ext cx="833400" cy="827280"/>
            </a:xfrm>
            <a:custGeom>
              <a:avLst/>
              <a:gdLst/>
              <a:ahLst/>
              <a:rect l="l" t="t" r="r" b="b"/>
              <a:pathLst>
                <a:path w="3147" h="3123">
                  <a:moveTo>
                    <a:pt x="0" y="3118"/>
                  </a:moveTo>
                  <a:lnTo>
                    <a:pt x="3115" y="0"/>
                  </a:lnTo>
                  <a:lnTo>
                    <a:pt x="3119" y="8"/>
                  </a:lnTo>
                  <a:lnTo>
                    <a:pt x="3122" y="15"/>
                  </a:lnTo>
                  <a:lnTo>
                    <a:pt x="3127" y="22"/>
                  </a:lnTo>
                  <a:lnTo>
                    <a:pt x="3131" y="29"/>
                  </a:lnTo>
                  <a:lnTo>
                    <a:pt x="3135" y="36"/>
                  </a:lnTo>
                  <a:lnTo>
                    <a:pt x="3139" y="43"/>
                  </a:lnTo>
                  <a:lnTo>
                    <a:pt x="3142" y="50"/>
                  </a:lnTo>
                  <a:lnTo>
                    <a:pt x="3147" y="57"/>
                  </a:lnTo>
                  <a:lnTo>
                    <a:pt x="85" y="3123"/>
                  </a:lnTo>
                  <a:lnTo>
                    <a:pt x="75" y="3123"/>
                  </a:lnTo>
                  <a:lnTo>
                    <a:pt x="64" y="3121"/>
                  </a:lnTo>
                  <a:lnTo>
                    <a:pt x="53" y="3121"/>
                  </a:lnTo>
                  <a:lnTo>
                    <a:pt x="43" y="3120"/>
                  </a:lnTo>
                  <a:lnTo>
                    <a:pt x="32" y="3120"/>
                  </a:lnTo>
                  <a:lnTo>
                    <a:pt x="21" y="3119"/>
                  </a:lnTo>
                  <a:lnTo>
                    <a:pt x="11" y="3119"/>
                  </a:lnTo>
                  <a:lnTo>
                    <a:pt x="0" y="3118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360600" y="3371760"/>
              <a:ext cx="825480" cy="819360"/>
            </a:xfrm>
            <a:custGeom>
              <a:avLst/>
              <a:gdLst/>
              <a:ahLst/>
              <a:rect l="l" t="t" r="r" b="b"/>
              <a:pathLst>
                <a:path w="3120" h="3096">
                  <a:moveTo>
                    <a:pt x="0" y="3091"/>
                  </a:moveTo>
                  <a:lnTo>
                    <a:pt x="3088" y="0"/>
                  </a:lnTo>
                  <a:lnTo>
                    <a:pt x="3092" y="7"/>
                  </a:lnTo>
                  <a:lnTo>
                    <a:pt x="3096" y="14"/>
                  </a:lnTo>
                  <a:lnTo>
                    <a:pt x="3099" y="21"/>
                  </a:lnTo>
                  <a:lnTo>
                    <a:pt x="3104" y="28"/>
                  </a:lnTo>
                  <a:lnTo>
                    <a:pt x="3108" y="36"/>
                  </a:lnTo>
                  <a:lnTo>
                    <a:pt x="3111" y="43"/>
                  </a:lnTo>
                  <a:lnTo>
                    <a:pt x="3116" y="50"/>
                  </a:lnTo>
                  <a:lnTo>
                    <a:pt x="3120" y="57"/>
                  </a:lnTo>
                  <a:lnTo>
                    <a:pt x="84" y="3096"/>
                  </a:lnTo>
                  <a:lnTo>
                    <a:pt x="73" y="3096"/>
                  </a:lnTo>
                  <a:lnTo>
                    <a:pt x="64" y="3095"/>
                  </a:lnTo>
                  <a:lnTo>
                    <a:pt x="53" y="3095"/>
                  </a:lnTo>
                  <a:lnTo>
                    <a:pt x="42" y="3094"/>
                  </a:lnTo>
                  <a:lnTo>
                    <a:pt x="32" y="3094"/>
                  </a:lnTo>
                  <a:lnTo>
                    <a:pt x="21" y="3092"/>
                  </a:lnTo>
                  <a:lnTo>
                    <a:pt x="10" y="3092"/>
                  </a:lnTo>
                  <a:lnTo>
                    <a:pt x="0" y="3091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371760" y="3379680"/>
              <a:ext cx="819360" cy="812880"/>
            </a:xfrm>
            <a:custGeom>
              <a:avLst/>
              <a:gdLst/>
              <a:ahLst/>
              <a:rect l="l" t="t" r="r" b="b"/>
              <a:pathLst>
                <a:path w="3094" h="3070">
                  <a:moveTo>
                    <a:pt x="0" y="3066"/>
                  </a:moveTo>
                  <a:lnTo>
                    <a:pt x="3062" y="0"/>
                  </a:lnTo>
                  <a:lnTo>
                    <a:pt x="3066" y="8"/>
                  </a:lnTo>
                  <a:lnTo>
                    <a:pt x="3069" y="15"/>
                  </a:lnTo>
                  <a:lnTo>
                    <a:pt x="3074" y="22"/>
                  </a:lnTo>
                  <a:lnTo>
                    <a:pt x="3078" y="29"/>
                  </a:lnTo>
                  <a:lnTo>
                    <a:pt x="3081" y="37"/>
                  </a:lnTo>
                  <a:lnTo>
                    <a:pt x="3086" y="44"/>
                  </a:lnTo>
                  <a:lnTo>
                    <a:pt x="3090" y="52"/>
                  </a:lnTo>
                  <a:lnTo>
                    <a:pt x="3094" y="59"/>
                  </a:lnTo>
                  <a:lnTo>
                    <a:pt x="85" y="3070"/>
                  </a:lnTo>
                  <a:lnTo>
                    <a:pt x="74" y="3069"/>
                  </a:lnTo>
                  <a:lnTo>
                    <a:pt x="63" y="3069"/>
                  </a:lnTo>
                  <a:lnTo>
                    <a:pt x="53" y="3069"/>
                  </a:lnTo>
                  <a:lnTo>
                    <a:pt x="43" y="3068"/>
                  </a:lnTo>
                  <a:lnTo>
                    <a:pt x="32" y="3068"/>
                  </a:lnTo>
                  <a:lnTo>
                    <a:pt x="22" y="3067"/>
                  </a:lnTo>
                  <a:lnTo>
                    <a:pt x="11" y="3067"/>
                  </a:lnTo>
                  <a:lnTo>
                    <a:pt x="0" y="306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82920" y="3387600"/>
              <a:ext cx="811080" cy="804960"/>
            </a:xfrm>
            <a:custGeom>
              <a:avLst/>
              <a:gdLst/>
              <a:ahLst/>
              <a:rect l="l" t="t" r="r" b="b"/>
              <a:pathLst>
                <a:path w="3068" h="3044">
                  <a:moveTo>
                    <a:pt x="0" y="3039"/>
                  </a:moveTo>
                  <a:lnTo>
                    <a:pt x="3036" y="0"/>
                  </a:lnTo>
                  <a:lnTo>
                    <a:pt x="3039" y="8"/>
                  </a:lnTo>
                  <a:lnTo>
                    <a:pt x="3044" y="15"/>
                  </a:lnTo>
                  <a:lnTo>
                    <a:pt x="3048" y="23"/>
                  </a:lnTo>
                  <a:lnTo>
                    <a:pt x="3051" y="30"/>
                  </a:lnTo>
                  <a:lnTo>
                    <a:pt x="3056" y="37"/>
                  </a:lnTo>
                  <a:lnTo>
                    <a:pt x="3059" y="44"/>
                  </a:lnTo>
                  <a:lnTo>
                    <a:pt x="3063" y="51"/>
                  </a:lnTo>
                  <a:lnTo>
                    <a:pt x="3068" y="58"/>
                  </a:lnTo>
                  <a:lnTo>
                    <a:pt x="85" y="3044"/>
                  </a:lnTo>
                  <a:lnTo>
                    <a:pt x="75" y="3042"/>
                  </a:lnTo>
                  <a:lnTo>
                    <a:pt x="64" y="3042"/>
                  </a:lnTo>
                  <a:lnTo>
                    <a:pt x="53" y="3041"/>
                  </a:lnTo>
                  <a:lnTo>
                    <a:pt x="43" y="3041"/>
                  </a:lnTo>
                  <a:lnTo>
                    <a:pt x="32" y="3040"/>
                  </a:lnTo>
                  <a:lnTo>
                    <a:pt x="21" y="3040"/>
                  </a:lnTo>
                  <a:lnTo>
                    <a:pt x="11" y="3040"/>
                  </a:lnTo>
                  <a:lnTo>
                    <a:pt x="0" y="3039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94080" y="3395520"/>
              <a:ext cx="804960" cy="797040"/>
            </a:xfrm>
            <a:custGeom>
              <a:avLst/>
              <a:gdLst/>
              <a:ahLst/>
              <a:rect l="l" t="t" r="r" b="b"/>
              <a:pathLst>
                <a:path w="3040" h="3016">
                  <a:moveTo>
                    <a:pt x="0" y="3011"/>
                  </a:moveTo>
                  <a:lnTo>
                    <a:pt x="3009" y="0"/>
                  </a:lnTo>
                  <a:lnTo>
                    <a:pt x="3013" y="7"/>
                  </a:lnTo>
                  <a:lnTo>
                    <a:pt x="3016" y="14"/>
                  </a:lnTo>
                  <a:lnTo>
                    <a:pt x="3020" y="21"/>
                  </a:lnTo>
                  <a:lnTo>
                    <a:pt x="3025" y="28"/>
                  </a:lnTo>
                  <a:lnTo>
                    <a:pt x="3028" y="35"/>
                  </a:lnTo>
                  <a:lnTo>
                    <a:pt x="3032" y="42"/>
                  </a:lnTo>
                  <a:lnTo>
                    <a:pt x="3037" y="50"/>
                  </a:lnTo>
                  <a:lnTo>
                    <a:pt x="3040" y="57"/>
                  </a:lnTo>
                  <a:lnTo>
                    <a:pt x="85" y="3016"/>
                  </a:lnTo>
                  <a:lnTo>
                    <a:pt x="74" y="3015"/>
                  </a:lnTo>
                  <a:lnTo>
                    <a:pt x="64" y="3015"/>
                  </a:lnTo>
                  <a:lnTo>
                    <a:pt x="53" y="3014"/>
                  </a:lnTo>
                  <a:lnTo>
                    <a:pt x="42" y="3014"/>
                  </a:lnTo>
                  <a:lnTo>
                    <a:pt x="32" y="3012"/>
                  </a:lnTo>
                  <a:lnTo>
                    <a:pt x="21" y="3012"/>
                  </a:lnTo>
                  <a:lnTo>
                    <a:pt x="10" y="3011"/>
                  </a:lnTo>
                  <a:lnTo>
                    <a:pt x="0" y="3011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05240" y="3402000"/>
              <a:ext cx="798480" cy="792000"/>
            </a:xfrm>
            <a:custGeom>
              <a:avLst/>
              <a:gdLst/>
              <a:ahLst/>
              <a:rect l="l" t="t" r="r" b="b"/>
              <a:pathLst>
                <a:path w="3014" h="2990">
                  <a:moveTo>
                    <a:pt x="0" y="2986"/>
                  </a:moveTo>
                  <a:lnTo>
                    <a:pt x="2983" y="0"/>
                  </a:lnTo>
                  <a:lnTo>
                    <a:pt x="2986" y="7"/>
                  </a:lnTo>
                  <a:lnTo>
                    <a:pt x="2990" y="14"/>
                  </a:lnTo>
                  <a:lnTo>
                    <a:pt x="2995" y="22"/>
                  </a:lnTo>
                  <a:lnTo>
                    <a:pt x="2998" y="29"/>
                  </a:lnTo>
                  <a:lnTo>
                    <a:pt x="3002" y="37"/>
                  </a:lnTo>
                  <a:lnTo>
                    <a:pt x="3006" y="44"/>
                  </a:lnTo>
                  <a:lnTo>
                    <a:pt x="3010" y="51"/>
                  </a:lnTo>
                  <a:lnTo>
                    <a:pt x="3014" y="58"/>
                  </a:lnTo>
                  <a:lnTo>
                    <a:pt x="86" y="2990"/>
                  </a:lnTo>
                  <a:lnTo>
                    <a:pt x="75" y="2989"/>
                  </a:lnTo>
                  <a:lnTo>
                    <a:pt x="64" y="2989"/>
                  </a:lnTo>
                  <a:lnTo>
                    <a:pt x="54" y="2988"/>
                  </a:lnTo>
                  <a:lnTo>
                    <a:pt x="43" y="2988"/>
                  </a:lnTo>
                  <a:lnTo>
                    <a:pt x="32" y="2987"/>
                  </a:lnTo>
                  <a:lnTo>
                    <a:pt x="22" y="2987"/>
                  </a:lnTo>
                  <a:lnTo>
                    <a:pt x="11" y="2986"/>
                  </a:lnTo>
                  <a:lnTo>
                    <a:pt x="0" y="2986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7840" y="3409920"/>
              <a:ext cx="789120" cy="784080"/>
            </a:xfrm>
            <a:custGeom>
              <a:avLst/>
              <a:gdLst/>
              <a:ahLst/>
              <a:rect l="l" t="t" r="r" b="b"/>
              <a:pathLst>
                <a:path w="2987" h="2964">
                  <a:moveTo>
                    <a:pt x="0" y="2959"/>
                  </a:moveTo>
                  <a:lnTo>
                    <a:pt x="2955" y="0"/>
                  </a:lnTo>
                  <a:lnTo>
                    <a:pt x="2959" y="8"/>
                  </a:lnTo>
                  <a:lnTo>
                    <a:pt x="2963" y="15"/>
                  </a:lnTo>
                  <a:lnTo>
                    <a:pt x="2967" y="22"/>
                  </a:lnTo>
                  <a:lnTo>
                    <a:pt x="2971" y="29"/>
                  </a:lnTo>
                  <a:lnTo>
                    <a:pt x="2975" y="37"/>
                  </a:lnTo>
                  <a:lnTo>
                    <a:pt x="2979" y="44"/>
                  </a:lnTo>
                  <a:lnTo>
                    <a:pt x="2982" y="51"/>
                  </a:lnTo>
                  <a:lnTo>
                    <a:pt x="2987" y="58"/>
                  </a:lnTo>
                  <a:lnTo>
                    <a:pt x="84" y="2964"/>
                  </a:lnTo>
                  <a:lnTo>
                    <a:pt x="74" y="2963"/>
                  </a:lnTo>
                  <a:lnTo>
                    <a:pt x="64" y="2963"/>
                  </a:lnTo>
                  <a:lnTo>
                    <a:pt x="53" y="2961"/>
                  </a:lnTo>
                  <a:lnTo>
                    <a:pt x="43" y="2961"/>
                  </a:lnTo>
                  <a:lnTo>
                    <a:pt x="32" y="2960"/>
                  </a:lnTo>
                  <a:lnTo>
                    <a:pt x="21" y="2960"/>
                  </a:lnTo>
                  <a:lnTo>
                    <a:pt x="11" y="2959"/>
                  </a:lnTo>
                  <a:lnTo>
                    <a:pt x="0" y="2959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29000" y="3417840"/>
              <a:ext cx="782640" cy="777960"/>
            </a:xfrm>
            <a:custGeom>
              <a:avLst/>
              <a:gdLst/>
              <a:ahLst/>
              <a:rect l="l" t="t" r="r" b="b"/>
              <a:pathLst>
                <a:path w="2960" h="2937">
                  <a:moveTo>
                    <a:pt x="0" y="2932"/>
                  </a:moveTo>
                  <a:lnTo>
                    <a:pt x="2928" y="0"/>
                  </a:lnTo>
                  <a:lnTo>
                    <a:pt x="2932" y="8"/>
                  </a:lnTo>
                  <a:lnTo>
                    <a:pt x="2936" y="15"/>
                  </a:lnTo>
                  <a:lnTo>
                    <a:pt x="2939" y="22"/>
                  </a:lnTo>
                  <a:lnTo>
                    <a:pt x="2944" y="29"/>
                  </a:lnTo>
                  <a:lnTo>
                    <a:pt x="2948" y="37"/>
                  </a:lnTo>
                  <a:lnTo>
                    <a:pt x="2951" y="44"/>
                  </a:lnTo>
                  <a:lnTo>
                    <a:pt x="2955" y="52"/>
                  </a:lnTo>
                  <a:lnTo>
                    <a:pt x="2960" y="59"/>
                  </a:lnTo>
                  <a:lnTo>
                    <a:pt x="84" y="2937"/>
                  </a:lnTo>
                  <a:lnTo>
                    <a:pt x="73" y="2936"/>
                  </a:lnTo>
                  <a:lnTo>
                    <a:pt x="63" y="2936"/>
                  </a:lnTo>
                  <a:lnTo>
                    <a:pt x="52" y="2935"/>
                  </a:lnTo>
                  <a:lnTo>
                    <a:pt x="41" y="2935"/>
                  </a:lnTo>
                  <a:lnTo>
                    <a:pt x="31" y="2934"/>
                  </a:lnTo>
                  <a:lnTo>
                    <a:pt x="21" y="2934"/>
                  </a:lnTo>
                  <a:lnTo>
                    <a:pt x="10" y="2932"/>
                  </a:lnTo>
                  <a:lnTo>
                    <a:pt x="0" y="2932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0160" y="3425760"/>
              <a:ext cx="776160" cy="770040"/>
            </a:xfrm>
            <a:custGeom>
              <a:avLst/>
              <a:gdLst/>
              <a:ahLst/>
              <a:rect l="l" t="t" r="r" b="b"/>
              <a:pathLst>
                <a:path w="2934" h="2911">
                  <a:moveTo>
                    <a:pt x="0" y="2906"/>
                  </a:moveTo>
                  <a:lnTo>
                    <a:pt x="2903" y="0"/>
                  </a:lnTo>
                  <a:lnTo>
                    <a:pt x="2907" y="8"/>
                  </a:lnTo>
                  <a:lnTo>
                    <a:pt x="2910" y="15"/>
                  </a:lnTo>
                  <a:lnTo>
                    <a:pt x="2914" y="23"/>
                  </a:lnTo>
                  <a:lnTo>
                    <a:pt x="2919" y="30"/>
                  </a:lnTo>
                  <a:lnTo>
                    <a:pt x="2922" y="37"/>
                  </a:lnTo>
                  <a:lnTo>
                    <a:pt x="2926" y="44"/>
                  </a:lnTo>
                  <a:lnTo>
                    <a:pt x="2930" y="51"/>
                  </a:lnTo>
                  <a:lnTo>
                    <a:pt x="2934" y="58"/>
                  </a:lnTo>
                  <a:lnTo>
                    <a:pt x="86" y="2911"/>
                  </a:lnTo>
                  <a:lnTo>
                    <a:pt x="75" y="2909"/>
                  </a:lnTo>
                  <a:lnTo>
                    <a:pt x="64" y="2909"/>
                  </a:lnTo>
                  <a:lnTo>
                    <a:pt x="54" y="2908"/>
                  </a:lnTo>
                  <a:lnTo>
                    <a:pt x="43" y="2908"/>
                  </a:lnTo>
                  <a:lnTo>
                    <a:pt x="32" y="2907"/>
                  </a:lnTo>
                  <a:lnTo>
                    <a:pt x="22" y="2907"/>
                  </a:lnTo>
                  <a:lnTo>
                    <a:pt x="11" y="2906"/>
                  </a:lnTo>
                  <a:lnTo>
                    <a:pt x="0" y="2906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51320" y="3433680"/>
              <a:ext cx="768240" cy="762120"/>
            </a:xfrm>
            <a:custGeom>
              <a:avLst/>
              <a:gdLst/>
              <a:ahLst/>
              <a:rect l="l" t="t" r="r" b="b"/>
              <a:pathLst>
                <a:path w="2906" h="2883">
                  <a:moveTo>
                    <a:pt x="0" y="2878"/>
                  </a:moveTo>
                  <a:lnTo>
                    <a:pt x="2876" y="0"/>
                  </a:lnTo>
                  <a:lnTo>
                    <a:pt x="2879" y="7"/>
                  </a:lnTo>
                  <a:lnTo>
                    <a:pt x="2883" y="14"/>
                  </a:lnTo>
                  <a:lnTo>
                    <a:pt x="2886" y="21"/>
                  </a:lnTo>
                  <a:lnTo>
                    <a:pt x="2891" y="28"/>
                  </a:lnTo>
                  <a:lnTo>
                    <a:pt x="2895" y="36"/>
                  </a:lnTo>
                  <a:lnTo>
                    <a:pt x="2898" y="44"/>
                  </a:lnTo>
                  <a:lnTo>
                    <a:pt x="2903" y="51"/>
                  </a:lnTo>
                  <a:lnTo>
                    <a:pt x="2906" y="58"/>
                  </a:lnTo>
                  <a:lnTo>
                    <a:pt x="84" y="2883"/>
                  </a:lnTo>
                  <a:lnTo>
                    <a:pt x="75" y="2882"/>
                  </a:lnTo>
                  <a:lnTo>
                    <a:pt x="64" y="2882"/>
                  </a:lnTo>
                  <a:lnTo>
                    <a:pt x="53" y="2881"/>
                  </a:lnTo>
                  <a:lnTo>
                    <a:pt x="43" y="2881"/>
                  </a:lnTo>
                  <a:lnTo>
                    <a:pt x="32" y="2879"/>
                  </a:lnTo>
                  <a:lnTo>
                    <a:pt x="21" y="2879"/>
                  </a:lnTo>
                  <a:lnTo>
                    <a:pt x="11" y="2878"/>
                  </a:lnTo>
                  <a:lnTo>
                    <a:pt x="0" y="2878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62480" y="3441600"/>
              <a:ext cx="761760" cy="755640"/>
            </a:xfrm>
            <a:custGeom>
              <a:avLst/>
              <a:gdLst/>
              <a:ahLst/>
              <a:rect l="l" t="t" r="r" b="b"/>
              <a:pathLst>
                <a:path w="2879" h="2857">
                  <a:moveTo>
                    <a:pt x="0" y="2853"/>
                  </a:moveTo>
                  <a:lnTo>
                    <a:pt x="2848" y="0"/>
                  </a:lnTo>
                  <a:lnTo>
                    <a:pt x="2852" y="8"/>
                  </a:lnTo>
                  <a:lnTo>
                    <a:pt x="2855" y="16"/>
                  </a:lnTo>
                  <a:lnTo>
                    <a:pt x="2860" y="23"/>
                  </a:lnTo>
                  <a:lnTo>
                    <a:pt x="2863" y="30"/>
                  </a:lnTo>
                  <a:lnTo>
                    <a:pt x="2867" y="37"/>
                  </a:lnTo>
                  <a:lnTo>
                    <a:pt x="2871" y="44"/>
                  </a:lnTo>
                  <a:lnTo>
                    <a:pt x="2875" y="52"/>
                  </a:lnTo>
                  <a:lnTo>
                    <a:pt x="2879" y="60"/>
                  </a:lnTo>
                  <a:lnTo>
                    <a:pt x="84" y="2857"/>
                  </a:lnTo>
                  <a:lnTo>
                    <a:pt x="73" y="2856"/>
                  </a:lnTo>
                  <a:lnTo>
                    <a:pt x="63" y="2856"/>
                  </a:lnTo>
                  <a:lnTo>
                    <a:pt x="52" y="2855"/>
                  </a:lnTo>
                  <a:lnTo>
                    <a:pt x="43" y="2855"/>
                  </a:lnTo>
                  <a:lnTo>
                    <a:pt x="32" y="2854"/>
                  </a:lnTo>
                  <a:lnTo>
                    <a:pt x="21" y="2854"/>
                  </a:lnTo>
                  <a:lnTo>
                    <a:pt x="10" y="2853"/>
                  </a:lnTo>
                  <a:lnTo>
                    <a:pt x="0" y="2853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73280" y="3448080"/>
              <a:ext cx="754200" cy="749160"/>
            </a:xfrm>
            <a:custGeom>
              <a:avLst/>
              <a:gdLst/>
              <a:ahLst/>
              <a:rect l="l" t="t" r="r" b="b"/>
              <a:pathLst>
                <a:path w="2853" h="2830">
                  <a:moveTo>
                    <a:pt x="0" y="2825"/>
                  </a:moveTo>
                  <a:lnTo>
                    <a:pt x="2822" y="0"/>
                  </a:lnTo>
                  <a:lnTo>
                    <a:pt x="2826" y="7"/>
                  </a:lnTo>
                  <a:lnTo>
                    <a:pt x="2830" y="14"/>
                  </a:lnTo>
                  <a:lnTo>
                    <a:pt x="2834" y="22"/>
                  </a:lnTo>
                  <a:lnTo>
                    <a:pt x="2838" y="30"/>
                  </a:lnTo>
                  <a:lnTo>
                    <a:pt x="2841" y="37"/>
                  </a:lnTo>
                  <a:lnTo>
                    <a:pt x="2845" y="44"/>
                  </a:lnTo>
                  <a:lnTo>
                    <a:pt x="2850" y="51"/>
                  </a:lnTo>
                  <a:lnTo>
                    <a:pt x="2853" y="58"/>
                  </a:lnTo>
                  <a:lnTo>
                    <a:pt x="86" y="2830"/>
                  </a:lnTo>
                  <a:lnTo>
                    <a:pt x="75" y="2828"/>
                  </a:lnTo>
                  <a:lnTo>
                    <a:pt x="64" y="2828"/>
                  </a:lnTo>
                  <a:lnTo>
                    <a:pt x="54" y="2827"/>
                  </a:lnTo>
                  <a:lnTo>
                    <a:pt x="43" y="2827"/>
                  </a:lnTo>
                  <a:lnTo>
                    <a:pt x="32" y="2826"/>
                  </a:lnTo>
                  <a:lnTo>
                    <a:pt x="22" y="2826"/>
                  </a:lnTo>
                  <a:lnTo>
                    <a:pt x="11" y="2825"/>
                  </a:lnTo>
                  <a:lnTo>
                    <a:pt x="0" y="2825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84440" y="3456000"/>
              <a:ext cx="747720" cy="743040"/>
            </a:xfrm>
            <a:custGeom>
              <a:avLst/>
              <a:gdLst/>
              <a:ahLst/>
              <a:rect l="l" t="t" r="r" b="b"/>
              <a:pathLst>
                <a:path w="2826" h="2802">
                  <a:moveTo>
                    <a:pt x="0" y="2797"/>
                  </a:moveTo>
                  <a:lnTo>
                    <a:pt x="2795" y="0"/>
                  </a:lnTo>
                  <a:lnTo>
                    <a:pt x="2798" y="7"/>
                  </a:lnTo>
                  <a:lnTo>
                    <a:pt x="2802" y="14"/>
                  </a:lnTo>
                  <a:lnTo>
                    <a:pt x="2807" y="21"/>
                  </a:lnTo>
                  <a:lnTo>
                    <a:pt x="2810" y="28"/>
                  </a:lnTo>
                  <a:lnTo>
                    <a:pt x="2814" y="36"/>
                  </a:lnTo>
                  <a:lnTo>
                    <a:pt x="2817" y="44"/>
                  </a:lnTo>
                  <a:lnTo>
                    <a:pt x="2822" y="51"/>
                  </a:lnTo>
                  <a:lnTo>
                    <a:pt x="2826" y="58"/>
                  </a:lnTo>
                  <a:lnTo>
                    <a:pt x="84" y="2802"/>
                  </a:lnTo>
                  <a:lnTo>
                    <a:pt x="74" y="2801"/>
                  </a:lnTo>
                  <a:lnTo>
                    <a:pt x="63" y="2801"/>
                  </a:lnTo>
                  <a:lnTo>
                    <a:pt x="53" y="2800"/>
                  </a:lnTo>
                  <a:lnTo>
                    <a:pt x="43" y="2800"/>
                  </a:lnTo>
                  <a:lnTo>
                    <a:pt x="32" y="2798"/>
                  </a:lnTo>
                  <a:lnTo>
                    <a:pt x="21" y="2798"/>
                  </a:lnTo>
                  <a:lnTo>
                    <a:pt x="11" y="2797"/>
                  </a:lnTo>
                  <a:lnTo>
                    <a:pt x="0" y="2797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95600" y="3463920"/>
              <a:ext cx="739800" cy="735120"/>
            </a:xfrm>
            <a:custGeom>
              <a:avLst/>
              <a:gdLst/>
              <a:ahLst/>
              <a:rect l="l" t="t" r="r" b="b"/>
              <a:pathLst>
                <a:path w="2798" h="2776">
                  <a:moveTo>
                    <a:pt x="0" y="2772"/>
                  </a:moveTo>
                  <a:lnTo>
                    <a:pt x="2767" y="0"/>
                  </a:lnTo>
                  <a:lnTo>
                    <a:pt x="2771" y="8"/>
                  </a:lnTo>
                  <a:lnTo>
                    <a:pt x="2774" y="16"/>
                  </a:lnTo>
                  <a:lnTo>
                    <a:pt x="2779" y="23"/>
                  </a:lnTo>
                  <a:lnTo>
                    <a:pt x="2783" y="30"/>
                  </a:lnTo>
                  <a:lnTo>
                    <a:pt x="2786" y="37"/>
                  </a:lnTo>
                  <a:lnTo>
                    <a:pt x="2790" y="45"/>
                  </a:lnTo>
                  <a:lnTo>
                    <a:pt x="2795" y="52"/>
                  </a:lnTo>
                  <a:lnTo>
                    <a:pt x="2798" y="59"/>
                  </a:lnTo>
                  <a:lnTo>
                    <a:pt x="84" y="2776"/>
                  </a:lnTo>
                  <a:lnTo>
                    <a:pt x="73" y="2776"/>
                  </a:lnTo>
                  <a:lnTo>
                    <a:pt x="63" y="2775"/>
                  </a:lnTo>
                  <a:lnTo>
                    <a:pt x="52" y="2775"/>
                  </a:lnTo>
                  <a:lnTo>
                    <a:pt x="41" y="2774"/>
                  </a:lnTo>
                  <a:lnTo>
                    <a:pt x="31" y="2773"/>
                  </a:lnTo>
                  <a:lnTo>
                    <a:pt x="20" y="2773"/>
                  </a:lnTo>
                  <a:lnTo>
                    <a:pt x="10" y="2772"/>
                  </a:lnTo>
                  <a:lnTo>
                    <a:pt x="0" y="2772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06760" y="3471840"/>
              <a:ext cx="733320" cy="727200"/>
            </a:xfrm>
            <a:custGeom>
              <a:avLst/>
              <a:gdLst/>
              <a:ahLst/>
              <a:rect l="l" t="t" r="r" b="b"/>
              <a:pathLst>
                <a:path w="2773" h="2749">
                  <a:moveTo>
                    <a:pt x="0" y="2744"/>
                  </a:moveTo>
                  <a:lnTo>
                    <a:pt x="2742" y="0"/>
                  </a:lnTo>
                  <a:lnTo>
                    <a:pt x="2745" y="7"/>
                  </a:lnTo>
                  <a:lnTo>
                    <a:pt x="2749" y="15"/>
                  </a:lnTo>
                  <a:lnTo>
                    <a:pt x="2754" y="22"/>
                  </a:lnTo>
                  <a:lnTo>
                    <a:pt x="2757" y="29"/>
                  </a:lnTo>
                  <a:lnTo>
                    <a:pt x="2761" y="37"/>
                  </a:lnTo>
                  <a:lnTo>
                    <a:pt x="2764" y="44"/>
                  </a:lnTo>
                  <a:lnTo>
                    <a:pt x="2768" y="52"/>
                  </a:lnTo>
                  <a:lnTo>
                    <a:pt x="2773" y="59"/>
                  </a:lnTo>
                  <a:lnTo>
                    <a:pt x="85" y="2749"/>
                  </a:lnTo>
                  <a:lnTo>
                    <a:pt x="74" y="2749"/>
                  </a:lnTo>
                  <a:lnTo>
                    <a:pt x="63" y="2748"/>
                  </a:lnTo>
                  <a:lnTo>
                    <a:pt x="54" y="2748"/>
                  </a:lnTo>
                  <a:lnTo>
                    <a:pt x="43" y="2746"/>
                  </a:lnTo>
                  <a:lnTo>
                    <a:pt x="32" y="2746"/>
                  </a:lnTo>
                  <a:lnTo>
                    <a:pt x="22" y="2745"/>
                  </a:lnTo>
                  <a:lnTo>
                    <a:pt x="11" y="2744"/>
                  </a:lnTo>
                  <a:lnTo>
                    <a:pt x="0" y="2744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517920" y="3479760"/>
              <a:ext cx="725400" cy="720720"/>
            </a:xfrm>
            <a:custGeom>
              <a:avLst/>
              <a:gdLst/>
              <a:ahLst/>
              <a:rect l="l" t="t" r="r" b="b"/>
              <a:pathLst>
                <a:path w="2744" h="2723">
                  <a:moveTo>
                    <a:pt x="0" y="2717"/>
                  </a:moveTo>
                  <a:lnTo>
                    <a:pt x="2714" y="0"/>
                  </a:lnTo>
                  <a:lnTo>
                    <a:pt x="2718" y="8"/>
                  </a:lnTo>
                  <a:lnTo>
                    <a:pt x="2721" y="15"/>
                  </a:lnTo>
                  <a:lnTo>
                    <a:pt x="2725" y="23"/>
                  </a:lnTo>
                  <a:lnTo>
                    <a:pt x="2730" y="30"/>
                  </a:lnTo>
                  <a:lnTo>
                    <a:pt x="2733" y="37"/>
                  </a:lnTo>
                  <a:lnTo>
                    <a:pt x="2737" y="44"/>
                  </a:lnTo>
                  <a:lnTo>
                    <a:pt x="2740" y="52"/>
                  </a:lnTo>
                  <a:lnTo>
                    <a:pt x="2744" y="60"/>
                  </a:lnTo>
                  <a:lnTo>
                    <a:pt x="84" y="2723"/>
                  </a:lnTo>
                  <a:lnTo>
                    <a:pt x="74" y="2722"/>
                  </a:lnTo>
                  <a:lnTo>
                    <a:pt x="63" y="2722"/>
                  </a:lnTo>
                  <a:lnTo>
                    <a:pt x="52" y="2721"/>
                  </a:lnTo>
                  <a:lnTo>
                    <a:pt x="42" y="2720"/>
                  </a:lnTo>
                  <a:lnTo>
                    <a:pt x="31" y="2720"/>
                  </a:lnTo>
                  <a:lnTo>
                    <a:pt x="20" y="2719"/>
                  </a:lnTo>
                  <a:lnTo>
                    <a:pt x="11" y="2719"/>
                  </a:lnTo>
                  <a:lnTo>
                    <a:pt x="0" y="2717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529080" y="3487680"/>
              <a:ext cx="718920" cy="712800"/>
            </a:xfrm>
            <a:custGeom>
              <a:avLst/>
              <a:gdLst/>
              <a:ahLst/>
              <a:rect l="l" t="t" r="r" b="b"/>
              <a:pathLst>
                <a:path w="2717" h="2696">
                  <a:moveTo>
                    <a:pt x="0" y="2690"/>
                  </a:moveTo>
                  <a:lnTo>
                    <a:pt x="2688" y="0"/>
                  </a:lnTo>
                  <a:lnTo>
                    <a:pt x="2691" y="7"/>
                  </a:lnTo>
                  <a:lnTo>
                    <a:pt x="2695" y="14"/>
                  </a:lnTo>
                  <a:lnTo>
                    <a:pt x="2698" y="22"/>
                  </a:lnTo>
                  <a:lnTo>
                    <a:pt x="2702" y="30"/>
                  </a:lnTo>
                  <a:lnTo>
                    <a:pt x="2705" y="37"/>
                  </a:lnTo>
                  <a:lnTo>
                    <a:pt x="2710" y="44"/>
                  </a:lnTo>
                  <a:lnTo>
                    <a:pt x="2714" y="51"/>
                  </a:lnTo>
                  <a:lnTo>
                    <a:pt x="2717" y="60"/>
                  </a:lnTo>
                  <a:lnTo>
                    <a:pt x="84" y="2696"/>
                  </a:lnTo>
                  <a:lnTo>
                    <a:pt x="73" y="2695"/>
                  </a:lnTo>
                  <a:lnTo>
                    <a:pt x="62" y="2695"/>
                  </a:lnTo>
                  <a:lnTo>
                    <a:pt x="52" y="2693"/>
                  </a:lnTo>
                  <a:lnTo>
                    <a:pt x="42" y="2693"/>
                  </a:lnTo>
                  <a:lnTo>
                    <a:pt x="32" y="2692"/>
                  </a:lnTo>
                  <a:lnTo>
                    <a:pt x="21" y="2691"/>
                  </a:lnTo>
                  <a:lnTo>
                    <a:pt x="10" y="2691"/>
                  </a:lnTo>
                  <a:lnTo>
                    <a:pt x="0" y="269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540240" y="3495600"/>
              <a:ext cx="711000" cy="706680"/>
            </a:xfrm>
            <a:custGeom>
              <a:avLst/>
              <a:gdLst/>
              <a:ahLst/>
              <a:rect l="l" t="t" r="r" b="b"/>
              <a:pathLst>
                <a:path w="2691" h="2668">
                  <a:moveTo>
                    <a:pt x="0" y="2663"/>
                  </a:moveTo>
                  <a:lnTo>
                    <a:pt x="2660" y="0"/>
                  </a:lnTo>
                  <a:lnTo>
                    <a:pt x="2665" y="7"/>
                  </a:lnTo>
                  <a:lnTo>
                    <a:pt x="2668" y="14"/>
                  </a:lnTo>
                  <a:lnTo>
                    <a:pt x="2672" y="21"/>
                  </a:lnTo>
                  <a:lnTo>
                    <a:pt x="2675" y="30"/>
                  </a:lnTo>
                  <a:lnTo>
                    <a:pt x="2679" y="37"/>
                  </a:lnTo>
                  <a:lnTo>
                    <a:pt x="2682" y="44"/>
                  </a:lnTo>
                  <a:lnTo>
                    <a:pt x="2687" y="51"/>
                  </a:lnTo>
                  <a:lnTo>
                    <a:pt x="2691" y="59"/>
                  </a:lnTo>
                  <a:lnTo>
                    <a:pt x="83" y="2668"/>
                  </a:lnTo>
                  <a:lnTo>
                    <a:pt x="73" y="2668"/>
                  </a:lnTo>
                  <a:lnTo>
                    <a:pt x="63" y="2667"/>
                  </a:lnTo>
                  <a:lnTo>
                    <a:pt x="53" y="2667"/>
                  </a:lnTo>
                  <a:lnTo>
                    <a:pt x="42" y="2666"/>
                  </a:lnTo>
                  <a:lnTo>
                    <a:pt x="31" y="2665"/>
                  </a:lnTo>
                  <a:lnTo>
                    <a:pt x="20" y="2665"/>
                  </a:lnTo>
                  <a:lnTo>
                    <a:pt x="10" y="2663"/>
                  </a:lnTo>
                  <a:lnTo>
                    <a:pt x="0" y="2663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551400" y="3503520"/>
              <a:ext cx="704520" cy="698760"/>
            </a:xfrm>
            <a:custGeom>
              <a:avLst/>
              <a:gdLst/>
              <a:ahLst/>
              <a:rect l="l" t="t" r="r" b="b"/>
              <a:pathLst>
                <a:path w="2664" h="2642">
                  <a:moveTo>
                    <a:pt x="0" y="2636"/>
                  </a:moveTo>
                  <a:lnTo>
                    <a:pt x="2633" y="0"/>
                  </a:lnTo>
                  <a:lnTo>
                    <a:pt x="2637" y="7"/>
                  </a:lnTo>
                  <a:lnTo>
                    <a:pt x="2640" y="14"/>
                  </a:lnTo>
                  <a:lnTo>
                    <a:pt x="2645" y="21"/>
                  </a:lnTo>
                  <a:lnTo>
                    <a:pt x="2649" y="29"/>
                  </a:lnTo>
                  <a:lnTo>
                    <a:pt x="2652" y="36"/>
                  </a:lnTo>
                  <a:lnTo>
                    <a:pt x="2656" y="44"/>
                  </a:lnTo>
                  <a:lnTo>
                    <a:pt x="2659" y="51"/>
                  </a:lnTo>
                  <a:lnTo>
                    <a:pt x="2664" y="59"/>
                  </a:lnTo>
                  <a:lnTo>
                    <a:pt x="83" y="2642"/>
                  </a:lnTo>
                  <a:lnTo>
                    <a:pt x="73" y="2640"/>
                  </a:lnTo>
                  <a:lnTo>
                    <a:pt x="63" y="2640"/>
                  </a:lnTo>
                  <a:lnTo>
                    <a:pt x="52" y="2639"/>
                  </a:lnTo>
                  <a:lnTo>
                    <a:pt x="41" y="2638"/>
                  </a:lnTo>
                  <a:lnTo>
                    <a:pt x="31" y="2638"/>
                  </a:lnTo>
                  <a:lnTo>
                    <a:pt x="21" y="2637"/>
                  </a:lnTo>
                  <a:lnTo>
                    <a:pt x="11" y="2637"/>
                  </a:lnTo>
                  <a:lnTo>
                    <a:pt x="0" y="2636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562200" y="3511440"/>
              <a:ext cx="696960" cy="692280"/>
            </a:xfrm>
            <a:custGeom>
              <a:avLst/>
              <a:gdLst/>
              <a:ahLst/>
              <a:rect l="l" t="t" r="r" b="b"/>
              <a:pathLst>
                <a:path w="2637" h="2615">
                  <a:moveTo>
                    <a:pt x="0" y="2609"/>
                  </a:moveTo>
                  <a:lnTo>
                    <a:pt x="2608" y="0"/>
                  </a:lnTo>
                  <a:lnTo>
                    <a:pt x="2611" y="7"/>
                  </a:lnTo>
                  <a:lnTo>
                    <a:pt x="2615" y="15"/>
                  </a:lnTo>
                  <a:lnTo>
                    <a:pt x="2618" y="22"/>
                  </a:lnTo>
                  <a:lnTo>
                    <a:pt x="2622" y="30"/>
                  </a:lnTo>
                  <a:lnTo>
                    <a:pt x="2627" y="37"/>
                  </a:lnTo>
                  <a:lnTo>
                    <a:pt x="2630" y="44"/>
                  </a:lnTo>
                  <a:lnTo>
                    <a:pt x="2634" y="53"/>
                  </a:lnTo>
                  <a:lnTo>
                    <a:pt x="2637" y="60"/>
                  </a:lnTo>
                  <a:lnTo>
                    <a:pt x="85" y="2615"/>
                  </a:lnTo>
                  <a:lnTo>
                    <a:pt x="74" y="2615"/>
                  </a:lnTo>
                  <a:lnTo>
                    <a:pt x="63" y="2614"/>
                  </a:lnTo>
                  <a:lnTo>
                    <a:pt x="53" y="2613"/>
                  </a:lnTo>
                  <a:lnTo>
                    <a:pt x="42" y="2613"/>
                  </a:lnTo>
                  <a:lnTo>
                    <a:pt x="32" y="2611"/>
                  </a:lnTo>
                  <a:lnTo>
                    <a:pt x="22" y="2611"/>
                  </a:lnTo>
                  <a:lnTo>
                    <a:pt x="11" y="2610"/>
                  </a:lnTo>
                  <a:lnTo>
                    <a:pt x="0" y="2609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573360" y="3519360"/>
              <a:ext cx="690840" cy="684360"/>
            </a:xfrm>
            <a:custGeom>
              <a:avLst/>
              <a:gdLst/>
              <a:ahLst/>
              <a:rect l="l" t="t" r="r" b="b"/>
              <a:pathLst>
                <a:path w="2611" h="2589">
                  <a:moveTo>
                    <a:pt x="0" y="2583"/>
                  </a:moveTo>
                  <a:lnTo>
                    <a:pt x="2581" y="0"/>
                  </a:lnTo>
                  <a:lnTo>
                    <a:pt x="2585" y="7"/>
                  </a:lnTo>
                  <a:lnTo>
                    <a:pt x="2588" y="14"/>
                  </a:lnTo>
                  <a:lnTo>
                    <a:pt x="2592" y="23"/>
                  </a:lnTo>
                  <a:lnTo>
                    <a:pt x="2595" y="30"/>
                  </a:lnTo>
                  <a:lnTo>
                    <a:pt x="2599" y="37"/>
                  </a:lnTo>
                  <a:lnTo>
                    <a:pt x="2602" y="44"/>
                  </a:lnTo>
                  <a:lnTo>
                    <a:pt x="2606" y="52"/>
                  </a:lnTo>
                  <a:lnTo>
                    <a:pt x="2611" y="59"/>
                  </a:lnTo>
                  <a:lnTo>
                    <a:pt x="84" y="2589"/>
                  </a:lnTo>
                  <a:lnTo>
                    <a:pt x="73" y="2587"/>
                  </a:lnTo>
                  <a:lnTo>
                    <a:pt x="63" y="2587"/>
                  </a:lnTo>
                  <a:lnTo>
                    <a:pt x="52" y="2586"/>
                  </a:lnTo>
                  <a:lnTo>
                    <a:pt x="43" y="2585"/>
                  </a:lnTo>
                  <a:lnTo>
                    <a:pt x="32" y="2585"/>
                  </a:lnTo>
                  <a:lnTo>
                    <a:pt x="21" y="2584"/>
                  </a:lnTo>
                  <a:lnTo>
                    <a:pt x="11" y="2583"/>
                  </a:lnTo>
                  <a:lnTo>
                    <a:pt x="0" y="2583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84520" y="3527280"/>
              <a:ext cx="682560" cy="677880"/>
            </a:xfrm>
            <a:custGeom>
              <a:avLst/>
              <a:gdLst/>
              <a:ahLst/>
              <a:rect l="l" t="t" r="r" b="b"/>
              <a:pathLst>
                <a:path w="2582" h="2561">
                  <a:moveTo>
                    <a:pt x="0" y="2555"/>
                  </a:moveTo>
                  <a:lnTo>
                    <a:pt x="2552" y="0"/>
                  </a:lnTo>
                  <a:lnTo>
                    <a:pt x="2556" y="7"/>
                  </a:lnTo>
                  <a:lnTo>
                    <a:pt x="2559" y="14"/>
                  </a:lnTo>
                  <a:lnTo>
                    <a:pt x="2563" y="22"/>
                  </a:lnTo>
                  <a:lnTo>
                    <a:pt x="2568" y="29"/>
                  </a:lnTo>
                  <a:lnTo>
                    <a:pt x="2571" y="36"/>
                  </a:lnTo>
                  <a:lnTo>
                    <a:pt x="2575" y="45"/>
                  </a:lnTo>
                  <a:lnTo>
                    <a:pt x="2578" y="52"/>
                  </a:lnTo>
                  <a:lnTo>
                    <a:pt x="2582" y="59"/>
                  </a:lnTo>
                  <a:lnTo>
                    <a:pt x="83" y="2561"/>
                  </a:lnTo>
                  <a:lnTo>
                    <a:pt x="72" y="2561"/>
                  </a:lnTo>
                  <a:lnTo>
                    <a:pt x="61" y="2560"/>
                  </a:lnTo>
                  <a:lnTo>
                    <a:pt x="51" y="2560"/>
                  </a:lnTo>
                  <a:lnTo>
                    <a:pt x="41" y="2559"/>
                  </a:lnTo>
                  <a:lnTo>
                    <a:pt x="30" y="2557"/>
                  </a:lnTo>
                  <a:lnTo>
                    <a:pt x="20" y="2557"/>
                  </a:lnTo>
                  <a:lnTo>
                    <a:pt x="9" y="2556"/>
                  </a:lnTo>
                  <a:lnTo>
                    <a:pt x="0" y="2555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595680" y="3535200"/>
              <a:ext cx="676440" cy="669960"/>
            </a:xfrm>
            <a:custGeom>
              <a:avLst/>
              <a:gdLst/>
              <a:ahLst/>
              <a:rect l="l" t="t" r="r" b="b"/>
              <a:pathLst>
                <a:path w="2555" h="2536">
                  <a:moveTo>
                    <a:pt x="0" y="2530"/>
                  </a:moveTo>
                  <a:lnTo>
                    <a:pt x="2527" y="0"/>
                  </a:lnTo>
                  <a:lnTo>
                    <a:pt x="2530" y="7"/>
                  </a:lnTo>
                  <a:lnTo>
                    <a:pt x="2534" y="16"/>
                  </a:lnTo>
                  <a:lnTo>
                    <a:pt x="2537" y="23"/>
                  </a:lnTo>
                  <a:lnTo>
                    <a:pt x="2541" y="30"/>
                  </a:lnTo>
                  <a:lnTo>
                    <a:pt x="2545" y="37"/>
                  </a:lnTo>
                  <a:lnTo>
                    <a:pt x="2548" y="46"/>
                  </a:lnTo>
                  <a:lnTo>
                    <a:pt x="2552" y="53"/>
                  </a:lnTo>
                  <a:lnTo>
                    <a:pt x="2555" y="60"/>
                  </a:lnTo>
                  <a:lnTo>
                    <a:pt x="83" y="2536"/>
                  </a:lnTo>
                  <a:lnTo>
                    <a:pt x="73" y="2536"/>
                  </a:lnTo>
                  <a:lnTo>
                    <a:pt x="62" y="2534"/>
                  </a:lnTo>
                  <a:lnTo>
                    <a:pt x="51" y="2533"/>
                  </a:lnTo>
                  <a:lnTo>
                    <a:pt x="42" y="2533"/>
                  </a:lnTo>
                  <a:lnTo>
                    <a:pt x="31" y="2532"/>
                  </a:lnTo>
                  <a:lnTo>
                    <a:pt x="20" y="2531"/>
                  </a:lnTo>
                  <a:lnTo>
                    <a:pt x="10" y="2531"/>
                  </a:lnTo>
                  <a:lnTo>
                    <a:pt x="0" y="253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606840" y="3543480"/>
              <a:ext cx="668160" cy="663480"/>
            </a:xfrm>
            <a:custGeom>
              <a:avLst/>
              <a:gdLst/>
              <a:ahLst/>
              <a:rect l="l" t="t" r="r" b="b"/>
              <a:pathLst>
                <a:path w="2529" h="2509">
                  <a:moveTo>
                    <a:pt x="0" y="2502"/>
                  </a:moveTo>
                  <a:lnTo>
                    <a:pt x="2499" y="0"/>
                  </a:lnTo>
                  <a:lnTo>
                    <a:pt x="2503" y="7"/>
                  </a:lnTo>
                  <a:lnTo>
                    <a:pt x="2506" y="16"/>
                  </a:lnTo>
                  <a:lnTo>
                    <a:pt x="2510" y="23"/>
                  </a:lnTo>
                  <a:lnTo>
                    <a:pt x="2513" y="30"/>
                  </a:lnTo>
                  <a:lnTo>
                    <a:pt x="2518" y="38"/>
                  </a:lnTo>
                  <a:lnTo>
                    <a:pt x="2522" y="45"/>
                  </a:lnTo>
                  <a:lnTo>
                    <a:pt x="2525" y="52"/>
                  </a:lnTo>
                  <a:lnTo>
                    <a:pt x="2529" y="61"/>
                  </a:lnTo>
                  <a:lnTo>
                    <a:pt x="83" y="2509"/>
                  </a:lnTo>
                  <a:lnTo>
                    <a:pt x="72" y="2508"/>
                  </a:lnTo>
                  <a:lnTo>
                    <a:pt x="61" y="2508"/>
                  </a:lnTo>
                  <a:lnTo>
                    <a:pt x="51" y="2507"/>
                  </a:lnTo>
                  <a:lnTo>
                    <a:pt x="41" y="2506"/>
                  </a:lnTo>
                  <a:lnTo>
                    <a:pt x="31" y="2506"/>
                  </a:lnTo>
                  <a:lnTo>
                    <a:pt x="20" y="2504"/>
                  </a:lnTo>
                  <a:lnTo>
                    <a:pt x="9" y="2503"/>
                  </a:lnTo>
                  <a:lnTo>
                    <a:pt x="0" y="2502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18000" y="3551400"/>
              <a:ext cx="662040" cy="655560"/>
            </a:xfrm>
            <a:custGeom>
              <a:avLst/>
              <a:gdLst/>
              <a:ahLst/>
              <a:rect l="l" t="t" r="r" b="b"/>
              <a:pathLst>
                <a:path w="2502" h="2483">
                  <a:moveTo>
                    <a:pt x="0" y="2476"/>
                  </a:moveTo>
                  <a:lnTo>
                    <a:pt x="2472" y="0"/>
                  </a:lnTo>
                  <a:lnTo>
                    <a:pt x="2476" y="8"/>
                  </a:lnTo>
                  <a:lnTo>
                    <a:pt x="2481" y="15"/>
                  </a:lnTo>
                  <a:lnTo>
                    <a:pt x="2484" y="22"/>
                  </a:lnTo>
                  <a:lnTo>
                    <a:pt x="2488" y="31"/>
                  </a:lnTo>
                  <a:lnTo>
                    <a:pt x="2491" y="38"/>
                  </a:lnTo>
                  <a:lnTo>
                    <a:pt x="2495" y="45"/>
                  </a:lnTo>
                  <a:lnTo>
                    <a:pt x="2498" y="53"/>
                  </a:lnTo>
                  <a:lnTo>
                    <a:pt x="2502" y="60"/>
                  </a:lnTo>
                  <a:lnTo>
                    <a:pt x="82" y="2483"/>
                  </a:lnTo>
                  <a:lnTo>
                    <a:pt x="73" y="2481"/>
                  </a:lnTo>
                  <a:lnTo>
                    <a:pt x="62" y="2480"/>
                  </a:lnTo>
                  <a:lnTo>
                    <a:pt x="51" y="2480"/>
                  </a:lnTo>
                  <a:lnTo>
                    <a:pt x="42" y="2479"/>
                  </a:lnTo>
                  <a:lnTo>
                    <a:pt x="31" y="2478"/>
                  </a:lnTo>
                  <a:lnTo>
                    <a:pt x="20" y="2478"/>
                  </a:lnTo>
                  <a:lnTo>
                    <a:pt x="10" y="2477"/>
                  </a:lnTo>
                  <a:lnTo>
                    <a:pt x="0" y="2476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29160" y="3559320"/>
              <a:ext cx="653760" cy="649080"/>
            </a:xfrm>
            <a:custGeom>
              <a:avLst/>
              <a:gdLst/>
              <a:ahLst/>
              <a:rect l="l" t="t" r="r" b="b"/>
              <a:pathLst>
                <a:path w="2474" h="2455">
                  <a:moveTo>
                    <a:pt x="0" y="2448"/>
                  </a:moveTo>
                  <a:lnTo>
                    <a:pt x="2446" y="0"/>
                  </a:lnTo>
                  <a:lnTo>
                    <a:pt x="2449" y="7"/>
                  </a:lnTo>
                  <a:lnTo>
                    <a:pt x="2453" y="14"/>
                  </a:lnTo>
                  <a:lnTo>
                    <a:pt x="2456" y="22"/>
                  </a:lnTo>
                  <a:lnTo>
                    <a:pt x="2460" y="29"/>
                  </a:lnTo>
                  <a:lnTo>
                    <a:pt x="2463" y="36"/>
                  </a:lnTo>
                  <a:lnTo>
                    <a:pt x="2467" y="45"/>
                  </a:lnTo>
                  <a:lnTo>
                    <a:pt x="2471" y="52"/>
                  </a:lnTo>
                  <a:lnTo>
                    <a:pt x="2474" y="59"/>
                  </a:lnTo>
                  <a:lnTo>
                    <a:pt x="82" y="2455"/>
                  </a:lnTo>
                  <a:lnTo>
                    <a:pt x="71" y="2454"/>
                  </a:lnTo>
                  <a:lnTo>
                    <a:pt x="61" y="2453"/>
                  </a:lnTo>
                  <a:lnTo>
                    <a:pt x="51" y="2453"/>
                  </a:lnTo>
                  <a:lnTo>
                    <a:pt x="40" y="2452"/>
                  </a:lnTo>
                  <a:lnTo>
                    <a:pt x="31" y="2450"/>
                  </a:lnTo>
                  <a:lnTo>
                    <a:pt x="20" y="2449"/>
                  </a:lnTo>
                  <a:lnTo>
                    <a:pt x="9" y="2449"/>
                  </a:lnTo>
                  <a:lnTo>
                    <a:pt x="0" y="244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638520" y="3567240"/>
              <a:ext cx="649440" cy="642960"/>
            </a:xfrm>
            <a:custGeom>
              <a:avLst/>
              <a:gdLst/>
              <a:ahLst/>
              <a:rect l="l" t="t" r="r" b="b"/>
              <a:pathLst>
                <a:path w="2450" h="2430">
                  <a:moveTo>
                    <a:pt x="0" y="2423"/>
                  </a:moveTo>
                  <a:lnTo>
                    <a:pt x="2420" y="0"/>
                  </a:lnTo>
                  <a:lnTo>
                    <a:pt x="2423" y="7"/>
                  </a:lnTo>
                  <a:lnTo>
                    <a:pt x="2427" y="16"/>
                  </a:lnTo>
                  <a:lnTo>
                    <a:pt x="2431" y="23"/>
                  </a:lnTo>
                  <a:lnTo>
                    <a:pt x="2434" y="30"/>
                  </a:lnTo>
                  <a:lnTo>
                    <a:pt x="2438" y="38"/>
                  </a:lnTo>
                  <a:lnTo>
                    <a:pt x="2442" y="45"/>
                  </a:lnTo>
                  <a:lnTo>
                    <a:pt x="2446" y="54"/>
                  </a:lnTo>
                  <a:lnTo>
                    <a:pt x="2450" y="61"/>
                  </a:lnTo>
                  <a:lnTo>
                    <a:pt x="83" y="2430"/>
                  </a:lnTo>
                  <a:lnTo>
                    <a:pt x="73" y="2429"/>
                  </a:lnTo>
                  <a:lnTo>
                    <a:pt x="62" y="2427"/>
                  </a:lnTo>
                  <a:lnTo>
                    <a:pt x="52" y="2427"/>
                  </a:lnTo>
                  <a:lnTo>
                    <a:pt x="42" y="2426"/>
                  </a:lnTo>
                  <a:lnTo>
                    <a:pt x="31" y="2425"/>
                  </a:lnTo>
                  <a:lnTo>
                    <a:pt x="21" y="2424"/>
                  </a:lnTo>
                  <a:lnTo>
                    <a:pt x="11" y="2424"/>
                  </a:lnTo>
                  <a:lnTo>
                    <a:pt x="0" y="2423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649680" y="3575160"/>
              <a:ext cx="641160" cy="635040"/>
            </a:xfrm>
            <a:custGeom>
              <a:avLst/>
              <a:gdLst/>
              <a:ahLst/>
              <a:rect l="l" t="t" r="r" b="b"/>
              <a:pathLst>
                <a:path w="2422" h="2403">
                  <a:moveTo>
                    <a:pt x="0" y="2396"/>
                  </a:moveTo>
                  <a:lnTo>
                    <a:pt x="2392" y="0"/>
                  </a:lnTo>
                  <a:lnTo>
                    <a:pt x="2396" y="8"/>
                  </a:lnTo>
                  <a:lnTo>
                    <a:pt x="2400" y="15"/>
                  </a:lnTo>
                  <a:lnTo>
                    <a:pt x="2404" y="24"/>
                  </a:lnTo>
                  <a:lnTo>
                    <a:pt x="2408" y="31"/>
                  </a:lnTo>
                  <a:lnTo>
                    <a:pt x="2411" y="38"/>
                  </a:lnTo>
                  <a:lnTo>
                    <a:pt x="2415" y="46"/>
                  </a:lnTo>
                  <a:lnTo>
                    <a:pt x="2418" y="54"/>
                  </a:lnTo>
                  <a:lnTo>
                    <a:pt x="2422" y="61"/>
                  </a:lnTo>
                  <a:lnTo>
                    <a:pt x="82" y="2403"/>
                  </a:lnTo>
                  <a:lnTo>
                    <a:pt x="72" y="2402"/>
                  </a:lnTo>
                  <a:lnTo>
                    <a:pt x="61" y="2402"/>
                  </a:lnTo>
                  <a:lnTo>
                    <a:pt x="51" y="2401"/>
                  </a:lnTo>
                  <a:lnTo>
                    <a:pt x="41" y="2400"/>
                  </a:lnTo>
                  <a:lnTo>
                    <a:pt x="31" y="2399"/>
                  </a:lnTo>
                  <a:lnTo>
                    <a:pt x="20" y="2397"/>
                  </a:lnTo>
                  <a:lnTo>
                    <a:pt x="10" y="2397"/>
                  </a:lnTo>
                  <a:lnTo>
                    <a:pt x="0" y="2396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660840" y="3583080"/>
              <a:ext cx="633240" cy="628560"/>
            </a:xfrm>
            <a:custGeom>
              <a:avLst/>
              <a:gdLst/>
              <a:ahLst/>
              <a:rect l="l" t="t" r="r" b="b"/>
              <a:pathLst>
                <a:path w="2395" h="2376">
                  <a:moveTo>
                    <a:pt x="0" y="2369"/>
                  </a:moveTo>
                  <a:lnTo>
                    <a:pt x="2367" y="0"/>
                  </a:lnTo>
                  <a:lnTo>
                    <a:pt x="2370" y="7"/>
                  </a:lnTo>
                  <a:lnTo>
                    <a:pt x="2374" y="15"/>
                  </a:lnTo>
                  <a:lnTo>
                    <a:pt x="2377" y="23"/>
                  </a:lnTo>
                  <a:lnTo>
                    <a:pt x="2381" y="30"/>
                  </a:lnTo>
                  <a:lnTo>
                    <a:pt x="2384" y="38"/>
                  </a:lnTo>
                  <a:lnTo>
                    <a:pt x="2388" y="45"/>
                  </a:lnTo>
                  <a:lnTo>
                    <a:pt x="2392" y="53"/>
                  </a:lnTo>
                  <a:lnTo>
                    <a:pt x="2395" y="61"/>
                  </a:lnTo>
                  <a:lnTo>
                    <a:pt x="82" y="2376"/>
                  </a:lnTo>
                  <a:lnTo>
                    <a:pt x="71" y="2375"/>
                  </a:lnTo>
                  <a:lnTo>
                    <a:pt x="61" y="2375"/>
                  </a:lnTo>
                  <a:lnTo>
                    <a:pt x="51" y="2374"/>
                  </a:lnTo>
                  <a:lnTo>
                    <a:pt x="41" y="2372"/>
                  </a:lnTo>
                  <a:lnTo>
                    <a:pt x="31" y="2371"/>
                  </a:lnTo>
                  <a:lnTo>
                    <a:pt x="20" y="2370"/>
                  </a:lnTo>
                  <a:lnTo>
                    <a:pt x="10" y="2370"/>
                  </a:lnTo>
                  <a:lnTo>
                    <a:pt x="0" y="2369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72000" y="3591000"/>
              <a:ext cx="627120" cy="622080"/>
            </a:xfrm>
            <a:custGeom>
              <a:avLst/>
              <a:gdLst/>
              <a:ahLst/>
              <a:rect l="l" t="t" r="r" b="b"/>
              <a:pathLst>
                <a:path w="2368" h="2351">
                  <a:moveTo>
                    <a:pt x="0" y="2342"/>
                  </a:moveTo>
                  <a:lnTo>
                    <a:pt x="2340" y="0"/>
                  </a:lnTo>
                  <a:lnTo>
                    <a:pt x="2343" y="8"/>
                  </a:lnTo>
                  <a:lnTo>
                    <a:pt x="2347" y="15"/>
                  </a:lnTo>
                  <a:lnTo>
                    <a:pt x="2351" y="23"/>
                  </a:lnTo>
                  <a:lnTo>
                    <a:pt x="2354" y="31"/>
                  </a:lnTo>
                  <a:lnTo>
                    <a:pt x="2358" y="38"/>
                  </a:lnTo>
                  <a:lnTo>
                    <a:pt x="2361" y="46"/>
                  </a:lnTo>
                  <a:lnTo>
                    <a:pt x="2365" y="53"/>
                  </a:lnTo>
                  <a:lnTo>
                    <a:pt x="2368" y="61"/>
                  </a:lnTo>
                  <a:lnTo>
                    <a:pt x="81" y="2351"/>
                  </a:lnTo>
                  <a:lnTo>
                    <a:pt x="71" y="2349"/>
                  </a:lnTo>
                  <a:lnTo>
                    <a:pt x="61" y="2348"/>
                  </a:lnTo>
                  <a:lnTo>
                    <a:pt x="51" y="2347"/>
                  </a:lnTo>
                  <a:lnTo>
                    <a:pt x="41" y="2346"/>
                  </a:lnTo>
                  <a:lnTo>
                    <a:pt x="30" y="2346"/>
                  </a:lnTo>
                  <a:lnTo>
                    <a:pt x="20" y="2345"/>
                  </a:lnTo>
                  <a:lnTo>
                    <a:pt x="10" y="2344"/>
                  </a:lnTo>
                  <a:lnTo>
                    <a:pt x="0" y="2342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83160" y="3598920"/>
              <a:ext cx="618840" cy="614160"/>
            </a:xfrm>
            <a:custGeom>
              <a:avLst/>
              <a:gdLst/>
              <a:ahLst/>
              <a:rect l="l" t="t" r="r" b="b"/>
              <a:pathLst>
                <a:path w="2342" h="2323">
                  <a:moveTo>
                    <a:pt x="0" y="2315"/>
                  </a:moveTo>
                  <a:lnTo>
                    <a:pt x="2313" y="0"/>
                  </a:lnTo>
                  <a:lnTo>
                    <a:pt x="2317" y="7"/>
                  </a:lnTo>
                  <a:lnTo>
                    <a:pt x="2320" y="15"/>
                  </a:lnTo>
                  <a:lnTo>
                    <a:pt x="2324" y="22"/>
                  </a:lnTo>
                  <a:lnTo>
                    <a:pt x="2327" y="30"/>
                  </a:lnTo>
                  <a:lnTo>
                    <a:pt x="2331" y="38"/>
                  </a:lnTo>
                  <a:lnTo>
                    <a:pt x="2334" y="45"/>
                  </a:lnTo>
                  <a:lnTo>
                    <a:pt x="2338" y="53"/>
                  </a:lnTo>
                  <a:lnTo>
                    <a:pt x="2342" y="60"/>
                  </a:lnTo>
                  <a:lnTo>
                    <a:pt x="81" y="2323"/>
                  </a:lnTo>
                  <a:lnTo>
                    <a:pt x="71" y="2322"/>
                  </a:lnTo>
                  <a:lnTo>
                    <a:pt x="61" y="2321"/>
                  </a:lnTo>
                  <a:lnTo>
                    <a:pt x="51" y="2321"/>
                  </a:lnTo>
                  <a:lnTo>
                    <a:pt x="40" y="2320"/>
                  </a:lnTo>
                  <a:lnTo>
                    <a:pt x="30" y="2318"/>
                  </a:lnTo>
                  <a:lnTo>
                    <a:pt x="20" y="2317"/>
                  </a:lnTo>
                  <a:lnTo>
                    <a:pt x="10" y="2316"/>
                  </a:lnTo>
                  <a:lnTo>
                    <a:pt x="0" y="2315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93960" y="3606840"/>
              <a:ext cx="611280" cy="608040"/>
            </a:xfrm>
            <a:custGeom>
              <a:avLst/>
              <a:gdLst/>
              <a:ahLst/>
              <a:rect l="l" t="t" r="r" b="b"/>
              <a:pathLst>
                <a:path w="2316" h="2298">
                  <a:moveTo>
                    <a:pt x="0" y="2290"/>
                  </a:moveTo>
                  <a:lnTo>
                    <a:pt x="2287" y="0"/>
                  </a:lnTo>
                  <a:lnTo>
                    <a:pt x="2291" y="8"/>
                  </a:lnTo>
                  <a:lnTo>
                    <a:pt x="2294" y="15"/>
                  </a:lnTo>
                  <a:lnTo>
                    <a:pt x="2298" y="23"/>
                  </a:lnTo>
                  <a:lnTo>
                    <a:pt x="2302" y="30"/>
                  </a:lnTo>
                  <a:lnTo>
                    <a:pt x="2305" y="38"/>
                  </a:lnTo>
                  <a:lnTo>
                    <a:pt x="2309" y="46"/>
                  </a:lnTo>
                  <a:lnTo>
                    <a:pt x="2312" y="54"/>
                  </a:lnTo>
                  <a:lnTo>
                    <a:pt x="2316" y="61"/>
                  </a:lnTo>
                  <a:lnTo>
                    <a:pt x="81" y="2298"/>
                  </a:lnTo>
                  <a:lnTo>
                    <a:pt x="72" y="2297"/>
                  </a:lnTo>
                  <a:lnTo>
                    <a:pt x="61" y="2296"/>
                  </a:lnTo>
                  <a:lnTo>
                    <a:pt x="51" y="2294"/>
                  </a:lnTo>
                  <a:lnTo>
                    <a:pt x="41" y="2293"/>
                  </a:lnTo>
                  <a:lnTo>
                    <a:pt x="31" y="2292"/>
                  </a:lnTo>
                  <a:lnTo>
                    <a:pt x="21" y="2291"/>
                  </a:lnTo>
                  <a:lnTo>
                    <a:pt x="10" y="2291"/>
                  </a:lnTo>
                  <a:lnTo>
                    <a:pt x="0" y="229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03680" y="3614760"/>
              <a:ext cx="606240" cy="601560"/>
            </a:xfrm>
            <a:custGeom>
              <a:avLst/>
              <a:gdLst/>
              <a:ahLst/>
              <a:rect l="l" t="t" r="r" b="b"/>
              <a:pathLst>
                <a:path w="2289" h="2272">
                  <a:moveTo>
                    <a:pt x="0" y="2263"/>
                  </a:moveTo>
                  <a:lnTo>
                    <a:pt x="2261" y="0"/>
                  </a:lnTo>
                  <a:lnTo>
                    <a:pt x="2264" y="8"/>
                  </a:lnTo>
                  <a:lnTo>
                    <a:pt x="2268" y="16"/>
                  </a:lnTo>
                  <a:lnTo>
                    <a:pt x="2271" y="24"/>
                  </a:lnTo>
                  <a:lnTo>
                    <a:pt x="2275" y="31"/>
                  </a:lnTo>
                  <a:lnTo>
                    <a:pt x="2278" y="39"/>
                  </a:lnTo>
                  <a:lnTo>
                    <a:pt x="2282" y="46"/>
                  </a:lnTo>
                  <a:lnTo>
                    <a:pt x="2285" y="54"/>
                  </a:lnTo>
                  <a:lnTo>
                    <a:pt x="2289" y="62"/>
                  </a:lnTo>
                  <a:lnTo>
                    <a:pt x="80" y="2272"/>
                  </a:lnTo>
                  <a:lnTo>
                    <a:pt x="71" y="2272"/>
                  </a:lnTo>
                  <a:lnTo>
                    <a:pt x="60" y="2270"/>
                  </a:lnTo>
                  <a:lnTo>
                    <a:pt x="51" y="2269"/>
                  </a:lnTo>
                  <a:lnTo>
                    <a:pt x="40" y="2268"/>
                  </a:lnTo>
                  <a:lnTo>
                    <a:pt x="31" y="2267"/>
                  </a:lnTo>
                  <a:lnTo>
                    <a:pt x="20" y="2266"/>
                  </a:lnTo>
                  <a:lnTo>
                    <a:pt x="10" y="2264"/>
                  </a:lnTo>
                  <a:lnTo>
                    <a:pt x="0" y="2263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14840" y="3622680"/>
              <a:ext cx="598320" cy="593640"/>
            </a:xfrm>
            <a:custGeom>
              <a:avLst/>
              <a:gdLst/>
              <a:ahLst/>
              <a:rect l="l" t="t" r="r" b="b"/>
              <a:pathLst>
                <a:path w="2263" h="2245">
                  <a:moveTo>
                    <a:pt x="0" y="2237"/>
                  </a:moveTo>
                  <a:lnTo>
                    <a:pt x="2235" y="0"/>
                  </a:lnTo>
                  <a:lnTo>
                    <a:pt x="2238" y="7"/>
                  </a:lnTo>
                  <a:lnTo>
                    <a:pt x="2242" y="15"/>
                  </a:lnTo>
                  <a:lnTo>
                    <a:pt x="2245" y="23"/>
                  </a:lnTo>
                  <a:lnTo>
                    <a:pt x="2249" y="31"/>
                  </a:lnTo>
                  <a:lnTo>
                    <a:pt x="2253" y="38"/>
                  </a:lnTo>
                  <a:lnTo>
                    <a:pt x="2256" y="46"/>
                  </a:lnTo>
                  <a:lnTo>
                    <a:pt x="2260" y="53"/>
                  </a:lnTo>
                  <a:lnTo>
                    <a:pt x="2263" y="62"/>
                  </a:lnTo>
                  <a:lnTo>
                    <a:pt x="81" y="2245"/>
                  </a:lnTo>
                  <a:lnTo>
                    <a:pt x="71" y="2244"/>
                  </a:lnTo>
                  <a:lnTo>
                    <a:pt x="61" y="2243"/>
                  </a:lnTo>
                  <a:lnTo>
                    <a:pt x="51" y="2242"/>
                  </a:lnTo>
                  <a:lnTo>
                    <a:pt x="40" y="2241"/>
                  </a:lnTo>
                  <a:lnTo>
                    <a:pt x="31" y="2241"/>
                  </a:lnTo>
                  <a:lnTo>
                    <a:pt x="20" y="2239"/>
                  </a:lnTo>
                  <a:lnTo>
                    <a:pt x="11" y="2238"/>
                  </a:lnTo>
                  <a:lnTo>
                    <a:pt x="0" y="2237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726000" y="3630600"/>
              <a:ext cx="591840" cy="587520"/>
            </a:xfrm>
            <a:custGeom>
              <a:avLst/>
              <a:gdLst/>
              <a:ahLst/>
              <a:rect l="l" t="t" r="r" b="b"/>
              <a:pathLst>
                <a:path w="2238" h="2219">
                  <a:moveTo>
                    <a:pt x="0" y="2210"/>
                  </a:moveTo>
                  <a:lnTo>
                    <a:pt x="2209" y="0"/>
                  </a:lnTo>
                  <a:lnTo>
                    <a:pt x="2213" y="7"/>
                  </a:lnTo>
                  <a:lnTo>
                    <a:pt x="2216" y="15"/>
                  </a:lnTo>
                  <a:lnTo>
                    <a:pt x="2220" y="22"/>
                  </a:lnTo>
                  <a:lnTo>
                    <a:pt x="2223" y="31"/>
                  </a:lnTo>
                  <a:lnTo>
                    <a:pt x="2227" y="38"/>
                  </a:lnTo>
                  <a:lnTo>
                    <a:pt x="2230" y="46"/>
                  </a:lnTo>
                  <a:lnTo>
                    <a:pt x="2234" y="53"/>
                  </a:lnTo>
                  <a:lnTo>
                    <a:pt x="2238" y="62"/>
                  </a:lnTo>
                  <a:lnTo>
                    <a:pt x="81" y="2219"/>
                  </a:lnTo>
                  <a:lnTo>
                    <a:pt x="71" y="2218"/>
                  </a:lnTo>
                  <a:lnTo>
                    <a:pt x="61" y="2217"/>
                  </a:lnTo>
                  <a:lnTo>
                    <a:pt x="52" y="2216"/>
                  </a:lnTo>
                  <a:lnTo>
                    <a:pt x="41" y="2214"/>
                  </a:lnTo>
                  <a:lnTo>
                    <a:pt x="31" y="2213"/>
                  </a:lnTo>
                  <a:lnTo>
                    <a:pt x="21" y="2212"/>
                  </a:lnTo>
                  <a:lnTo>
                    <a:pt x="11" y="2211"/>
                  </a:lnTo>
                  <a:lnTo>
                    <a:pt x="0" y="221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735360" y="3638520"/>
              <a:ext cx="585720" cy="581040"/>
            </a:xfrm>
            <a:custGeom>
              <a:avLst/>
              <a:gdLst/>
              <a:ahLst/>
              <a:rect l="l" t="t" r="r" b="b"/>
              <a:pathLst>
                <a:path w="2210" h="2193">
                  <a:moveTo>
                    <a:pt x="0" y="2183"/>
                  </a:moveTo>
                  <a:lnTo>
                    <a:pt x="2182" y="0"/>
                  </a:lnTo>
                  <a:lnTo>
                    <a:pt x="2186" y="7"/>
                  </a:lnTo>
                  <a:lnTo>
                    <a:pt x="2189" y="15"/>
                  </a:lnTo>
                  <a:lnTo>
                    <a:pt x="2192" y="22"/>
                  </a:lnTo>
                  <a:lnTo>
                    <a:pt x="2195" y="31"/>
                  </a:lnTo>
                  <a:lnTo>
                    <a:pt x="2199" y="38"/>
                  </a:lnTo>
                  <a:lnTo>
                    <a:pt x="2202" y="46"/>
                  </a:lnTo>
                  <a:lnTo>
                    <a:pt x="2206" y="53"/>
                  </a:lnTo>
                  <a:lnTo>
                    <a:pt x="2210" y="62"/>
                  </a:lnTo>
                  <a:lnTo>
                    <a:pt x="79" y="2193"/>
                  </a:lnTo>
                  <a:lnTo>
                    <a:pt x="70" y="2192"/>
                  </a:lnTo>
                  <a:lnTo>
                    <a:pt x="60" y="2190"/>
                  </a:lnTo>
                  <a:lnTo>
                    <a:pt x="50" y="2189"/>
                  </a:lnTo>
                  <a:lnTo>
                    <a:pt x="40" y="2188"/>
                  </a:lnTo>
                  <a:lnTo>
                    <a:pt x="30" y="2187"/>
                  </a:lnTo>
                  <a:lnTo>
                    <a:pt x="20" y="2186"/>
                  </a:lnTo>
                  <a:lnTo>
                    <a:pt x="11" y="2185"/>
                  </a:lnTo>
                  <a:lnTo>
                    <a:pt x="0" y="2183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746520" y="3648240"/>
              <a:ext cx="577800" cy="572760"/>
            </a:xfrm>
            <a:custGeom>
              <a:avLst/>
              <a:gdLst/>
              <a:ahLst/>
              <a:rect l="l" t="t" r="r" b="b"/>
              <a:pathLst>
                <a:path w="2184" h="2168">
                  <a:moveTo>
                    <a:pt x="0" y="2157"/>
                  </a:moveTo>
                  <a:lnTo>
                    <a:pt x="2157" y="0"/>
                  </a:lnTo>
                  <a:lnTo>
                    <a:pt x="2159" y="7"/>
                  </a:lnTo>
                  <a:lnTo>
                    <a:pt x="2162" y="15"/>
                  </a:lnTo>
                  <a:lnTo>
                    <a:pt x="2166" y="22"/>
                  </a:lnTo>
                  <a:lnTo>
                    <a:pt x="2170" y="31"/>
                  </a:lnTo>
                  <a:lnTo>
                    <a:pt x="2173" y="38"/>
                  </a:lnTo>
                  <a:lnTo>
                    <a:pt x="2177" y="46"/>
                  </a:lnTo>
                  <a:lnTo>
                    <a:pt x="2180" y="53"/>
                  </a:lnTo>
                  <a:lnTo>
                    <a:pt x="2184" y="61"/>
                  </a:lnTo>
                  <a:lnTo>
                    <a:pt x="80" y="2168"/>
                  </a:lnTo>
                  <a:lnTo>
                    <a:pt x="69" y="2167"/>
                  </a:lnTo>
                  <a:lnTo>
                    <a:pt x="60" y="2164"/>
                  </a:lnTo>
                  <a:lnTo>
                    <a:pt x="50" y="2163"/>
                  </a:lnTo>
                  <a:lnTo>
                    <a:pt x="39" y="2162"/>
                  </a:lnTo>
                  <a:lnTo>
                    <a:pt x="30" y="2161"/>
                  </a:lnTo>
                  <a:lnTo>
                    <a:pt x="20" y="2159"/>
                  </a:lnTo>
                  <a:lnTo>
                    <a:pt x="10" y="2158"/>
                  </a:lnTo>
                  <a:lnTo>
                    <a:pt x="0" y="2157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57680" y="3656160"/>
              <a:ext cx="569880" cy="566640"/>
            </a:xfrm>
            <a:custGeom>
              <a:avLst/>
              <a:gdLst/>
              <a:ahLst/>
              <a:rect l="l" t="t" r="r" b="b"/>
              <a:pathLst>
                <a:path w="2158" h="2142">
                  <a:moveTo>
                    <a:pt x="0" y="2131"/>
                  </a:moveTo>
                  <a:lnTo>
                    <a:pt x="2131" y="0"/>
                  </a:lnTo>
                  <a:lnTo>
                    <a:pt x="2134" y="7"/>
                  </a:lnTo>
                  <a:lnTo>
                    <a:pt x="2138" y="15"/>
                  </a:lnTo>
                  <a:lnTo>
                    <a:pt x="2141" y="22"/>
                  </a:lnTo>
                  <a:lnTo>
                    <a:pt x="2145" y="30"/>
                  </a:lnTo>
                  <a:lnTo>
                    <a:pt x="2148" y="38"/>
                  </a:lnTo>
                  <a:lnTo>
                    <a:pt x="2152" y="46"/>
                  </a:lnTo>
                  <a:lnTo>
                    <a:pt x="2154" y="53"/>
                  </a:lnTo>
                  <a:lnTo>
                    <a:pt x="2158" y="61"/>
                  </a:lnTo>
                  <a:lnTo>
                    <a:pt x="80" y="2142"/>
                  </a:lnTo>
                  <a:lnTo>
                    <a:pt x="70" y="2140"/>
                  </a:lnTo>
                  <a:lnTo>
                    <a:pt x="61" y="2139"/>
                  </a:lnTo>
                  <a:lnTo>
                    <a:pt x="50" y="2138"/>
                  </a:lnTo>
                  <a:lnTo>
                    <a:pt x="41" y="2137"/>
                  </a:lnTo>
                  <a:lnTo>
                    <a:pt x="31" y="2134"/>
                  </a:lnTo>
                  <a:lnTo>
                    <a:pt x="21" y="2133"/>
                  </a:lnTo>
                  <a:lnTo>
                    <a:pt x="11" y="2132"/>
                  </a:lnTo>
                  <a:lnTo>
                    <a:pt x="0" y="2131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67040" y="3664080"/>
              <a:ext cx="565200" cy="560160"/>
            </a:xfrm>
            <a:custGeom>
              <a:avLst/>
              <a:gdLst/>
              <a:ahLst/>
              <a:rect l="l" t="t" r="r" b="b"/>
              <a:pathLst>
                <a:path w="2131" h="2116">
                  <a:moveTo>
                    <a:pt x="0" y="2107"/>
                  </a:moveTo>
                  <a:lnTo>
                    <a:pt x="2104" y="0"/>
                  </a:lnTo>
                  <a:lnTo>
                    <a:pt x="2107" y="8"/>
                  </a:lnTo>
                  <a:lnTo>
                    <a:pt x="2111" y="16"/>
                  </a:lnTo>
                  <a:lnTo>
                    <a:pt x="2113" y="23"/>
                  </a:lnTo>
                  <a:lnTo>
                    <a:pt x="2117" y="31"/>
                  </a:lnTo>
                  <a:lnTo>
                    <a:pt x="2120" y="38"/>
                  </a:lnTo>
                  <a:lnTo>
                    <a:pt x="2124" y="47"/>
                  </a:lnTo>
                  <a:lnTo>
                    <a:pt x="2128" y="54"/>
                  </a:lnTo>
                  <a:lnTo>
                    <a:pt x="2131" y="62"/>
                  </a:lnTo>
                  <a:lnTo>
                    <a:pt x="78" y="2116"/>
                  </a:lnTo>
                  <a:lnTo>
                    <a:pt x="69" y="2115"/>
                  </a:lnTo>
                  <a:lnTo>
                    <a:pt x="59" y="2114"/>
                  </a:lnTo>
                  <a:lnTo>
                    <a:pt x="48" y="2113"/>
                  </a:lnTo>
                  <a:lnTo>
                    <a:pt x="39" y="2112"/>
                  </a:lnTo>
                  <a:lnTo>
                    <a:pt x="29" y="2110"/>
                  </a:lnTo>
                  <a:lnTo>
                    <a:pt x="19" y="2109"/>
                  </a:lnTo>
                  <a:lnTo>
                    <a:pt x="9" y="2108"/>
                  </a:lnTo>
                  <a:lnTo>
                    <a:pt x="0" y="2107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78200" y="3672000"/>
              <a:ext cx="557280" cy="554040"/>
            </a:xfrm>
            <a:custGeom>
              <a:avLst/>
              <a:gdLst/>
              <a:ahLst/>
              <a:rect l="l" t="t" r="r" b="b"/>
              <a:pathLst>
                <a:path w="2105" h="2091">
                  <a:moveTo>
                    <a:pt x="0" y="2081"/>
                  </a:moveTo>
                  <a:lnTo>
                    <a:pt x="2078" y="0"/>
                  </a:lnTo>
                  <a:lnTo>
                    <a:pt x="2081" y="7"/>
                  </a:lnTo>
                  <a:lnTo>
                    <a:pt x="2085" y="16"/>
                  </a:lnTo>
                  <a:lnTo>
                    <a:pt x="2089" y="23"/>
                  </a:lnTo>
                  <a:lnTo>
                    <a:pt x="2092" y="31"/>
                  </a:lnTo>
                  <a:lnTo>
                    <a:pt x="2096" y="38"/>
                  </a:lnTo>
                  <a:lnTo>
                    <a:pt x="2099" y="47"/>
                  </a:lnTo>
                  <a:lnTo>
                    <a:pt x="2103" y="54"/>
                  </a:lnTo>
                  <a:lnTo>
                    <a:pt x="2105" y="62"/>
                  </a:lnTo>
                  <a:lnTo>
                    <a:pt x="78" y="2091"/>
                  </a:lnTo>
                  <a:lnTo>
                    <a:pt x="69" y="2090"/>
                  </a:lnTo>
                  <a:lnTo>
                    <a:pt x="59" y="2089"/>
                  </a:lnTo>
                  <a:lnTo>
                    <a:pt x="50" y="2088"/>
                  </a:lnTo>
                  <a:lnTo>
                    <a:pt x="39" y="2085"/>
                  </a:lnTo>
                  <a:lnTo>
                    <a:pt x="30" y="2084"/>
                  </a:lnTo>
                  <a:lnTo>
                    <a:pt x="20" y="2083"/>
                  </a:lnTo>
                  <a:lnTo>
                    <a:pt x="9" y="2082"/>
                  </a:lnTo>
                  <a:lnTo>
                    <a:pt x="0" y="2081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89360" y="3679920"/>
              <a:ext cx="549360" cy="547560"/>
            </a:xfrm>
            <a:custGeom>
              <a:avLst/>
              <a:gdLst/>
              <a:ahLst/>
              <a:rect l="l" t="t" r="r" b="b"/>
              <a:pathLst>
                <a:path w="2080" h="2066">
                  <a:moveTo>
                    <a:pt x="0" y="2054"/>
                  </a:moveTo>
                  <a:lnTo>
                    <a:pt x="2053" y="0"/>
                  </a:lnTo>
                  <a:lnTo>
                    <a:pt x="2057" y="7"/>
                  </a:lnTo>
                  <a:lnTo>
                    <a:pt x="2060" y="16"/>
                  </a:lnTo>
                  <a:lnTo>
                    <a:pt x="2064" y="23"/>
                  </a:lnTo>
                  <a:lnTo>
                    <a:pt x="2066" y="31"/>
                  </a:lnTo>
                  <a:lnTo>
                    <a:pt x="2070" y="39"/>
                  </a:lnTo>
                  <a:lnTo>
                    <a:pt x="2073" y="47"/>
                  </a:lnTo>
                  <a:lnTo>
                    <a:pt x="2077" y="55"/>
                  </a:lnTo>
                  <a:lnTo>
                    <a:pt x="2080" y="62"/>
                  </a:lnTo>
                  <a:lnTo>
                    <a:pt x="78" y="2066"/>
                  </a:lnTo>
                  <a:lnTo>
                    <a:pt x="69" y="2065"/>
                  </a:lnTo>
                  <a:lnTo>
                    <a:pt x="59" y="2064"/>
                  </a:lnTo>
                  <a:lnTo>
                    <a:pt x="49" y="2061"/>
                  </a:lnTo>
                  <a:lnTo>
                    <a:pt x="39" y="2060"/>
                  </a:lnTo>
                  <a:lnTo>
                    <a:pt x="30" y="2059"/>
                  </a:lnTo>
                  <a:lnTo>
                    <a:pt x="20" y="2058"/>
                  </a:lnTo>
                  <a:lnTo>
                    <a:pt x="10" y="2057"/>
                  </a:lnTo>
                  <a:lnTo>
                    <a:pt x="0" y="205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798720" y="3687840"/>
              <a:ext cx="543240" cy="541440"/>
            </a:xfrm>
            <a:custGeom>
              <a:avLst/>
              <a:gdLst/>
              <a:ahLst/>
              <a:rect l="l" t="t" r="r" b="b"/>
              <a:pathLst>
                <a:path w="2054" h="2041">
                  <a:moveTo>
                    <a:pt x="0" y="2029"/>
                  </a:moveTo>
                  <a:lnTo>
                    <a:pt x="2027" y="0"/>
                  </a:lnTo>
                  <a:lnTo>
                    <a:pt x="2031" y="8"/>
                  </a:lnTo>
                  <a:lnTo>
                    <a:pt x="2034" y="16"/>
                  </a:lnTo>
                  <a:lnTo>
                    <a:pt x="2038" y="24"/>
                  </a:lnTo>
                  <a:lnTo>
                    <a:pt x="2041" y="31"/>
                  </a:lnTo>
                  <a:lnTo>
                    <a:pt x="2045" y="39"/>
                  </a:lnTo>
                  <a:lnTo>
                    <a:pt x="2049" y="46"/>
                  </a:lnTo>
                  <a:lnTo>
                    <a:pt x="2051" y="55"/>
                  </a:lnTo>
                  <a:lnTo>
                    <a:pt x="2054" y="63"/>
                  </a:lnTo>
                  <a:lnTo>
                    <a:pt x="79" y="2041"/>
                  </a:lnTo>
                  <a:lnTo>
                    <a:pt x="69" y="2040"/>
                  </a:lnTo>
                  <a:lnTo>
                    <a:pt x="58" y="2039"/>
                  </a:lnTo>
                  <a:lnTo>
                    <a:pt x="49" y="2036"/>
                  </a:lnTo>
                  <a:lnTo>
                    <a:pt x="39" y="2035"/>
                  </a:lnTo>
                  <a:lnTo>
                    <a:pt x="30" y="2034"/>
                  </a:lnTo>
                  <a:lnTo>
                    <a:pt x="20" y="2033"/>
                  </a:lnTo>
                  <a:lnTo>
                    <a:pt x="11" y="2030"/>
                  </a:lnTo>
                  <a:lnTo>
                    <a:pt x="0" y="2029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809880" y="3695760"/>
              <a:ext cx="536760" cy="534960"/>
            </a:xfrm>
            <a:custGeom>
              <a:avLst/>
              <a:gdLst/>
              <a:ahLst/>
              <a:rect l="l" t="t" r="r" b="b"/>
              <a:pathLst>
                <a:path w="2030" h="2016">
                  <a:moveTo>
                    <a:pt x="0" y="2004"/>
                  </a:moveTo>
                  <a:lnTo>
                    <a:pt x="2002" y="0"/>
                  </a:lnTo>
                  <a:lnTo>
                    <a:pt x="2006" y="8"/>
                  </a:lnTo>
                  <a:lnTo>
                    <a:pt x="2010" y="15"/>
                  </a:lnTo>
                  <a:lnTo>
                    <a:pt x="2012" y="24"/>
                  </a:lnTo>
                  <a:lnTo>
                    <a:pt x="2015" y="32"/>
                  </a:lnTo>
                  <a:lnTo>
                    <a:pt x="2019" y="39"/>
                  </a:lnTo>
                  <a:lnTo>
                    <a:pt x="2023" y="48"/>
                  </a:lnTo>
                  <a:lnTo>
                    <a:pt x="2026" y="55"/>
                  </a:lnTo>
                  <a:lnTo>
                    <a:pt x="2030" y="63"/>
                  </a:lnTo>
                  <a:lnTo>
                    <a:pt x="77" y="2016"/>
                  </a:lnTo>
                  <a:lnTo>
                    <a:pt x="68" y="2015"/>
                  </a:lnTo>
                  <a:lnTo>
                    <a:pt x="59" y="2014"/>
                  </a:lnTo>
                  <a:lnTo>
                    <a:pt x="49" y="2011"/>
                  </a:lnTo>
                  <a:lnTo>
                    <a:pt x="40" y="2010"/>
                  </a:lnTo>
                  <a:lnTo>
                    <a:pt x="30" y="2009"/>
                  </a:lnTo>
                  <a:lnTo>
                    <a:pt x="19" y="2008"/>
                  </a:lnTo>
                  <a:lnTo>
                    <a:pt x="10" y="2005"/>
                  </a:lnTo>
                  <a:lnTo>
                    <a:pt x="0" y="2004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19600" y="3705120"/>
              <a:ext cx="530280" cy="527040"/>
            </a:xfrm>
            <a:custGeom>
              <a:avLst/>
              <a:gdLst/>
              <a:ahLst/>
              <a:rect l="l" t="t" r="r" b="b"/>
              <a:pathLst>
                <a:path w="2003" h="1991">
                  <a:moveTo>
                    <a:pt x="0" y="1978"/>
                  </a:moveTo>
                  <a:lnTo>
                    <a:pt x="1975" y="0"/>
                  </a:lnTo>
                  <a:lnTo>
                    <a:pt x="1979" y="7"/>
                  </a:lnTo>
                  <a:lnTo>
                    <a:pt x="1983" y="16"/>
                  </a:lnTo>
                  <a:lnTo>
                    <a:pt x="1986" y="23"/>
                  </a:lnTo>
                  <a:lnTo>
                    <a:pt x="1990" y="31"/>
                  </a:lnTo>
                  <a:lnTo>
                    <a:pt x="1992" y="39"/>
                  </a:lnTo>
                  <a:lnTo>
                    <a:pt x="1996" y="46"/>
                  </a:lnTo>
                  <a:lnTo>
                    <a:pt x="1999" y="55"/>
                  </a:lnTo>
                  <a:lnTo>
                    <a:pt x="2003" y="62"/>
                  </a:lnTo>
                  <a:lnTo>
                    <a:pt x="77" y="1991"/>
                  </a:lnTo>
                  <a:lnTo>
                    <a:pt x="67" y="1989"/>
                  </a:lnTo>
                  <a:lnTo>
                    <a:pt x="56" y="1988"/>
                  </a:lnTo>
                  <a:lnTo>
                    <a:pt x="47" y="1986"/>
                  </a:lnTo>
                  <a:lnTo>
                    <a:pt x="37" y="1984"/>
                  </a:lnTo>
                  <a:lnTo>
                    <a:pt x="28" y="1983"/>
                  </a:lnTo>
                  <a:lnTo>
                    <a:pt x="19" y="1982"/>
                  </a:lnTo>
                  <a:lnTo>
                    <a:pt x="9" y="1979"/>
                  </a:lnTo>
                  <a:lnTo>
                    <a:pt x="0" y="1978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28960" y="3713040"/>
              <a:ext cx="523800" cy="520920"/>
            </a:xfrm>
            <a:custGeom>
              <a:avLst/>
              <a:gdLst/>
              <a:ahLst/>
              <a:rect l="l" t="t" r="r" b="b"/>
              <a:pathLst>
                <a:path w="1979" h="1966">
                  <a:moveTo>
                    <a:pt x="0" y="1953"/>
                  </a:moveTo>
                  <a:lnTo>
                    <a:pt x="1953" y="0"/>
                  </a:lnTo>
                  <a:lnTo>
                    <a:pt x="1955" y="8"/>
                  </a:lnTo>
                  <a:lnTo>
                    <a:pt x="1959" y="15"/>
                  </a:lnTo>
                  <a:lnTo>
                    <a:pt x="1962" y="24"/>
                  </a:lnTo>
                  <a:lnTo>
                    <a:pt x="1966" y="31"/>
                  </a:lnTo>
                  <a:lnTo>
                    <a:pt x="1969" y="39"/>
                  </a:lnTo>
                  <a:lnTo>
                    <a:pt x="1972" y="47"/>
                  </a:lnTo>
                  <a:lnTo>
                    <a:pt x="1975" y="55"/>
                  </a:lnTo>
                  <a:lnTo>
                    <a:pt x="1979" y="63"/>
                  </a:lnTo>
                  <a:lnTo>
                    <a:pt x="78" y="1966"/>
                  </a:lnTo>
                  <a:lnTo>
                    <a:pt x="68" y="1965"/>
                  </a:lnTo>
                  <a:lnTo>
                    <a:pt x="59" y="1963"/>
                  </a:lnTo>
                  <a:lnTo>
                    <a:pt x="49" y="1961"/>
                  </a:lnTo>
                  <a:lnTo>
                    <a:pt x="40" y="1960"/>
                  </a:lnTo>
                  <a:lnTo>
                    <a:pt x="29" y="1958"/>
                  </a:lnTo>
                  <a:lnTo>
                    <a:pt x="19" y="1957"/>
                  </a:lnTo>
                  <a:lnTo>
                    <a:pt x="10" y="1955"/>
                  </a:lnTo>
                  <a:lnTo>
                    <a:pt x="0" y="1953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840120" y="3720960"/>
              <a:ext cx="515880" cy="514440"/>
            </a:xfrm>
            <a:custGeom>
              <a:avLst/>
              <a:gdLst/>
              <a:ahLst/>
              <a:rect l="l" t="t" r="r" b="b"/>
              <a:pathLst>
                <a:path w="1952" h="1942">
                  <a:moveTo>
                    <a:pt x="0" y="1929"/>
                  </a:moveTo>
                  <a:lnTo>
                    <a:pt x="1926" y="0"/>
                  </a:lnTo>
                  <a:lnTo>
                    <a:pt x="1929" y="8"/>
                  </a:lnTo>
                  <a:lnTo>
                    <a:pt x="1932" y="16"/>
                  </a:lnTo>
                  <a:lnTo>
                    <a:pt x="1935" y="24"/>
                  </a:lnTo>
                  <a:lnTo>
                    <a:pt x="1939" y="32"/>
                  </a:lnTo>
                  <a:lnTo>
                    <a:pt x="1942" y="40"/>
                  </a:lnTo>
                  <a:lnTo>
                    <a:pt x="1945" y="47"/>
                  </a:lnTo>
                  <a:lnTo>
                    <a:pt x="1948" y="56"/>
                  </a:lnTo>
                  <a:lnTo>
                    <a:pt x="1952" y="63"/>
                  </a:lnTo>
                  <a:lnTo>
                    <a:pt x="76" y="1942"/>
                  </a:lnTo>
                  <a:lnTo>
                    <a:pt x="66" y="1940"/>
                  </a:lnTo>
                  <a:lnTo>
                    <a:pt x="57" y="1939"/>
                  </a:lnTo>
                  <a:lnTo>
                    <a:pt x="47" y="1937"/>
                  </a:lnTo>
                  <a:lnTo>
                    <a:pt x="38" y="1935"/>
                  </a:lnTo>
                  <a:lnTo>
                    <a:pt x="28" y="1934"/>
                  </a:lnTo>
                  <a:lnTo>
                    <a:pt x="19" y="1932"/>
                  </a:lnTo>
                  <a:lnTo>
                    <a:pt x="9" y="1930"/>
                  </a:lnTo>
                  <a:lnTo>
                    <a:pt x="0" y="1929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849840" y="3728880"/>
              <a:ext cx="509400" cy="508320"/>
            </a:xfrm>
            <a:custGeom>
              <a:avLst/>
              <a:gdLst/>
              <a:ahLst/>
              <a:rect l="l" t="t" r="r" b="b"/>
              <a:pathLst>
                <a:path w="1927" h="1917">
                  <a:moveTo>
                    <a:pt x="0" y="1903"/>
                  </a:moveTo>
                  <a:lnTo>
                    <a:pt x="1901" y="0"/>
                  </a:lnTo>
                  <a:lnTo>
                    <a:pt x="1904" y="7"/>
                  </a:lnTo>
                  <a:lnTo>
                    <a:pt x="1908" y="15"/>
                  </a:lnTo>
                  <a:lnTo>
                    <a:pt x="1910" y="24"/>
                  </a:lnTo>
                  <a:lnTo>
                    <a:pt x="1914" y="31"/>
                  </a:lnTo>
                  <a:lnTo>
                    <a:pt x="1917" y="39"/>
                  </a:lnTo>
                  <a:lnTo>
                    <a:pt x="1921" y="47"/>
                  </a:lnTo>
                  <a:lnTo>
                    <a:pt x="1923" y="55"/>
                  </a:lnTo>
                  <a:lnTo>
                    <a:pt x="1927" y="63"/>
                  </a:lnTo>
                  <a:lnTo>
                    <a:pt x="74" y="1917"/>
                  </a:lnTo>
                  <a:lnTo>
                    <a:pt x="65" y="1915"/>
                  </a:lnTo>
                  <a:lnTo>
                    <a:pt x="57" y="1914"/>
                  </a:lnTo>
                  <a:lnTo>
                    <a:pt x="47" y="1911"/>
                  </a:lnTo>
                  <a:lnTo>
                    <a:pt x="38" y="1910"/>
                  </a:lnTo>
                  <a:lnTo>
                    <a:pt x="28" y="1908"/>
                  </a:lnTo>
                  <a:lnTo>
                    <a:pt x="19" y="1907"/>
                  </a:lnTo>
                  <a:lnTo>
                    <a:pt x="9" y="1905"/>
                  </a:lnTo>
                  <a:lnTo>
                    <a:pt x="0" y="1903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860640" y="3738600"/>
              <a:ext cx="503280" cy="500040"/>
            </a:xfrm>
            <a:custGeom>
              <a:avLst/>
              <a:gdLst/>
              <a:ahLst/>
              <a:rect l="l" t="t" r="r" b="b"/>
              <a:pathLst>
                <a:path w="1902" h="1893">
                  <a:moveTo>
                    <a:pt x="0" y="1879"/>
                  </a:moveTo>
                  <a:lnTo>
                    <a:pt x="1876" y="0"/>
                  </a:lnTo>
                  <a:lnTo>
                    <a:pt x="1879" y="8"/>
                  </a:lnTo>
                  <a:lnTo>
                    <a:pt x="1883" y="16"/>
                  </a:lnTo>
                  <a:lnTo>
                    <a:pt x="1885" y="24"/>
                  </a:lnTo>
                  <a:lnTo>
                    <a:pt x="1889" y="32"/>
                  </a:lnTo>
                  <a:lnTo>
                    <a:pt x="1892" y="40"/>
                  </a:lnTo>
                  <a:lnTo>
                    <a:pt x="1896" y="47"/>
                  </a:lnTo>
                  <a:lnTo>
                    <a:pt x="1898" y="56"/>
                  </a:lnTo>
                  <a:lnTo>
                    <a:pt x="1902" y="64"/>
                  </a:lnTo>
                  <a:lnTo>
                    <a:pt x="74" y="1893"/>
                  </a:lnTo>
                  <a:lnTo>
                    <a:pt x="65" y="1891"/>
                  </a:lnTo>
                  <a:lnTo>
                    <a:pt x="55" y="1890"/>
                  </a:lnTo>
                  <a:lnTo>
                    <a:pt x="46" y="1888"/>
                  </a:lnTo>
                  <a:lnTo>
                    <a:pt x="36" y="1886"/>
                  </a:lnTo>
                  <a:lnTo>
                    <a:pt x="27" y="1884"/>
                  </a:lnTo>
                  <a:lnTo>
                    <a:pt x="19" y="1883"/>
                  </a:lnTo>
                  <a:lnTo>
                    <a:pt x="9" y="1880"/>
                  </a:lnTo>
                  <a:lnTo>
                    <a:pt x="0" y="1879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70360" y="3746520"/>
              <a:ext cx="496800" cy="493560"/>
            </a:xfrm>
            <a:custGeom>
              <a:avLst/>
              <a:gdLst/>
              <a:ahLst/>
              <a:rect l="l" t="t" r="r" b="b"/>
              <a:pathLst>
                <a:path w="1879" h="1869">
                  <a:moveTo>
                    <a:pt x="0" y="1854"/>
                  </a:moveTo>
                  <a:lnTo>
                    <a:pt x="1853" y="0"/>
                  </a:lnTo>
                  <a:lnTo>
                    <a:pt x="1856" y="8"/>
                  </a:lnTo>
                  <a:lnTo>
                    <a:pt x="1860" y="15"/>
                  </a:lnTo>
                  <a:lnTo>
                    <a:pt x="1862" y="24"/>
                  </a:lnTo>
                  <a:lnTo>
                    <a:pt x="1866" y="32"/>
                  </a:lnTo>
                  <a:lnTo>
                    <a:pt x="1870" y="40"/>
                  </a:lnTo>
                  <a:lnTo>
                    <a:pt x="1872" y="47"/>
                  </a:lnTo>
                  <a:lnTo>
                    <a:pt x="1875" y="56"/>
                  </a:lnTo>
                  <a:lnTo>
                    <a:pt x="1879" y="64"/>
                  </a:lnTo>
                  <a:lnTo>
                    <a:pt x="75" y="1869"/>
                  </a:lnTo>
                  <a:lnTo>
                    <a:pt x="67" y="1867"/>
                  </a:lnTo>
                  <a:lnTo>
                    <a:pt x="57" y="1865"/>
                  </a:lnTo>
                  <a:lnTo>
                    <a:pt x="48" y="1863"/>
                  </a:lnTo>
                  <a:lnTo>
                    <a:pt x="38" y="1861"/>
                  </a:lnTo>
                  <a:lnTo>
                    <a:pt x="29" y="1859"/>
                  </a:lnTo>
                  <a:lnTo>
                    <a:pt x="19" y="1858"/>
                  </a:lnTo>
                  <a:lnTo>
                    <a:pt x="10" y="1856"/>
                  </a:lnTo>
                  <a:lnTo>
                    <a:pt x="0" y="1854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879720" y="3754440"/>
              <a:ext cx="490680" cy="488880"/>
            </a:xfrm>
            <a:custGeom>
              <a:avLst/>
              <a:gdLst/>
              <a:ahLst/>
              <a:rect l="l" t="t" r="r" b="b"/>
              <a:pathLst>
                <a:path w="1854" h="1845">
                  <a:moveTo>
                    <a:pt x="0" y="1829"/>
                  </a:moveTo>
                  <a:lnTo>
                    <a:pt x="1828" y="0"/>
                  </a:lnTo>
                  <a:lnTo>
                    <a:pt x="1832" y="7"/>
                  </a:lnTo>
                  <a:lnTo>
                    <a:pt x="1835" y="15"/>
                  </a:lnTo>
                  <a:lnTo>
                    <a:pt x="1837" y="24"/>
                  </a:lnTo>
                  <a:lnTo>
                    <a:pt x="1841" y="32"/>
                  </a:lnTo>
                  <a:lnTo>
                    <a:pt x="1845" y="39"/>
                  </a:lnTo>
                  <a:lnTo>
                    <a:pt x="1847" y="47"/>
                  </a:lnTo>
                  <a:lnTo>
                    <a:pt x="1851" y="56"/>
                  </a:lnTo>
                  <a:lnTo>
                    <a:pt x="1854" y="63"/>
                  </a:lnTo>
                  <a:lnTo>
                    <a:pt x="75" y="1845"/>
                  </a:lnTo>
                  <a:lnTo>
                    <a:pt x="66" y="1843"/>
                  </a:lnTo>
                  <a:lnTo>
                    <a:pt x="56" y="1840"/>
                  </a:lnTo>
                  <a:lnTo>
                    <a:pt x="47" y="1839"/>
                  </a:lnTo>
                  <a:lnTo>
                    <a:pt x="37" y="1837"/>
                  </a:lnTo>
                  <a:lnTo>
                    <a:pt x="29" y="1835"/>
                  </a:lnTo>
                  <a:lnTo>
                    <a:pt x="19" y="1833"/>
                  </a:lnTo>
                  <a:lnTo>
                    <a:pt x="10" y="1831"/>
                  </a:lnTo>
                  <a:lnTo>
                    <a:pt x="0" y="1829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9440" y="3763800"/>
              <a:ext cx="484200" cy="481320"/>
            </a:xfrm>
            <a:custGeom>
              <a:avLst/>
              <a:gdLst/>
              <a:ahLst/>
              <a:rect l="l" t="t" r="r" b="b"/>
              <a:pathLst>
                <a:path w="1830" h="1820">
                  <a:moveTo>
                    <a:pt x="0" y="1805"/>
                  </a:moveTo>
                  <a:lnTo>
                    <a:pt x="1804" y="0"/>
                  </a:lnTo>
                  <a:lnTo>
                    <a:pt x="1808" y="7"/>
                  </a:lnTo>
                  <a:lnTo>
                    <a:pt x="1810" y="15"/>
                  </a:lnTo>
                  <a:lnTo>
                    <a:pt x="1814" y="24"/>
                  </a:lnTo>
                  <a:lnTo>
                    <a:pt x="1817" y="31"/>
                  </a:lnTo>
                  <a:lnTo>
                    <a:pt x="1819" y="39"/>
                  </a:lnTo>
                  <a:lnTo>
                    <a:pt x="1823" y="48"/>
                  </a:lnTo>
                  <a:lnTo>
                    <a:pt x="1827" y="56"/>
                  </a:lnTo>
                  <a:lnTo>
                    <a:pt x="1830" y="63"/>
                  </a:lnTo>
                  <a:lnTo>
                    <a:pt x="75" y="1820"/>
                  </a:lnTo>
                  <a:lnTo>
                    <a:pt x="65" y="1819"/>
                  </a:lnTo>
                  <a:lnTo>
                    <a:pt x="56" y="1816"/>
                  </a:lnTo>
                  <a:lnTo>
                    <a:pt x="46" y="1814"/>
                  </a:lnTo>
                  <a:lnTo>
                    <a:pt x="38" y="1813"/>
                  </a:lnTo>
                  <a:lnTo>
                    <a:pt x="29" y="1811"/>
                  </a:lnTo>
                  <a:lnTo>
                    <a:pt x="19" y="1808"/>
                  </a:lnTo>
                  <a:lnTo>
                    <a:pt x="10" y="1807"/>
                  </a:lnTo>
                  <a:lnTo>
                    <a:pt x="0" y="1805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00600" y="3772080"/>
              <a:ext cx="476280" cy="474480"/>
            </a:xfrm>
            <a:custGeom>
              <a:avLst/>
              <a:gdLst/>
              <a:ahLst/>
              <a:rect l="l" t="t" r="r" b="b"/>
              <a:pathLst>
                <a:path w="1804" h="1797">
                  <a:moveTo>
                    <a:pt x="0" y="1782"/>
                  </a:moveTo>
                  <a:lnTo>
                    <a:pt x="1779" y="0"/>
                  </a:lnTo>
                  <a:lnTo>
                    <a:pt x="1783" y="8"/>
                  </a:lnTo>
                  <a:lnTo>
                    <a:pt x="1785" y="17"/>
                  </a:lnTo>
                  <a:lnTo>
                    <a:pt x="1789" y="25"/>
                  </a:lnTo>
                  <a:lnTo>
                    <a:pt x="1792" y="32"/>
                  </a:lnTo>
                  <a:lnTo>
                    <a:pt x="1795" y="40"/>
                  </a:lnTo>
                  <a:lnTo>
                    <a:pt x="1798" y="49"/>
                  </a:lnTo>
                  <a:lnTo>
                    <a:pt x="1802" y="57"/>
                  </a:lnTo>
                  <a:lnTo>
                    <a:pt x="1804" y="64"/>
                  </a:lnTo>
                  <a:lnTo>
                    <a:pt x="73" y="1797"/>
                  </a:lnTo>
                  <a:lnTo>
                    <a:pt x="64" y="1796"/>
                  </a:lnTo>
                  <a:lnTo>
                    <a:pt x="55" y="1794"/>
                  </a:lnTo>
                  <a:lnTo>
                    <a:pt x="45" y="1791"/>
                  </a:lnTo>
                  <a:lnTo>
                    <a:pt x="37" y="1789"/>
                  </a:lnTo>
                  <a:lnTo>
                    <a:pt x="27" y="1788"/>
                  </a:lnTo>
                  <a:lnTo>
                    <a:pt x="18" y="1785"/>
                  </a:lnTo>
                  <a:lnTo>
                    <a:pt x="8" y="1783"/>
                  </a:lnTo>
                  <a:lnTo>
                    <a:pt x="0" y="1782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09960" y="3780000"/>
              <a:ext cx="469800" cy="469800"/>
            </a:xfrm>
            <a:custGeom>
              <a:avLst/>
              <a:gdLst/>
              <a:ahLst/>
              <a:rect l="l" t="t" r="r" b="b"/>
              <a:pathLst>
                <a:path w="1780" h="1774">
                  <a:moveTo>
                    <a:pt x="0" y="1757"/>
                  </a:moveTo>
                  <a:lnTo>
                    <a:pt x="1755" y="0"/>
                  </a:lnTo>
                  <a:lnTo>
                    <a:pt x="1758" y="8"/>
                  </a:lnTo>
                  <a:lnTo>
                    <a:pt x="1761" y="17"/>
                  </a:lnTo>
                  <a:lnTo>
                    <a:pt x="1765" y="25"/>
                  </a:lnTo>
                  <a:lnTo>
                    <a:pt x="1767" y="32"/>
                  </a:lnTo>
                  <a:lnTo>
                    <a:pt x="1771" y="40"/>
                  </a:lnTo>
                  <a:lnTo>
                    <a:pt x="1774" y="49"/>
                  </a:lnTo>
                  <a:lnTo>
                    <a:pt x="1777" y="57"/>
                  </a:lnTo>
                  <a:lnTo>
                    <a:pt x="1780" y="64"/>
                  </a:lnTo>
                  <a:lnTo>
                    <a:pt x="72" y="1774"/>
                  </a:lnTo>
                  <a:lnTo>
                    <a:pt x="63" y="1772"/>
                  </a:lnTo>
                  <a:lnTo>
                    <a:pt x="55" y="1770"/>
                  </a:lnTo>
                  <a:lnTo>
                    <a:pt x="45" y="1768"/>
                  </a:lnTo>
                  <a:lnTo>
                    <a:pt x="36" y="1765"/>
                  </a:lnTo>
                  <a:lnTo>
                    <a:pt x="27" y="1764"/>
                  </a:lnTo>
                  <a:lnTo>
                    <a:pt x="18" y="1762"/>
                  </a:lnTo>
                  <a:lnTo>
                    <a:pt x="8" y="1759"/>
                  </a:lnTo>
                  <a:lnTo>
                    <a:pt x="0" y="1757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19680" y="3789360"/>
              <a:ext cx="465120" cy="461880"/>
            </a:xfrm>
            <a:custGeom>
              <a:avLst/>
              <a:gdLst/>
              <a:ahLst/>
              <a:rect l="l" t="t" r="r" b="b"/>
              <a:pathLst>
                <a:path w="1757" h="1751">
                  <a:moveTo>
                    <a:pt x="0" y="1733"/>
                  </a:moveTo>
                  <a:lnTo>
                    <a:pt x="1731" y="0"/>
                  </a:lnTo>
                  <a:lnTo>
                    <a:pt x="1735" y="8"/>
                  </a:lnTo>
                  <a:lnTo>
                    <a:pt x="1738" y="17"/>
                  </a:lnTo>
                  <a:lnTo>
                    <a:pt x="1741" y="25"/>
                  </a:lnTo>
                  <a:lnTo>
                    <a:pt x="1744" y="32"/>
                  </a:lnTo>
                  <a:lnTo>
                    <a:pt x="1748" y="40"/>
                  </a:lnTo>
                  <a:lnTo>
                    <a:pt x="1750" y="49"/>
                  </a:lnTo>
                  <a:lnTo>
                    <a:pt x="1754" y="57"/>
                  </a:lnTo>
                  <a:lnTo>
                    <a:pt x="1757" y="64"/>
                  </a:lnTo>
                  <a:lnTo>
                    <a:pt x="72" y="1751"/>
                  </a:lnTo>
                  <a:lnTo>
                    <a:pt x="64" y="1749"/>
                  </a:lnTo>
                  <a:lnTo>
                    <a:pt x="54" y="1746"/>
                  </a:lnTo>
                  <a:lnTo>
                    <a:pt x="45" y="1744"/>
                  </a:lnTo>
                  <a:lnTo>
                    <a:pt x="36" y="1742"/>
                  </a:lnTo>
                  <a:lnTo>
                    <a:pt x="27" y="1740"/>
                  </a:lnTo>
                  <a:lnTo>
                    <a:pt x="19" y="1738"/>
                  </a:lnTo>
                  <a:lnTo>
                    <a:pt x="9" y="1736"/>
                  </a:lnTo>
                  <a:lnTo>
                    <a:pt x="0" y="1733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29040" y="3797280"/>
              <a:ext cx="457200" cy="457200"/>
            </a:xfrm>
            <a:custGeom>
              <a:avLst/>
              <a:gdLst/>
              <a:ahLst/>
              <a:rect l="l" t="t" r="r" b="b"/>
              <a:pathLst>
                <a:path w="1733" h="1728">
                  <a:moveTo>
                    <a:pt x="0" y="1710"/>
                  </a:moveTo>
                  <a:lnTo>
                    <a:pt x="1708" y="0"/>
                  </a:lnTo>
                  <a:lnTo>
                    <a:pt x="1712" y="8"/>
                  </a:lnTo>
                  <a:lnTo>
                    <a:pt x="1714" y="17"/>
                  </a:lnTo>
                  <a:lnTo>
                    <a:pt x="1718" y="25"/>
                  </a:lnTo>
                  <a:lnTo>
                    <a:pt x="1721" y="32"/>
                  </a:lnTo>
                  <a:lnTo>
                    <a:pt x="1724" y="41"/>
                  </a:lnTo>
                  <a:lnTo>
                    <a:pt x="1727" y="49"/>
                  </a:lnTo>
                  <a:lnTo>
                    <a:pt x="1729" y="57"/>
                  </a:lnTo>
                  <a:lnTo>
                    <a:pt x="1733" y="65"/>
                  </a:lnTo>
                  <a:lnTo>
                    <a:pt x="72" y="1728"/>
                  </a:lnTo>
                  <a:lnTo>
                    <a:pt x="63" y="1725"/>
                  </a:lnTo>
                  <a:lnTo>
                    <a:pt x="54" y="1724"/>
                  </a:lnTo>
                  <a:lnTo>
                    <a:pt x="45" y="1722"/>
                  </a:lnTo>
                  <a:lnTo>
                    <a:pt x="36" y="1719"/>
                  </a:lnTo>
                  <a:lnTo>
                    <a:pt x="28" y="1717"/>
                  </a:lnTo>
                  <a:lnTo>
                    <a:pt x="18" y="1714"/>
                  </a:lnTo>
                  <a:lnTo>
                    <a:pt x="9" y="1712"/>
                  </a:lnTo>
                  <a:lnTo>
                    <a:pt x="0" y="171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38760" y="3805200"/>
              <a:ext cx="450720" cy="450720"/>
            </a:xfrm>
            <a:custGeom>
              <a:avLst/>
              <a:gdLst/>
              <a:ahLst/>
              <a:rect l="l" t="t" r="r" b="b"/>
              <a:pathLst>
                <a:path w="1709" h="1705">
                  <a:moveTo>
                    <a:pt x="0" y="1687"/>
                  </a:moveTo>
                  <a:lnTo>
                    <a:pt x="1685" y="0"/>
                  </a:lnTo>
                  <a:lnTo>
                    <a:pt x="1688" y="9"/>
                  </a:lnTo>
                  <a:lnTo>
                    <a:pt x="1691" y="17"/>
                  </a:lnTo>
                  <a:lnTo>
                    <a:pt x="1693" y="25"/>
                  </a:lnTo>
                  <a:lnTo>
                    <a:pt x="1697" y="33"/>
                  </a:lnTo>
                  <a:lnTo>
                    <a:pt x="1701" y="41"/>
                  </a:lnTo>
                  <a:lnTo>
                    <a:pt x="1703" y="49"/>
                  </a:lnTo>
                  <a:lnTo>
                    <a:pt x="1706" y="57"/>
                  </a:lnTo>
                  <a:lnTo>
                    <a:pt x="1709" y="66"/>
                  </a:lnTo>
                  <a:lnTo>
                    <a:pt x="71" y="1705"/>
                  </a:lnTo>
                  <a:lnTo>
                    <a:pt x="63" y="1703"/>
                  </a:lnTo>
                  <a:lnTo>
                    <a:pt x="53" y="1700"/>
                  </a:lnTo>
                  <a:lnTo>
                    <a:pt x="45" y="1698"/>
                  </a:lnTo>
                  <a:lnTo>
                    <a:pt x="36" y="1696"/>
                  </a:lnTo>
                  <a:lnTo>
                    <a:pt x="27" y="1694"/>
                  </a:lnTo>
                  <a:lnTo>
                    <a:pt x="18" y="1692"/>
                  </a:lnTo>
                  <a:lnTo>
                    <a:pt x="9" y="1690"/>
                  </a:lnTo>
                  <a:lnTo>
                    <a:pt x="0" y="1687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48120" y="3814920"/>
              <a:ext cx="446040" cy="444240"/>
            </a:xfrm>
            <a:custGeom>
              <a:avLst/>
              <a:gdLst/>
              <a:ahLst/>
              <a:rect l="l" t="t" r="r" b="b"/>
              <a:pathLst>
                <a:path w="1686" h="1682">
                  <a:moveTo>
                    <a:pt x="0" y="1663"/>
                  </a:moveTo>
                  <a:lnTo>
                    <a:pt x="1661" y="0"/>
                  </a:lnTo>
                  <a:lnTo>
                    <a:pt x="1665" y="8"/>
                  </a:lnTo>
                  <a:lnTo>
                    <a:pt x="1667" y="16"/>
                  </a:lnTo>
                  <a:lnTo>
                    <a:pt x="1670" y="24"/>
                  </a:lnTo>
                  <a:lnTo>
                    <a:pt x="1673" y="33"/>
                  </a:lnTo>
                  <a:lnTo>
                    <a:pt x="1676" y="41"/>
                  </a:lnTo>
                  <a:lnTo>
                    <a:pt x="1680" y="49"/>
                  </a:lnTo>
                  <a:lnTo>
                    <a:pt x="1682" y="56"/>
                  </a:lnTo>
                  <a:lnTo>
                    <a:pt x="1686" y="65"/>
                  </a:lnTo>
                  <a:lnTo>
                    <a:pt x="71" y="1682"/>
                  </a:lnTo>
                  <a:lnTo>
                    <a:pt x="61" y="1679"/>
                  </a:lnTo>
                  <a:lnTo>
                    <a:pt x="53" y="1677"/>
                  </a:lnTo>
                  <a:lnTo>
                    <a:pt x="45" y="1674"/>
                  </a:lnTo>
                  <a:lnTo>
                    <a:pt x="35" y="1672"/>
                  </a:lnTo>
                  <a:lnTo>
                    <a:pt x="27" y="1670"/>
                  </a:lnTo>
                  <a:lnTo>
                    <a:pt x="17" y="1667"/>
                  </a:lnTo>
                  <a:lnTo>
                    <a:pt x="9" y="1665"/>
                  </a:lnTo>
                  <a:lnTo>
                    <a:pt x="0" y="1663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957480" y="3822840"/>
              <a:ext cx="439920" cy="439560"/>
            </a:xfrm>
            <a:custGeom>
              <a:avLst/>
              <a:gdLst/>
              <a:ahLst/>
              <a:rect l="l" t="t" r="r" b="b"/>
              <a:pathLst>
                <a:path w="1663" h="1659">
                  <a:moveTo>
                    <a:pt x="0" y="1639"/>
                  </a:moveTo>
                  <a:lnTo>
                    <a:pt x="1638" y="0"/>
                  </a:lnTo>
                  <a:lnTo>
                    <a:pt x="1641" y="8"/>
                  </a:lnTo>
                  <a:lnTo>
                    <a:pt x="1645" y="16"/>
                  </a:lnTo>
                  <a:lnTo>
                    <a:pt x="1647" y="23"/>
                  </a:lnTo>
                  <a:lnTo>
                    <a:pt x="1651" y="32"/>
                  </a:lnTo>
                  <a:lnTo>
                    <a:pt x="1653" y="40"/>
                  </a:lnTo>
                  <a:lnTo>
                    <a:pt x="1657" y="48"/>
                  </a:lnTo>
                  <a:lnTo>
                    <a:pt x="1660" y="57"/>
                  </a:lnTo>
                  <a:lnTo>
                    <a:pt x="1663" y="64"/>
                  </a:lnTo>
                  <a:lnTo>
                    <a:pt x="70" y="1659"/>
                  </a:lnTo>
                  <a:lnTo>
                    <a:pt x="62" y="1656"/>
                  </a:lnTo>
                  <a:lnTo>
                    <a:pt x="52" y="1653"/>
                  </a:lnTo>
                  <a:lnTo>
                    <a:pt x="44" y="1651"/>
                  </a:lnTo>
                  <a:lnTo>
                    <a:pt x="36" y="1649"/>
                  </a:lnTo>
                  <a:lnTo>
                    <a:pt x="26" y="1646"/>
                  </a:lnTo>
                  <a:lnTo>
                    <a:pt x="18" y="1644"/>
                  </a:lnTo>
                  <a:lnTo>
                    <a:pt x="8" y="1641"/>
                  </a:lnTo>
                  <a:lnTo>
                    <a:pt x="0" y="1639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965400" y="3830760"/>
              <a:ext cx="435240" cy="433440"/>
            </a:xfrm>
            <a:custGeom>
              <a:avLst/>
              <a:gdLst/>
              <a:ahLst/>
              <a:rect l="l" t="t" r="r" b="b"/>
              <a:pathLst>
                <a:path w="1639" h="1637">
                  <a:moveTo>
                    <a:pt x="0" y="1617"/>
                  </a:moveTo>
                  <a:lnTo>
                    <a:pt x="1615" y="0"/>
                  </a:lnTo>
                  <a:lnTo>
                    <a:pt x="1617" y="8"/>
                  </a:lnTo>
                  <a:lnTo>
                    <a:pt x="1621" y="16"/>
                  </a:lnTo>
                  <a:lnTo>
                    <a:pt x="1623" y="25"/>
                  </a:lnTo>
                  <a:lnTo>
                    <a:pt x="1627" y="33"/>
                  </a:lnTo>
                  <a:lnTo>
                    <a:pt x="1630" y="40"/>
                  </a:lnTo>
                  <a:lnTo>
                    <a:pt x="1633" y="48"/>
                  </a:lnTo>
                  <a:lnTo>
                    <a:pt x="1636" y="57"/>
                  </a:lnTo>
                  <a:lnTo>
                    <a:pt x="1639" y="65"/>
                  </a:lnTo>
                  <a:lnTo>
                    <a:pt x="69" y="1637"/>
                  </a:lnTo>
                  <a:lnTo>
                    <a:pt x="60" y="1634"/>
                  </a:lnTo>
                  <a:lnTo>
                    <a:pt x="52" y="1632"/>
                  </a:lnTo>
                  <a:lnTo>
                    <a:pt x="42" y="1630"/>
                  </a:lnTo>
                  <a:lnTo>
                    <a:pt x="34" y="1626"/>
                  </a:lnTo>
                  <a:lnTo>
                    <a:pt x="26" y="1624"/>
                  </a:lnTo>
                  <a:lnTo>
                    <a:pt x="16" y="1621"/>
                  </a:lnTo>
                  <a:lnTo>
                    <a:pt x="8" y="1619"/>
                  </a:lnTo>
                  <a:lnTo>
                    <a:pt x="0" y="1617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75120" y="3840120"/>
              <a:ext cx="428760" cy="426960"/>
            </a:xfrm>
            <a:custGeom>
              <a:avLst/>
              <a:gdLst/>
              <a:ahLst/>
              <a:rect l="l" t="t" r="r" b="b"/>
              <a:pathLst>
                <a:path w="1618" h="1615">
                  <a:moveTo>
                    <a:pt x="0" y="1595"/>
                  </a:moveTo>
                  <a:lnTo>
                    <a:pt x="1593" y="0"/>
                  </a:lnTo>
                  <a:lnTo>
                    <a:pt x="1596" y="8"/>
                  </a:lnTo>
                  <a:lnTo>
                    <a:pt x="1599" y="16"/>
                  </a:lnTo>
                  <a:lnTo>
                    <a:pt x="1602" y="25"/>
                  </a:lnTo>
                  <a:lnTo>
                    <a:pt x="1605" y="33"/>
                  </a:lnTo>
                  <a:lnTo>
                    <a:pt x="1608" y="41"/>
                  </a:lnTo>
                  <a:lnTo>
                    <a:pt x="1611" y="50"/>
                  </a:lnTo>
                  <a:lnTo>
                    <a:pt x="1614" y="58"/>
                  </a:lnTo>
                  <a:lnTo>
                    <a:pt x="1618" y="66"/>
                  </a:lnTo>
                  <a:lnTo>
                    <a:pt x="69" y="1615"/>
                  </a:lnTo>
                  <a:lnTo>
                    <a:pt x="61" y="1613"/>
                  </a:lnTo>
                  <a:lnTo>
                    <a:pt x="52" y="1609"/>
                  </a:lnTo>
                  <a:lnTo>
                    <a:pt x="44" y="1607"/>
                  </a:lnTo>
                  <a:lnTo>
                    <a:pt x="35" y="1605"/>
                  </a:lnTo>
                  <a:lnTo>
                    <a:pt x="26" y="1602"/>
                  </a:lnTo>
                  <a:lnTo>
                    <a:pt x="18" y="1600"/>
                  </a:lnTo>
                  <a:lnTo>
                    <a:pt x="8" y="1598"/>
                  </a:lnTo>
                  <a:lnTo>
                    <a:pt x="0" y="1595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84480" y="3848040"/>
              <a:ext cx="422280" cy="422280"/>
            </a:xfrm>
            <a:custGeom>
              <a:avLst/>
              <a:gdLst/>
              <a:ahLst/>
              <a:rect l="l" t="t" r="r" b="b"/>
              <a:pathLst>
                <a:path w="1595" h="1593">
                  <a:moveTo>
                    <a:pt x="0" y="1572"/>
                  </a:moveTo>
                  <a:lnTo>
                    <a:pt x="1570" y="0"/>
                  </a:lnTo>
                  <a:lnTo>
                    <a:pt x="1573" y="8"/>
                  </a:lnTo>
                  <a:lnTo>
                    <a:pt x="1576" y="17"/>
                  </a:lnTo>
                  <a:lnTo>
                    <a:pt x="1579" y="25"/>
                  </a:lnTo>
                  <a:lnTo>
                    <a:pt x="1583" y="33"/>
                  </a:lnTo>
                  <a:lnTo>
                    <a:pt x="1585" y="40"/>
                  </a:lnTo>
                  <a:lnTo>
                    <a:pt x="1589" y="49"/>
                  </a:lnTo>
                  <a:lnTo>
                    <a:pt x="1591" y="57"/>
                  </a:lnTo>
                  <a:lnTo>
                    <a:pt x="1595" y="65"/>
                  </a:lnTo>
                  <a:lnTo>
                    <a:pt x="68" y="1593"/>
                  </a:lnTo>
                  <a:lnTo>
                    <a:pt x="60" y="1590"/>
                  </a:lnTo>
                  <a:lnTo>
                    <a:pt x="52" y="1587"/>
                  </a:lnTo>
                  <a:lnTo>
                    <a:pt x="43" y="1585"/>
                  </a:lnTo>
                  <a:lnTo>
                    <a:pt x="34" y="1582"/>
                  </a:lnTo>
                  <a:lnTo>
                    <a:pt x="26" y="1580"/>
                  </a:lnTo>
                  <a:lnTo>
                    <a:pt x="17" y="1576"/>
                  </a:lnTo>
                  <a:lnTo>
                    <a:pt x="9" y="1574"/>
                  </a:lnTo>
                  <a:lnTo>
                    <a:pt x="0" y="1572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94200" y="3857760"/>
              <a:ext cx="415800" cy="415800"/>
            </a:xfrm>
            <a:custGeom>
              <a:avLst/>
              <a:gdLst/>
              <a:ahLst/>
              <a:rect l="l" t="t" r="r" b="b"/>
              <a:pathLst>
                <a:path w="1572" h="1571">
                  <a:moveTo>
                    <a:pt x="0" y="1549"/>
                  </a:moveTo>
                  <a:lnTo>
                    <a:pt x="1549" y="0"/>
                  </a:lnTo>
                  <a:lnTo>
                    <a:pt x="1551" y="7"/>
                  </a:lnTo>
                  <a:lnTo>
                    <a:pt x="1555" y="16"/>
                  </a:lnTo>
                  <a:lnTo>
                    <a:pt x="1557" y="24"/>
                  </a:lnTo>
                  <a:lnTo>
                    <a:pt x="1561" y="32"/>
                  </a:lnTo>
                  <a:lnTo>
                    <a:pt x="1563" y="41"/>
                  </a:lnTo>
                  <a:lnTo>
                    <a:pt x="1567" y="49"/>
                  </a:lnTo>
                  <a:lnTo>
                    <a:pt x="1569" y="57"/>
                  </a:lnTo>
                  <a:lnTo>
                    <a:pt x="1572" y="66"/>
                  </a:lnTo>
                  <a:lnTo>
                    <a:pt x="68" y="1571"/>
                  </a:lnTo>
                  <a:lnTo>
                    <a:pt x="59" y="1568"/>
                  </a:lnTo>
                  <a:lnTo>
                    <a:pt x="51" y="1565"/>
                  </a:lnTo>
                  <a:lnTo>
                    <a:pt x="43" y="1562"/>
                  </a:lnTo>
                  <a:lnTo>
                    <a:pt x="34" y="1560"/>
                  </a:lnTo>
                  <a:lnTo>
                    <a:pt x="26" y="1558"/>
                  </a:lnTo>
                  <a:lnTo>
                    <a:pt x="18" y="1554"/>
                  </a:lnTo>
                  <a:lnTo>
                    <a:pt x="8" y="1552"/>
                  </a:lnTo>
                  <a:lnTo>
                    <a:pt x="0" y="1549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002120" y="3865680"/>
              <a:ext cx="411120" cy="409320"/>
            </a:xfrm>
            <a:custGeom>
              <a:avLst/>
              <a:gdLst/>
              <a:ahLst/>
              <a:rect l="l" t="t" r="r" b="b"/>
              <a:pathLst>
                <a:path w="1549" h="1549">
                  <a:moveTo>
                    <a:pt x="0" y="1528"/>
                  </a:moveTo>
                  <a:lnTo>
                    <a:pt x="1527" y="0"/>
                  </a:lnTo>
                  <a:lnTo>
                    <a:pt x="1529" y="9"/>
                  </a:lnTo>
                  <a:lnTo>
                    <a:pt x="1533" y="17"/>
                  </a:lnTo>
                  <a:lnTo>
                    <a:pt x="1535" y="25"/>
                  </a:lnTo>
                  <a:lnTo>
                    <a:pt x="1538" y="34"/>
                  </a:lnTo>
                  <a:lnTo>
                    <a:pt x="1541" y="42"/>
                  </a:lnTo>
                  <a:lnTo>
                    <a:pt x="1544" y="50"/>
                  </a:lnTo>
                  <a:lnTo>
                    <a:pt x="1547" y="59"/>
                  </a:lnTo>
                  <a:lnTo>
                    <a:pt x="1549" y="67"/>
                  </a:lnTo>
                  <a:lnTo>
                    <a:pt x="68" y="1549"/>
                  </a:lnTo>
                  <a:lnTo>
                    <a:pt x="60" y="1547"/>
                  </a:lnTo>
                  <a:lnTo>
                    <a:pt x="51" y="1545"/>
                  </a:lnTo>
                  <a:lnTo>
                    <a:pt x="43" y="1541"/>
                  </a:lnTo>
                  <a:lnTo>
                    <a:pt x="35" y="1539"/>
                  </a:lnTo>
                  <a:lnTo>
                    <a:pt x="25" y="1536"/>
                  </a:lnTo>
                  <a:lnTo>
                    <a:pt x="17" y="1533"/>
                  </a:lnTo>
                  <a:lnTo>
                    <a:pt x="9" y="1530"/>
                  </a:lnTo>
                  <a:lnTo>
                    <a:pt x="0" y="152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011480" y="3875040"/>
              <a:ext cx="403200" cy="403200"/>
            </a:xfrm>
            <a:custGeom>
              <a:avLst/>
              <a:gdLst/>
              <a:ahLst/>
              <a:rect l="l" t="t" r="r" b="b"/>
              <a:pathLst>
                <a:path w="1527" h="1527">
                  <a:moveTo>
                    <a:pt x="0" y="1505"/>
                  </a:moveTo>
                  <a:lnTo>
                    <a:pt x="1504" y="0"/>
                  </a:lnTo>
                  <a:lnTo>
                    <a:pt x="1507" y="8"/>
                  </a:lnTo>
                  <a:lnTo>
                    <a:pt x="1510" y="16"/>
                  </a:lnTo>
                  <a:lnTo>
                    <a:pt x="1513" y="25"/>
                  </a:lnTo>
                  <a:lnTo>
                    <a:pt x="1516" y="33"/>
                  </a:lnTo>
                  <a:lnTo>
                    <a:pt x="1519" y="41"/>
                  </a:lnTo>
                  <a:lnTo>
                    <a:pt x="1521" y="49"/>
                  </a:lnTo>
                  <a:lnTo>
                    <a:pt x="1525" y="57"/>
                  </a:lnTo>
                  <a:lnTo>
                    <a:pt x="1527" y="65"/>
                  </a:lnTo>
                  <a:lnTo>
                    <a:pt x="67" y="1527"/>
                  </a:lnTo>
                  <a:lnTo>
                    <a:pt x="59" y="1525"/>
                  </a:lnTo>
                  <a:lnTo>
                    <a:pt x="51" y="1521"/>
                  </a:lnTo>
                  <a:lnTo>
                    <a:pt x="42" y="1519"/>
                  </a:lnTo>
                  <a:lnTo>
                    <a:pt x="34" y="1515"/>
                  </a:lnTo>
                  <a:lnTo>
                    <a:pt x="26" y="1513"/>
                  </a:lnTo>
                  <a:lnTo>
                    <a:pt x="17" y="1511"/>
                  </a:lnTo>
                  <a:lnTo>
                    <a:pt x="9" y="1507"/>
                  </a:lnTo>
                  <a:lnTo>
                    <a:pt x="0" y="1505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021200" y="3882960"/>
              <a:ext cx="396720" cy="398520"/>
            </a:xfrm>
            <a:custGeom>
              <a:avLst/>
              <a:gdLst/>
              <a:ahLst/>
              <a:rect l="l" t="t" r="r" b="b"/>
              <a:pathLst>
                <a:path w="1505" h="1506">
                  <a:moveTo>
                    <a:pt x="0" y="1482"/>
                  </a:moveTo>
                  <a:lnTo>
                    <a:pt x="1481" y="0"/>
                  </a:lnTo>
                  <a:lnTo>
                    <a:pt x="1485" y="8"/>
                  </a:lnTo>
                  <a:lnTo>
                    <a:pt x="1487" y="16"/>
                  </a:lnTo>
                  <a:lnTo>
                    <a:pt x="1491" y="24"/>
                  </a:lnTo>
                  <a:lnTo>
                    <a:pt x="1493" y="32"/>
                  </a:lnTo>
                  <a:lnTo>
                    <a:pt x="1497" y="40"/>
                  </a:lnTo>
                  <a:lnTo>
                    <a:pt x="1499" y="49"/>
                  </a:lnTo>
                  <a:lnTo>
                    <a:pt x="1502" y="57"/>
                  </a:lnTo>
                  <a:lnTo>
                    <a:pt x="1505" y="65"/>
                  </a:lnTo>
                  <a:lnTo>
                    <a:pt x="65" y="1506"/>
                  </a:lnTo>
                  <a:lnTo>
                    <a:pt x="57" y="1504"/>
                  </a:lnTo>
                  <a:lnTo>
                    <a:pt x="50" y="1500"/>
                  </a:lnTo>
                  <a:lnTo>
                    <a:pt x="42" y="1498"/>
                  </a:lnTo>
                  <a:lnTo>
                    <a:pt x="33" y="1494"/>
                  </a:lnTo>
                  <a:lnTo>
                    <a:pt x="25" y="1492"/>
                  </a:lnTo>
                  <a:lnTo>
                    <a:pt x="17" y="1488"/>
                  </a:lnTo>
                  <a:lnTo>
                    <a:pt x="8" y="1486"/>
                  </a:lnTo>
                  <a:lnTo>
                    <a:pt x="0" y="1482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029120" y="3892680"/>
              <a:ext cx="392040" cy="392040"/>
            </a:xfrm>
            <a:custGeom>
              <a:avLst/>
              <a:gdLst/>
              <a:ahLst/>
              <a:rect l="l" t="t" r="r" b="b"/>
              <a:pathLst>
                <a:path w="1484" h="1486">
                  <a:moveTo>
                    <a:pt x="0" y="1462"/>
                  </a:moveTo>
                  <a:lnTo>
                    <a:pt x="1460" y="0"/>
                  </a:lnTo>
                  <a:lnTo>
                    <a:pt x="1464" y="8"/>
                  </a:lnTo>
                  <a:lnTo>
                    <a:pt x="1466" y="17"/>
                  </a:lnTo>
                  <a:lnTo>
                    <a:pt x="1469" y="25"/>
                  </a:lnTo>
                  <a:lnTo>
                    <a:pt x="1472" y="33"/>
                  </a:lnTo>
                  <a:lnTo>
                    <a:pt x="1475" y="42"/>
                  </a:lnTo>
                  <a:lnTo>
                    <a:pt x="1478" y="50"/>
                  </a:lnTo>
                  <a:lnTo>
                    <a:pt x="1480" y="58"/>
                  </a:lnTo>
                  <a:lnTo>
                    <a:pt x="1484" y="66"/>
                  </a:lnTo>
                  <a:lnTo>
                    <a:pt x="66" y="1486"/>
                  </a:lnTo>
                  <a:lnTo>
                    <a:pt x="57" y="1484"/>
                  </a:lnTo>
                  <a:lnTo>
                    <a:pt x="49" y="1480"/>
                  </a:lnTo>
                  <a:lnTo>
                    <a:pt x="41" y="1478"/>
                  </a:lnTo>
                  <a:lnTo>
                    <a:pt x="32" y="1474"/>
                  </a:lnTo>
                  <a:lnTo>
                    <a:pt x="24" y="1472"/>
                  </a:lnTo>
                  <a:lnTo>
                    <a:pt x="16" y="1468"/>
                  </a:lnTo>
                  <a:lnTo>
                    <a:pt x="9" y="1466"/>
                  </a:lnTo>
                  <a:lnTo>
                    <a:pt x="0" y="1462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038480" y="3900600"/>
              <a:ext cx="385920" cy="388800"/>
            </a:xfrm>
            <a:custGeom>
              <a:avLst/>
              <a:gdLst/>
              <a:ahLst/>
              <a:rect l="l" t="t" r="r" b="b"/>
              <a:pathLst>
                <a:path w="1462" h="1466">
                  <a:moveTo>
                    <a:pt x="0" y="1441"/>
                  </a:moveTo>
                  <a:lnTo>
                    <a:pt x="1440" y="0"/>
                  </a:lnTo>
                  <a:lnTo>
                    <a:pt x="1443" y="9"/>
                  </a:lnTo>
                  <a:lnTo>
                    <a:pt x="1446" y="17"/>
                  </a:lnTo>
                  <a:lnTo>
                    <a:pt x="1448" y="25"/>
                  </a:lnTo>
                  <a:lnTo>
                    <a:pt x="1452" y="33"/>
                  </a:lnTo>
                  <a:lnTo>
                    <a:pt x="1454" y="42"/>
                  </a:lnTo>
                  <a:lnTo>
                    <a:pt x="1458" y="50"/>
                  </a:lnTo>
                  <a:lnTo>
                    <a:pt x="1460" y="58"/>
                  </a:lnTo>
                  <a:lnTo>
                    <a:pt x="1462" y="67"/>
                  </a:lnTo>
                  <a:lnTo>
                    <a:pt x="66" y="1466"/>
                  </a:lnTo>
                  <a:lnTo>
                    <a:pt x="57" y="1463"/>
                  </a:lnTo>
                  <a:lnTo>
                    <a:pt x="50" y="1459"/>
                  </a:lnTo>
                  <a:lnTo>
                    <a:pt x="42" y="1457"/>
                  </a:lnTo>
                  <a:lnTo>
                    <a:pt x="34" y="1453"/>
                  </a:lnTo>
                  <a:lnTo>
                    <a:pt x="25" y="1451"/>
                  </a:lnTo>
                  <a:lnTo>
                    <a:pt x="17" y="1447"/>
                  </a:lnTo>
                  <a:lnTo>
                    <a:pt x="9" y="1444"/>
                  </a:lnTo>
                  <a:lnTo>
                    <a:pt x="0" y="1441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46400" y="3909960"/>
              <a:ext cx="381240" cy="382680"/>
            </a:xfrm>
            <a:custGeom>
              <a:avLst/>
              <a:gdLst/>
              <a:ahLst/>
              <a:rect l="l" t="t" r="r" b="b"/>
              <a:pathLst>
                <a:path w="1440" h="1445">
                  <a:moveTo>
                    <a:pt x="0" y="1420"/>
                  </a:moveTo>
                  <a:lnTo>
                    <a:pt x="1418" y="0"/>
                  </a:lnTo>
                  <a:lnTo>
                    <a:pt x="1420" y="9"/>
                  </a:lnTo>
                  <a:lnTo>
                    <a:pt x="1424" y="17"/>
                  </a:lnTo>
                  <a:lnTo>
                    <a:pt x="1426" y="25"/>
                  </a:lnTo>
                  <a:lnTo>
                    <a:pt x="1428" y="34"/>
                  </a:lnTo>
                  <a:lnTo>
                    <a:pt x="1432" y="42"/>
                  </a:lnTo>
                  <a:lnTo>
                    <a:pt x="1434" y="50"/>
                  </a:lnTo>
                  <a:lnTo>
                    <a:pt x="1438" y="59"/>
                  </a:lnTo>
                  <a:lnTo>
                    <a:pt x="1440" y="67"/>
                  </a:lnTo>
                  <a:lnTo>
                    <a:pt x="64" y="1445"/>
                  </a:lnTo>
                  <a:lnTo>
                    <a:pt x="55" y="1443"/>
                  </a:lnTo>
                  <a:lnTo>
                    <a:pt x="48" y="1439"/>
                  </a:lnTo>
                  <a:lnTo>
                    <a:pt x="40" y="1436"/>
                  </a:lnTo>
                  <a:lnTo>
                    <a:pt x="32" y="1433"/>
                  </a:lnTo>
                  <a:lnTo>
                    <a:pt x="23" y="1430"/>
                  </a:lnTo>
                  <a:lnTo>
                    <a:pt x="15" y="1426"/>
                  </a:lnTo>
                  <a:lnTo>
                    <a:pt x="8" y="1424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54320" y="3917880"/>
              <a:ext cx="376560" cy="378000"/>
            </a:xfrm>
            <a:custGeom>
              <a:avLst/>
              <a:gdLst/>
              <a:ahLst/>
              <a:rect l="l" t="t" r="r" b="b"/>
              <a:pathLst>
                <a:path w="1419" h="1424">
                  <a:moveTo>
                    <a:pt x="0" y="1399"/>
                  </a:moveTo>
                  <a:lnTo>
                    <a:pt x="1396" y="0"/>
                  </a:lnTo>
                  <a:lnTo>
                    <a:pt x="1400" y="8"/>
                  </a:lnTo>
                  <a:lnTo>
                    <a:pt x="1402" y="16"/>
                  </a:lnTo>
                  <a:lnTo>
                    <a:pt x="1406" y="26"/>
                  </a:lnTo>
                  <a:lnTo>
                    <a:pt x="1408" y="34"/>
                  </a:lnTo>
                  <a:lnTo>
                    <a:pt x="1411" y="42"/>
                  </a:lnTo>
                  <a:lnTo>
                    <a:pt x="1414" y="51"/>
                  </a:lnTo>
                  <a:lnTo>
                    <a:pt x="1417" y="59"/>
                  </a:lnTo>
                  <a:lnTo>
                    <a:pt x="1419" y="67"/>
                  </a:lnTo>
                  <a:lnTo>
                    <a:pt x="64" y="1424"/>
                  </a:lnTo>
                  <a:lnTo>
                    <a:pt x="55" y="1421"/>
                  </a:lnTo>
                  <a:lnTo>
                    <a:pt x="48" y="1418"/>
                  </a:lnTo>
                  <a:lnTo>
                    <a:pt x="40" y="1415"/>
                  </a:lnTo>
                  <a:lnTo>
                    <a:pt x="32" y="1411"/>
                  </a:lnTo>
                  <a:lnTo>
                    <a:pt x="23" y="1409"/>
                  </a:lnTo>
                  <a:lnTo>
                    <a:pt x="16" y="1405"/>
                  </a:lnTo>
                  <a:lnTo>
                    <a:pt x="8" y="1402"/>
                  </a:lnTo>
                  <a:lnTo>
                    <a:pt x="0" y="1399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064040" y="3927600"/>
              <a:ext cx="369720" cy="371520"/>
            </a:xfrm>
            <a:custGeom>
              <a:avLst/>
              <a:gdLst/>
              <a:ahLst/>
              <a:rect l="l" t="t" r="r" b="b"/>
              <a:pathLst>
                <a:path w="1399" h="1404">
                  <a:moveTo>
                    <a:pt x="0" y="1378"/>
                  </a:moveTo>
                  <a:lnTo>
                    <a:pt x="1376" y="0"/>
                  </a:lnTo>
                  <a:lnTo>
                    <a:pt x="1379" y="9"/>
                  </a:lnTo>
                  <a:lnTo>
                    <a:pt x="1382" y="18"/>
                  </a:lnTo>
                  <a:lnTo>
                    <a:pt x="1385" y="26"/>
                  </a:lnTo>
                  <a:lnTo>
                    <a:pt x="1387" y="34"/>
                  </a:lnTo>
                  <a:lnTo>
                    <a:pt x="1391" y="43"/>
                  </a:lnTo>
                  <a:lnTo>
                    <a:pt x="1393" y="51"/>
                  </a:lnTo>
                  <a:lnTo>
                    <a:pt x="1395" y="59"/>
                  </a:lnTo>
                  <a:lnTo>
                    <a:pt x="1399" y="68"/>
                  </a:lnTo>
                  <a:lnTo>
                    <a:pt x="64" y="1404"/>
                  </a:lnTo>
                  <a:lnTo>
                    <a:pt x="55" y="1402"/>
                  </a:lnTo>
                  <a:lnTo>
                    <a:pt x="47" y="1398"/>
                  </a:lnTo>
                  <a:lnTo>
                    <a:pt x="39" y="1395"/>
                  </a:lnTo>
                  <a:lnTo>
                    <a:pt x="32" y="1391"/>
                  </a:lnTo>
                  <a:lnTo>
                    <a:pt x="23" y="1389"/>
                  </a:lnTo>
                  <a:lnTo>
                    <a:pt x="16" y="1385"/>
                  </a:lnTo>
                  <a:lnTo>
                    <a:pt x="8" y="1382"/>
                  </a:lnTo>
                  <a:lnTo>
                    <a:pt x="0" y="1378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071960" y="3936960"/>
              <a:ext cx="365040" cy="365040"/>
            </a:xfrm>
            <a:custGeom>
              <a:avLst/>
              <a:gdLst/>
              <a:ahLst/>
              <a:rect l="l" t="t" r="r" b="b"/>
              <a:pathLst>
                <a:path w="1378" h="1384">
                  <a:moveTo>
                    <a:pt x="0" y="1357"/>
                  </a:moveTo>
                  <a:lnTo>
                    <a:pt x="1355" y="0"/>
                  </a:lnTo>
                  <a:lnTo>
                    <a:pt x="1359" y="9"/>
                  </a:lnTo>
                  <a:lnTo>
                    <a:pt x="1361" y="17"/>
                  </a:lnTo>
                  <a:lnTo>
                    <a:pt x="1363" y="25"/>
                  </a:lnTo>
                  <a:lnTo>
                    <a:pt x="1367" y="34"/>
                  </a:lnTo>
                  <a:lnTo>
                    <a:pt x="1369" y="42"/>
                  </a:lnTo>
                  <a:lnTo>
                    <a:pt x="1373" y="50"/>
                  </a:lnTo>
                  <a:lnTo>
                    <a:pt x="1375" y="59"/>
                  </a:lnTo>
                  <a:lnTo>
                    <a:pt x="1378" y="67"/>
                  </a:lnTo>
                  <a:lnTo>
                    <a:pt x="63" y="1384"/>
                  </a:lnTo>
                  <a:lnTo>
                    <a:pt x="54" y="1381"/>
                  </a:lnTo>
                  <a:lnTo>
                    <a:pt x="47" y="1377"/>
                  </a:lnTo>
                  <a:lnTo>
                    <a:pt x="39" y="1374"/>
                  </a:lnTo>
                  <a:lnTo>
                    <a:pt x="32" y="1370"/>
                  </a:lnTo>
                  <a:lnTo>
                    <a:pt x="23" y="1368"/>
                  </a:lnTo>
                  <a:lnTo>
                    <a:pt x="15" y="1364"/>
                  </a:lnTo>
                  <a:lnTo>
                    <a:pt x="8" y="1361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079880" y="3944880"/>
              <a:ext cx="360360" cy="360360"/>
            </a:xfrm>
            <a:custGeom>
              <a:avLst/>
              <a:gdLst/>
              <a:ahLst/>
              <a:rect l="l" t="t" r="r" b="b"/>
              <a:pathLst>
                <a:path w="1356" h="1364">
                  <a:moveTo>
                    <a:pt x="0" y="1336"/>
                  </a:moveTo>
                  <a:lnTo>
                    <a:pt x="1335" y="0"/>
                  </a:lnTo>
                  <a:lnTo>
                    <a:pt x="1337" y="8"/>
                  </a:lnTo>
                  <a:lnTo>
                    <a:pt x="1340" y="16"/>
                  </a:lnTo>
                  <a:lnTo>
                    <a:pt x="1343" y="25"/>
                  </a:lnTo>
                  <a:lnTo>
                    <a:pt x="1346" y="33"/>
                  </a:lnTo>
                  <a:lnTo>
                    <a:pt x="1348" y="42"/>
                  </a:lnTo>
                  <a:lnTo>
                    <a:pt x="1351" y="51"/>
                  </a:lnTo>
                  <a:lnTo>
                    <a:pt x="1354" y="59"/>
                  </a:lnTo>
                  <a:lnTo>
                    <a:pt x="1356" y="67"/>
                  </a:lnTo>
                  <a:lnTo>
                    <a:pt x="61" y="1364"/>
                  </a:lnTo>
                  <a:lnTo>
                    <a:pt x="53" y="1360"/>
                  </a:lnTo>
                  <a:lnTo>
                    <a:pt x="46" y="1358"/>
                  </a:lnTo>
                  <a:lnTo>
                    <a:pt x="38" y="1354"/>
                  </a:lnTo>
                  <a:lnTo>
                    <a:pt x="31" y="1350"/>
                  </a:lnTo>
                  <a:lnTo>
                    <a:pt x="22" y="1347"/>
                  </a:lnTo>
                  <a:lnTo>
                    <a:pt x="15" y="1343"/>
                  </a:lnTo>
                  <a:lnTo>
                    <a:pt x="7" y="1340"/>
                  </a:lnTo>
                  <a:lnTo>
                    <a:pt x="0" y="133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089240" y="3954600"/>
              <a:ext cx="352440" cy="355320"/>
            </a:xfrm>
            <a:custGeom>
              <a:avLst/>
              <a:gdLst/>
              <a:ahLst/>
              <a:rect l="l" t="t" r="r" b="b"/>
              <a:pathLst>
                <a:path w="1336" h="1345">
                  <a:moveTo>
                    <a:pt x="0" y="1317"/>
                  </a:moveTo>
                  <a:lnTo>
                    <a:pt x="1315" y="0"/>
                  </a:lnTo>
                  <a:lnTo>
                    <a:pt x="1317" y="8"/>
                  </a:lnTo>
                  <a:lnTo>
                    <a:pt x="1320" y="18"/>
                  </a:lnTo>
                  <a:lnTo>
                    <a:pt x="1323" y="26"/>
                  </a:lnTo>
                  <a:lnTo>
                    <a:pt x="1325" y="34"/>
                  </a:lnTo>
                  <a:lnTo>
                    <a:pt x="1329" y="43"/>
                  </a:lnTo>
                  <a:lnTo>
                    <a:pt x="1331" y="51"/>
                  </a:lnTo>
                  <a:lnTo>
                    <a:pt x="1333" y="59"/>
                  </a:lnTo>
                  <a:lnTo>
                    <a:pt x="1336" y="68"/>
                  </a:lnTo>
                  <a:lnTo>
                    <a:pt x="61" y="1345"/>
                  </a:lnTo>
                  <a:lnTo>
                    <a:pt x="53" y="1341"/>
                  </a:lnTo>
                  <a:lnTo>
                    <a:pt x="46" y="1338"/>
                  </a:lnTo>
                  <a:lnTo>
                    <a:pt x="38" y="1334"/>
                  </a:lnTo>
                  <a:lnTo>
                    <a:pt x="30" y="1331"/>
                  </a:lnTo>
                  <a:lnTo>
                    <a:pt x="22" y="1327"/>
                  </a:lnTo>
                  <a:lnTo>
                    <a:pt x="15" y="1323"/>
                  </a:lnTo>
                  <a:lnTo>
                    <a:pt x="7" y="1321"/>
                  </a:lnTo>
                  <a:lnTo>
                    <a:pt x="0" y="1317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097160" y="3962520"/>
              <a:ext cx="347760" cy="350640"/>
            </a:xfrm>
            <a:custGeom>
              <a:avLst/>
              <a:gdLst/>
              <a:ahLst/>
              <a:rect l="l" t="t" r="r" b="b"/>
              <a:pathLst>
                <a:path w="1318" h="1325">
                  <a:moveTo>
                    <a:pt x="0" y="1297"/>
                  </a:moveTo>
                  <a:lnTo>
                    <a:pt x="1295" y="0"/>
                  </a:lnTo>
                  <a:lnTo>
                    <a:pt x="1299" y="9"/>
                  </a:lnTo>
                  <a:lnTo>
                    <a:pt x="1301" y="17"/>
                  </a:lnTo>
                  <a:lnTo>
                    <a:pt x="1303" y="25"/>
                  </a:lnTo>
                  <a:lnTo>
                    <a:pt x="1306" y="34"/>
                  </a:lnTo>
                  <a:lnTo>
                    <a:pt x="1309" y="43"/>
                  </a:lnTo>
                  <a:lnTo>
                    <a:pt x="1312" y="51"/>
                  </a:lnTo>
                  <a:lnTo>
                    <a:pt x="1314" y="60"/>
                  </a:lnTo>
                  <a:lnTo>
                    <a:pt x="1318" y="68"/>
                  </a:lnTo>
                  <a:lnTo>
                    <a:pt x="61" y="1325"/>
                  </a:lnTo>
                  <a:lnTo>
                    <a:pt x="54" y="1321"/>
                  </a:lnTo>
                  <a:lnTo>
                    <a:pt x="46" y="1318"/>
                  </a:lnTo>
                  <a:lnTo>
                    <a:pt x="38" y="1314"/>
                  </a:lnTo>
                  <a:lnTo>
                    <a:pt x="31" y="1311"/>
                  </a:lnTo>
                  <a:lnTo>
                    <a:pt x="23" y="1307"/>
                  </a:lnTo>
                  <a:lnTo>
                    <a:pt x="16" y="1304"/>
                  </a:lnTo>
                  <a:lnTo>
                    <a:pt x="8" y="1300"/>
                  </a:lnTo>
                  <a:lnTo>
                    <a:pt x="0" y="1297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105440" y="3971880"/>
              <a:ext cx="342720" cy="345960"/>
            </a:xfrm>
            <a:custGeom>
              <a:avLst/>
              <a:gdLst/>
              <a:ahLst/>
              <a:rect l="l" t="t" r="r" b="b"/>
              <a:pathLst>
                <a:path w="1297" h="1306">
                  <a:moveTo>
                    <a:pt x="0" y="1277"/>
                  </a:moveTo>
                  <a:lnTo>
                    <a:pt x="1275" y="0"/>
                  </a:lnTo>
                  <a:lnTo>
                    <a:pt x="1278" y="9"/>
                  </a:lnTo>
                  <a:lnTo>
                    <a:pt x="1281" y="17"/>
                  </a:lnTo>
                  <a:lnTo>
                    <a:pt x="1283" y="26"/>
                  </a:lnTo>
                  <a:lnTo>
                    <a:pt x="1287" y="34"/>
                  </a:lnTo>
                  <a:lnTo>
                    <a:pt x="1289" y="42"/>
                  </a:lnTo>
                  <a:lnTo>
                    <a:pt x="1291" y="51"/>
                  </a:lnTo>
                  <a:lnTo>
                    <a:pt x="1294" y="60"/>
                  </a:lnTo>
                  <a:lnTo>
                    <a:pt x="1297" y="69"/>
                  </a:lnTo>
                  <a:lnTo>
                    <a:pt x="61" y="1306"/>
                  </a:lnTo>
                  <a:lnTo>
                    <a:pt x="53" y="1303"/>
                  </a:lnTo>
                  <a:lnTo>
                    <a:pt x="45" y="1299"/>
                  </a:lnTo>
                  <a:lnTo>
                    <a:pt x="38" y="1295"/>
                  </a:lnTo>
                  <a:lnTo>
                    <a:pt x="30" y="1291"/>
                  </a:lnTo>
                  <a:lnTo>
                    <a:pt x="23" y="1287"/>
                  </a:lnTo>
                  <a:lnTo>
                    <a:pt x="15" y="1284"/>
                  </a:lnTo>
                  <a:lnTo>
                    <a:pt x="7" y="1280"/>
                  </a:lnTo>
                  <a:lnTo>
                    <a:pt x="0" y="1277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113360" y="3981600"/>
              <a:ext cx="338040" cy="339480"/>
            </a:xfrm>
            <a:custGeom>
              <a:avLst/>
              <a:gdLst/>
              <a:ahLst/>
              <a:rect l="l" t="t" r="r" b="b"/>
              <a:pathLst>
                <a:path w="1277" h="1287">
                  <a:moveTo>
                    <a:pt x="0" y="1257"/>
                  </a:moveTo>
                  <a:lnTo>
                    <a:pt x="1257" y="0"/>
                  </a:lnTo>
                  <a:lnTo>
                    <a:pt x="1259" y="8"/>
                  </a:lnTo>
                  <a:lnTo>
                    <a:pt x="1261" y="17"/>
                  </a:lnTo>
                  <a:lnTo>
                    <a:pt x="1264" y="26"/>
                  </a:lnTo>
                  <a:lnTo>
                    <a:pt x="1266" y="35"/>
                  </a:lnTo>
                  <a:lnTo>
                    <a:pt x="1270" y="43"/>
                  </a:lnTo>
                  <a:lnTo>
                    <a:pt x="1272" y="51"/>
                  </a:lnTo>
                  <a:lnTo>
                    <a:pt x="1275" y="60"/>
                  </a:lnTo>
                  <a:lnTo>
                    <a:pt x="1277" y="69"/>
                  </a:lnTo>
                  <a:lnTo>
                    <a:pt x="60" y="1287"/>
                  </a:lnTo>
                  <a:lnTo>
                    <a:pt x="52" y="1283"/>
                  </a:lnTo>
                  <a:lnTo>
                    <a:pt x="45" y="1280"/>
                  </a:lnTo>
                  <a:lnTo>
                    <a:pt x="38" y="1276"/>
                  </a:lnTo>
                  <a:lnTo>
                    <a:pt x="30" y="1272"/>
                  </a:lnTo>
                  <a:lnTo>
                    <a:pt x="23" y="1269"/>
                  </a:lnTo>
                  <a:lnTo>
                    <a:pt x="15" y="1265"/>
                  </a:lnTo>
                  <a:lnTo>
                    <a:pt x="7" y="1262"/>
                  </a:lnTo>
                  <a:lnTo>
                    <a:pt x="0" y="1257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121280" y="3989520"/>
              <a:ext cx="331560" cy="336240"/>
            </a:xfrm>
            <a:custGeom>
              <a:avLst/>
              <a:gdLst/>
              <a:ahLst/>
              <a:rect l="l" t="t" r="r" b="b"/>
              <a:pathLst>
                <a:path w="1257" h="1267">
                  <a:moveTo>
                    <a:pt x="0" y="1237"/>
                  </a:moveTo>
                  <a:lnTo>
                    <a:pt x="1236" y="0"/>
                  </a:lnTo>
                  <a:lnTo>
                    <a:pt x="1239" y="8"/>
                  </a:lnTo>
                  <a:lnTo>
                    <a:pt x="1241" y="16"/>
                  </a:lnTo>
                  <a:lnTo>
                    <a:pt x="1244" y="25"/>
                  </a:lnTo>
                  <a:lnTo>
                    <a:pt x="1246" y="34"/>
                  </a:lnTo>
                  <a:lnTo>
                    <a:pt x="1249" y="42"/>
                  </a:lnTo>
                  <a:lnTo>
                    <a:pt x="1252" y="51"/>
                  </a:lnTo>
                  <a:lnTo>
                    <a:pt x="1254" y="59"/>
                  </a:lnTo>
                  <a:lnTo>
                    <a:pt x="1257" y="68"/>
                  </a:lnTo>
                  <a:lnTo>
                    <a:pt x="59" y="1267"/>
                  </a:lnTo>
                  <a:lnTo>
                    <a:pt x="51" y="1264"/>
                  </a:lnTo>
                  <a:lnTo>
                    <a:pt x="44" y="1260"/>
                  </a:lnTo>
                  <a:lnTo>
                    <a:pt x="37" y="1256"/>
                  </a:lnTo>
                  <a:lnTo>
                    <a:pt x="29" y="1252"/>
                  </a:lnTo>
                  <a:lnTo>
                    <a:pt x="21" y="1248"/>
                  </a:lnTo>
                  <a:lnTo>
                    <a:pt x="14" y="1245"/>
                  </a:lnTo>
                  <a:lnTo>
                    <a:pt x="7" y="1241"/>
                  </a:lnTo>
                  <a:lnTo>
                    <a:pt x="0" y="1237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129200" y="3998880"/>
              <a:ext cx="326880" cy="330120"/>
            </a:xfrm>
            <a:custGeom>
              <a:avLst/>
              <a:gdLst/>
              <a:ahLst/>
              <a:rect l="l" t="t" r="r" b="b"/>
              <a:pathLst>
                <a:path w="1238" h="1249">
                  <a:moveTo>
                    <a:pt x="0" y="1218"/>
                  </a:moveTo>
                  <a:lnTo>
                    <a:pt x="1217" y="0"/>
                  </a:lnTo>
                  <a:lnTo>
                    <a:pt x="1220" y="8"/>
                  </a:lnTo>
                  <a:lnTo>
                    <a:pt x="1223" y="17"/>
                  </a:lnTo>
                  <a:lnTo>
                    <a:pt x="1225" y="25"/>
                  </a:lnTo>
                  <a:lnTo>
                    <a:pt x="1228" y="34"/>
                  </a:lnTo>
                  <a:lnTo>
                    <a:pt x="1230" y="43"/>
                  </a:lnTo>
                  <a:lnTo>
                    <a:pt x="1234" y="51"/>
                  </a:lnTo>
                  <a:lnTo>
                    <a:pt x="1236" y="59"/>
                  </a:lnTo>
                  <a:lnTo>
                    <a:pt x="1238" y="68"/>
                  </a:lnTo>
                  <a:lnTo>
                    <a:pt x="59" y="1249"/>
                  </a:lnTo>
                  <a:lnTo>
                    <a:pt x="52" y="1245"/>
                  </a:lnTo>
                  <a:lnTo>
                    <a:pt x="44" y="1241"/>
                  </a:lnTo>
                  <a:lnTo>
                    <a:pt x="37" y="1237"/>
                  </a:lnTo>
                  <a:lnTo>
                    <a:pt x="29" y="1233"/>
                  </a:lnTo>
                  <a:lnTo>
                    <a:pt x="22" y="1230"/>
                  </a:lnTo>
                  <a:lnTo>
                    <a:pt x="15" y="1226"/>
                  </a:lnTo>
                  <a:lnTo>
                    <a:pt x="8" y="1222"/>
                  </a:lnTo>
                  <a:lnTo>
                    <a:pt x="0" y="121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37120" y="4008600"/>
              <a:ext cx="322200" cy="325440"/>
            </a:xfrm>
            <a:custGeom>
              <a:avLst/>
              <a:gdLst/>
              <a:ahLst/>
              <a:rect l="l" t="t" r="r" b="b"/>
              <a:pathLst>
                <a:path w="1218" h="1231">
                  <a:moveTo>
                    <a:pt x="0" y="1199"/>
                  </a:moveTo>
                  <a:lnTo>
                    <a:pt x="1198" y="0"/>
                  </a:lnTo>
                  <a:lnTo>
                    <a:pt x="1200" y="9"/>
                  </a:lnTo>
                  <a:lnTo>
                    <a:pt x="1202" y="17"/>
                  </a:lnTo>
                  <a:lnTo>
                    <a:pt x="1206" y="25"/>
                  </a:lnTo>
                  <a:lnTo>
                    <a:pt x="1208" y="35"/>
                  </a:lnTo>
                  <a:lnTo>
                    <a:pt x="1211" y="43"/>
                  </a:lnTo>
                  <a:lnTo>
                    <a:pt x="1213" y="52"/>
                  </a:lnTo>
                  <a:lnTo>
                    <a:pt x="1215" y="60"/>
                  </a:lnTo>
                  <a:lnTo>
                    <a:pt x="1218" y="69"/>
                  </a:lnTo>
                  <a:lnTo>
                    <a:pt x="57" y="1231"/>
                  </a:lnTo>
                  <a:lnTo>
                    <a:pt x="50" y="1227"/>
                  </a:lnTo>
                  <a:lnTo>
                    <a:pt x="43" y="1223"/>
                  </a:lnTo>
                  <a:lnTo>
                    <a:pt x="36" y="1219"/>
                  </a:lnTo>
                  <a:lnTo>
                    <a:pt x="29" y="1215"/>
                  </a:lnTo>
                  <a:lnTo>
                    <a:pt x="22" y="1211"/>
                  </a:lnTo>
                  <a:lnTo>
                    <a:pt x="14" y="1207"/>
                  </a:lnTo>
                  <a:lnTo>
                    <a:pt x="7" y="1203"/>
                  </a:lnTo>
                  <a:lnTo>
                    <a:pt x="0" y="1199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45040" y="4016520"/>
              <a:ext cx="317520" cy="322200"/>
            </a:xfrm>
            <a:custGeom>
              <a:avLst/>
              <a:gdLst/>
              <a:ahLst/>
              <a:rect l="l" t="t" r="r" b="b"/>
              <a:pathLst>
                <a:path w="1199" h="1213">
                  <a:moveTo>
                    <a:pt x="0" y="1181"/>
                  </a:moveTo>
                  <a:lnTo>
                    <a:pt x="1179" y="0"/>
                  </a:lnTo>
                  <a:lnTo>
                    <a:pt x="1182" y="9"/>
                  </a:lnTo>
                  <a:lnTo>
                    <a:pt x="1184" y="18"/>
                  </a:lnTo>
                  <a:lnTo>
                    <a:pt x="1186" y="26"/>
                  </a:lnTo>
                  <a:lnTo>
                    <a:pt x="1189" y="35"/>
                  </a:lnTo>
                  <a:lnTo>
                    <a:pt x="1192" y="44"/>
                  </a:lnTo>
                  <a:lnTo>
                    <a:pt x="1195" y="52"/>
                  </a:lnTo>
                  <a:lnTo>
                    <a:pt x="1197" y="60"/>
                  </a:lnTo>
                  <a:lnTo>
                    <a:pt x="1199" y="70"/>
                  </a:lnTo>
                  <a:lnTo>
                    <a:pt x="58" y="1213"/>
                  </a:lnTo>
                  <a:lnTo>
                    <a:pt x="51" y="1209"/>
                  </a:lnTo>
                  <a:lnTo>
                    <a:pt x="42" y="1204"/>
                  </a:lnTo>
                  <a:lnTo>
                    <a:pt x="35" y="1201"/>
                  </a:lnTo>
                  <a:lnTo>
                    <a:pt x="28" y="1197"/>
                  </a:lnTo>
                  <a:lnTo>
                    <a:pt x="21" y="1193"/>
                  </a:lnTo>
                  <a:lnTo>
                    <a:pt x="14" y="1189"/>
                  </a:lnTo>
                  <a:lnTo>
                    <a:pt x="7" y="1185"/>
                  </a:lnTo>
                  <a:lnTo>
                    <a:pt x="0" y="1181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151160" y="4025880"/>
              <a:ext cx="312840" cy="316080"/>
            </a:xfrm>
            <a:custGeom>
              <a:avLst/>
              <a:gdLst/>
              <a:ahLst/>
              <a:rect l="l" t="t" r="r" b="b"/>
              <a:pathLst>
                <a:path w="1181" h="1194">
                  <a:moveTo>
                    <a:pt x="0" y="1162"/>
                  </a:moveTo>
                  <a:lnTo>
                    <a:pt x="1161" y="0"/>
                  </a:lnTo>
                  <a:lnTo>
                    <a:pt x="1164" y="9"/>
                  </a:lnTo>
                  <a:lnTo>
                    <a:pt x="1167" y="17"/>
                  </a:lnTo>
                  <a:lnTo>
                    <a:pt x="1169" y="25"/>
                  </a:lnTo>
                  <a:lnTo>
                    <a:pt x="1171" y="35"/>
                  </a:lnTo>
                  <a:lnTo>
                    <a:pt x="1174" y="43"/>
                  </a:lnTo>
                  <a:lnTo>
                    <a:pt x="1176" y="51"/>
                  </a:lnTo>
                  <a:lnTo>
                    <a:pt x="1179" y="61"/>
                  </a:lnTo>
                  <a:lnTo>
                    <a:pt x="1181" y="69"/>
                  </a:lnTo>
                  <a:lnTo>
                    <a:pt x="58" y="1194"/>
                  </a:lnTo>
                  <a:lnTo>
                    <a:pt x="50" y="1190"/>
                  </a:lnTo>
                  <a:lnTo>
                    <a:pt x="43" y="1186"/>
                  </a:lnTo>
                  <a:lnTo>
                    <a:pt x="36" y="1182"/>
                  </a:lnTo>
                  <a:lnTo>
                    <a:pt x="29" y="1178"/>
                  </a:lnTo>
                  <a:lnTo>
                    <a:pt x="21" y="1174"/>
                  </a:lnTo>
                  <a:lnTo>
                    <a:pt x="14" y="1169"/>
                  </a:lnTo>
                  <a:lnTo>
                    <a:pt x="7" y="1166"/>
                  </a:lnTo>
                  <a:lnTo>
                    <a:pt x="0" y="1162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159080" y="4035600"/>
              <a:ext cx="308160" cy="311040"/>
            </a:xfrm>
            <a:custGeom>
              <a:avLst/>
              <a:gdLst/>
              <a:ahLst/>
              <a:rect l="l" t="t" r="r" b="b"/>
              <a:pathLst>
                <a:path w="1162" h="1176">
                  <a:moveTo>
                    <a:pt x="0" y="1143"/>
                  </a:moveTo>
                  <a:lnTo>
                    <a:pt x="1141" y="0"/>
                  </a:lnTo>
                  <a:lnTo>
                    <a:pt x="1144" y="8"/>
                  </a:lnTo>
                  <a:lnTo>
                    <a:pt x="1146" y="16"/>
                  </a:lnTo>
                  <a:lnTo>
                    <a:pt x="1149" y="26"/>
                  </a:lnTo>
                  <a:lnTo>
                    <a:pt x="1151" y="34"/>
                  </a:lnTo>
                  <a:lnTo>
                    <a:pt x="1153" y="43"/>
                  </a:lnTo>
                  <a:lnTo>
                    <a:pt x="1157" y="52"/>
                  </a:lnTo>
                  <a:lnTo>
                    <a:pt x="1159" y="60"/>
                  </a:lnTo>
                  <a:lnTo>
                    <a:pt x="1162" y="69"/>
                  </a:lnTo>
                  <a:lnTo>
                    <a:pt x="56" y="1176"/>
                  </a:lnTo>
                  <a:lnTo>
                    <a:pt x="48" y="1171"/>
                  </a:lnTo>
                  <a:lnTo>
                    <a:pt x="41" y="1168"/>
                  </a:lnTo>
                  <a:lnTo>
                    <a:pt x="34" y="1163"/>
                  </a:lnTo>
                  <a:lnTo>
                    <a:pt x="27" y="1159"/>
                  </a:lnTo>
                  <a:lnTo>
                    <a:pt x="20" y="1155"/>
                  </a:lnTo>
                  <a:lnTo>
                    <a:pt x="14" y="1151"/>
                  </a:lnTo>
                  <a:lnTo>
                    <a:pt x="7" y="1147"/>
                  </a:lnTo>
                  <a:lnTo>
                    <a:pt x="0" y="1143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67360" y="4044960"/>
              <a:ext cx="303120" cy="306360"/>
            </a:xfrm>
            <a:custGeom>
              <a:avLst/>
              <a:gdLst/>
              <a:ahLst/>
              <a:rect l="l" t="t" r="r" b="b"/>
              <a:pathLst>
                <a:path w="1143" h="1159">
                  <a:moveTo>
                    <a:pt x="0" y="1125"/>
                  </a:moveTo>
                  <a:lnTo>
                    <a:pt x="1123" y="0"/>
                  </a:lnTo>
                  <a:lnTo>
                    <a:pt x="1127" y="9"/>
                  </a:lnTo>
                  <a:lnTo>
                    <a:pt x="1129" y="18"/>
                  </a:lnTo>
                  <a:lnTo>
                    <a:pt x="1131" y="26"/>
                  </a:lnTo>
                  <a:lnTo>
                    <a:pt x="1134" y="35"/>
                  </a:lnTo>
                  <a:lnTo>
                    <a:pt x="1136" y="44"/>
                  </a:lnTo>
                  <a:lnTo>
                    <a:pt x="1138" y="53"/>
                  </a:lnTo>
                  <a:lnTo>
                    <a:pt x="1141" y="61"/>
                  </a:lnTo>
                  <a:lnTo>
                    <a:pt x="1143" y="70"/>
                  </a:lnTo>
                  <a:lnTo>
                    <a:pt x="56" y="1159"/>
                  </a:lnTo>
                  <a:lnTo>
                    <a:pt x="49" y="1154"/>
                  </a:lnTo>
                  <a:lnTo>
                    <a:pt x="42" y="1150"/>
                  </a:lnTo>
                  <a:lnTo>
                    <a:pt x="35" y="1146"/>
                  </a:lnTo>
                  <a:lnTo>
                    <a:pt x="28" y="1142"/>
                  </a:lnTo>
                  <a:lnTo>
                    <a:pt x="20" y="1137"/>
                  </a:lnTo>
                  <a:lnTo>
                    <a:pt x="13" y="1134"/>
                  </a:lnTo>
                  <a:lnTo>
                    <a:pt x="6" y="1129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175280" y="4054320"/>
              <a:ext cx="296640" cy="301680"/>
            </a:xfrm>
            <a:custGeom>
              <a:avLst/>
              <a:gdLst/>
              <a:ahLst/>
              <a:rect l="l" t="t" r="r" b="b"/>
              <a:pathLst>
                <a:path w="1125" h="1140">
                  <a:moveTo>
                    <a:pt x="0" y="1107"/>
                  </a:moveTo>
                  <a:lnTo>
                    <a:pt x="1106" y="0"/>
                  </a:lnTo>
                  <a:lnTo>
                    <a:pt x="1108" y="9"/>
                  </a:lnTo>
                  <a:lnTo>
                    <a:pt x="1110" y="18"/>
                  </a:lnTo>
                  <a:lnTo>
                    <a:pt x="1113" y="26"/>
                  </a:lnTo>
                  <a:lnTo>
                    <a:pt x="1115" y="35"/>
                  </a:lnTo>
                  <a:lnTo>
                    <a:pt x="1117" y="44"/>
                  </a:lnTo>
                  <a:lnTo>
                    <a:pt x="1120" y="52"/>
                  </a:lnTo>
                  <a:lnTo>
                    <a:pt x="1122" y="62"/>
                  </a:lnTo>
                  <a:lnTo>
                    <a:pt x="1125" y="70"/>
                  </a:lnTo>
                  <a:lnTo>
                    <a:pt x="55" y="1140"/>
                  </a:lnTo>
                  <a:lnTo>
                    <a:pt x="48" y="1137"/>
                  </a:lnTo>
                  <a:lnTo>
                    <a:pt x="41" y="1132"/>
                  </a:lnTo>
                  <a:lnTo>
                    <a:pt x="34" y="1128"/>
                  </a:lnTo>
                  <a:lnTo>
                    <a:pt x="28" y="1124"/>
                  </a:lnTo>
                  <a:lnTo>
                    <a:pt x="21" y="1119"/>
                  </a:lnTo>
                  <a:lnTo>
                    <a:pt x="14" y="1115"/>
                  </a:lnTo>
                  <a:lnTo>
                    <a:pt x="7" y="1111"/>
                  </a:lnTo>
                  <a:lnTo>
                    <a:pt x="0" y="1107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81400" y="4064040"/>
              <a:ext cx="293760" cy="297000"/>
            </a:xfrm>
            <a:custGeom>
              <a:avLst/>
              <a:gdLst/>
              <a:ahLst/>
              <a:rect l="l" t="t" r="r" b="b"/>
              <a:pathLst>
                <a:path w="1106" h="1123">
                  <a:moveTo>
                    <a:pt x="0" y="1089"/>
                  </a:moveTo>
                  <a:lnTo>
                    <a:pt x="1087" y="0"/>
                  </a:lnTo>
                  <a:lnTo>
                    <a:pt x="1089" y="9"/>
                  </a:lnTo>
                  <a:lnTo>
                    <a:pt x="1092" y="18"/>
                  </a:lnTo>
                  <a:lnTo>
                    <a:pt x="1094" y="27"/>
                  </a:lnTo>
                  <a:lnTo>
                    <a:pt x="1097" y="35"/>
                  </a:lnTo>
                  <a:lnTo>
                    <a:pt x="1099" y="44"/>
                  </a:lnTo>
                  <a:lnTo>
                    <a:pt x="1101" y="53"/>
                  </a:lnTo>
                  <a:lnTo>
                    <a:pt x="1104" y="61"/>
                  </a:lnTo>
                  <a:lnTo>
                    <a:pt x="1106" y="70"/>
                  </a:lnTo>
                  <a:lnTo>
                    <a:pt x="55" y="1123"/>
                  </a:lnTo>
                  <a:lnTo>
                    <a:pt x="48" y="1118"/>
                  </a:lnTo>
                  <a:lnTo>
                    <a:pt x="40" y="1115"/>
                  </a:lnTo>
                  <a:lnTo>
                    <a:pt x="34" y="1110"/>
                  </a:lnTo>
                  <a:lnTo>
                    <a:pt x="27" y="1105"/>
                  </a:lnTo>
                  <a:lnTo>
                    <a:pt x="20" y="1102"/>
                  </a:lnTo>
                  <a:lnTo>
                    <a:pt x="13" y="1097"/>
                  </a:lnTo>
                  <a:lnTo>
                    <a:pt x="6" y="1093"/>
                  </a:lnTo>
                  <a:lnTo>
                    <a:pt x="0" y="1089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89320" y="4071960"/>
              <a:ext cx="287280" cy="293760"/>
            </a:xfrm>
            <a:custGeom>
              <a:avLst/>
              <a:gdLst/>
              <a:ahLst/>
              <a:rect l="l" t="t" r="r" b="b"/>
              <a:pathLst>
                <a:path w="1089" h="1106">
                  <a:moveTo>
                    <a:pt x="0" y="1070"/>
                  </a:moveTo>
                  <a:lnTo>
                    <a:pt x="1070" y="0"/>
                  </a:lnTo>
                  <a:lnTo>
                    <a:pt x="1072" y="9"/>
                  </a:lnTo>
                  <a:lnTo>
                    <a:pt x="1074" y="18"/>
                  </a:lnTo>
                  <a:lnTo>
                    <a:pt x="1077" y="27"/>
                  </a:lnTo>
                  <a:lnTo>
                    <a:pt x="1079" y="35"/>
                  </a:lnTo>
                  <a:lnTo>
                    <a:pt x="1081" y="44"/>
                  </a:lnTo>
                  <a:lnTo>
                    <a:pt x="1084" y="53"/>
                  </a:lnTo>
                  <a:lnTo>
                    <a:pt x="1086" y="62"/>
                  </a:lnTo>
                  <a:lnTo>
                    <a:pt x="1089" y="71"/>
                  </a:lnTo>
                  <a:lnTo>
                    <a:pt x="55" y="1106"/>
                  </a:lnTo>
                  <a:lnTo>
                    <a:pt x="48" y="1101"/>
                  </a:lnTo>
                  <a:lnTo>
                    <a:pt x="41" y="1096"/>
                  </a:lnTo>
                  <a:lnTo>
                    <a:pt x="35" y="1093"/>
                  </a:lnTo>
                  <a:lnTo>
                    <a:pt x="28" y="1088"/>
                  </a:lnTo>
                  <a:lnTo>
                    <a:pt x="21" y="1083"/>
                  </a:lnTo>
                  <a:lnTo>
                    <a:pt x="13" y="1080"/>
                  </a:lnTo>
                  <a:lnTo>
                    <a:pt x="7" y="1075"/>
                  </a:lnTo>
                  <a:lnTo>
                    <a:pt x="0" y="107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95800" y="4081320"/>
              <a:ext cx="284040" cy="289080"/>
            </a:xfrm>
            <a:custGeom>
              <a:avLst/>
              <a:gdLst/>
              <a:ahLst/>
              <a:rect l="l" t="t" r="r" b="b"/>
              <a:pathLst>
                <a:path w="1070" h="1089">
                  <a:moveTo>
                    <a:pt x="0" y="1053"/>
                  </a:moveTo>
                  <a:lnTo>
                    <a:pt x="1051" y="0"/>
                  </a:lnTo>
                  <a:lnTo>
                    <a:pt x="1053" y="9"/>
                  </a:lnTo>
                  <a:lnTo>
                    <a:pt x="1056" y="18"/>
                  </a:lnTo>
                  <a:lnTo>
                    <a:pt x="1058" y="27"/>
                  </a:lnTo>
                  <a:lnTo>
                    <a:pt x="1061" y="36"/>
                  </a:lnTo>
                  <a:lnTo>
                    <a:pt x="1063" y="44"/>
                  </a:lnTo>
                  <a:lnTo>
                    <a:pt x="1065" y="54"/>
                  </a:lnTo>
                  <a:lnTo>
                    <a:pt x="1068" y="62"/>
                  </a:lnTo>
                  <a:lnTo>
                    <a:pt x="1070" y="71"/>
                  </a:lnTo>
                  <a:lnTo>
                    <a:pt x="53" y="1089"/>
                  </a:lnTo>
                  <a:lnTo>
                    <a:pt x="47" y="1084"/>
                  </a:lnTo>
                  <a:lnTo>
                    <a:pt x="40" y="1079"/>
                  </a:lnTo>
                  <a:lnTo>
                    <a:pt x="33" y="1076"/>
                  </a:lnTo>
                  <a:lnTo>
                    <a:pt x="27" y="1071"/>
                  </a:lnTo>
                  <a:lnTo>
                    <a:pt x="20" y="1066"/>
                  </a:lnTo>
                  <a:lnTo>
                    <a:pt x="13" y="1063"/>
                  </a:lnTo>
                  <a:lnTo>
                    <a:pt x="7" y="1058"/>
                  </a:lnTo>
                  <a:lnTo>
                    <a:pt x="0" y="1053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03720" y="4091040"/>
              <a:ext cx="277920" cy="284040"/>
            </a:xfrm>
            <a:custGeom>
              <a:avLst/>
              <a:gdLst/>
              <a:ahLst/>
              <a:rect l="l" t="t" r="r" b="b"/>
              <a:pathLst>
                <a:path w="1053" h="1071">
                  <a:moveTo>
                    <a:pt x="0" y="1035"/>
                  </a:moveTo>
                  <a:lnTo>
                    <a:pt x="1034" y="0"/>
                  </a:lnTo>
                  <a:lnTo>
                    <a:pt x="1036" y="8"/>
                  </a:lnTo>
                  <a:lnTo>
                    <a:pt x="1038" y="18"/>
                  </a:lnTo>
                  <a:lnTo>
                    <a:pt x="1041" y="26"/>
                  </a:lnTo>
                  <a:lnTo>
                    <a:pt x="1043" y="35"/>
                  </a:lnTo>
                  <a:lnTo>
                    <a:pt x="1045" y="44"/>
                  </a:lnTo>
                  <a:lnTo>
                    <a:pt x="1048" y="52"/>
                  </a:lnTo>
                  <a:lnTo>
                    <a:pt x="1050" y="62"/>
                  </a:lnTo>
                  <a:lnTo>
                    <a:pt x="1053" y="70"/>
                  </a:lnTo>
                  <a:lnTo>
                    <a:pt x="53" y="1071"/>
                  </a:lnTo>
                  <a:lnTo>
                    <a:pt x="46" y="1066"/>
                  </a:lnTo>
                  <a:lnTo>
                    <a:pt x="40" y="1062"/>
                  </a:lnTo>
                  <a:lnTo>
                    <a:pt x="33" y="1057"/>
                  </a:lnTo>
                  <a:lnTo>
                    <a:pt x="26" y="1053"/>
                  </a:lnTo>
                  <a:lnTo>
                    <a:pt x="20" y="1048"/>
                  </a:lnTo>
                  <a:lnTo>
                    <a:pt x="13" y="1043"/>
                  </a:lnTo>
                  <a:lnTo>
                    <a:pt x="7" y="1040"/>
                  </a:lnTo>
                  <a:lnTo>
                    <a:pt x="0" y="1035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210200" y="4100400"/>
              <a:ext cx="274320" cy="279360"/>
            </a:xfrm>
            <a:custGeom>
              <a:avLst/>
              <a:gdLst/>
              <a:ahLst/>
              <a:rect l="l" t="t" r="r" b="b"/>
              <a:pathLst>
                <a:path w="1035" h="1055">
                  <a:moveTo>
                    <a:pt x="0" y="1018"/>
                  </a:moveTo>
                  <a:lnTo>
                    <a:pt x="1017" y="0"/>
                  </a:lnTo>
                  <a:lnTo>
                    <a:pt x="1019" y="9"/>
                  </a:lnTo>
                  <a:lnTo>
                    <a:pt x="1022" y="17"/>
                  </a:lnTo>
                  <a:lnTo>
                    <a:pt x="1024" y="27"/>
                  </a:lnTo>
                  <a:lnTo>
                    <a:pt x="1027" y="35"/>
                  </a:lnTo>
                  <a:lnTo>
                    <a:pt x="1029" y="45"/>
                  </a:lnTo>
                  <a:lnTo>
                    <a:pt x="1031" y="53"/>
                  </a:lnTo>
                  <a:lnTo>
                    <a:pt x="1033" y="63"/>
                  </a:lnTo>
                  <a:lnTo>
                    <a:pt x="1035" y="71"/>
                  </a:lnTo>
                  <a:lnTo>
                    <a:pt x="53" y="1055"/>
                  </a:lnTo>
                  <a:lnTo>
                    <a:pt x="46" y="1050"/>
                  </a:lnTo>
                  <a:lnTo>
                    <a:pt x="40" y="1045"/>
                  </a:lnTo>
                  <a:lnTo>
                    <a:pt x="33" y="1040"/>
                  </a:lnTo>
                  <a:lnTo>
                    <a:pt x="27" y="1036"/>
                  </a:lnTo>
                  <a:lnTo>
                    <a:pt x="20" y="1031"/>
                  </a:lnTo>
                  <a:lnTo>
                    <a:pt x="14" y="1027"/>
                  </a:lnTo>
                  <a:lnTo>
                    <a:pt x="7" y="1022"/>
                  </a:lnTo>
                  <a:lnTo>
                    <a:pt x="0" y="1018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218120" y="4110120"/>
              <a:ext cx="268200" cy="274680"/>
            </a:xfrm>
            <a:custGeom>
              <a:avLst/>
              <a:gdLst/>
              <a:ahLst/>
              <a:rect l="l" t="t" r="r" b="b"/>
              <a:pathLst>
                <a:path w="1017" h="1037">
                  <a:moveTo>
                    <a:pt x="0" y="1001"/>
                  </a:moveTo>
                  <a:lnTo>
                    <a:pt x="1000" y="0"/>
                  </a:lnTo>
                  <a:lnTo>
                    <a:pt x="1002" y="10"/>
                  </a:lnTo>
                  <a:lnTo>
                    <a:pt x="1004" y="18"/>
                  </a:lnTo>
                  <a:lnTo>
                    <a:pt x="1006" y="28"/>
                  </a:lnTo>
                  <a:lnTo>
                    <a:pt x="1008" y="36"/>
                  </a:lnTo>
                  <a:lnTo>
                    <a:pt x="1010" y="45"/>
                  </a:lnTo>
                  <a:lnTo>
                    <a:pt x="1013" y="54"/>
                  </a:lnTo>
                  <a:lnTo>
                    <a:pt x="1015" y="63"/>
                  </a:lnTo>
                  <a:lnTo>
                    <a:pt x="1017" y="73"/>
                  </a:lnTo>
                  <a:lnTo>
                    <a:pt x="53" y="1037"/>
                  </a:lnTo>
                  <a:lnTo>
                    <a:pt x="47" y="1033"/>
                  </a:lnTo>
                  <a:lnTo>
                    <a:pt x="39" y="1029"/>
                  </a:lnTo>
                  <a:lnTo>
                    <a:pt x="34" y="1024"/>
                  </a:lnTo>
                  <a:lnTo>
                    <a:pt x="26" y="1020"/>
                  </a:lnTo>
                  <a:lnTo>
                    <a:pt x="19" y="1015"/>
                  </a:lnTo>
                  <a:lnTo>
                    <a:pt x="13" y="1010"/>
                  </a:lnTo>
                  <a:lnTo>
                    <a:pt x="6" y="1005"/>
                  </a:lnTo>
                  <a:lnTo>
                    <a:pt x="0" y="1001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224240" y="4119480"/>
              <a:ext cx="265320" cy="270000"/>
            </a:xfrm>
            <a:custGeom>
              <a:avLst/>
              <a:gdLst/>
              <a:ahLst/>
              <a:rect l="l" t="t" r="r" b="b"/>
              <a:pathLst>
                <a:path w="1001" h="1020">
                  <a:moveTo>
                    <a:pt x="0" y="984"/>
                  </a:moveTo>
                  <a:lnTo>
                    <a:pt x="982" y="0"/>
                  </a:lnTo>
                  <a:lnTo>
                    <a:pt x="984" y="9"/>
                  </a:lnTo>
                  <a:lnTo>
                    <a:pt x="987" y="19"/>
                  </a:lnTo>
                  <a:lnTo>
                    <a:pt x="989" y="27"/>
                  </a:lnTo>
                  <a:lnTo>
                    <a:pt x="991" y="37"/>
                  </a:lnTo>
                  <a:lnTo>
                    <a:pt x="994" y="45"/>
                  </a:lnTo>
                  <a:lnTo>
                    <a:pt x="996" y="54"/>
                  </a:lnTo>
                  <a:lnTo>
                    <a:pt x="999" y="63"/>
                  </a:lnTo>
                  <a:lnTo>
                    <a:pt x="1001" y="72"/>
                  </a:lnTo>
                  <a:lnTo>
                    <a:pt x="53" y="1020"/>
                  </a:lnTo>
                  <a:lnTo>
                    <a:pt x="46" y="1016"/>
                  </a:lnTo>
                  <a:lnTo>
                    <a:pt x="40" y="1011"/>
                  </a:lnTo>
                  <a:lnTo>
                    <a:pt x="32" y="1006"/>
                  </a:lnTo>
                  <a:lnTo>
                    <a:pt x="27" y="1001"/>
                  </a:lnTo>
                  <a:lnTo>
                    <a:pt x="19" y="997"/>
                  </a:lnTo>
                  <a:lnTo>
                    <a:pt x="13" y="993"/>
                  </a:lnTo>
                  <a:lnTo>
                    <a:pt x="8" y="988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32160" y="4129200"/>
              <a:ext cx="258840" cy="264960"/>
            </a:xfrm>
            <a:custGeom>
              <a:avLst/>
              <a:gdLst/>
              <a:ahLst/>
              <a:rect l="l" t="t" r="r" b="b"/>
              <a:pathLst>
                <a:path w="982" h="1002">
                  <a:moveTo>
                    <a:pt x="0" y="964"/>
                  </a:moveTo>
                  <a:lnTo>
                    <a:pt x="964" y="0"/>
                  </a:lnTo>
                  <a:lnTo>
                    <a:pt x="967" y="8"/>
                  </a:lnTo>
                  <a:lnTo>
                    <a:pt x="969" y="17"/>
                  </a:lnTo>
                  <a:lnTo>
                    <a:pt x="972" y="26"/>
                  </a:lnTo>
                  <a:lnTo>
                    <a:pt x="973" y="35"/>
                  </a:lnTo>
                  <a:lnTo>
                    <a:pt x="975" y="44"/>
                  </a:lnTo>
                  <a:lnTo>
                    <a:pt x="977" y="53"/>
                  </a:lnTo>
                  <a:lnTo>
                    <a:pt x="980" y="63"/>
                  </a:lnTo>
                  <a:lnTo>
                    <a:pt x="982" y="71"/>
                  </a:lnTo>
                  <a:lnTo>
                    <a:pt x="52" y="1002"/>
                  </a:lnTo>
                  <a:lnTo>
                    <a:pt x="45" y="998"/>
                  </a:lnTo>
                  <a:lnTo>
                    <a:pt x="39" y="993"/>
                  </a:lnTo>
                  <a:lnTo>
                    <a:pt x="32" y="988"/>
                  </a:lnTo>
                  <a:lnTo>
                    <a:pt x="26" y="983"/>
                  </a:lnTo>
                  <a:lnTo>
                    <a:pt x="19" y="979"/>
                  </a:lnTo>
                  <a:lnTo>
                    <a:pt x="13" y="974"/>
                  </a:lnTo>
                  <a:lnTo>
                    <a:pt x="7" y="969"/>
                  </a:lnTo>
                  <a:lnTo>
                    <a:pt x="0" y="964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238640" y="4138560"/>
              <a:ext cx="255600" cy="260280"/>
            </a:xfrm>
            <a:custGeom>
              <a:avLst/>
              <a:gdLst/>
              <a:ahLst/>
              <a:rect l="l" t="t" r="r" b="b"/>
              <a:pathLst>
                <a:path w="964" h="986">
                  <a:moveTo>
                    <a:pt x="0" y="948"/>
                  </a:moveTo>
                  <a:lnTo>
                    <a:pt x="948" y="0"/>
                  </a:lnTo>
                  <a:lnTo>
                    <a:pt x="949" y="9"/>
                  </a:lnTo>
                  <a:lnTo>
                    <a:pt x="951" y="18"/>
                  </a:lnTo>
                  <a:lnTo>
                    <a:pt x="954" y="26"/>
                  </a:lnTo>
                  <a:lnTo>
                    <a:pt x="956" y="36"/>
                  </a:lnTo>
                  <a:lnTo>
                    <a:pt x="959" y="45"/>
                  </a:lnTo>
                  <a:lnTo>
                    <a:pt x="960" y="54"/>
                  </a:lnTo>
                  <a:lnTo>
                    <a:pt x="962" y="63"/>
                  </a:lnTo>
                  <a:lnTo>
                    <a:pt x="964" y="73"/>
                  </a:lnTo>
                  <a:lnTo>
                    <a:pt x="51" y="986"/>
                  </a:lnTo>
                  <a:lnTo>
                    <a:pt x="45" y="982"/>
                  </a:lnTo>
                  <a:lnTo>
                    <a:pt x="38" y="977"/>
                  </a:lnTo>
                  <a:lnTo>
                    <a:pt x="32" y="972"/>
                  </a:lnTo>
                  <a:lnTo>
                    <a:pt x="26" y="967"/>
                  </a:lnTo>
                  <a:lnTo>
                    <a:pt x="19" y="963"/>
                  </a:lnTo>
                  <a:lnTo>
                    <a:pt x="13" y="958"/>
                  </a:lnTo>
                  <a:lnTo>
                    <a:pt x="6" y="953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245120" y="4148280"/>
              <a:ext cx="250560" cy="257040"/>
            </a:xfrm>
            <a:custGeom>
              <a:avLst/>
              <a:gdLst/>
              <a:ahLst/>
              <a:rect l="l" t="t" r="r" b="b"/>
              <a:pathLst>
                <a:path w="947" h="971">
                  <a:moveTo>
                    <a:pt x="0" y="931"/>
                  </a:moveTo>
                  <a:lnTo>
                    <a:pt x="930" y="0"/>
                  </a:lnTo>
                  <a:lnTo>
                    <a:pt x="933" y="9"/>
                  </a:lnTo>
                  <a:lnTo>
                    <a:pt x="934" y="18"/>
                  </a:lnTo>
                  <a:lnTo>
                    <a:pt x="936" y="27"/>
                  </a:lnTo>
                  <a:lnTo>
                    <a:pt x="938" y="37"/>
                  </a:lnTo>
                  <a:lnTo>
                    <a:pt x="941" y="45"/>
                  </a:lnTo>
                  <a:lnTo>
                    <a:pt x="943" y="55"/>
                  </a:lnTo>
                  <a:lnTo>
                    <a:pt x="944" y="63"/>
                  </a:lnTo>
                  <a:lnTo>
                    <a:pt x="947" y="72"/>
                  </a:lnTo>
                  <a:lnTo>
                    <a:pt x="50" y="971"/>
                  </a:lnTo>
                  <a:lnTo>
                    <a:pt x="44" y="966"/>
                  </a:lnTo>
                  <a:lnTo>
                    <a:pt x="38" y="961"/>
                  </a:lnTo>
                  <a:lnTo>
                    <a:pt x="31" y="956"/>
                  </a:lnTo>
                  <a:lnTo>
                    <a:pt x="25" y="950"/>
                  </a:lnTo>
                  <a:lnTo>
                    <a:pt x="18" y="946"/>
                  </a:lnTo>
                  <a:lnTo>
                    <a:pt x="12" y="941"/>
                  </a:lnTo>
                  <a:lnTo>
                    <a:pt x="6" y="936"/>
                  </a:lnTo>
                  <a:lnTo>
                    <a:pt x="0" y="931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251240" y="4157640"/>
              <a:ext cx="247680" cy="252360"/>
            </a:xfrm>
            <a:custGeom>
              <a:avLst/>
              <a:gdLst/>
              <a:ahLst/>
              <a:rect l="l" t="t" r="r" b="b"/>
              <a:pathLst>
                <a:path w="930" h="953">
                  <a:moveTo>
                    <a:pt x="0" y="913"/>
                  </a:moveTo>
                  <a:lnTo>
                    <a:pt x="913" y="0"/>
                  </a:lnTo>
                  <a:lnTo>
                    <a:pt x="916" y="8"/>
                  </a:lnTo>
                  <a:lnTo>
                    <a:pt x="918" y="18"/>
                  </a:lnTo>
                  <a:lnTo>
                    <a:pt x="919" y="26"/>
                  </a:lnTo>
                  <a:lnTo>
                    <a:pt x="922" y="35"/>
                  </a:lnTo>
                  <a:lnTo>
                    <a:pt x="924" y="45"/>
                  </a:lnTo>
                  <a:lnTo>
                    <a:pt x="927" y="53"/>
                  </a:lnTo>
                  <a:lnTo>
                    <a:pt x="928" y="63"/>
                  </a:lnTo>
                  <a:lnTo>
                    <a:pt x="930" y="72"/>
                  </a:lnTo>
                  <a:lnTo>
                    <a:pt x="50" y="953"/>
                  </a:lnTo>
                  <a:lnTo>
                    <a:pt x="44" y="948"/>
                  </a:lnTo>
                  <a:lnTo>
                    <a:pt x="38" y="943"/>
                  </a:lnTo>
                  <a:lnTo>
                    <a:pt x="32" y="938"/>
                  </a:lnTo>
                  <a:lnTo>
                    <a:pt x="25" y="934"/>
                  </a:lnTo>
                  <a:lnTo>
                    <a:pt x="19" y="929"/>
                  </a:lnTo>
                  <a:lnTo>
                    <a:pt x="13" y="924"/>
                  </a:lnTo>
                  <a:lnTo>
                    <a:pt x="6" y="919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259160" y="4167360"/>
              <a:ext cx="241560" cy="247320"/>
            </a:xfrm>
            <a:custGeom>
              <a:avLst/>
              <a:gdLst/>
              <a:ahLst/>
              <a:rect l="l" t="t" r="r" b="b"/>
              <a:pathLst>
                <a:path w="913" h="938">
                  <a:moveTo>
                    <a:pt x="0" y="899"/>
                  </a:moveTo>
                  <a:lnTo>
                    <a:pt x="897" y="0"/>
                  </a:lnTo>
                  <a:lnTo>
                    <a:pt x="899" y="10"/>
                  </a:lnTo>
                  <a:lnTo>
                    <a:pt x="902" y="18"/>
                  </a:lnTo>
                  <a:lnTo>
                    <a:pt x="903" y="28"/>
                  </a:lnTo>
                  <a:lnTo>
                    <a:pt x="905" y="37"/>
                  </a:lnTo>
                  <a:lnTo>
                    <a:pt x="907" y="46"/>
                  </a:lnTo>
                  <a:lnTo>
                    <a:pt x="910" y="55"/>
                  </a:lnTo>
                  <a:lnTo>
                    <a:pt x="911" y="65"/>
                  </a:lnTo>
                  <a:lnTo>
                    <a:pt x="913" y="73"/>
                  </a:lnTo>
                  <a:lnTo>
                    <a:pt x="49" y="938"/>
                  </a:lnTo>
                  <a:lnTo>
                    <a:pt x="44" y="933"/>
                  </a:lnTo>
                  <a:lnTo>
                    <a:pt x="38" y="928"/>
                  </a:lnTo>
                  <a:lnTo>
                    <a:pt x="30" y="924"/>
                  </a:lnTo>
                  <a:lnTo>
                    <a:pt x="25" y="919"/>
                  </a:lnTo>
                  <a:lnTo>
                    <a:pt x="19" y="913"/>
                  </a:lnTo>
                  <a:lnTo>
                    <a:pt x="13" y="908"/>
                  </a:lnTo>
                  <a:lnTo>
                    <a:pt x="6" y="903"/>
                  </a:lnTo>
                  <a:lnTo>
                    <a:pt x="0" y="899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265640" y="4176720"/>
              <a:ext cx="236520" cy="243000"/>
            </a:xfrm>
            <a:custGeom>
              <a:avLst/>
              <a:gdLst/>
              <a:ahLst/>
              <a:rect l="l" t="t" r="r" b="b"/>
              <a:pathLst>
                <a:path w="897" h="921">
                  <a:moveTo>
                    <a:pt x="0" y="881"/>
                  </a:moveTo>
                  <a:lnTo>
                    <a:pt x="880" y="0"/>
                  </a:lnTo>
                  <a:lnTo>
                    <a:pt x="882" y="9"/>
                  </a:lnTo>
                  <a:lnTo>
                    <a:pt x="885" y="18"/>
                  </a:lnTo>
                  <a:lnTo>
                    <a:pt x="886" y="28"/>
                  </a:lnTo>
                  <a:lnTo>
                    <a:pt x="888" y="37"/>
                  </a:lnTo>
                  <a:lnTo>
                    <a:pt x="891" y="45"/>
                  </a:lnTo>
                  <a:lnTo>
                    <a:pt x="892" y="55"/>
                  </a:lnTo>
                  <a:lnTo>
                    <a:pt x="894" y="64"/>
                  </a:lnTo>
                  <a:lnTo>
                    <a:pt x="897" y="73"/>
                  </a:lnTo>
                  <a:lnTo>
                    <a:pt x="49" y="921"/>
                  </a:lnTo>
                  <a:lnTo>
                    <a:pt x="43" y="916"/>
                  </a:lnTo>
                  <a:lnTo>
                    <a:pt x="38" y="911"/>
                  </a:lnTo>
                  <a:lnTo>
                    <a:pt x="30" y="906"/>
                  </a:lnTo>
                  <a:lnTo>
                    <a:pt x="24" y="901"/>
                  </a:lnTo>
                  <a:lnTo>
                    <a:pt x="19" y="896"/>
                  </a:lnTo>
                  <a:lnTo>
                    <a:pt x="13" y="891"/>
                  </a:lnTo>
                  <a:lnTo>
                    <a:pt x="7" y="887"/>
                  </a:lnTo>
                  <a:lnTo>
                    <a:pt x="0" y="881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272120" y="4186080"/>
              <a:ext cx="233280" cy="239760"/>
            </a:xfrm>
            <a:custGeom>
              <a:avLst/>
              <a:gdLst/>
              <a:ahLst/>
              <a:rect l="l" t="t" r="r" b="b"/>
              <a:pathLst>
                <a:path w="881" h="905">
                  <a:moveTo>
                    <a:pt x="0" y="865"/>
                  </a:moveTo>
                  <a:lnTo>
                    <a:pt x="864" y="0"/>
                  </a:lnTo>
                  <a:lnTo>
                    <a:pt x="867" y="9"/>
                  </a:lnTo>
                  <a:lnTo>
                    <a:pt x="868" y="19"/>
                  </a:lnTo>
                  <a:lnTo>
                    <a:pt x="870" y="28"/>
                  </a:lnTo>
                  <a:lnTo>
                    <a:pt x="873" y="37"/>
                  </a:lnTo>
                  <a:lnTo>
                    <a:pt x="875" y="46"/>
                  </a:lnTo>
                  <a:lnTo>
                    <a:pt x="876" y="56"/>
                  </a:lnTo>
                  <a:lnTo>
                    <a:pt x="879" y="65"/>
                  </a:lnTo>
                  <a:lnTo>
                    <a:pt x="881" y="74"/>
                  </a:lnTo>
                  <a:lnTo>
                    <a:pt x="50" y="905"/>
                  </a:lnTo>
                  <a:lnTo>
                    <a:pt x="43" y="900"/>
                  </a:lnTo>
                  <a:lnTo>
                    <a:pt x="37" y="896"/>
                  </a:lnTo>
                  <a:lnTo>
                    <a:pt x="31" y="891"/>
                  </a:lnTo>
                  <a:lnTo>
                    <a:pt x="25" y="885"/>
                  </a:lnTo>
                  <a:lnTo>
                    <a:pt x="19" y="880"/>
                  </a:lnTo>
                  <a:lnTo>
                    <a:pt x="14" y="875"/>
                  </a:lnTo>
                  <a:lnTo>
                    <a:pt x="6" y="8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78240" y="4195800"/>
              <a:ext cx="228600" cy="235080"/>
            </a:xfrm>
            <a:custGeom>
              <a:avLst/>
              <a:gdLst/>
              <a:ahLst/>
              <a:rect l="l" t="t" r="r" b="b"/>
              <a:pathLst>
                <a:path w="863" h="890">
                  <a:moveTo>
                    <a:pt x="0" y="848"/>
                  </a:moveTo>
                  <a:lnTo>
                    <a:pt x="848" y="0"/>
                  </a:lnTo>
                  <a:lnTo>
                    <a:pt x="850" y="9"/>
                  </a:lnTo>
                  <a:lnTo>
                    <a:pt x="851" y="19"/>
                  </a:lnTo>
                  <a:lnTo>
                    <a:pt x="854" y="28"/>
                  </a:lnTo>
                  <a:lnTo>
                    <a:pt x="856" y="37"/>
                  </a:lnTo>
                  <a:lnTo>
                    <a:pt x="857" y="46"/>
                  </a:lnTo>
                  <a:lnTo>
                    <a:pt x="860" y="56"/>
                  </a:lnTo>
                  <a:lnTo>
                    <a:pt x="861" y="65"/>
                  </a:lnTo>
                  <a:lnTo>
                    <a:pt x="863" y="73"/>
                  </a:lnTo>
                  <a:lnTo>
                    <a:pt x="49" y="890"/>
                  </a:lnTo>
                  <a:lnTo>
                    <a:pt x="43" y="884"/>
                  </a:lnTo>
                  <a:lnTo>
                    <a:pt x="37" y="879"/>
                  </a:lnTo>
                  <a:lnTo>
                    <a:pt x="31" y="874"/>
                  </a:lnTo>
                  <a:lnTo>
                    <a:pt x="24" y="868"/>
                  </a:lnTo>
                  <a:lnTo>
                    <a:pt x="18" y="863"/>
                  </a:lnTo>
                  <a:lnTo>
                    <a:pt x="12" y="859"/>
                  </a:lnTo>
                  <a:lnTo>
                    <a:pt x="6" y="854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84720" y="4205160"/>
              <a:ext cx="223920" cy="231840"/>
            </a:xfrm>
            <a:custGeom>
              <a:avLst/>
              <a:gdLst/>
              <a:ahLst/>
              <a:rect l="l" t="t" r="r" b="b"/>
              <a:pathLst>
                <a:path w="846" h="873">
                  <a:moveTo>
                    <a:pt x="0" y="831"/>
                  </a:moveTo>
                  <a:lnTo>
                    <a:pt x="831" y="0"/>
                  </a:lnTo>
                  <a:lnTo>
                    <a:pt x="832" y="9"/>
                  </a:lnTo>
                  <a:lnTo>
                    <a:pt x="835" y="19"/>
                  </a:lnTo>
                  <a:lnTo>
                    <a:pt x="837" y="28"/>
                  </a:lnTo>
                  <a:lnTo>
                    <a:pt x="838" y="36"/>
                  </a:lnTo>
                  <a:lnTo>
                    <a:pt x="841" y="46"/>
                  </a:lnTo>
                  <a:lnTo>
                    <a:pt x="842" y="55"/>
                  </a:lnTo>
                  <a:lnTo>
                    <a:pt x="844" y="65"/>
                  </a:lnTo>
                  <a:lnTo>
                    <a:pt x="846" y="74"/>
                  </a:lnTo>
                  <a:lnTo>
                    <a:pt x="48" y="873"/>
                  </a:lnTo>
                  <a:lnTo>
                    <a:pt x="42" y="868"/>
                  </a:lnTo>
                  <a:lnTo>
                    <a:pt x="36" y="862"/>
                  </a:lnTo>
                  <a:lnTo>
                    <a:pt x="30" y="857"/>
                  </a:lnTo>
                  <a:lnTo>
                    <a:pt x="24" y="853"/>
                  </a:lnTo>
                  <a:lnTo>
                    <a:pt x="18" y="847"/>
                  </a:lnTo>
                  <a:lnTo>
                    <a:pt x="12" y="842"/>
                  </a:lnTo>
                  <a:lnTo>
                    <a:pt x="6" y="837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290840" y="4214880"/>
              <a:ext cx="219240" cy="226800"/>
            </a:xfrm>
            <a:custGeom>
              <a:avLst/>
              <a:gdLst/>
              <a:ahLst/>
              <a:rect l="l" t="t" r="r" b="b"/>
              <a:pathLst>
                <a:path w="830" h="858">
                  <a:moveTo>
                    <a:pt x="0" y="817"/>
                  </a:moveTo>
                  <a:lnTo>
                    <a:pt x="814" y="0"/>
                  </a:lnTo>
                  <a:lnTo>
                    <a:pt x="817" y="10"/>
                  </a:lnTo>
                  <a:lnTo>
                    <a:pt x="818" y="19"/>
                  </a:lnTo>
                  <a:lnTo>
                    <a:pt x="820" y="29"/>
                  </a:lnTo>
                  <a:lnTo>
                    <a:pt x="822" y="38"/>
                  </a:lnTo>
                  <a:lnTo>
                    <a:pt x="824" y="48"/>
                  </a:lnTo>
                  <a:lnTo>
                    <a:pt x="826" y="56"/>
                  </a:lnTo>
                  <a:lnTo>
                    <a:pt x="827" y="66"/>
                  </a:lnTo>
                  <a:lnTo>
                    <a:pt x="830" y="75"/>
                  </a:lnTo>
                  <a:lnTo>
                    <a:pt x="48" y="858"/>
                  </a:lnTo>
                  <a:lnTo>
                    <a:pt x="42" y="852"/>
                  </a:lnTo>
                  <a:lnTo>
                    <a:pt x="36" y="847"/>
                  </a:lnTo>
                  <a:lnTo>
                    <a:pt x="30" y="843"/>
                  </a:lnTo>
                  <a:lnTo>
                    <a:pt x="24" y="837"/>
                  </a:lnTo>
                  <a:lnTo>
                    <a:pt x="18" y="832"/>
                  </a:lnTo>
                  <a:lnTo>
                    <a:pt x="12" y="826"/>
                  </a:lnTo>
                  <a:lnTo>
                    <a:pt x="6" y="821"/>
                  </a:lnTo>
                  <a:lnTo>
                    <a:pt x="0" y="81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297320" y="4226040"/>
              <a:ext cx="216000" cy="222120"/>
            </a:xfrm>
            <a:custGeom>
              <a:avLst/>
              <a:gdLst/>
              <a:ahLst/>
              <a:rect l="l" t="t" r="r" b="b"/>
              <a:pathLst>
                <a:path w="813" h="841">
                  <a:moveTo>
                    <a:pt x="0" y="799"/>
                  </a:moveTo>
                  <a:lnTo>
                    <a:pt x="798" y="0"/>
                  </a:lnTo>
                  <a:lnTo>
                    <a:pt x="800" y="10"/>
                  </a:lnTo>
                  <a:lnTo>
                    <a:pt x="802" y="18"/>
                  </a:lnTo>
                  <a:lnTo>
                    <a:pt x="803" y="28"/>
                  </a:lnTo>
                  <a:lnTo>
                    <a:pt x="806" y="37"/>
                  </a:lnTo>
                  <a:lnTo>
                    <a:pt x="807" y="47"/>
                  </a:lnTo>
                  <a:lnTo>
                    <a:pt x="809" y="56"/>
                  </a:lnTo>
                  <a:lnTo>
                    <a:pt x="812" y="66"/>
                  </a:lnTo>
                  <a:lnTo>
                    <a:pt x="813" y="74"/>
                  </a:lnTo>
                  <a:lnTo>
                    <a:pt x="47" y="841"/>
                  </a:lnTo>
                  <a:lnTo>
                    <a:pt x="41" y="836"/>
                  </a:lnTo>
                  <a:lnTo>
                    <a:pt x="35" y="831"/>
                  </a:lnTo>
                  <a:lnTo>
                    <a:pt x="29" y="825"/>
                  </a:lnTo>
                  <a:lnTo>
                    <a:pt x="24" y="820"/>
                  </a:lnTo>
                  <a:lnTo>
                    <a:pt x="18" y="814"/>
                  </a:lnTo>
                  <a:lnTo>
                    <a:pt x="12" y="809"/>
                  </a:lnTo>
                  <a:lnTo>
                    <a:pt x="6" y="803"/>
                  </a:lnTo>
                  <a:lnTo>
                    <a:pt x="0" y="799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303800" y="4235400"/>
              <a:ext cx="210960" cy="217440"/>
            </a:xfrm>
            <a:custGeom>
              <a:avLst/>
              <a:gdLst/>
              <a:ahLst/>
              <a:rect l="l" t="t" r="r" b="b"/>
              <a:pathLst>
                <a:path w="796" h="825">
                  <a:moveTo>
                    <a:pt x="0" y="783"/>
                  </a:moveTo>
                  <a:lnTo>
                    <a:pt x="782" y="0"/>
                  </a:lnTo>
                  <a:lnTo>
                    <a:pt x="784" y="10"/>
                  </a:lnTo>
                  <a:lnTo>
                    <a:pt x="785" y="19"/>
                  </a:lnTo>
                  <a:lnTo>
                    <a:pt x="788" y="29"/>
                  </a:lnTo>
                  <a:lnTo>
                    <a:pt x="789" y="37"/>
                  </a:lnTo>
                  <a:lnTo>
                    <a:pt x="791" y="47"/>
                  </a:lnTo>
                  <a:lnTo>
                    <a:pt x="792" y="56"/>
                  </a:lnTo>
                  <a:lnTo>
                    <a:pt x="795" y="66"/>
                  </a:lnTo>
                  <a:lnTo>
                    <a:pt x="796" y="75"/>
                  </a:lnTo>
                  <a:lnTo>
                    <a:pt x="47" y="825"/>
                  </a:lnTo>
                  <a:lnTo>
                    <a:pt x="41" y="820"/>
                  </a:lnTo>
                  <a:lnTo>
                    <a:pt x="35" y="814"/>
                  </a:lnTo>
                  <a:lnTo>
                    <a:pt x="29" y="809"/>
                  </a:lnTo>
                  <a:lnTo>
                    <a:pt x="23" y="804"/>
                  </a:lnTo>
                  <a:lnTo>
                    <a:pt x="17" y="799"/>
                  </a:lnTo>
                  <a:lnTo>
                    <a:pt x="11" y="794"/>
                  </a:lnTo>
                  <a:lnTo>
                    <a:pt x="5" y="788"/>
                  </a:lnTo>
                  <a:lnTo>
                    <a:pt x="0" y="783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309920" y="4245120"/>
              <a:ext cx="206640" cy="214200"/>
            </a:xfrm>
            <a:custGeom>
              <a:avLst/>
              <a:gdLst/>
              <a:ahLst/>
              <a:rect l="l" t="t" r="r" b="b"/>
              <a:pathLst>
                <a:path w="780" h="810">
                  <a:moveTo>
                    <a:pt x="0" y="767"/>
                  </a:moveTo>
                  <a:lnTo>
                    <a:pt x="766" y="0"/>
                  </a:lnTo>
                  <a:lnTo>
                    <a:pt x="768" y="10"/>
                  </a:lnTo>
                  <a:lnTo>
                    <a:pt x="769" y="19"/>
                  </a:lnTo>
                  <a:lnTo>
                    <a:pt x="772" y="29"/>
                  </a:lnTo>
                  <a:lnTo>
                    <a:pt x="773" y="38"/>
                  </a:lnTo>
                  <a:lnTo>
                    <a:pt x="775" y="48"/>
                  </a:lnTo>
                  <a:lnTo>
                    <a:pt x="776" y="57"/>
                  </a:lnTo>
                  <a:lnTo>
                    <a:pt x="779" y="67"/>
                  </a:lnTo>
                  <a:lnTo>
                    <a:pt x="780" y="76"/>
                  </a:lnTo>
                  <a:lnTo>
                    <a:pt x="47" y="810"/>
                  </a:lnTo>
                  <a:lnTo>
                    <a:pt x="41" y="804"/>
                  </a:lnTo>
                  <a:lnTo>
                    <a:pt x="36" y="800"/>
                  </a:lnTo>
                  <a:lnTo>
                    <a:pt x="30" y="794"/>
                  </a:lnTo>
                  <a:lnTo>
                    <a:pt x="24" y="788"/>
                  </a:lnTo>
                  <a:lnTo>
                    <a:pt x="18" y="783"/>
                  </a:lnTo>
                  <a:lnTo>
                    <a:pt x="12" y="777"/>
                  </a:lnTo>
                  <a:lnTo>
                    <a:pt x="6" y="772"/>
                  </a:lnTo>
                  <a:lnTo>
                    <a:pt x="0" y="767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316400" y="4254480"/>
              <a:ext cx="201600" cy="211320"/>
            </a:xfrm>
            <a:custGeom>
              <a:avLst/>
              <a:gdLst/>
              <a:ahLst/>
              <a:rect l="l" t="t" r="r" b="b"/>
              <a:pathLst>
                <a:path w="763" h="794">
                  <a:moveTo>
                    <a:pt x="0" y="750"/>
                  </a:moveTo>
                  <a:lnTo>
                    <a:pt x="749" y="0"/>
                  </a:lnTo>
                  <a:lnTo>
                    <a:pt x="751" y="10"/>
                  </a:lnTo>
                  <a:lnTo>
                    <a:pt x="752" y="19"/>
                  </a:lnTo>
                  <a:lnTo>
                    <a:pt x="755" y="29"/>
                  </a:lnTo>
                  <a:lnTo>
                    <a:pt x="756" y="38"/>
                  </a:lnTo>
                  <a:lnTo>
                    <a:pt x="758" y="48"/>
                  </a:lnTo>
                  <a:lnTo>
                    <a:pt x="760" y="57"/>
                  </a:lnTo>
                  <a:lnTo>
                    <a:pt x="762" y="67"/>
                  </a:lnTo>
                  <a:lnTo>
                    <a:pt x="763" y="76"/>
                  </a:lnTo>
                  <a:lnTo>
                    <a:pt x="46" y="794"/>
                  </a:lnTo>
                  <a:lnTo>
                    <a:pt x="40" y="788"/>
                  </a:lnTo>
                  <a:lnTo>
                    <a:pt x="34" y="783"/>
                  </a:lnTo>
                  <a:lnTo>
                    <a:pt x="28" y="777"/>
                  </a:lnTo>
                  <a:lnTo>
                    <a:pt x="23" y="771"/>
                  </a:lnTo>
                  <a:lnTo>
                    <a:pt x="17" y="766"/>
                  </a:lnTo>
                  <a:lnTo>
                    <a:pt x="12" y="760"/>
                  </a:lnTo>
                  <a:lnTo>
                    <a:pt x="6" y="756"/>
                  </a:lnTo>
                  <a:lnTo>
                    <a:pt x="0" y="75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322880" y="4265640"/>
              <a:ext cx="196560" cy="204840"/>
            </a:xfrm>
            <a:custGeom>
              <a:avLst/>
              <a:gdLst/>
              <a:ahLst/>
              <a:rect l="l" t="t" r="r" b="b"/>
              <a:pathLst>
                <a:path w="747" h="777">
                  <a:moveTo>
                    <a:pt x="0" y="734"/>
                  </a:moveTo>
                  <a:lnTo>
                    <a:pt x="733" y="0"/>
                  </a:lnTo>
                  <a:lnTo>
                    <a:pt x="735" y="10"/>
                  </a:lnTo>
                  <a:lnTo>
                    <a:pt x="737" y="19"/>
                  </a:lnTo>
                  <a:lnTo>
                    <a:pt x="739" y="29"/>
                  </a:lnTo>
                  <a:lnTo>
                    <a:pt x="740" y="38"/>
                  </a:lnTo>
                  <a:lnTo>
                    <a:pt x="742" y="48"/>
                  </a:lnTo>
                  <a:lnTo>
                    <a:pt x="744" y="57"/>
                  </a:lnTo>
                  <a:lnTo>
                    <a:pt x="745" y="67"/>
                  </a:lnTo>
                  <a:lnTo>
                    <a:pt x="747" y="76"/>
                  </a:lnTo>
                  <a:lnTo>
                    <a:pt x="46" y="777"/>
                  </a:lnTo>
                  <a:lnTo>
                    <a:pt x="40" y="772"/>
                  </a:lnTo>
                  <a:lnTo>
                    <a:pt x="35" y="766"/>
                  </a:lnTo>
                  <a:lnTo>
                    <a:pt x="29" y="760"/>
                  </a:lnTo>
                  <a:lnTo>
                    <a:pt x="23" y="756"/>
                  </a:lnTo>
                  <a:lnTo>
                    <a:pt x="17" y="750"/>
                  </a:lnTo>
                  <a:lnTo>
                    <a:pt x="11" y="745"/>
                  </a:lnTo>
                  <a:lnTo>
                    <a:pt x="5" y="739"/>
                  </a:lnTo>
                  <a:lnTo>
                    <a:pt x="0" y="734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29000" y="4275000"/>
              <a:ext cx="193680" cy="201600"/>
            </a:xfrm>
            <a:custGeom>
              <a:avLst/>
              <a:gdLst/>
              <a:ahLst/>
              <a:rect l="l" t="t" r="r" b="b"/>
              <a:pathLst>
                <a:path w="731" h="762">
                  <a:moveTo>
                    <a:pt x="0" y="718"/>
                  </a:move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4" y="38"/>
                  </a:lnTo>
                  <a:lnTo>
                    <a:pt x="725" y="48"/>
                  </a:lnTo>
                  <a:lnTo>
                    <a:pt x="728" y="57"/>
                  </a:lnTo>
                  <a:lnTo>
                    <a:pt x="729" y="67"/>
                  </a:lnTo>
                  <a:lnTo>
                    <a:pt x="731" y="75"/>
                  </a:lnTo>
                  <a:lnTo>
                    <a:pt x="45" y="762"/>
                  </a:lnTo>
                  <a:lnTo>
                    <a:pt x="41" y="756"/>
                  </a:lnTo>
                  <a:lnTo>
                    <a:pt x="35" y="750"/>
                  </a:lnTo>
                  <a:lnTo>
                    <a:pt x="29" y="745"/>
                  </a:lnTo>
                  <a:lnTo>
                    <a:pt x="23" y="739"/>
                  </a:lnTo>
                  <a:lnTo>
                    <a:pt x="17" y="734"/>
                  </a:lnTo>
                  <a:lnTo>
                    <a:pt x="12" y="728"/>
                  </a:lnTo>
                  <a:lnTo>
                    <a:pt x="6" y="722"/>
                  </a:lnTo>
                  <a:lnTo>
                    <a:pt x="0" y="71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34040" y="4284720"/>
              <a:ext cx="190440" cy="196920"/>
            </a:xfrm>
            <a:custGeom>
              <a:avLst/>
              <a:gdLst/>
              <a:ahLst/>
              <a:rect l="l" t="t" r="r" b="b"/>
              <a:pathLst>
                <a:path w="714" h="745">
                  <a:moveTo>
                    <a:pt x="0" y="701"/>
                  </a:moveTo>
                  <a:lnTo>
                    <a:pt x="701" y="0"/>
                  </a:lnTo>
                  <a:lnTo>
                    <a:pt x="702" y="10"/>
                  </a:lnTo>
                  <a:lnTo>
                    <a:pt x="705" y="19"/>
                  </a:lnTo>
                  <a:lnTo>
                    <a:pt x="706" y="29"/>
                  </a:lnTo>
                  <a:lnTo>
                    <a:pt x="708" y="38"/>
                  </a:lnTo>
                  <a:lnTo>
                    <a:pt x="709" y="48"/>
                  </a:lnTo>
                  <a:lnTo>
                    <a:pt x="711" y="57"/>
                  </a:lnTo>
                  <a:lnTo>
                    <a:pt x="713" y="67"/>
                  </a:lnTo>
                  <a:lnTo>
                    <a:pt x="714" y="76"/>
                  </a:lnTo>
                  <a:lnTo>
                    <a:pt x="45" y="745"/>
                  </a:lnTo>
                  <a:lnTo>
                    <a:pt x="40" y="740"/>
                  </a:lnTo>
                  <a:lnTo>
                    <a:pt x="34" y="734"/>
                  </a:lnTo>
                  <a:lnTo>
                    <a:pt x="28" y="728"/>
                  </a:lnTo>
                  <a:lnTo>
                    <a:pt x="22" y="724"/>
                  </a:lnTo>
                  <a:lnTo>
                    <a:pt x="16" y="718"/>
                  </a:lnTo>
                  <a:lnTo>
                    <a:pt x="12" y="712"/>
                  </a:lnTo>
                  <a:lnTo>
                    <a:pt x="6" y="707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0160" y="4294080"/>
              <a:ext cx="185760" cy="193680"/>
            </a:xfrm>
            <a:custGeom>
              <a:avLst/>
              <a:gdLst/>
              <a:ahLst/>
              <a:rect l="l" t="t" r="r" b="b"/>
              <a:pathLst>
                <a:path w="698" h="731">
                  <a:moveTo>
                    <a:pt x="0" y="687"/>
                  </a:moveTo>
                  <a:lnTo>
                    <a:pt x="686" y="0"/>
                  </a:lnTo>
                  <a:lnTo>
                    <a:pt x="687" y="11"/>
                  </a:lnTo>
                  <a:lnTo>
                    <a:pt x="689" y="20"/>
                  </a:lnTo>
                  <a:lnTo>
                    <a:pt x="691" y="30"/>
                  </a:lnTo>
                  <a:lnTo>
                    <a:pt x="692" y="39"/>
                  </a:lnTo>
                  <a:lnTo>
                    <a:pt x="693" y="49"/>
                  </a:lnTo>
                  <a:lnTo>
                    <a:pt x="696" y="58"/>
                  </a:lnTo>
                  <a:lnTo>
                    <a:pt x="697" y="68"/>
                  </a:lnTo>
                  <a:lnTo>
                    <a:pt x="698" y="77"/>
                  </a:lnTo>
                  <a:lnTo>
                    <a:pt x="45" y="731"/>
                  </a:lnTo>
                  <a:lnTo>
                    <a:pt x="40" y="725"/>
                  </a:lnTo>
                  <a:lnTo>
                    <a:pt x="35" y="720"/>
                  </a:lnTo>
                  <a:lnTo>
                    <a:pt x="29" y="714"/>
                  </a:lnTo>
                  <a:lnTo>
                    <a:pt x="23" y="708"/>
                  </a:lnTo>
                  <a:lnTo>
                    <a:pt x="18" y="703"/>
                  </a:lnTo>
                  <a:lnTo>
                    <a:pt x="12" y="697"/>
                  </a:lnTo>
                  <a:lnTo>
                    <a:pt x="6" y="691"/>
                  </a:lnTo>
                  <a:lnTo>
                    <a:pt x="0" y="687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346640" y="4305240"/>
              <a:ext cx="181080" cy="189000"/>
            </a:xfrm>
            <a:custGeom>
              <a:avLst/>
              <a:gdLst/>
              <a:ahLst/>
              <a:rect l="l" t="t" r="r" b="b"/>
              <a:pathLst>
                <a:path w="682" h="714">
                  <a:moveTo>
                    <a:pt x="0" y="669"/>
                  </a:moveTo>
                  <a:lnTo>
                    <a:pt x="669" y="0"/>
                  </a:lnTo>
                  <a:lnTo>
                    <a:pt x="670" y="10"/>
                  </a:lnTo>
                  <a:lnTo>
                    <a:pt x="673" y="19"/>
                  </a:lnTo>
                  <a:lnTo>
                    <a:pt x="674" y="29"/>
                  </a:lnTo>
                  <a:lnTo>
                    <a:pt x="675" y="38"/>
                  </a:lnTo>
                  <a:lnTo>
                    <a:pt x="678" y="48"/>
                  </a:lnTo>
                  <a:lnTo>
                    <a:pt x="679" y="57"/>
                  </a:lnTo>
                  <a:lnTo>
                    <a:pt x="680" y="67"/>
                  </a:lnTo>
                  <a:lnTo>
                    <a:pt x="682" y="76"/>
                  </a:lnTo>
                  <a:lnTo>
                    <a:pt x="45" y="714"/>
                  </a:lnTo>
                  <a:lnTo>
                    <a:pt x="39" y="708"/>
                  </a:lnTo>
                  <a:lnTo>
                    <a:pt x="34" y="703"/>
                  </a:lnTo>
                  <a:lnTo>
                    <a:pt x="28" y="698"/>
                  </a:lnTo>
                  <a:lnTo>
                    <a:pt x="22" y="692"/>
                  </a:lnTo>
                  <a:lnTo>
                    <a:pt x="17" y="686"/>
                  </a:lnTo>
                  <a:lnTo>
                    <a:pt x="12" y="681"/>
                  </a:lnTo>
                  <a:lnTo>
                    <a:pt x="6" y="675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52760" y="4314960"/>
              <a:ext cx="176400" cy="185760"/>
            </a:xfrm>
            <a:custGeom>
              <a:avLst/>
              <a:gdLst/>
              <a:ahLst/>
              <a:rect l="l" t="t" r="r" b="b"/>
              <a:pathLst>
                <a:path w="666" h="699">
                  <a:moveTo>
                    <a:pt x="0" y="654"/>
                  </a:moveTo>
                  <a:lnTo>
                    <a:pt x="653" y="0"/>
                  </a:lnTo>
                  <a:lnTo>
                    <a:pt x="656" y="10"/>
                  </a:lnTo>
                  <a:lnTo>
                    <a:pt x="657" y="19"/>
                  </a:lnTo>
                  <a:lnTo>
                    <a:pt x="658" y="29"/>
                  </a:lnTo>
                  <a:lnTo>
                    <a:pt x="660" y="39"/>
                  </a:lnTo>
                  <a:lnTo>
                    <a:pt x="661" y="49"/>
                  </a:lnTo>
                  <a:lnTo>
                    <a:pt x="663" y="58"/>
                  </a:lnTo>
                  <a:lnTo>
                    <a:pt x="664" y="68"/>
                  </a:lnTo>
                  <a:lnTo>
                    <a:pt x="666" y="77"/>
                  </a:lnTo>
                  <a:lnTo>
                    <a:pt x="46" y="699"/>
                  </a:lnTo>
                  <a:lnTo>
                    <a:pt x="40" y="693"/>
                  </a:lnTo>
                  <a:lnTo>
                    <a:pt x="34" y="688"/>
                  </a:lnTo>
                  <a:lnTo>
                    <a:pt x="29" y="682"/>
                  </a:lnTo>
                  <a:lnTo>
                    <a:pt x="23" y="676"/>
                  </a:lnTo>
                  <a:lnTo>
                    <a:pt x="17" y="670"/>
                  </a:lnTo>
                  <a:lnTo>
                    <a:pt x="12" y="665"/>
                  </a:lnTo>
                  <a:lnTo>
                    <a:pt x="6" y="660"/>
                  </a:lnTo>
                  <a:lnTo>
                    <a:pt x="0" y="654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59240" y="4325760"/>
              <a:ext cx="171360" cy="181080"/>
            </a:xfrm>
            <a:custGeom>
              <a:avLst/>
              <a:gdLst/>
              <a:ahLst/>
              <a:rect l="l" t="t" r="r" b="b"/>
              <a:pathLst>
                <a:path w="649" h="683">
                  <a:moveTo>
                    <a:pt x="0" y="638"/>
                  </a:moveTo>
                  <a:lnTo>
                    <a:pt x="637" y="0"/>
                  </a:lnTo>
                  <a:lnTo>
                    <a:pt x="638" y="11"/>
                  </a:lnTo>
                  <a:lnTo>
                    <a:pt x="640" y="20"/>
                  </a:lnTo>
                  <a:lnTo>
                    <a:pt x="641" y="30"/>
                  </a:lnTo>
                  <a:lnTo>
                    <a:pt x="643" y="39"/>
                  </a:lnTo>
                  <a:lnTo>
                    <a:pt x="644" y="49"/>
                  </a:lnTo>
                  <a:lnTo>
                    <a:pt x="646" y="60"/>
                  </a:lnTo>
                  <a:lnTo>
                    <a:pt x="647" y="69"/>
                  </a:lnTo>
                  <a:lnTo>
                    <a:pt x="649" y="79"/>
                  </a:lnTo>
                  <a:lnTo>
                    <a:pt x="44" y="683"/>
                  </a:lnTo>
                  <a:lnTo>
                    <a:pt x="38" y="679"/>
                  </a:lnTo>
                  <a:lnTo>
                    <a:pt x="33" y="673"/>
                  </a:lnTo>
                  <a:lnTo>
                    <a:pt x="27" y="667"/>
                  </a:lnTo>
                  <a:lnTo>
                    <a:pt x="23" y="661"/>
                  </a:lnTo>
                  <a:lnTo>
                    <a:pt x="17" y="655"/>
                  </a:lnTo>
                  <a:lnTo>
                    <a:pt x="11" y="650"/>
                  </a:lnTo>
                  <a:lnTo>
                    <a:pt x="6" y="644"/>
                  </a:lnTo>
                  <a:lnTo>
                    <a:pt x="0" y="63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63920" y="4335480"/>
              <a:ext cx="166680" cy="177840"/>
            </a:xfrm>
            <a:custGeom>
              <a:avLst/>
              <a:gdLst/>
              <a:ahLst/>
              <a:rect l="l" t="t" r="r" b="b"/>
              <a:pathLst>
                <a:path w="631" h="668">
                  <a:moveTo>
                    <a:pt x="0" y="622"/>
                  </a:moveTo>
                  <a:lnTo>
                    <a:pt x="620" y="0"/>
                  </a:lnTo>
                  <a:lnTo>
                    <a:pt x="621" y="10"/>
                  </a:lnTo>
                  <a:lnTo>
                    <a:pt x="623" y="21"/>
                  </a:lnTo>
                  <a:lnTo>
                    <a:pt x="624" y="30"/>
                  </a:lnTo>
                  <a:lnTo>
                    <a:pt x="626" y="40"/>
                  </a:lnTo>
                  <a:lnTo>
                    <a:pt x="627" y="49"/>
                  </a:lnTo>
                  <a:lnTo>
                    <a:pt x="629" y="59"/>
                  </a:lnTo>
                  <a:lnTo>
                    <a:pt x="630" y="69"/>
                  </a:lnTo>
                  <a:lnTo>
                    <a:pt x="631" y="79"/>
                  </a:lnTo>
                  <a:lnTo>
                    <a:pt x="43" y="668"/>
                  </a:lnTo>
                  <a:lnTo>
                    <a:pt x="38" y="662"/>
                  </a:lnTo>
                  <a:lnTo>
                    <a:pt x="32" y="656"/>
                  </a:lnTo>
                  <a:lnTo>
                    <a:pt x="27" y="650"/>
                  </a:lnTo>
                  <a:lnTo>
                    <a:pt x="21" y="644"/>
                  </a:lnTo>
                  <a:lnTo>
                    <a:pt x="15" y="640"/>
                  </a:lnTo>
                  <a:lnTo>
                    <a:pt x="10" y="634"/>
                  </a:lnTo>
                  <a:lnTo>
                    <a:pt x="4" y="628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70400" y="4346640"/>
              <a:ext cx="162000" cy="171360"/>
            </a:xfrm>
            <a:custGeom>
              <a:avLst/>
              <a:gdLst/>
              <a:ahLst/>
              <a:rect l="l" t="t" r="r" b="b"/>
              <a:pathLst>
                <a:path w="616" h="651">
                  <a:moveTo>
                    <a:pt x="0" y="604"/>
                  </a:moveTo>
                  <a:lnTo>
                    <a:pt x="605" y="0"/>
                  </a:lnTo>
                  <a:lnTo>
                    <a:pt x="606" y="9"/>
                  </a:lnTo>
                  <a:lnTo>
                    <a:pt x="608" y="19"/>
                  </a:lnTo>
                  <a:lnTo>
                    <a:pt x="609" y="29"/>
                  </a:lnTo>
                  <a:lnTo>
                    <a:pt x="610" y="39"/>
                  </a:lnTo>
                  <a:lnTo>
                    <a:pt x="612" y="48"/>
                  </a:lnTo>
                  <a:lnTo>
                    <a:pt x="613" y="58"/>
                  </a:lnTo>
                  <a:lnTo>
                    <a:pt x="615" y="68"/>
                  </a:lnTo>
                  <a:lnTo>
                    <a:pt x="616" y="78"/>
                  </a:lnTo>
                  <a:lnTo>
                    <a:pt x="44" y="651"/>
                  </a:lnTo>
                  <a:lnTo>
                    <a:pt x="38" y="645"/>
                  </a:lnTo>
                  <a:lnTo>
                    <a:pt x="33" y="639"/>
                  </a:lnTo>
                  <a:lnTo>
                    <a:pt x="27" y="633"/>
                  </a:lnTo>
                  <a:lnTo>
                    <a:pt x="21" y="628"/>
                  </a:lnTo>
                  <a:lnTo>
                    <a:pt x="17" y="622"/>
                  </a:lnTo>
                  <a:lnTo>
                    <a:pt x="11" y="616"/>
                  </a:lnTo>
                  <a:lnTo>
                    <a:pt x="6" y="610"/>
                  </a:lnTo>
                  <a:lnTo>
                    <a:pt x="0" y="604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76880" y="4356000"/>
              <a:ext cx="156960" cy="168480"/>
            </a:xfrm>
            <a:custGeom>
              <a:avLst/>
              <a:gdLst/>
              <a:ahLst/>
              <a:rect l="l" t="t" r="r" b="b"/>
              <a:pathLst>
                <a:path w="600" h="635">
                  <a:moveTo>
                    <a:pt x="0" y="589"/>
                  </a:moveTo>
                  <a:lnTo>
                    <a:pt x="588" y="0"/>
                  </a:lnTo>
                  <a:lnTo>
                    <a:pt x="590" y="9"/>
                  </a:lnTo>
                  <a:lnTo>
                    <a:pt x="591" y="19"/>
                  </a:lnTo>
                  <a:lnTo>
                    <a:pt x="593" y="29"/>
                  </a:lnTo>
                  <a:lnTo>
                    <a:pt x="594" y="39"/>
                  </a:lnTo>
                  <a:lnTo>
                    <a:pt x="595" y="48"/>
                  </a:lnTo>
                  <a:lnTo>
                    <a:pt x="596" y="58"/>
                  </a:lnTo>
                  <a:lnTo>
                    <a:pt x="597" y="69"/>
                  </a:lnTo>
                  <a:lnTo>
                    <a:pt x="600" y="78"/>
                  </a:lnTo>
                  <a:lnTo>
                    <a:pt x="43" y="635"/>
                  </a:lnTo>
                  <a:lnTo>
                    <a:pt x="37" y="629"/>
                  </a:lnTo>
                  <a:lnTo>
                    <a:pt x="33" y="623"/>
                  </a:lnTo>
                  <a:lnTo>
                    <a:pt x="27" y="618"/>
                  </a:lnTo>
                  <a:lnTo>
                    <a:pt x="22" y="612"/>
                  </a:lnTo>
                  <a:lnTo>
                    <a:pt x="16" y="606"/>
                  </a:lnTo>
                  <a:lnTo>
                    <a:pt x="11" y="600"/>
                  </a:lnTo>
                  <a:lnTo>
                    <a:pt x="5" y="594"/>
                  </a:lnTo>
                  <a:lnTo>
                    <a:pt x="0" y="589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381560" y="4367160"/>
              <a:ext cx="154080" cy="163440"/>
            </a:xfrm>
            <a:custGeom>
              <a:avLst/>
              <a:gdLst/>
              <a:ahLst/>
              <a:rect l="l" t="t" r="r" b="b"/>
              <a:pathLst>
                <a:path w="583" h="619">
                  <a:moveTo>
                    <a:pt x="0" y="573"/>
                  </a:moveTo>
                  <a:lnTo>
                    <a:pt x="572" y="0"/>
                  </a:lnTo>
                  <a:lnTo>
                    <a:pt x="573" y="9"/>
                  </a:lnTo>
                  <a:lnTo>
                    <a:pt x="574" y="19"/>
                  </a:lnTo>
                  <a:lnTo>
                    <a:pt x="575" y="30"/>
                  </a:lnTo>
                  <a:lnTo>
                    <a:pt x="578" y="39"/>
                  </a:lnTo>
                  <a:lnTo>
                    <a:pt x="579" y="49"/>
                  </a:lnTo>
                  <a:lnTo>
                    <a:pt x="580" y="59"/>
                  </a:lnTo>
                  <a:lnTo>
                    <a:pt x="581" y="69"/>
                  </a:lnTo>
                  <a:lnTo>
                    <a:pt x="583" y="78"/>
                  </a:lnTo>
                  <a:lnTo>
                    <a:pt x="43" y="619"/>
                  </a:lnTo>
                  <a:lnTo>
                    <a:pt x="37" y="613"/>
                  </a:lnTo>
                  <a:lnTo>
                    <a:pt x="32" y="607"/>
                  </a:lnTo>
                  <a:lnTo>
                    <a:pt x="26" y="601"/>
                  </a:lnTo>
                  <a:lnTo>
                    <a:pt x="21" y="596"/>
                  </a:lnTo>
                  <a:lnTo>
                    <a:pt x="15" y="590"/>
                  </a:lnTo>
                  <a:lnTo>
                    <a:pt x="11" y="584"/>
                  </a:lnTo>
                  <a:lnTo>
                    <a:pt x="5" y="579"/>
                  </a:lnTo>
                  <a:lnTo>
                    <a:pt x="0" y="573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87680" y="4376880"/>
              <a:ext cx="149400" cy="160200"/>
            </a:xfrm>
            <a:custGeom>
              <a:avLst/>
              <a:gdLst/>
              <a:ahLst/>
              <a:rect l="l" t="t" r="r" b="b"/>
              <a:pathLst>
                <a:path w="566" h="604">
                  <a:moveTo>
                    <a:pt x="0" y="557"/>
                  </a:moveTo>
                  <a:lnTo>
                    <a:pt x="557" y="0"/>
                  </a:lnTo>
                  <a:lnTo>
                    <a:pt x="558" y="10"/>
                  </a:lnTo>
                  <a:lnTo>
                    <a:pt x="559" y="20"/>
                  </a:lnTo>
                  <a:lnTo>
                    <a:pt x="560" y="30"/>
                  </a:lnTo>
                  <a:lnTo>
                    <a:pt x="562" y="39"/>
                  </a:lnTo>
                  <a:lnTo>
                    <a:pt x="563" y="50"/>
                  </a:lnTo>
                  <a:lnTo>
                    <a:pt x="564" y="60"/>
                  </a:lnTo>
                  <a:lnTo>
                    <a:pt x="565" y="69"/>
                  </a:lnTo>
                  <a:lnTo>
                    <a:pt x="566" y="80"/>
                  </a:lnTo>
                  <a:lnTo>
                    <a:pt x="43" y="604"/>
                  </a:lnTo>
                  <a:lnTo>
                    <a:pt x="37" y="598"/>
                  </a:lnTo>
                  <a:lnTo>
                    <a:pt x="32" y="592"/>
                  </a:lnTo>
                  <a:lnTo>
                    <a:pt x="26" y="586"/>
                  </a:lnTo>
                  <a:lnTo>
                    <a:pt x="22" y="580"/>
                  </a:lnTo>
                  <a:lnTo>
                    <a:pt x="16" y="574"/>
                  </a:lnTo>
                  <a:lnTo>
                    <a:pt x="11" y="568"/>
                  </a:lnTo>
                  <a:lnTo>
                    <a:pt x="5" y="563"/>
                  </a:lnTo>
                  <a:lnTo>
                    <a:pt x="0" y="557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92720" y="4387680"/>
              <a:ext cx="145800" cy="155880"/>
            </a:xfrm>
            <a:custGeom>
              <a:avLst/>
              <a:gdLst/>
              <a:ahLst/>
              <a:rect l="l" t="t" r="r" b="b"/>
              <a:pathLst>
                <a:path w="549" h="588">
                  <a:moveTo>
                    <a:pt x="0" y="541"/>
                  </a:moveTo>
                  <a:lnTo>
                    <a:pt x="540" y="0"/>
                  </a:lnTo>
                  <a:lnTo>
                    <a:pt x="541" y="11"/>
                  </a:lnTo>
                  <a:lnTo>
                    <a:pt x="542" y="21"/>
                  </a:lnTo>
                  <a:lnTo>
                    <a:pt x="543" y="30"/>
                  </a:lnTo>
                  <a:lnTo>
                    <a:pt x="544" y="41"/>
                  </a:lnTo>
                  <a:lnTo>
                    <a:pt x="545" y="50"/>
                  </a:lnTo>
                  <a:lnTo>
                    <a:pt x="547" y="61"/>
                  </a:lnTo>
                  <a:lnTo>
                    <a:pt x="548" y="70"/>
                  </a:lnTo>
                  <a:lnTo>
                    <a:pt x="549" y="80"/>
                  </a:lnTo>
                  <a:lnTo>
                    <a:pt x="42" y="588"/>
                  </a:lnTo>
                  <a:lnTo>
                    <a:pt x="36" y="583"/>
                  </a:lnTo>
                  <a:lnTo>
                    <a:pt x="32" y="577"/>
                  </a:lnTo>
                  <a:lnTo>
                    <a:pt x="26" y="571"/>
                  </a:lnTo>
                  <a:lnTo>
                    <a:pt x="21" y="565"/>
                  </a:lnTo>
                  <a:lnTo>
                    <a:pt x="15" y="559"/>
                  </a:lnTo>
                  <a:lnTo>
                    <a:pt x="10" y="553"/>
                  </a:lnTo>
                  <a:lnTo>
                    <a:pt x="4" y="547"/>
                  </a:lnTo>
                  <a:lnTo>
                    <a:pt x="0" y="541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398840" y="4398840"/>
              <a:ext cx="141480" cy="150840"/>
            </a:xfrm>
            <a:custGeom>
              <a:avLst/>
              <a:gdLst/>
              <a:ahLst/>
              <a:rect l="l" t="t" r="r" b="b"/>
              <a:pathLst>
                <a:path w="533" h="571">
                  <a:moveTo>
                    <a:pt x="0" y="524"/>
                  </a:moveTo>
                  <a:lnTo>
                    <a:pt x="523" y="0"/>
                  </a:lnTo>
                  <a:lnTo>
                    <a:pt x="524" y="9"/>
                  </a:lnTo>
                  <a:lnTo>
                    <a:pt x="526" y="19"/>
                  </a:lnTo>
                  <a:lnTo>
                    <a:pt x="527" y="29"/>
                  </a:lnTo>
                  <a:lnTo>
                    <a:pt x="528" y="39"/>
                  </a:lnTo>
                  <a:lnTo>
                    <a:pt x="529" y="50"/>
                  </a:lnTo>
                  <a:lnTo>
                    <a:pt x="530" y="59"/>
                  </a:lnTo>
                  <a:lnTo>
                    <a:pt x="532" y="70"/>
                  </a:lnTo>
                  <a:lnTo>
                    <a:pt x="533" y="79"/>
                  </a:lnTo>
                  <a:lnTo>
                    <a:pt x="41" y="571"/>
                  </a:lnTo>
                  <a:lnTo>
                    <a:pt x="37" y="565"/>
                  </a:lnTo>
                  <a:lnTo>
                    <a:pt x="31" y="559"/>
                  </a:lnTo>
                  <a:lnTo>
                    <a:pt x="26" y="553"/>
                  </a:lnTo>
                  <a:lnTo>
                    <a:pt x="21" y="547"/>
                  </a:lnTo>
                  <a:lnTo>
                    <a:pt x="15" y="542"/>
                  </a:lnTo>
                  <a:lnTo>
                    <a:pt x="11" y="536"/>
                  </a:lnTo>
                  <a:lnTo>
                    <a:pt x="5" y="530"/>
                  </a:lnTo>
                  <a:lnTo>
                    <a:pt x="0" y="52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403880" y="4408560"/>
              <a:ext cx="136440" cy="147600"/>
            </a:xfrm>
            <a:custGeom>
              <a:avLst/>
              <a:gdLst/>
              <a:ahLst/>
              <a:rect l="l" t="t" r="r" b="b"/>
              <a:pathLst>
                <a:path w="517" h="556">
                  <a:moveTo>
                    <a:pt x="0" y="508"/>
                  </a:moveTo>
                  <a:lnTo>
                    <a:pt x="507" y="0"/>
                  </a:lnTo>
                  <a:lnTo>
                    <a:pt x="508" y="11"/>
                  </a:lnTo>
                  <a:lnTo>
                    <a:pt x="509" y="20"/>
                  </a:lnTo>
                  <a:lnTo>
                    <a:pt x="511" y="31"/>
                  </a:lnTo>
                  <a:lnTo>
                    <a:pt x="512" y="40"/>
                  </a:lnTo>
                  <a:lnTo>
                    <a:pt x="513" y="51"/>
                  </a:lnTo>
                  <a:lnTo>
                    <a:pt x="514" y="61"/>
                  </a:lnTo>
                  <a:lnTo>
                    <a:pt x="515" y="70"/>
                  </a:lnTo>
                  <a:lnTo>
                    <a:pt x="517" y="81"/>
                  </a:lnTo>
                  <a:lnTo>
                    <a:pt x="42" y="556"/>
                  </a:lnTo>
                  <a:lnTo>
                    <a:pt x="37" y="550"/>
                  </a:lnTo>
                  <a:lnTo>
                    <a:pt x="31" y="544"/>
                  </a:lnTo>
                  <a:lnTo>
                    <a:pt x="26" y="538"/>
                  </a:lnTo>
                  <a:lnTo>
                    <a:pt x="20" y="532"/>
                  </a:lnTo>
                  <a:lnTo>
                    <a:pt x="16" y="526"/>
                  </a:lnTo>
                  <a:lnTo>
                    <a:pt x="10" y="520"/>
                  </a:lnTo>
                  <a:lnTo>
                    <a:pt x="5" y="514"/>
                  </a:lnTo>
                  <a:lnTo>
                    <a:pt x="0" y="508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410000" y="4419720"/>
              <a:ext cx="131760" cy="142920"/>
            </a:xfrm>
            <a:custGeom>
              <a:avLst/>
              <a:gdLst/>
              <a:ahLst/>
              <a:rect l="l" t="t" r="r" b="b"/>
              <a:pathLst>
                <a:path w="501" h="540">
                  <a:moveTo>
                    <a:pt x="0" y="492"/>
                  </a:moveTo>
                  <a:lnTo>
                    <a:pt x="492" y="0"/>
                  </a:lnTo>
                  <a:lnTo>
                    <a:pt x="493" y="11"/>
                  </a:lnTo>
                  <a:lnTo>
                    <a:pt x="494" y="21"/>
                  </a:lnTo>
                  <a:lnTo>
                    <a:pt x="495" y="31"/>
                  </a:lnTo>
                  <a:lnTo>
                    <a:pt x="497" y="41"/>
                  </a:lnTo>
                  <a:lnTo>
                    <a:pt x="498" y="51"/>
                  </a:lnTo>
                  <a:lnTo>
                    <a:pt x="499" y="61"/>
                  </a:lnTo>
                  <a:lnTo>
                    <a:pt x="500" y="72"/>
                  </a:lnTo>
                  <a:lnTo>
                    <a:pt x="501" y="81"/>
                  </a:lnTo>
                  <a:lnTo>
                    <a:pt x="43" y="540"/>
                  </a:lnTo>
                  <a:lnTo>
                    <a:pt x="37" y="534"/>
                  </a:lnTo>
                  <a:lnTo>
                    <a:pt x="32" y="528"/>
                  </a:lnTo>
                  <a:lnTo>
                    <a:pt x="27" y="522"/>
                  </a:lnTo>
                  <a:lnTo>
                    <a:pt x="22" y="516"/>
                  </a:lnTo>
                  <a:lnTo>
                    <a:pt x="17" y="510"/>
                  </a:lnTo>
                  <a:lnTo>
                    <a:pt x="11" y="504"/>
                  </a:lnTo>
                  <a:lnTo>
                    <a:pt x="6" y="498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414680" y="4430880"/>
              <a:ext cx="128880" cy="137880"/>
            </a:xfrm>
            <a:custGeom>
              <a:avLst/>
              <a:gdLst/>
              <a:ahLst/>
              <a:rect l="l" t="t" r="r" b="b"/>
              <a:pathLst>
                <a:path w="483" h="523">
                  <a:moveTo>
                    <a:pt x="0" y="475"/>
                  </a:moveTo>
                  <a:lnTo>
                    <a:pt x="475" y="0"/>
                  </a:lnTo>
                  <a:lnTo>
                    <a:pt x="476" y="9"/>
                  </a:lnTo>
                  <a:lnTo>
                    <a:pt x="477" y="20"/>
                  </a:lnTo>
                  <a:lnTo>
                    <a:pt x="478" y="31"/>
                  </a:lnTo>
                  <a:lnTo>
                    <a:pt x="479" y="40"/>
                  </a:lnTo>
                  <a:lnTo>
                    <a:pt x="479" y="51"/>
                  </a:lnTo>
                  <a:lnTo>
                    <a:pt x="480" y="60"/>
                  </a:lnTo>
                  <a:lnTo>
                    <a:pt x="482" y="71"/>
                  </a:lnTo>
                  <a:lnTo>
                    <a:pt x="483" y="81"/>
                  </a:lnTo>
                  <a:lnTo>
                    <a:pt x="41" y="523"/>
                  </a:lnTo>
                  <a:lnTo>
                    <a:pt x="37" y="517"/>
                  </a:lnTo>
                  <a:lnTo>
                    <a:pt x="31" y="511"/>
                  </a:lnTo>
                  <a:lnTo>
                    <a:pt x="26" y="505"/>
                  </a:lnTo>
                  <a:lnTo>
                    <a:pt x="20" y="499"/>
                  </a:lnTo>
                  <a:lnTo>
                    <a:pt x="15" y="493"/>
                  </a:lnTo>
                  <a:lnTo>
                    <a:pt x="10" y="487"/>
                  </a:lnTo>
                  <a:lnTo>
                    <a:pt x="5" y="481"/>
                  </a:lnTo>
                  <a:lnTo>
                    <a:pt x="0" y="475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421160" y="4440240"/>
              <a:ext cx="122400" cy="135000"/>
            </a:xfrm>
            <a:custGeom>
              <a:avLst/>
              <a:gdLst/>
              <a:ahLst/>
              <a:rect l="l" t="t" r="r" b="b"/>
              <a:pathLst>
                <a:path w="465" h="507">
                  <a:moveTo>
                    <a:pt x="0" y="459"/>
                  </a:moveTo>
                  <a:lnTo>
                    <a:pt x="458" y="0"/>
                  </a:lnTo>
                  <a:lnTo>
                    <a:pt x="458" y="11"/>
                  </a:lnTo>
                  <a:lnTo>
                    <a:pt x="459" y="20"/>
                  </a:lnTo>
                  <a:lnTo>
                    <a:pt x="461" y="31"/>
                  </a:lnTo>
                  <a:lnTo>
                    <a:pt x="462" y="41"/>
                  </a:lnTo>
                  <a:lnTo>
                    <a:pt x="463" y="51"/>
                  </a:lnTo>
                  <a:lnTo>
                    <a:pt x="464" y="61"/>
                  </a:lnTo>
                  <a:lnTo>
                    <a:pt x="465" y="71"/>
                  </a:lnTo>
                  <a:lnTo>
                    <a:pt x="465" y="82"/>
                  </a:lnTo>
                  <a:lnTo>
                    <a:pt x="41" y="507"/>
                  </a:lnTo>
                  <a:lnTo>
                    <a:pt x="36" y="502"/>
                  </a:lnTo>
                  <a:lnTo>
                    <a:pt x="31" y="496"/>
                  </a:lnTo>
                  <a:lnTo>
                    <a:pt x="25" y="488"/>
                  </a:lnTo>
                  <a:lnTo>
                    <a:pt x="20" y="483"/>
                  </a:lnTo>
                  <a:lnTo>
                    <a:pt x="16" y="477"/>
                  </a:lnTo>
                  <a:lnTo>
                    <a:pt x="10" y="471"/>
                  </a:lnTo>
                  <a:lnTo>
                    <a:pt x="5" y="465"/>
                  </a:lnTo>
                  <a:lnTo>
                    <a:pt x="0" y="459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425840" y="4451400"/>
              <a:ext cx="119160" cy="129960"/>
            </a:xfrm>
            <a:custGeom>
              <a:avLst/>
              <a:gdLst/>
              <a:ahLst/>
              <a:rect l="l" t="t" r="r" b="b"/>
              <a:pathLst>
                <a:path w="449" h="490">
                  <a:moveTo>
                    <a:pt x="0" y="442"/>
                  </a:moveTo>
                  <a:lnTo>
                    <a:pt x="442" y="0"/>
                  </a:lnTo>
                  <a:lnTo>
                    <a:pt x="443" y="10"/>
                  </a:lnTo>
                  <a:lnTo>
                    <a:pt x="444" y="21"/>
                  </a:lnTo>
                  <a:lnTo>
                    <a:pt x="444" y="30"/>
                  </a:lnTo>
                  <a:lnTo>
                    <a:pt x="445" y="41"/>
                  </a:lnTo>
                  <a:lnTo>
                    <a:pt x="447" y="51"/>
                  </a:lnTo>
                  <a:lnTo>
                    <a:pt x="448" y="61"/>
                  </a:lnTo>
                  <a:lnTo>
                    <a:pt x="449" y="72"/>
                  </a:lnTo>
                  <a:lnTo>
                    <a:pt x="449" y="82"/>
                  </a:lnTo>
                  <a:lnTo>
                    <a:pt x="42" y="490"/>
                  </a:lnTo>
                  <a:lnTo>
                    <a:pt x="36" y="484"/>
                  </a:lnTo>
                  <a:lnTo>
                    <a:pt x="31" y="478"/>
                  </a:lnTo>
                  <a:lnTo>
                    <a:pt x="25" y="472"/>
                  </a:lnTo>
                  <a:lnTo>
                    <a:pt x="21" y="466"/>
                  </a:lnTo>
                  <a:lnTo>
                    <a:pt x="16" y="461"/>
                  </a:lnTo>
                  <a:lnTo>
                    <a:pt x="11" y="455"/>
                  </a:lnTo>
                  <a:lnTo>
                    <a:pt x="5" y="447"/>
                  </a:lnTo>
                  <a:lnTo>
                    <a:pt x="0" y="442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432320" y="4462560"/>
              <a:ext cx="114120" cy="125280"/>
            </a:xfrm>
            <a:custGeom>
              <a:avLst/>
              <a:gdLst/>
              <a:ahLst/>
              <a:rect l="l" t="t" r="r" b="b"/>
              <a:pathLst>
                <a:path w="431" h="474">
                  <a:moveTo>
                    <a:pt x="0" y="425"/>
                  </a:moveTo>
                  <a:lnTo>
                    <a:pt x="424" y="0"/>
                  </a:lnTo>
                  <a:lnTo>
                    <a:pt x="426" y="10"/>
                  </a:lnTo>
                  <a:lnTo>
                    <a:pt x="427" y="20"/>
                  </a:lnTo>
                  <a:lnTo>
                    <a:pt x="428" y="31"/>
                  </a:lnTo>
                  <a:lnTo>
                    <a:pt x="428" y="41"/>
                  </a:lnTo>
                  <a:lnTo>
                    <a:pt x="429" y="51"/>
                  </a:lnTo>
                  <a:lnTo>
                    <a:pt x="430" y="62"/>
                  </a:lnTo>
                  <a:lnTo>
                    <a:pt x="431" y="71"/>
                  </a:lnTo>
                  <a:lnTo>
                    <a:pt x="431" y="82"/>
                  </a:lnTo>
                  <a:lnTo>
                    <a:pt x="41" y="474"/>
                  </a:lnTo>
                  <a:lnTo>
                    <a:pt x="35" y="468"/>
                  </a:lnTo>
                  <a:lnTo>
                    <a:pt x="30" y="461"/>
                  </a:lnTo>
                  <a:lnTo>
                    <a:pt x="26" y="455"/>
                  </a:lnTo>
                  <a:lnTo>
                    <a:pt x="20" y="449"/>
                  </a:lnTo>
                  <a:lnTo>
                    <a:pt x="15" y="443"/>
                  </a:lnTo>
                  <a:lnTo>
                    <a:pt x="10" y="437"/>
                  </a:lnTo>
                  <a:lnTo>
                    <a:pt x="5" y="431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437000" y="4473720"/>
              <a:ext cx="109440" cy="120600"/>
            </a:xfrm>
            <a:custGeom>
              <a:avLst/>
              <a:gdLst/>
              <a:ahLst/>
              <a:rect l="l" t="t" r="r" b="b"/>
              <a:pathLst>
                <a:path w="414" h="457">
                  <a:moveTo>
                    <a:pt x="0" y="408"/>
                  </a:moveTo>
                  <a:lnTo>
                    <a:pt x="407" y="0"/>
                  </a:lnTo>
                  <a:lnTo>
                    <a:pt x="408" y="10"/>
                  </a:lnTo>
                  <a:lnTo>
                    <a:pt x="409" y="21"/>
                  </a:lnTo>
                  <a:lnTo>
                    <a:pt x="410" y="30"/>
                  </a:lnTo>
                  <a:lnTo>
                    <a:pt x="410" y="41"/>
                  </a:lnTo>
                  <a:lnTo>
                    <a:pt x="412" y="52"/>
                  </a:lnTo>
                  <a:lnTo>
                    <a:pt x="413" y="61"/>
                  </a:lnTo>
                  <a:lnTo>
                    <a:pt x="413" y="72"/>
                  </a:lnTo>
                  <a:lnTo>
                    <a:pt x="414" y="83"/>
                  </a:lnTo>
                  <a:lnTo>
                    <a:pt x="40" y="457"/>
                  </a:lnTo>
                  <a:lnTo>
                    <a:pt x="34" y="451"/>
                  </a:lnTo>
                  <a:lnTo>
                    <a:pt x="30" y="445"/>
                  </a:lnTo>
                  <a:lnTo>
                    <a:pt x="25" y="439"/>
                  </a:lnTo>
                  <a:lnTo>
                    <a:pt x="20" y="433"/>
                  </a:lnTo>
                  <a:lnTo>
                    <a:pt x="14" y="427"/>
                  </a:lnTo>
                  <a:lnTo>
                    <a:pt x="9" y="420"/>
                  </a:lnTo>
                  <a:lnTo>
                    <a:pt x="5" y="414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443480" y="4484520"/>
              <a:ext cx="104760" cy="115920"/>
            </a:xfrm>
            <a:custGeom>
              <a:avLst/>
              <a:gdLst/>
              <a:ahLst/>
              <a:rect l="l" t="t" r="r" b="b"/>
              <a:pathLst>
                <a:path w="398" h="441">
                  <a:moveTo>
                    <a:pt x="0" y="392"/>
                  </a:moveTo>
                  <a:lnTo>
                    <a:pt x="390" y="0"/>
                  </a:lnTo>
                  <a:lnTo>
                    <a:pt x="392" y="11"/>
                  </a:lnTo>
                  <a:lnTo>
                    <a:pt x="393" y="22"/>
                  </a:lnTo>
                  <a:lnTo>
                    <a:pt x="393" y="31"/>
                  </a:lnTo>
                  <a:lnTo>
                    <a:pt x="394" y="42"/>
                  </a:lnTo>
                  <a:lnTo>
                    <a:pt x="395" y="52"/>
                  </a:lnTo>
                  <a:lnTo>
                    <a:pt x="395" y="63"/>
                  </a:lnTo>
                  <a:lnTo>
                    <a:pt x="396" y="73"/>
                  </a:lnTo>
                  <a:lnTo>
                    <a:pt x="398" y="83"/>
                  </a:lnTo>
                  <a:lnTo>
                    <a:pt x="40" y="441"/>
                  </a:lnTo>
                  <a:lnTo>
                    <a:pt x="34" y="435"/>
                  </a:lnTo>
                  <a:lnTo>
                    <a:pt x="30" y="429"/>
                  </a:lnTo>
                  <a:lnTo>
                    <a:pt x="25" y="423"/>
                  </a:lnTo>
                  <a:lnTo>
                    <a:pt x="20" y="416"/>
                  </a:lnTo>
                  <a:lnTo>
                    <a:pt x="14" y="410"/>
                  </a:lnTo>
                  <a:lnTo>
                    <a:pt x="10" y="404"/>
                  </a:lnTo>
                  <a:lnTo>
                    <a:pt x="5" y="398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448160" y="4495680"/>
              <a:ext cx="100080" cy="111240"/>
            </a:xfrm>
            <a:custGeom>
              <a:avLst/>
              <a:gdLst/>
              <a:ahLst/>
              <a:rect l="l" t="t" r="r" b="b"/>
              <a:pathLst>
                <a:path w="380" h="424">
                  <a:moveTo>
                    <a:pt x="0" y="374"/>
                  </a:moveTo>
                  <a:lnTo>
                    <a:pt x="374" y="0"/>
                  </a:lnTo>
                  <a:lnTo>
                    <a:pt x="375" y="10"/>
                  </a:lnTo>
                  <a:lnTo>
                    <a:pt x="375" y="20"/>
                  </a:lnTo>
                  <a:lnTo>
                    <a:pt x="376" y="31"/>
                  </a:lnTo>
                  <a:lnTo>
                    <a:pt x="378" y="41"/>
                  </a:lnTo>
                  <a:lnTo>
                    <a:pt x="378" y="52"/>
                  </a:lnTo>
                  <a:lnTo>
                    <a:pt x="379" y="63"/>
                  </a:lnTo>
                  <a:lnTo>
                    <a:pt x="379" y="72"/>
                  </a:lnTo>
                  <a:lnTo>
                    <a:pt x="380" y="83"/>
                  </a:lnTo>
                  <a:lnTo>
                    <a:pt x="39" y="424"/>
                  </a:lnTo>
                  <a:lnTo>
                    <a:pt x="35" y="418"/>
                  </a:lnTo>
                  <a:lnTo>
                    <a:pt x="30" y="412"/>
                  </a:lnTo>
                  <a:lnTo>
                    <a:pt x="25" y="405"/>
                  </a:lnTo>
                  <a:lnTo>
                    <a:pt x="19" y="399"/>
                  </a:lnTo>
                  <a:lnTo>
                    <a:pt x="14" y="393"/>
                  </a:lnTo>
                  <a:lnTo>
                    <a:pt x="10" y="387"/>
                  </a:lnTo>
                  <a:lnTo>
                    <a:pt x="5" y="381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452840" y="4506840"/>
              <a:ext cx="96840" cy="106560"/>
            </a:xfrm>
            <a:custGeom>
              <a:avLst/>
              <a:gdLst/>
              <a:ahLst/>
              <a:rect l="l" t="t" r="r" b="b"/>
              <a:pathLst>
                <a:path w="362" h="408">
                  <a:moveTo>
                    <a:pt x="0" y="358"/>
                  </a:moveTo>
                  <a:lnTo>
                    <a:pt x="358" y="0"/>
                  </a:lnTo>
                  <a:lnTo>
                    <a:pt x="358" y="11"/>
                  </a:lnTo>
                  <a:lnTo>
                    <a:pt x="359" y="22"/>
                  </a:lnTo>
                  <a:lnTo>
                    <a:pt x="359" y="32"/>
                  </a:lnTo>
                  <a:lnTo>
                    <a:pt x="360" y="42"/>
                  </a:lnTo>
                  <a:lnTo>
                    <a:pt x="361" y="53"/>
                  </a:lnTo>
                  <a:lnTo>
                    <a:pt x="361" y="63"/>
                  </a:lnTo>
                  <a:lnTo>
                    <a:pt x="362" y="74"/>
                  </a:lnTo>
                  <a:lnTo>
                    <a:pt x="362" y="85"/>
                  </a:lnTo>
                  <a:lnTo>
                    <a:pt x="40" y="408"/>
                  </a:lnTo>
                  <a:lnTo>
                    <a:pt x="35" y="402"/>
                  </a:lnTo>
                  <a:lnTo>
                    <a:pt x="30" y="395"/>
                  </a:lnTo>
                  <a:lnTo>
                    <a:pt x="24" y="389"/>
                  </a:lnTo>
                  <a:lnTo>
                    <a:pt x="19" y="383"/>
                  </a:lnTo>
                  <a:lnTo>
                    <a:pt x="15" y="377"/>
                  </a:lnTo>
                  <a:lnTo>
                    <a:pt x="10" y="370"/>
                  </a:lnTo>
                  <a:lnTo>
                    <a:pt x="5" y="364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457880" y="4516560"/>
              <a:ext cx="91800" cy="104760"/>
            </a:xfrm>
            <a:custGeom>
              <a:avLst/>
              <a:gdLst/>
              <a:ahLst/>
              <a:rect l="l" t="t" r="r" b="b"/>
              <a:pathLst>
                <a:path w="346" h="391">
                  <a:moveTo>
                    <a:pt x="0" y="341"/>
                  </a:moveTo>
                  <a:lnTo>
                    <a:pt x="341" y="0"/>
                  </a:lnTo>
                  <a:lnTo>
                    <a:pt x="342" y="11"/>
                  </a:lnTo>
                  <a:lnTo>
                    <a:pt x="342" y="21"/>
                  </a:lnTo>
                  <a:lnTo>
                    <a:pt x="343" y="32"/>
                  </a:lnTo>
                  <a:lnTo>
                    <a:pt x="343" y="43"/>
                  </a:lnTo>
                  <a:lnTo>
                    <a:pt x="345" y="53"/>
                  </a:lnTo>
                  <a:lnTo>
                    <a:pt x="345" y="64"/>
                  </a:lnTo>
                  <a:lnTo>
                    <a:pt x="346" y="74"/>
                  </a:lnTo>
                  <a:lnTo>
                    <a:pt x="346" y="84"/>
                  </a:lnTo>
                  <a:lnTo>
                    <a:pt x="41" y="391"/>
                  </a:lnTo>
                  <a:lnTo>
                    <a:pt x="36" y="385"/>
                  </a:lnTo>
                  <a:lnTo>
                    <a:pt x="30" y="378"/>
                  </a:lnTo>
                  <a:lnTo>
                    <a:pt x="25" y="372"/>
                  </a:lnTo>
                  <a:lnTo>
                    <a:pt x="21" y="366"/>
                  </a:lnTo>
                  <a:lnTo>
                    <a:pt x="16" y="360"/>
                  </a:lnTo>
                  <a:lnTo>
                    <a:pt x="11" y="353"/>
                  </a:lnTo>
                  <a:lnTo>
                    <a:pt x="6" y="347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464000" y="4529160"/>
              <a:ext cx="85680" cy="98280"/>
            </a:xfrm>
            <a:custGeom>
              <a:avLst/>
              <a:gdLst/>
              <a:ahLst/>
              <a:rect l="l" t="t" r="r" b="b"/>
              <a:pathLst>
                <a:path w="327" h="373">
                  <a:moveTo>
                    <a:pt x="0" y="323"/>
                  </a:moveTo>
                  <a:lnTo>
                    <a:pt x="322" y="0"/>
                  </a:lnTo>
                  <a:lnTo>
                    <a:pt x="324" y="10"/>
                  </a:lnTo>
                  <a:lnTo>
                    <a:pt x="324" y="20"/>
                  </a:lnTo>
                  <a:lnTo>
                    <a:pt x="325" y="31"/>
                  </a:lnTo>
                  <a:lnTo>
                    <a:pt x="325" y="41"/>
                  </a:lnTo>
                  <a:lnTo>
                    <a:pt x="326" y="52"/>
                  </a:lnTo>
                  <a:lnTo>
                    <a:pt x="326" y="63"/>
                  </a:lnTo>
                  <a:lnTo>
                    <a:pt x="327" y="73"/>
                  </a:lnTo>
                  <a:lnTo>
                    <a:pt x="327" y="84"/>
                  </a:lnTo>
                  <a:lnTo>
                    <a:pt x="40" y="373"/>
                  </a:lnTo>
                  <a:lnTo>
                    <a:pt x="34" y="367"/>
                  </a:lnTo>
                  <a:lnTo>
                    <a:pt x="29" y="360"/>
                  </a:lnTo>
                  <a:lnTo>
                    <a:pt x="24" y="354"/>
                  </a:lnTo>
                  <a:lnTo>
                    <a:pt x="20" y="348"/>
                  </a:lnTo>
                  <a:lnTo>
                    <a:pt x="15" y="342"/>
                  </a:lnTo>
                  <a:lnTo>
                    <a:pt x="9" y="335"/>
                  </a:lnTo>
                  <a:lnTo>
                    <a:pt x="4" y="329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468680" y="4540320"/>
              <a:ext cx="82800" cy="93600"/>
            </a:xfrm>
            <a:custGeom>
              <a:avLst/>
              <a:gdLst/>
              <a:ahLst/>
              <a:rect l="l" t="t" r="r" b="b"/>
              <a:pathLst>
                <a:path w="309" h="357">
                  <a:moveTo>
                    <a:pt x="0" y="307"/>
                  </a:moveTo>
                  <a:lnTo>
                    <a:pt x="305" y="0"/>
                  </a:lnTo>
                  <a:lnTo>
                    <a:pt x="306" y="11"/>
                  </a:lnTo>
                  <a:lnTo>
                    <a:pt x="306" y="22"/>
                  </a:lnTo>
                  <a:lnTo>
                    <a:pt x="307" y="32"/>
                  </a:lnTo>
                  <a:lnTo>
                    <a:pt x="307" y="43"/>
                  </a:lnTo>
                  <a:lnTo>
                    <a:pt x="308" y="54"/>
                  </a:lnTo>
                  <a:lnTo>
                    <a:pt x="308" y="64"/>
                  </a:lnTo>
                  <a:lnTo>
                    <a:pt x="309" y="75"/>
                  </a:lnTo>
                  <a:lnTo>
                    <a:pt x="309" y="86"/>
                  </a:lnTo>
                  <a:lnTo>
                    <a:pt x="39" y="357"/>
                  </a:lnTo>
                  <a:lnTo>
                    <a:pt x="34" y="351"/>
                  </a:lnTo>
                  <a:lnTo>
                    <a:pt x="29" y="344"/>
                  </a:lnTo>
                  <a:lnTo>
                    <a:pt x="25" y="338"/>
                  </a:lnTo>
                  <a:lnTo>
                    <a:pt x="19" y="332"/>
                  </a:lnTo>
                  <a:lnTo>
                    <a:pt x="14" y="326"/>
                  </a:lnTo>
                  <a:lnTo>
                    <a:pt x="9" y="319"/>
                  </a:lnTo>
                  <a:lnTo>
                    <a:pt x="4" y="313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473720" y="4551480"/>
              <a:ext cx="77760" cy="88920"/>
            </a:xfrm>
            <a:custGeom>
              <a:avLst/>
              <a:gdLst/>
              <a:ahLst/>
              <a:rect l="l" t="t" r="r" b="b"/>
              <a:pathLst>
                <a:path w="291" h="339">
                  <a:moveTo>
                    <a:pt x="0" y="289"/>
                  </a:moveTo>
                  <a:lnTo>
                    <a:pt x="287" y="0"/>
                  </a:lnTo>
                  <a:lnTo>
                    <a:pt x="288" y="11"/>
                  </a:lnTo>
                  <a:lnTo>
                    <a:pt x="288" y="21"/>
                  </a:lnTo>
                  <a:lnTo>
                    <a:pt x="288" y="32"/>
                  </a:lnTo>
                  <a:lnTo>
                    <a:pt x="289" y="43"/>
                  </a:lnTo>
                  <a:lnTo>
                    <a:pt x="289" y="53"/>
                  </a:lnTo>
                  <a:lnTo>
                    <a:pt x="291" y="64"/>
                  </a:lnTo>
                  <a:lnTo>
                    <a:pt x="291" y="75"/>
                  </a:lnTo>
                  <a:lnTo>
                    <a:pt x="291" y="86"/>
                  </a:lnTo>
                  <a:lnTo>
                    <a:pt x="39" y="339"/>
                  </a:lnTo>
                  <a:lnTo>
                    <a:pt x="33" y="333"/>
                  </a:lnTo>
                  <a:lnTo>
                    <a:pt x="28" y="327"/>
                  </a:lnTo>
                  <a:lnTo>
                    <a:pt x="24" y="320"/>
                  </a:lnTo>
                  <a:lnTo>
                    <a:pt x="19" y="314"/>
                  </a:lnTo>
                  <a:lnTo>
                    <a:pt x="14" y="308"/>
                  </a:lnTo>
                  <a:lnTo>
                    <a:pt x="9" y="302"/>
                  </a:lnTo>
                  <a:lnTo>
                    <a:pt x="5" y="295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479840" y="4562640"/>
              <a:ext cx="71640" cy="83880"/>
            </a:xfrm>
            <a:custGeom>
              <a:avLst/>
              <a:gdLst/>
              <a:ahLst/>
              <a:rect l="l" t="t" r="r" b="b"/>
              <a:pathLst>
                <a:path w="274" h="322">
                  <a:moveTo>
                    <a:pt x="0" y="271"/>
                  </a:moveTo>
                  <a:lnTo>
                    <a:pt x="270" y="0"/>
                  </a:lnTo>
                  <a:lnTo>
                    <a:pt x="270" y="10"/>
                  </a:lnTo>
                  <a:lnTo>
                    <a:pt x="272" y="21"/>
                  </a:lnTo>
                  <a:lnTo>
                    <a:pt x="272" y="32"/>
                  </a:lnTo>
                  <a:lnTo>
                    <a:pt x="272" y="43"/>
                  </a:lnTo>
                  <a:lnTo>
                    <a:pt x="273" y="54"/>
                  </a:lnTo>
                  <a:lnTo>
                    <a:pt x="273" y="65"/>
                  </a:lnTo>
                  <a:lnTo>
                    <a:pt x="273" y="76"/>
                  </a:lnTo>
                  <a:lnTo>
                    <a:pt x="274" y="86"/>
                  </a:lnTo>
                  <a:lnTo>
                    <a:pt x="39" y="322"/>
                  </a:lnTo>
                  <a:lnTo>
                    <a:pt x="34" y="315"/>
                  </a:lnTo>
                  <a:lnTo>
                    <a:pt x="30" y="309"/>
                  </a:lnTo>
                  <a:lnTo>
                    <a:pt x="24" y="303"/>
                  </a:lnTo>
                  <a:lnTo>
                    <a:pt x="19" y="296"/>
                  </a:lnTo>
                  <a:lnTo>
                    <a:pt x="14" y="290"/>
                  </a:lnTo>
                  <a:lnTo>
                    <a:pt x="9" y="284"/>
                  </a:lnTo>
                  <a:lnTo>
                    <a:pt x="5" y="277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484520" y="4573440"/>
              <a:ext cx="68400" cy="81000"/>
            </a:xfrm>
            <a:custGeom>
              <a:avLst/>
              <a:gdLst/>
              <a:ahLst/>
              <a:rect l="l" t="t" r="r" b="b"/>
              <a:pathLst>
                <a:path w="255" h="304">
                  <a:moveTo>
                    <a:pt x="0" y="253"/>
                  </a:moveTo>
                  <a:lnTo>
                    <a:pt x="252" y="0"/>
                  </a:lnTo>
                  <a:lnTo>
                    <a:pt x="253" y="11"/>
                  </a:lnTo>
                  <a:lnTo>
                    <a:pt x="253" y="22"/>
                  </a:lnTo>
                  <a:lnTo>
                    <a:pt x="253" y="33"/>
                  </a:lnTo>
                  <a:lnTo>
                    <a:pt x="254" y="43"/>
                  </a:lnTo>
                  <a:lnTo>
                    <a:pt x="254" y="54"/>
                  </a:lnTo>
                  <a:lnTo>
                    <a:pt x="254" y="65"/>
                  </a:lnTo>
                  <a:lnTo>
                    <a:pt x="255" y="76"/>
                  </a:lnTo>
                  <a:lnTo>
                    <a:pt x="255" y="86"/>
                  </a:lnTo>
                  <a:lnTo>
                    <a:pt x="38" y="304"/>
                  </a:lnTo>
                  <a:lnTo>
                    <a:pt x="33" y="298"/>
                  </a:lnTo>
                  <a:lnTo>
                    <a:pt x="29" y="291"/>
                  </a:lnTo>
                  <a:lnTo>
                    <a:pt x="24" y="285"/>
                  </a:lnTo>
                  <a:lnTo>
                    <a:pt x="19" y="279"/>
                  </a:lnTo>
                  <a:lnTo>
                    <a:pt x="14" y="272"/>
                  </a:lnTo>
                  <a:lnTo>
                    <a:pt x="10" y="266"/>
                  </a:lnTo>
                  <a:lnTo>
                    <a:pt x="5" y="260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489560" y="4584600"/>
              <a:ext cx="63360" cy="76320"/>
            </a:xfrm>
            <a:custGeom>
              <a:avLst/>
              <a:gdLst/>
              <a:ahLst/>
              <a:rect l="l" t="t" r="r" b="b"/>
              <a:pathLst>
                <a:path w="237" h="286">
                  <a:moveTo>
                    <a:pt x="0" y="236"/>
                  </a:moveTo>
                  <a:lnTo>
                    <a:pt x="235" y="0"/>
                  </a:lnTo>
                  <a:lnTo>
                    <a:pt x="235" y="11"/>
                  </a:lnTo>
                  <a:lnTo>
                    <a:pt x="235" y="22"/>
                  </a:lnTo>
                  <a:lnTo>
                    <a:pt x="235" y="33"/>
                  </a:lnTo>
                  <a:lnTo>
                    <a:pt x="236" y="44"/>
                  </a:lnTo>
                  <a:lnTo>
                    <a:pt x="236" y="55"/>
                  </a:lnTo>
                  <a:lnTo>
                    <a:pt x="236" y="66"/>
                  </a:lnTo>
                  <a:lnTo>
                    <a:pt x="236" y="76"/>
                  </a:lnTo>
                  <a:lnTo>
                    <a:pt x="237" y="87"/>
                  </a:lnTo>
                  <a:lnTo>
                    <a:pt x="39" y="286"/>
                  </a:lnTo>
                  <a:lnTo>
                    <a:pt x="33" y="280"/>
                  </a:lnTo>
                  <a:lnTo>
                    <a:pt x="29" y="274"/>
                  </a:lnTo>
                  <a:lnTo>
                    <a:pt x="24" y="267"/>
                  </a:lnTo>
                  <a:lnTo>
                    <a:pt x="19" y="261"/>
                  </a:lnTo>
                  <a:lnTo>
                    <a:pt x="14" y="255"/>
                  </a:lnTo>
                  <a:lnTo>
                    <a:pt x="10" y="248"/>
                  </a:lnTo>
                  <a:lnTo>
                    <a:pt x="5" y="242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94240" y="4595760"/>
              <a:ext cx="58680" cy="71640"/>
            </a:xfrm>
            <a:custGeom>
              <a:avLst/>
              <a:gdLst/>
              <a:ahLst/>
              <a:rect l="l" t="t" r="r" b="b"/>
              <a:pathLst>
                <a:path w="218" h="269">
                  <a:moveTo>
                    <a:pt x="0" y="218"/>
                  </a:moveTo>
                  <a:lnTo>
                    <a:pt x="217" y="0"/>
                  </a:lnTo>
                  <a:lnTo>
                    <a:pt x="217" y="12"/>
                  </a:lnTo>
                  <a:lnTo>
                    <a:pt x="217" y="23"/>
                  </a:lnTo>
                  <a:lnTo>
                    <a:pt x="217" y="33"/>
                  </a:lnTo>
                  <a:lnTo>
                    <a:pt x="218" y="44"/>
                  </a:lnTo>
                  <a:lnTo>
                    <a:pt x="218" y="56"/>
                  </a:lnTo>
                  <a:lnTo>
                    <a:pt x="218" y="67"/>
                  </a:lnTo>
                  <a:lnTo>
                    <a:pt x="218" y="77"/>
                  </a:lnTo>
                  <a:lnTo>
                    <a:pt x="218" y="88"/>
                  </a:lnTo>
                  <a:lnTo>
                    <a:pt x="39" y="269"/>
                  </a:lnTo>
                  <a:lnTo>
                    <a:pt x="34" y="262"/>
                  </a:lnTo>
                  <a:lnTo>
                    <a:pt x="29" y="256"/>
                  </a:lnTo>
                  <a:lnTo>
                    <a:pt x="24" y="250"/>
                  </a:lnTo>
                  <a:lnTo>
                    <a:pt x="19" y="243"/>
                  </a:lnTo>
                  <a:lnTo>
                    <a:pt x="14" y="237"/>
                  </a:lnTo>
                  <a:lnTo>
                    <a:pt x="10" y="231"/>
                  </a:lnTo>
                  <a:lnTo>
                    <a:pt x="5" y="224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500720" y="4608360"/>
              <a:ext cx="52200" cy="65160"/>
            </a:xfrm>
            <a:custGeom>
              <a:avLst/>
              <a:gdLst/>
              <a:ahLst/>
              <a:rect l="l" t="t" r="r" b="b"/>
              <a:pathLst>
                <a:path w="200" h="250">
                  <a:moveTo>
                    <a:pt x="0" y="199"/>
                  </a:moveTo>
                  <a:lnTo>
                    <a:pt x="198" y="0"/>
                  </a:lnTo>
                  <a:lnTo>
                    <a:pt x="198" y="12"/>
                  </a:lnTo>
                  <a:lnTo>
                    <a:pt x="198" y="23"/>
                  </a:lnTo>
                  <a:lnTo>
                    <a:pt x="198" y="33"/>
                  </a:lnTo>
                  <a:lnTo>
                    <a:pt x="198" y="44"/>
                  </a:lnTo>
                  <a:lnTo>
                    <a:pt x="198" y="56"/>
                  </a:lnTo>
                  <a:lnTo>
                    <a:pt x="200" y="67"/>
                  </a:lnTo>
                  <a:lnTo>
                    <a:pt x="200" y="77"/>
                  </a:lnTo>
                  <a:lnTo>
                    <a:pt x="200" y="88"/>
                  </a:lnTo>
                  <a:lnTo>
                    <a:pt x="38" y="250"/>
                  </a:lnTo>
                  <a:lnTo>
                    <a:pt x="33" y="244"/>
                  </a:lnTo>
                  <a:lnTo>
                    <a:pt x="29" y="238"/>
                  </a:lnTo>
                  <a:lnTo>
                    <a:pt x="24" y="231"/>
                  </a:lnTo>
                  <a:lnTo>
                    <a:pt x="19" y="225"/>
                  </a:lnTo>
                  <a:lnTo>
                    <a:pt x="14" y="218"/>
                  </a:lnTo>
                  <a:lnTo>
                    <a:pt x="9" y="212"/>
                  </a:lnTo>
                  <a:lnTo>
                    <a:pt x="4" y="206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505400" y="4619520"/>
              <a:ext cx="47520" cy="61920"/>
            </a:xfrm>
            <a:custGeom>
              <a:avLst/>
              <a:gdLst/>
              <a:ahLst/>
              <a:rect l="l" t="t" r="r" b="b"/>
              <a:pathLst>
                <a:path w="181" h="232">
                  <a:moveTo>
                    <a:pt x="0" y="181"/>
                  </a:moveTo>
                  <a:lnTo>
                    <a:pt x="179" y="0"/>
                  </a:lnTo>
                  <a:lnTo>
                    <a:pt x="179" y="12"/>
                  </a:lnTo>
                  <a:lnTo>
                    <a:pt x="179" y="23"/>
                  </a:lnTo>
                  <a:lnTo>
                    <a:pt x="179" y="33"/>
                  </a:lnTo>
                  <a:lnTo>
                    <a:pt x="181" y="45"/>
                  </a:lnTo>
                  <a:lnTo>
                    <a:pt x="181" y="56"/>
                  </a:lnTo>
                  <a:lnTo>
                    <a:pt x="181" y="67"/>
                  </a:lnTo>
                  <a:lnTo>
                    <a:pt x="181" y="79"/>
                  </a:lnTo>
                  <a:lnTo>
                    <a:pt x="181" y="89"/>
                  </a:lnTo>
                  <a:lnTo>
                    <a:pt x="38" y="232"/>
                  </a:lnTo>
                  <a:lnTo>
                    <a:pt x="33" y="226"/>
                  </a:lnTo>
                  <a:lnTo>
                    <a:pt x="29" y="219"/>
                  </a:lnTo>
                  <a:lnTo>
                    <a:pt x="24" y="213"/>
                  </a:lnTo>
                  <a:lnTo>
                    <a:pt x="19" y="206"/>
                  </a:lnTo>
                  <a:lnTo>
                    <a:pt x="14" y="200"/>
                  </a:lnTo>
                  <a:lnTo>
                    <a:pt x="10" y="194"/>
                  </a:lnTo>
                  <a:lnTo>
                    <a:pt x="5" y="187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510080" y="4630680"/>
              <a:ext cx="42840" cy="57240"/>
            </a:xfrm>
            <a:custGeom>
              <a:avLst/>
              <a:gdLst/>
              <a:ahLst/>
              <a:rect l="l" t="t" r="r" b="b"/>
              <a:pathLst>
                <a:path w="162" h="214">
                  <a:moveTo>
                    <a:pt x="0" y="162"/>
                  </a:moveTo>
                  <a:lnTo>
                    <a:pt x="162" y="0"/>
                  </a:lnTo>
                  <a:lnTo>
                    <a:pt x="162" y="12"/>
                  </a:lnTo>
                  <a:lnTo>
                    <a:pt x="162" y="23"/>
                  </a:lnTo>
                  <a:lnTo>
                    <a:pt x="162" y="35"/>
                  </a:lnTo>
                  <a:lnTo>
                    <a:pt x="162" y="45"/>
                  </a:lnTo>
                  <a:lnTo>
                    <a:pt x="162" y="56"/>
                  </a:lnTo>
                  <a:lnTo>
                    <a:pt x="162" y="68"/>
                  </a:lnTo>
                  <a:lnTo>
                    <a:pt x="162" y="79"/>
                  </a:lnTo>
                  <a:lnTo>
                    <a:pt x="162" y="90"/>
                  </a:lnTo>
                  <a:lnTo>
                    <a:pt x="38" y="214"/>
                  </a:lnTo>
                  <a:lnTo>
                    <a:pt x="33" y="207"/>
                  </a:lnTo>
                  <a:lnTo>
                    <a:pt x="29" y="201"/>
                  </a:lnTo>
                  <a:lnTo>
                    <a:pt x="24" y="194"/>
                  </a:lnTo>
                  <a:lnTo>
                    <a:pt x="19" y="188"/>
                  </a:lnTo>
                  <a:lnTo>
                    <a:pt x="14" y="182"/>
                  </a:lnTo>
                  <a:lnTo>
                    <a:pt x="10" y="175"/>
                  </a:lnTo>
                  <a:lnTo>
                    <a:pt x="5" y="169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514760" y="4643280"/>
              <a:ext cx="38160" cy="51120"/>
            </a:xfrm>
            <a:custGeom>
              <a:avLst/>
              <a:gdLst/>
              <a:ahLst/>
              <a:rect l="l" t="t" r="r" b="b"/>
              <a:pathLst>
                <a:path w="143" h="195">
                  <a:moveTo>
                    <a:pt x="0" y="143"/>
                  </a:moveTo>
                  <a:lnTo>
                    <a:pt x="143" y="0"/>
                  </a:lnTo>
                  <a:lnTo>
                    <a:pt x="143" y="11"/>
                  </a:lnTo>
                  <a:lnTo>
                    <a:pt x="143" y="23"/>
                  </a:lnTo>
                  <a:lnTo>
                    <a:pt x="143" y="34"/>
                  </a:lnTo>
                  <a:lnTo>
                    <a:pt x="143" y="45"/>
                  </a:lnTo>
                  <a:lnTo>
                    <a:pt x="143" y="56"/>
                  </a:lnTo>
                  <a:lnTo>
                    <a:pt x="143" y="68"/>
                  </a:lnTo>
                  <a:lnTo>
                    <a:pt x="143" y="79"/>
                  </a:lnTo>
                  <a:lnTo>
                    <a:pt x="143" y="91"/>
                  </a:lnTo>
                  <a:lnTo>
                    <a:pt x="38" y="195"/>
                  </a:lnTo>
                  <a:lnTo>
                    <a:pt x="33" y="188"/>
                  </a:lnTo>
                  <a:lnTo>
                    <a:pt x="29" y="182"/>
                  </a:lnTo>
                  <a:lnTo>
                    <a:pt x="24" y="175"/>
                  </a:lnTo>
                  <a:lnTo>
                    <a:pt x="19" y="169"/>
                  </a:lnTo>
                  <a:lnTo>
                    <a:pt x="14" y="162"/>
                  </a:lnTo>
                  <a:lnTo>
                    <a:pt x="10" y="156"/>
                  </a:lnTo>
                  <a:lnTo>
                    <a:pt x="5" y="149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519440" y="4654440"/>
              <a:ext cx="33480" cy="47880"/>
            </a:xfrm>
            <a:custGeom>
              <a:avLst/>
              <a:gdLst/>
              <a:ahLst/>
              <a:rect l="l" t="t" r="r" b="b"/>
              <a:pathLst>
                <a:path w="124" h="175">
                  <a:moveTo>
                    <a:pt x="0" y="124"/>
                  </a:moveTo>
                  <a:lnTo>
                    <a:pt x="124" y="0"/>
                  </a:lnTo>
                  <a:lnTo>
                    <a:pt x="124" y="11"/>
                  </a:lnTo>
                  <a:lnTo>
                    <a:pt x="124" y="23"/>
                  </a:lnTo>
                  <a:lnTo>
                    <a:pt x="124" y="34"/>
                  </a:lnTo>
                  <a:lnTo>
                    <a:pt x="124" y="46"/>
                  </a:lnTo>
                  <a:lnTo>
                    <a:pt x="122" y="56"/>
                  </a:lnTo>
                  <a:lnTo>
                    <a:pt x="122" y="68"/>
                  </a:lnTo>
                  <a:lnTo>
                    <a:pt x="122" y="79"/>
                  </a:lnTo>
                  <a:lnTo>
                    <a:pt x="122" y="91"/>
                  </a:lnTo>
                  <a:lnTo>
                    <a:pt x="38" y="175"/>
                  </a:lnTo>
                  <a:lnTo>
                    <a:pt x="33" y="169"/>
                  </a:lnTo>
                  <a:lnTo>
                    <a:pt x="29" y="162"/>
                  </a:lnTo>
                  <a:lnTo>
                    <a:pt x="24" y="156"/>
                  </a:lnTo>
                  <a:lnTo>
                    <a:pt x="19" y="149"/>
                  </a:lnTo>
                  <a:lnTo>
                    <a:pt x="14" y="143"/>
                  </a:lnTo>
                  <a:lnTo>
                    <a:pt x="10" y="137"/>
                  </a:lnTo>
                  <a:lnTo>
                    <a:pt x="5" y="13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525920" y="4667400"/>
              <a:ext cx="27000" cy="41040"/>
            </a:xfrm>
            <a:custGeom>
              <a:avLst/>
              <a:gdLst/>
              <a:ahLst/>
              <a:rect l="l" t="t" r="r" b="b"/>
              <a:pathLst>
                <a:path w="105" h="155">
                  <a:moveTo>
                    <a:pt x="0" y="104"/>
                  </a:moveTo>
                  <a:lnTo>
                    <a:pt x="105" y="0"/>
                  </a:lnTo>
                  <a:lnTo>
                    <a:pt x="105" y="10"/>
                  </a:lnTo>
                  <a:lnTo>
                    <a:pt x="103" y="22"/>
                  </a:lnTo>
                  <a:lnTo>
                    <a:pt x="103" y="33"/>
                  </a:lnTo>
                  <a:lnTo>
                    <a:pt x="103" y="45"/>
                  </a:lnTo>
                  <a:lnTo>
                    <a:pt x="103" y="55"/>
                  </a:lnTo>
                  <a:lnTo>
                    <a:pt x="103" y="67"/>
                  </a:lnTo>
                  <a:lnTo>
                    <a:pt x="103" y="79"/>
                  </a:lnTo>
                  <a:lnTo>
                    <a:pt x="103" y="90"/>
                  </a:lnTo>
                  <a:lnTo>
                    <a:pt x="37" y="155"/>
                  </a:lnTo>
                  <a:lnTo>
                    <a:pt x="32" y="149"/>
                  </a:lnTo>
                  <a:lnTo>
                    <a:pt x="29" y="142"/>
                  </a:lnTo>
                  <a:lnTo>
                    <a:pt x="23" y="136"/>
                  </a:lnTo>
                  <a:lnTo>
                    <a:pt x="19" y="129"/>
                  </a:lnTo>
                  <a:lnTo>
                    <a:pt x="14" y="123"/>
                  </a:lnTo>
                  <a:lnTo>
                    <a:pt x="10" y="116"/>
                  </a:lnTo>
                  <a:lnTo>
                    <a:pt x="5" y="11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530600" y="4678200"/>
              <a:ext cx="22320" cy="36720"/>
            </a:xfrm>
            <a:custGeom>
              <a:avLst/>
              <a:gdLst/>
              <a:ahLst/>
              <a:rect l="l" t="t" r="r" b="b"/>
              <a:pathLst>
                <a:path w="84" h="136">
                  <a:moveTo>
                    <a:pt x="0" y="84"/>
                  </a:moveTo>
                  <a:lnTo>
                    <a:pt x="84" y="0"/>
                  </a:lnTo>
                  <a:lnTo>
                    <a:pt x="84" y="10"/>
                  </a:lnTo>
                  <a:lnTo>
                    <a:pt x="84" y="22"/>
                  </a:lnTo>
                  <a:lnTo>
                    <a:pt x="84" y="34"/>
                  </a:lnTo>
                  <a:lnTo>
                    <a:pt x="83" y="45"/>
                  </a:lnTo>
                  <a:lnTo>
                    <a:pt x="83" y="57"/>
                  </a:lnTo>
                  <a:lnTo>
                    <a:pt x="83" y="69"/>
                  </a:lnTo>
                  <a:lnTo>
                    <a:pt x="83" y="79"/>
                  </a:lnTo>
                  <a:lnTo>
                    <a:pt x="83" y="91"/>
                  </a:lnTo>
                  <a:lnTo>
                    <a:pt x="37" y="136"/>
                  </a:lnTo>
                  <a:lnTo>
                    <a:pt x="32" y="130"/>
                  </a:lnTo>
                  <a:lnTo>
                    <a:pt x="27" y="123"/>
                  </a:lnTo>
                  <a:lnTo>
                    <a:pt x="23" y="117"/>
                  </a:lnTo>
                  <a:lnTo>
                    <a:pt x="18" y="110"/>
                  </a:lnTo>
                  <a:lnTo>
                    <a:pt x="13" y="104"/>
                  </a:lnTo>
                  <a:lnTo>
                    <a:pt x="8" y="97"/>
                  </a:lnTo>
                  <a:lnTo>
                    <a:pt x="5" y="91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35640" y="4691160"/>
              <a:ext cx="17280" cy="31680"/>
            </a:xfrm>
            <a:custGeom>
              <a:avLst/>
              <a:gdLst/>
              <a:ahLst/>
              <a:rect l="l" t="t" r="r" b="b"/>
              <a:pathLst>
                <a:path w="66" h="117">
                  <a:moveTo>
                    <a:pt x="0" y="65"/>
                  </a:moveTo>
                  <a:lnTo>
                    <a:pt x="66" y="0"/>
                  </a:lnTo>
                  <a:lnTo>
                    <a:pt x="65" y="12"/>
                  </a:lnTo>
                  <a:lnTo>
                    <a:pt x="65" y="24"/>
                  </a:lnTo>
                  <a:lnTo>
                    <a:pt x="65" y="34"/>
                  </a:lnTo>
                  <a:lnTo>
                    <a:pt x="64" y="46"/>
                  </a:lnTo>
                  <a:lnTo>
                    <a:pt x="64" y="58"/>
                  </a:lnTo>
                  <a:lnTo>
                    <a:pt x="64" y="69"/>
                  </a:lnTo>
                  <a:lnTo>
                    <a:pt x="63" y="81"/>
                  </a:lnTo>
                  <a:lnTo>
                    <a:pt x="63" y="92"/>
                  </a:lnTo>
                  <a:lnTo>
                    <a:pt x="38" y="117"/>
                  </a:lnTo>
                  <a:lnTo>
                    <a:pt x="33" y="111"/>
                  </a:lnTo>
                  <a:lnTo>
                    <a:pt x="28" y="104"/>
                  </a:lnTo>
                  <a:lnTo>
                    <a:pt x="24" y="98"/>
                  </a:lnTo>
                  <a:lnTo>
                    <a:pt x="19" y="91"/>
                  </a:lnTo>
                  <a:lnTo>
                    <a:pt x="14" y="85"/>
                  </a:lnTo>
                  <a:lnTo>
                    <a:pt x="9" y="78"/>
                  </a:lnTo>
                  <a:lnTo>
                    <a:pt x="5" y="72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540320" y="4703760"/>
              <a:ext cx="12600" cy="25560"/>
            </a:xfrm>
            <a:custGeom>
              <a:avLst/>
              <a:gdLst/>
              <a:ahLst/>
              <a:rect l="l" t="t" r="r" b="b"/>
              <a:pathLst>
                <a:path w="46" h="98">
                  <a:moveTo>
                    <a:pt x="0" y="45"/>
                  </a:moveTo>
                  <a:lnTo>
                    <a:pt x="46" y="0"/>
                  </a:lnTo>
                  <a:lnTo>
                    <a:pt x="45" y="12"/>
                  </a:lnTo>
                  <a:lnTo>
                    <a:pt x="45" y="23"/>
                  </a:lnTo>
                  <a:lnTo>
                    <a:pt x="45" y="35"/>
                  </a:lnTo>
                  <a:lnTo>
                    <a:pt x="44" y="46"/>
                  </a:lnTo>
                  <a:lnTo>
                    <a:pt x="44" y="57"/>
                  </a:lnTo>
                  <a:lnTo>
                    <a:pt x="44" y="69"/>
                  </a:lnTo>
                  <a:lnTo>
                    <a:pt x="43" y="81"/>
                  </a:lnTo>
                  <a:lnTo>
                    <a:pt x="43" y="93"/>
                  </a:lnTo>
                  <a:lnTo>
                    <a:pt x="38" y="98"/>
                  </a:lnTo>
                  <a:lnTo>
                    <a:pt x="33" y="92"/>
                  </a:lnTo>
                  <a:lnTo>
                    <a:pt x="28" y="85"/>
                  </a:lnTo>
                  <a:lnTo>
                    <a:pt x="24" y="79"/>
                  </a:lnTo>
                  <a:lnTo>
                    <a:pt x="19" y="71"/>
                  </a:lnTo>
                  <a:lnTo>
                    <a:pt x="14" y="65"/>
                  </a:lnTo>
                  <a:lnTo>
                    <a:pt x="9" y="58"/>
                  </a:lnTo>
                  <a:lnTo>
                    <a:pt x="5" y="5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545000" y="4714920"/>
              <a:ext cx="6480" cy="1584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0" y="25"/>
                  </a:moveTo>
                  <a:lnTo>
                    <a:pt x="25" y="0"/>
                  </a:lnTo>
                  <a:lnTo>
                    <a:pt x="25" y="8"/>
                  </a:lnTo>
                  <a:lnTo>
                    <a:pt x="25" y="15"/>
                  </a:lnTo>
                  <a:lnTo>
                    <a:pt x="25" y="22"/>
                  </a:lnTo>
                  <a:lnTo>
                    <a:pt x="24" y="29"/>
                  </a:lnTo>
                  <a:lnTo>
                    <a:pt x="24" y="37"/>
                  </a:lnTo>
                  <a:lnTo>
                    <a:pt x="24" y="44"/>
                  </a:lnTo>
                  <a:lnTo>
                    <a:pt x="24" y="52"/>
                  </a:lnTo>
                  <a:lnTo>
                    <a:pt x="24" y="59"/>
                  </a:lnTo>
                  <a:lnTo>
                    <a:pt x="20" y="54"/>
                  </a:lnTo>
                  <a:lnTo>
                    <a:pt x="18" y="50"/>
                  </a:lnTo>
                  <a:lnTo>
                    <a:pt x="14" y="46"/>
                  </a:lnTo>
                  <a:lnTo>
                    <a:pt x="12" y="42"/>
                  </a:lnTo>
                  <a:lnTo>
                    <a:pt x="8" y="39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549680" y="4727520"/>
              <a:ext cx="1800" cy="324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5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e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92360" y="2690640"/>
              <a:ext cx="1494000" cy="1495440"/>
            </a:xfrm>
            <a:custGeom>
              <a:avLst/>
              <a:gdLst/>
              <a:ahLst/>
              <a:rect l="l" t="t" r="r" b="b"/>
              <a:pathLst>
                <a:path w="5647" h="5653">
                  <a:moveTo>
                    <a:pt x="47" y="2312"/>
                  </a:moveTo>
                  <a:lnTo>
                    <a:pt x="77" y="2169"/>
                  </a:lnTo>
                  <a:lnTo>
                    <a:pt x="114" y="2030"/>
                  </a:lnTo>
                  <a:lnTo>
                    <a:pt x="157" y="1895"/>
                  </a:lnTo>
                  <a:lnTo>
                    <a:pt x="207" y="1763"/>
                  </a:lnTo>
                  <a:lnTo>
                    <a:pt x="263" y="1635"/>
                  </a:lnTo>
                  <a:lnTo>
                    <a:pt x="325" y="1510"/>
                  </a:lnTo>
                  <a:lnTo>
                    <a:pt x="393" y="1389"/>
                  </a:lnTo>
                  <a:lnTo>
                    <a:pt x="465" y="1273"/>
                  </a:lnTo>
                  <a:lnTo>
                    <a:pt x="544" y="1160"/>
                  </a:lnTo>
                  <a:lnTo>
                    <a:pt x="628" y="1050"/>
                  </a:lnTo>
                  <a:lnTo>
                    <a:pt x="716" y="947"/>
                  </a:lnTo>
                  <a:lnTo>
                    <a:pt x="810" y="847"/>
                  </a:lnTo>
                  <a:lnTo>
                    <a:pt x="907" y="753"/>
                  </a:lnTo>
                  <a:lnTo>
                    <a:pt x="1009" y="663"/>
                  </a:lnTo>
                  <a:lnTo>
                    <a:pt x="1116" y="579"/>
                  </a:lnTo>
                  <a:lnTo>
                    <a:pt x="1225" y="499"/>
                  </a:lnTo>
                  <a:lnTo>
                    <a:pt x="1339" y="424"/>
                  </a:lnTo>
                  <a:lnTo>
                    <a:pt x="1456" y="355"/>
                  </a:lnTo>
                  <a:lnTo>
                    <a:pt x="1576" y="292"/>
                  </a:lnTo>
                  <a:lnTo>
                    <a:pt x="1700" y="235"/>
                  </a:lnTo>
                  <a:lnTo>
                    <a:pt x="1826" y="184"/>
                  </a:lnTo>
                  <a:lnTo>
                    <a:pt x="1954" y="138"/>
                  </a:lnTo>
                  <a:lnTo>
                    <a:pt x="2085" y="99"/>
                  </a:lnTo>
                  <a:lnTo>
                    <a:pt x="2218" y="66"/>
                  </a:lnTo>
                  <a:lnTo>
                    <a:pt x="2354" y="39"/>
                  </a:lnTo>
                  <a:lnTo>
                    <a:pt x="2491" y="19"/>
                  </a:lnTo>
                  <a:lnTo>
                    <a:pt x="2629" y="6"/>
                  </a:lnTo>
                  <a:lnTo>
                    <a:pt x="2769" y="0"/>
                  </a:lnTo>
                  <a:lnTo>
                    <a:pt x="2910" y="1"/>
                  </a:lnTo>
                  <a:lnTo>
                    <a:pt x="3053" y="10"/>
                  </a:lnTo>
                  <a:lnTo>
                    <a:pt x="3195" y="24"/>
                  </a:lnTo>
                  <a:lnTo>
                    <a:pt x="3339" y="48"/>
                  </a:lnTo>
                  <a:lnTo>
                    <a:pt x="3480" y="77"/>
                  </a:lnTo>
                  <a:lnTo>
                    <a:pt x="3619" y="114"/>
                  </a:lnTo>
                  <a:lnTo>
                    <a:pt x="3754" y="158"/>
                  </a:lnTo>
                  <a:lnTo>
                    <a:pt x="3886" y="208"/>
                  </a:lnTo>
                  <a:lnTo>
                    <a:pt x="4014" y="264"/>
                  </a:lnTo>
                  <a:lnTo>
                    <a:pt x="4140" y="326"/>
                  </a:lnTo>
                  <a:lnTo>
                    <a:pt x="4260" y="393"/>
                  </a:lnTo>
                  <a:lnTo>
                    <a:pt x="4377" y="467"/>
                  </a:lnTo>
                  <a:lnTo>
                    <a:pt x="4490" y="545"/>
                  </a:lnTo>
                  <a:lnTo>
                    <a:pt x="4598" y="629"/>
                  </a:lnTo>
                  <a:lnTo>
                    <a:pt x="4701" y="718"/>
                  </a:lnTo>
                  <a:lnTo>
                    <a:pt x="4801" y="810"/>
                  </a:lnTo>
                  <a:lnTo>
                    <a:pt x="4896" y="909"/>
                  </a:lnTo>
                  <a:lnTo>
                    <a:pt x="4985" y="1011"/>
                  </a:lnTo>
                  <a:lnTo>
                    <a:pt x="5069" y="1117"/>
                  </a:lnTo>
                  <a:lnTo>
                    <a:pt x="5150" y="1227"/>
                  </a:lnTo>
                  <a:lnTo>
                    <a:pt x="5223" y="1340"/>
                  </a:lnTo>
                  <a:lnTo>
                    <a:pt x="5292" y="1458"/>
                  </a:lnTo>
                  <a:lnTo>
                    <a:pt x="5355" y="1578"/>
                  </a:lnTo>
                  <a:lnTo>
                    <a:pt x="5412" y="1701"/>
                  </a:lnTo>
                  <a:lnTo>
                    <a:pt x="5464" y="1827"/>
                  </a:lnTo>
                  <a:lnTo>
                    <a:pt x="5509" y="1957"/>
                  </a:lnTo>
                  <a:lnTo>
                    <a:pt x="5548" y="2088"/>
                  </a:lnTo>
                  <a:lnTo>
                    <a:pt x="5582" y="2222"/>
                  </a:lnTo>
                  <a:lnTo>
                    <a:pt x="5608" y="2357"/>
                  </a:lnTo>
                  <a:lnTo>
                    <a:pt x="5628" y="2494"/>
                  </a:lnTo>
                  <a:lnTo>
                    <a:pt x="5641" y="2633"/>
                  </a:lnTo>
                  <a:lnTo>
                    <a:pt x="5647" y="2773"/>
                  </a:lnTo>
                  <a:lnTo>
                    <a:pt x="5647" y="2913"/>
                  </a:lnTo>
                  <a:lnTo>
                    <a:pt x="5639" y="3056"/>
                  </a:lnTo>
                  <a:lnTo>
                    <a:pt x="5623" y="3198"/>
                  </a:lnTo>
                  <a:lnTo>
                    <a:pt x="5601" y="3342"/>
                  </a:lnTo>
                  <a:lnTo>
                    <a:pt x="5570" y="3483"/>
                  </a:lnTo>
                  <a:lnTo>
                    <a:pt x="5533" y="3622"/>
                  </a:lnTo>
                  <a:lnTo>
                    <a:pt x="5490" y="3758"/>
                  </a:lnTo>
                  <a:lnTo>
                    <a:pt x="5440" y="3891"/>
                  </a:lnTo>
                  <a:lnTo>
                    <a:pt x="5385" y="4019"/>
                  </a:lnTo>
                  <a:lnTo>
                    <a:pt x="5323" y="4144"/>
                  </a:lnTo>
                  <a:lnTo>
                    <a:pt x="5254" y="4265"/>
                  </a:lnTo>
                  <a:lnTo>
                    <a:pt x="5182" y="4382"/>
                  </a:lnTo>
                  <a:lnTo>
                    <a:pt x="5103" y="4494"/>
                  </a:lnTo>
                  <a:lnTo>
                    <a:pt x="5019" y="4603"/>
                  </a:lnTo>
                  <a:lnTo>
                    <a:pt x="4931" y="4707"/>
                  </a:lnTo>
                  <a:lnTo>
                    <a:pt x="4838" y="4806"/>
                  </a:lnTo>
                  <a:lnTo>
                    <a:pt x="4740" y="4901"/>
                  </a:lnTo>
                  <a:lnTo>
                    <a:pt x="4638" y="4990"/>
                  </a:lnTo>
                  <a:lnTo>
                    <a:pt x="4531" y="5075"/>
                  </a:lnTo>
                  <a:lnTo>
                    <a:pt x="4422" y="5155"/>
                  </a:lnTo>
                  <a:lnTo>
                    <a:pt x="4308" y="5229"/>
                  </a:lnTo>
                  <a:lnTo>
                    <a:pt x="4191" y="5297"/>
                  </a:lnTo>
                  <a:lnTo>
                    <a:pt x="4071" y="5360"/>
                  </a:lnTo>
                  <a:lnTo>
                    <a:pt x="3947" y="5419"/>
                  </a:lnTo>
                  <a:lnTo>
                    <a:pt x="3822" y="5470"/>
                  </a:lnTo>
                  <a:lnTo>
                    <a:pt x="3693" y="5515"/>
                  </a:lnTo>
                  <a:lnTo>
                    <a:pt x="3562" y="5554"/>
                  </a:lnTo>
                  <a:lnTo>
                    <a:pt x="3429" y="5587"/>
                  </a:lnTo>
                  <a:lnTo>
                    <a:pt x="3294" y="5614"/>
                  </a:lnTo>
                  <a:lnTo>
                    <a:pt x="3156" y="5634"/>
                  </a:lnTo>
                  <a:lnTo>
                    <a:pt x="3018" y="5647"/>
                  </a:lnTo>
                  <a:lnTo>
                    <a:pt x="2878" y="5653"/>
                  </a:lnTo>
                  <a:lnTo>
                    <a:pt x="2737" y="5653"/>
                  </a:lnTo>
                  <a:lnTo>
                    <a:pt x="2595" y="5644"/>
                  </a:lnTo>
                  <a:lnTo>
                    <a:pt x="2452" y="5629"/>
                  </a:lnTo>
                  <a:lnTo>
                    <a:pt x="2309" y="5606"/>
                  </a:lnTo>
                  <a:lnTo>
                    <a:pt x="2167" y="5577"/>
                  </a:lnTo>
                  <a:lnTo>
                    <a:pt x="2028" y="5540"/>
                  </a:lnTo>
                  <a:lnTo>
                    <a:pt x="1893" y="5496"/>
                  </a:lnTo>
                  <a:lnTo>
                    <a:pt x="1761" y="5446"/>
                  </a:lnTo>
                  <a:lnTo>
                    <a:pt x="1633" y="5390"/>
                  </a:lnTo>
                  <a:lnTo>
                    <a:pt x="1507" y="5328"/>
                  </a:lnTo>
                  <a:lnTo>
                    <a:pt x="1388" y="5261"/>
                  </a:lnTo>
                  <a:lnTo>
                    <a:pt x="1270" y="5187"/>
                  </a:lnTo>
                  <a:lnTo>
                    <a:pt x="1157" y="5109"/>
                  </a:lnTo>
                  <a:lnTo>
                    <a:pt x="1049" y="5024"/>
                  </a:lnTo>
                  <a:lnTo>
                    <a:pt x="946" y="4936"/>
                  </a:lnTo>
                  <a:lnTo>
                    <a:pt x="846" y="4842"/>
                  </a:lnTo>
                  <a:lnTo>
                    <a:pt x="752" y="4745"/>
                  </a:lnTo>
                  <a:lnTo>
                    <a:pt x="662" y="4643"/>
                  </a:lnTo>
                  <a:lnTo>
                    <a:pt x="578" y="4537"/>
                  </a:lnTo>
                  <a:lnTo>
                    <a:pt x="499" y="4427"/>
                  </a:lnTo>
                  <a:lnTo>
                    <a:pt x="424" y="4313"/>
                  </a:lnTo>
                  <a:lnTo>
                    <a:pt x="355" y="4196"/>
                  </a:lnTo>
                  <a:lnTo>
                    <a:pt x="292" y="4075"/>
                  </a:lnTo>
                  <a:lnTo>
                    <a:pt x="235" y="3951"/>
                  </a:lnTo>
                  <a:lnTo>
                    <a:pt x="183" y="3826"/>
                  </a:lnTo>
                  <a:lnTo>
                    <a:pt x="138" y="3697"/>
                  </a:lnTo>
                  <a:lnTo>
                    <a:pt x="99" y="3565"/>
                  </a:lnTo>
                  <a:lnTo>
                    <a:pt x="66" y="3432"/>
                  </a:lnTo>
                  <a:lnTo>
                    <a:pt x="39" y="3297"/>
                  </a:lnTo>
                  <a:lnTo>
                    <a:pt x="19" y="3160"/>
                  </a:lnTo>
                  <a:lnTo>
                    <a:pt x="6" y="3021"/>
                  </a:lnTo>
                  <a:lnTo>
                    <a:pt x="0" y="2881"/>
                  </a:lnTo>
                  <a:lnTo>
                    <a:pt x="0" y="2740"/>
                  </a:lnTo>
                  <a:lnTo>
                    <a:pt x="9" y="2598"/>
                  </a:lnTo>
                  <a:lnTo>
                    <a:pt x="24" y="2455"/>
                  </a:lnTo>
                  <a:lnTo>
                    <a:pt x="47" y="2312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65440" y="3743280"/>
              <a:ext cx="138240" cy="46080"/>
            </a:xfrm>
            <a:custGeom>
              <a:avLst/>
              <a:gdLst/>
              <a:ahLst/>
              <a:rect l="l" t="t" r="r" b="b"/>
              <a:pathLst>
                <a:path w="520" h="169">
                  <a:moveTo>
                    <a:pt x="183" y="156"/>
                  </a:moveTo>
                  <a:lnTo>
                    <a:pt x="165" y="149"/>
                  </a:lnTo>
                  <a:lnTo>
                    <a:pt x="49" y="154"/>
                  </a:lnTo>
                  <a:lnTo>
                    <a:pt x="45" y="158"/>
                  </a:lnTo>
                  <a:lnTo>
                    <a:pt x="40" y="147"/>
                  </a:lnTo>
                  <a:lnTo>
                    <a:pt x="34" y="136"/>
                  </a:lnTo>
                  <a:lnTo>
                    <a:pt x="28" y="124"/>
                  </a:lnTo>
                  <a:lnTo>
                    <a:pt x="22" y="113"/>
                  </a:lnTo>
                  <a:lnTo>
                    <a:pt x="17" y="103"/>
                  </a:lnTo>
                  <a:lnTo>
                    <a:pt x="11" y="91"/>
                  </a:lnTo>
                  <a:lnTo>
                    <a:pt x="5" y="80"/>
                  </a:lnTo>
                  <a:lnTo>
                    <a:pt x="0" y="68"/>
                  </a:lnTo>
                  <a:lnTo>
                    <a:pt x="189" y="68"/>
                  </a:lnTo>
                  <a:lnTo>
                    <a:pt x="201" y="70"/>
                  </a:lnTo>
                  <a:lnTo>
                    <a:pt x="203" y="73"/>
                  </a:lnTo>
                  <a:lnTo>
                    <a:pt x="253" y="73"/>
                  </a:lnTo>
                  <a:lnTo>
                    <a:pt x="251" y="50"/>
                  </a:lnTo>
                  <a:lnTo>
                    <a:pt x="245" y="50"/>
                  </a:lnTo>
                  <a:lnTo>
                    <a:pt x="245" y="27"/>
                  </a:lnTo>
                  <a:lnTo>
                    <a:pt x="229" y="27"/>
                  </a:lnTo>
                  <a:lnTo>
                    <a:pt x="199" y="66"/>
                  </a:lnTo>
                  <a:lnTo>
                    <a:pt x="199" y="70"/>
                  </a:lnTo>
                  <a:lnTo>
                    <a:pt x="201" y="70"/>
                  </a:lnTo>
                  <a:lnTo>
                    <a:pt x="189" y="68"/>
                  </a:lnTo>
                  <a:lnTo>
                    <a:pt x="235" y="4"/>
                  </a:lnTo>
                  <a:lnTo>
                    <a:pt x="245" y="0"/>
                  </a:lnTo>
                  <a:lnTo>
                    <a:pt x="253" y="4"/>
                  </a:lnTo>
                  <a:lnTo>
                    <a:pt x="260" y="11"/>
                  </a:lnTo>
                  <a:lnTo>
                    <a:pt x="264" y="88"/>
                  </a:lnTo>
                  <a:lnTo>
                    <a:pt x="390" y="88"/>
                  </a:lnTo>
                  <a:lnTo>
                    <a:pt x="403" y="81"/>
                  </a:lnTo>
                  <a:lnTo>
                    <a:pt x="489" y="79"/>
                  </a:lnTo>
                  <a:lnTo>
                    <a:pt x="499" y="66"/>
                  </a:lnTo>
                  <a:lnTo>
                    <a:pt x="514" y="66"/>
                  </a:lnTo>
                  <a:lnTo>
                    <a:pt x="514" y="79"/>
                  </a:lnTo>
                  <a:lnTo>
                    <a:pt x="520" y="79"/>
                  </a:lnTo>
                  <a:lnTo>
                    <a:pt x="520" y="117"/>
                  </a:lnTo>
                  <a:lnTo>
                    <a:pt x="496" y="117"/>
                  </a:lnTo>
                  <a:lnTo>
                    <a:pt x="486" y="110"/>
                  </a:lnTo>
                  <a:lnTo>
                    <a:pt x="264" y="110"/>
                  </a:lnTo>
                  <a:lnTo>
                    <a:pt x="264" y="120"/>
                  </a:lnTo>
                  <a:lnTo>
                    <a:pt x="245" y="120"/>
                  </a:lnTo>
                  <a:lnTo>
                    <a:pt x="245" y="117"/>
                  </a:lnTo>
                  <a:lnTo>
                    <a:pt x="207" y="117"/>
                  </a:lnTo>
                  <a:lnTo>
                    <a:pt x="207" y="136"/>
                  </a:lnTo>
                  <a:lnTo>
                    <a:pt x="194" y="136"/>
                  </a:lnTo>
                  <a:lnTo>
                    <a:pt x="183" y="156"/>
                  </a:lnTo>
                  <a:close/>
                  <a:moveTo>
                    <a:pt x="47" y="161"/>
                  </a:moveTo>
                  <a:lnTo>
                    <a:pt x="170" y="164"/>
                  </a:lnTo>
                  <a:lnTo>
                    <a:pt x="161" y="169"/>
                  </a:lnTo>
                  <a:lnTo>
                    <a:pt x="51" y="169"/>
                  </a:lnTo>
                  <a:lnTo>
                    <a:pt x="50" y="168"/>
                  </a:lnTo>
                  <a:lnTo>
                    <a:pt x="50" y="167"/>
                  </a:lnTo>
                  <a:lnTo>
                    <a:pt x="49" y="166"/>
                  </a:lnTo>
                  <a:lnTo>
                    <a:pt x="49" y="164"/>
                  </a:lnTo>
                  <a:lnTo>
                    <a:pt x="48" y="164"/>
                  </a:lnTo>
                  <a:lnTo>
                    <a:pt x="48" y="163"/>
                  </a:lnTo>
                  <a:lnTo>
                    <a:pt x="47" y="162"/>
                  </a:lnTo>
                  <a:lnTo>
                    <a:pt x="47" y="16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766960" y="2789280"/>
              <a:ext cx="380880" cy="379440"/>
            </a:xfrm>
            <a:custGeom>
              <a:avLst/>
              <a:gdLst/>
              <a:ahLst/>
              <a:rect l="l" t="t" r="r" b="b"/>
              <a:pathLst>
                <a:path w="1442" h="1436">
                  <a:moveTo>
                    <a:pt x="762" y="579"/>
                  </a:moveTo>
                  <a:lnTo>
                    <a:pt x="790" y="559"/>
                  </a:lnTo>
                  <a:lnTo>
                    <a:pt x="813" y="545"/>
                  </a:lnTo>
                  <a:lnTo>
                    <a:pt x="837" y="531"/>
                  </a:lnTo>
                  <a:lnTo>
                    <a:pt x="863" y="520"/>
                  </a:lnTo>
                  <a:lnTo>
                    <a:pt x="816" y="490"/>
                  </a:lnTo>
                  <a:lnTo>
                    <a:pt x="793" y="474"/>
                  </a:lnTo>
                  <a:lnTo>
                    <a:pt x="770" y="457"/>
                  </a:lnTo>
                  <a:lnTo>
                    <a:pt x="772" y="488"/>
                  </a:lnTo>
                  <a:lnTo>
                    <a:pt x="767" y="516"/>
                  </a:lnTo>
                  <a:lnTo>
                    <a:pt x="762" y="579"/>
                  </a:lnTo>
                  <a:close/>
                  <a:moveTo>
                    <a:pt x="46" y="583"/>
                  </a:moveTo>
                  <a:lnTo>
                    <a:pt x="50" y="578"/>
                  </a:lnTo>
                  <a:lnTo>
                    <a:pt x="54" y="573"/>
                  </a:lnTo>
                  <a:lnTo>
                    <a:pt x="59" y="568"/>
                  </a:lnTo>
                  <a:lnTo>
                    <a:pt x="63" y="562"/>
                  </a:lnTo>
                  <a:lnTo>
                    <a:pt x="68" y="558"/>
                  </a:lnTo>
                  <a:lnTo>
                    <a:pt x="73" y="553"/>
                  </a:lnTo>
                  <a:lnTo>
                    <a:pt x="78" y="547"/>
                  </a:lnTo>
                  <a:lnTo>
                    <a:pt x="82" y="542"/>
                  </a:lnTo>
                  <a:lnTo>
                    <a:pt x="99" y="542"/>
                  </a:lnTo>
                  <a:lnTo>
                    <a:pt x="99" y="550"/>
                  </a:lnTo>
                  <a:lnTo>
                    <a:pt x="104" y="550"/>
                  </a:lnTo>
                  <a:lnTo>
                    <a:pt x="107" y="555"/>
                  </a:lnTo>
                  <a:lnTo>
                    <a:pt x="110" y="564"/>
                  </a:lnTo>
                  <a:lnTo>
                    <a:pt x="112" y="578"/>
                  </a:lnTo>
                  <a:lnTo>
                    <a:pt x="112" y="591"/>
                  </a:lnTo>
                  <a:lnTo>
                    <a:pt x="110" y="599"/>
                  </a:lnTo>
                  <a:lnTo>
                    <a:pt x="105" y="603"/>
                  </a:lnTo>
                  <a:lnTo>
                    <a:pt x="112" y="607"/>
                  </a:lnTo>
                  <a:lnTo>
                    <a:pt x="120" y="607"/>
                  </a:lnTo>
                  <a:lnTo>
                    <a:pt x="127" y="603"/>
                  </a:lnTo>
                  <a:lnTo>
                    <a:pt x="132" y="597"/>
                  </a:lnTo>
                  <a:lnTo>
                    <a:pt x="130" y="587"/>
                  </a:lnTo>
                  <a:lnTo>
                    <a:pt x="112" y="591"/>
                  </a:lnTo>
                  <a:lnTo>
                    <a:pt x="112" y="578"/>
                  </a:lnTo>
                  <a:lnTo>
                    <a:pt x="133" y="574"/>
                  </a:lnTo>
                  <a:lnTo>
                    <a:pt x="141" y="578"/>
                  </a:lnTo>
                  <a:lnTo>
                    <a:pt x="146" y="579"/>
                  </a:lnTo>
                  <a:lnTo>
                    <a:pt x="154" y="584"/>
                  </a:lnTo>
                  <a:lnTo>
                    <a:pt x="149" y="558"/>
                  </a:lnTo>
                  <a:lnTo>
                    <a:pt x="143" y="531"/>
                  </a:lnTo>
                  <a:lnTo>
                    <a:pt x="158" y="463"/>
                  </a:lnTo>
                  <a:lnTo>
                    <a:pt x="193" y="429"/>
                  </a:lnTo>
                  <a:lnTo>
                    <a:pt x="227" y="396"/>
                  </a:lnTo>
                  <a:lnTo>
                    <a:pt x="262" y="364"/>
                  </a:lnTo>
                  <a:lnTo>
                    <a:pt x="297" y="332"/>
                  </a:lnTo>
                  <a:lnTo>
                    <a:pt x="334" y="301"/>
                  </a:lnTo>
                  <a:lnTo>
                    <a:pt x="370" y="270"/>
                  </a:lnTo>
                  <a:lnTo>
                    <a:pt x="408" y="240"/>
                  </a:lnTo>
                  <a:lnTo>
                    <a:pt x="444" y="212"/>
                  </a:lnTo>
                  <a:lnTo>
                    <a:pt x="482" y="183"/>
                  </a:lnTo>
                  <a:lnTo>
                    <a:pt x="521" y="155"/>
                  </a:lnTo>
                  <a:lnTo>
                    <a:pt x="559" y="128"/>
                  </a:lnTo>
                  <a:lnTo>
                    <a:pt x="600" y="100"/>
                  </a:lnTo>
                  <a:lnTo>
                    <a:pt x="639" y="75"/>
                  </a:lnTo>
                  <a:lnTo>
                    <a:pt x="679" y="49"/>
                  </a:lnTo>
                  <a:lnTo>
                    <a:pt x="720" y="24"/>
                  </a:lnTo>
                  <a:lnTo>
                    <a:pt x="761" y="0"/>
                  </a:lnTo>
                  <a:lnTo>
                    <a:pt x="762" y="17"/>
                  </a:lnTo>
                  <a:lnTo>
                    <a:pt x="762" y="37"/>
                  </a:lnTo>
                  <a:lnTo>
                    <a:pt x="778" y="40"/>
                  </a:lnTo>
                  <a:lnTo>
                    <a:pt x="798" y="76"/>
                  </a:lnTo>
                  <a:lnTo>
                    <a:pt x="948" y="234"/>
                  </a:lnTo>
                  <a:lnTo>
                    <a:pt x="953" y="246"/>
                  </a:lnTo>
                  <a:lnTo>
                    <a:pt x="956" y="257"/>
                  </a:lnTo>
                  <a:lnTo>
                    <a:pt x="953" y="268"/>
                  </a:lnTo>
                  <a:lnTo>
                    <a:pt x="948" y="274"/>
                  </a:lnTo>
                  <a:lnTo>
                    <a:pt x="940" y="276"/>
                  </a:lnTo>
                  <a:lnTo>
                    <a:pt x="940" y="288"/>
                  </a:lnTo>
                  <a:lnTo>
                    <a:pt x="936" y="299"/>
                  </a:lnTo>
                  <a:lnTo>
                    <a:pt x="930" y="305"/>
                  </a:lnTo>
                  <a:lnTo>
                    <a:pt x="936" y="312"/>
                  </a:lnTo>
                  <a:lnTo>
                    <a:pt x="940" y="320"/>
                  </a:lnTo>
                  <a:lnTo>
                    <a:pt x="949" y="334"/>
                  </a:lnTo>
                  <a:lnTo>
                    <a:pt x="967" y="345"/>
                  </a:lnTo>
                  <a:lnTo>
                    <a:pt x="980" y="353"/>
                  </a:lnTo>
                  <a:lnTo>
                    <a:pt x="993" y="364"/>
                  </a:lnTo>
                  <a:lnTo>
                    <a:pt x="1006" y="373"/>
                  </a:lnTo>
                  <a:lnTo>
                    <a:pt x="1041" y="362"/>
                  </a:lnTo>
                  <a:lnTo>
                    <a:pt x="1061" y="358"/>
                  </a:lnTo>
                  <a:lnTo>
                    <a:pt x="1080" y="353"/>
                  </a:lnTo>
                  <a:lnTo>
                    <a:pt x="1094" y="349"/>
                  </a:lnTo>
                  <a:lnTo>
                    <a:pt x="1149" y="312"/>
                  </a:lnTo>
                  <a:lnTo>
                    <a:pt x="1219" y="234"/>
                  </a:lnTo>
                  <a:lnTo>
                    <a:pt x="1228" y="237"/>
                  </a:lnTo>
                  <a:lnTo>
                    <a:pt x="1267" y="193"/>
                  </a:lnTo>
                  <a:lnTo>
                    <a:pt x="1269" y="182"/>
                  </a:lnTo>
                  <a:lnTo>
                    <a:pt x="1276" y="171"/>
                  </a:lnTo>
                  <a:lnTo>
                    <a:pt x="1287" y="157"/>
                  </a:lnTo>
                  <a:lnTo>
                    <a:pt x="1442" y="154"/>
                  </a:lnTo>
                  <a:lnTo>
                    <a:pt x="1339" y="213"/>
                  </a:lnTo>
                  <a:lnTo>
                    <a:pt x="1320" y="234"/>
                  </a:lnTo>
                  <a:lnTo>
                    <a:pt x="1289" y="286"/>
                  </a:lnTo>
                  <a:lnTo>
                    <a:pt x="1293" y="299"/>
                  </a:lnTo>
                  <a:lnTo>
                    <a:pt x="1215" y="433"/>
                  </a:lnTo>
                  <a:lnTo>
                    <a:pt x="1191" y="503"/>
                  </a:lnTo>
                  <a:lnTo>
                    <a:pt x="1160" y="527"/>
                  </a:lnTo>
                  <a:lnTo>
                    <a:pt x="1129" y="547"/>
                  </a:lnTo>
                  <a:lnTo>
                    <a:pt x="1090" y="564"/>
                  </a:lnTo>
                  <a:lnTo>
                    <a:pt x="1064" y="568"/>
                  </a:lnTo>
                  <a:lnTo>
                    <a:pt x="1040" y="571"/>
                  </a:lnTo>
                  <a:lnTo>
                    <a:pt x="1044" y="636"/>
                  </a:lnTo>
                  <a:lnTo>
                    <a:pt x="1044" y="713"/>
                  </a:lnTo>
                  <a:lnTo>
                    <a:pt x="1035" y="804"/>
                  </a:lnTo>
                  <a:lnTo>
                    <a:pt x="1020" y="889"/>
                  </a:lnTo>
                  <a:lnTo>
                    <a:pt x="1000" y="975"/>
                  </a:lnTo>
                  <a:lnTo>
                    <a:pt x="982" y="1033"/>
                  </a:lnTo>
                  <a:lnTo>
                    <a:pt x="967" y="1045"/>
                  </a:lnTo>
                  <a:lnTo>
                    <a:pt x="949" y="1058"/>
                  </a:lnTo>
                  <a:lnTo>
                    <a:pt x="937" y="1120"/>
                  </a:lnTo>
                  <a:lnTo>
                    <a:pt x="937" y="1130"/>
                  </a:lnTo>
                  <a:lnTo>
                    <a:pt x="943" y="1141"/>
                  </a:lnTo>
                  <a:lnTo>
                    <a:pt x="943" y="1152"/>
                  </a:lnTo>
                  <a:lnTo>
                    <a:pt x="934" y="1165"/>
                  </a:lnTo>
                  <a:lnTo>
                    <a:pt x="948" y="1177"/>
                  </a:lnTo>
                  <a:lnTo>
                    <a:pt x="956" y="1187"/>
                  </a:lnTo>
                  <a:lnTo>
                    <a:pt x="962" y="1204"/>
                  </a:lnTo>
                  <a:lnTo>
                    <a:pt x="976" y="1209"/>
                  </a:lnTo>
                  <a:lnTo>
                    <a:pt x="982" y="1216"/>
                  </a:lnTo>
                  <a:lnTo>
                    <a:pt x="989" y="1226"/>
                  </a:lnTo>
                  <a:lnTo>
                    <a:pt x="995" y="1237"/>
                  </a:lnTo>
                  <a:lnTo>
                    <a:pt x="1002" y="1249"/>
                  </a:lnTo>
                  <a:lnTo>
                    <a:pt x="1040" y="1268"/>
                  </a:lnTo>
                  <a:lnTo>
                    <a:pt x="1064" y="1279"/>
                  </a:lnTo>
                  <a:lnTo>
                    <a:pt x="1075" y="1288"/>
                  </a:lnTo>
                  <a:lnTo>
                    <a:pt x="1078" y="1299"/>
                  </a:lnTo>
                  <a:lnTo>
                    <a:pt x="1078" y="1319"/>
                  </a:lnTo>
                  <a:lnTo>
                    <a:pt x="1059" y="1324"/>
                  </a:lnTo>
                  <a:lnTo>
                    <a:pt x="1033" y="1327"/>
                  </a:lnTo>
                  <a:lnTo>
                    <a:pt x="991" y="1325"/>
                  </a:lnTo>
                  <a:lnTo>
                    <a:pt x="953" y="1319"/>
                  </a:lnTo>
                  <a:lnTo>
                    <a:pt x="912" y="1306"/>
                  </a:lnTo>
                  <a:lnTo>
                    <a:pt x="882" y="1291"/>
                  </a:lnTo>
                  <a:lnTo>
                    <a:pt x="857" y="1275"/>
                  </a:lnTo>
                  <a:lnTo>
                    <a:pt x="832" y="1273"/>
                  </a:lnTo>
                  <a:lnTo>
                    <a:pt x="813" y="1270"/>
                  </a:lnTo>
                  <a:lnTo>
                    <a:pt x="794" y="1264"/>
                  </a:lnTo>
                  <a:lnTo>
                    <a:pt x="777" y="1257"/>
                  </a:lnTo>
                  <a:lnTo>
                    <a:pt x="772" y="1236"/>
                  </a:lnTo>
                  <a:lnTo>
                    <a:pt x="774" y="1218"/>
                  </a:lnTo>
                  <a:lnTo>
                    <a:pt x="777" y="1200"/>
                  </a:lnTo>
                  <a:lnTo>
                    <a:pt x="780" y="1185"/>
                  </a:lnTo>
                  <a:lnTo>
                    <a:pt x="787" y="1169"/>
                  </a:lnTo>
                  <a:lnTo>
                    <a:pt x="794" y="1154"/>
                  </a:lnTo>
                  <a:lnTo>
                    <a:pt x="803" y="1141"/>
                  </a:lnTo>
                  <a:lnTo>
                    <a:pt x="803" y="1125"/>
                  </a:lnTo>
                  <a:lnTo>
                    <a:pt x="803" y="1110"/>
                  </a:lnTo>
                  <a:lnTo>
                    <a:pt x="807" y="1099"/>
                  </a:lnTo>
                  <a:lnTo>
                    <a:pt x="813" y="1089"/>
                  </a:lnTo>
                  <a:lnTo>
                    <a:pt x="813" y="1036"/>
                  </a:lnTo>
                  <a:lnTo>
                    <a:pt x="794" y="1027"/>
                  </a:lnTo>
                  <a:lnTo>
                    <a:pt x="796" y="1014"/>
                  </a:lnTo>
                  <a:lnTo>
                    <a:pt x="800" y="1001"/>
                  </a:lnTo>
                  <a:lnTo>
                    <a:pt x="800" y="983"/>
                  </a:lnTo>
                  <a:lnTo>
                    <a:pt x="796" y="964"/>
                  </a:lnTo>
                  <a:lnTo>
                    <a:pt x="800" y="934"/>
                  </a:lnTo>
                  <a:lnTo>
                    <a:pt x="807" y="895"/>
                  </a:lnTo>
                  <a:lnTo>
                    <a:pt x="818" y="856"/>
                  </a:lnTo>
                  <a:lnTo>
                    <a:pt x="832" y="814"/>
                  </a:lnTo>
                  <a:lnTo>
                    <a:pt x="807" y="845"/>
                  </a:lnTo>
                  <a:lnTo>
                    <a:pt x="778" y="875"/>
                  </a:lnTo>
                  <a:lnTo>
                    <a:pt x="754" y="900"/>
                  </a:lnTo>
                  <a:lnTo>
                    <a:pt x="726" y="926"/>
                  </a:lnTo>
                  <a:lnTo>
                    <a:pt x="702" y="945"/>
                  </a:lnTo>
                  <a:lnTo>
                    <a:pt x="671" y="970"/>
                  </a:lnTo>
                  <a:lnTo>
                    <a:pt x="643" y="991"/>
                  </a:lnTo>
                  <a:lnTo>
                    <a:pt x="608" y="1011"/>
                  </a:lnTo>
                  <a:lnTo>
                    <a:pt x="575" y="1032"/>
                  </a:lnTo>
                  <a:lnTo>
                    <a:pt x="544" y="1042"/>
                  </a:lnTo>
                  <a:lnTo>
                    <a:pt x="513" y="1055"/>
                  </a:lnTo>
                  <a:lnTo>
                    <a:pt x="485" y="1065"/>
                  </a:lnTo>
                  <a:lnTo>
                    <a:pt x="459" y="1167"/>
                  </a:lnTo>
                  <a:lnTo>
                    <a:pt x="456" y="1196"/>
                  </a:lnTo>
                  <a:lnTo>
                    <a:pt x="451" y="1226"/>
                  </a:lnTo>
                  <a:lnTo>
                    <a:pt x="448" y="1250"/>
                  </a:lnTo>
                  <a:lnTo>
                    <a:pt x="441" y="1275"/>
                  </a:lnTo>
                  <a:lnTo>
                    <a:pt x="432" y="1299"/>
                  </a:lnTo>
                  <a:lnTo>
                    <a:pt x="418" y="1325"/>
                  </a:lnTo>
                  <a:lnTo>
                    <a:pt x="405" y="1345"/>
                  </a:lnTo>
                  <a:lnTo>
                    <a:pt x="391" y="1362"/>
                  </a:lnTo>
                  <a:lnTo>
                    <a:pt x="386" y="1380"/>
                  </a:lnTo>
                  <a:lnTo>
                    <a:pt x="374" y="1398"/>
                  </a:lnTo>
                  <a:lnTo>
                    <a:pt x="358" y="1413"/>
                  </a:lnTo>
                  <a:lnTo>
                    <a:pt x="332" y="1426"/>
                  </a:lnTo>
                  <a:lnTo>
                    <a:pt x="294" y="1436"/>
                  </a:lnTo>
                  <a:lnTo>
                    <a:pt x="260" y="1436"/>
                  </a:lnTo>
                  <a:lnTo>
                    <a:pt x="228" y="1428"/>
                  </a:lnTo>
                  <a:lnTo>
                    <a:pt x="205" y="1420"/>
                  </a:lnTo>
                  <a:lnTo>
                    <a:pt x="184" y="1405"/>
                  </a:lnTo>
                  <a:lnTo>
                    <a:pt x="171" y="1392"/>
                  </a:lnTo>
                  <a:lnTo>
                    <a:pt x="155" y="1387"/>
                  </a:lnTo>
                  <a:lnTo>
                    <a:pt x="138" y="1358"/>
                  </a:lnTo>
                  <a:lnTo>
                    <a:pt x="127" y="1325"/>
                  </a:lnTo>
                  <a:lnTo>
                    <a:pt x="118" y="1297"/>
                  </a:lnTo>
                  <a:lnTo>
                    <a:pt x="112" y="1262"/>
                  </a:lnTo>
                  <a:lnTo>
                    <a:pt x="112" y="1229"/>
                  </a:lnTo>
                  <a:lnTo>
                    <a:pt x="107" y="1172"/>
                  </a:lnTo>
                  <a:lnTo>
                    <a:pt x="125" y="1139"/>
                  </a:lnTo>
                  <a:lnTo>
                    <a:pt x="132" y="1097"/>
                  </a:lnTo>
                  <a:lnTo>
                    <a:pt x="145" y="1079"/>
                  </a:lnTo>
                  <a:lnTo>
                    <a:pt x="141" y="1055"/>
                  </a:lnTo>
                  <a:lnTo>
                    <a:pt x="136" y="1033"/>
                  </a:lnTo>
                  <a:lnTo>
                    <a:pt x="99" y="1005"/>
                  </a:lnTo>
                  <a:lnTo>
                    <a:pt x="117" y="981"/>
                  </a:lnTo>
                  <a:lnTo>
                    <a:pt x="136" y="926"/>
                  </a:lnTo>
                  <a:lnTo>
                    <a:pt x="120" y="928"/>
                  </a:lnTo>
                  <a:lnTo>
                    <a:pt x="107" y="923"/>
                  </a:lnTo>
                  <a:lnTo>
                    <a:pt x="99" y="920"/>
                  </a:lnTo>
                  <a:lnTo>
                    <a:pt x="92" y="908"/>
                  </a:lnTo>
                  <a:lnTo>
                    <a:pt x="90" y="900"/>
                  </a:lnTo>
                  <a:lnTo>
                    <a:pt x="79" y="902"/>
                  </a:lnTo>
                  <a:lnTo>
                    <a:pt x="66" y="900"/>
                  </a:lnTo>
                  <a:lnTo>
                    <a:pt x="55" y="893"/>
                  </a:lnTo>
                  <a:lnTo>
                    <a:pt x="43" y="884"/>
                  </a:lnTo>
                  <a:lnTo>
                    <a:pt x="35" y="869"/>
                  </a:lnTo>
                  <a:lnTo>
                    <a:pt x="27" y="856"/>
                  </a:lnTo>
                  <a:lnTo>
                    <a:pt x="22" y="840"/>
                  </a:lnTo>
                  <a:lnTo>
                    <a:pt x="14" y="836"/>
                  </a:lnTo>
                  <a:lnTo>
                    <a:pt x="2" y="749"/>
                  </a:lnTo>
                  <a:lnTo>
                    <a:pt x="11" y="745"/>
                  </a:lnTo>
                  <a:lnTo>
                    <a:pt x="11" y="708"/>
                  </a:lnTo>
                  <a:lnTo>
                    <a:pt x="0" y="707"/>
                  </a:lnTo>
                  <a:lnTo>
                    <a:pt x="2" y="685"/>
                  </a:lnTo>
                  <a:lnTo>
                    <a:pt x="9" y="667"/>
                  </a:lnTo>
                  <a:lnTo>
                    <a:pt x="11" y="656"/>
                  </a:lnTo>
                  <a:lnTo>
                    <a:pt x="17" y="648"/>
                  </a:lnTo>
                  <a:lnTo>
                    <a:pt x="22" y="632"/>
                  </a:lnTo>
                  <a:lnTo>
                    <a:pt x="24" y="623"/>
                  </a:lnTo>
                  <a:lnTo>
                    <a:pt x="29" y="615"/>
                  </a:lnTo>
                  <a:lnTo>
                    <a:pt x="53" y="607"/>
                  </a:lnTo>
                  <a:lnTo>
                    <a:pt x="43" y="591"/>
                  </a:lnTo>
                  <a:lnTo>
                    <a:pt x="46" y="583"/>
                  </a:lnTo>
                  <a:close/>
                  <a:moveTo>
                    <a:pt x="151" y="609"/>
                  </a:moveTo>
                  <a:lnTo>
                    <a:pt x="141" y="618"/>
                  </a:lnTo>
                  <a:lnTo>
                    <a:pt x="145" y="625"/>
                  </a:lnTo>
                  <a:lnTo>
                    <a:pt x="149" y="634"/>
                  </a:lnTo>
                  <a:lnTo>
                    <a:pt x="151" y="625"/>
                  </a:lnTo>
                  <a:lnTo>
                    <a:pt x="154" y="617"/>
                  </a:lnTo>
                  <a:lnTo>
                    <a:pt x="151" y="60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766960" y="2940120"/>
              <a:ext cx="285840" cy="228600"/>
            </a:xfrm>
            <a:custGeom>
              <a:avLst/>
              <a:gdLst/>
              <a:ahLst/>
              <a:rect l="l" t="t" r="r" b="b"/>
              <a:pathLst>
                <a:path w="1078" h="865">
                  <a:moveTo>
                    <a:pt x="1040" y="0"/>
                  </a:moveTo>
                  <a:lnTo>
                    <a:pt x="1044" y="65"/>
                  </a:lnTo>
                  <a:lnTo>
                    <a:pt x="1044" y="142"/>
                  </a:lnTo>
                  <a:lnTo>
                    <a:pt x="1035" y="233"/>
                  </a:lnTo>
                  <a:lnTo>
                    <a:pt x="1020" y="318"/>
                  </a:lnTo>
                  <a:lnTo>
                    <a:pt x="1000" y="404"/>
                  </a:lnTo>
                  <a:lnTo>
                    <a:pt x="982" y="462"/>
                  </a:lnTo>
                  <a:lnTo>
                    <a:pt x="967" y="474"/>
                  </a:lnTo>
                  <a:lnTo>
                    <a:pt x="949" y="487"/>
                  </a:lnTo>
                  <a:lnTo>
                    <a:pt x="937" y="549"/>
                  </a:lnTo>
                  <a:lnTo>
                    <a:pt x="937" y="559"/>
                  </a:lnTo>
                  <a:lnTo>
                    <a:pt x="943" y="570"/>
                  </a:lnTo>
                  <a:lnTo>
                    <a:pt x="943" y="581"/>
                  </a:lnTo>
                  <a:lnTo>
                    <a:pt x="934" y="594"/>
                  </a:lnTo>
                  <a:lnTo>
                    <a:pt x="948" y="606"/>
                  </a:lnTo>
                  <a:lnTo>
                    <a:pt x="956" y="616"/>
                  </a:lnTo>
                  <a:lnTo>
                    <a:pt x="962" y="633"/>
                  </a:lnTo>
                  <a:lnTo>
                    <a:pt x="976" y="638"/>
                  </a:lnTo>
                  <a:lnTo>
                    <a:pt x="982" y="645"/>
                  </a:lnTo>
                  <a:lnTo>
                    <a:pt x="989" y="655"/>
                  </a:lnTo>
                  <a:lnTo>
                    <a:pt x="995" y="666"/>
                  </a:lnTo>
                  <a:lnTo>
                    <a:pt x="1002" y="678"/>
                  </a:lnTo>
                  <a:lnTo>
                    <a:pt x="1040" y="697"/>
                  </a:lnTo>
                  <a:lnTo>
                    <a:pt x="1064" y="708"/>
                  </a:lnTo>
                  <a:lnTo>
                    <a:pt x="1075" y="717"/>
                  </a:lnTo>
                  <a:lnTo>
                    <a:pt x="1078" y="728"/>
                  </a:lnTo>
                  <a:lnTo>
                    <a:pt x="1078" y="748"/>
                  </a:lnTo>
                  <a:lnTo>
                    <a:pt x="1059" y="753"/>
                  </a:lnTo>
                  <a:lnTo>
                    <a:pt x="1033" y="756"/>
                  </a:lnTo>
                  <a:lnTo>
                    <a:pt x="991" y="754"/>
                  </a:lnTo>
                  <a:lnTo>
                    <a:pt x="953" y="748"/>
                  </a:lnTo>
                  <a:lnTo>
                    <a:pt x="912" y="735"/>
                  </a:lnTo>
                  <a:lnTo>
                    <a:pt x="882" y="720"/>
                  </a:lnTo>
                  <a:lnTo>
                    <a:pt x="857" y="704"/>
                  </a:lnTo>
                  <a:lnTo>
                    <a:pt x="832" y="702"/>
                  </a:lnTo>
                  <a:lnTo>
                    <a:pt x="813" y="699"/>
                  </a:lnTo>
                  <a:lnTo>
                    <a:pt x="794" y="693"/>
                  </a:lnTo>
                  <a:lnTo>
                    <a:pt x="777" y="686"/>
                  </a:lnTo>
                  <a:lnTo>
                    <a:pt x="772" y="665"/>
                  </a:lnTo>
                  <a:lnTo>
                    <a:pt x="774" y="647"/>
                  </a:lnTo>
                  <a:lnTo>
                    <a:pt x="777" y="629"/>
                  </a:lnTo>
                  <a:lnTo>
                    <a:pt x="780" y="614"/>
                  </a:lnTo>
                  <a:lnTo>
                    <a:pt x="787" y="598"/>
                  </a:lnTo>
                  <a:lnTo>
                    <a:pt x="794" y="583"/>
                  </a:lnTo>
                  <a:lnTo>
                    <a:pt x="803" y="570"/>
                  </a:lnTo>
                  <a:lnTo>
                    <a:pt x="803" y="554"/>
                  </a:lnTo>
                  <a:lnTo>
                    <a:pt x="803" y="539"/>
                  </a:lnTo>
                  <a:lnTo>
                    <a:pt x="807" y="528"/>
                  </a:lnTo>
                  <a:lnTo>
                    <a:pt x="813" y="518"/>
                  </a:lnTo>
                  <a:lnTo>
                    <a:pt x="813" y="465"/>
                  </a:lnTo>
                  <a:lnTo>
                    <a:pt x="794" y="456"/>
                  </a:lnTo>
                  <a:lnTo>
                    <a:pt x="796" y="443"/>
                  </a:lnTo>
                  <a:lnTo>
                    <a:pt x="800" y="430"/>
                  </a:lnTo>
                  <a:lnTo>
                    <a:pt x="800" y="412"/>
                  </a:lnTo>
                  <a:lnTo>
                    <a:pt x="796" y="393"/>
                  </a:lnTo>
                  <a:lnTo>
                    <a:pt x="800" y="363"/>
                  </a:lnTo>
                  <a:lnTo>
                    <a:pt x="807" y="324"/>
                  </a:lnTo>
                  <a:lnTo>
                    <a:pt x="818" y="285"/>
                  </a:lnTo>
                  <a:lnTo>
                    <a:pt x="832" y="243"/>
                  </a:lnTo>
                  <a:lnTo>
                    <a:pt x="807" y="274"/>
                  </a:lnTo>
                  <a:lnTo>
                    <a:pt x="778" y="304"/>
                  </a:lnTo>
                  <a:lnTo>
                    <a:pt x="754" y="329"/>
                  </a:lnTo>
                  <a:lnTo>
                    <a:pt x="726" y="355"/>
                  </a:lnTo>
                  <a:lnTo>
                    <a:pt x="702" y="374"/>
                  </a:lnTo>
                  <a:lnTo>
                    <a:pt x="671" y="399"/>
                  </a:lnTo>
                  <a:lnTo>
                    <a:pt x="643" y="420"/>
                  </a:lnTo>
                  <a:lnTo>
                    <a:pt x="608" y="440"/>
                  </a:lnTo>
                  <a:lnTo>
                    <a:pt x="575" y="461"/>
                  </a:lnTo>
                  <a:lnTo>
                    <a:pt x="544" y="471"/>
                  </a:lnTo>
                  <a:lnTo>
                    <a:pt x="513" y="484"/>
                  </a:lnTo>
                  <a:lnTo>
                    <a:pt x="485" y="494"/>
                  </a:lnTo>
                  <a:lnTo>
                    <a:pt x="459" y="596"/>
                  </a:lnTo>
                  <a:lnTo>
                    <a:pt x="456" y="625"/>
                  </a:lnTo>
                  <a:lnTo>
                    <a:pt x="451" y="655"/>
                  </a:lnTo>
                  <a:lnTo>
                    <a:pt x="448" y="679"/>
                  </a:lnTo>
                  <a:lnTo>
                    <a:pt x="441" y="704"/>
                  </a:lnTo>
                  <a:lnTo>
                    <a:pt x="432" y="728"/>
                  </a:lnTo>
                  <a:lnTo>
                    <a:pt x="418" y="754"/>
                  </a:lnTo>
                  <a:lnTo>
                    <a:pt x="405" y="774"/>
                  </a:lnTo>
                  <a:lnTo>
                    <a:pt x="391" y="791"/>
                  </a:lnTo>
                  <a:lnTo>
                    <a:pt x="386" y="809"/>
                  </a:lnTo>
                  <a:lnTo>
                    <a:pt x="374" y="827"/>
                  </a:lnTo>
                  <a:lnTo>
                    <a:pt x="358" y="842"/>
                  </a:lnTo>
                  <a:lnTo>
                    <a:pt x="332" y="855"/>
                  </a:lnTo>
                  <a:lnTo>
                    <a:pt x="294" y="865"/>
                  </a:lnTo>
                  <a:lnTo>
                    <a:pt x="260" y="865"/>
                  </a:lnTo>
                  <a:lnTo>
                    <a:pt x="228" y="857"/>
                  </a:lnTo>
                  <a:lnTo>
                    <a:pt x="205" y="849"/>
                  </a:lnTo>
                  <a:lnTo>
                    <a:pt x="184" y="834"/>
                  </a:lnTo>
                  <a:lnTo>
                    <a:pt x="171" y="821"/>
                  </a:lnTo>
                  <a:lnTo>
                    <a:pt x="155" y="816"/>
                  </a:lnTo>
                  <a:lnTo>
                    <a:pt x="138" y="787"/>
                  </a:lnTo>
                  <a:lnTo>
                    <a:pt x="127" y="754"/>
                  </a:lnTo>
                  <a:lnTo>
                    <a:pt x="118" y="726"/>
                  </a:lnTo>
                  <a:lnTo>
                    <a:pt x="112" y="691"/>
                  </a:lnTo>
                  <a:lnTo>
                    <a:pt x="112" y="658"/>
                  </a:lnTo>
                  <a:lnTo>
                    <a:pt x="107" y="601"/>
                  </a:lnTo>
                  <a:lnTo>
                    <a:pt x="125" y="568"/>
                  </a:lnTo>
                  <a:lnTo>
                    <a:pt x="132" y="526"/>
                  </a:lnTo>
                  <a:lnTo>
                    <a:pt x="145" y="508"/>
                  </a:lnTo>
                  <a:lnTo>
                    <a:pt x="141" y="484"/>
                  </a:lnTo>
                  <a:lnTo>
                    <a:pt x="136" y="462"/>
                  </a:lnTo>
                  <a:lnTo>
                    <a:pt x="99" y="434"/>
                  </a:lnTo>
                  <a:lnTo>
                    <a:pt x="117" y="410"/>
                  </a:lnTo>
                  <a:lnTo>
                    <a:pt x="136" y="355"/>
                  </a:lnTo>
                  <a:lnTo>
                    <a:pt x="120" y="357"/>
                  </a:lnTo>
                  <a:lnTo>
                    <a:pt x="107" y="352"/>
                  </a:lnTo>
                  <a:lnTo>
                    <a:pt x="99" y="349"/>
                  </a:lnTo>
                  <a:lnTo>
                    <a:pt x="92" y="337"/>
                  </a:lnTo>
                  <a:lnTo>
                    <a:pt x="90" y="329"/>
                  </a:lnTo>
                  <a:lnTo>
                    <a:pt x="79" y="331"/>
                  </a:lnTo>
                  <a:lnTo>
                    <a:pt x="66" y="329"/>
                  </a:lnTo>
                  <a:lnTo>
                    <a:pt x="55" y="322"/>
                  </a:lnTo>
                  <a:lnTo>
                    <a:pt x="43" y="313"/>
                  </a:lnTo>
                  <a:lnTo>
                    <a:pt x="35" y="298"/>
                  </a:lnTo>
                  <a:lnTo>
                    <a:pt x="27" y="285"/>
                  </a:lnTo>
                  <a:lnTo>
                    <a:pt x="22" y="269"/>
                  </a:lnTo>
                  <a:lnTo>
                    <a:pt x="14" y="265"/>
                  </a:lnTo>
                  <a:lnTo>
                    <a:pt x="2" y="178"/>
                  </a:lnTo>
                  <a:lnTo>
                    <a:pt x="11" y="174"/>
                  </a:lnTo>
                  <a:lnTo>
                    <a:pt x="11" y="137"/>
                  </a:lnTo>
                  <a:lnTo>
                    <a:pt x="0" y="136"/>
                  </a:lnTo>
                  <a:lnTo>
                    <a:pt x="2" y="114"/>
                  </a:lnTo>
                  <a:lnTo>
                    <a:pt x="9" y="96"/>
                  </a:lnTo>
                  <a:lnTo>
                    <a:pt x="11" y="85"/>
                  </a:lnTo>
                  <a:lnTo>
                    <a:pt x="17" y="77"/>
                  </a:lnTo>
                  <a:lnTo>
                    <a:pt x="22" y="61"/>
                  </a:lnTo>
                  <a:lnTo>
                    <a:pt x="24" y="52"/>
                  </a:lnTo>
                  <a:lnTo>
                    <a:pt x="29" y="44"/>
                  </a:lnTo>
                  <a:lnTo>
                    <a:pt x="53" y="36"/>
                  </a:lnTo>
                  <a:lnTo>
                    <a:pt x="43" y="20"/>
                  </a:lnTo>
                  <a:lnTo>
                    <a:pt x="46" y="1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968560" y="2789280"/>
              <a:ext cx="179280" cy="150840"/>
            </a:xfrm>
            <a:custGeom>
              <a:avLst/>
              <a:gdLst/>
              <a:ahLst/>
              <a:rect l="l" t="t" r="r" b="b"/>
              <a:pathLst>
                <a:path w="681" h="571">
                  <a:moveTo>
                    <a:pt x="0" y="0"/>
                  </a:moveTo>
                  <a:lnTo>
                    <a:pt x="1" y="17"/>
                  </a:lnTo>
                  <a:lnTo>
                    <a:pt x="1" y="37"/>
                  </a:lnTo>
                  <a:lnTo>
                    <a:pt x="17" y="40"/>
                  </a:lnTo>
                  <a:lnTo>
                    <a:pt x="37" y="76"/>
                  </a:lnTo>
                  <a:lnTo>
                    <a:pt x="187" y="234"/>
                  </a:lnTo>
                  <a:lnTo>
                    <a:pt x="192" y="246"/>
                  </a:lnTo>
                  <a:lnTo>
                    <a:pt x="195" y="257"/>
                  </a:lnTo>
                  <a:lnTo>
                    <a:pt x="192" y="268"/>
                  </a:lnTo>
                  <a:lnTo>
                    <a:pt x="187" y="274"/>
                  </a:lnTo>
                  <a:lnTo>
                    <a:pt x="179" y="276"/>
                  </a:lnTo>
                  <a:lnTo>
                    <a:pt x="179" y="288"/>
                  </a:lnTo>
                  <a:lnTo>
                    <a:pt x="175" y="299"/>
                  </a:lnTo>
                  <a:lnTo>
                    <a:pt x="169" y="305"/>
                  </a:lnTo>
                  <a:lnTo>
                    <a:pt x="175" y="312"/>
                  </a:lnTo>
                  <a:lnTo>
                    <a:pt x="179" y="320"/>
                  </a:lnTo>
                  <a:lnTo>
                    <a:pt x="188" y="334"/>
                  </a:lnTo>
                  <a:lnTo>
                    <a:pt x="206" y="345"/>
                  </a:lnTo>
                  <a:lnTo>
                    <a:pt x="219" y="353"/>
                  </a:lnTo>
                  <a:lnTo>
                    <a:pt x="232" y="364"/>
                  </a:lnTo>
                  <a:lnTo>
                    <a:pt x="245" y="373"/>
                  </a:lnTo>
                  <a:lnTo>
                    <a:pt x="280" y="362"/>
                  </a:lnTo>
                  <a:lnTo>
                    <a:pt x="300" y="358"/>
                  </a:lnTo>
                  <a:lnTo>
                    <a:pt x="319" y="353"/>
                  </a:lnTo>
                  <a:lnTo>
                    <a:pt x="333" y="349"/>
                  </a:lnTo>
                  <a:lnTo>
                    <a:pt x="388" y="312"/>
                  </a:lnTo>
                  <a:lnTo>
                    <a:pt x="458" y="234"/>
                  </a:lnTo>
                  <a:lnTo>
                    <a:pt x="467" y="237"/>
                  </a:lnTo>
                  <a:lnTo>
                    <a:pt x="506" y="193"/>
                  </a:lnTo>
                  <a:lnTo>
                    <a:pt x="508" y="182"/>
                  </a:lnTo>
                  <a:lnTo>
                    <a:pt x="515" y="171"/>
                  </a:lnTo>
                  <a:lnTo>
                    <a:pt x="526" y="157"/>
                  </a:lnTo>
                  <a:lnTo>
                    <a:pt x="681" y="154"/>
                  </a:lnTo>
                  <a:lnTo>
                    <a:pt x="578" y="213"/>
                  </a:lnTo>
                  <a:lnTo>
                    <a:pt x="559" y="234"/>
                  </a:lnTo>
                  <a:lnTo>
                    <a:pt x="528" y="286"/>
                  </a:lnTo>
                  <a:lnTo>
                    <a:pt x="532" y="299"/>
                  </a:lnTo>
                  <a:lnTo>
                    <a:pt x="454" y="433"/>
                  </a:lnTo>
                  <a:lnTo>
                    <a:pt x="430" y="503"/>
                  </a:lnTo>
                  <a:lnTo>
                    <a:pt x="399" y="527"/>
                  </a:lnTo>
                  <a:lnTo>
                    <a:pt x="368" y="547"/>
                  </a:lnTo>
                  <a:lnTo>
                    <a:pt x="329" y="564"/>
                  </a:lnTo>
                  <a:lnTo>
                    <a:pt x="303" y="568"/>
                  </a:lnTo>
                  <a:lnTo>
                    <a:pt x="279" y="57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978280" y="2784600"/>
              <a:ext cx="299880" cy="8568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8" y="156"/>
                  </a:moveTo>
                  <a:lnTo>
                    <a:pt x="781" y="148"/>
                  </a:lnTo>
                  <a:lnTo>
                    <a:pt x="665" y="153"/>
                  </a:lnTo>
                  <a:lnTo>
                    <a:pt x="658" y="159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5" y="169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2" y="226"/>
                  </a:lnTo>
                  <a:lnTo>
                    <a:pt x="322" y="302"/>
                  </a:lnTo>
                  <a:lnTo>
                    <a:pt x="233" y="322"/>
                  </a:lnTo>
                  <a:lnTo>
                    <a:pt x="233" y="249"/>
                  </a:lnTo>
                  <a:lnTo>
                    <a:pt x="226" y="229"/>
                  </a:lnTo>
                  <a:lnTo>
                    <a:pt x="226" y="213"/>
                  </a:lnTo>
                  <a:lnTo>
                    <a:pt x="223" y="206"/>
                  </a:lnTo>
                  <a:lnTo>
                    <a:pt x="220" y="201"/>
                  </a:lnTo>
                  <a:lnTo>
                    <a:pt x="215" y="200"/>
                  </a:lnTo>
                  <a:lnTo>
                    <a:pt x="210" y="200"/>
                  </a:lnTo>
                  <a:lnTo>
                    <a:pt x="178" y="197"/>
                  </a:lnTo>
                  <a:lnTo>
                    <a:pt x="189" y="214"/>
                  </a:lnTo>
                  <a:lnTo>
                    <a:pt x="191" y="223"/>
                  </a:lnTo>
                  <a:lnTo>
                    <a:pt x="191" y="229"/>
                  </a:lnTo>
                  <a:lnTo>
                    <a:pt x="187" y="234"/>
                  </a:lnTo>
                  <a:lnTo>
                    <a:pt x="179" y="239"/>
                  </a:lnTo>
                  <a:lnTo>
                    <a:pt x="217" y="239"/>
                  </a:lnTo>
                  <a:lnTo>
                    <a:pt x="221" y="239"/>
                  </a:lnTo>
                  <a:lnTo>
                    <a:pt x="223" y="234"/>
                  </a:lnTo>
                  <a:lnTo>
                    <a:pt x="226" y="229"/>
                  </a:lnTo>
                  <a:lnTo>
                    <a:pt x="233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1"/>
                  </a:lnTo>
                  <a:lnTo>
                    <a:pt x="77" y="71"/>
                  </a:lnTo>
                  <a:lnTo>
                    <a:pt x="88" y="32"/>
                  </a:lnTo>
                  <a:lnTo>
                    <a:pt x="94" y="32"/>
                  </a:lnTo>
                  <a:lnTo>
                    <a:pt x="99" y="17"/>
                  </a:lnTo>
                  <a:lnTo>
                    <a:pt x="107" y="8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7"/>
                  </a:lnTo>
                  <a:lnTo>
                    <a:pt x="344" y="34"/>
                  </a:lnTo>
                  <a:lnTo>
                    <a:pt x="349" y="43"/>
                  </a:lnTo>
                  <a:lnTo>
                    <a:pt x="349" y="55"/>
                  </a:lnTo>
                  <a:lnTo>
                    <a:pt x="347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4" y="61"/>
                  </a:lnTo>
                  <a:lnTo>
                    <a:pt x="337" y="52"/>
                  </a:lnTo>
                  <a:lnTo>
                    <a:pt x="337" y="43"/>
                  </a:lnTo>
                  <a:lnTo>
                    <a:pt x="331" y="37"/>
                  </a:lnTo>
                  <a:lnTo>
                    <a:pt x="322" y="32"/>
                  </a:lnTo>
                  <a:lnTo>
                    <a:pt x="166" y="32"/>
                  </a:lnTo>
                  <a:lnTo>
                    <a:pt x="160" y="40"/>
                  </a:lnTo>
                  <a:lnTo>
                    <a:pt x="156" y="50"/>
                  </a:lnTo>
                  <a:lnTo>
                    <a:pt x="153" y="58"/>
                  </a:lnTo>
                  <a:lnTo>
                    <a:pt x="153" y="65"/>
                  </a:lnTo>
                  <a:lnTo>
                    <a:pt x="156" y="70"/>
                  </a:lnTo>
                  <a:lnTo>
                    <a:pt x="163" y="71"/>
                  </a:lnTo>
                  <a:lnTo>
                    <a:pt x="322" y="71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5" y="68"/>
                  </a:lnTo>
                  <a:lnTo>
                    <a:pt x="815" y="70"/>
                  </a:lnTo>
                  <a:lnTo>
                    <a:pt x="818" y="71"/>
                  </a:lnTo>
                  <a:lnTo>
                    <a:pt x="868" y="71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4" y="26"/>
                  </a:lnTo>
                  <a:lnTo>
                    <a:pt x="813" y="65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5" y="68"/>
                  </a:lnTo>
                  <a:lnTo>
                    <a:pt x="851" y="4"/>
                  </a:lnTo>
                  <a:lnTo>
                    <a:pt x="859" y="0"/>
                  </a:lnTo>
                  <a:lnTo>
                    <a:pt x="868" y="4"/>
                  </a:lnTo>
                  <a:lnTo>
                    <a:pt x="875" y="11"/>
                  </a:lnTo>
                  <a:lnTo>
                    <a:pt x="880" y="87"/>
                  </a:lnTo>
                  <a:lnTo>
                    <a:pt x="1004" y="87"/>
                  </a:lnTo>
                  <a:lnTo>
                    <a:pt x="1017" y="81"/>
                  </a:lnTo>
                  <a:lnTo>
                    <a:pt x="1105" y="78"/>
                  </a:lnTo>
                  <a:lnTo>
                    <a:pt x="1113" y="65"/>
                  </a:lnTo>
                  <a:lnTo>
                    <a:pt x="1129" y="65"/>
                  </a:lnTo>
                  <a:lnTo>
                    <a:pt x="1129" y="78"/>
                  </a:lnTo>
                  <a:lnTo>
                    <a:pt x="1136" y="78"/>
                  </a:lnTo>
                  <a:lnTo>
                    <a:pt x="1136" y="115"/>
                  </a:lnTo>
                  <a:lnTo>
                    <a:pt x="1111" y="115"/>
                  </a:lnTo>
                  <a:lnTo>
                    <a:pt x="1100" y="109"/>
                  </a:lnTo>
                  <a:lnTo>
                    <a:pt x="880" y="109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5"/>
                  </a:lnTo>
                  <a:lnTo>
                    <a:pt x="823" y="115"/>
                  </a:lnTo>
                  <a:lnTo>
                    <a:pt x="823" y="135"/>
                  </a:lnTo>
                  <a:lnTo>
                    <a:pt x="810" y="135"/>
                  </a:lnTo>
                  <a:lnTo>
                    <a:pt x="798" y="1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978280" y="2784600"/>
              <a:ext cx="299880" cy="8568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8" y="156"/>
                  </a:moveTo>
                  <a:lnTo>
                    <a:pt x="781" y="148"/>
                  </a:lnTo>
                  <a:lnTo>
                    <a:pt x="665" y="153"/>
                  </a:lnTo>
                  <a:lnTo>
                    <a:pt x="658" y="159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5" y="169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2" y="226"/>
                  </a:lnTo>
                  <a:lnTo>
                    <a:pt x="322" y="302"/>
                  </a:lnTo>
                  <a:lnTo>
                    <a:pt x="233" y="322"/>
                  </a:lnTo>
                  <a:lnTo>
                    <a:pt x="233" y="249"/>
                  </a:lnTo>
                  <a:lnTo>
                    <a:pt x="226" y="229"/>
                  </a:lnTo>
                  <a:lnTo>
                    <a:pt x="226" y="213"/>
                  </a:lnTo>
                  <a:lnTo>
                    <a:pt x="223" y="206"/>
                  </a:lnTo>
                  <a:lnTo>
                    <a:pt x="220" y="201"/>
                  </a:lnTo>
                  <a:lnTo>
                    <a:pt x="215" y="200"/>
                  </a:lnTo>
                  <a:lnTo>
                    <a:pt x="210" y="200"/>
                  </a:lnTo>
                  <a:lnTo>
                    <a:pt x="178" y="197"/>
                  </a:lnTo>
                  <a:lnTo>
                    <a:pt x="189" y="214"/>
                  </a:lnTo>
                  <a:lnTo>
                    <a:pt x="191" y="223"/>
                  </a:lnTo>
                  <a:lnTo>
                    <a:pt x="191" y="229"/>
                  </a:lnTo>
                  <a:lnTo>
                    <a:pt x="187" y="234"/>
                  </a:lnTo>
                  <a:lnTo>
                    <a:pt x="179" y="239"/>
                  </a:lnTo>
                  <a:lnTo>
                    <a:pt x="217" y="239"/>
                  </a:lnTo>
                  <a:lnTo>
                    <a:pt x="221" y="239"/>
                  </a:lnTo>
                  <a:lnTo>
                    <a:pt x="223" y="234"/>
                  </a:lnTo>
                  <a:lnTo>
                    <a:pt x="226" y="229"/>
                  </a:lnTo>
                  <a:lnTo>
                    <a:pt x="233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1"/>
                  </a:lnTo>
                  <a:lnTo>
                    <a:pt x="77" y="71"/>
                  </a:lnTo>
                  <a:lnTo>
                    <a:pt x="88" y="32"/>
                  </a:lnTo>
                  <a:lnTo>
                    <a:pt x="94" y="32"/>
                  </a:lnTo>
                  <a:lnTo>
                    <a:pt x="99" y="17"/>
                  </a:lnTo>
                  <a:lnTo>
                    <a:pt x="107" y="8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7"/>
                  </a:lnTo>
                  <a:lnTo>
                    <a:pt x="344" y="34"/>
                  </a:lnTo>
                  <a:lnTo>
                    <a:pt x="349" y="43"/>
                  </a:lnTo>
                  <a:lnTo>
                    <a:pt x="349" y="55"/>
                  </a:lnTo>
                  <a:lnTo>
                    <a:pt x="347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4" y="61"/>
                  </a:lnTo>
                  <a:lnTo>
                    <a:pt x="337" y="52"/>
                  </a:lnTo>
                  <a:lnTo>
                    <a:pt x="337" y="43"/>
                  </a:lnTo>
                  <a:lnTo>
                    <a:pt x="331" y="37"/>
                  </a:lnTo>
                  <a:lnTo>
                    <a:pt x="322" y="32"/>
                  </a:lnTo>
                  <a:lnTo>
                    <a:pt x="166" y="32"/>
                  </a:lnTo>
                  <a:lnTo>
                    <a:pt x="160" y="40"/>
                  </a:lnTo>
                  <a:lnTo>
                    <a:pt x="156" y="50"/>
                  </a:lnTo>
                  <a:lnTo>
                    <a:pt x="153" y="58"/>
                  </a:lnTo>
                  <a:lnTo>
                    <a:pt x="153" y="65"/>
                  </a:lnTo>
                  <a:lnTo>
                    <a:pt x="156" y="70"/>
                  </a:lnTo>
                  <a:lnTo>
                    <a:pt x="163" y="71"/>
                  </a:lnTo>
                  <a:lnTo>
                    <a:pt x="322" y="71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5" y="68"/>
                  </a:lnTo>
                  <a:lnTo>
                    <a:pt x="815" y="70"/>
                  </a:lnTo>
                  <a:lnTo>
                    <a:pt x="818" y="71"/>
                  </a:lnTo>
                  <a:lnTo>
                    <a:pt x="868" y="71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4" y="26"/>
                  </a:lnTo>
                  <a:lnTo>
                    <a:pt x="813" y="65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5" y="68"/>
                  </a:lnTo>
                  <a:lnTo>
                    <a:pt x="851" y="4"/>
                  </a:lnTo>
                  <a:lnTo>
                    <a:pt x="859" y="0"/>
                  </a:lnTo>
                  <a:lnTo>
                    <a:pt x="868" y="4"/>
                  </a:lnTo>
                  <a:lnTo>
                    <a:pt x="875" y="11"/>
                  </a:lnTo>
                  <a:lnTo>
                    <a:pt x="880" y="87"/>
                  </a:lnTo>
                  <a:lnTo>
                    <a:pt x="1004" y="87"/>
                  </a:lnTo>
                  <a:lnTo>
                    <a:pt x="1017" y="81"/>
                  </a:lnTo>
                  <a:lnTo>
                    <a:pt x="1105" y="78"/>
                  </a:lnTo>
                  <a:lnTo>
                    <a:pt x="1113" y="65"/>
                  </a:lnTo>
                  <a:lnTo>
                    <a:pt x="1129" y="65"/>
                  </a:lnTo>
                  <a:lnTo>
                    <a:pt x="1129" y="78"/>
                  </a:lnTo>
                  <a:lnTo>
                    <a:pt x="1136" y="78"/>
                  </a:lnTo>
                  <a:lnTo>
                    <a:pt x="1136" y="115"/>
                  </a:lnTo>
                  <a:lnTo>
                    <a:pt x="1111" y="115"/>
                  </a:lnTo>
                  <a:lnTo>
                    <a:pt x="1100" y="109"/>
                  </a:lnTo>
                  <a:lnTo>
                    <a:pt x="880" y="109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5"/>
                  </a:lnTo>
                  <a:lnTo>
                    <a:pt x="823" y="115"/>
                  </a:lnTo>
                  <a:lnTo>
                    <a:pt x="823" y="135"/>
                  </a:lnTo>
                  <a:lnTo>
                    <a:pt x="810" y="135"/>
                  </a:lnTo>
                  <a:lnTo>
                    <a:pt x="798" y="1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92360" y="3203640"/>
              <a:ext cx="265320" cy="415800"/>
            </a:xfrm>
            <a:custGeom>
              <a:avLst/>
              <a:gdLst/>
              <a:ahLst/>
              <a:rect l="l" t="t" r="r" b="b"/>
              <a:pathLst>
                <a:path w="1004" h="1574">
                  <a:moveTo>
                    <a:pt x="325" y="825"/>
                  </a:moveTo>
                  <a:lnTo>
                    <a:pt x="351" y="804"/>
                  </a:lnTo>
                  <a:lnTo>
                    <a:pt x="375" y="790"/>
                  </a:lnTo>
                  <a:lnTo>
                    <a:pt x="400" y="777"/>
                  </a:lnTo>
                  <a:lnTo>
                    <a:pt x="425" y="766"/>
                  </a:lnTo>
                  <a:lnTo>
                    <a:pt x="377" y="736"/>
                  </a:lnTo>
                  <a:lnTo>
                    <a:pt x="356" y="720"/>
                  </a:lnTo>
                  <a:lnTo>
                    <a:pt x="331" y="702"/>
                  </a:lnTo>
                  <a:lnTo>
                    <a:pt x="334" y="733"/>
                  </a:lnTo>
                  <a:lnTo>
                    <a:pt x="330" y="762"/>
                  </a:lnTo>
                  <a:lnTo>
                    <a:pt x="325" y="825"/>
                  </a:lnTo>
                  <a:close/>
                  <a:moveTo>
                    <a:pt x="48" y="372"/>
                  </a:moveTo>
                  <a:lnTo>
                    <a:pt x="57" y="325"/>
                  </a:lnTo>
                  <a:lnTo>
                    <a:pt x="67" y="278"/>
                  </a:lnTo>
                  <a:lnTo>
                    <a:pt x="77" y="232"/>
                  </a:lnTo>
                  <a:lnTo>
                    <a:pt x="89" y="187"/>
                  </a:lnTo>
                  <a:lnTo>
                    <a:pt x="101" y="142"/>
                  </a:lnTo>
                  <a:lnTo>
                    <a:pt x="114" y="96"/>
                  </a:lnTo>
                  <a:lnTo>
                    <a:pt x="127" y="51"/>
                  </a:lnTo>
                  <a:lnTo>
                    <a:pt x="141" y="7"/>
                  </a:lnTo>
                  <a:lnTo>
                    <a:pt x="150" y="4"/>
                  </a:lnTo>
                  <a:lnTo>
                    <a:pt x="183" y="0"/>
                  </a:lnTo>
                  <a:lnTo>
                    <a:pt x="207" y="0"/>
                  </a:lnTo>
                  <a:lnTo>
                    <a:pt x="233" y="4"/>
                  </a:lnTo>
                  <a:lnTo>
                    <a:pt x="253" y="11"/>
                  </a:lnTo>
                  <a:lnTo>
                    <a:pt x="269" y="20"/>
                  </a:lnTo>
                  <a:lnTo>
                    <a:pt x="287" y="37"/>
                  </a:lnTo>
                  <a:lnTo>
                    <a:pt x="303" y="60"/>
                  </a:lnTo>
                  <a:lnTo>
                    <a:pt x="325" y="104"/>
                  </a:lnTo>
                  <a:lnTo>
                    <a:pt x="349" y="156"/>
                  </a:lnTo>
                  <a:lnTo>
                    <a:pt x="360" y="169"/>
                  </a:lnTo>
                  <a:lnTo>
                    <a:pt x="364" y="180"/>
                  </a:lnTo>
                  <a:lnTo>
                    <a:pt x="362" y="189"/>
                  </a:lnTo>
                  <a:lnTo>
                    <a:pt x="351" y="197"/>
                  </a:lnTo>
                  <a:lnTo>
                    <a:pt x="318" y="208"/>
                  </a:lnTo>
                  <a:lnTo>
                    <a:pt x="323" y="237"/>
                  </a:lnTo>
                  <a:lnTo>
                    <a:pt x="325" y="264"/>
                  </a:lnTo>
                  <a:lnTo>
                    <a:pt x="325" y="283"/>
                  </a:lnTo>
                  <a:lnTo>
                    <a:pt x="341" y="285"/>
                  </a:lnTo>
                  <a:lnTo>
                    <a:pt x="360" y="322"/>
                  </a:lnTo>
                  <a:lnTo>
                    <a:pt x="509" y="480"/>
                  </a:lnTo>
                  <a:lnTo>
                    <a:pt x="516" y="492"/>
                  </a:lnTo>
                  <a:lnTo>
                    <a:pt x="518" y="503"/>
                  </a:lnTo>
                  <a:lnTo>
                    <a:pt x="516" y="513"/>
                  </a:lnTo>
                  <a:lnTo>
                    <a:pt x="509" y="521"/>
                  </a:lnTo>
                  <a:lnTo>
                    <a:pt x="502" y="523"/>
                  </a:lnTo>
                  <a:lnTo>
                    <a:pt x="502" y="534"/>
                  </a:lnTo>
                  <a:lnTo>
                    <a:pt x="499" y="544"/>
                  </a:lnTo>
                  <a:lnTo>
                    <a:pt x="491" y="551"/>
                  </a:lnTo>
                  <a:lnTo>
                    <a:pt x="499" y="557"/>
                  </a:lnTo>
                  <a:lnTo>
                    <a:pt x="502" y="566"/>
                  </a:lnTo>
                  <a:lnTo>
                    <a:pt x="512" y="580"/>
                  </a:lnTo>
                  <a:lnTo>
                    <a:pt x="529" y="591"/>
                  </a:lnTo>
                  <a:lnTo>
                    <a:pt x="542" y="599"/>
                  </a:lnTo>
                  <a:lnTo>
                    <a:pt x="556" y="610"/>
                  </a:lnTo>
                  <a:lnTo>
                    <a:pt x="569" y="619"/>
                  </a:lnTo>
                  <a:lnTo>
                    <a:pt x="603" y="608"/>
                  </a:lnTo>
                  <a:lnTo>
                    <a:pt x="623" y="604"/>
                  </a:lnTo>
                  <a:lnTo>
                    <a:pt x="643" y="599"/>
                  </a:lnTo>
                  <a:lnTo>
                    <a:pt x="656" y="594"/>
                  </a:lnTo>
                  <a:lnTo>
                    <a:pt x="711" y="557"/>
                  </a:lnTo>
                  <a:lnTo>
                    <a:pt x="781" y="480"/>
                  </a:lnTo>
                  <a:lnTo>
                    <a:pt x="789" y="483"/>
                  </a:lnTo>
                  <a:lnTo>
                    <a:pt x="830" y="439"/>
                  </a:lnTo>
                  <a:lnTo>
                    <a:pt x="832" y="428"/>
                  </a:lnTo>
                  <a:lnTo>
                    <a:pt x="838" y="417"/>
                  </a:lnTo>
                  <a:lnTo>
                    <a:pt x="849" y="404"/>
                  </a:lnTo>
                  <a:lnTo>
                    <a:pt x="1004" y="399"/>
                  </a:lnTo>
                  <a:lnTo>
                    <a:pt x="902" y="459"/>
                  </a:lnTo>
                  <a:lnTo>
                    <a:pt x="882" y="480"/>
                  </a:lnTo>
                  <a:lnTo>
                    <a:pt x="851" y="531"/>
                  </a:lnTo>
                  <a:lnTo>
                    <a:pt x="856" y="544"/>
                  </a:lnTo>
                  <a:lnTo>
                    <a:pt x="776" y="679"/>
                  </a:lnTo>
                  <a:lnTo>
                    <a:pt x="753" y="749"/>
                  </a:lnTo>
                  <a:lnTo>
                    <a:pt x="722" y="772"/>
                  </a:lnTo>
                  <a:lnTo>
                    <a:pt x="691" y="793"/>
                  </a:lnTo>
                  <a:lnTo>
                    <a:pt x="652" y="809"/>
                  </a:lnTo>
                  <a:lnTo>
                    <a:pt x="626" y="814"/>
                  </a:lnTo>
                  <a:lnTo>
                    <a:pt x="602" y="816"/>
                  </a:lnTo>
                  <a:lnTo>
                    <a:pt x="605" y="883"/>
                  </a:lnTo>
                  <a:lnTo>
                    <a:pt x="605" y="959"/>
                  </a:lnTo>
                  <a:lnTo>
                    <a:pt x="597" y="1049"/>
                  </a:lnTo>
                  <a:lnTo>
                    <a:pt x="582" y="1135"/>
                  </a:lnTo>
                  <a:lnTo>
                    <a:pt x="563" y="1220"/>
                  </a:lnTo>
                  <a:lnTo>
                    <a:pt x="545" y="1280"/>
                  </a:lnTo>
                  <a:lnTo>
                    <a:pt x="529" y="1290"/>
                  </a:lnTo>
                  <a:lnTo>
                    <a:pt x="512" y="1303"/>
                  </a:lnTo>
                  <a:lnTo>
                    <a:pt x="499" y="1365"/>
                  </a:lnTo>
                  <a:lnTo>
                    <a:pt x="499" y="1376"/>
                  </a:lnTo>
                  <a:lnTo>
                    <a:pt x="504" y="1387"/>
                  </a:lnTo>
                  <a:lnTo>
                    <a:pt x="504" y="1397"/>
                  </a:lnTo>
                  <a:lnTo>
                    <a:pt x="496" y="1412"/>
                  </a:lnTo>
                  <a:lnTo>
                    <a:pt x="509" y="1422"/>
                  </a:lnTo>
                  <a:lnTo>
                    <a:pt x="518" y="1433"/>
                  </a:lnTo>
                  <a:lnTo>
                    <a:pt x="525" y="1450"/>
                  </a:lnTo>
                  <a:lnTo>
                    <a:pt x="538" y="1454"/>
                  </a:lnTo>
                  <a:lnTo>
                    <a:pt x="545" y="1461"/>
                  </a:lnTo>
                  <a:lnTo>
                    <a:pt x="551" y="1472"/>
                  </a:lnTo>
                  <a:lnTo>
                    <a:pt x="558" y="1483"/>
                  </a:lnTo>
                  <a:lnTo>
                    <a:pt x="564" y="1495"/>
                  </a:lnTo>
                  <a:lnTo>
                    <a:pt x="602" y="1514"/>
                  </a:lnTo>
                  <a:lnTo>
                    <a:pt x="626" y="1524"/>
                  </a:lnTo>
                  <a:lnTo>
                    <a:pt x="636" y="1534"/>
                  </a:lnTo>
                  <a:lnTo>
                    <a:pt x="641" y="1545"/>
                  </a:lnTo>
                  <a:lnTo>
                    <a:pt x="641" y="1565"/>
                  </a:lnTo>
                  <a:lnTo>
                    <a:pt x="621" y="1570"/>
                  </a:lnTo>
                  <a:lnTo>
                    <a:pt x="595" y="1574"/>
                  </a:lnTo>
                  <a:lnTo>
                    <a:pt x="553" y="1571"/>
                  </a:lnTo>
                  <a:lnTo>
                    <a:pt x="516" y="1565"/>
                  </a:lnTo>
                  <a:lnTo>
                    <a:pt x="475" y="1552"/>
                  </a:lnTo>
                  <a:lnTo>
                    <a:pt x="444" y="1536"/>
                  </a:lnTo>
                  <a:lnTo>
                    <a:pt x="419" y="1521"/>
                  </a:lnTo>
                  <a:lnTo>
                    <a:pt x="395" y="1518"/>
                  </a:lnTo>
                  <a:lnTo>
                    <a:pt x="375" y="1516"/>
                  </a:lnTo>
                  <a:lnTo>
                    <a:pt x="356" y="1510"/>
                  </a:lnTo>
                  <a:lnTo>
                    <a:pt x="338" y="1503"/>
                  </a:lnTo>
                  <a:lnTo>
                    <a:pt x="334" y="1482"/>
                  </a:lnTo>
                  <a:lnTo>
                    <a:pt x="336" y="1464"/>
                  </a:lnTo>
                  <a:lnTo>
                    <a:pt x="338" y="1446"/>
                  </a:lnTo>
                  <a:lnTo>
                    <a:pt x="343" y="1431"/>
                  </a:lnTo>
                  <a:lnTo>
                    <a:pt x="349" y="1415"/>
                  </a:lnTo>
                  <a:lnTo>
                    <a:pt x="356" y="1400"/>
                  </a:lnTo>
                  <a:lnTo>
                    <a:pt x="364" y="1387"/>
                  </a:lnTo>
                  <a:lnTo>
                    <a:pt x="364" y="1371"/>
                  </a:lnTo>
                  <a:lnTo>
                    <a:pt x="364" y="1356"/>
                  </a:lnTo>
                  <a:lnTo>
                    <a:pt x="369" y="1345"/>
                  </a:lnTo>
                  <a:lnTo>
                    <a:pt x="375" y="1334"/>
                  </a:lnTo>
                  <a:lnTo>
                    <a:pt x="375" y="1282"/>
                  </a:lnTo>
                  <a:lnTo>
                    <a:pt x="356" y="1273"/>
                  </a:lnTo>
                  <a:lnTo>
                    <a:pt x="358" y="1259"/>
                  </a:lnTo>
                  <a:lnTo>
                    <a:pt x="363" y="1246"/>
                  </a:lnTo>
                  <a:lnTo>
                    <a:pt x="363" y="1229"/>
                  </a:lnTo>
                  <a:lnTo>
                    <a:pt x="358" y="1210"/>
                  </a:lnTo>
                  <a:lnTo>
                    <a:pt x="363" y="1180"/>
                  </a:lnTo>
                  <a:lnTo>
                    <a:pt x="369" y="1141"/>
                  </a:lnTo>
                  <a:lnTo>
                    <a:pt x="380" y="1101"/>
                  </a:lnTo>
                  <a:lnTo>
                    <a:pt x="395" y="1060"/>
                  </a:lnTo>
                  <a:lnTo>
                    <a:pt x="369" y="1091"/>
                  </a:lnTo>
                  <a:lnTo>
                    <a:pt x="341" y="1120"/>
                  </a:lnTo>
                  <a:lnTo>
                    <a:pt x="317" y="1145"/>
                  </a:lnTo>
                  <a:lnTo>
                    <a:pt x="288" y="1172"/>
                  </a:lnTo>
                  <a:lnTo>
                    <a:pt x="264" y="1192"/>
                  </a:lnTo>
                  <a:lnTo>
                    <a:pt x="234" y="1216"/>
                  </a:lnTo>
                  <a:lnTo>
                    <a:pt x="204" y="1237"/>
                  </a:lnTo>
                  <a:lnTo>
                    <a:pt x="170" y="1257"/>
                  </a:lnTo>
                  <a:lnTo>
                    <a:pt x="137" y="1277"/>
                  </a:lnTo>
                  <a:lnTo>
                    <a:pt x="106" y="1288"/>
                  </a:lnTo>
                  <a:lnTo>
                    <a:pt x="76" y="1301"/>
                  </a:lnTo>
                  <a:lnTo>
                    <a:pt x="46" y="1311"/>
                  </a:lnTo>
                  <a:lnTo>
                    <a:pt x="38" y="1344"/>
                  </a:lnTo>
                  <a:lnTo>
                    <a:pt x="29" y="1284"/>
                  </a:lnTo>
                  <a:lnTo>
                    <a:pt x="21" y="1225"/>
                  </a:lnTo>
                  <a:lnTo>
                    <a:pt x="14" y="1166"/>
                  </a:lnTo>
                  <a:lnTo>
                    <a:pt x="10" y="1106"/>
                  </a:lnTo>
                  <a:lnTo>
                    <a:pt x="5" y="1046"/>
                  </a:lnTo>
                  <a:lnTo>
                    <a:pt x="2" y="985"/>
                  </a:lnTo>
                  <a:lnTo>
                    <a:pt x="1" y="924"/>
                  </a:lnTo>
                  <a:lnTo>
                    <a:pt x="0" y="864"/>
                  </a:lnTo>
                  <a:lnTo>
                    <a:pt x="1" y="803"/>
                  </a:lnTo>
                  <a:lnTo>
                    <a:pt x="5" y="742"/>
                  </a:lnTo>
                  <a:lnTo>
                    <a:pt x="8" y="680"/>
                  </a:lnTo>
                  <a:lnTo>
                    <a:pt x="13" y="619"/>
                  </a:lnTo>
                  <a:lnTo>
                    <a:pt x="20" y="557"/>
                  </a:lnTo>
                  <a:lnTo>
                    <a:pt x="27" y="496"/>
                  </a:lnTo>
                  <a:lnTo>
                    <a:pt x="37" y="434"/>
                  </a:lnTo>
                  <a:lnTo>
                    <a:pt x="48" y="37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602080" y="3419640"/>
              <a:ext cx="158760" cy="199800"/>
            </a:xfrm>
            <a:custGeom>
              <a:avLst/>
              <a:gdLst/>
              <a:ahLst/>
              <a:rect l="l" t="t" r="r" b="b"/>
              <a:pathLst>
                <a:path w="603" h="758">
                  <a:moveTo>
                    <a:pt x="564" y="0"/>
                  </a:moveTo>
                  <a:lnTo>
                    <a:pt x="567" y="67"/>
                  </a:lnTo>
                  <a:lnTo>
                    <a:pt x="567" y="143"/>
                  </a:lnTo>
                  <a:lnTo>
                    <a:pt x="559" y="233"/>
                  </a:lnTo>
                  <a:lnTo>
                    <a:pt x="544" y="319"/>
                  </a:lnTo>
                  <a:lnTo>
                    <a:pt x="525" y="404"/>
                  </a:lnTo>
                  <a:lnTo>
                    <a:pt x="507" y="464"/>
                  </a:lnTo>
                  <a:lnTo>
                    <a:pt x="491" y="474"/>
                  </a:lnTo>
                  <a:lnTo>
                    <a:pt x="474" y="487"/>
                  </a:lnTo>
                  <a:lnTo>
                    <a:pt x="461" y="549"/>
                  </a:lnTo>
                  <a:lnTo>
                    <a:pt x="461" y="560"/>
                  </a:lnTo>
                  <a:lnTo>
                    <a:pt x="466" y="571"/>
                  </a:lnTo>
                  <a:lnTo>
                    <a:pt x="466" y="581"/>
                  </a:lnTo>
                  <a:lnTo>
                    <a:pt x="458" y="596"/>
                  </a:lnTo>
                  <a:lnTo>
                    <a:pt x="471" y="606"/>
                  </a:lnTo>
                  <a:lnTo>
                    <a:pt x="480" y="617"/>
                  </a:lnTo>
                  <a:lnTo>
                    <a:pt x="487" y="634"/>
                  </a:lnTo>
                  <a:lnTo>
                    <a:pt x="500" y="638"/>
                  </a:lnTo>
                  <a:lnTo>
                    <a:pt x="507" y="645"/>
                  </a:lnTo>
                  <a:lnTo>
                    <a:pt x="513" y="656"/>
                  </a:lnTo>
                  <a:lnTo>
                    <a:pt x="520" y="667"/>
                  </a:lnTo>
                  <a:lnTo>
                    <a:pt x="526" y="679"/>
                  </a:lnTo>
                  <a:lnTo>
                    <a:pt x="564" y="698"/>
                  </a:lnTo>
                  <a:lnTo>
                    <a:pt x="588" y="708"/>
                  </a:lnTo>
                  <a:lnTo>
                    <a:pt x="598" y="718"/>
                  </a:lnTo>
                  <a:lnTo>
                    <a:pt x="603" y="729"/>
                  </a:lnTo>
                  <a:lnTo>
                    <a:pt x="603" y="749"/>
                  </a:lnTo>
                  <a:lnTo>
                    <a:pt x="583" y="754"/>
                  </a:lnTo>
                  <a:lnTo>
                    <a:pt x="557" y="758"/>
                  </a:lnTo>
                  <a:lnTo>
                    <a:pt x="515" y="755"/>
                  </a:lnTo>
                  <a:lnTo>
                    <a:pt x="478" y="749"/>
                  </a:lnTo>
                  <a:lnTo>
                    <a:pt x="437" y="736"/>
                  </a:lnTo>
                  <a:lnTo>
                    <a:pt x="406" y="720"/>
                  </a:lnTo>
                  <a:lnTo>
                    <a:pt x="381" y="705"/>
                  </a:lnTo>
                  <a:lnTo>
                    <a:pt x="357" y="702"/>
                  </a:lnTo>
                  <a:lnTo>
                    <a:pt x="337" y="700"/>
                  </a:lnTo>
                  <a:lnTo>
                    <a:pt x="318" y="694"/>
                  </a:lnTo>
                  <a:lnTo>
                    <a:pt x="300" y="687"/>
                  </a:lnTo>
                  <a:lnTo>
                    <a:pt x="296" y="666"/>
                  </a:lnTo>
                  <a:lnTo>
                    <a:pt x="298" y="648"/>
                  </a:lnTo>
                  <a:lnTo>
                    <a:pt x="300" y="630"/>
                  </a:lnTo>
                  <a:lnTo>
                    <a:pt x="305" y="615"/>
                  </a:lnTo>
                  <a:lnTo>
                    <a:pt x="311" y="599"/>
                  </a:lnTo>
                  <a:lnTo>
                    <a:pt x="318" y="584"/>
                  </a:lnTo>
                  <a:lnTo>
                    <a:pt x="326" y="571"/>
                  </a:lnTo>
                  <a:lnTo>
                    <a:pt x="326" y="555"/>
                  </a:lnTo>
                  <a:lnTo>
                    <a:pt x="326" y="540"/>
                  </a:lnTo>
                  <a:lnTo>
                    <a:pt x="331" y="529"/>
                  </a:lnTo>
                  <a:lnTo>
                    <a:pt x="337" y="518"/>
                  </a:lnTo>
                  <a:lnTo>
                    <a:pt x="337" y="466"/>
                  </a:lnTo>
                  <a:lnTo>
                    <a:pt x="318" y="457"/>
                  </a:lnTo>
                  <a:lnTo>
                    <a:pt x="320" y="443"/>
                  </a:lnTo>
                  <a:lnTo>
                    <a:pt x="325" y="430"/>
                  </a:lnTo>
                  <a:lnTo>
                    <a:pt x="325" y="413"/>
                  </a:lnTo>
                  <a:lnTo>
                    <a:pt x="320" y="394"/>
                  </a:lnTo>
                  <a:lnTo>
                    <a:pt x="325" y="364"/>
                  </a:lnTo>
                  <a:lnTo>
                    <a:pt x="331" y="325"/>
                  </a:lnTo>
                  <a:lnTo>
                    <a:pt x="342" y="285"/>
                  </a:lnTo>
                  <a:lnTo>
                    <a:pt x="357" y="244"/>
                  </a:lnTo>
                  <a:lnTo>
                    <a:pt x="331" y="275"/>
                  </a:lnTo>
                  <a:lnTo>
                    <a:pt x="303" y="304"/>
                  </a:lnTo>
                  <a:lnTo>
                    <a:pt x="279" y="329"/>
                  </a:lnTo>
                  <a:lnTo>
                    <a:pt x="250" y="356"/>
                  </a:lnTo>
                  <a:lnTo>
                    <a:pt x="226" y="376"/>
                  </a:lnTo>
                  <a:lnTo>
                    <a:pt x="196" y="400"/>
                  </a:lnTo>
                  <a:lnTo>
                    <a:pt x="166" y="421"/>
                  </a:lnTo>
                  <a:lnTo>
                    <a:pt x="132" y="441"/>
                  </a:lnTo>
                  <a:lnTo>
                    <a:pt x="99" y="461"/>
                  </a:lnTo>
                  <a:lnTo>
                    <a:pt x="68" y="472"/>
                  </a:lnTo>
                  <a:lnTo>
                    <a:pt x="38" y="485"/>
                  </a:lnTo>
                  <a:lnTo>
                    <a:pt x="8" y="495"/>
                  </a:lnTo>
                  <a:lnTo>
                    <a:pt x="0" y="5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29080" y="3203640"/>
              <a:ext cx="228600" cy="216000"/>
            </a:xfrm>
            <a:custGeom>
              <a:avLst/>
              <a:gdLst/>
              <a:ahLst/>
              <a:rect l="l" t="t" r="r" b="b"/>
              <a:pathLst>
                <a:path w="863" h="816">
                  <a:moveTo>
                    <a:pt x="0" y="7"/>
                  </a:moveTo>
                  <a:lnTo>
                    <a:pt x="9" y="4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92" y="4"/>
                  </a:lnTo>
                  <a:lnTo>
                    <a:pt x="112" y="11"/>
                  </a:lnTo>
                  <a:lnTo>
                    <a:pt x="128" y="20"/>
                  </a:lnTo>
                  <a:lnTo>
                    <a:pt x="146" y="37"/>
                  </a:lnTo>
                  <a:lnTo>
                    <a:pt x="162" y="60"/>
                  </a:lnTo>
                  <a:lnTo>
                    <a:pt x="184" y="104"/>
                  </a:lnTo>
                  <a:lnTo>
                    <a:pt x="208" y="156"/>
                  </a:lnTo>
                  <a:lnTo>
                    <a:pt x="219" y="169"/>
                  </a:lnTo>
                  <a:lnTo>
                    <a:pt x="223" y="180"/>
                  </a:lnTo>
                  <a:lnTo>
                    <a:pt x="221" y="189"/>
                  </a:lnTo>
                  <a:lnTo>
                    <a:pt x="210" y="197"/>
                  </a:lnTo>
                  <a:lnTo>
                    <a:pt x="177" y="208"/>
                  </a:lnTo>
                  <a:lnTo>
                    <a:pt x="182" y="237"/>
                  </a:lnTo>
                  <a:lnTo>
                    <a:pt x="184" y="264"/>
                  </a:lnTo>
                  <a:lnTo>
                    <a:pt x="184" y="283"/>
                  </a:lnTo>
                  <a:lnTo>
                    <a:pt x="200" y="285"/>
                  </a:lnTo>
                  <a:lnTo>
                    <a:pt x="219" y="322"/>
                  </a:lnTo>
                  <a:lnTo>
                    <a:pt x="368" y="480"/>
                  </a:lnTo>
                  <a:lnTo>
                    <a:pt x="375" y="492"/>
                  </a:lnTo>
                  <a:lnTo>
                    <a:pt x="377" y="503"/>
                  </a:lnTo>
                  <a:lnTo>
                    <a:pt x="375" y="513"/>
                  </a:lnTo>
                  <a:lnTo>
                    <a:pt x="368" y="521"/>
                  </a:lnTo>
                  <a:lnTo>
                    <a:pt x="361" y="523"/>
                  </a:lnTo>
                  <a:lnTo>
                    <a:pt x="361" y="534"/>
                  </a:lnTo>
                  <a:lnTo>
                    <a:pt x="358" y="544"/>
                  </a:lnTo>
                  <a:lnTo>
                    <a:pt x="350" y="551"/>
                  </a:lnTo>
                  <a:lnTo>
                    <a:pt x="358" y="557"/>
                  </a:lnTo>
                  <a:lnTo>
                    <a:pt x="361" y="566"/>
                  </a:lnTo>
                  <a:lnTo>
                    <a:pt x="371" y="580"/>
                  </a:lnTo>
                  <a:lnTo>
                    <a:pt x="388" y="591"/>
                  </a:lnTo>
                  <a:lnTo>
                    <a:pt x="401" y="599"/>
                  </a:lnTo>
                  <a:lnTo>
                    <a:pt x="415" y="610"/>
                  </a:lnTo>
                  <a:lnTo>
                    <a:pt x="428" y="619"/>
                  </a:lnTo>
                  <a:lnTo>
                    <a:pt x="462" y="608"/>
                  </a:lnTo>
                  <a:lnTo>
                    <a:pt x="482" y="604"/>
                  </a:lnTo>
                  <a:lnTo>
                    <a:pt x="502" y="599"/>
                  </a:lnTo>
                  <a:lnTo>
                    <a:pt x="515" y="594"/>
                  </a:lnTo>
                  <a:lnTo>
                    <a:pt x="570" y="557"/>
                  </a:lnTo>
                  <a:lnTo>
                    <a:pt x="640" y="480"/>
                  </a:lnTo>
                  <a:lnTo>
                    <a:pt x="648" y="483"/>
                  </a:lnTo>
                  <a:lnTo>
                    <a:pt x="689" y="439"/>
                  </a:lnTo>
                  <a:lnTo>
                    <a:pt x="691" y="428"/>
                  </a:lnTo>
                  <a:lnTo>
                    <a:pt x="697" y="417"/>
                  </a:lnTo>
                  <a:lnTo>
                    <a:pt x="708" y="404"/>
                  </a:lnTo>
                  <a:lnTo>
                    <a:pt x="863" y="399"/>
                  </a:lnTo>
                  <a:lnTo>
                    <a:pt x="761" y="459"/>
                  </a:lnTo>
                  <a:lnTo>
                    <a:pt x="741" y="480"/>
                  </a:lnTo>
                  <a:lnTo>
                    <a:pt x="710" y="531"/>
                  </a:lnTo>
                  <a:lnTo>
                    <a:pt x="715" y="544"/>
                  </a:lnTo>
                  <a:lnTo>
                    <a:pt x="635" y="679"/>
                  </a:lnTo>
                  <a:lnTo>
                    <a:pt x="612" y="749"/>
                  </a:lnTo>
                  <a:lnTo>
                    <a:pt x="581" y="772"/>
                  </a:lnTo>
                  <a:lnTo>
                    <a:pt x="550" y="793"/>
                  </a:lnTo>
                  <a:lnTo>
                    <a:pt x="511" y="809"/>
                  </a:lnTo>
                  <a:lnTo>
                    <a:pt x="485" y="814"/>
                  </a:lnTo>
                  <a:lnTo>
                    <a:pt x="461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687760" y="3263760"/>
              <a:ext cx="299880" cy="8604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9" y="155"/>
                  </a:moveTo>
                  <a:lnTo>
                    <a:pt x="781" y="148"/>
                  </a:lnTo>
                  <a:lnTo>
                    <a:pt x="664" y="153"/>
                  </a:lnTo>
                  <a:lnTo>
                    <a:pt x="659" y="159"/>
                  </a:lnTo>
                  <a:lnTo>
                    <a:pt x="786" y="164"/>
                  </a:lnTo>
                  <a:lnTo>
                    <a:pt x="776" y="168"/>
                  </a:lnTo>
                  <a:lnTo>
                    <a:pt x="644" y="168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5"/>
                  </a:lnTo>
                  <a:lnTo>
                    <a:pt x="323" y="303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7" y="230"/>
                  </a:lnTo>
                  <a:lnTo>
                    <a:pt x="227" y="212"/>
                  </a:lnTo>
                  <a:lnTo>
                    <a:pt x="224" y="205"/>
                  </a:lnTo>
                  <a:lnTo>
                    <a:pt x="219" y="202"/>
                  </a:lnTo>
                  <a:lnTo>
                    <a:pt x="215" y="199"/>
                  </a:lnTo>
                  <a:lnTo>
                    <a:pt x="211" y="199"/>
                  </a:lnTo>
                  <a:lnTo>
                    <a:pt x="178" y="197"/>
                  </a:lnTo>
                  <a:lnTo>
                    <a:pt x="189" y="215"/>
                  </a:lnTo>
                  <a:lnTo>
                    <a:pt x="191" y="223"/>
                  </a:lnTo>
                  <a:lnTo>
                    <a:pt x="191" y="230"/>
                  </a:lnTo>
                  <a:lnTo>
                    <a:pt x="186" y="234"/>
                  </a:lnTo>
                  <a:lnTo>
                    <a:pt x="180" y="238"/>
                  </a:lnTo>
                  <a:lnTo>
                    <a:pt x="217" y="238"/>
                  </a:lnTo>
                  <a:lnTo>
                    <a:pt x="222" y="238"/>
                  </a:lnTo>
                  <a:lnTo>
                    <a:pt x="224" y="234"/>
                  </a:lnTo>
                  <a:lnTo>
                    <a:pt x="227" y="230"/>
                  </a:lnTo>
                  <a:lnTo>
                    <a:pt x="232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7" y="72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8" y="16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3"/>
                  </a:lnTo>
                  <a:lnTo>
                    <a:pt x="336" y="28"/>
                  </a:lnTo>
                  <a:lnTo>
                    <a:pt x="344" y="34"/>
                  </a:lnTo>
                  <a:lnTo>
                    <a:pt x="349" y="44"/>
                  </a:lnTo>
                  <a:lnTo>
                    <a:pt x="349" y="54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3" y="60"/>
                  </a:lnTo>
                  <a:lnTo>
                    <a:pt x="338" y="52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7" y="32"/>
                  </a:lnTo>
                  <a:lnTo>
                    <a:pt x="160" y="41"/>
                  </a:lnTo>
                  <a:lnTo>
                    <a:pt x="157" y="50"/>
                  </a:lnTo>
                  <a:lnTo>
                    <a:pt x="154" y="59"/>
                  </a:lnTo>
                  <a:lnTo>
                    <a:pt x="154" y="65"/>
                  </a:lnTo>
                  <a:lnTo>
                    <a:pt x="157" y="70"/>
                  </a:lnTo>
                  <a:lnTo>
                    <a:pt x="162" y="72"/>
                  </a:lnTo>
                  <a:lnTo>
                    <a:pt x="323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4" y="67"/>
                  </a:lnTo>
                  <a:lnTo>
                    <a:pt x="815" y="70"/>
                  </a:lnTo>
                  <a:lnTo>
                    <a:pt x="818" y="72"/>
                  </a:lnTo>
                  <a:lnTo>
                    <a:pt x="869" y="72"/>
                  </a:lnTo>
                  <a:lnTo>
                    <a:pt x="866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5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5" y="70"/>
                  </a:lnTo>
                  <a:lnTo>
                    <a:pt x="804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9" y="3"/>
                  </a:lnTo>
                  <a:lnTo>
                    <a:pt x="875" y="10"/>
                  </a:lnTo>
                  <a:lnTo>
                    <a:pt x="879" y="86"/>
                  </a:lnTo>
                  <a:lnTo>
                    <a:pt x="1004" y="86"/>
                  </a:lnTo>
                  <a:lnTo>
                    <a:pt x="1018" y="80"/>
                  </a:lnTo>
                  <a:lnTo>
                    <a:pt x="1105" y="78"/>
                  </a:lnTo>
                  <a:lnTo>
                    <a:pt x="1114" y="65"/>
                  </a:lnTo>
                  <a:lnTo>
                    <a:pt x="1130" y="65"/>
                  </a:lnTo>
                  <a:lnTo>
                    <a:pt x="1130" y="78"/>
                  </a:lnTo>
                  <a:lnTo>
                    <a:pt x="1136" y="78"/>
                  </a:lnTo>
                  <a:lnTo>
                    <a:pt x="1136" y="116"/>
                  </a:lnTo>
                  <a:lnTo>
                    <a:pt x="1112" y="116"/>
                  </a:lnTo>
                  <a:lnTo>
                    <a:pt x="1101" y="109"/>
                  </a:lnTo>
                  <a:lnTo>
                    <a:pt x="879" y="109"/>
                  </a:lnTo>
                  <a:lnTo>
                    <a:pt x="879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2" y="116"/>
                  </a:lnTo>
                  <a:lnTo>
                    <a:pt x="822" y="135"/>
                  </a:lnTo>
                  <a:lnTo>
                    <a:pt x="809" y="135"/>
                  </a:lnTo>
                  <a:lnTo>
                    <a:pt x="799" y="1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87760" y="3263760"/>
              <a:ext cx="299880" cy="8604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9" y="155"/>
                  </a:moveTo>
                  <a:lnTo>
                    <a:pt x="781" y="148"/>
                  </a:lnTo>
                  <a:lnTo>
                    <a:pt x="664" y="153"/>
                  </a:lnTo>
                  <a:lnTo>
                    <a:pt x="659" y="159"/>
                  </a:lnTo>
                  <a:lnTo>
                    <a:pt x="786" y="164"/>
                  </a:lnTo>
                  <a:lnTo>
                    <a:pt x="776" y="168"/>
                  </a:lnTo>
                  <a:lnTo>
                    <a:pt x="644" y="168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5"/>
                  </a:lnTo>
                  <a:lnTo>
                    <a:pt x="323" y="303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7" y="230"/>
                  </a:lnTo>
                  <a:lnTo>
                    <a:pt x="227" y="212"/>
                  </a:lnTo>
                  <a:lnTo>
                    <a:pt x="224" y="205"/>
                  </a:lnTo>
                  <a:lnTo>
                    <a:pt x="219" y="202"/>
                  </a:lnTo>
                  <a:lnTo>
                    <a:pt x="215" y="199"/>
                  </a:lnTo>
                  <a:lnTo>
                    <a:pt x="211" y="199"/>
                  </a:lnTo>
                  <a:lnTo>
                    <a:pt x="178" y="197"/>
                  </a:lnTo>
                  <a:lnTo>
                    <a:pt x="189" y="215"/>
                  </a:lnTo>
                  <a:lnTo>
                    <a:pt x="191" y="223"/>
                  </a:lnTo>
                  <a:lnTo>
                    <a:pt x="191" y="230"/>
                  </a:lnTo>
                  <a:lnTo>
                    <a:pt x="186" y="234"/>
                  </a:lnTo>
                  <a:lnTo>
                    <a:pt x="180" y="238"/>
                  </a:lnTo>
                  <a:lnTo>
                    <a:pt x="217" y="238"/>
                  </a:lnTo>
                  <a:lnTo>
                    <a:pt x="222" y="238"/>
                  </a:lnTo>
                  <a:lnTo>
                    <a:pt x="224" y="234"/>
                  </a:lnTo>
                  <a:lnTo>
                    <a:pt x="227" y="230"/>
                  </a:lnTo>
                  <a:lnTo>
                    <a:pt x="232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7" y="72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8" y="16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3"/>
                  </a:lnTo>
                  <a:lnTo>
                    <a:pt x="336" y="28"/>
                  </a:lnTo>
                  <a:lnTo>
                    <a:pt x="344" y="34"/>
                  </a:lnTo>
                  <a:lnTo>
                    <a:pt x="349" y="44"/>
                  </a:lnTo>
                  <a:lnTo>
                    <a:pt x="349" y="54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3" y="60"/>
                  </a:lnTo>
                  <a:lnTo>
                    <a:pt x="338" y="52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7" y="32"/>
                  </a:lnTo>
                  <a:lnTo>
                    <a:pt x="160" y="41"/>
                  </a:lnTo>
                  <a:lnTo>
                    <a:pt x="157" y="50"/>
                  </a:lnTo>
                  <a:lnTo>
                    <a:pt x="154" y="59"/>
                  </a:lnTo>
                  <a:lnTo>
                    <a:pt x="154" y="65"/>
                  </a:lnTo>
                  <a:lnTo>
                    <a:pt x="157" y="70"/>
                  </a:lnTo>
                  <a:lnTo>
                    <a:pt x="162" y="72"/>
                  </a:lnTo>
                  <a:lnTo>
                    <a:pt x="323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4" y="67"/>
                  </a:lnTo>
                  <a:lnTo>
                    <a:pt x="815" y="70"/>
                  </a:lnTo>
                  <a:lnTo>
                    <a:pt x="818" y="72"/>
                  </a:lnTo>
                  <a:lnTo>
                    <a:pt x="869" y="72"/>
                  </a:lnTo>
                  <a:lnTo>
                    <a:pt x="866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5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5" y="70"/>
                  </a:lnTo>
                  <a:lnTo>
                    <a:pt x="804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9" y="3"/>
                  </a:lnTo>
                  <a:lnTo>
                    <a:pt x="875" y="10"/>
                  </a:lnTo>
                  <a:lnTo>
                    <a:pt x="879" y="86"/>
                  </a:lnTo>
                  <a:lnTo>
                    <a:pt x="1004" y="86"/>
                  </a:lnTo>
                  <a:lnTo>
                    <a:pt x="1018" y="80"/>
                  </a:lnTo>
                  <a:lnTo>
                    <a:pt x="1105" y="78"/>
                  </a:lnTo>
                  <a:lnTo>
                    <a:pt x="1114" y="65"/>
                  </a:lnTo>
                  <a:lnTo>
                    <a:pt x="1130" y="65"/>
                  </a:lnTo>
                  <a:lnTo>
                    <a:pt x="1130" y="78"/>
                  </a:lnTo>
                  <a:lnTo>
                    <a:pt x="1136" y="78"/>
                  </a:lnTo>
                  <a:lnTo>
                    <a:pt x="1136" y="116"/>
                  </a:lnTo>
                  <a:lnTo>
                    <a:pt x="1112" y="116"/>
                  </a:lnTo>
                  <a:lnTo>
                    <a:pt x="1101" y="109"/>
                  </a:lnTo>
                  <a:lnTo>
                    <a:pt x="879" y="109"/>
                  </a:lnTo>
                  <a:lnTo>
                    <a:pt x="879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2" y="116"/>
                  </a:lnTo>
                  <a:lnTo>
                    <a:pt x="822" y="135"/>
                  </a:lnTo>
                  <a:lnTo>
                    <a:pt x="809" y="135"/>
                  </a:lnTo>
                  <a:lnTo>
                    <a:pt x="799" y="1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70200" y="3683160"/>
              <a:ext cx="377640" cy="415800"/>
            </a:xfrm>
            <a:custGeom>
              <a:avLst/>
              <a:gdLst/>
              <a:ahLst/>
              <a:rect l="l" t="t" r="r" b="b"/>
              <a:pathLst>
                <a:path w="1431" h="1574">
                  <a:moveTo>
                    <a:pt x="751" y="826"/>
                  </a:moveTo>
                  <a:lnTo>
                    <a:pt x="779" y="805"/>
                  </a:lnTo>
                  <a:lnTo>
                    <a:pt x="802" y="790"/>
                  </a:lnTo>
                  <a:lnTo>
                    <a:pt x="826" y="777"/>
                  </a:lnTo>
                  <a:lnTo>
                    <a:pt x="852" y="766"/>
                  </a:lnTo>
                  <a:lnTo>
                    <a:pt x="805" y="735"/>
                  </a:lnTo>
                  <a:lnTo>
                    <a:pt x="782" y="720"/>
                  </a:lnTo>
                  <a:lnTo>
                    <a:pt x="759" y="702"/>
                  </a:lnTo>
                  <a:lnTo>
                    <a:pt x="761" y="733"/>
                  </a:lnTo>
                  <a:lnTo>
                    <a:pt x="756" y="761"/>
                  </a:lnTo>
                  <a:lnTo>
                    <a:pt x="751" y="826"/>
                  </a:lnTo>
                  <a:close/>
                  <a:moveTo>
                    <a:pt x="465" y="1341"/>
                  </a:moveTo>
                  <a:lnTo>
                    <a:pt x="401" y="1292"/>
                  </a:lnTo>
                  <a:lnTo>
                    <a:pt x="340" y="1241"/>
                  </a:lnTo>
                  <a:lnTo>
                    <a:pt x="309" y="1215"/>
                  </a:lnTo>
                  <a:lnTo>
                    <a:pt x="279" y="1189"/>
                  </a:lnTo>
                  <a:lnTo>
                    <a:pt x="249" y="1163"/>
                  </a:lnTo>
                  <a:lnTo>
                    <a:pt x="220" y="1136"/>
                  </a:lnTo>
                  <a:lnTo>
                    <a:pt x="163" y="1080"/>
                  </a:lnTo>
                  <a:lnTo>
                    <a:pt x="107" y="1022"/>
                  </a:lnTo>
                  <a:lnTo>
                    <a:pt x="52" y="963"/>
                  </a:lnTo>
                  <a:lnTo>
                    <a:pt x="0" y="903"/>
                  </a:lnTo>
                  <a:lnTo>
                    <a:pt x="0" y="902"/>
                  </a:lnTo>
                  <a:lnTo>
                    <a:pt x="6" y="893"/>
                  </a:lnTo>
                  <a:lnTo>
                    <a:pt x="11" y="878"/>
                  </a:lnTo>
                  <a:lnTo>
                    <a:pt x="13" y="868"/>
                  </a:lnTo>
                  <a:lnTo>
                    <a:pt x="18" y="860"/>
                  </a:lnTo>
                  <a:lnTo>
                    <a:pt x="42" y="854"/>
                  </a:lnTo>
                  <a:lnTo>
                    <a:pt x="32" y="836"/>
                  </a:lnTo>
                  <a:lnTo>
                    <a:pt x="39" y="808"/>
                  </a:lnTo>
                  <a:lnTo>
                    <a:pt x="42" y="801"/>
                  </a:lnTo>
                  <a:lnTo>
                    <a:pt x="44" y="796"/>
                  </a:lnTo>
                  <a:lnTo>
                    <a:pt x="51" y="796"/>
                  </a:lnTo>
                  <a:lnTo>
                    <a:pt x="51" y="788"/>
                  </a:lnTo>
                  <a:lnTo>
                    <a:pt x="88" y="788"/>
                  </a:lnTo>
                  <a:lnTo>
                    <a:pt x="88" y="796"/>
                  </a:lnTo>
                  <a:lnTo>
                    <a:pt x="93" y="796"/>
                  </a:lnTo>
                  <a:lnTo>
                    <a:pt x="96" y="801"/>
                  </a:lnTo>
                  <a:lnTo>
                    <a:pt x="99" y="809"/>
                  </a:lnTo>
                  <a:lnTo>
                    <a:pt x="101" y="823"/>
                  </a:lnTo>
                  <a:lnTo>
                    <a:pt x="101" y="836"/>
                  </a:lnTo>
                  <a:lnTo>
                    <a:pt x="99" y="845"/>
                  </a:lnTo>
                  <a:lnTo>
                    <a:pt x="94" y="849"/>
                  </a:lnTo>
                  <a:lnTo>
                    <a:pt x="101" y="854"/>
                  </a:lnTo>
                  <a:lnTo>
                    <a:pt x="109" y="854"/>
                  </a:lnTo>
                  <a:lnTo>
                    <a:pt x="116" y="849"/>
                  </a:lnTo>
                  <a:lnTo>
                    <a:pt x="121" y="842"/>
                  </a:lnTo>
                  <a:lnTo>
                    <a:pt x="119" y="834"/>
                  </a:lnTo>
                  <a:lnTo>
                    <a:pt x="101" y="836"/>
                  </a:lnTo>
                  <a:lnTo>
                    <a:pt x="101" y="823"/>
                  </a:lnTo>
                  <a:lnTo>
                    <a:pt x="122" y="821"/>
                  </a:lnTo>
                  <a:lnTo>
                    <a:pt x="130" y="823"/>
                  </a:lnTo>
                  <a:lnTo>
                    <a:pt x="135" y="826"/>
                  </a:lnTo>
                  <a:lnTo>
                    <a:pt x="143" y="829"/>
                  </a:lnTo>
                  <a:lnTo>
                    <a:pt x="138" y="803"/>
                  </a:lnTo>
                  <a:lnTo>
                    <a:pt x="132" y="777"/>
                  </a:lnTo>
                  <a:lnTo>
                    <a:pt x="171" y="611"/>
                  </a:lnTo>
                  <a:lnTo>
                    <a:pt x="179" y="581"/>
                  </a:lnTo>
                  <a:lnTo>
                    <a:pt x="189" y="562"/>
                  </a:lnTo>
                  <a:lnTo>
                    <a:pt x="202" y="544"/>
                  </a:lnTo>
                  <a:lnTo>
                    <a:pt x="190" y="505"/>
                  </a:lnTo>
                  <a:lnTo>
                    <a:pt x="186" y="479"/>
                  </a:lnTo>
                  <a:lnTo>
                    <a:pt x="189" y="454"/>
                  </a:lnTo>
                  <a:lnTo>
                    <a:pt x="197" y="425"/>
                  </a:lnTo>
                  <a:lnTo>
                    <a:pt x="217" y="391"/>
                  </a:lnTo>
                  <a:lnTo>
                    <a:pt x="236" y="362"/>
                  </a:lnTo>
                  <a:lnTo>
                    <a:pt x="265" y="336"/>
                  </a:lnTo>
                  <a:lnTo>
                    <a:pt x="293" y="318"/>
                  </a:lnTo>
                  <a:lnTo>
                    <a:pt x="311" y="300"/>
                  </a:lnTo>
                  <a:lnTo>
                    <a:pt x="329" y="290"/>
                  </a:lnTo>
                  <a:lnTo>
                    <a:pt x="347" y="285"/>
                  </a:lnTo>
                  <a:lnTo>
                    <a:pt x="363" y="285"/>
                  </a:lnTo>
                  <a:lnTo>
                    <a:pt x="384" y="290"/>
                  </a:lnTo>
                  <a:lnTo>
                    <a:pt x="427" y="281"/>
                  </a:lnTo>
                  <a:lnTo>
                    <a:pt x="432" y="265"/>
                  </a:lnTo>
                  <a:lnTo>
                    <a:pt x="425" y="239"/>
                  </a:lnTo>
                  <a:lnTo>
                    <a:pt x="430" y="238"/>
                  </a:lnTo>
                  <a:lnTo>
                    <a:pt x="425" y="209"/>
                  </a:lnTo>
                  <a:lnTo>
                    <a:pt x="423" y="179"/>
                  </a:lnTo>
                  <a:lnTo>
                    <a:pt x="423" y="150"/>
                  </a:lnTo>
                  <a:lnTo>
                    <a:pt x="430" y="119"/>
                  </a:lnTo>
                  <a:lnTo>
                    <a:pt x="440" y="85"/>
                  </a:lnTo>
                  <a:lnTo>
                    <a:pt x="458" y="62"/>
                  </a:lnTo>
                  <a:lnTo>
                    <a:pt x="474" y="46"/>
                  </a:lnTo>
                  <a:lnTo>
                    <a:pt x="515" y="24"/>
                  </a:lnTo>
                  <a:lnTo>
                    <a:pt x="546" y="13"/>
                  </a:lnTo>
                  <a:lnTo>
                    <a:pt x="577" y="5"/>
                  </a:lnTo>
                  <a:lnTo>
                    <a:pt x="609" y="0"/>
                  </a:lnTo>
                  <a:lnTo>
                    <a:pt x="634" y="0"/>
                  </a:lnTo>
                  <a:lnTo>
                    <a:pt x="660" y="5"/>
                  </a:lnTo>
                  <a:lnTo>
                    <a:pt x="680" y="11"/>
                  </a:lnTo>
                  <a:lnTo>
                    <a:pt x="697" y="20"/>
                  </a:lnTo>
                  <a:lnTo>
                    <a:pt x="715" y="37"/>
                  </a:lnTo>
                  <a:lnTo>
                    <a:pt x="730" y="59"/>
                  </a:lnTo>
                  <a:lnTo>
                    <a:pt x="751" y="103"/>
                  </a:lnTo>
                  <a:lnTo>
                    <a:pt x="776" y="156"/>
                  </a:lnTo>
                  <a:lnTo>
                    <a:pt x="787" y="169"/>
                  </a:lnTo>
                  <a:lnTo>
                    <a:pt x="792" y="179"/>
                  </a:lnTo>
                  <a:lnTo>
                    <a:pt x="789" y="189"/>
                  </a:lnTo>
                  <a:lnTo>
                    <a:pt x="779" y="197"/>
                  </a:lnTo>
                  <a:lnTo>
                    <a:pt x="745" y="209"/>
                  </a:lnTo>
                  <a:lnTo>
                    <a:pt x="749" y="238"/>
                  </a:lnTo>
                  <a:lnTo>
                    <a:pt x="751" y="264"/>
                  </a:lnTo>
                  <a:lnTo>
                    <a:pt x="751" y="284"/>
                  </a:lnTo>
                  <a:lnTo>
                    <a:pt x="767" y="285"/>
                  </a:lnTo>
                  <a:lnTo>
                    <a:pt x="787" y="323"/>
                  </a:lnTo>
                  <a:lnTo>
                    <a:pt x="937" y="481"/>
                  </a:lnTo>
                  <a:lnTo>
                    <a:pt x="942" y="492"/>
                  </a:lnTo>
                  <a:lnTo>
                    <a:pt x="945" y="502"/>
                  </a:lnTo>
                  <a:lnTo>
                    <a:pt x="942" y="513"/>
                  </a:lnTo>
                  <a:lnTo>
                    <a:pt x="937" y="520"/>
                  </a:lnTo>
                  <a:lnTo>
                    <a:pt x="929" y="523"/>
                  </a:lnTo>
                  <a:lnTo>
                    <a:pt x="929" y="533"/>
                  </a:lnTo>
                  <a:lnTo>
                    <a:pt x="925" y="544"/>
                  </a:lnTo>
                  <a:lnTo>
                    <a:pt x="919" y="551"/>
                  </a:lnTo>
                  <a:lnTo>
                    <a:pt x="925" y="557"/>
                  </a:lnTo>
                  <a:lnTo>
                    <a:pt x="929" y="567"/>
                  </a:lnTo>
                  <a:lnTo>
                    <a:pt x="938" y="580"/>
                  </a:lnTo>
                  <a:lnTo>
                    <a:pt x="956" y="590"/>
                  </a:lnTo>
                  <a:lnTo>
                    <a:pt x="969" y="599"/>
                  </a:lnTo>
                  <a:lnTo>
                    <a:pt x="982" y="611"/>
                  </a:lnTo>
                  <a:lnTo>
                    <a:pt x="995" y="619"/>
                  </a:lnTo>
                  <a:lnTo>
                    <a:pt x="1030" y="608"/>
                  </a:lnTo>
                  <a:lnTo>
                    <a:pt x="1050" y="603"/>
                  </a:lnTo>
                  <a:lnTo>
                    <a:pt x="1069" y="599"/>
                  </a:lnTo>
                  <a:lnTo>
                    <a:pt x="1083" y="594"/>
                  </a:lnTo>
                  <a:lnTo>
                    <a:pt x="1138" y="557"/>
                  </a:lnTo>
                  <a:lnTo>
                    <a:pt x="1208" y="481"/>
                  </a:lnTo>
                  <a:lnTo>
                    <a:pt x="1217" y="482"/>
                  </a:lnTo>
                  <a:lnTo>
                    <a:pt x="1256" y="439"/>
                  </a:lnTo>
                  <a:lnTo>
                    <a:pt x="1258" y="428"/>
                  </a:lnTo>
                  <a:lnTo>
                    <a:pt x="1265" y="417"/>
                  </a:lnTo>
                  <a:lnTo>
                    <a:pt x="1276" y="404"/>
                  </a:lnTo>
                  <a:lnTo>
                    <a:pt x="1431" y="399"/>
                  </a:lnTo>
                  <a:lnTo>
                    <a:pt x="1328" y="458"/>
                  </a:lnTo>
                  <a:lnTo>
                    <a:pt x="1309" y="481"/>
                  </a:lnTo>
                  <a:lnTo>
                    <a:pt x="1278" y="531"/>
                  </a:lnTo>
                  <a:lnTo>
                    <a:pt x="1282" y="544"/>
                  </a:lnTo>
                  <a:lnTo>
                    <a:pt x="1204" y="678"/>
                  </a:lnTo>
                  <a:lnTo>
                    <a:pt x="1180" y="748"/>
                  </a:lnTo>
                  <a:lnTo>
                    <a:pt x="1149" y="772"/>
                  </a:lnTo>
                  <a:lnTo>
                    <a:pt x="1118" y="792"/>
                  </a:lnTo>
                  <a:lnTo>
                    <a:pt x="1079" y="810"/>
                  </a:lnTo>
                  <a:lnTo>
                    <a:pt x="1053" y="815"/>
                  </a:lnTo>
                  <a:lnTo>
                    <a:pt x="1029" y="816"/>
                  </a:lnTo>
                  <a:lnTo>
                    <a:pt x="1033" y="883"/>
                  </a:lnTo>
                  <a:lnTo>
                    <a:pt x="1033" y="959"/>
                  </a:lnTo>
                  <a:lnTo>
                    <a:pt x="1024" y="1049"/>
                  </a:lnTo>
                  <a:lnTo>
                    <a:pt x="1009" y="1134"/>
                  </a:lnTo>
                  <a:lnTo>
                    <a:pt x="989" y="1220"/>
                  </a:lnTo>
                  <a:lnTo>
                    <a:pt x="971" y="1279"/>
                  </a:lnTo>
                  <a:lnTo>
                    <a:pt x="956" y="1290"/>
                  </a:lnTo>
                  <a:lnTo>
                    <a:pt x="938" y="1303"/>
                  </a:lnTo>
                  <a:lnTo>
                    <a:pt x="926" y="1365"/>
                  </a:lnTo>
                  <a:lnTo>
                    <a:pt x="926" y="1376"/>
                  </a:lnTo>
                  <a:lnTo>
                    <a:pt x="932" y="1387"/>
                  </a:lnTo>
                  <a:lnTo>
                    <a:pt x="932" y="1397"/>
                  </a:lnTo>
                  <a:lnTo>
                    <a:pt x="923" y="1411"/>
                  </a:lnTo>
                  <a:lnTo>
                    <a:pt x="937" y="1422"/>
                  </a:lnTo>
                  <a:lnTo>
                    <a:pt x="945" y="1433"/>
                  </a:lnTo>
                  <a:lnTo>
                    <a:pt x="951" y="1450"/>
                  </a:lnTo>
                  <a:lnTo>
                    <a:pt x="965" y="1454"/>
                  </a:lnTo>
                  <a:lnTo>
                    <a:pt x="971" y="1461"/>
                  </a:lnTo>
                  <a:lnTo>
                    <a:pt x="978" y="1472"/>
                  </a:lnTo>
                  <a:lnTo>
                    <a:pt x="984" y="1484"/>
                  </a:lnTo>
                  <a:lnTo>
                    <a:pt x="991" y="1494"/>
                  </a:lnTo>
                  <a:lnTo>
                    <a:pt x="1029" y="1513"/>
                  </a:lnTo>
                  <a:lnTo>
                    <a:pt x="1053" y="1525"/>
                  </a:lnTo>
                  <a:lnTo>
                    <a:pt x="1064" y="1534"/>
                  </a:lnTo>
                  <a:lnTo>
                    <a:pt x="1067" y="1545"/>
                  </a:lnTo>
                  <a:lnTo>
                    <a:pt x="1067" y="1565"/>
                  </a:lnTo>
                  <a:lnTo>
                    <a:pt x="1048" y="1569"/>
                  </a:lnTo>
                  <a:lnTo>
                    <a:pt x="1022" y="1574"/>
                  </a:lnTo>
                  <a:lnTo>
                    <a:pt x="980" y="1570"/>
                  </a:lnTo>
                  <a:lnTo>
                    <a:pt x="942" y="1565"/>
                  </a:lnTo>
                  <a:lnTo>
                    <a:pt x="901" y="1551"/>
                  </a:lnTo>
                  <a:lnTo>
                    <a:pt x="871" y="1536"/>
                  </a:lnTo>
                  <a:lnTo>
                    <a:pt x="846" y="1521"/>
                  </a:lnTo>
                  <a:lnTo>
                    <a:pt x="821" y="1518"/>
                  </a:lnTo>
                  <a:lnTo>
                    <a:pt x="802" y="1517"/>
                  </a:lnTo>
                  <a:lnTo>
                    <a:pt x="783" y="1510"/>
                  </a:lnTo>
                  <a:lnTo>
                    <a:pt x="766" y="1503"/>
                  </a:lnTo>
                  <a:lnTo>
                    <a:pt x="761" y="1481"/>
                  </a:lnTo>
                  <a:lnTo>
                    <a:pt x="763" y="1464"/>
                  </a:lnTo>
                  <a:lnTo>
                    <a:pt x="766" y="1446"/>
                  </a:lnTo>
                  <a:lnTo>
                    <a:pt x="769" y="1430"/>
                  </a:lnTo>
                  <a:lnTo>
                    <a:pt x="776" y="1416"/>
                  </a:lnTo>
                  <a:lnTo>
                    <a:pt x="783" y="1399"/>
                  </a:lnTo>
                  <a:lnTo>
                    <a:pt x="792" y="1387"/>
                  </a:lnTo>
                  <a:lnTo>
                    <a:pt x="792" y="1371"/>
                  </a:lnTo>
                  <a:lnTo>
                    <a:pt x="792" y="1355"/>
                  </a:lnTo>
                  <a:lnTo>
                    <a:pt x="796" y="1345"/>
                  </a:lnTo>
                  <a:lnTo>
                    <a:pt x="802" y="1334"/>
                  </a:lnTo>
                  <a:lnTo>
                    <a:pt x="802" y="1282"/>
                  </a:lnTo>
                  <a:lnTo>
                    <a:pt x="783" y="1272"/>
                  </a:lnTo>
                  <a:lnTo>
                    <a:pt x="785" y="1259"/>
                  </a:lnTo>
                  <a:lnTo>
                    <a:pt x="789" y="1246"/>
                  </a:lnTo>
                  <a:lnTo>
                    <a:pt x="789" y="1229"/>
                  </a:lnTo>
                  <a:lnTo>
                    <a:pt x="785" y="1209"/>
                  </a:lnTo>
                  <a:lnTo>
                    <a:pt x="789" y="1180"/>
                  </a:lnTo>
                  <a:lnTo>
                    <a:pt x="796" y="1142"/>
                  </a:lnTo>
                  <a:lnTo>
                    <a:pt x="807" y="1101"/>
                  </a:lnTo>
                  <a:lnTo>
                    <a:pt x="821" y="1060"/>
                  </a:lnTo>
                  <a:lnTo>
                    <a:pt x="796" y="1090"/>
                  </a:lnTo>
                  <a:lnTo>
                    <a:pt x="767" y="1121"/>
                  </a:lnTo>
                  <a:lnTo>
                    <a:pt x="743" y="1145"/>
                  </a:lnTo>
                  <a:lnTo>
                    <a:pt x="715" y="1171"/>
                  </a:lnTo>
                  <a:lnTo>
                    <a:pt x="691" y="1191"/>
                  </a:lnTo>
                  <a:lnTo>
                    <a:pt x="660" y="1216"/>
                  </a:lnTo>
                  <a:lnTo>
                    <a:pt x="632" y="1238"/>
                  </a:lnTo>
                  <a:lnTo>
                    <a:pt x="597" y="1258"/>
                  </a:lnTo>
                  <a:lnTo>
                    <a:pt x="564" y="1277"/>
                  </a:lnTo>
                  <a:lnTo>
                    <a:pt x="533" y="1288"/>
                  </a:lnTo>
                  <a:lnTo>
                    <a:pt x="502" y="1301"/>
                  </a:lnTo>
                  <a:lnTo>
                    <a:pt x="474" y="1310"/>
                  </a:lnTo>
                  <a:lnTo>
                    <a:pt x="465" y="1341"/>
                  </a:lnTo>
                  <a:close/>
                  <a:moveTo>
                    <a:pt x="140" y="854"/>
                  </a:moveTo>
                  <a:lnTo>
                    <a:pt x="130" y="864"/>
                  </a:lnTo>
                  <a:lnTo>
                    <a:pt x="134" y="871"/>
                  </a:lnTo>
                  <a:lnTo>
                    <a:pt x="138" y="879"/>
                  </a:lnTo>
                  <a:lnTo>
                    <a:pt x="140" y="871"/>
                  </a:lnTo>
                  <a:lnTo>
                    <a:pt x="143" y="862"/>
                  </a:lnTo>
                  <a:lnTo>
                    <a:pt x="140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92600" y="3898800"/>
              <a:ext cx="160200" cy="200160"/>
            </a:xfrm>
            <a:custGeom>
              <a:avLst/>
              <a:gdLst/>
              <a:ahLst/>
              <a:rect l="l" t="t" r="r" b="b"/>
              <a:pathLst>
                <a:path w="602" h="758">
                  <a:moveTo>
                    <a:pt x="564" y="0"/>
                  </a:moveTo>
                  <a:lnTo>
                    <a:pt x="568" y="67"/>
                  </a:lnTo>
                  <a:lnTo>
                    <a:pt x="568" y="143"/>
                  </a:lnTo>
                  <a:lnTo>
                    <a:pt x="559" y="233"/>
                  </a:lnTo>
                  <a:lnTo>
                    <a:pt x="544" y="318"/>
                  </a:lnTo>
                  <a:lnTo>
                    <a:pt x="524" y="404"/>
                  </a:lnTo>
                  <a:lnTo>
                    <a:pt x="506" y="463"/>
                  </a:lnTo>
                  <a:lnTo>
                    <a:pt x="491" y="474"/>
                  </a:lnTo>
                  <a:lnTo>
                    <a:pt x="473" y="487"/>
                  </a:lnTo>
                  <a:lnTo>
                    <a:pt x="461" y="549"/>
                  </a:lnTo>
                  <a:lnTo>
                    <a:pt x="461" y="560"/>
                  </a:lnTo>
                  <a:lnTo>
                    <a:pt x="467" y="571"/>
                  </a:lnTo>
                  <a:lnTo>
                    <a:pt x="467" y="581"/>
                  </a:lnTo>
                  <a:lnTo>
                    <a:pt x="458" y="595"/>
                  </a:lnTo>
                  <a:lnTo>
                    <a:pt x="472" y="606"/>
                  </a:lnTo>
                  <a:lnTo>
                    <a:pt x="480" y="617"/>
                  </a:lnTo>
                  <a:lnTo>
                    <a:pt x="486" y="634"/>
                  </a:lnTo>
                  <a:lnTo>
                    <a:pt x="500" y="638"/>
                  </a:lnTo>
                  <a:lnTo>
                    <a:pt x="506" y="645"/>
                  </a:lnTo>
                  <a:lnTo>
                    <a:pt x="513" y="656"/>
                  </a:lnTo>
                  <a:lnTo>
                    <a:pt x="519" y="668"/>
                  </a:lnTo>
                  <a:lnTo>
                    <a:pt x="526" y="678"/>
                  </a:lnTo>
                  <a:lnTo>
                    <a:pt x="564" y="697"/>
                  </a:lnTo>
                  <a:lnTo>
                    <a:pt x="588" y="709"/>
                  </a:lnTo>
                  <a:lnTo>
                    <a:pt x="599" y="718"/>
                  </a:lnTo>
                  <a:lnTo>
                    <a:pt x="602" y="729"/>
                  </a:lnTo>
                  <a:lnTo>
                    <a:pt x="602" y="749"/>
                  </a:lnTo>
                  <a:lnTo>
                    <a:pt x="583" y="753"/>
                  </a:lnTo>
                  <a:lnTo>
                    <a:pt x="557" y="758"/>
                  </a:lnTo>
                  <a:lnTo>
                    <a:pt x="515" y="754"/>
                  </a:lnTo>
                  <a:lnTo>
                    <a:pt x="477" y="749"/>
                  </a:lnTo>
                  <a:lnTo>
                    <a:pt x="436" y="735"/>
                  </a:lnTo>
                  <a:lnTo>
                    <a:pt x="406" y="720"/>
                  </a:lnTo>
                  <a:lnTo>
                    <a:pt x="381" y="705"/>
                  </a:lnTo>
                  <a:lnTo>
                    <a:pt x="356" y="702"/>
                  </a:lnTo>
                  <a:lnTo>
                    <a:pt x="337" y="701"/>
                  </a:lnTo>
                  <a:lnTo>
                    <a:pt x="318" y="694"/>
                  </a:lnTo>
                  <a:lnTo>
                    <a:pt x="301" y="687"/>
                  </a:lnTo>
                  <a:lnTo>
                    <a:pt x="296" y="665"/>
                  </a:lnTo>
                  <a:lnTo>
                    <a:pt x="298" y="648"/>
                  </a:lnTo>
                  <a:lnTo>
                    <a:pt x="301" y="630"/>
                  </a:lnTo>
                  <a:lnTo>
                    <a:pt x="304" y="614"/>
                  </a:lnTo>
                  <a:lnTo>
                    <a:pt x="311" y="600"/>
                  </a:lnTo>
                  <a:lnTo>
                    <a:pt x="318" y="583"/>
                  </a:lnTo>
                  <a:lnTo>
                    <a:pt x="327" y="571"/>
                  </a:lnTo>
                  <a:lnTo>
                    <a:pt x="327" y="555"/>
                  </a:lnTo>
                  <a:lnTo>
                    <a:pt x="327" y="539"/>
                  </a:lnTo>
                  <a:lnTo>
                    <a:pt x="331" y="529"/>
                  </a:lnTo>
                  <a:lnTo>
                    <a:pt x="337" y="518"/>
                  </a:lnTo>
                  <a:lnTo>
                    <a:pt x="337" y="466"/>
                  </a:lnTo>
                  <a:lnTo>
                    <a:pt x="318" y="456"/>
                  </a:lnTo>
                  <a:lnTo>
                    <a:pt x="320" y="443"/>
                  </a:lnTo>
                  <a:lnTo>
                    <a:pt x="324" y="430"/>
                  </a:lnTo>
                  <a:lnTo>
                    <a:pt x="324" y="413"/>
                  </a:lnTo>
                  <a:lnTo>
                    <a:pt x="320" y="393"/>
                  </a:lnTo>
                  <a:lnTo>
                    <a:pt x="324" y="364"/>
                  </a:lnTo>
                  <a:lnTo>
                    <a:pt x="331" y="326"/>
                  </a:lnTo>
                  <a:lnTo>
                    <a:pt x="342" y="285"/>
                  </a:lnTo>
                  <a:lnTo>
                    <a:pt x="356" y="244"/>
                  </a:lnTo>
                  <a:lnTo>
                    <a:pt x="331" y="274"/>
                  </a:lnTo>
                  <a:lnTo>
                    <a:pt x="302" y="305"/>
                  </a:lnTo>
                  <a:lnTo>
                    <a:pt x="278" y="329"/>
                  </a:lnTo>
                  <a:lnTo>
                    <a:pt x="250" y="355"/>
                  </a:lnTo>
                  <a:lnTo>
                    <a:pt x="226" y="375"/>
                  </a:lnTo>
                  <a:lnTo>
                    <a:pt x="195" y="400"/>
                  </a:lnTo>
                  <a:lnTo>
                    <a:pt x="167" y="422"/>
                  </a:lnTo>
                  <a:lnTo>
                    <a:pt x="132" y="442"/>
                  </a:lnTo>
                  <a:lnTo>
                    <a:pt x="99" y="461"/>
                  </a:lnTo>
                  <a:lnTo>
                    <a:pt x="68" y="472"/>
                  </a:lnTo>
                  <a:lnTo>
                    <a:pt x="37" y="485"/>
                  </a:lnTo>
                  <a:lnTo>
                    <a:pt x="9" y="494"/>
                  </a:lnTo>
                  <a:lnTo>
                    <a:pt x="0" y="52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770200" y="3683160"/>
              <a:ext cx="377640" cy="237960"/>
            </a:xfrm>
            <a:custGeom>
              <a:avLst/>
              <a:gdLst/>
              <a:ahLst/>
              <a:rect l="l" t="t" r="r" b="b"/>
              <a:pathLst>
                <a:path w="1431" h="903">
                  <a:moveTo>
                    <a:pt x="0" y="903"/>
                  </a:moveTo>
                  <a:lnTo>
                    <a:pt x="0" y="902"/>
                  </a:lnTo>
                  <a:lnTo>
                    <a:pt x="6" y="893"/>
                  </a:lnTo>
                  <a:lnTo>
                    <a:pt x="11" y="878"/>
                  </a:lnTo>
                  <a:lnTo>
                    <a:pt x="13" y="868"/>
                  </a:lnTo>
                  <a:lnTo>
                    <a:pt x="18" y="860"/>
                  </a:lnTo>
                  <a:lnTo>
                    <a:pt x="42" y="854"/>
                  </a:lnTo>
                  <a:lnTo>
                    <a:pt x="32" y="836"/>
                  </a:lnTo>
                  <a:lnTo>
                    <a:pt x="39" y="808"/>
                  </a:lnTo>
                  <a:lnTo>
                    <a:pt x="42" y="801"/>
                  </a:lnTo>
                  <a:lnTo>
                    <a:pt x="44" y="796"/>
                  </a:lnTo>
                  <a:lnTo>
                    <a:pt x="51" y="796"/>
                  </a:lnTo>
                  <a:lnTo>
                    <a:pt x="51" y="788"/>
                  </a:lnTo>
                  <a:lnTo>
                    <a:pt x="88" y="788"/>
                  </a:lnTo>
                  <a:lnTo>
                    <a:pt x="88" y="796"/>
                  </a:lnTo>
                  <a:lnTo>
                    <a:pt x="93" y="796"/>
                  </a:lnTo>
                  <a:lnTo>
                    <a:pt x="96" y="801"/>
                  </a:lnTo>
                  <a:lnTo>
                    <a:pt x="99" y="809"/>
                  </a:lnTo>
                  <a:lnTo>
                    <a:pt x="101" y="823"/>
                  </a:lnTo>
                  <a:lnTo>
                    <a:pt x="101" y="836"/>
                  </a:lnTo>
                  <a:lnTo>
                    <a:pt x="99" y="845"/>
                  </a:lnTo>
                  <a:lnTo>
                    <a:pt x="94" y="849"/>
                  </a:lnTo>
                  <a:lnTo>
                    <a:pt x="101" y="854"/>
                  </a:lnTo>
                  <a:lnTo>
                    <a:pt x="109" y="854"/>
                  </a:lnTo>
                  <a:lnTo>
                    <a:pt x="116" y="849"/>
                  </a:lnTo>
                  <a:lnTo>
                    <a:pt x="121" y="842"/>
                  </a:lnTo>
                  <a:lnTo>
                    <a:pt x="119" y="834"/>
                  </a:lnTo>
                  <a:lnTo>
                    <a:pt x="101" y="836"/>
                  </a:lnTo>
                  <a:lnTo>
                    <a:pt x="101" y="823"/>
                  </a:lnTo>
                  <a:lnTo>
                    <a:pt x="122" y="821"/>
                  </a:lnTo>
                  <a:lnTo>
                    <a:pt x="130" y="823"/>
                  </a:lnTo>
                  <a:lnTo>
                    <a:pt x="135" y="826"/>
                  </a:lnTo>
                  <a:lnTo>
                    <a:pt x="143" y="829"/>
                  </a:lnTo>
                  <a:lnTo>
                    <a:pt x="138" y="803"/>
                  </a:lnTo>
                  <a:lnTo>
                    <a:pt x="132" y="777"/>
                  </a:lnTo>
                  <a:lnTo>
                    <a:pt x="171" y="611"/>
                  </a:lnTo>
                  <a:lnTo>
                    <a:pt x="179" y="581"/>
                  </a:lnTo>
                  <a:lnTo>
                    <a:pt x="189" y="562"/>
                  </a:lnTo>
                  <a:lnTo>
                    <a:pt x="202" y="544"/>
                  </a:lnTo>
                  <a:lnTo>
                    <a:pt x="190" y="505"/>
                  </a:lnTo>
                  <a:lnTo>
                    <a:pt x="186" y="479"/>
                  </a:lnTo>
                  <a:lnTo>
                    <a:pt x="189" y="454"/>
                  </a:lnTo>
                  <a:lnTo>
                    <a:pt x="197" y="425"/>
                  </a:lnTo>
                  <a:lnTo>
                    <a:pt x="217" y="391"/>
                  </a:lnTo>
                  <a:lnTo>
                    <a:pt x="236" y="362"/>
                  </a:lnTo>
                  <a:lnTo>
                    <a:pt x="265" y="336"/>
                  </a:lnTo>
                  <a:lnTo>
                    <a:pt x="293" y="318"/>
                  </a:lnTo>
                  <a:lnTo>
                    <a:pt x="311" y="300"/>
                  </a:lnTo>
                  <a:lnTo>
                    <a:pt x="329" y="290"/>
                  </a:lnTo>
                  <a:lnTo>
                    <a:pt x="347" y="285"/>
                  </a:lnTo>
                  <a:lnTo>
                    <a:pt x="363" y="285"/>
                  </a:lnTo>
                  <a:lnTo>
                    <a:pt x="384" y="290"/>
                  </a:lnTo>
                  <a:lnTo>
                    <a:pt x="427" y="281"/>
                  </a:lnTo>
                  <a:lnTo>
                    <a:pt x="432" y="265"/>
                  </a:lnTo>
                  <a:lnTo>
                    <a:pt x="425" y="239"/>
                  </a:lnTo>
                  <a:lnTo>
                    <a:pt x="430" y="238"/>
                  </a:lnTo>
                  <a:lnTo>
                    <a:pt x="425" y="209"/>
                  </a:lnTo>
                  <a:lnTo>
                    <a:pt x="423" y="179"/>
                  </a:lnTo>
                  <a:lnTo>
                    <a:pt x="423" y="150"/>
                  </a:lnTo>
                  <a:lnTo>
                    <a:pt x="430" y="119"/>
                  </a:lnTo>
                  <a:lnTo>
                    <a:pt x="440" y="85"/>
                  </a:lnTo>
                  <a:lnTo>
                    <a:pt x="458" y="62"/>
                  </a:lnTo>
                  <a:lnTo>
                    <a:pt x="474" y="46"/>
                  </a:lnTo>
                  <a:lnTo>
                    <a:pt x="515" y="24"/>
                  </a:lnTo>
                  <a:lnTo>
                    <a:pt x="546" y="13"/>
                  </a:lnTo>
                  <a:lnTo>
                    <a:pt x="577" y="5"/>
                  </a:lnTo>
                  <a:lnTo>
                    <a:pt x="609" y="0"/>
                  </a:lnTo>
                  <a:lnTo>
                    <a:pt x="634" y="0"/>
                  </a:lnTo>
                  <a:lnTo>
                    <a:pt x="660" y="5"/>
                  </a:lnTo>
                  <a:lnTo>
                    <a:pt x="680" y="11"/>
                  </a:lnTo>
                  <a:lnTo>
                    <a:pt x="697" y="20"/>
                  </a:lnTo>
                  <a:lnTo>
                    <a:pt x="715" y="37"/>
                  </a:lnTo>
                  <a:lnTo>
                    <a:pt x="730" y="59"/>
                  </a:lnTo>
                  <a:lnTo>
                    <a:pt x="751" y="103"/>
                  </a:lnTo>
                  <a:lnTo>
                    <a:pt x="776" y="156"/>
                  </a:lnTo>
                  <a:lnTo>
                    <a:pt x="787" y="169"/>
                  </a:lnTo>
                  <a:lnTo>
                    <a:pt x="792" y="179"/>
                  </a:lnTo>
                  <a:lnTo>
                    <a:pt x="789" y="189"/>
                  </a:lnTo>
                  <a:lnTo>
                    <a:pt x="779" y="197"/>
                  </a:lnTo>
                  <a:lnTo>
                    <a:pt x="745" y="209"/>
                  </a:lnTo>
                  <a:lnTo>
                    <a:pt x="749" y="238"/>
                  </a:lnTo>
                  <a:lnTo>
                    <a:pt x="751" y="264"/>
                  </a:lnTo>
                  <a:lnTo>
                    <a:pt x="751" y="284"/>
                  </a:lnTo>
                  <a:lnTo>
                    <a:pt x="767" y="285"/>
                  </a:lnTo>
                  <a:lnTo>
                    <a:pt x="787" y="323"/>
                  </a:lnTo>
                  <a:lnTo>
                    <a:pt x="937" y="481"/>
                  </a:lnTo>
                  <a:lnTo>
                    <a:pt x="942" y="492"/>
                  </a:lnTo>
                  <a:lnTo>
                    <a:pt x="945" y="502"/>
                  </a:lnTo>
                  <a:lnTo>
                    <a:pt x="942" y="513"/>
                  </a:lnTo>
                  <a:lnTo>
                    <a:pt x="937" y="520"/>
                  </a:lnTo>
                  <a:lnTo>
                    <a:pt x="929" y="523"/>
                  </a:lnTo>
                  <a:lnTo>
                    <a:pt x="929" y="533"/>
                  </a:lnTo>
                  <a:lnTo>
                    <a:pt x="925" y="544"/>
                  </a:lnTo>
                  <a:lnTo>
                    <a:pt x="919" y="551"/>
                  </a:lnTo>
                  <a:lnTo>
                    <a:pt x="925" y="557"/>
                  </a:lnTo>
                  <a:lnTo>
                    <a:pt x="929" y="567"/>
                  </a:lnTo>
                  <a:lnTo>
                    <a:pt x="938" y="580"/>
                  </a:lnTo>
                  <a:lnTo>
                    <a:pt x="956" y="590"/>
                  </a:lnTo>
                  <a:lnTo>
                    <a:pt x="969" y="599"/>
                  </a:lnTo>
                  <a:lnTo>
                    <a:pt x="982" y="611"/>
                  </a:lnTo>
                  <a:lnTo>
                    <a:pt x="995" y="619"/>
                  </a:lnTo>
                  <a:lnTo>
                    <a:pt x="1030" y="608"/>
                  </a:lnTo>
                  <a:lnTo>
                    <a:pt x="1050" y="603"/>
                  </a:lnTo>
                  <a:lnTo>
                    <a:pt x="1069" y="599"/>
                  </a:lnTo>
                  <a:lnTo>
                    <a:pt x="1083" y="594"/>
                  </a:lnTo>
                  <a:lnTo>
                    <a:pt x="1138" y="557"/>
                  </a:lnTo>
                  <a:lnTo>
                    <a:pt x="1208" y="481"/>
                  </a:lnTo>
                  <a:lnTo>
                    <a:pt x="1217" y="482"/>
                  </a:lnTo>
                  <a:lnTo>
                    <a:pt x="1256" y="439"/>
                  </a:lnTo>
                  <a:lnTo>
                    <a:pt x="1258" y="428"/>
                  </a:lnTo>
                  <a:lnTo>
                    <a:pt x="1265" y="417"/>
                  </a:lnTo>
                  <a:lnTo>
                    <a:pt x="1276" y="404"/>
                  </a:lnTo>
                  <a:lnTo>
                    <a:pt x="1431" y="399"/>
                  </a:lnTo>
                  <a:lnTo>
                    <a:pt x="1328" y="458"/>
                  </a:lnTo>
                  <a:lnTo>
                    <a:pt x="1309" y="481"/>
                  </a:lnTo>
                  <a:lnTo>
                    <a:pt x="1278" y="531"/>
                  </a:lnTo>
                  <a:lnTo>
                    <a:pt x="1282" y="544"/>
                  </a:lnTo>
                  <a:lnTo>
                    <a:pt x="1204" y="678"/>
                  </a:lnTo>
                  <a:lnTo>
                    <a:pt x="1180" y="748"/>
                  </a:lnTo>
                  <a:lnTo>
                    <a:pt x="1149" y="772"/>
                  </a:lnTo>
                  <a:lnTo>
                    <a:pt x="1118" y="792"/>
                  </a:lnTo>
                  <a:lnTo>
                    <a:pt x="1079" y="810"/>
                  </a:lnTo>
                  <a:lnTo>
                    <a:pt x="1053" y="815"/>
                  </a:lnTo>
                  <a:lnTo>
                    <a:pt x="1029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78280" y="3743280"/>
              <a:ext cx="299880" cy="8568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8" y="156"/>
                  </a:moveTo>
                  <a:lnTo>
                    <a:pt x="781" y="149"/>
                  </a:lnTo>
                  <a:lnTo>
                    <a:pt x="665" y="154"/>
                  </a:lnTo>
                  <a:lnTo>
                    <a:pt x="658" y="161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5" y="169"/>
                  </a:lnTo>
                  <a:lnTo>
                    <a:pt x="489" y="174"/>
                  </a:lnTo>
                  <a:lnTo>
                    <a:pt x="452" y="174"/>
                  </a:lnTo>
                  <a:lnTo>
                    <a:pt x="322" y="226"/>
                  </a:lnTo>
                  <a:lnTo>
                    <a:pt x="322" y="303"/>
                  </a:lnTo>
                  <a:lnTo>
                    <a:pt x="233" y="322"/>
                  </a:lnTo>
                  <a:lnTo>
                    <a:pt x="233" y="250"/>
                  </a:lnTo>
                  <a:lnTo>
                    <a:pt x="226" y="231"/>
                  </a:lnTo>
                  <a:lnTo>
                    <a:pt x="226" y="213"/>
                  </a:lnTo>
                  <a:lnTo>
                    <a:pt x="223" y="206"/>
                  </a:lnTo>
                  <a:lnTo>
                    <a:pt x="220" y="202"/>
                  </a:lnTo>
                  <a:lnTo>
                    <a:pt x="215" y="200"/>
                  </a:lnTo>
                  <a:lnTo>
                    <a:pt x="210" y="200"/>
                  </a:lnTo>
                  <a:lnTo>
                    <a:pt x="178" y="198"/>
                  </a:lnTo>
                  <a:lnTo>
                    <a:pt x="189" y="215"/>
                  </a:lnTo>
                  <a:lnTo>
                    <a:pt x="191" y="224"/>
                  </a:lnTo>
                  <a:lnTo>
                    <a:pt x="191" y="231"/>
                  </a:lnTo>
                  <a:lnTo>
                    <a:pt x="187" y="234"/>
                  </a:lnTo>
                  <a:lnTo>
                    <a:pt x="179" y="239"/>
                  </a:lnTo>
                  <a:lnTo>
                    <a:pt x="217" y="239"/>
                  </a:lnTo>
                  <a:lnTo>
                    <a:pt x="221" y="239"/>
                  </a:lnTo>
                  <a:lnTo>
                    <a:pt x="223" y="234"/>
                  </a:lnTo>
                  <a:lnTo>
                    <a:pt x="226" y="231"/>
                  </a:lnTo>
                  <a:lnTo>
                    <a:pt x="233" y="250"/>
                  </a:lnTo>
                  <a:lnTo>
                    <a:pt x="149" y="250"/>
                  </a:lnTo>
                  <a:lnTo>
                    <a:pt x="0" y="92"/>
                  </a:lnTo>
                  <a:lnTo>
                    <a:pt x="57" y="92"/>
                  </a:lnTo>
                  <a:lnTo>
                    <a:pt x="57" y="73"/>
                  </a:lnTo>
                  <a:lnTo>
                    <a:pt x="77" y="73"/>
                  </a:lnTo>
                  <a:lnTo>
                    <a:pt x="88" y="34"/>
                  </a:lnTo>
                  <a:lnTo>
                    <a:pt x="94" y="34"/>
                  </a:lnTo>
                  <a:lnTo>
                    <a:pt x="99" y="18"/>
                  </a:lnTo>
                  <a:lnTo>
                    <a:pt x="107" y="9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9"/>
                  </a:lnTo>
                  <a:lnTo>
                    <a:pt x="344" y="35"/>
                  </a:lnTo>
                  <a:lnTo>
                    <a:pt x="349" y="44"/>
                  </a:lnTo>
                  <a:lnTo>
                    <a:pt x="349" y="55"/>
                  </a:lnTo>
                  <a:lnTo>
                    <a:pt x="347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4" y="61"/>
                  </a:lnTo>
                  <a:lnTo>
                    <a:pt x="337" y="53"/>
                  </a:lnTo>
                  <a:lnTo>
                    <a:pt x="337" y="44"/>
                  </a:lnTo>
                  <a:lnTo>
                    <a:pt x="331" y="37"/>
                  </a:lnTo>
                  <a:lnTo>
                    <a:pt x="322" y="34"/>
                  </a:lnTo>
                  <a:lnTo>
                    <a:pt x="166" y="34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3" y="60"/>
                  </a:lnTo>
                  <a:lnTo>
                    <a:pt x="153" y="66"/>
                  </a:lnTo>
                  <a:lnTo>
                    <a:pt x="156" y="70"/>
                  </a:lnTo>
                  <a:lnTo>
                    <a:pt x="163" y="73"/>
                  </a:lnTo>
                  <a:lnTo>
                    <a:pt x="322" y="73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5" y="68"/>
                  </a:lnTo>
                  <a:lnTo>
                    <a:pt x="815" y="70"/>
                  </a:lnTo>
                  <a:lnTo>
                    <a:pt x="818" y="73"/>
                  </a:lnTo>
                  <a:lnTo>
                    <a:pt x="868" y="73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7"/>
                  </a:lnTo>
                  <a:lnTo>
                    <a:pt x="844" y="27"/>
                  </a:lnTo>
                  <a:lnTo>
                    <a:pt x="813" y="66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5" y="68"/>
                  </a:lnTo>
                  <a:lnTo>
                    <a:pt x="851" y="4"/>
                  </a:lnTo>
                  <a:lnTo>
                    <a:pt x="859" y="0"/>
                  </a:lnTo>
                  <a:lnTo>
                    <a:pt x="868" y="4"/>
                  </a:lnTo>
                  <a:lnTo>
                    <a:pt x="875" y="11"/>
                  </a:lnTo>
                  <a:lnTo>
                    <a:pt x="880" y="88"/>
                  </a:lnTo>
                  <a:lnTo>
                    <a:pt x="1004" y="88"/>
                  </a:lnTo>
                  <a:lnTo>
                    <a:pt x="1017" y="81"/>
                  </a:lnTo>
                  <a:lnTo>
                    <a:pt x="1105" y="79"/>
                  </a:lnTo>
                  <a:lnTo>
                    <a:pt x="1113" y="66"/>
                  </a:lnTo>
                  <a:lnTo>
                    <a:pt x="1129" y="66"/>
                  </a:lnTo>
                  <a:lnTo>
                    <a:pt x="1129" y="79"/>
                  </a:lnTo>
                  <a:lnTo>
                    <a:pt x="1136" y="79"/>
                  </a:lnTo>
                  <a:lnTo>
                    <a:pt x="1136" y="117"/>
                  </a:lnTo>
                  <a:lnTo>
                    <a:pt x="1111" y="117"/>
                  </a:lnTo>
                  <a:lnTo>
                    <a:pt x="1100" y="110"/>
                  </a:lnTo>
                  <a:lnTo>
                    <a:pt x="880" y="110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7"/>
                  </a:lnTo>
                  <a:lnTo>
                    <a:pt x="823" y="117"/>
                  </a:lnTo>
                  <a:lnTo>
                    <a:pt x="823" y="136"/>
                  </a:lnTo>
                  <a:lnTo>
                    <a:pt x="810" y="136"/>
                  </a:lnTo>
                  <a:lnTo>
                    <a:pt x="798" y="1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78280" y="3743280"/>
              <a:ext cx="299880" cy="8568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8" y="156"/>
                  </a:moveTo>
                  <a:lnTo>
                    <a:pt x="781" y="149"/>
                  </a:lnTo>
                  <a:lnTo>
                    <a:pt x="665" y="154"/>
                  </a:lnTo>
                  <a:lnTo>
                    <a:pt x="658" y="161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5" y="169"/>
                  </a:lnTo>
                  <a:lnTo>
                    <a:pt x="489" y="174"/>
                  </a:lnTo>
                  <a:lnTo>
                    <a:pt x="452" y="174"/>
                  </a:lnTo>
                  <a:lnTo>
                    <a:pt x="322" y="226"/>
                  </a:lnTo>
                  <a:lnTo>
                    <a:pt x="322" y="303"/>
                  </a:lnTo>
                  <a:lnTo>
                    <a:pt x="233" y="322"/>
                  </a:lnTo>
                  <a:lnTo>
                    <a:pt x="233" y="250"/>
                  </a:lnTo>
                  <a:lnTo>
                    <a:pt x="226" y="231"/>
                  </a:lnTo>
                  <a:lnTo>
                    <a:pt x="226" y="213"/>
                  </a:lnTo>
                  <a:lnTo>
                    <a:pt x="223" y="206"/>
                  </a:lnTo>
                  <a:lnTo>
                    <a:pt x="220" y="202"/>
                  </a:lnTo>
                  <a:lnTo>
                    <a:pt x="215" y="200"/>
                  </a:lnTo>
                  <a:lnTo>
                    <a:pt x="210" y="200"/>
                  </a:lnTo>
                  <a:lnTo>
                    <a:pt x="178" y="198"/>
                  </a:lnTo>
                  <a:lnTo>
                    <a:pt x="189" y="215"/>
                  </a:lnTo>
                  <a:lnTo>
                    <a:pt x="191" y="224"/>
                  </a:lnTo>
                  <a:lnTo>
                    <a:pt x="191" y="231"/>
                  </a:lnTo>
                  <a:lnTo>
                    <a:pt x="187" y="234"/>
                  </a:lnTo>
                  <a:lnTo>
                    <a:pt x="179" y="239"/>
                  </a:lnTo>
                  <a:lnTo>
                    <a:pt x="217" y="239"/>
                  </a:lnTo>
                  <a:lnTo>
                    <a:pt x="221" y="239"/>
                  </a:lnTo>
                  <a:lnTo>
                    <a:pt x="223" y="234"/>
                  </a:lnTo>
                  <a:lnTo>
                    <a:pt x="226" y="231"/>
                  </a:lnTo>
                  <a:lnTo>
                    <a:pt x="233" y="250"/>
                  </a:lnTo>
                  <a:lnTo>
                    <a:pt x="149" y="250"/>
                  </a:lnTo>
                  <a:lnTo>
                    <a:pt x="0" y="92"/>
                  </a:lnTo>
                  <a:lnTo>
                    <a:pt x="57" y="92"/>
                  </a:lnTo>
                  <a:lnTo>
                    <a:pt x="57" y="73"/>
                  </a:lnTo>
                  <a:lnTo>
                    <a:pt x="77" y="73"/>
                  </a:lnTo>
                  <a:lnTo>
                    <a:pt x="88" y="34"/>
                  </a:lnTo>
                  <a:lnTo>
                    <a:pt x="94" y="34"/>
                  </a:lnTo>
                  <a:lnTo>
                    <a:pt x="99" y="18"/>
                  </a:lnTo>
                  <a:lnTo>
                    <a:pt x="107" y="9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9"/>
                  </a:lnTo>
                  <a:lnTo>
                    <a:pt x="344" y="35"/>
                  </a:lnTo>
                  <a:lnTo>
                    <a:pt x="349" y="44"/>
                  </a:lnTo>
                  <a:lnTo>
                    <a:pt x="349" y="55"/>
                  </a:lnTo>
                  <a:lnTo>
                    <a:pt x="347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4" y="61"/>
                  </a:lnTo>
                  <a:lnTo>
                    <a:pt x="337" y="53"/>
                  </a:lnTo>
                  <a:lnTo>
                    <a:pt x="337" y="44"/>
                  </a:lnTo>
                  <a:lnTo>
                    <a:pt x="331" y="37"/>
                  </a:lnTo>
                  <a:lnTo>
                    <a:pt x="322" y="34"/>
                  </a:lnTo>
                  <a:lnTo>
                    <a:pt x="166" y="34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3" y="60"/>
                  </a:lnTo>
                  <a:lnTo>
                    <a:pt x="153" y="66"/>
                  </a:lnTo>
                  <a:lnTo>
                    <a:pt x="156" y="70"/>
                  </a:lnTo>
                  <a:lnTo>
                    <a:pt x="163" y="73"/>
                  </a:lnTo>
                  <a:lnTo>
                    <a:pt x="322" y="73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5" y="68"/>
                  </a:lnTo>
                  <a:lnTo>
                    <a:pt x="815" y="70"/>
                  </a:lnTo>
                  <a:lnTo>
                    <a:pt x="818" y="73"/>
                  </a:lnTo>
                  <a:lnTo>
                    <a:pt x="868" y="73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7"/>
                  </a:lnTo>
                  <a:lnTo>
                    <a:pt x="844" y="27"/>
                  </a:lnTo>
                  <a:lnTo>
                    <a:pt x="813" y="66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5" y="68"/>
                  </a:lnTo>
                  <a:lnTo>
                    <a:pt x="851" y="4"/>
                  </a:lnTo>
                  <a:lnTo>
                    <a:pt x="859" y="0"/>
                  </a:lnTo>
                  <a:lnTo>
                    <a:pt x="868" y="4"/>
                  </a:lnTo>
                  <a:lnTo>
                    <a:pt x="875" y="11"/>
                  </a:lnTo>
                  <a:lnTo>
                    <a:pt x="880" y="88"/>
                  </a:lnTo>
                  <a:lnTo>
                    <a:pt x="1004" y="88"/>
                  </a:lnTo>
                  <a:lnTo>
                    <a:pt x="1017" y="81"/>
                  </a:lnTo>
                  <a:lnTo>
                    <a:pt x="1105" y="79"/>
                  </a:lnTo>
                  <a:lnTo>
                    <a:pt x="1113" y="66"/>
                  </a:lnTo>
                  <a:lnTo>
                    <a:pt x="1129" y="66"/>
                  </a:lnTo>
                  <a:lnTo>
                    <a:pt x="1129" y="79"/>
                  </a:lnTo>
                  <a:lnTo>
                    <a:pt x="1136" y="79"/>
                  </a:lnTo>
                  <a:lnTo>
                    <a:pt x="1136" y="117"/>
                  </a:lnTo>
                  <a:lnTo>
                    <a:pt x="1111" y="117"/>
                  </a:lnTo>
                  <a:lnTo>
                    <a:pt x="1100" y="110"/>
                  </a:lnTo>
                  <a:lnTo>
                    <a:pt x="880" y="110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7"/>
                  </a:lnTo>
                  <a:lnTo>
                    <a:pt x="823" y="117"/>
                  </a:lnTo>
                  <a:lnTo>
                    <a:pt x="823" y="136"/>
                  </a:lnTo>
                  <a:lnTo>
                    <a:pt x="810" y="136"/>
                  </a:lnTo>
                  <a:lnTo>
                    <a:pt x="798" y="1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41800" y="2724120"/>
              <a:ext cx="382320" cy="444600"/>
            </a:xfrm>
            <a:custGeom>
              <a:avLst/>
              <a:gdLst/>
              <a:ahLst/>
              <a:rect l="l" t="t" r="r" b="b"/>
              <a:pathLst>
                <a:path w="1442" h="1681">
                  <a:moveTo>
                    <a:pt x="763" y="824"/>
                  </a:moveTo>
                  <a:lnTo>
                    <a:pt x="789" y="804"/>
                  </a:lnTo>
                  <a:lnTo>
                    <a:pt x="813" y="790"/>
                  </a:lnTo>
                  <a:lnTo>
                    <a:pt x="838" y="776"/>
                  </a:lnTo>
                  <a:lnTo>
                    <a:pt x="863" y="765"/>
                  </a:lnTo>
                  <a:lnTo>
                    <a:pt x="815" y="735"/>
                  </a:lnTo>
                  <a:lnTo>
                    <a:pt x="794" y="719"/>
                  </a:lnTo>
                  <a:lnTo>
                    <a:pt x="770" y="702"/>
                  </a:lnTo>
                  <a:lnTo>
                    <a:pt x="771" y="733"/>
                  </a:lnTo>
                  <a:lnTo>
                    <a:pt x="768" y="761"/>
                  </a:lnTo>
                  <a:lnTo>
                    <a:pt x="763" y="824"/>
                  </a:lnTo>
                  <a:close/>
                  <a:moveTo>
                    <a:pt x="1040" y="816"/>
                  </a:moveTo>
                  <a:lnTo>
                    <a:pt x="1043" y="881"/>
                  </a:lnTo>
                  <a:lnTo>
                    <a:pt x="1043" y="958"/>
                  </a:lnTo>
                  <a:lnTo>
                    <a:pt x="1035" y="1049"/>
                  </a:lnTo>
                  <a:lnTo>
                    <a:pt x="1019" y="1134"/>
                  </a:lnTo>
                  <a:lnTo>
                    <a:pt x="1001" y="1220"/>
                  </a:lnTo>
                  <a:lnTo>
                    <a:pt x="983" y="1278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5"/>
                  </a:lnTo>
                  <a:lnTo>
                    <a:pt x="942" y="1386"/>
                  </a:lnTo>
                  <a:lnTo>
                    <a:pt x="942" y="1397"/>
                  </a:lnTo>
                  <a:lnTo>
                    <a:pt x="934" y="1410"/>
                  </a:lnTo>
                  <a:lnTo>
                    <a:pt x="947" y="1422"/>
                  </a:lnTo>
                  <a:lnTo>
                    <a:pt x="955" y="1432"/>
                  </a:lnTo>
                  <a:lnTo>
                    <a:pt x="963" y="1449"/>
                  </a:lnTo>
                  <a:lnTo>
                    <a:pt x="976" y="1454"/>
                  </a:lnTo>
                  <a:lnTo>
                    <a:pt x="983" y="1461"/>
                  </a:lnTo>
                  <a:lnTo>
                    <a:pt x="989" y="1471"/>
                  </a:lnTo>
                  <a:lnTo>
                    <a:pt x="996" y="1482"/>
                  </a:lnTo>
                  <a:lnTo>
                    <a:pt x="1002" y="1494"/>
                  </a:lnTo>
                  <a:lnTo>
                    <a:pt x="1040" y="1513"/>
                  </a:lnTo>
                  <a:lnTo>
                    <a:pt x="1063" y="1524"/>
                  </a:lnTo>
                  <a:lnTo>
                    <a:pt x="1074" y="1533"/>
                  </a:lnTo>
                  <a:lnTo>
                    <a:pt x="1079" y="1544"/>
                  </a:lnTo>
                  <a:lnTo>
                    <a:pt x="1079" y="1564"/>
                  </a:lnTo>
                  <a:lnTo>
                    <a:pt x="1059" y="1569"/>
                  </a:lnTo>
                  <a:lnTo>
                    <a:pt x="1033" y="1572"/>
                  </a:lnTo>
                  <a:lnTo>
                    <a:pt x="991" y="1570"/>
                  </a:lnTo>
                  <a:lnTo>
                    <a:pt x="954" y="1564"/>
                  </a:lnTo>
                  <a:lnTo>
                    <a:pt x="913" y="1551"/>
                  </a:lnTo>
                  <a:lnTo>
                    <a:pt x="882" y="1536"/>
                  </a:lnTo>
                  <a:lnTo>
                    <a:pt x="857" y="1520"/>
                  </a:lnTo>
                  <a:lnTo>
                    <a:pt x="833" y="1518"/>
                  </a:lnTo>
                  <a:lnTo>
                    <a:pt x="813" y="1515"/>
                  </a:lnTo>
                  <a:lnTo>
                    <a:pt x="794" y="1509"/>
                  </a:lnTo>
                  <a:lnTo>
                    <a:pt x="776" y="1502"/>
                  </a:lnTo>
                  <a:lnTo>
                    <a:pt x="771" y="1481"/>
                  </a:lnTo>
                  <a:lnTo>
                    <a:pt x="774" y="1463"/>
                  </a:lnTo>
                  <a:lnTo>
                    <a:pt x="776" y="1445"/>
                  </a:lnTo>
                  <a:lnTo>
                    <a:pt x="781" y="1430"/>
                  </a:lnTo>
                  <a:lnTo>
                    <a:pt x="787" y="1414"/>
                  </a:lnTo>
                  <a:lnTo>
                    <a:pt x="794" y="1399"/>
                  </a:lnTo>
                  <a:lnTo>
                    <a:pt x="802" y="1386"/>
                  </a:lnTo>
                  <a:lnTo>
                    <a:pt x="802" y="1370"/>
                  </a:lnTo>
                  <a:lnTo>
                    <a:pt x="802" y="1355"/>
                  </a:lnTo>
                  <a:lnTo>
                    <a:pt x="807" y="1344"/>
                  </a:lnTo>
                  <a:lnTo>
                    <a:pt x="813" y="1334"/>
                  </a:lnTo>
                  <a:lnTo>
                    <a:pt x="813" y="1281"/>
                  </a:lnTo>
                  <a:lnTo>
                    <a:pt x="794" y="1272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8"/>
                  </a:lnTo>
                  <a:lnTo>
                    <a:pt x="796" y="1209"/>
                  </a:lnTo>
                  <a:lnTo>
                    <a:pt x="801" y="1179"/>
                  </a:lnTo>
                  <a:lnTo>
                    <a:pt x="807" y="1140"/>
                  </a:lnTo>
                  <a:lnTo>
                    <a:pt x="818" y="1101"/>
                  </a:lnTo>
                  <a:lnTo>
                    <a:pt x="833" y="1059"/>
                  </a:lnTo>
                  <a:lnTo>
                    <a:pt x="807" y="1090"/>
                  </a:lnTo>
                  <a:lnTo>
                    <a:pt x="779" y="1120"/>
                  </a:lnTo>
                  <a:lnTo>
                    <a:pt x="755" y="1145"/>
                  </a:lnTo>
                  <a:lnTo>
                    <a:pt x="726" y="1171"/>
                  </a:lnTo>
                  <a:lnTo>
                    <a:pt x="701" y="1190"/>
                  </a:lnTo>
                  <a:lnTo>
                    <a:pt x="672" y="1215"/>
                  </a:lnTo>
                  <a:lnTo>
                    <a:pt x="643" y="1236"/>
                  </a:lnTo>
                  <a:lnTo>
                    <a:pt x="608" y="1256"/>
                  </a:lnTo>
                  <a:lnTo>
                    <a:pt x="574" y="1277"/>
                  </a:lnTo>
                  <a:lnTo>
                    <a:pt x="544" y="1287"/>
                  </a:lnTo>
                  <a:lnTo>
                    <a:pt x="514" y="1300"/>
                  </a:lnTo>
                  <a:lnTo>
                    <a:pt x="484" y="1310"/>
                  </a:lnTo>
                  <a:lnTo>
                    <a:pt x="458" y="1412"/>
                  </a:lnTo>
                  <a:lnTo>
                    <a:pt x="456" y="1441"/>
                  </a:lnTo>
                  <a:lnTo>
                    <a:pt x="452" y="1471"/>
                  </a:lnTo>
                  <a:lnTo>
                    <a:pt x="447" y="1495"/>
                  </a:lnTo>
                  <a:lnTo>
                    <a:pt x="440" y="1520"/>
                  </a:lnTo>
                  <a:lnTo>
                    <a:pt x="432" y="1544"/>
                  </a:lnTo>
                  <a:lnTo>
                    <a:pt x="419" y="1570"/>
                  </a:lnTo>
                  <a:lnTo>
                    <a:pt x="406" y="1590"/>
                  </a:lnTo>
                  <a:lnTo>
                    <a:pt x="391" y="1607"/>
                  </a:lnTo>
                  <a:lnTo>
                    <a:pt x="386" y="1625"/>
                  </a:lnTo>
                  <a:lnTo>
                    <a:pt x="375" y="1643"/>
                  </a:lnTo>
                  <a:lnTo>
                    <a:pt x="357" y="1658"/>
                  </a:lnTo>
                  <a:lnTo>
                    <a:pt x="331" y="1671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8" y="1673"/>
                  </a:lnTo>
                  <a:lnTo>
                    <a:pt x="204" y="1665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6" y="1632"/>
                  </a:lnTo>
                  <a:lnTo>
                    <a:pt x="139" y="1603"/>
                  </a:lnTo>
                  <a:lnTo>
                    <a:pt x="127" y="1570"/>
                  </a:lnTo>
                  <a:lnTo>
                    <a:pt x="119" y="1542"/>
                  </a:lnTo>
                  <a:lnTo>
                    <a:pt x="112" y="1507"/>
                  </a:lnTo>
                  <a:lnTo>
                    <a:pt x="112" y="1474"/>
                  </a:lnTo>
                  <a:lnTo>
                    <a:pt x="107" y="1417"/>
                  </a:lnTo>
                  <a:lnTo>
                    <a:pt x="125" y="1384"/>
                  </a:lnTo>
                  <a:lnTo>
                    <a:pt x="132" y="1342"/>
                  </a:lnTo>
                  <a:lnTo>
                    <a:pt x="145" y="1324"/>
                  </a:lnTo>
                  <a:lnTo>
                    <a:pt x="140" y="1300"/>
                  </a:lnTo>
                  <a:lnTo>
                    <a:pt x="135" y="1278"/>
                  </a:lnTo>
                  <a:lnTo>
                    <a:pt x="99" y="1250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1" y="1173"/>
                  </a:lnTo>
                  <a:lnTo>
                    <a:pt x="107" y="1168"/>
                  </a:lnTo>
                  <a:lnTo>
                    <a:pt x="99" y="1165"/>
                  </a:lnTo>
                  <a:lnTo>
                    <a:pt x="93" y="1153"/>
                  </a:lnTo>
                  <a:lnTo>
                    <a:pt x="90" y="1145"/>
                  </a:lnTo>
                  <a:lnTo>
                    <a:pt x="80" y="1147"/>
                  </a:lnTo>
                  <a:lnTo>
                    <a:pt x="65" y="1145"/>
                  </a:lnTo>
                  <a:lnTo>
                    <a:pt x="55" y="1138"/>
                  </a:lnTo>
                  <a:lnTo>
                    <a:pt x="44" y="1129"/>
                  </a:lnTo>
                  <a:lnTo>
                    <a:pt x="36" y="1114"/>
                  </a:lnTo>
                  <a:lnTo>
                    <a:pt x="27" y="1101"/>
                  </a:lnTo>
                  <a:lnTo>
                    <a:pt x="23" y="1085"/>
                  </a:lnTo>
                  <a:lnTo>
                    <a:pt x="13" y="1081"/>
                  </a:lnTo>
                  <a:lnTo>
                    <a:pt x="2" y="994"/>
                  </a:lnTo>
                  <a:lnTo>
                    <a:pt x="11" y="990"/>
                  </a:lnTo>
                  <a:lnTo>
                    <a:pt x="11" y="953"/>
                  </a:lnTo>
                  <a:lnTo>
                    <a:pt x="0" y="952"/>
                  </a:lnTo>
                  <a:lnTo>
                    <a:pt x="2" y="930"/>
                  </a:lnTo>
                  <a:lnTo>
                    <a:pt x="10" y="912"/>
                  </a:lnTo>
                  <a:lnTo>
                    <a:pt x="11" y="901"/>
                  </a:lnTo>
                  <a:lnTo>
                    <a:pt x="18" y="893"/>
                  </a:lnTo>
                  <a:lnTo>
                    <a:pt x="23" y="877"/>
                  </a:lnTo>
                  <a:lnTo>
                    <a:pt x="24" y="868"/>
                  </a:lnTo>
                  <a:lnTo>
                    <a:pt x="29" y="860"/>
                  </a:lnTo>
                  <a:lnTo>
                    <a:pt x="52" y="852"/>
                  </a:lnTo>
                  <a:lnTo>
                    <a:pt x="44" y="836"/>
                  </a:lnTo>
                  <a:lnTo>
                    <a:pt x="51" y="806"/>
                  </a:lnTo>
                  <a:lnTo>
                    <a:pt x="52" y="800"/>
                  </a:lnTo>
                  <a:lnTo>
                    <a:pt x="55" y="795"/>
                  </a:lnTo>
                  <a:lnTo>
                    <a:pt x="62" y="795"/>
                  </a:lnTo>
                  <a:lnTo>
                    <a:pt x="62" y="787"/>
                  </a:lnTo>
                  <a:lnTo>
                    <a:pt x="99" y="787"/>
                  </a:lnTo>
                  <a:lnTo>
                    <a:pt x="99" y="795"/>
                  </a:lnTo>
                  <a:lnTo>
                    <a:pt x="103" y="795"/>
                  </a:lnTo>
                  <a:lnTo>
                    <a:pt x="107" y="800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6"/>
                  </a:lnTo>
                  <a:lnTo>
                    <a:pt x="110" y="844"/>
                  </a:lnTo>
                  <a:lnTo>
                    <a:pt x="106" y="848"/>
                  </a:lnTo>
                  <a:lnTo>
                    <a:pt x="112" y="852"/>
                  </a:lnTo>
                  <a:lnTo>
                    <a:pt x="121" y="852"/>
                  </a:lnTo>
                  <a:lnTo>
                    <a:pt x="127" y="848"/>
                  </a:lnTo>
                  <a:lnTo>
                    <a:pt x="132" y="842"/>
                  </a:lnTo>
                  <a:lnTo>
                    <a:pt x="129" y="832"/>
                  </a:lnTo>
                  <a:lnTo>
                    <a:pt x="112" y="836"/>
                  </a:lnTo>
                  <a:lnTo>
                    <a:pt x="112" y="823"/>
                  </a:lnTo>
                  <a:lnTo>
                    <a:pt x="134" y="819"/>
                  </a:lnTo>
                  <a:lnTo>
                    <a:pt x="140" y="823"/>
                  </a:lnTo>
                  <a:lnTo>
                    <a:pt x="147" y="824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6"/>
                  </a:lnTo>
                  <a:lnTo>
                    <a:pt x="182" y="609"/>
                  </a:lnTo>
                  <a:lnTo>
                    <a:pt x="191" y="580"/>
                  </a:lnTo>
                  <a:lnTo>
                    <a:pt x="199" y="560"/>
                  </a:lnTo>
                  <a:lnTo>
                    <a:pt x="212" y="544"/>
                  </a:lnTo>
                  <a:lnTo>
                    <a:pt x="202" y="504"/>
                  </a:lnTo>
                  <a:lnTo>
                    <a:pt x="197" y="477"/>
                  </a:lnTo>
                  <a:lnTo>
                    <a:pt x="199" y="453"/>
                  </a:lnTo>
                  <a:lnTo>
                    <a:pt x="208" y="425"/>
                  </a:lnTo>
                  <a:lnTo>
                    <a:pt x="228" y="390"/>
                  </a:lnTo>
                  <a:lnTo>
                    <a:pt x="248" y="361"/>
                  </a:lnTo>
                  <a:lnTo>
                    <a:pt x="277" y="335"/>
                  </a:lnTo>
                  <a:lnTo>
                    <a:pt x="305" y="317"/>
                  </a:lnTo>
                  <a:lnTo>
                    <a:pt x="323" y="300"/>
                  </a:lnTo>
                  <a:lnTo>
                    <a:pt x="339" y="289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89"/>
                  </a:lnTo>
                  <a:lnTo>
                    <a:pt x="438" y="280"/>
                  </a:lnTo>
                  <a:lnTo>
                    <a:pt x="443" y="264"/>
                  </a:lnTo>
                  <a:lnTo>
                    <a:pt x="437" y="238"/>
                  </a:lnTo>
                  <a:lnTo>
                    <a:pt x="440" y="236"/>
                  </a:lnTo>
                  <a:lnTo>
                    <a:pt x="437" y="207"/>
                  </a:lnTo>
                  <a:lnTo>
                    <a:pt x="434" y="179"/>
                  </a:lnTo>
                  <a:lnTo>
                    <a:pt x="434" y="148"/>
                  </a:lnTo>
                  <a:lnTo>
                    <a:pt x="440" y="117"/>
                  </a:lnTo>
                  <a:lnTo>
                    <a:pt x="452" y="85"/>
                  </a:lnTo>
                  <a:lnTo>
                    <a:pt x="469" y="61"/>
                  </a:lnTo>
                  <a:lnTo>
                    <a:pt x="484" y="46"/>
                  </a:lnTo>
                  <a:lnTo>
                    <a:pt x="527" y="23"/>
                  </a:lnTo>
                  <a:lnTo>
                    <a:pt x="557" y="13"/>
                  </a:lnTo>
                  <a:lnTo>
                    <a:pt x="588" y="3"/>
                  </a:lnTo>
                  <a:lnTo>
                    <a:pt x="621" y="0"/>
                  </a:lnTo>
                  <a:lnTo>
                    <a:pt x="644" y="0"/>
                  </a:lnTo>
                  <a:lnTo>
                    <a:pt x="671" y="3"/>
                  </a:lnTo>
                  <a:lnTo>
                    <a:pt x="691" y="10"/>
                  </a:lnTo>
                  <a:lnTo>
                    <a:pt x="709" y="19"/>
                  </a:lnTo>
                  <a:lnTo>
                    <a:pt x="725" y="36"/>
                  </a:lnTo>
                  <a:lnTo>
                    <a:pt x="741" y="59"/>
                  </a:lnTo>
                  <a:lnTo>
                    <a:pt x="763" y="103"/>
                  </a:lnTo>
                  <a:lnTo>
                    <a:pt x="787" y="155"/>
                  </a:lnTo>
                  <a:lnTo>
                    <a:pt x="798" y="168"/>
                  </a:lnTo>
                  <a:lnTo>
                    <a:pt x="802" y="179"/>
                  </a:lnTo>
                  <a:lnTo>
                    <a:pt x="800" y="188"/>
                  </a:lnTo>
                  <a:lnTo>
                    <a:pt x="789" y="197"/>
                  </a:lnTo>
                  <a:lnTo>
                    <a:pt x="756" y="207"/>
                  </a:lnTo>
                  <a:lnTo>
                    <a:pt x="761" y="236"/>
                  </a:lnTo>
                  <a:lnTo>
                    <a:pt x="763" y="262"/>
                  </a:lnTo>
                  <a:lnTo>
                    <a:pt x="763" y="282"/>
                  </a:lnTo>
                  <a:lnTo>
                    <a:pt x="779" y="285"/>
                  </a:lnTo>
                  <a:lnTo>
                    <a:pt x="798" y="321"/>
                  </a:lnTo>
                  <a:lnTo>
                    <a:pt x="947" y="479"/>
                  </a:lnTo>
                  <a:lnTo>
                    <a:pt x="954" y="491"/>
                  </a:lnTo>
                  <a:lnTo>
                    <a:pt x="955" y="502"/>
                  </a:lnTo>
                  <a:lnTo>
                    <a:pt x="954" y="513"/>
                  </a:lnTo>
                  <a:lnTo>
                    <a:pt x="947" y="519"/>
                  </a:lnTo>
                  <a:lnTo>
                    <a:pt x="941" y="521"/>
                  </a:lnTo>
                  <a:lnTo>
                    <a:pt x="941" y="533"/>
                  </a:lnTo>
                  <a:lnTo>
                    <a:pt x="936" y="544"/>
                  </a:lnTo>
                  <a:lnTo>
                    <a:pt x="929" y="550"/>
                  </a:lnTo>
                  <a:lnTo>
                    <a:pt x="936" y="557"/>
                  </a:lnTo>
                  <a:lnTo>
                    <a:pt x="941" y="565"/>
                  </a:lnTo>
                  <a:lnTo>
                    <a:pt x="949" y="579"/>
                  </a:lnTo>
                  <a:lnTo>
                    <a:pt x="967" y="590"/>
                  </a:lnTo>
                  <a:lnTo>
                    <a:pt x="980" y="598"/>
                  </a:lnTo>
                  <a:lnTo>
                    <a:pt x="993" y="609"/>
                  </a:lnTo>
                  <a:lnTo>
                    <a:pt x="1006" y="618"/>
                  </a:lnTo>
                  <a:lnTo>
                    <a:pt x="1041" y="607"/>
                  </a:lnTo>
                  <a:lnTo>
                    <a:pt x="1061" y="603"/>
                  </a:lnTo>
                  <a:lnTo>
                    <a:pt x="1081" y="598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19" y="479"/>
                  </a:lnTo>
                  <a:lnTo>
                    <a:pt x="1228" y="482"/>
                  </a:lnTo>
                  <a:lnTo>
                    <a:pt x="1268" y="438"/>
                  </a:lnTo>
                  <a:lnTo>
                    <a:pt x="1270" y="427"/>
                  </a:lnTo>
                  <a:lnTo>
                    <a:pt x="1276" y="416"/>
                  </a:lnTo>
                  <a:lnTo>
                    <a:pt x="1287" y="402"/>
                  </a:lnTo>
                  <a:lnTo>
                    <a:pt x="1442" y="399"/>
                  </a:lnTo>
                  <a:lnTo>
                    <a:pt x="1340" y="458"/>
                  </a:lnTo>
                  <a:lnTo>
                    <a:pt x="1320" y="479"/>
                  </a:lnTo>
                  <a:lnTo>
                    <a:pt x="1289" y="531"/>
                  </a:lnTo>
                  <a:lnTo>
                    <a:pt x="1294" y="544"/>
                  </a:lnTo>
                  <a:lnTo>
                    <a:pt x="1214" y="678"/>
                  </a:lnTo>
                  <a:lnTo>
                    <a:pt x="1190" y="748"/>
                  </a:lnTo>
                  <a:lnTo>
                    <a:pt x="1160" y="772"/>
                  </a:lnTo>
                  <a:lnTo>
                    <a:pt x="1129" y="792"/>
                  </a:lnTo>
                  <a:lnTo>
                    <a:pt x="1090" y="809"/>
                  </a:lnTo>
                  <a:lnTo>
                    <a:pt x="1063" y="813"/>
                  </a:lnTo>
                  <a:lnTo>
                    <a:pt x="1040" y="816"/>
                  </a:lnTo>
                  <a:close/>
                  <a:moveTo>
                    <a:pt x="151" y="854"/>
                  </a:moveTo>
                  <a:lnTo>
                    <a:pt x="140" y="863"/>
                  </a:lnTo>
                  <a:lnTo>
                    <a:pt x="145" y="870"/>
                  </a:lnTo>
                  <a:lnTo>
                    <a:pt x="148" y="879"/>
                  </a:lnTo>
                  <a:lnTo>
                    <a:pt x="151" y="870"/>
                  </a:lnTo>
                  <a:lnTo>
                    <a:pt x="153" y="862"/>
                  </a:lnTo>
                  <a:lnTo>
                    <a:pt x="151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41800" y="2724120"/>
              <a:ext cx="382320" cy="444600"/>
            </a:xfrm>
            <a:custGeom>
              <a:avLst/>
              <a:gdLst/>
              <a:ahLst/>
              <a:rect l="l" t="t" r="r" b="b"/>
              <a:pathLst>
                <a:path w="1442" h="1681">
                  <a:moveTo>
                    <a:pt x="1040" y="816"/>
                  </a:moveTo>
                  <a:lnTo>
                    <a:pt x="1043" y="881"/>
                  </a:lnTo>
                  <a:lnTo>
                    <a:pt x="1043" y="958"/>
                  </a:lnTo>
                  <a:lnTo>
                    <a:pt x="1035" y="1049"/>
                  </a:lnTo>
                  <a:lnTo>
                    <a:pt x="1019" y="1134"/>
                  </a:lnTo>
                  <a:lnTo>
                    <a:pt x="1001" y="1220"/>
                  </a:lnTo>
                  <a:lnTo>
                    <a:pt x="983" y="1278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5"/>
                  </a:lnTo>
                  <a:lnTo>
                    <a:pt x="942" y="1386"/>
                  </a:lnTo>
                  <a:lnTo>
                    <a:pt x="942" y="1397"/>
                  </a:lnTo>
                  <a:lnTo>
                    <a:pt x="934" y="1410"/>
                  </a:lnTo>
                  <a:lnTo>
                    <a:pt x="947" y="1422"/>
                  </a:lnTo>
                  <a:lnTo>
                    <a:pt x="955" y="1432"/>
                  </a:lnTo>
                  <a:lnTo>
                    <a:pt x="963" y="1449"/>
                  </a:lnTo>
                  <a:lnTo>
                    <a:pt x="976" y="1454"/>
                  </a:lnTo>
                  <a:lnTo>
                    <a:pt x="983" y="1461"/>
                  </a:lnTo>
                  <a:lnTo>
                    <a:pt x="989" y="1471"/>
                  </a:lnTo>
                  <a:lnTo>
                    <a:pt x="996" y="1482"/>
                  </a:lnTo>
                  <a:lnTo>
                    <a:pt x="1002" y="1494"/>
                  </a:lnTo>
                  <a:lnTo>
                    <a:pt x="1040" y="1513"/>
                  </a:lnTo>
                  <a:lnTo>
                    <a:pt x="1063" y="1524"/>
                  </a:lnTo>
                  <a:lnTo>
                    <a:pt x="1074" y="1533"/>
                  </a:lnTo>
                  <a:lnTo>
                    <a:pt x="1079" y="1544"/>
                  </a:lnTo>
                  <a:lnTo>
                    <a:pt x="1079" y="1564"/>
                  </a:lnTo>
                  <a:lnTo>
                    <a:pt x="1059" y="1569"/>
                  </a:lnTo>
                  <a:lnTo>
                    <a:pt x="1033" y="1572"/>
                  </a:lnTo>
                  <a:lnTo>
                    <a:pt x="991" y="1570"/>
                  </a:lnTo>
                  <a:lnTo>
                    <a:pt x="954" y="1564"/>
                  </a:lnTo>
                  <a:lnTo>
                    <a:pt x="913" y="1551"/>
                  </a:lnTo>
                  <a:lnTo>
                    <a:pt x="882" y="1536"/>
                  </a:lnTo>
                  <a:lnTo>
                    <a:pt x="857" y="1520"/>
                  </a:lnTo>
                  <a:lnTo>
                    <a:pt x="833" y="1518"/>
                  </a:lnTo>
                  <a:lnTo>
                    <a:pt x="813" y="1515"/>
                  </a:lnTo>
                  <a:lnTo>
                    <a:pt x="794" y="1509"/>
                  </a:lnTo>
                  <a:lnTo>
                    <a:pt x="776" y="1502"/>
                  </a:lnTo>
                  <a:lnTo>
                    <a:pt x="771" y="1481"/>
                  </a:lnTo>
                  <a:lnTo>
                    <a:pt x="774" y="1463"/>
                  </a:lnTo>
                  <a:lnTo>
                    <a:pt x="776" y="1445"/>
                  </a:lnTo>
                  <a:lnTo>
                    <a:pt x="781" y="1430"/>
                  </a:lnTo>
                  <a:lnTo>
                    <a:pt x="787" y="1414"/>
                  </a:lnTo>
                  <a:lnTo>
                    <a:pt x="794" y="1399"/>
                  </a:lnTo>
                  <a:lnTo>
                    <a:pt x="802" y="1386"/>
                  </a:lnTo>
                  <a:lnTo>
                    <a:pt x="802" y="1370"/>
                  </a:lnTo>
                  <a:lnTo>
                    <a:pt x="802" y="1355"/>
                  </a:lnTo>
                  <a:lnTo>
                    <a:pt x="807" y="1344"/>
                  </a:lnTo>
                  <a:lnTo>
                    <a:pt x="813" y="1334"/>
                  </a:lnTo>
                  <a:lnTo>
                    <a:pt x="813" y="1281"/>
                  </a:lnTo>
                  <a:lnTo>
                    <a:pt x="794" y="1272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8"/>
                  </a:lnTo>
                  <a:lnTo>
                    <a:pt x="796" y="1209"/>
                  </a:lnTo>
                  <a:lnTo>
                    <a:pt x="801" y="1179"/>
                  </a:lnTo>
                  <a:lnTo>
                    <a:pt x="807" y="1140"/>
                  </a:lnTo>
                  <a:lnTo>
                    <a:pt x="818" y="1101"/>
                  </a:lnTo>
                  <a:lnTo>
                    <a:pt x="833" y="1059"/>
                  </a:lnTo>
                  <a:lnTo>
                    <a:pt x="807" y="1090"/>
                  </a:lnTo>
                  <a:lnTo>
                    <a:pt x="779" y="1120"/>
                  </a:lnTo>
                  <a:lnTo>
                    <a:pt x="755" y="1145"/>
                  </a:lnTo>
                  <a:lnTo>
                    <a:pt x="726" y="1171"/>
                  </a:lnTo>
                  <a:lnTo>
                    <a:pt x="701" y="1190"/>
                  </a:lnTo>
                  <a:lnTo>
                    <a:pt x="672" y="1215"/>
                  </a:lnTo>
                  <a:lnTo>
                    <a:pt x="643" y="1236"/>
                  </a:lnTo>
                  <a:lnTo>
                    <a:pt x="608" y="1256"/>
                  </a:lnTo>
                  <a:lnTo>
                    <a:pt x="574" y="1277"/>
                  </a:lnTo>
                  <a:lnTo>
                    <a:pt x="544" y="1287"/>
                  </a:lnTo>
                  <a:lnTo>
                    <a:pt x="514" y="1300"/>
                  </a:lnTo>
                  <a:lnTo>
                    <a:pt x="484" y="1310"/>
                  </a:lnTo>
                  <a:lnTo>
                    <a:pt x="458" y="1412"/>
                  </a:lnTo>
                  <a:lnTo>
                    <a:pt x="456" y="1441"/>
                  </a:lnTo>
                  <a:lnTo>
                    <a:pt x="452" y="1471"/>
                  </a:lnTo>
                  <a:lnTo>
                    <a:pt x="447" y="1495"/>
                  </a:lnTo>
                  <a:lnTo>
                    <a:pt x="440" y="1520"/>
                  </a:lnTo>
                  <a:lnTo>
                    <a:pt x="432" y="1544"/>
                  </a:lnTo>
                  <a:lnTo>
                    <a:pt x="419" y="1570"/>
                  </a:lnTo>
                  <a:lnTo>
                    <a:pt x="406" y="1590"/>
                  </a:lnTo>
                  <a:lnTo>
                    <a:pt x="391" y="1607"/>
                  </a:lnTo>
                  <a:lnTo>
                    <a:pt x="386" y="1625"/>
                  </a:lnTo>
                  <a:lnTo>
                    <a:pt x="375" y="1643"/>
                  </a:lnTo>
                  <a:lnTo>
                    <a:pt x="357" y="1658"/>
                  </a:lnTo>
                  <a:lnTo>
                    <a:pt x="331" y="1671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8" y="1673"/>
                  </a:lnTo>
                  <a:lnTo>
                    <a:pt x="204" y="1665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6" y="1632"/>
                  </a:lnTo>
                  <a:lnTo>
                    <a:pt x="139" y="1603"/>
                  </a:lnTo>
                  <a:lnTo>
                    <a:pt x="127" y="1570"/>
                  </a:lnTo>
                  <a:lnTo>
                    <a:pt x="119" y="1542"/>
                  </a:lnTo>
                  <a:lnTo>
                    <a:pt x="112" y="1507"/>
                  </a:lnTo>
                  <a:lnTo>
                    <a:pt x="112" y="1474"/>
                  </a:lnTo>
                  <a:lnTo>
                    <a:pt x="107" y="1417"/>
                  </a:lnTo>
                  <a:lnTo>
                    <a:pt x="125" y="1384"/>
                  </a:lnTo>
                  <a:lnTo>
                    <a:pt x="132" y="1342"/>
                  </a:lnTo>
                  <a:lnTo>
                    <a:pt x="145" y="1324"/>
                  </a:lnTo>
                  <a:lnTo>
                    <a:pt x="140" y="1300"/>
                  </a:lnTo>
                  <a:lnTo>
                    <a:pt x="135" y="1278"/>
                  </a:lnTo>
                  <a:lnTo>
                    <a:pt x="99" y="1250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1" y="1173"/>
                  </a:lnTo>
                  <a:lnTo>
                    <a:pt x="107" y="1168"/>
                  </a:lnTo>
                  <a:lnTo>
                    <a:pt x="99" y="1165"/>
                  </a:lnTo>
                  <a:lnTo>
                    <a:pt x="93" y="1153"/>
                  </a:lnTo>
                  <a:lnTo>
                    <a:pt x="90" y="1145"/>
                  </a:lnTo>
                  <a:lnTo>
                    <a:pt x="80" y="1147"/>
                  </a:lnTo>
                  <a:lnTo>
                    <a:pt x="65" y="1145"/>
                  </a:lnTo>
                  <a:lnTo>
                    <a:pt x="55" y="1138"/>
                  </a:lnTo>
                  <a:lnTo>
                    <a:pt x="44" y="1129"/>
                  </a:lnTo>
                  <a:lnTo>
                    <a:pt x="36" y="1114"/>
                  </a:lnTo>
                  <a:lnTo>
                    <a:pt x="27" y="1101"/>
                  </a:lnTo>
                  <a:lnTo>
                    <a:pt x="23" y="1085"/>
                  </a:lnTo>
                  <a:lnTo>
                    <a:pt x="13" y="1081"/>
                  </a:lnTo>
                  <a:lnTo>
                    <a:pt x="2" y="994"/>
                  </a:lnTo>
                  <a:lnTo>
                    <a:pt x="11" y="990"/>
                  </a:lnTo>
                  <a:lnTo>
                    <a:pt x="11" y="953"/>
                  </a:lnTo>
                  <a:lnTo>
                    <a:pt x="0" y="952"/>
                  </a:lnTo>
                  <a:lnTo>
                    <a:pt x="2" y="930"/>
                  </a:lnTo>
                  <a:lnTo>
                    <a:pt x="10" y="912"/>
                  </a:lnTo>
                  <a:lnTo>
                    <a:pt x="11" y="901"/>
                  </a:lnTo>
                  <a:lnTo>
                    <a:pt x="18" y="893"/>
                  </a:lnTo>
                  <a:lnTo>
                    <a:pt x="23" y="877"/>
                  </a:lnTo>
                  <a:lnTo>
                    <a:pt x="24" y="868"/>
                  </a:lnTo>
                  <a:lnTo>
                    <a:pt x="29" y="860"/>
                  </a:lnTo>
                  <a:lnTo>
                    <a:pt x="52" y="852"/>
                  </a:lnTo>
                  <a:lnTo>
                    <a:pt x="44" y="836"/>
                  </a:lnTo>
                  <a:lnTo>
                    <a:pt x="51" y="806"/>
                  </a:lnTo>
                  <a:lnTo>
                    <a:pt x="52" y="800"/>
                  </a:lnTo>
                  <a:lnTo>
                    <a:pt x="55" y="795"/>
                  </a:lnTo>
                  <a:lnTo>
                    <a:pt x="62" y="795"/>
                  </a:lnTo>
                  <a:lnTo>
                    <a:pt x="62" y="787"/>
                  </a:lnTo>
                  <a:lnTo>
                    <a:pt x="99" y="787"/>
                  </a:lnTo>
                  <a:lnTo>
                    <a:pt x="99" y="795"/>
                  </a:lnTo>
                  <a:lnTo>
                    <a:pt x="103" y="795"/>
                  </a:lnTo>
                  <a:lnTo>
                    <a:pt x="107" y="800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6"/>
                  </a:lnTo>
                  <a:lnTo>
                    <a:pt x="110" y="844"/>
                  </a:lnTo>
                  <a:lnTo>
                    <a:pt x="106" y="848"/>
                  </a:lnTo>
                  <a:lnTo>
                    <a:pt x="112" y="852"/>
                  </a:lnTo>
                  <a:lnTo>
                    <a:pt x="121" y="852"/>
                  </a:lnTo>
                  <a:lnTo>
                    <a:pt x="127" y="848"/>
                  </a:lnTo>
                  <a:lnTo>
                    <a:pt x="132" y="842"/>
                  </a:lnTo>
                  <a:lnTo>
                    <a:pt x="129" y="832"/>
                  </a:lnTo>
                  <a:lnTo>
                    <a:pt x="112" y="836"/>
                  </a:lnTo>
                  <a:lnTo>
                    <a:pt x="112" y="823"/>
                  </a:lnTo>
                  <a:lnTo>
                    <a:pt x="134" y="819"/>
                  </a:lnTo>
                  <a:lnTo>
                    <a:pt x="140" y="823"/>
                  </a:lnTo>
                  <a:lnTo>
                    <a:pt x="147" y="824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6"/>
                  </a:lnTo>
                  <a:lnTo>
                    <a:pt x="182" y="609"/>
                  </a:lnTo>
                  <a:lnTo>
                    <a:pt x="191" y="580"/>
                  </a:lnTo>
                  <a:lnTo>
                    <a:pt x="199" y="560"/>
                  </a:lnTo>
                  <a:lnTo>
                    <a:pt x="212" y="544"/>
                  </a:lnTo>
                  <a:lnTo>
                    <a:pt x="202" y="504"/>
                  </a:lnTo>
                  <a:lnTo>
                    <a:pt x="197" y="477"/>
                  </a:lnTo>
                  <a:lnTo>
                    <a:pt x="199" y="453"/>
                  </a:lnTo>
                  <a:lnTo>
                    <a:pt x="208" y="425"/>
                  </a:lnTo>
                  <a:lnTo>
                    <a:pt x="228" y="390"/>
                  </a:lnTo>
                  <a:lnTo>
                    <a:pt x="248" y="361"/>
                  </a:lnTo>
                  <a:lnTo>
                    <a:pt x="277" y="335"/>
                  </a:lnTo>
                  <a:lnTo>
                    <a:pt x="305" y="317"/>
                  </a:lnTo>
                  <a:lnTo>
                    <a:pt x="323" y="300"/>
                  </a:lnTo>
                  <a:lnTo>
                    <a:pt x="339" y="289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89"/>
                  </a:lnTo>
                  <a:lnTo>
                    <a:pt x="438" y="280"/>
                  </a:lnTo>
                  <a:lnTo>
                    <a:pt x="443" y="264"/>
                  </a:lnTo>
                  <a:lnTo>
                    <a:pt x="437" y="238"/>
                  </a:lnTo>
                  <a:lnTo>
                    <a:pt x="440" y="236"/>
                  </a:lnTo>
                  <a:lnTo>
                    <a:pt x="437" y="207"/>
                  </a:lnTo>
                  <a:lnTo>
                    <a:pt x="434" y="179"/>
                  </a:lnTo>
                  <a:lnTo>
                    <a:pt x="434" y="148"/>
                  </a:lnTo>
                  <a:lnTo>
                    <a:pt x="440" y="117"/>
                  </a:lnTo>
                  <a:lnTo>
                    <a:pt x="452" y="85"/>
                  </a:lnTo>
                  <a:lnTo>
                    <a:pt x="469" y="61"/>
                  </a:lnTo>
                  <a:lnTo>
                    <a:pt x="484" y="46"/>
                  </a:lnTo>
                  <a:lnTo>
                    <a:pt x="527" y="23"/>
                  </a:lnTo>
                  <a:lnTo>
                    <a:pt x="557" y="13"/>
                  </a:lnTo>
                  <a:lnTo>
                    <a:pt x="588" y="3"/>
                  </a:lnTo>
                  <a:lnTo>
                    <a:pt x="621" y="0"/>
                  </a:lnTo>
                  <a:lnTo>
                    <a:pt x="644" y="0"/>
                  </a:lnTo>
                  <a:lnTo>
                    <a:pt x="671" y="3"/>
                  </a:lnTo>
                  <a:lnTo>
                    <a:pt x="691" y="10"/>
                  </a:lnTo>
                  <a:lnTo>
                    <a:pt x="709" y="19"/>
                  </a:lnTo>
                  <a:lnTo>
                    <a:pt x="725" y="36"/>
                  </a:lnTo>
                  <a:lnTo>
                    <a:pt x="741" y="59"/>
                  </a:lnTo>
                  <a:lnTo>
                    <a:pt x="763" y="103"/>
                  </a:lnTo>
                  <a:lnTo>
                    <a:pt x="787" y="155"/>
                  </a:lnTo>
                  <a:lnTo>
                    <a:pt x="798" y="168"/>
                  </a:lnTo>
                  <a:lnTo>
                    <a:pt x="802" y="179"/>
                  </a:lnTo>
                  <a:lnTo>
                    <a:pt x="800" y="188"/>
                  </a:lnTo>
                  <a:lnTo>
                    <a:pt x="789" y="197"/>
                  </a:lnTo>
                  <a:lnTo>
                    <a:pt x="756" y="207"/>
                  </a:lnTo>
                  <a:lnTo>
                    <a:pt x="761" y="236"/>
                  </a:lnTo>
                  <a:lnTo>
                    <a:pt x="763" y="262"/>
                  </a:lnTo>
                  <a:lnTo>
                    <a:pt x="763" y="282"/>
                  </a:lnTo>
                  <a:lnTo>
                    <a:pt x="779" y="285"/>
                  </a:lnTo>
                  <a:lnTo>
                    <a:pt x="798" y="321"/>
                  </a:lnTo>
                  <a:lnTo>
                    <a:pt x="947" y="479"/>
                  </a:lnTo>
                  <a:lnTo>
                    <a:pt x="954" y="491"/>
                  </a:lnTo>
                  <a:lnTo>
                    <a:pt x="955" y="502"/>
                  </a:lnTo>
                  <a:lnTo>
                    <a:pt x="954" y="513"/>
                  </a:lnTo>
                  <a:lnTo>
                    <a:pt x="947" y="519"/>
                  </a:lnTo>
                  <a:lnTo>
                    <a:pt x="941" y="521"/>
                  </a:lnTo>
                  <a:lnTo>
                    <a:pt x="941" y="533"/>
                  </a:lnTo>
                  <a:lnTo>
                    <a:pt x="936" y="544"/>
                  </a:lnTo>
                  <a:lnTo>
                    <a:pt x="929" y="550"/>
                  </a:lnTo>
                  <a:lnTo>
                    <a:pt x="936" y="557"/>
                  </a:lnTo>
                  <a:lnTo>
                    <a:pt x="941" y="565"/>
                  </a:lnTo>
                  <a:lnTo>
                    <a:pt x="949" y="579"/>
                  </a:lnTo>
                  <a:lnTo>
                    <a:pt x="967" y="590"/>
                  </a:lnTo>
                  <a:lnTo>
                    <a:pt x="980" y="598"/>
                  </a:lnTo>
                  <a:lnTo>
                    <a:pt x="993" y="609"/>
                  </a:lnTo>
                  <a:lnTo>
                    <a:pt x="1006" y="618"/>
                  </a:lnTo>
                  <a:lnTo>
                    <a:pt x="1041" y="607"/>
                  </a:lnTo>
                  <a:lnTo>
                    <a:pt x="1061" y="603"/>
                  </a:lnTo>
                  <a:lnTo>
                    <a:pt x="1081" y="598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19" y="479"/>
                  </a:lnTo>
                  <a:lnTo>
                    <a:pt x="1228" y="482"/>
                  </a:lnTo>
                  <a:lnTo>
                    <a:pt x="1268" y="438"/>
                  </a:lnTo>
                  <a:lnTo>
                    <a:pt x="1270" y="427"/>
                  </a:lnTo>
                  <a:lnTo>
                    <a:pt x="1276" y="416"/>
                  </a:lnTo>
                  <a:lnTo>
                    <a:pt x="1287" y="402"/>
                  </a:lnTo>
                  <a:lnTo>
                    <a:pt x="1442" y="399"/>
                  </a:lnTo>
                  <a:lnTo>
                    <a:pt x="1340" y="458"/>
                  </a:lnTo>
                  <a:lnTo>
                    <a:pt x="1320" y="479"/>
                  </a:lnTo>
                  <a:lnTo>
                    <a:pt x="1289" y="531"/>
                  </a:lnTo>
                  <a:lnTo>
                    <a:pt x="1294" y="544"/>
                  </a:lnTo>
                  <a:lnTo>
                    <a:pt x="1214" y="678"/>
                  </a:lnTo>
                  <a:lnTo>
                    <a:pt x="1190" y="748"/>
                  </a:lnTo>
                  <a:lnTo>
                    <a:pt x="1160" y="772"/>
                  </a:lnTo>
                  <a:lnTo>
                    <a:pt x="1129" y="792"/>
                  </a:lnTo>
                  <a:lnTo>
                    <a:pt x="1090" y="809"/>
                  </a:lnTo>
                  <a:lnTo>
                    <a:pt x="1063" y="813"/>
                  </a:lnTo>
                  <a:lnTo>
                    <a:pt x="1040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452760" y="2784600"/>
              <a:ext cx="300240" cy="85680"/>
            </a:xfrm>
            <a:custGeom>
              <a:avLst/>
              <a:gdLst/>
              <a:ahLst/>
              <a:rect l="l" t="t" r="r" b="b"/>
              <a:pathLst>
                <a:path w="1132" h="322">
                  <a:moveTo>
                    <a:pt x="798" y="156"/>
                  </a:moveTo>
                  <a:lnTo>
                    <a:pt x="781" y="148"/>
                  </a:lnTo>
                  <a:lnTo>
                    <a:pt x="664" y="153"/>
                  </a:lnTo>
                  <a:lnTo>
                    <a:pt x="658" y="159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4" y="169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6"/>
                  </a:lnTo>
                  <a:lnTo>
                    <a:pt x="323" y="302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6" y="229"/>
                  </a:lnTo>
                  <a:lnTo>
                    <a:pt x="226" y="213"/>
                  </a:lnTo>
                  <a:lnTo>
                    <a:pt x="224" y="206"/>
                  </a:lnTo>
                  <a:lnTo>
                    <a:pt x="219" y="201"/>
                  </a:lnTo>
                  <a:lnTo>
                    <a:pt x="215" y="200"/>
                  </a:lnTo>
                  <a:lnTo>
                    <a:pt x="211" y="200"/>
                  </a:lnTo>
                  <a:lnTo>
                    <a:pt x="178" y="197"/>
                  </a:lnTo>
                  <a:lnTo>
                    <a:pt x="188" y="214"/>
                  </a:lnTo>
                  <a:lnTo>
                    <a:pt x="191" y="223"/>
                  </a:lnTo>
                  <a:lnTo>
                    <a:pt x="191" y="229"/>
                  </a:lnTo>
                  <a:lnTo>
                    <a:pt x="186" y="234"/>
                  </a:lnTo>
                  <a:lnTo>
                    <a:pt x="180" y="239"/>
                  </a:lnTo>
                  <a:lnTo>
                    <a:pt x="217" y="239"/>
                  </a:lnTo>
                  <a:lnTo>
                    <a:pt x="222" y="239"/>
                  </a:lnTo>
                  <a:lnTo>
                    <a:pt x="224" y="234"/>
                  </a:lnTo>
                  <a:lnTo>
                    <a:pt x="226" y="229"/>
                  </a:lnTo>
                  <a:lnTo>
                    <a:pt x="232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1"/>
                  </a:lnTo>
                  <a:lnTo>
                    <a:pt x="77" y="71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9" y="17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7"/>
                  </a:lnTo>
                  <a:lnTo>
                    <a:pt x="344" y="34"/>
                  </a:lnTo>
                  <a:lnTo>
                    <a:pt x="349" y="43"/>
                  </a:lnTo>
                  <a:lnTo>
                    <a:pt x="349" y="55"/>
                  </a:lnTo>
                  <a:lnTo>
                    <a:pt x="346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3" y="61"/>
                  </a:lnTo>
                  <a:lnTo>
                    <a:pt x="338" y="52"/>
                  </a:lnTo>
                  <a:lnTo>
                    <a:pt x="338" y="43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7" y="32"/>
                  </a:lnTo>
                  <a:lnTo>
                    <a:pt x="160" y="40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4" y="65"/>
                  </a:lnTo>
                  <a:lnTo>
                    <a:pt x="156" y="70"/>
                  </a:lnTo>
                  <a:lnTo>
                    <a:pt x="162" y="71"/>
                  </a:lnTo>
                  <a:lnTo>
                    <a:pt x="323" y="71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4" y="68"/>
                  </a:lnTo>
                  <a:lnTo>
                    <a:pt x="816" y="70"/>
                  </a:lnTo>
                  <a:lnTo>
                    <a:pt x="817" y="71"/>
                  </a:lnTo>
                  <a:lnTo>
                    <a:pt x="868" y="71"/>
                  </a:lnTo>
                  <a:lnTo>
                    <a:pt x="866" y="50"/>
                  </a:lnTo>
                  <a:lnTo>
                    <a:pt x="860" y="50"/>
                  </a:lnTo>
                  <a:lnTo>
                    <a:pt x="860" y="26"/>
                  </a:lnTo>
                  <a:lnTo>
                    <a:pt x="845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4" y="68"/>
                  </a:lnTo>
                  <a:lnTo>
                    <a:pt x="851" y="4"/>
                  </a:lnTo>
                  <a:lnTo>
                    <a:pt x="860" y="0"/>
                  </a:lnTo>
                  <a:lnTo>
                    <a:pt x="868" y="4"/>
                  </a:lnTo>
                  <a:lnTo>
                    <a:pt x="876" y="11"/>
                  </a:lnTo>
                  <a:lnTo>
                    <a:pt x="879" y="87"/>
                  </a:lnTo>
                  <a:lnTo>
                    <a:pt x="1004" y="87"/>
                  </a:lnTo>
                  <a:lnTo>
                    <a:pt x="1018" y="81"/>
                  </a:lnTo>
                  <a:lnTo>
                    <a:pt x="1076" y="80"/>
                  </a:lnTo>
                  <a:lnTo>
                    <a:pt x="1083" y="83"/>
                  </a:lnTo>
                  <a:lnTo>
                    <a:pt x="1090" y="88"/>
                  </a:lnTo>
                  <a:lnTo>
                    <a:pt x="1098" y="93"/>
                  </a:lnTo>
                  <a:lnTo>
                    <a:pt x="1105" y="97"/>
                  </a:lnTo>
                  <a:lnTo>
                    <a:pt x="1111" y="102"/>
                  </a:lnTo>
                  <a:lnTo>
                    <a:pt x="1118" y="107"/>
                  </a:lnTo>
                  <a:lnTo>
                    <a:pt x="1125" y="112"/>
                  </a:lnTo>
                  <a:lnTo>
                    <a:pt x="1132" y="115"/>
                  </a:lnTo>
                  <a:lnTo>
                    <a:pt x="1112" y="115"/>
                  </a:lnTo>
                  <a:lnTo>
                    <a:pt x="1101" y="109"/>
                  </a:lnTo>
                  <a:lnTo>
                    <a:pt x="879" y="109"/>
                  </a:lnTo>
                  <a:lnTo>
                    <a:pt x="879" y="120"/>
                  </a:lnTo>
                  <a:lnTo>
                    <a:pt x="860" y="120"/>
                  </a:lnTo>
                  <a:lnTo>
                    <a:pt x="860" y="115"/>
                  </a:lnTo>
                  <a:lnTo>
                    <a:pt x="822" y="115"/>
                  </a:lnTo>
                  <a:lnTo>
                    <a:pt x="822" y="135"/>
                  </a:lnTo>
                  <a:lnTo>
                    <a:pt x="809" y="135"/>
                  </a:lnTo>
                  <a:lnTo>
                    <a:pt x="798" y="1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452760" y="2784600"/>
              <a:ext cx="285840" cy="85680"/>
            </a:xfrm>
            <a:custGeom>
              <a:avLst/>
              <a:gdLst/>
              <a:ahLst/>
              <a:rect l="l" t="t" r="r" b="b"/>
              <a:pathLst>
                <a:path w="1076" h="322">
                  <a:moveTo>
                    <a:pt x="798" y="156"/>
                  </a:moveTo>
                  <a:lnTo>
                    <a:pt x="781" y="148"/>
                  </a:lnTo>
                  <a:lnTo>
                    <a:pt x="664" y="153"/>
                  </a:lnTo>
                  <a:lnTo>
                    <a:pt x="658" y="159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4" y="169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6"/>
                  </a:lnTo>
                  <a:lnTo>
                    <a:pt x="323" y="302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6" y="229"/>
                  </a:lnTo>
                  <a:lnTo>
                    <a:pt x="226" y="213"/>
                  </a:lnTo>
                  <a:lnTo>
                    <a:pt x="224" y="206"/>
                  </a:lnTo>
                  <a:lnTo>
                    <a:pt x="219" y="201"/>
                  </a:lnTo>
                  <a:lnTo>
                    <a:pt x="215" y="200"/>
                  </a:lnTo>
                  <a:lnTo>
                    <a:pt x="211" y="200"/>
                  </a:lnTo>
                  <a:lnTo>
                    <a:pt x="178" y="197"/>
                  </a:lnTo>
                  <a:lnTo>
                    <a:pt x="188" y="214"/>
                  </a:lnTo>
                  <a:lnTo>
                    <a:pt x="191" y="223"/>
                  </a:lnTo>
                  <a:lnTo>
                    <a:pt x="191" y="229"/>
                  </a:lnTo>
                  <a:lnTo>
                    <a:pt x="186" y="234"/>
                  </a:lnTo>
                  <a:lnTo>
                    <a:pt x="180" y="239"/>
                  </a:lnTo>
                  <a:lnTo>
                    <a:pt x="217" y="239"/>
                  </a:lnTo>
                  <a:lnTo>
                    <a:pt x="222" y="239"/>
                  </a:lnTo>
                  <a:lnTo>
                    <a:pt x="224" y="234"/>
                  </a:lnTo>
                  <a:lnTo>
                    <a:pt x="226" y="229"/>
                  </a:lnTo>
                  <a:lnTo>
                    <a:pt x="232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1"/>
                  </a:lnTo>
                  <a:lnTo>
                    <a:pt x="77" y="71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9" y="17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7"/>
                  </a:lnTo>
                  <a:lnTo>
                    <a:pt x="344" y="34"/>
                  </a:lnTo>
                  <a:lnTo>
                    <a:pt x="349" y="43"/>
                  </a:lnTo>
                  <a:lnTo>
                    <a:pt x="349" y="55"/>
                  </a:lnTo>
                  <a:lnTo>
                    <a:pt x="346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3" y="61"/>
                  </a:lnTo>
                  <a:lnTo>
                    <a:pt x="338" y="52"/>
                  </a:lnTo>
                  <a:lnTo>
                    <a:pt x="338" y="43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7" y="32"/>
                  </a:lnTo>
                  <a:lnTo>
                    <a:pt x="160" y="40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4" y="65"/>
                  </a:lnTo>
                  <a:lnTo>
                    <a:pt x="156" y="70"/>
                  </a:lnTo>
                  <a:lnTo>
                    <a:pt x="162" y="71"/>
                  </a:lnTo>
                  <a:lnTo>
                    <a:pt x="323" y="71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4" y="68"/>
                  </a:lnTo>
                  <a:lnTo>
                    <a:pt x="816" y="70"/>
                  </a:lnTo>
                  <a:lnTo>
                    <a:pt x="817" y="71"/>
                  </a:lnTo>
                  <a:lnTo>
                    <a:pt x="868" y="71"/>
                  </a:lnTo>
                  <a:lnTo>
                    <a:pt x="866" y="50"/>
                  </a:lnTo>
                  <a:lnTo>
                    <a:pt x="860" y="50"/>
                  </a:lnTo>
                  <a:lnTo>
                    <a:pt x="860" y="26"/>
                  </a:lnTo>
                  <a:lnTo>
                    <a:pt x="845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4" y="68"/>
                  </a:lnTo>
                  <a:lnTo>
                    <a:pt x="851" y="4"/>
                  </a:lnTo>
                  <a:lnTo>
                    <a:pt x="860" y="0"/>
                  </a:lnTo>
                  <a:lnTo>
                    <a:pt x="868" y="4"/>
                  </a:lnTo>
                  <a:lnTo>
                    <a:pt x="876" y="11"/>
                  </a:lnTo>
                  <a:lnTo>
                    <a:pt x="879" y="87"/>
                  </a:lnTo>
                  <a:lnTo>
                    <a:pt x="1004" y="87"/>
                  </a:lnTo>
                  <a:lnTo>
                    <a:pt x="1018" y="81"/>
                  </a:lnTo>
                  <a:lnTo>
                    <a:pt x="1076" y="8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951280" y="3203640"/>
              <a:ext cx="380880" cy="444600"/>
            </a:xfrm>
            <a:custGeom>
              <a:avLst/>
              <a:gdLst/>
              <a:ahLst/>
              <a:rect l="l" t="t" r="r" b="b"/>
              <a:pathLst>
                <a:path w="1443" h="1681">
                  <a:moveTo>
                    <a:pt x="763" y="825"/>
                  </a:moveTo>
                  <a:lnTo>
                    <a:pt x="790" y="804"/>
                  </a:lnTo>
                  <a:lnTo>
                    <a:pt x="814" y="790"/>
                  </a:lnTo>
                  <a:lnTo>
                    <a:pt x="838" y="777"/>
                  </a:lnTo>
                  <a:lnTo>
                    <a:pt x="864" y="766"/>
                  </a:lnTo>
                  <a:lnTo>
                    <a:pt x="816" y="736"/>
                  </a:lnTo>
                  <a:lnTo>
                    <a:pt x="794" y="720"/>
                  </a:lnTo>
                  <a:lnTo>
                    <a:pt x="770" y="702"/>
                  </a:lnTo>
                  <a:lnTo>
                    <a:pt x="772" y="733"/>
                  </a:lnTo>
                  <a:lnTo>
                    <a:pt x="768" y="762"/>
                  </a:lnTo>
                  <a:lnTo>
                    <a:pt x="763" y="825"/>
                  </a:lnTo>
                  <a:close/>
                  <a:moveTo>
                    <a:pt x="1041" y="816"/>
                  </a:moveTo>
                  <a:lnTo>
                    <a:pt x="1044" y="883"/>
                  </a:lnTo>
                  <a:lnTo>
                    <a:pt x="1044" y="959"/>
                  </a:lnTo>
                  <a:lnTo>
                    <a:pt x="1036" y="1049"/>
                  </a:lnTo>
                  <a:lnTo>
                    <a:pt x="1019" y="1135"/>
                  </a:lnTo>
                  <a:lnTo>
                    <a:pt x="1000" y="1220"/>
                  </a:lnTo>
                  <a:lnTo>
                    <a:pt x="982" y="1280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3" y="1387"/>
                  </a:lnTo>
                  <a:lnTo>
                    <a:pt x="943" y="1397"/>
                  </a:lnTo>
                  <a:lnTo>
                    <a:pt x="935" y="1412"/>
                  </a:lnTo>
                  <a:lnTo>
                    <a:pt x="948" y="1422"/>
                  </a:lnTo>
                  <a:lnTo>
                    <a:pt x="956" y="1433"/>
                  </a:lnTo>
                  <a:lnTo>
                    <a:pt x="962" y="1450"/>
                  </a:lnTo>
                  <a:lnTo>
                    <a:pt x="976" y="1454"/>
                  </a:lnTo>
                  <a:lnTo>
                    <a:pt x="982" y="1461"/>
                  </a:lnTo>
                  <a:lnTo>
                    <a:pt x="990" y="1472"/>
                  </a:lnTo>
                  <a:lnTo>
                    <a:pt x="995" y="1483"/>
                  </a:lnTo>
                  <a:lnTo>
                    <a:pt x="1003" y="1495"/>
                  </a:lnTo>
                  <a:lnTo>
                    <a:pt x="1039" y="1514"/>
                  </a:lnTo>
                  <a:lnTo>
                    <a:pt x="1064" y="1524"/>
                  </a:lnTo>
                  <a:lnTo>
                    <a:pt x="1074" y="1534"/>
                  </a:lnTo>
                  <a:lnTo>
                    <a:pt x="1079" y="1545"/>
                  </a:lnTo>
                  <a:lnTo>
                    <a:pt x="1079" y="1565"/>
                  </a:lnTo>
                  <a:lnTo>
                    <a:pt x="1060" y="1570"/>
                  </a:lnTo>
                  <a:lnTo>
                    <a:pt x="1032" y="1574"/>
                  </a:lnTo>
                  <a:lnTo>
                    <a:pt x="991" y="1571"/>
                  </a:lnTo>
                  <a:lnTo>
                    <a:pt x="954" y="1565"/>
                  </a:lnTo>
                  <a:lnTo>
                    <a:pt x="912" y="1552"/>
                  </a:lnTo>
                  <a:lnTo>
                    <a:pt x="882" y="1536"/>
                  </a:lnTo>
                  <a:lnTo>
                    <a:pt x="858" y="1521"/>
                  </a:lnTo>
                  <a:lnTo>
                    <a:pt x="833" y="1518"/>
                  </a:lnTo>
                  <a:lnTo>
                    <a:pt x="814" y="1516"/>
                  </a:lnTo>
                  <a:lnTo>
                    <a:pt x="794" y="1510"/>
                  </a:lnTo>
                  <a:lnTo>
                    <a:pt x="777" y="1503"/>
                  </a:lnTo>
                  <a:lnTo>
                    <a:pt x="772" y="1482"/>
                  </a:lnTo>
                  <a:lnTo>
                    <a:pt x="775" y="1464"/>
                  </a:lnTo>
                  <a:lnTo>
                    <a:pt x="777" y="1446"/>
                  </a:lnTo>
                  <a:lnTo>
                    <a:pt x="781" y="1431"/>
                  </a:lnTo>
                  <a:lnTo>
                    <a:pt x="787" y="1415"/>
                  </a:lnTo>
                  <a:lnTo>
                    <a:pt x="794" y="1400"/>
                  </a:lnTo>
                  <a:lnTo>
                    <a:pt x="803" y="1387"/>
                  </a:lnTo>
                  <a:lnTo>
                    <a:pt x="803" y="1371"/>
                  </a:lnTo>
                  <a:lnTo>
                    <a:pt x="803" y="1356"/>
                  </a:lnTo>
                  <a:lnTo>
                    <a:pt x="807" y="1345"/>
                  </a:lnTo>
                  <a:lnTo>
                    <a:pt x="814" y="1334"/>
                  </a:lnTo>
                  <a:lnTo>
                    <a:pt x="814" y="1282"/>
                  </a:lnTo>
                  <a:lnTo>
                    <a:pt x="794" y="1273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9"/>
                  </a:lnTo>
                  <a:lnTo>
                    <a:pt x="796" y="1210"/>
                  </a:lnTo>
                  <a:lnTo>
                    <a:pt x="801" y="1180"/>
                  </a:lnTo>
                  <a:lnTo>
                    <a:pt x="807" y="1141"/>
                  </a:lnTo>
                  <a:lnTo>
                    <a:pt x="819" y="1101"/>
                  </a:lnTo>
                  <a:lnTo>
                    <a:pt x="833" y="1060"/>
                  </a:lnTo>
                  <a:lnTo>
                    <a:pt x="807" y="1091"/>
                  </a:lnTo>
                  <a:lnTo>
                    <a:pt x="778" y="1120"/>
                  </a:lnTo>
                  <a:lnTo>
                    <a:pt x="755" y="1145"/>
                  </a:lnTo>
                  <a:lnTo>
                    <a:pt x="726" y="1172"/>
                  </a:lnTo>
                  <a:lnTo>
                    <a:pt x="702" y="1192"/>
                  </a:lnTo>
                  <a:lnTo>
                    <a:pt x="671" y="1216"/>
                  </a:lnTo>
                  <a:lnTo>
                    <a:pt x="643" y="1237"/>
                  </a:lnTo>
                  <a:lnTo>
                    <a:pt x="607" y="1257"/>
                  </a:lnTo>
                  <a:lnTo>
                    <a:pt x="574" y="1277"/>
                  </a:lnTo>
                  <a:lnTo>
                    <a:pt x="544" y="1288"/>
                  </a:lnTo>
                  <a:lnTo>
                    <a:pt x="514" y="1301"/>
                  </a:lnTo>
                  <a:lnTo>
                    <a:pt x="485" y="1311"/>
                  </a:lnTo>
                  <a:lnTo>
                    <a:pt x="458" y="1413"/>
                  </a:lnTo>
                  <a:lnTo>
                    <a:pt x="457" y="1441"/>
                  </a:lnTo>
                  <a:lnTo>
                    <a:pt x="452" y="1472"/>
                  </a:lnTo>
                  <a:lnTo>
                    <a:pt x="448" y="1496"/>
                  </a:lnTo>
                  <a:lnTo>
                    <a:pt x="441" y="1521"/>
                  </a:lnTo>
                  <a:lnTo>
                    <a:pt x="433" y="1545"/>
                  </a:lnTo>
                  <a:lnTo>
                    <a:pt x="419" y="1571"/>
                  </a:lnTo>
                  <a:lnTo>
                    <a:pt x="406" y="1591"/>
                  </a:lnTo>
                  <a:lnTo>
                    <a:pt x="390" y="1609"/>
                  </a:lnTo>
                  <a:lnTo>
                    <a:pt x="387" y="1625"/>
                  </a:lnTo>
                  <a:lnTo>
                    <a:pt x="375" y="1644"/>
                  </a:lnTo>
                  <a:lnTo>
                    <a:pt x="358" y="1659"/>
                  </a:lnTo>
                  <a:lnTo>
                    <a:pt x="332" y="1672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9" y="1674"/>
                  </a:lnTo>
                  <a:lnTo>
                    <a:pt x="204" y="1666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5" y="1633"/>
                  </a:lnTo>
                  <a:lnTo>
                    <a:pt x="139" y="1604"/>
                  </a:lnTo>
                  <a:lnTo>
                    <a:pt x="128" y="1571"/>
                  </a:lnTo>
                  <a:lnTo>
                    <a:pt x="118" y="1542"/>
                  </a:lnTo>
                  <a:lnTo>
                    <a:pt x="112" y="1508"/>
                  </a:lnTo>
                  <a:lnTo>
                    <a:pt x="112" y="1475"/>
                  </a:lnTo>
                  <a:lnTo>
                    <a:pt x="108" y="1417"/>
                  </a:lnTo>
                  <a:lnTo>
                    <a:pt x="126" y="1384"/>
                  </a:lnTo>
                  <a:lnTo>
                    <a:pt x="133" y="1343"/>
                  </a:lnTo>
                  <a:lnTo>
                    <a:pt x="146" y="1325"/>
                  </a:lnTo>
                  <a:lnTo>
                    <a:pt x="141" y="1301"/>
                  </a:lnTo>
                  <a:lnTo>
                    <a:pt x="136" y="1280"/>
                  </a:lnTo>
                  <a:lnTo>
                    <a:pt x="99" y="1251"/>
                  </a:lnTo>
                  <a:lnTo>
                    <a:pt x="116" y="1226"/>
                  </a:lnTo>
                  <a:lnTo>
                    <a:pt x="136" y="1172"/>
                  </a:lnTo>
                  <a:lnTo>
                    <a:pt x="121" y="1174"/>
                  </a:lnTo>
                  <a:lnTo>
                    <a:pt x="108" y="1170"/>
                  </a:lnTo>
                  <a:lnTo>
                    <a:pt x="99" y="1166"/>
                  </a:lnTo>
                  <a:lnTo>
                    <a:pt x="92" y="1154"/>
                  </a:lnTo>
                  <a:lnTo>
                    <a:pt x="90" y="1145"/>
                  </a:lnTo>
                  <a:lnTo>
                    <a:pt x="79" y="1148"/>
                  </a:lnTo>
                  <a:lnTo>
                    <a:pt x="66" y="1145"/>
                  </a:lnTo>
                  <a:lnTo>
                    <a:pt x="54" y="1138"/>
                  </a:lnTo>
                  <a:lnTo>
                    <a:pt x="44" y="1130"/>
                  </a:lnTo>
                  <a:lnTo>
                    <a:pt x="35" y="1115"/>
                  </a:lnTo>
                  <a:lnTo>
                    <a:pt x="27" y="1101"/>
                  </a:lnTo>
                  <a:lnTo>
                    <a:pt x="22" y="1086"/>
                  </a:lnTo>
                  <a:lnTo>
                    <a:pt x="13" y="1082"/>
                  </a:lnTo>
                  <a:lnTo>
                    <a:pt x="2" y="995"/>
                  </a:lnTo>
                  <a:lnTo>
                    <a:pt x="12" y="992"/>
                  </a:lnTo>
                  <a:lnTo>
                    <a:pt x="12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9" y="913"/>
                  </a:lnTo>
                  <a:lnTo>
                    <a:pt x="12" y="902"/>
                  </a:lnTo>
                  <a:lnTo>
                    <a:pt x="18" y="894"/>
                  </a:lnTo>
                  <a:lnTo>
                    <a:pt x="22" y="878"/>
                  </a:lnTo>
                  <a:lnTo>
                    <a:pt x="25" y="869"/>
                  </a:lnTo>
                  <a:lnTo>
                    <a:pt x="29" y="860"/>
                  </a:lnTo>
                  <a:lnTo>
                    <a:pt x="53" y="853"/>
                  </a:lnTo>
                  <a:lnTo>
                    <a:pt x="44" y="837"/>
                  </a:lnTo>
                  <a:lnTo>
                    <a:pt x="51" y="808"/>
                  </a:lnTo>
                  <a:lnTo>
                    <a:pt x="53" y="801"/>
                  </a:lnTo>
                  <a:lnTo>
                    <a:pt x="54" y="796"/>
                  </a:lnTo>
                  <a:lnTo>
                    <a:pt x="61" y="796"/>
                  </a:lnTo>
                  <a:lnTo>
                    <a:pt x="61" y="788"/>
                  </a:lnTo>
                  <a:lnTo>
                    <a:pt x="99" y="788"/>
                  </a:lnTo>
                  <a:lnTo>
                    <a:pt x="99" y="796"/>
                  </a:lnTo>
                  <a:lnTo>
                    <a:pt x="104" y="796"/>
                  </a:lnTo>
                  <a:lnTo>
                    <a:pt x="108" y="801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7"/>
                  </a:lnTo>
                  <a:lnTo>
                    <a:pt x="110" y="845"/>
                  </a:lnTo>
                  <a:lnTo>
                    <a:pt x="105" y="850"/>
                  </a:lnTo>
                  <a:lnTo>
                    <a:pt x="112" y="853"/>
                  </a:lnTo>
                  <a:lnTo>
                    <a:pt x="121" y="853"/>
                  </a:lnTo>
                  <a:lnTo>
                    <a:pt x="128" y="850"/>
                  </a:lnTo>
                  <a:lnTo>
                    <a:pt x="133" y="842"/>
                  </a:lnTo>
                  <a:lnTo>
                    <a:pt x="129" y="833"/>
                  </a:lnTo>
                  <a:lnTo>
                    <a:pt x="112" y="837"/>
                  </a:lnTo>
                  <a:lnTo>
                    <a:pt x="112" y="823"/>
                  </a:lnTo>
                  <a:lnTo>
                    <a:pt x="134" y="821"/>
                  </a:lnTo>
                  <a:lnTo>
                    <a:pt x="141" y="823"/>
                  </a:lnTo>
                  <a:lnTo>
                    <a:pt x="147" y="825"/>
                  </a:lnTo>
                  <a:lnTo>
                    <a:pt x="153" y="829"/>
                  </a:lnTo>
                  <a:lnTo>
                    <a:pt x="149" y="803"/>
                  </a:lnTo>
                  <a:lnTo>
                    <a:pt x="142" y="777"/>
                  </a:lnTo>
                  <a:lnTo>
                    <a:pt x="181" y="610"/>
                  </a:lnTo>
                  <a:lnTo>
                    <a:pt x="191" y="581"/>
                  </a:lnTo>
                  <a:lnTo>
                    <a:pt x="200" y="562"/>
                  </a:lnTo>
                  <a:lnTo>
                    <a:pt x="212" y="544"/>
                  </a:lnTo>
                  <a:lnTo>
                    <a:pt x="202" y="505"/>
                  </a:lnTo>
                  <a:lnTo>
                    <a:pt x="198" y="479"/>
                  </a:lnTo>
                  <a:lnTo>
                    <a:pt x="200" y="454"/>
                  </a:lnTo>
                  <a:lnTo>
                    <a:pt x="209" y="426"/>
                  </a:lnTo>
                  <a:lnTo>
                    <a:pt x="228" y="391"/>
                  </a:lnTo>
                  <a:lnTo>
                    <a:pt x="248" y="363"/>
                  </a:lnTo>
                  <a:lnTo>
                    <a:pt x="276" y="335"/>
                  </a:lnTo>
                  <a:lnTo>
                    <a:pt x="305" y="319"/>
                  </a:lnTo>
                  <a:lnTo>
                    <a:pt x="323" y="301"/>
                  </a:lnTo>
                  <a:lnTo>
                    <a:pt x="340" y="290"/>
                  </a:lnTo>
                  <a:lnTo>
                    <a:pt x="358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9" y="281"/>
                  </a:lnTo>
                  <a:lnTo>
                    <a:pt x="444" y="265"/>
                  </a:lnTo>
                  <a:lnTo>
                    <a:pt x="436" y="239"/>
                  </a:lnTo>
                  <a:lnTo>
                    <a:pt x="441" y="237"/>
                  </a:lnTo>
                  <a:lnTo>
                    <a:pt x="436" y="208"/>
                  </a:lnTo>
                  <a:lnTo>
                    <a:pt x="434" y="180"/>
                  </a:lnTo>
                  <a:lnTo>
                    <a:pt x="434" y="150"/>
                  </a:lnTo>
                  <a:lnTo>
                    <a:pt x="441" y="119"/>
                  </a:lnTo>
                  <a:lnTo>
                    <a:pt x="452" y="86"/>
                  </a:lnTo>
                  <a:lnTo>
                    <a:pt x="470" y="62"/>
                  </a:lnTo>
                  <a:lnTo>
                    <a:pt x="485" y="47"/>
                  </a:lnTo>
                  <a:lnTo>
                    <a:pt x="527" y="24"/>
                  </a:lnTo>
                  <a:lnTo>
                    <a:pt x="558" y="13"/>
                  </a:lnTo>
                  <a:lnTo>
                    <a:pt x="587" y="4"/>
                  </a:lnTo>
                  <a:lnTo>
                    <a:pt x="620" y="0"/>
                  </a:lnTo>
                  <a:lnTo>
                    <a:pt x="645" y="0"/>
                  </a:lnTo>
                  <a:lnTo>
                    <a:pt x="671" y="4"/>
                  </a:lnTo>
                  <a:lnTo>
                    <a:pt x="690" y="11"/>
                  </a:lnTo>
                  <a:lnTo>
                    <a:pt x="708" y="20"/>
                  </a:lnTo>
                  <a:lnTo>
                    <a:pt x="726" y="37"/>
                  </a:lnTo>
                  <a:lnTo>
                    <a:pt x="741" y="60"/>
                  </a:lnTo>
                  <a:lnTo>
                    <a:pt x="763" y="104"/>
                  </a:lnTo>
                  <a:lnTo>
                    <a:pt x="787" y="156"/>
                  </a:lnTo>
                  <a:lnTo>
                    <a:pt x="798" y="169"/>
                  </a:lnTo>
                  <a:lnTo>
                    <a:pt x="803" y="180"/>
                  </a:lnTo>
                  <a:lnTo>
                    <a:pt x="801" y="189"/>
                  </a:lnTo>
                  <a:lnTo>
                    <a:pt x="789" y="197"/>
                  </a:lnTo>
                  <a:lnTo>
                    <a:pt x="757" y="208"/>
                  </a:lnTo>
                  <a:lnTo>
                    <a:pt x="760" y="237"/>
                  </a:lnTo>
                  <a:lnTo>
                    <a:pt x="763" y="264"/>
                  </a:lnTo>
                  <a:lnTo>
                    <a:pt x="763" y="283"/>
                  </a:lnTo>
                  <a:lnTo>
                    <a:pt x="778" y="285"/>
                  </a:lnTo>
                  <a:lnTo>
                    <a:pt x="798" y="322"/>
                  </a:lnTo>
                  <a:lnTo>
                    <a:pt x="947" y="480"/>
                  </a:lnTo>
                  <a:lnTo>
                    <a:pt x="954" y="492"/>
                  </a:lnTo>
                  <a:lnTo>
                    <a:pt x="956" y="503"/>
                  </a:lnTo>
                  <a:lnTo>
                    <a:pt x="954" y="513"/>
                  </a:lnTo>
                  <a:lnTo>
                    <a:pt x="947" y="521"/>
                  </a:lnTo>
                  <a:lnTo>
                    <a:pt x="941" y="523"/>
                  </a:lnTo>
                  <a:lnTo>
                    <a:pt x="941" y="534"/>
                  </a:lnTo>
                  <a:lnTo>
                    <a:pt x="936" y="544"/>
                  </a:lnTo>
                  <a:lnTo>
                    <a:pt x="930" y="551"/>
                  </a:lnTo>
                  <a:lnTo>
                    <a:pt x="936" y="557"/>
                  </a:lnTo>
                  <a:lnTo>
                    <a:pt x="941" y="566"/>
                  </a:lnTo>
                  <a:lnTo>
                    <a:pt x="949" y="580"/>
                  </a:lnTo>
                  <a:lnTo>
                    <a:pt x="967" y="591"/>
                  </a:lnTo>
                  <a:lnTo>
                    <a:pt x="980" y="599"/>
                  </a:lnTo>
                  <a:lnTo>
                    <a:pt x="993" y="610"/>
                  </a:lnTo>
                  <a:lnTo>
                    <a:pt x="1006" y="619"/>
                  </a:lnTo>
                  <a:lnTo>
                    <a:pt x="1042" y="608"/>
                  </a:lnTo>
                  <a:lnTo>
                    <a:pt x="1061" y="604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20" y="480"/>
                  </a:lnTo>
                  <a:lnTo>
                    <a:pt x="1228" y="483"/>
                  </a:lnTo>
                  <a:lnTo>
                    <a:pt x="1267" y="439"/>
                  </a:lnTo>
                  <a:lnTo>
                    <a:pt x="1270" y="428"/>
                  </a:lnTo>
                  <a:lnTo>
                    <a:pt x="1277" y="417"/>
                  </a:lnTo>
                  <a:lnTo>
                    <a:pt x="1287" y="404"/>
                  </a:lnTo>
                  <a:lnTo>
                    <a:pt x="1443" y="399"/>
                  </a:lnTo>
                  <a:lnTo>
                    <a:pt x="1340" y="459"/>
                  </a:lnTo>
                  <a:lnTo>
                    <a:pt x="1319" y="480"/>
                  </a:lnTo>
                  <a:lnTo>
                    <a:pt x="1290" y="531"/>
                  </a:lnTo>
                  <a:lnTo>
                    <a:pt x="1293" y="544"/>
                  </a:lnTo>
                  <a:lnTo>
                    <a:pt x="1215" y="679"/>
                  </a:lnTo>
                  <a:lnTo>
                    <a:pt x="1190" y="749"/>
                  </a:lnTo>
                  <a:lnTo>
                    <a:pt x="1160" y="772"/>
                  </a:lnTo>
                  <a:lnTo>
                    <a:pt x="1130" y="793"/>
                  </a:lnTo>
                  <a:lnTo>
                    <a:pt x="1090" y="809"/>
                  </a:lnTo>
                  <a:lnTo>
                    <a:pt x="1063" y="814"/>
                  </a:lnTo>
                  <a:lnTo>
                    <a:pt x="1041" y="816"/>
                  </a:lnTo>
                  <a:close/>
                  <a:moveTo>
                    <a:pt x="152" y="854"/>
                  </a:moveTo>
                  <a:lnTo>
                    <a:pt x="141" y="864"/>
                  </a:lnTo>
                  <a:lnTo>
                    <a:pt x="146" y="871"/>
                  </a:lnTo>
                  <a:lnTo>
                    <a:pt x="149" y="879"/>
                  </a:lnTo>
                  <a:lnTo>
                    <a:pt x="152" y="871"/>
                  </a:lnTo>
                  <a:lnTo>
                    <a:pt x="154" y="863"/>
                  </a:lnTo>
                  <a:lnTo>
                    <a:pt x="152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951280" y="3203640"/>
              <a:ext cx="380880" cy="444600"/>
            </a:xfrm>
            <a:custGeom>
              <a:avLst/>
              <a:gdLst/>
              <a:ahLst/>
              <a:rect l="l" t="t" r="r" b="b"/>
              <a:pathLst>
                <a:path w="1443" h="1681">
                  <a:moveTo>
                    <a:pt x="1041" y="816"/>
                  </a:moveTo>
                  <a:lnTo>
                    <a:pt x="1044" y="883"/>
                  </a:lnTo>
                  <a:lnTo>
                    <a:pt x="1044" y="959"/>
                  </a:lnTo>
                  <a:lnTo>
                    <a:pt x="1036" y="1049"/>
                  </a:lnTo>
                  <a:lnTo>
                    <a:pt x="1019" y="1135"/>
                  </a:lnTo>
                  <a:lnTo>
                    <a:pt x="1000" y="1220"/>
                  </a:lnTo>
                  <a:lnTo>
                    <a:pt x="982" y="1280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3" y="1387"/>
                  </a:lnTo>
                  <a:lnTo>
                    <a:pt x="943" y="1397"/>
                  </a:lnTo>
                  <a:lnTo>
                    <a:pt x="935" y="1412"/>
                  </a:lnTo>
                  <a:lnTo>
                    <a:pt x="948" y="1422"/>
                  </a:lnTo>
                  <a:lnTo>
                    <a:pt x="956" y="1433"/>
                  </a:lnTo>
                  <a:lnTo>
                    <a:pt x="962" y="1450"/>
                  </a:lnTo>
                  <a:lnTo>
                    <a:pt x="976" y="1454"/>
                  </a:lnTo>
                  <a:lnTo>
                    <a:pt x="982" y="1461"/>
                  </a:lnTo>
                  <a:lnTo>
                    <a:pt x="990" y="1472"/>
                  </a:lnTo>
                  <a:lnTo>
                    <a:pt x="995" y="1483"/>
                  </a:lnTo>
                  <a:lnTo>
                    <a:pt x="1003" y="1495"/>
                  </a:lnTo>
                  <a:lnTo>
                    <a:pt x="1039" y="1514"/>
                  </a:lnTo>
                  <a:lnTo>
                    <a:pt x="1064" y="1524"/>
                  </a:lnTo>
                  <a:lnTo>
                    <a:pt x="1074" y="1534"/>
                  </a:lnTo>
                  <a:lnTo>
                    <a:pt x="1079" y="1545"/>
                  </a:lnTo>
                  <a:lnTo>
                    <a:pt x="1079" y="1565"/>
                  </a:lnTo>
                  <a:lnTo>
                    <a:pt x="1060" y="1570"/>
                  </a:lnTo>
                  <a:lnTo>
                    <a:pt x="1032" y="1574"/>
                  </a:lnTo>
                  <a:lnTo>
                    <a:pt x="991" y="1571"/>
                  </a:lnTo>
                  <a:lnTo>
                    <a:pt x="954" y="1565"/>
                  </a:lnTo>
                  <a:lnTo>
                    <a:pt x="912" y="1552"/>
                  </a:lnTo>
                  <a:lnTo>
                    <a:pt x="882" y="1536"/>
                  </a:lnTo>
                  <a:lnTo>
                    <a:pt x="858" y="1521"/>
                  </a:lnTo>
                  <a:lnTo>
                    <a:pt x="833" y="1518"/>
                  </a:lnTo>
                  <a:lnTo>
                    <a:pt x="814" y="1516"/>
                  </a:lnTo>
                  <a:lnTo>
                    <a:pt x="794" y="1510"/>
                  </a:lnTo>
                  <a:lnTo>
                    <a:pt x="777" y="1503"/>
                  </a:lnTo>
                  <a:lnTo>
                    <a:pt x="772" y="1482"/>
                  </a:lnTo>
                  <a:lnTo>
                    <a:pt x="775" y="1464"/>
                  </a:lnTo>
                  <a:lnTo>
                    <a:pt x="777" y="1446"/>
                  </a:lnTo>
                  <a:lnTo>
                    <a:pt x="781" y="1431"/>
                  </a:lnTo>
                  <a:lnTo>
                    <a:pt x="787" y="1415"/>
                  </a:lnTo>
                  <a:lnTo>
                    <a:pt x="794" y="1400"/>
                  </a:lnTo>
                  <a:lnTo>
                    <a:pt x="803" y="1387"/>
                  </a:lnTo>
                  <a:lnTo>
                    <a:pt x="803" y="1371"/>
                  </a:lnTo>
                  <a:lnTo>
                    <a:pt x="803" y="1356"/>
                  </a:lnTo>
                  <a:lnTo>
                    <a:pt x="807" y="1345"/>
                  </a:lnTo>
                  <a:lnTo>
                    <a:pt x="814" y="1334"/>
                  </a:lnTo>
                  <a:lnTo>
                    <a:pt x="814" y="1282"/>
                  </a:lnTo>
                  <a:lnTo>
                    <a:pt x="794" y="1273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9"/>
                  </a:lnTo>
                  <a:lnTo>
                    <a:pt x="796" y="1210"/>
                  </a:lnTo>
                  <a:lnTo>
                    <a:pt x="801" y="1180"/>
                  </a:lnTo>
                  <a:lnTo>
                    <a:pt x="807" y="1141"/>
                  </a:lnTo>
                  <a:lnTo>
                    <a:pt x="819" y="1101"/>
                  </a:lnTo>
                  <a:lnTo>
                    <a:pt x="833" y="1060"/>
                  </a:lnTo>
                  <a:lnTo>
                    <a:pt x="807" y="1091"/>
                  </a:lnTo>
                  <a:lnTo>
                    <a:pt x="778" y="1120"/>
                  </a:lnTo>
                  <a:lnTo>
                    <a:pt x="755" y="1145"/>
                  </a:lnTo>
                  <a:lnTo>
                    <a:pt x="726" y="1172"/>
                  </a:lnTo>
                  <a:lnTo>
                    <a:pt x="702" y="1192"/>
                  </a:lnTo>
                  <a:lnTo>
                    <a:pt x="671" y="1216"/>
                  </a:lnTo>
                  <a:lnTo>
                    <a:pt x="643" y="1237"/>
                  </a:lnTo>
                  <a:lnTo>
                    <a:pt x="607" y="1257"/>
                  </a:lnTo>
                  <a:lnTo>
                    <a:pt x="574" y="1277"/>
                  </a:lnTo>
                  <a:lnTo>
                    <a:pt x="544" y="1288"/>
                  </a:lnTo>
                  <a:lnTo>
                    <a:pt x="514" y="1301"/>
                  </a:lnTo>
                  <a:lnTo>
                    <a:pt x="485" y="1311"/>
                  </a:lnTo>
                  <a:lnTo>
                    <a:pt x="458" y="1413"/>
                  </a:lnTo>
                  <a:lnTo>
                    <a:pt x="457" y="1441"/>
                  </a:lnTo>
                  <a:lnTo>
                    <a:pt x="452" y="1472"/>
                  </a:lnTo>
                  <a:lnTo>
                    <a:pt x="448" y="1496"/>
                  </a:lnTo>
                  <a:lnTo>
                    <a:pt x="441" y="1521"/>
                  </a:lnTo>
                  <a:lnTo>
                    <a:pt x="433" y="1545"/>
                  </a:lnTo>
                  <a:lnTo>
                    <a:pt x="419" y="1571"/>
                  </a:lnTo>
                  <a:lnTo>
                    <a:pt x="406" y="1591"/>
                  </a:lnTo>
                  <a:lnTo>
                    <a:pt x="390" y="1609"/>
                  </a:lnTo>
                  <a:lnTo>
                    <a:pt x="387" y="1625"/>
                  </a:lnTo>
                  <a:lnTo>
                    <a:pt x="375" y="1644"/>
                  </a:lnTo>
                  <a:lnTo>
                    <a:pt x="358" y="1659"/>
                  </a:lnTo>
                  <a:lnTo>
                    <a:pt x="332" y="1672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9" y="1674"/>
                  </a:lnTo>
                  <a:lnTo>
                    <a:pt x="204" y="1666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5" y="1633"/>
                  </a:lnTo>
                  <a:lnTo>
                    <a:pt x="139" y="1604"/>
                  </a:lnTo>
                  <a:lnTo>
                    <a:pt x="128" y="1571"/>
                  </a:lnTo>
                  <a:lnTo>
                    <a:pt x="118" y="1542"/>
                  </a:lnTo>
                  <a:lnTo>
                    <a:pt x="112" y="1508"/>
                  </a:lnTo>
                  <a:lnTo>
                    <a:pt x="112" y="1475"/>
                  </a:lnTo>
                  <a:lnTo>
                    <a:pt x="108" y="1417"/>
                  </a:lnTo>
                  <a:lnTo>
                    <a:pt x="126" y="1384"/>
                  </a:lnTo>
                  <a:lnTo>
                    <a:pt x="133" y="1343"/>
                  </a:lnTo>
                  <a:lnTo>
                    <a:pt x="146" y="1325"/>
                  </a:lnTo>
                  <a:lnTo>
                    <a:pt x="141" y="1301"/>
                  </a:lnTo>
                  <a:lnTo>
                    <a:pt x="136" y="1280"/>
                  </a:lnTo>
                  <a:lnTo>
                    <a:pt x="99" y="1251"/>
                  </a:lnTo>
                  <a:lnTo>
                    <a:pt x="116" y="1226"/>
                  </a:lnTo>
                  <a:lnTo>
                    <a:pt x="136" y="1172"/>
                  </a:lnTo>
                  <a:lnTo>
                    <a:pt x="121" y="1174"/>
                  </a:lnTo>
                  <a:lnTo>
                    <a:pt x="108" y="1170"/>
                  </a:lnTo>
                  <a:lnTo>
                    <a:pt x="99" y="1166"/>
                  </a:lnTo>
                  <a:lnTo>
                    <a:pt x="92" y="1154"/>
                  </a:lnTo>
                  <a:lnTo>
                    <a:pt x="90" y="1145"/>
                  </a:lnTo>
                  <a:lnTo>
                    <a:pt x="79" y="1148"/>
                  </a:lnTo>
                  <a:lnTo>
                    <a:pt x="66" y="1145"/>
                  </a:lnTo>
                  <a:lnTo>
                    <a:pt x="54" y="1138"/>
                  </a:lnTo>
                  <a:lnTo>
                    <a:pt x="44" y="1130"/>
                  </a:lnTo>
                  <a:lnTo>
                    <a:pt x="35" y="1115"/>
                  </a:lnTo>
                  <a:lnTo>
                    <a:pt x="27" y="1101"/>
                  </a:lnTo>
                  <a:lnTo>
                    <a:pt x="22" y="1086"/>
                  </a:lnTo>
                  <a:lnTo>
                    <a:pt x="13" y="1082"/>
                  </a:lnTo>
                  <a:lnTo>
                    <a:pt x="2" y="995"/>
                  </a:lnTo>
                  <a:lnTo>
                    <a:pt x="12" y="992"/>
                  </a:lnTo>
                  <a:lnTo>
                    <a:pt x="12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9" y="913"/>
                  </a:lnTo>
                  <a:lnTo>
                    <a:pt x="12" y="902"/>
                  </a:lnTo>
                  <a:lnTo>
                    <a:pt x="18" y="894"/>
                  </a:lnTo>
                  <a:lnTo>
                    <a:pt x="22" y="878"/>
                  </a:lnTo>
                  <a:lnTo>
                    <a:pt x="25" y="869"/>
                  </a:lnTo>
                  <a:lnTo>
                    <a:pt x="29" y="860"/>
                  </a:lnTo>
                  <a:lnTo>
                    <a:pt x="53" y="853"/>
                  </a:lnTo>
                  <a:lnTo>
                    <a:pt x="44" y="837"/>
                  </a:lnTo>
                  <a:lnTo>
                    <a:pt x="51" y="808"/>
                  </a:lnTo>
                  <a:lnTo>
                    <a:pt x="53" y="801"/>
                  </a:lnTo>
                  <a:lnTo>
                    <a:pt x="54" y="796"/>
                  </a:lnTo>
                  <a:lnTo>
                    <a:pt x="61" y="796"/>
                  </a:lnTo>
                  <a:lnTo>
                    <a:pt x="61" y="788"/>
                  </a:lnTo>
                  <a:lnTo>
                    <a:pt x="99" y="788"/>
                  </a:lnTo>
                  <a:lnTo>
                    <a:pt x="99" y="796"/>
                  </a:lnTo>
                  <a:lnTo>
                    <a:pt x="104" y="796"/>
                  </a:lnTo>
                  <a:lnTo>
                    <a:pt x="108" y="801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7"/>
                  </a:lnTo>
                  <a:lnTo>
                    <a:pt x="110" y="845"/>
                  </a:lnTo>
                  <a:lnTo>
                    <a:pt x="105" y="850"/>
                  </a:lnTo>
                  <a:lnTo>
                    <a:pt x="112" y="853"/>
                  </a:lnTo>
                  <a:lnTo>
                    <a:pt x="121" y="853"/>
                  </a:lnTo>
                  <a:lnTo>
                    <a:pt x="128" y="850"/>
                  </a:lnTo>
                  <a:lnTo>
                    <a:pt x="133" y="842"/>
                  </a:lnTo>
                  <a:lnTo>
                    <a:pt x="129" y="833"/>
                  </a:lnTo>
                  <a:lnTo>
                    <a:pt x="112" y="837"/>
                  </a:lnTo>
                  <a:lnTo>
                    <a:pt x="112" y="823"/>
                  </a:lnTo>
                  <a:lnTo>
                    <a:pt x="134" y="821"/>
                  </a:lnTo>
                  <a:lnTo>
                    <a:pt x="141" y="823"/>
                  </a:lnTo>
                  <a:lnTo>
                    <a:pt x="147" y="825"/>
                  </a:lnTo>
                  <a:lnTo>
                    <a:pt x="153" y="829"/>
                  </a:lnTo>
                  <a:lnTo>
                    <a:pt x="149" y="803"/>
                  </a:lnTo>
                  <a:lnTo>
                    <a:pt x="142" y="777"/>
                  </a:lnTo>
                  <a:lnTo>
                    <a:pt x="181" y="610"/>
                  </a:lnTo>
                  <a:lnTo>
                    <a:pt x="191" y="581"/>
                  </a:lnTo>
                  <a:lnTo>
                    <a:pt x="200" y="562"/>
                  </a:lnTo>
                  <a:lnTo>
                    <a:pt x="212" y="544"/>
                  </a:lnTo>
                  <a:lnTo>
                    <a:pt x="202" y="505"/>
                  </a:lnTo>
                  <a:lnTo>
                    <a:pt x="198" y="479"/>
                  </a:lnTo>
                  <a:lnTo>
                    <a:pt x="200" y="454"/>
                  </a:lnTo>
                  <a:lnTo>
                    <a:pt x="209" y="426"/>
                  </a:lnTo>
                  <a:lnTo>
                    <a:pt x="228" y="391"/>
                  </a:lnTo>
                  <a:lnTo>
                    <a:pt x="248" y="363"/>
                  </a:lnTo>
                  <a:lnTo>
                    <a:pt x="276" y="335"/>
                  </a:lnTo>
                  <a:lnTo>
                    <a:pt x="305" y="319"/>
                  </a:lnTo>
                  <a:lnTo>
                    <a:pt x="323" y="301"/>
                  </a:lnTo>
                  <a:lnTo>
                    <a:pt x="340" y="290"/>
                  </a:lnTo>
                  <a:lnTo>
                    <a:pt x="358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9" y="281"/>
                  </a:lnTo>
                  <a:lnTo>
                    <a:pt x="444" y="265"/>
                  </a:lnTo>
                  <a:lnTo>
                    <a:pt x="436" y="239"/>
                  </a:lnTo>
                  <a:lnTo>
                    <a:pt x="441" y="237"/>
                  </a:lnTo>
                  <a:lnTo>
                    <a:pt x="436" y="208"/>
                  </a:lnTo>
                  <a:lnTo>
                    <a:pt x="434" y="180"/>
                  </a:lnTo>
                  <a:lnTo>
                    <a:pt x="434" y="150"/>
                  </a:lnTo>
                  <a:lnTo>
                    <a:pt x="441" y="119"/>
                  </a:lnTo>
                  <a:lnTo>
                    <a:pt x="452" y="86"/>
                  </a:lnTo>
                  <a:lnTo>
                    <a:pt x="470" y="62"/>
                  </a:lnTo>
                  <a:lnTo>
                    <a:pt x="485" y="47"/>
                  </a:lnTo>
                  <a:lnTo>
                    <a:pt x="527" y="24"/>
                  </a:lnTo>
                  <a:lnTo>
                    <a:pt x="558" y="13"/>
                  </a:lnTo>
                  <a:lnTo>
                    <a:pt x="587" y="4"/>
                  </a:lnTo>
                  <a:lnTo>
                    <a:pt x="620" y="0"/>
                  </a:lnTo>
                  <a:lnTo>
                    <a:pt x="645" y="0"/>
                  </a:lnTo>
                  <a:lnTo>
                    <a:pt x="671" y="4"/>
                  </a:lnTo>
                  <a:lnTo>
                    <a:pt x="690" y="11"/>
                  </a:lnTo>
                  <a:lnTo>
                    <a:pt x="708" y="20"/>
                  </a:lnTo>
                  <a:lnTo>
                    <a:pt x="726" y="37"/>
                  </a:lnTo>
                  <a:lnTo>
                    <a:pt x="741" y="60"/>
                  </a:lnTo>
                  <a:lnTo>
                    <a:pt x="763" y="104"/>
                  </a:lnTo>
                  <a:lnTo>
                    <a:pt x="787" y="156"/>
                  </a:lnTo>
                  <a:lnTo>
                    <a:pt x="798" y="169"/>
                  </a:lnTo>
                  <a:lnTo>
                    <a:pt x="803" y="180"/>
                  </a:lnTo>
                  <a:lnTo>
                    <a:pt x="801" y="189"/>
                  </a:lnTo>
                  <a:lnTo>
                    <a:pt x="789" y="197"/>
                  </a:lnTo>
                  <a:lnTo>
                    <a:pt x="757" y="208"/>
                  </a:lnTo>
                  <a:lnTo>
                    <a:pt x="760" y="237"/>
                  </a:lnTo>
                  <a:lnTo>
                    <a:pt x="763" y="264"/>
                  </a:lnTo>
                  <a:lnTo>
                    <a:pt x="763" y="283"/>
                  </a:lnTo>
                  <a:lnTo>
                    <a:pt x="778" y="285"/>
                  </a:lnTo>
                  <a:lnTo>
                    <a:pt x="798" y="322"/>
                  </a:lnTo>
                  <a:lnTo>
                    <a:pt x="947" y="480"/>
                  </a:lnTo>
                  <a:lnTo>
                    <a:pt x="954" y="492"/>
                  </a:lnTo>
                  <a:lnTo>
                    <a:pt x="956" y="503"/>
                  </a:lnTo>
                  <a:lnTo>
                    <a:pt x="954" y="513"/>
                  </a:lnTo>
                  <a:lnTo>
                    <a:pt x="947" y="521"/>
                  </a:lnTo>
                  <a:lnTo>
                    <a:pt x="941" y="523"/>
                  </a:lnTo>
                  <a:lnTo>
                    <a:pt x="941" y="534"/>
                  </a:lnTo>
                  <a:lnTo>
                    <a:pt x="936" y="544"/>
                  </a:lnTo>
                  <a:lnTo>
                    <a:pt x="930" y="551"/>
                  </a:lnTo>
                  <a:lnTo>
                    <a:pt x="936" y="557"/>
                  </a:lnTo>
                  <a:lnTo>
                    <a:pt x="941" y="566"/>
                  </a:lnTo>
                  <a:lnTo>
                    <a:pt x="949" y="580"/>
                  </a:lnTo>
                  <a:lnTo>
                    <a:pt x="967" y="591"/>
                  </a:lnTo>
                  <a:lnTo>
                    <a:pt x="980" y="599"/>
                  </a:lnTo>
                  <a:lnTo>
                    <a:pt x="993" y="610"/>
                  </a:lnTo>
                  <a:lnTo>
                    <a:pt x="1006" y="619"/>
                  </a:lnTo>
                  <a:lnTo>
                    <a:pt x="1042" y="608"/>
                  </a:lnTo>
                  <a:lnTo>
                    <a:pt x="1061" y="604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20" y="480"/>
                  </a:lnTo>
                  <a:lnTo>
                    <a:pt x="1228" y="483"/>
                  </a:lnTo>
                  <a:lnTo>
                    <a:pt x="1267" y="439"/>
                  </a:lnTo>
                  <a:lnTo>
                    <a:pt x="1270" y="428"/>
                  </a:lnTo>
                  <a:lnTo>
                    <a:pt x="1277" y="417"/>
                  </a:lnTo>
                  <a:lnTo>
                    <a:pt x="1287" y="404"/>
                  </a:lnTo>
                  <a:lnTo>
                    <a:pt x="1443" y="399"/>
                  </a:lnTo>
                  <a:lnTo>
                    <a:pt x="1340" y="459"/>
                  </a:lnTo>
                  <a:lnTo>
                    <a:pt x="1319" y="480"/>
                  </a:lnTo>
                  <a:lnTo>
                    <a:pt x="1290" y="531"/>
                  </a:lnTo>
                  <a:lnTo>
                    <a:pt x="1293" y="544"/>
                  </a:lnTo>
                  <a:lnTo>
                    <a:pt x="1215" y="679"/>
                  </a:lnTo>
                  <a:lnTo>
                    <a:pt x="1190" y="749"/>
                  </a:lnTo>
                  <a:lnTo>
                    <a:pt x="1160" y="772"/>
                  </a:lnTo>
                  <a:lnTo>
                    <a:pt x="1130" y="793"/>
                  </a:lnTo>
                  <a:lnTo>
                    <a:pt x="1090" y="809"/>
                  </a:lnTo>
                  <a:lnTo>
                    <a:pt x="1063" y="814"/>
                  </a:lnTo>
                  <a:lnTo>
                    <a:pt x="1041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162240" y="3263760"/>
              <a:ext cx="300240" cy="86040"/>
            </a:xfrm>
            <a:custGeom>
              <a:avLst/>
              <a:gdLst/>
              <a:ahLst/>
              <a:rect l="l" t="t" r="r" b="b"/>
              <a:pathLst>
                <a:path w="1135" h="322">
                  <a:moveTo>
                    <a:pt x="797" y="155"/>
                  </a:moveTo>
                  <a:lnTo>
                    <a:pt x="779" y="148"/>
                  </a:lnTo>
                  <a:lnTo>
                    <a:pt x="664" y="153"/>
                  </a:lnTo>
                  <a:lnTo>
                    <a:pt x="657" y="159"/>
                  </a:lnTo>
                  <a:lnTo>
                    <a:pt x="784" y="164"/>
                  </a:lnTo>
                  <a:lnTo>
                    <a:pt x="776" y="168"/>
                  </a:lnTo>
                  <a:lnTo>
                    <a:pt x="644" y="168"/>
                  </a:lnTo>
                  <a:lnTo>
                    <a:pt x="489" y="172"/>
                  </a:lnTo>
                  <a:lnTo>
                    <a:pt x="451" y="172"/>
                  </a:lnTo>
                  <a:lnTo>
                    <a:pt x="321" y="225"/>
                  </a:lnTo>
                  <a:lnTo>
                    <a:pt x="321" y="303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5" y="230"/>
                  </a:lnTo>
                  <a:lnTo>
                    <a:pt x="225" y="212"/>
                  </a:lnTo>
                  <a:lnTo>
                    <a:pt x="223" y="205"/>
                  </a:lnTo>
                  <a:lnTo>
                    <a:pt x="219" y="202"/>
                  </a:lnTo>
                  <a:lnTo>
                    <a:pt x="214" y="199"/>
                  </a:lnTo>
                  <a:lnTo>
                    <a:pt x="210" y="199"/>
                  </a:lnTo>
                  <a:lnTo>
                    <a:pt x="176" y="197"/>
                  </a:lnTo>
                  <a:lnTo>
                    <a:pt x="188" y="215"/>
                  </a:lnTo>
                  <a:lnTo>
                    <a:pt x="190" y="223"/>
                  </a:lnTo>
                  <a:lnTo>
                    <a:pt x="190" y="230"/>
                  </a:lnTo>
                  <a:lnTo>
                    <a:pt x="186" y="234"/>
                  </a:lnTo>
                  <a:lnTo>
                    <a:pt x="179" y="238"/>
                  </a:lnTo>
                  <a:lnTo>
                    <a:pt x="217" y="238"/>
                  </a:lnTo>
                  <a:lnTo>
                    <a:pt x="220" y="238"/>
                  </a:lnTo>
                  <a:lnTo>
                    <a:pt x="223" y="234"/>
                  </a:lnTo>
                  <a:lnTo>
                    <a:pt x="225" y="230"/>
                  </a:lnTo>
                  <a:lnTo>
                    <a:pt x="232" y="249"/>
                  </a:lnTo>
                  <a:lnTo>
                    <a:pt x="148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6" y="72"/>
                  </a:lnTo>
                  <a:lnTo>
                    <a:pt x="87" y="32"/>
                  </a:lnTo>
                  <a:lnTo>
                    <a:pt x="93" y="32"/>
                  </a:lnTo>
                  <a:lnTo>
                    <a:pt x="98" y="16"/>
                  </a:lnTo>
                  <a:lnTo>
                    <a:pt x="106" y="8"/>
                  </a:lnTo>
                  <a:lnTo>
                    <a:pt x="119" y="6"/>
                  </a:lnTo>
                  <a:lnTo>
                    <a:pt x="326" y="23"/>
                  </a:lnTo>
                  <a:lnTo>
                    <a:pt x="334" y="28"/>
                  </a:lnTo>
                  <a:lnTo>
                    <a:pt x="344" y="34"/>
                  </a:lnTo>
                  <a:lnTo>
                    <a:pt x="347" y="44"/>
                  </a:lnTo>
                  <a:lnTo>
                    <a:pt x="347" y="54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3" y="60"/>
                  </a:lnTo>
                  <a:lnTo>
                    <a:pt x="337" y="52"/>
                  </a:lnTo>
                  <a:lnTo>
                    <a:pt x="337" y="44"/>
                  </a:lnTo>
                  <a:lnTo>
                    <a:pt x="331" y="37"/>
                  </a:lnTo>
                  <a:lnTo>
                    <a:pt x="321" y="32"/>
                  </a:lnTo>
                  <a:lnTo>
                    <a:pt x="166" y="32"/>
                  </a:lnTo>
                  <a:lnTo>
                    <a:pt x="160" y="41"/>
                  </a:lnTo>
                  <a:lnTo>
                    <a:pt x="155" y="50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5" y="70"/>
                  </a:lnTo>
                  <a:lnTo>
                    <a:pt x="161" y="72"/>
                  </a:lnTo>
                  <a:lnTo>
                    <a:pt x="321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4" y="67"/>
                  </a:lnTo>
                  <a:lnTo>
                    <a:pt x="815" y="70"/>
                  </a:lnTo>
                  <a:lnTo>
                    <a:pt x="817" y="72"/>
                  </a:lnTo>
                  <a:lnTo>
                    <a:pt x="867" y="72"/>
                  </a:lnTo>
                  <a:lnTo>
                    <a:pt x="865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3" y="26"/>
                  </a:lnTo>
                  <a:lnTo>
                    <a:pt x="813" y="65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4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7" y="3"/>
                  </a:lnTo>
                  <a:lnTo>
                    <a:pt x="874" y="10"/>
                  </a:lnTo>
                  <a:lnTo>
                    <a:pt x="878" y="86"/>
                  </a:lnTo>
                  <a:lnTo>
                    <a:pt x="1004" y="86"/>
                  </a:lnTo>
                  <a:lnTo>
                    <a:pt x="1017" y="80"/>
                  </a:lnTo>
                  <a:lnTo>
                    <a:pt x="1105" y="78"/>
                  </a:lnTo>
                  <a:lnTo>
                    <a:pt x="1113" y="65"/>
                  </a:lnTo>
                  <a:lnTo>
                    <a:pt x="1128" y="65"/>
                  </a:lnTo>
                  <a:lnTo>
                    <a:pt x="1128" y="78"/>
                  </a:lnTo>
                  <a:lnTo>
                    <a:pt x="1135" y="78"/>
                  </a:lnTo>
                  <a:lnTo>
                    <a:pt x="1135" y="116"/>
                  </a:lnTo>
                  <a:lnTo>
                    <a:pt x="1110" y="116"/>
                  </a:lnTo>
                  <a:lnTo>
                    <a:pt x="1100" y="109"/>
                  </a:lnTo>
                  <a:lnTo>
                    <a:pt x="878" y="109"/>
                  </a:lnTo>
                  <a:lnTo>
                    <a:pt x="878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2" y="116"/>
                  </a:lnTo>
                  <a:lnTo>
                    <a:pt x="822" y="135"/>
                  </a:lnTo>
                  <a:lnTo>
                    <a:pt x="808" y="135"/>
                  </a:lnTo>
                  <a:lnTo>
                    <a:pt x="797" y="1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162240" y="3263760"/>
              <a:ext cx="300240" cy="86040"/>
            </a:xfrm>
            <a:custGeom>
              <a:avLst/>
              <a:gdLst/>
              <a:ahLst/>
              <a:rect l="l" t="t" r="r" b="b"/>
              <a:pathLst>
                <a:path w="1135" h="322">
                  <a:moveTo>
                    <a:pt x="797" y="155"/>
                  </a:moveTo>
                  <a:lnTo>
                    <a:pt x="779" y="148"/>
                  </a:lnTo>
                  <a:lnTo>
                    <a:pt x="664" y="153"/>
                  </a:lnTo>
                  <a:lnTo>
                    <a:pt x="657" y="159"/>
                  </a:lnTo>
                  <a:lnTo>
                    <a:pt x="784" y="164"/>
                  </a:lnTo>
                  <a:lnTo>
                    <a:pt x="776" y="168"/>
                  </a:lnTo>
                  <a:lnTo>
                    <a:pt x="644" y="168"/>
                  </a:lnTo>
                  <a:lnTo>
                    <a:pt x="489" y="172"/>
                  </a:lnTo>
                  <a:lnTo>
                    <a:pt x="451" y="172"/>
                  </a:lnTo>
                  <a:lnTo>
                    <a:pt x="321" y="225"/>
                  </a:lnTo>
                  <a:lnTo>
                    <a:pt x="321" y="303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5" y="230"/>
                  </a:lnTo>
                  <a:lnTo>
                    <a:pt x="225" y="212"/>
                  </a:lnTo>
                  <a:lnTo>
                    <a:pt x="223" y="205"/>
                  </a:lnTo>
                  <a:lnTo>
                    <a:pt x="219" y="202"/>
                  </a:lnTo>
                  <a:lnTo>
                    <a:pt x="214" y="199"/>
                  </a:lnTo>
                  <a:lnTo>
                    <a:pt x="210" y="199"/>
                  </a:lnTo>
                  <a:lnTo>
                    <a:pt x="176" y="197"/>
                  </a:lnTo>
                  <a:lnTo>
                    <a:pt x="188" y="215"/>
                  </a:lnTo>
                  <a:lnTo>
                    <a:pt x="190" y="223"/>
                  </a:lnTo>
                  <a:lnTo>
                    <a:pt x="190" y="230"/>
                  </a:lnTo>
                  <a:lnTo>
                    <a:pt x="186" y="234"/>
                  </a:lnTo>
                  <a:lnTo>
                    <a:pt x="179" y="238"/>
                  </a:lnTo>
                  <a:lnTo>
                    <a:pt x="217" y="238"/>
                  </a:lnTo>
                  <a:lnTo>
                    <a:pt x="220" y="238"/>
                  </a:lnTo>
                  <a:lnTo>
                    <a:pt x="223" y="234"/>
                  </a:lnTo>
                  <a:lnTo>
                    <a:pt x="225" y="230"/>
                  </a:lnTo>
                  <a:lnTo>
                    <a:pt x="232" y="249"/>
                  </a:lnTo>
                  <a:lnTo>
                    <a:pt x="148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6" y="72"/>
                  </a:lnTo>
                  <a:lnTo>
                    <a:pt x="87" y="32"/>
                  </a:lnTo>
                  <a:lnTo>
                    <a:pt x="93" y="32"/>
                  </a:lnTo>
                  <a:lnTo>
                    <a:pt x="98" y="16"/>
                  </a:lnTo>
                  <a:lnTo>
                    <a:pt x="106" y="8"/>
                  </a:lnTo>
                  <a:lnTo>
                    <a:pt x="119" y="6"/>
                  </a:lnTo>
                  <a:lnTo>
                    <a:pt x="326" y="23"/>
                  </a:lnTo>
                  <a:lnTo>
                    <a:pt x="334" y="28"/>
                  </a:lnTo>
                  <a:lnTo>
                    <a:pt x="344" y="34"/>
                  </a:lnTo>
                  <a:lnTo>
                    <a:pt x="347" y="44"/>
                  </a:lnTo>
                  <a:lnTo>
                    <a:pt x="347" y="54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3" y="60"/>
                  </a:lnTo>
                  <a:lnTo>
                    <a:pt x="337" y="52"/>
                  </a:lnTo>
                  <a:lnTo>
                    <a:pt x="337" y="44"/>
                  </a:lnTo>
                  <a:lnTo>
                    <a:pt x="331" y="37"/>
                  </a:lnTo>
                  <a:lnTo>
                    <a:pt x="321" y="32"/>
                  </a:lnTo>
                  <a:lnTo>
                    <a:pt x="166" y="32"/>
                  </a:lnTo>
                  <a:lnTo>
                    <a:pt x="160" y="41"/>
                  </a:lnTo>
                  <a:lnTo>
                    <a:pt x="155" y="50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5" y="70"/>
                  </a:lnTo>
                  <a:lnTo>
                    <a:pt x="161" y="72"/>
                  </a:lnTo>
                  <a:lnTo>
                    <a:pt x="321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4" y="67"/>
                  </a:lnTo>
                  <a:lnTo>
                    <a:pt x="815" y="70"/>
                  </a:lnTo>
                  <a:lnTo>
                    <a:pt x="817" y="72"/>
                  </a:lnTo>
                  <a:lnTo>
                    <a:pt x="867" y="72"/>
                  </a:lnTo>
                  <a:lnTo>
                    <a:pt x="865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3" y="26"/>
                  </a:lnTo>
                  <a:lnTo>
                    <a:pt x="813" y="65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4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7" y="3"/>
                  </a:lnTo>
                  <a:lnTo>
                    <a:pt x="874" y="10"/>
                  </a:lnTo>
                  <a:lnTo>
                    <a:pt x="878" y="86"/>
                  </a:lnTo>
                  <a:lnTo>
                    <a:pt x="1004" y="86"/>
                  </a:lnTo>
                  <a:lnTo>
                    <a:pt x="1017" y="80"/>
                  </a:lnTo>
                  <a:lnTo>
                    <a:pt x="1105" y="78"/>
                  </a:lnTo>
                  <a:lnTo>
                    <a:pt x="1113" y="65"/>
                  </a:lnTo>
                  <a:lnTo>
                    <a:pt x="1128" y="65"/>
                  </a:lnTo>
                  <a:lnTo>
                    <a:pt x="1128" y="78"/>
                  </a:lnTo>
                  <a:lnTo>
                    <a:pt x="1135" y="78"/>
                  </a:lnTo>
                  <a:lnTo>
                    <a:pt x="1135" y="116"/>
                  </a:lnTo>
                  <a:lnTo>
                    <a:pt x="1110" y="116"/>
                  </a:lnTo>
                  <a:lnTo>
                    <a:pt x="1100" y="109"/>
                  </a:lnTo>
                  <a:lnTo>
                    <a:pt x="878" y="109"/>
                  </a:lnTo>
                  <a:lnTo>
                    <a:pt x="878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2" y="116"/>
                  </a:lnTo>
                  <a:lnTo>
                    <a:pt x="822" y="135"/>
                  </a:lnTo>
                  <a:lnTo>
                    <a:pt x="808" y="135"/>
                  </a:lnTo>
                  <a:lnTo>
                    <a:pt x="797" y="1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41800" y="3683160"/>
              <a:ext cx="382320" cy="444240"/>
            </a:xfrm>
            <a:custGeom>
              <a:avLst/>
              <a:gdLst/>
              <a:ahLst/>
              <a:rect l="l" t="t" r="r" b="b"/>
              <a:pathLst>
                <a:path w="1442" h="1681">
                  <a:moveTo>
                    <a:pt x="763" y="826"/>
                  </a:moveTo>
                  <a:lnTo>
                    <a:pt x="789" y="805"/>
                  </a:lnTo>
                  <a:lnTo>
                    <a:pt x="813" y="790"/>
                  </a:lnTo>
                  <a:lnTo>
                    <a:pt x="838" y="777"/>
                  </a:lnTo>
                  <a:lnTo>
                    <a:pt x="863" y="766"/>
                  </a:lnTo>
                  <a:lnTo>
                    <a:pt x="815" y="735"/>
                  </a:lnTo>
                  <a:lnTo>
                    <a:pt x="794" y="720"/>
                  </a:lnTo>
                  <a:lnTo>
                    <a:pt x="770" y="702"/>
                  </a:lnTo>
                  <a:lnTo>
                    <a:pt x="771" y="733"/>
                  </a:lnTo>
                  <a:lnTo>
                    <a:pt x="768" y="761"/>
                  </a:lnTo>
                  <a:lnTo>
                    <a:pt x="763" y="826"/>
                  </a:lnTo>
                  <a:close/>
                  <a:moveTo>
                    <a:pt x="1040" y="816"/>
                  </a:moveTo>
                  <a:lnTo>
                    <a:pt x="1043" y="883"/>
                  </a:lnTo>
                  <a:lnTo>
                    <a:pt x="1043" y="959"/>
                  </a:lnTo>
                  <a:lnTo>
                    <a:pt x="1035" y="1049"/>
                  </a:lnTo>
                  <a:lnTo>
                    <a:pt x="1019" y="1134"/>
                  </a:lnTo>
                  <a:lnTo>
                    <a:pt x="1001" y="1220"/>
                  </a:lnTo>
                  <a:lnTo>
                    <a:pt x="983" y="1279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2" y="1387"/>
                  </a:lnTo>
                  <a:lnTo>
                    <a:pt x="942" y="1397"/>
                  </a:lnTo>
                  <a:lnTo>
                    <a:pt x="934" y="1411"/>
                  </a:lnTo>
                  <a:lnTo>
                    <a:pt x="947" y="1422"/>
                  </a:lnTo>
                  <a:lnTo>
                    <a:pt x="955" y="1433"/>
                  </a:lnTo>
                  <a:lnTo>
                    <a:pt x="963" y="1450"/>
                  </a:lnTo>
                  <a:lnTo>
                    <a:pt x="976" y="1454"/>
                  </a:lnTo>
                  <a:lnTo>
                    <a:pt x="983" y="1461"/>
                  </a:lnTo>
                  <a:lnTo>
                    <a:pt x="989" y="1472"/>
                  </a:lnTo>
                  <a:lnTo>
                    <a:pt x="996" y="1484"/>
                  </a:lnTo>
                  <a:lnTo>
                    <a:pt x="1002" y="1494"/>
                  </a:lnTo>
                  <a:lnTo>
                    <a:pt x="1040" y="1513"/>
                  </a:lnTo>
                  <a:lnTo>
                    <a:pt x="1063" y="1525"/>
                  </a:lnTo>
                  <a:lnTo>
                    <a:pt x="1074" y="1534"/>
                  </a:lnTo>
                  <a:lnTo>
                    <a:pt x="1079" y="1545"/>
                  </a:lnTo>
                  <a:lnTo>
                    <a:pt x="1079" y="1565"/>
                  </a:lnTo>
                  <a:lnTo>
                    <a:pt x="1059" y="1569"/>
                  </a:lnTo>
                  <a:lnTo>
                    <a:pt x="1033" y="1574"/>
                  </a:lnTo>
                  <a:lnTo>
                    <a:pt x="991" y="1570"/>
                  </a:lnTo>
                  <a:lnTo>
                    <a:pt x="954" y="1565"/>
                  </a:lnTo>
                  <a:lnTo>
                    <a:pt x="913" y="1551"/>
                  </a:lnTo>
                  <a:lnTo>
                    <a:pt x="882" y="1536"/>
                  </a:lnTo>
                  <a:lnTo>
                    <a:pt x="857" y="1521"/>
                  </a:lnTo>
                  <a:lnTo>
                    <a:pt x="833" y="1518"/>
                  </a:lnTo>
                  <a:lnTo>
                    <a:pt x="813" y="1517"/>
                  </a:lnTo>
                  <a:lnTo>
                    <a:pt x="794" y="1510"/>
                  </a:lnTo>
                  <a:lnTo>
                    <a:pt x="776" y="1503"/>
                  </a:lnTo>
                  <a:lnTo>
                    <a:pt x="771" y="1481"/>
                  </a:lnTo>
                  <a:lnTo>
                    <a:pt x="774" y="1464"/>
                  </a:lnTo>
                  <a:lnTo>
                    <a:pt x="776" y="1446"/>
                  </a:lnTo>
                  <a:lnTo>
                    <a:pt x="781" y="1430"/>
                  </a:lnTo>
                  <a:lnTo>
                    <a:pt x="787" y="1416"/>
                  </a:lnTo>
                  <a:lnTo>
                    <a:pt x="794" y="1399"/>
                  </a:lnTo>
                  <a:lnTo>
                    <a:pt x="802" y="1387"/>
                  </a:lnTo>
                  <a:lnTo>
                    <a:pt x="802" y="1371"/>
                  </a:lnTo>
                  <a:lnTo>
                    <a:pt x="802" y="1355"/>
                  </a:lnTo>
                  <a:lnTo>
                    <a:pt x="807" y="1345"/>
                  </a:lnTo>
                  <a:lnTo>
                    <a:pt x="813" y="1334"/>
                  </a:lnTo>
                  <a:lnTo>
                    <a:pt x="813" y="1282"/>
                  </a:lnTo>
                  <a:lnTo>
                    <a:pt x="794" y="1272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9"/>
                  </a:lnTo>
                  <a:lnTo>
                    <a:pt x="796" y="1209"/>
                  </a:lnTo>
                  <a:lnTo>
                    <a:pt x="801" y="1180"/>
                  </a:lnTo>
                  <a:lnTo>
                    <a:pt x="807" y="1142"/>
                  </a:lnTo>
                  <a:lnTo>
                    <a:pt x="818" y="1101"/>
                  </a:lnTo>
                  <a:lnTo>
                    <a:pt x="833" y="1060"/>
                  </a:lnTo>
                  <a:lnTo>
                    <a:pt x="807" y="1090"/>
                  </a:lnTo>
                  <a:lnTo>
                    <a:pt x="779" y="1121"/>
                  </a:lnTo>
                  <a:lnTo>
                    <a:pt x="755" y="1145"/>
                  </a:lnTo>
                  <a:lnTo>
                    <a:pt x="726" y="1171"/>
                  </a:lnTo>
                  <a:lnTo>
                    <a:pt x="701" y="1191"/>
                  </a:lnTo>
                  <a:lnTo>
                    <a:pt x="672" y="1216"/>
                  </a:lnTo>
                  <a:lnTo>
                    <a:pt x="643" y="1238"/>
                  </a:lnTo>
                  <a:lnTo>
                    <a:pt x="608" y="1258"/>
                  </a:lnTo>
                  <a:lnTo>
                    <a:pt x="574" y="1277"/>
                  </a:lnTo>
                  <a:lnTo>
                    <a:pt x="544" y="1288"/>
                  </a:lnTo>
                  <a:lnTo>
                    <a:pt x="514" y="1301"/>
                  </a:lnTo>
                  <a:lnTo>
                    <a:pt x="484" y="1310"/>
                  </a:lnTo>
                  <a:lnTo>
                    <a:pt x="458" y="1412"/>
                  </a:lnTo>
                  <a:lnTo>
                    <a:pt x="456" y="1442"/>
                  </a:lnTo>
                  <a:lnTo>
                    <a:pt x="452" y="1472"/>
                  </a:lnTo>
                  <a:lnTo>
                    <a:pt x="447" y="1497"/>
                  </a:lnTo>
                  <a:lnTo>
                    <a:pt x="440" y="1521"/>
                  </a:lnTo>
                  <a:lnTo>
                    <a:pt x="432" y="1545"/>
                  </a:lnTo>
                  <a:lnTo>
                    <a:pt x="419" y="1570"/>
                  </a:lnTo>
                  <a:lnTo>
                    <a:pt x="406" y="1591"/>
                  </a:lnTo>
                  <a:lnTo>
                    <a:pt x="391" y="1608"/>
                  </a:lnTo>
                  <a:lnTo>
                    <a:pt x="386" y="1625"/>
                  </a:lnTo>
                  <a:lnTo>
                    <a:pt x="375" y="1644"/>
                  </a:lnTo>
                  <a:lnTo>
                    <a:pt x="357" y="1658"/>
                  </a:lnTo>
                  <a:lnTo>
                    <a:pt x="331" y="1671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8" y="1675"/>
                  </a:lnTo>
                  <a:lnTo>
                    <a:pt x="204" y="1665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6" y="1632"/>
                  </a:lnTo>
                  <a:lnTo>
                    <a:pt x="139" y="1604"/>
                  </a:lnTo>
                  <a:lnTo>
                    <a:pt x="127" y="1570"/>
                  </a:lnTo>
                  <a:lnTo>
                    <a:pt x="119" y="1542"/>
                  </a:lnTo>
                  <a:lnTo>
                    <a:pt x="112" y="1507"/>
                  </a:lnTo>
                  <a:lnTo>
                    <a:pt x="112" y="1474"/>
                  </a:lnTo>
                  <a:lnTo>
                    <a:pt x="107" y="1417"/>
                  </a:lnTo>
                  <a:lnTo>
                    <a:pt x="125" y="1384"/>
                  </a:lnTo>
                  <a:lnTo>
                    <a:pt x="132" y="1342"/>
                  </a:lnTo>
                  <a:lnTo>
                    <a:pt x="145" y="1326"/>
                  </a:lnTo>
                  <a:lnTo>
                    <a:pt x="140" y="1301"/>
                  </a:lnTo>
                  <a:lnTo>
                    <a:pt x="135" y="1279"/>
                  </a:lnTo>
                  <a:lnTo>
                    <a:pt x="99" y="1251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1" y="1174"/>
                  </a:lnTo>
                  <a:lnTo>
                    <a:pt x="107" y="1170"/>
                  </a:lnTo>
                  <a:lnTo>
                    <a:pt x="99" y="1165"/>
                  </a:lnTo>
                  <a:lnTo>
                    <a:pt x="93" y="1155"/>
                  </a:lnTo>
                  <a:lnTo>
                    <a:pt x="90" y="1145"/>
                  </a:lnTo>
                  <a:lnTo>
                    <a:pt x="80" y="1148"/>
                  </a:lnTo>
                  <a:lnTo>
                    <a:pt x="65" y="1145"/>
                  </a:lnTo>
                  <a:lnTo>
                    <a:pt x="55" y="1138"/>
                  </a:lnTo>
                  <a:lnTo>
                    <a:pt x="44" y="1130"/>
                  </a:lnTo>
                  <a:lnTo>
                    <a:pt x="36" y="1114"/>
                  </a:lnTo>
                  <a:lnTo>
                    <a:pt x="27" y="1101"/>
                  </a:lnTo>
                  <a:lnTo>
                    <a:pt x="23" y="1086"/>
                  </a:lnTo>
                  <a:lnTo>
                    <a:pt x="13" y="1082"/>
                  </a:lnTo>
                  <a:lnTo>
                    <a:pt x="2" y="994"/>
                  </a:lnTo>
                  <a:lnTo>
                    <a:pt x="11" y="992"/>
                  </a:lnTo>
                  <a:lnTo>
                    <a:pt x="11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10" y="912"/>
                  </a:lnTo>
                  <a:lnTo>
                    <a:pt x="11" y="902"/>
                  </a:lnTo>
                  <a:lnTo>
                    <a:pt x="18" y="893"/>
                  </a:lnTo>
                  <a:lnTo>
                    <a:pt x="23" y="878"/>
                  </a:lnTo>
                  <a:lnTo>
                    <a:pt x="24" y="868"/>
                  </a:lnTo>
                  <a:lnTo>
                    <a:pt x="29" y="860"/>
                  </a:lnTo>
                  <a:lnTo>
                    <a:pt x="52" y="854"/>
                  </a:lnTo>
                  <a:lnTo>
                    <a:pt x="44" y="836"/>
                  </a:lnTo>
                  <a:lnTo>
                    <a:pt x="51" y="808"/>
                  </a:lnTo>
                  <a:lnTo>
                    <a:pt x="52" y="801"/>
                  </a:lnTo>
                  <a:lnTo>
                    <a:pt x="55" y="796"/>
                  </a:lnTo>
                  <a:lnTo>
                    <a:pt x="62" y="796"/>
                  </a:lnTo>
                  <a:lnTo>
                    <a:pt x="62" y="788"/>
                  </a:lnTo>
                  <a:lnTo>
                    <a:pt x="99" y="788"/>
                  </a:lnTo>
                  <a:lnTo>
                    <a:pt x="99" y="796"/>
                  </a:lnTo>
                  <a:lnTo>
                    <a:pt x="103" y="796"/>
                  </a:lnTo>
                  <a:lnTo>
                    <a:pt x="107" y="801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6"/>
                  </a:lnTo>
                  <a:lnTo>
                    <a:pt x="110" y="845"/>
                  </a:lnTo>
                  <a:lnTo>
                    <a:pt x="106" y="849"/>
                  </a:lnTo>
                  <a:lnTo>
                    <a:pt x="112" y="854"/>
                  </a:lnTo>
                  <a:lnTo>
                    <a:pt x="121" y="854"/>
                  </a:lnTo>
                  <a:lnTo>
                    <a:pt x="127" y="849"/>
                  </a:lnTo>
                  <a:lnTo>
                    <a:pt x="132" y="842"/>
                  </a:lnTo>
                  <a:lnTo>
                    <a:pt x="129" y="834"/>
                  </a:lnTo>
                  <a:lnTo>
                    <a:pt x="112" y="836"/>
                  </a:lnTo>
                  <a:lnTo>
                    <a:pt x="112" y="823"/>
                  </a:lnTo>
                  <a:lnTo>
                    <a:pt x="134" y="821"/>
                  </a:lnTo>
                  <a:lnTo>
                    <a:pt x="140" y="823"/>
                  </a:lnTo>
                  <a:lnTo>
                    <a:pt x="147" y="826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7"/>
                  </a:lnTo>
                  <a:lnTo>
                    <a:pt x="182" y="611"/>
                  </a:lnTo>
                  <a:lnTo>
                    <a:pt x="191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2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8" y="425"/>
                  </a:lnTo>
                  <a:lnTo>
                    <a:pt x="228" y="391"/>
                  </a:lnTo>
                  <a:lnTo>
                    <a:pt x="248" y="362"/>
                  </a:lnTo>
                  <a:lnTo>
                    <a:pt x="277" y="336"/>
                  </a:lnTo>
                  <a:lnTo>
                    <a:pt x="305" y="318"/>
                  </a:lnTo>
                  <a:lnTo>
                    <a:pt x="323" y="300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8" y="281"/>
                  </a:lnTo>
                  <a:lnTo>
                    <a:pt x="443" y="265"/>
                  </a:lnTo>
                  <a:lnTo>
                    <a:pt x="437" y="239"/>
                  </a:lnTo>
                  <a:lnTo>
                    <a:pt x="440" y="238"/>
                  </a:lnTo>
                  <a:lnTo>
                    <a:pt x="437" y="209"/>
                  </a:lnTo>
                  <a:lnTo>
                    <a:pt x="434" y="179"/>
                  </a:lnTo>
                  <a:lnTo>
                    <a:pt x="434" y="150"/>
                  </a:lnTo>
                  <a:lnTo>
                    <a:pt x="440" y="119"/>
                  </a:lnTo>
                  <a:lnTo>
                    <a:pt x="452" y="85"/>
                  </a:lnTo>
                  <a:lnTo>
                    <a:pt x="469" y="62"/>
                  </a:lnTo>
                  <a:lnTo>
                    <a:pt x="484" y="46"/>
                  </a:lnTo>
                  <a:lnTo>
                    <a:pt x="527" y="24"/>
                  </a:lnTo>
                  <a:lnTo>
                    <a:pt x="557" y="13"/>
                  </a:lnTo>
                  <a:lnTo>
                    <a:pt x="588" y="5"/>
                  </a:lnTo>
                  <a:lnTo>
                    <a:pt x="621" y="0"/>
                  </a:lnTo>
                  <a:lnTo>
                    <a:pt x="644" y="0"/>
                  </a:lnTo>
                  <a:lnTo>
                    <a:pt x="671" y="5"/>
                  </a:lnTo>
                  <a:lnTo>
                    <a:pt x="691" y="11"/>
                  </a:lnTo>
                  <a:lnTo>
                    <a:pt x="709" y="20"/>
                  </a:lnTo>
                  <a:lnTo>
                    <a:pt x="725" y="37"/>
                  </a:lnTo>
                  <a:lnTo>
                    <a:pt x="741" y="59"/>
                  </a:lnTo>
                  <a:lnTo>
                    <a:pt x="763" y="103"/>
                  </a:lnTo>
                  <a:lnTo>
                    <a:pt x="787" y="156"/>
                  </a:lnTo>
                  <a:lnTo>
                    <a:pt x="798" y="169"/>
                  </a:lnTo>
                  <a:lnTo>
                    <a:pt x="802" y="179"/>
                  </a:lnTo>
                  <a:lnTo>
                    <a:pt x="800" y="189"/>
                  </a:lnTo>
                  <a:lnTo>
                    <a:pt x="789" y="197"/>
                  </a:lnTo>
                  <a:lnTo>
                    <a:pt x="756" y="209"/>
                  </a:lnTo>
                  <a:lnTo>
                    <a:pt x="761" y="238"/>
                  </a:lnTo>
                  <a:lnTo>
                    <a:pt x="763" y="264"/>
                  </a:lnTo>
                  <a:lnTo>
                    <a:pt x="763" y="284"/>
                  </a:lnTo>
                  <a:lnTo>
                    <a:pt x="779" y="285"/>
                  </a:lnTo>
                  <a:lnTo>
                    <a:pt x="798" y="323"/>
                  </a:lnTo>
                  <a:lnTo>
                    <a:pt x="947" y="481"/>
                  </a:lnTo>
                  <a:lnTo>
                    <a:pt x="954" y="492"/>
                  </a:lnTo>
                  <a:lnTo>
                    <a:pt x="955" y="502"/>
                  </a:lnTo>
                  <a:lnTo>
                    <a:pt x="954" y="513"/>
                  </a:lnTo>
                  <a:lnTo>
                    <a:pt x="947" y="520"/>
                  </a:lnTo>
                  <a:lnTo>
                    <a:pt x="941" y="523"/>
                  </a:lnTo>
                  <a:lnTo>
                    <a:pt x="941" y="533"/>
                  </a:lnTo>
                  <a:lnTo>
                    <a:pt x="936" y="544"/>
                  </a:lnTo>
                  <a:lnTo>
                    <a:pt x="929" y="551"/>
                  </a:lnTo>
                  <a:lnTo>
                    <a:pt x="936" y="557"/>
                  </a:lnTo>
                  <a:lnTo>
                    <a:pt x="941" y="567"/>
                  </a:lnTo>
                  <a:lnTo>
                    <a:pt x="949" y="580"/>
                  </a:lnTo>
                  <a:lnTo>
                    <a:pt x="967" y="590"/>
                  </a:lnTo>
                  <a:lnTo>
                    <a:pt x="980" y="599"/>
                  </a:lnTo>
                  <a:lnTo>
                    <a:pt x="993" y="611"/>
                  </a:lnTo>
                  <a:lnTo>
                    <a:pt x="1006" y="619"/>
                  </a:lnTo>
                  <a:lnTo>
                    <a:pt x="1041" y="608"/>
                  </a:lnTo>
                  <a:lnTo>
                    <a:pt x="1061" y="603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19" y="481"/>
                  </a:lnTo>
                  <a:lnTo>
                    <a:pt x="1228" y="482"/>
                  </a:lnTo>
                  <a:lnTo>
                    <a:pt x="1268" y="439"/>
                  </a:lnTo>
                  <a:lnTo>
                    <a:pt x="1270" y="428"/>
                  </a:lnTo>
                  <a:lnTo>
                    <a:pt x="1276" y="417"/>
                  </a:lnTo>
                  <a:lnTo>
                    <a:pt x="1287" y="404"/>
                  </a:lnTo>
                  <a:lnTo>
                    <a:pt x="1442" y="399"/>
                  </a:lnTo>
                  <a:lnTo>
                    <a:pt x="1340" y="458"/>
                  </a:lnTo>
                  <a:lnTo>
                    <a:pt x="1320" y="481"/>
                  </a:lnTo>
                  <a:lnTo>
                    <a:pt x="1289" y="531"/>
                  </a:lnTo>
                  <a:lnTo>
                    <a:pt x="1294" y="544"/>
                  </a:lnTo>
                  <a:lnTo>
                    <a:pt x="1214" y="678"/>
                  </a:lnTo>
                  <a:lnTo>
                    <a:pt x="1190" y="748"/>
                  </a:lnTo>
                  <a:lnTo>
                    <a:pt x="1160" y="772"/>
                  </a:lnTo>
                  <a:lnTo>
                    <a:pt x="1129" y="792"/>
                  </a:lnTo>
                  <a:lnTo>
                    <a:pt x="1090" y="810"/>
                  </a:lnTo>
                  <a:lnTo>
                    <a:pt x="1063" y="815"/>
                  </a:lnTo>
                  <a:lnTo>
                    <a:pt x="1040" y="816"/>
                  </a:lnTo>
                  <a:close/>
                  <a:moveTo>
                    <a:pt x="151" y="854"/>
                  </a:moveTo>
                  <a:lnTo>
                    <a:pt x="140" y="864"/>
                  </a:lnTo>
                  <a:lnTo>
                    <a:pt x="145" y="871"/>
                  </a:lnTo>
                  <a:lnTo>
                    <a:pt x="148" y="879"/>
                  </a:lnTo>
                  <a:lnTo>
                    <a:pt x="151" y="871"/>
                  </a:lnTo>
                  <a:lnTo>
                    <a:pt x="153" y="862"/>
                  </a:lnTo>
                  <a:lnTo>
                    <a:pt x="151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41800" y="3683160"/>
              <a:ext cx="382320" cy="444240"/>
            </a:xfrm>
            <a:custGeom>
              <a:avLst/>
              <a:gdLst/>
              <a:ahLst/>
              <a:rect l="l" t="t" r="r" b="b"/>
              <a:pathLst>
                <a:path w="1442" h="1681">
                  <a:moveTo>
                    <a:pt x="1040" y="816"/>
                  </a:moveTo>
                  <a:lnTo>
                    <a:pt x="1043" y="883"/>
                  </a:lnTo>
                  <a:lnTo>
                    <a:pt x="1043" y="959"/>
                  </a:lnTo>
                  <a:lnTo>
                    <a:pt x="1035" y="1049"/>
                  </a:lnTo>
                  <a:lnTo>
                    <a:pt x="1019" y="1134"/>
                  </a:lnTo>
                  <a:lnTo>
                    <a:pt x="1001" y="1220"/>
                  </a:lnTo>
                  <a:lnTo>
                    <a:pt x="983" y="1279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2" y="1387"/>
                  </a:lnTo>
                  <a:lnTo>
                    <a:pt x="942" y="1397"/>
                  </a:lnTo>
                  <a:lnTo>
                    <a:pt x="934" y="1411"/>
                  </a:lnTo>
                  <a:lnTo>
                    <a:pt x="947" y="1422"/>
                  </a:lnTo>
                  <a:lnTo>
                    <a:pt x="955" y="1433"/>
                  </a:lnTo>
                  <a:lnTo>
                    <a:pt x="963" y="1450"/>
                  </a:lnTo>
                  <a:lnTo>
                    <a:pt x="976" y="1454"/>
                  </a:lnTo>
                  <a:lnTo>
                    <a:pt x="983" y="1461"/>
                  </a:lnTo>
                  <a:lnTo>
                    <a:pt x="989" y="1472"/>
                  </a:lnTo>
                  <a:lnTo>
                    <a:pt x="996" y="1484"/>
                  </a:lnTo>
                  <a:lnTo>
                    <a:pt x="1002" y="1494"/>
                  </a:lnTo>
                  <a:lnTo>
                    <a:pt x="1040" y="1513"/>
                  </a:lnTo>
                  <a:lnTo>
                    <a:pt x="1063" y="1525"/>
                  </a:lnTo>
                  <a:lnTo>
                    <a:pt x="1074" y="1534"/>
                  </a:lnTo>
                  <a:lnTo>
                    <a:pt x="1079" y="1545"/>
                  </a:lnTo>
                  <a:lnTo>
                    <a:pt x="1079" y="1565"/>
                  </a:lnTo>
                  <a:lnTo>
                    <a:pt x="1059" y="1569"/>
                  </a:lnTo>
                  <a:lnTo>
                    <a:pt x="1033" y="1574"/>
                  </a:lnTo>
                  <a:lnTo>
                    <a:pt x="991" y="1570"/>
                  </a:lnTo>
                  <a:lnTo>
                    <a:pt x="954" y="1565"/>
                  </a:lnTo>
                  <a:lnTo>
                    <a:pt x="913" y="1551"/>
                  </a:lnTo>
                  <a:lnTo>
                    <a:pt x="882" y="1536"/>
                  </a:lnTo>
                  <a:lnTo>
                    <a:pt x="857" y="1521"/>
                  </a:lnTo>
                  <a:lnTo>
                    <a:pt x="833" y="1518"/>
                  </a:lnTo>
                  <a:lnTo>
                    <a:pt x="813" y="1517"/>
                  </a:lnTo>
                  <a:lnTo>
                    <a:pt x="794" y="1510"/>
                  </a:lnTo>
                  <a:lnTo>
                    <a:pt x="776" y="1503"/>
                  </a:lnTo>
                  <a:lnTo>
                    <a:pt x="771" y="1481"/>
                  </a:lnTo>
                  <a:lnTo>
                    <a:pt x="774" y="1464"/>
                  </a:lnTo>
                  <a:lnTo>
                    <a:pt x="776" y="1446"/>
                  </a:lnTo>
                  <a:lnTo>
                    <a:pt x="781" y="1430"/>
                  </a:lnTo>
                  <a:lnTo>
                    <a:pt x="787" y="1416"/>
                  </a:lnTo>
                  <a:lnTo>
                    <a:pt x="794" y="1399"/>
                  </a:lnTo>
                  <a:lnTo>
                    <a:pt x="802" y="1387"/>
                  </a:lnTo>
                  <a:lnTo>
                    <a:pt x="802" y="1371"/>
                  </a:lnTo>
                  <a:lnTo>
                    <a:pt x="802" y="1355"/>
                  </a:lnTo>
                  <a:lnTo>
                    <a:pt x="807" y="1345"/>
                  </a:lnTo>
                  <a:lnTo>
                    <a:pt x="813" y="1334"/>
                  </a:lnTo>
                  <a:lnTo>
                    <a:pt x="813" y="1282"/>
                  </a:lnTo>
                  <a:lnTo>
                    <a:pt x="794" y="1272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9"/>
                  </a:lnTo>
                  <a:lnTo>
                    <a:pt x="796" y="1209"/>
                  </a:lnTo>
                  <a:lnTo>
                    <a:pt x="801" y="1180"/>
                  </a:lnTo>
                  <a:lnTo>
                    <a:pt x="807" y="1142"/>
                  </a:lnTo>
                  <a:lnTo>
                    <a:pt x="818" y="1101"/>
                  </a:lnTo>
                  <a:lnTo>
                    <a:pt x="833" y="1060"/>
                  </a:lnTo>
                  <a:lnTo>
                    <a:pt x="807" y="1090"/>
                  </a:lnTo>
                  <a:lnTo>
                    <a:pt x="779" y="1121"/>
                  </a:lnTo>
                  <a:lnTo>
                    <a:pt x="755" y="1145"/>
                  </a:lnTo>
                  <a:lnTo>
                    <a:pt x="726" y="1171"/>
                  </a:lnTo>
                  <a:lnTo>
                    <a:pt x="701" y="1191"/>
                  </a:lnTo>
                  <a:lnTo>
                    <a:pt x="672" y="1216"/>
                  </a:lnTo>
                  <a:lnTo>
                    <a:pt x="643" y="1238"/>
                  </a:lnTo>
                  <a:lnTo>
                    <a:pt x="608" y="1258"/>
                  </a:lnTo>
                  <a:lnTo>
                    <a:pt x="574" y="1277"/>
                  </a:lnTo>
                  <a:lnTo>
                    <a:pt x="544" y="1288"/>
                  </a:lnTo>
                  <a:lnTo>
                    <a:pt x="514" y="1301"/>
                  </a:lnTo>
                  <a:lnTo>
                    <a:pt x="484" y="1310"/>
                  </a:lnTo>
                  <a:lnTo>
                    <a:pt x="458" y="1412"/>
                  </a:lnTo>
                  <a:lnTo>
                    <a:pt x="456" y="1442"/>
                  </a:lnTo>
                  <a:lnTo>
                    <a:pt x="452" y="1472"/>
                  </a:lnTo>
                  <a:lnTo>
                    <a:pt x="447" y="1497"/>
                  </a:lnTo>
                  <a:lnTo>
                    <a:pt x="440" y="1521"/>
                  </a:lnTo>
                  <a:lnTo>
                    <a:pt x="432" y="1545"/>
                  </a:lnTo>
                  <a:lnTo>
                    <a:pt x="419" y="1570"/>
                  </a:lnTo>
                  <a:lnTo>
                    <a:pt x="406" y="1591"/>
                  </a:lnTo>
                  <a:lnTo>
                    <a:pt x="391" y="1608"/>
                  </a:lnTo>
                  <a:lnTo>
                    <a:pt x="386" y="1625"/>
                  </a:lnTo>
                  <a:lnTo>
                    <a:pt x="375" y="1644"/>
                  </a:lnTo>
                  <a:lnTo>
                    <a:pt x="357" y="1658"/>
                  </a:lnTo>
                  <a:lnTo>
                    <a:pt x="331" y="1671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8" y="1675"/>
                  </a:lnTo>
                  <a:lnTo>
                    <a:pt x="204" y="1665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6" y="1632"/>
                  </a:lnTo>
                  <a:lnTo>
                    <a:pt x="139" y="1604"/>
                  </a:lnTo>
                  <a:lnTo>
                    <a:pt x="127" y="1570"/>
                  </a:lnTo>
                  <a:lnTo>
                    <a:pt x="119" y="1542"/>
                  </a:lnTo>
                  <a:lnTo>
                    <a:pt x="112" y="1507"/>
                  </a:lnTo>
                  <a:lnTo>
                    <a:pt x="112" y="1474"/>
                  </a:lnTo>
                  <a:lnTo>
                    <a:pt x="107" y="1417"/>
                  </a:lnTo>
                  <a:lnTo>
                    <a:pt x="125" y="1384"/>
                  </a:lnTo>
                  <a:lnTo>
                    <a:pt x="132" y="1342"/>
                  </a:lnTo>
                  <a:lnTo>
                    <a:pt x="145" y="1326"/>
                  </a:lnTo>
                  <a:lnTo>
                    <a:pt x="140" y="1301"/>
                  </a:lnTo>
                  <a:lnTo>
                    <a:pt x="135" y="1279"/>
                  </a:lnTo>
                  <a:lnTo>
                    <a:pt x="99" y="1251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1" y="1174"/>
                  </a:lnTo>
                  <a:lnTo>
                    <a:pt x="107" y="1170"/>
                  </a:lnTo>
                  <a:lnTo>
                    <a:pt x="99" y="1165"/>
                  </a:lnTo>
                  <a:lnTo>
                    <a:pt x="93" y="1155"/>
                  </a:lnTo>
                  <a:lnTo>
                    <a:pt x="90" y="1145"/>
                  </a:lnTo>
                  <a:lnTo>
                    <a:pt x="80" y="1148"/>
                  </a:lnTo>
                  <a:lnTo>
                    <a:pt x="65" y="1145"/>
                  </a:lnTo>
                  <a:lnTo>
                    <a:pt x="55" y="1138"/>
                  </a:lnTo>
                  <a:lnTo>
                    <a:pt x="44" y="1130"/>
                  </a:lnTo>
                  <a:lnTo>
                    <a:pt x="36" y="1114"/>
                  </a:lnTo>
                  <a:lnTo>
                    <a:pt x="27" y="1101"/>
                  </a:lnTo>
                  <a:lnTo>
                    <a:pt x="23" y="1086"/>
                  </a:lnTo>
                  <a:lnTo>
                    <a:pt x="13" y="1082"/>
                  </a:lnTo>
                  <a:lnTo>
                    <a:pt x="2" y="994"/>
                  </a:lnTo>
                  <a:lnTo>
                    <a:pt x="11" y="992"/>
                  </a:lnTo>
                  <a:lnTo>
                    <a:pt x="11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10" y="912"/>
                  </a:lnTo>
                  <a:lnTo>
                    <a:pt x="11" y="902"/>
                  </a:lnTo>
                  <a:lnTo>
                    <a:pt x="18" y="893"/>
                  </a:lnTo>
                  <a:lnTo>
                    <a:pt x="23" y="878"/>
                  </a:lnTo>
                  <a:lnTo>
                    <a:pt x="24" y="868"/>
                  </a:lnTo>
                  <a:lnTo>
                    <a:pt x="29" y="860"/>
                  </a:lnTo>
                  <a:lnTo>
                    <a:pt x="52" y="854"/>
                  </a:lnTo>
                  <a:lnTo>
                    <a:pt x="44" y="836"/>
                  </a:lnTo>
                  <a:lnTo>
                    <a:pt x="51" y="808"/>
                  </a:lnTo>
                  <a:lnTo>
                    <a:pt x="52" y="801"/>
                  </a:lnTo>
                  <a:lnTo>
                    <a:pt x="55" y="796"/>
                  </a:lnTo>
                  <a:lnTo>
                    <a:pt x="62" y="796"/>
                  </a:lnTo>
                  <a:lnTo>
                    <a:pt x="62" y="788"/>
                  </a:lnTo>
                  <a:lnTo>
                    <a:pt x="99" y="788"/>
                  </a:lnTo>
                  <a:lnTo>
                    <a:pt x="99" y="796"/>
                  </a:lnTo>
                  <a:lnTo>
                    <a:pt x="103" y="796"/>
                  </a:lnTo>
                  <a:lnTo>
                    <a:pt x="107" y="801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6"/>
                  </a:lnTo>
                  <a:lnTo>
                    <a:pt x="110" y="845"/>
                  </a:lnTo>
                  <a:lnTo>
                    <a:pt x="106" y="849"/>
                  </a:lnTo>
                  <a:lnTo>
                    <a:pt x="112" y="854"/>
                  </a:lnTo>
                  <a:lnTo>
                    <a:pt x="121" y="854"/>
                  </a:lnTo>
                  <a:lnTo>
                    <a:pt x="127" y="849"/>
                  </a:lnTo>
                  <a:lnTo>
                    <a:pt x="132" y="842"/>
                  </a:lnTo>
                  <a:lnTo>
                    <a:pt x="129" y="834"/>
                  </a:lnTo>
                  <a:lnTo>
                    <a:pt x="112" y="836"/>
                  </a:lnTo>
                  <a:lnTo>
                    <a:pt x="112" y="823"/>
                  </a:lnTo>
                  <a:lnTo>
                    <a:pt x="134" y="821"/>
                  </a:lnTo>
                  <a:lnTo>
                    <a:pt x="140" y="823"/>
                  </a:lnTo>
                  <a:lnTo>
                    <a:pt x="147" y="826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7"/>
                  </a:lnTo>
                  <a:lnTo>
                    <a:pt x="182" y="611"/>
                  </a:lnTo>
                  <a:lnTo>
                    <a:pt x="191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2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8" y="425"/>
                  </a:lnTo>
                  <a:lnTo>
                    <a:pt x="228" y="391"/>
                  </a:lnTo>
                  <a:lnTo>
                    <a:pt x="248" y="362"/>
                  </a:lnTo>
                  <a:lnTo>
                    <a:pt x="277" y="336"/>
                  </a:lnTo>
                  <a:lnTo>
                    <a:pt x="305" y="318"/>
                  </a:lnTo>
                  <a:lnTo>
                    <a:pt x="323" y="300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8" y="281"/>
                  </a:lnTo>
                  <a:lnTo>
                    <a:pt x="443" y="265"/>
                  </a:lnTo>
                  <a:lnTo>
                    <a:pt x="437" y="239"/>
                  </a:lnTo>
                  <a:lnTo>
                    <a:pt x="440" y="238"/>
                  </a:lnTo>
                  <a:lnTo>
                    <a:pt x="437" y="209"/>
                  </a:lnTo>
                  <a:lnTo>
                    <a:pt x="434" y="179"/>
                  </a:lnTo>
                  <a:lnTo>
                    <a:pt x="434" y="150"/>
                  </a:lnTo>
                  <a:lnTo>
                    <a:pt x="440" y="119"/>
                  </a:lnTo>
                  <a:lnTo>
                    <a:pt x="452" y="85"/>
                  </a:lnTo>
                  <a:lnTo>
                    <a:pt x="469" y="62"/>
                  </a:lnTo>
                  <a:lnTo>
                    <a:pt x="484" y="46"/>
                  </a:lnTo>
                  <a:lnTo>
                    <a:pt x="527" y="24"/>
                  </a:lnTo>
                  <a:lnTo>
                    <a:pt x="557" y="13"/>
                  </a:lnTo>
                  <a:lnTo>
                    <a:pt x="588" y="5"/>
                  </a:lnTo>
                  <a:lnTo>
                    <a:pt x="621" y="0"/>
                  </a:lnTo>
                  <a:lnTo>
                    <a:pt x="644" y="0"/>
                  </a:lnTo>
                  <a:lnTo>
                    <a:pt x="671" y="5"/>
                  </a:lnTo>
                  <a:lnTo>
                    <a:pt x="691" y="11"/>
                  </a:lnTo>
                  <a:lnTo>
                    <a:pt x="709" y="20"/>
                  </a:lnTo>
                  <a:lnTo>
                    <a:pt x="725" y="37"/>
                  </a:lnTo>
                  <a:lnTo>
                    <a:pt x="741" y="59"/>
                  </a:lnTo>
                  <a:lnTo>
                    <a:pt x="763" y="103"/>
                  </a:lnTo>
                  <a:lnTo>
                    <a:pt x="787" y="156"/>
                  </a:lnTo>
                  <a:lnTo>
                    <a:pt x="798" y="169"/>
                  </a:lnTo>
                  <a:lnTo>
                    <a:pt x="802" y="179"/>
                  </a:lnTo>
                  <a:lnTo>
                    <a:pt x="800" y="189"/>
                  </a:lnTo>
                  <a:lnTo>
                    <a:pt x="789" y="197"/>
                  </a:lnTo>
                  <a:lnTo>
                    <a:pt x="756" y="209"/>
                  </a:lnTo>
                  <a:lnTo>
                    <a:pt x="761" y="238"/>
                  </a:lnTo>
                  <a:lnTo>
                    <a:pt x="763" y="264"/>
                  </a:lnTo>
                  <a:lnTo>
                    <a:pt x="763" y="284"/>
                  </a:lnTo>
                  <a:lnTo>
                    <a:pt x="779" y="285"/>
                  </a:lnTo>
                  <a:lnTo>
                    <a:pt x="798" y="323"/>
                  </a:lnTo>
                  <a:lnTo>
                    <a:pt x="947" y="481"/>
                  </a:lnTo>
                  <a:lnTo>
                    <a:pt x="954" y="492"/>
                  </a:lnTo>
                  <a:lnTo>
                    <a:pt x="955" y="502"/>
                  </a:lnTo>
                  <a:lnTo>
                    <a:pt x="954" y="513"/>
                  </a:lnTo>
                  <a:lnTo>
                    <a:pt x="947" y="520"/>
                  </a:lnTo>
                  <a:lnTo>
                    <a:pt x="941" y="523"/>
                  </a:lnTo>
                  <a:lnTo>
                    <a:pt x="941" y="533"/>
                  </a:lnTo>
                  <a:lnTo>
                    <a:pt x="936" y="544"/>
                  </a:lnTo>
                  <a:lnTo>
                    <a:pt x="929" y="551"/>
                  </a:lnTo>
                  <a:lnTo>
                    <a:pt x="936" y="557"/>
                  </a:lnTo>
                  <a:lnTo>
                    <a:pt x="941" y="567"/>
                  </a:lnTo>
                  <a:lnTo>
                    <a:pt x="949" y="580"/>
                  </a:lnTo>
                  <a:lnTo>
                    <a:pt x="967" y="590"/>
                  </a:lnTo>
                  <a:lnTo>
                    <a:pt x="980" y="599"/>
                  </a:lnTo>
                  <a:lnTo>
                    <a:pt x="993" y="611"/>
                  </a:lnTo>
                  <a:lnTo>
                    <a:pt x="1006" y="619"/>
                  </a:lnTo>
                  <a:lnTo>
                    <a:pt x="1041" y="608"/>
                  </a:lnTo>
                  <a:lnTo>
                    <a:pt x="1061" y="603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19" y="481"/>
                  </a:lnTo>
                  <a:lnTo>
                    <a:pt x="1228" y="482"/>
                  </a:lnTo>
                  <a:lnTo>
                    <a:pt x="1268" y="439"/>
                  </a:lnTo>
                  <a:lnTo>
                    <a:pt x="1270" y="428"/>
                  </a:lnTo>
                  <a:lnTo>
                    <a:pt x="1276" y="417"/>
                  </a:lnTo>
                  <a:lnTo>
                    <a:pt x="1287" y="404"/>
                  </a:lnTo>
                  <a:lnTo>
                    <a:pt x="1442" y="399"/>
                  </a:lnTo>
                  <a:lnTo>
                    <a:pt x="1340" y="458"/>
                  </a:lnTo>
                  <a:lnTo>
                    <a:pt x="1320" y="481"/>
                  </a:lnTo>
                  <a:lnTo>
                    <a:pt x="1289" y="531"/>
                  </a:lnTo>
                  <a:lnTo>
                    <a:pt x="1294" y="544"/>
                  </a:lnTo>
                  <a:lnTo>
                    <a:pt x="1214" y="678"/>
                  </a:lnTo>
                  <a:lnTo>
                    <a:pt x="1190" y="748"/>
                  </a:lnTo>
                  <a:lnTo>
                    <a:pt x="1160" y="772"/>
                  </a:lnTo>
                  <a:lnTo>
                    <a:pt x="1129" y="792"/>
                  </a:lnTo>
                  <a:lnTo>
                    <a:pt x="1090" y="810"/>
                  </a:lnTo>
                  <a:lnTo>
                    <a:pt x="1063" y="815"/>
                  </a:lnTo>
                  <a:lnTo>
                    <a:pt x="1040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452760" y="3743280"/>
              <a:ext cx="301680" cy="85680"/>
            </a:xfrm>
            <a:custGeom>
              <a:avLst/>
              <a:gdLst/>
              <a:ahLst/>
              <a:rect l="l" t="t" r="r" b="b"/>
              <a:pathLst>
                <a:path w="1135" h="322">
                  <a:moveTo>
                    <a:pt x="798" y="156"/>
                  </a:moveTo>
                  <a:lnTo>
                    <a:pt x="781" y="149"/>
                  </a:lnTo>
                  <a:lnTo>
                    <a:pt x="664" y="154"/>
                  </a:lnTo>
                  <a:lnTo>
                    <a:pt x="658" y="161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4" y="169"/>
                  </a:lnTo>
                  <a:lnTo>
                    <a:pt x="489" y="174"/>
                  </a:lnTo>
                  <a:lnTo>
                    <a:pt x="452" y="174"/>
                  </a:lnTo>
                  <a:lnTo>
                    <a:pt x="323" y="226"/>
                  </a:lnTo>
                  <a:lnTo>
                    <a:pt x="323" y="303"/>
                  </a:lnTo>
                  <a:lnTo>
                    <a:pt x="232" y="322"/>
                  </a:lnTo>
                  <a:lnTo>
                    <a:pt x="232" y="250"/>
                  </a:lnTo>
                  <a:lnTo>
                    <a:pt x="226" y="231"/>
                  </a:lnTo>
                  <a:lnTo>
                    <a:pt x="226" y="213"/>
                  </a:lnTo>
                  <a:lnTo>
                    <a:pt x="224" y="206"/>
                  </a:lnTo>
                  <a:lnTo>
                    <a:pt x="219" y="202"/>
                  </a:lnTo>
                  <a:lnTo>
                    <a:pt x="215" y="200"/>
                  </a:lnTo>
                  <a:lnTo>
                    <a:pt x="211" y="200"/>
                  </a:lnTo>
                  <a:lnTo>
                    <a:pt x="178" y="198"/>
                  </a:lnTo>
                  <a:lnTo>
                    <a:pt x="188" y="215"/>
                  </a:lnTo>
                  <a:lnTo>
                    <a:pt x="191" y="224"/>
                  </a:lnTo>
                  <a:lnTo>
                    <a:pt x="191" y="231"/>
                  </a:lnTo>
                  <a:lnTo>
                    <a:pt x="186" y="234"/>
                  </a:lnTo>
                  <a:lnTo>
                    <a:pt x="180" y="239"/>
                  </a:lnTo>
                  <a:lnTo>
                    <a:pt x="217" y="239"/>
                  </a:lnTo>
                  <a:lnTo>
                    <a:pt x="222" y="239"/>
                  </a:lnTo>
                  <a:lnTo>
                    <a:pt x="224" y="234"/>
                  </a:lnTo>
                  <a:lnTo>
                    <a:pt x="226" y="231"/>
                  </a:lnTo>
                  <a:lnTo>
                    <a:pt x="232" y="250"/>
                  </a:lnTo>
                  <a:lnTo>
                    <a:pt x="149" y="250"/>
                  </a:lnTo>
                  <a:lnTo>
                    <a:pt x="0" y="92"/>
                  </a:lnTo>
                  <a:lnTo>
                    <a:pt x="57" y="92"/>
                  </a:lnTo>
                  <a:lnTo>
                    <a:pt x="57" y="73"/>
                  </a:lnTo>
                  <a:lnTo>
                    <a:pt x="77" y="73"/>
                  </a:lnTo>
                  <a:lnTo>
                    <a:pt x="88" y="34"/>
                  </a:lnTo>
                  <a:lnTo>
                    <a:pt x="95" y="34"/>
                  </a:lnTo>
                  <a:lnTo>
                    <a:pt x="99" y="18"/>
                  </a:lnTo>
                  <a:lnTo>
                    <a:pt x="108" y="9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9"/>
                  </a:lnTo>
                  <a:lnTo>
                    <a:pt x="344" y="35"/>
                  </a:lnTo>
                  <a:lnTo>
                    <a:pt x="349" y="44"/>
                  </a:lnTo>
                  <a:lnTo>
                    <a:pt x="349" y="55"/>
                  </a:lnTo>
                  <a:lnTo>
                    <a:pt x="346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3" y="61"/>
                  </a:lnTo>
                  <a:lnTo>
                    <a:pt x="338" y="53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4"/>
                  </a:lnTo>
                  <a:lnTo>
                    <a:pt x="167" y="34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4" y="60"/>
                  </a:lnTo>
                  <a:lnTo>
                    <a:pt x="154" y="66"/>
                  </a:lnTo>
                  <a:lnTo>
                    <a:pt x="156" y="70"/>
                  </a:lnTo>
                  <a:lnTo>
                    <a:pt x="162" y="73"/>
                  </a:lnTo>
                  <a:lnTo>
                    <a:pt x="323" y="73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4" y="68"/>
                  </a:lnTo>
                  <a:lnTo>
                    <a:pt x="816" y="70"/>
                  </a:lnTo>
                  <a:lnTo>
                    <a:pt x="817" y="73"/>
                  </a:lnTo>
                  <a:lnTo>
                    <a:pt x="868" y="73"/>
                  </a:lnTo>
                  <a:lnTo>
                    <a:pt x="866" y="50"/>
                  </a:lnTo>
                  <a:lnTo>
                    <a:pt x="860" y="50"/>
                  </a:lnTo>
                  <a:lnTo>
                    <a:pt x="860" y="27"/>
                  </a:lnTo>
                  <a:lnTo>
                    <a:pt x="845" y="27"/>
                  </a:lnTo>
                  <a:lnTo>
                    <a:pt x="814" y="66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4" y="68"/>
                  </a:lnTo>
                  <a:lnTo>
                    <a:pt x="851" y="4"/>
                  </a:lnTo>
                  <a:lnTo>
                    <a:pt x="860" y="0"/>
                  </a:lnTo>
                  <a:lnTo>
                    <a:pt x="868" y="4"/>
                  </a:lnTo>
                  <a:lnTo>
                    <a:pt x="876" y="11"/>
                  </a:lnTo>
                  <a:lnTo>
                    <a:pt x="879" y="88"/>
                  </a:lnTo>
                  <a:lnTo>
                    <a:pt x="1004" y="88"/>
                  </a:lnTo>
                  <a:lnTo>
                    <a:pt x="1018" y="81"/>
                  </a:lnTo>
                  <a:lnTo>
                    <a:pt x="1105" y="79"/>
                  </a:lnTo>
                  <a:lnTo>
                    <a:pt x="1114" y="66"/>
                  </a:lnTo>
                  <a:lnTo>
                    <a:pt x="1130" y="66"/>
                  </a:lnTo>
                  <a:lnTo>
                    <a:pt x="1130" y="79"/>
                  </a:lnTo>
                  <a:lnTo>
                    <a:pt x="1135" y="79"/>
                  </a:lnTo>
                  <a:lnTo>
                    <a:pt x="1135" y="117"/>
                  </a:lnTo>
                  <a:lnTo>
                    <a:pt x="1112" y="117"/>
                  </a:lnTo>
                  <a:lnTo>
                    <a:pt x="1101" y="110"/>
                  </a:lnTo>
                  <a:lnTo>
                    <a:pt x="879" y="110"/>
                  </a:lnTo>
                  <a:lnTo>
                    <a:pt x="879" y="120"/>
                  </a:lnTo>
                  <a:lnTo>
                    <a:pt x="860" y="120"/>
                  </a:lnTo>
                  <a:lnTo>
                    <a:pt x="860" y="117"/>
                  </a:lnTo>
                  <a:lnTo>
                    <a:pt x="822" y="117"/>
                  </a:lnTo>
                  <a:lnTo>
                    <a:pt x="822" y="136"/>
                  </a:lnTo>
                  <a:lnTo>
                    <a:pt x="809" y="136"/>
                  </a:lnTo>
                  <a:lnTo>
                    <a:pt x="798" y="1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52760" y="3743280"/>
              <a:ext cx="301680" cy="85680"/>
            </a:xfrm>
            <a:custGeom>
              <a:avLst/>
              <a:gdLst/>
              <a:ahLst/>
              <a:rect l="l" t="t" r="r" b="b"/>
              <a:pathLst>
                <a:path w="1135" h="322">
                  <a:moveTo>
                    <a:pt x="798" y="156"/>
                  </a:moveTo>
                  <a:lnTo>
                    <a:pt x="781" y="149"/>
                  </a:lnTo>
                  <a:lnTo>
                    <a:pt x="664" y="154"/>
                  </a:lnTo>
                  <a:lnTo>
                    <a:pt x="658" y="161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4" y="169"/>
                  </a:lnTo>
                  <a:lnTo>
                    <a:pt x="489" y="174"/>
                  </a:lnTo>
                  <a:lnTo>
                    <a:pt x="452" y="174"/>
                  </a:lnTo>
                  <a:lnTo>
                    <a:pt x="323" y="226"/>
                  </a:lnTo>
                  <a:lnTo>
                    <a:pt x="323" y="303"/>
                  </a:lnTo>
                  <a:lnTo>
                    <a:pt x="232" y="322"/>
                  </a:lnTo>
                  <a:lnTo>
                    <a:pt x="232" y="250"/>
                  </a:lnTo>
                  <a:lnTo>
                    <a:pt x="226" y="231"/>
                  </a:lnTo>
                  <a:lnTo>
                    <a:pt x="226" y="213"/>
                  </a:lnTo>
                  <a:lnTo>
                    <a:pt x="224" y="206"/>
                  </a:lnTo>
                  <a:lnTo>
                    <a:pt x="219" y="202"/>
                  </a:lnTo>
                  <a:lnTo>
                    <a:pt x="215" y="200"/>
                  </a:lnTo>
                  <a:lnTo>
                    <a:pt x="211" y="200"/>
                  </a:lnTo>
                  <a:lnTo>
                    <a:pt x="178" y="198"/>
                  </a:lnTo>
                  <a:lnTo>
                    <a:pt x="188" y="215"/>
                  </a:lnTo>
                  <a:lnTo>
                    <a:pt x="191" y="224"/>
                  </a:lnTo>
                  <a:lnTo>
                    <a:pt x="191" y="231"/>
                  </a:lnTo>
                  <a:lnTo>
                    <a:pt x="186" y="234"/>
                  </a:lnTo>
                  <a:lnTo>
                    <a:pt x="180" y="239"/>
                  </a:lnTo>
                  <a:lnTo>
                    <a:pt x="217" y="239"/>
                  </a:lnTo>
                  <a:lnTo>
                    <a:pt x="222" y="239"/>
                  </a:lnTo>
                  <a:lnTo>
                    <a:pt x="224" y="234"/>
                  </a:lnTo>
                  <a:lnTo>
                    <a:pt x="226" y="231"/>
                  </a:lnTo>
                  <a:lnTo>
                    <a:pt x="232" y="250"/>
                  </a:lnTo>
                  <a:lnTo>
                    <a:pt x="149" y="250"/>
                  </a:lnTo>
                  <a:lnTo>
                    <a:pt x="0" y="92"/>
                  </a:lnTo>
                  <a:lnTo>
                    <a:pt x="57" y="92"/>
                  </a:lnTo>
                  <a:lnTo>
                    <a:pt x="57" y="73"/>
                  </a:lnTo>
                  <a:lnTo>
                    <a:pt x="77" y="73"/>
                  </a:lnTo>
                  <a:lnTo>
                    <a:pt x="88" y="34"/>
                  </a:lnTo>
                  <a:lnTo>
                    <a:pt x="95" y="34"/>
                  </a:lnTo>
                  <a:lnTo>
                    <a:pt x="99" y="18"/>
                  </a:lnTo>
                  <a:lnTo>
                    <a:pt x="108" y="9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9"/>
                  </a:lnTo>
                  <a:lnTo>
                    <a:pt x="344" y="35"/>
                  </a:lnTo>
                  <a:lnTo>
                    <a:pt x="349" y="44"/>
                  </a:lnTo>
                  <a:lnTo>
                    <a:pt x="349" y="55"/>
                  </a:lnTo>
                  <a:lnTo>
                    <a:pt x="346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3" y="61"/>
                  </a:lnTo>
                  <a:lnTo>
                    <a:pt x="338" y="53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4"/>
                  </a:lnTo>
                  <a:lnTo>
                    <a:pt x="167" y="34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4" y="60"/>
                  </a:lnTo>
                  <a:lnTo>
                    <a:pt x="154" y="66"/>
                  </a:lnTo>
                  <a:lnTo>
                    <a:pt x="156" y="70"/>
                  </a:lnTo>
                  <a:lnTo>
                    <a:pt x="162" y="73"/>
                  </a:lnTo>
                  <a:lnTo>
                    <a:pt x="323" y="73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4" y="68"/>
                  </a:lnTo>
                  <a:lnTo>
                    <a:pt x="816" y="70"/>
                  </a:lnTo>
                  <a:lnTo>
                    <a:pt x="817" y="73"/>
                  </a:lnTo>
                  <a:lnTo>
                    <a:pt x="868" y="73"/>
                  </a:lnTo>
                  <a:lnTo>
                    <a:pt x="866" y="50"/>
                  </a:lnTo>
                  <a:lnTo>
                    <a:pt x="860" y="50"/>
                  </a:lnTo>
                  <a:lnTo>
                    <a:pt x="860" y="27"/>
                  </a:lnTo>
                  <a:lnTo>
                    <a:pt x="845" y="27"/>
                  </a:lnTo>
                  <a:lnTo>
                    <a:pt x="814" y="66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4" y="68"/>
                  </a:lnTo>
                  <a:lnTo>
                    <a:pt x="851" y="4"/>
                  </a:lnTo>
                  <a:lnTo>
                    <a:pt x="860" y="0"/>
                  </a:lnTo>
                  <a:lnTo>
                    <a:pt x="868" y="4"/>
                  </a:lnTo>
                  <a:lnTo>
                    <a:pt x="876" y="11"/>
                  </a:lnTo>
                  <a:lnTo>
                    <a:pt x="879" y="88"/>
                  </a:lnTo>
                  <a:lnTo>
                    <a:pt x="1004" y="88"/>
                  </a:lnTo>
                  <a:lnTo>
                    <a:pt x="1018" y="81"/>
                  </a:lnTo>
                  <a:lnTo>
                    <a:pt x="1105" y="79"/>
                  </a:lnTo>
                  <a:lnTo>
                    <a:pt x="1114" y="66"/>
                  </a:lnTo>
                  <a:lnTo>
                    <a:pt x="1130" y="66"/>
                  </a:lnTo>
                  <a:lnTo>
                    <a:pt x="1130" y="79"/>
                  </a:lnTo>
                  <a:lnTo>
                    <a:pt x="1135" y="79"/>
                  </a:lnTo>
                  <a:lnTo>
                    <a:pt x="1135" y="117"/>
                  </a:lnTo>
                  <a:lnTo>
                    <a:pt x="1112" y="117"/>
                  </a:lnTo>
                  <a:lnTo>
                    <a:pt x="1101" y="110"/>
                  </a:lnTo>
                  <a:lnTo>
                    <a:pt x="879" y="110"/>
                  </a:lnTo>
                  <a:lnTo>
                    <a:pt x="879" y="120"/>
                  </a:lnTo>
                  <a:lnTo>
                    <a:pt x="860" y="120"/>
                  </a:lnTo>
                  <a:lnTo>
                    <a:pt x="860" y="117"/>
                  </a:lnTo>
                  <a:lnTo>
                    <a:pt x="822" y="117"/>
                  </a:lnTo>
                  <a:lnTo>
                    <a:pt x="822" y="136"/>
                  </a:lnTo>
                  <a:lnTo>
                    <a:pt x="809" y="136"/>
                  </a:lnTo>
                  <a:lnTo>
                    <a:pt x="798" y="1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718080" y="2832120"/>
              <a:ext cx="284040" cy="336600"/>
            </a:xfrm>
            <a:custGeom>
              <a:avLst/>
              <a:gdLst/>
              <a:ahLst/>
              <a:rect l="l" t="t" r="r" b="b"/>
              <a:pathLst>
                <a:path w="1077" h="1276">
                  <a:moveTo>
                    <a:pt x="218" y="0"/>
                  </a:moveTo>
                  <a:lnTo>
                    <a:pt x="276" y="44"/>
                  </a:lnTo>
                  <a:lnTo>
                    <a:pt x="333" y="88"/>
                  </a:lnTo>
                  <a:lnTo>
                    <a:pt x="389" y="134"/>
                  </a:lnTo>
                  <a:lnTo>
                    <a:pt x="444" y="181"/>
                  </a:lnTo>
                  <a:lnTo>
                    <a:pt x="497" y="230"/>
                  </a:lnTo>
                  <a:lnTo>
                    <a:pt x="548" y="280"/>
                  </a:lnTo>
                  <a:lnTo>
                    <a:pt x="599" y="331"/>
                  </a:lnTo>
                  <a:lnTo>
                    <a:pt x="648" y="383"/>
                  </a:lnTo>
                  <a:lnTo>
                    <a:pt x="696" y="437"/>
                  </a:lnTo>
                  <a:lnTo>
                    <a:pt x="743" y="491"/>
                  </a:lnTo>
                  <a:lnTo>
                    <a:pt x="788" y="548"/>
                  </a:lnTo>
                  <a:lnTo>
                    <a:pt x="831" y="605"/>
                  </a:lnTo>
                  <a:lnTo>
                    <a:pt x="873" y="664"/>
                  </a:lnTo>
                  <a:lnTo>
                    <a:pt x="914" y="722"/>
                  </a:lnTo>
                  <a:lnTo>
                    <a:pt x="953" y="783"/>
                  </a:lnTo>
                  <a:lnTo>
                    <a:pt x="991" y="843"/>
                  </a:lnTo>
                  <a:lnTo>
                    <a:pt x="981" y="873"/>
                  </a:lnTo>
                  <a:lnTo>
                    <a:pt x="966" y="885"/>
                  </a:lnTo>
                  <a:lnTo>
                    <a:pt x="948" y="898"/>
                  </a:lnTo>
                  <a:lnTo>
                    <a:pt x="935" y="960"/>
                  </a:lnTo>
                  <a:lnTo>
                    <a:pt x="935" y="970"/>
                  </a:lnTo>
                  <a:lnTo>
                    <a:pt x="942" y="981"/>
                  </a:lnTo>
                  <a:lnTo>
                    <a:pt x="942" y="992"/>
                  </a:lnTo>
                  <a:lnTo>
                    <a:pt x="934" y="1005"/>
                  </a:lnTo>
                  <a:lnTo>
                    <a:pt x="947" y="1017"/>
                  </a:lnTo>
                  <a:lnTo>
                    <a:pt x="955" y="1027"/>
                  </a:lnTo>
                  <a:lnTo>
                    <a:pt x="961" y="1044"/>
                  </a:lnTo>
                  <a:lnTo>
                    <a:pt x="975" y="1049"/>
                  </a:lnTo>
                  <a:lnTo>
                    <a:pt x="981" y="1056"/>
                  </a:lnTo>
                  <a:lnTo>
                    <a:pt x="988" y="1066"/>
                  </a:lnTo>
                  <a:lnTo>
                    <a:pt x="994" y="1077"/>
                  </a:lnTo>
                  <a:lnTo>
                    <a:pt x="1001" y="1089"/>
                  </a:lnTo>
                  <a:lnTo>
                    <a:pt x="1038" y="1108"/>
                  </a:lnTo>
                  <a:lnTo>
                    <a:pt x="1063" y="1119"/>
                  </a:lnTo>
                  <a:lnTo>
                    <a:pt x="1074" y="1128"/>
                  </a:lnTo>
                  <a:lnTo>
                    <a:pt x="1077" y="1139"/>
                  </a:lnTo>
                  <a:lnTo>
                    <a:pt x="1077" y="1159"/>
                  </a:lnTo>
                  <a:lnTo>
                    <a:pt x="1058" y="1164"/>
                  </a:lnTo>
                  <a:lnTo>
                    <a:pt x="1031" y="1167"/>
                  </a:lnTo>
                  <a:lnTo>
                    <a:pt x="990" y="1165"/>
                  </a:lnTo>
                  <a:lnTo>
                    <a:pt x="953" y="1159"/>
                  </a:lnTo>
                  <a:lnTo>
                    <a:pt x="911" y="1146"/>
                  </a:lnTo>
                  <a:lnTo>
                    <a:pt x="880" y="1131"/>
                  </a:lnTo>
                  <a:lnTo>
                    <a:pt x="857" y="1115"/>
                  </a:lnTo>
                  <a:lnTo>
                    <a:pt x="832" y="1113"/>
                  </a:lnTo>
                  <a:lnTo>
                    <a:pt x="813" y="1110"/>
                  </a:lnTo>
                  <a:lnTo>
                    <a:pt x="794" y="1104"/>
                  </a:lnTo>
                  <a:lnTo>
                    <a:pt x="776" y="1097"/>
                  </a:lnTo>
                  <a:lnTo>
                    <a:pt x="771" y="1076"/>
                  </a:lnTo>
                  <a:lnTo>
                    <a:pt x="774" y="1058"/>
                  </a:lnTo>
                  <a:lnTo>
                    <a:pt x="776" y="1040"/>
                  </a:lnTo>
                  <a:lnTo>
                    <a:pt x="780" y="1025"/>
                  </a:lnTo>
                  <a:lnTo>
                    <a:pt x="787" y="1009"/>
                  </a:lnTo>
                  <a:lnTo>
                    <a:pt x="794" y="994"/>
                  </a:lnTo>
                  <a:lnTo>
                    <a:pt x="802" y="981"/>
                  </a:lnTo>
                  <a:lnTo>
                    <a:pt x="802" y="965"/>
                  </a:lnTo>
                  <a:lnTo>
                    <a:pt x="802" y="950"/>
                  </a:lnTo>
                  <a:lnTo>
                    <a:pt x="807" y="939"/>
                  </a:lnTo>
                  <a:lnTo>
                    <a:pt x="813" y="929"/>
                  </a:lnTo>
                  <a:lnTo>
                    <a:pt x="813" y="876"/>
                  </a:lnTo>
                  <a:lnTo>
                    <a:pt x="794" y="867"/>
                  </a:lnTo>
                  <a:lnTo>
                    <a:pt x="795" y="854"/>
                  </a:lnTo>
                  <a:lnTo>
                    <a:pt x="800" y="841"/>
                  </a:lnTo>
                  <a:lnTo>
                    <a:pt x="800" y="823"/>
                  </a:lnTo>
                  <a:lnTo>
                    <a:pt x="795" y="804"/>
                  </a:lnTo>
                  <a:lnTo>
                    <a:pt x="800" y="774"/>
                  </a:lnTo>
                  <a:lnTo>
                    <a:pt x="807" y="735"/>
                  </a:lnTo>
                  <a:lnTo>
                    <a:pt x="818" y="696"/>
                  </a:lnTo>
                  <a:lnTo>
                    <a:pt x="832" y="654"/>
                  </a:lnTo>
                  <a:lnTo>
                    <a:pt x="807" y="685"/>
                  </a:lnTo>
                  <a:lnTo>
                    <a:pt x="777" y="715"/>
                  </a:lnTo>
                  <a:lnTo>
                    <a:pt x="753" y="740"/>
                  </a:lnTo>
                  <a:lnTo>
                    <a:pt x="725" y="766"/>
                  </a:lnTo>
                  <a:lnTo>
                    <a:pt x="701" y="785"/>
                  </a:lnTo>
                  <a:lnTo>
                    <a:pt x="670" y="810"/>
                  </a:lnTo>
                  <a:lnTo>
                    <a:pt x="642" y="831"/>
                  </a:lnTo>
                  <a:lnTo>
                    <a:pt x="606" y="851"/>
                  </a:lnTo>
                  <a:lnTo>
                    <a:pt x="573" y="872"/>
                  </a:lnTo>
                  <a:lnTo>
                    <a:pt x="543" y="882"/>
                  </a:lnTo>
                  <a:lnTo>
                    <a:pt x="513" y="895"/>
                  </a:lnTo>
                  <a:lnTo>
                    <a:pt x="484" y="905"/>
                  </a:lnTo>
                  <a:lnTo>
                    <a:pt x="457" y="1007"/>
                  </a:lnTo>
                  <a:lnTo>
                    <a:pt x="456" y="1036"/>
                  </a:lnTo>
                  <a:lnTo>
                    <a:pt x="451" y="1066"/>
                  </a:lnTo>
                  <a:lnTo>
                    <a:pt x="447" y="1090"/>
                  </a:lnTo>
                  <a:lnTo>
                    <a:pt x="440" y="1115"/>
                  </a:lnTo>
                  <a:lnTo>
                    <a:pt x="432" y="1139"/>
                  </a:lnTo>
                  <a:lnTo>
                    <a:pt x="418" y="1165"/>
                  </a:lnTo>
                  <a:lnTo>
                    <a:pt x="405" y="1185"/>
                  </a:lnTo>
                  <a:lnTo>
                    <a:pt x="390" y="1202"/>
                  </a:lnTo>
                  <a:lnTo>
                    <a:pt x="386" y="1220"/>
                  </a:lnTo>
                  <a:lnTo>
                    <a:pt x="374" y="1238"/>
                  </a:lnTo>
                  <a:lnTo>
                    <a:pt x="357" y="1253"/>
                  </a:lnTo>
                  <a:lnTo>
                    <a:pt x="331" y="1266"/>
                  </a:lnTo>
                  <a:lnTo>
                    <a:pt x="293" y="1276"/>
                  </a:lnTo>
                  <a:lnTo>
                    <a:pt x="260" y="1276"/>
                  </a:lnTo>
                  <a:lnTo>
                    <a:pt x="228" y="1268"/>
                  </a:lnTo>
                  <a:lnTo>
                    <a:pt x="203" y="1260"/>
                  </a:lnTo>
                  <a:lnTo>
                    <a:pt x="184" y="1245"/>
                  </a:lnTo>
                  <a:lnTo>
                    <a:pt x="171" y="1232"/>
                  </a:lnTo>
                  <a:lnTo>
                    <a:pt x="154" y="1227"/>
                  </a:lnTo>
                  <a:lnTo>
                    <a:pt x="137" y="1198"/>
                  </a:lnTo>
                  <a:lnTo>
                    <a:pt x="127" y="1165"/>
                  </a:lnTo>
                  <a:lnTo>
                    <a:pt x="117" y="1137"/>
                  </a:lnTo>
                  <a:lnTo>
                    <a:pt x="111" y="1102"/>
                  </a:lnTo>
                  <a:lnTo>
                    <a:pt x="111" y="1069"/>
                  </a:lnTo>
                  <a:lnTo>
                    <a:pt x="107" y="1012"/>
                  </a:lnTo>
                  <a:lnTo>
                    <a:pt x="124" y="979"/>
                  </a:lnTo>
                  <a:lnTo>
                    <a:pt x="132" y="937"/>
                  </a:lnTo>
                  <a:lnTo>
                    <a:pt x="145" y="919"/>
                  </a:lnTo>
                  <a:lnTo>
                    <a:pt x="140" y="895"/>
                  </a:lnTo>
                  <a:lnTo>
                    <a:pt x="135" y="873"/>
                  </a:lnTo>
                  <a:lnTo>
                    <a:pt x="98" y="845"/>
                  </a:lnTo>
                  <a:lnTo>
                    <a:pt x="116" y="821"/>
                  </a:lnTo>
                  <a:lnTo>
                    <a:pt x="135" y="766"/>
                  </a:lnTo>
                  <a:lnTo>
                    <a:pt x="120" y="768"/>
                  </a:lnTo>
                  <a:lnTo>
                    <a:pt x="107" y="763"/>
                  </a:lnTo>
                  <a:lnTo>
                    <a:pt x="98" y="760"/>
                  </a:lnTo>
                  <a:lnTo>
                    <a:pt x="91" y="748"/>
                  </a:lnTo>
                  <a:lnTo>
                    <a:pt x="89" y="740"/>
                  </a:lnTo>
                  <a:lnTo>
                    <a:pt x="78" y="742"/>
                  </a:lnTo>
                  <a:lnTo>
                    <a:pt x="65" y="740"/>
                  </a:lnTo>
                  <a:lnTo>
                    <a:pt x="54" y="733"/>
                  </a:lnTo>
                  <a:lnTo>
                    <a:pt x="43" y="724"/>
                  </a:lnTo>
                  <a:lnTo>
                    <a:pt x="34" y="709"/>
                  </a:lnTo>
                  <a:lnTo>
                    <a:pt x="26" y="696"/>
                  </a:lnTo>
                  <a:lnTo>
                    <a:pt x="21" y="680"/>
                  </a:lnTo>
                  <a:lnTo>
                    <a:pt x="12" y="676"/>
                  </a:lnTo>
                  <a:lnTo>
                    <a:pt x="1" y="589"/>
                  </a:lnTo>
                  <a:lnTo>
                    <a:pt x="11" y="585"/>
                  </a:lnTo>
                  <a:lnTo>
                    <a:pt x="11" y="548"/>
                  </a:lnTo>
                  <a:lnTo>
                    <a:pt x="0" y="547"/>
                  </a:lnTo>
                  <a:lnTo>
                    <a:pt x="1" y="525"/>
                  </a:lnTo>
                  <a:lnTo>
                    <a:pt x="8" y="507"/>
                  </a:lnTo>
                  <a:lnTo>
                    <a:pt x="11" y="496"/>
                  </a:lnTo>
                  <a:lnTo>
                    <a:pt x="16" y="488"/>
                  </a:lnTo>
                  <a:lnTo>
                    <a:pt x="21" y="472"/>
                  </a:lnTo>
                  <a:lnTo>
                    <a:pt x="24" y="463"/>
                  </a:lnTo>
                  <a:lnTo>
                    <a:pt x="28" y="455"/>
                  </a:lnTo>
                  <a:lnTo>
                    <a:pt x="52" y="447"/>
                  </a:lnTo>
                  <a:lnTo>
                    <a:pt x="43" y="431"/>
                  </a:lnTo>
                  <a:lnTo>
                    <a:pt x="50" y="401"/>
                  </a:lnTo>
                  <a:lnTo>
                    <a:pt x="52" y="395"/>
                  </a:lnTo>
                  <a:lnTo>
                    <a:pt x="54" y="390"/>
                  </a:lnTo>
                  <a:lnTo>
                    <a:pt x="62" y="390"/>
                  </a:lnTo>
                  <a:lnTo>
                    <a:pt x="62" y="382"/>
                  </a:lnTo>
                  <a:lnTo>
                    <a:pt x="98" y="382"/>
                  </a:lnTo>
                  <a:lnTo>
                    <a:pt x="98" y="390"/>
                  </a:lnTo>
                  <a:lnTo>
                    <a:pt x="103" y="390"/>
                  </a:lnTo>
                  <a:lnTo>
                    <a:pt x="107" y="395"/>
                  </a:lnTo>
                  <a:lnTo>
                    <a:pt x="109" y="404"/>
                  </a:lnTo>
                  <a:lnTo>
                    <a:pt x="111" y="418"/>
                  </a:lnTo>
                  <a:lnTo>
                    <a:pt x="111" y="431"/>
                  </a:lnTo>
                  <a:lnTo>
                    <a:pt x="109" y="439"/>
                  </a:lnTo>
                  <a:lnTo>
                    <a:pt x="104" y="443"/>
                  </a:lnTo>
                  <a:lnTo>
                    <a:pt x="111" y="447"/>
                  </a:lnTo>
                  <a:lnTo>
                    <a:pt x="120" y="447"/>
                  </a:lnTo>
                  <a:lnTo>
                    <a:pt x="127" y="443"/>
                  </a:lnTo>
                  <a:lnTo>
                    <a:pt x="132" y="437"/>
                  </a:lnTo>
                  <a:lnTo>
                    <a:pt x="128" y="427"/>
                  </a:lnTo>
                  <a:lnTo>
                    <a:pt x="111" y="431"/>
                  </a:lnTo>
                  <a:lnTo>
                    <a:pt x="111" y="418"/>
                  </a:lnTo>
                  <a:lnTo>
                    <a:pt x="133" y="414"/>
                  </a:lnTo>
                  <a:lnTo>
                    <a:pt x="140" y="418"/>
                  </a:lnTo>
                  <a:lnTo>
                    <a:pt x="146" y="419"/>
                  </a:lnTo>
                  <a:lnTo>
                    <a:pt x="152" y="424"/>
                  </a:lnTo>
                  <a:lnTo>
                    <a:pt x="148" y="398"/>
                  </a:lnTo>
                  <a:lnTo>
                    <a:pt x="141" y="371"/>
                  </a:lnTo>
                  <a:lnTo>
                    <a:pt x="181" y="204"/>
                  </a:lnTo>
                  <a:lnTo>
                    <a:pt x="190" y="175"/>
                  </a:lnTo>
                  <a:lnTo>
                    <a:pt x="199" y="155"/>
                  </a:lnTo>
                  <a:lnTo>
                    <a:pt x="212" y="139"/>
                  </a:lnTo>
                  <a:lnTo>
                    <a:pt x="200" y="99"/>
                  </a:lnTo>
                  <a:lnTo>
                    <a:pt x="197" y="72"/>
                  </a:lnTo>
                  <a:lnTo>
                    <a:pt x="199" y="48"/>
                  </a:lnTo>
                  <a:lnTo>
                    <a:pt x="208" y="20"/>
                  </a:lnTo>
                  <a:lnTo>
                    <a:pt x="218" y="0"/>
                  </a:lnTo>
                  <a:close/>
                  <a:moveTo>
                    <a:pt x="151" y="449"/>
                  </a:moveTo>
                  <a:lnTo>
                    <a:pt x="140" y="458"/>
                  </a:lnTo>
                  <a:lnTo>
                    <a:pt x="145" y="465"/>
                  </a:lnTo>
                  <a:lnTo>
                    <a:pt x="148" y="474"/>
                  </a:lnTo>
                  <a:lnTo>
                    <a:pt x="151" y="465"/>
                  </a:lnTo>
                  <a:lnTo>
                    <a:pt x="153" y="457"/>
                  </a:lnTo>
                  <a:lnTo>
                    <a:pt x="151" y="4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718080" y="2832120"/>
              <a:ext cx="284040" cy="336600"/>
            </a:xfrm>
            <a:custGeom>
              <a:avLst/>
              <a:gdLst/>
              <a:ahLst/>
              <a:rect l="l" t="t" r="r" b="b"/>
              <a:pathLst>
                <a:path w="1077" h="1276">
                  <a:moveTo>
                    <a:pt x="991" y="843"/>
                  </a:moveTo>
                  <a:lnTo>
                    <a:pt x="981" y="873"/>
                  </a:lnTo>
                  <a:lnTo>
                    <a:pt x="966" y="885"/>
                  </a:lnTo>
                  <a:lnTo>
                    <a:pt x="948" y="898"/>
                  </a:lnTo>
                  <a:lnTo>
                    <a:pt x="935" y="960"/>
                  </a:lnTo>
                  <a:lnTo>
                    <a:pt x="935" y="970"/>
                  </a:lnTo>
                  <a:lnTo>
                    <a:pt x="942" y="981"/>
                  </a:lnTo>
                  <a:lnTo>
                    <a:pt x="942" y="992"/>
                  </a:lnTo>
                  <a:lnTo>
                    <a:pt x="934" y="1005"/>
                  </a:lnTo>
                  <a:lnTo>
                    <a:pt x="947" y="1017"/>
                  </a:lnTo>
                  <a:lnTo>
                    <a:pt x="955" y="1027"/>
                  </a:lnTo>
                  <a:lnTo>
                    <a:pt x="961" y="1044"/>
                  </a:lnTo>
                  <a:lnTo>
                    <a:pt x="975" y="1049"/>
                  </a:lnTo>
                  <a:lnTo>
                    <a:pt x="981" y="1056"/>
                  </a:lnTo>
                  <a:lnTo>
                    <a:pt x="988" y="1066"/>
                  </a:lnTo>
                  <a:lnTo>
                    <a:pt x="994" y="1077"/>
                  </a:lnTo>
                  <a:lnTo>
                    <a:pt x="1001" y="1089"/>
                  </a:lnTo>
                  <a:lnTo>
                    <a:pt x="1038" y="1108"/>
                  </a:lnTo>
                  <a:lnTo>
                    <a:pt x="1063" y="1119"/>
                  </a:lnTo>
                  <a:lnTo>
                    <a:pt x="1074" y="1128"/>
                  </a:lnTo>
                  <a:lnTo>
                    <a:pt x="1077" y="1139"/>
                  </a:lnTo>
                  <a:lnTo>
                    <a:pt x="1077" y="1159"/>
                  </a:lnTo>
                  <a:lnTo>
                    <a:pt x="1058" y="1164"/>
                  </a:lnTo>
                  <a:lnTo>
                    <a:pt x="1031" y="1167"/>
                  </a:lnTo>
                  <a:lnTo>
                    <a:pt x="990" y="1165"/>
                  </a:lnTo>
                  <a:lnTo>
                    <a:pt x="953" y="1159"/>
                  </a:lnTo>
                  <a:lnTo>
                    <a:pt x="911" y="1146"/>
                  </a:lnTo>
                  <a:lnTo>
                    <a:pt x="880" y="1131"/>
                  </a:lnTo>
                  <a:lnTo>
                    <a:pt x="857" y="1115"/>
                  </a:lnTo>
                  <a:lnTo>
                    <a:pt x="832" y="1113"/>
                  </a:lnTo>
                  <a:lnTo>
                    <a:pt x="813" y="1110"/>
                  </a:lnTo>
                  <a:lnTo>
                    <a:pt x="794" y="1104"/>
                  </a:lnTo>
                  <a:lnTo>
                    <a:pt x="776" y="1097"/>
                  </a:lnTo>
                  <a:lnTo>
                    <a:pt x="771" y="1076"/>
                  </a:lnTo>
                  <a:lnTo>
                    <a:pt x="774" y="1058"/>
                  </a:lnTo>
                  <a:lnTo>
                    <a:pt x="776" y="1040"/>
                  </a:lnTo>
                  <a:lnTo>
                    <a:pt x="780" y="1025"/>
                  </a:lnTo>
                  <a:lnTo>
                    <a:pt x="787" y="1009"/>
                  </a:lnTo>
                  <a:lnTo>
                    <a:pt x="794" y="994"/>
                  </a:lnTo>
                  <a:lnTo>
                    <a:pt x="802" y="981"/>
                  </a:lnTo>
                  <a:lnTo>
                    <a:pt x="802" y="965"/>
                  </a:lnTo>
                  <a:lnTo>
                    <a:pt x="802" y="950"/>
                  </a:lnTo>
                  <a:lnTo>
                    <a:pt x="807" y="939"/>
                  </a:lnTo>
                  <a:lnTo>
                    <a:pt x="813" y="929"/>
                  </a:lnTo>
                  <a:lnTo>
                    <a:pt x="813" y="876"/>
                  </a:lnTo>
                  <a:lnTo>
                    <a:pt x="794" y="867"/>
                  </a:lnTo>
                  <a:lnTo>
                    <a:pt x="795" y="854"/>
                  </a:lnTo>
                  <a:lnTo>
                    <a:pt x="800" y="841"/>
                  </a:lnTo>
                  <a:lnTo>
                    <a:pt x="800" y="823"/>
                  </a:lnTo>
                  <a:lnTo>
                    <a:pt x="795" y="804"/>
                  </a:lnTo>
                  <a:lnTo>
                    <a:pt x="800" y="774"/>
                  </a:lnTo>
                  <a:lnTo>
                    <a:pt x="807" y="735"/>
                  </a:lnTo>
                  <a:lnTo>
                    <a:pt x="818" y="696"/>
                  </a:lnTo>
                  <a:lnTo>
                    <a:pt x="832" y="654"/>
                  </a:lnTo>
                  <a:lnTo>
                    <a:pt x="807" y="685"/>
                  </a:lnTo>
                  <a:lnTo>
                    <a:pt x="777" y="715"/>
                  </a:lnTo>
                  <a:lnTo>
                    <a:pt x="753" y="740"/>
                  </a:lnTo>
                  <a:lnTo>
                    <a:pt x="725" y="766"/>
                  </a:lnTo>
                  <a:lnTo>
                    <a:pt x="701" y="785"/>
                  </a:lnTo>
                  <a:lnTo>
                    <a:pt x="670" y="810"/>
                  </a:lnTo>
                  <a:lnTo>
                    <a:pt x="642" y="831"/>
                  </a:lnTo>
                  <a:lnTo>
                    <a:pt x="606" y="851"/>
                  </a:lnTo>
                  <a:lnTo>
                    <a:pt x="573" y="872"/>
                  </a:lnTo>
                  <a:lnTo>
                    <a:pt x="543" y="882"/>
                  </a:lnTo>
                  <a:lnTo>
                    <a:pt x="513" y="895"/>
                  </a:lnTo>
                  <a:lnTo>
                    <a:pt x="484" y="905"/>
                  </a:lnTo>
                  <a:lnTo>
                    <a:pt x="457" y="1007"/>
                  </a:lnTo>
                  <a:lnTo>
                    <a:pt x="456" y="1036"/>
                  </a:lnTo>
                  <a:lnTo>
                    <a:pt x="451" y="1066"/>
                  </a:lnTo>
                  <a:lnTo>
                    <a:pt x="447" y="1090"/>
                  </a:lnTo>
                  <a:lnTo>
                    <a:pt x="440" y="1115"/>
                  </a:lnTo>
                  <a:lnTo>
                    <a:pt x="432" y="1139"/>
                  </a:lnTo>
                  <a:lnTo>
                    <a:pt x="418" y="1165"/>
                  </a:lnTo>
                  <a:lnTo>
                    <a:pt x="405" y="1185"/>
                  </a:lnTo>
                  <a:lnTo>
                    <a:pt x="390" y="1202"/>
                  </a:lnTo>
                  <a:lnTo>
                    <a:pt x="386" y="1220"/>
                  </a:lnTo>
                  <a:lnTo>
                    <a:pt x="374" y="1238"/>
                  </a:lnTo>
                  <a:lnTo>
                    <a:pt x="357" y="1253"/>
                  </a:lnTo>
                  <a:lnTo>
                    <a:pt x="331" y="1266"/>
                  </a:lnTo>
                  <a:lnTo>
                    <a:pt x="293" y="1276"/>
                  </a:lnTo>
                  <a:lnTo>
                    <a:pt x="260" y="1276"/>
                  </a:lnTo>
                  <a:lnTo>
                    <a:pt x="228" y="1268"/>
                  </a:lnTo>
                  <a:lnTo>
                    <a:pt x="203" y="1260"/>
                  </a:lnTo>
                  <a:lnTo>
                    <a:pt x="184" y="1245"/>
                  </a:lnTo>
                  <a:lnTo>
                    <a:pt x="171" y="1232"/>
                  </a:lnTo>
                  <a:lnTo>
                    <a:pt x="154" y="1227"/>
                  </a:lnTo>
                  <a:lnTo>
                    <a:pt x="137" y="1198"/>
                  </a:lnTo>
                  <a:lnTo>
                    <a:pt x="127" y="1165"/>
                  </a:lnTo>
                  <a:lnTo>
                    <a:pt x="117" y="1137"/>
                  </a:lnTo>
                  <a:lnTo>
                    <a:pt x="111" y="1102"/>
                  </a:lnTo>
                  <a:lnTo>
                    <a:pt x="111" y="1069"/>
                  </a:lnTo>
                  <a:lnTo>
                    <a:pt x="107" y="1012"/>
                  </a:lnTo>
                  <a:lnTo>
                    <a:pt x="124" y="979"/>
                  </a:lnTo>
                  <a:lnTo>
                    <a:pt x="132" y="937"/>
                  </a:lnTo>
                  <a:lnTo>
                    <a:pt x="145" y="919"/>
                  </a:lnTo>
                  <a:lnTo>
                    <a:pt x="140" y="895"/>
                  </a:lnTo>
                  <a:lnTo>
                    <a:pt x="135" y="873"/>
                  </a:lnTo>
                  <a:lnTo>
                    <a:pt x="98" y="845"/>
                  </a:lnTo>
                  <a:lnTo>
                    <a:pt x="116" y="821"/>
                  </a:lnTo>
                  <a:lnTo>
                    <a:pt x="135" y="766"/>
                  </a:lnTo>
                  <a:lnTo>
                    <a:pt x="120" y="768"/>
                  </a:lnTo>
                  <a:lnTo>
                    <a:pt x="107" y="763"/>
                  </a:lnTo>
                  <a:lnTo>
                    <a:pt x="98" y="760"/>
                  </a:lnTo>
                  <a:lnTo>
                    <a:pt x="91" y="748"/>
                  </a:lnTo>
                  <a:lnTo>
                    <a:pt x="89" y="740"/>
                  </a:lnTo>
                  <a:lnTo>
                    <a:pt x="78" y="742"/>
                  </a:lnTo>
                  <a:lnTo>
                    <a:pt x="65" y="740"/>
                  </a:lnTo>
                  <a:lnTo>
                    <a:pt x="54" y="733"/>
                  </a:lnTo>
                  <a:lnTo>
                    <a:pt x="43" y="724"/>
                  </a:lnTo>
                  <a:lnTo>
                    <a:pt x="34" y="709"/>
                  </a:lnTo>
                  <a:lnTo>
                    <a:pt x="26" y="696"/>
                  </a:lnTo>
                  <a:lnTo>
                    <a:pt x="21" y="680"/>
                  </a:lnTo>
                  <a:lnTo>
                    <a:pt x="12" y="676"/>
                  </a:lnTo>
                  <a:lnTo>
                    <a:pt x="1" y="589"/>
                  </a:lnTo>
                  <a:lnTo>
                    <a:pt x="11" y="585"/>
                  </a:lnTo>
                  <a:lnTo>
                    <a:pt x="11" y="548"/>
                  </a:lnTo>
                  <a:lnTo>
                    <a:pt x="0" y="547"/>
                  </a:lnTo>
                  <a:lnTo>
                    <a:pt x="1" y="525"/>
                  </a:lnTo>
                  <a:lnTo>
                    <a:pt x="8" y="507"/>
                  </a:lnTo>
                  <a:lnTo>
                    <a:pt x="11" y="496"/>
                  </a:lnTo>
                  <a:lnTo>
                    <a:pt x="16" y="488"/>
                  </a:lnTo>
                  <a:lnTo>
                    <a:pt x="21" y="472"/>
                  </a:lnTo>
                  <a:lnTo>
                    <a:pt x="24" y="463"/>
                  </a:lnTo>
                  <a:lnTo>
                    <a:pt x="28" y="455"/>
                  </a:lnTo>
                  <a:lnTo>
                    <a:pt x="52" y="447"/>
                  </a:lnTo>
                  <a:lnTo>
                    <a:pt x="43" y="431"/>
                  </a:lnTo>
                  <a:lnTo>
                    <a:pt x="50" y="401"/>
                  </a:lnTo>
                  <a:lnTo>
                    <a:pt x="52" y="395"/>
                  </a:lnTo>
                  <a:lnTo>
                    <a:pt x="54" y="390"/>
                  </a:lnTo>
                  <a:lnTo>
                    <a:pt x="62" y="390"/>
                  </a:lnTo>
                  <a:lnTo>
                    <a:pt x="62" y="382"/>
                  </a:lnTo>
                  <a:lnTo>
                    <a:pt x="98" y="382"/>
                  </a:lnTo>
                  <a:lnTo>
                    <a:pt x="98" y="390"/>
                  </a:lnTo>
                  <a:lnTo>
                    <a:pt x="103" y="390"/>
                  </a:lnTo>
                  <a:lnTo>
                    <a:pt x="107" y="395"/>
                  </a:lnTo>
                  <a:lnTo>
                    <a:pt x="109" y="404"/>
                  </a:lnTo>
                  <a:lnTo>
                    <a:pt x="111" y="418"/>
                  </a:lnTo>
                  <a:lnTo>
                    <a:pt x="111" y="431"/>
                  </a:lnTo>
                  <a:lnTo>
                    <a:pt x="109" y="439"/>
                  </a:lnTo>
                  <a:lnTo>
                    <a:pt x="104" y="443"/>
                  </a:lnTo>
                  <a:lnTo>
                    <a:pt x="111" y="447"/>
                  </a:lnTo>
                  <a:lnTo>
                    <a:pt x="120" y="447"/>
                  </a:lnTo>
                  <a:lnTo>
                    <a:pt x="127" y="443"/>
                  </a:lnTo>
                  <a:lnTo>
                    <a:pt x="132" y="437"/>
                  </a:lnTo>
                  <a:lnTo>
                    <a:pt x="128" y="427"/>
                  </a:lnTo>
                  <a:lnTo>
                    <a:pt x="111" y="431"/>
                  </a:lnTo>
                  <a:lnTo>
                    <a:pt x="111" y="418"/>
                  </a:lnTo>
                  <a:lnTo>
                    <a:pt x="133" y="414"/>
                  </a:lnTo>
                  <a:lnTo>
                    <a:pt x="140" y="418"/>
                  </a:lnTo>
                  <a:lnTo>
                    <a:pt x="146" y="419"/>
                  </a:lnTo>
                  <a:lnTo>
                    <a:pt x="152" y="424"/>
                  </a:lnTo>
                  <a:lnTo>
                    <a:pt x="148" y="398"/>
                  </a:lnTo>
                  <a:lnTo>
                    <a:pt x="141" y="371"/>
                  </a:lnTo>
                  <a:lnTo>
                    <a:pt x="181" y="204"/>
                  </a:lnTo>
                  <a:lnTo>
                    <a:pt x="190" y="175"/>
                  </a:lnTo>
                  <a:lnTo>
                    <a:pt x="199" y="155"/>
                  </a:lnTo>
                  <a:lnTo>
                    <a:pt x="212" y="139"/>
                  </a:lnTo>
                  <a:lnTo>
                    <a:pt x="200" y="99"/>
                  </a:lnTo>
                  <a:lnTo>
                    <a:pt x="197" y="72"/>
                  </a:lnTo>
                  <a:lnTo>
                    <a:pt x="199" y="48"/>
                  </a:lnTo>
                  <a:lnTo>
                    <a:pt x="208" y="20"/>
                  </a:lnTo>
                  <a:lnTo>
                    <a:pt x="2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425760" y="3203640"/>
              <a:ext cx="382680" cy="444600"/>
            </a:xfrm>
            <a:custGeom>
              <a:avLst/>
              <a:gdLst/>
              <a:ahLst/>
              <a:rect l="l" t="t" r="r" b="b"/>
              <a:pathLst>
                <a:path w="1441" h="1681">
                  <a:moveTo>
                    <a:pt x="763" y="825"/>
                  </a:moveTo>
                  <a:lnTo>
                    <a:pt x="789" y="804"/>
                  </a:lnTo>
                  <a:lnTo>
                    <a:pt x="812" y="790"/>
                  </a:lnTo>
                  <a:lnTo>
                    <a:pt x="837" y="777"/>
                  </a:lnTo>
                  <a:lnTo>
                    <a:pt x="862" y="766"/>
                  </a:lnTo>
                  <a:lnTo>
                    <a:pt x="815" y="736"/>
                  </a:lnTo>
                  <a:lnTo>
                    <a:pt x="793" y="720"/>
                  </a:lnTo>
                  <a:lnTo>
                    <a:pt x="769" y="702"/>
                  </a:lnTo>
                  <a:lnTo>
                    <a:pt x="771" y="733"/>
                  </a:lnTo>
                  <a:lnTo>
                    <a:pt x="766" y="762"/>
                  </a:lnTo>
                  <a:lnTo>
                    <a:pt x="763" y="825"/>
                  </a:lnTo>
                  <a:close/>
                  <a:moveTo>
                    <a:pt x="1039" y="816"/>
                  </a:moveTo>
                  <a:lnTo>
                    <a:pt x="1043" y="883"/>
                  </a:lnTo>
                  <a:lnTo>
                    <a:pt x="1043" y="959"/>
                  </a:lnTo>
                  <a:lnTo>
                    <a:pt x="1034" y="1049"/>
                  </a:lnTo>
                  <a:lnTo>
                    <a:pt x="1019" y="1135"/>
                  </a:lnTo>
                  <a:lnTo>
                    <a:pt x="1000" y="1220"/>
                  </a:lnTo>
                  <a:lnTo>
                    <a:pt x="982" y="1280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2" y="1387"/>
                  </a:lnTo>
                  <a:lnTo>
                    <a:pt x="942" y="1397"/>
                  </a:lnTo>
                  <a:lnTo>
                    <a:pt x="933" y="1412"/>
                  </a:lnTo>
                  <a:lnTo>
                    <a:pt x="947" y="1422"/>
                  </a:lnTo>
                  <a:lnTo>
                    <a:pt x="955" y="1433"/>
                  </a:lnTo>
                  <a:lnTo>
                    <a:pt x="962" y="1450"/>
                  </a:lnTo>
                  <a:lnTo>
                    <a:pt x="975" y="1454"/>
                  </a:lnTo>
                  <a:lnTo>
                    <a:pt x="982" y="1461"/>
                  </a:lnTo>
                  <a:lnTo>
                    <a:pt x="988" y="1472"/>
                  </a:lnTo>
                  <a:lnTo>
                    <a:pt x="995" y="1483"/>
                  </a:lnTo>
                  <a:lnTo>
                    <a:pt x="1001" y="1495"/>
                  </a:lnTo>
                  <a:lnTo>
                    <a:pt x="1039" y="1514"/>
                  </a:lnTo>
                  <a:lnTo>
                    <a:pt x="1063" y="1524"/>
                  </a:lnTo>
                  <a:lnTo>
                    <a:pt x="1074" y="1534"/>
                  </a:lnTo>
                  <a:lnTo>
                    <a:pt x="1078" y="1545"/>
                  </a:lnTo>
                  <a:lnTo>
                    <a:pt x="1078" y="1565"/>
                  </a:lnTo>
                  <a:lnTo>
                    <a:pt x="1058" y="1570"/>
                  </a:lnTo>
                  <a:lnTo>
                    <a:pt x="1032" y="1574"/>
                  </a:lnTo>
                  <a:lnTo>
                    <a:pt x="990" y="1571"/>
                  </a:lnTo>
                  <a:lnTo>
                    <a:pt x="954" y="1565"/>
                  </a:lnTo>
                  <a:lnTo>
                    <a:pt x="912" y="1552"/>
                  </a:lnTo>
                  <a:lnTo>
                    <a:pt x="881" y="1536"/>
                  </a:lnTo>
                  <a:lnTo>
                    <a:pt x="856" y="1521"/>
                  </a:lnTo>
                  <a:lnTo>
                    <a:pt x="833" y="1518"/>
                  </a:lnTo>
                  <a:lnTo>
                    <a:pt x="812" y="1516"/>
                  </a:lnTo>
                  <a:lnTo>
                    <a:pt x="793" y="1510"/>
                  </a:lnTo>
                  <a:lnTo>
                    <a:pt x="776" y="1503"/>
                  </a:lnTo>
                  <a:lnTo>
                    <a:pt x="771" y="1482"/>
                  </a:lnTo>
                  <a:lnTo>
                    <a:pt x="773" y="1464"/>
                  </a:lnTo>
                  <a:lnTo>
                    <a:pt x="776" y="1446"/>
                  </a:lnTo>
                  <a:lnTo>
                    <a:pt x="779" y="1431"/>
                  </a:lnTo>
                  <a:lnTo>
                    <a:pt x="786" y="1415"/>
                  </a:lnTo>
                  <a:lnTo>
                    <a:pt x="793" y="1400"/>
                  </a:lnTo>
                  <a:lnTo>
                    <a:pt x="802" y="1387"/>
                  </a:lnTo>
                  <a:lnTo>
                    <a:pt x="802" y="1371"/>
                  </a:lnTo>
                  <a:lnTo>
                    <a:pt x="802" y="1356"/>
                  </a:lnTo>
                  <a:lnTo>
                    <a:pt x="807" y="1345"/>
                  </a:lnTo>
                  <a:lnTo>
                    <a:pt x="812" y="1334"/>
                  </a:lnTo>
                  <a:lnTo>
                    <a:pt x="812" y="1282"/>
                  </a:lnTo>
                  <a:lnTo>
                    <a:pt x="793" y="1273"/>
                  </a:lnTo>
                  <a:lnTo>
                    <a:pt x="796" y="1259"/>
                  </a:lnTo>
                  <a:lnTo>
                    <a:pt x="799" y="1246"/>
                  </a:lnTo>
                  <a:lnTo>
                    <a:pt x="799" y="1229"/>
                  </a:lnTo>
                  <a:lnTo>
                    <a:pt x="796" y="1210"/>
                  </a:lnTo>
                  <a:lnTo>
                    <a:pt x="799" y="1180"/>
                  </a:lnTo>
                  <a:lnTo>
                    <a:pt x="807" y="1141"/>
                  </a:lnTo>
                  <a:lnTo>
                    <a:pt x="817" y="1101"/>
                  </a:lnTo>
                  <a:lnTo>
                    <a:pt x="833" y="1060"/>
                  </a:lnTo>
                  <a:lnTo>
                    <a:pt x="807" y="1091"/>
                  </a:lnTo>
                  <a:lnTo>
                    <a:pt x="778" y="1120"/>
                  </a:lnTo>
                  <a:lnTo>
                    <a:pt x="754" y="1145"/>
                  </a:lnTo>
                  <a:lnTo>
                    <a:pt x="725" y="1172"/>
                  </a:lnTo>
                  <a:lnTo>
                    <a:pt x="701" y="1192"/>
                  </a:lnTo>
                  <a:lnTo>
                    <a:pt x="670" y="1216"/>
                  </a:lnTo>
                  <a:lnTo>
                    <a:pt x="642" y="1237"/>
                  </a:lnTo>
                  <a:lnTo>
                    <a:pt x="607" y="1257"/>
                  </a:lnTo>
                  <a:lnTo>
                    <a:pt x="574" y="1277"/>
                  </a:lnTo>
                  <a:lnTo>
                    <a:pt x="543" y="1288"/>
                  </a:lnTo>
                  <a:lnTo>
                    <a:pt x="512" y="1301"/>
                  </a:lnTo>
                  <a:lnTo>
                    <a:pt x="484" y="1311"/>
                  </a:lnTo>
                  <a:lnTo>
                    <a:pt x="458" y="1413"/>
                  </a:lnTo>
                  <a:lnTo>
                    <a:pt x="455" y="1441"/>
                  </a:lnTo>
                  <a:lnTo>
                    <a:pt x="450" y="1472"/>
                  </a:lnTo>
                  <a:lnTo>
                    <a:pt x="447" y="1496"/>
                  </a:lnTo>
                  <a:lnTo>
                    <a:pt x="440" y="1521"/>
                  </a:lnTo>
                  <a:lnTo>
                    <a:pt x="431" y="1545"/>
                  </a:lnTo>
                  <a:lnTo>
                    <a:pt x="417" y="1571"/>
                  </a:lnTo>
                  <a:lnTo>
                    <a:pt x="405" y="1591"/>
                  </a:lnTo>
                  <a:lnTo>
                    <a:pt x="390" y="1609"/>
                  </a:lnTo>
                  <a:lnTo>
                    <a:pt x="385" y="1625"/>
                  </a:lnTo>
                  <a:lnTo>
                    <a:pt x="375" y="1644"/>
                  </a:lnTo>
                  <a:lnTo>
                    <a:pt x="357" y="1659"/>
                  </a:lnTo>
                  <a:lnTo>
                    <a:pt x="331" y="1672"/>
                  </a:lnTo>
                  <a:lnTo>
                    <a:pt x="293" y="1681"/>
                  </a:lnTo>
                  <a:lnTo>
                    <a:pt x="259" y="1681"/>
                  </a:lnTo>
                  <a:lnTo>
                    <a:pt x="227" y="1674"/>
                  </a:lnTo>
                  <a:lnTo>
                    <a:pt x="204" y="1666"/>
                  </a:lnTo>
                  <a:lnTo>
                    <a:pt x="183" y="1650"/>
                  </a:lnTo>
                  <a:lnTo>
                    <a:pt x="170" y="1637"/>
                  </a:lnTo>
                  <a:lnTo>
                    <a:pt x="155" y="1633"/>
                  </a:lnTo>
                  <a:lnTo>
                    <a:pt x="138" y="1604"/>
                  </a:lnTo>
                  <a:lnTo>
                    <a:pt x="126" y="1571"/>
                  </a:lnTo>
                  <a:lnTo>
                    <a:pt x="118" y="1542"/>
                  </a:lnTo>
                  <a:lnTo>
                    <a:pt x="111" y="1508"/>
                  </a:lnTo>
                  <a:lnTo>
                    <a:pt x="111" y="1475"/>
                  </a:lnTo>
                  <a:lnTo>
                    <a:pt x="106" y="1417"/>
                  </a:lnTo>
                  <a:lnTo>
                    <a:pt x="124" y="1384"/>
                  </a:lnTo>
                  <a:lnTo>
                    <a:pt x="131" y="1343"/>
                  </a:lnTo>
                  <a:lnTo>
                    <a:pt x="144" y="1325"/>
                  </a:lnTo>
                  <a:lnTo>
                    <a:pt x="140" y="1301"/>
                  </a:lnTo>
                  <a:lnTo>
                    <a:pt x="135" y="1280"/>
                  </a:lnTo>
                  <a:lnTo>
                    <a:pt x="98" y="1251"/>
                  </a:lnTo>
                  <a:lnTo>
                    <a:pt x="116" y="1226"/>
                  </a:lnTo>
                  <a:lnTo>
                    <a:pt x="135" y="1172"/>
                  </a:lnTo>
                  <a:lnTo>
                    <a:pt x="121" y="1174"/>
                  </a:lnTo>
                  <a:lnTo>
                    <a:pt x="106" y="1170"/>
                  </a:lnTo>
                  <a:lnTo>
                    <a:pt x="98" y="1166"/>
                  </a:lnTo>
                  <a:lnTo>
                    <a:pt x="92" y="1154"/>
                  </a:lnTo>
                  <a:lnTo>
                    <a:pt x="89" y="1145"/>
                  </a:lnTo>
                  <a:lnTo>
                    <a:pt x="79" y="1148"/>
                  </a:lnTo>
                  <a:lnTo>
                    <a:pt x="65" y="1145"/>
                  </a:lnTo>
                  <a:lnTo>
                    <a:pt x="54" y="1138"/>
                  </a:lnTo>
                  <a:lnTo>
                    <a:pt x="43" y="1130"/>
                  </a:lnTo>
                  <a:lnTo>
                    <a:pt x="34" y="1115"/>
                  </a:lnTo>
                  <a:lnTo>
                    <a:pt x="26" y="1101"/>
                  </a:lnTo>
                  <a:lnTo>
                    <a:pt x="22" y="1086"/>
                  </a:lnTo>
                  <a:lnTo>
                    <a:pt x="13" y="1082"/>
                  </a:lnTo>
                  <a:lnTo>
                    <a:pt x="2" y="995"/>
                  </a:lnTo>
                  <a:lnTo>
                    <a:pt x="10" y="992"/>
                  </a:lnTo>
                  <a:lnTo>
                    <a:pt x="10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9" y="913"/>
                  </a:lnTo>
                  <a:lnTo>
                    <a:pt x="10" y="902"/>
                  </a:lnTo>
                  <a:lnTo>
                    <a:pt x="17" y="894"/>
                  </a:lnTo>
                  <a:lnTo>
                    <a:pt x="22" y="878"/>
                  </a:lnTo>
                  <a:lnTo>
                    <a:pt x="23" y="869"/>
                  </a:lnTo>
                  <a:lnTo>
                    <a:pt x="28" y="860"/>
                  </a:lnTo>
                  <a:lnTo>
                    <a:pt x="52" y="853"/>
                  </a:lnTo>
                  <a:lnTo>
                    <a:pt x="43" y="837"/>
                  </a:lnTo>
                  <a:lnTo>
                    <a:pt x="51" y="808"/>
                  </a:lnTo>
                  <a:lnTo>
                    <a:pt x="52" y="801"/>
                  </a:lnTo>
                  <a:lnTo>
                    <a:pt x="54" y="796"/>
                  </a:lnTo>
                  <a:lnTo>
                    <a:pt x="61" y="796"/>
                  </a:lnTo>
                  <a:lnTo>
                    <a:pt x="61" y="788"/>
                  </a:lnTo>
                  <a:lnTo>
                    <a:pt x="98" y="788"/>
                  </a:lnTo>
                  <a:lnTo>
                    <a:pt x="98" y="796"/>
                  </a:lnTo>
                  <a:lnTo>
                    <a:pt x="103" y="796"/>
                  </a:lnTo>
                  <a:lnTo>
                    <a:pt x="106" y="801"/>
                  </a:lnTo>
                  <a:lnTo>
                    <a:pt x="109" y="809"/>
                  </a:lnTo>
                  <a:lnTo>
                    <a:pt x="111" y="823"/>
                  </a:lnTo>
                  <a:lnTo>
                    <a:pt x="111" y="837"/>
                  </a:lnTo>
                  <a:lnTo>
                    <a:pt x="109" y="845"/>
                  </a:lnTo>
                  <a:lnTo>
                    <a:pt x="105" y="850"/>
                  </a:lnTo>
                  <a:lnTo>
                    <a:pt x="111" y="853"/>
                  </a:lnTo>
                  <a:lnTo>
                    <a:pt x="121" y="853"/>
                  </a:lnTo>
                  <a:lnTo>
                    <a:pt x="126" y="850"/>
                  </a:lnTo>
                  <a:lnTo>
                    <a:pt x="131" y="842"/>
                  </a:lnTo>
                  <a:lnTo>
                    <a:pt x="129" y="833"/>
                  </a:lnTo>
                  <a:lnTo>
                    <a:pt x="111" y="837"/>
                  </a:lnTo>
                  <a:lnTo>
                    <a:pt x="111" y="823"/>
                  </a:lnTo>
                  <a:lnTo>
                    <a:pt x="134" y="821"/>
                  </a:lnTo>
                  <a:lnTo>
                    <a:pt x="140" y="823"/>
                  </a:lnTo>
                  <a:lnTo>
                    <a:pt x="147" y="825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7"/>
                  </a:lnTo>
                  <a:lnTo>
                    <a:pt x="181" y="610"/>
                  </a:lnTo>
                  <a:lnTo>
                    <a:pt x="191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1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7" y="426"/>
                  </a:lnTo>
                  <a:lnTo>
                    <a:pt x="227" y="391"/>
                  </a:lnTo>
                  <a:lnTo>
                    <a:pt x="248" y="363"/>
                  </a:lnTo>
                  <a:lnTo>
                    <a:pt x="276" y="335"/>
                  </a:lnTo>
                  <a:lnTo>
                    <a:pt x="305" y="319"/>
                  </a:lnTo>
                  <a:lnTo>
                    <a:pt x="321" y="301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7" y="281"/>
                  </a:lnTo>
                  <a:lnTo>
                    <a:pt x="442" y="265"/>
                  </a:lnTo>
                  <a:lnTo>
                    <a:pt x="436" y="239"/>
                  </a:lnTo>
                  <a:lnTo>
                    <a:pt x="440" y="237"/>
                  </a:lnTo>
                  <a:lnTo>
                    <a:pt x="436" y="208"/>
                  </a:lnTo>
                  <a:lnTo>
                    <a:pt x="434" y="180"/>
                  </a:lnTo>
                  <a:lnTo>
                    <a:pt x="434" y="150"/>
                  </a:lnTo>
                  <a:lnTo>
                    <a:pt x="440" y="119"/>
                  </a:lnTo>
                  <a:lnTo>
                    <a:pt x="450" y="86"/>
                  </a:lnTo>
                  <a:lnTo>
                    <a:pt x="468" y="62"/>
                  </a:lnTo>
                  <a:lnTo>
                    <a:pt x="484" y="47"/>
                  </a:lnTo>
                  <a:lnTo>
                    <a:pt x="525" y="24"/>
                  </a:lnTo>
                  <a:lnTo>
                    <a:pt x="556" y="13"/>
                  </a:lnTo>
                  <a:lnTo>
                    <a:pt x="587" y="4"/>
                  </a:lnTo>
                  <a:lnTo>
                    <a:pt x="619" y="0"/>
                  </a:lnTo>
                  <a:lnTo>
                    <a:pt x="644" y="0"/>
                  </a:lnTo>
                  <a:lnTo>
                    <a:pt x="670" y="4"/>
                  </a:lnTo>
                  <a:lnTo>
                    <a:pt x="690" y="11"/>
                  </a:lnTo>
                  <a:lnTo>
                    <a:pt x="707" y="20"/>
                  </a:lnTo>
                  <a:lnTo>
                    <a:pt x="725" y="37"/>
                  </a:lnTo>
                  <a:lnTo>
                    <a:pt x="740" y="60"/>
                  </a:lnTo>
                  <a:lnTo>
                    <a:pt x="763" y="104"/>
                  </a:lnTo>
                  <a:lnTo>
                    <a:pt x="786" y="156"/>
                  </a:lnTo>
                  <a:lnTo>
                    <a:pt x="797" y="169"/>
                  </a:lnTo>
                  <a:lnTo>
                    <a:pt x="802" y="180"/>
                  </a:lnTo>
                  <a:lnTo>
                    <a:pt x="799" y="189"/>
                  </a:lnTo>
                  <a:lnTo>
                    <a:pt x="789" y="197"/>
                  </a:lnTo>
                  <a:lnTo>
                    <a:pt x="755" y="208"/>
                  </a:lnTo>
                  <a:lnTo>
                    <a:pt x="760" y="237"/>
                  </a:lnTo>
                  <a:lnTo>
                    <a:pt x="763" y="264"/>
                  </a:lnTo>
                  <a:lnTo>
                    <a:pt x="763" y="283"/>
                  </a:lnTo>
                  <a:lnTo>
                    <a:pt x="778" y="285"/>
                  </a:lnTo>
                  <a:lnTo>
                    <a:pt x="797" y="322"/>
                  </a:lnTo>
                  <a:lnTo>
                    <a:pt x="947" y="480"/>
                  </a:lnTo>
                  <a:lnTo>
                    <a:pt x="954" y="492"/>
                  </a:lnTo>
                  <a:lnTo>
                    <a:pt x="955" y="503"/>
                  </a:lnTo>
                  <a:lnTo>
                    <a:pt x="954" y="513"/>
                  </a:lnTo>
                  <a:lnTo>
                    <a:pt x="947" y="521"/>
                  </a:lnTo>
                  <a:lnTo>
                    <a:pt x="939" y="523"/>
                  </a:lnTo>
                  <a:lnTo>
                    <a:pt x="939" y="534"/>
                  </a:lnTo>
                  <a:lnTo>
                    <a:pt x="936" y="544"/>
                  </a:lnTo>
                  <a:lnTo>
                    <a:pt x="929" y="551"/>
                  </a:lnTo>
                  <a:lnTo>
                    <a:pt x="936" y="557"/>
                  </a:lnTo>
                  <a:lnTo>
                    <a:pt x="939" y="566"/>
                  </a:lnTo>
                  <a:lnTo>
                    <a:pt x="949" y="580"/>
                  </a:lnTo>
                  <a:lnTo>
                    <a:pt x="967" y="591"/>
                  </a:lnTo>
                  <a:lnTo>
                    <a:pt x="980" y="599"/>
                  </a:lnTo>
                  <a:lnTo>
                    <a:pt x="993" y="610"/>
                  </a:lnTo>
                  <a:lnTo>
                    <a:pt x="1006" y="619"/>
                  </a:lnTo>
                  <a:lnTo>
                    <a:pt x="1040" y="608"/>
                  </a:lnTo>
                  <a:lnTo>
                    <a:pt x="1060" y="604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8" y="557"/>
                  </a:lnTo>
                  <a:lnTo>
                    <a:pt x="1218" y="480"/>
                  </a:lnTo>
                  <a:lnTo>
                    <a:pt x="1227" y="483"/>
                  </a:lnTo>
                  <a:lnTo>
                    <a:pt x="1267" y="439"/>
                  </a:lnTo>
                  <a:lnTo>
                    <a:pt x="1268" y="428"/>
                  </a:lnTo>
                  <a:lnTo>
                    <a:pt x="1275" y="417"/>
                  </a:lnTo>
                  <a:lnTo>
                    <a:pt x="1286" y="404"/>
                  </a:lnTo>
                  <a:lnTo>
                    <a:pt x="1441" y="399"/>
                  </a:lnTo>
                  <a:lnTo>
                    <a:pt x="1339" y="459"/>
                  </a:lnTo>
                  <a:lnTo>
                    <a:pt x="1319" y="480"/>
                  </a:lnTo>
                  <a:lnTo>
                    <a:pt x="1288" y="531"/>
                  </a:lnTo>
                  <a:lnTo>
                    <a:pt x="1293" y="544"/>
                  </a:lnTo>
                  <a:lnTo>
                    <a:pt x="1214" y="679"/>
                  </a:lnTo>
                  <a:lnTo>
                    <a:pt x="1190" y="749"/>
                  </a:lnTo>
                  <a:lnTo>
                    <a:pt x="1159" y="772"/>
                  </a:lnTo>
                  <a:lnTo>
                    <a:pt x="1128" y="793"/>
                  </a:lnTo>
                  <a:lnTo>
                    <a:pt x="1089" y="809"/>
                  </a:lnTo>
                  <a:lnTo>
                    <a:pt x="1063" y="814"/>
                  </a:lnTo>
                  <a:lnTo>
                    <a:pt x="1039" y="816"/>
                  </a:lnTo>
                  <a:close/>
                  <a:moveTo>
                    <a:pt x="150" y="854"/>
                  </a:moveTo>
                  <a:lnTo>
                    <a:pt x="140" y="864"/>
                  </a:lnTo>
                  <a:lnTo>
                    <a:pt x="144" y="871"/>
                  </a:lnTo>
                  <a:lnTo>
                    <a:pt x="148" y="879"/>
                  </a:lnTo>
                  <a:lnTo>
                    <a:pt x="150" y="871"/>
                  </a:lnTo>
                  <a:lnTo>
                    <a:pt x="153" y="863"/>
                  </a:lnTo>
                  <a:lnTo>
                    <a:pt x="150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425760" y="3203640"/>
              <a:ext cx="382680" cy="444600"/>
            </a:xfrm>
            <a:custGeom>
              <a:avLst/>
              <a:gdLst/>
              <a:ahLst/>
              <a:rect l="l" t="t" r="r" b="b"/>
              <a:pathLst>
                <a:path w="1441" h="1681">
                  <a:moveTo>
                    <a:pt x="1039" y="816"/>
                  </a:moveTo>
                  <a:lnTo>
                    <a:pt x="1043" y="883"/>
                  </a:lnTo>
                  <a:lnTo>
                    <a:pt x="1043" y="959"/>
                  </a:lnTo>
                  <a:lnTo>
                    <a:pt x="1034" y="1049"/>
                  </a:lnTo>
                  <a:lnTo>
                    <a:pt x="1019" y="1135"/>
                  </a:lnTo>
                  <a:lnTo>
                    <a:pt x="1000" y="1220"/>
                  </a:lnTo>
                  <a:lnTo>
                    <a:pt x="982" y="1280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2" y="1387"/>
                  </a:lnTo>
                  <a:lnTo>
                    <a:pt x="942" y="1397"/>
                  </a:lnTo>
                  <a:lnTo>
                    <a:pt x="933" y="1412"/>
                  </a:lnTo>
                  <a:lnTo>
                    <a:pt x="947" y="1422"/>
                  </a:lnTo>
                  <a:lnTo>
                    <a:pt x="955" y="1433"/>
                  </a:lnTo>
                  <a:lnTo>
                    <a:pt x="962" y="1450"/>
                  </a:lnTo>
                  <a:lnTo>
                    <a:pt x="975" y="1454"/>
                  </a:lnTo>
                  <a:lnTo>
                    <a:pt x="982" y="1461"/>
                  </a:lnTo>
                  <a:lnTo>
                    <a:pt x="988" y="1472"/>
                  </a:lnTo>
                  <a:lnTo>
                    <a:pt x="995" y="1483"/>
                  </a:lnTo>
                  <a:lnTo>
                    <a:pt x="1001" y="1495"/>
                  </a:lnTo>
                  <a:lnTo>
                    <a:pt x="1039" y="1514"/>
                  </a:lnTo>
                  <a:lnTo>
                    <a:pt x="1063" y="1524"/>
                  </a:lnTo>
                  <a:lnTo>
                    <a:pt x="1074" y="1534"/>
                  </a:lnTo>
                  <a:lnTo>
                    <a:pt x="1078" y="1545"/>
                  </a:lnTo>
                  <a:lnTo>
                    <a:pt x="1078" y="1565"/>
                  </a:lnTo>
                  <a:lnTo>
                    <a:pt x="1058" y="1570"/>
                  </a:lnTo>
                  <a:lnTo>
                    <a:pt x="1032" y="1574"/>
                  </a:lnTo>
                  <a:lnTo>
                    <a:pt x="990" y="1571"/>
                  </a:lnTo>
                  <a:lnTo>
                    <a:pt x="954" y="1565"/>
                  </a:lnTo>
                  <a:lnTo>
                    <a:pt x="912" y="1552"/>
                  </a:lnTo>
                  <a:lnTo>
                    <a:pt x="881" y="1536"/>
                  </a:lnTo>
                  <a:lnTo>
                    <a:pt x="856" y="1521"/>
                  </a:lnTo>
                  <a:lnTo>
                    <a:pt x="833" y="1518"/>
                  </a:lnTo>
                  <a:lnTo>
                    <a:pt x="812" y="1516"/>
                  </a:lnTo>
                  <a:lnTo>
                    <a:pt x="793" y="1510"/>
                  </a:lnTo>
                  <a:lnTo>
                    <a:pt x="776" y="1503"/>
                  </a:lnTo>
                  <a:lnTo>
                    <a:pt x="771" y="1482"/>
                  </a:lnTo>
                  <a:lnTo>
                    <a:pt x="773" y="1464"/>
                  </a:lnTo>
                  <a:lnTo>
                    <a:pt x="776" y="1446"/>
                  </a:lnTo>
                  <a:lnTo>
                    <a:pt x="779" y="1431"/>
                  </a:lnTo>
                  <a:lnTo>
                    <a:pt x="786" y="1415"/>
                  </a:lnTo>
                  <a:lnTo>
                    <a:pt x="793" y="1400"/>
                  </a:lnTo>
                  <a:lnTo>
                    <a:pt x="802" y="1387"/>
                  </a:lnTo>
                  <a:lnTo>
                    <a:pt x="802" y="1371"/>
                  </a:lnTo>
                  <a:lnTo>
                    <a:pt x="802" y="1356"/>
                  </a:lnTo>
                  <a:lnTo>
                    <a:pt x="807" y="1345"/>
                  </a:lnTo>
                  <a:lnTo>
                    <a:pt x="812" y="1334"/>
                  </a:lnTo>
                  <a:lnTo>
                    <a:pt x="812" y="1282"/>
                  </a:lnTo>
                  <a:lnTo>
                    <a:pt x="793" y="1273"/>
                  </a:lnTo>
                  <a:lnTo>
                    <a:pt x="796" y="1259"/>
                  </a:lnTo>
                  <a:lnTo>
                    <a:pt x="799" y="1246"/>
                  </a:lnTo>
                  <a:lnTo>
                    <a:pt x="799" y="1229"/>
                  </a:lnTo>
                  <a:lnTo>
                    <a:pt x="796" y="1210"/>
                  </a:lnTo>
                  <a:lnTo>
                    <a:pt x="799" y="1180"/>
                  </a:lnTo>
                  <a:lnTo>
                    <a:pt x="807" y="1141"/>
                  </a:lnTo>
                  <a:lnTo>
                    <a:pt x="817" y="1101"/>
                  </a:lnTo>
                  <a:lnTo>
                    <a:pt x="833" y="1060"/>
                  </a:lnTo>
                  <a:lnTo>
                    <a:pt x="807" y="1091"/>
                  </a:lnTo>
                  <a:lnTo>
                    <a:pt x="778" y="1120"/>
                  </a:lnTo>
                  <a:lnTo>
                    <a:pt x="754" y="1145"/>
                  </a:lnTo>
                  <a:lnTo>
                    <a:pt x="725" y="1172"/>
                  </a:lnTo>
                  <a:lnTo>
                    <a:pt x="701" y="1192"/>
                  </a:lnTo>
                  <a:lnTo>
                    <a:pt x="670" y="1216"/>
                  </a:lnTo>
                  <a:lnTo>
                    <a:pt x="642" y="1237"/>
                  </a:lnTo>
                  <a:lnTo>
                    <a:pt x="607" y="1257"/>
                  </a:lnTo>
                  <a:lnTo>
                    <a:pt x="574" y="1277"/>
                  </a:lnTo>
                  <a:lnTo>
                    <a:pt x="543" y="1288"/>
                  </a:lnTo>
                  <a:lnTo>
                    <a:pt x="512" y="1301"/>
                  </a:lnTo>
                  <a:lnTo>
                    <a:pt x="484" y="1311"/>
                  </a:lnTo>
                  <a:lnTo>
                    <a:pt x="458" y="1413"/>
                  </a:lnTo>
                  <a:lnTo>
                    <a:pt x="455" y="1441"/>
                  </a:lnTo>
                  <a:lnTo>
                    <a:pt x="450" y="1472"/>
                  </a:lnTo>
                  <a:lnTo>
                    <a:pt x="447" y="1496"/>
                  </a:lnTo>
                  <a:lnTo>
                    <a:pt x="440" y="1521"/>
                  </a:lnTo>
                  <a:lnTo>
                    <a:pt x="431" y="1545"/>
                  </a:lnTo>
                  <a:lnTo>
                    <a:pt x="417" y="1571"/>
                  </a:lnTo>
                  <a:lnTo>
                    <a:pt x="405" y="1591"/>
                  </a:lnTo>
                  <a:lnTo>
                    <a:pt x="390" y="1609"/>
                  </a:lnTo>
                  <a:lnTo>
                    <a:pt x="385" y="1625"/>
                  </a:lnTo>
                  <a:lnTo>
                    <a:pt x="375" y="1644"/>
                  </a:lnTo>
                  <a:lnTo>
                    <a:pt x="357" y="1659"/>
                  </a:lnTo>
                  <a:lnTo>
                    <a:pt x="331" y="1672"/>
                  </a:lnTo>
                  <a:lnTo>
                    <a:pt x="293" y="1681"/>
                  </a:lnTo>
                  <a:lnTo>
                    <a:pt x="259" y="1681"/>
                  </a:lnTo>
                  <a:lnTo>
                    <a:pt x="227" y="1674"/>
                  </a:lnTo>
                  <a:lnTo>
                    <a:pt x="204" y="1666"/>
                  </a:lnTo>
                  <a:lnTo>
                    <a:pt x="183" y="1650"/>
                  </a:lnTo>
                  <a:lnTo>
                    <a:pt x="170" y="1637"/>
                  </a:lnTo>
                  <a:lnTo>
                    <a:pt x="155" y="1633"/>
                  </a:lnTo>
                  <a:lnTo>
                    <a:pt x="138" y="1604"/>
                  </a:lnTo>
                  <a:lnTo>
                    <a:pt x="126" y="1571"/>
                  </a:lnTo>
                  <a:lnTo>
                    <a:pt x="118" y="1542"/>
                  </a:lnTo>
                  <a:lnTo>
                    <a:pt x="111" y="1508"/>
                  </a:lnTo>
                  <a:lnTo>
                    <a:pt x="111" y="1475"/>
                  </a:lnTo>
                  <a:lnTo>
                    <a:pt x="106" y="1417"/>
                  </a:lnTo>
                  <a:lnTo>
                    <a:pt x="124" y="1384"/>
                  </a:lnTo>
                  <a:lnTo>
                    <a:pt x="131" y="1343"/>
                  </a:lnTo>
                  <a:lnTo>
                    <a:pt x="144" y="1325"/>
                  </a:lnTo>
                  <a:lnTo>
                    <a:pt x="140" y="1301"/>
                  </a:lnTo>
                  <a:lnTo>
                    <a:pt x="135" y="1280"/>
                  </a:lnTo>
                  <a:lnTo>
                    <a:pt x="98" y="1251"/>
                  </a:lnTo>
                  <a:lnTo>
                    <a:pt x="116" y="1226"/>
                  </a:lnTo>
                  <a:lnTo>
                    <a:pt x="135" y="1172"/>
                  </a:lnTo>
                  <a:lnTo>
                    <a:pt x="121" y="1174"/>
                  </a:lnTo>
                  <a:lnTo>
                    <a:pt x="106" y="1170"/>
                  </a:lnTo>
                  <a:lnTo>
                    <a:pt x="98" y="1166"/>
                  </a:lnTo>
                  <a:lnTo>
                    <a:pt x="92" y="1154"/>
                  </a:lnTo>
                  <a:lnTo>
                    <a:pt x="89" y="1145"/>
                  </a:lnTo>
                  <a:lnTo>
                    <a:pt x="79" y="1148"/>
                  </a:lnTo>
                  <a:lnTo>
                    <a:pt x="65" y="1145"/>
                  </a:lnTo>
                  <a:lnTo>
                    <a:pt x="54" y="1138"/>
                  </a:lnTo>
                  <a:lnTo>
                    <a:pt x="43" y="1130"/>
                  </a:lnTo>
                  <a:lnTo>
                    <a:pt x="34" y="1115"/>
                  </a:lnTo>
                  <a:lnTo>
                    <a:pt x="26" y="1101"/>
                  </a:lnTo>
                  <a:lnTo>
                    <a:pt x="22" y="1086"/>
                  </a:lnTo>
                  <a:lnTo>
                    <a:pt x="13" y="1082"/>
                  </a:lnTo>
                  <a:lnTo>
                    <a:pt x="2" y="995"/>
                  </a:lnTo>
                  <a:lnTo>
                    <a:pt x="10" y="992"/>
                  </a:lnTo>
                  <a:lnTo>
                    <a:pt x="10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9" y="913"/>
                  </a:lnTo>
                  <a:lnTo>
                    <a:pt x="10" y="902"/>
                  </a:lnTo>
                  <a:lnTo>
                    <a:pt x="17" y="894"/>
                  </a:lnTo>
                  <a:lnTo>
                    <a:pt x="22" y="878"/>
                  </a:lnTo>
                  <a:lnTo>
                    <a:pt x="23" y="869"/>
                  </a:lnTo>
                  <a:lnTo>
                    <a:pt x="28" y="860"/>
                  </a:lnTo>
                  <a:lnTo>
                    <a:pt x="52" y="853"/>
                  </a:lnTo>
                  <a:lnTo>
                    <a:pt x="43" y="837"/>
                  </a:lnTo>
                  <a:lnTo>
                    <a:pt x="51" y="808"/>
                  </a:lnTo>
                  <a:lnTo>
                    <a:pt x="52" y="801"/>
                  </a:lnTo>
                  <a:lnTo>
                    <a:pt x="54" y="796"/>
                  </a:lnTo>
                  <a:lnTo>
                    <a:pt x="61" y="796"/>
                  </a:lnTo>
                  <a:lnTo>
                    <a:pt x="61" y="788"/>
                  </a:lnTo>
                  <a:lnTo>
                    <a:pt x="98" y="788"/>
                  </a:lnTo>
                  <a:lnTo>
                    <a:pt x="98" y="796"/>
                  </a:lnTo>
                  <a:lnTo>
                    <a:pt x="103" y="796"/>
                  </a:lnTo>
                  <a:lnTo>
                    <a:pt x="106" y="801"/>
                  </a:lnTo>
                  <a:lnTo>
                    <a:pt x="109" y="809"/>
                  </a:lnTo>
                  <a:lnTo>
                    <a:pt x="111" y="823"/>
                  </a:lnTo>
                  <a:lnTo>
                    <a:pt x="111" y="837"/>
                  </a:lnTo>
                  <a:lnTo>
                    <a:pt x="109" y="845"/>
                  </a:lnTo>
                  <a:lnTo>
                    <a:pt x="105" y="850"/>
                  </a:lnTo>
                  <a:lnTo>
                    <a:pt x="111" y="853"/>
                  </a:lnTo>
                  <a:lnTo>
                    <a:pt x="121" y="853"/>
                  </a:lnTo>
                  <a:lnTo>
                    <a:pt x="126" y="850"/>
                  </a:lnTo>
                  <a:lnTo>
                    <a:pt x="131" y="842"/>
                  </a:lnTo>
                  <a:lnTo>
                    <a:pt x="129" y="833"/>
                  </a:lnTo>
                  <a:lnTo>
                    <a:pt x="111" y="837"/>
                  </a:lnTo>
                  <a:lnTo>
                    <a:pt x="111" y="823"/>
                  </a:lnTo>
                  <a:lnTo>
                    <a:pt x="134" y="821"/>
                  </a:lnTo>
                  <a:lnTo>
                    <a:pt x="140" y="823"/>
                  </a:lnTo>
                  <a:lnTo>
                    <a:pt x="147" y="825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7"/>
                  </a:lnTo>
                  <a:lnTo>
                    <a:pt x="181" y="610"/>
                  </a:lnTo>
                  <a:lnTo>
                    <a:pt x="191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1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7" y="426"/>
                  </a:lnTo>
                  <a:lnTo>
                    <a:pt x="227" y="391"/>
                  </a:lnTo>
                  <a:lnTo>
                    <a:pt x="248" y="363"/>
                  </a:lnTo>
                  <a:lnTo>
                    <a:pt x="276" y="335"/>
                  </a:lnTo>
                  <a:lnTo>
                    <a:pt x="305" y="319"/>
                  </a:lnTo>
                  <a:lnTo>
                    <a:pt x="321" y="301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7" y="281"/>
                  </a:lnTo>
                  <a:lnTo>
                    <a:pt x="442" y="265"/>
                  </a:lnTo>
                  <a:lnTo>
                    <a:pt x="436" y="239"/>
                  </a:lnTo>
                  <a:lnTo>
                    <a:pt x="440" y="237"/>
                  </a:lnTo>
                  <a:lnTo>
                    <a:pt x="436" y="208"/>
                  </a:lnTo>
                  <a:lnTo>
                    <a:pt x="434" y="180"/>
                  </a:lnTo>
                  <a:lnTo>
                    <a:pt x="434" y="150"/>
                  </a:lnTo>
                  <a:lnTo>
                    <a:pt x="440" y="119"/>
                  </a:lnTo>
                  <a:lnTo>
                    <a:pt x="450" y="86"/>
                  </a:lnTo>
                  <a:lnTo>
                    <a:pt x="468" y="62"/>
                  </a:lnTo>
                  <a:lnTo>
                    <a:pt x="484" y="47"/>
                  </a:lnTo>
                  <a:lnTo>
                    <a:pt x="525" y="24"/>
                  </a:lnTo>
                  <a:lnTo>
                    <a:pt x="556" y="13"/>
                  </a:lnTo>
                  <a:lnTo>
                    <a:pt x="587" y="4"/>
                  </a:lnTo>
                  <a:lnTo>
                    <a:pt x="619" y="0"/>
                  </a:lnTo>
                  <a:lnTo>
                    <a:pt x="644" y="0"/>
                  </a:lnTo>
                  <a:lnTo>
                    <a:pt x="670" y="4"/>
                  </a:lnTo>
                  <a:lnTo>
                    <a:pt x="690" y="11"/>
                  </a:lnTo>
                  <a:lnTo>
                    <a:pt x="707" y="20"/>
                  </a:lnTo>
                  <a:lnTo>
                    <a:pt x="725" y="37"/>
                  </a:lnTo>
                  <a:lnTo>
                    <a:pt x="740" y="60"/>
                  </a:lnTo>
                  <a:lnTo>
                    <a:pt x="763" y="104"/>
                  </a:lnTo>
                  <a:lnTo>
                    <a:pt x="786" y="156"/>
                  </a:lnTo>
                  <a:lnTo>
                    <a:pt x="797" y="169"/>
                  </a:lnTo>
                  <a:lnTo>
                    <a:pt x="802" y="180"/>
                  </a:lnTo>
                  <a:lnTo>
                    <a:pt x="799" y="189"/>
                  </a:lnTo>
                  <a:lnTo>
                    <a:pt x="789" y="197"/>
                  </a:lnTo>
                  <a:lnTo>
                    <a:pt x="755" y="208"/>
                  </a:lnTo>
                  <a:lnTo>
                    <a:pt x="760" y="237"/>
                  </a:lnTo>
                  <a:lnTo>
                    <a:pt x="763" y="264"/>
                  </a:lnTo>
                  <a:lnTo>
                    <a:pt x="763" y="283"/>
                  </a:lnTo>
                  <a:lnTo>
                    <a:pt x="778" y="285"/>
                  </a:lnTo>
                  <a:lnTo>
                    <a:pt x="797" y="322"/>
                  </a:lnTo>
                  <a:lnTo>
                    <a:pt x="947" y="480"/>
                  </a:lnTo>
                  <a:lnTo>
                    <a:pt x="954" y="492"/>
                  </a:lnTo>
                  <a:lnTo>
                    <a:pt x="955" y="503"/>
                  </a:lnTo>
                  <a:lnTo>
                    <a:pt x="954" y="513"/>
                  </a:lnTo>
                  <a:lnTo>
                    <a:pt x="947" y="521"/>
                  </a:lnTo>
                  <a:lnTo>
                    <a:pt x="939" y="523"/>
                  </a:lnTo>
                  <a:lnTo>
                    <a:pt x="939" y="534"/>
                  </a:lnTo>
                  <a:lnTo>
                    <a:pt x="936" y="544"/>
                  </a:lnTo>
                  <a:lnTo>
                    <a:pt x="929" y="551"/>
                  </a:lnTo>
                  <a:lnTo>
                    <a:pt x="936" y="557"/>
                  </a:lnTo>
                  <a:lnTo>
                    <a:pt x="939" y="566"/>
                  </a:lnTo>
                  <a:lnTo>
                    <a:pt x="949" y="580"/>
                  </a:lnTo>
                  <a:lnTo>
                    <a:pt x="967" y="591"/>
                  </a:lnTo>
                  <a:lnTo>
                    <a:pt x="980" y="599"/>
                  </a:lnTo>
                  <a:lnTo>
                    <a:pt x="993" y="610"/>
                  </a:lnTo>
                  <a:lnTo>
                    <a:pt x="1006" y="619"/>
                  </a:lnTo>
                  <a:lnTo>
                    <a:pt x="1040" y="608"/>
                  </a:lnTo>
                  <a:lnTo>
                    <a:pt x="1060" y="604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8" y="557"/>
                  </a:lnTo>
                  <a:lnTo>
                    <a:pt x="1218" y="480"/>
                  </a:lnTo>
                  <a:lnTo>
                    <a:pt x="1227" y="483"/>
                  </a:lnTo>
                  <a:lnTo>
                    <a:pt x="1267" y="439"/>
                  </a:lnTo>
                  <a:lnTo>
                    <a:pt x="1268" y="428"/>
                  </a:lnTo>
                  <a:lnTo>
                    <a:pt x="1275" y="417"/>
                  </a:lnTo>
                  <a:lnTo>
                    <a:pt x="1286" y="404"/>
                  </a:lnTo>
                  <a:lnTo>
                    <a:pt x="1441" y="399"/>
                  </a:lnTo>
                  <a:lnTo>
                    <a:pt x="1339" y="459"/>
                  </a:lnTo>
                  <a:lnTo>
                    <a:pt x="1319" y="480"/>
                  </a:lnTo>
                  <a:lnTo>
                    <a:pt x="1288" y="531"/>
                  </a:lnTo>
                  <a:lnTo>
                    <a:pt x="1293" y="544"/>
                  </a:lnTo>
                  <a:lnTo>
                    <a:pt x="1214" y="679"/>
                  </a:lnTo>
                  <a:lnTo>
                    <a:pt x="1190" y="749"/>
                  </a:lnTo>
                  <a:lnTo>
                    <a:pt x="1159" y="772"/>
                  </a:lnTo>
                  <a:lnTo>
                    <a:pt x="1128" y="793"/>
                  </a:lnTo>
                  <a:lnTo>
                    <a:pt x="1089" y="809"/>
                  </a:lnTo>
                  <a:lnTo>
                    <a:pt x="1063" y="814"/>
                  </a:lnTo>
                  <a:lnTo>
                    <a:pt x="1039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637080" y="3263760"/>
              <a:ext cx="301680" cy="8604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9" y="155"/>
                  </a:moveTo>
                  <a:lnTo>
                    <a:pt x="781" y="148"/>
                  </a:lnTo>
                  <a:lnTo>
                    <a:pt x="665" y="153"/>
                  </a:lnTo>
                  <a:lnTo>
                    <a:pt x="659" y="159"/>
                  </a:lnTo>
                  <a:lnTo>
                    <a:pt x="786" y="164"/>
                  </a:lnTo>
                  <a:lnTo>
                    <a:pt x="776" y="168"/>
                  </a:lnTo>
                  <a:lnTo>
                    <a:pt x="645" y="168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5"/>
                  </a:lnTo>
                  <a:lnTo>
                    <a:pt x="323" y="303"/>
                  </a:lnTo>
                  <a:lnTo>
                    <a:pt x="233" y="322"/>
                  </a:lnTo>
                  <a:lnTo>
                    <a:pt x="233" y="249"/>
                  </a:lnTo>
                  <a:lnTo>
                    <a:pt x="227" y="230"/>
                  </a:lnTo>
                  <a:lnTo>
                    <a:pt x="227" y="212"/>
                  </a:lnTo>
                  <a:lnTo>
                    <a:pt x="224" y="205"/>
                  </a:lnTo>
                  <a:lnTo>
                    <a:pt x="220" y="202"/>
                  </a:lnTo>
                  <a:lnTo>
                    <a:pt x="215" y="199"/>
                  </a:lnTo>
                  <a:lnTo>
                    <a:pt x="211" y="199"/>
                  </a:lnTo>
                  <a:lnTo>
                    <a:pt x="178" y="197"/>
                  </a:lnTo>
                  <a:lnTo>
                    <a:pt x="189" y="215"/>
                  </a:lnTo>
                  <a:lnTo>
                    <a:pt x="191" y="223"/>
                  </a:lnTo>
                  <a:lnTo>
                    <a:pt x="191" y="230"/>
                  </a:lnTo>
                  <a:lnTo>
                    <a:pt x="187" y="234"/>
                  </a:lnTo>
                  <a:lnTo>
                    <a:pt x="181" y="238"/>
                  </a:lnTo>
                  <a:lnTo>
                    <a:pt x="217" y="238"/>
                  </a:lnTo>
                  <a:lnTo>
                    <a:pt x="222" y="238"/>
                  </a:lnTo>
                  <a:lnTo>
                    <a:pt x="224" y="234"/>
                  </a:lnTo>
                  <a:lnTo>
                    <a:pt x="227" y="230"/>
                  </a:lnTo>
                  <a:lnTo>
                    <a:pt x="233" y="249"/>
                  </a:lnTo>
                  <a:lnTo>
                    <a:pt x="150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7" y="72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9" y="16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3"/>
                  </a:lnTo>
                  <a:lnTo>
                    <a:pt x="336" y="28"/>
                  </a:lnTo>
                  <a:lnTo>
                    <a:pt x="344" y="34"/>
                  </a:lnTo>
                  <a:lnTo>
                    <a:pt x="349" y="44"/>
                  </a:lnTo>
                  <a:lnTo>
                    <a:pt x="349" y="54"/>
                  </a:lnTo>
                  <a:lnTo>
                    <a:pt x="347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4" y="60"/>
                  </a:lnTo>
                  <a:lnTo>
                    <a:pt x="338" y="52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8" y="32"/>
                  </a:lnTo>
                  <a:lnTo>
                    <a:pt x="160" y="41"/>
                  </a:lnTo>
                  <a:lnTo>
                    <a:pt x="156" y="50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6" y="70"/>
                  </a:lnTo>
                  <a:lnTo>
                    <a:pt x="163" y="72"/>
                  </a:lnTo>
                  <a:lnTo>
                    <a:pt x="323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5" y="67"/>
                  </a:lnTo>
                  <a:lnTo>
                    <a:pt x="816" y="70"/>
                  </a:lnTo>
                  <a:lnTo>
                    <a:pt x="818" y="72"/>
                  </a:lnTo>
                  <a:lnTo>
                    <a:pt x="869" y="72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4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5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9" y="3"/>
                  </a:lnTo>
                  <a:lnTo>
                    <a:pt x="875" y="10"/>
                  </a:lnTo>
                  <a:lnTo>
                    <a:pt x="880" y="86"/>
                  </a:lnTo>
                  <a:lnTo>
                    <a:pt x="1004" y="86"/>
                  </a:lnTo>
                  <a:lnTo>
                    <a:pt x="1017" y="80"/>
                  </a:lnTo>
                  <a:lnTo>
                    <a:pt x="1105" y="78"/>
                  </a:lnTo>
                  <a:lnTo>
                    <a:pt x="1115" y="65"/>
                  </a:lnTo>
                  <a:lnTo>
                    <a:pt x="1130" y="65"/>
                  </a:lnTo>
                  <a:lnTo>
                    <a:pt x="1130" y="78"/>
                  </a:lnTo>
                  <a:lnTo>
                    <a:pt x="1136" y="78"/>
                  </a:lnTo>
                  <a:lnTo>
                    <a:pt x="1136" y="116"/>
                  </a:lnTo>
                  <a:lnTo>
                    <a:pt x="1112" y="116"/>
                  </a:lnTo>
                  <a:lnTo>
                    <a:pt x="1102" y="109"/>
                  </a:lnTo>
                  <a:lnTo>
                    <a:pt x="880" y="109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3" y="116"/>
                  </a:lnTo>
                  <a:lnTo>
                    <a:pt x="823" y="135"/>
                  </a:lnTo>
                  <a:lnTo>
                    <a:pt x="810" y="135"/>
                  </a:lnTo>
                  <a:lnTo>
                    <a:pt x="799" y="1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37080" y="3263760"/>
              <a:ext cx="301680" cy="8604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9" y="155"/>
                  </a:moveTo>
                  <a:lnTo>
                    <a:pt x="781" y="148"/>
                  </a:lnTo>
                  <a:lnTo>
                    <a:pt x="665" y="153"/>
                  </a:lnTo>
                  <a:lnTo>
                    <a:pt x="659" y="159"/>
                  </a:lnTo>
                  <a:lnTo>
                    <a:pt x="786" y="164"/>
                  </a:lnTo>
                  <a:lnTo>
                    <a:pt x="776" y="168"/>
                  </a:lnTo>
                  <a:lnTo>
                    <a:pt x="645" y="168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5"/>
                  </a:lnTo>
                  <a:lnTo>
                    <a:pt x="323" y="303"/>
                  </a:lnTo>
                  <a:lnTo>
                    <a:pt x="233" y="322"/>
                  </a:lnTo>
                  <a:lnTo>
                    <a:pt x="233" y="249"/>
                  </a:lnTo>
                  <a:lnTo>
                    <a:pt x="227" y="230"/>
                  </a:lnTo>
                  <a:lnTo>
                    <a:pt x="227" y="212"/>
                  </a:lnTo>
                  <a:lnTo>
                    <a:pt x="224" y="205"/>
                  </a:lnTo>
                  <a:lnTo>
                    <a:pt x="220" y="202"/>
                  </a:lnTo>
                  <a:lnTo>
                    <a:pt x="215" y="199"/>
                  </a:lnTo>
                  <a:lnTo>
                    <a:pt x="211" y="199"/>
                  </a:lnTo>
                  <a:lnTo>
                    <a:pt x="178" y="197"/>
                  </a:lnTo>
                  <a:lnTo>
                    <a:pt x="189" y="215"/>
                  </a:lnTo>
                  <a:lnTo>
                    <a:pt x="191" y="223"/>
                  </a:lnTo>
                  <a:lnTo>
                    <a:pt x="191" y="230"/>
                  </a:lnTo>
                  <a:lnTo>
                    <a:pt x="187" y="234"/>
                  </a:lnTo>
                  <a:lnTo>
                    <a:pt x="181" y="238"/>
                  </a:lnTo>
                  <a:lnTo>
                    <a:pt x="217" y="238"/>
                  </a:lnTo>
                  <a:lnTo>
                    <a:pt x="222" y="238"/>
                  </a:lnTo>
                  <a:lnTo>
                    <a:pt x="224" y="234"/>
                  </a:lnTo>
                  <a:lnTo>
                    <a:pt x="227" y="230"/>
                  </a:lnTo>
                  <a:lnTo>
                    <a:pt x="233" y="249"/>
                  </a:lnTo>
                  <a:lnTo>
                    <a:pt x="150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7" y="72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9" y="16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3"/>
                  </a:lnTo>
                  <a:lnTo>
                    <a:pt x="336" y="28"/>
                  </a:lnTo>
                  <a:lnTo>
                    <a:pt x="344" y="34"/>
                  </a:lnTo>
                  <a:lnTo>
                    <a:pt x="349" y="44"/>
                  </a:lnTo>
                  <a:lnTo>
                    <a:pt x="349" y="54"/>
                  </a:lnTo>
                  <a:lnTo>
                    <a:pt x="347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4" y="60"/>
                  </a:lnTo>
                  <a:lnTo>
                    <a:pt x="338" y="52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8" y="32"/>
                  </a:lnTo>
                  <a:lnTo>
                    <a:pt x="160" y="41"/>
                  </a:lnTo>
                  <a:lnTo>
                    <a:pt x="156" y="50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6" y="70"/>
                  </a:lnTo>
                  <a:lnTo>
                    <a:pt x="163" y="72"/>
                  </a:lnTo>
                  <a:lnTo>
                    <a:pt x="323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5" y="67"/>
                  </a:lnTo>
                  <a:lnTo>
                    <a:pt x="816" y="70"/>
                  </a:lnTo>
                  <a:lnTo>
                    <a:pt x="818" y="72"/>
                  </a:lnTo>
                  <a:lnTo>
                    <a:pt x="869" y="72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4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5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9" y="3"/>
                  </a:lnTo>
                  <a:lnTo>
                    <a:pt x="875" y="10"/>
                  </a:lnTo>
                  <a:lnTo>
                    <a:pt x="880" y="86"/>
                  </a:lnTo>
                  <a:lnTo>
                    <a:pt x="1004" y="86"/>
                  </a:lnTo>
                  <a:lnTo>
                    <a:pt x="1017" y="80"/>
                  </a:lnTo>
                  <a:lnTo>
                    <a:pt x="1105" y="78"/>
                  </a:lnTo>
                  <a:lnTo>
                    <a:pt x="1115" y="65"/>
                  </a:lnTo>
                  <a:lnTo>
                    <a:pt x="1130" y="65"/>
                  </a:lnTo>
                  <a:lnTo>
                    <a:pt x="1130" y="78"/>
                  </a:lnTo>
                  <a:lnTo>
                    <a:pt x="1136" y="78"/>
                  </a:lnTo>
                  <a:lnTo>
                    <a:pt x="1136" y="116"/>
                  </a:lnTo>
                  <a:lnTo>
                    <a:pt x="1112" y="116"/>
                  </a:lnTo>
                  <a:lnTo>
                    <a:pt x="1102" y="109"/>
                  </a:lnTo>
                  <a:lnTo>
                    <a:pt x="880" y="109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3" y="116"/>
                  </a:lnTo>
                  <a:lnTo>
                    <a:pt x="823" y="135"/>
                  </a:lnTo>
                  <a:lnTo>
                    <a:pt x="810" y="135"/>
                  </a:lnTo>
                  <a:lnTo>
                    <a:pt x="799" y="1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718080" y="3683160"/>
              <a:ext cx="252360" cy="380880"/>
            </a:xfrm>
            <a:custGeom>
              <a:avLst/>
              <a:gdLst/>
              <a:ahLst/>
              <a:rect l="l" t="t" r="r" b="b"/>
              <a:pathLst>
                <a:path w="955" h="1441">
                  <a:moveTo>
                    <a:pt x="762" y="826"/>
                  </a:moveTo>
                  <a:lnTo>
                    <a:pt x="789" y="805"/>
                  </a:lnTo>
                  <a:lnTo>
                    <a:pt x="812" y="791"/>
                  </a:lnTo>
                  <a:lnTo>
                    <a:pt x="774" y="839"/>
                  </a:lnTo>
                  <a:lnTo>
                    <a:pt x="736" y="885"/>
                  </a:lnTo>
                  <a:lnTo>
                    <a:pt x="696" y="931"/>
                  </a:lnTo>
                  <a:lnTo>
                    <a:pt x="656" y="976"/>
                  </a:lnTo>
                  <a:lnTo>
                    <a:pt x="615" y="1020"/>
                  </a:lnTo>
                  <a:lnTo>
                    <a:pt x="573" y="1063"/>
                  </a:lnTo>
                  <a:lnTo>
                    <a:pt x="530" y="1106"/>
                  </a:lnTo>
                  <a:lnTo>
                    <a:pt x="486" y="1146"/>
                  </a:lnTo>
                  <a:lnTo>
                    <a:pt x="441" y="1187"/>
                  </a:lnTo>
                  <a:lnTo>
                    <a:pt x="396" y="1226"/>
                  </a:lnTo>
                  <a:lnTo>
                    <a:pt x="350" y="1265"/>
                  </a:lnTo>
                  <a:lnTo>
                    <a:pt x="304" y="1302"/>
                  </a:lnTo>
                  <a:lnTo>
                    <a:pt x="256" y="1339"/>
                  </a:lnTo>
                  <a:lnTo>
                    <a:pt x="208" y="1374"/>
                  </a:lnTo>
                  <a:lnTo>
                    <a:pt x="158" y="1409"/>
                  </a:lnTo>
                  <a:lnTo>
                    <a:pt x="108" y="1441"/>
                  </a:lnTo>
                  <a:lnTo>
                    <a:pt x="107" y="1417"/>
                  </a:lnTo>
                  <a:lnTo>
                    <a:pt x="124" y="1384"/>
                  </a:lnTo>
                  <a:lnTo>
                    <a:pt x="132" y="1342"/>
                  </a:lnTo>
                  <a:lnTo>
                    <a:pt x="145" y="1326"/>
                  </a:lnTo>
                  <a:lnTo>
                    <a:pt x="140" y="1301"/>
                  </a:lnTo>
                  <a:lnTo>
                    <a:pt x="135" y="1279"/>
                  </a:lnTo>
                  <a:lnTo>
                    <a:pt x="98" y="1251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0" y="1174"/>
                  </a:lnTo>
                  <a:lnTo>
                    <a:pt x="107" y="1170"/>
                  </a:lnTo>
                  <a:lnTo>
                    <a:pt x="98" y="1165"/>
                  </a:lnTo>
                  <a:lnTo>
                    <a:pt x="91" y="1155"/>
                  </a:lnTo>
                  <a:lnTo>
                    <a:pt x="89" y="1145"/>
                  </a:lnTo>
                  <a:lnTo>
                    <a:pt x="78" y="1148"/>
                  </a:lnTo>
                  <a:lnTo>
                    <a:pt x="65" y="1145"/>
                  </a:lnTo>
                  <a:lnTo>
                    <a:pt x="54" y="1138"/>
                  </a:lnTo>
                  <a:lnTo>
                    <a:pt x="43" y="1130"/>
                  </a:lnTo>
                  <a:lnTo>
                    <a:pt x="34" y="1114"/>
                  </a:lnTo>
                  <a:lnTo>
                    <a:pt x="26" y="1101"/>
                  </a:lnTo>
                  <a:lnTo>
                    <a:pt x="21" y="1086"/>
                  </a:lnTo>
                  <a:lnTo>
                    <a:pt x="12" y="1082"/>
                  </a:lnTo>
                  <a:lnTo>
                    <a:pt x="1" y="994"/>
                  </a:lnTo>
                  <a:lnTo>
                    <a:pt x="11" y="992"/>
                  </a:lnTo>
                  <a:lnTo>
                    <a:pt x="11" y="954"/>
                  </a:lnTo>
                  <a:lnTo>
                    <a:pt x="0" y="953"/>
                  </a:lnTo>
                  <a:lnTo>
                    <a:pt x="1" y="930"/>
                  </a:lnTo>
                  <a:lnTo>
                    <a:pt x="8" y="912"/>
                  </a:lnTo>
                  <a:lnTo>
                    <a:pt x="11" y="902"/>
                  </a:lnTo>
                  <a:lnTo>
                    <a:pt x="16" y="893"/>
                  </a:lnTo>
                  <a:lnTo>
                    <a:pt x="21" y="878"/>
                  </a:lnTo>
                  <a:lnTo>
                    <a:pt x="24" y="868"/>
                  </a:lnTo>
                  <a:lnTo>
                    <a:pt x="28" y="860"/>
                  </a:lnTo>
                  <a:lnTo>
                    <a:pt x="52" y="854"/>
                  </a:lnTo>
                  <a:lnTo>
                    <a:pt x="43" y="836"/>
                  </a:lnTo>
                  <a:lnTo>
                    <a:pt x="50" y="808"/>
                  </a:lnTo>
                  <a:lnTo>
                    <a:pt x="52" y="801"/>
                  </a:lnTo>
                  <a:lnTo>
                    <a:pt x="54" y="796"/>
                  </a:lnTo>
                  <a:lnTo>
                    <a:pt x="62" y="796"/>
                  </a:lnTo>
                  <a:lnTo>
                    <a:pt x="62" y="788"/>
                  </a:lnTo>
                  <a:lnTo>
                    <a:pt x="98" y="788"/>
                  </a:lnTo>
                  <a:lnTo>
                    <a:pt x="98" y="796"/>
                  </a:lnTo>
                  <a:lnTo>
                    <a:pt x="103" y="796"/>
                  </a:lnTo>
                  <a:lnTo>
                    <a:pt x="107" y="801"/>
                  </a:lnTo>
                  <a:lnTo>
                    <a:pt x="109" y="809"/>
                  </a:lnTo>
                  <a:lnTo>
                    <a:pt x="111" y="823"/>
                  </a:lnTo>
                  <a:lnTo>
                    <a:pt x="111" y="836"/>
                  </a:lnTo>
                  <a:lnTo>
                    <a:pt x="109" y="845"/>
                  </a:lnTo>
                  <a:lnTo>
                    <a:pt x="104" y="849"/>
                  </a:lnTo>
                  <a:lnTo>
                    <a:pt x="111" y="854"/>
                  </a:lnTo>
                  <a:lnTo>
                    <a:pt x="120" y="854"/>
                  </a:lnTo>
                  <a:lnTo>
                    <a:pt x="127" y="849"/>
                  </a:lnTo>
                  <a:lnTo>
                    <a:pt x="132" y="842"/>
                  </a:lnTo>
                  <a:lnTo>
                    <a:pt x="128" y="834"/>
                  </a:lnTo>
                  <a:lnTo>
                    <a:pt x="111" y="836"/>
                  </a:lnTo>
                  <a:lnTo>
                    <a:pt x="111" y="823"/>
                  </a:lnTo>
                  <a:lnTo>
                    <a:pt x="133" y="821"/>
                  </a:lnTo>
                  <a:lnTo>
                    <a:pt x="140" y="823"/>
                  </a:lnTo>
                  <a:lnTo>
                    <a:pt x="146" y="826"/>
                  </a:lnTo>
                  <a:lnTo>
                    <a:pt x="152" y="829"/>
                  </a:lnTo>
                  <a:lnTo>
                    <a:pt x="148" y="803"/>
                  </a:lnTo>
                  <a:lnTo>
                    <a:pt x="141" y="777"/>
                  </a:lnTo>
                  <a:lnTo>
                    <a:pt x="181" y="611"/>
                  </a:lnTo>
                  <a:lnTo>
                    <a:pt x="190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0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8" y="425"/>
                  </a:lnTo>
                  <a:lnTo>
                    <a:pt x="226" y="391"/>
                  </a:lnTo>
                  <a:lnTo>
                    <a:pt x="247" y="362"/>
                  </a:lnTo>
                  <a:lnTo>
                    <a:pt x="275" y="336"/>
                  </a:lnTo>
                  <a:lnTo>
                    <a:pt x="304" y="318"/>
                  </a:lnTo>
                  <a:lnTo>
                    <a:pt x="321" y="300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4" y="285"/>
                  </a:lnTo>
                  <a:lnTo>
                    <a:pt x="394" y="290"/>
                  </a:lnTo>
                  <a:lnTo>
                    <a:pt x="438" y="281"/>
                  </a:lnTo>
                  <a:lnTo>
                    <a:pt x="442" y="265"/>
                  </a:lnTo>
                  <a:lnTo>
                    <a:pt x="435" y="239"/>
                  </a:lnTo>
                  <a:lnTo>
                    <a:pt x="440" y="238"/>
                  </a:lnTo>
                  <a:lnTo>
                    <a:pt x="435" y="209"/>
                  </a:lnTo>
                  <a:lnTo>
                    <a:pt x="433" y="179"/>
                  </a:lnTo>
                  <a:lnTo>
                    <a:pt x="433" y="150"/>
                  </a:lnTo>
                  <a:lnTo>
                    <a:pt x="440" y="119"/>
                  </a:lnTo>
                  <a:lnTo>
                    <a:pt x="451" y="85"/>
                  </a:lnTo>
                  <a:lnTo>
                    <a:pt x="469" y="62"/>
                  </a:lnTo>
                  <a:lnTo>
                    <a:pt x="484" y="46"/>
                  </a:lnTo>
                  <a:lnTo>
                    <a:pt x="526" y="24"/>
                  </a:lnTo>
                  <a:lnTo>
                    <a:pt x="556" y="13"/>
                  </a:lnTo>
                  <a:lnTo>
                    <a:pt x="586" y="5"/>
                  </a:lnTo>
                  <a:lnTo>
                    <a:pt x="619" y="0"/>
                  </a:lnTo>
                  <a:lnTo>
                    <a:pt x="644" y="0"/>
                  </a:lnTo>
                  <a:lnTo>
                    <a:pt x="670" y="5"/>
                  </a:lnTo>
                  <a:lnTo>
                    <a:pt x="691" y="11"/>
                  </a:lnTo>
                  <a:lnTo>
                    <a:pt x="707" y="20"/>
                  </a:lnTo>
                  <a:lnTo>
                    <a:pt x="725" y="37"/>
                  </a:lnTo>
                  <a:lnTo>
                    <a:pt x="740" y="59"/>
                  </a:lnTo>
                  <a:lnTo>
                    <a:pt x="762" y="103"/>
                  </a:lnTo>
                  <a:lnTo>
                    <a:pt x="787" y="156"/>
                  </a:lnTo>
                  <a:lnTo>
                    <a:pt x="797" y="169"/>
                  </a:lnTo>
                  <a:lnTo>
                    <a:pt x="802" y="179"/>
                  </a:lnTo>
                  <a:lnTo>
                    <a:pt x="800" y="189"/>
                  </a:lnTo>
                  <a:lnTo>
                    <a:pt x="788" y="197"/>
                  </a:lnTo>
                  <a:lnTo>
                    <a:pt x="756" y="209"/>
                  </a:lnTo>
                  <a:lnTo>
                    <a:pt x="759" y="238"/>
                  </a:lnTo>
                  <a:lnTo>
                    <a:pt x="762" y="264"/>
                  </a:lnTo>
                  <a:lnTo>
                    <a:pt x="762" y="284"/>
                  </a:lnTo>
                  <a:lnTo>
                    <a:pt x="777" y="285"/>
                  </a:lnTo>
                  <a:lnTo>
                    <a:pt x="797" y="323"/>
                  </a:lnTo>
                  <a:lnTo>
                    <a:pt x="946" y="481"/>
                  </a:lnTo>
                  <a:lnTo>
                    <a:pt x="953" y="492"/>
                  </a:lnTo>
                  <a:lnTo>
                    <a:pt x="955" y="502"/>
                  </a:lnTo>
                  <a:lnTo>
                    <a:pt x="953" y="513"/>
                  </a:lnTo>
                  <a:lnTo>
                    <a:pt x="946" y="520"/>
                  </a:lnTo>
                  <a:lnTo>
                    <a:pt x="940" y="523"/>
                  </a:lnTo>
                  <a:lnTo>
                    <a:pt x="940" y="533"/>
                  </a:lnTo>
                  <a:lnTo>
                    <a:pt x="935" y="544"/>
                  </a:lnTo>
                  <a:lnTo>
                    <a:pt x="929" y="551"/>
                  </a:lnTo>
                  <a:lnTo>
                    <a:pt x="935" y="557"/>
                  </a:lnTo>
                  <a:lnTo>
                    <a:pt x="940" y="567"/>
                  </a:lnTo>
                  <a:lnTo>
                    <a:pt x="948" y="580"/>
                  </a:lnTo>
                  <a:lnTo>
                    <a:pt x="955" y="584"/>
                  </a:lnTo>
                  <a:lnTo>
                    <a:pt x="942" y="606"/>
                  </a:lnTo>
                  <a:lnTo>
                    <a:pt x="928" y="627"/>
                  </a:lnTo>
                  <a:lnTo>
                    <a:pt x="914" y="649"/>
                  </a:lnTo>
                  <a:lnTo>
                    <a:pt x="899" y="669"/>
                  </a:lnTo>
                  <a:lnTo>
                    <a:pt x="885" y="690"/>
                  </a:lnTo>
                  <a:lnTo>
                    <a:pt x="871" y="710"/>
                  </a:lnTo>
                  <a:lnTo>
                    <a:pt x="855" y="732"/>
                  </a:lnTo>
                  <a:lnTo>
                    <a:pt x="840" y="752"/>
                  </a:lnTo>
                  <a:lnTo>
                    <a:pt x="815" y="735"/>
                  </a:lnTo>
                  <a:lnTo>
                    <a:pt x="793" y="720"/>
                  </a:lnTo>
                  <a:lnTo>
                    <a:pt x="769" y="702"/>
                  </a:lnTo>
                  <a:lnTo>
                    <a:pt x="771" y="733"/>
                  </a:lnTo>
                  <a:lnTo>
                    <a:pt x="766" y="761"/>
                  </a:lnTo>
                  <a:lnTo>
                    <a:pt x="762" y="826"/>
                  </a:lnTo>
                  <a:close/>
                  <a:moveTo>
                    <a:pt x="151" y="854"/>
                  </a:moveTo>
                  <a:lnTo>
                    <a:pt x="140" y="864"/>
                  </a:lnTo>
                  <a:lnTo>
                    <a:pt x="145" y="871"/>
                  </a:lnTo>
                  <a:lnTo>
                    <a:pt x="148" y="879"/>
                  </a:lnTo>
                  <a:lnTo>
                    <a:pt x="151" y="871"/>
                  </a:lnTo>
                  <a:lnTo>
                    <a:pt x="153" y="862"/>
                  </a:lnTo>
                  <a:lnTo>
                    <a:pt x="151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718080" y="3683160"/>
              <a:ext cx="252360" cy="380880"/>
            </a:xfrm>
            <a:custGeom>
              <a:avLst/>
              <a:gdLst/>
              <a:ahLst/>
              <a:rect l="l" t="t" r="r" b="b"/>
              <a:pathLst>
                <a:path w="955" h="1441">
                  <a:moveTo>
                    <a:pt x="108" y="1441"/>
                  </a:moveTo>
                  <a:lnTo>
                    <a:pt x="107" y="1417"/>
                  </a:lnTo>
                  <a:lnTo>
                    <a:pt x="124" y="1384"/>
                  </a:lnTo>
                  <a:lnTo>
                    <a:pt x="132" y="1342"/>
                  </a:lnTo>
                  <a:lnTo>
                    <a:pt x="145" y="1326"/>
                  </a:lnTo>
                  <a:lnTo>
                    <a:pt x="140" y="1301"/>
                  </a:lnTo>
                  <a:lnTo>
                    <a:pt x="135" y="1279"/>
                  </a:lnTo>
                  <a:lnTo>
                    <a:pt x="98" y="1251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0" y="1174"/>
                  </a:lnTo>
                  <a:lnTo>
                    <a:pt x="107" y="1170"/>
                  </a:lnTo>
                  <a:lnTo>
                    <a:pt x="98" y="1165"/>
                  </a:lnTo>
                  <a:lnTo>
                    <a:pt x="91" y="1155"/>
                  </a:lnTo>
                  <a:lnTo>
                    <a:pt x="89" y="1145"/>
                  </a:lnTo>
                  <a:lnTo>
                    <a:pt x="78" y="1148"/>
                  </a:lnTo>
                  <a:lnTo>
                    <a:pt x="65" y="1145"/>
                  </a:lnTo>
                  <a:lnTo>
                    <a:pt x="54" y="1138"/>
                  </a:lnTo>
                  <a:lnTo>
                    <a:pt x="43" y="1130"/>
                  </a:lnTo>
                  <a:lnTo>
                    <a:pt x="34" y="1114"/>
                  </a:lnTo>
                  <a:lnTo>
                    <a:pt x="26" y="1101"/>
                  </a:lnTo>
                  <a:lnTo>
                    <a:pt x="21" y="1086"/>
                  </a:lnTo>
                  <a:lnTo>
                    <a:pt x="12" y="1082"/>
                  </a:lnTo>
                  <a:lnTo>
                    <a:pt x="1" y="994"/>
                  </a:lnTo>
                  <a:lnTo>
                    <a:pt x="11" y="992"/>
                  </a:lnTo>
                  <a:lnTo>
                    <a:pt x="11" y="954"/>
                  </a:lnTo>
                  <a:lnTo>
                    <a:pt x="0" y="953"/>
                  </a:lnTo>
                  <a:lnTo>
                    <a:pt x="1" y="930"/>
                  </a:lnTo>
                  <a:lnTo>
                    <a:pt x="8" y="912"/>
                  </a:lnTo>
                  <a:lnTo>
                    <a:pt x="11" y="902"/>
                  </a:lnTo>
                  <a:lnTo>
                    <a:pt x="16" y="893"/>
                  </a:lnTo>
                  <a:lnTo>
                    <a:pt x="21" y="878"/>
                  </a:lnTo>
                  <a:lnTo>
                    <a:pt x="24" y="868"/>
                  </a:lnTo>
                  <a:lnTo>
                    <a:pt x="28" y="860"/>
                  </a:lnTo>
                  <a:lnTo>
                    <a:pt x="52" y="854"/>
                  </a:lnTo>
                  <a:lnTo>
                    <a:pt x="43" y="836"/>
                  </a:lnTo>
                  <a:lnTo>
                    <a:pt x="50" y="808"/>
                  </a:lnTo>
                  <a:lnTo>
                    <a:pt x="52" y="801"/>
                  </a:lnTo>
                  <a:lnTo>
                    <a:pt x="54" y="796"/>
                  </a:lnTo>
                  <a:lnTo>
                    <a:pt x="62" y="796"/>
                  </a:lnTo>
                  <a:lnTo>
                    <a:pt x="62" y="788"/>
                  </a:lnTo>
                  <a:lnTo>
                    <a:pt x="98" y="788"/>
                  </a:lnTo>
                  <a:lnTo>
                    <a:pt x="98" y="796"/>
                  </a:lnTo>
                  <a:lnTo>
                    <a:pt x="103" y="796"/>
                  </a:lnTo>
                  <a:lnTo>
                    <a:pt x="107" y="801"/>
                  </a:lnTo>
                  <a:lnTo>
                    <a:pt x="109" y="809"/>
                  </a:lnTo>
                  <a:lnTo>
                    <a:pt x="111" y="823"/>
                  </a:lnTo>
                  <a:lnTo>
                    <a:pt x="111" y="836"/>
                  </a:lnTo>
                  <a:lnTo>
                    <a:pt x="109" y="845"/>
                  </a:lnTo>
                  <a:lnTo>
                    <a:pt x="104" y="849"/>
                  </a:lnTo>
                  <a:lnTo>
                    <a:pt x="111" y="854"/>
                  </a:lnTo>
                  <a:lnTo>
                    <a:pt x="120" y="854"/>
                  </a:lnTo>
                  <a:lnTo>
                    <a:pt x="127" y="849"/>
                  </a:lnTo>
                  <a:lnTo>
                    <a:pt x="132" y="842"/>
                  </a:lnTo>
                  <a:lnTo>
                    <a:pt x="128" y="834"/>
                  </a:lnTo>
                  <a:lnTo>
                    <a:pt x="111" y="836"/>
                  </a:lnTo>
                  <a:lnTo>
                    <a:pt x="111" y="823"/>
                  </a:lnTo>
                  <a:lnTo>
                    <a:pt x="133" y="821"/>
                  </a:lnTo>
                  <a:lnTo>
                    <a:pt x="140" y="823"/>
                  </a:lnTo>
                  <a:lnTo>
                    <a:pt x="146" y="826"/>
                  </a:lnTo>
                  <a:lnTo>
                    <a:pt x="152" y="829"/>
                  </a:lnTo>
                  <a:lnTo>
                    <a:pt x="148" y="803"/>
                  </a:lnTo>
                  <a:lnTo>
                    <a:pt x="141" y="777"/>
                  </a:lnTo>
                  <a:lnTo>
                    <a:pt x="181" y="611"/>
                  </a:lnTo>
                  <a:lnTo>
                    <a:pt x="190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0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8" y="425"/>
                  </a:lnTo>
                  <a:lnTo>
                    <a:pt x="226" y="391"/>
                  </a:lnTo>
                  <a:lnTo>
                    <a:pt x="247" y="362"/>
                  </a:lnTo>
                  <a:lnTo>
                    <a:pt x="275" y="336"/>
                  </a:lnTo>
                  <a:lnTo>
                    <a:pt x="304" y="318"/>
                  </a:lnTo>
                  <a:lnTo>
                    <a:pt x="321" y="300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4" y="285"/>
                  </a:lnTo>
                  <a:lnTo>
                    <a:pt x="394" y="290"/>
                  </a:lnTo>
                  <a:lnTo>
                    <a:pt x="438" y="281"/>
                  </a:lnTo>
                  <a:lnTo>
                    <a:pt x="442" y="265"/>
                  </a:lnTo>
                  <a:lnTo>
                    <a:pt x="435" y="239"/>
                  </a:lnTo>
                  <a:lnTo>
                    <a:pt x="440" y="238"/>
                  </a:lnTo>
                  <a:lnTo>
                    <a:pt x="435" y="209"/>
                  </a:lnTo>
                  <a:lnTo>
                    <a:pt x="433" y="179"/>
                  </a:lnTo>
                  <a:lnTo>
                    <a:pt x="433" y="150"/>
                  </a:lnTo>
                  <a:lnTo>
                    <a:pt x="440" y="119"/>
                  </a:lnTo>
                  <a:lnTo>
                    <a:pt x="451" y="85"/>
                  </a:lnTo>
                  <a:lnTo>
                    <a:pt x="469" y="62"/>
                  </a:lnTo>
                  <a:lnTo>
                    <a:pt x="484" y="46"/>
                  </a:lnTo>
                  <a:lnTo>
                    <a:pt x="526" y="24"/>
                  </a:lnTo>
                  <a:lnTo>
                    <a:pt x="556" y="13"/>
                  </a:lnTo>
                  <a:lnTo>
                    <a:pt x="586" y="5"/>
                  </a:lnTo>
                  <a:lnTo>
                    <a:pt x="619" y="0"/>
                  </a:lnTo>
                  <a:lnTo>
                    <a:pt x="644" y="0"/>
                  </a:lnTo>
                  <a:lnTo>
                    <a:pt x="670" y="5"/>
                  </a:lnTo>
                  <a:lnTo>
                    <a:pt x="691" y="11"/>
                  </a:lnTo>
                  <a:lnTo>
                    <a:pt x="707" y="20"/>
                  </a:lnTo>
                  <a:lnTo>
                    <a:pt x="725" y="37"/>
                  </a:lnTo>
                  <a:lnTo>
                    <a:pt x="740" y="59"/>
                  </a:lnTo>
                  <a:lnTo>
                    <a:pt x="762" y="103"/>
                  </a:lnTo>
                  <a:lnTo>
                    <a:pt x="787" y="156"/>
                  </a:lnTo>
                  <a:lnTo>
                    <a:pt x="797" y="169"/>
                  </a:lnTo>
                  <a:lnTo>
                    <a:pt x="802" y="179"/>
                  </a:lnTo>
                  <a:lnTo>
                    <a:pt x="800" y="189"/>
                  </a:lnTo>
                  <a:lnTo>
                    <a:pt x="788" y="197"/>
                  </a:lnTo>
                  <a:lnTo>
                    <a:pt x="756" y="209"/>
                  </a:lnTo>
                  <a:lnTo>
                    <a:pt x="759" y="238"/>
                  </a:lnTo>
                  <a:lnTo>
                    <a:pt x="762" y="264"/>
                  </a:lnTo>
                  <a:lnTo>
                    <a:pt x="762" y="284"/>
                  </a:lnTo>
                  <a:lnTo>
                    <a:pt x="777" y="285"/>
                  </a:lnTo>
                  <a:lnTo>
                    <a:pt x="797" y="323"/>
                  </a:lnTo>
                  <a:lnTo>
                    <a:pt x="946" y="481"/>
                  </a:lnTo>
                  <a:lnTo>
                    <a:pt x="953" y="492"/>
                  </a:lnTo>
                  <a:lnTo>
                    <a:pt x="955" y="502"/>
                  </a:lnTo>
                  <a:lnTo>
                    <a:pt x="953" y="513"/>
                  </a:lnTo>
                  <a:lnTo>
                    <a:pt x="946" y="520"/>
                  </a:lnTo>
                  <a:lnTo>
                    <a:pt x="940" y="523"/>
                  </a:lnTo>
                  <a:lnTo>
                    <a:pt x="940" y="533"/>
                  </a:lnTo>
                  <a:lnTo>
                    <a:pt x="935" y="544"/>
                  </a:lnTo>
                  <a:lnTo>
                    <a:pt x="929" y="551"/>
                  </a:lnTo>
                  <a:lnTo>
                    <a:pt x="935" y="557"/>
                  </a:lnTo>
                  <a:lnTo>
                    <a:pt x="940" y="567"/>
                  </a:lnTo>
                  <a:lnTo>
                    <a:pt x="948" y="580"/>
                  </a:lnTo>
                  <a:lnTo>
                    <a:pt x="955" y="58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929040" y="3745080"/>
              <a:ext cx="88920" cy="64800"/>
            </a:xfrm>
            <a:custGeom>
              <a:avLst/>
              <a:gdLst/>
              <a:ahLst/>
              <a:rect l="l" t="t" r="r" b="b"/>
              <a:pathLst>
                <a:path w="334" h="244">
                  <a:moveTo>
                    <a:pt x="227" y="231"/>
                  </a:moveTo>
                  <a:lnTo>
                    <a:pt x="225" y="225"/>
                  </a:lnTo>
                  <a:lnTo>
                    <a:pt x="225" y="207"/>
                  </a:lnTo>
                  <a:lnTo>
                    <a:pt x="223" y="200"/>
                  </a:lnTo>
                  <a:lnTo>
                    <a:pt x="219" y="196"/>
                  </a:lnTo>
                  <a:lnTo>
                    <a:pt x="214" y="194"/>
                  </a:lnTo>
                  <a:lnTo>
                    <a:pt x="210" y="194"/>
                  </a:lnTo>
                  <a:lnTo>
                    <a:pt x="178" y="192"/>
                  </a:lnTo>
                  <a:lnTo>
                    <a:pt x="188" y="209"/>
                  </a:lnTo>
                  <a:lnTo>
                    <a:pt x="189" y="218"/>
                  </a:lnTo>
                  <a:lnTo>
                    <a:pt x="189" y="225"/>
                  </a:lnTo>
                  <a:lnTo>
                    <a:pt x="186" y="228"/>
                  </a:lnTo>
                  <a:lnTo>
                    <a:pt x="179" y="233"/>
                  </a:lnTo>
                  <a:lnTo>
                    <a:pt x="217" y="233"/>
                  </a:lnTo>
                  <a:lnTo>
                    <a:pt x="220" y="233"/>
                  </a:lnTo>
                  <a:lnTo>
                    <a:pt x="223" y="228"/>
                  </a:lnTo>
                  <a:lnTo>
                    <a:pt x="225" y="225"/>
                  </a:lnTo>
                  <a:lnTo>
                    <a:pt x="227" y="231"/>
                  </a:lnTo>
                  <a:lnTo>
                    <a:pt x="226" y="232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8"/>
                  </a:lnTo>
                  <a:lnTo>
                    <a:pt x="221" y="239"/>
                  </a:lnTo>
                  <a:lnTo>
                    <a:pt x="221" y="241"/>
                  </a:lnTo>
                  <a:lnTo>
                    <a:pt x="220" y="243"/>
                  </a:lnTo>
                  <a:lnTo>
                    <a:pt x="219" y="244"/>
                  </a:lnTo>
                  <a:lnTo>
                    <a:pt x="148" y="244"/>
                  </a:lnTo>
                  <a:lnTo>
                    <a:pt x="0" y="86"/>
                  </a:lnTo>
                  <a:lnTo>
                    <a:pt x="56" y="86"/>
                  </a:lnTo>
                  <a:lnTo>
                    <a:pt x="56" y="67"/>
                  </a:lnTo>
                  <a:lnTo>
                    <a:pt x="77" y="67"/>
                  </a:lnTo>
                  <a:lnTo>
                    <a:pt x="87" y="28"/>
                  </a:lnTo>
                  <a:lnTo>
                    <a:pt x="93" y="28"/>
                  </a:lnTo>
                  <a:lnTo>
                    <a:pt x="98" y="12"/>
                  </a:lnTo>
                  <a:lnTo>
                    <a:pt x="106" y="3"/>
                  </a:lnTo>
                  <a:lnTo>
                    <a:pt x="119" y="0"/>
                  </a:lnTo>
                  <a:lnTo>
                    <a:pt x="326" y="18"/>
                  </a:lnTo>
                  <a:lnTo>
                    <a:pt x="334" y="22"/>
                  </a:lnTo>
                  <a:lnTo>
                    <a:pt x="333" y="23"/>
                  </a:lnTo>
                  <a:lnTo>
                    <a:pt x="333" y="24"/>
                  </a:lnTo>
                  <a:lnTo>
                    <a:pt x="332" y="25"/>
                  </a:lnTo>
                  <a:lnTo>
                    <a:pt x="332" y="26"/>
                  </a:lnTo>
                  <a:lnTo>
                    <a:pt x="332" y="28"/>
                  </a:lnTo>
                  <a:lnTo>
                    <a:pt x="331" y="29"/>
                  </a:lnTo>
                  <a:lnTo>
                    <a:pt x="331" y="30"/>
                  </a:lnTo>
                  <a:lnTo>
                    <a:pt x="329" y="31"/>
                  </a:lnTo>
                  <a:lnTo>
                    <a:pt x="321" y="28"/>
                  </a:lnTo>
                  <a:lnTo>
                    <a:pt x="166" y="28"/>
                  </a:lnTo>
                  <a:lnTo>
                    <a:pt x="160" y="36"/>
                  </a:lnTo>
                  <a:lnTo>
                    <a:pt x="155" y="44"/>
                  </a:lnTo>
                  <a:lnTo>
                    <a:pt x="153" y="54"/>
                  </a:lnTo>
                  <a:lnTo>
                    <a:pt x="153" y="60"/>
                  </a:lnTo>
                  <a:lnTo>
                    <a:pt x="155" y="64"/>
                  </a:lnTo>
                  <a:lnTo>
                    <a:pt x="162" y="67"/>
                  </a:lnTo>
                  <a:lnTo>
                    <a:pt x="313" y="67"/>
                  </a:lnTo>
                  <a:lnTo>
                    <a:pt x="302" y="87"/>
                  </a:lnTo>
                  <a:lnTo>
                    <a:pt x="293" y="108"/>
                  </a:lnTo>
                  <a:lnTo>
                    <a:pt x="282" y="129"/>
                  </a:lnTo>
                  <a:lnTo>
                    <a:pt x="271" y="149"/>
                  </a:lnTo>
                  <a:lnTo>
                    <a:pt x="261" y="170"/>
                  </a:lnTo>
                  <a:lnTo>
                    <a:pt x="250" y="190"/>
                  </a:lnTo>
                  <a:lnTo>
                    <a:pt x="238" y="211"/>
                  </a:lnTo>
                  <a:lnTo>
                    <a:pt x="227" y="2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929040" y="3745080"/>
              <a:ext cx="88920" cy="64800"/>
            </a:xfrm>
            <a:custGeom>
              <a:avLst/>
              <a:gdLst/>
              <a:ahLst/>
              <a:rect l="l" t="t" r="r" b="b"/>
              <a:pathLst>
                <a:path w="334" h="244">
                  <a:moveTo>
                    <a:pt x="219" y="244"/>
                  </a:moveTo>
                  <a:lnTo>
                    <a:pt x="148" y="244"/>
                  </a:lnTo>
                  <a:lnTo>
                    <a:pt x="0" y="86"/>
                  </a:lnTo>
                  <a:lnTo>
                    <a:pt x="56" y="86"/>
                  </a:lnTo>
                  <a:lnTo>
                    <a:pt x="56" y="67"/>
                  </a:lnTo>
                  <a:lnTo>
                    <a:pt x="77" y="67"/>
                  </a:lnTo>
                  <a:lnTo>
                    <a:pt x="87" y="28"/>
                  </a:lnTo>
                  <a:lnTo>
                    <a:pt x="93" y="28"/>
                  </a:lnTo>
                  <a:lnTo>
                    <a:pt x="98" y="12"/>
                  </a:lnTo>
                  <a:lnTo>
                    <a:pt x="106" y="3"/>
                  </a:lnTo>
                  <a:lnTo>
                    <a:pt x="119" y="0"/>
                  </a:lnTo>
                  <a:lnTo>
                    <a:pt x="326" y="18"/>
                  </a:lnTo>
                  <a:lnTo>
                    <a:pt x="334" y="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902040" y="3206880"/>
              <a:ext cx="184320" cy="441360"/>
            </a:xfrm>
            <a:custGeom>
              <a:avLst/>
              <a:gdLst/>
              <a:ahLst/>
              <a:rect l="l" t="t" r="r" b="b"/>
              <a:pathLst>
                <a:path w="698" h="1668">
                  <a:moveTo>
                    <a:pt x="559" y="0"/>
                  </a:moveTo>
                  <a:lnTo>
                    <a:pt x="582" y="70"/>
                  </a:lnTo>
                  <a:lnTo>
                    <a:pt x="602" y="142"/>
                  </a:lnTo>
                  <a:lnTo>
                    <a:pt x="620" y="214"/>
                  </a:lnTo>
                  <a:lnTo>
                    <a:pt x="636" y="288"/>
                  </a:lnTo>
                  <a:lnTo>
                    <a:pt x="652" y="360"/>
                  </a:lnTo>
                  <a:lnTo>
                    <a:pt x="663" y="435"/>
                  </a:lnTo>
                  <a:lnTo>
                    <a:pt x="674" y="509"/>
                  </a:lnTo>
                  <a:lnTo>
                    <a:pt x="684" y="584"/>
                  </a:lnTo>
                  <a:lnTo>
                    <a:pt x="691" y="660"/>
                  </a:lnTo>
                  <a:lnTo>
                    <a:pt x="696" y="736"/>
                  </a:lnTo>
                  <a:lnTo>
                    <a:pt x="698" y="812"/>
                  </a:lnTo>
                  <a:lnTo>
                    <a:pt x="698" y="888"/>
                  </a:lnTo>
                  <a:lnTo>
                    <a:pt x="697" y="965"/>
                  </a:lnTo>
                  <a:lnTo>
                    <a:pt x="693" y="1042"/>
                  </a:lnTo>
                  <a:lnTo>
                    <a:pt x="687" y="1119"/>
                  </a:lnTo>
                  <a:lnTo>
                    <a:pt x="680" y="1197"/>
                  </a:lnTo>
                  <a:lnTo>
                    <a:pt x="672" y="1203"/>
                  </a:lnTo>
                  <a:lnTo>
                    <a:pt x="643" y="1224"/>
                  </a:lnTo>
                  <a:lnTo>
                    <a:pt x="608" y="1244"/>
                  </a:lnTo>
                  <a:lnTo>
                    <a:pt x="574" y="1264"/>
                  </a:lnTo>
                  <a:lnTo>
                    <a:pt x="545" y="1275"/>
                  </a:lnTo>
                  <a:lnTo>
                    <a:pt x="514" y="1288"/>
                  </a:lnTo>
                  <a:lnTo>
                    <a:pt x="485" y="1298"/>
                  </a:lnTo>
                  <a:lnTo>
                    <a:pt x="458" y="1400"/>
                  </a:lnTo>
                  <a:lnTo>
                    <a:pt x="457" y="1428"/>
                  </a:lnTo>
                  <a:lnTo>
                    <a:pt x="452" y="1459"/>
                  </a:lnTo>
                  <a:lnTo>
                    <a:pt x="449" y="1483"/>
                  </a:lnTo>
                  <a:lnTo>
                    <a:pt x="442" y="1508"/>
                  </a:lnTo>
                  <a:lnTo>
                    <a:pt x="432" y="1532"/>
                  </a:lnTo>
                  <a:lnTo>
                    <a:pt x="419" y="1558"/>
                  </a:lnTo>
                  <a:lnTo>
                    <a:pt x="406" y="1578"/>
                  </a:lnTo>
                  <a:lnTo>
                    <a:pt x="391" y="1596"/>
                  </a:lnTo>
                  <a:lnTo>
                    <a:pt x="387" y="1612"/>
                  </a:lnTo>
                  <a:lnTo>
                    <a:pt x="375" y="1631"/>
                  </a:lnTo>
                  <a:lnTo>
                    <a:pt x="358" y="1646"/>
                  </a:lnTo>
                  <a:lnTo>
                    <a:pt x="332" y="1659"/>
                  </a:lnTo>
                  <a:lnTo>
                    <a:pt x="294" y="1668"/>
                  </a:lnTo>
                  <a:lnTo>
                    <a:pt x="261" y="1668"/>
                  </a:lnTo>
                  <a:lnTo>
                    <a:pt x="229" y="1661"/>
                  </a:lnTo>
                  <a:lnTo>
                    <a:pt x="204" y="1653"/>
                  </a:lnTo>
                  <a:lnTo>
                    <a:pt x="185" y="1637"/>
                  </a:lnTo>
                  <a:lnTo>
                    <a:pt x="171" y="1624"/>
                  </a:lnTo>
                  <a:lnTo>
                    <a:pt x="156" y="1620"/>
                  </a:lnTo>
                  <a:lnTo>
                    <a:pt x="139" y="1591"/>
                  </a:lnTo>
                  <a:lnTo>
                    <a:pt x="128" y="1558"/>
                  </a:lnTo>
                  <a:lnTo>
                    <a:pt x="119" y="1529"/>
                  </a:lnTo>
                  <a:lnTo>
                    <a:pt x="113" y="1495"/>
                  </a:lnTo>
                  <a:lnTo>
                    <a:pt x="113" y="1462"/>
                  </a:lnTo>
                  <a:lnTo>
                    <a:pt x="108" y="1404"/>
                  </a:lnTo>
                  <a:lnTo>
                    <a:pt x="125" y="1371"/>
                  </a:lnTo>
                  <a:lnTo>
                    <a:pt x="133" y="1330"/>
                  </a:lnTo>
                  <a:lnTo>
                    <a:pt x="145" y="1312"/>
                  </a:lnTo>
                  <a:lnTo>
                    <a:pt x="141" y="1288"/>
                  </a:lnTo>
                  <a:lnTo>
                    <a:pt x="137" y="1267"/>
                  </a:lnTo>
                  <a:lnTo>
                    <a:pt x="100" y="1238"/>
                  </a:lnTo>
                  <a:lnTo>
                    <a:pt x="116" y="1213"/>
                  </a:lnTo>
                  <a:lnTo>
                    <a:pt x="137" y="1159"/>
                  </a:lnTo>
                  <a:lnTo>
                    <a:pt x="121" y="1161"/>
                  </a:lnTo>
                  <a:lnTo>
                    <a:pt x="108" y="1157"/>
                  </a:lnTo>
                  <a:lnTo>
                    <a:pt x="100" y="1153"/>
                  </a:lnTo>
                  <a:lnTo>
                    <a:pt x="93" y="1141"/>
                  </a:lnTo>
                  <a:lnTo>
                    <a:pt x="90" y="1132"/>
                  </a:lnTo>
                  <a:lnTo>
                    <a:pt x="80" y="1135"/>
                  </a:lnTo>
                  <a:lnTo>
                    <a:pt x="67" y="1132"/>
                  </a:lnTo>
                  <a:lnTo>
                    <a:pt x="55" y="1125"/>
                  </a:lnTo>
                  <a:lnTo>
                    <a:pt x="44" y="1117"/>
                  </a:lnTo>
                  <a:lnTo>
                    <a:pt x="36" y="1102"/>
                  </a:lnTo>
                  <a:lnTo>
                    <a:pt x="27" y="1088"/>
                  </a:lnTo>
                  <a:lnTo>
                    <a:pt x="23" y="1073"/>
                  </a:lnTo>
                  <a:lnTo>
                    <a:pt x="13" y="1069"/>
                  </a:lnTo>
                  <a:lnTo>
                    <a:pt x="2" y="982"/>
                  </a:lnTo>
                  <a:lnTo>
                    <a:pt x="12" y="979"/>
                  </a:lnTo>
                  <a:lnTo>
                    <a:pt x="12" y="941"/>
                  </a:lnTo>
                  <a:lnTo>
                    <a:pt x="0" y="940"/>
                  </a:lnTo>
                  <a:lnTo>
                    <a:pt x="2" y="917"/>
                  </a:lnTo>
                  <a:lnTo>
                    <a:pt x="10" y="900"/>
                  </a:lnTo>
                  <a:lnTo>
                    <a:pt x="12" y="889"/>
                  </a:lnTo>
                  <a:lnTo>
                    <a:pt x="18" y="881"/>
                  </a:lnTo>
                  <a:lnTo>
                    <a:pt x="23" y="865"/>
                  </a:lnTo>
                  <a:lnTo>
                    <a:pt x="25" y="856"/>
                  </a:lnTo>
                  <a:lnTo>
                    <a:pt x="29" y="847"/>
                  </a:lnTo>
                  <a:lnTo>
                    <a:pt x="53" y="840"/>
                  </a:lnTo>
                  <a:lnTo>
                    <a:pt x="44" y="824"/>
                  </a:lnTo>
                  <a:lnTo>
                    <a:pt x="51" y="795"/>
                  </a:lnTo>
                  <a:lnTo>
                    <a:pt x="53" y="788"/>
                  </a:lnTo>
                  <a:lnTo>
                    <a:pt x="55" y="783"/>
                  </a:lnTo>
                  <a:lnTo>
                    <a:pt x="62" y="783"/>
                  </a:lnTo>
                  <a:lnTo>
                    <a:pt x="62" y="775"/>
                  </a:lnTo>
                  <a:lnTo>
                    <a:pt x="100" y="775"/>
                  </a:lnTo>
                  <a:lnTo>
                    <a:pt x="100" y="783"/>
                  </a:lnTo>
                  <a:lnTo>
                    <a:pt x="103" y="783"/>
                  </a:lnTo>
                  <a:lnTo>
                    <a:pt x="108" y="788"/>
                  </a:lnTo>
                  <a:lnTo>
                    <a:pt x="110" y="796"/>
                  </a:lnTo>
                  <a:lnTo>
                    <a:pt x="113" y="810"/>
                  </a:lnTo>
                  <a:lnTo>
                    <a:pt x="113" y="824"/>
                  </a:lnTo>
                  <a:lnTo>
                    <a:pt x="110" y="832"/>
                  </a:lnTo>
                  <a:lnTo>
                    <a:pt x="106" y="837"/>
                  </a:lnTo>
                  <a:lnTo>
                    <a:pt x="113" y="840"/>
                  </a:lnTo>
                  <a:lnTo>
                    <a:pt x="121" y="840"/>
                  </a:lnTo>
                  <a:lnTo>
                    <a:pt x="128" y="837"/>
                  </a:lnTo>
                  <a:lnTo>
                    <a:pt x="133" y="829"/>
                  </a:lnTo>
                  <a:lnTo>
                    <a:pt x="129" y="820"/>
                  </a:lnTo>
                  <a:lnTo>
                    <a:pt x="113" y="824"/>
                  </a:lnTo>
                  <a:lnTo>
                    <a:pt x="113" y="810"/>
                  </a:lnTo>
                  <a:lnTo>
                    <a:pt x="134" y="808"/>
                  </a:lnTo>
                  <a:lnTo>
                    <a:pt x="141" y="810"/>
                  </a:lnTo>
                  <a:lnTo>
                    <a:pt x="147" y="812"/>
                  </a:lnTo>
                  <a:lnTo>
                    <a:pt x="153" y="816"/>
                  </a:lnTo>
                  <a:lnTo>
                    <a:pt x="150" y="790"/>
                  </a:lnTo>
                  <a:lnTo>
                    <a:pt x="142" y="764"/>
                  </a:lnTo>
                  <a:lnTo>
                    <a:pt x="182" y="597"/>
                  </a:lnTo>
                  <a:lnTo>
                    <a:pt x="191" y="568"/>
                  </a:lnTo>
                  <a:lnTo>
                    <a:pt x="199" y="549"/>
                  </a:lnTo>
                  <a:lnTo>
                    <a:pt x="213" y="531"/>
                  </a:lnTo>
                  <a:lnTo>
                    <a:pt x="202" y="492"/>
                  </a:lnTo>
                  <a:lnTo>
                    <a:pt x="198" y="466"/>
                  </a:lnTo>
                  <a:lnTo>
                    <a:pt x="199" y="441"/>
                  </a:lnTo>
                  <a:lnTo>
                    <a:pt x="209" y="413"/>
                  </a:lnTo>
                  <a:lnTo>
                    <a:pt x="228" y="378"/>
                  </a:lnTo>
                  <a:lnTo>
                    <a:pt x="248" y="350"/>
                  </a:lnTo>
                  <a:lnTo>
                    <a:pt x="277" y="322"/>
                  </a:lnTo>
                  <a:lnTo>
                    <a:pt x="305" y="306"/>
                  </a:lnTo>
                  <a:lnTo>
                    <a:pt x="323" y="288"/>
                  </a:lnTo>
                  <a:lnTo>
                    <a:pt x="339" y="277"/>
                  </a:lnTo>
                  <a:lnTo>
                    <a:pt x="358" y="272"/>
                  </a:lnTo>
                  <a:lnTo>
                    <a:pt x="375" y="272"/>
                  </a:lnTo>
                  <a:lnTo>
                    <a:pt x="395" y="277"/>
                  </a:lnTo>
                  <a:lnTo>
                    <a:pt x="439" y="268"/>
                  </a:lnTo>
                  <a:lnTo>
                    <a:pt x="444" y="252"/>
                  </a:lnTo>
                  <a:lnTo>
                    <a:pt x="437" y="226"/>
                  </a:lnTo>
                  <a:lnTo>
                    <a:pt x="442" y="224"/>
                  </a:lnTo>
                  <a:lnTo>
                    <a:pt x="437" y="195"/>
                  </a:lnTo>
                  <a:lnTo>
                    <a:pt x="434" y="167"/>
                  </a:lnTo>
                  <a:lnTo>
                    <a:pt x="434" y="137"/>
                  </a:lnTo>
                  <a:lnTo>
                    <a:pt x="442" y="106"/>
                  </a:lnTo>
                  <a:lnTo>
                    <a:pt x="452" y="73"/>
                  </a:lnTo>
                  <a:lnTo>
                    <a:pt x="470" y="49"/>
                  </a:lnTo>
                  <a:lnTo>
                    <a:pt x="485" y="34"/>
                  </a:lnTo>
                  <a:lnTo>
                    <a:pt x="527" y="11"/>
                  </a:lnTo>
                  <a:lnTo>
                    <a:pt x="558" y="0"/>
                  </a:lnTo>
                  <a:lnTo>
                    <a:pt x="559" y="0"/>
                  </a:lnTo>
                  <a:close/>
                  <a:moveTo>
                    <a:pt x="152" y="841"/>
                  </a:moveTo>
                  <a:lnTo>
                    <a:pt x="141" y="851"/>
                  </a:lnTo>
                  <a:lnTo>
                    <a:pt x="145" y="858"/>
                  </a:lnTo>
                  <a:lnTo>
                    <a:pt x="150" y="866"/>
                  </a:lnTo>
                  <a:lnTo>
                    <a:pt x="152" y="858"/>
                  </a:lnTo>
                  <a:lnTo>
                    <a:pt x="154" y="850"/>
                  </a:lnTo>
                  <a:lnTo>
                    <a:pt x="152" y="8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902040" y="3206880"/>
              <a:ext cx="179280" cy="441360"/>
            </a:xfrm>
            <a:custGeom>
              <a:avLst/>
              <a:gdLst/>
              <a:ahLst/>
              <a:rect l="l" t="t" r="r" b="b"/>
              <a:pathLst>
                <a:path w="680" h="1668">
                  <a:moveTo>
                    <a:pt x="680" y="1197"/>
                  </a:moveTo>
                  <a:lnTo>
                    <a:pt x="672" y="1203"/>
                  </a:lnTo>
                  <a:lnTo>
                    <a:pt x="643" y="1224"/>
                  </a:lnTo>
                  <a:lnTo>
                    <a:pt x="608" y="1244"/>
                  </a:lnTo>
                  <a:lnTo>
                    <a:pt x="574" y="1264"/>
                  </a:lnTo>
                  <a:lnTo>
                    <a:pt x="545" y="1275"/>
                  </a:lnTo>
                  <a:lnTo>
                    <a:pt x="514" y="1288"/>
                  </a:lnTo>
                  <a:lnTo>
                    <a:pt x="485" y="1298"/>
                  </a:lnTo>
                  <a:lnTo>
                    <a:pt x="458" y="1400"/>
                  </a:lnTo>
                  <a:lnTo>
                    <a:pt x="457" y="1428"/>
                  </a:lnTo>
                  <a:lnTo>
                    <a:pt x="452" y="1459"/>
                  </a:lnTo>
                  <a:lnTo>
                    <a:pt x="449" y="1483"/>
                  </a:lnTo>
                  <a:lnTo>
                    <a:pt x="442" y="1508"/>
                  </a:lnTo>
                  <a:lnTo>
                    <a:pt x="432" y="1532"/>
                  </a:lnTo>
                  <a:lnTo>
                    <a:pt x="419" y="1558"/>
                  </a:lnTo>
                  <a:lnTo>
                    <a:pt x="406" y="1578"/>
                  </a:lnTo>
                  <a:lnTo>
                    <a:pt x="391" y="1596"/>
                  </a:lnTo>
                  <a:lnTo>
                    <a:pt x="387" y="1612"/>
                  </a:lnTo>
                  <a:lnTo>
                    <a:pt x="375" y="1631"/>
                  </a:lnTo>
                  <a:lnTo>
                    <a:pt x="358" y="1646"/>
                  </a:lnTo>
                  <a:lnTo>
                    <a:pt x="332" y="1659"/>
                  </a:lnTo>
                  <a:lnTo>
                    <a:pt x="294" y="1668"/>
                  </a:lnTo>
                  <a:lnTo>
                    <a:pt x="261" y="1668"/>
                  </a:lnTo>
                  <a:lnTo>
                    <a:pt x="229" y="1661"/>
                  </a:lnTo>
                  <a:lnTo>
                    <a:pt x="204" y="1653"/>
                  </a:lnTo>
                  <a:lnTo>
                    <a:pt x="185" y="1637"/>
                  </a:lnTo>
                  <a:lnTo>
                    <a:pt x="171" y="1624"/>
                  </a:lnTo>
                  <a:lnTo>
                    <a:pt x="156" y="1620"/>
                  </a:lnTo>
                  <a:lnTo>
                    <a:pt x="139" y="1591"/>
                  </a:lnTo>
                  <a:lnTo>
                    <a:pt x="128" y="1558"/>
                  </a:lnTo>
                  <a:lnTo>
                    <a:pt x="119" y="1529"/>
                  </a:lnTo>
                  <a:lnTo>
                    <a:pt x="113" y="1495"/>
                  </a:lnTo>
                  <a:lnTo>
                    <a:pt x="113" y="1462"/>
                  </a:lnTo>
                  <a:lnTo>
                    <a:pt x="108" y="1404"/>
                  </a:lnTo>
                  <a:lnTo>
                    <a:pt x="125" y="1371"/>
                  </a:lnTo>
                  <a:lnTo>
                    <a:pt x="133" y="1330"/>
                  </a:lnTo>
                  <a:lnTo>
                    <a:pt x="145" y="1312"/>
                  </a:lnTo>
                  <a:lnTo>
                    <a:pt x="141" y="1288"/>
                  </a:lnTo>
                  <a:lnTo>
                    <a:pt x="137" y="1267"/>
                  </a:lnTo>
                  <a:lnTo>
                    <a:pt x="100" y="1238"/>
                  </a:lnTo>
                  <a:lnTo>
                    <a:pt x="116" y="1213"/>
                  </a:lnTo>
                  <a:lnTo>
                    <a:pt x="137" y="1159"/>
                  </a:lnTo>
                  <a:lnTo>
                    <a:pt x="121" y="1161"/>
                  </a:lnTo>
                  <a:lnTo>
                    <a:pt x="108" y="1157"/>
                  </a:lnTo>
                  <a:lnTo>
                    <a:pt x="100" y="1153"/>
                  </a:lnTo>
                  <a:lnTo>
                    <a:pt x="93" y="1141"/>
                  </a:lnTo>
                  <a:lnTo>
                    <a:pt x="90" y="1132"/>
                  </a:lnTo>
                  <a:lnTo>
                    <a:pt x="80" y="1135"/>
                  </a:lnTo>
                  <a:lnTo>
                    <a:pt x="67" y="1132"/>
                  </a:lnTo>
                  <a:lnTo>
                    <a:pt x="55" y="1125"/>
                  </a:lnTo>
                  <a:lnTo>
                    <a:pt x="44" y="1117"/>
                  </a:lnTo>
                  <a:lnTo>
                    <a:pt x="36" y="1102"/>
                  </a:lnTo>
                  <a:lnTo>
                    <a:pt x="27" y="1088"/>
                  </a:lnTo>
                  <a:lnTo>
                    <a:pt x="23" y="1073"/>
                  </a:lnTo>
                  <a:lnTo>
                    <a:pt x="13" y="1069"/>
                  </a:lnTo>
                  <a:lnTo>
                    <a:pt x="2" y="982"/>
                  </a:lnTo>
                  <a:lnTo>
                    <a:pt x="12" y="979"/>
                  </a:lnTo>
                  <a:lnTo>
                    <a:pt x="12" y="941"/>
                  </a:lnTo>
                  <a:lnTo>
                    <a:pt x="0" y="940"/>
                  </a:lnTo>
                  <a:lnTo>
                    <a:pt x="2" y="917"/>
                  </a:lnTo>
                  <a:lnTo>
                    <a:pt x="10" y="900"/>
                  </a:lnTo>
                  <a:lnTo>
                    <a:pt x="12" y="889"/>
                  </a:lnTo>
                  <a:lnTo>
                    <a:pt x="18" y="881"/>
                  </a:lnTo>
                  <a:lnTo>
                    <a:pt x="23" y="865"/>
                  </a:lnTo>
                  <a:lnTo>
                    <a:pt x="25" y="856"/>
                  </a:lnTo>
                  <a:lnTo>
                    <a:pt x="29" y="847"/>
                  </a:lnTo>
                  <a:lnTo>
                    <a:pt x="53" y="840"/>
                  </a:lnTo>
                  <a:lnTo>
                    <a:pt x="44" y="824"/>
                  </a:lnTo>
                  <a:lnTo>
                    <a:pt x="51" y="795"/>
                  </a:lnTo>
                  <a:lnTo>
                    <a:pt x="53" y="788"/>
                  </a:lnTo>
                  <a:lnTo>
                    <a:pt x="55" y="783"/>
                  </a:lnTo>
                  <a:lnTo>
                    <a:pt x="62" y="783"/>
                  </a:lnTo>
                  <a:lnTo>
                    <a:pt x="62" y="775"/>
                  </a:lnTo>
                  <a:lnTo>
                    <a:pt x="100" y="775"/>
                  </a:lnTo>
                  <a:lnTo>
                    <a:pt x="100" y="783"/>
                  </a:lnTo>
                  <a:lnTo>
                    <a:pt x="103" y="783"/>
                  </a:lnTo>
                  <a:lnTo>
                    <a:pt x="108" y="788"/>
                  </a:lnTo>
                  <a:lnTo>
                    <a:pt x="110" y="796"/>
                  </a:lnTo>
                  <a:lnTo>
                    <a:pt x="113" y="810"/>
                  </a:lnTo>
                  <a:lnTo>
                    <a:pt x="113" y="824"/>
                  </a:lnTo>
                  <a:lnTo>
                    <a:pt x="110" y="832"/>
                  </a:lnTo>
                  <a:lnTo>
                    <a:pt x="106" y="837"/>
                  </a:lnTo>
                  <a:lnTo>
                    <a:pt x="113" y="840"/>
                  </a:lnTo>
                  <a:lnTo>
                    <a:pt x="121" y="840"/>
                  </a:lnTo>
                  <a:lnTo>
                    <a:pt x="128" y="837"/>
                  </a:lnTo>
                  <a:lnTo>
                    <a:pt x="133" y="829"/>
                  </a:lnTo>
                  <a:lnTo>
                    <a:pt x="129" y="820"/>
                  </a:lnTo>
                  <a:lnTo>
                    <a:pt x="113" y="824"/>
                  </a:lnTo>
                  <a:lnTo>
                    <a:pt x="113" y="810"/>
                  </a:lnTo>
                  <a:lnTo>
                    <a:pt x="134" y="808"/>
                  </a:lnTo>
                  <a:lnTo>
                    <a:pt x="141" y="810"/>
                  </a:lnTo>
                  <a:lnTo>
                    <a:pt x="147" y="812"/>
                  </a:lnTo>
                  <a:lnTo>
                    <a:pt x="153" y="816"/>
                  </a:lnTo>
                  <a:lnTo>
                    <a:pt x="150" y="790"/>
                  </a:lnTo>
                  <a:lnTo>
                    <a:pt x="142" y="764"/>
                  </a:lnTo>
                  <a:lnTo>
                    <a:pt x="182" y="597"/>
                  </a:lnTo>
                  <a:lnTo>
                    <a:pt x="191" y="568"/>
                  </a:lnTo>
                  <a:lnTo>
                    <a:pt x="199" y="549"/>
                  </a:lnTo>
                  <a:lnTo>
                    <a:pt x="213" y="531"/>
                  </a:lnTo>
                  <a:lnTo>
                    <a:pt x="202" y="492"/>
                  </a:lnTo>
                  <a:lnTo>
                    <a:pt x="198" y="466"/>
                  </a:lnTo>
                  <a:lnTo>
                    <a:pt x="199" y="441"/>
                  </a:lnTo>
                  <a:lnTo>
                    <a:pt x="209" y="413"/>
                  </a:lnTo>
                  <a:lnTo>
                    <a:pt x="228" y="378"/>
                  </a:lnTo>
                  <a:lnTo>
                    <a:pt x="248" y="350"/>
                  </a:lnTo>
                  <a:lnTo>
                    <a:pt x="277" y="322"/>
                  </a:lnTo>
                  <a:lnTo>
                    <a:pt x="305" y="306"/>
                  </a:lnTo>
                  <a:lnTo>
                    <a:pt x="323" y="288"/>
                  </a:lnTo>
                  <a:lnTo>
                    <a:pt x="339" y="277"/>
                  </a:lnTo>
                  <a:lnTo>
                    <a:pt x="358" y="272"/>
                  </a:lnTo>
                  <a:lnTo>
                    <a:pt x="375" y="272"/>
                  </a:lnTo>
                  <a:lnTo>
                    <a:pt x="395" y="277"/>
                  </a:lnTo>
                  <a:lnTo>
                    <a:pt x="439" y="268"/>
                  </a:lnTo>
                  <a:lnTo>
                    <a:pt x="444" y="252"/>
                  </a:lnTo>
                  <a:lnTo>
                    <a:pt x="437" y="226"/>
                  </a:lnTo>
                  <a:lnTo>
                    <a:pt x="442" y="224"/>
                  </a:lnTo>
                  <a:lnTo>
                    <a:pt x="437" y="195"/>
                  </a:lnTo>
                  <a:lnTo>
                    <a:pt x="434" y="167"/>
                  </a:lnTo>
                  <a:lnTo>
                    <a:pt x="434" y="137"/>
                  </a:lnTo>
                  <a:lnTo>
                    <a:pt x="442" y="106"/>
                  </a:lnTo>
                  <a:lnTo>
                    <a:pt x="452" y="73"/>
                  </a:lnTo>
                  <a:lnTo>
                    <a:pt x="470" y="49"/>
                  </a:lnTo>
                  <a:lnTo>
                    <a:pt x="485" y="34"/>
                  </a:lnTo>
                  <a:lnTo>
                    <a:pt x="527" y="11"/>
                  </a:lnTo>
                  <a:lnTo>
                    <a:pt x="558" y="0"/>
                  </a:lnTo>
                  <a:lnTo>
                    <a:pt x="55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592360" y="2690640"/>
              <a:ext cx="1494000" cy="1495440"/>
            </a:xfrm>
            <a:custGeom>
              <a:avLst/>
              <a:gdLst/>
              <a:ahLst/>
              <a:rect l="l" t="t" r="r" b="b"/>
              <a:pathLst>
                <a:path w="5647" h="5653">
                  <a:moveTo>
                    <a:pt x="47" y="2312"/>
                  </a:moveTo>
                  <a:lnTo>
                    <a:pt x="77" y="2169"/>
                  </a:lnTo>
                  <a:lnTo>
                    <a:pt x="114" y="2030"/>
                  </a:lnTo>
                  <a:lnTo>
                    <a:pt x="157" y="1895"/>
                  </a:lnTo>
                  <a:lnTo>
                    <a:pt x="207" y="1763"/>
                  </a:lnTo>
                  <a:lnTo>
                    <a:pt x="263" y="1635"/>
                  </a:lnTo>
                  <a:lnTo>
                    <a:pt x="325" y="1510"/>
                  </a:lnTo>
                  <a:lnTo>
                    <a:pt x="393" y="1389"/>
                  </a:lnTo>
                  <a:lnTo>
                    <a:pt x="465" y="1273"/>
                  </a:lnTo>
                  <a:lnTo>
                    <a:pt x="544" y="1160"/>
                  </a:lnTo>
                  <a:lnTo>
                    <a:pt x="628" y="1050"/>
                  </a:lnTo>
                  <a:lnTo>
                    <a:pt x="716" y="947"/>
                  </a:lnTo>
                  <a:lnTo>
                    <a:pt x="810" y="847"/>
                  </a:lnTo>
                  <a:lnTo>
                    <a:pt x="907" y="753"/>
                  </a:lnTo>
                  <a:lnTo>
                    <a:pt x="1009" y="663"/>
                  </a:lnTo>
                  <a:lnTo>
                    <a:pt x="1116" y="579"/>
                  </a:lnTo>
                  <a:lnTo>
                    <a:pt x="1225" y="499"/>
                  </a:lnTo>
                  <a:lnTo>
                    <a:pt x="1339" y="424"/>
                  </a:lnTo>
                  <a:lnTo>
                    <a:pt x="1456" y="355"/>
                  </a:lnTo>
                  <a:lnTo>
                    <a:pt x="1576" y="292"/>
                  </a:lnTo>
                  <a:lnTo>
                    <a:pt x="1700" y="235"/>
                  </a:lnTo>
                  <a:lnTo>
                    <a:pt x="1826" y="184"/>
                  </a:lnTo>
                  <a:lnTo>
                    <a:pt x="1954" y="138"/>
                  </a:lnTo>
                  <a:lnTo>
                    <a:pt x="2085" y="99"/>
                  </a:lnTo>
                  <a:lnTo>
                    <a:pt x="2218" y="66"/>
                  </a:lnTo>
                  <a:lnTo>
                    <a:pt x="2354" y="39"/>
                  </a:lnTo>
                  <a:lnTo>
                    <a:pt x="2491" y="19"/>
                  </a:lnTo>
                  <a:lnTo>
                    <a:pt x="2629" y="6"/>
                  </a:lnTo>
                  <a:lnTo>
                    <a:pt x="2769" y="0"/>
                  </a:lnTo>
                  <a:lnTo>
                    <a:pt x="2910" y="1"/>
                  </a:lnTo>
                  <a:lnTo>
                    <a:pt x="3053" y="10"/>
                  </a:lnTo>
                  <a:lnTo>
                    <a:pt x="3195" y="24"/>
                  </a:lnTo>
                  <a:lnTo>
                    <a:pt x="3339" y="48"/>
                  </a:lnTo>
                  <a:lnTo>
                    <a:pt x="3480" y="77"/>
                  </a:lnTo>
                  <a:lnTo>
                    <a:pt x="3619" y="114"/>
                  </a:lnTo>
                  <a:lnTo>
                    <a:pt x="3754" y="158"/>
                  </a:lnTo>
                  <a:lnTo>
                    <a:pt x="3886" y="208"/>
                  </a:lnTo>
                  <a:lnTo>
                    <a:pt x="4014" y="264"/>
                  </a:lnTo>
                  <a:lnTo>
                    <a:pt x="4140" y="326"/>
                  </a:lnTo>
                  <a:lnTo>
                    <a:pt x="4260" y="393"/>
                  </a:lnTo>
                  <a:lnTo>
                    <a:pt x="4377" y="467"/>
                  </a:lnTo>
                  <a:lnTo>
                    <a:pt x="4490" y="545"/>
                  </a:lnTo>
                  <a:lnTo>
                    <a:pt x="4598" y="629"/>
                  </a:lnTo>
                  <a:lnTo>
                    <a:pt x="4701" y="718"/>
                  </a:lnTo>
                  <a:lnTo>
                    <a:pt x="4801" y="810"/>
                  </a:lnTo>
                  <a:lnTo>
                    <a:pt x="4896" y="909"/>
                  </a:lnTo>
                  <a:lnTo>
                    <a:pt x="4985" y="1011"/>
                  </a:lnTo>
                  <a:lnTo>
                    <a:pt x="5069" y="1117"/>
                  </a:lnTo>
                  <a:lnTo>
                    <a:pt x="5150" y="1227"/>
                  </a:lnTo>
                  <a:lnTo>
                    <a:pt x="5223" y="1340"/>
                  </a:lnTo>
                  <a:lnTo>
                    <a:pt x="5292" y="1458"/>
                  </a:lnTo>
                  <a:lnTo>
                    <a:pt x="5355" y="1578"/>
                  </a:lnTo>
                  <a:lnTo>
                    <a:pt x="5412" y="1701"/>
                  </a:lnTo>
                  <a:lnTo>
                    <a:pt x="5464" y="1827"/>
                  </a:lnTo>
                  <a:lnTo>
                    <a:pt x="5509" y="1957"/>
                  </a:lnTo>
                  <a:lnTo>
                    <a:pt x="5548" y="2088"/>
                  </a:lnTo>
                  <a:lnTo>
                    <a:pt x="5582" y="2222"/>
                  </a:lnTo>
                  <a:lnTo>
                    <a:pt x="5608" y="2357"/>
                  </a:lnTo>
                  <a:lnTo>
                    <a:pt x="5628" y="2494"/>
                  </a:lnTo>
                  <a:lnTo>
                    <a:pt x="5641" y="2633"/>
                  </a:lnTo>
                  <a:lnTo>
                    <a:pt x="5647" y="2773"/>
                  </a:lnTo>
                  <a:lnTo>
                    <a:pt x="5647" y="2913"/>
                  </a:lnTo>
                  <a:lnTo>
                    <a:pt x="5639" y="3056"/>
                  </a:lnTo>
                  <a:lnTo>
                    <a:pt x="5623" y="3198"/>
                  </a:lnTo>
                  <a:lnTo>
                    <a:pt x="5601" y="3342"/>
                  </a:lnTo>
                  <a:lnTo>
                    <a:pt x="5570" y="3483"/>
                  </a:lnTo>
                  <a:lnTo>
                    <a:pt x="5533" y="3622"/>
                  </a:lnTo>
                  <a:lnTo>
                    <a:pt x="5490" y="3758"/>
                  </a:lnTo>
                  <a:lnTo>
                    <a:pt x="5440" y="3891"/>
                  </a:lnTo>
                  <a:lnTo>
                    <a:pt x="5385" y="4019"/>
                  </a:lnTo>
                  <a:lnTo>
                    <a:pt x="5323" y="4144"/>
                  </a:lnTo>
                  <a:lnTo>
                    <a:pt x="5254" y="4265"/>
                  </a:lnTo>
                  <a:lnTo>
                    <a:pt x="5182" y="4382"/>
                  </a:lnTo>
                  <a:lnTo>
                    <a:pt x="5103" y="4494"/>
                  </a:lnTo>
                  <a:lnTo>
                    <a:pt x="5019" y="4603"/>
                  </a:lnTo>
                  <a:lnTo>
                    <a:pt x="4931" y="4707"/>
                  </a:lnTo>
                  <a:lnTo>
                    <a:pt x="4838" y="4806"/>
                  </a:lnTo>
                  <a:lnTo>
                    <a:pt x="4740" y="4901"/>
                  </a:lnTo>
                  <a:lnTo>
                    <a:pt x="4638" y="4990"/>
                  </a:lnTo>
                  <a:lnTo>
                    <a:pt x="4531" y="5075"/>
                  </a:lnTo>
                  <a:lnTo>
                    <a:pt x="4422" y="5155"/>
                  </a:lnTo>
                  <a:lnTo>
                    <a:pt x="4308" y="5229"/>
                  </a:lnTo>
                  <a:lnTo>
                    <a:pt x="4191" y="5297"/>
                  </a:lnTo>
                  <a:lnTo>
                    <a:pt x="4071" y="5360"/>
                  </a:lnTo>
                  <a:lnTo>
                    <a:pt x="3947" y="5419"/>
                  </a:lnTo>
                  <a:lnTo>
                    <a:pt x="3822" y="5470"/>
                  </a:lnTo>
                  <a:lnTo>
                    <a:pt x="3693" y="5515"/>
                  </a:lnTo>
                  <a:lnTo>
                    <a:pt x="3562" y="5554"/>
                  </a:lnTo>
                  <a:lnTo>
                    <a:pt x="3429" y="5587"/>
                  </a:lnTo>
                  <a:lnTo>
                    <a:pt x="3294" y="5614"/>
                  </a:lnTo>
                  <a:lnTo>
                    <a:pt x="3156" y="5634"/>
                  </a:lnTo>
                  <a:lnTo>
                    <a:pt x="3018" y="5647"/>
                  </a:lnTo>
                  <a:lnTo>
                    <a:pt x="2878" y="5653"/>
                  </a:lnTo>
                  <a:lnTo>
                    <a:pt x="2737" y="5653"/>
                  </a:lnTo>
                  <a:lnTo>
                    <a:pt x="2595" y="5644"/>
                  </a:lnTo>
                  <a:lnTo>
                    <a:pt x="2452" y="5629"/>
                  </a:lnTo>
                  <a:lnTo>
                    <a:pt x="2309" y="5606"/>
                  </a:lnTo>
                  <a:lnTo>
                    <a:pt x="2167" y="5577"/>
                  </a:lnTo>
                  <a:lnTo>
                    <a:pt x="2028" y="5540"/>
                  </a:lnTo>
                  <a:lnTo>
                    <a:pt x="1893" y="5496"/>
                  </a:lnTo>
                  <a:lnTo>
                    <a:pt x="1761" y="5446"/>
                  </a:lnTo>
                  <a:lnTo>
                    <a:pt x="1633" y="5390"/>
                  </a:lnTo>
                  <a:lnTo>
                    <a:pt x="1507" y="5328"/>
                  </a:lnTo>
                  <a:lnTo>
                    <a:pt x="1388" y="5261"/>
                  </a:lnTo>
                  <a:lnTo>
                    <a:pt x="1270" y="5187"/>
                  </a:lnTo>
                  <a:lnTo>
                    <a:pt x="1157" y="5109"/>
                  </a:lnTo>
                  <a:lnTo>
                    <a:pt x="1049" y="5024"/>
                  </a:lnTo>
                  <a:lnTo>
                    <a:pt x="946" y="4936"/>
                  </a:lnTo>
                  <a:lnTo>
                    <a:pt x="846" y="4842"/>
                  </a:lnTo>
                  <a:lnTo>
                    <a:pt x="752" y="4745"/>
                  </a:lnTo>
                  <a:lnTo>
                    <a:pt x="662" y="4643"/>
                  </a:lnTo>
                  <a:lnTo>
                    <a:pt x="578" y="4537"/>
                  </a:lnTo>
                  <a:lnTo>
                    <a:pt x="499" y="4427"/>
                  </a:lnTo>
                  <a:lnTo>
                    <a:pt x="424" y="4313"/>
                  </a:lnTo>
                  <a:lnTo>
                    <a:pt x="355" y="4196"/>
                  </a:lnTo>
                  <a:lnTo>
                    <a:pt x="292" y="4075"/>
                  </a:lnTo>
                  <a:lnTo>
                    <a:pt x="235" y="3951"/>
                  </a:lnTo>
                  <a:lnTo>
                    <a:pt x="183" y="3826"/>
                  </a:lnTo>
                  <a:lnTo>
                    <a:pt x="138" y="3697"/>
                  </a:lnTo>
                  <a:lnTo>
                    <a:pt x="99" y="3565"/>
                  </a:lnTo>
                  <a:lnTo>
                    <a:pt x="66" y="3432"/>
                  </a:lnTo>
                  <a:lnTo>
                    <a:pt x="39" y="3297"/>
                  </a:lnTo>
                  <a:lnTo>
                    <a:pt x="19" y="3160"/>
                  </a:lnTo>
                  <a:lnTo>
                    <a:pt x="6" y="3021"/>
                  </a:lnTo>
                  <a:lnTo>
                    <a:pt x="0" y="2881"/>
                  </a:lnTo>
                  <a:lnTo>
                    <a:pt x="0" y="2740"/>
                  </a:lnTo>
                  <a:lnTo>
                    <a:pt x="9" y="2598"/>
                  </a:lnTo>
                  <a:lnTo>
                    <a:pt x="24" y="2455"/>
                  </a:lnTo>
                  <a:lnTo>
                    <a:pt x="47" y="2312"/>
                  </a:lnTo>
                </a:path>
              </a:pathLst>
            </a:custGeom>
            <a:noFill/>
            <a:ln w="23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3355920" y="2057400"/>
            <a:ext cx="3200400" cy="3884760"/>
            <a:chOff x="3355920" y="2057400"/>
            <a:chExt cx="3200400" cy="3884760"/>
          </a:xfrm>
        </p:grpSpPr>
        <p:sp>
          <p:nvSpPr>
            <p:cNvPr id="1020" name=""/>
            <p:cNvSpPr/>
            <p:nvPr/>
          </p:nvSpPr>
          <p:spPr>
            <a:xfrm>
              <a:off x="5105520" y="3216240"/>
              <a:ext cx="1352520" cy="2227320"/>
            </a:xfrm>
            <a:custGeom>
              <a:avLst/>
              <a:gdLst/>
              <a:ahLst/>
              <a:rect l="l" t="t" r="r" b="b"/>
              <a:pathLst>
                <a:path w="5108" h="8415">
                  <a:moveTo>
                    <a:pt x="553" y="8388"/>
                  </a:moveTo>
                  <a:lnTo>
                    <a:pt x="74" y="8415"/>
                  </a:lnTo>
                  <a:lnTo>
                    <a:pt x="0" y="7254"/>
                  </a:lnTo>
                  <a:lnTo>
                    <a:pt x="376" y="7229"/>
                  </a:lnTo>
                  <a:lnTo>
                    <a:pt x="705" y="7154"/>
                  </a:lnTo>
                  <a:lnTo>
                    <a:pt x="1309" y="7002"/>
                  </a:lnTo>
                  <a:lnTo>
                    <a:pt x="1913" y="6726"/>
                  </a:lnTo>
                  <a:lnTo>
                    <a:pt x="2467" y="6397"/>
                  </a:lnTo>
                  <a:lnTo>
                    <a:pt x="2867" y="5970"/>
                  </a:lnTo>
                  <a:lnTo>
                    <a:pt x="3221" y="5466"/>
                  </a:lnTo>
                  <a:lnTo>
                    <a:pt x="3549" y="4936"/>
                  </a:lnTo>
                  <a:lnTo>
                    <a:pt x="3699" y="4410"/>
                  </a:lnTo>
                  <a:lnTo>
                    <a:pt x="3774" y="3805"/>
                  </a:lnTo>
                  <a:lnTo>
                    <a:pt x="3699" y="3275"/>
                  </a:lnTo>
                  <a:lnTo>
                    <a:pt x="3549" y="2722"/>
                  </a:lnTo>
                  <a:lnTo>
                    <a:pt x="3221" y="2143"/>
                  </a:lnTo>
                  <a:lnTo>
                    <a:pt x="2894" y="1715"/>
                  </a:lnTo>
                  <a:lnTo>
                    <a:pt x="2467" y="1287"/>
                  </a:lnTo>
                  <a:lnTo>
                    <a:pt x="2164" y="1083"/>
                  </a:lnTo>
                  <a:lnTo>
                    <a:pt x="1988" y="985"/>
                  </a:lnTo>
                  <a:lnTo>
                    <a:pt x="2643" y="0"/>
                  </a:lnTo>
                  <a:lnTo>
                    <a:pt x="2969" y="177"/>
                  </a:lnTo>
                  <a:lnTo>
                    <a:pt x="3346" y="429"/>
                  </a:lnTo>
                  <a:lnTo>
                    <a:pt x="3977" y="1009"/>
                  </a:lnTo>
                  <a:lnTo>
                    <a:pt x="4404" y="1613"/>
                  </a:lnTo>
                  <a:lnTo>
                    <a:pt x="4781" y="2344"/>
                  </a:lnTo>
                  <a:lnTo>
                    <a:pt x="5033" y="3074"/>
                  </a:lnTo>
                  <a:lnTo>
                    <a:pt x="5108" y="3805"/>
                  </a:lnTo>
                  <a:lnTo>
                    <a:pt x="4982" y="4611"/>
                  </a:lnTo>
                  <a:lnTo>
                    <a:pt x="4781" y="5290"/>
                  </a:lnTo>
                  <a:lnTo>
                    <a:pt x="4404" y="6020"/>
                  </a:lnTo>
                  <a:lnTo>
                    <a:pt x="3848" y="6726"/>
                  </a:lnTo>
                  <a:lnTo>
                    <a:pt x="3346" y="7229"/>
                  </a:lnTo>
                  <a:lnTo>
                    <a:pt x="2616" y="7684"/>
                  </a:lnTo>
                  <a:lnTo>
                    <a:pt x="1863" y="8062"/>
                  </a:lnTo>
                  <a:lnTo>
                    <a:pt x="1031" y="8286"/>
                  </a:lnTo>
                  <a:lnTo>
                    <a:pt x="553" y="8388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105520" y="3216240"/>
              <a:ext cx="1352520" cy="2227320"/>
            </a:xfrm>
            <a:custGeom>
              <a:avLst/>
              <a:gdLst/>
              <a:ahLst/>
              <a:rect l="l" t="t" r="r" b="b"/>
              <a:pathLst>
                <a:path w="5108" h="8415">
                  <a:moveTo>
                    <a:pt x="553" y="8388"/>
                  </a:moveTo>
                  <a:lnTo>
                    <a:pt x="74" y="8415"/>
                  </a:lnTo>
                  <a:lnTo>
                    <a:pt x="0" y="7254"/>
                  </a:lnTo>
                  <a:lnTo>
                    <a:pt x="376" y="7229"/>
                  </a:lnTo>
                  <a:lnTo>
                    <a:pt x="705" y="7154"/>
                  </a:lnTo>
                  <a:lnTo>
                    <a:pt x="1309" y="7002"/>
                  </a:lnTo>
                  <a:lnTo>
                    <a:pt x="1913" y="6726"/>
                  </a:lnTo>
                  <a:lnTo>
                    <a:pt x="2467" y="6397"/>
                  </a:lnTo>
                  <a:lnTo>
                    <a:pt x="2867" y="5970"/>
                  </a:lnTo>
                  <a:lnTo>
                    <a:pt x="3221" y="5466"/>
                  </a:lnTo>
                  <a:lnTo>
                    <a:pt x="3549" y="4936"/>
                  </a:lnTo>
                  <a:lnTo>
                    <a:pt x="3699" y="4410"/>
                  </a:lnTo>
                  <a:lnTo>
                    <a:pt x="3774" y="3805"/>
                  </a:lnTo>
                  <a:lnTo>
                    <a:pt x="3699" y="3275"/>
                  </a:lnTo>
                  <a:lnTo>
                    <a:pt x="3549" y="2722"/>
                  </a:lnTo>
                  <a:lnTo>
                    <a:pt x="3221" y="2143"/>
                  </a:lnTo>
                  <a:lnTo>
                    <a:pt x="2894" y="1715"/>
                  </a:lnTo>
                  <a:lnTo>
                    <a:pt x="2467" y="1287"/>
                  </a:lnTo>
                  <a:lnTo>
                    <a:pt x="2164" y="1083"/>
                  </a:lnTo>
                  <a:lnTo>
                    <a:pt x="1988" y="985"/>
                  </a:lnTo>
                  <a:lnTo>
                    <a:pt x="2643" y="0"/>
                  </a:lnTo>
                  <a:lnTo>
                    <a:pt x="2969" y="177"/>
                  </a:lnTo>
                  <a:lnTo>
                    <a:pt x="3346" y="429"/>
                  </a:lnTo>
                  <a:lnTo>
                    <a:pt x="3977" y="1009"/>
                  </a:lnTo>
                  <a:lnTo>
                    <a:pt x="4404" y="1613"/>
                  </a:lnTo>
                  <a:lnTo>
                    <a:pt x="4781" y="2344"/>
                  </a:lnTo>
                  <a:lnTo>
                    <a:pt x="5033" y="3074"/>
                  </a:lnTo>
                  <a:lnTo>
                    <a:pt x="5108" y="3805"/>
                  </a:lnTo>
                  <a:lnTo>
                    <a:pt x="4982" y="4611"/>
                  </a:lnTo>
                  <a:lnTo>
                    <a:pt x="4781" y="5290"/>
                  </a:lnTo>
                  <a:lnTo>
                    <a:pt x="4404" y="6020"/>
                  </a:lnTo>
                  <a:lnTo>
                    <a:pt x="3848" y="6726"/>
                  </a:lnTo>
                  <a:lnTo>
                    <a:pt x="3346" y="7229"/>
                  </a:lnTo>
                  <a:lnTo>
                    <a:pt x="2616" y="7684"/>
                  </a:lnTo>
                  <a:lnTo>
                    <a:pt x="1863" y="8062"/>
                  </a:lnTo>
                  <a:lnTo>
                    <a:pt x="1031" y="8286"/>
                  </a:lnTo>
                  <a:lnTo>
                    <a:pt x="553" y="83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94240" y="2057400"/>
              <a:ext cx="2062080" cy="2252520"/>
            </a:xfrm>
            <a:custGeom>
              <a:avLst/>
              <a:gdLst/>
              <a:ahLst/>
              <a:rect l="l" t="t" r="r" b="b"/>
              <a:pathLst>
                <a:path w="7800" h="8514">
                  <a:moveTo>
                    <a:pt x="1208" y="5392"/>
                  </a:moveTo>
                  <a:lnTo>
                    <a:pt x="2115" y="4233"/>
                  </a:lnTo>
                  <a:lnTo>
                    <a:pt x="2316" y="4334"/>
                  </a:lnTo>
                  <a:lnTo>
                    <a:pt x="4783" y="1287"/>
                  </a:lnTo>
                  <a:lnTo>
                    <a:pt x="5033" y="1488"/>
                  </a:lnTo>
                  <a:lnTo>
                    <a:pt x="5210" y="1159"/>
                  </a:lnTo>
                  <a:lnTo>
                    <a:pt x="5411" y="1261"/>
                  </a:lnTo>
                  <a:lnTo>
                    <a:pt x="6391" y="0"/>
                  </a:lnTo>
                  <a:lnTo>
                    <a:pt x="7800" y="859"/>
                  </a:lnTo>
                  <a:lnTo>
                    <a:pt x="6846" y="2092"/>
                  </a:lnTo>
                  <a:lnTo>
                    <a:pt x="6945" y="2192"/>
                  </a:lnTo>
                  <a:lnTo>
                    <a:pt x="6720" y="2445"/>
                  </a:lnTo>
                  <a:lnTo>
                    <a:pt x="6971" y="2646"/>
                  </a:lnTo>
                  <a:lnTo>
                    <a:pt x="4480" y="5670"/>
                  </a:lnTo>
                  <a:lnTo>
                    <a:pt x="4705" y="5769"/>
                  </a:lnTo>
                  <a:lnTo>
                    <a:pt x="3750" y="6954"/>
                  </a:lnTo>
                  <a:lnTo>
                    <a:pt x="3599" y="6828"/>
                  </a:lnTo>
                  <a:lnTo>
                    <a:pt x="2190" y="8514"/>
                  </a:lnTo>
                  <a:lnTo>
                    <a:pt x="0" y="7229"/>
                  </a:lnTo>
                  <a:lnTo>
                    <a:pt x="1362" y="5541"/>
                  </a:lnTo>
                  <a:lnTo>
                    <a:pt x="1208" y="5392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494240" y="2057400"/>
              <a:ext cx="2062080" cy="2252520"/>
            </a:xfrm>
            <a:custGeom>
              <a:avLst/>
              <a:gdLst/>
              <a:ahLst/>
              <a:rect l="l" t="t" r="r" b="b"/>
              <a:pathLst>
                <a:path w="7800" h="8514">
                  <a:moveTo>
                    <a:pt x="1208" y="5392"/>
                  </a:moveTo>
                  <a:lnTo>
                    <a:pt x="2115" y="4233"/>
                  </a:lnTo>
                  <a:lnTo>
                    <a:pt x="2316" y="4334"/>
                  </a:lnTo>
                  <a:lnTo>
                    <a:pt x="4783" y="1287"/>
                  </a:lnTo>
                  <a:lnTo>
                    <a:pt x="5033" y="1488"/>
                  </a:lnTo>
                  <a:lnTo>
                    <a:pt x="5210" y="1159"/>
                  </a:lnTo>
                  <a:lnTo>
                    <a:pt x="5411" y="1261"/>
                  </a:lnTo>
                  <a:lnTo>
                    <a:pt x="6391" y="0"/>
                  </a:lnTo>
                  <a:lnTo>
                    <a:pt x="7800" y="859"/>
                  </a:lnTo>
                  <a:lnTo>
                    <a:pt x="6846" y="2092"/>
                  </a:lnTo>
                  <a:lnTo>
                    <a:pt x="6945" y="2192"/>
                  </a:lnTo>
                  <a:lnTo>
                    <a:pt x="6720" y="2445"/>
                  </a:lnTo>
                  <a:lnTo>
                    <a:pt x="6971" y="2646"/>
                  </a:lnTo>
                  <a:lnTo>
                    <a:pt x="4480" y="5670"/>
                  </a:lnTo>
                  <a:lnTo>
                    <a:pt x="4705" y="5769"/>
                  </a:lnTo>
                  <a:lnTo>
                    <a:pt x="3750" y="6954"/>
                  </a:lnTo>
                  <a:lnTo>
                    <a:pt x="3599" y="6828"/>
                  </a:lnTo>
                  <a:lnTo>
                    <a:pt x="2190" y="8514"/>
                  </a:lnTo>
                  <a:lnTo>
                    <a:pt x="0" y="7229"/>
                  </a:lnTo>
                  <a:lnTo>
                    <a:pt x="1362" y="5541"/>
                  </a:lnTo>
                  <a:lnTo>
                    <a:pt x="1208" y="539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355920" y="4716360"/>
              <a:ext cx="2476440" cy="1225800"/>
            </a:xfrm>
            <a:custGeom>
              <a:avLst/>
              <a:gdLst/>
              <a:ahLst/>
              <a:rect l="l" t="t" r="r" b="b"/>
              <a:pathLst>
                <a:path w="9360" h="4636">
                  <a:moveTo>
                    <a:pt x="705" y="4056"/>
                  </a:moveTo>
                  <a:lnTo>
                    <a:pt x="2014" y="1134"/>
                  </a:lnTo>
                  <a:lnTo>
                    <a:pt x="4052" y="1134"/>
                  </a:lnTo>
                  <a:lnTo>
                    <a:pt x="4052" y="530"/>
                  </a:lnTo>
                  <a:lnTo>
                    <a:pt x="705" y="530"/>
                  </a:lnTo>
                  <a:lnTo>
                    <a:pt x="705" y="0"/>
                  </a:lnTo>
                  <a:lnTo>
                    <a:pt x="8681" y="0"/>
                  </a:lnTo>
                  <a:lnTo>
                    <a:pt x="8681" y="530"/>
                  </a:lnTo>
                  <a:lnTo>
                    <a:pt x="5410" y="530"/>
                  </a:lnTo>
                  <a:lnTo>
                    <a:pt x="5410" y="1134"/>
                  </a:lnTo>
                  <a:lnTo>
                    <a:pt x="7348" y="1134"/>
                  </a:lnTo>
                  <a:lnTo>
                    <a:pt x="8681" y="4056"/>
                  </a:lnTo>
                  <a:lnTo>
                    <a:pt x="9360" y="4056"/>
                  </a:lnTo>
                  <a:lnTo>
                    <a:pt x="9360" y="4636"/>
                  </a:lnTo>
                  <a:lnTo>
                    <a:pt x="0" y="4636"/>
                  </a:lnTo>
                  <a:lnTo>
                    <a:pt x="0" y="4056"/>
                  </a:lnTo>
                  <a:lnTo>
                    <a:pt x="705" y="40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355920" y="4716360"/>
              <a:ext cx="2476440" cy="1225800"/>
            </a:xfrm>
            <a:custGeom>
              <a:avLst/>
              <a:gdLst/>
              <a:ahLst/>
              <a:rect l="l" t="t" r="r" b="b"/>
              <a:pathLst>
                <a:path w="9360" h="4636">
                  <a:moveTo>
                    <a:pt x="705" y="4056"/>
                  </a:moveTo>
                  <a:lnTo>
                    <a:pt x="2014" y="1134"/>
                  </a:lnTo>
                  <a:lnTo>
                    <a:pt x="4052" y="1134"/>
                  </a:lnTo>
                  <a:lnTo>
                    <a:pt x="4052" y="530"/>
                  </a:lnTo>
                  <a:lnTo>
                    <a:pt x="705" y="530"/>
                  </a:lnTo>
                  <a:lnTo>
                    <a:pt x="705" y="0"/>
                  </a:lnTo>
                  <a:lnTo>
                    <a:pt x="8681" y="0"/>
                  </a:lnTo>
                  <a:lnTo>
                    <a:pt x="8681" y="530"/>
                  </a:lnTo>
                  <a:lnTo>
                    <a:pt x="5410" y="530"/>
                  </a:lnTo>
                  <a:lnTo>
                    <a:pt x="5410" y="1134"/>
                  </a:lnTo>
                  <a:lnTo>
                    <a:pt x="7348" y="1134"/>
                  </a:lnTo>
                  <a:lnTo>
                    <a:pt x="8681" y="4056"/>
                  </a:lnTo>
                  <a:lnTo>
                    <a:pt x="9360" y="4056"/>
                  </a:lnTo>
                  <a:lnTo>
                    <a:pt x="9360" y="4636"/>
                  </a:lnTo>
                  <a:lnTo>
                    <a:pt x="0" y="4636"/>
                  </a:lnTo>
                  <a:lnTo>
                    <a:pt x="0" y="4056"/>
                  </a:lnTo>
                  <a:lnTo>
                    <a:pt x="705" y="40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334040" y="5189400"/>
              <a:ext cx="525240" cy="525600"/>
            </a:xfrm>
            <a:custGeom>
              <a:avLst/>
              <a:gdLst/>
              <a:ahLst/>
              <a:rect l="l" t="t" r="r" b="b"/>
              <a:pathLst>
                <a:path w="1988" h="1988">
                  <a:moveTo>
                    <a:pt x="1988" y="981"/>
                  </a:moveTo>
                  <a:lnTo>
                    <a:pt x="1988" y="931"/>
                  </a:lnTo>
                  <a:lnTo>
                    <a:pt x="1965" y="829"/>
                  </a:lnTo>
                  <a:lnTo>
                    <a:pt x="1937" y="731"/>
                  </a:lnTo>
                  <a:lnTo>
                    <a:pt x="1913" y="655"/>
                  </a:lnTo>
                  <a:lnTo>
                    <a:pt x="1887" y="554"/>
                  </a:lnTo>
                  <a:lnTo>
                    <a:pt x="1836" y="479"/>
                  </a:lnTo>
                  <a:lnTo>
                    <a:pt x="1788" y="402"/>
                  </a:lnTo>
                  <a:lnTo>
                    <a:pt x="1711" y="327"/>
                  </a:lnTo>
                  <a:lnTo>
                    <a:pt x="1662" y="251"/>
                  </a:lnTo>
                  <a:lnTo>
                    <a:pt x="1585" y="201"/>
                  </a:lnTo>
                  <a:lnTo>
                    <a:pt x="1486" y="150"/>
                  </a:lnTo>
                  <a:lnTo>
                    <a:pt x="1408" y="99"/>
                  </a:lnTo>
                  <a:lnTo>
                    <a:pt x="1333" y="50"/>
                  </a:lnTo>
                  <a:lnTo>
                    <a:pt x="1235" y="24"/>
                  </a:lnTo>
                  <a:lnTo>
                    <a:pt x="1133" y="0"/>
                  </a:lnTo>
                  <a:lnTo>
                    <a:pt x="981" y="0"/>
                  </a:lnTo>
                  <a:lnTo>
                    <a:pt x="932" y="0"/>
                  </a:lnTo>
                  <a:lnTo>
                    <a:pt x="831" y="0"/>
                  </a:lnTo>
                  <a:lnTo>
                    <a:pt x="729" y="24"/>
                  </a:lnTo>
                  <a:lnTo>
                    <a:pt x="631" y="50"/>
                  </a:lnTo>
                  <a:lnTo>
                    <a:pt x="553" y="99"/>
                  </a:lnTo>
                  <a:lnTo>
                    <a:pt x="479" y="150"/>
                  </a:lnTo>
                  <a:lnTo>
                    <a:pt x="377" y="201"/>
                  </a:lnTo>
                  <a:lnTo>
                    <a:pt x="302" y="251"/>
                  </a:lnTo>
                  <a:lnTo>
                    <a:pt x="251" y="327"/>
                  </a:lnTo>
                  <a:lnTo>
                    <a:pt x="176" y="402"/>
                  </a:lnTo>
                  <a:lnTo>
                    <a:pt x="125" y="479"/>
                  </a:lnTo>
                  <a:lnTo>
                    <a:pt x="75" y="554"/>
                  </a:lnTo>
                  <a:lnTo>
                    <a:pt x="50" y="655"/>
                  </a:lnTo>
                  <a:lnTo>
                    <a:pt x="27" y="731"/>
                  </a:lnTo>
                  <a:lnTo>
                    <a:pt x="0" y="829"/>
                  </a:lnTo>
                  <a:lnTo>
                    <a:pt x="0" y="981"/>
                  </a:lnTo>
                  <a:lnTo>
                    <a:pt x="0" y="1032"/>
                  </a:lnTo>
                  <a:lnTo>
                    <a:pt x="0" y="1132"/>
                  </a:lnTo>
                  <a:lnTo>
                    <a:pt x="27" y="1233"/>
                  </a:lnTo>
                  <a:lnTo>
                    <a:pt x="50" y="1335"/>
                  </a:lnTo>
                  <a:lnTo>
                    <a:pt x="75" y="1434"/>
                  </a:lnTo>
                  <a:lnTo>
                    <a:pt x="125" y="1511"/>
                  </a:lnTo>
                  <a:lnTo>
                    <a:pt x="176" y="1586"/>
                  </a:lnTo>
                  <a:lnTo>
                    <a:pt x="251" y="1661"/>
                  </a:lnTo>
                  <a:lnTo>
                    <a:pt x="302" y="1737"/>
                  </a:lnTo>
                  <a:lnTo>
                    <a:pt x="377" y="1787"/>
                  </a:lnTo>
                  <a:lnTo>
                    <a:pt x="479" y="1838"/>
                  </a:lnTo>
                  <a:lnTo>
                    <a:pt x="553" y="1889"/>
                  </a:lnTo>
                  <a:lnTo>
                    <a:pt x="631" y="1940"/>
                  </a:lnTo>
                  <a:lnTo>
                    <a:pt x="729" y="1964"/>
                  </a:lnTo>
                  <a:lnTo>
                    <a:pt x="831" y="1988"/>
                  </a:lnTo>
                  <a:lnTo>
                    <a:pt x="981" y="1988"/>
                  </a:lnTo>
                  <a:lnTo>
                    <a:pt x="1032" y="1988"/>
                  </a:lnTo>
                  <a:lnTo>
                    <a:pt x="1133" y="1988"/>
                  </a:lnTo>
                  <a:lnTo>
                    <a:pt x="1235" y="1964"/>
                  </a:lnTo>
                  <a:lnTo>
                    <a:pt x="1333" y="1940"/>
                  </a:lnTo>
                  <a:lnTo>
                    <a:pt x="1408" y="1889"/>
                  </a:lnTo>
                  <a:lnTo>
                    <a:pt x="1486" y="1838"/>
                  </a:lnTo>
                  <a:lnTo>
                    <a:pt x="1585" y="1787"/>
                  </a:lnTo>
                  <a:lnTo>
                    <a:pt x="1662" y="1737"/>
                  </a:lnTo>
                  <a:lnTo>
                    <a:pt x="1711" y="1661"/>
                  </a:lnTo>
                  <a:lnTo>
                    <a:pt x="1788" y="1586"/>
                  </a:lnTo>
                  <a:lnTo>
                    <a:pt x="1836" y="1511"/>
                  </a:lnTo>
                  <a:lnTo>
                    <a:pt x="1887" y="1434"/>
                  </a:lnTo>
                  <a:lnTo>
                    <a:pt x="1913" y="1335"/>
                  </a:lnTo>
                  <a:lnTo>
                    <a:pt x="1937" y="1233"/>
                  </a:lnTo>
                  <a:lnTo>
                    <a:pt x="1965" y="1132"/>
                  </a:lnTo>
                  <a:lnTo>
                    <a:pt x="1988" y="981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334040" y="5189400"/>
              <a:ext cx="525240" cy="525600"/>
            </a:xfrm>
            <a:custGeom>
              <a:avLst/>
              <a:gdLst/>
              <a:ahLst/>
              <a:rect l="l" t="t" r="r" b="b"/>
              <a:pathLst>
                <a:path w="1988" h="1988">
                  <a:moveTo>
                    <a:pt x="1988" y="981"/>
                  </a:moveTo>
                  <a:lnTo>
                    <a:pt x="1988" y="931"/>
                  </a:lnTo>
                  <a:lnTo>
                    <a:pt x="1965" y="829"/>
                  </a:lnTo>
                  <a:lnTo>
                    <a:pt x="1937" y="731"/>
                  </a:lnTo>
                  <a:lnTo>
                    <a:pt x="1913" y="655"/>
                  </a:lnTo>
                  <a:lnTo>
                    <a:pt x="1887" y="554"/>
                  </a:lnTo>
                  <a:lnTo>
                    <a:pt x="1836" y="479"/>
                  </a:lnTo>
                  <a:lnTo>
                    <a:pt x="1788" y="402"/>
                  </a:lnTo>
                  <a:lnTo>
                    <a:pt x="1711" y="327"/>
                  </a:lnTo>
                  <a:lnTo>
                    <a:pt x="1662" y="251"/>
                  </a:lnTo>
                  <a:lnTo>
                    <a:pt x="1585" y="201"/>
                  </a:lnTo>
                  <a:lnTo>
                    <a:pt x="1486" y="150"/>
                  </a:lnTo>
                  <a:lnTo>
                    <a:pt x="1408" y="99"/>
                  </a:lnTo>
                  <a:lnTo>
                    <a:pt x="1333" y="50"/>
                  </a:lnTo>
                  <a:lnTo>
                    <a:pt x="1235" y="24"/>
                  </a:lnTo>
                  <a:lnTo>
                    <a:pt x="1133" y="0"/>
                  </a:lnTo>
                  <a:lnTo>
                    <a:pt x="981" y="0"/>
                  </a:lnTo>
                  <a:lnTo>
                    <a:pt x="932" y="0"/>
                  </a:lnTo>
                  <a:lnTo>
                    <a:pt x="831" y="0"/>
                  </a:lnTo>
                  <a:lnTo>
                    <a:pt x="729" y="24"/>
                  </a:lnTo>
                  <a:lnTo>
                    <a:pt x="631" y="50"/>
                  </a:lnTo>
                  <a:lnTo>
                    <a:pt x="553" y="99"/>
                  </a:lnTo>
                  <a:lnTo>
                    <a:pt x="479" y="150"/>
                  </a:lnTo>
                  <a:lnTo>
                    <a:pt x="377" y="201"/>
                  </a:lnTo>
                  <a:lnTo>
                    <a:pt x="302" y="251"/>
                  </a:lnTo>
                  <a:lnTo>
                    <a:pt x="251" y="327"/>
                  </a:lnTo>
                  <a:lnTo>
                    <a:pt x="176" y="402"/>
                  </a:lnTo>
                  <a:lnTo>
                    <a:pt x="125" y="479"/>
                  </a:lnTo>
                  <a:lnTo>
                    <a:pt x="75" y="554"/>
                  </a:lnTo>
                  <a:lnTo>
                    <a:pt x="50" y="655"/>
                  </a:lnTo>
                  <a:lnTo>
                    <a:pt x="27" y="731"/>
                  </a:lnTo>
                  <a:lnTo>
                    <a:pt x="0" y="829"/>
                  </a:lnTo>
                  <a:lnTo>
                    <a:pt x="0" y="981"/>
                  </a:lnTo>
                  <a:lnTo>
                    <a:pt x="0" y="1032"/>
                  </a:lnTo>
                  <a:lnTo>
                    <a:pt x="0" y="1132"/>
                  </a:lnTo>
                  <a:lnTo>
                    <a:pt x="27" y="1233"/>
                  </a:lnTo>
                  <a:lnTo>
                    <a:pt x="50" y="1335"/>
                  </a:lnTo>
                  <a:lnTo>
                    <a:pt x="75" y="1434"/>
                  </a:lnTo>
                  <a:lnTo>
                    <a:pt x="125" y="1511"/>
                  </a:lnTo>
                  <a:lnTo>
                    <a:pt x="176" y="1586"/>
                  </a:lnTo>
                  <a:lnTo>
                    <a:pt x="251" y="1661"/>
                  </a:lnTo>
                  <a:lnTo>
                    <a:pt x="302" y="1737"/>
                  </a:lnTo>
                  <a:lnTo>
                    <a:pt x="377" y="1787"/>
                  </a:lnTo>
                  <a:lnTo>
                    <a:pt x="479" y="1838"/>
                  </a:lnTo>
                  <a:lnTo>
                    <a:pt x="553" y="1889"/>
                  </a:lnTo>
                  <a:lnTo>
                    <a:pt x="631" y="1940"/>
                  </a:lnTo>
                  <a:lnTo>
                    <a:pt x="729" y="1964"/>
                  </a:lnTo>
                  <a:lnTo>
                    <a:pt x="831" y="1988"/>
                  </a:lnTo>
                  <a:lnTo>
                    <a:pt x="981" y="1988"/>
                  </a:lnTo>
                  <a:lnTo>
                    <a:pt x="1032" y="1988"/>
                  </a:lnTo>
                  <a:lnTo>
                    <a:pt x="1133" y="1988"/>
                  </a:lnTo>
                  <a:lnTo>
                    <a:pt x="1235" y="1964"/>
                  </a:lnTo>
                  <a:lnTo>
                    <a:pt x="1333" y="1940"/>
                  </a:lnTo>
                  <a:lnTo>
                    <a:pt x="1408" y="1889"/>
                  </a:lnTo>
                  <a:lnTo>
                    <a:pt x="1486" y="1838"/>
                  </a:lnTo>
                  <a:lnTo>
                    <a:pt x="1585" y="1787"/>
                  </a:lnTo>
                  <a:lnTo>
                    <a:pt x="1662" y="1737"/>
                  </a:lnTo>
                  <a:lnTo>
                    <a:pt x="1711" y="1661"/>
                  </a:lnTo>
                  <a:lnTo>
                    <a:pt x="1788" y="1586"/>
                  </a:lnTo>
                  <a:lnTo>
                    <a:pt x="1836" y="1511"/>
                  </a:lnTo>
                  <a:lnTo>
                    <a:pt x="1887" y="1434"/>
                  </a:lnTo>
                  <a:lnTo>
                    <a:pt x="1913" y="1335"/>
                  </a:lnTo>
                  <a:lnTo>
                    <a:pt x="1937" y="1233"/>
                  </a:lnTo>
                  <a:lnTo>
                    <a:pt x="1965" y="1132"/>
                  </a:lnTo>
                  <a:lnTo>
                    <a:pt x="1988" y="98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79880" y="3351240"/>
              <a:ext cx="592200" cy="377640"/>
            </a:xfrm>
            <a:custGeom>
              <a:avLst/>
              <a:gdLst/>
              <a:ahLst/>
              <a:rect l="l" t="t" r="r" b="b"/>
              <a:pathLst>
                <a:path w="2240" h="1434">
                  <a:moveTo>
                    <a:pt x="2216" y="1410"/>
                  </a:moveTo>
                  <a:lnTo>
                    <a:pt x="2240" y="1383"/>
                  </a:lnTo>
                  <a:lnTo>
                    <a:pt x="27" y="0"/>
                  </a:lnTo>
                  <a:lnTo>
                    <a:pt x="0" y="75"/>
                  </a:lnTo>
                  <a:lnTo>
                    <a:pt x="2216" y="1434"/>
                  </a:lnTo>
                  <a:lnTo>
                    <a:pt x="2216" y="141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872320" y="2478240"/>
              <a:ext cx="352440" cy="198360"/>
            </a:xfrm>
            <a:custGeom>
              <a:avLst/>
              <a:gdLst/>
              <a:ahLst/>
              <a:rect l="l" t="t" r="r" b="b"/>
              <a:pathLst>
                <a:path w="1334" h="754">
                  <a:moveTo>
                    <a:pt x="1307" y="731"/>
                  </a:moveTo>
                  <a:lnTo>
                    <a:pt x="1334" y="703"/>
                  </a:lnTo>
                  <a:lnTo>
                    <a:pt x="24" y="0"/>
                  </a:lnTo>
                  <a:lnTo>
                    <a:pt x="0" y="47"/>
                  </a:lnTo>
                  <a:lnTo>
                    <a:pt x="1307" y="754"/>
                  </a:lnTo>
                  <a:lnTo>
                    <a:pt x="1307" y="7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898880" y="3564000"/>
              <a:ext cx="513000" cy="299880"/>
            </a:xfrm>
            <a:custGeom>
              <a:avLst/>
              <a:gdLst/>
              <a:ahLst/>
              <a:rect l="l" t="t" r="r" b="b"/>
              <a:pathLst>
                <a:path w="1938" h="1134">
                  <a:moveTo>
                    <a:pt x="1938" y="1108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1938" y="1134"/>
                  </a:lnTo>
                  <a:lnTo>
                    <a:pt x="1938" y="11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137280" y="2236680"/>
              <a:ext cx="266760" cy="1396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981" y="528"/>
                  </a:lnTo>
                  <a:lnTo>
                    <a:pt x="1008" y="5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511960" y="2809800"/>
              <a:ext cx="473040" cy="246240"/>
            </a:xfrm>
            <a:custGeom>
              <a:avLst/>
              <a:gdLst/>
              <a:ahLst/>
              <a:rect l="l" t="t" r="r" b="b"/>
              <a:pathLst>
                <a:path w="1787" h="931">
                  <a:moveTo>
                    <a:pt x="1787" y="931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787" y="9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579920" y="3903840"/>
              <a:ext cx="546120" cy="312480"/>
            </a:xfrm>
            <a:custGeom>
              <a:avLst/>
              <a:gdLst/>
              <a:ahLst/>
              <a:rect l="l" t="t" r="r" b="b"/>
              <a:pathLst>
                <a:path w="2061" h="1182">
                  <a:moveTo>
                    <a:pt x="2038" y="1158"/>
                  </a:moveTo>
                  <a:lnTo>
                    <a:pt x="2061" y="1158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038" y="1182"/>
                  </a:lnTo>
                  <a:lnTo>
                    <a:pt x="2038" y="115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32520" y="3249720"/>
              <a:ext cx="466560" cy="272880"/>
            </a:xfrm>
            <a:custGeom>
              <a:avLst/>
              <a:gdLst/>
              <a:ahLst/>
              <a:rect l="l" t="t" r="r" b="b"/>
              <a:pathLst>
                <a:path w="1762" h="1032">
                  <a:moveTo>
                    <a:pt x="1735" y="1008"/>
                  </a:moveTo>
                  <a:lnTo>
                    <a:pt x="1762" y="1008"/>
                  </a:lnTo>
                  <a:lnTo>
                    <a:pt x="24" y="0"/>
                  </a:lnTo>
                  <a:lnTo>
                    <a:pt x="0" y="26"/>
                  </a:lnTo>
                  <a:lnTo>
                    <a:pt x="1735" y="1032"/>
                  </a:lnTo>
                  <a:lnTo>
                    <a:pt x="1735" y="10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1835280" y="765000"/>
            <a:ext cx="51670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902444"/>
                </a:solidFill>
                <a:latin typeface="Geometr231 Hv BT"/>
              </a:rPr>
              <a:t>TESTING FOR HIV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1116000" y="3068640"/>
            <a:ext cx="7127640" cy="1706760"/>
            <a:chOff x="1116000" y="3068640"/>
            <a:chExt cx="7127640" cy="1706760"/>
          </a:xfrm>
        </p:grpSpPr>
        <p:sp>
          <p:nvSpPr>
            <p:cNvPr id="1037" name=""/>
            <p:cNvSpPr/>
            <p:nvPr/>
          </p:nvSpPr>
          <p:spPr>
            <a:xfrm>
              <a:off x="1473840" y="3068640"/>
              <a:ext cx="6769800" cy="17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Confirmatory Test = Western Blot and IFA (immunofluorescence assay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Highly specif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116000" y="3214440"/>
              <a:ext cx="240120" cy="158760"/>
            </a:xfrm>
            <a:custGeom>
              <a:avLst/>
              <a:gdLst/>
              <a:ahLst/>
              <a:rect l="l" t="t" r="r" b="b"/>
              <a:pathLst>
                <a:path w="764" h="602">
                  <a:moveTo>
                    <a:pt x="0" y="602"/>
                  </a:moveTo>
                  <a:lnTo>
                    <a:pt x="0" y="0"/>
                  </a:lnTo>
                  <a:lnTo>
                    <a:pt x="764" y="301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116000" y="4491000"/>
              <a:ext cx="240120" cy="158760"/>
            </a:xfrm>
            <a:custGeom>
              <a:avLst/>
              <a:gdLst/>
              <a:ahLst/>
              <a:rect l="l" t="t" r="r" b="b"/>
              <a:pathLst>
                <a:path w="764" h="602">
                  <a:moveTo>
                    <a:pt x="0" y="602"/>
                  </a:moveTo>
                  <a:lnTo>
                    <a:pt x="0" y="0"/>
                  </a:lnTo>
                  <a:lnTo>
                    <a:pt x="764" y="301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909720" y="866880"/>
            <a:ext cx="733572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HIV NEGATIVE (-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TEST RESULT TELLS YOU TH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317600" y="3124080"/>
            <a:ext cx="6988320" cy="2376360"/>
            <a:chOff x="1317600" y="3124080"/>
            <a:chExt cx="6988320" cy="2376360"/>
          </a:xfrm>
        </p:grpSpPr>
        <p:sp>
          <p:nvSpPr>
            <p:cNvPr id="1042" name=""/>
            <p:cNvSpPr/>
            <p:nvPr/>
          </p:nvSpPr>
          <p:spPr>
            <a:xfrm>
              <a:off x="1581120" y="3124080"/>
              <a:ext cx="672480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You have not been infected with the AIDS virus - true negative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You have been infected recently but you are still in the window period - false negativ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317600" y="3257640"/>
              <a:ext cx="190440" cy="14904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lnTo>
                    <a:pt x="0" y="0"/>
                  </a:lnTo>
                  <a:lnTo>
                    <a:pt x="720" y="284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17600" y="4419720"/>
              <a:ext cx="190440" cy="14904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lnTo>
                    <a:pt x="0" y="0"/>
                  </a:lnTo>
                  <a:lnTo>
                    <a:pt x="720" y="284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786240" y="863640"/>
            <a:ext cx="768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HIV POSITIVE (+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TEST RESULT TELLS YOU THA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990720" y="2895480"/>
            <a:ext cx="7086600" cy="2133360"/>
            <a:chOff x="990720" y="2895480"/>
            <a:chExt cx="7086600" cy="2133360"/>
          </a:xfrm>
        </p:grpSpPr>
        <p:sp>
          <p:nvSpPr>
            <p:cNvPr id="1047" name=""/>
            <p:cNvSpPr/>
            <p:nvPr/>
          </p:nvSpPr>
          <p:spPr>
            <a:xfrm>
              <a:off x="1273320" y="2895480"/>
              <a:ext cx="68040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Your body has produced anti-bodies that fight the HIV viru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The virus is present in your blood and your body has formed antibodi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990720" y="3030480"/>
              <a:ext cx="190440" cy="1494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lnTo>
                    <a:pt x="0" y="0"/>
                  </a:lnTo>
                  <a:lnTo>
                    <a:pt x="720" y="284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90720" y="4325760"/>
              <a:ext cx="190440" cy="1494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lnTo>
                    <a:pt x="0" y="0"/>
                  </a:lnTo>
                  <a:lnTo>
                    <a:pt x="720" y="284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2681280" y="-380880"/>
            <a:ext cx="3963960" cy="77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100" spc="-1" strike="noStrike">
                <a:solidFill>
                  <a:srgbClr val="dc2b19"/>
                </a:solidFill>
                <a:latin typeface="Arial Black"/>
              </a:rPr>
              <a:t>?</a:t>
            </a:r>
            <a:endParaRPr b="0" lang="en-US" sz="5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437480" y="2376360"/>
            <a:ext cx="6346800" cy="262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INDETERMINATE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HIV TEST RESULT MEA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QUESTION ABOUT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YOUR HIV STATU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95480" y="3352680"/>
            <a:ext cx="3429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es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" descr=""/>
          <p:cNvPicPr/>
          <p:nvPr/>
        </p:nvPicPr>
        <p:blipFill>
          <a:blip r:embed="rId2"/>
          <a:stretch/>
        </p:blipFill>
        <p:spPr>
          <a:xfrm>
            <a:off x="1521000" y="1295280"/>
            <a:ext cx="6099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3638160" y="727200"/>
            <a:ext cx="187056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9900"/>
                </a:solidFill>
                <a:latin typeface="Geometr231 Hv BT"/>
              </a:rPr>
              <a:t>WH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335680" y="1584360"/>
            <a:ext cx="4444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SHOULD BE TEST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066680" y="2438280"/>
            <a:ext cx="71629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1. All persons who have had more than one sexual partner in   their lives or whose partner has had other sexual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2. All persons who have had sex outside of monogamous marriage, in any form, in the last 10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3. Persons who had sex with possible infected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4. Persons who had sex with prostit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5. IV Drug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3638160" y="727200"/>
            <a:ext cx="187056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9900"/>
                </a:solidFill>
                <a:latin typeface="Geometr231 Hv BT"/>
              </a:rPr>
              <a:t>WH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335680" y="1584360"/>
            <a:ext cx="4444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SHOULD BE TEST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066680" y="2438280"/>
            <a:ext cx="71629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6. Persons who might have possibly been exposed to HIV infected needles,blades, knives or any other instrument/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7. Persons who have been raped and/or molested by anyone in their lif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8. Persons who have had blood transfusions, particularly in the 1980’s before blood was more carefully screen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9. Children who are born to possible infected mothers and/or breast fed by possible HIV infected moth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1129680" y="1311120"/>
            <a:ext cx="7151400" cy="4111920"/>
            <a:chOff x="1129680" y="1311120"/>
            <a:chExt cx="7151400" cy="4111920"/>
          </a:xfrm>
        </p:grpSpPr>
        <p:grpSp>
          <p:nvGrpSpPr>
            <p:cNvPr id="1060" name=""/>
            <p:cNvGrpSpPr/>
            <p:nvPr/>
          </p:nvGrpSpPr>
          <p:grpSpPr>
            <a:xfrm>
              <a:off x="1129680" y="1311120"/>
              <a:ext cx="7151400" cy="4111920"/>
              <a:chOff x="1129680" y="1311120"/>
              <a:chExt cx="7151400" cy="4111920"/>
            </a:xfrm>
          </p:grpSpPr>
          <p:sp>
            <p:nvSpPr>
              <p:cNvPr id="1061" name=""/>
              <p:cNvSpPr/>
              <p:nvPr/>
            </p:nvSpPr>
            <p:spPr>
              <a:xfrm>
                <a:off x="2446200" y="1311120"/>
                <a:ext cx="44766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100" spc="-1" strike="noStrike">
                    <a:solidFill>
                      <a:srgbClr val="1f1a17"/>
                    </a:solidFill>
                    <a:latin typeface="Geometr231 Hv BT"/>
                  </a:rPr>
                  <a:t>LET’S ALL HELP TO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129680" y="1932120"/>
                <a:ext cx="71514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100" spc="-1" strike="noStrike">
                    <a:solidFill>
                      <a:srgbClr val="1f1a17"/>
                    </a:solidFill>
                    <a:latin typeface="Geometr231 Hv BT"/>
                  </a:rPr>
                  <a:t>TAKE THE STIGMA, FEAR AND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733760" y="2552760"/>
                <a:ext cx="593352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100" spc="-1" strike="noStrike">
                    <a:solidFill>
                      <a:srgbClr val="1f1a17"/>
                    </a:solidFill>
                    <a:latin typeface="Geometr231 Hv BT"/>
                  </a:rPr>
                  <a:t>DISCRIMINATION FROM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373200" y="3173400"/>
                <a:ext cx="2679840" cy="7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900" spc="-1" strike="noStrike">
                    <a:solidFill>
                      <a:srgbClr val="dc2b19"/>
                    </a:solidFill>
                    <a:latin typeface="Geometr231 Hv BT"/>
                  </a:rPr>
                  <a:t>HIV/AIDS</a:t>
                </a:r>
                <a:endParaRPr b="0" lang="en-US" sz="4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276640" y="5164200"/>
                <a:ext cx="4533840" cy="2458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702320" y="4562640"/>
                <a:ext cx="128520" cy="225360"/>
              </a:xfrm>
              <a:custGeom>
                <a:avLst/>
                <a:gdLst/>
                <a:ahLst/>
                <a:rect l="l" t="t" r="r" b="b"/>
                <a:pathLst>
                  <a:path w="324" h="568">
                    <a:moveTo>
                      <a:pt x="0" y="0"/>
                    </a:moveTo>
                    <a:lnTo>
                      <a:pt x="0" y="452"/>
                    </a:lnTo>
                    <a:lnTo>
                      <a:pt x="23" y="452"/>
                    </a:lnTo>
                    <a:lnTo>
                      <a:pt x="46" y="452"/>
                    </a:lnTo>
                    <a:lnTo>
                      <a:pt x="58" y="464"/>
                    </a:lnTo>
                    <a:lnTo>
                      <a:pt x="81" y="464"/>
                    </a:lnTo>
                    <a:lnTo>
                      <a:pt x="92" y="464"/>
                    </a:lnTo>
                    <a:lnTo>
                      <a:pt x="116" y="476"/>
                    </a:lnTo>
                    <a:lnTo>
                      <a:pt x="127" y="476"/>
                    </a:lnTo>
                    <a:lnTo>
                      <a:pt x="138" y="498"/>
                    </a:lnTo>
                    <a:lnTo>
                      <a:pt x="150" y="498"/>
                    </a:lnTo>
                    <a:lnTo>
                      <a:pt x="174" y="510"/>
                    </a:lnTo>
                    <a:lnTo>
                      <a:pt x="185" y="510"/>
                    </a:lnTo>
                    <a:lnTo>
                      <a:pt x="209" y="521"/>
                    </a:lnTo>
                    <a:lnTo>
                      <a:pt x="231" y="521"/>
                    </a:lnTo>
                    <a:lnTo>
                      <a:pt x="243" y="521"/>
                    </a:lnTo>
                    <a:lnTo>
                      <a:pt x="266" y="534"/>
                    </a:lnTo>
                    <a:lnTo>
                      <a:pt x="277" y="534"/>
                    </a:lnTo>
                    <a:lnTo>
                      <a:pt x="289" y="534"/>
                    </a:lnTo>
                    <a:lnTo>
                      <a:pt x="289" y="544"/>
                    </a:lnTo>
                    <a:lnTo>
                      <a:pt x="289" y="556"/>
                    </a:lnTo>
                    <a:lnTo>
                      <a:pt x="301" y="556"/>
                    </a:lnTo>
                    <a:lnTo>
                      <a:pt x="301" y="568"/>
                    </a:lnTo>
                    <a:lnTo>
                      <a:pt x="313" y="568"/>
                    </a:lnTo>
                    <a:lnTo>
                      <a:pt x="313" y="556"/>
                    </a:lnTo>
                    <a:lnTo>
                      <a:pt x="324" y="544"/>
                    </a:lnTo>
                    <a:lnTo>
                      <a:pt x="324" y="534"/>
                    </a:lnTo>
                    <a:lnTo>
                      <a:pt x="313" y="521"/>
                    </a:lnTo>
                    <a:lnTo>
                      <a:pt x="313" y="498"/>
                    </a:lnTo>
                    <a:lnTo>
                      <a:pt x="313" y="476"/>
                    </a:lnTo>
                    <a:lnTo>
                      <a:pt x="313" y="452"/>
                    </a:lnTo>
                    <a:lnTo>
                      <a:pt x="313" y="417"/>
                    </a:lnTo>
                    <a:lnTo>
                      <a:pt x="313" y="406"/>
                    </a:lnTo>
                    <a:lnTo>
                      <a:pt x="301" y="394"/>
                    </a:lnTo>
                    <a:lnTo>
                      <a:pt x="301" y="382"/>
                    </a:lnTo>
                    <a:lnTo>
                      <a:pt x="289" y="382"/>
                    </a:lnTo>
                    <a:lnTo>
                      <a:pt x="277" y="382"/>
                    </a:lnTo>
                    <a:lnTo>
                      <a:pt x="277" y="370"/>
                    </a:lnTo>
                    <a:lnTo>
                      <a:pt x="266" y="370"/>
                    </a:lnTo>
                    <a:lnTo>
                      <a:pt x="255" y="359"/>
                    </a:lnTo>
                    <a:lnTo>
                      <a:pt x="255" y="348"/>
                    </a:lnTo>
                    <a:lnTo>
                      <a:pt x="243" y="348"/>
                    </a:lnTo>
                    <a:lnTo>
                      <a:pt x="243" y="336"/>
                    </a:lnTo>
                    <a:lnTo>
                      <a:pt x="243" y="301"/>
                    </a:lnTo>
                    <a:lnTo>
                      <a:pt x="219" y="255"/>
                    </a:lnTo>
                    <a:lnTo>
                      <a:pt x="197" y="232"/>
                    </a:lnTo>
                    <a:lnTo>
                      <a:pt x="174" y="208"/>
                    </a:lnTo>
                    <a:lnTo>
                      <a:pt x="138" y="184"/>
                    </a:lnTo>
                    <a:lnTo>
                      <a:pt x="103" y="162"/>
                    </a:lnTo>
                    <a:lnTo>
                      <a:pt x="69" y="139"/>
                    </a:lnTo>
                    <a:lnTo>
                      <a:pt x="46" y="104"/>
                    </a:lnTo>
                    <a:lnTo>
                      <a:pt x="23" y="68"/>
                    </a:lnTo>
                    <a:lnTo>
                      <a:pt x="23" y="58"/>
                    </a:lnTo>
                    <a:lnTo>
                      <a:pt x="23" y="46"/>
                    </a:lnTo>
                    <a:lnTo>
                      <a:pt x="12" y="34"/>
                    </a:lnTo>
                    <a:lnTo>
                      <a:pt x="12" y="22"/>
                    </a:lnTo>
                    <a:lnTo>
                      <a:pt x="12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702320" y="447840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0"/>
                    </a:moveTo>
                    <a:lnTo>
                      <a:pt x="0" y="47"/>
                    </a:lnTo>
                    <a:lnTo>
                      <a:pt x="0" y="36"/>
                    </a:lnTo>
                    <a:lnTo>
                      <a:pt x="12" y="24"/>
                    </a:lnTo>
                    <a:lnTo>
                      <a:pt x="12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702320" y="4349880"/>
                <a:ext cx="31680" cy="74520"/>
              </a:xfrm>
              <a:custGeom>
                <a:avLst/>
                <a:gdLst/>
                <a:ahLst/>
                <a:rect l="l" t="t" r="r" b="b"/>
                <a:pathLst>
                  <a:path w="81" h="185">
                    <a:moveTo>
                      <a:pt x="0" y="127"/>
                    </a:moveTo>
                    <a:lnTo>
                      <a:pt x="0" y="185"/>
                    </a:lnTo>
                    <a:lnTo>
                      <a:pt x="0" y="173"/>
                    </a:lnTo>
                    <a:lnTo>
                      <a:pt x="12" y="173"/>
                    </a:lnTo>
                    <a:lnTo>
                      <a:pt x="12" y="162"/>
                    </a:lnTo>
                    <a:lnTo>
                      <a:pt x="23" y="162"/>
                    </a:lnTo>
                    <a:lnTo>
                      <a:pt x="34" y="162"/>
                    </a:lnTo>
                    <a:lnTo>
                      <a:pt x="34" y="149"/>
                    </a:lnTo>
                    <a:lnTo>
                      <a:pt x="46" y="149"/>
                    </a:lnTo>
                    <a:lnTo>
                      <a:pt x="58" y="138"/>
                    </a:lnTo>
                    <a:lnTo>
                      <a:pt x="81" y="10"/>
                    </a:lnTo>
                    <a:lnTo>
                      <a:pt x="69" y="10"/>
                    </a:lnTo>
                    <a:lnTo>
                      <a:pt x="69" y="0"/>
                    </a:lnTo>
                    <a:lnTo>
                      <a:pt x="58" y="0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12" y="10"/>
                    </a:lnTo>
                    <a:lnTo>
                      <a:pt x="0" y="10"/>
                    </a:lnTo>
                    <a:lnTo>
                      <a:pt x="0" y="103"/>
                    </a:lnTo>
                    <a:lnTo>
                      <a:pt x="12" y="103"/>
                    </a:lnTo>
                    <a:lnTo>
                      <a:pt x="23" y="103"/>
                    </a:lnTo>
                    <a:lnTo>
                      <a:pt x="23" y="115"/>
                    </a:lnTo>
                    <a:lnTo>
                      <a:pt x="12" y="115"/>
                    </a:lnTo>
                    <a:lnTo>
                      <a:pt x="12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680000" y="4354560"/>
                <a:ext cx="22320" cy="152280"/>
              </a:xfrm>
              <a:custGeom>
                <a:avLst/>
                <a:gdLst/>
                <a:ahLst/>
                <a:rect l="l" t="t" r="r" b="b"/>
                <a:pathLst>
                  <a:path w="58" h="384">
                    <a:moveTo>
                      <a:pt x="58" y="93"/>
                    </a:moveTo>
                    <a:lnTo>
                      <a:pt x="58" y="0"/>
                    </a:lnTo>
                    <a:lnTo>
                      <a:pt x="58" y="12"/>
                    </a:lnTo>
                    <a:lnTo>
                      <a:pt x="46" y="24"/>
                    </a:lnTo>
                    <a:lnTo>
                      <a:pt x="34" y="24"/>
                    </a:lnTo>
                    <a:lnTo>
                      <a:pt x="23" y="35"/>
                    </a:lnTo>
                    <a:lnTo>
                      <a:pt x="23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93"/>
                    </a:lnTo>
                    <a:lnTo>
                      <a:pt x="12" y="93"/>
                    </a:lnTo>
                    <a:lnTo>
                      <a:pt x="23" y="93"/>
                    </a:lnTo>
                    <a:lnTo>
                      <a:pt x="12" y="93"/>
                    </a:lnTo>
                    <a:lnTo>
                      <a:pt x="12" y="105"/>
                    </a:lnTo>
                    <a:lnTo>
                      <a:pt x="12" y="117"/>
                    </a:lnTo>
                    <a:lnTo>
                      <a:pt x="0" y="117"/>
                    </a:lnTo>
                    <a:lnTo>
                      <a:pt x="0" y="128"/>
                    </a:lnTo>
                    <a:lnTo>
                      <a:pt x="0" y="384"/>
                    </a:lnTo>
                    <a:lnTo>
                      <a:pt x="12" y="384"/>
                    </a:lnTo>
                    <a:lnTo>
                      <a:pt x="23" y="384"/>
                    </a:lnTo>
                    <a:lnTo>
                      <a:pt x="58" y="371"/>
                    </a:lnTo>
                    <a:lnTo>
                      <a:pt x="58" y="360"/>
                    </a:lnTo>
                    <a:lnTo>
                      <a:pt x="58" y="313"/>
                    </a:lnTo>
                    <a:lnTo>
                      <a:pt x="58" y="302"/>
                    </a:lnTo>
                    <a:lnTo>
                      <a:pt x="58" y="290"/>
                    </a:lnTo>
                    <a:lnTo>
                      <a:pt x="46" y="290"/>
                    </a:lnTo>
                    <a:lnTo>
                      <a:pt x="46" y="279"/>
                    </a:lnTo>
                    <a:lnTo>
                      <a:pt x="34" y="279"/>
                    </a:lnTo>
                    <a:lnTo>
                      <a:pt x="34" y="268"/>
                    </a:lnTo>
                    <a:lnTo>
                      <a:pt x="34" y="255"/>
                    </a:lnTo>
                    <a:lnTo>
                      <a:pt x="23" y="244"/>
                    </a:lnTo>
                    <a:lnTo>
                      <a:pt x="23" y="233"/>
                    </a:lnTo>
                    <a:lnTo>
                      <a:pt x="23" y="221"/>
                    </a:lnTo>
                    <a:lnTo>
                      <a:pt x="0" y="210"/>
                    </a:lnTo>
                    <a:lnTo>
                      <a:pt x="58" y="175"/>
                    </a:lnTo>
                    <a:lnTo>
                      <a:pt x="58" y="117"/>
                    </a:lnTo>
                    <a:lnTo>
                      <a:pt x="46" y="105"/>
                    </a:lnTo>
                    <a:lnTo>
                      <a:pt x="46" y="93"/>
                    </a:lnTo>
                    <a:lnTo>
                      <a:pt x="58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680000" y="4533840"/>
                <a:ext cx="22320" cy="208080"/>
              </a:xfrm>
              <a:custGeom>
                <a:avLst/>
                <a:gdLst/>
                <a:ahLst/>
                <a:rect l="l" t="t" r="r" b="b"/>
                <a:pathLst>
                  <a:path w="58" h="522">
                    <a:moveTo>
                      <a:pt x="58" y="522"/>
                    </a:moveTo>
                    <a:lnTo>
                      <a:pt x="58" y="70"/>
                    </a:lnTo>
                    <a:lnTo>
                      <a:pt x="58" y="58"/>
                    </a:lnTo>
                    <a:lnTo>
                      <a:pt x="46" y="46"/>
                    </a:lnTo>
                    <a:lnTo>
                      <a:pt x="46" y="34"/>
                    </a:lnTo>
                    <a:lnTo>
                      <a:pt x="34" y="34"/>
                    </a:lnTo>
                    <a:lnTo>
                      <a:pt x="23" y="23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510"/>
                    </a:lnTo>
                    <a:lnTo>
                      <a:pt x="12" y="522"/>
                    </a:lnTo>
                    <a:lnTo>
                      <a:pt x="23" y="522"/>
                    </a:lnTo>
                    <a:lnTo>
                      <a:pt x="34" y="522"/>
                    </a:lnTo>
                    <a:lnTo>
                      <a:pt x="46" y="522"/>
                    </a:lnTo>
                    <a:lnTo>
                      <a:pt x="58" y="5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656240" y="4349880"/>
                <a:ext cx="23760" cy="156960"/>
              </a:xfrm>
              <a:custGeom>
                <a:avLst/>
                <a:gdLst/>
                <a:ahLst/>
                <a:rect l="l" t="t" r="r" b="b"/>
                <a:pathLst>
                  <a:path w="58" h="394">
                    <a:moveTo>
                      <a:pt x="58" y="103"/>
                    </a:moveTo>
                    <a:lnTo>
                      <a:pt x="58" y="34"/>
                    </a:lnTo>
                    <a:lnTo>
                      <a:pt x="46" y="22"/>
                    </a:lnTo>
                    <a:lnTo>
                      <a:pt x="35" y="22"/>
                    </a:lnTo>
                    <a:lnTo>
                      <a:pt x="23" y="10"/>
                    </a:lnTo>
                    <a:lnTo>
                      <a:pt x="12" y="10"/>
                    </a:lnTo>
                    <a:lnTo>
                      <a:pt x="0" y="0"/>
                    </a:lnTo>
                    <a:lnTo>
                      <a:pt x="0" y="312"/>
                    </a:lnTo>
                    <a:lnTo>
                      <a:pt x="12" y="312"/>
                    </a:lnTo>
                    <a:lnTo>
                      <a:pt x="23" y="336"/>
                    </a:lnTo>
                    <a:lnTo>
                      <a:pt x="35" y="336"/>
                    </a:lnTo>
                    <a:lnTo>
                      <a:pt x="46" y="336"/>
                    </a:lnTo>
                    <a:lnTo>
                      <a:pt x="46" y="347"/>
                    </a:lnTo>
                    <a:lnTo>
                      <a:pt x="35" y="347"/>
                    </a:lnTo>
                    <a:lnTo>
                      <a:pt x="35" y="359"/>
                    </a:lnTo>
                    <a:lnTo>
                      <a:pt x="23" y="359"/>
                    </a:lnTo>
                    <a:lnTo>
                      <a:pt x="12" y="323"/>
                    </a:lnTo>
                    <a:lnTo>
                      <a:pt x="0" y="323"/>
                    </a:lnTo>
                    <a:lnTo>
                      <a:pt x="0" y="381"/>
                    </a:lnTo>
                    <a:lnTo>
                      <a:pt x="0" y="370"/>
                    </a:lnTo>
                    <a:lnTo>
                      <a:pt x="12" y="370"/>
                    </a:lnTo>
                    <a:lnTo>
                      <a:pt x="23" y="359"/>
                    </a:lnTo>
                    <a:lnTo>
                      <a:pt x="23" y="370"/>
                    </a:lnTo>
                    <a:lnTo>
                      <a:pt x="23" y="381"/>
                    </a:lnTo>
                    <a:lnTo>
                      <a:pt x="35" y="381"/>
                    </a:lnTo>
                    <a:lnTo>
                      <a:pt x="35" y="394"/>
                    </a:lnTo>
                    <a:lnTo>
                      <a:pt x="46" y="394"/>
                    </a:lnTo>
                    <a:lnTo>
                      <a:pt x="58" y="394"/>
                    </a:lnTo>
                    <a:lnTo>
                      <a:pt x="58" y="138"/>
                    </a:lnTo>
                    <a:lnTo>
                      <a:pt x="46" y="138"/>
                    </a:lnTo>
                    <a:lnTo>
                      <a:pt x="35" y="138"/>
                    </a:lnTo>
                    <a:lnTo>
                      <a:pt x="23" y="138"/>
                    </a:lnTo>
                    <a:lnTo>
                      <a:pt x="23" y="127"/>
                    </a:lnTo>
                    <a:lnTo>
                      <a:pt x="35" y="127"/>
                    </a:lnTo>
                    <a:lnTo>
                      <a:pt x="35" y="115"/>
                    </a:lnTo>
                    <a:lnTo>
                      <a:pt x="46" y="115"/>
                    </a:lnTo>
                    <a:lnTo>
                      <a:pt x="46" y="103"/>
                    </a:lnTo>
                    <a:lnTo>
                      <a:pt x="58" y="1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656240" y="4529160"/>
                <a:ext cx="23760" cy="208080"/>
              </a:xfrm>
              <a:custGeom>
                <a:avLst/>
                <a:gdLst/>
                <a:ahLst/>
                <a:rect l="l" t="t" r="r" b="b"/>
                <a:pathLst>
                  <a:path w="58" h="522">
                    <a:moveTo>
                      <a:pt x="58" y="522"/>
                    </a:moveTo>
                    <a:lnTo>
                      <a:pt x="58" y="12"/>
                    </a:lnTo>
                    <a:lnTo>
                      <a:pt x="46" y="12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0" y="418"/>
                    </a:lnTo>
                    <a:lnTo>
                      <a:pt x="0" y="430"/>
                    </a:lnTo>
                    <a:lnTo>
                      <a:pt x="12" y="441"/>
                    </a:lnTo>
                    <a:lnTo>
                      <a:pt x="12" y="452"/>
                    </a:lnTo>
                    <a:lnTo>
                      <a:pt x="23" y="476"/>
                    </a:lnTo>
                    <a:lnTo>
                      <a:pt x="23" y="488"/>
                    </a:lnTo>
                    <a:lnTo>
                      <a:pt x="35" y="499"/>
                    </a:lnTo>
                    <a:lnTo>
                      <a:pt x="46" y="510"/>
                    </a:lnTo>
                    <a:lnTo>
                      <a:pt x="46" y="522"/>
                    </a:lnTo>
                    <a:lnTo>
                      <a:pt x="58" y="5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146480" y="4336920"/>
                <a:ext cx="509760" cy="836640"/>
              </a:xfrm>
              <a:custGeom>
                <a:avLst/>
                <a:gdLst/>
                <a:ahLst/>
                <a:rect l="l" t="t" r="r" b="b"/>
                <a:pathLst>
                  <a:path w="1284" h="2111">
                    <a:moveTo>
                      <a:pt x="1284" y="348"/>
                    </a:moveTo>
                    <a:lnTo>
                      <a:pt x="1284" y="36"/>
                    </a:lnTo>
                    <a:lnTo>
                      <a:pt x="1272" y="23"/>
                    </a:lnTo>
                    <a:lnTo>
                      <a:pt x="1261" y="12"/>
                    </a:lnTo>
                    <a:lnTo>
                      <a:pt x="1238" y="12"/>
                    </a:lnTo>
                    <a:lnTo>
                      <a:pt x="1226" y="0"/>
                    </a:lnTo>
                    <a:lnTo>
                      <a:pt x="1214" y="0"/>
                    </a:lnTo>
                    <a:lnTo>
                      <a:pt x="1203" y="0"/>
                    </a:lnTo>
                    <a:lnTo>
                      <a:pt x="1180" y="0"/>
                    </a:lnTo>
                    <a:lnTo>
                      <a:pt x="1168" y="12"/>
                    </a:lnTo>
                    <a:lnTo>
                      <a:pt x="1157" y="23"/>
                    </a:lnTo>
                    <a:lnTo>
                      <a:pt x="1145" y="23"/>
                    </a:lnTo>
                    <a:lnTo>
                      <a:pt x="1134" y="36"/>
                    </a:lnTo>
                    <a:lnTo>
                      <a:pt x="1110" y="36"/>
                    </a:lnTo>
                    <a:lnTo>
                      <a:pt x="1099" y="36"/>
                    </a:lnTo>
                    <a:lnTo>
                      <a:pt x="1086" y="36"/>
                    </a:lnTo>
                    <a:lnTo>
                      <a:pt x="1065" y="36"/>
                    </a:lnTo>
                    <a:lnTo>
                      <a:pt x="1052" y="23"/>
                    </a:lnTo>
                    <a:lnTo>
                      <a:pt x="1041" y="23"/>
                    </a:lnTo>
                    <a:lnTo>
                      <a:pt x="1029" y="23"/>
                    </a:lnTo>
                    <a:lnTo>
                      <a:pt x="1017" y="12"/>
                    </a:lnTo>
                    <a:lnTo>
                      <a:pt x="1007" y="12"/>
                    </a:lnTo>
                    <a:lnTo>
                      <a:pt x="995" y="12"/>
                    </a:lnTo>
                    <a:lnTo>
                      <a:pt x="983" y="23"/>
                    </a:lnTo>
                    <a:lnTo>
                      <a:pt x="971" y="36"/>
                    </a:lnTo>
                    <a:lnTo>
                      <a:pt x="971" y="46"/>
                    </a:lnTo>
                    <a:lnTo>
                      <a:pt x="960" y="46"/>
                    </a:lnTo>
                    <a:lnTo>
                      <a:pt x="960" y="58"/>
                    </a:lnTo>
                    <a:lnTo>
                      <a:pt x="949" y="58"/>
                    </a:lnTo>
                    <a:lnTo>
                      <a:pt x="949" y="70"/>
                    </a:lnTo>
                    <a:lnTo>
                      <a:pt x="937" y="81"/>
                    </a:lnTo>
                    <a:lnTo>
                      <a:pt x="925" y="93"/>
                    </a:lnTo>
                    <a:lnTo>
                      <a:pt x="913" y="93"/>
                    </a:lnTo>
                    <a:lnTo>
                      <a:pt x="913" y="105"/>
                    </a:lnTo>
                    <a:lnTo>
                      <a:pt x="902" y="105"/>
                    </a:lnTo>
                    <a:lnTo>
                      <a:pt x="890" y="116"/>
                    </a:lnTo>
                    <a:lnTo>
                      <a:pt x="879" y="116"/>
                    </a:lnTo>
                    <a:lnTo>
                      <a:pt x="879" y="128"/>
                    </a:lnTo>
                    <a:lnTo>
                      <a:pt x="879" y="139"/>
                    </a:lnTo>
                    <a:lnTo>
                      <a:pt x="833" y="290"/>
                    </a:lnTo>
                    <a:lnTo>
                      <a:pt x="844" y="290"/>
                    </a:lnTo>
                    <a:lnTo>
                      <a:pt x="855" y="290"/>
                    </a:lnTo>
                    <a:lnTo>
                      <a:pt x="855" y="301"/>
                    </a:lnTo>
                    <a:lnTo>
                      <a:pt x="844" y="314"/>
                    </a:lnTo>
                    <a:lnTo>
                      <a:pt x="844" y="325"/>
                    </a:lnTo>
                    <a:lnTo>
                      <a:pt x="844" y="336"/>
                    </a:lnTo>
                    <a:lnTo>
                      <a:pt x="844" y="348"/>
                    </a:lnTo>
                    <a:lnTo>
                      <a:pt x="844" y="359"/>
                    </a:lnTo>
                    <a:lnTo>
                      <a:pt x="855" y="359"/>
                    </a:lnTo>
                    <a:lnTo>
                      <a:pt x="855" y="372"/>
                    </a:lnTo>
                    <a:lnTo>
                      <a:pt x="855" y="383"/>
                    </a:lnTo>
                    <a:lnTo>
                      <a:pt x="855" y="395"/>
                    </a:lnTo>
                    <a:lnTo>
                      <a:pt x="844" y="406"/>
                    </a:lnTo>
                    <a:lnTo>
                      <a:pt x="868" y="430"/>
                    </a:lnTo>
                    <a:lnTo>
                      <a:pt x="913" y="417"/>
                    </a:lnTo>
                    <a:lnTo>
                      <a:pt x="913" y="430"/>
                    </a:lnTo>
                    <a:lnTo>
                      <a:pt x="890" y="441"/>
                    </a:lnTo>
                    <a:lnTo>
                      <a:pt x="868" y="453"/>
                    </a:lnTo>
                    <a:lnTo>
                      <a:pt x="844" y="464"/>
                    </a:lnTo>
                    <a:lnTo>
                      <a:pt x="833" y="475"/>
                    </a:lnTo>
                    <a:lnTo>
                      <a:pt x="810" y="487"/>
                    </a:lnTo>
                    <a:lnTo>
                      <a:pt x="786" y="499"/>
                    </a:lnTo>
                    <a:lnTo>
                      <a:pt x="763" y="511"/>
                    </a:lnTo>
                    <a:lnTo>
                      <a:pt x="740" y="533"/>
                    </a:lnTo>
                    <a:lnTo>
                      <a:pt x="728" y="533"/>
                    </a:lnTo>
                    <a:lnTo>
                      <a:pt x="717" y="533"/>
                    </a:lnTo>
                    <a:lnTo>
                      <a:pt x="717" y="545"/>
                    </a:lnTo>
                    <a:lnTo>
                      <a:pt x="706" y="545"/>
                    </a:lnTo>
                    <a:lnTo>
                      <a:pt x="693" y="545"/>
                    </a:lnTo>
                    <a:lnTo>
                      <a:pt x="659" y="533"/>
                    </a:lnTo>
                    <a:lnTo>
                      <a:pt x="635" y="522"/>
                    </a:lnTo>
                    <a:lnTo>
                      <a:pt x="601" y="522"/>
                    </a:lnTo>
                    <a:lnTo>
                      <a:pt x="566" y="533"/>
                    </a:lnTo>
                    <a:lnTo>
                      <a:pt x="532" y="545"/>
                    </a:lnTo>
                    <a:lnTo>
                      <a:pt x="496" y="545"/>
                    </a:lnTo>
                    <a:lnTo>
                      <a:pt x="462" y="557"/>
                    </a:lnTo>
                    <a:lnTo>
                      <a:pt x="438" y="569"/>
                    </a:lnTo>
                    <a:lnTo>
                      <a:pt x="393" y="580"/>
                    </a:lnTo>
                    <a:lnTo>
                      <a:pt x="359" y="580"/>
                    </a:lnTo>
                    <a:lnTo>
                      <a:pt x="311" y="580"/>
                    </a:lnTo>
                    <a:lnTo>
                      <a:pt x="277" y="569"/>
                    </a:lnTo>
                    <a:lnTo>
                      <a:pt x="242" y="569"/>
                    </a:lnTo>
                    <a:lnTo>
                      <a:pt x="207" y="569"/>
                    </a:lnTo>
                    <a:lnTo>
                      <a:pt x="173" y="569"/>
                    </a:lnTo>
                    <a:lnTo>
                      <a:pt x="138" y="580"/>
                    </a:lnTo>
                    <a:lnTo>
                      <a:pt x="115" y="603"/>
                    </a:lnTo>
                    <a:lnTo>
                      <a:pt x="92" y="615"/>
                    </a:lnTo>
                    <a:lnTo>
                      <a:pt x="80" y="615"/>
                    </a:lnTo>
                    <a:lnTo>
                      <a:pt x="58" y="615"/>
                    </a:lnTo>
                    <a:lnTo>
                      <a:pt x="45" y="627"/>
                    </a:lnTo>
                    <a:lnTo>
                      <a:pt x="34" y="627"/>
                    </a:lnTo>
                    <a:lnTo>
                      <a:pt x="22" y="637"/>
                    </a:lnTo>
                    <a:lnTo>
                      <a:pt x="0" y="661"/>
                    </a:lnTo>
                    <a:lnTo>
                      <a:pt x="0" y="673"/>
                    </a:lnTo>
                    <a:lnTo>
                      <a:pt x="10" y="673"/>
                    </a:lnTo>
                    <a:lnTo>
                      <a:pt x="10" y="685"/>
                    </a:lnTo>
                    <a:lnTo>
                      <a:pt x="10" y="695"/>
                    </a:lnTo>
                    <a:lnTo>
                      <a:pt x="10" y="708"/>
                    </a:lnTo>
                    <a:lnTo>
                      <a:pt x="34" y="731"/>
                    </a:lnTo>
                    <a:lnTo>
                      <a:pt x="45" y="743"/>
                    </a:lnTo>
                    <a:lnTo>
                      <a:pt x="58" y="743"/>
                    </a:lnTo>
                    <a:lnTo>
                      <a:pt x="69" y="743"/>
                    </a:lnTo>
                    <a:lnTo>
                      <a:pt x="80" y="743"/>
                    </a:lnTo>
                    <a:lnTo>
                      <a:pt x="92" y="743"/>
                    </a:lnTo>
                    <a:lnTo>
                      <a:pt x="92" y="731"/>
                    </a:lnTo>
                    <a:lnTo>
                      <a:pt x="115" y="731"/>
                    </a:lnTo>
                    <a:lnTo>
                      <a:pt x="127" y="719"/>
                    </a:lnTo>
                    <a:lnTo>
                      <a:pt x="138" y="731"/>
                    </a:lnTo>
                    <a:lnTo>
                      <a:pt x="162" y="731"/>
                    </a:lnTo>
                    <a:lnTo>
                      <a:pt x="173" y="743"/>
                    </a:lnTo>
                    <a:lnTo>
                      <a:pt x="196" y="753"/>
                    </a:lnTo>
                    <a:lnTo>
                      <a:pt x="207" y="766"/>
                    </a:lnTo>
                    <a:lnTo>
                      <a:pt x="231" y="777"/>
                    </a:lnTo>
                    <a:lnTo>
                      <a:pt x="277" y="777"/>
                    </a:lnTo>
                    <a:lnTo>
                      <a:pt x="311" y="777"/>
                    </a:lnTo>
                    <a:lnTo>
                      <a:pt x="347" y="777"/>
                    </a:lnTo>
                    <a:lnTo>
                      <a:pt x="393" y="777"/>
                    </a:lnTo>
                    <a:lnTo>
                      <a:pt x="427" y="766"/>
                    </a:lnTo>
                    <a:lnTo>
                      <a:pt x="462" y="766"/>
                    </a:lnTo>
                    <a:lnTo>
                      <a:pt x="509" y="766"/>
                    </a:lnTo>
                    <a:lnTo>
                      <a:pt x="544" y="766"/>
                    </a:lnTo>
                    <a:lnTo>
                      <a:pt x="555" y="766"/>
                    </a:lnTo>
                    <a:lnTo>
                      <a:pt x="566" y="753"/>
                    </a:lnTo>
                    <a:lnTo>
                      <a:pt x="578" y="753"/>
                    </a:lnTo>
                    <a:lnTo>
                      <a:pt x="590" y="766"/>
                    </a:lnTo>
                    <a:lnTo>
                      <a:pt x="613" y="766"/>
                    </a:lnTo>
                    <a:lnTo>
                      <a:pt x="635" y="777"/>
                    </a:lnTo>
                    <a:lnTo>
                      <a:pt x="659" y="777"/>
                    </a:lnTo>
                    <a:lnTo>
                      <a:pt x="682" y="766"/>
                    </a:lnTo>
                    <a:lnTo>
                      <a:pt x="706" y="766"/>
                    </a:lnTo>
                    <a:lnTo>
                      <a:pt x="728" y="766"/>
                    </a:lnTo>
                    <a:lnTo>
                      <a:pt x="752" y="766"/>
                    </a:lnTo>
                    <a:lnTo>
                      <a:pt x="763" y="777"/>
                    </a:lnTo>
                    <a:lnTo>
                      <a:pt x="775" y="788"/>
                    </a:lnTo>
                    <a:lnTo>
                      <a:pt x="775" y="801"/>
                    </a:lnTo>
                    <a:lnTo>
                      <a:pt x="775" y="824"/>
                    </a:lnTo>
                    <a:lnTo>
                      <a:pt x="775" y="835"/>
                    </a:lnTo>
                    <a:lnTo>
                      <a:pt x="775" y="859"/>
                    </a:lnTo>
                    <a:lnTo>
                      <a:pt x="775" y="870"/>
                    </a:lnTo>
                    <a:lnTo>
                      <a:pt x="775" y="882"/>
                    </a:lnTo>
                    <a:lnTo>
                      <a:pt x="763" y="905"/>
                    </a:lnTo>
                    <a:lnTo>
                      <a:pt x="763" y="928"/>
                    </a:lnTo>
                    <a:lnTo>
                      <a:pt x="763" y="951"/>
                    </a:lnTo>
                    <a:lnTo>
                      <a:pt x="763" y="975"/>
                    </a:lnTo>
                    <a:lnTo>
                      <a:pt x="763" y="997"/>
                    </a:lnTo>
                    <a:lnTo>
                      <a:pt x="775" y="1021"/>
                    </a:lnTo>
                    <a:lnTo>
                      <a:pt x="775" y="1045"/>
                    </a:lnTo>
                    <a:lnTo>
                      <a:pt x="775" y="1067"/>
                    </a:lnTo>
                    <a:lnTo>
                      <a:pt x="752" y="1090"/>
                    </a:lnTo>
                    <a:lnTo>
                      <a:pt x="717" y="1113"/>
                    </a:lnTo>
                    <a:lnTo>
                      <a:pt x="682" y="1137"/>
                    </a:lnTo>
                    <a:lnTo>
                      <a:pt x="659" y="1161"/>
                    </a:lnTo>
                    <a:lnTo>
                      <a:pt x="635" y="1195"/>
                    </a:lnTo>
                    <a:lnTo>
                      <a:pt x="613" y="1229"/>
                    </a:lnTo>
                    <a:lnTo>
                      <a:pt x="590" y="1264"/>
                    </a:lnTo>
                    <a:lnTo>
                      <a:pt x="578" y="1299"/>
                    </a:lnTo>
                    <a:lnTo>
                      <a:pt x="566" y="1311"/>
                    </a:lnTo>
                    <a:lnTo>
                      <a:pt x="555" y="1311"/>
                    </a:lnTo>
                    <a:lnTo>
                      <a:pt x="544" y="1322"/>
                    </a:lnTo>
                    <a:lnTo>
                      <a:pt x="532" y="1322"/>
                    </a:lnTo>
                    <a:lnTo>
                      <a:pt x="520" y="1322"/>
                    </a:lnTo>
                    <a:lnTo>
                      <a:pt x="509" y="1335"/>
                    </a:lnTo>
                    <a:lnTo>
                      <a:pt x="496" y="1335"/>
                    </a:lnTo>
                    <a:lnTo>
                      <a:pt x="393" y="1450"/>
                    </a:lnTo>
                    <a:lnTo>
                      <a:pt x="393" y="1439"/>
                    </a:lnTo>
                    <a:lnTo>
                      <a:pt x="381" y="1439"/>
                    </a:lnTo>
                    <a:lnTo>
                      <a:pt x="381" y="1427"/>
                    </a:lnTo>
                    <a:lnTo>
                      <a:pt x="300" y="1346"/>
                    </a:lnTo>
                    <a:lnTo>
                      <a:pt x="254" y="1392"/>
                    </a:lnTo>
                    <a:lnTo>
                      <a:pt x="242" y="1404"/>
                    </a:lnTo>
                    <a:lnTo>
                      <a:pt x="242" y="1427"/>
                    </a:lnTo>
                    <a:lnTo>
                      <a:pt x="231" y="1450"/>
                    </a:lnTo>
                    <a:lnTo>
                      <a:pt x="242" y="1462"/>
                    </a:lnTo>
                    <a:lnTo>
                      <a:pt x="242" y="1484"/>
                    </a:lnTo>
                    <a:lnTo>
                      <a:pt x="242" y="1497"/>
                    </a:lnTo>
                    <a:lnTo>
                      <a:pt x="254" y="1520"/>
                    </a:lnTo>
                    <a:lnTo>
                      <a:pt x="254" y="1531"/>
                    </a:lnTo>
                    <a:lnTo>
                      <a:pt x="265" y="1542"/>
                    </a:lnTo>
                    <a:lnTo>
                      <a:pt x="277" y="1555"/>
                    </a:lnTo>
                    <a:lnTo>
                      <a:pt x="277" y="1566"/>
                    </a:lnTo>
                    <a:lnTo>
                      <a:pt x="289" y="1578"/>
                    </a:lnTo>
                    <a:lnTo>
                      <a:pt x="289" y="1589"/>
                    </a:lnTo>
                    <a:lnTo>
                      <a:pt x="289" y="1600"/>
                    </a:lnTo>
                    <a:lnTo>
                      <a:pt x="289" y="1613"/>
                    </a:lnTo>
                    <a:lnTo>
                      <a:pt x="277" y="1624"/>
                    </a:lnTo>
                    <a:lnTo>
                      <a:pt x="277" y="1637"/>
                    </a:lnTo>
                    <a:lnTo>
                      <a:pt x="277" y="1647"/>
                    </a:lnTo>
                    <a:lnTo>
                      <a:pt x="265" y="1658"/>
                    </a:lnTo>
                    <a:lnTo>
                      <a:pt x="265" y="1671"/>
                    </a:lnTo>
                    <a:lnTo>
                      <a:pt x="265" y="1682"/>
                    </a:lnTo>
                    <a:lnTo>
                      <a:pt x="277" y="1694"/>
                    </a:lnTo>
                    <a:lnTo>
                      <a:pt x="289" y="1705"/>
                    </a:lnTo>
                    <a:lnTo>
                      <a:pt x="300" y="1705"/>
                    </a:lnTo>
                    <a:lnTo>
                      <a:pt x="300" y="1716"/>
                    </a:lnTo>
                    <a:lnTo>
                      <a:pt x="311" y="1716"/>
                    </a:lnTo>
                    <a:lnTo>
                      <a:pt x="335" y="1705"/>
                    </a:lnTo>
                    <a:lnTo>
                      <a:pt x="359" y="1694"/>
                    </a:lnTo>
                    <a:lnTo>
                      <a:pt x="381" y="1682"/>
                    </a:lnTo>
                    <a:lnTo>
                      <a:pt x="404" y="1671"/>
                    </a:lnTo>
                    <a:lnTo>
                      <a:pt x="427" y="1647"/>
                    </a:lnTo>
                    <a:lnTo>
                      <a:pt x="451" y="1624"/>
                    </a:lnTo>
                    <a:lnTo>
                      <a:pt x="475" y="1613"/>
                    </a:lnTo>
                    <a:lnTo>
                      <a:pt x="496" y="1589"/>
                    </a:lnTo>
                    <a:lnTo>
                      <a:pt x="509" y="1566"/>
                    </a:lnTo>
                    <a:lnTo>
                      <a:pt x="520" y="1555"/>
                    </a:lnTo>
                    <a:lnTo>
                      <a:pt x="544" y="1531"/>
                    </a:lnTo>
                    <a:lnTo>
                      <a:pt x="555" y="1520"/>
                    </a:lnTo>
                    <a:lnTo>
                      <a:pt x="578" y="1508"/>
                    </a:lnTo>
                    <a:lnTo>
                      <a:pt x="590" y="1497"/>
                    </a:lnTo>
                    <a:lnTo>
                      <a:pt x="613" y="1484"/>
                    </a:lnTo>
                    <a:lnTo>
                      <a:pt x="624" y="1473"/>
                    </a:lnTo>
                    <a:lnTo>
                      <a:pt x="671" y="1462"/>
                    </a:lnTo>
                    <a:lnTo>
                      <a:pt x="706" y="1439"/>
                    </a:lnTo>
                    <a:lnTo>
                      <a:pt x="740" y="1404"/>
                    </a:lnTo>
                    <a:lnTo>
                      <a:pt x="775" y="1369"/>
                    </a:lnTo>
                    <a:lnTo>
                      <a:pt x="810" y="1346"/>
                    </a:lnTo>
                    <a:lnTo>
                      <a:pt x="855" y="1322"/>
                    </a:lnTo>
                    <a:lnTo>
                      <a:pt x="890" y="1299"/>
                    </a:lnTo>
                    <a:lnTo>
                      <a:pt x="937" y="1299"/>
                    </a:lnTo>
                    <a:lnTo>
                      <a:pt x="949" y="1299"/>
                    </a:lnTo>
                    <a:lnTo>
                      <a:pt x="960" y="1299"/>
                    </a:lnTo>
                    <a:lnTo>
                      <a:pt x="971" y="1299"/>
                    </a:lnTo>
                    <a:lnTo>
                      <a:pt x="983" y="1299"/>
                    </a:lnTo>
                    <a:lnTo>
                      <a:pt x="983" y="1311"/>
                    </a:lnTo>
                    <a:lnTo>
                      <a:pt x="995" y="1322"/>
                    </a:lnTo>
                    <a:lnTo>
                      <a:pt x="995" y="1335"/>
                    </a:lnTo>
                    <a:lnTo>
                      <a:pt x="995" y="1346"/>
                    </a:lnTo>
                    <a:lnTo>
                      <a:pt x="995" y="1357"/>
                    </a:lnTo>
                    <a:lnTo>
                      <a:pt x="995" y="1369"/>
                    </a:lnTo>
                    <a:lnTo>
                      <a:pt x="995" y="1380"/>
                    </a:lnTo>
                    <a:lnTo>
                      <a:pt x="995" y="1392"/>
                    </a:lnTo>
                    <a:lnTo>
                      <a:pt x="995" y="1404"/>
                    </a:lnTo>
                    <a:lnTo>
                      <a:pt x="995" y="1415"/>
                    </a:lnTo>
                    <a:lnTo>
                      <a:pt x="995" y="1427"/>
                    </a:lnTo>
                    <a:lnTo>
                      <a:pt x="995" y="1439"/>
                    </a:lnTo>
                    <a:lnTo>
                      <a:pt x="1029" y="1484"/>
                    </a:lnTo>
                    <a:lnTo>
                      <a:pt x="1041" y="1531"/>
                    </a:lnTo>
                    <a:lnTo>
                      <a:pt x="1052" y="1589"/>
                    </a:lnTo>
                    <a:lnTo>
                      <a:pt x="1041" y="1647"/>
                    </a:lnTo>
                    <a:lnTo>
                      <a:pt x="1041" y="1705"/>
                    </a:lnTo>
                    <a:lnTo>
                      <a:pt x="1041" y="1763"/>
                    </a:lnTo>
                    <a:lnTo>
                      <a:pt x="1041" y="1810"/>
                    </a:lnTo>
                    <a:lnTo>
                      <a:pt x="1065" y="1868"/>
                    </a:lnTo>
                    <a:lnTo>
                      <a:pt x="1065" y="1891"/>
                    </a:lnTo>
                    <a:lnTo>
                      <a:pt x="1065" y="1902"/>
                    </a:lnTo>
                    <a:lnTo>
                      <a:pt x="1065" y="1926"/>
                    </a:lnTo>
                    <a:lnTo>
                      <a:pt x="1076" y="1936"/>
                    </a:lnTo>
                    <a:lnTo>
                      <a:pt x="1076" y="1960"/>
                    </a:lnTo>
                    <a:lnTo>
                      <a:pt x="1086" y="1972"/>
                    </a:lnTo>
                    <a:lnTo>
                      <a:pt x="1099" y="1984"/>
                    </a:lnTo>
                    <a:lnTo>
                      <a:pt x="1110" y="1995"/>
                    </a:lnTo>
                    <a:lnTo>
                      <a:pt x="1041" y="2076"/>
                    </a:lnTo>
                    <a:lnTo>
                      <a:pt x="1052" y="2088"/>
                    </a:lnTo>
                    <a:lnTo>
                      <a:pt x="1065" y="2100"/>
                    </a:lnTo>
                    <a:lnTo>
                      <a:pt x="1076" y="2111"/>
                    </a:lnTo>
                    <a:lnTo>
                      <a:pt x="1086" y="2111"/>
                    </a:lnTo>
                    <a:lnTo>
                      <a:pt x="1099" y="2111"/>
                    </a:lnTo>
                    <a:lnTo>
                      <a:pt x="1110" y="2111"/>
                    </a:lnTo>
                    <a:lnTo>
                      <a:pt x="1123" y="2111"/>
                    </a:lnTo>
                    <a:lnTo>
                      <a:pt x="1134" y="2100"/>
                    </a:lnTo>
                    <a:lnTo>
                      <a:pt x="1145" y="2100"/>
                    </a:lnTo>
                    <a:lnTo>
                      <a:pt x="1168" y="2100"/>
                    </a:lnTo>
                    <a:lnTo>
                      <a:pt x="1180" y="2088"/>
                    </a:lnTo>
                    <a:lnTo>
                      <a:pt x="1192" y="2100"/>
                    </a:lnTo>
                    <a:lnTo>
                      <a:pt x="1203" y="2100"/>
                    </a:lnTo>
                    <a:lnTo>
                      <a:pt x="1226" y="2100"/>
                    </a:lnTo>
                    <a:lnTo>
                      <a:pt x="1238" y="2100"/>
                    </a:lnTo>
                    <a:lnTo>
                      <a:pt x="1284" y="2053"/>
                    </a:lnTo>
                    <a:lnTo>
                      <a:pt x="1284" y="1821"/>
                    </a:lnTo>
                    <a:lnTo>
                      <a:pt x="1272" y="1774"/>
                    </a:lnTo>
                    <a:lnTo>
                      <a:pt x="1272" y="1729"/>
                    </a:lnTo>
                    <a:lnTo>
                      <a:pt x="1261" y="1682"/>
                    </a:lnTo>
                    <a:lnTo>
                      <a:pt x="1261" y="1624"/>
                    </a:lnTo>
                    <a:lnTo>
                      <a:pt x="1261" y="1578"/>
                    </a:lnTo>
                    <a:lnTo>
                      <a:pt x="1261" y="1531"/>
                    </a:lnTo>
                    <a:lnTo>
                      <a:pt x="1272" y="1484"/>
                    </a:lnTo>
                    <a:lnTo>
                      <a:pt x="1284" y="1439"/>
                    </a:lnTo>
                    <a:lnTo>
                      <a:pt x="1284" y="1415"/>
                    </a:lnTo>
                    <a:lnTo>
                      <a:pt x="1272" y="1357"/>
                    </a:lnTo>
                    <a:lnTo>
                      <a:pt x="1250" y="1311"/>
                    </a:lnTo>
                    <a:lnTo>
                      <a:pt x="1238" y="1264"/>
                    </a:lnTo>
                    <a:lnTo>
                      <a:pt x="1226" y="1206"/>
                    </a:lnTo>
                    <a:lnTo>
                      <a:pt x="1214" y="1161"/>
                    </a:lnTo>
                    <a:lnTo>
                      <a:pt x="1203" y="1113"/>
                    </a:lnTo>
                    <a:lnTo>
                      <a:pt x="1214" y="1055"/>
                    </a:lnTo>
                    <a:lnTo>
                      <a:pt x="1226" y="1009"/>
                    </a:lnTo>
                    <a:lnTo>
                      <a:pt x="1226" y="975"/>
                    </a:lnTo>
                    <a:lnTo>
                      <a:pt x="1214" y="951"/>
                    </a:lnTo>
                    <a:lnTo>
                      <a:pt x="1203" y="928"/>
                    </a:lnTo>
                    <a:lnTo>
                      <a:pt x="1203" y="905"/>
                    </a:lnTo>
                    <a:lnTo>
                      <a:pt x="1192" y="882"/>
                    </a:lnTo>
                    <a:lnTo>
                      <a:pt x="1192" y="847"/>
                    </a:lnTo>
                    <a:lnTo>
                      <a:pt x="1192" y="824"/>
                    </a:lnTo>
                    <a:lnTo>
                      <a:pt x="1214" y="801"/>
                    </a:lnTo>
                    <a:lnTo>
                      <a:pt x="1226" y="788"/>
                    </a:lnTo>
                    <a:lnTo>
                      <a:pt x="1238" y="788"/>
                    </a:lnTo>
                    <a:lnTo>
                      <a:pt x="1250" y="788"/>
                    </a:lnTo>
                    <a:lnTo>
                      <a:pt x="1250" y="801"/>
                    </a:lnTo>
                    <a:lnTo>
                      <a:pt x="1261" y="801"/>
                    </a:lnTo>
                    <a:lnTo>
                      <a:pt x="1272" y="812"/>
                    </a:lnTo>
                    <a:lnTo>
                      <a:pt x="1272" y="824"/>
                    </a:lnTo>
                    <a:lnTo>
                      <a:pt x="1272" y="835"/>
                    </a:lnTo>
                    <a:lnTo>
                      <a:pt x="1272" y="847"/>
                    </a:lnTo>
                    <a:lnTo>
                      <a:pt x="1272" y="859"/>
                    </a:lnTo>
                    <a:lnTo>
                      <a:pt x="1284" y="870"/>
                    </a:lnTo>
                    <a:lnTo>
                      <a:pt x="1284" y="882"/>
                    </a:lnTo>
                    <a:lnTo>
                      <a:pt x="1284" y="487"/>
                    </a:lnTo>
                    <a:lnTo>
                      <a:pt x="1214" y="464"/>
                    </a:lnTo>
                    <a:lnTo>
                      <a:pt x="1203" y="464"/>
                    </a:lnTo>
                    <a:lnTo>
                      <a:pt x="1192" y="464"/>
                    </a:lnTo>
                    <a:lnTo>
                      <a:pt x="1180" y="464"/>
                    </a:lnTo>
                    <a:lnTo>
                      <a:pt x="1168" y="453"/>
                    </a:lnTo>
                    <a:lnTo>
                      <a:pt x="1168" y="441"/>
                    </a:lnTo>
                    <a:lnTo>
                      <a:pt x="1157" y="441"/>
                    </a:lnTo>
                    <a:lnTo>
                      <a:pt x="1157" y="430"/>
                    </a:lnTo>
                    <a:lnTo>
                      <a:pt x="1157" y="417"/>
                    </a:lnTo>
                    <a:lnTo>
                      <a:pt x="1168" y="406"/>
                    </a:lnTo>
                    <a:lnTo>
                      <a:pt x="1180" y="406"/>
                    </a:lnTo>
                    <a:lnTo>
                      <a:pt x="1192" y="406"/>
                    </a:lnTo>
                    <a:lnTo>
                      <a:pt x="1250" y="441"/>
                    </a:lnTo>
                    <a:lnTo>
                      <a:pt x="1261" y="430"/>
                    </a:lnTo>
                    <a:lnTo>
                      <a:pt x="1272" y="430"/>
                    </a:lnTo>
                    <a:lnTo>
                      <a:pt x="1272" y="417"/>
                    </a:lnTo>
                    <a:lnTo>
                      <a:pt x="1284" y="417"/>
                    </a:lnTo>
                    <a:lnTo>
                      <a:pt x="1284" y="359"/>
                    </a:lnTo>
                    <a:lnTo>
                      <a:pt x="1272" y="359"/>
                    </a:lnTo>
                    <a:lnTo>
                      <a:pt x="1261" y="359"/>
                    </a:lnTo>
                    <a:lnTo>
                      <a:pt x="1250" y="359"/>
                    </a:lnTo>
                    <a:lnTo>
                      <a:pt x="1238" y="348"/>
                    </a:lnTo>
                    <a:lnTo>
                      <a:pt x="1238" y="336"/>
                    </a:lnTo>
                    <a:lnTo>
                      <a:pt x="1272" y="348"/>
                    </a:lnTo>
                    <a:lnTo>
                      <a:pt x="1284" y="3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605480" y="4465800"/>
                <a:ext cx="225360" cy="307800"/>
              </a:xfrm>
              <a:custGeom>
                <a:avLst/>
                <a:gdLst/>
                <a:ahLst/>
                <a:rect l="l" t="t" r="r" b="b"/>
                <a:pathLst>
                  <a:path w="567" h="778">
                    <a:moveTo>
                      <a:pt x="567" y="778"/>
                    </a:moveTo>
                    <a:lnTo>
                      <a:pt x="556" y="765"/>
                    </a:lnTo>
                    <a:lnTo>
                      <a:pt x="556" y="742"/>
                    </a:lnTo>
                    <a:lnTo>
                      <a:pt x="556" y="720"/>
                    </a:lnTo>
                    <a:lnTo>
                      <a:pt x="556" y="696"/>
                    </a:lnTo>
                    <a:lnTo>
                      <a:pt x="556" y="661"/>
                    </a:lnTo>
                    <a:lnTo>
                      <a:pt x="556" y="650"/>
                    </a:lnTo>
                    <a:lnTo>
                      <a:pt x="544" y="638"/>
                    </a:lnTo>
                    <a:lnTo>
                      <a:pt x="544" y="626"/>
                    </a:lnTo>
                    <a:lnTo>
                      <a:pt x="532" y="626"/>
                    </a:lnTo>
                    <a:lnTo>
                      <a:pt x="520" y="626"/>
                    </a:lnTo>
                    <a:lnTo>
                      <a:pt x="520" y="614"/>
                    </a:lnTo>
                    <a:lnTo>
                      <a:pt x="509" y="614"/>
                    </a:lnTo>
                    <a:lnTo>
                      <a:pt x="498" y="603"/>
                    </a:lnTo>
                    <a:lnTo>
                      <a:pt x="498" y="592"/>
                    </a:lnTo>
                    <a:lnTo>
                      <a:pt x="486" y="592"/>
                    </a:lnTo>
                    <a:lnTo>
                      <a:pt x="486" y="580"/>
                    </a:lnTo>
                    <a:lnTo>
                      <a:pt x="486" y="545"/>
                    </a:lnTo>
                    <a:lnTo>
                      <a:pt x="462" y="499"/>
                    </a:lnTo>
                    <a:lnTo>
                      <a:pt x="440" y="476"/>
                    </a:lnTo>
                    <a:lnTo>
                      <a:pt x="417" y="452"/>
                    </a:lnTo>
                    <a:lnTo>
                      <a:pt x="381" y="428"/>
                    </a:lnTo>
                    <a:lnTo>
                      <a:pt x="346" y="406"/>
                    </a:lnTo>
                    <a:lnTo>
                      <a:pt x="312" y="383"/>
                    </a:lnTo>
                    <a:lnTo>
                      <a:pt x="289" y="348"/>
                    </a:lnTo>
                    <a:lnTo>
                      <a:pt x="266" y="312"/>
                    </a:lnTo>
                    <a:lnTo>
                      <a:pt x="266" y="290"/>
                    </a:lnTo>
                    <a:lnTo>
                      <a:pt x="255" y="266"/>
                    </a:lnTo>
                    <a:lnTo>
                      <a:pt x="243" y="244"/>
                    </a:lnTo>
                    <a:lnTo>
                      <a:pt x="243" y="232"/>
                    </a:lnTo>
                    <a:lnTo>
                      <a:pt x="231" y="208"/>
                    </a:lnTo>
                    <a:lnTo>
                      <a:pt x="208" y="197"/>
                    </a:lnTo>
                    <a:lnTo>
                      <a:pt x="197" y="186"/>
                    </a:lnTo>
                    <a:lnTo>
                      <a:pt x="173" y="174"/>
                    </a:lnTo>
                    <a:lnTo>
                      <a:pt x="57" y="139"/>
                    </a:lnTo>
                    <a:lnTo>
                      <a:pt x="46" y="139"/>
                    </a:lnTo>
                    <a:lnTo>
                      <a:pt x="35" y="139"/>
                    </a:lnTo>
                    <a:lnTo>
                      <a:pt x="23" y="139"/>
                    </a:lnTo>
                    <a:lnTo>
                      <a:pt x="11" y="128"/>
                    </a:lnTo>
                    <a:lnTo>
                      <a:pt x="11" y="116"/>
                    </a:lnTo>
                    <a:lnTo>
                      <a:pt x="0" y="116"/>
                    </a:lnTo>
                    <a:lnTo>
                      <a:pt x="0" y="105"/>
                    </a:lnTo>
                    <a:lnTo>
                      <a:pt x="0" y="92"/>
                    </a:lnTo>
                    <a:lnTo>
                      <a:pt x="11" y="81"/>
                    </a:lnTo>
                    <a:lnTo>
                      <a:pt x="23" y="81"/>
                    </a:lnTo>
                    <a:lnTo>
                      <a:pt x="35" y="81"/>
                    </a:lnTo>
                    <a:lnTo>
                      <a:pt x="93" y="116"/>
                    </a:lnTo>
                    <a:lnTo>
                      <a:pt x="104" y="105"/>
                    </a:lnTo>
                    <a:lnTo>
                      <a:pt x="115" y="105"/>
                    </a:lnTo>
                    <a:lnTo>
                      <a:pt x="115" y="92"/>
                    </a:lnTo>
                    <a:lnTo>
                      <a:pt x="127" y="92"/>
                    </a:lnTo>
                    <a:lnTo>
                      <a:pt x="127" y="81"/>
                    </a:lnTo>
                    <a:lnTo>
                      <a:pt x="139" y="81"/>
                    </a:lnTo>
                    <a:lnTo>
                      <a:pt x="150" y="70"/>
                    </a:lnTo>
                    <a:lnTo>
                      <a:pt x="150" y="81"/>
                    </a:lnTo>
                    <a:lnTo>
                      <a:pt x="150" y="92"/>
                    </a:lnTo>
                    <a:lnTo>
                      <a:pt x="162" y="92"/>
                    </a:lnTo>
                    <a:lnTo>
                      <a:pt x="162" y="105"/>
                    </a:lnTo>
                    <a:lnTo>
                      <a:pt x="173" y="105"/>
                    </a:lnTo>
                    <a:lnTo>
                      <a:pt x="185" y="105"/>
                    </a:lnTo>
                    <a:lnTo>
                      <a:pt x="197" y="105"/>
                    </a:lnTo>
                    <a:lnTo>
                      <a:pt x="208" y="105"/>
                    </a:lnTo>
                    <a:lnTo>
                      <a:pt x="243" y="92"/>
                    </a:lnTo>
                    <a:lnTo>
                      <a:pt x="243" y="81"/>
                    </a:lnTo>
                    <a:lnTo>
                      <a:pt x="243" y="70"/>
                    </a:lnTo>
                    <a:lnTo>
                      <a:pt x="255" y="70"/>
                    </a:lnTo>
                    <a:lnTo>
                      <a:pt x="255" y="58"/>
                    </a:lnTo>
                    <a:lnTo>
                      <a:pt x="255" y="47"/>
                    </a:lnTo>
                    <a:lnTo>
                      <a:pt x="243" y="34"/>
                    </a:lnTo>
                    <a:lnTo>
                      <a:pt x="243" y="23"/>
                    </a:lnTo>
                    <a:lnTo>
                      <a:pt x="243" y="11"/>
                    </a:lnTo>
                    <a:lnTo>
                      <a:pt x="231" y="11"/>
                    </a:lnTo>
                    <a:lnTo>
                      <a:pt x="231" y="0"/>
                    </a:lnTo>
                    <a:lnTo>
                      <a:pt x="21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524480" y="4336920"/>
                <a:ext cx="209520" cy="128880"/>
              </a:xfrm>
              <a:custGeom>
                <a:avLst/>
                <a:gdLst/>
                <a:ahLst/>
                <a:rect l="l" t="t" r="r" b="b"/>
                <a:pathLst>
                  <a:path w="532" h="325">
                    <a:moveTo>
                      <a:pt x="427" y="325"/>
                    </a:moveTo>
                    <a:lnTo>
                      <a:pt x="427" y="314"/>
                    </a:lnTo>
                    <a:lnTo>
                      <a:pt x="427" y="301"/>
                    </a:lnTo>
                    <a:lnTo>
                      <a:pt x="416" y="290"/>
                    </a:lnTo>
                    <a:lnTo>
                      <a:pt x="416" y="279"/>
                    </a:lnTo>
                    <a:lnTo>
                      <a:pt x="416" y="267"/>
                    </a:lnTo>
                    <a:lnTo>
                      <a:pt x="393" y="256"/>
                    </a:lnTo>
                    <a:lnTo>
                      <a:pt x="451" y="221"/>
                    </a:lnTo>
                    <a:lnTo>
                      <a:pt x="451" y="209"/>
                    </a:lnTo>
                    <a:lnTo>
                      <a:pt x="463" y="209"/>
                    </a:lnTo>
                    <a:lnTo>
                      <a:pt x="463" y="198"/>
                    </a:lnTo>
                    <a:lnTo>
                      <a:pt x="474" y="198"/>
                    </a:lnTo>
                    <a:lnTo>
                      <a:pt x="485" y="198"/>
                    </a:lnTo>
                    <a:lnTo>
                      <a:pt x="485" y="185"/>
                    </a:lnTo>
                    <a:lnTo>
                      <a:pt x="497" y="185"/>
                    </a:lnTo>
                    <a:lnTo>
                      <a:pt x="509" y="174"/>
                    </a:lnTo>
                    <a:lnTo>
                      <a:pt x="532" y="46"/>
                    </a:lnTo>
                    <a:lnTo>
                      <a:pt x="520" y="46"/>
                    </a:lnTo>
                    <a:lnTo>
                      <a:pt x="520" y="36"/>
                    </a:lnTo>
                    <a:lnTo>
                      <a:pt x="509" y="36"/>
                    </a:lnTo>
                    <a:lnTo>
                      <a:pt x="497" y="36"/>
                    </a:lnTo>
                    <a:lnTo>
                      <a:pt x="485" y="36"/>
                    </a:lnTo>
                    <a:lnTo>
                      <a:pt x="474" y="36"/>
                    </a:lnTo>
                    <a:lnTo>
                      <a:pt x="463" y="36"/>
                    </a:lnTo>
                    <a:lnTo>
                      <a:pt x="463" y="46"/>
                    </a:lnTo>
                    <a:lnTo>
                      <a:pt x="451" y="46"/>
                    </a:lnTo>
                    <a:lnTo>
                      <a:pt x="451" y="58"/>
                    </a:lnTo>
                    <a:lnTo>
                      <a:pt x="439" y="70"/>
                    </a:lnTo>
                    <a:lnTo>
                      <a:pt x="427" y="70"/>
                    </a:lnTo>
                    <a:lnTo>
                      <a:pt x="416" y="81"/>
                    </a:lnTo>
                    <a:lnTo>
                      <a:pt x="416" y="70"/>
                    </a:lnTo>
                    <a:lnTo>
                      <a:pt x="405" y="70"/>
                    </a:lnTo>
                    <a:lnTo>
                      <a:pt x="393" y="70"/>
                    </a:lnTo>
                    <a:lnTo>
                      <a:pt x="381" y="58"/>
                    </a:lnTo>
                    <a:lnTo>
                      <a:pt x="370" y="58"/>
                    </a:lnTo>
                    <a:lnTo>
                      <a:pt x="358" y="46"/>
                    </a:lnTo>
                    <a:lnTo>
                      <a:pt x="347" y="46"/>
                    </a:lnTo>
                    <a:lnTo>
                      <a:pt x="335" y="36"/>
                    </a:lnTo>
                    <a:lnTo>
                      <a:pt x="323" y="23"/>
                    </a:lnTo>
                    <a:lnTo>
                      <a:pt x="301" y="12"/>
                    </a:lnTo>
                    <a:lnTo>
                      <a:pt x="289" y="12"/>
                    </a:lnTo>
                    <a:lnTo>
                      <a:pt x="265" y="0"/>
                    </a:lnTo>
                    <a:lnTo>
                      <a:pt x="254" y="0"/>
                    </a:lnTo>
                    <a:lnTo>
                      <a:pt x="243" y="0"/>
                    </a:lnTo>
                    <a:lnTo>
                      <a:pt x="219" y="12"/>
                    </a:lnTo>
                    <a:lnTo>
                      <a:pt x="208" y="23"/>
                    </a:lnTo>
                    <a:lnTo>
                      <a:pt x="196" y="23"/>
                    </a:lnTo>
                    <a:lnTo>
                      <a:pt x="185" y="36"/>
                    </a:lnTo>
                    <a:lnTo>
                      <a:pt x="161" y="36"/>
                    </a:lnTo>
                    <a:lnTo>
                      <a:pt x="150" y="36"/>
                    </a:lnTo>
                    <a:lnTo>
                      <a:pt x="137" y="36"/>
                    </a:lnTo>
                    <a:lnTo>
                      <a:pt x="116" y="36"/>
                    </a:lnTo>
                    <a:lnTo>
                      <a:pt x="103" y="23"/>
                    </a:lnTo>
                    <a:lnTo>
                      <a:pt x="92" y="23"/>
                    </a:lnTo>
                    <a:lnTo>
                      <a:pt x="80" y="23"/>
                    </a:lnTo>
                    <a:lnTo>
                      <a:pt x="68" y="12"/>
                    </a:lnTo>
                    <a:lnTo>
                      <a:pt x="58" y="12"/>
                    </a:lnTo>
                    <a:lnTo>
                      <a:pt x="46" y="12"/>
                    </a:lnTo>
                    <a:lnTo>
                      <a:pt x="34" y="23"/>
                    </a:lnTo>
                    <a:lnTo>
                      <a:pt x="22" y="36"/>
                    </a:lnTo>
                    <a:lnTo>
                      <a:pt x="22" y="46"/>
                    </a:lnTo>
                    <a:lnTo>
                      <a:pt x="11" y="46"/>
                    </a:lnTo>
                    <a:lnTo>
                      <a:pt x="11" y="58"/>
                    </a:lnTo>
                    <a:lnTo>
                      <a:pt x="0" y="58"/>
                    </a:lnTo>
                    <a:lnTo>
                      <a:pt x="0" y="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146480" y="4363920"/>
                <a:ext cx="378000" cy="266760"/>
              </a:xfrm>
              <a:custGeom>
                <a:avLst/>
                <a:gdLst/>
                <a:ahLst/>
                <a:rect l="l" t="t" r="r" b="b"/>
                <a:pathLst>
                  <a:path w="949" h="673">
                    <a:moveTo>
                      <a:pt x="949" y="0"/>
                    </a:moveTo>
                    <a:lnTo>
                      <a:pt x="937" y="11"/>
                    </a:lnTo>
                    <a:lnTo>
                      <a:pt x="925" y="23"/>
                    </a:lnTo>
                    <a:lnTo>
                      <a:pt x="913" y="23"/>
                    </a:lnTo>
                    <a:lnTo>
                      <a:pt x="913" y="35"/>
                    </a:lnTo>
                    <a:lnTo>
                      <a:pt x="902" y="35"/>
                    </a:lnTo>
                    <a:lnTo>
                      <a:pt x="890" y="46"/>
                    </a:lnTo>
                    <a:lnTo>
                      <a:pt x="879" y="46"/>
                    </a:lnTo>
                    <a:lnTo>
                      <a:pt x="879" y="58"/>
                    </a:lnTo>
                    <a:lnTo>
                      <a:pt x="879" y="69"/>
                    </a:lnTo>
                    <a:lnTo>
                      <a:pt x="833" y="220"/>
                    </a:lnTo>
                    <a:lnTo>
                      <a:pt x="844" y="220"/>
                    </a:lnTo>
                    <a:lnTo>
                      <a:pt x="855" y="220"/>
                    </a:lnTo>
                    <a:lnTo>
                      <a:pt x="855" y="231"/>
                    </a:lnTo>
                    <a:lnTo>
                      <a:pt x="844" y="244"/>
                    </a:lnTo>
                    <a:lnTo>
                      <a:pt x="844" y="255"/>
                    </a:lnTo>
                    <a:lnTo>
                      <a:pt x="844" y="266"/>
                    </a:lnTo>
                    <a:lnTo>
                      <a:pt x="844" y="278"/>
                    </a:lnTo>
                    <a:lnTo>
                      <a:pt x="844" y="289"/>
                    </a:lnTo>
                    <a:lnTo>
                      <a:pt x="855" y="289"/>
                    </a:lnTo>
                    <a:lnTo>
                      <a:pt x="855" y="302"/>
                    </a:lnTo>
                    <a:lnTo>
                      <a:pt x="855" y="313"/>
                    </a:lnTo>
                    <a:lnTo>
                      <a:pt x="855" y="325"/>
                    </a:lnTo>
                    <a:lnTo>
                      <a:pt x="844" y="336"/>
                    </a:lnTo>
                    <a:lnTo>
                      <a:pt x="868" y="360"/>
                    </a:lnTo>
                    <a:lnTo>
                      <a:pt x="913" y="347"/>
                    </a:lnTo>
                    <a:lnTo>
                      <a:pt x="913" y="360"/>
                    </a:lnTo>
                    <a:lnTo>
                      <a:pt x="890" y="371"/>
                    </a:lnTo>
                    <a:lnTo>
                      <a:pt x="868" y="383"/>
                    </a:lnTo>
                    <a:lnTo>
                      <a:pt x="844" y="394"/>
                    </a:lnTo>
                    <a:lnTo>
                      <a:pt x="833" y="405"/>
                    </a:lnTo>
                    <a:lnTo>
                      <a:pt x="810" y="417"/>
                    </a:lnTo>
                    <a:lnTo>
                      <a:pt x="786" y="429"/>
                    </a:lnTo>
                    <a:lnTo>
                      <a:pt x="763" y="441"/>
                    </a:lnTo>
                    <a:lnTo>
                      <a:pt x="740" y="463"/>
                    </a:lnTo>
                    <a:lnTo>
                      <a:pt x="728" y="463"/>
                    </a:lnTo>
                    <a:lnTo>
                      <a:pt x="717" y="463"/>
                    </a:lnTo>
                    <a:lnTo>
                      <a:pt x="717" y="475"/>
                    </a:lnTo>
                    <a:lnTo>
                      <a:pt x="706" y="475"/>
                    </a:lnTo>
                    <a:lnTo>
                      <a:pt x="693" y="475"/>
                    </a:lnTo>
                    <a:lnTo>
                      <a:pt x="659" y="463"/>
                    </a:lnTo>
                    <a:lnTo>
                      <a:pt x="635" y="452"/>
                    </a:lnTo>
                    <a:lnTo>
                      <a:pt x="601" y="452"/>
                    </a:lnTo>
                    <a:lnTo>
                      <a:pt x="566" y="463"/>
                    </a:lnTo>
                    <a:lnTo>
                      <a:pt x="532" y="475"/>
                    </a:lnTo>
                    <a:lnTo>
                      <a:pt x="496" y="475"/>
                    </a:lnTo>
                    <a:lnTo>
                      <a:pt x="462" y="487"/>
                    </a:lnTo>
                    <a:lnTo>
                      <a:pt x="438" y="499"/>
                    </a:lnTo>
                    <a:lnTo>
                      <a:pt x="393" y="510"/>
                    </a:lnTo>
                    <a:lnTo>
                      <a:pt x="359" y="510"/>
                    </a:lnTo>
                    <a:lnTo>
                      <a:pt x="311" y="510"/>
                    </a:lnTo>
                    <a:lnTo>
                      <a:pt x="277" y="499"/>
                    </a:lnTo>
                    <a:lnTo>
                      <a:pt x="242" y="499"/>
                    </a:lnTo>
                    <a:lnTo>
                      <a:pt x="207" y="499"/>
                    </a:lnTo>
                    <a:lnTo>
                      <a:pt x="173" y="499"/>
                    </a:lnTo>
                    <a:lnTo>
                      <a:pt x="138" y="510"/>
                    </a:lnTo>
                    <a:lnTo>
                      <a:pt x="115" y="533"/>
                    </a:lnTo>
                    <a:lnTo>
                      <a:pt x="92" y="545"/>
                    </a:lnTo>
                    <a:lnTo>
                      <a:pt x="80" y="545"/>
                    </a:lnTo>
                    <a:lnTo>
                      <a:pt x="58" y="545"/>
                    </a:lnTo>
                    <a:lnTo>
                      <a:pt x="45" y="557"/>
                    </a:lnTo>
                    <a:lnTo>
                      <a:pt x="34" y="557"/>
                    </a:lnTo>
                    <a:lnTo>
                      <a:pt x="22" y="567"/>
                    </a:lnTo>
                    <a:lnTo>
                      <a:pt x="0" y="591"/>
                    </a:lnTo>
                    <a:lnTo>
                      <a:pt x="0" y="603"/>
                    </a:lnTo>
                    <a:lnTo>
                      <a:pt x="10" y="603"/>
                    </a:lnTo>
                    <a:lnTo>
                      <a:pt x="10" y="615"/>
                    </a:lnTo>
                    <a:lnTo>
                      <a:pt x="10" y="625"/>
                    </a:lnTo>
                    <a:lnTo>
                      <a:pt x="10" y="638"/>
                    </a:lnTo>
                    <a:lnTo>
                      <a:pt x="34" y="661"/>
                    </a:lnTo>
                    <a:lnTo>
                      <a:pt x="45" y="673"/>
                    </a:lnTo>
                    <a:lnTo>
                      <a:pt x="58" y="673"/>
                    </a:lnTo>
                    <a:lnTo>
                      <a:pt x="69" y="673"/>
                    </a:lnTo>
                    <a:lnTo>
                      <a:pt x="80" y="673"/>
                    </a:lnTo>
                    <a:lnTo>
                      <a:pt x="92" y="673"/>
                    </a:lnTo>
                    <a:lnTo>
                      <a:pt x="92" y="66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183200" y="4621320"/>
                <a:ext cx="271440" cy="382320"/>
              </a:xfrm>
              <a:custGeom>
                <a:avLst/>
                <a:gdLst/>
                <a:ahLst/>
                <a:rect l="l" t="t" r="r" b="b"/>
                <a:pathLst>
                  <a:path w="683" h="963">
                    <a:moveTo>
                      <a:pt x="0" y="12"/>
                    </a:moveTo>
                    <a:lnTo>
                      <a:pt x="23" y="12"/>
                    </a:lnTo>
                    <a:lnTo>
                      <a:pt x="35" y="0"/>
                    </a:lnTo>
                    <a:lnTo>
                      <a:pt x="46" y="12"/>
                    </a:lnTo>
                    <a:lnTo>
                      <a:pt x="70" y="12"/>
                    </a:lnTo>
                    <a:lnTo>
                      <a:pt x="81" y="24"/>
                    </a:lnTo>
                    <a:lnTo>
                      <a:pt x="104" y="34"/>
                    </a:lnTo>
                    <a:lnTo>
                      <a:pt x="115" y="47"/>
                    </a:lnTo>
                    <a:lnTo>
                      <a:pt x="139" y="58"/>
                    </a:lnTo>
                    <a:lnTo>
                      <a:pt x="185" y="58"/>
                    </a:lnTo>
                    <a:lnTo>
                      <a:pt x="219" y="58"/>
                    </a:lnTo>
                    <a:lnTo>
                      <a:pt x="255" y="58"/>
                    </a:lnTo>
                    <a:lnTo>
                      <a:pt x="301" y="58"/>
                    </a:lnTo>
                    <a:lnTo>
                      <a:pt x="335" y="47"/>
                    </a:lnTo>
                    <a:lnTo>
                      <a:pt x="370" y="47"/>
                    </a:lnTo>
                    <a:lnTo>
                      <a:pt x="417" y="47"/>
                    </a:lnTo>
                    <a:lnTo>
                      <a:pt x="452" y="47"/>
                    </a:lnTo>
                    <a:lnTo>
                      <a:pt x="463" y="47"/>
                    </a:lnTo>
                    <a:lnTo>
                      <a:pt x="474" y="34"/>
                    </a:lnTo>
                    <a:lnTo>
                      <a:pt x="486" y="34"/>
                    </a:lnTo>
                    <a:lnTo>
                      <a:pt x="498" y="47"/>
                    </a:lnTo>
                    <a:lnTo>
                      <a:pt x="521" y="47"/>
                    </a:lnTo>
                    <a:lnTo>
                      <a:pt x="543" y="58"/>
                    </a:lnTo>
                    <a:lnTo>
                      <a:pt x="567" y="58"/>
                    </a:lnTo>
                    <a:lnTo>
                      <a:pt x="590" y="47"/>
                    </a:lnTo>
                    <a:lnTo>
                      <a:pt x="614" y="47"/>
                    </a:lnTo>
                    <a:lnTo>
                      <a:pt x="636" y="47"/>
                    </a:lnTo>
                    <a:lnTo>
                      <a:pt x="660" y="47"/>
                    </a:lnTo>
                    <a:lnTo>
                      <a:pt x="671" y="58"/>
                    </a:lnTo>
                    <a:lnTo>
                      <a:pt x="683" y="69"/>
                    </a:lnTo>
                    <a:lnTo>
                      <a:pt x="683" y="82"/>
                    </a:lnTo>
                    <a:lnTo>
                      <a:pt x="683" y="105"/>
                    </a:lnTo>
                    <a:lnTo>
                      <a:pt x="683" y="116"/>
                    </a:lnTo>
                    <a:lnTo>
                      <a:pt x="683" y="140"/>
                    </a:lnTo>
                    <a:lnTo>
                      <a:pt x="683" y="151"/>
                    </a:lnTo>
                    <a:lnTo>
                      <a:pt x="683" y="163"/>
                    </a:lnTo>
                    <a:lnTo>
                      <a:pt x="671" y="186"/>
                    </a:lnTo>
                    <a:lnTo>
                      <a:pt x="671" y="209"/>
                    </a:lnTo>
                    <a:lnTo>
                      <a:pt x="671" y="232"/>
                    </a:lnTo>
                    <a:lnTo>
                      <a:pt x="671" y="256"/>
                    </a:lnTo>
                    <a:lnTo>
                      <a:pt x="671" y="278"/>
                    </a:lnTo>
                    <a:lnTo>
                      <a:pt x="683" y="302"/>
                    </a:lnTo>
                    <a:lnTo>
                      <a:pt x="683" y="326"/>
                    </a:lnTo>
                    <a:lnTo>
                      <a:pt x="683" y="348"/>
                    </a:lnTo>
                    <a:lnTo>
                      <a:pt x="660" y="371"/>
                    </a:lnTo>
                    <a:lnTo>
                      <a:pt x="625" y="394"/>
                    </a:lnTo>
                    <a:lnTo>
                      <a:pt x="590" y="418"/>
                    </a:lnTo>
                    <a:lnTo>
                      <a:pt x="567" y="442"/>
                    </a:lnTo>
                    <a:lnTo>
                      <a:pt x="543" y="476"/>
                    </a:lnTo>
                    <a:lnTo>
                      <a:pt x="521" y="510"/>
                    </a:lnTo>
                    <a:lnTo>
                      <a:pt x="498" y="545"/>
                    </a:lnTo>
                    <a:lnTo>
                      <a:pt x="486" y="580"/>
                    </a:lnTo>
                    <a:lnTo>
                      <a:pt x="474" y="592"/>
                    </a:lnTo>
                    <a:lnTo>
                      <a:pt x="463" y="592"/>
                    </a:lnTo>
                    <a:lnTo>
                      <a:pt x="452" y="603"/>
                    </a:lnTo>
                    <a:lnTo>
                      <a:pt x="440" y="603"/>
                    </a:lnTo>
                    <a:lnTo>
                      <a:pt x="428" y="603"/>
                    </a:lnTo>
                    <a:lnTo>
                      <a:pt x="417" y="616"/>
                    </a:lnTo>
                    <a:lnTo>
                      <a:pt x="404" y="616"/>
                    </a:lnTo>
                    <a:lnTo>
                      <a:pt x="301" y="731"/>
                    </a:lnTo>
                    <a:lnTo>
                      <a:pt x="301" y="720"/>
                    </a:lnTo>
                    <a:lnTo>
                      <a:pt x="289" y="720"/>
                    </a:lnTo>
                    <a:lnTo>
                      <a:pt x="289" y="708"/>
                    </a:lnTo>
                    <a:lnTo>
                      <a:pt x="208" y="627"/>
                    </a:lnTo>
                    <a:lnTo>
                      <a:pt x="162" y="673"/>
                    </a:lnTo>
                    <a:lnTo>
                      <a:pt x="150" y="685"/>
                    </a:lnTo>
                    <a:lnTo>
                      <a:pt x="150" y="708"/>
                    </a:lnTo>
                    <a:lnTo>
                      <a:pt x="139" y="731"/>
                    </a:lnTo>
                    <a:lnTo>
                      <a:pt x="150" y="743"/>
                    </a:lnTo>
                    <a:lnTo>
                      <a:pt x="150" y="765"/>
                    </a:lnTo>
                    <a:lnTo>
                      <a:pt x="150" y="778"/>
                    </a:lnTo>
                    <a:lnTo>
                      <a:pt x="162" y="801"/>
                    </a:lnTo>
                    <a:lnTo>
                      <a:pt x="162" y="812"/>
                    </a:lnTo>
                    <a:lnTo>
                      <a:pt x="173" y="823"/>
                    </a:lnTo>
                    <a:lnTo>
                      <a:pt x="185" y="836"/>
                    </a:lnTo>
                    <a:lnTo>
                      <a:pt x="185" y="847"/>
                    </a:lnTo>
                    <a:lnTo>
                      <a:pt x="197" y="859"/>
                    </a:lnTo>
                    <a:lnTo>
                      <a:pt x="197" y="870"/>
                    </a:lnTo>
                    <a:lnTo>
                      <a:pt x="197" y="881"/>
                    </a:lnTo>
                    <a:lnTo>
                      <a:pt x="197" y="894"/>
                    </a:lnTo>
                    <a:lnTo>
                      <a:pt x="185" y="905"/>
                    </a:lnTo>
                    <a:lnTo>
                      <a:pt x="185" y="918"/>
                    </a:lnTo>
                    <a:lnTo>
                      <a:pt x="185" y="928"/>
                    </a:lnTo>
                    <a:lnTo>
                      <a:pt x="173" y="939"/>
                    </a:lnTo>
                    <a:lnTo>
                      <a:pt x="173" y="952"/>
                    </a:lnTo>
                    <a:lnTo>
                      <a:pt x="173" y="9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253040" y="4851360"/>
                <a:ext cx="407880" cy="322200"/>
              </a:xfrm>
              <a:custGeom>
                <a:avLst/>
                <a:gdLst/>
                <a:ahLst/>
                <a:rect l="l" t="t" r="r" b="b"/>
                <a:pathLst>
                  <a:path w="1031" h="812">
                    <a:moveTo>
                      <a:pt x="0" y="383"/>
                    </a:moveTo>
                    <a:lnTo>
                      <a:pt x="12" y="395"/>
                    </a:lnTo>
                    <a:lnTo>
                      <a:pt x="24" y="406"/>
                    </a:lnTo>
                    <a:lnTo>
                      <a:pt x="35" y="406"/>
                    </a:lnTo>
                    <a:lnTo>
                      <a:pt x="35" y="417"/>
                    </a:lnTo>
                    <a:lnTo>
                      <a:pt x="46" y="417"/>
                    </a:lnTo>
                    <a:lnTo>
                      <a:pt x="70" y="406"/>
                    </a:lnTo>
                    <a:lnTo>
                      <a:pt x="94" y="395"/>
                    </a:lnTo>
                    <a:lnTo>
                      <a:pt x="116" y="383"/>
                    </a:lnTo>
                    <a:lnTo>
                      <a:pt x="139" y="372"/>
                    </a:lnTo>
                    <a:lnTo>
                      <a:pt x="162" y="348"/>
                    </a:lnTo>
                    <a:lnTo>
                      <a:pt x="186" y="325"/>
                    </a:lnTo>
                    <a:lnTo>
                      <a:pt x="210" y="314"/>
                    </a:lnTo>
                    <a:lnTo>
                      <a:pt x="231" y="290"/>
                    </a:lnTo>
                    <a:lnTo>
                      <a:pt x="244" y="267"/>
                    </a:lnTo>
                    <a:lnTo>
                      <a:pt x="255" y="256"/>
                    </a:lnTo>
                    <a:lnTo>
                      <a:pt x="279" y="232"/>
                    </a:lnTo>
                    <a:lnTo>
                      <a:pt x="290" y="221"/>
                    </a:lnTo>
                    <a:lnTo>
                      <a:pt x="313" y="209"/>
                    </a:lnTo>
                    <a:lnTo>
                      <a:pt x="325" y="198"/>
                    </a:lnTo>
                    <a:lnTo>
                      <a:pt x="348" y="185"/>
                    </a:lnTo>
                    <a:lnTo>
                      <a:pt x="359" y="174"/>
                    </a:lnTo>
                    <a:lnTo>
                      <a:pt x="406" y="163"/>
                    </a:lnTo>
                    <a:lnTo>
                      <a:pt x="441" y="140"/>
                    </a:lnTo>
                    <a:lnTo>
                      <a:pt x="475" y="105"/>
                    </a:lnTo>
                    <a:lnTo>
                      <a:pt x="510" y="70"/>
                    </a:lnTo>
                    <a:lnTo>
                      <a:pt x="545" y="47"/>
                    </a:lnTo>
                    <a:lnTo>
                      <a:pt x="590" y="23"/>
                    </a:lnTo>
                    <a:lnTo>
                      <a:pt x="625" y="0"/>
                    </a:lnTo>
                    <a:lnTo>
                      <a:pt x="672" y="0"/>
                    </a:lnTo>
                    <a:lnTo>
                      <a:pt x="684" y="0"/>
                    </a:lnTo>
                    <a:lnTo>
                      <a:pt x="695" y="0"/>
                    </a:lnTo>
                    <a:lnTo>
                      <a:pt x="706" y="0"/>
                    </a:lnTo>
                    <a:lnTo>
                      <a:pt x="718" y="0"/>
                    </a:lnTo>
                    <a:lnTo>
                      <a:pt x="718" y="12"/>
                    </a:lnTo>
                    <a:lnTo>
                      <a:pt x="730" y="23"/>
                    </a:lnTo>
                    <a:lnTo>
                      <a:pt x="730" y="36"/>
                    </a:lnTo>
                    <a:lnTo>
                      <a:pt x="730" y="47"/>
                    </a:lnTo>
                    <a:lnTo>
                      <a:pt x="730" y="58"/>
                    </a:lnTo>
                    <a:lnTo>
                      <a:pt x="730" y="70"/>
                    </a:lnTo>
                    <a:lnTo>
                      <a:pt x="730" y="81"/>
                    </a:lnTo>
                    <a:lnTo>
                      <a:pt x="730" y="93"/>
                    </a:lnTo>
                    <a:lnTo>
                      <a:pt x="730" y="105"/>
                    </a:lnTo>
                    <a:lnTo>
                      <a:pt x="730" y="116"/>
                    </a:lnTo>
                    <a:lnTo>
                      <a:pt x="730" y="128"/>
                    </a:lnTo>
                    <a:lnTo>
                      <a:pt x="730" y="140"/>
                    </a:lnTo>
                    <a:lnTo>
                      <a:pt x="764" y="185"/>
                    </a:lnTo>
                    <a:lnTo>
                      <a:pt x="776" y="232"/>
                    </a:lnTo>
                    <a:lnTo>
                      <a:pt x="787" y="290"/>
                    </a:lnTo>
                    <a:lnTo>
                      <a:pt x="776" y="348"/>
                    </a:lnTo>
                    <a:lnTo>
                      <a:pt x="776" y="406"/>
                    </a:lnTo>
                    <a:lnTo>
                      <a:pt x="776" y="464"/>
                    </a:lnTo>
                    <a:lnTo>
                      <a:pt x="776" y="511"/>
                    </a:lnTo>
                    <a:lnTo>
                      <a:pt x="800" y="569"/>
                    </a:lnTo>
                    <a:lnTo>
                      <a:pt x="800" y="592"/>
                    </a:lnTo>
                    <a:lnTo>
                      <a:pt x="800" y="603"/>
                    </a:lnTo>
                    <a:lnTo>
                      <a:pt x="800" y="627"/>
                    </a:lnTo>
                    <a:lnTo>
                      <a:pt x="811" y="637"/>
                    </a:lnTo>
                    <a:lnTo>
                      <a:pt x="811" y="661"/>
                    </a:lnTo>
                    <a:lnTo>
                      <a:pt x="821" y="673"/>
                    </a:lnTo>
                    <a:lnTo>
                      <a:pt x="834" y="685"/>
                    </a:lnTo>
                    <a:lnTo>
                      <a:pt x="845" y="696"/>
                    </a:lnTo>
                    <a:lnTo>
                      <a:pt x="776" y="777"/>
                    </a:lnTo>
                    <a:lnTo>
                      <a:pt x="787" y="789"/>
                    </a:lnTo>
                    <a:lnTo>
                      <a:pt x="800" y="801"/>
                    </a:lnTo>
                    <a:lnTo>
                      <a:pt x="811" y="812"/>
                    </a:lnTo>
                    <a:lnTo>
                      <a:pt x="821" y="812"/>
                    </a:lnTo>
                    <a:lnTo>
                      <a:pt x="834" y="812"/>
                    </a:lnTo>
                    <a:lnTo>
                      <a:pt x="845" y="812"/>
                    </a:lnTo>
                    <a:lnTo>
                      <a:pt x="858" y="812"/>
                    </a:lnTo>
                    <a:lnTo>
                      <a:pt x="869" y="801"/>
                    </a:lnTo>
                    <a:lnTo>
                      <a:pt x="880" y="801"/>
                    </a:lnTo>
                    <a:lnTo>
                      <a:pt x="903" y="801"/>
                    </a:lnTo>
                    <a:lnTo>
                      <a:pt x="915" y="789"/>
                    </a:lnTo>
                    <a:lnTo>
                      <a:pt x="927" y="801"/>
                    </a:lnTo>
                    <a:lnTo>
                      <a:pt x="938" y="801"/>
                    </a:lnTo>
                    <a:lnTo>
                      <a:pt x="961" y="801"/>
                    </a:lnTo>
                    <a:lnTo>
                      <a:pt x="973" y="801"/>
                    </a:lnTo>
                    <a:lnTo>
                      <a:pt x="1019" y="754"/>
                    </a:lnTo>
                    <a:lnTo>
                      <a:pt x="1031" y="685"/>
                    </a:lnTo>
                    <a:lnTo>
                      <a:pt x="1031" y="603"/>
                    </a:lnTo>
                    <a:lnTo>
                      <a:pt x="1019" y="522"/>
                    </a:lnTo>
                    <a:lnTo>
                      <a:pt x="1007" y="441"/>
                    </a:lnTo>
                    <a:lnTo>
                      <a:pt x="996" y="372"/>
                    </a:lnTo>
                    <a:lnTo>
                      <a:pt x="996" y="290"/>
                    </a:lnTo>
                    <a:lnTo>
                      <a:pt x="996" y="2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4619520" y="4649760"/>
                <a:ext cx="211320" cy="285840"/>
              </a:xfrm>
              <a:custGeom>
                <a:avLst/>
                <a:gdLst/>
                <a:ahLst/>
                <a:rect l="l" t="t" r="r" b="b"/>
                <a:pathLst>
                  <a:path w="532" h="720">
                    <a:moveTo>
                      <a:pt x="69" y="720"/>
                    </a:moveTo>
                    <a:lnTo>
                      <a:pt x="92" y="639"/>
                    </a:lnTo>
                    <a:lnTo>
                      <a:pt x="80" y="592"/>
                    </a:lnTo>
                    <a:lnTo>
                      <a:pt x="69" y="534"/>
                    </a:lnTo>
                    <a:lnTo>
                      <a:pt x="46" y="489"/>
                    </a:lnTo>
                    <a:lnTo>
                      <a:pt x="34" y="431"/>
                    </a:lnTo>
                    <a:lnTo>
                      <a:pt x="22" y="383"/>
                    </a:lnTo>
                    <a:lnTo>
                      <a:pt x="11" y="325"/>
                    </a:lnTo>
                    <a:lnTo>
                      <a:pt x="22" y="267"/>
                    </a:lnTo>
                    <a:lnTo>
                      <a:pt x="34" y="221"/>
                    </a:lnTo>
                    <a:lnTo>
                      <a:pt x="34" y="187"/>
                    </a:lnTo>
                    <a:lnTo>
                      <a:pt x="22" y="163"/>
                    </a:lnTo>
                    <a:lnTo>
                      <a:pt x="11" y="140"/>
                    </a:lnTo>
                    <a:lnTo>
                      <a:pt x="11" y="117"/>
                    </a:lnTo>
                    <a:lnTo>
                      <a:pt x="0" y="94"/>
                    </a:lnTo>
                    <a:lnTo>
                      <a:pt x="0" y="59"/>
                    </a:lnTo>
                    <a:lnTo>
                      <a:pt x="0" y="36"/>
                    </a:lnTo>
                    <a:lnTo>
                      <a:pt x="22" y="13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58" y="13"/>
                    </a:lnTo>
                    <a:lnTo>
                      <a:pt x="69" y="13"/>
                    </a:lnTo>
                    <a:lnTo>
                      <a:pt x="80" y="47"/>
                    </a:lnTo>
                    <a:lnTo>
                      <a:pt x="80" y="71"/>
                    </a:lnTo>
                    <a:lnTo>
                      <a:pt x="92" y="94"/>
                    </a:lnTo>
                    <a:lnTo>
                      <a:pt x="92" y="117"/>
                    </a:lnTo>
                    <a:lnTo>
                      <a:pt x="104" y="140"/>
                    </a:lnTo>
                    <a:lnTo>
                      <a:pt x="115" y="163"/>
                    </a:lnTo>
                    <a:lnTo>
                      <a:pt x="115" y="187"/>
                    </a:lnTo>
                    <a:lnTo>
                      <a:pt x="138" y="209"/>
                    </a:lnTo>
                    <a:lnTo>
                      <a:pt x="162" y="221"/>
                    </a:lnTo>
                    <a:lnTo>
                      <a:pt x="184" y="233"/>
                    </a:lnTo>
                    <a:lnTo>
                      <a:pt x="220" y="233"/>
                    </a:lnTo>
                    <a:lnTo>
                      <a:pt x="242" y="233"/>
                    </a:lnTo>
                    <a:lnTo>
                      <a:pt x="277" y="233"/>
                    </a:lnTo>
                    <a:lnTo>
                      <a:pt x="300" y="245"/>
                    </a:lnTo>
                    <a:lnTo>
                      <a:pt x="324" y="257"/>
                    </a:lnTo>
                    <a:lnTo>
                      <a:pt x="346" y="279"/>
                    </a:lnTo>
                    <a:lnTo>
                      <a:pt x="358" y="279"/>
                    </a:lnTo>
                    <a:lnTo>
                      <a:pt x="382" y="291"/>
                    </a:lnTo>
                    <a:lnTo>
                      <a:pt x="393" y="291"/>
                    </a:lnTo>
                    <a:lnTo>
                      <a:pt x="417" y="302"/>
                    </a:lnTo>
                    <a:lnTo>
                      <a:pt x="439" y="302"/>
                    </a:lnTo>
                    <a:lnTo>
                      <a:pt x="451" y="302"/>
                    </a:lnTo>
                    <a:lnTo>
                      <a:pt x="474" y="315"/>
                    </a:lnTo>
                    <a:lnTo>
                      <a:pt x="485" y="315"/>
                    </a:lnTo>
                    <a:lnTo>
                      <a:pt x="497" y="315"/>
                    </a:lnTo>
                    <a:lnTo>
                      <a:pt x="497" y="325"/>
                    </a:lnTo>
                    <a:lnTo>
                      <a:pt x="497" y="337"/>
                    </a:lnTo>
                    <a:lnTo>
                      <a:pt x="509" y="337"/>
                    </a:lnTo>
                    <a:lnTo>
                      <a:pt x="509" y="349"/>
                    </a:lnTo>
                    <a:lnTo>
                      <a:pt x="521" y="349"/>
                    </a:lnTo>
                    <a:lnTo>
                      <a:pt x="521" y="337"/>
                    </a:lnTo>
                    <a:lnTo>
                      <a:pt x="532" y="325"/>
                    </a:lnTo>
                    <a:lnTo>
                      <a:pt x="532" y="3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705040" y="447048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93" h="59">
                    <a:moveTo>
                      <a:pt x="0" y="0"/>
                    </a:moveTo>
                    <a:lnTo>
                      <a:pt x="0" y="12"/>
                    </a:lnTo>
                    <a:lnTo>
                      <a:pt x="11" y="23"/>
                    </a:lnTo>
                    <a:lnTo>
                      <a:pt x="23" y="23"/>
                    </a:lnTo>
                    <a:lnTo>
                      <a:pt x="35" y="23"/>
                    </a:lnTo>
                    <a:lnTo>
                      <a:pt x="45" y="23"/>
                    </a:lnTo>
                    <a:lnTo>
                      <a:pt x="58" y="23"/>
                    </a:lnTo>
                    <a:lnTo>
                      <a:pt x="69" y="59"/>
                    </a:lnTo>
                    <a:lnTo>
                      <a:pt x="82" y="59"/>
                    </a:lnTo>
                    <a:lnTo>
                      <a:pt x="82" y="47"/>
                    </a:lnTo>
                    <a:lnTo>
                      <a:pt x="93" y="47"/>
                    </a:lnTo>
                    <a:lnTo>
                      <a:pt x="93" y="36"/>
                    </a:lnTo>
                    <a:lnTo>
                      <a:pt x="82" y="36"/>
                    </a:lnTo>
                    <a:lnTo>
                      <a:pt x="69" y="36"/>
                    </a:lnTo>
                    <a:lnTo>
                      <a:pt x="58" y="12"/>
                    </a:lnTo>
                    <a:lnTo>
                      <a:pt x="45" y="12"/>
                    </a:lnTo>
                    <a:lnTo>
                      <a:pt x="3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212920" y="4336920"/>
                <a:ext cx="684360" cy="836640"/>
              </a:xfrm>
              <a:custGeom>
                <a:avLst/>
                <a:gdLst/>
                <a:ahLst/>
                <a:rect l="l" t="t" r="r" b="b"/>
                <a:pathLst>
                  <a:path w="1724" h="2111">
                    <a:moveTo>
                      <a:pt x="1724" y="1103"/>
                    </a:moveTo>
                    <a:lnTo>
                      <a:pt x="1713" y="1090"/>
                    </a:lnTo>
                    <a:lnTo>
                      <a:pt x="1713" y="1067"/>
                    </a:lnTo>
                    <a:lnTo>
                      <a:pt x="1700" y="1045"/>
                    </a:lnTo>
                    <a:lnTo>
                      <a:pt x="1700" y="1021"/>
                    </a:lnTo>
                    <a:lnTo>
                      <a:pt x="1700" y="986"/>
                    </a:lnTo>
                    <a:lnTo>
                      <a:pt x="1700" y="975"/>
                    </a:lnTo>
                    <a:lnTo>
                      <a:pt x="1700" y="963"/>
                    </a:lnTo>
                    <a:lnTo>
                      <a:pt x="1700" y="951"/>
                    </a:lnTo>
                    <a:lnTo>
                      <a:pt x="1690" y="951"/>
                    </a:lnTo>
                    <a:lnTo>
                      <a:pt x="1678" y="951"/>
                    </a:lnTo>
                    <a:lnTo>
                      <a:pt x="1666" y="939"/>
                    </a:lnTo>
                    <a:lnTo>
                      <a:pt x="1654" y="928"/>
                    </a:lnTo>
                    <a:lnTo>
                      <a:pt x="1654" y="917"/>
                    </a:lnTo>
                    <a:lnTo>
                      <a:pt x="1643" y="917"/>
                    </a:lnTo>
                    <a:lnTo>
                      <a:pt x="1643" y="905"/>
                    </a:lnTo>
                    <a:lnTo>
                      <a:pt x="1643" y="870"/>
                    </a:lnTo>
                    <a:lnTo>
                      <a:pt x="1620" y="824"/>
                    </a:lnTo>
                    <a:lnTo>
                      <a:pt x="1596" y="801"/>
                    </a:lnTo>
                    <a:lnTo>
                      <a:pt x="1562" y="777"/>
                    </a:lnTo>
                    <a:lnTo>
                      <a:pt x="1527" y="753"/>
                    </a:lnTo>
                    <a:lnTo>
                      <a:pt x="1493" y="731"/>
                    </a:lnTo>
                    <a:lnTo>
                      <a:pt x="1469" y="708"/>
                    </a:lnTo>
                    <a:lnTo>
                      <a:pt x="1447" y="673"/>
                    </a:lnTo>
                    <a:lnTo>
                      <a:pt x="1423" y="637"/>
                    </a:lnTo>
                    <a:lnTo>
                      <a:pt x="1423" y="615"/>
                    </a:lnTo>
                    <a:lnTo>
                      <a:pt x="1411" y="591"/>
                    </a:lnTo>
                    <a:lnTo>
                      <a:pt x="1399" y="569"/>
                    </a:lnTo>
                    <a:lnTo>
                      <a:pt x="1389" y="557"/>
                    </a:lnTo>
                    <a:lnTo>
                      <a:pt x="1377" y="533"/>
                    </a:lnTo>
                    <a:lnTo>
                      <a:pt x="1365" y="522"/>
                    </a:lnTo>
                    <a:lnTo>
                      <a:pt x="1354" y="511"/>
                    </a:lnTo>
                    <a:lnTo>
                      <a:pt x="1331" y="499"/>
                    </a:lnTo>
                    <a:lnTo>
                      <a:pt x="1215" y="464"/>
                    </a:lnTo>
                    <a:lnTo>
                      <a:pt x="1203" y="464"/>
                    </a:lnTo>
                    <a:lnTo>
                      <a:pt x="1192" y="464"/>
                    </a:lnTo>
                    <a:lnTo>
                      <a:pt x="1180" y="464"/>
                    </a:lnTo>
                    <a:lnTo>
                      <a:pt x="1168" y="453"/>
                    </a:lnTo>
                    <a:lnTo>
                      <a:pt x="1158" y="441"/>
                    </a:lnTo>
                    <a:lnTo>
                      <a:pt x="1158" y="430"/>
                    </a:lnTo>
                    <a:lnTo>
                      <a:pt x="1158" y="417"/>
                    </a:lnTo>
                    <a:lnTo>
                      <a:pt x="1168" y="406"/>
                    </a:lnTo>
                    <a:lnTo>
                      <a:pt x="1180" y="406"/>
                    </a:lnTo>
                    <a:lnTo>
                      <a:pt x="1192" y="406"/>
                    </a:lnTo>
                    <a:lnTo>
                      <a:pt x="1238" y="441"/>
                    </a:lnTo>
                    <a:lnTo>
                      <a:pt x="1249" y="441"/>
                    </a:lnTo>
                    <a:lnTo>
                      <a:pt x="1261" y="430"/>
                    </a:lnTo>
                    <a:lnTo>
                      <a:pt x="1273" y="417"/>
                    </a:lnTo>
                    <a:lnTo>
                      <a:pt x="1283" y="406"/>
                    </a:lnTo>
                    <a:lnTo>
                      <a:pt x="1296" y="406"/>
                    </a:lnTo>
                    <a:lnTo>
                      <a:pt x="1296" y="395"/>
                    </a:lnTo>
                    <a:lnTo>
                      <a:pt x="1307" y="395"/>
                    </a:lnTo>
                    <a:lnTo>
                      <a:pt x="1307" y="406"/>
                    </a:lnTo>
                    <a:lnTo>
                      <a:pt x="1307" y="417"/>
                    </a:lnTo>
                    <a:lnTo>
                      <a:pt x="1320" y="417"/>
                    </a:lnTo>
                    <a:lnTo>
                      <a:pt x="1320" y="430"/>
                    </a:lnTo>
                    <a:lnTo>
                      <a:pt x="1331" y="430"/>
                    </a:lnTo>
                    <a:lnTo>
                      <a:pt x="1341" y="430"/>
                    </a:lnTo>
                    <a:lnTo>
                      <a:pt x="1354" y="430"/>
                    </a:lnTo>
                    <a:lnTo>
                      <a:pt x="1365" y="430"/>
                    </a:lnTo>
                    <a:lnTo>
                      <a:pt x="1399" y="417"/>
                    </a:lnTo>
                    <a:lnTo>
                      <a:pt x="1399" y="406"/>
                    </a:lnTo>
                    <a:lnTo>
                      <a:pt x="1399" y="395"/>
                    </a:lnTo>
                    <a:lnTo>
                      <a:pt x="1399" y="383"/>
                    </a:lnTo>
                    <a:lnTo>
                      <a:pt x="1399" y="372"/>
                    </a:lnTo>
                    <a:lnTo>
                      <a:pt x="1399" y="359"/>
                    </a:lnTo>
                    <a:lnTo>
                      <a:pt x="1399" y="348"/>
                    </a:lnTo>
                    <a:lnTo>
                      <a:pt x="1399" y="336"/>
                    </a:lnTo>
                    <a:lnTo>
                      <a:pt x="1389" y="336"/>
                    </a:lnTo>
                    <a:lnTo>
                      <a:pt x="1377" y="336"/>
                    </a:lnTo>
                    <a:lnTo>
                      <a:pt x="1377" y="325"/>
                    </a:lnTo>
                    <a:lnTo>
                      <a:pt x="1365" y="325"/>
                    </a:lnTo>
                    <a:lnTo>
                      <a:pt x="1365" y="314"/>
                    </a:lnTo>
                    <a:lnTo>
                      <a:pt x="1365" y="301"/>
                    </a:lnTo>
                    <a:lnTo>
                      <a:pt x="1365" y="290"/>
                    </a:lnTo>
                    <a:lnTo>
                      <a:pt x="1365" y="279"/>
                    </a:lnTo>
                    <a:lnTo>
                      <a:pt x="1365" y="267"/>
                    </a:lnTo>
                    <a:lnTo>
                      <a:pt x="1341" y="256"/>
                    </a:lnTo>
                    <a:lnTo>
                      <a:pt x="1399" y="221"/>
                    </a:lnTo>
                    <a:lnTo>
                      <a:pt x="1399" y="209"/>
                    </a:lnTo>
                    <a:lnTo>
                      <a:pt x="1399" y="198"/>
                    </a:lnTo>
                    <a:lnTo>
                      <a:pt x="1411" y="198"/>
                    </a:lnTo>
                    <a:lnTo>
                      <a:pt x="1423" y="198"/>
                    </a:lnTo>
                    <a:lnTo>
                      <a:pt x="1435" y="198"/>
                    </a:lnTo>
                    <a:lnTo>
                      <a:pt x="1435" y="185"/>
                    </a:lnTo>
                    <a:lnTo>
                      <a:pt x="1447" y="185"/>
                    </a:lnTo>
                    <a:lnTo>
                      <a:pt x="1447" y="174"/>
                    </a:lnTo>
                    <a:lnTo>
                      <a:pt x="1469" y="46"/>
                    </a:lnTo>
                    <a:lnTo>
                      <a:pt x="1469" y="36"/>
                    </a:lnTo>
                    <a:lnTo>
                      <a:pt x="1457" y="36"/>
                    </a:lnTo>
                    <a:lnTo>
                      <a:pt x="1447" y="36"/>
                    </a:lnTo>
                    <a:lnTo>
                      <a:pt x="1435" y="36"/>
                    </a:lnTo>
                    <a:lnTo>
                      <a:pt x="1423" y="36"/>
                    </a:lnTo>
                    <a:lnTo>
                      <a:pt x="1411" y="36"/>
                    </a:lnTo>
                    <a:lnTo>
                      <a:pt x="1411" y="46"/>
                    </a:lnTo>
                    <a:lnTo>
                      <a:pt x="1399" y="46"/>
                    </a:lnTo>
                    <a:lnTo>
                      <a:pt x="1399" y="58"/>
                    </a:lnTo>
                    <a:lnTo>
                      <a:pt x="1389" y="58"/>
                    </a:lnTo>
                    <a:lnTo>
                      <a:pt x="1389" y="70"/>
                    </a:lnTo>
                    <a:lnTo>
                      <a:pt x="1377" y="70"/>
                    </a:lnTo>
                    <a:lnTo>
                      <a:pt x="1365" y="70"/>
                    </a:lnTo>
                    <a:lnTo>
                      <a:pt x="1354" y="70"/>
                    </a:lnTo>
                    <a:lnTo>
                      <a:pt x="1341" y="70"/>
                    </a:lnTo>
                    <a:lnTo>
                      <a:pt x="1331" y="58"/>
                    </a:lnTo>
                    <a:lnTo>
                      <a:pt x="1320" y="58"/>
                    </a:lnTo>
                    <a:lnTo>
                      <a:pt x="1307" y="58"/>
                    </a:lnTo>
                    <a:lnTo>
                      <a:pt x="1307" y="46"/>
                    </a:lnTo>
                    <a:lnTo>
                      <a:pt x="1296" y="46"/>
                    </a:lnTo>
                    <a:lnTo>
                      <a:pt x="1283" y="36"/>
                    </a:lnTo>
                    <a:lnTo>
                      <a:pt x="1261" y="23"/>
                    </a:lnTo>
                    <a:lnTo>
                      <a:pt x="1249" y="12"/>
                    </a:lnTo>
                    <a:lnTo>
                      <a:pt x="1238" y="12"/>
                    </a:lnTo>
                    <a:lnTo>
                      <a:pt x="1215" y="0"/>
                    </a:lnTo>
                    <a:lnTo>
                      <a:pt x="1203" y="0"/>
                    </a:lnTo>
                    <a:lnTo>
                      <a:pt x="1180" y="0"/>
                    </a:lnTo>
                    <a:lnTo>
                      <a:pt x="1168" y="12"/>
                    </a:lnTo>
                    <a:lnTo>
                      <a:pt x="1158" y="23"/>
                    </a:lnTo>
                    <a:lnTo>
                      <a:pt x="1145" y="23"/>
                    </a:lnTo>
                    <a:lnTo>
                      <a:pt x="1122" y="36"/>
                    </a:lnTo>
                    <a:lnTo>
                      <a:pt x="1110" y="36"/>
                    </a:lnTo>
                    <a:lnTo>
                      <a:pt x="1100" y="36"/>
                    </a:lnTo>
                    <a:lnTo>
                      <a:pt x="1076" y="36"/>
                    </a:lnTo>
                    <a:lnTo>
                      <a:pt x="1064" y="36"/>
                    </a:lnTo>
                    <a:lnTo>
                      <a:pt x="1052" y="36"/>
                    </a:lnTo>
                    <a:lnTo>
                      <a:pt x="1041" y="23"/>
                    </a:lnTo>
                    <a:lnTo>
                      <a:pt x="1030" y="23"/>
                    </a:lnTo>
                    <a:lnTo>
                      <a:pt x="1018" y="23"/>
                    </a:lnTo>
                    <a:lnTo>
                      <a:pt x="1006" y="12"/>
                    </a:lnTo>
                    <a:lnTo>
                      <a:pt x="995" y="12"/>
                    </a:lnTo>
                    <a:lnTo>
                      <a:pt x="983" y="23"/>
                    </a:lnTo>
                    <a:lnTo>
                      <a:pt x="972" y="36"/>
                    </a:lnTo>
                    <a:lnTo>
                      <a:pt x="960" y="46"/>
                    </a:lnTo>
                    <a:lnTo>
                      <a:pt x="948" y="58"/>
                    </a:lnTo>
                    <a:lnTo>
                      <a:pt x="937" y="70"/>
                    </a:lnTo>
                    <a:lnTo>
                      <a:pt x="937" y="81"/>
                    </a:lnTo>
                    <a:lnTo>
                      <a:pt x="925" y="93"/>
                    </a:lnTo>
                    <a:lnTo>
                      <a:pt x="914" y="93"/>
                    </a:lnTo>
                    <a:lnTo>
                      <a:pt x="903" y="105"/>
                    </a:lnTo>
                    <a:lnTo>
                      <a:pt x="890" y="116"/>
                    </a:lnTo>
                    <a:lnTo>
                      <a:pt x="879" y="116"/>
                    </a:lnTo>
                    <a:lnTo>
                      <a:pt x="879" y="128"/>
                    </a:lnTo>
                    <a:lnTo>
                      <a:pt x="867" y="139"/>
                    </a:lnTo>
                    <a:lnTo>
                      <a:pt x="833" y="290"/>
                    </a:lnTo>
                    <a:lnTo>
                      <a:pt x="845" y="290"/>
                    </a:lnTo>
                    <a:lnTo>
                      <a:pt x="856" y="290"/>
                    </a:lnTo>
                    <a:lnTo>
                      <a:pt x="856" y="301"/>
                    </a:lnTo>
                    <a:lnTo>
                      <a:pt x="845" y="301"/>
                    </a:lnTo>
                    <a:lnTo>
                      <a:pt x="845" y="314"/>
                    </a:lnTo>
                    <a:lnTo>
                      <a:pt x="833" y="325"/>
                    </a:lnTo>
                    <a:lnTo>
                      <a:pt x="833" y="336"/>
                    </a:lnTo>
                    <a:lnTo>
                      <a:pt x="845" y="348"/>
                    </a:lnTo>
                    <a:lnTo>
                      <a:pt x="845" y="359"/>
                    </a:lnTo>
                    <a:lnTo>
                      <a:pt x="845" y="372"/>
                    </a:lnTo>
                    <a:lnTo>
                      <a:pt x="845" y="383"/>
                    </a:lnTo>
                    <a:lnTo>
                      <a:pt x="845" y="395"/>
                    </a:lnTo>
                    <a:lnTo>
                      <a:pt x="845" y="406"/>
                    </a:lnTo>
                    <a:lnTo>
                      <a:pt x="856" y="430"/>
                    </a:lnTo>
                    <a:lnTo>
                      <a:pt x="914" y="417"/>
                    </a:lnTo>
                    <a:lnTo>
                      <a:pt x="914" y="430"/>
                    </a:lnTo>
                    <a:lnTo>
                      <a:pt x="890" y="441"/>
                    </a:lnTo>
                    <a:lnTo>
                      <a:pt x="867" y="453"/>
                    </a:lnTo>
                    <a:lnTo>
                      <a:pt x="845" y="464"/>
                    </a:lnTo>
                    <a:lnTo>
                      <a:pt x="821" y="475"/>
                    </a:lnTo>
                    <a:lnTo>
                      <a:pt x="798" y="487"/>
                    </a:lnTo>
                    <a:lnTo>
                      <a:pt x="787" y="499"/>
                    </a:lnTo>
                    <a:lnTo>
                      <a:pt x="763" y="511"/>
                    </a:lnTo>
                    <a:lnTo>
                      <a:pt x="741" y="533"/>
                    </a:lnTo>
                    <a:lnTo>
                      <a:pt x="729" y="533"/>
                    </a:lnTo>
                    <a:lnTo>
                      <a:pt x="717" y="533"/>
                    </a:lnTo>
                    <a:lnTo>
                      <a:pt x="717" y="545"/>
                    </a:lnTo>
                    <a:lnTo>
                      <a:pt x="706" y="545"/>
                    </a:lnTo>
                    <a:lnTo>
                      <a:pt x="693" y="545"/>
                    </a:lnTo>
                    <a:lnTo>
                      <a:pt x="659" y="533"/>
                    </a:lnTo>
                    <a:lnTo>
                      <a:pt x="625" y="522"/>
                    </a:lnTo>
                    <a:lnTo>
                      <a:pt x="590" y="522"/>
                    </a:lnTo>
                    <a:lnTo>
                      <a:pt x="567" y="533"/>
                    </a:lnTo>
                    <a:lnTo>
                      <a:pt x="532" y="545"/>
                    </a:lnTo>
                    <a:lnTo>
                      <a:pt x="497" y="545"/>
                    </a:lnTo>
                    <a:lnTo>
                      <a:pt x="462" y="557"/>
                    </a:lnTo>
                    <a:lnTo>
                      <a:pt x="428" y="569"/>
                    </a:lnTo>
                    <a:lnTo>
                      <a:pt x="393" y="580"/>
                    </a:lnTo>
                    <a:lnTo>
                      <a:pt x="358" y="580"/>
                    </a:lnTo>
                    <a:lnTo>
                      <a:pt x="312" y="580"/>
                    </a:lnTo>
                    <a:lnTo>
                      <a:pt x="277" y="569"/>
                    </a:lnTo>
                    <a:lnTo>
                      <a:pt x="242" y="569"/>
                    </a:lnTo>
                    <a:lnTo>
                      <a:pt x="197" y="569"/>
                    </a:lnTo>
                    <a:lnTo>
                      <a:pt x="161" y="580"/>
                    </a:lnTo>
                    <a:lnTo>
                      <a:pt x="127" y="580"/>
                    </a:lnTo>
                    <a:lnTo>
                      <a:pt x="115" y="603"/>
                    </a:lnTo>
                    <a:lnTo>
                      <a:pt x="93" y="615"/>
                    </a:lnTo>
                    <a:lnTo>
                      <a:pt x="81" y="615"/>
                    </a:lnTo>
                    <a:lnTo>
                      <a:pt x="57" y="615"/>
                    </a:lnTo>
                    <a:lnTo>
                      <a:pt x="45" y="627"/>
                    </a:lnTo>
                    <a:lnTo>
                      <a:pt x="34" y="627"/>
                    </a:lnTo>
                    <a:lnTo>
                      <a:pt x="11" y="637"/>
                    </a:lnTo>
                    <a:lnTo>
                      <a:pt x="0" y="661"/>
                    </a:lnTo>
                    <a:lnTo>
                      <a:pt x="0" y="673"/>
                    </a:lnTo>
                    <a:lnTo>
                      <a:pt x="11" y="685"/>
                    </a:lnTo>
                    <a:lnTo>
                      <a:pt x="11" y="695"/>
                    </a:lnTo>
                    <a:lnTo>
                      <a:pt x="0" y="708"/>
                    </a:lnTo>
                    <a:lnTo>
                      <a:pt x="34" y="731"/>
                    </a:lnTo>
                    <a:lnTo>
                      <a:pt x="34" y="743"/>
                    </a:lnTo>
                    <a:lnTo>
                      <a:pt x="45" y="743"/>
                    </a:lnTo>
                    <a:lnTo>
                      <a:pt x="57" y="743"/>
                    </a:lnTo>
                    <a:lnTo>
                      <a:pt x="69" y="743"/>
                    </a:lnTo>
                    <a:lnTo>
                      <a:pt x="81" y="743"/>
                    </a:lnTo>
                    <a:lnTo>
                      <a:pt x="93" y="731"/>
                    </a:lnTo>
                    <a:lnTo>
                      <a:pt x="103" y="731"/>
                    </a:lnTo>
                    <a:lnTo>
                      <a:pt x="127" y="719"/>
                    </a:lnTo>
                    <a:lnTo>
                      <a:pt x="139" y="731"/>
                    </a:lnTo>
                    <a:lnTo>
                      <a:pt x="150" y="731"/>
                    </a:lnTo>
                    <a:lnTo>
                      <a:pt x="173" y="743"/>
                    </a:lnTo>
                    <a:lnTo>
                      <a:pt x="184" y="753"/>
                    </a:lnTo>
                    <a:lnTo>
                      <a:pt x="208" y="766"/>
                    </a:lnTo>
                    <a:lnTo>
                      <a:pt x="218" y="777"/>
                    </a:lnTo>
                    <a:lnTo>
                      <a:pt x="266" y="777"/>
                    </a:lnTo>
                    <a:lnTo>
                      <a:pt x="312" y="777"/>
                    </a:lnTo>
                    <a:lnTo>
                      <a:pt x="346" y="777"/>
                    </a:lnTo>
                    <a:lnTo>
                      <a:pt x="382" y="777"/>
                    </a:lnTo>
                    <a:lnTo>
                      <a:pt x="428" y="766"/>
                    </a:lnTo>
                    <a:lnTo>
                      <a:pt x="462" y="766"/>
                    </a:lnTo>
                    <a:lnTo>
                      <a:pt x="497" y="766"/>
                    </a:lnTo>
                    <a:lnTo>
                      <a:pt x="544" y="766"/>
                    </a:lnTo>
                    <a:lnTo>
                      <a:pt x="555" y="766"/>
                    </a:lnTo>
                    <a:lnTo>
                      <a:pt x="555" y="753"/>
                    </a:lnTo>
                    <a:lnTo>
                      <a:pt x="567" y="753"/>
                    </a:lnTo>
                    <a:lnTo>
                      <a:pt x="590" y="766"/>
                    </a:lnTo>
                    <a:lnTo>
                      <a:pt x="613" y="766"/>
                    </a:lnTo>
                    <a:lnTo>
                      <a:pt x="635" y="777"/>
                    </a:lnTo>
                    <a:lnTo>
                      <a:pt x="659" y="777"/>
                    </a:lnTo>
                    <a:lnTo>
                      <a:pt x="683" y="766"/>
                    </a:lnTo>
                    <a:lnTo>
                      <a:pt x="706" y="766"/>
                    </a:lnTo>
                    <a:lnTo>
                      <a:pt x="729" y="766"/>
                    </a:lnTo>
                    <a:lnTo>
                      <a:pt x="751" y="766"/>
                    </a:lnTo>
                    <a:lnTo>
                      <a:pt x="763" y="777"/>
                    </a:lnTo>
                    <a:lnTo>
                      <a:pt x="763" y="788"/>
                    </a:lnTo>
                    <a:lnTo>
                      <a:pt x="775" y="801"/>
                    </a:lnTo>
                    <a:lnTo>
                      <a:pt x="775" y="824"/>
                    </a:lnTo>
                    <a:lnTo>
                      <a:pt x="775" y="835"/>
                    </a:lnTo>
                    <a:lnTo>
                      <a:pt x="775" y="859"/>
                    </a:lnTo>
                    <a:lnTo>
                      <a:pt x="775" y="870"/>
                    </a:lnTo>
                    <a:lnTo>
                      <a:pt x="763" y="882"/>
                    </a:lnTo>
                    <a:lnTo>
                      <a:pt x="763" y="905"/>
                    </a:lnTo>
                    <a:lnTo>
                      <a:pt x="763" y="928"/>
                    </a:lnTo>
                    <a:lnTo>
                      <a:pt x="763" y="951"/>
                    </a:lnTo>
                    <a:lnTo>
                      <a:pt x="763" y="975"/>
                    </a:lnTo>
                    <a:lnTo>
                      <a:pt x="763" y="997"/>
                    </a:lnTo>
                    <a:lnTo>
                      <a:pt x="775" y="1021"/>
                    </a:lnTo>
                    <a:lnTo>
                      <a:pt x="775" y="1045"/>
                    </a:lnTo>
                    <a:lnTo>
                      <a:pt x="775" y="1067"/>
                    </a:lnTo>
                    <a:lnTo>
                      <a:pt x="741" y="1090"/>
                    </a:lnTo>
                    <a:lnTo>
                      <a:pt x="717" y="1113"/>
                    </a:lnTo>
                    <a:lnTo>
                      <a:pt x="683" y="1137"/>
                    </a:lnTo>
                    <a:lnTo>
                      <a:pt x="659" y="1161"/>
                    </a:lnTo>
                    <a:lnTo>
                      <a:pt x="625" y="1195"/>
                    </a:lnTo>
                    <a:lnTo>
                      <a:pt x="601" y="1229"/>
                    </a:lnTo>
                    <a:lnTo>
                      <a:pt x="590" y="1264"/>
                    </a:lnTo>
                    <a:lnTo>
                      <a:pt x="567" y="1299"/>
                    </a:lnTo>
                    <a:lnTo>
                      <a:pt x="555" y="1311"/>
                    </a:lnTo>
                    <a:lnTo>
                      <a:pt x="544" y="1322"/>
                    </a:lnTo>
                    <a:lnTo>
                      <a:pt x="532" y="1322"/>
                    </a:lnTo>
                    <a:lnTo>
                      <a:pt x="520" y="1322"/>
                    </a:lnTo>
                    <a:lnTo>
                      <a:pt x="508" y="1335"/>
                    </a:lnTo>
                    <a:lnTo>
                      <a:pt x="497" y="1335"/>
                    </a:lnTo>
                    <a:lnTo>
                      <a:pt x="486" y="1335"/>
                    </a:lnTo>
                    <a:lnTo>
                      <a:pt x="393" y="1450"/>
                    </a:lnTo>
                    <a:lnTo>
                      <a:pt x="382" y="1439"/>
                    </a:lnTo>
                    <a:lnTo>
                      <a:pt x="382" y="1427"/>
                    </a:lnTo>
                    <a:lnTo>
                      <a:pt x="289" y="1346"/>
                    </a:lnTo>
                    <a:lnTo>
                      <a:pt x="242" y="1392"/>
                    </a:lnTo>
                    <a:lnTo>
                      <a:pt x="242" y="1404"/>
                    </a:lnTo>
                    <a:lnTo>
                      <a:pt x="231" y="1427"/>
                    </a:lnTo>
                    <a:lnTo>
                      <a:pt x="231" y="1450"/>
                    </a:lnTo>
                    <a:lnTo>
                      <a:pt x="231" y="1462"/>
                    </a:lnTo>
                    <a:lnTo>
                      <a:pt x="231" y="1484"/>
                    </a:lnTo>
                    <a:lnTo>
                      <a:pt x="242" y="1497"/>
                    </a:lnTo>
                    <a:lnTo>
                      <a:pt x="255" y="1520"/>
                    </a:lnTo>
                    <a:lnTo>
                      <a:pt x="255" y="1531"/>
                    </a:lnTo>
                    <a:lnTo>
                      <a:pt x="266" y="1542"/>
                    </a:lnTo>
                    <a:lnTo>
                      <a:pt x="277" y="1555"/>
                    </a:lnTo>
                    <a:lnTo>
                      <a:pt x="277" y="1566"/>
                    </a:lnTo>
                    <a:lnTo>
                      <a:pt x="277" y="1578"/>
                    </a:lnTo>
                    <a:lnTo>
                      <a:pt x="277" y="1589"/>
                    </a:lnTo>
                    <a:lnTo>
                      <a:pt x="277" y="1600"/>
                    </a:lnTo>
                    <a:lnTo>
                      <a:pt x="277" y="1613"/>
                    </a:lnTo>
                    <a:lnTo>
                      <a:pt x="277" y="1624"/>
                    </a:lnTo>
                    <a:lnTo>
                      <a:pt x="277" y="1637"/>
                    </a:lnTo>
                    <a:lnTo>
                      <a:pt x="266" y="1647"/>
                    </a:lnTo>
                    <a:lnTo>
                      <a:pt x="266" y="1658"/>
                    </a:lnTo>
                    <a:lnTo>
                      <a:pt x="266" y="1671"/>
                    </a:lnTo>
                    <a:lnTo>
                      <a:pt x="266" y="1682"/>
                    </a:lnTo>
                    <a:lnTo>
                      <a:pt x="266" y="1694"/>
                    </a:lnTo>
                    <a:lnTo>
                      <a:pt x="277" y="1694"/>
                    </a:lnTo>
                    <a:lnTo>
                      <a:pt x="289" y="1705"/>
                    </a:lnTo>
                    <a:lnTo>
                      <a:pt x="300" y="1716"/>
                    </a:lnTo>
                    <a:lnTo>
                      <a:pt x="312" y="1716"/>
                    </a:lnTo>
                    <a:lnTo>
                      <a:pt x="335" y="1705"/>
                    </a:lnTo>
                    <a:lnTo>
                      <a:pt x="358" y="1694"/>
                    </a:lnTo>
                    <a:lnTo>
                      <a:pt x="382" y="1682"/>
                    </a:lnTo>
                    <a:lnTo>
                      <a:pt x="404" y="1671"/>
                    </a:lnTo>
                    <a:lnTo>
                      <a:pt x="428" y="1647"/>
                    </a:lnTo>
                    <a:lnTo>
                      <a:pt x="451" y="1624"/>
                    </a:lnTo>
                    <a:lnTo>
                      <a:pt x="474" y="1613"/>
                    </a:lnTo>
                    <a:lnTo>
                      <a:pt x="497" y="1589"/>
                    </a:lnTo>
                    <a:lnTo>
                      <a:pt x="508" y="1566"/>
                    </a:lnTo>
                    <a:lnTo>
                      <a:pt x="520" y="1555"/>
                    </a:lnTo>
                    <a:lnTo>
                      <a:pt x="532" y="1531"/>
                    </a:lnTo>
                    <a:lnTo>
                      <a:pt x="555" y="1520"/>
                    </a:lnTo>
                    <a:lnTo>
                      <a:pt x="567" y="1508"/>
                    </a:lnTo>
                    <a:lnTo>
                      <a:pt x="590" y="1497"/>
                    </a:lnTo>
                    <a:lnTo>
                      <a:pt x="601" y="1484"/>
                    </a:lnTo>
                    <a:lnTo>
                      <a:pt x="625" y="1473"/>
                    </a:lnTo>
                    <a:lnTo>
                      <a:pt x="670" y="1462"/>
                    </a:lnTo>
                    <a:lnTo>
                      <a:pt x="706" y="1439"/>
                    </a:lnTo>
                    <a:lnTo>
                      <a:pt x="741" y="1404"/>
                    </a:lnTo>
                    <a:lnTo>
                      <a:pt x="775" y="1369"/>
                    </a:lnTo>
                    <a:lnTo>
                      <a:pt x="809" y="1346"/>
                    </a:lnTo>
                    <a:lnTo>
                      <a:pt x="845" y="1322"/>
                    </a:lnTo>
                    <a:lnTo>
                      <a:pt x="890" y="1299"/>
                    </a:lnTo>
                    <a:lnTo>
                      <a:pt x="937" y="1299"/>
                    </a:lnTo>
                    <a:lnTo>
                      <a:pt x="948" y="1299"/>
                    </a:lnTo>
                    <a:lnTo>
                      <a:pt x="960" y="1299"/>
                    </a:lnTo>
                    <a:lnTo>
                      <a:pt x="972" y="1299"/>
                    </a:lnTo>
                    <a:lnTo>
                      <a:pt x="972" y="1311"/>
                    </a:lnTo>
                    <a:lnTo>
                      <a:pt x="983" y="1311"/>
                    </a:lnTo>
                    <a:lnTo>
                      <a:pt x="983" y="1322"/>
                    </a:lnTo>
                    <a:lnTo>
                      <a:pt x="995" y="1322"/>
                    </a:lnTo>
                    <a:lnTo>
                      <a:pt x="995" y="1335"/>
                    </a:lnTo>
                    <a:lnTo>
                      <a:pt x="995" y="1346"/>
                    </a:lnTo>
                    <a:lnTo>
                      <a:pt x="995" y="1357"/>
                    </a:lnTo>
                    <a:lnTo>
                      <a:pt x="995" y="1369"/>
                    </a:lnTo>
                    <a:lnTo>
                      <a:pt x="995" y="1380"/>
                    </a:lnTo>
                    <a:lnTo>
                      <a:pt x="995" y="1392"/>
                    </a:lnTo>
                    <a:lnTo>
                      <a:pt x="995" y="1404"/>
                    </a:lnTo>
                    <a:lnTo>
                      <a:pt x="995" y="1415"/>
                    </a:lnTo>
                    <a:lnTo>
                      <a:pt x="995" y="1427"/>
                    </a:lnTo>
                    <a:lnTo>
                      <a:pt x="995" y="1439"/>
                    </a:lnTo>
                    <a:lnTo>
                      <a:pt x="1030" y="1484"/>
                    </a:lnTo>
                    <a:lnTo>
                      <a:pt x="1041" y="1531"/>
                    </a:lnTo>
                    <a:lnTo>
                      <a:pt x="1041" y="1589"/>
                    </a:lnTo>
                    <a:lnTo>
                      <a:pt x="1041" y="1647"/>
                    </a:lnTo>
                    <a:lnTo>
                      <a:pt x="1041" y="1705"/>
                    </a:lnTo>
                    <a:lnTo>
                      <a:pt x="1041" y="1763"/>
                    </a:lnTo>
                    <a:lnTo>
                      <a:pt x="1041" y="1810"/>
                    </a:lnTo>
                    <a:lnTo>
                      <a:pt x="1064" y="1868"/>
                    </a:lnTo>
                    <a:lnTo>
                      <a:pt x="1052" y="1891"/>
                    </a:lnTo>
                    <a:lnTo>
                      <a:pt x="1052" y="1902"/>
                    </a:lnTo>
                    <a:lnTo>
                      <a:pt x="1064" y="1926"/>
                    </a:lnTo>
                    <a:lnTo>
                      <a:pt x="1064" y="1936"/>
                    </a:lnTo>
                    <a:lnTo>
                      <a:pt x="1076" y="1960"/>
                    </a:lnTo>
                    <a:lnTo>
                      <a:pt x="1087" y="1972"/>
                    </a:lnTo>
                    <a:lnTo>
                      <a:pt x="1087" y="1984"/>
                    </a:lnTo>
                    <a:lnTo>
                      <a:pt x="1100" y="1995"/>
                    </a:lnTo>
                    <a:lnTo>
                      <a:pt x="1041" y="2076"/>
                    </a:lnTo>
                    <a:lnTo>
                      <a:pt x="1052" y="2088"/>
                    </a:lnTo>
                    <a:lnTo>
                      <a:pt x="1052" y="2100"/>
                    </a:lnTo>
                    <a:lnTo>
                      <a:pt x="1064" y="2100"/>
                    </a:lnTo>
                    <a:lnTo>
                      <a:pt x="1076" y="2111"/>
                    </a:lnTo>
                    <a:lnTo>
                      <a:pt x="1087" y="2111"/>
                    </a:lnTo>
                    <a:lnTo>
                      <a:pt x="1100" y="2111"/>
                    </a:lnTo>
                    <a:lnTo>
                      <a:pt x="1122" y="2111"/>
                    </a:lnTo>
                    <a:lnTo>
                      <a:pt x="1134" y="2100"/>
                    </a:lnTo>
                    <a:lnTo>
                      <a:pt x="1145" y="2100"/>
                    </a:lnTo>
                    <a:lnTo>
                      <a:pt x="1158" y="2100"/>
                    </a:lnTo>
                    <a:lnTo>
                      <a:pt x="1180" y="2088"/>
                    </a:lnTo>
                    <a:lnTo>
                      <a:pt x="1192" y="2100"/>
                    </a:lnTo>
                    <a:lnTo>
                      <a:pt x="1203" y="2100"/>
                    </a:lnTo>
                    <a:lnTo>
                      <a:pt x="1215" y="2100"/>
                    </a:lnTo>
                    <a:lnTo>
                      <a:pt x="1226" y="2100"/>
                    </a:lnTo>
                    <a:lnTo>
                      <a:pt x="1238" y="2100"/>
                    </a:lnTo>
                    <a:lnTo>
                      <a:pt x="1273" y="2053"/>
                    </a:lnTo>
                    <a:lnTo>
                      <a:pt x="1296" y="1984"/>
                    </a:lnTo>
                    <a:lnTo>
                      <a:pt x="1296" y="1902"/>
                    </a:lnTo>
                    <a:lnTo>
                      <a:pt x="1283" y="1821"/>
                    </a:lnTo>
                    <a:lnTo>
                      <a:pt x="1273" y="1740"/>
                    </a:lnTo>
                    <a:lnTo>
                      <a:pt x="1261" y="1671"/>
                    </a:lnTo>
                    <a:lnTo>
                      <a:pt x="1261" y="1589"/>
                    </a:lnTo>
                    <a:lnTo>
                      <a:pt x="1261" y="1508"/>
                    </a:lnTo>
                    <a:lnTo>
                      <a:pt x="1283" y="1427"/>
                    </a:lnTo>
                    <a:lnTo>
                      <a:pt x="1273" y="1380"/>
                    </a:lnTo>
                    <a:lnTo>
                      <a:pt x="1249" y="1322"/>
                    </a:lnTo>
                    <a:lnTo>
                      <a:pt x="1238" y="1277"/>
                    </a:lnTo>
                    <a:lnTo>
                      <a:pt x="1226" y="1219"/>
                    </a:lnTo>
                    <a:lnTo>
                      <a:pt x="1215" y="1171"/>
                    </a:lnTo>
                    <a:lnTo>
                      <a:pt x="1203" y="1113"/>
                    </a:lnTo>
                    <a:lnTo>
                      <a:pt x="1215" y="1055"/>
                    </a:lnTo>
                    <a:lnTo>
                      <a:pt x="1226" y="1009"/>
                    </a:lnTo>
                    <a:lnTo>
                      <a:pt x="1226" y="975"/>
                    </a:lnTo>
                    <a:lnTo>
                      <a:pt x="1215" y="951"/>
                    </a:lnTo>
                    <a:lnTo>
                      <a:pt x="1203" y="928"/>
                    </a:lnTo>
                    <a:lnTo>
                      <a:pt x="1192" y="905"/>
                    </a:lnTo>
                    <a:lnTo>
                      <a:pt x="1192" y="882"/>
                    </a:lnTo>
                    <a:lnTo>
                      <a:pt x="1192" y="847"/>
                    </a:lnTo>
                    <a:lnTo>
                      <a:pt x="1192" y="824"/>
                    </a:lnTo>
                    <a:lnTo>
                      <a:pt x="1203" y="801"/>
                    </a:lnTo>
                    <a:lnTo>
                      <a:pt x="1215" y="801"/>
                    </a:lnTo>
                    <a:lnTo>
                      <a:pt x="1215" y="788"/>
                    </a:lnTo>
                    <a:lnTo>
                      <a:pt x="1226" y="788"/>
                    </a:lnTo>
                    <a:lnTo>
                      <a:pt x="1238" y="788"/>
                    </a:lnTo>
                    <a:lnTo>
                      <a:pt x="1249" y="801"/>
                    </a:lnTo>
                    <a:lnTo>
                      <a:pt x="1261" y="801"/>
                    </a:lnTo>
                    <a:lnTo>
                      <a:pt x="1273" y="835"/>
                    </a:lnTo>
                    <a:lnTo>
                      <a:pt x="1273" y="859"/>
                    </a:lnTo>
                    <a:lnTo>
                      <a:pt x="1283" y="882"/>
                    </a:lnTo>
                    <a:lnTo>
                      <a:pt x="1283" y="905"/>
                    </a:lnTo>
                    <a:lnTo>
                      <a:pt x="1296" y="928"/>
                    </a:lnTo>
                    <a:lnTo>
                      <a:pt x="1296" y="951"/>
                    </a:lnTo>
                    <a:lnTo>
                      <a:pt x="1307" y="975"/>
                    </a:lnTo>
                    <a:lnTo>
                      <a:pt x="1320" y="997"/>
                    </a:lnTo>
                    <a:lnTo>
                      <a:pt x="1354" y="1009"/>
                    </a:lnTo>
                    <a:lnTo>
                      <a:pt x="1377" y="1021"/>
                    </a:lnTo>
                    <a:lnTo>
                      <a:pt x="1399" y="1021"/>
                    </a:lnTo>
                    <a:lnTo>
                      <a:pt x="1435" y="1021"/>
                    </a:lnTo>
                    <a:lnTo>
                      <a:pt x="1457" y="1021"/>
                    </a:lnTo>
                    <a:lnTo>
                      <a:pt x="1493" y="1033"/>
                    </a:lnTo>
                    <a:lnTo>
                      <a:pt x="1516" y="1045"/>
                    </a:lnTo>
                    <a:lnTo>
                      <a:pt x="1538" y="1067"/>
                    </a:lnTo>
                    <a:lnTo>
                      <a:pt x="1551" y="1067"/>
                    </a:lnTo>
                    <a:lnTo>
                      <a:pt x="1575" y="1079"/>
                    </a:lnTo>
                    <a:lnTo>
                      <a:pt x="1585" y="1079"/>
                    </a:lnTo>
                    <a:lnTo>
                      <a:pt x="1609" y="1090"/>
                    </a:lnTo>
                    <a:lnTo>
                      <a:pt x="1620" y="1090"/>
                    </a:lnTo>
                    <a:lnTo>
                      <a:pt x="1643" y="1090"/>
                    </a:lnTo>
                    <a:lnTo>
                      <a:pt x="1654" y="1103"/>
                    </a:lnTo>
                    <a:lnTo>
                      <a:pt x="1678" y="1103"/>
                    </a:lnTo>
                    <a:lnTo>
                      <a:pt x="1690" y="1103"/>
                    </a:lnTo>
                    <a:lnTo>
                      <a:pt x="1690" y="1113"/>
                    </a:lnTo>
                    <a:lnTo>
                      <a:pt x="1690" y="1125"/>
                    </a:lnTo>
                    <a:lnTo>
                      <a:pt x="1700" y="1137"/>
                    </a:lnTo>
                    <a:lnTo>
                      <a:pt x="1713" y="1137"/>
                    </a:lnTo>
                    <a:lnTo>
                      <a:pt x="1713" y="1125"/>
                    </a:lnTo>
                    <a:lnTo>
                      <a:pt x="1713" y="1113"/>
                    </a:lnTo>
                    <a:lnTo>
                      <a:pt x="1724" y="11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212920" y="4336920"/>
                <a:ext cx="684360" cy="836640"/>
              </a:xfrm>
              <a:custGeom>
                <a:avLst/>
                <a:gdLst/>
                <a:ahLst/>
                <a:rect l="l" t="t" r="r" b="b"/>
                <a:pathLst>
                  <a:path w="1724" h="2111">
                    <a:moveTo>
                      <a:pt x="1724" y="1103"/>
                    </a:moveTo>
                    <a:lnTo>
                      <a:pt x="1713" y="1090"/>
                    </a:lnTo>
                    <a:lnTo>
                      <a:pt x="1713" y="1067"/>
                    </a:lnTo>
                    <a:lnTo>
                      <a:pt x="1700" y="1045"/>
                    </a:lnTo>
                    <a:lnTo>
                      <a:pt x="1700" y="1021"/>
                    </a:lnTo>
                    <a:lnTo>
                      <a:pt x="1700" y="986"/>
                    </a:lnTo>
                    <a:lnTo>
                      <a:pt x="1700" y="975"/>
                    </a:lnTo>
                    <a:lnTo>
                      <a:pt x="1700" y="963"/>
                    </a:lnTo>
                    <a:lnTo>
                      <a:pt x="1700" y="951"/>
                    </a:lnTo>
                    <a:lnTo>
                      <a:pt x="1690" y="951"/>
                    </a:lnTo>
                    <a:lnTo>
                      <a:pt x="1678" y="951"/>
                    </a:lnTo>
                    <a:lnTo>
                      <a:pt x="1666" y="939"/>
                    </a:lnTo>
                    <a:lnTo>
                      <a:pt x="1654" y="928"/>
                    </a:lnTo>
                    <a:lnTo>
                      <a:pt x="1654" y="917"/>
                    </a:lnTo>
                    <a:lnTo>
                      <a:pt x="1643" y="917"/>
                    </a:lnTo>
                    <a:lnTo>
                      <a:pt x="1643" y="905"/>
                    </a:lnTo>
                    <a:lnTo>
                      <a:pt x="1643" y="870"/>
                    </a:lnTo>
                    <a:lnTo>
                      <a:pt x="1620" y="824"/>
                    </a:lnTo>
                    <a:lnTo>
                      <a:pt x="1596" y="801"/>
                    </a:lnTo>
                    <a:lnTo>
                      <a:pt x="1562" y="777"/>
                    </a:lnTo>
                    <a:lnTo>
                      <a:pt x="1527" y="753"/>
                    </a:lnTo>
                    <a:lnTo>
                      <a:pt x="1493" y="731"/>
                    </a:lnTo>
                    <a:lnTo>
                      <a:pt x="1469" y="708"/>
                    </a:lnTo>
                    <a:lnTo>
                      <a:pt x="1447" y="673"/>
                    </a:lnTo>
                    <a:lnTo>
                      <a:pt x="1423" y="637"/>
                    </a:lnTo>
                    <a:lnTo>
                      <a:pt x="1423" y="615"/>
                    </a:lnTo>
                    <a:lnTo>
                      <a:pt x="1411" y="591"/>
                    </a:lnTo>
                    <a:lnTo>
                      <a:pt x="1399" y="569"/>
                    </a:lnTo>
                    <a:lnTo>
                      <a:pt x="1389" y="557"/>
                    </a:lnTo>
                    <a:lnTo>
                      <a:pt x="1377" y="533"/>
                    </a:lnTo>
                    <a:lnTo>
                      <a:pt x="1365" y="522"/>
                    </a:lnTo>
                    <a:lnTo>
                      <a:pt x="1354" y="511"/>
                    </a:lnTo>
                    <a:lnTo>
                      <a:pt x="1331" y="499"/>
                    </a:lnTo>
                    <a:lnTo>
                      <a:pt x="1215" y="464"/>
                    </a:lnTo>
                    <a:lnTo>
                      <a:pt x="1203" y="464"/>
                    </a:lnTo>
                    <a:lnTo>
                      <a:pt x="1192" y="464"/>
                    </a:lnTo>
                    <a:lnTo>
                      <a:pt x="1180" y="464"/>
                    </a:lnTo>
                    <a:lnTo>
                      <a:pt x="1168" y="453"/>
                    </a:lnTo>
                    <a:lnTo>
                      <a:pt x="1158" y="441"/>
                    </a:lnTo>
                    <a:lnTo>
                      <a:pt x="1158" y="430"/>
                    </a:lnTo>
                    <a:lnTo>
                      <a:pt x="1158" y="417"/>
                    </a:lnTo>
                    <a:lnTo>
                      <a:pt x="1168" y="406"/>
                    </a:lnTo>
                    <a:lnTo>
                      <a:pt x="1180" y="406"/>
                    </a:lnTo>
                    <a:lnTo>
                      <a:pt x="1192" y="406"/>
                    </a:lnTo>
                    <a:lnTo>
                      <a:pt x="1238" y="441"/>
                    </a:lnTo>
                    <a:lnTo>
                      <a:pt x="1249" y="441"/>
                    </a:lnTo>
                    <a:lnTo>
                      <a:pt x="1261" y="430"/>
                    </a:lnTo>
                    <a:lnTo>
                      <a:pt x="1273" y="417"/>
                    </a:lnTo>
                    <a:lnTo>
                      <a:pt x="1283" y="406"/>
                    </a:lnTo>
                    <a:lnTo>
                      <a:pt x="1296" y="406"/>
                    </a:lnTo>
                    <a:lnTo>
                      <a:pt x="1296" y="395"/>
                    </a:lnTo>
                    <a:lnTo>
                      <a:pt x="1307" y="395"/>
                    </a:lnTo>
                    <a:lnTo>
                      <a:pt x="1307" y="406"/>
                    </a:lnTo>
                    <a:lnTo>
                      <a:pt x="1307" y="417"/>
                    </a:lnTo>
                    <a:lnTo>
                      <a:pt x="1320" y="417"/>
                    </a:lnTo>
                    <a:lnTo>
                      <a:pt x="1320" y="430"/>
                    </a:lnTo>
                    <a:lnTo>
                      <a:pt x="1331" y="430"/>
                    </a:lnTo>
                    <a:lnTo>
                      <a:pt x="1341" y="430"/>
                    </a:lnTo>
                    <a:lnTo>
                      <a:pt x="1354" y="430"/>
                    </a:lnTo>
                    <a:lnTo>
                      <a:pt x="1365" y="430"/>
                    </a:lnTo>
                    <a:lnTo>
                      <a:pt x="1399" y="417"/>
                    </a:lnTo>
                    <a:lnTo>
                      <a:pt x="1399" y="406"/>
                    </a:lnTo>
                    <a:lnTo>
                      <a:pt x="1399" y="395"/>
                    </a:lnTo>
                    <a:lnTo>
                      <a:pt x="1399" y="383"/>
                    </a:lnTo>
                    <a:lnTo>
                      <a:pt x="1399" y="372"/>
                    </a:lnTo>
                    <a:lnTo>
                      <a:pt x="1399" y="359"/>
                    </a:lnTo>
                    <a:lnTo>
                      <a:pt x="1399" y="348"/>
                    </a:lnTo>
                    <a:lnTo>
                      <a:pt x="1399" y="336"/>
                    </a:lnTo>
                    <a:lnTo>
                      <a:pt x="1389" y="336"/>
                    </a:lnTo>
                    <a:lnTo>
                      <a:pt x="1377" y="336"/>
                    </a:lnTo>
                    <a:lnTo>
                      <a:pt x="1377" y="325"/>
                    </a:lnTo>
                    <a:lnTo>
                      <a:pt x="1365" y="325"/>
                    </a:lnTo>
                    <a:lnTo>
                      <a:pt x="1365" y="314"/>
                    </a:lnTo>
                    <a:lnTo>
                      <a:pt x="1365" y="301"/>
                    </a:lnTo>
                    <a:lnTo>
                      <a:pt x="1365" y="290"/>
                    </a:lnTo>
                    <a:lnTo>
                      <a:pt x="1365" y="279"/>
                    </a:lnTo>
                    <a:lnTo>
                      <a:pt x="1365" y="267"/>
                    </a:lnTo>
                    <a:lnTo>
                      <a:pt x="1341" y="256"/>
                    </a:lnTo>
                    <a:lnTo>
                      <a:pt x="1399" y="221"/>
                    </a:lnTo>
                    <a:lnTo>
                      <a:pt x="1399" y="209"/>
                    </a:lnTo>
                    <a:lnTo>
                      <a:pt x="1399" y="198"/>
                    </a:lnTo>
                    <a:lnTo>
                      <a:pt x="1411" y="198"/>
                    </a:lnTo>
                    <a:lnTo>
                      <a:pt x="1423" y="198"/>
                    </a:lnTo>
                    <a:lnTo>
                      <a:pt x="1435" y="198"/>
                    </a:lnTo>
                    <a:lnTo>
                      <a:pt x="1435" y="185"/>
                    </a:lnTo>
                    <a:lnTo>
                      <a:pt x="1447" y="185"/>
                    </a:lnTo>
                    <a:lnTo>
                      <a:pt x="1447" y="174"/>
                    </a:lnTo>
                    <a:lnTo>
                      <a:pt x="1469" y="46"/>
                    </a:lnTo>
                    <a:lnTo>
                      <a:pt x="1469" y="36"/>
                    </a:lnTo>
                    <a:lnTo>
                      <a:pt x="1457" y="36"/>
                    </a:lnTo>
                    <a:lnTo>
                      <a:pt x="1447" y="36"/>
                    </a:lnTo>
                    <a:lnTo>
                      <a:pt x="1435" y="36"/>
                    </a:lnTo>
                    <a:lnTo>
                      <a:pt x="1423" y="36"/>
                    </a:lnTo>
                    <a:lnTo>
                      <a:pt x="1411" y="36"/>
                    </a:lnTo>
                    <a:lnTo>
                      <a:pt x="1411" y="46"/>
                    </a:lnTo>
                    <a:lnTo>
                      <a:pt x="1399" y="46"/>
                    </a:lnTo>
                    <a:lnTo>
                      <a:pt x="1399" y="58"/>
                    </a:lnTo>
                    <a:lnTo>
                      <a:pt x="1389" y="58"/>
                    </a:lnTo>
                    <a:lnTo>
                      <a:pt x="1389" y="70"/>
                    </a:lnTo>
                    <a:lnTo>
                      <a:pt x="1377" y="70"/>
                    </a:lnTo>
                    <a:lnTo>
                      <a:pt x="1365" y="70"/>
                    </a:lnTo>
                    <a:lnTo>
                      <a:pt x="1354" y="70"/>
                    </a:lnTo>
                    <a:lnTo>
                      <a:pt x="1341" y="70"/>
                    </a:lnTo>
                    <a:lnTo>
                      <a:pt x="1331" y="58"/>
                    </a:lnTo>
                    <a:lnTo>
                      <a:pt x="1320" y="58"/>
                    </a:lnTo>
                    <a:lnTo>
                      <a:pt x="1307" y="58"/>
                    </a:lnTo>
                    <a:lnTo>
                      <a:pt x="1307" y="46"/>
                    </a:lnTo>
                    <a:lnTo>
                      <a:pt x="1296" y="46"/>
                    </a:lnTo>
                    <a:lnTo>
                      <a:pt x="1283" y="36"/>
                    </a:lnTo>
                    <a:lnTo>
                      <a:pt x="1261" y="23"/>
                    </a:lnTo>
                    <a:lnTo>
                      <a:pt x="1249" y="12"/>
                    </a:lnTo>
                    <a:lnTo>
                      <a:pt x="1238" y="12"/>
                    </a:lnTo>
                    <a:lnTo>
                      <a:pt x="1215" y="0"/>
                    </a:lnTo>
                    <a:lnTo>
                      <a:pt x="1203" y="0"/>
                    </a:lnTo>
                    <a:lnTo>
                      <a:pt x="1180" y="0"/>
                    </a:lnTo>
                    <a:lnTo>
                      <a:pt x="1168" y="12"/>
                    </a:lnTo>
                    <a:lnTo>
                      <a:pt x="1158" y="23"/>
                    </a:lnTo>
                    <a:lnTo>
                      <a:pt x="1145" y="23"/>
                    </a:lnTo>
                    <a:lnTo>
                      <a:pt x="1122" y="36"/>
                    </a:lnTo>
                    <a:lnTo>
                      <a:pt x="1110" y="36"/>
                    </a:lnTo>
                    <a:lnTo>
                      <a:pt x="1100" y="36"/>
                    </a:lnTo>
                    <a:lnTo>
                      <a:pt x="1076" y="36"/>
                    </a:lnTo>
                    <a:lnTo>
                      <a:pt x="1064" y="36"/>
                    </a:lnTo>
                    <a:lnTo>
                      <a:pt x="1052" y="36"/>
                    </a:lnTo>
                    <a:lnTo>
                      <a:pt x="1041" y="23"/>
                    </a:lnTo>
                    <a:lnTo>
                      <a:pt x="1030" y="23"/>
                    </a:lnTo>
                    <a:lnTo>
                      <a:pt x="1018" y="23"/>
                    </a:lnTo>
                    <a:lnTo>
                      <a:pt x="1006" y="12"/>
                    </a:lnTo>
                    <a:lnTo>
                      <a:pt x="995" y="12"/>
                    </a:lnTo>
                    <a:lnTo>
                      <a:pt x="983" y="23"/>
                    </a:lnTo>
                    <a:lnTo>
                      <a:pt x="972" y="36"/>
                    </a:lnTo>
                    <a:lnTo>
                      <a:pt x="960" y="46"/>
                    </a:lnTo>
                    <a:lnTo>
                      <a:pt x="948" y="58"/>
                    </a:lnTo>
                    <a:lnTo>
                      <a:pt x="937" y="70"/>
                    </a:lnTo>
                    <a:lnTo>
                      <a:pt x="937" y="81"/>
                    </a:lnTo>
                    <a:lnTo>
                      <a:pt x="925" y="93"/>
                    </a:lnTo>
                    <a:lnTo>
                      <a:pt x="914" y="93"/>
                    </a:lnTo>
                    <a:lnTo>
                      <a:pt x="903" y="105"/>
                    </a:lnTo>
                    <a:lnTo>
                      <a:pt x="890" y="116"/>
                    </a:lnTo>
                    <a:lnTo>
                      <a:pt x="879" y="116"/>
                    </a:lnTo>
                    <a:lnTo>
                      <a:pt x="879" y="128"/>
                    </a:lnTo>
                    <a:lnTo>
                      <a:pt x="867" y="139"/>
                    </a:lnTo>
                    <a:lnTo>
                      <a:pt x="833" y="290"/>
                    </a:lnTo>
                    <a:lnTo>
                      <a:pt x="845" y="290"/>
                    </a:lnTo>
                    <a:lnTo>
                      <a:pt x="856" y="290"/>
                    </a:lnTo>
                    <a:lnTo>
                      <a:pt x="856" y="301"/>
                    </a:lnTo>
                    <a:lnTo>
                      <a:pt x="845" y="301"/>
                    </a:lnTo>
                    <a:lnTo>
                      <a:pt x="845" y="314"/>
                    </a:lnTo>
                    <a:lnTo>
                      <a:pt x="833" y="325"/>
                    </a:lnTo>
                    <a:lnTo>
                      <a:pt x="833" y="336"/>
                    </a:lnTo>
                    <a:lnTo>
                      <a:pt x="845" y="348"/>
                    </a:lnTo>
                    <a:lnTo>
                      <a:pt x="845" y="359"/>
                    </a:lnTo>
                    <a:lnTo>
                      <a:pt x="845" y="372"/>
                    </a:lnTo>
                    <a:lnTo>
                      <a:pt x="845" y="383"/>
                    </a:lnTo>
                    <a:lnTo>
                      <a:pt x="845" y="395"/>
                    </a:lnTo>
                    <a:lnTo>
                      <a:pt x="845" y="406"/>
                    </a:lnTo>
                    <a:lnTo>
                      <a:pt x="856" y="430"/>
                    </a:lnTo>
                    <a:lnTo>
                      <a:pt x="914" y="417"/>
                    </a:lnTo>
                    <a:lnTo>
                      <a:pt x="914" y="430"/>
                    </a:lnTo>
                    <a:lnTo>
                      <a:pt x="890" y="441"/>
                    </a:lnTo>
                    <a:lnTo>
                      <a:pt x="867" y="453"/>
                    </a:lnTo>
                    <a:lnTo>
                      <a:pt x="845" y="464"/>
                    </a:lnTo>
                    <a:lnTo>
                      <a:pt x="821" y="475"/>
                    </a:lnTo>
                    <a:lnTo>
                      <a:pt x="798" y="487"/>
                    </a:lnTo>
                    <a:lnTo>
                      <a:pt x="787" y="499"/>
                    </a:lnTo>
                    <a:lnTo>
                      <a:pt x="763" y="511"/>
                    </a:lnTo>
                    <a:lnTo>
                      <a:pt x="741" y="533"/>
                    </a:lnTo>
                    <a:lnTo>
                      <a:pt x="729" y="533"/>
                    </a:lnTo>
                    <a:lnTo>
                      <a:pt x="717" y="533"/>
                    </a:lnTo>
                    <a:lnTo>
                      <a:pt x="717" y="545"/>
                    </a:lnTo>
                    <a:lnTo>
                      <a:pt x="706" y="545"/>
                    </a:lnTo>
                    <a:lnTo>
                      <a:pt x="693" y="545"/>
                    </a:lnTo>
                    <a:lnTo>
                      <a:pt x="659" y="533"/>
                    </a:lnTo>
                    <a:lnTo>
                      <a:pt x="625" y="522"/>
                    </a:lnTo>
                    <a:lnTo>
                      <a:pt x="590" y="522"/>
                    </a:lnTo>
                    <a:lnTo>
                      <a:pt x="567" y="533"/>
                    </a:lnTo>
                    <a:lnTo>
                      <a:pt x="532" y="545"/>
                    </a:lnTo>
                    <a:lnTo>
                      <a:pt x="497" y="545"/>
                    </a:lnTo>
                    <a:lnTo>
                      <a:pt x="462" y="557"/>
                    </a:lnTo>
                    <a:lnTo>
                      <a:pt x="428" y="569"/>
                    </a:lnTo>
                    <a:lnTo>
                      <a:pt x="393" y="580"/>
                    </a:lnTo>
                    <a:lnTo>
                      <a:pt x="358" y="580"/>
                    </a:lnTo>
                    <a:lnTo>
                      <a:pt x="312" y="580"/>
                    </a:lnTo>
                    <a:lnTo>
                      <a:pt x="277" y="569"/>
                    </a:lnTo>
                    <a:lnTo>
                      <a:pt x="242" y="569"/>
                    </a:lnTo>
                    <a:lnTo>
                      <a:pt x="197" y="569"/>
                    </a:lnTo>
                    <a:lnTo>
                      <a:pt x="161" y="580"/>
                    </a:lnTo>
                    <a:lnTo>
                      <a:pt x="127" y="580"/>
                    </a:lnTo>
                    <a:lnTo>
                      <a:pt x="115" y="603"/>
                    </a:lnTo>
                    <a:lnTo>
                      <a:pt x="93" y="615"/>
                    </a:lnTo>
                    <a:lnTo>
                      <a:pt x="81" y="615"/>
                    </a:lnTo>
                    <a:lnTo>
                      <a:pt x="57" y="615"/>
                    </a:lnTo>
                    <a:lnTo>
                      <a:pt x="45" y="627"/>
                    </a:lnTo>
                    <a:lnTo>
                      <a:pt x="34" y="627"/>
                    </a:lnTo>
                    <a:lnTo>
                      <a:pt x="11" y="637"/>
                    </a:lnTo>
                    <a:lnTo>
                      <a:pt x="0" y="661"/>
                    </a:lnTo>
                    <a:lnTo>
                      <a:pt x="0" y="673"/>
                    </a:lnTo>
                    <a:lnTo>
                      <a:pt x="11" y="685"/>
                    </a:lnTo>
                    <a:lnTo>
                      <a:pt x="11" y="695"/>
                    </a:lnTo>
                    <a:lnTo>
                      <a:pt x="0" y="708"/>
                    </a:lnTo>
                    <a:lnTo>
                      <a:pt x="34" y="731"/>
                    </a:lnTo>
                    <a:lnTo>
                      <a:pt x="34" y="743"/>
                    </a:lnTo>
                    <a:lnTo>
                      <a:pt x="45" y="743"/>
                    </a:lnTo>
                    <a:lnTo>
                      <a:pt x="57" y="743"/>
                    </a:lnTo>
                    <a:lnTo>
                      <a:pt x="69" y="743"/>
                    </a:lnTo>
                    <a:lnTo>
                      <a:pt x="81" y="743"/>
                    </a:lnTo>
                    <a:lnTo>
                      <a:pt x="93" y="731"/>
                    </a:lnTo>
                    <a:lnTo>
                      <a:pt x="103" y="731"/>
                    </a:lnTo>
                    <a:lnTo>
                      <a:pt x="127" y="719"/>
                    </a:lnTo>
                    <a:lnTo>
                      <a:pt x="139" y="731"/>
                    </a:lnTo>
                    <a:lnTo>
                      <a:pt x="150" y="731"/>
                    </a:lnTo>
                    <a:lnTo>
                      <a:pt x="173" y="743"/>
                    </a:lnTo>
                    <a:lnTo>
                      <a:pt x="184" y="753"/>
                    </a:lnTo>
                    <a:lnTo>
                      <a:pt x="208" y="766"/>
                    </a:lnTo>
                    <a:lnTo>
                      <a:pt x="218" y="777"/>
                    </a:lnTo>
                    <a:lnTo>
                      <a:pt x="266" y="777"/>
                    </a:lnTo>
                    <a:lnTo>
                      <a:pt x="312" y="777"/>
                    </a:lnTo>
                    <a:lnTo>
                      <a:pt x="346" y="777"/>
                    </a:lnTo>
                    <a:lnTo>
                      <a:pt x="382" y="777"/>
                    </a:lnTo>
                    <a:lnTo>
                      <a:pt x="428" y="766"/>
                    </a:lnTo>
                    <a:lnTo>
                      <a:pt x="462" y="766"/>
                    </a:lnTo>
                    <a:lnTo>
                      <a:pt x="497" y="766"/>
                    </a:lnTo>
                    <a:lnTo>
                      <a:pt x="544" y="766"/>
                    </a:lnTo>
                    <a:lnTo>
                      <a:pt x="555" y="766"/>
                    </a:lnTo>
                    <a:lnTo>
                      <a:pt x="555" y="753"/>
                    </a:lnTo>
                    <a:lnTo>
                      <a:pt x="567" y="753"/>
                    </a:lnTo>
                    <a:lnTo>
                      <a:pt x="590" y="766"/>
                    </a:lnTo>
                    <a:lnTo>
                      <a:pt x="613" y="766"/>
                    </a:lnTo>
                    <a:lnTo>
                      <a:pt x="635" y="777"/>
                    </a:lnTo>
                    <a:lnTo>
                      <a:pt x="659" y="777"/>
                    </a:lnTo>
                    <a:lnTo>
                      <a:pt x="683" y="766"/>
                    </a:lnTo>
                    <a:lnTo>
                      <a:pt x="706" y="766"/>
                    </a:lnTo>
                    <a:lnTo>
                      <a:pt x="729" y="766"/>
                    </a:lnTo>
                    <a:lnTo>
                      <a:pt x="751" y="766"/>
                    </a:lnTo>
                    <a:lnTo>
                      <a:pt x="763" y="777"/>
                    </a:lnTo>
                    <a:lnTo>
                      <a:pt x="763" y="788"/>
                    </a:lnTo>
                    <a:lnTo>
                      <a:pt x="775" y="801"/>
                    </a:lnTo>
                    <a:lnTo>
                      <a:pt x="775" y="824"/>
                    </a:lnTo>
                    <a:lnTo>
                      <a:pt x="775" y="835"/>
                    </a:lnTo>
                    <a:lnTo>
                      <a:pt x="775" y="859"/>
                    </a:lnTo>
                    <a:lnTo>
                      <a:pt x="775" y="870"/>
                    </a:lnTo>
                    <a:lnTo>
                      <a:pt x="763" y="882"/>
                    </a:lnTo>
                    <a:lnTo>
                      <a:pt x="763" y="905"/>
                    </a:lnTo>
                    <a:lnTo>
                      <a:pt x="763" y="928"/>
                    </a:lnTo>
                    <a:lnTo>
                      <a:pt x="763" y="951"/>
                    </a:lnTo>
                    <a:lnTo>
                      <a:pt x="763" y="975"/>
                    </a:lnTo>
                    <a:lnTo>
                      <a:pt x="763" y="997"/>
                    </a:lnTo>
                    <a:lnTo>
                      <a:pt x="775" y="1021"/>
                    </a:lnTo>
                    <a:lnTo>
                      <a:pt x="775" y="1045"/>
                    </a:lnTo>
                    <a:lnTo>
                      <a:pt x="775" y="1067"/>
                    </a:lnTo>
                    <a:lnTo>
                      <a:pt x="741" y="1090"/>
                    </a:lnTo>
                    <a:lnTo>
                      <a:pt x="717" y="1113"/>
                    </a:lnTo>
                    <a:lnTo>
                      <a:pt x="683" y="1137"/>
                    </a:lnTo>
                    <a:lnTo>
                      <a:pt x="659" y="1161"/>
                    </a:lnTo>
                    <a:lnTo>
                      <a:pt x="625" y="1195"/>
                    </a:lnTo>
                    <a:lnTo>
                      <a:pt x="601" y="1229"/>
                    </a:lnTo>
                    <a:lnTo>
                      <a:pt x="590" y="1264"/>
                    </a:lnTo>
                    <a:lnTo>
                      <a:pt x="567" y="1299"/>
                    </a:lnTo>
                    <a:lnTo>
                      <a:pt x="555" y="1311"/>
                    </a:lnTo>
                    <a:lnTo>
                      <a:pt x="544" y="1322"/>
                    </a:lnTo>
                    <a:lnTo>
                      <a:pt x="532" y="1322"/>
                    </a:lnTo>
                    <a:lnTo>
                      <a:pt x="520" y="1322"/>
                    </a:lnTo>
                    <a:lnTo>
                      <a:pt x="508" y="1335"/>
                    </a:lnTo>
                    <a:lnTo>
                      <a:pt x="497" y="1335"/>
                    </a:lnTo>
                    <a:lnTo>
                      <a:pt x="486" y="1335"/>
                    </a:lnTo>
                    <a:lnTo>
                      <a:pt x="393" y="1450"/>
                    </a:lnTo>
                    <a:lnTo>
                      <a:pt x="382" y="1439"/>
                    </a:lnTo>
                    <a:lnTo>
                      <a:pt x="382" y="1427"/>
                    </a:lnTo>
                    <a:lnTo>
                      <a:pt x="289" y="1346"/>
                    </a:lnTo>
                    <a:lnTo>
                      <a:pt x="242" y="1392"/>
                    </a:lnTo>
                    <a:lnTo>
                      <a:pt x="242" y="1404"/>
                    </a:lnTo>
                    <a:lnTo>
                      <a:pt x="231" y="1427"/>
                    </a:lnTo>
                    <a:lnTo>
                      <a:pt x="231" y="1450"/>
                    </a:lnTo>
                    <a:lnTo>
                      <a:pt x="231" y="1462"/>
                    </a:lnTo>
                    <a:lnTo>
                      <a:pt x="231" y="1484"/>
                    </a:lnTo>
                    <a:lnTo>
                      <a:pt x="242" y="1497"/>
                    </a:lnTo>
                    <a:lnTo>
                      <a:pt x="255" y="1520"/>
                    </a:lnTo>
                    <a:lnTo>
                      <a:pt x="255" y="1531"/>
                    </a:lnTo>
                    <a:lnTo>
                      <a:pt x="266" y="1542"/>
                    </a:lnTo>
                    <a:lnTo>
                      <a:pt x="277" y="1555"/>
                    </a:lnTo>
                    <a:lnTo>
                      <a:pt x="277" y="1566"/>
                    </a:lnTo>
                    <a:lnTo>
                      <a:pt x="277" y="1578"/>
                    </a:lnTo>
                    <a:lnTo>
                      <a:pt x="277" y="1589"/>
                    </a:lnTo>
                    <a:lnTo>
                      <a:pt x="277" y="1600"/>
                    </a:lnTo>
                    <a:lnTo>
                      <a:pt x="277" y="1613"/>
                    </a:lnTo>
                    <a:lnTo>
                      <a:pt x="277" y="1624"/>
                    </a:lnTo>
                    <a:lnTo>
                      <a:pt x="277" y="1637"/>
                    </a:lnTo>
                    <a:lnTo>
                      <a:pt x="266" y="1647"/>
                    </a:lnTo>
                    <a:lnTo>
                      <a:pt x="266" y="1658"/>
                    </a:lnTo>
                    <a:lnTo>
                      <a:pt x="266" y="1671"/>
                    </a:lnTo>
                    <a:lnTo>
                      <a:pt x="266" y="1682"/>
                    </a:lnTo>
                    <a:lnTo>
                      <a:pt x="266" y="1694"/>
                    </a:lnTo>
                    <a:lnTo>
                      <a:pt x="277" y="1694"/>
                    </a:lnTo>
                    <a:lnTo>
                      <a:pt x="289" y="1705"/>
                    </a:lnTo>
                    <a:lnTo>
                      <a:pt x="300" y="1716"/>
                    </a:lnTo>
                    <a:lnTo>
                      <a:pt x="312" y="1716"/>
                    </a:lnTo>
                    <a:lnTo>
                      <a:pt x="335" y="1705"/>
                    </a:lnTo>
                    <a:lnTo>
                      <a:pt x="358" y="1694"/>
                    </a:lnTo>
                    <a:lnTo>
                      <a:pt x="382" y="1682"/>
                    </a:lnTo>
                    <a:lnTo>
                      <a:pt x="404" y="1671"/>
                    </a:lnTo>
                    <a:lnTo>
                      <a:pt x="428" y="1647"/>
                    </a:lnTo>
                    <a:lnTo>
                      <a:pt x="451" y="1624"/>
                    </a:lnTo>
                    <a:lnTo>
                      <a:pt x="474" y="1613"/>
                    </a:lnTo>
                    <a:lnTo>
                      <a:pt x="497" y="1589"/>
                    </a:lnTo>
                    <a:lnTo>
                      <a:pt x="508" y="1566"/>
                    </a:lnTo>
                    <a:lnTo>
                      <a:pt x="520" y="1555"/>
                    </a:lnTo>
                    <a:lnTo>
                      <a:pt x="532" y="1531"/>
                    </a:lnTo>
                    <a:lnTo>
                      <a:pt x="555" y="1520"/>
                    </a:lnTo>
                    <a:lnTo>
                      <a:pt x="567" y="1508"/>
                    </a:lnTo>
                    <a:lnTo>
                      <a:pt x="590" y="1497"/>
                    </a:lnTo>
                    <a:lnTo>
                      <a:pt x="601" y="1484"/>
                    </a:lnTo>
                    <a:lnTo>
                      <a:pt x="625" y="1473"/>
                    </a:lnTo>
                    <a:lnTo>
                      <a:pt x="670" y="1462"/>
                    </a:lnTo>
                    <a:lnTo>
                      <a:pt x="706" y="1439"/>
                    </a:lnTo>
                    <a:lnTo>
                      <a:pt x="741" y="1404"/>
                    </a:lnTo>
                    <a:lnTo>
                      <a:pt x="775" y="1369"/>
                    </a:lnTo>
                    <a:lnTo>
                      <a:pt x="809" y="1346"/>
                    </a:lnTo>
                    <a:lnTo>
                      <a:pt x="845" y="1322"/>
                    </a:lnTo>
                    <a:lnTo>
                      <a:pt x="890" y="1299"/>
                    </a:lnTo>
                    <a:lnTo>
                      <a:pt x="937" y="1299"/>
                    </a:lnTo>
                    <a:lnTo>
                      <a:pt x="948" y="1299"/>
                    </a:lnTo>
                    <a:lnTo>
                      <a:pt x="960" y="1299"/>
                    </a:lnTo>
                    <a:lnTo>
                      <a:pt x="972" y="1299"/>
                    </a:lnTo>
                    <a:lnTo>
                      <a:pt x="972" y="1311"/>
                    </a:lnTo>
                    <a:lnTo>
                      <a:pt x="983" y="1311"/>
                    </a:lnTo>
                    <a:lnTo>
                      <a:pt x="983" y="1322"/>
                    </a:lnTo>
                    <a:lnTo>
                      <a:pt x="995" y="1322"/>
                    </a:lnTo>
                    <a:lnTo>
                      <a:pt x="995" y="1335"/>
                    </a:lnTo>
                    <a:lnTo>
                      <a:pt x="995" y="1346"/>
                    </a:lnTo>
                    <a:lnTo>
                      <a:pt x="995" y="1357"/>
                    </a:lnTo>
                    <a:lnTo>
                      <a:pt x="995" y="1369"/>
                    </a:lnTo>
                    <a:lnTo>
                      <a:pt x="995" y="1380"/>
                    </a:lnTo>
                    <a:lnTo>
                      <a:pt x="995" y="1392"/>
                    </a:lnTo>
                    <a:lnTo>
                      <a:pt x="995" y="1404"/>
                    </a:lnTo>
                    <a:lnTo>
                      <a:pt x="995" y="1415"/>
                    </a:lnTo>
                    <a:lnTo>
                      <a:pt x="995" y="1427"/>
                    </a:lnTo>
                    <a:lnTo>
                      <a:pt x="995" y="1439"/>
                    </a:lnTo>
                    <a:lnTo>
                      <a:pt x="1030" y="1484"/>
                    </a:lnTo>
                    <a:lnTo>
                      <a:pt x="1041" y="1531"/>
                    </a:lnTo>
                    <a:lnTo>
                      <a:pt x="1041" y="1589"/>
                    </a:lnTo>
                    <a:lnTo>
                      <a:pt x="1041" y="1647"/>
                    </a:lnTo>
                    <a:lnTo>
                      <a:pt x="1041" y="1705"/>
                    </a:lnTo>
                    <a:lnTo>
                      <a:pt x="1041" y="1763"/>
                    </a:lnTo>
                    <a:lnTo>
                      <a:pt x="1041" y="1810"/>
                    </a:lnTo>
                    <a:lnTo>
                      <a:pt x="1064" y="1868"/>
                    </a:lnTo>
                    <a:lnTo>
                      <a:pt x="1052" y="1891"/>
                    </a:lnTo>
                    <a:lnTo>
                      <a:pt x="1052" y="1902"/>
                    </a:lnTo>
                    <a:lnTo>
                      <a:pt x="1064" y="1926"/>
                    </a:lnTo>
                    <a:lnTo>
                      <a:pt x="1064" y="1936"/>
                    </a:lnTo>
                    <a:lnTo>
                      <a:pt x="1076" y="1960"/>
                    </a:lnTo>
                    <a:lnTo>
                      <a:pt x="1087" y="1972"/>
                    </a:lnTo>
                    <a:lnTo>
                      <a:pt x="1087" y="1984"/>
                    </a:lnTo>
                    <a:lnTo>
                      <a:pt x="1100" y="1995"/>
                    </a:lnTo>
                    <a:lnTo>
                      <a:pt x="1041" y="2076"/>
                    </a:lnTo>
                    <a:lnTo>
                      <a:pt x="1052" y="2088"/>
                    </a:lnTo>
                    <a:lnTo>
                      <a:pt x="1052" y="2100"/>
                    </a:lnTo>
                    <a:lnTo>
                      <a:pt x="1064" y="2100"/>
                    </a:lnTo>
                    <a:lnTo>
                      <a:pt x="1076" y="2111"/>
                    </a:lnTo>
                    <a:lnTo>
                      <a:pt x="1087" y="2111"/>
                    </a:lnTo>
                    <a:lnTo>
                      <a:pt x="1100" y="2111"/>
                    </a:lnTo>
                    <a:lnTo>
                      <a:pt x="1122" y="2111"/>
                    </a:lnTo>
                    <a:lnTo>
                      <a:pt x="1134" y="2100"/>
                    </a:lnTo>
                    <a:lnTo>
                      <a:pt x="1145" y="2100"/>
                    </a:lnTo>
                    <a:lnTo>
                      <a:pt x="1158" y="2100"/>
                    </a:lnTo>
                    <a:lnTo>
                      <a:pt x="1180" y="2088"/>
                    </a:lnTo>
                    <a:lnTo>
                      <a:pt x="1192" y="2100"/>
                    </a:lnTo>
                    <a:lnTo>
                      <a:pt x="1203" y="2100"/>
                    </a:lnTo>
                    <a:lnTo>
                      <a:pt x="1215" y="2100"/>
                    </a:lnTo>
                    <a:lnTo>
                      <a:pt x="1226" y="2100"/>
                    </a:lnTo>
                    <a:lnTo>
                      <a:pt x="1238" y="2100"/>
                    </a:lnTo>
                    <a:lnTo>
                      <a:pt x="1273" y="2053"/>
                    </a:lnTo>
                    <a:lnTo>
                      <a:pt x="1296" y="1984"/>
                    </a:lnTo>
                    <a:lnTo>
                      <a:pt x="1296" y="1902"/>
                    </a:lnTo>
                    <a:lnTo>
                      <a:pt x="1283" y="1821"/>
                    </a:lnTo>
                    <a:lnTo>
                      <a:pt x="1273" y="1740"/>
                    </a:lnTo>
                    <a:lnTo>
                      <a:pt x="1261" y="1671"/>
                    </a:lnTo>
                    <a:lnTo>
                      <a:pt x="1261" y="1589"/>
                    </a:lnTo>
                    <a:lnTo>
                      <a:pt x="1261" y="1508"/>
                    </a:lnTo>
                    <a:lnTo>
                      <a:pt x="1283" y="1427"/>
                    </a:lnTo>
                    <a:lnTo>
                      <a:pt x="1273" y="1380"/>
                    </a:lnTo>
                    <a:lnTo>
                      <a:pt x="1249" y="1322"/>
                    </a:lnTo>
                    <a:lnTo>
                      <a:pt x="1238" y="1277"/>
                    </a:lnTo>
                    <a:lnTo>
                      <a:pt x="1226" y="1219"/>
                    </a:lnTo>
                    <a:lnTo>
                      <a:pt x="1215" y="1171"/>
                    </a:lnTo>
                    <a:lnTo>
                      <a:pt x="1203" y="1113"/>
                    </a:lnTo>
                    <a:lnTo>
                      <a:pt x="1215" y="1055"/>
                    </a:lnTo>
                    <a:lnTo>
                      <a:pt x="1226" y="1009"/>
                    </a:lnTo>
                    <a:lnTo>
                      <a:pt x="1226" y="975"/>
                    </a:lnTo>
                    <a:lnTo>
                      <a:pt x="1215" y="951"/>
                    </a:lnTo>
                    <a:lnTo>
                      <a:pt x="1203" y="928"/>
                    </a:lnTo>
                    <a:lnTo>
                      <a:pt x="1192" y="905"/>
                    </a:lnTo>
                    <a:lnTo>
                      <a:pt x="1192" y="882"/>
                    </a:lnTo>
                    <a:lnTo>
                      <a:pt x="1192" y="847"/>
                    </a:lnTo>
                    <a:lnTo>
                      <a:pt x="1192" y="824"/>
                    </a:lnTo>
                    <a:lnTo>
                      <a:pt x="1203" y="801"/>
                    </a:lnTo>
                    <a:lnTo>
                      <a:pt x="1215" y="801"/>
                    </a:lnTo>
                    <a:lnTo>
                      <a:pt x="1215" y="788"/>
                    </a:lnTo>
                    <a:lnTo>
                      <a:pt x="1226" y="788"/>
                    </a:lnTo>
                    <a:lnTo>
                      <a:pt x="1238" y="788"/>
                    </a:lnTo>
                    <a:lnTo>
                      <a:pt x="1249" y="801"/>
                    </a:lnTo>
                    <a:lnTo>
                      <a:pt x="1261" y="801"/>
                    </a:lnTo>
                    <a:lnTo>
                      <a:pt x="1273" y="835"/>
                    </a:lnTo>
                    <a:lnTo>
                      <a:pt x="1273" y="859"/>
                    </a:lnTo>
                    <a:lnTo>
                      <a:pt x="1283" y="882"/>
                    </a:lnTo>
                    <a:lnTo>
                      <a:pt x="1283" y="905"/>
                    </a:lnTo>
                    <a:lnTo>
                      <a:pt x="1296" y="928"/>
                    </a:lnTo>
                    <a:lnTo>
                      <a:pt x="1296" y="951"/>
                    </a:lnTo>
                    <a:lnTo>
                      <a:pt x="1307" y="975"/>
                    </a:lnTo>
                    <a:lnTo>
                      <a:pt x="1320" y="997"/>
                    </a:lnTo>
                    <a:lnTo>
                      <a:pt x="1354" y="1009"/>
                    </a:lnTo>
                    <a:lnTo>
                      <a:pt x="1377" y="1021"/>
                    </a:lnTo>
                    <a:lnTo>
                      <a:pt x="1399" y="1021"/>
                    </a:lnTo>
                    <a:lnTo>
                      <a:pt x="1435" y="1021"/>
                    </a:lnTo>
                    <a:lnTo>
                      <a:pt x="1457" y="1021"/>
                    </a:lnTo>
                    <a:lnTo>
                      <a:pt x="1493" y="1033"/>
                    </a:lnTo>
                    <a:lnTo>
                      <a:pt x="1516" y="1045"/>
                    </a:lnTo>
                    <a:lnTo>
                      <a:pt x="1538" y="1067"/>
                    </a:lnTo>
                    <a:lnTo>
                      <a:pt x="1551" y="1067"/>
                    </a:lnTo>
                    <a:lnTo>
                      <a:pt x="1575" y="1079"/>
                    </a:lnTo>
                    <a:lnTo>
                      <a:pt x="1585" y="1079"/>
                    </a:lnTo>
                    <a:lnTo>
                      <a:pt x="1609" y="1090"/>
                    </a:lnTo>
                    <a:lnTo>
                      <a:pt x="1620" y="1090"/>
                    </a:lnTo>
                    <a:lnTo>
                      <a:pt x="1643" y="1090"/>
                    </a:lnTo>
                    <a:lnTo>
                      <a:pt x="1654" y="1103"/>
                    </a:lnTo>
                    <a:lnTo>
                      <a:pt x="1678" y="1103"/>
                    </a:lnTo>
                    <a:lnTo>
                      <a:pt x="1690" y="1103"/>
                    </a:lnTo>
                    <a:lnTo>
                      <a:pt x="1690" y="1113"/>
                    </a:lnTo>
                    <a:lnTo>
                      <a:pt x="1690" y="1125"/>
                    </a:lnTo>
                    <a:lnTo>
                      <a:pt x="1700" y="1137"/>
                    </a:lnTo>
                    <a:lnTo>
                      <a:pt x="1713" y="1137"/>
                    </a:lnTo>
                    <a:lnTo>
                      <a:pt x="1713" y="1125"/>
                    </a:lnTo>
                    <a:lnTo>
                      <a:pt x="1713" y="1113"/>
                    </a:lnTo>
                    <a:lnTo>
                      <a:pt x="1724" y="11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24600" y="4289400"/>
                <a:ext cx="322200" cy="835200"/>
              </a:xfrm>
              <a:custGeom>
                <a:avLst/>
                <a:gdLst/>
                <a:ahLst/>
                <a:rect l="l" t="t" r="r" b="b"/>
                <a:pathLst>
                  <a:path w="810" h="2101">
                    <a:moveTo>
                      <a:pt x="0" y="163"/>
                    </a:moveTo>
                    <a:lnTo>
                      <a:pt x="0" y="1497"/>
                    </a:lnTo>
                    <a:lnTo>
                      <a:pt x="13" y="1497"/>
                    </a:lnTo>
                    <a:lnTo>
                      <a:pt x="13" y="1486"/>
                    </a:lnTo>
                    <a:lnTo>
                      <a:pt x="24" y="1474"/>
                    </a:lnTo>
                    <a:lnTo>
                      <a:pt x="35" y="1474"/>
                    </a:lnTo>
                    <a:lnTo>
                      <a:pt x="47" y="1474"/>
                    </a:lnTo>
                    <a:lnTo>
                      <a:pt x="47" y="1486"/>
                    </a:lnTo>
                    <a:lnTo>
                      <a:pt x="58" y="1486"/>
                    </a:lnTo>
                    <a:lnTo>
                      <a:pt x="70" y="1532"/>
                    </a:lnTo>
                    <a:lnTo>
                      <a:pt x="104" y="1532"/>
                    </a:lnTo>
                    <a:lnTo>
                      <a:pt x="140" y="1532"/>
                    </a:lnTo>
                    <a:lnTo>
                      <a:pt x="175" y="1544"/>
                    </a:lnTo>
                    <a:lnTo>
                      <a:pt x="210" y="1544"/>
                    </a:lnTo>
                    <a:lnTo>
                      <a:pt x="232" y="1544"/>
                    </a:lnTo>
                    <a:lnTo>
                      <a:pt x="267" y="1556"/>
                    </a:lnTo>
                    <a:lnTo>
                      <a:pt x="290" y="1567"/>
                    </a:lnTo>
                    <a:lnTo>
                      <a:pt x="325" y="1590"/>
                    </a:lnTo>
                    <a:lnTo>
                      <a:pt x="325" y="1601"/>
                    </a:lnTo>
                    <a:lnTo>
                      <a:pt x="325" y="1614"/>
                    </a:lnTo>
                    <a:lnTo>
                      <a:pt x="336" y="1614"/>
                    </a:lnTo>
                    <a:lnTo>
                      <a:pt x="336" y="1625"/>
                    </a:lnTo>
                    <a:lnTo>
                      <a:pt x="336" y="1637"/>
                    </a:lnTo>
                    <a:lnTo>
                      <a:pt x="348" y="1637"/>
                    </a:lnTo>
                    <a:lnTo>
                      <a:pt x="372" y="1648"/>
                    </a:lnTo>
                    <a:lnTo>
                      <a:pt x="393" y="1672"/>
                    </a:lnTo>
                    <a:lnTo>
                      <a:pt x="406" y="1695"/>
                    </a:lnTo>
                    <a:lnTo>
                      <a:pt x="417" y="1717"/>
                    </a:lnTo>
                    <a:lnTo>
                      <a:pt x="441" y="1754"/>
                    </a:lnTo>
                    <a:lnTo>
                      <a:pt x="451" y="1775"/>
                    </a:lnTo>
                    <a:lnTo>
                      <a:pt x="451" y="1811"/>
                    </a:lnTo>
                    <a:lnTo>
                      <a:pt x="464" y="1833"/>
                    </a:lnTo>
                    <a:lnTo>
                      <a:pt x="464" y="2019"/>
                    </a:lnTo>
                    <a:lnTo>
                      <a:pt x="430" y="2066"/>
                    </a:lnTo>
                    <a:lnTo>
                      <a:pt x="430" y="2077"/>
                    </a:lnTo>
                    <a:lnTo>
                      <a:pt x="441" y="2089"/>
                    </a:lnTo>
                    <a:lnTo>
                      <a:pt x="451" y="2101"/>
                    </a:lnTo>
                    <a:lnTo>
                      <a:pt x="464" y="2101"/>
                    </a:lnTo>
                    <a:lnTo>
                      <a:pt x="475" y="2101"/>
                    </a:lnTo>
                    <a:lnTo>
                      <a:pt x="487" y="2101"/>
                    </a:lnTo>
                    <a:lnTo>
                      <a:pt x="499" y="2101"/>
                    </a:lnTo>
                    <a:lnTo>
                      <a:pt x="509" y="2101"/>
                    </a:lnTo>
                    <a:lnTo>
                      <a:pt x="533" y="2089"/>
                    </a:lnTo>
                    <a:lnTo>
                      <a:pt x="545" y="2089"/>
                    </a:lnTo>
                    <a:lnTo>
                      <a:pt x="556" y="2077"/>
                    </a:lnTo>
                    <a:lnTo>
                      <a:pt x="568" y="2066"/>
                    </a:lnTo>
                    <a:lnTo>
                      <a:pt x="579" y="2066"/>
                    </a:lnTo>
                    <a:lnTo>
                      <a:pt x="695" y="2053"/>
                    </a:lnTo>
                    <a:lnTo>
                      <a:pt x="706" y="2053"/>
                    </a:lnTo>
                    <a:lnTo>
                      <a:pt x="706" y="2043"/>
                    </a:lnTo>
                    <a:lnTo>
                      <a:pt x="706" y="2031"/>
                    </a:lnTo>
                    <a:lnTo>
                      <a:pt x="706" y="2019"/>
                    </a:lnTo>
                    <a:lnTo>
                      <a:pt x="706" y="2008"/>
                    </a:lnTo>
                    <a:lnTo>
                      <a:pt x="637" y="1973"/>
                    </a:lnTo>
                    <a:lnTo>
                      <a:pt x="637" y="1938"/>
                    </a:lnTo>
                    <a:lnTo>
                      <a:pt x="648" y="1903"/>
                    </a:lnTo>
                    <a:lnTo>
                      <a:pt x="648" y="1869"/>
                    </a:lnTo>
                    <a:lnTo>
                      <a:pt x="661" y="1833"/>
                    </a:lnTo>
                    <a:lnTo>
                      <a:pt x="661" y="1799"/>
                    </a:lnTo>
                    <a:lnTo>
                      <a:pt x="661" y="1764"/>
                    </a:lnTo>
                    <a:lnTo>
                      <a:pt x="648" y="1730"/>
                    </a:lnTo>
                    <a:lnTo>
                      <a:pt x="637" y="1695"/>
                    </a:lnTo>
                    <a:lnTo>
                      <a:pt x="626" y="1672"/>
                    </a:lnTo>
                    <a:lnTo>
                      <a:pt x="614" y="1648"/>
                    </a:lnTo>
                    <a:lnTo>
                      <a:pt x="603" y="1625"/>
                    </a:lnTo>
                    <a:lnTo>
                      <a:pt x="579" y="1614"/>
                    </a:lnTo>
                    <a:lnTo>
                      <a:pt x="556" y="1601"/>
                    </a:lnTo>
                    <a:lnTo>
                      <a:pt x="533" y="1590"/>
                    </a:lnTo>
                    <a:lnTo>
                      <a:pt x="521" y="1567"/>
                    </a:lnTo>
                    <a:lnTo>
                      <a:pt x="509" y="1544"/>
                    </a:lnTo>
                    <a:lnTo>
                      <a:pt x="509" y="1532"/>
                    </a:lnTo>
                    <a:lnTo>
                      <a:pt x="509" y="1521"/>
                    </a:lnTo>
                    <a:lnTo>
                      <a:pt x="509" y="1509"/>
                    </a:lnTo>
                    <a:lnTo>
                      <a:pt x="499" y="1497"/>
                    </a:lnTo>
                    <a:lnTo>
                      <a:pt x="475" y="1474"/>
                    </a:lnTo>
                    <a:lnTo>
                      <a:pt x="464" y="1463"/>
                    </a:lnTo>
                    <a:lnTo>
                      <a:pt x="441" y="1452"/>
                    </a:lnTo>
                    <a:lnTo>
                      <a:pt x="417" y="1439"/>
                    </a:lnTo>
                    <a:lnTo>
                      <a:pt x="393" y="1428"/>
                    </a:lnTo>
                    <a:lnTo>
                      <a:pt x="372" y="1428"/>
                    </a:lnTo>
                    <a:lnTo>
                      <a:pt x="348" y="1416"/>
                    </a:lnTo>
                    <a:lnTo>
                      <a:pt x="336" y="1416"/>
                    </a:lnTo>
                    <a:lnTo>
                      <a:pt x="314" y="1416"/>
                    </a:lnTo>
                    <a:lnTo>
                      <a:pt x="302" y="1405"/>
                    </a:lnTo>
                    <a:lnTo>
                      <a:pt x="290" y="1405"/>
                    </a:lnTo>
                    <a:lnTo>
                      <a:pt x="267" y="1394"/>
                    </a:lnTo>
                    <a:lnTo>
                      <a:pt x="255" y="1381"/>
                    </a:lnTo>
                    <a:lnTo>
                      <a:pt x="244" y="1381"/>
                    </a:lnTo>
                    <a:lnTo>
                      <a:pt x="244" y="1370"/>
                    </a:lnTo>
                    <a:lnTo>
                      <a:pt x="232" y="1323"/>
                    </a:lnTo>
                    <a:lnTo>
                      <a:pt x="232" y="1278"/>
                    </a:lnTo>
                    <a:lnTo>
                      <a:pt x="232" y="1242"/>
                    </a:lnTo>
                    <a:lnTo>
                      <a:pt x="232" y="1196"/>
                    </a:lnTo>
                    <a:lnTo>
                      <a:pt x="220" y="1150"/>
                    </a:lnTo>
                    <a:lnTo>
                      <a:pt x="220" y="1114"/>
                    </a:lnTo>
                    <a:lnTo>
                      <a:pt x="210" y="1068"/>
                    </a:lnTo>
                    <a:lnTo>
                      <a:pt x="197" y="1022"/>
                    </a:lnTo>
                    <a:lnTo>
                      <a:pt x="210" y="952"/>
                    </a:lnTo>
                    <a:lnTo>
                      <a:pt x="220" y="952"/>
                    </a:lnTo>
                    <a:lnTo>
                      <a:pt x="220" y="941"/>
                    </a:lnTo>
                    <a:lnTo>
                      <a:pt x="232" y="941"/>
                    </a:lnTo>
                    <a:lnTo>
                      <a:pt x="244" y="952"/>
                    </a:lnTo>
                    <a:lnTo>
                      <a:pt x="255" y="952"/>
                    </a:lnTo>
                    <a:lnTo>
                      <a:pt x="267" y="964"/>
                    </a:lnTo>
                    <a:lnTo>
                      <a:pt x="278" y="964"/>
                    </a:lnTo>
                    <a:lnTo>
                      <a:pt x="290" y="964"/>
                    </a:lnTo>
                    <a:lnTo>
                      <a:pt x="302" y="964"/>
                    </a:lnTo>
                    <a:lnTo>
                      <a:pt x="325" y="964"/>
                    </a:lnTo>
                    <a:lnTo>
                      <a:pt x="336" y="952"/>
                    </a:lnTo>
                    <a:lnTo>
                      <a:pt x="359" y="952"/>
                    </a:lnTo>
                    <a:lnTo>
                      <a:pt x="393" y="941"/>
                    </a:lnTo>
                    <a:lnTo>
                      <a:pt x="417" y="929"/>
                    </a:lnTo>
                    <a:lnTo>
                      <a:pt x="451" y="929"/>
                    </a:lnTo>
                    <a:lnTo>
                      <a:pt x="475" y="918"/>
                    </a:lnTo>
                    <a:lnTo>
                      <a:pt x="509" y="905"/>
                    </a:lnTo>
                    <a:lnTo>
                      <a:pt x="533" y="894"/>
                    </a:lnTo>
                    <a:lnTo>
                      <a:pt x="556" y="883"/>
                    </a:lnTo>
                    <a:lnTo>
                      <a:pt x="579" y="860"/>
                    </a:lnTo>
                    <a:lnTo>
                      <a:pt x="603" y="836"/>
                    </a:lnTo>
                    <a:lnTo>
                      <a:pt x="626" y="825"/>
                    </a:lnTo>
                    <a:lnTo>
                      <a:pt x="661" y="825"/>
                    </a:lnTo>
                    <a:lnTo>
                      <a:pt x="695" y="812"/>
                    </a:lnTo>
                    <a:lnTo>
                      <a:pt x="730" y="802"/>
                    </a:lnTo>
                    <a:lnTo>
                      <a:pt x="753" y="790"/>
                    </a:lnTo>
                    <a:lnTo>
                      <a:pt x="776" y="754"/>
                    </a:lnTo>
                    <a:lnTo>
                      <a:pt x="788" y="754"/>
                    </a:lnTo>
                    <a:lnTo>
                      <a:pt x="788" y="744"/>
                    </a:lnTo>
                    <a:lnTo>
                      <a:pt x="800" y="732"/>
                    </a:lnTo>
                    <a:lnTo>
                      <a:pt x="800" y="720"/>
                    </a:lnTo>
                    <a:lnTo>
                      <a:pt x="810" y="708"/>
                    </a:lnTo>
                    <a:lnTo>
                      <a:pt x="810" y="674"/>
                    </a:lnTo>
                    <a:lnTo>
                      <a:pt x="810" y="650"/>
                    </a:lnTo>
                    <a:lnTo>
                      <a:pt x="800" y="616"/>
                    </a:lnTo>
                    <a:lnTo>
                      <a:pt x="776" y="581"/>
                    </a:lnTo>
                    <a:lnTo>
                      <a:pt x="765" y="558"/>
                    </a:lnTo>
                    <a:lnTo>
                      <a:pt x="753" y="558"/>
                    </a:lnTo>
                    <a:lnTo>
                      <a:pt x="742" y="558"/>
                    </a:lnTo>
                    <a:lnTo>
                      <a:pt x="742" y="570"/>
                    </a:lnTo>
                    <a:lnTo>
                      <a:pt x="730" y="581"/>
                    </a:lnTo>
                    <a:lnTo>
                      <a:pt x="718" y="592"/>
                    </a:lnTo>
                    <a:lnTo>
                      <a:pt x="706" y="604"/>
                    </a:lnTo>
                    <a:lnTo>
                      <a:pt x="695" y="628"/>
                    </a:lnTo>
                    <a:lnTo>
                      <a:pt x="683" y="650"/>
                    </a:lnTo>
                    <a:lnTo>
                      <a:pt x="661" y="662"/>
                    </a:lnTo>
                    <a:lnTo>
                      <a:pt x="648" y="686"/>
                    </a:lnTo>
                    <a:lnTo>
                      <a:pt x="626" y="708"/>
                    </a:lnTo>
                    <a:lnTo>
                      <a:pt x="603" y="720"/>
                    </a:lnTo>
                    <a:lnTo>
                      <a:pt x="568" y="732"/>
                    </a:lnTo>
                    <a:lnTo>
                      <a:pt x="545" y="744"/>
                    </a:lnTo>
                    <a:lnTo>
                      <a:pt x="417" y="720"/>
                    </a:lnTo>
                    <a:lnTo>
                      <a:pt x="290" y="778"/>
                    </a:lnTo>
                    <a:lnTo>
                      <a:pt x="278" y="767"/>
                    </a:lnTo>
                    <a:lnTo>
                      <a:pt x="267" y="754"/>
                    </a:lnTo>
                    <a:lnTo>
                      <a:pt x="267" y="744"/>
                    </a:lnTo>
                    <a:lnTo>
                      <a:pt x="267" y="732"/>
                    </a:lnTo>
                    <a:lnTo>
                      <a:pt x="267" y="720"/>
                    </a:lnTo>
                    <a:lnTo>
                      <a:pt x="267" y="708"/>
                    </a:lnTo>
                    <a:lnTo>
                      <a:pt x="267" y="697"/>
                    </a:lnTo>
                    <a:lnTo>
                      <a:pt x="128" y="616"/>
                    </a:lnTo>
                    <a:lnTo>
                      <a:pt x="117" y="616"/>
                    </a:lnTo>
                    <a:lnTo>
                      <a:pt x="104" y="616"/>
                    </a:lnTo>
                    <a:lnTo>
                      <a:pt x="93" y="628"/>
                    </a:lnTo>
                    <a:lnTo>
                      <a:pt x="82" y="616"/>
                    </a:lnTo>
                    <a:lnTo>
                      <a:pt x="70" y="616"/>
                    </a:lnTo>
                    <a:lnTo>
                      <a:pt x="70" y="604"/>
                    </a:lnTo>
                    <a:lnTo>
                      <a:pt x="70" y="592"/>
                    </a:lnTo>
                    <a:lnTo>
                      <a:pt x="82" y="592"/>
                    </a:lnTo>
                    <a:lnTo>
                      <a:pt x="82" y="581"/>
                    </a:lnTo>
                    <a:lnTo>
                      <a:pt x="140" y="570"/>
                    </a:lnTo>
                    <a:lnTo>
                      <a:pt x="186" y="512"/>
                    </a:lnTo>
                    <a:lnTo>
                      <a:pt x="175" y="500"/>
                    </a:lnTo>
                    <a:lnTo>
                      <a:pt x="175" y="489"/>
                    </a:lnTo>
                    <a:lnTo>
                      <a:pt x="175" y="476"/>
                    </a:lnTo>
                    <a:lnTo>
                      <a:pt x="186" y="476"/>
                    </a:lnTo>
                    <a:lnTo>
                      <a:pt x="186" y="465"/>
                    </a:lnTo>
                    <a:lnTo>
                      <a:pt x="186" y="453"/>
                    </a:lnTo>
                    <a:lnTo>
                      <a:pt x="175" y="442"/>
                    </a:lnTo>
                    <a:lnTo>
                      <a:pt x="175" y="431"/>
                    </a:lnTo>
                    <a:lnTo>
                      <a:pt x="186" y="431"/>
                    </a:lnTo>
                    <a:lnTo>
                      <a:pt x="197" y="431"/>
                    </a:lnTo>
                    <a:lnTo>
                      <a:pt x="197" y="407"/>
                    </a:lnTo>
                    <a:lnTo>
                      <a:pt x="197" y="396"/>
                    </a:lnTo>
                    <a:lnTo>
                      <a:pt x="186" y="384"/>
                    </a:lnTo>
                    <a:lnTo>
                      <a:pt x="175" y="360"/>
                    </a:lnTo>
                    <a:lnTo>
                      <a:pt x="162" y="349"/>
                    </a:lnTo>
                    <a:lnTo>
                      <a:pt x="162" y="326"/>
                    </a:lnTo>
                    <a:lnTo>
                      <a:pt x="162" y="315"/>
                    </a:lnTo>
                    <a:lnTo>
                      <a:pt x="162" y="291"/>
                    </a:lnTo>
                    <a:lnTo>
                      <a:pt x="175" y="280"/>
                    </a:lnTo>
                    <a:lnTo>
                      <a:pt x="186" y="268"/>
                    </a:lnTo>
                    <a:lnTo>
                      <a:pt x="197" y="268"/>
                    </a:lnTo>
                    <a:lnTo>
                      <a:pt x="210" y="268"/>
                    </a:lnTo>
                    <a:lnTo>
                      <a:pt x="210" y="256"/>
                    </a:lnTo>
                    <a:lnTo>
                      <a:pt x="220" y="256"/>
                    </a:lnTo>
                    <a:lnTo>
                      <a:pt x="220" y="210"/>
                    </a:lnTo>
                    <a:lnTo>
                      <a:pt x="232" y="198"/>
                    </a:lnTo>
                    <a:lnTo>
                      <a:pt x="244" y="198"/>
                    </a:lnTo>
                    <a:lnTo>
                      <a:pt x="255" y="198"/>
                    </a:lnTo>
                    <a:lnTo>
                      <a:pt x="267" y="198"/>
                    </a:lnTo>
                    <a:lnTo>
                      <a:pt x="278" y="198"/>
                    </a:lnTo>
                    <a:lnTo>
                      <a:pt x="290" y="198"/>
                    </a:lnTo>
                    <a:lnTo>
                      <a:pt x="290" y="187"/>
                    </a:lnTo>
                    <a:lnTo>
                      <a:pt x="290" y="175"/>
                    </a:lnTo>
                    <a:lnTo>
                      <a:pt x="290" y="163"/>
                    </a:lnTo>
                    <a:lnTo>
                      <a:pt x="290" y="153"/>
                    </a:lnTo>
                    <a:lnTo>
                      <a:pt x="267" y="117"/>
                    </a:lnTo>
                    <a:lnTo>
                      <a:pt x="232" y="140"/>
                    </a:lnTo>
                    <a:lnTo>
                      <a:pt x="186" y="153"/>
                    </a:lnTo>
                    <a:lnTo>
                      <a:pt x="128" y="222"/>
                    </a:lnTo>
                    <a:lnTo>
                      <a:pt x="117" y="140"/>
                    </a:lnTo>
                    <a:lnTo>
                      <a:pt x="104" y="129"/>
                    </a:lnTo>
                    <a:lnTo>
                      <a:pt x="93" y="129"/>
                    </a:lnTo>
                    <a:lnTo>
                      <a:pt x="82" y="117"/>
                    </a:lnTo>
                    <a:lnTo>
                      <a:pt x="70" y="117"/>
                    </a:lnTo>
                    <a:lnTo>
                      <a:pt x="58" y="105"/>
                    </a:lnTo>
                    <a:lnTo>
                      <a:pt x="35" y="0"/>
                    </a:lnTo>
                    <a:lnTo>
                      <a:pt x="0" y="13"/>
                    </a:lnTo>
                    <a:lnTo>
                      <a:pt x="0" y="153"/>
                    </a:lnTo>
                    <a:lnTo>
                      <a:pt x="13" y="153"/>
                    </a:lnTo>
                    <a:lnTo>
                      <a:pt x="24" y="153"/>
                    </a:lnTo>
                    <a:lnTo>
                      <a:pt x="24" y="163"/>
                    </a:lnTo>
                    <a:lnTo>
                      <a:pt x="35" y="175"/>
                    </a:lnTo>
                    <a:lnTo>
                      <a:pt x="35" y="187"/>
                    </a:lnTo>
                    <a:lnTo>
                      <a:pt x="24" y="187"/>
                    </a:lnTo>
                    <a:lnTo>
                      <a:pt x="13" y="175"/>
                    </a:lnTo>
                    <a:lnTo>
                      <a:pt x="13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041800" y="4294080"/>
                <a:ext cx="82800" cy="893880"/>
              </a:xfrm>
              <a:custGeom>
                <a:avLst/>
                <a:gdLst/>
                <a:ahLst/>
                <a:rect l="l" t="t" r="r" b="b"/>
                <a:pathLst>
                  <a:path w="207" h="2250">
                    <a:moveTo>
                      <a:pt x="207" y="140"/>
                    </a:moveTo>
                    <a:lnTo>
                      <a:pt x="207" y="0"/>
                    </a:lnTo>
                    <a:lnTo>
                      <a:pt x="162" y="0"/>
                    </a:lnTo>
                    <a:lnTo>
                      <a:pt x="162" y="11"/>
                    </a:lnTo>
                    <a:lnTo>
                      <a:pt x="173" y="11"/>
                    </a:lnTo>
                    <a:lnTo>
                      <a:pt x="173" y="24"/>
                    </a:lnTo>
                    <a:lnTo>
                      <a:pt x="173" y="34"/>
                    </a:lnTo>
                    <a:lnTo>
                      <a:pt x="173" y="45"/>
                    </a:lnTo>
                    <a:lnTo>
                      <a:pt x="162" y="58"/>
                    </a:lnTo>
                    <a:lnTo>
                      <a:pt x="149" y="69"/>
                    </a:lnTo>
                    <a:lnTo>
                      <a:pt x="138" y="69"/>
                    </a:lnTo>
                    <a:lnTo>
                      <a:pt x="138" y="82"/>
                    </a:lnTo>
                    <a:lnTo>
                      <a:pt x="127" y="92"/>
                    </a:lnTo>
                    <a:lnTo>
                      <a:pt x="127" y="104"/>
                    </a:lnTo>
                    <a:lnTo>
                      <a:pt x="115" y="116"/>
                    </a:lnTo>
                    <a:lnTo>
                      <a:pt x="104" y="140"/>
                    </a:lnTo>
                    <a:lnTo>
                      <a:pt x="104" y="150"/>
                    </a:lnTo>
                    <a:lnTo>
                      <a:pt x="92" y="162"/>
                    </a:lnTo>
                    <a:lnTo>
                      <a:pt x="80" y="174"/>
                    </a:lnTo>
                    <a:lnTo>
                      <a:pt x="58" y="185"/>
                    </a:lnTo>
                    <a:lnTo>
                      <a:pt x="58" y="174"/>
                    </a:lnTo>
                    <a:lnTo>
                      <a:pt x="46" y="174"/>
                    </a:lnTo>
                    <a:lnTo>
                      <a:pt x="34" y="162"/>
                    </a:lnTo>
                    <a:lnTo>
                      <a:pt x="34" y="150"/>
                    </a:lnTo>
                    <a:lnTo>
                      <a:pt x="34" y="140"/>
                    </a:lnTo>
                    <a:lnTo>
                      <a:pt x="34" y="127"/>
                    </a:lnTo>
                    <a:lnTo>
                      <a:pt x="22" y="127"/>
                    </a:lnTo>
                    <a:lnTo>
                      <a:pt x="22" y="116"/>
                    </a:lnTo>
                    <a:lnTo>
                      <a:pt x="10" y="116"/>
                    </a:lnTo>
                    <a:lnTo>
                      <a:pt x="0" y="104"/>
                    </a:lnTo>
                    <a:lnTo>
                      <a:pt x="0" y="243"/>
                    </a:lnTo>
                    <a:lnTo>
                      <a:pt x="10" y="243"/>
                    </a:lnTo>
                    <a:lnTo>
                      <a:pt x="22" y="243"/>
                    </a:lnTo>
                    <a:lnTo>
                      <a:pt x="34" y="255"/>
                    </a:lnTo>
                    <a:lnTo>
                      <a:pt x="46" y="255"/>
                    </a:lnTo>
                    <a:lnTo>
                      <a:pt x="46" y="267"/>
                    </a:lnTo>
                    <a:lnTo>
                      <a:pt x="58" y="267"/>
                    </a:lnTo>
                    <a:lnTo>
                      <a:pt x="58" y="278"/>
                    </a:lnTo>
                    <a:lnTo>
                      <a:pt x="0" y="302"/>
                    </a:lnTo>
                    <a:lnTo>
                      <a:pt x="0" y="429"/>
                    </a:lnTo>
                    <a:lnTo>
                      <a:pt x="10" y="429"/>
                    </a:lnTo>
                    <a:lnTo>
                      <a:pt x="10" y="440"/>
                    </a:lnTo>
                    <a:lnTo>
                      <a:pt x="0" y="440"/>
                    </a:lnTo>
                    <a:lnTo>
                      <a:pt x="0" y="568"/>
                    </a:lnTo>
                    <a:lnTo>
                      <a:pt x="10" y="568"/>
                    </a:lnTo>
                    <a:lnTo>
                      <a:pt x="10" y="557"/>
                    </a:lnTo>
                    <a:lnTo>
                      <a:pt x="10" y="545"/>
                    </a:lnTo>
                    <a:lnTo>
                      <a:pt x="10" y="534"/>
                    </a:lnTo>
                    <a:lnTo>
                      <a:pt x="22" y="521"/>
                    </a:lnTo>
                    <a:lnTo>
                      <a:pt x="34" y="521"/>
                    </a:lnTo>
                    <a:lnTo>
                      <a:pt x="46" y="521"/>
                    </a:lnTo>
                    <a:lnTo>
                      <a:pt x="58" y="521"/>
                    </a:lnTo>
                    <a:lnTo>
                      <a:pt x="68" y="521"/>
                    </a:lnTo>
                    <a:lnTo>
                      <a:pt x="68" y="534"/>
                    </a:lnTo>
                    <a:lnTo>
                      <a:pt x="68" y="545"/>
                    </a:lnTo>
                    <a:lnTo>
                      <a:pt x="80" y="545"/>
                    </a:lnTo>
                    <a:lnTo>
                      <a:pt x="80" y="557"/>
                    </a:lnTo>
                    <a:lnTo>
                      <a:pt x="80" y="568"/>
                    </a:lnTo>
                    <a:lnTo>
                      <a:pt x="68" y="568"/>
                    </a:lnTo>
                    <a:lnTo>
                      <a:pt x="68" y="579"/>
                    </a:lnTo>
                    <a:lnTo>
                      <a:pt x="68" y="591"/>
                    </a:lnTo>
                    <a:lnTo>
                      <a:pt x="34" y="615"/>
                    </a:lnTo>
                    <a:lnTo>
                      <a:pt x="10" y="649"/>
                    </a:lnTo>
                    <a:lnTo>
                      <a:pt x="0" y="649"/>
                    </a:lnTo>
                    <a:lnTo>
                      <a:pt x="0" y="986"/>
                    </a:lnTo>
                    <a:lnTo>
                      <a:pt x="10" y="986"/>
                    </a:lnTo>
                    <a:lnTo>
                      <a:pt x="0" y="997"/>
                    </a:lnTo>
                    <a:lnTo>
                      <a:pt x="0" y="1137"/>
                    </a:lnTo>
                    <a:lnTo>
                      <a:pt x="10" y="1149"/>
                    </a:lnTo>
                    <a:lnTo>
                      <a:pt x="10" y="1159"/>
                    </a:lnTo>
                    <a:lnTo>
                      <a:pt x="10" y="1171"/>
                    </a:lnTo>
                    <a:lnTo>
                      <a:pt x="10" y="1183"/>
                    </a:lnTo>
                    <a:lnTo>
                      <a:pt x="10" y="1194"/>
                    </a:lnTo>
                    <a:lnTo>
                      <a:pt x="10" y="1207"/>
                    </a:lnTo>
                    <a:lnTo>
                      <a:pt x="10" y="1217"/>
                    </a:lnTo>
                    <a:lnTo>
                      <a:pt x="0" y="1217"/>
                    </a:lnTo>
                    <a:lnTo>
                      <a:pt x="0" y="2238"/>
                    </a:lnTo>
                    <a:lnTo>
                      <a:pt x="58" y="2238"/>
                    </a:lnTo>
                    <a:lnTo>
                      <a:pt x="80" y="2227"/>
                    </a:lnTo>
                    <a:lnTo>
                      <a:pt x="92" y="2227"/>
                    </a:lnTo>
                    <a:lnTo>
                      <a:pt x="104" y="2227"/>
                    </a:lnTo>
                    <a:lnTo>
                      <a:pt x="115" y="2227"/>
                    </a:lnTo>
                    <a:lnTo>
                      <a:pt x="127" y="2227"/>
                    </a:lnTo>
                    <a:lnTo>
                      <a:pt x="138" y="2238"/>
                    </a:lnTo>
                    <a:lnTo>
                      <a:pt x="149" y="2238"/>
                    </a:lnTo>
                    <a:lnTo>
                      <a:pt x="162" y="2250"/>
                    </a:lnTo>
                    <a:lnTo>
                      <a:pt x="196" y="2238"/>
                    </a:lnTo>
                    <a:lnTo>
                      <a:pt x="196" y="2227"/>
                    </a:lnTo>
                    <a:lnTo>
                      <a:pt x="196" y="2215"/>
                    </a:lnTo>
                    <a:lnTo>
                      <a:pt x="196" y="2204"/>
                    </a:lnTo>
                    <a:lnTo>
                      <a:pt x="184" y="2192"/>
                    </a:lnTo>
                    <a:lnTo>
                      <a:pt x="173" y="2180"/>
                    </a:lnTo>
                    <a:lnTo>
                      <a:pt x="149" y="2169"/>
                    </a:lnTo>
                    <a:lnTo>
                      <a:pt x="138" y="2157"/>
                    </a:lnTo>
                    <a:lnTo>
                      <a:pt x="127" y="2146"/>
                    </a:lnTo>
                    <a:lnTo>
                      <a:pt x="115" y="2134"/>
                    </a:lnTo>
                    <a:lnTo>
                      <a:pt x="104" y="2111"/>
                    </a:lnTo>
                    <a:lnTo>
                      <a:pt x="104" y="2099"/>
                    </a:lnTo>
                    <a:lnTo>
                      <a:pt x="104" y="2076"/>
                    </a:lnTo>
                    <a:lnTo>
                      <a:pt x="115" y="2064"/>
                    </a:lnTo>
                    <a:lnTo>
                      <a:pt x="127" y="2053"/>
                    </a:lnTo>
                    <a:lnTo>
                      <a:pt x="138" y="2040"/>
                    </a:lnTo>
                    <a:lnTo>
                      <a:pt x="149" y="2030"/>
                    </a:lnTo>
                    <a:lnTo>
                      <a:pt x="162" y="2018"/>
                    </a:lnTo>
                    <a:lnTo>
                      <a:pt x="162" y="1995"/>
                    </a:lnTo>
                    <a:lnTo>
                      <a:pt x="173" y="1983"/>
                    </a:lnTo>
                    <a:lnTo>
                      <a:pt x="162" y="1925"/>
                    </a:lnTo>
                    <a:lnTo>
                      <a:pt x="149" y="1878"/>
                    </a:lnTo>
                    <a:lnTo>
                      <a:pt x="162" y="1833"/>
                    </a:lnTo>
                    <a:lnTo>
                      <a:pt x="162" y="1786"/>
                    </a:lnTo>
                    <a:lnTo>
                      <a:pt x="162" y="1741"/>
                    </a:lnTo>
                    <a:lnTo>
                      <a:pt x="173" y="1693"/>
                    </a:lnTo>
                    <a:lnTo>
                      <a:pt x="173" y="1646"/>
                    </a:lnTo>
                    <a:lnTo>
                      <a:pt x="184" y="1588"/>
                    </a:lnTo>
                    <a:lnTo>
                      <a:pt x="184" y="1577"/>
                    </a:lnTo>
                    <a:lnTo>
                      <a:pt x="184" y="1566"/>
                    </a:lnTo>
                    <a:lnTo>
                      <a:pt x="184" y="1554"/>
                    </a:lnTo>
                    <a:lnTo>
                      <a:pt x="196" y="1543"/>
                    </a:lnTo>
                    <a:lnTo>
                      <a:pt x="196" y="1531"/>
                    </a:lnTo>
                    <a:lnTo>
                      <a:pt x="207" y="1531"/>
                    </a:lnTo>
                    <a:lnTo>
                      <a:pt x="207" y="1508"/>
                    </a:lnTo>
                    <a:lnTo>
                      <a:pt x="207" y="1496"/>
                    </a:lnTo>
                    <a:lnTo>
                      <a:pt x="207" y="1484"/>
                    </a:lnTo>
                    <a:lnTo>
                      <a:pt x="207" y="150"/>
                    </a:lnTo>
                    <a:lnTo>
                      <a:pt x="207" y="140"/>
                    </a:lnTo>
                    <a:lnTo>
                      <a:pt x="196" y="140"/>
                    </a:lnTo>
                    <a:lnTo>
                      <a:pt x="184" y="127"/>
                    </a:lnTo>
                    <a:lnTo>
                      <a:pt x="184" y="116"/>
                    </a:lnTo>
                    <a:lnTo>
                      <a:pt x="196" y="116"/>
                    </a:lnTo>
                    <a:lnTo>
                      <a:pt x="207" y="116"/>
                    </a:lnTo>
                    <a:lnTo>
                      <a:pt x="207" y="127"/>
                    </a:lnTo>
                    <a:lnTo>
                      <a:pt x="207" y="1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000760" y="4336920"/>
                <a:ext cx="41040" cy="73080"/>
              </a:xfrm>
              <a:custGeom>
                <a:avLst/>
                <a:gdLst/>
                <a:ahLst/>
                <a:rect l="l" t="t" r="r" b="b"/>
                <a:pathLst>
                  <a:path w="105" h="185">
                    <a:moveTo>
                      <a:pt x="105" y="139"/>
                    </a:moveTo>
                    <a:lnTo>
                      <a:pt x="105" y="0"/>
                    </a:lnTo>
                    <a:lnTo>
                      <a:pt x="93" y="0"/>
                    </a:lnTo>
                    <a:lnTo>
                      <a:pt x="81" y="0"/>
                    </a:lnTo>
                    <a:lnTo>
                      <a:pt x="57" y="0"/>
                    </a:lnTo>
                    <a:lnTo>
                      <a:pt x="47" y="12"/>
                    </a:lnTo>
                    <a:lnTo>
                      <a:pt x="36" y="12"/>
                    </a:lnTo>
                    <a:lnTo>
                      <a:pt x="23" y="23"/>
                    </a:lnTo>
                    <a:lnTo>
                      <a:pt x="12" y="23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8"/>
                    </a:lnTo>
                    <a:lnTo>
                      <a:pt x="12" y="58"/>
                    </a:lnTo>
                    <a:lnTo>
                      <a:pt x="12" y="70"/>
                    </a:lnTo>
                    <a:lnTo>
                      <a:pt x="23" y="70"/>
                    </a:lnTo>
                    <a:lnTo>
                      <a:pt x="36" y="70"/>
                    </a:lnTo>
                    <a:lnTo>
                      <a:pt x="47" y="70"/>
                    </a:lnTo>
                    <a:lnTo>
                      <a:pt x="57" y="70"/>
                    </a:lnTo>
                    <a:lnTo>
                      <a:pt x="57" y="81"/>
                    </a:lnTo>
                    <a:lnTo>
                      <a:pt x="70" y="81"/>
                    </a:lnTo>
                    <a:lnTo>
                      <a:pt x="23" y="174"/>
                    </a:lnTo>
                    <a:lnTo>
                      <a:pt x="36" y="174"/>
                    </a:lnTo>
                    <a:lnTo>
                      <a:pt x="36" y="185"/>
                    </a:lnTo>
                    <a:lnTo>
                      <a:pt x="47" y="185"/>
                    </a:lnTo>
                    <a:lnTo>
                      <a:pt x="47" y="174"/>
                    </a:lnTo>
                    <a:lnTo>
                      <a:pt x="57" y="174"/>
                    </a:lnTo>
                    <a:lnTo>
                      <a:pt x="70" y="174"/>
                    </a:lnTo>
                    <a:lnTo>
                      <a:pt x="81" y="151"/>
                    </a:lnTo>
                    <a:lnTo>
                      <a:pt x="93" y="151"/>
                    </a:lnTo>
                    <a:lnTo>
                      <a:pt x="93" y="139"/>
                    </a:lnTo>
                    <a:lnTo>
                      <a:pt x="105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000760" y="4414680"/>
                <a:ext cx="41040" cy="109800"/>
              </a:xfrm>
              <a:custGeom>
                <a:avLst/>
                <a:gdLst/>
                <a:ahLst/>
                <a:rect l="l" t="t" r="r" b="b"/>
                <a:pathLst>
                  <a:path w="105" h="277">
                    <a:moveTo>
                      <a:pt x="105" y="127"/>
                    </a:moveTo>
                    <a:lnTo>
                      <a:pt x="105" y="0"/>
                    </a:lnTo>
                    <a:lnTo>
                      <a:pt x="36" y="34"/>
                    </a:lnTo>
                    <a:lnTo>
                      <a:pt x="0" y="127"/>
                    </a:lnTo>
                    <a:lnTo>
                      <a:pt x="12" y="127"/>
                    </a:lnTo>
                    <a:lnTo>
                      <a:pt x="23" y="127"/>
                    </a:lnTo>
                    <a:lnTo>
                      <a:pt x="36" y="127"/>
                    </a:lnTo>
                    <a:lnTo>
                      <a:pt x="36" y="138"/>
                    </a:lnTo>
                    <a:lnTo>
                      <a:pt x="36" y="150"/>
                    </a:lnTo>
                    <a:lnTo>
                      <a:pt x="23" y="150"/>
                    </a:lnTo>
                    <a:lnTo>
                      <a:pt x="12" y="161"/>
                    </a:lnTo>
                    <a:lnTo>
                      <a:pt x="0" y="161"/>
                    </a:lnTo>
                    <a:lnTo>
                      <a:pt x="0" y="174"/>
                    </a:lnTo>
                    <a:lnTo>
                      <a:pt x="12" y="185"/>
                    </a:lnTo>
                    <a:lnTo>
                      <a:pt x="23" y="185"/>
                    </a:lnTo>
                    <a:lnTo>
                      <a:pt x="36" y="185"/>
                    </a:lnTo>
                    <a:lnTo>
                      <a:pt x="47" y="185"/>
                    </a:lnTo>
                    <a:lnTo>
                      <a:pt x="36" y="266"/>
                    </a:lnTo>
                    <a:lnTo>
                      <a:pt x="47" y="266"/>
                    </a:lnTo>
                    <a:lnTo>
                      <a:pt x="47" y="277"/>
                    </a:lnTo>
                    <a:lnTo>
                      <a:pt x="57" y="277"/>
                    </a:lnTo>
                    <a:lnTo>
                      <a:pt x="105" y="266"/>
                    </a:lnTo>
                    <a:lnTo>
                      <a:pt x="105" y="138"/>
                    </a:lnTo>
                    <a:lnTo>
                      <a:pt x="93" y="138"/>
                    </a:lnTo>
                    <a:lnTo>
                      <a:pt x="105" y="138"/>
                    </a:lnTo>
                    <a:lnTo>
                      <a:pt x="105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835520" y="4552920"/>
                <a:ext cx="206280" cy="230040"/>
              </a:xfrm>
              <a:custGeom>
                <a:avLst/>
                <a:gdLst/>
                <a:ahLst/>
                <a:rect l="l" t="t" r="r" b="b"/>
                <a:pathLst>
                  <a:path w="522" h="580">
                    <a:moveTo>
                      <a:pt x="522" y="337"/>
                    </a:moveTo>
                    <a:lnTo>
                      <a:pt x="522" y="0"/>
                    </a:lnTo>
                    <a:lnTo>
                      <a:pt x="510" y="12"/>
                    </a:lnTo>
                    <a:lnTo>
                      <a:pt x="498" y="24"/>
                    </a:lnTo>
                    <a:lnTo>
                      <a:pt x="474" y="35"/>
                    </a:lnTo>
                    <a:lnTo>
                      <a:pt x="464" y="35"/>
                    </a:lnTo>
                    <a:lnTo>
                      <a:pt x="440" y="46"/>
                    </a:lnTo>
                    <a:lnTo>
                      <a:pt x="429" y="58"/>
                    </a:lnTo>
                    <a:lnTo>
                      <a:pt x="406" y="70"/>
                    </a:lnTo>
                    <a:lnTo>
                      <a:pt x="394" y="92"/>
                    </a:lnTo>
                    <a:lnTo>
                      <a:pt x="394" y="105"/>
                    </a:lnTo>
                    <a:lnTo>
                      <a:pt x="394" y="116"/>
                    </a:lnTo>
                    <a:lnTo>
                      <a:pt x="382" y="140"/>
                    </a:lnTo>
                    <a:lnTo>
                      <a:pt x="371" y="150"/>
                    </a:lnTo>
                    <a:lnTo>
                      <a:pt x="347" y="163"/>
                    </a:lnTo>
                    <a:lnTo>
                      <a:pt x="336" y="174"/>
                    </a:lnTo>
                    <a:lnTo>
                      <a:pt x="313" y="186"/>
                    </a:lnTo>
                    <a:lnTo>
                      <a:pt x="290" y="198"/>
                    </a:lnTo>
                    <a:lnTo>
                      <a:pt x="278" y="208"/>
                    </a:lnTo>
                    <a:lnTo>
                      <a:pt x="267" y="221"/>
                    </a:lnTo>
                    <a:lnTo>
                      <a:pt x="174" y="360"/>
                    </a:lnTo>
                    <a:lnTo>
                      <a:pt x="81" y="394"/>
                    </a:lnTo>
                    <a:lnTo>
                      <a:pt x="70" y="394"/>
                    </a:lnTo>
                    <a:lnTo>
                      <a:pt x="58" y="383"/>
                    </a:lnTo>
                    <a:lnTo>
                      <a:pt x="47" y="383"/>
                    </a:lnTo>
                    <a:lnTo>
                      <a:pt x="36" y="394"/>
                    </a:lnTo>
                    <a:lnTo>
                      <a:pt x="23" y="406"/>
                    </a:lnTo>
                    <a:lnTo>
                      <a:pt x="12" y="418"/>
                    </a:lnTo>
                    <a:lnTo>
                      <a:pt x="0" y="452"/>
                    </a:lnTo>
                    <a:lnTo>
                      <a:pt x="0" y="476"/>
                    </a:lnTo>
                    <a:lnTo>
                      <a:pt x="12" y="510"/>
                    </a:lnTo>
                    <a:lnTo>
                      <a:pt x="12" y="534"/>
                    </a:lnTo>
                    <a:lnTo>
                      <a:pt x="23" y="545"/>
                    </a:lnTo>
                    <a:lnTo>
                      <a:pt x="36" y="568"/>
                    </a:lnTo>
                    <a:lnTo>
                      <a:pt x="36" y="580"/>
                    </a:lnTo>
                    <a:lnTo>
                      <a:pt x="47" y="580"/>
                    </a:lnTo>
                    <a:lnTo>
                      <a:pt x="58" y="580"/>
                    </a:lnTo>
                    <a:lnTo>
                      <a:pt x="70" y="568"/>
                    </a:lnTo>
                    <a:lnTo>
                      <a:pt x="70" y="558"/>
                    </a:lnTo>
                    <a:lnTo>
                      <a:pt x="70" y="545"/>
                    </a:lnTo>
                    <a:lnTo>
                      <a:pt x="128" y="510"/>
                    </a:lnTo>
                    <a:lnTo>
                      <a:pt x="151" y="510"/>
                    </a:lnTo>
                    <a:lnTo>
                      <a:pt x="174" y="510"/>
                    </a:lnTo>
                    <a:lnTo>
                      <a:pt x="197" y="510"/>
                    </a:lnTo>
                    <a:lnTo>
                      <a:pt x="220" y="510"/>
                    </a:lnTo>
                    <a:lnTo>
                      <a:pt x="243" y="510"/>
                    </a:lnTo>
                    <a:lnTo>
                      <a:pt x="267" y="500"/>
                    </a:lnTo>
                    <a:lnTo>
                      <a:pt x="290" y="488"/>
                    </a:lnTo>
                    <a:lnTo>
                      <a:pt x="313" y="476"/>
                    </a:lnTo>
                    <a:lnTo>
                      <a:pt x="325" y="452"/>
                    </a:lnTo>
                    <a:lnTo>
                      <a:pt x="325" y="441"/>
                    </a:lnTo>
                    <a:lnTo>
                      <a:pt x="336" y="418"/>
                    </a:lnTo>
                    <a:lnTo>
                      <a:pt x="347" y="394"/>
                    </a:lnTo>
                    <a:lnTo>
                      <a:pt x="371" y="383"/>
                    </a:lnTo>
                    <a:lnTo>
                      <a:pt x="382" y="372"/>
                    </a:lnTo>
                    <a:lnTo>
                      <a:pt x="406" y="360"/>
                    </a:lnTo>
                    <a:lnTo>
                      <a:pt x="429" y="348"/>
                    </a:lnTo>
                    <a:lnTo>
                      <a:pt x="440" y="348"/>
                    </a:lnTo>
                    <a:lnTo>
                      <a:pt x="453" y="348"/>
                    </a:lnTo>
                    <a:lnTo>
                      <a:pt x="453" y="337"/>
                    </a:lnTo>
                    <a:lnTo>
                      <a:pt x="464" y="337"/>
                    </a:lnTo>
                    <a:lnTo>
                      <a:pt x="474" y="325"/>
                    </a:lnTo>
                    <a:lnTo>
                      <a:pt x="487" y="325"/>
                    </a:lnTo>
                    <a:lnTo>
                      <a:pt x="498" y="325"/>
                    </a:lnTo>
                    <a:lnTo>
                      <a:pt x="510" y="325"/>
                    </a:lnTo>
                    <a:lnTo>
                      <a:pt x="522" y="325"/>
                    </a:lnTo>
                    <a:lnTo>
                      <a:pt x="522" y="3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033880" y="4691160"/>
                <a:ext cx="7920" cy="55440"/>
              </a:xfrm>
              <a:custGeom>
                <a:avLst/>
                <a:gdLst/>
                <a:ahLst/>
                <a:rect l="l" t="t" r="r" b="b"/>
                <a:pathLst>
                  <a:path w="24" h="140">
                    <a:moveTo>
                      <a:pt x="24" y="140"/>
                    </a:moveTo>
                    <a:lnTo>
                      <a:pt x="24" y="0"/>
                    </a:lnTo>
                    <a:lnTo>
                      <a:pt x="0" y="93"/>
                    </a:lnTo>
                    <a:lnTo>
                      <a:pt x="12" y="93"/>
                    </a:lnTo>
                    <a:lnTo>
                      <a:pt x="12" y="104"/>
                    </a:lnTo>
                    <a:lnTo>
                      <a:pt x="12" y="116"/>
                    </a:lnTo>
                    <a:lnTo>
                      <a:pt x="12" y="128"/>
                    </a:lnTo>
                    <a:lnTo>
                      <a:pt x="24" y="128"/>
                    </a:lnTo>
                    <a:lnTo>
                      <a:pt x="24" y="1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000760" y="4778280"/>
                <a:ext cx="41040" cy="405000"/>
              </a:xfrm>
              <a:custGeom>
                <a:avLst/>
                <a:gdLst/>
                <a:ahLst/>
                <a:rect l="l" t="t" r="r" b="b"/>
                <a:pathLst>
                  <a:path w="105" h="1021">
                    <a:moveTo>
                      <a:pt x="105" y="1021"/>
                    </a:moveTo>
                    <a:lnTo>
                      <a:pt x="105" y="0"/>
                    </a:lnTo>
                    <a:lnTo>
                      <a:pt x="93" y="12"/>
                    </a:lnTo>
                    <a:lnTo>
                      <a:pt x="81" y="24"/>
                    </a:lnTo>
                    <a:lnTo>
                      <a:pt x="70" y="35"/>
                    </a:lnTo>
                    <a:lnTo>
                      <a:pt x="70" y="48"/>
                    </a:lnTo>
                    <a:lnTo>
                      <a:pt x="57" y="58"/>
                    </a:lnTo>
                    <a:lnTo>
                      <a:pt x="57" y="69"/>
                    </a:lnTo>
                    <a:lnTo>
                      <a:pt x="57" y="82"/>
                    </a:lnTo>
                    <a:lnTo>
                      <a:pt x="57" y="116"/>
                    </a:lnTo>
                    <a:lnTo>
                      <a:pt x="57" y="140"/>
                    </a:lnTo>
                    <a:lnTo>
                      <a:pt x="47" y="164"/>
                    </a:lnTo>
                    <a:lnTo>
                      <a:pt x="36" y="198"/>
                    </a:lnTo>
                    <a:lnTo>
                      <a:pt x="23" y="222"/>
                    </a:lnTo>
                    <a:lnTo>
                      <a:pt x="12" y="244"/>
                    </a:lnTo>
                    <a:lnTo>
                      <a:pt x="0" y="267"/>
                    </a:lnTo>
                    <a:lnTo>
                      <a:pt x="0" y="302"/>
                    </a:lnTo>
                    <a:lnTo>
                      <a:pt x="23" y="314"/>
                    </a:lnTo>
                    <a:lnTo>
                      <a:pt x="36" y="337"/>
                    </a:lnTo>
                    <a:lnTo>
                      <a:pt x="36" y="371"/>
                    </a:lnTo>
                    <a:lnTo>
                      <a:pt x="47" y="395"/>
                    </a:lnTo>
                    <a:lnTo>
                      <a:pt x="47" y="429"/>
                    </a:lnTo>
                    <a:lnTo>
                      <a:pt x="47" y="465"/>
                    </a:lnTo>
                    <a:lnTo>
                      <a:pt x="47" y="487"/>
                    </a:lnTo>
                    <a:lnTo>
                      <a:pt x="57" y="524"/>
                    </a:lnTo>
                    <a:lnTo>
                      <a:pt x="47" y="569"/>
                    </a:lnTo>
                    <a:lnTo>
                      <a:pt x="36" y="627"/>
                    </a:lnTo>
                    <a:lnTo>
                      <a:pt x="36" y="673"/>
                    </a:lnTo>
                    <a:lnTo>
                      <a:pt x="36" y="731"/>
                    </a:lnTo>
                    <a:lnTo>
                      <a:pt x="36" y="778"/>
                    </a:lnTo>
                    <a:lnTo>
                      <a:pt x="36" y="823"/>
                    </a:lnTo>
                    <a:lnTo>
                      <a:pt x="23" y="882"/>
                    </a:lnTo>
                    <a:lnTo>
                      <a:pt x="0" y="929"/>
                    </a:lnTo>
                    <a:lnTo>
                      <a:pt x="0" y="940"/>
                    </a:lnTo>
                    <a:lnTo>
                      <a:pt x="0" y="952"/>
                    </a:lnTo>
                    <a:lnTo>
                      <a:pt x="0" y="963"/>
                    </a:lnTo>
                    <a:lnTo>
                      <a:pt x="0" y="975"/>
                    </a:lnTo>
                    <a:lnTo>
                      <a:pt x="0" y="987"/>
                    </a:lnTo>
                    <a:lnTo>
                      <a:pt x="0" y="998"/>
                    </a:lnTo>
                    <a:lnTo>
                      <a:pt x="12" y="998"/>
                    </a:lnTo>
                    <a:lnTo>
                      <a:pt x="23" y="998"/>
                    </a:lnTo>
                    <a:lnTo>
                      <a:pt x="36" y="998"/>
                    </a:lnTo>
                    <a:lnTo>
                      <a:pt x="36" y="1010"/>
                    </a:lnTo>
                    <a:lnTo>
                      <a:pt x="47" y="1010"/>
                    </a:lnTo>
                    <a:lnTo>
                      <a:pt x="57" y="1010"/>
                    </a:lnTo>
                    <a:lnTo>
                      <a:pt x="105" y="10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53040" y="4373640"/>
                <a:ext cx="289080" cy="225360"/>
              </a:xfrm>
              <a:custGeom>
                <a:avLst/>
                <a:gdLst/>
                <a:ahLst/>
                <a:rect l="l" t="t" r="r" b="b"/>
                <a:pathLst>
                  <a:path w="730" h="568">
                    <a:moveTo>
                      <a:pt x="730" y="406"/>
                    </a:moveTo>
                    <a:lnTo>
                      <a:pt x="706" y="371"/>
                    </a:lnTo>
                    <a:lnTo>
                      <a:pt x="695" y="348"/>
                    </a:lnTo>
                    <a:lnTo>
                      <a:pt x="683" y="348"/>
                    </a:lnTo>
                    <a:lnTo>
                      <a:pt x="672" y="348"/>
                    </a:lnTo>
                    <a:lnTo>
                      <a:pt x="672" y="360"/>
                    </a:lnTo>
                    <a:lnTo>
                      <a:pt x="660" y="371"/>
                    </a:lnTo>
                    <a:lnTo>
                      <a:pt x="648" y="382"/>
                    </a:lnTo>
                    <a:lnTo>
                      <a:pt x="636" y="394"/>
                    </a:lnTo>
                    <a:lnTo>
                      <a:pt x="625" y="418"/>
                    </a:lnTo>
                    <a:lnTo>
                      <a:pt x="613" y="440"/>
                    </a:lnTo>
                    <a:lnTo>
                      <a:pt x="591" y="452"/>
                    </a:lnTo>
                    <a:lnTo>
                      <a:pt x="578" y="476"/>
                    </a:lnTo>
                    <a:lnTo>
                      <a:pt x="556" y="498"/>
                    </a:lnTo>
                    <a:lnTo>
                      <a:pt x="533" y="510"/>
                    </a:lnTo>
                    <a:lnTo>
                      <a:pt x="498" y="522"/>
                    </a:lnTo>
                    <a:lnTo>
                      <a:pt x="475" y="534"/>
                    </a:lnTo>
                    <a:lnTo>
                      <a:pt x="347" y="510"/>
                    </a:lnTo>
                    <a:lnTo>
                      <a:pt x="220" y="568"/>
                    </a:lnTo>
                    <a:lnTo>
                      <a:pt x="208" y="557"/>
                    </a:lnTo>
                    <a:lnTo>
                      <a:pt x="197" y="544"/>
                    </a:lnTo>
                    <a:lnTo>
                      <a:pt x="197" y="534"/>
                    </a:lnTo>
                    <a:lnTo>
                      <a:pt x="197" y="522"/>
                    </a:lnTo>
                    <a:lnTo>
                      <a:pt x="197" y="510"/>
                    </a:lnTo>
                    <a:lnTo>
                      <a:pt x="197" y="498"/>
                    </a:lnTo>
                    <a:lnTo>
                      <a:pt x="197" y="487"/>
                    </a:lnTo>
                    <a:lnTo>
                      <a:pt x="58" y="406"/>
                    </a:lnTo>
                    <a:lnTo>
                      <a:pt x="47" y="406"/>
                    </a:lnTo>
                    <a:lnTo>
                      <a:pt x="34" y="406"/>
                    </a:lnTo>
                    <a:lnTo>
                      <a:pt x="23" y="418"/>
                    </a:lnTo>
                    <a:lnTo>
                      <a:pt x="12" y="406"/>
                    </a:lnTo>
                    <a:lnTo>
                      <a:pt x="0" y="406"/>
                    </a:lnTo>
                    <a:lnTo>
                      <a:pt x="0" y="394"/>
                    </a:lnTo>
                    <a:lnTo>
                      <a:pt x="0" y="382"/>
                    </a:lnTo>
                    <a:lnTo>
                      <a:pt x="12" y="382"/>
                    </a:lnTo>
                    <a:lnTo>
                      <a:pt x="12" y="371"/>
                    </a:lnTo>
                    <a:lnTo>
                      <a:pt x="70" y="360"/>
                    </a:lnTo>
                    <a:lnTo>
                      <a:pt x="116" y="302"/>
                    </a:lnTo>
                    <a:lnTo>
                      <a:pt x="105" y="290"/>
                    </a:lnTo>
                    <a:lnTo>
                      <a:pt x="105" y="279"/>
                    </a:lnTo>
                    <a:lnTo>
                      <a:pt x="105" y="266"/>
                    </a:lnTo>
                    <a:lnTo>
                      <a:pt x="116" y="266"/>
                    </a:lnTo>
                    <a:lnTo>
                      <a:pt x="116" y="255"/>
                    </a:lnTo>
                    <a:lnTo>
                      <a:pt x="116" y="243"/>
                    </a:lnTo>
                    <a:lnTo>
                      <a:pt x="105" y="232"/>
                    </a:lnTo>
                    <a:lnTo>
                      <a:pt x="105" y="221"/>
                    </a:lnTo>
                    <a:lnTo>
                      <a:pt x="116" y="221"/>
                    </a:lnTo>
                    <a:lnTo>
                      <a:pt x="127" y="221"/>
                    </a:lnTo>
                    <a:lnTo>
                      <a:pt x="127" y="197"/>
                    </a:lnTo>
                    <a:lnTo>
                      <a:pt x="127" y="186"/>
                    </a:lnTo>
                    <a:lnTo>
                      <a:pt x="116" y="174"/>
                    </a:lnTo>
                    <a:lnTo>
                      <a:pt x="105" y="150"/>
                    </a:lnTo>
                    <a:lnTo>
                      <a:pt x="92" y="139"/>
                    </a:lnTo>
                    <a:lnTo>
                      <a:pt x="92" y="116"/>
                    </a:lnTo>
                    <a:lnTo>
                      <a:pt x="92" y="105"/>
                    </a:lnTo>
                    <a:lnTo>
                      <a:pt x="92" y="81"/>
                    </a:lnTo>
                    <a:lnTo>
                      <a:pt x="105" y="70"/>
                    </a:lnTo>
                    <a:lnTo>
                      <a:pt x="116" y="58"/>
                    </a:lnTo>
                    <a:lnTo>
                      <a:pt x="127" y="58"/>
                    </a:lnTo>
                    <a:lnTo>
                      <a:pt x="140" y="58"/>
                    </a:lnTo>
                    <a:lnTo>
                      <a:pt x="140" y="46"/>
                    </a:lnTo>
                    <a:lnTo>
                      <a:pt x="150" y="46"/>
                    </a:lnTo>
                    <a:lnTo>
                      <a:pt x="15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000760" y="4289400"/>
                <a:ext cx="239400" cy="115920"/>
              </a:xfrm>
              <a:custGeom>
                <a:avLst/>
                <a:gdLst/>
                <a:ahLst/>
                <a:rect l="l" t="t" r="r" b="b"/>
                <a:pathLst>
                  <a:path w="602" h="291">
                    <a:moveTo>
                      <a:pt x="532" y="210"/>
                    </a:moveTo>
                    <a:lnTo>
                      <a:pt x="544" y="198"/>
                    </a:lnTo>
                    <a:lnTo>
                      <a:pt x="556" y="198"/>
                    </a:lnTo>
                    <a:lnTo>
                      <a:pt x="567" y="198"/>
                    </a:lnTo>
                    <a:lnTo>
                      <a:pt x="579" y="198"/>
                    </a:lnTo>
                    <a:lnTo>
                      <a:pt x="590" y="198"/>
                    </a:lnTo>
                    <a:lnTo>
                      <a:pt x="602" y="198"/>
                    </a:lnTo>
                    <a:lnTo>
                      <a:pt x="602" y="187"/>
                    </a:lnTo>
                    <a:lnTo>
                      <a:pt x="602" y="175"/>
                    </a:lnTo>
                    <a:lnTo>
                      <a:pt x="602" y="163"/>
                    </a:lnTo>
                    <a:lnTo>
                      <a:pt x="602" y="153"/>
                    </a:lnTo>
                    <a:lnTo>
                      <a:pt x="579" y="117"/>
                    </a:lnTo>
                    <a:lnTo>
                      <a:pt x="544" y="140"/>
                    </a:lnTo>
                    <a:lnTo>
                      <a:pt x="498" y="153"/>
                    </a:lnTo>
                    <a:lnTo>
                      <a:pt x="440" y="222"/>
                    </a:lnTo>
                    <a:lnTo>
                      <a:pt x="429" y="140"/>
                    </a:lnTo>
                    <a:lnTo>
                      <a:pt x="416" y="129"/>
                    </a:lnTo>
                    <a:lnTo>
                      <a:pt x="405" y="129"/>
                    </a:lnTo>
                    <a:lnTo>
                      <a:pt x="394" y="117"/>
                    </a:lnTo>
                    <a:lnTo>
                      <a:pt x="382" y="117"/>
                    </a:lnTo>
                    <a:lnTo>
                      <a:pt x="370" y="105"/>
                    </a:lnTo>
                    <a:lnTo>
                      <a:pt x="347" y="0"/>
                    </a:lnTo>
                    <a:lnTo>
                      <a:pt x="267" y="13"/>
                    </a:lnTo>
                    <a:lnTo>
                      <a:pt x="267" y="24"/>
                    </a:lnTo>
                    <a:lnTo>
                      <a:pt x="278" y="24"/>
                    </a:lnTo>
                    <a:lnTo>
                      <a:pt x="278" y="37"/>
                    </a:lnTo>
                    <a:lnTo>
                      <a:pt x="278" y="47"/>
                    </a:lnTo>
                    <a:lnTo>
                      <a:pt x="278" y="58"/>
                    </a:lnTo>
                    <a:lnTo>
                      <a:pt x="267" y="71"/>
                    </a:lnTo>
                    <a:lnTo>
                      <a:pt x="254" y="82"/>
                    </a:lnTo>
                    <a:lnTo>
                      <a:pt x="243" y="82"/>
                    </a:lnTo>
                    <a:lnTo>
                      <a:pt x="243" y="95"/>
                    </a:lnTo>
                    <a:lnTo>
                      <a:pt x="232" y="105"/>
                    </a:lnTo>
                    <a:lnTo>
                      <a:pt x="232" y="117"/>
                    </a:lnTo>
                    <a:lnTo>
                      <a:pt x="220" y="129"/>
                    </a:lnTo>
                    <a:lnTo>
                      <a:pt x="209" y="153"/>
                    </a:lnTo>
                    <a:lnTo>
                      <a:pt x="209" y="163"/>
                    </a:lnTo>
                    <a:lnTo>
                      <a:pt x="197" y="175"/>
                    </a:lnTo>
                    <a:lnTo>
                      <a:pt x="185" y="187"/>
                    </a:lnTo>
                    <a:lnTo>
                      <a:pt x="163" y="198"/>
                    </a:lnTo>
                    <a:lnTo>
                      <a:pt x="163" y="187"/>
                    </a:lnTo>
                    <a:lnTo>
                      <a:pt x="151" y="187"/>
                    </a:lnTo>
                    <a:lnTo>
                      <a:pt x="139" y="175"/>
                    </a:lnTo>
                    <a:lnTo>
                      <a:pt x="139" y="163"/>
                    </a:lnTo>
                    <a:lnTo>
                      <a:pt x="139" y="153"/>
                    </a:lnTo>
                    <a:lnTo>
                      <a:pt x="139" y="140"/>
                    </a:lnTo>
                    <a:lnTo>
                      <a:pt x="127" y="140"/>
                    </a:lnTo>
                    <a:lnTo>
                      <a:pt x="127" y="129"/>
                    </a:lnTo>
                    <a:lnTo>
                      <a:pt x="115" y="129"/>
                    </a:lnTo>
                    <a:lnTo>
                      <a:pt x="115" y="117"/>
                    </a:lnTo>
                    <a:lnTo>
                      <a:pt x="105" y="117"/>
                    </a:lnTo>
                    <a:lnTo>
                      <a:pt x="93" y="117"/>
                    </a:lnTo>
                    <a:lnTo>
                      <a:pt x="81" y="117"/>
                    </a:lnTo>
                    <a:lnTo>
                      <a:pt x="57" y="117"/>
                    </a:lnTo>
                    <a:lnTo>
                      <a:pt x="47" y="129"/>
                    </a:lnTo>
                    <a:lnTo>
                      <a:pt x="36" y="129"/>
                    </a:lnTo>
                    <a:lnTo>
                      <a:pt x="23" y="140"/>
                    </a:lnTo>
                    <a:lnTo>
                      <a:pt x="12" y="140"/>
                    </a:lnTo>
                    <a:lnTo>
                      <a:pt x="0" y="153"/>
                    </a:lnTo>
                    <a:lnTo>
                      <a:pt x="0" y="163"/>
                    </a:lnTo>
                    <a:lnTo>
                      <a:pt x="0" y="175"/>
                    </a:lnTo>
                    <a:lnTo>
                      <a:pt x="12" y="175"/>
                    </a:lnTo>
                    <a:lnTo>
                      <a:pt x="12" y="187"/>
                    </a:lnTo>
                    <a:lnTo>
                      <a:pt x="23" y="187"/>
                    </a:lnTo>
                    <a:lnTo>
                      <a:pt x="36" y="187"/>
                    </a:lnTo>
                    <a:lnTo>
                      <a:pt x="47" y="187"/>
                    </a:lnTo>
                    <a:lnTo>
                      <a:pt x="57" y="187"/>
                    </a:lnTo>
                    <a:lnTo>
                      <a:pt x="57" y="198"/>
                    </a:lnTo>
                    <a:lnTo>
                      <a:pt x="70" y="198"/>
                    </a:lnTo>
                    <a:lnTo>
                      <a:pt x="23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000760" y="4390920"/>
                <a:ext cx="74520" cy="133560"/>
              </a:xfrm>
              <a:custGeom>
                <a:avLst/>
                <a:gdLst/>
                <a:ahLst/>
                <a:rect l="l" t="t" r="r" b="b"/>
                <a:pathLst>
                  <a:path w="185" h="336">
                    <a:moveTo>
                      <a:pt x="23" y="35"/>
                    </a:moveTo>
                    <a:lnTo>
                      <a:pt x="36" y="35"/>
                    </a:lnTo>
                    <a:lnTo>
                      <a:pt x="36" y="46"/>
                    </a:lnTo>
                    <a:lnTo>
                      <a:pt x="47" y="46"/>
                    </a:lnTo>
                    <a:lnTo>
                      <a:pt x="47" y="35"/>
                    </a:lnTo>
                    <a:lnTo>
                      <a:pt x="57" y="35"/>
                    </a:lnTo>
                    <a:lnTo>
                      <a:pt x="70" y="35"/>
                    </a:lnTo>
                    <a:lnTo>
                      <a:pt x="81" y="12"/>
                    </a:lnTo>
                    <a:lnTo>
                      <a:pt x="93" y="0"/>
                    </a:lnTo>
                    <a:lnTo>
                      <a:pt x="105" y="0"/>
                    </a:lnTo>
                    <a:lnTo>
                      <a:pt x="115" y="0"/>
                    </a:lnTo>
                    <a:lnTo>
                      <a:pt x="127" y="0"/>
                    </a:lnTo>
                    <a:lnTo>
                      <a:pt x="139" y="12"/>
                    </a:lnTo>
                    <a:lnTo>
                      <a:pt x="151" y="12"/>
                    </a:lnTo>
                    <a:lnTo>
                      <a:pt x="151" y="24"/>
                    </a:lnTo>
                    <a:lnTo>
                      <a:pt x="163" y="24"/>
                    </a:lnTo>
                    <a:lnTo>
                      <a:pt x="163" y="35"/>
                    </a:lnTo>
                    <a:lnTo>
                      <a:pt x="36" y="93"/>
                    </a:lnTo>
                    <a:lnTo>
                      <a:pt x="0" y="186"/>
                    </a:lnTo>
                    <a:lnTo>
                      <a:pt x="12" y="186"/>
                    </a:lnTo>
                    <a:lnTo>
                      <a:pt x="23" y="186"/>
                    </a:lnTo>
                    <a:lnTo>
                      <a:pt x="36" y="186"/>
                    </a:lnTo>
                    <a:lnTo>
                      <a:pt x="36" y="197"/>
                    </a:lnTo>
                    <a:lnTo>
                      <a:pt x="36" y="209"/>
                    </a:lnTo>
                    <a:lnTo>
                      <a:pt x="23" y="209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0" y="233"/>
                    </a:lnTo>
                    <a:lnTo>
                      <a:pt x="12" y="244"/>
                    </a:lnTo>
                    <a:lnTo>
                      <a:pt x="23" y="244"/>
                    </a:lnTo>
                    <a:lnTo>
                      <a:pt x="36" y="244"/>
                    </a:lnTo>
                    <a:lnTo>
                      <a:pt x="47" y="244"/>
                    </a:lnTo>
                    <a:lnTo>
                      <a:pt x="36" y="325"/>
                    </a:lnTo>
                    <a:lnTo>
                      <a:pt x="47" y="325"/>
                    </a:lnTo>
                    <a:lnTo>
                      <a:pt x="47" y="336"/>
                    </a:lnTo>
                    <a:lnTo>
                      <a:pt x="57" y="336"/>
                    </a:lnTo>
                    <a:lnTo>
                      <a:pt x="115" y="325"/>
                    </a:lnTo>
                    <a:lnTo>
                      <a:pt x="115" y="314"/>
                    </a:lnTo>
                    <a:lnTo>
                      <a:pt x="115" y="302"/>
                    </a:lnTo>
                    <a:lnTo>
                      <a:pt x="115" y="291"/>
                    </a:lnTo>
                    <a:lnTo>
                      <a:pt x="127" y="278"/>
                    </a:lnTo>
                    <a:lnTo>
                      <a:pt x="139" y="278"/>
                    </a:lnTo>
                    <a:lnTo>
                      <a:pt x="151" y="278"/>
                    </a:lnTo>
                    <a:lnTo>
                      <a:pt x="163" y="278"/>
                    </a:lnTo>
                    <a:lnTo>
                      <a:pt x="173" y="278"/>
                    </a:lnTo>
                    <a:lnTo>
                      <a:pt x="173" y="291"/>
                    </a:lnTo>
                    <a:lnTo>
                      <a:pt x="173" y="302"/>
                    </a:lnTo>
                    <a:lnTo>
                      <a:pt x="185" y="302"/>
                    </a:lnTo>
                    <a:lnTo>
                      <a:pt x="185" y="314"/>
                    </a:lnTo>
                    <a:lnTo>
                      <a:pt x="185" y="325"/>
                    </a:lnTo>
                    <a:lnTo>
                      <a:pt x="173" y="325"/>
                    </a:lnTo>
                    <a:lnTo>
                      <a:pt x="173" y="33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35520" y="4524480"/>
                <a:ext cx="233280" cy="272880"/>
              </a:xfrm>
              <a:custGeom>
                <a:avLst/>
                <a:gdLst/>
                <a:ahLst/>
                <a:rect l="l" t="t" r="r" b="b"/>
                <a:pathLst>
                  <a:path w="590" h="686">
                    <a:moveTo>
                      <a:pt x="590" y="0"/>
                    </a:moveTo>
                    <a:lnTo>
                      <a:pt x="590" y="12"/>
                    </a:lnTo>
                    <a:lnTo>
                      <a:pt x="556" y="36"/>
                    </a:lnTo>
                    <a:lnTo>
                      <a:pt x="532" y="70"/>
                    </a:lnTo>
                    <a:lnTo>
                      <a:pt x="522" y="82"/>
                    </a:lnTo>
                    <a:lnTo>
                      <a:pt x="498" y="94"/>
                    </a:lnTo>
                    <a:lnTo>
                      <a:pt x="474" y="94"/>
                    </a:lnTo>
                    <a:lnTo>
                      <a:pt x="464" y="105"/>
                    </a:lnTo>
                    <a:lnTo>
                      <a:pt x="440" y="116"/>
                    </a:lnTo>
                    <a:lnTo>
                      <a:pt x="429" y="128"/>
                    </a:lnTo>
                    <a:lnTo>
                      <a:pt x="406" y="140"/>
                    </a:lnTo>
                    <a:lnTo>
                      <a:pt x="394" y="162"/>
                    </a:lnTo>
                    <a:lnTo>
                      <a:pt x="394" y="175"/>
                    </a:lnTo>
                    <a:lnTo>
                      <a:pt x="394" y="186"/>
                    </a:lnTo>
                    <a:lnTo>
                      <a:pt x="382" y="210"/>
                    </a:lnTo>
                    <a:lnTo>
                      <a:pt x="371" y="220"/>
                    </a:lnTo>
                    <a:lnTo>
                      <a:pt x="347" y="233"/>
                    </a:lnTo>
                    <a:lnTo>
                      <a:pt x="336" y="244"/>
                    </a:lnTo>
                    <a:lnTo>
                      <a:pt x="313" y="256"/>
                    </a:lnTo>
                    <a:lnTo>
                      <a:pt x="290" y="268"/>
                    </a:lnTo>
                    <a:lnTo>
                      <a:pt x="278" y="278"/>
                    </a:lnTo>
                    <a:lnTo>
                      <a:pt x="267" y="291"/>
                    </a:lnTo>
                    <a:lnTo>
                      <a:pt x="174" y="430"/>
                    </a:lnTo>
                    <a:lnTo>
                      <a:pt x="81" y="464"/>
                    </a:lnTo>
                    <a:lnTo>
                      <a:pt x="70" y="464"/>
                    </a:lnTo>
                    <a:lnTo>
                      <a:pt x="58" y="453"/>
                    </a:lnTo>
                    <a:lnTo>
                      <a:pt x="47" y="453"/>
                    </a:lnTo>
                    <a:lnTo>
                      <a:pt x="36" y="464"/>
                    </a:lnTo>
                    <a:lnTo>
                      <a:pt x="23" y="476"/>
                    </a:lnTo>
                    <a:lnTo>
                      <a:pt x="12" y="488"/>
                    </a:lnTo>
                    <a:lnTo>
                      <a:pt x="0" y="522"/>
                    </a:lnTo>
                    <a:lnTo>
                      <a:pt x="0" y="546"/>
                    </a:lnTo>
                    <a:lnTo>
                      <a:pt x="12" y="580"/>
                    </a:lnTo>
                    <a:lnTo>
                      <a:pt x="12" y="604"/>
                    </a:lnTo>
                    <a:lnTo>
                      <a:pt x="23" y="615"/>
                    </a:lnTo>
                    <a:lnTo>
                      <a:pt x="36" y="638"/>
                    </a:lnTo>
                    <a:lnTo>
                      <a:pt x="36" y="650"/>
                    </a:lnTo>
                    <a:lnTo>
                      <a:pt x="47" y="650"/>
                    </a:lnTo>
                    <a:lnTo>
                      <a:pt x="58" y="650"/>
                    </a:lnTo>
                    <a:lnTo>
                      <a:pt x="70" y="638"/>
                    </a:lnTo>
                    <a:lnTo>
                      <a:pt x="70" y="628"/>
                    </a:lnTo>
                    <a:lnTo>
                      <a:pt x="70" y="615"/>
                    </a:lnTo>
                    <a:lnTo>
                      <a:pt x="128" y="580"/>
                    </a:lnTo>
                    <a:lnTo>
                      <a:pt x="151" y="580"/>
                    </a:lnTo>
                    <a:lnTo>
                      <a:pt x="174" y="580"/>
                    </a:lnTo>
                    <a:lnTo>
                      <a:pt x="197" y="580"/>
                    </a:lnTo>
                    <a:lnTo>
                      <a:pt x="220" y="580"/>
                    </a:lnTo>
                    <a:lnTo>
                      <a:pt x="243" y="580"/>
                    </a:lnTo>
                    <a:lnTo>
                      <a:pt x="267" y="570"/>
                    </a:lnTo>
                    <a:lnTo>
                      <a:pt x="290" y="558"/>
                    </a:lnTo>
                    <a:lnTo>
                      <a:pt x="313" y="546"/>
                    </a:lnTo>
                    <a:lnTo>
                      <a:pt x="325" y="522"/>
                    </a:lnTo>
                    <a:lnTo>
                      <a:pt x="325" y="511"/>
                    </a:lnTo>
                    <a:lnTo>
                      <a:pt x="336" y="488"/>
                    </a:lnTo>
                    <a:lnTo>
                      <a:pt x="347" y="464"/>
                    </a:lnTo>
                    <a:lnTo>
                      <a:pt x="371" y="453"/>
                    </a:lnTo>
                    <a:lnTo>
                      <a:pt x="382" y="442"/>
                    </a:lnTo>
                    <a:lnTo>
                      <a:pt x="406" y="430"/>
                    </a:lnTo>
                    <a:lnTo>
                      <a:pt x="429" y="418"/>
                    </a:lnTo>
                    <a:lnTo>
                      <a:pt x="440" y="418"/>
                    </a:lnTo>
                    <a:lnTo>
                      <a:pt x="453" y="418"/>
                    </a:lnTo>
                    <a:lnTo>
                      <a:pt x="453" y="407"/>
                    </a:lnTo>
                    <a:lnTo>
                      <a:pt x="464" y="407"/>
                    </a:lnTo>
                    <a:lnTo>
                      <a:pt x="474" y="395"/>
                    </a:lnTo>
                    <a:lnTo>
                      <a:pt x="487" y="395"/>
                    </a:lnTo>
                    <a:lnTo>
                      <a:pt x="498" y="395"/>
                    </a:lnTo>
                    <a:lnTo>
                      <a:pt x="510" y="395"/>
                    </a:lnTo>
                    <a:lnTo>
                      <a:pt x="522" y="395"/>
                    </a:lnTo>
                    <a:lnTo>
                      <a:pt x="532" y="407"/>
                    </a:lnTo>
                    <a:lnTo>
                      <a:pt x="498" y="511"/>
                    </a:lnTo>
                    <a:lnTo>
                      <a:pt x="510" y="522"/>
                    </a:lnTo>
                    <a:lnTo>
                      <a:pt x="510" y="534"/>
                    </a:lnTo>
                    <a:lnTo>
                      <a:pt x="522" y="558"/>
                    </a:lnTo>
                    <a:lnTo>
                      <a:pt x="532" y="570"/>
                    </a:lnTo>
                    <a:lnTo>
                      <a:pt x="532" y="580"/>
                    </a:lnTo>
                    <a:lnTo>
                      <a:pt x="532" y="604"/>
                    </a:lnTo>
                    <a:lnTo>
                      <a:pt x="532" y="615"/>
                    </a:lnTo>
                    <a:lnTo>
                      <a:pt x="532" y="638"/>
                    </a:lnTo>
                    <a:lnTo>
                      <a:pt x="522" y="638"/>
                    </a:lnTo>
                    <a:lnTo>
                      <a:pt x="510" y="650"/>
                    </a:lnTo>
                    <a:lnTo>
                      <a:pt x="498" y="662"/>
                    </a:lnTo>
                    <a:lnTo>
                      <a:pt x="487" y="6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000760" y="4797360"/>
                <a:ext cx="128520" cy="390600"/>
              </a:xfrm>
              <a:custGeom>
                <a:avLst/>
                <a:gdLst/>
                <a:ahLst/>
                <a:rect l="l" t="t" r="r" b="b"/>
                <a:pathLst>
                  <a:path w="325" h="985">
                    <a:moveTo>
                      <a:pt x="70" y="0"/>
                    </a:moveTo>
                    <a:lnTo>
                      <a:pt x="57" y="10"/>
                    </a:lnTo>
                    <a:lnTo>
                      <a:pt x="57" y="21"/>
                    </a:lnTo>
                    <a:lnTo>
                      <a:pt x="57" y="34"/>
                    </a:lnTo>
                    <a:lnTo>
                      <a:pt x="57" y="68"/>
                    </a:lnTo>
                    <a:lnTo>
                      <a:pt x="57" y="92"/>
                    </a:lnTo>
                    <a:lnTo>
                      <a:pt x="47" y="116"/>
                    </a:lnTo>
                    <a:lnTo>
                      <a:pt x="36" y="150"/>
                    </a:lnTo>
                    <a:lnTo>
                      <a:pt x="23" y="174"/>
                    </a:lnTo>
                    <a:lnTo>
                      <a:pt x="12" y="196"/>
                    </a:lnTo>
                    <a:lnTo>
                      <a:pt x="0" y="219"/>
                    </a:lnTo>
                    <a:lnTo>
                      <a:pt x="0" y="254"/>
                    </a:lnTo>
                    <a:lnTo>
                      <a:pt x="23" y="266"/>
                    </a:lnTo>
                    <a:lnTo>
                      <a:pt x="36" y="289"/>
                    </a:lnTo>
                    <a:lnTo>
                      <a:pt x="36" y="323"/>
                    </a:lnTo>
                    <a:lnTo>
                      <a:pt x="47" y="347"/>
                    </a:lnTo>
                    <a:lnTo>
                      <a:pt x="47" y="381"/>
                    </a:lnTo>
                    <a:lnTo>
                      <a:pt x="47" y="417"/>
                    </a:lnTo>
                    <a:lnTo>
                      <a:pt x="47" y="439"/>
                    </a:lnTo>
                    <a:lnTo>
                      <a:pt x="57" y="476"/>
                    </a:lnTo>
                    <a:lnTo>
                      <a:pt x="47" y="521"/>
                    </a:lnTo>
                    <a:lnTo>
                      <a:pt x="36" y="579"/>
                    </a:lnTo>
                    <a:lnTo>
                      <a:pt x="36" y="625"/>
                    </a:lnTo>
                    <a:lnTo>
                      <a:pt x="36" y="683"/>
                    </a:lnTo>
                    <a:lnTo>
                      <a:pt x="36" y="730"/>
                    </a:lnTo>
                    <a:lnTo>
                      <a:pt x="36" y="775"/>
                    </a:lnTo>
                    <a:lnTo>
                      <a:pt x="23" y="834"/>
                    </a:lnTo>
                    <a:lnTo>
                      <a:pt x="0" y="881"/>
                    </a:lnTo>
                    <a:lnTo>
                      <a:pt x="0" y="892"/>
                    </a:lnTo>
                    <a:lnTo>
                      <a:pt x="0" y="904"/>
                    </a:lnTo>
                    <a:lnTo>
                      <a:pt x="0" y="915"/>
                    </a:lnTo>
                    <a:lnTo>
                      <a:pt x="0" y="927"/>
                    </a:lnTo>
                    <a:lnTo>
                      <a:pt x="0" y="939"/>
                    </a:lnTo>
                    <a:lnTo>
                      <a:pt x="0" y="950"/>
                    </a:lnTo>
                    <a:lnTo>
                      <a:pt x="12" y="950"/>
                    </a:lnTo>
                    <a:lnTo>
                      <a:pt x="23" y="950"/>
                    </a:lnTo>
                    <a:lnTo>
                      <a:pt x="36" y="950"/>
                    </a:lnTo>
                    <a:lnTo>
                      <a:pt x="36" y="962"/>
                    </a:lnTo>
                    <a:lnTo>
                      <a:pt x="47" y="962"/>
                    </a:lnTo>
                    <a:lnTo>
                      <a:pt x="57" y="962"/>
                    </a:lnTo>
                    <a:lnTo>
                      <a:pt x="163" y="973"/>
                    </a:lnTo>
                    <a:lnTo>
                      <a:pt x="185" y="962"/>
                    </a:lnTo>
                    <a:lnTo>
                      <a:pt x="197" y="962"/>
                    </a:lnTo>
                    <a:lnTo>
                      <a:pt x="209" y="962"/>
                    </a:lnTo>
                    <a:lnTo>
                      <a:pt x="220" y="962"/>
                    </a:lnTo>
                    <a:lnTo>
                      <a:pt x="232" y="962"/>
                    </a:lnTo>
                    <a:lnTo>
                      <a:pt x="243" y="973"/>
                    </a:lnTo>
                    <a:lnTo>
                      <a:pt x="254" y="973"/>
                    </a:lnTo>
                    <a:lnTo>
                      <a:pt x="267" y="985"/>
                    </a:lnTo>
                    <a:lnTo>
                      <a:pt x="301" y="973"/>
                    </a:lnTo>
                    <a:lnTo>
                      <a:pt x="301" y="962"/>
                    </a:lnTo>
                    <a:lnTo>
                      <a:pt x="301" y="950"/>
                    </a:lnTo>
                    <a:lnTo>
                      <a:pt x="301" y="939"/>
                    </a:lnTo>
                    <a:lnTo>
                      <a:pt x="289" y="927"/>
                    </a:lnTo>
                    <a:lnTo>
                      <a:pt x="278" y="915"/>
                    </a:lnTo>
                    <a:lnTo>
                      <a:pt x="254" y="904"/>
                    </a:lnTo>
                    <a:lnTo>
                      <a:pt x="243" y="892"/>
                    </a:lnTo>
                    <a:lnTo>
                      <a:pt x="232" y="881"/>
                    </a:lnTo>
                    <a:lnTo>
                      <a:pt x="220" y="869"/>
                    </a:lnTo>
                    <a:lnTo>
                      <a:pt x="209" y="846"/>
                    </a:lnTo>
                    <a:lnTo>
                      <a:pt x="209" y="834"/>
                    </a:lnTo>
                    <a:lnTo>
                      <a:pt x="209" y="811"/>
                    </a:lnTo>
                    <a:lnTo>
                      <a:pt x="220" y="799"/>
                    </a:lnTo>
                    <a:lnTo>
                      <a:pt x="232" y="788"/>
                    </a:lnTo>
                    <a:lnTo>
                      <a:pt x="243" y="775"/>
                    </a:lnTo>
                    <a:lnTo>
                      <a:pt x="254" y="765"/>
                    </a:lnTo>
                    <a:lnTo>
                      <a:pt x="267" y="753"/>
                    </a:lnTo>
                    <a:lnTo>
                      <a:pt x="267" y="730"/>
                    </a:lnTo>
                    <a:lnTo>
                      <a:pt x="278" y="718"/>
                    </a:lnTo>
                    <a:lnTo>
                      <a:pt x="267" y="660"/>
                    </a:lnTo>
                    <a:lnTo>
                      <a:pt x="254" y="613"/>
                    </a:lnTo>
                    <a:lnTo>
                      <a:pt x="267" y="568"/>
                    </a:lnTo>
                    <a:lnTo>
                      <a:pt x="267" y="521"/>
                    </a:lnTo>
                    <a:lnTo>
                      <a:pt x="267" y="476"/>
                    </a:lnTo>
                    <a:lnTo>
                      <a:pt x="278" y="428"/>
                    </a:lnTo>
                    <a:lnTo>
                      <a:pt x="278" y="381"/>
                    </a:lnTo>
                    <a:lnTo>
                      <a:pt x="289" y="323"/>
                    </a:lnTo>
                    <a:lnTo>
                      <a:pt x="289" y="312"/>
                    </a:lnTo>
                    <a:lnTo>
                      <a:pt x="289" y="301"/>
                    </a:lnTo>
                    <a:lnTo>
                      <a:pt x="289" y="289"/>
                    </a:lnTo>
                    <a:lnTo>
                      <a:pt x="301" y="278"/>
                    </a:lnTo>
                    <a:lnTo>
                      <a:pt x="301" y="266"/>
                    </a:lnTo>
                    <a:lnTo>
                      <a:pt x="312" y="266"/>
                    </a:lnTo>
                    <a:lnTo>
                      <a:pt x="312" y="243"/>
                    </a:lnTo>
                    <a:lnTo>
                      <a:pt x="312" y="231"/>
                    </a:lnTo>
                    <a:lnTo>
                      <a:pt x="312" y="219"/>
                    </a:lnTo>
                    <a:lnTo>
                      <a:pt x="325" y="219"/>
                    </a:lnTo>
                    <a:lnTo>
                      <a:pt x="325" y="2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129280" y="4851360"/>
                <a:ext cx="276120" cy="273240"/>
              </a:xfrm>
              <a:custGeom>
                <a:avLst/>
                <a:gdLst/>
                <a:ahLst/>
                <a:rect l="l" t="t" r="r" b="b"/>
                <a:pathLst>
                  <a:path w="693" h="685">
                    <a:moveTo>
                      <a:pt x="0" y="70"/>
                    </a:moveTo>
                    <a:lnTo>
                      <a:pt x="11" y="58"/>
                    </a:lnTo>
                    <a:lnTo>
                      <a:pt x="22" y="58"/>
                    </a:lnTo>
                    <a:lnTo>
                      <a:pt x="34" y="58"/>
                    </a:lnTo>
                    <a:lnTo>
                      <a:pt x="34" y="70"/>
                    </a:lnTo>
                    <a:lnTo>
                      <a:pt x="45" y="70"/>
                    </a:lnTo>
                    <a:lnTo>
                      <a:pt x="57" y="116"/>
                    </a:lnTo>
                    <a:lnTo>
                      <a:pt x="91" y="116"/>
                    </a:lnTo>
                    <a:lnTo>
                      <a:pt x="127" y="116"/>
                    </a:lnTo>
                    <a:lnTo>
                      <a:pt x="162" y="128"/>
                    </a:lnTo>
                    <a:lnTo>
                      <a:pt x="197" y="128"/>
                    </a:lnTo>
                    <a:lnTo>
                      <a:pt x="219" y="128"/>
                    </a:lnTo>
                    <a:lnTo>
                      <a:pt x="254" y="140"/>
                    </a:lnTo>
                    <a:lnTo>
                      <a:pt x="277" y="151"/>
                    </a:lnTo>
                    <a:lnTo>
                      <a:pt x="312" y="174"/>
                    </a:lnTo>
                    <a:lnTo>
                      <a:pt x="312" y="185"/>
                    </a:lnTo>
                    <a:lnTo>
                      <a:pt x="312" y="198"/>
                    </a:lnTo>
                    <a:lnTo>
                      <a:pt x="323" y="198"/>
                    </a:lnTo>
                    <a:lnTo>
                      <a:pt x="323" y="209"/>
                    </a:lnTo>
                    <a:lnTo>
                      <a:pt x="323" y="221"/>
                    </a:lnTo>
                    <a:lnTo>
                      <a:pt x="335" y="221"/>
                    </a:lnTo>
                    <a:lnTo>
                      <a:pt x="359" y="232"/>
                    </a:lnTo>
                    <a:lnTo>
                      <a:pt x="380" y="256"/>
                    </a:lnTo>
                    <a:lnTo>
                      <a:pt x="393" y="279"/>
                    </a:lnTo>
                    <a:lnTo>
                      <a:pt x="404" y="301"/>
                    </a:lnTo>
                    <a:lnTo>
                      <a:pt x="428" y="338"/>
                    </a:lnTo>
                    <a:lnTo>
                      <a:pt x="438" y="359"/>
                    </a:lnTo>
                    <a:lnTo>
                      <a:pt x="438" y="395"/>
                    </a:lnTo>
                    <a:lnTo>
                      <a:pt x="451" y="417"/>
                    </a:lnTo>
                    <a:lnTo>
                      <a:pt x="451" y="603"/>
                    </a:lnTo>
                    <a:lnTo>
                      <a:pt x="417" y="650"/>
                    </a:lnTo>
                    <a:lnTo>
                      <a:pt x="417" y="661"/>
                    </a:lnTo>
                    <a:lnTo>
                      <a:pt x="428" y="673"/>
                    </a:lnTo>
                    <a:lnTo>
                      <a:pt x="438" y="685"/>
                    </a:lnTo>
                    <a:lnTo>
                      <a:pt x="451" y="685"/>
                    </a:lnTo>
                    <a:lnTo>
                      <a:pt x="462" y="685"/>
                    </a:lnTo>
                    <a:lnTo>
                      <a:pt x="474" y="685"/>
                    </a:lnTo>
                    <a:lnTo>
                      <a:pt x="486" y="685"/>
                    </a:lnTo>
                    <a:lnTo>
                      <a:pt x="496" y="685"/>
                    </a:lnTo>
                    <a:lnTo>
                      <a:pt x="520" y="673"/>
                    </a:lnTo>
                    <a:lnTo>
                      <a:pt x="532" y="673"/>
                    </a:lnTo>
                    <a:lnTo>
                      <a:pt x="543" y="661"/>
                    </a:lnTo>
                    <a:lnTo>
                      <a:pt x="555" y="650"/>
                    </a:lnTo>
                    <a:lnTo>
                      <a:pt x="566" y="650"/>
                    </a:lnTo>
                    <a:lnTo>
                      <a:pt x="682" y="637"/>
                    </a:lnTo>
                    <a:lnTo>
                      <a:pt x="693" y="637"/>
                    </a:lnTo>
                    <a:lnTo>
                      <a:pt x="693" y="627"/>
                    </a:lnTo>
                    <a:lnTo>
                      <a:pt x="693" y="615"/>
                    </a:lnTo>
                    <a:lnTo>
                      <a:pt x="693" y="603"/>
                    </a:lnTo>
                    <a:lnTo>
                      <a:pt x="693" y="592"/>
                    </a:lnTo>
                    <a:lnTo>
                      <a:pt x="624" y="557"/>
                    </a:lnTo>
                    <a:lnTo>
                      <a:pt x="624" y="522"/>
                    </a:lnTo>
                    <a:lnTo>
                      <a:pt x="635" y="487"/>
                    </a:lnTo>
                    <a:lnTo>
                      <a:pt x="635" y="453"/>
                    </a:lnTo>
                    <a:lnTo>
                      <a:pt x="648" y="417"/>
                    </a:lnTo>
                    <a:lnTo>
                      <a:pt x="648" y="383"/>
                    </a:lnTo>
                    <a:lnTo>
                      <a:pt x="648" y="348"/>
                    </a:lnTo>
                    <a:lnTo>
                      <a:pt x="635" y="314"/>
                    </a:lnTo>
                    <a:lnTo>
                      <a:pt x="624" y="279"/>
                    </a:lnTo>
                    <a:lnTo>
                      <a:pt x="613" y="256"/>
                    </a:lnTo>
                    <a:lnTo>
                      <a:pt x="601" y="232"/>
                    </a:lnTo>
                    <a:lnTo>
                      <a:pt x="590" y="209"/>
                    </a:lnTo>
                    <a:lnTo>
                      <a:pt x="566" y="198"/>
                    </a:lnTo>
                    <a:lnTo>
                      <a:pt x="543" y="185"/>
                    </a:lnTo>
                    <a:lnTo>
                      <a:pt x="520" y="174"/>
                    </a:lnTo>
                    <a:lnTo>
                      <a:pt x="508" y="151"/>
                    </a:lnTo>
                    <a:lnTo>
                      <a:pt x="496" y="128"/>
                    </a:lnTo>
                    <a:lnTo>
                      <a:pt x="496" y="116"/>
                    </a:lnTo>
                    <a:lnTo>
                      <a:pt x="496" y="105"/>
                    </a:lnTo>
                    <a:lnTo>
                      <a:pt x="496" y="93"/>
                    </a:lnTo>
                    <a:lnTo>
                      <a:pt x="486" y="81"/>
                    </a:lnTo>
                    <a:lnTo>
                      <a:pt x="462" y="58"/>
                    </a:lnTo>
                    <a:lnTo>
                      <a:pt x="451" y="47"/>
                    </a:lnTo>
                    <a:lnTo>
                      <a:pt x="428" y="36"/>
                    </a:lnTo>
                    <a:lnTo>
                      <a:pt x="404" y="23"/>
                    </a:lnTo>
                    <a:lnTo>
                      <a:pt x="380" y="12"/>
                    </a:lnTo>
                    <a:lnTo>
                      <a:pt x="359" y="12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203800" y="4533840"/>
                <a:ext cx="243000" cy="317520"/>
              </a:xfrm>
              <a:custGeom>
                <a:avLst/>
                <a:gdLst/>
                <a:ahLst/>
                <a:rect l="l" t="t" r="r" b="b"/>
                <a:pathLst>
                  <a:path w="613" h="800">
                    <a:moveTo>
                      <a:pt x="151" y="800"/>
                    </a:moveTo>
                    <a:lnTo>
                      <a:pt x="139" y="800"/>
                    </a:lnTo>
                    <a:lnTo>
                      <a:pt x="117" y="800"/>
                    </a:lnTo>
                    <a:lnTo>
                      <a:pt x="105" y="789"/>
                    </a:lnTo>
                    <a:lnTo>
                      <a:pt x="93" y="789"/>
                    </a:lnTo>
                    <a:lnTo>
                      <a:pt x="70" y="778"/>
                    </a:lnTo>
                    <a:lnTo>
                      <a:pt x="58" y="765"/>
                    </a:lnTo>
                    <a:lnTo>
                      <a:pt x="47" y="765"/>
                    </a:lnTo>
                    <a:lnTo>
                      <a:pt x="47" y="754"/>
                    </a:lnTo>
                    <a:lnTo>
                      <a:pt x="35" y="707"/>
                    </a:lnTo>
                    <a:lnTo>
                      <a:pt x="35" y="662"/>
                    </a:lnTo>
                    <a:lnTo>
                      <a:pt x="35" y="626"/>
                    </a:lnTo>
                    <a:lnTo>
                      <a:pt x="35" y="580"/>
                    </a:lnTo>
                    <a:lnTo>
                      <a:pt x="23" y="534"/>
                    </a:lnTo>
                    <a:lnTo>
                      <a:pt x="23" y="498"/>
                    </a:lnTo>
                    <a:lnTo>
                      <a:pt x="13" y="452"/>
                    </a:lnTo>
                    <a:lnTo>
                      <a:pt x="0" y="406"/>
                    </a:lnTo>
                    <a:lnTo>
                      <a:pt x="13" y="336"/>
                    </a:lnTo>
                    <a:lnTo>
                      <a:pt x="23" y="336"/>
                    </a:lnTo>
                    <a:lnTo>
                      <a:pt x="23" y="325"/>
                    </a:lnTo>
                    <a:lnTo>
                      <a:pt x="35" y="325"/>
                    </a:lnTo>
                    <a:lnTo>
                      <a:pt x="47" y="336"/>
                    </a:lnTo>
                    <a:lnTo>
                      <a:pt x="58" y="336"/>
                    </a:lnTo>
                    <a:lnTo>
                      <a:pt x="70" y="348"/>
                    </a:lnTo>
                    <a:lnTo>
                      <a:pt x="81" y="348"/>
                    </a:lnTo>
                    <a:lnTo>
                      <a:pt x="93" y="348"/>
                    </a:lnTo>
                    <a:lnTo>
                      <a:pt x="105" y="348"/>
                    </a:lnTo>
                    <a:lnTo>
                      <a:pt x="128" y="348"/>
                    </a:lnTo>
                    <a:lnTo>
                      <a:pt x="139" y="336"/>
                    </a:lnTo>
                    <a:lnTo>
                      <a:pt x="162" y="336"/>
                    </a:lnTo>
                    <a:lnTo>
                      <a:pt x="196" y="325"/>
                    </a:lnTo>
                    <a:lnTo>
                      <a:pt x="220" y="313"/>
                    </a:lnTo>
                    <a:lnTo>
                      <a:pt x="254" y="313"/>
                    </a:lnTo>
                    <a:lnTo>
                      <a:pt x="278" y="302"/>
                    </a:lnTo>
                    <a:lnTo>
                      <a:pt x="312" y="289"/>
                    </a:lnTo>
                    <a:lnTo>
                      <a:pt x="336" y="278"/>
                    </a:lnTo>
                    <a:lnTo>
                      <a:pt x="359" y="267"/>
                    </a:lnTo>
                    <a:lnTo>
                      <a:pt x="382" y="244"/>
                    </a:lnTo>
                    <a:lnTo>
                      <a:pt x="406" y="220"/>
                    </a:lnTo>
                    <a:lnTo>
                      <a:pt x="429" y="209"/>
                    </a:lnTo>
                    <a:lnTo>
                      <a:pt x="464" y="209"/>
                    </a:lnTo>
                    <a:lnTo>
                      <a:pt x="498" y="196"/>
                    </a:lnTo>
                    <a:lnTo>
                      <a:pt x="533" y="186"/>
                    </a:lnTo>
                    <a:lnTo>
                      <a:pt x="556" y="174"/>
                    </a:lnTo>
                    <a:lnTo>
                      <a:pt x="579" y="138"/>
                    </a:lnTo>
                    <a:lnTo>
                      <a:pt x="591" y="138"/>
                    </a:lnTo>
                    <a:lnTo>
                      <a:pt x="591" y="128"/>
                    </a:lnTo>
                    <a:lnTo>
                      <a:pt x="603" y="116"/>
                    </a:lnTo>
                    <a:lnTo>
                      <a:pt x="603" y="104"/>
                    </a:lnTo>
                    <a:lnTo>
                      <a:pt x="613" y="92"/>
                    </a:lnTo>
                    <a:lnTo>
                      <a:pt x="613" y="58"/>
                    </a:lnTo>
                    <a:lnTo>
                      <a:pt x="613" y="34"/>
                    </a:lnTo>
                    <a:lnTo>
                      <a:pt x="6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324240" y="4778280"/>
                <a:ext cx="41400" cy="405000"/>
              </a:xfrm>
              <a:custGeom>
                <a:avLst/>
                <a:gdLst/>
                <a:ahLst/>
                <a:rect l="l" t="t" r="r" b="b"/>
                <a:pathLst>
                  <a:path w="104" h="1021">
                    <a:moveTo>
                      <a:pt x="0" y="0"/>
                    </a:moveTo>
                    <a:lnTo>
                      <a:pt x="0" y="1021"/>
                    </a:lnTo>
                    <a:lnTo>
                      <a:pt x="57" y="1010"/>
                    </a:lnTo>
                    <a:lnTo>
                      <a:pt x="70" y="1010"/>
                    </a:lnTo>
                    <a:lnTo>
                      <a:pt x="80" y="998"/>
                    </a:lnTo>
                    <a:lnTo>
                      <a:pt x="91" y="998"/>
                    </a:lnTo>
                    <a:lnTo>
                      <a:pt x="104" y="998"/>
                    </a:lnTo>
                    <a:lnTo>
                      <a:pt x="104" y="987"/>
                    </a:lnTo>
                    <a:lnTo>
                      <a:pt x="104" y="975"/>
                    </a:lnTo>
                    <a:lnTo>
                      <a:pt x="104" y="963"/>
                    </a:lnTo>
                    <a:lnTo>
                      <a:pt x="104" y="952"/>
                    </a:lnTo>
                    <a:lnTo>
                      <a:pt x="104" y="940"/>
                    </a:lnTo>
                    <a:lnTo>
                      <a:pt x="104" y="929"/>
                    </a:lnTo>
                    <a:lnTo>
                      <a:pt x="80" y="882"/>
                    </a:lnTo>
                    <a:lnTo>
                      <a:pt x="70" y="823"/>
                    </a:lnTo>
                    <a:lnTo>
                      <a:pt x="70" y="778"/>
                    </a:lnTo>
                    <a:lnTo>
                      <a:pt x="70" y="731"/>
                    </a:lnTo>
                    <a:lnTo>
                      <a:pt x="70" y="673"/>
                    </a:lnTo>
                    <a:lnTo>
                      <a:pt x="70" y="627"/>
                    </a:lnTo>
                    <a:lnTo>
                      <a:pt x="70" y="569"/>
                    </a:lnTo>
                    <a:lnTo>
                      <a:pt x="57" y="524"/>
                    </a:lnTo>
                    <a:lnTo>
                      <a:pt x="70" y="487"/>
                    </a:lnTo>
                    <a:lnTo>
                      <a:pt x="70" y="465"/>
                    </a:lnTo>
                    <a:lnTo>
                      <a:pt x="70" y="429"/>
                    </a:lnTo>
                    <a:lnTo>
                      <a:pt x="70" y="395"/>
                    </a:lnTo>
                    <a:lnTo>
                      <a:pt x="70" y="371"/>
                    </a:lnTo>
                    <a:lnTo>
                      <a:pt x="80" y="337"/>
                    </a:lnTo>
                    <a:lnTo>
                      <a:pt x="91" y="314"/>
                    </a:lnTo>
                    <a:lnTo>
                      <a:pt x="104" y="302"/>
                    </a:lnTo>
                    <a:lnTo>
                      <a:pt x="104" y="267"/>
                    </a:lnTo>
                    <a:lnTo>
                      <a:pt x="104" y="244"/>
                    </a:lnTo>
                    <a:lnTo>
                      <a:pt x="91" y="222"/>
                    </a:lnTo>
                    <a:lnTo>
                      <a:pt x="80" y="198"/>
                    </a:lnTo>
                    <a:lnTo>
                      <a:pt x="70" y="164"/>
                    </a:lnTo>
                    <a:lnTo>
                      <a:pt x="57" y="140"/>
                    </a:lnTo>
                    <a:lnTo>
                      <a:pt x="46" y="116"/>
                    </a:lnTo>
                    <a:lnTo>
                      <a:pt x="46" y="82"/>
                    </a:lnTo>
                    <a:lnTo>
                      <a:pt x="46" y="69"/>
                    </a:lnTo>
                    <a:lnTo>
                      <a:pt x="46" y="58"/>
                    </a:lnTo>
                    <a:lnTo>
                      <a:pt x="46" y="48"/>
                    </a:lnTo>
                    <a:lnTo>
                      <a:pt x="34" y="35"/>
                    </a:lnTo>
                    <a:lnTo>
                      <a:pt x="34" y="24"/>
                    </a:lnTo>
                    <a:lnTo>
                      <a:pt x="22" y="12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324240" y="4695840"/>
                <a:ext cx="9360" cy="50760"/>
              </a:xfrm>
              <a:custGeom>
                <a:avLst/>
                <a:gdLst/>
                <a:ahLst/>
                <a:rect l="l" t="t" r="r" b="b"/>
                <a:pathLst>
                  <a:path w="22" h="128">
                    <a:moveTo>
                      <a:pt x="0" y="0"/>
                    </a:moveTo>
                    <a:lnTo>
                      <a:pt x="0" y="128"/>
                    </a:lnTo>
                    <a:lnTo>
                      <a:pt x="12" y="116"/>
                    </a:lnTo>
                    <a:lnTo>
                      <a:pt x="12" y="104"/>
                    </a:lnTo>
                    <a:lnTo>
                      <a:pt x="22" y="92"/>
                    </a:lnTo>
                    <a:lnTo>
                      <a:pt x="22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324240" y="4552920"/>
                <a:ext cx="210960" cy="230040"/>
              </a:xfrm>
              <a:custGeom>
                <a:avLst/>
                <a:gdLst/>
                <a:ahLst/>
                <a:rect l="l" t="t" r="r" b="b"/>
                <a:pathLst>
                  <a:path w="532" h="580">
                    <a:moveTo>
                      <a:pt x="0" y="0"/>
                    </a:moveTo>
                    <a:lnTo>
                      <a:pt x="0" y="325"/>
                    </a:lnTo>
                    <a:lnTo>
                      <a:pt x="12" y="325"/>
                    </a:lnTo>
                    <a:lnTo>
                      <a:pt x="22" y="325"/>
                    </a:lnTo>
                    <a:lnTo>
                      <a:pt x="34" y="325"/>
                    </a:lnTo>
                    <a:lnTo>
                      <a:pt x="46" y="325"/>
                    </a:lnTo>
                    <a:lnTo>
                      <a:pt x="57" y="325"/>
                    </a:lnTo>
                    <a:lnTo>
                      <a:pt x="57" y="337"/>
                    </a:lnTo>
                    <a:lnTo>
                      <a:pt x="70" y="337"/>
                    </a:lnTo>
                    <a:lnTo>
                      <a:pt x="80" y="348"/>
                    </a:lnTo>
                    <a:lnTo>
                      <a:pt x="91" y="348"/>
                    </a:lnTo>
                    <a:lnTo>
                      <a:pt x="104" y="348"/>
                    </a:lnTo>
                    <a:lnTo>
                      <a:pt x="127" y="360"/>
                    </a:lnTo>
                    <a:lnTo>
                      <a:pt x="138" y="372"/>
                    </a:lnTo>
                    <a:lnTo>
                      <a:pt x="162" y="383"/>
                    </a:lnTo>
                    <a:lnTo>
                      <a:pt x="173" y="394"/>
                    </a:lnTo>
                    <a:lnTo>
                      <a:pt x="185" y="418"/>
                    </a:lnTo>
                    <a:lnTo>
                      <a:pt x="196" y="441"/>
                    </a:lnTo>
                    <a:lnTo>
                      <a:pt x="208" y="452"/>
                    </a:lnTo>
                    <a:lnTo>
                      <a:pt x="219" y="476"/>
                    </a:lnTo>
                    <a:lnTo>
                      <a:pt x="231" y="488"/>
                    </a:lnTo>
                    <a:lnTo>
                      <a:pt x="253" y="500"/>
                    </a:lnTo>
                    <a:lnTo>
                      <a:pt x="277" y="510"/>
                    </a:lnTo>
                    <a:lnTo>
                      <a:pt x="301" y="510"/>
                    </a:lnTo>
                    <a:lnTo>
                      <a:pt x="324" y="510"/>
                    </a:lnTo>
                    <a:lnTo>
                      <a:pt x="359" y="510"/>
                    </a:lnTo>
                    <a:lnTo>
                      <a:pt x="381" y="510"/>
                    </a:lnTo>
                    <a:lnTo>
                      <a:pt x="405" y="510"/>
                    </a:lnTo>
                    <a:lnTo>
                      <a:pt x="451" y="545"/>
                    </a:lnTo>
                    <a:lnTo>
                      <a:pt x="463" y="545"/>
                    </a:lnTo>
                    <a:lnTo>
                      <a:pt x="463" y="558"/>
                    </a:lnTo>
                    <a:lnTo>
                      <a:pt x="463" y="568"/>
                    </a:lnTo>
                    <a:lnTo>
                      <a:pt x="463" y="580"/>
                    </a:lnTo>
                    <a:lnTo>
                      <a:pt x="474" y="580"/>
                    </a:lnTo>
                    <a:lnTo>
                      <a:pt x="485" y="580"/>
                    </a:lnTo>
                    <a:lnTo>
                      <a:pt x="497" y="568"/>
                    </a:lnTo>
                    <a:lnTo>
                      <a:pt x="497" y="545"/>
                    </a:lnTo>
                    <a:lnTo>
                      <a:pt x="508" y="534"/>
                    </a:lnTo>
                    <a:lnTo>
                      <a:pt x="521" y="510"/>
                    </a:lnTo>
                    <a:lnTo>
                      <a:pt x="521" y="476"/>
                    </a:lnTo>
                    <a:lnTo>
                      <a:pt x="532" y="452"/>
                    </a:lnTo>
                    <a:lnTo>
                      <a:pt x="521" y="418"/>
                    </a:lnTo>
                    <a:lnTo>
                      <a:pt x="508" y="406"/>
                    </a:lnTo>
                    <a:lnTo>
                      <a:pt x="497" y="394"/>
                    </a:lnTo>
                    <a:lnTo>
                      <a:pt x="485" y="383"/>
                    </a:lnTo>
                    <a:lnTo>
                      <a:pt x="474" y="383"/>
                    </a:lnTo>
                    <a:lnTo>
                      <a:pt x="463" y="383"/>
                    </a:lnTo>
                    <a:lnTo>
                      <a:pt x="451" y="394"/>
                    </a:lnTo>
                    <a:lnTo>
                      <a:pt x="439" y="394"/>
                    </a:lnTo>
                    <a:lnTo>
                      <a:pt x="347" y="360"/>
                    </a:lnTo>
                    <a:lnTo>
                      <a:pt x="266" y="221"/>
                    </a:lnTo>
                    <a:lnTo>
                      <a:pt x="243" y="208"/>
                    </a:lnTo>
                    <a:lnTo>
                      <a:pt x="231" y="198"/>
                    </a:lnTo>
                    <a:lnTo>
                      <a:pt x="208" y="186"/>
                    </a:lnTo>
                    <a:lnTo>
                      <a:pt x="196" y="174"/>
                    </a:lnTo>
                    <a:lnTo>
                      <a:pt x="173" y="163"/>
                    </a:lnTo>
                    <a:lnTo>
                      <a:pt x="162" y="150"/>
                    </a:lnTo>
                    <a:lnTo>
                      <a:pt x="150" y="140"/>
                    </a:lnTo>
                    <a:lnTo>
                      <a:pt x="138" y="116"/>
                    </a:lnTo>
                    <a:lnTo>
                      <a:pt x="138" y="105"/>
                    </a:lnTo>
                    <a:lnTo>
                      <a:pt x="127" y="105"/>
                    </a:lnTo>
                    <a:lnTo>
                      <a:pt x="127" y="92"/>
                    </a:lnTo>
                    <a:lnTo>
                      <a:pt x="115" y="70"/>
                    </a:lnTo>
                    <a:lnTo>
                      <a:pt x="104" y="58"/>
                    </a:lnTo>
                    <a:lnTo>
                      <a:pt x="91" y="46"/>
                    </a:lnTo>
                    <a:lnTo>
                      <a:pt x="70" y="35"/>
                    </a:lnTo>
                    <a:lnTo>
                      <a:pt x="46" y="35"/>
                    </a:lnTo>
                    <a:lnTo>
                      <a:pt x="34" y="24"/>
                    </a:lnTo>
                    <a:lnTo>
                      <a:pt x="2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324240" y="4414680"/>
                <a:ext cx="46080" cy="109800"/>
              </a:xfrm>
              <a:custGeom>
                <a:avLst/>
                <a:gdLst/>
                <a:ahLst/>
                <a:rect l="l" t="t" r="r" b="b"/>
                <a:pathLst>
                  <a:path w="115" h="277">
                    <a:moveTo>
                      <a:pt x="0" y="138"/>
                    </a:moveTo>
                    <a:lnTo>
                      <a:pt x="0" y="266"/>
                    </a:lnTo>
                    <a:lnTo>
                      <a:pt x="57" y="277"/>
                    </a:lnTo>
                    <a:lnTo>
                      <a:pt x="70" y="266"/>
                    </a:lnTo>
                    <a:lnTo>
                      <a:pt x="80" y="266"/>
                    </a:lnTo>
                    <a:lnTo>
                      <a:pt x="57" y="185"/>
                    </a:lnTo>
                    <a:lnTo>
                      <a:pt x="70" y="185"/>
                    </a:lnTo>
                    <a:lnTo>
                      <a:pt x="80" y="185"/>
                    </a:lnTo>
                    <a:lnTo>
                      <a:pt x="91" y="185"/>
                    </a:lnTo>
                    <a:lnTo>
                      <a:pt x="104" y="185"/>
                    </a:lnTo>
                    <a:lnTo>
                      <a:pt x="104" y="174"/>
                    </a:lnTo>
                    <a:lnTo>
                      <a:pt x="104" y="161"/>
                    </a:lnTo>
                    <a:lnTo>
                      <a:pt x="91" y="161"/>
                    </a:lnTo>
                    <a:lnTo>
                      <a:pt x="91" y="150"/>
                    </a:lnTo>
                    <a:lnTo>
                      <a:pt x="80" y="150"/>
                    </a:lnTo>
                    <a:lnTo>
                      <a:pt x="70" y="150"/>
                    </a:lnTo>
                    <a:lnTo>
                      <a:pt x="70" y="138"/>
                    </a:lnTo>
                    <a:lnTo>
                      <a:pt x="80" y="127"/>
                    </a:lnTo>
                    <a:lnTo>
                      <a:pt x="91" y="127"/>
                    </a:lnTo>
                    <a:lnTo>
                      <a:pt x="104" y="127"/>
                    </a:lnTo>
                    <a:lnTo>
                      <a:pt x="115" y="127"/>
                    </a:lnTo>
                    <a:lnTo>
                      <a:pt x="70" y="34"/>
                    </a:lnTo>
                    <a:lnTo>
                      <a:pt x="0" y="0"/>
                    </a:lnTo>
                    <a:lnTo>
                      <a:pt x="0" y="127"/>
                    </a:lnTo>
                    <a:lnTo>
                      <a:pt x="0" y="138"/>
                    </a:lnTo>
                    <a:lnTo>
                      <a:pt x="12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324240" y="433692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115" h="185">
                    <a:moveTo>
                      <a:pt x="0" y="0"/>
                    </a:moveTo>
                    <a:lnTo>
                      <a:pt x="0" y="139"/>
                    </a:lnTo>
                    <a:lnTo>
                      <a:pt x="12" y="139"/>
                    </a:lnTo>
                    <a:lnTo>
                      <a:pt x="22" y="151"/>
                    </a:lnTo>
                    <a:lnTo>
                      <a:pt x="34" y="151"/>
                    </a:lnTo>
                    <a:lnTo>
                      <a:pt x="46" y="174"/>
                    </a:lnTo>
                    <a:lnTo>
                      <a:pt x="57" y="174"/>
                    </a:lnTo>
                    <a:lnTo>
                      <a:pt x="70" y="185"/>
                    </a:lnTo>
                    <a:lnTo>
                      <a:pt x="80" y="174"/>
                    </a:lnTo>
                    <a:lnTo>
                      <a:pt x="34" y="81"/>
                    </a:lnTo>
                    <a:lnTo>
                      <a:pt x="46" y="81"/>
                    </a:lnTo>
                    <a:lnTo>
                      <a:pt x="57" y="70"/>
                    </a:lnTo>
                    <a:lnTo>
                      <a:pt x="70" y="70"/>
                    </a:lnTo>
                    <a:lnTo>
                      <a:pt x="80" y="70"/>
                    </a:lnTo>
                    <a:lnTo>
                      <a:pt x="91" y="70"/>
                    </a:lnTo>
                    <a:lnTo>
                      <a:pt x="91" y="58"/>
                    </a:lnTo>
                    <a:lnTo>
                      <a:pt x="104" y="58"/>
                    </a:lnTo>
                    <a:lnTo>
                      <a:pt x="104" y="46"/>
                    </a:lnTo>
                    <a:lnTo>
                      <a:pt x="115" y="46"/>
                    </a:lnTo>
                    <a:lnTo>
                      <a:pt x="115" y="36"/>
                    </a:lnTo>
                    <a:lnTo>
                      <a:pt x="104" y="23"/>
                    </a:lnTo>
                    <a:lnTo>
                      <a:pt x="91" y="23"/>
                    </a:lnTo>
                    <a:lnTo>
                      <a:pt x="80" y="12"/>
                    </a:lnTo>
                    <a:lnTo>
                      <a:pt x="57" y="1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241800" y="4294080"/>
                <a:ext cx="82440" cy="893880"/>
              </a:xfrm>
              <a:custGeom>
                <a:avLst/>
                <a:gdLst/>
                <a:ahLst/>
                <a:rect l="l" t="t" r="r" b="b"/>
                <a:pathLst>
                  <a:path w="209" h="2250">
                    <a:moveTo>
                      <a:pt x="209" y="243"/>
                    </a:moveTo>
                    <a:lnTo>
                      <a:pt x="209" y="104"/>
                    </a:lnTo>
                    <a:lnTo>
                      <a:pt x="197" y="116"/>
                    </a:lnTo>
                    <a:lnTo>
                      <a:pt x="185" y="127"/>
                    </a:lnTo>
                    <a:lnTo>
                      <a:pt x="173" y="140"/>
                    </a:lnTo>
                    <a:lnTo>
                      <a:pt x="173" y="150"/>
                    </a:lnTo>
                    <a:lnTo>
                      <a:pt x="173" y="162"/>
                    </a:lnTo>
                    <a:lnTo>
                      <a:pt x="173" y="174"/>
                    </a:lnTo>
                    <a:lnTo>
                      <a:pt x="163" y="174"/>
                    </a:lnTo>
                    <a:lnTo>
                      <a:pt x="151" y="185"/>
                    </a:lnTo>
                    <a:lnTo>
                      <a:pt x="139" y="174"/>
                    </a:lnTo>
                    <a:lnTo>
                      <a:pt x="127" y="162"/>
                    </a:lnTo>
                    <a:lnTo>
                      <a:pt x="116" y="150"/>
                    </a:lnTo>
                    <a:lnTo>
                      <a:pt x="103" y="140"/>
                    </a:lnTo>
                    <a:lnTo>
                      <a:pt x="93" y="116"/>
                    </a:lnTo>
                    <a:lnTo>
                      <a:pt x="93" y="104"/>
                    </a:lnTo>
                    <a:lnTo>
                      <a:pt x="82" y="92"/>
                    </a:lnTo>
                    <a:lnTo>
                      <a:pt x="82" y="82"/>
                    </a:lnTo>
                    <a:lnTo>
                      <a:pt x="69" y="69"/>
                    </a:lnTo>
                    <a:lnTo>
                      <a:pt x="58" y="69"/>
                    </a:lnTo>
                    <a:lnTo>
                      <a:pt x="58" y="58"/>
                    </a:lnTo>
                    <a:lnTo>
                      <a:pt x="45" y="58"/>
                    </a:lnTo>
                    <a:lnTo>
                      <a:pt x="45" y="45"/>
                    </a:lnTo>
                    <a:lnTo>
                      <a:pt x="45" y="34"/>
                    </a:lnTo>
                    <a:lnTo>
                      <a:pt x="45" y="24"/>
                    </a:lnTo>
                    <a:lnTo>
                      <a:pt x="45" y="1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127"/>
                    </a:lnTo>
                    <a:lnTo>
                      <a:pt x="0" y="116"/>
                    </a:lnTo>
                    <a:lnTo>
                      <a:pt x="11" y="116"/>
                    </a:lnTo>
                    <a:lnTo>
                      <a:pt x="24" y="116"/>
                    </a:lnTo>
                    <a:lnTo>
                      <a:pt x="24" y="127"/>
                    </a:lnTo>
                    <a:lnTo>
                      <a:pt x="24" y="140"/>
                    </a:lnTo>
                    <a:lnTo>
                      <a:pt x="11" y="140"/>
                    </a:lnTo>
                    <a:lnTo>
                      <a:pt x="0" y="140"/>
                    </a:lnTo>
                    <a:lnTo>
                      <a:pt x="0" y="150"/>
                    </a:lnTo>
                    <a:lnTo>
                      <a:pt x="0" y="1496"/>
                    </a:lnTo>
                    <a:lnTo>
                      <a:pt x="0" y="1508"/>
                    </a:lnTo>
                    <a:lnTo>
                      <a:pt x="11" y="1531"/>
                    </a:lnTo>
                    <a:lnTo>
                      <a:pt x="24" y="1543"/>
                    </a:lnTo>
                    <a:lnTo>
                      <a:pt x="24" y="1554"/>
                    </a:lnTo>
                    <a:lnTo>
                      <a:pt x="24" y="1566"/>
                    </a:lnTo>
                    <a:lnTo>
                      <a:pt x="35" y="1577"/>
                    </a:lnTo>
                    <a:lnTo>
                      <a:pt x="35" y="1588"/>
                    </a:lnTo>
                    <a:lnTo>
                      <a:pt x="35" y="1646"/>
                    </a:lnTo>
                    <a:lnTo>
                      <a:pt x="45" y="1693"/>
                    </a:lnTo>
                    <a:lnTo>
                      <a:pt x="45" y="1741"/>
                    </a:lnTo>
                    <a:lnTo>
                      <a:pt x="58" y="1786"/>
                    </a:lnTo>
                    <a:lnTo>
                      <a:pt x="58" y="1833"/>
                    </a:lnTo>
                    <a:lnTo>
                      <a:pt x="58" y="1878"/>
                    </a:lnTo>
                    <a:lnTo>
                      <a:pt x="58" y="1925"/>
                    </a:lnTo>
                    <a:lnTo>
                      <a:pt x="45" y="1983"/>
                    </a:lnTo>
                    <a:lnTo>
                      <a:pt x="45" y="1995"/>
                    </a:lnTo>
                    <a:lnTo>
                      <a:pt x="58" y="2018"/>
                    </a:lnTo>
                    <a:lnTo>
                      <a:pt x="58" y="2030"/>
                    </a:lnTo>
                    <a:lnTo>
                      <a:pt x="69" y="2040"/>
                    </a:lnTo>
                    <a:lnTo>
                      <a:pt x="93" y="2053"/>
                    </a:lnTo>
                    <a:lnTo>
                      <a:pt x="103" y="2064"/>
                    </a:lnTo>
                    <a:lnTo>
                      <a:pt x="103" y="2076"/>
                    </a:lnTo>
                    <a:lnTo>
                      <a:pt x="116" y="2099"/>
                    </a:lnTo>
                    <a:lnTo>
                      <a:pt x="103" y="2111"/>
                    </a:lnTo>
                    <a:lnTo>
                      <a:pt x="103" y="2134"/>
                    </a:lnTo>
                    <a:lnTo>
                      <a:pt x="82" y="2146"/>
                    </a:lnTo>
                    <a:lnTo>
                      <a:pt x="69" y="2157"/>
                    </a:lnTo>
                    <a:lnTo>
                      <a:pt x="58" y="2169"/>
                    </a:lnTo>
                    <a:lnTo>
                      <a:pt x="45" y="2180"/>
                    </a:lnTo>
                    <a:lnTo>
                      <a:pt x="35" y="2192"/>
                    </a:lnTo>
                    <a:lnTo>
                      <a:pt x="24" y="2204"/>
                    </a:lnTo>
                    <a:lnTo>
                      <a:pt x="11" y="2215"/>
                    </a:lnTo>
                    <a:lnTo>
                      <a:pt x="11" y="2227"/>
                    </a:lnTo>
                    <a:lnTo>
                      <a:pt x="11" y="2238"/>
                    </a:lnTo>
                    <a:lnTo>
                      <a:pt x="45" y="2250"/>
                    </a:lnTo>
                    <a:lnTo>
                      <a:pt x="58" y="2238"/>
                    </a:lnTo>
                    <a:lnTo>
                      <a:pt x="69" y="2238"/>
                    </a:lnTo>
                    <a:lnTo>
                      <a:pt x="82" y="2227"/>
                    </a:lnTo>
                    <a:lnTo>
                      <a:pt x="93" y="2227"/>
                    </a:lnTo>
                    <a:lnTo>
                      <a:pt x="103" y="2227"/>
                    </a:lnTo>
                    <a:lnTo>
                      <a:pt x="127" y="2227"/>
                    </a:lnTo>
                    <a:lnTo>
                      <a:pt x="139" y="2227"/>
                    </a:lnTo>
                    <a:lnTo>
                      <a:pt x="151" y="2238"/>
                    </a:lnTo>
                    <a:lnTo>
                      <a:pt x="209" y="2238"/>
                    </a:lnTo>
                    <a:lnTo>
                      <a:pt x="209" y="1217"/>
                    </a:lnTo>
                    <a:lnTo>
                      <a:pt x="197" y="1207"/>
                    </a:lnTo>
                    <a:lnTo>
                      <a:pt x="197" y="1194"/>
                    </a:lnTo>
                    <a:lnTo>
                      <a:pt x="197" y="1183"/>
                    </a:lnTo>
                    <a:lnTo>
                      <a:pt x="197" y="1171"/>
                    </a:lnTo>
                    <a:lnTo>
                      <a:pt x="197" y="1159"/>
                    </a:lnTo>
                    <a:lnTo>
                      <a:pt x="197" y="1149"/>
                    </a:lnTo>
                    <a:lnTo>
                      <a:pt x="209" y="1137"/>
                    </a:lnTo>
                    <a:lnTo>
                      <a:pt x="209" y="1009"/>
                    </a:lnTo>
                    <a:lnTo>
                      <a:pt x="209" y="986"/>
                    </a:lnTo>
                    <a:lnTo>
                      <a:pt x="209" y="974"/>
                    </a:lnTo>
                    <a:lnTo>
                      <a:pt x="209" y="649"/>
                    </a:lnTo>
                    <a:lnTo>
                      <a:pt x="185" y="615"/>
                    </a:lnTo>
                    <a:lnTo>
                      <a:pt x="151" y="591"/>
                    </a:lnTo>
                    <a:lnTo>
                      <a:pt x="139" y="579"/>
                    </a:lnTo>
                    <a:lnTo>
                      <a:pt x="139" y="568"/>
                    </a:lnTo>
                    <a:lnTo>
                      <a:pt x="139" y="557"/>
                    </a:lnTo>
                    <a:lnTo>
                      <a:pt x="139" y="545"/>
                    </a:lnTo>
                    <a:lnTo>
                      <a:pt x="139" y="534"/>
                    </a:lnTo>
                    <a:lnTo>
                      <a:pt x="151" y="521"/>
                    </a:lnTo>
                    <a:lnTo>
                      <a:pt x="163" y="521"/>
                    </a:lnTo>
                    <a:lnTo>
                      <a:pt x="173" y="521"/>
                    </a:lnTo>
                    <a:lnTo>
                      <a:pt x="185" y="521"/>
                    </a:lnTo>
                    <a:lnTo>
                      <a:pt x="197" y="521"/>
                    </a:lnTo>
                    <a:lnTo>
                      <a:pt x="197" y="534"/>
                    </a:lnTo>
                    <a:lnTo>
                      <a:pt x="197" y="545"/>
                    </a:lnTo>
                    <a:lnTo>
                      <a:pt x="197" y="557"/>
                    </a:lnTo>
                    <a:lnTo>
                      <a:pt x="197" y="568"/>
                    </a:lnTo>
                    <a:lnTo>
                      <a:pt x="209" y="568"/>
                    </a:lnTo>
                    <a:lnTo>
                      <a:pt x="209" y="440"/>
                    </a:lnTo>
                    <a:lnTo>
                      <a:pt x="209" y="429"/>
                    </a:lnTo>
                    <a:lnTo>
                      <a:pt x="197" y="429"/>
                    </a:lnTo>
                    <a:lnTo>
                      <a:pt x="209" y="429"/>
                    </a:lnTo>
                    <a:lnTo>
                      <a:pt x="209" y="302"/>
                    </a:lnTo>
                    <a:lnTo>
                      <a:pt x="163" y="278"/>
                    </a:lnTo>
                    <a:lnTo>
                      <a:pt x="151" y="267"/>
                    </a:lnTo>
                    <a:lnTo>
                      <a:pt x="163" y="267"/>
                    </a:lnTo>
                    <a:lnTo>
                      <a:pt x="163" y="255"/>
                    </a:lnTo>
                    <a:lnTo>
                      <a:pt x="173" y="255"/>
                    </a:lnTo>
                    <a:lnTo>
                      <a:pt x="185" y="243"/>
                    </a:lnTo>
                    <a:lnTo>
                      <a:pt x="197" y="243"/>
                    </a:lnTo>
                    <a:lnTo>
                      <a:pt x="209" y="2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892600" y="4289400"/>
                <a:ext cx="349200" cy="835200"/>
              </a:xfrm>
              <a:custGeom>
                <a:avLst/>
                <a:gdLst/>
                <a:ahLst/>
                <a:rect l="l" t="t" r="r" b="b"/>
                <a:pathLst>
                  <a:path w="879" h="2101">
                    <a:moveTo>
                      <a:pt x="879" y="140"/>
                    </a:moveTo>
                    <a:lnTo>
                      <a:pt x="879" y="13"/>
                    </a:lnTo>
                    <a:lnTo>
                      <a:pt x="856" y="0"/>
                    </a:lnTo>
                    <a:lnTo>
                      <a:pt x="833" y="105"/>
                    </a:lnTo>
                    <a:lnTo>
                      <a:pt x="821" y="105"/>
                    </a:lnTo>
                    <a:lnTo>
                      <a:pt x="821" y="117"/>
                    </a:lnTo>
                    <a:lnTo>
                      <a:pt x="809" y="117"/>
                    </a:lnTo>
                    <a:lnTo>
                      <a:pt x="799" y="117"/>
                    </a:lnTo>
                    <a:lnTo>
                      <a:pt x="786" y="129"/>
                    </a:lnTo>
                    <a:lnTo>
                      <a:pt x="775" y="129"/>
                    </a:lnTo>
                    <a:lnTo>
                      <a:pt x="775" y="140"/>
                    </a:lnTo>
                    <a:lnTo>
                      <a:pt x="763" y="222"/>
                    </a:lnTo>
                    <a:lnTo>
                      <a:pt x="706" y="153"/>
                    </a:lnTo>
                    <a:lnTo>
                      <a:pt x="659" y="140"/>
                    </a:lnTo>
                    <a:lnTo>
                      <a:pt x="625" y="117"/>
                    </a:lnTo>
                    <a:lnTo>
                      <a:pt x="589" y="153"/>
                    </a:lnTo>
                    <a:lnTo>
                      <a:pt x="589" y="163"/>
                    </a:lnTo>
                    <a:lnTo>
                      <a:pt x="589" y="175"/>
                    </a:lnTo>
                    <a:lnTo>
                      <a:pt x="589" y="187"/>
                    </a:lnTo>
                    <a:lnTo>
                      <a:pt x="601" y="198"/>
                    </a:lnTo>
                    <a:lnTo>
                      <a:pt x="613" y="198"/>
                    </a:lnTo>
                    <a:lnTo>
                      <a:pt x="625" y="198"/>
                    </a:lnTo>
                    <a:lnTo>
                      <a:pt x="636" y="198"/>
                    </a:lnTo>
                    <a:lnTo>
                      <a:pt x="648" y="198"/>
                    </a:lnTo>
                    <a:lnTo>
                      <a:pt x="659" y="210"/>
                    </a:lnTo>
                    <a:lnTo>
                      <a:pt x="671" y="256"/>
                    </a:lnTo>
                    <a:lnTo>
                      <a:pt x="683" y="268"/>
                    </a:lnTo>
                    <a:lnTo>
                      <a:pt x="693" y="268"/>
                    </a:lnTo>
                    <a:lnTo>
                      <a:pt x="706" y="268"/>
                    </a:lnTo>
                    <a:lnTo>
                      <a:pt x="706" y="280"/>
                    </a:lnTo>
                    <a:lnTo>
                      <a:pt x="717" y="280"/>
                    </a:lnTo>
                    <a:lnTo>
                      <a:pt x="717" y="291"/>
                    </a:lnTo>
                    <a:lnTo>
                      <a:pt x="728" y="315"/>
                    </a:lnTo>
                    <a:lnTo>
                      <a:pt x="717" y="326"/>
                    </a:lnTo>
                    <a:lnTo>
                      <a:pt x="717" y="349"/>
                    </a:lnTo>
                    <a:lnTo>
                      <a:pt x="706" y="360"/>
                    </a:lnTo>
                    <a:lnTo>
                      <a:pt x="693" y="384"/>
                    </a:lnTo>
                    <a:lnTo>
                      <a:pt x="693" y="396"/>
                    </a:lnTo>
                    <a:lnTo>
                      <a:pt x="693" y="407"/>
                    </a:lnTo>
                    <a:lnTo>
                      <a:pt x="693" y="431"/>
                    </a:lnTo>
                    <a:lnTo>
                      <a:pt x="706" y="431"/>
                    </a:lnTo>
                    <a:lnTo>
                      <a:pt x="706" y="442"/>
                    </a:lnTo>
                    <a:lnTo>
                      <a:pt x="706" y="453"/>
                    </a:lnTo>
                    <a:lnTo>
                      <a:pt x="693" y="465"/>
                    </a:lnTo>
                    <a:lnTo>
                      <a:pt x="706" y="465"/>
                    </a:lnTo>
                    <a:lnTo>
                      <a:pt x="706" y="476"/>
                    </a:lnTo>
                    <a:lnTo>
                      <a:pt x="706" y="489"/>
                    </a:lnTo>
                    <a:lnTo>
                      <a:pt x="706" y="500"/>
                    </a:lnTo>
                    <a:lnTo>
                      <a:pt x="706" y="512"/>
                    </a:lnTo>
                    <a:lnTo>
                      <a:pt x="741" y="570"/>
                    </a:lnTo>
                    <a:lnTo>
                      <a:pt x="799" y="581"/>
                    </a:lnTo>
                    <a:lnTo>
                      <a:pt x="809" y="592"/>
                    </a:lnTo>
                    <a:lnTo>
                      <a:pt x="809" y="604"/>
                    </a:lnTo>
                    <a:lnTo>
                      <a:pt x="809" y="616"/>
                    </a:lnTo>
                    <a:lnTo>
                      <a:pt x="799" y="616"/>
                    </a:lnTo>
                    <a:lnTo>
                      <a:pt x="799" y="628"/>
                    </a:lnTo>
                    <a:lnTo>
                      <a:pt x="786" y="628"/>
                    </a:lnTo>
                    <a:lnTo>
                      <a:pt x="775" y="616"/>
                    </a:lnTo>
                    <a:lnTo>
                      <a:pt x="763" y="616"/>
                    </a:lnTo>
                    <a:lnTo>
                      <a:pt x="751" y="616"/>
                    </a:lnTo>
                    <a:lnTo>
                      <a:pt x="625" y="697"/>
                    </a:lnTo>
                    <a:lnTo>
                      <a:pt x="625" y="708"/>
                    </a:lnTo>
                    <a:lnTo>
                      <a:pt x="625" y="720"/>
                    </a:lnTo>
                    <a:lnTo>
                      <a:pt x="625" y="732"/>
                    </a:lnTo>
                    <a:lnTo>
                      <a:pt x="625" y="744"/>
                    </a:lnTo>
                    <a:lnTo>
                      <a:pt x="613" y="754"/>
                    </a:lnTo>
                    <a:lnTo>
                      <a:pt x="613" y="767"/>
                    </a:lnTo>
                    <a:lnTo>
                      <a:pt x="601" y="767"/>
                    </a:lnTo>
                    <a:lnTo>
                      <a:pt x="601" y="778"/>
                    </a:lnTo>
                    <a:lnTo>
                      <a:pt x="589" y="778"/>
                    </a:lnTo>
                    <a:lnTo>
                      <a:pt x="370" y="848"/>
                    </a:lnTo>
                    <a:lnTo>
                      <a:pt x="266" y="987"/>
                    </a:lnTo>
                    <a:lnTo>
                      <a:pt x="242" y="987"/>
                    </a:lnTo>
                    <a:lnTo>
                      <a:pt x="208" y="999"/>
                    </a:lnTo>
                    <a:lnTo>
                      <a:pt x="185" y="1022"/>
                    </a:lnTo>
                    <a:lnTo>
                      <a:pt x="173" y="1045"/>
                    </a:lnTo>
                    <a:lnTo>
                      <a:pt x="150" y="1080"/>
                    </a:lnTo>
                    <a:lnTo>
                      <a:pt x="138" y="1092"/>
                    </a:lnTo>
                    <a:lnTo>
                      <a:pt x="115" y="1103"/>
                    </a:lnTo>
                    <a:lnTo>
                      <a:pt x="103" y="1080"/>
                    </a:lnTo>
                    <a:lnTo>
                      <a:pt x="93" y="1080"/>
                    </a:lnTo>
                    <a:lnTo>
                      <a:pt x="93" y="1068"/>
                    </a:lnTo>
                    <a:lnTo>
                      <a:pt x="80" y="1068"/>
                    </a:lnTo>
                    <a:lnTo>
                      <a:pt x="80" y="1056"/>
                    </a:lnTo>
                    <a:lnTo>
                      <a:pt x="69" y="1056"/>
                    </a:lnTo>
                    <a:lnTo>
                      <a:pt x="69" y="1045"/>
                    </a:lnTo>
                    <a:lnTo>
                      <a:pt x="69" y="1034"/>
                    </a:lnTo>
                    <a:lnTo>
                      <a:pt x="58" y="1045"/>
                    </a:lnTo>
                    <a:lnTo>
                      <a:pt x="45" y="1045"/>
                    </a:lnTo>
                    <a:lnTo>
                      <a:pt x="35" y="1068"/>
                    </a:lnTo>
                    <a:lnTo>
                      <a:pt x="23" y="1103"/>
                    </a:lnTo>
                    <a:lnTo>
                      <a:pt x="11" y="1138"/>
                    </a:lnTo>
                    <a:lnTo>
                      <a:pt x="0" y="1162"/>
                    </a:lnTo>
                    <a:lnTo>
                      <a:pt x="11" y="1184"/>
                    </a:lnTo>
                    <a:lnTo>
                      <a:pt x="11" y="1207"/>
                    </a:lnTo>
                    <a:lnTo>
                      <a:pt x="23" y="1220"/>
                    </a:lnTo>
                    <a:lnTo>
                      <a:pt x="23" y="1230"/>
                    </a:lnTo>
                    <a:lnTo>
                      <a:pt x="35" y="1242"/>
                    </a:lnTo>
                    <a:lnTo>
                      <a:pt x="58" y="1265"/>
                    </a:lnTo>
                    <a:lnTo>
                      <a:pt x="80" y="1278"/>
                    </a:lnTo>
                    <a:lnTo>
                      <a:pt x="115" y="1265"/>
                    </a:lnTo>
                    <a:lnTo>
                      <a:pt x="138" y="1254"/>
                    </a:lnTo>
                    <a:lnTo>
                      <a:pt x="173" y="1230"/>
                    </a:lnTo>
                    <a:lnTo>
                      <a:pt x="219" y="1207"/>
                    </a:lnTo>
                    <a:lnTo>
                      <a:pt x="266" y="1184"/>
                    </a:lnTo>
                    <a:lnTo>
                      <a:pt x="312" y="1162"/>
                    </a:lnTo>
                    <a:lnTo>
                      <a:pt x="347" y="1126"/>
                    </a:lnTo>
                    <a:lnTo>
                      <a:pt x="382" y="1092"/>
                    </a:lnTo>
                    <a:lnTo>
                      <a:pt x="404" y="1056"/>
                    </a:lnTo>
                    <a:lnTo>
                      <a:pt x="439" y="1010"/>
                    </a:lnTo>
                    <a:lnTo>
                      <a:pt x="462" y="987"/>
                    </a:lnTo>
                    <a:lnTo>
                      <a:pt x="497" y="964"/>
                    </a:lnTo>
                    <a:lnTo>
                      <a:pt x="520" y="952"/>
                    </a:lnTo>
                    <a:lnTo>
                      <a:pt x="555" y="952"/>
                    </a:lnTo>
                    <a:lnTo>
                      <a:pt x="567" y="964"/>
                    </a:lnTo>
                    <a:lnTo>
                      <a:pt x="578" y="964"/>
                    </a:lnTo>
                    <a:lnTo>
                      <a:pt x="589" y="964"/>
                    </a:lnTo>
                    <a:lnTo>
                      <a:pt x="601" y="964"/>
                    </a:lnTo>
                    <a:lnTo>
                      <a:pt x="613" y="964"/>
                    </a:lnTo>
                    <a:lnTo>
                      <a:pt x="625" y="952"/>
                    </a:lnTo>
                    <a:lnTo>
                      <a:pt x="636" y="952"/>
                    </a:lnTo>
                    <a:lnTo>
                      <a:pt x="648" y="941"/>
                    </a:lnTo>
                    <a:lnTo>
                      <a:pt x="659" y="941"/>
                    </a:lnTo>
                    <a:lnTo>
                      <a:pt x="671" y="941"/>
                    </a:lnTo>
                    <a:lnTo>
                      <a:pt x="671" y="952"/>
                    </a:lnTo>
                    <a:lnTo>
                      <a:pt x="693" y="1022"/>
                    </a:lnTo>
                    <a:lnTo>
                      <a:pt x="683" y="1068"/>
                    </a:lnTo>
                    <a:lnTo>
                      <a:pt x="671" y="1114"/>
                    </a:lnTo>
                    <a:lnTo>
                      <a:pt x="659" y="1150"/>
                    </a:lnTo>
                    <a:lnTo>
                      <a:pt x="659" y="1196"/>
                    </a:lnTo>
                    <a:lnTo>
                      <a:pt x="648" y="1242"/>
                    </a:lnTo>
                    <a:lnTo>
                      <a:pt x="648" y="1278"/>
                    </a:lnTo>
                    <a:lnTo>
                      <a:pt x="648" y="1323"/>
                    </a:lnTo>
                    <a:lnTo>
                      <a:pt x="648" y="1370"/>
                    </a:lnTo>
                    <a:lnTo>
                      <a:pt x="636" y="1381"/>
                    </a:lnTo>
                    <a:lnTo>
                      <a:pt x="625" y="1381"/>
                    </a:lnTo>
                    <a:lnTo>
                      <a:pt x="613" y="1394"/>
                    </a:lnTo>
                    <a:lnTo>
                      <a:pt x="601" y="1405"/>
                    </a:lnTo>
                    <a:lnTo>
                      <a:pt x="589" y="1405"/>
                    </a:lnTo>
                    <a:lnTo>
                      <a:pt x="567" y="1416"/>
                    </a:lnTo>
                    <a:lnTo>
                      <a:pt x="555" y="1416"/>
                    </a:lnTo>
                    <a:lnTo>
                      <a:pt x="544" y="1416"/>
                    </a:lnTo>
                    <a:lnTo>
                      <a:pt x="510" y="1428"/>
                    </a:lnTo>
                    <a:lnTo>
                      <a:pt x="486" y="1428"/>
                    </a:lnTo>
                    <a:lnTo>
                      <a:pt x="462" y="1439"/>
                    </a:lnTo>
                    <a:lnTo>
                      <a:pt x="452" y="1452"/>
                    </a:lnTo>
                    <a:lnTo>
                      <a:pt x="428" y="1463"/>
                    </a:lnTo>
                    <a:lnTo>
                      <a:pt x="404" y="1474"/>
                    </a:lnTo>
                    <a:lnTo>
                      <a:pt x="392" y="1497"/>
                    </a:lnTo>
                    <a:lnTo>
                      <a:pt x="382" y="1509"/>
                    </a:lnTo>
                    <a:lnTo>
                      <a:pt x="382" y="1521"/>
                    </a:lnTo>
                    <a:lnTo>
                      <a:pt x="382" y="1532"/>
                    </a:lnTo>
                    <a:lnTo>
                      <a:pt x="382" y="1544"/>
                    </a:lnTo>
                    <a:lnTo>
                      <a:pt x="370" y="1567"/>
                    </a:lnTo>
                    <a:lnTo>
                      <a:pt x="358" y="1590"/>
                    </a:lnTo>
                    <a:lnTo>
                      <a:pt x="334" y="1601"/>
                    </a:lnTo>
                    <a:lnTo>
                      <a:pt x="312" y="1614"/>
                    </a:lnTo>
                    <a:lnTo>
                      <a:pt x="289" y="1625"/>
                    </a:lnTo>
                    <a:lnTo>
                      <a:pt x="266" y="1648"/>
                    </a:lnTo>
                    <a:lnTo>
                      <a:pt x="255" y="1672"/>
                    </a:lnTo>
                    <a:lnTo>
                      <a:pt x="255" y="1695"/>
                    </a:lnTo>
                    <a:lnTo>
                      <a:pt x="231" y="1730"/>
                    </a:lnTo>
                    <a:lnTo>
                      <a:pt x="219" y="1764"/>
                    </a:lnTo>
                    <a:lnTo>
                      <a:pt x="219" y="1799"/>
                    </a:lnTo>
                    <a:lnTo>
                      <a:pt x="231" y="1833"/>
                    </a:lnTo>
                    <a:lnTo>
                      <a:pt x="231" y="1869"/>
                    </a:lnTo>
                    <a:lnTo>
                      <a:pt x="242" y="1903"/>
                    </a:lnTo>
                    <a:lnTo>
                      <a:pt x="242" y="1938"/>
                    </a:lnTo>
                    <a:lnTo>
                      <a:pt x="242" y="1973"/>
                    </a:lnTo>
                    <a:lnTo>
                      <a:pt x="185" y="2008"/>
                    </a:lnTo>
                    <a:lnTo>
                      <a:pt x="173" y="2008"/>
                    </a:lnTo>
                    <a:lnTo>
                      <a:pt x="173" y="2019"/>
                    </a:lnTo>
                    <a:lnTo>
                      <a:pt x="173" y="2031"/>
                    </a:lnTo>
                    <a:lnTo>
                      <a:pt x="173" y="2043"/>
                    </a:lnTo>
                    <a:lnTo>
                      <a:pt x="185" y="2053"/>
                    </a:lnTo>
                    <a:lnTo>
                      <a:pt x="312" y="2066"/>
                    </a:lnTo>
                    <a:lnTo>
                      <a:pt x="324" y="2066"/>
                    </a:lnTo>
                    <a:lnTo>
                      <a:pt x="334" y="2077"/>
                    </a:lnTo>
                    <a:lnTo>
                      <a:pt x="347" y="2089"/>
                    </a:lnTo>
                    <a:lnTo>
                      <a:pt x="358" y="2089"/>
                    </a:lnTo>
                    <a:lnTo>
                      <a:pt x="370" y="2101"/>
                    </a:lnTo>
                    <a:lnTo>
                      <a:pt x="382" y="2101"/>
                    </a:lnTo>
                    <a:lnTo>
                      <a:pt x="392" y="2101"/>
                    </a:lnTo>
                    <a:lnTo>
                      <a:pt x="416" y="2101"/>
                    </a:lnTo>
                    <a:lnTo>
                      <a:pt x="428" y="2101"/>
                    </a:lnTo>
                    <a:lnTo>
                      <a:pt x="439" y="2101"/>
                    </a:lnTo>
                    <a:lnTo>
                      <a:pt x="439" y="2089"/>
                    </a:lnTo>
                    <a:lnTo>
                      <a:pt x="452" y="2089"/>
                    </a:lnTo>
                    <a:lnTo>
                      <a:pt x="452" y="2077"/>
                    </a:lnTo>
                    <a:lnTo>
                      <a:pt x="452" y="2066"/>
                    </a:lnTo>
                    <a:lnTo>
                      <a:pt x="428" y="2019"/>
                    </a:lnTo>
                    <a:lnTo>
                      <a:pt x="416" y="1833"/>
                    </a:lnTo>
                    <a:lnTo>
                      <a:pt x="428" y="1811"/>
                    </a:lnTo>
                    <a:lnTo>
                      <a:pt x="439" y="1775"/>
                    </a:lnTo>
                    <a:lnTo>
                      <a:pt x="452" y="1754"/>
                    </a:lnTo>
                    <a:lnTo>
                      <a:pt x="462" y="1717"/>
                    </a:lnTo>
                    <a:lnTo>
                      <a:pt x="473" y="1695"/>
                    </a:lnTo>
                    <a:lnTo>
                      <a:pt x="497" y="1672"/>
                    </a:lnTo>
                    <a:lnTo>
                      <a:pt x="520" y="1648"/>
                    </a:lnTo>
                    <a:lnTo>
                      <a:pt x="544" y="1637"/>
                    </a:lnTo>
                    <a:lnTo>
                      <a:pt x="544" y="1625"/>
                    </a:lnTo>
                    <a:lnTo>
                      <a:pt x="555" y="1625"/>
                    </a:lnTo>
                    <a:lnTo>
                      <a:pt x="555" y="1614"/>
                    </a:lnTo>
                    <a:lnTo>
                      <a:pt x="555" y="1601"/>
                    </a:lnTo>
                    <a:lnTo>
                      <a:pt x="555" y="1590"/>
                    </a:lnTo>
                    <a:lnTo>
                      <a:pt x="567" y="1590"/>
                    </a:lnTo>
                    <a:lnTo>
                      <a:pt x="589" y="1567"/>
                    </a:lnTo>
                    <a:lnTo>
                      <a:pt x="613" y="1556"/>
                    </a:lnTo>
                    <a:lnTo>
                      <a:pt x="648" y="1544"/>
                    </a:lnTo>
                    <a:lnTo>
                      <a:pt x="683" y="1544"/>
                    </a:lnTo>
                    <a:lnTo>
                      <a:pt x="717" y="1544"/>
                    </a:lnTo>
                    <a:lnTo>
                      <a:pt x="741" y="1532"/>
                    </a:lnTo>
                    <a:lnTo>
                      <a:pt x="775" y="1532"/>
                    </a:lnTo>
                    <a:lnTo>
                      <a:pt x="809" y="1532"/>
                    </a:lnTo>
                    <a:lnTo>
                      <a:pt x="833" y="1486"/>
                    </a:lnTo>
                    <a:lnTo>
                      <a:pt x="833" y="1474"/>
                    </a:lnTo>
                    <a:lnTo>
                      <a:pt x="845" y="1474"/>
                    </a:lnTo>
                    <a:lnTo>
                      <a:pt x="856" y="1474"/>
                    </a:lnTo>
                    <a:lnTo>
                      <a:pt x="867" y="1474"/>
                    </a:lnTo>
                    <a:lnTo>
                      <a:pt x="867" y="1486"/>
                    </a:lnTo>
                    <a:lnTo>
                      <a:pt x="879" y="1497"/>
                    </a:lnTo>
                    <a:lnTo>
                      <a:pt x="879" y="1509"/>
                    </a:lnTo>
                    <a:lnTo>
                      <a:pt x="879" y="163"/>
                    </a:lnTo>
                    <a:lnTo>
                      <a:pt x="867" y="175"/>
                    </a:lnTo>
                    <a:lnTo>
                      <a:pt x="867" y="187"/>
                    </a:lnTo>
                    <a:lnTo>
                      <a:pt x="856" y="187"/>
                    </a:lnTo>
                    <a:lnTo>
                      <a:pt x="856" y="175"/>
                    </a:lnTo>
                    <a:lnTo>
                      <a:pt x="856" y="163"/>
                    </a:lnTo>
                    <a:lnTo>
                      <a:pt x="867" y="163"/>
                    </a:lnTo>
                    <a:lnTo>
                      <a:pt x="867" y="153"/>
                    </a:lnTo>
                    <a:lnTo>
                      <a:pt x="879" y="153"/>
                    </a:lnTo>
                    <a:lnTo>
                      <a:pt x="879" y="1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901960" y="4390920"/>
                <a:ext cx="311040" cy="336600"/>
              </a:xfrm>
              <a:custGeom>
                <a:avLst/>
                <a:gdLst/>
                <a:ahLst/>
                <a:rect l="l" t="t" r="r" b="b"/>
                <a:pathLst>
                  <a:path w="786" h="847">
                    <a:moveTo>
                      <a:pt x="0" y="847"/>
                    </a:moveTo>
                    <a:lnTo>
                      <a:pt x="12" y="812"/>
                    </a:lnTo>
                    <a:lnTo>
                      <a:pt x="22" y="789"/>
                    </a:lnTo>
                    <a:lnTo>
                      <a:pt x="35" y="789"/>
                    </a:lnTo>
                    <a:lnTo>
                      <a:pt x="46" y="778"/>
                    </a:lnTo>
                    <a:lnTo>
                      <a:pt x="46" y="789"/>
                    </a:lnTo>
                    <a:lnTo>
                      <a:pt x="46" y="800"/>
                    </a:lnTo>
                    <a:lnTo>
                      <a:pt x="57" y="800"/>
                    </a:lnTo>
                    <a:lnTo>
                      <a:pt x="57" y="812"/>
                    </a:lnTo>
                    <a:lnTo>
                      <a:pt x="70" y="812"/>
                    </a:lnTo>
                    <a:lnTo>
                      <a:pt x="70" y="824"/>
                    </a:lnTo>
                    <a:lnTo>
                      <a:pt x="80" y="824"/>
                    </a:lnTo>
                    <a:lnTo>
                      <a:pt x="92" y="847"/>
                    </a:lnTo>
                    <a:lnTo>
                      <a:pt x="115" y="836"/>
                    </a:lnTo>
                    <a:lnTo>
                      <a:pt x="127" y="824"/>
                    </a:lnTo>
                    <a:lnTo>
                      <a:pt x="150" y="789"/>
                    </a:lnTo>
                    <a:lnTo>
                      <a:pt x="162" y="766"/>
                    </a:lnTo>
                    <a:lnTo>
                      <a:pt x="185" y="743"/>
                    </a:lnTo>
                    <a:lnTo>
                      <a:pt x="219" y="731"/>
                    </a:lnTo>
                    <a:lnTo>
                      <a:pt x="243" y="731"/>
                    </a:lnTo>
                    <a:lnTo>
                      <a:pt x="347" y="592"/>
                    </a:lnTo>
                    <a:lnTo>
                      <a:pt x="566" y="522"/>
                    </a:lnTo>
                    <a:lnTo>
                      <a:pt x="578" y="522"/>
                    </a:lnTo>
                    <a:lnTo>
                      <a:pt x="578" y="511"/>
                    </a:lnTo>
                    <a:lnTo>
                      <a:pt x="590" y="511"/>
                    </a:lnTo>
                    <a:lnTo>
                      <a:pt x="590" y="498"/>
                    </a:lnTo>
                    <a:lnTo>
                      <a:pt x="602" y="488"/>
                    </a:lnTo>
                    <a:lnTo>
                      <a:pt x="602" y="476"/>
                    </a:lnTo>
                    <a:lnTo>
                      <a:pt x="602" y="464"/>
                    </a:lnTo>
                    <a:lnTo>
                      <a:pt x="602" y="452"/>
                    </a:lnTo>
                    <a:lnTo>
                      <a:pt x="602" y="441"/>
                    </a:lnTo>
                    <a:lnTo>
                      <a:pt x="728" y="360"/>
                    </a:lnTo>
                    <a:lnTo>
                      <a:pt x="740" y="360"/>
                    </a:lnTo>
                    <a:lnTo>
                      <a:pt x="752" y="360"/>
                    </a:lnTo>
                    <a:lnTo>
                      <a:pt x="763" y="372"/>
                    </a:lnTo>
                    <a:lnTo>
                      <a:pt x="776" y="372"/>
                    </a:lnTo>
                    <a:lnTo>
                      <a:pt x="776" y="360"/>
                    </a:lnTo>
                    <a:lnTo>
                      <a:pt x="786" y="360"/>
                    </a:lnTo>
                    <a:lnTo>
                      <a:pt x="786" y="348"/>
                    </a:lnTo>
                    <a:lnTo>
                      <a:pt x="786" y="336"/>
                    </a:lnTo>
                    <a:lnTo>
                      <a:pt x="776" y="325"/>
                    </a:lnTo>
                    <a:lnTo>
                      <a:pt x="718" y="314"/>
                    </a:lnTo>
                    <a:lnTo>
                      <a:pt x="683" y="256"/>
                    </a:lnTo>
                    <a:lnTo>
                      <a:pt x="683" y="244"/>
                    </a:lnTo>
                    <a:lnTo>
                      <a:pt x="683" y="233"/>
                    </a:lnTo>
                    <a:lnTo>
                      <a:pt x="683" y="220"/>
                    </a:lnTo>
                    <a:lnTo>
                      <a:pt x="683" y="209"/>
                    </a:lnTo>
                    <a:lnTo>
                      <a:pt x="670" y="209"/>
                    </a:lnTo>
                    <a:lnTo>
                      <a:pt x="683" y="197"/>
                    </a:lnTo>
                    <a:lnTo>
                      <a:pt x="683" y="186"/>
                    </a:lnTo>
                    <a:lnTo>
                      <a:pt x="683" y="175"/>
                    </a:lnTo>
                    <a:lnTo>
                      <a:pt x="670" y="175"/>
                    </a:lnTo>
                    <a:lnTo>
                      <a:pt x="670" y="151"/>
                    </a:lnTo>
                    <a:lnTo>
                      <a:pt x="670" y="140"/>
                    </a:lnTo>
                    <a:lnTo>
                      <a:pt x="670" y="128"/>
                    </a:lnTo>
                    <a:lnTo>
                      <a:pt x="683" y="104"/>
                    </a:lnTo>
                    <a:lnTo>
                      <a:pt x="694" y="93"/>
                    </a:lnTo>
                    <a:lnTo>
                      <a:pt x="694" y="70"/>
                    </a:lnTo>
                    <a:lnTo>
                      <a:pt x="705" y="59"/>
                    </a:lnTo>
                    <a:lnTo>
                      <a:pt x="694" y="35"/>
                    </a:lnTo>
                    <a:lnTo>
                      <a:pt x="694" y="24"/>
                    </a:lnTo>
                    <a:lnTo>
                      <a:pt x="683" y="24"/>
                    </a:lnTo>
                    <a:lnTo>
                      <a:pt x="683" y="12"/>
                    </a:lnTo>
                    <a:lnTo>
                      <a:pt x="670" y="12"/>
                    </a:lnTo>
                    <a:lnTo>
                      <a:pt x="660" y="12"/>
                    </a:lnTo>
                    <a:lnTo>
                      <a:pt x="6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127320" y="4289400"/>
                <a:ext cx="243000" cy="101520"/>
              </a:xfrm>
              <a:custGeom>
                <a:avLst/>
                <a:gdLst/>
                <a:ahLst/>
                <a:rect l="l" t="t" r="r" b="b"/>
                <a:pathLst>
                  <a:path w="614" h="256">
                    <a:moveTo>
                      <a:pt x="82" y="256"/>
                    </a:moveTo>
                    <a:lnTo>
                      <a:pt x="70" y="210"/>
                    </a:lnTo>
                    <a:lnTo>
                      <a:pt x="59" y="198"/>
                    </a:lnTo>
                    <a:lnTo>
                      <a:pt x="47" y="198"/>
                    </a:lnTo>
                    <a:lnTo>
                      <a:pt x="36" y="198"/>
                    </a:lnTo>
                    <a:lnTo>
                      <a:pt x="24" y="198"/>
                    </a:lnTo>
                    <a:lnTo>
                      <a:pt x="12" y="198"/>
                    </a:lnTo>
                    <a:lnTo>
                      <a:pt x="0" y="187"/>
                    </a:lnTo>
                    <a:lnTo>
                      <a:pt x="0" y="175"/>
                    </a:lnTo>
                    <a:lnTo>
                      <a:pt x="0" y="163"/>
                    </a:lnTo>
                    <a:lnTo>
                      <a:pt x="0" y="153"/>
                    </a:lnTo>
                    <a:lnTo>
                      <a:pt x="36" y="117"/>
                    </a:lnTo>
                    <a:lnTo>
                      <a:pt x="70" y="140"/>
                    </a:lnTo>
                    <a:lnTo>
                      <a:pt x="117" y="153"/>
                    </a:lnTo>
                    <a:lnTo>
                      <a:pt x="174" y="222"/>
                    </a:lnTo>
                    <a:lnTo>
                      <a:pt x="186" y="140"/>
                    </a:lnTo>
                    <a:lnTo>
                      <a:pt x="186" y="129"/>
                    </a:lnTo>
                    <a:lnTo>
                      <a:pt x="197" y="129"/>
                    </a:lnTo>
                    <a:lnTo>
                      <a:pt x="210" y="117"/>
                    </a:lnTo>
                    <a:lnTo>
                      <a:pt x="220" y="117"/>
                    </a:lnTo>
                    <a:lnTo>
                      <a:pt x="232" y="117"/>
                    </a:lnTo>
                    <a:lnTo>
                      <a:pt x="232" y="105"/>
                    </a:lnTo>
                    <a:lnTo>
                      <a:pt x="244" y="105"/>
                    </a:lnTo>
                    <a:lnTo>
                      <a:pt x="267" y="0"/>
                    </a:lnTo>
                    <a:lnTo>
                      <a:pt x="335" y="13"/>
                    </a:lnTo>
                    <a:lnTo>
                      <a:pt x="335" y="24"/>
                    </a:lnTo>
                    <a:lnTo>
                      <a:pt x="335" y="37"/>
                    </a:lnTo>
                    <a:lnTo>
                      <a:pt x="335" y="47"/>
                    </a:lnTo>
                    <a:lnTo>
                      <a:pt x="335" y="58"/>
                    </a:lnTo>
                    <a:lnTo>
                      <a:pt x="335" y="71"/>
                    </a:lnTo>
                    <a:lnTo>
                      <a:pt x="348" y="71"/>
                    </a:lnTo>
                    <a:lnTo>
                      <a:pt x="348" y="82"/>
                    </a:lnTo>
                    <a:lnTo>
                      <a:pt x="359" y="82"/>
                    </a:lnTo>
                    <a:lnTo>
                      <a:pt x="372" y="95"/>
                    </a:lnTo>
                    <a:lnTo>
                      <a:pt x="372" y="105"/>
                    </a:lnTo>
                    <a:lnTo>
                      <a:pt x="383" y="117"/>
                    </a:lnTo>
                    <a:lnTo>
                      <a:pt x="383" y="129"/>
                    </a:lnTo>
                    <a:lnTo>
                      <a:pt x="393" y="153"/>
                    </a:lnTo>
                    <a:lnTo>
                      <a:pt x="406" y="163"/>
                    </a:lnTo>
                    <a:lnTo>
                      <a:pt x="417" y="175"/>
                    </a:lnTo>
                    <a:lnTo>
                      <a:pt x="429" y="187"/>
                    </a:lnTo>
                    <a:lnTo>
                      <a:pt x="441" y="198"/>
                    </a:lnTo>
                    <a:lnTo>
                      <a:pt x="453" y="187"/>
                    </a:lnTo>
                    <a:lnTo>
                      <a:pt x="463" y="187"/>
                    </a:lnTo>
                    <a:lnTo>
                      <a:pt x="463" y="175"/>
                    </a:lnTo>
                    <a:lnTo>
                      <a:pt x="463" y="163"/>
                    </a:lnTo>
                    <a:lnTo>
                      <a:pt x="463" y="153"/>
                    </a:lnTo>
                    <a:lnTo>
                      <a:pt x="475" y="140"/>
                    </a:lnTo>
                    <a:lnTo>
                      <a:pt x="487" y="129"/>
                    </a:lnTo>
                    <a:lnTo>
                      <a:pt x="499" y="117"/>
                    </a:lnTo>
                    <a:lnTo>
                      <a:pt x="521" y="117"/>
                    </a:lnTo>
                    <a:lnTo>
                      <a:pt x="533" y="117"/>
                    </a:lnTo>
                    <a:lnTo>
                      <a:pt x="545" y="117"/>
                    </a:lnTo>
                    <a:lnTo>
                      <a:pt x="556" y="129"/>
                    </a:lnTo>
                    <a:lnTo>
                      <a:pt x="579" y="129"/>
                    </a:lnTo>
                    <a:lnTo>
                      <a:pt x="590" y="140"/>
                    </a:lnTo>
                    <a:lnTo>
                      <a:pt x="603" y="140"/>
                    </a:lnTo>
                    <a:lnTo>
                      <a:pt x="614" y="153"/>
                    </a:lnTo>
                    <a:lnTo>
                      <a:pt x="614" y="163"/>
                    </a:lnTo>
                    <a:lnTo>
                      <a:pt x="603" y="163"/>
                    </a:lnTo>
                    <a:lnTo>
                      <a:pt x="603" y="175"/>
                    </a:lnTo>
                    <a:lnTo>
                      <a:pt x="590" y="175"/>
                    </a:lnTo>
                    <a:lnTo>
                      <a:pt x="590" y="187"/>
                    </a:lnTo>
                    <a:lnTo>
                      <a:pt x="579" y="187"/>
                    </a:lnTo>
                    <a:lnTo>
                      <a:pt x="569" y="187"/>
                    </a:lnTo>
                    <a:lnTo>
                      <a:pt x="556" y="187"/>
                    </a:lnTo>
                    <a:lnTo>
                      <a:pt x="545" y="19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297240" y="4368960"/>
                <a:ext cx="73080" cy="155520"/>
              </a:xfrm>
              <a:custGeom>
                <a:avLst/>
                <a:gdLst/>
                <a:ahLst/>
                <a:rect l="l" t="t" r="r" b="b"/>
                <a:pathLst>
                  <a:path w="185" h="394">
                    <a:moveTo>
                      <a:pt x="116" y="0"/>
                    </a:moveTo>
                    <a:lnTo>
                      <a:pt x="104" y="0"/>
                    </a:lnTo>
                    <a:lnTo>
                      <a:pt x="150" y="93"/>
                    </a:lnTo>
                    <a:lnTo>
                      <a:pt x="140" y="104"/>
                    </a:lnTo>
                    <a:lnTo>
                      <a:pt x="127" y="93"/>
                    </a:lnTo>
                    <a:lnTo>
                      <a:pt x="116" y="93"/>
                    </a:lnTo>
                    <a:lnTo>
                      <a:pt x="104" y="70"/>
                    </a:lnTo>
                    <a:lnTo>
                      <a:pt x="92" y="70"/>
                    </a:lnTo>
                    <a:lnTo>
                      <a:pt x="82" y="58"/>
                    </a:lnTo>
                    <a:lnTo>
                      <a:pt x="70" y="58"/>
                    </a:lnTo>
                    <a:lnTo>
                      <a:pt x="58" y="58"/>
                    </a:lnTo>
                    <a:lnTo>
                      <a:pt x="46" y="58"/>
                    </a:lnTo>
                    <a:lnTo>
                      <a:pt x="34" y="70"/>
                    </a:lnTo>
                    <a:lnTo>
                      <a:pt x="24" y="70"/>
                    </a:lnTo>
                    <a:lnTo>
                      <a:pt x="24" y="82"/>
                    </a:lnTo>
                    <a:lnTo>
                      <a:pt x="12" y="82"/>
                    </a:lnTo>
                    <a:lnTo>
                      <a:pt x="24" y="93"/>
                    </a:lnTo>
                    <a:lnTo>
                      <a:pt x="140" y="151"/>
                    </a:lnTo>
                    <a:lnTo>
                      <a:pt x="185" y="244"/>
                    </a:lnTo>
                    <a:lnTo>
                      <a:pt x="174" y="244"/>
                    </a:lnTo>
                    <a:lnTo>
                      <a:pt x="161" y="244"/>
                    </a:lnTo>
                    <a:lnTo>
                      <a:pt x="150" y="244"/>
                    </a:lnTo>
                    <a:lnTo>
                      <a:pt x="140" y="255"/>
                    </a:lnTo>
                    <a:lnTo>
                      <a:pt x="140" y="267"/>
                    </a:lnTo>
                    <a:lnTo>
                      <a:pt x="150" y="267"/>
                    </a:lnTo>
                    <a:lnTo>
                      <a:pt x="161" y="267"/>
                    </a:lnTo>
                    <a:lnTo>
                      <a:pt x="161" y="278"/>
                    </a:lnTo>
                    <a:lnTo>
                      <a:pt x="174" y="278"/>
                    </a:lnTo>
                    <a:lnTo>
                      <a:pt x="174" y="291"/>
                    </a:lnTo>
                    <a:lnTo>
                      <a:pt x="174" y="302"/>
                    </a:lnTo>
                    <a:lnTo>
                      <a:pt x="161" y="302"/>
                    </a:lnTo>
                    <a:lnTo>
                      <a:pt x="150" y="302"/>
                    </a:lnTo>
                    <a:lnTo>
                      <a:pt x="140" y="302"/>
                    </a:lnTo>
                    <a:lnTo>
                      <a:pt x="127" y="302"/>
                    </a:lnTo>
                    <a:lnTo>
                      <a:pt x="150" y="383"/>
                    </a:lnTo>
                    <a:lnTo>
                      <a:pt x="140" y="383"/>
                    </a:lnTo>
                    <a:lnTo>
                      <a:pt x="127" y="394"/>
                    </a:lnTo>
                    <a:lnTo>
                      <a:pt x="70" y="383"/>
                    </a:lnTo>
                    <a:lnTo>
                      <a:pt x="58" y="383"/>
                    </a:lnTo>
                    <a:lnTo>
                      <a:pt x="58" y="372"/>
                    </a:lnTo>
                    <a:lnTo>
                      <a:pt x="58" y="360"/>
                    </a:lnTo>
                    <a:lnTo>
                      <a:pt x="58" y="349"/>
                    </a:lnTo>
                    <a:lnTo>
                      <a:pt x="58" y="336"/>
                    </a:lnTo>
                    <a:lnTo>
                      <a:pt x="46" y="336"/>
                    </a:lnTo>
                    <a:lnTo>
                      <a:pt x="34" y="336"/>
                    </a:lnTo>
                    <a:lnTo>
                      <a:pt x="24" y="336"/>
                    </a:lnTo>
                    <a:lnTo>
                      <a:pt x="12" y="336"/>
                    </a:lnTo>
                    <a:lnTo>
                      <a:pt x="0" y="349"/>
                    </a:lnTo>
                    <a:lnTo>
                      <a:pt x="0" y="3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297240" y="4511520"/>
                <a:ext cx="237960" cy="271440"/>
              </a:xfrm>
              <a:custGeom>
                <a:avLst/>
                <a:gdLst/>
                <a:ahLst/>
                <a:rect l="l" t="t" r="r" b="b"/>
                <a:pathLst>
                  <a:path w="602" h="684">
                    <a:moveTo>
                      <a:pt x="0" y="0"/>
                    </a:moveTo>
                    <a:lnTo>
                      <a:pt x="0" y="12"/>
                    </a:lnTo>
                    <a:lnTo>
                      <a:pt x="0" y="23"/>
                    </a:lnTo>
                    <a:lnTo>
                      <a:pt x="0" y="34"/>
                    </a:lnTo>
                    <a:lnTo>
                      <a:pt x="12" y="46"/>
                    </a:lnTo>
                    <a:lnTo>
                      <a:pt x="46" y="70"/>
                    </a:lnTo>
                    <a:lnTo>
                      <a:pt x="70" y="104"/>
                    </a:lnTo>
                    <a:lnTo>
                      <a:pt x="82" y="116"/>
                    </a:lnTo>
                    <a:lnTo>
                      <a:pt x="92" y="128"/>
                    </a:lnTo>
                    <a:lnTo>
                      <a:pt x="116" y="128"/>
                    </a:lnTo>
                    <a:lnTo>
                      <a:pt x="140" y="139"/>
                    </a:lnTo>
                    <a:lnTo>
                      <a:pt x="150" y="150"/>
                    </a:lnTo>
                    <a:lnTo>
                      <a:pt x="174" y="162"/>
                    </a:lnTo>
                    <a:lnTo>
                      <a:pt x="185" y="174"/>
                    </a:lnTo>
                    <a:lnTo>
                      <a:pt x="197" y="196"/>
                    </a:lnTo>
                    <a:lnTo>
                      <a:pt x="197" y="209"/>
                    </a:lnTo>
                    <a:lnTo>
                      <a:pt x="208" y="209"/>
                    </a:lnTo>
                    <a:lnTo>
                      <a:pt x="208" y="220"/>
                    </a:lnTo>
                    <a:lnTo>
                      <a:pt x="220" y="244"/>
                    </a:lnTo>
                    <a:lnTo>
                      <a:pt x="232" y="254"/>
                    </a:lnTo>
                    <a:lnTo>
                      <a:pt x="243" y="267"/>
                    </a:lnTo>
                    <a:lnTo>
                      <a:pt x="266" y="278"/>
                    </a:lnTo>
                    <a:lnTo>
                      <a:pt x="278" y="290"/>
                    </a:lnTo>
                    <a:lnTo>
                      <a:pt x="301" y="302"/>
                    </a:lnTo>
                    <a:lnTo>
                      <a:pt x="313" y="312"/>
                    </a:lnTo>
                    <a:lnTo>
                      <a:pt x="336" y="325"/>
                    </a:lnTo>
                    <a:lnTo>
                      <a:pt x="417" y="464"/>
                    </a:lnTo>
                    <a:lnTo>
                      <a:pt x="509" y="498"/>
                    </a:lnTo>
                    <a:lnTo>
                      <a:pt x="521" y="498"/>
                    </a:lnTo>
                    <a:lnTo>
                      <a:pt x="533" y="487"/>
                    </a:lnTo>
                    <a:lnTo>
                      <a:pt x="544" y="487"/>
                    </a:lnTo>
                    <a:lnTo>
                      <a:pt x="555" y="487"/>
                    </a:lnTo>
                    <a:lnTo>
                      <a:pt x="567" y="498"/>
                    </a:lnTo>
                    <a:lnTo>
                      <a:pt x="578" y="510"/>
                    </a:lnTo>
                    <a:lnTo>
                      <a:pt x="591" y="522"/>
                    </a:lnTo>
                    <a:lnTo>
                      <a:pt x="602" y="556"/>
                    </a:lnTo>
                    <a:lnTo>
                      <a:pt x="591" y="580"/>
                    </a:lnTo>
                    <a:lnTo>
                      <a:pt x="591" y="614"/>
                    </a:lnTo>
                    <a:lnTo>
                      <a:pt x="578" y="638"/>
                    </a:lnTo>
                    <a:lnTo>
                      <a:pt x="567" y="649"/>
                    </a:lnTo>
                    <a:lnTo>
                      <a:pt x="567" y="672"/>
                    </a:lnTo>
                    <a:lnTo>
                      <a:pt x="555" y="684"/>
                    </a:lnTo>
                    <a:lnTo>
                      <a:pt x="544" y="684"/>
                    </a:lnTo>
                    <a:lnTo>
                      <a:pt x="533" y="684"/>
                    </a:lnTo>
                    <a:lnTo>
                      <a:pt x="533" y="672"/>
                    </a:lnTo>
                    <a:lnTo>
                      <a:pt x="533" y="662"/>
                    </a:lnTo>
                    <a:lnTo>
                      <a:pt x="533" y="649"/>
                    </a:lnTo>
                    <a:lnTo>
                      <a:pt x="521" y="649"/>
                    </a:lnTo>
                    <a:lnTo>
                      <a:pt x="475" y="614"/>
                    </a:lnTo>
                    <a:lnTo>
                      <a:pt x="451" y="614"/>
                    </a:lnTo>
                    <a:lnTo>
                      <a:pt x="429" y="614"/>
                    </a:lnTo>
                    <a:lnTo>
                      <a:pt x="394" y="614"/>
                    </a:lnTo>
                    <a:lnTo>
                      <a:pt x="371" y="614"/>
                    </a:lnTo>
                    <a:lnTo>
                      <a:pt x="347" y="614"/>
                    </a:lnTo>
                    <a:lnTo>
                      <a:pt x="323" y="604"/>
                    </a:lnTo>
                    <a:lnTo>
                      <a:pt x="301" y="592"/>
                    </a:lnTo>
                    <a:lnTo>
                      <a:pt x="289" y="580"/>
                    </a:lnTo>
                    <a:lnTo>
                      <a:pt x="278" y="556"/>
                    </a:lnTo>
                    <a:lnTo>
                      <a:pt x="266" y="545"/>
                    </a:lnTo>
                    <a:lnTo>
                      <a:pt x="255" y="522"/>
                    </a:lnTo>
                    <a:lnTo>
                      <a:pt x="243" y="498"/>
                    </a:lnTo>
                    <a:lnTo>
                      <a:pt x="232" y="487"/>
                    </a:lnTo>
                    <a:lnTo>
                      <a:pt x="208" y="476"/>
                    </a:lnTo>
                    <a:lnTo>
                      <a:pt x="197" y="464"/>
                    </a:lnTo>
                    <a:lnTo>
                      <a:pt x="174" y="452"/>
                    </a:lnTo>
                    <a:lnTo>
                      <a:pt x="161" y="452"/>
                    </a:lnTo>
                    <a:lnTo>
                      <a:pt x="150" y="452"/>
                    </a:lnTo>
                    <a:lnTo>
                      <a:pt x="140" y="441"/>
                    </a:lnTo>
                    <a:lnTo>
                      <a:pt x="127" y="441"/>
                    </a:lnTo>
                    <a:lnTo>
                      <a:pt x="127" y="429"/>
                    </a:lnTo>
                    <a:lnTo>
                      <a:pt x="116" y="429"/>
                    </a:lnTo>
                    <a:lnTo>
                      <a:pt x="104" y="429"/>
                    </a:lnTo>
                    <a:lnTo>
                      <a:pt x="92" y="429"/>
                    </a:lnTo>
                    <a:lnTo>
                      <a:pt x="82" y="429"/>
                    </a:lnTo>
                    <a:lnTo>
                      <a:pt x="70" y="429"/>
                    </a:lnTo>
                    <a:lnTo>
                      <a:pt x="70" y="441"/>
                    </a:lnTo>
                    <a:lnTo>
                      <a:pt x="92" y="545"/>
                    </a:lnTo>
                    <a:lnTo>
                      <a:pt x="92" y="556"/>
                    </a:lnTo>
                    <a:lnTo>
                      <a:pt x="82" y="568"/>
                    </a:lnTo>
                    <a:lnTo>
                      <a:pt x="70" y="592"/>
                    </a:lnTo>
                    <a:lnTo>
                      <a:pt x="70" y="604"/>
                    </a:lnTo>
                    <a:lnTo>
                      <a:pt x="58" y="614"/>
                    </a:lnTo>
                    <a:lnTo>
                      <a:pt x="58" y="638"/>
                    </a:lnTo>
                    <a:lnTo>
                      <a:pt x="58" y="649"/>
                    </a:lnTo>
                    <a:lnTo>
                      <a:pt x="70" y="6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241800" y="4778280"/>
                <a:ext cx="123840" cy="409680"/>
              </a:xfrm>
              <a:custGeom>
                <a:avLst/>
                <a:gdLst/>
                <a:ahLst/>
                <a:rect l="l" t="t" r="r" b="b"/>
                <a:pathLst>
                  <a:path w="313" h="1033">
                    <a:moveTo>
                      <a:pt x="209" y="0"/>
                    </a:moveTo>
                    <a:lnTo>
                      <a:pt x="221" y="12"/>
                    </a:lnTo>
                    <a:lnTo>
                      <a:pt x="231" y="24"/>
                    </a:lnTo>
                    <a:lnTo>
                      <a:pt x="243" y="24"/>
                    </a:lnTo>
                    <a:lnTo>
                      <a:pt x="255" y="48"/>
                    </a:lnTo>
                    <a:lnTo>
                      <a:pt x="255" y="58"/>
                    </a:lnTo>
                    <a:lnTo>
                      <a:pt x="255" y="69"/>
                    </a:lnTo>
                    <a:lnTo>
                      <a:pt x="255" y="82"/>
                    </a:lnTo>
                    <a:lnTo>
                      <a:pt x="255" y="116"/>
                    </a:lnTo>
                    <a:lnTo>
                      <a:pt x="266" y="140"/>
                    </a:lnTo>
                    <a:lnTo>
                      <a:pt x="279" y="164"/>
                    </a:lnTo>
                    <a:lnTo>
                      <a:pt x="289" y="198"/>
                    </a:lnTo>
                    <a:lnTo>
                      <a:pt x="300" y="222"/>
                    </a:lnTo>
                    <a:lnTo>
                      <a:pt x="313" y="244"/>
                    </a:lnTo>
                    <a:lnTo>
                      <a:pt x="313" y="267"/>
                    </a:lnTo>
                    <a:lnTo>
                      <a:pt x="313" y="302"/>
                    </a:lnTo>
                    <a:lnTo>
                      <a:pt x="300" y="314"/>
                    </a:lnTo>
                    <a:lnTo>
                      <a:pt x="289" y="337"/>
                    </a:lnTo>
                    <a:lnTo>
                      <a:pt x="279" y="371"/>
                    </a:lnTo>
                    <a:lnTo>
                      <a:pt x="279" y="395"/>
                    </a:lnTo>
                    <a:lnTo>
                      <a:pt x="279" y="429"/>
                    </a:lnTo>
                    <a:lnTo>
                      <a:pt x="279" y="465"/>
                    </a:lnTo>
                    <a:lnTo>
                      <a:pt x="279" y="487"/>
                    </a:lnTo>
                    <a:lnTo>
                      <a:pt x="266" y="524"/>
                    </a:lnTo>
                    <a:lnTo>
                      <a:pt x="279" y="569"/>
                    </a:lnTo>
                    <a:lnTo>
                      <a:pt x="279" y="627"/>
                    </a:lnTo>
                    <a:lnTo>
                      <a:pt x="279" y="673"/>
                    </a:lnTo>
                    <a:lnTo>
                      <a:pt x="279" y="731"/>
                    </a:lnTo>
                    <a:lnTo>
                      <a:pt x="279" y="778"/>
                    </a:lnTo>
                    <a:lnTo>
                      <a:pt x="279" y="823"/>
                    </a:lnTo>
                    <a:lnTo>
                      <a:pt x="289" y="882"/>
                    </a:lnTo>
                    <a:lnTo>
                      <a:pt x="313" y="929"/>
                    </a:lnTo>
                    <a:lnTo>
                      <a:pt x="313" y="940"/>
                    </a:lnTo>
                    <a:lnTo>
                      <a:pt x="313" y="952"/>
                    </a:lnTo>
                    <a:lnTo>
                      <a:pt x="313" y="963"/>
                    </a:lnTo>
                    <a:lnTo>
                      <a:pt x="313" y="975"/>
                    </a:lnTo>
                    <a:lnTo>
                      <a:pt x="313" y="987"/>
                    </a:lnTo>
                    <a:lnTo>
                      <a:pt x="313" y="998"/>
                    </a:lnTo>
                    <a:lnTo>
                      <a:pt x="300" y="998"/>
                    </a:lnTo>
                    <a:lnTo>
                      <a:pt x="289" y="998"/>
                    </a:lnTo>
                    <a:lnTo>
                      <a:pt x="279" y="1010"/>
                    </a:lnTo>
                    <a:lnTo>
                      <a:pt x="266" y="1010"/>
                    </a:lnTo>
                    <a:lnTo>
                      <a:pt x="151" y="1021"/>
                    </a:lnTo>
                    <a:lnTo>
                      <a:pt x="139" y="1010"/>
                    </a:lnTo>
                    <a:lnTo>
                      <a:pt x="127" y="1010"/>
                    </a:lnTo>
                    <a:lnTo>
                      <a:pt x="103" y="1010"/>
                    </a:lnTo>
                    <a:lnTo>
                      <a:pt x="93" y="1010"/>
                    </a:lnTo>
                    <a:lnTo>
                      <a:pt x="82" y="1010"/>
                    </a:lnTo>
                    <a:lnTo>
                      <a:pt x="69" y="1021"/>
                    </a:lnTo>
                    <a:lnTo>
                      <a:pt x="58" y="1021"/>
                    </a:lnTo>
                    <a:lnTo>
                      <a:pt x="45" y="1033"/>
                    </a:lnTo>
                    <a:lnTo>
                      <a:pt x="11" y="1021"/>
                    </a:lnTo>
                    <a:lnTo>
                      <a:pt x="11" y="1010"/>
                    </a:lnTo>
                    <a:lnTo>
                      <a:pt x="11" y="998"/>
                    </a:lnTo>
                    <a:lnTo>
                      <a:pt x="24" y="987"/>
                    </a:lnTo>
                    <a:lnTo>
                      <a:pt x="35" y="975"/>
                    </a:lnTo>
                    <a:lnTo>
                      <a:pt x="45" y="963"/>
                    </a:lnTo>
                    <a:lnTo>
                      <a:pt x="58" y="952"/>
                    </a:lnTo>
                    <a:lnTo>
                      <a:pt x="69" y="940"/>
                    </a:lnTo>
                    <a:lnTo>
                      <a:pt x="82" y="929"/>
                    </a:lnTo>
                    <a:lnTo>
                      <a:pt x="103" y="917"/>
                    </a:lnTo>
                    <a:lnTo>
                      <a:pt x="103" y="894"/>
                    </a:lnTo>
                    <a:lnTo>
                      <a:pt x="116" y="882"/>
                    </a:lnTo>
                    <a:lnTo>
                      <a:pt x="103" y="859"/>
                    </a:lnTo>
                    <a:lnTo>
                      <a:pt x="103" y="847"/>
                    </a:lnTo>
                    <a:lnTo>
                      <a:pt x="93" y="836"/>
                    </a:lnTo>
                    <a:lnTo>
                      <a:pt x="69" y="823"/>
                    </a:lnTo>
                    <a:lnTo>
                      <a:pt x="58" y="813"/>
                    </a:lnTo>
                    <a:lnTo>
                      <a:pt x="58" y="801"/>
                    </a:lnTo>
                    <a:lnTo>
                      <a:pt x="45" y="778"/>
                    </a:lnTo>
                    <a:lnTo>
                      <a:pt x="45" y="766"/>
                    </a:lnTo>
                    <a:lnTo>
                      <a:pt x="58" y="708"/>
                    </a:lnTo>
                    <a:lnTo>
                      <a:pt x="58" y="661"/>
                    </a:lnTo>
                    <a:lnTo>
                      <a:pt x="58" y="616"/>
                    </a:lnTo>
                    <a:lnTo>
                      <a:pt x="58" y="569"/>
                    </a:lnTo>
                    <a:lnTo>
                      <a:pt x="45" y="524"/>
                    </a:lnTo>
                    <a:lnTo>
                      <a:pt x="45" y="476"/>
                    </a:lnTo>
                    <a:lnTo>
                      <a:pt x="35" y="429"/>
                    </a:lnTo>
                    <a:lnTo>
                      <a:pt x="35" y="371"/>
                    </a:lnTo>
                    <a:lnTo>
                      <a:pt x="35" y="360"/>
                    </a:lnTo>
                    <a:lnTo>
                      <a:pt x="24" y="349"/>
                    </a:lnTo>
                    <a:lnTo>
                      <a:pt x="24" y="337"/>
                    </a:lnTo>
                    <a:lnTo>
                      <a:pt x="24" y="326"/>
                    </a:lnTo>
                    <a:lnTo>
                      <a:pt x="11" y="314"/>
                    </a:lnTo>
                    <a:lnTo>
                      <a:pt x="0" y="291"/>
                    </a:lnTo>
                    <a:lnTo>
                      <a:pt x="0" y="279"/>
                    </a:lnTo>
                    <a:lnTo>
                      <a:pt x="0" y="2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962440" y="4865760"/>
                <a:ext cx="279360" cy="258840"/>
              </a:xfrm>
              <a:custGeom>
                <a:avLst/>
                <a:gdLst/>
                <a:ahLst/>
                <a:rect l="l" t="t" r="r" b="b"/>
                <a:pathLst>
                  <a:path w="706" h="649">
                    <a:moveTo>
                      <a:pt x="706" y="45"/>
                    </a:moveTo>
                    <a:lnTo>
                      <a:pt x="706" y="34"/>
                    </a:lnTo>
                    <a:lnTo>
                      <a:pt x="694" y="34"/>
                    </a:lnTo>
                    <a:lnTo>
                      <a:pt x="694" y="22"/>
                    </a:lnTo>
                    <a:lnTo>
                      <a:pt x="683" y="22"/>
                    </a:lnTo>
                    <a:lnTo>
                      <a:pt x="672" y="22"/>
                    </a:lnTo>
                    <a:lnTo>
                      <a:pt x="660" y="22"/>
                    </a:lnTo>
                    <a:lnTo>
                      <a:pt x="660" y="34"/>
                    </a:lnTo>
                    <a:lnTo>
                      <a:pt x="636" y="80"/>
                    </a:lnTo>
                    <a:lnTo>
                      <a:pt x="602" y="80"/>
                    </a:lnTo>
                    <a:lnTo>
                      <a:pt x="568" y="80"/>
                    </a:lnTo>
                    <a:lnTo>
                      <a:pt x="544" y="92"/>
                    </a:lnTo>
                    <a:lnTo>
                      <a:pt x="510" y="92"/>
                    </a:lnTo>
                    <a:lnTo>
                      <a:pt x="475" y="92"/>
                    </a:lnTo>
                    <a:lnTo>
                      <a:pt x="440" y="104"/>
                    </a:lnTo>
                    <a:lnTo>
                      <a:pt x="416" y="115"/>
                    </a:lnTo>
                    <a:lnTo>
                      <a:pt x="394" y="138"/>
                    </a:lnTo>
                    <a:lnTo>
                      <a:pt x="382" y="138"/>
                    </a:lnTo>
                    <a:lnTo>
                      <a:pt x="382" y="149"/>
                    </a:lnTo>
                    <a:lnTo>
                      <a:pt x="382" y="162"/>
                    </a:lnTo>
                    <a:lnTo>
                      <a:pt x="382" y="173"/>
                    </a:lnTo>
                    <a:lnTo>
                      <a:pt x="371" y="173"/>
                    </a:lnTo>
                    <a:lnTo>
                      <a:pt x="371" y="185"/>
                    </a:lnTo>
                    <a:lnTo>
                      <a:pt x="347" y="196"/>
                    </a:lnTo>
                    <a:lnTo>
                      <a:pt x="324" y="220"/>
                    </a:lnTo>
                    <a:lnTo>
                      <a:pt x="300" y="243"/>
                    </a:lnTo>
                    <a:lnTo>
                      <a:pt x="289" y="265"/>
                    </a:lnTo>
                    <a:lnTo>
                      <a:pt x="279" y="302"/>
                    </a:lnTo>
                    <a:lnTo>
                      <a:pt x="266" y="323"/>
                    </a:lnTo>
                    <a:lnTo>
                      <a:pt x="255" y="359"/>
                    </a:lnTo>
                    <a:lnTo>
                      <a:pt x="243" y="381"/>
                    </a:lnTo>
                    <a:lnTo>
                      <a:pt x="255" y="567"/>
                    </a:lnTo>
                    <a:lnTo>
                      <a:pt x="279" y="614"/>
                    </a:lnTo>
                    <a:lnTo>
                      <a:pt x="279" y="625"/>
                    </a:lnTo>
                    <a:lnTo>
                      <a:pt x="279" y="637"/>
                    </a:lnTo>
                    <a:lnTo>
                      <a:pt x="266" y="637"/>
                    </a:lnTo>
                    <a:lnTo>
                      <a:pt x="266" y="649"/>
                    </a:lnTo>
                    <a:lnTo>
                      <a:pt x="255" y="649"/>
                    </a:lnTo>
                    <a:lnTo>
                      <a:pt x="243" y="649"/>
                    </a:lnTo>
                    <a:lnTo>
                      <a:pt x="219" y="649"/>
                    </a:lnTo>
                    <a:lnTo>
                      <a:pt x="209" y="649"/>
                    </a:lnTo>
                    <a:lnTo>
                      <a:pt x="197" y="649"/>
                    </a:lnTo>
                    <a:lnTo>
                      <a:pt x="185" y="637"/>
                    </a:lnTo>
                    <a:lnTo>
                      <a:pt x="174" y="637"/>
                    </a:lnTo>
                    <a:lnTo>
                      <a:pt x="161" y="625"/>
                    </a:lnTo>
                    <a:lnTo>
                      <a:pt x="151" y="614"/>
                    </a:lnTo>
                    <a:lnTo>
                      <a:pt x="139" y="614"/>
                    </a:lnTo>
                    <a:lnTo>
                      <a:pt x="12" y="601"/>
                    </a:lnTo>
                    <a:lnTo>
                      <a:pt x="0" y="591"/>
                    </a:lnTo>
                    <a:lnTo>
                      <a:pt x="0" y="579"/>
                    </a:lnTo>
                    <a:lnTo>
                      <a:pt x="0" y="567"/>
                    </a:lnTo>
                    <a:lnTo>
                      <a:pt x="0" y="556"/>
                    </a:lnTo>
                    <a:lnTo>
                      <a:pt x="12" y="556"/>
                    </a:lnTo>
                    <a:lnTo>
                      <a:pt x="69" y="521"/>
                    </a:lnTo>
                    <a:lnTo>
                      <a:pt x="69" y="486"/>
                    </a:lnTo>
                    <a:lnTo>
                      <a:pt x="69" y="451"/>
                    </a:lnTo>
                    <a:lnTo>
                      <a:pt x="58" y="417"/>
                    </a:lnTo>
                    <a:lnTo>
                      <a:pt x="58" y="381"/>
                    </a:lnTo>
                    <a:lnTo>
                      <a:pt x="46" y="347"/>
                    </a:lnTo>
                    <a:lnTo>
                      <a:pt x="46" y="312"/>
                    </a:lnTo>
                    <a:lnTo>
                      <a:pt x="58" y="278"/>
                    </a:lnTo>
                    <a:lnTo>
                      <a:pt x="82" y="243"/>
                    </a:lnTo>
                    <a:lnTo>
                      <a:pt x="82" y="220"/>
                    </a:lnTo>
                    <a:lnTo>
                      <a:pt x="93" y="196"/>
                    </a:lnTo>
                    <a:lnTo>
                      <a:pt x="116" y="173"/>
                    </a:lnTo>
                    <a:lnTo>
                      <a:pt x="139" y="162"/>
                    </a:lnTo>
                    <a:lnTo>
                      <a:pt x="161" y="149"/>
                    </a:lnTo>
                    <a:lnTo>
                      <a:pt x="185" y="138"/>
                    </a:lnTo>
                    <a:lnTo>
                      <a:pt x="197" y="115"/>
                    </a:lnTo>
                    <a:lnTo>
                      <a:pt x="209" y="92"/>
                    </a:lnTo>
                    <a:lnTo>
                      <a:pt x="209" y="80"/>
                    </a:lnTo>
                    <a:lnTo>
                      <a:pt x="209" y="69"/>
                    </a:lnTo>
                    <a:lnTo>
                      <a:pt x="209" y="57"/>
                    </a:lnTo>
                    <a:lnTo>
                      <a:pt x="219" y="45"/>
                    </a:lnTo>
                    <a:lnTo>
                      <a:pt x="231" y="22"/>
                    </a:lnTo>
                    <a:lnTo>
                      <a:pt x="255" y="11"/>
                    </a:lnTo>
                    <a:lnTo>
                      <a:pt x="27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892600" y="4662360"/>
                <a:ext cx="276120" cy="203400"/>
              </a:xfrm>
              <a:custGeom>
                <a:avLst/>
                <a:gdLst/>
                <a:ahLst/>
                <a:rect l="l" t="t" r="r" b="b"/>
                <a:pathLst>
                  <a:path w="693" h="511">
                    <a:moveTo>
                      <a:pt x="452" y="511"/>
                    </a:moveTo>
                    <a:lnTo>
                      <a:pt x="462" y="498"/>
                    </a:lnTo>
                    <a:lnTo>
                      <a:pt x="486" y="487"/>
                    </a:lnTo>
                    <a:lnTo>
                      <a:pt x="510" y="487"/>
                    </a:lnTo>
                    <a:lnTo>
                      <a:pt x="544" y="475"/>
                    </a:lnTo>
                    <a:lnTo>
                      <a:pt x="555" y="475"/>
                    </a:lnTo>
                    <a:lnTo>
                      <a:pt x="567" y="475"/>
                    </a:lnTo>
                    <a:lnTo>
                      <a:pt x="589" y="464"/>
                    </a:lnTo>
                    <a:lnTo>
                      <a:pt x="601" y="464"/>
                    </a:lnTo>
                    <a:lnTo>
                      <a:pt x="613" y="453"/>
                    </a:lnTo>
                    <a:lnTo>
                      <a:pt x="625" y="440"/>
                    </a:lnTo>
                    <a:lnTo>
                      <a:pt x="636" y="440"/>
                    </a:lnTo>
                    <a:lnTo>
                      <a:pt x="648" y="429"/>
                    </a:lnTo>
                    <a:lnTo>
                      <a:pt x="648" y="382"/>
                    </a:lnTo>
                    <a:lnTo>
                      <a:pt x="648" y="337"/>
                    </a:lnTo>
                    <a:lnTo>
                      <a:pt x="648" y="301"/>
                    </a:lnTo>
                    <a:lnTo>
                      <a:pt x="659" y="255"/>
                    </a:lnTo>
                    <a:lnTo>
                      <a:pt x="659" y="209"/>
                    </a:lnTo>
                    <a:lnTo>
                      <a:pt x="671" y="173"/>
                    </a:lnTo>
                    <a:lnTo>
                      <a:pt x="683" y="127"/>
                    </a:lnTo>
                    <a:lnTo>
                      <a:pt x="693" y="81"/>
                    </a:lnTo>
                    <a:lnTo>
                      <a:pt x="671" y="11"/>
                    </a:lnTo>
                    <a:lnTo>
                      <a:pt x="671" y="0"/>
                    </a:lnTo>
                    <a:lnTo>
                      <a:pt x="659" y="0"/>
                    </a:lnTo>
                    <a:lnTo>
                      <a:pt x="648" y="0"/>
                    </a:lnTo>
                    <a:lnTo>
                      <a:pt x="636" y="11"/>
                    </a:lnTo>
                    <a:lnTo>
                      <a:pt x="625" y="11"/>
                    </a:lnTo>
                    <a:lnTo>
                      <a:pt x="613" y="23"/>
                    </a:lnTo>
                    <a:lnTo>
                      <a:pt x="601" y="23"/>
                    </a:lnTo>
                    <a:lnTo>
                      <a:pt x="589" y="23"/>
                    </a:lnTo>
                    <a:lnTo>
                      <a:pt x="578" y="23"/>
                    </a:lnTo>
                    <a:lnTo>
                      <a:pt x="567" y="23"/>
                    </a:lnTo>
                    <a:lnTo>
                      <a:pt x="555" y="11"/>
                    </a:lnTo>
                    <a:lnTo>
                      <a:pt x="520" y="11"/>
                    </a:lnTo>
                    <a:lnTo>
                      <a:pt x="497" y="23"/>
                    </a:lnTo>
                    <a:lnTo>
                      <a:pt x="462" y="46"/>
                    </a:lnTo>
                    <a:lnTo>
                      <a:pt x="439" y="69"/>
                    </a:lnTo>
                    <a:lnTo>
                      <a:pt x="404" y="115"/>
                    </a:lnTo>
                    <a:lnTo>
                      <a:pt x="382" y="151"/>
                    </a:lnTo>
                    <a:lnTo>
                      <a:pt x="347" y="185"/>
                    </a:lnTo>
                    <a:lnTo>
                      <a:pt x="312" y="221"/>
                    </a:lnTo>
                    <a:lnTo>
                      <a:pt x="266" y="243"/>
                    </a:lnTo>
                    <a:lnTo>
                      <a:pt x="219" y="266"/>
                    </a:lnTo>
                    <a:lnTo>
                      <a:pt x="173" y="289"/>
                    </a:lnTo>
                    <a:lnTo>
                      <a:pt x="138" y="313"/>
                    </a:lnTo>
                    <a:lnTo>
                      <a:pt x="115" y="324"/>
                    </a:lnTo>
                    <a:lnTo>
                      <a:pt x="80" y="337"/>
                    </a:lnTo>
                    <a:lnTo>
                      <a:pt x="58" y="324"/>
                    </a:lnTo>
                    <a:lnTo>
                      <a:pt x="35" y="301"/>
                    </a:lnTo>
                    <a:lnTo>
                      <a:pt x="23" y="289"/>
                    </a:lnTo>
                    <a:lnTo>
                      <a:pt x="23" y="279"/>
                    </a:lnTo>
                    <a:lnTo>
                      <a:pt x="11" y="266"/>
                    </a:lnTo>
                    <a:lnTo>
                      <a:pt x="11" y="243"/>
                    </a:lnTo>
                    <a:lnTo>
                      <a:pt x="0" y="221"/>
                    </a:lnTo>
                    <a:lnTo>
                      <a:pt x="11" y="197"/>
                    </a:lnTo>
                    <a:lnTo>
                      <a:pt x="23" y="1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873760" y="4519440"/>
                <a:ext cx="266760" cy="649440"/>
              </a:xfrm>
              <a:custGeom>
                <a:avLst/>
                <a:gdLst/>
                <a:ahLst/>
                <a:rect l="l" t="t" r="r" b="b"/>
                <a:pathLst>
                  <a:path w="672" h="1636">
                    <a:moveTo>
                      <a:pt x="0" y="0"/>
                    </a:moveTo>
                    <a:lnTo>
                      <a:pt x="0" y="1636"/>
                    </a:lnTo>
                    <a:lnTo>
                      <a:pt x="23" y="1636"/>
                    </a:lnTo>
                    <a:lnTo>
                      <a:pt x="36" y="1636"/>
                    </a:lnTo>
                    <a:lnTo>
                      <a:pt x="46" y="1636"/>
                    </a:lnTo>
                    <a:lnTo>
                      <a:pt x="57" y="1612"/>
                    </a:lnTo>
                    <a:lnTo>
                      <a:pt x="57" y="1589"/>
                    </a:lnTo>
                    <a:lnTo>
                      <a:pt x="57" y="1554"/>
                    </a:lnTo>
                    <a:lnTo>
                      <a:pt x="46" y="1531"/>
                    </a:lnTo>
                    <a:lnTo>
                      <a:pt x="36" y="1508"/>
                    </a:lnTo>
                    <a:lnTo>
                      <a:pt x="23" y="1485"/>
                    </a:lnTo>
                    <a:lnTo>
                      <a:pt x="23" y="1462"/>
                    </a:lnTo>
                    <a:lnTo>
                      <a:pt x="23" y="1438"/>
                    </a:lnTo>
                    <a:lnTo>
                      <a:pt x="46" y="1346"/>
                    </a:lnTo>
                    <a:lnTo>
                      <a:pt x="57" y="1241"/>
                    </a:lnTo>
                    <a:lnTo>
                      <a:pt x="57" y="1149"/>
                    </a:lnTo>
                    <a:lnTo>
                      <a:pt x="57" y="1044"/>
                    </a:lnTo>
                    <a:lnTo>
                      <a:pt x="57" y="951"/>
                    </a:lnTo>
                    <a:lnTo>
                      <a:pt x="46" y="858"/>
                    </a:lnTo>
                    <a:lnTo>
                      <a:pt x="57" y="755"/>
                    </a:lnTo>
                    <a:lnTo>
                      <a:pt x="81" y="661"/>
                    </a:lnTo>
                    <a:lnTo>
                      <a:pt x="70" y="626"/>
                    </a:lnTo>
                    <a:lnTo>
                      <a:pt x="70" y="603"/>
                    </a:lnTo>
                    <a:lnTo>
                      <a:pt x="81" y="569"/>
                    </a:lnTo>
                    <a:lnTo>
                      <a:pt x="94" y="545"/>
                    </a:lnTo>
                    <a:lnTo>
                      <a:pt x="104" y="522"/>
                    </a:lnTo>
                    <a:lnTo>
                      <a:pt x="116" y="499"/>
                    </a:lnTo>
                    <a:lnTo>
                      <a:pt x="116" y="464"/>
                    </a:lnTo>
                    <a:lnTo>
                      <a:pt x="116" y="441"/>
                    </a:lnTo>
                    <a:lnTo>
                      <a:pt x="128" y="429"/>
                    </a:lnTo>
                    <a:lnTo>
                      <a:pt x="139" y="429"/>
                    </a:lnTo>
                    <a:lnTo>
                      <a:pt x="151" y="418"/>
                    </a:lnTo>
                    <a:lnTo>
                      <a:pt x="174" y="418"/>
                    </a:lnTo>
                    <a:lnTo>
                      <a:pt x="185" y="418"/>
                    </a:lnTo>
                    <a:lnTo>
                      <a:pt x="209" y="418"/>
                    </a:lnTo>
                    <a:lnTo>
                      <a:pt x="220" y="418"/>
                    </a:lnTo>
                    <a:lnTo>
                      <a:pt x="232" y="418"/>
                    </a:lnTo>
                    <a:lnTo>
                      <a:pt x="290" y="499"/>
                    </a:lnTo>
                    <a:lnTo>
                      <a:pt x="290" y="511"/>
                    </a:lnTo>
                    <a:lnTo>
                      <a:pt x="290" y="522"/>
                    </a:lnTo>
                    <a:lnTo>
                      <a:pt x="290" y="533"/>
                    </a:lnTo>
                    <a:lnTo>
                      <a:pt x="301" y="533"/>
                    </a:lnTo>
                    <a:lnTo>
                      <a:pt x="301" y="545"/>
                    </a:lnTo>
                    <a:lnTo>
                      <a:pt x="313" y="557"/>
                    </a:lnTo>
                    <a:lnTo>
                      <a:pt x="325" y="557"/>
                    </a:lnTo>
                    <a:lnTo>
                      <a:pt x="325" y="569"/>
                    </a:lnTo>
                    <a:lnTo>
                      <a:pt x="335" y="569"/>
                    </a:lnTo>
                    <a:lnTo>
                      <a:pt x="335" y="581"/>
                    </a:lnTo>
                    <a:lnTo>
                      <a:pt x="347" y="581"/>
                    </a:lnTo>
                    <a:lnTo>
                      <a:pt x="359" y="581"/>
                    </a:lnTo>
                    <a:lnTo>
                      <a:pt x="383" y="591"/>
                    </a:lnTo>
                    <a:lnTo>
                      <a:pt x="393" y="591"/>
                    </a:lnTo>
                    <a:lnTo>
                      <a:pt x="405" y="603"/>
                    </a:lnTo>
                    <a:lnTo>
                      <a:pt x="417" y="626"/>
                    </a:lnTo>
                    <a:lnTo>
                      <a:pt x="429" y="639"/>
                    </a:lnTo>
                    <a:lnTo>
                      <a:pt x="440" y="649"/>
                    </a:lnTo>
                    <a:lnTo>
                      <a:pt x="463" y="661"/>
                    </a:lnTo>
                    <a:lnTo>
                      <a:pt x="463" y="673"/>
                    </a:lnTo>
                    <a:lnTo>
                      <a:pt x="463" y="684"/>
                    </a:lnTo>
                    <a:lnTo>
                      <a:pt x="474" y="684"/>
                    </a:lnTo>
                    <a:lnTo>
                      <a:pt x="474" y="697"/>
                    </a:lnTo>
                    <a:lnTo>
                      <a:pt x="521" y="847"/>
                    </a:lnTo>
                    <a:lnTo>
                      <a:pt x="532" y="858"/>
                    </a:lnTo>
                    <a:lnTo>
                      <a:pt x="545" y="858"/>
                    </a:lnTo>
                    <a:lnTo>
                      <a:pt x="556" y="847"/>
                    </a:lnTo>
                    <a:lnTo>
                      <a:pt x="568" y="847"/>
                    </a:lnTo>
                    <a:lnTo>
                      <a:pt x="590" y="835"/>
                    </a:lnTo>
                    <a:lnTo>
                      <a:pt x="614" y="824"/>
                    </a:lnTo>
                    <a:lnTo>
                      <a:pt x="672" y="697"/>
                    </a:lnTo>
                    <a:lnTo>
                      <a:pt x="672" y="684"/>
                    </a:lnTo>
                    <a:lnTo>
                      <a:pt x="660" y="684"/>
                    </a:lnTo>
                    <a:lnTo>
                      <a:pt x="660" y="673"/>
                    </a:lnTo>
                    <a:lnTo>
                      <a:pt x="648" y="673"/>
                    </a:lnTo>
                    <a:lnTo>
                      <a:pt x="648" y="661"/>
                    </a:lnTo>
                    <a:lnTo>
                      <a:pt x="648" y="649"/>
                    </a:lnTo>
                    <a:lnTo>
                      <a:pt x="614" y="639"/>
                    </a:lnTo>
                    <a:lnTo>
                      <a:pt x="602" y="615"/>
                    </a:lnTo>
                    <a:lnTo>
                      <a:pt x="590" y="581"/>
                    </a:lnTo>
                    <a:lnTo>
                      <a:pt x="579" y="545"/>
                    </a:lnTo>
                    <a:lnTo>
                      <a:pt x="568" y="522"/>
                    </a:lnTo>
                    <a:lnTo>
                      <a:pt x="556" y="487"/>
                    </a:lnTo>
                    <a:lnTo>
                      <a:pt x="532" y="453"/>
                    </a:lnTo>
                    <a:lnTo>
                      <a:pt x="511" y="429"/>
                    </a:lnTo>
                    <a:lnTo>
                      <a:pt x="474" y="418"/>
                    </a:lnTo>
                    <a:lnTo>
                      <a:pt x="429" y="395"/>
                    </a:lnTo>
                    <a:lnTo>
                      <a:pt x="393" y="371"/>
                    </a:lnTo>
                    <a:lnTo>
                      <a:pt x="359" y="360"/>
                    </a:lnTo>
                    <a:lnTo>
                      <a:pt x="325" y="324"/>
                    </a:lnTo>
                    <a:lnTo>
                      <a:pt x="301" y="302"/>
                    </a:lnTo>
                    <a:lnTo>
                      <a:pt x="277" y="267"/>
                    </a:lnTo>
                    <a:lnTo>
                      <a:pt x="255" y="231"/>
                    </a:lnTo>
                    <a:lnTo>
                      <a:pt x="243" y="209"/>
                    </a:lnTo>
                    <a:lnTo>
                      <a:pt x="220" y="197"/>
                    </a:lnTo>
                    <a:lnTo>
                      <a:pt x="209" y="186"/>
                    </a:lnTo>
                    <a:lnTo>
                      <a:pt x="185" y="163"/>
                    </a:lnTo>
                    <a:lnTo>
                      <a:pt x="162" y="151"/>
                    </a:lnTo>
                    <a:lnTo>
                      <a:pt x="151" y="139"/>
                    </a:lnTo>
                    <a:lnTo>
                      <a:pt x="139" y="116"/>
                    </a:lnTo>
                    <a:lnTo>
                      <a:pt x="128" y="93"/>
                    </a:lnTo>
                    <a:lnTo>
                      <a:pt x="70" y="58"/>
                    </a:lnTo>
                    <a:lnTo>
                      <a:pt x="57" y="23"/>
                    </a:lnTo>
                    <a:lnTo>
                      <a:pt x="46" y="23"/>
                    </a:lnTo>
                    <a:lnTo>
                      <a:pt x="46" y="11"/>
                    </a:lnTo>
                    <a:lnTo>
                      <a:pt x="36" y="11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873760" y="4395960"/>
                <a:ext cx="27000" cy="91800"/>
              </a:xfrm>
              <a:custGeom>
                <a:avLst/>
                <a:gdLst/>
                <a:ahLst/>
                <a:rect l="l" t="t" r="r" b="b"/>
                <a:pathLst>
                  <a:path w="70" h="232">
                    <a:moveTo>
                      <a:pt x="0" y="139"/>
                    </a:moveTo>
                    <a:lnTo>
                      <a:pt x="0" y="221"/>
                    </a:lnTo>
                    <a:lnTo>
                      <a:pt x="0" y="232"/>
                    </a:lnTo>
                    <a:lnTo>
                      <a:pt x="12" y="232"/>
                    </a:lnTo>
                    <a:lnTo>
                      <a:pt x="12" y="221"/>
                    </a:lnTo>
                    <a:lnTo>
                      <a:pt x="23" y="221"/>
                    </a:lnTo>
                    <a:lnTo>
                      <a:pt x="23" y="208"/>
                    </a:lnTo>
                    <a:lnTo>
                      <a:pt x="36" y="208"/>
                    </a:lnTo>
                    <a:lnTo>
                      <a:pt x="36" y="197"/>
                    </a:lnTo>
                    <a:lnTo>
                      <a:pt x="36" y="185"/>
                    </a:lnTo>
                    <a:lnTo>
                      <a:pt x="36" y="174"/>
                    </a:lnTo>
                    <a:lnTo>
                      <a:pt x="46" y="163"/>
                    </a:lnTo>
                    <a:lnTo>
                      <a:pt x="46" y="150"/>
                    </a:lnTo>
                    <a:lnTo>
                      <a:pt x="57" y="139"/>
                    </a:lnTo>
                    <a:lnTo>
                      <a:pt x="57" y="128"/>
                    </a:lnTo>
                    <a:lnTo>
                      <a:pt x="57" y="116"/>
                    </a:lnTo>
                    <a:lnTo>
                      <a:pt x="57" y="105"/>
                    </a:lnTo>
                    <a:lnTo>
                      <a:pt x="57" y="92"/>
                    </a:lnTo>
                    <a:lnTo>
                      <a:pt x="70" y="81"/>
                    </a:lnTo>
                    <a:lnTo>
                      <a:pt x="70" y="70"/>
                    </a:lnTo>
                    <a:lnTo>
                      <a:pt x="70" y="58"/>
                    </a:lnTo>
                    <a:lnTo>
                      <a:pt x="70" y="47"/>
                    </a:lnTo>
                    <a:lnTo>
                      <a:pt x="70" y="34"/>
                    </a:lnTo>
                    <a:lnTo>
                      <a:pt x="70" y="23"/>
                    </a:lnTo>
                    <a:lnTo>
                      <a:pt x="70" y="12"/>
                    </a:lnTo>
                    <a:lnTo>
                      <a:pt x="57" y="12"/>
                    </a:lnTo>
                    <a:lnTo>
                      <a:pt x="57" y="0"/>
                    </a:lnTo>
                    <a:lnTo>
                      <a:pt x="0" y="12"/>
                    </a:lnTo>
                    <a:lnTo>
                      <a:pt x="0" y="116"/>
                    </a:lnTo>
                    <a:lnTo>
                      <a:pt x="12" y="116"/>
                    </a:lnTo>
                    <a:lnTo>
                      <a:pt x="12" y="128"/>
                    </a:lnTo>
                    <a:lnTo>
                      <a:pt x="12" y="13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873760" y="4322880"/>
                <a:ext cx="31680" cy="50760"/>
              </a:xfrm>
              <a:custGeom>
                <a:avLst/>
                <a:gdLst/>
                <a:ahLst/>
                <a:rect l="l" t="t" r="r" b="b"/>
                <a:pathLst>
                  <a:path w="81" h="128">
                    <a:moveTo>
                      <a:pt x="0" y="0"/>
                    </a:moveTo>
                    <a:lnTo>
                      <a:pt x="0" y="128"/>
                    </a:lnTo>
                    <a:lnTo>
                      <a:pt x="70" y="116"/>
                    </a:lnTo>
                    <a:lnTo>
                      <a:pt x="70" y="105"/>
                    </a:lnTo>
                    <a:lnTo>
                      <a:pt x="81" y="105"/>
                    </a:lnTo>
                    <a:lnTo>
                      <a:pt x="81" y="93"/>
                    </a:lnTo>
                    <a:lnTo>
                      <a:pt x="81" y="81"/>
                    </a:lnTo>
                    <a:lnTo>
                      <a:pt x="81" y="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437080" y="4299120"/>
                <a:ext cx="436680" cy="874440"/>
              </a:xfrm>
              <a:custGeom>
                <a:avLst/>
                <a:gdLst/>
                <a:ahLst/>
                <a:rect l="l" t="t" r="r" b="b"/>
                <a:pathLst>
                  <a:path w="1099" h="2204">
                    <a:moveTo>
                      <a:pt x="1099" y="186"/>
                    </a:moveTo>
                    <a:lnTo>
                      <a:pt x="1099" y="58"/>
                    </a:lnTo>
                    <a:lnTo>
                      <a:pt x="1065" y="71"/>
                    </a:lnTo>
                    <a:lnTo>
                      <a:pt x="1019" y="93"/>
                    </a:lnTo>
                    <a:lnTo>
                      <a:pt x="995" y="116"/>
                    </a:lnTo>
                    <a:lnTo>
                      <a:pt x="925" y="116"/>
                    </a:lnTo>
                    <a:lnTo>
                      <a:pt x="925" y="105"/>
                    </a:lnTo>
                    <a:lnTo>
                      <a:pt x="925" y="93"/>
                    </a:lnTo>
                    <a:lnTo>
                      <a:pt x="938" y="93"/>
                    </a:lnTo>
                    <a:lnTo>
                      <a:pt x="949" y="81"/>
                    </a:lnTo>
                    <a:lnTo>
                      <a:pt x="960" y="71"/>
                    </a:lnTo>
                    <a:lnTo>
                      <a:pt x="972" y="58"/>
                    </a:lnTo>
                    <a:lnTo>
                      <a:pt x="972" y="47"/>
                    </a:lnTo>
                    <a:lnTo>
                      <a:pt x="972" y="34"/>
                    </a:lnTo>
                    <a:lnTo>
                      <a:pt x="960" y="34"/>
                    </a:lnTo>
                    <a:lnTo>
                      <a:pt x="960" y="23"/>
                    </a:lnTo>
                    <a:lnTo>
                      <a:pt x="868" y="23"/>
                    </a:lnTo>
                    <a:lnTo>
                      <a:pt x="868" y="34"/>
                    </a:lnTo>
                    <a:lnTo>
                      <a:pt x="868" y="47"/>
                    </a:lnTo>
                    <a:lnTo>
                      <a:pt x="868" y="58"/>
                    </a:lnTo>
                    <a:lnTo>
                      <a:pt x="856" y="71"/>
                    </a:lnTo>
                    <a:lnTo>
                      <a:pt x="856" y="58"/>
                    </a:lnTo>
                    <a:lnTo>
                      <a:pt x="844" y="58"/>
                    </a:lnTo>
                    <a:lnTo>
                      <a:pt x="833" y="58"/>
                    </a:lnTo>
                    <a:lnTo>
                      <a:pt x="822" y="58"/>
                    </a:lnTo>
                    <a:lnTo>
                      <a:pt x="810" y="71"/>
                    </a:lnTo>
                    <a:lnTo>
                      <a:pt x="810" y="81"/>
                    </a:lnTo>
                    <a:lnTo>
                      <a:pt x="798" y="81"/>
                    </a:lnTo>
                    <a:lnTo>
                      <a:pt x="786" y="93"/>
                    </a:lnTo>
                    <a:lnTo>
                      <a:pt x="776" y="93"/>
                    </a:lnTo>
                    <a:lnTo>
                      <a:pt x="776" y="81"/>
                    </a:lnTo>
                    <a:lnTo>
                      <a:pt x="764" y="13"/>
                    </a:lnTo>
                    <a:lnTo>
                      <a:pt x="764" y="0"/>
                    </a:lnTo>
                    <a:lnTo>
                      <a:pt x="752" y="0"/>
                    </a:lnTo>
                    <a:lnTo>
                      <a:pt x="741" y="0"/>
                    </a:lnTo>
                    <a:lnTo>
                      <a:pt x="728" y="0"/>
                    </a:lnTo>
                    <a:lnTo>
                      <a:pt x="718" y="0"/>
                    </a:lnTo>
                    <a:lnTo>
                      <a:pt x="706" y="0"/>
                    </a:lnTo>
                    <a:lnTo>
                      <a:pt x="706" y="13"/>
                    </a:lnTo>
                    <a:lnTo>
                      <a:pt x="706" y="23"/>
                    </a:lnTo>
                    <a:lnTo>
                      <a:pt x="718" y="47"/>
                    </a:lnTo>
                    <a:lnTo>
                      <a:pt x="718" y="58"/>
                    </a:lnTo>
                    <a:lnTo>
                      <a:pt x="718" y="71"/>
                    </a:lnTo>
                    <a:lnTo>
                      <a:pt x="718" y="81"/>
                    </a:lnTo>
                    <a:lnTo>
                      <a:pt x="718" y="93"/>
                    </a:lnTo>
                    <a:lnTo>
                      <a:pt x="706" y="105"/>
                    </a:lnTo>
                    <a:lnTo>
                      <a:pt x="670" y="81"/>
                    </a:lnTo>
                    <a:lnTo>
                      <a:pt x="648" y="81"/>
                    </a:lnTo>
                    <a:lnTo>
                      <a:pt x="648" y="93"/>
                    </a:lnTo>
                    <a:lnTo>
                      <a:pt x="636" y="105"/>
                    </a:lnTo>
                    <a:lnTo>
                      <a:pt x="636" y="116"/>
                    </a:lnTo>
                    <a:lnTo>
                      <a:pt x="625" y="129"/>
                    </a:lnTo>
                    <a:lnTo>
                      <a:pt x="625" y="139"/>
                    </a:lnTo>
                    <a:lnTo>
                      <a:pt x="625" y="151"/>
                    </a:lnTo>
                    <a:lnTo>
                      <a:pt x="636" y="163"/>
                    </a:lnTo>
                    <a:lnTo>
                      <a:pt x="648" y="163"/>
                    </a:lnTo>
                    <a:lnTo>
                      <a:pt x="648" y="174"/>
                    </a:lnTo>
                    <a:lnTo>
                      <a:pt x="660" y="174"/>
                    </a:lnTo>
                    <a:lnTo>
                      <a:pt x="670" y="174"/>
                    </a:lnTo>
                    <a:lnTo>
                      <a:pt x="683" y="174"/>
                    </a:lnTo>
                    <a:lnTo>
                      <a:pt x="694" y="174"/>
                    </a:lnTo>
                    <a:lnTo>
                      <a:pt x="694" y="186"/>
                    </a:lnTo>
                    <a:lnTo>
                      <a:pt x="636" y="221"/>
                    </a:lnTo>
                    <a:lnTo>
                      <a:pt x="613" y="336"/>
                    </a:lnTo>
                    <a:lnTo>
                      <a:pt x="613" y="349"/>
                    </a:lnTo>
                    <a:lnTo>
                      <a:pt x="625" y="349"/>
                    </a:lnTo>
                    <a:lnTo>
                      <a:pt x="706" y="336"/>
                    </a:lnTo>
                    <a:lnTo>
                      <a:pt x="706" y="325"/>
                    </a:lnTo>
                    <a:lnTo>
                      <a:pt x="706" y="314"/>
                    </a:lnTo>
                    <a:lnTo>
                      <a:pt x="706" y="302"/>
                    </a:lnTo>
                    <a:lnTo>
                      <a:pt x="694" y="291"/>
                    </a:lnTo>
                    <a:lnTo>
                      <a:pt x="683" y="278"/>
                    </a:lnTo>
                    <a:lnTo>
                      <a:pt x="683" y="267"/>
                    </a:lnTo>
                    <a:lnTo>
                      <a:pt x="694" y="267"/>
                    </a:lnTo>
                    <a:lnTo>
                      <a:pt x="706" y="256"/>
                    </a:lnTo>
                    <a:lnTo>
                      <a:pt x="718" y="256"/>
                    </a:lnTo>
                    <a:lnTo>
                      <a:pt x="728" y="267"/>
                    </a:lnTo>
                    <a:lnTo>
                      <a:pt x="741" y="302"/>
                    </a:lnTo>
                    <a:lnTo>
                      <a:pt x="741" y="314"/>
                    </a:lnTo>
                    <a:lnTo>
                      <a:pt x="752" y="314"/>
                    </a:lnTo>
                    <a:lnTo>
                      <a:pt x="764" y="302"/>
                    </a:lnTo>
                    <a:lnTo>
                      <a:pt x="776" y="302"/>
                    </a:lnTo>
                    <a:lnTo>
                      <a:pt x="786" y="302"/>
                    </a:lnTo>
                    <a:lnTo>
                      <a:pt x="752" y="349"/>
                    </a:lnTo>
                    <a:lnTo>
                      <a:pt x="752" y="360"/>
                    </a:lnTo>
                    <a:lnTo>
                      <a:pt x="752" y="372"/>
                    </a:lnTo>
                    <a:lnTo>
                      <a:pt x="764" y="372"/>
                    </a:lnTo>
                    <a:lnTo>
                      <a:pt x="764" y="383"/>
                    </a:lnTo>
                    <a:lnTo>
                      <a:pt x="776" y="383"/>
                    </a:lnTo>
                    <a:lnTo>
                      <a:pt x="741" y="429"/>
                    </a:lnTo>
                    <a:lnTo>
                      <a:pt x="741" y="441"/>
                    </a:lnTo>
                    <a:lnTo>
                      <a:pt x="741" y="452"/>
                    </a:lnTo>
                    <a:lnTo>
                      <a:pt x="752" y="452"/>
                    </a:lnTo>
                    <a:lnTo>
                      <a:pt x="741" y="580"/>
                    </a:lnTo>
                    <a:lnTo>
                      <a:pt x="798" y="604"/>
                    </a:lnTo>
                    <a:lnTo>
                      <a:pt x="798" y="592"/>
                    </a:lnTo>
                    <a:lnTo>
                      <a:pt x="810" y="592"/>
                    </a:lnTo>
                    <a:lnTo>
                      <a:pt x="822" y="592"/>
                    </a:lnTo>
                    <a:lnTo>
                      <a:pt x="822" y="604"/>
                    </a:lnTo>
                    <a:lnTo>
                      <a:pt x="822" y="615"/>
                    </a:lnTo>
                    <a:lnTo>
                      <a:pt x="810" y="626"/>
                    </a:lnTo>
                    <a:lnTo>
                      <a:pt x="798" y="638"/>
                    </a:lnTo>
                    <a:lnTo>
                      <a:pt x="786" y="650"/>
                    </a:lnTo>
                    <a:lnTo>
                      <a:pt x="764" y="650"/>
                    </a:lnTo>
                    <a:lnTo>
                      <a:pt x="752" y="650"/>
                    </a:lnTo>
                    <a:lnTo>
                      <a:pt x="728" y="662"/>
                    </a:lnTo>
                    <a:lnTo>
                      <a:pt x="706" y="662"/>
                    </a:lnTo>
                    <a:lnTo>
                      <a:pt x="694" y="650"/>
                    </a:lnTo>
                    <a:lnTo>
                      <a:pt x="660" y="650"/>
                    </a:lnTo>
                    <a:lnTo>
                      <a:pt x="625" y="638"/>
                    </a:lnTo>
                    <a:lnTo>
                      <a:pt x="590" y="626"/>
                    </a:lnTo>
                    <a:lnTo>
                      <a:pt x="567" y="604"/>
                    </a:lnTo>
                    <a:lnTo>
                      <a:pt x="545" y="592"/>
                    </a:lnTo>
                    <a:lnTo>
                      <a:pt x="521" y="568"/>
                    </a:lnTo>
                    <a:lnTo>
                      <a:pt x="487" y="546"/>
                    </a:lnTo>
                    <a:lnTo>
                      <a:pt x="463" y="534"/>
                    </a:lnTo>
                    <a:lnTo>
                      <a:pt x="219" y="488"/>
                    </a:lnTo>
                    <a:lnTo>
                      <a:pt x="196" y="510"/>
                    </a:lnTo>
                    <a:lnTo>
                      <a:pt x="162" y="510"/>
                    </a:lnTo>
                    <a:lnTo>
                      <a:pt x="138" y="523"/>
                    </a:lnTo>
                    <a:lnTo>
                      <a:pt x="104" y="523"/>
                    </a:lnTo>
                    <a:lnTo>
                      <a:pt x="80" y="523"/>
                    </a:lnTo>
                    <a:lnTo>
                      <a:pt x="46" y="534"/>
                    </a:lnTo>
                    <a:lnTo>
                      <a:pt x="22" y="557"/>
                    </a:lnTo>
                    <a:lnTo>
                      <a:pt x="0" y="592"/>
                    </a:lnTo>
                    <a:lnTo>
                      <a:pt x="22" y="615"/>
                    </a:lnTo>
                    <a:lnTo>
                      <a:pt x="46" y="638"/>
                    </a:lnTo>
                    <a:lnTo>
                      <a:pt x="57" y="650"/>
                    </a:lnTo>
                    <a:lnTo>
                      <a:pt x="80" y="673"/>
                    </a:lnTo>
                    <a:lnTo>
                      <a:pt x="92" y="684"/>
                    </a:lnTo>
                    <a:lnTo>
                      <a:pt x="104" y="696"/>
                    </a:lnTo>
                    <a:lnTo>
                      <a:pt x="115" y="696"/>
                    </a:lnTo>
                    <a:lnTo>
                      <a:pt x="128" y="684"/>
                    </a:lnTo>
                    <a:lnTo>
                      <a:pt x="138" y="684"/>
                    </a:lnTo>
                    <a:lnTo>
                      <a:pt x="150" y="673"/>
                    </a:lnTo>
                    <a:lnTo>
                      <a:pt x="162" y="662"/>
                    </a:lnTo>
                    <a:lnTo>
                      <a:pt x="174" y="662"/>
                    </a:lnTo>
                    <a:lnTo>
                      <a:pt x="185" y="650"/>
                    </a:lnTo>
                    <a:lnTo>
                      <a:pt x="196" y="650"/>
                    </a:lnTo>
                    <a:lnTo>
                      <a:pt x="208" y="650"/>
                    </a:lnTo>
                    <a:lnTo>
                      <a:pt x="219" y="662"/>
                    </a:lnTo>
                    <a:lnTo>
                      <a:pt x="243" y="673"/>
                    </a:lnTo>
                    <a:lnTo>
                      <a:pt x="266" y="673"/>
                    </a:lnTo>
                    <a:lnTo>
                      <a:pt x="277" y="684"/>
                    </a:lnTo>
                    <a:lnTo>
                      <a:pt x="301" y="696"/>
                    </a:lnTo>
                    <a:lnTo>
                      <a:pt x="324" y="708"/>
                    </a:lnTo>
                    <a:lnTo>
                      <a:pt x="335" y="720"/>
                    </a:lnTo>
                    <a:lnTo>
                      <a:pt x="347" y="730"/>
                    </a:lnTo>
                    <a:lnTo>
                      <a:pt x="359" y="743"/>
                    </a:lnTo>
                    <a:lnTo>
                      <a:pt x="393" y="754"/>
                    </a:lnTo>
                    <a:lnTo>
                      <a:pt x="417" y="766"/>
                    </a:lnTo>
                    <a:lnTo>
                      <a:pt x="439" y="766"/>
                    </a:lnTo>
                    <a:lnTo>
                      <a:pt x="474" y="778"/>
                    </a:lnTo>
                    <a:lnTo>
                      <a:pt x="497" y="778"/>
                    </a:lnTo>
                    <a:lnTo>
                      <a:pt x="521" y="788"/>
                    </a:lnTo>
                    <a:lnTo>
                      <a:pt x="545" y="801"/>
                    </a:lnTo>
                    <a:lnTo>
                      <a:pt x="567" y="824"/>
                    </a:lnTo>
                    <a:lnTo>
                      <a:pt x="579" y="824"/>
                    </a:lnTo>
                    <a:lnTo>
                      <a:pt x="590" y="824"/>
                    </a:lnTo>
                    <a:lnTo>
                      <a:pt x="602" y="836"/>
                    </a:lnTo>
                    <a:lnTo>
                      <a:pt x="613" y="836"/>
                    </a:lnTo>
                    <a:lnTo>
                      <a:pt x="625" y="836"/>
                    </a:lnTo>
                    <a:lnTo>
                      <a:pt x="625" y="846"/>
                    </a:lnTo>
                    <a:lnTo>
                      <a:pt x="636" y="846"/>
                    </a:lnTo>
                    <a:lnTo>
                      <a:pt x="636" y="859"/>
                    </a:lnTo>
                    <a:lnTo>
                      <a:pt x="648" y="870"/>
                    </a:lnTo>
                    <a:lnTo>
                      <a:pt x="660" y="881"/>
                    </a:lnTo>
                    <a:lnTo>
                      <a:pt x="670" y="894"/>
                    </a:lnTo>
                    <a:lnTo>
                      <a:pt x="683" y="905"/>
                    </a:lnTo>
                    <a:lnTo>
                      <a:pt x="706" y="1021"/>
                    </a:lnTo>
                    <a:lnTo>
                      <a:pt x="694" y="1032"/>
                    </a:lnTo>
                    <a:lnTo>
                      <a:pt x="694" y="1056"/>
                    </a:lnTo>
                    <a:lnTo>
                      <a:pt x="683" y="1068"/>
                    </a:lnTo>
                    <a:lnTo>
                      <a:pt x="683" y="1090"/>
                    </a:lnTo>
                    <a:lnTo>
                      <a:pt x="670" y="1114"/>
                    </a:lnTo>
                    <a:lnTo>
                      <a:pt x="670" y="1126"/>
                    </a:lnTo>
                    <a:lnTo>
                      <a:pt x="670" y="1148"/>
                    </a:lnTo>
                    <a:lnTo>
                      <a:pt x="670" y="1172"/>
                    </a:lnTo>
                    <a:lnTo>
                      <a:pt x="670" y="1183"/>
                    </a:lnTo>
                    <a:lnTo>
                      <a:pt x="660" y="1196"/>
                    </a:lnTo>
                    <a:lnTo>
                      <a:pt x="660" y="1206"/>
                    </a:lnTo>
                    <a:lnTo>
                      <a:pt x="660" y="1218"/>
                    </a:lnTo>
                    <a:lnTo>
                      <a:pt x="660" y="1230"/>
                    </a:lnTo>
                    <a:lnTo>
                      <a:pt x="660" y="1241"/>
                    </a:lnTo>
                    <a:lnTo>
                      <a:pt x="670" y="1241"/>
                    </a:lnTo>
                    <a:lnTo>
                      <a:pt x="670" y="1254"/>
                    </a:lnTo>
                    <a:lnTo>
                      <a:pt x="683" y="1264"/>
                    </a:lnTo>
                    <a:lnTo>
                      <a:pt x="694" y="1264"/>
                    </a:lnTo>
                    <a:lnTo>
                      <a:pt x="694" y="1275"/>
                    </a:lnTo>
                    <a:lnTo>
                      <a:pt x="706" y="1299"/>
                    </a:lnTo>
                    <a:lnTo>
                      <a:pt x="706" y="1312"/>
                    </a:lnTo>
                    <a:lnTo>
                      <a:pt x="718" y="1322"/>
                    </a:lnTo>
                    <a:lnTo>
                      <a:pt x="718" y="1346"/>
                    </a:lnTo>
                    <a:lnTo>
                      <a:pt x="718" y="1357"/>
                    </a:lnTo>
                    <a:lnTo>
                      <a:pt x="694" y="1404"/>
                    </a:lnTo>
                    <a:lnTo>
                      <a:pt x="683" y="1439"/>
                    </a:lnTo>
                    <a:lnTo>
                      <a:pt x="660" y="1473"/>
                    </a:lnTo>
                    <a:lnTo>
                      <a:pt x="636" y="1508"/>
                    </a:lnTo>
                    <a:lnTo>
                      <a:pt x="613" y="1532"/>
                    </a:lnTo>
                    <a:lnTo>
                      <a:pt x="579" y="1566"/>
                    </a:lnTo>
                    <a:lnTo>
                      <a:pt x="555" y="1590"/>
                    </a:lnTo>
                    <a:lnTo>
                      <a:pt x="521" y="1613"/>
                    </a:lnTo>
                    <a:lnTo>
                      <a:pt x="521" y="1624"/>
                    </a:lnTo>
                    <a:lnTo>
                      <a:pt x="521" y="1635"/>
                    </a:lnTo>
                    <a:lnTo>
                      <a:pt x="521" y="1648"/>
                    </a:lnTo>
                    <a:lnTo>
                      <a:pt x="508" y="1671"/>
                    </a:lnTo>
                    <a:lnTo>
                      <a:pt x="508" y="1682"/>
                    </a:lnTo>
                    <a:lnTo>
                      <a:pt x="497" y="1693"/>
                    </a:lnTo>
                    <a:lnTo>
                      <a:pt x="487" y="1693"/>
                    </a:lnTo>
                    <a:lnTo>
                      <a:pt x="474" y="1706"/>
                    </a:lnTo>
                    <a:lnTo>
                      <a:pt x="451" y="1730"/>
                    </a:lnTo>
                    <a:lnTo>
                      <a:pt x="428" y="1751"/>
                    </a:lnTo>
                    <a:lnTo>
                      <a:pt x="405" y="1775"/>
                    </a:lnTo>
                    <a:lnTo>
                      <a:pt x="381" y="1798"/>
                    </a:lnTo>
                    <a:lnTo>
                      <a:pt x="370" y="1822"/>
                    </a:lnTo>
                    <a:lnTo>
                      <a:pt x="347" y="1856"/>
                    </a:lnTo>
                    <a:lnTo>
                      <a:pt x="335" y="1891"/>
                    </a:lnTo>
                    <a:lnTo>
                      <a:pt x="335" y="1926"/>
                    </a:lnTo>
                    <a:lnTo>
                      <a:pt x="335" y="1949"/>
                    </a:lnTo>
                    <a:lnTo>
                      <a:pt x="324" y="1972"/>
                    </a:lnTo>
                    <a:lnTo>
                      <a:pt x="324" y="1995"/>
                    </a:lnTo>
                    <a:lnTo>
                      <a:pt x="324" y="2019"/>
                    </a:lnTo>
                    <a:lnTo>
                      <a:pt x="311" y="2042"/>
                    </a:lnTo>
                    <a:lnTo>
                      <a:pt x="311" y="2053"/>
                    </a:lnTo>
                    <a:lnTo>
                      <a:pt x="301" y="2077"/>
                    </a:lnTo>
                    <a:lnTo>
                      <a:pt x="277" y="2088"/>
                    </a:lnTo>
                    <a:lnTo>
                      <a:pt x="277" y="2100"/>
                    </a:lnTo>
                    <a:lnTo>
                      <a:pt x="266" y="2111"/>
                    </a:lnTo>
                    <a:lnTo>
                      <a:pt x="253" y="2123"/>
                    </a:lnTo>
                    <a:lnTo>
                      <a:pt x="253" y="2135"/>
                    </a:lnTo>
                    <a:lnTo>
                      <a:pt x="253" y="2146"/>
                    </a:lnTo>
                    <a:lnTo>
                      <a:pt x="253" y="2158"/>
                    </a:lnTo>
                    <a:lnTo>
                      <a:pt x="253" y="2169"/>
                    </a:lnTo>
                    <a:lnTo>
                      <a:pt x="266" y="2181"/>
                    </a:lnTo>
                    <a:lnTo>
                      <a:pt x="277" y="2193"/>
                    </a:lnTo>
                    <a:lnTo>
                      <a:pt x="290" y="2204"/>
                    </a:lnTo>
                    <a:lnTo>
                      <a:pt x="301" y="2204"/>
                    </a:lnTo>
                    <a:lnTo>
                      <a:pt x="311" y="2204"/>
                    </a:lnTo>
                    <a:lnTo>
                      <a:pt x="324" y="2204"/>
                    </a:lnTo>
                    <a:lnTo>
                      <a:pt x="347" y="2193"/>
                    </a:lnTo>
                    <a:lnTo>
                      <a:pt x="359" y="2193"/>
                    </a:lnTo>
                    <a:lnTo>
                      <a:pt x="381" y="2181"/>
                    </a:lnTo>
                    <a:lnTo>
                      <a:pt x="393" y="2181"/>
                    </a:lnTo>
                    <a:lnTo>
                      <a:pt x="417" y="2181"/>
                    </a:lnTo>
                    <a:lnTo>
                      <a:pt x="428" y="2181"/>
                    </a:lnTo>
                    <a:lnTo>
                      <a:pt x="451" y="2181"/>
                    </a:lnTo>
                    <a:lnTo>
                      <a:pt x="463" y="2169"/>
                    </a:lnTo>
                    <a:lnTo>
                      <a:pt x="474" y="2158"/>
                    </a:lnTo>
                    <a:lnTo>
                      <a:pt x="474" y="2146"/>
                    </a:lnTo>
                    <a:lnTo>
                      <a:pt x="487" y="2146"/>
                    </a:lnTo>
                    <a:lnTo>
                      <a:pt x="487" y="2135"/>
                    </a:lnTo>
                    <a:lnTo>
                      <a:pt x="487" y="2123"/>
                    </a:lnTo>
                    <a:lnTo>
                      <a:pt x="487" y="2111"/>
                    </a:lnTo>
                    <a:lnTo>
                      <a:pt x="474" y="2100"/>
                    </a:lnTo>
                    <a:lnTo>
                      <a:pt x="474" y="2088"/>
                    </a:lnTo>
                    <a:lnTo>
                      <a:pt x="474" y="2077"/>
                    </a:lnTo>
                    <a:lnTo>
                      <a:pt x="474" y="2065"/>
                    </a:lnTo>
                    <a:lnTo>
                      <a:pt x="474" y="2053"/>
                    </a:lnTo>
                    <a:lnTo>
                      <a:pt x="474" y="2042"/>
                    </a:lnTo>
                    <a:lnTo>
                      <a:pt x="474" y="2029"/>
                    </a:lnTo>
                    <a:lnTo>
                      <a:pt x="532" y="2029"/>
                    </a:lnTo>
                    <a:lnTo>
                      <a:pt x="545" y="2007"/>
                    </a:lnTo>
                    <a:lnTo>
                      <a:pt x="567" y="1972"/>
                    </a:lnTo>
                    <a:lnTo>
                      <a:pt x="579" y="1926"/>
                    </a:lnTo>
                    <a:lnTo>
                      <a:pt x="590" y="1891"/>
                    </a:lnTo>
                    <a:lnTo>
                      <a:pt x="602" y="1856"/>
                    </a:lnTo>
                    <a:lnTo>
                      <a:pt x="613" y="1822"/>
                    </a:lnTo>
                    <a:lnTo>
                      <a:pt x="636" y="1787"/>
                    </a:lnTo>
                    <a:lnTo>
                      <a:pt x="670" y="1764"/>
                    </a:lnTo>
                    <a:lnTo>
                      <a:pt x="706" y="1740"/>
                    </a:lnTo>
                    <a:lnTo>
                      <a:pt x="728" y="1706"/>
                    </a:lnTo>
                    <a:lnTo>
                      <a:pt x="752" y="1671"/>
                    </a:lnTo>
                    <a:lnTo>
                      <a:pt x="776" y="1635"/>
                    </a:lnTo>
                    <a:lnTo>
                      <a:pt x="798" y="1601"/>
                    </a:lnTo>
                    <a:lnTo>
                      <a:pt x="822" y="1566"/>
                    </a:lnTo>
                    <a:lnTo>
                      <a:pt x="856" y="1543"/>
                    </a:lnTo>
                    <a:lnTo>
                      <a:pt x="902" y="1520"/>
                    </a:lnTo>
                    <a:lnTo>
                      <a:pt x="914" y="1520"/>
                    </a:lnTo>
                    <a:lnTo>
                      <a:pt x="925" y="1543"/>
                    </a:lnTo>
                    <a:lnTo>
                      <a:pt x="925" y="1566"/>
                    </a:lnTo>
                    <a:lnTo>
                      <a:pt x="925" y="1601"/>
                    </a:lnTo>
                    <a:lnTo>
                      <a:pt x="938" y="1624"/>
                    </a:lnTo>
                    <a:lnTo>
                      <a:pt x="938" y="1648"/>
                    </a:lnTo>
                    <a:lnTo>
                      <a:pt x="949" y="1671"/>
                    </a:lnTo>
                    <a:lnTo>
                      <a:pt x="960" y="1706"/>
                    </a:lnTo>
                    <a:lnTo>
                      <a:pt x="972" y="1730"/>
                    </a:lnTo>
                    <a:lnTo>
                      <a:pt x="972" y="1764"/>
                    </a:lnTo>
                    <a:lnTo>
                      <a:pt x="983" y="1798"/>
                    </a:lnTo>
                    <a:lnTo>
                      <a:pt x="983" y="1845"/>
                    </a:lnTo>
                    <a:lnTo>
                      <a:pt x="972" y="1879"/>
                    </a:lnTo>
                    <a:lnTo>
                      <a:pt x="972" y="1914"/>
                    </a:lnTo>
                    <a:lnTo>
                      <a:pt x="960" y="1949"/>
                    </a:lnTo>
                    <a:lnTo>
                      <a:pt x="960" y="1995"/>
                    </a:lnTo>
                    <a:lnTo>
                      <a:pt x="960" y="2029"/>
                    </a:lnTo>
                    <a:lnTo>
                      <a:pt x="938" y="2181"/>
                    </a:lnTo>
                    <a:lnTo>
                      <a:pt x="960" y="2204"/>
                    </a:lnTo>
                    <a:lnTo>
                      <a:pt x="1099" y="2193"/>
                    </a:lnTo>
                    <a:lnTo>
                      <a:pt x="1099" y="557"/>
                    </a:lnTo>
                    <a:lnTo>
                      <a:pt x="1087" y="546"/>
                    </a:lnTo>
                    <a:lnTo>
                      <a:pt x="1087" y="534"/>
                    </a:lnTo>
                    <a:lnTo>
                      <a:pt x="1077" y="523"/>
                    </a:lnTo>
                    <a:lnTo>
                      <a:pt x="1077" y="510"/>
                    </a:lnTo>
                    <a:lnTo>
                      <a:pt x="1077" y="499"/>
                    </a:lnTo>
                    <a:lnTo>
                      <a:pt x="1065" y="488"/>
                    </a:lnTo>
                    <a:lnTo>
                      <a:pt x="1053" y="488"/>
                    </a:lnTo>
                    <a:lnTo>
                      <a:pt x="1041" y="488"/>
                    </a:lnTo>
                    <a:lnTo>
                      <a:pt x="1041" y="476"/>
                    </a:lnTo>
                    <a:lnTo>
                      <a:pt x="1030" y="476"/>
                    </a:lnTo>
                    <a:lnTo>
                      <a:pt x="1030" y="465"/>
                    </a:lnTo>
                    <a:lnTo>
                      <a:pt x="1041" y="452"/>
                    </a:lnTo>
                    <a:lnTo>
                      <a:pt x="1041" y="441"/>
                    </a:lnTo>
                    <a:lnTo>
                      <a:pt x="1053" y="441"/>
                    </a:lnTo>
                    <a:lnTo>
                      <a:pt x="1053" y="429"/>
                    </a:lnTo>
                    <a:lnTo>
                      <a:pt x="1065" y="429"/>
                    </a:lnTo>
                    <a:lnTo>
                      <a:pt x="1099" y="465"/>
                    </a:lnTo>
                    <a:lnTo>
                      <a:pt x="1099" y="383"/>
                    </a:lnTo>
                    <a:lnTo>
                      <a:pt x="1099" y="372"/>
                    </a:lnTo>
                    <a:lnTo>
                      <a:pt x="1087" y="372"/>
                    </a:lnTo>
                    <a:lnTo>
                      <a:pt x="1087" y="360"/>
                    </a:lnTo>
                    <a:lnTo>
                      <a:pt x="1099" y="360"/>
                    </a:lnTo>
                    <a:lnTo>
                      <a:pt x="1099" y="256"/>
                    </a:lnTo>
                    <a:lnTo>
                      <a:pt x="1087" y="256"/>
                    </a:lnTo>
                    <a:lnTo>
                      <a:pt x="1087" y="244"/>
                    </a:lnTo>
                    <a:lnTo>
                      <a:pt x="1087" y="232"/>
                    </a:lnTo>
                    <a:lnTo>
                      <a:pt x="1099" y="232"/>
                    </a:lnTo>
                    <a:lnTo>
                      <a:pt x="1087" y="198"/>
                    </a:lnTo>
                    <a:lnTo>
                      <a:pt x="1041" y="186"/>
                    </a:lnTo>
                    <a:lnTo>
                      <a:pt x="1041" y="174"/>
                    </a:lnTo>
                    <a:lnTo>
                      <a:pt x="1053" y="163"/>
                    </a:lnTo>
                    <a:lnTo>
                      <a:pt x="1065" y="163"/>
                    </a:lnTo>
                    <a:lnTo>
                      <a:pt x="1077" y="163"/>
                    </a:lnTo>
                    <a:lnTo>
                      <a:pt x="1087" y="163"/>
                    </a:lnTo>
                    <a:lnTo>
                      <a:pt x="1087" y="174"/>
                    </a:lnTo>
                    <a:lnTo>
                      <a:pt x="1087" y="186"/>
                    </a:lnTo>
                    <a:lnTo>
                      <a:pt x="1099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846760" y="4400640"/>
                <a:ext cx="293760" cy="446040"/>
              </a:xfrm>
              <a:custGeom>
                <a:avLst/>
                <a:gdLst/>
                <a:ahLst/>
                <a:rect l="l" t="t" r="r" b="b"/>
                <a:pathLst>
                  <a:path w="741" h="1125">
                    <a:moveTo>
                      <a:pt x="683" y="1125"/>
                    </a:moveTo>
                    <a:lnTo>
                      <a:pt x="741" y="998"/>
                    </a:lnTo>
                    <a:lnTo>
                      <a:pt x="741" y="985"/>
                    </a:lnTo>
                    <a:lnTo>
                      <a:pt x="729" y="985"/>
                    </a:lnTo>
                    <a:lnTo>
                      <a:pt x="729" y="974"/>
                    </a:lnTo>
                    <a:lnTo>
                      <a:pt x="717" y="974"/>
                    </a:lnTo>
                    <a:lnTo>
                      <a:pt x="717" y="962"/>
                    </a:lnTo>
                    <a:lnTo>
                      <a:pt x="717" y="950"/>
                    </a:lnTo>
                    <a:lnTo>
                      <a:pt x="683" y="940"/>
                    </a:lnTo>
                    <a:lnTo>
                      <a:pt x="671" y="916"/>
                    </a:lnTo>
                    <a:lnTo>
                      <a:pt x="659" y="882"/>
                    </a:lnTo>
                    <a:lnTo>
                      <a:pt x="648" y="846"/>
                    </a:lnTo>
                    <a:lnTo>
                      <a:pt x="637" y="823"/>
                    </a:lnTo>
                    <a:lnTo>
                      <a:pt x="625" y="788"/>
                    </a:lnTo>
                    <a:lnTo>
                      <a:pt x="601" y="754"/>
                    </a:lnTo>
                    <a:lnTo>
                      <a:pt x="580" y="730"/>
                    </a:lnTo>
                    <a:lnTo>
                      <a:pt x="543" y="719"/>
                    </a:lnTo>
                    <a:lnTo>
                      <a:pt x="498" y="696"/>
                    </a:lnTo>
                    <a:lnTo>
                      <a:pt x="462" y="672"/>
                    </a:lnTo>
                    <a:lnTo>
                      <a:pt x="428" y="661"/>
                    </a:lnTo>
                    <a:lnTo>
                      <a:pt x="394" y="625"/>
                    </a:lnTo>
                    <a:lnTo>
                      <a:pt x="370" y="603"/>
                    </a:lnTo>
                    <a:lnTo>
                      <a:pt x="346" y="568"/>
                    </a:lnTo>
                    <a:lnTo>
                      <a:pt x="324" y="532"/>
                    </a:lnTo>
                    <a:lnTo>
                      <a:pt x="312" y="510"/>
                    </a:lnTo>
                    <a:lnTo>
                      <a:pt x="289" y="498"/>
                    </a:lnTo>
                    <a:lnTo>
                      <a:pt x="278" y="487"/>
                    </a:lnTo>
                    <a:lnTo>
                      <a:pt x="254" y="464"/>
                    </a:lnTo>
                    <a:lnTo>
                      <a:pt x="231" y="452"/>
                    </a:lnTo>
                    <a:lnTo>
                      <a:pt x="220" y="440"/>
                    </a:lnTo>
                    <a:lnTo>
                      <a:pt x="208" y="417"/>
                    </a:lnTo>
                    <a:lnTo>
                      <a:pt x="197" y="394"/>
                    </a:lnTo>
                    <a:lnTo>
                      <a:pt x="139" y="359"/>
                    </a:lnTo>
                    <a:lnTo>
                      <a:pt x="126" y="324"/>
                    </a:lnTo>
                    <a:lnTo>
                      <a:pt x="115" y="324"/>
                    </a:lnTo>
                    <a:lnTo>
                      <a:pt x="115" y="312"/>
                    </a:lnTo>
                    <a:lnTo>
                      <a:pt x="105" y="312"/>
                    </a:lnTo>
                    <a:lnTo>
                      <a:pt x="92" y="301"/>
                    </a:lnTo>
                    <a:lnTo>
                      <a:pt x="81" y="301"/>
                    </a:lnTo>
                    <a:lnTo>
                      <a:pt x="69" y="301"/>
                    </a:lnTo>
                    <a:lnTo>
                      <a:pt x="57" y="290"/>
                    </a:lnTo>
                    <a:lnTo>
                      <a:pt x="57" y="278"/>
                    </a:lnTo>
                    <a:lnTo>
                      <a:pt x="47" y="267"/>
                    </a:lnTo>
                    <a:lnTo>
                      <a:pt x="47" y="254"/>
                    </a:lnTo>
                    <a:lnTo>
                      <a:pt x="47" y="243"/>
                    </a:lnTo>
                    <a:lnTo>
                      <a:pt x="35" y="232"/>
                    </a:lnTo>
                    <a:lnTo>
                      <a:pt x="23" y="232"/>
                    </a:lnTo>
                    <a:lnTo>
                      <a:pt x="11" y="232"/>
                    </a:lnTo>
                    <a:lnTo>
                      <a:pt x="11" y="220"/>
                    </a:lnTo>
                    <a:lnTo>
                      <a:pt x="0" y="220"/>
                    </a:lnTo>
                    <a:lnTo>
                      <a:pt x="0" y="209"/>
                    </a:lnTo>
                    <a:lnTo>
                      <a:pt x="11" y="196"/>
                    </a:lnTo>
                    <a:lnTo>
                      <a:pt x="11" y="185"/>
                    </a:lnTo>
                    <a:lnTo>
                      <a:pt x="23" y="185"/>
                    </a:lnTo>
                    <a:lnTo>
                      <a:pt x="23" y="173"/>
                    </a:lnTo>
                    <a:lnTo>
                      <a:pt x="35" y="173"/>
                    </a:lnTo>
                    <a:lnTo>
                      <a:pt x="69" y="220"/>
                    </a:lnTo>
                    <a:lnTo>
                      <a:pt x="81" y="220"/>
                    </a:lnTo>
                    <a:lnTo>
                      <a:pt x="81" y="209"/>
                    </a:lnTo>
                    <a:lnTo>
                      <a:pt x="92" y="209"/>
                    </a:lnTo>
                    <a:lnTo>
                      <a:pt x="92" y="196"/>
                    </a:lnTo>
                    <a:lnTo>
                      <a:pt x="105" y="196"/>
                    </a:lnTo>
                    <a:lnTo>
                      <a:pt x="105" y="185"/>
                    </a:lnTo>
                    <a:lnTo>
                      <a:pt x="105" y="173"/>
                    </a:lnTo>
                    <a:lnTo>
                      <a:pt x="105" y="162"/>
                    </a:lnTo>
                    <a:lnTo>
                      <a:pt x="115" y="151"/>
                    </a:lnTo>
                    <a:lnTo>
                      <a:pt x="115" y="138"/>
                    </a:lnTo>
                    <a:lnTo>
                      <a:pt x="126" y="127"/>
                    </a:lnTo>
                    <a:lnTo>
                      <a:pt x="126" y="116"/>
                    </a:lnTo>
                    <a:lnTo>
                      <a:pt x="126" y="104"/>
                    </a:lnTo>
                    <a:lnTo>
                      <a:pt x="126" y="93"/>
                    </a:lnTo>
                    <a:lnTo>
                      <a:pt x="126" y="80"/>
                    </a:lnTo>
                    <a:lnTo>
                      <a:pt x="139" y="69"/>
                    </a:lnTo>
                    <a:lnTo>
                      <a:pt x="139" y="58"/>
                    </a:lnTo>
                    <a:lnTo>
                      <a:pt x="139" y="46"/>
                    </a:lnTo>
                    <a:lnTo>
                      <a:pt x="139" y="35"/>
                    </a:lnTo>
                    <a:lnTo>
                      <a:pt x="139" y="22"/>
                    </a:lnTo>
                    <a:lnTo>
                      <a:pt x="139" y="11"/>
                    </a:lnTo>
                    <a:lnTo>
                      <a:pt x="13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749920" y="4308480"/>
                <a:ext cx="155520" cy="92160"/>
              </a:xfrm>
              <a:custGeom>
                <a:avLst/>
                <a:gdLst/>
                <a:ahLst/>
                <a:rect l="l" t="t" r="r" b="b"/>
                <a:pathLst>
                  <a:path w="394" h="233">
                    <a:moveTo>
                      <a:pt x="383" y="233"/>
                    </a:moveTo>
                    <a:lnTo>
                      <a:pt x="370" y="233"/>
                    </a:lnTo>
                    <a:lnTo>
                      <a:pt x="370" y="221"/>
                    </a:lnTo>
                    <a:lnTo>
                      <a:pt x="313" y="233"/>
                    </a:lnTo>
                    <a:lnTo>
                      <a:pt x="301" y="233"/>
                    </a:lnTo>
                    <a:lnTo>
                      <a:pt x="301" y="221"/>
                    </a:lnTo>
                    <a:lnTo>
                      <a:pt x="301" y="209"/>
                    </a:lnTo>
                    <a:lnTo>
                      <a:pt x="313" y="209"/>
                    </a:lnTo>
                    <a:lnTo>
                      <a:pt x="301" y="175"/>
                    </a:lnTo>
                    <a:lnTo>
                      <a:pt x="255" y="163"/>
                    </a:lnTo>
                    <a:lnTo>
                      <a:pt x="255" y="151"/>
                    </a:lnTo>
                    <a:lnTo>
                      <a:pt x="267" y="140"/>
                    </a:lnTo>
                    <a:lnTo>
                      <a:pt x="279" y="140"/>
                    </a:lnTo>
                    <a:lnTo>
                      <a:pt x="291" y="140"/>
                    </a:lnTo>
                    <a:lnTo>
                      <a:pt x="301" y="140"/>
                    </a:lnTo>
                    <a:lnTo>
                      <a:pt x="301" y="151"/>
                    </a:lnTo>
                    <a:lnTo>
                      <a:pt x="301" y="163"/>
                    </a:lnTo>
                    <a:lnTo>
                      <a:pt x="383" y="151"/>
                    </a:lnTo>
                    <a:lnTo>
                      <a:pt x="383" y="140"/>
                    </a:lnTo>
                    <a:lnTo>
                      <a:pt x="394" y="140"/>
                    </a:lnTo>
                    <a:lnTo>
                      <a:pt x="394" y="128"/>
                    </a:lnTo>
                    <a:lnTo>
                      <a:pt x="394" y="116"/>
                    </a:lnTo>
                    <a:lnTo>
                      <a:pt x="394" y="106"/>
                    </a:lnTo>
                    <a:lnTo>
                      <a:pt x="313" y="35"/>
                    </a:lnTo>
                    <a:lnTo>
                      <a:pt x="279" y="48"/>
                    </a:lnTo>
                    <a:lnTo>
                      <a:pt x="233" y="70"/>
                    </a:lnTo>
                    <a:lnTo>
                      <a:pt x="209" y="93"/>
                    </a:lnTo>
                    <a:lnTo>
                      <a:pt x="139" y="93"/>
                    </a:lnTo>
                    <a:lnTo>
                      <a:pt x="139" y="82"/>
                    </a:lnTo>
                    <a:lnTo>
                      <a:pt x="139" y="70"/>
                    </a:lnTo>
                    <a:lnTo>
                      <a:pt x="152" y="70"/>
                    </a:lnTo>
                    <a:lnTo>
                      <a:pt x="163" y="58"/>
                    </a:lnTo>
                    <a:lnTo>
                      <a:pt x="174" y="48"/>
                    </a:lnTo>
                    <a:lnTo>
                      <a:pt x="186" y="35"/>
                    </a:lnTo>
                    <a:lnTo>
                      <a:pt x="186" y="24"/>
                    </a:lnTo>
                    <a:lnTo>
                      <a:pt x="186" y="11"/>
                    </a:lnTo>
                    <a:lnTo>
                      <a:pt x="174" y="11"/>
                    </a:lnTo>
                    <a:lnTo>
                      <a:pt x="174" y="0"/>
                    </a:lnTo>
                    <a:lnTo>
                      <a:pt x="82" y="0"/>
                    </a:lnTo>
                    <a:lnTo>
                      <a:pt x="82" y="11"/>
                    </a:lnTo>
                    <a:lnTo>
                      <a:pt x="82" y="24"/>
                    </a:lnTo>
                    <a:lnTo>
                      <a:pt x="82" y="35"/>
                    </a:lnTo>
                    <a:lnTo>
                      <a:pt x="70" y="48"/>
                    </a:lnTo>
                    <a:lnTo>
                      <a:pt x="70" y="35"/>
                    </a:lnTo>
                    <a:lnTo>
                      <a:pt x="58" y="35"/>
                    </a:lnTo>
                    <a:lnTo>
                      <a:pt x="47" y="35"/>
                    </a:lnTo>
                    <a:lnTo>
                      <a:pt x="36" y="35"/>
                    </a:lnTo>
                    <a:lnTo>
                      <a:pt x="24" y="48"/>
                    </a:lnTo>
                    <a:lnTo>
                      <a:pt x="24" y="58"/>
                    </a:lnTo>
                    <a:lnTo>
                      <a:pt x="12" y="58"/>
                    </a:lnTo>
                    <a:lnTo>
                      <a:pt x="0" y="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80080" y="4299120"/>
                <a:ext cx="69840" cy="137880"/>
              </a:xfrm>
              <a:custGeom>
                <a:avLst/>
                <a:gdLst/>
                <a:ahLst/>
                <a:rect l="l" t="t" r="r" b="b"/>
                <a:pathLst>
                  <a:path w="173" h="349">
                    <a:moveTo>
                      <a:pt x="173" y="93"/>
                    </a:moveTo>
                    <a:lnTo>
                      <a:pt x="163" y="93"/>
                    </a:lnTo>
                    <a:lnTo>
                      <a:pt x="163" y="81"/>
                    </a:lnTo>
                    <a:lnTo>
                      <a:pt x="151" y="13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8" y="0"/>
                    </a:lnTo>
                    <a:lnTo>
                      <a:pt x="115" y="0"/>
                    </a:lnTo>
                    <a:lnTo>
                      <a:pt x="105" y="0"/>
                    </a:lnTo>
                    <a:lnTo>
                      <a:pt x="93" y="0"/>
                    </a:lnTo>
                    <a:lnTo>
                      <a:pt x="93" y="13"/>
                    </a:lnTo>
                    <a:lnTo>
                      <a:pt x="93" y="23"/>
                    </a:lnTo>
                    <a:lnTo>
                      <a:pt x="105" y="47"/>
                    </a:lnTo>
                    <a:lnTo>
                      <a:pt x="105" y="58"/>
                    </a:lnTo>
                    <a:lnTo>
                      <a:pt x="105" y="71"/>
                    </a:lnTo>
                    <a:lnTo>
                      <a:pt x="105" y="81"/>
                    </a:lnTo>
                    <a:lnTo>
                      <a:pt x="105" y="93"/>
                    </a:lnTo>
                    <a:lnTo>
                      <a:pt x="93" y="105"/>
                    </a:lnTo>
                    <a:lnTo>
                      <a:pt x="57" y="81"/>
                    </a:lnTo>
                    <a:lnTo>
                      <a:pt x="35" y="81"/>
                    </a:lnTo>
                    <a:lnTo>
                      <a:pt x="35" y="93"/>
                    </a:lnTo>
                    <a:lnTo>
                      <a:pt x="23" y="105"/>
                    </a:lnTo>
                    <a:lnTo>
                      <a:pt x="23" y="116"/>
                    </a:lnTo>
                    <a:lnTo>
                      <a:pt x="12" y="129"/>
                    </a:lnTo>
                    <a:lnTo>
                      <a:pt x="12" y="139"/>
                    </a:lnTo>
                    <a:lnTo>
                      <a:pt x="12" y="151"/>
                    </a:lnTo>
                    <a:lnTo>
                      <a:pt x="23" y="163"/>
                    </a:lnTo>
                    <a:lnTo>
                      <a:pt x="35" y="163"/>
                    </a:lnTo>
                    <a:lnTo>
                      <a:pt x="35" y="174"/>
                    </a:lnTo>
                    <a:lnTo>
                      <a:pt x="47" y="174"/>
                    </a:lnTo>
                    <a:lnTo>
                      <a:pt x="57" y="174"/>
                    </a:lnTo>
                    <a:lnTo>
                      <a:pt x="70" y="174"/>
                    </a:lnTo>
                    <a:lnTo>
                      <a:pt x="81" y="174"/>
                    </a:lnTo>
                    <a:lnTo>
                      <a:pt x="81" y="186"/>
                    </a:lnTo>
                    <a:lnTo>
                      <a:pt x="23" y="221"/>
                    </a:lnTo>
                    <a:lnTo>
                      <a:pt x="0" y="336"/>
                    </a:lnTo>
                    <a:lnTo>
                      <a:pt x="0" y="349"/>
                    </a:lnTo>
                    <a:lnTo>
                      <a:pt x="12" y="349"/>
                    </a:lnTo>
                    <a:lnTo>
                      <a:pt x="93" y="336"/>
                    </a:lnTo>
                    <a:lnTo>
                      <a:pt x="93" y="325"/>
                    </a:lnTo>
                    <a:lnTo>
                      <a:pt x="93" y="314"/>
                    </a:lnTo>
                    <a:lnTo>
                      <a:pt x="93" y="302"/>
                    </a:lnTo>
                    <a:lnTo>
                      <a:pt x="81" y="291"/>
                    </a:lnTo>
                    <a:lnTo>
                      <a:pt x="70" y="278"/>
                    </a:lnTo>
                    <a:lnTo>
                      <a:pt x="70" y="267"/>
                    </a:lnTo>
                    <a:lnTo>
                      <a:pt x="81" y="267"/>
                    </a:lnTo>
                    <a:lnTo>
                      <a:pt x="93" y="256"/>
                    </a:lnTo>
                    <a:lnTo>
                      <a:pt x="105" y="256"/>
                    </a:lnTo>
                    <a:lnTo>
                      <a:pt x="115" y="267"/>
                    </a:lnTo>
                    <a:lnTo>
                      <a:pt x="128" y="302"/>
                    </a:lnTo>
                    <a:lnTo>
                      <a:pt x="128" y="314"/>
                    </a:lnTo>
                    <a:lnTo>
                      <a:pt x="139" y="314"/>
                    </a:lnTo>
                    <a:lnTo>
                      <a:pt x="151" y="302"/>
                    </a:lnTo>
                    <a:lnTo>
                      <a:pt x="163" y="302"/>
                    </a:lnTo>
                    <a:lnTo>
                      <a:pt x="173" y="3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437080" y="4419720"/>
                <a:ext cx="327240" cy="210960"/>
              </a:xfrm>
              <a:custGeom>
                <a:avLst/>
                <a:gdLst/>
                <a:ahLst/>
                <a:rect l="l" t="t" r="r" b="b"/>
                <a:pathLst>
                  <a:path w="822" h="534">
                    <a:moveTo>
                      <a:pt x="786" y="0"/>
                    </a:moveTo>
                    <a:lnTo>
                      <a:pt x="752" y="47"/>
                    </a:lnTo>
                    <a:lnTo>
                      <a:pt x="752" y="58"/>
                    </a:lnTo>
                    <a:lnTo>
                      <a:pt x="752" y="70"/>
                    </a:lnTo>
                    <a:lnTo>
                      <a:pt x="764" y="70"/>
                    </a:lnTo>
                    <a:lnTo>
                      <a:pt x="764" y="81"/>
                    </a:lnTo>
                    <a:lnTo>
                      <a:pt x="776" y="81"/>
                    </a:lnTo>
                    <a:lnTo>
                      <a:pt x="741" y="127"/>
                    </a:lnTo>
                    <a:lnTo>
                      <a:pt x="741" y="139"/>
                    </a:lnTo>
                    <a:lnTo>
                      <a:pt x="741" y="150"/>
                    </a:lnTo>
                    <a:lnTo>
                      <a:pt x="752" y="150"/>
                    </a:lnTo>
                    <a:lnTo>
                      <a:pt x="741" y="278"/>
                    </a:lnTo>
                    <a:lnTo>
                      <a:pt x="798" y="302"/>
                    </a:lnTo>
                    <a:lnTo>
                      <a:pt x="798" y="290"/>
                    </a:lnTo>
                    <a:lnTo>
                      <a:pt x="810" y="290"/>
                    </a:lnTo>
                    <a:lnTo>
                      <a:pt x="822" y="290"/>
                    </a:lnTo>
                    <a:lnTo>
                      <a:pt x="822" y="302"/>
                    </a:lnTo>
                    <a:lnTo>
                      <a:pt x="822" y="313"/>
                    </a:lnTo>
                    <a:lnTo>
                      <a:pt x="810" y="324"/>
                    </a:lnTo>
                    <a:lnTo>
                      <a:pt x="798" y="336"/>
                    </a:lnTo>
                    <a:lnTo>
                      <a:pt x="786" y="348"/>
                    </a:lnTo>
                    <a:lnTo>
                      <a:pt x="764" y="348"/>
                    </a:lnTo>
                    <a:lnTo>
                      <a:pt x="752" y="348"/>
                    </a:lnTo>
                    <a:lnTo>
                      <a:pt x="728" y="360"/>
                    </a:lnTo>
                    <a:lnTo>
                      <a:pt x="706" y="360"/>
                    </a:lnTo>
                    <a:lnTo>
                      <a:pt x="694" y="348"/>
                    </a:lnTo>
                    <a:lnTo>
                      <a:pt x="660" y="348"/>
                    </a:lnTo>
                    <a:lnTo>
                      <a:pt x="625" y="336"/>
                    </a:lnTo>
                    <a:lnTo>
                      <a:pt x="590" y="324"/>
                    </a:lnTo>
                    <a:lnTo>
                      <a:pt x="567" y="302"/>
                    </a:lnTo>
                    <a:lnTo>
                      <a:pt x="545" y="290"/>
                    </a:lnTo>
                    <a:lnTo>
                      <a:pt x="521" y="266"/>
                    </a:lnTo>
                    <a:lnTo>
                      <a:pt x="487" y="244"/>
                    </a:lnTo>
                    <a:lnTo>
                      <a:pt x="463" y="232"/>
                    </a:lnTo>
                    <a:lnTo>
                      <a:pt x="219" y="186"/>
                    </a:lnTo>
                    <a:lnTo>
                      <a:pt x="196" y="208"/>
                    </a:lnTo>
                    <a:lnTo>
                      <a:pt x="162" y="208"/>
                    </a:lnTo>
                    <a:lnTo>
                      <a:pt x="138" y="221"/>
                    </a:lnTo>
                    <a:lnTo>
                      <a:pt x="104" y="221"/>
                    </a:lnTo>
                    <a:lnTo>
                      <a:pt x="80" y="221"/>
                    </a:lnTo>
                    <a:lnTo>
                      <a:pt x="46" y="232"/>
                    </a:lnTo>
                    <a:lnTo>
                      <a:pt x="22" y="255"/>
                    </a:lnTo>
                    <a:lnTo>
                      <a:pt x="0" y="290"/>
                    </a:lnTo>
                    <a:lnTo>
                      <a:pt x="22" y="313"/>
                    </a:lnTo>
                    <a:lnTo>
                      <a:pt x="46" y="336"/>
                    </a:lnTo>
                    <a:lnTo>
                      <a:pt x="57" y="348"/>
                    </a:lnTo>
                    <a:lnTo>
                      <a:pt x="80" y="371"/>
                    </a:lnTo>
                    <a:lnTo>
                      <a:pt x="92" y="382"/>
                    </a:lnTo>
                    <a:lnTo>
                      <a:pt x="104" y="394"/>
                    </a:lnTo>
                    <a:lnTo>
                      <a:pt x="115" y="394"/>
                    </a:lnTo>
                    <a:lnTo>
                      <a:pt x="128" y="382"/>
                    </a:lnTo>
                    <a:lnTo>
                      <a:pt x="138" y="382"/>
                    </a:lnTo>
                    <a:lnTo>
                      <a:pt x="150" y="371"/>
                    </a:lnTo>
                    <a:lnTo>
                      <a:pt x="162" y="360"/>
                    </a:lnTo>
                    <a:lnTo>
                      <a:pt x="174" y="360"/>
                    </a:lnTo>
                    <a:lnTo>
                      <a:pt x="185" y="348"/>
                    </a:lnTo>
                    <a:lnTo>
                      <a:pt x="196" y="348"/>
                    </a:lnTo>
                    <a:lnTo>
                      <a:pt x="208" y="348"/>
                    </a:lnTo>
                    <a:lnTo>
                      <a:pt x="219" y="360"/>
                    </a:lnTo>
                    <a:lnTo>
                      <a:pt x="243" y="371"/>
                    </a:lnTo>
                    <a:lnTo>
                      <a:pt x="266" y="371"/>
                    </a:lnTo>
                    <a:lnTo>
                      <a:pt x="277" y="382"/>
                    </a:lnTo>
                    <a:lnTo>
                      <a:pt x="301" y="394"/>
                    </a:lnTo>
                    <a:lnTo>
                      <a:pt x="324" y="406"/>
                    </a:lnTo>
                    <a:lnTo>
                      <a:pt x="335" y="418"/>
                    </a:lnTo>
                    <a:lnTo>
                      <a:pt x="347" y="428"/>
                    </a:lnTo>
                    <a:lnTo>
                      <a:pt x="359" y="441"/>
                    </a:lnTo>
                    <a:lnTo>
                      <a:pt x="393" y="452"/>
                    </a:lnTo>
                    <a:lnTo>
                      <a:pt x="417" y="464"/>
                    </a:lnTo>
                    <a:lnTo>
                      <a:pt x="439" y="464"/>
                    </a:lnTo>
                    <a:lnTo>
                      <a:pt x="474" y="476"/>
                    </a:lnTo>
                    <a:lnTo>
                      <a:pt x="497" y="476"/>
                    </a:lnTo>
                    <a:lnTo>
                      <a:pt x="521" y="486"/>
                    </a:lnTo>
                    <a:lnTo>
                      <a:pt x="545" y="499"/>
                    </a:lnTo>
                    <a:lnTo>
                      <a:pt x="567" y="522"/>
                    </a:lnTo>
                    <a:lnTo>
                      <a:pt x="579" y="522"/>
                    </a:lnTo>
                    <a:lnTo>
                      <a:pt x="590" y="522"/>
                    </a:lnTo>
                    <a:lnTo>
                      <a:pt x="602" y="534"/>
                    </a:lnTo>
                    <a:lnTo>
                      <a:pt x="613" y="534"/>
                    </a:lnTo>
                    <a:lnTo>
                      <a:pt x="625" y="53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538960" y="4630680"/>
                <a:ext cx="183960" cy="542880"/>
              </a:xfrm>
              <a:custGeom>
                <a:avLst/>
                <a:gdLst/>
                <a:ahLst/>
                <a:rect l="l" t="t" r="r" b="b"/>
                <a:pathLst>
                  <a:path w="465" h="1368">
                    <a:moveTo>
                      <a:pt x="372" y="0"/>
                    </a:moveTo>
                    <a:lnTo>
                      <a:pt x="372" y="10"/>
                    </a:lnTo>
                    <a:lnTo>
                      <a:pt x="383" y="10"/>
                    </a:lnTo>
                    <a:lnTo>
                      <a:pt x="383" y="23"/>
                    </a:lnTo>
                    <a:lnTo>
                      <a:pt x="395" y="34"/>
                    </a:lnTo>
                    <a:lnTo>
                      <a:pt x="407" y="45"/>
                    </a:lnTo>
                    <a:lnTo>
                      <a:pt x="417" y="58"/>
                    </a:lnTo>
                    <a:lnTo>
                      <a:pt x="430" y="69"/>
                    </a:lnTo>
                    <a:lnTo>
                      <a:pt x="453" y="185"/>
                    </a:lnTo>
                    <a:lnTo>
                      <a:pt x="441" y="196"/>
                    </a:lnTo>
                    <a:lnTo>
                      <a:pt x="441" y="220"/>
                    </a:lnTo>
                    <a:lnTo>
                      <a:pt x="430" y="232"/>
                    </a:lnTo>
                    <a:lnTo>
                      <a:pt x="430" y="254"/>
                    </a:lnTo>
                    <a:lnTo>
                      <a:pt x="417" y="278"/>
                    </a:lnTo>
                    <a:lnTo>
                      <a:pt x="417" y="290"/>
                    </a:lnTo>
                    <a:lnTo>
                      <a:pt x="417" y="312"/>
                    </a:lnTo>
                    <a:lnTo>
                      <a:pt x="417" y="336"/>
                    </a:lnTo>
                    <a:lnTo>
                      <a:pt x="417" y="347"/>
                    </a:lnTo>
                    <a:lnTo>
                      <a:pt x="407" y="360"/>
                    </a:lnTo>
                    <a:lnTo>
                      <a:pt x="407" y="370"/>
                    </a:lnTo>
                    <a:lnTo>
                      <a:pt x="407" y="382"/>
                    </a:lnTo>
                    <a:lnTo>
                      <a:pt x="407" y="394"/>
                    </a:lnTo>
                    <a:lnTo>
                      <a:pt x="407" y="405"/>
                    </a:lnTo>
                    <a:lnTo>
                      <a:pt x="417" y="405"/>
                    </a:lnTo>
                    <a:lnTo>
                      <a:pt x="417" y="418"/>
                    </a:lnTo>
                    <a:lnTo>
                      <a:pt x="430" y="428"/>
                    </a:lnTo>
                    <a:lnTo>
                      <a:pt x="441" y="428"/>
                    </a:lnTo>
                    <a:lnTo>
                      <a:pt x="441" y="439"/>
                    </a:lnTo>
                    <a:lnTo>
                      <a:pt x="453" y="463"/>
                    </a:lnTo>
                    <a:lnTo>
                      <a:pt x="453" y="476"/>
                    </a:lnTo>
                    <a:lnTo>
                      <a:pt x="465" y="486"/>
                    </a:lnTo>
                    <a:lnTo>
                      <a:pt x="465" y="510"/>
                    </a:lnTo>
                    <a:lnTo>
                      <a:pt x="465" y="521"/>
                    </a:lnTo>
                    <a:lnTo>
                      <a:pt x="441" y="568"/>
                    </a:lnTo>
                    <a:lnTo>
                      <a:pt x="430" y="603"/>
                    </a:lnTo>
                    <a:lnTo>
                      <a:pt x="407" y="637"/>
                    </a:lnTo>
                    <a:lnTo>
                      <a:pt x="383" y="672"/>
                    </a:lnTo>
                    <a:lnTo>
                      <a:pt x="360" y="696"/>
                    </a:lnTo>
                    <a:lnTo>
                      <a:pt x="326" y="730"/>
                    </a:lnTo>
                    <a:lnTo>
                      <a:pt x="302" y="754"/>
                    </a:lnTo>
                    <a:lnTo>
                      <a:pt x="268" y="777"/>
                    </a:lnTo>
                    <a:lnTo>
                      <a:pt x="268" y="788"/>
                    </a:lnTo>
                    <a:lnTo>
                      <a:pt x="268" y="799"/>
                    </a:lnTo>
                    <a:lnTo>
                      <a:pt x="268" y="812"/>
                    </a:lnTo>
                    <a:lnTo>
                      <a:pt x="255" y="835"/>
                    </a:lnTo>
                    <a:lnTo>
                      <a:pt x="255" y="846"/>
                    </a:lnTo>
                    <a:lnTo>
                      <a:pt x="244" y="857"/>
                    </a:lnTo>
                    <a:lnTo>
                      <a:pt x="234" y="857"/>
                    </a:lnTo>
                    <a:lnTo>
                      <a:pt x="221" y="870"/>
                    </a:lnTo>
                    <a:lnTo>
                      <a:pt x="198" y="894"/>
                    </a:lnTo>
                    <a:lnTo>
                      <a:pt x="175" y="915"/>
                    </a:lnTo>
                    <a:lnTo>
                      <a:pt x="152" y="939"/>
                    </a:lnTo>
                    <a:lnTo>
                      <a:pt x="128" y="962"/>
                    </a:lnTo>
                    <a:lnTo>
                      <a:pt x="117" y="986"/>
                    </a:lnTo>
                    <a:lnTo>
                      <a:pt x="94" y="1020"/>
                    </a:lnTo>
                    <a:lnTo>
                      <a:pt x="82" y="1055"/>
                    </a:lnTo>
                    <a:lnTo>
                      <a:pt x="82" y="1090"/>
                    </a:lnTo>
                    <a:lnTo>
                      <a:pt x="82" y="1113"/>
                    </a:lnTo>
                    <a:lnTo>
                      <a:pt x="71" y="1136"/>
                    </a:lnTo>
                    <a:lnTo>
                      <a:pt x="71" y="1159"/>
                    </a:lnTo>
                    <a:lnTo>
                      <a:pt x="71" y="1183"/>
                    </a:lnTo>
                    <a:lnTo>
                      <a:pt x="58" y="1206"/>
                    </a:lnTo>
                    <a:lnTo>
                      <a:pt x="58" y="1217"/>
                    </a:lnTo>
                    <a:lnTo>
                      <a:pt x="48" y="1241"/>
                    </a:lnTo>
                    <a:lnTo>
                      <a:pt x="24" y="1252"/>
                    </a:lnTo>
                    <a:lnTo>
                      <a:pt x="24" y="1264"/>
                    </a:lnTo>
                    <a:lnTo>
                      <a:pt x="13" y="1275"/>
                    </a:lnTo>
                    <a:lnTo>
                      <a:pt x="0" y="1287"/>
                    </a:lnTo>
                    <a:lnTo>
                      <a:pt x="0" y="1299"/>
                    </a:lnTo>
                    <a:lnTo>
                      <a:pt x="0" y="1310"/>
                    </a:lnTo>
                    <a:lnTo>
                      <a:pt x="0" y="1322"/>
                    </a:lnTo>
                    <a:lnTo>
                      <a:pt x="0" y="1333"/>
                    </a:lnTo>
                    <a:lnTo>
                      <a:pt x="13" y="1345"/>
                    </a:lnTo>
                    <a:lnTo>
                      <a:pt x="24" y="1357"/>
                    </a:lnTo>
                    <a:lnTo>
                      <a:pt x="37" y="1368"/>
                    </a:lnTo>
                    <a:lnTo>
                      <a:pt x="48" y="1368"/>
                    </a:lnTo>
                    <a:lnTo>
                      <a:pt x="58" y="1368"/>
                    </a:lnTo>
                    <a:lnTo>
                      <a:pt x="71" y="1368"/>
                    </a:lnTo>
                    <a:lnTo>
                      <a:pt x="94" y="1357"/>
                    </a:lnTo>
                    <a:lnTo>
                      <a:pt x="106" y="1357"/>
                    </a:lnTo>
                    <a:lnTo>
                      <a:pt x="128" y="1345"/>
                    </a:lnTo>
                    <a:lnTo>
                      <a:pt x="140" y="1345"/>
                    </a:lnTo>
                    <a:lnTo>
                      <a:pt x="164" y="1345"/>
                    </a:lnTo>
                    <a:lnTo>
                      <a:pt x="175" y="1345"/>
                    </a:lnTo>
                    <a:lnTo>
                      <a:pt x="198" y="1345"/>
                    </a:lnTo>
                    <a:lnTo>
                      <a:pt x="210" y="13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621400" y="4686480"/>
                <a:ext cx="366480" cy="487080"/>
              </a:xfrm>
              <a:custGeom>
                <a:avLst/>
                <a:gdLst/>
                <a:ahLst/>
                <a:rect l="l" t="t" r="r" b="b"/>
                <a:pathLst>
                  <a:path w="926" h="1229">
                    <a:moveTo>
                      <a:pt x="0" y="1194"/>
                    </a:moveTo>
                    <a:lnTo>
                      <a:pt x="11" y="1183"/>
                    </a:lnTo>
                    <a:lnTo>
                      <a:pt x="11" y="1171"/>
                    </a:lnTo>
                    <a:lnTo>
                      <a:pt x="24" y="1171"/>
                    </a:lnTo>
                    <a:lnTo>
                      <a:pt x="24" y="1160"/>
                    </a:lnTo>
                    <a:lnTo>
                      <a:pt x="24" y="1148"/>
                    </a:lnTo>
                    <a:lnTo>
                      <a:pt x="24" y="1136"/>
                    </a:lnTo>
                    <a:lnTo>
                      <a:pt x="11" y="1125"/>
                    </a:lnTo>
                    <a:lnTo>
                      <a:pt x="11" y="1113"/>
                    </a:lnTo>
                    <a:lnTo>
                      <a:pt x="11" y="1102"/>
                    </a:lnTo>
                    <a:lnTo>
                      <a:pt x="11" y="1090"/>
                    </a:lnTo>
                    <a:lnTo>
                      <a:pt x="11" y="1078"/>
                    </a:lnTo>
                    <a:lnTo>
                      <a:pt x="11" y="1067"/>
                    </a:lnTo>
                    <a:lnTo>
                      <a:pt x="11" y="1054"/>
                    </a:lnTo>
                    <a:lnTo>
                      <a:pt x="69" y="1054"/>
                    </a:lnTo>
                    <a:lnTo>
                      <a:pt x="82" y="1032"/>
                    </a:lnTo>
                    <a:lnTo>
                      <a:pt x="104" y="997"/>
                    </a:lnTo>
                    <a:lnTo>
                      <a:pt x="116" y="951"/>
                    </a:lnTo>
                    <a:lnTo>
                      <a:pt x="127" y="916"/>
                    </a:lnTo>
                    <a:lnTo>
                      <a:pt x="139" y="881"/>
                    </a:lnTo>
                    <a:lnTo>
                      <a:pt x="150" y="847"/>
                    </a:lnTo>
                    <a:lnTo>
                      <a:pt x="173" y="812"/>
                    </a:lnTo>
                    <a:lnTo>
                      <a:pt x="207" y="789"/>
                    </a:lnTo>
                    <a:lnTo>
                      <a:pt x="243" y="765"/>
                    </a:lnTo>
                    <a:lnTo>
                      <a:pt x="265" y="731"/>
                    </a:lnTo>
                    <a:lnTo>
                      <a:pt x="289" y="696"/>
                    </a:lnTo>
                    <a:lnTo>
                      <a:pt x="313" y="660"/>
                    </a:lnTo>
                    <a:lnTo>
                      <a:pt x="335" y="626"/>
                    </a:lnTo>
                    <a:lnTo>
                      <a:pt x="359" y="591"/>
                    </a:lnTo>
                    <a:lnTo>
                      <a:pt x="393" y="568"/>
                    </a:lnTo>
                    <a:lnTo>
                      <a:pt x="439" y="545"/>
                    </a:lnTo>
                    <a:lnTo>
                      <a:pt x="451" y="545"/>
                    </a:lnTo>
                    <a:lnTo>
                      <a:pt x="462" y="568"/>
                    </a:lnTo>
                    <a:lnTo>
                      <a:pt x="462" y="591"/>
                    </a:lnTo>
                    <a:lnTo>
                      <a:pt x="462" y="626"/>
                    </a:lnTo>
                    <a:lnTo>
                      <a:pt x="475" y="649"/>
                    </a:lnTo>
                    <a:lnTo>
                      <a:pt x="475" y="673"/>
                    </a:lnTo>
                    <a:lnTo>
                      <a:pt x="486" y="696"/>
                    </a:lnTo>
                    <a:lnTo>
                      <a:pt x="497" y="731"/>
                    </a:lnTo>
                    <a:lnTo>
                      <a:pt x="509" y="755"/>
                    </a:lnTo>
                    <a:lnTo>
                      <a:pt x="509" y="789"/>
                    </a:lnTo>
                    <a:lnTo>
                      <a:pt x="520" y="823"/>
                    </a:lnTo>
                    <a:lnTo>
                      <a:pt x="520" y="870"/>
                    </a:lnTo>
                    <a:lnTo>
                      <a:pt x="509" y="904"/>
                    </a:lnTo>
                    <a:lnTo>
                      <a:pt x="509" y="939"/>
                    </a:lnTo>
                    <a:lnTo>
                      <a:pt x="497" y="974"/>
                    </a:lnTo>
                    <a:lnTo>
                      <a:pt x="497" y="1020"/>
                    </a:lnTo>
                    <a:lnTo>
                      <a:pt x="497" y="1054"/>
                    </a:lnTo>
                    <a:lnTo>
                      <a:pt x="475" y="1206"/>
                    </a:lnTo>
                    <a:lnTo>
                      <a:pt x="497" y="1229"/>
                    </a:lnTo>
                    <a:lnTo>
                      <a:pt x="659" y="1218"/>
                    </a:lnTo>
                    <a:lnTo>
                      <a:pt x="672" y="1218"/>
                    </a:lnTo>
                    <a:lnTo>
                      <a:pt x="682" y="1218"/>
                    </a:lnTo>
                    <a:lnTo>
                      <a:pt x="693" y="1194"/>
                    </a:lnTo>
                    <a:lnTo>
                      <a:pt x="693" y="1171"/>
                    </a:lnTo>
                    <a:lnTo>
                      <a:pt x="693" y="1136"/>
                    </a:lnTo>
                    <a:lnTo>
                      <a:pt x="682" y="1113"/>
                    </a:lnTo>
                    <a:lnTo>
                      <a:pt x="672" y="1090"/>
                    </a:lnTo>
                    <a:lnTo>
                      <a:pt x="659" y="1067"/>
                    </a:lnTo>
                    <a:lnTo>
                      <a:pt x="659" y="1044"/>
                    </a:lnTo>
                    <a:lnTo>
                      <a:pt x="659" y="1020"/>
                    </a:lnTo>
                    <a:lnTo>
                      <a:pt x="682" y="928"/>
                    </a:lnTo>
                    <a:lnTo>
                      <a:pt x="693" y="823"/>
                    </a:lnTo>
                    <a:lnTo>
                      <a:pt x="693" y="731"/>
                    </a:lnTo>
                    <a:lnTo>
                      <a:pt x="693" y="626"/>
                    </a:lnTo>
                    <a:lnTo>
                      <a:pt x="693" y="533"/>
                    </a:lnTo>
                    <a:lnTo>
                      <a:pt x="682" y="440"/>
                    </a:lnTo>
                    <a:lnTo>
                      <a:pt x="693" y="337"/>
                    </a:lnTo>
                    <a:lnTo>
                      <a:pt x="717" y="243"/>
                    </a:lnTo>
                    <a:lnTo>
                      <a:pt x="706" y="208"/>
                    </a:lnTo>
                    <a:lnTo>
                      <a:pt x="706" y="185"/>
                    </a:lnTo>
                    <a:lnTo>
                      <a:pt x="717" y="151"/>
                    </a:lnTo>
                    <a:lnTo>
                      <a:pt x="730" y="127"/>
                    </a:lnTo>
                    <a:lnTo>
                      <a:pt x="740" y="104"/>
                    </a:lnTo>
                    <a:lnTo>
                      <a:pt x="752" y="81"/>
                    </a:lnTo>
                    <a:lnTo>
                      <a:pt x="752" y="46"/>
                    </a:lnTo>
                    <a:lnTo>
                      <a:pt x="752" y="23"/>
                    </a:lnTo>
                    <a:lnTo>
                      <a:pt x="764" y="11"/>
                    </a:lnTo>
                    <a:lnTo>
                      <a:pt x="775" y="11"/>
                    </a:lnTo>
                    <a:lnTo>
                      <a:pt x="787" y="0"/>
                    </a:lnTo>
                    <a:lnTo>
                      <a:pt x="810" y="0"/>
                    </a:lnTo>
                    <a:lnTo>
                      <a:pt x="821" y="0"/>
                    </a:lnTo>
                    <a:lnTo>
                      <a:pt x="845" y="0"/>
                    </a:lnTo>
                    <a:lnTo>
                      <a:pt x="856" y="0"/>
                    </a:lnTo>
                    <a:lnTo>
                      <a:pt x="868" y="0"/>
                    </a:lnTo>
                    <a:lnTo>
                      <a:pt x="926" y="81"/>
                    </a:lnTo>
                    <a:lnTo>
                      <a:pt x="926" y="93"/>
                    </a:lnTo>
                    <a:lnTo>
                      <a:pt x="926" y="104"/>
                    </a:lnTo>
                    <a:lnTo>
                      <a:pt x="926" y="1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987880" y="4732200"/>
                <a:ext cx="128880" cy="128880"/>
              </a:xfrm>
              <a:custGeom>
                <a:avLst/>
                <a:gdLst/>
                <a:ahLst/>
                <a:rect l="l" t="t" r="r" b="b"/>
                <a:pathLst>
                  <a:path w="324" h="325">
                    <a:moveTo>
                      <a:pt x="0" y="0"/>
                    </a:moveTo>
                    <a:lnTo>
                      <a:pt x="11" y="0"/>
                    </a:lnTo>
                    <a:lnTo>
                      <a:pt x="11" y="12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35" y="36"/>
                    </a:lnTo>
                    <a:lnTo>
                      <a:pt x="45" y="36"/>
                    </a:lnTo>
                    <a:lnTo>
                      <a:pt x="45" y="48"/>
                    </a:lnTo>
                    <a:lnTo>
                      <a:pt x="57" y="48"/>
                    </a:lnTo>
                    <a:lnTo>
                      <a:pt x="69" y="48"/>
                    </a:lnTo>
                    <a:lnTo>
                      <a:pt x="93" y="58"/>
                    </a:lnTo>
                    <a:lnTo>
                      <a:pt x="103" y="58"/>
                    </a:lnTo>
                    <a:lnTo>
                      <a:pt x="115" y="70"/>
                    </a:lnTo>
                    <a:lnTo>
                      <a:pt x="127" y="93"/>
                    </a:lnTo>
                    <a:lnTo>
                      <a:pt x="139" y="106"/>
                    </a:lnTo>
                    <a:lnTo>
                      <a:pt x="150" y="116"/>
                    </a:lnTo>
                    <a:lnTo>
                      <a:pt x="173" y="128"/>
                    </a:lnTo>
                    <a:lnTo>
                      <a:pt x="173" y="140"/>
                    </a:lnTo>
                    <a:lnTo>
                      <a:pt x="173" y="151"/>
                    </a:lnTo>
                    <a:lnTo>
                      <a:pt x="184" y="151"/>
                    </a:lnTo>
                    <a:lnTo>
                      <a:pt x="184" y="164"/>
                    </a:lnTo>
                    <a:lnTo>
                      <a:pt x="231" y="314"/>
                    </a:lnTo>
                    <a:lnTo>
                      <a:pt x="242" y="325"/>
                    </a:lnTo>
                    <a:lnTo>
                      <a:pt x="255" y="325"/>
                    </a:lnTo>
                    <a:lnTo>
                      <a:pt x="266" y="314"/>
                    </a:lnTo>
                    <a:lnTo>
                      <a:pt x="278" y="314"/>
                    </a:lnTo>
                    <a:lnTo>
                      <a:pt x="300" y="302"/>
                    </a:lnTo>
                    <a:lnTo>
                      <a:pt x="324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821040" y="4299120"/>
                <a:ext cx="398520" cy="874440"/>
              </a:xfrm>
              <a:custGeom>
                <a:avLst/>
                <a:gdLst/>
                <a:ahLst/>
                <a:rect l="l" t="t" r="r" b="b"/>
                <a:pathLst>
                  <a:path w="1007" h="2204">
                    <a:moveTo>
                      <a:pt x="0" y="546"/>
                    </a:moveTo>
                    <a:lnTo>
                      <a:pt x="0" y="2193"/>
                    </a:lnTo>
                    <a:lnTo>
                      <a:pt x="139" y="2204"/>
                    </a:lnTo>
                    <a:lnTo>
                      <a:pt x="161" y="2181"/>
                    </a:lnTo>
                    <a:lnTo>
                      <a:pt x="139" y="2029"/>
                    </a:lnTo>
                    <a:lnTo>
                      <a:pt x="139" y="1995"/>
                    </a:lnTo>
                    <a:lnTo>
                      <a:pt x="126" y="1949"/>
                    </a:lnTo>
                    <a:lnTo>
                      <a:pt x="126" y="1914"/>
                    </a:lnTo>
                    <a:lnTo>
                      <a:pt x="126" y="1879"/>
                    </a:lnTo>
                    <a:lnTo>
                      <a:pt x="116" y="1845"/>
                    </a:lnTo>
                    <a:lnTo>
                      <a:pt x="116" y="1798"/>
                    </a:lnTo>
                    <a:lnTo>
                      <a:pt x="116" y="1764"/>
                    </a:lnTo>
                    <a:lnTo>
                      <a:pt x="126" y="1730"/>
                    </a:lnTo>
                    <a:lnTo>
                      <a:pt x="139" y="1706"/>
                    </a:lnTo>
                    <a:lnTo>
                      <a:pt x="150" y="1671"/>
                    </a:lnTo>
                    <a:lnTo>
                      <a:pt x="161" y="1648"/>
                    </a:lnTo>
                    <a:lnTo>
                      <a:pt x="161" y="1624"/>
                    </a:lnTo>
                    <a:lnTo>
                      <a:pt x="161" y="1601"/>
                    </a:lnTo>
                    <a:lnTo>
                      <a:pt x="174" y="1566"/>
                    </a:lnTo>
                    <a:lnTo>
                      <a:pt x="174" y="1543"/>
                    </a:lnTo>
                    <a:lnTo>
                      <a:pt x="184" y="1520"/>
                    </a:lnTo>
                    <a:lnTo>
                      <a:pt x="196" y="1520"/>
                    </a:lnTo>
                    <a:lnTo>
                      <a:pt x="242" y="1543"/>
                    </a:lnTo>
                    <a:lnTo>
                      <a:pt x="266" y="1566"/>
                    </a:lnTo>
                    <a:lnTo>
                      <a:pt x="289" y="1601"/>
                    </a:lnTo>
                    <a:lnTo>
                      <a:pt x="312" y="1635"/>
                    </a:lnTo>
                    <a:lnTo>
                      <a:pt x="336" y="1671"/>
                    </a:lnTo>
                    <a:lnTo>
                      <a:pt x="358" y="1706"/>
                    </a:lnTo>
                    <a:lnTo>
                      <a:pt x="394" y="1740"/>
                    </a:lnTo>
                    <a:lnTo>
                      <a:pt x="428" y="1764"/>
                    </a:lnTo>
                    <a:lnTo>
                      <a:pt x="451" y="1787"/>
                    </a:lnTo>
                    <a:lnTo>
                      <a:pt x="474" y="1822"/>
                    </a:lnTo>
                    <a:lnTo>
                      <a:pt x="497" y="1856"/>
                    </a:lnTo>
                    <a:lnTo>
                      <a:pt x="509" y="1891"/>
                    </a:lnTo>
                    <a:lnTo>
                      <a:pt x="520" y="1926"/>
                    </a:lnTo>
                    <a:lnTo>
                      <a:pt x="533" y="1972"/>
                    </a:lnTo>
                    <a:lnTo>
                      <a:pt x="543" y="2007"/>
                    </a:lnTo>
                    <a:lnTo>
                      <a:pt x="567" y="2029"/>
                    </a:lnTo>
                    <a:lnTo>
                      <a:pt x="612" y="2029"/>
                    </a:lnTo>
                    <a:lnTo>
                      <a:pt x="625" y="2042"/>
                    </a:lnTo>
                    <a:lnTo>
                      <a:pt x="625" y="2053"/>
                    </a:lnTo>
                    <a:lnTo>
                      <a:pt x="625" y="2065"/>
                    </a:lnTo>
                    <a:lnTo>
                      <a:pt x="625" y="2077"/>
                    </a:lnTo>
                    <a:lnTo>
                      <a:pt x="625" y="2088"/>
                    </a:lnTo>
                    <a:lnTo>
                      <a:pt x="612" y="2100"/>
                    </a:lnTo>
                    <a:lnTo>
                      <a:pt x="612" y="2111"/>
                    </a:lnTo>
                    <a:lnTo>
                      <a:pt x="612" y="2123"/>
                    </a:lnTo>
                    <a:lnTo>
                      <a:pt x="612" y="2135"/>
                    </a:lnTo>
                    <a:lnTo>
                      <a:pt x="612" y="2146"/>
                    </a:lnTo>
                    <a:lnTo>
                      <a:pt x="625" y="2158"/>
                    </a:lnTo>
                    <a:lnTo>
                      <a:pt x="625" y="2169"/>
                    </a:lnTo>
                    <a:lnTo>
                      <a:pt x="636" y="2169"/>
                    </a:lnTo>
                    <a:lnTo>
                      <a:pt x="636" y="2181"/>
                    </a:lnTo>
                    <a:lnTo>
                      <a:pt x="648" y="2181"/>
                    </a:lnTo>
                    <a:lnTo>
                      <a:pt x="659" y="2181"/>
                    </a:lnTo>
                    <a:lnTo>
                      <a:pt x="682" y="2181"/>
                    </a:lnTo>
                    <a:lnTo>
                      <a:pt x="694" y="2181"/>
                    </a:lnTo>
                    <a:lnTo>
                      <a:pt x="717" y="2181"/>
                    </a:lnTo>
                    <a:lnTo>
                      <a:pt x="729" y="2193"/>
                    </a:lnTo>
                    <a:lnTo>
                      <a:pt x="752" y="2193"/>
                    </a:lnTo>
                    <a:lnTo>
                      <a:pt x="764" y="2204"/>
                    </a:lnTo>
                    <a:lnTo>
                      <a:pt x="787" y="2204"/>
                    </a:lnTo>
                    <a:lnTo>
                      <a:pt x="798" y="2204"/>
                    </a:lnTo>
                    <a:lnTo>
                      <a:pt x="809" y="2204"/>
                    </a:lnTo>
                    <a:lnTo>
                      <a:pt x="809" y="2193"/>
                    </a:lnTo>
                    <a:lnTo>
                      <a:pt x="822" y="2193"/>
                    </a:lnTo>
                    <a:lnTo>
                      <a:pt x="832" y="2181"/>
                    </a:lnTo>
                    <a:lnTo>
                      <a:pt x="844" y="2169"/>
                    </a:lnTo>
                    <a:lnTo>
                      <a:pt x="844" y="2158"/>
                    </a:lnTo>
                    <a:lnTo>
                      <a:pt x="844" y="2146"/>
                    </a:lnTo>
                    <a:lnTo>
                      <a:pt x="844" y="2135"/>
                    </a:lnTo>
                    <a:lnTo>
                      <a:pt x="832" y="2123"/>
                    </a:lnTo>
                    <a:lnTo>
                      <a:pt x="832" y="2111"/>
                    </a:lnTo>
                    <a:lnTo>
                      <a:pt x="822" y="2100"/>
                    </a:lnTo>
                    <a:lnTo>
                      <a:pt x="822" y="2088"/>
                    </a:lnTo>
                    <a:lnTo>
                      <a:pt x="798" y="2077"/>
                    </a:lnTo>
                    <a:lnTo>
                      <a:pt x="787" y="2053"/>
                    </a:lnTo>
                    <a:lnTo>
                      <a:pt x="774" y="2042"/>
                    </a:lnTo>
                    <a:lnTo>
                      <a:pt x="774" y="2019"/>
                    </a:lnTo>
                    <a:lnTo>
                      <a:pt x="764" y="1995"/>
                    </a:lnTo>
                    <a:lnTo>
                      <a:pt x="764" y="1972"/>
                    </a:lnTo>
                    <a:lnTo>
                      <a:pt x="764" y="1949"/>
                    </a:lnTo>
                    <a:lnTo>
                      <a:pt x="764" y="1926"/>
                    </a:lnTo>
                    <a:lnTo>
                      <a:pt x="752" y="1891"/>
                    </a:lnTo>
                    <a:lnTo>
                      <a:pt x="740" y="1856"/>
                    </a:lnTo>
                    <a:lnTo>
                      <a:pt x="729" y="1822"/>
                    </a:lnTo>
                    <a:lnTo>
                      <a:pt x="717" y="1798"/>
                    </a:lnTo>
                    <a:lnTo>
                      <a:pt x="694" y="1775"/>
                    </a:lnTo>
                    <a:lnTo>
                      <a:pt x="670" y="1751"/>
                    </a:lnTo>
                    <a:lnTo>
                      <a:pt x="648" y="1730"/>
                    </a:lnTo>
                    <a:lnTo>
                      <a:pt x="612" y="1706"/>
                    </a:lnTo>
                    <a:lnTo>
                      <a:pt x="612" y="1693"/>
                    </a:lnTo>
                    <a:lnTo>
                      <a:pt x="601" y="1693"/>
                    </a:lnTo>
                    <a:lnTo>
                      <a:pt x="591" y="1682"/>
                    </a:lnTo>
                    <a:lnTo>
                      <a:pt x="591" y="1671"/>
                    </a:lnTo>
                    <a:lnTo>
                      <a:pt x="578" y="1648"/>
                    </a:lnTo>
                    <a:lnTo>
                      <a:pt x="578" y="1635"/>
                    </a:lnTo>
                    <a:lnTo>
                      <a:pt x="578" y="1624"/>
                    </a:lnTo>
                    <a:lnTo>
                      <a:pt x="567" y="1613"/>
                    </a:lnTo>
                    <a:lnTo>
                      <a:pt x="543" y="1590"/>
                    </a:lnTo>
                    <a:lnTo>
                      <a:pt x="509" y="1566"/>
                    </a:lnTo>
                    <a:lnTo>
                      <a:pt x="485" y="1532"/>
                    </a:lnTo>
                    <a:lnTo>
                      <a:pt x="463" y="1508"/>
                    </a:lnTo>
                    <a:lnTo>
                      <a:pt x="428" y="1473"/>
                    </a:lnTo>
                    <a:lnTo>
                      <a:pt x="416" y="1439"/>
                    </a:lnTo>
                    <a:lnTo>
                      <a:pt x="394" y="1404"/>
                    </a:lnTo>
                    <a:lnTo>
                      <a:pt x="381" y="1357"/>
                    </a:lnTo>
                    <a:lnTo>
                      <a:pt x="381" y="1346"/>
                    </a:lnTo>
                    <a:lnTo>
                      <a:pt x="381" y="1322"/>
                    </a:lnTo>
                    <a:lnTo>
                      <a:pt x="381" y="1312"/>
                    </a:lnTo>
                    <a:lnTo>
                      <a:pt x="394" y="1299"/>
                    </a:lnTo>
                    <a:lnTo>
                      <a:pt x="394" y="1275"/>
                    </a:lnTo>
                    <a:lnTo>
                      <a:pt x="405" y="1264"/>
                    </a:lnTo>
                    <a:lnTo>
                      <a:pt x="416" y="1264"/>
                    </a:lnTo>
                    <a:lnTo>
                      <a:pt x="428" y="1254"/>
                    </a:lnTo>
                    <a:lnTo>
                      <a:pt x="428" y="1241"/>
                    </a:lnTo>
                    <a:lnTo>
                      <a:pt x="439" y="1241"/>
                    </a:lnTo>
                    <a:lnTo>
                      <a:pt x="439" y="1230"/>
                    </a:lnTo>
                    <a:lnTo>
                      <a:pt x="439" y="1218"/>
                    </a:lnTo>
                    <a:lnTo>
                      <a:pt x="439" y="1206"/>
                    </a:lnTo>
                    <a:lnTo>
                      <a:pt x="439" y="1196"/>
                    </a:lnTo>
                    <a:lnTo>
                      <a:pt x="428" y="1196"/>
                    </a:lnTo>
                    <a:lnTo>
                      <a:pt x="428" y="1183"/>
                    </a:lnTo>
                    <a:lnTo>
                      <a:pt x="428" y="1172"/>
                    </a:lnTo>
                    <a:lnTo>
                      <a:pt x="416" y="1172"/>
                    </a:lnTo>
                    <a:lnTo>
                      <a:pt x="428" y="1148"/>
                    </a:lnTo>
                    <a:lnTo>
                      <a:pt x="428" y="1126"/>
                    </a:lnTo>
                    <a:lnTo>
                      <a:pt x="428" y="1114"/>
                    </a:lnTo>
                    <a:lnTo>
                      <a:pt x="416" y="1090"/>
                    </a:lnTo>
                    <a:lnTo>
                      <a:pt x="405" y="1068"/>
                    </a:lnTo>
                    <a:lnTo>
                      <a:pt x="405" y="1056"/>
                    </a:lnTo>
                    <a:lnTo>
                      <a:pt x="394" y="1032"/>
                    </a:lnTo>
                    <a:lnTo>
                      <a:pt x="394" y="1021"/>
                    </a:lnTo>
                    <a:lnTo>
                      <a:pt x="416" y="905"/>
                    </a:lnTo>
                    <a:lnTo>
                      <a:pt x="428" y="894"/>
                    </a:lnTo>
                    <a:lnTo>
                      <a:pt x="439" y="881"/>
                    </a:lnTo>
                    <a:lnTo>
                      <a:pt x="439" y="870"/>
                    </a:lnTo>
                    <a:lnTo>
                      <a:pt x="451" y="870"/>
                    </a:lnTo>
                    <a:lnTo>
                      <a:pt x="463" y="859"/>
                    </a:lnTo>
                    <a:lnTo>
                      <a:pt x="463" y="846"/>
                    </a:lnTo>
                    <a:lnTo>
                      <a:pt x="474" y="846"/>
                    </a:lnTo>
                    <a:lnTo>
                      <a:pt x="474" y="836"/>
                    </a:lnTo>
                    <a:lnTo>
                      <a:pt x="485" y="836"/>
                    </a:lnTo>
                    <a:lnTo>
                      <a:pt x="497" y="836"/>
                    </a:lnTo>
                    <a:lnTo>
                      <a:pt x="509" y="824"/>
                    </a:lnTo>
                    <a:lnTo>
                      <a:pt x="520" y="824"/>
                    </a:lnTo>
                    <a:lnTo>
                      <a:pt x="533" y="824"/>
                    </a:lnTo>
                    <a:lnTo>
                      <a:pt x="543" y="801"/>
                    </a:lnTo>
                    <a:lnTo>
                      <a:pt x="554" y="801"/>
                    </a:lnTo>
                    <a:lnTo>
                      <a:pt x="567" y="788"/>
                    </a:lnTo>
                    <a:lnTo>
                      <a:pt x="578" y="788"/>
                    </a:lnTo>
                    <a:lnTo>
                      <a:pt x="591" y="801"/>
                    </a:lnTo>
                    <a:lnTo>
                      <a:pt x="601" y="788"/>
                    </a:lnTo>
                    <a:lnTo>
                      <a:pt x="625" y="788"/>
                    </a:lnTo>
                    <a:lnTo>
                      <a:pt x="636" y="778"/>
                    </a:lnTo>
                    <a:lnTo>
                      <a:pt x="648" y="766"/>
                    </a:lnTo>
                    <a:lnTo>
                      <a:pt x="670" y="766"/>
                    </a:lnTo>
                    <a:lnTo>
                      <a:pt x="694" y="778"/>
                    </a:lnTo>
                    <a:lnTo>
                      <a:pt x="717" y="778"/>
                    </a:lnTo>
                    <a:lnTo>
                      <a:pt x="740" y="778"/>
                    </a:lnTo>
                    <a:lnTo>
                      <a:pt x="764" y="788"/>
                    </a:lnTo>
                    <a:lnTo>
                      <a:pt x="787" y="778"/>
                    </a:lnTo>
                    <a:lnTo>
                      <a:pt x="798" y="778"/>
                    </a:lnTo>
                    <a:lnTo>
                      <a:pt x="809" y="778"/>
                    </a:lnTo>
                    <a:lnTo>
                      <a:pt x="822" y="778"/>
                    </a:lnTo>
                    <a:lnTo>
                      <a:pt x="832" y="778"/>
                    </a:lnTo>
                    <a:lnTo>
                      <a:pt x="844" y="788"/>
                    </a:lnTo>
                    <a:lnTo>
                      <a:pt x="856" y="788"/>
                    </a:lnTo>
                    <a:lnTo>
                      <a:pt x="867" y="801"/>
                    </a:lnTo>
                    <a:lnTo>
                      <a:pt x="880" y="812"/>
                    </a:lnTo>
                    <a:lnTo>
                      <a:pt x="891" y="812"/>
                    </a:lnTo>
                    <a:lnTo>
                      <a:pt x="902" y="812"/>
                    </a:lnTo>
                    <a:lnTo>
                      <a:pt x="914" y="801"/>
                    </a:lnTo>
                    <a:lnTo>
                      <a:pt x="925" y="788"/>
                    </a:lnTo>
                    <a:lnTo>
                      <a:pt x="949" y="778"/>
                    </a:lnTo>
                    <a:lnTo>
                      <a:pt x="960" y="754"/>
                    </a:lnTo>
                    <a:lnTo>
                      <a:pt x="984" y="730"/>
                    </a:lnTo>
                    <a:lnTo>
                      <a:pt x="1007" y="708"/>
                    </a:lnTo>
                    <a:lnTo>
                      <a:pt x="984" y="673"/>
                    </a:lnTo>
                    <a:lnTo>
                      <a:pt x="960" y="662"/>
                    </a:lnTo>
                    <a:lnTo>
                      <a:pt x="925" y="650"/>
                    </a:lnTo>
                    <a:lnTo>
                      <a:pt x="902" y="638"/>
                    </a:lnTo>
                    <a:lnTo>
                      <a:pt x="867" y="638"/>
                    </a:lnTo>
                    <a:lnTo>
                      <a:pt x="844" y="638"/>
                    </a:lnTo>
                    <a:lnTo>
                      <a:pt x="809" y="626"/>
                    </a:lnTo>
                    <a:lnTo>
                      <a:pt x="787" y="604"/>
                    </a:lnTo>
                    <a:lnTo>
                      <a:pt x="636" y="534"/>
                    </a:lnTo>
                    <a:lnTo>
                      <a:pt x="601" y="546"/>
                    </a:lnTo>
                    <a:lnTo>
                      <a:pt x="578" y="568"/>
                    </a:lnTo>
                    <a:lnTo>
                      <a:pt x="554" y="592"/>
                    </a:lnTo>
                    <a:lnTo>
                      <a:pt x="533" y="604"/>
                    </a:lnTo>
                    <a:lnTo>
                      <a:pt x="497" y="626"/>
                    </a:lnTo>
                    <a:lnTo>
                      <a:pt x="474" y="638"/>
                    </a:lnTo>
                    <a:lnTo>
                      <a:pt x="439" y="650"/>
                    </a:lnTo>
                    <a:lnTo>
                      <a:pt x="405" y="650"/>
                    </a:lnTo>
                    <a:lnTo>
                      <a:pt x="381" y="662"/>
                    </a:lnTo>
                    <a:lnTo>
                      <a:pt x="370" y="662"/>
                    </a:lnTo>
                    <a:lnTo>
                      <a:pt x="347" y="650"/>
                    </a:lnTo>
                    <a:lnTo>
                      <a:pt x="336" y="650"/>
                    </a:lnTo>
                    <a:lnTo>
                      <a:pt x="312" y="650"/>
                    </a:lnTo>
                    <a:lnTo>
                      <a:pt x="300" y="638"/>
                    </a:lnTo>
                    <a:lnTo>
                      <a:pt x="289" y="626"/>
                    </a:lnTo>
                    <a:lnTo>
                      <a:pt x="277" y="615"/>
                    </a:lnTo>
                    <a:lnTo>
                      <a:pt x="266" y="615"/>
                    </a:lnTo>
                    <a:lnTo>
                      <a:pt x="266" y="604"/>
                    </a:lnTo>
                    <a:lnTo>
                      <a:pt x="277" y="604"/>
                    </a:lnTo>
                    <a:lnTo>
                      <a:pt x="277" y="592"/>
                    </a:lnTo>
                    <a:lnTo>
                      <a:pt x="289" y="592"/>
                    </a:lnTo>
                    <a:lnTo>
                      <a:pt x="300" y="604"/>
                    </a:lnTo>
                    <a:lnTo>
                      <a:pt x="347" y="580"/>
                    </a:lnTo>
                    <a:lnTo>
                      <a:pt x="347" y="452"/>
                    </a:lnTo>
                    <a:lnTo>
                      <a:pt x="358" y="452"/>
                    </a:lnTo>
                    <a:lnTo>
                      <a:pt x="358" y="441"/>
                    </a:lnTo>
                    <a:lnTo>
                      <a:pt x="358" y="429"/>
                    </a:lnTo>
                    <a:lnTo>
                      <a:pt x="323" y="383"/>
                    </a:lnTo>
                    <a:lnTo>
                      <a:pt x="336" y="372"/>
                    </a:lnTo>
                    <a:lnTo>
                      <a:pt x="347" y="360"/>
                    </a:lnTo>
                    <a:lnTo>
                      <a:pt x="347" y="349"/>
                    </a:lnTo>
                    <a:lnTo>
                      <a:pt x="312" y="302"/>
                    </a:lnTo>
                    <a:lnTo>
                      <a:pt x="323" y="302"/>
                    </a:lnTo>
                    <a:lnTo>
                      <a:pt x="336" y="302"/>
                    </a:lnTo>
                    <a:lnTo>
                      <a:pt x="336" y="314"/>
                    </a:lnTo>
                    <a:lnTo>
                      <a:pt x="347" y="314"/>
                    </a:lnTo>
                    <a:lnTo>
                      <a:pt x="358" y="302"/>
                    </a:lnTo>
                    <a:lnTo>
                      <a:pt x="358" y="267"/>
                    </a:lnTo>
                    <a:lnTo>
                      <a:pt x="370" y="267"/>
                    </a:lnTo>
                    <a:lnTo>
                      <a:pt x="370" y="256"/>
                    </a:lnTo>
                    <a:lnTo>
                      <a:pt x="381" y="256"/>
                    </a:lnTo>
                    <a:lnTo>
                      <a:pt x="394" y="256"/>
                    </a:lnTo>
                    <a:lnTo>
                      <a:pt x="405" y="267"/>
                    </a:lnTo>
                    <a:lnTo>
                      <a:pt x="405" y="278"/>
                    </a:lnTo>
                    <a:lnTo>
                      <a:pt x="405" y="291"/>
                    </a:lnTo>
                    <a:lnTo>
                      <a:pt x="394" y="302"/>
                    </a:lnTo>
                    <a:lnTo>
                      <a:pt x="394" y="314"/>
                    </a:lnTo>
                    <a:lnTo>
                      <a:pt x="394" y="325"/>
                    </a:lnTo>
                    <a:lnTo>
                      <a:pt x="394" y="336"/>
                    </a:lnTo>
                    <a:lnTo>
                      <a:pt x="474" y="349"/>
                    </a:lnTo>
                    <a:lnTo>
                      <a:pt x="485" y="349"/>
                    </a:lnTo>
                    <a:lnTo>
                      <a:pt x="485" y="336"/>
                    </a:lnTo>
                    <a:lnTo>
                      <a:pt x="463" y="221"/>
                    </a:lnTo>
                    <a:lnTo>
                      <a:pt x="405" y="186"/>
                    </a:lnTo>
                    <a:lnTo>
                      <a:pt x="394" y="186"/>
                    </a:lnTo>
                    <a:lnTo>
                      <a:pt x="394" y="174"/>
                    </a:lnTo>
                    <a:lnTo>
                      <a:pt x="405" y="174"/>
                    </a:lnTo>
                    <a:lnTo>
                      <a:pt x="416" y="174"/>
                    </a:lnTo>
                    <a:lnTo>
                      <a:pt x="428" y="174"/>
                    </a:lnTo>
                    <a:lnTo>
                      <a:pt x="439" y="174"/>
                    </a:lnTo>
                    <a:lnTo>
                      <a:pt x="451" y="163"/>
                    </a:lnTo>
                    <a:lnTo>
                      <a:pt x="463" y="163"/>
                    </a:lnTo>
                    <a:lnTo>
                      <a:pt x="463" y="151"/>
                    </a:lnTo>
                    <a:lnTo>
                      <a:pt x="474" y="139"/>
                    </a:lnTo>
                    <a:lnTo>
                      <a:pt x="463" y="129"/>
                    </a:lnTo>
                    <a:lnTo>
                      <a:pt x="463" y="116"/>
                    </a:lnTo>
                    <a:lnTo>
                      <a:pt x="451" y="105"/>
                    </a:lnTo>
                    <a:lnTo>
                      <a:pt x="451" y="93"/>
                    </a:lnTo>
                    <a:lnTo>
                      <a:pt x="451" y="81"/>
                    </a:lnTo>
                    <a:lnTo>
                      <a:pt x="428" y="81"/>
                    </a:lnTo>
                    <a:lnTo>
                      <a:pt x="394" y="105"/>
                    </a:lnTo>
                    <a:lnTo>
                      <a:pt x="381" y="93"/>
                    </a:lnTo>
                    <a:lnTo>
                      <a:pt x="381" y="81"/>
                    </a:lnTo>
                    <a:lnTo>
                      <a:pt x="370" y="71"/>
                    </a:lnTo>
                    <a:lnTo>
                      <a:pt x="370" y="58"/>
                    </a:lnTo>
                    <a:lnTo>
                      <a:pt x="370" y="47"/>
                    </a:lnTo>
                    <a:lnTo>
                      <a:pt x="394" y="23"/>
                    </a:lnTo>
                    <a:lnTo>
                      <a:pt x="394" y="13"/>
                    </a:lnTo>
                    <a:lnTo>
                      <a:pt x="381" y="13"/>
                    </a:lnTo>
                    <a:lnTo>
                      <a:pt x="381" y="0"/>
                    </a:lnTo>
                    <a:lnTo>
                      <a:pt x="370" y="0"/>
                    </a:lnTo>
                    <a:lnTo>
                      <a:pt x="358" y="0"/>
                    </a:lnTo>
                    <a:lnTo>
                      <a:pt x="347" y="0"/>
                    </a:lnTo>
                    <a:lnTo>
                      <a:pt x="336" y="0"/>
                    </a:lnTo>
                    <a:lnTo>
                      <a:pt x="336" y="13"/>
                    </a:lnTo>
                    <a:lnTo>
                      <a:pt x="323" y="81"/>
                    </a:lnTo>
                    <a:lnTo>
                      <a:pt x="312" y="93"/>
                    </a:lnTo>
                    <a:lnTo>
                      <a:pt x="300" y="81"/>
                    </a:lnTo>
                    <a:lnTo>
                      <a:pt x="289" y="81"/>
                    </a:lnTo>
                    <a:lnTo>
                      <a:pt x="289" y="71"/>
                    </a:lnTo>
                    <a:lnTo>
                      <a:pt x="277" y="71"/>
                    </a:lnTo>
                    <a:lnTo>
                      <a:pt x="277" y="58"/>
                    </a:lnTo>
                    <a:lnTo>
                      <a:pt x="266" y="58"/>
                    </a:lnTo>
                    <a:lnTo>
                      <a:pt x="254" y="58"/>
                    </a:lnTo>
                    <a:lnTo>
                      <a:pt x="242" y="58"/>
                    </a:lnTo>
                    <a:lnTo>
                      <a:pt x="231" y="71"/>
                    </a:lnTo>
                    <a:lnTo>
                      <a:pt x="231" y="58"/>
                    </a:lnTo>
                    <a:lnTo>
                      <a:pt x="219" y="58"/>
                    </a:lnTo>
                    <a:lnTo>
                      <a:pt x="231" y="58"/>
                    </a:lnTo>
                    <a:lnTo>
                      <a:pt x="231" y="47"/>
                    </a:lnTo>
                    <a:lnTo>
                      <a:pt x="231" y="34"/>
                    </a:lnTo>
                    <a:lnTo>
                      <a:pt x="231" y="23"/>
                    </a:lnTo>
                    <a:lnTo>
                      <a:pt x="126" y="23"/>
                    </a:lnTo>
                    <a:lnTo>
                      <a:pt x="126" y="34"/>
                    </a:lnTo>
                    <a:lnTo>
                      <a:pt x="126" y="47"/>
                    </a:lnTo>
                    <a:lnTo>
                      <a:pt x="126" y="58"/>
                    </a:lnTo>
                    <a:lnTo>
                      <a:pt x="139" y="71"/>
                    </a:lnTo>
                    <a:lnTo>
                      <a:pt x="139" y="81"/>
                    </a:lnTo>
                    <a:lnTo>
                      <a:pt x="150" y="81"/>
                    </a:lnTo>
                    <a:lnTo>
                      <a:pt x="161" y="93"/>
                    </a:lnTo>
                    <a:lnTo>
                      <a:pt x="174" y="93"/>
                    </a:lnTo>
                    <a:lnTo>
                      <a:pt x="174" y="105"/>
                    </a:lnTo>
                    <a:lnTo>
                      <a:pt x="174" y="116"/>
                    </a:lnTo>
                    <a:lnTo>
                      <a:pt x="104" y="116"/>
                    </a:lnTo>
                    <a:lnTo>
                      <a:pt x="80" y="93"/>
                    </a:lnTo>
                    <a:lnTo>
                      <a:pt x="34" y="71"/>
                    </a:lnTo>
                    <a:lnTo>
                      <a:pt x="0" y="58"/>
                    </a:lnTo>
                    <a:lnTo>
                      <a:pt x="0" y="186"/>
                    </a:lnTo>
                    <a:lnTo>
                      <a:pt x="11" y="174"/>
                    </a:lnTo>
                    <a:lnTo>
                      <a:pt x="11" y="163"/>
                    </a:lnTo>
                    <a:lnTo>
                      <a:pt x="22" y="163"/>
                    </a:lnTo>
                    <a:lnTo>
                      <a:pt x="34" y="163"/>
                    </a:lnTo>
                    <a:lnTo>
                      <a:pt x="46" y="163"/>
                    </a:lnTo>
                    <a:lnTo>
                      <a:pt x="46" y="174"/>
                    </a:lnTo>
                    <a:lnTo>
                      <a:pt x="58" y="174"/>
                    </a:lnTo>
                    <a:lnTo>
                      <a:pt x="58" y="186"/>
                    </a:lnTo>
                    <a:lnTo>
                      <a:pt x="46" y="186"/>
                    </a:lnTo>
                    <a:lnTo>
                      <a:pt x="11" y="198"/>
                    </a:lnTo>
                    <a:lnTo>
                      <a:pt x="0" y="232"/>
                    </a:lnTo>
                    <a:lnTo>
                      <a:pt x="0" y="244"/>
                    </a:lnTo>
                    <a:lnTo>
                      <a:pt x="0" y="256"/>
                    </a:lnTo>
                    <a:lnTo>
                      <a:pt x="0" y="360"/>
                    </a:lnTo>
                    <a:lnTo>
                      <a:pt x="11" y="360"/>
                    </a:lnTo>
                    <a:lnTo>
                      <a:pt x="11" y="372"/>
                    </a:lnTo>
                    <a:lnTo>
                      <a:pt x="0" y="372"/>
                    </a:lnTo>
                    <a:lnTo>
                      <a:pt x="0" y="465"/>
                    </a:lnTo>
                    <a:lnTo>
                      <a:pt x="34" y="429"/>
                    </a:lnTo>
                    <a:lnTo>
                      <a:pt x="46" y="441"/>
                    </a:lnTo>
                    <a:lnTo>
                      <a:pt x="58" y="441"/>
                    </a:lnTo>
                    <a:lnTo>
                      <a:pt x="58" y="452"/>
                    </a:lnTo>
                    <a:lnTo>
                      <a:pt x="58" y="465"/>
                    </a:lnTo>
                    <a:lnTo>
                      <a:pt x="58" y="476"/>
                    </a:lnTo>
                    <a:lnTo>
                      <a:pt x="58" y="488"/>
                    </a:lnTo>
                    <a:lnTo>
                      <a:pt x="46" y="488"/>
                    </a:lnTo>
                    <a:lnTo>
                      <a:pt x="34" y="488"/>
                    </a:lnTo>
                    <a:lnTo>
                      <a:pt x="22" y="488"/>
                    </a:lnTo>
                    <a:lnTo>
                      <a:pt x="22" y="499"/>
                    </a:lnTo>
                    <a:lnTo>
                      <a:pt x="22" y="510"/>
                    </a:lnTo>
                    <a:lnTo>
                      <a:pt x="22" y="523"/>
                    </a:lnTo>
                    <a:lnTo>
                      <a:pt x="11" y="523"/>
                    </a:lnTo>
                    <a:lnTo>
                      <a:pt x="11" y="534"/>
                    </a:lnTo>
                    <a:lnTo>
                      <a:pt x="11" y="546"/>
                    </a:lnTo>
                    <a:lnTo>
                      <a:pt x="0" y="5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787920" y="4322880"/>
                <a:ext cx="33120" cy="50760"/>
              </a:xfrm>
              <a:custGeom>
                <a:avLst/>
                <a:gdLst/>
                <a:ahLst/>
                <a:rect l="l" t="t" r="r" b="b"/>
                <a:pathLst>
                  <a:path w="81" h="128">
                    <a:moveTo>
                      <a:pt x="81" y="128"/>
                    </a:moveTo>
                    <a:lnTo>
                      <a:pt x="81" y="0"/>
                    </a:lnTo>
                    <a:lnTo>
                      <a:pt x="69" y="0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93"/>
                    </a:lnTo>
                    <a:lnTo>
                      <a:pt x="0" y="105"/>
                    </a:lnTo>
                    <a:lnTo>
                      <a:pt x="11" y="116"/>
                    </a:lnTo>
                    <a:lnTo>
                      <a:pt x="81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787920" y="4395960"/>
                <a:ext cx="33120" cy="91800"/>
              </a:xfrm>
              <a:custGeom>
                <a:avLst/>
                <a:gdLst/>
                <a:ahLst/>
                <a:rect l="l" t="t" r="r" b="b"/>
                <a:pathLst>
                  <a:path w="81" h="232">
                    <a:moveTo>
                      <a:pt x="81" y="116"/>
                    </a:moveTo>
                    <a:lnTo>
                      <a:pt x="81" y="12"/>
                    </a:lnTo>
                    <a:lnTo>
                      <a:pt x="24" y="0"/>
                    </a:lnTo>
                    <a:lnTo>
                      <a:pt x="11" y="12"/>
                    </a:lnTo>
                    <a:lnTo>
                      <a:pt x="0" y="23"/>
                    </a:lnTo>
                    <a:lnTo>
                      <a:pt x="0" y="34"/>
                    </a:lnTo>
                    <a:lnTo>
                      <a:pt x="0" y="47"/>
                    </a:lnTo>
                    <a:lnTo>
                      <a:pt x="0" y="58"/>
                    </a:lnTo>
                    <a:lnTo>
                      <a:pt x="0" y="70"/>
                    </a:lnTo>
                    <a:lnTo>
                      <a:pt x="11" y="81"/>
                    </a:lnTo>
                    <a:lnTo>
                      <a:pt x="11" y="92"/>
                    </a:lnTo>
                    <a:lnTo>
                      <a:pt x="24" y="105"/>
                    </a:lnTo>
                    <a:lnTo>
                      <a:pt x="24" y="116"/>
                    </a:lnTo>
                    <a:lnTo>
                      <a:pt x="24" y="128"/>
                    </a:lnTo>
                    <a:lnTo>
                      <a:pt x="24" y="139"/>
                    </a:lnTo>
                    <a:lnTo>
                      <a:pt x="34" y="150"/>
                    </a:lnTo>
                    <a:lnTo>
                      <a:pt x="34" y="163"/>
                    </a:lnTo>
                    <a:lnTo>
                      <a:pt x="34" y="174"/>
                    </a:lnTo>
                    <a:lnTo>
                      <a:pt x="45" y="185"/>
                    </a:lnTo>
                    <a:lnTo>
                      <a:pt x="45" y="197"/>
                    </a:lnTo>
                    <a:lnTo>
                      <a:pt x="45" y="208"/>
                    </a:lnTo>
                    <a:lnTo>
                      <a:pt x="58" y="221"/>
                    </a:lnTo>
                    <a:lnTo>
                      <a:pt x="69" y="232"/>
                    </a:lnTo>
                    <a:lnTo>
                      <a:pt x="81" y="221"/>
                    </a:lnTo>
                    <a:lnTo>
                      <a:pt x="81" y="128"/>
                    </a:lnTo>
                    <a:lnTo>
                      <a:pt x="81" y="139"/>
                    </a:lnTo>
                    <a:lnTo>
                      <a:pt x="69" y="139"/>
                    </a:lnTo>
                    <a:lnTo>
                      <a:pt x="69" y="128"/>
                    </a:lnTo>
                    <a:lnTo>
                      <a:pt x="69" y="116"/>
                    </a:lnTo>
                    <a:lnTo>
                      <a:pt x="81" y="1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554280" y="4516560"/>
                <a:ext cx="266760" cy="652320"/>
              </a:xfrm>
              <a:custGeom>
                <a:avLst/>
                <a:gdLst/>
                <a:ahLst/>
                <a:rect l="l" t="t" r="r" b="b"/>
                <a:pathLst>
                  <a:path w="672" h="1647">
                    <a:moveTo>
                      <a:pt x="672" y="1647"/>
                    </a:moveTo>
                    <a:lnTo>
                      <a:pt x="672" y="0"/>
                    </a:lnTo>
                    <a:lnTo>
                      <a:pt x="672" y="11"/>
                    </a:lnTo>
                    <a:lnTo>
                      <a:pt x="660" y="11"/>
                    </a:lnTo>
                    <a:lnTo>
                      <a:pt x="649" y="11"/>
                    </a:lnTo>
                    <a:lnTo>
                      <a:pt x="636" y="22"/>
                    </a:lnTo>
                    <a:lnTo>
                      <a:pt x="625" y="22"/>
                    </a:lnTo>
                    <a:lnTo>
                      <a:pt x="615" y="34"/>
                    </a:lnTo>
                    <a:lnTo>
                      <a:pt x="602" y="69"/>
                    </a:lnTo>
                    <a:lnTo>
                      <a:pt x="544" y="104"/>
                    </a:lnTo>
                    <a:lnTo>
                      <a:pt x="533" y="127"/>
                    </a:lnTo>
                    <a:lnTo>
                      <a:pt x="521" y="150"/>
                    </a:lnTo>
                    <a:lnTo>
                      <a:pt x="497" y="162"/>
                    </a:lnTo>
                    <a:lnTo>
                      <a:pt x="487" y="174"/>
                    </a:lnTo>
                    <a:lnTo>
                      <a:pt x="463" y="197"/>
                    </a:lnTo>
                    <a:lnTo>
                      <a:pt x="439" y="208"/>
                    </a:lnTo>
                    <a:lnTo>
                      <a:pt x="429" y="220"/>
                    </a:lnTo>
                    <a:lnTo>
                      <a:pt x="417" y="242"/>
                    </a:lnTo>
                    <a:lnTo>
                      <a:pt x="394" y="278"/>
                    </a:lnTo>
                    <a:lnTo>
                      <a:pt x="371" y="313"/>
                    </a:lnTo>
                    <a:lnTo>
                      <a:pt x="347" y="335"/>
                    </a:lnTo>
                    <a:lnTo>
                      <a:pt x="313" y="371"/>
                    </a:lnTo>
                    <a:lnTo>
                      <a:pt x="278" y="382"/>
                    </a:lnTo>
                    <a:lnTo>
                      <a:pt x="232" y="406"/>
                    </a:lnTo>
                    <a:lnTo>
                      <a:pt x="198" y="429"/>
                    </a:lnTo>
                    <a:lnTo>
                      <a:pt x="150" y="440"/>
                    </a:lnTo>
                    <a:lnTo>
                      <a:pt x="140" y="464"/>
                    </a:lnTo>
                    <a:lnTo>
                      <a:pt x="116" y="498"/>
                    </a:lnTo>
                    <a:lnTo>
                      <a:pt x="104" y="533"/>
                    </a:lnTo>
                    <a:lnTo>
                      <a:pt x="92" y="556"/>
                    </a:lnTo>
                    <a:lnTo>
                      <a:pt x="82" y="592"/>
                    </a:lnTo>
                    <a:lnTo>
                      <a:pt x="70" y="626"/>
                    </a:lnTo>
                    <a:lnTo>
                      <a:pt x="46" y="650"/>
                    </a:lnTo>
                    <a:lnTo>
                      <a:pt x="24" y="660"/>
                    </a:lnTo>
                    <a:lnTo>
                      <a:pt x="24" y="672"/>
                    </a:lnTo>
                    <a:lnTo>
                      <a:pt x="12" y="684"/>
                    </a:lnTo>
                    <a:lnTo>
                      <a:pt x="12" y="695"/>
                    </a:lnTo>
                    <a:lnTo>
                      <a:pt x="0" y="695"/>
                    </a:lnTo>
                    <a:lnTo>
                      <a:pt x="0" y="708"/>
                    </a:lnTo>
                    <a:lnTo>
                      <a:pt x="58" y="835"/>
                    </a:lnTo>
                    <a:lnTo>
                      <a:pt x="82" y="846"/>
                    </a:lnTo>
                    <a:lnTo>
                      <a:pt x="104" y="858"/>
                    </a:lnTo>
                    <a:lnTo>
                      <a:pt x="116" y="858"/>
                    </a:lnTo>
                    <a:lnTo>
                      <a:pt x="127" y="869"/>
                    </a:lnTo>
                    <a:lnTo>
                      <a:pt x="140" y="869"/>
                    </a:lnTo>
                    <a:lnTo>
                      <a:pt x="140" y="858"/>
                    </a:lnTo>
                    <a:lnTo>
                      <a:pt x="198" y="708"/>
                    </a:lnTo>
                    <a:lnTo>
                      <a:pt x="198" y="695"/>
                    </a:lnTo>
                    <a:lnTo>
                      <a:pt x="208" y="695"/>
                    </a:lnTo>
                    <a:lnTo>
                      <a:pt x="208" y="684"/>
                    </a:lnTo>
                    <a:lnTo>
                      <a:pt x="208" y="672"/>
                    </a:lnTo>
                    <a:lnTo>
                      <a:pt x="220" y="660"/>
                    </a:lnTo>
                    <a:lnTo>
                      <a:pt x="232" y="650"/>
                    </a:lnTo>
                    <a:lnTo>
                      <a:pt x="243" y="637"/>
                    </a:lnTo>
                    <a:lnTo>
                      <a:pt x="266" y="614"/>
                    </a:lnTo>
                    <a:lnTo>
                      <a:pt x="278" y="602"/>
                    </a:lnTo>
                    <a:lnTo>
                      <a:pt x="289" y="602"/>
                    </a:lnTo>
                    <a:lnTo>
                      <a:pt x="301" y="592"/>
                    </a:lnTo>
                    <a:lnTo>
                      <a:pt x="323" y="592"/>
                    </a:lnTo>
                    <a:lnTo>
                      <a:pt x="336" y="580"/>
                    </a:lnTo>
                    <a:lnTo>
                      <a:pt x="347" y="568"/>
                    </a:lnTo>
                    <a:lnTo>
                      <a:pt x="359" y="568"/>
                    </a:lnTo>
                    <a:lnTo>
                      <a:pt x="371" y="556"/>
                    </a:lnTo>
                    <a:lnTo>
                      <a:pt x="371" y="544"/>
                    </a:lnTo>
                    <a:lnTo>
                      <a:pt x="381" y="544"/>
                    </a:lnTo>
                    <a:lnTo>
                      <a:pt x="381" y="533"/>
                    </a:lnTo>
                    <a:lnTo>
                      <a:pt x="381" y="522"/>
                    </a:lnTo>
                    <a:lnTo>
                      <a:pt x="381" y="510"/>
                    </a:lnTo>
                    <a:lnTo>
                      <a:pt x="439" y="429"/>
                    </a:lnTo>
                    <a:lnTo>
                      <a:pt x="451" y="429"/>
                    </a:lnTo>
                    <a:lnTo>
                      <a:pt x="463" y="429"/>
                    </a:lnTo>
                    <a:lnTo>
                      <a:pt x="475" y="429"/>
                    </a:lnTo>
                    <a:lnTo>
                      <a:pt x="497" y="429"/>
                    </a:lnTo>
                    <a:lnTo>
                      <a:pt x="509" y="429"/>
                    </a:lnTo>
                    <a:lnTo>
                      <a:pt x="533" y="440"/>
                    </a:lnTo>
                    <a:lnTo>
                      <a:pt x="544" y="440"/>
                    </a:lnTo>
                    <a:lnTo>
                      <a:pt x="556" y="452"/>
                    </a:lnTo>
                    <a:lnTo>
                      <a:pt x="556" y="475"/>
                    </a:lnTo>
                    <a:lnTo>
                      <a:pt x="556" y="510"/>
                    </a:lnTo>
                    <a:lnTo>
                      <a:pt x="567" y="533"/>
                    </a:lnTo>
                    <a:lnTo>
                      <a:pt x="578" y="556"/>
                    </a:lnTo>
                    <a:lnTo>
                      <a:pt x="591" y="580"/>
                    </a:lnTo>
                    <a:lnTo>
                      <a:pt x="591" y="614"/>
                    </a:lnTo>
                    <a:lnTo>
                      <a:pt x="591" y="637"/>
                    </a:lnTo>
                    <a:lnTo>
                      <a:pt x="591" y="672"/>
                    </a:lnTo>
                    <a:lnTo>
                      <a:pt x="615" y="766"/>
                    </a:lnTo>
                    <a:lnTo>
                      <a:pt x="615" y="869"/>
                    </a:lnTo>
                    <a:lnTo>
                      <a:pt x="615" y="962"/>
                    </a:lnTo>
                    <a:lnTo>
                      <a:pt x="615" y="1055"/>
                    </a:lnTo>
                    <a:lnTo>
                      <a:pt x="602" y="1160"/>
                    </a:lnTo>
                    <a:lnTo>
                      <a:pt x="602" y="1252"/>
                    </a:lnTo>
                    <a:lnTo>
                      <a:pt x="615" y="1357"/>
                    </a:lnTo>
                    <a:lnTo>
                      <a:pt x="636" y="1449"/>
                    </a:lnTo>
                    <a:lnTo>
                      <a:pt x="649" y="1473"/>
                    </a:lnTo>
                    <a:lnTo>
                      <a:pt x="636" y="1496"/>
                    </a:lnTo>
                    <a:lnTo>
                      <a:pt x="636" y="1519"/>
                    </a:lnTo>
                    <a:lnTo>
                      <a:pt x="625" y="1542"/>
                    </a:lnTo>
                    <a:lnTo>
                      <a:pt x="615" y="1565"/>
                    </a:lnTo>
                    <a:lnTo>
                      <a:pt x="602" y="1600"/>
                    </a:lnTo>
                    <a:lnTo>
                      <a:pt x="602" y="1623"/>
                    </a:lnTo>
                    <a:lnTo>
                      <a:pt x="615" y="1647"/>
                    </a:lnTo>
                    <a:lnTo>
                      <a:pt x="625" y="1647"/>
                    </a:lnTo>
                    <a:lnTo>
                      <a:pt x="636" y="1647"/>
                    </a:lnTo>
                    <a:lnTo>
                      <a:pt x="672" y="16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554280" y="4400640"/>
                <a:ext cx="289080" cy="446040"/>
              </a:xfrm>
              <a:custGeom>
                <a:avLst/>
                <a:gdLst/>
                <a:ahLst/>
                <a:rect l="l" t="t" r="r" b="b"/>
                <a:pathLst>
                  <a:path w="730" h="1125">
                    <a:moveTo>
                      <a:pt x="58" y="1125"/>
                    </a:moveTo>
                    <a:lnTo>
                      <a:pt x="0" y="998"/>
                    </a:lnTo>
                    <a:lnTo>
                      <a:pt x="0" y="985"/>
                    </a:lnTo>
                    <a:lnTo>
                      <a:pt x="12" y="985"/>
                    </a:lnTo>
                    <a:lnTo>
                      <a:pt x="12" y="974"/>
                    </a:lnTo>
                    <a:lnTo>
                      <a:pt x="24" y="962"/>
                    </a:lnTo>
                    <a:lnTo>
                      <a:pt x="24" y="950"/>
                    </a:lnTo>
                    <a:lnTo>
                      <a:pt x="46" y="940"/>
                    </a:lnTo>
                    <a:lnTo>
                      <a:pt x="70" y="916"/>
                    </a:lnTo>
                    <a:lnTo>
                      <a:pt x="82" y="882"/>
                    </a:lnTo>
                    <a:lnTo>
                      <a:pt x="92" y="846"/>
                    </a:lnTo>
                    <a:lnTo>
                      <a:pt x="104" y="823"/>
                    </a:lnTo>
                    <a:lnTo>
                      <a:pt x="116" y="788"/>
                    </a:lnTo>
                    <a:lnTo>
                      <a:pt x="140" y="754"/>
                    </a:lnTo>
                    <a:lnTo>
                      <a:pt x="150" y="730"/>
                    </a:lnTo>
                    <a:lnTo>
                      <a:pt x="198" y="719"/>
                    </a:lnTo>
                    <a:lnTo>
                      <a:pt x="232" y="696"/>
                    </a:lnTo>
                    <a:lnTo>
                      <a:pt x="278" y="672"/>
                    </a:lnTo>
                    <a:lnTo>
                      <a:pt x="313" y="661"/>
                    </a:lnTo>
                    <a:lnTo>
                      <a:pt x="347" y="625"/>
                    </a:lnTo>
                    <a:lnTo>
                      <a:pt x="371" y="603"/>
                    </a:lnTo>
                    <a:lnTo>
                      <a:pt x="394" y="568"/>
                    </a:lnTo>
                    <a:lnTo>
                      <a:pt x="417" y="532"/>
                    </a:lnTo>
                    <a:lnTo>
                      <a:pt x="429" y="510"/>
                    </a:lnTo>
                    <a:lnTo>
                      <a:pt x="439" y="498"/>
                    </a:lnTo>
                    <a:lnTo>
                      <a:pt x="463" y="487"/>
                    </a:lnTo>
                    <a:lnTo>
                      <a:pt x="487" y="464"/>
                    </a:lnTo>
                    <a:lnTo>
                      <a:pt x="497" y="452"/>
                    </a:lnTo>
                    <a:lnTo>
                      <a:pt x="521" y="440"/>
                    </a:lnTo>
                    <a:lnTo>
                      <a:pt x="533" y="417"/>
                    </a:lnTo>
                    <a:lnTo>
                      <a:pt x="544" y="394"/>
                    </a:lnTo>
                    <a:lnTo>
                      <a:pt x="602" y="359"/>
                    </a:lnTo>
                    <a:lnTo>
                      <a:pt x="615" y="324"/>
                    </a:lnTo>
                    <a:lnTo>
                      <a:pt x="625" y="312"/>
                    </a:lnTo>
                    <a:lnTo>
                      <a:pt x="636" y="312"/>
                    </a:lnTo>
                    <a:lnTo>
                      <a:pt x="649" y="301"/>
                    </a:lnTo>
                    <a:lnTo>
                      <a:pt x="660" y="301"/>
                    </a:lnTo>
                    <a:lnTo>
                      <a:pt x="672" y="301"/>
                    </a:lnTo>
                    <a:lnTo>
                      <a:pt x="672" y="290"/>
                    </a:lnTo>
                    <a:lnTo>
                      <a:pt x="683" y="290"/>
                    </a:lnTo>
                    <a:lnTo>
                      <a:pt x="683" y="278"/>
                    </a:lnTo>
                    <a:lnTo>
                      <a:pt x="683" y="267"/>
                    </a:lnTo>
                    <a:lnTo>
                      <a:pt x="694" y="267"/>
                    </a:lnTo>
                    <a:lnTo>
                      <a:pt x="694" y="254"/>
                    </a:lnTo>
                    <a:lnTo>
                      <a:pt x="694" y="243"/>
                    </a:lnTo>
                    <a:lnTo>
                      <a:pt x="694" y="232"/>
                    </a:lnTo>
                    <a:lnTo>
                      <a:pt x="706" y="232"/>
                    </a:lnTo>
                    <a:lnTo>
                      <a:pt x="718" y="232"/>
                    </a:lnTo>
                    <a:lnTo>
                      <a:pt x="730" y="232"/>
                    </a:lnTo>
                    <a:lnTo>
                      <a:pt x="730" y="220"/>
                    </a:lnTo>
                    <a:lnTo>
                      <a:pt x="730" y="209"/>
                    </a:lnTo>
                    <a:lnTo>
                      <a:pt x="730" y="196"/>
                    </a:lnTo>
                    <a:lnTo>
                      <a:pt x="730" y="185"/>
                    </a:lnTo>
                    <a:lnTo>
                      <a:pt x="718" y="185"/>
                    </a:lnTo>
                    <a:lnTo>
                      <a:pt x="706" y="173"/>
                    </a:lnTo>
                    <a:lnTo>
                      <a:pt x="660" y="220"/>
                    </a:lnTo>
                    <a:lnTo>
                      <a:pt x="649" y="209"/>
                    </a:lnTo>
                    <a:lnTo>
                      <a:pt x="636" y="196"/>
                    </a:lnTo>
                    <a:lnTo>
                      <a:pt x="636" y="185"/>
                    </a:lnTo>
                    <a:lnTo>
                      <a:pt x="636" y="173"/>
                    </a:lnTo>
                    <a:lnTo>
                      <a:pt x="625" y="162"/>
                    </a:lnTo>
                    <a:lnTo>
                      <a:pt x="625" y="151"/>
                    </a:lnTo>
                    <a:lnTo>
                      <a:pt x="625" y="138"/>
                    </a:lnTo>
                    <a:lnTo>
                      <a:pt x="615" y="127"/>
                    </a:lnTo>
                    <a:lnTo>
                      <a:pt x="615" y="116"/>
                    </a:lnTo>
                    <a:lnTo>
                      <a:pt x="615" y="104"/>
                    </a:lnTo>
                    <a:lnTo>
                      <a:pt x="615" y="93"/>
                    </a:lnTo>
                    <a:lnTo>
                      <a:pt x="602" y="80"/>
                    </a:lnTo>
                    <a:lnTo>
                      <a:pt x="602" y="69"/>
                    </a:lnTo>
                    <a:lnTo>
                      <a:pt x="591" y="58"/>
                    </a:lnTo>
                    <a:lnTo>
                      <a:pt x="591" y="46"/>
                    </a:lnTo>
                    <a:lnTo>
                      <a:pt x="591" y="35"/>
                    </a:lnTo>
                    <a:lnTo>
                      <a:pt x="591" y="22"/>
                    </a:lnTo>
                    <a:lnTo>
                      <a:pt x="591" y="11"/>
                    </a:lnTo>
                    <a:lnTo>
                      <a:pt x="60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787920" y="4308480"/>
                <a:ext cx="156960" cy="92160"/>
              </a:xfrm>
              <a:custGeom>
                <a:avLst/>
                <a:gdLst/>
                <a:ahLst/>
                <a:rect l="l" t="t" r="r" b="b"/>
                <a:pathLst>
                  <a:path w="393" h="233">
                    <a:moveTo>
                      <a:pt x="11" y="233"/>
                    </a:moveTo>
                    <a:lnTo>
                      <a:pt x="24" y="221"/>
                    </a:lnTo>
                    <a:lnTo>
                      <a:pt x="81" y="233"/>
                    </a:lnTo>
                    <a:lnTo>
                      <a:pt x="81" y="221"/>
                    </a:lnTo>
                    <a:lnTo>
                      <a:pt x="81" y="209"/>
                    </a:lnTo>
                    <a:lnTo>
                      <a:pt x="92" y="175"/>
                    </a:lnTo>
                    <a:lnTo>
                      <a:pt x="127" y="163"/>
                    </a:lnTo>
                    <a:lnTo>
                      <a:pt x="139" y="163"/>
                    </a:lnTo>
                    <a:lnTo>
                      <a:pt x="139" y="151"/>
                    </a:lnTo>
                    <a:lnTo>
                      <a:pt x="127" y="151"/>
                    </a:lnTo>
                    <a:lnTo>
                      <a:pt x="127" y="140"/>
                    </a:lnTo>
                    <a:lnTo>
                      <a:pt x="115" y="140"/>
                    </a:lnTo>
                    <a:lnTo>
                      <a:pt x="103" y="140"/>
                    </a:lnTo>
                    <a:lnTo>
                      <a:pt x="92" y="140"/>
                    </a:lnTo>
                    <a:lnTo>
                      <a:pt x="92" y="151"/>
                    </a:lnTo>
                    <a:lnTo>
                      <a:pt x="81" y="163"/>
                    </a:lnTo>
                    <a:lnTo>
                      <a:pt x="11" y="151"/>
                    </a:lnTo>
                    <a:lnTo>
                      <a:pt x="0" y="140"/>
                    </a:lnTo>
                    <a:lnTo>
                      <a:pt x="0" y="128"/>
                    </a:lnTo>
                    <a:lnTo>
                      <a:pt x="0" y="116"/>
                    </a:lnTo>
                    <a:lnTo>
                      <a:pt x="0" y="106"/>
                    </a:lnTo>
                    <a:lnTo>
                      <a:pt x="69" y="35"/>
                    </a:lnTo>
                    <a:lnTo>
                      <a:pt x="115" y="48"/>
                    </a:lnTo>
                    <a:lnTo>
                      <a:pt x="161" y="70"/>
                    </a:lnTo>
                    <a:lnTo>
                      <a:pt x="185" y="93"/>
                    </a:lnTo>
                    <a:lnTo>
                      <a:pt x="255" y="93"/>
                    </a:lnTo>
                    <a:lnTo>
                      <a:pt x="255" y="82"/>
                    </a:lnTo>
                    <a:lnTo>
                      <a:pt x="255" y="70"/>
                    </a:lnTo>
                    <a:lnTo>
                      <a:pt x="242" y="70"/>
                    </a:lnTo>
                    <a:lnTo>
                      <a:pt x="231" y="58"/>
                    </a:lnTo>
                    <a:lnTo>
                      <a:pt x="220" y="58"/>
                    </a:lnTo>
                    <a:lnTo>
                      <a:pt x="220" y="48"/>
                    </a:lnTo>
                    <a:lnTo>
                      <a:pt x="207" y="35"/>
                    </a:lnTo>
                    <a:lnTo>
                      <a:pt x="207" y="24"/>
                    </a:lnTo>
                    <a:lnTo>
                      <a:pt x="207" y="11"/>
                    </a:lnTo>
                    <a:lnTo>
                      <a:pt x="207" y="0"/>
                    </a:lnTo>
                    <a:lnTo>
                      <a:pt x="312" y="0"/>
                    </a:lnTo>
                    <a:lnTo>
                      <a:pt x="312" y="11"/>
                    </a:lnTo>
                    <a:lnTo>
                      <a:pt x="312" y="24"/>
                    </a:lnTo>
                    <a:lnTo>
                      <a:pt x="312" y="35"/>
                    </a:lnTo>
                    <a:lnTo>
                      <a:pt x="300" y="35"/>
                    </a:lnTo>
                    <a:lnTo>
                      <a:pt x="312" y="35"/>
                    </a:lnTo>
                    <a:lnTo>
                      <a:pt x="312" y="48"/>
                    </a:lnTo>
                    <a:lnTo>
                      <a:pt x="323" y="35"/>
                    </a:lnTo>
                    <a:lnTo>
                      <a:pt x="335" y="35"/>
                    </a:lnTo>
                    <a:lnTo>
                      <a:pt x="347" y="35"/>
                    </a:lnTo>
                    <a:lnTo>
                      <a:pt x="358" y="35"/>
                    </a:lnTo>
                    <a:lnTo>
                      <a:pt x="358" y="48"/>
                    </a:lnTo>
                    <a:lnTo>
                      <a:pt x="370" y="48"/>
                    </a:lnTo>
                    <a:lnTo>
                      <a:pt x="370" y="58"/>
                    </a:lnTo>
                    <a:lnTo>
                      <a:pt x="381" y="58"/>
                    </a:lnTo>
                    <a:lnTo>
                      <a:pt x="393" y="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944880" y="4299120"/>
                <a:ext cx="68400" cy="137880"/>
              </a:xfrm>
              <a:custGeom>
                <a:avLst/>
                <a:gdLst/>
                <a:ahLst/>
                <a:rect l="l" t="t" r="r" b="b"/>
                <a:pathLst>
                  <a:path w="173" h="349">
                    <a:moveTo>
                      <a:pt x="0" y="93"/>
                    </a:moveTo>
                    <a:lnTo>
                      <a:pt x="11" y="81"/>
                    </a:lnTo>
                    <a:lnTo>
                      <a:pt x="24" y="13"/>
                    </a:lnTo>
                    <a:lnTo>
                      <a:pt x="24" y="0"/>
                    </a:lnTo>
                    <a:lnTo>
                      <a:pt x="35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9" y="0"/>
                    </a:lnTo>
                    <a:lnTo>
                      <a:pt x="69" y="13"/>
                    </a:lnTo>
                    <a:lnTo>
                      <a:pt x="82" y="13"/>
                    </a:lnTo>
                    <a:lnTo>
                      <a:pt x="82" y="23"/>
                    </a:lnTo>
                    <a:lnTo>
                      <a:pt x="58" y="47"/>
                    </a:lnTo>
                    <a:lnTo>
                      <a:pt x="58" y="58"/>
                    </a:lnTo>
                    <a:lnTo>
                      <a:pt x="58" y="71"/>
                    </a:lnTo>
                    <a:lnTo>
                      <a:pt x="69" y="81"/>
                    </a:lnTo>
                    <a:lnTo>
                      <a:pt x="69" y="93"/>
                    </a:lnTo>
                    <a:lnTo>
                      <a:pt x="82" y="105"/>
                    </a:lnTo>
                    <a:lnTo>
                      <a:pt x="116" y="81"/>
                    </a:lnTo>
                    <a:lnTo>
                      <a:pt x="139" y="81"/>
                    </a:lnTo>
                    <a:lnTo>
                      <a:pt x="139" y="93"/>
                    </a:lnTo>
                    <a:lnTo>
                      <a:pt x="139" y="105"/>
                    </a:lnTo>
                    <a:lnTo>
                      <a:pt x="151" y="116"/>
                    </a:lnTo>
                    <a:lnTo>
                      <a:pt x="151" y="129"/>
                    </a:lnTo>
                    <a:lnTo>
                      <a:pt x="162" y="139"/>
                    </a:lnTo>
                    <a:lnTo>
                      <a:pt x="151" y="151"/>
                    </a:lnTo>
                    <a:lnTo>
                      <a:pt x="151" y="163"/>
                    </a:lnTo>
                    <a:lnTo>
                      <a:pt x="139" y="163"/>
                    </a:lnTo>
                    <a:lnTo>
                      <a:pt x="127" y="174"/>
                    </a:lnTo>
                    <a:lnTo>
                      <a:pt x="116" y="174"/>
                    </a:lnTo>
                    <a:lnTo>
                      <a:pt x="104" y="174"/>
                    </a:lnTo>
                    <a:lnTo>
                      <a:pt x="93" y="174"/>
                    </a:lnTo>
                    <a:lnTo>
                      <a:pt x="82" y="174"/>
                    </a:lnTo>
                    <a:lnTo>
                      <a:pt x="82" y="186"/>
                    </a:lnTo>
                    <a:lnTo>
                      <a:pt x="93" y="186"/>
                    </a:lnTo>
                    <a:lnTo>
                      <a:pt x="151" y="221"/>
                    </a:lnTo>
                    <a:lnTo>
                      <a:pt x="173" y="336"/>
                    </a:lnTo>
                    <a:lnTo>
                      <a:pt x="173" y="349"/>
                    </a:lnTo>
                    <a:lnTo>
                      <a:pt x="162" y="349"/>
                    </a:lnTo>
                    <a:lnTo>
                      <a:pt x="82" y="336"/>
                    </a:lnTo>
                    <a:lnTo>
                      <a:pt x="82" y="325"/>
                    </a:lnTo>
                    <a:lnTo>
                      <a:pt x="82" y="314"/>
                    </a:lnTo>
                    <a:lnTo>
                      <a:pt x="82" y="302"/>
                    </a:lnTo>
                    <a:lnTo>
                      <a:pt x="93" y="291"/>
                    </a:lnTo>
                    <a:lnTo>
                      <a:pt x="93" y="278"/>
                    </a:lnTo>
                    <a:lnTo>
                      <a:pt x="93" y="267"/>
                    </a:lnTo>
                    <a:lnTo>
                      <a:pt x="82" y="256"/>
                    </a:lnTo>
                    <a:lnTo>
                      <a:pt x="69" y="256"/>
                    </a:lnTo>
                    <a:lnTo>
                      <a:pt x="58" y="256"/>
                    </a:lnTo>
                    <a:lnTo>
                      <a:pt x="58" y="267"/>
                    </a:lnTo>
                    <a:lnTo>
                      <a:pt x="46" y="267"/>
                    </a:lnTo>
                    <a:lnTo>
                      <a:pt x="46" y="302"/>
                    </a:lnTo>
                    <a:lnTo>
                      <a:pt x="35" y="314"/>
                    </a:lnTo>
                    <a:lnTo>
                      <a:pt x="24" y="314"/>
                    </a:lnTo>
                    <a:lnTo>
                      <a:pt x="24" y="302"/>
                    </a:lnTo>
                    <a:lnTo>
                      <a:pt x="11" y="302"/>
                    </a:lnTo>
                    <a:lnTo>
                      <a:pt x="0" y="3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925800" y="4419720"/>
                <a:ext cx="293760" cy="210960"/>
              </a:xfrm>
              <a:custGeom>
                <a:avLst/>
                <a:gdLst/>
                <a:ahLst/>
                <a:rect l="l" t="t" r="r" b="b"/>
                <a:pathLst>
                  <a:path w="741" h="534">
                    <a:moveTo>
                      <a:pt x="46" y="0"/>
                    </a:moveTo>
                    <a:lnTo>
                      <a:pt x="81" y="47"/>
                    </a:lnTo>
                    <a:lnTo>
                      <a:pt x="81" y="58"/>
                    </a:lnTo>
                    <a:lnTo>
                      <a:pt x="70" y="70"/>
                    </a:lnTo>
                    <a:lnTo>
                      <a:pt x="57" y="81"/>
                    </a:lnTo>
                    <a:lnTo>
                      <a:pt x="92" y="127"/>
                    </a:lnTo>
                    <a:lnTo>
                      <a:pt x="92" y="139"/>
                    </a:lnTo>
                    <a:lnTo>
                      <a:pt x="92" y="150"/>
                    </a:lnTo>
                    <a:lnTo>
                      <a:pt x="81" y="150"/>
                    </a:lnTo>
                    <a:lnTo>
                      <a:pt x="81" y="278"/>
                    </a:lnTo>
                    <a:lnTo>
                      <a:pt x="34" y="302"/>
                    </a:lnTo>
                    <a:lnTo>
                      <a:pt x="23" y="290"/>
                    </a:lnTo>
                    <a:lnTo>
                      <a:pt x="11" y="290"/>
                    </a:lnTo>
                    <a:lnTo>
                      <a:pt x="11" y="302"/>
                    </a:lnTo>
                    <a:lnTo>
                      <a:pt x="0" y="302"/>
                    </a:lnTo>
                    <a:lnTo>
                      <a:pt x="0" y="313"/>
                    </a:lnTo>
                    <a:lnTo>
                      <a:pt x="11" y="313"/>
                    </a:lnTo>
                    <a:lnTo>
                      <a:pt x="23" y="324"/>
                    </a:lnTo>
                    <a:lnTo>
                      <a:pt x="34" y="336"/>
                    </a:lnTo>
                    <a:lnTo>
                      <a:pt x="46" y="348"/>
                    </a:lnTo>
                    <a:lnTo>
                      <a:pt x="70" y="348"/>
                    </a:lnTo>
                    <a:lnTo>
                      <a:pt x="81" y="348"/>
                    </a:lnTo>
                    <a:lnTo>
                      <a:pt x="104" y="360"/>
                    </a:lnTo>
                    <a:lnTo>
                      <a:pt x="115" y="360"/>
                    </a:lnTo>
                    <a:lnTo>
                      <a:pt x="139" y="348"/>
                    </a:lnTo>
                    <a:lnTo>
                      <a:pt x="173" y="348"/>
                    </a:lnTo>
                    <a:lnTo>
                      <a:pt x="208" y="336"/>
                    </a:lnTo>
                    <a:lnTo>
                      <a:pt x="231" y="324"/>
                    </a:lnTo>
                    <a:lnTo>
                      <a:pt x="267" y="302"/>
                    </a:lnTo>
                    <a:lnTo>
                      <a:pt x="288" y="290"/>
                    </a:lnTo>
                    <a:lnTo>
                      <a:pt x="312" y="266"/>
                    </a:lnTo>
                    <a:lnTo>
                      <a:pt x="335" y="244"/>
                    </a:lnTo>
                    <a:lnTo>
                      <a:pt x="370" y="232"/>
                    </a:lnTo>
                    <a:lnTo>
                      <a:pt x="521" y="302"/>
                    </a:lnTo>
                    <a:lnTo>
                      <a:pt x="543" y="324"/>
                    </a:lnTo>
                    <a:lnTo>
                      <a:pt x="578" y="336"/>
                    </a:lnTo>
                    <a:lnTo>
                      <a:pt x="601" y="336"/>
                    </a:lnTo>
                    <a:lnTo>
                      <a:pt x="636" y="336"/>
                    </a:lnTo>
                    <a:lnTo>
                      <a:pt x="659" y="348"/>
                    </a:lnTo>
                    <a:lnTo>
                      <a:pt x="694" y="360"/>
                    </a:lnTo>
                    <a:lnTo>
                      <a:pt x="718" y="371"/>
                    </a:lnTo>
                    <a:lnTo>
                      <a:pt x="741" y="406"/>
                    </a:lnTo>
                    <a:lnTo>
                      <a:pt x="718" y="428"/>
                    </a:lnTo>
                    <a:lnTo>
                      <a:pt x="694" y="452"/>
                    </a:lnTo>
                    <a:lnTo>
                      <a:pt x="683" y="476"/>
                    </a:lnTo>
                    <a:lnTo>
                      <a:pt x="659" y="486"/>
                    </a:lnTo>
                    <a:lnTo>
                      <a:pt x="648" y="499"/>
                    </a:lnTo>
                    <a:lnTo>
                      <a:pt x="636" y="510"/>
                    </a:lnTo>
                    <a:lnTo>
                      <a:pt x="625" y="510"/>
                    </a:lnTo>
                    <a:lnTo>
                      <a:pt x="614" y="510"/>
                    </a:lnTo>
                    <a:lnTo>
                      <a:pt x="601" y="499"/>
                    </a:lnTo>
                    <a:lnTo>
                      <a:pt x="590" y="486"/>
                    </a:lnTo>
                    <a:lnTo>
                      <a:pt x="578" y="486"/>
                    </a:lnTo>
                    <a:lnTo>
                      <a:pt x="566" y="476"/>
                    </a:lnTo>
                    <a:lnTo>
                      <a:pt x="556" y="476"/>
                    </a:lnTo>
                    <a:lnTo>
                      <a:pt x="543" y="476"/>
                    </a:lnTo>
                    <a:lnTo>
                      <a:pt x="532" y="476"/>
                    </a:lnTo>
                    <a:lnTo>
                      <a:pt x="521" y="476"/>
                    </a:lnTo>
                    <a:lnTo>
                      <a:pt x="498" y="486"/>
                    </a:lnTo>
                    <a:lnTo>
                      <a:pt x="474" y="476"/>
                    </a:lnTo>
                    <a:lnTo>
                      <a:pt x="451" y="476"/>
                    </a:lnTo>
                    <a:lnTo>
                      <a:pt x="428" y="476"/>
                    </a:lnTo>
                    <a:lnTo>
                      <a:pt x="404" y="464"/>
                    </a:lnTo>
                    <a:lnTo>
                      <a:pt x="382" y="464"/>
                    </a:lnTo>
                    <a:lnTo>
                      <a:pt x="370" y="476"/>
                    </a:lnTo>
                    <a:lnTo>
                      <a:pt x="359" y="486"/>
                    </a:lnTo>
                    <a:lnTo>
                      <a:pt x="335" y="486"/>
                    </a:lnTo>
                    <a:lnTo>
                      <a:pt x="325" y="499"/>
                    </a:lnTo>
                    <a:lnTo>
                      <a:pt x="312" y="486"/>
                    </a:lnTo>
                    <a:lnTo>
                      <a:pt x="301" y="486"/>
                    </a:lnTo>
                    <a:lnTo>
                      <a:pt x="288" y="499"/>
                    </a:lnTo>
                    <a:lnTo>
                      <a:pt x="277" y="499"/>
                    </a:lnTo>
                    <a:lnTo>
                      <a:pt x="267" y="522"/>
                    </a:lnTo>
                    <a:lnTo>
                      <a:pt x="254" y="522"/>
                    </a:lnTo>
                    <a:lnTo>
                      <a:pt x="243" y="522"/>
                    </a:lnTo>
                    <a:lnTo>
                      <a:pt x="231" y="534"/>
                    </a:lnTo>
                    <a:lnTo>
                      <a:pt x="219" y="534"/>
                    </a:lnTo>
                    <a:lnTo>
                      <a:pt x="208" y="53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971880" y="4630680"/>
                <a:ext cx="184320" cy="542880"/>
              </a:xfrm>
              <a:custGeom>
                <a:avLst/>
                <a:gdLst/>
                <a:ahLst/>
                <a:rect l="l" t="t" r="r" b="b"/>
                <a:pathLst>
                  <a:path w="463" h="1368">
                    <a:moveTo>
                      <a:pt x="93" y="0"/>
                    </a:moveTo>
                    <a:lnTo>
                      <a:pt x="93" y="10"/>
                    </a:lnTo>
                    <a:lnTo>
                      <a:pt x="82" y="10"/>
                    </a:lnTo>
                    <a:lnTo>
                      <a:pt x="82" y="23"/>
                    </a:lnTo>
                    <a:lnTo>
                      <a:pt x="70" y="34"/>
                    </a:lnTo>
                    <a:lnTo>
                      <a:pt x="58" y="34"/>
                    </a:lnTo>
                    <a:lnTo>
                      <a:pt x="58" y="45"/>
                    </a:lnTo>
                    <a:lnTo>
                      <a:pt x="47" y="58"/>
                    </a:lnTo>
                    <a:lnTo>
                      <a:pt x="35" y="69"/>
                    </a:lnTo>
                    <a:lnTo>
                      <a:pt x="13" y="185"/>
                    </a:lnTo>
                    <a:lnTo>
                      <a:pt x="13" y="196"/>
                    </a:lnTo>
                    <a:lnTo>
                      <a:pt x="24" y="220"/>
                    </a:lnTo>
                    <a:lnTo>
                      <a:pt x="24" y="232"/>
                    </a:lnTo>
                    <a:lnTo>
                      <a:pt x="35" y="254"/>
                    </a:lnTo>
                    <a:lnTo>
                      <a:pt x="47" y="278"/>
                    </a:lnTo>
                    <a:lnTo>
                      <a:pt x="47" y="290"/>
                    </a:lnTo>
                    <a:lnTo>
                      <a:pt x="47" y="312"/>
                    </a:lnTo>
                    <a:lnTo>
                      <a:pt x="35" y="336"/>
                    </a:lnTo>
                    <a:lnTo>
                      <a:pt x="47" y="336"/>
                    </a:lnTo>
                    <a:lnTo>
                      <a:pt x="47" y="347"/>
                    </a:lnTo>
                    <a:lnTo>
                      <a:pt x="47" y="360"/>
                    </a:lnTo>
                    <a:lnTo>
                      <a:pt x="58" y="360"/>
                    </a:lnTo>
                    <a:lnTo>
                      <a:pt x="58" y="370"/>
                    </a:lnTo>
                    <a:lnTo>
                      <a:pt x="58" y="382"/>
                    </a:lnTo>
                    <a:lnTo>
                      <a:pt x="58" y="394"/>
                    </a:lnTo>
                    <a:lnTo>
                      <a:pt x="58" y="405"/>
                    </a:lnTo>
                    <a:lnTo>
                      <a:pt x="47" y="405"/>
                    </a:lnTo>
                    <a:lnTo>
                      <a:pt x="47" y="418"/>
                    </a:lnTo>
                    <a:lnTo>
                      <a:pt x="35" y="428"/>
                    </a:lnTo>
                    <a:lnTo>
                      <a:pt x="24" y="428"/>
                    </a:lnTo>
                    <a:lnTo>
                      <a:pt x="13" y="439"/>
                    </a:lnTo>
                    <a:lnTo>
                      <a:pt x="13" y="463"/>
                    </a:lnTo>
                    <a:lnTo>
                      <a:pt x="0" y="476"/>
                    </a:lnTo>
                    <a:lnTo>
                      <a:pt x="0" y="486"/>
                    </a:lnTo>
                    <a:lnTo>
                      <a:pt x="0" y="510"/>
                    </a:lnTo>
                    <a:lnTo>
                      <a:pt x="0" y="521"/>
                    </a:lnTo>
                    <a:lnTo>
                      <a:pt x="13" y="568"/>
                    </a:lnTo>
                    <a:lnTo>
                      <a:pt x="35" y="603"/>
                    </a:lnTo>
                    <a:lnTo>
                      <a:pt x="47" y="637"/>
                    </a:lnTo>
                    <a:lnTo>
                      <a:pt x="82" y="672"/>
                    </a:lnTo>
                    <a:lnTo>
                      <a:pt x="104" y="696"/>
                    </a:lnTo>
                    <a:lnTo>
                      <a:pt x="128" y="730"/>
                    </a:lnTo>
                    <a:lnTo>
                      <a:pt x="162" y="754"/>
                    </a:lnTo>
                    <a:lnTo>
                      <a:pt x="186" y="777"/>
                    </a:lnTo>
                    <a:lnTo>
                      <a:pt x="197" y="788"/>
                    </a:lnTo>
                    <a:lnTo>
                      <a:pt x="197" y="799"/>
                    </a:lnTo>
                    <a:lnTo>
                      <a:pt x="197" y="812"/>
                    </a:lnTo>
                    <a:lnTo>
                      <a:pt x="210" y="835"/>
                    </a:lnTo>
                    <a:lnTo>
                      <a:pt x="210" y="846"/>
                    </a:lnTo>
                    <a:lnTo>
                      <a:pt x="220" y="857"/>
                    </a:lnTo>
                    <a:lnTo>
                      <a:pt x="231" y="857"/>
                    </a:lnTo>
                    <a:lnTo>
                      <a:pt x="231" y="870"/>
                    </a:lnTo>
                    <a:lnTo>
                      <a:pt x="267" y="894"/>
                    </a:lnTo>
                    <a:lnTo>
                      <a:pt x="289" y="915"/>
                    </a:lnTo>
                    <a:lnTo>
                      <a:pt x="313" y="939"/>
                    </a:lnTo>
                    <a:lnTo>
                      <a:pt x="336" y="962"/>
                    </a:lnTo>
                    <a:lnTo>
                      <a:pt x="348" y="986"/>
                    </a:lnTo>
                    <a:lnTo>
                      <a:pt x="359" y="1020"/>
                    </a:lnTo>
                    <a:lnTo>
                      <a:pt x="371" y="1055"/>
                    </a:lnTo>
                    <a:lnTo>
                      <a:pt x="383" y="1090"/>
                    </a:lnTo>
                    <a:lnTo>
                      <a:pt x="383" y="1113"/>
                    </a:lnTo>
                    <a:lnTo>
                      <a:pt x="383" y="1136"/>
                    </a:lnTo>
                    <a:lnTo>
                      <a:pt x="383" y="1159"/>
                    </a:lnTo>
                    <a:lnTo>
                      <a:pt x="393" y="1183"/>
                    </a:lnTo>
                    <a:lnTo>
                      <a:pt x="393" y="1206"/>
                    </a:lnTo>
                    <a:lnTo>
                      <a:pt x="406" y="1217"/>
                    </a:lnTo>
                    <a:lnTo>
                      <a:pt x="417" y="1241"/>
                    </a:lnTo>
                    <a:lnTo>
                      <a:pt x="441" y="1252"/>
                    </a:lnTo>
                    <a:lnTo>
                      <a:pt x="441" y="1264"/>
                    </a:lnTo>
                    <a:lnTo>
                      <a:pt x="451" y="1275"/>
                    </a:lnTo>
                    <a:lnTo>
                      <a:pt x="451" y="1287"/>
                    </a:lnTo>
                    <a:lnTo>
                      <a:pt x="463" y="1299"/>
                    </a:lnTo>
                    <a:lnTo>
                      <a:pt x="463" y="1310"/>
                    </a:lnTo>
                    <a:lnTo>
                      <a:pt x="463" y="1322"/>
                    </a:lnTo>
                    <a:lnTo>
                      <a:pt x="463" y="1333"/>
                    </a:lnTo>
                    <a:lnTo>
                      <a:pt x="451" y="1345"/>
                    </a:lnTo>
                    <a:lnTo>
                      <a:pt x="441" y="1357"/>
                    </a:lnTo>
                    <a:lnTo>
                      <a:pt x="428" y="1357"/>
                    </a:lnTo>
                    <a:lnTo>
                      <a:pt x="428" y="1368"/>
                    </a:lnTo>
                    <a:lnTo>
                      <a:pt x="417" y="1368"/>
                    </a:lnTo>
                    <a:lnTo>
                      <a:pt x="406" y="1368"/>
                    </a:lnTo>
                    <a:lnTo>
                      <a:pt x="383" y="1368"/>
                    </a:lnTo>
                    <a:lnTo>
                      <a:pt x="371" y="1357"/>
                    </a:lnTo>
                    <a:lnTo>
                      <a:pt x="348" y="1357"/>
                    </a:lnTo>
                    <a:lnTo>
                      <a:pt x="336" y="1345"/>
                    </a:lnTo>
                    <a:lnTo>
                      <a:pt x="313" y="1345"/>
                    </a:lnTo>
                    <a:lnTo>
                      <a:pt x="301" y="1345"/>
                    </a:lnTo>
                    <a:lnTo>
                      <a:pt x="278" y="1345"/>
                    </a:lnTo>
                    <a:lnTo>
                      <a:pt x="267" y="1345"/>
                    </a:lnTo>
                    <a:lnTo>
                      <a:pt x="255" y="1345"/>
                    </a:lnTo>
                    <a:lnTo>
                      <a:pt x="255" y="13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705120" y="4686480"/>
                <a:ext cx="368280" cy="487080"/>
              </a:xfrm>
              <a:custGeom>
                <a:avLst/>
                <a:gdLst/>
                <a:ahLst/>
                <a:rect l="l" t="t" r="r" b="b"/>
                <a:pathLst>
                  <a:path w="927" h="1229">
                    <a:moveTo>
                      <a:pt x="927" y="1194"/>
                    </a:moveTo>
                    <a:lnTo>
                      <a:pt x="916" y="1194"/>
                    </a:lnTo>
                    <a:lnTo>
                      <a:pt x="916" y="1183"/>
                    </a:lnTo>
                    <a:lnTo>
                      <a:pt x="903" y="1171"/>
                    </a:lnTo>
                    <a:lnTo>
                      <a:pt x="903" y="1160"/>
                    </a:lnTo>
                    <a:lnTo>
                      <a:pt x="903" y="1148"/>
                    </a:lnTo>
                    <a:lnTo>
                      <a:pt x="903" y="1136"/>
                    </a:lnTo>
                    <a:lnTo>
                      <a:pt x="903" y="1125"/>
                    </a:lnTo>
                    <a:lnTo>
                      <a:pt x="916" y="1113"/>
                    </a:lnTo>
                    <a:lnTo>
                      <a:pt x="916" y="1102"/>
                    </a:lnTo>
                    <a:lnTo>
                      <a:pt x="916" y="1090"/>
                    </a:lnTo>
                    <a:lnTo>
                      <a:pt x="916" y="1078"/>
                    </a:lnTo>
                    <a:lnTo>
                      <a:pt x="916" y="1067"/>
                    </a:lnTo>
                    <a:lnTo>
                      <a:pt x="903" y="1054"/>
                    </a:lnTo>
                    <a:lnTo>
                      <a:pt x="858" y="1054"/>
                    </a:lnTo>
                    <a:lnTo>
                      <a:pt x="834" y="1032"/>
                    </a:lnTo>
                    <a:lnTo>
                      <a:pt x="824" y="997"/>
                    </a:lnTo>
                    <a:lnTo>
                      <a:pt x="811" y="951"/>
                    </a:lnTo>
                    <a:lnTo>
                      <a:pt x="800" y="916"/>
                    </a:lnTo>
                    <a:lnTo>
                      <a:pt x="788" y="881"/>
                    </a:lnTo>
                    <a:lnTo>
                      <a:pt x="765" y="847"/>
                    </a:lnTo>
                    <a:lnTo>
                      <a:pt x="742" y="812"/>
                    </a:lnTo>
                    <a:lnTo>
                      <a:pt x="719" y="789"/>
                    </a:lnTo>
                    <a:lnTo>
                      <a:pt x="685" y="765"/>
                    </a:lnTo>
                    <a:lnTo>
                      <a:pt x="649" y="731"/>
                    </a:lnTo>
                    <a:lnTo>
                      <a:pt x="627" y="696"/>
                    </a:lnTo>
                    <a:lnTo>
                      <a:pt x="603" y="660"/>
                    </a:lnTo>
                    <a:lnTo>
                      <a:pt x="580" y="626"/>
                    </a:lnTo>
                    <a:lnTo>
                      <a:pt x="557" y="591"/>
                    </a:lnTo>
                    <a:lnTo>
                      <a:pt x="533" y="568"/>
                    </a:lnTo>
                    <a:lnTo>
                      <a:pt x="487" y="545"/>
                    </a:lnTo>
                    <a:lnTo>
                      <a:pt x="475" y="545"/>
                    </a:lnTo>
                    <a:lnTo>
                      <a:pt x="465" y="568"/>
                    </a:lnTo>
                    <a:lnTo>
                      <a:pt x="465" y="591"/>
                    </a:lnTo>
                    <a:lnTo>
                      <a:pt x="452" y="626"/>
                    </a:lnTo>
                    <a:lnTo>
                      <a:pt x="452" y="649"/>
                    </a:lnTo>
                    <a:lnTo>
                      <a:pt x="452" y="673"/>
                    </a:lnTo>
                    <a:lnTo>
                      <a:pt x="441" y="696"/>
                    </a:lnTo>
                    <a:lnTo>
                      <a:pt x="430" y="731"/>
                    </a:lnTo>
                    <a:lnTo>
                      <a:pt x="417" y="755"/>
                    </a:lnTo>
                    <a:lnTo>
                      <a:pt x="407" y="789"/>
                    </a:lnTo>
                    <a:lnTo>
                      <a:pt x="407" y="823"/>
                    </a:lnTo>
                    <a:lnTo>
                      <a:pt x="407" y="870"/>
                    </a:lnTo>
                    <a:lnTo>
                      <a:pt x="417" y="904"/>
                    </a:lnTo>
                    <a:lnTo>
                      <a:pt x="417" y="939"/>
                    </a:lnTo>
                    <a:lnTo>
                      <a:pt x="417" y="974"/>
                    </a:lnTo>
                    <a:lnTo>
                      <a:pt x="430" y="1020"/>
                    </a:lnTo>
                    <a:lnTo>
                      <a:pt x="430" y="1054"/>
                    </a:lnTo>
                    <a:lnTo>
                      <a:pt x="452" y="1206"/>
                    </a:lnTo>
                    <a:lnTo>
                      <a:pt x="430" y="1229"/>
                    </a:lnTo>
                    <a:lnTo>
                      <a:pt x="255" y="1218"/>
                    </a:lnTo>
                    <a:lnTo>
                      <a:pt x="244" y="1218"/>
                    </a:lnTo>
                    <a:lnTo>
                      <a:pt x="234" y="1218"/>
                    </a:lnTo>
                    <a:lnTo>
                      <a:pt x="221" y="1194"/>
                    </a:lnTo>
                    <a:lnTo>
                      <a:pt x="221" y="1171"/>
                    </a:lnTo>
                    <a:lnTo>
                      <a:pt x="234" y="1136"/>
                    </a:lnTo>
                    <a:lnTo>
                      <a:pt x="244" y="1113"/>
                    </a:lnTo>
                    <a:lnTo>
                      <a:pt x="255" y="1090"/>
                    </a:lnTo>
                    <a:lnTo>
                      <a:pt x="255" y="1067"/>
                    </a:lnTo>
                    <a:lnTo>
                      <a:pt x="268" y="1044"/>
                    </a:lnTo>
                    <a:lnTo>
                      <a:pt x="255" y="1020"/>
                    </a:lnTo>
                    <a:lnTo>
                      <a:pt x="234" y="928"/>
                    </a:lnTo>
                    <a:lnTo>
                      <a:pt x="221" y="823"/>
                    </a:lnTo>
                    <a:lnTo>
                      <a:pt x="221" y="731"/>
                    </a:lnTo>
                    <a:lnTo>
                      <a:pt x="234" y="626"/>
                    </a:lnTo>
                    <a:lnTo>
                      <a:pt x="234" y="533"/>
                    </a:lnTo>
                    <a:lnTo>
                      <a:pt x="234" y="440"/>
                    </a:lnTo>
                    <a:lnTo>
                      <a:pt x="234" y="337"/>
                    </a:lnTo>
                    <a:lnTo>
                      <a:pt x="210" y="243"/>
                    </a:lnTo>
                    <a:lnTo>
                      <a:pt x="210" y="208"/>
                    </a:lnTo>
                    <a:lnTo>
                      <a:pt x="210" y="185"/>
                    </a:lnTo>
                    <a:lnTo>
                      <a:pt x="210" y="151"/>
                    </a:lnTo>
                    <a:lnTo>
                      <a:pt x="197" y="127"/>
                    </a:lnTo>
                    <a:lnTo>
                      <a:pt x="186" y="104"/>
                    </a:lnTo>
                    <a:lnTo>
                      <a:pt x="175" y="81"/>
                    </a:lnTo>
                    <a:lnTo>
                      <a:pt x="175" y="46"/>
                    </a:lnTo>
                    <a:lnTo>
                      <a:pt x="175" y="23"/>
                    </a:lnTo>
                    <a:lnTo>
                      <a:pt x="163" y="11"/>
                    </a:lnTo>
                    <a:lnTo>
                      <a:pt x="152" y="11"/>
                    </a:lnTo>
                    <a:lnTo>
                      <a:pt x="128" y="0"/>
                    </a:lnTo>
                    <a:lnTo>
                      <a:pt x="116" y="0"/>
                    </a:lnTo>
                    <a:lnTo>
                      <a:pt x="94" y="0"/>
                    </a:lnTo>
                    <a:lnTo>
                      <a:pt x="82" y="0"/>
                    </a:lnTo>
                    <a:lnTo>
                      <a:pt x="70" y="0"/>
                    </a:lnTo>
                    <a:lnTo>
                      <a:pt x="58" y="0"/>
                    </a:lnTo>
                    <a:lnTo>
                      <a:pt x="0" y="81"/>
                    </a:lnTo>
                    <a:lnTo>
                      <a:pt x="0" y="93"/>
                    </a:lnTo>
                    <a:lnTo>
                      <a:pt x="0" y="104"/>
                    </a:lnTo>
                    <a:lnTo>
                      <a:pt x="0" y="1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576600" y="4732200"/>
                <a:ext cx="128520" cy="128880"/>
              </a:xfrm>
              <a:custGeom>
                <a:avLst/>
                <a:gdLst/>
                <a:ahLst/>
                <a:rect l="l" t="t" r="r" b="b"/>
                <a:pathLst>
                  <a:path w="323" h="325">
                    <a:moveTo>
                      <a:pt x="323" y="0"/>
                    </a:moveTo>
                    <a:lnTo>
                      <a:pt x="313" y="0"/>
                    </a:lnTo>
                    <a:lnTo>
                      <a:pt x="313" y="12"/>
                    </a:lnTo>
                    <a:lnTo>
                      <a:pt x="301" y="24"/>
                    </a:lnTo>
                    <a:lnTo>
                      <a:pt x="289" y="24"/>
                    </a:lnTo>
                    <a:lnTo>
                      <a:pt x="278" y="36"/>
                    </a:lnTo>
                    <a:lnTo>
                      <a:pt x="265" y="48"/>
                    </a:lnTo>
                    <a:lnTo>
                      <a:pt x="243" y="48"/>
                    </a:lnTo>
                    <a:lnTo>
                      <a:pt x="231" y="58"/>
                    </a:lnTo>
                    <a:lnTo>
                      <a:pt x="220" y="58"/>
                    </a:lnTo>
                    <a:lnTo>
                      <a:pt x="208" y="70"/>
                    </a:lnTo>
                    <a:lnTo>
                      <a:pt x="185" y="93"/>
                    </a:lnTo>
                    <a:lnTo>
                      <a:pt x="174" y="106"/>
                    </a:lnTo>
                    <a:lnTo>
                      <a:pt x="162" y="116"/>
                    </a:lnTo>
                    <a:lnTo>
                      <a:pt x="150" y="128"/>
                    </a:lnTo>
                    <a:lnTo>
                      <a:pt x="150" y="140"/>
                    </a:lnTo>
                    <a:lnTo>
                      <a:pt x="150" y="151"/>
                    </a:lnTo>
                    <a:lnTo>
                      <a:pt x="140" y="151"/>
                    </a:lnTo>
                    <a:lnTo>
                      <a:pt x="140" y="164"/>
                    </a:lnTo>
                    <a:lnTo>
                      <a:pt x="82" y="314"/>
                    </a:lnTo>
                    <a:lnTo>
                      <a:pt x="82" y="325"/>
                    </a:lnTo>
                    <a:lnTo>
                      <a:pt x="69" y="325"/>
                    </a:lnTo>
                    <a:lnTo>
                      <a:pt x="58" y="314"/>
                    </a:lnTo>
                    <a:lnTo>
                      <a:pt x="46" y="314"/>
                    </a:lnTo>
                    <a:lnTo>
                      <a:pt x="24" y="302"/>
                    </a:lnTo>
                    <a:lnTo>
                      <a:pt x="0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51560" y="4511520"/>
                <a:ext cx="387360" cy="671760"/>
              </a:xfrm>
              <a:custGeom>
                <a:avLst/>
                <a:gdLst/>
                <a:ahLst/>
                <a:rect l="l" t="t" r="r" b="b"/>
                <a:pathLst>
                  <a:path w="973" h="1693">
                    <a:moveTo>
                      <a:pt x="0" y="1635"/>
                    </a:moveTo>
                    <a:lnTo>
                      <a:pt x="0" y="1693"/>
                    </a:lnTo>
                    <a:lnTo>
                      <a:pt x="12" y="1693"/>
                    </a:lnTo>
                    <a:lnTo>
                      <a:pt x="24" y="1693"/>
                    </a:lnTo>
                    <a:lnTo>
                      <a:pt x="24" y="1682"/>
                    </a:lnTo>
                    <a:lnTo>
                      <a:pt x="35" y="1682"/>
                    </a:lnTo>
                    <a:lnTo>
                      <a:pt x="58" y="1693"/>
                    </a:lnTo>
                    <a:lnTo>
                      <a:pt x="70" y="1693"/>
                    </a:lnTo>
                    <a:lnTo>
                      <a:pt x="94" y="1693"/>
                    </a:lnTo>
                    <a:lnTo>
                      <a:pt x="115" y="1682"/>
                    </a:lnTo>
                    <a:lnTo>
                      <a:pt x="139" y="1682"/>
                    </a:lnTo>
                    <a:lnTo>
                      <a:pt x="163" y="1682"/>
                    </a:lnTo>
                    <a:lnTo>
                      <a:pt x="186" y="1682"/>
                    </a:lnTo>
                    <a:lnTo>
                      <a:pt x="209" y="1682"/>
                    </a:lnTo>
                    <a:lnTo>
                      <a:pt x="231" y="1670"/>
                    </a:lnTo>
                    <a:lnTo>
                      <a:pt x="255" y="1670"/>
                    </a:lnTo>
                    <a:lnTo>
                      <a:pt x="291" y="1670"/>
                    </a:lnTo>
                    <a:lnTo>
                      <a:pt x="313" y="1670"/>
                    </a:lnTo>
                    <a:lnTo>
                      <a:pt x="336" y="1670"/>
                    </a:lnTo>
                    <a:lnTo>
                      <a:pt x="359" y="1659"/>
                    </a:lnTo>
                    <a:lnTo>
                      <a:pt x="370" y="1659"/>
                    </a:lnTo>
                    <a:lnTo>
                      <a:pt x="394" y="1635"/>
                    </a:lnTo>
                    <a:lnTo>
                      <a:pt x="407" y="1624"/>
                    </a:lnTo>
                    <a:lnTo>
                      <a:pt x="407" y="1612"/>
                    </a:lnTo>
                    <a:lnTo>
                      <a:pt x="407" y="1601"/>
                    </a:lnTo>
                    <a:lnTo>
                      <a:pt x="407" y="1589"/>
                    </a:lnTo>
                    <a:lnTo>
                      <a:pt x="407" y="1577"/>
                    </a:lnTo>
                    <a:lnTo>
                      <a:pt x="394" y="1577"/>
                    </a:lnTo>
                    <a:lnTo>
                      <a:pt x="383" y="1566"/>
                    </a:lnTo>
                    <a:lnTo>
                      <a:pt x="370" y="1566"/>
                    </a:lnTo>
                    <a:lnTo>
                      <a:pt x="359" y="1554"/>
                    </a:lnTo>
                    <a:lnTo>
                      <a:pt x="349" y="1543"/>
                    </a:lnTo>
                    <a:lnTo>
                      <a:pt x="349" y="1485"/>
                    </a:lnTo>
                    <a:lnTo>
                      <a:pt x="370" y="1438"/>
                    </a:lnTo>
                    <a:lnTo>
                      <a:pt x="394" y="1392"/>
                    </a:lnTo>
                    <a:lnTo>
                      <a:pt x="417" y="1345"/>
                    </a:lnTo>
                    <a:lnTo>
                      <a:pt x="441" y="1299"/>
                    </a:lnTo>
                    <a:lnTo>
                      <a:pt x="464" y="1241"/>
                    </a:lnTo>
                    <a:lnTo>
                      <a:pt x="487" y="1196"/>
                    </a:lnTo>
                    <a:lnTo>
                      <a:pt x="487" y="1148"/>
                    </a:lnTo>
                    <a:lnTo>
                      <a:pt x="487" y="1137"/>
                    </a:lnTo>
                    <a:lnTo>
                      <a:pt x="475" y="1137"/>
                    </a:lnTo>
                    <a:lnTo>
                      <a:pt x="475" y="1125"/>
                    </a:lnTo>
                    <a:lnTo>
                      <a:pt x="407" y="1090"/>
                    </a:lnTo>
                    <a:lnTo>
                      <a:pt x="407" y="1079"/>
                    </a:lnTo>
                    <a:lnTo>
                      <a:pt x="407" y="1067"/>
                    </a:lnTo>
                    <a:lnTo>
                      <a:pt x="407" y="1056"/>
                    </a:lnTo>
                    <a:lnTo>
                      <a:pt x="407" y="1043"/>
                    </a:lnTo>
                    <a:lnTo>
                      <a:pt x="407" y="1032"/>
                    </a:lnTo>
                    <a:lnTo>
                      <a:pt x="407" y="1021"/>
                    </a:lnTo>
                    <a:lnTo>
                      <a:pt x="407" y="1009"/>
                    </a:lnTo>
                    <a:lnTo>
                      <a:pt x="383" y="998"/>
                    </a:lnTo>
                    <a:lnTo>
                      <a:pt x="370" y="986"/>
                    </a:lnTo>
                    <a:lnTo>
                      <a:pt x="349" y="974"/>
                    </a:lnTo>
                    <a:lnTo>
                      <a:pt x="336" y="963"/>
                    </a:lnTo>
                    <a:lnTo>
                      <a:pt x="313" y="951"/>
                    </a:lnTo>
                    <a:lnTo>
                      <a:pt x="291" y="951"/>
                    </a:lnTo>
                    <a:lnTo>
                      <a:pt x="267" y="951"/>
                    </a:lnTo>
                    <a:lnTo>
                      <a:pt x="243" y="951"/>
                    </a:lnTo>
                    <a:lnTo>
                      <a:pt x="231" y="963"/>
                    </a:lnTo>
                    <a:lnTo>
                      <a:pt x="221" y="963"/>
                    </a:lnTo>
                    <a:lnTo>
                      <a:pt x="197" y="963"/>
                    </a:lnTo>
                    <a:lnTo>
                      <a:pt x="186" y="963"/>
                    </a:lnTo>
                    <a:lnTo>
                      <a:pt x="163" y="963"/>
                    </a:lnTo>
                    <a:lnTo>
                      <a:pt x="152" y="963"/>
                    </a:lnTo>
                    <a:lnTo>
                      <a:pt x="139" y="951"/>
                    </a:lnTo>
                    <a:lnTo>
                      <a:pt x="128" y="951"/>
                    </a:lnTo>
                    <a:lnTo>
                      <a:pt x="128" y="939"/>
                    </a:lnTo>
                    <a:lnTo>
                      <a:pt x="128" y="928"/>
                    </a:lnTo>
                    <a:lnTo>
                      <a:pt x="128" y="916"/>
                    </a:lnTo>
                    <a:lnTo>
                      <a:pt x="139" y="905"/>
                    </a:lnTo>
                    <a:lnTo>
                      <a:pt x="152" y="905"/>
                    </a:lnTo>
                    <a:lnTo>
                      <a:pt x="152" y="894"/>
                    </a:lnTo>
                    <a:lnTo>
                      <a:pt x="163" y="881"/>
                    </a:lnTo>
                    <a:lnTo>
                      <a:pt x="163" y="870"/>
                    </a:lnTo>
                    <a:lnTo>
                      <a:pt x="209" y="847"/>
                    </a:lnTo>
                    <a:lnTo>
                      <a:pt x="243" y="823"/>
                    </a:lnTo>
                    <a:lnTo>
                      <a:pt x="279" y="788"/>
                    </a:lnTo>
                    <a:lnTo>
                      <a:pt x="325" y="765"/>
                    </a:lnTo>
                    <a:lnTo>
                      <a:pt x="370" y="741"/>
                    </a:lnTo>
                    <a:lnTo>
                      <a:pt x="407" y="720"/>
                    </a:lnTo>
                    <a:lnTo>
                      <a:pt x="452" y="684"/>
                    </a:lnTo>
                    <a:lnTo>
                      <a:pt x="487" y="649"/>
                    </a:lnTo>
                    <a:lnTo>
                      <a:pt x="532" y="626"/>
                    </a:lnTo>
                    <a:lnTo>
                      <a:pt x="556" y="614"/>
                    </a:lnTo>
                    <a:lnTo>
                      <a:pt x="590" y="604"/>
                    </a:lnTo>
                    <a:lnTo>
                      <a:pt x="614" y="604"/>
                    </a:lnTo>
                    <a:lnTo>
                      <a:pt x="648" y="592"/>
                    </a:lnTo>
                    <a:lnTo>
                      <a:pt x="672" y="568"/>
                    </a:lnTo>
                    <a:lnTo>
                      <a:pt x="684" y="556"/>
                    </a:lnTo>
                    <a:lnTo>
                      <a:pt x="706" y="534"/>
                    </a:lnTo>
                    <a:lnTo>
                      <a:pt x="718" y="510"/>
                    </a:lnTo>
                    <a:lnTo>
                      <a:pt x="730" y="487"/>
                    </a:lnTo>
                    <a:lnTo>
                      <a:pt x="742" y="464"/>
                    </a:lnTo>
                    <a:lnTo>
                      <a:pt x="765" y="452"/>
                    </a:lnTo>
                    <a:lnTo>
                      <a:pt x="776" y="441"/>
                    </a:lnTo>
                    <a:lnTo>
                      <a:pt x="800" y="429"/>
                    </a:lnTo>
                    <a:lnTo>
                      <a:pt x="811" y="418"/>
                    </a:lnTo>
                    <a:lnTo>
                      <a:pt x="834" y="406"/>
                    </a:lnTo>
                    <a:lnTo>
                      <a:pt x="858" y="394"/>
                    </a:lnTo>
                    <a:lnTo>
                      <a:pt x="869" y="394"/>
                    </a:lnTo>
                    <a:lnTo>
                      <a:pt x="927" y="371"/>
                    </a:lnTo>
                    <a:lnTo>
                      <a:pt x="961" y="325"/>
                    </a:lnTo>
                    <a:lnTo>
                      <a:pt x="973" y="196"/>
                    </a:lnTo>
                    <a:lnTo>
                      <a:pt x="961" y="186"/>
                    </a:lnTo>
                    <a:lnTo>
                      <a:pt x="961" y="174"/>
                    </a:lnTo>
                    <a:lnTo>
                      <a:pt x="949" y="174"/>
                    </a:lnTo>
                    <a:lnTo>
                      <a:pt x="939" y="162"/>
                    </a:lnTo>
                    <a:lnTo>
                      <a:pt x="927" y="162"/>
                    </a:lnTo>
                    <a:lnTo>
                      <a:pt x="903" y="162"/>
                    </a:lnTo>
                    <a:lnTo>
                      <a:pt x="892" y="174"/>
                    </a:lnTo>
                    <a:lnTo>
                      <a:pt x="881" y="174"/>
                    </a:lnTo>
                    <a:lnTo>
                      <a:pt x="869" y="186"/>
                    </a:lnTo>
                    <a:lnTo>
                      <a:pt x="858" y="196"/>
                    </a:lnTo>
                    <a:lnTo>
                      <a:pt x="845" y="209"/>
                    </a:lnTo>
                    <a:lnTo>
                      <a:pt x="834" y="220"/>
                    </a:lnTo>
                    <a:lnTo>
                      <a:pt x="787" y="244"/>
                    </a:lnTo>
                    <a:lnTo>
                      <a:pt x="638" y="278"/>
                    </a:lnTo>
                    <a:lnTo>
                      <a:pt x="614" y="302"/>
                    </a:lnTo>
                    <a:lnTo>
                      <a:pt x="603" y="325"/>
                    </a:lnTo>
                    <a:lnTo>
                      <a:pt x="580" y="347"/>
                    </a:lnTo>
                    <a:lnTo>
                      <a:pt x="556" y="371"/>
                    </a:lnTo>
                    <a:lnTo>
                      <a:pt x="532" y="383"/>
                    </a:lnTo>
                    <a:lnTo>
                      <a:pt x="510" y="394"/>
                    </a:lnTo>
                    <a:lnTo>
                      <a:pt x="475" y="406"/>
                    </a:lnTo>
                    <a:lnTo>
                      <a:pt x="452" y="418"/>
                    </a:lnTo>
                    <a:lnTo>
                      <a:pt x="428" y="418"/>
                    </a:lnTo>
                    <a:lnTo>
                      <a:pt x="417" y="418"/>
                    </a:lnTo>
                    <a:lnTo>
                      <a:pt x="407" y="418"/>
                    </a:lnTo>
                    <a:lnTo>
                      <a:pt x="394" y="418"/>
                    </a:lnTo>
                    <a:lnTo>
                      <a:pt x="370" y="429"/>
                    </a:lnTo>
                    <a:lnTo>
                      <a:pt x="359" y="429"/>
                    </a:lnTo>
                    <a:lnTo>
                      <a:pt x="349" y="429"/>
                    </a:lnTo>
                    <a:lnTo>
                      <a:pt x="336" y="441"/>
                    </a:lnTo>
                    <a:lnTo>
                      <a:pt x="325" y="441"/>
                    </a:lnTo>
                    <a:lnTo>
                      <a:pt x="325" y="452"/>
                    </a:lnTo>
                    <a:lnTo>
                      <a:pt x="313" y="452"/>
                    </a:lnTo>
                    <a:lnTo>
                      <a:pt x="313" y="464"/>
                    </a:lnTo>
                    <a:lnTo>
                      <a:pt x="291" y="476"/>
                    </a:lnTo>
                    <a:lnTo>
                      <a:pt x="279" y="476"/>
                    </a:lnTo>
                    <a:lnTo>
                      <a:pt x="255" y="487"/>
                    </a:lnTo>
                    <a:lnTo>
                      <a:pt x="231" y="487"/>
                    </a:lnTo>
                    <a:lnTo>
                      <a:pt x="197" y="487"/>
                    </a:lnTo>
                    <a:lnTo>
                      <a:pt x="173" y="487"/>
                    </a:lnTo>
                    <a:lnTo>
                      <a:pt x="152" y="498"/>
                    </a:lnTo>
                    <a:lnTo>
                      <a:pt x="128" y="498"/>
                    </a:lnTo>
                    <a:lnTo>
                      <a:pt x="115" y="487"/>
                    </a:lnTo>
                    <a:lnTo>
                      <a:pt x="105" y="476"/>
                    </a:lnTo>
                    <a:lnTo>
                      <a:pt x="105" y="464"/>
                    </a:lnTo>
                    <a:lnTo>
                      <a:pt x="115" y="464"/>
                    </a:lnTo>
                    <a:lnTo>
                      <a:pt x="197" y="418"/>
                    </a:lnTo>
                    <a:lnTo>
                      <a:pt x="209" y="278"/>
                    </a:lnTo>
                    <a:lnTo>
                      <a:pt x="221" y="254"/>
                    </a:lnTo>
                    <a:lnTo>
                      <a:pt x="186" y="174"/>
                    </a:lnTo>
                    <a:lnTo>
                      <a:pt x="152" y="58"/>
                    </a:lnTo>
                    <a:lnTo>
                      <a:pt x="139" y="46"/>
                    </a:lnTo>
                    <a:lnTo>
                      <a:pt x="128" y="46"/>
                    </a:lnTo>
                    <a:lnTo>
                      <a:pt x="128" y="34"/>
                    </a:lnTo>
                    <a:lnTo>
                      <a:pt x="128" y="23"/>
                    </a:lnTo>
                    <a:lnTo>
                      <a:pt x="115" y="23"/>
                    </a:lnTo>
                    <a:lnTo>
                      <a:pt x="115" y="12"/>
                    </a:lnTo>
                    <a:lnTo>
                      <a:pt x="105" y="0"/>
                    </a:lnTo>
                    <a:lnTo>
                      <a:pt x="94" y="0"/>
                    </a:lnTo>
                    <a:lnTo>
                      <a:pt x="70" y="0"/>
                    </a:lnTo>
                    <a:lnTo>
                      <a:pt x="58" y="0"/>
                    </a:lnTo>
                    <a:lnTo>
                      <a:pt x="47" y="0"/>
                    </a:lnTo>
                    <a:lnTo>
                      <a:pt x="35" y="12"/>
                    </a:lnTo>
                    <a:lnTo>
                      <a:pt x="24" y="23"/>
                    </a:lnTo>
                    <a:lnTo>
                      <a:pt x="0" y="23"/>
                    </a:lnTo>
                    <a:lnTo>
                      <a:pt x="0" y="1577"/>
                    </a:lnTo>
                    <a:lnTo>
                      <a:pt x="12" y="1566"/>
                    </a:lnTo>
                    <a:lnTo>
                      <a:pt x="24" y="1554"/>
                    </a:lnTo>
                    <a:lnTo>
                      <a:pt x="35" y="1543"/>
                    </a:lnTo>
                    <a:lnTo>
                      <a:pt x="35" y="1531"/>
                    </a:lnTo>
                    <a:lnTo>
                      <a:pt x="47" y="1519"/>
                    </a:lnTo>
                    <a:lnTo>
                      <a:pt x="58" y="1519"/>
                    </a:lnTo>
                    <a:lnTo>
                      <a:pt x="58" y="1508"/>
                    </a:lnTo>
                    <a:lnTo>
                      <a:pt x="0" y="16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380280" y="4506840"/>
                <a:ext cx="71280" cy="681120"/>
              </a:xfrm>
              <a:custGeom>
                <a:avLst/>
                <a:gdLst/>
                <a:ahLst/>
                <a:rect l="l" t="t" r="r" b="b"/>
                <a:pathLst>
                  <a:path w="184" h="1716">
                    <a:moveTo>
                      <a:pt x="184" y="1588"/>
                    </a:moveTo>
                    <a:lnTo>
                      <a:pt x="184" y="34"/>
                    </a:lnTo>
                    <a:lnTo>
                      <a:pt x="126" y="0"/>
                    </a:lnTo>
                    <a:lnTo>
                      <a:pt x="92" y="11"/>
                    </a:lnTo>
                    <a:lnTo>
                      <a:pt x="81" y="23"/>
                    </a:lnTo>
                    <a:lnTo>
                      <a:pt x="68" y="34"/>
                    </a:lnTo>
                    <a:lnTo>
                      <a:pt x="58" y="45"/>
                    </a:lnTo>
                    <a:lnTo>
                      <a:pt x="46" y="45"/>
                    </a:lnTo>
                    <a:lnTo>
                      <a:pt x="34" y="57"/>
                    </a:lnTo>
                    <a:lnTo>
                      <a:pt x="23" y="57"/>
                    </a:lnTo>
                    <a:lnTo>
                      <a:pt x="11" y="69"/>
                    </a:lnTo>
                    <a:lnTo>
                      <a:pt x="0" y="81"/>
                    </a:lnTo>
                    <a:lnTo>
                      <a:pt x="0" y="452"/>
                    </a:lnTo>
                    <a:lnTo>
                      <a:pt x="11" y="452"/>
                    </a:lnTo>
                    <a:lnTo>
                      <a:pt x="23" y="452"/>
                    </a:lnTo>
                    <a:lnTo>
                      <a:pt x="23" y="463"/>
                    </a:lnTo>
                    <a:lnTo>
                      <a:pt x="0" y="475"/>
                    </a:lnTo>
                    <a:lnTo>
                      <a:pt x="0" y="1414"/>
                    </a:lnTo>
                    <a:lnTo>
                      <a:pt x="81" y="1380"/>
                    </a:lnTo>
                    <a:lnTo>
                      <a:pt x="81" y="1391"/>
                    </a:lnTo>
                    <a:lnTo>
                      <a:pt x="81" y="1403"/>
                    </a:lnTo>
                    <a:lnTo>
                      <a:pt x="81" y="1414"/>
                    </a:lnTo>
                    <a:lnTo>
                      <a:pt x="0" y="1484"/>
                    </a:lnTo>
                    <a:lnTo>
                      <a:pt x="0" y="1704"/>
                    </a:lnTo>
                    <a:lnTo>
                      <a:pt x="23" y="1704"/>
                    </a:lnTo>
                    <a:lnTo>
                      <a:pt x="46" y="1716"/>
                    </a:lnTo>
                    <a:lnTo>
                      <a:pt x="68" y="1716"/>
                    </a:lnTo>
                    <a:lnTo>
                      <a:pt x="92" y="1716"/>
                    </a:lnTo>
                    <a:lnTo>
                      <a:pt x="116" y="1716"/>
                    </a:lnTo>
                    <a:lnTo>
                      <a:pt x="139" y="1716"/>
                    </a:lnTo>
                    <a:lnTo>
                      <a:pt x="161" y="1704"/>
                    </a:lnTo>
                    <a:lnTo>
                      <a:pt x="184" y="1704"/>
                    </a:lnTo>
                    <a:lnTo>
                      <a:pt x="184" y="1646"/>
                    </a:lnTo>
                    <a:lnTo>
                      <a:pt x="184" y="1658"/>
                    </a:lnTo>
                    <a:lnTo>
                      <a:pt x="126" y="1623"/>
                    </a:lnTo>
                    <a:lnTo>
                      <a:pt x="139" y="1623"/>
                    </a:lnTo>
                    <a:lnTo>
                      <a:pt x="139" y="1612"/>
                    </a:lnTo>
                    <a:lnTo>
                      <a:pt x="150" y="1612"/>
                    </a:lnTo>
                    <a:lnTo>
                      <a:pt x="161" y="1612"/>
                    </a:lnTo>
                    <a:lnTo>
                      <a:pt x="161" y="1600"/>
                    </a:lnTo>
                    <a:lnTo>
                      <a:pt x="174" y="1600"/>
                    </a:lnTo>
                    <a:lnTo>
                      <a:pt x="184" y="15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094440" y="4538520"/>
                <a:ext cx="285840" cy="561960"/>
              </a:xfrm>
              <a:custGeom>
                <a:avLst/>
                <a:gdLst/>
                <a:ahLst/>
                <a:rect l="l" t="t" r="r" b="b"/>
                <a:pathLst>
                  <a:path w="718" h="1415">
                    <a:moveTo>
                      <a:pt x="718" y="371"/>
                    </a:moveTo>
                    <a:lnTo>
                      <a:pt x="718" y="0"/>
                    </a:lnTo>
                    <a:lnTo>
                      <a:pt x="706" y="0"/>
                    </a:lnTo>
                    <a:lnTo>
                      <a:pt x="706" y="11"/>
                    </a:lnTo>
                    <a:lnTo>
                      <a:pt x="694" y="22"/>
                    </a:lnTo>
                    <a:lnTo>
                      <a:pt x="694" y="34"/>
                    </a:lnTo>
                    <a:lnTo>
                      <a:pt x="521" y="92"/>
                    </a:lnTo>
                    <a:lnTo>
                      <a:pt x="509" y="104"/>
                    </a:lnTo>
                    <a:lnTo>
                      <a:pt x="509" y="116"/>
                    </a:lnTo>
                    <a:lnTo>
                      <a:pt x="509" y="126"/>
                    </a:lnTo>
                    <a:lnTo>
                      <a:pt x="521" y="139"/>
                    </a:lnTo>
                    <a:lnTo>
                      <a:pt x="521" y="150"/>
                    </a:lnTo>
                    <a:lnTo>
                      <a:pt x="521" y="162"/>
                    </a:lnTo>
                    <a:lnTo>
                      <a:pt x="532" y="174"/>
                    </a:lnTo>
                    <a:lnTo>
                      <a:pt x="545" y="174"/>
                    </a:lnTo>
                    <a:lnTo>
                      <a:pt x="555" y="174"/>
                    </a:lnTo>
                    <a:lnTo>
                      <a:pt x="567" y="162"/>
                    </a:lnTo>
                    <a:lnTo>
                      <a:pt x="567" y="150"/>
                    </a:lnTo>
                    <a:lnTo>
                      <a:pt x="579" y="150"/>
                    </a:lnTo>
                    <a:lnTo>
                      <a:pt x="603" y="139"/>
                    </a:lnTo>
                    <a:lnTo>
                      <a:pt x="671" y="139"/>
                    </a:lnTo>
                    <a:lnTo>
                      <a:pt x="706" y="116"/>
                    </a:lnTo>
                    <a:lnTo>
                      <a:pt x="706" y="126"/>
                    </a:lnTo>
                    <a:lnTo>
                      <a:pt x="694" y="139"/>
                    </a:lnTo>
                    <a:lnTo>
                      <a:pt x="694" y="150"/>
                    </a:lnTo>
                    <a:lnTo>
                      <a:pt x="682" y="162"/>
                    </a:lnTo>
                    <a:lnTo>
                      <a:pt x="555" y="208"/>
                    </a:lnTo>
                    <a:lnTo>
                      <a:pt x="545" y="208"/>
                    </a:lnTo>
                    <a:lnTo>
                      <a:pt x="545" y="197"/>
                    </a:lnTo>
                    <a:lnTo>
                      <a:pt x="532" y="197"/>
                    </a:lnTo>
                    <a:lnTo>
                      <a:pt x="521" y="197"/>
                    </a:lnTo>
                    <a:lnTo>
                      <a:pt x="509" y="197"/>
                    </a:lnTo>
                    <a:lnTo>
                      <a:pt x="497" y="197"/>
                    </a:lnTo>
                    <a:lnTo>
                      <a:pt x="485" y="208"/>
                    </a:lnTo>
                    <a:lnTo>
                      <a:pt x="475" y="208"/>
                    </a:lnTo>
                    <a:lnTo>
                      <a:pt x="463" y="197"/>
                    </a:lnTo>
                    <a:lnTo>
                      <a:pt x="463" y="208"/>
                    </a:lnTo>
                    <a:lnTo>
                      <a:pt x="451" y="208"/>
                    </a:lnTo>
                    <a:lnTo>
                      <a:pt x="451" y="220"/>
                    </a:lnTo>
                    <a:lnTo>
                      <a:pt x="440" y="232"/>
                    </a:lnTo>
                    <a:lnTo>
                      <a:pt x="440" y="242"/>
                    </a:lnTo>
                    <a:lnTo>
                      <a:pt x="427" y="255"/>
                    </a:lnTo>
                    <a:lnTo>
                      <a:pt x="427" y="266"/>
                    </a:lnTo>
                    <a:lnTo>
                      <a:pt x="427" y="277"/>
                    </a:lnTo>
                    <a:lnTo>
                      <a:pt x="440" y="277"/>
                    </a:lnTo>
                    <a:lnTo>
                      <a:pt x="532" y="277"/>
                    </a:lnTo>
                    <a:lnTo>
                      <a:pt x="532" y="290"/>
                    </a:lnTo>
                    <a:lnTo>
                      <a:pt x="532" y="301"/>
                    </a:lnTo>
                    <a:lnTo>
                      <a:pt x="521" y="301"/>
                    </a:lnTo>
                    <a:lnTo>
                      <a:pt x="521" y="313"/>
                    </a:lnTo>
                    <a:lnTo>
                      <a:pt x="509" y="313"/>
                    </a:lnTo>
                    <a:lnTo>
                      <a:pt x="497" y="324"/>
                    </a:lnTo>
                    <a:lnTo>
                      <a:pt x="497" y="336"/>
                    </a:lnTo>
                    <a:lnTo>
                      <a:pt x="485" y="336"/>
                    </a:lnTo>
                    <a:lnTo>
                      <a:pt x="485" y="348"/>
                    </a:lnTo>
                    <a:lnTo>
                      <a:pt x="485" y="359"/>
                    </a:lnTo>
                    <a:lnTo>
                      <a:pt x="485" y="371"/>
                    </a:lnTo>
                    <a:lnTo>
                      <a:pt x="497" y="371"/>
                    </a:lnTo>
                    <a:lnTo>
                      <a:pt x="509" y="371"/>
                    </a:lnTo>
                    <a:lnTo>
                      <a:pt x="521" y="371"/>
                    </a:lnTo>
                    <a:lnTo>
                      <a:pt x="521" y="382"/>
                    </a:lnTo>
                    <a:lnTo>
                      <a:pt x="532" y="394"/>
                    </a:lnTo>
                    <a:lnTo>
                      <a:pt x="545" y="394"/>
                    </a:lnTo>
                    <a:lnTo>
                      <a:pt x="545" y="382"/>
                    </a:lnTo>
                    <a:lnTo>
                      <a:pt x="555" y="382"/>
                    </a:lnTo>
                    <a:lnTo>
                      <a:pt x="567" y="371"/>
                    </a:lnTo>
                    <a:lnTo>
                      <a:pt x="567" y="359"/>
                    </a:lnTo>
                    <a:lnTo>
                      <a:pt x="567" y="348"/>
                    </a:lnTo>
                    <a:lnTo>
                      <a:pt x="579" y="336"/>
                    </a:lnTo>
                    <a:lnTo>
                      <a:pt x="579" y="324"/>
                    </a:lnTo>
                    <a:lnTo>
                      <a:pt x="590" y="324"/>
                    </a:lnTo>
                    <a:lnTo>
                      <a:pt x="590" y="313"/>
                    </a:lnTo>
                    <a:lnTo>
                      <a:pt x="603" y="313"/>
                    </a:lnTo>
                    <a:lnTo>
                      <a:pt x="603" y="301"/>
                    </a:lnTo>
                    <a:lnTo>
                      <a:pt x="613" y="301"/>
                    </a:lnTo>
                    <a:lnTo>
                      <a:pt x="624" y="301"/>
                    </a:lnTo>
                    <a:lnTo>
                      <a:pt x="637" y="313"/>
                    </a:lnTo>
                    <a:lnTo>
                      <a:pt x="637" y="324"/>
                    </a:lnTo>
                    <a:lnTo>
                      <a:pt x="624" y="336"/>
                    </a:lnTo>
                    <a:lnTo>
                      <a:pt x="624" y="348"/>
                    </a:lnTo>
                    <a:lnTo>
                      <a:pt x="624" y="359"/>
                    </a:lnTo>
                    <a:lnTo>
                      <a:pt x="624" y="371"/>
                    </a:lnTo>
                    <a:lnTo>
                      <a:pt x="637" y="371"/>
                    </a:lnTo>
                    <a:lnTo>
                      <a:pt x="637" y="382"/>
                    </a:lnTo>
                    <a:lnTo>
                      <a:pt x="648" y="382"/>
                    </a:lnTo>
                    <a:lnTo>
                      <a:pt x="648" y="394"/>
                    </a:lnTo>
                    <a:lnTo>
                      <a:pt x="497" y="464"/>
                    </a:lnTo>
                    <a:lnTo>
                      <a:pt x="485" y="475"/>
                    </a:lnTo>
                    <a:lnTo>
                      <a:pt x="463" y="498"/>
                    </a:lnTo>
                    <a:lnTo>
                      <a:pt x="451" y="522"/>
                    </a:lnTo>
                    <a:lnTo>
                      <a:pt x="427" y="544"/>
                    </a:lnTo>
                    <a:lnTo>
                      <a:pt x="417" y="568"/>
                    </a:lnTo>
                    <a:lnTo>
                      <a:pt x="393" y="579"/>
                    </a:lnTo>
                    <a:lnTo>
                      <a:pt x="382" y="602"/>
                    </a:lnTo>
                    <a:lnTo>
                      <a:pt x="359" y="614"/>
                    </a:lnTo>
                    <a:lnTo>
                      <a:pt x="348" y="614"/>
                    </a:lnTo>
                    <a:lnTo>
                      <a:pt x="324" y="614"/>
                    </a:lnTo>
                    <a:lnTo>
                      <a:pt x="312" y="614"/>
                    </a:lnTo>
                    <a:lnTo>
                      <a:pt x="301" y="614"/>
                    </a:lnTo>
                    <a:lnTo>
                      <a:pt x="289" y="614"/>
                    </a:lnTo>
                    <a:lnTo>
                      <a:pt x="278" y="614"/>
                    </a:lnTo>
                    <a:lnTo>
                      <a:pt x="266" y="626"/>
                    </a:lnTo>
                    <a:lnTo>
                      <a:pt x="254" y="637"/>
                    </a:lnTo>
                    <a:lnTo>
                      <a:pt x="243" y="650"/>
                    </a:lnTo>
                    <a:lnTo>
                      <a:pt x="231" y="650"/>
                    </a:lnTo>
                    <a:lnTo>
                      <a:pt x="220" y="660"/>
                    </a:lnTo>
                    <a:lnTo>
                      <a:pt x="208" y="671"/>
                    </a:lnTo>
                    <a:lnTo>
                      <a:pt x="196" y="684"/>
                    </a:lnTo>
                    <a:lnTo>
                      <a:pt x="196" y="695"/>
                    </a:lnTo>
                    <a:lnTo>
                      <a:pt x="186" y="708"/>
                    </a:lnTo>
                    <a:lnTo>
                      <a:pt x="186" y="718"/>
                    </a:lnTo>
                    <a:lnTo>
                      <a:pt x="70" y="811"/>
                    </a:lnTo>
                    <a:lnTo>
                      <a:pt x="58" y="824"/>
                    </a:lnTo>
                    <a:lnTo>
                      <a:pt x="34" y="835"/>
                    </a:lnTo>
                    <a:lnTo>
                      <a:pt x="23" y="846"/>
                    </a:lnTo>
                    <a:lnTo>
                      <a:pt x="12" y="846"/>
                    </a:lnTo>
                    <a:lnTo>
                      <a:pt x="0" y="846"/>
                    </a:lnTo>
                    <a:lnTo>
                      <a:pt x="0" y="858"/>
                    </a:lnTo>
                    <a:lnTo>
                      <a:pt x="0" y="869"/>
                    </a:lnTo>
                    <a:lnTo>
                      <a:pt x="0" y="881"/>
                    </a:lnTo>
                    <a:lnTo>
                      <a:pt x="0" y="893"/>
                    </a:lnTo>
                    <a:lnTo>
                      <a:pt x="0" y="904"/>
                    </a:lnTo>
                    <a:lnTo>
                      <a:pt x="12" y="904"/>
                    </a:lnTo>
                    <a:lnTo>
                      <a:pt x="12" y="916"/>
                    </a:lnTo>
                    <a:lnTo>
                      <a:pt x="23" y="916"/>
                    </a:lnTo>
                    <a:lnTo>
                      <a:pt x="46" y="928"/>
                    </a:lnTo>
                    <a:lnTo>
                      <a:pt x="58" y="939"/>
                    </a:lnTo>
                    <a:lnTo>
                      <a:pt x="80" y="939"/>
                    </a:lnTo>
                    <a:lnTo>
                      <a:pt x="104" y="939"/>
                    </a:lnTo>
                    <a:lnTo>
                      <a:pt x="128" y="939"/>
                    </a:lnTo>
                    <a:lnTo>
                      <a:pt x="151" y="928"/>
                    </a:lnTo>
                    <a:lnTo>
                      <a:pt x="162" y="928"/>
                    </a:lnTo>
                    <a:lnTo>
                      <a:pt x="186" y="916"/>
                    </a:lnTo>
                    <a:lnTo>
                      <a:pt x="208" y="904"/>
                    </a:lnTo>
                    <a:lnTo>
                      <a:pt x="220" y="904"/>
                    </a:lnTo>
                    <a:lnTo>
                      <a:pt x="231" y="893"/>
                    </a:lnTo>
                    <a:lnTo>
                      <a:pt x="243" y="881"/>
                    </a:lnTo>
                    <a:lnTo>
                      <a:pt x="254" y="869"/>
                    </a:lnTo>
                    <a:lnTo>
                      <a:pt x="266" y="858"/>
                    </a:lnTo>
                    <a:lnTo>
                      <a:pt x="289" y="858"/>
                    </a:lnTo>
                    <a:lnTo>
                      <a:pt x="301" y="846"/>
                    </a:lnTo>
                    <a:lnTo>
                      <a:pt x="359" y="869"/>
                    </a:lnTo>
                    <a:lnTo>
                      <a:pt x="348" y="869"/>
                    </a:lnTo>
                    <a:lnTo>
                      <a:pt x="335" y="858"/>
                    </a:lnTo>
                    <a:lnTo>
                      <a:pt x="324" y="858"/>
                    </a:lnTo>
                    <a:lnTo>
                      <a:pt x="324" y="846"/>
                    </a:lnTo>
                    <a:lnTo>
                      <a:pt x="312" y="846"/>
                    </a:lnTo>
                    <a:lnTo>
                      <a:pt x="312" y="835"/>
                    </a:lnTo>
                    <a:lnTo>
                      <a:pt x="324" y="824"/>
                    </a:lnTo>
                    <a:lnTo>
                      <a:pt x="348" y="811"/>
                    </a:lnTo>
                    <a:lnTo>
                      <a:pt x="359" y="800"/>
                    </a:lnTo>
                    <a:lnTo>
                      <a:pt x="382" y="788"/>
                    </a:lnTo>
                    <a:lnTo>
                      <a:pt x="406" y="788"/>
                    </a:lnTo>
                    <a:lnTo>
                      <a:pt x="427" y="777"/>
                    </a:lnTo>
                    <a:lnTo>
                      <a:pt x="451" y="766"/>
                    </a:lnTo>
                    <a:lnTo>
                      <a:pt x="475" y="753"/>
                    </a:lnTo>
                    <a:lnTo>
                      <a:pt x="417" y="869"/>
                    </a:lnTo>
                    <a:lnTo>
                      <a:pt x="406" y="881"/>
                    </a:lnTo>
                    <a:lnTo>
                      <a:pt x="393" y="881"/>
                    </a:lnTo>
                    <a:lnTo>
                      <a:pt x="382" y="881"/>
                    </a:lnTo>
                    <a:lnTo>
                      <a:pt x="393" y="881"/>
                    </a:lnTo>
                    <a:lnTo>
                      <a:pt x="406" y="881"/>
                    </a:lnTo>
                    <a:lnTo>
                      <a:pt x="369" y="916"/>
                    </a:lnTo>
                    <a:lnTo>
                      <a:pt x="348" y="962"/>
                    </a:lnTo>
                    <a:lnTo>
                      <a:pt x="335" y="1009"/>
                    </a:lnTo>
                    <a:lnTo>
                      <a:pt x="324" y="1055"/>
                    </a:lnTo>
                    <a:lnTo>
                      <a:pt x="312" y="1102"/>
                    </a:lnTo>
                    <a:lnTo>
                      <a:pt x="301" y="1147"/>
                    </a:lnTo>
                    <a:lnTo>
                      <a:pt x="301" y="1205"/>
                    </a:lnTo>
                    <a:lnTo>
                      <a:pt x="289" y="1252"/>
                    </a:lnTo>
                    <a:lnTo>
                      <a:pt x="301" y="1275"/>
                    </a:lnTo>
                    <a:lnTo>
                      <a:pt x="301" y="1299"/>
                    </a:lnTo>
                    <a:lnTo>
                      <a:pt x="312" y="1310"/>
                    </a:lnTo>
                    <a:lnTo>
                      <a:pt x="312" y="1322"/>
                    </a:lnTo>
                    <a:lnTo>
                      <a:pt x="324" y="1345"/>
                    </a:lnTo>
                    <a:lnTo>
                      <a:pt x="335" y="1357"/>
                    </a:lnTo>
                    <a:lnTo>
                      <a:pt x="348" y="1368"/>
                    </a:lnTo>
                    <a:lnTo>
                      <a:pt x="359" y="1380"/>
                    </a:lnTo>
                    <a:lnTo>
                      <a:pt x="382" y="1391"/>
                    </a:lnTo>
                    <a:lnTo>
                      <a:pt x="417" y="1403"/>
                    </a:lnTo>
                    <a:lnTo>
                      <a:pt x="440" y="1403"/>
                    </a:lnTo>
                    <a:lnTo>
                      <a:pt x="463" y="1415"/>
                    </a:lnTo>
                    <a:lnTo>
                      <a:pt x="485" y="1415"/>
                    </a:lnTo>
                    <a:lnTo>
                      <a:pt x="509" y="1415"/>
                    </a:lnTo>
                    <a:lnTo>
                      <a:pt x="532" y="1415"/>
                    </a:lnTo>
                    <a:lnTo>
                      <a:pt x="555" y="1415"/>
                    </a:lnTo>
                    <a:lnTo>
                      <a:pt x="718" y="1333"/>
                    </a:lnTo>
                    <a:lnTo>
                      <a:pt x="718" y="394"/>
                    </a:lnTo>
                    <a:lnTo>
                      <a:pt x="682" y="394"/>
                    </a:lnTo>
                    <a:lnTo>
                      <a:pt x="694" y="382"/>
                    </a:lnTo>
                    <a:lnTo>
                      <a:pt x="694" y="371"/>
                    </a:lnTo>
                    <a:lnTo>
                      <a:pt x="706" y="371"/>
                    </a:lnTo>
                    <a:lnTo>
                      <a:pt x="718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502320" y="4575240"/>
                <a:ext cx="336600" cy="326880"/>
              </a:xfrm>
              <a:custGeom>
                <a:avLst/>
                <a:gdLst/>
                <a:ahLst/>
                <a:rect l="l" t="t" r="r" b="b"/>
                <a:pathLst>
                  <a:path w="845" h="824">
                    <a:moveTo>
                      <a:pt x="242" y="824"/>
                    </a:moveTo>
                    <a:lnTo>
                      <a:pt x="221" y="812"/>
                    </a:lnTo>
                    <a:lnTo>
                      <a:pt x="208" y="801"/>
                    </a:lnTo>
                    <a:lnTo>
                      <a:pt x="185" y="789"/>
                    </a:lnTo>
                    <a:lnTo>
                      <a:pt x="163" y="789"/>
                    </a:lnTo>
                    <a:lnTo>
                      <a:pt x="139" y="789"/>
                    </a:lnTo>
                    <a:lnTo>
                      <a:pt x="115" y="789"/>
                    </a:lnTo>
                    <a:lnTo>
                      <a:pt x="103" y="801"/>
                    </a:lnTo>
                    <a:lnTo>
                      <a:pt x="93" y="801"/>
                    </a:lnTo>
                    <a:lnTo>
                      <a:pt x="69" y="801"/>
                    </a:lnTo>
                    <a:lnTo>
                      <a:pt x="58" y="801"/>
                    </a:lnTo>
                    <a:lnTo>
                      <a:pt x="35" y="801"/>
                    </a:lnTo>
                    <a:lnTo>
                      <a:pt x="24" y="801"/>
                    </a:lnTo>
                    <a:lnTo>
                      <a:pt x="11" y="789"/>
                    </a:lnTo>
                    <a:lnTo>
                      <a:pt x="0" y="789"/>
                    </a:lnTo>
                    <a:lnTo>
                      <a:pt x="0" y="777"/>
                    </a:lnTo>
                    <a:lnTo>
                      <a:pt x="0" y="766"/>
                    </a:lnTo>
                    <a:lnTo>
                      <a:pt x="0" y="754"/>
                    </a:lnTo>
                    <a:lnTo>
                      <a:pt x="11" y="743"/>
                    </a:lnTo>
                    <a:lnTo>
                      <a:pt x="24" y="743"/>
                    </a:lnTo>
                    <a:lnTo>
                      <a:pt x="24" y="732"/>
                    </a:lnTo>
                    <a:lnTo>
                      <a:pt x="35" y="719"/>
                    </a:lnTo>
                    <a:lnTo>
                      <a:pt x="35" y="708"/>
                    </a:lnTo>
                    <a:lnTo>
                      <a:pt x="81" y="685"/>
                    </a:lnTo>
                    <a:lnTo>
                      <a:pt x="115" y="661"/>
                    </a:lnTo>
                    <a:lnTo>
                      <a:pt x="151" y="626"/>
                    </a:lnTo>
                    <a:lnTo>
                      <a:pt x="197" y="603"/>
                    </a:lnTo>
                    <a:lnTo>
                      <a:pt x="242" y="579"/>
                    </a:lnTo>
                    <a:lnTo>
                      <a:pt x="279" y="558"/>
                    </a:lnTo>
                    <a:lnTo>
                      <a:pt x="324" y="522"/>
                    </a:lnTo>
                    <a:lnTo>
                      <a:pt x="359" y="487"/>
                    </a:lnTo>
                    <a:lnTo>
                      <a:pt x="404" y="464"/>
                    </a:lnTo>
                    <a:lnTo>
                      <a:pt x="428" y="452"/>
                    </a:lnTo>
                    <a:lnTo>
                      <a:pt x="462" y="442"/>
                    </a:lnTo>
                    <a:lnTo>
                      <a:pt x="486" y="442"/>
                    </a:lnTo>
                    <a:lnTo>
                      <a:pt x="520" y="430"/>
                    </a:lnTo>
                    <a:lnTo>
                      <a:pt x="544" y="406"/>
                    </a:lnTo>
                    <a:lnTo>
                      <a:pt x="556" y="394"/>
                    </a:lnTo>
                    <a:lnTo>
                      <a:pt x="578" y="372"/>
                    </a:lnTo>
                    <a:lnTo>
                      <a:pt x="590" y="348"/>
                    </a:lnTo>
                    <a:lnTo>
                      <a:pt x="602" y="325"/>
                    </a:lnTo>
                    <a:lnTo>
                      <a:pt x="614" y="302"/>
                    </a:lnTo>
                    <a:lnTo>
                      <a:pt x="637" y="290"/>
                    </a:lnTo>
                    <a:lnTo>
                      <a:pt x="648" y="279"/>
                    </a:lnTo>
                    <a:lnTo>
                      <a:pt x="672" y="267"/>
                    </a:lnTo>
                    <a:lnTo>
                      <a:pt x="683" y="256"/>
                    </a:lnTo>
                    <a:lnTo>
                      <a:pt x="706" y="244"/>
                    </a:lnTo>
                    <a:lnTo>
                      <a:pt x="730" y="232"/>
                    </a:lnTo>
                    <a:lnTo>
                      <a:pt x="741" y="232"/>
                    </a:lnTo>
                    <a:lnTo>
                      <a:pt x="799" y="209"/>
                    </a:lnTo>
                    <a:lnTo>
                      <a:pt x="833" y="163"/>
                    </a:lnTo>
                    <a:lnTo>
                      <a:pt x="845" y="34"/>
                    </a:lnTo>
                    <a:lnTo>
                      <a:pt x="833" y="24"/>
                    </a:lnTo>
                    <a:lnTo>
                      <a:pt x="833" y="12"/>
                    </a:lnTo>
                    <a:lnTo>
                      <a:pt x="821" y="12"/>
                    </a:lnTo>
                    <a:lnTo>
                      <a:pt x="811" y="0"/>
                    </a:lnTo>
                    <a:lnTo>
                      <a:pt x="799" y="0"/>
                    </a:lnTo>
                    <a:lnTo>
                      <a:pt x="775" y="0"/>
                    </a:lnTo>
                    <a:lnTo>
                      <a:pt x="764" y="12"/>
                    </a:lnTo>
                    <a:lnTo>
                      <a:pt x="753" y="12"/>
                    </a:lnTo>
                    <a:lnTo>
                      <a:pt x="741" y="24"/>
                    </a:lnTo>
                    <a:lnTo>
                      <a:pt x="730" y="34"/>
                    </a:lnTo>
                    <a:lnTo>
                      <a:pt x="717" y="47"/>
                    </a:lnTo>
                    <a:lnTo>
                      <a:pt x="706" y="58"/>
                    </a:lnTo>
                    <a:lnTo>
                      <a:pt x="659" y="82"/>
                    </a:lnTo>
                    <a:lnTo>
                      <a:pt x="510" y="116"/>
                    </a:lnTo>
                    <a:lnTo>
                      <a:pt x="486" y="140"/>
                    </a:lnTo>
                    <a:lnTo>
                      <a:pt x="475" y="163"/>
                    </a:lnTo>
                    <a:lnTo>
                      <a:pt x="452" y="185"/>
                    </a:lnTo>
                    <a:lnTo>
                      <a:pt x="428" y="209"/>
                    </a:lnTo>
                    <a:lnTo>
                      <a:pt x="404" y="221"/>
                    </a:lnTo>
                    <a:lnTo>
                      <a:pt x="382" y="232"/>
                    </a:lnTo>
                    <a:lnTo>
                      <a:pt x="347" y="244"/>
                    </a:lnTo>
                    <a:lnTo>
                      <a:pt x="324" y="256"/>
                    </a:lnTo>
                    <a:lnTo>
                      <a:pt x="300" y="256"/>
                    </a:lnTo>
                    <a:lnTo>
                      <a:pt x="289" y="256"/>
                    </a:lnTo>
                    <a:lnTo>
                      <a:pt x="279" y="256"/>
                    </a:lnTo>
                    <a:lnTo>
                      <a:pt x="266" y="256"/>
                    </a:lnTo>
                    <a:lnTo>
                      <a:pt x="242" y="267"/>
                    </a:lnTo>
                    <a:lnTo>
                      <a:pt x="231" y="267"/>
                    </a:lnTo>
                    <a:lnTo>
                      <a:pt x="221" y="267"/>
                    </a:lnTo>
                    <a:lnTo>
                      <a:pt x="208" y="279"/>
                    </a:lnTo>
                    <a:lnTo>
                      <a:pt x="197" y="2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296040" y="4506840"/>
                <a:ext cx="285840" cy="201600"/>
              </a:xfrm>
              <a:custGeom>
                <a:avLst/>
                <a:gdLst/>
                <a:ahLst/>
                <a:rect l="l" t="t" r="r" b="b"/>
                <a:pathLst>
                  <a:path w="718" h="509">
                    <a:moveTo>
                      <a:pt x="718" y="452"/>
                    </a:moveTo>
                    <a:lnTo>
                      <a:pt x="718" y="463"/>
                    </a:lnTo>
                    <a:lnTo>
                      <a:pt x="706" y="463"/>
                    </a:lnTo>
                    <a:lnTo>
                      <a:pt x="706" y="475"/>
                    </a:lnTo>
                    <a:lnTo>
                      <a:pt x="684" y="487"/>
                    </a:lnTo>
                    <a:lnTo>
                      <a:pt x="672" y="487"/>
                    </a:lnTo>
                    <a:lnTo>
                      <a:pt x="648" y="498"/>
                    </a:lnTo>
                    <a:lnTo>
                      <a:pt x="624" y="498"/>
                    </a:lnTo>
                    <a:lnTo>
                      <a:pt x="590" y="498"/>
                    </a:lnTo>
                    <a:lnTo>
                      <a:pt x="566" y="498"/>
                    </a:lnTo>
                    <a:lnTo>
                      <a:pt x="545" y="509"/>
                    </a:lnTo>
                    <a:lnTo>
                      <a:pt x="521" y="509"/>
                    </a:lnTo>
                    <a:lnTo>
                      <a:pt x="508" y="498"/>
                    </a:lnTo>
                    <a:lnTo>
                      <a:pt x="498" y="487"/>
                    </a:lnTo>
                    <a:lnTo>
                      <a:pt x="498" y="475"/>
                    </a:lnTo>
                    <a:lnTo>
                      <a:pt x="508" y="475"/>
                    </a:lnTo>
                    <a:lnTo>
                      <a:pt x="590" y="429"/>
                    </a:lnTo>
                    <a:lnTo>
                      <a:pt x="602" y="289"/>
                    </a:lnTo>
                    <a:lnTo>
                      <a:pt x="614" y="265"/>
                    </a:lnTo>
                    <a:lnTo>
                      <a:pt x="579" y="185"/>
                    </a:lnTo>
                    <a:lnTo>
                      <a:pt x="545" y="69"/>
                    </a:lnTo>
                    <a:lnTo>
                      <a:pt x="532" y="57"/>
                    </a:lnTo>
                    <a:lnTo>
                      <a:pt x="521" y="57"/>
                    </a:lnTo>
                    <a:lnTo>
                      <a:pt x="521" y="45"/>
                    </a:lnTo>
                    <a:lnTo>
                      <a:pt x="521" y="34"/>
                    </a:lnTo>
                    <a:lnTo>
                      <a:pt x="508" y="34"/>
                    </a:lnTo>
                    <a:lnTo>
                      <a:pt x="508" y="23"/>
                    </a:lnTo>
                    <a:lnTo>
                      <a:pt x="498" y="11"/>
                    </a:lnTo>
                    <a:lnTo>
                      <a:pt x="487" y="11"/>
                    </a:lnTo>
                    <a:lnTo>
                      <a:pt x="463" y="11"/>
                    </a:lnTo>
                    <a:lnTo>
                      <a:pt x="451" y="11"/>
                    </a:lnTo>
                    <a:lnTo>
                      <a:pt x="440" y="11"/>
                    </a:lnTo>
                    <a:lnTo>
                      <a:pt x="428" y="23"/>
                    </a:lnTo>
                    <a:lnTo>
                      <a:pt x="417" y="34"/>
                    </a:lnTo>
                    <a:lnTo>
                      <a:pt x="393" y="34"/>
                    </a:lnTo>
                    <a:lnTo>
                      <a:pt x="335" y="0"/>
                    </a:lnTo>
                    <a:lnTo>
                      <a:pt x="301" y="11"/>
                    </a:lnTo>
                    <a:lnTo>
                      <a:pt x="277" y="23"/>
                    </a:lnTo>
                    <a:lnTo>
                      <a:pt x="267" y="34"/>
                    </a:lnTo>
                    <a:lnTo>
                      <a:pt x="255" y="45"/>
                    </a:lnTo>
                    <a:lnTo>
                      <a:pt x="232" y="57"/>
                    </a:lnTo>
                    <a:lnTo>
                      <a:pt x="220" y="69"/>
                    </a:lnTo>
                    <a:lnTo>
                      <a:pt x="209" y="81"/>
                    </a:lnTo>
                    <a:lnTo>
                      <a:pt x="197" y="92"/>
                    </a:lnTo>
                    <a:lnTo>
                      <a:pt x="185" y="115"/>
                    </a:lnTo>
                    <a:lnTo>
                      <a:pt x="12" y="173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7"/>
                    </a:lnTo>
                    <a:lnTo>
                      <a:pt x="12" y="220"/>
                    </a:lnTo>
                    <a:lnTo>
                      <a:pt x="12" y="231"/>
                    </a:lnTo>
                    <a:lnTo>
                      <a:pt x="12" y="243"/>
                    </a:lnTo>
                    <a:lnTo>
                      <a:pt x="23" y="255"/>
                    </a:lnTo>
                    <a:lnTo>
                      <a:pt x="36" y="255"/>
                    </a:lnTo>
                    <a:lnTo>
                      <a:pt x="46" y="255"/>
                    </a:lnTo>
                    <a:lnTo>
                      <a:pt x="58" y="243"/>
                    </a:lnTo>
                    <a:lnTo>
                      <a:pt x="58" y="231"/>
                    </a:lnTo>
                    <a:lnTo>
                      <a:pt x="70" y="231"/>
                    </a:lnTo>
                    <a:lnTo>
                      <a:pt x="94" y="220"/>
                    </a:lnTo>
                    <a:lnTo>
                      <a:pt x="162" y="220"/>
                    </a:lnTo>
                    <a:lnTo>
                      <a:pt x="197" y="197"/>
                    </a:lnTo>
                    <a:lnTo>
                      <a:pt x="197" y="207"/>
                    </a:lnTo>
                    <a:lnTo>
                      <a:pt x="185" y="220"/>
                    </a:lnTo>
                    <a:lnTo>
                      <a:pt x="185" y="231"/>
                    </a:lnTo>
                    <a:lnTo>
                      <a:pt x="173" y="243"/>
                    </a:lnTo>
                    <a:lnTo>
                      <a:pt x="46" y="289"/>
                    </a:lnTo>
                    <a:lnTo>
                      <a:pt x="36" y="289"/>
                    </a:lnTo>
                    <a:lnTo>
                      <a:pt x="36" y="2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264360" y="461628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210" h="197">
                    <a:moveTo>
                      <a:pt x="118" y="0"/>
                    </a:moveTo>
                    <a:lnTo>
                      <a:pt x="105" y="0"/>
                    </a:lnTo>
                    <a:lnTo>
                      <a:pt x="94" y="0"/>
                    </a:lnTo>
                    <a:lnTo>
                      <a:pt x="82" y="0"/>
                    </a:lnTo>
                    <a:lnTo>
                      <a:pt x="70" y="0"/>
                    </a:lnTo>
                    <a:lnTo>
                      <a:pt x="58" y="11"/>
                    </a:lnTo>
                    <a:lnTo>
                      <a:pt x="48" y="11"/>
                    </a:lnTo>
                    <a:lnTo>
                      <a:pt x="36" y="0"/>
                    </a:lnTo>
                    <a:lnTo>
                      <a:pt x="36" y="11"/>
                    </a:lnTo>
                    <a:lnTo>
                      <a:pt x="24" y="11"/>
                    </a:lnTo>
                    <a:lnTo>
                      <a:pt x="24" y="23"/>
                    </a:lnTo>
                    <a:lnTo>
                      <a:pt x="13" y="35"/>
                    </a:lnTo>
                    <a:lnTo>
                      <a:pt x="13" y="45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0" y="80"/>
                    </a:lnTo>
                    <a:lnTo>
                      <a:pt x="13" y="80"/>
                    </a:lnTo>
                    <a:lnTo>
                      <a:pt x="105" y="80"/>
                    </a:lnTo>
                    <a:lnTo>
                      <a:pt x="105" y="93"/>
                    </a:lnTo>
                    <a:lnTo>
                      <a:pt x="105" y="104"/>
                    </a:lnTo>
                    <a:lnTo>
                      <a:pt x="94" y="104"/>
                    </a:lnTo>
                    <a:lnTo>
                      <a:pt x="94" y="116"/>
                    </a:lnTo>
                    <a:lnTo>
                      <a:pt x="82" y="116"/>
                    </a:lnTo>
                    <a:lnTo>
                      <a:pt x="70" y="127"/>
                    </a:lnTo>
                    <a:lnTo>
                      <a:pt x="70" y="139"/>
                    </a:lnTo>
                    <a:lnTo>
                      <a:pt x="58" y="139"/>
                    </a:lnTo>
                    <a:lnTo>
                      <a:pt x="58" y="151"/>
                    </a:lnTo>
                    <a:lnTo>
                      <a:pt x="58" y="162"/>
                    </a:lnTo>
                    <a:lnTo>
                      <a:pt x="58" y="174"/>
                    </a:lnTo>
                    <a:lnTo>
                      <a:pt x="70" y="174"/>
                    </a:lnTo>
                    <a:lnTo>
                      <a:pt x="82" y="174"/>
                    </a:lnTo>
                    <a:lnTo>
                      <a:pt x="94" y="174"/>
                    </a:lnTo>
                    <a:lnTo>
                      <a:pt x="94" y="185"/>
                    </a:lnTo>
                    <a:lnTo>
                      <a:pt x="105" y="197"/>
                    </a:lnTo>
                    <a:lnTo>
                      <a:pt x="118" y="197"/>
                    </a:lnTo>
                    <a:lnTo>
                      <a:pt x="118" y="185"/>
                    </a:lnTo>
                    <a:lnTo>
                      <a:pt x="128" y="185"/>
                    </a:lnTo>
                    <a:lnTo>
                      <a:pt x="140" y="174"/>
                    </a:lnTo>
                    <a:lnTo>
                      <a:pt x="140" y="162"/>
                    </a:lnTo>
                    <a:lnTo>
                      <a:pt x="140" y="151"/>
                    </a:lnTo>
                    <a:lnTo>
                      <a:pt x="152" y="139"/>
                    </a:lnTo>
                    <a:lnTo>
                      <a:pt x="152" y="127"/>
                    </a:lnTo>
                    <a:lnTo>
                      <a:pt x="163" y="127"/>
                    </a:lnTo>
                    <a:lnTo>
                      <a:pt x="163" y="116"/>
                    </a:lnTo>
                    <a:lnTo>
                      <a:pt x="176" y="116"/>
                    </a:lnTo>
                    <a:lnTo>
                      <a:pt x="176" y="104"/>
                    </a:lnTo>
                    <a:lnTo>
                      <a:pt x="186" y="104"/>
                    </a:lnTo>
                    <a:lnTo>
                      <a:pt x="197" y="104"/>
                    </a:lnTo>
                    <a:lnTo>
                      <a:pt x="210" y="116"/>
                    </a:lnTo>
                    <a:lnTo>
                      <a:pt x="210" y="127"/>
                    </a:lnTo>
                    <a:lnTo>
                      <a:pt x="197" y="13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122880" y="4672080"/>
                <a:ext cx="228600" cy="189000"/>
              </a:xfrm>
              <a:custGeom>
                <a:avLst/>
                <a:gdLst/>
                <a:ahLst/>
                <a:rect l="l" t="t" r="r" b="b"/>
                <a:pathLst>
                  <a:path w="578" h="475">
                    <a:moveTo>
                      <a:pt x="554" y="0"/>
                    </a:moveTo>
                    <a:lnTo>
                      <a:pt x="554" y="12"/>
                    </a:lnTo>
                    <a:lnTo>
                      <a:pt x="554" y="23"/>
                    </a:lnTo>
                    <a:lnTo>
                      <a:pt x="554" y="35"/>
                    </a:lnTo>
                    <a:lnTo>
                      <a:pt x="567" y="35"/>
                    </a:lnTo>
                    <a:lnTo>
                      <a:pt x="567" y="46"/>
                    </a:lnTo>
                    <a:lnTo>
                      <a:pt x="578" y="46"/>
                    </a:lnTo>
                    <a:lnTo>
                      <a:pt x="578" y="58"/>
                    </a:lnTo>
                    <a:lnTo>
                      <a:pt x="427" y="128"/>
                    </a:lnTo>
                    <a:lnTo>
                      <a:pt x="415" y="139"/>
                    </a:lnTo>
                    <a:lnTo>
                      <a:pt x="393" y="162"/>
                    </a:lnTo>
                    <a:lnTo>
                      <a:pt x="381" y="186"/>
                    </a:lnTo>
                    <a:lnTo>
                      <a:pt x="357" y="208"/>
                    </a:lnTo>
                    <a:lnTo>
                      <a:pt x="347" y="232"/>
                    </a:lnTo>
                    <a:lnTo>
                      <a:pt x="323" y="243"/>
                    </a:lnTo>
                    <a:lnTo>
                      <a:pt x="312" y="266"/>
                    </a:lnTo>
                    <a:lnTo>
                      <a:pt x="289" y="278"/>
                    </a:lnTo>
                    <a:lnTo>
                      <a:pt x="278" y="278"/>
                    </a:lnTo>
                    <a:lnTo>
                      <a:pt x="254" y="278"/>
                    </a:lnTo>
                    <a:lnTo>
                      <a:pt x="242" y="278"/>
                    </a:lnTo>
                    <a:lnTo>
                      <a:pt x="231" y="278"/>
                    </a:lnTo>
                    <a:lnTo>
                      <a:pt x="219" y="278"/>
                    </a:lnTo>
                    <a:lnTo>
                      <a:pt x="208" y="278"/>
                    </a:lnTo>
                    <a:lnTo>
                      <a:pt x="196" y="290"/>
                    </a:lnTo>
                    <a:lnTo>
                      <a:pt x="184" y="301"/>
                    </a:lnTo>
                    <a:lnTo>
                      <a:pt x="173" y="314"/>
                    </a:lnTo>
                    <a:lnTo>
                      <a:pt x="161" y="314"/>
                    </a:lnTo>
                    <a:lnTo>
                      <a:pt x="150" y="324"/>
                    </a:lnTo>
                    <a:lnTo>
                      <a:pt x="138" y="335"/>
                    </a:lnTo>
                    <a:lnTo>
                      <a:pt x="126" y="348"/>
                    </a:lnTo>
                    <a:lnTo>
                      <a:pt x="126" y="359"/>
                    </a:lnTo>
                    <a:lnTo>
                      <a:pt x="116" y="372"/>
                    </a:lnTo>
                    <a:lnTo>
                      <a:pt x="116" y="382"/>
                    </a:lnTo>
                    <a:lnTo>
                      <a:pt x="0" y="47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089760" y="479736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127" h="80">
                    <a:moveTo>
                      <a:pt x="115" y="21"/>
                    </a:moveTo>
                    <a:lnTo>
                      <a:pt x="115" y="10"/>
                    </a:lnTo>
                    <a:lnTo>
                      <a:pt x="115" y="0"/>
                    </a:lnTo>
                    <a:lnTo>
                      <a:pt x="127" y="0"/>
                    </a:lnTo>
                    <a:lnTo>
                      <a:pt x="103" y="10"/>
                    </a:lnTo>
                    <a:lnTo>
                      <a:pt x="91" y="10"/>
                    </a:lnTo>
                    <a:lnTo>
                      <a:pt x="81" y="21"/>
                    </a:lnTo>
                    <a:lnTo>
                      <a:pt x="57" y="34"/>
                    </a:lnTo>
                    <a:lnTo>
                      <a:pt x="45" y="45"/>
                    </a:lnTo>
                    <a:lnTo>
                      <a:pt x="23" y="58"/>
                    </a:lnTo>
                    <a:lnTo>
                      <a:pt x="11" y="68"/>
                    </a:lnTo>
                    <a:lnTo>
                      <a:pt x="0" y="80"/>
                    </a:lnTo>
                    <a:lnTo>
                      <a:pt x="115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076800" y="4800600"/>
                <a:ext cx="59040" cy="38160"/>
              </a:xfrm>
              <a:custGeom>
                <a:avLst/>
                <a:gdLst/>
                <a:ahLst/>
                <a:rect l="l" t="t" r="r" b="b"/>
                <a:pathLst>
                  <a:path w="149" h="93">
                    <a:moveTo>
                      <a:pt x="0" y="93"/>
                    </a:moveTo>
                    <a:lnTo>
                      <a:pt x="10" y="82"/>
                    </a:lnTo>
                    <a:lnTo>
                      <a:pt x="21" y="70"/>
                    </a:lnTo>
                    <a:lnTo>
                      <a:pt x="34" y="58"/>
                    </a:lnTo>
                    <a:lnTo>
                      <a:pt x="45" y="58"/>
                    </a:lnTo>
                    <a:lnTo>
                      <a:pt x="57" y="48"/>
                    </a:lnTo>
                    <a:lnTo>
                      <a:pt x="68" y="35"/>
                    </a:lnTo>
                    <a:lnTo>
                      <a:pt x="79" y="35"/>
                    </a:lnTo>
                    <a:lnTo>
                      <a:pt x="103" y="24"/>
                    </a:lnTo>
                    <a:lnTo>
                      <a:pt x="149" y="0"/>
                    </a:lnTo>
                    <a:lnTo>
                      <a:pt x="149" y="11"/>
                    </a:lnTo>
                    <a:lnTo>
                      <a:pt x="149" y="24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076800" y="4805280"/>
                <a:ext cx="59040" cy="3816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0" y="95"/>
                    </a:moveTo>
                    <a:lnTo>
                      <a:pt x="0" y="82"/>
                    </a:lnTo>
                    <a:lnTo>
                      <a:pt x="0" y="71"/>
                    </a:lnTo>
                    <a:lnTo>
                      <a:pt x="10" y="71"/>
                    </a:lnTo>
                    <a:lnTo>
                      <a:pt x="21" y="59"/>
                    </a:lnTo>
                    <a:lnTo>
                      <a:pt x="34" y="59"/>
                    </a:lnTo>
                    <a:lnTo>
                      <a:pt x="149" y="0"/>
                    </a:lnTo>
                    <a:lnTo>
                      <a:pt x="149" y="13"/>
                    </a:lnTo>
                    <a:lnTo>
                      <a:pt x="149" y="24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076800" y="4809960"/>
                <a:ext cx="59040" cy="36720"/>
              </a:xfrm>
              <a:custGeom>
                <a:avLst/>
                <a:gdLst/>
                <a:ahLst/>
                <a:rect l="l" t="t" r="r" b="b"/>
                <a:pathLst>
                  <a:path w="149" h="93">
                    <a:moveTo>
                      <a:pt x="0" y="93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149" y="0"/>
                    </a:lnTo>
                    <a:lnTo>
                      <a:pt x="149" y="1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076800" y="4815000"/>
                <a:ext cx="63720" cy="36360"/>
              </a:xfrm>
              <a:custGeom>
                <a:avLst/>
                <a:gdLst/>
                <a:ahLst/>
                <a:rect l="l" t="t" r="r" b="b"/>
                <a:pathLst>
                  <a:path w="161" h="93">
                    <a:moveTo>
                      <a:pt x="0" y="93"/>
                    </a:moveTo>
                    <a:lnTo>
                      <a:pt x="0" y="82"/>
                    </a:lnTo>
                    <a:lnTo>
                      <a:pt x="0" y="71"/>
                    </a:lnTo>
                    <a:lnTo>
                      <a:pt x="149" y="0"/>
                    </a:lnTo>
                    <a:lnTo>
                      <a:pt x="149" y="13"/>
                    </a:lnTo>
                    <a:lnTo>
                      <a:pt x="161" y="1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076800" y="4815000"/>
                <a:ext cx="68400" cy="41040"/>
              </a:xfrm>
              <a:custGeom>
                <a:avLst/>
                <a:gdLst/>
                <a:ahLst/>
                <a:rect l="l" t="t" r="r" b="b"/>
                <a:pathLst>
                  <a:path w="173" h="105">
                    <a:moveTo>
                      <a:pt x="0" y="105"/>
                    </a:moveTo>
                    <a:lnTo>
                      <a:pt x="0" y="93"/>
                    </a:lnTo>
                    <a:lnTo>
                      <a:pt x="0" y="82"/>
                    </a:lnTo>
                    <a:lnTo>
                      <a:pt x="149" y="0"/>
                    </a:lnTo>
                    <a:lnTo>
                      <a:pt x="161" y="13"/>
                    </a:lnTo>
                    <a:lnTo>
                      <a:pt x="173" y="13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076800" y="4819680"/>
                <a:ext cx="81000" cy="414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0" y="103"/>
                    </a:moveTo>
                    <a:lnTo>
                      <a:pt x="0" y="92"/>
                    </a:lnTo>
                    <a:lnTo>
                      <a:pt x="0" y="80"/>
                    </a:lnTo>
                    <a:lnTo>
                      <a:pt x="161" y="0"/>
                    </a:lnTo>
                    <a:lnTo>
                      <a:pt x="173" y="0"/>
                    </a:lnTo>
                    <a:lnTo>
                      <a:pt x="183" y="0"/>
                    </a:lnTo>
                    <a:lnTo>
                      <a:pt x="196" y="0"/>
                    </a:lnTo>
                    <a:lnTo>
                      <a:pt x="207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076800" y="4819680"/>
                <a:ext cx="86040" cy="46080"/>
              </a:xfrm>
              <a:custGeom>
                <a:avLst/>
                <a:gdLst/>
                <a:ahLst/>
                <a:rect l="l" t="t" r="r" b="b"/>
                <a:pathLst>
                  <a:path w="218" h="116">
                    <a:moveTo>
                      <a:pt x="0" y="116"/>
                    </a:moveTo>
                    <a:lnTo>
                      <a:pt x="0" y="103"/>
                    </a:lnTo>
                    <a:lnTo>
                      <a:pt x="0" y="92"/>
                    </a:lnTo>
                    <a:lnTo>
                      <a:pt x="173" y="0"/>
                    </a:lnTo>
                    <a:lnTo>
                      <a:pt x="183" y="0"/>
                    </a:lnTo>
                    <a:lnTo>
                      <a:pt x="196" y="0"/>
                    </a:lnTo>
                    <a:lnTo>
                      <a:pt x="207" y="0"/>
                    </a:lnTo>
                    <a:lnTo>
                      <a:pt x="218" y="0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076800" y="4819680"/>
                <a:ext cx="95400" cy="50760"/>
              </a:xfrm>
              <a:custGeom>
                <a:avLst/>
                <a:gdLst/>
                <a:ahLst/>
                <a:rect l="l" t="t" r="r" b="b"/>
                <a:pathLst>
                  <a:path w="241" h="127">
                    <a:moveTo>
                      <a:pt x="0" y="127"/>
                    </a:moveTo>
                    <a:lnTo>
                      <a:pt x="0" y="116"/>
                    </a:lnTo>
                    <a:lnTo>
                      <a:pt x="0" y="103"/>
                    </a:lnTo>
                    <a:lnTo>
                      <a:pt x="207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1" y="0"/>
                    </a:lnTo>
                    <a:lnTo>
                      <a:pt x="241" y="1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076800" y="4819680"/>
                <a:ext cx="95400" cy="50760"/>
              </a:xfrm>
              <a:custGeom>
                <a:avLst/>
                <a:gdLst/>
                <a:ahLst/>
                <a:rect l="l" t="t" r="r" b="b"/>
                <a:pathLst>
                  <a:path w="241" h="127">
                    <a:moveTo>
                      <a:pt x="0" y="127"/>
                    </a:moveTo>
                    <a:lnTo>
                      <a:pt x="0" y="116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1" y="0"/>
                    </a:lnTo>
                    <a:lnTo>
                      <a:pt x="241" y="10"/>
                    </a:lnTo>
                    <a:lnTo>
                      <a:pt x="231" y="10"/>
                    </a:lnTo>
                    <a:lnTo>
                      <a:pt x="231" y="22"/>
                    </a:lnTo>
                    <a:lnTo>
                      <a:pt x="218" y="2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076800" y="4824360"/>
                <a:ext cx="95400" cy="50760"/>
              </a:xfrm>
              <a:custGeom>
                <a:avLst/>
                <a:gdLst/>
                <a:ahLst/>
                <a:rect l="l" t="t" r="r" b="b"/>
                <a:pathLst>
                  <a:path w="241" h="128">
                    <a:moveTo>
                      <a:pt x="0" y="128"/>
                    </a:moveTo>
                    <a:lnTo>
                      <a:pt x="0" y="117"/>
                    </a:lnTo>
                    <a:lnTo>
                      <a:pt x="241" y="0"/>
                    </a:lnTo>
                    <a:lnTo>
                      <a:pt x="231" y="0"/>
                    </a:lnTo>
                    <a:lnTo>
                      <a:pt x="231" y="12"/>
                    </a:lnTo>
                    <a:lnTo>
                      <a:pt x="218" y="12"/>
                    </a:lnTo>
                    <a:lnTo>
                      <a:pt x="218" y="24"/>
                    </a:lnTo>
                    <a:lnTo>
                      <a:pt x="207" y="24"/>
                    </a:lnTo>
                    <a:lnTo>
                      <a:pt x="207" y="35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076800" y="4829040"/>
                <a:ext cx="86040" cy="50760"/>
              </a:xfrm>
              <a:custGeom>
                <a:avLst/>
                <a:gdLst/>
                <a:ahLst/>
                <a:rect l="l" t="t" r="r" b="b"/>
                <a:pathLst>
                  <a:path w="218" h="128">
                    <a:moveTo>
                      <a:pt x="10" y="128"/>
                    </a:moveTo>
                    <a:lnTo>
                      <a:pt x="0" y="128"/>
                    </a:lnTo>
                    <a:lnTo>
                      <a:pt x="0" y="116"/>
                    </a:lnTo>
                    <a:lnTo>
                      <a:pt x="0" y="105"/>
                    </a:lnTo>
                    <a:lnTo>
                      <a:pt x="218" y="0"/>
                    </a:lnTo>
                    <a:lnTo>
                      <a:pt x="218" y="12"/>
                    </a:lnTo>
                    <a:lnTo>
                      <a:pt x="207" y="12"/>
                    </a:lnTo>
                    <a:lnTo>
                      <a:pt x="207" y="23"/>
                    </a:lnTo>
                    <a:lnTo>
                      <a:pt x="196" y="23"/>
                    </a:lnTo>
                    <a:lnTo>
                      <a:pt x="196" y="36"/>
                    </a:lnTo>
                    <a:lnTo>
                      <a:pt x="183" y="47"/>
                    </a:lnTo>
                    <a:lnTo>
                      <a:pt x="10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076800" y="4838760"/>
                <a:ext cx="81000" cy="46080"/>
              </a:xfrm>
              <a:custGeom>
                <a:avLst/>
                <a:gdLst/>
                <a:ahLst/>
                <a:rect l="l" t="t" r="r" b="b"/>
                <a:pathLst>
                  <a:path w="207" h="116">
                    <a:moveTo>
                      <a:pt x="10" y="116"/>
                    </a:moveTo>
                    <a:lnTo>
                      <a:pt x="10" y="105"/>
                    </a:lnTo>
                    <a:lnTo>
                      <a:pt x="0" y="105"/>
                    </a:lnTo>
                    <a:lnTo>
                      <a:pt x="0" y="93"/>
                    </a:lnTo>
                    <a:lnTo>
                      <a:pt x="207" y="0"/>
                    </a:lnTo>
                    <a:lnTo>
                      <a:pt x="196" y="0"/>
                    </a:lnTo>
                    <a:lnTo>
                      <a:pt x="196" y="13"/>
                    </a:lnTo>
                    <a:lnTo>
                      <a:pt x="183" y="24"/>
                    </a:lnTo>
                    <a:lnTo>
                      <a:pt x="183" y="35"/>
                    </a:lnTo>
                    <a:lnTo>
                      <a:pt x="173" y="35"/>
                    </a:lnTo>
                    <a:lnTo>
                      <a:pt x="10" y="1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80040" y="484668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173" h="104">
                    <a:moveTo>
                      <a:pt x="0" y="104"/>
                    </a:moveTo>
                    <a:lnTo>
                      <a:pt x="0" y="92"/>
                    </a:lnTo>
                    <a:lnTo>
                      <a:pt x="0" y="81"/>
                    </a:lnTo>
                    <a:lnTo>
                      <a:pt x="173" y="0"/>
                    </a:lnTo>
                    <a:lnTo>
                      <a:pt x="173" y="11"/>
                    </a:lnTo>
                    <a:lnTo>
                      <a:pt x="163" y="11"/>
                    </a:lnTo>
                    <a:lnTo>
                      <a:pt x="163" y="23"/>
                    </a:lnTo>
                    <a:lnTo>
                      <a:pt x="151" y="23"/>
                    </a:lnTo>
                    <a:lnTo>
                      <a:pt x="151" y="3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080040" y="4851360"/>
                <a:ext cx="65160" cy="38160"/>
              </a:xfrm>
              <a:custGeom>
                <a:avLst/>
                <a:gdLst/>
                <a:ahLst/>
                <a:rect l="l" t="t" r="r" b="b"/>
                <a:pathLst>
                  <a:path w="163" h="93">
                    <a:moveTo>
                      <a:pt x="11" y="93"/>
                    </a:moveTo>
                    <a:lnTo>
                      <a:pt x="0" y="93"/>
                    </a:lnTo>
                    <a:lnTo>
                      <a:pt x="0" y="81"/>
                    </a:lnTo>
                    <a:lnTo>
                      <a:pt x="163" y="0"/>
                    </a:lnTo>
                    <a:lnTo>
                      <a:pt x="163" y="12"/>
                    </a:lnTo>
                    <a:lnTo>
                      <a:pt x="151" y="12"/>
                    </a:lnTo>
                    <a:lnTo>
                      <a:pt x="151" y="23"/>
                    </a:lnTo>
                    <a:lnTo>
                      <a:pt x="139" y="36"/>
                    </a:lnTo>
                    <a:lnTo>
                      <a:pt x="11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080040" y="4861080"/>
                <a:ext cx="60480" cy="31680"/>
              </a:xfrm>
              <a:custGeom>
                <a:avLst/>
                <a:gdLst/>
                <a:ahLst/>
                <a:rect l="l" t="t" r="r" b="b"/>
                <a:pathLst>
                  <a:path w="151" h="82">
                    <a:moveTo>
                      <a:pt x="24" y="82"/>
                    </a:moveTo>
                    <a:lnTo>
                      <a:pt x="11" y="82"/>
                    </a:lnTo>
                    <a:lnTo>
                      <a:pt x="11" y="70"/>
                    </a:lnTo>
                    <a:lnTo>
                      <a:pt x="0" y="70"/>
                    </a:lnTo>
                    <a:lnTo>
                      <a:pt x="151" y="0"/>
                    </a:lnTo>
                    <a:lnTo>
                      <a:pt x="139" y="13"/>
                    </a:lnTo>
                    <a:lnTo>
                      <a:pt x="139" y="24"/>
                    </a:lnTo>
                    <a:lnTo>
                      <a:pt x="127" y="24"/>
                    </a:lnTo>
                    <a:lnTo>
                      <a:pt x="24" y="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084720" y="4865760"/>
                <a:ext cx="51120" cy="31680"/>
              </a:xfrm>
              <a:custGeom>
                <a:avLst/>
                <a:gdLst/>
                <a:ahLst/>
                <a:rect l="l" t="t" r="r" b="b"/>
                <a:pathLst>
                  <a:path w="128" h="80">
                    <a:moveTo>
                      <a:pt x="13" y="80"/>
                    </a:moveTo>
                    <a:lnTo>
                      <a:pt x="13" y="69"/>
                    </a:lnTo>
                    <a:lnTo>
                      <a:pt x="0" y="69"/>
                    </a:lnTo>
                    <a:lnTo>
                      <a:pt x="0" y="57"/>
                    </a:lnTo>
                    <a:lnTo>
                      <a:pt x="128" y="0"/>
                    </a:lnTo>
                    <a:lnTo>
                      <a:pt x="128" y="11"/>
                    </a:lnTo>
                    <a:lnTo>
                      <a:pt x="116" y="11"/>
                    </a:lnTo>
                    <a:lnTo>
                      <a:pt x="116" y="22"/>
                    </a:lnTo>
                    <a:lnTo>
                      <a:pt x="104" y="34"/>
                    </a:lnTo>
                    <a:lnTo>
                      <a:pt x="13" y="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089760" y="487044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103" h="69">
                    <a:moveTo>
                      <a:pt x="11" y="69"/>
                    </a:moveTo>
                    <a:lnTo>
                      <a:pt x="0" y="69"/>
                    </a:lnTo>
                    <a:lnTo>
                      <a:pt x="0" y="58"/>
                    </a:lnTo>
                    <a:lnTo>
                      <a:pt x="103" y="0"/>
                    </a:lnTo>
                    <a:lnTo>
                      <a:pt x="103" y="11"/>
                    </a:lnTo>
                    <a:lnTo>
                      <a:pt x="91" y="11"/>
                    </a:lnTo>
                    <a:lnTo>
                      <a:pt x="91" y="23"/>
                    </a:lnTo>
                    <a:lnTo>
                      <a:pt x="81" y="34"/>
                    </a:lnTo>
                    <a:lnTo>
                      <a:pt x="11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089760" y="487980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91" h="58">
                    <a:moveTo>
                      <a:pt x="23" y="58"/>
                    </a:moveTo>
                    <a:lnTo>
                      <a:pt x="23" y="46"/>
                    </a:lnTo>
                    <a:lnTo>
                      <a:pt x="11" y="46"/>
                    </a:lnTo>
                    <a:lnTo>
                      <a:pt x="0" y="46"/>
                    </a:lnTo>
                    <a:lnTo>
                      <a:pt x="91" y="0"/>
                    </a:lnTo>
                    <a:lnTo>
                      <a:pt x="81" y="11"/>
                    </a:lnTo>
                    <a:lnTo>
                      <a:pt x="81" y="23"/>
                    </a:lnTo>
                    <a:lnTo>
                      <a:pt x="69" y="23"/>
                    </a:lnTo>
                    <a:lnTo>
                      <a:pt x="69" y="35"/>
                    </a:lnTo>
                    <a:lnTo>
                      <a:pt x="57" y="35"/>
                    </a:lnTo>
                    <a:lnTo>
                      <a:pt x="23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456160" y="450216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0" y="0"/>
                    </a:moveTo>
                    <a:lnTo>
                      <a:pt x="11" y="0"/>
                    </a:lnTo>
                    <a:lnTo>
                      <a:pt x="24" y="0"/>
                    </a:lnTo>
                    <a:lnTo>
                      <a:pt x="24" y="13"/>
                    </a:lnTo>
                    <a:lnTo>
                      <a:pt x="34" y="13"/>
                    </a:lnTo>
                    <a:lnTo>
                      <a:pt x="46" y="13"/>
                    </a:lnTo>
                    <a:lnTo>
                      <a:pt x="58" y="24"/>
                    </a:lnTo>
                    <a:lnTo>
                      <a:pt x="58" y="47"/>
                    </a:lnTo>
                    <a:lnTo>
                      <a:pt x="69" y="58"/>
                    </a:lnTo>
                    <a:lnTo>
                      <a:pt x="82" y="82"/>
                    </a:lnTo>
                    <a:lnTo>
                      <a:pt x="92" y="94"/>
                    </a:lnTo>
                    <a:lnTo>
                      <a:pt x="104" y="116"/>
                    </a:lnTo>
                    <a:lnTo>
                      <a:pt x="116" y="128"/>
                    </a:lnTo>
                    <a:lnTo>
                      <a:pt x="116" y="152"/>
                    </a:lnTo>
                    <a:lnTo>
                      <a:pt x="104" y="163"/>
                    </a:lnTo>
                    <a:lnTo>
                      <a:pt x="92" y="174"/>
                    </a:lnTo>
                    <a:lnTo>
                      <a:pt x="82" y="1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451480" y="4502160"/>
                <a:ext cx="36360" cy="73080"/>
              </a:xfrm>
              <a:custGeom>
                <a:avLst/>
                <a:gdLst/>
                <a:ahLst/>
                <a:rect l="l" t="t" r="r" b="b"/>
                <a:pathLst>
                  <a:path w="93" h="186">
                    <a:moveTo>
                      <a:pt x="0" y="0"/>
                    </a:moveTo>
                    <a:lnTo>
                      <a:pt x="11" y="0"/>
                    </a:lnTo>
                    <a:lnTo>
                      <a:pt x="93" y="174"/>
                    </a:lnTo>
                    <a:lnTo>
                      <a:pt x="93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446800" y="4502160"/>
                <a:ext cx="41040" cy="73080"/>
              </a:xfrm>
              <a:custGeom>
                <a:avLst/>
                <a:gdLst/>
                <a:ahLst/>
                <a:rect l="l" t="t" r="r" b="b"/>
                <a:pathLst>
                  <a:path w="106" h="186">
                    <a:moveTo>
                      <a:pt x="0" y="0"/>
                    </a:moveTo>
                    <a:lnTo>
                      <a:pt x="13" y="0"/>
                    </a:lnTo>
                    <a:lnTo>
                      <a:pt x="106" y="174"/>
                    </a:lnTo>
                    <a:lnTo>
                      <a:pt x="106" y="186"/>
                    </a:lnTo>
                    <a:lnTo>
                      <a:pt x="93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442120" y="4502160"/>
                <a:ext cx="45720" cy="73080"/>
              </a:xfrm>
              <a:custGeom>
                <a:avLst/>
                <a:gdLst/>
                <a:ahLst/>
                <a:rect l="l" t="t" r="r" b="b"/>
                <a:pathLst>
                  <a:path w="116" h="186">
                    <a:moveTo>
                      <a:pt x="0" y="0"/>
                    </a:moveTo>
                    <a:lnTo>
                      <a:pt x="10" y="0"/>
                    </a:lnTo>
                    <a:lnTo>
                      <a:pt x="23" y="0"/>
                    </a:lnTo>
                    <a:lnTo>
                      <a:pt x="116" y="186"/>
                    </a:lnTo>
                    <a:lnTo>
                      <a:pt x="103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442120" y="4502160"/>
                <a:ext cx="41040" cy="73080"/>
              </a:xfrm>
              <a:custGeom>
                <a:avLst/>
                <a:gdLst/>
                <a:ahLst/>
                <a:rect l="l" t="t" r="r" b="b"/>
                <a:pathLst>
                  <a:path w="103" h="186">
                    <a:moveTo>
                      <a:pt x="0" y="0"/>
                    </a:moveTo>
                    <a:lnTo>
                      <a:pt x="10" y="0"/>
                    </a:lnTo>
                    <a:lnTo>
                      <a:pt x="103" y="186"/>
                    </a:lnTo>
                    <a:lnTo>
                      <a:pt x="92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37080" y="45021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115" h="186">
                    <a:moveTo>
                      <a:pt x="0" y="0"/>
                    </a:moveTo>
                    <a:lnTo>
                      <a:pt x="12" y="0"/>
                    </a:lnTo>
                    <a:lnTo>
                      <a:pt x="115" y="186"/>
                    </a:lnTo>
                    <a:lnTo>
                      <a:pt x="104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37080" y="4502160"/>
                <a:ext cx="41400" cy="77760"/>
              </a:xfrm>
              <a:custGeom>
                <a:avLst/>
                <a:gdLst/>
                <a:ahLst/>
                <a:rect l="l" t="t" r="r" b="b"/>
                <a:pathLst>
                  <a:path w="104" h="198">
                    <a:moveTo>
                      <a:pt x="0" y="0"/>
                    </a:moveTo>
                    <a:lnTo>
                      <a:pt x="12" y="0"/>
                    </a:lnTo>
                    <a:lnTo>
                      <a:pt x="104" y="186"/>
                    </a:lnTo>
                    <a:lnTo>
                      <a:pt x="104" y="198"/>
                    </a:lnTo>
                    <a:lnTo>
                      <a:pt x="92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432400" y="4502160"/>
                <a:ext cx="46080" cy="7776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0" y="0"/>
                    </a:moveTo>
                    <a:lnTo>
                      <a:pt x="12" y="0"/>
                    </a:lnTo>
                    <a:lnTo>
                      <a:pt x="116" y="186"/>
                    </a:lnTo>
                    <a:lnTo>
                      <a:pt x="116" y="198"/>
                    </a:lnTo>
                    <a:lnTo>
                      <a:pt x="104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432400" y="4502160"/>
                <a:ext cx="41400" cy="77760"/>
              </a:xfrm>
              <a:custGeom>
                <a:avLst/>
                <a:gdLst/>
                <a:ahLst/>
                <a:rect l="l" t="t" r="r" b="b"/>
                <a:pathLst>
                  <a:path w="104" h="198">
                    <a:moveTo>
                      <a:pt x="0" y="0"/>
                    </a:moveTo>
                    <a:lnTo>
                      <a:pt x="12" y="0"/>
                    </a:lnTo>
                    <a:lnTo>
                      <a:pt x="104" y="198"/>
                    </a:lnTo>
                    <a:lnTo>
                      <a:pt x="92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427720" y="4502160"/>
                <a:ext cx="46080" cy="77760"/>
              </a:xfrm>
              <a:custGeom>
                <a:avLst/>
                <a:gdLst/>
                <a:ahLst/>
                <a:rect l="l" t="t" r="r" b="b"/>
                <a:pathLst>
                  <a:path w="115" h="198">
                    <a:moveTo>
                      <a:pt x="0" y="0"/>
                    </a:moveTo>
                    <a:lnTo>
                      <a:pt x="11" y="0"/>
                    </a:lnTo>
                    <a:lnTo>
                      <a:pt x="115" y="198"/>
                    </a:lnTo>
                    <a:lnTo>
                      <a:pt x="103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427720" y="4502160"/>
                <a:ext cx="41040" cy="82440"/>
              </a:xfrm>
              <a:custGeom>
                <a:avLst/>
                <a:gdLst/>
                <a:ahLst/>
                <a:rect l="l" t="t" r="r" b="b"/>
                <a:pathLst>
                  <a:path w="103" h="210">
                    <a:moveTo>
                      <a:pt x="0" y="0"/>
                    </a:moveTo>
                    <a:lnTo>
                      <a:pt x="11" y="0"/>
                    </a:lnTo>
                    <a:lnTo>
                      <a:pt x="103" y="198"/>
                    </a:lnTo>
                    <a:lnTo>
                      <a:pt x="103" y="2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423040" y="4502160"/>
                <a:ext cx="45720" cy="82440"/>
              </a:xfrm>
              <a:custGeom>
                <a:avLst/>
                <a:gdLst/>
                <a:ahLst/>
                <a:rect l="l" t="t" r="r" b="b"/>
                <a:pathLst>
                  <a:path w="115" h="210">
                    <a:moveTo>
                      <a:pt x="0" y="13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15" y="198"/>
                    </a:lnTo>
                    <a:lnTo>
                      <a:pt x="105" y="21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423040" y="4502160"/>
                <a:ext cx="45720" cy="82440"/>
              </a:xfrm>
              <a:custGeom>
                <a:avLst/>
                <a:gdLst/>
                <a:ahLst/>
                <a:rect l="l" t="t" r="r" b="b"/>
                <a:pathLst>
                  <a:path w="115" h="210">
                    <a:moveTo>
                      <a:pt x="0" y="13"/>
                    </a:moveTo>
                    <a:lnTo>
                      <a:pt x="12" y="0"/>
                    </a:lnTo>
                    <a:lnTo>
                      <a:pt x="115" y="210"/>
                    </a:lnTo>
                    <a:lnTo>
                      <a:pt x="105" y="210"/>
                    </a:lnTo>
                    <a:lnTo>
                      <a:pt x="92" y="21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419800" y="4506840"/>
                <a:ext cx="46080" cy="77760"/>
              </a:xfrm>
              <a:custGeom>
                <a:avLst/>
                <a:gdLst/>
                <a:ahLst/>
                <a:rect l="l" t="t" r="r" b="b"/>
                <a:pathLst>
                  <a:path w="116" h="197">
                    <a:moveTo>
                      <a:pt x="0" y="0"/>
                    </a:moveTo>
                    <a:lnTo>
                      <a:pt x="11" y="0"/>
                    </a:lnTo>
                    <a:lnTo>
                      <a:pt x="116" y="197"/>
                    </a:lnTo>
                    <a:lnTo>
                      <a:pt x="103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419800" y="4506840"/>
                <a:ext cx="41040" cy="77760"/>
              </a:xfrm>
              <a:custGeom>
                <a:avLst/>
                <a:gdLst/>
                <a:ahLst/>
                <a:rect l="l" t="t" r="r" b="b"/>
                <a:pathLst>
                  <a:path w="103" h="197">
                    <a:moveTo>
                      <a:pt x="0" y="0"/>
                    </a:moveTo>
                    <a:lnTo>
                      <a:pt x="11" y="0"/>
                    </a:lnTo>
                    <a:lnTo>
                      <a:pt x="103" y="197"/>
                    </a:lnTo>
                    <a:lnTo>
                      <a:pt x="92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419800" y="45068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103" h="207">
                    <a:moveTo>
                      <a:pt x="0" y="11"/>
                    </a:moveTo>
                    <a:lnTo>
                      <a:pt x="0" y="0"/>
                    </a:lnTo>
                    <a:lnTo>
                      <a:pt x="103" y="197"/>
                    </a:lnTo>
                    <a:lnTo>
                      <a:pt x="92" y="197"/>
                    </a:lnTo>
                    <a:lnTo>
                      <a:pt x="92" y="20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415120" y="45068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104" h="207">
                    <a:moveTo>
                      <a:pt x="0" y="11"/>
                    </a:moveTo>
                    <a:lnTo>
                      <a:pt x="12" y="11"/>
                    </a:lnTo>
                    <a:lnTo>
                      <a:pt x="12" y="0"/>
                    </a:lnTo>
                    <a:lnTo>
                      <a:pt x="104" y="197"/>
                    </a:lnTo>
                    <a:lnTo>
                      <a:pt x="104" y="20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415120" y="4511520"/>
                <a:ext cx="41040" cy="78120"/>
              </a:xfrm>
              <a:custGeom>
                <a:avLst/>
                <a:gdLst/>
                <a:ahLst/>
                <a:rect l="l" t="t" r="r" b="b"/>
                <a:pathLst>
                  <a:path w="104" h="196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04" y="196"/>
                    </a:lnTo>
                    <a:lnTo>
                      <a:pt x="93" y="19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410080" y="4511520"/>
                <a:ext cx="46080" cy="78120"/>
              </a:xfrm>
              <a:custGeom>
                <a:avLst/>
                <a:gdLst/>
                <a:ahLst/>
                <a:rect l="l" t="t" r="r" b="b"/>
                <a:pathLst>
                  <a:path w="116" h="196">
                    <a:moveTo>
                      <a:pt x="0" y="12"/>
                    </a:moveTo>
                    <a:lnTo>
                      <a:pt x="12" y="12"/>
                    </a:lnTo>
                    <a:lnTo>
                      <a:pt x="12" y="0"/>
                    </a:lnTo>
                    <a:lnTo>
                      <a:pt x="116" y="196"/>
                    </a:lnTo>
                    <a:lnTo>
                      <a:pt x="105" y="19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410080" y="4516560"/>
                <a:ext cx="41400" cy="73080"/>
              </a:xfrm>
              <a:custGeom>
                <a:avLst/>
                <a:gdLst/>
                <a:ahLst/>
                <a:rect l="l" t="t" r="r" b="b"/>
                <a:pathLst>
                  <a:path w="105" h="184">
                    <a:moveTo>
                      <a:pt x="0" y="11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05" y="184"/>
                    </a:lnTo>
                    <a:lnTo>
                      <a:pt x="92" y="18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410080" y="4516560"/>
                <a:ext cx="41400" cy="73080"/>
              </a:xfrm>
              <a:custGeom>
                <a:avLst/>
                <a:gdLst/>
                <a:ahLst/>
                <a:rect l="l" t="t" r="r" b="b"/>
                <a:pathLst>
                  <a:path w="105" h="184">
                    <a:moveTo>
                      <a:pt x="0" y="11"/>
                    </a:moveTo>
                    <a:lnTo>
                      <a:pt x="0" y="0"/>
                    </a:lnTo>
                    <a:lnTo>
                      <a:pt x="105" y="184"/>
                    </a:lnTo>
                    <a:lnTo>
                      <a:pt x="92" y="18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96040" y="4519440"/>
                <a:ext cx="50760" cy="79560"/>
              </a:xfrm>
              <a:custGeom>
                <a:avLst/>
                <a:gdLst/>
                <a:ahLst/>
                <a:rect l="l" t="t" r="r" b="b"/>
                <a:pathLst>
                  <a:path w="127" h="197">
                    <a:moveTo>
                      <a:pt x="35" y="0"/>
                    </a:moveTo>
                    <a:lnTo>
                      <a:pt x="23" y="11"/>
                    </a:lnTo>
                    <a:lnTo>
                      <a:pt x="23" y="23"/>
                    </a:lnTo>
                    <a:lnTo>
                      <a:pt x="23" y="35"/>
                    </a:lnTo>
                    <a:lnTo>
                      <a:pt x="12" y="35"/>
                    </a:lnTo>
                    <a:lnTo>
                      <a:pt x="12" y="47"/>
                    </a:lnTo>
                    <a:lnTo>
                      <a:pt x="0" y="58"/>
                    </a:lnTo>
                    <a:lnTo>
                      <a:pt x="12" y="81"/>
                    </a:lnTo>
                    <a:lnTo>
                      <a:pt x="23" y="93"/>
                    </a:lnTo>
                    <a:lnTo>
                      <a:pt x="23" y="116"/>
                    </a:lnTo>
                    <a:lnTo>
                      <a:pt x="35" y="127"/>
                    </a:lnTo>
                    <a:lnTo>
                      <a:pt x="47" y="151"/>
                    </a:lnTo>
                    <a:lnTo>
                      <a:pt x="59" y="163"/>
                    </a:lnTo>
                    <a:lnTo>
                      <a:pt x="70" y="186"/>
                    </a:lnTo>
                    <a:lnTo>
                      <a:pt x="82" y="197"/>
                    </a:lnTo>
                    <a:lnTo>
                      <a:pt x="93" y="197"/>
                    </a:lnTo>
                    <a:lnTo>
                      <a:pt x="93" y="186"/>
                    </a:lnTo>
                    <a:lnTo>
                      <a:pt x="105" y="186"/>
                    </a:lnTo>
                    <a:lnTo>
                      <a:pt x="117" y="186"/>
                    </a:lnTo>
                    <a:lnTo>
                      <a:pt x="127" y="186"/>
                    </a:lnTo>
                    <a:lnTo>
                      <a:pt x="127" y="17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535200" y="4737240"/>
                <a:ext cx="55800" cy="114120"/>
              </a:xfrm>
              <a:custGeom>
                <a:avLst/>
                <a:gdLst/>
                <a:ahLst/>
                <a:rect l="l" t="t" r="r" b="b"/>
                <a:pathLst>
                  <a:path w="138" h="290">
                    <a:moveTo>
                      <a:pt x="46" y="0"/>
                    </a:moveTo>
                    <a:lnTo>
                      <a:pt x="58" y="0"/>
                    </a:lnTo>
                    <a:lnTo>
                      <a:pt x="58" y="12"/>
                    </a:lnTo>
                    <a:lnTo>
                      <a:pt x="70" y="24"/>
                    </a:lnTo>
                    <a:lnTo>
                      <a:pt x="81" y="36"/>
                    </a:lnTo>
                    <a:lnTo>
                      <a:pt x="81" y="46"/>
                    </a:lnTo>
                    <a:lnTo>
                      <a:pt x="92" y="58"/>
                    </a:lnTo>
                    <a:lnTo>
                      <a:pt x="92" y="70"/>
                    </a:lnTo>
                    <a:lnTo>
                      <a:pt x="104" y="81"/>
                    </a:lnTo>
                    <a:lnTo>
                      <a:pt x="104" y="104"/>
                    </a:lnTo>
                    <a:lnTo>
                      <a:pt x="104" y="128"/>
                    </a:lnTo>
                    <a:lnTo>
                      <a:pt x="116" y="162"/>
                    </a:lnTo>
                    <a:lnTo>
                      <a:pt x="116" y="186"/>
                    </a:lnTo>
                    <a:lnTo>
                      <a:pt x="128" y="220"/>
                    </a:lnTo>
                    <a:lnTo>
                      <a:pt x="128" y="244"/>
                    </a:lnTo>
                    <a:lnTo>
                      <a:pt x="138" y="268"/>
                    </a:lnTo>
                    <a:lnTo>
                      <a:pt x="138" y="290"/>
                    </a:lnTo>
                    <a:lnTo>
                      <a:pt x="128" y="290"/>
                    </a:lnTo>
                    <a:lnTo>
                      <a:pt x="104" y="290"/>
                    </a:lnTo>
                    <a:lnTo>
                      <a:pt x="92" y="279"/>
                    </a:lnTo>
                    <a:lnTo>
                      <a:pt x="81" y="279"/>
                    </a:lnTo>
                    <a:lnTo>
                      <a:pt x="58" y="268"/>
                    </a:lnTo>
                    <a:lnTo>
                      <a:pt x="46" y="244"/>
                    </a:lnTo>
                    <a:lnTo>
                      <a:pt x="23" y="232"/>
                    </a:lnTo>
                    <a:lnTo>
                      <a:pt x="0" y="22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530520" y="4727520"/>
                <a:ext cx="23760" cy="96840"/>
              </a:xfrm>
              <a:custGeom>
                <a:avLst/>
                <a:gdLst/>
                <a:ahLst/>
                <a:rect l="l" t="t" r="r" b="b"/>
                <a:pathLst>
                  <a:path w="57" h="243">
                    <a:moveTo>
                      <a:pt x="45" y="0"/>
                    </a:moveTo>
                    <a:lnTo>
                      <a:pt x="57" y="11"/>
                    </a:lnTo>
                    <a:lnTo>
                      <a:pt x="57" y="23"/>
                    </a:lnTo>
                    <a:lnTo>
                      <a:pt x="11" y="243"/>
                    </a:lnTo>
                    <a:lnTo>
                      <a:pt x="11" y="233"/>
                    </a:lnTo>
                    <a:lnTo>
                      <a:pt x="0" y="23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530520" y="4727520"/>
                <a:ext cx="23760" cy="92160"/>
              </a:xfrm>
              <a:custGeom>
                <a:avLst/>
                <a:gdLst/>
                <a:ahLst/>
                <a:rect l="l" t="t" r="r" b="b"/>
                <a:pathLst>
                  <a:path w="57" h="233">
                    <a:moveTo>
                      <a:pt x="45" y="0"/>
                    </a:moveTo>
                    <a:lnTo>
                      <a:pt x="45" y="11"/>
                    </a:lnTo>
                    <a:lnTo>
                      <a:pt x="57" y="11"/>
                    </a:lnTo>
                    <a:lnTo>
                      <a:pt x="11" y="233"/>
                    </a:lnTo>
                    <a:lnTo>
                      <a:pt x="0" y="233"/>
                    </a:lnTo>
                    <a:lnTo>
                      <a:pt x="0" y="22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525840" y="4727520"/>
                <a:ext cx="23760" cy="92160"/>
              </a:xfrm>
              <a:custGeom>
                <a:avLst/>
                <a:gdLst/>
                <a:ahLst/>
                <a:rect l="l" t="t" r="r" b="b"/>
                <a:pathLst>
                  <a:path w="58" h="233">
                    <a:moveTo>
                      <a:pt x="47" y="0"/>
                    </a:moveTo>
                    <a:lnTo>
                      <a:pt x="58" y="0"/>
                    </a:lnTo>
                    <a:lnTo>
                      <a:pt x="13" y="233"/>
                    </a:lnTo>
                    <a:lnTo>
                      <a:pt x="13" y="220"/>
                    </a:lnTo>
                    <a:lnTo>
                      <a:pt x="0" y="22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525840" y="4722840"/>
                <a:ext cx="23760" cy="92160"/>
              </a:xfrm>
              <a:custGeom>
                <a:avLst/>
                <a:gdLst/>
                <a:ahLst/>
                <a:rect l="l" t="t" r="r" b="b"/>
                <a:pathLst>
                  <a:path w="58" h="231">
                    <a:moveTo>
                      <a:pt x="47" y="0"/>
                    </a:moveTo>
                    <a:lnTo>
                      <a:pt x="58" y="11"/>
                    </a:lnTo>
                    <a:lnTo>
                      <a:pt x="13" y="231"/>
                    </a:lnTo>
                    <a:lnTo>
                      <a:pt x="0" y="231"/>
                    </a:lnTo>
                    <a:lnTo>
                      <a:pt x="0" y="22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521160" y="4718160"/>
                <a:ext cx="23760" cy="96840"/>
              </a:xfrm>
              <a:custGeom>
                <a:avLst/>
                <a:gdLst/>
                <a:ahLst/>
                <a:rect l="l" t="t" r="r" b="b"/>
                <a:pathLst>
                  <a:path w="58" h="243">
                    <a:moveTo>
                      <a:pt x="47" y="0"/>
                    </a:moveTo>
                    <a:lnTo>
                      <a:pt x="47" y="12"/>
                    </a:lnTo>
                    <a:lnTo>
                      <a:pt x="58" y="12"/>
                    </a:lnTo>
                    <a:lnTo>
                      <a:pt x="58" y="23"/>
                    </a:lnTo>
                    <a:lnTo>
                      <a:pt x="11" y="243"/>
                    </a:lnTo>
                    <a:lnTo>
                      <a:pt x="0" y="232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521160" y="4718160"/>
                <a:ext cx="23760" cy="91800"/>
              </a:xfrm>
              <a:custGeom>
                <a:avLst/>
                <a:gdLst/>
                <a:ahLst/>
                <a:rect l="l" t="t" r="r" b="b"/>
                <a:pathLst>
                  <a:path w="58" h="232">
                    <a:moveTo>
                      <a:pt x="47" y="0"/>
                    </a:moveTo>
                    <a:lnTo>
                      <a:pt x="47" y="12"/>
                    </a:lnTo>
                    <a:lnTo>
                      <a:pt x="58" y="12"/>
                    </a:lnTo>
                    <a:lnTo>
                      <a:pt x="11" y="232"/>
                    </a:lnTo>
                    <a:lnTo>
                      <a:pt x="0" y="232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516480" y="4718160"/>
                <a:ext cx="23760" cy="91800"/>
              </a:xfrm>
              <a:custGeom>
                <a:avLst/>
                <a:gdLst/>
                <a:ahLst/>
                <a:rect l="l" t="t" r="r" b="b"/>
                <a:pathLst>
                  <a:path w="59" h="232">
                    <a:moveTo>
                      <a:pt x="47" y="0"/>
                    </a:moveTo>
                    <a:lnTo>
                      <a:pt x="59" y="0"/>
                    </a:lnTo>
                    <a:lnTo>
                      <a:pt x="12" y="232"/>
                    </a:lnTo>
                    <a:lnTo>
                      <a:pt x="0" y="21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516480" y="4713120"/>
                <a:ext cx="23760" cy="96840"/>
              </a:xfrm>
              <a:custGeom>
                <a:avLst/>
                <a:gdLst/>
                <a:ahLst/>
                <a:rect l="l" t="t" r="r" b="b"/>
                <a:pathLst>
                  <a:path w="59" h="244">
                    <a:moveTo>
                      <a:pt x="47" y="0"/>
                    </a:moveTo>
                    <a:lnTo>
                      <a:pt x="47" y="12"/>
                    </a:lnTo>
                    <a:lnTo>
                      <a:pt x="59" y="12"/>
                    </a:lnTo>
                    <a:lnTo>
                      <a:pt x="12" y="244"/>
                    </a:lnTo>
                    <a:lnTo>
                      <a:pt x="0" y="231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513240" y="4713120"/>
                <a:ext cx="21960" cy="92160"/>
              </a:xfrm>
              <a:custGeom>
                <a:avLst/>
                <a:gdLst/>
                <a:ahLst/>
                <a:rect l="l" t="t" r="r" b="b"/>
                <a:pathLst>
                  <a:path w="58" h="231">
                    <a:moveTo>
                      <a:pt x="47" y="0"/>
                    </a:moveTo>
                    <a:lnTo>
                      <a:pt x="58" y="0"/>
                    </a:lnTo>
                    <a:lnTo>
                      <a:pt x="58" y="12"/>
                    </a:lnTo>
                    <a:lnTo>
                      <a:pt x="11" y="231"/>
                    </a:lnTo>
                    <a:lnTo>
                      <a:pt x="0" y="22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513240" y="4708440"/>
                <a:ext cx="21960" cy="96840"/>
              </a:xfrm>
              <a:custGeom>
                <a:avLst/>
                <a:gdLst/>
                <a:ahLst/>
                <a:rect l="l" t="t" r="r" b="b"/>
                <a:pathLst>
                  <a:path w="58" h="243">
                    <a:moveTo>
                      <a:pt x="47" y="0"/>
                    </a:moveTo>
                    <a:lnTo>
                      <a:pt x="47" y="12"/>
                    </a:lnTo>
                    <a:lnTo>
                      <a:pt x="58" y="12"/>
                    </a:lnTo>
                    <a:lnTo>
                      <a:pt x="11" y="243"/>
                    </a:lnTo>
                    <a:lnTo>
                      <a:pt x="0" y="243"/>
                    </a:lnTo>
                    <a:lnTo>
                      <a:pt x="0" y="232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508200" y="470844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8" h="232">
                    <a:moveTo>
                      <a:pt x="45" y="0"/>
                    </a:moveTo>
                    <a:lnTo>
                      <a:pt x="58" y="0"/>
                    </a:lnTo>
                    <a:lnTo>
                      <a:pt x="58" y="12"/>
                    </a:lnTo>
                    <a:lnTo>
                      <a:pt x="11" y="232"/>
                    </a:lnTo>
                    <a:lnTo>
                      <a:pt x="0" y="232"/>
                    </a:lnTo>
                    <a:lnTo>
                      <a:pt x="0" y="22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508200" y="470844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8" h="232">
                    <a:moveTo>
                      <a:pt x="45" y="0"/>
                    </a:moveTo>
                    <a:lnTo>
                      <a:pt x="58" y="0"/>
                    </a:lnTo>
                    <a:lnTo>
                      <a:pt x="11" y="232"/>
                    </a:lnTo>
                    <a:lnTo>
                      <a:pt x="0" y="232"/>
                    </a:lnTo>
                    <a:lnTo>
                      <a:pt x="0" y="22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503520" y="470520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7" h="233">
                    <a:moveTo>
                      <a:pt x="46" y="0"/>
                    </a:moveTo>
                    <a:lnTo>
                      <a:pt x="46" y="11"/>
                    </a:lnTo>
                    <a:lnTo>
                      <a:pt x="57" y="11"/>
                    </a:lnTo>
                    <a:lnTo>
                      <a:pt x="12" y="233"/>
                    </a:lnTo>
                    <a:lnTo>
                      <a:pt x="0" y="23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503520" y="470520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7" h="233">
                    <a:moveTo>
                      <a:pt x="34" y="0"/>
                    </a:moveTo>
                    <a:lnTo>
                      <a:pt x="46" y="0"/>
                    </a:lnTo>
                    <a:lnTo>
                      <a:pt x="46" y="11"/>
                    </a:lnTo>
                    <a:lnTo>
                      <a:pt x="57" y="11"/>
                    </a:lnTo>
                    <a:lnTo>
                      <a:pt x="12" y="233"/>
                    </a:lnTo>
                    <a:lnTo>
                      <a:pt x="0" y="233"/>
                    </a:lnTo>
                    <a:lnTo>
                      <a:pt x="0" y="22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498840" y="470520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8" h="233">
                    <a:moveTo>
                      <a:pt x="46" y="0"/>
                    </a:moveTo>
                    <a:lnTo>
                      <a:pt x="58" y="0"/>
                    </a:lnTo>
                    <a:lnTo>
                      <a:pt x="12" y="233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0" y="209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498840" y="4705200"/>
                <a:ext cx="17640" cy="87480"/>
              </a:xfrm>
              <a:custGeom>
                <a:avLst/>
                <a:gdLst/>
                <a:ahLst/>
                <a:rect l="l" t="t" r="r" b="b"/>
                <a:pathLst>
                  <a:path w="46" h="220">
                    <a:moveTo>
                      <a:pt x="35" y="0"/>
                    </a:moveTo>
                    <a:lnTo>
                      <a:pt x="46" y="0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0" y="20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494160" y="4700520"/>
                <a:ext cx="22320" cy="87480"/>
              </a:xfrm>
              <a:custGeom>
                <a:avLst/>
                <a:gdLst/>
                <a:ahLst/>
                <a:rect l="l" t="t" r="r" b="b"/>
                <a:pathLst>
                  <a:path w="58" h="220">
                    <a:moveTo>
                      <a:pt x="47" y="0"/>
                    </a:moveTo>
                    <a:lnTo>
                      <a:pt x="47" y="11"/>
                    </a:lnTo>
                    <a:lnTo>
                      <a:pt x="58" y="11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494160" y="4700520"/>
                <a:ext cx="19080" cy="87480"/>
              </a:xfrm>
              <a:custGeom>
                <a:avLst/>
                <a:gdLst/>
                <a:ahLst/>
                <a:rect l="l" t="t" r="r" b="b"/>
                <a:pathLst>
                  <a:path w="47" h="220">
                    <a:moveTo>
                      <a:pt x="36" y="0"/>
                    </a:moveTo>
                    <a:lnTo>
                      <a:pt x="47" y="0"/>
                    </a:lnTo>
                    <a:lnTo>
                      <a:pt x="47" y="11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0" y="208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489480" y="4700520"/>
                <a:ext cx="23760" cy="87480"/>
              </a:xfrm>
              <a:custGeom>
                <a:avLst/>
                <a:gdLst/>
                <a:ahLst/>
                <a:rect l="l" t="t" r="r" b="b"/>
                <a:pathLst>
                  <a:path w="58" h="220">
                    <a:moveTo>
                      <a:pt x="47" y="0"/>
                    </a:moveTo>
                    <a:lnTo>
                      <a:pt x="58" y="0"/>
                    </a:lnTo>
                    <a:lnTo>
                      <a:pt x="11" y="220"/>
                    </a:lnTo>
                    <a:lnTo>
                      <a:pt x="11" y="208"/>
                    </a:lnTo>
                    <a:lnTo>
                      <a:pt x="0" y="208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486240" y="4695840"/>
                <a:ext cx="21960" cy="87120"/>
              </a:xfrm>
              <a:custGeom>
                <a:avLst/>
                <a:gdLst/>
                <a:ahLst/>
                <a:rect l="l" t="t" r="r" b="b"/>
                <a:pathLst>
                  <a:path w="58" h="220">
                    <a:moveTo>
                      <a:pt x="46" y="0"/>
                    </a:moveTo>
                    <a:lnTo>
                      <a:pt x="46" y="12"/>
                    </a:lnTo>
                    <a:lnTo>
                      <a:pt x="58" y="12"/>
                    </a:lnTo>
                    <a:lnTo>
                      <a:pt x="22" y="220"/>
                    </a:lnTo>
                    <a:lnTo>
                      <a:pt x="11" y="220"/>
                    </a:lnTo>
                    <a:lnTo>
                      <a:pt x="0" y="20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448080" y="4691160"/>
                <a:ext cx="60120" cy="91800"/>
              </a:xfrm>
              <a:custGeom>
                <a:avLst/>
                <a:gdLst/>
                <a:ahLst/>
                <a:rect l="l" t="t" r="r" b="b"/>
                <a:pathLst>
                  <a:path w="152" h="232">
                    <a:moveTo>
                      <a:pt x="152" y="24"/>
                    </a:moveTo>
                    <a:lnTo>
                      <a:pt x="128" y="12"/>
                    </a:lnTo>
                    <a:lnTo>
                      <a:pt x="105" y="12"/>
                    </a:lnTo>
                    <a:lnTo>
                      <a:pt x="94" y="0"/>
                    </a:lnTo>
                    <a:lnTo>
                      <a:pt x="82" y="0"/>
                    </a:lnTo>
                    <a:lnTo>
                      <a:pt x="58" y="0"/>
                    </a:lnTo>
                    <a:lnTo>
                      <a:pt x="48" y="0"/>
                    </a:lnTo>
                    <a:lnTo>
                      <a:pt x="36" y="0"/>
                    </a:lnTo>
                    <a:lnTo>
                      <a:pt x="24" y="0"/>
                    </a:lnTo>
                    <a:lnTo>
                      <a:pt x="24" y="24"/>
                    </a:lnTo>
                    <a:lnTo>
                      <a:pt x="13" y="46"/>
                    </a:lnTo>
                    <a:lnTo>
                      <a:pt x="13" y="58"/>
                    </a:lnTo>
                    <a:lnTo>
                      <a:pt x="13" y="82"/>
                    </a:lnTo>
                    <a:lnTo>
                      <a:pt x="13" y="104"/>
                    </a:lnTo>
                    <a:lnTo>
                      <a:pt x="0" y="116"/>
                    </a:lnTo>
                    <a:lnTo>
                      <a:pt x="0" y="140"/>
                    </a:lnTo>
                    <a:lnTo>
                      <a:pt x="0" y="162"/>
                    </a:lnTo>
                    <a:lnTo>
                      <a:pt x="13" y="162"/>
                    </a:lnTo>
                    <a:lnTo>
                      <a:pt x="24" y="162"/>
                    </a:lnTo>
                    <a:lnTo>
                      <a:pt x="36" y="174"/>
                    </a:lnTo>
                    <a:lnTo>
                      <a:pt x="48" y="186"/>
                    </a:lnTo>
                    <a:lnTo>
                      <a:pt x="58" y="197"/>
                    </a:lnTo>
                    <a:lnTo>
                      <a:pt x="70" y="210"/>
                    </a:lnTo>
                    <a:lnTo>
                      <a:pt x="94" y="220"/>
                    </a:lnTo>
                    <a:lnTo>
                      <a:pt x="105" y="232"/>
                    </a:lnTo>
                    <a:lnTo>
                      <a:pt x="15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781520" y="4695840"/>
                <a:ext cx="30240" cy="92160"/>
              </a:xfrm>
              <a:custGeom>
                <a:avLst/>
                <a:gdLst/>
                <a:ahLst/>
                <a:rect l="l" t="t" r="r" b="b"/>
                <a:pathLst>
                  <a:path w="80" h="232">
                    <a:moveTo>
                      <a:pt x="80" y="23"/>
                    </a:moveTo>
                    <a:lnTo>
                      <a:pt x="69" y="23"/>
                    </a:lnTo>
                    <a:lnTo>
                      <a:pt x="58" y="12"/>
                    </a:lnTo>
                    <a:lnTo>
                      <a:pt x="46" y="12"/>
                    </a:lnTo>
                    <a:lnTo>
                      <a:pt x="46" y="0"/>
                    </a:lnTo>
                    <a:lnTo>
                      <a:pt x="34" y="23"/>
                    </a:lnTo>
                    <a:lnTo>
                      <a:pt x="34" y="46"/>
                    </a:lnTo>
                    <a:lnTo>
                      <a:pt x="22" y="70"/>
                    </a:lnTo>
                    <a:lnTo>
                      <a:pt x="22" y="92"/>
                    </a:lnTo>
                    <a:lnTo>
                      <a:pt x="12" y="116"/>
                    </a:lnTo>
                    <a:lnTo>
                      <a:pt x="12" y="128"/>
                    </a:lnTo>
                    <a:lnTo>
                      <a:pt x="0" y="150"/>
                    </a:lnTo>
                    <a:lnTo>
                      <a:pt x="0" y="174"/>
                    </a:lnTo>
                    <a:lnTo>
                      <a:pt x="0" y="185"/>
                    </a:lnTo>
                    <a:lnTo>
                      <a:pt x="12" y="198"/>
                    </a:lnTo>
                    <a:lnTo>
                      <a:pt x="22" y="198"/>
                    </a:lnTo>
                    <a:lnTo>
                      <a:pt x="34" y="208"/>
                    </a:lnTo>
                    <a:lnTo>
                      <a:pt x="46" y="220"/>
                    </a:lnTo>
                    <a:lnTo>
                      <a:pt x="58" y="220"/>
                    </a:lnTo>
                    <a:lnTo>
                      <a:pt x="69" y="232"/>
                    </a:lnTo>
                    <a:lnTo>
                      <a:pt x="80" y="232"/>
                    </a:lnTo>
                    <a:lnTo>
                      <a:pt x="80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811760" y="4705200"/>
                <a:ext cx="6480" cy="8748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12" y="0"/>
                    </a:moveTo>
                    <a:lnTo>
                      <a:pt x="0" y="0"/>
                    </a:lnTo>
                    <a:lnTo>
                      <a:pt x="0" y="209"/>
                    </a:lnTo>
                    <a:lnTo>
                      <a:pt x="0" y="220"/>
                    </a:lnTo>
                    <a:lnTo>
                      <a:pt x="12" y="2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811760" y="4705200"/>
                <a:ext cx="6480" cy="8748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12" y="0"/>
                    </a:moveTo>
                    <a:lnTo>
                      <a:pt x="0" y="0"/>
                    </a:lnTo>
                    <a:lnTo>
                      <a:pt x="0" y="209"/>
                    </a:lnTo>
                    <a:lnTo>
                      <a:pt x="12" y="2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818240" y="4705200"/>
                <a:ext cx="2880" cy="8748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0" y="11"/>
                    </a:moveTo>
                    <a:lnTo>
                      <a:pt x="0" y="0"/>
                    </a:lnTo>
                    <a:lnTo>
                      <a:pt x="0" y="220"/>
                    </a:lnTo>
                    <a:lnTo>
                      <a:pt x="12" y="22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18240" y="4705200"/>
                <a:ext cx="2880" cy="8748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12" y="11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12" y="22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818240" y="4708440"/>
                <a:ext cx="2880" cy="8424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12" y="0"/>
                    </a:moveTo>
                    <a:lnTo>
                      <a:pt x="0" y="0"/>
                    </a:lnTo>
                    <a:lnTo>
                      <a:pt x="12" y="20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821120" y="4708440"/>
                <a:ext cx="5040" cy="8424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0" y="0"/>
                    </a:moveTo>
                    <a:lnTo>
                      <a:pt x="0" y="209"/>
                    </a:lnTo>
                    <a:lnTo>
                      <a:pt x="12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821120" y="4708440"/>
                <a:ext cx="5040" cy="842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821120" y="4708440"/>
                <a:ext cx="5040" cy="8424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12" y="0"/>
                    </a:moveTo>
                    <a:lnTo>
                      <a:pt x="0" y="0"/>
                    </a:lnTo>
                    <a:lnTo>
                      <a:pt x="12" y="20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826160" y="4708440"/>
                <a:ext cx="4680" cy="842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26160" y="4705200"/>
                <a:ext cx="4680" cy="87480"/>
              </a:xfrm>
              <a:custGeom>
                <a:avLst/>
                <a:gdLst/>
                <a:ahLst/>
                <a:rect l="l" t="t" r="r" b="b"/>
                <a:pathLst>
                  <a:path w="11" h="220">
                    <a:moveTo>
                      <a:pt x="11" y="0"/>
                    </a:moveTo>
                    <a:lnTo>
                      <a:pt x="11" y="11"/>
                    </a:lnTo>
                    <a:lnTo>
                      <a:pt x="0" y="11"/>
                    </a:lnTo>
                    <a:lnTo>
                      <a:pt x="0" y="220"/>
                    </a:lnTo>
                    <a:lnTo>
                      <a:pt x="11" y="2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3084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1" h="233">
                    <a:moveTo>
                      <a:pt x="0" y="0"/>
                    </a:moveTo>
                    <a:lnTo>
                      <a:pt x="0" y="11"/>
                    </a:lnTo>
                    <a:lnTo>
                      <a:pt x="0" y="220"/>
                    </a:lnTo>
                    <a:lnTo>
                      <a:pt x="0" y="233"/>
                    </a:lnTo>
                    <a:lnTo>
                      <a:pt x="11" y="2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83084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1" h="233">
                    <a:moveTo>
                      <a:pt x="11" y="0"/>
                    </a:moveTo>
                    <a:lnTo>
                      <a:pt x="0" y="0"/>
                    </a:lnTo>
                    <a:lnTo>
                      <a:pt x="0" y="220"/>
                    </a:lnTo>
                    <a:lnTo>
                      <a:pt x="0" y="233"/>
                    </a:lnTo>
                    <a:lnTo>
                      <a:pt x="11" y="23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83084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1" h="233">
                    <a:moveTo>
                      <a:pt x="11" y="0"/>
                    </a:moveTo>
                    <a:lnTo>
                      <a:pt x="0" y="0"/>
                    </a:lnTo>
                    <a:lnTo>
                      <a:pt x="11" y="23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3552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2" h="233">
                    <a:moveTo>
                      <a:pt x="0" y="0"/>
                    </a:moveTo>
                    <a:lnTo>
                      <a:pt x="0" y="233"/>
                    </a:lnTo>
                    <a:lnTo>
                      <a:pt x="12" y="2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35520" y="4705200"/>
                <a:ext cx="4680" cy="92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83552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2" h="233">
                    <a:moveTo>
                      <a:pt x="12" y="0"/>
                    </a:moveTo>
                    <a:lnTo>
                      <a:pt x="0" y="0"/>
                    </a:lnTo>
                    <a:lnTo>
                      <a:pt x="12" y="233"/>
                    </a:lnTo>
                    <a:lnTo>
                      <a:pt x="12" y="2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4020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1" h="233">
                    <a:moveTo>
                      <a:pt x="0" y="0"/>
                    </a:moveTo>
                    <a:lnTo>
                      <a:pt x="0" y="233"/>
                    </a:lnTo>
                    <a:lnTo>
                      <a:pt x="0" y="220"/>
                    </a:lnTo>
                    <a:lnTo>
                      <a:pt x="11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840200" y="4705200"/>
                <a:ext cx="4680" cy="87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40200" y="4705200"/>
                <a:ext cx="4680" cy="87480"/>
              </a:xfrm>
              <a:custGeom>
                <a:avLst/>
                <a:gdLst/>
                <a:ahLst/>
                <a:rect l="l" t="t" r="r" b="b"/>
                <a:pathLst>
                  <a:path w="11" h="220">
                    <a:moveTo>
                      <a:pt x="11" y="0"/>
                    </a:moveTo>
                    <a:lnTo>
                      <a:pt x="0" y="0"/>
                    </a:lnTo>
                    <a:lnTo>
                      <a:pt x="11" y="2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844880" y="4705200"/>
                <a:ext cx="5040" cy="87480"/>
              </a:xfrm>
              <a:custGeom>
                <a:avLst/>
                <a:gdLst/>
                <a:ahLst/>
                <a:rect l="l" t="t" r="r" b="b"/>
                <a:pathLst>
                  <a:path w="13" h="220">
                    <a:moveTo>
                      <a:pt x="0" y="0"/>
                    </a:moveTo>
                    <a:lnTo>
                      <a:pt x="0" y="220"/>
                    </a:lnTo>
                    <a:lnTo>
                      <a:pt x="13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844880" y="4705200"/>
                <a:ext cx="36720" cy="87480"/>
              </a:xfrm>
              <a:custGeom>
                <a:avLst/>
                <a:gdLst/>
                <a:ahLst/>
                <a:rect l="l" t="t" r="r" b="b"/>
                <a:pathLst>
                  <a:path w="93" h="220">
                    <a:moveTo>
                      <a:pt x="0" y="0"/>
                    </a:moveTo>
                    <a:lnTo>
                      <a:pt x="13" y="0"/>
                    </a:lnTo>
                    <a:lnTo>
                      <a:pt x="24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58" y="11"/>
                    </a:lnTo>
                    <a:lnTo>
                      <a:pt x="58" y="23"/>
                    </a:lnTo>
                    <a:lnTo>
                      <a:pt x="70" y="35"/>
                    </a:lnTo>
                    <a:lnTo>
                      <a:pt x="70" y="58"/>
                    </a:lnTo>
                    <a:lnTo>
                      <a:pt x="70" y="69"/>
                    </a:lnTo>
                    <a:lnTo>
                      <a:pt x="82" y="81"/>
                    </a:lnTo>
                    <a:lnTo>
                      <a:pt x="82" y="105"/>
                    </a:lnTo>
                    <a:lnTo>
                      <a:pt x="82" y="117"/>
                    </a:lnTo>
                    <a:lnTo>
                      <a:pt x="93" y="127"/>
                    </a:lnTo>
                    <a:lnTo>
                      <a:pt x="82" y="151"/>
                    </a:lnTo>
                    <a:lnTo>
                      <a:pt x="70" y="175"/>
                    </a:lnTo>
                    <a:lnTo>
                      <a:pt x="58" y="185"/>
                    </a:lnTo>
                    <a:lnTo>
                      <a:pt x="47" y="197"/>
                    </a:lnTo>
                    <a:lnTo>
                      <a:pt x="47" y="209"/>
                    </a:lnTo>
                    <a:lnTo>
                      <a:pt x="35" y="209"/>
                    </a:lnTo>
                    <a:lnTo>
                      <a:pt x="24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833560" y="4681440"/>
                <a:ext cx="32040" cy="96840"/>
              </a:xfrm>
              <a:custGeom>
                <a:avLst/>
                <a:gdLst/>
                <a:ahLst/>
                <a:rect l="l" t="t" r="r" b="b"/>
                <a:pathLst>
                  <a:path w="81" h="243">
                    <a:moveTo>
                      <a:pt x="81" y="35"/>
                    </a:moveTo>
                    <a:lnTo>
                      <a:pt x="70" y="23"/>
                    </a:lnTo>
                    <a:lnTo>
                      <a:pt x="58" y="23"/>
                    </a:lnTo>
                    <a:lnTo>
                      <a:pt x="58" y="12"/>
                    </a:lnTo>
                    <a:lnTo>
                      <a:pt x="47" y="12"/>
                    </a:lnTo>
                    <a:lnTo>
                      <a:pt x="47" y="0"/>
                    </a:lnTo>
                    <a:lnTo>
                      <a:pt x="34" y="23"/>
                    </a:lnTo>
                    <a:lnTo>
                      <a:pt x="34" y="47"/>
                    </a:lnTo>
                    <a:lnTo>
                      <a:pt x="23" y="69"/>
                    </a:lnTo>
                    <a:lnTo>
                      <a:pt x="23" y="93"/>
                    </a:lnTo>
                    <a:lnTo>
                      <a:pt x="13" y="116"/>
                    </a:lnTo>
                    <a:lnTo>
                      <a:pt x="13" y="139"/>
                    </a:lnTo>
                    <a:lnTo>
                      <a:pt x="0" y="163"/>
                    </a:lnTo>
                    <a:lnTo>
                      <a:pt x="0" y="185"/>
                    </a:lnTo>
                    <a:lnTo>
                      <a:pt x="13" y="197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7" y="220"/>
                    </a:lnTo>
                    <a:lnTo>
                      <a:pt x="58" y="233"/>
                    </a:lnTo>
                    <a:lnTo>
                      <a:pt x="70" y="243"/>
                    </a:lnTo>
                    <a:lnTo>
                      <a:pt x="81" y="243"/>
                    </a:lnTo>
                    <a:lnTo>
                      <a:pt x="81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865600" y="4695840"/>
                <a:ext cx="2880" cy="82440"/>
              </a:xfrm>
              <a:custGeom>
                <a:avLst/>
                <a:gdLst/>
                <a:ahLst/>
                <a:rect l="l" t="t" r="r" b="b"/>
                <a:pathLst>
                  <a:path w="11" h="208">
                    <a:moveTo>
                      <a:pt x="0" y="0"/>
                    </a:moveTo>
                    <a:lnTo>
                      <a:pt x="0" y="208"/>
                    </a:lnTo>
                    <a:lnTo>
                      <a:pt x="11" y="2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865600" y="4695840"/>
                <a:ext cx="2880" cy="87120"/>
              </a:xfrm>
              <a:custGeom>
                <a:avLst/>
                <a:gdLst/>
                <a:ahLst/>
                <a:rect l="l" t="t" r="r" b="b"/>
                <a:pathLst>
                  <a:path w="11" h="220">
                    <a:moveTo>
                      <a:pt x="11" y="0"/>
                    </a:moveTo>
                    <a:lnTo>
                      <a:pt x="0" y="0"/>
                    </a:lnTo>
                    <a:lnTo>
                      <a:pt x="0" y="208"/>
                    </a:lnTo>
                    <a:lnTo>
                      <a:pt x="11" y="2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865600" y="4695840"/>
                <a:ext cx="2880" cy="87120"/>
              </a:xfrm>
              <a:custGeom>
                <a:avLst/>
                <a:gdLst/>
                <a:ahLst/>
                <a:rect l="l" t="t" r="r" b="b"/>
                <a:pathLst>
                  <a:path w="11" h="220">
                    <a:moveTo>
                      <a:pt x="11" y="0"/>
                    </a:moveTo>
                    <a:lnTo>
                      <a:pt x="0" y="0"/>
                    </a:lnTo>
                    <a:lnTo>
                      <a:pt x="11" y="208"/>
                    </a:lnTo>
                    <a:lnTo>
                      <a:pt x="11" y="2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868480" y="4695840"/>
                <a:ext cx="6480" cy="8712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0" y="0"/>
                    </a:moveTo>
                    <a:lnTo>
                      <a:pt x="0" y="220"/>
                    </a:lnTo>
                    <a:lnTo>
                      <a:pt x="12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868480" y="4695840"/>
                <a:ext cx="6480" cy="87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868480" y="4695840"/>
                <a:ext cx="6480" cy="8712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12" y="0"/>
                    </a:moveTo>
                    <a:lnTo>
                      <a:pt x="0" y="0"/>
                    </a:lnTo>
                    <a:lnTo>
                      <a:pt x="12" y="2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874960" y="4695840"/>
                <a:ext cx="3240" cy="8712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0" y="0"/>
                    </a:moveTo>
                    <a:lnTo>
                      <a:pt x="0" y="220"/>
                    </a:lnTo>
                    <a:lnTo>
                      <a:pt x="12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874960" y="4695840"/>
                <a:ext cx="3240" cy="87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874960" y="469584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24" h="232">
                    <a:moveTo>
                      <a:pt x="12" y="0"/>
                    </a:moveTo>
                    <a:lnTo>
                      <a:pt x="0" y="0"/>
                    </a:lnTo>
                    <a:lnTo>
                      <a:pt x="12" y="220"/>
                    </a:lnTo>
                    <a:lnTo>
                      <a:pt x="12" y="232"/>
                    </a:lnTo>
                    <a:lnTo>
                      <a:pt x="24" y="2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878200" y="4695840"/>
                <a:ext cx="6120" cy="92160"/>
              </a:xfrm>
              <a:custGeom>
                <a:avLst/>
                <a:gdLst/>
                <a:ahLst/>
                <a:rect l="l" t="t" r="r" b="b"/>
                <a:pathLst>
                  <a:path w="12" h="232">
                    <a:moveTo>
                      <a:pt x="12" y="0"/>
                    </a:moveTo>
                    <a:lnTo>
                      <a:pt x="0" y="0"/>
                    </a:lnTo>
                    <a:lnTo>
                      <a:pt x="0" y="220"/>
                    </a:lnTo>
                    <a:lnTo>
                      <a:pt x="0" y="232"/>
                    </a:lnTo>
                    <a:lnTo>
                      <a:pt x="12" y="2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878200" y="4695840"/>
                <a:ext cx="6120" cy="92160"/>
              </a:xfrm>
              <a:custGeom>
                <a:avLst/>
                <a:gdLst/>
                <a:ahLst/>
                <a:rect l="l" t="t" r="r" b="b"/>
                <a:pathLst>
                  <a:path w="12" h="232">
                    <a:moveTo>
                      <a:pt x="12" y="0"/>
                    </a:moveTo>
                    <a:lnTo>
                      <a:pt x="0" y="0"/>
                    </a:lnTo>
                    <a:lnTo>
                      <a:pt x="12" y="2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884320" y="4695840"/>
                <a:ext cx="3240" cy="92160"/>
              </a:xfrm>
              <a:custGeom>
                <a:avLst/>
                <a:gdLst/>
                <a:ahLst/>
                <a:rect l="l" t="t" r="r" b="b"/>
                <a:pathLst>
                  <a:path w="10" h="232">
                    <a:moveTo>
                      <a:pt x="0" y="0"/>
                    </a:moveTo>
                    <a:lnTo>
                      <a:pt x="0" y="232"/>
                    </a:lnTo>
                    <a:lnTo>
                      <a:pt x="10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884320" y="4695840"/>
                <a:ext cx="3240" cy="92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884320" y="4695840"/>
                <a:ext cx="3240" cy="92160"/>
              </a:xfrm>
              <a:custGeom>
                <a:avLst/>
                <a:gdLst/>
                <a:ahLst/>
                <a:rect l="l" t="t" r="r" b="b"/>
                <a:pathLst>
                  <a:path w="10" h="232">
                    <a:moveTo>
                      <a:pt x="10" y="0"/>
                    </a:moveTo>
                    <a:lnTo>
                      <a:pt x="0" y="0"/>
                    </a:lnTo>
                    <a:lnTo>
                      <a:pt x="10" y="23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887560" y="4695840"/>
                <a:ext cx="5040" cy="92160"/>
              </a:xfrm>
              <a:custGeom>
                <a:avLst/>
                <a:gdLst/>
                <a:ahLst/>
                <a:rect l="l" t="t" r="r" b="b"/>
                <a:pathLst>
                  <a:path w="13" h="232">
                    <a:moveTo>
                      <a:pt x="0" y="0"/>
                    </a:moveTo>
                    <a:lnTo>
                      <a:pt x="0" y="232"/>
                    </a:lnTo>
                    <a:lnTo>
                      <a:pt x="13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887560" y="4695840"/>
                <a:ext cx="5040" cy="92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887560" y="4695840"/>
                <a:ext cx="9720" cy="92160"/>
              </a:xfrm>
              <a:custGeom>
                <a:avLst/>
                <a:gdLst/>
                <a:ahLst/>
                <a:rect l="l" t="t" r="r" b="b"/>
                <a:pathLst>
                  <a:path w="24" h="232">
                    <a:moveTo>
                      <a:pt x="13" y="0"/>
                    </a:moveTo>
                    <a:lnTo>
                      <a:pt x="0" y="0"/>
                    </a:lnTo>
                    <a:lnTo>
                      <a:pt x="13" y="232"/>
                    </a:lnTo>
                    <a:lnTo>
                      <a:pt x="24" y="23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892600" y="4695840"/>
                <a:ext cx="4680" cy="92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892600" y="4691160"/>
                <a:ext cx="4680" cy="96840"/>
              </a:xfrm>
              <a:custGeom>
                <a:avLst/>
                <a:gdLst/>
                <a:ahLst/>
                <a:rect l="l" t="t" r="r" b="b"/>
                <a:pathLst>
                  <a:path w="11" h="244">
                    <a:moveTo>
                      <a:pt x="11" y="0"/>
                    </a:moveTo>
                    <a:lnTo>
                      <a:pt x="11" y="12"/>
                    </a:lnTo>
                    <a:lnTo>
                      <a:pt x="0" y="12"/>
                    </a:lnTo>
                    <a:lnTo>
                      <a:pt x="11" y="24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897280" y="4691160"/>
                <a:ext cx="4680" cy="96840"/>
              </a:xfrm>
              <a:custGeom>
                <a:avLst/>
                <a:gdLst/>
                <a:ahLst/>
                <a:rect l="l" t="t" r="r" b="b"/>
                <a:pathLst>
                  <a:path w="12" h="244">
                    <a:moveTo>
                      <a:pt x="0" y="0"/>
                    </a:moveTo>
                    <a:lnTo>
                      <a:pt x="0" y="12"/>
                    </a:lnTo>
                    <a:lnTo>
                      <a:pt x="0" y="244"/>
                    </a:lnTo>
                    <a:lnTo>
                      <a:pt x="12" y="2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897280" y="4691160"/>
                <a:ext cx="31680" cy="96840"/>
              </a:xfrm>
              <a:custGeom>
                <a:avLst/>
                <a:gdLst/>
                <a:ahLst/>
                <a:rect l="l" t="t" r="r" b="b"/>
                <a:pathLst>
                  <a:path w="82" h="244">
                    <a:moveTo>
                      <a:pt x="0" y="0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34" y="0"/>
                    </a:lnTo>
                    <a:lnTo>
                      <a:pt x="47" y="12"/>
                    </a:lnTo>
                    <a:lnTo>
                      <a:pt x="58" y="12"/>
                    </a:lnTo>
                    <a:lnTo>
                      <a:pt x="58" y="35"/>
                    </a:lnTo>
                    <a:lnTo>
                      <a:pt x="58" y="46"/>
                    </a:lnTo>
                    <a:lnTo>
                      <a:pt x="69" y="58"/>
                    </a:lnTo>
                    <a:lnTo>
                      <a:pt x="69" y="82"/>
                    </a:lnTo>
                    <a:lnTo>
                      <a:pt x="69" y="93"/>
                    </a:lnTo>
                    <a:lnTo>
                      <a:pt x="82" y="104"/>
                    </a:lnTo>
                    <a:lnTo>
                      <a:pt x="82" y="128"/>
                    </a:lnTo>
                    <a:lnTo>
                      <a:pt x="82" y="140"/>
                    </a:lnTo>
                    <a:lnTo>
                      <a:pt x="82" y="162"/>
                    </a:lnTo>
                    <a:lnTo>
                      <a:pt x="69" y="186"/>
                    </a:lnTo>
                    <a:lnTo>
                      <a:pt x="58" y="197"/>
                    </a:lnTo>
                    <a:lnTo>
                      <a:pt x="47" y="210"/>
                    </a:lnTo>
                    <a:lnTo>
                      <a:pt x="34" y="220"/>
                    </a:lnTo>
                    <a:lnTo>
                      <a:pt x="24" y="232"/>
                    </a:lnTo>
                    <a:lnTo>
                      <a:pt x="12" y="232"/>
                    </a:lnTo>
                    <a:lnTo>
                      <a:pt x="0" y="2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183200" y="4557600"/>
                <a:ext cx="55440" cy="82800"/>
              </a:xfrm>
              <a:custGeom>
                <a:avLst/>
                <a:gdLst/>
                <a:ahLst/>
                <a:rect l="l" t="t" r="r" b="b"/>
                <a:pathLst>
                  <a:path w="139" h="209">
                    <a:moveTo>
                      <a:pt x="57" y="0"/>
                    </a:moveTo>
                    <a:lnTo>
                      <a:pt x="70" y="0"/>
                    </a:lnTo>
                    <a:lnTo>
                      <a:pt x="81" y="12"/>
                    </a:lnTo>
                    <a:lnTo>
                      <a:pt x="93" y="12"/>
                    </a:lnTo>
                    <a:lnTo>
                      <a:pt x="104" y="12"/>
                    </a:lnTo>
                    <a:lnTo>
                      <a:pt x="115" y="12"/>
                    </a:lnTo>
                    <a:lnTo>
                      <a:pt x="128" y="12"/>
                    </a:lnTo>
                    <a:lnTo>
                      <a:pt x="139" y="12"/>
                    </a:lnTo>
                    <a:lnTo>
                      <a:pt x="139" y="34"/>
                    </a:lnTo>
                    <a:lnTo>
                      <a:pt x="139" y="70"/>
                    </a:lnTo>
                    <a:lnTo>
                      <a:pt x="139" y="93"/>
                    </a:lnTo>
                    <a:lnTo>
                      <a:pt x="128" y="116"/>
                    </a:lnTo>
                    <a:lnTo>
                      <a:pt x="128" y="138"/>
                    </a:lnTo>
                    <a:lnTo>
                      <a:pt x="128" y="162"/>
                    </a:lnTo>
                    <a:lnTo>
                      <a:pt x="128" y="186"/>
                    </a:lnTo>
                    <a:lnTo>
                      <a:pt x="128" y="209"/>
                    </a:lnTo>
                    <a:lnTo>
                      <a:pt x="104" y="209"/>
                    </a:lnTo>
                    <a:lnTo>
                      <a:pt x="93" y="209"/>
                    </a:lnTo>
                    <a:lnTo>
                      <a:pt x="70" y="209"/>
                    </a:lnTo>
                    <a:lnTo>
                      <a:pt x="57" y="209"/>
                    </a:lnTo>
                    <a:lnTo>
                      <a:pt x="46" y="196"/>
                    </a:lnTo>
                    <a:lnTo>
                      <a:pt x="23" y="196"/>
                    </a:lnTo>
                    <a:lnTo>
                      <a:pt x="11" y="196"/>
                    </a:lnTo>
                    <a:lnTo>
                      <a:pt x="0" y="19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732040" y="439092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0" y="35"/>
                    </a:moveTo>
                    <a:lnTo>
                      <a:pt x="13" y="35"/>
                    </a:lnTo>
                    <a:lnTo>
                      <a:pt x="24" y="35"/>
                    </a:lnTo>
                    <a:lnTo>
                      <a:pt x="34" y="35"/>
                    </a:lnTo>
                    <a:lnTo>
                      <a:pt x="34" y="24"/>
                    </a:lnTo>
                    <a:lnTo>
                      <a:pt x="47" y="12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47" y="0"/>
                    </a:lnTo>
                    <a:lnTo>
                      <a:pt x="34" y="0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13" y="12"/>
                    </a:lnTo>
                    <a:lnTo>
                      <a:pt x="0" y="24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763720" y="43909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0"/>
                    </a:moveTo>
                    <a:lnTo>
                      <a:pt x="0" y="12"/>
                    </a:lnTo>
                    <a:lnTo>
                      <a:pt x="0" y="24"/>
                    </a:lnTo>
                    <a:lnTo>
                      <a:pt x="10" y="24"/>
                    </a:lnTo>
                    <a:lnTo>
                      <a:pt x="22" y="24"/>
                    </a:lnTo>
                    <a:lnTo>
                      <a:pt x="22" y="12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225520" y="5224320"/>
                <a:ext cx="235080" cy="198720"/>
              </a:xfrm>
              <a:custGeom>
                <a:avLst/>
                <a:gdLst/>
                <a:ahLst/>
                <a:rect l="l" t="t" r="r" b="b"/>
                <a:pathLst>
                  <a:path w="591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1" y="500"/>
                    </a:lnTo>
                    <a:lnTo>
                      <a:pt x="591" y="476"/>
                    </a:lnTo>
                    <a:lnTo>
                      <a:pt x="591" y="418"/>
                    </a:lnTo>
                    <a:lnTo>
                      <a:pt x="591" y="349"/>
                    </a:lnTo>
                    <a:lnTo>
                      <a:pt x="591" y="256"/>
                    </a:lnTo>
                    <a:lnTo>
                      <a:pt x="591" y="164"/>
                    </a:lnTo>
                    <a:lnTo>
                      <a:pt x="591" y="94"/>
                    </a:lnTo>
                    <a:lnTo>
                      <a:pt x="591" y="36"/>
                    </a:lnTo>
                    <a:lnTo>
                      <a:pt x="591" y="12"/>
                    </a:lnTo>
                    <a:lnTo>
                      <a:pt x="521" y="70"/>
                    </a:lnTo>
                    <a:lnTo>
                      <a:pt x="452" y="128"/>
                    </a:lnTo>
                    <a:lnTo>
                      <a:pt x="382" y="151"/>
                    </a:lnTo>
                    <a:lnTo>
                      <a:pt x="301" y="174"/>
                    </a:lnTo>
                    <a:lnTo>
                      <a:pt x="232" y="174"/>
                    </a:lnTo>
                    <a:lnTo>
                      <a:pt x="150" y="140"/>
                    </a:lnTo>
                    <a:lnTo>
                      <a:pt x="69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460600" y="5224320"/>
                <a:ext cx="235080" cy="198720"/>
              </a:xfrm>
              <a:custGeom>
                <a:avLst/>
                <a:gdLst/>
                <a:ahLst/>
                <a:rect l="l" t="t" r="r" b="b"/>
                <a:pathLst>
                  <a:path w="590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78" y="500"/>
                    </a:lnTo>
                    <a:lnTo>
                      <a:pt x="578" y="476"/>
                    </a:lnTo>
                    <a:lnTo>
                      <a:pt x="578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590" y="12"/>
                    </a:lnTo>
                    <a:lnTo>
                      <a:pt x="520" y="70"/>
                    </a:lnTo>
                    <a:lnTo>
                      <a:pt x="451" y="128"/>
                    </a:lnTo>
                    <a:lnTo>
                      <a:pt x="370" y="151"/>
                    </a:lnTo>
                    <a:lnTo>
                      <a:pt x="300" y="174"/>
                    </a:lnTo>
                    <a:lnTo>
                      <a:pt x="220" y="174"/>
                    </a:lnTo>
                    <a:lnTo>
                      <a:pt x="150" y="140"/>
                    </a:lnTo>
                    <a:lnTo>
                      <a:pt x="68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690640" y="5224320"/>
                <a:ext cx="233640" cy="198720"/>
              </a:xfrm>
              <a:custGeom>
                <a:avLst/>
                <a:gdLst/>
                <a:ahLst/>
                <a:rect l="l" t="t" r="r" b="b"/>
                <a:pathLst>
                  <a:path w="590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0" y="500"/>
                    </a:lnTo>
                    <a:lnTo>
                      <a:pt x="590" y="476"/>
                    </a:lnTo>
                    <a:lnTo>
                      <a:pt x="590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590" y="12"/>
                    </a:lnTo>
                    <a:lnTo>
                      <a:pt x="521" y="70"/>
                    </a:lnTo>
                    <a:lnTo>
                      <a:pt x="451" y="128"/>
                    </a:lnTo>
                    <a:lnTo>
                      <a:pt x="382" y="151"/>
                    </a:lnTo>
                    <a:lnTo>
                      <a:pt x="301" y="174"/>
                    </a:lnTo>
                    <a:lnTo>
                      <a:pt x="232" y="174"/>
                    </a:lnTo>
                    <a:lnTo>
                      <a:pt x="151" y="140"/>
                    </a:lnTo>
                    <a:lnTo>
                      <a:pt x="7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919240" y="5224320"/>
                <a:ext cx="239760" cy="198720"/>
              </a:xfrm>
              <a:custGeom>
                <a:avLst/>
                <a:gdLst/>
                <a:ahLst/>
                <a:rect l="l" t="t" r="r" b="b"/>
                <a:pathLst>
                  <a:path w="602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0" y="500"/>
                    </a:lnTo>
                    <a:lnTo>
                      <a:pt x="590" y="476"/>
                    </a:lnTo>
                    <a:lnTo>
                      <a:pt x="590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602" y="12"/>
                    </a:lnTo>
                    <a:lnTo>
                      <a:pt x="532" y="70"/>
                    </a:lnTo>
                    <a:lnTo>
                      <a:pt x="462" y="128"/>
                    </a:lnTo>
                    <a:lnTo>
                      <a:pt x="383" y="151"/>
                    </a:lnTo>
                    <a:lnTo>
                      <a:pt x="313" y="174"/>
                    </a:lnTo>
                    <a:lnTo>
                      <a:pt x="231" y="174"/>
                    </a:lnTo>
                    <a:lnTo>
                      <a:pt x="150" y="140"/>
                    </a:lnTo>
                    <a:lnTo>
                      <a:pt x="81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154320" y="5224320"/>
                <a:ext cx="235080" cy="198720"/>
              </a:xfrm>
              <a:custGeom>
                <a:avLst/>
                <a:gdLst/>
                <a:ahLst/>
                <a:rect l="l" t="t" r="r" b="b"/>
                <a:pathLst>
                  <a:path w="591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1" y="500"/>
                    </a:lnTo>
                    <a:lnTo>
                      <a:pt x="591" y="476"/>
                    </a:lnTo>
                    <a:lnTo>
                      <a:pt x="591" y="418"/>
                    </a:lnTo>
                    <a:lnTo>
                      <a:pt x="591" y="349"/>
                    </a:lnTo>
                    <a:lnTo>
                      <a:pt x="591" y="256"/>
                    </a:lnTo>
                    <a:lnTo>
                      <a:pt x="591" y="164"/>
                    </a:lnTo>
                    <a:lnTo>
                      <a:pt x="591" y="94"/>
                    </a:lnTo>
                    <a:lnTo>
                      <a:pt x="591" y="36"/>
                    </a:lnTo>
                    <a:lnTo>
                      <a:pt x="591" y="12"/>
                    </a:lnTo>
                    <a:lnTo>
                      <a:pt x="520" y="70"/>
                    </a:lnTo>
                    <a:lnTo>
                      <a:pt x="451" y="128"/>
                    </a:lnTo>
                    <a:lnTo>
                      <a:pt x="383" y="151"/>
                    </a:lnTo>
                    <a:lnTo>
                      <a:pt x="302" y="174"/>
                    </a:lnTo>
                    <a:lnTo>
                      <a:pt x="220" y="174"/>
                    </a:lnTo>
                    <a:lnTo>
                      <a:pt x="150" y="140"/>
                    </a:lnTo>
                    <a:lnTo>
                      <a:pt x="69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384720" y="5224320"/>
                <a:ext cx="233280" cy="198720"/>
              </a:xfrm>
              <a:custGeom>
                <a:avLst/>
                <a:gdLst/>
                <a:ahLst/>
                <a:rect l="l" t="t" r="r" b="b"/>
                <a:pathLst>
                  <a:path w="589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89" y="500"/>
                    </a:lnTo>
                    <a:lnTo>
                      <a:pt x="589" y="476"/>
                    </a:lnTo>
                    <a:lnTo>
                      <a:pt x="589" y="418"/>
                    </a:lnTo>
                    <a:lnTo>
                      <a:pt x="589" y="349"/>
                    </a:lnTo>
                    <a:lnTo>
                      <a:pt x="589" y="256"/>
                    </a:lnTo>
                    <a:lnTo>
                      <a:pt x="589" y="164"/>
                    </a:lnTo>
                    <a:lnTo>
                      <a:pt x="589" y="94"/>
                    </a:lnTo>
                    <a:lnTo>
                      <a:pt x="589" y="36"/>
                    </a:lnTo>
                    <a:lnTo>
                      <a:pt x="589" y="12"/>
                    </a:lnTo>
                    <a:lnTo>
                      <a:pt x="532" y="70"/>
                    </a:lnTo>
                    <a:lnTo>
                      <a:pt x="452" y="128"/>
                    </a:lnTo>
                    <a:lnTo>
                      <a:pt x="382" y="151"/>
                    </a:lnTo>
                    <a:lnTo>
                      <a:pt x="313" y="174"/>
                    </a:lnTo>
                    <a:lnTo>
                      <a:pt x="231" y="174"/>
                    </a:lnTo>
                    <a:lnTo>
                      <a:pt x="151" y="140"/>
                    </a:lnTo>
                    <a:lnTo>
                      <a:pt x="81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618000" y="5224320"/>
                <a:ext cx="234720" cy="198720"/>
              </a:xfrm>
              <a:custGeom>
                <a:avLst/>
                <a:gdLst/>
                <a:ahLst/>
                <a:rect l="l" t="t" r="r" b="b"/>
                <a:pathLst>
                  <a:path w="591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1" y="500"/>
                    </a:lnTo>
                    <a:lnTo>
                      <a:pt x="591" y="476"/>
                    </a:lnTo>
                    <a:lnTo>
                      <a:pt x="591" y="418"/>
                    </a:lnTo>
                    <a:lnTo>
                      <a:pt x="591" y="349"/>
                    </a:lnTo>
                    <a:lnTo>
                      <a:pt x="591" y="256"/>
                    </a:lnTo>
                    <a:lnTo>
                      <a:pt x="591" y="164"/>
                    </a:lnTo>
                    <a:lnTo>
                      <a:pt x="591" y="94"/>
                    </a:lnTo>
                    <a:lnTo>
                      <a:pt x="591" y="36"/>
                    </a:lnTo>
                    <a:lnTo>
                      <a:pt x="591" y="12"/>
                    </a:lnTo>
                    <a:lnTo>
                      <a:pt x="522" y="70"/>
                    </a:lnTo>
                    <a:lnTo>
                      <a:pt x="454" y="128"/>
                    </a:lnTo>
                    <a:lnTo>
                      <a:pt x="383" y="151"/>
                    </a:lnTo>
                    <a:lnTo>
                      <a:pt x="302" y="174"/>
                    </a:lnTo>
                    <a:lnTo>
                      <a:pt x="220" y="174"/>
                    </a:lnTo>
                    <a:lnTo>
                      <a:pt x="152" y="140"/>
                    </a:lnTo>
                    <a:lnTo>
                      <a:pt x="71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848040" y="5224320"/>
                <a:ext cx="233280" cy="198720"/>
              </a:xfrm>
              <a:custGeom>
                <a:avLst/>
                <a:gdLst/>
                <a:ahLst/>
                <a:rect l="l" t="t" r="r" b="b"/>
                <a:pathLst>
                  <a:path w="591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1" y="500"/>
                    </a:lnTo>
                    <a:lnTo>
                      <a:pt x="591" y="476"/>
                    </a:lnTo>
                    <a:lnTo>
                      <a:pt x="591" y="418"/>
                    </a:lnTo>
                    <a:lnTo>
                      <a:pt x="591" y="349"/>
                    </a:lnTo>
                    <a:lnTo>
                      <a:pt x="591" y="256"/>
                    </a:lnTo>
                    <a:lnTo>
                      <a:pt x="591" y="164"/>
                    </a:lnTo>
                    <a:lnTo>
                      <a:pt x="591" y="94"/>
                    </a:lnTo>
                    <a:lnTo>
                      <a:pt x="591" y="36"/>
                    </a:lnTo>
                    <a:lnTo>
                      <a:pt x="591" y="12"/>
                    </a:lnTo>
                    <a:lnTo>
                      <a:pt x="523" y="70"/>
                    </a:lnTo>
                    <a:lnTo>
                      <a:pt x="452" y="128"/>
                    </a:lnTo>
                    <a:lnTo>
                      <a:pt x="383" y="151"/>
                    </a:lnTo>
                    <a:lnTo>
                      <a:pt x="302" y="174"/>
                    </a:lnTo>
                    <a:lnTo>
                      <a:pt x="232" y="174"/>
                    </a:lnTo>
                    <a:lnTo>
                      <a:pt x="151" y="140"/>
                    </a:lnTo>
                    <a:lnTo>
                      <a:pt x="82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081320" y="5224320"/>
                <a:ext cx="235080" cy="198720"/>
              </a:xfrm>
              <a:custGeom>
                <a:avLst/>
                <a:gdLst/>
                <a:ahLst/>
                <a:rect l="l" t="t" r="r" b="b"/>
                <a:pathLst>
                  <a:path w="590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0" y="500"/>
                    </a:lnTo>
                    <a:lnTo>
                      <a:pt x="590" y="476"/>
                    </a:lnTo>
                    <a:lnTo>
                      <a:pt x="590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590" y="12"/>
                    </a:lnTo>
                    <a:lnTo>
                      <a:pt x="522" y="70"/>
                    </a:lnTo>
                    <a:lnTo>
                      <a:pt x="452" y="128"/>
                    </a:lnTo>
                    <a:lnTo>
                      <a:pt x="370" y="151"/>
                    </a:lnTo>
                    <a:lnTo>
                      <a:pt x="301" y="174"/>
                    </a:lnTo>
                    <a:lnTo>
                      <a:pt x="221" y="174"/>
                    </a:lnTo>
                    <a:lnTo>
                      <a:pt x="150" y="140"/>
                    </a:lnTo>
                    <a:lnTo>
                      <a:pt x="7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311720" y="5224320"/>
                <a:ext cx="234720" cy="198720"/>
              </a:xfrm>
              <a:custGeom>
                <a:avLst/>
                <a:gdLst/>
                <a:ahLst/>
                <a:rect l="l" t="t" r="r" b="b"/>
                <a:pathLst>
                  <a:path w="590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0" y="500"/>
                    </a:lnTo>
                    <a:lnTo>
                      <a:pt x="590" y="476"/>
                    </a:lnTo>
                    <a:lnTo>
                      <a:pt x="590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590" y="12"/>
                    </a:lnTo>
                    <a:lnTo>
                      <a:pt x="520" y="70"/>
                    </a:lnTo>
                    <a:lnTo>
                      <a:pt x="451" y="128"/>
                    </a:lnTo>
                    <a:lnTo>
                      <a:pt x="381" y="151"/>
                    </a:lnTo>
                    <a:lnTo>
                      <a:pt x="300" y="174"/>
                    </a:lnTo>
                    <a:lnTo>
                      <a:pt x="231" y="174"/>
                    </a:lnTo>
                    <a:lnTo>
                      <a:pt x="149" y="140"/>
                    </a:lnTo>
                    <a:lnTo>
                      <a:pt x="79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541760" y="5224320"/>
                <a:ext cx="239760" cy="198720"/>
              </a:xfrm>
              <a:custGeom>
                <a:avLst/>
                <a:gdLst/>
                <a:ahLst/>
                <a:rect l="l" t="t" r="r" b="b"/>
                <a:pathLst>
                  <a:path w="602" h="500">
                    <a:moveTo>
                      <a:pt x="0" y="0"/>
                    </a:moveTo>
                    <a:lnTo>
                      <a:pt x="0" y="500"/>
                    </a:lnTo>
                    <a:lnTo>
                      <a:pt x="602" y="500"/>
                    </a:lnTo>
                    <a:lnTo>
                      <a:pt x="602" y="476"/>
                    </a:lnTo>
                    <a:lnTo>
                      <a:pt x="602" y="418"/>
                    </a:lnTo>
                    <a:lnTo>
                      <a:pt x="602" y="349"/>
                    </a:lnTo>
                    <a:lnTo>
                      <a:pt x="602" y="256"/>
                    </a:lnTo>
                    <a:lnTo>
                      <a:pt x="602" y="164"/>
                    </a:lnTo>
                    <a:lnTo>
                      <a:pt x="602" y="94"/>
                    </a:lnTo>
                    <a:lnTo>
                      <a:pt x="602" y="36"/>
                    </a:lnTo>
                    <a:lnTo>
                      <a:pt x="602" y="12"/>
                    </a:lnTo>
                    <a:lnTo>
                      <a:pt x="532" y="70"/>
                    </a:lnTo>
                    <a:lnTo>
                      <a:pt x="463" y="128"/>
                    </a:lnTo>
                    <a:lnTo>
                      <a:pt x="381" y="151"/>
                    </a:lnTo>
                    <a:lnTo>
                      <a:pt x="312" y="174"/>
                    </a:lnTo>
                    <a:lnTo>
                      <a:pt x="231" y="174"/>
                    </a:lnTo>
                    <a:lnTo>
                      <a:pt x="162" y="140"/>
                    </a:lnTo>
                    <a:lnTo>
                      <a:pt x="81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>
              <a:off x="4775040" y="5224320"/>
              <a:ext cx="23508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1" y="70"/>
                  </a:lnTo>
                  <a:lnTo>
                    <a:pt x="451" y="128"/>
                  </a:lnTo>
                  <a:lnTo>
                    <a:pt x="382" y="151"/>
                  </a:lnTo>
                  <a:lnTo>
                    <a:pt x="301" y="174"/>
                  </a:lnTo>
                  <a:lnTo>
                    <a:pt x="231" y="174"/>
                  </a:lnTo>
                  <a:lnTo>
                    <a:pt x="150" y="140"/>
                  </a:lnTo>
                  <a:lnTo>
                    <a:pt x="7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05440" y="5224320"/>
              <a:ext cx="23472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32" y="70"/>
                  </a:lnTo>
                  <a:lnTo>
                    <a:pt x="462" y="128"/>
                  </a:lnTo>
                  <a:lnTo>
                    <a:pt x="382" y="151"/>
                  </a:lnTo>
                  <a:lnTo>
                    <a:pt x="313" y="174"/>
                  </a:lnTo>
                  <a:lnTo>
                    <a:pt x="231" y="174"/>
                  </a:lnTo>
                  <a:lnTo>
                    <a:pt x="151" y="140"/>
                  </a:lnTo>
                  <a:lnTo>
                    <a:pt x="81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240160" y="5224320"/>
              <a:ext cx="23364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0" y="70"/>
                  </a:lnTo>
                  <a:lnTo>
                    <a:pt x="452" y="128"/>
                  </a:lnTo>
                  <a:lnTo>
                    <a:pt x="382" y="151"/>
                  </a:lnTo>
                  <a:lnTo>
                    <a:pt x="301" y="174"/>
                  </a:lnTo>
                  <a:lnTo>
                    <a:pt x="231" y="174"/>
                  </a:lnTo>
                  <a:lnTo>
                    <a:pt x="151" y="140"/>
                  </a:lnTo>
                  <a:lnTo>
                    <a:pt x="69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68760" y="5224320"/>
              <a:ext cx="23508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33" y="70"/>
                  </a:lnTo>
                  <a:lnTo>
                    <a:pt x="452" y="128"/>
                  </a:lnTo>
                  <a:lnTo>
                    <a:pt x="383" y="151"/>
                  </a:lnTo>
                  <a:lnTo>
                    <a:pt x="313" y="174"/>
                  </a:lnTo>
                  <a:lnTo>
                    <a:pt x="231" y="174"/>
                  </a:lnTo>
                  <a:lnTo>
                    <a:pt x="152" y="140"/>
                  </a:lnTo>
                  <a:lnTo>
                    <a:pt x="82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03840" y="5224320"/>
              <a:ext cx="233280" cy="198720"/>
            </a:xfrm>
            <a:custGeom>
              <a:avLst/>
              <a:gdLst/>
              <a:ahLst/>
              <a:rect l="l" t="t" r="r" b="b"/>
              <a:pathLst>
                <a:path w="591" h="500">
                  <a:moveTo>
                    <a:pt x="0" y="0"/>
                  </a:moveTo>
                  <a:lnTo>
                    <a:pt x="0" y="500"/>
                  </a:lnTo>
                  <a:lnTo>
                    <a:pt x="591" y="500"/>
                  </a:lnTo>
                  <a:lnTo>
                    <a:pt x="591" y="476"/>
                  </a:lnTo>
                  <a:lnTo>
                    <a:pt x="591" y="418"/>
                  </a:lnTo>
                  <a:lnTo>
                    <a:pt x="591" y="349"/>
                  </a:lnTo>
                  <a:lnTo>
                    <a:pt x="591" y="256"/>
                  </a:lnTo>
                  <a:lnTo>
                    <a:pt x="591" y="164"/>
                  </a:lnTo>
                  <a:lnTo>
                    <a:pt x="591" y="94"/>
                  </a:lnTo>
                  <a:lnTo>
                    <a:pt x="591" y="36"/>
                  </a:lnTo>
                  <a:lnTo>
                    <a:pt x="591" y="12"/>
                  </a:lnTo>
                  <a:lnTo>
                    <a:pt x="523" y="70"/>
                  </a:lnTo>
                  <a:lnTo>
                    <a:pt x="452" y="128"/>
                  </a:lnTo>
                  <a:lnTo>
                    <a:pt x="383" y="151"/>
                  </a:lnTo>
                  <a:lnTo>
                    <a:pt x="302" y="174"/>
                  </a:lnTo>
                  <a:lnTo>
                    <a:pt x="221" y="174"/>
                  </a:lnTo>
                  <a:lnTo>
                    <a:pt x="152" y="140"/>
                  </a:lnTo>
                  <a:lnTo>
                    <a:pt x="71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34240" y="5224320"/>
              <a:ext cx="233280" cy="198720"/>
            </a:xfrm>
            <a:custGeom>
              <a:avLst/>
              <a:gdLst/>
              <a:ahLst/>
              <a:rect l="l" t="t" r="r" b="b"/>
              <a:pathLst>
                <a:path w="591" h="500">
                  <a:moveTo>
                    <a:pt x="0" y="0"/>
                  </a:moveTo>
                  <a:lnTo>
                    <a:pt x="0" y="500"/>
                  </a:lnTo>
                  <a:lnTo>
                    <a:pt x="591" y="500"/>
                  </a:lnTo>
                  <a:lnTo>
                    <a:pt x="591" y="476"/>
                  </a:lnTo>
                  <a:lnTo>
                    <a:pt x="591" y="418"/>
                  </a:lnTo>
                  <a:lnTo>
                    <a:pt x="591" y="349"/>
                  </a:lnTo>
                  <a:lnTo>
                    <a:pt x="591" y="256"/>
                  </a:lnTo>
                  <a:lnTo>
                    <a:pt x="591" y="164"/>
                  </a:lnTo>
                  <a:lnTo>
                    <a:pt x="591" y="94"/>
                  </a:lnTo>
                  <a:lnTo>
                    <a:pt x="591" y="36"/>
                  </a:lnTo>
                  <a:lnTo>
                    <a:pt x="591" y="12"/>
                  </a:lnTo>
                  <a:lnTo>
                    <a:pt x="521" y="70"/>
                  </a:lnTo>
                  <a:lnTo>
                    <a:pt x="451" y="128"/>
                  </a:lnTo>
                  <a:lnTo>
                    <a:pt x="381" y="151"/>
                  </a:lnTo>
                  <a:lnTo>
                    <a:pt x="300" y="174"/>
                  </a:lnTo>
                  <a:lnTo>
                    <a:pt x="232" y="174"/>
                  </a:lnTo>
                  <a:lnTo>
                    <a:pt x="150" y="140"/>
                  </a:lnTo>
                  <a:lnTo>
                    <a:pt x="81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167520" y="5224320"/>
              <a:ext cx="23472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0" y="70"/>
                  </a:lnTo>
                  <a:lnTo>
                    <a:pt x="451" y="128"/>
                  </a:lnTo>
                  <a:lnTo>
                    <a:pt x="369" y="151"/>
                  </a:lnTo>
                  <a:lnTo>
                    <a:pt x="299" y="174"/>
                  </a:lnTo>
                  <a:lnTo>
                    <a:pt x="220" y="174"/>
                  </a:lnTo>
                  <a:lnTo>
                    <a:pt x="149" y="140"/>
                  </a:lnTo>
                  <a:lnTo>
                    <a:pt x="68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97560" y="5224320"/>
              <a:ext cx="23328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1" y="70"/>
                  </a:lnTo>
                  <a:lnTo>
                    <a:pt x="451" y="128"/>
                  </a:lnTo>
                  <a:lnTo>
                    <a:pt x="381" y="151"/>
                  </a:lnTo>
                  <a:lnTo>
                    <a:pt x="301" y="174"/>
                  </a:lnTo>
                  <a:lnTo>
                    <a:pt x="232" y="174"/>
                  </a:lnTo>
                  <a:lnTo>
                    <a:pt x="150" y="140"/>
                  </a:lnTo>
                  <a:lnTo>
                    <a:pt x="8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630840" y="5224320"/>
              <a:ext cx="23508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79" y="500"/>
                  </a:lnTo>
                  <a:lnTo>
                    <a:pt x="579" y="476"/>
                  </a:lnTo>
                  <a:lnTo>
                    <a:pt x="579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1" y="70"/>
                  </a:lnTo>
                  <a:lnTo>
                    <a:pt x="451" y="128"/>
                  </a:lnTo>
                  <a:lnTo>
                    <a:pt x="370" y="151"/>
                  </a:lnTo>
                  <a:lnTo>
                    <a:pt x="301" y="174"/>
                  </a:lnTo>
                  <a:lnTo>
                    <a:pt x="220" y="174"/>
                  </a:lnTo>
                  <a:lnTo>
                    <a:pt x="151" y="140"/>
                  </a:lnTo>
                  <a:lnTo>
                    <a:pt x="7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457440" y="4691160"/>
              <a:ext cx="119160" cy="82440"/>
            </a:xfrm>
            <a:custGeom>
              <a:avLst/>
              <a:gdLst/>
              <a:ahLst/>
              <a:rect l="l" t="t" r="r" b="b"/>
              <a:pathLst>
                <a:path w="301" h="210">
                  <a:moveTo>
                    <a:pt x="0" y="0"/>
                  </a:moveTo>
                  <a:lnTo>
                    <a:pt x="70" y="12"/>
                  </a:lnTo>
                  <a:lnTo>
                    <a:pt x="139" y="24"/>
                  </a:lnTo>
                  <a:lnTo>
                    <a:pt x="186" y="46"/>
                  </a:lnTo>
                  <a:lnTo>
                    <a:pt x="220" y="82"/>
                  </a:lnTo>
                  <a:lnTo>
                    <a:pt x="243" y="116"/>
                  </a:lnTo>
                  <a:lnTo>
                    <a:pt x="267" y="152"/>
                  </a:lnTo>
                  <a:lnTo>
                    <a:pt x="289" y="174"/>
                  </a:lnTo>
                  <a:lnTo>
                    <a:pt x="301" y="2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457440" y="4691160"/>
              <a:ext cx="119160" cy="82440"/>
            </a:xfrm>
            <a:custGeom>
              <a:avLst/>
              <a:gdLst/>
              <a:ahLst/>
              <a:rect l="l" t="t" r="r" b="b"/>
              <a:pathLst>
                <a:path w="301" h="210">
                  <a:moveTo>
                    <a:pt x="0" y="0"/>
                  </a:moveTo>
                  <a:lnTo>
                    <a:pt x="70" y="12"/>
                  </a:lnTo>
                  <a:lnTo>
                    <a:pt x="139" y="24"/>
                  </a:lnTo>
                  <a:lnTo>
                    <a:pt x="186" y="46"/>
                  </a:lnTo>
                  <a:lnTo>
                    <a:pt x="220" y="82"/>
                  </a:lnTo>
                  <a:lnTo>
                    <a:pt x="243" y="116"/>
                  </a:lnTo>
                  <a:lnTo>
                    <a:pt x="267" y="152"/>
                  </a:lnTo>
                  <a:lnTo>
                    <a:pt x="289" y="174"/>
                  </a:lnTo>
                  <a:lnTo>
                    <a:pt x="301" y="2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443400" y="4754520"/>
              <a:ext cx="147600" cy="101520"/>
            </a:xfrm>
            <a:custGeom>
              <a:avLst/>
              <a:gdLst/>
              <a:ahLst/>
              <a:rect l="l" t="t" r="r" b="b"/>
              <a:pathLst>
                <a:path w="369" h="256">
                  <a:moveTo>
                    <a:pt x="0" y="0"/>
                  </a:moveTo>
                  <a:lnTo>
                    <a:pt x="34" y="24"/>
                  </a:lnTo>
                  <a:lnTo>
                    <a:pt x="80" y="48"/>
                  </a:lnTo>
                  <a:lnTo>
                    <a:pt x="126" y="82"/>
                  </a:lnTo>
                  <a:lnTo>
                    <a:pt x="184" y="116"/>
                  </a:lnTo>
                  <a:lnTo>
                    <a:pt x="231" y="164"/>
                  </a:lnTo>
                  <a:lnTo>
                    <a:pt x="277" y="198"/>
                  </a:lnTo>
                  <a:lnTo>
                    <a:pt x="323" y="233"/>
                  </a:lnTo>
                  <a:lnTo>
                    <a:pt x="369" y="2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443400" y="4754520"/>
              <a:ext cx="147600" cy="101520"/>
            </a:xfrm>
            <a:custGeom>
              <a:avLst/>
              <a:gdLst/>
              <a:ahLst/>
              <a:rect l="l" t="t" r="r" b="b"/>
              <a:pathLst>
                <a:path w="369" h="256">
                  <a:moveTo>
                    <a:pt x="0" y="0"/>
                  </a:moveTo>
                  <a:lnTo>
                    <a:pt x="34" y="24"/>
                  </a:lnTo>
                  <a:lnTo>
                    <a:pt x="80" y="48"/>
                  </a:lnTo>
                  <a:lnTo>
                    <a:pt x="126" y="82"/>
                  </a:lnTo>
                  <a:lnTo>
                    <a:pt x="184" y="116"/>
                  </a:lnTo>
                  <a:lnTo>
                    <a:pt x="231" y="164"/>
                  </a:lnTo>
                  <a:lnTo>
                    <a:pt x="277" y="198"/>
                  </a:lnTo>
                  <a:lnTo>
                    <a:pt x="323" y="233"/>
                  </a:lnTo>
                  <a:lnTo>
                    <a:pt x="369" y="2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072120" y="4829040"/>
              <a:ext cx="41400" cy="77760"/>
            </a:xfrm>
            <a:custGeom>
              <a:avLst/>
              <a:gdLst/>
              <a:ahLst/>
              <a:rect l="l" t="t" r="r" b="b"/>
              <a:pathLst>
                <a:path w="104" h="198">
                  <a:moveTo>
                    <a:pt x="0" y="0"/>
                  </a:moveTo>
                  <a:lnTo>
                    <a:pt x="13" y="23"/>
                  </a:lnTo>
                  <a:lnTo>
                    <a:pt x="13" y="58"/>
                  </a:lnTo>
                  <a:lnTo>
                    <a:pt x="13" y="81"/>
                  </a:lnTo>
                  <a:lnTo>
                    <a:pt x="13" y="105"/>
                  </a:lnTo>
                  <a:lnTo>
                    <a:pt x="23" y="128"/>
                  </a:lnTo>
                  <a:lnTo>
                    <a:pt x="34" y="163"/>
                  </a:lnTo>
                  <a:lnTo>
                    <a:pt x="58" y="186"/>
                  </a:lnTo>
                  <a:lnTo>
                    <a:pt x="104" y="1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072120" y="4829040"/>
              <a:ext cx="41400" cy="77760"/>
            </a:xfrm>
            <a:custGeom>
              <a:avLst/>
              <a:gdLst/>
              <a:ahLst/>
              <a:rect l="l" t="t" r="r" b="b"/>
              <a:pathLst>
                <a:path w="104" h="198">
                  <a:moveTo>
                    <a:pt x="0" y="0"/>
                  </a:moveTo>
                  <a:lnTo>
                    <a:pt x="13" y="23"/>
                  </a:lnTo>
                  <a:lnTo>
                    <a:pt x="13" y="58"/>
                  </a:lnTo>
                  <a:lnTo>
                    <a:pt x="13" y="81"/>
                  </a:lnTo>
                  <a:lnTo>
                    <a:pt x="13" y="105"/>
                  </a:lnTo>
                  <a:lnTo>
                    <a:pt x="23" y="128"/>
                  </a:lnTo>
                  <a:lnTo>
                    <a:pt x="34" y="163"/>
                  </a:lnTo>
                  <a:lnTo>
                    <a:pt x="58" y="186"/>
                  </a:lnTo>
                  <a:lnTo>
                    <a:pt x="104" y="1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1719720" y="1219320"/>
            <a:ext cx="57218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902444"/>
                </a:solidFill>
                <a:latin typeface="Geometr231 Hv BT"/>
              </a:rPr>
              <a:t>IF YOU’VE EACH BEEN A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902444"/>
                </a:solidFill>
                <a:latin typeface="Geometr231 Hv BT"/>
              </a:rPr>
              <a:t>RISK FOR HIV INFE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1981080" y="4267080"/>
            <a:ext cx="488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81185" dir="3078030" blurRad="0" rotWithShape="0">
                    <a:srgbClr val="868686"/>
                  </a:outerShdw>
                </a:effectLst>
                <a:latin typeface="Impact"/>
              </a:rPr>
              <a:t>GET TESTED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81185" dir="307803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3429000" y="2590920"/>
            <a:ext cx="3371760" cy="2116080"/>
            <a:chOff x="3429000" y="2590920"/>
            <a:chExt cx="3371760" cy="2116080"/>
          </a:xfrm>
        </p:grpSpPr>
        <p:sp>
          <p:nvSpPr>
            <p:cNvPr id="1279" name=""/>
            <p:cNvSpPr/>
            <p:nvPr/>
          </p:nvSpPr>
          <p:spPr>
            <a:xfrm>
              <a:off x="4151160" y="4233960"/>
              <a:ext cx="50760" cy="83880"/>
            </a:xfrm>
            <a:custGeom>
              <a:avLst/>
              <a:gdLst/>
              <a:ahLst/>
              <a:rect l="l" t="t" r="r" b="b"/>
              <a:pathLst>
                <a:path w="159" h="266">
                  <a:moveTo>
                    <a:pt x="5" y="0"/>
                  </a:moveTo>
                  <a:lnTo>
                    <a:pt x="159" y="266"/>
                  </a:lnTo>
                  <a:lnTo>
                    <a:pt x="94" y="228"/>
                  </a:lnTo>
                  <a:lnTo>
                    <a:pt x="32" y="159"/>
                  </a:lnTo>
                  <a:lnTo>
                    <a:pt x="8" y="80"/>
                  </a:lnTo>
                  <a:lnTo>
                    <a:pt x="0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151160" y="4226040"/>
              <a:ext cx="63720" cy="93600"/>
            </a:xfrm>
            <a:custGeom>
              <a:avLst/>
              <a:gdLst/>
              <a:ahLst/>
              <a:rect l="l" t="t" r="r" b="b"/>
              <a:pathLst>
                <a:path w="199" h="292">
                  <a:moveTo>
                    <a:pt x="91" y="247"/>
                  </a:moveTo>
                  <a:lnTo>
                    <a:pt x="9" y="106"/>
                  </a:lnTo>
                  <a:lnTo>
                    <a:pt x="8" y="102"/>
                  </a:lnTo>
                  <a:lnTo>
                    <a:pt x="0" y="26"/>
                  </a:lnTo>
                  <a:lnTo>
                    <a:pt x="38" y="0"/>
                  </a:lnTo>
                  <a:lnTo>
                    <a:pt x="199" y="278"/>
                  </a:lnTo>
                  <a:lnTo>
                    <a:pt x="167" y="292"/>
                  </a:lnTo>
                  <a:lnTo>
                    <a:pt x="94" y="250"/>
                  </a:lnTo>
                  <a:lnTo>
                    <a:pt x="91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152960" y="4219560"/>
              <a:ext cx="72720" cy="100080"/>
            </a:xfrm>
            <a:custGeom>
              <a:avLst/>
              <a:gdLst/>
              <a:ahLst/>
              <a:rect l="l" t="t" r="r" b="b"/>
              <a:pathLst>
                <a:path w="229" h="315">
                  <a:moveTo>
                    <a:pt x="154" y="311"/>
                  </a:moveTo>
                  <a:lnTo>
                    <a:pt x="0" y="45"/>
                  </a:lnTo>
                  <a:lnTo>
                    <a:pt x="65" y="0"/>
                  </a:lnTo>
                  <a:lnTo>
                    <a:pt x="229" y="285"/>
                  </a:lnTo>
                  <a:lnTo>
                    <a:pt x="162" y="315"/>
                  </a:lnTo>
                  <a:lnTo>
                    <a:pt x="15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163760" y="4211640"/>
              <a:ext cx="73080" cy="102960"/>
            </a:xfrm>
            <a:custGeom>
              <a:avLst/>
              <a:gdLst/>
              <a:ahLst/>
              <a:rect l="l" t="t" r="r" b="b"/>
              <a:pathLst>
                <a:path w="232" h="324">
                  <a:moveTo>
                    <a:pt x="161" y="324"/>
                  </a:moveTo>
                  <a:lnTo>
                    <a:pt x="0" y="46"/>
                  </a:lnTo>
                  <a:lnTo>
                    <a:pt x="63" y="0"/>
                  </a:lnTo>
                  <a:lnTo>
                    <a:pt x="232" y="292"/>
                  </a:lnTo>
                  <a:lnTo>
                    <a:pt x="161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73480" y="4203720"/>
              <a:ext cx="76320" cy="106200"/>
            </a:xfrm>
            <a:custGeom>
              <a:avLst/>
              <a:gdLst/>
              <a:ahLst/>
              <a:rect l="l" t="t" r="r" b="b"/>
              <a:pathLst>
                <a:path w="236" h="331">
                  <a:moveTo>
                    <a:pt x="164" y="331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236" y="298"/>
                  </a:lnTo>
                  <a:lnTo>
                    <a:pt x="164" y="3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184640" y="4197240"/>
              <a:ext cx="75960" cy="106560"/>
            </a:xfrm>
            <a:custGeom>
              <a:avLst/>
              <a:gdLst/>
              <a:ahLst/>
              <a:rect l="l" t="t" r="r" b="b"/>
              <a:pathLst>
                <a:path w="241" h="337">
                  <a:moveTo>
                    <a:pt x="169" y="337"/>
                  </a:moveTo>
                  <a:lnTo>
                    <a:pt x="0" y="45"/>
                  </a:lnTo>
                  <a:lnTo>
                    <a:pt x="64" y="0"/>
                  </a:lnTo>
                  <a:lnTo>
                    <a:pt x="241" y="304"/>
                  </a:lnTo>
                  <a:lnTo>
                    <a:pt x="169" y="3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194000" y="4189320"/>
              <a:ext cx="77760" cy="109440"/>
            </a:xfrm>
            <a:custGeom>
              <a:avLst/>
              <a:gdLst/>
              <a:ahLst/>
              <a:rect l="l" t="t" r="r" b="b"/>
              <a:pathLst>
                <a:path w="243" h="343">
                  <a:moveTo>
                    <a:pt x="172" y="343"/>
                  </a:moveTo>
                  <a:lnTo>
                    <a:pt x="0" y="45"/>
                  </a:lnTo>
                  <a:lnTo>
                    <a:pt x="63" y="0"/>
                  </a:lnTo>
                  <a:lnTo>
                    <a:pt x="243" y="310"/>
                  </a:lnTo>
                  <a:lnTo>
                    <a:pt x="172" y="3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203720" y="4181400"/>
              <a:ext cx="79200" cy="112680"/>
            </a:xfrm>
            <a:custGeom>
              <a:avLst/>
              <a:gdLst/>
              <a:ahLst/>
              <a:rect l="l" t="t" r="r" b="b"/>
              <a:pathLst>
                <a:path w="249" h="354">
                  <a:moveTo>
                    <a:pt x="177" y="354"/>
                  </a:moveTo>
                  <a:lnTo>
                    <a:pt x="0" y="50"/>
                  </a:lnTo>
                  <a:lnTo>
                    <a:pt x="53" y="12"/>
                  </a:lnTo>
                  <a:lnTo>
                    <a:pt x="62" y="0"/>
                  </a:lnTo>
                  <a:lnTo>
                    <a:pt x="249" y="325"/>
                  </a:lnTo>
                  <a:lnTo>
                    <a:pt x="234" y="328"/>
                  </a:lnTo>
                  <a:lnTo>
                    <a:pt x="177" y="3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214880" y="4172040"/>
              <a:ext cx="80640" cy="115920"/>
            </a:xfrm>
            <a:custGeom>
              <a:avLst/>
              <a:gdLst/>
              <a:ahLst/>
              <a:rect l="l" t="t" r="r" b="b"/>
              <a:pathLst>
                <a:path w="258" h="368">
                  <a:moveTo>
                    <a:pt x="180" y="368"/>
                  </a:moveTo>
                  <a:lnTo>
                    <a:pt x="0" y="58"/>
                  </a:lnTo>
                  <a:lnTo>
                    <a:pt x="21" y="43"/>
                  </a:lnTo>
                  <a:lnTo>
                    <a:pt x="56" y="0"/>
                  </a:lnTo>
                  <a:lnTo>
                    <a:pt x="258" y="348"/>
                  </a:lnTo>
                  <a:lnTo>
                    <a:pt x="202" y="359"/>
                  </a:lnTo>
                  <a:lnTo>
                    <a:pt x="180" y="3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224240" y="4160880"/>
              <a:ext cx="85680" cy="123840"/>
            </a:xfrm>
            <a:custGeom>
              <a:avLst/>
              <a:gdLst/>
              <a:ahLst/>
              <a:rect l="l" t="t" r="r" b="b"/>
              <a:pathLst>
                <a:path w="269" h="389">
                  <a:moveTo>
                    <a:pt x="187" y="389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269" y="374"/>
                  </a:lnTo>
                  <a:lnTo>
                    <a:pt x="187" y="3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232160" y="4151160"/>
              <a:ext cx="90360" cy="130320"/>
            </a:xfrm>
            <a:custGeom>
              <a:avLst/>
              <a:gdLst/>
              <a:ahLst/>
              <a:rect l="l" t="t" r="r" b="b"/>
              <a:pathLst>
                <a:path w="283" h="412">
                  <a:moveTo>
                    <a:pt x="202" y="412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283" y="398"/>
                  </a:lnTo>
                  <a:lnTo>
                    <a:pt x="202" y="4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241880" y="4141800"/>
              <a:ext cx="93600" cy="137880"/>
            </a:xfrm>
            <a:custGeom>
              <a:avLst/>
              <a:gdLst/>
              <a:ahLst/>
              <a:rect l="l" t="t" r="r" b="b"/>
              <a:pathLst>
                <a:path w="296" h="437">
                  <a:moveTo>
                    <a:pt x="215" y="437"/>
                  </a:moveTo>
                  <a:lnTo>
                    <a:pt x="0" y="63"/>
                  </a:lnTo>
                  <a:lnTo>
                    <a:pt x="52" y="0"/>
                  </a:lnTo>
                  <a:lnTo>
                    <a:pt x="296" y="421"/>
                  </a:lnTo>
                  <a:lnTo>
                    <a:pt x="215" y="4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249800" y="4130640"/>
              <a:ext cx="98280" cy="147600"/>
            </a:xfrm>
            <a:custGeom>
              <a:avLst/>
              <a:gdLst/>
              <a:ahLst/>
              <a:rect l="l" t="t" r="r" b="b"/>
              <a:pathLst>
                <a:path w="311" h="462">
                  <a:moveTo>
                    <a:pt x="229" y="462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311" y="446"/>
                  </a:lnTo>
                  <a:lnTo>
                    <a:pt x="229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257720" y="4121280"/>
              <a:ext cx="102960" cy="153720"/>
            </a:xfrm>
            <a:custGeom>
              <a:avLst/>
              <a:gdLst/>
              <a:ahLst/>
              <a:rect l="l" t="t" r="r" b="b"/>
              <a:pathLst>
                <a:path w="326" h="485">
                  <a:moveTo>
                    <a:pt x="244" y="485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326" y="471"/>
                  </a:lnTo>
                  <a:lnTo>
                    <a:pt x="244" y="4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265640" y="4110120"/>
              <a:ext cx="108000" cy="161640"/>
            </a:xfrm>
            <a:custGeom>
              <a:avLst/>
              <a:gdLst/>
              <a:ahLst/>
              <a:rect l="l" t="t" r="r" b="b"/>
              <a:pathLst>
                <a:path w="339" h="510">
                  <a:moveTo>
                    <a:pt x="258" y="510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339" y="495"/>
                  </a:lnTo>
                  <a:lnTo>
                    <a:pt x="258" y="5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275000" y="4100400"/>
              <a:ext cx="111240" cy="169920"/>
            </a:xfrm>
            <a:custGeom>
              <a:avLst/>
              <a:gdLst/>
              <a:ahLst/>
              <a:rect l="l" t="t" r="r" b="b"/>
              <a:pathLst>
                <a:path w="352" h="535">
                  <a:moveTo>
                    <a:pt x="272" y="535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352" y="520"/>
                  </a:lnTo>
                  <a:lnTo>
                    <a:pt x="272" y="5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282920" y="4091040"/>
              <a:ext cx="115920" cy="176040"/>
            </a:xfrm>
            <a:custGeom>
              <a:avLst/>
              <a:gdLst/>
              <a:ahLst/>
              <a:rect l="l" t="t" r="r" b="b"/>
              <a:pathLst>
                <a:path w="367" h="558">
                  <a:moveTo>
                    <a:pt x="286" y="558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367" y="544"/>
                  </a:lnTo>
                  <a:lnTo>
                    <a:pt x="286" y="5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290840" y="4079880"/>
              <a:ext cx="122400" cy="185760"/>
            </a:xfrm>
            <a:custGeom>
              <a:avLst/>
              <a:gdLst/>
              <a:ahLst/>
              <a:rect l="l" t="t" r="r" b="b"/>
              <a:pathLst>
                <a:path w="381" h="584">
                  <a:moveTo>
                    <a:pt x="299" y="584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381" y="569"/>
                  </a:lnTo>
                  <a:lnTo>
                    <a:pt x="299" y="5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300560" y="4070160"/>
              <a:ext cx="125280" cy="193680"/>
            </a:xfrm>
            <a:custGeom>
              <a:avLst/>
              <a:gdLst/>
              <a:ahLst/>
              <a:rect l="l" t="t" r="r" b="b"/>
              <a:pathLst>
                <a:path w="395" h="608">
                  <a:moveTo>
                    <a:pt x="314" y="608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395" y="592"/>
                  </a:lnTo>
                  <a:lnTo>
                    <a:pt x="314" y="6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308480" y="4060800"/>
              <a:ext cx="129960" cy="200160"/>
            </a:xfrm>
            <a:custGeom>
              <a:avLst/>
              <a:gdLst/>
              <a:ahLst/>
              <a:rect l="l" t="t" r="r" b="b"/>
              <a:pathLst>
                <a:path w="409" h="632">
                  <a:moveTo>
                    <a:pt x="328" y="632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409" y="617"/>
                  </a:lnTo>
                  <a:lnTo>
                    <a:pt x="328" y="6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316400" y="4049640"/>
              <a:ext cx="135000" cy="208080"/>
            </a:xfrm>
            <a:custGeom>
              <a:avLst/>
              <a:gdLst/>
              <a:ahLst/>
              <a:rect l="l" t="t" r="r" b="b"/>
              <a:pathLst>
                <a:path w="423" h="656">
                  <a:moveTo>
                    <a:pt x="341" y="656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423" y="641"/>
                  </a:lnTo>
                  <a:lnTo>
                    <a:pt x="341" y="6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325760" y="4040280"/>
              <a:ext cx="138240" cy="215640"/>
            </a:xfrm>
            <a:custGeom>
              <a:avLst/>
              <a:gdLst/>
              <a:ahLst/>
              <a:rect l="l" t="t" r="r" b="b"/>
              <a:pathLst>
                <a:path w="438" h="681">
                  <a:moveTo>
                    <a:pt x="356" y="681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438" y="666"/>
                  </a:lnTo>
                  <a:lnTo>
                    <a:pt x="356" y="6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333680" y="4029120"/>
              <a:ext cx="142920" cy="223920"/>
            </a:xfrm>
            <a:custGeom>
              <a:avLst/>
              <a:gdLst/>
              <a:ahLst/>
              <a:rect l="l" t="t" r="r" b="b"/>
              <a:pathLst>
                <a:path w="451" h="705">
                  <a:moveTo>
                    <a:pt x="370" y="705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451" y="690"/>
                  </a:lnTo>
                  <a:lnTo>
                    <a:pt x="370" y="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341600" y="4019400"/>
              <a:ext cx="147600" cy="231840"/>
            </a:xfrm>
            <a:custGeom>
              <a:avLst/>
              <a:gdLst/>
              <a:ahLst/>
              <a:rect l="l" t="t" r="r" b="b"/>
              <a:pathLst>
                <a:path w="465" h="730">
                  <a:moveTo>
                    <a:pt x="384" y="730"/>
                  </a:moveTo>
                  <a:lnTo>
                    <a:pt x="0" y="64"/>
                  </a:lnTo>
                  <a:lnTo>
                    <a:pt x="52" y="0"/>
                  </a:lnTo>
                  <a:lnTo>
                    <a:pt x="465" y="715"/>
                  </a:lnTo>
                  <a:lnTo>
                    <a:pt x="384" y="7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351320" y="4010040"/>
              <a:ext cx="152280" cy="237960"/>
            </a:xfrm>
            <a:custGeom>
              <a:avLst/>
              <a:gdLst/>
              <a:ahLst/>
              <a:rect l="l" t="t" r="r" b="b"/>
              <a:pathLst>
                <a:path w="480" h="753">
                  <a:moveTo>
                    <a:pt x="398" y="753"/>
                  </a:moveTo>
                  <a:lnTo>
                    <a:pt x="0" y="63"/>
                  </a:lnTo>
                  <a:lnTo>
                    <a:pt x="54" y="0"/>
                  </a:lnTo>
                  <a:lnTo>
                    <a:pt x="480" y="739"/>
                  </a:lnTo>
                  <a:lnTo>
                    <a:pt x="398" y="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359240" y="3998880"/>
              <a:ext cx="156960" cy="247680"/>
            </a:xfrm>
            <a:custGeom>
              <a:avLst/>
              <a:gdLst/>
              <a:ahLst/>
              <a:rect l="l" t="t" r="r" b="b"/>
              <a:pathLst>
                <a:path w="495" h="779">
                  <a:moveTo>
                    <a:pt x="413" y="779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495" y="763"/>
                  </a:lnTo>
                  <a:lnTo>
                    <a:pt x="413" y="7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367160" y="3989160"/>
              <a:ext cx="162000" cy="255600"/>
            </a:xfrm>
            <a:custGeom>
              <a:avLst/>
              <a:gdLst/>
              <a:ahLst/>
              <a:rect l="l" t="t" r="r" b="b"/>
              <a:pathLst>
                <a:path w="507" h="803">
                  <a:moveTo>
                    <a:pt x="426" y="803"/>
                  </a:moveTo>
                  <a:lnTo>
                    <a:pt x="0" y="64"/>
                  </a:lnTo>
                  <a:lnTo>
                    <a:pt x="52" y="0"/>
                  </a:lnTo>
                  <a:lnTo>
                    <a:pt x="507" y="787"/>
                  </a:lnTo>
                  <a:lnTo>
                    <a:pt x="426" y="8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376520" y="3979800"/>
              <a:ext cx="165240" cy="262080"/>
            </a:xfrm>
            <a:custGeom>
              <a:avLst/>
              <a:gdLst/>
              <a:ahLst/>
              <a:rect l="l" t="t" r="r" b="b"/>
              <a:pathLst>
                <a:path w="522" h="826">
                  <a:moveTo>
                    <a:pt x="441" y="826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522" y="812"/>
                  </a:lnTo>
                  <a:lnTo>
                    <a:pt x="441" y="8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384440" y="3968640"/>
              <a:ext cx="169920" cy="270000"/>
            </a:xfrm>
            <a:custGeom>
              <a:avLst/>
              <a:gdLst/>
              <a:ahLst/>
              <a:rect l="l" t="t" r="r" b="b"/>
              <a:pathLst>
                <a:path w="537" h="852">
                  <a:moveTo>
                    <a:pt x="455" y="852"/>
                  </a:moveTo>
                  <a:lnTo>
                    <a:pt x="0" y="65"/>
                  </a:lnTo>
                  <a:lnTo>
                    <a:pt x="54" y="0"/>
                  </a:lnTo>
                  <a:lnTo>
                    <a:pt x="537" y="837"/>
                  </a:lnTo>
                  <a:lnTo>
                    <a:pt x="455" y="8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392360" y="3959280"/>
              <a:ext cx="174960" cy="277560"/>
            </a:xfrm>
            <a:custGeom>
              <a:avLst/>
              <a:gdLst/>
              <a:ahLst/>
              <a:rect l="l" t="t" r="r" b="b"/>
              <a:pathLst>
                <a:path w="551" h="876">
                  <a:moveTo>
                    <a:pt x="469" y="876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551" y="861"/>
                  </a:lnTo>
                  <a:lnTo>
                    <a:pt x="469" y="8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402080" y="3948120"/>
              <a:ext cx="177840" cy="285840"/>
            </a:xfrm>
            <a:custGeom>
              <a:avLst/>
              <a:gdLst/>
              <a:ahLst/>
              <a:rect l="l" t="t" r="r" b="b"/>
              <a:pathLst>
                <a:path w="564" h="900">
                  <a:moveTo>
                    <a:pt x="483" y="900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564" y="886"/>
                  </a:lnTo>
                  <a:lnTo>
                    <a:pt x="483" y="9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410000" y="3938400"/>
              <a:ext cx="184320" cy="293760"/>
            </a:xfrm>
            <a:custGeom>
              <a:avLst/>
              <a:gdLst/>
              <a:ahLst/>
              <a:rect l="l" t="t" r="r" b="b"/>
              <a:pathLst>
                <a:path w="579" h="925">
                  <a:moveTo>
                    <a:pt x="498" y="925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579" y="909"/>
                  </a:lnTo>
                  <a:lnTo>
                    <a:pt x="498" y="9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417920" y="3929040"/>
              <a:ext cx="189000" cy="301680"/>
            </a:xfrm>
            <a:custGeom>
              <a:avLst/>
              <a:gdLst/>
              <a:ahLst/>
              <a:rect l="l" t="t" r="r" b="b"/>
              <a:pathLst>
                <a:path w="592" h="950">
                  <a:moveTo>
                    <a:pt x="511" y="950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592" y="934"/>
                  </a:lnTo>
                  <a:lnTo>
                    <a:pt x="511" y="9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425840" y="3917880"/>
              <a:ext cx="193680" cy="309600"/>
            </a:xfrm>
            <a:custGeom>
              <a:avLst/>
              <a:gdLst/>
              <a:ahLst/>
              <a:rect l="l" t="t" r="r" b="b"/>
              <a:pathLst>
                <a:path w="606" h="973">
                  <a:moveTo>
                    <a:pt x="526" y="973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06" y="959"/>
                  </a:lnTo>
                  <a:lnTo>
                    <a:pt x="526" y="9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435560" y="3908520"/>
              <a:ext cx="196560" cy="315720"/>
            </a:xfrm>
            <a:custGeom>
              <a:avLst/>
              <a:gdLst/>
              <a:ahLst/>
              <a:rect l="l" t="t" r="r" b="b"/>
              <a:pathLst>
                <a:path w="620" h="998">
                  <a:moveTo>
                    <a:pt x="539" y="998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20" y="983"/>
                  </a:lnTo>
                  <a:lnTo>
                    <a:pt x="539" y="9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443480" y="3898800"/>
              <a:ext cx="201600" cy="324000"/>
            </a:xfrm>
            <a:custGeom>
              <a:avLst/>
              <a:gdLst/>
              <a:ahLst/>
              <a:rect l="l" t="t" r="r" b="b"/>
              <a:pathLst>
                <a:path w="635" h="1022">
                  <a:moveTo>
                    <a:pt x="553" y="1022"/>
                  </a:moveTo>
                  <a:lnTo>
                    <a:pt x="0" y="63"/>
                  </a:lnTo>
                  <a:lnTo>
                    <a:pt x="54" y="0"/>
                  </a:lnTo>
                  <a:lnTo>
                    <a:pt x="635" y="1007"/>
                  </a:lnTo>
                  <a:lnTo>
                    <a:pt x="553" y="10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451400" y="3887640"/>
              <a:ext cx="206280" cy="331920"/>
            </a:xfrm>
            <a:custGeom>
              <a:avLst/>
              <a:gdLst/>
              <a:ahLst/>
              <a:rect l="l" t="t" r="r" b="b"/>
              <a:pathLst>
                <a:path w="649" h="1047">
                  <a:moveTo>
                    <a:pt x="567" y="1047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49" y="1032"/>
                  </a:lnTo>
                  <a:lnTo>
                    <a:pt x="567" y="10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460760" y="3878280"/>
              <a:ext cx="209520" cy="339480"/>
            </a:xfrm>
            <a:custGeom>
              <a:avLst/>
              <a:gdLst/>
              <a:ahLst/>
              <a:rect l="l" t="t" r="r" b="b"/>
              <a:pathLst>
                <a:path w="662" h="1071">
                  <a:moveTo>
                    <a:pt x="581" y="1071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62" y="1056"/>
                  </a:lnTo>
                  <a:lnTo>
                    <a:pt x="581" y="10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468680" y="3867120"/>
              <a:ext cx="214200" cy="347760"/>
            </a:xfrm>
            <a:custGeom>
              <a:avLst/>
              <a:gdLst/>
              <a:ahLst/>
              <a:rect l="l" t="t" r="r" b="b"/>
              <a:pathLst>
                <a:path w="677" h="1095">
                  <a:moveTo>
                    <a:pt x="596" y="1095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677" y="1080"/>
                  </a:lnTo>
                  <a:lnTo>
                    <a:pt x="596" y="10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476600" y="3857400"/>
              <a:ext cx="220680" cy="355680"/>
            </a:xfrm>
            <a:custGeom>
              <a:avLst/>
              <a:gdLst/>
              <a:ahLst/>
              <a:rect l="l" t="t" r="r" b="b"/>
              <a:pathLst>
                <a:path w="691" h="1120">
                  <a:moveTo>
                    <a:pt x="609" y="1120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91" y="1104"/>
                  </a:lnTo>
                  <a:lnTo>
                    <a:pt x="609" y="11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486320" y="3848040"/>
              <a:ext cx="223560" cy="361800"/>
            </a:xfrm>
            <a:custGeom>
              <a:avLst/>
              <a:gdLst/>
              <a:ahLst/>
              <a:rect l="l" t="t" r="r" b="b"/>
              <a:pathLst>
                <a:path w="706" h="1144">
                  <a:moveTo>
                    <a:pt x="624" y="1144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706" y="1129"/>
                  </a:lnTo>
                  <a:lnTo>
                    <a:pt x="624" y="11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494240" y="3836880"/>
              <a:ext cx="228600" cy="371520"/>
            </a:xfrm>
            <a:custGeom>
              <a:avLst/>
              <a:gdLst/>
              <a:ahLst/>
              <a:rect l="l" t="t" r="r" b="b"/>
              <a:pathLst>
                <a:path w="719" h="1168">
                  <a:moveTo>
                    <a:pt x="638" y="1168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719" y="1154"/>
                  </a:lnTo>
                  <a:lnTo>
                    <a:pt x="638" y="1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502160" y="3827520"/>
              <a:ext cx="233280" cy="377640"/>
            </a:xfrm>
            <a:custGeom>
              <a:avLst/>
              <a:gdLst/>
              <a:ahLst/>
              <a:rect l="l" t="t" r="r" b="b"/>
              <a:pathLst>
                <a:path w="733" h="1193">
                  <a:moveTo>
                    <a:pt x="652" y="1193"/>
                  </a:moveTo>
                  <a:lnTo>
                    <a:pt x="0" y="64"/>
                  </a:lnTo>
                  <a:lnTo>
                    <a:pt x="52" y="0"/>
                  </a:lnTo>
                  <a:lnTo>
                    <a:pt x="733" y="1178"/>
                  </a:lnTo>
                  <a:lnTo>
                    <a:pt x="652" y="11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511520" y="3817800"/>
              <a:ext cx="236520" cy="385920"/>
            </a:xfrm>
            <a:custGeom>
              <a:avLst/>
              <a:gdLst/>
              <a:ahLst/>
              <a:rect l="l" t="t" r="r" b="b"/>
              <a:pathLst>
                <a:path w="748" h="1217">
                  <a:moveTo>
                    <a:pt x="666" y="1217"/>
                  </a:moveTo>
                  <a:lnTo>
                    <a:pt x="0" y="63"/>
                  </a:lnTo>
                  <a:lnTo>
                    <a:pt x="54" y="0"/>
                  </a:lnTo>
                  <a:lnTo>
                    <a:pt x="748" y="1202"/>
                  </a:lnTo>
                  <a:lnTo>
                    <a:pt x="666" y="1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519440" y="3808440"/>
              <a:ext cx="241560" cy="392040"/>
            </a:xfrm>
            <a:custGeom>
              <a:avLst/>
              <a:gdLst/>
              <a:ahLst/>
              <a:rect l="l" t="t" r="r" b="b"/>
              <a:pathLst>
                <a:path w="763" h="1239">
                  <a:moveTo>
                    <a:pt x="681" y="1239"/>
                  </a:moveTo>
                  <a:lnTo>
                    <a:pt x="0" y="61"/>
                  </a:lnTo>
                  <a:lnTo>
                    <a:pt x="49" y="5"/>
                  </a:lnTo>
                  <a:lnTo>
                    <a:pt x="56" y="0"/>
                  </a:lnTo>
                  <a:lnTo>
                    <a:pt x="763" y="1225"/>
                  </a:lnTo>
                  <a:lnTo>
                    <a:pt x="681" y="12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527360" y="3801960"/>
              <a:ext cx="244440" cy="397080"/>
            </a:xfrm>
            <a:custGeom>
              <a:avLst/>
              <a:gdLst/>
              <a:ahLst/>
              <a:rect l="l" t="t" r="r" b="b"/>
              <a:pathLst>
                <a:path w="770" h="1252">
                  <a:moveTo>
                    <a:pt x="694" y="1252"/>
                  </a:moveTo>
                  <a:lnTo>
                    <a:pt x="0" y="50"/>
                  </a:lnTo>
                  <a:lnTo>
                    <a:pt x="21" y="25"/>
                  </a:lnTo>
                  <a:lnTo>
                    <a:pt x="62" y="0"/>
                  </a:lnTo>
                  <a:lnTo>
                    <a:pt x="770" y="1228"/>
                  </a:lnTo>
                  <a:lnTo>
                    <a:pt x="746" y="1241"/>
                  </a:lnTo>
                  <a:lnTo>
                    <a:pt x="694" y="12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537080" y="379584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4">
                  <a:moveTo>
                    <a:pt x="707" y="1264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18" y="1260"/>
                  </a:lnTo>
                  <a:lnTo>
                    <a:pt x="707" y="1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548240" y="378936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557600" y="378288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68760" y="377676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579920" y="377028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591080" y="3763800"/>
              <a:ext cx="245880" cy="40320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602240" y="375768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7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7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611600" y="37526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622760" y="374652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633920" y="374004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643280" y="3733920"/>
              <a:ext cx="2476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654440" y="372744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665600" y="372096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676760" y="371484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9" y="126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687920" y="370836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97280" y="370188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708440" y="369720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719600" y="369072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728960" y="3684600"/>
              <a:ext cx="247680" cy="40140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740120" y="367812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751280" y="367200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762440" y="366552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771800" y="365904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782960" y="365292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794120" y="36464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805280" y="3639960"/>
              <a:ext cx="246240" cy="40320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816440" y="363384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825800" y="362880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836960" y="362268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848120" y="361620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857840" y="3610080"/>
              <a:ext cx="24732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68640" y="360360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879800" y="3597120"/>
              <a:ext cx="24624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890960" y="359100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902120" y="358452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911480" y="357804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922640" y="357192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9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933800" y="356724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943520" y="356076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954680" y="3554280"/>
              <a:ext cx="247320" cy="4017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965480" y="354816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976640" y="354168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987800" y="353520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997520" y="352908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08320" y="3522600"/>
              <a:ext cx="246240" cy="40320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019480" y="3516120"/>
              <a:ext cx="246240" cy="403200"/>
            </a:xfrm>
            <a:custGeom>
              <a:avLst/>
              <a:gdLst/>
              <a:ahLst/>
              <a:rect l="l" t="t" r="r" b="b"/>
              <a:pathLst>
                <a:path w="778" h="1267">
                  <a:moveTo>
                    <a:pt x="709" y="1267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778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030640" y="35114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040360" y="3505320"/>
              <a:ext cx="2476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051520" y="349884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062320" y="349236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073480" y="348624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83200" y="347976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094360" y="3473280"/>
              <a:ext cx="245880" cy="40320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40"/>
                  </a:lnTo>
                  <a:lnTo>
                    <a:pt x="68" y="0"/>
                  </a:lnTo>
                  <a:lnTo>
                    <a:pt x="777" y="1229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105160" y="346716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116320" y="346068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9" y="1268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126040" y="3454200"/>
              <a:ext cx="2476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137200" y="344808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148000" y="344340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157720" y="343692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9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168880" y="343044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180040" y="342432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191200" y="341784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202000" y="341136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211720" y="340524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222880" y="3398760"/>
              <a:ext cx="245880" cy="40320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234040" y="3392280"/>
              <a:ext cx="245880" cy="4035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244840" y="338760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254560" y="3381480"/>
              <a:ext cx="24768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265720" y="337500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8" y="126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9"/>
                  </a:lnTo>
                  <a:lnTo>
                    <a:pt x="708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76880" y="336852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288040" y="336240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9" y="1268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297400" y="335592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9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308560" y="334944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19720" y="334332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330880" y="333684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340240" y="333216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351400" y="332568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362560" y="331956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373720" y="331308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383080" y="330660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94240" y="330048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405400" y="329400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416560" y="328752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425920" y="3281400"/>
              <a:ext cx="2476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437080" y="3274920"/>
              <a:ext cx="246240" cy="40320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777" y="1229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448240" y="327024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59400" y="326376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68760" y="3257640"/>
              <a:ext cx="2476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479920" y="325116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491080" y="324468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502240" y="323856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511600" y="323208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522760" y="3225600"/>
              <a:ext cx="24624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533920" y="321948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45080" y="321300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554440" y="3206880"/>
              <a:ext cx="2476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565600" y="32018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576760" y="319572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587920" y="318924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597280" y="318276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608440" y="317664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619600" y="317016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630760" y="3163680"/>
              <a:ext cx="246240" cy="4035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640480" y="3157560"/>
              <a:ext cx="24732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51280" y="3151080"/>
              <a:ext cx="247680" cy="403200"/>
            </a:xfrm>
            <a:custGeom>
              <a:avLst/>
              <a:gdLst/>
              <a:ahLst/>
              <a:rect l="l" t="t" r="r" b="b"/>
              <a:pathLst>
                <a:path w="778" h="1266">
                  <a:moveTo>
                    <a:pt x="709" y="1266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78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662440" y="3146400"/>
              <a:ext cx="24624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673600" y="313992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683320" y="3133800"/>
              <a:ext cx="24732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694120" y="312732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705280" y="31208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8" y="126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9"/>
                  </a:lnTo>
                  <a:lnTo>
                    <a:pt x="708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716440" y="311472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726160" y="3108240"/>
              <a:ext cx="247680" cy="40320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737320" y="3101760"/>
              <a:ext cx="245880" cy="4035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9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748120" y="309564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759280" y="309096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769000" y="308448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780160" y="307800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790960" y="307188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802120" y="3065400"/>
              <a:ext cx="246240" cy="4017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40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813280" y="305892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7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7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823000" y="305280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833800" y="304632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844960" y="3039840"/>
              <a:ext cx="246240" cy="4035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54680" y="3033720"/>
              <a:ext cx="2476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865840" y="3027240"/>
              <a:ext cx="247680" cy="40320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877000" y="3021120"/>
              <a:ext cx="245880" cy="40320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777" y="1229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887800" y="301608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898960" y="300996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08680" y="300348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919840" y="299700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930640" y="2989080"/>
              <a:ext cx="247680" cy="403200"/>
            </a:xfrm>
            <a:custGeom>
              <a:avLst/>
              <a:gdLst/>
              <a:ahLst/>
              <a:rect l="l" t="t" r="r" b="b"/>
              <a:pathLst>
                <a:path w="782" h="1272">
                  <a:moveTo>
                    <a:pt x="709" y="1272"/>
                  </a:moveTo>
                  <a:lnTo>
                    <a:pt x="0" y="45"/>
                  </a:lnTo>
                  <a:lnTo>
                    <a:pt x="55" y="13"/>
                  </a:lnTo>
                  <a:lnTo>
                    <a:pt x="64" y="0"/>
                  </a:lnTo>
                  <a:lnTo>
                    <a:pt x="782" y="1242"/>
                  </a:lnTo>
                  <a:lnTo>
                    <a:pt x="759" y="1244"/>
                  </a:lnTo>
                  <a:lnTo>
                    <a:pt x="709" y="12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940360" y="2978280"/>
              <a:ext cx="252360" cy="407880"/>
            </a:xfrm>
            <a:custGeom>
              <a:avLst/>
              <a:gdLst/>
              <a:ahLst/>
              <a:rect l="l" t="t" r="r" b="b"/>
              <a:pathLst>
                <a:path w="792" h="1288">
                  <a:moveTo>
                    <a:pt x="709" y="1288"/>
                  </a:moveTo>
                  <a:lnTo>
                    <a:pt x="0" y="61"/>
                  </a:lnTo>
                  <a:lnTo>
                    <a:pt x="21" y="49"/>
                  </a:lnTo>
                  <a:lnTo>
                    <a:pt x="56" y="0"/>
                  </a:lnTo>
                  <a:lnTo>
                    <a:pt x="792" y="1275"/>
                  </a:lnTo>
                  <a:lnTo>
                    <a:pt x="725" y="1280"/>
                  </a:lnTo>
                  <a:lnTo>
                    <a:pt x="709" y="12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49720" y="2967120"/>
              <a:ext cx="255600" cy="415800"/>
            </a:xfrm>
            <a:custGeom>
              <a:avLst/>
              <a:gdLst/>
              <a:ahLst/>
              <a:rect l="l" t="t" r="r" b="b"/>
              <a:pathLst>
                <a:path w="805" h="1314">
                  <a:moveTo>
                    <a:pt x="718" y="1314"/>
                  </a:moveTo>
                  <a:lnTo>
                    <a:pt x="0" y="72"/>
                  </a:lnTo>
                  <a:lnTo>
                    <a:pt x="50" y="0"/>
                  </a:lnTo>
                  <a:lnTo>
                    <a:pt x="805" y="1307"/>
                  </a:lnTo>
                  <a:lnTo>
                    <a:pt x="718" y="13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959440" y="2955960"/>
              <a:ext cx="260280" cy="426960"/>
            </a:xfrm>
            <a:custGeom>
              <a:avLst/>
              <a:gdLst/>
              <a:ahLst/>
              <a:rect l="l" t="t" r="r" b="b"/>
              <a:pathLst>
                <a:path w="822" h="1346">
                  <a:moveTo>
                    <a:pt x="736" y="1346"/>
                  </a:moveTo>
                  <a:lnTo>
                    <a:pt x="0" y="71"/>
                  </a:lnTo>
                  <a:lnTo>
                    <a:pt x="48" y="0"/>
                  </a:lnTo>
                  <a:lnTo>
                    <a:pt x="822" y="1340"/>
                  </a:lnTo>
                  <a:lnTo>
                    <a:pt x="736" y="13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965920" y="2944800"/>
              <a:ext cx="268200" cy="436680"/>
            </a:xfrm>
            <a:custGeom>
              <a:avLst/>
              <a:gdLst/>
              <a:ahLst/>
              <a:rect l="l" t="t" r="r" b="b"/>
              <a:pathLst>
                <a:path w="841" h="1377">
                  <a:moveTo>
                    <a:pt x="755" y="1377"/>
                  </a:moveTo>
                  <a:lnTo>
                    <a:pt x="0" y="70"/>
                  </a:lnTo>
                  <a:lnTo>
                    <a:pt x="49" y="0"/>
                  </a:lnTo>
                  <a:lnTo>
                    <a:pt x="841" y="1372"/>
                  </a:lnTo>
                  <a:lnTo>
                    <a:pt x="755" y="13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73840" y="2932200"/>
              <a:ext cx="272880" cy="449280"/>
            </a:xfrm>
            <a:custGeom>
              <a:avLst/>
              <a:gdLst/>
              <a:ahLst/>
              <a:rect l="l" t="t" r="r" b="b"/>
              <a:pathLst>
                <a:path w="860" h="1411">
                  <a:moveTo>
                    <a:pt x="774" y="1411"/>
                  </a:moveTo>
                  <a:lnTo>
                    <a:pt x="0" y="71"/>
                  </a:lnTo>
                  <a:lnTo>
                    <a:pt x="49" y="0"/>
                  </a:lnTo>
                  <a:lnTo>
                    <a:pt x="860" y="1405"/>
                  </a:lnTo>
                  <a:lnTo>
                    <a:pt x="774" y="14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981760" y="2921040"/>
              <a:ext cx="279360" cy="458640"/>
            </a:xfrm>
            <a:custGeom>
              <a:avLst/>
              <a:gdLst/>
              <a:ahLst/>
              <a:rect l="l" t="t" r="r" b="b"/>
              <a:pathLst>
                <a:path w="879" h="1444">
                  <a:moveTo>
                    <a:pt x="792" y="1444"/>
                  </a:moveTo>
                  <a:lnTo>
                    <a:pt x="0" y="72"/>
                  </a:lnTo>
                  <a:lnTo>
                    <a:pt x="48" y="0"/>
                  </a:lnTo>
                  <a:lnTo>
                    <a:pt x="879" y="1438"/>
                  </a:lnTo>
                  <a:lnTo>
                    <a:pt x="792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89680" y="2914560"/>
              <a:ext cx="284040" cy="463680"/>
            </a:xfrm>
            <a:custGeom>
              <a:avLst/>
              <a:gdLst/>
              <a:ahLst/>
              <a:rect l="l" t="t" r="r" b="b"/>
              <a:pathLst>
                <a:path w="893" h="1463">
                  <a:moveTo>
                    <a:pt x="811" y="1463"/>
                  </a:moveTo>
                  <a:lnTo>
                    <a:pt x="0" y="58"/>
                  </a:lnTo>
                  <a:lnTo>
                    <a:pt x="30" y="15"/>
                  </a:lnTo>
                  <a:lnTo>
                    <a:pt x="57" y="0"/>
                  </a:lnTo>
                  <a:lnTo>
                    <a:pt x="893" y="1448"/>
                  </a:lnTo>
                  <a:lnTo>
                    <a:pt x="876" y="1459"/>
                  </a:lnTo>
                  <a:lnTo>
                    <a:pt x="811" y="1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997600" y="2908080"/>
              <a:ext cx="285480" cy="470160"/>
            </a:xfrm>
            <a:custGeom>
              <a:avLst/>
              <a:gdLst/>
              <a:ahLst/>
              <a:rect l="l" t="t" r="r" b="b"/>
              <a:pathLst>
                <a:path w="902" h="1480">
                  <a:moveTo>
                    <a:pt x="831" y="1480"/>
                  </a:moveTo>
                  <a:lnTo>
                    <a:pt x="0" y="42"/>
                  </a:lnTo>
                  <a:lnTo>
                    <a:pt x="6" y="35"/>
                  </a:lnTo>
                  <a:lnTo>
                    <a:pt x="67" y="0"/>
                  </a:lnTo>
                  <a:lnTo>
                    <a:pt x="902" y="1449"/>
                  </a:lnTo>
                  <a:lnTo>
                    <a:pt x="852" y="1479"/>
                  </a:lnTo>
                  <a:lnTo>
                    <a:pt x="831" y="14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06960" y="2901960"/>
              <a:ext cx="287280" cy="471600"/>
            </a:xfrm>
            <a:custGeom>
              <a:avLst/>
              <a:gdLst/>
              <a:ahLst/>
              <a:rect l="l" t="t" r="r" b="b"/>
              <a:pathLst>
                <a:path w="903" h="1488">
                  <a:moveTo>
                    <a:pt x="836" y="148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903" y="1449"/>
                  </a:lnTo>
                  <a:lnTo>
                    <a:pt x="836" y="14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18120" y="2895480"/>
              <a:ext cx="287280" cy="473040"/>
            </a:xfrm>
            <a:custGeom>
              <a:avLst/>
              <a:gdLst/>
              <a:ahLst/>
              <a:rect l="l" t="t" r="r" b="b"/>
              <a:pathLst>
                <a:path w="904" h="1487">
                  <a:moveTo>
                    <a:pt x="835" y="148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904" y="1447"/>
                  </a:lnTo>
                  <a:lnTo>
                    <a:pt x="835" y="14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29280" y="2889360"/>
              <a:ext cx="287280" cy="473040"/>
            </a:xfrm>
            <a:custGeom>
              <a:avLst/>
              <a:gdLst/>
              <a:ahLst/>
              <a:rect l="l" t="t" r="r" b="b"/>
              <a:pathLst>
                <a:path w="904" h="1487">
                  <a:moveTo>
                    <a:pt x="836" y="148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904" y="1449"/>
                  </a:lnTo>
                  <a:lnTo>
                    <a:pt x="836" y="14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40440" y="2882880"/>
              <a:ext cx="285840" cy="473040"/>
            </a:xfrm>
            <a:custGeom>
              <a:avLst/>
              <a:gdLst/>
              <a:ahLst/>
              <a:rect l="l" t="t" r="r" b="b"/>
              <a:pathLst>
                <a:path w="904" h="1486">
                  <a:moveTo>
                    <a:pt x="837" y="148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904" y="1448"/>
                  </a:lnTo>
                  <a:lnTo>
                    <a:pt x="837" y="14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049800" y="2876400"/>
              <a:ext cx="287280" cy="473040"/>
            </a:xfrm>
            <a:custGeom>
              <a:avLst/>
              <a:gdLst/>
              <a:ahLst/>
              <a:rect l="l" t="t" r="r" b="b"/>
              <a:pathLst>
                <a:path w="905" h="1488">
                  <a:moveTo>
                    <a:pt x="837" y="1488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905" y="1449"/>
                  </a:lnTo>
                  <a:lnTo>
                    <a:pt x="837" y="14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060960" y="2873160"/>
              <a:ext cx="284040" cy="470160"/>
            </a:xfrm>
            <a:custGeom>
              <a:avLst/>
              <a:gdLst/>
              <a:ahLst/>
              <a:rect l="l" t="t" r="r" b="b"/>
              <a:pathLst>
                <a:path w="893" h="1481">
                  <a:moveTo>
                    <a:pt x="837" y="1481"/>
                  </a:moveTo>
                  <a:lnTo>
                    <a:pt x="0" y="33"/>
                  </a:lnTo>
                  <a:lnTo>
                    <a:pt x="57" y="0"/>
                  </a:lnTo>
                  <a:lnTo>
                    <a:pt x="106" y="58"/>
                  </a:lnTo>
                  <a:lnTo>
                    <a:pt x="860" y="1366"/>
                  </a:lnTo>
                  <a:lnTo>
                    <a:pt x="893" y="1448"/>
                  </a:lnTo>
                  <a:lnTo>
                    <a:pt x="837" y="14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072120" y="2873160"/>
              <a:ext cx="272880" cy="463680"/>
            </a:xfrm>
            <a:custGeom>
              <a:avLst/>
              <a:gdLst/>
              <a:ahLst/>
              <a:rect l="l" t="t" r="r" b="b"/>
              <a:pathLst>
                <a:path w="858" h="1462">
                  <a:moveTo>
                    <a:pt x="836" y="1462"/>
                  </a:moveTo>
                  <a:lnTo>
                    <a:pt x="0" y="13"/>
                  </a:lnTo>
                  <a:lnTo>
                    <a:pt x="22" y="0"/>
                  </a:lnTo>
                  <a:lnTo>
                    <a:pt x="137" y="138"/>
                  </a:lnTo>
                  <a:lnTo>
                    <a:pt x="155" y="127"/>
                  </a:lnTo>
                  <a:lnTo>
                    <a:pt x="810" y="1261"/>
                  </a:lnTo>
                  <a:lnTo>
                    <a:pt x="789" y="1274"/>
                  </a:lnTo>
                  <a:lnTo>
                    <a:pt x="858" y="1448"/>
                  </a:lnTo>
                  <a:lnTo>
                    <a:pt x="836" y="1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094440" y="2890800"/>
              <a:ext cx="245880" cy="415800"/>
            </a:xfrm>
            <a:custGeom>
              <a:avLst/>
              <a:gdLst/>
              <a:ahLst/>
              <a:rect l="l" t="t" r="r" b="b"/>
              <a:pathLst>
                <a:path w="773" h="1308">
                  <a:moveTo>
                    <a:pt x="754" y="1308"/>
                  </a:moveTo>
                  <a:lnTo>
                    <a:pt x="0" y="0"/>
                  </a:lnTo>
                  <a:lnTo>
                    <a:pt x="66" y="80"/>
                  </a:lnTo>
                  <a:lnTo>
                    <a:pt x="118" y="49"/>
                  </a:lnTo>
                  <a:lnTo>
                    <a:pt x="773" y="1184"/>
                  </a:lnTo>
                  <a:lnTo>
                    <a:pt x="718" y="1216"/>
                  </a:lnTo>
                  <a:lnTo>
                    <a:pt x="754" y="13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121440" y="2900160"/>
              <a:ext cx="230040" cy="373320"/>
            </a:xfrm>
            <a:custGeom>
              <a:avLst/>
              <a:gdLst/>
              <a:ahLst/>
              <a:rect l="l" t="t" r="r" b="b"/>
              <a:pathLst>
                <a:path w="723" h="1173">
                  <a:moveTo>
                    <a:pt x="655" y="1173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23" y="1134"/>
                  </a:lnTo>
                  <a:lnTo>
                    <a:pt x="655" y="1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132600" y="2894040"/>
              <a:ext cx="228600" cy="372960"/>
            </a:xfrm>
            <a:custGeom>
              <a:avLst/>
              <a:gdLst/>
              <a:ahLst/>
              <a:rect l="l" t="t" r="r" b="b"/>
              <a:pathLst>
                <a:path w="722" h="1174">
                  <a:moveTo>
                    <a:pt x="655" y="1174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22" y="1134"/>
                  </a:lnTo>
                  <a:lnTo>
                    <a:pt x="655" y="1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141960" y="2889360"/>
              <a:ext cx="230040" cy="371160"/>
            </a:xfrm>
            <a:custGeom>
              <a:avLst/>
              <a:gdLst/>
              <a:ahLst/>
              <a:rect l="l" t="t" r="r" b="b"/>
              <a:pathLst>
                <a:path w="723" h="1173">
                  <a:moveTo>
                    <a:pt x="656" y="1173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23" y="1134"/>
                  </a:lnTo>
                  <a:lnTo>
                    <a:pt x="656" y="1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5" name=""/>
            <p:cNvGrpSpPr/>
            <p:nvPr/>
          </p:nvGrpSpPr>
          <p:grpSpPr>
            <a:xfrm>
              <a:off x="4151160" y="2590920"/>
              <a:ext cx="2649600" cy="1728720"/>
              <a:chOff x="4151160" y="2590920"/>
              <a:chExt cx="2649600" cy="1728720"/>
            </a:xfrm>
          </p:grpSpPr>
          <p:sp>
            <p:nvSpPr>
              <p:cNvPr id="1476" name=""/>
              <p:cNvSpPr/>
              <p:nvPr/>
            </p:nvSpPr>
            <p:spPr>
              <a:xfrm>
                <a:off x="6153120" y="2882880"/>
                <a:ext cx="230040" cy="371520"/>
              </a:xfrm>
              <a:custGeom>
                <a:avLst/>
                <a:gdLst/>
                <a:ahLst/>
                <a:rect l="l" t="t" r="r" b="b"/>
                <a:pathLst>
                  <a:path w="722" h="1172">
                    <a:moveTo>
                      <a:pt x="654" y="1172"/>
                    </a:moveTo>
                    <a:lnTo>
                      <a:pt x="0" y="38"/>
                    </a:lnTo>
                    <a:lnTo>
                      <a:pt x="67" y="0"/>
                    </a:lnTo>
                    <a:lnTo>
                      <a:pt x="722" y="1134"/>
                    </a:lnTo>
                    <a:lnTo>
                      <a:pt x="654" y="11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164280" y="2876400"/>
                <a:ext cx="230040" cy="37152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4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5"/>
                    </a:lnTo>
                    <a:lnTo>
                      <a:pt x="654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175440" y="287028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3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186240" y="286380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2" h="1174">
                    <a:moveTo>
                      <a:pt x="655" y="1174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5"/>
                    </a:lnTo>
                    <a:lnTo>
                      <a:pt x="655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195960" y="2857320"/>
                <a:ext cx="230040" cy="37332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6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3" y="1134"/>
                    </a:lnTo>
                    <a:lnTo>
                      <a:pt x="656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207120" y="285120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2" h="1174">
                    <a:moveTo>
                      <a:pt x="655" y="1174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2" y="1135"/>
                    </a:lnTo>
                    <a:lnTo>
                      <a:pt x="655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218280" y="284472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2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229440" y="2838240"/>
                <a:ext cx="228600" cy="373320"/>
              </a:xfrm>
              <a:custGeom>
                <a:avLst/>
                <a:gdLst/>
                <a:ahLst/>
                <a:rect l="l" t="t" r="r" b="b"/>
                <a:pathLst>
                  <a:path w="723" h="1174">
                    <a:moveTo>
                      <a:pt x="654" y="1174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3" y="1134"/>
                    </a:lnTo>
                    <a:lnTo>
                      <a:pt x="654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38800" y="2833560"/>
                <a:ext cx="230040" cy="37152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4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4"/>
                    </a:lnTo>
                    <a:lnTo>
                      <a:pt x="654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249960" y="2827440"/>
                <a:ext cx="230040" cy="37116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6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3" y="1134"/>
                    </a:lnTo>
                    <a:lnTo>
                      <a:pt x="656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261120" y="2820960"/>
                <a:ext cx="228600" cy="371520"/>
              </a:xfrm>
              <a:custGeom>
                <a:avLst/>
                <a:gdLst/>
                <a:ahLst/>
                <a:rect l="l" t="t" r="r" b="b"/>
                <a:pathLst>
                  <a:path w="722" h="1174">
                    <a:moveTo>
                      <a:pt x="655" y="1174"/>
                    </a:moveTo>
                    <a:lnTo>
                      <a:pt x="0" y="40"/>
                    </a:lnTo>
                    <a:lnTo>
                      <a:pt x="67" y="0"/>
                    </a:lnTo>
                    <a:lnTo>
                      <a:pt x="722" y="1135"/>
                    </a:lnTo>
                    <a:lnTo>
                      <a:pt x="655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272280" y="2814480"/>
                <a:ext cx="228600" cy="37152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2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281640" y="2808360"/>
                <a:ext cx="230040" cy="372960"/>
              </a:xfrm>
              <a:custGeom>
                <a:avLst/>
                <a:gdLst/>
                <a:ahLst/>
                <a:rect l="l" t="t" r="r" b="b"/>
                <a:pathLst>
                  <a:path w="723" h="1174">
                    <a:moveTo>
                      <a:pt x="655" y="1174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3" y="1135"/>
                    </a:lnTo>
                    <a:lnTo>
                      <a:pt x="655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292800" y="2801880"/>
                <a:ext cx="230040" cy="37296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4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4"/>
                    </a:lnTo>
                    <a:lnTo>
                      <a:pt x="654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303960" y="2795400"/>
                <a:ext cx="228600" cy="37332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5" y="1173"/>
                    </a:moveTo>
                    <a:lnTo>
                      <a:pt x="0" y="38"/>
                    </a:lnTo>
                    <a:lnTo>
                      <a:pt x="68" y="0"/>
                    </a:lnTo>
                    <a:lnTo>
                      <a:pt x="723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315120" y="278928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3" h="1172">
                    <a:moveTo>
                      <a:pt x="655" y="1172"/>
                    </a:moveTo>
                    <a:lnTo>
                      <a:pt x="0" y="38"/>
                    </a:lnTo>
                    <a:lnTo>
                      <a:pt x="67" y="0"/>
                    </a:lnTo>
                    <a:lnTo>
                      <a:pt x="723" y="1134"/>
                    </a:lnTo>
                    <a:lnTo>
                      <a:pt x="655" y="11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324480" y="2782800"/>
                <a:ext cx="230400" cy="37296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335640" y="2776320"/>
                <a:ext cx="230040" cy="373320"/>
              </a:xfrm>
              <a:custGeom>
                <a:avLst/>
                <a:gdLst/>
                <a:ahLst/>
                <a:rect l="l" t="t" r="r" b="b"/>
                <a:pathLst>
                  <a:path w="723" h="1174">
                    <a:moveTo>
                      <a:pt x="656" y="1174"/>
                    </a:moveTo>
                    <a:lnTo>
                      <a:pt x="0" y="40"/>
                    </a:lnTo>
                    <a:lnTo>
                      <a:pt x="67" y="0"/>
                    </a:lnTo>
                    <a:lnTo>
                      <a:pt x="723" y="1135"/>
                    </a:lnTo>
                    <a:lnTo>
                      <a:pt x="656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346800" y="2771640"/>
                <a:ext cx="228600" cy="37152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2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356160" y="2765520"/>
                <a:ext cx="230400" cy="371160"/>
              </a:xfrm>
              <a:custGeom>
                <a:avLst/>
                <a:gdLst/>
                <a:ahLst/>
                <a:rect l="l" t="t" r="r" b="b"/>
                <a:pathLst>
                  <a:path w="723" h="1174">
                    <a:moveTo>
                      <a:pt x="656" y="1174"/>
                    </a:moveTo>
                    <a:lnTo>
                      <a:pt x="0" y="39"/>
                    </a:lnTo>
                    <a:lnTo>
                      <a:pt x="69" y="0"/>
                    </a:lnTo>
                    <a:lnTo>
                      <a:pt x="723" y="1135"/>
                    </a:lnTo>
                    <a:lnTo>
                      <a:pt x="656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367320" y="2759040"/>
                <a:ext cx="230400" cy="37152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4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3" y="1134"/>
                    </a:lnTo>
                    <a:lnTo>
                      <a:pt x="654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378480" y="2751120"/>
                <a:ext cx="230040" cy="374760"/>
              </a:xfrm>
              <a:custGeom>
                <a:avLst/>
                <a:gdLst/>
                <a:ahLst/>
                <a:rect l="l" t="t" r="r" b="b"/>
                <a:pathLst>
                  <a:path w="724" h="1177">
                    <a:moveTo>
                      <a:pt x="654" y="1177"/>
                    </a:moveTo>
                    <a:lnTo>
                      <a:pt x="0" y="42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724" y="1141"/>
                    </a:lnTo>
                    <a:lnTo>
                      <a:pt x="719" y="1139"/>
                    </a:lnTo>
                    <a:lnTo>
                      <a:pt x="654" y="11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389640" y="2730600"/>
                <a:ext cx="237960" cy="390240"/>
              </a:xfrm>
              <a:custGeom>
                <a:avLst/>
                <a:gdLst/>
                <a:ahLst/>
                <a:rect l="l" t="t" r="r" b="b"/>
                <a:pathLst>
                  <a:path w="749" h="1227">
                    <a:moveTo>
                      <a:pt x="656" y="1221"/>
                    </a:moveTo>
                    <a:lnTo>
                      <a:pt x="0" y="87"/>
                    </a:lnTo>
                    <a:lnTo>
                      <a:pt x="31" y="69"/>
                    </a:lnTo>
                    <a:lnTo>
                      <a:pt x="40" y="0"/>
                    </a:lnTo>
                    <a:lnTo>
                      <a:pt x="749" y="1227"/>
                    </a:lnTo>
                    <a:lnTo>
                      <a:pt x="686" y="1203"/>
                    </a:lnTo>
                    <a:lnTo>
                      <a:pt x="656" y="12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399000" y="2711520"/>
                <a:ext cx="246240" cy="415800"/>
              </a:xfrm>
              <a:custGeom>
                <a:avLst/>
                <a:gdLst/>
                <a:ahLst/>
                <a:rect l="l" t="t" r="r" b="b"/>
                <a:pathLst>
                  <a:path w="775" h="1312">
                    <a:moveTo>
                      <a:pt x="659" y="1268"/>
                    </a:moveTo>
                    <a:lnTo>
                      <a:pt x="0" y="127"/>
                    </a:lnTo>
                    <a:lnTo>
                      <a:pt x="17" y="0"/>
                    </a:lnTo>
                    <a:lnTo>
                      <a:pt x="775" y="1312"/>
                    </a:lnTo>
                    <a:lnTo>
                      <a:pt x="659" y="12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402240" y="2690640"/>
                <a:ext cx="262080" cy="444600"/>
              </a:xfrm>
              <a:custGeom>
                <a:avLst/>
                <a:gdLst/>
                <a:ahLst/>
                <a:rect l="l" t="t" r="r" b="b"/>
                <a:pathLst>
                  <a:path w="825" h="1398">
                    <a:moveTo>
                      <a:pt x="709" y="1353"/>
                    </a:moveTo>
                    <a:lnTo>
                      <a:pt x="0" y="126"/>
                    </a:lnTo>
                    <a:lnTo>
                      <a:pt x="17" y="0"/>
                    </a:lnTo>
                    <a:lnTo>
                      <a:pt x="825" y="1398"/>
                    </a:lnTo>
                    <a:lnTo>
                      <a:pt x="709" y="13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405480" y="2670120"/>
                <a:ext cx="276120" cy="471600"/>
              </a:xfrm>
              <a:custGeom>
                <a:avLst/>
                <a:gdLst/>
                <a:ahLst/>
                <a:rect l="l" t="t" r="r" b="b"/>
                <a:pathLst>
                  <a:path w="873" h="1484">
                    <a:moveTo>
                      <a:pt x="758" y="1439"/>
                    </a:moveTo>
                    <a:lnTo>
                      <a:pt x="0" y="127"/>
                    </a:lnTo>
                    <a:lnTo>
                      <a:pt x="16" y="0"/>
                    </a:lnTo>
                    <a:lnTo>
                      <a:pt x="873" y="1484"/>
                    </a:lnTo>
                    <a:lnTo>
                      <a:pt x="758" y="14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406920" y="2651040"/>
                <a:ext cx="293760" cy="498600"/>
              </a:xfrm>
              <a:custGeom>
                <a:avLst/>
                <a:gdLst/>
                <a:ahLst/>
                <a:rect l="l" t="t" r="r" b="b"/>
                <a:pathLst>
                  <a:path w="923" h="1570">
                    <a:moveTo>
                      <a:pt x="808" y="1525"/>
                    </a:moveTo>
                    <a:lnTo>
                      <a:pt x="0" y="127"/>
                    </a:lnTo>
                    <a:lnTo>
                      <a:pt x="17" y="0"/>
                    </a:lnTo>
                    <a:lnTo>
                      <a:pt x="923" y="1570"/>
                    </a:lnTo>
                    <a:lnTo>
                      <a:pt x="808" y="15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410160" y="2638440"/>
                <a:ext cx="308160" cy="515880"/>
              </a:xfrm>
              <a:custGeom>
                <a:avLst/>
                <a:gdLst/>
                <a:ahLst/>
                <a:rect l="l" t="t" r="r" b="b"/>
                <a:pathLst>
                  <a:path w="970" h="1627">
                    <a:moveTo>
                      <a:pt x="857" y="1586"/>
                    </a:moveTo>
                    <a:lnTo>
                      <a:pt x="0" y="102"/>
                    </a:lnTo>
                    <a:lnTo>
                      <a:pt x="13" y="11"/>
                    </a:lnTo>
                    <a:lnTo>
                      <a:pt x="32" y="0"/>
                    </a:lnTo>
                    <a:lnTo>
                      <a:pt x="970" y="1624"/>
                    </a:lnTo>
                    <a:lnTo>
                      <a:pt x="963" y="1627"/>
                    </a:lnTo>
                    <a:lnTo>
                      <a:pt x="857" y="15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413400" y="2631960"/>
                <a:ext cx="314280" cy="522360"/>
              </a:xfrm>
              <a:custGeom>
                <a:avLst/>
                <a:gdLst/>
                <a:ahLst/>
                <a:rect l="l" t="t" r="r" b="b"/>
                <a:pathLst>
                  <a:path w="994" h="1646">
                    <a:moveTo>
                      <a:pt x="906" y="1628"/>
                    </a:moveTo>
                    <a:lnTo>
                      <a:pt x="0" y="58"/>
                    </a:lnTo>
                    <a:lnTo>
                      <a:pt x="4" y="30"/>
                    </a:lnTo>
                    <a:lnTo>
                      <a:pt x="57" y="0"/>
                    </a:lnTo>
                    <a:lnTo>
                      <a:pt x="994" y="1623"/>
                    </a:lnTo>
                    <a:lnTo>
                      <a:pt x="954" y="1646"/>
                    </a:lnTo>
                    <a:lnTo>
                      <a:pt x="906" y="16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419880" y="2625840"/>
                <a:ext cx="318960" cy="528480"/>
              </a:xfrm>
              <a:custGeom>
                <a:avLst/>
                <a:gdLst/>
                <a:ahLst/>
                <a:rect l="l" t="t" r="r" b="b"/>
                <a:pathLst>
                  <a:path w="1005" h="1663">
                    <a:moveTo>
                      <a:pt x="938" y="1663"/>
                    </a:moveTo>
                    <a:lnTo>
                      <a:pt x="0" y="39"/>
                    </a:lnTo>
                    <a:lnTo>
                      <a:pt x="56" y="6"/>
                    </a:lnTo>
                    <a:lnTo>
                      <a:pt x="67" y="0"/>
                    </a:lnTo>
                    <a:lnTo>
                      <a:pt x="1005" y="1624"/>
                    </a:lnTo>
                    <a:lnTo>
                      <a:pt x="938" y="16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431040" y="2619360"/>
                <a:ext cx="318960" cy="522360"/>
              </a:xfrm>
              <a:custGeom>
                <a:avLst/>
                <a:gdLst/>
                <a:ahLst/>
                <a:rect l="l" t="t" r="r" b="b"/>
                <a:pathLst>
                  <a:path w="1004" h="1645">
                    <a:moveTo>
                      <a:pt x="0" y="40"/>
                    </a:moveTo>
                    <a:lnTo>
                      <a:pt x="67" y="0"/>
                    </a:lnTo>
                    <a:lnTo>
                      <a:pt x="1004" y="1624"/>
                    </a:lnTo>
                    <a:lnTo>
                      <a:pt x="969" y="1645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441840" y="2612880"/>
                <a:ext cx="319320" cy="528840"/>
              </a:xfrm>
              <a:custGeom>
                <a:avLst/>
                <a:gdLst/>
                <a:ahLst/>
                <a:rect l="l" t="t" r="r" b="b"/>
                <a:pathLst>
                  <a:path w="1005" h="1663">
                    <a:moveTo>
                      <a:pt x="938" y="1663"/>
                    </a:moveTo>
                    <a:lnTo>
                      <a:pt x="0" y="39"/>
                    </a:lnTo>
                    <a:lnTo>
                      <a:pt x="11" y="33"/>
                    </a:lnTo>
                    <a:lnTo>
                      <a:pt x="67" y="0"/>
                    </a:lnTo>
                    <a:lnTo>
                      <a:pt x="1005" y="1625"/>
                    </a:lnTo>
                    <a:lnTo>
                      <a:pt x="938" y="16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451560" y="2606760"/>
                <a:ext cx="320760" cy="528480"/>
              </a:xfrm>
              <a:custGeom>
                <a:avLst/>
                <a:gdLst/>
                <a:ahLst/>
                <a:rect l="l" t="t" r="r" b="b"/>
                <a:pathLst>
                  <a:path w="1006" h="1663">
                    <a:moveTo>
                      <a:pt x="937" y="166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1006" y="1625"/>
                    </a:lnTo>
                    <a:lnTo>
                      <a:pt x="937" y="16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462720" y="2601720"/>
                <a:ext cx="318960" cy="527040"/>
              </a:xfrm>
              <a:custGeom>
                <a:avLst/>
                <a:gdLst/>
                <a:ahLst/>
                <a:rect l="l" t="t" r="r" b="b"/>
                <a:pathLst>
                  <a:path w="1006" h="1664">
                    <a:moveTo>
                      <a:pt x="938" y="1664"/>
                    </a:moveTo>
                    <a:lnTo>
                      <a:pt x="0" y="39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1006" y="1625"/>
                    </a:lnTo>
                    <a:lnTo>
                      <a:pt x="938" y="16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473880" y="2597040"/>
                <a:ext cx="318960" cy="525600"/>
              </a:xfrm>
              <a:custGeom>
                <a:avLst/>
                <a:gdLst/>
                <a:ahLst/>
                <a:rect l="l" t="t" r="r" b="b"/>
                <a:pathLst>
                  <a:path w="1006" h="1657">
                    <a:moveTo>
                      <a:pt x="939" y="1657"/>
                    </a:moveTo>
                    <a:lnTo>
                      <a:pt x="0" y="32"/>
                    </a:lnTo>
                    <a:lnTo>
                      <a:pt x="57" y="0"/>
                    </a:lnTo>
                    <a:lnTo>
                      <a:pt x="939" y="1657"/>
                    </a:lnTo>
                    <a:close/>
                    <a:moveTo>
                      <a:pt x="939" y="1657"/>
                    </a:moveTo>
                    <a:lnTo>
                      <a:pt x="1006" y="1618"/>
                    </a:lnTo>
                    <a:lnTo>
                      <a:pt x="939" y="16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484680" y="2590920"/>
                <a:ext cx="316080" cy="527040"/>
              </a:xfrm>
              <a:custGeom>
                <a:avLst/>
                <a:gdLst/>
                <a:ahLst/>
                <a:rect l="l" t="t" r="r" b="b"/>
                <a:pathLst>
                  <a:path w="996" h="1659">
                    <a:moveTo>
                      <a:pt x="937" y="1659"/>
                    </a:moveTo>
                    <a:lnTo>
                      <a:pt x="0" y="34"/>
                    </a:lnTo>
                    <a:lnTo>
                      <a:pt x="58" y="0"/>
                    </a:lnTo>
                    <a:lnTo>
                      <a:pt x="106" y="63"/>
                    </a:lnTo>
                    <a:lnTo>
                      <a:pt x="970" y="1559"/>
                    </a:lnTo>
                    <a:lnTo>
                      <a:pt x="996" y="1624"/>
                    </a:lnTo>
                    <a:lnTo>
                      <a:pt x="937" y="16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502320" y="2590920"/>
                <a:ext cx="298440" cy="520560"/>
              </a:xfrm>
              <a:custGeom>
                <a:avLst/>
                <a:gdLst/>
                <a:ahLst/>
                <a:rect l="l" t="t" r="r" b="b"/>
                <a:pathLst>
                  <a:path w="938" h="1639">
                    <a:moveTo>
                      <a:pt x="310" y="440"/>
                    </a:moveTo>
                    <a:lnTo>
                      <a:pt x="751" y="1202"/>
                    </a:lnTo>
                    <a:lnTo>
                      <a:pt x="833" y="1367"/>
                    </a:lnTo>
                    <a:lnTo>
                      <a:pt x="938" y="1624"/>
                    </a:lnTo>
                    <a:lnTo>
                      <a:pt x="913" y="1639"/>
                    </a:lnTo>
                    <a:lnTo>
                      <a:pt x="310" y="440"/>
                    </a:lnTo>
                    <a:close/>
                    <a:moveTo>
                      <a:pt x="310" y="440"/>
                    </a:moveTo>
                    <a:lnTo>
                      <a:pt x="224" y="313"/>
                    </a:lnTo>
                    <a:lnTo>
                      <a:pt x="101" y="133"/>
                    </a:lnTo>
                    <a:lnTo>
                      <a:pt x="0" y="0"/>
                    </a:lnTo>
                    <a:lnTo>
                      <a:pt x="310" y="4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518160" y="2609640"/>
                <a:ext cx="274680" cy="476280"/>
              </a:xfrm>
              <a:custGeom>
                <a:avLst/>
                <a:gdLst/>
                <a:ahLst/>
                <a:rect l="l" t="t" r="r" b="b"/>
                <a:pathLst>
                  <a:path w="864" h="1496">
                    <a:moveTo>
                      <a:pt x="864" y="1496"/>
                    </a:moveTo>
                    <a:lnTo>
                      <a:pt x="0" y="0"/>
                    </a:lnTo>
                    <a:lnTo>
                      <a:pt x="53" y="70"/>
                    </a:lnTo>
                    <a:lnTo>
                      <a:pt x="176" y="250"/>
                    </a:lnTo>
                    <a:lnTo>
                      <a:pt x="339" y="488"/>
                    </a:lnTo>
                    <a:lnTo>
                      <a:pt x="474" y="704"/>
                    </a:lnTo>
                    <a:lnTo>
                      <a:pt x="597" y="928"/>
                    </a:lnTo>
                    <a:lnTo>
                      <a:pt x="785" y="1304"/>
                    </a:lnTo>
                    <a:lnTo>
                      <a:pt x="864" y="149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600600" y="2730600"/>
                <a:ext cx="141480" cy="241200"/>
              </a:xfrm>
              <a:custGeom>
                <a:avLst/>
                <a:gdLst/>
                <a:ahLst/>
                <a:rect l="l" t="t" r="r" b="b"/>
                <a:pathLst>
                  <a:path w="441" h="762">
                    <a:moveTo>
                      <a:pt x="441" y="762"/>
                    </a:moveTo>
                    <a:lnTo>
                      <a:pt x="0" y="0"/>
                    </a:lnTo>
                    <a:lnTo>
                      <a:pt x="77" y="111"/>
                    </a:lnTo>
                    <a:lnTo>
                      <a:pt x="212" y="327"/>
                    </a:lnTo>
                    <a:lnTo>
                      <a:pt x="335" y="551"/>
                    </a:lnTo>
                    <a:lnTo>
                      <a:pt x="441" y="7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4151160" y="2590920"/>
                <a:ext cx="2649600" cy="1728720"/>
              </a:xfrm>
              <a:custGeom>
                <a:avLst/>
                <a:gdLst/>
                <a:ahLst/>
                <a:rect l="l" t="t" r="r" b="b"/>
                <a:pathLst>
                  <a:path w="8343" h="5444">
                    <a:moveTo>
                      <a:pt x="7125" y="162"/>
                    </a:moveTo>
                    <a:lnTo>
                      <a:pt x="7078" y="512"/>
                    </a:lnTo>
                    <a:lnTo>
                      <a:pt x="6185" y="1028"/>
                    </a:lnTo>
                    <a:lnTo>
                      <a:pt x="6070" y="890"/>
                    </a:lnTo>
                    <a:lnTo>
                      <a:pt x="5818" y="1035"/>
                    </a:lnTo>
                    <a:lnTo>
                      <a:pt x="5656" y="1269"/>
                    </a:lnTo>
                    <a:lnTo>
                      <a:pt x="1206" y="3839"/>
                    </a:lnTo>
                    <a:lnTo>
                      <a:pt x="218" y="5023"/>
                    </a:lnTo>
                    <a:lnTo>
                      <a:pt x="0" y="5178"/>
                    </a:lnTo>
                    <a:lnTo>
                      <a:pt x="8" y="5254"/>
                    </a:lnTo>
                    <a:lnTo>
                      <a:pt x="32" y="5333"/>
                    </a:lnTo>
                    <a:lnTo>
                      <a:pt x="94" y="5402"/>
                    </a:lnTo>
                    <a:lnTo>
                      <a:pt x="167" y="5444"/>
                    </a:lnTo>
                    <a:lnTo>
                      <a:pt x="399" y="5339"/>
                    </a:lnTo>
                    <a:lnTo>
                      <a:pt x="1931" y="5055"/>
                    </a:lnTo>
                    <a:lnTo>
                      <a:pt x="6360" y="2500"/>
                    </a:lnTo>
                    <a:lnTo>
                      <a:pt x="6664" y="2479"/>
                    </a:lnTo>
                    <a:lnTo>
                      <a:pt x="6906" y="2338"/>
                    </a:lnTo>
                    <a:lnTo>
                      <a:pt x="6837" y="2164"/>
                    </a:lnTo>
                    <a:lnTo>
                      <a:pt x="7733" y="1646"/>
                    </a:lnTo>
                    <a:lnTo>
                      <a:pt x="8075" y="1778"/>
                    </a:lnTo>
                    <a:lnTo>
                      <a:pt x="8343" y="1624"/>
                    </a:lnTo>
                    <a:lnTo>
                      <a:pt x="8238" y="1367"/>
                    </a:lnTo>
                    <a:lnTo>
                      <a:pt x="8050" y="991"/>
                    </a:lnTo>
                    <a:lnTo>
                      <a:pt x="7927" y="767"/>
                    </a:lnTo>
                    <a:lnTo>
                      <a:pt x="7792" y="551"/>
                    </a:lnTo>
                    <a:lnTo>
                      <a:pt x="7629" y="313"/>
                    </a:lnTo>
                    <a:lnTo>
                      <a:pt x="7506" y="133"/>
                    </a:lnTo>
                    <a:lnTo>
                      <a:pt x="7405" y="0"/>
                    </a:lnTo>
                    <a:lnTo>
                      <a:pt x="7125" y="162"/>
                    </a:lnTo>
                    <a:lnTo>
                      <a:pt x="7125" y="162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206960" y="42433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7" y="0"/>
                    </a:moveTo>
                    <a:lnTo>
                      <a:pt x="47" y="50"/>
                    </a:lnTo>
                    <a:lnTo>
                      <a:pt x="0" y="4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206960" y="4232160"/>
                <a:ext cx="26640" cy="28800"/>
              </a:xfrm>
              <a:custGeom>
                <a:avLst/>
                <a:gdLst/>
                <a:ahLst/>
                <a:rect l="l" t="t" r="r" b="b"/>
                <a:pathLst>
                  <a:path w="83" h="92">
                    <a:moveTo>
                      <a:pt x="5" y="80"/>
                    </a:moveTo>
                    <a:lnTo>
                      <a:pt x="0" y="72"/>
                    </a:lnTo>
                    <a:lnTo>
                      <a:pt x="30" y="0"/>
                    </a:lnTo>
                    <a:lnTo>
                      <a:pt x="83" y="92"/>
                    </a:lnTo>
                    <a:lnTo>
                      <a:pt x="5" y="80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211640" y="4219560"/>
                <a:ext cx="34920" cy="44280"/>
              </a:xfrm>
              <a:custGeom>
                <a:avLst/>
                <a:gdLst/>
                <a:ahLst/>
                <a:rect l="l" t="t" r="r" b="b"/>
                <a:pathLst>
                  <a:path w="108" h="136">
                    <a:moveTo>
                      <a:pt x="30" y="123"/>
                    </a:moveTo>
                    <a:lnTo>
                      <a:pt x="0" y="73"/>
                    </a:lnTo>
                    <a:lnTo>
                      <a:pt x="30" y="0"/>
                    </a:lnTo>
                    <a:lnTo>
                      <a:pt x="108" y="136"/>
                    </a:lnTo>
                    <a:lnTo>
                      <a:pt x="30" y="123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216320" y="4208400"/>
                <a:ext cx="41400" cy="57240"/>
              </a:xfrm>
              <a:custGeom>
                <a:avLst/>
                <a:gdLst/>
                <a:ahLst/>
                <a:rect l="l" t="t" r="r" b="b"/>
                <a:pathLst>
                  <a:path w="132" h="179">
                    <a:moveTo>
                      <a:pt x="53" y="166"/>
                    </a:moveTo>
                    <a:lnTo>
                      <a:pt x="0" y="74"/>
                    </a:lnTo>
                    <a:lnTo>
                      <a:pt x="29" y="0"/>
                    </a:lnTo>
                    <a:lnTo>
                      <a:pt x="132" y="179"/>
                    </a:lnTo>
                    <a:lnTo>
                      <a:pt x="53" y="166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221000" y="4197240"/>
                <a:ext cx="49320" cy="69840"/>
              </a:xfrm>
              <a:custGeom>
                <a:avLst/>
                <a:gdLst/>
                <a:ahLst/>
                <a:rect l="l" t="t" r="r" b="b"/>
                <a:pathLst>
                  <a:path w="157" h="221">
                    <a:moveTo>
                      <a:pt x="78" y="209"/>
                    </a:moveTo>
                    <a:lnTo>
                      <a:pt x="0" y="73"/>
                    </a:lnTo>
                    <a:lnTo>
                      <a:pt x="29" y="0"/>
                    </a:lnTo>
                    <a:lnTo>
                      <a:pt x="157" y="221"/>
                    </a:lnTo>
                    <a:lnTo>
                      <a:pt x="78" y="209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225680" y="4187880"/>
                <a:ext cx="55800" cy="79200"/>
              </a:xfrm>
              <a:custGeom>
                <a:avLst/>
                <a:gdLst/>
                <a:ahLst/>
                <a:rect l="l" t="t" r="r" b="b"/>
                <a:pathLst>
                  <a:path w="177" h="248">
                    <a:moveTo>
                      <a:pt x="103" y="242"/>
                    </a:moveTo>
                    <a:lnTo>
                      <a:pt x="0" y="63"/>
                    </a:lnTo>
                    <a:lnTo>
                      <a:pt x="17" y="24"/>
                    </a:lnTo>
                    <a:lnTo>
                      <a:pt x="36" y="0"/>
                    </a:lnTo>
                    <a:lnTo>
                      <a:pt x="177" y="243"/>
                    </a:lnTo>
                    <a:lnTo>
                      <a:pt x="146" y="248"/>
                    </a:lnTo>
                    <a:lnTo>
                      <a:pt x="103" y="242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230720" y="4179960"/>
                <a:ext cx="60120" cy="87120"/>
              </a:xfrm>
              <a:custGeom>
                <a:avLst/>
                <a:gdLst/>
                <a:ahLst/>
                <a:rect l="l" t="t" r="r" b="b"/>
                <a:pathLst>
                  <a:path w="193" h="273">
                    <a:moveTo>
                      <a:pt x="128" y="273"/>
                    </a:moveTo>
                    <a:lnTo>
                      <a:pt x="0" y="52"/>
                    </a:lnTo>
                    <a:lnTo>
                      <a:pt x="2" y="49"/>
                    </a:lnTo>
                    <a:lnTo>
                      <a:pt x="42" y="0"/>
                    </a:lnTo>
                    <a:lnTo>
                      <a:pt x="193" y="262"/>
                    </a:lnTo>
                    <a:lnTo>
                      <a:pt x="131" y="273"/>
                    </a:lnTo>
                    <a:lnTo>
                      <a:pt x="128" y="273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236840" y="4172040"/>
                <a:ext cx="65160" cy="93600"/>
              </a:xfrm>
              <a:custGeom>
                <a:avLst/>
                <a:gdLst/>
                <a:ahLst/>
                <a:rect l="l" t="t" r="r" b="b"/>
                <a:pathLst>
                  <a:path w="205" h="293">
                    <a:moveTo>
                      <a:pt x="141" y="293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205" y="281"/>
                    </a:lnTo>
                    <a:lnTo>
                      <a:pt x="141" y="293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243320" y="4164120"/>
                <a:ext cx="68400" cy="99720"/>
              </a:xfrm>
              <a:custGeom>
                <a:avLst/>
                <a:gdLst/>
                <a:ahLst/>
                <a:rect l="l" t="t" r="r" b="b"/>
                <a:pathLst>
                  <a:path w="216" h="312">
                    <a:moveTo>
                      <a:pt x="151" y="312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216" y="300"/>
                    </a:lnTo>
                    <a:lnTo>
                      <a:pt x="151" y="312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251240" y="4156200"/>
                <a:ext cx="71280" cy="106200"/>
              </a:xfrm>
              <a:custGeom>
                <a:avLst/>
                <a:gdLst/>
                <a:ahLst/>
                <a:rect l="l" t="t" r="r" b="b"/>
                <a:pathLst>
                  <a:path w="227" h="331">
                    <a:moveTo>
                      <a:pt x="162" y="331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227" y="320"/>
                    </a:lnTo>
                    <a:lnTo>
                      <a:pt x="162" y="331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257720" y="414792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238" h="351">
                    <a:moveTo>
                      <a:pt x="173" y="351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238" y="340"/>
                    </a:lnTo>
                    <a:lnTo>
                      <a:pt x="173" y="351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263840" y="4140000"/>
                <a:ext cx="79560" cy="117720"/>
              </a:xfrm>
              <a:custGeom>
                <a:avLst/>
                <a:gdLst/>
                <a:ahLst/>
                <a:rect l="l" t="t" r="r" b="b"/>
                <a:pathLst>
                  <a:path w="250" h="371">
                    <a:moveTo>
                      <a:pt x="185" y="371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250" y="359"/>
                    </a:lnTo>
                    <a:lnTo>
                      <a:pt x="185" y="371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270320" y="4132080"/>
                <a:ext cx="84240" cy="123840"/>
              </a:xfrm>
              <a:custGeom>
                <a:avLst/>
                <a:gdLst/>
                <a:ahLst/>
                <a:rect l="l" t="t" r="r" b="b"/>
                <a:pathLst>
                  <a:path w="261" h="390">
                    <a:moveTo>
                      <a:pt x="195" y="390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261" y="378"/>
                    </a:lnTo>
                    <a:lnTo>
                      <a:pt x="195" y="390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278240" y="4124160"/>
                <a:ext cx="85680" cy="130320"/>
              </a:xfrm>
              <a:custGeom>
                <a:avLst/>
                <a:gdLst/>
                <a:ahLst/>
                <a:rect l="l" t="t" r="r" b="b"/>
                <a:pathLst>
                  <a:path w="272" h="409">
                    <a:moveTo>
                      <a:pt x="207" y="409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272" y="398"/>
                    </a:lnTo>
                    <a:lnTo>
                      <a:pt x="207" y="409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284720" y="4116240"/>
                <a:ext cx="90360" cy="136800"/>
              </a:xfrm>
              <a:custGeom>
                <a:avLst/>
                <a:gdLst/>
                <a:ahLst/>
                <a:rect l="l" t="t" r="r" b="b"/>
                <a:pathLst>
                  <a:path w="284" h="428">
                    <a:moveTo>
                      <a:pt x="219" y="428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284" y="416"/>
                    </a:lnTo>
                    <a:lnTo>
                      <a:pt x="219" y="428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290840" y="4108320"/>
                <a:ext cx="93600" cy="142920"/>
              </a:xfrm>
              <a:custGeom>
                <a:avLst/>
                <a:gdLst/>
                <a:ahLst/>
                <a:rect l="l" t="t" r="r" b="b"/>
                <a:pathLst>
                  <a:path w="294" h="449">
                    <a:moveTo>
                      <a:pt x="229" y="449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294" y="437"/>
                    </a:lnTo>
                    <a:lnTo>
                      <a:pt x="229" y="449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297320" y="4100400"/>
                <a:ext cx="98280" cy="147600"/>
              </a:xfrm>
              <a:custGeom>
                <a:avLst/>
                <a:gdLst/>
                <a:ahLst/>
                <a:rect l="l" t="t" r="r" b="b"/>
                <a:pathLst>
                  <a:path w="306" h="467">
                    <a:moveTo>
                      <a:pt x="241" y="467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306" y="456"/>
                    </a:lnTo>
                    <a:lnTo>
                      <a:pt x="241" y="467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305240" y="4092480"/>
                <a:ext cx="100080" cy="154080"/>
              </a:xfrm>
              <a:custGeom>
                <a:avLst/>
                <a:gdLst/>
                <a:ahLst/>
                <a:rect l="l" t="t" r="r" b="b"/>
                <a:pathLst>
                  <a:path w="317" h="487">
                    <a:moveTo>
                      <a:pt x="252" y="487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317" y="475"/>
                    </a:lnTo>
                    <a:lnTo>
                      <a:pt x="252" y="487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311720" y="4084560"/>
                <a:ext cx="104760" cy="160200"/>
              </a:xfrm>
              <a:custGeom>
                <a:avLst/>
                <a:gdLst/>
                <a:ahLst/>
                <a:rect l="l" t="t" r="r" b="b"/>
                <a:pathLst>
                  <a:path w="329" h="506">
                    <a:moveTo>
                      <a:pt x="264" y="506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329" y="494"/>
                    </a:lnTo>
                    <a:lnTo>
                      <a:pt x="264" y="506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317840" y="4076640"/>
                <a:ext cx="108000" cy="166680"/>
              </a:xfrm>
              <a:custGeom>
                <a:avLst/>
                <a:gdLst/>
                <a:ahLst/>
                <a:rect l="l" t="t" r="r" b="b"/>
                <a:pathLst>
                  <a:path w="339" h="525">
                    <a:moveTo>
                      <a:pt x="274" y="525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339" y="513"/>
                    </a:lnTo>
                    <a:lnTo>
                      <a:pt x="274" y="525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324320" y="4068720"/>
                <a:ext cx="112680" cy="173160"/>
              </a:xfrm>
              <a:custGeom>
                <a:avLst/>
                <a:gdLst/>
                <a:ahLst/>
                <a:rect l="l" t="t" r="r" b="b"/>
                <a:pathLst>
                  <a:path w="351" h="545">
                    <a:moveTo>
                      <a:pt x="286" y="545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351" y="534"/>
                    </a:lnTo>
                    <a:lnTo>
                      <a:pt x="286" y="545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332240" y="4060800"/>
                <a:ext cx="114120" cy="179280"/>
              </a:xfrm>
              <a:custGeom>
                <a:avLst/>
                <a:gdLst/>
                <a:ahLst/>
                <a:rect l="l" t="t" r="r" b="b"/>
                <a:pathLst>
                  <a:path w="362" h="564">
                    <a:moveTo>
                      <a:pt x="297" y="564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362" y="553"/>
                    </a:lnTo>
                    <a:lnTo>
                      <a:pt x="297" y="564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338720" y="4052880"/>
                <a:ext cx="118800" cy="185760"/>
              </a:xfrm>
              <a:custGeom>
                <a:avLst/>
                <a:gdLst/>
                <a:ahLst/>
                <a:rect l="l" t="t" r="r" b="b"/>
                <a:pathLst>
                  <a:path w="373" h="584">
                    <a:moveTo>
                      <a:pt x="308" y="584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373" y="572"/>
                    </a:lnTo>
                    <a:lnTo>
                      <a:pt x="308" y="584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344840" y="4044960"/>
                <a:ext cx="122400" cy="190440"/>
              </a:xfrm>
              <a:custGeom>
                <a:avLst/>
                <a:gdLst/>
                <a:ahLst/>
                <a:rect l="l" t="t" r="r" b="b"/>
                <a:pathLst>
                  <a:path w="385" h="603">
                    <a:moveTo>
                      <a:pt x="319" y="603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385" y="591"/>
                    </a:lnTo>
                    <a:lnTo>
                      <a:pt x="319" y="603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351320" y="4037040"/>
                <a:ext cx="127080" cy="196920"/>
              </a:xfrm>
              <a:custGeom>
                <a:avLst/>
                <a:gdLst/>
                <a:ahLst/>
                <a:rect l="l" t="t" r="r" b="b"/>
                <a:pathLst>
                  <a:path w="396" h="622">
                    <a:moveTo>
                      <a:pt x="331" y="622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396" y="611"/>
                    </a:lnTo>
                    <a:lnTo>
                      <a:pt x="331" y="622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359240" y="4029120"/>
                <a:ext cx="128520" cy="203040"/>
              </a:xfrm>
              <a:custGeom>
                <a:avLst/>
                <a:gdLst/>
                <a:ahLst/>
                <a:rect l="l" t="t" r="r" b="b"/>
                <a:pathLst>
                  <a:path w="406" h="642">
                    <a:moveTo>
                      <a:pt x="342" y="642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406" y="630"/>
                    </a:lnTo>
                    <a:lnTo>
                      <a:pt x="342" y="642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365720" y="4021200"/>
                <a:ext cx="131760" cy="209520"/>
              </a:xfrm>
              <a:custGeom>
                <a:avLst/>
                <a:gdLst/>
                <a:ahLst/>
                <a:rect l="l" t="t" r="r" b="b"/>
                <a:pathLst>
                  <a:path w="417" h="662">
                    <a:moveTo>
                      <a:pt x="353" y="662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417" y="649"/>
                    </a:lnTo>
                    <a:lnTo>
                      <a:pt x="353" y="662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371840" y="4013280"/>
                <a:ext cx="136440" cy="215640"/>
              </a:xfrm>
              <a:custGeom>
                <a:avLst/>
                <a:gdLst/>
                <a:ahLst/>
                <a:rect l="l" t="t" r="r" b="b"/>
                <a:pathLst>
                  <a:path w="429" h="680">
                    <a:moveTo>
                      <a:pt x="364" y="680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429" y="669"/>
                    </a:lnTo>
                    <a:lnTo>
                      <a:pt x="364" y="680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378320" y="4005360"/>
                <a:ext cx="139680" cy="220680"/>
              </a:xfrm>
              <a:custGeom>
                <a:avLst/>
                <a:gdLst/>
                <a:ahLst/>
                <a:rect l="l" t="t" r="r" b="b"/>
                <a:pathLst>
                  <a:path w="440" h="699">
                    <a:moveTo>
                      <a:pt x="375" y="699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440" y="688"/>
                    </a:lnTo>
                    <a:lnTo>
                      <a:pt x="375" y="699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386240" y="3997440"/>
                <a:ext cx="142920" cy="226800"/>
              </a:xfrm>
              <a:custGeom>
                <a:avLst/>
                <a:gdLst/>
                <a:ahLst/>
                <a:rect l="l" t="t" r="r" b="b"/>
                <a:pathLst>
                  <a:path w="451" h="719">
                    <a:moveTo>
                      <a:pt x="386" y="719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451" y="707"/>
                    </a:lnTo>
                    <a:lnTo>
                      <a:pt x="386" y="719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392360" y="3987720"/>
                <a:ext cx="146160" cy="235080"/>
              </a:xfrm>
              <a:custGeom>
                <a:avLst/>
                <a:gdLst/>
                <a:ahLst/>
                <a:rect l="l" t="t" r="r" b="b"/>
                <a:pathLst>
                  <a:path w="462" h="739">
                    <a:moveTo>
                      <a:pt x="397" y="739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462" y="727"/>
                    </a:lnTo>
                    <a:lnTo>
                      <a:pt x="397" y="739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398840" y="3979800"/>
                <a:ext cx="150840" cy="241200"/>
              </a:xfrm>
              <a:custGeom>
                <a:avLst/>
                <a:gdLst/>
                <a:ahLst/>
                <a:rect l="l" t="t" r="r" b="b"/>
                <a:pathLst>
                  <a:path w="474" h="758">
                    <a:moveTo>
                      <a:pt x="409" y="758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474" y="747"/>
                    </a:lnTo>
                    <a:lnTo>
                      <a:pt x="409" y="758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406760" y="3971880"/>
                <a:ext cx="154080" cy="247680"/>
              </a:xfrm>
              <a:custGeom>
                <a:avLst/>
                <a:gdLst/>
                <a:ahLst/>
                <a:rect l="l" t="t" r="r" b="b"/>
                <a:pathLst>
                  <a:path w="485" h="777">
                    <a:moveTo>
                      <a:pt x="419" y="777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485" y="765"/>
                    </a:lnTo>
                    <a:lnTo>
                      <a:pt x="419" y="777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413240" y="3963960"/>
                <a:ext cx="156960" cy="253800"/>
              </a:xfrm>
              <a:custGeom>
                <a:avLst/>
                <a:gdLst/>
                <a:ahLst/>
                <a:rect l="l" t="t" r="r" b="b"/>
                <a:pathLst>
                  <a:path w="496" h="797">
                    <a:moveTo>
                      <a:pt x="431" y="797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496" y="785"/>
                    </a:lnTo>
                    <a:lnTo>
                      <a:pt x="431" y="797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4419360" y="3956040"/>
                <a:ext cx="162000" cy="258840"/>
              </a:xfrm>
              <a:custGeom>
                <a:avLst/>
                <a:gdLst/>
                <a:ahLst/>
                <a:rect l="l" t="t" r="r" b="b"/>
                <a:pathLst>
                  <a:path w="508" h="815">
                    <a:moveTo>
                      <a:pt x="443" y="815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508" y="804"/>
                    </a:lnTo>
                    <a:lnTo>
                      <a:pt x="443" y="815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425840" y="3948120"/>
                <a:ext cx="165240" cy="264960"/>
              </a:xfrm>
              <a:custGeom>
                <a:avLst/>
                <a:gdLst/>
                <a:ahLst/>
                <a:rect l="l" t="t" r="r" b="b"/>
                <a:pathLst>
                  <a:path w="518" h="836">
                    <a:moveTo>
                      <a:pt x="453" y="836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518" y="824"/>
                    </a:lnTo>
                    <a:lnTo>
                      <a:pt x="453" y="836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433760" y="3940200"/>
                <a:ext cx="168480" cy="271440"/>
              </a:xfrm>
              <a:custGeom>
                <a:avLst/>
                <a:gdLst/>
                <a:ahLst/>
                <a:rect l="l" t="t" r="r" b="b"/>
                <a:pathLst>
                  <a:path w="530" h="855">
                    <a:moveTo>
                      <a:pt x="465" y="855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530" y="843"/>
                    </a:lnTo>
                    <a:lnTo>
                      <a:pt x="465" y="855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440240" y="3932280"/>
                <a:ext cx="171360" cy="277560"/>
              </a:xfrm>
              <a:custGeom>
                <a:avLst/>
                <a:gdLst/>
                <a:ahLst/>
                <a:rect l="l" t="t" r="r" b="b"/>
                <a:pathLst>
                  <a:path w="541" h="874">
                    <a:moveTo>
                      <a:pt x="476" y="874"/>
                    </a:moveTo>
                    <a:lnTo>
                      <a:pt x="0" y="50"/>
                    </a:lnTo>
                    <a:lnTo>
                      <a:pt x="44" y="0"/>
                    </a:lnTo>
                    <a:lnTo>
                      <a:pt x="541" y="862"/>
                    </a:lnTo>
                    <a:lnTo>
                      <a:pt x="476" y="874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446360" y="3924360"/>
                <a:ext cx="176400" cy="284040"/>
              </a:xfrm>
              <a:custGeom>
                <a:avLst/>
                <a:gdLst/>
                <a:ahLst/>
                <a:rect l="l" t="t" r="r" b="b"/>
                <a:pathLst>
                  <a:path w="553" h="893">
                    <a:moveTo>
                      <a:pt x="488" y="893"/>
                    </a:moveTo>
                    <a:lnTo>
                      <a:pt x="0" y="50"/>
                    </a:lnTo>
                    <a:lnTo>
                      <a:pt x="44" y="0"/>
                    </a:lnTo>
                    <a:lnTo>
                      <a:pt x="553" y="882"/>
                    </a:lnTo>
                    <a:lnTo>
                      <a:pt x="488" y="893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4454280" y="3916440"/>
                <a:ext cx="177840" cy="290520"/>
              </a:xfrm>
              <a:custGeom>
                <a:avLst/>
                <a:gdLst/>
                <a:ahLst/>
                <a:rect l="l" t="t" r="r" b="b"/>
                <a:pathLst>
                  <a:path w="562" h="912">
                    <a:moveTo>
                      <a:pt x="497" y="912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562" y="901"/>
                    </a:lnTo>
                    <a:lnTo>
                      <a:pt x="497" y="912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460760" y="3908520"/>
                <a:ext cx="182520" cy="296640"/>
              </a:xfrm>
              <a:custGeom>
                <a:avLst/>
                <a:gdLst/>
                <a:ahLst/>
                <a:rect l="l" t="t" r="r" b="b"/>
                <a:pathLst>
                  <a:path w="574" h="933">
                    <a:moveTo>
                      <a:pt x="509" y="933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574" y="921"/>
                    </a:lnTo>
                    <a:lnTo>
                      <a:pt x="509" y="933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467240" y="3900600"/>
                <a:ext cx="185760" cy="301320"/>
              </a:xfrm>
              <a:custGeom>
                <a:avLst/>
                <a:gdLst/>
                <a:ahLst/>
                <a:rect l="l" t="t" r="r" b="b"/>
                <a:pathLst>
                  <a:path w="585" h="952">
                    <a:moveTo>
                      <a:pt x="520" y="952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585" y="940"/>
                    </a:lnTo>
                    <a:lnTo>
                      <a:pt x="520" y="952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4473360" y="3892680"/>
                <a:ext cx="190800" cy="307800"/>
              </a:xfrm>
              <a:custGeom>
                <a:avLst/>
                <a:gdLst/>
                <a:ahLst/>
                <a:rect l="l" t="t" r="r" b="b"/>
                <a:pathLst>
                  <a:path w="596" h="971">
                    <a:moveTo>
                      <a:pt x="531" y="971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596" y="960"/>
                    </a:lnTo>
                    <a:lnTo>
                      <a:pt x="531" y="971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481280" y="3884400"/>
                <a:ext cx="192240" cy="314640"/>
              </a:xfrm>
              <a:custGeom>
                <a:avLst/>
                <a:gdLst/>
                <a:ahLst/>
                <a:rect l="l" t="t" r="r" b="b"/>
                <a:pathLst>
                  <a:path w="608" h="990">
                    <a:moveTo>
                      <a:pt x="542" y="990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608" y="978"/>
                    </a:lnTo>
                    <a:lnTo>
                      <a:pt x="542" y="990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487760" y="3876480"/>
                <a:ext cx="195120" cy="320760"/>
              </a:xfrm>
              <a:custGeom>
                <a:avLst/>
                <a:gdLst/>
                <a:ahLst/>
                <a:rect l="l" t="t" r="r" b="b"/>
                <a:pathLst>
                  <a:path w="618" h="1010">
                    <a:moveTo>
                      <a:pt x="554" y="1010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618" y="997"/>
                    </a:lnTo>
                    <a:lnTo>
                      <a:pt x="554" y="1010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4494240" y="3868560"/>
                <a:ext cx="199800" cy="327240"/>
              </a:xfrm>
              <a:custGeom>
                <a:avLst/>
                <a:gdLst/>
                <a:ahLst/>
                <a:rect l="l" t="t" r="r" b="b"/>
                <a:pathLst>
                  <a:path w="630" h="1029">
                    <a:moveTo>
                      <a:pt x="566" y="1029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630" y="1018"/>
                    </a:lnTo>
                    <a:lnTo>
                      <a:pt x="566" y="1029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4500360" y="3860640"/>
                <a:ext cx="203400" cy="331920"/>
              </a:xfrm>
              <a:custGeom>
                <a:avLst/>
                <a:gdLst/>
                <a:ahLst/>
                <a:rect l="l" t="t" r="r" b="b"/>
                <a:pathLst>
                  <a:path w="640" h="1048">
                    <a:moveTo>
                      <a:pt x="575" y="1048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640" y="1037"/>
                    </a:lnTo>
                    <a:lnTo>
                      <a:pt x="575" y="1048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508280" y="3852720"/>
                <a:ext cx="206640" cy="338400"/>
              </a:xfrm>
              <a:custGeom>
                <a:avLst/>
                <a:gdLst/>
                <a:ahLst/>
                <a:rect l="l" t="t" r="r" b="b"/>
                <a:pathLst>
                  <a:path w="652" h="1068">
                    <a:moveTo>
                      <a:pt x="587" y="1068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652" y="1056"/>
                    </a:lnTo>
                    <a:lnTo>
                      <a:pt x="587" y="1068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514760" y="3844800"/>
                <a:ext cx="209520" cy="344520"/>
              </a:xfrm>
              <a:custGeom>
                <a:avLst/>
                <a:gdLst/>
                <a:ahLst/>
                <a:rect l="l" t="t" r="r" b="b"/>
                <a:pathLst>
                  <a:path w="663" h="1087">
                    <a:moveTo>
                      <a:pt x="598" y="1087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663" y="1075"/>
                    </a:lnTo>
                    <a:lnTo>
                      <a:pt x="598" y="1087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521240" y="3836880"/>
                <a:ext cx="214200" cy="351000"/>
              </a:xfrm>
              <a:custGeom>
                <a:avLst/>
                <a:gdLst/>
                <a:ahLst/>
                <a:rect l="l" t="t" r="r" b="b"/>
                <a:pathLst>
                  <a:path w="674" h="1106">
                    <a:moveTo>
                      <a:pt x="609" y="1106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674" y="1095"/>
                    </a:lnTo>
                    <a:lnTo>
                      <a:pt x="609" y="1106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4527360" y="3828960"/>
                <a:ext cx="217440" cy="357120"/>
              </a:xfrm>
              <a:custGeom>
                <a:avLst/>
                <a:gdLst/>
                <a:ahLst/>
                <a:rect l="l" t="t" r="r" b="b"/>
                <a:pathLst>
                  <a:path w="685" h="1126">
                    <a:moveTo>
                      <a:pt x="620" y="1126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685" y="1114"/>
                    </a:lnTo>
                    <a:lnTo>
                      <a:pt x="620" y="1126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535280" y="3821040"/>
                <a:ext cx="220680" cy="363600"/>
              </a:xfrm>
              <a:custGeom>
                <a:avLst/>
                <a:gdLst/>
                <a:ahLst/>
                <a:rect l="l" t="t" r="r" b="b"/>
                <a:pathLst>
                  <a:path w="696" h="1144">
                    <a:moveTo>
                      <a:pt x="632" y="1144"/>
                    </a:moveTo>
                    <a:lnTo>
                      <a:pt x="0" y="49"/>
                    </a:lnTo>
                    <a:lnTo>
                      <a:pt x="38" y="5"/>
                    </a:lnTo>
                    <a:lnTo>
                      <a:pt x="44" y="0"/>
                    </a:lnTo>
                    <a:lnTo>
                      <a:pt x="696" y="1129"/>
                    </a:lnTo>
                    <a:lnTo>
                      <a:pt x="690" y="1133"/>
                    </a:lnTo>
                    <a:lnTo>
                      <a:pt x="632" y="1144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41760" y="3816360"/>
                <a:ext cx="222120" cy="365040"/>
              </a:xfrm>
              <a:custGeom>
                <a:avLst/>
                <a:gdLst/>
                <a:ahLst/>
                <a:rect l="l" t="t" r="r" b="b"/>
                <a:pathLst>
                  <a:path w="701" h="1152">
                    <a:moveTo>
                      <a:pt x="642" y="1152"/>
                    </a:moveTo>
                    <a:lnTo>
                      <a:pt x="0" y="38"/>
                    </a:lnTo>
                    <a:lnTo>
                      <a:pt x="16" y="20"/>
                    </a:lnTo>
                    <a:lnTo>
                      <a:pt x="49" y="0"/>
                    </a:lnTo>
                    <a:lnTo>
                      <a:pt x="701" y="1129"/>
                    </a:lnTo>
                    <a:lnTo>
                      <a:pt x="668" y="1148"/>
                    </a:lnTo>
                    <a:lnTo>
                      <a:pt x="642" y="1152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548240" y="38116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557600" y="38066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565520" y="38019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575240" y="37972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583160" y="37908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4591080" y="37861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600440" y="37814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608360" y="3776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616280" y="377172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626000" y="376704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1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633920" y="37623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643280" y="3757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651200" y="375264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659120" y="3746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668840" y="3743280"/>
                <a:ext cx="223920" cy="36684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676760" y="37368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684680" y="373212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694040" y="37274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1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701960" y="3722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711680" y="37177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719600" y="37130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727520" y="37083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736880" y="3703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744800" y="36972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754520" y="3692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4762440" y="36878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1" y="1161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770360" y="36828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779720" y="36781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787640" y="36734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795920" y="36687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805280" y="3664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813200" y="36590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822920" y="36529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830840" y="36478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838760" y="36432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848120" y="3638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856040" y="36338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863960" y="3628800"/>
                <a:ext cx="225360" cy="36864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873680" y="36241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1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881600" y="361944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890960" y="3614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898880" y="3610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906800" y="3603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916520" y="35989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924440" y="3593880"/>
                <a:ext cx="223560" cy="36864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933800" y="35892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941720" y="3584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949640" y="35798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959360" y="3575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1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967280" y="35701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975200" y="356544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984560" y="355896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992480" y="35542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002200" y="3549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010120" y="35449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018040" y="3540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027400" y="35352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1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035320" y="3530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043240" y="352584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052960" y="3521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060880" y="3514680"/>
                <a:ext cx="223920" cy="36972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070240" y="35100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078160" y="35053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5086440" y="35002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5095800" y="3495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103720" y="34909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113080" y="3486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121360" y="34812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129280" y="34765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138640" y="34718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146560" y="34653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154480" y="346068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164200" y="34560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172120" y="34513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181480" y="34462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189400" y="3441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197320" y="34369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5207040" y="343224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214960" y="3427200"/>
                <a:ext cx="22356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222880" y="3421080"/>
                <a:ext cx="225360" cy="36972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232240" y="3417840"/>
                <a:ext cx="223920" cy="36684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3" y="1159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8"/>
                    </a:lnTo>
                    <a:lnTo>
                      <a:pt x="653" y="1159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240160" y="34113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249880" y="34066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257800" y="34020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265720" y="33973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275080" y="33922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283000" y="3387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290920" y="338292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300640" y="3378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308560" y="3371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317920" y="3367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325840" y="33624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333760" y="335736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343480" y="3352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351400" y="33480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3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3" y="116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360760" y="33433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1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368680" y="33386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376600" y="3333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386320" y="3327480"/>
                <a:ext cx="223920" cy="36972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5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394240" y="3324240"/>
                <a:ext cx="223920" cy="3664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402160" y="33177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411880" y="33130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419800" y="33084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429160" y="330336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437080" y="3298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445000" y="32940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454720" y="32893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4201920" y="2887560"/>
              <a:ext cx="2124360" cy="1384200"/>
              <a:chOff x="4201920" y="2887560"/>
              <a:chExt cx="2124360" cy="1384200"/>
            </a:xfrm>
          </p:grpSpPr>
          <p:sp>
            <p:nvSpPr>
              <p:cNvPr id="1677" name=""/>
              <p:cNvSpPr/>
              <p:nvPr/>
            </p:nvSpPr>
            <p:spPr>
              <a:xfrm>
                <a:off x="5462640" y="328464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470560" y="32781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479920" y="32734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487840" y="326844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495760" y="32637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505480" y="32590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513400" y="32544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1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522760" y="32497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530680" y="3244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540400" y="32400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548320" y="3233520"/>
                <a:ext cx="223920" cy="3700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556240" y="3230640"/>
                <a:ext cx="223920" cy="3664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564160" y="32241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573520" y="32194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581440" y="321480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1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591160" y="3209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599080" y="3205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607000" y="320040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616360" y="31957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624280" y="3190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634000" y="31845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641920" y="31798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649840" y="317484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1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659200" y="3170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667120" y="31654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675400" y="316080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684760" y="3155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3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3" y="1159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692680" y="3151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702040" y="31464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710320" y="3139920"/>
                <a:ext cx="223560" cy="3700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718240" y="3136680"/>
                <a:ext cx="223560" cy="36684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5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727600" y="31305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735520" y="31258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743440" y="312084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3" y="1161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1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53160" y="311616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761080" y="311148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1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770440" y="31068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778360" y="310176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786280" y="3097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796000" y="309096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5803920" y="30859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1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5813280" y="3081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821200" y="30765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829120" y="30718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838840" y="3066840"/>
                <a:ext cx="223560" cy="36864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846760" y="3062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5854680" y="305748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864040" y="30528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871960" y="30463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881680" y="3043080"/>
                <a:ext cx="223920" cy="36684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889600" y="30369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897520" y="30319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906880" y="3027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5914800" y="30225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922720" y="301788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932440" y="30132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5940360" y="3008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949720" y="3000240"/>
                <a:ext cx="223920" cy="371520"/>
              </a:xfrm>
              <a:custGeom>
                <a:avLst/>
                <a:gdLst/>
                <a:ahLst/>
                <a:rect l="l" t="t" r="r" b="b"/>
                <a:pathLst>
                  <a:path w="708" h="1170">
                    <a:moveTo>
                      <a:pt x="652" y="1170"/>
                    </a:moveTo>
                    <a:lnTo>
                      <a:pt x="0" y="41"/>
                    </a:lnTo>
                    <a:lnTo>
                      <a:pt x="34" y="21"/>
                    </a:lnTo>
                    <a:lnTo>
                      <a:pt x="49" y="0"/>
                    </a:lnTo>
                    <a:lnTo>
                      <a:pt x="708" y="1143"/>
                    </a:lnTo>
                    <a:lnTo>
                      <a:pt x="699" y="1143"/>
                    </a:lnTo>
                    <a:lnTo>
                      <a:pt x="652" y="117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957640" y="2990880"/>
                <a:ext cx="227160" cy="374400"/>
              </a:xfrm>
              <a:custGeom>
                <a:avLst/>
                <a:gdLst/>
                <a:ahLst/>
                <a:rect l="l" t="t" r="r" b="b"/>
                <a:pathLst>
                  <a:path w="716" h="1182">
                    <a:moveTo>
                      <a:pt x="651" y="1182"/>
                    </a:moveTo>
                    <a:lnTo>
                      <a:pt x="0" y="53"/>
                    </a:lnTo>
                    <a:lnTo>
                      <a:pt x="6" y="49"/>
                    </a:lnTo>
                    <a:lnTo>
                      <a:pt x="40" y="0"/>
                    </a:lnTo>
                    <a:lnTo>
                      <a:pt x="716" y="1169"/>
                    </a:lnTo>
                    <a:lnTo>
                      <a:pt x="671" y="1171"/>
                    </a:lnTo>
                    <a:lnTo>
                      <a:pt x="651" y="1182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964120" y="2981160"/>
                <a:ext cx="231840" cy="381240"/>
              </a:xfrm>
              <a:custGeom>
                <a:avLst/>
                <a:gdLst/>
                <a:ahLst/>
                <a:rect l="l" t="t" r="r" b="b"/>
                <a:pathLst>
                  <a:path w="730" h="1200">
                    <a:moveTo>
                      <a:pt x="659" y="1200"/>
                    </a:moveTo>
                    <a:lnTo>
                      <a:pt x="0" y="57"/>
                    </a:lnTo>
                    <a:lnTo>
                      <a:pt x="38" y="0"/>
                    </a:lnTo>
                    <a:lnTo>
                      <a:pt x="730" y="1198"/>
                    </a:lnTo>
                    <a:lnTo>
                      <a:pt x="659" y="120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970600" y="2973240"/>
                <a:ext cx="236520" cy="389160"/>
              </a:xfrm>
              <a:custGeom>
                <a:avLst/>
                <a:gdLst/>
                <a:ahLst/>
                <a:rect l="l" t="t" r="r" b="b"/>
                <a:pathLst>
                  <a:path w="746" h="1226">
                    <a:moveTo>
                      <a:pt x="676" y="1226"/>
                    </a:moveTo>
                    <a:lnTo>
                      <a:pt x="0" y="57"/>
                    </a:lnTo>
                    <a:lnTo>
                      <a:pt x="39" y="0"/>
                    </a:lnTo>
                    <a:lnTo>
                      <a:pt x="746" y="1225"/>
                    </a:lnTo>
                    <a:lnTo>
                      <a:pt x="676" y="1226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976720" y="2963880"/>
                <a:ext cx="243000" cy="398520"/>
              </a:xfrm>
              <a:custGeom>
                <a:avLst/>
                <a:gdLst/>
                <a:ahLst/>
                <a:rect l="l" t="t" r="r" b="b"/>
                <a:pathLst>
                  <a:path w="763" h="1254">
                    <a:moveTo>
                      <a:pt x="692" y="1254"/>
                    </a:moveTo>
                    <a:lnTo>
                      <a:pt x="0" y="56"/>
                    </a:lnTo>
                    <a:lnTo>
                      <a:pt x="40" y="0"/>
                    </a:lnTo>
                    <a:lnTo>
                      <a:pt x="763" y="1252"/>
                    </a:lnTo>
                    <a:lnTo>
                      <a:pt x="692" y="1254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983200" y="2954160"/>
                <a:ext cx="247680" cy="408240"/>
              </a:xfrm>
              <a:custGeom>
                <a:avLst/>
                <a:gdLst/>
                <a:ahLst/>
                <a:rect l="l" t="t" r="r" b="b"/>
                <a:pathLst>
                  <a:path w="778" h="1281">
                    <a:moveTo>
                      <a:pt x="707" y="1281"/>
                    </a:moveTo>
                    <a:lnTo>
                      <a:pt x="0" y="56"/>
                    </a:lnTo>
                    <a:lnTo>
                      <a:pt x="39" y="0"/>
                    </a:lnTo>
                    <a:lnTo>
                      <a:pt x="778" y="1279"/>
                    </a:lnTo>
                    <a:lnTo>
                      <a:pt x="707" y="1281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989680" y="2946240"/>
                <a:ext cx="252360" cy="414360"/>
              </a:xfrm>
              <a:custGeom>
                <a:avLst/>
                <a:gdLst/>
                <a:ahLst/>
                <a:rect l="l" t="t" r="r" b="b"/>
                <a:pathLst>
                  <a:path w="793" h="1308">
                    <a:moveTo>
                      <a:pt x="723" y="1308"/>
                    </a:moveTo>
                    <a:lnTo>
                      <a:pt x="0" y="56"/>
                    </a:lnTo>
                    <a:lnTo>
                      <a:pt x="39" y="0"/>
                    </a:lnTo>
                    <a:lnTo>
                      <a:pt x="793" y="1307"/>
                    </a:lnTo>
                    <a:lnTo>
                      <a:pt x="723" y="1308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995800" y="2936880"/>
                <a:ext cx="257400" cy="423720"/>
              </a:xfrm>
              <a:custGeom>
                <a:avLst/>
                <a:gdLst/>
                <a:ahLst/>
                <a:rect l="l" t="t" r="r" b="b"/>
                <a:pathLst>
                  <a:path w="810" h="1335">
                    <a:moveTo>
                      <a:pt x="739" y="1335"/>
                    </a:moveTo>
                    <a:lnTo>
                      <a:pt x="0" y="56"/>
                    </a:lnTo>
                    <a:lnTo>
                      <a:pt x="39" y="0"/>
                    </a:lnTo>
                    <a:lnTo>
                      <a:pt x="810" y="1334"/>
                    </a:lnTo>
                    <a:lnTo>
                      <a:pt x="739" y="1335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002280" y="2927160"/>
                <a:ext cx="260280" cy="433440"/>
              </a:xfrm>
              <a:custGeom>
                <a:avLst/>
                <a:gdLst/>
                <a:ahLst/>
                <a:rect l="l" t="t" r="r" b="b"/>
                <a:pathLst>
                  <a:path w="821" h="1364">
                    <a:moveTo>
                      <a:pt x="754" y="1364"/>
                    </a:moveTo>
                    <a:lnTo>
                      <a:pt x="0" y="57"/>
                    </a:lnTo>
                    <a:lnTo>
                      <a:pt x="39" y="0"/>
                    </a:lnTo>
                    <a:lnTo>
                      <a:pt x="821" y="1355"/>
                    </a:lnTo>
                    <a:lnTo>
                      <a:pt x="808" y="1362"/>
                    </a:lnTo>
                    <a:lnTo>
                      <a:pt x="754" y="1364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008760" y="2921040"/>
                <a:ext cx="263520" cy="439560"/>
              </a:xfrm>
              <a:custGeom>
                <a:avLst/>
                <a:gdLst/>
                <a:ahLst/>
                <a:rect l="l" t="t" r="r" b="b"/>
                <a:pathLst>
                  <a:path w="830" h="1383">
                    <a:moveTo>
                      <a:pt x="771" y="1383"/>
                    </a:moveTo>
                    <a:lnTo>
                      <a:pt x="0" y="49"/>
                    </a:lnTo>
                    <a:lnTo>
                      <a:pt x="27" y="10"/>
                    </a:lnTo>
                    <a:lnTo>
                      <a:pt x="44" y="0"/>
                    </a:lnTo>
                    <a:lnTo>
                      <a:pt x="830" y="1359"/>
                    </a:lnTo>
                    <a:lnTo>
                      <a:pt x="794" y="1380"/>
                    </a:lnTo>
                    <a:lnTo>
                      <a:pt x="789" y="1382"/>
                    </a:lnTo>
                    <a:lnTo>
                      <a:pt x="771" y="1383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014880" y="2916360"/>
                <a:ext cx="265320" cy="441000"/>
              </a:xfrm>
              <a:custGeom>
                <a:avLst/>
                <a:gdLst/>
                <a:ahLst/>
                <a:rect l="l" t="t" r="r" b="b"/>
                <a:pathLst>
                  <a:path w="836" h="1390">
                    <a:moveTo>
                      <a:pt x="782" y="1390"/>
                    </a:moveTo>
                    <a:lnTo>
                      <a:pt x="0" y="3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51" y="0"/>
                    </a:lnTo>
                    <a:lnTo>
                      <a:pt x="836" y="1359"/>
                    </a:lnTo>
                    <a:lnTo>
                      <a:pt x="812" y="1373"/>
                    </a:lnTo>
                    <a:lnTo>
                      <a:pt x="782" y="1390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021360" y="2911320"/>
                <a:ext cx="266760" cy="441360"/>
              </a:xfrm>
              <a:custGeom>
                <a:avLst/>
                <a:gdLst/>
                <a:ahLst/>
                <a:rect l="l" t="t" r="r" b="b"/>
                <a:pathLst>
                  <a:path w="839" h="1389">
                    <a:moveTo>
                      <a:pt x="786" y="1389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839" y="1359"/>
                    </a:lnTo>
                    <a:lnTo>
                      <a:pt x="786" y="1389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030720" y="2906640"/>
                <a:ext cx="265320" cy="441360"/>
              </a:xfrm>
              <a:custGeom>
                <a:avLst/>
                <a:gdLst/>
                <a:ahLst/>
                <a:rect l="l" t="t" r="r" b="b"/>
                <a:pathLst>
                  <a:path w="838" h="1390">
                    <a:moveTo>
                      <a:pt x="785" y="139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838" y="1359"/>
                    </a:lnTo>
                    <a:lnTo>
                      <a:pt x="785" y="1390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6038640" y="2901960"/>
                <a:ext cx="266760" cy="441360"/>
              </a:xfrm>
              <a:custGeom>
                <a:avLst/>
                <a:gdLst/>
                <a:ahLst/>
                <a:rect l="l" t="t" r="r" b="b"/>
                <a:pathLst>
                  <a:path w="838" h="1389">
                    <a:moveTo>
                      <a:pt x="784" y="138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838" y="1357"/>
                    </a:lnTo>
                    <a:lnTo>
                      <a:pt x="784" y="1389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048360" y="2897280"/>
                <a:ext cx="264960" cy="441360"/>
              </a:xfrm>
              <a:custGeom>
                <a:avLst/>
                <a:gdLst/>
                <a:ahLst/>
                <a:rect l="l" t="t" r="r" b="b"/>
                <a:pathLst>
                  <a:path w="839" h="1389">
                    <a:moveTo>
                      <a:pt x="784" y="1389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839" y="1357"/>
                    </a:lnTo>
                    <a:lnTo>
                      <a:pt x="784" y="1389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6056280" y="2892240"/>
                <a:ext cx="264960" cy="441360"/>
              </a:xfrm>
              <a:custGeom>
                <a:avLst/>
                <a:gdLst/>
                <a:ahLst/>
                <a:rect l="l" t="t" r="r" b="b"/>
                <a:pathLst>
                  <a:path w="833" h="1388">
                    <a:moveTo>
                      <a:pt x="785" y="1388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64" y="16"/>
                    </a:lnTo>
                    <a:lnTo>
                      <a:pt x="818" y="1322"/>
                    </a:lnTo>
                    <a:lnTo>
                      <a:pt x="833" y="1361"/>
                    </a:lnTo>
                    <a:lnTo>
                      <a:pt x="785" y="1388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065640" y="2892240"/>
                <a:ext cx="255600" cy="436680"/>
              </a:xfrm>
              <a:custGeom>
                <a:avLst/>
                <a:gdLst/>
                <a:ahLst/>
                <a:rect l="l" t="t" r="r" b="b"/>
                <a:pathLst>
                  <a:path w="805" h="1372">
                    <a:moveTo>
                      <a:pt x="784" y="1372"/>
                    </a:moveTo>
                    <a:lnTo>
                      <a:pt x="0" y="15"/>
                    </a:lnTo>
                    <a:lnTo>
                      <a:pt x="25" y="0"/>
                    </a:lnTo>
                    <a:lnTo>
                      <a:pt x="131" y="147"/>
                    </a:lnTo>
                    <a:lnTo>
                      <a:pt x="231" y="293"/>
                    </a:lnTo>
                    <a:lnTo>
                      <a:pt x="241" y="310"/>
                    </a:lnTo>
                    <a:lnTo>
                      <a:pt x="694" y="1094"/>
                    </a:lnTo>
                    <a:lnTo>
                      <a:pt x="736" y="1179"/>
                    </a:lnTo>
                    <a:lnTo>
                      <a:pt x="805" y="1361"/>
                    </a:lnTo>
                    <a:lnTo>
                      <a:pt x="784" y="1372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6076800" y="2897280"/>
                <a:ext cx="239760" cy="415800"/>
              </a:xfrm>
              <a:custGeom>
                <a:avLst/>
                <a:gdLst/>
                <a:ahLst/>
                <a:rect l="l" t="t" r="r" b="b"/>
                <a:pathLst>
                  <a:path w="754" h="1306">
                    <a:moveTo>
                      <a:pt x="754" y="1306"/>
                    </a:moveTo>
                    <a:lnTo>
                      <a:pt x="0" y="0"/>
                    </a:lnTo>
                    <a:lnTo>
                      <a:pt x="95" y="131"/>
                    </a:lnTo>
                    <a:lnTo>
                      <a:pt x="195" y="277"/>
                    </a:lnTo>
                    <a:lnTo>
                      <a:pt x="427" y="645"/>
                    </a:lnTo>
                    <a:lnTo>
                      <a:pt x="617" y="992"/>
                    </a:lnTo>
                    <a:lnTo>
                      <a:pt x="700" y="1163"/>
                    </a:lnTo>
                    <a:lnTo>
                      <a:pt x="754" y="1306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141960" y="2990880"/>
                <a:ext cx="142920" cy="249120"/>
              </a:xfrm>
              <a:custGeom>
                <a:avLst/>
                <a:gdLst/>
                <a:ahLst/>
                <a:rect l="l" t="t" r="r" b="b"/>
                <a:pathLst>
                  <a:path w="453" h="784">
                    <a:moveTo>
                      <a:pt x="453" y="784"/>
                    </a:moveTo>
                    <a:lnTo>
                      <a:pt x="0" y="0"/>
                    </a:lnTo>
                    <a:lnTo>
                      <a:pt x="222" y="351"/>
                    </a:lnTo>
                    <a:lnTo>
                      <a:pt x="412" y="698"/>
                    </a:lnTo>
                    <a:lnTo>
                      <a:pt x="453" y="784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011640" y="2887560"/>
                <a:ext cx="63720" cy="41400"/>
              </a:xfrm>
              <a:custGeom>
                <a:avLst/>
                <a:gdLst/>
                <a:ahLst/>
                <a:rect l="l" t="t" r="r" b="b"/>
                <a:pathLst>
                  <a:path w="199" h="130">
                    <a:moveTo>
                      <a:pt x="0" y="106"/>
                    </a:moveTo>
                    <a:lnTo>
                      <a:pt x="21" y="130"/>
                    </a:lnTo>
                    <a:lnTo>
                      <a:pt x="199" y="29"/>
                    </a:lnTo>
                    <a:lnTo>
                      <a:pt x="182" y="0"/>
                    </a:lnTo>
                    <a:lnTo>
                      <a:pt x="5" y="101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5956200" y="2922480"/>
                <a:ext cx="65160" cy="88920"/>
              </a:xfrm>
              <a:custGeom>
                <a:avLst/>
                <a:gdLst/>
                <a:ahLst/>
                <a:rect l="l" t="t" r="r" b="b"/>
                <a:pathLst>
                  <a:path w="205" h="281">
                    <a:moveTo>
                      <a:pt x="22" y="281"/>
                    </a:moveTo>
                    <a:lnTo>
                      <a:pt x="27" y="276"/>
                    </a:lnTo>
                    <a:lnTo>
                      <a:pt x="205" y="18"/>
                    </a:lnTo>
                    <a:lnTo>
                      <a:pt x="179" y="0"/>
                    </a:lnTo>
                    <a:lnTo>
                      <a:pt x="0" y="258"/>
                    </a:lnTo>
                    <a:lnTo>
                      <a:pt x="22" y="2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543200" y="3002040"/>
                <a:ext cx="1419480" cy="825480"/>
              </a:xfrm>
              <a:custGeom>
                <a:avLst/>
                <a:gdLst/>
                <a:ahLst/>
                <a:rect l="l" t="t" r="r" b="b"/>
                <a:pathLst>
                  <a:path w="4472" h="2598">
                    <a:moveTo>
                      <a:pt x="0" y="2574"/>
                    </a:moveTo>
                    <a:lnTo>
                      <a:pt x="21" y="2598"/>
                    </a:lnTo>
                    <a:lnTo>
                      <a:pt x="4472" y="29"/>
                    </a:lnTo>
                    <a:lnTo>
                      <a:pt x="4455" y="0"/>
                    </a:lnTo>
                    <a:lnTo>
                      <a:pt x="4" y="2570"/>
                    </a:lnTo>
                    <a:lnTo>
                      <a:pt x="0" y="25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225680" y="3819600"/>
                <a:ext cx="325440" cy="379440"/>
              </a:xfrm>
              <a:custGeom>
                <a:avLst/>
                <a:gdLst/>
                <a:ahLst/>
                <a:rect l="l" t="t" r="r" b="b"/>
                <a:pathLst>
                  <a:path w="1023" h="1197">
                    <a:moveTo>
                      <a:pt x="0" y="1180"/>
                    </a:moveTo>
                    <a:lnTo>
                      <a:pt x="29" y="1197"/>
                    </a:lnTo>
                    <a:lnTo>
                      <a:pt x="1023" y="21"/>
                    </a:lnTo>
                    <a:lnTo>
                      <a:pt x="998" y="0"/>
                    </a:lnTo>
                    <a:lnTo>
                      <a:pt x="3" y="1176"/>
                    </a:lnTo>
                    <a:lnTo>
                      <a:pt x="0" y="11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201920" y="4194000"/>
                <a:ext cx="33480" cy="68400"/>
              </a:xfrm>
              <a:custGeom>
                <a:avLst/>
                <a:gdLst/>
                <a:ahLst/>
                <a:rect l="l" t="t" r="r" b="b"/>
                <a:pathLst>
                  <a:path w="107" h="214">
                    <a:moveTo>
                      <a:pt x="12" y="214"/>
                    </a:moveTo>
                    <a:lnTo>
                      <a:pt x="29" y="204"/>
                    </a:lnTo>
                    <a:lnTo>
                      <a:pt x="107" y="13"/>
                    </a:lnTo>
                    <a:lnTo>
                      <a:pt x="76" y="0"/>
                    </a:lnTo>
                    <a:lnTo>
                      <a:pt x="0" y="192"/>
                    </a:lnTo>
                    <a:lnTo>
                      <a:pt x="12" y="2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205160" y="4251240"/>
                <a:ext cx="68400" cy="2052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212" y="65"/>
                    </a:moveTo>
                    <a:lnTo>
                      <a:pt x="212" y="33"/>
                    </a:lnTo>
                    <a:lnTo>
                      <a:pt x="4" y="0"/>
                    </a:lnTo>
                    <a:lnTo>
                      <a:pt x="0" y="32"/>
                    </a:lnTo>
                    <a:lnTo>
                      <a:pt x="207" y="65"/>
                    </a:lnTo>
                    <a:lnTo>
                      <a:pt x="212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271760" y="4176720"/>
                <a:ext cx="484200" cy="95040"/>
              </a:xfrm>
              <a:custGeom>
                <a:avLst/>
                <a:gdLst/>
                <a:ahLst/>
                <a:rect l="l" t="t" r="r" b="b"/>
                <a:pathLst>
                  <a:path w="1528" h="303">
                    <a:moveTo>
                      <a:pt x="1528" y="29"/>
                    </a:moveTo>
                    <a:lnTo>
                      <a:pt x="1516" y="0"/>
                    </a:lnTo>
                    <a:lnTo>
                      <a:pt x="0" y="271"/>
                    </a:lnTo>
                    <a:lnTo>
                      <a:pt x="5" y="303"/>
                    </a:lnTo>
                    <a:lnTo>
                      <a:pt x="1523" y="31"/>
                    </a:lnTo>
                    <a:lnTo>
                      <a:pt x="1528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751280" y="3357360"/>
                <a:ext cx="1422360" cy="827280"/>
              </a:xfrm>
              <a:custGeom>
                <a:avLst/>
                <a:gdLst/>
                <a:ahLst/>
                <a:rect l="l" t="t" r="r" b="b"/>
                <a:pathLst>
                  <a:path w="4481" h="2607">
                    <a:moveTo>
                      <a:pt x="4473" y="0"/>
                    </a:moveTo>
                    <a:lnTo>
                      <a:pt x="4465" y="2"/>
                    </a:lnTo>
                    <a:lnTo>
                      <a:pt x="0" y="2579"/>
                    </a:lnTo>
                    <a:lnTo>
                      <a:pt x="17" y="2607"/>
                    </a:lnTo>
                    <a:lnTo>
                      <a:pt x="4481" y="30"/>
                    </a:lnTo>
                    <a:lnTo>
                      <a:pt x="447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70400" y="3355920"/>
                <a:ext cx="90720" cy="11160"/>
              </a:xfrm>
              <a:custGeom>
                <a:avLst/>
                <a:gdLst/>
                <a:ahLst/>
                <a:rect l="l" t="t" r="r" b="b"/>
                <a:pathLst>
                  <a:path w="283" h="39">
                    <a:moveTo>
                      <a:pt x="283" y="31"/>
                    </a:moveTo>
                    <a:lnTo>
                      <a:pt x="275" y="0"/>
                    </a:lnTo>
                    <a:lnTo>
                      <a:pt x="0" y="7"/>
                    </a:lnTo>
                    <a:lnTo>
                      <a:pt x="1" y="39"/>
                    </a:lnTo>
                    <a:lnTo>
                      <a:pt x="276" y="33"/>
                    </a:lnTo>
                    <a:lnTo>
                      <a:pt x="283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6256080" y="3319560"/>
                <a:ext cx="70200" cy="45720"/>
              </a:xfrm>
              <a:custGeom>
                <a:avLst/>
                <a:gdLst/>
                <a:ahLst/>
                <a:rect l="l" t="t" r="r" b="b"/>
                <a:pathLst>
                  <a:path w="219" h="142">
                    <a:moveTo>
                      <a:pt x="219" y="9"/>
                    </a:moveTo>
                    <a:lnTo>
                      <a:pt x="196" y="0"/>
                    </a:lnTo>
                    <a:lnTo>
                      <a:pt x="0" y="114"/>
                    </a:lnTo>
                    <a:lnTo>
                      <a:pt x="16" y="142"/>
                    </a:lnTo>
                    <a:lnTo>
                      <a:pt x="212" y="29"/>
                    </a:lnTo>
                    <a:lnTo>
                      <a:pt x="219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294240" y="3265560"/>
                <a:ext cx="32040" cy="60120"/>
              </a:xfrm>
              <a:custGeom>
                <a:avLst/>
                <a:gdLst/>
                <a:ahLst/>
                <a:rect l="l" t="t" r="r" b="b"/>
                <a:pathLst>
                  <a:path w="100" h="194">
                    <a:moveTo>
                      <a:pt x="30" y="0"/>
                    </a:moveTo>
                    <a:lnTo>
                      <a:pt x="0" y="12"/>
                    </a:lnTo>
                    <a:lnTo>
                      <a:pt x="69" y="194"/>
                    </a:lnTo>
                    <a:lnTo>
                      <a:pt x="100" y="183"/>
                    </a:lnTo>
                    <a:lnTo>
                      <a:pt x="30" y="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267240" y="3209760"/>
                <a:ext cx="36720" cy="58680"/>
              </a:xfrm>
              <a:custGeom>
                <a:avLst/>
                <a:gdLst/>
                <a:ahLst/>
                <a:rect l="l" t="t" r="r" b="b"/>
                <a:pathLst>
                  <a:path w="112" h="185">
                    <a:moveTo>
                      <a:pt x="29" y="0"/>
                    </a:moveTo>
                    <a:lnTo>
                      <a:pt x="0" y="14"/>
                    </a:lnTo>
                    <a:lnTo>
                      <a:pt x="83" y="185"/>
                    </a:lnTo>
                    <a:lnTo>
                      <a:pt x="112" y="171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207120" y="3098880"/>
                <a:ext cx="69840" cy="115920"/>
              </a:xfrm>
              <a:custGeom>
                <a:avLst/>
                <a:gdLst/>
                <a:ahLst/>
                <a:rect l="l" t="t" r="r" b="b"/>
                <a:pathLst>
                  <a:path w="219" h="365">
                    <a:moveTo>
                      <a:pt x="28" y="0"/>
                    </a:moveTo>
                    <a:lnTo>
                      <a:pt x="0" y="17"/>
                    </a:lnTo>
                    <a:lnTo>
                      <a:pt x="190" y="365"/>
                    </a:lnTo>
                    <a:lnTo>
                      <a:pt x="219" y="350"/>
                    </a:lnTo>
                    <a:lnTo>
                      <a:pt x="28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134040" y="2982960"/>
                <a:ext cx="82440" cy="122040"/>
              </a:xfrm>
              <a:custGeom>
                <a:avLst/>
                <a:gdLst/>
                <a:ahLst/>
                <a:rect l="l" t="t" r="r" b="b"/>
                <a:pathLst>
                  <a:path w="259" h="385">
                    <a:moveTo>
                      <a:pt x="27" y="0"/>
                    </a:moveTo>
                    <a:lnTo>
                      <a:pt x="0" y="17"/>
                    </a:lnTo>
                    <a:lnTo>
                      <a:pt x="232" y="385"/>
                    </a:lnTo>
                    <a:lnTo>
                      <a:pt x="259" y="367"/>
                    </a:lnTo>
                    <a:lnTo>
                      <a:pt x="28" y="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102360" y="293688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26" y="0"/>
                    </a:moveTo>
                    <a:lnTo>
                      <a:pt x="0" y="19"/>
                    </a:lnTo>
                    <a:lnTo>
                      <a:pt x="101" y="164"/>
                    </a:lnTo>
                    <a:lnTo>
                      <a:pt x="127" y="146"/>
                    </a:lnTo>
                    <a:lnTo>
                      <a:pt x="28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068880" y="2887560"/>
                <a:ext cx="41400" cy="55440"/>
              </a:xfrm>
              <a:custGeom>
                <a:avLst/>
                <a:gdLst/>
                <a:ahLst/>
                <a:rect l="l" t="t" r="r" b="b"/>
                <a:pathLst>
                  <a:path w="132" h="171">
                    <a:moveTo>
                      <a:pt x="5" y="0"/>
                    </a:moveTo>
                    <a:lnTo>
                      <a:pt x="0" y="24"/>
                    </a:lnTo>
                    <a:lnTo>
                      <a:pt x="106" y="171"/>
                    </a:lnTo>
                    <a:lnTo>
                      <a:pt x="132" y="152"/>
                    </a:lnTo>
                    <a:lnTo>
                      <a:pt x="27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070680" y="2887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0"/>
                    </a:move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201920" y="4240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14" y="0"/>
                    </a:moveTo>
                    <a:lnTo>
                      <a:pt x="37" y="39"/>
                    </a:lnTo>
                    <a:lnTo>
                      <a:pt x="0" y="2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203720" y="4233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2" h="61">
                    <a:moveTo>
                      <a:pt x="9" y="50"/>
                    </a:moveTo>
                    <a:lnTo>
                      <a:pt x="0" y="34"/>
                    </a:lnTo>
                    <a:lnTo>
                      <a:pt x="18" y="0"/>
                    </a:lnTo>
                    <a:lnTo>
                      <a:pt x="52" y="61"/>
                    </a:lnTo>
                    <a:lnTo>
                      <a:pt x="9" y="50"/>
                    </a:lnTo>
                    <a:close/>
                  </a:path>
                </a:pathLst>
              </a:custGeom>
              <a:solidFill>
                <a:srgbClr val="8f56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206960" y="4228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67" h="83">
                    <a:moveTo>
                      <a:pt x="23" y="73"/>
                    </a:moveTo>
                    <a:lnTo>
                      <a:pt x="0" y="34"/>
                    </a:lnTo>
                    <a:lnTo>
                      <a:pt x="18" y="0"/>
                    </a:lnTo>
                    <a:lnTo>
                      <a:pt x="67" y="83"/>
                    </a:lnTo>
                    <a:lnTo>
                      <a:pt x="23" y="73"/>
                    </a:lnTo>
                    <a:close/>
                  </a:path>
                </a:pathLst>
              </a:custGeom>
              <a:solidFill>
                <a:srgbClr val="8f56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209840" y="422280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4" y="95"/>
                    </a:moveTo>
                    <a:lnTo>
                      <a:pt x="0" y="34"/>
                    </a:lnTo>
                    <a:lnTo>
                      <a:pt x="17" y="0"/>
                    </a:lnTo>
                    <a:lnTo>
                      <a:pt x="78" y="107"/>
                    </a:lnTo>
                    <a:lnTo>
                      <a:pt x="34" y="95"/>
                    </a:lnTo>
                    <a:close/>
                  </a:path>
                </a:pathLst>
              </a:custGeom>
              <a:solidFill>
                <a:srgbClr val="9156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211640" y="4217760"/>
                <a:ext cx="30240" cy="41400"/>
              </a:xfrm>
              <a:custGeom>
                <a:avLst/>
                <a:gdLst/>
                <a:ahLst/>
                <a:rect l="l" t="t" r="r" b="b"/>
                <a:pathLst>
                  <a:path w="92" h="129">
                    <a:moveTo>
                      <a:pt x="49" y="117"/>
                    </a:moveTo>
                    <a:lnTo>
                      <a:pt x="0" y="34"/>
                    </a:lnTo>
                    <a:lnTo>
                      <a:pt x="17" y="0"/>
                    </a:lnTo>
                    <a:lnTo>
                      <a:pt x="92" y="129"/>
                    </a:lnTo>
                    <a:lnTo>
                      <a:pt x="49" y="117"/>
                    </a:lnTo>
                    <a:close/>
                  </a:path>
                </a:pathLst>
              </a:custGeom>
              <a:solidFill>
                <a:srgbClr val="9156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214880" y="4213080"/>
                <a:ext cx="33120" cy="47880"/>
              </a:xfrm>
              <a:custGeom>
                <a:avLst/>
                <a:gdLst/>
                <a:ahLst/>
                <a:rect l="l" t="t" r="r" b="b"/>
                <a:pathLst>
                  <a:path w="105" h="151">
                    <a:moveTo>
                      <a:pt x="61" y="141"/>
                    </a:moveTo>
                    <a:lnTo>
                      <a:pt x="0" y="34"/>
                    </a:lnTo>
                    <a:lnTo>
                      <a:pt x="16" y="0"/>
                    </a:lnTo>
                    <a:lnTo>
                      <a:pt x="105" y="151"/>
                    </a:lnTo>
                    <a:lnTo>
                      <a:pt x="61" y="141"/>
                    </a:lnTo>
                    <a:close/>
                  </a:path>
                </a:pathLst>
              </a:custGeom>
              <a:solidFill>
                <a:srgbClr val="915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217760" y="4206960"/>
                <a:ext cx="36720" cy="5544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75" y="163"/>
                    </a:moveTo>
                    <a:lnTo>
                      <a:pt x="0" y="34"/>
                    </a:lnTo>
                    <a:lnTo>
                      <a:pt x="18" y="0"/>
                    </a:lnTo>
                    <a:lnTo>
                      <a:pt x="118" y="175"/>
                    </a:lnTo>
                    <a:lnTo>
                      <a:pt x="75" y="163"/>
                    </a:lnTo>
                    <a:close/>
                  </a:path>
                </a:pathLst>
              </a:custGeom>
              <a:solidFill>
                <a:srgbClr val="915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219560" y="4201920"/>
                <a:ext cx="42840" cy="61920"/>
              </a:xfrm>
              <a:custGeom>
                <a:avLst/>
                <a:gdLst/>
                <a:ahLst/>
                <a:rect l="l" t="t" r="r" b="b"/>
                <a:pathLst>
                  <a:path w="132" h="197">
                    <a:moveTo>
                      <a:pt x="89" y="185"/>
                    </a:moveTo>
                    <a:lnTo>
                      <a:pt x="0" y="34"/>
                    </a:lnTo>
                    <a:lnTo>
                      <a:pt x="18" y="0"/>
                    </a:lnTo>
                    <a:lnTo>
                      <a:pt x="132" y="197"/>
                    </a:lnTo>
                    <a:lnTo>
                      <a:pt x="89" y="185"/>
                    </a:lnTo>
                    <a:close/>
                  </a:path>
                </a:pathLst>
              </a:custGeom>
              <a:solidFill>
                <a:srgbClr val="915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222800" y="419724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143" h="218">
                    <a:moveTo>
                      <a:pt x="100" y="208"/>
                    </a:moveTo>
                    <a:lnTo>
                      <a:pt x="0" y="33"/>
                    </a:lnTo>
                    <a:lnTo>
                      <a:pt x="17" y="0"/>
                    </a:lnTo>
                    <a:lnTo>
                      <a:pt x="143" y="218"/>
                    </a:lnTo>
                    <a:lnTo>
                      <a:pt x="100" y="208"/>
                    </a:lnTo>
                    <a:close/>
                  </a:path>
                </a:pathLst>
              </a:custGeom>
              <a:solidFill>
                <a:srgbClr val="915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225680" y="4191120"/>
                <a:ext cx="49320" cy="75960"/>
              </a:xfrm>
              <a:custGeom>
                <a:avLst/>
                <a:gdLst/>
                <a:ahLst/>
                <a:rect l="l" t="t" r="r" b="b"/>
                <a:pathLst>
                  <a:path w="157" h="241">
                    <a:moveTo>
                      <a:pt x="114" y="230"/>
                    </a:moveTo>
                    <a:lnTo>
                      <a:pt x="0" y="33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7" y="241"/>
                    </a:lnTo>
                    <a:lnTo>
                      <a:pt x="114" y="230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228920" y="4187880"/>
                <a:ext cx="52560" cy="81000"/>
              </a:xfrm>
              <a:custGeom>
                <a:avLst/>
                <a:gdLst/>
                <a:ahLst/>
                <a:rect l="l" t="t" r="r" b="b"/>
                <a:pathLst>
                  <a:path w="167" h="257">
                    <a:moveTo>
                      <a:pt x="126" y="248"/>
                    </a:moveTo>
                    <a:lnTo>
                      <a:pt x="0" y="30"/>
                    </a:lnTo>
                    <a:lnTo>
                      <a:pt x="8" y="13"/>
                    </a:lnTo>
                    <a:lnTo>
                      <a:pt x="20" y="0"/>
                    </a:lnTo>
                    <a:lnTo>
                      <a:pt x="167" y="255"/>
                    </a:lnTo>
                    <a:lnTo>
                      <a:pt x="160" y="257"/>
                    </a:lnTo>
                    <a:lnTo>
                      <a:pt x="126" y="248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230720" y="4182840"/>
                <a:ext cx="55440" cy="86040"/>
              </a:xfrm>
              <a:custGeom>
                <a:avLst/>
                <a:gdLst/>
                <a:ahLst/>
                <a:rect l="l" t="t" r="r" b="b"/>
                <a:pathLst>
                  <a:path w="175" h="269">
                    <a:moveTo>
                      <a:pt x="140" y="26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175" y="264"/>
                    </a:lnTo>
                    <a:lnTo>
                      <a:pt x="152" y="269"/>
                    </a:lnTo>
                    <a:lnTo>
                      <a:pt x="140" y="266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235400" y="4179960"/>
                <a:ext cx="57240" cy="88920"/>
              </a:xfrm>
              <a:custGeom>
                <a:avLst/>
                <a:gdLst/>
                <a:ahLst/>
                <a:rect l="l" t="t" r="r" b="b"/>
                <a:pathLst>
                  <a:path w="180" h="280">
                    <a:moveTo>
                      <a:pt x="147" y="28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47" y="280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238640" y="4174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7" h="291">
                    <a:moveTo>
                      <a:pt x="153" y="291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187" y="285"/>
                    </a:lnTo>
                    <a:lnTo>
                      <a:pt x="153" y="291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241880" y="4170240"/>
                <a:ext cx="60120" cy="95400"/>
              </a:xfrm>
              <a:custGeom>
                <a:avLst/>
                <a:gdLst/>
                <a:ahLst/>
                <a:rect l="l" t="t" r="r" b="b"/>
                <a:pathLst>
                  <a:path w="191" h="300">
                    <a:moveTo>
                      <a:pt x="158" y="300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191" y="294"/>
                    </a:lnTo>
                    <a:lnTo>
                      <a:pt x="158" y="300"/>
                    </a:lnTo>
                    <a:close/>
                  </a:path>
                </a:pathLst>
              </a:custGeom>
              <a:solidFill>
                <a:srgbClr val="93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244760" y="4167000"/>
                <a:ext cx="63720" cy="98640"/>
              </a:xfrm>
              <a:custGeom>
                <a:avLst/>
                <a:gdLst/>
                <a:ahLst/>
                <a:rect l="l" t="t" r="r" b="b"/>
                <a:pathLst>
                  <a:path w="198" h="310">
                    <a:moveTo>
                      <a:pt x="165" y="31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198" y="304"/>
                    </a:lnTo>
                    <a:lnTo>
                      <a:pt x="165" y="310"/>
                    </a:lnTo>
                    <a:close/>
                  </a:path>
                </a:pathLst>
              </a:custGeom>
              <a:solidFill>
                <a:srgbClr val="93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248000" y="4162320"/>
                <a:ext cx="65160" cy="101520"/>
              </a:xfrm>
              <a:custGeom>
                <a:avLst/>
                <a:gdLst/>
                <a:ahLst/>
                <a:rect l="l" t="t" r="r" b="b"/>
                <a:pathLst>
                  <a:path w="202" h="319">
                    <a:moveTo>
                      <a:pt x="169" y="31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02" y="312"/>
                    </a:lnTo>
                    <a:lnTo>
                      <a:pt x="169" y="319"/>
                    </a:lnTo>
                    <a:close/>
                  </a:path>
                </a:pathLst>
              </a:custGeom>
              <a:solidFill>
                <a:srgbClr val="95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251240" y="415908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209" h="329">
                    <a:moveTo>
                      <a:pt x="176" y="32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09" y="322"/>
                    </a:lnTo>
                    <a:lnTo>
                      <a:pt x="176" y="329"/>
                    </a:lnTo>
                    <a:close/>
                  </a:path>
                </a:pathLst>
              </a:custGeom>
              <a:solidFill>
                <a:srgbClr val="95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255920" y="4154400"/>
                <a:ext cx="66600" cy="108000"/>
              </a:xfrm>
              <a:custGeom>
                <a:avLst/>
                <a:gdLst/>
                <a:ahLst/>
                <a:rect l="l" t="t" r="r" b="b"/>
                <a:pathLst>
                  <a:path w="213" h="338">
                    <a:moveTo>
                      <a:pt x="180" y="338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13" y="332"/>
                    </a:lnTo>
                    <a:lnTo>
                      <a:pt x="180" y="338"/>
                    </a:lnTo>
                    <a:close/>
                  </a:path>
                </a:pathLst>
              </a:custGeom>
              <a:solidFill>
                <a:srgbClr val="95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259160" y="4151160"/>
                <a:ext cx="69840" cy="109800"/>
              </a:xfrm>
              <a:custGeom>
                <a:avLst/>
                <a:gdLst/>
                <a:ahLst/>
                <a:rect l="l" t="t" r="r" b="b"/>
                <a:pathLst>
                  <a:path w="220" h="347">
                    <a:moveTo>
                      <a:pt x="187" y="34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20" y="341"/>
                    </a:lnTo>
                    <a:lnTo>
                      <a:pt x="187" y="347"/>
                    </a:lnTo>
                    <a:close/>
                  </a:path>
                </a:pathLst>
              </a:custGeom>
              <a:solidFill>
                <a:srgbClr val="95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262400" y="4146480"/>
                <a:ext cx="71280" cy="114480"/>
              </a:xfrm>
              <a:custGeom>
                <a:avLst/>
                <a:gdLst/>
                <a:ahLst/>
                <a:rect l="l" t="t" r="r" b="b"/>
                <a:pathLst>
                  <a:path w="225" h="358">
                    <a:moveTo>
                      <a:pt x="191" y="358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25" y="352"/>
                    </a:lnTo>
                    <a:lnTo>
                      <a:pt x="191" y="358"/>
                    </a:lnTo>
                    <a:close/>
                  </a:path>
                </a:pathLst>
              </a:custGeom>
              <a:solidFill>
                <a:srgbClr val="95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265640" y="4143240"/>
                <a:ext cx="73080" cy="115920"/>
              </a:xfrm>
              <a:custGeom>
                <a:avLst/>
                <a:gdLst/>
                <a:ahLst/>
                <a:rect l="l" t="t" r="r" b="b"/>
                <a:pathLst>
                  <a:path w="231" h="367">
                    <a:moveTo>
                      <a:pt x="198" y="367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31" y="361"/>
                    </a:lnTo>
                    <a:lnTo>
                      <a:pt x="198" y="367"/>
                    </a:lnTo>
                    <a:close/>
                  </a:path>
                </a:pathLst>
              </a:custGeom>
              <a:solidFill>
                <a:srgbClr val="95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270320" y="4138560"/>
                <a:ext cx="74520" cy="119160"/>
              </a:xfrm>
              <a:custGeom>
                <a:avLst/>
                <a:gdLst/>
                <a:ahLst/>
                <a:rect l="l" t="t" r="r" b="b"/>
                <a:pathLst>
                  <a:path w="235" h="377">
                    <a:moveTo>
                      <a:pt x="203" y="37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35" y="371"/>
                    </a:lnTo>
                    <a:lnTo>
                      <a:pt x="203" y="377"/>
                    </a:lnTo>
                    <a:close/>
                  </a:path>
                </a:pathLst>
              </a:custGeom>
              <a:solidFill>
                <a:srgbClr val="965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273560" y="4133880"/>
                <a:ext cx="75960" cy="123840"/>
              </a:xfrm>
              <a:custGeom>
                <a:avLst/>
                <a:gdLst/>
                <a:ahLst/>
                <a:rect l="l" t="t" r="r" b="b"/>
                <a:pathLst>
                  <a:path w="242" h="387">
                    <a:moveTo>
                      <a:pt x="209" y="387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42" y="380"/>
                    </a:lnTo>
                    <a:lnTo>
                      <a:pt x="209" y="387"/>
                    </a:lnTo>
                    <a:close/>
                  </a:path>
                </a:pathLst>
              </a:custGeom>
              <a:solidFill>
                <a:srgbClr val="965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276800" y="4130640"/>
                <a:ext cx="77760" cy="125280"/>
              </a:xfrm>
              <a:custGeom>
                <a:avLst/>
                <a:gdLst/>
                <a:ahLst/>
                <a:rect l="l" t="t" r="r" b="b"/>
                <a:pathLst>
                  <a:path w="247" h="396">
                    <a:moveTo>
                      <a:pt x="213" y="39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47" y="389"/>
                    </a:lnTo>
                    <a:lnTo>
                      <a:pt x="213" y="396"/>
                    </a:lnTo>
                    <a:close/>
                  </a:path>
                </a:pathLst>
              </a:custGeom>
              <a:solidFill>
                <a:srgbClr val="965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279680" y="4125960"/>
                <a:ext cx="81000" cy="128520"/>
              </a:xfrm>
              <a:custGeom>
                <a:avLst/>
                <a:gdLst/>
                <a:ahLst/>
                <a:rect l="l" t="t" r="r" b="b"/>
                <a:pathLst>
                  <a:path w="254" h="405">
                    <a:moveTo>
                      <a:pt x="220" y="405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254" y="398"/>
                    </a:lnTo>
                    <a:lnTo>
                      <a:pt x="220" y="405"/>
                    </a:lnTo>
                    <a:close/>
                  </a:path>
                </a:pathLst>
              </a:custGeom>
              <a:solidFill>
                <a:srgbClr val="965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282920" y="4122720"/>
                <a:ext cx="82800" cy="131760"/>
              </a:xfrm>
              <a:custGeom>
                <a:avLst/>
                <a:gdLst/>
                <a:ahLst/>
                <a:rect l="l" t="t" r="r" b="b"/>
                <a:pathLst>
                  <a:path w="257" h="414">
                    <a:moveTo>
                      <a:pt x="225" y="41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57" y="407"/>
                    </a:lnTo>
                    <a:lnTo>
                      <a:pt x="225" y="414"/>
                    </a:lnTo>
                    <a:close/>
                  </a:path>
                </a:pathLst>
              </a:custGeom>
              <a:solidFill>
                <a:srgbClr val="96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287600" y="4118040"/>
                <a:ext cx="82800" cy="135000"/>
              </a:xfrm>
              <a:custGeom>
                <a:avLst/>
                <a:gdLst/>
                <a:ahLst/>
                <a:rect l="l" t="t" r="r" b="b"/>
                <a:pathLst>
                  <a:path w="263" h="423">
                    <a:moveTo>
                      <a:pt x="231" y="42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63" y="417"/>
                    </a:lnTo>
                    <a:lnTo>
                      <a:pt x="231" y="423"/>
                    </a:lnTo>
                    <a:close/>
                  </a:path>
                </a:pathLst>
              </a:custGeom>
              <a:solidFill>
                <a:srgbClr val="96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290840" y="4114800"/>
                <a:ext cx="85680" cy="136440"/>
              </a:xfrm>
              <a:custGeom>
                <a:avLst/>
                <a:gdLst/>
                <a:ahLst/>
                <a:rect l="l" t="t" r="r" b="b"/>
                <a:pathLst>
                  <a:path w="269" h="434">
                    <a:moveTo>
                      <a:pt x="235" y="434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269" y="428"/>
                    </a:lnTo>
                    <a:lnTo>
                      <a:pt x="235" y="434"/>
                    </a:lnTo>
                    <a:close/>
                  </a:path>
                </a:pathLst>
              </a:custGeom>
              <a:solidFill>
                <a:srgbClr val="96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294080" y="4110120"/>
                <a:ext cx="87480" cy="141120"/>
              </a:xfrm>
              <a:custGeom>
                <a:avLst/>
                <a:gdLst/>
                <a:ahLst/>
                <a:rect l="l" t="t" r="r" b="b"/>
                <a:pathLst>
                  <a:path w="275" h="443">
                    <a:moveTo>
                      <a:pt x="241" y="443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75" y="436"/>
                    </a:lnTo>
                    <a:lnTo>
                      <a:pt x="241" y="443"/>
                    </a:lnTo>
                    <a:close/>
                  </a:path>
                </a:pathLst>
              </a:custGeom>
              <a:solidFill>
                <a:srgbClr val="99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297320" y="4106880"/>
                <a:ext cx="88920" cy="142920"/>
              </a:xfrm>
              <a:custGeom>
                <a:avLst/>
                <a:gdLst/>
                <a:ahLst/>
                <a:rect l="l" t="t" r="r" b="b"/>
                <a:pathLst>
                  <a:path w="279" h="453">
                    <a:moveTo>
                      <a:pt x="247" y="45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79" y="446"/>
                    </a:lnTo>
                    <a:lnTo>
                      <a:pt x="247" y="453"/>
                    </a:lnTo>
                    <a:close/>
                  </a:path>
                </a:pathLst>
              </a:custGeom>
              <a:solidFill>
                <a:srgbClr val="99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300560" y="4102200"/>
                <a:ext cx="90360" cy="145800"/>
              </a:xfrm>
              <a:custGeom>
                <a:avLst/>
                <a:gdLst/>
                <a:ahLst/>
                <a:rect l="l" t="t" r="r" b="b"/>
                <a:pathLst>
                  <a:path w="285" h="462">
                    <a:moveTo>
                      <a:pt x="253" y="462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85" y="456"/>
                    </a:lnTo>
                    <a:lnTo>
                      <a:pt x="253" y="462"/>
                    </a:lnTo>
                    <a:close/>
                  </a:path>
                </a:pathLst>
              </a:custGeom>
              <a:solidFill>
                <a:srgbClr val="99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305240" y="4098960"/>
                <a:ext cx="92160" cy="149040"/>
              </a:xfrm>
              <a:custGeom>
                <a:avLst/>
                <a:gdLst/>
                <a:ahLst/>
                <a:rect l="l" t="t" r="r" b="b"/>
                <a:pathLst>
                  <a:path w="291" h="471">
                    <a:moveTo>
                      <a:pt x="257" y="47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91" y="465"/>
                    </a:lnTo>
                    <a:lnTo>
                      <a:pt x="257" y="471"/>
                    </a:lnTo>
                    <a:close/>
                  </a:path>
                </a:pathLst>
              </a:custGeom>
              <a:solidFill>
                <a:srgbClr val="99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308480" y="4094280"/>
                <a:ext cx="93600" cy="152280"/>
              </a:xfrm>
              <a:custGeom>
                <a:avLst/>
                <a:gdLst/>
                <a:ahLst/>
                <a:rect l="l" t="t" r="r" b="b"/>
                <a:pathLst>
                  <a:path w="297" h="481">
                    <a:moveTo>
                      <a:pt x="263" y="48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97" y="475"/>
                    </a:lnTo>
                    <a:lnTo>
                      <a:pt x="263" y="481"/>
                    </a:lnTo>
                    <a:close/>
                  </a:path>
                </a:pathLst>
              </a:custGeom>
              <a:solidFill>
                <a:srgbClr val="99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311720" y="4091040"/>
                <a:ext cx="95040" cy="155520"/>
              </a:xfrm>
              <a:custGeom>
                <a:avLst/>
                <a:gdLst/>
                <a:ahLst/>
                <a:rect l="l" t="t" r="r" b="b"/>
                <a:pathLst>
                  <a:path w="302" h="490">
                    <a:moveTo>
                      <a:pt x="269" y="49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02" y="484"/>
                    </a:lnTo>
                    <a:lnTo>
                      <a:pt x="269" y="490"/>
                    </a:lnTo>
                    <a:close/>
                  </a:path>
                </a:pathLst>
              </a:custGeom>
              <a:solidFill>
                <a:srgbClr val="99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314600" y="4086000"/>
                <a:ext cx="98640" cy="158760"/>
              </a:xfrm>
              <a:custGeom>
                <a:avLst/>
                <a:gdLst/>
                <a:ahLst/>
                <a:rect l="l" t="t" r="r" b="b"/>
                <a:pathLst>
                  <a:path w="307" h="500">
                    <a:moveTo>
                      <a:pt x="275" y="500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307" y="494"/>
                    </a:lnTo>
                    <a:lnTo>
                      <a:pt x="275" y="500"/>
                    </a:lnTo>
                    <a:close/>
                  </a:path>
                </a:pathLst>
              </a:custGeom>
              <a:solidFill>
                <a:srgbClr val="9a5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317840" y="4081320"/>
                <a:ext cx="100080" cy="162000"/>
              </a:xfrm>
              <a:custGeom>
                <a:avLst/>
                <a:gdLst/>
                <a:ahLst/>
                <a:rect l="l" t="t" r="r" b="b"/>
                <a:pathLst>
                  <a:path w="313" h="511">
                    <a:moveTo>
                      <a:pt x="280" y="511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313" y="504"/>
                    </a:lnTo>
                    <a:lnTo>
                      <a:pt x="280" y="511"/>
                    </a:lnTo>
                    <a:close/>
                  </a:path>
                </a:pathLst>
              </a:custGeom>
              <a:solidFill>
                <a:srgbClr val="9a5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322520" y="4078080"/>
                <a:ext cx="100080" cy="165240"/>
              </a:xfrm>
              <a:custGeom>
                <a:avLst/>
                <a:gdLst/>
                <a:ahLst/>
                <a:rect l="l" t="t" r="r" b="b"/>
                <a:pathLst>
                  <a:path w="317" h="520">
                    <a:moveTo>
                      <a:pt x="284" y="520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17" y="513"/>
                    </a:lnTo>
                    <a:lnTo>
                      <a:pt x="284" y="520"/>
                    </a:lnTo>
                    <a:close/>
                  </a:path>
                </a:pathLst>
              </a:custGeom>
              <a:solidFill>
                <a:srgbClr val="9a5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325760" y="4073400"/>
                <a:ext cx="103320" cy="168480"/>
              </a:xfrm>
              <a:custGeom>
                <a:avLst/>
                <a:gdLst/>
                <a:ahLst/>
                <a:rect l="l" t="t" r="r" b="b"/>
                <a:pathLst>
                  <a:path w="324" h="529">
                    <a:moveTo>
                      <a:pt x="291" y="52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24" y="523"/>
                    </a:lnTo>
                    <a:lnTo>
                      <a:pt x="291" y="529"/>
                    </a:lnTo>
                    <a:close/>
                  </a:path>
                </a:pathLst>
              </a:custGeom>
              <a:solidFill>
                <a:srgbClr val="9a5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329000" y="4070160"/>
                <a:ext cx="104760" cy="169920"/>
              </a:xfrm>
              <a:custGeom>
                <a:avLst/>
                <a:gdLst/>
                <a:ahLst/>
                <a:rect l="l" t="t" r="r" b="b"/>
                <a:pathLst>
                  <a:path w="329" h="538">
                    <a:moveTo>
                      <a:pt x="295" y="53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29" y="532"/>
                    </a:lnTo>
                    <a:lnTo>
                      <a:pt x="295" y="538"/>
                    </a:lnTo>
                    <a:close/>
                  </a:path>
                </a:pathLst>
              </a:custGeom>
              <a:solidFill>
                <a:srgbClr val="9a55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332240" y="4065480"/>
                <a:ext cx="106200" cy="174600"/>
              </a:xfrm>
              <a:custGeom>
                <a:avLst/>
                <a:gdLst/>
                <a:ahLst/>
                <a:rect l="l" t="t" r="r" b="b"/>
                <a:pathLst>
                  <a:path w="335" h="548">
                    <a:moveTo>
                      <a:pt x="302" y="54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35" y="541"/>
                    </a:lnTo>
                    <a:lnTo>
                      <a:pt x="302" y="548"/>
                    </a:lnTo>
                    <a:close/>
                  </a:path>
                </a:pathLst>
              </a:custGeom>
              <a:solidFill>
                <a:srgbClr val="9a55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336920" y="4062240"/>
                <a:ext cx="106560" cy="176400"/>
              </a:xfrm>
              <a:custGeom>
                <a:avLst/>
                <a:gdLst/>
                <a:ahLst/>
                <a:rect l="l" t="t" r="r" b="b"/>
                <a:pathLst>
                  <a:path w="339" h="558">
                    <a:moveTo>
                      <a:pt x="307" y="558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39" y="551"/>
                    </a:lnTo>
                    <a:lnTo>
                      <a:pt x="307" y="558"/>
                    </a:lnTo>
                    <a:close/>
                  </a:path>
                </a:pathLst>
              </a:custGeom>
              <a:solidFill>
                <a:srgbClr val="9a55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340160" y="405756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346" h="566">
                    <a:moveTo>
                      <a:pt x="313" y="56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46" y="559"/>
                    </a:lnTo>
                    <a:lnTo>
                      <a:pt x="313" y="566"/>
                    </a:lnTo>
                    <a:close/>
                  </a:path>
                </a:pathLst>
              </a:custGeom>
              <a:solidFill>
                <a:srgbClr val="9c5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343400" y="4054320"/>
                <a:ext cx="110880" cy="182520"/>
              </a:xfrm>
              <a:custGeom>
                <a:avLst/>
                <a:gdLst/>
                <a:ahLst/>
                <a:rect l="l" t="t" r="r" b="b"/>
                <a:pathLst>
                  <a:path w="351" h="576">
                    <a:moveTo>
                      <a:pt x="317" y="57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51" y="569"/>
                    </a:lnTo>
                    <a:lnTo>
                      <a:pt x="317" y="576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346640" y="4049640"/>
                <a:ext cx="114120" cy="185760"/>
              </a:xfrm>
              <a:custGeom>
                <a:avLst/>
                <a:gdLst/>
                <a:ahLst/>
                <a:rect l="l" t="t" r="r" b="b"/>
                <a:pathLst>
                  <a:path w="358" h="585">
                    <a:moveTo>
                      <a:pt x="324" y="585"/>
                    </a:moveTo>
                    <a:lnTo>
                      <a:pt x="0" y="26"/>
                    </a:lnTo>
                    <a:lnTo>
                      <a:pt x="23" y="0"/>
                    </a:lnTo>
                    <a:lnTo>
                      <a:pt x="358" y="579"/>
                    </a:lnTo>
                    <a:lnTo>
                      <a:pt x="324" y="585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349520" y="4044960"/>
                <a:ext cx="115920" cy="189000"/>
              </a:xfrm>
              <a:custGeom>
                <a:avLst/>
                <a:gdLst/>
                <a:ahLst/>
                <a:rect l="l" t="t" r="r" b="b"/>
                <a:pathLst>
                  <a:path w="361" h="595">
                    <a:moveTo>
                      <a:pt x="329" y="595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61" y="589"/>
                    </a:lnTo>
                    <a:lnTo>
                      <a:pt x="329" y="595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354560" y="4041720"/>
                <a:ext cx="115920" cy="192240"/>
              </a:xfrm>
              <a:custGeom>
                <a:avLst/>
                <a:gdLst/>
                <a:ahLst/>
                <a:rect l="l" t="t" r="r" b="b"/>
                <a:pathLst>
                  <a:path w="367" h="605">
                    <a:moveTo>
                      <a:pt x="335" y="605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67" y="599"/>
                    </a:lnTo>
                    <a:lnTo>
                      <a:pt x="335" y="605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357440" y="4037040"/>
                <a:ext cx="117720" cy="195120"/>
              </a:xfrm>
              <a:custGeom>
                <a:avLst/>
                <a:gdLst/>
                <a:ahLst/>
                <a:rect l="l" t="t" r="r" b="b"/>
                <a:pathLst>
                  <a:path w="373" h="614">
                    <a:moveTo>
                      <a:pt x="339" y="61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73" y="608"/>
                    </a:lnTo>
                    <a:lnTo>
                      <a:pt x="339" y="614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360680" y="4033800"/>
                <a:ext cx="120600" cy="198360"/>
              </a:xfrm>
              <a:custGeom>
                <a:avLst/>
                <a:gdLst/>
                <a:ahLst/>
                <a:rect l="l" t="t" r="r" b="b"/>
                <a:pathLst>
                  <a:path w="379" h="624">
                    <a:moveTo>
                      <a:pt x="345" y="62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79" y="618"/>
                    </a:lnTo>
                    <a:lnTo>
                      <a:pt x="345" y="624"/>
                    </a:lnTo>
                    <a:close/>
                  </a:path>
                </a:pathLst>
              </a:custGeom>
              <a:solidFill>
                <a:srgbClr val="9e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363920" y="4029120"/>
                <a:ext cx="122400" cy="201600"/>
              </a:xfrm>
              <a:custGeom>
                <a:avLst/>
                <a:gdLst/>
                <a:ahLst/>
                <a:rect l="l" t="t" r="r" b="b"/>
                <a:pathLst>
                  <a:path w="383" h="633">
                    <a:moveTo>
                      <a:pt x="351" y="63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83" y="626"/>
                    </a:lnTo>
                    <a:lnTo>
                      <a:pt x="351" y="633"/>
                    </a:lnTo>
                    <a:close/>
                  </a:path>
                </a:pathLst>
              </a:custGeom>
              <a:solidFill>
                <a:srgbClr val="9e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367160" y="4025880"/>
                <a:ext cx="123840" cy="203040"/>
              </a:xfrm>
              <a:custGeom>
                <a:avLst/>
                <a:gdLst/>
                <a:ahLst/>
                <a:rect l="l" t="t" r="r" b="b"/>
                <a:pathLst>
                  <a:path w="389" h="643">
                    <a:moveTo>
                      <a:pt x="357" y="64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89" y="636"/>
                    </a:lnTo>
                    <a:lnTo>
                      <a:pt x="357" y="643"/>
                    </a:lnTo>
                    <a:close/>
                  </a:path>
                </a:pathLst>
              </a:custGeom>
              <a:solidFill>
                <a:srgbClr val="9e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371840" y="4021200"/>
                <a:ext cx="125640" cy="207720"/>
              </a:xfrm>
              <a:custGeom>
                <a:avLst/>
                <a:gdLst/>
                <a:ahLst/>
                <a:rect l="l" t="t" r="r" b="b"/>
                <a:pathLst>
                  <a:path w="395" h="652">
                    <a:moveTo>
                      <a:pt x="361" y="652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95" y="646"/>
                    </a:lnTo>
                    <a:lnTo>
                      <a:pt x="361" y="652"/>
                    </a:lnTo>
                    <a:close/>
                  </a:path>
                </a:pathLst>
              </a:custGeom>
              <a:solidFill>
                <a:srgbClr val="9e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375080" y="4017960"/>
                <a:ext cx="127080" cy="209520"/>
              </a:xfrm>
              <a:custGeom>
                <a:avLst/>
                <a:gdLst/>
                <a:ahLst/>
                <a:rect l="l" t="t" r="r" b="b"/>
                <a:pathLst>
                  <a:path w="401" h="662">
                    <a:moveTo>
                      <a:pt x="367" y="662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01" y="656"/>
                    </a:lnTo>
                    <a:lnTo>
                      <a:pt x="367" y="662"/>
                    </a:lnTo>
                    <a:close/>
                  </a:path>
                </a:pathLst>
              </a:custGeom>
              <a:solidFill>
                <a:srgbClr val="9e5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378320" y="4013280"/>
                <a:ext cx="128520" cy="212760"/>
              </a:xfrm>
              <a:custGeom>
                <a:avLst/>
                <a:gdLst/>
                <a:ahLst/>
                <a:rect l="l" t="t" r="r" b="b"/>
                <a:pathLst>
                  <a:path w="406" h="672">
                    <a:moveTo>
                      <a:pt x="373" y="672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06" y="666"/>
                    </a:lnTo>
                    <a:lnTo>
                      <a:pt x="373" y="672"/>
                    </a:lnTo>
                    <a:close/>
                  </a:path>
                </a:pathLst>
              </a:custGeom>
              <a:solidFill>
                <a:srgbClr val="9e5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381560" y="4010040"/>
                <a:ext cx="129960" cy="216000"/>
              </a:xfrm>
              <a:custGeom>
                <a:avLst/>
                <a:gdLst/>
                <a:ahLst/>
                <a:rect l="l" t="t" r="r" b="b"/>
                <a:pathLst>
                  <a:path w="411" h="681">
                    <a:moveTo>
                      <a:pt x="379" y="68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11" y="675"/>
                    </a:lnTo>
                    <a:lnTo>
                      <a:pt x="379" y="681"/>
                    </a:lnTo>
                    <a:close/>
                  </a:path>
                </a:pathLst>
              </a:custGeom>
              <a:solidFill>
                <a:srgbClr val="9e5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384440" y="4005360"/>
                <a:ext cx="133560" cy="218880"/>
              </a:xfrm>
              <a:custGeom>
                <a:avLst/>
                <a:gdLst/>
                <a:ahLst/>
                <a:rect l="l" t="t" r="r" b="b"/>
                <a:pathLst>
                  <a:path w="417" h="691">
                    <a:moveTo>
                      <a:pt x="384" y="69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17" y="685"/>
                    </a:lnTo>
                    <a:lnTo>
                      <a:pt x="384" y="691"/>
                    </a:lnTo>
                    <a:close/>
                  </a:path>
                </a:pathLst>
              </a:custGeom>
              <a:solidFill>
                <a:srgbClr val="a053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89480" y="4000320"/>
                <a:ext cx="133200" cy="223920"/>
              </a:xfrm>
              <a:custGeom>
                <a:avLst/>
                <a:gdLst/>
                <a:ahLst/>
                <a:rect l="l" t="t" r="r" b="b"/>
                <a:pathLst>
                  <a:path w="423" h="701">
                    <a:moveTo>
                      <a:pt x="389" y="701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23" y="693"/>
                    </a:lnTo>
                    <a:lnTo>
                      <a:pt x="389" y="701"/>
                    </a:lnTo>
                    <a:close/>
                  </a:path>
                </a:pathLst>
              </a:custGeom>
              <a:solidFill>
                <a:srgbClr val="a0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92360" y="3997440"/>
                <a:ext cx="135000" cy="225360"/>
              </a:xfrm>
              <a:custGeom>
                <a:avLst/>
                <a:gdLst/>
                <a:ahLst/>
                <a:rect l="l" t="t" r="r" b="b"/>
                <a:pathLst>
                  <a:path w="428" h="710">
                    <a:moveTo>
                      <a:pt x="395" y="71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28" y="702"/>
                    </a:lnTo>
                    <a:lnTo>
                      <a:pt x="395" y="710"/>
                    </a:lnTo>
                    <a:close/>
                  </a:path>
                </a:pathLst>
              </a:custGeom>
              <a:solidFill>
                <a:srgbClr val="a0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395600" y="3992400"/>
                <a:ext cx="138240" cy="228600"/>
              </a:xfrm>
              <a:custGeom>
                <a:avLst/>
                <a:gdLst/>
                <a:ahLst/>
                <a:rect l="l" t="t" r="r" b="b"/>
                <a:pathLst>
                  <a:path w="434" h="718">
                    <a:moveTo>
                      <a:pt x="401" y="71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34" y="712"/>
                    </a:lnTo>
                    <a:lnTo>
                      <a:pt x="401" y="718"/>
                    </a:lnTo>
                    <a:close/>
                  </a:path>
                </a:pathLst>
              </a:custGeom>
              <a:solidFill>
                <a:srgbClr val="a0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398840" y="3989160"/>
                <a:ext cx="139680" cy="230400"/>
              </a:xfrm>
              <a:custGeom>
                <a:avLst/>
                <a:gdLst/>
                <a:ahLst/>
                <a:rect l="l" t="t" r="r" b="b"/>
                <a:pathLst>
                  <a:path w="439" h="727">
                    <a:moveTo>
                      <a:pt x="406" y="72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39" y="721"/>
                    </a:lnTo>
                    <a:lnTo>
                      <a:pt x="406" y="727"/>
                    </a:lnTo>
                    <a:close/>
                  </a:path>
                </a:pathLst>
              </a:custGeom>
              <a:solidFill>
                <a:srgbClr val="a0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402080" y="3984480"/>
                <a:ext cx="141120" cy="235080"/>
              </a:xfrm>
              <a:custGeom>
                <a:avLst/>
                <a:gdLst/>
                <a:ahLst/>
                <a:rect l="l" t="t" r="r" b="b"/>
                <a:pathLst>
                  <a:path w="445" h="738">
                    <a:moveTo>
                      <a:pt x="412" y="738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45" y="732"/>
                    </a:lnTo>
                    <a:lnTo>
                      <a:pt x="412" y="738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406760" y="3981240"/>
                <a:ext cx="142920" cy="236520"/>
              </a:xfrm>
              <a:custGeom>
                <a:avLst/>
                <a:gdLst/>
                <a:ahLst/>
                <a:rect l="l" t="t" r="r" b="b"/>
                <a:pathLst>
                  <a:path w="450" h="748">
                    <a:moveTo>
                      <a:pt x="417" y="748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450" y="742"/>
                    </a:lnTo>
                    <a:lnTo>
                      <a:pt x="417" y="748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410000" y="3976560"/>
                <a:ext cx="144360" cy="241200"/>
              </a:xfrm>
              <a:custGeom>
                <a:avLst/>
                <a:gdLst/>
                <a:ahLst/>
                <a:rect l="l" t="t" r="r" b="b"/>
                <a:pathLst>
                  <a:path w="456" h="757">
                    <a:moveTo>
                      <a:pt x="423" y="75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56" y="750"/>
                    </a:lnTo>
                    <a:lnTo>
                      <a:pt x="423" y="757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413240" y="3973320"/>
                <a:ext cx="145800" cy="243000"/>
              </a:xfrm>
              <a:custGeom>
                <a:avLst/>
                <a:gdLst/>
                <a:ahLst/>
                <a:rect l="l" t="t" r="r" b="b"/>
                <a:pathLst>
                  <a:path w="461" h="767">
                    <a:moveTo>
                      <a:pt x="428" y="767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461" y="760"/>
                    </a:lnTo>
                    <a:lnTo>
                      <a:pt x="428" y="767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416480" y="3968640"/>
                <a:ext cx="149040" cy="246240"/>
              </a:xfrm>
              <a:custGeom>
                <a:avLst/>
                <a:gdLst/>
                <a:ahLst/>
                <a:rect l="l" t="t" r="r" b="b"/>
                <a:pathLst>
                  <a:path w="467" h="776">
                    <a:moveTo>
                      <a:pt x="434" y="776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67" y="770"/>
                    </a:lnTo>
                    <a:lnTo>
                      <a:pt x="434" y="776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421160" y="3965400"/>
                <a:ext cx="149040" cy="249480"/>
              </a:xfrm>
              <a:custGeom>
                <a:avLst/>
                <a:gdLst/>
                <a:ahLst/>
                <a:rect l="l" t="t" r="r" b="b"/>
                <a:pathLst>
                  <a:path w="471" h="785">
                    <a:moveTo>
                      <a:pt x="438" y="785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71" y="779"/>
                    </a:lnTo>
                    <a:lnTo>
                      <a:pt x="438" y="785"/>
                    </a:lnTo>
                    <a:close/>
                  </a:path>
                </a:pathLst>
              </a:custGeom>
              <a:solidFill>
                <a:srgbClr val="a15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424400" y="3960720"/>
                <a:ext cx="150840" cy="252360"/>
              </a:xfrm>
              <a:custGeom>
                <a:avLst/>
                <a:gdLst/>
                <a:ahLst/>
                <a:rect l="l" t="t" r="r" b="b"/>
                <a:pathLst>
                  <a:path w="478" h="795">
                    <a:moveTo>
                      <a:pt x="445" y="795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78" y="789"/>
                    </a:lnTo>
                    <a:lnTo>
                      <a:pt x="445" y="795"/>
                    </a:lnTo>
                    <a:close/>
                  </a:path>
                </a:pathLst>
              </a:custGeom>
              <a:solidFill>
                <a:srgbClr val="a15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427280" y="3957480"/>
                <a:ext cx="154080" cy="254160"/>
              </a:xfrm>
              <a:custGeom>
                <a:avLst/>
                <a:gdLst/>
                <a:ahLst/>
                <a:rect l="l" t="t" r="r" b="b"/>
                <a:pathLst>
                  <a:path w="483" h="804">
                    <a:moveTo>
                      <a:pt x="449" y="80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83" y="798"/>
                    </a:lnTo>
                    <a:lnTo>
                      <a:pt x="449" y="804"/>
                    </a:lnTo>
                    <a:close/>
                  </a:path>
                </a:pathLst>
              </a:custGeom>
              <a:solidFill>
                <a:srgbClr val="a35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430520" y="395280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488" h="815">
                    <a:moveTo>
                      <a:pt x="456" y="815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88" y="809"/>
                    </a:lnTo>
                    <a:lnTo>
                      <a:pt x="456" y="815"/>
                    </a:lnTo>
                    <a:close/>
                  </a:path>
                </a:pathLst>
              </a:custGeom>
              <a:solidFill>
                <a:srgbClr val="a35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433760" y="3948120"/>
                <a:ext cx="157320" cy="261720"/>
              </a:xfrm>
              <a:custGeom>
                <a:avLst/>
                <a:gdLst/>
                <a:ahLst/>
                <a:rect l="l" t="t" r="r" b="b"/>
                <a:pathLst>
                  <a:path w="493" h="825">
                    <a:moveTo>
                      <a:pt x="461" y="825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493" y="818"/>
                    </a:lnTo>
                    <a:lnTo>
                      <a:pt x="461" y="825"/>
                    </a:lnTo>
                    <a:close/>
                  </a:path>
                </a:pathLst>
              </a:custGeom>
              <a:solidFill>
                <a:srgbClr val="a35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437000" y="3944880"/>
                <a:ext cx="158760" cy="264960"/>
              </a:xfrm>
              <a:custGeom>
                <a:avLst/>
                <a:gdLst/>
                <a:ahLst/>
                <a:rect l="l" t="t" r="r" b="b"/>
                <a:pathLst>
                  <a:path w="500" h="834">
                    <a:moveTo>
                      <a:pt x="466" y="83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00" y="827"/>
                    </a:lnTo>
                    <a:lnTo>
                      <a:pt x="466" y="834"/>
                    </a:lnTo>
                    <a:close/>
                  </a:path>
                </a:pathLst>
              </a:custGeom>
              <a:solidFill>
                <a:srgbClr val="a35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441680" y="3940200"/>
                <a:ext cx="160560" cy="268200"/>
              </a:xfrm>
              <a:custGeom>
                <a:avLst/>
                <a:gdLst/>
                <a:ahLst/>
                <a:rect l="l" t="t" r="r" b="b"/>
                <a:pathLst>
                  <a:path w="505" h="843">
                    <a:moveTo>
                      <a:pt x="471" y="84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05" y="836"/>
                    </a:lnTo>
                    <a:lnTo>
                      <a:pt x="471" y="843"/>
                    </a:lnTo>
                    <a:close/>
                  </a:path>
                </a:pathLst>
              </a:custGeom>
              <a:solidFill>
                <a:srgbClr val="a35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444920" y="3936960"/>
                <a:ext cx="162000" cy="270000"/>
              </a:xfrm>
              <a:custGeom>
                <a:avLst/>
                <a:gdLst/>
                <a:ahLst/>
                <a:rect l="l" t="t" r="r" b="b"/>
                <a:pathLst>
                  <a:path w="511" h="852">
                    <a:moveTo>
                      <a:pt x="478" y="852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11" y="845"/>
                    </a:lnTo>
                    <a:lnTo>
                      <a:pt x="478" y="852"/>
                    </a:lnTo>
                    <a:close/>
                  </a:path>
                </a:pathLst>
              </a:custGeom>
              <a:solidFill>
                <a:srgbClr val="a35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448160" y="3932280"/>
                <a:ext cx="163440" cy="272880"/>
              </a:xfrm>
              <a:custGeom>
                <a:avLst/>
                <a:gdLst/>
                <a:ahLst/>
                <a:rect l="l" t="t" r="r" b="b"/>
                <a:pathLst>
                  <a:path w="515" h="861">
                    <a:moveTo>
                      <a:pt x="483" y="86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15" y="855"/>
                    </a:lnTo>
                    <a:lnTo>
                      <a:pt x="483" y="861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451400" y="3929040"/>
                <a:ext cx="166680" cy="276120"/>
              </a:xfrm>
              <a:custGeom>
                <a:avLst/>
                <a:gdLst/>
                <a:ahLst/>
                <a:rect l="l" t="t" r="r" b="b"/>
                <a:pathLst>
                  <a:path w="522" h="871">
                    <a:moveTo>
                      <a:pt x="489" y="871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22" y="865"/>
                    </a:lnTo>
                    <a:lnTo>
                      <a:pt x="489" y="871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456080" y="3924360"/>
                <a:ext cx="166680" cy="279360"/>
              </a:xfrm>
              <a:custGeom>
                <a:avLst/>
                <a:gdLst/>
                <a:ahLst/>
                <a:rect l="l" t="t" r="r" b="b"/>
                <a:pathLst>
                  <a:path w="527" h="880">
                    <a:moveTo>
                      <a:pt x="493" y="88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27" y="873"/>
                    </a:lnTo>
                    <a:lnTo>
                      <a:pt x="493" y="880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459320" y="3919320"/>
                <a:ext cx="168120" cy="284400"/>
              </a:xfrm>
              <a:custGeom>
                <a:avLst/>
                <a:gdLst/>
                <a:ahLst/>
                <a:rect l="l" t="t" r="r" b="b"/>
                <a:pathLst>
                  <a:path w="533" h="891">
                    <a:moveTo>
                      <a:pt x="500" y="891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33" y="884"/>
                    </a:lnTo>
                    <a:lnTo>
                      <a:pt x="500" y="891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462200" y="391644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537" h="899">
                    <a:moveTo>
                      <a:pt x="505" y="899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37" y="893"/>
                    </a:lnTo>
                    <a:lnTo>
                      <a:pt x="505" y="899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465440" y="3911400"/>
                <a:ext cx="173160" cy="289080"/>
              </a:xfrm>
              <a:custGeom>
                <a:avLst/>
                <a:gdLst/>
                <a:ahLst/>
                <a:rect l="l" t="t" r="r" b="b"/>
                <a:pathLst>
                  <a:path w="544" h="909">
                    <a:moveTo>
                      <a:pt x="511" y="90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44" y="903"/>
                    </a:lnTo>
                    <a:lnTo>
                      <a:pt x="511" y="909"/>
                    </a:lnTo>
                    <a:close/>
                  </a:path>
                </a:pathLst>
              </a:custGeom>
              <a:solidFill>
                <a:srgbClr val="a65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468680" y="3908520"/>
                <a:ext cx="174600" cy="291960"/>
              </a:xfrm>
              <a:custGeom>
                <a:avLst/>
                <a:gdLst/>
                <a:ahLst/>
                <a:rect l="l" t="t" r="r" b="b"/>
                <a:pathLst>
                  <a:path w="549" h="919">
                    <a:moveTo>
                      <a:pt x="515" y="919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49" y="913"/>
                    </a:lnTo>
                    <a:lnTo>
                      <a:pt x="515" y="919"/>
                    </a:lnTo>
                    <a:close/>
                  </a:path>
                </a:pathLst>
              </a:custGeom>
              <a:solidFill>
                <a:srgbClr val="a65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471920" y="3903480"/>
                <a:ext cx="176040" cy="295560"/>
              </a:xfrm>
              <a:custGeom>
                <a:avLst/>
                <a:gdLst/>
                <a:ahLst/>
                <a:rect l="l" t="t" r="r" b="b"/>
                <a:pathLst>
                  <a:path w="555" h="928">
                    <a:moveTo>
                      <a:pt x="522" y="92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55" y="922"/>
                    </a:lnTo>
                    <a:lnTo>
                      <a:pt x="522" y="928"/>
                    </a:lnTo>
                    <a:close/>
                  </a:path>
                </a:pathLst>
              </a:custGeom>
              <a:solidFill>
                <a:srgbClr val="a75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476600" y="3900600"/>
                <a:ext cx="177840" cy="296640"/>
              </a:xfrm>
              <a:custGeom>
                <a:avLst/>
                <a:gdLst/>
                <a:ahLst/>
                <a:rect l="l" t="t" r="r" b="b"/>
                <a:pathLst>
                  <a:path w="560" h="938">
                    <a:moveTo>
                      <a:pt x="527" y="93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60" y="932"/>
                    </a:lnTo>
                    <a:lnTo>
                      <a:pt x="527" y="938"/>
                    </a:lnTo>
                    <a:close/>
                  </a:path>
                </a:pathLst>
              </a:custGeom>
              <a:solidFill>
                <a:srgbClr val="a75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479840" y="3895560"/>
                <a:ext cx="179280" cy="301680"/>
              </a:xfrm>
              <a:custGeom>
                <a:avLst/>
                <a:gdLst/>
                <a:ahLst/>
                <a:rect l="l" t="t" r="r" b="b"/>
                <a:pathLst>
                  <a:path w="566" h="947">
                    <a:moveTo>
                      <a:pt x="533" y="947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566" y="940"/>
                    </a:lnTo>
                    <a:lnTo>
                      <a:pt x="533" y="947"/>
                    </a:lnTo>
                    <a:close/>
                  </a:path>
                </a:pathLst>
              </a:custGeom>
              <a:solidFill>
                <a:srgbClr val="a75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483080" y="3892680"/>
                <a:ext cx="181080" cy="303120"/>
              </a:xfrm>
              <a:custGeom>
                <a:avLst/>
                <a:gdLst/>
                <a:ahLst/>
                <a:rect l="l" t="t" r="r" b="b"/>
                <a:pathLst>
                  <a:path w="571" h="957">
                    <a:moveTo>
                      <a:pt x="538" y="95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71" y="950"/>
                    </a:lnTo>
                    <a:lnTo>
                      <a:pt x="538" y="957"/>
                    </a:lnTo>
                    <a:close/>
                  </a:path>
                </a:pathLst>
              </a:custGeom>
              <a:solidFill>
                <a:srgbClr val="a75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486320" y="3887640"/>
                <a:ext cx="183960" cy="306360"/>
              </a:xfrm>
              <a:custGeom>
                <a:avLst/>
                <a:gdLst/>
                <a:ahLst/>
                <a:rect l="l" t="t" r="r" b="b"/>
                <a:pathLst>
                  <a:path w="576" h="967">
                    <a:moveTo>
                      <a:pt x="543" y="967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576" y="961"/>
                    </a:lnTo>
                    <a:lnTo>
                      <a:pt x="543" y="967"/>
                    </a:lnTo>
                    <a:close/>
                  </a:path>
                </a:pathLst>
              </a:custGeom>
              <a:solidFill>
                <a:srgbClr val="a75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491000" y="3884400"/>
                <a:ext cx="183960" cy="309600"/>
              </a:xfrm>
              <a:custGeom>
                <a:avLst/>
                <a:gdLst/>
                <a:ahLst/>
                <a:rect l="l" t="t" r="r" b="b"/>
                <a:pathLst>
                  <a:path w="582" h="976">
                    <a:moveTo>
                      <a:pt x="549" y="976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82" y="970"/>
                    </a:lnTo>
                    <a:lnTo>
                      <a:pt x="549" y="976"/>
                    </a:lnTo>
                    <a:close/>
                  </a:path>
                </a:pathLst>
              </a:custGeom>
              <a:solidFill>
                <a:srgbClr val="a75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494240" y="3879720"/>
                <a:ext cx="185760" cy="312840"/>
              </a:xfrm>
              <a:custGeom>
                <a:avLst/>
                <a:gdLst/>
                <a:ahLst/>
                <a:rect l="l" t="t" r="r" b="b"/>
                <a:pathLst>
                  <a:path w="588" h="986">
                    <a:moveTo>
                      <a:pt x="554" y="98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88" y="980"/>
                    </a:lnTo>
                    <a:lnTo>
                      <a:pt x="554" y="986"/>
                    </a:lnTo>
                    <a:close/>
                  </a:path>
                </a:pathLst>
              </a:custGeom>
              <a:solidFill>
                <a:srgbClr val="aa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497480" y="3876480"/>
                <a:ext cx="188640" cy="316080"/>
              </a:xfrm>
              <a:custGeom>
                <a:avLst/>
                <a:gdLst/>
                <a:ahLst/>
                <a:rect l="l" t="t" r="r" b="b"/>
                <a:pathLst>
                  <a:path w="593" h="995">
                    <a:moveTo>
                      <a:pt x="560" y="995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93" y="988"/>
                    </a:lnTo>
                    <a:lnTo>
                      <a:pt x="560" y="995"/>
                    </a:lnTo>
                    <a:close/>
                  </a:path>
                </a:pathLst>
              </a:custGeom>
              <a:solidFill>
                <a:srgbClr val="aa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500360" y="3871800"/>
                <a:ext cx="190440" cy="319320"/>
              </a:xfrm>
              <a:custGeom>
                <a:avLst/>
                <a:gdLst/>
                <a:ahLst/>
                <a:rect l="l" t="t" r="r" b="b"/>
                <a:pathLst>
                  <a:path w="598" h="1005">
                    <a:moveTo>
                      <a:pt x="566" y="1005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598" y="997"/>
                    </a:lnTo>
                    <a:lnTo>
                      <a:pt x="566" y="1005"/>
                    </a:lnTo>
                    <a:close/>
                  </a:path>
                </a:pathLst>
              </a:custGeom>
              <a:solidFill>
                <a:srgbClr val="aa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503600" y="3867120"/>
                <a:ext cx="192240" cy="322200"/>
              </a:xfrm>
              <a:custGeom>
                <a:avLst/>
                <a:gdLst/>
                <a:ahLst/>
                <a:rect l="l" t="t" r="r" b="b"/>
                <a:pathLst>
                  <a:path w="604" h="1014">
                    <a:moveTo>
                      <a:pt x="571" y="1014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04" y="1007"/>
                    </a:lnTo>
                    <a:lnTo>
                      <a:pt x="571" y="1014"/>
                    </a:lnTo>
                    <a:close/>
                  </a:path>
                </a:pathLst>
              </a:custGeom>
              <a:solidFill>
                <a:srgbClr val="aa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508280" y="3863880"/>
                <a:ext cx="193680" cy="324000"/>
              </a:xfrm>
              <a:custGeom>
                <a:avLst/>
                <a:gdLst/>
                <a:ahLst/>
                <a:rect l="l" t="t" r="r" b="b"/>
                <a:pathLst>
                  <a:path w="609" h="1022">
                    <a:moveTo>
                      <a:pt x="575" y="1022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09" y="1016"/>
                    </a:lnTo>
                    <a:lnTo>
                      <a:pt x="575" y="1022"/>
                    </a:lnTo>
                    <a:close/>
                  </a:path>
                </a:pathLst>
              </a:custGeom>
              <a:solidFill>
                <a:srgbClr val="aa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511520" y="3859200"/>
                <a:ext cx="195480" cy="328680"/>
              </a:xfrm>
              <a:custGeom>
                <a:avLst/>
                <a:gdLst/>
                <a:ahLst/>
                <a:rect l="l" t="t" r="r" b="b"/>
                <a:pathLst>
                  <a:path w="616" h="1033">
                    <a:moveTo>
                      <a:pt x="582" y="1033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16" y="1027"/>
                    </a:lnTo>
                    <a:lnTo>
                      <a:pt x="582" y="1033"/>
                    </a:lnTo>
                    <a:close/>
                  </a:path>
                </a:pathLst>
              </a:custGeom>
              <a:solidFill>
                <a:srgbClr val="aa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514760" y="3855960"/>
                <a:ext cx="196920" cy="330120"/>
              </a:xfrm>
              <a:custGeom>
                <a:avLst/>
                <a:gdLst/>
                <a:ahLst/>
                <a:rect l="l" t="t" r="r" b="b"/>
                <a:pathLst>
                  <a:path w="619" h="1043">
                    <a:moveTo>
                      <a:pt x="587" y="1043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619" y="1037"/>
                    </a:lnTo>
                    <a:lnTo>
                      <a:pt x="587" y="1043"/>
                    </a:lnTo>
                    <a:close/>
                  </a:path>
                </a:pathLst>
              </a:custGeom>
              <a:solidFill>
                <a:srgbClr val="aa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518000" y="385128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626" h="1052">
                    <a:moveTo>
                      <a:pt x="594" y="1052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26" y="1046"/>
                    </a:lnTo>
                    <a:lnTo>
                      <a:pt x="594" y="1052"/>
                    </a:lnTo>
                    <a:close/>
                  </a:path>
                </a:pathLst>
              </a:custGeom>
              <a:solidFill>
                <a:srgbClr val="ab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22680" y="3848040"/>
                <a:ext cx="200160" cy="336600"/>
              </a:xfrm>
              <a:custGeom>
                <a:avLst/>
                <a:gdLst/>
                <a:ahLst/>
                <a:rect l="l" t="t" r="r" b="b"/>
                <a:pathLst>
                  <a:path w="631" h="1062">
                    <a:moveTo>
                      <a:pt x="597" y="1062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31" y="1056"/>
                    </a:lnTo>
                    <a:lnTo>
                      <a:pt x="597" y="1062"/>
                    </a:lnTo>
                    <a:close/>
                  </a:path>
                </a:pathLst>
              </a:custGeom>
              <a:solidFill>
                <a:srgbClr val="ab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525920" y="3843360"/>
                <a:ext cx="201600" cy="339480"/>
              </a:xfrm>
              <a:custGeom>
                <a:avLst/>
                <a:gdLst/>
                <a:ahLst/>
                <a:rect l="l" t="t" r="r" b="b"/>
                <a:pathLst>
                  <a:path w="637" h="1071">
                    <a:moveTo>
                      <a:pt x="604" y="107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37" y="1064"/>
                    </a:lnTo>
                    <a:lnTo>
                      <a:pt x="604" y="1071"/>
                    </a:lnTo>
                    <a:close/>
                  </a:path>
                </a:pathLst>
              </a:custGeom>
              <a:solidFill>
                <a:srgbClr val="ab5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529160" y="3840120"/>
                <a:ext cx="203040" cy="342720"/>
              </a:xfrm>
              <a:custGeom>
                <a:avLst/>
                <a:gdLst/>
                <a:ahLst/>
                <a:rect l="l" t="t" r="r" b="b"/>
                <a:pathLst>
                  <a:path w="641" h="1081">
                    <a:moveTo>
                      <a:pt x="609" y="108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41" y="1074"/>
                    </a:lnTo>
                    <a:lnTo>
                      <a:pt x="609" y="1081"/>
                    </a:lnTo>
                    <a:close/>
                  </a:path>
                </a:pathLst>
              </a:custGeom>
              <a:solidFill>
                <a:srgbClr val="ab5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532400" y="3835440"/>
                <a:ext cx="206280" cy="345960"/>
              </a:xfrm>
              <a:custGeom>
                <a:avLst/>
                <a:gdLst/>
                <a:ahLst/>
                <a:rect l="l" t="t" r="r" b="b"/>
                <a:pathLst>
                  <a:path w="648" h="1090">
                    <a:moveTo>
                      <a:pt x="615" y="1090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48" y="1084"/>
                    </a:lnTo>
                    <a:lnTo>
                      <a:pt x="615" y="1090"/>
                    </a:lnTo>
                    <a:close/>
                  </a:path>
                </a:pathLst>
              </a:custGeom>
              <a:solidFill>
                <a:srgbClr val="ab5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4535280" y="3832200"/>
                <a:ext cx="208080" cy="347760"/>
              </a:xfrm>
              <a:custGeom>
                <a:avLst/>
                <a:gdLst/>
                <a:ahLst/>
                <a:rect l="l" t="t" r="r" b="b"/>
                <a:pathLst>
                  <a:path w="653" h="1099">
                    <a:moveTo>
                      <a:pt x="619" y="109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53" y="1093"/>
                    </a:lnTo>
                    <a:lnTo>
                      <a:pt x="619" y="1099"/>
                    </a:lnTo>
                    <a:close/>
                  </a:path>
                </a:pathLst>
              </a:custGeom>
              <a:solidFill>
                <a:srgbClr val="ab5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538520" y="3827520"/>
                <a:ext cx="209520" cy="352440"/>
              </a:xfrm>
              <a:custGeom>
                <a:avLst/>
                <a:gdLst/>
                <a:ahLst/>
                <a:rect l="l" t="t" r="r" b="b"/>
                <a:pathLst>
                  <a:path w="659" h="1110">
                    <a:moveTo>
                      <a:pt x="626" y="1110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59" y="1104"/>
                    </a:lnTo>
                    <a:lnTo>
                      <a:pt x="626" y="1110"/>
                    </a:lnTo>
                    <a:close/>
                  </a:path>
                </a:pathLst>
              </a:custGeom>
              <a:solidFill>
                <a:srgbClr val="ae4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543200" y="3822480"/>
                <a:ext cx="209520" cy="355680"/>
              </a:xfrm>
              <a:custGeom>
                <a:avLst/>
                <a:gdLst/>
                <a:ahLst/>
                <a:rect l="l" t="t" r="r" b="b"/>
                <a:pathLst>
                  <a:path w="663" h="1119">
                    <a:moveTo>
                      <a:pt x="631" y="1119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63" y="1111"/>
                    </a:lnTo>
                    <a:lnTo>
                      <a:pt x="658" y="1114"/>
                    </a:lnTo>
                    <a:lnTo>
                      <a:pt x="631" y="1119"/>
                    </a:lnTo>
                    <a:close/>
                  </a:path>
                </a:pathLst>
              </a:custGeom>
              <a:solidFill>
                <a:srgbClr val="ae4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546440" y="3821040"/>
                <a:ext cx="211320" cy="357120"/>
              </a:xfrm>
              <a:custGeom>
                <a:avLst/>
                <a:gdLst/>
                <a:ahLst/>
                <a:rect l="l" t="t" r="r" b="b"/>
                <a:pathLst>
                  <a:path w="666" h="1125">
                    <a:moveTo>
                      <a:pt x="637" y="1125"/>
                    </a:moveTo>
                    <a:lnTo>
                      <a:pt x="0" y="21"/>
                    </a:lnTo>
                    <a:lnTo>
                      <a:pt x="14" y="7"/>
                    </a:lnTo>
                    <a:lnTo>
                      <a:pt x="25" y="0"/>
                    </a:lnTo>
                    <a:lnTo>
                      <a:pt x="666" y="1111"/>
                    </a:lnTo>
                    <a:lnTo>
                      <a:pt x="648" y="1123"/>
                    </a:lnTo>
                    <a:lnTo>
                      <a:pt x="637" y="1125"/>
                    </a:lnTo>
                    <a:close/>
                  </a:path>
                </a:pathLst>
              </a:custGeom>
              <a:solidFill>
                <a:srgbClr val="ae4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549680" y="38178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6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ae4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554360" y="38145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ae4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4557600" y="38131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ae4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4562280" y="38098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ae4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4567320" y="380844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af4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3429000" y="3530520"/>
              <a:ext cx="1820880" cy="1176480"/>
              <a:chOff x="3429000" y="3530520"/>
              <a:chExt cx="1820880" cy="1176480"/>
            </a:xfrm>
          </p:grpSpPr>
          <p:sp>
            <p:nvSpPr>
              <p:cNvPr id="1878" name=""/>
              <p:cNvSpPr/>
              <p:nvPr/>
            </p:nvSpPr>
            <p:spPr>
              <a:xfrm>
                <a:off x="4572000" y="38052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576680" y="380376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0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579920" y="38005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8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8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584600" y="37972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589280" y="37958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4594320" y="3792600"/>
                <a:ext cx="2109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2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597200" y="37908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b2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602240" y="3787560"/>
                <a:ext cx="212400" cy="35748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2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606920" y="378468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8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8" y="1111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2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611600" y="3782880"/>
                <a:ext cx="21132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24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614840" y="377964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24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619520" y="37782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24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624200" y="377496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b34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629240" y="3771720"/>
                <a:ext cx="21240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34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4632120" y="37702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34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637160" y="3767040"/>
                <a:ext cx="21240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34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641840" y="37656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56" y="1119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34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4646520" y="3762360"/>
                <a:ext cx="208080" cy="357120"/>
              </a:xfrm>
              <a:custGeom>
                <a:avLst/>
                <a:gdLst/>
                <a:ahLst/>
                <a:rect l="l" t="t" r="r" b="b"/>
                <a:pathLst>
                  <a:path w="657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42" y="1128"/>
                    </a:lnTo>
                    <a:close/>
                    <a:moveTo>
                      <a:pt x="657" y="1121"/>
                    </a:moveTo>
                    <a:lnTo>
                      <a:pt x="642" y="1128"/>
                    </a:lnTo>
                    <a:lnTo>
                      <a:pt x="657" y="1121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649760" y="37591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654440" y="37576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659120" y="375444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664160" y="3752640"/>
                <a:ext cx="212400" cy="35748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668840" y="374976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64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672080" y="3746520"/>
                <a:ext cx="21240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64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676760" y="374472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84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681440" y="374184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84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684680" y="37400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84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689360" y="373680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6">
                    <a:moveTo>
                      <a:pt x="643" y="1126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3" y="1126"/>
                    </a:lnTo>
                    <a:close/>
                  </a:path>
                </a:pathLst>
              </a:custGeom>
              <a:solidFill>
                <a:srgbClr val="b84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694040" y="373392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84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699080" y="373212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84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703760" y="372888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66" y="1113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707000" y="372744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711680" y="3724200"/>
                <a:ext cx="209520" cy="358920"/>
              </a:xfrm>
              <a:custGeom>
                <a:avLst/>
                <a:gdLst/>
                <a:ahLst/>
                <a:rect l="l" t="t" r="r" b="b"/>
                <a:pathLst>
                  <a:path w="65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42" y="1128"/>
                    </a:lnTo>
                    <a:close/>
                    <a:moveTo>
                      <a:pt x="659" y="1118"/>
                    </a:moveTo>
                    <a:lnTo>
                      <a:pt x="642" y="1128"/>
                    </a:lnTo>
                    <a:lnTo>
                      <a:pt x="659" y="1118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4716360" y="3720960"/>
                <a:ext cx="204840" cy="358920"/>
              </a:xfrm>
              <a:custGeom>
                <a:avLst/>
                <a:gdLst/>
                <a:ahLst/>
                <a:rect l="l" t="t" r="r" b="b"/>
                <a:pathLst>
                  <a:path w="645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42" y="1128"/>
                    </a:lnTo>
                    <a:close/>
                    <a:moveTo>
                      <a:pt x="645" y="1127"/>
                    </a:moveTo>
                    <a:lnTo>
                      <a:pt x="642" y="1128"/>
                    </a:lnTo>
                    <a:lnTo>
                      <a:pt x="645" y="1127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4721040" y="37195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724280" y="37162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29" y="0"/>
                    </a:lnTo>
                    <a:lnTo>
                      <a:pt x="670" y="1112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ba49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4728960" y="37148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ba49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734000" y="3711600"/>
                <a:ext cx="21240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4738680" y="3709800"/>
                <a:ext cx="210960" cy="35748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4741920" y="37069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56" y="1119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4746600" y="370368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58" y="1118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4751280" y="370188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4755960" y="369900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759200" y="36972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d4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763880" y="36939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d4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4768920" y="3690720"/>
                <a:ext cx="209520" cy="358920"/>
              </a:xfrm>
              <a:custGeom>
                <a:avLst/>
                <a:gdLst/>
                <a:ahLst/>
                <a:rect l="l" t="t" r="r" b="b"/>
                <a:pathLst>
                  <a:path w="66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41" y="1128"/>
                    </a:lnTo>
                    <a:close/>
                    <a:moveTo>
                      <a:pt x="660" y="1116"/>
                    </a:moveTo>
                    <a:lnTo>
                      <a:pt x="641" y="1128"/>
                    </a:lnTo>
                    <a:lnTo>
                      <a:pt x="660" y="1116"/>
                    </a:lnTo>
                    <a:close/>
                  </a:path>
                </a:pathLst>
              </a:custGeom>
              <a:solidFill>
                <a:srgbClr val="bd4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773600" y="368928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8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68" y="1112"/>
                    </a:lnTo>
                    <a:lnTo>
                      <a:pt x="646" y="1125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d4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776840" y="368604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d4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4781520" y="36846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d4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786200" y="36813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9" y="1124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d4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790880" y="36781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2">
                    <a:moveTo>
                      <a:pt x="0" y="16"/>
                    </a:moveTo>
                    <a:lnTo>
                      <a:pt x="28" y="0"/>
                    </a:lnTo>
                    <a:lnTo>
                      <a:pt x="670" y="1112"/>
                    </a:lnTo>
                    <a:lnTo>
                      <a:pt x="651" y="112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c04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794120" y="36766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6">
                    <a:moveTo>
                      <a:pt x="642" y="1126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2" y="1126"/>
                    </a:lnTo>
                    <a:close/>
                  </a:path>
                </a:pathLst>
              </a:custGeom>
              <a:solidFill>
                <a:srgbClr val="c04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798800" y="367344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04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803840" y="367200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04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808520" y="366876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04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811760" y="36655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04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816440" y="36640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14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821120" y="366084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14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825800" y="36590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7"/>
                    </a:lnTo>
                    <a:lnTo>
                      <a:pt x="29" y="0"/>
                    </a:lnTo>
                    <a:lnTo>
                      <a:pt x="670" y="1112"/>
                    </a:lnTo>
                    <a:lnTo>
                      <a:pt x="646" y="1126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c14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830840" y="365580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3" y="1126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14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833720" y="365292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14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838760" y="36511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14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843440" y="36478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14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848120" y="36464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851360" y="36432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856040" y="36399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860720" y="36385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865760" y="363528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868640" y="36338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873680" y="363060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c6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878360" y="36273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6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883040" y="362592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6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886280" y="362268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6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890960" y="362088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c64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895640" y="361800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64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900680" y="361620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6">
                    <a:moveTo>
                      <a:pt x="641" y="1126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0"/>
                    </a:lnTo>
                    <a:lnTo>
                      <a:pt x="641" y="1126"/>
                    </a:lnTo>
                    <a:close/>
                  </a:path>
                </a:pathLst>
              </a:custGeom>
              <a:solidFill>
                <a:srgbClr val="c64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903560" y="36129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8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908600" y="361008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83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913280" y="36082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83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917960" y="360504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83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921200" y="36036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c83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925880" y="36003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930560" y="35971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935600" y="359568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940280" y="359244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668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8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943520" y="35910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48200" y="358776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a3a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952880" y="358596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68" y="1112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ca3a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956120" y="35830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cd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960800" y="3579840"/>
                <a:ext cx="206280" cy="358560"/>
              </a:xfrm>
              <a:custGeom>
                <a:avLst/>
                <a:gdLst/>
                <a:ahLst/>
                <a:rect l="l" t="t" r="r" b="b"/>
                <a:pathLst>
                  <a:path w="650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41" y="1128"/>
                    </a:lnTo>
                    <a:close/>
                    <a:moveTo>
                      <a:pt x="650" y="1123"/>
                    </a:moveTo>
                    <a:lnTo>
                      <a:pt x="641" y="1128"/>
                    </a:lnTo>
                    <a:lnTo>
                      <a:pt x="650" y="1123"/>
                    </a:lnTo>
                    <a:close/>
                  </a:path>
                </a:pathLst>
              </a:custGeom>
              <a:solidFill>
                <a:srgbClr val="cd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965480" y="357804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d3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970520" y="357516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d3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975200" y="357336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d3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978440" y="357012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d3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983120" y="356724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987800" y="35654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991040" y="35622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14" y="8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995720" y="3562200"/>
                <a:ext cx="204840" cy="355680"/>
              </a:xfrm>
              <a:custGeom>
                <a:avLst/>
                <a:gdLst/>
                <a:ahLst/>
                <a:rect l="l" t="t" r="r" b="b"/>
                <a:pathLst>
                  <a:path w="642" h="1120">
                    <a:moveTo>
                      <a:pt x="642" y="1120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642" y="1120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000400" y="35575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005440" y="35542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f3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010120" y="355284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f3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013360" y="35496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4" y="13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018040" y="354816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3" y="14"/>
                    </a:lnTo>
                    <a:lnTo>
                      <a:pt x="29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022720" y="354492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027400" y="354312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1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0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030640" y="35402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035320" y="3537000"/>
                <a:ext cx="209520" cy="358560"/>
              </a:xfrm>
              <a:custGeom>
                <a:avLst/>
                <a:gdLst/>
                <a:ahLst/>
                <a:rect l="l" t="t" r="r" b="b"/>
                <a:pathLst>
                  <a:path w="659" h="1127">
                    <a:moveTo>
                      <a:pt x="642" y="1127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54" y="1086"/>
                    </a:lnTo>
                    <a:lnTo>
                      <a:pt x="659" y="1117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040360" y="3535200"/>
                <a:ext cx="204480" cy="357480"/>
              </a:xfrm>
              <a:custGeom>
                <a:avLst/>
                <a:gdLst/>
                <a:ahLst/>
                <a:rect l="l" t="t" r="r" b="b"/>
                <a:pathLst>
                  <a:path w="645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33" y="1049"/>
                    </a:lnTo>
                    <a:lnTo>
                      <a:pt x="645" y="1125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d32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045040" y="3533760"/>
                <a:ext cx="198360" cy="347760"/>
              </a:xfrm>
              <a:custGeom>
                <a:avLst/>
                <a:gdLst/>
                <a:ahLst/>
                <a:rect l="l" t="t" r="r" b="b"/>
                <a:pathLst>
                  <a:path w="627" h="1096">
                    <a:moveTo>
                      <a:pt x="627" y="1096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89" y="100"/>
                    </a:lnTo>
                    <a:lnTo>
                      <a:pt x="598" y="981"/>
                    </a:lnTo>
                    <a:lnTo>
                      <a:pt x="614" y="1015"/>
                    </a:lnTo>
                    <a:lnTo>
                      <a:pt x="627" y="1096"/>
                    </a:lnTo>
                    <a:close/>
                  </a:path>
                </a:pathLst>
              </a:custGeom>
              <a:solidFill>
                <a:srgbClr val="d32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048280" y="3533760"/>
                <a:ext cx="193680" cy="333360"/>
              </a:xfrm>
              <a:custGeom>
                <a:avLst/>
                <a:gdLst/>
                <a:ahLst/>
                <a:rect l="l" t="t" r="r" b="b"/>
                <a:pathLst>
                  <a:path w="606" h="1051">
                    <a:moveTo>
                      <a:pt x="606" y="105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96" y="128"/>
                    </a:lnTo>
                    <a:lnTo>
                      <a:pt x="253" y="376"/>
                    </a:lnTo>
                    <a:lnTo>
                      <a:pt x="433" y="688"/>
                    </a:lnTo>
                    <a:lnTo>
                      <a:pt x="517" y="843"/>
                    </a:lnTo>
                    <a:lnTo>
                      <a:pt x="600" y="1015"/>
                    </a:lnTo>
                    <a:lnTo>
                      <a:pt x="606" y="1051"/>
                    </a:lnTo>
                    <a:close/>
                  </a:path>
                </a:pathLst>
              </a:custGeom>
              <a:solidFill>
                <a:srgbClr val="d32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072040" y="3565440"/>
                <a:ext cx="162000" cy="279360"/>
              </a:xfrm>
              <a:custGeom>
                <a:avLst/>
                <a:gdLst/>
                <a:ahLst/>
                <a:rect l="l" t="t" r="r" b="b"/>
                <a:pathLst>
                  <a:path w="509" h="881">
                    <a:moveTo>
                      <a:pt x="509" y="881"/>
                    </a:moveTo>
                    <a:lnTo>
                      <a:pt x="0" y="0"/>
                    </a:lnTo>
                    <a:lnTo>
                      <a:pt x="21" y="28"/>
                    </a:lnTo>
                    <a:lnTo>
                      <a:pt x="253" y="395"/>
                    </a:lnTo>
                    <a:lnTo>
                      <a:pt x="442" y="743"/>
                    </a:lnTo>
                    <a:lnTo>
                      <a:pt x="509" y="881"/>
                    </a:lnTo>
                    <a:close/>
                  </a:path>
                </a:pathLst>
              </a:custGeom>
              <a:solidFill>
                <a:srgbClr val="d32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129280" y="3652920"/>
                <a:ext cx="56880" cy="9972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180" y="312"/>
                    </a:moveTo>
                    <a:lnTo>
                      <a:pt x="0" y="0"/>
                    </a:lnTo>
                    <a:lnTo>
                      <a:pt x="75" y="119"/>
                    </a:lnTo>
                    <a:lnTo>
                      <a:pt x="180" y="312"/>
                    </a:lnTo>
                    <a:close/>
                  </a:path>
                </a:pathLst>
              </a:custGeom>
              <a:solidFill>
                <a:srgbClr val="d42f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225680" y="3819600"/>
                <a:ext cx="328680" cy="374400"/>
              </a:xfrm>
              <a:custGeom>
                <a:avLst/>
                <a:gdLst/>
                <a:ahLst/>
                <a:rect l="l" t="t" r="r" b="b"/>
                <a:pathLst>
                  <a:path w="1035" h="1183">
                    <a:moveTo>
                      <a:pt x="0" y="1165"/>
                    </a:moveTo>
                    <a:lnTo>
                      <a:pt x="28" y="1183"/>
                    </a:lnTo>
                    <a:lnTo>
                      <a:pt x="1035" y="22"/>
                    </a:lnTo>
                    <a:lnTo>
                      <a:pt x="1010" y="0"/>
                    </a:lnTo>
                    <a:lnTo>
                      <a:pt x="2" y="1162"/>
                    </a:lnTo>
                    <a:lnTo>
                      <a:pt x="0" y="11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197240" y="418932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2" h="205">
                    <a:moveTo>
                      <a:pt x="10" y="205"/>
                    </a:moveTo>
                    <a:lnTo>
                      <a:pt x="29" y="197"/>
                    </a:lnTo>
                    <a:lnTo>
                      <a:pt x="122" y="15"/>
                    </a:lnTo>
                    <a:lnTo>
                      <a:pt x="92" y="0"/>
                    </a:lnTo>
                    <a:lnTo>
                      <a:pt x="0" y="182"/>
                    </a:lnTo>
                    <a:lnTo>
                      <a:pt x="10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200480" y="4243320"/>
                <a:ext cx="81000" cy="30240"/>
              </a:xfrm>
              <a:custGeom>
                <a:avLst/>
                <a:gdLst/>
                <a:ahLst/>
                <a:rect l="l" t="t" r="r" b="b"/>
                <a:pathLst>
                  <a:path w="254" h="94">
                    <a:moveTo>
                      <a:pt x="253" y="94"/>
                    </a:moveTo>
                    <a:lnTo>
                      <a:pt x="254" y="63"/>
                    </a:lnTo>
                    <a:lnTo>
                      <a:pt x="9" y="0"/>
                    </a:lnTo>
                    <a:lnTo>
                      <a:pt x="0" y="31"/>
                    </a:lnTo>
                    <a:lnTo>
                      <a:pt x="245" y="94"/>
                    </a:lnTo>
                    <a:lnTo>
                      <a:pt x="253" y="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278240" y="4172040"/>
                <a:ext cx="476280" cy="101520"/>
              </a:xfrm>
              <a:custGeom>
                <a:avLst/>
                <a:gdLst/>
                <a:ahLst/>
                <a:rect l="l" t="t" r="r" b="b"/>
                <a:pathLst>
                  <a:path w="1500" h="322">
                    <a:moveTo>
                      <a:pt x="1500" y="30"/>
                    </a:moveTo>
                    <a:lnTo>
                      <a:pt x="1489" y="0"/>
                    </a:lnTo>
                    <a:lnTo>
                      <a:pt x="0" y="290"/>
                    </a:lnTo>
                    <a:lnTo>
                      <a:pt x="7" y="322"/>
                    </a:lnTo>
                    <a:lnTo>
                      <a:pt x="1496" y="32"/>
                    </a:lnTo>
                    <a:lnTo>
                      <a:pt x="1500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4749840" y="3887640"/>
                <a:ext cx="500040" cy="293760"/>
              </a:xfrm>
              <a:custGeom>
                <a:avLst/>
                <a:gdLst/>
                <a:ahLst/>
                <a:rect l="l" t="t" r="r" b="b"/>
                <a:pathLst>
                  <a:path w="1578" h="925">
                    <a:moveTo>
                      <a:pt x="1578" y="12"/>
                    </a:moveTo>
                    <a:lnTo>
                      <a:pt x="1554" y="0"/>
                    </a:lnTo>
                    <a:lnTo>
                      <a:pt x="0" y="897"/>
                    </a:lnTo>
                    <a:lnTo>
                      <a:pt x="16" y="925"/>
                    </a:lnTo>
                    <a:lnTo>
                      <a:pt x="1570" y="29"/>
                    </a:lnTo>
                    <a:lnTo>
                      <a:pt x="1578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234040" y="385452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51" h="123">
                    <a:moveTo>
                      <a:pt x="30" y="0"/>
                    </a:moveTo>
                    <a:lnTo>
                      <a:pt x="0" y="10"/>
                    </a:lnTo>
                    <a:lnTo>
                      <a:pt x="19" y="123"/>
                    </a:lnTo>
                    <a:lnTo>
                      <a:pt x="51" y="118"/>
                    </a:lnTo>
                    <a:lnTo>
                      <a:pt x="31" y="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208480" y="379872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12" h="185">
                    <a:moveTo>
                      <a:pt x="29" y="0"/>
                    </a:moveTo>
                    <a:lnTo>
                      <a:pt x="0" y="15"/>
                    </a:lnTo>
                    <a:lnTo>
                      <a:pt x="83" y="185"/>
                    </a:lnTo>
                    <a:lnTo>
                      <a:pt x="112" y="171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148000" y="3687840"/>
                <a:ext cx="70200" cy="115920"/>
              </a:xfrm>
              <a:custGeom>
                <a:avLst/>
                <a:gdLst/>
                <a:ahLst/>
                <a:rect l="l" t="t" r="r" b="b"/>
                <a:pathLst>
                  <a:path w="217" h="365">
                    <a:moveTo>
                      <a:pt x="28" y="0"/>
                    </a:moveTo>
                    <a:lnTo>
                      <a:pt x="0" y="16"/>
                    </a:lnTo>
                    <a:lnTo>
                      <a:pt x="189" y="365"/>
                    </a:lnTo>
                    <a:lnTo>
                      <a:pt x="217" y="35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075280" y="3571920"/>
                <a:ext cx="82440" cy="122040"/>
              </a:xfrm>
              <a:custGeom>
                <a:avLst/>
                <a:gdLst/>
                <a:ahLst/>
                <a:rect l="l" t="t" r="r" b="b"/>
                <a:pathLst>
                  <a:path w="260" h="384">
                    <a:moveTo>
                      <a:pt x="26" y="0"/>
                    </a:moveTo>
                    <a:lnTo>
                      <a:pt x="0" y="18"/>
                    </a:lnTo>
                    <a:lnTo>
                      <a:pt x="232" y="384"/>
                    </a:lnTo>
                    <a:lnTo>
                      <a:pt x="260" y="367"/>
                    </a:lnTo>
                    <a:lnTo>
                      <a:pt x="27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045040" y="3530520"/>
                <a:ext cx="38160" cy="47520"/>
              </a:xfrm>
              <a:custGeom>
                <a:avLst/>
                <a:gdLst/>
                <a:ahLst/>
                <a:rect l="l" t="t" r="r" b="b"/>
                <a:pathLst>
                  <a:path w="118" h="151">
                    <a:moveTo>
                      <a:pt x="6" y="0"/>
                    </a:moveTo>
                    <a:lnTo>
                      <a:pt x="0" y="23"/>
                    </a:lnTo>
                    <a:lnTo>
                      <a:pt x="92" y="151"/>
                    </a:lnTo>
                    <a:lnTo>
                      <a:pt x="118" y="132"/>
                    </a:lnTo>
                    <a:lnTo>
                      <a:pt x="2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4546440" y="3530520"/>
                <a:ext cx="506520" cy="297000"/>
              </a:xfrm>
              <a:custGeom>
                <a:avLst/>
                <a:gdLst/>
                <a:ahLst/>
                <a:rect l="l" t="t" r="r" b="b"/>
                <a:pathLst>
                  <a:path w="1592" h="935">
                    <a:moveTo>
                      <a:pt x="0" y="910"/>
                    </a:moveTo>
                    <a:lnTo>
                      <a:pt x="21" y="935"/>
                    </a:lnTo>
                    <a:lnTo>
                      <a:pt x="1592" y="27"/>
                    </a:lnTo>
                    <a:lnTo>
                      <a:pt x="1577" y="0"/>
                    </a:lnTo>
                    <a:lnTo>
                      <a:pt x="4" y="907"/>
                    </a:lnTo>
                    <a:lnTo>
                      <a:pt x="0" y="9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4546440" y="3819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429000" y="47037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0"/>
                    </a:moveTo>
                    <a:lnTo>
                      <a:pt x="16" y="3"/>
                    </a:lnTo>
                    <a:lnTo>
                      <a:pt x="0" y="1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432240" y="47019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" y="14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21" y="6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433680" y="4700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" y="16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21" y="8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436920" y="4699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3" y="1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23" y="9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440160" y="46958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4" y="20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24" y="10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443040" y="469404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5" y="22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25" y="13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444840" y="46926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6" y="23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26" y="1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448080" y="4691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8" y="25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27" y="16"/>
                    </a:lnTo>
                    <a:lnTo>
                      <a:pt x="8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451320" y="46879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8" y="28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28" y="19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454200" y="4686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0" y="29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30" y="21"/>
                    </a:lnTo>
                    <a:lnTo>
                      <a:pt x="10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456000" y="46846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1" y="31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31" y="23"/>
                    </a:lnTo>
                    <a:lnTo>
                      <a:pt x="11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459240" y="46814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2" y="34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32" y="26"/>
                    </a:lnTo>
                    <a:lnTo>
                      <a:pt x="12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462120" y="4680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13" y="36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33" y="27"/>
                    </a:lnTo>
                    <a:lnTo>
                      <a:pt x="13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465360" y="46782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15" y="3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35" y="29"/>
                    </a:lnTo>
                    <a:lnTo>
                      <a:pt x="15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467160" y="467676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16" y="39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36" y="30"/>
                    </a:lnTo>
                    <a:lnTo>
                      <a:pt x="16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470040" y="46735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37" h="42">
                    <a:moveTo>
                      <a:pt x="17" y="42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37" y="33"/>
                    </a:lnTo>
                    <a:lnTo>
                      <a:pt x="17" y="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473280" y="46720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38" h="43">
                    <a:moveTo>
                      <a:pt x="19" y="43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38" y="35"/>
                    </a:lnTo>
                    <a:lnTo>
                      <a:pt x="19" y="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476520" y="46702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39" y="36"/>
                    </a:lnTo>
                    <a:lnTo>
                      <a:pt x="19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477960" y="46688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40" y="39"/>
                    </a:lnTo>
                    <a:lnTo>
                      <a:pt x="20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481200" y="46656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2" y="49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42" y="41"/>
                    </a:lnTo>
                    <a:lnTo>
                      <a:pt x="22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484440" y="46641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2" h="51">
                    <a:moveTo>
                      <a:pt x="22" y="51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42" y="43"/>
                    </a:lnTo>
                    <a:lnTo>
                      <a:pt x="22" y="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487680" y="466236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4" h="54">
                    <a:moveTo>
                      <a:pt x="25" y="54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44" y="46"/>
                    </a:lnTo>
                    <a:lnTo>
                      <a:pt x="25" y="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490920" y="46609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44" h="56">
                    <a:moveTo>
                      <a:pt x="24" y="56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44" y="47"/>
                    </a:lnTo>
                    <a:lnTo>
                      <a:pt x="24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492360" y="465768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26" y="5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46" y="49"/>
                    </a:lnTo>
                    <a:lnTo>
                      <a:pt x="26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495600" y="4656240"/>
                <a:ext cx="14400" cy="18720"/>
              </a:xfrm>
              <a:custGeom>
                <a:avLst/>
                <a:gdLst/>
                <a:ahLst/>
                <a:rect l="l" t="t" r="r" b="b"/>
                <a:pathLst>
                  <a:path w="47" h="59">
                    <a:moveTo>
                      <a:pt x="27" y="59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47" y="50"/>
                    </a:lnTo>
                    <a:lnTo>
                      <a:pt x="27" y="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498840" y="465444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47" h="62">
                    <a:moveTo>
                      <a:pt x="28" y="62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47" y="53"/>
                    </a:lnTo>
                    <a:lnTo>
                      <a:pt x="28" y="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500280" y="46530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0" h="63">
                    <a:moveTo>
                      <a:pt x="30" y="63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50" y="55"/>
                    </a:lnTo>
                    <a:lnTo>
                      <a:pt x="30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503520" y="46497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30" y="65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0" y="56"/>
                    </a:lnTo>
                    <a:lnTo>
                      <a:pt x="30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506760" y="46483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2"/>
                    </a:lnTo>
                    <a:lnTo>
                      <a:pt x="9" y="6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42" y="62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510000" y="4646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512880" y="464508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0" y="11"/>
                    </a:moveTo>
                    <a:lnTo>
                      <a:pt x="2" y="9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6" y="6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516120" y="46432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7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517920" y="46418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521160" y="46400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524040" y="46386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527280" y="46371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533760" y="463536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0" y="6"/>
                    </a:moveTo>
                    <a:lnTo>
                      <a:pt x="10" y="0"/>
                    </a:lnTo>
                    <a:lnTo>
                      <a:pt x="42" y="57"/>
                    </a:lnTo>
                    <a:lnTo>
                      <a:pt x="33" y="62"/>
                    </a:lnTo>
                    <a:lnTo>
                      <a:pt x="23" y="6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533760" y="46339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537000" y="46321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538440" y="4629240"/>
                <a:ext cx="17640" cy="2196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541680" y="4627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544920" y="4626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50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547800" y="462420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551040" y="4622760"/>
                <a:ext cx="12960" cy="22320"/>
              </a:xfrm>
              <a:custGeom>
                <a:avLst/>
                <a:gdLst/>
                <a:ahLst/>
                <a:rect l="l" t="t" r="r" b="b"/>
                <a:pathLst>
                  <a:path w="40" h="68">
                    <a:moveTo>
                      <a:pt x="32" y="68"/>
                    </a:moveTo>
                    <a:lnTo>
                      <a:pt x="0" y="10"/>
                    </a:lnTo>
                    <a:lnTo>
                      <a:pt x="7" y="6"/>
                    </a:lnTo>
                    <a:lnTo>
                      <a:pt x="19" y="0"/>
                    </a:lnTo>
                    <a:lnTo>
                      <a:pt x="32" y="68"/>
                    </a:lnTo>
                    <a:close/>
                    <a:moveTo>
                      <a:pt x="40" y="64"/>
                    </a:moveTo>
                    <a:lnTo>
                      <a:pt x="32" y="68"/>
                    </a:lnTo>
                    <a:lnTo>
                      <a:pt x="40" y="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554280" y="46213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557520" y="46195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3" y="8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7" y="65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558960" y="461808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3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562200" y="461628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565440" y="4614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568680" y="46134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571920" y="46116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574800" y="46101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33" y="68"/>
                    </a:moveTo>
                    <a:lnTo>
                      <a:pt x="0" y="10"/>
                    </a:lnTo>
                    <a:lnTo>
                      <a:pt x="6" y="7"/>
                    </a:lnTo>
                    <a:lnTo>
                      <a:pt x="18" y="0"/>
                    </a:lnTo>
                    <a:lnTo>
                      <a:pt x="33" y="68"/>
                    </a:lnTo>
                    <a:close/>
                    <a:moveTo>
                      <a:pt x="39" y="64"/>
                    </a:moveTo>
                    <a:lnTo>
                      <a:pt x="33" y="68"/>
                    </a:lnTo>
                    <a:lnTo>
                      <a:pt x="39" y="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578040" y="4606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2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579840" y="460512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583080" y="4603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585960" y="46022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589200" y="4600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3592440" y="4599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597120" y="45972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7" h="68">
                    <a:moveTo>
                      <a:pt x="0" y="8"/>
                    </a:moveTo>
                    <a:lnTo>
                      <a:pt x="13" y="0"/>
                    </a:lnTo>
                    <a:lnTo>
                      <a:pt x="47" y="57"/>
                    </a:lnTo>
                    <a:lnTo>
                      <a:pt x="32" y="66"/>
                    </a:lnTo>
                    <a:lnTo>
                      <a:pt x="28" y="6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3598920" y="4595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600360" y="459432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0" y="11"/>
                    </a:moveTo>
                    <a:lnTo>
                      <a:pt x="6" y="9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9" y="6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603600" y="45925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606840" y="45910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609720" y="4589280"/>
                <a:ext cx="1620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612960" y="4587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616200" y="4584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19440" y="45831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2" y="9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5" y="6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620880" y="4581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624120" y="4579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627360" y="45784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630600" y="4576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633840" y="45752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636720" y="4573440"/>
                <a:ext cx="16200" cy="2088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3639960" y="45720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0" y="10"/>
                    </a:move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3641760" y="457020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644640" y="45687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6" y="8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40" y="65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"/>
            <p:cNvGrpSpPr/>
            <p:nvPr/>
          </p:nvGrpSpPr>
          <p:grpSpPr>
            <a:xfrm>
              <a:off x="3429000" y="2900160"/>
              <a:ext cx="2940120" cy="1806840"/>
              <a:chOff x="3429000" y="2900160"/>
              <a:chExt cx="2940120" cy="1806840"/>
            </a:xfrm>
          </p:grpSpPr>
          <p:sp>
            <p:nvSpPr>
              <p:cNvPr id="2079" name=""/>
              <p:cNvSpPr/>
              <p:nvPr/>
            </p:nvSpPr>
            <p:spPr>
              <a:xfrm>
                <a:off x="3647880" y="4567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3651120" y="45655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654360" y="45640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657600" y="45608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32" y="69"/>
                    </a:moveTo>
                    <a:lnTo>
                      <a:pt x="0" y="1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32" y="69"/>
                    </a:lnTo>
                    <a:close/>
                    <a:moveTo>
                      <a:pt x="50" y="58"/>
                    </a:moveTo>
                    <a:lnTo>
                      <a:pt x="32" y="69"/>
                    </a:lnTo>
                    <a:lnTo>
                      <a:pt x="50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660840" y="45594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662280" y="455760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3665520" y="45561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668760" y="45543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671640" y="455292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52" h="66">
                    <a:moveTo>
                      <a:pt x="33" y="66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33" y="66"/>
                    </a:lnTo>
                    <a:close/>
                    <a:moveTo>
                      <a:pt x="52" y="56"/>
                    </a:moveTo>
                    <a:lnTo>
                      <a:pt x="49" y="57"/>
                    </a:lnTo>
                    <a:lnTo>
                      <a:pt x="33" y="66"/>
                    </a:lnTo>
                    <a:lnTo>
                      <a:pt x="52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674880" y="45514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682800" y="454968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6" h="68">
                    <a:moveTo>
                      <a:pt x="0" y="2"/>
                    </a:moveTo>
                    <a:lnTo>
                      <a:pt x="3" y="0"/>
                    </a:lnTo>
                    <a:lnTo>
                      <a:pt x="36" y="57"/>
                    </a:lnTo>
                    <a:lnTo>
                      <a:pt x="33" y="58"/>
                    </a:lnTo>
                    <a:lnTo>
                      <a:pt x="18" y="6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681360" y="45482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682800" y="454644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686040" y="454500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689280" y="45432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0" y="10"/>
                    </a:moveTo>
                    <a:lnTo>
                      <a:pt x="7" y="6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41" y="6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692520" y="45417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3695760" y="4538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698640" y="453708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705120" y="45352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3"/>
                    </a:moveTo>
                    <a:lnTo>
                      <a:pt x="4" y="0"/>
                    </a:lnTo>
                    <a:lnTo>
                      <a:pt x="38" y="57"/>
                    </a:lnTo>
                    <a:lnTo>
                      <a:pt x="33" y="59"/>
                    </a:lnTo>
                    <a:lnTo>
                      <a:pt x="19" y="6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703680" y="45338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706560" y="4532400"/>
                <a:ext cx="176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709800" y="4530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713040" y="45291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716280" y="45273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6">
                    <a:moveTo>
                      <a:pt x="32" y="66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32" y="66"/>
                    </a:lnTo>
                    <a:close/>
                    <a:moveTo>
                      <a:pt x="51" y="56"/>
                    </a:moveTo>
                    <a:lnTo>
                      <a:pt x="49" y="57"/>
                    </a:lnTo>
                    <a:lnTo>
                      <a:pt x="32" y="66"/>
                    </a:lnTo>
                    <a:lnTo>
                      <a:pt x="51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719520" y="45259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722760" y="45244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1" y="4"/>
                    </a:lnTo>
                    <a:lnTo>
                      <a:pt x="18" y="0"/>
                    </a:lnTo>
                    <a:lnTo>
                      <a:pt x="32" y="68"/>
                    </a:lnTo>
                    <a:close/>
                    <a:moveTo>
                      <a:pt x="44" y="62"/>
                    </a:moveTo>
                    <a:lnTo>
                      <a:pt x="32" y="68"/>
                    </a:lnTo>
                    <a:lnTo>
                      <a:pt x="44" y="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724200" y="452268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3727440" y="452124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3730680" y="45194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3733560" y="451800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52" h="63">
                    <a:moveTo>
                      <a:pt x="0" y="10"/>
                    </a:moveTo>
                    <a:lnTo>
                      <a:pt x="9" y="5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42" y="6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3736800" y="4514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2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3740040" y="45133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743280" y="4511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744720" y="451008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4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34" y="67"/>
                    </a:lnTo>
                    <a:close/>
                    <a:moveTo>
                      <a:pt x="44" y="61"/>
                    </a:moveTo>
                    <a:lnTo>
                      <a:pt x="34" y="67"/>
                    </a:lnTo>
                    <a:lnTo>
                      <a:pt x="44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747960" y="45082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751200" y="45068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754440" y="45054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3" y="3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47" y="60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757680" y="4503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760560" y="45021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763800" y="45003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3768480" y="44989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4" h="67">
                    <a:moveTo>
                      <a:pt x="0" y="5"/>
                    </a:moveTo>
                    <a:lnTo>
                      <a:pt x="10" y="0"/>
                    </a:lnTo>
                    <a:lnTo>
                      <a:pt x="44" y="57"/>
                    </a:lnTo>
                    <a:lnTo>
                      <a:pt x="33" y="63"/>
                    </a:lnTo>
                    <a:lnTo>
                      <a:pt x="25" y="6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768480" y="449748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3771720" y="449568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774960" y="4492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778200" y="4491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0" y="5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43" y="63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781440" y="4489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784680" y="4487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786120" y="448632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792600" y="448452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0" y="6"/>
                    </a:moveTo>
                    <a:lnTo>
                      <a:pt x="12" y="0"/>
                    </a:lnTo>
                    <a:lnTo>
                      <a:pt x="44" y="57"/>
                    </a:lnTo>
                    <a:lnTo>
                      <a:pt x="33" y="64"/>
                    </a:lnTo>
                    <a:lnTo>
                      <a:pt x="26" y="6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792600" y="448308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795480" y="448164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798720" y="4479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47" y="60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801960" y="44784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7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805200" y="447660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806640" y="44751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809880" y="447336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34" y="68"/>
                    </a:moveTo>
                    <a:lnTo>
                      <a:pt x="0" y="11"/>
                    </a:lnTo>
                    <a:lnTo>
                      <a:pt x="5" y="8"/>
                    </a:lnTo>
                    <a:lnTo>
                      <a:pt x="19" y="0"/>
                    </a:lnTo>
                    <a:lnTo>
                      <a:pt x="34" y="68"/>
                    </a:lnTo>
                    <a:close/>
                    <a:moveTo>
                      <a:pt x="38" y="65"/>
                    </a:moveTo>
                    <a:lnTo>
                      <a:pt x="34" y="68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813120" y="44719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816360" y="44704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819600" y="44672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822480" y="4465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0" y="4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44" y="61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3825720" y="4464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828960" y="4462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830400" y="44607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833640" y="4459320"/>
                <a:ext cx="12960" cy="22320"/>
              </a:xfrm>
              <a:custGeom>
                <a:avLst/>
                <a:gdLst/>
                <a:ahLst/>
                <a:rect l="l" t="t" r="r" b="b"/>
                <a:pathLst>
                  <a:path w="37" h="68">
                    <a:moveTo>
                      <a:pt x="34" y="68"/>
                    </a:moveTo>
                    <a:lnTo>
                      <a:pt x="0" y="11"/>
                    </a:lnTo>
                    <a:lnTo>
                      <a:pt x="4" y="8"/>
                    </a:lnTo>
                    <a:lnTo>
                      <a:pt x="19" y="0"/>
                    </a:lnTo>
                    <a:lnTo>
                      <a:pt x="34" y="68"/>
                    </a:lnTo>
                    <a:close/>
                    <a:moveTo>
                      <a:pt x="37" y="66"/>
                    </a:moveTo>
                    <a:lnTo>
                      <a:pt x="34" y="68"/>
                    </a:lnTo>
                    <a:lnTo>
                      <a:pt x="37" y="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836880" y="4457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840120" y="44560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843360" y="44546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5" y="2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47" y="59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846600" y="4452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3" h="67">
                    <a:moveTo>
                      <a:pt x="34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849480" y="44514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851280" y="44481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855960" y="44463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0" y="11"/>
                    </a:moveTo>
                    <a:lnTo>
                      <a:pt x="18" y="0"/>
                    </a:lnTo>
                    <a:lnTo>
                      <a:pt x="50" y="58"/>
                    </a:lnTo>
                    <a:lnTo>
                      <a:pt x="33" y="67"/>
                    </a:lnTo>
                    <a:lnTo>
                      <a:pt x="31" y="6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857400" y="44449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860640" y="44434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863880" y="4441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867120" y="444168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34" y="65"/>
                    </a:moveTo>
                    <a:lnTo>
                      <a:pt x="0" y="8"/>
                    </a:lnTo>
                    <a:lnTo>
                      <a:pt x="13" y="0"/>
                    </a:lnTo>
                    <a:lnTo>
                      <a:pt x="34" y="65"/>
                    </a:lnTo>
                    <a:close/>
                    <a:moveTo>
                      <a:pt x="53" y="54"/>
                    </a:moveTo>
                    <a:lnTo>
                      <a:pt x="47" y="58"/>
                    </a:lnTo>
                    <a:lnTo>
                      <a:pt x="34" y="65"/>
                    </a:lnTo>
                    <a:lnTo>
                      <a:pt x="53" y="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870360" y="4438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871800" y="443700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4" y="67"/>
                    </a:lnTo>
                    <a:close/>
                    <a:moveTo>
                      <a:pt x="52" y="56"/>
                    </a:moveTo>
                    <a:lnTo>
                      <a:pt x="34" y="67"/>
                    </a:lnTo>
                    <a:lnTo>
                      <a:pt x="52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875040" y="443556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878280" y="443376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881520" y="4432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2" y="4"/>
                    </a:lnTo>
                    <a:lnTo>
                      <a:pt x="17" y="0"/>
                    </a:lnTo>
                    <a:lnTo>
                      <a:pt x="51" y="58"/>
                    </a:lnTo>
                    <a:lnTo>
                      <a:pt x="45" y="61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884400" y="44305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887640" y="44290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890880" y="44276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892320" y="442584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34" y="68"/>
                    </a:lnTo>
                    <a:close/>
                    <a:moveTo>
                      <a:pt x="50" y="58"/>
                    </a:moveTo>
                    <a:lnTo>
                      <a:pt x="34" y="68"/>
                    </a:lnTo>
                    <a:lnTo>
                      <a:pt x="50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895560" y="442440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898800" y="44211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902040" y="44197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905280" y="4417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908520" y="44164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911400" y="4414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4" y="4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47" y="60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913200" y="44132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916440" y="4411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8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5" y="2"/>
                    </a:lnTo>
                    <a:lnTo>
                      <a:pt x="19" y="0"/>
                    </a:lnTo>
                    <a:lnTo>
                      <a:pt x="32" y="68"/>
                    </a:lnTo>
                    <a:close/>
                    <a:moveTo>
                      <a:pt x="48" y="59"/>
                    </a:moveTo>
                    <a:lnTo>
                      <a:pt x="32" y="68"/>
                    </a:lnTo>
                    <a:lnTo>
                      <a:pt x="48" y="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919320" y="441000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922560" y="44085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925800" y="44067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3" y="3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46" y="60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929040" y="4405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932280" y="44035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935160" y="440064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941640" y="439884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3"/>
                    </a:moveTo>
                    <a:lnTo>
                      <a:pt x="6" y="0"/>
                    </a:lnTo>
                    <a:lnTo>
                      <a:pt x="38" y="58"/>
                    </a:lnTo>
                    <a:lnTo>
                      <a:pt x="33" y="61"/>
                    </a:lnTo>
                    <a:lnTo>
                      <a:pt x="20" y="6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940200" y="439740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943440" y="4395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946320" y="43941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949560" y="43927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952800" y="4390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956040" y="43909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5">
                    <a:moveTo>
                      <a:pt x="33" y="65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33" y="65"/>
                    </a:lnTo>
                    <a:close/>
                    <a:moveTo>
                      <a:pt x="51" y="54"/>
                    </a:moveTo>
                    <a:lnTo>
                      <a:pt x="48" y="56"/>
                    </a:lnTo>
                    <a:lnTo>
                      <a:pt x="33" y="65"/>
                    </a:lnTo>
                    <a:lnTo>
                      <a:pt x="51" y="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957480" y="43876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965400" y="43862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40" h="68">
                    <a:moveTo>
                      <a:pt x="0" y="4"/>
                    </a:moveTo>
                    <a:lnTo>
                      <a:pt x="7" y="0"/>
                    </a:lnTo>
                    <a:lnTo>
                      <a:pt x="40" y="58"/>
                    </a:lnTo>
                    <a:lnTo>
                      <a:pt x="33" y="62"/>
                    </a:lnTo>
                    <a:lnTo>
                      <a:pt x="21" y="6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963960" y="43862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33" y="63"/>
                    </a:moveTo>
                    <a:lnTo>
                      <a:pt x="0" y="5"/>
                    </a:lnTo>
                    <a:lnTo>
                      <a:pt x="11" y="0"/>
                    </a:lnTo>
                    <a:lnTo>
                      <a:pt x="33" y="63"/>
                    </a:lnTo>
                    <a:close/>
                    <a:moveTo>
                      <a:pt x="51" y="53"/>
                    </a:moveTo>
                    <a:lnTo>
                      <a:pt x="43" y="57"/>
                    </a:lnTo>
                    <a:lnTo>
                      <a:pt x="33" y="63"/>
                    </a:lnTo>
                    <a:lnTo>
                      <a:pt x="51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967200" y="43830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3970080" y="438156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973320" y="43797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3976560" y="4378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978360" y="437652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981240" y="437364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32" y="68"/>
                    </a:moveTo>
                    <a:lnTo>
                      <a:pt x="0" y="12"/>
                    </a:lnTo>
                    <a:lnTo>
                      <a:pt x="9" y="7"/>
                    </a:lnTo>
                    <a:lnTo>
                      <a:pt x="19" y="0"/>
                    </a:lnTo>
                    <a:lnTo>
                      <a:pt x="32" y="68"/>
                    </a:lnTo>
                    <a:close/>
                    <a:moveTo>
                      <a:pt x="42" y="63"/>
                    </a:moveTo>
                    <a:lnTo>
                      <a:pt x="32" y="68"/>
                    </a:lnTo>
                    <a:lnTo>
                      <a:pt x="42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984480" y="437184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987720" y="43704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990960" y="4368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994200" y="43671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3997080" y="436572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998880" y="436392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6">
                    <a:moveTo>
                      <a:pt x="33" y="6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33" y="66"/>
                    </a:lnTo>
                    <a:close/>
                    <a:moveTo>
                      <a:pt x="52" y="55"/>
                    </a:moveTo>
                    <a:lnTo>
                      <a:pt x="50" y="58"/>
                    </a:lnTo>
                    <a:lnTo>
                      <a:pt x="33" y="66"/>
                    </a:lnTo>
                    <a:lnTo>
                      <a:pt x="52" y="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4002120" y="436248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4005000" y="436068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8" y="5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41" y="63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4008240" y="43606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32" y="63"/>
                    </a:moveTo>
                    <a:lnTo>
                      <a:pt x="0" y="6"/>
                    </a:lnTo>
                    <a:lnTo>
                      <a:pt x="10" y="0"/>
                    </a:lnTo>
                    <a:lnTo>
                      <a:pt x="32" y="63"/>
                    </a:lnTo>
                    <a:close/>
                    <a:moveTo>
                      <a:pt x="51" y="53"/>
                    </a:moveTo>
                    <a:lnTo>
                      <a:pt x="44" y="57"/>
                    </a:lnTo>
                    <a:lnTo>
                      <a:pt x="32" y="63"/>
                    </a:lnTo>
                    <a:lnTo>
                      <a:pt x="51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4011480" y="43578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4014720" y="4354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4017960" y="4352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4019400" y="43513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4022640" y="4349880"/>
                <a:ext cx="176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027320" y="43480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6" h="68">
                    <a:moveTo>
                      <a:pt x="0" y="8"/>
                    </a:moveTo>
                    <a:lnTo>
                      <a:pt x="12" y="0"/>
                    </a:lnTo>
                    <a:lnTo>
                      <a:pt x="46" y="57"/>
                    </a:lnTo>
                    <a:lnTo>
                      <a:pt x="33" y="64"/>
                    </a:lnTo>
                    <a:lnTo>
                      <a:pt x="27" y="6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4029120" y="43466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032000" y="434484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53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4035240" y="43434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4038480" y="4341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4041720" y="43401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4043160" y="433872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50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046400" y="433692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4051080" y="43354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7" h="69">
                    <a:moveTo>
                      <a:pt x="0" y="9"/>
                    </a:moveTo>
                    <a:lnTo>
                      <a:pt x="14" y="0"/>
                    </a:lnTo>
                    <a:lnTo>
                      <a:pt x="47" y="57"/>
                    </a:lnTo>
                    <a:lnTo>
                      <a:pt x="33" y="65"/>
                    </a:lnTo>
                    <a:lnTo>
                      <a:pt x="28" y="6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4052880" y="433368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3" h="63">
                    <a:moveTo>
                      <a:pt x="34" y="63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4" y="63"/>
                    </a:lnTo>
                    <a:close/>
                    <a:moveTo>
                      <a:pt x="53" y="53"/>
                    </a:moveTo>
                    <a:lnTo>
                      <a:pt x="45" y="57"/>
                    </a:lnTo>
                    <a:lnTo>
                      <a:pt x="34" y="6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4056120" y="43322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4059000" y="433080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4062240" y="43275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2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064040" y="43257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066920" y="43243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4071960" y="432288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49" h="68">
                    <a:moveTo>
                      <a:pt x="0" y="9"/>
                    </a:moveTo>
                    <a:lnTo>
                      <a:pt x="16" y="0"/>
                    </a:lnTo>
                    <a:lnTo>
                      <a:pt x="49" y="57"/>
                    </a:lnTo>
                    <a:lnTo>
                      <a:pt x="33" y="66"/>
                    </a:lnTo>
                    <a:lnTo>
                      <a:pt x="31" y="6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073400" y="43210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076640" y="43196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079880" y="43178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083120" y="43164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084560" y="431460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087800" y="431316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32" y="67"/>
                    </a:lnTo>
                    <a:close/>
                    <a:moveTo>
                      <a:pt x="51" y="57"/>
                    </a:moveTo>
                    <a:lnTo>
                      <a:pt x="51" y="57"/>
                    </a:lnTo>
                    <a:lnTo>
                      <a:pt x="32" y="67"/>
                    </a:lnTo>
                    <a:lnTo>
                      <a:pt x="51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091040" y="43117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9" y="5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42" y="63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093920" y="4309920"/>
                <a:ext cx="11160" cy="20880"/>
              </a:xfrm>
              <a:custGeom>
                <a:avLst/>
                <a:gdLst/>
                <a:ahLst/>
                <a:rect l="l" t="t" r="r" b="b"/>
                <a:pathLst>
                  <a:path w="34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18" y="0"/>
                    </a:lnTo>
                    <a:lnTo>
                      <a:pt x="33" y="68"/>
                    </a:lnTo>
                    <a:close/>
                    <a:moveTo>
                      <a:pt x="34" y="67"/>
                    </a:moveTo>
                    <a:lnTo>
                      <a:pt x="33" y="68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097160" y="4306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4100400" y="43052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4103640" y="43038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105080" y="430200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114800" y="430056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0" y="0"/>
                    </a:moveTo>
                    <a:lnTo>
                      <a:pt x="1" y="0"/>
                    </a:lnTo>
                    <a:lnTo>
                      <a:pt x="34" y="57"/>
                    </a:lnTo>
                    <a:lnTo>
                      <a:pt x="33" y="58"/>
                    </a:lnTo>
                    <a:lnTo>
                      <a:pt x="15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111560" y="42987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4114800" y="42973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4118040" y="42958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120920" y="429408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124160" y="42926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4125960" y="429084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4128840" y="428940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2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4132080" y="42879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4135320" y="42861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0" y="4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43" y="62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4138560" y="4282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4141800" y="42814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145040" y="4279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4147920" y="42782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149720" y="427680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152960" y="4275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7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4" y="3"/>
                    </a:lnTo>
                    <a:lnTo>
                      <a:pt x="18" y="0"/>
                    </a:lnTo>
                    <a:lnTo>
                      <a:pt x="33" y="69"/>
                    </a:lnTo>
                    <a:close/>
                    <a:moveTo>
                      <a:pt x="47" y="60"/>
                    </a:moveTo>
                    <a:lnTo>
                      <a:pt x="33" y="69"/>
                    </a:lnTo>
                    <a:lnTo>
                      <a:pt x="47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4155840" y="427356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4159080" y="42717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162320" y="4270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165560" y="42688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168800" y="42688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43" h="63">
                    <a:moveTo>
                      <a:pt x="32" y="63"/>
                    </a:moveTo>
                    <a:lnTo>
                      <a:pt x="0" y="7"/>
                    </a:lnTo>
                    <a:lnTo>
                      <a:pt x="9" y="0"/>
                    </a:lnTo>
                    <a:lnTo>
                      <a:pt x="43" y="58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170240" y="42688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4" h="58">
                    <a:moveTo>
                      <a:pt x="33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4" y="58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3429000" y="4268880"/>
                <a:ext cx="752400" cy="438120"/>
              </a:xfrm>
              <a:custGeom>
                <a:avLst/>
                <a:gdLst/>
                <a:ahLst/>
                <a:rect l="l" t="t" r="r" b="b"/>
                <a:pathLst>
                  <a:path w="2369" h="1384">
                    <a:moveTo>
                      <a:pt x="2335" y="0"/>
                    </a:moveTo>
                    <a:lnTo>
                      <a:pt x="2369" y="58"/>
                    </a:lnTo>
                    <a:lnTo>
                      <a:pt x="285" y="1260"/>
                    </a:lnTo>
                    <a:lnTo>
                      <a:pt x="0" y="1384"/>
                    </a:lnTo>
                    <a:lnTo>
                      <a:pt x="252" y="1204"/>
                    </a:lnTo>
                    <a:lnTo>
                      <a:pt x="2335" y="0"/>
                    </a:lnTo>
                    <a:lnTo>
                      <a:pt x="2335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114960" y="293508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0" h="1037">
                    <a:moveTo>
                      <a:pt x="17" y="0"/>
                    </a:moveTo>
                    <a:lnTo>
                      <a:pt x="610" y="1027"/>
                    </a:lnTo>
                    <a:lnTo>
                      <a:pt x="593" y="1037"/>
                    </a:lnTo>
                    <a:lnTo>
                      <a:pt x="0" y="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116400" y="293364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28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119640" y="293220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2" h="1039">
                    <a:moveTo>
                      <a:pt x="593" y="103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2" y="1028"/>
                    </a:lnTo>
                    <a:lnTo>
                      <a:pt x="593" y="1039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122880" y="29304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38">
                    <a:moveTo>
                      <a:pt x="594" y="103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4" y="1038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126120" y="29289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129360" y="292716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132600" y="2925720"/>
                <a:ext cx="193680" cy="32868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135480" y="2924280"/>
                <a:ext cx="193680" cy="328320"/>
              </a:xfrm>
              <a:custGeom>
                <a:avLst/>
                <a:gdLst/>
                <a:ahLst/>
                <a:rect l="l" t="t" r="r" b="b"/>
                <a:pathLst>
                  <a:path w="612" h="1038">
                    <a:moveTo>
                      <a:pt x="593" y="103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2" y="1028"/>
                    </a:lnTo>
                    <a:lnTo>
                      <a:pt x="593" y="1038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6138720" y="292104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2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2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141960" y="291924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145200" y="291780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38">
                    <a:moveTo>
                      <a:pt x="593" y="103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613" y="1028"/>
                    </a:lnTo>
                    <a:lnTo>
                      <a:pt x="593" y="1038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146640" y="291636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149880" y="29145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28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6153120" y="29131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2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2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156360" y="2911320"/>
                <a:ext cx="195120" cy="32868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159240" y="2909880"/>
                <a:ext cx="195480" cy="32868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3" y="103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7"/>
                    </a:lnTo>
                    <a:lnTo>
                      <a:pt x="593" y="103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162480" y="290664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28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165720" y="290520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38">
                    <a:moveTo>
                      <a:pt x="594" y="1038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38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168960" y="290340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2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2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172200" y="29019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175440" y="290016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9" name=""/>
            <p:cNvGrpSpPr/>
            <p:nvPr/>
          </p:nvGrpSpPr>
          <p:grpSpPr>
            <a:xfrm>
              <a:off x="6110280" y="2603520"/>
              <a:ext cx="674640" cy="666720"/>
              <a:chOff x="6110280" y="2603520"/>
              <a:chExt cx="674640" cy="666720"/>
            </a:xfrm>
          </p:grpSpPr>
          <p:sp>
            <p:nvSpPr>
              <p:cNvPr id="2280" name=""/>
              <p:cNvSpPr/>
              <p:nvPr/>
            </p:nvSpPr>
            <p:spPr>
              <a:xfrm>
                <a:off x="6178320" y="2898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181560" y="289728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184800" y="289548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2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612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188040" y="289224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6189480" y="289080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6192720" y="28893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6195960" y="28875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6199200" y="28861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202440" y="288432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205320" y="28828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208560" y="288144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5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6211800" y="28796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6215040" y="2878200"/>
                <a:ext cx="195120" cy="32868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3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3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218280" y="28749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3" y="1041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613" y="1029"/>
                    </a:lnTo>
                    <a:lnTo>
                      <a:pt x="593" y="104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221160" y="287316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224400" y="2871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5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28"/>
                    </a:lnTo>
                    <a:lnTo>
                      <a:pt x="595" y="1039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227640" y="287028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229440" y="286848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5" h="1040">
                    <a:moveTo>
                      <a:pt x="595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5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234120" y="286704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235560" y="286524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238800" y="28638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242040" y="28605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245280" y="28591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248160" y="285732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251400" y="28558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254640" y="28544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257880" y="28526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261120" y="28512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264360" y="284940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267240" y="2846160"/>
                <a:ext cx="193680" cy="3319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270480" y="2844720"/>
                <a:ext cx="193680" cy="3319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273720" y="284328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275160" y="28414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5" y="1041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5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280200" y="284004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281640" y="283824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5" y="104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284880" y="28368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288120" y="28353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291000" y="283356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6294240" y="283212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297480" y="28288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613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300720" y="28274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6303960" y="28256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5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6307200" y="28242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310080" y="282240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5" h="1040">
                    <a:moveTo>
                      <a:pt x="596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5" y="1030"/>
                    </a:lnTo>
                    <a:lnTo>
                      <a:pt x="596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313320" y="282096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316560" y="28195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5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5" y="1042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319800" y="2817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321240" y="2814480"/>
                <a:ext cx="195480" cy="33192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5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324480" y="2813040"/>
                <a:ext cx="195120" cy="3319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327720" y="281124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330960" y="28098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334200" y="28083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4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337080" y="280656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340320" y="280512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343560" y="280332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346800" y="2800440"/>
                <a:ext cx="195120" cy="331560"/>
              </a:xfrm>
              <a:custGeom>
                <a:avLst/>
                <a:gdLst/>
                <a:ahLst/>
                <a:rect l="l" t="t" r="r" b="b"/>
                <a:pathLst>
                  <a:path w="613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350040" y="2798640"/>
                <a:ext cx="195120" cy="331920"/>
              </a:xfrm>
              <a:custGeom>
                <a:avLst/>
                <a:gdLst/>
                <a:ahLst/>
                <a:rect l="l" t="t" r="r" b="b"/>
                <a:pathLst>
                  <a:path w="615" h="1042">
                    <a:moveTo>
                      <a:pt x="595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5" y="1030"/>
                    </a:lnTo>
                    <a:lnTo>
                      <a:pt x="595" y="1042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352920" y="279720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6356160" y="279540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6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5" y="1030"/>
                    </a:lnTo>
                    <a:lnTo>
                      <a:pt x="596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6359400" y="279396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362640" y="27925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5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365880" y="2790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367320" y="27892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6" y="1042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31"/>
                    </a:lnTo>
                    <a:lnTo>
                      <a:pt x="596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370560" y="278748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5" y="1042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5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6373800" y="27860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6377040" y="2782800"/>
                <a:ext cx="195120" cy="3319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4" y="1041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614" y="1030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6379920" y="2781360"/>
                <a:ext cx="195480" cy="33156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6383160" y="277956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6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5" y="1030"/>
                    </a:lnTo>
                    <a:lnTo>
                      <a:pt x="596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6386400" y="27781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31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389640" y="277632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392880" y="277488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6396120" y="27734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5" h="1042">
                    <a:moveTo>
                      <a:pt x="595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5" y="1031"/>
                    </a:lnTo>
                    <a:lnTo>
                      <a:pt x="595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399000" y="277164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6402240" y="277020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6" y="1041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6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6405480" y="2766960"/>
                <a:ext cx="193680" cy="3319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6408720" y="2765520"/>
                <a:ext cx="193680" cy="33156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31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6411960" y="2763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614" y="1032"/>
                    </a:lnTo>
                    <a:lnTo>
                      <a:pt x="613" y="1032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6413400" y="2757600"/>
                <a:ext cx="198360" cy="336240"/>
              </a:xfrm>
              <a:custGeom>
                <a:avLst/>
                <a:gdLst/>
                <a:ahLst/>
                <a:rect l="l" t="t" r="r" b="b"/>
                <a:pathLst>
                  <a:path w="623" h="1058">
                    <a:moveTo>
                      <a:pt x="595" y="1056"/>
                    </a:moveTo>
                    <a:lnTo>
                      <a:pt x="0" y="25"/>
                    </a:lnTo>
                    <a:lnTo>
                      <a:pt x="9" y="20"/>
                    </a:lnTo>
                    <a:lnTo>
                      <a:pt x="12" y="0"/>
                    </a:lnTo>
                    <a:lnTo>
                      <a:pt x="623" y="1058"/>
                    </a:lnTo>
                    <a:lnTo>
                      <a:pt x="604" y="1051"/>
                    </a:lnTo>
                    <a:lnTo>
                      <a:pt x="595" y="1056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6416640" y="2751120"/>
                <a:ext cx="199800" cy="344520"/>
              </a:xfrm>
              <a:custGeom>
                <a:avLst/>
                <a:gdLst/>
                <a:ahLst/>
                <a:rect l="l" t="t" r="r" b="b"/>
                <a:pathLst>
                  <a:path w="631" h="1085">
                    <a:moveTo>
                      <a:pt x="596" y="1070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631" y="1085"/>
                    </a:lnTo>
                    <a:lnTo>
                      <a:pt x="596" y="107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418080" y="2746440"/>
                <a:ext cx="204840" cy="352440"/>
              </a:xfrm>
              <a:custGeom>
                <a:avLst/>
                <a:gdLst/>
                <a:ahLst/>
                <a:rect l="l" t="t" r="r" b="b"/>
                <a:pathLst>
                  <a:path w="644" h="1111">
                    <a:moveTo>
                      <a:pt x="611" y="1096"/>
                    </a:moveTo>
                    <a:lnTo>
                      <a:pt x="0" y="38"/>
                    </a:lnTo>
                    <a:lnTo>
                      <a:pt x="3" y="0"/>
                    </a:lnTo>
                    <a:lnTo>
                      <a:pt x="644" y="1111"/>
                    </a:lnTo>
                    <a:lnTo>
                      <a:pt x="611" y="1096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6418080" y="2739960"/>
                <a:ext cx="209520" cy="360360"/>
              </a:xfrm>
              <a:custGeom>
                <a:avLst/>
                <a:gdLst/>
                <a:ahLst/>
                <a:rect l="l" t="t" r="r" b="b"/>
                <a:pathLst>
                  <a:path w="661" h="1137">
                    <a:moveTo>
                      <a:pt x="627" y="1123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661" y="1137"/>
                    </a:lnTo>
                    <a:lnTo>
                      <a:pt x="627" y="1123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6418080" y="2733480"/>
                <a:ext cx="216000" cy="370080"/>
              </a:xfrm>
              <a:custGeom>
                <a:avLst/>
                <a:gdLst/>
                <a:ahLst/>
                <a:rect l="l" t="t" r="r" b="b"/>
                <a:pathLst>
                  <a:path w="676" h="1164">
                    <a:moveTo>
                      <a:pt x="641" y="1149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676" y="1164"/>
                    </a:lnTo>
                    <a:lnTo>
                      <a:pt x="641" y="114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6419880" y="2727360"/>
                <a:ext cx="218880" cy="377640"/>
              </a:xfrm>
              <a:custGeom>
                <a:avLst/>
                <a:gdLst/>
                <a:ahLst/>
                <a:rect l="l" t="t" r="r" b="b"/>
                <a:pathLst>
                  <a:path w="691" h="1190">
                    <a:moveTo>
                      <a:pt x="657" y="1175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691" y="1190"/>
                    </a:lnTo>
                    <a:lnTo>
                      <a:pt x="657" y="1175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6419880" y="2720880"/>
                <a:ext cx="223560" cy="387360"/>
              </a:xfrm>
              <a:custGeom>
                <a:avLst/>
                <a:gdLst/>
                <a:ahLst/>
                <a:rect l="l" t="t" r="r" b="b"/>
                <a:pathLst>
                  <a:path w="706" h="1216">
                    <a:moveTo>
                      <a:pt x="672" y="1202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706" y="1216"/>
                    </a:lnTo>
                    <a:lnTo>
                      <a:pt x="672" y="1202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6421320" y="2716200"/>
                <a:ext cx="228600" cy="393840"/>
              </a:xfrm>
              <a:custGeom>
                <a:avLst/>
                <a:gdLst/>
                <a:ahLst/>
                <a:rect l="l" t="t" r="r" b="b"/>
                <a:pathLst>
                  <a:path w="721" h="1242">
                    <a:moveTo>
                      <a:pt x="687" y="1227"/>
                    </a:moveTo>
                    <a:lnTo>
                      <a:pt x="0" y="37"/>
                    </a:lnTo>
                    <a:lnTo>
                      <a:pt x="3" y="0"/>
                    </a:lnTo>
                    <a:lnTo>
                      <a:pt x="721" y="1242"/>
                    </a:lnTo>
                    <a:lnTo>
                      <a:pt x="687" y="1227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6421320" y="2709720"/>
                <a:ext cx="233280" cy="403200"/>
              </a:xfrm>
              <a:custGeom>
                <a:avLst/>
                <a:gdLst/>
                <a:ahLst/>
                <a:rect l="l" t="t" r="r" b="b"/>
                <a:pathLst>
                  <a:path w="736" h="1268">
                    <a:moveTo>
                      <a:pt x="702" y="1253"/>
                    </a:moveTo>
                    <a:lnTo>
                      <a:pt x="0" y="37"/>
                    </a:lnTo>
                    <a:lnTo>
                      <a:pt x="3" y="0"/>
                    </a:lnTo>
                    <a:lnTo>
                      <a:pt x="736" y="1268"/>
                    </a:lnTo>
                    <a:lnTo>
                      <a:pt x="702" y="1253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6421320" y="2703600"/>
                <a:ext cx="239760" cy="411120"/>
              </a:xfrm>
              <a:custGeom>
                <a:avLst/>
                <a:gdLst/>
                <a:ahLst/>
                <a:rect l="l" t="t" r="r" b="b"/>
                <a:pathLst>
                  <a:path w="752" h="1294">
                    <a:moveTo>
                      <a:pt x="718" y="1280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752" y="1294"/>
                    </a:lnTo>
                    <a:lnTo>
                      <a:pt x="718" y="128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6423120" y="2697120"/>
                <a:ext cx="242640" cy="420840"/>
              </a:xfrm>
              <a:custGeom>
                <a:avLst/>
                <a:gdLst/>
                <a:ahLst/>
                <a:rect l="l" t="t" r="r" b="b"/>
                <a:pathLst>
                  <a:path w="767" h="1321">
                    <a:moveTo>
                      <a:pt x="733" y="1306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767" y="1321"/>
                    </a:lnTo>
                    <a:lnTo>
                      <a:pt x="733" y="1306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6423120" y="2692440"/>
                <a:ext cx="249120" cy="426960"/>
              </a:xfrm>
              <a:custGeom>
                <a:avLst/>
                <a:gdLst/>
                <a:ahLst/>
                <a:rect l="l" t="t" r="r" b="b"/>
                <a:pathLst>
                  <a:path w="783" h="1347">
                    <a:moveTo>
                      <a:pt x="748" y="1332"/>
                    </a:moveTo>
                    <a:lnTo>
                      <a:pt x="0" y="38"/>
                    </a:lnTo>
                    <a:lnTo>
                      <a:pt x="5" y="0"/>
                    </a:lnTo>
                    <a:lnTo>
                      <a:pt x="783" y="1347"/>
                    </a:lnTo>
                    <a:lnTo>
                      <a:pt x="748" y="1332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423120" y="2685960"/>
                <a:ext cx="253800" cy="434880"/>
              </a:xfrm>
              <a:custGeom>
                <a:avLst/>
                <a:gdLst/>
                <a:ahLst/>
                <a:rect l="l" t="t" r="r" b="b"/>
                <a:pathLst>
                  <a:path w="797" h="1373">
                    <a:moveTo>
                      <a:pt x="763" y="1359"/>
                    </a:moveTo>
                    <a:lnTo>
                      <a:pt x="0" y="38"/>
                    </a:lnTo>
                    <a:lnTo>
                      <a:pt x="5" y="0"/>
                    </a:lnTo>
                    <a:lnTo>
                      <a:pt x="797" y="1373"/>
                    </a:lnTo>
                    <a:lnTo>
                      <a:pt x="763" y="135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6424560" y="2679480"/>
                <a:ext cx="257040" cy="444600"/>
              </a:xfrm>
              <a:custGeom>
                <a:avLst/>
                <a:gdLst/>
                <a:ahLst/>
                <a:rect l="l" t="t" r="r" b="b"/>
                <a:pathLst>
                  <a:path w="811" h="1400">
                    <a:moveTo>
                      <a:pt x="778" y="1385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811" y="1400"/>
                    </a:lnTo>
                    <a:lnTo>
                      <a:pt x="778" y="1385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6424560" y="2673360"/>
                <a:ext cx="263520" cy="452520"/>
              </a:xfrm>
              <a:custGeom>
                <a:avLst/>
                <a:gdLst/>
                <a:ahLst/>
                <a:rect l="l" t="t" r="r" b="b"/>
                <a:pathLst>
                  <a:path w="827" h="1426">
                    <a:moveTo>
                      <a:pt x="792" y="1411"/>
                    </a:moveTo>
                    <a:lnTo>
                      <a:pt x="0" y="38"/>
                    </a:lnTo>
                    <a:lnTo>
                      <a:pt x="3" y="0"/>
                    </a:lnTo>
                    <a:lnTo>
                      <a:pt x="827" y="1426"/>
                    </a:lnTo>
                    <a:lnTo>
                      <a:pt x="792" y="141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426000" y="2666880"/>
                <a:ext cx="266760" cy="461880"/>
              </a:xfrm>
              <a:custGeom>
                <a:avLst/>
                <a:gdLst/>
                <a:ahLst/>
                <a:rect l="l" t="t" r="r" b="b"/>
                <a:pathLst>
                  <a:path w="842" h="1452">
                    <a:moveTo>
                      <a:pt x="807" y="1438"/>
                    </a:moveTo>
                    <a:lnTo>
                      <a:pt x="0" y="38"/>
                    </a:lnTo>
                    <a:lnTo>
                      <a:pt x="3" y="0"/>
                    </a:lnTo>
                    <a:lnTo>
                      <a:pt x="842" y="1452"/>
                    </a:lnTo>
                    <a:lnTo>
                      <a:pt x="807" y="1438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426000" y="2662200"/>
                <a:ext cx="273240" cy="468360"/>
              </a:xfrm>
              <a:custGeom>
                <a:avLst/>
                <a:gdLst/>
                <a:ahLst/>
                <a:rect l="l" t="t" r="r" b="b"/>
                <a:pathLst>
                  <a:path w="858" h="1479">
                    <a:moveTo>
                      <a:pt x="824" y="1464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858" y="1479"/>
                    </a:lnTo>
                    <a:lnTo>
                      <a:pt x="824" y="1464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426000" y="2655720"/>
                <a:ext cx="277920" cy="478080"/>
              </a:xfrm>
              <a:custGeom>
                <a:avLst/>
                <a:gdLst/>
                <a:ahLst/>
                <a:rect l="l" t="t" r="r" b="b"/>
                <a:pathLst>
                  <a:path w="873" h="1504">
                    <a:moveTo>
                      <a:pt x="839" y="1489"/>
                    </a:moveTo>
                    <a:lnTo>
                      <a:pt x="0" y="37"/>
                    </a:lnTo>
                    <a:lnTo>
                      <a:pt x="4" y="0"/>
                    </a:lnTo>
                    <a:lnTo>
                      <a:pt x="873" y="1504"/>
                    </a:lnTo>
                    <a:lnTo>
                      <a:pt x="839" y="148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6427800" y="2649600"/>
                <a:ext cx="280800" cy="485640"/>
              </a:xfrm>
              <a:custGeom>
                <a:avLst/>
                <a:gdLst/>
                <a:ahLst/>
                <a:rect l="l" t="t" r="r" b="b"/>
                <a:pathLst>
                  <a:path w="888" h="1531">
                    <a:moveTo>
                      <a:pt x="854" y="1516"/>
                    </a:moveTo>
                    <a:lnTo>
                      <a:pt x="0" y="37"/>
                    </a:lnTo>
                    <a:lnTo>
                      <a:pt x="4" y="0"/>
                    </a:lnTo>
                    <a:lnTo>
                      <a:pt x="888" y="1531"/>
                    </a:lnTo>
                    <a:lnTo>
                      <a:pt x="854" y="1516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427800" y="2646360"/>
                <a:ext cx="287280" cy="492120"/>
              </a:xfrm>
              <a:custGeom>
                <a:avLst/>
                <a:gdLst/>
                <a:ahLst/>
                <a:rect l="l" t="t" r="r" b="b"/>
                <a:pathLst>
                  <a:path w="903" h="1550">
                    <a:moveTo>
                      <a:pt x="869" y="1535"/>
                    </a:moveTo>
                    <a:lnTo>
                      <a:pt x="0" y="31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903" y="1550"/>
                    </a:lnTo>
                    <a:lnTo>
                      <a:pt x="869" y="1535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6429240" y="2644560"/>
                <a:ext cx="289080" cy="493920"/>
              </a:xfrm>
              <a:custGeom>
                <a:avLst/>
                <a:gdLst/>
                <a:ahLst/>
                <a:rect l="l" t="t" r="r" b="b"/>
                <a:pathLst>
                  <a:path w="912" h="1555">
                    <a:moveTo>
                      <a:pt x="884" y="1548"/>
                    </a:moveTo>
                    <a:lnTo>
                      <a:pt x="0" y="17"/>
                    </a:lnTo>
                    <a:lnTo>
                      <a:pt x="1" y="9"/>
                    </a:lnTo>
                    <a:lnTo>
                      <a:pt x="16" y="0"/>
                    </a:lnTo>
                    <a:lnTo>
                      <a:pt x="912" y="1550"/>
                    </a:lnTo>
                    <a:lnTo>
                      <a:pt x="902" y="1555"/>
                    </a:lnTo>
                    <a:lnTo>
                      <a:pt x="884" y="1548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6431040" y="264312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4" h="1560">
                    <a:moveTo>
                      <a:pt x="894" y="156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914" y="1549"/>
                    </a:lnTo>
                    <a:lnTo>
                      <a:pt x="895" y="1560"/>
                    </a:lnTo>
                    <a:lnTo>
                      <a:pt x="894" y="15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6433920" y="263988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6" y="1562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915" y="1550"/>
                    </a:lnTo>
                    <a:lnTo>
                      <a:pt x="896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6437160" y="263844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4" h="1561">
                    <a:moveTo>
                      <a:pt x="895" y="156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4" y="1550"/>
                    </a:lnTo>
                    <a:lnTo>
                      <a:pt x="895" y="15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6440400" y="263664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4" h="1561">
                    <a:moveTo>
                      <a:pt x="895" y="156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914" y="1551"/>
                    </a:lnTo>
                    <a:lnTo>
                      <a:pt x="895" y="15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6443640" y="263520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5" y="156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5" y="1551"/>
                    </a:lnTo>
                    <a:lnTo>
                      <a:pt x="895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6446880" y="2633760"/>
                <a:ext cx="288720" cy="495000"/>
              </a:xfrm>
              <a:custGeom>
                <a:avLst/>
                <a:gdLst/>
                <a:ahLst/>
                <a:rect l="l" t="t" r="r" b="b"/>
                <a:pathLst>
                  <a:path w="914" h="1563">
                    <a:moveTo>
                      <a:pt x="895" y="1563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4" y="1551"/>
                    </a:lnTo>
                    <a:lnTo>
                      <a:pt x="895" y="1563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448320" y="263196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6" y="1562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915" y="1551"/>
                    </a:lnTo>
                    <a:lnTo>
                      <a:pt x="896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6451560" y="263052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4" h="1561">
                    <a:moveTo>
                      <a:pt x="895" y="1561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914" y="1551"/>
                    </a:lnTo>
                    <a:lnTo>
                      <a:pt x="895" y="15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6454800" y="262728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5" h="1563">
                    <a:moveTo>
                      <a:pt x="896" y="1563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915" y="1551"/>
                    </a:lnTo>
                    <a:lnTo>
                      <a:pt x="896" y="1563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458040" y="2625840"/>
                <a:ext cx="290160" cy="496800"/>
              </a:xfrm>
              <a:custGeom>
                <a:avLst/>
                <a:gdLst/>
                <a:ahLst/>
                <a:rect l="l" t="t" r="r" b="b"/>
                <a:pathLst>
                  <a:path w="915" h="1563">
                    <a:moveTo>
                      <a:pt x="895" y="1563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915" y="1551"/>
                    </a:lnTo>
                    <a:lnTo>
                      <a:pt x="895" y="1563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460920" y="262404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5" y="1562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915" y="1552"/>
                    </a:lnTo>
                    <a:lnTo>
                      <a:pt x="895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464160" y="262260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4" h="1562">
                    <a:moveTo>
                      <a:pt x="895" y="1562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914" y="1550"/>
                    </a:lnTo>
                    <a:lnTo>
                      <a:pt x="895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467400" y="2620800"/>
                <a:ext cx="290520" cy="497160"/>
              </a:xfrm>
              <a:custGeom>
                <a:avLst/>
                <a:gdLst/>
                <a:ahLst/>
                <a:rect l="l" t="t" r="r" b="b"/>
                <a:pathLst>
                  <a:path w="915" h="1564">
                    <a:moveTo>
                      <a:pt x="896" y="1564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5" y="1552"/>
                    </a:lnTo>
                    <a:lnTo>
                      <a:pt x="896" y="1564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470640" y="261936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6" y="156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5" y="1552"/>
                    </a:lnTo>
                    <a:lnTo>
                      <a:pt x="896" y="1562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473880" y="261756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6" h="1562">
                    <a:moveTo>
                      <a:pt x="896" y="1562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916" y="1551"/>
                    </a:lnTo>
                    <a:lnTo>
                      <a:pt x="896" y="1562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476760" y="261468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6" h="1564">
                    <a:moveTo>
                      <a:pt x="896" y="1564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6" y="1552"/>
                    </a:lnTo>
                    <a:lnTo>
                      <a:pt x="896" y="1564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480000" y="2612880"/>
                <a:ext cx="290520" cy="497160"/>
              </a:xfrm>
              <a:custGeom>
                <a:avLst/>
                <a:gdLst/>
                <a:ahLst/>
                <a:rect l="l" t="t" r="r" b="b"/>
                <a:pathLst>
                  <a:path w="916" h="1563">
                    <a:moveTo>
                      <a:pt x="897" y="1563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916" y="1552"/>
                    </a:lnTo>
                    <a:lnTo>
                      <a:pt x="897" y="1563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481800" y="2611440"/>
                <a:ext cx="291960" cy="496800"/>
              </a:xfrm>
              <a:custGeom>
                <a:avLst/>
                <a:gdLst/>
                <a:ahLst/>
                <a:rect l="l" t="t" r="r" b="b"/>
                <a:pathLst>
                  <a:path w="916" h="1563">
                    <a:moveTo>
                      <a:pt x="897" y="1563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916" y="1553"/>
                    </a:lnTo>
                    <a:lnTo>
                      <a:pt x="897" y="1563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486480" y="2609640"/>
                <a:ext cx="288720" cy="497160"/>
              </a:xfrm>
              <a:custGeom>
                <a:avLst/>
                <a:gdLst/>
                <a:ahLst/>
                <a:rect l="l" t="t" r="r" b="b"/>
                <a:pathLst>
                  <a:path w="914" h="1563">
                    <a:moveTo>
                      <a:pt x="896" y="1563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914" y="1552"/>
                    </a:lnTo>
                    <a:lnTo>
                      <a:pt x="896" y="1563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487920" y="260820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5" h="1563">
                    <a:moveTo>
                      <a:pt x="896" y="1563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9" y="15"/>
                    </a:lnTo>
                    <a:lnTo>
                      <a:pt x="915" y="1551"/>
                    </a:lnTo>
                    <a:lnTo>
                      <a:pt x="896" y="1563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6491160" y="2608200"/>
                <a:ext cx="289080" cy="495360"/>
              </a:xfrm>
              <a:custGeom>
                <a:avLst/>
                <a:gdLst/>
                <a:ahLst/>
                <a:rect l="l" t="t" r="r" b="b"/>
                <a:pathLst>
                  <a:path w="908" h="1557">
                    <a:moveTo>
                      <a:pt x="895" y="1557"/>
                    </a:moveTo>
                    <a:lnTo>
                      <a:pt x="0" y="5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67" y="76"/>
                    </a:lnTo>
                    <a:lnTo>
                      <a:pt x="888" y="1498"/>
                    </a:lnTo>
                    <a:lnTo>
                      <a:pt x="908" y="1549"/>
                    </a:lnTo>
                    <a:lnTo>
                      <a:pt x="895" y="1557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6497640" y="2612880"/>
                <a:ext cx="282600" cy="487440"/>
              </a:xfrm>
              <a:custGeom>
                <a:avLst/>
                <a:gdLst/>
                <a:ahLst/>
                <a:rect l="l" t="t" r="r" b="b"/>
                <a:pathLst>
                  <a:path w="889" h="1536">
                    <a:moveTo>
                      <a:pt x="886" y="1536"/>
                    </a:moveTo>
                    <a:lnTo>
                      <a:pt x="0" y="0"/>
                    </a:lnTo>
                    <a:lnTo>
                      <a:pt x="95" y="121"/>
                    </a:lnTo>
                    <a:lnTo>
                      <a:pt x="839" y="1409"/>
                    </a:lnTo>
                    <a:lnTo>
                      <a:pt x="889" y="1534"/>
                    </a:lnTo>
                    <a:lnTo>
                      <a:pt x="886" y="1536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513480" y="2631960"/>
                <a:ext cx="260280" cy="452520"/>
              </a:xfrm>
              <a:custGeom>
                <a:avLst/>
                <a:gdLst/>
                <a:ahLst/>
                <a:rect l="l" t="t" r="r" b="b"/>
                <a:pathLst>
                  <a:path w="821" h="1422">
                    <a:moveTo>
                      <a:pt x="821" y="1422"/>
                    </a:moveTo>
                    <a:lnTo>
                      <a:pt x="0" y="0"/>
                    </a:lnTo>
                    <a:lnTo>
                      <a:pt x="71" y="91"/>
                    </a:lnTo>
                    <a:lnTo>
                      <a:pt x="118" y="160"/>
                    </a:lnTo>
                    <a:lnTo>
                      <a:pt x="761" y="1275"/>
                    </a:lnTo>
                    <a:lnTo>
                      <a:pt x="821" y="1422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6527880" y="2651040"/>
                <a:ext cx="236520" cy="409680"/>
              </a:xfrm>
              <a:custGeom>
                <a:avLst/>
                <a:gdLst/>
                <a:ahLst/>
                <a:rect l="l" t="t" r="r" b="b"/>
                <a:pathLst>
                  <a:path w="744" h="1288">
                    <a:moveTo>
                      <a:pt x="744" y="1288"/>
                    </a:moveTo>
                    <a:lnTo>
                      <a:pt x="0" y="0"/>
                    </a:lnTo>
                    <a:lnTo>
                      <a:pt x="24" y="31"/>
                    </a:lnTo>
                    <a:lnTo>
                      <a:pt x="141" y="206"/>
                    </a:lnTo>
                    <a:lnTo>
                      <a:pt x="180" y="267"/>
                    </a:lnTo>
                    <a:lnTo>
                      <a:pt x="646" y="1075"/>
                    </a:lnTo>
                    <a:lnTo>
                      <a:pt x="712" y="1211"/>
                    </a:lnTo>
                    <a:lnTo>
                      <a:pt x="744" y="1288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6549840" y="2682720"/>
                <a:ext cx="204840" cy="354240"/>
              </a:xfrm>
              <a:custGeom>
                <a:avLst/>
                <a:gdLst/>
                <a:ahLst/>
                <a:rect l="l" t="t" r="r" b="b"/>
                <a:pathLst>
                  <a:path w="643" h="1115">
                    <a:moveTo>
                      <a:pt x="643" y="1115"/>
                    </a:moveTo>
                    <a:lnTo>
                      <a:pt x="0" y="0"/>
                    </a:lnTo>
                    <a:lnTo>
                      <a:pt x="70" y="106"/>
                    </a:lnTo>
                    <a:lnTo>
                      <a:pt x="264" y="413"/>
                    </a:lnTo>
                    <a:lnTo>
                      <a:pt x="418" y="681"/>
                    </a:lnTo>
                    <a:lnTo>
                      <a:pt x="545" y="911"/>
                    </a:lnTo>
                    <a:lnTo>
                      <a:pt x="641" y="1111"/>
                    </a:lnTo>
                    <a:lnTo>
                      <a:pt x="643" y="1115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6584760" y="2736720"/>
                <a:ext cx="147600" cy="255600"/>
              </a:xfrm>
              <a:custGeom>
                <a:avLst/>
                <a:gdLst/>
                <a:ahLst/>
                <a:rect l="l" t="t" r="r" b="b"/>
                <a:pathLst>
                  <a:path w="466" h="808">
                    <a:moveTo>
                      <a:pt x="466" y="808"/>
                    </a:moveTo>
                    <a:lnTo>
                      <a:pt x="0" y="0"/>
                    </a:lnTo>
                    <a:lnTo>
                      <a:pt x="218" y="347"/>
                    </a:lnTo>
                    <a:lnTo>
                      <a:pt x="436" y="744"/>
                    </a:lnTo>
                    <a:lnTo>
                      <a:pt x="466" y="808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634080" y="2814480"/>
                <a:ext cx="49320" cy="85680"/>
              </a:xfrm>
              <a:custGeom>
                <a:avLst/>
                <a:gdLst/>
                <a:ahLst/>
                <a:rect l="l" t="t" r="r" b="b"/>
                <a:pathLst>
                  <a:path w="154" h="268">
                    <a:moveTo>
                      <a:pt x="154" y="268"/>
                    </a:moveTo>
                    <a:lnTo>
                      <a:pt x="0" y="0"/>
                    </a:lnTo>
                    <a:lnTo>
                      <a:pt x="63" y="101"/>
                    </a:lnTo>
                    <a:lnTo>
                      <a:pt x="154" y="268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423120" y="260352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230" h="150">
                    <a:moveTo>
                      <a:pt x="0" y="134"/>
                    </a:moveTo>
                    <a:lnTo>
                      <a:pt x="25" y="150"/>
                    </a:lnTo>
                    <a:lnTo>
                      <a:pt x="230" y="28"/>
                    </a:lnTo>
                    <a:lnTo>
                      <a:pt x="214" y="0"/>
                    </a:lnTo>
                    <a:lnTo>
                      <a:pt x="9" y="122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411960" y="2646360"/>
                <a:ext cx="21960" cy="122040"/>
              </a:xfrm>
              <a:custGeom>
                <a:avLst/>
                <a:gdLst/>
                <a:ahLst/>
                <a:rect l="l" t="t" r="r" b="b"/>
                <a:pathLst>
                  <a:path w="70" h="384">
                    <a:moveTo>
                      <a:pt x="24" y="384"/>
                    </a:moveTo>
                    <a:lnTo>
                      <a:pt x="32" y="372"/>
                    </a:lnTo>
                    <a:lnTo>
                      <a:pt x="70" y="3"/>
                    </a:lnTo>
                    <a:lnTo>
                      <a:pt x="37" y="0"/>
                    </a:lnTo>
                    <a:lnTo>
                      <a:pt x="0" y="369"/>
                    </a:lnTo>
                    <a:lnTo>
                      <a:pt x="24" y="3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110280" y="2759040"/>
                <a:ext cx="309600" cy="183960"/>
              </a:xfrm>
              <a:custGeom>
                <a:avLst/>
                <a:gdLst/>
                <a:ahLst/>
                <a:rect l="l" t="t" r="r" b="b"/>
                <a:pathLst>
                  <a:path w="974" h="578">
                    <a:moveTo>
                      <a:pt x="0" y="572"/>
                    </a:moveTo>
                    <a:lnTo>
                      <a:pt x="22" y="578"/>
                    </a:lnTo>
                    <a:lnTo>
                      <a:pt x="974" y="28"/>
                    </a:lnTo>
                    <a:lnTo>
                      <a:pt x="958" y="0"/>
                    </a:lnTo>
                    <a:lnTo>
                      <a:pt x="6" y="549"/>
                    </a:lnTo>
                    <a:lnTo>
                      <a:pt x="0" y="5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6110280" y="2936880"/>
                <a:ext cx="196920" cy="333360"/>
              </a:xfrm>
              <a:custGeom>
                <a:avLst/>
                <a:gdLst/>
                <a:ahLst/>
                <a:rect l="l" t="t" r="r" b="b"/>
                <a:pathLst>
                  <a:path w="622" h="1050">
                    <a:moveTo>
                      <a:pt x="616" y="1050"/>
                    </a:moveTo>
                    <a:lnTo>
                      <a:pt x="622" y="1028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594" y="1043"/>
                    </a:lnTo>
                    <a:lnTo>
                      <a:pt x="616" y="10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6300720" y="3085920"/>
                <a:ext cx="307800" cy="184320"/>
              </a:xfrm>
              <a:custGeom>
                <a:avLst/>
                <a:gdLst/>
                <a:ahLst/>
                <a:rect l="l" t="t" r="r" b="b"/>
                <a:pathLst>
                  <a:path w="970" h="577">
                    <a:moveTo>
                      <a:pt x="968" y="0"/>
                    </a:moveTo>
                    <a:lnTo>
                      <a:pt x="953" y="1"/>
                    </a:lnTo>
                    <a:lnTo>
                      <a:pt x="0" y="548"/>
                    </a:lnTo>
                    <a:lnTo>
                      <a:pt x="17" y="577"/>
                    </a:lnTo>
                    <a:lnTo>
                      <a:pt x="970" y="30"/>
                    </a:lnTo>
                    <a:lnTo>
                      <a:pt x="96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603840" y="308592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359" h="178">
                    <a:moveTo>
                      <a:pt x="359" y="178"/>
                    </a:moveTo>
                    <a:lnTo>
                      <a:pt x="357" y="148"/>
                    </a:lnTo>
                    <a:lnTo>
                      <a:pt x="12" y="0"/>
                    </a:lnTo>
                    <a:lnTo>
                      <a:pt x="0" y="31"/>
                    </a:lnTo>
                    <a:lnTo>
                      <a:pt x="344" y="178"/>
                    </a:lnTo>
                    <a:lnTo>
                      <a:pt x="359" y="1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711840" y="309564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229" h="147">
                    <a:moveTo>
                      <a:pt x="229" y="8"/>
                    </a:moveTo>
                    <a:lnTo>
                      <a:pt x="206" y="0"/>
                    </a:lnTo>
                    <a:lnTo>
                      <a:pt x="0" y="118"/>
                    </a:lnTo>
                    <a:lnTo>
                      <a:pt x="17" y="147"/>
                    </a:lnTo>
                    <a:lnTo>
                      <a:pt x="221" y="28"/>
                    </a:lnTo>
                    <a:lnTo>
                      <a:pt x="229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750000" y="3033720"/>
                <a:ext cx="34920" cy="68040"/>
              </a:xfrm>
              <a:custGeom>
                <a:avLst/>
                <a:gdLst/>
                <a:ahLst/>
                <a:rect l="l" t="t" r="r" b="b"/>
                <a:pathLst>
                  <a:path w="113" h="217">
                    <a:moveTo>
                      <a:pt x="30" y="0"/>
                    </a:moveTo>
                    <a:lnTo>
                      <a:pt x="0" y="14"/>
                    </a:lnTo>
                    <a:lnTo>
                      <a:pt x="82" y="217"/>
                    </a:lnTo>
                    <a:lnTo>
                      <a:pt x="113" y="205"/>
                    </a:lnTo>
                    <a:lnTo>
                      <a:pt x="31" y="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6718320" y="2970000"/>
                <a:ext cx="41040" cy="68400"/>
              </a:xfrm>
              <a:custGeom>
                <a:avLst/>
                <a:gdLst/>
                <a:ahLst/>
                <a:rect l="l" t="t" r="r" b="b"/>
                <a:pathLst>
                  <a:path w="126" h="214">
                    <a:moveTo>
                      <a:pt x="28" y="0"/>
                    </a:moveTo>
                    <a:lnTo>
                      <a:pt x="0" y="14"/>
                    </a:lnTo>
                    <a:lnTo>
                      <a:pt x="96" y="214"/>
                    </a:lnTo>
                    <a:lnTo>
                      <a:pt x="126" y="199"/>
                    </a:lnTo>
                    <a:lnTo>
                      <a:pt x="29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6649920" y="2844720"/>
                <a:ext cx="77760" cy="130320"/>
              </a:xfrm>
              <a:custGeom>
                <a:avLst/>
                <a:gdLst/>
                <a:ahLst/>
                <a:rect l="l" t="t" r="r" b="b"/>
                <a:pathLst>
                  <a:path w="245" h="412">
                    <a:moveTo>
                      <a:pt x="28" y="0"/>
                    </a:moveTo>
                    <a:lnTo>
                      <a:pt x="0" y="17"/>
                    </a:lnTo>
                    <a:lnTo>
                      <a:pt x="217" y="412"/>
                    </a:lnTo>
                    <a:lnTo>
                      <a:pt x="245" y="398"/>
                    </a:lnTo>
                    <a:lnTo>
                      <a:pt x="29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568920" y="2714400"/>
                <a:ext cx="90720" cy="135000"/>
              </a:xfrm>
              <a:custGeom>
                <a:avLst/>
                <a:gdLst/>
                <a:ahLst/>
                <a:rect l="l" t="t" r="r" b="b"/>
                <a:pathLst>
                  <a:path w="285" h="427">
                    <a:moveTo>
                      <a:pt x="28" y="0"/>
                    </a:moveTo>
                    <a:lnTo>
                      <a:pt x="0" y="18"/>
                    </a:lnTo>
                    <a:lnTo>
                      <a:pt x="257" y="427"/>
                    </a:lnTo>
                    <a:lnTo>
                      <a:pt x="285" y="4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6530760" y="2658960"/>
                <a:ext cx="46080" cy="60480"/>
              </a:xfrm>
              <a:custGeom>
                <a:avLst/>
                <a:gdLst/>
                <a:ahLst/>
                <a:rect l="l" t="t" r="r" b="b"/>
                <a:pathLst>
                  <a:path w="144" h="193">
                    <a:moveTo>
                      <a:pt x="26" y="0"/>
                    </a:moveTo>
                    <a:lnTo>
                      <a:pt x="0" y="20"/>
                    </a:lnTo>
                    <a:lnTo>
                      <a:pt x="116" y="193"/>
                    </a:lnTo>
                    <a:lnTo>
                      <a:pt x="144" y="175"/>
                    </a:lnTo>
                    <a:lnTo>
                      <a:pt x="27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6489720" y="260352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158" h="192">
                    <a:moveTo>
                      <a:pt x="6" y="0"/>
                    </a:moveTo>
                    <a:lnTo>
                      <a:pt x="0" y="24"/>
                    </a:lnTo>
                    <a:lnTo>
                      <a:pt x="133" y="192"/>
                    </a:lnTo>
                    <a:lnTo>
                      <a:pt x="158" y="171"/>
                    </a:lnTo>
                    <a:lnTo>
                      <a:pt x="2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6491160" y="2603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0" y="0"/>
                    </a:move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6294240" y="324792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0" y="0"/>
                    </a:moveTo>
                    <a:lnTo>
                      <a:pt x="24" y="44"/>
                    </a:lnTo>
                    <a:lnTo>
                      <a:pt x="17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289560" y="323352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50" h="95">
                    <a:moveTo>
                      <a:pt x="35" y="95"/>
                    </a:moveTo>
                    <a:lnTo>
                      <a:pt x="35" y="95"/>
                    </a:lnTo>
                    <a:lnTo>
                      <a:pt x="0" y="0"/>
                    </a:lnTo>
                    <a:lnTo>
                      <a:pt x="50" y="86"/>
                    </a:lnTo>
                    <a:lnTo>
                      <a:pt x="35" y="95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148440" y="2989080"/>
                <a:ext cx="158760" cy="273240"/>
              </a:xfrm>
              <a:custGeom>
                <a:avLst/>
                <a:gdLst/>
                <a:ahLst/>
                <a:rect l="l" t="t" r="r" b="b"/>
                <a:pathLst>
                  <a:path w="502" h="863">
                    <a:moveTo>
                      <a:pt x="486" y="863"/>
                    </a:moveTo>
                    <a:lnTo>
                      <a:pt x="462" y="819"/>
                    </a:lnTo>
                    <a:lnTo>
                      <a:pt x="433" y="740"/>
                    </a:lnTo>
                    <a:lnTo>
                      <a:pt x="0" y="0"/>
                    </a:lnTo>
                    <a:lnTo>
                      <a:pt x="32" y="39"/>
                    </a:lnTo>
                    <a:lnTo>
                      <a:pt x="502" y="854"/>
                    </a:lnTo>
                    <a:lnTo>
                      <a:pt x="486" y="863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6148440" y="2989080"/>
                <a:ext cx="161640" cy="271440"/>
              </a:xfrm>
              <a:custGeom>
                <a:avLst/>
                <a:gdLst/>
                <a:ahLst/>
                <a:rect l="l" t="t" r="r" b="b"/>
                <a:pathLst>
                  <a:path w="509" h="858">
                    <a:moveTo>
                      <a:pt x="494" y="858"/>
                    </a:moveTo>
                    <a:lnTo>
                      <a:pt x="444" y="772"/>
                    </a:lnTo>
                    <a:lnTo>
                      <a:pt x="433" y="7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8" y="87"/>
                    </a:lnTo>
                    <a:lnTo>
                      <a:pt x="509" y="850"/>
                    </a:lnTo>
                    <a:lnTo>
                      <a:pt x="494" y="858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157800" y="3000240"/>
                <a:ext cx="154080" cy="258840"/>
              </a:xfrm>
              <a:custGeom>
                <a:avLst/>
                <a:gdLst/>
                <a:ahLst/>
                <a:rect l="l" t="t" r="r" b="b"/>
                <a:pathLst>
                  <a:path w="485" h="815">
                    <a:moveTo>
                      <a:pt x="470" y="815"/>
                    </a:moveTo>
                    <a:lnTo>
                      <a:pt x="0" y="0"/>
                    </a:lnTo>
                    <a:lnTo>
                      <a:pt x="73" y="94"/>
                    </a:lnTo>
                    <a:lnTo>
                      <a:pt x="485" y="807"/>
                    </a:lnTo>
                    <a:lnTo>
                      <a:pt x="470" y="815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168960" y="3016080"/>
                <a:ext cx="146160" cy="243000"/>
              </a:xfrm>
              <a:custGeom>
                <a:avLst/>
                <a:gdLst/>
                <a:ahLst/>
                <a:rect l="l" t="t" r="r" b="b"/>
                <a:pathLst>
                  <a:path w="456" h="763">
                    <a:moveTo>
                      <a:pt x="441" y="763"/>
                    </a:moveTo>
                    <a:lnTo>
                      <a:pt x="0" y="0"/>
                    </a:lnTo>
                    <a:lnTo>
                      <a:pt x="74" y="93"/>
                    </a:lnTo>
                    <a:lnTo>
                      <a:pt x="456" y="755"/>
                    </a:lnTo>
                    <a:lnTo>
                      <a:pt x="441" y="763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181560" y="3030480"/>
                <a:ext cx="135000" cy="227160"/>
              </a:xfrm>
              <a:custGeom>
                <a:avLst/>
                <a:gdLst/>
                <a:ahLst/>
                <a:rect l="l" t="t" r="r" b="b"/>
                <a:pathLst>
                  <a:path w="426" h="713">
                    <a:moveTo>
                      <a:pt x="412" y="713"/>
                    </a:moveTo>
                    <a:lnTo>
                      <a:pt x="0" y="0"/>
                    </a:lnTo>
                    <a:lnTo>
                      <a:pt x="74" y="94"/>
                    </a:lnTo>
                    <a:lnTo>
                      <a:pt x="426" y="704"/>
                    </a:lnTo>
                    <a:lnTo>
                      <a:pt x="412" y="713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192720" y="3046320"/>
                <a:ext cx="127080" cy="209520"/>
              </a:xfrm>
              <a:custGeom>
                <a:avLst/>
                <a:gdLst/>
                <a:ahLst/>
                <a:rect l="l" t="t" r="r" b="b"/>
                <a:pathLst>
                  <a:path w="397" h="662">
                    <a:moveTo>
                      <a:pt x="382" y="662"/>
                    </a:moveTo>
                    <a:lnTo>
                      <a:pt x="0" y="0"/>
                    </a:lnTo>
                    <a:lnTo>
                      <a:pt x="73" y="93"/>
                    </a:lnTo>
                    <a:lnTo>
                      <a:pt x="397" y="653"/>
                    </a:lnTo>
                    <a:lnTo>
                      <a:pt x="382" y="662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6205320" y="3060720"/>
                <a:ext cx="115920" cy="193680"/>
              </a:xfrm>
              <a:custGeom>
                <a:avLst/>
                <a:gdLst/>
                <a:ahLst/>
                <a:rect l="l" t="t" r="r" b="b"/>
                <a:pathLst>
                  <a:path w="367" h="610">
                    <a:moveTo>
                      <a:pt x="352" y="610"/>
                    </a:moveTo>
                    <a:lnTo>
                      <a:pt x="0" y="0"/>
                    </a:lnTo>
                    <a:lnTo>
                      <a:pt x="68" y="87"/>
                    </a:lnTo>
                    <a:lnTo>
                      <a:pt x="72" y="92"/>
                    </a:lnTo>
                    <a:lnTo>
                      <a:pt x="367" y="602"/>
                    </a:lnTo>
                    <a:lnTo>
                      <a:pt x="352" y="610"/>
                    </a:lnTo>
                    <a:close/>
                  </a:path>
                </a:pathLst>
              </a:custGeom>
              <a:solidFill>
                <a:srgbClr val="9fca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6216480" y="3074760"/>
                <a:ext cx="106560" cy="177840"/>
              </a:xfrm>
              <a:custGeom>
                <a:avLst/>
                <a:gdLst/>
                <a:ahLst/>
                <a:rect l="l" t="t" r="r" b="b"/>
                <a:pathLst>
                  <a:path w="338" h="560">
                    <a:moveTo>
                      <a:pt x="324" y="560"/>
                    </a:moveTo>
                    <a:lnTo>
                      <a:pt x="0" y="0"/>
                    </a:lnTo>
                    <a:lnTo>
                      <a:pt x="32" y="41"/>
                    </a:lnTo>
                    <a:lnTo>
                      <a:pt x="65" y="79"/>
                    </a:lnTo>
                    <a:lnTo>
                      <a:pt x="338" y="552"/>
                    </a:lnTo>
                    <a:lnTo>
                      <a:pt x="324" y="560"/>
                    </a:lnTo>
                    <a:close/>
                  </a:path>
                </a:pathLst>
              </a:custGeom>
              <a:solidFill>
                <a:srgbClr val="9fca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227640" y="3089160"/>
                <a:ext cx="98640" cy="162000"/>
              </a:xfrm>
              <a:custGeom>
                <a:avLst/>
                <a:gdLst/>
                <a:ahLst/>
                <a:rect l="l" t="t" r="r" b="b"/>
                <a:pathLst>
                  <a:path w="310" h="510">
                    <a:moveTo>
                      <a:pt x="295" y="510"/>
                    </a:moveTo>
                    <a:lnTo>
                      <a:pt x="0" y="0"/>
                    </a:lnTo>
                    <a:lnTo>
                      <a:pt x="59" y="67"/>
                    </a:lnTo>
                    <a:lnTo>
                      <a:pt x="310" y="502"/>
                    </a:lnTo>
                    <a:lnTo>
                      <a:pt x="295" y="510"/>
                    </a:lnTo>
                    <a:close/>
                  </a:path>
                </a:pathLst>
              </a:custGeom>
              <a:solidFill>
                <a:srgbClr val="9fc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6237360" y="310032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288" h="473">
                    <a:moveTo>
                      <a:pt x="273" y="473"/>
                    </a:moveTo>
                    <a:lnTo>
                      <a:pt x="0" y="0"/>
                    </a:lnTo>
                    <a:lnTo>
                      <a:pt x="47" y="53"/>
                    </a:lnTo>
                    <a:lnTo>
                      <a:pt x="54" y="59"/>
                    </a:lnTo>
                    <a:lnTo>
                      <a:pt x="288" y="464"/>
                    </a:lnTo>
                    <a:lnTo>
                      <a:pt x="273" y="473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6246720" y="3111480"/>
                <a:ext cx="84240" cy="138240"/>
              </a:xfrm>
              <a:custGeom>
                <a:avLst/>
                <a:gdLst/>
                <a:ahLst/>
                <a:rect l="l" t="t" r="r" b="b"/>
                <a:pathLst>
                  <a:path w="266" h="435">
                    <a:moveTo>
                      <a:pt x="251" y="435"/>
                    </a:moveTo>
                    <a:lnTo>
                      <a:pt x="0" y="0"/>
                    </a:lnTo>
                    <a:lnTo>
                      <a:pt x="17" y="19"/>
                    </a:lnTo>
                    <a:lnTo>
                      <a:pt x="43" y="41"/>
                    </a:lnTo>
                    <a:lnTo>
                      <a:pt x="266" y="426"/>
                    </a:lnTo>
                    <a:lnTo>
                      <a:pt x="251" y="435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6254640" y="3119400"/>
                <a:ext cx="77760" cy="128520"/>
              </a:xfrm>
              <a:custGeom>
                <a:avLst/>
                <a:gdLst/>
                <a:ahLst/>
                <a:rect l="l" t="t" r="r" b="b"/>
                <a:pathLst>
                  <a:path w="249" h="405">
                    <a:moveTo>
                      <a:pt x="234" y="405"/>
                    </a:moveTo>
                    <a:lnTo>
                      <a:pt x="0" y="0"/>
                    </a:lnTo>
                    <a:lnTo>
                      <a:pt x="38" y="30"/>
                    </a:lnTo>
                    <a:lnTo>
                      <a:pt x="249" y="397"/>
                    </a:lnTo>
                    <a:lnTo>
                      <a:pt x="234" y="405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6259320" y="312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237" h="385">
                    <a:moveTo>
                      <a:pt x="223" y="385"/>
                    </a:moveTo>
                    <a:lnTo>
                      <a:pt x="0" y="0"/>
                    </a:lnTo>
                    <a:lnTo>
                      <a:pt x="37" y="30"/>
                    </a:lnTo>
                    <a:lnTo>
                      <a:pt x="237" y="377"/>
                    </a:lnTo>
                    <a:lnTo>
                      <a:pt x="223" y="385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6265800" y="3128760"/>
                <a:ext cx="71280" cy="115920"/>
              </a:xfrm>
              <a:custGeom>
                <a:avLst/>
                <a:gdLst/>
                <a:ahLst/>
                <a:rect l="l" t="t" r="r" b="b"/>
                <a:pathLst>
                  <a:path w="226" h="367">
                    <a:moveTo>
                      <a:pt x="211" y="367"/>
                    </a:moveTo>
                    <a:lnTo>
                      <a:pt x="0" y="0"/>
                    </a:lnTo>
                    <a:lnTo>
                      <a:pt x="22" y="19"/>
                    </a:lnTo>
                    <a:lnTo>
                      <a:pt x="32" y="25"/>
                    </a:lnTo>
                    <a:lnTo>
                      <a:pt x="226" y="359"/>
                    </a:lnTo>
                    <a:lnTo>
                      <a:pt x="211" y="367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6272280" y="3133800"/>
                <a:ext cx="68040" cy="109440"/>
              </a:xfrm>
              <a:custGeom>
                <a:avLst/>
                <a:gdLst/>
                <a:ahLst/>
                <a:rect l="l" t="t" r="r" b="b"/>
                <a:pathLst>
                  <a:path w="215" h="347">
                    <a:moveTo>
                      <a:pt x="200" y="347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29" y="16"/>
                    </a:lnTo>
                    <a:lnTo>
                      <a:pt x="215" y="338"/>
                    </a:lnTo>
                    <a:lnTo>
                      <a:pt x="200" y="34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6276960" y="3136680"/>
                <a:ext cx="65160" cy="106560"/>
              </a:xfrm>
              <a:custGeom>
                <a:avLst/>
                <a:gdLst/>
                <a:ahLst/>
                <a:rect l="l" t="t" r="r" b="b"/>
                <a:pathLst>
                  <a:path w="208" h="334">
                    <a:moveTo>
                      <a:pt x="194" y="334"/>
                    </a:moveTo>
                    <a:lnTo>
                      <a:pt x="0" y="0"/>
                    </a:lnTo>
                    <a:lnTo>
                      <a:pt x="29" y="14"/>
                    </a:lnTo>
                    <a:lnTo>
                      <a:pt x="208" y="325"/>
                    </a:lnTo>
                    <a:lnTo>
                      <a:pt x="194" y="334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6281640" y="3138480"/>
                <a:ext cx="63360" cy="103320"/>
              </a:xfrm>
              <a:custGeom>
                <a:avLst/>
                <a:gdLst/>
                <a:ahLst/>
                <a:rect l="l" t="t" r="r" b="b"/>
                <a:pathLst>
                  <a:path w="201" h="322">
                    <a:moveTo>
                      <a:pt x="186" y="322"/>
                    </a:moveTo>
                    <a:lnTo>
                      <a:pt x="0" y="0"/>
                    </a:lnTo>
                    <a:lnTo>
                      <a:pt x="28" y="15"/>
                    </a:lnTo>
                    <a:lnTo>
                      <a:pt x="201" y="314"/>
                    </a:lnTo>
                    <a:lnTo>
                      <a:pt x="186" y="322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6284880" y="3141720"/>
                <a:ext cx="61920" cy="98280"/>
              </a:xfrm>
              <a:custGeom>
                <a:avLst/>
                <a:gdLst/>
                <a:ahLst/>
                <a:rect l="l" t="t" r="r" b="b"/>
                <a:pathLst>
                  <a:path w="194" h="311">
                    <a:moveTo>
                      <a:pt x="179" y="311"/>
                    </a:moveTo>
                    <a:lnTo>
                      <a:pt x="0" y="0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194" y="303"/>
                    </a:lnTo>
                    <a:lnTo>
                      <a:pt x="179" y="311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6289560" y="3143160"/>
                <a:ext cx="60480" cy="95400"/>
              </a:xfrm>
              <a:custGeom>
                <a:avLst/>
                <a:gdLst/>
                <a:ahLst/>
                <a:rect l="l" t="t" r="r" b="b"/>
                <a:pathLst>
                  <a:path w="187" h="299">
                    <a:moveTo>
                      <a:pt x="173" y="299"/>
                    </a:moveTo>
                    <a:lnTo>
                      <a:pt x="0" y="0"/>
                    </a:lnTo>
                    <a:lnTo>
                      <a:pt x="13" y="7"/>
                    </a:lnTo>
                    <a:lnTo>
                      <a:pt x="24" y="7"/>
                    </a:lnTo>
                    <a:lnTo>
                      <a:pt x="187" y="291"/>
                    </a:lnTo>
                    <a:lnTo>
                      <a:pt x="173" y="299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6294240" y="31464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66" y="288"/>
                    </a:moveTo>
                    <a:lnTo>
                      <a:pt x="0" y="0"/>
                    </a:lnTo>
                    <a:lnTo>
                      <a:pt x="20" y="1"/>
                    </a:lnTo>
                    <a:lnTo>
                      <a:pt x="181" y="279"/>
                    </a:lnTo>
                    <a:lnTo>
                      <a:pt x="166" y="288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6297480" y="3146400"/>
                <a:ext cx="57240" cy="88920"/>
              </a:xfrm>
              <a:custGeom>
                <a:avLst/>
                <a:gdLst/>
                <a:ahLst/>
                <a:rect l="l" t="t" r="r" b="b"/>
                <a:pathLst>
                  <a:path w="178" h="284">
                    <a:moveTo>
                      <a:pt x="163" y="284"/>
                    </a:moveTo>
                    <a:lnTo>
                      <a:pt x="0" y="0"/>
                    </a:lnTo>
                    <a:lnTo>
                      <a:pt x="19" y="1"/>
                    </a:lnTo>
                    <a:lnTo>
                      <a:pt x="178" y="275"/>
                    </a:lnTo>
                    <a:lnTo>
                      <a:pt x="163" y="284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6300720" y="3146400"/>
                <a:ext cx="55440" cy="87120"/>
              </a:xfrm>
              <a:custGeom>
                <a:avLst/>
                <a:gdLst/>
                <a:ahLst/>
                <a:rect l="l" t="t" r="r" b="b"/>
                <a:pathLst>
                  <a:path w="175" h="278">
                    <a:moveTo>
                      <a:pt x="161" y="278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175" y="270"/>
                    </a:lnTo>
                    <a:lnTo>
                      <a:pt x="161" y="27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6303960" y="3146400"/>
                <a:ext cx="55440" cy="87120"/>
              </a:xfrm>
              <a:custGeom>
                <a:avLst/>
                <a:gdLst/>
                <a:ahLst/>
                <a:rect l="l" t="t" r="r" b="b"/>
                <a:pathLst>
                  <a:path w="174" h="274">
                    <a:moveTo>
                      <a:pt x="159" y="274"/>
                    </a:moveTo>
                    <a:lnTo>
                      <a:pt x="0" y="0"/>
                    </a:lnTo>
                    <a:lnTo>
                      <a:pt x="20" y="1"/>
                    </a:lnTo>
                    <a:lnTo>
                      <a:pt x="174" y="266"/>
                    </a:lnTo>
                    <a:lnTo>
                      <a:pt x="159" y="274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6307200" y="3146400"/>
                <a:ext cx="54000" cy="85680"/>
              </a:xfrm>
              <a:custGeom>
                <a:avLst/>
                <a:gdLst/>
                <a:ahLst/>
                <a:rect l="l" t="t" r="r" b="b"/>
                <a:pathLst>
                  <a:path w="170" h="270">
                    <a:moveTo>
                      <a:pt x="155" y="270"/>
                    </a:moveTo>
                    <a:lnTo>
                      <a:pt x="0" y="0"/>
                    </a:lnTo>
                    <a:lnTo>
                      <a:pt x="20" y="1"/>
                    </a:lnTo>
                    <a:lnTo>
                      <a:pt x="170" y="262"/>
                    </a:lnTo>
                    <a:lnTo>
                      <a:pt x="155" y="270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6310080" y="3146400"/>
                <a:ext cx="52560" cy="84240"/>
              </a:xfrm>
              <a:custGeom>
                <a:avLst/>
                <a:gdLst/>
                <a:ahLst/>
                <a:rect l="l" t="t" r="r" b="b"/>
                <a:pathLst>
                  <a:path w="168" h="265">
                    <a:moveTo>
                      <a:pt x="154" y="265"/>
                    </a:moveTo>
                    <a:lnTo>
                      <a:pt x="0" y="0"/>
                    </a:lnTo>
                    <a:lnTo>
                      <a:pt x="21" y="1"/>
                    </a:lnTo>
                    <a:lnTo>
                      <a:pt x="168" y="256"/>
                    </a:lnTo>
                    <a:lnTo>
                      <a:pt x="154" y="265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6313320" y="314640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165" h="263">
                    <a:moveTo>
                      <a:pt x="150" y="263"/>
                    </a:moveTo>
                    <a:lnTo>
                      <a:pt x="0" y="2"/>
                    </a:lnTo>
                    <a:lnTo>
                      <a:pt x="14" y="3"/>
                    </a:lnTo>
                    <a:lnTo>
                      <a:pt x="18" y="0"/>
                    </a:lnTo>
                    <a:lnTo>
                      <a:pt x="165" y="254"/>
                    </a:lnTo>
                    <a:lnTo>
                      <a:pt x="150" y="263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6316560" y="3144960"/>
                <a:ext cx="50760" cy="82440"/>
              </a:xfrm>
              <a:custGeom>
                <a:avLst/>
                <a:gdLst/>
                <a:ahLst/>
                <a:rect l="l" t="t" r="r" b="b"/>
                <a:pathLst>
                  <a:path w="162" h="262">
                    <a:moveTo>
                      <a:pt x="147" y="262"/>
                    </a:moveTo>
                    <a:lnTo>
                      <a:pt x="0" y="7"/>
                    </a:lnTo>
                    <a:lnTo>
                      <a:pt x="4" y="7"/>
                    </a:lnTo>
                    <a:lnTo>
                      <a:pt x="15" y="0"/>
                    </a:lnTo>
                    <a:lnTo>
                      <a:pt x="162" y="254"/>
                    </a:lnTo>
                    <a:lnTo>
                      <a:pt x="147" y="262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6319800" y="3143160"/>
                <a:ext cx="50760" cy="82440"/>
              </a:xfrm>
              <a:custGeom>
                <a:avLst/>
                <a:gdLst/>
                <a:ahLst/>
                <a:rect l="l" t="t" r="r" b="b"/>
                <a:pathLst>
                  <a:path w="161" h="263">
                    <a:moveTo>
                      <a:pt x="147" y="263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1" y="255"/>
                    </a:lnTo>
                    <a:lnTo>
                      <a:pt x="147" y="263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6321240" y="3141720"/>
                <a:ext cx="50760" cy="83880"/>
              </a:xfrm>
              <a:custGeom>
                <a:avLst/>
                <a:gdLst/>
                <a:ahLst/>
                <a:rect l="l" t="t" r="r" b="b"/>
                <a:pathLst>
                  <a:path w="162" h="264">
                    <a:moveTo>
                      <a:pt x="147" y="264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2" y="256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6323040" y="313992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2" h="264">
                    <a:moveTo>
                      <a:pt x="147" y="264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2" y="255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6326280" y="313848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162" h="264">
                    <a:moveTo>
                      <a:pt x="147" y="264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2" y="255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6327720" y="313668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3" h="264">
                    <a:moveTo>
                      <a:pt x="147" y="264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3" y="256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330960" y="313524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162" h="264">
                    <a:moveTo>
                      <a:pt x="147" y="264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62" y="256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6332400" y="3133800"/>
                <a:ext cx="52560" cy="83880"/>
              </a:xfrm>
              <a:custGeom>
                <a:avLst/>
                <a:gdLst/>
                <a:ahLst/>
                <a:rect l="l" t="t" r="r" b="b"/>
                <a:pathLst>
                  <a:path w="163" h="265">
                    <a:moveTo>
                      <a:pt x="148" y="265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3" y="257"/>
                    </a:lnTo>
                    <a:lnTo>
                      <a:pt x="148" y="265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6335640" y="313200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164" h="266">
                    <a:moveTo>
                      <a:pt x="149" y="266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4" y="257"/>
                    </a:lnTo>
                    <a:lnTo>
                      <a:pt x="149" y="266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6337080" y="3132000"/>
                <a:ext cx="52560" cy="84240"/>
              </a:xfrm>
              <a:custGeom>
                <a:avLst/>
                <a:gdLst/>
                <a:ahLst/>
                <a:rect l="l" t="t" r="r" b="b"/>
                <a:pathLst>
                  <a:path w="163" h="266">
                    <a:moveTo>
                      <a:pt x="149" y="26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3" y="257"/>
                    </a:lnTo>
                    <a:lnTo>
                      <a:pt x="149" y="266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6340320" y="313056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164" h="265">
                    <a:moveTo>
                      <a:pt x="149" y="265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4" y="257"/>
                    </a:lnTo>
                    <a:lnTo>
                      <a:pt x="149" y="265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6342120" y="312876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4" h="266">
                    <a:moveTo>
                      <a:pt x="149" y="26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4" y="258"/>
                    </a:lnTo>
                    <a:lnTo>
                      <a:pt x="149" y="266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6345000" y="3127320"/>
                <a:ext cx="51120" cy="84240"/>
              </a:xfrm>
              <a:custGeom>
                <a:avLst/>
                <a:gdLst/>
                <a:ahLst/>
                <a:rect l="l" t="t" r="r" b="b"/>
                <a:pathLst>
                  <a:path w="163" h="267">
                    <a:moveTo>
                      <a:pt x="149" y="267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3" y="259"/>
                    </a:lnTo>
                    <a:lnTo>
                      <a:pt x="149" y="267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6346800" y="3125880"/>
                <a:ext cx="52200" cy="83880"/>
              </a:xfrm>
              <a:custGeom>
                <a:avLst/>
                <a:gdLst/>
                <a:ahLst/>
                <a:rect l="l" t="t" r="r" b="b"/>
                <a:pathLst>
                  <a:path w="164" h="267">
                    <a:moveTo>
                      <a:pt x="149" y="26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4" y="258"/>
                    </a:lnTo>
                    <a:lnTo>
                      <a:pt x="149" y="267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6348240" y="312408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4" h="267">
                    <a:moveTo>
                      <a:pt x="149" y="26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4" y="258"/>
                    </a:lnTo>
                    <a:lnTo>
                      <a:pt x="149" y="267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6351480" y="312264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3" h="266">
                    <a:moveTo>
                      <a:pt x="149" y="266"/>
                    </a:moveTo>
                    <a:lnTo>
                      <a:pt x="0" y="8"/>
                    </a:lnTo>
                    <a:lnTo>
                      <a:pt x="13" y="0"/>
                    </a:lnTo>
                    <a:lnTo>
                      <a:pt x="163" y="258"/>
                    </a:lnTo>
                    <a:lnTo>
                      <a:pt x="149" y="266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6352920" y="3120840"/>
                <a:ext cx="52560" cy="8604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49" y="268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4" y="260"/>
                    </a:lnTo>
                    <a:lnTo>
                      <a:pt x="149" y="268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356160" y="311940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5" h="268">
                    <a:moveTo>
                      <a:pt x="150" y="268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5" y="260"/>
                    </a:lnTo>
                    <a:lnTo>
                      <a:pt x="150" y="268"/>
                    </a:lnTo>
                    <a:close/>
                  </a:path>
                </a:pathLst>
              </a:custGeom>
              <a:solidFill>
                <a:srgbClr val="a3c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357960" y="311940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50" y="268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4" y="259"/>
                    </a:lnTo>
                    <a:lnTo>
                      <a:pt x="150" y="26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6361200" y="3117960"/>
                <a:ext cx="52200" cy="83880"/>
              </a:xfrm>
              <a:custGeom>
                <a:avLst/>
                <a:gdLst/>
                <a:ahLst/>
                <a:rect l="l" t="t" r="r" b="b"/>
                <a:pathLst>
                  <a:path w="165" h="268">
                    <a:moveTo>
                      <a:pt x="150" y="26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5" y="259"/>
                    </a:lnTo>
                    <a:lnTo>
                      <a:pt x="150" y="26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6362640" y="311616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5" h="268">
                    <a:moveTo>
                      <a:pt x="150" y="26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5" y="260"/>
                    </a:lnTo>
                    <a:lnTo>
                      <a:pt x="150" y="26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365880" y="311472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5" h="269">
                    <a:moveTo>
                      <a:pt x="150" y="269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5" y="261"/>
                    </a:lnTo>
                    <a:lnTo>
                      <a:pt x="150" y="26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367320" y="311292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5" h="269">
                    <a:moveTo>
                      <a:pt x="150" y="269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5" y="261"/>
                    </a:lnTo>
                    <a:lnTo>
                      <a:pt x="150" y="26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6369120" y="311148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5" h="269">
                    <a:moveTo>
                      <a:pt x="151" y="269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5" y="260"/>
                    </a:lnTo>
                    <a:lnTo>
                      <a:pt x="151" y="26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372000" y="311004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5" h="270">
                    <a:moveTo>
                      <a:pt x="150" y="270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65" y="261"/>
                    </a:lnTo>
                    <a:lnTo>
                      <a:pt x="150" y="270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373800" y="310824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6" h="270">
                    <a:moveTo>
                      <a:pt x="151" y="270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6" y="262"/>
                    </a:lnTo>
                    <a:lnTo>
                      <a:pt x="151" y="270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6377040" y="310680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6" h="270">
                    <a:moveTo>
                      <a:pt x="152" y="270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6" y="262"/>
                    </a:lnTo>
                    <a:lnTo>
                      <a:pt x="152" y="270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6378480" y="3105000"/>
                <a:ext cx="52560" cy="87480"/>
              </a:xfrm>
              <a:custGeom>
                <a:avLst/>
                <a:gdLst/>
                <a:ahLst/>
                <a:rect l="l" t="t" r="r" b="b"/>
                <a:pathLst>
                  <a:path w="166" h="271">
                    <a:moveTo>
                      <a:pt x="151" y="271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6" y="263"/>
                    </a:lnTo>
                    <a:lnTo>
                      <a:pt x="151" y="271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6381720" y="310500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6" h="271">
                    <a:moveTo>
                      <a:pt x="151" y="271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6" y="262"/>
                    </a:lnTo>
                    <a:lnTo>
                      <a:pt x="151" y="271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6383160" y="310356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6" h="271">
                    <a:moveTo>
                      <a:pt x="152" y="271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6" y="262"/>
                    </a:lnTo>
                    <a:lnTo>
                      <a:pt x="152" y="271"/>
                    </a:lnTo>
                    <a:close/>
                  </a:path>
                </a:pathLst>
              </a:custGeom>
              <a:solidFill>
                <a:srgbClr val="a1b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6386400" y="3101760"/>
                <a:ext cx="52560" cy="86040"/>
              </a:xfrm>
              <a:custGeom>
                <a:avLst/>
                <a:gdLst/>
                <a:ahLst/>
                <a:rect l="l" t="t" r="r" b="b"/>
                <a:pathLst>
                  <a:path w="166" h="271">
                    <a:moveTo>
                      <a:pt x="151" y="271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6" y="263"/>
                    </a:lnTo>
                    <a:lnTo>
                      <a:pt x="151" y="271"/>
                    </a:lnTo>
                    <a:close/>
                  </a:path>
                </a:pathLst>
              </a:custGeom>
              <a:solidFill>
                <a:srgbClr val="a1b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387840" y="310032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6" h="272">
                    <a:moveTo>
                      <a:pt x="151" y="272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6" y="264"/>
                    </a:lnTo>
                    <a:lnTo>
                      <a:pt x="151" y="272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6389640" y="3098880"/>
                <a:ext cx="54000" cy="85680"/>
              </a:xfrm>
              <a:custGeom>
                <a:avLst/>
                <a:gdLst/>
                <a:ahLst/>
                <a:rect l="l" t="t" r="r" b="b"/>
                <a:pathLst>
                  <a:path w="166" h="272">
                    <a:moveTo>
                      <a:pt x="152" y="27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6" y="264"/>
                    </a:lnTo>
                    <a:lnTo>
                      <a:pt x="152" y="272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0" name=""/>
            <p:cNvGrpSpPr/>
            <p:nvPr/>
          </p:nvGrpSpPr>
          <p:grpSpPr>
            <a:xfrm>
              <a:off x="4244760" y="2865240"/>
              <a:ext cx="2535480" cy="1405080"/>
              <a:chOff x="4244760" y="2865240"/>
              <a:chExt cx="2535480" cy="1405080"/>
            </a:xfrm>
          </p:grpSpPr>
          <p:sp>
            <p:nvSpPr>
              <p:cNvPr id="2481" name=""/>
              <p:cNvSpPr/>
              <p:nvPr/>
            </p:nvSpPr>
            <p:spPr>
              <a:xfrm>
                <a:off x="6392880" y="3097080"/>
                <a:ext cx="52200" cy="87480"/>
              </a:xfrm>
              <a:custGeom>
                <a:avLst/>
                <a:gdLst/>
                <a:ahLst/>
                <a:rect l="l" t="t" r="r" b="b"/>
                <a:pathLst>
                  <a:path w="167" h="272">
                    <a:moveTo>
                      <a:pt x="152" y="272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7" y="263"/>
                    </a:lnTo>
                    <a:lnTo>
                      <a:pt x="152" y="272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394320" y="309564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67" h="272">
                    <a:moveTo>
                      <a:pt x="152" y="27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7" y="263"/>
                    </a:lnTo>
                    <a:lnTo>
                      <a:pt x="152" y="272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397560" y="3093840"/>
                <a:ext cx="52200" cy="87480"/>
              </a:xfrm>
              <a:custGeom>
                <a:avLst/>
                <a:gdLst/>
                <a:ahLst/>
                <a:rect l="l" t="t" r="r" b="b"/>
                <a:pathLst>
                  <a:path w="167" h="273">
                    <a:moveTo>
                      <a:pt x="153" y="273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7" y="265"/>
                    </a:lnTo>
                    <a:lnTo>
                      <a:pt x="153" y="273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399000" y="309240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68" h="273">
                    <a:moveTo>
                      <a:pt x="152" y="273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8" y="265"/>
                    </a:lnTo>
                    <a:lnTo>
                      <a:pt x="152" y="273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402240" y="309240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8" h="273">
                    <a:moveTo>
                      <a:pt x="152" y="273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8" y="265"/>
                    </a:lnTo>
                    <a:lnTo>
                      <a:pt x="152" y="273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404040" y="3090960"/>
                <a:ext cx="54000" cy="85680"/>
              </a:xfrm>
              <a:custGeom>
                <a:avLst/>
                <a:gdLst/>
                <a:ahLst/>
                <a:rect l="l" t="t" r="r" b="b"/>
                <a:pathLst>
                  <a:path w="168" h="273">
                    <a:moveTo>
                      <a:pt x="153" y="273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8" y="264"/>
                    </a:lnTo>
                    <a:lnTo>
                      <a:pt x="153" y="273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406920" y="3089160"/>
                <a:ext cx="52560" cy="87480"/>
              </a:xfrm>
              <a:custGeom>
                <a:avLst/>
                <a:gdLst/>
                <a:ahLst/>
                <a:rect l="l" t="t" r="r" b="b"/>
                <a:pathLst>
                  <a:path w="168" h="275">
                    <a:moveTo>
                      <a:pt x="153" y="275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8" y="266"/>
                    </a:lnTo>
                    <a:lnTo>
                      <a:pt x="153" y="275"/>
                    </a:lnTo>
                    <a:close/>
                  </a:path>
                </a:pathLst>
              </a:custGeom>
              <a:solidFill>
                <a:srgbClr val="a4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408720" y="308772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68" h="274">
                    <a:moveTo>
                      <a:pt x="154" y="274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8" y="266"/>
                    </a:lnTo>
                    <a:lnTo>
                      <a:pt x="154" y="274"/>
                    </a:lnTo>
                    <a:close/>
                  </a:path>
                </a:pathLst>
              </a:custGeom>
              <a:solidFill>
                <a:srgbClr val="a4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410160" y="308592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69" h="274">
                    <a:moveTo>
                      <a:pt x="154" y="274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9" y="266"/>
                    </a:lnTo>
                    <a:lnTo>
                      <a:pt x="154" y="274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413400" y="308448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69" h="275">
                    <a:moveTo>
                      <a:pt x="154" y="275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9" y="268"/>
                    </a:lnTo>
                    <a:lnTo>
                      <a:pt x="154" y="275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414840" y="308304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69" h="275">
                    <a:moveTo>
                      <a:pt x="155" y="275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9" y="267"/>
                    </a:lnTo>
                    <a:lnTo>
                      <a:pt x="155" y="275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418080" y="308124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69" h="277">
                    <a:moveTo>
                      <a:pt x="154" y="27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9" y="268"/>
                    </a:lnTo>
                    <a:lnTo>
                      <a:pt x="154" y="277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19880" y="307980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69" h="276">
                    <a:moveTo>
                      <a:pt x="154" y="27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9" y="268"/>
                    </a:lnTo>
                    <a:lnTo>
                      <a:pt x="154" y="276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23120" y="3078000"/>
                <a:ext cx="52200" cy="88920"/>
              </a:xfrm>
              <a:custGeom>
                <a:avLst/>
                <a:gdLst/>
                <a:ahLst/>
                <a:rect l="l" t="t" r="r" b="b"/>
                <a:pathLst>
                  <a:path w="169" h="277">
                    <a:moveTo>
                      <a:pt x="155" y="27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9" y="269"/>
                    </a:lnTo>
                    <a:lnTo>
                      <a:pt x="155" y="277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424560" y="307800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69" h="277">
                    <a:moveTo>
                      <a:pt x="154" y="277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69" y="269"/>
                    </a:lnTo>
                    <a:lnTo>
                      <a:pt x="154" y="277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427800" y="3076560"/>
                <a:ext cx="52200" cy="87120"/>
              </a:xfrm>
              <a:custGeom>
                <a:avLst/>
                <a:gdLst/>
                <a:ahLst/>
                <a:rect l="l" t="t" r="r" b="b"/>
                <a:pathLst>
                  <a:path w="169" h="277">
                    <a:moveTo>
                      <a:pt x="154" y="277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9" y="268"/>
                    </a:lnTo>
                    <a:lnTo>
                      <a:pt x="154" y="277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429240" y="307476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6" y="27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0" y="269"/>
                    </a:lnTo>
                    <a:lnTo>
                      <a:pt x="156" y="278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431040" y="3073320"/>
                <a:ext cx="53640" cy="8748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5" y="278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70" y="270"/>
                    </a:lnTo>
                    <a:lnTo>
                      <a:pt x="155" y="278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433920" y="307188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5" y="27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0" y="270"/>
                    </a:lnTo>
                    <a:lnTo>
                      <a:pt x="155" y="278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435720" y="307008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6" y="27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0" y="270"/>
                    </a:lnTo>
                    <a:lnTo>
                      <a:pt x="156" y="278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438960" y="306864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5" y="278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70" y="269"/>
                    </a:lnTo>
                    <a:lnTo>
                      <a:pt x="155" y="278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440400" y="306684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0" h="280">
                    <a:moveTo>
                      <a:pt x="155" y="280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0" y="271"/>
                    </a:lnTo>
                    <a:lnTo>
                      <a:pt x="155" y="28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43640" y="306540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1" h="279">
                    <a:moveTo>
                      <a:pt x="156" y="279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71" y="271"/>
                    </a:lnTo>
                    <a:lnTo>
                      <a:pt x="156" y="279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45080" y="306540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70" h="279">
                    <a:moveTo>
                      <a:pt x="155" y="279"/>
                    </a:moveTo>
                    <a:lnTo>
                      <a:pt x="0" y="8"/>
                    </a:lnTo>
                    <a:lnTo>
                      <a:pt x="13" y="0"/>
                    </a:lnTo>
                    <a:lnTo>
                      <a:pt x="170" y="271"/>
                    </a:lnTo>
                    <a:lnTo>
                      <a:pt x="155" y="279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446880" y="306396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1" h="279">
                    <a:moveTo>
                      <a:pt x="157" y="279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1" y="271"/>
                    </a:lnTo>
                    <a:lnTo>
                      <a:pt x="157" y="279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449760" y="306216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2" h="281">
                    <a:moveTo>
                      <a:pt x="157" y="281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2" y="272"/>
                    </a:lnTo>
                    <a:lnTo>
                      <a:pt x="157" y="28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451560" y="306072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1" h="281">
                    <a:moveTo>
                      <a:pt x="156" y="281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71" y="272"/>
                    </a:lnTo>
                    <a:lnTo>
                      <a:pt x="156" y="28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454800" y="305892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1" h="280">
                    <a:moveTo>
                      <a:pt x="157" y="280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1" y="272"/>
                    </a:lnTo>
                    <a:lnTo>
                      <a:pt x="157" y="28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456240" y="305748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2" h="281">
                    <a:moveTo>
                      <a:pt x="157" y="281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2" y="273"/>
                    </a:lnTo>
                    <a:lnTo>
                      <a:pt x="157" y="28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459480" y="305604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1" h="281">
                    <a:moveTo>
                      <a:pt x="156" y="281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1" y="273"/>
                    </a:lnTo>
                    <a:lnTo>
                      <a:pt x="156" y="28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460920" y="305424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71" h="282">
                    <a:moveTo>
                      <a:pt x="157" y="28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1" y="273"/>
                    </a:lnTo>
                    <a:lnTo>
                      <a:pt x="157" y="282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6464160" y="3052800"/>
                <a:ext cx="54000" cy="90360"/>
              </a:xfrm>
              <a:custGeom>
                <a:avLst/>
                <a:gdLst/>
                <a:ahLst/>
                <a:rect l="l" t="t" r="r" b="b"/>
                <a:pathLst>
                  <a:path w="172" h="282">
                    <a:moveTo>
                      <a:pt x="157" y="28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2" y="273"/>
                    </a:lnTo>
                    <a:lnTo>
                      <a:pt x="157" y="282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6465960" y="3051000"/>
                <a:ext cx="53640" cy="90720"/>
              </a:xfrm>
              <a:custGeom>
                <a:avLst/>
                <a:gdLst/>
                <a:ahLst/>
                <a:rect l="l" t="t" r="r" b="b"/>
                <a:pathLst>
                  <a:path w="172" h="282">
                    <a:moveTo>
                      <a:pt x="157" y="28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2" y="274"/>
                    </a:lnTo>
                    <a:lnTo>
                      <a:pt x="157" y="282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6467400" y="305100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2" h="282">
                    <a:moveTo>
                      <a:pt x="158" y="282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2" y="274"/>
                    </a:lnTo>
                    <a:lnTo>
                      <a:pt x="158" y="282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6470640" y="304956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4" h="282">
                    <a:moveTo>
                      <a:pt x="158" y="28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4" y="274"/>
                    </a:lnTo>
                    <a:lnTo>
                      <a:pt x="158" y="282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6472080" y="3048120"/>
                <a:ext cx="55800" cy="88560"/>
              </a:xfrm>
              <a:custGeom>
                <a:avLst/>
                <a:gdLst/>
                <a:ahLst/>
                <a:rect l="l" t="t" r="r" b="b"/>
                <a:pathLst>
                  <a:path w="173" h="283">
                    <a:moveTo>
                      <a:pt x="157" y="283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3" y="274"/>
                    </a:lnTo>
                    <a:lnTo>
                      <a:pt x="157" y="283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6475320" y="3046320"/>
                <a:ext cx="54000" cy="90360"/>
              </a:xfrm>
              <a:custGeom>
                <a:avLst/>
                <a:gdLst/>
                <a:ahLst/>
                <a:rect l="l" t="t" r="r" b="b"/>
                <a:pathLst>
                  <a:path w="173" h="284">
                    <a:moveTo>
                      <a:pt x="159" y="284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3" y="275"/>
                    </a:lnTo>
                    <a:lnTo>
                      <a:pt x="159" y="284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6476760" y="3044880"/>
                <a:ext cx="55800" cy="90360"/>
              </a:xfrm>
              <a:custGeom>
                <a:avLst/>
                <a:gdLst/>
                <a:ahLst/>
                <a:rect l="l" t="t" r="r" b="b"/>
                <a:pathLst>
                  <a:path w="173" h="283">
                    <a:moveTo>
                      <a:pt x="158" y="283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3" y="275"/>
                    </a:lnTo>
                    <a:lnTo>
                      <a:pt x="158" y="283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6480000" y="304308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73" h="283">
                    <a:moveTo>
                      <a:pt x="158" y="283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73" y="275"/>
                    </a:lnTo>
                    <a:lnTo>
                      <a:pt x="158" y="283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6481800" y="304164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4" h="284">
                    <a:moveTo>
                      <a:pt x="159" y="284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4" y="276"/>
                    </a:lnTo>
                    <a:lnTo>
                      <a:pt x="159" y="284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6484680" y="303984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74" h="285">
                    <a:moveTo>
                      <a:pt x="159" y="285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74" y="276"/>
                    </a:lnTo>
                    <a:lnTo>
                      <a:pt x="159" y="285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6486480" y="303840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4" h="285">
                    <a:moveTo>
                      <a:pt x="160" y="285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4" y="276"/>
                    </a:lnTo>
                    <a:lnTo>
                      <a:pt x="160" y="285"/>
                    </a:lnTo>
                    <a:close/>
                  </a:path>
                </a:pathLst>
              </a:custGeom>
              <a:solidFill>
                <a:srgbClr val="a3b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6487920" y="3038400"/>
                <a:ext cx="55800" cy="88920"/>
              </a:xfrm>
              <a:custGeom>
                <a:avLst/>
                <a:gdLst/>
                <a:ahLst/>
                <a:rect l="l" t="t" r="r" b="b"/>
                <a:pathLst>
                  <a:path w="175" h="284">
                    <a:moveTo>
                      <a:pt x="160" y="284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5" y="276"/>
                    </a:lnTo>
                    <a:lnTo>
                      <a:pt x="160" y="284"/>
                    </a:lnTo>
                    <a:close/>
                  </a:path>
                </a:pathLst>
              </a:custGeom>
              <a:solidFill>
                <a:srgbClr val="a3b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6491160" y="303696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4" h="285">
                    <a:moveTo>
                      <a:pt x="159" y="285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4" y="277"/>
                    </a:lnTo>
                    <a:lnTo>
                      <a:pt x="159" y="285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6492960" y="3035160"/>
                <a:ext cx="55440" cy="90720"/>
              </a:xfrm>
              <a:custGeom>
                <a:avLst/>
                <a:gdLst/>
                <a:ahLst/>
                <a:rect l="l" t="t" r="r" b="b"/>
                <a:pathLst>
                  <a:path w="174" h="286">
                    <a:moveTo>
                      <a:pt x="160" y="286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4" y="278"/>
                    </a:lnTo>
                    <a:lnTo>
                      <a:pt x="160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6495840" y="3033720"/>
                <a:ext cx="55800" cy="90360"/>
              </a:xfrm>
              <a:custGeom>
                <a:avLst/>
                <a:gdLst/>
                <a:ahLst/>
                <a:rect l="l" t="t" r="r" b="b"/>
                <a:pathLst>
                  <a:path w="175" h="286">
                    <a:moveTo>
                      <a:pt x="160" y="28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5" y="277"/>
                    </a:lnTo>
                    <a:lnTo>
                      <a:pt x="160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6497640" y="3031920"/>
                <a:ext cx="55440" cy="90720"/>
              </a:xfrm>
              <a:custGeom>
                <a:avLst/>
                <a:gdLst/>
                <a:ahLst/>
                <a:rect l="l" t="t" r="r" b="b"/>
                <a:pathLst>
                  <a:path w="174" h="286">
                    <a:moveTo>
                      <a:pt x="159" y="286"/>
                    </a:moveTo>
                    <a:lnTo>
                      <a:pt x="0" y="8"/>
                    </a:lnTo>
                    <a:lnTo>
                      <a:pt x="13" y="0"/>
                    </a:lnTo>
                    <a:lnTo>
                      <a:pt x="174" y="277"/>
                    </a:lnTo>
                    <a:lnTo>
                      <a:pt x="159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6500880" y="303048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4" h="286">
                    <a:moveTo>
                      <a:pt x="160" y="28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4" y="278"/>
                    </a:lnTo>
                    <a:lnTo>
                      <a:pt x="160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6502320" y="302904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6" h="286">
                    <a:moveTo>
                      <a:pt x="161" y="28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6" y="278"/>
                    </a:lnTo>
                    <a:lnTo>
                      <a:pt x="161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6505560" y="302724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5" h="287">
                    <a:moveTo>
                      <a:pt x="160" y="28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5" y="279"/>
                    </a:lnTo>
                    <a:lnTo>
                      <a:pt x="160" y="287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6507000" y="3025800"/>
                <a:ext cx="55800" cy="92160"/>
              </a:xfrm>
              <a:custGeom>
                <a:avLst/>
                <a:gdLst/>
                <a:ahLst/>
                <a:rect l="l" t="t" r="r" b="b"/>
                <a:pathLst>
                  <a:path w="175" h="287">
                    <a:moveTo>
                      <a:pt x="161" y="28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5" y="278"/>
                    </a:lnTo>
                    <a:lnTo>
                      <a:pt x="161" y="287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6508800" y="302400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76" h="288">
                    <a:moveTo>
                      <a:pt x="161" y="28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6" y="279"/>
                    </a:lnTo>
                    <a:lnTo>
                      <a:pt x="161" y="288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6511680" y="3024000"/>
                <a:ext cx="55800" cy="90720"/>
              </a:xfrm>
              <a:custGeom>
                <a:avLst/>
                <a:gdLst/>
                <a:ahLst/>
                <a:rect l="l" t="t" r="r" b="b"/>
                <a:pathLst>
                  <a:path w="175" h="287">
                    <a:moveTo>
                      <a:pt x="160" y="28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5" y="279"/>
                    </a:lnTo>
                    <a:lnTo>
                      <a:pt x="160" y="287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6513480" y="302256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5" h="288">
                    <a:moveTo>
                      <a:pt x="161" y="28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5" y="280"/>
                    </a:lnTo>
                    <a:lnTo>
                      <a:pt x="161" y="288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6516720" y="302112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6" h="288">
                    <a:moveTo>
                      <a:pt x="161" y="288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6" y="280"/>
                    </a:lnTo>
                    <a:lnTo>
                      <a:pt x="161" y="288"/>
                    </a:lnTo>
                    <a:close/>
                  </a:path>
                </a:pathLst>
              </a:custGeom>
              <a:solidFill>
                <a:srgbClr val="9fa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6518160" y="301932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5" h="289">
                    <a:moveTo>
                      <a:pt x="160" y="289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75" y="280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9fa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6521400" y="301788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6" h="289">
                    <a:moveTo>
                      <a:pt x="162" y="289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6" y="280"/>
                    </a:lnTo>
                    <a:lnTo>
                      <a:pt x="162" y="289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6522840" y="3016080"/>
                <a:ext cx="55800" cy="92160"/>
              </a:xfrm>
              <a:custGeom>
                <a:avLst/>
                <a:gdLst/>
                <a:ahLst/>
                <a:rect l="l" t="t" r="r" b="b"/>
                <a:pathLst>
                  <a:path w="177" h="288">
                    <a:moveTo>
                      <a:pt x="162" y="28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7" y="280"/>
                    </a:lnTo>
                    <a:lnTo>
                      <a:pt x="162" y="288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526080" y="301464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6" h="289">
                    <a:moveTo>
                      <a:pt x="161" y="289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6" y="281"/>
                    </a:lnTo>
                    <a:lnTo>
                      <a:pt x="161" y="289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6527880" y="3013200"/>
                <a:ext cx="55440" cy="91800"/>
              </a:xfrm>
              <a:custGeom>
                <a:avLst/>
                <a:gdLst/>
                <a:ahLst/>
                <a:rect l="l" t="t" r="r" b="b"/>
                <a:pathLst>
                  <a:path w="177" h="290">
                    <a:moveTo>
                      <a:pt x="162" y="290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7" y="282"/>
                    </a:lnTo>
                    <a:lnTo>
                      <a:pt x="162" y="290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6529320" y="301140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77" h="290">
                    <a:moveTo>
                      <a:pt x="162" y="290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7" y="281"/>
                    </a:lnTo>
                    <a:lnTo>
                      <a:pt x="162" y="290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6532560" y="301140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6" h="290">
                    <a:moveTo>
                      <a:pt x="162" y="290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6" y="281"/>
                    </a:lnTo>
                    <a:lnTo>
                      <a:pt x="162" y="290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534000" y="300996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77" h="290">
                    <a:moveTo>
                      <a:pt x="162" y="290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7" y="282"/>
                    </a:lnTo>
                    <a:lnTo>
                      <a:pt x="162" y="290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6537240" y="300816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6" h="291">
                    <a:moveTo>
                      <a:pt x="161" y="291"/>
                    </a:moveTo>
                    <a:lnTo>
                      <a:pt x="0" y="10"/>
                    </a:lnTo>
                    <a:lnTo>
                      <a:pt x="13" y="0"/>
                    </a:lnTo>
                    <a:lnTo>
                      <a:pt x="176" y="283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538680" y="30067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77" h="291">
                    <a:moveTo>
                      <a:pt x="163" y="291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7" y="283"/>
                    </a:lnTo>
                    <a:lnTo>
                      <a:pt x="163" y="291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6541920" y="3004920"/>
                <a:ext cx="55800" cy="92160"/>
              </a:xfrm>
              <a:custGeom>
                <a:avLst/>
                <a:gdLst/>
                <a:ahLst/>
                <a:rect l="l" t="t" r="r" b="b"/>
                <a:pathLst>
                  <a:path w="179" h="291">
                    <a:moveTo>
                      <a:pt x="163" y="291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9" y="282"/>
                    </a:lnTo>
                    <a:lnTo>
                      <a:pt x="163" y="291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6543720" y="300348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78" h="292">
                    <a:moveTo>
                      <a:pt x="162" y="29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8" y="283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6546600" y="3002040"/>
                <a:ext cx="55800" cy="91800"/>
              </a:xfrm>
              <a:custGeom>
                <a:avLst/>
                <a:gdLst/>
                <a:ahLst/>
                <a:rect l="l" t="t" r="r" b="b"/>
                <a:pathLst>
                  <a:path w="178" h="292">
                    <a:moveTo>
                      <a:pt x="164" y="292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8" y="284"/>
                    </a:lnTo>
                    <a:lnTo>
                      <a:pt x="164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6548400" y="3000240"/>
                <a:ext cx="57240" cy="93600"/>
              </a:xfrm>
              <a:custGeom>
                <a:avLst/>
                <a:gdLst/>
                <a:ahLst/>
                <a:rect l="l" t="t" r="r" b="b"/>
                <a:pathLst>
                  <a:path w="180" h="292">
                    <a:moveTo>
                      <a:pt x="164" y="292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80" y="286"/>
                    </a:lnTo>
                    <a:lnTo>
                      <a:pt x="177" y="285"/>
                    </a:lnTo>
                    <a:lnTo>
                      <a:pt x="164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6551640" y="300024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4" h="294">
                    <a:moveTo>
                      <a:pt x="163" y="291"/>
                    </a:moveTo>
                    <a:lnTo>
                      <a:pt x="0" y="7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4" y="294"/>
                    </a:lnTo>
                    <a:lnTo>
                      <a:pt x="169" y="288"/>
                    </a:lnTo>
                    <a:lnTo>
                      <a:pt x="163" y="291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6553080" y="30002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90" h="299">
                    <a:moveTo>
                      <a:pt x="165" y="289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9" y="2"/>
                    </a:lnTo>
                    <a:lnTo>
                      <a:pt x="190" y="299"/>
                    </a:lnTo>
                    <a:lnTo>
                      <a:pt x="165" y="289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556320" y="3000240"/>
                <a:ext cx="61920" cy="9684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169" y="294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196" y="305"/>
                    </a:lnTo>
                    <a:lnTo>
                      <a:pt x="169" y="294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6559560" y="3000240"/>
                <a:ext cx="61920" cy="98640"/>
              </a:xfrm>
              <a:custGeom>
                <a:avLst/>
                <a:gdLst/>
                <a:ahLst/>
                <a:rect l="l" t="t" r="r" b="b"/>
                <a:pathLst>
                  <a:path w="197" h="308">
                    <a:moveTo>
                      <a:pt x="171" y="297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197" y="308"/>
                    </a:lnTo>
                    <a:lnTo>
                      <a:pt x="171" y="297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562800" y="3000240"/>
                <a:ext cx="63360" cy="100080"/>
              </a:xfrm>
              <a:custGeom>
                <a:avLst/>
                <a:gdLst/>
                <a:ahLst/>
                <a:rect l="l" t="t" r="r" b="b"/>
                <a:pathLst>
                  <a:path w="200" h="312">
                    <a:moveTo>
                      <a:pt x="175" y="302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00" y="312"/>
                    </a:lnTo>
                    <a:lnTo>
                      <a:pt x="175" y="30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565680" y="3002040"/>
                <a:ext cx="63720" cy="99720"/>
              </a:xfrm>
              <a:custGeom>
                <a:avLst/>
                <a:gdLst/>
                <a:ahLst/>
                <a:rect l="l" t="t" r="r" b="b"/>
                <a:pathLst>
                  <a:path w="201" h="315">
                    <a:moveTo>
                      <a:pt x="176" y="305"/>
                    </a:moveTo>
                    <a:lnTo>
                      <a:pt x="0" y="0"/>
                    </a:lnTo>
                    <a:lnTo>
                      <a:pt x="22" y="4"/>
                    </a:lnTo>
                    <a:lnTo>
                      <a:pt x="201" y="315"/>
                    </a:lnTo>
                    <a:lnTo>
                      <a:pt x="176" y="305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568920" y="3002040"/>
                <a:ext cx="65160" cy="101520"/>
              </a:xfrm>
              <a:custGeom>
                <a:avLst/>
                <a:gdLst/>
                <a:ahLst/>
                <a:rect l="l" t="t" r="r" b="b"/>
                <a:pathLst>
                  <a:path w="205" h="320">
                    <a:moveTo>
                      <a:pt x="179" y="309"/>
                    </a:moveTo>
                    <a:lnTo>
                      <a:pt x="0" y="0"/>
                    </a:lnTo>
                    <a:lnTo>
                      <a:pt x="22" y="4"/>
                    </a:lnTo>
                    <a:lnTo>
                      <a:pt x="205" y="320"/>
                    </a:lnTo>
                    <a:lnTo>
                      <a:pt x="179" y="309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572160" y="3002040"/>
                <a:ext cx="66600" cy="102960"/>
              </a:xfrm>
              <a:custGeom>
                <a:avLst/>
                <a:gdLst/>
                <a:ahLst/>
                <a:rect l="l" t="t" r="r" b="b"/>
                <a:pathLst>
                  <a:path w="206" h="322">
                    <a:moveTo>
                      <a:pt x="179" y="311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06" y="322"/>
                    </a:lnTo>
                    <a:lnTo>
                      <a:pt x="179" y="311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6575400" y="3003480"/>
                <a:ext cx="66600" cy="103320"/>
              </a:xfrm>
              <a:custGeom>
                <a:avLst/>
                <a:gdLst/>
                <a:ahLst/>
                <a:rect l="l" t="t" r="r" b="b"/>
                <a:pathLst>
                  <a:path w="208" h="327">
                    <a:moveTo>
                      <a:pt x="183" y="316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08" y="327"/>
                    </a:lnTo>
                    <a:lnTo>
                      <a:pt x="183" y="316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580080" y="300348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210" h="330">
                    <a:moveTo>
                      <a:pt x="185" y="319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10" y="330"/>
                    </a:lnTo>
                    <a:lnTo>
                      <a:pt x="185" y="319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583320" y="3003480"/>
                <a:ext cx="66600" cy="106560"/>
              </a:xfrm>
              <a:custGeom>
                <a:avLst/>
                <a:gdLst/>
                <a:ahLst/>
                <a:rect l="l" t="t" r="r" b="b"/>
                <a:pathLst>
                  <a:path w="214" h="335">
                    <a:moveTo>
                      <a:pt x="187" y="324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14" y="335"/>
                    </a:lnTo>
                    <a:lnTo>
                      <a:pt x="187" y="324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6586560" y="3004920"/>
                <a:ext cx="68040" cy="106560"/>
              </a:xfrm>
              <a:custGeom>
                <a:avLst/>
                <a:gdLst/>
                <a:ahLst/>
                <a:rect l="l" t="t" r="r" b="b"/>
                <a:pathLst>
                  <a:path w="215" h="338">
                    <a:moveTo>
                      <a:pt x="189" y="327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15" y="338"/>
                    </a:lnTo>
                    <a:lnTo>
                      <a:pt x="189" y="327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6589800" y="3004920"/>
                <a:ext cx="68040" cy="108000"/>
              </a:xfrm>
              <a:custGeom>
                <a:avLst/>
                <a:gdLst/>
                <a:ahLst/>
                <a:rect l="l" t="t" r="r" b="b"/>
                <a:pathLst>
                  <a:path w="217" h="342">
                    <a:moveTo>
                      <a:pt x="192" y="332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17" y="342"/>
                    </a:lnTo>
                    <a:lnTo>
                      <a:pt x="192" y="332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6592680" y="3004920"/>
                <a:ext cx="69840" cy="109800"/>
              </a:xfrm>
              <a:custGeom>
                <a:avLst/>
                <a:gdLst/>
                <a:ahLst/>
                <a:rect l="l" t="t" r="r" b="b"/>
                <a:pathLst>
                  <a:path w="219" h="345">
                    <a:moveTo>
                      <a:pt x="193" y="335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19" y="345"/>
                    </a:lnTo>
                    <a:lnTo>
                      <a:pt x="193" y="335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595920" y="3004920"/>
                <a:ext cx="71640" cy="111240"/>
              </a:xfrm>
              <a:custGeom>
                <a:avLst/>
                <a:gdLst/>
                <a:ahLst/>
                <a:rect l="l" t="t" r="r" b="b"/>
                <a:pathLst>
                  <a:path w="222" h="350">
                    <a:moveTo>
                      <a:pt x="196" y="339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22" y="350"/>
                    </a:lnTo>
                    <a:lnTo>
                      <a:pt x="196" y="339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6599160" y="3006720"/>
                <a:ext cx="71280" cy="111240"/>
              </a:xfrm>
              <a:custGeom>
                <a:avLst/>
                <a:gdLst/>
                <a:ahLst/>
                <a:rect l="l" t="t" r="r" b="b"/>
                <a:pathLst>
                  <a:path w="224" h="353">
                    <a:moveTo>
                      <a:pt x="198" y="342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24" y="353"/>
                    </a:lnTo>
                    <a:lnTo>
                      <a:pt x="198" y="342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6602400" y="3006720"/>
                <a:ext cx="73080" cy="112680"/>
              </a:xfrm>
              <a:custGeom>
                <a:avLst/>
                <a:gdLst/>
                <a:ahLst/>
                <a:rect l="l" t="t" r="r" b="b"/>
                <a:pathLst>
                  <a:path w="226" h="357">
                    <a:moveTo>
                      <a:pt x="201" y="347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26" y="357"/>
                    </a:lnTo>
                    <a:lnTo>
                      <a:pt x="201" y="347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607080" y="3006720"/>
                <a:ext cx="71280" cy="114120"/>
              </a:xfrm>
              <a:custGeom>
                <a:avLst/>
                <a:gdLst/>
                <a:ahLst/>
                <a:rect l="l" t="t" r="r" b="b"/>
                <a:pathLst>
                  <a:path w="228" h="360">
                    <a:moveTo>
                      <a:pt x="202" y="350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28" y="360"/>
                    </a:lnTo>
                    <a:lnTo>
                      <a:pt x="202" y="350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610320" y="3008160"/>
                <a:ext cx="73080" cy="115920"/>
              </a:xfrm>
              <a:custGeom>
                <a:avLst/>
                <a:gdLst/>
                <a:ahLst/>
                <a:rect l="l" t="t" r="r" b="b"/>
                <a:pathLst>
                  <a:path w="230" h="365">
                    <a:moveTo>
                      <a:pt x="204" y="354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30" y="365"/>
                    </a:lnTo>
                    <a:lnTo>
                      <a:pt x="204" y="35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6613560" y="3008160"/>
                <a:ext cx="73080" cy="117720"/>
              </a:xfrm>
              <a:custGeom>
                <a:avLst/>
                <a:gdLst/>
                <a:ahLst/>
                <a:rect l="l" t="t" r="r" b="b"/>
                <a:pathLst>
                  <a:path w="232" h="368">
                    <a:moveTo>
                      <a:pt x="207" y="357"/>
                    </a:moveTo>
                    <a:lnTo>
                      <a:pt x="0" y="0"/>
                    </a:lnTo>
                    <a:lnTo>
                      <a:pt x="22" y="4"/>
                    </a:lnTo>
                    <a:lnTo>
                      <a:pt x="232" y="368"/>
                    </a:lnTo>
                    <a:lnTo>
                      <a:pt x="207" y="357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616440" y="3008160"/>
                <a:ext cx="74880" cy="119160"/>
              </a:xfrm>
              <a:custGeom>
                <a:avLst/>
                <a:gdLst/>
                <a:ahLst/>
                <a:rect l="l" t="t" r="r" b="b"/>
                <a:pathLst>
                  <a:path w="235" h="373">
                    <a:moveTo>
                      <a:pt x="209" y="362"/>
                    </a:moveTo>
                    <a:lnTo>
                      <a:pt x="0" y="0"/>
                    </a:lnTo>
                    <a:lnTo>
                      <a:pt x="23" y="4"/>
                    </a:lnTo>
                    <a:lnTo>
                      <a:pt x="235" y="373"/>
                    </a:lnTo>
                    <a:lnTo>
                      <a:pt x="209" y="362"/>
                    </a:lnTo>
                    <a:close/>
                  </a:path>
                </a:pathLst>
              </a:custGeom>
              <a:solidFill>
                <a:srgbClr val="a1a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6619680" y="3009960"/>
                <a:ext cx="76320" cy="118800"/>
              </a:xfrm>
              <a:custGeom>
                <a:avLst/>
                <a:gdLst/>
                <a:ahLst/>
                <a:rect l="l" t="t" r="r" b="b"/>
                <a:pathLst>
                  <a:path w="236" h="375">
                    <a:moveTo>
                      <a:pt x="210" y="364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36" y="375"/>
                    </a:lnTo>
                    <a:lnTo>
                      <a:pt x="210" y="364"/>
                    </a:lnTo>
                    <a:close/>
                  </a:path>
                </a:pathLst>
              </a:custGeom>
              <a:solidFill>
                <a:srgbClr val="a1a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6624720" y="3009960"/>
                <a:ext cx="74520" cy="120600"/>
              </a:xfrm>
              <a:custGeom>
                <a:avLst/>
                <a:gdLst/>
                <a:ahLst/>
                <a:rect l="l" t="t" r="r" b="b"/>
                <a:pathLst>
                  <a:path w="238" h="380">
                    <a:moveTo>
                      <a:pt x="212" y="369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38" y="380"/>
                    </a:lnTo>
                    <a:lnTo>
                      <a:pt x="212" y="369"/>
                    </a:lnTo>
                    <a:close/>
                  </a:path>
                </a:pathLst>
              </a:custGeom>
              <a:solidFill>
                <a:srgbClr val="a1a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627600" y="3009960"/>
                <a:ext cx="76320" cy="122040"/>
              </a:xfrm>
              <a:custGeom>
                <a:avLst/>
                <a:gdLst/>
                <a:ahLst/>
                <a:rect l="l" t="t" r="r" b="b"/>
                <a:pathLst>
                  <a:path w="241" h="383">
                    <a:moveTo>
                      <a:pt x="215" y="372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41" y="383"/>
                    </a:lnTo>
                    <a:lnTo>
                      <a:pt x="215" y="372"/>
                    </a:lnTo>
                    <a:close/>
                  </a:path>
                </a:pathLst>
              </a:custGeom>
              <a:solidFill>
                <a:srgbClr val="a1a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630840" y="301140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243" h="387">
                    <a:moveTo>
                      <a:pt x="217" y="377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43" y="387"/>
                    </a:lnTo>
                    <a:lnTo>
                      <a:pt x="217" y="377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634080" y="3011400"/>
                <a:ext cx="77760" cy="123840"/>
              </a:xfrm>
              <a:custGeom>
                <a:avLst/>
                <a:gdLst/>
                <a:ahLst/>
                <a:rect l="l" t="t" r="r" b="b"/>
                <a:pathLst>
                  <a:path w="246" h="390">
                    <a:moveTo>
                      <a:pt x="220" y="380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46" y="390"/>
                    </a:lnTo>
                    <a:lnTo>
                      <a:pt x="220" y="380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637320" y="3011400"/>
                <a:ext cx="77760" cy="125280"/>
              </a:xfrm>
              <a:custGeom>
                <a:avLst/>
                <a:gdLst/>
                <a:ahLst/>
                <a:rect l="l" t="t" r="r" b="b"/>
                <a:pathLst>
                  <a:path w="244" h="393">
                    <a:moveTo>
                      <a:pt x="221" y="384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44" y="391"/>
                    </a:lnTo>
                    <a:lnTo>
                      <a:pt x="241" y="393"/>
                    </a:lnTo>
                    <a:lnTo>
                      <a:pt x="221" y="384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640560" y="3013200"/>
                <a:ext cx="77760" cy="123480"/>
              </a:xfrm>
              <a:custGeom>
                <a:avLst/>
                <a:gdLst/>
                <a:ahLst/>
                <a:rect l="l" t="t" r="r" b="b"/>
                <a:pathLst>
                  <a:path w="242" h="391">
                    <a:moveTo>
                      <a:pt x="224" y="387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42" y="384"/>
                    </a:lnTo>
                    <a:lnTo>
                      <a:pt x="231" y="391"/>
                    </a:lnTo>
                    <a:lnTo>
                      <a:pt x="224" y="387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643440" y="3013200"/>
                <a:ext cx="76320" cy="122040"/>
              </a:xfrm>
              <a:custGeom>
                <a:avLst/>
                <a:gdLst/>
                <a:ahLst/>
                <a:rect l="l" t="t" r="r" b="b"/>
                <a:pathLst>
                  <a:path w="238" h="388">
                    <a:moveTo>
                      <a:pt x="223" y="388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38" y="379"/>
                    </a:lnTo>
                    <a:lnTo>
                      <a:pt x="223" y="388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6646680" y="301320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235" h="381">
                    <a:moveTo>
                      <a:pt x="221" y="381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35" y="373"/>
                    </a:lnTo>
                    <a:lnTo>
                      <a:pt x="221" y="381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651720" y="3013200"/>
                <a:ext cx="72720" cy="120600"/>
              </a:xfrm>
              <a:custGeom>
                <a:avLst/>
                <a:gdLst/>
                <a:ahLst/>
                <a:rect l="l" t="t" r="r" b="b"/>
                <a:pathLst>
                  <a:path w="232" h="377">
                    <a:moveTo>
                      <a:pt x="217" y="377"/>
                    </a:moveTo>
                    <a:lnTo>
                      <a:pt x="0" y="1"/>
                    </a:lnTo>
                    <a:lnTo>
                      <a:pt x="13" y="3"/>
                    </a:lnTo>
                    <a:lnTo>
                      <a:pt x="18" y="0"/>
                    </a:lnTo>
                    <a:lnTo>
                      <a:pt x="232" y="369"/>
                    </a:lnTo>
                    <a:lnTo>
                      <a:pt x="217" y="377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6654600" y="3013200"/>
                <a:ext cx="71640" cy="118800"/>
              </a:xfrm>
              <a:custGeom>
                <a:avLst/>
                <a:gdLst/>
                <a:ahLst/>
                <a:rect l="l" t="t" r="r" b="b"/>
                <a:pathLst>
                  <a:path w="228" h="376">
                    <a:moveTo>
                      <a:pt x="213" y="37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16" y="0"/>
                    </a:lnTo>
                    <a:lnTo>
                      <a:pt x="228" y="368"/>
                    </a:lnTo>
                    <a:lnTo>
                      <a:pt x="213" y="376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6656400" y="3011400"/>
                <a:ext cx="73080" cy="119160"/>
              </a:xfrm>
              <a:custGeom>
                <a:avLst/>
                <a:gdLst/>
                <a:ahLst/>
                <a:rect l="l" t="t" r="r" b="b"/>
                <a:pathLst>
                  <a:path w="228" h="376">
                    <a:moveTo>
                      <a:pt x="214" y="376"/>
                    </a:moveTo>
                    <a:lnTo>
                      <a:pt x="0" y="7"/>
                    </a:lnTo>
                    <a:lnTo>
                      <a:pt x="16" y="0"/>
                    </a:lnTo>
                    <a:lnTo>
                      <a:pt x="228" y="367"/>
                    </a:lnTo>
                    <a:lnTo>
                      <a:pt x="214" y="376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659640" y="3009960"/>
                <a:ext cx="71280" cy="118800"/>
              </a:xfrm>
              <a:custGeom>
                <a:avLst/>
                <a:gdLst/>
                <a:ahLst/>
                <a:rect l="l" t="t" r="r" b="b"/>
                <a:pathLst>
                  <a:path w="227" h="376">
                    <a:moveTo>
                      <a:pt x="212" y="37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7" y="367"/>
                    </a:lnTo>
                    <a:lnTo>
                      <a:pt x="212" y="376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661080" y="3008160"/>
                <a:ext cx="73080" cy="119160"/>
              </a:xfrm>
              <a:custGeom>
                <a:avLst/>
                <a:gdLst/>
                <a:ahLst/>
                <a:rect l="l" t="t" r="r" b="b"/>
                <a:pathLst>
                  <a:path w="227" h="376">
                    <a:moveTo>
                      <a:pt x="212" y="37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227" y="368"/>
                    </a:lnTo>
                    <a:lnTo>
                      <a:pt x="212" y="376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6664320" y="300672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6" h="375">
                    <a:moveTo>
                      <a:pt x="212" y="375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226" y="367"/>
                    </a:lnTo>
                    <a:lnTo>
                      <a:pt x="212" y="375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6665760" y="3006720"/>
                <a:ext cx="73080" cy="119160"/>
              </a:xfrm>
              <a:custGeom>
                <a:avLst/>
                <a:gdLst/>
                <a:ahLst/>
                <a:rect l="l" t="t" r="r" b="b"/>
                <a:pathLst>
                  <a:path w="227" h="375">
                    <a:moveTo>
                      <a:pt x="212" y="375"/>
                    </a:moveTo>
                    <a:lnTo>
                      <a:pt x="0" y="7"/>
                    </a:lnTo>
                    <a:lnTo>
                      <a:pt x="16" y="0"/>
                    </a:lnTo>
                    <a:lnTo>
                      <a:pt x="227" y="367"/>
                    </a:lnTo>
                    <a:lnTo>
                      <a:pt x="212" y="37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669000" y="300492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7" h="375">
                    <a:moveTo>
                      <a:pt x="212" y="375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27" y="366"/>
                    </a:lnTo>
                    <a:lnTo>
                      <a:pt x="212" y="37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672240" y="300348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5" h="374">
                    <a:moveTo>
                      <a:pt x="211" y="374"/>
                    </a:moveTo>
                    <a:lnTo>
                      <a:pt x="0" y="7"/>
                    </a:lnTo>
                    <a:lnTo>
                      <a:pt x="14" y="0"/>
                    </a:lnTo>
                    <a:lnTo>
                      <a:pt x="225" y="365"/>
                    </a:lnTo>
                    <a:lnTo>
                      <a:pt x="211" y="37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6673680" y="3002040"/>
                <a:ext cx="71640" cy="118800"/>
              </a:xfrm>
              <a:custGeom>
                <a:avLst/>
                <a:gdLst/>
                <a:ahLst/>
                <a:rect l="l" t="t" r="r" b="b"/>
                <a:pathLst>
                  <a:path w="226" h="373">
                    <a:moveTo>
                      <a:pt x="211" y="373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226" y="365"/>
                    </a:lnTo>
                    <a:lnTo>
                      <a:pt x="211" y="373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675480" y="3000240"/>
                <a:ext cx="72720" cy="119160"/>
              </a:xfrm>
              <a:custGeom>
                <a:avLst/>
                <a:gdLst/>
                <a:ahLst/>
                <a:rect l="l" t="t" r="r" b="b"/>
                <a:pathLst>
                  <a:path w="226" h="374">
                    <a:moveTo>
                      <a:pt x="211" y="374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226" y="366"/>
                    </a:lnTo>
                    <a:lnTo>
                      <a:pt x="211" y="37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678360" y="3000240"/>
                <a:ext cx="71640" cy="117720"/>
              </a:xfrm>
              <a:custGeom>
                <a:avLst/>
                <a:gdLst/>
                <a:ahLst/>
                <a:rect l="l" t="t" r="r" b="b"/>
                <a:pathLst>
                  <a:path w="226" h="373">
                    <a:moveTo>
                      <a:pt x="211" y="373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6" y="365"/>
                    </a:lnTo>
                    <a:lnTo>
                      <a:pt x="211" y="373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680160" y="2998800"/>
                <a:ext cx="73080" cy="119160"/>
              </a:xfrm>
              <a:custGeom>
                <a:avLst/>
                <a:gdLst/>
                <a:ahLst/>
                <a:rect l="l" t="t" r="r" b="b"/>
                <a:pathLst>
                  <a:path w="226" h="373">
                    <a:moveTo>
                      <a:pt x="211" y="373"/>
                    </a:moveTo>
                    <a:lnTo>
                      <a:pt x="0" y="7"/>
                    </a:lnTo>
                    <a:lnTo>
                      <a:pt x="16" y="0"/>
                    </a:lnTo>
                    <a:lnTo>
                      <a:pt x="226" y="364"/>
                    </a:lnTo>
                    <a:lnTo>
                      <a:pt x="211" y="373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6683400" y="29970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5" h="373">
                    <a:moveTo>
                      <a:pt x="211" y="373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5" y="364"/>
                    </a:lnTo>
                    <a:lnTo>
                      <a:pt x="211" y="373"/>
                    </a:lnTo>
                    <a:close/>
                  </a:path>
                </a:pathLst>
              </a:custGeom>
              <a:solidFill>
                <a:srgbClr val="a3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686640" y="299556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5" h="372">
                    <a:moveTo>
                      <a:pt x="210" y="37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5" y="364"/>
                    </a:lnTo>
                    <a:lnTo>
                      <a:pt x="210" y="372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688080" y="2995560"/>
                <a:ext cx="71280" cy="117360"/>
              </a:xfrm>
              <a:custGeom>
                <a:avLst/>
                <a:gdLst/>
                <a:ahLst/>
                <a:rect l="l" t="t" r="r" b="b"/>
                <a:pathLst>
                  <a:path w="225" h="372">
                    <a:moveTo>
                      <a:pt x="210" y="37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5" y="364"/>
                    </a:lnTo>
                    <a:lnTo>
                      <a:pt x="210" y="372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6691320" y="2994120"/>
                <a:ext cx="69840" cy="117360"/>
              </a:xfrm>
              <a:custGeom>
                <a:avLst/>
                <a:gdLst/>
                <a:ahLst/>
                <a:rect l="l" t="t" r="r" b="b"/>
                <a:pathLst>
                  <a:path w="224" h="372">
                    <a:moveTo>
                      <a:pt x="210" y="37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4" y="362"/>
                    </a:lnTo>
                    <a:lnTo>
                      <a:pt x="210" y="372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692760" y="2992320"/>
                <a:ext cx="71640" cy="117720"/>
              </a:xfrm>
              <a:custGeom>
                <a:avLst/>
                <a:gdLst/>
                <a:ahLst/>
                <a:rect l="l" t="t" r="r" b="b"/>
                <a:pathLst>
                  <a:path w="225" h="372">
                    <a:moveTo>
                      <a:pt x="210" y="372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25" y="362"/>
                    </a:lnTo>
                    <a:lnTo>
                      <a:pt x="210" y="372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6696000" y="2990880"/>
                <a:ext cx="69840" cy="117360"/>
              </a:xfrm>
              <a:custGeom>
                <a:avLst/>
                <a:gdLst/>
                <a:ahLst/>
                <a:rect l="l" t="t" r="r" b="b"/>
                <a:pathLst>
                  <a:path w="224" h="369">
                    <a:moveTo>
                      <a:pt x="209" y="369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224" y="361"/>
                    </a:lnTo>
                    <a:lnTo>
                      <a:pt x="209" y="369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6697440" y="2990880"/>
                <a:ext cx="71640" cy="115920"/>
              </a:xfrm>
              <a:custGeom>
                <a:avLst/>
                <a:gdLst/>
                <a:ahLst/>
                <a:rect l="l" t="t" r="r" b="b"/>
                <a:pathLst>
                  <a:path w="223" h="369">
                    <a:moveTo>
                      <a:pt x="209" y="369"/>
                    </a:moveTo>
                    <a:lnTo>
                      <a:pt x="0" y="7"/>
                    </a:lnTo>
                    <a:lnTo>
                      <a:pt x="14" y="0"/>
                    </a:lnTo>
                    <a:lnTo>
                      <a:pt x="223" y="361"/>
                    </a:lnTo>
                    <a:lnTo>
                      <a:pt x="209" y="369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700680" y="2989080"/>
                <a:ext cx="69840" cy="117720"/>
              </a:xfrm>
              <a:custGeom>
                <a:avLst/>
                <a:gdLst/>
                <a:ahLst/>
                <a:rect l="l" t="t" r="r" b="b"/>
                <a:pathLst>
                  <a:path w="224" h="370">
                    <a:moveTo>
                      <a:pt x="209" y="370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224" y="362"/>
                    </a:lnTo>
                    <a:lnTo>
                      <a:pt x="209" y="370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6702480" y="2987640"/>
                <a:ext cx="71280" cy="117360"/>
              </a:xfrm>
              <a:custGeom>
                <a:avLst/>
                <a:gdLst/>
                <a:ahLst/>
                <a:rect l="l" t="t" r="r" b="b"/>
                <a:pathLst>
                  <a:path w="224" h="369">
                    <a:moveTo>
                      <a:pt x="209" y="369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24" y="360"/>
                    </a:lnTo>
                    <a:lnTo>
                      <a:pt x="209" y="369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705360" y="2986200"/>
                <a:ext cx="69840" cy="117360"/>
              </a:xfrm>
              <a:custGeom>
                <a:avLst/>
                <a:gdLst/>
                <a:ahLst/>
                <a:rect l="l" t="t" r="r" b="b"/>
                <a:pathLst>
                  <a:path w="223" h="369">
                    <a:moveTo>
                      <a:pt x="209" y="369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223" y="360"/>
                    </a:lnTo>
                    <a:lnTo>
                      <a:pt x="209" y="369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6707160" y="2984400"/>
                <a:ext cx="71280" cy="117360"/>
              </a:xfrm>
              <a:custGeom>
                <a:avLst/>
                <a:gdLst/>
                <a:ahLst/>
                <a:rect l="l" t="t" r="r" b="b"/>
                <a:pathLst>
                  <a:path w="223" h="368">
                    <a:moveTo>
                      <a:pt x="208" y="36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3" y="360"/>
                    </a:lnTo>
                    <a:lnTo>
                      <a:pt x="208" y="368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6710400" y="2984400"/>
                <a:ext cx="68040" cy="115920"/>
              </a:xfrm>
              <a:custGeom>
                <a:avLst/>
                <a:gdLst/>
                <a:ahLst/>
                <a:rect l="l" t="t" r="r" b="b"/>
                <a:pathLst>
                  <a:path w="219" h="368">
                    <a:moveTo>
                      <a:pt x="208" y="36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08" y="335"/>
                    </a:lnTo>
                    <a:lnTo>
                      <a:pt x="219" y="362"/>
                    </a:lnTo>
                    <a:lnTo>
                      <a:pt x="208" y="368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711840" y="2982960"/>
                <a:ext cx="66600" cy="115920"/>
              </a:xfrm>
              <a:custGeom>
                <a:avLst/>
                <a:gdLst/>
                <a:ahLst/>
                <a:rect l="l" t="t" r="r" b="b"/>
                <a:pathLst>
                  <a:path w="211" h="367">
                    <a:moveTo>
                      <a:pt x="208" y="367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180" y="286"/>
                    </a:lnTo>
                    <a:lnTo>
                      <a:pt x="211" y="365"/>
                    </a:lnTo>
                    <a:lnTo>
                      <a:pt x="208" y="367"/>
                    </a:lnTo>
                    <a:close/>
                  </a:path>
                </a:pathLst>
              </a:custGeom>
              <a:solidFill>
                <a:srgbClr val="9fa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6715080" y="2981160"/>
                <a:ext cx="60120" cy="109800"/>
              </a:xfrm>
              <a:custGeom>
                <a:avLst/>
                <a:gdLst/>
                <a:ahLst/>
                <a:rect l="l" t="t" r="r" b="b"/>
                <a:pathLst>
                  <a:path w="193" h="343">
                    <a:moveTo>
                      <a:pt x="193" y="343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153" y="240"/>
                    </a:lnTo>
                    <a:lnTo>
                      <a:pt x="193" y="343"/>
                    </a:lnTo>
                    <a:close/>
                  </a:path>
                </a:pathLst>
              </a:custGeom>
              <a:solidFill>
                <a:srgbClr val="9fa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716520" y="297972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165" h="295">
                    <a:moveTo>
                      <a:pt x="165" y="295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26" y="192"/>
                    </a:lnTo>
                    <a:lnTo>
                      <a:pt x="165" y="295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6719760" y="2979720"/>
                <a:ext cx="42840" cy="77760"/>
              </a:xfrm>
              <a:custGeom>
                <a:avLst/>
                <a:gdLst/>
                <a:ahLst/>
                <a:rect l="l" t="t" r="r" b="b"/>
                <a:pathLst>
                  <a:path w="137" h="247">
                    <a:moveTo>
                      <a:pt x="137" y="247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66" y="88"/>
                    </a:lnTo>
                    <a:lnTo>
                      <a:pt x="112" y="182"/>
                    </a:lnTo>
                    <a:lnTo>
                      <a:pt x="137" y="247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6721560" y="2978280"/>
                <a:ext cx="34920" cy="63360"/>
              </a:xfrm>
              <a:custGeom>
                <a:avLst/>
                <a:gdLst/>
                <a:ahLst/>
                <a:rect l="l" t="t" r="r" b="b"/>
                <a:pathLst>
                  <a:path w="111" h="198">
                    <a:moveTo>
                      <a:pt x="111" y="198"/>
                    </a:moveTo>
                    <a:lnTo>
                      <a:pt x="0" y="6"/>
                    </a:lnTo>
                    <a:lnTo>
                      <a:pt x="13" y="0"/>
                    </a:lnTo>
                    <a:lnTo>
                      <a:pt x="105" y="185"/>
                    </a:lnTo>
                    <a:lnTo>
                      <a:pt x="111" y="198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724440" y="297828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51" h="91">
                    <a:moveTo>
                      <a:pt x="51" y="91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51" y="91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4244760" y="3828960"/>
                <a:ext cx="986040" cy="441360"/>
              </a:xfrm>
              <a:custGeom>
                <a:avLst/>
                <a:gdLst/>
                <a:ahLst/>
                <a:rect l="l" t="t" r="r" b="b"/>
                <a:pathLst>
                  <a:path w="3108" h="1390">
                    <a:moveTo>
                      <a:pt x="2864" y="0"/>
                    </a:moveTo>
                    <a:lnTo>
                      <a:pt x="1426" y="840"/>
                    </a:lnTo>
                    <a:lnTo>
                      <a:pt x="0" y="1300"/>
                    </a:lnTo>
                    <a:lnTo>
                      <a:pt x="52" y="1390"/>
                    </a:lnTo>
                    <a:lnTo>
                      <a:pt x="1597" y="1105"/>
                    </a:lnTo>
                    <a:lnTo>
                      <a:pt x="3108" y="233"/>
                    </a:lnTo>
                    <a:lnTo>
                      <a:pt x="2864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H="1">
                <a:off x="5476320" y="3282840"/>
                <a:ext cx="793800" cy="46044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00720" y="2975040"/>
                <a:ext cx="479520" cy="295200"/>
              </a:xfrm>
              <a:custGeom>
                <a:avLst/>
                <a:gdLst/>
                <a:ahLst/>
                <a:rect l="l" t="t" r="r" b="b"/>
                <a:pathLst>
                  <a:path w="1511" h="930">
                    <a:moveTo>
                      <a:pt x="1337" y="0"/>
                    </a:moveTo>
                    <a:lnTo>
                      <a:pt x="1431" y="198"/>
                    </a:lnTo>
                    <a:lnTo>
                      <a:pt x="1511" y="398"/>
                    </a:lnTo>
                    <a:lnTo>
                      <a:pt x="1313" y="513"/>
                    </a:lnTo>
                    <a:lnTo>
                      <a:pt x="964" y="373"/>
                    </a:lnTo>
                    <a:lnTo>
                      <a:pt x="0" y="93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6164280" y="296388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41" h="61">
                    <a:moveTo>
                      <a:pt x="5" y="0"/>
                    </a:moveTo>
                    <a:lnTo>
                      <a:pt x="41" y="61"/>
                    </a:lnTo>
                    <a:lnTo>
                      <a:pt x="16" y="53"/>
                    </a:lnTo>
                    <a:lnTo>
                      <a:pt x="0" y="2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165720" y="296064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50" h="76">
                    <a:moveTo>
                      <a:pt x="26" y="68"/>
                    </a:moveTo>
                    <a:lnTo>
                      <a:pt x="0" y="24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50" y="76"/>
                    </a:lnTo>
                    <a:lnTo>
                      <a:pt x="46" y="76"/>
                    </a:lnTo>
                    <a:lnTo>
                      <a:pt x="26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165720" y="295740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57" h="85">
                    <a:moveTo>
                      <a:pt x="36" y="82"/>
                    </a:moveTo>
                    <a:lnTo>
                      <a:pt x="0" y="21"/>
                    </a:lnTo>
                    <a:lnTo>
                      <a:pt x="1" y="12"/>
                    </a:lnTo>
                    <a:lnTo>
                      <a:pt x="8" y="0"/>
                    </a:lnTo>
                    <a:lnTo>
                      <a:pt x="57" y="85"/>
                    </a:lnTo>
                    <a:lnTo>
                      <a:pt x="43" y="85"/>
                    </a:lnTo>
                    <a:lnTo>
                      <a:pt x="36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167520" y="295416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64" h="95">
                    <a:moveTo>
                      <a:pt x="44" y="95"/>
                    </a:moveTo>
                    <a:lnTo>
                      <a:pt x="0" y="19"/>
                    </a:lnTo>
                    <a:lnTo>
                      <a:pt x="9" y="0"/>
                    </a:lnTo>
                    <a:lnTo>
                      <a:pt x="64" y="95"/>
                    </a:lnTo>
                    <a:lnTo>
                      <a:pt x="44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168960" y="295272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68" h="102">
                    <a:moveTo>
                      <a:pt x="49" y="102"/>
                    </a:moveTo>
                    <a:lnTo>
                      <a:pt x="0" y="17"/>
                    </a:lnTo>
                    <a:lnTo>
                      <a:pt x="8" y="2"/>
                    </a:lnTo>
                    <a:lnTo>
                      <a:pt x="10" y="0"/>
                    </a:lnTo>
                    <a:lnTo>
                      <a:pt x="68" y="102"/>
                    </a:lnTo>
                    <a:lnTo>
                      <a:pt x="49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6170400" y="29494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73" h="108">
                    <a:moveTo>
                      <a:pt x="55" y="108"/>
                    </a:moveTo>
                    <a:lnTo>
                      <a:pt x="0" y="13"/>
                    </a:lnTo>
                    <a:lnTo>
                      <a:pt x="4" y="8"/>
                    </a:lnTo>
                    <a:lnTo>
                      <a:pt x="13" y="0"/>
                    </a:lnTo>
                    <a:lnTo>
                      <a:pt x="73" y="105"/>
                    </a:lnTo>
                    <a:lnTo>
                      <a:pt x="68" y="108"/>
                    </a:lnTo>
                    <a:lnTo>
                      <a:pt x="55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172200" y="29480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4" h="114">
                    <a:moveTo>
                      <a:pt x="58" y="114"/>
                    </a:moveTo>
                    <a:lnTo>
                      <a:pt x="0" y="12"/>
                    </a:lnTo>
                    <a:lnTo>
                      <a:pt x="13" y="0"/>
                    </a:lnTo>
                    <a:lnTo>
                      <a:pt x="74" y="106"/>
                    </a:lnTo>
                    <a:lnTo>
                      <a:pt x="62" y="114"/>
                    </a:lnTo>
                    <a:lnTo>
                      <a:pt x="58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173640" y="294624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0" y="116"/>
                    </a:moveTo>
                    <a:lnTo>
                      <a:pt x="0" y="11"/>
                    </a:lnTo>
                    <a:lnTo>
                      <a:pt x="14" y="0"/>
                    </a:lnTo>
                    <a:lnTo>
                      <a:pt x="76" y="106"/>
                    </a:lnTo>
                    <a:lnTo>
                      <a:pt x="60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6176880" y="29448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1" y="116"/>
                    </a:moveTo>
                    <a:lnTo>
                      <a:pt x="0" y="1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178320" y="2943000"/>
                <a:ext cx="24120" cy="3672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10"/>
                    </a:lnTo>
                    <a:lnTo>
                      <a:pt x="5" y="5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6181560" y="29415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6183360" y="294012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186240" y="294012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188040" y="293832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189480" y="29368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6192720" y="29350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6195960" y="29336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197400" y="2932200"/>
                <a:ext cx="25560" cy="3780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1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1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6200640" y="293040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202440" y="293040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205320" y="292896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6207120" y="292716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210360" y="29257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211800" y="29242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215040" y="2922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216480" y="292104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219720" y="291924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221160" y="291924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224400" y="29178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226200" y="29163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229440" y="291456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6230880" y="291312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234120" y="29113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6235560" y="290988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238800" y="290988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6240240" y="290664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6243480" y="29066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245280" y="29052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6248160" y="2903400"/>
                <a:ext cx="2412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249960" y="29019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6253200" y="29001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6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254640" y="289872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257880" y="2897280"/>
                <a:ext cx="23760" cy="3780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1" y="11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259320" y="28972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262560" y="2895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9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6265800" y="28940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6267240" y="28922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269040" y="28908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6272280" y="28893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273720" y="288756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78" y="109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276960" y="288612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280200" y="28861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281640" y="288432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6283080" y="28828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286320" y="288144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6289560" y="28796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6291000" y="287820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6294240" y="287640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6296040" y="287640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6299280" y="28749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300720" y="287316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7" h="118">
                    <a:moveTo>
                      <a:pt x="62" y="118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6303960" y="28717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6305400" y="28702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6308640" y="2868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6310080" y="286704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6313320" y="286524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6315120" y="286524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1" name=""/>
            <p:cNvGrpSpPr/>
            <p:nvPr/>
          </p:nvGrpSpPr>
          <p:grpSpPr>
            <a:xfrm>
              <a:off x="4159080" y="2647800"/>
              <a:ext cx="2581200" cy="1656000"/>
              <a:chOff x="4159080" y="2647800"/>
              <a:chExt cx="2581200" cy="1656000"/>
            </a:xfrm>
          </p:grpSpPr>
          <p:sp>
            <p:nvSpPr>
              <p:cNvPr id="2682" name=""/>
              <p:cNvSpPr/>
              <p:nvPr/>
            </p:nvSpPr>
            <p:spPr>
              <a:xfrm>
                <a:off x="6318000" y="286380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6319800" y="28623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8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6323040" y="286056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6324480" y="285912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6327720" y="28573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6329160" y="285588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6332400" y="2854440"/>
                <a:ext cx="23760" cy="3780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77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6334200" y="285264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6337080" y="2852640"/>
                <a:ext cx="2412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6338880" y="28512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6342120" y="284940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6343560" y="284796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1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7"/>
                    </a:lnTo>
                    <a:lnTo>
                      <a:pt x="61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6346800" y="28461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348240" y="284472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6351480" y="284328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6352920" y="28432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6356160" y="2841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6357960" y="284004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6361200" y="28382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6362640" y="28368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6365880" y="28353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77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6367320" y="283356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6370560" y="283212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6372000" y="283212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6375240" y="28303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6378480" y="282888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6379920" y="282744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6381720" y="282564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6384960" y="28242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6387840" y="2822400"/>
                <a:ext cx="24120" cy="381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6389640" y="282096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6392880" y="28209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6394320" y="281952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396120" y="281772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6399000" y="281628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6402240" y="2814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6404040" y="281304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1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7"/>
                    </a:lnTo>
                    <a:lnTo>
                      <a:pt x="61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6406920" y="2811240"/>
                <a:ext cx="2412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6408720" y="28098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6411960" y="28098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6413400" y="280836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6416640" y="280656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6418080" y="280512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421320" y="28033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423120" y="280188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6426000" y="2800440"/>
                <a:ext cx="23760" cy="3780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427800" y="279864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31040" y="27986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432480" y="279396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78" h="123">
                    <a:moveTo>
                      <a:pt x="63" y="123"/>
                    </a:moveTo>
                    <a:lnTo>
                      <a:pt x="0" y="15"/>
                    </a:lnTo>
                    <a:lnTo>
                      <a:pt x="10" y="9"/>
                    </a:lnTo>
                    <a:lnTo>
                      <a:pt x="12" y="0"/>
                    </a:lnTo>
                    <a:lnTo>
                      <a:pt x="78" y="115"/>
                    </a:lnTo>
                    <a:lnTo>
                      <a:pt x="63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6435720" y="2790720"/>
                <a:ext cx="23760" cy="41400"/>
              </a:xfrm>
              <a:custGeom>
                <a:avLst/>
                <a:gdLst/>
                <a:ahLst/>
                <a:rect l="l" t="t" r="r" b="b"/>
                <a:pathLst>
                  <a:path w="77" h="132">
                    <a:moveTo>
                      <a:pt x="62" y="132"/>
                    </a:moveTo>
                    <a:lnTo>
                      <a:pt x="0" y="24"/>
                    </a:lnTo>
                    <a:lnTo>
                      <a:pt x="2" y="22"/>
                    </a:lnTo>
                    <a:lnTo>
                      <a:pt x="7" y="0"/>
                    </a:lnTo>
                    <a:lnTo>
                      <a:pt x="77" y="123"/>
                    </a:lnTo>
                    <a:lnTo>
                      <a:pt x="62" y="1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437160" y="2786040"/>
                <a:ext cx="23760" cy="44280"/>
              </a:xfrm>
              <a:custGeom>
                <a:avLst/>
                <a:gdLst/>
                <a:ahLst/>
                <a:rect l="l" t="t" r="r" b="b"/>
                <a:pathLst>
                  <a:path w="79" h="142">
                    <a:moveTo>
                      <a:pt x="66" y="142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79" y="130"/>
                    </a:lnTo>
                    <a:lnTo>
                      <a:pt x="78" y="134"/>
                    </a:lnTo>
                    <a:lnTo>
                      <a:pt x="66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6437160" y="2781360"/>
                <a:ext cx="25560" cy="47520"/>
              </a:xfrm>
              <a:custGeom>
                <a:avLst/>
                <a:gdLst/>
                <a:ahLst/>
                <a:rect l="l" t="t" r="r" b="b"/>
                <a:pathLst>
                  <a:path w="79" h="151">
                    <a:moveTo>
                      <a:pt x="70" y="151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79" y="133"/>
                    </a:lnTo>
                    <a:lnTo>
                      <a:pt x="75" y="148"/>
                    </a:lnTo>
                    <a:lnTo>
                      <a:pt x="70" y="1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6438960" y="2778120"/>
                <a:ext cx="25200" cy="49320"/>
              </a:xfrm>
              <a:custGeom>
                <a:avLst/>
                <a:gdLst/>
                <a:ahLst/>
                <a:rect l="l" t="t" r="r" b="b"/>
                <a:pathLst>
                  <a:path w="82" h="157">
                    <a:moveTo>
                      <a:pt x="74" y="157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2" y="134"/>
                    </a:lnTo>
                    <a:lnTo>
                      <a:pt x="7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6438960" y="277344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83" h="160">
                    <a:moveTo>
                      <a:pt x="75" y="160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3" y="137"/>
                    </a:lnTo>
                    <a:lnTo>
                      <a:pt x="75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6438960" y="2768400"/>
                <a:ext cx="27000" cy="51120"/>
              </a:xfrm>
              <a:custGeom>
                <a:avLst/>
                <a:gdLst/>
                <a:ahLst/>
                <a:rect l="l" t="t" r="r" b="b"/>
                <a:pathLst>
                  <a:path w="84" h="162">
                    <a:moveTo>
                      <a:pt x="78" y="162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84" y="139"/>
                    </a:lnTo>
                    <a:lnTo>
                      <a:pt x="78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6440400" y="2763720"/>
                <a:ext cx="27000" cy="5256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79" y="164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5" y="141"/>
                    </a:lnTo>
                    <a:lnTo>
                      <a:pt x="79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6440400" y="2760480"/>
                <a:ext cx="28440" cy="52560"/>
              </a:xfrm>
              <a:custGeom>
                <a:avLst/>
                <a:gdLst/>
                <a:ahLst/>
                <a:rect l="l" t="t" r="r" b="b"/>
                <a:pathLst>
                  <a:path w="87" h="166">
                    <a:moveTo>
                      <a:pt x="80" y="166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7" y="143"/>
                    </a:lnTo>
                    <a:lnTo>
                      <a:pt x="80" y="1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6441840" y="2755800"/>
                <a:ext cx="27000" cy="54000"/>
              </a:xfrm>
              <a:custGeom>
                <a:avLst/>
                <a:gdLst/>
                <a:ahLst/>
                <a:rect l="l" t="t" r="r" b="b"/>
                <a:pathLst>
                  <a:path w="88" h="168">
                    <a:moveTo>
                      <a:pt x="81" y="168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8" y="144"/>
                    </a:lnTo>
                    <a:lnTo>
                      <a:pt x="81" y="1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6441840" y="2751120"/>
                <a:ext cx="28800" cy="54000"/>
              </a:xfrm>
              <a:custGeom>
                <a:avLst/>
                <a:gdLst/>
                <a:ahLst/>
                <a:rect l="l" t="t" r="r" b="b"/>
                <a:pathLst>
                  <a:path w="89" h="170">
                    <a:moveTo>
                      <a:pt x="83" y="170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9" y="147"/>
                    </a:lnTo>
                    <a:lnTo>
                      <a:pt x="83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6441840" y="2746440"/>
                <a:ext cx="30240" cy="55440"/>
              </a:xfrm>
              <a:custGeom>
                <a:avLst/>
                <a:gdLst/>
                <a:ahLst/>
                <a:rect l="l" t="t" r="r" b="b"/>
                <a:pathLst>
                  <a:path w="91" h="172">
                    <a:moveTo>
                      <a:pt x="84" y="172"/>
                    </a:moveTo>
                    <a:lnTo>
                      <a:pt x="0" y="28"/>
                    </a:lnTo>
                    <a:lnTo>
                      <a:pt x="5" y="0"/>
                    </a:lnTo>
                    <a:lnTo>
                      <a:pt x="91" y="149"/>
                    </a:lnTo>
                    <a:lnTo>
                      <a:pt x="84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443640" y="2743200"/>
                <a:ext cx="28440" cy="55440"/>
              </a:xfrm>
              <a:custGeom>
                <a:avLst/>
                <a:gdLst/>
                <a:ahLst/>
                <a:rect l="l" t="t" r="r" b="b"/>
                <a:pathLst>
                  <a:path w="92" h="174">
                    <a:moveTo>
                      <a:pt x="85" y="174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92" y="151"/>
                    </a:lnTo>
                    <a:lnTo>
                      <a:pt x="85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6443640" y="2738520"/>
                <a:ext cx="30240" cy="55440"/>
              </a:xfrm>
              <a:custGeom>
                <a:avLst/>
                <a:gdLst/>
                <a:ahLst/>
                <a:rect l="l" t="t" r="r" b="b"/>
                <a:pathLst>
                  <a:path w="93" h="176">
                    <a:moveTo>
                      <a:pt x="86" y="176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93" y="153"/>
                    </a:lnTo>
                    <a:lnTo>
                      <a:pt x="8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6445080" y="2733480"/>
                <a:ext cx="30240" cy="57240"/>
              </a:xfrm>
              <a:custGeom>
                <a:avLst/>
                <a:gdLst/>
                <a:ahLst/>
                <a:rect l="l" t="t" r="r" b="b"/>
                <a:pathLst>
                  <a:path w="94" h="180">
                    <a:moveTo>
                      <a:pt x="87" y="180"/>
                    </a:moveTo>
                    <a:lnTo>
                      <a:pt x="0" y="29"/>
                    </a:lnTo>
                    <a:lnTo>
                      <a:pt x="4" y="0"/>
                    </a:lnTo>
                    <a:lnTo>
                      <a:pt x="94" y="157"/>
                    </a:lnTo>
                    <a:lnTo>
                      <a:pt x="87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6445080" y="2728800"/>
                <a:ext cx="30240" cy="586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89" y="181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95" y="158"/>
                    </a:lnTo>
                    <a:lnTo>
                      <a:pt x="8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6446880" y="2725560"/>
                <a:ext cx="29880" cy="57240"/>
              </a:xfrm>
              <a:custGeom>
                <a:avLst/>
                <a:gdLst/>
                <a:ahLst/>
                <a:rect l="l" t="t" r="r" b="b"/>
                <a:pathLst>
                  <a:path w="96" h="184">
                    <a:moveTo>
                      <a:pt x="90" y="184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96" y="161"/>
                    </a:lnTo>
                    <a:lnTo>
                      <a:pt x="9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6446880" y="2720880"/>
                <a:ext cx="31680" cy="58680"/>
              </a:xfrm>
              <a:custGeom>
                <a:avLst/>
                <a:gdLst/>
                <a:ahLst/>
                <a:rect l="l" t="t" r="r" b="b"/>
                <a:pathLst>
                  <a:path w="99" h="186">
                    <a:moveTo>
                      <a:pt x="91" y="186"/>
                    </a:moveTo>
                    <a:lnTo>
                      <a:pt x="0" y="28"/>
                    </a:lnTo>
                    <a:lnTo>
                      <a:pt x="5" y="0"/>
                    </a:lnTo>
                    <a:lnTo>
                      <a:pt x="99" y="163"/>
                    </a:lnTo>
                    <a:lnTo>
                      <a:pt x="91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6448320" y="2716200"/>
                <a:ext cx="30240" cy="60120"/>
              </a:xfrm>
              <a:custGeom>
                <a:avLst/>
                <a:gdLst/>
                <a:ahLst/>
                <a:rect l="l" t="t" r="r" b="b"/>
                <a:pathLst>
                  <a:path w="99" h="188">
                    <a:moveTo>
                      <a:pt x="91" y="188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99" y="163"/>
                    </a:lnTo>
                    <a:lnTo>
                      <a:pt x="91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6448320" y="2711520"/>
                <a:ext cx="31680" cy="60120"/>
              </a:xfrm>
              <a:custGeom>
                <a:avLst/>
                <a:gdLst/>
                <a:ahLst/>
                <a:rect l="l" t="t" r="r" b="b"/>
                <a:pathLst>
                  <a:path w="100" h="190">
                    <a:moveTo>
                      <a:pt x="94" y="190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100" y="166"/>
                    </a:lnTo>
                    <a:lnTo>
                      <a:pt x="94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6448320" y="2708280"/>
                <a:ext cx="33480" cy="60120"/>
              </a:xfrm>
              <a:custGeom>
                <a:avLst/>
                <a:gdLst/>
                <a:ahLst/>
                <a:rect l="l" t="t" r="r" b="b"/>
                <a:pathLst>
                  <a:path w="101" h="191">
                    <a:moveTo>
                      <a:pt x="95" y="191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101" y="168"/>
                    </a:lnTo>
                    <a:lnTo>
                      <a:pt x="95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6449760" y="2703600"/>
                <a:ext cx="32040" cy="61920"/>
              </a:xfrm>
              <a:custGeom>
                <a:avLst/>
                <a:gdLst/>
                <a:ahLst/>
                <a:rect l="l" t="t" r="r" b="b"/>
                <a:pathLst>
                  <a:path w="103" h="193">
                    <a:moveTo>
                      <a:pt x="96" y="193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103" y="170"/>
                    </a:lnTo>
                    <a:lnTo>
                      <a:pt x="96" y="1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6449760" y="2698560"/>
                <a:ext cx="33480" cy="61920"/>
              </a:xfrm>
              <a:custGeom>
                <a:avLst/>
                <a:gdLst/>
                <a:ahLst/>
                <a:rect l="l" t="t" r="r" b="b"/>
                <a:pathLst>
                  <a:path w="104" h="195">
                    <a:moveTo>
                      <a:pt x="97" y="195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104" y="172"/>
                    </a:lnTo>
                    <a:lnTo>
                      <a:pt x="97" y="1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6451560" y="2693880"/>
                <a:ext cx="33120" cy="63720"/>
              </a:xfrm>
              <a:custGeom>
                <a:avLst/>
                <a:gdLst/>
                <a:ahLst/>
                <a:rect l="l" t="t" r="r" b="b"/>
                <a:pathLst>
                  <a:path w="105" h="198">
                    <a:moveTo>
                      <a:pt x="98" y="198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105" y="175"/>
                    </a:lnTo>
                    <a:lnTo>
                      <a:pt x="98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6451560" y="2690640"/>
                <a:ext cx="33120" cy="63720"/>
              </a:xfrm>
              <a:custGeom>
                <a:avLst/>
                <a:gdLst/>
                <a:ahLst/>
                <a:rect l="l" t="t" r="r" b="b"/>
                <a:pathLst>
                  <a:path w="106" h="199">
                    <a:moveTo>
                      <a:pt x="99" y="199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106" y="176"/>
                    </a:lnTo>
                    <a:lnTo>
                      <a:pt x="99" y="1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6453000" y="2685960"/>
                <a:ext cx="33480" cy="63720"/>
              </a:xfrm>
              <a:custGeom>
                <a:avLst/>
                <a:gdLst/>
                <a:ahLst/>
                <a:rect l="l" t="t" r="r" b="b"/>
                <a:pathLst>
                  <a:path w="107" h="202">
                    <a:moveTo>
                      <a:pt x="101" y="202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107" y="179"/>
                    </a:lnTo>
                    <a:lnTo>
                      <a:pt x="101" y="2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6453000" y="268128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109" h="204">
                    <a:moveTo>
                      <a:pt x="102" y="204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109" y="181"/>
                    </a:lnTo>
                    <a:lnTo>
                      <a:pt x="102" y="2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6453000" y="267804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110" h="206">
                    <a:moveTo>
                      <a:pt x="103" y="206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110" y="182"/>
                    </a:lnTo>
                    <a:lnTo>
                      <a:pt x="103" y="2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6454800" y="267336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111" h="205">
                    <a:moveTo>
                      <a:pt x="105" y="205"/>
                    </a:moveTo>
                    <a:lnTo>
                      <a:pt x="0" y="24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11" y="182"/>
                    </a:lnTo>
                    <a:lnTo>
                      <a:pt x="105" y="2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6454800" y="267336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3" h="197">
                    <a:moveTo>
                      <a:pt x="106" y="197"/>
                    </a:moveTo>
                    <a:lnTo>
                      <a:pt x="0" y="15"/>
                    </a:lnTo>
                    <a:lnTo>
                      <a:pt x="1" y="6"/>
                    </a:lnTo>
                    <a:lnTo>
                      <a:pt x="13" y="0"/>
                    </a:lnTo>
                    <a:lnTo>
                      <a:pt x="113" y="174"/>
                    </a:lnTo>
                    <a:lnTo>
                      <a:pt x="106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456240" y="2671560"/>
                <a:ext cx="36720" cy="60480"/>
              </a:xfrm>
              <a:custGeom>
                <a:avLst/>
                <a:gdLst/>
                <a:ahLst/>
                <a:rect l="l" t="t" r="r" b="b"/>
                <a:pathLst>
                  <a:path w="115" h="190">
                    <a:moveTo>
                      <a:pt x="105" y="190"/>
                    </a:moveTo>
                    <a:lnTo>
                      <a:pt x="0" y="8"/>
                    </a:lnTo>
                    <a:lnTo>
                      <a:pt x="8" y="5"/>
                    </a:lnTo>
                    <a:lnTo>
                      <a:pt x="16" y="0"/>
                    </a:lnTo>
                    <a:lnTo>
                      <a:pt x="115" y="172"/>
                    </a:lnTo>
                    <a:lnTo>
                      <a:pt x="110" y="175"/>
                    </a:lnTo>
                    <a:lnTo>
                      <a:pt x="105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6459480" y="267012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13" h="182">
                    <a:moveTo>
                      <a:pt x="100" y="182"/>
                    </a:moveTo>
                    <a:lnTo>
                      <a:pt x="0" y="8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13" y="172"/>
                    </a:lnTo>
                    <a:lnTo>
                      <a:pt x="101" y="179"/>
                    </a:lnTo>
                    <a:lnTo>
                      <a:pt x="100" y="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6460920" y="2668680"/>
                <a:ext cx="36720" cy="56880"/>
              </a:xfrm>
              <a:custGeom>
                <a:avLst/>
                <a:gdLst/>
                <a:ahLst/>
                <a:rect l="l" t="t" r="r" b="b"/>
                <a:pathLst>
                  <a:path w="115" h="181">
                    <a:moveTo>
                      <a:pt x="99" y="181"/>
                    </a:moveTo>
                    <a:lnTo>
                      <a:pt x="0" y="9"/>
                    </a:lnTo>
                    <a:lnTo>
                      <a:pt x="12" y="2"/>
                    </a:lnTo>
                    <a:lnTo>
                      <a:pt x="15" y="0"/>
                    </a:lnTo>
                    <a:lnTo>
                      <a:pt x="115" y="172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6464160" y="2666880"/>
                <a:ext cx="36720" cy="57240"/>
              </a:xfrm>
              <a:custGeom>
                <a:avLst/>
                <a:gdLst/>
                <a:ahLst/>
                <a:rect l="l" t="t" r="r" b="b"/>
                <a:pathLst>
                  <a:path w="115" h="181">
                    <a:moveTo>
                      <a:pt x="99" y="181"/>
                    </a:moveTo>
                    <a:lnTo>
                      <a:pt x="0" y="9"/>
                    </a:lnTo>
                    <a:lnTo>
                      <a:pt x="5" y="6"/>
                    </a:lnTo>
                    <a:lnTo>
                      <a:pt x="15" y="0"/>
                    </a:lnTo>
                    <a:lnTo>
                      <a:pt x="115" y="171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6467400" y="266544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12" h="180">
                    <a:moveTo>
                      <a:pt x="0" y="7"/>
                    </a:moveTo>
                    <a:lnTo>
                      <a:pt x="14" y="0"/>
                    </a:lnTo>
                    <a:lnTo>
                      <a:pt x="112" y="171"/>
                    </a:lnTo>
                    <a:lnTo>
                      <a:pt x="98" y="18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6470640" y="266364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7" h="180">
                    <a:moveTo>
                      <a:pt x="0" y="5"/>
                    </a:moveTo>
                    <a:lnTo>
                      <a:pt x="8" y="0"/>
                    </a:lnTo>
                    <a:lnTo>
                      <a:pt x="107" y="172"/>
                    </a:lnTo>
                    <a:lnTo>
                      <a:pt x="92" y="18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6470640" y="266364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13" h="180">
                    <a:moveTo>
                      <a:pt x="98" y="180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13" y="172"/>
                    </a:lnTo>
                    <a:lnTo>
                      <a:pt x="9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6473880" y="266220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14" h="181">
                    <a:moveTo>
                      <a:pt x="99" y="181"/>
                    </a:moveTo>
                    <a:lnTo>
                      <a:pt x="0" y="9"/>
                    </a:lnTo>
                    <a:lnTo>
                      <a:pt x="11" y="3"/>
                    </a:lnTo>
                    <a:lnTo>
                      <a:pt x="15" y="0"/>
                    </a:lnTo>
                    <a:lnTo>
                      <a:pt x="114" y="173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6475320" y="2660760"/>
                <a:ext cx="36360" cy="56880"/>
              </a:xfrm>
              <a:custGeom>
                <a:avLst/>
                <a:gdLst/>
                <a:ahLst/>
                <a:rect l="l" t="t" r="r" b="b"/>
                <a:pathLst>
                  <a:path w="115" h="181">
                    <a:moveTo>
                      <a:pt x="99" y="181"/>
                    </a:moveTo>
                    <a:lnTo>
                      <a:pt x="0" y="9"/>
                    </a:lnTo>
                    <a:lnTo>
                      <a:pt x="4" y="7"/>
                    </a:lnTo>
                    <a:lnTo>
                      <a:pt x="15" y="0"/>
                    </a:lnTo>
                    <a:lnTo>
                      <a:pt x="115" y="171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6478560" y="265896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14" h="181">
                    <a:moveTo>
                      <a:pt x="99" y="181"/>
                    </a:moveTo>
                    <a:lnTo>
                      <a:pt x="0" y="8"/>
                    </a:lnTo>
                    <a:lnTo>
                      <a:pt x="2" y="7"/>
                    </a:lnTo>
                    <a:lnTo>
                      <a:pt x="15" y="0"/>
                    </a:lnTo>
                    <a:lnTo>
                      <a:pt x="114" y="171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6480000" y="2657520"/>
                <a:ext cx="36720" cy="5688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100" y="179"/>
                    </a:moveTo>
                    <a:lnTo>
                      <a:pt x="0" y="8"/>
                    </a:lnTo>
                    <a:lnTo>
                      <a:pt x="7" y="4"/>
                    </a:lnTo>
                    <a:lnTo>
                      <a:pt x="16" y="0"/>
                    </a:lnTo>
                    <a:lnTo>
                      <a:pt x="114" y="171"/>
                    </a:lnTo>
                    <a:lnTo>
                      <a:pt x="100" y="1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6483240" y="265572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14" h="180">
                    <a:moveTo>
                      <a:pt x="99" y="180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14" y="172"/>
                    </a:lnTo>
                    <a:lnTo>
                      <a:pt x="99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6484680" y="2655720"/>
                <a:ext cx="49320" cy="74880"/>
              </a:xfrm>
              <a:custGeom>
                <a:avLst/>
                <a:gdLst/>
                <a:ahLst/>
                <a:rect l="l" t="t" r="r" b="b"/>
                <a:pathLst>
                  <a:path w="153" h="239">
                    <a:moveTo>
                      <a:pt x="98" y="179"/>
                    </a:moveTo>
                    <a:lnTo>
                      <a:pt x="0" y="8"/>
                    </a:lnTo>
                    <a:lnTo>
                      <a:pt x="11" y="0"/>
                    </a:lnTo>
                    <a:lnTo>
                      <a:pt x="98" y="179"/>
                    </a:lnTo>
                    <a:close/>
                    <a:moveTo>
                      <a:pt x="153" y="239"/>
                    </a:moveTo>
                    <a:lnTo>
                      <a:pt x="107" y="174"/>
                    </a:lnTo>
                    <a:lnTo>
                      <a:pt x="98" y="179"/>
                    </a:lnTo>
                    <a:lnTo>
                      <a:pt x="153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6487920" y="2652840"/>
                <a:ext cx="239760" cy="406080"/>
              </a:xfrm>
              <a:custGeom>
                <a:avLst/>
                <a:gdLst/>
                <a:ahLst/>
                <a:rect l="l" t="t" r="r" b="b"/>
                <a:pathLst>
                  <a:path w="754" h="1279">
                    <a:moveTo>
                      <a:pt x="99" y="181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99" y="318"/>
                    </a:lnTo>
                    <a:lnTo>
                      <a:pt x="100" y="180"/>
                    </a:lnTo>
                    <a:lnTo>
                      <a:pt x="99" y="181"/>
                    </a:lnTo>
                    <a:close/>
                    <a:moveTo>
                      <a:pt x="747" y="1268"/>
                    </a:moveTo>
                    <a:lnTo>
                      <a:pt x="754" y="1279"/>
                    </a:lnTo>
                    <a:lnTo>
                      <a:pt x="752" y="1278"/>
                    </a:lnTo>
                    <a:lnTo>
                      <a:pt x="747" y="1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6489720" y="2652840"/>
                <a:ext cx="242640" cy="411120"/>
              </a:xfrm>
              <a:custGeom>
                <a:avLst/>
                <a:gdLst/>
                <a:ahLst/>
                <a:rect l="l" t="t" r="r" b="b"/>
                <a:pathLst>
                  <a:path w="764" h="1296">
                    <a:moveTo>
                      <a:pt x="139" y="249"/>
                    </a:moveTo>
                    <a:lnTo>
                      <a:pt x="0" y="8"/>
                    </a:lnTo>
                    <a:lnTo>
                      <a:pt x="4" y="7"/>
                    </a:lnTo>
                    <a:lnTo>
                      <a:pt x="16" y="0"/>
                    </a:lnTo>
                    <a:lnTo>
                      <a:pt x="266" y="434"/>
                    </a:lnTo>
                    <a:lnTo>
                      <a:pt x="233" y="379"/>
                    </a:lnTo>
                    <a:lnTo>
                      <a:pt x="139" y="249"/>
                    </a:lnTo>
                    <a:close/>
                    <a:moveTo>
                      <a:pt x="696" y="1178"/>
                    </a:moveTo>
                    <a:lnTo>
                      <a:pt x="764" y="1296"/>
                    </a:lnTo>
                    <a:lnTo>
                      <a:pt x="745" y="1282"/>
                    </a:lnTo>
                    <a:lnTo>
                      <a:pt x="696" y="11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492960" y="2651040"/>
                <a:ext cx="242640" cy="414360"/>
              </a:xfrm>
              <a:custGeom>
                <a:avLst/>
                <a:gdLst/>
                <a:ahLst/>
                <a:rect l="l" t="t" r="r" b="b"/>
                <a:pathLst>
                  <a:path w="766" h="1304">
                    <a:moveTo>
                      <a:pt x="739" y="1287"/>
                    </a:moveTo>
                    <a:lnTo>
                      <a:pt x="732" y="1276"/>
                    </a:lnTo>
                    <a:lnTo>
                      <a:pt x="675" y="1155"/>
                    </a:lnTo>
                    <a:lnTo>
                      <a:pt x="480" y="803"/>
                    </a:lnTo>
                    <a:lnTo>
                      <a:pt x="766" y="1301"/>
                    </a:lnTo>
                    <a:lnTo>
                      <a:pt x="765" y="1301"/>
                    </a:lnTo>
                    <a:lnTo>
                      <a:pt x="761" y="1304"/>
                    </a:lnTo>
                    <a:lnTo>
                      <a:pt x="739" y="1287"/>
                    </a:lnTo>
                    <a:close/>
                    <a:moveTo>
                      <a:pt x="184" y="32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404" y="674"/>
                    </a:lnTo>
                    <a:lnTo>
                      <a:pt x="225" y="383"/>
                    </a:lnTo>
                    <a:lnTo>
                      <a:pt x="184" y="3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494400" y="2649600"/>
                <a:ext cx="244440" cy="415800"/>
              </a:xfrm>
              <a:custGeom>
                <a:avLst/>
                <a:gdLst/>
                <a:ahLst/>
                <a:rect l="l" t="t" r="r" b="b"/>
                <a:pathLst>
                  <a:path w="766" h="1308">
                    <a:moveTo>
                      <a:pt x="748" y="1304"/>
                    </a:moveTo>
                    <a:lnTo>
                      <a:pt x="680" y="1186"/>
                    </a:lnTo>
                    <a:lnTo>
                      <a:pt x="667" y="1159"/>
                    </a:lnTo>
                    <a:lnTo>
                      <a:pt x="422" y="719"/>
                    </a:lnTo>
                    <a:lnTo>
                      <a:pt x="250" y="442"/>
                    </a:lnTo>
                    <a:lnTo>
                      <a:pt x="0" y="8"/>
                    </a:lnTo>
                    <a:lnTo>
                      <a:pt x="15" y="0"/>
                    </a:lnTo>
                    <a:lnTo>
                      <a:pt x="766" y="1299"/>
                    </a:lnTo>
                    <a:lnTo>
                      <a:pt x="757" y="1305"/>
                    </a:lnTo>
                    <a:lnTo>
                      <a:pt x="753" y="1308"/>
                    </a:lnTo>
                    <a:lnTo>
                      <a:pt x="748" y="1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497640" y="2647800"/>
                <a:ext cx="242640" cy="416160"/>
              </a:xfrm>
              <a:custGeom>
                <a:avLst/>
                <a:gdLst/>
                <a:ahLst/>
                <a:rect l="l" t="t" r="r" b="b"/>
                <a:pathLst>
                  <a:path w="765" h="1310">
                    <a:moveTo>
                      <a:pt x="750" y="1310"/>
                    </a:moveTo>
                    <a:lnTo>
                      <a:pt x="464" y="812"/>
                    </a:lnTo>
                    <a:lnTo>
                      <a:pt x="414" y="724"/>
                    </a:lnTo>
                    <a:lnTo>
                      <a:pt x="388" y="683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765" y="1300"/>
                    </a:lnTo>
                    <a:lnTo>
                      <a:pt x="751" y="1309"/>
                    </a:lnTo>
                    <a:lnTo>
                      <a:pt x="750" y="13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499080" y="2647800"/>
                <a:ext cx="241200" cy="414360"/>
              </a:xfrm>
              <a:custGeom>
                <a:avLst/>
                <a:gdLst/>
                <a:ahLst/>
                <a:rect l="l" t="t" r="r" b="b"/>
                <a:pathLst>
                  <a:path w="759" h="1305">
                    <a:moveTo>
                      <a:pt x="751" y="1305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56" y="66"/>
                    </a:lnTo>
                    <a:lnTo>
                      <a:pt x="759" y="1286"/>
                    </a:lnTo>
                    <a:lnTo>
                      <a:pt x="759" y="1301"/>
                    </a:lnTo>
                    <a:lnTo>
                      <a:pt x="751" y="13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502320" y="2647800"/>
                <a:ext cx="237960" cy="412920"/>
              </a:xfrm>
              <a:custGeom>
                <a:avLst/>
                <a:gdLst/>
                <a:ahLst/>
                <a:rect l="l" t="t" r="r" b="b"/>
                <a:pathLst>
                  <a:path w="752" h="1301">
                    <a:moveTo>
                      <a:pt x="751" y="130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01" y="140"/>
                    </a:lnTo>
                    <a:lnTo>
                      <a:pt x="752" y="1268"/>
                    </a:lnTo>
                    <a:lnTo>
                      <a:pt x="752" y="1301"/>
                    </a:lnTo>
                    <a:lnTo>
                      <a:pt x="751" y="13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518160" y="2668680"/>
                <a:ext cx="222120" cy="387360"/>
              </a:xfrm>
              <a:custGeom>
                <a:avLst/>
                <a:gdLst/>
                <a:ahLst/>
                <a:rect l="l" t="t" r="r" b="b"/>
                <a:pathLst>
                  <a:path w="703" h="1220">
                    <a:moveTo>
                      <a:pt x="703" y="1220"/>
                    </a:moveTo>
                    <a:lnTo>
                      <a:pt x="0" y="0"/>
                    </a:lnTo>
                    <a:lnTo>
                      <a:pt x="106" y="149"/>
                    </a:lnTo>
                    <a:lnTo>
                      <a:pt x="672" y="1129"/>
                    </a:lnTo>
                    <a:lnTo>
                      <a:pt x="703" y="1194"/>
                    </a:lnTo>
                    <a:lnTo>
                      <a:pt x="703" y="12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534000" y="2692440"/>
                <a:ext cx="206280" cy="357120"/>
              </a:xfrm>
              <a:custGeom>
                <a:avLst/>
                <a:gdLst/>
                <a:ahLst/>
                <a:rect l="l" t="t" r="r" b="b"/>
                <a:pathLst>
                  <a:path w="651" h="1128">
                    <a:moveTo>
                      <a:pt x="651" y="1128"/>
                    </a:moveTo>
                    <a:lnTo>
                      <a:pt x="0" y="0"/>
                    </a:lnTo>
                    <a:lnTo>
                      <a:pt x="106" y="148"/>
                    </a:lnTo>
                    <a:lnTo>
                      <a:pt x="106" y="149"/>
                    </a:lnTo>
                    <a:lnTo>
                      <a:pt x="566" y="946"/>
                    </a:lnTo>
                    <a:lnTo>
                      <a:pt x="567" y="947"/>
                    </a:lnTo>
                    <a:lnTo>
                      <a:pt x="651" y="1120"/>
                    </a:lnTo>
                    <a:lnTo>
                      <a:pt x="651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551640" y="2716200"/>
                <a:ext cx="179280" cy="311040"/>
              </a:xfrm>
              <a:custGeom>
                <a:avLst/>
                <a:gdLst/>
                <a:ahLst/>
                <a:rect l="l" t="t" r="r" b="b"/>
                <a:pathLst>
                  <a:path w="566" h="980">
                    <a:moveTo>
                      <a:pt x="566" y="980"/>
                    </a:moveTo>
                    <a:lnTo>
                      <a:pt x="0" y="0"/>
                    </a:lnTo>
                    <a:lnTo>
                      <a:pt x="52" y="73"/>
                    </a:lnTo>
                    <a:lnTo>
                      <a:pt x="137" y="204"/>
                    </a:lnTo>
                    <a:lnTo>
                      <a:pt x="429" y="709"/>
                    </a:lnTo>
                    <a:lnTo>
                      <a:pt x="513" y="872"/>
                    </a:lnTo>
                    <a:lnTo>
                      <a:pt x="566" y="9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567480" y="2739960"/>
                <a:ext cx="145800" cy="252360"/>
              </a:xfrm>
              <a:custGeom>
                <a:avLst/>
                <a:gdLst/>
                <a:ahLst/>
                <a:rect l="l" t="t" r="r" b="b"/>
                <a:pathLst>
                  <a:path w="460" h="797">
                    <a:moveTo>
                      <a:pt x="460" y="797"/>
                    </a:moveTo>
                    <a:lnTo>
                      <a:pt x="0" y="0"/>
                    </a:lnTo>
                    <a:lnTo>
                      <a:pt x="170" y="259"/>
                    </a:lnTo>
                    <a:lnTo>
                      <a:pt x="287" y="462"/>
                    </a:lnTo>
                    <a:lnTo>
                      <a:pt x="329" y="542"/>
                    </a:lnTo>
                    <a:lnTo>
                      <a:pt x="460" y="7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6594480" y="2781360"/>
                <a:ext cx="93600" cy="160200"/>
              </a:xfrm>
              <a:custGeom>
                <a:avLst/>
                <a:gdLst/>
                <a:ahLst/>
                <a:rect l="l" t="t" r="r" b="b"/>
                <a:pathLst>
                  <a:path w="292" h="505">
                    <a:moveTo>
                      <a:pt x="292" y="505"/>
                    </a:moveTo>
                    <a:lnTo>
                      <a:pt x="0" y="0"/>
                    </a:lnTo>
                    <a:lnTo>
                      <a:pt x="139" y="212"/>
                    </a:lnTo>
                    <a:lnTo>
                      <a:pt x="244" y="412"/>
                    </a:lnTo>
                    <a:lnTo>
                      <a:pt x="292" y="5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621480" y="28209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17" h="203">
                    <a:moveTo>
                      <a:pt x="117" y="203"/>
                    </a:moveTo>
                    <a:lnTo>
                      <a:pt x="0" y="0"/>
                    </a:lnTo>
                    <a:lnTo>
                      <a:pt x="54" y="83"/>
                    </a:lnTo>
                    <a:lnTo>
                      <a:pt x="117" y="2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6164280" y="2647800"/>
                <a:ext cx="576000" cy="417600"/>
              </a:xfrm>
              <a:custGeom>
                <a:avLst/>
                <a:gdLst/>
                <a:ahLst/>
                <a:rect l="l" t="t" r="r" b="b"/>
                <a:pathLst>
                  <a:path w="1814" h="1314">
                    <a:moveTo>
                      <a:pt x="1707" y="1165"/>
                    </a:moveTo>
                    <a:lnTo>
                      <a:pt x="1462" y="725"/>
                    </a:lnTo>
                    <a:lnTo>
                      <a:pt x="1257" y="393"/>
                    </a:lnTo>
                    <a:lnTo>
                      <a:pt x="1117" y="198"/>
                    </a:lnTo>
                    <a:lnTo>
                      <a:pt x="1028" y="250"/>
                    </a:lnTo>
                    <a:lnTo>
                      <a:pt x="934" y="570"/>
                    </a:lnTo>
                    <a:lnTo>
                      <a:pt x="85" y="1061"/>
                    </a:lnTo>
                    <a:lnTo>
                      <a:pt x="48" y="1061"/>
                    </a:lnTo>
                    <a:lnTo>
                      <a:pt x="16" y="1050"/>
                    </a:lnTo>
                    <a:lnTo>
                      <a:pt x="0" y="1021"/>
                    </a:lnTo>
                    <a:lnTo>
                      <a:pt x="6" y="988"/>
                    </a:lnTo>
                    <a:lnTo>
                      <a:pt x="21" y="961"/>
                    </a:lnTo>
                    <a:lnTo>
                      <a:pt x="49" y="937"/>
                    </a:lnTo>
                    <a:lnTo>
                      <a:pt x="854" y="472"/>
                    </a:lnTo>
                    <a:lnTo>
                      <a:pt x="915" y="85"/>
                    </a:lnTo>
                    <a:lnTo>
                      <a:pt x="1063" y="0"/>
                    </a:lnTo>
                    <a:lnTo>
                      <a:pt x="1269" y="288"/>
                    </a:lnTo>
                    <a:lnTo>
                      <a:pt x="1493" y="631"/>
                    </a:lnTo>
                    <a:lnTo>
                      <a:pt x="1598" y="831"/>
                    </a:lnTo>
                    <a:lnTo>
                      <a:pt x="1730" y="1087"/>
                    </a:lnTo>
                    <a:lnTo>
                      <a:pt x="1814" y="1260"/>
                    </a:lnTo>
                    <a:lnTo>
                      <a:pt x="1814" y="1301"/>
                    </a:lnTo>
                    <a:lnTo>
                      <a:pt x="1793" y="1314"/>
                    </a:lnTo>
                    <a:lnTo>
                      <a:pt x="1769" y="1296"/>
                    </a:lnTo>
                    <a:lnTo>
                      <a:pt x="1707" y="1165"/>
                    </a:lnTo>
                    <a:lnTo>
                      <a:pt x="1707" y="1165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4165560" y="4273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0" y="0"/>
                    </a:moveTo>
                    <a:lnTo>
                      <a:pt x="22" y="39"/>
                    </a:lnTo>
                    <a:lnTo>
                      <a:pt x="9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4163760" y="426708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43" h="75">
                    <a:moveTo>
                      <a:pt x="17" y="36"/>
                    </a:moveTo>
                    <a:lnTo>
                      <a:pt x="15" y="34"/>
                    </a:lnTo>
                    <a:lnTo>
                      <a:pt x="0" y="0"/>
                    </a:lnTo>
                    <a:lnTo>
                      <a:pt x="43" y="75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4162320" y="426564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53" h="92">
                    <a:moveTo>
                      <a:pt x="32" y="65"/>
                    </a:moveTo>
                    <a:lnTo>
                      <a:pt x="10" y="2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3" y="92"/>
                    </a:lnTo>
                    <a:lnTo>
                      <a:pt x="51" y="91"/>
                    </a:lnTo>
                    <a:lnTo>
                      <a:pt x="32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4162320" y="4262400"/>
                <a:ext cx="19080" cy="3348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47" y="90"/>
                    </a:moveTo>
                    <a:lnTo>
                      <a:pt x="4" y="15"/>
                    </a:lnTo>
                    <a:lnTo>
                      <a:pt x="1" y="9"/>
                    </a:lnTo>
                    <a:lnTo>
                      <a:pt x="0" y="0"/>
                    </a:lnTo>
                    <a:lnTo>
                      <a:pt x="59" y="101"/>
                    </a:lnTo>
                    <a:lnTo>
                      <a:pt x="52" y="97"/>
                    </a:lnTo>
                    <a:lnTo>
                      <a:pt x="47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4162320" y="426096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63" h="111">
                    <a:moveTo>
                      <a:pt x="55" y="104"/>
                    </a:moveTo>
                    <a:lnTo>
                      <a:pt x="2" y="12"/>
                    </a:lnTo>
                    <a:lnTo>
                      <a:pt x="0" y="0"/>
                    </a:lnTo>
                    <a:lnTo>
                      <a:pt x="63" y="111"/>
                    </a:lnTo>
                    <a:lnTo>
                      <a:pt x="55" y="1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4162320" y="4259160"/>
                <a:ext cx="20520" cy="38160"/>
              </a:xfrm>
              <a:custGeom>
                <a:avLst/>
                <a:gdLst/>
                <a:ahLst/>
                <a:rect l="l" t="t" r="r" b="b"/>
                <a:pathLst>
                  <a:path w="68" h="119">
                    <a:moveTo>
                      <a:pt x="61" y="112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68" y="119"/>
                    </a:lnTo>
                    <a:lnTo>
                      <a:pt x="61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4162320" y="4257720"/>
                <a:ext cx="22320" cy="39600"/>
              </a:xfrm>
              <a:custGeom>
                <a:avLst/>
                <a:gdLst/>
                <a:ahLst/>
                <a:rect l="l" t="t" r="r" b="b"/>
                <a:pathLst>
                  <a:path w="73" h="127">
                    <a:moveTo>
                      <a:pt x="65" y="122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73" y="127"/>
                    </a:lnTo>
                    <a:lnTo>
                      <a:pt x="65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4160880" y="4255920"/>
                <a:ext cx="25200" cy="42840"/>
              </a:xfrm>
              <a:custGeom>
                <a:avLst/>
                <a:gdLst/>
                <a:ahLst/>
                <a:rect l="l" t="t" r="r" b="b"/>
                <a:pathLst>
                  <a:path w="77" h="135">
                    <a:moveTo>
                      <a:pt x="70" y="130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77" y="135"/>
                    </a:lnTo>
                    <a:lnTo>
                      <a:pt x="70" y="1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4160880" y="425448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75" y="138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83" y="144"/>
                    </a:lnTo>
                    <a:lnTo>
                      <a:pt x="75" y="1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4160880" y="4253040"/>
                <a:ext cx="28440" cy="47520"/>
              </a:xfrm>
              <a:custGeom>
                <a:avLst/>
                <a:gdLst/>
                <a:ahLst/>
                <a:rect l="l" t="t" r="r" b="b"/>
                <a:pathLst>
                  <a:path w="88" h="152">
                    <a:moveTo>
                      <a:pt x="79" y="147"/>
                    </a:moveTo>
                    <a:lnTo>
                      <a:pt x="2" y="12"/>
                    </a:lnTo>
                    <a:lnTo>
                      <a:pt x="0" y="0"/>
                    </a:lnTo>
                    <a:lnTo>
                      <a:pt x="88" y="152"/>
                    </a:lnTo>
                    <a:lnTo>
                      <a:pt x="79" y="1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4160880" y="4251240"/>
                <a:ext cx="28440" cy="50760"/>
              </a:xfrm>
              <a:custGeom>
                <a:avLst/>
                <a:gdLst/>
                <a:ahLst/>
                <a:rect l="l" t="t" r="r" b="b"/>
                <a:pathLst>
                  <a:path w="93" h="160">
                    <a:moveTo>
                      <a:pt x="86" y="155"/>
                    </a:moveTo>
                    <a:lnTo>
                      <a:pt x="3" y="11"/>
                    </a:lnTo>
                    <a:lnTo>
                      <a:pt x="0" y="0"/>
                    </a:lnTo>
                    <a:lnTo>
                      <a:pt x="93" y="160"/>
                    </a:lnTo>
                    <a:lnTo>
                      <a:pt x="86" y="1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4159080" y="4248000"/>
                <a:ext cx="31680" cy="54000"/>
              </a:xfrm>
              <a:custGeom>
                <a:avLst/>
                <a:gdLst/>
                <a:ahLst/>
                <a:rect l="l" t="t" r="r" b="b"/>
                <a:pathLst>
                  <a:path w="98" h="170">
                    <a:moveTo>
                      <a:pt x="91" y="163"/>
                    </a:moveTo>
                    <a:lnTo>
                      <a:pt x="3" y="11"/>
                    </a:lnTo>
                    <a:lnTo>
                      <a:pt x="0" y="0"/>
                    </a:lnTo>
                    <a:lnTo>
                      <a:pt x="98" y="170"/>
                    </a:lnTo>
                    <a:lnTo>
                      <a:pt x="91" y="1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4159080" y="42465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2" h="177">
                    <a:moveTo>
                      <a:pt x="95" y="171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2" y="177"/>
                    </a:lnTo>
                    <a:lnTo>
                      <a:pt x="102" y="177"/>
                    </a:lnTo>
                    <a:lnTo>
                      <a:pt x="95" y="1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4159080" y="42465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4" h="178">
                    <a:moveTo>
                      <a:pt x="99" y="176"/>
                    </a:moveTo>
                    <a:lnTo>
                      <a:pt x="1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04" y="178"/>
                    </a:lnTo>
                    <a:lnTo>
                      <a:pt x="102" y="178"/>
                    </a:lnTo>
                    <a:lnTo>
                      <a:pt x="99" y="1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4159080" y="42465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6" h="180">
                    <a:moveTo>
                      <a:pt x="102" y="180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106" y="179"/>
                    </a:lnTo>
                    <a:lnTo>
                      <a:pt x="102" y="1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4159080" y="424656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6" h="181">
                    <a:moveTo>
                      <a:pt x="103" y="181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106" y="179"/>
                    </a:lnTo>
                    <a:lnTo>
                      <a:pt x="103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4160880" y="4244760"/>
                <a:ext cx="33120" cy="59040"/>
              </a:xfrm>
              <a:custGeom>
                <a:avLst/>
                <a:gdLst/>
                <a:ahLst/>
                <a:rect l="l" t="t" r="r" b="b"/>
                <a:pathLst>
                  <a:path w="106" h="181">
                    <a:moveTo>
                      <a:pt x="102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6" y="178"/>
                    </a:lnTo>
                    <a:lnTo>
                      <a:pt x="102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4160880" y="424476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2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79"/>
                    </a:lnTo>
                    <a:lnTo>
                      <a:pt x="102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4162320" y="42447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6" h="180">
                    <a:moveTo>
                      <a:pt x="103" y="18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6" y="179"/>
                    </a:lnTo>
                    <a:lnTo>
                      <a:pt x="103" y="1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4162320" y="42447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4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79"/>
                    </a:lnTo>
                    <a:lnTo>
                      <a:pt x="104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4162320" y="424476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3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79"/>
                    </a:lnTo>
                    <a:lnTo>
                      <a:pt x="103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4162320" y="424332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4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80"/>
                    </a:lnTo>
                    <a:lnTo>
                      <a:pt x="104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4163760" y="42433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4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80"/>
                    </a:lnTo>
                    <a:lnTo>
                      <a:pt x="104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163760" y="424332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8" h="182">
                    <a:moveTo>
                      <a:pt x="104" y="18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8" y="180"/>
                    </a:lnTo>
                    <a:lnTo>
                      <a:pt x="104" y="1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4163760" y="424332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7" h="182">
                    <a:moveTo>
                      <a:pt x="104" y="18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80"/>
                    </a:lnTo>
                    <a:lnTo>
                      <a:pt x="104" y="1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4165560" y="4243320"/>
                <a:ext cx="33120" cy="57240"/>
              </a:xfrm>
              <a:custGeom>
                <a:avLst/>
                <a:gdLst/>
                <a:ahLst/>
                <a:rect l="l" t="t" r="r" b="b"/>
                <a:pathLst>
                  <a:path w="108" h="182">
                    <a:moveTo>
                      <a:pt x="105" y="18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8" y="181"/>
                    </a:lnTo>
                    <a:lnTo>
                      <a:pt x="105" y="1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4165560" y="4241880"/>
                <a:ext cx="33120" cy="58680"/>
              </a:xfrm>
              <a:custGeom>
                <a:avLst/>
                <a:gdLst/>
                <a:ahLst/>
                <a:rect l="l" t="t" r="r" b="b"/>
                <a:pathLst>
                  <a:path w="107" h="183">
                    <a:moveTo>
                      <a:pt x="104" y="18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7" y="182"/>
                    </a:lnTo>
                    <a:lnTo>
                      <a:pt x="104" y="1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4165560" y="424188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8" h="184">
                    <a:moveTo>
                      <a:pt x="105" y="18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8" y="182"/>
                    </a:lnTo>
                    <a:lnTo>
                      <a:pt x="105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4167000" y="4241880"/>
                <a:ext cx="33480" cy="58680"/>
              </a:xfrm>
              <a:custGeom>
                <a:avLst/>
                <a:gdLst/>
                <a:ahLst/>
                <a:rect l="l" t="t" r="r" b="b"/>
                <a:pathLst>
                  <a:path w="109" h="184">
                    <a:moveTo>
                      <a:pt x="104" y="18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9" y="182"/>
                    </a:lnTo>
                    <a:lnTo>
                      <a:pt x="104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4167000" y="4241880"/>
                <a:ext cx="34920" cy="56880"/>
              </a:xfrm>
              <a:custGeom>
                <a:avLst/>
                <a:gdLst/>
                <a:ahLst/>
                <a:rect l="l" t="t" r="r" b="b"/>
                <a:pathLst>
                  <a:path w="109" h="184">
                    <a:moveTo>
                      <a:pt x="105" y="184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09" y="183"/>
                    </a:lnTo>
                    <a:lnTo>
                      <a:pt x="105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167000" y="424008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9" h="184">
                    <a:moveTo>
                      <a:pt x="106" y="18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9" y="183"/>
                    </a:lnTo>
                    <a:lnTo>
                      <a:pt x="106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4168800" y="4240080"/>
                <a:ext cx="33120" cy="58680"/>
              </a:xfrm>
              <a:custGeom>
                <a:avLst/>
                <a:gdLst/>
                <a:ahLst/>
                <a:rect l="l" t="t" r="r" b="b"/>
                <a:pathLst>
                  <a:path w="109" h="185">
                    <a:moveTo>
                      <a:pt x="105" y="18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9" y="183"/>
                    </a:lnTo>
                    <a:lnTo>
                      <a:pt x="105" y="1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4168800" y="424008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9" h="186">
                    <a:moveTo>
                      <a:pt x="106" y="18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9" y="184"/>
                    </a:lnTo>
                    <a:lnTo>
                      <a:pt x="10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168800" y="424008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9" h="186">
                    <a:moveTo>
                      <a:pt x="106" y="18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9" y="185"/>
                    </a:lnTo>
                    <a:lnTo>
                      <a:pt x="10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168800" y="423864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10" h="186">
                    <a:moveTo>
                      <a:pt x="106" y="18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5"/>
                    </a:lnTo>
                    <a:lnTo>
                      <a:pt x="10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4170240" y="423864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09" h="187">
                    <a:moveTo>
                      <a:pt x="106" y="18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9" y="185"/>
                    </a:lnTo>
                    <a:lnTo>
                      <a:pt x="106" y="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170240" y="423864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10" h="187">
                    <a:moveTo>
                      <a:pt x="107" y="18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5"/>
                    </a:lnTo>
                    <a:lnTo>
                      <a:pt x="107" y="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4170240" y="423864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10" h="187">
                    <a:moveTo>
                      <a:pt x="106" y="18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6"/>
                    </a:lnTo>
                    <a:lnTo>
                      <a:pt x="106" y="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4172040" y="423864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10" h="187">
                    <a:moveTo>
                      <a:pt x="107" y="18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6"/>
                    </a:lnTo>
                    <a:lnTo>
                      <a:pt x="107" y="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4172040" y="423684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0" h="188">
                    <a:moveTo>
                      <a:pt x="107" y="18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6"/>
                    </a:lnTo>
                    <a:lnTo>
                      <a:pt x="107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4172040" y="4236840"/>
                <a:ext cx="36360" cy="60480"/>
              </a:xfrm>
              <a:custGeom>
                <a:avLst/>
                <a:gdLst/>
                <a:ahLst/>
                <a:rect l="l" t="t" r="r" b="b"/>
                <a:pathLst>
                  <a:path w="112" h="188">
                    <a:moveTo>
                      <a:pt x="107" y="18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2" y="186"/>
                    </a:lnTo>
                    <a:lnTo>
                      <a:pt x="107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4173480" y="423684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1" h="188">
                    <a:moveTo>
                      <a:pt x="107" y="188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1" y="187"/>
                    </a:lnTo>
                    <a:lnTo>
                      <a:pt x="107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173480" y="4236840"/>
                <a:ext cx="34920" cy="59040"/>
              </a:xfrm>
              <a:custGeom>
                <a:avLst/>
                <a:gdLst/>
                <a:ahLst/>
                <a:rect l="l" t="t" r="r" b="b"/>
                <a:pathLst>
                  <a:path w="112" h="188">
                    <a:moveTo>
                      <a:pt x="109" y="188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2" y="187"/>
                    </a:lnTo>
                    <a:lnTo>
                      <a:pt x="109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4173480" y="4236840"/>
                <a:ext cx="36360" cy="59040"/>
              </a:xfrm>
              <a:custGeom>
                <a:avLst/>
                <a:gdLst/>
                <a:ahLst/>
                <a:rect l="l" t="t" r="r" b="b"/>
                <a:pathLst>
                  <a:path w="111" h="189">
                    <a:moveTo>
                      <a:pt x="107" y="18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1" y="186"/>
                    </a:lnTo>
                    <a:lnTo>
                      <a:pt x="107" y="1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174920" y="423540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1" h="189">
                    <a:moveTo>
                      <a:pt x="108" y="18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1" y="186"/>
                    </a:lnTo>
                    <a:lnTo>
                      <a:pt x="108" y="1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174920" y="423540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1" h="189">
                    <a:moveTo>
                      <a:pt x="108" y="189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1" y="188"/>
                    </a:lnTo>
                    <a:lnTo>
                      <a:pt x="108" y="1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174920" y="423540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1" h="189">
                    <a:moveTo>
                      <a:pt x="108" y="189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1" y="188"/>
                    </a:lnTo>
                    <a:lnTo>
                      <a:pt x="108" y="1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174920" y="4235400"/>
                <a:ext cx="36720" cy="60480"/>
              </a:xfrm>
              <a:custGeom>
                <a:avLst/>
                <a:gdLst/>
                <a:ahLst/>
                <a:rect l="l" t="t" r="r" b="b"/>
                <a:pathLst>
                  <a:path w="112" h="190">
                    <a:moveTo>
                      <a:pt x="109" y="19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2" y="188"/>
                    </a:lnTo>
                    <a:lnTo>
                      <a:pt x="109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176720" y="423396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12" h="190">
                    <a:moveTo>
                      <a:pt x="108" y="19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2" y="188"/>
                    </a:lnTo>
                    <a:lnTo>
                      <a:pt x="108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4176720" y="423396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12" h="191">
                    <a:moveTo>
                      <a:pt x="109" y="191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2" y="190"/>
                    </a:lnTo>
                    <a:lnTo>
                      <a:pt x="109" y="1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176720" y="4233960"/>
                <a:ext cx="36360" cy="60120"/>
              </a:xfrm>
              <a:custGeom>
                <a:avLst/>
                <a:gdLst/>
                <a:ahLst/>
                <a:rect l="l" t="t" r="r" b="b"/>
                <a:pathLst>
                  <a:path w="112" h="191">
                    <a:moveTo>
                      <a:pt x="109" y="191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2" y="190"/>
                    </a:lnTo>
                    <a:lnTo>
                      <a:pt x="109" y="1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178160" y="423396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13" h="192">
                    <a:moveTo>
                      <a:pt x="109" y="19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3" y="190"/>
                    </a:lnTo>
                    <a:lnTo>
                      <a:pt x="109" y="1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178160" y="423216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3" h="192">
                    <a:moveTo>
                      <a:pt x="109" y="19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3" y="191"/>
                    </a:lnTo>
                    <a:lnTo>
                      <a:pt x="109" y="1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4178160" y="423216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4" h="192">
                    <a:moveTo>
                      <a:pt x="110" y="19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1"/>
                    </a:lnTo>
                    <a:lnTo>
                      <a:pt x="110" y="1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179960" y="423216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114" h="193">
                    <a:moveTo>
                      <a:pt x="110" y="19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1"/>
                    </a:lnTo>
                    <a:lnTo>
                      <a:pt x="110" y="1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179960" y="4232160"/>
                <a:ext cx="36360" cy="60480"/>
              </a:xfrm>
              <a:custGeom>
                <a:avLst/>
                <a:gdLst/>
                <a:ahLst/>
                <a:rect l="l" t="t" r="r" b="b"/>
                <a:pathLst>
                  <a:path w="114" h="193">
                    <a:moveTo>
                      <a:pt x="111" y="193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4" y="191"/>
                    </a:lnTo>
                    <a:lnTo>
                      <a:pt x="111" y="1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179960" y="4232160"/>
                <a:ext cx="36360" cy="60480"/>
              </a:xfrm>
              <a:custGeom>
                <a:avLst/>
                <a:gdLst/>
                <a:ahLst/>
                <a:rect l="l" t="t" r="r" b="b"/>
                <a:pathLst>
                  <a:path w="114" h="193">
                    <a:moveTo>
                      <a:pt x="111" y="193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4" y="192"/>
                    </a:lnTo>
                    <a:lnTo>
                      <a:pt x="111" y="1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4181400" y="423072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114" h="193">
                    <a:moveTo>
                      <a:pt x="110" y="19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2"/>
                    </a:lnTo>
                    <a:lnTo>
                      <a:pt x="110" y="1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4181400" y="42307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3" h="194">
                    <a:moveTo>
                      <a:pt x="110" y="19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3" y="192"/>
                    </a:lnTo>
                    <a:lnTo>
                      <a:pt x="110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181400" y="42307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4" h="194">
                    <a:moveTo>
                      <a:pt x="111" y="19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2"/>
                    </a:lnTo>
                    <a:lnTo>
                      <a:pt x="111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182840" y="423072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114" h="194">
                    <a:moveTo>
                      <a:pt x="110" y="19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3"/>
                    </a:lnTo>
                    <a:lnTo>
                      <a:pt x="110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182840" y="4230720"/>
                <a:ext cx="36720" cy="60120"/>
              </a:xfrm>
              <a:custGeom>
                <a:avLst/>
                <a:gdLst/>
                <a:ahLst/>
                <a:rect l="l" t="t" r="r" b="b"/>
                <a:pathLst>
                  <a:path w="114" h="194">
                    <a:moveTo>
                      <a:pt x="111" y="19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3"/>
                    </a:lnTo>
                    <a:lnTo>
                      <a:pt x="111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4182840" y="422892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4" h="195">
                    <a:moveTo>
                      <a:pt x="111" y="195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114" y="193"/>
                    </a:lnTo>
                    <a:lnTo>
                      <a:pt x="111" y="1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4182840" y="422892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5" h="195">
                    <a:moveTo>
                      <a:pt x="111" y="19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5" y="193"/>
                    </a:lnTo>
                    <a:lnTo>
                      <a:pt x="111" y="1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184640" y="42289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6" h="196">
                    <a:moveTo>
                      <a:pt x="112" y="19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6" y="195"/>
                    </a:lnTo>
                    <a:lnTo>
                      <a:pt x="112" y="19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184640" y="42289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6" h="196">
                    <a:moveTo>
                      <a:pt x="112" y="19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6" y="195"/>
                    </a:lnTo>
                    <a:lnTo>
                      <a:pt x="112" y="19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4184640" y="422748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17" h="198">
                    <a:moveTo>
                      <a:pt x="113" y="198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7" y="196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4186080" y="4227480"/>
                <a:ext cx="36720" cy="6336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113" y="198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6" y="196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4186080" y="422748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7" h="198">
                    <a:moveTo>
                      <a:pt x="114" y="19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7" y="197"/>
                    </a:lnTo>
                    <a:lnTo>
                      <a:pt x="114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4186080" y="422748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113" y="198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6" y="197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4186080" y="422604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17" h="199">
                    <a:moveTo>
                      <a:pt x="114" y="199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7" y="196"/>
                    </a:lnTo>
                    <a:lnTo>
                      <a:pt x="114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4187880" y="4226040"/>
                <a:ext cx="36360" cy="63360"/>
              </a:xfrm>
              <a:custGeom>
                <a:avLst/>
                <a:gdLst/>
                <a:ahLst/>
                <a:rect l="l" t="t" r="r" b="b"/>
                <a:pathLst>
                  <a:path w="116" h="199">
                    <a:moveTo>
                      <a:pt x="112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6" y="196"/>
                    </a:lnTo>
                    <a:lnTo>
                      <a:pt x="112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187880" y="4226040"/>
                <a:ext cx="36360" cy="6336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113" y="19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6" y="197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4189320" y="422604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113" y="19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6" y="197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4189320" y="422604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7" h="199">
                    <a:moveTo>
                      <a:pt x="113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7" y="197"/>
                    </a:lnTo>
                    <a:lnTo>
                      <a:pt x="113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4189320" y="4224240"/>
                <a:ext cx="36360" cy="63720"/>
              </a:xfrm>
              <a:custGeom>
                <a:avLst/>
                <a:gdLst/>
                <a:ahLst/>
                <a:rect l="l" t="t" r="r" b="b"/>
                <a:pathLst>
                  <a:path w="116" h="199">
                    <a:moveTo>
                      <a:pt x="113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6" y="197"/>
                    </a:lnTo>
                    <a:lnTo>
                      <a:pt x="113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189320" y="4224240"/>
                <a:ext cx="38160" cy="63720"/>
              </a:xfrm>
              <a:custGeom>
                <a:avLst/>
                <a:gdLst/>
                <a:ahLst/>
                <a:rect l="l" t="t" r="r" b="b"/>
                <a:pathLst>
                  <a:path w="118" h="199">
                    <a:moveTo>
                      <a:pt x="114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8" y="198"/>
                    </a:lnTo>
                    <a:lnTo>
                      <a:pt x="114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4190760" y="4224240"/>
                <a:ext cx="36720" cy="63720"/>
              </a:xfrm>
              <a:custGeom>
                <a:avLst/>
                <a:gdLst/>
                <a:ahLst/>
                <a:rect l="l" t="t" r="r" b="b"/>
                <a:pathLst>
                  <a:path w="118" h="199">
                    <a:moveTo>
                      <a:pt x="113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8" y="198"/>
                    </a:lnTo>
                    <a:lnTo>
                      <a:pt x="113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4190760" y="4224240"/>
                <a:ext cx="38160" cy="63720"/>
              </a:xfrm>
              <a:custGeom>
                <a:avLst/>
                <a:gdLst/>
                <a:ahLst/>
                <a:rect l="l" t="t" r="r" b="b"/>
                <a:pathLst>
                  <a:path w="118" h="200">
                    <a:moveTo>
                      <a:pt x="115" y="20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8" y="198"/>
                    </a:lnTo>
                    <a:lnTo>
                      <a:pt x="115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190760" y="4224240"/>
                <a:ext cx="38160" cy="63720"/>
              </a:xfrm>
              <a:custGeom>
                <a:avLst/>
                <a:gdLst/>
                <a:ahLst/>
                <a:rect l="l" t="t" r="r" b="b"/>
                <a:pathLst>
                  <a:path w="118" h="200">
                    <a:moveTo>
                      <a:pt x="115" y="20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118" y="198"/>
                    </a:lnTo>
                    <a:lnTo>
                      <a:pt x="115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4192560" y="4222800"/>
                <a:ext cx="36360" cy="63360"/>
              </a:xfrm>
              <a:custGeom>
                <a:avLst/>
                <a:gdLst/>
                <a:ahLst/>
                <a:rect l="l" t="t" r="r" b="b"/>
                <a:pathLst>
                  <a:path w="119" h="200">
                    <a:moveTo>
                      <a:pt x="115" y="20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9" y="199"/>
                    </a:lnTo>
                    <a:lnTo>
                      <a:pt x="115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4192560" y="422280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19" h="200">
                    <a:moveTo>
                      <a:pt x="116" y="20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9" y="199"/>
                    </a:lnTo>
                    <a:lnTo>
                      <a:pt x="116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192560" y="422280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19" h="201">
                    <a:moveTo>
                      <a:pt x="116" y="201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9" y="199"/>
                    </a:lnTo>
                    <a:lnTo>
                      <a:pt x="116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192560" y="422280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20" h="202">
                    <a:moveTo>
                      <a:pt x="116" y="202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120" y="200"/>
                    </a:lnTo>
                    <a:lnTo>
                      <a:pt x="116" y="2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194000" y="422100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18" h="203">
                    <a:moveTo>
                      <a:pt x="115" y="203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118" y="202"/>
                    </a:lnTo>
                    <a:lnTo>
                      <a:pt x="115" y="2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4194000" y="422100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19" h="203">
                    <a:moveTo>
                      <a:pt x="116" y="20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9" y="202"/>
                    </a:lnTo>
                    <a:lnTo>
                      <a:pt x="116" y="2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4195800" y="4221000"/>
                <a:ext cx="36360" cy="65160"/>
              </a:xfrm>
              <a:custGeom>
                <a:avLst/>
                <a:gdLst/>
                <a:ahLst/>
                <a:rect l="l" t="t" r="r" b="b"/>
                <a:pathLst>
                  <a:path w="119" h="204">
                    <a:moveTo>
                      <a:pt x="115" y="20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9" y="202"/>
                    </a:lnTo>
                    <a:lnTo>
                      <a:pt x="115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4195800" y="4221000"/>
                <a:ext cx="37800" cy="63720"/>
              </a:xfrm>
              <a:custGeom>
                <a:avLst/>
                <a:gdLst/>
                <a:ahLst/>
                <a:rect l="l" t="t" r="r" b="b"/>
                <a:pathLst>
                  <a:path w="119" h="204">
                    <a:moveTo>
                      <a:pt x="116" y="20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9" y="202"/>
                    </a:lnTo>
                    <a:lnTo>
                      <a:pt x="116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4195800" y="4219560"/>
                <a:ext cx="37800" cy="65160"/>
              </a:xfrm>
              <a:custGeom>
                <a:avLst/>
                <a:gdLst/>
                <a:ahLst/>
                <a:rect l="l" t="t" r="r" b="b"/>
                <a:pathLst>
                  <a:path w="120" h="204">
                    <a:moveTo>
                      <a:pt x="116" y="20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0" y="203"/>
                    </a:lnTo>
                    <a:lnTo>
                      <a:pt x="116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4195800" y="4219560"/>
                <a:ext cx="37800" cy="65160"/>
              </a:xfrm>
              <a:custGeom>
                <a:avLst/>
                <a:gdLst/>
                <a:ahLst/>
                <a:rect l="l" t="t" r="r" b="b"/>
                <a:pathLst>
                  <a:path w="120" h="204">
                    <a:moveTo>
                      <a:pt x="116" y="20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0" y="203"/>
                    </a:lnTo>
                    <a:lnTo>
                      <a:pt x="116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4197240" y="42195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0" h="205">
                    <a:moveTo>
                      <a:pt x="117" y="2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0" y="203"/>
                    </a:lnTo>
                    <a:lnTo>
                      <a:pt x="117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4197240" y="42195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5">
                    <a:moveTo>
                      <a:pt x="117" y="2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3"/>
                    </a:lnTo>
                    <a:lnTo>
                      <a:pt x="117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4197240" y="42195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0" h="205">
                    <a:moveTo>
                      <a:pt x="117" y="2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0" y="204"/>
                    </a:lnTo>
                    <a:lnTo>
                      <a:pt x="117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41986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5">
                    <a:moveTo>
                      <a:pt x="118" y="2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4"/>
                    </a:lnTo>
                    <a:lnTo>
                      <a:pt x="118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41986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6">
                    <a:moveTo>
                      <a:pt x="117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4"/>
                    </a:lnTo>
                    <a:lnTo>
                      <a:pt x="117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2" name=""/>
            <p:cNvGrpSpPr/>
            <p:nvPr/>
          </p:nvGrpSpPr>
          <p:grpSpPr>
            <a:xfrm>
              <a:off x="4159080" y="3400200"/>
              <a:ext cx="1792440" cy="903600"/>
              <a:chOff x="4159080" y="3400200"/>
              <a:chExt cx="1792440" cy="903600"/>
            </a:xfrm>
          </p:grpSpPr>
          <p:sp>
            <p:nvSpPr>
              <p:cNvPr id="2883" name=""/>
              <p:cNvSpPr/>
              <p:nvPr/>
            </p:nvSpPr>
            <p:spPr>
              <a:xfrm>
                <a:off x="41986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6">
                    <a:moveTo>
                      <a:pt x="118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5"/>
                    </a:lnTo>
                    <a:lnTo>
                      <a:pt x="118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42004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6">
                    <a:moveTo>
                      <a:pt x="118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5"/>
                    </a:lnTo>
                    <a:lnTo>
                      <a:pt x="118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42004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2" h="207">
                    <a:moveTo>
                      <a:pt x="118" y="207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2" y="204"/>
                    </a:lnTo>
                    <a:lnTo>
                      <a:pt x="118" y="2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4200480" y="421632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21" h="207">
                    <a:moveTo>
                      <a:pt x="118" y="20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4"/>
                    </a:lnTo>
                    <a:lnTo>
                      <a:pt x="118" y="2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201920" y="421632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6">
                    <a:moveTo>
                      <a:pt x="118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5"/>
                    </a:lnTo>
                    <a:lnTo>
                      <a:pt x="118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4201920" y="421632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118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5"/>
                    </a:lnTo>
                    <a:lnTo>
                      <a:pt x="118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4201920" y="4214880"/>
                <a:ext cx="39960" cy="66600"/>
              </a:xfrm>
              <a:custGeom>
                <a:avLst/>
                <a:gdLst/>
                <a:ahLst/>
                <a:rect l="l" t="t" r="r" b="b"/>
                <a:pathLst>
                  <a:path w="122" h="209">
                    <a:moveTo>
                      <a:pt x="118" y="209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122" y="207"/>
                    </a:lnTo>
                    <a:lnTo>
                      <a:pt x="118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201920" y="4214880"/>
                <a:ext cx="39960" cy="66600"/>
              </a:xfrm>
              <a:custGeom>
                <a:avLst/>
                <a:gdLst/>
                <a:ahLst/>
                <a:rect l="l" t="t" r="r" b="b"/>
                <a:pathLst>
                  <a:path w="123" h="209">
                    <a:moveTo>
                      <a:pt x="120" y="209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123" y="207"/>
                    </a:lnTo>
                    <a:lnTo>
                      <a:pt x="120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4203720" y="421488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23" h="209">
                    <a:moveTo>
                      <a:pt x="119" y="20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8"/>
                    </a:lnTo>
                    <a:lnTo>
                      <a:pt x="119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4203720" y="42148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3" h="209">
                    <a:moveTo>
                      <a:pt x="120" y="20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8"/>
                    </a:lnTo>
                    <a:lnTo>
                      <a:pt x="120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4203720" y="42148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3" h="210">
                    <a:moveTo>
                      <a:pt x="120" y="21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8"/>
                    </a:lnTo>
                    <a:lnTo>
                      <a:pt x="120" y="2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4205160" y="421308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24" h="210">
                    <a:moveTo>
                      <a:pt x="120" y="21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4" y="208"/>
                    </a:lnTo>
                    <a:lnTo>
                      <a:pt x="120" y="2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205160" y="42130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3" h="210">
                    <a:moveTo>
                      <a:pt x="120" y="21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9"/>
                    </a:lnTo>
                    <a:lnTo>
                      <a:pt x="120" y="2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205160" y="42130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4" h="210">
                    <a:moveTo>
                      <a:pt x="121" y="21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4" y="209"/>
                    </a:lnTo>
                    <a:lnTo>
                      <a:pt x="121" y="2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206960" y="4213080"/>
                <a:ext cx="37800" cy="66600"/>
              </a:xfrm>
              <a:custGeom>
                <a:avLst/>
                <a:gdLst/>
                <a:ahLst/>
                <a:rect l="l" t="t" r="r" b="b"/>
                <a:pathLst>
                  <a:path w="124" h="211">
                    <a:moveTo>
                      <a:pt x="120" y="211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4" y="209"/>
                    </a:lnTo>
                    <a:lnTo>
                      <a:pt x="120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206960" y="42130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4" h="211">
                    <a:moveTo>
                      <a:pt x="121" y="211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4" y="209"/>
                    </a:lnTo>
                    <a:lnTo>
                      <a:pt x="121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206960" y="4211640"/>
                <a:ext cx="39600" cy="68040"/>
              </a:xfrm>
              <a:custGeom>
                <a:avLst/>
                <a:gdLst/>
                <a:ahLst/>
                <a:rect l="l" t="t" r="r" b="b"/>
                <a:pathLst>
                  <a:path w="123" h="211">
                    <a:moveTo>
                      <a:pt x="120" y="211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123" y="210"/>
                    </a:lnTo>
                    <a:lnTo>
                      <a:pt x="120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208400" y="421164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23" h="211">
                    <a:moveTo>
                      <a:pt x="120" y="21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10"/>
                    </a:lnTo>
                    <a:lnTo>
                      <a:pt x="120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208400" y="421164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5" h="212">
                    <a:moveTo>
                      <a:pt x="121" y="21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5" y="210"/>
                    </a:lnTo>
                    <a:lnTo>
                      <a:pt x="121" y="2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208400" y="421164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5" h="212">
                    <a:moveTo>
                      <a:pt x="120" y="21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5" y="210"/>
                    </a:lnTo>
                    <a:lnTo>
                      <a:pt x="120" y="2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208400" y="421164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5" h="212">
                    <a:moveTo>
                      <a:pt x="122" y="21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5" y="211"/>
                    </a:lnTo>
                    <a:lnTo>
                      <a:pt x="122" y="2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209840" y="420984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25" h="212">
                    <a:moveTo>
                      <a:pt x="122" y="21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5" y="211"/>
                    </a:lnTo>
                    <a:lnTo>
                      <a:pt x="122" y="2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209840" y="420984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26" h="213">
                    <a:moveTo>
                      <a:pt x="122" y="21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6" y="211"/>
                    </a:lnTo>
                    <a:lnTo>
                      <a:pt x="122" y="2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209840" y="420984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25" h="214">
                    <a:moveTo>
                      <a:pt x="122" y="21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5" y="212"/>
                    </a:lnTo>
                    <a:lnTo>
                      <a:pt x="122" y="2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4211640" y="4209840"/>
                <a:ext cx="39600" cy="66960"/>
              </a:xfrm>
              <a:custGeom>
                <a:avLst/>
                <a:gdLst/>
                <a:ahLst/>
                <a:rect l="l" t="t" r="r" b="b"/>
                <a:pathLst>
                  <a:path w="126" h="214">
                    <a:moveTo>
                      <a:pt x="123" y="21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6" y="213"/>
                    </a:lnTo>
                    <a:lnTo>
                      <a:pt x="123" y="2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211640" y="42084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26" h="215">
                    <a:moveTo>
                      <a:pt x="122" y="21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6" y="214"/>
                    </a:lnTo>
                    <a:lnTo>
                      <a:pt x="122" y="2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211640" y="42084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26" h="216">
                    <a:moveTo>
                      <a:pt x="123" y="21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6" y="214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213080" y="42084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26" h="216">
                    <a:moveTo>
                      <a:pt x="123" y="21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6" y="214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4213080" y="42084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3" y="216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7" y="215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4213080" y="420696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3" y="216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7" y="214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4214880" y="420696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27" h="217">
                    <a:moveTo>
                      <a:pt x="123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7" y="214"/>
                    </a:lnTo>
                    <a:lnTo>
                      <a:pt x="123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4214880" y="4206960"/>
                <a:ext cx="39600" cy="6804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3" y="21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7" y="214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214880" y="4206960"/>
                <a:ext cx="41040" cy="6804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4" y="21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7" y="215"/>
                    </a:lnTo>
                    <a:lnTo>
                      <a:pt x="124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4216320" y="4206960"/>
                <a:ext cx="39600" cy="6804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4" y="216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127" y="215"/>
                    </a:lnTo>
                    <a:lnTo>
                      <a:pt x="124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4216320" y="420516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124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5"/>
                    </a:lnTo>
                    <a:lnTo>
                      <a:pt x="124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4216320" y="420516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125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5"/>
                    </a:lnTo>
                    <a:lnTo>
                      <a:pt x="125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4216320" y="4205160"/>
                <a:ext cx="41400" cy="684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125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6"/>
                    </a:lnTo>
                    <a:lnTo>
                      <a:pt x="125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217760" y="420516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125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6"/>
                    </a:lnTo>
                    <a:lnTo>
                      <a:pt x="125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217760" y="4205160"/>
                <a:ext cx="41400" cy="68400"/>
              </a:xfrm>
              <a:custGeom>
                <a:avLst/>
                <a:gdLst/>
                <a:ahLst/>
                <a:rect l="l" t="t" r="r" b="b"/>
                <a:pathLst>
                  <a:path w="128" h="218">
                    <a:moveTo>
                      <a:pt x="125" y="21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6"/>
                    </a:lnTo>
                    <a:lnTo>
                      <a:pt x="125" y="2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217760" y="420372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29" h="218">
                    <a:moveTo>
                      <a:pt x="125" y="21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9" y="216"/>
                    </a:lnTo>
                    <a:lnTo>
                      <a:pt x="125" y="2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219560" y="420372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28" h="219">
                    <a:moveTo>
                      <a:pt x="125" y="219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8" y="218"/>
                    </a:lnTo>
                    <a:lnTo>
                      <a:pt x="125" y="2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4219560" y="4203720"/>
                <a:ext cx="41040" cy="69840"/>
              </a:xfrm>
              <a:custGeom>
                <a:avLst/>
                <a:gdLst/>
                <a:ahLst/>
                <a:rect l="l" t="t" r="r" b="b"/>
                <a:pathLst>
                  <a:path w="130" h="219">
                    <a:moveTo>
                      <a:pt x="126" y="219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30" y="218"/>
                    </a:lnTo>
                    <a:lnTo>
                      <a:pt x="126" y="2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4219560" y="4203720"/>
                <a:ext cx="41040" cy="69840"/>
              </a:xfrm>
              <a:custGeom>
                <a:avLst/>
                <a:gdLst/>
                <a:ahLst/>
                <a:rect l="l" t="t" r="r" b="b"/>
                <a:pathLst>
                  <a:path w="130" h="220">
                    <a:moveTo>
                      <a:pt x="125" y="220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30" y="218"/>
                    </a:lnTo>
                    <a:lnTo>
                      <a:pt x="125" y="2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4219560" y="4201920"/>
                <a:ext cx="41040" cy="69840"/>
              </a:xfrm>
              <a:custGeom>
                <a:avLst/>
                <a:gdLst/>
                <a:ahLst/>
                <a:rect l="l" t="t" r="r" b="b"/>
                <a:pathLst>
                  <a:path w="130" h="220">
                    <a:moveTo>
                      <a:pt x="127" y="220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30" y="219"/>
                    </a:lnTo>
                    <a:lnTo>
                      <a:pt x="127" y="2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221000" y="420192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29" h="221">
                    <a:moveTo>
                      <a:pt x="126" y="221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9" y="220"/>
                    </a:lnTo>
                    <a:lnTo>
                      <a:pt x="126" y="2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221000" y="420192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30" h="222">
                    <a:moveTo>
                      <a:pt x="126" y="222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30" y="220"/>
                    </a:lnTo>
                    <a:lnTo>
                      <a:pt x="126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222800" y="420192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29" h="222">
                    <a:moveTo>
                      <a:pt x="126" y="22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9" y="220"/>
                    </a:lnTo>
                    <a:lnTo>
                      <a:pt x="126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222800" y="420048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0" h="222">
                    <a:moveTo>
                      <a:pt x="127" y="22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30" y="221"/>
                    </a:lnTo>
                    <a:lnTo>
                      <a:pt x="127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4222800" y="420048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0" h="222">
                    <a:moveTo>
                      <a:pt x="126" y="22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30" y="221"/>
                    </a:lnTo>
                    <a:lnTo>
                      <a:pt x="126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4222800" y="420048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0" h="223">
                    <a:moveTo>
                      <a:pt x="127" y="22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2" y="103"/>
                    </a:lnTo>
                    <a:lnTo>
                      <a:pt x="66" y="110"/>
                    </a:lnTo>
                    <a:lnTo>
                      <a:pt x="71" y="118"/>
                    </a:lnTo>
                    <a:lnTo>
                      <a:pt x="130" y="221"/>
                    </a:lnTo>
                    <a:lnTo>
                      <a:pt x="127" y="2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4224240" y="420048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30" h="223">
                    <a:moveTo>
                      <a:pt x="127" y="22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3" y="86"/>
                    </a:lnTo>
                    <a:lnTo>
                      <a:pt x="64" y="111"/>
                    </a:lnTo>
                    <a:lnTo>
                      <a:pt x="81" y="136"/>
                    </a:lnTo>
                    <a:lnTo>
                      <a:pt x="130" y="221"/>
                    </a:lnTo>
                    <a:lnTo>
                      <a:pt x="127" y="2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4224240" y="420048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31" h="223">
                    <a:moveTo>
                      <a:pt x="127" y="223"/>
                    </a:moveTo>
                    <a:lnTo>
                      <a:pt x="68" y="120"/>
                    </a:lnTo>
                    <a:lnTo>
                      <a:pt x="91" y="153"/>
                    </a:lnTo>
                    <a:lnTo>
                      <a:pt x="131" y="222"/>
                    </a:lnTo>
                    <a:lnTo>
                      <a:pt x="127" y="223"/>
                    </a:lnTo>
                    <a:close/>
                    <a:moveTo>
                      <a:pt x="59" y="1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43" y="69"/>
                    </a:lnTo>
                    <a:lnTo>
                      <a:pt x="59" y="1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4224240" y="4199040"/>
                <a:ext cx="41400" cy="71280"/>
              </a:xfrm>
              <a:custGeom>
                <a:avLst/>
                <a:gdLst/>
                <a:ahLst/>
                <a:rect l="l" t="t" r="r" b="b"/>
                <a:pathLst>
                  <a:path w="131" h="223">
                    <a:moveTo>
                      <a:pt x="128" y="223"/>
                    </a:moveTo>
                    <a:lnTo>
                      <a:pt x="79" y="138"/>
                    </a:lnTo>
                    <a:lnTo>
                      <a:pt x="101" y="169"/>
                    </a:lnTo>
                    <a:lnTo>
                      <a:pt x="102" y="169"/>
                    </a:lnTo>
                    <a:lnTo>
                      <a:pt x="131" y="222"/>
                    </a:lnTo>
                    <a:lnTo>
                      <a:pt x="128" y="223"/>
                    </a:lnTo>
                    <a:close/>
                    <a:moveTo>
                      <a:pt x="51" y="8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5" y="55"/>
                    </a:lnTo>
                    <a:lnTo>
                      <a:pt x="36" y="56"/>
                    </a:lnTo>
                    <a:lnTo>
                      <a:pt x="51" y="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4225680" y="4199040"/>
                <a:ext cx="41400" cy="71280"/>
              </a:xfrm>
              <a:custGeom>
                <a:avLst/>
                <a:gdLst/>
                <a:ahLst/>
                <a:rect l="l" t="t" r="r" b="b"/>
                <a:pathLst>
                  <a:path w="132" h="224">
                    <a:moveTo>
                      <a:pt x="128" y="224"/>
                    </a:moveTo>
                    <a:lnTo>
                      <a:pt x="88" y="155"/>
                    </a:lnTo>
                    <a:lnTo>
                      <a:pt x="99" y="170"/>
                    </a:lnTo>
                    <a:lnTo>
                      <a:pt x="104" y="174"/>
                    </a:lnTo>
                    <a:lnTo>
                      <a:pt x="132" y="222"/>
                    </a:lnTo>
                    <a:lnTo>
                      <a:pt x="128" y="224"/>
                    </a:lnTo>
                    <a:close/>
                    <a:moveTo>
                      <a:pt x="40" y="7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2" y="49"/>
                    </a:lnTo>
                    <a:lnTo>
                      <a:pt x="34" y="57"/>
                    </a:lnTo>
                    <a:lnTo>
                      <a:pt x="40" y="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4225680" y="4199040"/>
                <a:ext cx="41400" cy="71280"/>
              </a:xfrm>
              <a:custGeom>
                <a:avLst/>
                <a:gdLst/>
                <a:ahLst/>
                <a:rect l="l" t="t" r="r" b="b"/>
                <a:pathLst>
                  <a:path w="133" h="224">
                    <a:moveTo>
                      <a:pt x="128" y="224"/>
                    </a:moveTo>
                    <a:lnTo>
                      <a:pt x="99" y="171"/>
                    </a:lnTo>
                    <a:lnTo>
                      <a:pt x="107" y="180"/>
                    </a:lnTo>
                    <a:lnTo>
                      <a:pt x="133" y="222"/>
                    </a:lnTo>
                    <a:lnTo>
                      <a:pt x="128" y="224"/>
                    </a:lnTo>
                    <a:close/>
                    <a:moveTo>
                      <a:pt x="32" y="5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0" y="44"/>
                    </a:lnTo>
                    <a:lnTo>
                      <a:pt x="32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225680" y="4199040"/>
                <a:ext cx="43200" cy="71280"/>
              </a:xfrm>
              <a:custGeom>
                <a:avLst/>
                <a:gdLst/>
                <a:ahLst/>
                <a:rect l="l" t="t" r="r" b="b"/>
                <a:pathLst>
                  <a:path w="132" h="224">
                    <a:moveTo>
                      <a:pt x="129" y="224"/>
                    </a:moveTo>
                    <a:lnTo>
                      <a:pt x="101" y="176"/>
                    </a:lnTo>
                    <a:lnTo>
                      <a:pt x="111" y="185"/>
                    </a:lnTo>
                    <a:lnTo>
                      <a:pt x="132" y="223"/>
                    </a:lnTo>
                    <a:lnTo>
                      <a:pt x="129" y="224"/>
                    </a:lnTo>
                    <a:close/>
                    <a:moveTo>
                      <a:pt x="29" y="51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26" y="39"/>
                    </a:lnTo>
                    <a:lnTo>
                      <a:pt x="29" y="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4225680" y="4199040"/>
                <a:ext cx="43200" cy="69840"/>
              </a:xfrm>
              <a:custGeom>
                <a:avLst/>
                <a:gdLst/>
                <a:ahLst/>
                <a:rect l="l" t="t" r="r" b="b"/>
                <a:pathLst>
                  <a:path w="133" h="224">
                    <a:moveTo>
                      <a:pt x="130" y="224"/>
                    </a:moveTo>
                    <a:lnTo>
                      <a:pt x="104" y="182"/>
                    </a:lnTo>
                    <a:lnTo>
                      <a:pt x="114" y="190"/>
                    </a:lnTo>
                    <a:lnTo>
                      <a:pt x="133" y="222"/>
                    </a:lnTo>
                    <a:lnTo>
                      <a:pt x="130" y="224"/>
                    </a:lnTo>
                    <a:close/>
                    <a:moveTo>
                      <a:pt x="27" y="46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24" y="33"/>
                    </a:lnTo>
                    <a:lnTo>
                      <a:pt x="27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4227480" y="419724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132" h="225">
                    <a:moveTo>
                      <a:pt x="128" y="225"/>
                    </a:moveTo>
                    <a:lnTo>
                      <a:pt x="107" y="187"/>
                    </a:lnTo>
                    <a:lnTo>
                      <a:pt x="116" y="195"/>
                    </a:lnTo>
                    <a:lnTo>
                      <a:pt x="132" y="222"/>
                    </a:lnTo>
                    <a:lnTo>
                      <a:pt x="128" y="225"/>
                    </a:lnTo>
                    <a:close/>
                    <a:moveTo>
                      <a:pt x="22" y="4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8" y="27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4227480" y="4197240"/>
                <a:ext cx="42840" cy="71640"/>
              </a:xfrm>
              <a:custGeom>
                <a:avLst/>
                <a:gdLst/>
                <a:ahLst/>
                <a:rect l="l" t="t" r="r" b="b"/>
                <a:pathLst>
                  <a:path w="132" h="225">
                    <a:moveTo>
                      <a:pt x="129" y="225"/>
                    </a:moveTo>
                    <a:lnTo>
                      <a:pt x="110" y="193"/>
                    </a:lnTo>
                    <a:lnTo>
                      <a:pt x="119" y="201"/>
                    </a:lnTo>
                    <a:lnTo>
                      <a:pt x="132" y="223"/>
                    </a:lnTo>
                    <a:lnTo>
                      <a:pt x="129" y="225"/>
                    </a:lnTo>
                    <a:close/>
                    <a:moveTo>
                      <a:pt x="20" y="3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6" y="23"/>
                    </a:lnTo>
                    <a:lnTo>
                      <a:pt x="20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228920" y="419724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132" h="225">
                    <a:moveTo>
                      <a:pt x="129" y="225"/>
                    </a:moveTo>
                    <a:lnTo>
                      <a:pt x="113" y="198"/>
                    </a:lnTo>
                    <a:lnTo>
                      <a:pt x="122" y="207"/>
                    </a:lnTo>
                    <a:lnTo>
                      <a:pt x="132" y="224"/>
                    </a:lnTo>
                    <a:lnTo>
                      <a:pt x="129" y="225"/>
                    </a:lnTo>
                    <a:close/>
                    <a:moveTo>
                      <a:pt x="15" y="30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" y="18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4228920" y="419724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132" h="225">
                    <a:moveTo>
                      <a:pt x="129" y="225"/>
                    </a:moveTo>
                    <a:lnTo>
                      <a:pt x="116" y="203"/>
                    </a:lnTo>
                    <a:lnTo>
                      <a:pt x="126" y="212"/>
                    </a:lnTo>
                    <a:lnTo>
                      <a:pt x="132" y="224"/>
                    </a:lnTo>
                    <a:lnTo>
                      <a:pt x="129" y="225"/>
                    </a:lnTo>
                    <a:close/>
                    <a:moveTo>
                      <a:pt x="13" y="2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" y="12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4228920" y="4195800"/>
                <a:ext cx="42840" cy="73080"/>
              </a:xfrm>
              <a:custGeom>
                <a:avLst/>
                <a:gdLst/>
                <a:ahLst/>
                <a:rect l="l" t="t" r="r" b="b"/>
                <a:pathLst>
                  <a:path w="132" h="226">
                    <a:moveTo>
                      <a:pt x="129" y="226"/>
                    </a:moveTo>
                    <a:lnTo>
                      <a:pt x="119" y="209"/>
                    </a:lnTo>
                    <a:lnTo>
                      <a:pt x="128" y="218"/>
                    </a:lnTo>
                    <a:lnTo>
                      <a:pt x="132" y="224"/>
                    </a:lnTo>
                    <a:lnTo>
                      <a:pt x="129" y="226"/>
                    </a:lnTo>
                    <a:close/>
                    <a:moveTo>
                      <a:pt x="9" y="2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7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4228920" y="4195800"/>
                <a:ext cx="42840" cy="71280"/>
              </a:xfrm>
              <a:custGeom>
                <a:avLst/>
                <a:gdLst/>
                <a:ahLst/>
                <a:rect l="l" t="t" r="r" b="b"/>
                <a:pathLst>
                  <a:path w="133" h="226">
                    <a:moveTo>
                      <a:pt x="129" y="226"/>
                    </a:moveTo>
                    <a:lnTo>
                      <a:pt x="123" y="214"/>
                    </a:lnTo>
                    <a:lnTo>
                      <a:pt x="132" y="223"/>
                    </a:lnTo>
                    <a:lnTo>
                      <a:pt x="133" y="224"/>
                    </a:lnTo>
                    <a:lnTo>
                      <a:pt x="129" y="226"/>
                    </a:lnTo>
                    <a:close/>
                    <a:moveTo>
                      <a:pt x="7" y="1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4" y="2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4230720" y="419580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1" h="225">
                    <a:moveTo>
                      <a:pt x="129" y="225"/>
                    </a:moveTo>
                    <a:lnTo>
                      <a:pt x="125" y="219"/>
                    </a:lnTo>
                    <a:lnTo>
                      <a:pt x="131" y="224"/>
                    </a:lnTo>
                    <a:lnTo>
                      <a:pt x="131" y="224"/>
                    </a:lnTo>
                    <a:lnTo>
                      <a:pt x="129" y="225"/>
                    </a:lnTo>
                    <a:close/>
                    <a:moveTo>
                      <a:pt x="4" y="8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4230720" y="419580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0" h="224">
                    <a:moveTo>
                      <a:pt x="130" y="224"/>
                    </a:moveTo>
                    <a:lnTo>
                      <a:pt x="129" y="223"/>
                    </a:lnTo>
                    <a:lnTo>
                      <a:pt x="130" y="224"/>
                    </a:lnTo>
                    <a:lnTo>
                      <a:pt x="130" y="224"/>
                    </a:lnTo>
                    <a:lnTo>
                      <a:pt x="130" y="224"/>
                    </a:lnTo>
                    <a:close/>
                    <a:moveTo>
                      <a:pt x="1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159080" y="4195800"/>
                <a:ext cx="112680" cy="108000"/>
              </a:xfrm>
              <a:custGeom>
                <a:avLst/>
                <a:gdLst/>
                <a:ahLst/>
                <a:rect l="l" t="t" r="r" b="b"/>
                <a:pathLst>
                  <a:path w="354" h="338">
                    <a:moveTo>
                      <a:pt x="225" y="0"/>
                    </a:moveTo>
                    <a:lnTo>
                      <a:pt x="241" y="67"/>
                    </a:lnTo>
                    <a:lnTo>
                      <a:pt x="267" y="124"/>
                    </a:lnTo>
                    <a:lnTo>
                      <a:pt x="306" y="180"/>
                    </a:lnTo>
                    <a:lnTo>
                      <a:pt x="354" y="224"/>
                    </a:lnTo>
                    <a:lnTo>
                      <a:pt x="102" y="338"/>
                    </a:lnTo>
                    <a:lnTo>
                      <a:pt x="62" y="308"/>
                    </a:lnTo>
                    <a:lnTo>
                      <a:pt x="30" y="261"/>
                    </a:lnTo>
                    <a:lnTo>
                      <a:pt x="11" y="220"/>
                    </a:lnTo>
                    <a:lnTo>
                      <a:pt x="0" y="161"/>
                    </a:lnTo>
                    <a:lnTo>
                      <a:pt x="225" y="0"/>
                    </a:lnTo>
                    <a:lnTo>
                      <a:pt x="225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413320" y="3678120"/>
                <a:ext cx="57240" cy="87480"/>
              </a:xfrm>
              <a:custGeom>
                <a:avLst/>
                <a:gdLst/>
                <a:ahLst/>
                <a:rect l="l" t="t" r="r" b="b"/>
                <a:pathLst>
                  <a:path w="178" h="277">
                    <a:moveTo>
                      <a:pt x="0" y="12"/>
                    </a:moveTo>
                    <a:lnTo>
                      <a:pt x="22" y="0"/>
                    </a:lnTo>
                    <a:lnTo>
                      <a:pt x="178" y="271"/>
                    </a:lnTo>
                    <a:lnTo>
                      <a:pt x="168" y="27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9ad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416560" y="3676680"/>
                <a:ext cx="56880" cy="88920"/>
              </a:xfrm>
              <a:custGeom>
                <a:avLst/>
                <a:gdLst/>
                <a:ahLst/>
                <a:rect l="l" t="t" r="r" b="b"/>
                <a:pathLst>
                  <a:path w="180" h="284">
                    <a:moveTo>
                      <a:pt x="138" y="25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1"/>
                    </a:lnTo>
                    <a:lnTo>
                      <a:pt x="158" y="284"/>
                    </a:lnTo>
                    <a:lnTo>
                      <a:pt x="138" y="252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421240" y="367344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5">
                    <a:moveTo>
                      <a:pt x="156" y="285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79" y="272"/>
                    </a:lnTo>
                    <a:lnTo>
                      <a:pt x="156" y="285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5424480" y="3672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4">
                    <a:moveTo>
                      <a:pt x="158" y="28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2"/>
                    </a:lnTo>
                    <a:lnTo>
                      <a:pt x="158" y="284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427720" y="367020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79" h="284">
                    <a:moveTo>
                      <a:pt x="157" y="284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79" y="271"/>
                    </a:lnTo>
                    <a:lnTo>
                      <a:pt x="157" y="284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430600" y="366696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4"/>
                    </a:lnTo>
                    <a:lnTo>
                      <a:pt x="24" y="0"/>
                    </a:lnTo>
                    <a:lnTo>
                      <a:pt x="180" y="272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435640" y="366552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6" y="285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0" y="272"/>
                    </a:lnTo>
                    <a:lnTo>
                      <a:pt x="156" y="285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438520" y="366408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4">
                    <a:moveTo>
                      <a:pt x="156" y="28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79" y="272"/>
                    </a:lnTo>
                    <a:lnTo>
                      <a:pt x="156" y="284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441760" y="366084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5">
                    <a:moveTo>
                      <a:pt x="158" y="285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2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bd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446800" y="3659040"/>
                <a:ext cx="55440" cy="9072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7" y="286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79" y="272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bd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449680" y="36576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8" y="285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2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bd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452920" y="365436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5">
                    <a:moveTo>
                      <a:pt x="156" y="285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79" y="272"/>
                    </a:lnTo>
                    <a:lnTo>
                      <a:pt x="156" y="285"/>
                    </a:lnTo>
                    <a:close/>
                  </a:path>
                </a:pathLst>
              </a:custGeom>
              <a:solidFill>
                <a:srgbClr val="9cc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456160" y="36529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7" y="285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2"/>
                    </a:lnTo>
                    <a:lnTo>
                      <a:pt x="157" y="285"/>
                    </a:lnTo>
                    <a:close/>
                  </a:path>
                </a:pathLst>
              </a:custGeom>
              <a:solidFill>
                <a:srgbClr val="9cc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460840" y="365112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7" y="285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7" y="285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464080" y="36478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2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467320" y="364644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79" y="272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470560" y="364500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0" h="284">
                    <a:moveTo>
                      <a:pt x="158" y="284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180" y="272"/>
                    </a:lnTo>
                    <a:lnTo>
                      <a:pt x="158" y="284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475240" y="364320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6" y="285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3"/>
                    </a:lnTo>
                    <a:lnTo>
                      <a:pt x="156" y="285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478480" y="363996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6" y="286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79" y="273"/>
                    </a:lnTo>
                    <a:lnTo>
                      <a:pt x="156" y="286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5481720" y="363852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2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486400" y="363708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7" y="285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0" y="272"/>
                    </a:lnTo>
                    <a:lnTo>
                      <a:pt x="157" y="285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489640" y="363384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492520" y="363204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7" y="286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79" y="273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495760" y="36306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8" y="285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0" y="273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500440" y="36273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2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ac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5503680" y="36259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ac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5506920" y="362412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7" y="285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7" y="285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5510160" y="362088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514840" y="361944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79" y="273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5518080" y="3618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8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521320" y="36147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7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7" y="287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526000" y="361296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5529240" y="36115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5">
                    <a:moveTo>
                      <a:pt x="158" y="285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ec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5532480" y="361008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ec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5535360" y="3606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8" y="287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0" y="273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ec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5540400" y="360504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8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ec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543640" y="360360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1" h="285">
                    <a:moveTo>
                      <a:pt x="158" y="285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5546520" y="36003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7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0" y="274"/>
                    </a:lnTo>
                    <a:lnTo>
                      <a:pt x="157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549760" y="3598920"/>
                <a:ext cx="58680" cy="903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1" y="274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5554440" y="359712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5557680" y="35938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7">
                    <a:moveTo>
                      <a:pt x="159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3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560920" y="35924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564160" y="3591000"/>
                <a:ext cx="5868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9" y="286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1" y="274"/>
                    </a:lnTo>
                    <a:lnTo>
                      <a:pt x="159" y="286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568840" y="35877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4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572080" y="35859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7" y="287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575320" y="3584520"/>
                <a:ext cx="5868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1" y="273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fca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580000" y="3581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8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5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9fca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583240" y="3579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9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4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9fc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586480" y="357804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8" y="287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0" y="274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589360" y="3576600"/>
                <a:ext cx="5904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1" y="274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594400" y="357336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0" h="288">
                    <a:moveTo>
                      <a:pt x="157" y="288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8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597280" y="3571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4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5600520" y="3570120"/>
                <a:ext cx="58680" cy="90720"/>
              </a:xfrm>
              <a:custGeom>
                <a:avLst/>
                <a:gdLst/>
                <a:ahLst/>
                <a:rect l="l" t="t" r="r" b="b"/>
                <a:pathLst>
                  <a:path w="182" h="286">
                    <a:moveTo>
                      <a:pt x="158" y="286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4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5603760" y="356724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9" y="287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1" y="274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608440" y="35654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9" y="288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1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611680" y="3564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7" y="287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5614920" y="35607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4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5619600" y="35589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4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622840" y="35575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2" h="287">
                    <a:moveTo>
                      <a:pt x="159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626080" y="3554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8">
                    <a:moveTo>
                      <a:pt x="158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0" y="276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629320" y="3552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1" y="274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634000" y="35510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8">
                    <a:moveTo>
                      <a:pt x="157" y="288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637240" y="354816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640480" y="3546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8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5643360" y="3544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5648400" y="354312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182" h="287">
                    <a:moveTo>
                      <a:pt x="159" y="287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2" y="274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654520" y="3540240"/>
                <a:ext cx="54000" cy="91800"/>
              </a:xfrm>
              <a:custGeom>
                <a:avLst/>
                <a:gdLst/>
                <a:ahLst/>
                <a:rect l="l" t="t" r="r" b="b"/>
                <a:pathLst>
                  <a:path w="169" h="289">
                    <a:moveTo>
                      <a:pt x="0" y="7"/>
                    </a:moveTo>
                    <a:lnTo>
                      <a:pt x="11" y="0"/>
                    </a:lnTo>
                    <a:lnTo>
                      <a:pt x="169" y="275"/>
                    </a:lnTo>
                    <a:lnTo>
                      <a:pt x="147" y="28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5654520" y="3538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0" y="13"/>
                    </a:moveTo>
                    <a:lnTo>
                      <a:pt x="22" y="0"/>
                    </a:lnTo>
                    <a:lnTo>
                      <a:pt x="181" y="275"/>
                    </a:lnTo>
                    <a:lnTo>
                      <a:pt x="159" y="28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5659200" y="3537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1" y="275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662440" y="35337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665680" y="35319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8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5"/>
                    </a:lnTo>
                    <a:lnTo>
                      <a:pt x="158" y="289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5668920" y="3530520"/>
                <a:ext cx="58680" cy="903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5673600" y="3527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8">
                    <a:moveTo>
                      <a:pt x="158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5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5676840" y="3525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60" y="288"/>
                    </a:moveTo>
                    <a:lnTo>
                      <a:pt x="0" y="13"/>
                    </a:lnTo>
                    <a:lnTo>
                      <a:pt x="3" y="12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60" y="288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5680080" y="352404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8" y="288"/>
                    </a:moveTo>
                    <a:lnTo>
                      <a:pt x="0" y="13"/>
                    </a:lnTo>
                    <a:lnTo>
                      <a:pt x="3" y="11"/>
                    </a:lnTo>
                    <a:lnTo>
                      <a:pt x="23" y="0"/>
                    </a:lnTo>
                    <a:lnTo>
                      <a:pt x="181" y="276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5683320" y="352116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5688000" y="35193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8" y="289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5"/>
                    </a:lnTo>
                    <a:lnTo>
                      <a:pt x="158" y="289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691240" y="351792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694120" y="3516120"/>
                <a:ext cx="59040" cy="90720"/>
              </a:xfrm>
              <a:custGeom>
                <a:avLst/>
                <a:gdLst/>
                <a:ahLst/>
                <a:rect l="l" t="t" r="r" b="b"/>
                <a:pathLst>
                  <a:path w="182" h="287">
                    <a:moveTo>
                      <a:pt x="160" y="287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60" y="287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699160" y="351324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702040" y="35114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705280" y="3510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8" y="288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1" y="275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5708520" y="35067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3c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5713200" y="350532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5716440" y="35035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3" h="288">
                    <a:moveTo>
                      <a:pt x="160" y="288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8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5719680" y="3500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5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5722920" y="3498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60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5727600" y="349704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8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6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730840" y="349416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2" y="277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5734080" y="3492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0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5737320" y="3490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0" y="289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183" y="275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5742000" y="348768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745240" y="348624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1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5748120" y="3484440"/>
                <a:ext cx="59040" cy="9216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2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753160" y="348300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1b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5756040" y="34797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1b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5759280" y="347832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762520" y="3476520"/>
                <a:ext cx="58680" cy="9072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60" y="288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60" y="288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767200" y="3473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1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5770440" y="3471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2" y="277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5773680" y="347040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59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776920" y="346716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3" y="276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5781600" y="34653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0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5784840" y="3463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1" y="277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788080" y="346068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2" y="278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4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792760" y="345924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4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796000" y="345744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798880" y="3454200"/>
                <a:ext cx="5904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8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802120" y="34527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3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807160" y="345132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2" y="277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810040" y="34495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1" y="289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1" y="289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813280" y="344628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0" y="291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816520" y="3444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5821200" y="344340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0" y="289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824440" y="344016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827680" y="3438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0" y="291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3" y="277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832360" y="3436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60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835600" y="34336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1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8"/>
                    </a:lnTo>
                    <a:lnTo>
                      <a:pt x="161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838840" y="343224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7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846760" y="3430440"/>
                <a:ext cx="54000" cy="92160"/>
              </a:xfrm>
              <a:custGeom>
                <a:avLst/>
                <a:gdLst/>
                <a:ahLst/>
                <a:rect l="l" t="t" r="r" b="b"/>
                <a:pathLst>
                  <a:path w="170" h="290">
                    <a:moveTo>
                      <a:pt x="0" y="5"/>
                    </a:moveTo>
                    <a:lnTo>
                      <a:pt x="9" y="0"/>
                    </a:lnTo>
                    <a:lnTo>
                      <a:pt x="170" y="277"/>
                    </a:lnTo>
                    <a:lnTo>
                      <a:pt x="147" y="29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846760" y="3427200"/>
                <a:ext cx="57240" cy="93960"/>
              </a:xfrm>
              <a:custGeom>
                <a:avLst/>
                <a:gdLst/>
                <a:ahLst/>
                <a:rect l="l" t="t" r="r" b="b"/>
                <a:pathLst>
                  <a:path w="181" h="291">
                    <a:moveTo>
                      <a:pt x="0" y="13"/>
                    </a:moveTo>
                    <a:lnTo>
                      <a:pt x="21" y="0"/>
                    </a:lnTo>
                    <a:lnTo>
                      <a:pt x="181" y="278"/>
                    </a:lnTo>
                    <a:lnTo>
                      <a:pt x="158" y="29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850000" y="34257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7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852880" y="3424320"/>
                <a:ext cx="59040" cy="9180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856120" y="34225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1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8"/>
                    </a:lnTo>
                    <a:lnTo>
                      <a:pt x="161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860800" y="3419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0" y="291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864040" y="3417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0" y="291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77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867280" y="341640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4" h="290">
                    <a:moveTo>
                      <a:pt x="161" y="290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4" y="277"/>
                    </a:lnTo>
                    <a:lnTo>
                      <a:pt x="161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870520" y="34131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0">
                    <a:moveTo>
                      <a:pt x="161" y="290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4" y="277"/>
                    </a:lnTo>
                    <a:lnTo>
                      <a:pt x="161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875200" y="3411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878440" y="3409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60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8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881680" y="3406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79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5886360" y="340524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2" h="291">
                    <a:moveTo>
                      <a:pt x="159" y="291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7"/>
                    </a:lnTo>
                    <a:lnTo>
                      <a:pt x="159" y="291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889600" y="3403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5892840" y="3400200"/>
                <a:ext cx="58680" cy="939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0" y="291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3" name=""/>
            <p:cNvGrpSpPr/>
            <p:nvPr/>
          </p:nvGrpSpPr>
          <p:grpSpPr>
            <a:xfrm>
              <a:off x="5089320" y="3220920"/>
              <a:ext cx="1230480" cy="669960"/>
              <a:chOff x="5089320" y="3220920"/>
              <a:chExt cx="1230480" cy="669960"/>
            </a:xfrm>
          </p:grpSpPr>
          <p:sp>
            <p:nvSpPr>
              <p:cNvPr id="3084" name=""/>
              <p:cNvSpPr/>
              <p:nvPr/>
            </p:nvSpPr>
            <p:spPr>
              <a:xfrm>
                <a:off x="5895720" y="3398760"/>
                <a:ext cx="5904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5900760" y="339732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1" y="291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5904000" y="33940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1" y="292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3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5906880" y="3392280"/>
                <a:ext cx="59040" cy="939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910120" y="3390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184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914800" y="3389400"/>
                <a:ext cx="59040" cy="9180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3b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918040" y="33861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0" y="29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9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3b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921280" y="3384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5925960" y="3382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91">
                    <a:moveTo>
                      <a:pt x="160" y="291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2" y="278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929200" y="3379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932440" y="33782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0" y="29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9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935680" y="3376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940360" y="33735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0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79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943600" y="33717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946840" y="337032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2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949720" y="3367080"/>
                <a:ext cx="5904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4"/>
                    </a:lnTo>
                    <a:lnTo>
                      <a:pt x="24" y="0"/>
                    </a:lnTo>
                    <a:lnTo>
                      <a:pt x="184" y="280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954760" y="3365280"/>
                <a:ext cx="58680" cy="939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57640" y="3363840"/>
                <a:ext cx="5904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0" y="292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960880" y="336060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4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9fa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965920" y="3359160"/>
                <a:ext cx="5688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9fa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5968800" y="3357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2" y="292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5972040" y="3355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80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5975280" y="3352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5979960" y="33512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0" y="293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79"/>
                    </a:lnTo>
                    <a:lnTo>
                      <a:pt x="160" y="293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5983200" y="3349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88">
                    <a:moveTo>
                      <a:pt x="161" y="288"/>
                    </a:moveTo>
                    <a:lnTo>
                      <a:pt x="0" y="9"/>
                    </a:lnTo>
                    <a:lnTo>
                      <a:pt x="17" y="0"/>
                    </a:lnTo>
                    <a:lnTo>
                      <a:pt x="161" y="288"/>
                    </a:lnTo>
                    <a:close/>
                    <a:moveTo>
                      <a:pt x="161" y="288"/>
                    </a:moveTo>
                    <a:lnTo>
                      <a:pt x="184" y="276"/>
                    </a:lnTo>
                    <a:lnTo>
                      <a:pt x="161" y="288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5986440" y="334800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5" h="289">
                    <a:moveTo>
                      <a:pt x="162" y="289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162" y="289"/>
                    </a:lnTo>
                    <a:close/>
                    <a:moveTo>
                      <a:pt x="162" y="289"/>
                    </a:moveTo>
                    <a:lnTo>
                      <a:pt x="185" y="277"/>
                    </a:lnTo>
                    <a:lnTo>
                      <a:pt x="162" y="289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5989680" y="33447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2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5994360" y="33433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5997600" y="33400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000840" y="33386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005520" y="333684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008760" y="333360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5" y="281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011640" y="3332160"/>
                <a:ext cx="59040" cy="93600"/>
              </a:xfrm>
              <a:custGeom>
                <a:avLst/>
                <a:gdLst/>
                <a:ahLst/>
                <a:rect l="l" t="t" r="r" b="b"/>
                <a:pathLst>
                  <a:path w="183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9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6014880" y="3330360"/>
                <a:ext cx="58680" cy="9396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2" y="293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6019560" y="3328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0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80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6022800" y="3325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4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6026040" y="33242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1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029280" y="3322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038640" y="3319560"/>
                <a:ext cx="54000" cy="93600"/>
              </a:xfrm>
              <a:custGeom>
                <a:avLst/>
                <a:gdLst/>
                <a:ahLst/>
                <a:rect l="l" t="t" r="r" b="b"/>
                <a:pathLst>
                  <a:path w="171" h="293">
                    <a:moveTo>
                      <a:pt x="0" y="5"/>
                    </a:moveTo>
                    <a:lnTo>
                      <a:pt x="9" y="0"/>
                    </a:lnTo>
                    <a:lnTo>
                      <a:pt x="171" y="279"/>
                    </a:lnTo>
                    <a:lnTo>
                      <a:pt x="148" y="29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038640" y="3317760"/>
                <a:ext cx="57240" cy="93600"/>
              </a:xfrm>
              <a:custGeom>
                <a:avLst/>
                <a:gdLst/>
                <a:ahLst/>
                <a:rect l="l" t="t" r="r" b="b"/>
                <a:pathLst>
                  <a:path w="181" h="293">
                    <a:moveTo>
                      <a:pt x="0" y="12"/>
                    </a:moveTo>
                    <a:lnTo>
                      <a:pt x="19" y="0"/>
                    </a:lnTo>
                    <a:lnTo>
                      <a:pt x="181" y="280"/>
                    </a:lnTo>
                    <a:lnTo>
                      <a:pt x="159" y="29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6040440" y="33163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2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80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6043680" y="33130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5" y="281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048360" y="33116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79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051600" y="33098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4">
                    <a:moveTo>
                      <a:pt x="161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80"/>
                    </a:lnTo>
                    <a:lnTo>
                      <a:pt x="161" y="294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054480" y="3306600"/>
                <a:ext cx="5904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5" y="281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6059520" y="3305160"/>
                <a:ext cx="56880" cy="93600"/>
              </a:xfrm>
              <a:custGeom>
                <a:avLst/>
                <a:gdLst/>
                <a:ahLst/>
                <a:rect l="l" t="t" r="r" b="b"/>
                <a:pathLst>
                  <a:path w="183" h="293">
                    <a:moveTo>
                      <a:pt x="161" y="293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6062400" y="3303360"/>
                <a:ext cx="59040" cy="9396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3" y="293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3" y="293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6065640" y="33004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1" y="294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5" y="281"/>
                    </a:lnTo>
                    <a:lnTo>
                      <a:pt x="161" y="29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6068880" y="3298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2" y="294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6073560" y="3297240"/>
                <a:ext cx="5904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6076800" y="3295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5" y="281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6080040" y="32925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4">
                    <a:moveTo>
                      <a:pt x="162" y="294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4" y="281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6083280" y="32907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3" y="294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5" y="280"/>
                    </a:lnTo>
                    <a:lnTo>
                      <a:pt x="163" y="29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087960" y="32893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2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1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1a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6091200" y="32860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81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6094440" y="32846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2" y="29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5" y="281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1a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099120" y="32828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4">
                    <a:moveTo>
                      <a:pt x="161" y="29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81"/>
                    </a:lnTo>
                    <a:lnTo>
                      <a:pt x="161" y="294"/>
                    </a:lnTo>
                    <a:close/>
                  </a:path>
                </a:pathLst>
              </a:custGeom>
              <a:solidFill>
                <a:srgbClr val="a1a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102360" y="3279600"/>
                <a:ext cx="58680" cy="9396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3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1"/>
                    </a:lnTo>
                    <a:lnTo>
                      <a:pt x="163" y="294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6105600" y="32781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2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6108480" y="327672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87" h="294">
                    <a:moveTo>
                      <a:pt x="162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7" y="284"/>
                    </a:lnTo>
                    <a:lnTo>
                      <a:pt x="179" y="284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6113520" y="3274920"/>
                <a:ext cx="60120" cy="92160"/>
              </a:xfrm>
              <a:custGeom>
                <a:avLst/>
                <a:gdLst/>
                <a:ahLst/>
                <a:rect l="l" t="t" r="r" b="b"/>
                <a:pathLst>
                  <a:path w="189" h="292">
                    <a:moveTo>
                      <a:pt x="162" y="292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189" y="287"/>
                    </a:lnTo>
                    <a:lnTo>
                      <a:pt x="167" y="289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6116400" y="3274920"/>
                <a:ext cx="61920" cy="92160"/>
              </a:xfrm>
              <a:custGeom>
                <a:avLst/>
                <a:gdLst/>
                <a:ahLst/>
                <a:rect l="l" t="t" r="r" b="b"/>
                <a:pathLst>
                  <a:path w="193" h="290">
                    <a:moveTo>
                      <a:pt x="164" y="290"/>
                    </a:moveTo>
                    <a:lnTo>
                      <a:pt x="0" y="6"/>
                    </a:lnTo>
                    <a:lnTo>
                      <a:pt x="9" y="1"/>
                    </a:lnTo>
                    <a:lnTo>
                      <a:pt x="27" y="0"/>
                    </a:lnTo>
                    <a:lnTo>
                      <a:pt x="193" y="287"/>
                    </a:lnTo>
                    <a:lnTo>
                      <a:pt x="164" y="290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119640" y="327348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195" h="289">
                    <a:moveTo>
                      <a:pt x="166" y="289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5" y="287"/>
                    </a:lnTo>
                    <a:lnTo>
                      <a:pt x="166" y="289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124320" y="327348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194" h="289">
                    <a:moveTo>
                      <a:pt x="166" y="289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4" y="286"/>
                    </a:lnTo>
                    <a:lnTo>
                      <a:pt x="166" y="289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129360" y="327348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195" h="289">
                    <a:moveTo>
                      <a:pt x="166" y="289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195" y="286"/>
                    </a:lnTo>
                    <a:lnTo>
                      <a:pt x="166" y="289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134040" y="327348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193" h="288">
                    <a:moveTo>
                      <a:pt x="165" y="288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3" y="285"/>
                    </a:lnTo>
                    <a:lnTo>
                      <a:pt x="165" y="288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138720" y="327348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193" h="288">
                    <a:moveTo>
                      <a:pt x="165" y="288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193" y="285"/>
                    </a:lnTo>
                    <a:lnTo>
                      <a:pt x="165" y="288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143400" y="3271680"/>
                <a:ext cx="61920" cy="92160"/>
              </a:xfrm>
              <a:custGeom>
                <a:avLst/>
                <a:gdLst/>
                <a:ahLst/>
                <a:rect l="l" t="t" r="r" b="b"/>
                <a:pathLst>
                  <a:path w="194" h="287">
                    <a:moveTo>
                      <a:pt x="164" y="287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4" y="285"/>
                    </a:lnTo>
                    <a:lnTo>
                      <a:pt x="164" y="287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148440" y="3271680"/>
                <a:ext cx="60120" cy="92160"/>
              </a:xfrm>
              <a:custGeom>
                <a:avLst/>
                <a:gdLst/>
                <a:ahLst/>
                <a:rect l="l" t="t" r="r" b="b"/>
                <a:pathLst>
                  <a:path w="193" h="287">
                    <a:moveTo>
                      <a:pt x="165" y="287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3" y="283"/>
                    </a:lnTo>
                    <a:lnTo>
                      <a:pt x="165" y="287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153120" y="3271680"/>
                <a:ext cx="60120" cy="90720"/>
              </a:xfrm>
              <a:custGeom>
                <a:avLst/>
                <a:gdLst/>
                <a:ahLst/>
                <a:rect l="l" t="t" r="r" b="b"/>
                <a:pathLst>
                  <a:path w="193" h="287">
                    <a:moveTo>
                      <a:pt x="165" y="287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3" y="283"/>
                    </a:lnTo>
                    <a:lnTo>
                      <a:pt x="165" y="287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157800" y="3271680"/>
                <a:ext cx="60480" cy="90720"/>
              </a:xfrm>
              <a:custGeom>
                <a:avLst/>
                <a:gdLst/>
                <a:ahLst/>
                <a:rect l="l" t="t" r="r" b="b"/>
                <a:pathLst>
                  <a:path w="194" h="285">
                    <a:moveTo>
                      <a:pt x="164" y="285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194" y="283"/>
                    </a:lnTo>
                    <a:lnTo>
                      <a:pt x="164" y="28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162480" y="3271680"/>
                <a:ext cx="60480" cy="90720"/>
              </a:xfrm>
              <a:custGeom>
                <a:avLst/>
                <a:gdLst/>
                <a:ahLst/>
                <a:rect l="l" t="t" r="r" b="b"/>
                <a:pathLst>
                  <a:path w="192" h="285">
                    <a:moveTo>
                      <a:pt x="164" y="285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192" y="282"/>
                    </a:lnTo>
                    <a:lnTo>
                      <a:pt x="164" y="28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167520" y="3270240"/>
                <a:ext cx="60120" cy="90360"/>
              </a:xfrm>
              <a:custGeom>
                <a:avLst/>
                <a:gdLst/>
                <a:ahLst/>
                <a:rect l="l" t="t" r="r" b="b"/>
                <a:pathLst>
                  <a:path w="192" h="285">
                    <a:moveTo>
                      <a:pt x="164" y="285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2" y="282"/>
                    </a:lnTo>
                    <a:lnTo>
                      <a:pt x="164" y="28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172200" y="3270240"/>
                <a:ext cx="60120" cy="90360"/>
              </a:xfrm>
              <a:custGeom>
                <a:avLst/>
                <a:gdLst/>
                <a:ahLst/>
                <a:rect l="l" t="t" r="r" b="b"/>
                <a:pathLst>
                  <a:path w="192" h="284">
                    <a:moveTo>
                      <a:pt x="162" y="284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192" y="282"/>
                    </a:lnTo>
                    <a:lnTo>
                      <a:pt x="162" y="28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175440" y="327024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191" h="284">
                    <a:moveTo>
                      <a:pt x="163" y="284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1" y="281"/>
                    </a:lnTo>
                    <a:lnTo>
                      <a:pt x="163" y="28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180120" y="327024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192" h="284">
                    <a:moveTo>
                      <a:pt x="164" y="284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2" y="281"/>
                    </a:lnTo>
                    <a:lnTo>
                      <a:pt x="164" y="28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184800" y="3267000"/>
                <a:ext cx="60480" cy="92160"/>
              </a:xfrm>
              <a:custGeom>
                <a:avLst/>
                <a:gdLst/>
                <a:ahLst/>
                <a:rect l="l" t="t" r="r" b="b"/>
                <a:pathLst>
                  <a:path w="191" h="289">
                    <a:moveTo>
                      <a:pt x="162" y="289"/>
                    </a:moveTo>
                    <a:lnTo>
                      <a:pt x="0" y="8"/>
                    </a:lnTo>
                    <a:lnTo>
                      <a:pt x="16" y="7"/>
                    </a:lnTo>
                    <a:lnTo>
                      <a:pt x="26" y="0"/>
                    </a:lnTo>
                    <a:lnTo>
                      <a:pt x="191" y="287"/>
                    </a:lnTo>
                    <a:lnTo>
                      <a:pt x="162" y="289"/>
                    </a:lnTo>
                    <a:close/>
                  </a:path>
                </a:pathLst>
              </a:custGeom>
              <a:solidFill>
                <a:srgbClr val="a3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189480" y="326556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91" h="294">
                    <a:moveTo>
                      <a:pt x="163" y="294"/>
                    </a:moveTo>
                    <a:lnTo>
                      <a:pt x="0" y="13"/>
                    </a:lnTo>
                    <a:lnTo>
                      <a:pt x="2" y="13"/>
                    </a:lnTo>
                    <a:lnTo>
                      <a:pt x="23" y="0"/>
                    </a:lnTo>
                    <a:lnTo>
                      <a:pt x="191" y="291"/>
                    </a:lnTo>
                    <a:lnTo>
                      <a:pt x="163" y="294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192720" y="3263760"/>
                <a:ext cx="61920" cy="95400"/>
              </a:xfrm>
              <a:custGeom>
                <a:avLst/>
                <a:gdLst/>
                <a:ahLst/>
                <a:rect l="l" t="t" r="r" b="b"/>
                <a:pathLst>
                  <a:path w="194" h="299">
                    <a:moveTo>
                      <a:pt x="165" y="299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94" y="296"/>
                    </a:lnTo>
                    <a:lnTo>
                      <a:pt x="165" y="299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197400" y="3262320"/>
                <a:ext cx="61920" cy="95040"/>
              </a:xfrm>
              <a:custGeom>
                <a:avLst/>
                <a:gdLst/>
                <a:ahLst/>
                <a:rect l="l" t="t" r="r" b="b"/>
                <a:pathLst>
                  <a:path w="197" h="304">
                    <a:moveTo>
                      <a:pt x="168" y="304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97" y="301"/>
                    </a:lnTo>
                    <a:lnTo>
                      <a:pt x="168" y="304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200640" y="3259080"/>
                <a:ext cx="63720" cy="98280"/>
              </a:xfrm>
              <a:custGeom>
                <a:avLst/>
                <a:gdLst/>
                <a:ahLst/>
                <a:rect l="l" t="t" r="r" b="b"/>
                <a:pathLst>
                  <a:path w="199" h="309">
                    <a:moveTo>
                      <a:pt x="171" y="30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99" y="306"/>
                    </a:lnTo>
                    <a:lnTo>
                      <a:pt x="171" y="309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203880" y="3257640"/>
                <a:ext cx="63360" cy="99720"/>
              </a:xfrm>
              <a:custGeom>
                <a:avLst/>
                <a:gdLst/>
                <a:ahLst/>
                <a:rect l="l" t="t" r="r" b="b"/>
                <a:pathLst>
                  <a:path w="200" h="314">
                    <a:moveTo>
                      <a:pt x="173" y="31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200" y="307"/>
                    </a:lnTo>
                    <a:lnTo>
                      <a:pt x="192" y="313"/>
                    </a:lnTo>
                    <a:lnTo>
                      <a:pt x="173" y="314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208560" y="3255840"/>
                <a:ext cx="63720" cy="101520"/>
              </a:xfrm>
              <a:custGeom>
                <a:avLst/>
                <a:gdLst/>
                <a:ahLst/>
                <a:rect l="l" t="t" r="r" b="b"/>
                <a:pathLst>
                  <a:path w="201" h="320">
                    <a:moveTo>
                      <a:pt x="176" y="320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201" y="308"/>
                    </a:lnTo>
                    <a:lnTo>
                      <a:pt x="181" y="320"/>
                    </a:lnTo>
                    <a:lnTo>
                      <a:pt x="176" y="320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211800" y="3252600"/>
                <a:ext cx="63360" cy="101880"/>
              </a:xfrm>
              <a:custGeom>
                <a:avLst/>
                <a:gdLst/>
                <a:ahLst/>
                <a:rect l="l" t="t" r="r" b="b"/>
                <a:pathLst>
                  <a:path w="200" h="320">
                    <a:moveTo>
                      <a:pt x="178" y="32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0" y="308"/>
                    </a:lnTo>
                    <a:lnTo>
                      <a:pt x="178" y="320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215040" y="325116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1" h="320">
                    <a:moveTo>
                      <a:pt x="179" y="320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201" y="308"/>
                    </a:lnTo>
                    <a:lnTo>
                      <a:pt x="179" y="320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218280" y="324972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0" h="321">
                    <a:moveTo>
                      <a:pt x="177" y="32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0" y="308"/>
                    </a:lnTo>
                    <a:lnTo>
                      <a:pt x="177" y="321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222960" y="3246480"/>
                <a:ext cx="63360" cy="102960"/>
              </a:xfrm>
              <a:custGeom>
                <a:avLst/>
                <a:gdLst/>
                <a:ahLst/>
                <a:rect l="l" t="t" r="r" b="b"/>
                <a:pathLst>
                  <a:path w="201" h="322">
                    <a:moveTo>
                      <a:pt x="178" y="32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201" y="309"/>
                    </a:lnTo>
                    <a:lnTo>
                      <a:pt x="178" y="322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226200" y="3244680"/>
                <a:ext cx="63360" cy="101880"/>
              </a:xfrm>
              <a:custGeom>
                <a:avLst/>
                <a:gdLst/>
                <a:ahLst/>
                <a:rect l="l" t="t" r="r" b="b"/>
                <a:pathLst>
                  <a:path w="200" h="321">
                    <a:moveTo>
                      <a:pt x="177" y="321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200" y="309"/>
                    </a:lnTo>
                    <a:lnTo>
                      <a:pt x="177" y="321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229440" y="324324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1" h="321">
                    <a:moveTo>
                      <a:pt x="178" y="321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201" y="308"/>
                    </a:lnTo>
                    <a:lnTo>
                      <a:pt x="178" y="321"/>
                    </a:lnTo>
                    <a:close/>
                  </a:path>
                </a:pathLst>
              </a:custGeom>
              <a:solidFill>
                <a:srgbClr val="9fa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232320" y="3240000"/>
                <a:ext cx="65160" cy="103320"/>
              </a:xfrm>
              <a:custGeom>
                <a:avLst/>
                <a:gdLst/>
                <a:ahLst/>
                <a:rect l="l" t="t" r="r" b="b"/>
                <a:pathLst>
                  <a:path w="201" h="323">
                    <a:moveTo>
                      <a:pt x="178" y="32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201" y="310"/>
                    </a:lnTo>
                    <a:lnTo>
                      <a:pt x="178" y="323"/>
                    </a:lnTo>
                    <a:close/>
                  </a:path>
                </a:pathLst>
              </a:custGeom>
              <a:solidFill>
                <a:srgbClr val="9fa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237360" y="3238560"/>
                <a:ext cx="63360" cy="102960"/>
              </a:xfrm>
              <a:custGeom>
                <a:avLst/>
                <a:gdLst/>
                <a:ahLst/>
                <a:rect l="l" t="t" r="r" b="b"/>
                <a:pathLst>
                  <a:path w="202" h="322">
                    <a:moveTo>
                      <a:pt x="179" y="32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202" y="310"/>
                    </a:lnTo>
                    <a:lnTo>
                      <a:pt x="179" y="322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240240" y="3236760"/>
                <a:ext cx="63720" cy="101880"/>
              </a:xfrm>
              <a:custGeom>
                <a:avLst/>
                <a:gdLst/>
                <a:ahLst/>
                <a:rect l="l" t="t" r="r" b="b"/>
                <a:pathLst>
                  <a:path w="202" h="322">
                    <a:moveTo>
                      <a:pt x="178" y="322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202" y="309"/>
                    </a:lnTo>
                    <a:lnTo>
                      <a:pt x="178" y="322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243480" y="3235320"/>
                <a:ext cx="65160" cy="101520"/>
              </a:xfrm>
              <a:custGeom>
                <a:avLst/>
                <a:gdLst/>
                <a:ahLst/>
                <a:rect l="l" t="t" r="r" b="b"/>
                <a:pathLst>
                  <a:path w="202" h="323">
                    <a:moveTo>
                      <a:pt x="179" y="32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2" y="309"/>
                    </a:lnTo>
                    <a:lnTo>
                      <a:pt x="179" y="323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248160" y="3232080"/>
                <a:ext cx="63720" cy="103320"/>
              </a:xfrm>
              <a:custGeom>
                <a:avLst/>
                <a:gdLst/>
                <a:ahLst/>
                <a:rect l="l" t="t" r="r" b="b"/>
                <a:pathLst>
                  <a:path w="202" h="323">
                    <a:moveTo>
                      <a:pt x="179" y="323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202" y="310"/>
                    </a:lnTo>
                    <a:lnTo>
                      <a:pt x="179" y="323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251400" y="3230640"/>
                <a:ext cx="63720" cy="101520"/>
              </a:xfrm>
              <a:custGeom>
                <a:avLst/>
                <a:gdLst/>
                <a:ahLst/>
                <a:rect l="l" t="t" r="r" b="b"/>
                <a:pathLst>
                  <a:path w="201" h="322">
                    <a:moveTo>
                      <a:pt x="179" y="32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1" y="309"/>
                    </a:lnTo>
                    <a:lnTo>
                      <a:pt x="179" y="322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254640" y="322884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2" h="323">
                    <a:moveTo>
                      <a:pt x="180" y="32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2" y="310"/>
                    </a:lnTo>
                    <a:lnTo>
                      <a:pt x="180" y="323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6257880" y="3225600"/>
                <a:ext cx="61920" cy="103320"/>
              </a:xfrm>
              <a:custGeom>
                <a:avLst/>
                <a:gdLst/>
                <a:ahLst/>
                <a:rect l="l" t="t" r="r" b="b"/>
                <a:pathLst>
                  <a:path w="195" h="322">
                    <a:moveTo>
                      <a:pt x="178" y="32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68" y="251"/>
                    </a:lnTo>
                    <a:lnTo>
                      <a:pt x="195" y="314"/>
                    </a:lnTo>
                    <a:lnTo>
                      <a:pt x="194" y="314"/>
                    </a:lnTo>
                    <a:lnTo>
                      <a:pt x="178" y="322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262560" y="3224160"/>
                <a:ext cx="57240" cy="103320"/>
              </a:xfrm>
              <a:custGeom>
                <a:avLst/>
                <a:gdLst/>
                <a:ahLst/>
                <a:rect l="l" t="t" r="r" b="b"/>
                <a:pathLst>
                  <a:path w="184" h="323">
                    <a:moveTo>
                      <a:pt x="179" y="323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12" y="154"/>
                    </a:lnTo>
                    <a:lnTo>
                      <a:pt x="184" y="321"/>
                    </a:lnTo>
                    <a:lnTo>
                      <a:pt x="183" y="321"/>
                    </a:lnTo>
                    <a:lnTo>
                      <a:pt x="179" y="323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265800" y="3222720"/>
                <a:ext cx="46080" cy="83880"/>
              </a:xfrm>
              <a:custGeom>
                <a:avLst/>
                <a:gdLst/>
                <a:ahLst/>
                <a:rect l="l" t="t" r="r" b="b"/>
                <a:pathLst>
                  <a:path w="145" h="265">
                    <a:moveTo>
                      <a:pt x="145" y="265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54" y="56"/>
                    </a:lnTo>
                    <a:lnTo>
                      <a:pt x="145" y="265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269040" y="3220920"/>
                <a:ext cx="28440" cy="52560"/>
              </a:xfrm>
              <a:custGeom>
                <a:avLst/>
                <a:gdLst/>
                <a:ahLst/>
                <a:rect l="l" t="t" r="r" b="b"/>
                <a:pathLst>
                  <a:path w="90" h="164">
                    <a:moveTo>
                      <a:pt x="90" y="164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90" y="164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272280" y="322092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32" y="59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32" y="59"/>
                    </a:lnTo>
                    <a:close/>
                  </a:path>
                </a:pathLst>
              </a:custGeom>
              <a:solidFill>
                <a:srgbClr val="9fa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5213160" y="373392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4" h="494">
                    <a:moveTo>
                      <a:pt x="6" y="494"/>
                    </a:moveTo>
                    <a:lnTo>
                      <a:pt x="0" y="483"/>
                    </a:lnTo>
                    <a:lnTo>
                      <a:pt x="838" y="0"/>
                    </a:lnTo>
                    <a:lnTo>
                      <a:pt x="844" y="11"/>
                    </a:lnTo>
                    <a:lnTo>
                      <a:pt x="6" y="494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5211720" y="3732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4" y="489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5209920" y="37288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5208480" y="372744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845" y="14"/>
                    </a:lnTo>
                    <a:close/>
                    <a:moveTo>
                      <a:pt x="6" y="496"/>
                    </a:move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lnTo>
                      <a:pt x="6" y="496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5208480" y="37256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207040" y="3727440"/>
                <a:ext cx="268200" cy="154080"/>
              </a:xfrm>
              <a:custGeom>
                <a:avLst/>
                <a:gdLst/>
                <a:ahLst/>
                <a:rect l="l" t="t" r="r" b="b"/>
                <a:pathLst>
                  <a:path w="843" h="483">
                    <a:moveTo>
                      <a:pt x="843" y="0"/>
                    </a:moveTo>
                    <a:lnTo>
                      <a:pt x="6" y="483"/>
                    </a:lnTo>
                    <a:lnTo>
                      <a:pt x="0" y="473"/>
                    </a:lnTo>
                    <a:lnTo>
                      <a:pt x="843" y="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205240" y="37209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203800" y="37195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7" y="492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202000" y="37162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5202000" y="371484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3" y="490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5200560" y="37116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845" y="14"/>
                    </a:lnTo>
                    <a:close/>
                    <a:moveTo>
                      <a:pt x="4" y="489"/>
                    </a:move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lnTo>
                      <a:pt x="4" y="489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5199120" y="37098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9" y="497"/>
                    </a:lnTo>
                    <a:lnTo>
                      <a:pt x="6" y="491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5197320" y="37083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6" y="492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195880" y="37051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3" y="490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195880" y="370368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2" y="48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5194080" y="370044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845" y="14"/>
                    </a:lnTo>
                    <a:close/>
                    <a:moveTo>
                      <a:pt x="3" y="490"/>
                    </a:move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lnTo>
                      <a:pt x="3" y="49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192640" y="3699000"/>
                <a:ext cx="268200" cy="15840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6" y="493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5191200" y="36972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7" h="496">
                    <a:moveTo>
                      <a:pt x="847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3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5189400" y="36939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1" y="486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5189400" y="36925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5187960" y="36907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8" y="497"/>
                    </a:lnTo>
                    <a:lnTo>
                      <a:pt x="6" y="494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5186160" y="368784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1" y="486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5184720" y="36860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1" y="484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5183280" y="3682800"/>
                <a:ext cx="26964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8" y="497"/>
                    </a:lnTo>
                    <a:lnTo>
                      <a:pt x="846" y="13"/>
                    </a:lnTo>
                    <a:close/>
                    <a:moveTo>
                      <a:pt x="5" y="493"/>
                    </a:moveTo>
                    <a:lnTo>
                      <a:pt x="0" y="484"/>
                    </a:lnTo>
                    <a:lnTo>
                      <a:pt x="837" y="0"/>
                    </a:lnTo>
                    <a:lnTo>
                      <a:pt x="846" y="13"/>
                    </a:lnTo>
                    <a:lnTo>
                      <a:pt x="5" y="493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5183280" y="36813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6" y="495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5183280" y="3682800"/>
                <a:ext cx="266400" cy="154080"/>
              </a:xfrm>
              <a:custGeom>
                <a:avLst/>
                <a:gdLst/>
                <a:ahLst/>
                <a:rect l="l" t="t" r="r" b="b"/>
                <a:pathLst>
                  <a:path w="841" h="484">
                    <a:moveTo>
                      <a:pt x="841" y="0"/>
                    </a:moveTo>
                    <a:lnTo>
                      <a:pt x="4" y="484"/>
                    </a:lnTo>
                    <a:lnTo>
                      <a:pt x="0" y="477"/>
                    </a:lnTo>
                    <a:lnTo>
                      <a:pt x="841" y="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5180040" y="36766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5178240" y="367488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5176800" y="367200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5176800" y="36702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5175000" y="366876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5173560" y="36655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5172120" y="366408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3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3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5170320" y="366084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5170320" y="36590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5168880" y="36576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5167080" y="36543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5165640" y="36529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5164200" y="3651120"/>
                <a:ext cx="269640" cy="15732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5164200" y="36478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5162400" y="36464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5160960" y="36450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8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5159160" y="36417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5157720" y="3639960"/>
                <a:ext cx="2700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5157720" y="36370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8" y="1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5156280" y="363528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5154480" y="363384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5153040" y="36306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5151240" y="3628800"/>
                <a:ext cx="270000" cy="15732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5151240" y="362592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5149800" y="3624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5148000" y="362268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5146560" y="36194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5146560" y="36180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6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5145120" y="36147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5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5143320" y="36129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5141880" y="36115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3"/>
                    </a:moveTo>
                    <a:lnTo>
                      <a:pt x="8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5140080" y="36082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5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5140080" y="360684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6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5138640" y="36050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3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5137200" y="3602160"/>
                <a:ext cx="268200" cy="15840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5135400" y="36003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5133960" y="35971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5133960" y="359568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5132160" y="359388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38" y="2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5130720" y="35910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5129280" y="35892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4" y="11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5127480" y="35859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5127480" y="35845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9" y="4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126040" y="358308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124240" y="357984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3" y="1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122800" y="35780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121360" y="35766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8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121360" y="35733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119560" y="35719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6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118120" y="3570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6">
                    <a:moveTo>
                      <a:pt x="846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116320" y="3567240"/>
                <a:ext cx="268560" cy="15840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114880" y="35654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114880" y="35622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5113080" y="356076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6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5111640" y="35589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9" y="2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110200" y="35560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9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108400" y="355428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  <a:moveTo>
                      <a:pt x="843" y="10"/>
                    </a:moveTo>
                    <a:lnTo>
                      <a:pt x="845" y="14"/>
                    </a:lnTo>
                    <a:lnTo>
                      <a:pt x="843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5108400" y="35510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5106960" y="35496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2" y="8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5105160" y="354816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8" y="2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5103720" y="35449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5"/>
                    </a:lnTo>
                    <a:close/>
                    <a:moveTo>
                      <a:pt x="843" y="10"/>
                    </a:moveTo>
                    <a:lnTo>
                      <a:pt x="846" y="15"/>
                    </a:lnTo>
                    <a:lnTo>
                      <a:pt x="843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102280" y="3543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8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4" y="11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102280" y="35402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0" y="6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100480" y="35384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9" y="3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099040" y="35370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3" y="8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097240" y="35337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3" y="1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095800" y="35319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2" y="7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095800" y="35305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5094360" y="35272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0" y="6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5092560" y="352584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6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5091120" y="35240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6">
                    <a:moveTo>
                      <a:pt x="846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4" y="8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5089320" y="35211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5089320" y="351936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  <a:moveTo>
                      <a:pt x="839" y="3"/>
                    </a:moveTo>
                    <a:lnTo>
                      <a:pt x="845" y="15"/>
                    </a:lnTo>
                    <a:lnTo>
                      <a:pt x="839" y="3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4" name=""/>
            <p:cNvGrpSpPr/>
            <p:nvPr/>
          </p:nvGrpSpPr>
          <p:grpSpPr>
            <a:xfrm>
              <a:off x="5029200" y="3242880"/>
              <a:ext cx="985320" cy="648000"/>
              <a:chOff x="5029200" y="3242880"/>
              <a:chExt cx="985320" cy="648000"/>
            </a:xfrm>
          </p:grpSpPr>
          <p:sp>
            <p:nvSpPr>
              <p:cNvPr id="3285" name=""/>
              <p:cNvSpPr/>
              <p:nvPr/>
            </p:nvSpPr>
            <p:spPr>
              <a:xfrm>
                <a:off x="5087880" y="35161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5086440" y="351468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6" y="0"/>
                    </a:lnTo>
                    <a:lnTo>
                      <a:pt x="841" y="7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5084640" y="351324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39" y="2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5083200" y="35100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  <a:moveTo>
                      <a:pt x="840" y="3"/>
                    </a:moveTo>
                    <a:lnTo>
                      <a:pt x="845" y="13"/>
                    </a:lnTo>
                    <a:lnTo>
                      <a:pt x="840" y="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5083200" y="35082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  <a:moveTo>
                      <a:pt x="843" y="11"/>
                    </a:moveTo>
                    <a:lnTo>
                      <a:pt x="845" y="15"/>
                    </a:lnTo>
                    <a:lnTo>
                      <a:pt x="843" y="1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5081400" y="350532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4" y="12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5079960" y="3503520"/>
                <a:ext cx="266760" cy="154080"/>
              </a:xfrm>
              <a:custGeom>
                <a:avLst/>
                <a:gdLst/>
                <a:ahLst/>
                <a:rect l="l" t="t" r="r" b="b"/>
                <a:pathLst>
                  <a:path w="842" h="484">
                    <a:moveTo>
                      <a:pt x="0" y="484"/>
                    </a:moveTo>
                    <a:lnTo>
                      <a:pt x="837" y="0"/>
                    </a:lnTo>
                    <a:lnTo>
                      <a:pt x="842" y="8"/>
                    </a:lnTo>
                    <a:lnTo>
                      <a:pt x="0" y="48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5078160" y="350208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5076720" y="34988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4" y="11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5076720" y="34970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075280" y="34941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0" y="6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5073480" y="34923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5072040" y="34909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6" h="496">
                    <a:moveTo>
                      <a:pt x="846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3" y="8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5070240" y="34876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5070240" y="348624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1" y="6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5068800" y="34844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0" y="4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5067360" y="34812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1" y="7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065560" y="3479760"/>
                <a:ext cx="268200" cy="152280"/>
              </a:xfrm>
              <a:custGeom>
                <a:avLst/>
                <a:gdLst/>
                <a:ahLst/>
                <a:rect l="l" t="t" r="r" b="b"/>
                <a:pathLst>
                  <a:path w="843" h="483">
                    <a:moveTo>
                      <a:pt x="0" y="483"/>
                    </a:moveTo>
                    <a:lnTo>
                      <a:pt x="837" y="0"/>
                    </a:lnTo>
                    <a:lnTo>
                      <a:pt x="843" y="11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5064120" y="34765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9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5062320" y="3475080"/>
                <a:ext cx="27000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39" y="1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5062320" y="347328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5060880" y="3470400"/>
                <a:ext cx="268200" cy="153720"/>
              </a:xfrm>
              <a:custGeom>
                <a:avLst/>
                <a:gdLst/>
                <a:ahLst/>
                <a:rect l="l" t="t" r="r" b="b"/>
                <a:pathLst>
                  <a:path w="844" h="483">
                    <a:moveTo>
                      <a:pt x="0" y="483"/>
                    </a:moveTo>
                    <a:lnTo>
                      <a:pt x="837" y="0"/>
                    </a:lnTo>
                    <a:lnTo>
                      <a:pt x="844" y="11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5059440" y="3468600"/>
                <a:ext cx="266400" cy="152280"/>
              </a:xfrm>
              <a:custGeom>
                <a:avLst/>
                <a:gdLst/>
                <a:ahLst/>
                <a:rect l="l" t="t" r="r" b="b"/>
                <a:pathLst>
                  <a:path w="841" h="483">
                    <a:moveTo>
                      <a:pt x="0" y="483"/>
                    </a:moveTo>
                    <a:lnTo>
                      <a:pt x="838" y="0"/>
                    </a:lnTo>
                    <a:lnTo>
                      <a:pt x="841" y="6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057640" y="34653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056200" y="3463920"/>
                <a:ext cx="269640" cy="156960"/>
              </a:xfrm>
              <a:custGeom>
                <a:avLst/>
                <a:gdLst/>
                <a:ahLst/>
                <a:rect l="l" t="t" r="r" b="b"/>
                <a:pathLst>
                  <a:path w="847" h="496">
                    <a:moveTo>
                      <a:pt x="847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0" y="3"/>
                    </a:lnTo>
                    <a:lnTo>
                      <a:pt x="847" y="13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056200" y="3462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054400" y="3459240"/>
                <a:ext cx="268560" cy="153720"/>
              </a:xfrm>
              <a:custGeom>
                <a:avLst/>
                <a:gdLst/>
                <a:ahLst/>
                <a:rect l="l" t="t" r="r" b="b"/>
                <a:pathLst>
                  <a:path w="844" h="483">
                    <a:moveTo>
                      <a:pt x="0" y="483"/>
                    </a:moveTo>
                    <a:lnTo>
                      <a:pt x="837" y="0"/>
                    </a:lnTo>
                    <a:lnTo>
                      <a:pt x="844" y="12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5052960" y="34574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5051520" y="34542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5049720" y="345276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5049720" y="34513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5048280" y="34480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5046480" y="34462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1" y="7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045040" y="34448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5043240" y="344160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7" h="498">
                    <a:moveTo>
                      <a:pt x="847" y="14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2" y="9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043240" y="344016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041800" y="34383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0" y="4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5040360" y="3435480"/>
                <a:ext cx="268200" cy="15840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5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5038560" y="3433680"/>
                <a:ext cx="268200" cy="152280"/>
              </a:xfrm>
              <a:custGeom>
                <a:avLst/>
                <a:gdLst/>
                <a:ahLst/>
                <a:rect l="l" t="t" r="r" b="b"/>
                <a:pathLst>
                  <a:path w="844" h="483">
                    <a:moveTo>
                      <a:pt x="0" y="483"/>
                    </a:moveTo>
                    <a:lnTo>
                      <a:pt x="838" y="0"/>
                    </a:lnTo>
                    <a:lnTo>
                      <a:pt x="844" y="10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5037120" y="3430440"/>
                <a:ext cx="269640" cy="158760"/>
              </a:xfrm>
              <a:custGeom>
                <a:avLst/>
                <a:gdLst/>
                <a:ahLst/>
                <a:rect l="l" t="t" r="r" b="b"/>
                <a:pathLst>
                  <a:path w="847" h="498">
                    <a:moveTo>
                      <a:pt x="847" y="13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3"/>
                    </a:lnTo>
                    <a:close/>
                    <a:moveTo>
                      <a:pt x="838" y="1"/>
                    </a:moveTo>
                    <a:lnTo>
                      <a:pt x="847" y="13"/>
                    </a:lnTo>
                    <a:lnTo>
                      <a:pt x="838" y="1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037120" y="34290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5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  <a:moveTo>
                      <a:pt x="838" y="3"/>
                    </a:moveTo>
                    <a:lnTo>
                      <a:pt x="845" y="15"/>
                    </a:lnTo>
                    <a:lnTo>
                      <a:pt x="838" y="3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035320" y="342720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033880" y="34243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3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4" y="12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032440" y="34225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8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030640" y="341928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7" h="498">
                    <a:moveTo>
                      <a:pt x="847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5030640" y="34178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5029200" y="34164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5029200" y="3414600"/>
                <a:ext cx="266760" cy="157320"/>
              </a:xfrm>
              <a:custGeom>
                <a:avLst/>
                <a:gdLst/>
                <a:ahLst/>
                <a:rect l="l" t="t" r="r" b="b"/>
                <a:pathLst>
                  <a:path w="843" h="495">
                    <a:moveTo>
                      <a:pt x="843" y="11"/>
                    </a:moveTo>
                    <a:lnTo>
                      <a:pt x="6" y="495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3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5029200" y="3414600"/>
                <a:ext cx="264960" cy="154080"/>
              </a:xfrm>
              <a:custGeom>
                <a:avLst/>
                <a:gdLst/>
                <a:ahLst/>
                <a:rect l="l" t="t" r="r" b="b"/>
                <a:pathLst>
                  <a:path w="839" h="488">
                    <a:moveTo>
                      <a:pt x="839" y="5"/>
                    </a:moveTo>
                    <a:lnTo>
                      <a:pt x="2" y="48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39" y="5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5029200" y="3414600"/>
                <a:ext cx="452520" cy="476280"/>
              </a:xfrm>
              <a:custGeom>
                <a:avLst/>
                <a:gdLst/>
                <a:ahLst/>
                <a:rect l="l" t="t" r="r" b="b"/>
                <a:pathLst>
                  <a:path w="1425" h="1501">
                    <a:moveTo>
                      <a:pt x="837" y="0"/>
                    </a:moveTo>
                    <a:lnTo>
                      <a:pt x="1425" y="1018"/>
                    </a:lnTo>
                    <a:lnTo>
                      <a:pt x="587" y="1501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37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 flipH="1" flipV="1">
                <a:off x="5717880" y="3357360"/>
                <a:ext cx="96840" cy="16848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 flipH="1" flipV="1">
                <a:off x="5916240" y="3242880"/>
                <a:ext cx="98280" cy="168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 flipV="1">
                <a:off x="5622480" y="3463560"/>
                <a:ext cx="586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 flipH="1" flipV="1">
                <a:off x="5662080" y="3440160"/>
                <a:ext cx="58680" cy="1029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 flipH="1" flipV="1">
                <a:off x="5702040" y="3417480"/>
                <a:ext cx="5904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 flipV="1">
                <a:off x="5778360" y="3371400"/>
                <a:ext cx="6048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H="1" flipV="1">
                <a:off x="5820840" y="3347640"/>
                <a:ext cx="586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 flipH="1" flipV="1">
                <a:off x="5860800" y="3325320"/>
                <a:ext cx="5904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 flipV="1">
                <a:off x="5900400" y="3301560"/>
                <a:ext cx="5868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5443560" y="375264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151" h="91">
                    <a:moveTo>
                      <a:pt x="0" y="84"/>
                    </a:moveTo>
                    <a:lnTo>
                      <a:pt x="145" y="0"/>
                    </a:lnTo>
                    <a:lnTo>
                      <a:pt x="151" y="8"/>
                    </a:lnTo>
                    <a:lnTo>
                      <a:pt x="6" y="91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5443560" y="37512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5441760" y="37497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5441760" y="374796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5440320" y="3746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5440320" y="37447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5438520" y="37432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5437080" y="37418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1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5437080" y="3740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5435640" y="3738600"/>
                <a:ext cx="4896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5435640" y="373680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5433840" y="3735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5433840" y="373392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5432400" y="37321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5430600" y="373068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5430600" y="37288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5429160" y="372744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5429160" y="37256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5427720" y="3724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5427720" y="37227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5425920" y="37209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424480" y="37195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424480" y="37177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422680" y="37162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5422680" y="371484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421240" y="3713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421240" y="3711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419800" y="37098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5419800" y="37083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5418000" y="370692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5416560" y="37051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5416560" y="3703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5414760" y="37018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5414760" y="37004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5413320" y="369900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5413320" y="3697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5411880" y="36957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5410080" y="36939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5410080" y="3692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5408640" y="36907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5408640" y="36892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5406840" y="368784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5406840" y="36860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5405400" y="3684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5403600" y="368280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10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5403600" y="3681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5402160" y="367992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5402160" y="3678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5400720" y="3676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5400720" y="36766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5398920" y="36734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5397480" y="367200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5">
                    <a:moveTo>
                      <a:pt x="152" y="11"/>
                    </a:moveTo>
                    <a:lnTo>
                      <a:pt x="7" y="95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5397480" y="36720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5395680" y="367020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5395680" y="36669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5394240" y="36669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5394240" y="36655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5392800" y="36640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5392800" y="36622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5391000" y="366084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5389560" y="365904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5389560" y="36576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5387760" y="365580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5387760" y="36543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386320" y="3652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386320" y="36511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384880" y="36496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383080" y="36478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7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5383080" y="3646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5381640" y="36450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5381640" y="3643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5379840" y="3641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5379840" y="36399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378400" y="3638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376600" y="363708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376600" y="3635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5375160" y="363384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5375160" y="3632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373720" y="3630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373720" y="36288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5371920" y="3627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5370480" y="362592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5370480" y="3624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5368680" y="36226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5368680" y="36208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5367240" y="3619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5367240" y="361800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365800" y="3616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5364000" y="36147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1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364000" y="36129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362560" y="361152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362560" y="361008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360760" y="3608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360760" y="36068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359320" y="3605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359320" y="3603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357880" y="36021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356080" y="36003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356080" y="359892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354640" y="3597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354640" y="3595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352840" y="35938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352840" y="35924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351400" y="359100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349960" y="358920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349960" y="35877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348160" y="35859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348160" y="3584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346720" y="35845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346720" y="35812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344920" y="35798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2" h="95">
                    <a:moveTo>
                      <a:pt x="152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5343480" y="35798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343480" y="35780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341680" y="357660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341680" y="35751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340240" y="35733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340240" y="3571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338800" y="35701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337000" y="356868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337000" y="356724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5335560" y="35654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5335560" y="35640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333760" y="356220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333760" y="3560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5332320" y="35589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5332320" y="35575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5330880" y="355608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6" y="93"/>
                    </a:lnTo>
                    <a:lnTo>
                      <a:pt x="0" y="82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5329080" y="35542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5329080" y="355284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1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5327640" y="3551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5327640" y="3549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325840" y="354816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5325840" y="3546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324400" y="35449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322960" y="35431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322960" y="3541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321160" y="354024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321160" y="3538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319720" y="35370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319720" y="3535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5317920" y="3533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5" name=""/>
            <p:cNvGrpSpPr/>
            <p:nvPr/>
          </p:nvGrpSpPr>
          <p:grpSpPr>
            <a:xfrm>
              <a:off x="4723920" y="3397320"/>
              <a:ext cx="916560" cy="702720"/>
              <a:chOff x="4723920" y="3397320"/>
              <a:chExt cx="916560" cy="702720"/>
            </a:xfrm>
          </p:grpSpPr>
          <p:sp>
            <p:nvSpPr>
              <p:cNvPr id="3486" name=""/>
              <p:cNvSpPr/>
              <p:nvPr/>
            </p:nvSpPr>
            <p:spPr>
              <a:xfrm>
                <a:off x="5316480" y="35319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5316480" y="3530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315040" y="3529080"/>
                <a:ext cx="4896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5315040" y="35272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5313240" y="35258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5313240" y="3524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5311800" y="3522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10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310000" y="352116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310000" y="3519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308560" y="351792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5308560" y="3516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5306760" y="35146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5306760" y="351324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5305320" y="3511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303880" y="351000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303880" y="3508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302080" y="35067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302080" y="350532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5300640" y="3503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5300640" y="350208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5298840" y="3500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5298840" y="34988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5297400" y="3497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5295960" y="349704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5295960" y="34941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5294160" y="34923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5294160" y="34923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5292720" y="3490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5292720" y="3487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5290920" y="34876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5289480" y="34862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5289480" y="34844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5288040" y="34830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2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5288040" y="348120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5286240" y="347976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1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5286240" y="34783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5284800" y="34765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5283000" y="347508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5283000" y="3473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5281560" y="34718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5281560" y="34704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5280120" y="3468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5280120" y="34671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5278320" y="34653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5276880" y="34639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5276880" y="3462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5275080" y="34606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5275080" y="345924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5273640" y="3457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5273640" y="34560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5271840" y="345420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5271840" y="3452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5270400" y="345132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5268960" y="34495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5268960" y="34480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5267160" y="3446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5267160" y="34448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5265720" y="344340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5265720" y="3441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5263920" y="34401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5262480" y="34383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5262480" y="34369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5261040" y="343548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261040" y="3433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5259240" y="343224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5259240" y="3430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257800" y="34290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5256000" y="342720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5256000" y="3425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5254560" y="342432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5254560" y="3422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5253120" y="34210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5253120" y="34192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5251320" y="34178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5249880" y="3416400"/>
                <a:ext cx="4896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5249880" y="3414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5248080" y="34131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5248080" y="3411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5246640" y="34099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5246640" y="3409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2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5244840" y="34066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5243400" y="340524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11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5243400" y="340524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5241960" y="340344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5241960" y="3400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5240160" y="340020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5240160" y="33987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5238720" y="33973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1">
                    <a:moveTo>
                      <a:pt x="150" y="8"/>
                    </a:moveTo>
                    <a:lnTo>
                      <a:pt x="5" y="91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8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5238720" y="339732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147" h="87">
                    <a:moveTo>
                      <a:pt x="147" y="3"/>
                    </a:moveTo>
                    <a:lnTo>
                      <a:pt x="2" y="87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47" y="3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5238720" y="3397320"/>
                <a:ext cx="253800" cy="384120"/>
              </a:xfrm>
              <a:custGeom>
                <a:avLst/>
                <a:gdLst/>
                <a:ahLst/>
                <a:rect l="l" t="t" r="r" b="b"/>
                <a:pathLst>
                  <a:path w="796" h="1209">
                    <a:moveTo>
                      <a:pt x="144" y="0"/>
                    </a:moveTo>
                    <a:lnTo>
                      <a:pt x="796" y="1126"/>
                    </a:lnTo>
                    <a:lnTo>
                      <a:pt x="651" y="1209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44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 flipH="1" flipV="1">
                <a:off x="5519160" y="3471480"/>
                <a:ext cx="96840" cy="168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 flipH="1" flipV="1">
                <a:off x="5382720" y="3602160"/>
                <a:ext cx="58680" cy="1029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 flipH="1" flipV="1">
                <a:off x="5424120" y="3576240"/>
                <a:ext cx="6012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 flipH="1" flipV="1">
                <a:off x="5464080" y="355392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 flipH="1" flipV="1">
                <a:off x="5503680" y="353160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 flipH="1" flipV="1">
                <a:off x="5580000" y="348732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 flipH="1" flipV="1">
                <a:off x="4723920" y="3931920"/>
                <a:ext cx="96840" cy="168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 flipH="1" flipV="1">
                <a:off x="4782960" y="3945960"/>
                <a:ext cx="6048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 flipH="1" flipV="1">
                <a:off x="4825440" y="3922200"/>
                <a:ext cx="586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 flipH="1" flipV="1">
                <a:off x="4865400" y="3898440"/>
                <a:ext cx="6012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 flipH="1" flipV="1">
                <a:off x="4905000" y="3876120"/>
                <a:ext cx="6012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5222880" y="388152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146" h="87">
                    <a:moveTo>
                      <a:pt x="0" y="83"/>
                    </a:moveTo>
                    <a:lnTo>
                      <a:pt x="143" y="0"/>
                    </a:lnTo>
                    <a:lnTo>
                      <a:pt x="146" y="6"/>
                    </a:lnTo>
                    <a:lnTo>
                      <a:pt x="5" y="8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5221080" y="387972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151" h="91">
                    <a:moveTo>
                      <a:pt x="151" y="11"/>
                    </a:moveTo>
                    <a:lnTo>
                      <a:pt x="10" y="91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5219640" y="387828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3" h="92">
                    <a:moveTo>
                      <a:pt x="153" y="9"/>
                    </a:moveTo>
                    <a:lnTo>
                      <a:pt x="10" y="92"/>
                    </a:lnTo>
                    <a:lnTo>
                      <a:pt x="0" y="85"/>
                    </a:lnTo>
                    <a:lnTo>
                      <a:pt x="148" y="0"/>
                    </a:lnTo>
                    <a:lnTo>
                      <a:pt x="153" y="9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5218200" y="387648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156" h="93">
                    <a:moveTo>
                      <a:pt x="156" y="9"/>
                    </a:moveTo>
                    <a:lnTo>
                      <a:pt x="10" y="93"/>
                    </a:lnTo>
                    <a:lnTo>
                      <a:pt x="0" y="86"/>
                    </a:lnTo>
                    <a:lnTo>
                      <a:pt x="150" y="0"/>
                    </a:lnTo>
                    <a:lnTo>
                      <a:pt x="156" y="9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5216400" y="387504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158" h="96">
                    <a:moveTo>
                      <a:pt x="158" y="11"/>
                    </a:moveTo>
                    <a:lnTo>
                      <a:pt x="10" y="96"/>
                    </a:lnTo>
                    <a:lnTo>
                      <a:pt x="0" y="89"/>
                    </a:lnTo>
                    <a:lnTo>
                      <a:pt x="152" y="0"/>
                    </a:lnTo>
                    <a:lnTo>
                      <a:pt x="158" y="11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214960" y="3873600"/>
                <a:ext cx="50760" cy="29880"/>
              </a:xfrm>
              <a:custGeom>
                <a:avLst/>
                <a:gdLst/>
                <a:ahLst/>
                <a:rect l="l" t="t" r="r" b="b"/>
                <a:pathLst>
                  <a:path w="160" h="96">
                    <a:moveTo>
                      <a:pt x="160" y="10"/>
                    </a:moveTo>
                    <a:lnTo>
                      <a:pt x="10" y="96"/>
                    </a:lnTo>
                    <a:lnTo>
                      <a:pt x="0" y="88"/>
                    </a:lnTo>
                    <a:lnTo>
                      <a:pt x="154" y="0"/>
                    </a:lnTo>
                    <a:lnTo>
                      <a:pt x="160" y="10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214960" y="3871800"/>
                <a:ext cx="48960" cy="31680"/>
              </a:xfrm>
              <a:custGeom>
                <a:avLst/>
                <a:gdLst/>
                <a:ahLst/>
                <a:rect l="l" t="t" r="r" b="b"/>
                <a:pathLst>
                  <a:path w="158" h="98">
                    <a:moveTo>
                      <a:pt x="0" y="90"/>
                    </a:moveTo>
                    <a:lnTo>
                      <a:pt x="155" y="0"/>
                    </a:lnTo>
                    <a:lnTo>
                      <a:pt x="158" y="6"/>
                    </a:lnTo>
                    <a:lnTo>
                      <a:pt x="0" y="90"/>
                    </a:lnTo>
                    <a:close/>
                    <a:moveTo>
                      <a:pt x="9" y="98"/>
                    </a:moveTo>
                    <a:lnTo>
                      <a:pt x="0" y="90"/>
                    </a:lnTo>
                    <a:lnTo>
                      <a:pt x="9" y="98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5213160" y="387036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163" h="98">
                    <a:moveTo>
                      <a:pt x="163" y="10"/>
                    </a:moveTo>
                    <a:lnTo>
                      <a:pt x="9" y="98"/>
                    </a:lnTo>
                    <a:lnTo>
                      <a:pt x="0" y="91"/>
                    </a:lnTo>
                    <a:lnTo>
                      <a:pt x="157" y="0"/>
                    </a:lnTo>
                    <a:lnTo>
                      <a:pt x="162" y="8"/>
                    </a:lnTo>
                    <a:lnTo>
                      <a:pt x="163" y="1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5209920" y="386856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166" h="100">
                    <a:moveTo>
                      <a:pt x="166" y="10"/>
                    </a:moveTo>
                    <a:lnTo>
                      <a:pt x="11" y="100"/>
                    </a:lnTo>
                    <a:lnTo>
                      <a:pt x="0" y="93"/>
                    </a:lnTo>
                    <a:lnTo>
                      <a:pt x="161" y="0"/>
                    </a:lnTo>
                    <a:lnTo>
                      <a:pt x="166" y="1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5209920" y="3867120"/>
                <a:ext cx="52560" cy="31680"/>
              </a:xfrm>
              <a:custGeom>
                <a:avLst/>
                <a:gdLst/>
                <a:ahLst/>
                <a:rect l="l" t="t" r="r" b="b"/>
                <a:pathLst>
                  <a:path w="167" h="101">
                    <a:moveTo>
                      <a:pt x="167" y="10"/>
                    </a:moveTo>
                    <a:lnTo>
                      <a:pt x="10" y="101"/>
                    </a:lnTo>
                    <a:lnTo>
                      <a:pt x="0" y="94"/>
                    </a:lnTo>
                    <a:lnTo>
                      <a:pt x="162" y="0"/>
                    </a:lnTo>
                    <a:lnTo>
                      <a:pt x="167" y="1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5208480" y="3865680"/>
                <a:ext cx="54000" cy="33120"/>
              </a:xfrm>
              <a:custGeom>
                <a:avLst/>
                <a:gdLst/>
                <a:ahLst/>
                <a:rect l="l" t="t" r="r" b="b"/>
                <a:pathLst>
                  <a:path w="170" h="103">
                    <a:moveTo>
                      <a:pt x="170" y="10"/>
                    </a:moveTo>
                    <a:lnTo>
                      <a:pt x="9" y="103"/>
                    </a:lnTo>
                    <a:lnTo>
                      <a:pt x="0" y="96"/>
                    </a:lnTo>
                    <a:lnTo>
                      <a:pt x="164" y="0"/>
                    </a:lnTo>
                    <a:lnTo>
                      <a:pt x="170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5207040" y="386388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72" h="103">
                    <a:moveTo>
                      <a:pt x="172" y="9"/>
                    </a:moveTo>
                    <a:lnTo>
                      <a:pt x="10" y="103"/>
                    </a:lnTo>
                    <a:lnTo>
                      <a:pt x="0" y="95"/>
                    </a:lnTo>
                    <a:lnTo>
                      <a:pt x="167" y="0"/>
                    </a:lnTo>
                    <a:lnTo>
                      <a:pt x="167" y="0"/>
                    </a:lnTo>
                    <a:lnTo>
                      <a:pt x="172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5205240" y="3862440"/>
                <a:ext cx="54000" cy="33120"/>
              </a:xfrm>
              <a:custGeom>
                <a:avLst/>
                <a:gdLst/>
                <a:ahLst/>
                <a:rect l="l" t="t" r="r" b="b"/>
                <a:pathLst>
                  <a:path w="174" h="105">
                    <a:moveTo>
                      <a:pt x="174" y="9"/>
                    </a:moveTo>
                    <a:lnTo>
                      <a:pt x="10" y="105"/>
                    </a:lnTo>
                    <a:lnTo>
                      <a:pt x="0" y="97"/>
                    </a:lnTo>
                    <a:lnTo>
                      <a:pt x="168" y="0"/>
                    </a:lnTo>
                    <a:lnTo>
                      <a:pt x="174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5203800" y="3860640"/>
                <a:ext cx="55440" cy="33480"/>
              </a:xfrm>
              <a:custGeom>
                <a:avLst/>
                <a:gdLst/>
                <a:ahLst/>
                <a:rect l="l" t="t" r="r" b="b"/>
                <a:pathLst>
                  <a:path w="177" h="106">
                    <a:moveTo>
                      <a:pt x="177" y="11"/>
                    </a:moveTo>
                    <a:lnTo>
                      <a:pt x="10" y="106"/>
                    </a:lnTo>
                    <a:lnTo>
                      <a:pt x="0" y="99"/>
                    </a:lnTo>
                    <a:lnTo>
                      <a:pt x="170" y="0"/>
                    </a:lnTo>
                    <a:lnTo>
                      <a:pt x="177" y="11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5202000" y="3859200"/>
                <a:ext cx="55800" cy="34920"/>
              </a:xfrm>
              <a:custGeom>
                <a:avLst/>
                <a:gdLst/>
                <a:ahLst/>
                <a:rect l="l" t="t" r="r" b="b"/>
                <a:pathLst>
                  <a:path w="178" h="107">
                    <a:moveTo>
                      <a:pt x="178" y="10"/>
                    </a:moveTo>
                    <a:lnTo>
                      <a:pt x="10" y="107"/>
                    </a:lnTo>
                    <a:lnTo>
                      <a:pt x="0" y="100"/>
                    </a:lnTo>
                    <a:lnTo>
                      <a:pt x="173" y="0"/>
                    </a:lnTo>
                    <a:lnTo>
                      <a:pt x="177" y="7"/>
                    </a:lnTo>
                    <a:lnTo>
                      <a:pt x="178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5200560" y="3857400"/>
                <a:ext cx="57240" cy="35280"/>
              </a:xfrm>
              <a:custGeom>
                <a:avLst/>
                <a:gdLst/>
                <a:ahLst/>
                <a:rect l="l" t="t" r="r" b="b"/>
                <a:pathLst>
                  <a:path w="179" h="108">
                    <a:moveTo>
                      <a:pt x="179" y="9"/>
                    </a:moveTo>
                    <a:lnTo>
                      <a:pt x="9" y="108"/>
                    </a:lnTo>
                    <a:lnTo>
                      <a:pt x="0" y="101"/>
                    </a:lnTo>
                    <a:lnTo>
                      <a:pt x="174" y="0"/>
                    </a:lnTo>
                    <a:lnTo>
                      <a:pt x="179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5199120" y="3855960"/>
                <a:ext cx="56880" cy="34920"/>
              </a:xfrm>
              <a:custGeom>
                <a:avLst/>
                <a:gdLst/>
                <a:ahLst/>
                <a:rect l="l" t="t" r="r" b="b"/>
                <a:pathLst>
                  <a:path w="183" h="110">
                    <a:moveTo>
                      <a:pt x="183" y="10"/>
                    </a:moveTo>
                    <a:lnTo>
                      <a:pt x="10" y="110"/>
                    </a:lnTo>
                    <a:lnTo>
                      <a:pt x="0" y="101"/>
                    </a:lnTo>
                    <a:lnTo>
                      <a:pt x="177" y="0"/>
                    </a:lnTo>
                    <a:lnTo>
                      <a:pt x="183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5197320" y="3854520"/>
                <a:ext cx="58680" cy="34920"/>
              </a:xfrm>
              <a:custGeom>
                <a:avLst/>
                <a:gdLst/>
                <a:ahLst/>
                <a:rect l="l" t="t" r="r" b="b"/>
                <a:pathLst>
                  <a:path w="185" h="111">
                    <a:moveTo>
                      <a:pt x="185" y="10"/>
                    </a:moveTo>
                    <a:lnTo>
                      <a:pt x="11" y="111"/>
                    </a:lnTo>
                    <a:lnTo>
                      <a:pt x="0" y="103"/>
                    </a:lnTo>
                    <a:lnTo>
                      <a:pt x="179" y="0"/>
                    </a:lnTo>
                    <a:lnTo>
                      <a:pt x="185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5195880" y="3852720"/>
                <a:ext cx="58680" cy="34920"/>
              </a:xfrm>
              <a:custGeom>
                <a:avLst/>
                <a:gdLst/>
                <a:ahLst/>
                <a:rect l="l" t="t" r="r" b="b"/>
                <a:pathLst>
                  <a:path w="186" h="111">
                    <a:moveTo>
                      <a:pt x="186" y="10"/>
                    </a:moveTo>
                    <a:lnTo>
                      <a:pt x="9" y="111"/>
                    </a:lnTo>
                    <a:lnTo>
                      <a:pt x="0" y="104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86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5194080" y="3851280"/>
                <a:ext cx="59040" cy="36360"/>
              </a:xfrm>
              <a:custGeom>
                <a:avLst/>
                <a:gdLst/>
                <a:ahLst/>
                <a:rect l="l" t="t" r="r" b="b"/>
                <a:pathLst>
                  <a:path w="188" h="113">
                    <a:moveTo>
                      <a:pt x="188" y="10"/>
                    </a:moveTo>
                    <a:lnTo>
                      <a:pt x="9" y="113"/>
                    </a:lnTo>
                    <a:lnTo>
                      <a:pt x="0" y="106"/>
                    </a:lnTo>
                    <a:lnTo>
                      <a:pt x="182" y="0"/>
                    </a:lnTo>
                    <a:lnTo>
                      <a:pt x="188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5192640" y="384948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192" h="113">
                    <a:moveTo>
                      <a:pt x="192" y="9"/>
                    </a:moveTo>
                    <a:lnTo>
                      <a:pt x="11" y="113"/>
                    </a:lnTo>
                    <a:lnTo>
                      <a:pt x="0" y="106"/>
                    </a:lnTo>
                    <a:lnTo>
                      <a:pt x="185" y="0"/>
                    </a:lnTo>
                    <a:lnTo>
                      <a:pt x="192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5191200" y="384804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192" h="116">
                    <a:moveTo>
                      <a:pt x="192" y="10"/>
                    </a:moveTo>
                    <a:lnTo>
                      <a:pt x="10" y="116"/>
                    </a:lnTo>
                    <a:lnTo>
                      <a:pt x="0" y="109"/>
                    </a:lnTo>
                    <a:lnTo>
                      <a:pt x="187" y="0"/>
                    </a:lnTo>
                    <a:lnTo>
                      <a:pt x="190" y="8"/>
                    </a:lnTo>
                    <a:lnTo>
                      <a:pt x="192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5189400" y="3846600"/>
                <a:ext cx="61920" cy="37800"/>
              </a:xfrm>
              <a:custGeom>
                <a:avLst/>
                <a:gdLst/>
                <a:ahLst/>
                <a:rect l="l" t="t" r="r" b="b"/>
                <a:pathLst>
                  <a:path w="194" h="117">
                    <a:moveTo>
                      <a:pt x="194" y="11"/>
                    </a:moveTo>
                    <a:lnTo>
                      <a:pt x="9" y="117"/>
                    </a:lnTo>
                    <a:lnTo>
                      <a:pt x="0" y="109"/>
                    </a:lnTo>
                    <a:lnTo>
                      <a:pt x="189" y="0"/>
                    </a:lnTo>
                    <a:lnTo>
                      <a:pt x="194" y="11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5187960" y="3844800"/>
                <a:ext cx="61920" cy="38160"/>
              </a:xfrm>
              <a:custGeom>
                <a:avLst/>
                <a:gdLst/>
                <a:ahLst/>
                <a:rect l="l" t="t" r="r" b="b"/>
                <a:pathLst>
                  <a:path w="197" h="118">
                    <a:moveTo>
                      <a:pt x="197" y="9"/>
                    </a:moveTo>
                    <a:lnTo>
                      <a:pt x="10" y="118"/>
                    </a:lnTo>
                    <a:lnTo>
                      <a:pt x="0" y="110"/>
                    </a:lnTo>
                    <a:lnTo>
                      <a:pt x="191" y="0"/>
                    </a:lnTo>
                    <a:lnTo>
                      <a:pt x="197" y="9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5186160" y="3843360"/>
                <a:ext cx="63720" cy="38160"/>
              </a:xfrm>
              <a:custGeom>
                <a:avLst/>
                <a:gdLst/>
                <a:ahLst/>
                <a:rect l="l" t="t" r="r" b="b"/>
                <a:pathLst>
                  <a:path w="198" h="118">
                    <a:moveTo>
                      <a:pt x="198" y="9"/>
                    </a:moveTo>
                    <a:lnTo>
                      <a:pt x="9" y="118"/>
                    </a:lnTo>
                    <a:lnTo>
                      <a:pt x="0" y="111"/>
                    </a:lnTo>
                    <a:lnTo>
                      <a:pt x="193" y="0"/>
                    </a:lnTo>
                    <a:lnTo>
                      <a:pt x="198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5184720" y="3841560"/>
                <a:ext cx="63360" cy="38160"/>
              </a:xfrm>
              <a:custGeom>
                <a:avLst/>
                <a:gdLst/>
                <a:ahLst/>
                <a:rect l="l" t="t" r="r" b="b"/>
                <a:pathLst>
                  <a:path w="201" h="121">
                    <a:moveTo>
                      <a:pt x="201" y="11"/>
                    </a:moveTo>
                    <a:lnTo>
                      <a:pt x="10" y="121"/>
                    </a:lnTo>
                    <a:lnTo>
                      <a:pt x="0" y="114"/>
                    </a:lnTo>
                    <a:lnTo>
                      <a:pt x="196" y="0"/>
                    </a:lnTo>
                    <a:lnTo>
                      <a:pt x="196" y="2"/>
                    </a:lnTo>
                    <a:lnTo>
                      <a:pt x="201" y="11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5183280" y="384012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204" h="121">
                    <a:moveTo>
                      <a:pt x="204" y="10"/>
                    </a:moveTo>
                    <a:lnTo>
                      <a:pt x="11" y="121"/>
                    </a:lnTo>
                    <a:lnTo>
                      <a:pt x="0" y="114"/>
                    </a:lnTo>
                    <a:lnTo>
                      <a:pt x="197" y="0"/>
                    </a:lnTo>
                    <a:lnTo>
                      <a:pt x="204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5181480" y="3838680"/>
                <a:ext cx="65160" cy="39600"/>
              </a:xfrm>
              <a:custGeom>
                <a:avLst/>
                <a:gdLst/>
                <a:ahLst/>
                <a:rect l="l" t="t" r="r" b="b"/>
                <a:pathLst>
                  <a:path w="205" h="123">
                    <a:moveTo>
                      <a:pt x="205" y="9"/>
                    </a:moveTo>
                    <a:lnTo>
                      <a:pt x="9" y="123"/>
                    </a:lnTo>
                    <a:lnTo>
                      <a:pt x="0" y="116"/>
                    </a:lnTo>
                    <a:lnTo>
                      <a:pt x="198" y="0"/>
                    </a:lnTo>
                    <a:lnTo>
                      <a:pt x="205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5180040" y="383688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206" h="124">
                    <a:moveTo>
                      <a:pt x="206" y="10"/>
                    </a:moveTo>
                    <a:lnTo>
                      <a:pt x="9" y="124"/>
                    </a:lnTo>
                    <a:lnTo>
                      <a:pt x="0" y="116"/>
                    </a:lnTo>
                    <a:lnTo>
                      <a:pt x="201" y="0"/>
                    </a:lnTo>
                    <a:lnTo>
                      <a:pt x="204" y="7"/>
                    </a:lnTo>
                    <a:lnTo>
                      <a:pt x="206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5178240" y="3836880"/>
                <a:ext cx="66600" cy="39600"/>
              </a:xfrm>
              <a:custGeom>
                <a:avLst/>
                <a:gdLst/>
                <a:ahLst/>
                <a:rect l="l" t="t" r="r" b="b"/>
                <a:pathLst>
                  <a:path w="209" h="125">
                    <a:moveTo>
                      <a:pt x="209" y="9"/>
                    </a:moveTo>
                    <a:lnTo>
                      <a:pt x="11" y="125"/>
                    </a:lnTo>
                    <a:lnTo>
                      <a:pt x="0" y="117"/>
                    </a:lnTo>
                    <a:lnTo>
                      <a:pt x="204" y="0"/>
                    </a:lnTo>
                    <a:lnTo>
                      <a:pt x="209" y="9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5176800" y="383364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212" h="126">
                    <a:moveTo>
                      <a:pt x="212" y="10"/>
                    </a:moveTo>
                    <a:lnTo>
                      <a:pt x="11" y="126"/>
                    </a:lnTo>
                    <a:lnTo>
                      <a:pt x="0" y="119"/>
                    </a:lnTo>
                    <a:lnTo>
                      <a:pt x="206" y="0"/>
                    </a:lnTo>
                    <a:lnTo>
                      <a:pt x="212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5175000" y="383220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213" h="128">
                    <a:moveTo>
                      <a:pt x="213" y="11"/>
                    </a:moveTo>
                    <a:lnTo>
                      <a:pt x="9" y="128"/>
                    </a:lnTo>
                    <a:lnTo>
                      <a:pt x="0" y="121"/>
                    </a:lnTo>
                    <a:lnTo>
                      <a:pt x="208" y="0"/>
                    </a:lnTo>
                    <a:lnTo>
                      <a:pt x="213" y="11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5173560" y="3832200"/>
                <a:ext cx="68400" cy="39600"/>
              </a:xfrm>
              <a:custGeom>
                <a:avLst/>
                <a:gdLst/>
                <a:ahLst/>
                <a:rect l="l" t="t" r="r" b="b"/>
                <a:pathLst>
                  <a:path w="215" h="128">
                    <a:moveTo>
                      <a:pt x="215" y="9"/>
                    </a:moveTo>
                    <a:lnTo>
                      <a:pt x="9" y="128"/>
                    </a:lnTo>
                    <a:lnTo>
                      <a:pt x="0" y="121"/>
                    </a:lnTo>
                    <a:lnTo>
                      <a:pt x="210" y="0"/>
                    </a:lnTo>
                    <a:lnTo>
                      <a:pt x="211" y="1"/>
                    </a:lnTo>
                    <a:lnTo>
                      <a:pt x="215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5172120" y="3830760"/>
                <a:ext cx="69840" cy="41040"/>
              </a:xfrm>
              <a:custGeom>
                <a:avLst/>
                <a:gdLst/>
                <a:ahLst/>
                <a:rect l="l" t="t" r="r" b="b"/>
                <a:pathLst>
                  <a:path w="219" h="130">
                    <a:moveTo>
                      <a:pt x="219" y="9"/>
                    </a:moveTo>
                    <a:lnTo>
                      <a:pt x="11" y="130"/>
                    </a:lnTo>
                    <a:lnTo>
                      <a:pt x="0" y="121"/>
                    </a:lnTo>
                    <a:lnTo>
                      <a:pt x="213" y="0"/>
                    </a:lnTo>
                    <a:lnTo>
                      <a:pt x="219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5170320" y="382752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220" h="132">
                    <a:moveTo>
                      <a:pt x="220" y="11"/>
                    </a:moveTo>
                    <a:lnTo>
                      <a:pt x="10" y="132"/>
                    </a:lnTo>
                    <a:lnTo>
                      <a:pt x="0" y="124"/>
                    </a:lnTo>
                    <a:lnTo>
                      <a:pt x="214" y="0"/>
                    </a:lnTo>
                    <a:lnTo>
                      <a:pt x="220" y="11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5168880" y="3827520"/>
                <a:ext cx="69840" cy="41040"/>
              </a:xfrm>
              <a:custGeom>
                <a:avLst/>
                <a:gdLst/>
                <a:ahLst/>
                <a:rect l="l" t="t" r="r" b="b"/>
                <a:pathLst>
                  <a:path w="222" h="131">
                    <a:moveTo>
                      <a:pt x="222" y="10"/>
                    </a:moveTo>
                    <a:lnTo>
                      <a:pt x="9" y="131"/>
                    </a:lnTo>
                    <a:lnTo>
                      <a:pt x="0" y="124"/>
                    </a:lnTo>
                    <a:lnTo>
                      <a:pt x="216" y="0"/>
                    </a:lnTo>
                    <a:lnTo>
                      <a:pt x="219" y="6"/>
                    </a:lnTo>
                    <a:lnTo>
                      <a:pt x="222" y="10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5167080" y="3825720"/>
                <a:ext cx="71640" cy="41400"/>
              </a:xfrm>
              <a:custGeom>
                <a:avLst/>
                <a:gdLst/>
                <a:ahLst/>
                <a:rect l="l" t="t" r="r" b="b"/>
                <a:pathLst>
                  <a:path w="224" h="133">
                    <a:moveTo>
                      <a:pt x="224" y="9"/>
                    </a:moveTo>
                    <a:lnTo>
                      <a:pt x="10" y="133"/>
                    </a:lnTo>
                    <a:lnTo>
                      <a:pt x="0" y="126"/>
                    </a:lnTo>
                    <a:lnTo>
                      <a:pt x="218" y="0"/>
                    </a:lnTo>
                    <a:lnTo>
                      <a:pt x="224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5165640" y="3824280"/>
                <a:ext cx="71280" cy="41400"/>
              </a:xfrm>
              <a:custGeom>
                <a:avLst/>
                <a:gdLst/>
                <a:ahLst/>
                <a:rect l="l" t="t" r="r" b="b"/>
                <a:pathLst>
                  <a:path w="225" h="134">
                    <a:moveTo>
                      <a:pt x="225" y="10"/>
                    </a:moveTo>
                    <a:lnTo>
                      <a:pt x="9" y="134"/>
                    </a:lnTo>
                    <a:lnTo>
                      <a:pt x="0" y="127"/>
                    </a:lnTo>
                    <a:lnTo>
                      <a:pt x="219" y="0"/>
                    </a:lnTo>
                    <a:lnTo>
                      <a:pt x="225" y="10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5164200" y="3822480"/>
                <a:ext cx="72720" cy="4320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228" y="10"/>
                    </a:moveTo>
                    <a:lnTo>
                      <a:pt x="10" y="136"/>
                    </a:lnTo>
                    <a:lnTo>
                      <a:pt x="0" y="129"/>
                    </a:lnTo>
                    <a:lnTo>
                      <a:pt x="223" y="0"/>
                    </a:lnTo>
                    <a:lnTo>
                      <a:pt x="228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5162400" y="3821040"/>
                <a:ext cx="73080" cy="42840"/>
              </a:xfrm>
              <a:custGeom>
                <a:avLst/>
                <a:gdLst/>
                <a:ahLst/>
                <a:rect l="l" t="t" r="r" b="b"/>
                <a:pathLst>
                  <a:path w="230" h="137">
                    <a:moveTo>
                      <a:pt x="230" y="10"/>
                    </a:moveTo>
                    <a:lnTo>
                      <a:pt x="11" y="137"/>
                    </a:lnTo>
                    <a:lnTo>
                      <a:pt x="0" y="129"/>
                    </a:lnTo>
                    <a:lnTo>
                      <a:pt x="225" y="0"/>
                    </a:lnTo>
                    <a:lnTo>
                      <a:pt x="226" y="2"/>
                    </a:lnTo>
                    <a:lnTo>
                      <a:pt x="230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5160960" y="3819600"/>
                <a:ext cx="74520" cy="42840"/>
              </a:xfrm>
              <a:custGeom>
                <a:avLst/>
                <a:gdLst/>
                <a:ahLst/>
                <a:rect l="l" t="t" r="r" b="b"/>
                <a:pathLst>
                  <a:path w="232" h="139">
                    <a:moveTo>
                      <a:pt x="232" y="10"/>
                    </a:moveTo>
                    <a:lnTo>
                      <a:pt x="9" y="139"/>
                    </a:lnTo>
                    <a:lnTo>
                      <a:pt x="0" y="131"/>
                    </a:lnTo>
                    <a:lnTo>
                      <a:pt x="226" y="0"/>
                    </a:lnTo>
                    <a:lnTo>
                      <a:pt x="230" y="7"/>
                    </a:lnTo>
                    <a:lnTo>
                      <a:pt x="232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5159160" y="3817800"/>
                <a:ext cx="74880" cy="42840"/>
              </a:xfrm>
              <a:custGeom>
                <a:avLst/>
                <a:gdLst/>
                <a:ahLst/>
                <a:rect l="l" t="t" r="r" b="b"/>
                <a:pathLst>
                  <a:path w="234" h="138">
                    <a:moveTo>
                      <a:pt x="234" y="9"/>
                    </a:moveTo>
                    <a:lnTo>
                      <a:pt x="9" y="138"/>
                    </a:lnTo>
                    <a:lnTo>
                      <a:pt x="0" y="131"/>
                    </a:lnTo>
                    <a:lnTo>
                      <a:pt x="228" y="0"/>
                    </a:lnTo>
                    <a:lnTo>
                      <a:pt x="234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5157720" y="3816360"/>
                <a:ext cx="74520" cy="44280"/>
              </a:xfrm>
              <a:custGeom>
                <a:avLst/>
                <a:gdLst/>
                <a:ahLst/>
                <a:rect l="l" t="t" r="r" b="b"/>
                <a:pathLst>
                  <a:path w="237" h="140">
                    <a:moveTo>
                      <a:pt x="237" y="9"/>
                    </a:moveTo>
                    <a:lnTo>
                      <a:pt x="11" y="140"/>
                    </a:lnTo>
                    <a:lnTo>
                      <a:pt x="0" y="133"/>
                    </a:lnTo>
                    <a:lnTo>
                      <a:pt x="231" y="0"/>
                    </a:lnTo>
                    <a:lnTo>
                      <a:pt x="237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5156280" y="3814560"/>
                <a:ext cx="75960" cy="44640"/>
              </a:xfrm>
              <a:custGeom>
                <a:avLst/>
                <a:gdLst/>
                <a:ahLst/>
                <a:rect l="l" t="t" r="r" b="b"/>
                <a:pathLst>
                  <a:path w="238" h="142">
                    <a:moveTo>
                      <a:pt x="238" y="11"/>
                    </a:moveTo>
                    <a:lnTo>
                      <a:pt x="10" y="142"/>
                    </a:lnTo>
                    <a:lnTo>
                      <a:pt x="0" y="135"/>
                    </a:lnTo>
                    <a:lnTo>
                      <a:pt x="232" y="0"/>
                    </a:lnTo>
                    <a:lnTo>
                      <a:pt x="238" y="11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5154480" y="3813120"/>
                <a:ext cx="76320" cy="44280"/>
              </a:xfrm>
              <a:custGeom>
                <a:avLst/>
                <a:gdLst/>
                <a:ahLst/>
                <a:rect l="l" t="t" r="r" b="b"/>
                <a:pathLst>
                  <a:path w="240" h="143">
                    <a:moveTo>
                      <a:pt x="240" y="10"/>
                    </a:moveTo>
                    <a:lnTo>
                      <a:pt x="9" y="143"/>
                    </a:lnTo>
                    <a:lnTo>
                      <a:pt x="0" y="136"/>
                    </a:lnTo>
                    <a:lnTo>
                      <a:pt x="235" y="0"/>
                    </a:lnTo>
                    <a:lnTo>
                      <a:pt x="240" y="1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5153040" y="3811680"/>
                <a:ext cx="77760" cy="45720"/>
              </a:xfrm>
              <a:custGeom>
                <a:avLst/>
                <a:gdLst/>
                <a:ahLst/>
                <a:rect l="l" t="t" r="r" b="b"/>
                <a:pathLst>
                  <a:path w="242" h="144">
                    <a:moveTo>
                      <a:pt x="242" y="9"/>
                    </a:moveTo>
                    <a:lnTo>
                      <a:pt x="10" y="144"/>
                    </a:lnTo>
                    <a:lnTo>
                      <a:pt x="0" y="136"/>
                    </a:lnTo>
                    <a:lnTo>
                      <a:pt x="237" y="0"/>
                    </a:lnTo>
                    <a:lnTo>
                      <a:pt x="242" y="9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5151240" y="380988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245" h="146">
                    <a:moveTo>
                      <a:pt x="245" y="10"/>
                    </a:moveTo>
                    <a:lnTo>
                      <a:pt x="10" y="146"/>
                    </a:lnTo>
                    <a:lnTo>
                      <a:pt x="0" y="138"/>
                    </a:lnTo>
                    <a:lnTo>
                      <a:pt x="239" y="0"/>
                    </a:lnTo>
                    <a:lnTo>
                      <a:pt x="245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5149800" y="380844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0"/>
                    </a:moveTo>
                    <a:lnTo>
                      <a:pt x="10" y="146"/>
                    </a:lnTo>
                    <a:lnTo>
                      <a:pt x="0" y="139"/>
                    </a:lnTo>
                    <a:lnTo>
                      <a:pt x="242" y="0"/>
                    </a:lnTo>
                    <a:lnTo>
                      <a:pt x="245" y="7"/>
                    </a:lnTo>
                    <a:lnTo>
                      <a:pt x="247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5148000" y="3806640"/>
                <a:ext cx="79560" cy="46080"/>
              </a:xfrm>
              <a:custGeom>
                <a:avLst/>
                <a:gdLst/>
                <a:ahLst/>
                <a:rect l="l" t="t" r="r" b="b"/>
                <a:pathLst>
                  <a:path w="249" h="148">
                    <a:moveTo>
                      <a:pt x="249" y="10"/>
                    </a:moveTo>
                    <a:lnTo>
                      <a:pt x="10" y="148"/>
                    </a:lnTo>
                    <a:lnTo>
                      <a:pt x="0" y="141"/>
                    </a:lnTo>
                    <a:lnTo>
                      <a:pt x="244" y="0"/>
                    </a:lnTo>
                    <a:lnTo>
                      <a:pt x="246" y="3"/>
                    </a:lnTo>
                    <a:lnTo>
                      <a:pt x="249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5146560" y="380520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251" h="149">
                    <a:moveTo>
                      <a:pt x="251" y="10"/>
                    </a:moveTo>
                    <a:lnTo>
                      <a:pt x="9" y="149"/>
                    </a:lnTo>
                    <a:lnTo>
                      <a:pt x="0" y="142"/>
                    </a:lnTo>
                    <a:lnTo>
                      <a:pt x="244" y="0"/>
                    </a:lnTo>
                    <a:lnTo>
                      <a:pt x="251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5145120" y="380376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254" h="151">
                    <a:moveTo>
                      <a:pt x="254" y="10"/>
                    </a:moveTo>
                    <a:lnTo>
                      <a:pt x="10" y="151"/>
                    </a:lnTo>
                    <a:lnTo>
                      <a:pt x="0" y="142"/>
                    </a:lnTo>
                    <a:lnTo>
                      <a:pt x="247" y="0"/>
                    </a:lnTo>
                    <a:lnTo>
                      <a:pt x="254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5143320" y="380196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255" h="152">
                    <a:moveTo>
                      <a:pt x="255" y="10"/>
                    </a:moveTo>
                    <a:lnTo>
                      <a:pt x="11" y="152"/>
                    </a:lnTo>
                    <a:lnTo>
                      <a:pt x="0" y="144"/>
                    </a:lnTo>
                    <a:lnTo>
                      <a:pt x="250" y="0"/>
                    </a:lnTo>
                    <a:lnTo>
                      <a:pt x="255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5141880" y="3800520"/>
                <a:ext cx="82440" cy="47520"/>
              </a:xfrm>
              <a:custGeom>
                <a:avLst/>
                <a:gdLst/>
                <a:ahLst/>
                <a:rect l="l" t="t" r="r" b="b"/>
                <a:pathLst>
                  <a:path w="256" h="152">
                    <a:moveTo>
                      <a:pt x="256" y="10"/>
                    </a:moveTo>
                    <a:lnTo>
                      <a:pt x="9" y="152"/>
                    </a:lnTo>
                    <a:lnTo>
                      <a:pt x="0" y="145"/>
                    </a:lnTo>
                    <a:lnTo>
                      <a:pt x="251" y="0"/>
                    </a:lnTo>
                    <a:lnTo>
                      <a:pt x="256" y="10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5140080" y="3798720"/>
                <a:ext cx="82800" cy="49320"/>
              </a:xfrm>
              <a:custGeom>
                <a:avLst/>
                <a:gdLst/>
                <a:ahLst/>
                <a:rect l="l" t="t" r="r" b="b"/>
                <a:pathLst>
                  <a:path w="259" h="154">
                    <a:moveTo>
                      <a:pt x="259" y="10"/>
                    </a:moveTo>
                    <a:lnTo>
                      <a:pt x="9" y="154"/>
                    </a:lnTo>
                    <a:lnTo>
                      <a:pt x="0" y="147"/>
                    </a:lnTo>
                    <a:lnTo>
                      <a:pt x="253" y="0"/>
                    </a:lnTo>
                    <a:lnTo>
                      <a:pt x="259" y="10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5138640" y="3797280"/>
                <a:ext cx="84240" cy="49320"/>
              </a:xfrm>
              <a:custGeom>
                <a:avLst/>
                <a:gdLst/>
                <a:ahLst/>
                <a:rect l="l" t="t" r="r" b="b"/>
                <a:pathLst>
                  <a:path w="261" h="154">
                    <a:moveTo>
                      <a:pt x="261" y="9"/>
                    </a:moveTo>
                    <a:lnTo>
                      <a:pt x="10" y="154"/>
                    </a:lnTo>
                    <a:lnTo>
                      <a:pt x="0" y="147"/>
                    </a:lnTo>
                    <a:lnTo>
                      <a:pt x="256" y="0"/>
                    </a:lnTo>
                    <a:lnTo>
                      <a:pt x="259" y="6"/>
                    </a:lnTo>
                    <a:lnTo>
                      <a:pt x="261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5137200" y="3795840"/>
                <a:ext cx="82440" cy="48960"/>
              </a:xfrm>
              <a:custGeom>
                <a:avLst/>
                <a:gdLst/>
                <a:ahLst/>
                <a:rect l="l" t="t" r="r" b="b"/>
                <a:pathLst>
                  <a:path w="260" h="157">
                    <a:moveTo>
                      <a:pt x="0" y="150"/>
                    </a:moveTo>
                    <a:lnTo>
                      <a:pt x="258" y="0"/>
                    </a:lnTo>
                    <a:lnTo>
                      <a:pt x="260" y="5"/>
                    </a:lnTo>
                    <a:lnTo>
                      <a:pt x="0" y="150"/>
                    </a:lnTo>
                    <a:close/>
                    <a:moveTo>
                      <a:pt x="10" y="157"/>
                    </a:moveTo>
                    <a:lnTo>
                      <a:pt x="0" y="150"/>
                    </a:lnTo>
                    <a:lnTo>
                      <a:pt x="10" y="157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5135400" y="3794040"/>
                <a:ext cx="85680" cy="49320"/>
              </a:xfrm>
              <a:custGeom>
                <a:avLst/>
                <a:gdLst/>
                <a:ahLst/>
                <a:rect l="l" t="t" r="r" b="b"/>
                <a:pathLst>
                  <a:path w="266" h="158">
                    <a:moveTo>
                      <a:pt x="266" y="11"/>
                    </a:moveTo>
                    <a:lnTo>
                      <a:pt x="10" y="158"/>
                    </a:lnTo>
                    <a:lnTo>
                      <a:pt x="0" y="150"/>
                    </a:lnTo>
                    <a:lnTo>
                      <a:pt x="259" y="0"/>
                    </a:lnTo>
                    <a:lnTo>
                      <a:pt x="266" y="11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5133960" y="3792600"/>
                <a:ext cx="85680" cy="50760"/>
              </a:xfrm>
              <a:custGeom>
                <a:avLst/>
                <a:gdLst/>
                <a:ahLst/>
                <a:rect l="l" t="t" r="r" b="b"/>
                <a:pathLst>
                  <a:path w="268" h="159">
                    <a:moveTo>
                      <a:pt x="268" y="9"/>
                    </a:moveTo>
                    <a:lnTo>
                      <a:pt x="10" y="159"/>
                    </a:lnTo>
                    <a:lnTo>
                      <a:pt x="0" y="151"/>
                    </a:lnTo>
                    <a:lnTo>
                      <a:pt x="262" y="0"/>
                    </a:lnTo>
                    <a:lnTo>
                      <a:pt x="268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5132160" y="3790800"/>
                <a:ext cx="86040" cy="50760"/>
              </a:xfrm>
              <a:custGeom>
                <a:avLst/>
                <a:gdLst/>
                <a:ahLst/>
                <a:rect l="l" t="t" r="r" b="b"/>
                <a:pathLst>
                  <a:path w="269" h="159">
                    <a:moveTo>
                      <a:pt x="269" y="9"/>
                    </a:moveTo>
                    <a:lnTo>
                      <a:pt x="10" y="159"/>
                    </a:lnTo>
                    <a:lnTo>
                      <a:pt x="0" y="152"/>
                    </a:lnTo>
                    <a:lnTo>
                      <a:pt x="264" y="0"/>
                    </a:lnTo>
                    <a:lnTo>
                      <a:pt x="269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5130720" y="3789360"/>
                <a:ext cx="87480" cy="50760"/>
              </a:xfrm>
              <a:custGeom>
                <a:avLst/>
                <a:gdLst/>
                <a:ahLst/>
                <a:rect l="l" t="t" r="r" b="b"/>
                <a:pathLst>
                  <a:path w="272" h="161">
                    <a:moveTo>
                      <a:pt x="272" y="10"/>
                    </a:moveTo>
                    <a:lnTo>
                      <a:pt x="10" y="161"/>
                    </a:lnTo>
                    <a:lnTo>
                      <a:pt x="0" y="154"/>
                    </a:lnTo>
                    <a:lnTo>
                      <a:pt x="266" y="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5129280" y="3787560"/>
                <a:ext cx="87120" cy="51120"/>
              </a:xfrm>
              <a:custGeom>
                <a:avLst/>
                <a:gdLst/>
                <a:ahLst/>
                <a:rect l="l" t="t" r="r" b="b"/>
                <a:pathLst>
                  <a:path w="274" h="162">
                    <a:moveTo>
                      <a:pt x="274" y="10"/>
                    </a:moveTo>
                    <a:lnTo>
                      <a:pt x="10" y="162"/>
                    </a:lnTo>
                    <a:lnTo>
                      <a:pt x="0" y="155"/>
                    </a:lnTo>
                    <a:lnTo>
                      <a:pt x="268" y="0"/>
                    </a:lnTo>
                    <a:lnTo>
                      <a:pt x="274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5127480" y="378612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276" h="164">
                    <a:moveTo>
                      <a:pt x="276" y="10"/>
                    </a:moveTo>
                    <a:lnTo>
                      <a:pt x="10" y="164"/>
                    </a:lnTo>
                    <a:lnTo>
                      <a:pt x="0" y="157"/>
                    </a:lnTo>
                    <a:lnTo>
                      <a:pt x="271" y="0"/>
                    </a:lnTo>
                    <a:lnTo>
                      <a:pt x="274" y="6"/>
                    </a:lnTo>
                    <a:lnTo>
                      <a:pt x="276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5127480" y="3784680"/>
                <a:ext cx="87480" cy="52200"/>
              </a:xfrm>
              <a:custGeom>
                <a:avLst/>
                <a:gdLst/>
                <a:ahLst/>
                <a:rect l="l" t="t" r="r" b="b"/>
                <a:pathLst>
                  <a:path w="277" h="165">
                    <a:moveTo>
                      <a:pt x="277" y="10"/>
                    </a:moveTo>
                    <a:lnTo>
                      <a:pt x="9" y="165"/>
                    </a:lnTo>
                    <a:lnTo>
                      <a:pt x="0" y="157"/>
                    </a:lnTo>
                    <a:lnTo>
                      <a:pt x="272" y="0"/>
                    </a:lnTo>
                    <a:lnTo>
                      <a:pt x="274" y="4"/>
                    </a:lnTo>
                    <a:lnTo>
                      <a:pt x="277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5124240" y="3782880"/>
                <a:ext cx="90720" cy="52560"/>
              </a:xfrm>
              <a:custGeom>
                <a:avLst/>
                <a:gdLst/>
                <a:ahLst/>
                <a:rect l="l" t="t" r="r" b="b"/>
                <a:pathLst>
                  <a:path w="281" h="166">
                    <a:moveTo>
                      <a:pt x="281" y="9"/>
                    </a:moveTo>
                    <a:lnTo>
                      <a:pt x="10" y="166"/>
                    </a:lnTo>
                    <a:lnTo>
                      <a:pt x="0" y="158"/>
                    </a:lnTo>
                    <a:lnTo>
                      <a:pt x="274" y="0"/>
                    </a:lnTo>
                    <a:lnTo>
                      <a:pt x="281" y="9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5122800" y="3781440"/>
                <a:ext cx="90360" cy="52200"/>
              </a:xfrm>
              <a:custGeom>
                <a:avLst/>
                <a:gdLst/>
                <a:ahLst/>
                <a:rect l="l" t="t" r="r" b="b"/>
                <a:pathLst>
                  <a:path w="283" h="167">
                    <a:moveTo>
                      <a:pt x="283" y="10"/>
                    </a:moveTo>
                    <a:lnTo>
                      <a:pt x="11" y="167"/>
                    </a:lnTo>
                    <a:lnTo>
                      <a:pt x="0" y="160"/>
                    </a:lnTo>
                    <a:lnTo>
                      <a:pt x="277" y="0"/>
                    </a:lnTo>
                    <a:lnTo>
                      <a:pt x="283" y="10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5122800" y="377964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283" h="169">
                    <a:moveTo>
                      <a:pt x="283" y="11"/>
                    </a:moveTo>
                    <a:lnTo>
                      <a:pt x="9" y="169"/>
                    </a:lnTo>
                    <a:lnTo>
                      <a:pt x="0" y="162"/>
                    </a:lnTo>
                    <a:lnTo>
                      <a:pt x="278" y="0"/>
                    </a:lnTo>
                    <a:lnTo>
                      <a:pt x="283" y="11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5121360" y="3778200"/>
                <a:ext cx="90360" cy="54000"/>
              </a:xfrm>
              <a:custGeom>
                <a:avLst/>
                <a:gdLst/>
                <a:ahLst/>
                <a:rect l="l" t="t" r="r" b="b"/>
                <a:pathLst>
                  <a:path w="286" h="169">
                    <a:moveTo>
                      <a:pt x="286" y="9"/>
                    </a:moveTo>
                    <a:lnTo>
                      <a:pt x="9" y="169"/>
                    </a:lnTo>
                    <a:lnTo>
                      <a:pt x="0" y="162"/>
                    </a:lnTo>
                    <a:lnTo>
                      <a:pt x="280" y="0"/>
                    </a:lnTo>
                    <a:lnTo>
                      <a:pt x="286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5118120" y="3776760"/>
                <a:ext cx="91800" cy="54000"/>
              </a:xfrm>
              <a:custGeom>
                <a:avLst/>
                <a:gdLst/>
                <a:ahLst/>
                <a:rect l="l" t="t" r="r" b="b"/>
                <a:pathLst>
                  <a:path w="289" h="171">
                    <a:moveTo>
                      <a:pt x="289" y="9"/>
                    </a:moveTo>
                    <a:lnTo>
                      <a:pt x="11" y="171"/>
                    </a:lnTo>
                    <a:lnTo>
                      <a:pt x="0" y="162"/>
                    </a:lnTo>
                    <a:lnTo>
                      <a:pt x="284" y="0"/>
                    </a:lnTo>
                    <a:lnTo>
                      <a:pt x="289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5118120" y="3774960"/>
                <a:ext cx="91800" cy="55800"/>
              </a:xfrm>
              <a:custGeom>
                <a:avLst/>
                <a:gdLst/>
                <a:ahLst/>
                <a:rect l="l" t="t" r="r" b="b"/>
                <a:pathLst>
                  <a:path w="290" h="173">
                    <a:moveTo>
                      <a:pt x="290" y="11"/>
                    </a:moveTo>
                    <a:lnTo>
                      <a:pt x="10" y="173"/>
                    </a:lnTo>
                    <a:lnTo>
                      <a:pt x="0" y="165"/>
                    </a:lnTo>
                    <a:lnTo>
                      <a:pt x="285" y="0"/>
                    </a:lnTo>
                    <a:lnTo>
                      <a:pt x="288" y="7"/>
                    </a:lnTo>
                    <a:lnTo>
                      <a:pt x="290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5116320" y="3773520"/>
                <a:ext cx="92160" cy="55440"/>
              </a:xfrm>
              <a:custGeom>
                <a:avLst/>
                <a:gdLst/>
                <a:ahLst/>
                <a:rect l="l" t="t" r="r" b="b"/>
                <a:pathLst>
                  <a:path w="293" h="172">
                    <a:moveTo>
                      <a:pt x="293" y="10"/>
                    </a:moveTo>
                    <a:lnTo>
                      <a:pt x="9" y="172"/>
                    </a:lnTo>
                    <a:lnTo>
                      <a:pt x="0" y="165"/>
                    </a:lnTo>
                    <a:lnTo>
                      <a:pt x="287" y="0"/>
                    </a:lnTo>
                    <a:lnTo>
                      <a:pt x="290" y="4"/>
                    </a:lnTo>
                    <a:lnTo>
                      <a:pt x="293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5114880" y="3771720"/>
                <a:ext cx="93600" cy="55800"/>
              </a:xfrm>
              <a:custGeom>
                <a:avLst/>
                <a:gdLst/>
                <a:ahLst/>
                <a:rect l="l" t="t" r="r" b="b"/>
                <a:pathLst>
                  <a:path w="295" h="174">
                    <a:moveTo>
                      <a:pt x="295" y="9"/>
                    </a:moveTo>
                    <a:lnTo>
                      <a:pt x="10" y="174"/>
                    </a:lnTo>
                    <a:lnTo>
                      <a:pt x="0" y="167"/>
                    </a:lnTo>
                    <a:lnTo>
                      <a:pt x="289" y="0"/>
                    </a:lnTo>
                    <a:lnTo>
                      <a:pt x="295" y="9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5113080" y="3770280"/>
                <a:ext cx="93960" cy="55440"/>
              </a:xfrm>
              <a:custGeom>
                <a:avLst/>
                <a:gdLst/>
                <a:ahLst/>
                <a:rect l="l" t="t" r="r" b="b"/>
                <a:pathLst>
                  <a:path w="296" h="175">
                    <a:moveTo>
                      <a:pt x="296" y="10"/>
                    </a:moveTo>
                    <a:lnTo>
                      <a:pt x="9" y="175"/>
                    </a:lnTo>
                    <a:lnTo>
                      <a:pt x="0" y="168"/>
                    </a:lnTo>
                    <a:lnTo>
                      <a:pt x="290" y="0"/>
                    </a:lnTo>
                    <a:lnTo>
                      <a:pt x="296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5111640" y="3768840"/>
                <a:ext cx="93600" cy="56880"/>
              </a:xfrm>
              <a:custGeom>
                <a:avLst/>
                <a:gdLst/>
                <a:ahLst/>
                <a:rect l="l" t="t" r="r" b="b"/>
                <a:pathLst>
                  <a:path w="299" h="176">
                    <a:moveTo>
                      <a:pt x="299" y="9"/>
                    </a:moveTo>
                    <a:lnTo>
                      <a:pt x="10" y="176"/>
                    </a:lnTo>
                    <a:lnTo>
                      <a:pt x="0" y="169"/>
                    </a:lnTo>
                    <a:lnTo>
                      <a:pt x="293" y="0"/>
                    </a:lnTo>
                    <a:lnTo>
                      <a:pt x="299" y="9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5110200" y="376704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301" h="178">
                    <a:moveTo>
                      <a:pt x="301" y="10"/>
                    </a:moveTo>
                    <a:lnTo>
                      <a:pt x="11" y="178"/>
                    </a:lnTo>
                    <a:lnTo>
                      <a:pt x="0" y="170"/>
                    </a:lnTo>
                    <a:lnTo>
                      <a:pt x="295" y="0"/>
                    </a:lnTo>
                    <a:lnTo>
                      <a:pt x="301" y="10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5108400" y="376560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302" h="180">
                    <a:moveTo>
                      <a:pt x="302" y="11"/>
                    </a:moveTo>
                    <a:lnTo>
                      <a:pt x="9" y="180"/>
                    </a:lnTo>
                    <a:lnTo>
                      <a:pt x="0" y="172"/>
                    </a:lnTo>
                    <a:lnTo>
                      <a:pt x="297" y="0"/>
                    </a:lnTo>
                    <a:lnTo>
                      <a:pt x="302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5106960" y="3763800"/>
                <a:ext cx="96840" cy="57240"/>
              </a:xfrm>
              <a:custGeom>
                <a:avLst/>
                <a:gdLst/>
                <a:ahLst/>
                <a:rect l="l" t="t" r="r" b="b"/>
                <a:pathLst>
                  <a:path w="304" h="179">
                    <a:moveTo>
                      <a:pt x="304" y="9"/>
                    </a:moveTo>
                    <a:lnTo>
                      <a:pt x="9" y="179"/>
                    </a:lnTo>
                    <a:lnTo>
                      <a:pt x="0" y="172"/>
                    </a:lnTo>
                    <a:lnTo>
                      <a:pt x="299" y="0"/>
                    </a:lnTo>
                    <a:lnTo>
                      <a:pt x="302" y="5"/>
                    </a:lnTo>
                    <a:lnTo>
                      <a:pt x="304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5105160" y="3762360"/>
                <a:ext cx="96840" cy="58680"/>
              </a:xfrm>
              <a:custGeom>
                <a:avLst/>
                <a:gdLst/>
                <a:ahLst/>
                <a:rect l="l" t="t" r="r" b="b"/>
                <a:pathLst>
                  <a:path w="308" h="181">
                    <a:moveTo>
                      <a:pt x="308" y="9"/>
                    </a:moveTo>
                    <a:lnTo>
                      <a:pt x="11" y="181"/>
                    </a:lnTo>
                    <a:lnTo>
                      <a:pt x="0" y="174"/>
                    </a:lnTo>
                    <a:lnTo>
                      <a:pt x="302" y="0"/>
                    </a:lnTo>
                    <a:lnTo>
                      <a:pt x="308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5103720" y="3760560"/>
                <a:ext cx="98280" cy="59040"/>
              </a:xfrm>
              <a:custGeom>
                <a:avLst/>
                <a:gdLst/>
                <a:ahLst/>
                <a:rect l="l" t="t" r="r" b="b"/>
                <a:pathLst>
                  <a:path w="309" h="183">
                    <a:moveTo>
                      <a:pt x="309" y="11"/>
                    </a:moveTo>
                    <a:lnTo>
                      <a:pt x="10" y="183"/>
                    </a:lnTo>
                    <a:lnTo>
                      <a:pt x="0" y="176"/>
                    </a:lnTo>
                    <a:lnTo>
                      <a:pt x="304" y="0"/>
                    </a:lnTo>
                    <a:lnTo>
                      <a:pt x="309" y="11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5102280" y="3759120"/>
                <a:ext cx="98280" cy="58680"/>
              </a:xfrm>
              <a:custGeom>
                <a:avLst/>
                <a:gdLst/>
                <a:ahLst/>
                <a:rect l="l" t="t" r="r" b="b"/>
                <a:pathLst>
                  <a:path w="311" h="184">
                    <a:moveTo>
                      <a:pt x="311" y="10"/>
                    </a:moveTo>
                    <a:lnTo>
                      <a:pt x="9" y="184"/>
                    </a:lnTo>
                    <a:lnTo>
                      <a:pt x="0" y="177"/>
                    </a:lnTo>
                    <a:lnTo>
                      <a:pt x="305" y="0"/>
                    </a:lnTo>
                    <a:lnTo>
                      <a:pt x="309" y="5"/>
                    </a:lnTo>
                    <a:lnTo>
                      <a:pt x="311" y="10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5100480" y="3757680"/>
                <a:ext cx="100080" cy="58680"/>
              </a:xfrm>
              <a:custGeom>
                <a:avLst/>
                <a:gdLst/>
                <a:ahLst/>
                <a:rect l="l" t="t" r="r" b="b"/>
                <a:pathLst>
                  <a:path w="314" h="185">
                    <a:moveTo>
                      <a:pt x="314" y="9"/>
                    </a:moveTo>
                    <a:lnTo>
                      <a:pt x="10" y="185"/>
                    </a:lnTo>
                    <a:lnTo>
                      <a:pt x="0" y="177"/>
                    </a:lnTo>
                    <a:lnTo>
                      <a:pt x="307" y="0"/>
                    </a:lnTo>
                    <a:lnTo>
                      <a:pt x="314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5099040" y="3755880"/>
                <a:ext cx="100080" cy="60480"/>
              </a:xfrm>
              <a:custGeom>
                <a:avLst/>
                <a:gdLst/>
                <a:ahLst/>
                <a:rect l="l" t="t" r="r" b="b"/>
                <a:pathLst>
                  <a:path w="315" h="187">
                    <a:moveTo>
                      <a:pt x="315" y="10"/>
                    </a:moveTo>
                    <a:lnTo>
                      <a:pt x="10" y="187"/>
                    </a:lnTo>
                    <a:lnTo>
                      <a:pt x="0" y="179"/>
                    </a:lnTo>
                    <a:lnTo>
                      <a:pt x="309" y="0"/>
                    </a:lnTo>
                    <a:lnTo>
                      <a:pt x="315" y="10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5097240" y="3754440"/>
                <a:ext cx="100080" cy="60120"/>
              </a:xfrm>
              <a:custGeom>
                <a:avLst/>
                <a:gdLst/>
                <a:ahLst/>
                <a:rect l="l" t="t" r="r" b="b"/>
                <a:pathLst>
                  <a:path w="317" h="187">
                    <a:moveTo>
                      <a:pt x="317" y="10"/>
                    </a:moveTo>
                    <a:lnTo>
                      <a:pt x="10" y="187"/>
                    </a:lnTo>
                    <a:lnTo>
                      <a:pt x="0" y="180"/>
                    </a:lnTo>
                    <a:lnTo>
                      <a:pt x="312" y="0"/>
                    </a:lnTo>
                    <a:lnTo>
                      <a:pt x="317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5095800" y="375264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19" h="189">
                    <a:moveTo>
                      <a:pt x="319" y="10"/>
                    </a:moveTo>
                    <a:lnTo>
                      <a:pt x="10" y="189"/>
                    </a:lnTo>
                    <a:lnTo>
                      <a:pt x="0" y="182"/>
                    </a:lnTo>
                    <a:lnTo>
                      <a:pt x="314" y="0"/>
                    </a:lnTo>
                    <a:lnTo>
                      <a:pt x="317" y="5"/>
                    </a:lnTo>
                    <a:lnTo>
                      <a:pt x="319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5094360" y="375120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21" h="190">
                    <a:moveTo>
                      <a:pt x="321" y="10"/>
                    </a:moveTo>
                    <a:lnTo>
                      <a:pt x="9" y="190"/>
                    </a:lnTo>
                    <a:lnTo>
                      <a:pt x="0" y="183"/>
                    </a:lnTo>
                    <a:lnTo>
                      <a:pt x="315" y="0"/>
                    </a:lnTo>
                    <a:lnTo>
                      <a:pt x="321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092560" y="3751200"/>
                <a:ext cx="103320" cy="60480"/>
              </a:xfrm>
              <a:custGeom>
                <a:avLst/>
                <a:gdLst/>
                <a:ahLst/>
                <a:rect l="l" t="t" r="r" b="b"/>
                <a:pathLst>
                  <a:path w="323" h="191">
                    <a:moveTo>
                      <a:pt x="323" y="9"/>
                    </a:moveTo>
                    <a:lnTo>
                      <a:pt x="9" y="191"/>
                    </a:lnTo>
                    <a:lnTo>
                      <a:pt x="0" y="182"/>
                    </a:lnTo>
                    <a:lnTo>
                      <a:pt x="318" y="0"/>
                    </a:lnTo>
                    <a:lnTo>
                      <a:pt x="323" y="9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5091120" y="3747960"/>
                <a:ext cx="102960" cy="61920"/>
              </a:xfrm>
              <a:custGeom>
                <a:avLst/>
                <a:gdLst/>
                <a:ahLst/>
                <a:rect l="l" t="t" r="r" b="b"/>
                <a:pathLst>
                  <a:path w="326" h="193">
                    <a:moveTo>
                      <a:pt x="326" y="10"/>
                    </a:moveTo>
                    <a:lnTo>
                      <a:pt x="11" y="193"/>
                    </a:lnTo>
                    <a:lnTo>
                      <a:pt x="0" y="185"/>
                    </a:lnTo>
                    <a:lnTo>
                      <a:pt x="321" y="0"/>
                    </a:lnTo>
                    <a:lnTo>
                      <a:pt x="325" y="7"/>
                    </a:lnTo>
                    <a:lnTo>
                      <a:pt x="326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089320" y="3746520"/>
                <a:ext cx="104760" cy="61920"/>
              </a:xfrm>
              <a:custGeom>
                <a:avLst/>
                <a:gdLst/>
                <a:ahLst/>
                <a:rect l="l" t="t" r="r" b="b"/>
                <a:pathLst>
                  <a:path w="328" h="193">
                    <a:moveTo>
                      <a:pt x="328" y="11"/>
                    </a:moveTo>
                    <a:lnTo>
                      <a:pt x="10" y="193"/>
                    </a:lnTo>
                    <a:lnTo>
                      <a:pt x="0" y="186"/>
                    </a:lnTo>
                    <a:lnTo>
                      <a:pt x="321" y="0"/>
                    </a:lnTo>
                    <a:lnTo>
                      <a:pt x="328" y="11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5087880" y="3746520"/>
                <a:ext cx="104760" cy="60120"/>
              </a:xfrm>
              <a:custGeom>
                <a:avLst/>
                <a:gdLst/>
                <a:ahLst/>
                <a:rect l="l" t="t" r="r" b="b"/>
                <a:pathLst>
                  <a:path w="330" h="194">
                    <a:moveTo>
                      <a:pt x="330" y="9"/>
                    </a:moveTo>
                    <a:lnTo>
                      <a:pt x="9" y="194"/>
                    </a:lnTo>
                    <a:lnTo>
                      <a:pt x="0" y="187"/>
                    </a:lnTo>
                    <a:lnTo>
                      <a:pt x="324" y="0"/>
                    </a:lnTo>
                    <a:lnTo>
                      <a:pt x="330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5086440" y="3744720"/>
                <a:ext cx="104760" cy="61920"/>
              </a:xfrm>
              <a:custGeom>
                <a:avLst/>
                <a:gdLst/>
                <a:ahLst/>
                <a:rect l="l" t="t" r="r" b="b"/>
                <a:pathLst>
                  <a:path w="331" h="195">
                    <a:moveTo>
                      <a:pt x="331" y="9"/>
                    </a:moveTo>
                    <a:lnTo>
                      <a:pt x="10" y="195"/>
                    </a:lnTo>
                    <a:lnTo>
                      <a:pt x="0" y="188"/>
                    </a:lnTo>
                    <a:lnTo>
                      <a:pt x="326" y="0"/>
                    </a:lnTo>
                    <a:lnTo>
                      <a:pt x="331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5084640" y="3743280"/>
                <a:ext cx="106560" cy="61920"/>
              </a:xfrm>
              <a:custGeom>
                <a:avLst/>
                <a:gdLst/>
                <a:ahLst/>
                <a:rect l="l" t="t" r="r" b="b"/>
                <a:pathLst>
                  <a:path w="335" h="197">
                    <a:moveTo>
                      <a:pt x="335" y="10"/>
                    </a:moveTo>
                    <a:lnTo>
                      <a:pt x="11" y="197"/>
                    </a:lnTo>
                    <a:lnTo>
                      <a:pt x="0" y="190"/>
                    </a:lnTo>
                    <a:lnTo>
                      <a:pt x="329" y="0"/>
                    </a:lnTo>
                    <a:lnTo>
                      <a:pt x="332" y="5"/>
                    </a:lnTo>
                    <a:lnTo>
                      <a:pt x="335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5083200" y="3741840"/>
                <a:ext cx="106200" cy="61920"/>
              </a:xfrm>
              <a:custGeom>
                <a:avLst/>
                <a:gdLst/>
                <a:ahLst/>
                <a:rect l="l" t="t" r="r" b="b"/>
                <a:pathLst>
                  <a:path w="336" h="198">
                    <a:moveTo>
                      <a:pt x="336" y="10"/>
                    </a:moveTo>
                    <a:lnTo>
                      <a:pt x="10" y="198"/>
                    </a:lnTo>
                    <a:lnTo>
                      <a:pt x="0" y="190"/>
                    </a:lnTo>
                    <a:lnTo>
                      <a:pt x="330" y="0"/>
                    </a:lnTo>
                    <a:lnTo>
                      <a:pt x="336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5081400" y="3740040"/>
                <a:ext cx="108000" cy="63720"/>
              </a:xfrm>
              <a:custGeom>
                <a:avLst/>
                <a:gdLst/>
                <a:ahLst/>
                <a:rect l="l" t="t" r="r" b="b"/>
                <a:pathLst>
                  <a:path w="338" h="200">
                    <a:moveTo>
                      <a:pt x="338" y="10"/>
                    </a:moveTo>
                    <a:lnTo>
                      <a:pt x="9" y="200"/>
                    </a:lnTo>
                    <a:lnTo>
                      <a:pt x="0" y="192"/>
                    </a:lnTo>
                    <a:lnTo>
                      <a:pt x="333" y="0"/>
                    </a:lnTo>
                    <a:lnTo>
                      <a:pt x="338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5079960" y="3738600"/>
                <a:ext cx="108000" cy="63360"/>
              </a:xfrm>
              <a:custGeom>
                <a:avLst/>
                <a:gdLst/>
                <a:ahLst/>
                <a:rect l="l" t="t" r="r" b="b"/>
                <a:pathLst>
                  <a:path w="340" h="200">
                    <a:moveTo>
                      <a:pt x="340" y="10"/>
                    </a:moveTo>
                    <a:lnTo>
                      <a:pt x="10" y="200"/>
                    </a:lnTo>
                    <a:lnTo>
                      <a:pt x="0" y="193"/>
                    </a:lnTo>
                    <a:lnTo>
                      <a:pt x="335" y="0"/>
                    </a:lnTo>
                    <a:lnTo>
                      <a:pt x="339" y="7"/>
                    </a:lnTo>
                    <a:lnTo>
                      <a:pt x="340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5078160" y="3736800"/>
                <a:ext cx="109800" cy="63720"/>
              </a:xfrm>
              <a:custGeom>
                <a:avLst/>
                <a:gdLst/>
                <a:ahLst/>
                <a:rect l="l" t="t" r="r" b="b"/>
                <a:pathLst>
                  <a:path w="343" h="201">
                    <a:moveTo>
                      <a:pt x="343" y="9"/>
                    </a:moveTo>
                    <a:lnTo>
                      <a:pt x="10" y="201"/>
                    </a:lnTo>
                    <a:lnTo>
                      <a:pt x="0" y="194"/>
                    </a:lnTo>
                    <a:lnTo>
                      <a:pt x="336" y="0"/>
                    </a:lnTo>
                    <a:lnTo>
                      <a:pt x="343" y="9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5076720" y="3735360"/>
                <a:ext cx="109440" cy="63360"/>
              </a:xfrm>
              <a:custGeom>
                <a:avLst/>
                <a:gdLst/>
                <a:ahLst/>
                <a:rect l="l" t="t" r="r" b="b"/>
                <a:pathLst>
                  <a:path w="345" h="203">
                    <a:moveTo>
                      <a:pt x="345" y="10"/>
                    </a:moveTo>
                    <a:lnTo>
                      <a:pt x="10" y="203"/>
                    </a:lnTo>
                    <a:lnTo>
                      <a:pt x="0" y="196"/>
                    </a:lnTo>
                    <a:lnTo>
                      <a:pt x="339" y="0"/>
                    </a:lnTo>
                    <a:lnTo>
                      <a:pt x="341" y="6"/>
                    </a:lnTo>
                    <a:lnTo>
                      <a:pt x="345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5075280" y="3733920"/>
                <a:ext cx="109440" cy="64800"/>
              </a:xfrm>
              <a:custGeom>
                <a:avLst/>
                <a:gdLst/>
                <a:ahLst/>
                <a:rect l="l" t="t" r="r" b="b"/>
                <a:pathLst>
                  <a:path w="346" h="205">
                    <a:moveTo>
                      <a:pt x="346" y="11"/>
                    </a:moveTo>
                    <a:lnTo>
                      <a:pt x="10" y="205"/>
                    </a:lnTo>
                    <a:lnTo>
                      <a:pt x="0" y="198"/>
                    </a:lnTo>
                    <a:lnTo>
                      <a:pt x="341" y="0"/>
                    </a:lnTo>
                    <a:lnTo>
                      <a:pt x="346" y="11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5073480" y="3732120"/>
                <a:ext cx="111240" cy="65160"/>
              </a:xfrm>
              <a:custGeom>
                <a:avLst/>
                <a:gdLst/>
                <a:ahLst/>
                <a:rect l="l" t="t" r="r" b="b"/>
                <a:pathLst>
                  <a:path w="348" h="205">
                    <a:moveTo>
                      <a:pt x="348" y="9"/>
                    </a:moveTo>
                    <a:lnTo>
                      <a:pt x="9" y="205"/>
                    </a:lnTo>
                    <a:lnTo>
                      <a:pt x="0" y="197"/>
                    </a:lnTo>
                    <a:lnTo>
                      <a:pt x="342" y="0"/>
                    </a:lnTo>
                    <a:lnTo>
                      <a:pt x="348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5072040" y="3730680"/>
                <a:ext cx="111240" cy="65160"/>
              </a:xfrm>
              <a:custGeom>
                <a:avLst/>
                <a:gdLst/>
                <a:ahLst/>
                <a:rect l="l" t="t" r="r" b="b"/>
                <a:pathLst>
                  <a:path w="351" h="207">
                    <a:moveTo>
                      <a:pt x="351" y="9"/>
                    </a:moveTo>
                    <a:lnTo>
                      <a:pt x="10" y="207"/>
                    </a:lnTo>
                    <a:lnTo>
                      <a:pt x="0" y="199"/>
                    </a:lnTo>
                    <a:lnTo>
                      <a:pt x="346" y="0"/>
                    </a:lnTo>
                    <a:lnTo>
                      <a:pt x="351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5070240" y="3728880"/>
                <a:ext cx="113040" cy="65160"/>
              </a:xfrm>
              <a:custGeom>
                <a:avLst/>
                <a:gdLst/>
                <a:ahLst/>
                <a:rect l="l" t="t" r="r" b="b"/>
                <a:pathLst>
                  <a:path w="353" h="208">
                    <a:moveTo>
                      <a:pt x="353" y="11"/>
                    </a:moveTo>
                    <a:lnTo>
                      <a:pt x="11" y="208"/>
                    </a:lnTo>
                    <a:lnTo>
                      <a:pt x="0" y="201"/>
                    </a:lnTo>
                    <a:lnTo>
                      <a:pt x="348" y="0"/>
                    </a:lnTo>
                    <a:lnTo>
                      <a:pt x="353" y="11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4308480" y="3524040"/>
              <a:ext cx="1109160" cy="632160"/>
              <a:chOff x="4308480" y="3524040"/>
              <a:chExt cx="1109160" cy="632160"/>
            </a:xfrm>
          </p:grpSpPr>
          <p:sp>
            <p:nvSpPr>
              <p:cNvPr id="3687" name=""/>
              <p:cNvSpPr/>
              <p:nvPr/>
            </p:nvSpPr>
            <p:spPr>
              <a:xfrm>
                <a:off x="5068800" y="372744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353" h="209">
                    <a:moveTo>
                      <a:pt x="0" y="201"/>
                    </a:moveTo>
                    <a:lnTo>
                      <a:pt x="349" y="0"/>
                    </a:lnTo>
                    <a:lnTo>
                      <a:pt x="353" y="8"/>
                    </a:lnTo>
                    <a:lnTo>
                      <a:pt x="0" y="201"/>
                    </a:lnTo>
                    <a:close/>
                    <a:moveTo>
                      <a:pt x="9" y="209"/>
                    </a:moveTo>
                    <a:lnTo>
                      <a:pt x="0" y="201"/>
                    </a:lnTo>
                    <a:lnTo>
                      <a:pt x="9" y="20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5067360" y="3725640"/>
                <a:ext cx="114120" cy="66960"/>
              </a:xfrm>
              <a:custGeom>
                <a:avLst/>
                <a:gdLst/>
                <a:ahLst/>
                <a:rect l="l" t="t" r="r" b="b"/>
                <a:pathLst>
                  <a:path w="357" h="210">
                    <a:moveTo>
                      <a:pt x="357" y="9"/>
                    </a:moveTo>
                    <a:lnTo>
                      <a:pt x="9" y="210"/>
                    </a:lnTo>
                    <a:lnTo>
                      <a:pt x="0" y="203"/>
                    </a:lnTo>
                    <a:lnTo>
                      <a:pt x="352" y="0"/>
                    </a:lnTo>
                    <a:lnTo>
                      <a:pt x="355" y="6"/>
                    </a:lnTo>
                    <a:lnTo>
                      <a:pt x="357" y="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5065560" y="372420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359" h="211">
                    <a:moveTo>
                      <a:pt x="359" y="10"/>
                    </a:moveTo>
                    <a:lnTo>
                      <a:pt x="10" y="211"/>
                    </a:lnTo>
                    <a:lnTo>
                      <a:pt x="0" y="203"/>
                    </a:lnTo>
                    <a:lnTo>
                      <a:pt x="353" y="0"/>
                    </a:lnTo>
                    <a:lnTo>
                      <a:pt x="359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5064120" y="3722760"/>
                <a:ext cx="115920" cy="66600"/>
              </a:xfrm>
              <a:custGeom>
                <a:avLst/>
                <a:gdLst/>
                <a:ahLst/>
                <a:rect l="l" t="t" r="r" b="b"/>
                <a:pathLst>
                  <a:path w="362" h="214">
                    <a:moveTo>
                      <a:pt x="362" y="11"/>
                    </a:moveTo>
                    <a:lnTo>
                      <a:pt x="10" y="214"/>
                    </a:lnTo>
                    <a:lnTo>
                      <a:pt x="0" y="206"/>
                    </a:lnTo>
                    <a:lnTo>
                      <a:pt x="355" y="0"/>
                    </a:lnTo>
                    <a:lnTo>
                      <a:pt x="362" y="1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5062320" y="3720960"/>
                <a:ext cx="115920" cy="66600"/>
              </a:xfrm>
              <a:custGeom>
                <a:avLst/>
                <a:gdLst/>
                <a:ahLst/>
                <a:rect l="l" t="t" r="r" b="b"/>
                <a:pathLst>
                  <a:path w="363" h="213">
                    <a:moveTo>
                      <a:pt x="363" y="10"/>
                    </a:moveTo>
                    <a:lnTo>
                      <a:pt x="10" y="213"/>
                    </a:lnTo>
                    <a:lnTo>
                      <a:pt x="0" y="206"/>
                    </a:lnTo>
                    <a:lnTo>
                      <a:pt x="357" y="0"/>
                    </a:lnTo>
                    <a:lnTo>
                      <a:pt x="363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5060880" y="3719520"/>
                <a:ext cx="115920" cy="68040"/>
              </a:xfrm>
              <a:custGeom>
                <a:avLst/>
                <a:gdLst/>
                <a:ahLst/>
                <a:rect l="l" t="t" r="r" b="b"/>
                <a:pathLst>
                  <a:path w="365" h="215">
                    <a:moveTo>
                      <a:pt x="365" y="9"/>
                    </a:moveTo>
                    <a:lnTo>
                      <a:pt x="10" y="215"/>
                    </a:lnTo>
                    <a:lnTo>
                      <a:pt x="0" y="208"/>
                    </a:lnTo>
                    <a:lnTo>
                      <a:pt x="360" y="0"/>
                    </a:lnTo>
                    <a:lnTo>
                      <a:pt x="365" y="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5059440" y="3717720"/>
                <a:ext cx="117360" cy="68400"/>
              </a:xfrm>
              <a:custGeom>
                <a:avLst/>
                <a:gdLst/>
                <a:ahLst/>
                <a:rect l="l" t="t" r="r" b="b"/>
                <a:pathLst>
                  <a:path w="366" h="216">
                    <a:moveTo>
                      <a:pt x="366" y="10"/>
                    </a:moveTo>
                    <a:lnTo>
                      <a:pt x="9" y="216"/>
                    </a:lnTo>
                    <a:lnTo>
                      <a:pt x="0" y="209"/>
                    </a:lnTo>
                    <a:lnTo>
                      <a:pt x="361" y="0"/>
                    </a:lnTo>
                    <a:lnTo>
                      <a:pt x="366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5057640" y="3716280"/>
                <a:ext cx="117360" cy="68400"/>
              </a:xfrm>
              <a:custGeom>
                <a:avLst/>
                <a:gdLst/>
                <a:ahLst/>
                <a:rect l="l" t="t" r="r" b="b"/>
                <a:pathLst>
                  <a:path w="370" h="217">
                    <a:moveTo>
                      <a:pt x="370" y="9"/>
                    </a:moveTo>
                    <a:lnTo>
                      <a:pt x="10" y="217"/>
                    </a:lnTo>
                    <a:lnTo>
                      <a:pt x="0" y="210"/>
                    </a:lnTo>
                    <a:lnTo>
                      <a:pt x="364" y="0"/>
                    </a:lnTo>
                    <a:lnTo>
                      <a:pt x="370" y="9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056200" y="3714840"/>
                <a:ext cx="118800" cy="69840"/>
              </a:xfrm>
              <a:custGeom>
                <a:avLst/>
                <a:gdLst/>
                <a:ahLst/>
                <a:rect l="l" t="t" r="r" b="b"/>
                <a:pathLst>
                  <a:path w="372" h="219">
                    <a:moveTo>
                      <a:pt x="372" y="10"/>
                    </a:moveTo>
                    <a:lnTo>
                      <a:pt x="11" y="219"/>
                    </a:lnTo>
                    <a:lnTo>
                      <a:pt x="0" y="211"/>
                    </a:lnTo>
                    <a:lnTo>
                      <a:pt x="367" y="0"/>
                    </a:lnTo>
                    <a:lnTo>
                      <a:pt x="372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5054400" y="3713040"/>
                <a:ext cx="119160" cy="69840"/>
              </a:xfrm>
              <a:custGeom>
                <a:avLst/>
                <a:gdLst/>
                <a:ahLst/>
                <a:rect l="l" t="t" r="r" b="b"/>
                <a:pathLst>
                  <a:path w="373" h="221">
                    <a:moveTo>
                      <a:pt x="373" y="11"/>
                    </a:moveTo>
                    <a:lnTo>
                      <a:pt x="9" y="221"/>
                    </a:lnTo>
                    <a:lnTo>
                      <a:pt x="0" y="213"/>
                    </a:lnTo>
                    <a:lnTo>
                      <a:pt x="367" y="0"/>
                    </a:lnTo>
                    <a:lnTo>
                      <a:pt x="373" y="11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5052960" y="3711600"/>
                <a:ext cx="120600" cy="69840"/>
              </a:xfrm>
              <a:custGeom>
                <a:avLst/>
                <a:gdLst/>
                <a:ahLst/>
                <a:rect l="l" t="t" r="r" b="b"/>
                <a:pathLst>
                  <a:path w="376" h="220">
                    <a:moveTo>
                      <a:pt x="376" y="9"/>
                    </a:moveTo>
                    <a:lnTo>
                      <a:pt x="9" y="220"/>
                    </a:lnTo>
                    <a:lnTo>
                      <a:pt x="0" y="213"/>
                    </a:lnTo>
                    <a:lnTo>
                      <a:pt x="369" y="0"/>
                    </a:lnTo>
                    <a:lnTo>
                      <a:pt x="376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051520" y="3709800"/>
                <a:ext cx="120600" cy="69840"/>
              </a:xfrm>
              <a:custGeom>
                <a:avLst/>
                <a:gdLst/>
                <a:ahLst/>
                <a:rect l="l" t="t" r="r" b="b"/>
                <a:pathLst>
                  <a:path w="378" h="222">
                    <a:moveTo>
                      <a:pt x="378" y="9"/>
                    </a:moveTo>
                    <a:lnTo>
                      <a:pt x="11" y="222"/>
                    </a:lnTo>
                    <a:lnTo>
                      <a:pt x="0" y="215"/>
                    </a:lnTo>
                    <a:lnTo>
                      <a:pt x="373" y="0"/>
                    </a:lnTo>
                    <a:lnTo>
                      <a:pt x="378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5049720" y="3708360"/>
                <a:ext cx="120600" cy="71280"/>
              </a:xfrm>
              <a:custGeom>
                <a:avLst/>
                <a:gdLst/>
                <a:ahLst/>
                <a:rect l="l" t="t" r="r" b="b"/>
                <a:pathLst>
                  <a:path w="379" h="224">
                    <a:moveTo>
                      <a:pt x="379" y="11"/>
                    </a:moveTo>
                    <a:lnTo>
                      <a:pt x="10" y="224"/>
                    </a:lnTo>
                    <a:lnTo>
                      <a:pt x="0" y="217"/>
                    </a:lnTo>
                    <a:lnTo>
                      <a:pt x="374" y="0"/>
                    </a:lnTo>
                    <a:lnTo>
                      <a:pt x="379" y="11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5048280" y="3706920"/>
                <a:ext cx="122040" cy="71280"/>
              </a:xfrm>
              <a:custGeom>
                <a:avLst/>
                <a:gdLst/>
                <a:ahLst/>
                <a:rect l="l" t="t" r="r" b="b"/>
                <a:pathLst>
                  <a:path w="382" h="225">
                    <a:moveTo>
                      <a:pt x="382" y="10"/>
                    </a:moveTo>
                    <a:lnTo>
                      <a:pt x="9" y="225"/>
                    </a:lnTo>
                    <a:lnTo>
                      <a:pt x="0" y="218"/>
                    </a:lnTo>
                    <a:lnTo>
                      <a:pt x="376" y="0"/>
                    </a:lnTo>
                    <a:lnTo>
                      <a:pt x="382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5048280" y="3705120"/>
                <a:ext cx="120600" cy="71640"/>
              </a:xfrm>
              <a:custGeom>
                <a:avLst/>
                <a:gdLst/>
                <a:ahLst/>
                <a:rect l="l" t="t" r="r" b="b"/>
                <a:pathLst>
                  <a:path w="383" h="226">
                    <a:moveTo>
                      <a:pt x="383" y="9"/>
                    </a:moveTo>
                    <a:lnTo>
                      <a:pt x="9" y="226"/>
                    </a:lnTo>
                    <a:lnTo>
                      <a:pt x="0" y="218"/>
                    </a:lnTo>
                    <a:lnTo>
                      <a:pt x="0" y="218"/>
                    </a:lnTo>
                    <a:lnTo>
                      <a:pt x="0" y="218"/>
                    </a:lnTo>
                    <a:lnTo>
                      <a:pt x="377" y="0"/>
                    </a:lnTo>
                    <a:lnTo>
                      <a:pt x="383" y="9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5046480" y="3703680"/>
                <a:ext cx="122400" cy="73080"/>
              </a:xfrm>
              <a:custGeom>
                <a:avLst/>
                <a:gdLst/>
                <a:ahLst/>
                <a:rect l="l" t="t" r="r" b="b"/>
                <a:pathLst>
                  <a:path w="381" h="228">
                    <a:moveTo>
                      <a:pt x="381" y="10"/>
                    </a:moveTo>
                    <a:lnTo>
                      <a:pt x="5" y="228"/>
                    </a:lnTo>
                    <a:lnTo>
                      <a:pt x="1" y="223"/>
                    </a:lnTo>
                    <a:lnTo>
                      <a:pt x="0" y="217"/>
                    </a:lnTo>
                    <a:lnTo>
                      <a:pt x="376" y="0"/>
                    </a:lnTo>
                    <a:lnTo>
                      <a:pt x="381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5046480" y="3701880"/>
                <a:ext cx="120600" cy="73080"/>
              </a:xfrm>
              <a:custGeom>
                <a:avLst/>
                <a:gdLst/>
                <a:ahLst/>
                <a:rect l="l" t="t" r="r" b="b"/>
                <a:pathLst>
                  <a:path w="379" h="228">
                    <a:moveTo>
                      <a:pt x="379" y="10"/>
                    </a:moveTo>
                    <a:lnTo>
                      <a:pt x="2" y="228"/>
                    </a:lnTo>
                    <a:lnTo>
                      <a:pt x="0" y="216"/>
                    </a:lnTo>
                    <a:lnTo>
                      <a:pt x="373" y="0"/>
                    </a:lnTo>
                    <a:lnTo>
                      <a:pt x="379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5046480" y="3700440"/>
                <a:ext cx="120600" cy="71280"/>
              </a:xfrm>
              <a:custGeom>
                <a:avLst/>
                <a:gdLst/>
                <a:ahLst/>
                <a:rect l="l" t="t" r="r" b="b"/>
                <a:pathLst>
                  <a:path w="378" h="227">
                    <a:moveTo>
                      <a:pt x="378" y="10"/>
                    </a:moveTo>
                    <a:lnTo>
                      <a:pt x="2" y="227"/>
                    </a:lnTo>
                    <a:lnTo>
                      <a:pt x="0" y="215"/>
                    </a:lnTo>
                    <a:lnTo>
                      <a:pt x="371" y="0"/>
                    </a:lnTo>
                    <a:lnTo>
                      <a:pt x="378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5046480" y="3699000"/>
                <a:ext cx="119160" cy="71280"/>
              </a:xfrm>
              <a:custGeom>
                <a:avLst/>
                <a:gdLst/>
                <a:ahLst/>
                <a:rect l="l" t="t" r="r" b="b"/>
                <a:pathLst>
                  <a:path w="375" h="226">
                    <a:moveTo>
                      <a:pt x="375" y="10"/>
                    </a:moveTo>
                    <a:lnTo>
                      <a:pt x="2" y="226"/>
                    </a:lnTo>
                    <a:lnTo>
                      <a:pt x="0" y="214"/>
                    </a:lnTo>
                    <a:lnTo>
                      <a:pt x="370" y="0"/>
                    </a:lnTo>
                    <a:lnTo>
                      <a:pt x="375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5046480" y="3697200"/>
                <a:ext cx="117720" cy="71640"/>
              </a:xfrm>
              <a:custGeom>
                <a:avLst/>
                <a:gdLst/>
                <a:ahLst/>
                <a:rect l="l" t="t" r="r" b="b"/>
                <a:pathLst>
                  <a:path w="372" h="224">
                    <a:moveTo>
                      <a:pt x="372" y="9"/>
                    </a:moveTo>
                    <a:lnTo>
                      <a:pt x="1" y="224"/>
                    </a:lnTo>
                    <a:lnTo>
                      <a:pt x="0" y="212"/>
                    </a:lnTo>
                    <a:lnTo>
                      <a:pt x="367" y="0"/>
                    </a:lnTo>
                    <a:lnTo>
                      <a:pt x="372" y="9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5045040" y="3695760"/>
                <a:ext cx="119160" cy="71280"/>
              </a:xfrm>
              <a:custGeom>
                <a:avLst/>
                <a:gdLst/>
                <a:ahLst/>
                <a:rect l="l" t="t" r="r" b="b"/>
                <a:pathLst>
                  <a:path w="372" h="223">
                    <a:moveTo>
                      <a:pt x="372" y="9"/>
                    </a:moveTo>
                    <a:lnTo>
                      <a:pt x="2" y="223"/>
                    </a:lnTo>
                    <a:lnTo>
                      <a:pt x="0" y="211"/>
                    </a:lnTo>
                    <a:lnTo>
                      <a:pt x="366" y="0"/>
                    </a:lnTo>
                    <a:lnTo>
                      <a:pt x="372" y="9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5045040" y="3693960"/>
                <a:ext cx="117360" cy="71640"/>
              </a:xfrm>
              <a:custGeom>
                <a:avLst/>
                <a:gdLst/>
                <a:ahLst/>
                <a:rect l="l" t="t" r="r" b="b"/>
                <a:pathLst>
                  <a:path w="370" h="223">
                    <a:moveTo>
                      <a:pt x="370" y="11"/>
                    </a:moveTo>
                    <a:lnTo>
                      <a:pt x="3" y="223"/>
                    </a:lnTo>
                    <a:lnTo>
                      <a:pt x="0" y="210"/>
                    </a:lnTo>
                    <a:lnTo>
                      <a:pt x="365" y="0"/>
                    </a:lnTo>
                    <a:lnTo>
                      <a:pt x="370" y="11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5045040" y="3692520"/>
                <a:ext cx="117360" cy="69840"/>
              </a:xfrm>
              <a:custGeom>
                <a:avLst/>
                <a:gdLst/>
                <a:ahLst/>
                <a:rect l="l" t="t" r="r" b="b"/>
                <a:pathLst>
                  <a:path w="368" h="221">
                    <a:moveTo>
                      <a:pt x="368" y="10"/>
                    </a:moveTo>
                    <a:lnTo>
                      <a:pt x="2" y="221"/>
                    </a:lnTo>
                    <a:lnTo>
                      <a:pt x="0" y="209"/>
                    </a:lnTo>
                    <a:lnTo>
                      <a:pt x="363" y="0"/>
                    </a:lnTo>
                    <a:lnTo>
                      <a:pt x="368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5045040" y="3690720"/>
                <a:ext cx="115920" cy="69840"/>
              </a:xfrm>
              <a:custGeom>
                <a:avLst/>
                <a:gdLst/>
                <a:ahLst/>
                <a:rect l="l" t="t" r="r" b="b"/>
                <a:pathLst>
                  <a:path w="366" h="219">
                    <a:moveTo>
                      <a:pt x="366" y="9"/>
                    </a:moveTo>
                    <a:lnTo>
                      <a:pt x="1" y="219"/>
                    </a:lnTo>
                    <a:lnTo>
                      <a:pt x="0" y="208"/>
                    </a:lnTo>
                    <a:lnTo>
                      <a:pt x="360" y="0"/>
                    </a:lnTo>
                    <a:lnTo>
                      <a:pt x="366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5045040" y="3689280"/>
                <a:ext cx="115920" cy="69840"/>
              </a:xfrm>
              <a:custGeom>
                <a:avLst/>
                <a:gdLst/>
                <a:ahLst/>
                <a:rect l="l" t="t" r="r" b="b"/>
                <a:pathLst>
                  <a:path w="364" h="219">
                    <a:moveTo>
                      <a:pt x="364" y="10"/>
                    </a:moveTo>
                    <a:lnTo>
                      <a:pt x="1" y="219"/>
                    </a:lnTo>
                    <a:lnTo>
                      <a:pt x="0" y="206"/>
                    </a:lnTo>
                    <a:lnTo>
                      <a:pt x="357" y="0"/>
                    </a:lnTo>
                    <a:lnTo>
                      <a:pt x="364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5045040" y="3687840"/>
                <a:ext cx="114120" cy="69840"/>
              </a:xfrm>
              <a:custGeom>
                <a:avLst/>
                <a:gdLst/>
                <a:ahLst/>
                <a:rect l="l" t="t" r="r" b="b"/>
                <a:pathLst>
                  <a:path w="362" h="218">
                    <a:moveTo>
                      <a:pt x="362" y="10"/>
                    </a:moveTo>
                    <a:lnTo>
                      <a:pt x="2" y="218"/>
                    </a:lnTo>
                    <a:lnTo>
                      <a:pt x="0" y="205"/>
                    </a:lnTo>
                    <a:lnTo>
                      <a:pt x="356" y="0"/>
                    </a:lnTo>
                    <a:lnTo>
                      <a:pt x="362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5043240" y="3686040"/>
                <a:ext cx="114480" cy="68400"/>
              </a:xfrm>
              <a:custGeom>
                <a:avLst/>
                <a:gdLst/>
                <a:ahLst/>
                <a:rect l="l" t="t" r="r" b="b"/>
                <a:pathLst>
                  <a:path w="359" h="216">
                    <a:moveTo>
                      <a:pt x="359" y="10"/>
                    </a:moveTo>
                    <a:lnTo>
                      <a:pt x="2" y="216"/>
                    </a:lnTo>
                    <a:lnTo>
                      <a:pt x="0" y="204"/>
                    </a:lnTo>
                    <a:lnTo>
                      <a:pt x="354" y="0"/>
                    </a:lnTo>
                    <a:lnTo>
                      <a:pt x="359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5043240" y="3684600"/>
                <a:ext cx="114480" cy="68040"/>
              </a:xfrm>
              <a:custGeom>
                <a:avLst/>
                <a:gdLst/>
                <a:ahLst/>
                <a:rect l="l" t="t" r="r" b="b"/>
                <a:pathLst>
                  <a:path w="357" h="215">
                    <a:moveTo>
                      <a:pt x="357" y="10"/>
                    </a:moveTo>
                    <a:lnTo>
                      <a:pt x="1" y="215"/>
                    </a:lnTo>
                    <a:lnTo>
                      <a:pt x="0" y="204"/>
                    </a:lnTo>
                    <a:lnTo>
                      <a:pt x="351" y="0"/>
                    </a:lnTo>
                    <a:lnTo>
                      <a:pt x="357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5043240" y="3682800"/>
                <a:ext cx="113040" cy="68400"/>
              </a:xfrm>
              <a:custGeom>
                <a:avLst/>
                <a:gdLst/>
                <a:ahLst/>
                <a:rect l="l" t="t" r="r" b="b"/>
                <a:pathLst>
                  <a:path w="355" h="213">
                    <a:moveTo>
                      <a:pt x="355" y="9"/>
                    </a:moveTo>
                    <a:lnTo>
                      <a:pt x="1" y="213"/>
                    </a:lnTo>
                    <a:lnTo>
                      <a:pt x="0" y="201"/>
                    </a:lnTo>
                    <a:lnTo>
                      <a:pt x="350" y="0"/>
                    </a:lnTo>
                    <a:lnTo>
                      <a:pt x="355" y="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5043240" y="3681360"/>
                <a:ext cx="113040" cy="68400"/>
              </a:xfrm>
              <a:custGeom>
                <a:avLst/>
                <a:gdLst/>
                <a:ahLst/>
                <a:rect l="l" t="t" r="r" b="b"/>
                <a:pathLst>
                  <a:path w="353" h="214">
                    <a:moveTo>
                      <a:pt x="353" y="10"/>
                    </a:moveTo>
                    <a:lnTo>
                      <a:pt x="2" y="214"/>
                    </a:lnTo>
                    <a:lnTo>
                      <a:pt x="0" y="201"/>
                    </a:lnTo>
                    <a:lnTo>
                      <a:pt x="348" y="0"/>
                    </a:lnTo>
                    <a:lnTo>
                      <a:pt x="353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5043240" y="3679920"/>
                <a:ext cx="111240" cy="68040"/>
              </a:xfrm>
              <a:custGeom>
                <a:avLst/>
                <a:gdLst/>
                <a:ahLst/>
                <a:rect l="l" t="t" r="r" b="b"/>
                <a:pathLst>
                  <a:path w="352" h="212">
                    <a:moveTo>
                      <a:pt x="352" y="11"/>
                    </a:moveTo>
                    <a:lnTo>
                      <a:pt x="2" y="212"/>
                    </a:lnTo>
                    <a:lnTo>
                      <a:pt x="0" y="200"/>
                    </a:lnTo>
                    <a:lnTo>
                      <a:pt x="346" y="0"/>
                    </a:lnTo>
                    <a:lnTo>
                      <a:pt x="352" y="1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5043240" y="3678120"/>
                <a:ext cx="111240" cy="66600"/>
              </a:xfrm>
              <a:custGeom>
                <a:avLst/>
                <a:gdLst/>
                <a:ahLst/>
                <a:rect l="l" t="t" r="r" b="b"/>
                <a:pathLst>
                  <a:path w="349" h="210">
                    <a:moveTo>
                      <a:pt x="349" y="9"/>
                    </a:moveTo>
                    <a:lnTo>
                      <a:pt x="1" y="210"/>
                    </a:lnTo>
                    <a:lnTo>
                      <a:pt x="0" y="197"/>
                    </a:lnTo>
                    <a:lnTo>
                      <a:pt x="343" y="0"/>
                    </a:lnTo>
                    <a:lnTo>
                      <a:pt x="349" y="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5043240" y="3676680"/>
                <a:ext cx="109800" cy="66600"/>
              </a:xfrm>
              <a:custGeom>
                <a:avLst/>
                <a:gdLst/>
                <a:ahLst/>
                <a:rect l="l" t="t" r="r" b="b"/>
                <a:pathLst>
                  <a:path w="347" h="209">
                    <a:moveTo>
                      <a:pt x="347" y="9"/>
                    </a:moveTo>
                    <a:lnTo>
                      <a:pt x="1" y="209"/>
                    </a:lnTo>
                    <a:lnTo>
                      <a:pt x="0" y="197"/>
                    </a:lnTo>
                    <a:lnTo>
                      <a:pt x="341" y="0"/>
                    </a:lnTo>
                    <a:lnTo>
                      <a:pt x="347" y="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5041800" y="3674880"/>
                <a:ext cx="109440" cy="66960"/>
              </a:xfrm>
              <a:custGeom>
                <a:avLst/>
                <a:gdLst/>
                <a:ahLst/>
                <a:rect l="l" t="t" r="r" b="b"/>
                <a:pathLst>
                  <a:path w="345" h="208">
                    <a:moveTo>
                      <a:pt x="345" y="11"/>
                    </a:moveTo>
                    <a:lnTo>
                      <a:pt x="2" y="208"/>
                    </a:lnTo>
                    <a:lnTo>
                      <a:pt x="0" y="197"/>
                    </a:lnTo>
                    <a:lnTo>
                      <a:pt x="339" y="0"/>
                    </a:lnTo>
                    <a:lnTo>
                      <a:pt x="345" y="1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5041800" y="3673440"/>
                <a:ext cx="109440" cy="66600"/>
              </a:xfrm>
              <a:custGeom>
                <a:avLst/>
                <a:gdLst/>
                <a:ahLst/>
                <a:rect l="l" t="t" r="r" b="b"/>
                <a:pathLst>
                  <a:path w="343" h="207">
                    <a:moveTo>
                      <a:pt x="343" y="10"/>
                    </a:moveTo>
                    <a:lnTo>
                      <a:pt x="2" y="207"/>
                    </a:lnTo>
                    <a:lnTo>
                      <a:pt x="0" y="195"/>
                    </a:lnTo>
                    <a:lnTo>
                      <a:pt x="337" y="0"/>
                    </a:lnTo>
                    <a:lnTo>
                      <a:pt x="343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5041800" y="3672000"/>
                <a:ext cx="108000" cy="66600"/>
              </a:xfrm>
              <a:custGeom>
                <a:avLst/>
                <a:gdLst/>
                <a:ahLst/>
                <a:rect l="l" t="t" r="r" b="b"/>
                <a:pathLst>
                  <a:path w="340" h="206">
                    <a:moveTo>
                      <a:pt x="340" y="9"/>
                    </a:moveTo>
                    <a:lnTo>
                      <a:pt x="1" y="206"/>
                    </a:lnTo>
                    <a:lnTo>
                      <a:pt x="0" y="193"/>
                    </a:lnTo>
                    <a:lnTo>
                      <a:pt x="335" y="0"/>
                    </a:lnTo>
                    <a:lnTo>
                      <a:pt x="340" y="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5041800" y="3670200"/>
                <a:ext cx="108000" cy="65160"/>
              </a:xfrm>
              <a:custGeom>
                <a:avLst/>
                <a:gdLst/>
                <a:ahLst/>
                <a:rect l="l" t="t" r="r" b="b"/>
                <a:pathLst>
                  <a:path w="338" h="205">
                    <a:moveTo>
                      <a:pt x="338" y="10"/>
                    </a:moveTo>
                    <a:lnTo>
                      <a:pt x="1" y="205"/>
                    </a:lnTo>
                    <a:lnTo>
                      <a:pt x="0" y="192"/>
                    </a:lnTo>
                    <a:lnTo>
                      <a:pt x="333" y="0"/>
                    </a:lnTo>
                    <a:lnTo>
                      <a:pt x="338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5041800" y="3670200"/>
                <a:ext cx="106200" cy="63720"/>
              </a:xfrm>
              <a:custGeom>
                <a:avLst/>
                <a:gdLst/>
                <a:ahLst/>
                <a:rect l="l" t="t" r="r" b="b"/>
                <a:pathLst>
                  <a:path w="337" h="202">
                    <a:moveTo>
                      <a:pt x="337" y="9"/>
                    </a:moveTo>
                    <a:lnTo>
                      <a:pt x="2" y="202"/>
                    </a:lnTo>
                    <a:lnTo>
                      <a:pt x="0" y="191"/>
                    </a:lnTo>
                    <a:lnTo>
                      <a:pt x="331" y="0"/>
                    </a:lnTo>
                    <a:lnTo>
                      <a:pt x="337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5041800" y="3666960"/>
                <a:ext cx="106200" cy="65160"/>
              </a:xfrm>
              <a:custGeom>
                <a:avLst/>
                <a:gdLst/>
                <a:ahLst/>
                <a:rect l="l" t="t" r="r" b="b"/>
                <a:pathLst>
                  <a:path w="335" h="202">
                    <a:moveTo>
                      <a:pt x="335" y="10"/>
                    </a:moveTo>
                    <a:lnTo>
                      <a:pt x="2" y="202"/>
                    </a:lnTo>
                    <a:lnTo>
                      <a:pt x="0" y="190"/>
                    </a:lnTo>
                    <a:lnTo>
                      <a:pt x="330" y="0"/>
                    </a:lnTo>
                    <a:lnTo>
                      <a:pt x="335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5041800" y="3665520"/>
                <a:ext cx="104760" cy="65160"/>
              </a:xfrm>
              <a:custGeom>
                <a:avLst/>
                <a:gdLst/>
                <a:ahLst/>
                <a:rect l="l" t="t" r="r" b="b"/>
                <a:pathLst>
                  <a:path w="332" h="202">
                    <a:moveTo>
                      <a:pt x="332" y="11"/>
                    </a:moveTo>
                    <a:lnTo>
                      <a:pt x="1" y="202"/>
                    </a:lnTo>
                    <a:lnTo>
                      <a:pt x="0" y="189"/>
                    </a:lnTo>
                    <a:lnTo>
                      <a:pt x="326" y="0"/>
                    </a:lnTo>
                    <a:lnTo>
                      <a:pt x="332" y="1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5040360" y="3665520"/>
                <a:ext cx="106200" cy="61920"/>
              </a:xfrm>
              <a:custGeom>
                <a:avLst/>
                <a:gdLst/>
                <a:ahLst/>
                <a:rect l="l" t="t" r="r" b="b"/>
                <a:pathLst>
                  <a:path w="331" h="199">
                    <a:moveTo>
                      <a:pt x="331" y="9"/>
                    </a:moveTo>
                    <a:lnTo>
                      <a:pt x="1" y="199"/>
                    </a:lnTo>
                    <a:lnTo>
                      <a:pt x="0" y="187"/>
                    </a:lnTo>
                    <a:lnTo>
                      <a:pt x="324" y="0"/>
                    </a:lnTo>
                    <a:lnTo>
                      <a:pt x="331" y="9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5040360" y="3664080"/>
                <a:ext cx="104760" cy="61560"/>
              </a:xfrm>
              <a:custGeom>
                <a:avLst/>
                <a:gdLst/>
                <a:ahLst/>
                <a:rect l="l" t="t" r="r" b="b"/>
                <a:pathLst>
                  <a:path w="328" h="198">
                    <a:moveTo>
                      <a:pt x="328" y="9"/>
                    </a:moveTo>
                    <a:lnTo>
                      <a:pt x="2" y="198"/>
                    </a:lnTo>
                    <a:lnTo>
                      <a:pt x="0" y="185"/>
                    </a:lnTo>
                    <a:lnTo>
                      <a:pt x="323" y="0"/>
                    </a:lnTo>
                    <a:lnTo>
                      <a:pt x="328" y="9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5040360" y="3660840"/>
                <a:ext cx="102960" cy="63360"/>
              </a:xfrm>
              <a:custGeom>
                <a:avLst/>
                <a:gdLst/>
                <a:ahLst/>
                <a:rect l="l" t="t" r="r" b="b"/>
                <a:pathLst>
                  <a:path w="326" h="198">
                    <a:moveTo>
                      <a:pt x="326" y="11"/>
                    </a:moveTo>
                    <a:lnTo>
                      <a:pt x="2" y="198"/>
                    </a:lnTo>
                    <a:lnTo>
                      <a:pt x="0" y="186"/>
                    </a:lnTo>
                    <a:lnTo>
                      <a:pt x="321" y="0"/>
                    </a:lnTo>
                    <a:lnTo>
                      <a:pt x="326" y="11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5040360" y="3660840"/>
                <a:ext cx="102960" cy="61920"/>
              </a:xfrm>
              <a:custGeom>
                <a:avLst/>
                <a:gdLst/>
                <a:ahLst/>
                <a:rect l="l" t="t" r="r" b="b"/>
                <a:pathLst>
                  <a:path w="324" h="195">
                    <a:moveTo>
                      <a:pt x="324" y="10"/>
                    </a:moveTo>
                    <a:lnTo>
                      <a:pt x="1" y="195"/>
                    </a:lnTo>
                    <a:lnTo>
                      <a:pt x="0" y="184"/>
                    </a:lnTo>
                    <a:lnTo>
                      <a:pt x="318" y="0"/>
                    </a:lnTo>
                    <a:lnTo>
                      <a:pt x="324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5040360" y="3659040"/>
                <a:ext cx="101520" cy="61920"/>
              </a:xfrm>
              <a:custGeom>
                <a:avLst/>
                <a:gdLst/>
                <a:ahLst/>
                <a:rect l="l" t="t" r="r" b="b"/>
                <a:pathLst>
                  <a:path w="322" h="195">
                    <a:moveTo>
                      <a:pt x="322" y="9"/>
                    </a:moveTo>
                    <a:lnTo>
                      <a:pt x="1" y="195"/>
                    </a:lnTo>
                    <a:lnTo>
                      <a:pt x="0" y="183"/>
                    </a:lnTo>
                    <a:lnTo>
                      <a:pt x="317" y="0"/>
                    </a:lnTo>
                    <a:lnTo>
                      <a:pt x="322" y="9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5040360" y="3657600"/>
                <a:ext cx="101520" cy="60120"/>
              </a:xfrm>
              <a:custGeom>
                <a:avLst/>
                <a:gdLst/>
                <a:ahLst/>
                <a:rect l="l" t="t" r="r" b="b"/>
                <a:pathLst>
                  <a:path w="320" h="194">
                    <a:moveTo>
                      <a:pt x="320" y="10"/>
                    </a:moveTo>
                    <a:lnTo>
                      <a:pt x="2" y="194"/>
                    </a:lnTo>
                    <a:lnTo>
                      <a:pt x="0" y="181"/>
                    </a:lnTo>
                    <a:lnTo>
                      <a:pt x="315" y="0"/>
                    </a:lnTo>
                    <a:lnTo>
                      <a:pt x="320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038560" y="365580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20" h="193">
                    <a:moveTo>
                      <a:pt x="320" y="10"/>
                    </a:moveTo>
                    <a:lnTo>
                      <a:pt x="3" y="193"/>
                    </a:lnTo>
                    <a:lnTo>
                      <a:pt x="0" y="180"/>
                    </a:lnTo>
                    <a:lnTo>
                      <a:pt x="313" y="0"/>
                    </a:lnTo>
                    <a:lnTo>
                      <a:pt x="320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038560" y="365436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17" h="191">
                    <a:moveTo>
                      <a:pt x="317" y="10"/>
                    </a:moveTo>
                    <a:lnTo>
                      <a:pt x="2" y="191"/>
                    </a:lnTo>
                    <a:lnTo>
                      <a:pt x="0" y="180"/>
                    </a:lnTo>
                    <a:lnTo>
                      <a:pt x="310" y="0"/>
                    </a:lnTo>
                    <a:lnTo>
                      <a:pt x="317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038560" y="3652920"/>
                <a:ext cx="100080" cy="60120"/>
              </a:xfrm>
              <a:custGeom>
                <a:avLst/>
                <a:gdLst/>
                <a:ahLst/>
                <a:rect l="l" t="t" r="r" b="b"/>
                <a:pathLst>
                  <a:path w="314" h="190">
                    <a:moveTo>
                      <a:pt x="314" y="10"/>
                    </a:moveTo>
                    <a:lnTo>
                      <a:pt x="1" y="190"/>
                    </a:lnTo>
                    <a:lnTo>
                      <a:pt x="0" y="178"/>
                    </a:lnTo>
                    <a:lnTo>
                      <a:pt x="309" y="0"/>
                    </a:lnTo>
                    <a:lnTo>
                      <a:pt x="314" y="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5038560" y="3651120"/>
                <a:ext cx="98640" cy="60480"/>
              </a:xfrm>
              <a:custGeom>
                <a:avLst/>
                <a:gdLst/>
                <a:ahLst/>
                <a:rect l="l" t="t" r="r" b="b"/>
                <a:pathLst>
                  <a:path w="312" h="189">
                    <a:moveTo>
                      <a:pt x="312" y="9"/>
                    </a:moveTo>
                    <a:lnTo>
                      <a:pt x="2" y="189"/>
                    </a:lnTo>
                    <a:lnTo>
                      <a:pt x="0" y="176"/>
                    </a:lnTo>
                    <a:lnTo>
                      <a:pt x="307" y="0"/>
                    </a:lnTo>
                    <a:lnTo>
                      <a:pt x="312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5038560" y="3649680"/>
                <a:ext cx="98640" cy="58680"/>
              </a:xfrm>
              <a:custGeom>
                <a:avLst/>
                <a:gdLst/>
                <a:ahLst/>
                <a:rect l="l" t="t" r="r" b="b"/>
                <a:pathLst>
                  <a:path w="311" h="187">
                    <a:moveTo>
                      <a:pt x="311" y="9"/>
                    </a:moveTo>
                    <a:lnTo>
                      <a:pt x="2" y="187"/>
                    </a:lnTo>
                    <a:lnTo>
                      <a:pt x="0" y="175"/>
                    </a:lnTo>
                    <a:lnTo>
                      <a:pt x="305" y="0"/>
                    </a:lnTo>
                    <a:lnTo>
                      <a:pt x="311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5038560" y="3647880"/>
                <a:ext cx="96840" cy="59040"/>
              </a:xfrm>
              <a:custGeom>
                <a:avLst/>
                <a:gdLst/>
                <a:ahLst/>
                <a:rect l="l" t="t" r="r" b="b"/>
                <a:pathLst>
                  <a:path w="308" h="187">
                    <a:moveTo>
                      <a:pt x="308" y="11"/>
                    </a:moveTo>
                    <a:lnTo>
                      <a:pt x="1" y="187"/>
                    </a:lnTo>
                    <a:lnTo>
                      <a:pt x="0" y="175"/>
                    </a:lnTo>
                    <a:lnTo>
                      <a:pt x="303" y="0"/>
                    </a:lnTo>
                    <a:lnTo>
                      <a:pt x="308" y="11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037120" y="3646440"/>
                <a:ext cx="98280" cy="58680"/>
              </a:xfrm>
              <a:custGeom>
                <a:avLst/>
                <a:gdLst/>
                <a:ahLst/>
                <a:rect l="l" t="t" r="r" b="b"/>
                <a:pathLst>
                  <a:path w="306" h="185">
                    <a:moveTo>
                      <a:pt x="306" y="10"/>
                    </a:moveTo>
                    <a:lnTo>
                      <a:pt x="1" y="185"/>
                    </a:lnTo>
                    <a:lnTo>
                      <a:pt x="0" y="173"/>
                    </a:lnTo>
                    <a:lnTo>
                      <a:pt x="301" y="0"/>
                    </a:lnTo>
                    <a:lnTo>
                      <a:pt x="306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5037120" y="3645000"/>
                <a:ext cx="96840" cy="58680"/>
              </a:xfrm>
              <a:custGeom>
                <a:avLst/>
                <a:gdLst/>
                <a:ahLst/>
                <a:rect l="l" t="t" r="r" b="b"/>
                <a:pathLst>
                  <a:path w="305" h="184">
                    <a:moveTo>
                      <a:pt x="305" y="9"/>
                    </a:moveTo>
                    <a:lnTo>
                      <a:pt x="2" y="184"/>
                    </a:lnTo>
                    <a:lnTo>
                      <a:pt x="0" y="172"/>
                    </a:lnTo>
                    <a:lnTo>
                      <a:pt x="298" y="0"/>
                    </a:lnTo>
                    <a:lnTo>
                      <a:pt x="305" y="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5037120" y="3643200"/>
                <a:ext cx="96840" cy="57240"/>
              </a:xfrm>
              <a:custGeom>
                <a:avLst/>
                <a:gdLst/>
                <a:ahLst/>
                <a:rect l="l" t="t" r="r" b="b"/>
                <a:pathLst>
                  <a:path w="303" h="183">
                    <a:moveTo>
                      <a:pt x="303" y="10"/>
                    </a:moveTo>
                    <a:lnTo>
                      <a:pt x="2" y="183"/>
                    </a:lnTo>
                    <a:lnTo>
                      <a:pt x="0" y="171"/>
                    </a:lnTo>
                    <a:lnTo>
                      <a:pt x="297" y="0"/>
                    </a:lnTo>
                    <a:lnTo>
                      <a:pt x="303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5037120" y="364176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299" h="183">
                    <a:moveTo>
                      <a:pt x="299" y="11"/>
                    </a:moveTo>
                    <a:lnTo>
                      <a:pt x="1" y="183"/>
                    </a:lnTo>
                    <a:lnTo>
                      <a:pt x="0" y="170"/>
                    </a:lnTo>
                    <a:lnTo>
                      <a:pt x="294" y="0"/>
                    </a:lnTo>
                    <a:lnTo>
                      <a:pt x="299" y="1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037120" y="3639960"/>
                <a:ext cx="93600" cy="57240"/>
              </a:xfrm>
              <a:custGeom>
                <a:avLst/>
                <a:gdLst/>
                <a:ahLst/>
                <a:rect l="l" t="t" r="r" b="b"/>
                <a:pathLst>
                  <a:path w="298" h="181">
                    <a:moveTo>
                      <a:pt x="298" y="10"/>
                    </a:moveTo>
                    <a:lnTo>
                      <a:pt x="1" y="181"/>
                    </a:lnTo>
                    <a:lnTo>
                      <a:pt x="0" y="168"/>
                    </a:lnTo>
                    <a:lnTo>
                      <a:pt x="292" y="0"/>
                    </a:lnTo>
                    <a:lnTo>
                      <a:pt x="298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037120" y="3638520"/>
                <a:ext cx="93600" cy="57240"/>
              </a:xfrm>
              <a:custGeom>
                <a:avLst/>
                <a:gdLst/>
                <a:ahLst/>
                <a:rect l="l" t="t" r="r" b="b"/>
                <a:pathLst>
                  <a:path w="296" h="179">
                    <a:moveTo>
                      <a:pt x="296" y="9"/>
                    </a:moveTo>
                    <a:lnTo>
                      <a:pt x="2" y="179"/>
                    </a:lnTo>
                    <a:lnTo>
                      <a:pt x="0" y="168"/>
                    </a:lnTo>
                    <a:lnTo>
                      <a:pt x="290" y="0"/>
                    </a:lnTo>
                    <a:lnTo>
                      <a:pt x="296" y="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035320" y="3637080"/>
                <a:ext cx="93960" cy="55440"/>
              </a:xfrm>
              <a:custGeom>
                <a:avLst/>
                <a:gdLst/>
                <a:ahLst/>
                <a:rect l="l" t="t" r="r" b="b"/>
                <a:pathLst>
                  <a:path w="294" h="178">
                    <a:moveTo>
                      <a:pt x="294" y="10"/>
                    </a:moveTo>
                    <a:lnTo>
                      <a:pt x="2" y="178"/>
                    </a:lnTo>
                    <a:lnTo>
                      <a:pt x="0" y="167"/>
                    </a:lnTo>
                    <a:lnTo>
                      <a:pt x="289" y="0"/>
                    </a:lnTo>
                    <a:lnTo>
                      <a:pt x="294" y="10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035320" y="3635280"/>
                <a:ext cx="93960" cy="55440"/>
              </a:xfrm>
              <a:custGeom>
                <a:avLst/>
                <a:gdLst/>
                <a:ahLst/>
                <a:rect l="l" t="t" r="r" b="b"/>
                <a:pathLst>
                  <a:path w="291" h="178">
                    <a:moveTo>
                      <a:pt x="291" y="10"/>
                    </a:moveTo>
                    <a:lnTo>
                      <a:pt x="1" y="178"/>
                    </a:lnTo>
                    <a:lnTo>
                      <a:pt x="0" y="165"/>
                    </a:lnTo>
                    <a:lnTo>
                      <a:pt x="286" y="0"/>
                    </a:lnTo>
                    <a:lnTo>
                      <a:pt x="291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035320" y="3633840"/>
                <a:ext cx="92160" cy="55440"/>
              </a:xfrm>
              <a:custGeom>
                <a:avLst/>
                <a:gdLst/>
                <a:ahLst/>
                <a:rect l="l" t="t" r="r" b="b"/>
                <a:pathLst>
                  <a:path w="290" h="177">
                    <a:moveTo>
                      <a:pt x="290" y="10"/>
                    </a:moveTo>
                    <a:lnTo>
                      <a:pt x="1" y="177"/>
                    </a:lnTo>
                    <a:lnTo>
                      <a:pt x="0" y="164"/>
                    </a:lnTo>
                    <a:lnTo>
                      <a:pt x="284" y="0"/>
                    </a:lnTo>
                    <a:lnTo>
                      <a:pt x="290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035320" y="3632040"/>
                <a:ext cx="92160" cy="55800"/>
              </a:xfrm>
              <a:custGeom>
                <a:avLst/>
                <a:gdLst/>
                <a:ahLst/>
                <a:rect l="l" t="t" r="r" b="b"/>
                <a:pathLst>
                  <a:path w="288" h="175">
                    <a:moveTo>
                      <a:pt x="288" y="10"/>
                    </a:moveTo>
                    <a:lnTo>
                      <a:pt x="2" y="175"/>
                    </a:lnTo>
                    <a:lnTo>
                      <a:pt x="0" y="164"/>
                    </a:lnTo>
                    <a:lnTo>
                      <a:pt x="282" y="0"/>
                    </a:lnTo>
                    <a:lnTo>
                      <a:pt x="288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5035320" y="3630600"/>
                <a:ext cx="90720" cy="554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9"/>
                    </a:moveTo>
                    <a:lnTo>
                      <a:pt x="2" y="173"/>
                    </a:lnTo>
                    <a:lnTo>
                      <a:pt x="0" y="161"/>
                    </a:lnTo>
                    <a:lnTo>
                      <a:pt x="280" y="0"/>
                    </a:lnTo>
                    <a:lnTo>
                      <a:pt x="286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035320" y="3628800"/>
                <a:ext cx="88920" cy="55800"/>
              </a:xfrm>
              <a:custGeom>
                <a:avLst/>
                <a:gdLst/>
                <a:ahLst/>
                <a:rect l="l" t="t" r="r" b="b"/>
                <a:pathLst>
                  <a:path w="283" h="174">
                    <a:moveTo>
                      <a:pt x="283" y="10"/>
                    </a:moveTo>
                    <a:lnTo>
                      <a:pt x="1" y="174"/>
                    </a:lnTo>
                    <a:lnTo>
                      <a:pt x="0" y="161"/>
                    </a:lnTo>
                    <a:lnTo>
                      <a:pt x="277" y="0"/>
                    </a:lnTo>
                    <a:lnTo>
                      <a:pt x="283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5035320" y="362736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281" h="172">
                    <a:moveTo>
                      <a:pt x="281" y="11"/>
                    </a:moveTo>
                    <a:lnTo>
                      <a:pt x="1" y="172"/>
                    </a:lnTo>
                    <a:lnTo>
                      <a:pt x="0" y="160"/>
                    </a:lnTo>
                    <a:lnTo>
                      <a:pt x="276" y="0"/>
                    </a:lnTo>
                    <a:lnTo>
                      <a:pt x="281" y="11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5033880" y="362592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279" h="170">
                    <a:moveTo>
                      <a:pt x="279" y="9"/>
                    </a:moveTo>
                    <a:lnTo>
                      <a:pt x="2" y="170"/>
                    </a:lnTo>
                    <a:lnTo>
                      <a:pt x="0" y="158"/>
                    </a:lnTo>
                    <a:lnTo>
                      <a:pt x="274" y="0"/>
                    </a:lnTo>
                    <a:lnTo>
                      <a:pt x="279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5033880" y="362412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278" h="169">
                    <a:moveTo>
                      <a:pt x="278" y="9"/>
                    </a:moveTo>
                    <a:lnTo>
                      <a:pt x="2" y="169"/>
                    </a:lnTo>
                    <a:lnTo>
                      <a:pt x="0" y="157"/>
                    </a:lnTo>
                    <a:lnTo>
                      <a:pt x="272" y="0"/>
                    </a:lnTo>
                    <a:lnTo>
                      <a:pt x="278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5033880" y="3622680"/>
                <a:ext cx="87480" cy="54000"/>
              </a:xfrm>
              <a:custGeom>
                <a:avLst/>
                <a:gdLst/>
                <a:ahLst/>
                <a:rect l="l" t="t" r="r" b="b"/>
                <a:pathLst>
                  <a:path w="275" h="168">
                    <a:moveTo>
                      <a:pt x="275" y="10"/>
                    </a:moveTo>
                    <a:lnTo>
                      <a:pt x="1" y="168"/>
                    </a:lnTo>
                    <a:lnTo>
                      <a:pt x="0" y="156"/>
                    </a:lnTo>
                    <a:lnTo>
                      <a:pt x="269" y="0"/>
                    </a:lnTo>
                    <a:lnTo>
                      <a:pt x="275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5033880" y="3620880"/>
                <a:ext cx="87480" cy="52560"/>
              </a:xfrm>
              <a:custGeom>
                <a:avLst/>
                <a:gdLst/>
                <a:ahLst/>
                <a:rect l="l" t="t" r="r" b="b"/>
                <a:pathLst>
                  <a:path w="273" h="167">
                    <a:moveTo>
                      <a:pt x="273" y="10"/>
                    </a:moveTo>
                    <a:lnTo>
                      <a:pt x="1" y="167"/>
                    </a:lnTo>
                    <a:lnTo>
                      <a:pt x="0" y="155"/>
                    </a:lnTo>
                    <a:lnTo>
                      <a:pt x="267" y="0"/>
                    </a:lnTo>
                    <a:lnTo>
                      <a:pt x="273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5033880" y="3619440"/>
                <a:ext cx="85680" cy="52560"/>
              </a:xfrm>
              <a:custGeom>
                <a:avLst/>
                <a:gdLst/>
                <a:ahLst/>
                <a:rect l="l" t="t" r="r" b="b"/>
                <a:pathLst>
                  <a:path w="271" h="166">
                    <a:moveTo>
                      <a:pt x="271" y="10"/>
                    </a:moveTo>
                    <a:lnTo>
                      <a:pt x="2" y="166"/>
                    </a:lnTo>
                    <a:lnTo>
                      <a:pt x="0" y="153"/>
                    </a:lnTo>
                    <a:lnTo>
                      <a:pt x="265" y="0"/>
                    </a:lnTo>
                    <a:lnTo>
                      <a:pt x="271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5033880" y="3618000"/>
                <a:ext cx="84240" cy="52200"/>
              </a:xfrm>
              <a:custGeom>
                <a:avLst/>
                <a:gdLst/>
                <a:ahLst/>
                <a:rect l="l" t="t" r="r" b="b"/>
                <a:pathLst>
                  <a:path w="269" h="165">
                    <a:moveTo>
                      <a:pt x="269" y="10"/>
                    </a:moveTo>
                    <a:lnTo>
                      <a:pt x="2" y="165"/>
                    </a:lnTo>
                    <a:lnTo>
                      <a:pt x="0" y="152"/>
                    </a:lnTo>
                    <a:lnTo>
                      <a:pt x="263" y="0"/>
                    </a:lnTo>
                    <a:lnTo>
                      <a:pt x="269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5033880" y="361620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266" h="162">
                    <a:moveTo>
                      <a:pt x="266" y="9"/>
                    </a:moveTo>
                    <a:lnTo>
                      <a:pt x="1" y="162"/>
                    </a:lnTo>
                    <a:lnTo>
                      <a:pt x="0" y="151"/>
                    </a:lnTo>
                    <a:lnTo>
                      <a:pt x="261" y="0"/>
                    </a:lnTo>
                    <a:lnTo>
                      <a:pt x="266" y="9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5032440" y="3614760"/>
                <a:ext cx="83880" cy="50760"/>
              </a:xfrm>
              <a:custGeom>
                <a:avLst/>
                <a:gdLst/>
                <a:ahLst/>
                <a:rect l="l" t="t" r="r" b="b"/>
                <a:pathLst>
                  <a:path w="264" h="162">
                    <a:moveTo>
                      <a:pt x="264" y="10"/>
                    </a:moveTo>
                    <a:lnTo>
                      <a:pt x="1" y="162"/>
                    </a:lnTo>
                    <a:lnTo>
                      <a:pt x="0" y="151"/>
                    </a:lnTo>
                    <a:lnTo>
                      <a:pt x="259" y="0"/>
                    </a:lnTo>
                    <a:lnTo>
                      <a:pt x="264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5032440" y="3612960"/>
                <a:ext cx="83880" cy="51120"/>
              </a:xfrm>
              <a:custGeom>
                <a:avLst/>
                <a:gdLst/>
                <a:ahLst/>
                <a:rect l="l" t="t" r="r" b="b"/>
                <a:pathLst>
                  <a:path w="264" h="162">
                    <a:moveTo>
                      <a:pt x="264" y="11"/>
                    </a:moveTo>
                    <a:lnTo>
                      <a:pt x="3" y="162"/>
                    </a:lnTo>
                    <a:lnTo>
                      <a:pt x="0" y="149"/>
                    </a:lnTo>
                    <a:lnTo>
                      <a:pt x="258" y="0"/>
                    </a:lnTo>
                    <a:lnTo>
                      <a:pt x="264" y="11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5032440" y="3611520"/>
                <a:ext cx="82440" cy="50760"/>
              </a:xfrm>
              <a:custGeom>
                <a:avLst/>
                <a:gdLst/>
                <a:ahLst/>
                <a:rect l="l" t="t" r="r" b="b"/>
                <a:pathLst>
                  <a:path w="262" h="160">
                    <a:moveTo>
                      <a:pt x="262" y="9"/>
                    </a:moveTo>
                    <a:lnTo>
                      <a:pt x="3" y="160"/>
                    </a:lnTo>
                    <a:lnTo>
                      <a:pt x="0" y="147"/>
                    </a:lnTo>
                    <a:lnTo>
                      <a:pt x="257" y="0"/>
                    </a:lnTo>
                    <a:lnTo>
                      <a:pt x="262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5032440" y="3610080"/>
                <a:ext cx="82440" cy="50760"/>
              </a:xfrm>
              <a:custGeom>
                <a:avLst/>
                <a:gdLst/>
                <a:ahLst/>
                <a:rect l="l" t="t" r="r" b="b"/>
                <a:pathLst>
                  <a:path w="260" h="158">
                    <a:moveTo>
                      <a:pt x="260" y="9"/>
                    </a:moveTo>
                    <a:lnTo>
                      <a:pt x="2" y="158"/>
                    </a:lnTo>
                    <a:lnTo>
                      <a:pt x="0" y="146"/>
                    </a:lnTo>
                    <a:lnTo>
                      <a:pt x="255" y="0"/>
                    </a:lnTo>
                    <a:lnTo>
                      <a:pt x="260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5032440" y="3608280"/>
                <a:ext cx="80640" cy="50760"/>
              </a:xfrm>
              <a:custGeom>
                <a:avLst/>
                <a:gdLst/>
                <a:ahLst/>
                <a:rect l="l" t="t" r="r" b="b"/>
                <a:pathLst>
                  <a:path w="258" h="158">
                    <a:moveTo>
                      <a:pt x="258" y="11"/>
                    </a:moveTo>
                    <a:lnTo>
                      <a:pt x="1" y="158"/>
                    </a:lnTo>
                    <a:lnTo>
                      <a:pt x="0" y="146"/>
                    </a:lnTo>
                    <a:lnTo>
                      <a:pt x="251" y="0"/>
                    </a:lnTo>
                    <a:lnTo>
                      <a:pt x="258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5030640" y="3606840"/>
                <a:ext cx="82440" cy="48960"/>
              </a:xfrm>
              <a:custGeom>
                <a:avLst/>
                <a:gdLst/>
                <a:ahLst/>
                <a:rect l="l" t="t" r="r" b="b"/>
                <a:pathLst>
                  <a:path w="256" h="156">
                    <a:moveTo>
                      <a:pt x="256" y="10"/>
                    </a:moveTo>
                    <a:lnTo>
                      <a:pt x="1" y="156"/>
                    </a:lnTo>
                    <a:lnTo>
                      <a:pt x="0" y="144"/>
                    </a:lnTo>
                    <a:lnTo>
                      <a:pt x="249" y="0"/>
                    </a:lnTo>
                    <a:lnTo>
                      <a:pt x="256" y="10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5030640" y="3605040"/>
                <a:ext cx="81000" cy="49320"/>
              </a:xfrm>
              <a:custGeom>
                <a:avLst/>
                <a:gdLst/>
                <a:ahLst/>
                <a:rect l="l" t="t" r="r" b="b"/>
                <a:pathLst>
                  <a:path w="253" h="155">
                    <a:moveTo>
                      <a:pt x="253" y="9"/>
                    </a:moveTo>
                    <a:lnTo>
                      <a:pt x="2" y="155"/>
                    </a:lnTo>
                    <a:lnTo>
                      <a:pt x="0" y="143"/>
                    </a:lnTo>
                    <a:lnTo>
                      <a:pt x="248" y="0"/>
                    </a:lnTo>
                    <a:lnTo>
                      <a:pt x="253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5030640" y="3603600"/>
                <a:ext cx="79560" cy="49320"/>
              </a:xfrm>
              <a:custGeom>
                <a:avLst/>
                <a:gdLst/>
                <a:ahLst/>
                <a:rect l="l" t="t" r="r" b="b"/>
                <a:pathLst>
                  <a:path w="251" h="154">
                    <a:moveTo>
                      <a:pt x="251" y="10"/>
                    </a:moveTo>
                    <a:lnTo>
                      <a:pt x="2" y="154"/>
                    </a:lnTo>
                    <a:lnTo>
                      <a:pt x="0" y="141"/>
                    </a:lnTo>
                    <a:lnTo>
                      <a:pt x="246" y="0"/>
                    </a:lnTo>
                    <a:lnTo>
                      <a:pt x="251" y="10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5030640" y="3602160"/>
                <a:ext cx="79560" cy="48960"/>
              </a:xfrm>
              <a:custGeom>
                <a:avLst/>
                <a:gdLst/>
                <a:ahLst/>
                <a:rect l="l" t="t" r="r" b="b"/>
                <a:pathLst>
                  <a:path w="249" h="152">
                    <a:moveTo>
                      <a:pt x="249" y="9"/>
                    </a:moveTo>
                    <a:lnTo>
                      <a:pt x="1" y="152"/>
                    </a:lnTo>
                    <a:lnTo>
                      <a:pt x="0" y="139"/>
                    </a:lnTo>
                    <a:lnTo>
                      <a:pt x="243" y="0"/>
                    </a:lnTo>
                    <a:lnTo>
                      <a:pt x="249" y="9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5030640" y="3600360"/>
                <a:ext cx="77760" cy="47520"/>
              </a:xfrm>
              <a:custGeom>
                <a:avLst/>
                <a:gdLst/>
                <a:ahLst/>
                <a:rect l="l" t="t" r="r" b="b"/>
                <a:pathLst>
                  <a:path w="247" h="151">
                    <a:moveTo>
                      <a:pt x="247" y="10"/>
                    </a:moveTo>
                    <a:lnTo>
                      <a:pt x="1" y="151"/>
                    </a:lnTo>
                    <a:lnTo>
                      <a:pt x="0" y="140"/>
                    </a:lnTo>
                    <a:lnTo>
                      <a:pt x="242" y="0"/>
                    </a:lnTo>
                    <a:lnTo>
                      <a:pt x="247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5030640" y="3598920"/>
                <a:ext cx="77760" cy="47520"/>
              </a:xfrm>
              <a:custGeom>
                <a:avLst/>
                <a:gdLst/>
                <a:ahLst/>
                <a:rect l="l" t="t" r="r" b="b"/>
                <a:pathLst>
                  <a:path w="245" h="150">
                    <a:moveTo>
                      <a:pt x="245" y="11"/>
                    </a:moveTo>
                    <a:lnTo>
                      <a:pt x="2" y="150"/>
                    </a:lnTo>
                    <a:lnTo>
                      <a:pt x="0" y="139"/>
                    </a:lnTo>
                    <a:lnTo>
                      <a:pt x="240" y="0"/>
                    </a:lnTo>
                    <a:lnTo>
                      <a:pt x="245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5029200" y="3597120"/>
                <a:ext cx="77760" cy="47880"/>
              </a:xfrm>
              <a:custGeom>
                <a:avLst/>
                <a:gdLst/>
                <a:ahLst/>
                <a:rect l="l" t="t" r="r" b="b"/>
                <a:pathLst>
                  <a:path w="244" h="149">
                    <a:moveTo>
                      <a:pt x="244" y="9"/>
                    </a:moveTo>
                    <a:lnTo>
                      <a:pt x="2" y="149"/>
                    </a:lnTo>
                    <a:lnTo>
                      <a:pt x="0" y="136"/>
                    </a:lnTo>
                    <a:lnTo>
                      <a:pt x="237" y="0"/>
                    </a:lnTo>
                    <a:lnTo>
                      <a:pt x="244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5029200" y="3595680"/>
                <a:ext cx="77760" cy="47520"/>
              </a:xfrm>
              <a:custGeom>
                <a:avLst/>
                <a:gdLst/>
                <a:ahLst/>
                <a:rect l="l" t="t" r="r" b="b"/>
                <a:pathLst>
                  <a:path w="241" h="148">
                    <a:moveTo>
                      <a:pt x="241" y="9"/>
                    </a:moveTo>
                    <a:lnTo>
                      <a:pt x="1" y="148"/>
                    </a:lnTo>
                    <a:lnTo>
                      <a:pt x="0" y="135"/>
                    </a:lnTo>
                    <a:lnTo>
                      <a:pt x="235" y="0"/>
                    </a:lnTo>
                    <a:lnTo>
                      <a:pt x="241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5029200" y="359388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238" h="147">
                    <a:moveTo>
                      <a:pt x="238" y="11"/>
                    </a:moveTo>
                    <a:lnTo>
                      <a:pt x="1" y="147"/>
                    </a:lnTo>
                    <a:lnTo>
                      <a:pt x="0" y="135"/>
                    </a:lnTo>
                    <a:lnTo>
                      <a:pt x="233" y="0"/>
                    </a:lnTo>
                    <a:lnTo>
                      <a:pt x="238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5029200" y="3592440"/>
                <a:ext cx="74520" cy="46080"/>
              </a:xfrm>
              <a:custGeom>
                <a:avLst/>
                <a:gdLst/>
                <a:ahLst/>
                <a:rect l="l" t="t" r="r" b="b"/>
                <a:pathLst>
                  <a:path w="237" h="145">
                    <a:moveTo>
                      <a:pt x="237" y="10"/>
                    </a:moveTo>
                    <a:lnTo>
                      <a:pt x="2" y="145"/>
                    </a:lnTo>
                    <a:lnTo>
                      <a:pt x="0" y="133"/>
                    </a:lnTo>
                    <a:lnTo>
                      <a:pt x="231" y="0"/>
                    </a:lnTo>
                    <a:lnTo>
                      <a:pt x="237" y="10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5029200" y="3591000"/>
                <a:ext cx="74520" cy="46080"/>
              </a:xfrm>
              <a:custGeom>
                <a:avLst/>
                <a:gdLst/>
                <a:ahLst/>
                <a:rect l="l" t="t" r="r" b="b"/>
                <a:pathLst>
                  <a:path w="235" h="144">
                    <a:moveTo>
                      <a:pt x="235" y="9"/>
                    </a:moveTo>
                    <a:lnTo>
                      <a:pt x="2" y="144"/>
                    </a:lnTo>
                    <a:lnTo>
                      <a:pt x="0" y="132"/>
                    </a:lnTo>
                    <a:lnTo>
                      <a:pt x="229" y="0"/>
                    </a:lnTo>
                    <a:lnTo>
                      <a:pt x="235" y="9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5029200" y="3589200"/>
                <a:ext cx="73080" cy="46080"/>
              </a:xfrm>
              <a:custGeom>
                <a:avLst/>
                <a:gdLst/>
                <a:ahLst/>
                <a:rect l="l" t="t" r="r" b="b"/>
                <a:pathLst>
                  <a:path w="232" h="143">
                    <a:moveTo>
                      <a:pt x="232" y="10"/>
                    </a:moveTo>
                    <a:lnTo>
                      <a:pt x="1" y="143"/>
                    </a:lnTo>
                    <a:lnTo>
                      <a:pt x="0" y="131"/>
                    </a:lnTo>
                    <a:lnTo>
                      <a:pt x="227" y="0"/>
                    </a:lnTo>
                    <a:lnTo>
                      <a:pt x="232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5029200" y="3587760"/>
                <a:ext cx="73080" cy="46080"/>
              </a:xfrm>
              <a:custGeom>
                <a:avLst/>
                <a:gdLst/>
                <a:ahLst/>
                <a:rect l="l" t="t" r="r" b="b"/>
                <a:pathLst>
                  <a:path w="230" h="142">
                    <a:moveTo>
                      <a:pt x="230" y="10"/>
                    </a:moveTo>
                    <a:lnTo>
                      <a:pt x="1" y="142"/>
                    </a:lnTo>
                    <a:lnTo>
                      <a:pt x="0" y="130"/>
                    </a:lnTo>
                    <a:lnTo>
                      <a:pt x="225" y="0"/>
                    </a:lnTo>
                    <a:lnTo>
                      <a:pt x="230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5027400" y="3585960"/>
                <a:ext cx="73080" cy="46080"/>
              </a:xfrm>
              <a:custGeom>
                <a:avLst/>
                <a:gdLst/>
                <a:ahLst/>
                <a:rect l="l" t="t" r="r" b="b"/>
                <a:pathLst>
                  <a:path w="229" h="141">
                    <a:moveTo>
                      <a:pt x="229" y="10"/>
                    </a:moveTo>
                    <a:lnTo>
                      <a:pt x="2" y="141"/>
                    </a:lnTo>
                    <a:lnTo>
                      <a:pt x="0" y="128"/>
                    </a:lnTo>
                    <a:lnTo>
                      <a:pt x="222" y="0"/>
                    </a:lnTo>
                    <a:lnTo>
                      <a:pt x="229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5027400" y="3584520"/>
                <a:ext cx="73080" cy="44280"/>
              </a:xfrm>
              <a:custGeom>
                <a:avLst/>
                <a:gdLst/>
                <a:ahLst/>
                <a:rect l="l" t="t" r="r" b="b"/>
                <a:pathLst>
                  <a:path w="227" h="140">
                    <a:moveTo>
                      <a:pt x="227" y="10"/>
                    </a:moveTo>
                    <a:lnTo>
                      <a:pt x="2" y="140"/>
                    </a:lnTo>
                    <a:lnTo>
                      <a:pt x="0" y="128"/>
                    </a:lnTo>
                    <a:lnTo>
                      <a:pt x="221" y="0"/>
                    </a:lnTo>
                    <a:lnTo>
                      <a:pt x="227" y="10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5027400" y="3584520"/>
                <a:ext cx="71640" cy="42840"/>
              </a:xfrm>
              <a:custGeom>
                <a:avLst/>
                <a:gdLst/>
                <a:ahLst/>
                <a:rect l="l" t="t" r="r" b="b"/>
                <a:pathLst>
                  <a:path w="223" h="137">
                    <a:moveTo>
                      <a:pt x="223" y="9"/>
                    </a:moveTo>
                    <a:lnTo>
                      <a:pt x="1" y="137"/>
                    </a:lnTo>
                    <a:lnTo>
                      <a:pt x="0" y="126"/>
                    </a:lnTo>
                    <a:lnTo>
                      <a:pt x="218" y="0"/>
                    </a:lnTo>
                    <a:lnTo>
                      <a:pt x="223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5027400" y="3581280"/>
                <a:ext cx="69840" cy="44640"/>
              </a:xfrm>
              <a:custGeom>
                <a:avLst/>
                <a:gdLst/>
                <a:ahLst/>
                <a:rect l="l" t="t" r="r" b="b"/>
                <a:pathLst>
                  <a:path w="222" h="138">
                    <a:moveTo>
                      <a:pt x="222" y="10"/>
                    </a:moveTo>
                    <a:lnTo>
                      <a:pt x="1" y="138"/>
                    </a:lnTo>
                    <a:lnTo>
                      <a:pt x="0" y="125"/>
                    </a:lnTo>
                    <a:lnTo>
                      <a:pt x="216" y="0"/>
                    </a:lnTo>
                    <a:lnTo>
                      <a:pt x="222" y="10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5027400" y="3579840"/>
                <a:ext cx="69840" cy="44280"/>
              </a:xfrm>
              <a:custGeom>
                <a:avLst/>
                <a:gdLst/>
                <a:ahLst/>
                <a:rect l="l" t="t" r="r" b="b"/>
                <a:pathLst>
                  <a:path w="220" h="137">
                    <a:moveTo>
                      <a:pt x="220" y="11"/>
                    </a:moveTo>
                    <a:lnTo>
                      <a:pt x="2" y="137"/>
                    </a:lnTo>
                    <a:lnTo>
                      <a:pt x="0" y="124"/>
                    </a:lnTo>
                    <a:lnTo>
                      <a:pt x="215" y="0"/>
                    </a:lnTo>
                    <a:lnTo>
                      <a:pt x="220" y="11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5027400" y="3579840"/>
                <a:ext cx="68400" cy="41040"/>
              </a:xfrm>
              <a:custGeom>
                <a:avLst/>
                <a:gdLst/>
                <a:ahLst/>
                <a:rect l="l" t="t" r="r" b="b"/>
                <a:pathLst>
                  <a:path w="218" h="134">
                    <a:moveTo>
                      <a:pt x="218" y="9"/>
                    </a:moveTo>
                    <a:lnTo>
                      <a:pt x="2" y="134"/>
                    </a:lnTo>
                    <a:lnTo>
                      <a:pt x="0" y="122"/>
                    </a:lnTo>
                    <a:lnTo>
                      <a:pt x="213" y="0"/>
                    </a:lnTo>
                    <a:lnTo>
                      <a:pt x="218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5027400" y="357804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216" h="133">
                    <a:moveTo>
                      <a:pt x="216" y="9"/>
                    </a:moveTo>
                    <a:lnTo>
                      <a:pt x="1" y="133"/>
                    </a:lnTo>
                    <a:lnTo>
                      <a:pt x="0" y="122"/>
                    </a:lnTo>
                    <a:lnTo>
                      <a:pt x="210" y="0"/>
                    </a:lnTo>
                    <a:lnTo>
                      <a:pt x="216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5025960" y="357660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214" h="132">
                    <a:moveTo>
                      <a:pt x="214" y="10"/>
                    </a:moveTo>
                    <a:lnTo>
                      <a:pt x="1" y="132"/>
                    </a:lnTo>
                    <a:lnTo>
                      <a:pt x="0" y="120"/>
                    </a:lnTo>
                    <a:lnTo>
                      <a:pt x="209" y="0"/>
                    </a:lnTo>
                    <a:lnTo>
                      <a:pt x="214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5025960" y="3575160"/>
                <a:ext cx="68400" cy="41040"/>
              </a:xfrm>
              <a:custGeom>
                <a:avLst/>
                <a:gdLst/>
                <a:ahLst/>
                <a:rect l="l" t="t" r="r" b="b"/>
                <a:pathLst>
                  <a:path w="212" h="132">
                    <a:moveTo>
                      <a:pt x="212" y="10"/>
                    </a:moveTo>
                    <a:lnTo>
                      <a:pt x="2" y="132"/>
                    </a:lnTo>
                    <a:lnTo>
                      <a:pt x="0" y="119"/>
                    </a:lnTo>
                    <a:lnTo>
                      <a:pt x="206" y="0"/>
                    </a:lnTo>
                    <a:lnTo>
                      <a:pt x="212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5025960" y="357336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212" h="130">
                    <a:moveTo>
                      <a:pt x="212" y="10"/>
                    </a:moveTo>
                    <a:lnTo>
                      <a:pt x="3" y="130"/>
                    </a:lnTo>
                    <a:lnTo>
                      <a:pt x="0" y="118"/>
                    </a:lnTo>
                    <a:lnTo>
                      <a:pt x="205" y="0"/>
                    </a:lnTo>
                    <a:lnTo>
                      <a:pt x="212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5025960" y="3571920"/>
                <a:ext cx="65160" cy="39600"/>
              </a:xfrm>
              <a:custGeom>
                <a:avLst/>
                <a:gdLst/>
                <a:ahLst/>
                <a:rect l="l" t="t" r="r" b="b"/>
                <a:pathLst>
                  <a:path w="208" h="129">
                    <a:moveTo>
                      <a:pt x="208" y="10"/>
                    </a:moveTo>
                    <a:lnTo>
                      <a:pt x="2" y="129"/>
                    </a:lnTo>
                    <a:lnTo>
                      <a:pt x="0" y="117"/>
                    </a:lnTo>
                    <a:lnTo>
                      <a:pt x="202" y="0"/>
                    </a:lnTo>
                    <a:lnTo>
                      <a:pt x="208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5025960" y="3570120"/>
                <a:ext cx="65160" cy="39960"/>
              </a:xfrm>
              <a:custGeom>
                <a:avLst/>
                <a:gdLst/>
                <a:ahLst/>
                <a:rect l="l" t="t" r="r" b="b"/>
                <a:pathLst>
                  <a:path w="206" h="127">
                    <a:moveTo>
                      <a:pt x="206" y="9"/>
                    </a:moveTo>
                    <a:lnTo>
                      <a:pt x="1" y="127"/>
                    </a:lnTo>
                    <a:lnTo>
                      <a:pt x="0" y="115"/>
                    </a:lnTo>
                    <a:lnTo>
                      <a:pt x="201" y="0"/>
                    </a:lnTo>
                    <a:lnTo>
                      <a:pt x="206" y="9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5024520" y="356868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204" h="127">
                    <a:moveTo>
                      <a:pt x="204" y="10"/>
                    </a:moveTo>
                    <a:lnTo>
                      <a:pt x="2" y="127"/>
                    </a:lnTo>
                    <a:lnTo>
                      <a:pt x="0" y="115"/>
                    </a:lnTo>
                    <a:lnTo>
                      <a:pt x="199" y="0"/>
                    </a:lnTo>
                    <a:lnTo>
                      <a:pt x="204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5024520" y="356724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203" h="126">
                    <a:moveTo>
                      <a:pt x="203" y="11"/>
                    </a:moveTo>
                    <a:lnTo>
                      <a:pt x="2" y="126"/>
                    </a:lnTo>
                    <a:lnTo>
                      <a:pt x="0" y="114"/>
                    </a:lnTo>
                    <a:lnTo>
                      <a:pt x="197" y="0"/>
                    </a:lnTo>
                    <a:lnTo>
                      <a:pt x="203" y="11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5024520" y="3565440"/>
                <a:ext cx="63360" cy="39600"/>
              </a:xfrm>
              <a:custGeom>
                <a:avLst/>
                <a:gdLst/>
                <a:ahLst/>
                <a:rect l="l" t="t" r="r" b="b"/>
                <a:pathLst>
                  <a:path w="200" h="124">
                    <a:moveTo>
                      <a:pt x="200" y="9"/>
                    </a:moveTo>
                    <a:lnTo>
                      <a:pt x="1" y="124"/>
                    </a:lnTo>
                    <a:lnTo>
                      <a:pt x="0" y="111"/>
                    </a:lnTo>
                    <a:lnTo>
                      <a:pt x="195" y="0"/>
                    </a:lnTo>
                    <a:lnTo>
                      <a:pt x="200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5024520" y="3564000"/>
                <a:ext cx="63360" cy="38160"/>
              </a:xfrm>
              <a:custGeom>
                <a:avLst/>
                <a:gdLst/>
                <a:ahLst/>
                <a:rect l="l" t="t" r="r" b="b"/>
                <a:pathLst>
                  <a:path w="198" h="123">
                    <a:moveTo>
                      <a:pt x="198" y="9"/>
                    </a:moveTo>
                    <a:lnTo>
                      <a:pt x="1" y="123"/>
                    </a:lnTo>
                    <a:lnTo>
                      <a:pt x="0" y="111"/>
                    </a:lnTo>
                    <a:lnTo>
                      <a:pt x="192" y="0"/>
                    </a:lnTo>
                    <a:lnTo>
                      <a:pt x="198" y="9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5024520" y="3562200"/>
                <a:ext cx="61920" cy="38160"/>
              </a:xfrm>
              <a:custGeom>
                <a:avLst/>
                <a:gdLst/>
                <a:ahLst/>
                <a:rect l="l" t="t" r="r" b="b"/>
                <a:pathLst>
                  <a:path w="197" h="122">
                    <a:moveTo>
                      <a:pt x="197" y="11"/>
                    </a:moveTo>
                    <a:lnTo>
                      <a:pt x="2" y="122"/>
                    </a:lnTo>
                    <a:lnTo>
                      <a:pt x="0" y="111"/>
                    </a:lnTo>
                    <a:lnTo>
                      <a:pt x="190" y="0"/>
                    </a:lnTo>
                    <a:lnTo>
                      <a:pt x="197" y="11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5024520" y="3560760"/>
                <a:ext cx="60120" cy="38160"/>
              </a:xfrm>
              <a:custGeom>
                <a:avLst/>
                <a:gdLst/>
                <a:ahLst/>
                <a:rect l="l" t="t" r="r" b="b"/>
                <a:pathLst>
                  <a:path w="194" h="122">
                    <a:moveTo>
                      <a:pt x="194" y="11"/>
                    </a:moveTo>
                    <a:lnTo>
                      <a:pt x="2" y="122"/>
                    </a:lnTo>
                    <a:lnTo>
                      <a:pt x="0" y="109"/>
                    </a:lnTo>
                    <a:lnTo>
                      <a:pt x="189" y="0"/>
                    </a:lnTo>
                    <a:lnTo>
                      <a:pt x="194" y="11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5024520" y="3558960"/>
                <a:ext cx="60120" cy="38160"/>
              </a:xfrm>
              <a:custGeom>
                <a:avLst/>
                <a:gdLst/>
                <a:ahLst/>
                <a:rect l="l" t="t" r="r" b="b"/>
                <a:pathLst>
                  <a:path w="191" h="120">
                    <a:moveTo>
                      <a:pt x="191" y="9"/>
                    </a:moveTo>
                    <a:lnTo>
                      <a:pt x="1" y="120"/>
                    </a:lnTo>
                    <a:lnTo>
                      <a:pt x="0" y="107"/>
                    </a:lnTo>
                    <a:lnTo>
                      <a:pt x="186" y="0"/>
                    </a:lnTo>
                    <a:lnTo>
                      <a:pt x="191" y="9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5022720" y="355752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190" h="118">
                    <a:moveTo>
                      <a:pt x="190" y="9"/>
                    </a:moveTo>
                    <a:lnTo>
                      <a:pt x="1" y="118"/>
                    </a:lnTo>
                    <a:lnTo>
                      <a:pt x="0" y="106"/>
                    </a:lnTo>
                    <a:lnTo>
                      <a:pt x="184" y="0"/>
                    </a:lnTo>
                    <a:lnTo>
                      <a:pt x="190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5022720" y="35560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188" h="118">
                    <a:moveTo>
                      <a:pt x="188" y="11"/>
                    </a:moveTo>
                    <a:lnTo>
                      <a:pt x="2" y="118"/>
                    </a:lnTo>
                    <a:lnTo>
                      <a:pt x="0" y="107"/>
                    </a:lnTo>
                    <a:lnTo>
                      <a:pt x="182" y="0"/>
                    </a:lnTo>
                    <a:lnTo>
                      <a:pt x="188" y="11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5022720" y="3554280"/>
                <a:ext cx="58680" cy="36720"/>
              </a:xfrm>
              <a:custGeom>
                <a:avLst/>
                <a:gdLst/>
                <a:ahLst/>
                <a:rect l="l" t="t" r="r" b="b"/>
                <a:pathLst>
                  <a:path w="186" h="116">
                    <a:moveTo>
                      <a:pt x="186" y="10"/>
                    </a:moveTo>
                    <a:lnTo>
                      <a:pt x="2" y="116"/>
                    </a:lnTo>
                    <a:lnTo>
                      <a:pt x="0" y="104"/>
                    </a:lnTo>
                    <a:lnTo>
                      <a:pt x="181" y="0"/>
                    </a:lnTo>
                    <a:lnTo>
                      <a:pt x="186" y="10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5022720" y="355284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183" h="116">
                    <a:moveTo>
                      <a:pt x="183" y="9"/>
                    </a:moveTo>
                    <a:lnTo>
                      <a:pt x="1" y="116"/>
                    </a:lnTo>
                    <a:lnTo>
                      <a:pt x="0" y="103"/>
                    </a:lnTo>
                    <a:lnTo>
                      <a:pt x="178" y="0"/>
                    </a:lnTo>
                    <a:lnTo>
                      <a:pt x="183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5022720" y="3551040"/>
                <a:ext cx="57240" cy="36720"/>
              </a:xfrm>
              <a:custGeom>
                <a:avLst/>
                <a:gdLst/>
                <a:ahLst/>
                <a:rect l="l" t="t" r="r" b="b"/>
                <a:pathLst>
                  <a:path w="182" h="114">
                    <a:moveTo>
                      <a:pt x="182" y="10"/>
                    </a:moveTo>
                    <a:lnTo>
                      <a:pt x="1" y="114"/>
                    </a:lnTo>
                    <a:lnTo>
                      <a:pt x="0" y="102"/>
                    </a:lnTo>
                    <a:lnTo>
                      <a:pt x="175" y="0"/>
                    </a:lnTo>
                    <a:lnTo>
                      <a:pt x="182" y="10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5022720" y="3549600"/>
                <a:ext cx="57240" cy="34920"/>
              </a:xfrm>
              <a:custGeom>
                <a:avLst/>
                <a:gdLst/>
                <a:ahLst/>
                <a:rect l="l" t="t" r="r" b="b"/>
                <a:pathLst>
                  <a:path w="180" h="112">
                    <a:moveTo>
                      <a:pt x="180" y="9"/>
                    </a:moveTo>
                    <a:lnTo>
                      <a:pt x="2" y="112"/>
                    </a:lnTo>
                    <a:lnTo>
                      <a:pt x="0" y="99"/>
                    </a:lnTo>
                    <a:lnTo>
                      <a:pt x="174" y="0"/>
                    </a:lnTo>
                    <a:lnTo>
                      <a:pt x="180" y="9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5021280" y="3548160"/>
                <a:ext cx="56880" cy="34920"/>
              </a:xfrm>
              <a:custGeom>
                <a:avLst/>
                <a:gdLst/>
                <a:ahLst/>
                <a:rect l="l" t="t" r="r" b="b"/>
                <a:pathLst>
                  <a:path w="177" h="112">
                    <a:moveTo>
                      <a:pt x="177" y="10"/>
                    </a:moveTo>
                    <a:lnTo>
                      <a:pt x="2" y="112"/>
                    </a:lnTo>
                    <a:lnTo>
                      <a:pt x="0" y="100"/>
                    </a:lnTo>
                    <a:lnTo>
                      <a:pt x="172" y="0"/>
                    </a:lnTo>
                    <a:lnTo>
                      <a:pt x="177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5021280" y="3546360"/>
                <a:ext cx="55440" cy="34920"/>
              </a:xfrm>
              <a:custGeom>
                <a:avLst/>
                <a:gdLst/>
                <a:ahLst/>
                <a:rect l="l" t="t" r="r" b="b"/>
                <a:pathLst>
                  <a:path w="175" h="110">
                    <a:moveTo>
                      <a:pt x="175" y="11"/>
                    </a:moveTo>
                    <a:lnTo>
                      <a:pt x="1" y="110"/>
                    </a:lnTo>
                    <a:lnTo>
                      <a:pt x="0" y="99"/>
                    </a:lnTo>
                    <a:lnTo>
                      <a:pt x="169" y="0"/>
                    </a:lnTo>
                    <a:lnTo>
                      <a:pt x="175" y="11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5021280" y="3544920"/>
                <a:ext cx="55440" cy="34920"/>
              </a:xfrm>
              <a:custGeom>
                <a:avLst/>
                <a:gdLst/>
                <a:ahLst/>
                <a:rect l="l" t="t" r="r" b="b"/>
                <a:pathLst>
                  <a:path w="173" h="109">
                    <a:moveTo>
                      <a:pt x="173" y="9"/>
                    </a:moveTo>
                    <a:lnTo>
                      <a:pt x="1" y="109"/>
                    </a:lnTo>
                    <a:lnTo>
                      <a:pt x="0" y="96"/>
                    </a:lnTo>
                    <a:lnTo>
                      <a:pt x="168" y="0"/>
                    </a:lnTo>
                    <a:lnTo>
                      <a:pt x="173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5021280" y="3543120"/>
                <a:ext cx="54000" cy="34920"/>
              </a:xfrm>
              <a:custGeom>
                <a:avLst/>
                <a:gdLst/>
                <a:ahLst/>
                <a:rect l="l" t="t" r="r" b="b"/>
                <a:pathLst>
                  <a:path w="171" h="108">
                    <a:moveTo>
                      <a:pt x="171" y="9"/>
                    </a:moveTo>
                    <a:lnTo>
                      <a:pt x="2" y="108"/>
                    </a:lnTo>
                    <a:lnTo>
                      <a:pt x="0" y="95"/>
                    </a:lnTo>
                    <a:lnTo>
                      <a:pt x="166" y="0"/>
                    </a:lnTo>
                    <a:lnTo>
                      <a:pt x="171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5021280" y="354168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70" h="107">
                    <a:moveTo>
                      <a:pt x="170" y="11"/>
                    </a:moveTo>
                    <a:lnTo>
                      <a:pt x="2" y="107"/>
                    </a:lnTo>
                    <a:lnTo>
                      <a:pt x="0" y="95"/>
                    </a:lnTo>
                    <a:lnTo>
                      <a:pt x="164" y="0"/>
                    </a:lnTo>
                    <a:lnTo>
                      <a:pt x="170" y="11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5021280" y="3540240"/>
                <a:ext cx="52200" cy="33120"/>
              </a:xfrm>
              <a:custGeom>
                <a:avLst/>
                <a:gdLst/>
                <a:ahLst/>
                <a:rect l="l" t="t" r="r" b="b"/>
                <a:pathLst>
                  <a:path w="167" h="105">
                    <a:moveTo>
                      <a:pt x="167" y="10"/>
                    </a:moveTo>
                    <a:lnTo>
                      <a:pt x="1" y="105"/>
                    </a:lnTo>
                    <a:lnTo>
                      <a:pt x="0" y="94"/>
                    </a:lnTo>
                    <a:lnTo>
                      <a:pt x="160" y="0"/>
                    </a:lnTo>
                    <a:lnTo>
                      <a:pt x="167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5021280" y="3538440"/>
                <a:ext cx="52200" cy="33480"/>
              </a:xfrm>
              <a:custGeom>
                <a:avLst/>
                <a:gdLst/>
                <a:ahLst/>
                <a:rect l="l" t="t" r="r" b="b"/>
                <a:pathLst>
                  <a:path w="165" h="104">
                    <a:moveTo>
                      <a:pt x="165" y="9"/>
                    </a:moveTo>
                    <a:lnTo>
                      <a:pt x="1" y="104"/>
                    </a:lnTo>
                    <a:lnTo>
                      <a:pt x="0" y="92"/>
                    </a:lnTo>
                    <a:lnTo>
                      <a:pt x="159" y="0"/>
                    </a:lnTo>
                    <a:lnTo>
                      <a:pt x="165" y="9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5019480" y="3537000"/>
                <a:ext cx="52560" cy="33120"/>
              </a:xfrm>
              <a:custGeom>
                <a:avLst/>
                <a:gdLst/>
                <a:ahLst/>
                <a:rect l="l" t="t" r="r" b="b"/>
                <a:pathLst>
                  <a:path w="162" h="104">
                    <a:moveTo>
                      <a:pt x="162" y="10"/>
                    </a:moveTo>
                    <a:lnTo>
                      <a:pt x="2" y="104"/>
                    </a:lnTo>
                    <a:lnTo>
                      <a:pt x="0" y="91"/>
                    </a:lnTo>
                    <a:lnTo>
                      <a:pt x="157" y="0"/>
                    </a:lnTo>
                    <a:lnTo>
                      <a:pt x="162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5019480" y="3535200"/>
                <a:ext cx="50760" cy="32040"/>
              </a:xfrm>
              <a:custGeom>
                <a:avLst/>
                <a:gdLst/>
                <a:ahLst/>
                <a:rect l="l" t="t" r="r" b="b"/>
                <a:pathLst>
                  <a:path w="161" h="102">
                    <a:moveTo>
                      <a:pt x="161" y="10"/>
                    </a:moveTo>
                    <a:lnTo>
                      <a:pt x="2" y="102"/>
                    </a:lnTo>
                    <a:lnTo>
                      <a:pt x="0" y="90"/>
                    </a:lnTo>
                    <a:lnTo>
                      <a:pt x="155" y="0"/>
                    </a:lnTo>
                    <a:lnTo>
                      <a:pt x="161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5019480" y="353376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158" h="101">
                    <a:moveTo>
                      <a:pt x="158" y="10"/>
                    </a:moveTo>
                    <a:lnTo>
                      <a:pt x="1" y="101"/>
                    </a:lnTo>
                    <a:lnTo>
                      <a:pt x="0" y="88"/>
                    </a:lnTo>
                    <a:lnTo>
                      <a:pt x="153" y="0"/>
                    </a:lnTo>
                    <a:lnTo>
                      <a:pt x="158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5019480" y="3531960"/>
                <a:ext cx="49320" cy="32040"/>
              </a:xfrm>
              <a:custGeom>
                <a:avLst/>
                <a:gdLst/>
                <a:ahLst/>
                <a:rect l="l" t="t" r="r" b="b"/>
                <a:pathLst>
                  <a:path w="156" h="100">
                    <a:moveTo>
                      <a:pt x="156" y="10"/>
                    </a:moveTo>
                    <a:lnTo>
                      <a:pt x="1" y="100"/>
                    </a:lnTo>
                    <a:lnTo>
                      <a:pt x="0" y="88"/>
                    </a:lnTo>
                    <a:lnTo>
                      <a:pt x="151" y="0"/>
                    </a:lnTo>
                    <a:lnTo>
                      <a:pt x="156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5019480" y="3530520"/>
                <a:ext cx="49320" cy="31680"/>
              </a:xfrm>
              <a:custGeom>
                <a:avLst/>
                <a:gdLst/>
                <a:ahLst/>
                <a:rect l="l" t="t" r="r" b="b"/>
                <a:pathLst>
                  <a:path w="156" h="97">
                    <a:moveTo>
                      <a:pt x="156" y="9"/>
                    </a:moveTo>
                    <a:lnTo>
                      <a:pt x="3" y="97"/>
                    </a:lnTo>
                    <a:lnTo>
                      <a:pt x="0" y="86"/>
                    </a:lnTo>
                    <a:lnTo>
                      <a:pt x="150" y="0"/>
                    </a:lnTo>
                    <a:lnTo>
                      <a:pt x="156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5018040" y="3529080"/>
                <a:ext cx="49320" cy="31680"/>
              </a:xfrm>
              <a:custGeom>
                <a:avLst/>
                <a:gdLst/>
                <a:ahLst/>
                <a:rect l="l" t="t" r="r" b="b"/>
                <a:pathLst>
                  <a:path w="154" h="97">
                    <a:moveTo>
                      <a:pt x="154" y="9"/>
                    </a:moveTo>
                    <a:lnTo>
                      <a:pt x="3" y="97"/>
                    </a:lnTo>
                    <a:lnTo>
                      <a:pt x="0" y="85"/>
                    </a:lnTo>
                    <a:lnTo>
                      <a:pt x="149" y="0"/>
                    </a:lnTo>
                    <a:lnTo>
                      <a:pt x="154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5018040" y="35272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7">
                    <a:moveTo>
                      <a:pt x="151" y="11"/>
                    </a:moveTo>
                    <a:lnTo>
                      <a:pt x="1" y="97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5018040" y="35258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0"/>
                    </a:moveTo>
                    <a:lnTo>
                      <a:pt x="1" y="95"/>
                    </a:lnTo>
                    <a:lnTo>
                      <a:pt x="0" y="82"/>
                    </a:lnTo>
                    <a:lnTo>
                      <a:pt x="143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5018040" y="3524040"/>
                <a:ext cx="46080" cy="30240"/>
              </a:xfrm>
              <a:custGeom>
                <a:avLst/>
                <a:gdLst/>
                <a:ahLst/>
                <a:rect l="l" t="t" r="r" b="b"/>
                <a:pathLst>
                  <a:path w="147" h="93">
                    <a:moveTo>
                      <a:pt x="147" y="9"/>
                    </a:moveTo>
                    <a:lnTo>
                      <a:pt x="2" y="93"/>
                    </a:lnTo>
                    <a:lnTo>
                      <a:pt x="0" y="82"/>
                    </a:lnTo>
                    <a:lnTo>
                      <a:pt x="141" y="0"/>
                    </a:lnTo>
                    <a:lnTo>
                      <a:pt x="147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5018040" y="3524040"/>
                <a:ext cx="46080" cy="28800"/>
              </a:xfrm>
              <a:custGeom>
                <a:avLst/>
                <a:gdLst/>
                <a:ahLst/>
                <a:rect l="l" t="t" r="r" b="b"/>
                <a:pathLst>
                  <a:path w="144" h="87">
                    <a:moveTo>
                      <a:pt x="144" y="5"/>
                    </a:moveTo>
                    <a:lnTo>
                      <a:pt x="1" y="87"/>
                    </a:lnTo>
                    <a:lnTo>
                      <a:pt x="0" y="81"/>
                    </a:lnTo>
                    <a:lnTo>
                      <a:pt x="141" y="0"/>
                    </a:lnTo>
                    <a:lnTo>
                      <a:pt x="144" y="5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5018040" y="352404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141" h="82">
                    <a:moveTo>
                      <a:pt x="141" y="0"/>
                    </a:moveTo>
                    <a:lnTo>
                      <a:pt x="0" y="82"/>
                    </a:lnTo>
                    <a:lnTo>
                      <a:pt x="0" y="81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5018040" y="3524040"/>
                <a:ext cx="252360" cy="384480"/>
              </a:xfrm>
              <a:custGeom>
                <a:avLst/>
                <a:gdLst/>
                <a:ahLst/>
                <a:rect l="l" t="t" r="r" b="b"/>
                <a:pathLst>
                  <a:path w="793" h="1210">
                    <a:moveTo>
                      <a:pt x="141" y="0"/>
                    </a:moveTo>
                    <a:lnTo>
                      <a:pt x="793" y="1129"/>
                    </a:lnTo>
                    <a:lnTo>
                      <a:pt x="652" y="1210"/>
                    </a:lnTo>
                    <a:lnTo>
                      <a:pt x="93" y="787"/>
                    </a:lnTo>
                    <a:lnTo>
                      <a:pt x="0" y="81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 flipH="1" flipV="1">
                <a:off x="4922280" y="3816000"/>
                <a:ext cx="96840" cy="168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 flipH="1" flipV="1">
                <a:off x="5121000" y="3701880"/>
                <a:ext cx="98280" cy="16848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 flipH="1" flipV="1">
                <a:off x="4984560" y="3830760"/>
                <a:ext cx="60480" cy="1029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 flipH="1" flipV="1">
                <a:off x="5025960" y="380628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 flipH="1" flipV="1">
                <a:off x="5065560" y="3784680"/>
                <a:ext cx="60480" cy="1029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 flipH="1" flipV="1">
                <a:off x="5105160" y="3760560"/>
                <a:ext cx="60480" cy="105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H="1" flipV="1">
                <a:off x="5182920" y="3715920"/>
                <a:ext cx="6012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 flipH="1" flipV="1">
                <a:off x="5224320" y="369216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 flipH="1" flipV="1">
                <a:off x="5263920" y="366984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H="1" flipV="1">
                <a:off x="5303520" y="3646080"/>
                <a:ext cx="6012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 flipH="1" flipV="1">
                <a:off x="5320800" y="3585960"/>
                <a:ext cx="96840" cy="16848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4308480" y="414792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3" y="0"/>
                    </a:moveTo>
                    <a:lnTo>
                      <a:pt x="25" y="5"/>
                    </a:lnTo>
                    <a:lnTo>
                      <a:pt x="0" y="26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4308480" y="414000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46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46" y="9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4316400" y="413388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2" y="51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48" y="13"/>
                    </a:lnTo>
                    <a:lnTo>
                      <a:pt x="2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4322520" y="412596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51" h="55">
                    <a:moveTo>
                      <a:pt x="5" y="55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51" y="18"/>
                    </a:lnTo>
                    <a:lnTo>
                      <a:pt x="5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4329000" y="41194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7" y="58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53" y="21"/>
                    </a:lnTo>
                    <a:lnTo>
                      <a:pt x="7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4335480" y="411156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5" h="63">
                    <a:moveTo>
                      <a:pt x="9" y="63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55" y="25"/>
                    </a:lnTo>
                    <a:lnTo>
                      <a:pt x="9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4341600" y="410508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7" h="67">
                    <a:moveTo>
                      <a:pt x="12" y="67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57" y="29"/>
                    </a:lnTo>
                    <a:lnTo>
                      <a:pt x="12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4348080" y="409716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60" h="70">
                    <a:moveTo>
                      <a:pt x="14" y="70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60" y="32"/>
                    </a:lnTo>
                    <a:lnTo>
                      <a:pt x="14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4354560" y="409104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16" y="74"/>
                    </a:moveTo>
                    <a:lnTo>
                      <a:pt x="0" y="45"/>
                    </a:lnTo>
                    <a:lnTo>
                      <a:pt x="42" y="0"/>
                    </a:lnTo>
                    <a:lnTo>
                      <a:pt x="63" y="36"/>
                    </a:lnTo>
                    <a:lnTo>
                      <a:pt x="16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4360680" y="408312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65" h="78">
                    <a:moveTo>
                      <a:pt x="19" y="78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65" y="41"/>
                    </a:lnTo>
                    <a:lnTo>
                      <a:pt x="19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4368600" y="407520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67" h="83">
                    <a:moveTo>
                      <a:pt x="21" y="83"/>
                    </a:moveTo>
                    <a:lnTo>
                      <a:pt x="0" y="47"/>
                    </a:lnTo>
                    <a:lnTo>
                      <a:pt x="41" y="0"/>
                    </a:lnTo>
                    <a:lnTo>
                      <a:pt x="67" y="47"/>
                    </a:lnTo>
                    <a:lnTo>
                      <a:pt x="21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4375080" y="406872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70" h="87">
                    <a:moveTo>
                      <a:pt x="24" y="87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70" y="50"/>
                    </a:lnTo>
                    <a:lnTo>
                      <a:pt x="24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4381560" y="4060800"/>
                <a:ext cx="21960" cy="30240"/>
              </a:xfrm>
              <a:custGeom>
                <a:avLst/>
                <a:gdLst/>
                <a:ahLst/>
                <a:rect l="l" t="t" r="r" b="b"/>
                <a:pathLst>
                  <a:path w="72" h="92">
                    <a:moveTo>
                      <a:pt x="26" y="92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72" y="54"/>
                    </a:lnTo>
                    <a:lnTo>
                      <a:pt x="26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4387680" y="4054320"/>
                <a:ext cx="23760" cy="30240"/>
              </a:xfrm>
              <a:custGeom>
                <a:avLst/>
                <a:gdLst/>
                <a:ahLst/>
                <a:rect l="l" t="t" r="r" b="b"/>
                <a:pathLst>
                  <a:path w="74" h="96">
                    <a:moveTo>
                      <a:pt x="29" y="96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74" y="58"/>
                    </a:lnTo>
                    <a:lnTo>
                      <a:pt x="29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4394160" y="40464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76" h="100">
                    <a:moveTo>
                      <a:pt x="31" y="100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76" y="62"/>
                    </a:lnTo>
                    <a:lnTo>
                      <a:pt x="31" y="1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4400640" y="4040280"/>
                <a:ext cx="25200" cy="3168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32" y="103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78" y="65"/>
                    </a:lnTo>
                    <a:lnTo>
                      <a:pt x="32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4406760" y="40323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35" y="107"/>
                    </a:moveTo>
                    <a:lnTo>
                      <a:pt x="0" y="45"/>
                    </a:lnTo>
                    <a:lnTo>
                      <a:pt x="40" y="0"/>
                    </a:lnTo>
                    <a:lnTo>
                      <a:pt x="81" y="70"/>
                    </a:lnTo>
                    <a:lnTo>
                      <a:pt x="35" y="1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4413240" y="4024440"/>
                <a:ext cx="27000" cy="36360"/>
              </a:xfrm>
              <a:custGeom>
                <a:avLst/>
                <a:gdLst/>
                <a:ahLst/>
                <a:rect l="l" t="t" r="r" b="b"/>
                <a:pathLst>
                  <a:path w="84" h="111">
                    <a:moveTo>
                      <a:pt x="37" y="111"/>
                    </a:moveTo>
                    <a:lnTo>
                      <a:pt x="0" y="46"/>
                    </a:lnTo>
                    <a:lnTo>
                      <a:pt x="40" y="0"/>
                    </a:lnTo>
                    <a:lnTo>
                      <a:pt x="84" y="74"/>
                    </a:lnTo>
                    <a:lnTo>
                      <a:pt x="37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419360" y="4017960"/>
                <a:ext cx="28800" cy="36360"/>
              </a:xfrm>
              <a:custGeom>
                <a:avLst/>
                <a:gdLst/>
                <a:ahLst/>
                <a:rect l="l" t="t" r="r" b="b"/>
                <a:pathLst>
                  <a:path w="88" h="116">
                    <a:moveTo>
                      <a:pt x="41" y="116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88" y="79"/>
                    </a:lnTo>
                    <a:lnTo>
                      <a:pt x="41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425840" y="401004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89" h="119">
                    <a:moveTo>
                      <a:pt x="44" y="119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89" y="82"/>
                    </a:lnTo>
                    <a:lnTo>
                      <a:pt x="44" y="1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4433760" y="4003560"/>
                <a:ext cx="28440" cy="39600"/>
              </a:xfrm>
              <a:custGeom>
                <a:avLst/>
                <a:gdLst/>
                <a:ahLst/>
                <a:rect l="l" t="t" r="r" b="b"/>
                <a:pathLst>
                  <a:path w="91" h="124">
                    <a:moveTo>
                      <a:pt x="46" y="124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91" y="86"/>
                    </a:lnTo>
                    <a:lnTo>
                      <a:pt x="46" y="1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440240" y="3995640"/>
                <a:ext cx="28440" cy="41400"/>
              </a:xfrm>
              <a:custGeom>
                <a:avLst/>
                <a:gdLst/>
                <a:ahLst/>
                <a:rect l="l" t="t" r="r" b="b"/>
                <a:pathLst>
                  <a:path w="94" h="128">
                    <a:moveTo>
                      <a:pt x="48" y="128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94" y="90"/>
                    </a:lnTo>
                    <a:lnTo>
                      <a:pt x="48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446360" y="3987720"/>
                <a:ext cx="30240" cy="42840"/>
              </a:xfrm>
              <a:custGeom>
                <a:avLst/>
                <a:gdLst/>
                <a:ahLst/>
                <a:rect l="l" t="t" r="r" b="b"/>
                <a:pathLst>
                  <a:path w="96" h="133">
                    <a:moveTo>
                      <a:pt x="50" y="133"/>
                    </a:moveTo>
                    <a:lnTo>
                      <a:pt x="0" y="47"/>
                    </a:lnTo>
                    <a:lnTo>
                      <a:pt x="41" y="0"/>
                    </a:lnTo>
                    <a:lnTo>
                      <a:pt x="96" y="96"/>
                    </a:lnTo>
                    <a:lnTo>
                      <a:pt x="50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452840" y="3981240"/>
                <a:ext cx="31680" cy="43200"/>
              </a:xfrm>
              <a:custGeom>
                <a:avLst/>
                <a:gdLst/>
                <a:ahLst/>
                <a:rect l="l" t="t" r="r" b="b"/>
                <a:pathLst>
                  <a:path w="99" h="136">
                    <a:moveTo>
                      <a:pt x="53" y="136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99" y="99"/>
                    </a:lnTo>
                    <a:lnTo>
                      <a:pt x="53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459320" y="3973320"/>
                <a:ext cx="31680" cy="46080"/>
              </a:xfrm>
              <a:custGeom>
                <a:avLst/>
                <a:gdLst/>
                <a:ahLst/>
                <a:rect l="l" t="t" r="r" b="b"/>
                <a:pathLst>
                  <a:path w="101" h="141">
                    <a:moveTo>
                      <a:pt x="55" y="141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01" y="103"/>
                    </a:lnTo>
                    <a:lnTo>
                      <a:pt x="55" y="1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465440" y="3967200"/>
                <a:ext cx="33480" cy="46080"/>
              </a:xfrm>
              <a:custGeom>
                <a:avLst/>
                <a:gdLst/>
                <a:ahLst/>
                <a:rect l="l" t="t" r="r" b="b"/>
                <a:pathLst>
                  <a:path w="103" h="145">
                    <a:moveTo>
                      <a:pt x="57" y="145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03" y="107"/>
                    </a:lnTo>
                    <a:lnTo>
                      <a:pt x="57" y="1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471920" y="3959280"/>
                <a:ext cx="33480" cy="47520"/>
              </a:xfrm>
              <a:custGeom>
                <a:avLst/>
                <a:gdLst/>
                <a:ahLst/>
                <a:rect l="l" t="t" r="r" b="b"/>
                <a:pathLst>
                  <a:path w="105" h="148">
                    <a:moveTo>
                      <a:pt x="60" y="148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05" y="110"/>
                    </a:lnTo>
                    <a:lnTo>
                      <a:pt x="60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478400" y="3952800"/>
                <a:ext cx="34920" cy="47520"/>
              </a:xfrm>
              <a:custGeom>
                <a:avLst/>
                <a:gdLst/>
                <a:ahLst/>
                <a:rect l="l" t="t" r="r" b="b"/>
                <a:pathLst>
                  <a:path w="107" h="152">
                    <a:moveTo>
                      <a:pt x="62" y="152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07" y="114"/>
                    </a:lnTo>
                    <a:lnTo>
                      <a:pt x="62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484520" y="394488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64" y="156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111" y="119"/>
                    </a:lnTo>
                    <a:lnTo>
                      <a:pt x="64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492440" y="393840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113" h="160">
                    <a:moveTo>
                      <a:pt x="66" y="160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13" y="124"/>
                    </a:lnTo>
                    <a:lnTo>
                      <a:pt x="66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498920" y="3930480"/>
                <a:ext cx="36360" cy="52560"/>
              </a:xfrm>
              <a:custGeom>
                <a:avLst/>
                <a:gdLst/>
                <a:ahLst/>
                <a:rect l="l" t="t" r="r" b="b"/>
                <a:pathLst>
                  <a:path w="115" h="164">
                    <a:moveTo>
                      <a:pt x="69" y="164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15" y="127"/>
                    </a:lnTo>
                    <a:lnTo>
                      <a:pt x="69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505400" y="3924360"/>
                <a:ext cx="36360" cy="52200"/>
              </a:xfrm>
              <a:custGeom>
                <a:avLst/>
                <a:gdLst/>
                <a:ahLst/>
                <a:rect l="l" t="t" r="r" b="b"/>
                <a:pathLst>
                  <a:path w="118" h="169">
                    <a:moveTo>
                      <a:pt x="72" y="169"/>
                    </a:moveTo>
                    <a:lnTo>
                      <a:pt x="0" y="45"/>
                    </a:lnTo>
                    <a:lnTo>
                      <a:pt x="42" y="0"/>
                    </a:lnTo>
                    <a:lnTo>
                      <a:pt x="118" y="131"/>
                    </a:lnTo>
                    <a:lnTo>
                      <a:pt x="7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511520" y="391644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120" h="173">
                    <a:moveTo>
                      <a:pt x="74" y="173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20" y="135"/>
                    </a:lnTo>
                    <a:lnTo>
                      <a:pt x="74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4518000" y="3908520"/>
                <a:ext cx="38160" cy="56880"/>
              </a:xfrm>
              <a:custGeom>
                <a:avLst/>
                <a:gdLst/>
                <a:ahLst/>
                <a:rect l="l" t="t" r="r" b="b"/>
                <a:pathLst>
                  <a:path w="121" h="178">
                    <a:moveTo>
                      <a:pt x="76" y="178"/>
                    </a:moveTo>
                    <a:lnTo>
                      <a:pt x="0" y="47"/>
                    </a:lnTo>
                    <a:lnTo>
                      <a:pt x="41" y="0"/>
                    </a:lnTo>
                    <a:lnTo>
                      <a:pt x="121" y="140"/>
                    </a:lnTo>
                    <a:lnTo>
                      <a:pt x="76" y="1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4524120" y="3902040"/>
                <a:ext cx="39960" cy="57240"/>
              </a:xfrm>
              <a:custGeom>
                <a:avLst/>
                <a:gdLst/>
                <a:ahLst/>
                <a:rect l="l" t="t" r="r" b="b"/>
                <a:pathLst>
                  <a:path w="124" h="181">
                    <a:moveTo>
                      <a:pt x="79" y="181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24" y="143"/>
                    </a:lnTo>
                    <a:lnTo>
                      <a:pt x="7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530600" y="3894120"/>
                <a:ext cx="41400" cy="58680"/>
              </a:xfrm>
              <a:custGeom>
                <a:avLst/>
                <a:gdLst/>
                <a:ahLst/>
                <a:rect l="l" t="t" r="r" b="b"/>
                <a:pathLst>
                  <a:path w="126" h="185">
                    <a:moveTo>
                      <a:pt x="80" y="185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26" y="148"/>
                    </a:lnTo>
                    <a:lnTo>
                      <a:pt x="80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537080" y="3887640"/>
                <a:ext cx="41040" cy="58680"/>
              </a:xfrm>
              <a:custGeom>
                <a:avLst/>
                <a:gdLst/>
                <a:ahLst/>
                <a:rect l="l" t="t" r="r" b="b"/>
                <a:pathLst>
                  <a:path w="129" h="189">
                    <a:moveTo>
                      <a:pt x="83" y="189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129" y="152"/>
                    </a:lnTo>
                    <a:lnTo>
                      <a:pt x="83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545000" y="3879720"/>
                <a:ext cx="60120" cy="82800"/>
              </a:xfrm>
              <a:custGeom>
                <a:avLst/>
                <a:gdLst/>
                <a:ahLst/>
                <a:rect l="l" t="t" r="r" b="b"/>
                <a:pathLst>
                  <a:path w="191" h="262">
                    <a:moveTo>
                      <a:pt x="85" y="194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91" y="262"/>
                    </a:lnTo>
                    <a:lnTo>
                      <a:pt x="125" y="161"/>
                    </a:lnTo>
                    <a:lnTo>
                      <a:pt x="85" y="1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551120" y="3873600"/>
                <a:ext cx="114480" cy="180720"/>
              </a:xfrm>
              <a:custGeom>
                <a:avLst/>
                <a:gdLst/>
                <a:ahLst/>
                <a:rect l="l" t="t" r="r" b="b"/>
                <a:pathLst>
                  <a:path w="362" h="572">
                    <a:moveTo>
                      <a:pt x="87" y="197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310" y="466"/>
                    </a:lnTo>
                    <a:lnTo>
                      <a:pt x="362" y="572"/>
                    </a:lnTo>
                    <a:lnTo>
                      <a:pt x="104" y="183"/>
                    </a:lnTo>
                    <a:lnTo>
                      <a:pt x="87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557600" y="3867120"/>
                <a:ext cx="108000" cy="187200"/>
              </a:xfrm>
              <a:custGeom>
                <a:avLst/>
                <a:gdLst/>
                <a:ahLst/>
                <a:rect l="l" t="t" r="r" b="b"/>
                <a:pathLst>
                  <a:path w="342" h="591">
                    <a:moveTo>
                      <a:pt x="150" y="303"/>
                    </a:moveTo>
                    <a:lnTo>
                      <a:pt x="0" y="41"/>
                    </a:lnTo>
                    <a:lnTo>
                      <a:pt x="31" y="8"/>
                    </a:lnTo>
                    <a:lnTo>
                      <a:pt x="44" y="0"/>
                    </a:lnTo>
                    <a:lnTo>
                      <a:pt x="135" y="158"/>
                    </a:lnTo>
                    <a:lnTo>
                      <a:pt x="129" y="161"/>
                    </a:lnTo>
                    <a:lnTo>
                      <a:pt x="342" y="591"/>
                    </a:lnTo>
                    <a:lnTo>
                      <a:pt x="150" y="3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564080" y="3862440"/>
                <a:ext cx="85680" cy="158760"/>
              </a:xfrm>
              <a:custGeom>
                <a:avLst/>
                <a:gdLst/>
                <a:ahLst/>
                <a:rect l="l" t="t" r="r" b="b"/>
                <a:pathLst>
                  <a:path w="269" h="500">
                    <a:moveTo>
                      <a:pt x="269" y="500"/>
                    </a:moveTo>
                    <a:lnTo>
                      <a:pt x="0" y="34"/>
                    </a:lnTo>
                    <a:lnTo>
                      <a:pt x="10" y="23"/>
                    </a:lnTo>
                    <a:lnTo>
                      <a:pt x="48" y="0"/>
                    </a:lnTo>
                    <a:lnTo>
                      <a:pt x="139" y="158"/>
                    </a:lnTo>
                    <a:lnTo>
                      <a:pt x="108" y="176"/>
                    </a:lnTo>
                    <a:lnTo>
                      <a:pt x="269" y="5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572000" y="3857400"/>
                <a:ext cx="44280" cy="5904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1" y="187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1" y="157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579920" y="3852720"/>
                <a:ext cx="44280" cy="5868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1" y="187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1" y="158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587840" y="3848040"/>
                <a:ext cx="44280" cy="5868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0" y="187"/>
                    </a:moveTo>
                    <a:lnTo>
                      <a:pt x="0" y="30"/>
                    </a:lnTo>
                    <a:lnTo>
                      <a:pt x="50" y="0"/>
                    </a:lnTo>
                    <a:lnTo>
                      <a:pt x="141" y="158"/>
                    </a:lnTo>
                    <a:lnTo>
                      <a:pt x="90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595760" y="3843360"/>
                <a:ext cx="44280" cy="60120"/>
              </a:xfrm>
              <a:custGeom>
                <a:avLst/>
                <a:gdLst/>
                <a:ahLst/>
                <a:rect l="l" t="t" r="r" b="b"/>
                <a:pathLst>
                  <a:path w="142" h="187">
                    <a:moveTo>
                      <a:pt x="90" y="187"/>
                    </a:moveTo>
                    <a:lnTo>
                      <a:pt x="0" y="29"/>
                    </a:lnTo>
                    <a:lnTo>
                      <a:pt x="50" y="0"/>
                    </a:lnTo>
                    <a:lnTo>
                      <a:pt x="142" y="157"/>
                    </a:lnTo>
                    <a:lnTo>
                      <a:pt x="90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603680" y="3838680"/>
                <a:ext cx="44280" cy="60120"/>
              </a:xfrm>
              <a:custGeom>
                <a:avLst/>
                <a:gdLst/>
                <a:ahLst/>
                <a:rect l="l" t="t" r="r" b="b"/>
                <a:pathLst>
                  <a:path w="142" h="187">
                    <a:moveTo>
                      <a:pt x="91" y="187"/>
                    </a:moveTo>
                    <a:lnTo>
                      <a:pt x="0" y="29"/>
                    </a:lnTo>
                    <a:lnTo>
                      <a:pt x="50" y="0"/>
                    </a:lnTo>
                    <a:lnTo>
                      <a:pt x="142" y="157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611600" y="3833640"/>
                <a:ext cx="44280" cy="60480"/>
              </a:xfrm>
              <a:custGeom>
                <a:avLst/>
                <a:gdLst/>
                <a:ahLst/>
                <a:rect l="l" t="t" r="r" b="b"/>
                <a:pathLst>
                  <a:path w="142" h="186">
                    <a:moveTo>
                      <a:pt x="92" y="186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2" y="157"/>
                    </a:lnTo>
                    <a:lnTo>
                      <a:pt x="92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619520" y="3830760"/>
                <a:ext cx="44640" cy="58680"/>
              </a:xfrm>
              <a:custGeom>
                <a:avLst/>
                <a:gdLst/>
                <a:ahLst/>
                <a:rect l="l" t="t" r="r" b="b"/>
                <a:pathLst>
                  <a:path w="142" h="185">
                    <a:moveTo>
                      <a:pt x="92" y="185"/>
                    </a:moveTo>
                    <a:lnTo>
                      <a:pt x="0" y="28"/>
                    </a:lnTo>
                    <a:lnTo>
                      <a:pt x="52" y="0"/>
                    </a:lnTo>
                    <a:lnTo>
                      <a:pt x="142" y="156"/>
                    </a:lnTo>
                    <a:lnTo>
                      <a:pt x="92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627440" y="3825720"/>
                <a:ext cx="44640" cy="58680"/>
              </a:xfrm>
              <a:custGeom>
                <a:avLst/>
                <a:gdLst/>
                <a:ahLst/>
                <a:rect l="l" t="t" r="r" b="b"/>
                <a:pathLst>
                  <a:path w="141" h="186">
                    <a:moveTo>
                      <a:pt x="91" y="186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1" y="156"/>
                    </a:lnTo>
                    <a:lnTo>
                      <a:pt x="91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635360" y="3821040"/>
                <a:ext cx="44640" cy="58680"/>
              </a:xfrm>
              <a:custGeom>
                <a:avLst/>
                <a:gdLst/>
                <a:ahLst/>
                <a:rect l="l" t="t" r="r" b="b"/>
                <a:pathLst>
                  <a:path w="141" h="186">
                    <a:moveTo>
                      <a:pt x="90" y="186"/>
                    </a:moveTo>
                    <a:lnTo>
                      <a:pt x="0" y="30"/>
                    </a:lnTo>
                    <a:lnTo>
                      <a:pt x="50" y="0"/>
                    </a:lnTo>
                    <a:lnTo>
                      <a:pt x="141" y="157"/>
                    </a:lnTo>
                    <a:lnTo>
                      <a:pt x="90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643280" y="3816360"/>
                <a:ext cx="44640" cy="58680"/>
              </a:xfrm>
              <a:custGeom>
                <a:avLst/>
                <a:gdLst/>
                <a:ahLst/>
                <a:rect l="l" t="t" r="r" b="b"/>
                <a:pathLst>
                  <a:path w="141" h="185">
                    <a:moveTo>
                      <a:pt x="90" y="185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1" y="157"/>
                    </a:lnTo>
                    <a:lnTo>
                      <a:pt x="90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651200" y="3811680"/>
                <a:ext cx="46080" cy="58680"/>
              </a:xfrm>
              <a:custGeom>
                <a:avLst/>
                <a:gdLst/>
                <a:ahLst/>
                <a:rect l="l" t="t" r="r" b="b"/>
                <a:pathLst>
                  <a:path w="142" h="186">
                    <a:moveTo>
                      <a:pt x="91" y="186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2" y="157"/>
                    </a:lnTo>
                    <a:lnTo>
                      <a:pt x="91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659120" y="3806640"/>
                <a:ext cx="46080" cy="5904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0" y="187"/>
                    </a:moveTo>
                    <a:lnTo>
                      <a:pt x="0" y="30"/>
                    </a:lnTo>
                    <a:lnTo>
                      <a:pt x="50" y="0"/>
                    </a:lnTo>
                    <a:lnTo>
                      <a:pt x="141" y="158"/>
                    </a:lnTo>
                    <a:lnTo>
                      <a:pt x="90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667040" y="3801960"/>
                <a:ext cx="46080" cy="5868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1" y="187"/>
                    </a:moveTo>
                    <a:lnTo>
                      <a:pt x="0" y="30"/>
                    </a:lnTo>
                    <a:lnTo>
                      <a:pt x="50" y="0"/>
                    </a:lnTo>
                    <a:lnTo>
                      <a:pt x="141" y="158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674960" y="3797280"/>
                <a:ext cx="46080" cy="58680"/>
              </a:xfrm>
              <a:custGeom>
                <a:avLst/>
                <a:gdLst/>
                <a:ahLst/>
                <a:rect l="l" t="t" r="r" b="b"/>
                <a:pathLst>
                  <a:path w="142" h="187">
                    <a:moveTo>
                      <a:pt x="91" y="187"/>
                    </a:moveTo>
                    <a:lnTo>
                      <a:pt x="0" y="29"/>
                    </a:lnTo>
                    <a:lnTo>
                      <a:pt x="50" y="0"/>
                    </a:lnTo>
                    <a:lnTo>
                      <a:pt x="142" y="157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7" name=""/>
            <p:cNvSpPr/>
            <p:nvPr/>
          </p:nvSpPr>
          <p:spPr>
            <a:xfrm>
              <a:off x="4682880" y="379260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4690800" y="3787560"/>
              <a:ext cx="460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4700520" y="3782880"/>
              <a:ext cx="44280" cy="6048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0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4708440" y="3778200"/>
              <a:ext cx="44280" cy="6048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0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4716360" y="3773520"/>
              <a:ext cx="44640" cy="6012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0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4724280" y="37702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5">
                  <a:moveTo>
                    <a:pt x="90" y="185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6"/>
                  </a:lnTo>
                  <a:lnTo>
                    <a:pt x="90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4732200" y="37656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4740120" y="376056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4748040" y="37558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755960" y="37512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763880" y="37465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771800" y="374184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779720" y="3736800"/>
              <a:ext cx="44640" cy="5904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0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4787640" y="373212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4795920" y="3727440"/>
              <a:ext cx="4572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4803840" y="3722760"/>
              <a:ext cx="4572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2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4811760" y="371772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4821120" y="3713040"/>
              <a:ext cx="44640" cy="604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4829040" y="3709800"/>
              <a:ext cx="44640" cy="59040"/>
            </a:xfrm>
            <a:custGeom>
              <a:avLst/>
              <a:gdLst/>
              <a:ahLst/>
              <a:rect l="l" t="t" r="r" b="b"/>
              <a:pathLst>
                <a:path w="142" h="185">
                  <a:moveTo>
                    <a:pt x="91" y="185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4836960" y="37051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4844880" y="370044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4852800" y="369576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4860720" y="369072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4868640" y="368604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4876560" y="36813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4884480" y="36766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4892760" y="367200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4900680" y="366696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4908600" y="366228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0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4916520" y="3657600"/>
              <a:ext cx="46080" cy="601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924440" y="365292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4933800" y="3647880"/>
              <a:ext cx="44640" cy="604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0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4941720" y="36450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949640" y="3639960"/>
              <a:ext cx="4464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4957560" y="36352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4965480" y="36306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4973400" y="362592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4981320" y="362088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4989600" y="361620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0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4997520" y="361152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5005440" y="360684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5013360" y="360216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5021280" y="359712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5029200" y="359244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5037120" y="358776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5045040" y="358452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5054400" y="3579840"/>
              <a:ext cx="44640" cy="5868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0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5062320" y="35751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5070240" y="35701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5078160" y="356544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5086440" y="356076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5094360" y="355608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5102280" y="3551040"/>
              <a:ext cx="442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5110200" y="354636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5118120" y="354168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5126040" y="3537000"/>
              <a:ext cx="44280" cy="601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5133960" y="353196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5141880" y="352728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5149800" y="3524040"/>
              <a:ext cx="460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5157720" y="351936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5165640" y="351468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5173560" y="351000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5181480" y="350532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5191200" y="350028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5199120" y="349560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5207040" y="349092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5214960" y="348624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5222880" y="3481200"/>
              <a:ext cx="442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5230800" y="347652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5238720" y="347184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5246640" y="3467160"/>
              <a:ext cx="44280" cy="601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5254560" y="346392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5262480" y="345924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5270400" y="3454200"/>
              <a:ext cx="460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5278320" y="344952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5286240" y="344484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5294160" y="344016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5302080" y="343548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5310000" y="343044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5319720" y="342576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5327640" y="342108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0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5335560" y="341640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0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5343480" y="341136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5351400" y="340668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5359320" y="340344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367240" y="33987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5375160" y="33940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5383080" y="33894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5391000" y="3384360"/>
              <a:ext cx="46080" cy="5904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5398920" y="337968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5406840" y="337500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5414760" y="337032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5422680" y="336528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5430600" y="336060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5440320" y="3355920"/>
              <a:ext cx="44280" cy="604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5448240" y="335124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5456160" y="334656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5464080" y="3343320"/>
              <a:ext cx="44640" cy="58680"/>
            </a:xfrm>
            <a:custGeom>
              <a:avLst/>
              <a:gdLst/>
              <a:ahLst/>
              <a:rect l="l" t="t" r="r" b="b"/>
              <a:pathLst>
                <a:path w="143" h="186">
                  <a:moveTo>
                    <a:pt x="92" y="186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7"/>
                  </a:lnTo>
                  <a:lnTo>
                    <a:pt x="92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5472000" y="333864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5479920" y="333360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5487840" y="33289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5495760" y="332424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5503680" y="33195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5511600" y="331452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5519520" y="3309840"/>
              <a:ext cx="44640" cy="604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5527440" y="3305160"/>
              <a:ext cx="46080" cy="6012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1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3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5535360" y="330048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0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5543640" y="3295440"/>
              <a:ext cx="4572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5553000" y="3290760"/>
              <a:ext cx="44280" cy="604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5560920" y="328608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5568840" y="3281400"/>
              <a:ext cx="4464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5576760" y="32781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5584680" y="32734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5592600" y="326844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5600520" y="3263760"/>
              <a:ext cx="44640" cy="586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3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5608440" y="32590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0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5616360" y="32544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5624280" y="3249720"/>
              <a:ext cx="4464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5632200" y="3244680"/>
              <a:ext cx="44640" cy="604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5640480" y="3240000"/>
              <a:ext cx="4572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5648400" y="3235320"/>
              <a:ext cx="4572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5656320" y="3230640"/>
              <a:ext cx="4572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5664240" y="3225600"/>
              <a:ext cx="46080" cy="604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2" y="187"/>
                  </a:moveTo>
                  <a:lnTo>
                    <a:pt x="0" y="28"/>
                  </a:lnTo>
                  <a:lnTo>
                    <a:pt x="52" y="0"/>
                  </a:lnTo>
                  <a:lnTo>
                    <a:pt x="143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5672160" y="322092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5681520" y="3217680"/>
              <a:ext cx="4464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5689440" y="32130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5697360" y="32083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5705280" y="320364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5713200" y="319860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5721120" y="31939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5729040" y="3189240"/>
              <a:ext cx="44640" cy="586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1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5737320" y="3184560"/>
              <a:ext cx="44280" cy="6012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2" y="188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5745240" y="3179880"/>
              <a:ext cx="44280" cy="6012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5753160" y="3174840"/>
              <a:ext cx="4572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5761080" y="317016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5769000" y="316548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5776920" y="316080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5784840" y="315756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5792760" y="315288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5800680" y="3147840"/>
              <a:ext cx="46080" cy="5904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1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3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5808600" y="3143160"/>
              <a:ext cx="46080" cy="5868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2" y="188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5817960" y="31384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5825880" y="313380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833800" y="3128760"/>
              <a:ext cx="44640" cy="5904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5842080" y="312408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5850000" y="311940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5857920" y="311472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5865840" y="311004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5873760" y="3105000"/>
              <a:ext cx="46080" cy="604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1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3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5881680" y="3100320"/>
              <a:ext cx="46080" cy="604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2" y="187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143" y="159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5889600" y="309708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5897520" y="309240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5905440" y="308772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5913360" y="308304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5921280" y="307800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5929200" y="3073320"/>
              <a:ext cx="46080" cy="5868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3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5938920" y="306864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946840" y="3063960"/>
              <a:ext cx="44280" cy="6012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3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954760" y="3058920"/>
              <a:ext cx="54000" cy="66960"/>
            </a:xfrm>
            <a:custGeom>
              <a:avLst/>
              <a:gdLst/>
              <a:ahLst/>
              <a:rect l="l" t="t" r="r" b="b"/>
              <a:pathLst>
                <a:path w="172" h="212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72" y="212"/>
                  </a:lnTo>
                  <a:lnTo>
                    <a:pt x="129" y="166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5962680" y="3054240"/>
              <a:ext cx="74520" cy="103320"/>
            </a:xfrm>
            <a:custGeom>
              <a:avLst/>
              <a:gdLst/>
              <a:ahLst/>
              <a:rect l="l" t="t" r="r" b="b"/>
              <a:pathLst>
                <a:path w="236" h="323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236" y="323"/>
                  </a:lnTo>
                  <a:lnTo>
                    <a:pt x="104" y="181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5970600" y="3049560"/>
              <a:ext cx="85680" cy="127080"/>
            </a:xfrm>
            <a:custGeom>
              <a:avLst/>
              <a:gdLst/>
              <a:ahLst/>
              <a:rect l="l" t="t" r="r" b="b"/>
              <a:pathLst>
                <a:path w="270" h="400">
                  <a:moveTo>
                    <a:pt x="122" y="240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238" y="323"/>
                  </a:lnTo>
                  <a:lnTo>
                    <a:pt x="270" y="400"/>
                  </a:lnTo>
                  <a:lnTo>
                    <a:pt x="122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5978520" y="3044880"/>
              <a:ext cx="77760" cy="131760"/>
            </a:xfrm>
            <a:custGeom>
              <a:avLst/>
              <a:gdLst/>
              <a:ahLst/>
              <a:rect l="l" t="t" r="r" b="b"/>
              <a:pathLst>
                <a:path w="244" h="419">
                  <a:moveTo>
                    <a:pt x="185" y="355"/>
                  </a:moveTo>
                  <a:lnTo>
                    <a:pt x="0" y="32"/>
                  </a:lnTo>
                  <a:lnTo>
                    <a:pt x="45" y="7"/>
                  </a:lnTo>
                  <a:lnTo>
                    <a:pt x="48" y="0"/>
                  </a:lnTo>
                  <a:lnTo>
                    <a:pt x="138" y="156"/>
                  </a:lnTo>
                  <a:lnTo>
                    <a:pt x="135" y="164"/>
                  </a:lnTo>
                  <a:lnTo>
                    <a:pt x="244" y="419"/>
                  </a:lnTo>
                  <a:lnTo>
                    <a:pt x="185" y="3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5986440" y="3033720"/>
              <a:ext cx="58680" cy="119160"/>
            </a:xfrm>
            <a:custGeom>
              <a:avLst/>
              <a:gdLst/>
              <a:ahLst/>
              <a:rect l="l" t="t" r="r" b="b"/>
              <a:pathLst>
                <a:path w="187" h="376">
                  <a:moveTo>
                    <a:pt x="187" y="376"/>
                  </a:moveTo>
                  <a:lnTo>
                    <a:pt x="0" y="53"/>
                  </a:lnTo>
                  <a:lnTo>
                    <a:pt x="20" y="41"/>
                  </a:lnTo>
                  <a:lnTo>
                    <a:pt x="38" y="0"/>
                  </a:lnTo>
                  <a:lnTo>
                    <a:pt x="129" y="159"/>
                  </a:lnTo>
                  <a:lnTo>
                    <a:pt x="110" y="198"/>
                  </a:lnTo>
                  <a:lnTo>
                    <a:pt x="187" y="3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994360" y="3022560"/>
              <a:ext cx="38160" cy="71280"/>
            </a:xfrm>
            <a:custGeom>
              <a:avLst/>
              <a:gdLst/>
              <a:ahLst/>
              <a:rect l="l" t="t" r="r" b="b"/>
              <a:pathLst>
                <a:path w="121" h="222">
                  <a:moveTo>
                    <a:pt x="90" y="222"/>
                  </a:moveTo>
                  <a:lnTo>
                    <a:pt x="0" y="66"/>
                  </a:lnTo>
                  <a:lnTo>
                    <a:pt x="29" y="0"/>
                  </a:lnTo>
                  <a:lnTo>
                    <a:pt x="121" y="158"/>
                  </a:lnTo>
                  <a:lnTo>
                    <a:pt x="90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5999040" y="3013200"/>
              <a:ext cx="38160" cy="71280"/>
            </a:xfrm>
            <a:custGeom>
              <a:avLst/>
              <a:gdLst/>
              <a:ahLst/>
              <a:rect l="l" t="t" r="r" b="b"/>
              <a:pathLst>
                <a:path w="121" h="224">
                  <a:moveTo>
                    <a:pt x="91" y="224"/>
                  </a:moveTo>
                  <a:lnTo>
                    <a:pt x="0" y="65"/>
                  </a:lnTo>
                  <a:lnTo>
                    <a:pt x="29" y="0"/>
                  </a:lnTo>
                  <a:lnTo>
                    <a:pt x="121" y="159"/>
                  </a:lnTo>
                  <a:lnTo>
                    <a:pt x="91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002280" y="3002040"/>
              <a:ext cx="39600" cy="71280"/>
            </a:xfrm>
            <a:custGeom>
              <a:avLst/>
              <a:gdLst/>
              <a:ahLst/>
              <a:rect l="l" t="t" r="r" b="b"/>
              <a:pathLst>
                <a:path w="122" h="223">
                  <a:moveTo>
                    <a:pt x="92" y="223"/>
                  </a:moveTo>
                  <a:lnTo>
                    <a:pt x="0" y="65"/>
                  </a:lnTo>
                  <a:lnTo>
                    <a:pt x="30" y="0"/>
                  </a:lnTo>
                  <a:lnTo>
                    <a:pt x="122" y="159"/>
                  </a:lnTo>
                  <a:lnTo>
                    <a:pt x="92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006960" y="2992320"/>
              <a:ext cx="39600" cy="71640"/>
            </a:xfrm>
            <a:custGeom>
              <a:avLst/>
              <a:gdLst/>
              <a:ahLst/>
              <a:rect l="l" t="t" r="r" b="b"/>
              <a:pathLst>
                <a:path w="123" h="225">
                  <a:moveTo>
                    <a:pt x="92" y="225"/>
                  </a:moveTo>
                  <a:lnTo>
                    <a:pt x="0" y="66"/>
                  </a:lnTo>
                  <a:lnTo>
                    <a:pt x="29" y="0"/>
                  </a:lnTo>
                  <a:lnTo>
                    <a:pt x="123" y="161"/>
                  </a:lnTo>
                  <a:lnTo>
                    <a:pt x="92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6011640" y="2981160"/>
              <a:ext cx="39960" cy="71640"/>
            </a:xfrm>
            <a:custGeom>
              <a:avLst/>
              <a:gdLst/>
              <a:ahLst/>
              <a:rect l="l" t="t" r="r" b="b"/>
              <a:pathLst>
                <a:path w="123" h="226">
                  <a:moveTo>
                    <a:pt x="92" y="226"/>
                  </a:moveTo>
                  <a:lnTo>
                    <a:pt x="0" y="67"/>
                  </a:lnTo>
                  <a:lnTo>
                    <a:pt x="29" y="0"/>
                  </a:lnTo>
                  <a:lnTo>
                    <a:pt x="123" y="161"/>
                  </a:lnTo>
                  <a:lnTo>
                    <a:pt x="92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6016680" y="2971800"/>
              <a:ext cx="39600" cy="71280"/>
            </a:xfrm>
            <a:custGeom>
              <a:avLst/>
              <a:gdLst/>
              <a:ahLst/>
              <a:rect l="l" t="t" r="r" b="b"/>
              <a:pathLst>
                <a:path w="123" h="226">
                  <a:moveTo>
                    <a:pt x="94" y="226"/>
                  </a:moveTo>
                  <a:lnTo>
                    <a:pt x="0" y="65"/>
                  </a:lnTo>
                  <a:lnTo>
                    <a:pt x="30" y="0"/>
                  </a:lnTo>
                  <a:lnTo>
                    <a:pt x="123" y="162"/>
                  </a:lnTo>
                  <a:lnTo>
                    <a:pt x="94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6021360" y="2960640"/>
              <a:ext cx="39600" cy="71280"/>
            </a:xfrm>
            <a:custGeom>
              <a:avLst/>
              <a:gdLst/>
              <a:ahLst/>
              <a:rect l="l" t="t" r="r" b="b"/>
              <a:pathLst>
                <a:path w="124" h="227">
                  <a:moveTo>
                    <a:pt x="94" y="227"/>
                  </a:moveTo>
                  <a:lnTo>
                    <a:pt x="0" y="66"/>
                  </a:lnTo>
                  <a:lnTo>
                    <a:pt x="29" y="0"/>
                  </a:lnTo>
                  <a:lnTo>
                    <a:pt x="124" y="163"/>
                  </a:lnTo>
                  <a:lnTo>
                    <a:pt x="94" y="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6026040" y="2949480"/>
              <a:ext cx="42840" cy="73080"/>
            </a:xfrm>
            <a:custGeom>
              <a:avLst/>
              <a:gdLst/>
              <a:ahLst/>
              <a:rect l="l" t="t" r="r" b="b"/>
              <a:pathLst>
                <a:path w="134" h="228">
                  <a:moveTo>
                    <a:pt x="93" y="228"/>
                  </a:moveTo>
                  <a:lnTo>
                    <a:pt x="0" y="66"/>
                  </a:lnTo>
                  <a:lnTo>
                    <a:pt x="30" y="0"/>
                  </a:lnTo>
                  <a:lnTo>
                    <a:pt x="134" y="180"/>
                  </a:lnTo>
                  <a:lnTo>
                    <a:pt x="109" y="194"/>
                  </a:lnTo>
                  <a:lnTo>
                    <a:pt x="93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6030720" y="2940120"/>
              <a:ext cx="46080" cy="71280"/>
            </a:xfrm>
            <a:custGeom>
              <a:avLst/>
              <a:gdLst/>
              <a:ahLst/>
              <a:rect l="l" t="t" r="r" b="b"/>
              <a:pathLst>
                <a:path w="145" h="228">
                  <a:moveTo>
                    <a:pt x="95" y="228"/>
                  </a:moveTo>
                  <a:lnTo>
                    <a:pt x="0" y="65"/>
                  </a:lnTo>
                  <a:lnTo>
                    <a:pt x="31" y="0"/>
                  </a:lnTo>
                  <a:lnTo>
                    <a:pt x="145" y="199"/>
                  </a:lnTo>
                  <a:lnTo>
                    <a:pt x="95" y="227"/>
                  </a:lnTo>
                  <a:lnTo>
                    <a:pt x="95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6035760" y="2932200"/>
              <a:ext cx="48960" cy="74520"/>
            </a:xfrm>
            <a:custGeom>
              <a:avLst/>
              <a:gdLst/>
              <a:ahLst/>
              <a:rect l="l" t="t" r="r" b="b"/>
              <a:pathLst>
                <a:path w="155" h="237">
                  <a:moveTo>
                    <a:pt x="104" y="237"/>
                  </a:moveTo>
                  <a:lnTo>
                    <a:pt x="0" y="57"/>
                  </a:lnTo>
                  <a:lnTo>
                    <a:pt x="22" y="7"/>
                  </a:lnTo>
                  <a:lnTo>
                    <a:pt x="35" y="0"/>
                  </a:lnTo>
                  <a:lnTo>
                    <a:pt x="155" y="208"/>
                  </a:lnTo>
                  <a:lnTo>
                    <a:pt x="104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6040440" y="2927160"/>
              <a:ext cx="52200" cy="7632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114" y="238"/>
                  </a:moveTo>
                  <a:lnTo>
                    <a:pt x="0" y="39"/>
                  </a:lnTo>
                  <a:lnTo>
                    <a:pt x="7" y="22"/>
                  </a:lnTo>
                  <a:lnTo>
                    <a:pt x="45" y="0"/>
                  </a:lnTo>
                  <a:lnTo>
                    <a:pt x="165" y="208"/>
                  </a:lnTo>
                  <a:lnTo>
                    <a:pt x="114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6046560" y="2922480"/>
              <a:ext cx="238320" cy="384120"/>
            </a:xfrm>
            <a:custGeom>
              <a:avLst/>
              <a:gdLst/>
              <a:ahLst/>
              <a:rect l="l" t="t" r="r" b="b"/>
              <a:pathLst>
                <a:path w="749" h="1209">
                  <a:moveTo>
                    <a:pt x="120" y="23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82" y="227"/>
                  </a:lnTo>
                  <a:lnTo>
                    <a:pt x="169" y="207"/>
                  </a:lnTo>
                  <a:lnTo>
                    <a:pt x="120" y="237"/>
                  </a:lnTo>
                  <a:close/>
                  <a:moveTo>
                    <a:pt x="739" y="1193"/>
                  </a:moveTo>
                  <a:lnTo>
                    <a:pt x="749" y="1208"/>
                  </a:lnTo>
                  <a:lnTo>
                    <a:pt x="748" y="1209"/>
                  </a:lnTo>
                  <a:lnTo>
                    <a:pt x="748" y="1209"/>
                  </a:lnTo>
                  <a:lnTo>
                    <a:pt x="739" y="11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054480" y="2917800"/>
              <a:ext cx="236520" cy="388800"/>
            </a:xfrm>
            <a:custGeom>
              <a:avLst/>
              <a:gdLst/>
              <a:ahLst/>
              <a:rect l="l" t="t" r="r" b="b"/>
              <a:pathLst>
                <a:path w="746" h="1224">
                  <a:moveTo>
                    <a:pt x="120" y="237"/>
                  </a:moveTo>
                  <a:lnTo>
                    <a:pt x="0" y="29"/>
                  </a:lnTo>
                  <a:lnTo>
                    <a:pt x="38" y="7"/>
                  </a:lnTo>
                  <a:lnTo>
                    <a:pt x="50" y="0"/>
                  </a:lnTo>
                  <a:lnTo>
                    <a:pt x="746" y="1203"/>
                  </a:lnTo>
                  <a:lnTo>
                    <a:pt x="723" y="1224"/>
                  </a:lnTo>
                  <a:lnTo>
                    <a:pt x="723" y="1224"/>
                  </a:lnTo>
                  <a:lnTo>
                    <a:pt x="564" y="917"/>
                  </a:lnTo>
                  <a:lnTo>
                    <a:pt x="382" y="602"/>
                  </a:lnTo>
                  <a:lnTo>
                    <a:pt x="144" y="222"/>
                  </a:lnTo>
                  <a:lnTo>
                    <a:pt x="120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062400" y="2914560"/>
              <a:ext cx="233640" cy="392040"/>
            </a:xfrm>
            <a:custGeom>
              <a:avLst/>
              <a:gdLst/>
              <a:ahLst/>
              <a:rect l="l" t="t" r="r" b="b"/>
              <a:pathLst>
                <a:path w="733" h="1232">
                  <a:moveTo>
                    <a:pt x="699" y="1232"/>
                  </a:moveTo>
                  <a:lnTo>
                    <a:pt x="689" y="1217"/>
                  </a:lnTo>
                  <a:lnTo>
                    <a:pt x="539" y="926"/>
                  </a:lnTo>
                  <a:lnTo>
                    <a:pt x="357" y="611"/>
                  </a:lnTo>
                  <a:lnTo>
                    <a:pt x="132" y="251"/>
                  </a:lnTo>
                  <a:lnTo>
                    <a:pt x="0" y="24"/>
                  </a:lnTo>
                  <a:lnTo>
                    <a:pt x="38" y="2"/>
                  </a:lnTo>
                  <a:lnTo>
                    <a:pt x="41" y="0"/>
                  </a:lnTo>
                  <a:lnTo>
                    <a:pt x="140" y="149"/>
                  </a:lnTo>
                  <a:lnTo>
                    <a:pt x="657" y="1043"/>
                  </a:lnTo>
                  <a:lnTo>
                    <a:pt x="733" y="1200"/>
                  </a:lnTo>
                  <a:lnTo>
                    <a:pt x="699" y="1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6070680" y="2914560"/>
              <a:ext cx="225360" cy="385920"/>
            </a:xfrm>
            <a:custGeom>
              <a:avLst/>
              <a:gdLst/>
              <a:ahLst/>
              <a:rect l="l" t="t" r="r" b="b"/>
              <a:pathLst>
                <a:path w="708" h="1212">
                  <a:moveTo>
                    <a:pt x="696" y="1212"/>
                  </a:moveTo>
                  <a:lnTo>
                    <a:pt x="0" y="9"/>
                  </a:lnTo>
                  <a:lnTo>
                    <a:pt x="16" y="0"/>
                  </a:lnTo>
                  <a:lnTo>
                    <a:pt x="212" y="293"/>
                  </a:lnTo>
                  <a:lnTo>
                    <a:pt x="392" y="587"/>
                  </a:lnTo>
                  <a:lnTo>
                    <a:pt x="556" y="890"/>
                  </a:lnTo>
                  <a:lnTo>
                    <a:pt x="708" y="1200"/>
                  </a:lnTo>
                  <a:lnTo>
                    <a:pt x="696" y="1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107040" y="2962080"/>
              <a:ext cx="165240" cy="284400"/>
            </a:xfrm>
            <a:custGeom>
              <a:avLst/>
              <a:gdLst/>
              <a:ahLst/>
              <a:rect l="l" t="t" r="r" b="b"/>
              <a:pathLst>
                <a:path w="517" h="894">
                  <a:moveTo>
                    <a:pt x="517" y="894"/>
                  </a:moveTo>
                  <a:lnTo>
                    <a:pt x="0" y="0"/>
                  </a:lnTo>
                  <a:lnTo>
                    <a:pt x="97" y="144"/>
                  </a:lnTo>
                  <a:lnTo>
                    <a:pt x="277" y="438"/>
                  </a:lnTo>
                  <a:lnTo>
                    <a:pt x="441" y="741"/>
                  </a:lnTo>
                  <a:lnTo>
                    <a:pt x="517" y="8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4308480" y="2914560"/>
              <a:ext cx="1987560" cy="1241640"/>
            </a:xfrm>
            <a:custGeom>
              <a:avLst/>
              <a:gdLst/>
              <a:ahLst/>
              <a:rect l="l" t="t" r="r" b="b"/>
              <a:pathLst>
                <a:path w="6259" h="3909">
                  <a:moveTo>
                    <a:pt x="5567" y="0"/>
                  </a:moveTo>
                  <a:lnTo>
                    <a:pt x="5763" y="293"/>
                  </a:lnTo>
                  <a:lnTo>
                    <a:pt x="5943" y="587"/>
                  </a:lnTo>
                  <a:lnTo>
                    <a:pt x="6107" y="890"/>
                  </a:lnTo>
                  <a:lnTo>
                    <a:pt x="6259" y="1200"/>
                  </a:lnTo>
                  <a:lnTo>
                    <a:pt x="6224" y="1233"/>
                  </a:lnTo>
                  <a:lnTo>
                    <a:pt x="6065" y="926"/>
                  </a:lnTo>
                  <a:lnTo>
                    <a:pt x="5883" y="611"/>
                  </a:lnTo>
                  <a:lnTo>
                    <a:pt x="5645" y="231"/>
                  </a:lnTo>
                  <a:lnTo>
                    <a:pt x="5520" y="304"/>
                  </a:lnTo>
                  <a:lnTo>
                    <a:pt x="5395" y="570"/>
                  </a:lnTo>
                  <a:lnTo>
                    <a:pt x="5504" y="825"/>
                  </a:lnTo>
                  <a:lnTo>
                    <a:pt x="5313" y="619"/>
                  </a:lnTo>
                  <a:lnTo>
                    <a:pt x="913" y="3158"/>
                  </a:lnTo>
                  <a:lnTo>
                    <a:pt x="1126" y="3588"/>
                  </a:lnTo>
                  <a:lnTo>
                    <a:pt x="868" y="3199"/>
                  </a:lnTo>
                  <a:lnTo>
                    <a:pt x="0" y="3909"/>
                  </a:lnTo>
                  <a:lnTo>
                    <a:pt x="815" y="3005"/>
                  </a:lnTo>
                  <a:lnTo>
                    <a:pt x="5305" y="413"/>
                  </a:lnTo>
                  <a:lnTo>
                    <a:pt x="5463" y="60"/>
                  </a:lnTo>
                  <a:lnTo>
                    <a:pt x="5567" y="0"/>
                  </a:lnTo>
                  <a:lnTo>
                    <a:pt x="5567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095880" y="2922480"/>
              <a:ext cx="225360" cy="360360"/>
            </a:xfrm>
            <a:custGeom>
              <a:avLst/>
              <a:gdLst/>
              <a:ahLst/>
              <a:rect l="l" t="t" r="r" b="b"/>
              <a:pathLst>
                <a:path w="707" h="1134">
                  <a:moveTo>
                    <a:pt x="707" y="1092"/>
                  </a:moveTo>
                  <a:lnTo>
                    <a:pt x="666" y="1006"/>
                  </a:lnTo>
                  <a:lnTo>
                    <a:pt x="623" y="919"/>
                  </a:lnTo>
                  <a:lnTo>
                    <a:pt x="578" y="832"/>
                  </a:lnTo>
                  <a:lnTo>
                    <a:pt x="532" y="746"/>
                  </a:lnTo>
                  <a:lnTo>
                    <a:pt x="485" y="661"/>
                  </a:lnTo>
                  <a:lnTo>
                    <a:pt x="439" y="578"/>
                  </a:lnTo>
                  <a:lnTo>
                    <a:pt x="393" y="498"/>
                  </a:lnTo>
                  <a:lnTo>
                    <a:pt x="348" y="421"/>
                  </a:lnTo>
                  <a:lnTo>
                    <a:pt x="304" y="347"/>
                  </a:lnTo>
                  <a:lnTo>
                    <a:pt x="262" y="279"/>
                  </a:lnTo>
                  <a:lnTo>
                    <a:pt x="222" y="215"/>
                  </a:lnTo>
                  <a:lnTo>
                    <a:pt x="186" y="158"/>
                  </a:lnTo>
                  <a:lnTo>
                    <a:pt x="153" y="107"/>
                  </a:lnTo>
                  <a:lnTo>
                    <a:pt x="123" y="63"/>
                  </a:lnTo>
                  <a:lnTo>
                    <a:pt x="98" y="27"/>
                  </a:lnTo>
                  <a:lnTo>
                    <a:pt x="77" y="0"/>
                  </a:lnTo>
                  <a:lnTo>
                    <a:pt x="0" y="61"/>
                  </a:lnTo>
                  <a:lnTo>
                    <a:pt x="18" y="85"/>
                  </a:lnTo>
                  <a:lnTo>
                    <a:pt x="42" y="118"/>
                  </a:lnTo>
                  <a:lnTo>
                    <a:pt x="71" y="160"/>
                  </a:lnTo>
                  <a:lnTo>
                    <a:pt x="103" y="211"/>
                  </a:lnTo>
                  <a:lnTo>
                    <a:pt x="140" y="267"/>
                  </a:lnTo>
                  <a:lnTo>
                    <a:pt x="179" y="329"/>
                  </a:lnTo>
                  <a:lnTo>
                    <a:pt x="220" y="398"/>
                  </a:lnTo>
                  <a:lnTo>
                    <a:pt x="264" y="470"/>
                  </a:lnTo>
                  <a:lnTo>
                    <a:pt x="308" y="547"/>
                  </a:lnTo>
                  <a:lnTo>
                    <a:pt x="354" y="626"/>
                  </a:lnTo>
                  <a:lnTo>
                    <a:pt x="400" y="708"/>
                  </a:lnTo>
                  <a:lnTo>
                    <a:pt x="446" y="792"/>
                  </a:lnTo>
                  <a:lnTo>
                    <a:pt x="492" y="878"/>
                  </a:lnTo>
                  <a:lnTo>
                    <a:pt x="536" y="964"/>
                  </a:lnTo>
                  <a:lnTo>
                    <a:pt x="579" y="1049"/>
                  </a:lnTo>
                  <a:lnTo>
                    <a:pt x="619" y="1134"/>
                  </a:lnTo>
                  <a:lnTo>
                    <a:pt x="707" y="10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"/>
          <p:cNvSpPr/>
          <p:nvPr/>
        </p:nvSpPr>
        <p:spPr>
          <a:xfrm>
            <a:off x="609480" y="1219320"/>
            <a:ext cx="6037560" cy="31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902444"/>
                </a:solidFill>
                <a:latin typeface="Geometr231 Hv BT"/>
              </a:rPr>
              <a:t>PRE-MARITAL HIV TESTING SHOULD BE DONE BY BOTH PARTNERS BEFORE MARRIAG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9" name=""/>
          <p:cNvGrpSpPr/>
          <p:nvPr/>
        </p:nvGrpSpPr>
        <p:grpSpPr>
          <a:xfrm>
            <a:off x="5289480" y="1219320"/>
            <a:ext cx="2660400" cy="4488840"/>
            <a:chOff x="5289480" y="1219320"/>
            <a:chExt cx="2660400" cy="4488840"/>
          </a:xfrm>
        </p:grpSpPr>
        <p:sp>
          <p:nvSpPr>
            <p:cNvPr id="4070" name=""/>
            <p:cNvSpPr/>
            <p:nvPr/>
          </p:nvSpPr>
          <p:spPr>
            <a:xfrm>
              <a:off x="5289480" y="4380480"/>
              <a:ext cx="2660400" cy="1327320"/>
            </a:xfrm>
            <a:custGeom>
              <a:avLst/>
              <a:gdLst/>
              <a:ahLst/>
              <a:rect l="l" t="t" r="r" b="b"/>
              <a:pathLst>
                <a:path w="5330" h="2665">
                  <a:moveTo>
                    <a:pt x="0" y="1565"/>
                  </a:moveTo>
                  <a:lnTo>
                    <a:pt x="3394" y="2665"/>
                  </a:lnTo>
                  <a:lnTo>
                    <a:pt x="5330" y="1464"/>
                  </a:lnTo>
                  <a:lnTo>
                    <a:pt x="5330" y="764"/>
                  </a:lnTo>
                  <a:lnTo>
                    <a:pt x="1492" y="0"/>
                  </a:lnTo>
                  <a:lnTo>
                    <a:pt x="888" y="231"/>
                  </a:lnTo>
                  <a:lnTo>
                    <a:pt x="0" y="940"/>
                  </a:lnTo>
                  <a:lnTo>
                    <a:pt x="0" y="156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289480" y="4763520"/>
              <a:ext cx="2660400" cy="944640"/>
            </a:xfrm>
            <a:custGeom>
              <a:avLst/>
              <a:gdLst/>
              <a:ahLst/>
              <a:rect l="l" t="t" r="r" b="b"/>
              <a:pathLst>
                <a:path w="5330" h="1895">
                  <a:moveTo>
                    <a:pt x="5330" y="0"/>
                  </a:moveTo>
                  <a:lnTo>
                    <a:pt x="3382" y="1128"/>
                  </a:lnTo>
                  <a:lnTo>
                    <a:pt x="0" y="170"/>
                  </a:lnTo>
                  <a:lnTo>
                    <a:pt x="0" y="216"/>
                  </a:lnTo>
                  <a:lnTo>
                    <a:pt x="0" y="795"/>
                  </a:lnTo>
                  <a:lnTo>
                    <a:pt x="3387" y="1895"/>
                  </a:lnTo>
                  <a:lnTo>
                    <a:pt x="5330" y="686"/>
                  </a:lnTo>
                  <a:lnTo>
                    <a:pt x="533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981840" y="4761360"/>
              <a:ext cx="968040" cy="946800"/>
            </a:xfrm>
            <a:custGeom>
              <a:avLst/>
              <a:gdLst/>
              <a:ahLst/>
              <a:rect l="l" t="t" r="r" b="b"/>
              <a:pathLst>
                <a:path w="1939" h="1901">
                  <a:moveTo>
                    <a:pt x="3" y="1156"/>
                  </a:moveTo>
                  <a:lnTo>
                    <a:pt x="3" y="1900"/>
                  </a:lnTo>
                  <a:lnTo>
                    <a:pt x="0" y="1901"/>
                  </a:lnTo>
                  <a:lnTo>
                    <a:pt x="1939" y="694"/>
                  </a:lnTo>
                  <a:lnTo>
                    <a:pt x="1938" y="0"/>
                  </a:lnTo>
                  <a:lnTo>
                    <a:pt x="1939" y="1"/>
                  </a:lnTo>
                  <a:lnTo>
                    <a:pt x="3" y="1133"/>
                  </a:lnTo>
                  <a:lnTo>
                    <a:pt x="3" y="1156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289480" y="4763520"/>
              <a:ext cx="2660400" cy="561600"/>
            </a:xfrm>
            <a:custGeom>
              <a:avLst/>
              <a:gdLst/>
              <a:ahLst/>
              <a:rect l="l" t="t" r="r" b="b"/>
              <a:pathLst>
                <a:path w="5330" h="1128">
                  <a:moveTo>
                    <a:pt x="5330" y="0"/>
                  </a:moveTo>
                  <a:lnTo>
                    <a:pt x="5330" y="0"/>
                  </a:lnTo>
                  <a:lnTo>
                    <a:pt x="3382" y="1128"/>
                  </a:lnTo>
                  <a:lnTo>
                    <a:pt x="0" y="170"/>
                  </a:lnTo>
                  <a:lnTo>
                    <a:pt x="0" y="17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6981840" y="4761360"/>
              <a:ext cx="968040" cy="946800"/>
            </a:xfrm>
            <a:custGeom>
              <a:avLst/>
              <a:gdLst/>
              <a:ahLst/>
              <a:rect l="l" t="t" r="r" b="b"/>
              <a:pathLst>
                <a:path w="1939" h="1901">
                  <a:moveTo>
                    <a:pt x="1938" y="0"/>
                  </a:moveTo>
                  <a:lnTo>
                    <a:pt x="1939" y="1"/>
                  </a:lnTo>
                  <a:lnTo>
                    <a:pt x="3" y="1133"/>
                  </a:lnTo>
                  <a:lnTo>
                    <a:pt x="3" y="1156"/>
                  </a:lnTo>
                  <a:lnTo>
                    <a:pt x="3" y="1900"/>
                  </a:lnTo>
                  <a:lnTo>
                    <a:pt x="0" y="1901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289480" y="4380480"/>
              <a:ext cx="2660400" cy="1327320"/>
            </a:xfrm>
            <a:custGeom>
              <a:avLst/>
              <a:gdLst/>
              <a:ahLst/>
              <a:rect l="l" t="t" r="r" b="b"/>
              <a:pathLst>
                <a:path w="5330" h="2665">
                  <a:moveTo>
                    <a:pt x="0" y="1565"/>
                  </a:moveTo>
                  <a:lnTo>
                    <a:pt x="3394" y="2665"/>
                  </a:lnTo>
                  <a:lnTo>
                    <a:pt x="5330" y="1464"/>
                  </a:lnTo>
                  <a:lnTo>
                    <a:pt x="5330" y="764"/>
                  </a:lnTo>
                  <a:lnTo>
                    <a:pt x="1492" y="0"/>
                  </a:lnTo>
                  <a:lnTo>
                    <a:pt x="888" y="231"/>
                  </a:lnTo>
                  <a:lnTo>
                    <a:pt x="0" y="940"/>
                  </a:lnTo>
                  <a:lnTo>
                    <a:pt x="0" y="156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6338880" y="4089600"/>
              <a:ext cx="185400" cy="195120"/>
            </a:xfrm>
            <a:custGeom>
              <a:avLst/>
              <a:gdLst/>
              <a:ahLst/>
              <a:rect l="l" t="t" r="r" b="b"/>
              <a:pathLst>
                <a:path w="370" h="394">
                  <a:moveTo>
                    <a:pt x="154" y="391"/>
                  </a:moveTo>
                  <a:lnTo>
                    <a:pt x="173" y="390"/>
                  </a:lnTo>
                  <a:lnTo>
                    <a:pt x="191" y="388"/>
                  </a:lnTo>
                  <a:lnTo>
                    <a:pt x="209" y="385"/>
                  </a:lnTo>
                  <a:lnTo>
                    <a:pt x="228" y="381"/>
                  </a:lnTo>
                  <a:lnTo>
                    <a:pt x="246" y="376"/>
                  </a:lnTo>
                  <a:lnTo>
                    <a:pt x="263" y="370"/>
                  </a:lnTo>
                  <a:lnTo>
                    <a:pt x="281" y="362"/>
                  </a:lnTo>
                  <a:lnTo>
                    <a:pt x="296" y="354"/>
                  </a:lnTo>
                  <a:lnTo>
                    <a:pt x="303" y="348"/>
                  </a:lnTo>
                  <a:lnTo>
                    <a:pt x="311" y="343"/>
                  </a:lnTo>
                  <a:lnTo>
                    <a:pt x="319" y="337"/>
                  </a:lnTo>
                  <a:lnTo>
                    <a:pt x="325" y="331"/>
                  </a:lnTo>
                  <a:lnTo>
                    <a:pt x="332" y="323"/>
                  </a:lnTo>
                  <a:lnTo>
                    <a:pt x="337" y="316"/>
                  </a:lnTo>
                  <a:lnTo>
                    <a:pt x="342" y="308"/>
                  </a:lnTo>
                  <a:lnTo>
                    <a:pt x="348" y="300"/>
                  </a:lnTo>
                  <a:lnTo>
                    <a:pt x="352" y="291"/>
                  </a:lnTo>
                  <a:lnTo>
                    <a:pt x="356" y="281"/>
                  </a:lnTo>
                  <a:lnTo>
                    <a:pt x="360" y="270"/>
                  </a:lnTo>
                  <a:lnTo>
                    <a:pt x="363" y="260"/>
                  </a:lnTo>
                  <a:lnTo>
                    <a:pt x="366" y="248"/>
                  </a:lnTo>
                  <a:lnTo>
                    <a:pt x="368" y="236"/>
                  </a:lnTo>
                  <a:lnTo>
                    <a:pt x="369" y="223"/>
                  </a:lnTo>
                  <a:lnTo>
                    <a:pt x="370" y="210"/>
                  </a:lnTo>
                  <a:lnTo>
                    <a:pt x="370" y="188"/>
                  </a:lnTo>
                  <a:lnTo>
                    <a:pt x="369" y="169"/>
                  </a:lnTo>
                  <a:lnTo>
                    <a:pt x="367" y="149"/>
                  </a:lnTo>
                  <a:lnTo>
                    <a:pt x="364" y="130"/>
                  </a:lnTo>
                  <a:lnTo>
                    <a:pt x="359" y="112"/>
                  </a:lnTo>
                  <a:lnTo>
                    <a:pt x="353" y="94"/>
                  </a:lnTo>
                  <a:lnTo>
                    <a:pt x="345" y="78"/>
                  </a:lnTo>
                  <a:lnTo>
                    <a:pt x="336" y="64"/>
                  </a:lnTo>
                  <a:lnTo>
                    <a:pt x="330" y="57"/>
                  </a:lnTo>
                  <a:lnTo>
                    <a:pt x="325" y="50"/>
                  </a:lnTo>
                  <a:lnTo>
                    <a:pt x="319" y="44"/>
                  </a:lnTo>
                  <a:lnTo>
                    <a:pt x="312" y="38"/>
                  </a:lnTo>
                  <a:lnTo>
                    <a:pt x="306" y="33"/>
                  </a:lnTo>
                  <a:lnTo>
                    <a:pt x="298" y="27"/>
                  </a:lnTo>
                  <a:lnTo>
                    <a:pt x="290" y="22"/>
                  </a:lnTo>
                  <a:lnTo>
                    <a:pt x="282" y="18"/>
                  </a:lnTo>
                  <a:lnTo>
                    <a:pt x="273" y="14"/>
                  </a:lnTo>
                  <a:lnTo>
                    <a:pt x="263" y="11"/>
                  </a:lnTo>
                  <a:lnTo>
                    <a:pt x="254" y="8"/>
                  </a:lnTo>
                  <a:lnTo>
                    <a:pt x="244" y="6"/>
                  </a:lnTo>
                  <a:lnTo>
                    <a:pt x="233" y="4"/>
                  </a:lnTo>
                  <a:lnTo>
                    <a:pt x="221" y="1"/>
                  </a:lnTo>
                  <a:lnTo>
                    <a:pt x="211" y="1"/>
                  </a:lnTo>
                  <a:lnTo>
                    <a:pt x="198" y="0"/>
                  </a:lnTo>
                  <a:lnTo>
                    <a:pt x="175" y="0"/>
                  </a:lnTo>
                  <a:lnTo>
                    <a:pt x="154" y="1"/>
                  </a:lnTo>
                  <a:lnTo>
                    <a:pt x="136" y="3"/>
                  </a:lnTo>
                  <a:lnTo>
                    <a:pt x="118" y="4"/>
                  </a:lnTo>
                  <a:lnTo>
                    <a:pt x="102" y="6"/>
                  </a:lnTo>
                  <a:lnTo>
                    <a:pt x="87" y="9"/>
                  </a:lnTo>
                  <a:lnTo>
                    <a:pt x="74" y="11"/>
                  </a:lnTo>
                  <a:lnTo>
                    <a:pt x="63" y="16"/>
                  </a:lnTo>
                  <a:lnTo>
                    <a:pt x="53" y="19"/>
                  </a:lnTo>
                  <a:lnTo>
                    <a:pt x="43" y="23"/>
                  </a:lnTo>
                  <a:lnTo>
                    <a:pt x="34" y="28"/>
                  </a:lnTo>
                  <a:lnTo>
                    <a:pt x="28" y="33"/>
                  </a:lnTo>
                  <a:lnTo>
                    <a:pt x="21" y="38"/>
                  </a:lnTo>
                  <a:lnTo>
                    <a:pt x="16" y="45"/>
                  </a:lnTo>
                  <a:lnTo>
                    <a:pt x="12" y="50"/>
                  </a:lnTo>
                  <a:lnTo>
                    <a:pt x="8" y="57"/>
                  </a:lnTo>
                  <a:lnTo>
                    <a:pt x="5" y="64"/>
                  </a:lnTo>
                  <a:lnTo>
                    <a:pt x="3" y="71"/>
                  </a:lnTo>
                  <a:lnTo>
                    <a:pt x="2" y="78"/>
                  </a:lnTo>
                  <a:lnTo>
                    <a:pt x="1" y="87"/>
                  </a:lnTo>
                  <a:lnTo>
                    <a:pt x="0" y="103"/>
                  </a:lnTo>
                  <a:lnTo>
                    <a:pt x="1" y="120"/>
                  </a:lnTo>
                  <a:lnTo>
                    <a:pt x="3" y="158"/>
                  </a:lnTo>
                  <a:lnTo>
                    <a:pt x="5" y="198"/>
                  </a:lnTo>
                  <a:lnTo>
                    <a:pt x="5" y="239"/>
                  </a:lnTo>
                  <a:lnTo>
                    <a:pt x="4" y="277"/>
                  </a:lnTo>
                  <a:lnTo>
                    <a:pt x="4" y="295"/>
                  </a:lnTo>
                  <a:lnTo>
                    <a:pt x="6" y="311"/>
                  </a:lnTo>
                  <a:lnTo>
                    <a:pt x="10" y="328"/>
                  </a:lnTo>
                  <a:lnTo>
                    <a:pt x="14" y="342"/>
                  </a:lnTo>
                  <a:lnTo>
                    <a:pt x="17" y="348"/>
                  </a:lnTo>
                  <a:lnTo>
                    <a:pt x="20" y="355"/>
                  </a:lnTo>
                  <a:lnTo>
                    <a:pt x="25" y="360"/>
                  </a:lnTo>
                  <a:lnTo>
                    <a:pt x="30" y="365"/>
                  </a:lnTo>
                  <a:lnTo>
                    <a:pt x="36" y="371"/>
                  </a:lnTo>
                  <a:lnTo>
                    <a:pt x="42" y="375"/>
                  </a:lnTo>
                  <a:lnTo>
                    <a:pt x="48" y="379"/>
                  </a:lnTo>
                  <a:lnTo>
                    <a:pt x="57" y="383"/>
                  </a:lnTo>
                  <a:lnTo>
                    <a:pt x="66" y="386"/>
                  </a:lnTo>
                  <a:lnTo>
                    <a:pt x="75" y="388"/>
                  </a:lnTo>
                  <a:lnTo>
                    <a:pt x="85" y="390"/>
                  </a:lnTo>
                  <a:lnTo>
                    <a:pt x="97" y="392"/>
                  </a:lnTo>
                  <a:lnTo>
                    <a:pt x="110" y="392"/>
                  </a:lnTo>
                  <a:lnTo>
                    <a:pt x="123" y="394"/>
                  </a:lnTo>
                  <a:lnTo>
                    <a:pt x="138" y="392"/>
                  </a:lnTo>
                  <a:lnTo>
                    <a:pt x="154" y="39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6338880" y="4089600"/>
              <a:ext cx="185400" cy="195120"/>
            </a:xfrm>
            <a:custGeom>
              <a:avLst/>
              <a:gdLst/>
              <a:ahLst/>
              <a:rect l="l" t="t" r="r" b="b"/>
              <a:pathLst>
                <a:path w="370" h="394">
                  <a:moveTo>
                    <a:pt x="154" y="391"/>
                  </a:moveTo>
                  <a:lnTo>
                    <a:pt x="173" y="390"/>
                  </a:lnTo>
                  <a:lnTo>
                    <a:pt x="191" y="388"/>
                  </a:lnTo>
                  <a:lnTo>
                    <a:pt x="209" y="385"/>
                  </a:lnTo>
                  <a:lnTo>
                    <a:pt x="228" y="381"/>
                  </a:lnTo>
                  <a:lnTo>
                    <a:pt x="246" y="376"/>
                  </a:lnTo>
                  <a:lnTo>
                    <a:pt x="263" y="370"/>
                  </a:lnTo>
                  <a:lnTo>
                    <a:pt x="281" y="362"/>
                  </a:lnTo>
                  <a:lnTo>
                    <a:pt x="296" y="354"/>
                  </a:lnTo>
                  <a:lnTo>
                    <a:pt x="303" y="348"/>
                  </a:lnTo>
                  <a:lnTo>
                    <a:pt x="311" y="343"/>
                  </a:lnTo>
                  <a:lnTo>
                    <a:pt x="319" y="337"/>
                  </a:lnTo>
                  <a:lnTo>
                    <a:pt x="325" y="331"/>
                  </a:lnTo>
                  <a:lnTo>
                    <a:pt x="332" y="323"/>
                  </a:lnTo>
                  <a:lnTo>
                    <a:pt x="337" y="316"/>
                  </a:lnTo>
                  <a:lnTo>
                    <a:pt x="342" y="308"/>
                  </a:lnTo>
                  <a:lnTo>
                    <a:pt x="348" y="300"/>
                  </a:lnTo>
                  <a:lnTo>
                    <a:pt x="352" y="291"/>
                  </a:lnTo>
                  <a:lnTo>
                    <a:pt x="356" y="281"/>
                  </a:lnTo>
                  <a:lnTo>
                    <a:pt x="360" y="270"/>
                  </a:lnTo>
                  <a:lnTo>
                    <a:pt x="363" y="260"/>
                  </a:lnTo>
                  <a:lnTo>
                    <a:pt x="366" y="248"/>
                  </a:lnTo>
                  <a:lnTo>
                    <a:pt x="368" y="236"/>
                  </a:lnTo>
                  <a:lnTo>
                    <a:pt x="369" y="223"/>
                  </a:lnTo>
                  <a:lnTo>
                    <a:pt x="370" y="210"/>
                  </a:lnTo>
                  <a:lnTo>
                    <a:pt x="370" y="188"/>
                  </a:lnTo>
                  <a:lnTo>
                    <a:pt x="369" y="169"/>
                  </a:lnTo>
                  <a:lnTo>
                    <a:pt x="367" y="149"/>
                  </a:lnTo>
                  <a:lnTo>
                    <a:pt x="364" y="130"/>
                  </a:lnTo>
                  <a:lnTo>
                    <a:pt x="359" y="112"/>
                  </a:lnTo>
                  <a:lnTo>
                    <a:pt x="353" y="94"/>
                  </a:lnTo>
                  <a:lnTo>
                    <a:pt x="345" y="78"/>
                  </a:lnTo>
                  <a:lnTo>
                    <a:pt x="336" y="64"/>
                  </a:lnTo>
                  <a:lnTo>
                    <a:pt x="330" y="57"/>
                  </a:lnTo>
                  <a:lnTo>
                    <a:pt x="325" y="50"/>
                  </a:lnTo>
                  <a:lnTo>
                    <a:pt x="319" y="44"/>
                  </a:lnTo>
                  <a:lnTo>
                    <a:pt x="312" y="38"/>
                  </a:lnTo>
                  <a:lnTo>
                    <a:pt x="306" y="33"/>
                  </a:lnTo>
                  <a:lnTo>
                    <a:pt x="298" y="27"/>
                  </a:lnTo>
                  <a:lnTo>
                    <a:pt x="290" y="22"/>
                  </a:lnTo>
                  <a:lnTo>
                    <a:pt x="282" y="18"/>
                  </a:lnTo>
                  <a:lnTo>
                    <a:pt x="273" y="14"/>
                  </a:lnTo>
                  <a:lnTo>
                    <a:pt x="263" y="11"/>
                  </a:lnTo>
                  <a:lnTo>
                    <a:pt x="254" y="8"/>
                  </a:lnTo>
                  <a:lnTo>
                    <a:pt x="244" y="6"/>
                  </a:lnTo>
                  <a:lnTo>
                    <a:pt x="233" y="4"/>
                  </a:lnTo>
                  <a:lnTo>
                    <a:pt x="221" y="1"/>
                  </a:lnTo>
                  <a:lnTo>
                    <a:pt x="211" y="1"/>
                  </a:lnTo>
                  <a:lnTo>
                    <a:pt x="198" y="0"/>
                  </a:lnTo>
                  <a:lnTo>
                    <a:pt x="175" y="0"/>
                  </a:lnTo>
                  <a:lnTo>
                    <a:pt x="154" y="1"/>
                  </a:lnTo>
                  <a:lnTo>
                    <a:pt x="136" y="3"/>
                  </a:lnTo>
                  <a:lnTo>
                    <a:pt x="118" y="4"/>
                  </a:lnTo>
                  <a:lnTo>
                    <a:pt x="102" y="6"/>
                  </a:lnTo>
                  <a:lnTo>
                    <a:pt x="87" y="9"/>
                  </a:lnTo>
                  <a:lnTo>
                    <a:pt x="74" y="11"/>
                  </a:lnTo>
                  <a:lnTo>
                    <a:pt x="63" y="16"/>
                  </a:lnTo>
                  <a:lnTo>
                    <a:pt x="53" y="19"/>
                  </a:lnTo>
                  <a:lnTo>
                    <a:pt x="43" y="23"/>
                  </a:lnTo>
                  <a:lnTo>
                    <a:pt x="34" y="28"/>
                  </a:lnTo>
                  <a:lnTo>
                    <a:pt x="28" y="33"/>
                  </a:lnTo>
                  <a:lnTo>
                    <a:pt x="21" y="38"/>
                  </a:lnTo>
                  <a:lnTo>
                    <a:pt x="16" y="45"/>
                  </a:lnTo>
                  <a:lnTo>
                    <a:pt x="12" y="50"/>
                  </a:lnTo>
                  <a:lnTo>
                    <a:pt x="8" y="57"/>
                  </a:lnTo>
                  <a:lnTo>
                    <a:pt x="5" y="64"/>
                  </a:lnTo>
                  <a:lnTo>
                    <a:pt x="3" y="71"/>
                  </a:lnTo>
                  <a:lnTo>
                    <a:pt x="2" y="78"/>
                  </a:lnTo>
                  <a:lnTo>
                    <a:pt x="1" y="87"/>
                  </a:lnTo>
                  <a:lnTo>
                    <a:pt x="0" y="103"/>
                  </a:lnTo>
                  <a:lnTo>
                    <a:pt x="1" y="120"/>
                  </a:lnTo>
                  <a:lnTo>
                    <a:pt x="3" y="158"/>
                  </a:lnTo>
                  <a:lnTo>
                    <a:pt x="5" y="198"/>
                  </a:lnTo>
                  <a:lnTo>
                    <a:pt x="5" y="239"/>
                  </a:lnTo>
                  <a:lnTo>
                    <a:pt x="4" y="277"/>
                  </a:lnTo>
                  <a:lnTo>
                    <a:pt x="4" y="295"/>
                  </a:lnTo>
                  <a:lnTo>
                    <a:pt x="6" y="311"/>
                  </a:lnTo>
                  <a:lnTo>
                    <a:pt x="10" y="328"/>
                  </a:lnTo>
                  <a:lnTo>
                    <a:pt x="14" y="342"/>
                  </a:lnTo>
                  <a:lnTo>
                    <a:pt x="17" y="348"/>
                  </a:lnTo>
                  <a:lnTo>
                    <a:pt x="20" y="355"/>
                  </a:lnTo>
                  <a:lnTo>
                    <a:pt x="25" y="360"/>
                  </a:lnTo>
                  <a:lnTo>
                    <a:pt x="30" y="365"/>
                  </a:lnTo>
                  <a:lnTo>
                    <a:pt x="36" y="371"/>
                  </a:lnTo>
                  <a:lnTo>
                    <a:pt x="42" y="375"/>
                  </a:lnTo>
                  <a:lnTo>
                    <a:pt x="48" y="379"/>
                  </a:lnTo>
                  <a:lnTo>
                    <a:pt x="57" y="383"/>
                  </a:lnTo>
                  <a:lnTo>
                    <a:pt x="66" y="386"/>
                  </a:lnTo>
                  <a:lnTo>
                    <a:pt x="75" y="388"/>
                  </a:lnTo>
                  <a:lnTo>
                    <a:pt x="85" y="390"/>
                  </a:lnTo>
                  <a:lnTo>
                    <a:pt x="97" y="392"/>
                  </a:lnTo>
                  <a:lnTo>
                    <a:pt x="110" y="392"/>
                  </a:lnTo>
                  <a:lnTo>
                    <a:pt x="123" y="394"/>
                  </a:lnTo>
                  <a:lnTo>
                    <a:pt x="138" y="392"/>
                  </a:lnTo>
                  <a:lnTo>
                    <a:pt x="154" y="39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6311520" y="4093560"/>
              <a:ext cx="161280" cy="191160"/>
            </a:xfrm>
            <a:custGeom>
              <a:avLst/>
              <a:gdLst/>
              <a:ahLst/>
              <a:rect l="l" t="t" r="r" b="b"/>
              <a:pathLst>
                <a:path w="326" h="387">
                  <a:moveTo>
                    <a:pt x="164" y="387"/>
                  </a:moveTo>
                  <a:lnTo>
                    <a:pt x="181" y="386"/>
                  </a:lnTo>
                  <a:lnTo>
                    <a:pt x="197" y="383"/>
                  </a:lnTo>
                  <a:lnTo>
                    <a:pt x="212" y="378"/>
                  </a:lnTo>
                  <a:lnTo>
                    <a:pt x="227" y="372"/>
                  </a:lnTo>
                  <a:lnTo>
                    <a:pt x="242" y="363"/>
                  </a:lnTo>
                  <a:lnTo>
                    <a:pt x="254" y="353"/>
                  </a:lnTo>
                  <a:lnTo>
                    <a:pt x="267" y="342"/>
                  </a:lnTo>
                  <a:lnTo>
                    <a:pt x="279" y="329"/>
                  </a:lnTo>
                  <a:lnTo>
                    <a:pt x="289" y="316"/>
                  </a:lnTo>
                  <a:lnTo>
                    <a:pt x="299" y="301"/>
                  </a:lnTo>
                  <a:lnTo>
                    <a:pt x="306" y="285"/>
                  </a:lnTo>
                  <a:lnTo>
                    <a:pt x="314" y="268"/>
                  </a:lnTo>
                  <a:lnTo>
                    <a:pt x="319" y="251"/>
                  </a:lnTo>
                  <a:lnTo>
                    <a:pt x="323" y="232"/>
                  </a:lnTo>
                  <a:lnTo>
                    <a:pt x="326" y="213"/>
                  </a:lnTo>
                  <a:lnTo>
                    <a:pt x="326" y="193"/>
                  </a:lnTo>
                  <a:lnTo>
                    <a:pt x="326" y="174"/>
                  </a:lnTo>
                  <a:lnTo>
                    <a:pt x="323" y="154"/>
                  </a:lnTo>
                  <a:lnTo>
                    <a:pt x="319" y="136"/>
                  </a:lnTo>
                  <a:lnTo>
                    <a:pt x="314" y="118"/>
                  </a:lnTo>
                  <a:lnTo>
                    <a:pt x="306" y="102"/>
                  </a:lnTo>
                  <a:lnTo>
                    <a:pt x="299" y="85"/>
                  </a:lnTo>
                  <a:lnTo>
                    <a:pt x="289" y="70"/>
                  </a:lnTo>
                  <a:lnTo>
                    <a:pt x="279" y="56"/>
                  </a:lnTo>
                  <a:lnTo>
                    <a:pt x="267" y="44"/>
                  </a:lnTo>
                  <a:lnTo>
                    <a:pt x="254" y="32"/>
                  </a:lnTo>
                  <a:lnTo>
                    <a:pt x="242" y="24"/>
                  </a:lnTo>
                  <a:lnTo>
                    <a:pt x="227" y="15"/>
                  </a:lnTo>
                  <a:lnTo>
                    <a:pt x="212" y="9"/>
                  </a:lnTo>
                  <a:lnTo>
                    <a:pt x="197" y="4"/>
                  </a:lnTo>
                  <a:lnTo>
                    <a:pt x="181" y="1"/>
                  </a:lnTo>
                  <a:lnTo>
                    <a:pt x="164" y="0"/>
                  </a:lnTo>
                  <a:lnTo>
                    <a:pt x="148" y="1"/>
                  </a:lnTo>
                  <a:lnTo>
                    <a:pt x="131" y="4"/>
                  </a:lnTo>
                  <a:lnTo>
                    <a:pt x="115" y="9"/>
                  </a:lnTo>
                  <a:lnTo>
                    <a:pt x="100" y="15"/>
                  </a:lnTo>
                  <a:lnTo>
                    <a:pt x="86" y="24"/>
                  </a:lnTo>
                  <a:lnTo>
                    <a:pt x="72" y="32"/>
                  </a:lnTo>
                  <a:lnTo>
                    <a:pt x="60" y="44"/>
                  </a:lnTo>
                  <a:lnTo>
                    <a:pt x="48" y="56"/>
                  </a:lnTo>
                  <a:lnTo>
                    <a:pt x="37" y="70"/>
                  </a:lnTo>
                  <a:lnTo>
                    <a:pt x="28" y="85"/>
                  </a:lnTo>
                  <a:lnTo>
                    <a:pt x="20" y="102"/>
                  </a:lnTo>
                  <a:lnTo>
                    <a:pt x="12" y="118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3"/>
                  </a:lnTo>
                  <a:lnTo>
                    <a:pt x="4" y="232"/>
                  </a:lnTo>
                  <a:lnTo>
                    <a:pt x="7" y="251"/>
                  </a:lnTo>
                  <a:lnTo>
                    <a:pt x="12" y="268"/>
                  </a:lnTo>
                  <a:lnTo>
                    <a:pt x="20" y="285"/>
                  </a:lnTo>
                  <a:lnTo>
                    <a:pt x="28" y="301"/>
                  </a:lnTo>
                  <a:lnTo>
                    <a:pt x="37" y="316"/>
                  </a:lnTo>
                  <a:lnTo>
                    <a:pt x="48" y="329"/>
                  </a:lnTo>
                  <a:lnTo>
                    <a:pt x="60" y="342"/>
                  </a:lnTo>
                  <a:lnTo>
                    <a:pt x="72" y="353"/>
                  </a:lnTo>
                  <a:lnTo>
                    <a:pt x="86" y="363"/>
                  </a:lnTo>
                  <a:lnTo>
                    <a:pt x="100" y="372"/>
                  </a:lnTo>
                  <a:lnTo>
                    <a:pt x="115" y="378"/>
                  </a:lnTo>
                  <a:lnTo>
                    <a:pt x="131" y="383"/>
                  </a:lnTo>
                  <a:lnTo>
                    <a:pt x="148" y="386"/>
                  </a:lnTo>
                  <a:lnTo>
                    <a:pt x="164" y="3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311520" y="4093560"/>
              <a:ext cx="161280" cy="191160"/>
            </a:xfrm>
            <a:custGeom>
              <a:avLst/>
              <a:gdLst/>
              <a:ahLst/>
              <a:rect l="l" t="t" r="r" b="b"/>
              <a:pathLst>
                <a:path w="326" h="387">
                  <a:moveTo>
                    <a:pt x="164" y="387"/>
                  </a:moveTo>
                  <a:lnTo>
                    <a:pt x="181" y="386"/>
                  </a:lnTo>
                  <a:lnTo>
                    <a:pt x="197" y="383"/>
                  </a:lnTo>
                  <a:lnTo>
                    <a:pt x="212" y="378"/>
                  </a:lnTo>
                  <a:lnTo>
                    <a:pt x="227" y="372"/>
                  </a:lnTo>
                  <a:lnTo>
                    <a:pt x="242" y="363"/>
                  </a:lnTo>
                  <a:lnTo>
                    <a:pt x="254" y="353"/>
                  </a:lnTo>
                  <a:lnTo>
                    <a:pt x="267" y="342"/>
                  </a:lnTo>
                  <a:lnTo>
                    <a:pt x="279" y="329"/>
                  </a:lnTo>
                  <a:lnTo>
                    <a:pt x="289" y="316"/>
                  </a:lnTo>
                  <a:lnTo>
                    <a:pt x="299" y="301"/>
                  </a:lnTo>
                  <a:lnTo>
                    <a:pt x="306" y="285"/>
                  </a:lnTo>
                  <a:lnTo>
                    <a:pt x="314" y="268"/>
                  </a:lnTo>
                  <a:lnTo>
                    <a:pt x="319" y="251"/>
                  </a:lnTo>
                  <a:lnTo>
                    <a:pt x="323" y="232"/>
                  </a:lnTo>
                  <a:lnTo>
                    <a:pt x="326" y="213"/>
                  </a:lnTo>
                  <a:lnTo>
                    <a:pt x="326" y="193"/>
                  </a:lnTo>
                  <a:lnTo>
                    <a:pt x="326" y="174"/>
                  </a:lnTo>
                  <a:lnTo>
                    <a:pt x="323" y="154"/>
                  </a:lnTo>
                  <a:lnTo>
                    <a:pt x="319" y="136"/>
                  </a:lnTo>
                  <a:lnTo>
                    <a:pt x="314" y="118"/>
                  </a:lnTo>
                  <a:lnTo>
                    <a:pt x="306" y="102"/>
                  </a:lnTo>
                  <a:lnTo>
                    <a:pt x="299" y="85"/>
                  </a:lnTo>
                  <a:lnTo>
                    <a:pt x="289" y="70"/>
                  </a:lnTo>
                  <a:lnTo>
                    <a:pt x="279" y="56"/>
                  </a:lnTo>
                  <a:lnTo>
                    <a:pt x="267" y="44"/>
                  </a:lnTo>
                  <a:lnTo>
                    <a:pt x="254" y="32"/>
                  </a:lnTo>
                  <a:lnTo>
                    <a:pt x="242" y="24"/>
                  </a:lnTo>
                  <a:lnTo>
                    <a:pt x="227" y="15"/>
                  </a:lnTo>
                  <a:lnTo>
                    <a:pt x="212" y="9"/>
                  </a:lnTo>
                  <a:lnTo>
                    <a:pt x="197" y="4"/>
                  </a:lnTo>
                  <a:lnTo>
                    <a:pt x="181" y="1"/>
                  </a:lnTo>
                  <a:lnTo>
                    <a:pt x="164" y="0"/>
                  </a:lnTo>
                  <a:lnTo>
                    <a:pt x="148" y="1"/>
                  </a:lnTo>
                  <a:lnTo>
                    <a:pt x="131" y="4"/>
                  </a:lnTo>
                  <a:lnTo>
                    <a:pt x="115" y="9"/>
                  </a:lnTo>
                  <a:lnTo>
                    <a:pt x="100" y="15"/>
                  </a:lnTo>
                  <a:lnTo>
                    <a:pt x="86" y="24"/>
                  </a:lnTo>
                  <a:lnTo>
                    <a:pt x="72" y="32"/>
                  </a:lnTo>
                  <a:lnTo>
                    <a:pt x="60" y="44"/>
                  </a:lnTo>
                  <a:lnTo>
                    <a:pt x="48" y="56"/>
                  </a:lnTo>
                  <a:lnTo>
                    <a:pt x="37" y="70"/>
                  </a:lnTo>
                  <a:lnTo>
                    <a:pt x="28" y="85"/>
                  </a:lnTo>
                  <a:lnTo>
                    <a:pt x="20" y="102"/>
                  </a:lnTo>
                  <a:lnTo>
                    <a:pt x="12" y="118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3"/>
                  </a:lnTo>
                  <a:lnTo>
                    <a:pt x="4" y="232"/>
                  </a:lnTo>
                  <a:lnTo>
                    <a:pt x="7" y="251"/>
                  </a:lnTo>
                  <a:lnTo>
                    <a:pt x="12" y="268"/>
                  </a:lnTo>
                  <a:lnTo>
                    <a:pt x="20" y="285"/>
                  </a:lnTo>
                  <a:lnTo>
                    <a:pt x="28" y="301"/>
                  </a:lnTo>
                  <a:lnTo>
                    <a:pt x="37" y="316"/>
                  </a:lnTo>
                  <a:lnTo>
                    <a:pt x="48" y="329"/>
                  </a:lnTo>
                  <a:lnTo>
                    <a:pt x="60" y="342"/>
                  </a:lnTo>
                  <a:lnTo>
                    <a:pt x="72" y="353"/>
                  </a:lnTo>
                  <a:lnTo>
                    <a:pt x="86" y="363"/>
                  </a:lnTo>
                  <a:lnTo>
                    <a:pt x="100" y="372"/>
                  </a:lnTo>
                  <a:lnTo>
                    <a:pt x="115" y="378"/>
                  </a:lnTo>
                  <a:lnTo>
                    <a:pt x="131" y="383"/>
                  </a:lnTo>
                  <a:lnTo>
                    <a:pt x="148" y="386"/>
                  </a:lnTo>
                  <a:lnTo>
                    <a:pt x="164" y="38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758200" y="2530800"/>
              <a:ext cx="896040" cy="2070720"/>
            </a:xfrm>
            <a:custGeom>
              <a:avLst/>
              <a:gdLst/>
              <a:ahLst/>
              <a:rect l="l" t="t" r="r" b="b"/>
              <a:pathLst>
                <a:path w="1794" h="4156">
                  <a:moveTo>
                    <a:pt x="1218" y="35"/>
                  </a:moveTo>
                  <a:lnTo>
                    <a:pt x="0" y="347"/>
                  </a:lnTo>
                  <a:lnTo>
                    <a:pt x="0" y="3969"/>
                  </a:lnTo>
                  <a:lnTo>
                    <a:pt x="677" y="4156"/>
                  </a:lnTo>
                  <a:lnTo>
                    <a:pt x="1049" y="3977"/>
                  </a:lnTo>
                  <a:lnTo>
                    <a:pt x="888" y="1066"/>
                  </a:lnTo>
                  <a:lnTo>
                    <a:pt x="1794" y="480"/>
                  </a:lnTo>
                  <a:lnTo>
                    <a:pt x="1618" y="356"/>
                  </a:lnTo>
                  <a:lnTo>
                    <a:pt x="1582" y="0"/>
                  </a:lnTo>
                  <a:lnTo>
                    <a:pt x="1218" y="3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758200" y="2530800"/>
              <a:ext cx="896040" cy="2070720"/>
            </a:xfrm>
            <a:custGeom>
              <a:avLst/>
              <a:gdLst/>
              <a:ahLst/>
              <a:rect l="l" t="t" r="r" b="b"/>
              <a:pathLst>
                <a:path w="1794" h="4156">
                  <a:moveTo>
                    <a:pt x="1218" y="35"/>
                  </a:moveTo>
                  <a:lnTo>
                    <a:pt x="0" y="347"/>
                  </a:lnTo>
                  <a:lnTo>
                    <a:pt x="0" y="3969"/>
                  </a:lnTo>
                  <a:lnTo>
                    <a:pt x="677" y="4156"/>
                  </a:lnTo>
                  <a:lnTo>
                    <a:pt x="1049" y="3977"/>
                  </a:lnTo>
                  <a:lnTo>
                    <a:pt x="888" y="1066"/>
                  </a:lnTo>
                  <a:lnTo>
                    <a:pt x="1794" y="480"/>
                  </a:lnTo>
                  <a:lnTo>
                    <a:pt x="1618" y="356"/>
                  </a:lnTo>
                  <a:lnTo>
                    <a:pt x="1582" y="0"/>
                  </a:lnTo>
                  <a:lnTo>
                    <a:pt x="1218" y="35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6025680" y="2708280"/>
              <a:ext cx="628560" cy="1893240"/>
            </a:xfrm>
            <a:custGeom>
              <a:avLst/>
              <a:gdLst/>
              <a:ahLst/>
              <a:rect l="l" t="t" r="r" b="b"/>
              <a:pathLst>
                <a:path w="1260" h="3800">
                  <a:moveTo>
                    <a:pt x="1084" y="0"/>
                  </a:moveTo>
                  <a:lnTo>
                    <a:pt x="0" y="567"/>
                  </a:lnTo>
                  <a:lnTo>
                    <a:pt x="143" y="3800"/>
                  </a:lnTo>
                  <a:lnTo>
                    <a:pt x="515" y="3621"/>
                  </a:lnTo>
                  <a:lnTo>
                    <a:pt x="354" y="710"/>
                  </a:lnTo>
                  <a:lnTo>
                    <a:pt x="1260" y="124"/>
                  </a:lnTo>
                  <a:lnTo>
                    <a:pt x="1113" y="21"/>
                  </a:lnTo>
                  <a:lnTo>
                    <a:pt x="1084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025680" y="2708280"/>
              <a:ext cx="628560" cy="432360"/>
            </a:xfrm>
            <a:custGeom>
              <a:avLst/>
              <a:gdLst/>
              <a:ahLst/>
              <a:rect l="l" t="t" r="r" b="b"/>
              <a:pathLst>
                <a:path w="1260" h="871">
                  <a:moveTo>
                    <a:pt x="176" y="871"/>
                  </a:moveTo>
                  <a:lnTo>
                    <a:pt x="354" y="710"/>
                  </a:lnTo>
                  <a:lnTo>
                    <a:pt x="1260" y="124"/>
                  </a:lnTo>
                  <a:lnTo>
                    <a:pt x="1113" y="21"/>
                  </a:lnTo>
                  <a:lnTo>
                    <a:pt x="1084" y="0"/>
                  </a:lnTo>
                  <a:lnTo>
                    <a:pt x="0" y="567"/>
                  </a:lnTo>
                  <a:lnTo>
                    <a:pt x="176" y="871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025680" y="2708280"/>
              <a:ext cx="628560" cy="432360"/>
            </a:xfrm>
            <a:custGeom>
              <a:avLst/>
              <a:gdLst/>
              <a:ahLst/>
              <a:rect l="l" t="t" r="r" b="b"/>
              <a:pathLst>
                <a:path w="1260" h="871">
                  <a:moveTo>
                    <a:pt x="176" y="871"/>
                  </a:moveTo>
                  <a:lnTo>
                    <a:pt x="354" y="710"/>
                  </a:lnTo>
                  <a:lnTo>
                    <a:pt x="1260" y="124"/>
                  </a:lnTo>
                  <a:lnTo>
                    <a:pt x="1113" y="21"/>
                  </a:lnTo>
                  <a:lnTo>
                    <a:pt x="1084" y="0"/>
                  </a:lnTo>
                  <a:lnTo>
                    <a:pt x="0" y="567"/>
                  </a:lnTo>
                  <a:lnTo>
                    <a:pt x="176" y="871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025680" y="2708280"/>
              <a:ext cx="628560" cy="1893240"/>
            </a:xfrm>
            <a:custGeom>
              <a:avLst/>
              <a:gdLst/>
              <a:ahLst/>
              <a:rect l="l" t="t" r="r" b="b"/>
              <a:pathLst>
                <a:path w="1260" h="3800">
                  <a:moveTo>
                    <a:pt x="1084" y="0"/>
                  </a:moveTo>
                  <a:lnTo>
                    <a:pt x="0" y="567"/>
                  </a:lnTo>
                  <a:lnTo>
                    <a:pt x="143" y="3800"/>
                  </a:lnTo>
                  <a:lnTo>
                    <a:pt x="515" y="3621"/>
                  </a:lnTo>
                  <a:lnTo>
                    <a:pt x="354" y="710"/>
                  </a:lnTo>
                  <a:lnTo>
                    <a:pt x="1260" y="124"/>
                  </a:lnTo>
                  <a:lnTo>
                    <a:pt x="1113" y="21"/>
                  </a:lnTo>
                  <a:lnTo>
                    <a:pt x="1084" y="0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512760" y="2556720"/>
              <a:ext cx="704520" cy="315000"/>
            </a:xfrm>
            <a:custGeom>
              <a:avLst/>
              <a:gdLst/>
              <a:ahLst/>
              <a:rect l="l" t="t" r="r" b="b"/>
              <a:pathLst>
                <a:path w="1411" h="633">
                  <a:moveTo>
                    <a:pt x="1411" y="34"/>
                  </a:moveTo>
                  <a:lnTo>
                    <a:pt x="1402" y="302"/>
                  </a:lnTo>
                  <a:lnTo>
                    <a:pt x="1389" y="306"/>
                  </a:lnTo>
                  <a:lnTo>
                    <a:pt x="1350" y="318"/>
                  </a:lnTo>
                  <a:lnTo>
                    <a:pt x="1292" y="338"/>
                  </a:lnTo>
                  <a:lnTo>
                    <a:pt x="1215" y="363"/>
                  </a:lnTo>
                  <a:lnTo>
                    <a:pt x="1127" y="392"/>
                  </a:lnTo>
                  <a:lnTo>
                    <a:pt x="1027" y="425"/>
                  </a:lnTo>
                  <a:lnTo>
                    <a:pt x="922" y="460"/>
                  </a:lnTo>
                  <a:lnTo>
                    <a:pt x="816" y="497"/>
                  </a:lnTo>
                  <a:lnTo>
                    <a:pt x="779" y="509"/>
                  </a:lnTo>
                  <a:lnTo>
                    <a:pt x="720" y="528"/>
                  </a:lnTo>
                  <a:lnTo>
                    <a:pt x="651" y="549"/>
                  </a:lnTo>
                  <a:lnTo>
                    <a:pt x="578" y="573"/>
                  </a:lnTo>
                  <a:lnTo>
                    <a:pt x="508" y="596"/>
                  </a:lnTo>
                  <a:lnTo>
                    <a:pt x="448" y="614"/>
                  </a:lnTo>
                  <a:lnTo>
                    <a:pt x="406" y="627"/>
                  </a:lnTo>
                  <a:lnTo>
                    <a:pt x="391" y="633"/>
                  </a:lnTo>
                  <a:lnTo>
                    <a:pt x="366" y="621"/>
                  </a:lnTo>
                  <a:lnTo>
                    <a:pt x="341" y="608"/>
                  </a:lnTo>
                  <a:lnTo>
                    <a:pt x="314" y="593"/>
                  </a:lnTo>
                  <a:lnTo>
                    <a:pt x="287" y="578"/>
                  </a:lnTo>
                  <a:lnTo>
                    <a:pt x="232" y="543"/>
                  </a:lnTo>
                  <a:lnTo>
                    <a:pt x="178" y="507"/>
                  </a:lnTo>
                  <a:lnTo>
                    <a:pt x="129" y="473"/>
                  </a:lnTo>
                  <a:lnTo>
                    <a:pt x="87" y="443"/>
                  </a:lnTo>
                  <a:lnTo>
                    <a:pt x="55" y="417"/>
                  </a:lnTo>
                  <a:lnTo>
                    <a:pt x="34" y="399"/>
                  </a:lnTo>
                  <a:lnTo>
                    <a:pt x="32" y="396"/>
                  </a:lnTo>
                  <a:lnTo>
                    <a:pt x="30" y="391"/>
                  </a:lnTo>
                  <a:lnTo>
                    <a:pt x="28" y="383"/>
                  </a:lnTo>
                  <a:lnTo>
                    <a:pt x="26" y="374"/>
                  </a:lnTo>
                  <a:lnTo>
                    <a:pt x="21" y="352"/>
                  </a:lnTo>
                  <a:lnTo>
                    <a:pt x="18" y="325"/>
                  </a:lnTo>
                  <a:lnTo>
                    <a:pt x="12" y="261"/>
                  </a:lnTo>
                  <a:lnTo>
                    <a:pt x="7" y="189"/>
                  </a:lnTo>
                  <a:lnTo>
                    <a:pt x="3" y="119"/>
                  </a:lnTo>
                  <a:lnTo>
                    <a:pt x="1" y="58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11" y="3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6512760" y="2556720"/>
              <a:ext cx="704520" cy="315000"/>
            </a:xfrm>
            <a:custGeom>
              <a:avLst/>
              <a:gdLst/>
              <a:ahLst/>
              <a:rect l="l" t="t" r="r" b="b"/>
              <a:pathLst>
                <a:path w="1411" h="633">
                  <a:moveTo>
                    <a:pt x="1411" y="34"/>
                  </a:moveTo>
                  <a:lnTo>
                    <a:pt x="1402" y="302"/>
                  </a:lnTo>
                  <a:lnTo>
                    <a:pt x="1389" y="306"/>
                  </a:lnTo>
                  <a:lnTo>
                    <a:pt x="1350" y="318"/>
                  </a:lnTo>
                  <a:lnTo>
                    <a:pt x="1292" y="338"/>
                  </a:lnTo>
                  <a:lnTo>
                    <a:pt x="1215" y="363"/>
                  </a:lnTo>
                  <a:lnTo>
                    <a:pt x="1127" y="392"/>
                  </a:lnTo>
                  <a:lnTo>
                    <a:pt x="1027" y="425"/>
                  </a:lnTo>
                  <a:lnTo>
                    <a:pt x="922" y="460"/>
                  </a:lnTo>
                  <a:lnTo>
                    <a:pt x="816" y="497"/>
                  </a:lnTo>
                  <a:lnTo>
                    <a:pt x="779" y="509"/>
                  </a:lnTo>
                  <a:lnTo>
                    <a:pt x="720" y="528"/>
                  </a:lnTo>
                  <a:lnTo>
                    <a:pt x="651" y="549"/>
                  </a:lnTo>
                  <a:lnTo>
                    <a:pt x="578" y="573"/>
                  </a:lnTo>
                  <a:lnTo>
                    <a:pt x="508" y="596"/>
                  </a:lnTo>
                  <a:lnTo>
                    <a:pt x="448" y="614"/>
                  </a:lnTo>
                  <a:lnTo>
                    <a:pt x="406" y="627"/>
                  </a:lnTo>
                  <a:lnTo>
                    <a:pt x="391" y="633"/>
                  </a:lnTo>
                  <a:lnTo>
                    <a:pt x="366" y="621"/>
                  </a:lnTo>
                  <a:lnTo>
                    <a:pt x="341" y="608"/>
                  </a:lnTo>
                  <a:lnTo>
                    <a:pt x="314" y="593"/>
                  </a:lnTo>
                  <a:lnTo>
                    <a:pt x="287" y="578"/>
                  </a:lnTo>
                  <a:lnTo>
                    <a:pt x="232" y="543"/>
                  </a:lnTo>
                  <a:lnTo>
                    <a:pt x="178" y="507"/>
                  </a:lnTo>
                  <a:lnTo>
                    <a:pt x="129" y="473"/>
                  </a:lnTo>
                  <a:lnTo>
                    <a:pt x="87" y="443"/>
                  </a:lnTo>
                  <a:lnTo>
                    <a:pt x="55" y="417"/>
                  </a:lnTo>
                  <a:lnTo>
                    <a:pt x="34" y="399"/>
                  </a:lnTo>
                  <a:lnTo>
                    <a:pt x="32" y="396"/>
                  </a:lnTo>
                  <a:lnTo>
                    <a:pt x="30" y="391"/>
                  </a:lnTo>
                  <a:lnTo>
                    <a:pt x="28" y="383"/>
                  </a:lnTo>
                  <a:lnTo>
                    <a:pt x="26" y="374"/>
                  </a:lnTo>
                  <a:lnTo>
                    <a:pt x="21" y="352"/>
                  </a:lnTo>
                  <a:lnTo>
                    <a:pt x="18" y="325"/>
                  </a:lnTo>
                  <a:lnTo>
                    <a:pt x="12" y="261"/>
                  </a:lnTo>
                  <a:lnTo>
                    <a:pt x="7" y="189"/>
                  </a:lnTo>
                  <a:lnTo>
                    <a:pt x="3" y="119"/>
                  </a:lnTo>
                  <a:lnTo>
                    <a:pt x="1" y="58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11" y="34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6055560" y="3670920"/>
              <a:ext cx="434880" cy="817200"/>
            </a:xfrm>
            <a:custGeom>
              <a:avLst/>
              <a:gdLst/>
              <a:ahLst/>
              <a:rect l="l" t="t" r="r" b="b"/>
              <a:pathLst>
                <a:path w="870" h="1643">
                  <a:moveTo>
                    <a:pt x="870" y="150"/>
                  </a:moveTo>
                  <a:lnTo>
                    <a:pt x="870" y="1482"/>
                  </a:lnTo>
                  <a:lnTo>
                    <a:pt x="582" y="1643"/>
                  </a:lnTo>
                  <a:lnTo>
                    <a:pt x="71" y="1543"/>
                  </a:lnTo>
                  <a:lnTo>
                    <a:pt x="0" y="0"/>
                  </a:lnTo>
                  <a:lnTo>
                    <a:pt x="870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055560" y="3670920"/>
              <a:ext cx="291240" cy="817200"/>
            </a:xfrm>
            <a:custGeom>
              <a:avLst/>
              <a:gdLst/>
              <a:ahLst/>
              <a:rect l="l" t="t" r="r" b="b"/>
              <a:pathLst>
                <a:path w="582" h="1643">
                  <a:moveTo>
                    <a:pt x="582" y="1643"/>
                  </a:moveTo>
                  <a:lnTo>
                    <a:pt x="582" y="96"/>
                  </a:lnTo>
                  <a:lnTo>
                    <a:pt x="555" y="95"/>
                  </a:lnTo>
                  <a:lnTo>
                    <a:pt x="0" y="0"/>
                  </a:lnTo>
                  <a:lnTo>
                    <a:pt x="71" y="1543"/>
                  </a:lnTo>
                  <a:lnTo>
                    <a:pt x="551" y="1635"/>
                  </a:lnTo>
                  <a:lnTo>
                    <a:pt x="582" y="1643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6055560" y="3670920"/>
              <a:ext cx="291240" cy="817200"/>
            </a:xfrm>
            <a:custGeom>
              <a:avLst/>
              <a:gdLst/>
              <a:ahLst/>
              <a:rect l="l" t="t" r="r" b="b"/>
              <a:pathLst>
                <a:path w="582" h="1643">
                  <a:moveTo>
                    <a:pt x="582" y="1643"/>
                  </a:moveTo>
                  <a:lnTo>
                    <a:pt x="582" y="96"/>
                  </a:lnTo>
                  <a:lnTo>
                    <a:pt x="555" y="95"/>
                  </a:lnTo>
                  <a:lnTo>
                    <a:pt x="0" y="0"/>
                  </a:lnTo>
                  <a:lnTo>
                    <a:pt x="71" y="1543"/>
                  </a:lnTo>
                  <a:lnTo>
                    <a:pt x="551" y="1635"/>
                  </a:lnTo>
                  <a:lnTo>
                    <a:pt x="582" y="1643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6698520" y="2686320"/>
              <a:ext cx="630720" cy="408600"/>
            </a:xfrm>
            <a:custGeom>
              <a:avLst/>
              <a:gdLst/>
              <a:ahLst/>
              <a:rect l="l" t="t" r="r" b="b"/>
              <a:pathLst>
                <a:path w="1265" h="821">
                  <a:moveTo>
                    <a:pt x="1096" y="1"/>
                  </a:moveTo>
                  <a:lnTo>
                    <a:pt x="1128" y="38"/>
                  </a:lnTo>
                  <a:lnTo>
                    <a:pt x="1159" y="72"/>
                  </a:lnTo>
                  <a:lnTo>
                    <a:pt x="1187" y="106"/>
                  </a:lnTo>
                  <a:lnTo>
                    <a:pt x="1213" y="135"/>
                  </a:lnTo>
                  <a:lnTo>
                    <a:pt x="1234" y="160"/>
                  </a:lnTo>
                  <a:lnTo>
                    <a:pt x="1251" y="179"/>
                  </a:lnTo>
                  <a:lnTo>
                    <a:pt x="1260" y="191"/>
                  </a:lnTo>
                  <a:lnTo>
                    <a:pt x="1265" y="195"/>
                  </a:lnTo>
                  <a:lnTo>
                    <a:pt x="1261" y="213"/>
                  </a:lnTo>
                  <a:lnTo>
                    <a:pt x="1251" y="261"/>
                  </a:lnTo>
                  <a:lnTo>
                    <a:pt x="1241" y="295"/>
                  </a:lnTo>
                  <a:lnTo>
                    <a:pt x="1228" y="333"/>
                  </a:lnTo>
                  <a:lnTo>
                    <a:pt x="1219" y="353"/>
                  </a:lnTo>
                  <a:lnTo>
                    <a:pt x="1211" y="375"/>
                  </a:lnTo>
                  <a:lnTo>
                    <a:pt x="1201" y="397"/>
                  </a:lnTo>
                  <a:lnTo>
                    <a:pt x="1190" y="420"/>
                  </a:lnTo>
                  <a:lnTo>
                    <a:pt x="1177" y="444"/>
                  </a:lnTo>
                  <a:lnTo>
                    <a:pt x="1164" y="468"/>
                  </a:lnTo>
                  <a:lnTo>
                    <a:pt x="1149" y="492"/>
                  </a:lnTo>
                  <a:lnTo>
                    <a:pt x="1134" y="516"/>
                  </a:lnTo>
                  <a:lnTo>
                    <a:pt x="1115" y="541"/>
                  </a:lnTo>
                  <a:lnTo>
                    <a:pt x="1097" y="566"/>
                  </a:lnTo>
                  <a:lnTo>
                    <a:pt x="1077" y="591"/>
                  </a:lnTo>
                  <a:lnTo>
                    <a:pt x="1055" y="615"/>
                  </a:lnTo>
                  <a:lnTo>
                    <a:pt x="1032" y="639"/>
                  </a:lnTo>
                  <a:lnTo>
                    <a:pt x="1006" y="663"/>
                  </a:lnTo>
                  <a:lnTo>
                    <a:pt x="980" y="686"/>
                  </a:lnTo>
                  <a:lnTo>
                    <a:pt x="951" y="708"/>
                  </a:lnTo>
                  <a:lnTo>
                    <a:pt x="921" y="730"/>
                  </a:lnTo>
                  <a:lnTo>
                    <a:pt x="890" y="751"/>
                  </a:lnTo>
                  <a:lnTo>
                    <a:pt x="855" y="770"/>
                  </a:lnTo>
                  <a:lnTo>
                    <a:pt x="819" y="788"/>
                  </a:lnTo>
                  <a:lnTo>
                    <a:pt x="783" y="792"/>
                  </a:lnTo>
                  <a:lnTo>
                    <a:pt x="745" y="801"/>
                  </a:lnTo>
                  <a:lnTo>
                    <a:pt x="707" y="809"/>
                  </a:lnTo>
                  <a:lnTo>
                    <a:pt x="669" y="815"/>
                  </a:lnTo>
                  <a:lnTo>
                    <a:pt x="633" y="819"/>
                  </a:lnTo>
                  <a:lnTo>
                    <a:pt x="596" y="821"/>
                  </a:lnTo>
                  <a:lnTo>
                    <a:pt x="560" y="821"/>
                  </a:lnTo>
                  <a:lnTo>
                    <a:pt x="524" y="819"/>
                  </a:lnTo>
                  <a:lnTo>
                    <a:pt x="489" y="815"/>
                  </a:lnTo>
                  <a:lnTo>
                    <a:pt x="455" y="811"/>
                  </a:lnTo>
                  <a:lnTo>
                    <a:pt x="422" y="806"/>
                  </a:lnTo>
                  <a:lnTo>
                    <a:pt x="388" y="799"/>
                  </a:lnTo>
                  <a:lnTo>
                    <a:pt x="357" y="791"/>
                  </a:lnTo>
                  <a:lnTo>
                    <a:pt x="326" y="782"/>
                  </a:lnTo>
                  <a:lnTo>
                    <a:pt x="295" y="773"/>
                  </a:lnTo>
                  <a:lnTo>
                    <a:pt x="267" y="762"/>
                  </a:lnTo>
                  <a:lnTo>
                    <a:pt x="239" y="753"/>
                  </a:lnTo>
                  <a:lnTo>
                    <a:pt x="212" y="742"/>
                  </a:lnTo>
                  <a:lnTo>
                    <a:pt x="187" y="730"/>
                  </a:lnTo>
                  <a:lnTo>
                    <a:pt x="164" y="719"/>
                  </a:lnTo>
                  <a:lnTo>
                    <a:pt x="141" y="708"/>
                  </a:lnTo>
                  <a:lnTo>
                    <a:pt x="100" y="687"/>
                  </a:lnTo>
                  <a:lnTo>
                    <a:pt x="65" y="666"/>
                  </a:lnTo>
                  <a:lnTo>
                    <a:pt x="17" y="635"/>
                  </a:lnTo>
                  <a:lnTo>
                    <a:pt x="0" y="623"/>
                  </a:lnTo>
                  <a:lnTo>
                    <a:pt x="8" y="365"/>
                  </a:lnTo>
                  <a:lnTo>
                    <a:pt x="33" y="349"/>
                  </a:lnTo>
                  <a:lnTo>
                    <a:pt x="103" y="306"/>
                  </a:lnTo>
                  <a:lnTo>
                    <a:pt x="153" y="278"/>
                  </a:lnTo>
                  <a:lnTo>
                    <a:pt x="211" y="245"/>
                  </a:lnTo>
                  <a:lnTo>
                    <a:pt x="244" y="229"/>
                  </a:lnTo>
                  <a:lnTo>
                    <a:pt x="277" y="212"/>
                  </a:lnTo>
                  <a:lnTo>
                    <a:pt x="314" y="194"/>
                  </a:lnTo>
                  <a:lnTo>
                    <a:pt x="352" y="176"/>
                  </a:lnTo>
                  <a:lnTo>
                    <a:pt x="390" y="159"/>
                  </a:lnTo>
                  <a:lnTo>
                    <a:pt x="430" y="141"/>
                  </a:lnTo>
                  <a:lnTo>
                    <a:pt x="473" y="125"/>
                  </a:lnTo>
                  <a:lnTo>
                    <a:pt x="516" y="108"/>
                  </a:lnTo>
                  <a:lnTo>
                    <a:pt x="560" y="93"/>
                  </a:lnTo>
                  <a:lnTo>
                    <a:pt x="607" y="78"/>
                  </a:lnTo>
                  <a:lnTo>
                    <a:pt x="653" y="64"/>
                  </a:lnTo>
                  <a:lnTo>
                    <a:pt x="699" y="51"/>
                  </a:lnTo>
                  <a:lnTo>
                    <a:pt x="748" y="39"/>
                  </a:lnTo>
                  <a:lnTo>
                    <a:pt x="797" y="28"/>
                  </a:lnTo>
                  <a:lnTo>
                    <a:pt x="845" y="19"/>
                  </a:lnTo>
                  <a:lnTo>
                    <a:pt x="895" y="12"/>
                  </a:lnTo>
                  <a:lnTo>
                    <a:pt x="946" y="5"/>
                  </a:lnTo>
                  <a:lnTo>
                    <a:pt x="996" y="2"/>
                  </a:lnTo>
                  <a:lnTo>
                    <a:pt x="1046" y="0"/>
                  </a:lnTo>
                  <a:lnTo>
                    <a:pt x="1096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6698520" y="2686320"/>
              <a:ext cx="630720" cy="408600"/>
            </a:xfrm>
            <a:custGeom>
              <a:avLst/>
              <a:gdLst/>
              <a:ahLst/>
              <a:rect l="l" t="t" r="r" b="b"/>
              <a:pathLst>
                <a:path w="1265" h="821">
                  <a:moveTo>
                    <a:pt x="1096" y="1"/>
                  </a:moveTo>
                  <a:lnTo>
                    <a:pt x="1128" y="38"/>
                  </a:lnTo>
                  <a:lnTo>
                    <a:pt x="1159" y="72"/>
                  </a:lnTo>
                  <a:lnTo>
                    <a:pt x="1187" y="106"/>
                  </a:lnTo>
                  <a:lnTo>
                    <a:pt x="1213" y="135"/>
                  </a:lnTo>
                  <a:lnTo>
                    <a:pt x="1234" y="160"/>
                  </a:lnTo>
                  <a:lnTo>
                    <a:pt x="1251" y="179"/>
                  </a:lnTo>
                  <a:lnTo>
                    <a:pt x="1260" y="191"/>
                  </a:lnTo>
                  <a:lnTo>
                    <a:pt x="1265" y="195"/>
                  </a:lnTo>
                  <a:lnTo>
                    <a:pt x="1261" y="213"/>
                  </a:lnTo>
                  <a:lnTo>
                    <a:pt x="1251" y="261"/>
                  </a:lnTo>
                  <a:lnTo>
                    <a:pt x="1241" y="295"/>
                  </a:lnTo>
                  <a:lnTo>
                    <a:pt x="1228" y="333"/>
                  </a:lnTo>
                  <a:lnTo>
                    <a:pt x="1219" y="353"/>
                  </a:lnTo>
                  <a:lnTo>
                    <a:pt x="1211" y="375"/>
                  </a:lnTo>
                  <a:lnTo>
                    <a:pt x="1201" y="397"/>
                  </a:lnTo>
                  <a:lnTo>
                    <a:pt x="1190" y="420"/>
                  </a:lnTo>
                  <a:lnTo>
                    <a:pt x="1177" y="444"/>
                  </a:lnTo>
                  <a:lnTo>
                    <a:pt x="1164" y="468"/>
                  </a:lnTo>
                  <a:lnTo>
                    <a:pt x="1149" y="492"/>
                  </a:lnTo>
                  <a:lnTo>
                    <a:pt x="1134" y="516"/>
                  </a:lnTo>
                  <a:lnTo>
                    <a:pt x="1115" y="541"/>
                  </a:lnTo>
                  <a:lnTo>
                    <a:pt x="1097" y="566"/>
                  </a:lnTo>
                  <a:lnTo>
                    <a:pt x="1077" y="591"/>
                  </a:lnTo>
                  <a:lnTo>
                    <a:pt x="1055" y="615"/>
                  </a:lnTo>
                  <a:lnTo>
                    <a:pt x="1032" y="639"/>
                  </a:lnTo>
                  <a:lnTo>
                    <a:pt x="1006" y="663"/>
                  </a:lnTo>
                  <a:lnTo>
                    <a:pt x="980" y="686"/>
                  </a:lnTo>
                  <a:lnTo>
                    <a:pt x="951" y="708"/>
                  </a:lnTo>
                  <a:lnTo>
                    <a:pt x="921" y="730"/>
                  </a:lnTo>
                  <a:lnTo>
                    <a:pt x="890" y="751"/>
                  </a:lnTo>
                  <a:lnTo>
                    <a:pt x="855" y="770"/>
                  </a:lnTo>
                  <a:lnTo>
                    <a:pt x="819" y="788"/>
                  </a:lnTo>
                  <a:lnTo>
                    <a:pt x="783" y="792"/>
                  </a:lnTo>
                  <a:lnTo>
                    <a:pt x="745" y="801"/>
                  </a:lnTo>
                  <a:lnTo>
                    <a:pt x="707" y="809"/>
                  </a:lnTo>
                  <a:lnTo>
                    <a:pt x="669" y="815"/>
                  </a:lnTo>
                  <a:lnTo>
                    <a:pt x="633" y="819"/>
                  </a:lnTo>
                  <a:lnTo>
                    <a:pt x="596" y="821"/>
                  </a:lnTo>
                  <a:lnTo>
                    <a:pt x="560" y="821"/>
                  </a:lnTo>
                  <a:lnTo>
                    <a:pt x="524" y="819"/>
                  </a:lnTo>
                  <a:lnTo>
                    <a:pt x="489" y="815"/>
                  </a:lnTo>
                  <a:lnTo>
                    <a:pt x="455" y="811"/>
                  </a:lnTo>
                  <a:lnTo>
                    <a:pt x="422" y="806"/>
                  </a:lnTo>
                  <a:lnTo>
                    <a:pt x="388" y="799"/>
                  </a:lnTo>
                  <a:lnTo>
                    <a:pt x="357" y="791"/>
                  </a:lnTo>
                  <a:lnTo>
                    <a:pt x="326" y="782"/>
                  </a:lnTo>
                  <a:lnTo>
                    <a:pt x="295" y="773"/>
                  </a:lnTo>
                  <a:lnTo>
                    <a:pt x="267" y="762"/>
                  </a:lnTo>
                  <a:lnTo>
                    <a:pt x="239" y="753"/>
                  </a:lnTo>
                  <a:lnTo>
                    <a:pt x="212" y="742"/>
                  </a:lnTo>
                  <a:lnTo>
                    <a:pt x="187" y="730"/>
                  </a:lnTo>
                  <a:lnTo>
                    <a:pt x="164" y="719"/>
                  </a:lnTo>
                  <a:lnTo>
                    <a:pt x="141" y="708"/>
                  </a:lnTo>
                  <a:lnTo>
                    <a:pt x="100" y="687"/>
                  </a:lnTo>
                  <a:lnTo>
                    <a:pt x="65" y="666"/>
                  </a:lnTo>
                  <a:lnTo>
                    <a:pt x="17" y="635"/>
                  </a:lnTo>
                  <a:lnTo>
                    <a:pt x="0" y="623"/>
                  </a:lnTo>
                  <a:lnTo>
                    <a:pt x="8" y="365"/>
                  </a:lnTo>
                  <a:lnTo>
                    <a:pt x="33" y="349"/>
                  </a:lnTo>
                  <a:lnTo>
                    <a:pt x="103" y="306"/>
                  </a:lnTo>
                  <a:lnTo>
                    <a:pt x="153" y="278"/>
                  </a:lnTo>
                  <a:lnTo>
                    <a:pt x="211" y="245"/>
                  </a:lnTo>
                  <a:lnTo>
                    <a:pt x="244" y="229"/>
                  </a:lnTo>
                  <a:lnTo>
                    <a:pt x="277" y="212"/>
                  </a:lnTo>
                  <a:lnTo>
                    <a:pt x="314" y="194"/>
                  </a:lnTo>
                  <a:lnTo>
                    <a:pt x="352" y="176"/>
                  </a:lnTo>
                  <a:lnTo>
                    <a:pt x="390" y="159"/>
                  </a:lnTo>
                  <a:lnTo>
                    <a:pt x="430" y="141"/>
                  </a:lnTo>
                  <a:lnTo>
                    <a:pt x="473" y="125"/>
                  </a:lnTo>
                  <a:lnTo>
                    <a:pt x="516" y="108"/>
                  </a:lnTo>
                  <a:lnTo>
                    <a:pt x="560" y="93"/>
                  </a:lnTo>
                  <a:lnTo>
                    <a:pt x="607" y="78"/>
                  </a:lnTo>
                  <a:lnTo>
                    <a:pt x="653" y="64"/>
                  </a:lnTo>
                  <a:lnTo>
                    <a:pt x="699" y="51"/>
                  </a:lnTo>
                  <a:lnTo>
                    <a:pt x="748" y="39"/>
                  </a:lnTo>
                  <a:lnTo>
                    <a:pt x="797" y="28"/>
                  </a:lnTo>
                  <a:lnTo>
                    <a:pt x="845" y="19"/>
                  </a:lnTo>
                  <a:lnTo>
                    <a:pt x="895" y="12"/>
                  </a:lnTo>
                  <a:lnTo>
                    <a:pt x="946" y="5"/>
                  </a:lnTo>
                  <a:lnTo>
                    <a:pt x="996" y="2"/>
                  </a:lnTo>
                  <a:lnTo>
                    <a:pt x="1046" y="0"/>
                  </a:lnTo>
                  <a:lnTo>
                    <a:pt x="1096" y="1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6722280" y="2808000"/>
              <a:ext cx="602640" cy="205200"/>
            </a:xfrm>
            <a:custGeom>
              <a:avLst/>
              <a:gdLst/>
              <a:ahLst/>
              <a:rect l="l" t="t" r="r" b="b"/>
              <a:pathLst>
                <a:path w="1208" h="412">
                  <a:moveTo>
                    <a:pt x="0" y="412"/>
                  </a:moveTo>
                  <a:lnTo>
                    <a:pt x="0" y="412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0" y="410"/>
                  </a:lnTo>
                  <a:lnTo>
                    <a:pt x="2" y="409"/>
                  </a:lnTo>
                  <a:lnTo>
                    <a:pt x="4" y="407"/>
                  </a:lnTo>
                  <a:lnTo>
                    <a:pt x="9" y="405"/>
                  </a:lnTo>
                  <a:lnTo>
                    <a:pt x="16" y="401"/>
                  </a:lnTo>
                  <a:lnTo>
                    <a:pt x="44" y="383"/>
                  </a:lnTo>
                  <a:lnTo>
                    <a:pt x="80" y="362"/>
                  </a:lnTo>
                  <a:lnTo>
                    <a:pt x="123" y="338"/>
                  </a:lnTo>
                  <a:lnTo>
                    <a:pt x="174" y="310"/>
                  </a:lnTo>
                  <a:lnTo>
                    <a:pt x="231" y="281"/>
                  </a:lnTo>
                  <a:lnTo>
                    <a:pt x="295" y="251"/>
                  </a:lnTo>
                  <a:lnTo>
                    <a:pt x="364" y="218"/>
                  </a:lnTo>
                  <a:lnTo>
                    <a:pt x="440" y="186"/>
                  </a:lnTo>
                  <a:lnTo>
                    <a:pt x="480" y="171"/>
                  </a:lnTo>
                  <a:lnTo>
                    <a:pt x="521" y="155"/>
                  </a:lnTo>
                  <a:lnTo>
                    <a:pt x="564" y="139"/>
                  </a:lnTo>
                  <a:lnTo>
                    <a:pt x="607" y="124"/>
                  </a:lnTo>
                  <a:lnTo>
                    <a:pt x="652" y="109"/>
                  </a:lnTo>
                  <a:lnTo>
                    <a:pt x="698" y="95"/>
                  </a:lnTo>
                  <a:lnTo>
                    <a:pt x="744" y="82"/>
                  </a:lnTo>
                  <a:lnTo>
                    <a:pt x="792" y="69"/>
                  </a:lnTo>
                  <a:lnTo>
                    <a:pt x="842" y="57"/>
                  </a:lnTo>
                  <a:lnTo>
                    <a:pt x="891" y="45"/>
                  </a:lnTo>
                  <a:lnTo>
                    <a:pt x="942" y="35"/>
                  </a:lnTo>
                  <a:lnTo>
                    <a:pt x="993" y="26"/>
                  </a:lnTo>
                  <a:lnTo>
                    <a:pt x="1046" y="17"/>
                  </a:lnTo>
                  <a:lnTo>
                    <a:pt x="1099" y="10"/>
                  </a:lnTo>
                  <a:lnTo>
                    <a:pt x="1153" y="4"/>
                  </a:lnTo>
                  <a:lnTo>
                    <a:pt x="1207" y="0"/>
                  </a:lnTo>
                  <a:lnTo>
                    <a:pt x="1208" y="0"/>
                  </a:lnTo>
                  <a:lnTo>
                    <a:pt x="1207" y="0"/>
                  </a:lnTo>
                  <a:lnTo>
                    <a:pt x="1206" y="0"/>
                  </a:lnTo>
                  <a:lnTo>
                    <a:pt x="1205" y="0"/>
                  </a:lnTo>
                  <a:lnTo>
                    <a:pt x="1203" y="0"/>
                  </a:lnTo>
                  <a:lnTo>
                    <a:pt x="1202" y="1"/>
                  </a:lnTo>
                  <a:lnTo>
                    <a:pt x="1202" y="1"/>
                  </a:lnTo>
                  <a:lnTo>
                    <a:pt x="1203" y="1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6698520" y="2686320"/>
              <a:ext cx="630720" cy="310680"/>
            </a:xfrm>
            <a:custGeom>
              <a:avLst/>
              <a:gdLst/>
              <a:ahLst/>
              <a:rect l="l" t="t" r="r" b="b"/>
              <a:pathLst>
                <a:path w="1265" h="623">
                  <a:moveTo>
                    <a:pt x="1265" y="195"/>
                  </a:moveTo>
                  <a:lnTo>
                    <a:pt x="1201" y="201"/>
                  </a:lnTo>
                  <a:lnTo>
                    <a:pt x="1137" y="207"/>
                  </a:lnTo>
                  <a:lnTo>
                    <a:pt x="1075" y="216"/>
                  </a:lnTo>
                  <a:lnTo>
                    <a:pt x="1014" y="227"/>
                  </a:lnTo>
                  <a:lnTo>
                    <a:pt x="954" y="239"/>
                  </a:lnTo>
                  <a:lnTo>
                    <a:pt x="895" y="252"/>
                  </a:lnTo>
                  <a:lnTo>
                    <a:pt x="838" y="266"/>
                  </a:lnTo>
                  <a:lnTo>
                    <a:pt x="782" y="281"/>
                  </a:lnTo>
                  <a:lnTo>
                    <a:pt x="727" y="297"/>
                  </a:lnTo>
                  <a:lnTo>
                    <a:pt x="674" y="314"/>
                  </a:lnTo>
                  <a:lnTo>
                    <a:pt x="622" y="332"/>
                  </a:lnTo>
                  <a:lnTo>
                    <a:pt x="571" y="350"/>
                  </a:lnTo>
                  <a:lnTo>
                    <a:pt x="522" y="368"/>
                  </a:lnTo>
                  <a:lnTo>
                    <a:pt x="476" y="387"/>
                  </a:lnTo>
                  <a:lnTo>
                    <a:pt x="432" y="405"/>
                  </a:lnTo>
                  <a:lnTo>
                    <a:pt x="388" y="424"/>
                  </a:lnTo>
                  <a:lnTo>
                    <a:pt x="347" y="443"/>
                  </a:lnTo>
                  <a:lnTo>
                    <a:pt x="308" y="461"/>
                  </a:lnTo>
                  <a:lnTo>
                    <a:pt x="272" y="480"/>
                  </a:lnTo>
                  <a:lnTo>
                    <a:pt x="237" y="497"/>
                  </a:lnTo>
                  <a:lnTo>
                    <a:pt x="175" y="530"/>
                  </a:lnTo>
                  <a:lnTo>
                    <a:pt x="124" y="559"/>
                  </a:lnTo>
                  <a:lnTo>
                    <a:pt x="52" y="603"/>
                  </a:lnTo>
                  <a:lnTo>
                    <a:pt x="26" y="619"/>
                  </a:lnTo>
                  <a:lnTo>
                    <a:pt x="0" y="623"/>
                  </a:lnTo>
                  <a:lnTo>
                    <a:pt x="8" y="365"/>
                  </a:lnTo>
                  <a:lnTo>
                    <a:pt x="33" y="349"/>
                  </a:lnTo>
                  <a:lnTo>
                    <a:pt x="103" y="306"/>
                  </a:lnTo>
                  <a:lnTo>
                    <a:pt x="153" y="278"/>
                  </a:lnTo>
                  <a:lnTo>
                    <a:pt x="211" y="245"/>
                  </a:lnTo>
                  <a:lnTo>
                    <a:pt x="244" y="229"/>
                  </a:lnTo>
                  <a:lnTo>
                    <a:pt x="277" y="212"/>
                  </a:lnTo>
                  <a:lnTo>
                    <a:pt x="314" y="194"/>
                  </a:lnTo>
                  <a:lnTo>
                    <a:pt x="352" y="176"/>
                  </a:lnTo>
                  <a:lnTo>
                    <a:pt x="390" y="159"/>
                  </a:lnTo>
                  <a:lnTo>
                    <a:pt x="430" y="141"/>
                  </a:lnTo>
                  <a:lnTo>
                    <a:pt x="473" y="125"/>
                  </a:lnTo>
                  <a:lnTo>
                    <a:pt x="516" y="108"/>
                  </a:lnTo>
                  <a:lnTo>
                    <a:pt x="560" y="93"/>
                  </a:lnTo>
                  <a:lnTo>
                    <a:pt x="607" y="78"/>
                  </a:lnTo>
                  <a:lnTo>
                    <a:pt x="653" y="64"/>
                  </a:lnTo>
                  <a:lnTo>
                    <a:pt x="699" y="51"/>
                  </a:lnTo>
                  <a:lnTo>
                    <a:pt x="748" y="39"/>
                  </a:lnTo>
                  <a:lnTo>
                    <a:pt x="797" y="28"/>
                  </a:lnTo>
                  <a:lnTo>
                    <a:pt x="845" y="19"/>
                  </a:lnTo>
                  <a:lnTo>
                    <a:pt x="895" y="12"/>
                  </a:lnTo>
                  <a:lnTo>
                    <a:pt x="946" y="5"/>
                  </a:lnTo>
                  <a:lnTo>
                    <a:pt x="996" y="2"/>
                  </a:lnTo>
                  <a:lnTo>
                    <a:pt x="1046" y="0"/>
                  </a:lnTo>
                  <a:lnTo>
                    <a:pt x="1096" y="1"/>
                  </a:lnTo>
                  <a:lnTo>
                    <a:pt x="1128" y="38"/>
                  </a:lnTo>
                  <a:lnTo>
                    <a:pt x="1159" y="72"/>
                  </a:lnTo>
                  <a:lnTo>
                    <a:pt x="1187" y="106"/>
                  </a:lnTo>
                  <a:lnTo>
                    <a:pt x="1213" y="135"/>
                  </a:lnTo>
                  <a:lnTo>
                    <a:pt x="1234" y="160"/>
                  </a:lnTo>
                  <a:lnTo>
                    <a:pt x="1251" y="179"/>
                  </a:lnTo>
                  <a:lnTo>
                    <a:pt x="1260" y="191"/>
                  </a:lnTo>
                  <a:lnTo>
                    <a:pt x="1265" y="1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942160" y="3326040"/>
              <a:ext cx="1863720" cy="605880"/>
            </a:xfrm>
            <a:custGeom>
              <a:avLst/>
              <a:gdLst/>
              <a:ahLst/>
              <a:rect l="l" t="t" r="r" b="b"/>
              <a:pathLst>
                <a:path w="3737" h="1216">
                  <a:moveTo>
                    <a:pt x="6" y="534"/>
                  </a:moveTo>
                  <a:lnTo>
                    <a:pt x="1640" y="0"/>
                  </a:lnTo>
                  <a:lnTo>
                    <a:pt x="3737" y="445"/>
                  </a:lnTo>
                  <a:lnTo>
                    <a:pt x="3737" y="650"/>
                  </a:lnTo>
                  <a:lnTo>
                    <a:pt x="2146" y="1216"/>
                  </a:lnTo>
                  <a:lnTo>
                    <a:pt x="0" y="735"/>
                  </a:lnTo>
                  <a:lnTo>
                    <a:pt x="6" y="534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942160" y="3326040"/>
              <a:ext cx="1863720" cy="605880"/>
            </a:xfrm>
            <a:custGeom>
              <a:avLst/>
              <a:gdLst/>
              <a:ahLst/>
              <a:rect l="l" t="t" r="r" b="b"/>
              <a:pathLst>
                <a:path w="3737" h="1216">
                  <a:moveTo>
                    <a:pt x="6" y="534"/>
                  </a:moveTo>
                  <a:lnTo>
                    <a:pt x="1640" y="0"/>
                  </a:lnTo>
                  <a:lnTo>
                    <a:pt x="3737" y="445"/>
                  </a:lnTo>
                  <a:lnTo>
                    <a:pt x="3737" y="650"/>
                  </a:lnTo>
                  <a:lnTo>
                    <a:pt x="2146" y="1216"/>
                  </a:lnTo>
                  <a:lnTo>
                    <a:pt x="0" y="735"/>
                  </a:lnTo>
                  <a:lnTo>
                    <a:pt x="6" y="534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946120" y="3326040"/>
              <a:ext cx="1859760" cy="502200"/>
            </a:xfrm>
            <a:custGeom>
              <a:avLst/>
              <a:gdLst/>
              <a:ahLst/>
              <a:rect l="l" t="t" r="r" b="b"/>
              <a:pathLst>
                <a:path w="3731" h="1007">
                  <a:moveTo>
                    <a:pt x="3731" y="449"/>
                  </a:moveTo>
                  <a:lnTo>
                    <a:pt x="2149" y="1007"/>
                  </a:lnTo>
                  <a:lnTo>
                    <a:pt x="0" y="526"/>
                  </a:lnTo>
                  <a:lnTo>
                    <a:pt x="1634" y="0"/>
                  </a:lnTo>
                  <a:lnTo>
                    <a:pt x="3731" y="445"/>
                  </a:lnTo>
                  <a:lnTo>
                    <a:pt x="3731" y="44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946120" y="3326040"/>
              <a:ext cx="1859760" cy="502200"/>
            </a:xfrm>
            <a:custGeom>
              <a:avLst/>
              <a:gdLst/>
              <a:ahLst/>
              <a:rect l="l" t="t" r="r" b="b"/>
              <a:pathLst>
                <a:path w="3731" h="1007">
                  <a:moveTo>
                    <a:pt x="3731" y="449"/>
                  </a:moveTo>
                  <a:lnTo>
                    <a:pt x="2149" y="1007"/>
                  </a:lnTo>
                  <a:lnTo>
                    <a:pt x="0" y="526"/>
                  </a:lnTo>
                  <a:lnTo>
                    <a:pt x="1634" y="0"/>
                  </a:lnTo>
                  <a:lnTo>
                    <a:pt x="3731" y="445"/>
                  </a:lnTo>
                  <a:lnTo>
                    <a:pt x="3731" y="449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7167240" y="2833920"/>
              <a:ext cx="205920" cy="209160"/>
            </a:xfrm>
            <a:custGeom>
              <a:avLst/>
              <a:gdLst/>
              <a:ahLst/>
              <a:rect l="l" t="t" r="r" b="b"/>
              <a:pathLst>
                <a:path w="409" h="420">
                  <a:moveTo>
                    <a:pt x="95" y="420"/>
                  </a:moveTo>
                  <a:lnTo>
                    <a:pt x="94" y="410"/>
                  </a:lnTo>
                  <a:lnTo>
                    <a:pt x="94" y="401"/>
                  </a:lnTo>
                  <a:lnTo>
                    <a:pt x="95" y="390"/>
                  </a:lnTo>
                  <a:lnTo>
                    <a:pt x="97" y="379"/>
                  </a:lnTo>
                  <a:lnTo>
                    <a:pt x="100" y="368"/>
                  </a:lnTo>
                  <a:lnTo>
                    <a:pt x="105" y="356"/>
                  </a:lnTo>
                  <a:lnTo>
                    <a:pt x="111" y="344"/>
                  </a:lnTo>
                  <a:lnTo>
                    <a:pt x="117" y="332"/>
                  </a:lnTo>
                  <a:lnTo>
                    <a:pt x="125" y="322"/>
                  </a:lnTo>
                  <a:lnTo>
                    <a:pt x="133" y="310"/>
                  </a:lnTo>
                  <a:lnTo>
                    <a:pt x="143" y="298"/>
                  </a:lnTo>
                  <a:lnTo>
                    <a:pt x="153" y="286"/>
                  </a:lnTo>
                  <a:lnTo>
                    <a:pt x="175" y="262"/>
                  </a:lnTo>
                  <a:lnTo>
                    <a:pt x="198" y="241"/>
                  </a:lnTo>
                  <a:lnTo>
                    <a:pt x="223" y="219"/>
                  </a:lnTo>
                  <a:lnTo>
                    <a:pt x="250" y="200"/>
                  </a:lnTo>
                  <a:lnTo>
                    <a:pt x="276" y="182"/>
                  </a:lnTo>
                  <a:lnTo>
                    <a:pt x="303" y="167"/>
                  </a:lnTo>
                  <a:lnTo>
                    <a:pt x="316" y="161"/>
                  </a:lnTo>
                  <a:lnTo>
                    <a:pt x="329" y="155"/>
                  </a:lnTo>
                  <a:lnTo>
                    <a:pt x="342" y="150"/>
                  </a:lnTo>
                  <a:lnTo>
                    <a:pt x="354" y="147"/>
                  </a:lnTo>
                  <a:lnTo>
                    <a:pt x="366" y="143"/>
                  </a:lnTo>
                  <a:lnTo>
                    <a:pt x="377" y="141"/>
                  </a:lnTo>
                  <a:lnTo>
                    <a:pt x="387" y="139"/>
                  </a:lnTo>
                  <a:lnTo>
                    <a:pt x="397" y="139"/>
                  </a:lnTo>
                  <a:lnTo>
                    <a:pt x="409" y="142"/>
                  </a:lnTo>
                  <a:lnTo>
                    <a:pt x="393" y="122"/>
                  </a:lnTo>
                  <a:lnTo>
                    <a:pt x="378" y="104"/>
                  </a:lnTo>
                  <a:lnTo>
                    <a:pt x="364" y="85"/>
                  </a:lnTo>
                  <a:lnTo>
                    <a:pt x="350" y="68"/>
                  </a:lnTo>
                  <a:lnTo>
                    <a:pt x="337" y="52"/>
                  </a:lnTo>
                  <a:lnTo>
                    <a:pt x="326" y="38"/>
                  </a:lnTo>
                  <a:lnTo>
                    <a:pt x="315" y="26"/>
                  </a:lnTo>
                  <a:lnTo>
                    <a:pt x="306" y="15"/>
                  </a:lnTo>
                  <a:lnTo>
                    <a:pt x="300" y="7"/>
                  </a:lnTo>
                  <a:lnTo>
                    <a:pt x="291" y="3"/>
                  </a:lnTo>
                  <a:lnTo>
                    <a:pt x="280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5" y="4"/>
                  </a:lnTo>
                  <a:lnTo>
                    <a:pt x="232" y="10"/>
                  </a:lnTo>
                  <a:lnTo>
                    <a:pt x="218" y="16"/>
                  </a:lnTo>
                  <a:lnTo>
                    <a:pt x="203" y="24"/>
                  </a:lnTo>
                  <a:lnTo>
                    <a:pt x="188" y="32"/>
                  </a:lnTo>
                  <a:lnTo>
                    <a:pt x="172" y="43"/>
                  </a:lnTo>
                  <a:lnTo>
                    <a:pt x="157" y="55"/>
                  </a:lnTo>
                  <a:lnTo>
                    <a:pt x="142" y="68"/>
                  </a:lnTo>
                  <a:lnTo>
                    <a:pt x="127" y="81"/>
                  </a:lnTo>
                  <a:lnTo>
                    <a:pt x="112" y="95"/>
                  </a:lnTo>
                  <a:lnTo>
                    <a:pt x="97" y="110"/>
                  </a:lnTo>
                  <a:lnTo>
                    <a:pt x="83" y="125"/>
                  </a:lnTo>
                  <a:lnTo>
                    <a:pt x="70" y="141"/>
                  </a:lnTo>
                  <a:lnTo>
                    <a:pt x="57" y="158"/>
                  </a:lnTo>
                  <a:lnTo>
                    <a:pt x="46" y="175"/>
                  </a:lnTo>
                  <a:lnTo>
                    <a:pt x="35" y="191"/>
                  </a:lnTo>
                  <a:lnTo>
                    <a:pt x="25" y="207"/>
                  </a:lnTo>
                  <a:lnTo>
                    <a:pt x="17" y="224"/>
                  </a:lnTo>
                  <a:lnTo>
                    <a:pt x="10" y="241"/>
                  </a:lnTo>
                  <a:lnTo>
                    <a:pt x="5" y="256"/>
                  </a:lnTo>
                  <a:lnTo>
                    <a:pt x="1" y="272"/>
                  </a:lnTo>
                  <a:lnTo>
                    <a:pt x="0" y="286"/>
                  </a:lnTo>
                  <a:lnTo>
                    <a:pt x="0" y="301"/>
                  </a:lnTo>
                  <a:lnTo>
                    <a:pt x="1" y="314"/>
                  </a:lnTo>
                  <a:lnTo>
                    <a:pt x="5" y="326"/>
                  </a:lnTo>
                  <a:lnTo>
                    <a:pt x="11" y="338"/>
                  </a:lnTo>
                  <a:lnTo>
                    <a:pt x="20" y="349"/>
                  </a:lnTo>
                  <a:lnTo>
                    <a:pt x="32" y="359"/>
                  </a:lnTo>
                  <a:lnTo>
                    <a:pt x="41" y="368"/>
                  </a:lnTo>
                  <a:lnTo>
                    <a:pt x="47" y="374"/>
                  </a:lnTo>
                  <a:lnTo>
                    <a:pt x="54" y="379"/>
                  </a:lnTo>
                  <a:lnTo>
                    <a:pt x="59" y="383"/>
                  </a:lnTo>
                  <a:lnTo>
                    <a:pt x="65" y="389"/>
                  </a:lnTo>
                  <a:lnTo>
                    <a:pt x="73" y="395"/>
                  </a:lnTo>
                  <a:lnTo>
                    <a:pt x="84" y="405"/>
                  </a:lnTo>
                  <a:lnTo>
                    <a:pt x="95" y="4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165440" y="2835720"/>
              <a:ext cx="325440" cy="336960"/>
            </a:xfrm>
            <a:custGeom>
              <a:avLst/>
              <a:gdLst/>
              <a:ahLst/>
              <a:rect l="l" t="t" r="r" b="b"/>
              <a:pathLst>
                <a:path w="653" h="676">
                  <a:moveTo>
                    <a:pt x="310" y="16"/>
                  </a:moveTo>
                  <a:lnTo>
                    <a:pt x="303" y="9"/>
                  </a:lnTo>
                  <a:lnTo>
                    <a:pt x="294" y="4"/>
                  </a:lnTo>
                  <a:lnTo>
                    <a:pt x="284" y="1"/>
                  </a:lnTo>
                  <a:lnTo>
                    <a:pt x="274" y="0"/>
                  </a:lnTo>
                  <a:lnTo>
                    <a:pt x="262" y="1"/>
                  </a:lnTo>
                  <a:lnTo>
                    <a:pt x="249" y="4"/>
                  </a:lnTo>
                  <a:lnTo>
                    <a:pt x="235" y="9"/>
                  </a:lnTo>
                  <a:lnTo>
                    <a:pt x="221" y="14"/>
                  </a:lnTo>
                  <a:lnTo>
                    <a:pt x="205" y="22"/>
                  </a:lnTo>
                  <a:lnTo>
                    <a:pt x="190" y="30"/>
                  </a:lnTo>
                  <a:lnTo>
                    <a:pt x="175" y="41"/>
                  </a:lnTo>
                  <a:lnTo>
                    <a:pt x="160" y="52"/>
                  </a:lnTo>
                  <a:lnTo>
                    <a:pt x="144" y="64"/>
                  </a:lnTo>
                  <a:lnTo>
                    <a:pt x="129" y="77"/>
                  </a:lnTo>
                  <a:lnTo>
                    <a:pt x="114" y="91"/>
                  </a:lnTo>
                  <a:lnTo>
                    <a:pt x="100" y="105"/>
                  </a:lnTo>
                  <a:lnTo>
                    <a:pt x="86" y="120"/>
                  </a:lnTo>
                  <a:lnTo>
                    <a:pt x="72" y="135"/>
                  </a:lnTo>
                  <a:lnTo>
                    <a:pt x="59" y="150"/>
                  </a:lnTo>
                  <a:lnTo>
                    <a:pt x="48" y="166"/>
                  </a:lnTo>
                  <a:lnTo>
                    <a:pt x="37" y="183"/>
                  </a:lnTo>
                  <a:lnTo>
                    <a:pt x="27" y="199"/>
                  </a:lnTo>
                  <a:lnTo>
                    <a:pt x="19" y="215"/>
                  </a:lnTo>
                  <a:lnTo>
                    <a:pt x="11" y="230"/>
                  </a:lnTo>
                  <a:lnTo>
                    <a:pt x="6" y="246"/>
                  </a:lnTo>
                  <a:lnTo>
                    <a:pt x="2" y="261"/>
                  </a:lnTo>
                  <a:lnTo>
                    <a:pt x="0" y="275"/>
                  </a:lnTo>
                  <a:lnTo>
                    <a:pt x="0" y="289"/>
                  </a:lnTo>
                  <a:lnTo>
                    <a:pt x="1" y="302"/>
                  </a:lnTo>
                  <a:lnTo>
                    <a:pt x="6" y="314"/>
                  </a:lnTo>
                  <a:lnTo>
                    <a:pt x="12" y="326"/>
                  </a:lnTo>
                  <a:lnTo>
                    <a:pt x="21" y="336"/>
                  </a:lnTo>
                  <a:lnTo>
                    <a:pt x="116" y="428"/>
                  </a:lnTo>
                  <a:lnTo>
                    <a:pt x="195" y="502"/>
                  </a:lnTo>
                  <a:lnTo>
                    <a:pt x="258" y="562"/>
                  </a:lnTo>
                  <a:lnTo>
                    <a:pt x="308" y="607"/>
                  </a:lnTo>
                  <a:lnTo>
                    <a:pt x="346" y="639"/>
                  </a:lnTo>
                  <a:lnTo>
                    <a:pt x="371" y="661"/>
                  </a:lnTo>
                  <a:lnTo>
                    <a:pt x="385" y="673"/>
                  </a:lnTo>
                  <a:lnTo>
                    <a:pt x="389" y="676"/>
                  </a:lnTo>
                  <a:lnTo>
                    <a:pt x="395" y="676"/>
                  </a:lnTo>
                  <a:lnTo>
                    <a:pt x="406" y="673"/>
                  </a:lnTo>
                  <a:lnTo>
                    <a:pt x="426" y="669"/>
                  </a:lnTo>
                  <a:lnTo>
                    <a:pt x="451" y="661"/>
                  </a:lnTo>
                  <a:lnTo>
                    <a:pt x="465" y="657"/>
                  </a:lnTo>
                  <a:lnTo>
                    <a:pt x="479" y="650"/>
                  </a:lnTo>
                  <a:lnTo>
                    <a:pt x="494" y="644"/>
                  </a:lnTo>
                  <a:lnTo>
                    <a:pt x="509" y="637"/>
                  </a:lnTo>
                  <a:lnTo>
                    <a:pt x="524" y="629"/>
                  </a:lnTo>
                  <a:lnTo>
                    <a:pt x="539" y="619"/>
                  </a:lnTo>
                  <a:lnTo>
                    <a:pt x="554" y="609"/>
                  </a:lnTo>
                  <a:lnTo>
                    <a:pt x="569" y="597"/>
                  </a:lnTo>
                  <a:lnTo>
                    <a:pt x="586" y="582"/>
                  </a:lnTo>
                  <a:lnTo>
                    <a:pt x="601" y="567"/>
                  </a:lnTo>
                  <a:lnTo>
                    <a:pt x="614" y="552"/>
                  </a:lnTo>
                  <a:lnTo>
                    <a:pt x="625" y="538"/>
                  </a:lnTo>
                  <a:lnTo>
                    <a:pt x="633" y="525"/>
                  </a:lnTo>
                  <a:lnTo>
                    <a:pt x="641" y="512"/>
                  </a:lnTo>
                  <a:lnTo>
                    <a:pt x="646" y="500"/>
                  </a:lnTo>
                  <a:lnTo>
                    <a:pt x="650" y="489"/>
                  </a:lnTo>
                  <a:lnTo>
                    <a:pt x="652" y="478"/>
                  </a:lnTo>
                  <a:lnTo>
                    <a:pt x="653" y="470"/>
                  </a:lnTo>
                  <a:lnTo>
                    <a:pt x="653" y="461"/>
                  </a:lnTo>
                  <a:lnTo>
                    <a:pt x="652" y="453"/>
                  </a:lnTo>
                  <a:lnTo>
                    <a:pt x="650" y="446"/>
                  </a:lnTo>
                  <a:lnTo>
                    <a:pt x="646" y="440"/>
                  </a:lnTo>
                  <a:lnTo>
                    <a:pt x="643" y="435"/>
                  </a:lnTo>
                  <a:lnTo>
                    <a:pt x="638" y="431"/>
                  </a:lnTo>
                  <a:lnTo>
                    <a:pt x="627" y="417"/>
                  </a:lnTo>
                  <a:lnTo>
                    <a:pt x="597" y="378"/>
                  </a:lnTo>
                  <a:lnTo>
                    <a:pt x="553" y="322"/>
                  </a:lnTo>
                  <a:lnTo>
                    <a:pt x="500" y="256"/>
                  </a:lnTo>
                  <a:lnTo>
                    <a:pt x="445" y="185"/>
                  </a:lnTo>
                  <a:lnTo>
                    <a:pt x="391" y="117"/>
                  </a:lnTo>
                  <a:lnTo>
                    <a:pt x="345" y="58"/>
                  </a:lnTo>
                  <a:lnTo>
                    <a:pt x="3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7167240" y="2965320"/>
              <a:ext cx="229320" cy="203400"/>
            </a:xfrm>
            <a:custGeom>
              <a:avLst/>
              <a:gdLst/>
              <a:ahLst/>
              <a:rect l="l" t="t" r="r" b="b"/>
              <a:pathLst>
                <a:path w="463" h="412">
                  <a:moveTo>
                    <a:pt x="9" y="41"/>
                  </a:moveTo>
                  <a:lnTo>
                    <a:pt x="6" y="38"/>
                  </a:lnTo>
                  <a:lnTo>
                    <a:pt x="4" y="36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5" y="1"/>
                  </a:lnTo>
                  <a:lnTo>
                    <a:pt x="5" y="0"/>
                  </a:lnTo>
                  <a:lnTo>
                    <a:pt x="113" y="90"/>
                  </a:lnTo>
                  <a:lnTo>
                    <a:pt x="206" y="170"/>
                  </a:lnTo>
                  <a:lnTo>
                    <a:pt x="285" y="238"/>
                  </a:lnTo>
                  <a:lnTo>
                    <a:pt x="348" y="294"/>
                  </a:lnTo>
                  <a:lnTo>
                    <a:pt x="398" y="339"/>
                  </a:lnTo>
                  <a:lnTo>
                    <a:pt x="434" y="372"/>
                  </a:lnTo>
                  <a:lnTo>
                    <a:pt x="455" y="391"/>
                  </a:lnTo>
                  <a:lnTo>
                    <a:pt x="463" y="398"/>
                  </a:lnTo>
                  <a:lnTo>
                    <a:pt x="460" y="399"/>
                  </a:lnTo>
                  <a:lnTo>
                    <a:pt x="453" y="402"/>
                  </a:lnTo>
                  <a:lnTo>
                    <a:pt x="443" y="405"/>
                  </a:lnTo>
                  <a:lnTo>
                    <a:pt x="433" y="409"/>
                  </a:lnTo>
                  <a:lnTo>
                    <a:pt x="422" y="411"/>
                  </a:lnTo>
                  <a:lnTo>
                    <a:pt x="412" y="412"/>
                  </a:lnTo>
                  <a:lnTo>
                    <a:pt x="409" y="412"/>
                  </a:lnTo>
                  <a:lnTo>
                    <a:pt x="407" y="411"/>
                  </a:lnTo>
                  <a:lnTo>
                    <a:pt x="404" y="409"/>
                  </a:lnTo>
                  <a:lnTo>
                    <a:pt x="404" y="405"/>
                  </a:lnTo>
                  <a:lnTo>
                    <a:pt x="391" y="393"/>
                  </a:lnTo>
                  <a:lnTo>
                    <a:pt x="357" y="360"/>
                  </a:lnTo>
                  <a:lnTo>
                    <a:pt x="305" y="311"/>
                  </a:lnTo>
                  <a:lnTo>
                    <a:pt x="243" y="253"/>
                  </a:lnTo>
                  <a:lnTo>
                    <a:pt x="178" y="191"/>
                  </a:lnTo>
                  <a:lnTo>
                    <a:pt x="113" y="131"/>
                  </a:lnTo>
                  <a:lnTo>
                    <a:pt x="54" y="79"/>
                  </a:lnTo>
                  <a:lnTo>
                    <a:pt x="9" y="41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7167240" y="2965320"/>
              <a:ext cx="229320" cy="203400"/>
            </a:xfrm>
            <a:custGeom>
              <a:avLst/>
              <a:gdLst/>
              <a:ahLst/>
              <a:rect l="l" t="t" r="r" b="b"/>
              <a:pathLst>
                <a:path w="463" h="412">
                  <a:moveTo>
                    <a:pt x="9" y="41"/>
                  </a:moveTo>
                  <a:lnTo>
                    <a:pt x="6" y="38"/>
                  </a:lnTo>
                  <a:lnTo>
                    <a:pt x="4" y="36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5" y="1"/>
                  </a:lnTo>
                  <a:lnTo>
                    <a:pt x="5" y="0"/>
                  </a:lnTo>
                  <a:lnTo>
                    <a:pt x="113" y="90"/>
                  </a:lnTo>
                  <a:lnTo>
                    <a:pt x="206" y="170"/>
                  </a:lnTo>
                  <a:lnTo>
                    <a:pt x="285" y="238"/>
                  </a:lnTo>
                  <a:lnTo>
                    <a:pt x="348" y="294"/>
                  </a:lnTo>
                  <a:lnTo>
                    <a:pt x="398" y="339"/>
                  </a:lnTo>
                  <a:lnTo>
                    <a:pt x="434" y="372"/>
                  </a:lnTo>
                  <a:lnTo>
                    <a:pt x="455" y="391"/>
                  </a:lnTo>
                  <a:lnTo>
                    <a:pt x="463" y="398"/>
                  </a:lnTo>
                  <a:lnTo>
                    <a:pt x="460" y="399"/>
                  </a:lnTo>
                  <a:lnTo>
                    <a:pt x="453" y="402"/>
                  </a:lnTo>
                  <a:lnTo>
                    <a:pt x="443" y="405"/>
                  </a:lnTo>
                  <a:lnTo>
                    <a:pt x="433" y="409"/>
                  </a:lnTo>
                  <a:lnTo>
                    <a:pt x="422" y="411"/>
                  </a:lnTo>
                  <a:lnTo>
                    <a:pt x="412" y="412"/>
                  </a:lnTo>
                  <a:lnTo>
                    <a:pt x="409" y="412"/>
                  </a:lnTo>
                  <a:lnTo>
                    <a:pt x="407" y="411"/>
                  </a:lnTo>
                  <a:lnTo>
                    <a:pt x="404" y="409"/>
                  </a:lnTo>
                  <a:lnTo>
                    <a:pt x="404" y="405"/>
                  </a:lnTo>
                  <a:lnTo>
                    <a:pt x="391" y="393"/>
                  </a:lnTo>
                  <a:lnTo>
                    <a:pt x="357" y="360"/>
                  </a:lnTo>
                  <a:lnTo>
                    <a:pt x="305" y="311"/>
                  </a:lnTo>
                  <a:lnTo>
                    <a:pt x="243" y="253"/>
                  </a:lnTo>
                  <a:lnTo>
                    <a:pt x="178" y="191"/>
                  </a:lnTo>
                  <a:lnTo>
                    <a:pt x="113" y="131"/>
                  </a:lnTo>
                  <a:lnTo>
                    <a:pt x="54" y="79"/>
                  </a:lnTo>
                  <a:lnTo>
                    <a:pt x="9" y="41"/>
                  </a:lnTo>
                </a:path>
              </a:pathLst>
            </a:custGeom>
            <a:noFill/>
            <a:ln w="3240">
              <a:solidFill>
                <a:srgbClr val="a9a9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7281360" y="2835720"/>
              <a:ext cx="207000" cy="246960"/>
            </a:xfrm>
            <a:custGeom>
              <a:avLst/>
              <a:gdLst/>
              <a:ahLst/>
              <a:rect l="l" t="t" r="r" b="b"/>
              <a:pathLst>
                <a:path w="414" h="496">
                  <a:moveTo>
                    <a:pt x="33" y="5"/>
                  </a:moveTo>
                  <a:lnTo>
                    <a:pt x="26" y="1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6" y="5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90" y="116"/>
                  </a:lnTo>
                  <a:lnTo>
                    <a:pt x="170" y="211"/>
                  </a:lnTo>
                  <a:lnTo>
                    <a:pt x="240" y="293"/>
                  </a:lnTo>
                  <a:lnTo>
                    <a:pt x="300" y="363"/>
                  </a:lnTo>
                  <a:lnTo>
                    <a:pt x="346" y="420"/>
                  </a:lnTo>
                  <a:lnTo>
                    <a:pt x="382" y="461"/>
                  </a:lnTo>
                  <a:lnTo>
                    <a:pt x="402" y="487"/>
                  </a:lnTo>
                  <a:lnTo>
                    <a:pt x="410" y="496"/>
                  </a:lnTo>
                  <a:lnTo>
                    <a:pt x="410" y="495"/>
                  </a:lnTo>
                  <a:lnTo>
                    <a:pt x="411" y="492"/>
                  </a:lnTo>
                  <a:lnTo>
                    <a:pt x="412" y="488"/>
                  </a:lnTo>
                  <a:lnTo>
                    <a:pt x="413" y="484"/>
                  </a:lnTo>
                  <a:lnTo>
                    <a:pt x="414" y="480"/>
                  </a:lnTo>
                  <a:lnTo>
                    <a:pt x="414" y="475"/>
                  </a:lnTo>
                  <a:lnTo>
                    <a:pt x="413" y="472"/>
                  </a:lnTo>
                  <a:lnTo>
                    <a:pt x="411" y="472"/>
                  </a:lnTo>
                  <a:lnTo>
                    <a:pt x="399" y="455"/>
                  </a:lnTo>
                  <a:lnTo>
                    <a:pt x="365" y="410"/>
                  </a:lnTo>
                  <a:lnTo>
                    <a:pt x="315" y="345"/>
                  </a:lnTo>
                  <a:lnTo>
                    <a:pt x="255" y="268"/>
                  </a:lnTo>
                  <a:lnTo>
                    <a:pt x="191" y="187"/>
                  </a:lnTo>
                  <a:lnTo>
                    <a:pt x="129" y="110"/>
                  </a:lnTo>
                  <a:lnTo>
                    <a:pt x="100" y="77"/>
                  </a:lnTo>
                  <a:lnTo>
                    <a:pt x="74" y="47"/>
                  </a:lnTo>
                  <a:lnTo>
                    <a:pt x="51" y="2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7281360" y="2835720"/>
              <a:ext cx="207000" cy="246960"/>
            </a:xfrm>
            <a:custGeom>
              <a:avLst/>
              <a:gdLst/>
              <a:ahLst/>
              <a:rect l="l" t="t" r="r" b="b"/>
              <a:pathLst>
                <a:path w="414" h="496">
                  <a:moveTo>
                    <a:pt x="33" y="5"/>
                  </a:moveTo>
                  <a:lnTo>
                    <a:pt x="26" y="1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6" y="5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90" y="116"/>
                  </a:lnTo>
                  <a:lnTo>
                    <a:pt x="170" y="211"/>
                  </a:lnTo>
                  <a:lnTo>
                    <a:pt x="240" y="293"/>
                  </a:lnTo>
                  <a:lnTo>
                    <a:pt x="300" y="363"/>
                  </a:lnTo>
                  <a:lnTo>
                    <a:pt x="346" y="420"/>
                  </a:lnTo>
                  <a:lnTo>
                    <a:pt x="382" y="461"/>
                  </a:lnTo>
                  <a:lnTo>
                    <a:pt x="402" y="487"/>
                  </a:lnTo>
                  <a:lnTo>
                    <a:pt x="410" y="496"/>
                  </a:lnTo>
                  <a:lnTo>
                    <a:pt x="410" y="495"/>
                  </a:lnTo>
                  <a:lnTo>
                    <a:pt x="411" y="492"/>
                  </a:lnTo>
                  <a:lnTo>
                    <a:pt x="412" y="488"/>
                  </a:lnTo>
                  <a:lnTo>
                    <a:pt x="413" y="484"/>
                  </a:lnTo>
                  <a:lnTo>
                    <a:pt x="414" y="480"/>
                  </a:lnTo>
                  <a:lnTo>
                    <a:pt x="414" y="475"/>
                  </a:lnTo>
                  <a:lnTo>
                    <a:pt x="413" y="472"/>
                  </a:lnTo>
                  <a:lnTo>
                    <a:pt x="411" y="472"/>
                  </a:lnTo>
                  <a:lnTo>
                    <a:pt x="399" y="455"/>
                  </a:lnTo>
                  <a:lnTo>
                    <a:pt x="365" y="410"/>
                  </a:lnTo>
                  <a:lnTo>
                    <a:pt x="315" y="345"/>
                  </a:lnTo>
                  <a:lnTo>
                    <a:pt x="255" y="268"/>
                  </a:lnTo>
                  <a:lnTo>
                    <a:pt x="191" y="187"/>
                  </a:lnTo>
                  <a:lnTo>
                    <a:pt x="129" y="110"/>
                  </a:lnTo>
                  <a:lnTo>
                    <a:pt x="100" y="77"/>
                  </a:lnTo>
                  <a:lnTo>
                    <a:pt x="74" y="47"/>
                  </a:lnTo>
                  <a:lnTo>
                    <a:pt x="51" y="23"/>
                  </a:lnTo>
                  <a:lnTo>
                    <a:pt x="33" y="5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7237440" y="2847960"/>
              <a:ext cx="245160" cy="267120"/>
            </a:xfrm>
            <a:custGeom>
              <a:avLst/>
              <a:gdLst/>
              <a:ahLst/>
              <a:rect l="l" t="t" r="r" b="b"/>
              <a:pathLst>
                <a:path w="491" h="538">
                  <a:moveTo>
                    <a:pt x="69" y="2"/>
                  </a:moveTo>
                  <a:lnTo>
                    <a:pt x="6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2"/>
                  </a:lnTo>
                  <a:lnTo>
                    <a:pt x="41" y="7"/>
                  </a:lnTo>
                  <a:lnTo>
                    <a:pt x="29" y="15"/>
                  </a:lnTo>
                  <a:lnTo>
                    <a:pt x="18" y="24"/>
                  </a:lnTo>
                  <a:lnTo>
                    <a:pt x="9" y="31"/>
                  </a:lnTo>
                  <a:lnTo>
                    <a:pt x="2" y="37"/>
                  </a:lnTo>
                  <a:lnTo>
                    <a:pt x="0" y="39"/>
                  </a:lnTo>
                  <a:lnTo>
                    <a:pt x="95" y="147"/>
                  </a:lnTo>
                  <a:lnTo>
                    <a:pt x="181" y="243"/>
                  </a:lnTo>
                  <a:lnTo>
                    <a:pt x="259" y="328"/>
                  </a:lnTo>
                  <a:lnTo>
                    <a:pt x="327" y="401"/>
                  </a:lnTo>
                  <a:lnTo>
                    <a:pt x="382" y="459"/>
                  </a:lnTo>
                  <a:lnTo>
                    <a:pt x="424" y="502"/>
                  </a:lnTo>
                  <a:lnTo>
                    <a:pt x="448" y="528"/>
                  </a:lnTo>
                  <a:lnTo>
                    <a:pt x="458" y="538"/>
                  </a:lnTo>
                  <a:lnTo>
                    <a:pt x="460" y="536"/>
                  </a:lnTo>
                  <a:lnTo>
                    <a:pt x="465" y="529"/>
                  </a:lnTo>
                  <a:lnTo>
                    <a:pt x="472" y="520"/>
                  </a:lnTo>
                  <a:lnTo>
                    <a:pt x="479" y="511"/>
                  </a:lnTo>
                  <a:lnTo>
                    <a:pt x="485" y="501"/>
                  </a:lnTo>
                  <a:lnTo>
                    <a:pt x="489" y="493"/>
                  </a:lnTo>
                  <a:lnTo>
                    <a:pt x="491" y="490"/>
                  </a:lnTo>
                  <a:lnTo>
                    <a:pt x="491" y="487"/>
                  </a:lnTo>
                  <a:lnTo>
                    <a:pt x="488" y="486"/>
                  </a:lnTo>
                  <a:lnTo>
                    <a:pt x="486" y="486"/>
                  </a:lnTo>
                  <a:lnTo>
                    <a:pt x="471" y="469"/>
                  </a:lnTo>
                  <a:lnTo>
                    <a:pt x="432" y="423"/>
                  </a:lnTo>
                  <a:lnTo>
                    <a:pt x="376" y="358"/>
                  </a:lnTo>
                  <a:lnTo>
                    <a:pt x="309" y="281"/>
                  </a:lnTo>
                  <a:lnTo>
                    <a:pt x="238" y="198"/>
                  </a:lnTo>
                  <a:lnTo>
                    <a:pt x="169" y="119"/>
                  </a:lnTo>
                  <a:lnTo>
                    <a:pt x="111" y="51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7237440" y="2847960"/>
              <a:ext cx="245160" cy="267120"/>
            </a:xfrm>
            <a:custGeom>
              <a:avLst/>
              <a:gdLst/>
              <a:ahLst/>
              <a:rect l="l" t="t" r="r" b="b"/>
              <a:pathLst>
                <a:path w="491" h="538">
                  <a:moveTo>
                    <a:pt x="69" y="2"/>
                  </a:moveTo>
                  <a:lnTo>
                    <a:pt x="6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2"/>
                  </a:lnTo>
                  <a:lnTo>
                    <a:pt x="41" y="7"/>
                  </a:lnTo>
                  <a:lnTo>
                    <a:pt x="29" y="15"/>
                  </a:lnTo>
                  <a:lnTo>
                    <a:pt x="18" y="24"/>
                  </a:lnTo>
                  <a:lnTo>
                    <a:pt x="9" y="31"/>
                  </a:lnTo>
                  <a:lnTo>
                    <a:pt x="2" y="37"/>
                  </a:lnTo>
                  <a:lnTo>
                    <a:pt x="0" y="39"/>
                  </a:lnTo>
                  <a:lnTo>
                    <a:pt x="95" y="147"/>
                  </a:lnTo>
                  <a:lnTo>
                    <a:pt x="181" y="243"/>
                  </a:lnTo>
                  <a:lnTo>
                    <a:pt x="259" y="328"/>
                  </a:lnTo>
                  <a:lnTo>
                    <a:pt x="327" y="401"/>
                  </a:lnTo>
                  <a:lnTo>
                    <a:pt x="382" y="459"/>
                  </a:lnTo>
                  <a:lnTo>
                    <a:pt x="424" y="502"/>
                  </a:lnTo>
                  <a:lnTo>
                    <a:pt x="448" y="528"/>
                  </a:lnTo>
                  <a:lnTo>
                    <a:pt x="458" y="538"/>
                  </a:lnTo>
                  <a:lnTo>
                    <a:pt x="460" y="536"/>
                  </a:lnTo>
                  <a:lnTo>
                    <a:pt x="465" y="529"/>
                  </a:lnTo>
                  <a:lnTo>
                    <a:pt x="472" y="520"/>
                  </a:lnTo>
                  <a:lnTo>
                    <a:pt x="479" y="511"/>
                  </a:lnTo>
                  <a:lnTo>
                    <a:pt x="485" y="501"/>
                  </a:lnTo>
                  <a:lnTo>
                    <a:pt x="489" y="493"/>
                  </a:lnTo>
                  <a:lnTo>
                    <a:pt x="491" y="490"/>
                  </a:lnTo>
                  <a:lnTo>
                    <a:pt x="491" y="487"/>
                  </a:lnTo>
                  <a:lnTo>
                    <a:pt x="488" y="486"/>
                  </a:lnTo>
                  <a:lnTo>
                    <a:pt x="486" y="486"/>
                  </a:lnTo>
                  <a:lnTo>
                    <a:pt x="471" y="469"/>
                  </a:lnTo>
                  <a:lnTo>
                    <a:pt x="432" y="423"/>
                  </a:lnTo>
                  <a:lnTo>
                    <a:pt x="376" y="358"/>
                  </a:lnTo>
                  <a:lnTo>
                    <a:pt x="309" y="281"/>
                  </a:lnTo>
                  <a:lnTo>
                    <a:pt x="238" y="198"/>
                  </a:lnTo>
                  <a:lnTo>
                    <a:pt x="169" y="119"/>
                  </a:lnTo>
                  <a:lnTo>
                    <a:pt x="111" y="51"/>
                  </a:lnTo>
                  <a:lnTo>
                    <a:pt x="69" y="2"/>
                  </a:lnTo>
                </a:path>
              </a:pathLst>
            </a:custGeom>
            <a:noFill/>
            <a:ln w="3240">
              <a:solidFill>
                <a:srgbClr val="a9a9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7183800" y="2929680"/>
              <a:ext cx="239400" cy="223200"/>
            </a:xfrm>
            <a:custGeom>
              <a:avLst/>
              <a:gdLst/>
              <a:ahLst/>
              <a:rect l="l" t="t" r="r" b="b"/>
              <a:pathLst>
                <a:path w="483" h="449">
                  <a:moveTo>
                    <a:pt x="4" y="18"/>
                  </a:moveTo>
                  <a:lnTo>
                    <a:pt x="2" y="16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5" y="3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16" y="97"/>
                  </a:lnTo>
                  <a:lnTo>
                    <a:pt x="207" y="184"/>
                  </a:lnTo>
                  <a:lnTo>
                    <a:pt x="286" y="259"/>
                  </a:lnTo>
                  <a:lnTo>
                    <a:pt x="354" y="323"/>
                  </a:lnTo>
                  <a:lnTo>
                    <a:pt x="408" y="374"/>
                  </a:lnTo>
                  <a:lnTo>
                    <a:pt x="449" y="411"/>
                  </a:lnTo>
                  <a:lnTo>
                    <a:pt x="474" y="434"/>
                  </a:lnTo>
                  <a:lnTo>
                    <a:pt x="483" y="443"/>
                  </a:lnTo>
                  <a:lnTo>
                    <a:pt x="482" y="443"/>
                  </a:lnTo>
                  <a:lnTo>
                    <a:pt x="480" y="444"/>
                  </a:lnTo>
                  <a:lnTo>
                    <a:pt x="477" y="446"/>
                  </a:lnTo>
                  <a:lnTo>
                    <a:pt x="474" y="447"/>
                  </a:lnTo>
                  <a:lnTo>
                    <a:pt x="471" y="448"/>
                  </a:lnTo>
                  <a:lnTo>
                    <a:pt x="469" y="449"/>
                  </a:lnTo>
                  <a:lnTo>
                    <a:pt x="466" y="448"/>
                  </a:lnTo>
                  <a:lnTo>
                    <a:pt x="465" y="447"/>
                  </a:lnTo>
                  <a:lnTo>
                    <a:pt x="449" y="432"/>
                  </a:lnTo>
                  <a:lnTo>
                    <a:pt x="404" y="393"/>
                  </a:lnTo>
                  <a:lnTo>
                    <a:pt x="339" y="336"/>
                  </a:lnTo>
                  <a:lnTo>
                    <a:pt x="262" y="268"/>
                  </a:lnTo>
                  <a:lnTo>
                    <a:pt x="182" y="195"/>
                  </a:lnTo>
                  <a:lnTo>
                    <a:pt x="107" y="125"/>
                  </a:lnTo>
                  <a:lnTo>
                    <a:pt x="73" y="93"/>
                  </a:lnTo>
                  <a:lnTo>
                    <a:pt x="45" y="64"/>
                  </a:lnTo>
                  <a:lnTo>
                    <a:pt x="21" y="39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7183800" y="2929680"/>
              <a:ext cx="239400" cy="223200"/>
            </a:xfrm>
            <a:custGeom>
              <a:avLst/>
              <a:gdLst/>
              <a:ahLst/>
              <a:rect l="l" t="t" r="r" b="b"/>
              <a:pathLst>
                <a:path w="483" h="449">
                  <a:moveTo>
                    <a:pt x="4" y="18"/>
                  </a:moveTo>
                  <a:lnTo>
                    <a:pt x="2" y="16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5" y="3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16" y="97"/>
                  </a:lnTo>
                  <a:lnTo>
                    <a:pt x="207" y="184"/>
                  </a:lnTo>
                  <a:lnTo>
                    <a:pt x="286" y="259"/>
                  </a:lnTo>
                  <a:lnTo>
                    <a:pt x="354" y="323"/>
                  </a:lnTo>
                  <a:lnTo>
                    <a:pt x="408" y="374"/>
                  </a:lnTo>
                  <a:lnTo>
                    <a:pt x="449" y="411"/>
                  </a:lnTo>
                  <a:lnTo>
                    <a:pt x="474" y="434"/>
                  </a:lnTo>
                  <a:lnTo>
                    <a:pt x="483" y="443"/>
                  </a:lnTo>
                  <a:lnTo>
                    <a:pt x="482" y="443"/>
                  </a:lnTo>
                  <a:lnTo>
                    <a:pt x="480" y="444"/>
                  </a:lnTo>
                  <a:lnTo>
                    <a:pt x="477" y="446"/>
                  </a:lnTo>
                  <a:lnTo>
                    <a:pt x="474" y="447"/>
                  </a:lnTo>
                  <a:lnTo>
                    <a:pt x="471" y="448"/>
                  </a:lnTo>
                  <a:lnTo>
                    <a:pt x="469" y="449"/>
                  </a:lnTo>
                  <a:lnTo>
                    <a:pt x="466" y="448"/>
                  </a:lnTo>
                  <a:lnTo>
                    <a:pt x="465" y="447"/>
                  </a:lnTo>
                  <a:lnTo>
                    <a:pt x="449" y="432"/>
                  </a:lnTo>
                  <a:lnTo>
                    <a:pt x="404" y="393"/>
                  </a:lnTo>
                  <a:lnTo>
                    <a:pt x="339" y="336"/>
                  </a:lnTo>
                  <a:lnTo>
                    <a:pt x="262" y="268"/>
                  </a:lnTo>
                  <a:lnTo>
                    <a:pt x="182" y="195"/>
                  </a:lnTo>
                  <a:lnTo>
                    <a:pt x="107" y="125"/>
                  </a:lnTo>
                  <a:lnTo>
                    <a:pt x="73" y="93"/>
                  </a:lnTo>
                  <a:lnTo>
                    <a:pt x="45" y="64"/>
                  </a:lnTo>
                  <a:lnTo>
                    <a:pt x="21" y="39"/>
                  </a:lnTo>
                  <a:lnTo>
                    <a:pt x="4" y="1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181280" y="2869560"/>
              <a:ext cx="155520" cy="145440"/>
            </a:xfrm>
            <a:custGeom>
              <a:avLst/>
              <a:gdLst/>
              <a:ahLst/>
              <a:rect l="l" t="t" r="r" b="b"/>
              <a:pathLst>
                <a:path w="315" h="292">
                  <a:moveTo>
                    <a:pt x="315" y="1"/>
                  </a:moveTo>
                  <a:lnTo>
                    <a:pt x="313" y="0"/>
                  </a:lnTo>
                  <a:lnTo>
                    <a:pt x="302" y="1"/>
                  </a:lnTo>
                  <a:lnTo>
                    <a:pt x="290" y="2"/>
                  </a:lnTo>
                  <a:lnTo>
                    <a:pt x="278" y="6"/>
                  </a:lnTo>
                  <a:lnTo>
                    <a:pt x="265" y="9"/>
                  </a:lnTo>
                  <a:lnTo>
                    <a:pt x="252" y="13"/>
                  </a:lnTo>
                  <a:lnTo>
                    <a:pt x="240" y="20"/>
                  </a:lnTo>
                  <a:lnTo>
                    <a:pt x="226" y="26"/>
                  </a:lnTo>
                  <a:lnTo>
                    <a:pt x="213" y="33"/>
                  </a:lnTo>
                  <a:lnTo>
                    <a:pt x="187" y="50"/>
                  </a:lnTo>
                  <a:lnTo>
                    <a:pt x="160" y="68"/>
                  </a:lnTo>
                  <a:lnTo>
                    <a:pt x="134" y="89"/>
                  </a:lnTo>
                  <a:lnTo>
                    <a:pt x="109" y="111"/>
                  </a:lnTo>
                  <a:lnTo>
                    <a:pt x="86" y="134"/>
                  </a:lnTo>
                  <a:lnTo>
                    <a:pt x="64" y="158"/>
                  </a:lnTo>
                  <a:lnTo>
                    <a:pt x="45" y="182"/>
                  </a:lnTo>
                  <a:lnTo>
                    <a:pt x="28" y="205"/>
                  </a:lnTo>
                  <a:lnTo>
                    <a:pt x="21" y="217"/>
                  </a:lnTo>
                  <a:lnTo>
                    <a:pt x="14" y="228"/>
                  </a:lnTo>
                  <a:lnTo>
                    <a:pt x="10" y="240"/>
                  </a:lnTo>
                  <a:lnTo>
                    <a:pt x="6" y="251"/>
                  </a:lnTo>
                  <a:lnTo>
                    <a:pt x="3" y="262"/>
                  </a:lnTo>
                  <a:lnTo>
                    <a:pt x="0" y="271"/>
                  </a:lnTo>
                  <a:lnTo>
                    <a:pt x="0" y="282"/>
                  </a:lnTo>
                  <a:lnTo>
                    <a:pt x="1" y="292"/>
                  </a:lnTo>
                  <a:lnTo>
                    <a:pt x="30" y="285"/>
                  </a:lnTo>
                  <a:lnTo>
                    <a:pt x="30" y="281"/>
                  </a:lnTo>
                  <a:lnTo>
                    <a:pt x="30" y="275"/>
                  </a:lnTo>
                  <a:lnTo>
                    <a:pt x="31" y="268"/>
                  </a:lnTo>
                  <a:lnTo>
                    <a:pt x="33" y="259"/>
                  </a:lnTo>
                  <a:lnTo>
                    <a:pt x="36" y="251"/>
                  </a:lnTo>
                  <a:lnTo>
                    <a:pt x="40" y="241"/>
                  </a:lnTo>
                  <a:lnTo>
                    <a:pt x="46" y="231"/>
                  </a:lnTo>
                  <a:lnTo>
                    <a:pt x="52" y="222"/>
                  </a:lnTo>
                  <a:lnTo>
                    <a:pt x="67" y="199"/>
                  </a:lnTo>
                  <a:lnTo>
                    <a:pt x="86" y="177"/>
                  </a:lnTo>
                  <a:lnTo>
                    <a:pt x="106" y="155"/>
                  </a:lnTo>
                  <a:lnTo>
                    <a:pt x="129" y="132"/>
                  </a:lnTo>
                  <a:lnTo>
                    <a:pt x="153" y="111"/>
                  </a:lnTo>
                  <a:lnTo>
                    <a:pt x="178" y="91"/>
                  </a:lnTo>
                  <a:lnTo>
                    <a:pt x="202" y="74"/>
                  </a:lnTo>
                  <a:lnTo>
                    <a:pt x="228" y="57"/>
                  </a:lnTo>
                  <a:lnTo>
                    <a:pt x="240" y="51"/>
                  </a:lnTo>
                  <a:lnTo>
                    <a:pt x="252" y="46"/>
                  </a:lnTo>
                  <a:lnTo>
                    <a:pt x="263" y="40"/>
                  </a:lnTo>
                  <a:lnTo>
                    <a:pt x="275" y="36"/>
                  </a:lnTo>
                  <a:lnTo>
                    <a:pt x="285" y="33"/>
                  </a:lnTo>
                  <a:lnTo>
                    <a:pt x="294" y="30"/>
                  </a:lnTo>
                  <a:lnTo>
                    <a:pt x="304" y="29"/>
                  </a:lnTo>
                  <a:lnTo>
                    <a:pt x="312" y="29"/>
                  </a:lnTo>
                  <a:lnTo>
                    <a:pt x="310" y="29"/>
                  </a:lnTo>
                  <a:lnTo>
                    <a:pt x="315" y="1"/>
                  </a:lnTo>
                  <a:lnTo>
                    <a:pt x="314" y="0"/>
                  </a:lnTo>
                  <a:lnTo>
                    <a:pt x="313" y="0"/>
                  </a:lnTo>
                  <a:lnTo>
                    <a:pt x="31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335360" y="2869560"/>
              <a:ext cx="17640" cy="18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6"/>
                  </a:moveTo>
                  <a:lnTo>
                    <a:pt x="5" y="0"/>
                  </a:lnTo>
                  <a:lnTo>
                    <a:pt x="0" y="28"/>
                  </a:lnTo>
                  <a:lnTo>
                    <a:pt x="31" y="34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175520" y="2859480"/>
              <a:ext cx="167400" cy="151200"/>
            </a:xfrm>
            <a:custGeom>
              <a:avLst/>
              <a:gdLst/>
              <a:ahLst/>
              <a:rect l="l" t="t" r="r" b="b"/>
              <a:pathLst>
                <a:path w="336" h="304">
                  <a:moveTo>
                    <a:pt x="336" y="17"/>
                  </a:moveTo>
                  <a:lnTo>
                    <a:pt x="328" y="9"/>
                  </a:lnTo>
                  <a:lnTo>
                    <a:pt x="319" y="4"/>
                  </a:lnTo>
                  <a:lnTo>
                    <a:pt x="309" y="2"/>
                  </a:lnTo>
                  <a:lnTo>
                    <a:pt x="298" y="0"/>
                  </a:lnTo>
                  <a:lnTo>
                    <a:pt x="285" y="1"/>
                  </a:lnTo>
                  <a:lnTo>
                    <a:pt x="272" y="3"/>
                  </a:lnTo>
                  <a:lnTo>
                    <a:pt x="257" y="6"/>
                  </a:lnTo>
                  <a:lnTo>
                    <a:pt x="242" y="10"/>
                  </a:lnTo>
                  <a:lnTo>
                    <a:pt x="226" y="17"/>
                  </a:lnTo>
                  <a:lnTo>
                    <a:pt x="210" y="25"/>
                  </a:lnTo>
                  <a:lnTo>
                    <a:pt x="194" y="33"/>
                  </a:lnTo>
                  <a:lnTo>
                    <a:pt x="178" y="43"/>
                  </a:lnTo>
                  <a:lnTo>
                    <a:pt x="161" y="54"/>
                  </a:lnTo>
                  <a:lnTo>
                    <a:pt x="144" y="66"/>
                  </a:lnTo>
                  <a:lnTo>
                    <a:pt x="128" y="77"/>
                  </a:lnTo>
                  <a:lnTo>
                    <a:pt x="112" y="90"/>
                  </a:lnTo>
                  <a:lnTo>
                    <a:pt x="97" y="103"/>
                  </a:lnTo>
                  <a:lnTo>
                    <a:pt x="83" y="117"/>
                  </a:lnTo>
                  <a:lnTo>
                    <a:pt x="69" y="131"/>
                  </a:lnTo>
                  <a:lnTo>
                    <a:pt x="56" y="147"/>
                  </a:lnTo>
                  <a:lnTo>
                    <a:pt x="43" y="161"/>
                  </a:lnTo>
                  <a:lnTo>
                    <a:pt x="32" y="176"/>
                  </a:lnTo>
                  <a:lnTo>
                    <a:pt x="23" y="190"/>
                  </a:lnTo>
                  <a:lnTo>
                    <a:pt x="15" y="205"/>
                  </a:lnTo>
                  <a:lnTo>
                    <a:pt x="8" y="219"/>
                  </a:lnTo>
                  <a:lnTo>
                    <a:pt x="4" y="233"/>
                  </a:lnTo>
                  <a:lnTo>
                    <a:pt x="1" y="247"/>
                  </a:lnTo>
                  <a:lnTo>
                    <a:pt x="0" y="260"/>
                  </a:lnTo>
                  <a:lnTo>
                    <a:pt x="1" y="272"/>
                  </a:lnTo>
                  <a:lnTo>
                    <a:pt x="5" y="284"/>
                  </a:lnTo>
                  <a:lnTo>
                    <a:pt x="10" y="295"/>
                  </a:lnTo>
                  <a:lnTo>
                    <a:pt x="19" y="304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203600" y="2891520"/>
              <a:ext cx="163080" cy="137160"/>
            </a:xfrm>
            <a:custGeom>
              <a:avLst/>
              <a:gdLst/>
              <a:ahLst/>
              <a:rect l="l" t="t" r="r" b="b"/>
              <a:pathLst>
                <a:path w="327" h="276">
                  <a:moveTo>
                    <a:pt x="1" y="276"/>
                  </a:moveTo>
                  <a:lnTo>
                    <a:pt x="0" y="268"/>
                  </a:lnTo>
                  <a:lnTo>
                    <a:pt x="0" y="260"/>
                  </a:lnTo>
                  <a:lnTo>
                    <a:pt x="2" y="251"/>
                  </a:lnTo>
                  <a:lnTo>
                    <a:pt x="4" y="241"/>
                  </a:lnTo>
                  <a:lnTo>
                    <a:pt x="8" y="232"/>
                  </a:lnTo>
                  <a:lnTo>
                    <a:pt x="13" y="222"/>
                  </a:lnTo>
                  <a:lnTo>
                    <a:pt x="18" y="211"/>
                  </a:lnTo>
                  <a:lnTo>
                    <a:pt x="26" y="200"/>
                  </a:lnTo>
                  <a:lnTo>
                    <a:pt x="41" y="178"/>
                  </a:lnTo>
                  <a:lnTo>
                    <a:pt x="60" y="154"/>
                  </a:lnTo>
                  <a:lnTo>
                    <a:pt x="81" y="131"/>
                  </a:lnTo>
                  <a:lnTo>
                    <a:pt x="105" y="108"/>
                  </a:lnTo>
                  <a:lnTo>
                    <a:pt x="128" y="87"/>
                  </a:lnTo>
                  <a:lnTo>
                    <a:pt x="154" y="66"/>
                  </a:lnTo>
                  <a:lnTo>
                    <a:pt x="179" y="48"/>
                  </a:lnTo>
                  <a:lnTo>
                    <a:pt x="205" y="32"/>
                  </a:lnTo>
                  <a:lnTo>
                    <a:pt x="218" y="24"/>
                  </a:lnTo>
                  <a:lnTo>
                    <a:pt x="230" y="18"/>
                  </a:lnTo>
                  <a:lnTo>
                    <a:pt x="242" y="12"/>
                  </a:lnTo>
                  <a:lnTo>
                    <a:pt x="254" y="8"/>
                  </a:lnTo>
                  <a:lnTo>
                    <a:pt x="266" y="5"/>
                  </a:lnTo>
                  <a:lnTo>
                    <a:pt x="276" y="1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27" y="7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167240" y="2835720"/>
              <a:ext cx="323640" cy="336960"/>
            </a:xfrm>
            <a:custGeom>
              <a:avLst/>
              <a:gdLst/>
              <a:ahLst/>
              <a:rect l="l" t="t" r="r" b="b"/>
              <a:pathLst>
                <a:path w="648" h="675">
                  <a:moveTo>
                    <a:pt x="305" y="15"/>
                  </a:moveTo>
                  <a:lnTo>
                    <a:pt x="298" y="8"/>
                  </a:lnTo>
                  <a:lnTo>
                    <a:pt x="289" y="3"/>
                  </a:lnTo>
                  <a:lnTo>
                    <a:pt x="279" y="0"/>
                  </a:lnTo>
                  <a:lnTo>
                    <a:pt x="269" y="0"/>
                  </a:lnTo>
                  <a:lnTo>
                    <a:pt x="257" y="1"/>
                  </a:lnTo>
                  <a:lnTo>
                    <a:pt x="244" y="4"/>
                  </a:lnTo>
                  <a:lnTo>
                    <a:pt x="231" y="9"/>
                  </a:lnTo>
                  <a:lnTo>
                    <a:pt x="216" y="15"/>
                  </a:lnTo>
                  <a:lnTo>
                    <a:pt x="202" y="23"/>
                  </a:lnTo>
                  <a:lnTo>
                    <a:pt x="186" y="31"/>
                  </a:lnTo>
                  <a:lnTo>
                    <a:pt x="171" y="42"/>
                  </a:lnTo>
                  <a:lnTo>
                    <a:pt x="156" y="54"/>
                  </a:lnTo>
                  <a:lnTo>
                    <a:pt x="141" y="66"/>
                  </a:lnTo>
                  <a:lnTo>
                    <a:pt x="126" y="80"/>
                  </a:lnTo>
                  <a:lnTo>
                    <a:pt x="111" y="94"/>
                  </a:lnTo>
                  <a:lnTo>
                    <a:pt x="97" y="108"/>
                  </a:lnTo>
                  <a:lnTo>
                    <a:pt x="83" y="124"/>
                  </a:lnTo>
                  <a:lnTo>
                    <a:pt x="70" y="139"/>
                  </a:lnTo>
                  <a:lnTo>
                    <a:pt x="57" y="156"/>
                  </a:lnTo>
                  <a:lnTo>
                    <a:pt x="45" y="172"/>
                  </a:lnTo>
                  <a:lnTo>
                    <a:pt x="34" y="189"/>
                  </a:lnTo>
                  <a:lnTo>
                    <a:pt x="25" y="205"/>
                  </a:lnTo>
                  <a:lnTo>
                    <a:pt x="17" y="221"/>
                  </a:lnTo>
                  <a:lnTo>
                    <a:pt x="10" y="238"/>
                  </a:lnTo>
                  <a:lnTo>
                    <a:pt x="5" y="254"/>
                  </a:lnTo>
                  <a:lnTo>
                    <a:pt x="1" y="269"/>
                  </a:lnTo>
                  <a:lnTo>
                    <a:pt x="0" y="284"/>
                  </a:lnTo>
                  <a:lnTo>
                    <a:pt x="0" y="298"/>
                  </a:lnTo>
                  <a:lnTo>
                    <a:pt x="1" y="311"/>
                  </a:lnTo>
                  <a:lnTo>
                    <a:pt x="5" y="323"/>
                  </a:lnTo>
                  <a:lnTo>
                    <a:pt x="11" y="335"/>
                  </a:lnTo>
                  <a:lnTo>
                    <a:pt x="20" y="346"/>
                  </a:lnTo>
                  <a:lnTo>
                    <a:pt x="115" y="436"/>
                  </a:lnTo>
                  <a:lnTo>
                    <a:pt x="193" y="510"/>
                  </a:lnTo>
                  <a:lnTo>
                    <a:pt x="257" y="568"/>
                  </a:lnTo>
                  <a:lnTo>
                    <a:pt x="305" y="611"/>
                  </a:lnTo>
                  <a:lnTo>
                    <a:pt x="342" y="642"/>
                  </a:lnTo>
                  <a:lnTo>
                    <a:pt x="366" y="662"/>
                  </a:lnTo>
                  <a:lnTo>
                    <a:pt x="380" y="673"/>
                  </a:lnTo>
                  <a:lnTo>
                    <a:pt x="384" y="675"/>
                  </a:lnTo>
                  <a:lnTo>
                    <a:pt x="390" y="675"/>
                  </a:lnTo>
                  <a:lnTo>
                    <a:pt x="401" y="672"/>
                  </a:lnTo>
                  <a:lnTo>
                    <a:pt x="421" y="668"/>
                  </a:lnTo>
                  <a:lnTo>
                    <a:pt x="446" y="660"/>
                  </a:lnTo>
                  <a:lnTo>
                    <a:pt x="460" y="656"/>
                  </a:lnTo>
                  <a:lnTo>
                    <a:pt x="474" y="649"/>
                  </a:lnTo>
                  <a:lnTo>
                    <a:pt x="489" y="643"/>
                  </a:lnTo>
                  <a:lnTo>
                    <a:pt x="504" y="636"/>
                  </a:lnTo>
                  <a:lnTo>
                    <a:pt x="519" y="628"/>
                  </a:lnTo>
                  <a:lnTo>
                    <a:pt x="534" y="618"/>
                  </a:lnTo>
                  <a:lnTo>
                    <a:pt x="549" y="608"/>
                  </a:lnTo>
                  <a:lnTo>
                    <a:pt x="564" y="596"/>
                  </a:lnTo>
                  <a:lnTo>
                    <a:pt x="581" y="581"/>
                  </a:lnTo>
                  <a:lnTo>
                    <a:pt x="596" y="566"/>
                  </a:lnTo>
                  <a:lnTo>
                    <a:pt x="609" y="551"/>
                  </a:lnTo>
                  <a:lnTo>
                    <a:pt x="620" y="537"/>
                  </a:lnTo>
                  <a:lnTo>
                    <a:pt x="628" y="524"/>
                  </a:lnTo>
                  <a:lnTo>
                    <a:pt x="636" y="511"/>
                  </a:lnTo>
                  <a:lnTo>
                    <a:pt x="641" y="499"/>
                  </a:lnTo>
                  <a:lnTo>
                    <a:pt x="645" y="488"/>
                  </a:lnTo>
                  <a:lnTo>
                    <a:pt x="647" y="477"/>
                  </a:lnTo>
                  <a:lnTo>
                    <a:pt x="648" y="469"/>
                  </a:lnTo>
                  <a:lnTo>
                    <a:pt x="648" y="460"/>
                  </a:lnTo>
                  <a:lnTo>
                    <a:pt x="647" y="452"/>
                  </a:lnTo>
                  <a:lnTo>
                    <a:pt x="645" y="445"/>
                  </a:lnTo>
                  <a:lnTo>
                    <a:pt x="641" y="439"/>
                  </a:lnTo>
                  <a:lnTo>
                    <a:pt x="638" y="434"/>
                  </a:lnTo>
                  <a:lnTo>
                    <a:pt x="633" y="430"/>
                  </a:lnTo>
                  <a:lnTo>
                    <a:pt x="622" y="416"/>
                  </a:lnTo>
                  <a:lnTo>
                    <a:pt x="592" y="377"/>
                  </a:lnTo>
                  <a:lnTo>
                    <a:pt x="548" y="321"/>
                  </a:lnTo>
                  <a:lnTo>
                    <a:pt x="495" y="255"/>
                  </a:lnTo>
                  <a:lnTo>
                    <a:pt x="440" y="184"/>
                  </a:lnTo>
                  <a:lnTo>
                    <a:pt x="386" y="116"/>
                  </a:lnTo>
                  <a:lnTo>
                    <a:pt x="340" y="57"/>
                  </a:lnTo>
                  <a:lnTo>
                    <a:pt x="305" y="15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167240" y="2833920"/>
              <a:ext cx="205920" cy="205200"/>
            </a:xfrm>
            <a:custGeom>
              <a:avLst/>
              <a:gdLst/>
              <a:ahLst/>
              <a:rect l="l" t="t" r="r" b="b"/>
              <a:pathLst>
                <a:path w="409" h="413">
                  <a:moveTo>
                    <a:pt x="94" y="413"/>
                  </a:moveTo>
                  <a:lnTo>
                    <a:pt x="92" y="404"/>
                  </a:lnTo>
                  <a:lnTo>
                    <a:pt x="91" y="393"/>
                  </a:lnTo>
                  <a:lnTo>
                    <a:pt x="94" y="383"/>
                  </a:lnTo>
                  <a:lnTo>
                    <a:pt x="96" y="372"/>
                  </a:lnTo>
                  <a:lnTo>
                    <a:pt x="99" y="361"/>
                  </a:lnTo>
                  <a:lnTo>
                    <a:pt x="103" y="350"/>
                  </a:lnTo>
                  <a:lnTo>
                    <a:pt x="110" y="339"/>
                  </a:lnTo>
                  <a:lnTo>
                    <a:pt x="116" y="327"/>
                  </a:lnTo>
                  <a:lnTo>
                    <a:pt x="124" y="315"/>
                  </a:lnTo>
                  <a:lnTo>
                    <a:pt x="132" y="304"/>
                  </a:lnTo>
                  <a:lnTo>
                    <a:pt x="142" y="293"/>
                  </a:lnTo>
                  <a:lnTo>
                    <a:pt x="152" y="281"/>
                  </a:lnTo>
                  <a:lnTo>
                    <a:pt x="173" y="259"/>
                  </a:lnTo>
                  <a:lnTo>
                    <a:pt x="197" y="237"/>
                  </a:lnTo>
                  <a:lnTo>
                    <a:pt x="223" y="217"/>
                  </a:lnTo>
                  <a:lnTo>
                    <a:pt x="249" y="197"/>
                  </a:lnTo>
                  <a:lnTo>
                    <a:pt x="276" y="181"/>
                  </a:lnTo>
                  <a:lnTo>
                    <a:pt x="303" y="166"/>
                  </a:lnTo>
                  <a:lnTo>
                    <a:pt x="316" y="161"/>
                  </a:lnTo>
                  <a:lnTo>
                    <a:pt x="329" y="154"/>
                  </a:lnTo>
                  <a:lnTo>
                    <a:pt x="341" y="150"/>
                  </a:lnTo>
                  <a:lnTo>
                    <a:pt x="354" y="146"/>
                  </a:lnTo>
                  <a:lnTo>
                    <a:pt x="366" y="142"/>
                  </a:lnTo>
                  <a:lnTo>
                    <a:pt x="377" y="140"/>
                  </a:lnTo>
                  <a:lnTo>
                    <a:pt x="387" y="139"/>
                  </a:lnTo>
                  <a:lnTo>
                    <a:pt x="397" y="139"/>
                  </a:lnTo>
                  <a:lnTo>
                    <a:pt x="409" y="142"/>
                  </a:lnTo>
                  <a:lnTo>
                    <a:pt x="393" y="122"/>
                  </a:lnTo>
                  <a:lnTo>
                    <a:pt x="378" y="104"/>
                  </a:lnTo>
                  <a:lnTo>
                    <a:pt x="364" y="85"/>
                  </a:lnTo>
                  <a:lnTo>
                    <a:pt x="350" y="68"/>
                  </a:lnTo>
                  <a:lnTo>
                    <a:pt x="337" y="52"/>
                  </a:lnTo>
                  <a:lnTo>
                    <a:pt x="326" y="38"/>
                  </a:lnTo>
                  <a:lnTo>
                    <a:pt x="315" y="26"/>
                  </a:lnTo>
                  <a:lnTo>
                    <a:pt x="306" y="15"/>
                  </a:lnTo>
                  <a:lnTo>
                    <a:pt x="300" y="7"/>
                  </a:lnTo>
                  <a:lnTo>
                    <a:pt x="291" y="3"/>
                  </a:lnTo>
                  <a:lnTo>
                    <a:pt x="280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5" y="4"/>
                  </a:lnTo>
                  <a:lnTo>
                    <a:pt x="232" y="10"/>
                  </a:lnTo>
                  <a:lnTo>
                    <a:pt x="218" y="16"/>
                  </a:lnTo>
                  <a:lnTo>
                    <a:pt x="203" y="24"/>
                  </a:lnTo>
                  <a:lnTo>
                    <a:pt x="188" y="32"/>
                  </a:lnTo>
                  <a:lnTo>
                    <a:pt x="172" y="43"/>
                  </a:lnTo>
                  <a:lnTo>
                    <a:pt x="157" y="55"/>
                  </a:lnTo>
                  <a:lnTo>
                    <a:pt x="142" y="68"/>
                  </a:lnTo>
                  <a:lnTo>
                    <a:pt x="127" y="81"/>
                  </a:lnTo>
                  <a:lnTo>
                    <a:pt x="112" y="95"/>
                  </a:lnTo>
                  <a:lnTo>
                    <a:pt x="97" y="110"/>
                  </a:lnTo>
                  <a:lnTo>
                    <a:pt x="83" y="125"/>
                  </a:lnTo>
                  <a:lnTo>
                    <a:pt x="70" y="141"/>
                  </a:lnTo>
                  <a:lnTo>
                    <a:pt x="57" y="158"/>
                  </a:lnTo>
                  <a:lnTo>
                    <a:pt x="46" y="175"/>
                  </a:lnTo>
                  <a:lnTo>
                    <a:pt x="35" y="191"/>
                  </a:lnTo>
                  <a:lnTo>
                    <a:pt x="25" y="207"/>
                  </a:lnTo>
                  <a:lnTo>
                    <a:pt x="17" y="224"/>
                  </a:lnTo>
                  <a:lnTo>
                    <a:pt x="10" y="241"/>
                  </a:lnTo>
                  <a:lnTo>
                    <a:pt x="5" y="256"/>
                  </a:lnTo>
                  <a:lnTo>
                    <a:pt x="1" y="272"/>
                  </a:lnTo>
                  <a:lnTo>
                    <a:pt x="0" y="286"/>
                  </a:lnTo>
                  <a:lnTo>
                    <a:pt x="0" y="301"/>
                  </a:lnTo>
                  <a:lnTo>
                    <a:pt x="1" y="314"/>
                  </a:lnTo>
                  <a:lnTo>
                    <a:pt x="5" y="326"/>
                  </a:lnTo>
                  <a:lnTo>
                    <a:pt x="11" y="338"/>
                  </a:lnTo>
                  <a:lnTo>
                    <a:pt x="20" y="349"/>
                  </a:lnTo>
                  <a:lnTo>
                    <a:pt x="32" y="359"/>
                  </a:lnTo>
                  <a:lnTo>
                    <a:pt x="41" y="368"/>
                  </a:lnTo>
                  <a:lnTo>
                    <a:pt x="47" y="374"/>
                  </a:lnTo>
                  <a:lnTo>
                    <a:pt x="54" y="379"/>
                  </a:lnTo>
                  <a:lnTo>
                    <a:pt x="59" y="383"/>
                  </a:lnTo>
                  <a:lnTo>
                    <a:pt x="65" y="389"/>
                  </a:lnTo>
                  <a:lnTo>
                    <a:pt x="73" y="395"/>
                  </a:lnTo>
                  <a:lnTo>
                    <a:pt x="84" y="405"/>
                  </a:lnTo>
                  <a:lnTo>
                    <a:pt x="94" y="413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167240" y="2849760"/>
              <a:ext cx="167760" cy="151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18"/>
                  </a:moveTo>
                  <a:lnTo>
                    <a:pt x="328" y="10"/>
                  </a:lnTo>
                  <a:lnTo>
                    <a:pt x="319" y="5"/>
                  </a:lnTo>
                  <a:lnTo>
                    <a:pt x="309" y="2"/>
                  </a:lnTo>
                  <a:lnTo>
                    <a:pt x="297" y="0"/>
                  </a:lnTo>
                  <a:lnTo>
                    <a:pt x="285" y="1"/>
                  </a:lnTo>
                  <a:lnTo>
                    <a:pt x="272" y="4"/>
                  </a:lnTo>
                  <a:lnTo>
                    <a:pt x="258" y="7"/>
                  </a:lnTo>
                  <a:lnTo>
                    <a:pt x="242" y="11"/>
                  </a:lnTo>
                  <a:lnTo>
                    <a:pt x="226" y="18"/>
                  </a:lnTo>
                  <a:lnTo>
                    <a:pt x="210" y="25"/>
                  </a:lnTo>
                  <a:lnTo>
                    <a:pt x="194" y="34"/>
                  </a:lnTo>
                  <a:lnTo>
                    <a:pt x="178" y="44"/>
                  </a:lnTo>
                  <a:lnTo>
                    <a:pt x="161" y="54"/>
                  </a:lnTo>
                  <a:lnTo>
                    <a:pt x="144" y="66"/>
                  </a:lnTo>
                  <a:lnTo>
                    <a:pt x="128" y="78"/>
                  </a:lnTo>
                  <a:lnTo>
                    <a:pt x="113" y="91"/>
                  </a:lnTo>
                  <a:lnTo>
                    <a:pt x="97" y="104"/>
                  </a:lnTo>
                  <a:lnTo>
                    <a:pt x="82" y="118"/>
                  </a:lnTo>
                  <a:lnTo>
                    <a:pt x="68" y="132"/>
                  </a:lnTo>
                  <a:lnTo>
                    <a:pt x="55" y="147"/>
                  </a:lnTo>
                  <a:lnTo>
                    <a:pt x="44" y="161"/>
                  </a:lnTo>
                  <a:lnTo>
                    <a:pt x="33" y="176"/>
                  </a:lnTo>
                  <a:lnTo>
                    <a:pt x="23" y="190"/>
                  </a:lnTo>
                  <a:lnTo>
                    <a:pt x="15" y="206"/>
                  </a:lnTo>
                  <a:lnTo>
                    <a:pt x="9" y="220"/>
                  </a:lnTo>
                  <a:lnTo>
                    <a:pt x="4" y="234"/>
                  </a:lnTo>
                  <a:lnTo>
                    <a:pt x="0" y="248"/>
                  </a:lnTo>
                  <a:lnTo>
                    <a:pt x="0" y="261"/>
                  </a:lnTo>
                  <a:lnTo>
                    <a:pt x="1" y="272"/>
                  </a:lnTo>
                  <a:lnTo>
                    <a:pt x="5" y="284"/>
                  </a:lnTo>
                  <a:lnTo>
                    <a:pt x="10" y="295"/>
                  </a:lnTo>
                  <a:lnTo>
                    <a:pt x="19" y="305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 flipV="1">
              <a:off x="6343200" y="3788640"/>
              <a:ext cx="2160" cy="685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017840" y="3551040"/>
              <a:ext cx="788040" cy="380880"/>
            </a:xfrm>
            <a:custGeom>
              <a:avLst/>
              <a:gdLst/>
              <a:ahLst/>
              <a:rect l="l" t="t" r="r" b="b"/>
              <a:pathLst>
                <a:path w="1582" h="767">
                  <a:moveTo>
                    <a:pt x="1582" y="0"/>
                  </a:moveTo>
                  <a:lnTo>
                    <a:pt x="0" y="558"/>
                  </a:lnTo>
                  <a:lnTo>
                    <a:pt x="0" y="767"/>
                  </a:lnTo>
                  <a:lnTo>
                    <a:pt x="1582" y="202"/>
                  </a:lnTo>
                  <a:lnTo>
                    <a:pt x="1582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017840" y="3551040"/>
              <a:ext cx="788040" cy="380880"/>
            </a:xfrm>
            <a:custGeom>
              <a:avLst/>
              <a:gdLst/>
              <a:ahLst/>
              <a:rect l="l" t="t" r="r" b="b"/>
              <a:pathLst>
                <a:path w="1582" h="767">
                  <a:moveTo>
                    <a:pt x="1582" y="0"/>
                  </a:moveTo>
                  <a:lnTo>
                    <a:pt x="1582" y="0"/>
                  </a:lnTo>
                  <a:lnTo>
                    <a:pt x="0" y="558"/>
                  </a:lnTo>
                  <a:lnTo>
                    <a:pt x="0" y="767"/>
                  </a:lnTo>
                  <a:lnTo>
                    <a:pt x="1582" y="202"/>
                  </a:lnTo>
                  <a:lnTo>
                    <a:pt x="1582" y="0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069600" y="4195440"/>
              <a:ext cx="185400" cy="195120"/>
            </a:xfrm>
            <a:custGeom>
              <a:avLst/>
              <a:gdLst/>
              <a:ahLst/>
              <a:rect l="l" t="t" r="r" b="b"/>
              <a:pathLst>
                <a:path w="370" h="392">
                  <a:moveTo>
                    <a:pt x="152" y="391"/>
                  </a:moveTo>
                  <a:lnTo>
                    <a:pt x="171" y="389"/>
                  </a:lnTo>
                  <a:lnTo>
                    <a:pt x="190" y="387"/>
                  </a:lnTo>
                  <a:lnTo>
                    <a:pt x="208" y="384"/>
                  </a:lnTo>
                  <a:lnTo>
                    <a:pt x="226" y="379"/>
                  </a:lnTo>
                  <a:lnTo>
                    <a:pt x="245" y="375"/>
                  </a:lnTo>
                  <a:lnTo>
                    <a:pt x="262" y="369"/>
                  </a:lnTo>
                  <a:lnTo>
                    <a:pt x="279" y="361"/>
                  </a:lnTo>
                  <a:lnTo>
                    <a:pt x="296" y="352"/>
                  </a:lnTo>
                  <a:lnTo>
                    <a:pt x="303" y="347"/>
                  </a:lnTo>
                  <a:lnTo>
                    <a:pt x="311" y="342"/>
                  </a:lnTo>
                  <a:lnTo>
                    <a:pt x="317" y="335"/>
                  </a:lnTo>
                  <a:lnTo>
                    <a:pt x="325" y="329"/>
                  </a:lnTo>
                  <a:lnTo>
                    <a:pt x="330" y="322"/>
                  </a:lnTo>
                  <a:lnTo>
                    <a:pt x="337" y="315"/>
                  </a:lnTo>
                  <a:lnTo>
                    <a:pt x="342" y="306"/>
                  </a:lnTo>
                  <a:lnTo>
                    <a:pt x="347" y="297"/>
                  </a:lnTo>
                  <a:lnTo>
                    <a:pt x="352" y="289"/>
                  </a:lnTo>
                  <a:lnTo>
                    <a:pt x="356" y="279"/>
                  </a:lnTo>
                  <a:lnTo>
                    <a:pt x="359" y="269"/>
                  </a:lnTo>
                  <a:lnTo>
                    <a:pt x="363" y="257"/>
                  </a:lnTo>
                  <a:lnTo>
                    <a:pt x="366" y="247"/>
                  </a:lnTo>
                  <a:lnTo>
                    <a:pt x="368" y="235"/>
                  </a:lnTo>
                  <a:lnTo>
                    <a:pt x="369" y="222"/>
                  </a:lnTo>
                  <a:lnTo>
                    <a:pt x="370" y="208"/>
                  </a:lnTo>
                  <a:lnTo>
                    <a:pt x="370" y="187"/>
                  </a:lnTo>
                  <a:lnTo>
                    <a:pt x="369" y="167"/>
                  </a:lnTo>
                  <a:lnTo>
                    <a:pt x="367" y="147"/>
                  </a:lnTo>
                  <a:lnTo>
                    <a:pt x="364" y="129"/>
                  </a:lnTo>
                  <a:lnTo>
                    <a:pt x="358" y="110"/>
                  </a:lnTo>
                  <a:lnTo>
                    <a:pt x="352" y="93"/>
                  </a:lnTo>
                  <a:lnTo>
                    <a:pt x="344" y="77"/>
                  </a:lnTo>
                  <a:lnTo>
                    <a:pt x="336" y="63"/>
                  </a:lnTo>
                  <a:lnTo>
                    <a:pt x="325" y="49"/>
                  </a:lnTo>
                  <a:lnTo>
                    <a:pt x="312" y="37"/>
                  </a:lnTo>
                  <a:lnTo>
                    <a:pt x="304" y="32"/>
                  </a:lnTo>
                  <a:lnTo>
                    <a:pt x="298" y="26"/>
                  </a:lnTo>
                  <a:lnTo>
                    <a:pt x="289" y="22"/>
                  </a:lnTo>
                  <a:lnTo>
                    <a:pt x="282" y="18"/>
                  </a:lnTo>
                  <a:lnTo>
                    <a:pt x="273" y="13"/>
                  </a:lnTo>
                  <a:lnTo>
                    <a:pt x="263" y="10"/>
                  </a:lnTo>
                  <a:lnTo>
                    <a:pt x="253" y="8"/>
                  </a:lnTo>
                  <a:lnTo>
                    <a:pt x="244" y="5"/>
                  </a:lnTo>
                  <a:lnTo>
                    <a:pt x="233" y="2"/>
                  </a:lnTo>
                  <a:lnTo>
                    <a:pt x="221" y="1"/>
                  </a:lnTo>
                  <a:lnTo>
                    <a:pt x="210" y="0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54" y="0"/>
                  </a:lnTo>
                  <a:lnTo>
                    <a:pt x="136" y="1"/>
                  </a:lnTo>
                  <a:lnTo>
                    <a:pt x="118" y="4"/>
                  </a:lnTo>
                  <a:lnTo>
                    <a:pt x="102" y="6"/>
                  </a:lnTo>
                  <a:lnTo>
                    <a:pt x="87" y="8"/>
                  </a:lnTo>
                  <a:lnTo>
                    <a:pt x="74" y="11"/>
                  </a:lnTo>
                  <a:lnTo>
                    <a:pt x="62" y="14"/>
                  </a:lnTo>
                  <a:lnTo>
                    <a:pt x="52" y="18"/>
                  </a:lnTo>
                  <a:lnTo>
                    <a:pt x="43" y="22"/>
                  </a:lnTo>
                  <a:lnTo>
                    <a:pt x="35" y="26"/>
                  </a:lnTo>
                  <a:lnTo>
                    <a:pt x="28" y="32"/>
                  </a:lnTo>
                  <a:lnTo>
                    <a:pt x="21" y="37"/>
                  </a:lnTo>
                  <a:lnTo>
                    <a:pt x="16" y="42"/>
                  </a:lnTo>
                  <a:lnTo>
                    <a:pt x="11" y="49"/>
                  </a:lnTo>
                  <a:lnTo>
                    <a:pt x="8" y="55"/>
                  </a:lnTo>
                  <a:lnTo>
                    <a:pt x="5" y="62"/>
                  </a:lnTo>
                  <a:lnTo>
                    <a:pt x="4" y="69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0" y="101"/>
                  </a:lnTo>
                  <a:lnTo>
                    <a:pt x="1" y="118"/>
                  </a:lnTo>
                  <a:lnTo>
                    <a:pt x="4" y="156"/>
                  </a:lnTo>
                  <a:lnTo>
                    <a:pt x="6" y="197"/>
                  </a:lnTo>
                  <a:lnTo>
                    <a:pt x="5" y="237"/>
                  </a:lnTo>
                  <a:lnTo>
                    <a:pt x="4" y="275"/>
                  </a:lnTo>
                  <a:lnTo>
                    <a:pt x="5" y="293"/>
                  </a:lnTo>
                  <a:lnTo>
                    <a:pt x="6" y="310"/>
                  </a:lnTo>
                  <a:lnTo>
                    <a:pt x="9" y="325"/>
                  </a:lnTo>
                  <a:lnTo>
                    <a:pt x="14" y="339"/>
                  </a:lnTo>
                  <a:lnTo>
                    <a:pt x="17" y="347"/>
                  </a:lnTo>
                  <a:lnTo>
                    <a:pt x="20" y="352"/>
                  </a:lnTo>
                  <a:lnTo>
                    <a:pt x="24" y="359"/>
                  </a:lnTo>
                  <a:lnTo>
                    <a:pt x="30" y="364"/>
                  </a:lnTo>
                  <a:lnTo>
                    <a:pt x="35" y="370"/>
                  </a:lnTo>
                  <a:lnTo>
                    <a:pt x="42" y="374"/>
                  </a:lnTo>
                  <a:lnTo>
                    <a:pt x="48" y="378"/>
                  </a:lnTo>
                  <a:lnTo>
                    <a:pt x="56" y="382"/>
                  </a:lnTo>
                  <a:lnTo>
                    <a:pt x="64" y="385"/>
                  </a:lnTo>
                  <a:lnTo>
                    <a:pt x="74" y="387"/>
                  </a:lnTo>
                  <a:lnTo>
                    <a:pt x="85" y="389"/>
                  </a:lnTo>
                  <a:lnTo>
                    <a:pt x="96" y="391"/>
                  </a:lnTo>
                  <a:lnTo>
                    <a:pt x="109" y="392"/>
                  </a:lnTo>
                  <a:lnTo>
                    <a:pt x="122" y="392"/>
                  </a:lnTo>
                  <a:lnTo>
                    <a:pt x="137" y="392"/>
                  </a:lnTo>
                  <a:lnTo>
                    <a:pt x="152" y="39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6069600" y="4195440"/>
              <a:ext cx="185400" cy="195120"/>
            </a:xfrm>
            <a:custGeom>
              <a:avLst/>
              <a:gdLst/>
              <a:ahLst/>
              <a:rect l="l" t="t" r="r" b="b"/>
              <a:pathLst>
                <a:path w="370" h="392">
                  <a:moveTo>
                    <a:pt x="152" y="391"/>
                  </a:moveTo>
                  <a:lnTo>
                    <a:pt x="171" y="389"/>
                  </a:lnTo>
                  <a:lnTo>
                    <a:pt x="190" y="387"/>
                  </a:lnTo>
                  <a:lnTo>
                    <a:pt x="208" y="384"/>
                  </a:lnTo>
                  <a:lnTo>
                    <a:pt x="226" y="379"/>
                  </a:lnTo>
                  <a:lnTo>
                    <a:pt x="245" y="375"/>
                  </a:lnTo>
                  <a:lnTo>
                    <a:pt x="262" y="369"/>
                  </a:lnTo>
                  <a:lnTo>
                    <a:pt x="279" y="361"/>
                  </a:lnTo>
                  <a:lnTo>
                    <a:pt x="296" y="352"/>
                  </a:lnTo>
                  <a:lnTo>
                    <a:pt x="303" y="347"/>
                  </a:lnTo>
                  <a:lnTo>
                    <a:pt x="311" y="342"/>
                  </a:lnTo>
                  <a:lnTo>
                    <a:pt x="317" y="335"/>
                  </a:lnTo>
                  <a:lnTo>
                    <a:pt x="325" y="329"/>
                  </a:lnTo>
                  <a:lnTo>
                    <a:pt x="330" y="322"/>
                  </a:lnTo>
                  <a:lnTo>
                    <a:pt x="337" y="315"/>
                  </a:lnTo>
                  <a:lnTo>
                    <a:pt x="342" y="306"/>
                  </a:lnTo>
                  <a:lnTo>
                    <a:pt x="347" y="297"/>
                  </a:lnTo>
                  <a:lnTo>
                    <a:pt x="352" y="289"/>
                  </a:lnTo>
                  <a:lnTo>
                    <a:pt x="356" y="279"/>
                  </a:lnTo>
                  <a:lnTo>
                    <a:pt x="359" y="269"/>
                  </a:lnTo>
                  <a:lnTo>
                    <a:pt x="363" y="257"/>
                  </a:lnTo>
                  <a:lnTo>
                    <a:pt x="366" y="247"/>
                  </a:lnTo>
                  <a:lnTo>
                    <a:pt x="368" y="235"/>
                  </a:lnTo>
                  <a:lnTo>
                    <a:pt x="369" y="222"/>
                  </a:lnTo>
                  <a:lnTo>
                    <a:pt x="370" y="208"/>
                  </a:lnTo>
                  <a:lnTo>
                    <a:pt x="370" y="187"/>
                  </a:lnTo>
                  <a:lnTo>
                    <a:pt x="369" y="167"/>
                  </a:lnTo>
                  <a:lnTo>
                    <a:pt x="367" y="147"/>
                  </a:lnTo>
                  <a:lnTo>
                    <a:pt x="364" y="129"/>
                  </a:lnTo>
                  <a:lnTo>
                    <a:pt x="358" y="110"/>
                  </a:lnTo>
                  <a:lnTo>
                    <a:pt x="352" y="93"/>
                  </a:lnTo>
                  <a:lnTo>
                    <a:pt x="344" y="77"/>
                  </a:lnTo>
                  <a:lnTo>
                    <a:pt x="336" y="63"/>
                  </a:lnTo>
                  <a:lnTo>
                    <a:pt x="325" y="49"/>
                  </a:lnTo>
                  <a:lnTo>
                    <a:pt x="312" y="37"/>
                  </a:lnTo>
                  <a:lnTo>
                    <a:pt x="304" y="32"/>
                  </a:lnTo>
                  <a:lnTo>
                    <a:pt x="298" y="26"/>
                  </a:lnTo>
                  <a:lnTo>
                    <a:pt x="289" y="22"/>
                  </a:lnTo>
                  <a:lnTo>
                    <a:pt x="282" y="18"/>
                  </a:lnTo>
                  <a:lnTo>
                    <a:pt x="273" y="13"/>
                  </a:lnTo>
                  <a:lnTo>
                    <a:pt x="263" y="10"/>
                  </a:lnTo>
                  <a:lnTo>
                    <a:pt x="253" y="8"/>
                  </a:lnTo>
                  <a:lnTo>
                    <a:pt x="244" y="5"/>
                  </a:lnTo>
                  <a:lnTo>
                    <a:pt x="233" y="2"/>
                  </a:lnTo>
                  <a:lnTo>
                    <a:pt x="221" y="1"/>
                  </a:lnTo>
                  <a:lnTo>
                    <a:pt x="210" y="0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54" y="0"/>
                  </a:lnTo>
                  <a:lnTo>
                    <a:pt x="136" y="1"/>
                  </a:lnTo>
                  <a:lnTo>
                    <a:pt x="118" y="4"/>
                  </a:lnTo>
                  <a:lnTo>
                    <a:pt x="102" y="6"/>
                  </a:lnTo>
                  <a:lnTo>
                    <a:pt x="87" y="8"/>
                  </a:lnTo>
                  <a:lnTo>
                    <a:pt x="74" y="11"/>
                  </a:lnTo>
                  <a:lnTo>
                    <a:pt x="62" y="14"/>
                  </a:lnTo>
                  <a:lnTo>
                    <a:pt x="52" y="18"/>
                  </a:lnTo>
                  <a:lnTo>
                    <a:pt x="43" y="22"/>
                  </a:lnTo>
                  <a:lnTo>
                    <a:pt x="35" y="26"/>
                  </a:lnTo>
                  <a:lnTo>
                    <a:pt x="28" y="32"/>
                  </a:lnTo>
                  <a:lnTo>
                    <a:pt x="21" y="37"/>
                  </a:lnTo>
                  <a:lnTo>
                    <a:pt x="16" y="42"/>
                  </a:lnTo>
                  <a:lnTo>
                    <a:pt x="11" y="49"/>
                  </a:lnTo>
                  <a:lnTo>
                    <a:pt x="8" y="55"/>
                  </a:lnTo>
                  <a:lnTo>
                    <a:pt x="5" y="62"/>
                  </a:lnTo>
                  <a:lnTo>
                    <a:pt x="4" y="69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0" y="101"/>
                  </a:lnTo>
                  <a:lnTo>
                    <a:pt x="1" y="118"/>
                  </a:lnTo>
                  <a:lnTo>
                    <a:pt x="4" y="156"/>
                  </a:lnTo>
                  <a:lnTo>
                    <a:pt x="6" y="197"/>
                  </a:lnTo>
                  <a:lnTo>
                    <a:pt x="5" y="237"/>
                  </a:lnTo>
                  <a:lnTo>
                    <a:pt x="4" y="275"/>
                  </a:lnTo>
                  <a:lnTo>
                    <a:pt x="5" y="293"/>
                  </a:lnTo>
                  <a:lnTo>
                    <a:pt x="6" y="310"/>
                  </a:lnTo>
                  <a:lnTo>
                    <a:pt x="9" y="325"/>
                  </a:lnTo>
                  <a:lnTo>
                    <a:pt x="14" y="339"/>
                  </a:lnTo>
                  <a:lnTo>
                    <a:pt x="17" y="347"/>
                  </a:lnTo>
                  <a:lnTo>
                    <a:pt x="20" y="352"/>
                  </a:lnTo>
                  <a:lnTo>
                    <a:pt x="24" y="359"/>
                  </a:lnTo>
                  <a:lnTo>
                    <a:pt x="30" y="364"/>
                  </a:lnTo>
                  <a:lnTo>
                    <a:pt x="35" y="370"/>
                  </a:lnTo>
                  <a:lnTo>
                    <a:pt x="42" y="374"/>
                  </a:lnTo>
                  <a:lnTo>
                    <a:pt x="48" y="378"/>
                  </a:lnTo>
                  <a:lnTo>
                    <a:pt x="56" y="382"/>
                  </a:lnTo>
                  <a:lnTo>
                    <a:pt x="64" y="385"/>
                  </a:lnTo>
                  <a:lnTo>
                    <a:pt x="74" y="387"/>
                  </a:lnTo>
                  <a:lnTo>
                    <a:pt x="85" y="389"/>
                  </a:lnTo>
                  <a:lnTo>
                    <a:pt x="96" y="391"/>
                  </a:lnTo>
                  <a:lnTo>
                    <a:pt x="109" y="392"/>
                  </a:lnTo>
                  <a:lnTo>
                    <a:pt x="122" y="392"/>
                  </a:lnTo>
                  <a:lnTo>
                    <a:pt x="137" y="392"/>
                  </a:lnTo>
                  <a:lnTo>
                    <a:pt x="152" y="39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6041520" y="4199400"/>
              <a:ext cx="161280" cy="192960"/>
            </a:xfrm>
            <a:custGeom>
              <a:avLst/>
              <a:gdLst/>
              <a:ahLst/>
              <a:rect l="l" t="t" r="r" b="b"/>
              <a:pathLst>
                <a:path w="327" h="388">
                  <a:moveTo>
                    <a:pt x="162" y="388"/>
                  </a:moveTo>
                  <a:lnTo>
                    <a:pt x="180" y="386"/>
                  </a:lnTo>
                  <a:lnTo>
                    <a:pt x="196" y="383"/>
                  </a:lnTo>
                  <a:lnTo>
                    <a:pt x="211" y="379"/>
                  </a:lnTo>
                  <a:lnTo>
                    <a:pt x="226" y="372"/>
                  </a:lnTo>
                  <a:lnTo>
                    <a:pt x="240" y="364"/>
                  </a:lnTo>
                  <a:lnTo>
                    <a:pt x="254" y="354"/>
                  </a:lnTo>
                  <a:lnTo>
                    <a:pt x="266" y="343"/>
                  </a:lnTo>
                  <a:lnTo>
                    <a:pt x="278" y="330"/>
                  </a:lnTo>
                  <a:lnTo>
                    <a:pt x="289" y="317"/>
                  </a:lnTo>
                  <a:lnTo>
                    <a:pt x="298" y="302"/>
                  </a:lnTo>
                  <a:lnTo>
                    <a:pt x="306" y="286"/>
                  </a:lnTo>
                  <a:lnTo>
                    <a:pt x="314" y="269"/>
                  </a:lnTo>
                  <a:lnTo>
                    <a:pt x="319" y="251"/>
                  </a:lnTo>
                  <a:lnTo>
                    <a:pt x="323" y="233"/>
                  </a:lnTo>
                  <a:lnTo>
                    <a:pt x="325" y="214"/>
                  </a:lnTo>
                  <a:lnTo>
                    <a:pt x="327" y="194"/>
                  </a:lnTo>
                  <a:lnTo>
                    <a:pt x="325" y="174"/>
                  </a:lnTo>
                  <a:lnTo>
                    <a:pt x="323" y="154"/>
                  </a:lnTo>
                  <a:lnTo>
                    <a:pt x="319" y="136"/>
                  </a:lnTo>
                  <a:lnTo>
                    <a:pt x="314" y="119"/>
                  </a:lnTo>
                  <a:lnTo>
                    <a:pt x="306" y="101"/>
                  </a:lnTo>
                  <a:lnTo>
                    <a:pt x="298" y="85"/>
                  </a:lnTo>
                  <a:lnTo>
                    <a:pt x="289" y="70"/>
                  </a:lnTo>
                  <a:lnTo>
                    <a:pt x="278" y="57"/>
                  </a:lnTo>
                  <a:lnTo>
                    <a:pt x="266" y="44"/>
                  </a:lnTo>
                  <a:lnTo>
                    <a:pt x="254" y="33"/>
                  </a:lnTo>
                  <a:lnTo>
                    <a:pt x="240" y="24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196" y="4"/>
                  </a:lnTo>
                  <a:lnTo>
                    <a:pt x="180" y="1"/>
                  </a:lnTo>
                  <a:lnTo>
                    <a:pt x="162" y="0"/>
                  </a:lnTo>
                  <a:lnTo>
                    <a:pt x="146" y="1"/>
                  </a:lnTo>
                  <a:lnTo>
                    <a:pt x="130" y="4"/>
                  </a:lnTo>
                  <a:lnTo>
                    <a:pt x="115" y="8"/>
                  </a:lnTo>
                  <a:lnTo>
                    <a:pt x="100" y="15"/>
                  </a:lnTo>
                  <a:lnTo>
                    <a:pt x="86" y="24"/>
                  </a:lnTo>
                  <a:lnTo>
                    <a:pt x="72" y="33"/>
                  </a:lnTo>
                  <a:lnTo>
                    <a:pt x="60" y="44"/>
                  </a:lnTo>
                  <a:lnTo>
                    <a:pt x="48" y="57"/>
                  </a:lnTo>
                  <a:lnTo>
                    <a:pt x="37" y="70"/>
                  </a:lnTo>
                  <a:lnTo>
                    <a:pt x="28" y="85"/>
                  </a:lnTo>
                  <a:lnTo>
                    <a:pt x="20" y="101"/>
                  </a:lnTo>
                  <a:lnTo>
                    <a:pt x="13" y="119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0" y="174"/>
                  </a:lnTo>
                  <a:lnTo>
                    <a:pt x="0" y="194"/>
                  </a:lnTo>
                  <a:lnTo>
                    <a:pt x="0" y="214"/>
                  </a:lnTo>
                  <a:lnTo>
                    <a:pt x="4" y="233"/>
                  </a:lnTo>
                  <a:lnTo>
                    <a:pt x="7" y="251"/>
                  </a:lnTo>
                  <a:lnTo>
                    <a:pt x="13" y="269"/>
                  </a:lnTo>
                  <a:lnTo>
                    <a:pt x="20" y="286"/>
                  </a:lnTo>
                  <a:lnTo>
                    <a:pt x="28" y="302"/>
                  </a:lnTo>
                  <a:lnTo>
                    <a:pt x="37" y="317"/>
                  </a:lnTo>
                  <a:lnTo>
                    <a:pt x="48" y="330"/>
                  </a:lnTo>
                  <a:lnTo>
                    <a:pt x="60" y="343"/>
                  </a:lnTo>
                  <a:lnTo>
                    <a:pt x="72" y="354"/>
                  </a:lnTo>
                  <a:lnTo>
                    <a:pt x="86" y="364"/>
                  </a:lnTo>
                  <a:lnTo>
                    <a:pt x="100" y="372"/>
                  </a:lnTo>
                  <a:lnTo>
                    <a:pt x="115" y="379"/>
                  </a:lnTo>
                  <a:lnTo>
                    <a:pt x="130" y="383"/>
                  </a:lnTo>
                  <a:lnTo>
                    <a:pt x="146" y="386"/>
                  </a:lnTo>
                  <a:lnTo>
                    <a:pt x="162" y="3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6041520" y="4199400"/>
              <a:ext cx="161280" cy="192960"/>
            </a:xfrm>
            <a:custGeom>
              <a:avLst/>
              <a:gdLst/>
              <a:ahLst/>
              <a:rect l="l" t="t" r="r" b="b"/>
              <a:pathLst>
                <a:path w="327" h="388">
                  <a:moveTo>
                    <a:pt x="162" y="388"/>
                  </a:moveTo>
                  <a:lnTo>
                    <a:pt x="180" y="386"/>
                  </a:lnTo>
                  <a:lnTo>
                    <a:pt x="196" y="383"/>
                  </a:lnTo>
                  <a:lnTo>
                    <a:pt x="211" y="379"/>
                  </a:lnTo>
                  <a:lnTo>
                    <a:pt x="226" y="372"/>
                  </a:lnTo>
                  <a:lnTo>
                    <a:pt x="240" y="364"/>
                  </a:lnTo>
                  <a:lnTo>
                    <a:pt x="254" y="354"/>
                  </a:lnTo>
                  <a:lnTo>
                    <a:pt x="266" y="343"/>
                  </a:lnTo>
                  <a:lnTo>
                    <a:pt x="278" y="330"/>
                  </a:lnTo>
                  <a:lnTo>
                    <a:pt x="289" y="317"/>
                  </a:lnTo>
                  <a:lnTo>
                    <a:pt x="298" y="302"/>
                  </a:lnTo>
                  <a:lnTo>
                    <a:pt x="306" y="286"/>
                  </a:lnTo>
                  <a:lnTo>
                    <a:pt x="314" y="269"/>
                  </a:lnTo>
                  <a:lnTo>
                    <a:pt x="319" y="251"/>
                  </a:lnTo>
                  <a:lnTo>
                    <a:pt x="323" y="233"/>
                  </a:lnTo>
                  <a:lnTo>
                    <a:pt x="325" y="214"/>
                  </a:lnTo>
                  <a:lnTo>
                    <a:pt x="327" y="194"/>
                  </a:lnTo>
                  <a:lnTo>
                    <a:pt x="325" y="174"/>
                  </a:lnTo>
                  <a:lnTo>
                    <a:pt x="323" y="154"/>
                  </a:lnTo>
                  <a:lnTo>
                    <a:pt x="319" y="136"/>
                  </a:lnTo>
                  <a:lnTo>
                    <a:pt x="314" y="119"/>
                  </a:lnTo>
                  <a:lnTo>
                    <a:pt x="306" y="101"/>
                  </a:lnTo>
                  <a:lnTo>
                    <a:pt x="298" y="85"/>
                  </a:lnTo>
                  <a:lnTo>
                    <a:pt x="289" y="70"/>
                  </a:lnTo>
                  <a:lnTo>
                    <a:pt x="278" y="57"/>
                  </a:lnTo>
                  <a:lnTo>
                    <a:pt x="266" y="44"/>
                  </a:lnTo>
                  <a:lnTo>
                    <a:pt x="254" y="33"/>
                  </a:lnTo>
                  <a:lnTo>
                    <a:pt x="240" y="24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196" y="4"/>
                  </a:lnTo>
                  <a:lnTo>
                    <a:pt x="180" y="1"/>
                  </a:lnTo>
                  <a:lnTo>
                    <a:pt x="162" y="0"/>
                  </a:lnTo>
                  <a:lnTo>
                    <a:pt x="146" y="1"/>
                  </a:lnTo>
                  <a:lnTo>
                    <a:pt x="130" y="4"/>
                  </a:lnTo>
                  <a:lnTo>
                    <a:pt x="115" y="8"/>
                  </a:lnTo>
                  <a:lnTo>
                    <a:pt x="100" y="15"/>
                  </a:lnTo>
                  <a:lnTo>
                    <a:pt x="86" y="24"/>
                  </a:lnTo>
                  <a:lnTo>
                    <a:pt x="72" y="33"/>
                  </a:lnTo>
                  <a:lnTo>
                    <a:pt x="60" y="44"/>
                  </a:lnTo>
                  <a:lnTo>
                    <a:pt x="48" y="57"/>
                  </a:lnTo>
                  <a:lnTo>
                    <a:pt x="37" y="70"/>
                  </a:lnTo>
                  <a:lnTo>
                    <a:pt x="28" y="85"/>
                  </a:lnTo>
                  <a:lnTo>
                    <a:pt x="20" y="101"/>
                  </a:lnTo>
                  <a:lnTo>
                    <a:pt x="13" y="119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0" y="174"/>
                  </a:lnTo>
                  <a:lnTo>
                    <a:pt x="0" y="194"/>
                  </a:lnTo>
                  <a:lnTo>
                    <a:pt x="0" y="214"/>
                  </a:lnTo>
                  <a:lnTo>
                    <a:pt x="4" y="233"/>
                  </a:lnTo>
                  <a:lnTo>
                    <a:pt x="7" y="251"/>
                  </a:lnTo>
                  <a:lnTo>
                    <a:pt x="13" y="269"/>
                  </a:lnTo>
                  <a:lnTo>
                    <a:pt x="20" y="286"/>
                  </a:lnTo>
                  <a:lnTo>
                    <a:pt x="28" y="302"/>
                  </a:lnTo>
                  <a:lnTo>
                    <a:pt x="37" y="317"/>
                  </a:lnTo>
                  <a:lnTo>
                    <a:pt x="48" y="330"/>
                  </a:lnTo>
                  <a:lnTo>
                    <a:pt x="60" y="343"/>
                  </a:lnTo>
                  <a:lnTo>
                    <a:pt x="72" y="354"/>
                  </a:lnTo>
                  <a:lnTo>
                    <a:pt x="86" y="364"/>
                  </a:lnTo>
                  <a:lnTo>
                    <a:pt x="100" y="372"/>
                  </a:lnTo>
                  <a:lnTo>
                    <a:pt x="115" y="379"/>
                  </a:lnTo>
                  <a:lnTo>
                    <a:pt x="130" y="383"/>
                  </a:lnTo>
                  <a:lnTo>
                    <a:pt x="146" y="386"/>
                  </a:lnTo>
                  <a:lnTo>
                    <a:pt x="162" y="38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6089760" y="4256640"/>
              <a:ext cx="65880" cy="77400"/>
            </a:xfrm>
            <a:custGeom>
              <a:avLst/>
              <a:gdLst/>
              <a:ahLst/>
              <a:rect l="l" t="t" r="r" b="b"/>
              <a:pathLst>
                <a:path w="130" h="155">
                  <a:moveTo>
                    <a:pt x="64" y="155"/>
                  </a:moveTo>
                  <a:lnTo>
                    <a:pt x="71" y="155"/>
                  </a:lnTo>
                  <a:lnTo>
                    <a:pt x="77" y="154"/>
                  </a:lnTo>
                  <a:lnTo>
                    <a:pt x="84" y="152"/>
                  </a:lnTo>
                  <a:lnTo>
                    <a:pt x="90" y="149"/>
                  </a:lnTo>
                  <a:lnTo>
                    <a:pt x="96" y="146"/>
                  </a:lnTo>
                  <a:lnTo>
                    <a:pt x="101" y="142"/>
                  </a:lnTo>
                  <a:lnTo>
                    <a:pt x="106" y="138"/>
                  </a:lnTo>
                  <a:lnTo>
                    <a:pt x="112" y="132"/>
                  </a:lnTo>
                  <a:lnTo>
                    <a:pt x="115" y="127"/>
                  </a:lnTo>
                  <a:lnTo>
                    <a:pt x="119" y="121"/>
                  </a:lnTo>
                  <a:lnTo>
                    <a:pt x="123" y="115"/>
                  </a:lnTo>
                  <a:lnTo>
                    <a:pt x="126" y="107"/>
                  </a:lnTo>
                  <a:lnTo>
                    <a:pt x="128" y="101"/>
                  </a:lnTo>
                  <a:lnTo>
                    <a:pt x="129" y="93"/>
                  </a:lnTo>
                  <a:lnTo>
                    <a:pt x="130" y="86"/>
                  </a:lnTo>
                  <a:lnTo>
                    <a:pt x="130" y="78"/>
                  </a:lnTo>
                  <a:lnTo>
                    <a:pt x="130" y="70"/>
                  </a:lnTo>
                  <a:lnTo>
                    <a:pt x="129" y="62"/>
                  </a:lnTo>
                  <a:lnTo>
                    <a:pt x="128" y="54"/>
                  </a:lnTo>
                  <a:lnTo>
                    <a:pt x="126" y="48"/>
                  </a:lnTo>
                  <a:lnTo>
                    <a:pt x="123" y="40"/>
                  </a:lnTo>
                  <a:lnTo>
                    <a:pt x="119" y="35"/>
                  </a:lnTo>
                  <a:lnTo>
                    <a:pt x="115" y="29"/>
                  </a:lnTo>
                  <a:lnTo>
                    <a:pt x="112" y="23"/>
                  </a:lnTo>
                  <a:lnTo>
                    <a:pt x="106" y="18"/>
                  </a:lnTo>
                  <a:lnTo>
                    <a:pt x="101" y="13"/>
                  </a:lnTo>
                  <a:lnTo>
                    <a:pt x="96" y="9"/>
                  </a:lnTo>
                  <a:lnTo>
                    <a:pt x="90" y="6"/>
                  </a:lnTo>
                  <a:lnTo>
                    <a:pt x="84" y="4"/>
                  </a:lnTo>
                  <a:lnTo>
                    <a:pt x="77" y="2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1" y="2"/>
                  </a:lnTo>
                  <a:lnTo>
                    <a:pt x="45" y="4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29" y="13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5" y="29"/>
                  </a:lnTo>
                  <a:lnTo>
                    <a:pt x="10" y="35"/>
                  </a:lnTo>
                  <a:lnTo>
                    <a:pt x="7" y="40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3" y="101"/>
                  </a:lnTo>
                  <a:lnTo>
                    <a:pt x="5" y="107"/>
                  </a:lnTo>
                  <a:lnTo>
                    <a:pt x="7" y="115"/>
                  </a:lnTo>
                  <a:lnTo>
                    <a:pt x="10" y="121"/>
                  </a:lnTo>
                  <a:lnTo>
                    <a:pt x="15" y="127"/>
                  </a:lnTo>
                  <a:lnTo>
                    <a:pt x="19" y="132"/>
                  </a:lnTo>
                  <a:lnTo>
                    <a:pt x="23" y="138"/>
                  </a:lnTo>
                  <a:lnTo>
                    <a:pt x="29" y="142"/>
                  </a:lnTo>
                  <a:lnTo>
                    <a:pt x="34" y="146"/>
                  </a:lnTo>
                  <a:lnTo>
                    <a:pt x="39" y="149"/>
                  </a:lnTo>
                  <a:lnTo>
                    <a:pt x="45" y="152"/>
                  </a:lnTo>
                  <a:lnTo>
                    <a:pt x="51" y="154"/>
                  </a:lnTo>
                  <a:lnTo>
                    <a:pt x="58" y="155"/>
                  </a:lnTo>
                  <a:lnTo>
                    <a:pt x="64" y="155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089760" y="4256640"/>
              <a:ext cx="65880" cy="77400"/>
            </a:xfrm>
            <a:custGeom>
              <a:avLst/>
              <a:gdLst/>
              <a:ahLst/>
              <a:rect l="l" t="t" r="r" b="b"/>
              <a:pathLst>
                <a:path w="130" h="155">
                  <a:moveTo>
                    <a:pt x="64" y="155"/>
                  </a:moveTo>
                  <a:lnTo>
                    <a:pt x="71" y="155"/>
                  </a:lnTo>
                  <a:lnTo>
                    <a:pt x="77" y="154"/>
                  </a:lnTo>
                  <a:lnTo>
                    <a:pt x="84" y="152"/>
                  </a:lnTo>
                  <a:lnTo>
                    <a:pt x="90" y="149"/>
                  </a:lnTo>
                  <a:lnTo>
                    <a:pt x="96" y="146"/>
                  </a:lnTo>
                  <a:lnTo>
                    <a:pt x="101" y="142"/>
                  </a:lnTo>
                  <a:lnTo>
                    <a:pt x="106" y="138"/>
                  </a:lnTo>
                  <a:lnTo>
                    <a:pt x="112" y="132"/>
                  </a:lnTo>
                  <a:lnTo>
                    <a:pt x="115" y="127"/>
                  </a:lnTo>
                  <a:lnTo>
                    <a:pt x="119" y="121"/>
                  </a:lnTo>
                  <a:lnTo>
                    <a:pt x="123" y="115"/>
                  </a:lnTo>
                  <a:lnTo>
                    <a:pt x="126" y="107"/>
                  </a:lnTo>
                  <a:lnTo>
                    <a:pt x="128" y="101"/>
                  </a:lnTo>
                  <a:lnTo>
                    <a:pt x="129" y="93"/>
                  </a:lnTo>
                  <a:lnTo>
                    <a:pt x="130" y="86"/>
                  </a:lnTo>
                  <a:lnTo>
                    <a:pt x="130" y="78"/>
                  </a:lnTo>
                  <a:lnTo>
                    <a:pt x="130" y="70"/>
                  </a:lnTo>
                  <a:lnTo>
                    <a:pt x="129" y="62"/>
                  </a:lnTo>
                  <a:lnTo>
                    <a:pt x="128" y="54"/>
                  </a:lnTo>
                  <a:lnTo>
                    <a:pt x="126" y="48"/>
                  </a:lnTo>
                  <a:lnTo>
                    <a:pt x="123" y="40"/>
                  </a:lnTo>
                  <a:lnTo>
                    <a:pt x="119" y="35"/>
                  </a:lnTo>
                  <a:lnTo>
                    <a:pt x="115" y="29"/>
                  </a:lnTo>
                  <a:lnTo>
                    <a:pt x="112" y="23"/>
                  </a:lnTo>
                  <a:lnTo>
                    <a:pt x="106" y="18"/>
                  </a:lnTo>
                  <a:lnTo>
                    <a:pt x="101" y="13"/>
                  </a:lnTo>
                  <a:lnTo>
                    <a:pt x="96" y="9"/>
                  </a:lnTo>
                  <a:lnTo>
                    <a:pt x="90" y="6"/>
                  </a:lnTo>
                  <a:lnTo>
                    <a:pt x="84" y="4"/>
                  </a:lnTo>
                  <a:lnTo>
                    <a:pt x="77" y="2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1" y="2"/>
                  </a:lnTo>
                  <a:lnTo>
                    <a:pt x="45" y="4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29" y="13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5" y="29"/>
                  </a:lnTo>
                  <a:lnTo>
                    <a:pt x="10" y="35"/>
                  </a:lnTo>
                  <a:lnTo>
                    <a:pt x="7" y="40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3" y="101"/>
                  </a:lnTo>
                  <a:lnTo>
                    <a:pt x="5" y="107"/>
                  </a:lnTo>
                  <a:lnTo>
                    <a:pt x="7" y="115"/>
                  </a:lnTo>
                  <a:lnTo>
                    <a:pt x="10" y="121"/>
                  </a:lnTo>
                  <a:lnTo>
                    <a:pt x="15" y="127"/>
                  </a:lnTo>
                  <a:lnTo>
                    <a:pt x="19" y="132"/>
                  </a:lnTo>
                  <a:lnTo>
                    <a:pt x="23" y="138"/>
                  </a:lnTo>
                  <a:lnTo>
                    <a:pt x="29" y="142"/>
                  </a:lnTo>
                  <a:lnTo>
                    <a:pt x="34" y="146"/>
                  </a:lnTo>
                  <a:lnTo>
                    <a:pt x="39" y="149"/>
                  </a:lnTo>
                  <a:lnTo>
                    <a:pt x="45" y="152"/>
                  </a:lnTo>
                  <a:lnTo>
                    <a:pt x="51" y="154"/>
                  </a:lnTo>
                  <a:lnTo>
                    <a:pt x="58" y="155"/>
                  </a:lnTo>
                  <a:lnTo>
                    <a:pt x="64" y="155"/>
                  </a:lnTo>
                </a:path>
              </a:pathLst>
            </a:custGeom>
            <a:noFill/>
            <a:ln w="32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093720" y="4275000"/>
              <a:ext cx="61920" cy="53640"/>
            </a:xfrm>
            <a:custGeom>
              <a:avLst/>
              <a:gdLst/>
              <a:ahLst/>
              <a:rect l="l" t="t" r="r" b="b"/>
              <a:pathLst>
                <a:path w="124" h="106">
                  <a:moveTo>
                    <a:pt x="2" y="106"/>
                  </a:moveTo>
                  <a:lnTo>
                    <a:pt x="1" y="101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7"/>
                  </a:lnTo>
                  <a:lnTo>
                    <a:pt x="7" y="47"/>
                  </a:lnTo>
                  <a:lnTo>
                    <a:pt x="11" y="36"/>
                  </a:lnTo>
                  <a:lnTo>
                    <a:pt x="19" y="26"/>
                  </a:lnTo>
                  <a:lnTo>
                    <a:pt x="23" y="22"/>
                  </a:lnTo>
                  <a:lnTo>
                    <a:pt x="28" y="17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8" y="7"/>
                  </a:lnTo>
                  <a:lnTo>
                    <a:pt x="56" y="4"/>
                  </a:lnTo>
                  <a:lnTo>
                    <a:pt x="65" y="2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110" y="1"/>
                  </a:lnTo>
                  <a:lnTo>
                    <a:pt x="124" y="2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6057720" y="4219200"/>
              <a:ext cx="65520" cy="77400"/>
            </a:xfrm>
            <a:custGeom>
              <a:avLst/>
              <a:gdLst/>
              <a:ahLst/>
              <a:rect l="l" t="t" r="r" b="b"/>
              <a:pathLst>
                <a:path w="131" h="154">
                  <a:moveTo>
                    <a:pt x="131" y="0"/>
                  </a:moveTo>
                  <a:lnTo>
                    <a:pt x="117" y="1"/>
                  </a:lnTo>
                  <a:lnTo>
                    <a:pt x="104" y="3"/>
                  </a:lnTo>
                  <a:lnTo>
                    <a:pt x="92" y="6"/>
                  </a:lnTo>
                  <a:lnTo>
                    <a:pt x="80" y="12"/>
                  </a:lnTo>
                  <a:lnTo>
                    <a:pt x="68" y="18"/>
                  </a:lnTo>
                  <a:lnTo>
                    <a:pt x="57" y="26"/>
                  </a:lnTo>
                  <a:lnTo>
                    <a:pt x="47" y="35"/>
                  </a:lnTo>
                  <a:lnTo>
                    <a:pt x="39" y="45"/>
                  </a:lnTo>
                  <a:lnTo>
                    <a:pt x="30" y="56"/>
                  </a:lnTo>
                  <a:lnTo>
                    <a:pt x="23" y="68"/>
                  </a:lnTo>
                  <a:lnTo>
                    <a:pt x="16" y="81"/>
                  </a:lnTo>
                  <a:lnTo>
                    <a:pt x="11" y="94"/>
                  </a:lnTo>
                  <a:lnTo>
                    <a:pt x="6" y="108"/>
                  </a:lnTo>
                  <a:lnTo>
                    <a:pt x="3" y="123"/>
                  </a:lnTo>
                  <a:lnTo>
                    <a:pt x="1" y="138"/>
                  </a:lnTo>
                  <a:lnTo>
                    <a:pt x="0" y="154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123600" y="4296960"/>
              <a:ext cx="65880" cy="75240"/>
            </a:xfrm>
            <a:custGeom>
              <a:avLst/>
              <a:gdLst/>
              <a:ahLst/>
              <a:rect l="l" t="t" r="r" b="b"/>
              <a:pathLst>
                <a:path w="130" h="154">
                  <a:moveTo>
                    <a:pt x="0" y="154"/>
                  </a:moveTo>
                  <a:lnTo>
                    <a:pt x="13" y="152"/>
                  </a:lnTo>
                  <a:lnTo>
                    <a:pt x="26" y="150"/>
                  </a:lnTo>
                  <a:lnTo>
                    <a:pt x="38" y="147"/>
                  </a:lnTo>
                  <a:lnTo>
                    <a:pt x="50" y="142"/>
                  </a:lnTo>
                  <a:lnTo>
                    <a:pt x="61" y="135"/>
                  </a:lnTo>
                  <a:lnTo>
                    <a:pt x="72" y="128"/>
                  </a:lnTo>
                  <a:lnTo>
                    <a:pt x="83" y="118"/>
                  </a:lnTo>
                  <a:lnTo>
                    <a:pt x="91" y="108"/>
                  </a:lnTo>
                  <a:lnTo>
                    <a:pt x="100" y="97"/>
                  </a:lnTo>
                  <a:lnTo>
                    <a:pt x="108" y="86"/>
                  </a:lnTo>
                  <a:lnTo>
                    <a:pt x="114" y="73"/>
                  </a:lnTo>
                  <a:lnTo>
                    <a:pt x="121" y="60"/>
                  </a:lnTo>
                  <a:lnTo>
                    <a:pt x="125" y="46"/>
                  </a:lnTo>
                  <a:lnTo>
                    <a:pt x="128" y="30"/>
                  </a:lnTo>
                  <a:lnTo>
                    <a:pt x="130" y="15"/>
                  </a:lnTo>
                  <a:lnTo>
                    <a:pt x="130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486840" y="3475800"/>
              <a:ext cx="61560" cy="119160"/>
            </a:xfrm>
            <a:custGeom>
              <a:avLst/>
              <a:gdLst/>
              <a:ahLst/>
              <a:rect l="l" t="t" r="r" b="b"/>
              <a:pathLst>
                <a:path w="123" h="239">
                  <a:moveTo>
                    <a:pt x="106" y="34"/>
                  </a:moveTo>
                  <a:lnTo>
                    <a:pt x="106" y="28"/>
                  </a:lnTo>
                  <a:lnTo>
                    <a:pt x="105" y="23"/>
                  </a:lnTo>
                  <a:lnTo>
                    <a:pt x="102" y="20"/>
                  </a:lnTo>
                  <a:lnTo>
                    <a:pt x="100" y="15"/>
                  </a:lnTo>
                  <a:lnTo>
                    <a:pt x="98" y="12"/>
                  </a:lnTo>
                  <a:lnTo>
                    <a:pt x="95" y="9"/>
                  </a:lnTo>
                  <a:lnTo>
                    <a:pt x="92" y="7"/>
                  </a:lnTo>
                  <a:lnTo>
                    <a:pt x="88" y="5"/>
                  </a:lnTo>
                  <a:lnTo>
                    <a:pt x="80" y="3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1" y="1"/>
                  </a:lnTo>
                  <a:lnTo>
                    <a:pt x="40" y="3"/>
                  </a:lnTo>
                  <a:lnTo>
                    <a:pt x="30" y="5"/>
                  </a:lnTo>
                  <a:lnTo>
                    <a:pt x="21" y="8"/>
                  </a:lnTo>
                  <a:lnTo>
                    <a:pt x="14" y="13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5" y="22"/>
                  </a:lnTo>
                  <a:lnTo>
                    <a:pt x="3" y="26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7" y="203"/>
                  </a:lnTo>
                  <a:lnTo>
                    <a:pt x="18" y="209"/>
                  </a:lnTo>
                  <a:lnTo>
                    <a:pt x="19" y="213"/>
                  </a:lnTo>
                  <a:lnTo>
                    <a:pt x="20" y="217"/>
                  </a:lnTo>
                  <a:lnTo>
                    <a:pt x="23" y="222"/>
                  </a:lnTo>
                  <a:lnTo>
                    <a:pt x="28" y="228"/>
                  </a:lnTo>
                  <a:lnTo>
                    <a:pt x="35" y="233"/>
                  </a:lnTo>
                  <a:lnTo>
                    <a:pt x="43" y="236"/>
                  </a:lnTo>
                  <a:lnTo>
                    <a:pt x="52" y="238"/>
                  </a:lnTo>
                  <a:lnTo>
                    <a:pt x="61" y="239"/>
                  </a:lnTo>
                  <a:lnTo>
                    <a:pt x="72" y="238"/>
                  </a:lnTo>
                  <a:lnTo>
                    <a:pt x="83" y="236"/>
                  </a:lnTo>
                  <a:lnTo>
                    <a:pt x="93" y="234"/>
                  </a:lnTo>
                  <a:lnTo>
                    <a:pt x="102" y="229"/>
                  </a:lnTo>
                  <a:lnTo>
                    <a:pt x="110" y="225"/>
                  </a:lnTo>
                  <a:lnTo>
                    <a:pt x="113" y="222"/>
                  </a:lnTo>
                  <a:lnTo>
                    <a:pt x="117" y="219"/>
                  </a:lnTo>
                  <a:lnTo>
                    <a:pt x="119" y="215"/>
                  </a:lnTo>
                  <a:lnTo>
                    <a:pt x="121" y="211"/>
                  </a:lnTo>
                  <a:lnTo>
                    <a:pt x="122" y="207"/>
                  </a:lnTo>
                  <a:lnTo>
                    <a:pt x="123" y="202"/>
                  </a:lnTo>
                  <a:lnTo>
                    <a:pt x="123" y="197"/>
                  </a:lnTo>
                  <a:lnTo>
                    <a:pt x="123" y="192"/>
                  </a:lnTo>
                  <a:lnTo>
                    <a:pt x="106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6486840" y="3475800"/>
              <a:ext cx="61560" cy="119160"/>
            </a:xfrm>
            <a:custGeom>
              <a:avLst/>
              <a:gdLst/>
              <a:ahLst/>
              <a:rect l="l" t="t" r="r" b="b"/>
              <a:pathLst>
                <a:path w="123" h="239">
                  <a:moveTo>
                    <a:pt x="106" y="34"/>
                  </a:moveTo>
                  <a:lnTo>
                    <a:pt x="106" y="28"/>
                  </a:lnTo>
                  <a:lnTo>
                    <a:pt x="105" y="23"/>
                  </a:lnTo>
                  <a:lnTo>
                    <a:pt x="102" y="20"/>
                  </a:lnTo>
                  <a:lnTo>
                    <a:pt x="100" y="15"/>
                  </a:lnTo>
                  <a:lnTo>
                    <a:pt x="98" y="12"/>
                  </a:lnTo>
                  <a:lnTo>
                    <a:pt x="95" y="9"/>
                  </a:lnTo>
                  <a:lnTo>
                    <a:pt x="92" y="7"/>
                  </a:lnTo>
                  <a:lnTo>
                    <a:pt x="88" y="5"/>
                  </a:lnTo>
                  <a:lnTo>
                    <a:pt x="80" y="3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40" y="3"/>
                  </a:lnTo>
                  <a:lnTo>
                    <a:pt x="30" y="5"/>
                  </a:lnTo>
                  <a:lnTo>
                    <a:pt x="21" y="8"/>
                  </a:lnTo>
                  <a:lnTo>
                    <a:pt x="14" y="13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5" y="22"/>
                  </a:lnTo>
                  <a:lnTo>
                    <a:pt x="3" y="26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7" y="203"/>
                  </a:lnTo>
                  <a:lnTo>
                    <a:pt x="18" y="209"/>
                  </a:lnTo>
                  <a:lnTo>
                    <a:pt x="19" y="213"/>
                  </a:lnTo>
                  <a:lnTo>
                    <a:pt x="20" y="217"/>
                  </a:lnTo>
                  <a:lnTo>
                    <a:pt x="23" y="222"/>
                  </a:lnTo>
                  <a:lnTo>
                    <a:pt x="28" y="228"/>
                  </a:lnTo>
                  <a:lnTo>
                    <a:pt x="35" y="233"/>
                  </a:lnTo>
                  <a:lnTo>
                    <a:pt x="43" y="236"/>
                  </a:lnTo>
                  <a:lnTo>
                    <a:pt x="52" y="238"/>
                  </a:lnTo>
                  <a:lnTo>
                    <a:pt x="61" y="239"/>
                  </a:lnTo>
                  <a:lnTo>
                    <a:pt x="72" y="238"/>
                  </a:lnTo>
                  <a:lnTo>
                    <a:pt x="72" y="238"/>
                  </a:lnTo>
                  <a:lnTo>
                    <a:pt x="83" y="236"/>
                  </a:lnTo>
                  <a:lnTo>
                    <a:pt x="93" y="234"/>
                  </a:lnTo>
                  <a:lnTo>
                    <a:pt x="102" y="229"/>
                  </a:lnTo>
                  <a:lnTo>
                    <a:pt x="110" y="225"/>
                  </a:lnTo>
                  <a:lnTo>
                    <a:pt x="113" y="222"/>
                  </a:lnTo>
                  <a:lnTo>
                    <a:pt x="117" y="219"/>
                  </a:lnTo>
                  <a:lnTo>
                    <a:pt x="119" y="215"/>
                  </a:lnTo>
                  <a:lnTo>
                    <a:pt x="121" y="211"/>
                  </a:lnTo>
                  <a:lnTo>
                    <a:pt x="122" y="207"/>
                  </a:lnTo>
                  <a:lnTo>
                    <a:pt x="123" y="202"/>
                  </a:lnTo>
                  <a:lnTo>
                    <a:pt x="123" y="197"/>
                  </a:lnTo>
                  <a:lnTo>
                    <a:pt x="123" y="192"/>
                  </a:lnTo>
                  <a:lnTo>
                    <a:pt x="106" y="34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486840" y="3483720"/>
              <a:ext cx="49680" cy="172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17"/>
                  </a:moveTo>
                  <a:lnTo>
                    <a:pt x="3" y="21"/>
                  </a:lnTo>
                  <a:lnTo>
                    <a:pt x="8" y="25"/>
                  </a:lnTo>
                  <a:lnTo>
                    <a:pt x="13" y="29"/>
                  </a:lnTo>
                  <a:lnTo>
                    <a:pt x="19" y="31"/>
                  </a:lnTo>
                  <a:lnTo>
                    <a:pt x="26" y="32"/>
                  </a:lnTo>
                  <a:lnTo>
                    <a:pt x="33" y="33"/>
                  </a:lnTo>
                  <a:lnTo>
                    <a:pt x="41" y="33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58" y="31"/>
                  </a:lnTo>
                  <a:lnTo>
                    <a:pt x="67" y="29"/>
                  </a:lnTo>
                  <a:lnTo>
                    <a:pt x="74" y="25"/>
                  </a:lnTo>
                  <a:lnTo>
                    <a:pt x="82" y="22"/>
                  </a:lnTo>
                  <a:lnTo>
                    <a:pt x="87" y="18"/>
                  </a:lnTo>
                  <a:lnTo>
                    <a:pt x="93" y="13"/>
                  </a:lnTo>
                  <a:lnTo>
                    <a:pt x="96" y="6"/>
                  </a:lnTo>
                  <a:lnTo>
                    <a:pt x="99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522840" y="3503520"/>
              <a:ext cx="9720" cy="8532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496920" y="3503520"/>
              <a:ext cx="9720" cy="8532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6500520" y="3525480"/>
              <a:ext cx="445320" cy="119520"/>
            </a:xfrm>
            <a:custGeom>
              <a:avLst/>
              <a:gdLst/>
              <a:ahLst/>
              <a:rect l="l" t="t" r="r" b="b"/>
              <a:pathLst>
                <a:path w="893" h="240">
                  <a:moveTo>
                    <a:pt x="67" y="24"/>
                  </a:moveTo>
                  <a:lnTo>
                    <a:pt x="52" y="33"/>
                  </a:lnTo>
                  <a:lnTo>
                    <a:pt x="0" y="39"/>
                  </a:lnTo>
                  <a:lnTo>
                    <a:pt x="606" y="240"/>
                  </a:lnTo>
                  <a:lnTo>
                    <a:pt x="764" y="202"/>
                  </a:lnTo>
                  <a:lnTo>
                    <a:pt x="893" y="141"/>
                  </a:lnTo>
                  <a:lnTo>
                    <a:pt x="663" y="197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2" y="3"/>
                  </a:lnTo>
                  <a:lnTo>
                    <a:pt x="81" y="6"/>
                  </a:lnTo>
                  <a:lnTo>
                    <a:pt x="80" y="10"/>
                  </a:lnTo>
                  <a:lnTo>
                    <a:pt x="78" y="15"/>
                  </a:lnTo>
                  <a:lnTo>
                    <a:pt x="74" y="19"/>
                  </a:lnTo>
                  <a:lnTo>
                    <a:pt x="71" y="22"/>
                  </a:lnTo>
                  <a:lnTo>
                    <a:pt x="67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500520" y="3525480"/>
              <a:ext cx="445320" cy="119520"/>
            </a:xfrm>
            <a:custGeom>
              <a:avLst/>
              <a:gdLst/>
              <a:ahLst/>
              <a:rect l="l" t="t" r="r" b="b"/>
              <a:pathLst>
                <a:path w="893" h="240">
                  <a:moveTo>
                    <a:pt x="67" y="24"/>
                  </a:moveTo>
                  <a:lnTo>
                    <a:pt x="52" y="33"/>
                  </a:lnTo>
                  <a:lnTo>
                    <a:pt x="0" y="39"/>
                  </a:lnTo>
                  <a:lnTo>
                    <a:pt x="606" y="240"/>
                  </a:lnTo>
                  <a:lnTo>
                    <a:pt x="764" y="202"/>
                  </a:lnTo>
                  <a:lnTo>
                    <a:pt x="893" y="141"/>
                  </a:lnTo>
                  <a:lnTo>
                    <a:pt x="663" y="197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2" y="3"/>
                  </a:lnTo>
                  <a:lnTo>
                    <a:pt x="81" y="6"/>
                  </a:lnTo>
                  <a:lnTo>
                    <a:pt x="80" y="10"/>
                  </a:lnTo>
                  <a:lnTo>
                    <a:pt x="78" y="15"/>
                  </a:lnTo>
                  <a:lnTo>
                    <a:pt x="74" y="19"/>
                  </a:lnTo>
                  <a:lnTo>
                    <a:pt x="71" y="22"/>
                  </a:lnTo>
                  <a:lnTo>
                    <a:pt x="67" y="24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6804360" y="3594960"/>
              <a:ext cx="141480" cy="50040"/>
            </a:xfrm>
            <a:custGeom>
              <a:avLst/>
              <a:gdLst/>
              <a:ahLst/>
              <a:rect l="l" t="t" r="r" b="b"/>
              <a:pathLst>
                <a:path w="287" h="99">
                  <a:moveTo>
                    <a:pt x="0" y="99"/>
                  </a:moveTo>
                  <a:lnTo>
                    <a:pt x="158" y="61"/>
                  </a:lnTo>
                  <a:lnTo>
                    <a:pt x="287" y="0"/>
                  </a:lnTo>
                  <a:lnTo>
                    <a:pt x="57" y="56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6804360" y="3594960"/>
              <a:ext cx="141480" cy="50040"/>
            </a:xfrm>
            <a:custGeom>
              <a:avLst/>
              <a:gdLst/>
              <a:ahLst/>
              <a:rect l="l" t="t" r="r" b="b"/>
              <a:pathLst>
                <a:path w="287" h="99">
                  <a:moveTo>
                    <a:pt x="0" y="99"/>
                  </a:moveTo>
                  <a:lnTo>
                    <a:pt x="158" y="61"/>
                  </a:lnTo>
                  <a:lnTo>
                    <a:pt x="287" y="0"/>
                  </a:lnTo>
                  <a:lnTo>
                    <a:pt x="57" y="56"/>
                  </a:lnTo>
                  <a:lnTo>
                    <a:pt x="0" y="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6811920" y="3341880"/>
              <a:ext cx="61920" cy="117720"/>
            </a:xfrm>
            <a:custGeom>
              <a:avLst/>
              <a:gdLst/>
              <a:ahLst/>
              <a:rect l="l" t="t" r="r" b="b"/>
              <a:pathLst>
                <a:path w="124" h="238">
                  <a:moveTo>
                    <a:pt x="106" y="33"/>
                  </a:moveTo>
                  <a:lnTo>
                    <a:pt x="105" y="27"/>
                  </a:lnTo>
                  <a:lnTo>
                    <a:pt x="104" y="22"/>
                  </a:lnTo>
                  <a:lnTo>
                    <a:pt x="103" y="18"/>
                  </a:lnTo>
                  <a:lnTo>
                    <a:pt x="101" y="14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2" y="6"/>
                  </a:lnTo>
                  <a:lnTo>
                    <a:pt x="89" y="5"/>
                  </a:lnTo>
                  <a:lnTo>
                    <a:pt x="81" y="1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40" y="3"/>
                  </a:lnTo>
                  <a:lnTo>
                    <a:pt x="31" y="5"/>
                  </a:lnTo>
                  <a:lnTo>
                    <a:pt x="22" y="8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8"/>
                  </a:lnTo>
                  <a:lnTo>
                    <a:pt x="5" y="21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8" y="203"/>
                  </a:lnTo>
                  <a:lnTo>
                    <a:pt x="20" y="213"/>
                  </a:lnTo>
                  <a:lnTo>
                    <a:pt x="24" y="221"/>
                  </a:lnTo>
                  <a:lnTo>
                    <a:pt x="30" y="227"/>
                  </a:lnTo>
                  <a:lnTo>
                    <a:pt x="36" y="231"/>
                  </a:lnTo>
                  <a:lnTo>
                    <a:pt x="44" y="235"/>
                  </a:lnTo>
                  <a:lnTo>
                    <a:pt x="53" y="237"/>
                  </a:lnTo>
                  <a:lnTo>
                    <a:pt x="63" y="238"/>
                  </a:lnTo>
                  <a:lnTo>
                    <a:pt x="74" y="237"/>
                  </a:lnTo>
                  <a:lnTo>
                    <a:pt x="85" y="236"/>
                  </a:lnTo>
                  <a:lnTo>
                    <a:pt x="94" y="233"/>
                  </a:lnTo>
                  <a:lnTo>
                    <a:pt x="103" y="229"/>
                  </a:lnTo>
                  <a:lnTo>
                    <a:pt x="111" y="224"/>
                  </a:lnTo>
                  <a:lnTo>
                    <a:pt x="114" y="221"/>
                  </a:lnTo>
                  <a:lnTo>
                    <a:pt x="117" y="217"/>
                  </a:lnTo>
                  <a:lnTo>
                    <a:pt x="119" y="214"/>
                  </a:lnTo>
                  <a:lnTo>
                    <a:pt x="121" y="211"/>
                  </a:lnTo>
                  <a:lnTo>
                    <a:pt x="122" y="207"/>
                  </a:lnTo>
                  <a:lnTo>
                    <a:pt x="124" y="202"/>
                  </a:lnTo>
                  <a:lnTo>
                    <a:pt x="124" y="197"/>
                  </a:lnTo>
                  <a:lnTo>
                    <a:pt x="124" y="192"/>
                  </a:lnTo>
                  <a:lnTo>
                    <a:pt x="106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811920" y="3341880"/>
              <a:ext cx="61920" cy="117720"/>
            </a:xfrm>
            <a:custGeom>
              <a:avLst/>
              <a:gdLst/>
              <a:ahLst/>
              <a:rect l="l" t="t" r="r" b="b"/>
              <a:pathLst>
                <a:path w="124" h="238">
                  <a:moveTo>
                    <a:pt x="106" y="33"/>
                  </a:moveTo>
                  <a:lnTo>
                    <a:pt x="105" y="27"/>
                  </a:lnTo>
                  <a:lnTo>
                    <a:pt x="104" y="22"/>
                  </a:lnTo>
                  <a:lnTo>
                    <a:pt x="103" y="18"/>
                  </a:lnTo>
                  <a:lnTo>
                    <a:pt x="101" y="14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2" y="6"/>
                  </a:lnTo>
                  <a:lnTo>
                    <a:pt x="89" y="5"/>
                  </a:lnTo>
                  <a:lnTo>
                    <a:pt x="81" y="1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40" y="3"/>
                  </a:lnTo>
                  <a:lnTo>
                    <a:pt x="31" y="5"/>
                  </a:lnTo>
                  <a:lnTo>
                    <a:pt x="22" y="8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8"/>
                  </a:lnTo>
                  <a:lnTo>
                    <a:pt x="5" y="21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8" y="203"/>
                  </a:lnTo>
                  <a:lnTo>
                    <a:pt x="20" y="213"/>
                  </a:lnTo>
                  <a:lnTo>
                    <a:pt x="24" y="221"/>
                  </a:lnTo>
                  <a:lnTo>
                    <a:pt x="30" y="227"/>
                  </a:lnTo>
                  <a:lnTo>
                    <a:pt x="36" y="231"/>
                  </a:lnTo>
                  <a:lnTo>
                    <a:pt x="44" y="235"/>
                  </a:lnTo>
                  <a:lnTo>
                    <a:pt x="53" y="237"/>
                  </a:lnTo>
                  <a:lnTo>
                    <a:pt x="63" y="238"/>
                  </a:lnTo>
                  <a:lnTo>
                    <a:pt x="74" y="237"/>
                  </a:lnTo>
                  <a:lnTo>
                    <a:pt x="74" y="237"/>
                  </a:lnTo>
                  <a:lnTo>
                    <a:pt x="85" y="236"/>
                  </a:lnTo>
                  <a:lnTo>
                    <a:pt x="94" y="233"/>
                  </a:lnTo>
                  <a:lnTo>
                    <a:pt x="103" y="229"/>
                  </a:lnTo>
                  <a:lnTo>
                    <a:pt x="111" y="224"/>
                  </a:lnTo>
                  <a:lnTo>
                    <a:pt x="114" y="221"/>
                  </a:lnTo>
                  <a:lnTo>
                    <a:pt x="117" y="217"/>
                  </a:lnTo>
                  <a:lnTo>
                    <a:pt x="119" y="214"/>
                  </a:lnTo>
                  <a:lnTo>
                    <a:pt x="121" y="211"/>
                  </a:lnTo>
                  <a:lnTo>
                    <a:pt x="122" y="207"/>
                  </a:lnTo>
                  <a:lnTo>
                    <a:pt x="124" y="202"/>
                  </a:lnTo>
                  <a:lnTo>
                    <a:pt x="124" y="197"/>
                  </a:lnTo>
                  <a:lnTo>
                    <a:pt x="124" y="192"/>
                  </a:lnTo>
                  <a:lnTo>
                    <a:pt x="106" y="3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6811920" y="3350160"/>
              <a:ext cx="47880" cy="1548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18"/>
                  </a:moveTo>
                  <a:lnTo>
                    <a:pt x="3" y="22"/>
                  </a:lnTo>
                  <a:lnTo>
                    <a:pt x="8" y="26"/>
                  </a:lnTo>
                  <a:lnTo>
                    <a:pt x="14" y="30"/>
                  </a:lnTo>
                  <a:lnTo>
                    <a:pt x="20" y="32"/>
                  </a:lnTo>
                  <a:lnTo>
                    <a:pt x="27" y="33"/>
                  </a:lnTo>
                  <a:lnTo>
                    <a:pt x="34" y="34"/>
                  </a:lnTo>
                  <a:lnTo>
                    <a:pt x="41" y="34"/>
                  </a:lnTo>
                  <a:lnTo>
                    <a:pt x="50" y="33"/>
                  </a:lnTo>
                  <a:lnTo>
                    <a:pt x="50" y="33"/>
                  </a:lnTo>
                  <a:lnTo>
                    <a:pt x="59" y="32"/>
                  </a:lnTo>
                  <a:lnTo>
                    <a:pt x="67" y="30"/>
                  </a:lnTo>
                  <a:lnTo>
                    <a:pt x="75" y="27"/>
                  </a:lnTo>
                  <a:lnTo>
                    <a:pt x="82" y="23"/>
                  </a:lnTo>
                  <a:lnTo>
                    <a:pt x="88" y="19"/>
                  </a:lnTo>
                  <a:lnTo>
                    <a:pt x="93" y="15"/>
                  </a:lnTo>
                  <a:lnTo>
                    <a:pt x="96" y="8"/>
                  </a:lnTo>
                  <a:lnTo>
                    <a:pt x="99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848280" y="3368160"/>
              <a:ext cx="9720" cy="8532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822000" y="3369960"/>
              <a:ext cx="7920" cy="856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825960" y="3389760"/>
              <a:ext cx="447120" cy="121320"/>
            </a:xfrm>
            <a:custGeom>
              <a:avLst/>
              <a:gdLst/>
              <a:ahLst/>
              <a:rect l="l" t="t" r="r" b="b"/>
              <a:pathLst>
                <a:path w="896" h="242">
                  <a:moveTo>
                    <a:pt x="67" y="26"/>
                  </a:moveTo>
                  <a:lnTo>
                    <a:pt x="51" y="32"/>
                  </a:lnTo>
                  <a:lnTo>
                    <a:pt x="0" y="40"/>
                  </a:lnTo>
                  <a:lnTo>
                    <a:pt x="610" y="242"/>
                  </a:lnTo>
                  <a:lnTo>
                    <a:pt x="765" y="202"/>
                  </a:lnTo>
                  <a:lnTo>
                    <a:pt x="896" y="140"/>
                  </a:lnTo>
                  <a:lnTo>
                    <a:pt x="666" y="196"/>
                  </a:lnTo>
                  <a:lnTo>
                    <a:pt x="83" y="0"/>
                  </a:lnTo>
                  <a:lnTo>
                    <a:pt x="83" y="1"/>
                  </a:lnTo>
                  <a:lnTo>
                    <a:pt x="81" y="3"/>
                  </a:lnTo>
                  <a:lnTo>
                    <a:pt x="81" y="7"/>
                  </a:lnTo>
                  <a:lnTo>
                    <a:pt x="79" y="10"/>
                  </a:lnTo>
                  <a:lnTo>
                    <a:pt x="77" y="15"/>
                  </a:lnTo>
                  <a:lnTo>
                    <a:pt x="75" y="19"/>
                  </a:lnTo>
                  <a:lnTo>
                    <a:pt x="72" y="23"/>
                  </a:lnTo>
                  <a:lnTo>
                    <a:pt x="67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825960" y="3389760"/>
              <a:ext cx="447120" cy="121320"/>
            </a:xfrm>
            <a:custGeom>
              <a:avLst/>
              <a:gdLst/>
              <a:ahLst/>
              <a:rect l="l" t="t" r="r" b="b"/>
              <a:pathLst>
                <a:path w="896" h="242">
                  <a:moveTo>
                    <a:pt x="67" y="26"/>
                  </a:moveTo>
                  <a:lnTo>
                    <a:pt x="51" y="32"/>
                  </a:lnTo>
                  <a:lnTo>
                    <a:pt x="0" y="40"/>
                  </a:lnTo>
                  <a:lnTo>
                    <a:pt x="610" y="242"/>
                  </a:lnTo>
                  <a:lnTo>
                    <a:pt x="765" y="202"/>
                  </a:lnTo>
                  <a:lnTo>
                    <a:pt x="896" y="140"/>
                  </a:lnTo>
                  <a:lnTo>
                    <a:pt x="666" y="196"/>
                  </a:lnTo>
                  <a:lnTo>
                    <a:pt x="83" y="0"/>
                  </a:lnTo>
                  <a:lnTo>
                    <a:pt x="83" y="1"/>
                  </a:lnTo>
                  <a:lnTo>
                    <a:pt x="81" y="3"/>
                  </a:lnTo>
                  <a:lnTo>
                    <a:pt x="81" y="7"/>
                  </a:lnTo>
                  <a:lnTo>
                    <a:pt x="79" y="10"/>
                  </a:lnTo>
                  <a:lnTo>
                    <a:pt x="77" y="15"/>
                  </a:lnTo>
                  <a:lnTo>
                    <a:pt x="75" y="19"/>
                  </a:lnTo>
                  <a:lnTo>
                    <a:pt x="72" y="23"/>
                  </a:lnTo>
                  <a:lnTo>
                    <a:pt x="67" y="2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7129800" y="3461760"/>
              <a:ext cx="143280" cy="49680"/>
            </a:xfrm>
            <a:custGeom>
              <a:avLst/>
              <a:gdLst/>
              <a:ahLst/>
              <a:rect l="l" t="t" r="r" b="b"/>
              <a:pathLst>
                <a:path w="286" h="102">
                  <a:moveTo>
                    <a:pt x="0" y="102"/>
                  </a:moveTo>
                  <a:lnTo>
                    <a:pt x="155" y="62"/>
                  </a:lnTo>
                  <a:lnTo>
                    <a:pt x="286" y="0"/>
                  </a:lnTo>
                  <a:lnTo>
                    <a:pt x="56" y="56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7129800" y="3461760"/>
              <a:ext cx="143280" cy="49680"/>
            </a:xfrm>
            <a:custGeom>
              <a:avLst/>
              <a:gdLst/>
              <a:ahLst/>
              <a:rect l="l" t="t" r="r" b="b"/>
              <a:pathLst>
                <a:path w="286" h="102">
                  <a:moveTo>
                    <a:pt x="0" y="102"/>
                  </a:moveTo>
                  <a:lnTo>
                    <a:pt x="155" y="62"/>
                  </a:lnTo>
                  <a:lnTo>
                    <a:pt x="286" y="0"/>
                  </a:lnTo>
                  <a:lnTo>
                    <a:pt x="56" y="56"/>
                  </a:lnTo>
                  <a:lnTo>
                    <a:pt x="0" y="10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760440" y="3523680"/>
              <a:ext cx="115200" cy="35640"/>
            </a:xfrm>
            <a:custGeom>
              <a:avLst/>
              <a:gdLst/>
              <a:ahLst/>
              <a:rect l="l" t="t" r="r" b="b"/>
              <a:pathLst>
                <a:path w="230" h="73">
                  <a:moveTo>
                    <a:pt x="114" y="73"/>
                  </a:moveTo>
                  <a:lnTo>
                    <a:pt x="137" y="72"/>
                  </a:lnTo>
                  <a:lnTo>
                    <a:pt x="159" y="70"/>
                  </a:lnTo>
                  <a:lnTo>
                    <a:pt x="178" y="65"/>
                  </a:lnTo>
                  <a:lnTo>
                    <a:pt x="195" y="60"/>
                  </a:lnTo>
                  <a:lnTo>
                    <a:pt x="209" y="54"/>
                  </a:lnTo>
                  <a:lnTo>
                    <a:pt x="220" y="49"/>
                  </a:lnTo>
                  <a:lnTo>
                    <a:pt x="225" y="46"/>
                  </a:lnTo>
                  <a:lnTo>
                    <a:pt x="228" y="43"/>
                  </a:lnTo>
                  <a:lnTo>
                    <a:pt x="230" y="40"/>
                  </a:lnTo>
                  <a:lnTo>
                    <a:pt x="230" y="37"/>
                  </a:lnTo>
                  <a:lnTo>
                    <a:pt x="230" y="35"/>
                  </a:lnTo>
                  <a:lnTo>
                    <a:pt x="228" y="32"/>
                  </a:lnTo>
                  <a:lnTo>
                    <a:pt x="225" y="30"/>
                  </a:lnTo>
                  <a:lnTo>
                    <a:pt x="220" y="26"/>
                  </a:lnTo>
                  <a:lnTo>
                    <a:pt x="209" y="20"/>
                  </a:lnTo>
                  <a:lnTo>
                    <a:pt x="195" y="14"/>
                  </a:lnTo>
                  <a:lnTo>
                    <a:pt x="178" y="9"/>
                  </a:lnTo>
                  <a:lnTo>
                    <a:pt x="159" y="5"/>
                  </a:lnTo>
                  <a:lnTo>
                    <a:pt x="137" y="1"/>
                  </a:lnTo>
                  <a:lnTo>
                    <a:pt x="114" y="0"/>
                  </a:lnTo>
                  <a:lnTo>
                    <a:pt x="92" y="1"/>
                  </a:lnTo>
                  <a:lnTo>
                    <a:pt x="70" y="5"/>
                  </a:lnTo>
                  <a:lnTo>
                    <a:pt x="51" y="9"/>
                  </a:lnTo>
                  <a:lnTo>
                    <a:pt x="33" y="14"/>
                  </a:lnTo>
                  <a:lnTo>
                    <a:pt x="19" y="20"/>
                  </a:lnTo>
                  <a:lnTo>
                    <a:pt x="8" y="26"/>
                  </a:lnTo>
                  <a:lnTo>
                    <a:pt x="5" y="30"/>
                  </a:lnTo>
                  <a:lnTo>
                    <a:pt x="2" y="32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5" y="46"/>
                  </a:lnTo>
                  <a:lnTo>
                    <a:pt x="9" y="49"/>
                  </a:lnTo>
                  <a:lnTo>
                    <a:pt x="20" y="54"/>
                  </a:lnTo>
                  <a:lnTo>
                    <a:pt x="34" y="60"/>
                  </a:lnTo>
                  <a:lnTo>
                    <a:pt x="52" y="65"/>
                  </a:lnTo>
                  <a:lnTo>
                    <a:pt x="71" y="70"/>
                  </a:lnTo>
                  <a:lnTo>
                    <a:pt x="92" y="72"/>
                  </a:lnTo>
                  <a:lnTo>
                    <a:pt x="114" y="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760440" y="3523680"/>
              <a:ext cx="115200" cy="35640"/>
            </a:xfrm>
            <a:custGeom>
              <a:avLst/>
              <a:gdLst/>
              <a:ahLst/>
              <a:rect l="l" t="t" r="r" b="b"/>
              <a:pathLst>
                <a:path w="230" h="73">
                  <a:moveTo>
                    <a:pt x="114" y="73"/>
                  </a:moveTo>
                  <a:lnTo>
                    <a:pt x="137" y="72"/>
                  </a:lnTo>
                  <a:lnTo>
                    <a:pt x="159" y="70"/>
                  </a:lnTo>
                  <a:lnTo>
                    <a:pt x="178" y="65"/>
                  </a:lnTo>
                  <a:lnTo>
                    <a:pt x="195" y="60"/>
                  </a:lnTo>
                  <a:lnTo>
                    <a:pt x="209" y="54"/>
                  </a:lnTo>
                  <a:lnTo>
                    <a:pt x="220" y="49"/>
                  </a:lnTo>
                  <a:lnTo>
                    <a:pt x="225" y="46"/>
                  </a:lnTo>
                  <a:lnTo>
                    <a:pt x="228" y="43"/>
                  </a:lnTo>
                  <a:lnTo>
                    <a:pt x="230" y="40"/>
                  </a:lnTo>
                  <a:lnTo>
                    <a:pt x="230" y="37"/>
                  </a:lnTo>
                  <a:lnTo>
                    <a:pt x="230" y="35"/>
                  </a:lnTo>
                  <a:lnTo>
                    <a:pt x="228" y="32"/>
                  </a:lnTo>
                  <a:lnTo>
                    <a:pt x="225" y="30"/>
                  </a:lnTo>
                  <a:lnTo>
                    <a:pt x="220" y="26"/>
                  </a:lnTo>
                  <a:lnTo>
                    <a:pt x="209" y="20"/>
                  </a:lnTo>
                  <a:lnTo>
                    <a:pt x="195" y="14"/>
                  </a:lnTo>
                  <a:lnTo>
                    <a:pt x="178" y="9"/>
                  </a:lnTo>
                  <a:lnTo>
                    <a:pt x="159" y="5"/>
                  </a:lnTo>
                  <a:lnTo>
                    <a:pt x="137" y="1"/>
                  </a:lnTo>
                  <a:lnTo>
                    <a:pt x="114" y="0"/>
                  </a:lnTo>
                  <a:lnTo>
                    <a:pt x="92" y="1"/>
                  </a:lnTo>
                  <a:lnTo>
                    <a:pt x="70" y="5"/>
                  </a:lnTo>
                  <a:lnTo>
                    <a:pt x="51" y="9"/>
                  </a:lnTo>
                  <a:lnTo>
                    <a:pt x="33" y="14"/>
                  </a:lnTo>
                  <a:lnTo>
                    <a:pt x="19" y="20"/>
                  </a:lnTo>
                  <a:lnTo>
                    <a:pt x="8" y="26"/>
                  </a:lnTo>
                  <a:lnTo>
                    <a:pt x="5" y="30"/>
                  </a:lnTo>
                  <a:lnTo>
                    <a:pt x="2" y="32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5" y="46"/>
                  </a:lnTo>
                  <a:lnTo>
                    <a:pt x="9" y="49"/>
                  </a:lnTo>
                  <a:lnTo>
                    <a:pt x="20" y="54"/>
                  </a:lnTo>
                  <a:lnTo>
                    <a:pt x="34" y="60"/>
                  </a:lnTo>
                  <a:lnTo>
                    <a:pt x="52" y="65"/>
                  </a:lnTo>
                  <a:lnTo>
                    <a:pt x="71" y="70"/>
                  </a:lnTo>
                  <a:lnTo>
                    <a:pt x="92" y="72"/>
                  </a:lnTo>
                  <a:lnTo>
                    <a:pt x="114" y="7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754680" y="2712240"/>
              <a:ext cx="504360" cy="246960"/>
            </a:xfrm>
            <a:custGeom>
              <a:avLst/>
              <a:gdLst/>
              <a:ahLst/>
              <a:rect l="l" t="t" r="r" b="b"/>
              <a:pathLst>
                <a:path w="1011" h="498">
                  <a:moveTo>
                    <a:pt x="21" y="494"/>
                  </a:moveTo>
                  <a:lnTo>
                    <a:pt x="0" y="498"/>
                  </a:lnTo>
                  <a:lnTo>
                    <a:pt x="7" y="291"/>
                  </a:lnTo>
                  <a:lnTo>
                    <a:pt x="27" y="278"/>
                  </a:lnTo>
                  <a:lnTo>
                    <a:pt x="83" y="244"/>
                  </a:lnTo>
                  <a:lnTo>
                    <a:pt x="122" y="221"/>
                  </a:lnTo>
                  <a:lnTo>
                    <a:pt x="169" y="195"/>
                  </a:lnTo>
                  <a:lnTo>
                    <a:pt x="222" y="168"/>
                  </a:lnTo>
                  <a:lnTo>
                    <a:pt x="281" y="140"/>
                  </a:lnTo>
                  <a:lnTo>
                    <a:pt x="312" y="126"/>
                  </a:lnTo>
                  <a:lnTo>
                    <a:pt x="344" y="113"/>
                  </a:lnTo>
                  <a:lnTo>
                    <a:pt x="378" y="99"/>
                  </a:lnTo>
                  <a:lnTo>
                    <a:pt x="413" y="86"/>
                  </a:lnTo>
                  <a:lnTo>
                    <a:pt x="448" y="73"/>
                  </a:lnTo>
                  <a:lnTo>
                    <a:pt x="485" y="61"/>
                  </a:lnTo>
                  <a:lnTo>
                    <a:pt x="522" y="50"/>
                  </a:lnTo>
                  <a:lnTo>
                    <a:pt x="559" y="40"/>
                  </a:lnTo>
                  <a:lnTo>
                    <a:pt x="598" y="30"/>
                  </a:lnTo>
                  <a:lnTo>
                    <a:pt x="637" y="21"/>
                  </a:lnTo>
                  <a:lnTo>
                    <a:pt x="676" y="15"/>
                  </a:lnTo>
                  <a:lnTo>
                    <a:pt x="716" y="8"/>
                  </a:lnTo>
                  <a:lnTo>
                    <a:pt x="755" y="4"/>
                  </a:lnTo>
                  <a:lnTo>
                    <a:pt x="796" y="1"/>
                  </a:lnTo>
                  <a:lnTo>
                    <a:pt x="836" y="0"/>
                  </a:lnTo>
                  <a:lnTo>
                    <a:pt x="876" y="0"/>
                  </a:lnTo>
                  <a:lnTo>
                    <a:pt x="902" y="30"/>
                  </a:lnTo>
                  <a:lnTo>
                    <a:pt x="926" y="58"/>
                  </a:lnTo>
                  <a:lnTo>
                    <a:pt x="950" y="84"/>
                  </a:lnTo>
                  <a:lnTo>
                    <a:pt x="970" y="108"/>
                  </a:lnTo>
                  <a:lnTo>
                    <a:pt x="987" y="127"/>
                  </a:lnTo>
                  <a:lnTo>
                    <a:pt x="1000" y="142"/>
                  </a:lnTo>
                  <a:lnTo>
                    <a:pt x="1009" y="152"/>
                  </a:lnTo>
                  <a:lnTo>
                    <a:pt x="1011" y="155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5780520" y="2554920"/>
              <a:ext cx="632160" cy="1935000"/>
            </a:xfrm>
            <a:custGeom>
              <a:avLst/>
              <a:gdLst/>
              <a:ahLst/>
              <a:rect l="l" t="t" r="r" b="b"/>
              <a:pathLst>
                <a:path w="1270" h="3883">
                  <a:moveTo>
                    <a:pt x="1270" y="0"/>
                  </a:moveTo>
                  <a:lnTo>
                    <a:pt x="1027" y="65"/>
                  </a:lnTo>
                  <a:lnTo>
                    <a:pt x="5" y="331"/>
                  </a:lnTo>
                  <a:lnTo>
                    <a:pt x="0" y="3883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688360" y="3750480"/>
              <a:ext cx="304920" cy="181440"/>
            </a:xfrm>
            <a:custGeom>
              <a:avLst/>
              <a:gdLst/>
              <a:ahLst/>
              <a:rect l="l" t="t" r="r" b="b"/>
              <a:pathLst>
                <a:path w="611" h="364">
                  <a:moveTo>
                    <a:pt x="503" y="281"/>
                  </a:moveTo>
                  <a:lnTo>
                    <a:pt x="517" y="277"/>
                  </a:lnTo>
                  <a:lnTo>
                    <a:pt x="530" y="271"/>
                  </a:lnTo>
                  <a:lnTo>
                    <a:pt x="543" y="265"/>
                  </a:lnTo>
                  <a:lnTo>
                    <a:pt x="554" y="257"/>
                  </a:lnTo>
                  <a:lnTo>
                    <a:pt x="565" y="249"/>
                  </a:lnTo>
                  <a:lnTo>
                    <a:pt x="575" y="239"/>
                  </a:lnTo>
                  <a:lnTo>
                    <a:pt x="583" y="228"/>
                  </a:lnTo>
                  <a:lnTo>
                    <a:pt x="591" y="217"/>
                  </a:lnTo>
                  <a:lnTo>
                    <a:pt x="597" y="205"/>
                  </a:lnTo>
                  <a:lnTo>
                    <a:pt x="603" y="192"/>
                  </a:lnTo>
                  <a:lnTo>
                    <a:pt x="607" y="180"/>
                  </a:lnTo>
                  <a:lnTo>
                    <a:pt x="610" y="167"/>
                  </a:lnTo>
                  <a:lnTo>
                    <a:pt x="611" y="153"/>
                  </a:lnTo>
                  <a:lnTo>
                    <a:pt x="611" y="138"/>
                  </a:lnTo>
                  <a:lnTo>
                    <a:pt x="610" y="124"/>
                  </a:lnTo>
                  <a:lnTo>
                    <a:pt x="608" y="110"/>
                  </a:lnTo>
                  <a:lnTo>
                    <a:pt x="604" y="96"/>
                  </a:lnTo>
                  <a:lnTo>
                    <a:pt x="598" y="82"/>
                  </a:lnTo>
                  <a:lnTo>
                    <a:pt x="592" y="70"/>
                  </a:lnTo>
                  <a:lnTo>
                    <a:pt x="584" y="59"/>
                  </a:lnTo>
                  <a:lnTo>
                    <a:pt x="576" y="48"/>
                  </a:lnTo>
                  <a:lnTo>
                    <a:pt x="566" y="38"/>
                  </a:lnTo>
                  <a:lnTo>
                    <a:pt x="555" y="29"/>
                  </a:lnTo>
                  <a:lnTo>
                    <a:pt x="544" y="22"/>
                  </a:lnTo>
                  <a:lnTo>
                    <a:pt x="532" y="14"/>
                  </a:lnTo>
                  <a:lnTo>
                    <a:pt x="520" y="9"/>
                  </a:lnTo>
                  <a:lnTo>
                    <a:pt x="507" y="5"/>
                  </a:lnTo>
                  <a:lnTo>
                    <a:pt x="494" y="2"/>
                  </a:lnTo>
                  <a:lnTo>
                    <a:pt x="480" y="0"/>
                  </a:lnTo>
                  <a:lnTo>
                    <a:pt x="465" y="0"/>
                  </a:lnTo>
                  <a:lnTo>
                    <a:pt x="451" y="1"/>
                  </a:lnTo>
                  <a:lnTo>
                    <a:pt x="437" y="3"/>
                  </a:lnTo>
                  <a:lnTo>
                    <a:pt x="108" y="83"/>
                  </a:lnTo>
                  <a:lnTo>
                    <a:pt x="94" y="87"/>
                  </a:lnTo>
                  <a:lnTo>
                    <a:pt x="81" y="92"/>
                  </a:lnTo>
                  <a:lnTo>
                    <a:pt x="68" y="100"/>
                  </a:lnTo>
                  <a:lnTo>
                    <a:pt x="57" y="107"/>
                  </a:lnTo>
                  <a:lnTo>
                    <a:pt x="46" y="116"/>
                  </a:lnTo>
                  <a:lnTo>
                    <a:pt x="37" y="126"/>
                  </a:lnTo>
                  <a:lnTo>
                    <a:pt x="28" y="135"/>
                  </a:lnTo>
                  <a:lnTo>
                    <a:pt x="20" y="147"/>
                  </a:lnTo>
                  <a:lnTo>
                    <a:pt x="14" y="159"/>
                  </a:lnTo>
                  <a:lnTo>
                    <a:pt x="8" y="171"/>
                  </a:lnTo>
                  <a:lnTo>
                    <a:pt x="4" y="184"/>
                  </a:lnTo>
                  <a:lnTo>
                    <a:pt x="1" y="198"/>
                  </a:lnTo>
                  <a:lnTo>
                    <a:pt x="0" y="212"/>
                  </a:lnTo>
                  <a:lnTo>
                    <a:pt x="0" y="226"/>
                  </a:lnTo>
                  <a:lnTo>
                    <a:pt x="1" y="240"/>
                  </a:lnTo>
                  <a:lnTo>
                    <a:pt x="3" y="254"/>
                  </a:lnTo>
                  <a:lnTo>
                    <a:pt x="7" y="268"/>
                  </a:lnTo>
                  <a:lnTo>
                    <a:pt x="13" y="281"/>
                  </a:lnTo>
                  <a:lnTo>
                    <a:pt x="19" y="294"/>
                  </a:lnTo>
                  <a:lnTo>
                    <a:pt x="27" y="305"/>
                  </a:lnTo>
                  <a:lnTo>
                    <a:pt x="35" y="316"/>
                  </a:lnTo>
                  <a:lnTo>
                    <a:pt x="45" y="325"/>
                  </a:lnTo>
                  <a:lnTo>
                    <a:pt x="56" y="335"/>
                  </a:lnTo>
                  <a:lnTo>
                    <a:pt x="67" y="343"/>
                  </a:lnTo>
                  <a:lnTo>
                    <a:pt x="79" y="349"/>
                  </a:lnTo>
                  <a:lnTo>
                    <a:pt x="92" y="354"/>
                  </a:lnTo>
                  <a:lnTo>
                    <a:pt x="105" y="359"/>
                  </a:lnTo>
                  <a:lnTo>
                    <a:pt x="118" y="362"/>
                  </a:lnTo>
                  <a:lnTo>
                    <a:pt x="132" y="363"/>
                  </a:lnTo>
                  <a:lnTo>
                    <a:pt x="146" y="364"/>
                  </a:lnTo>
                  <a:lnTo>
                    <a:pt x="160" y="362"/>
                  </a:lnTo>
                  <a:lnTo>
                    <a:pt x="174" y="360"/>
                  </a:lnTo>
                  <a:lnTo>
                    <a:pt x="503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690520" y="3806640"/>
              <a:ext cx="303120" cy="91440"/>
            </a:xfrm>
            <a:custGeom>
              <a:avLst/>
              <a:gdLst/>
              <a:ahLst/>
              <a:rect l="l" t="t" r="r" b="b"/>
              <a:pathLst>
                <a:path w="608" h="184">
                  <a:moveTo>
                    <a:pt x="532" y="86"/>
                  </a:moveTo>
                  <a:lnTo>
                    <a:pt x="556" y="79"/>
                  </a:lnTo>
                  <a:lnTo>
                    <a:pt x="577" y="73"/>
                  </a:lnTo>
                  <a:lnTo>
                    <a:pt x="585" y="68"/>
                  </a:lnTo>
                  <a:lnTo>
                    <a:pt x="591" y="65"/>
                  </a:lnTo>
                  <a:lnTo>
                    <a:pt x="596" y="61"/>
                  </a:lnTo>
                  <a:lnTo>
                    <a:pt x="601" y="57"/>
                  </a:lnTo>
                  <a:lnTo>
                    <a:pt x="604" y="51"/>
                  </a:lnTo>
                  <a:lnTo>
                    <a:pt x="606" y="46"/>
                  </a:lnTo>
                  <a:lnTo>
                    <a:pt x="608" y="40"/>
                  </a:lnTo>
                  <a:lnTo>
                    <a:pt x="608" y="34"/>
                  </a:lnTo>
                  <a:lnTo>
                    <a:pt x="608" y="19"/>
                  </a:lnTo>
                  <a:lnTo>
                    <a:pt x="605" y="0"/>
                  </a:lnTo>
                  <a:lnTo>
                    <a:pt x="598" y="0"/>
                  </a:lnTo>
                  <a:lnTo>
                    <a:pt x="594" y="0"/>
                  </a:lnTo>
                  <a:lnTo>
                    <a:pt x="593" y="1"/>
                  </a:lnTo>
                  <a:lnTo>
                    <a:pt x="592" y="4"/>
                  </a:lnTo>
                  <a:lnTo>
                    <a:pt x="589" y="7"/>
                  </a:lnTo>
                  <a:lnTo>
                    <a:pt x="581" y="11"/>
                  </a:lnTo>
                  <a:lnTo>
                    <a:pt x="566" y="17"/>
                  </a:lnTo>
                  <a:lnTo>
                    <a:pt x="542" y="24"/>
                  </a:lnTo>
                  <a:lnTo>
                    <a:pt x="214" y="102"/>
                  </a:lnTo>
                  <a:lnTo>
                    <a:pt x="183" y="107"/>
                  </a:lnTo>
                  <a:lnTo>
                    <a:pt x="148" y="114"/>
                  </a:lnTo>
                  <a:lnTo>
                    <a:pt x="114" y="119"/>
                  </a:lnTo>
                  <a:lnTo>
                    <a:pt x="79" y="125"/>
                  </a:lnTo>
                  <a:lnTo>
                    <a:pt x="49" y="130"/>
                  </a:lnTo>
                  <a:lnTo>
                    <a:pt x="24" y="135"/>
                  </a:lnTo>
                  <a:lnTo>
                    <a:pt x="14" y="138"/>
                  </a:lnTo>
                  <a:lnTo>
                    <a:pt x="7" y="140"/>
                  </a:lnTo>
                  <a:lnTo>
                    <a:pt x="2" y="142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2" y="152"/>
                  </a:lnTo>
                  <a:lnTo>
                    <a:pt x="3" y="156"/>
                  </a:lnTo>
                  <a:lnTo>
                    <a:pt x="5" y="159"/>
                  </a:lnTo>
                  <a:lnTo>
                    <a:pt x="11" y="165"/>
                  </a:lnTo>
                  <a:lnTo>
                    <a:pt x="18" y="170"/>
                  </a:lnTo>
                  <a:lnTo>
                    <a:pt x="27" y="174"/>
                  </a:lnTo>
                  <a:lnTo>
                    <a:pt x="37" y="178"/>
                  </a:lnTo>
                  <a:lnTo>
                    <a:pt x="48" y="180"/>
                  </a:lnTo>
                  <a:lnTo>
                    <a:pt x="59" y="182"/>
                  </a:lnTo>
                  <a:lnTo>
                    <a:pt x="71" y="183"/>
                  </a:lnTo>
                  <a:lnTo>
                    <a:pt x="84" y="184"/>
                  </a:lnTo>
                  <a:lnTo>
                    <a:pt x="97" y="184"/>
                  </a:lnTo>
                  <a:lnTo>
                    <a:pt x="109" y="183"/>
                  </a:lnTo>
                  <a:lnTo>
                    <a:pt x="134" y="181"/>
                  </a:lnTo>
                  <a:lnTo>
                    <a:pt x="156" y="176"/>
                  </a:lnTo>
                  <a:lnTo>
                    <a:pt x="532" y="86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690520" y="3806640"/>
              <a:ext cx="303120" cy="91440"/>
            </a:xfrm>
            <a:custGeom>
              <a:avLst/>
              <a:gdLst/>
              <a:ahLst/>
              <a:rect l="l" t="t" r="r" b="b"/>
              <a:pathLst>
                <a:path w="608" h="184">
                  <a:moveTo>
                    <a:pt x="532" y="86"/>
                  </a:moveTo>
                  <a:lnTo>
                    <a:pt x="556" y="79"/>
                  </a:lnTo>
                  <a:lnTo>
                    <a:pt x="577" y="73"/>
                  </a:lnTo>
                  <a:lnTo>
                    <a:pt x="585" y="68"/>
                  </a:lnTo>
                  <a:lnTo>
                    <a:pt x="591" y="65"/>
                  </a:lnTo>
                  <a:lnTo>
                    <a:pt x="596" y="61"/>
                  </a:lnTo>
                  <a:lnTo>
                    <a:pt x="601" y="57"/>
                  </a:lnTo>
                  <a:lnTo>
                    <a:pt x="604" y="51"/>
                  </a:lnTo>
                  <a:lnTo>
                    <a:pt x="606" y="46"/>
                  </a:lnTo>
                  <a:lnTo>
                    <a:pt x="608" y="40"/>
                  </a:lnTo>
                  <a:lnTo>
                    <a:pt x="608" y="34"/>
                  </a:lnTo>
                  <a:lnTo>
                    <a:pt x="608" y="19"/>
                  </a:lnTo>
                  <a:lnTo>
                    <a:pt x="605" y="0"/>
                  </a:lnTo>
                  <a:lnTo>
                    <a:pt x="605" y="0"/>
                  </a:lnTo>
                  <a:lnTo>
                    <a:pt x="598" y="0"/>
                  </a:lnTo>
                  <a:lnTo>
                    <a:pt x="594" y="0"/>
                  </a:lnTo>
                  <a:lnTo>
                    <a:pt x="593" y="1"/>
                  </a:lnTo>
                  <a:lnTo>
                    <a:pt x="592" y="4"/>
                  </a:lnTo>
                  <a:lnTo>
                    <a:pt x="589" y="7"/>
                  </a:lnTo>
                  <a:lnTo>
                    <a:pt x="581" y="11"/>
                  </a:lnTo>
                  <a:lnTo>
                    <a:pt x="566" y="17"/>
                  </a:lnTo>
                  <a:lnTo>
                    <a:pt x="542" y="24"/>
                  </a:lnTo>
                  <a:lnTo>
                    <a:pt x="214" y="102"/>
                  </a:lnTo>
                  <a:lnTo>
                    <a:pt x="183" y="107"/>
                  </a:lnTo>
                  <a:lnTo>
                    <a:pt x="148" y="114"/>
                  </a:lnTo>
                  <a:lnTo>
                    <a:pt x="114" y="119"/>
                  </a:lnTo>
                  <a:lnTo>
                    <a:pt x="79" y="125"/>
                  </a:lnTo>
                  <a:lnTo>
                    <a:pt x="49" y="130"/>
                  </a:lnTo>
                  <a:lnTo>
                    <a:pt x="24" y="135"/>
                  </a:lnTo>
                  <a:lnTo>
                    <a:pt x="14" y="138"/>
                  </a:lnTo>
                  <a:lnTo>
                    <a:pt x="7" y="140"/>
                  </a:lnTo>
                  <a:lnTo>
                    <a:pt x="2" y="14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2" y="152"/>
                  </a:lnTo>
                  <a:lnTo>
                    <a:pt x="3" y="156"/>
                  </a:lnTo>
                  <a:lnTo>
                    <a:pt x="5" y="159"/>
                  </a:lnTo>
                  <a:lnTo>
                    <a:pt x="11" y="165"/>
                  </a:lnTo>
                  <a:lnTo>
                    <a:pt x="18" y="170"/>
                  </a:lnTo>
                  <a:lnTo>
                    <a:pt x="27" y="174"/>
                  </a:lnTo>
                  <a:lnTo>
                    <a:pt x="37" y="178"/>
                  </a:lnTo>
                  <a:lnTo>
                    <a:pt x="48" y="180"/>
                  </a:lnTo>
                  <a:lnTo>
                    <a:pt x="59" y="182"/>
                  </a:lnTo>
                  <a:lnTo>
                    <a:pt x="71" y="183"/>
                  </a:lnTo>
                  <a:lnTo>
                    <a:pt x="84" y="184"/>
                  </a:lnTo>
                  <a:lnTo>
                    <a:pt x="97" y="184"/>
                  </a:lnTo>
                  <a:lnTo>
                    <a:pt x="109" y="183"/>
                  </a:lnTo>
                  <a:lnTo>
                    <a:pt x="134" y="181"/>
                  </a:lnTo>
                  <a:lnTo>
                    <a:pt x="156" y="176"/>
                  </a:lnTo>
                  <a:lnTo>
                    <a:pt x="532" y="86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786280" y="3771000"/>
              <a:ext cx="179640" cy="39600"/>
            </a:xfrm>
            <a:custGeom>
              <a:avLst/>
              <a:gdLst/>
              <a:ahLst/>
              <a:rect l="l" t="t" r="r" b="b"/>
              <a:pathLst>
                <a:path w="360" h="78">
                  <a:moveTo>
                    <a:pt x="360" y="0"/>
                  </a:moveTo>
                  <a:lnTo>
                    <a:pt x="0" y="78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5965920" y="3764520"/>
              <a:ext cx="7560" cy="136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28"/>
                  </a:moveTo>
                  <a:lnTo>
                    <a:pt x="9" y="28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7" y="17"/>
                  </a:lnTo>
                  <a:lnTo>
                    <a:pt x="16" y="12"/>
                  </a:lnTo>
                  <a:lnTo>
                    <a:pt x="15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5786280" y="3764520"/>
              <a:ext cx="181440" cy="51840"/>
            </a:xfrm>
            <a:custGeom>
              <a:avLst/>
              <a:gdLst/>
              <a:ahLst/>
              <a:rect l="l" t="t" r="r" b="b"/>
              <a:pathLst>
                <a:path w="366" h="106">
                  <a:moveTo>
                    <a:pt x="7" y="106"/>
                  </a:moveTo>
                  <a:lnTo>
                    <a:pt x="366" y="28"/>
                  </a:lnTo>
                  <a:lnTo>
                    <a:pt x="361" y="0"/>
                  </a:lnTo>
                  <a:lnTo>
                    <a:pt x="0" y="78"/>
                  </a:lnTo>
                  <a:lnTo>
                    <a:pt x="7" y="106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780520" y="3802320"/>
              <a:ext cx="7560" cy="154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1" y="0"/>
                  </a:move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11" y="28"/>
                  </a:lnTo>
                  <a:lnTo>
                    <a:pt x="14" y="29"/>
                  </a:lnTo>
                  <a:lnTo>
                    <a:pt x="18" y="2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688360" y="3750480"/>
              <a:ext cx="304920" cy="181440"/>
            </a:xfrm>
            <a:custGeom>
              <a:avLst/>
              <a:gdLst/>
              <a:ahLst/>
              <a:rect l="l" t="t" r="r" b="b"/>
              <a:pathLst>
                <a:path w="611" h="364">
                  <a:moveTo>
                    <a:pt x="503" y="281"/>
                  </a:moveTo>
                  <a:lnTo>
                    <a:pt x="517" y="277"/>
                  </a:lnTo>
                  <a:lnTo>
                    <a:pt x="530" y="271"/>
                  </a:lnTo>
                  <a:lnTo>
                    <a:pt x="543" y="265"/>
                  </a:lnTo>
                  <a:lnTo>
                    <a:pt x="554" y="257"/>
                  </a:lnTo>
                  <a:lnTo>
                    <a:pt x="565" y="249"/>
                  </a:lnTo>
                  <a:lnTo>
                    <a:pt x="575" y="239"/>
                  </a:lnTo>
                  <a:lnTo>
                    <a:pt x="583" y="228"/>
                  </a:lnTo>
                  <a:lnTo>
                    <a:pt x="591" y="217"/>
                  </a:lnTo>
                  <a:lnTo>
                    <a:pt x="597" y="205"/>
                  </a:lnTo>
                  <a:lnTo>
                    <a:pt x="603" y="192"/>
                  </a:lnTo>
                  <a:lnTo>
                    <a:pt x="607" y="180"/>
                  </a:lnTo>
                  <a:lnTo>
                    <a:pt x="610" y="167"/>
                  </a:lnTo>
                  <a:lnTo>
                    <a:pt x="611" y="153"/>
                  </a:lnTo>
                  <a:lnTo>
                    <a:pt x="611" y="138"/>
                  </a:lnTo>
                  <a:lnTo>
                    <a:pt x="610" y="124"/>
                  </a:lnTo>
                  <a:lnTo>
                    <a:pt x="608" y="110"/>
                  </a:lnTo>
                  <a:lnTo>
                    <a:pt x="608" y="110"/>
                  </a:lnTo>
                  <a:lnTo>
                    <a:pt x="604" y="96"/>
                  </a:lnTo>
                  <a:lnTo>
                    <a:pt x="598" y="82"/>
                  </a:lnTo>
                  <a:lnTo>
                    <a:pt x="592" y="70"/>
                  </a:lnTo>
                  <a:lnTo>
                    <a:pt x="584" y="59"/>
                  </a:lnTo>
                  <a:lnTo>
                    <a:pt x="576" y="48"/>
                  </a:lnTo>
                  <a:lnTo>
                    <a:pt x="566" y="38"/>
                  </a:lnTo>
                  <a:lnTo>
                    <a:pt x="555" y="29"/>
                  </a:lnTo>
                  <a:lnTo>
                    <a:pt x="544" y="22"/>
                  </a:lnTo>
                  <a:lnTo>
                    <a:pt x="532" y="14"/>
                  </a:lnTo>
                  <a:lnTo>
                    <a:pt x="520" y="9"/>
                  </a:lnTo>
                  <a:lnTo>
                    <a:pt x="507" y="5"/>
                  </a:lnTo>
                  <a:lnTo>
                    <a:pt x="494" y="2"/>
                  </a:lnTo>
                  <a:lnTo>
                    <a:pt x="480" y="0"/>
                  </a:lnTo>
                  <a:lnTo>
                    <a:pt x="465" y="0"/>
                  </a:lnTo>
                  <a:lnTo>
                    <a:pt x="451" y="1"/>
                  </a:lnTo>
                  <a:lnTo>
                    <a:pt x="437" y="3"/>
                  </a:lnTo>
                  <a:lnTo>
                    <a:pt x="108" y="83"/>
                  </a:lnTo>
                  <a:lnTo>
                    <a:pt x="94" y="87"/>
                  </a:lnTo>
                  <a:lnTo>
                    <a:pt x="81" y="92"/>
                  </a:lnTo>
                  <a:lnTo>
                    <a:pt x="68" y="100"/>
                  </a:lnTo>
                  <a:lnTo>
                    <a:pt x="57" y="107"/>
                  </a:lnTo>
                  <a:lnTo>
                    <a:pt x="46" y="116"/>
                  </a:lnTo>
                  <a:lnTo>
                    <a:pt x="37" y="126"/>
                  </a:lnTo>
                  <a:lnTo>
                    <a:pt x="28" y="135"/>
                  </a:lnTo>
                  <a:lnTo>
                    <a:pt x="20" y="147"/>
                  </a:lnTo>
                  <a:lnTo>
                    <a:pt x="14" y="159"/>
                  </a:lnTo>
                  <a:lnTo>
                    <a:pt x="8" y="171"/>
                  </a:lnTo>
                  <a:lnTo>
                    <a:pt x="4" y="184"/>
                  </a:lnTo>
                  <a:lnTo>
                    <a:pt x="1" y="198"/>
                  </a:lnTo>
                  <a:lnTo>
                    <a:pt x="0" y="212"/>
                  </a:lnTo>
                  <a:lnTo>
                    <a:pt x="0" y="226"/>
                  </a:lnTo>
                  <a:lnTo>
                    <a:pt x="1" y="240"/>
                  </a:lnTo>
                  <a:lnTo>
                    <a:pt x="3" y="254"/>
                  </a:lnTo>
                  <a:lnTo>
                    <a:pt x="3" y="254"/>
                  </a:lnTo>
                  <a:lnTo>
                    <a:pt x="7" y="268"/>
                  </a:lnTo>
                  <a:lnTo>
                    <a:pt x="13" y="281"/>
                  </a:lnTo>
                  <a:lnTo>
                    <a:pt x="19" y="294"/>
                  </a:lnTo>
                  <a:lnTo>
                    <a:pt x="27" y="305"/>
                  </a:lnTo>
                  <a:lnTo>
                    <a:pt x="35" y="316"/>
                  </a:lnTo>
                  <a:lnTo>
                    <a:pt x="45" y="325"/>
                  </a:lnTo>
                  <a:lnTo>
                    <a:pt x="56" y="335"/>
                  </a:lnTo>
                  <a:lnTo>
                    <a:pt x="67" y="343"/>
                  </a:lnTo>
                  <a:lnTo>
                    <a:pt x="79" y="349"/>
                  </a:lnTo>
                  <a:lnTo>
                    <a:pt x="92" y="354"/>
                  </a:lnTo>
                  <a:lnTo>
                    <a:pt x="105" y="359"/>
                  </a:lnTo>
                  <a:lnTo>
                    <a:pt x="118" y="362"/>
                  </a:lnTo>
                  <a:lnTo>
                    <a:pt x="132" y="363"/>
                  </a:lnTo>
                  <a:lnTo>
                    <a:pt x="146" y="364"/>
                  </a:lnTo>
                  <a:lnTo>
                    <a:pt x="160" y="362"/>
                  </a:lnTo>
                  <a:lnTo>
                    <a:pt x="174" y="360"/>
                  </a:lnTo>
                  <a:lnTo>
                    <a:pt x="503" y="28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614920" y="3679200"/>
              <a:ext cx="315000" cy="374400"/>
            </a:xfrm>
            <a:custGeom>
              <a:avLst/>
              <a:gdLst/>
              <a:ahLst/>
              <a:rect l="l" t="t" r="r" b="b"/>
              <a:pathLst>
                <a:path w="629" h="751">
                  <a:moveTo>
                    <a:pt x="314" y="751"/>
                  </a:moveTo>
                  <a:lnTo>
                    <a:pt x="329" y="751"/>
                  </a:lnTo>
                  <a:lnTo>
                    <a:pt x="346" y="749"/>
                  </a:lnTo>
                  <a:lnTo>
                    <a:pt x="362" y="747"/>
                  </a:lnTo>
                  <a:lnTo>
                    <a:pt x="377" y="744"/>
                  </a:lnTo>
                  <a:lnTo>
                    <a:pt x="392" y="739"/>
                  </a:lnTo>
                  <a:lnTo>
                    <a:pt x="407" y="734"/>
                  </a:lnTo>
                  <a:lnTo>
                    <a:pt x="422" y="729"/>
                  </a:lnTo>
                  <a:lnTo>
                    <a:pt x="436" y="722"/>
                  </a:lnTo>
                  <a:lnTo>
                    <a:pt x="450" y="715"/>
                  </a:lnTo>
                  <a:lnTo>
                    <a:pt x="463" y="706"/>
                  </a:lnTo>
                  <a:lnTo>
                    <a:pt x="477" y="696"/>
                  </a:lnTo>
                  <a:lnTo>
                    <a:pt x="489" y="686"/>
                  </a:lnTo>
                  <a:lnTo>
                    <a:pt x="502" y="677"/>
                  </a:lnTo>
                  <a:lnTo>
                    <a:pt x="514" y="665"/>
                  </a:lnTo>
                  <a:lnTo>
                    <a:pt x="525" y="653"/>
                  </a:lnTo>
                  <a:lnTo>
                    <a:pt x="537" y="641"/>
                  </a:lnTo>
                  <a:lnTo>
                    <a:pt x="547" y="627"/>
                  </a:lnTo>
                  <a:lnTo>
                    <a:pt x="556" y="614"/>
                  </a:lnTo>
                  <a:lnTo>
                    <a:pt x="566" y="600"/>
                  </a:lnTo>
                  <a:lnTo>
                    <a:pt x="575" y="585"/>
                  </a:lnTo>
                  <a:lnTo>
                    <a:pt x="583" y="570"/>
                  </a:lnTo>
                  <a:lnTo>
                    <a:pt x="591" y="554"/>
                  </a:lnTo>
                  <a:lnTo>
                    <a:pt x="597" y="537"/>
                  </a:lnTo>
                  <a:lnTo>
                    <a:pt x="604" y="521"/>
                  </a:lnTo>
                  <a:lnTo>
                    <a:pt x="609" y="504"/>
                  </a:lnTo>
                  <a:lnTo>
                    <a:pt x="615" y="487"/>
                  </a:lnTo>
                  <a:lnTo>
                    <a:pt x="619" y="468"/>
                  </a:lnTo>
                  <a:lnTo>
                    <a:pt x="622" y="450"/>
                  </a:lnTo>
                  <a:lnTo>
                    <a:pt x="625" y="432"/>
                  </a:lnTo>
                  <a:lnTo>
                    <a:pt x="628" y="413"/>
                  </a:lnTo>
                  <a:lnTo>
                    <a:pt x="629" y="394"/>
                  </a:lnTo>
                  <a:lnTo>
                    <a:pt x="629" y="374"/>
                  </a:lnTo>
                  <a:lnTo>
                    <a:pt x="629" y="355"/>
                  </a:lnTo>
                  <a:lnTo>
                    <a:pt x="628" y="335"/>
                  </a:lnTo>
                  <a:lnTo>
                    <a:pt x="625" y="317"/>
                  </a:lnTo>
                  <a:lnTo>
                    <a:pt x="622" y="299"/>
                  </a:lnTo>
                  <a:lnTo>
                    <a:pt x="619" y="280"/>
                  </a:lnTo>
                  <a:lnTo>
                    <a:pt x="615" y="263"/>
                  </a:lnTo>
                  <a:lnTo>
                    <a:pt x="609" y="246"/>
                  </a:lnTo>
                  <a:lnTo>
                    <a:pt x="604" y="229"/>
                  </a:lnTo>
                  <a:lnTo>
                    <a:pt x="597" y="211"/>
                  </a:lnTo>
                  <a:lnTo>
                    <a:pt x="591" y="195"/>
                  </a:lnTo>
                  <a:lnTo>
                    <a:pt x="583" y="180"/>
                  </a:lnTo>
                  <a:lnTo>
                    <a:pt x="575" y="165"/>
                  </a:lnTo>
                  <a:lnTo>
                    <a:pt x="566" y="150"/>
                  </a:lnTo>
                  <a:lnTo>
                    <a:pt x="556" y="136"/>
                  </a:lnTo>
                  <a:lnTo>
                    <a:pt x="547" y="123"/>
                  </a:lnTo>
                  <a:lnTo>
                    <a:pt x="537" y="110"/>
                  </a:lnTo>
                  <a:lnTo>
                    <a:pt x="525" y="97"/>
                  </a:lnTo>
                  <a:lnTo>
                    <a:pt x="514" y="85"/>
                  </a:lnTo>
                  <a:lnTo>
                    <a:pt x="502" y="74"/>
                  </a:lnTo>
                  <a:lnTo>
                    <a:pt x="489" y="63"/>
                  </a:lnTo>
                  <a:lnTo>
                    <a:pt x="477" y="54"/>
                  </a:lnTo>
                  <a:lnTo>
                    <a:pt x="463" y="45"/>
                  </a:lnTo>
                  <a:lnTo>
                    <a:pt x="450" y="37"/>
                  </a:lnTo>
                  <a:lnTo>
                    <a:pt x="436" y="30"/>
                  </a:lnTo>
                  <a:lnTo>
                    <a:pt x="422" y="22"/>
                  </a:lnTo>
                  <a:lnTo>
                    <a:pt x="407" y="17"/>
                  </a:lnTo>
                  <a:lnTo>
                    <a:pt x="392" y="11"/>
                  </a:lnTo>
                  <a:lnTo>
                    <a:pt x="377" y="7"/>
                  </a:lnTo>
                  <a:lnTo>
                    <a:pt x="362" y="4"/>
                  </a:lnTo>
                  <a:lnTo>
                    <a:pt x="346" y="2"/>
                  </a:lnTo>
                  <a:lnTo>
                    <a:pt x="329" y="1"/>
                  </a:lnTo>
                  <a:lnTo>
                    <a:pt x="314" y="0"/>
                  </a:lnTo>
                  <a:lnTo>
                    <a:pt x="298" y="1"/>
                  </a:lnTo>
                  <a:lnTo>
                    <a:pt x="282" y="2"/>
                  </a:lnTo>
                  <a:lnTo>
                    <a:pt x="266" y="4"/>
                  </a:lnTo>
                  <a:lnTo>
                    <a:pt x="250" y="7"/>
                  </a:lnTo>
                  <a:lnTo>
                    <a:pt x="235" y="11"/>
                  </a:lnTo>
                  <a:lnTo>
                    <a:pt x="220" y="17"/>
                  </a:lnTo>
                  <a:lnTo>
                    <a:pt x="206" y="22"/>
                  </a:lnTo>
                  <a:lnTo>
                    <a:pt x="192" y="30"/>
                  </a:lnTo>
                  <a:lnTo>
                    <a:pt x="178" y="37"/>
                  </a:lnTo>
                  <a:lnTo>
                    <a:pt x="164" y="45"/>
                  </a:lnTo>
                  <a:lnTo>
                    <a:pt x="151" y="54"/>
                  </a:lnTo>
                  <a:lnTo>
                    <a:pt x="139" y="63"/>
                  </a:lnTo>
                  <a:lnTo>
                    <a:pt x="126" y="74"/>
                  </a:lnTo>
                  <a:lnTo>
                    <a:pt x="114" y="85"/>
                  </a:lnTo>
                  <a:lnTo>
                    <a:pt x="104" y="97"/>
                  </a:lnTo>
                  <a:lnTo>
                    <a:pt x="93" y="110"/>
                  </a:lnTo>
                  <a:lnTo>
                    <a:pt x="82" y="123"/>
                  </a:lnTo>
                  <a:lnTo>
                    <a:pt x="72" y="136"/>
                  </a:lnTo>
                  <a:lnTo>
                    <a:pt x="62" y="150"/>
                  </a:lnTo>
                  <a:lnTo>
                    <a:pt x="54" y="165"/>
                  </a:lnTo>
                  <a:lnTo>
                    <a:pt x="45" y="180"/>
                  </a:lnTo>
                  <a:lnTo>
                    <a:pt x="38" y="195"/>
                  </a:lnTo>
                  <a:lnTo>
                    <a:pt x="31" y="211"/>
                  </a:lnTo>
                  <a:lnTo>
                    <a:pt x="25" y="229"/>
                  </a:lnTo>
                  <a:lnTo>
                    <a:pt x="19" y="246"/>
                  </a:lnTo>
                  <a:lnTo>
                    <a:pt x="14" y="263"/>
                  </a:lnTo>
                  <a:lnTo>
                    <a:pt x="10" y="280"/>
                  </a:lnTo>
                  <a:lnTo>
                    <a:pt x="6" y="299"/>
                  </a:lnTo>
                  <a:lnTo>
                    <a:pt x="4" y="317"/>
                  </a:lnTo>
                  <a:lnTo>
                    <a:pt x="2" y="335"/>
                  </a:lnTo>
                  <a:lnTo>
                    <a:pt x="1" y="355"/>
                  </a:lnTo>
                  <a:lnTo>
                    <a:pt x="0" y="374"/>
                  </a:lnTo>
                  <a:lnTo>
                    <a:pt x="1" y="394"/>
                  </a:lnTo>
                  <a:lnTo>
                    <a:pt x="2" y="413"/>
                  </a:lnTo>
                  <a:lnTo>
                    <a:pt x="4" y="432"/>
                  </a:lnTo>
                  <a:lnTo>
                    <a:pt x="6" y="450"/>
                  </a:lnTo>
                  <a:lnTo>
                    <a:pt x="10" y="468"/>
                  </a:lnTo>
                  <a:lnTo>
                    <a:pt x="14" y="487"/>
                  </a:lnTo>
                  <a:lnTo>
                    <a:pt x="19" y="504"/>
                  </a:lnTo>
                  <a:lnTo>
                    <a:pt x="25" y="521"/>
                  </a:lnTo>
                  <a:lnTo>
                    <a:pt x="31" y="537"/>
                  </a:lnTo>
                  <a:lnTo>
                    <a:pt x="38" y="554"/>
                  </a:lnTo>
                  <a:lnTo>
                    <a:pt x="45" y="570"/>
                  </a:lnTo>
                  <a:lnTo>
                    <a:pt x="54" y="585"/>
                  </a:lnTo>
                  <a:lnTo>
                    <a:pt x="62" y="600"/>
                  </a:lnTo>
                  <a:lnTo>
                    <a:pt x="72" y="614"/>
                  </a:lnTo>
                  <a:lnTo>
                    <a:pt x="82" y="627"/>
                  </a:lnTo>
                  <a:lnTo>
                    <a:pt x="93" y="641"/>
                  </a:lnTo>
                  <a:lnTo>
                    <a:pt x="104" y="653"/>
                  </a:lnTo>
                  <a:lnTo>
                    <a:pt x="114" y="665"/>
                  </a:lnTo>
                  <a:lnTo>
                    <a:pt x="126" y="677"/>
                  </a:lnTo>
                  <a:lnTo>
                    <a:pt x="139" y="686"/>
                  </a:lnTo>
                  <a:lnTo>
                    <a:pt x="151" y="696"/>
                  </a:lnTo>
                  <a:lnTo>
                    <a:pt x="164" y="706"/>
                  </a:lnTo>
                  <a:lnTo>
                    <a:pt x="178" y="715"/>
                  </a:lnTo>
                  <a:lnTo>
                    <a:pt x="192" y="722"/>
                  </a:lnTo>
                  <a:lnTo>
                    <a:pt x="206" y="729"/>
                  </a:lnTo>
                  <a:lnTo>
                    <a:pt x="220" y="734"/>
                  </a:lnTo>
                  <a:lnTo>
                    <a:pt x="235" y="739"/>
                  </a:lnTo>
                  <a:lnTo>
                    <a:pt x="250" y="744"/>
                  </a:lnTo>
                  <a:lnTo>
                    <a:pt x="266" y="747"/>
                  </a:lnTo>
                  <a:lnTo>
                    <a:pt x="282" y="749"/>
                  </a:lnTo>
                  <a:lnTo>
                    <a:pt x="298" y="751"/>
                  </a:lnTo>
                  <a:lnTo>
                    <a:pt x="314" y="7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5614920" y="3679200"/>
              <a:ext cx="315000" cy="374400"/>
            </a:xfrm>
            <a:custGeom>
              <a:avLst/>
              <a:gdLst/>
              <a:ahLst/>
              <a:rect l="l" t="t" r="r" b="b"/>
              <a:pathLst>
                <a:path w="629" h="751">
                  <a:moveTo>
                    <a:pt x="314" y="751"/>
                  </a:moveTo>
                  <a:lnTo>
                    <a:pt x="329" y="751"/>
                  </a:lnTo>
                  <a:lnTo>
                    <a:pt x="346" y="749"/>
                  </a:lnTo>
                  <a:lnTo>
                    <a:pt x="362" y="747"/>
                  </a:lnTo>
                  <a:lnTo>
                    <a:pt x="377" y="744"/>
                  </a:lnTo>
                  <a:lnTo>
                    <a:pt x="392" y="739"/>
                  </a:lnTo>
                  <a:lnTo>
                    <a:pt x="407" y="734"/>
                  </a:lnTo>
                  <a:lnTo>
                    <a:pt x="422" y="729"/>
                  </a:lnTo>
                  <a:lnTo>
                    <a:pt x="436" y="722"/>
                  </a:lnTo>
                  <a:lnTo>
                    <a:pt x="450" y="715"/>
                  </a:lnTo>
                  <a:lnTo>
                    <a:pt x="463" y="706"/>
                  </a:lnTo>
                  <a:lnTo>
                    <a:pt x="477" y="696"/>
                  </a:lnTo>
                  <a:lnTo>
                    <a:pt x="489" y="686"/>
                  </a:lnTo>
                  <a:lnTo>
                    <a:pt x="502" y="677"/>
                  </a:lnTo>
                  <a:lnTo>
                    <a:pt x="514" y="665"/>
                  </a:lnTo>
                  <a:lnTo>
                    <a:pt x="525" y="653"/>
                  </a:lnTo>
                  <a:lnTo>
                    <a:pt x="537" y="641"/>
                  </a:lnTo>
                  <a:lnTo>
                    <a:pt x="547" y="627"/>
                  </a:lnTo>
                  <a:lnTo>
                    <a:pt x="556" y="614"/>
                  </a:lnTo>
                  <a:lnTo>
                    <a:pt x="566" y="600"/>
                  </a:lnTo>
                  <a:lnTo>
                    <a:pt x="575" y="585"/>
                  </a:lnTo>
                  <a:lnTo>
                    <a:pt x="583" y="570"/>
                  </a:lnTo>
                  <a:lnTo>
                    <a:pt x="591" y="554"/>
                  </a:lnTo>
                  <a:lnTo>
                    <a:pt x="597" y="537"/>
                  </a:lnTo>
                  <a:lnTo>
                    <a:pt x="604" y="521"/>
                  </a:lnTo>
                  <a:lnTo>
                    <a:pt x="609" y="504"/>
                  </a:lnTo>
                  <a:lnTo>
                    <a:pt x="615" y="487"/>
                  </a:lnTo>
                  <a:lnTo>
                    <a:pt x="619" y="468"/>
                  </a:lnTo>
                  <a:lnTo>
                    <a:pt x="622" y="450"/>
                  </a:lnTo>
                  <a:lnTo>
                    <a:pt x="625" y="432"/>
                  </a:lnTo>
                  <a:lnTo>
                    <a:pt x="628" y="413"/>
                  </a:lnTo>
                  <a:lnTo>
                    <a:pt x="629" y="394"/>
                  </a:lnTo>
                  <a:lnTo>
                    <a:pt x="629" y="374"/>
                  </a:lnTo>
                  <a:lnTo>
                    <a:pt x="629" y="355"/>
                  </a:lnTo>
                  <a:lnTo>
                    <a:pt x="628" y="335"/>
                  </a:lnTo>
                  <a:lnTo>
                    <a:pt x="625" y="317"/>
                  </a:lnTo>
                  <a:lnTo>
                    <a:pt x="622" y="299"/>
                  </a:lnTo>
                  <a:lnTo>
                    <a:pt x="619" y="280"/>
                  </a:lnTo>
                  <a:lnTo>
                    <a:pt x="615" y="263"/>
                  </a:lnTo>
                  <a:lnTo>
                    <a:pt x="609" y="246"/>
                  </a:lnTo>
                  <a:lnTo>
                    <a:pt x="604" y="229"/>
                  </a:lnTo>
                  <a:lnTo>
                    <a:pt x="597" y="211"/>
                  </a:lnTo>
                  <a:lnTo>
                    <a:pt x="591" y="195"/>
                  </a:lnTo>
                  <a:lnTo>
                    <a:pt x="583" y="180"/>
                  </a:lnTo>
                  <a:lnTo>
                    <a:pt x="575" y="165"/>
                  </a:lnTo>
                  <a:lnTo>
                    <a:pt x="566" y="150"/>
                  </a:lnTo>
                  <a:lnTo>
                    <a:pt x="556" y="136"/>
                  </a:lnTo>
                  <a:lnTo>
                    <a:pt x="547" y="123"/>
                  </a:lnTo>
                  <a:lnTo>
                    <a:pt x="537" y="110"/>
                  </a:lnTo>
                  <a:lnTo>
                    <a:pt x="525" y="97"/>
                  </a:lnTo>
                  <a:lnTo>
                    <a:pt x="514" y="85"/>
                  </a:lnTo>
                  <a:lnTo>
                    <a:pt x="502" y="74"/>
                  </a:lnTo>
                  <a:lnTo>
                    <a:pt x="489" y="63"/>
                  </a:lnTo>
                  <a:lnTo>
                    <a:pt x="477" y="54"/>
                  </a:lnTo>
                  <a:lnTo>
                    <a:pt x="463" y="45"/>
                  </a:lnTo>
                  <a:lnTo>
                    <a:pt x="450" y="37"/>
                  </a:lnTo>
                  <a:lnTo>
                    <a:pt x="436" y="30"/>
                  </a:lnTo>
                  <a:lnTo>
                    <a:pt x="422" y="22"/>
                  </a:lnTo>
                  <a:lnTo>
                    <a:pt x="407" y="17"/>
                  </a:lnTo>
                  <a:lnTo>
                    <a:pt x="392" y="11"/>
                  </a:lnTo>
                  <a:lnTo>
                    <a:pt x="377" y="7"/>
                  </a:lnTo>
                  <a:lnTo>
                    <a:pt x="362" y="4"/>
                  </a:lnTo>
                  <a:lnTo>
                    <a:pt x="346" y="2"/>
                  </a:lnTo>
                  <a:lnTo>
                    <a:pt x="329" y="1"/>
                  </a:lnTo>
                  <a:lnTo>
                    <a:pt x="314" y="0"/>
                  </a:lnTo>
                  <a:lnTo>
                    <a:pt x="298" y="1"/>
                  </a:lnTo>
                  <a:lnTo>
                    <a:pt x="282" y="2"/>
                  </a:lnTo>
                  <a:lnTo>
                    <a:pt x="266" y="4"/>
                  </a:lnTo>
                  <a:lnTo>
                    <a:pt x="250" y="7"/>
                  </a:lnTo>
                  <a:lnTo>
                    <a:pt x="235" y="11"/>
                  </a:lnTo>
                  <a:lnTo>
                    <a:pt x="220" y="17"/>
                  </a:lnTo>
                  <a:lnTo>
                    <a:pt x="206" y="22"/>
                  </a:lnTo>
                  <a:lnTo>
                    <a:pt x="192" y="30"/>
                  </a:lnTo>
                  <a:lnTo>
                    <a:pt x="178" y="37"/>
                  </a:lnTo>
                  <a:lnTo>
                    <a:pt x="164" y="45"/>
                  </a:lnTo>
                  <a:lnTo>
                    <a:pt x="151" y="54"/>
                  </a:lnTo>
                  <a:lnTo>
                    <a:pt x="139" y="63"/>
                  </a:lnTo>
                  <a:lnTo>
                    <a:pt x="126" y="74"/>
                  </a:lnTo>
                  <a:lnTo>
                    <a:pt x="114" y="85"/>
                  </a:lnTo>
                  <a:lnTo>
                    <a:pt x="104" y="97"/>
                  </a:lnTo>
                  <a:lnTo>
                    <a:pt x="93" y="110"/>
                  </a:lnTo>
                  <a:lnTo>
                    <a:pt x="82" y="123"/>
                  </a:lnTo>
                  <a:lnTo>
                    <a:pt x="72" y="136"/>
                  </a:lnTo>
                  <a:lnTo>
                    <a:pt x="62" y="150"/>
                  </a:lnTo>
                  <a:lnTo>
                    <a:pt x="54" y="165"/>
                  </a:lnTo>
                  <a:lnTo>
                    <a:pt x="45" y="180"/>
                  </a:lnTo>
                  <a:lnTo>
                    <a:pt x="38" y="195"/>
                  </a:lnTo>
                  <a:lnTo>
                    <a:pt x="31" y="211"/>
                  </a:lnTo>
                  <a:lnTo>
                    <a:pt x="25" y="229"/>
                  </a:lnTo>
                  <a:lnTo>
                    <a:pt x="19" y="246"/>
                  </a:lnTo>
                  <a:lnTo>
                    <a:pt x="14" y="263"/>
                  </a:lnTo>
                  <a:lnTo>
                    <a:pt x="10" y="280"/>
                  </a:lnTo>
                  <a:lnTo>
                    <a:pt x="6" y="299"/>
                  </a:lnTo>
                  <a:lnTo>
                    <a:pt x="4" y="317"/>
                  </a:lnTo>
                  <a:lnTo>
                    <a:pt x="2" y="335"/>
                  </a:lnTo>
                  <a:lnTo>
                    <a:pt x="1" y="355"/>
                  </a:lnTo>
                  <a:lnTo>
                    <a:pt x="0" y="374"/>
                  </a:lnTo>
                  <a:lnTo>
                    <a:pt x="1" y="394"/>
                  </a:lnTo>
                  <a:lnTo>
                    <a:pt x="2" y="413"/>
                  </a:lnTo>
                  <a:lnTo>
                    <a:pt x="4" y="432"/>
                  </a:lnTo>
                  <a:lnTo>
                    <a:pt x="6" y="450"/>
                  </a:lnTo>
                  <a:lnTo>
                    <a:pt x="10" y="468"/>
                  </a:lnTo>
                  <a:lnTo>
                    <a:pt x="14" y="487"/>
                  </a:lnTo>
                  <a:lnTo>
                    <a:pt x="19" y="504"/>
                  </a:lnTo>
                  <a:lnTo>
                    <a:pt x="25" y="521"/>
                  </a:lnTo>
                  <a:lnTo>
                    <a:pt x="31" y="537"/>
                  </a:lnTo>
                  <a:lnTo>
                    <a:pt x="38" y="554"/>
                  </a:lnTo>
                  <a:lnTo>
                    <a:pt x="45" y="570"/>
                  </a:lnTo>
                  <a:lnTo>
                    <a:pt x="54" y="585"/>
                  </a:lnTo>
                  <a:lnTo>
                    <a:pt x="62" y="600"/>
                  </a:lnTo>
                  <a:lnTo>
                    <a:pt x="72" y="614"/>
                  </a:lnTo>
                  <a:lnTo>
                    <a:pt x="82" y="627"/>
                  </a:lnTo>
                  <a:lnTo>
                    <a:pt x="93" y="641"/>
                  </a:lnTo>
                  <a:lnTo>
                    <a:pt x="104" y="653"/>
                  </a:lnTo>
                  <a:lnTo>
                    <a:pt x="114" y="665"/>
                  </a:lnTo>
                  <a:lnTo>
                    <a:pt x="126" y="677"/>
                  </a:lnTo>
                  <a:lnTo>
                    <a:pt x="139" y="686"/>
                  </a:lnTo>
                  <a:lnTo>
                    <a:pt x="151" y="696"/>
                  </a:lnTo>
                  <a:lnTo>
                    <a:pt x="164" y="706"/>
                  </a:lnTo>
                  <a:lnTo>
                    <a:pt x="178" y="715"/>
                  </a:lnTo>
                  <a:lnTo>
                    <a:pt x="192" y="722"/>
                  </a:lnTo>
                  <a:lnTo>
                    <a:pt x="206" y="729"/>
                  </a:lnTo>
                  <a:lnTo>
                    <a:pt x="220" y="734"/>
                  </a:lnTo>
                  <a:lnTo>
                    <a:pt x="235" y="739"/>
                  </a:lnTo>
                  <a:lnTo>
                    <a:pt x="250" y="744"/>
                  </a:lnTo>
                  <a:lnTo>
                    <a:pt x="266" y="747"/>
                  </a:lnTo>
                  <a:lnTo>
                    <a:pt x="282" y="749"/>
                  </a:lnTo>
                  <a:lnTo>
                    <a:pt x="298" y="751"/>
                  </a:lnTo>
                  <a:lnTo>
                    <a:pt x="314" y="75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5614920" y="3681000"/>
              <a:ext cx="269280" cy="370440"/>
            </a:xfrm>
            <a:custGeom>
              <a:avLst/>
              <a:gdLst/>
              <a:ahLst/>
              <a:rect l="l" t="t" r="r" b="b"/>
              <a:pathLst>
                <a:path w="537" h="743">
                  <a:moveTo>
                    <a:pt x="285" y="743"/>
                  </a:moveTo>
                  <a:lnTo>
                    <a:pt x="299" y="742"/>
                  </a:lnTo>
                  <a:lnTo>
                    <a:pt x="313" y="741"/>
                  </a:lnTo>
                  <a:lnTo>
                    <a:pt x="326" y="739"/>
                  </a:lnTo>
                  <a:lnTo>
                    <a:pt x="339" y="735"/>
                  </a:lnTo>
                  <a:lnTo>
                    <a:pt x="351" y="732"/>
                  </a:lnTo>
                  <a:lnTo>
                    <a:pt x="364" y="727"/>
                  </a:lnTo>
                  <a:lnTo>
                    <a:pt x="376" y="721"/>
                  </a:lnTo>
                  <a:lnTo>
                    <a:pt x="388" y="715"/>
                  </a:lnTo>
                  <a:lnTo>
                    <a:pt x="398" y="708"/>
                  </a:lnTo>
                  <a:lnTo>
                    <a:pt x="409" y="700"/>
                  </a:lnTo>
                  <a:lnTo>
                    <a:pt x="420" y="691"/>
                  </a:lnTo>
                  <a:lnTo>
                    <a:pt x="430" y="682"/>
                  </a:lnTo>
                  <a:lnTo>
                    <a:pt x="440" y="672"/>
                  </a:lnTo>
                  <a:lnTo>
                    <a:pt x="449" y="662"/>
                  </a:lnTo>
                  <a:lnTo>
                    <a:pt x="458" y="650"/>
                  </a:lnTo>
                  <a:lnTo>
                    <a:pt x="467" y="638"/>
                  </a:lnTo>
                  <a:lnTo>
                    <a:pt x="475" y="625"/>
                  </a:lnTo>
                  <a:lnTo>
                    <a:pt x="483" y="612"/>
                  </a:lnTo>
                  <a:lnTo>
                    <a:pt x="489" y="599"/>
                  </a:lnTo>
                  <a:lnTo>
                    <a:pt x="497" y="584"/>
                  </a:lnTo>
                  <a:lnTo>
                    <a:pt x="502" y="570"/>
                  </a:lnTo>
                  <a:lnTo>
                    <a:pt x="509" y="554"/>
                  </a:lnTo>
                  <a:lnTo>
                    <a:pt x="514" y="539"/>
                  </a:lnTo>
                  <a:lnTo>
                    <a:pt x="518" y="523"/>
                  </a:lnTo>
                  <a:lnTo>
                    <a:pt x="523" y="505"/>
                  </a:lnTo>
                  <a:lnTo>
                    <a:pt x="526" y="488"/>
                  </a:lnTo>
                  <a:lnTo>
                    <a:pt x="529" y="471"/>
                  </a:lnTo>
                  <a:lnTo>
                    <a:pt x="532" y="452"/>
                  </a:lnTo>
                  <a:lnTo>
                    <a:pt x="535" y="434"/>
                  </a:lnTo>
                  <a:lnTo>
                    <a:pt x="536" y="416"/>
                  </a:lnTo>
                  <a:lnTo>
                    <a:pt x="537" y="396"/>
                  </a:lnTo>
                  <a:lnTo>
                    <a:pt x="537" y="377"/>
                  </a:lnTo>
                  <a:lnTo>
                    <a:pt x="537" y="357"/>
                  </a:lnTo>
                  <a:lnTo>
                    <a:pt x="536" y="338"/>
                  </a:lnTo>
                  <a:lnTo>
                    <a:pt x="534" y="320"/>
                  </a:lnTo>
                  <a:lnTo>
                    <a:pt x="531" y="301"/>
                  </a:lnTo>
                  <a:lnTo>
                    <a:pt x="528" y="283"/>
                  </a:lnTo>
                  <a:lnTo>
                    <a:pt x="525" y="264"/>
                  </a:lnTo>
                  <a:lnTo>
                    <a:pt x="521" y="247"/>
                  </a:lnTo>
                  <a:lnTo>
                    <a:pt x="516" y="230"/>
                  </a:lnTo>
                  <a:lnTo>
                    <a:pt x="511" y="214"/>
                  </a:lnTo>
                  <a:lnTo>
                    <a:pt x="504" y="196"/>
                  </a:lnTo>
                  <a:lnTo>
                    <a:pt x="498" y="181"/>
                  </a:lnTo>
                  <a:lnTo>
                    <a:pt x="491" y="166"/>
                  </a:lnTo>
                  <a:lnTo>
                    <a:pt x="484" y="151"/>
                  </a:lnTo>
                  <a:lnTo>
                    <a:pt x="475" y="137"/>
                  </a:lnTo>
                  <a:lnTo>
                    <a:pt x="468" y="123"/>
                  </a:lnTo>
                  <a:lnTo>
                    <a:pt x="458" y="110"/>
                  </a:lnTo>
                  <a:lnTo>
                    <a:pt x="449" y="98"/>
                  </a:lnTo>
                  <a:lnTo>
                    <a:pt x="440" y="86"/>
                  </a:lnTo>
                  <a:lnTo>
                    <a:pt x="429" y="74"/>
                  </a:lnTo>
                  <a:lnTo>
                    <a:pt x="419" y="65"/>
                  </a:lnTo>
                  <a:lnTo>
                    <a:pt x="408" y="54"/>
                  </a:lnTo>
                  <a:lnTo>
                    <a:pt x="396" y="45"/>
                  </a:lnTo>
                  <a:lnTo>
                    <a:pt x="384" y="37"/>
                  </a:lnTo>
                  <a:lnTo>
                    <a:pt x="373" y="29"/>
                  </a:lnTo>
                  <a:lnTo>
                    <a:pt x="361" y="23"/>
                  </a:lnTo>
                  <a:lnTo>
                    <a:pt x="349" y="17"/>
                  </a:lnTo>
                  <a:lnTo>
                    <a:pt x="336" y="12"/>
                  </a:lnTo>
                  <a:lnTo>
                    <a:pt x="323" y="7"/>
                  </a:lnTo>
                  <a:lnTo>
                    <a:pt x="310" y="4"/>
                  </a:lnTo>
                  <a:lnTo>
                    <a:pt x="296" y="2"/>
                  </a:lnTo>
                  <a:lnTo>
                    <a:pt x="282" y="1"/>
                  </a:lnTo>
                  <a:lnTo>
                    <a:pt x="269" y="0"/>
                  </a:lnTo>
                  <a:lnTo>
                    <a:pt x="254" y="1"/>
                  </a:lnTo>
                  <a:lnTo>
                    <a:pt x="240" y="2"/>
                  </a:lnTo>
                  <a:lnTo>
                    <a:pt x="227" y="4"/>
                  </a:lnTo>
                  <a:lnTo>
                    <a:pt x="213" y="7"/>
                  </a:lnTo>
                  <a:lnTo>
                    <a:pt x="200" y="12"/>
                  </a:lnTo>
                  <a:lnTo>
                    <a:pt x="187" y="17"/>
                  </a:lnTo>
                  <a:lnTo>
                    <a:pt x="174" y="23"/>
                  </a:lnTo>
                  <a:lnTo>
                    <a:pt x="162" y="29"/>
                  </a:lnTo>
                  <a:lnTo>
                    <a:pt x="150" y="37"/>
                  </a:lnTo>
                  <a:lnTo>
                    <a:pt x="138" y="45"/>
                  </a:lnTo>
                  <a:lnTo>
                    <a:pt x="126" y="54"/>
                  </a:lnTo>
                  <a:lnTo>
                    <a:pt x="115" y="65"/>
                  </a:lnTo>
                  <a:lnTo>
                    <a:pt x="106" y="74"/>
                  </a:lnTo>
                  <a:lnTo>
                    <a:pt x="95" y="86"/>
                  </a:lnTo>
                  <a:lnTo>
                    <a:pt x="86" y="98"/>
                  </a:lnTo>
                  <a:lnTo>
                    <a:pt x="77" y="110"/>
                  </a:lnTo>
                  <a:lnTo>
                    <a:pt x="68" y="123"/>
                  </a:lnTo>
                  <a:lnTo>
                    <a:pt x="59" y="137"/>
                  </a:lnTo>
                  <a:lnTo>
                    <a:pt x="52" y="151"/>
                  </a:lnTo>
                  <a:lnTo>
                    <a:pt x="44" y="166"/>
                  </a:lnTo>
                  <a:lnTo>
                    <a:pt x="38" y="181"/>
                  </a:lnTo>
                  <a:lnTo>
                    <a:pt x="31" y="196"/>
                  </a:lnTo>
                  <a:lnTo>
                    <a:pt x="26" y="214"/>
                  </a:lnTo>
                  <a:lnTo>
                    <a:pt x="20" y="230"/>
                  </a:lnTo>
                  <a:lnTo>
                    <a:pt x="16" y="247"/>
                  </a:lnTo>
                  <a:lnTo>
                    <a:pt x="12" y="264"/>
                  </a:lnTo>
                  <a:lnTo>
                    <a:pt x="8" y="283"/>
                  </a:lnTo>
                  <a:lnTo>
                    <a:pt x="5" y="301"/>
                  </a:lnTo>
                  <a:lnTo>
                    <a:pt x="3" y="320"/>
                  </a:lnTo>
                  <a:lnTo>
                    <a:pt x="1" y="338"/>
                  </a:lnTo>
                  <a:lnTo>
                    <a:pt x="1" y="357"/>
                  </a:lnTo>
                  <a:lnTo>
                    <a:pt x="0" y="377"/>
                  </a:lnTo>
                  <a:lnTo>
                    <a:pt x="1" y="396"/>
                  </a:lnTo>
                  <a:lnTo>
                    <a:pt x="2" y="416"/>
                  </a:lnTo>
                  <a:lnTo>
                    <a:pt x="4" y="434"/>
                  </a:lnTo>
                  <a:lnTo>
                    <a:pt x="6" y="452"/>
                  </a:lnTo>
                  <a:lnTo>
                    <a:pt x="10" y="471"/>
                  </a:lnTo>
                  <a:lnTo>
                    <a:pt x="14" y="488"/>
                  </a:lnTo>
                  <a:lnTo>
                    <a:pt x="18" y="505"/>
                  </a:lnTo>
                  <a:lnTo>
                    <a:pt x="24" y="523"/>
                  </a:lnTo>
                  <a:lnTo>
                    <a:pt x="30" y="539"/>
                  </a:lnTo>
                  <a:lnTo>
                    <a:pt x="37" y="554"/>
                  </a:lnTo>
                  <a:lnTo>
                    <a:pt x="44" y="570"/>
                  </a:lnTo>
                  <a:lnTo>
                    <a:pt x="52" y="584"/>
                  </a:lnTo>
                  <a:lnTo>
                    <a:pt x="60" y="599"/>
                  </a:lnTo>
                  <a:lnTo>
                    <a:pt x="69" y="612"/>
                  </a:lnTo>
                  <a:lnTo>
                    <a:pt x="78" y="625"/>
                  </a:lnTo>
                  <a:lnTo>
                    <a:pt x="87" y="638"/>
                  </a:lnTo>
                  <a:lnTo>
                    <a:pt x="98" y="650"/>
                  </a:lnTo>
                  <a:lnTo>
                    <a:pt x="108" y="662"/>
                  </a:lnTo>
                  <a:lnTo>
                    <a:pt x="120" y="672"/>
                  </a:lnTo>
                  <a:lnTo>
                    <a:pt x="131" y="682"/>
                  </a:lnTo>
                  <a:lnTo>
                    <a:pt x="142" y="691"/>
                  </a:lnTo>
                  <a:lnTo>
                    <a:pt x="154" y="700"/>
                  </a:lnTo>
                  <a:lnTo>
                    <a:pt x="166" y="708"/>
                  </a:lnTo>
                  <a:lnTo>
                    <a:pt x="179" y="715"/>
                  </a:lnTo>
                  <a:lnTo>
                    <a:pt x="191" y="721"/>
                  </a:lnTo>
                  <a:lnTo>
                    <a:pt x="204" y="727"/>
                  </a:lnTo>
                  <a:lnTo>
                    <a:pt x="218" y="732"/>
                  </a:lnTo>
                  <a:lnTo>
                    <a:pt x="231" y="735"/>
                  </a:lnTo>
                  <a:lnTo>
                    <a:pt x="244" y="739"/>
                  </a:lnTo>
                  <a:lnTo>
                    <a:pt x="258" y="741"/>
                  </a:lnTo>
                  <a:lnTo>
                    <a:pt x="272" y="742"/>
                  </a:lnTo>
                  <a:lnTo>
                    <a:pt x="285" y="743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614920" y="3681000"/>
              <a:ext cx="269280" cy="370440"/>
            </a:xfrm>
            <a:custGeom>
              <a:avLst/>
              <a:gdLst/>
              <a:ahLst/>
              <a:rect l="l" t="t" r="r" b="b"/>
              <a:pathLst>
                <a:path w="537" h="743">
                  <a:moveTo>
                    <a:pt x="285" y="743"/>
                  </a:moveTo>
                  <a:lnTo>
                    <a:pt x="299" y="742"/>
                  </a:lnTo>
                  <a:lnTo>
                    <a:pt x="313" y="741"/>
                  </a:lnTo>
                  <a:lnTo>
                    <a:pt x="326" y="739"/>
                  </a:lnTo>
                  <a:lnTo>
                    <a:pt x="339" y="735"/>
                  </a:lnTo>
                  <a:lnTo>
                    <a:pt x="351" y="732"/>
                  </a:lnTo>
                  <a:lnTo>
                    <a:pt x="364" y="727"/>
                  </a:lnTo>
                  <a:lnTo>
                    <a:pt x="376" y="721"/>
                  </a:lnTo>
                  <a:lnTo>
                    <a:pt x="388" y="715"/>
                  </a:lnTo>
                  <a:lnTo>
                    <a:pt x="398" y="708"/>
                  </a:lnTo>
                  <a:lnTo>
                    <a:pt x="409" y="700"/>
                  </a:lnTo>
                  <a:lnTo>
                    <a:pt x="420" y="691"/>
                  </a:lnTo>
                  <a:lnTo>
                    <a:pt x="430" y="682"/>
                  </a:lnTo>
                  <a:lnTo>
                    <a:pt x="440" y="672"/>
                  </a:lnTo>
                  <a:lnTo>
                    <a:pt x="449" y="662"/>
                  </a:lnTo>
                  <a:lnTo>
                    <a:pt x="458" y="650"/>
                  </a:lnTo>
                  <a:lnTo>
                    <a:pt x="467" y="638"/>
                  </a:lnTo>
                  <a:lnTo>
                    <a:pt x="475" y="625"/>
                  </a:lnTo>
                  <a:lnTo>
                    <a:pt x="483" y="612"/>
                  </a:lnTo>
                  <a:lnTo>
                    <a:pt x="489" y="599"/>
                  </a:lnTo>
                  <a:lnTo>
                    <a:pt x="497" y="584"/>
                  </a:lnTo>
                  <a:lnTo>
                    <a:pt x="502" y="570"/>
                  </a:lnTo>
                  <a:lnTo>
                    <a:pt x="509" y="554"/>
                  </a:lnTo>
                  <a:lnTo>
                    <a:pt x="514" y="539"/>
                  </a:lnTo>
                  <a:lnTo>
                    <a:pt x="518" y="523"/>
                  </a:lnTo>
                  <a:lnTo>
                    <a:pt x="523" y="505"/>
                  </a:lnTo>
                  <a:lnTo>
                    <a:pt x="526" y="488"/>
                  </a:lnTo>
                  <a:lnTo>
                    <a:pt x="529" y="471"/>
                  </a:lnTo>
                  <a:lnTo>
                    <a:pt x="532" y="452"/>
                  </a:lnTo>
                  <a:lnTo>
                    <a:pt x="535" y="434"/>
                  </a:lnTo>
                  <a:lnTo>
                    <a:pt x="536" y="416"/>
                  </a:lnTo>
                  <a:lnTo>
                    <a:pt x="537" y="396"/>
                  </a:lnTo>
                  <a:lnTo>
                    <a:pt x="537" y="377"/>
                  </a:lnTo>
                  <a:lnTo>
                    <a:pt x="537" y="357"/>
                  </a:lnTo>
                  <a:lnTo>
                    <a:pt x="536" y="338"/>
                  </a:lnTo>
                  <a:lnTo>
                    <a:pt x="534" y="320"/>
                  </a:lnTo>
                  <a:lnTo>
                    <a:pt x="531" y="301"/>
                  </a:lnTo>
                  <a:lnTo>
                    <a:pt x="528" y="283"/>
                  </a:lnTo>
                  <a:lnTo>
                    <a:pt x="525" y="264"/>
                  </a:lnTo>
                  <a:lnTo>
                    <a:pt x="521" y="247"/>
                  </a:lnTo>
                  <a:lnTo>
                    <a:pt x="516" y="230"/>
                  </a:lnTo>
                  <a:lnTo>
                    <a:pt x="511" y="214"/>
                  </a:lnTo>
                  <a:lnTo>
                    <a:pt x="504" y="196"/>
                  </a:lnTo>
                  <a:lnTo>
                    <a:pt x="498" y="181"/>
                  </a:lnTo>
                  <a:lnTo>
                    <a:pt x="491" y="166"/>
                  </a:lnTo>
                  <a:lnTo>
                    <a:pt x="484" y="151"/>
                  </a:lnTo>
                  <a:lnTo>
                    <a:pt x="475" y="137"/>
                  </a:lnTo>
                  <a:lnTo>
                    <a:pt x="468" y="123"/>
                  </a:lnTo>
                  <a:lnTo>
                    <a:pt x="458" y="110"/>
                  </a:lnTo>
                  <a:lnTo>
                    <a:pt x="449" y="98"/>
                  </a:lnTo>
                  <a:lnTo>
                    <a:pt x="440" y="86"/>
                  </a:lnTo>
                  <a:lnTo>
                    <a:pt x="429" y="74"/>
                  </a:lnTo>
                  <a:lnTo>
                    <a:pt x="419" y="65"/>
                  </a:lnTo>
                  <a:lnTo>
                    <a:pt x="408" y="54"/>
                  </a:lnTo>
                  <a:lnTo>
                    <a:pt x="396" y="45"/>
                  </a:lnTo>
                  <a:lnTo>
                    <a:pt x="384" y="37"/>
                  </a:lnTo>
                  <a:lnTo>
                    <a:pt x="373" y="29"/>
                  </a:lnTo>
                  <a:lnTo>
                    <a:pt x="361" y="23"/>
                  </a:lnTo>
                  <a:lnTo>
                    <a:pt x="349" y="17"/>
                  </a:lnTo>
                  <a:lnTo>
                    <a:pt x="336" y="12"/>
                  </a:lnTo>
                  <a:lnTo>
                    <a:pt x="323" y="7"/>
                  </a:lnTo>
                  <a:lnTo>
                    <a:pt x="310" y="4"/>
                  </a:lnTo>
                  <a:lnTo>
                    <a:pt x="296" y="2"/>
                  </a:lnTo>
                  <a:lnTo>
                    <a:pt x="282" y="1"/>
                  </a:lnTo>
                  <a:lnTo>
                    <a:pt x="269" y="0"/>
                  </a:lnTo>
                  <a:lnTo>
                    <a:pt x="254" y="1"/>
                  </a:lnTo>
                  <a:lnTo>
                    <a:pt x="240" y="2"/>
                  </a:lnTo>
                  <a:lnTo>
                    <a:pt x="227" y="4"/>
                  </a:lnTo>
                  <a:lnTo>
                    <a:pt x="213" y="7"/>
                  </a:lnTo>
                  <a:lnTo>
                    <a:pt x="200" y="12"/>
                  </a:lnTo>
                  <a:lnTo>
                    <a:pt x="187" y="17"/>
                  </a:lnTo>
                  <a:lnTo>
                    <a:pt x="174" y="23"/>
                  </a:lnTo>
                  <a:lnTo>
                    <a:pt x="162" y="29"/>
                  </a:lnTo>
                  <a:lnTo>
                    <a:pt x="150" y="37"/>
                  </a:lnTo>
                  <a:lnTo>
                    <a:pt x="138" y="45"/>
                  </a:lnTo>
                  <a:lnTo>
                    <a:pt x="126" y="54"/>
                  </a:lnTo>
                  <a:lnTo>
                    <a:pt x="115" y="65"/>
                  </a:lnTo>
                  <a:lnTo>
                    <a:pt x="106" y="74"/>
                  </a:lnTo>
                  <a:lnTo>
                    <a:pt x="95" y="86"/>
                  </a:lnTo>
                  <a:lnTo>
                    <a:pt x="86" y="98"/>
                  </a:lnTo>
                  <a:lnTo>
                    <a:pt x="77" y="110"/>
                  </a:lnTo>
                  <a:lnTo>
                    <a:pt x="68" y="123"/>
                  </a:lnTo>
                  <a:lnTo>
                    <a:pt x="59" y="137"/>
                  </a:lnTo>
                  <a:lnTo>
                    <a:pt x="52" y="151"/>
                  </a:lnTo>
                  <a:lnTo>
                    <a:pt x="44" y="166"/>
                  </a:lnTo>
                  <a:lnTo>
                    <a:pt x="38" y="181"/>
                  </a:lnTo>
                  <a:lnTo>
                    <a:pt x="31" y="196"/>
                  </a:lnTo>
                  <a:lnTo>
                    <a:pt x="26" y="214"/>
                  </a:lnTo>
                  <a:lnTo>
                    <a:pt x="20" y="230"/>
                  </a:lnTo>
                  <a:lnTo>
                    <a:pt x="16" y="247"/>
                  </a:lnTo>
                  <a:lnTo>
                    <a:pt x="12" y="264"/>
                  </a:lnTo>
                  <a:lnTo>
                    <a:pt x="8" y="283"/>
                  </a:lnTo>
                  <a:lnTo>
                    <a:pt x="5" y="301"/>
                  </a:lnTo>
                  <a:lnTo>
                    <a:pt x="3" y="320"/>
                  </a:lnTo>
                  <a:lnTo>
                    <a:pt x="1" y="338"/>
                  </a:lnTo>
                  <a:lnTo>
                    <a:pt x="1" y="357"/>
                  </a:lnTo>
                  <a:lnTo>
                    <a:pt x="0" y="377"/>
                  </a:lnTo>
                  <a:lnTo>
                    <a:pt x="1" y="396"/>
                  </a:lnTo>
                  <a:lnTo>
                    <a:pt x="2" y="416"/>
                  </a:lnTo>
                  <a:lnTo>
                    <a:pt x="4" y="434"/>
                  </a:lnTo>
                  <a:lnTo>
                    <a:pt x="6" y="452"/>
                  </a:lnTo>
                  <a:lnTo>
                    <a:pt x="10" y="471"/>
                  </a:lnTo>
                  <a:lnTo>
                    <a:pt x="14" y="488"/>
                  </a:lnTo>
                  <a:lnTo>
                    <a:pt x="18" y="505"/>
                  </a:lnTo>
                  <a:lnTo>
                    <a:pt x="24" y="523"/>
                  </a:lnTo>
                  <a:lnTo>
                    <a:pt x="30" y="539"/>
                  </a:lnTo>
                  <a:lnTo>
                    <a:pt x="37" y="554"/>
                  </a:lnTo>
                  <a:lnTo>
                    <a:pt x="44" y="570"/>
                  </a:lnTo>
                  <a:lnTo>
                    <a:pt x="52" y="584"/>
                  </a:lnTo>
                  <a:lnTo>
                    <a:pt x="60" y="599"/>
                  </a:lnTo>
                  <a:lnTo>
                    <a:pt x="69" y="612"/>
                  </a:lnTo>
                  <a:lnTo>
                    <a:pt x="78" y="625"/>
                  </a:lnTo>
                  <a:lnTo>
                    <a:pt x="87" y="638"/>
                  </a:lnTo>
                  <a:lnTo>
                    <a:pt x="98" y="650"/>
                  </a:lnTo>
                  <a:lnTo>
                    <a:pt x="108" y="662"/>
                  </a:lnTo>
                  <a:lnTo>
                    <a:pt x="120" y="672"/>
                  </a:lnTo>
                  <a:lnTo>
                    <a:pt x="131" y="682"/>
                  </a:lnTo>
                  <a:lnTo>
                    <a:pt x="142" y="691"/>
                  </a:lnTo>
                  <a:lnTo>
                    <a:pt x="154" y="700"/>
                  </a:lnTo>
                  <a:lnTo>
                    <a:pt x="166" y="708"/>
                  </a:lnTo>
                  <a:lnTo>
                    <a:pt x="179" y="715"/>
                  </a:lnTo>
                  <a:lnTo>
                    <a:pt x="191" y="721"/>
                  </a:lnTo>
                  <a:lnTo>
                    <a:pt x="204" y="727"/>
                  </a:lnTo>
                  <a:lnTo>
                    <a:pt x="218" y="732"/>
                  </a:lnTo>
                  <a:lnTo>
                    <a:pt x="231" y="735"/>
                  </a:lnTo>
                  <a:lnTo>
                    <a:pt x="244" y="739"/>
                  </a:lnTo>
                  <a:lnTo>
                    <a:pt x="258" y="741"/>
                  </a:lnTo>
                  <a:lnTo>
                    <a:pt x="272" y="742"/>
                  </a:lnTo>
                  <a:lnTo>
                    <a:pt x="285" y="74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658840" y="3718800"/>
              <a:ext cx="173160" cy="288720"/>
            </a:xfrm>
            <a:custGeom>
              <a:avLst/>
              <a:gdLst/>
              <a:ahLst/>
              <a:rect l="l" t="t" r="r" b="b"/>
              <a:pathLst>
                <a:path w="348" h="579">
                  <a:moveTo>
                    <a:pt x="186" y="579"/>
                  </a:moveTo>
                  <a:lnTo>
                    <a:pt x="195" y="579"/>
                  </a:lnTo>
                  <a:lnTo>
                    <a:pt x="203" y="578"/>
                  </a:lnTo>
                  <a:lnTo>
                    <a:pt x="212" y="576"/>
                  </a:lnTo>
                  <a:lnTo>
                    <a:pt x="221" y="574"/>
                  </a:lnTo>
                  <a:lnTo>
                    <a:pt x="228" y="571"/>
                  </a:lnTo>
                  <a:lnTo>
                    <a:pt x="236" y="568"/>
                  </a:lnTo>
                  <a:lnTo>
                    <a:pt x="244" y="563"/>
                  </a:lnTo>
                  <a:lnTo>
                    <a:pt x="252" y="558"/>
                  </a:lnTo>
                  <a:lnTo>
                    <a:pt x="259" y="552"/>
                  </a:lnTo>
                  <a:lnTo>
                    <a:pt x="266" y="546"/>
                  </a:lnTo>
                  <a:lnTo>
                    <a:pt x="273" y="540"/>
                  </a:lnTo>
                  <a:lnTo>
                    <a:pt x="279" y="533"/>
                  </a:lnTo>
                  <a:lnTo>
                    <a:pt x="292" y="517"/>
                  </a:lnTo>
                  <a:lnTo>
                    <a:pt x="303" y="498"/>
                  </a:lnTo>
                  <a:lnTo>
                    <a:pt x="314" y="478"/>
                  </a:lnTo>
                  <a:lnTo>
                    <a:pt x="322" y="456"/>
                  </a:lnTo>
                  <a:lnTo>
                    <a:pt x="330" y="433"/>
                  </a:lnTo>
                  <a:lnTo>
                    <a:pt x="336" y="408"/>
                  </a:lnTo>
                  <a:lnTo>
                    <a:pt x="342" y="382"/>
                  </a:lnTo>
                  <a:lnTo>
                    <a:pt x="345" y="354"/>
                  </a:lnTo>
                  <a:lnTo>
                    <a:pt x="347" y="325"/>
                  </a:lnTo>
                  <a:lnTo>
                    <a:pt x="348" y="294"/>
                  </a:lnTo>
                  <a:lnTo>
                    <a:pt x="347" y="264"/>
                  </a:lnTo>
                  <a:lnTo>
                    <a:pt x="345" y="235"/>
                  </a:lnTo>
                  <a:lnTo>
                    <a:pt x="341" y="206"/>
                  </a:lnTo>
                  <a:lnTo>
                    <a:pt x="334" y="179"/>
                  </a:lnTo>
                  <a:lnTo>
                    <a:pt x="328" y="153"/>
                  </a:lnTo>
                  <a:lnTo>
                    <a:pt x="319" y="129"/>
                  </a:lnTo>
                  <a:lnTo>
                    <a:pt x="308" y="106"/>
                  </a:lnTo>
                  <a:lnTo>
                    <a:pt x="297" y="85"/>
                  </a:lnTo>
                  <a:lnTo>
                    <a:pt x="284" y="66"/>
                  </a:lnTo>
                  <a:lnTo>
                    <a:pt x="272" y="49"/>
                  </a:lnTo>
                  <a:lnTo>
                    <a:pt x="265" y="42"/>
                  </a:lnTo>
                  <a:lnTo>
                    <a:pt x="257" y="35"/>
                  </a:lnTo>
                  <a:lnTo>
                    <a:pt x="250" y="29"/>
                  </a:lnTo>
                  <a:lnTo>
                    <a:pt x="242" y="22"/>
                  </a:lnTo>
                  <a:lnTo>
                    <a:pt x="234" y="17"/>
                  </a:lnTo>
                  <a:lnTo>
                    <a:pt x="226" y="12"/>
                  </a:lnTo>
                  <a:lnTo>
                    <a:pt x="217" y="8"/>
                  </a:lnTo>
                  <a:lnTo>
                    <a:pt x="210" y="5"/>
                  </a:lnTo>
                  <a:lnTo>
                    <a:pt x="201" y="3"/>
                  </a:lnTo>
                  <a:lnTo>
                    <a:pt x="193" y="1"/>
                  </a:lnTo>
                  <a:lnTo>
                    <a:pt x="183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6" y="1"/>
                  </a:lnTo>
                  <a:lnTo>
                    <a:pt x="147" y="3"/>
                  </a:lnTo>
                  <a:lnTo>
                    <a:pt x="139" y="5"/>
                  </a:lnTo>
                  <a:lnTo>
                    <a:pt x="130" y="8"/>
                  </a:lnTo>
                  <a:lnTo>
                    <a:pt x="121" y="12"/>
                  </a:lnTo>
                  <a:lnTo>
                    <a:pt x="114" y="17"/>
                  </a:lnTo>
                  <a:lnTo>
                    <a:pt x="105" y="22"/>
                  </a:lnTo>
                  <a:lnTo>
                    <a:pt x="98" y="29"/>
                  </a:lnTo>
                  <a:lnTo>
                    <a:pt x="90" y="35"/>
                  </a:lnTo>
                  <a:lnTo>
                    <a:pt x="84" y="42"/>
                  </a:lnTo>
                  <a:lnTo>
                    <a:pt x="76" y="49"/>
                  </a:lnTo>
                  <a:lnTo>
                    <a:pt x="63" y="66"/>
                  </a:lnTo>
                  <a:lnTo>
                    <a:pt x="50" y="85"/>
                  </a:lnTo>
                  <a:lnTo>
                    <a:pt x="39" y="106"/>
                  </a:lnTo>
                  <a:lnTo>
                    <a:pt x="29" y="129"/>
                  </a:lnTo>
                  <a:lnTo>
                    <a:pt x="21" y="153"/>
                  </a:lnTo>
                  <a:lnTo>
                    <a:pt x="14" y="179"/>
                  </a:lnTo>
                  <a:lnTo>
                    <a:pt x="8" y="206"/>
                  </a:lnTo>
                  <a:lnTo>
                    <a:pt x="4" y="235"/>
                  </a:lnTo>
                  <a:lnTo>
                    <a:pt x="1" y="264"/>
                  </a:lnTo>
                  <a:lnTo>
                    <a:pt x="0" y="294"/>
                  </a:lnTo>
                  <a:lnTo>
                    <a:pt x="1" y="325"/>
                  </a:lnTo>
                  <a:lnTo>
                    <a:pt x="5" y="354"/>
                  </a:lnTo>
                  <a:lnTo>
                    <a:pt x="9" y="382"/>
                  </a:lnTo>
                  <a:lnTo>
                    <a:pt x="17" y="408"/>
                  </a:lnTo>
                  <a:lnTo>
                    <a:pt x="24" y="433"/>
                  </a:lnTo>
                  <a:lnTo>
                    <a:pt x="34" y="456"/>
                  </a:lnTo>
                  <a:lnTo>
                    <a:pt x="45" y="478"/>
                  </a:lnTo>
                  <a:lnTo>
                    <a:pt x="58" y="498"/>
                  </a:lnTo>
                  <a:lnTo>
                    <a:pt x="71" y="517"/>
                  </a:lnTo>
                  <a:lnTo>
                    <a:pt x="85" y="533"/>
                  </a:lnTo>
                  <a:lnTo>
                    <a:pt x="92" y="540"/>
                  </a:lnTo>
                  <a:lnTo>
                    <a:pt x="100" y="546"/>
                  </a:lnTo>
                  <a:lnTo>
                    <a:pt x="108" y="552"/>
                  </a:lnTo>
                  <a:lnTo>
                    <a:pt x="116" y="558"/>
                  </a:lnTo>
                  <a:lnTo>
                    <a:pt x="125" y="563"/>
                  </a:lnTo>
                  <a:lnTo>
                    <a:pt x="133" y="568"/>
                  </a:lnTo>
                  <a:lnTo>
                    <a:pt x="142" y="571"/>
                  </a:lnTo>
                  <a:lnTo>
                    <a:pt x="150" y="574"/>
                  </a:lnTo>
                  <a:lnTo>
                    <a:pt x="159" y="576"/>
                  </a:lnTo>
                  <a:lnTo>
                    <a:pt x="168" y="578"/>
                  </a:lnTo>
                  <a:lnTo>
                    <a:pt x="176" y="579"/>
                  </a:lnTo>
                  <a:lnTo>
                    <a:pt x="186" y="57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5658840" y="3718800"/>
              <a:ext cx="173160" cy="288720"/>
            </a:xfrm>
            <a:custGeom>
              <a:avLst/>
              <a:gdLst/>
              <a:ahLst/>
              <a:rect l="l" t="t" r="r" b="b"/>
              <a:pathLst>
                <a:path w="348" h="579">
                  <a:moveTo>
                    <a:pt x="186" y="579"/>
                  </a:moveTo>
                  <a:lnTo>
                    <a:pt x="195" y="579"/>
                  </a:lnTo>
                  <a:lnTo>
                    <a:pt x="203" y="578"/>
                  </a:lnTo>
                  <a:lnTo>
                    <a:pt x="212" y="576"/>
                  </a:lnTo>
                  <a:lnTo>
                    <a:pt x="221" y="574"/>
                  </a:lnTo>
                  <a:lnTo>
                    <a:pt x="228" y="571"/>
                  </a:lnTo>
                  <a:lnTo>
                    <a:pt x="236" y="568"/>
                  </a:lnTo>
                  <a:lnTo>
                    <a:pt x="244" y="563"/>
                  </a:lnTo>
                  <a:lnTo>
                    <a:pt x="252" y="558"/>
                  </a:lnTo>
                  <a:lnTo>
                    <a:pt x="259" y="552"/>
                  </a:lnTo>
                  <a:lnTo>
                    <a:pt x="266" y="546"/>
                  </a:lnTo>
                  <a:lnTo>
                    <a:pt x="273" y="540"/>
                  </a:lnTo>
                  <a:lnTo>
                    <a:pt x="279" y="533"/>
                  </a:lnTo>
                  <a:lnTo>
                    <a:pt x="292" y="517"/>
                  </a:lnTo>
                  <a:lnTo>
                    <a:pt x="303" y="498"/>
                  </a:lnTo>
                  <a:lnTo>
                    <a:pt x="314" y="478"/>
                  </a:lnTo>
                  <a:lnTo>
                    <a:pt x="322" y="456"/>
                  </a:lnTo>
                  <a:lnTo>
                    <a:pt x="330" y="433"/>
                  </a:lnTo>
                  <a:lnTo>
                    <a:pt x="336" y="408"/>
                  </a:lnTo>
                  <a:lnTo>
                    <a:pt x="342" y="382"/>
                  </a:lnTo>
                  <a:lnTo>
                    <a:pt x="345" y="354"/>
                  </a:lnTo>
                  <a:lnTo>
                    <a:pt x="347" y="325"/>
                  </a:lnTo>
                  <a:lnTo>
                    <a:pt x="348" y="294"/>
                  </a:lnTo>
                  <a:lnTo>
                    <a:pt x="347" y="264"/>
                  </a:lnTo>
                  <a:lnTo>
                    <a:pt x="345" y="235"/>
                  </a:lnTo>
                  <a:lnTo>
                    <a:pt x="341" y="206"/>
                  </a:lnTo>
                  <a:lnTo>
                    <a:pt x="334" y="179"/>
                  </a:lnTo>
                  <a:lnTo>
                    <a:pt x="328" y="153"/>
                  </a:lnTo>
                  <a:lnTo>
                    <a:pt x="319" y="129"/>
                  </a:lnTo>
                  <a:lnTo>
                    <a:pt x="308" y="106"/>
                  </a:lnTo>
                  <a:lnTo>
                    <a:pt x="297" y="85"/>
                  </a:lnTo>
                  <a:lnTo>
                    <a:pt x="284" y="66"/>
                  </a:lnTo>
                  <a:lnTo>
                    <a:pt x="272" y="49"/>
                  </a:lnTo>
                  <a:lnTo>
                    <a:pt x="265" y="42"/>
                  </a:lnTo>
                  <a:lnTo>
                    <a:pt x="257" y="35"/>
                  </a:lnTo>
                  <a:lnTo>
                    <a:pt x="250" y="29"/>
                  </a:lnTo>
                  <a:lnTo>
                    <a:pt x="242" y="22"/>
                  </a:lnTo>
                  <a:lnTo>
                    <a:pt x="234" y="17"/>
                  </a:lnTo>
                  <a:lnTo>
                    <a:pt x="226" y="12"/>
                  </a:lnTo>
                  <a:lnTo>
                    <a:pt x="217" y="8"/>
                  </a:lnTo>
                  <a:lnTo>
                    <a:pt x="210" y="5"/>
                  </a:lnTo>
                  <a:lnTo>
                    <a:pt x="201" y="3"/>
                  </a:lnTo>
                  <a:lnTo>
                    <a:pt x="193" y="1"/>
                  </a:lnTo>
                  <a:lnTo>
                    <a:pt x="183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6" y="1"/>
                  </a:lnTo>
                  <a:lnTo>
                    <a:pt x="147" y="3"/>
                  </a:lnTo>
                  <a:lnTo>
                    <a:pt x="139" y="5"/>
                  </a:lnTo>
                  <a:lnTo>
                    <a:pt x="130" y="8"/>
                  </a:lnTo>
                  <a:lnTo>
                    <a:pt x="121" y="12"/>
                  </a:lnTo>
                  <a:lnTo>
                    <a:pt x="114" y="17"/>
                  </a:lnTo>
                  <a:lnTo>
                    <a:pt x="105" y="22"/>
                  </a:lnTo>
                  <a:lnTo>
                    <a:pt x="98" y="29"/>
                  </a:lnTo>
                  <a:lnTo>
                    <a:pt x="90" y="35"/>
                  </a:lnTo>
                  <a:lnTo>
                    <a:pt x="84" y="42"/>
                  </a:lnTo>
                  <a:lnTo>
                    <a:pt x="76" y="49"/>
                  </a:lnTo>
                  <a:lnTo>
                    <a:pt x="63" y="66"/>
                  </a:lnTo>
                  <a:lnTo>
                    <a:pt x="50" y="85"/>
                  </a:lnTo>
                  <a:lnTo>
                    <a:pt x="39" y="106"/>
                  </a:lnTo>
                  <a:lnTo>
                    <a:pt x="29" y="129"/>
                  </a:lnTo>
                  <a:lnTo>
                    <a:pt x="21" y="153"/>
                  </a:lnTo>
                  <a:lnTo>
                    <a:pt x="14" y="179"/>
                  </a:lnTo>
                  <a:lnTo>
                    <a:pt x="8" y="206"/>
                  </a:lnTo>
                  <a:lnTo>
                    <a:pt x="4" y="235"/>
                  </a:lnTo>
                  <a:lnTo>
                    <a:pt x="1" y="264"/>
                  </a:lnTo>
                  <a:lnTo>
                    <a:pt x="0" y="294"/>
                  </a:lnTo>
                  <a:lnTo>
                    <a:pt x="1" y="325"/>
                  </a:lnTo>
                  <a:lnTo>
                    <a:pt x="5" y="354"/>
                  </a:lnTo>
                  <a:lnTo>
                    <a:pt x="9" y="382"/>
                  </a:lnTo>
                  <a:lnTo>
                    <a:pt x="17" y="408"/>
                  </a:lnTo>
                  <a:lnTo>
                    <a:pt x="24" y="433"/>
                  </a:lnTo>
                  <a:lnTo>
                    <a:pt x="34" y="456"/>
                  </a:lnTo>
                  <a:lnTo>
                    <a:pt x="45" y="478"/>
                  </a:lnTo>
                  <a:lnTo>
                    <a:pt x="58" y="498"/>
                  </a:lnTo>
                  <a:lnTo>
                    <a:pt x="71" y="517"/>
                  </a:lnTo>
                  <a:lnTo>
                    <a:pt x="85" y="533"/>
                  </a:lnTo>
                  <a:lnTo>
                    <a:pt x="92" y="540"/>
                  </a:lnTo>
                  <a:lnTo>
                    <a:pt x="100" y="546"/>
                  </a:lnTo>
                  <a:lnTo>
                    <a:pt x="108" y="552"/>
                  </a:lnTo>
                  <a:lnTo>
                    <a:pt x="116" y="558"/>
                  </a:lnTo>
                  <a:lnTo>
                    <a:pt x="125" y="563"/>
                  </a:lnTo>
                  <a:lnTo>
                    <a:pt x="133" y="568"/>
                  </a:lnTo>
                  <a:lnTo>
                    <a:pt x="142" y="571"/>
                  </a:lnTo>
                  <a:lnTo>
                    <a:pt x="150" y="574"/>
                  </a:lnTo>
                  <a:lnTo>
                    <a:pt x="159" y="576"/>
                  </a:lnTo>
                  <a:lnTo>
                    <a:pt x="168" y="578"/>
                  </a:lnTo>
                  <a:lnTo>
                    <a:pt x="176" y="579"/>
                  </a:lnTo>
                  <a:lnTo>
                    <a:pt x="186" y="57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5756400" y="3886200"/>
              <a:ext cx="101520" cy="147600"/>
            </a:xfrm>
            <a:custGeom>
              <a:avLst/>
              <a:gdLst/>
              <a:ahLst/>
              <a:rect l="l" t="t" r="r" b="b"/>
              <a:pathLst>
                <a:path w="202" h="295">
                  <a:moveTo>
                    <a:pt x="0" y="295"/>
                  </a:moveTo>
                  <a:lnTo>
                    <a:pt x="11" y="294"/>
                  </a:lnTo>
                  <a:lnTo>
                    <a:pt x="21" y="293"/>
                  </a:lnTo>
                  <a:lnTo>
                    <a:pt x="32" y="292"/>
                  </a:lnTo>
                  <a:lnTo>
                    <a:pt x="43" y="289"/>
                  </a:lnTo>
                  <a:lnTo>
                    <a:pt x="53" y="287"/>
                  </a:lnTo>
                  <a:lnTo>
                    <a:pt x="63" y="282"/>
                  </a:lnTo>
                  <a:lnTo>
                    <a:pt x="72" y="278"/>
                  </a:lnTo>
                  <a:lnTo>
                    <a:pt x="82" y="272"/>
                  </a:lnTo>
                  <a:lnTo>
                    <a:pt x="91" y="267"/>
                  </a:lnTo>
                  <a:lnTo>
                    <a:pt x="99" y="261"/>
                  </a:lnTo>
                  <a:lnTo>
                    <a:pt x="108" y="253"/>
                  </a:lnTo>
                  <a:lnTo>
                    <a:pt x="117" y="245"/>
                  </a:lnTo>
                  <a:lnTo>
                    <a:pt x="124" y="238"/>
                  </a:lnTo>
                  <a:lnTo>
                    <a:pt x="132" y="229"/>
                  </a:lnTo>
                  <a:lnTo>
                    <a:pt x="139" y="220"/>
                  </a:lnTo>
                  <a:lnTo>
                    <a:pt x="146" y="211"/>
                  </a:lnTo>
                  <a:lnTo>
                    <a:pt x="152" y="200"/>
                  </a:lnTo>
                  <a:lnTo>
                    <a:pt x="159" y="189"/>
                  </a:lnTo>
                  <a:lnTo>
                    <a:pt x="164" y="179"/>
                  </a:lnTo>
                  <a:lnTo>
                    <a:pt x="170" y="167"/>
                  </a:lnTo>
                  <a:lnTo>
                    <a:pt x="179" y="143"/>
                  </a:lnTo>
                  <a:lnTo>
                    <a:pt x="187" y="117"/>
                  </a:lnTo>
                  <a:lnTo>
                    <a:pt x="193" y="90"/>
                  </a:lnTo>
                  <a:lnTo>
                    <a:pt x="198" y="61"/>
                  </a:lnTo>
                  <a:lnTo>
                    <a:pt x="201" y="31"/>
                  </a:lnTo>
                  <a:lnTo>
                    <a:pt x="202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5640480" y="3696840"/>
              <a:ext cx="109440" cy="153360"/>
            </a:xfrm>
            <a:custGeom>
              <a:avLst/>
              <a:gdLst/>
              <a:ahLst/>
              <a:rect l="l" t="t" r="r" b="b"/>
              <a:pathLst>
                <a:path w="218" h="307">
                  <a:moveTo>
                    <a:pt x="218" y="0"/>
                  </a:moveTo>
                  <a:lnTo>
                    <a:pt x="206" y="1"/>
                  </a:lnTo>
                  <a:lnTo>
                    <a:pt x="194" y="2"/>
                  </a:lnTo>
                  <a:lnTo>
                    <a:pt x="183" y="3"/>
                  </a:lnTo>
                  <a:lnTo>
                    <a:pt x="172" y="7"/>
                  </a:lnTo>
                  <a:lnTo>
                    <a:pt x="162" y="10"/>
                  </a:lnTo>
                  <a:lnTo>
                    <a:pt x="151" y="14"/>
                  </a:lnTo>
                  <a:lnTo>
                    <a:pt x="140" y="19"/>
                  </a:lnTo>
                  <a:lnTo>
                    <a:pt x="130" y="24"/>
                  </a:lnTo>
                  <a:lnTo>
                    <a:pt x="121" y="30"/>
                  </a:lnTo>
                  <a:lnTo>
                    <a:pt x="111" y="37"/>
                  </a:lnTo>
                  <a:lnTo>
                    <a:pt x="102" y="45"/>
                  </a:lnTo>
                  <a:lnTo>
                    <a:pt x="94" y="53"/>
                  </a:lnTo>
                  <a:lnTo>
                    <a:pt x="85" y="61"/>
                  </a:lnTo>
                  <a:lnTo>
                    <a:pt x="76" y="70"/>
                  </a:lnTo>
                  <a:lnTo>
                    <a:pt x="69" y="80"/>
                  </a:lnTo>
                  <a:lnTo>
                    <a:pt x="61" y="90"/>
                  </a:lnTo>
                  <a:lnTo>
                    <a:pt x="55" y="101"/>
                  </a:lnTo>
                  <a:lnTo>
                    <a:pt x="48" y="111"/>
                  </a:lnTo>
                  <a:lnTo>
                    <a:pt x="42" y="123"/>
                  </a:lnTo>
                  <a:lnTo>
                    <a:pt x="35" y="135"/>
                  </a:lnTo>
                  <a:lnTo>
                    <a:pt x="26" y="161"/>
                  </a:lnTo>
                  <a:lnTo>
                    <a:pt x="16" y="187"/>
                  </a:lnTo>
                  <a:lnTo>
                    <a:pt x="9" y="215"/>
                  </a:lnTo>
                  <a:lnTo>
                    <a:pt x="4" y="245"/>
                  </a:lnTo>
                  <a:lnTo>
                    <a:pt x="1" y="276"/>
                  </a:lnTo>
                  <a:lnTo>
                    <a:pt x="0" y="307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995800" y="2712240"/>
              <a:ext cx="516600" cy="840960"/>
            </a:xfrm>
            <a:custGeom>
              <a:avLst/>
              <a:gdLst/>
              <a:ahLst/>
              <a:rect l="l" t="t" r="r" b="b"/>
              <a:pathLst>
                <a:path w="1036" h="1688">
                  <a:moveTo>
                    <a:pt x="1036" y="0"/>
                  </a:moveTo>
                  <a:lnTo>
                    <a:pt x="0" y="542"/>
                  </a:lnTo>
                  <a:lnTo>
                    <a:pt x="54" y="1688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5925600" y="1219320"/>
              <a:ext cx="315360" cy="348840"/>
            </a:xfrm>
            <a:custGeom>
              <a:avLst/>
              <a:gdLst/>
              <a:ahLst/>
              <a:rect l="l" t="t" r="r" b="b"/>
              <a:pathLst>
                <a:path w="630" h="700">
                  <a:moveTo>
                    <a:pt x="630" y="334"/>
                  </a:moveTo>
                  <a:lnTo>
                    <a:pt x="625" y="330"/>
                  </a:lnTo>
                  <a:lnTo>
                    <a:pt x="608" y="322"/>
                  </a:lnTo>
                  <a:lnTo>
                    <a:pt x="597" y="317"/>
                  </a:lnTo>
                  <a:lnTo>
                    <a:pt x="583" y="313"/>
                  </a:lnTo>
                  <a:lnTo>
                    <a:pt x="566" y="310"/>
                  </a:lnTo>
                  <a:lnTo>
                    <a:pt x="547" y="309"/>
                  </a:lnTo>
                  <a:lnTo>
                    <a:pt x="537" y="308"/>
                  </a:lnTo>
                  <a:lnTo>
                    <a:pt x="526" y="309"/>
                  </a:lnTo>
                  <a:lnTo>
                    <a:pt x="516" y="309"/>
                  </a:lnTo>
                  <a:lnTo>
                    <a:pt x="504" y="311"/>
                  </a:lnTo>
                  <a:lnTo>
                    <a:pt x="491" y="313"/>
                  </a:lnTo>
                  <a:lnTo>
                    <a:pt x="479" y="315"/>
                  </a:lnTo>
                  <a:lnTo>
                    <a:pt x="465" y="320"/>
                  </a:lnTo>
                  <a:lnTo>
                    <a:pt x="452" y="324"/>
                  </a:lnTo>
                  <a:lnTo>
                    <a:pt x="438" y="330"/>
                  </a:lnTo>
                  <a:lnTo>
                    <a:pt x="423" y="337"/>
                  </a:lnTo>
                  <a:lnTo>
                    <a:pt x="407" y="344"/>
                  </a:lnTo>
                  <a:lnTo>
                    <a:pt x="392" y="353"/>
                  </a:lnTo>
                  <a:lnTo>
                    <a:pt x="376" y="364"/>
                  </a:lnTo>
                  <a:lnTo>
                    <a:pt x="360" y="375"/>
                  </a:lnTo>
                  <a:lnTo>
                    <a:pt x="343" y="388"/>
                  </a:lnTo>
                  <a:lnTo>
                    <a:pt x="326" y="402"/>
                  </a:lnTo>
                  <a:lnTo>
                    <a:pt x="311" y="416"/>
                  </a:lnTo>
                  <a:lnTo>
                    <a:pt x="297" y="429"/>
                  </a:lnTo>
                  <a:lnTo>
                    <a:pt x="284" y="443"/>
                  </a:lnTo>
                  <a:lnTo>
                    <a:pt x="273" y="456"/>
                  </a:lnTo>
                  <a:lnTo>
                    <a:pt x="263" y="470"/>
                  </a:lnTo>
                  <a:lnTo>
                    <a:pt x="254" y="483"/>
                  </a:lnTo>
                  <a:lnTo>
                    <a:pt x="246" y="497"/>
                  </a:lnTo>
                  <a:lnTo>
                    <a:pt x="239" y="510"/>
                  </a:lnTo>
                  <a:lnTo>
                    <a:pt x="234" y="523"/>
                  </a:lnTo>
                  <a:lnTo>
                    <a:pt x="228" y="536"/>
                  </a:lnTo>
                  <a:lnTo>
                    <a:pt x="224" y="547"/>
                  </a:lnTo>
                  <a:lnTo>
                    <a:pt x="221" y="559"/>
                  </a:lnTo>
                  <a:lnTo>
                    <a:pt x="218" y="571"/>
                  </a:lnTo>
                  <a:lnTo>
                    <a:pt x="216" y="583"/>
                  </a:lnTo>
                  <a:lnTo>
                    <a:pt x="214" y="594"/>
                  </a:lnTo>
                  <a:lnTo>
                    <a:pt x="214" y="605"/>
                  </a:lnTo>
                  <a:lnTo>
                    <a:pt x="213" y="625"/>
                  </a:lnTo>
                  <a:lnTo>
                    <a:pt x="215" y="644"/>
                  </a:lnTo>
                  <a:lnTo>
                    <a:pt x="217" y="660"/>
                  </a:lnTo>
                  <a:lnTo>
                    <a:pt x="219" y="674"/>
                  </a:lnTo>
                  <a:lnTo>
                    <a:pt x="226" y="692"/>
                  </a:lnTo>
                  <a:lnTo>
                    <a:pt x="228" y="700"/>
                  </a:lnTo>
                  <a:lnTo>
                    <a:pt x="202" y="659"/>
                  </a:lnTo>
                  <a:lnTo>
                    <a:pt x="15" y="393"/>
                  </a:lnTo>
                  <a:lnTo>
                    <a:pt x="12" y="387"/>
                  </a:lnTo>
                  <a:lnTo>
                    <a:pt x="7" y="367"/>
                  </a:lnTo>
                  <a:lnTo>
                    <a:pt x="3" y="353"/>
                  </a:lnTo>
                  <a:lnTo>
                    <a:pt x="1" y="337"/>
                  </a:lnTo>
                  <a:lnTo>
                    <a:pt x="0" y="319"/>
                  </a:lnTo>
                  <a:lnTo>
                    <a:pt x="0" y="298"/>
                  </a:lnTo>
                  <a:lnTo>
                    <a:pt x="1" y="287"/>
                  </a:lnTo>
                  <a:lnTo>
                    <a:pt x="2" y="276"/>
                  </a:lnTo>
                  <a:lnTo>
                    <a:pt x="4" y="265"/>
                  </a:lnTo>
                  <a:lnTo>
                    <a:pt x="8" y="253"/>
                  </a:lnTo>
                  <a:lnTo>
                    <a:pt x="11" y="240"/>
                  </a:lnTo>
                  <a:lnTo>
                    <a:pt x="15" y="228"/>
                  </a:lnTo>
                  <a:lnTo>
                    <a:pt x="20" y="215"/>
                  </a:lnTo>
                  <a:lnTo>
                    <a:pt x="26" y="202"/>
                  </a:lnTo>
                  <a:lnTo>
                    <a:pt x="33" y="189"/>
                  </a:lnTo>
                  <a:lnTo>
                    <a:pt x="41" y="175"/>
                  </a:lnTo>
                  <a:lnTo>
                    <a:pt x="50" y="162"/>
                  </a:lnTo>
                  <a:lnTo>
                    <a:pt x="60" y="148"/>
                  </a:lnTo>
                  <a:lnTo>
                    <a:pt x="71" y="135"/>
                  </a:lnTo>
                  <a:lnTo>
                    <a:pt x="83" y="121"/>
                  </a:lnTo>
                  <a:lnTo>
                    <a:pt x="97" y="108"/>
                  </a:lnTo>
                  <a:lnTo>
                    <a:pt x="113" y="94"/>
                  </a:lnTo>
                  <a:lnTo>
                    <a:pt x="130" y="80"/>
                  </a:lnTo>
                  <a:lnTo>
                    <a:pt x="147" y="67"/>
                  </a:lnTo>
                  <a:lnTo>
                    <a:pt x="163" y="55"/>
                  </a:lnTo>
                  <a:lnTo>
                    <a:pt x="178" y="45"/>
                  </a:lnTo>
                  <a:lnTo>
                    <a:pt x="195" y="37"/>
                  </a:lnTo>
                  <a:lnTo>
                    <a:pt x="210" y="29"/>
                  </a:lnTo>
                  <a:lnTo>
                    <a:pt x="224" y="23"/>
                  </a:lnTo>
                  <a:lnTo>
                    <a:pt x="238" y="16"/>
                  </a:lnTo>
                  <a:lnTo>
                    <a:pt x="252" y="12"/>
                  </a:lnTo>
                  <a:lnTo>
                    <a:pt x="265" y="7"/>
                  </a:lnTo>
                  <a:lnTo>
                    <a:pt x="278" y="5"/>
                  </a:lnTo>
                  <a:lnTo>
                    <a:pt x="290" y="3"/>
                  </a:lnTo>
                  <a:lnTo>
                    <a:pt x="302" y="1"/>
                  </a:lnTo>
                  <a:lnTo>
                    <a:pt x="313" y="1"/>
                  </a:lnTo>
                  <a:lnTo>
                    <a:pt x="324" y="0"/>
                  </a:lnTo>
                  <a:lnTo>
                    <a:pt x="334" y="1"/>
                  </a:lnTo>
                  <a:lnTo>
                    <a:pt x="352" y="2"/>
                  </a:lnTo>
                  <a:lnTo>
                    <a:pt x="369" y="5"/>
                  </a:lnTo>
                  <a:lnTo>
                    <a:pt x="384" y="10"/>
                  </a:lnTo>
                  <a:lnTo>
                    <a:pt x="395" y="14"/>
                  </a:lnTo>
                  <a:lnTo>
                    <a:pt x="411" y="23"/>
                  </a:lnTo>
                  <a:lnTo>
                    <a:pt x="416" y="26"/>
                  </a:lnTo>
                  <a:lnTo>
                    <a:pt x="614" y="306"/>
                  </a:lnTo>
                  <a:lnTo>
                    <a:pt x="630" y="3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5925600" y="1219320"/>
              <a:ext cx="315360" cy="348840"/>
            </a:xfrm>
            <a:custGeom>
              <a:avLst/>
              <a:gdLst/>
              <a:ahLst/>
              <a:rect l="l" t="t" r="r" b="b"/>
              <a:pathLst>
                <a:path w="630" h="700">
                  <a:moveTo>
                    <a:pt x="630" y="334"/>
                  </a:moveTo>
                  <a:lnTo>
                    <a:pt x="625" y="330"/>
                  </a:lnTo>
                  <a:lnTo>
                    <a:pt x="608" y="322"/>
                  </a:lnTo>
                  <a:lnTo>
                    <a:pt x="597" y="317"/>
                  </a:lnTo>
                  <a:lnTo>
                    <a:pt x="583" y="313"/>
                  </a:lnTo>
                  <a:lnTo>
                    <a:pt x="566" y="310"/>
                  </a:lnTo>
                  <a:lnTo>
                    <a:pt x="547" y="309"/>
                  </a:lnTo>
                  <a:lnTo>
                    <a:pt x="537" y="308"/>
                  </a:lnTo>
                  <a:lnTo>
                    <a:pt x="526" y="309"/>
                  </a:lnTo>
                  <a:lnTo>
                    <a:pt x="516" y="309"/>
                  </a:lnTo>
                  <a:lnTo>
                    <a:pt x="504" y="311"/>
                  </a:lnTo>
                  <a:lnTo>
                    <a:pt x="491" y="313"/>
                  </a:lnTo>
                  <a:lnTo>
                    <a:pt x="479" y="315"/>
                  </a:lnTo>
                  <a:lnTo>
                    <a:pt x="465" y="320"/>
                  </a:lnTo>
                  <a:lnTo>
                    <a:pt x="452" y="324"/>
                  </a:lnTo>
                  <a:lnTo>
                    <a:pt x="438" y="330"/>
                  </a:lnTo>
                  <a:lnTo>
                    <a:pt x="423" y="337"/>
                  </a:lnTo>
                  <a:lnTo>
                    <a:pt x="407" y="344"/>
                  </a:lnTo>
                  <a:lnTo>
                    <a:pt x="392" y="353"/>
                  </a:lnTo>
                  <a:lnTo>
                    <a:pt x="376" y="364"/>
                  </a:lnTo>
                  <a:lnTo>
                    <a:pt x="360" y="375"/>
                  </a:lnTo>
                  <a:lnTo>
                    <a:pt x="343" y="388"/>
                  </a:lnTo>
                  <a:lnTo>
                    <a:pt x="326" y="402"/>
                  </a:lnTo>
                  <a:lnTo>
                    <a:pt x="311" y="416"/>
                  </a:lnTo>
                  <a:lnTo>
                    <a:pt x="297" y="429"/>
                  </a:lnTo>
                  <a:lnTo>
                    <a:pt x="284" y="443"/>
                  </a:lnTo>
                  <a:lnTo>
                    <a:pt x="273" y="456"/>
                  </a:lnTo>
                  <a:lnTo>
                    <a:pt x="263" y="470"/>
                  </a:lnTo>
                  <a:lnTo>
                    <a:pt x="254" y="483"/>
                  </a:lnTo>
                  <a:lnTo>
                    <a:pt x="246" y="497"/>
                  </a:lnTo>
                  <a:lnTo>
                    <a:pt x="239" y="510"/>
                  </a:lnTo>
                  <a:lnTo>
                    <a:pt x="234" y="523"/>
                  </a:lnTo>
                  <a:lnTo>
                    <a:pt x="228" y="536"/>
                  </a:lnTo>
                  <a:lnTo>
                    <a:pt x="224" y="547"/>
                  </a:lnTo>
                  <a:lnTo>
                    <a:pt x="221" y="559"/>
                  </a:lnTo>
                  <a:lnTo>
                    <a:pt x="218" y="571"/>
                  </a:lnTo>
                  <a:lnTo>
                    <a:pt x="216" y="583"/>
                  </a:lnTo>
                  <a:lnTo>
                    <a:pt x="214" y="594"/>
                  </a:lnTo>
                  <a:lnTo>
                    <a:pt x="214" y="605"/>
                  </a:lnTo>
                  <a:lnTo>
                    <a:pt x="213" y="625"/>
                  </a:lnTo>
                  <a:lnTo>
                    <a:pt x="215" y="644"/>
                  </a:lnTo>
                  <a:lnTo>
                    <a:pt x="217" y="660"/>
                  </a:lnTo>
                  <a:lnTo>
                    <a:pt x="219" y="674"/>
                  </a:lnTo>
                  <a:lnTo>
                    <a:pt x="226" y="692"/>
                  </a:lnTo>
                  <a:lnTo>
                    <a:pt x="228" y="700"/>
                  </a:lnTo>
                  <a:lnTo>
                    <a:pt x="202" y="659"/>
                  </a:lnTo>
                  <a:lnTo>
                    <a:pt x="15" y="393"/>
                  </a:lnTo>
                  <a:lnTo>
                    <a:pt x="12" y="387"/>
                  </a:lnTo>
                  <a:lnTo>
                    <a:pt x="7" y="367"/>
                  </a:lnTo>
                  <a:lnTo>
                    <a:pt x="3" y="353"/>
                  </a:lnTo>
                  <a:lnTo>
                    <a:pt x="1" y="337"/>
                  </a:lnTo>
                  <a:lnTo>
                    <a:pt x="0" y="319"/>
                  </a:lnTo>
                  <a:lnTo>
                    <a:pt x="0" y="298"/>
                  </a:lnTo>
                  <a:lnTo>
                    <a:pt x="1" y="287"/>
                  </a:lnTo>
                  <a:lnTo>
                    <a:pt x="2" y="276"/>
                  </a:lnTo>
                  <a:lnTo>
                    <a:pt x="4" y="265"/>
                  </a:lnTo>
                  <a:lnTo>
                    <a:pt x="8" y="253"/>
                  </a:lnTo>
                  <a:lnTo>
                    <a:pt x="11" y="240"/>
                  </a:lnTo>
                  <a:lnTo>
                    <a:pt x="15" y="228"/>
                  </a:lnTo>
                  <a:lnTo>
                    <a:pt x="20" y="215"/>
                  </a:lnTo>
                  <a:lnTo>
                    <a:pt x="26" y="202"/>
                  </a:lnTo>
                  <a:lnTo>
                    <a:pt x="33" y="189"/>
                  </a:lnTo>
                  <a:lnTo>
                    <a:pt x="41" y="175"/>
                  </a:lnTo>
                  <a:lnTo>
                    <a:pt x="50" y="162"/>
                  </a:lnTo>
                  <a:lnTo>
                    <a:pt x="60" y="148"/>
                  </a:lnTo>
                  <a:lnTo>
                    <a:pt x="71" y="135"/>
                  </a:lnTo>
                  <a:lnTo>
                    <a:pt x="83" y="121"/>
                  </a:lnTo>
                  <a:lnTo>
                    <a:pt x="97" y="108"/>
                  </a:lnTo>
                  <a:lnTo>
                    <a:pt x="113" y="94"/>
                  </a:lnTo>
                  <a:lnTo>
                    <a:pt x="130" y="80"/>
                  </a:lnTo>
                  <a:lnTo>
                    <a:pt x="147" y="67"/>
                  </a:lnTo>
                  <a:lnTo>
                    <a:pt x="163" y="55"/>
                  </a:lnTo>
                  <a:lnTo>
                    <a:pt x="178" y="45"/>
                  </a:lnTo>
                  <a:lnTo>
                    <a:pt x="195" y="37"/>
                  </a:lnTo>
                  <a:lnTo>
                    <a:pt x="210" y="29"/>
                  </a:lnTo>
                  <a:lnTo>
                    <a:pt x="224" y="23"/>
                  </a:lnTo>
                  <a:lnTo>
                    <a:pt x="238" y="16"/>
                  </a:lnTo>
                  <a:lnTo>
                    <a:pt x="252" y="12"/>
                  </a:lnTo>
                  <a:lnTo>
                    <a:pt x="265" y="7"/>
                  </a:lnTo>
                  <a:lnTo>
                    <a:pt x="278" y="5"/>
                  </a:lnTo>
                  <a:lnTo>
                    <a:pt x="290" y="3"/>
                  </a:lnTo>
                  <a:lnTo>
                    <a:pt x="302" y="1"/>
                  </a:lnTo>
                  <a:lnTo>
                    <a:pt x="313" y="1"/>
                  </a:lnTo>
                  <a:lnTo>
                    <a:pt x="324" y="0"/>
                  </a:lnTo>
                  <a:lnTo>
                    <a:pt x="334" y="1"/>
                  </a:lnTo>
                  <a:lnTo>
                    <a:pt x="352" y="2"/>
                  </a:lnTo>
                  <a:lnTo>
                    <a:pt x="369" y="5"/>
                  </a:lnTo>
                  <a:lnTo>
                    <a:pt x="384" y="10"/>
                  </a:lnTo>
                  <a:lnTo>
                    <a:pt x="395" y="14"/>
                  </a:lnTo>
                  <a:lnTo>
                    <a:pt x="411" y="23"/>
                  </a:lnTo>
                  <a:lnTo>
                    <a:pt x="416" y="26"/>
                  </a:lnTo>
                  <a:lnTo>
                    <a:pt x="614" y="306"/>
                  </a:lnTo>
                  <a:lnTo>
                    <a:pt x="630" y="334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5932080" y="1231200"/>
              <a:ext cx="327240" cy="362520"/>
            </a:xfrm>
            <a:custGeom>
              <a:avLst/>
              <a:gdLst/>
              <a:ahLst/>
              <a:rect l="l" t="t" r="r" b="b"/>
              <a:pathLst>
                <a:path w="656" h="727">
                  <a:moveTo>
                    <a:pt x="656" y="346"/>
                  </a:moveTo>
                  <a:lnTo>
                    <a:pt x="651" y="342"/>
                  </a:lnTo>
                  <a:lnTo>
                    <a:pt x="634" y="333"/>
                  </a:lnTo>
                  <a:lnTo>
                    <a:pt x="621" y="329"/>
                  </a:lnTo>
                  <a:lnTo>
                    <a:pt x="607" y="325"/>
                  </a:lnTo>
                  <a:lnTo>
                    <a:pt x="590" y="321"/>
                  </a:lnTo>
                  <a:lnTo>
                    <a:pt x="571" y="319"/>
                  </a:lnTo>
                  <a:lnTo>
                    <a:pt x="560" y="319"/>
                  </a:lnTo>
                  <a:lnTo>
                    <a:pt x="549" y="319"/>
                  </a:lnTo>
                  <a:lnTo>
                    <a:pt x="537" y="320"/>
                  </a:lnTo>
                  <a:lnTo>
                    <a:pt x="525" y="322"/>
                  </a:lnTo>
                  <a:lnTo>
                    <a:pt x="512" y="325"/>
                  </a:lnTo>
                  <a:lnTo>
                    <a:pt x="499" y="328"/>
                  </a:lnTo>
                  <a:lnTo>
                    <a:pt x="485" y="331"/>
                  </a:lnTo>
                  <a:lnTo>
                    <a:pt x="471" y="336"/>
                  </a:lnTo>
                  <a:lnTo>
                    <a:pt x="456" y="342"/>
                  </a:lnTo>
                  <a:lnTo>
                    <a:pt x="441" y="349"/>
                  </a:lnTo>
                  <a:lnTo>
                    <a:pt x="426" y="357"/>
                  </a:lnTo>
                  <a:lnTo>
                    <a:pt x="410" y="367"/>
                  </a:lnTo>
                  <a:lnTo>
                    <a:pt x="393" y="376"/>
                  </a:lnTo>
                  <a:lnTo>
                    <a:pt x="376" y="388"/>
                  </a:lnTo>
                  <a:lnTo>
                    <a:pt x="359" y="401"/>
                  </a:lnTo>
                  <a:lnTo>
                    <a:pt x="342" y="416"/>
                  </a:lnTo>
                  <a:lnTo>
                    <a:pt x="325" y="430"/>
                  </a:lnTo>
                  <a:lnTo>
                    <a:pt x="311" y="444"/>
                  </a:lnTo>
                  <a:lnTo>
                    <a:pt x="297" y="459"/>
                  </a:lnTo>
                  <a:lnTo>
                    <a:pt x="285" y="473"/>
                  </a:lnTo>
                  <a:lnTo>
                    <a:pt x="276" y="487"/>
                  </a:lnTo>
                  <a:lnTo>
                    <a:pt x="266" y="501"/>
                  </a:lnTo>
                  <a:lnTo>
                    <a:pt x="257" y="515"/>
                  </a:lnTo>
                  <a:lnTo>
                    <a:pt x="251" y="529"/>
                  </a:lnTo>
                  <a:lnTo>
                    <a:pt x="244" y="542"/>
                  </a:lnTo>
                  <a:lnTo>
                    <a:pt x="239" y="556"/>
                  </a:lnTo>
                  <a:lnTo>
                    <a:pt x="235" y="569"/>
                  </a:lnTo>
                  <a:lnTo>
                    <a:pt x="231" y="581"/>
                  </a:lnTo>
                  <a:lnTo>
                    <a:pt x="228" y="594"/>
                  </a:lnTo>
                  <a:lnTo>
                    <a:pt x="226" y="605"/>
                  </a:lnTo>
                  <a:lnTo>
                    <a:pt x="225" y="617"/>
                  </a:lnTo>
                  <a:lnTo>
                    <a:pt x="224" y="628"/>
                  </a:lnTo>
                  <a:lnTo>
                    <a:pt x="224" y="650"/>
                  </a:lnTo>
                  <a:lnTo>
                    <a:pt x="225" y="668"/>
                  </a:lnTo>
                  <a:lnTo>
                    <a:pt x="227" y="685"/>
                  </a:lnTo>
                  <a:lnTo>
                    <a:pt x="230" y="699"/>
                  </a:lnTo>
                  <a:lnTo>
                    <a:pt x="237" y="720"/>
                  </a:lnTo>
                  <a:lnTo>
                    <a:pt x="240" y="727"/>
                  </a:lnTo>
                  <a:lnTo>
                    <a:pt x="211" y="684"/>
                  </a:lnTo>
                  <a:lnTo>
                    <a:pt x="16" y="408"/>
                  </a:lnTo>
                  <a:lnTo>
                    <a:pt x="13" y="400"/>
                  </a:lnTo>
                  <a:lnTo>
                    <a:pt x="8" y="381"/>
                  </a:lnTo>
                  <a:lnTo>
                    <a:pt x="4" y="366"/>
                  </a:lnTo>
                  <a:lnTo>
                    <a:pt x="2" y="349"/>
                  </a:lnTo>
                  <a:lnTo>
                    <a:pt x="0" y="330"/>
                  </a:lnTo>
                  <a:lnTo>
                    <a:pt x="1" y="309"/>
                  </a:lnTo>
                  <a:lnTo>
                    <a:pt x="2" y="298"/>
                  </a:lnTo>
                  <a:lnTo>
                    <a:pt x="3" y="286"/>
                  </a:lnTo>
                  <a:lnTo>
                    <a:pt x="6" y="274"/>
                  </a:lnTo>
                  <a:lnTo>
                    <a:pt x="9" y="262"/>
                  </a:lnTo>
                  <a:lnTo>
                    <a:pt x="12" y="249"/>
                  </a:lnTo>
                  <a:lnTo>
                    <a:pt x="16" y="236"/>
                  </a:lnTo>
                  <a:lnTo>
                    <a:pt x="22" y="222"/>
                  </a:lnTo>
                  <a:lnTo>
                    <a:pt x="27" y="209"/>
                  </a:lnTo>
                  <a:lnTo>
                    <a:pt x="35" y="195"/>
                  </a:lnTo>
                  <a:lnTo>
                    <a:pt x="43" y="181"/>
                  </a:lnTo>
                  <a:lnTo>
                    <a:pt x="52" y="167"/>
                  </a:lnTo>
                  <a:lnTo>
                    <a:pt x="63" y="153"/>
                  </a:lnTo>
                  <a:lnTo>
                    <a:pt x="75" y="139"/>
                  </a:lnTo>
                  <a:lnTo>
                    <a:pt x="88" y="125"/>
                  </a:lnTo>
                  <a:lnTo>
                    <a:pt x="102" y="110"/>
                  </a:lnTo>
                  <a:lnTo>
                    <a:pt x="118" y="96"/>
                  </a:lnTo>
                  <a:lnTo>
                    <a:pt x="136" y="82"/>
                  </a:lnTo>
                  <a:lnTo>
                    <a:pt x="154" y="68"/>
                  </a:lnTo>
                  <a:lnTo>
                    <a:pt x="170" y="56"/>
                  </a:lnTo>
                  <a:lnTo>
                    <a:pt x="187" y="46"/>
                  </a:lnTo>
                  <a:lnTo>
                    <a:pt x="203" y="36"/>
                  </a:lnTo>
                  <a:lnTo>
                    <a:pt x="218" y="29"/>
                  </a:lnTo>
                  <a:lnTo>
                    <a:pt x="233" y="21"/>
                  </a:lnTo>
                  <a:lnTo>
                    <a:pt x="249" y="16"/>
                  </a:lnTo>
                  <a:lnTo>
                    <a:pt x="263" y="11"/>
                  </a:lnTo>
                  <a:lnTo>
                    <a:pt x="277" y="7"/>
                  </a:lnTo>
                  <a:lnTo>
                    <a:pt x="290" y="4"/>
                  </a:lnTo>
                  <a:lnTo>
                    <a:pt x="303" y="2"/>
                  </a:lnTo>
                  <a:lnTo>
                    <a:pt x="315" y="1"/>
                  </a:lnTo>
                  <a:lnTo>
                    <a:pt x="326" y="0"/>
                  </a:lnTo>
                  <a:lnTo>
                    <a:pt x="337" y="0"/>
                  </a:lnTo>
                  <a:lnTo>
                    <a:pt x="348" y="0"/>
                  </a:lnTo>
                  <a:lnTo>
                    <a:pt x="367" y="2"/>
                  </a:lnTo>
                  <a:lnTo>
                    <a:pt x="385" y="5"/>
                  </a:lnTo>
                  <a:lnTo>
                    <a:pt x="400" y="9"/>
                  </a:lnTo>
                  <a:lnTo>
                    <a:pt x="412" y="15"/>
                  </a:lnTo>
                  <a:lnTo>
                    <a:pt x="429" y="23"/>
                  </a:lnTo>
                  <a:lnTo>
                    <a:pt x="434" y="27"/>
                  </a:lnTo>
                  <a:lnTo>
                    <a:pt x="641" y="317"/>
                  </a:lnTo>
                  <a:lnTo>
                    <a:pt x="656" y="34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5942160" y="1243080"/>
              <a:ext cx="792000" cy="986760"/>
            </a:xfrm>
            <a:custGeom>
              <a:avLst/>
              <a:gdLst/>
              <a:ahLst/>
              <a:rect l="l" t="t" r="r" b="b"/>
              <a:pathLst>
                <a:path w="1588" h="1982">
                  <a:moveTo>
                    <a:pt x="1579" y="1687"/>
                  </a:moveTo>
                  <a:lnTo>
                    <a:pt x="1367" y="1730"/>
                  </a:lnTo>
                  <a:lnTo>
                    <a:pt x="1119" y="1982"/>
                  </a:lnTo>
                  <a:lnTo>
                    <a:pt x="17" y="409"/>
                  </a:lnTo>
                  <a:lnTo>
                    <a:pt x="13" y="402"/>
                  </a:lnTo>
                  <a:lnTo>
                    <a:pt x="8" y="382"/>
                  </a:lnTo>
                  <a:lnTo>
                    <a:pt x="5" y="367"/>
                  </a:lnTo>
                  <a:lnTo>
                    <a:pt x="2" y="350"/>
                  </a:lnTo>
                  <a:lnTo>
                    <a:pt x="0" y="331"/>
                  </a:lnTo>
                  <a:lnTo>
                    <a:pt x="0" y="310"/>
                  </a:lnTo>
                  <a:lnTo>
                    <a:pt x="2" y="299"/>
                  </a:lnTo>
                  <a:lnTo>
                    <a:pt x="3" y="288"/>
                  </a:lnTo>
                  <a:lnTo>
                    <a:pt x="5" y="276"/>
                  </a:lnTo>
                  <a:lnTo>
                    <a:pt x="8" y="263"/>
                  </a:lnTo>
                  <a:lnTo>
                    <a:pt x="11" y="250"/>
                  </a:lnTo>
                  <a:lnTo>
                    <a:pt x="16" y="237"/>
                  </a:lnTo>
                  <a:lnTo>
                    <a:pt x="21" y="224"/>
                  </a:lnTo>
                  <a:lnTo>
                    <a:pt x="27" y="211"/>
                  </a:lnTo>
                  <a:lnTo>
                    <a:pt x="35" y="197"/>
                  </a:lnTo>
                  <a:lnTo>
                    <a:pt x="43" y="183"/>
                  </a:lnTo>
                  <a:lnTo>
                    <a:pt x="52" y="169"/>
                  </a:lnTo>
                  <a:lnTo>
                    <a:pt x="63" y="155"/>
                  </a:lnTo>
                  <a:lnTo>
                    <a:pt x="75" y="141"/>
                  </a:lnTo>
                  <a:lnTo>
                    <a:pt x="88" y="127"/>
                  </a:lnTo>
                  <a:lnTo>
                    <a:pt x="102" y="113"/>
                  </a:lnTo>
                  <a:lnTo>
                    <a:pt x="118" y="99"/>
                  </a:lnTo>
                  <a:lnTo>
                    <a:pt x="137" y="83"/>
                  </a:lnTo>
                  <a:lnTo>
                    <a:pt x="154" y="70"/>
                  </a:lnTo>
                  <a:lnTo>
                    <a:pt x="170" y="59"/>
                  </a:lnTo>
                  <a:lnTo>
                    <a:pt x="187" y="48"/>
                  </a:lnTo>
                  <a:lnTo>
                    <a:pt x="204" y="38"/>
                  </a:lnTo>
                  <a:lnTo>
                    <a:pt x="219" y="31"/>
                  </a:lnTo>
                  <a:lnTo>
                    <a:pt x="234" y="23"/>
                  </a:lnTo>
                  <a:lnTo>
                    <a:pt x="249" y="18"/>
                  </a:lnTo>
                  <a:lnTo>
                    <a:pt x="263" y="12"/>
                  </a:lnTo>
                  <a:lnTo>
                    <a:pt x="277" y="9"/>
                  </a:lnTo>
                  <a:lnTo>
                    <a:pt x="290" y="6"/>
                  </a:lnTo>
                  <a:lnTo>
                    <a:pt x="303" y="4"/>
                  </a:lnTo>
                  <a:lnTo>
                    <a:pt x="315" y="1"/>
                  </a:lnTo>
                  <a:lnTo>
                    <a:pt x="327" y="1"/>
                  </a:lnTo>
                  <a:lnTo>
                    <a:pt x="338" y="0"/>
                  </a:lnTo>
                  <a:lnTo>
                    <a:pt x="348" y="1"/>
                  </a:lnTo>
                  <a:lnTo>
                    <a:pt x="368" y="2"/>
                  </a:lnTo>
                  <a:lnTo>
                    <a:pt x="385" y="7"/>
                  </a:lnTo>
                  <a:lnTo>
                    <a:pt x="400" y="11"/>
                  </a:lnTo>
                  <a:lnTo>
                    <a:pt x="412" y="15"/>
                  </a:lnTo>
                  <a:lnTo>
                    <a:pt x="429" y="24"/>
                  </a:lnTo>
                  <a:lnTo>
                    <a:pt x="435" y="27"/>
                  </a:lnTo>
                  <a:lnTo>
                    <a:pt x="1588" y="1661"/>
                  </a:lnTo>
                  <a:lnTo>
                    <a:pt x="1579" y="16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942160" y="1243080"/>
              <a:ext cx="792000" cy="986760"/>
            </a:xfrm>
            <a:custGeom>
              <a:avLst/>
              <a:gdLst/>
              <a:ahLst/>
              <a:rect l="l" t="t" r="r" b="b"/>
              <a:pathLst>
                <a:path w="1588" h="1982">
                  <a:moveTo>
                    <a:pt x="1579" y="1687"/>
                  </a:moveTo>
                  <a:lnTo>
                    <a:pt x="1367" y="1730"/>
                  </a:lnTo>
                  <a:lnTo>
                    <a:pt x="1119" y="1982"/>
                  </a:lnTo>
                  <a:lnTo>
                    <a:pt x="17" y="409"/>
                  </a:lnTo>
                  <a:lnTo>
                    <a:pt x="13" y="402"/>
                  </a:lnTo>
                  <a:lnTo>
                    <a:pt x="8" y="382"/>
                  </a:lnTo>
                  <a:lnTo>
                    <a:pt x="5" y="367"/>
                  </a:lnTo>
                  <a:lnTo>
                    <a:pt x="2" y="350"/>
                  </a:lnTo>
                  <a:lnTo>
                    <a:pt x="0" y="331"/>
                  </a:lnTo>
                  <a:lnTo>
                    <a:pt x="0" y="310"/>
                  </a:lnTo>
                  <a:lnTo>
                    <a:pt x="2" y="299"/>
                  </a:lnTo>
                  <a:lnTo>
                    <a:pt x="3" y="288"/>
                  </a:lnTo>
                  <a:lnTo>
                    <a:pt x="5" y="276"/>
                  </a:lnTo>
                  <a:lnTo>
                    <a:pt x="8" y="263"/>
                  </a:lnTo>
                  <a:lnTo>
                    <a:pt x="11" y="250"/>
                  </a:lnTo>
                  <a:lnTo>
                    <a:pt x="16" y="237"/>
                  </a:lnTo>
                  <a:lnTo>
                    <a:pt x="21" y="224"/>
                  </a:lnTo>
                  <a:lnTo>
                    <a:pt x="27" y="211"/>
                  </a:lnTo>
                  <a:lnTo>
                    <a:pt x="35" y="197"/>
                  </a:lnTo>
                  <a:lnTo>
                    <a:pt x="43" y="183"/>
                  </a:lnTo>
                  <a:lnTo>
                    <a:pt x="52" y="169"/>
                  </a:lnTo>
                  <a:lnTo>
                    <a:pt x="63" y="155"/>
                  </a:lnTo>
                  <a:lnTo>
                    <a:pt x="75" y="141"/>
                  </a:lnTo>
                  <a:lnTo>
                    <a:pt x="88" y="127"/>
                  </a:lnTo>
                  <a:lnTo>
                    <a:pt x="102" y="113"/>
                  </a:lnTo>
                  <a:lnTo>
                    <a:pt x="118" y="99"/>
                  </a:lnTo>
                  <a:lnTo>
                    <a:pt x="137" y="83"/>
                  </a:lnTo>
                  <a:lnTo>
                    <a:pt x="154" y="70"/>
                  </a:lnTo>
                  <a:lnTo>
                    <a:pt x="170" y="59"/>
                  </a:lnTo>
                  <a:lnTo>
                    <a:pt x="187" y="48"/>
                  </a:lnTo>
                  <a:lnTo>
                    <a:pt x="204" y="38"/>
                  </a:lnTo>
                  <a:lnTo>
                    <a:pt x="219" y="31"/>
                  </a:lnTo>
                  <a:lnTo>
                    <a:pt x="234" y="23"/>
                  </a:lnTo>
                  <a:lnTo>
                    <a:pt x="249" y="18"/>
                  </a:lnTo>
                  <a:lnTo>
                    <a:pt x="263" y="12"/>
                  </a:lnTo>
                  <a:lnTo>
                    <a:pt x="277" y="9"/>
                  </a:lnTo>
                  <a:lnTo>
                    <a:pt x="290" y="6"/>
                  </a:lnTo>
                  <a:lnTo>
                    <a:pt x="303" y="4"/>
                  </a:lnTo>
                  <a:lnTo>
                    <a:pt x="315" y="1"/>
                  </a:lnTo>
                  <a:lnTo>
                    <a:pt x="327" y="1"/>
                  </a:lnTo>
                  <a:lnTo>
                    <a:pt x="338" y="0"/>
                  </a:lnTo>
                  <a:lnTo>
                    <a:pt x="348" y="1"/>
                  </a:lnTo>
                  <a:lnTo>
                    <a:pt x="368" y="2"/>
                  </a:lnTo>
                  <a:lnTo>
                    <a:pt x="385" y="7"/>
                  </a:lnTo>
                  <a:lnTo>
                    <a:pt x="400" y="11"/>
                  </a:lnTo>
                  <a:lnTo>
                    <a:pt x="412" y="15"/>
                  </a:lnTo>
                  <a:lnTo>
                    <a:pt x="429" y="24"/>
                  </a:lnTo>
                  <a:lnTo>
                    <a:pt x="435" y="27"/>
                  </a:lnTo>
                  <a:lnTo>
                    <a:pt x="1588" y="1661"/>
                  </a:lnTo>
                  <a:lnTo>
                    <a:pt x="1579" y="1687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6077880" y="1283040"/>
              <a:ext cx="594720" cy="821160"/>
            </a:xfrm>
            <a:custGeom>
              <a:avLst/>
              <a:gdLst/>
              <a:ahLst/>
              <a:rect l="l" t="t" r="r" b="b"/>
              <a:pathLst>
                <a:path w="1189" h="1650">
                  <a:moveTo>
                    <a:pt x="1172" y="1650"/>
                  </a:moveTo>
                  <a:lnTo>
                    <a:pt x="0" y="10"/>
                  </a:lnTo>
                  <a:lnTo>
                    <a:pt x="37" y="0"/>
                  </a:lnTo>
                  <a:lnTo>
                    <a:pt x="1189" y="1635"/>
                  </a:lnTo>
                  <a:lnTo>
                    <a:pt x="1172" y="165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6077880" y="1283040"/>
              <a:ext cx="594720" cy="821160"/>
            </a:xfrm>
            <a:custGeom>
              <a:avLst/>
              <a:gdLst/>
              <a:ahLst/>
              <a:rect l="l" t="t" r="r" b="b"/>
              <a:pathLst>
                <a:path w="1189" h="1650">
                  <a:moveTo>
                    <a:pt x="1172" y="1650"/>
                  </a:moveTo>
                  <a:lnTo>
                    <a:pt x="0" y="10"/>
                  </a:lnTo>
                  <a:lnTo>
                    <a:pt x="37" y="0"/>
                  </a:lnTo>
                  <a:lnTo>
                    <a:pt x="1189" y="1635"/>
                  </a:lnTo>
                  <a:lnTo>
                    <a:pt x="1172" y="1650"/>
                  </a:lnTo>
                </a:path>
              </a:pathLst>
            </a:custGeom>
            <a:noFill/>
            <a:ln w="3240">
              <a:solidFill>
                <a:srgbClr val="9695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947920" y="1398600"/>
              <a:ext cx="576360" cy="821160"/>
            </a:xfrm>
            <a:custGeom>
              <a:avLst/>
              <a:gdLst/>
              <a:ahLst/>
              <a:rect l="l" t="t" r="r" b="b"/>
              <a:pathLst>
                <a:path w="1156" h="1650">
                  <a:moveTo>
                    <a:pt x="1138" y="1650"/>
                  </a:moveTo>
                  <a:lnTo>
                    <a:pt x="0" y="59"/>
                  </a:lnTo>
                  <a:lnTo>
                    <a:pt x="0" y="0"/>
                  </a:lnTo>
                  <a:lnTo>
                    <a:pt x="1156" y="1634"/>
                  </a:lnTo>
                  <a:lnTo>
                    <a:pt x="1138" y="1650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5947920" y="1398600"/>
              <a:ext cx="576360" cy="821160"/>
            </a:xfrm>
            <a:custGeom>
              <a:avLst/>
              <a:gdLst/>
              <a:ahLst/>
              <a:rect l="l" t="t" r="r" b="b"/>
              <a:pathLst>
                <a:path w="1156" h="1650">
                  <a:moveTo>
                    <a:pt x="1138" y="1650"/>
                  </a:moveTo>
                  <a:lnTo>
                    <a:pt x="0" y="59"/>
                  </a:lnTo>
                  <a:lnTo>
                    <a:pt x="0" y="0"/>
                  </a:lnTo>
                  <a:lnTo>
                    <a:pt x="1156" y="1634"/>
                  </a:lnTo>
                  <a:lnTo>
                    <a:pt x="1138" y="165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5961960" y="1342440"/>
              <a:ext cx="600480" cy="839160"/>
            </a:xfrm>
            <a:custGeom>
              <a:avLst/>
              <a:gdLst/>
              <a:ahLst/>
              <a:rect l="l" t="t" r="r" b="b"/>
              <a:pathLst>
                <a:path w="1204" h="1687">
                  <a:moveTo>
                    <a:pt x="1194" y="1659"/>
                  </a:moveTo>
                  <a:lnTo>
                    <a:pt x="1154" y="1687"/>
                  </a:lnTo>
                  <a:lnTo>
                    <a:pt x="0" y="35"/>
                  </a:lnTo>
                  <a:lnTo>
                    <a:pt x="48" y="0"/>
                  </a:lnTo>
                  <a:lnTo>
                    <a:pt x="1204" y="1635"/>
                  </a:lnTo>
                  <a:lnTo>
                    <a:pt x="1194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5961960" y="1342440"/>
              <a:ext cx="600480" cy="839160"/>
            </a:xfrm>
            <a:custGeom>
              <a:avLst/>
              <a:gdLst/>
              <a:ahLst/>
              <a:rect l="l" t="t" r="r" b="b"/>
              <a:pathLst>
                <a:path w="1204" h="1687">
                  <a:moveTo>
                    <a:pt x="1194" y="1659"/>
                  </a:moveTo>
                  <a:lnTo>
                    <a:pt x="1154" y="1687"/>
                  </a:lnTo>
                  <a:lnTo>
                    <a:pt x="0" y="35"/>
                  </a:lnTo>
                  <a:lnTo>
                    <a:pt x="48" y="0"/>
                  </a:lnTo>
                  <a:lnTo>
                    <a:pt x="1204" y="1635"/>
                  </a:lnTo>
                  <a:lnTo>
                    <a:pt x="1194" y="165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6119280" y="1261080"/>
              <a:ext cx="594720" cy="834840"/>
            </a:xfrm>
            <a:custGeom>
              <a:avLst/>
              <a:gdLst/>
              <a:ahLst/>
              <a:rect l="l" t="t" r="r" b="b"/>
              <a:pathLst>
                <a:path w="1194" h="1673">
                  <a:moveTo>
                    <a:pt x="1184" y="1659"/>
                  </a:moveTo>
                  <a:lnTo>
                    <a:pt x="1153" y="1673"/>
                  </a:lnTo>
                  <a:lnTo>
                    <a:pt x="0" y="21"/>
                  </a:lnTo>
                  <a:lnTo>
                    <a:pt x="40" y="0"/>
                  </a:lnTo>
                  <a:lnTo>
                    <a:pt x="1194" y="1633"/>
                  </a:lnTo>
                  <a:lnTo>
                    <a:pt x="1184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6119280" y="1261080"/>
              <a:ext cx="594720" cy="834840"/>
            </a:xfrm>
            <a:custGeom>
              <a:avLst/>
              <a:gdLst/>
              <a:ahLst/>
              <a:rect l="l" t="t" r="r" b="b"/>
              <a:pathLst>
                <a:path w="1194" h="1673">
                  <a:moveTo>
                    <a:pt x="1184" y="1659"/>
                  </a:moveTo>
                  <a:lnTo>
                    <a:pt x="1153" y="1673"/>
                  </a:lnTo>
                  <a:lnTo>
                    <a:pt x="0" y="21"/>
                  </a:lnTo>
                  <a:lnTo>
                    <a:pt x="40" y="0"/>
                  </a:lnTo>
                  <a:lnTo>
                    <a:pt x="1194" y="1633"/>
                  </a:lnTo>
                  <a:lnTo>
                    <a:pt x="1184" y="165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5943960" y="1239120"/>
              <a:ext cx="325440" cy="362880"/>
            </a:xfrm>
            <a:custGeom>
              <a:avLst/>
              <a:gdLst/>
              <a:ahLst/>
              <a:rect l="l" t="t" r="r" b="b"/>
              <a:pathLst>
                <a:path w="654" h="729">
                  <a:moveTo>
                    <a:pt x="654" y="348"/>
                  </a:moveTo>
                  <a:lnTo>
                    <a:pt x="648" y="343"/>
                  </a:lnTo>
                  <a:lnTo>
                    <a:pt x="632" y="335"/>
                  </a:lnTo>
                  <a:lnTo>
                    <a:pt x="620" y="330"/>
                  </a:lnTo>
                  <a:lnTo>
                    <a:pt x="605" y="326"/>
                  </a:lnTo>
                  <a:lnTo>
                    <a:pt x="587" y="323"/>
                  </a:lnTo>
                  <a:lnTo>
                    <a:pt x="569" y="321"/>
                  </a:lnTo>
                  <a:lnTo>
                    <a:pt x="558" y="319"/>
                  </a:lnTo>
                  <a:lnTo>
                    <a:pt x="546" y="321"/>
                  </a:lnTo>
                  <a:lnTo>
                    <a:pt x="536" y="321"/>
                  </a:lnTo>
                  <a:lnTo>
                    <a:pt x="523" y="323"/>
                  </a:lnTo>
                  <a:lnTo>
                    <a:pt x="511" y="325"/>
                  </a:lnTo>
                  <a:lnTo>
                    <a:pt x="497" y="328"/>
                  </a:lnTo>
                  <a:lnTo>
                    <a:pt x="484" y="331"/>
                  </a:lnTo>
                  <a:lnTo>
                    <a:pt x="470" y="337"/>
                  </a:lnTo>
                  <a:lnTo>
                    <a:pt x="455" y="342"/>
                  </a:lnTo>
                  <a:lnTo>
                    <a:pt x="439" y="349"/>
                  </a:lnTo>
                  <a:lnTo>
                    <a:pt x="423" y="357"/>
                  </a:lnTo>
                  <a:lnTo>
                    <a:pt x="408" y="366"/>
                  </a:lnTo>
                  <a:lnTo>
                    <a:pt x="391" y="377"/>
                  </a:lnTo>
                  <a:lnTo>
                    <a:pt x="375" y="389"/>
                  </a:lnTo>
                  <a:lnTo>
                    <a:pt x="357" y="402"/>
                  </a:lnTo>
                  <a:lnTo>
                    <a:pt x="339" y="417"/>
                  </a:lnTo>
                  <a:lnTo>
                    <a:pt x="323" y="431"/>
                  </a:lnTo>
                  <a:lnTo>
                    <a:pt x="309" y="445"/>
                  </a:lnTo>
                  <a:lnTo>
                    <a:pt x="296" y="459"/>
                  </a:lnTo>
                  <a:lnTo>
                    <a:pt x="284" y="474"/>
                  </a:lnTo>
                  <a:lnTo>
                    <a:pt x="273" y="488"/>
                  </a:lnTo>
                  <a:lnTo>
                    <a:pt x="263" y="502"/>
                  </a:lnTo>
                  <a:lnTo>
                    <a:pt x="255" y="516"/>
                  </a:lnTo>
                  <a:lnTo>
                    <a:pt x="248" y="529"/>
                  </a:lnTo>
                  <a:lnTo>
                    <a:pt x="242" y="543"/>
                  </a:lnTo>
                  <a:lnTo>
                    <a:pt x="236" y="556"/>
                  </a:lnTo>
                  <a:lnTo>
                    <a:pt x="232" y="569"/>
                  </a:lnTo>
                  <a:lnTo>
                    <a:pt x="229" y="582"/>
                  </a:lnTo>
                  <a:lnTo>
                    <a:pt x="226" y="595"/>
                  </a:lnTo>
                  <a:lnTo>
                    <a:pt x="223" y="607"/>
                  </a:lnTo>
                  <a:lnTo>
                    <a:pt x="222" y="619"/>
                  </a:lnTo>
                  <a:lnTo>
                    <a:pt x="221" y="629"/>
                  </a:lnTo>
                  <a:lnTo>
                    <a:pt x="221" y="651"/>
                  </a:lnTo>
                  <a:lnTo>
                    <a:pt x="222" y="669"/>
                  </a:lnTo>
                  <a:lnTo>
                    <a:pt x="226" y="687"/>
                  </a:lnTo>
                  <a:lnTo>
                    <a:pt x="228" y="701"/>
                  </a:lnTo>
                  <a:lnTo>
                    <a:pt x="234" y="721"/>
                  </a:lnTo>
                  <a:lnTo>
                    <a:pt x="237" y="729"/>
                  </a:lnTo>
                  <a:lnTo>
                    <a:pt x="209" y="686"/>
                  </a:lnTo>
                  <a:lnTo>
                    <a:pt x="16" y="409"/>
                  </a:lnTo>
                  <a:lnTo>
                    <a:pt x="13" y="402"/>
                  </a:lnTo>
                  <a:lnTo>
                    <a:pt x="6" y="382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1"/>
                  </a:lnTo>
                  <a:lnTo>
                    <a:pt x="0" y="310"/>
                  </a:lnTo>
                  <a:lnTo>
                    <a:pt x="0" y="299"/>
                  </a:lnTo>
                  <a:lnTo>
                    <a:pt x="2" y="287"/>
                  </a:lnTo>
                  <a:lnTo>
                    <a:pt x="4" y="275"/>
                  </a:lnTo>
                  <a:lnTo>
                    <a:pt x="6" y="262"/>
                  </a:lnTo>
                  <a:lnTo>
                    <a:pt x="9" y="249"/>
                  </a:lnTo>
                  <a:lnTo>
                    <a:pt x="14" y="236"/>
                  </a:lnTo>
                  <a:lnTo>
                    <a:pt x="19" y="223"/>
                  </a:lnTo>
                  <a:lnTo>
                    <a:pt x="26" y="209"/>
                  </a:lnTo>
                  <a:lnTo>
                    <a:pt x="33" y="196"/>
                  </a:lnTo>
                  <a:lnTo>
                    <a:pt x="41" y="182"/>
                  </a:lnTo>
                  <a:lnTo>
                    <a:pt x="50" y="168"/>
                  </a:lnTo>
                  <a:lnTo>
                    <a:pt x="61" y="154"/>
                  </a:lnTo>
                  <a:lnTo>
                    <a:pt x="72" y="140"/>
                  </a:lnTo>
                  <a:lnTo>
                    <a:pt x="85" y="125"/>
                  </a:lnTo>
                  <a:lnTo>
                    <a:pt x="100" y="111"/>
                  </a:lnTo>
                  <a:lnTo>
                    <a:pt x="115" y="97"/>
                  </a:lnTo>
                  <a:lnTo>
                    <a:pt x="134" y="83"/>
                  </a:lnTo>
                  <a:lnTo>
                    <a:pt x="151" y="69"/>
                  </a:lnTo>
                  <a:lnTo>
                    <a:pt x="168" y="57"/>
                  </a:lnTo>
                  <a:lnTo>
                    <a:pt x="184" y="47"/>
                  </a:lnTo>
                  <a:lnTo>
                    <a:pt x="201" y="38"/>
                  </a:lnTo>
                  <a:lnTo>
                    <a:pt x="216" y="30"/>
                  </a:lnTo>
                  <a:lnTo>
                    <a:pt x="232" y="22"/>
                  </a:lnTo>
                  <a:lnTo>
                    <a:pt x="246" y="17"/>
                  </a:lnTo>
                  <a:lnTo>
                    <a:pt x="260" y="12"/>
                  </a:lnTo>
                  <a:lnTo>
                    <a:pt x="274" y="8"/>
                  </a:lnTo>
                  <a:lnTo>
                    <a:pt x="287" y="5"/>
                  </a:lnTo>
                  <a:lnTo>
                    <a:pt x="300" y="3"/>
                  </a:lnTo>
                  <a:lnTo>
                    <a:pt x="313" y="1"/>
                  </a:lnTo>
                  <a:lnTo>
                    <a:pt x="324" y="1"/>
                  </a:lnTo>
                  <a:lnTo>
                    <a:pt x="336" y="0"/>
                  </a:lnTo>
                  <a:lnTo>
                    <a:pt x="347" y="1"/>
                  </a:lnTo>
                  <a:lnTo>
                    <a:pt x="366" y="2"/>
                  </a:lnTo>
                  <a:lnTo>
                    <a:pt x="383" y="5"/>
                  </a:lnTo>
                  <a:lnTo>
                    <a:pt x="397" y="10"/>
                  </a:lnTo>
                  <a:lnTo>
                    <a:pt x="410" y="15"/>
                  </a:lnTo>
                  <a:lnTo>
                    <a:pt x="426" y="22"/>
                  </a:lnTo>
                  <a:lnTo>
                    <a:pt x="432" y="27"/>
                  </a:lnTo>
                  <a:lnTo>
                    <a:pt x="638" y="317"/>
                  </a:lnTo>
                  <a:lnTo>
                    <a:pt x="654" y="348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6289200" y="2012400"/>
              <a:ext cx="1223280" cy="587880"/>
            </a:xfrm>
            <a:custGeom>
              <a:avLst/>
              <a:gdLst/>
              <a:ahLst/>
              <a:rect l="l" t="t" r="r" b="b"/>
              <a:pathLst>
                <a:path w="2453" h="1181">
                  <a:moveTo>
                    <a:pt x="2399" y="473"/>
                  </a:moveTo>
                  <a:lnTo>
                    <a:pt x="2141" y="273"/>
                  </a:lnTo>
                  <a:lnTo>
                    <a:pt x="1470" y="5"/>
                  </a:lnTo>
                  <a:lnTo>
                    <a:pt x="1463" y="0"/>
                  </a:lnTo>
                  <a:lnTo>
                    <a:pt x="1465" y="1"/>
                  </a:lnTo>
                  <a:lnTo>
                    <a:pt x="637" y="174"/>
                  </a:lnTo>
                  <a:lnTo>
                    <a:pt x="0" y="885"/>
                  </a:lnTo>
                  <a:lnTo>
                    <a:pt x="13" y="1088"/>
                  </a:lnTo>
                  <a:lnTo>
                    <a:pt x="1255" y="1181"/>
                  </a:lnTo>
                  <a:lnTo>
                    <a:pt x="1645" y="1176"/>
                  </a:lnTo>
                  <a:lnTo>
                    <a:pt x="2440" y="987"/>
                  </a:lnTo>
                  <a:lnTo>
                    <a:pt x="2453" y="987"/>
                  </a:lnTo>
                  <a:lnTo>
                    <a:pt x="2411" y="486"/>
                  </a:lnTo>
                  <a:lnTo>
                    <a:pt x="2399" y="47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6909840" y="2299320"/>
              <a:ext cx="195840" cy="300960"/>
            </a:xfrm>
            <a:custGeom>
              <a:avLst/>
              <a:gdLst/>
              <a:ahLst/>
              <a:rect l="l" t="t" r="r" b="b"/>
              <a:pathLst>
                <a:path w="391" h="603">
                  <a:moveTo>
                    <a:pt x="53" y="599"/>
                  </a:moveTo>
                  <a:lnTo>
                    <a:pt x="0" y="0"/>
                  </a:lnTo>
                  <a:lnTo>
                    <a:pt x="6" y="1"/>
                  </a:lnTo>
                  <a:lnTo>
                    <a:pt x="346" y="115"/>
                  </a:lnTo>
                  <a:lnTo>
                    <a:pt x="391" y="599"/>
                  </a:lnTo>
                  <a:lnTo>
                    <a:pt x="375" y="599"/>
                  </a:lnTo>
                  <a:lnTo>
                    <a:pt x="55" y="603"/>
                  </a:lnTo>
                  <a:lnTo>
                    <a:pt x="53" y="599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6612480" y="2012400"/>
              <a:ext cx="882360" cy="344880"/>
            </a:xfrm>
            <a:custGeom>
              <a:avLst/>
              <a:gdLst/>
              <a:ahLst/>
              <a:rect l="l" t="t" r="r" b="b"/>
              <a:pathLst>
                <a:path w="1766" h="693">
                  <a:moveTo>
                    <a:pt x="0" y="170"/>
                  </a:moveTo>
                  <a:lnTo>
                    <a:pt x="818" y="1"/>
                  </a:lnTo>
                  <a:lnTo>
                    <a:pt x="814" y="0"/>
                  </a:lnTo>
                  <a:lnTo>
                    <a:pt x="821" y="6"/>
                  </a:lnTo>
                  <a:lnTo>
                    <a:pt x="1492" y="275"/>
                  </a:lnTo>
                  <a:lnTo>
                    <a:pt x="1752" y="473"/>
                  </a:lnTo>
                  <a:lnTo>
                    <a:pt x="1763" y="486"/>
                  </a:lnTo>
                  <a:lnTo>
                    <a:pt x="1766" y="510"/>
                  </a:lnTo>
                  <a:lnTo>
                    <a:pt x="968" y="684"/>
                  </a:lnTo>
                  <a:lnTo>
                    <a:pt x="940" y="693"/>
                  </a:lnTo>
                  <a:lnTo>
                    <a:pt x="600" y="579"/>
                  </a:lnTo>
                  <a:lnTo>
                    <a:pt x="4" y="171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7081920" y="2265480"/>
              <a:ext cx="430920" cy="333000"/>
            </a:xfrm>
            <a:custGeom>
              <a:avLst/>
              <a:gdLst/>
              <a:ahLst/>
              <a:rect l="l" t="t" r="r" b="b"/>
              <a:pathLst>
                <a:path w="864" h="667">
                  <a:moveTo>
                    <a:pt x="56" y="666"/>
                  </a:moveTo>
                  <a:lnTo>
                    <a:pt x="851" y="477"/>
                  </a:lnTo>
                  <a:lnTo>
                    <a:pt x="864" y="477"/>
                  </a:lnTo>
                  <a:lnTo>
                    <a:pt x="826" y="12"/>
                  </a:lnTo>
                  <a:lnTo>
                    <a:pt x="826" y="0"/>
                  </a:lnTo>
                  <a:lnTo>
                    <a:pt x="28" y="173"/>
                  </a:lnTo>
                  <a:lnTo>
                    <a:pt x="0" y="183"/>
                  </a:lnTo>
                  <a:lnTo>
                    <a:pt x="45" y="667"/>
                  </a:lnTo>
                  <a:lnTo>
                    <a:pt x="56" y="666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6614640" y="2098440"/>
              <a:ext cx="491040" cy="500040"/>
            </a:xfrm>
            <a:custGeom>
              <a:avLst/>
              <a:gdLst/>
              <a:ahLst/>
              <a:rect l="l" t="t" r="r" b="b"/>
              <a:pathLst>
                <a:path w="981" h="1006">
                  <a:moveTo>
                    <a:pt x="981" y="1006"/>
                  </a:moveTo>
                  <a:lnTo>
                    <a:pt x="936" y="522"/>
                  </a:lnTo>
                  <a:lnTo>
                    <a:pt x="596" y="40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6291000" y="2012400"/>
              <a:ext cx="1221480" cy="587880"/>
            </a:xfrm>
            <a:custGeom>
              <a:avLst/>
              <a:gdLst/>
              <a:ahLst/>
              <a:rect l="l" t="t" r="r" b="b"/>
              <a:pathLst>
                <a:path w="2450" h="1181">
                  <a:moveTo>
                    <a:pt x="2398" y="473"/>
                  </a:moveTo>
                  <a:lnTo>
                    <a:pt x="2138" y="275"/>
                  </a:lnTo>
                  <a:lnTo>
                    <a:pt x="1467" y="6"/>
                  </a:lnTo>
                  <a:lnTo>
                    <a:pt x="1460" y="0"/>
                  </a:lnTo>
                  <a:lnTo>
                    <a:pt x="1464" y="1"/>
                  </a:lnTo>
                  <a:lnTo>
                    <a:pt x="635" y="174"/>
                  </a:lnTo>
                  <a:lnTo>
                    <a:pt x="0" y="885"/>
                  </a:lnTo>
                  <a:lnTo>
                    <a:pt x="10" y="1089"/>
                  </a:lnTo>
                  <a:lnTo>
                    <a:pt x="1254" y="1181"/>
                  </a:lnTo>
                  <a:lnTo>
                    <a:pt x="1642" y="1177"/>
                  </a:lnTo>
                  <a:lnTo>
                    <a:pt x="2437" y="987"/>
                  </a:lnTo>
                  <a:lnTo>
                    <a:pt x="2450" y="987"/>
                  </a:lnTo>
                  <a:lnTo>
                    <a:pt x="2409" y="486"/>
                  </a:lnTo>
                  <a:lnTo>
                    <a:pt x="2398" y="473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6019920" y="1276920"/>
              <a:ext cx="19800" cy="154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9"/>
                  </a:moveTo>
                  <a:lnTo>
                    <a:pt x="36" y="5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5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6023880" y="1281240"/>
              <a:ext cx="113400" cy="138960"/>
            </a:xfrm>
            <a:custGeom>
              <a:avLst/>
              <a:gdLst/>
              <a:ahLst/>
              <a:rect l="l" t="t" r="r" b="b"/>
              <a:pathLst>
                <a:path w="230" h="283">
                  <a:moveTo>
                    <a:pt x="230" y="257"/>
                  </a:moveTo>
                  <a:lnTo>
                    <a:pt x="33" y="0"/>
                  </a:lnTo>
                  <a:lnTo>
                    <a:pt x="0" y="26"/>
                  </a:lnTo>
                  <a:lnTo>
                    <a:pt x="196" y="283"/>
                  </a:lnTo>
                  <a:lnTo>
                    <a:pt x="230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6121800" y="1408680"/>
              <a:ext cx="19800" cy="1800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26"/>
                  </a:moveTo>
                  <a:lnTo>
                    <a:pt x="4" y="29"/>
                  </a:lnTo>
                  <a:lnTo>
                    <a:pt x="7" y="32"/>
                  </a:lnTo>
                  <a:lnTo>
                    <a:pt x="11" y="33"/>
                  </a:lnTo>
                  <a:lnTo>
                    <a:pt x="15" y="35"/>
                  </a:lnTo>
                  <a:lnTo>
                    <a:pt x="19" y="35"/>
                  </a:lnTo>
                  <a:lnTo>
                    <a:pt x="23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33" y="27"/>
                  </a:lnTo>
                  <a:lnTo>
                    <a:pt x="36" y="24"/>
                  </a:lnTo>
                  <a:lnTo>
                    <a:pt x="37" y="21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38" y="9"/>
                  </a:lnTo>
                  <a:lnTo>
                    <a:pt x="37" y="4"/>
                  </a:lnTo>
                  <a:lnTo>
                    <a:pt x="34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6061680" y="1262880"/>
              <a:ext cx="13680" cy="118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6"/>
                  </a:moveTo>
                  <a:lnTo>
                    <a:pt x="24" y="4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6063840" y="1265400"/>
              <a:ext cx="107640" cy="137160"/>
            </a:xfrm>
            <a:custGeom>
              <a:avLst/>
              <a:gdLst/>
              <a:ahLst/>
              <a:rect l="l" t="t" r="r" b="b"/>
              <a:pathLst>
                <a:path w="217" h="276">
                  <a:moveTo>
                    <a:pt x="217" y="259"/>
                  </a:moveTo>
                  <a:lnTo>
                    <a:pt x="22" y="0"/>
                  </a:lnTo>
                  <a:lnTo>
                    <a:pt x="0" y="17"/>
                  </a:lnTo>
                  <a:lnTo>
                    <a:pt x="194" y="276"/>
                  </a:lnTo>
                  <a:lnTo>
                    <a:pt x="217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6161400" y="1394640"/>
              <a:ext cx="11520" cy="118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17"/>
                  </a:moveTo>
                  <a:lnTo>
                    <a:pt x="2" y="19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5" y="23"/>
                  </a:lnTo>
                  <a:lnTo>
                    <a:pt x="21" y="19"/>
                  </a:lnTo>
                  <a:lnTo>
                    <a:pt x="24" y="16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6107760" y="1390320"/>
              <a:ext cx="167400" cy="6192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20" y="122"/>
                  </a:moveTo>
                  <a:lnTo>
                    <a:pt x="20" y="122"/>
                  </a:lnTo>
                  <a:lnTo>
                    <a:pt x="37" y="107"/>
                  </a:lnTo>
                  <a:lnTo>
                    <a:pt x="53" y="95"/>
                  </a:lnTo>
                  <a:lnTo>
                    <a:pt x="70" y="84"/>
                  </a:lnTo>
                  <a:lnTo>
                    <a:pt x="86" y="74"/>
                  </a:lnTo>
                  <a:lnTo>
                    <a:pt x="102" y="64"/>
                  </a:lnTo>
                  <a:lnTo>
                    <a:pt x="117" y="57"/>
                  </a:lnTo>
                  <a:lnTo>
                    <a:pt x="131" y="50"/>
                  </a:lnTo>
                  <a:lnTo>
                    <a:pt x="145" y="45"/>
                  </a:lnTo>
                  <a:lnTo>
                    <a:pt x="159" y="40"/>
                  </a:lnTo>
                  <a:lnTo>
                    <a:pt x="172" y="36"/>
                  </a:lnTo>
                  <a:lnTo>
                    <a:pt x="184" y="34"/>
                  </a:lnTo>
                  <a:lnTo>
                    <a:pt x="196" y="32"/>
                  </a:lnTo>
                  <a:lnTo>
                    <a:pt x="208" y="30"/>
                  </a:lnTo>
                  <a:lnTo>
                    <a:pt x="219" y="30"/>
                  </a:lnTo>
                  <a:lnTo>
                    <a:pt x="229" y="30"/>
                  </a:lnTo>
                  <a:lnTo>
                    <a:pt x="238" y="30"/>
                  </a:lnTo>
                  <a:lnTo>
                    <a:pt x="256" y="32"/>
                  </a:lnTo>
                  <a:lnTo>
                    <a:pt x="273" y="35"/>
                  </a:lnTo>
                  <a:lnTo>
                    <a:pt x="287" y="38"/>
                  </a:lnTo>
                  <a:lnTo>
                    <a:pt x="297" y="43"/>
                  </a:lnTo>
                  <a:lnTo>
                    <a:pt x="313" y="51"/>
                  </a:lnTo>
                  <a:lnTo>
                    <a:pt x="317" y="53"/>
                  </a:lnTo>
                  <a:lnTo>
                    <a:pt x="334" y="31"/>
                  </a:lnTo>
                  <a:lnTo>
                    <a:pt x="327" y="25"/>
                  </a:lnTo>
                  <a:lnTo>
                    <a:pt x="309" y="17"/>
                  </a:lnTo>
                  <a:lnTo>
                    <a:pt x="295" y="11"/>
                  </a:lnTo>
                  <a:lnTo>
                    <a:pt x="279" y="7"/>
                  </a:lnTo>
                  <a:lnTo>
                    <a:pt x="261" y="3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7" y="0"/>
                  </a:lnTo>
                  <a:lnTo>
                    <a:pt x="204" y="2"/>
                  </a:lnTo>
                  <a:lnTo>
                    <a:pt x="193" y="4"/>
                  </a:lnTo>
                  <a:lnTo>
                    <a:pt x="179" y="6"/>
                  </a:lnTo>
                  <a:lnTo>
                    <a:pt x="164" y="9"/>
                  </a:lnTo>
                  <a:lnTo>
                    <a:pt x="150" y="12"/>
                  </a:lnTo>
                  <a:lnTo>
                    <a:pt x="135" y="18"/>
                  </a:lnTo>
                  <a:lnTo>
                    <a:pt x="120" y="24"/>
                  </a:lnTo>
                  <a:lnTo>
                    <a:pt x="104" y="31"/>
                  </a:lnTo>
                  <a:lnTo>
                    <a:pt x="88" y="39"/>
                  </a:lnTo>
                  <a:lnTo>
                    <a:pt x="72" y="49"/>
                  </a:lnTo>
                  <a:lnTo>
                    <a:pt x="54" y="60"/>
                  </a:lnTo>
                  <a:lnTo>
                    <a:pt x="37" y="72"/>
                  </a:lnTo>
                  <a:lnTo>
                    <a:pt x="19" y="8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20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6047640" y="1440720"/>
              <a:ext cx="69840" cy="225000"/>
            </a:xfrm>
            <a:custGeom>
              <a:avLst/>
              <a:gdLst/>
              <a:ahLst/>
              <a:rect l="l" t="t" r="r" b="b"/>
              <a:pathLst>
                <a:path w="142" h="449">
                  <a:moveTo>
                    <a:pt x="19" y="330"/>
                  </a:moveTo>
                  <a:lnTo>
                    <a:pt x="43" y="316"/>
                  </a:lnTo>
                  <a:lnTo>
                    <a:pt x="41" y="311"/>
                  </a:lnTo>
                  <a:lnTo>
                    <a:pt x="35" y="291"/>
                  </a:lnTo>
                  <a:lnTo>
                    <a:pt x="33" y="279"/>
                  </a:lnTo>
                  <a:lnTo>
                    <a:pt x="29" y="262"/>
                  </a:lnTo>
                  <a:lnTo>
                    <a:pt x="28" y="244"/>
                  </a:lnTo>
                  <a:lnTo>
                    <a:pt x="28" y="223"/>
                  </a:lnTo>
                  <a:lnTo>
                    <a:pt x="29" y="214"/>
                  </a:lnTo>
                  <a:lnTo>
                    <a:pt x="30" y="203"/>
                  </a:lnTo>
                  <a:lnTo>
                    <a:pt x="33" y="191"/>
                  </a:lnTo>
                  <a:lnTo>
                    <a:pt x="36" y="179"/>
                  </a:lnTo>
                  <a:lnTo>
                    <a:pt x="39" y="167"/>
                  </a:lnTo>
                  <a:lnTo>
                    <a:pt x="43" y="155"/>
                  </a:lnTo>
                  <a:lnTo>
                    <a:pt x="48" y="142"/>
                  </a:lnTo>
                  <a:lnTo>
                    <a:pt x="54" y="129"/>
                  </a:lnTo>
                  <a:lnTo>
                    <a:pt x="61" y="117"/>
                  </a:lnTo>
                  <a:lnTo>
                    <a:pt x="68" y="104"/>
                  </a:lnTo>
                  <a:lnTo>
                    <a:pt x="78" y="90"/>
                  </a:lnTo>
                  <a:lnTo>
                    <a:pt x="88" y="77"/>
                  </a:lnTo>
                  <a:lnTo>
                    <a:pt x="100" y="63"/>
                  </a:lnTo>
                  <a:lnTo>
                    <a:pt x="111" y="48"/>
                  </a:lnTo>
                  <a:lnTo>
                    <a:pt x="125" y="34"/>
                  </a:lnTo>
                  <a:lnTo>
                    <a:pt x="142" y="21"/>
                  </a:lnTo>
                  <a:lnTo>
                    <a:pt x="122" y="0"/>
                  </a:lnTo>
                  <a:lnTo>
                    <a:pt x="106" y="14"/>
                  </a:lnTo>
                  <a:lnTo>
                    <a:pt x="91" y="29"/>
                  </a:lnTo>
                  <a:lnTo>
                    <a:pt x="78" y="44"/>
                  </a:lnTo>
                  <a:lnTo>
                    <a:pt x="65" y="58"/>
                  </a:lnTo>
                  <a:lnTo>
                    <a:pt x="54" y="73"/>
                  </a:lnTo>
                  <a:lnTo>
                    <a:pt x="44" y="88"/>
                  </a:lnTo>
                  <a:lnTo>
                    <a:pt x="36" y="102"/>
                  </a:lnTo>
                  <a:lnTo>
                    <a:pt x="28" y="117"/>
                  </a:lnTo>
                  <a:lnTo>
                    <a:pt x="22" y="132"/>
                  </a:lnTo>
                  <a:lnTo>
                    <a:pt x="16" y="146"/>
                  </a:lnTo>
                  <a:lnTo>
                    <a:pt x="11" y="159"/>
                  </a:lnTo>
                  <a:lnTo>
                    <a:pt x="8" y="173"/>
                  </a:lnTo>
                  <a:lnTo>
                    <a:pt x="4" y="186"/>
                  </a:lnTo>
                  <a:lnTo>
                    <a:pt x="2" y="199"/>
                  </a:lnTo>
                  <a:lnTo>
                    <a:pt x="1" y="210"/>
                  </a:lnTo>
                  <a:lnTo>
                    <a:pt x="0" y="223"/>
                  </a:lnTo>
                  <a:lnTo>
                    <a:pt x="0" y="245"/>
                  </a:lnTo>
                  <a:lnTo>
                    <a:pt x="1" y="266"/>
                  </a:lnTo>
                  <a:lnTo>
                    <a:pt x="3" y="283"/>
                  </a:lnTo>
                  <a:lnTo>
                    <a:pt x="8" y="299"/>
                  </a:lnTo>
                  <a:lnTo>
                    <a:pt x="14" y="320"/>
                  </a:lnTo>
                  <a:lnTo>
                    <a:pt x="17" y="328"/>
                  </a:lnTo>
                  <a:lnTo>
                    <a:pt x="42" y="314"/>
                  </a:lnTo>
                  <a:lnTo>
                    <a:pt x="19" y="330"/>
                  </a:lnTo>
                  <a:lnTo>
                    <a:pt x="97" y="449"/>
                  </a:lnTo>
                  <a:lnTo>
                    <a:pt x="43" y="316"/>
                  </a:lnTo>
                  <a:lnTo>
                    <a:pt x="19" y="3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6041520" y="1577880"/>
              <a:ext cx="25920" cy="2772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24" y="0"/>
                  </a:moveTo>
                  <a:lnTo>
                    <a:pt x="0" y="16"/>
                  </a:lnTo>
                  <a:lnTo>
                    <a:pt x="29" y="58"/>
                  </a:lnTo>
                  <a:lnTo>
                    <a:pt x="52" y="4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5943960" y="1438200"/>
              <a:ext cx="109800" cy="147240"/>
            </a:xfrm>
            <a:custGeom>
              <a:avLst/>
              <a:gdLst/>
              <a:ahLst/>
              <a:rect l="l" t="t" r="r" b="b"/>
              <a:pathLst>
                <a:path w="218" h="294">
                  <a:moveTo>
                    <a:pt x="0" y="16"/>
                  </a:moveTo>
                  <a:lnTo>
                    <a:pt x="1" y="18"/>
                  </a:lnTo>
                  <a:lnTo>
                    <a:pt x="194" y="294"/>
                  </a:lnTo>
                  <a:lnTo>
                    <a:pt x="218" y="278"/>
                  </a:lnTo>
                  <a:lnTo>
                    <a:pt x="24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5936040" y="1283040"/>
              <a:ext cx="69480" cy="163440"/>
            </a:xfrm>
            <a:custGeom>
              <a:avLst/>
              <a:gdLst/>
              <a:ahLst/>
              <a:rect l="l" t="t" r="r" b="b"/>
              <a:pathLst>
                <a:path w="140" h="330">
                  <a:moveTo>
                    <a:pt x="122" y="0"/>
                  </a:moveTo>
                  <a:lnTo>
                    <a:pt x="122" y="0"/>
                  </a:lnTo>
                  <a:lnTo>
                    <a:pt x="105" y="15"/>
                  </a:lnTo>
                  <a:lnTo>
                    <a:pt x="90" y="29"/>
                  </a:lnTo>
                  <a:lnTo>
                    <a:pt x="76" y="44"/>
                  </a:lnTo>
                  <a:lnTo>
                    <a:pt x="64" y="59"/>
                  </a:lnTo>
                  <a:lnTo>
                    <a:pt x="54" y="74"/>
                  </a:lnTo>
                  <a:lnTo>
                    <a:pt x="44" y="89"/>
                  </a:lnTo>
                  <a:lnTo>
                    <a:pt x="35" y="103"/>
                  </a:lnTo>
                  <a:lnTo>
                    <a:pt x="28" y="117"/>
                  </a:lnTo>
                  <a:lnTo>
                    <a:pt x="21" y="132"/>
                  </a:lnTo>
                  <a:lnTo>
                    <a:pt x="16" y="146"/>
                  </a:lnTo>
                  <a:lnTo>
                    <a:pt x="11" y="159"/>
                  </a:lnTo>
                  <a:lnTo>
                    <a:pt x="7" y="173"/>
                  </a:lnTo>
                  <a:lnTo>
                    <a:pt x="5" y="186"/>
                  </a:lnTo>
                  <a:lnTo>
                    <a:pt x="3" y="199"/>
                  </a:lnTo>
                  <a:lnTo>
                    <a:pt x="1" y="211"/>
                  </a:lnTo>
                  <a:lnTo>
                    <a:pt x="1" y="224"/>
                  </a:lnTo>
                  <a:lnTo>
                    <a:pt x="0" y="245"/>
                  </a:lnTo>
                  <a:lnTo>
                    <a:pt x="2" y="266"/>
                  </a:lnTo>
                  <a:lnTo>
                    <a:pt x="4" y="284"/>
                  </a:lnTo>
                  <a:lnTo>
                    <a:pt x="7" y="299"/>
                  </a:lnTo>
                  <a:lnTo>
                    <a:pt x="14" y="321"/>
                  </a:lnTo>
                  <a:lnTo>
                    <a:pt x="18" y="330"/>
                  </a:lnTo>
                  <a:lnTo>
                    <a:pt x="44" y="317"/>
                  </a:lnTo>
                  <a:lnTo>
                    <a:pt x="41" y="311"/>
                  </a:lnTo>
                  <a:lnTo>
                    <a:pt x="35" y="292"/>
                  </a:lnTo>
                  <a:lnTo>
                    <a:pt x="32" y="279"/>
                  </a:lnTo>
                  <a:lnTo>
                    <a:pt x="30" y="263"/>
                  </a:lnTo>
                  <a:lnTo>
                    <a:pt x="29" y="244"/>
                  </a:lnTo>
                  <a:lnTo>
                    <a:pt x="29" y="224"/>
                  </a:lnTo>
                  <a:lnTo>
                    <a:pt x="30" y="214"/>
                  </a:lnTo>
                  <a:lnTo>
                    <a:pt x="31" y="203"/>
                  </a:lnTo>
                  <a:lnTo>
                    <a:pt x="33" y="191"/>
                  </a:lnTo>
                  <a:lnTo>
                    <a:pt x="35" y="179"/>
                  </a:lnTo>
                  <a:lnTo>
                    <a:pt x="38" y="168"/>
                  </a:lnTo>
                  <a:lnTo>
                    <a:pt x="43" y="156"/>
                  </a:lnTo>
                  <a:lnTo>
                    <a:pt x="48" y="143"/>
                  </a:lnTo>
                  <a:lnTo>
                    <a:pt x="54" y="130"/>
                  </a:lnTo>
                  <a:lnTo>
                    <a:pt x="60" y="117"/>
                  </a:lnTo>
                  <a:lnTo>
                    <a:pt x="68" y="104"/>
                  </a:lnTo>
                  <a:lnTo>
                    <a:pt x="77" y="90"/>
                  </a:lnTo>
                  <a:lnTo>
                    <a:pt x="87" y="77"/>
                  </a:lnTo>
                  <a:lnTo>
                    <a:pt x="98" y="63"/>
                  </a:lnTo>
                  <a:lnTo>
                    <a:pt x="111" y="50"/>
                  </a:lnTo>
                  <a:lnTo>
                    <a:pt x="125" y="36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5995800" y="1231200"/>
              <a:ext cx="169560" cy="61200"/>
            </a:xfrm>
            <a:custGeom>
              <a:avLst/>
              <a:gdLst/>
              <a:ahLst/>
              <a:rect l="l" t="t" r="r" b="b"/>
              <a:pathLst>
                <a:path w="337" h="122">
                  <a:moveTo>
                    <a:pt x="337" y="32"/>
                  </a:moveTo>
                  <a:lnTo>
                    <a:pt x="334" y="29"/>
                  </a:lnTo>
                  <a:lnTo>
                    <a:pt x="326" y="25"/>
                  </a:lnTo>
                  <a:lnTo>
                    <a:pt x="309" y="16"/>
                  </a:lnTo>
                  <a:lnTo>
                    <a:pt x="295" y="11"/>
                  </a:lnTo>
                  <a:lnTo>
                    <a:pt x="280" y="5"/>
                  </a:lnTo>
                  <a:lnTo>
                    <a:pt x="261" y="2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7" y="0"/>
                  </a:lnTo>
                  <a:lnTo>
                    <a:pt x="204" y="1"/>
                  </a:lnTo>
                  <a:lnTo>
                    <a:pt x="191" y="3"/>
                  </a:lnTo>
                  <a:lnTo>
                    <a:pt x="178" y="5"/>
                  </a:lnTo>
                  <a:lnTo>
                    <a:pt x="164" y="8"/>
                  </a:lnTo>
                  <a:lnTo>
                    <a:pt x="149" y="13"/>
                  </a:lnTo>
                  <a:lnTo>
                    <a:pt x="135" y="17"/>
                  </a:lnTo>
                  <a:lnTo>
                    <a:pt x="119" y="24"/>
                  </a:lnTo>
                  <a:lnTo>
                    <a:pt x="103" y="31"/>
                  </a:lnTo>
                  <a:lnTo>
                    <a:pt x="87" y="40"/>
                  </a:lnTo>
                  <a:lnTo>
                    <a:pt x="70" y="48"/>
                  </a:lnTo>
                  <a:lnTo>
                    <a:pt x="53" y="59"/>
                  </a:lnTo>
                  <a:lnTo>
                    <a:pt x="35" y="72"/>
                  </a:lnTo>
                  <a:lnTo>
                    <a:pt x="18" y="85"/>
                  </a:lnTo>
                  <a:lnTo>
                    <a:pt x="0" y="100"/>
                  </a:lnTo>
                  <a:lnTo>
                    <a:pt x="18" y="122"/>
                  </a:lnTo>
                  <a:lnTo>
                    <a:pt x="35" y="108"/>
                  </a:lnTo>
                  <a:lnTo>
                    <a:pt x="53" y="95"/>
                  </a:lnTo>
                  <a:lnTo>
                    <a:pt x="69" y="84"/>
                  </a:lnTo>
                  <a:lnTo>
                    <a:pt x="85" y="73"/>
                  </a:lnTo>
                  <a:lnTo>
                    <a:pt x="100" y="65"/>
                  </a:lnTo>
                  <a:lnTo>
                    <a:pt x="115" y="57"/>
                  </a:lnTo>
                  <a:lnTo>
                    <a:pt x="130" y="51"/>
                  </a:lnTo>
                  <a:lnTo>
                    <a:pt x="144" y="44"/>
                  </a:lnTo>
                  <a:lnTo>
                    <a:pt x="157" y="40"/>
                  </a:lnTo>
                  <a:lnTo>
                    <a:pt x="170" y="36"/>
                  </a:lnTo>
                  <a:lnTo>
                    <a:pt x="183" y="33"/>
                  </a:lnTo>
                  <a:lnTo>
                    <a:pt x="195" y="31"/>
                  </a:lnTo>
                  <a:lnTo>
                    <a:pt x="207" y="30"/>
                  </a:lnTo>
                  <a:lnTo>
                    <a:pt x="218" y="29"/>
                  </a:lnTo>
                  <a:lnTo>
                    <a:pt x="229" y="29"/>
                  </a:lnTo>
                  <a:lnTo>
                    <a:pt x="238" y="29"/>
                  </a:lnTo>
                  <a:lnTo>
                    <a:pt x="257" y="30"/>
                  </a:lnTo>
                  <a:lnTo>
                    <a:pt x="272" y="33"/>
                  </a:lnTo>
                  <a:lnTo>
                    <a:pt x="286" y="38"/>
                  </a:lnTo>
                  <a:lnTo>
                    <a:pt x="297" y="42"/>
                  </a:lnTo>
                  <a:lnTo>
                    <a:pt x="313" y="49"/>
                  </a:lnTo>
                  <a:lnTo>
                    <a:pt x="316" y="52"/>
                  </a:lnTo>
                  <a:lnTo>
                    <a:pt x="314" y="48"/>
                  </a:lnTo>
                  <a:lnTo>
                    <a:pt x="337" y="32"/>
                  </a:lnTo>
                  <a:lnTo>
                    <a:pt x="336" y="30"/>
                  </a:lnTo>
                  <a:lnTo>
                    <a:pt x="334" y="29"/>
                  </a:lnTo>
                  <a:lnTo>
                    <a:pt x="337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6153480" y="1248840"/>
              <a:ext cx="115560" cy="151200"/>
            </a:xfrm>
            <a:custGeom>
              <a:avLst/>
              <a:gdLst/>
              <a:ahLst/>
              <a:rect l="l" t="t" r="r" b="b"/>
              <a:pathLst>
                <a:path w="230" h="308">
                  <a:moveTo>
                    <a:pt x="230" y="293"/>
                  </a:moveTo>
                  <a:lnTo>
                    <a:pt x="229" y="291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205" y="308"/>
                  </a:lnTo>
                  <a:lnTo>
                    <a:pt x="230" y="293"/>
                  </a:lnTo>
                  <a:lnTo>
                    <a:pt x="230" y="293"/>
                  </a:lnTo>
                  <a:lnTo>
                    <a:pt x="230" y="292"/>
                  </a:lnTo>
                  <a:lnTo>
                    <a:pt x="229" y="291"/>
                  </a:lnTo>
                  <a:lnTo>
                    <a:pt x="230" y="2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6255360" y="1394640"/>
              <a:ext cx="33840" cy="4176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21" y="47"/>
                  </a:moveTo>
                  <a:lnTo>
                    <a:pt x="41" y="29"/>
                  </a:lnTo>
                  <a:lnTo>
                    <a:pt x="26" y="0"/>
                  </a:lnTo>
                  <a:lnTo>
                    <a:pt x="0" y="13"/>
                  </a:lnTo>
                  <a:lnTo>
                    <a:pt x="17" y="43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69" y="84"/>
                  </a:lnTo>
                  <a:lnTo>
                    <a:pt x="41" y="29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 flipH="1">
              <a:off x="5333040" y="4514040"/>
              <a:ext cx="403200" cy="3330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6299280" y="4521960"/>
              <a:ext cx="1634760" cy="241200"/>
            </a:xfrm>
            <a:custGeom>
              <a:avLst/>
              <a:gdLst/>
              <a:ahLst/>
              <a:rect l="l" t="t" r="r" b="b"/>
              <a:pathLst>
                <a:path w="3273" h="485">
                  <a:moveTo>
                    <a:pt x="0" y="0"/>
                  </a:moveTo>
                  <a:lnTo>
                    <a:pt x="1481" y="266"/>
                  </a:lnTo>
                  <a:lnTo>
                    <a:pt x="3273" y="485"/>
                  </a:lnTo>
                </a:path>
              </a:pathLst>
            </a:custGeom>
            <a:noFill/>
            <a:ln w="6480">
              <a:solidFill>
                <a:srgbClr val="605d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6103440" y="4605840"/>
              <a:ext cx="878040" cy="719280"/>
            </a:xfrm>
            <a:custGeom>
              <a:avLst/>
              <a:gdLst/>
              <a:ahLst/>
              <a:rect l="l" t="t" r="r" b="b"/>
              <a:pathLst>
                <a:path w="1763" h="1446">
                  <a:moveTo>
                    <a:pt x="0" y="0"/>
                  </a:moveTo>
                  <a:lnTo>
                    <a:pt x="1203" y="541"/>
                  </a:lnTo>
                  <a:lnTo>
                    <a:pt x="1763" y="1446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6450840" y="4567680"/>
              <a:ext cx="810360" cy="281160"/>
            </a:xfrm>
            <a:custGeom>
              <a:avLst/>
              <a:gdLst/>
              <a:ahLst/>
              <a:rect l="l" t="t" r="r" b="b"/>
              <a:pathLst>
                <a:path w="1624" h="564">
                  <a:moveTo>
                    <a:pt x="1429" y="0"/>
                  </a:moveTo>
                  <a:lnTo>
                    <a:pt x="1510" y="39"/>
                  </a:lnTo>
                  <a:lnTo>
                    <a:pt x="1514" y="44"/>
                  </a:lnTo>
                  <a:lnTo>
                    <a:pt x="1527" y="57"/>
                  </a:lnTo>
                  <a:lnTo>
                    <a:pt x="1545" y="79"/>
                  </a:lnTo>
                  <a:lnTo>
                    <a:pt x="1566" y="106"/>
                  </a:lnTo>
                  <a:lnTo>
                    <a:pt x="1577" y="122"/>
                  </a:lnTo>
                  <a:lnTo>
                    <a:pt x="1586" y="138"/>
                  </a:lnTo>
                  <a:lnTo>
                    <a:pt x="1596" y="156"/>
                  </a:lnTo>
                  <a:lnTo>
                    <a:pt x="1605" y="176"/>
                  </a:lnTo>
                  <a:lnTo>
                    <a:pt x="1612" y="195"/>
                  </a:lnTo>
                  <a:lnTo>
                    <a:pt x="1619" y="216"/>
                  </a:lnTo>
                  <a:lnTo>
                    <a:pt x="1623" y="237"/>
                  </a:lnTo>
                  <a:lnTo>
                    <a:pt x="1624" y="259"/>
                  </a:lnTo>
                  <a:lnTo>
                    <a:pt x="1624" y="281"/>
                  </a:lnTo>
                  <a:lnTo>
                    <a:pt x="1621" y="302"/>
                  </a:lnTo>
                  <a:lnTo>
                    <a:pt x="1615" y="324"/>
                  </a:lnTo>
                  <a:lnTo>
                    <a:pt x="1604" y="345"/>
                  </a:lnTo>
                  <a:lnTo>
                    <a:pt x="1590" y="367"/>
                  </a:lnTo>
                  <a:lnTo>
                    <a:pt x="1571" y="387"/>
                  </a:lnTo>
                  <a:lnTo>
                    <a:pt x="1550" y="408"/>
                  </a:lnTo>
                  <a:lnTo>
                    <a:pt x="1522" y="429"/>
                  </a:lnTo>
                  <a:lnTo>
                    <a:pt x="1489" y="447"/>
                  </a:lnTo>
                  <a:lnTo>
                    <a:pt x="1451" y="465"/>
                  </a:lnTo>
                  <a:lnTo>
                    <a:pt x="1408" y="481"/>
                  </a:lnTo>
                  <a:lnTo>
                    <a:pt x="1358" y="498"/>
                  </a:lnTo>
                  <a:lnTo>
                    <a:pt x="1302" y="512"/>
                  </a:lnTo>
                  <a:lnTo>
                    <a:pt x="1240" y="525"/>
                  </a:lnTo>
                  <a:lnTo>
                    <a:pt x="1169" y="535"/>
                  </a:lnTo>
                  <a:lnTo>
                    <a:pt x="1093" y="545"/>
                  </a:lnTo>
                  <a:lnTo>
                    <a:pt x="1070" y="546"/>
                  </a:lnTo>
                  <a:lnTo>
                    <a:pt x="1028" y="549"/>
                  </a:lnTo>
                  <a:lnTo>
                    <a:pt x="974" y="553"/>
                  </a:lnTo>
                  <a:lnTo>
                    <a:pt x="911" y="556"/>
                  </a:lnTo>
                  <a:lnTo>
                    <a:pt x="849" y="560"/>
                  </a:lnTo>
                  <a:lnTo>
                    <a:pt x="790" y="562"/>
                  </a:lnTo>
                  <a:lnTo>
                    <a:pt x="744" y="564"/>
                  </a:lnTo>
                  <a:lnTo>
                    <a:pt x="715" y="562"/>
                  </a:lnTo>
                  <a:lnTo>
                    <a:pt x="621" y="555"/>
                  </a:lnTo>
                  <a:lnTo>
                    <a:pt x="535" y="544"/>
                  </a:lnTo>
                  <a:lnTo>
                    <a:pt x="457" y="531"/>
                  </a:lnTo>
                  <a:lnTo>
                    <a:pt x="388" y="518"/>
                  </a:lnTo>
                  <a:lnTo>
                    <a:pt x="324" y="502"/>
                  </a:lnTo>
                  <a:lnTo>
                    <a:pt x="268" y="486"/>
                  </a:lnTo>
                  <a:lnTo>
                    <a:pt x="219" y="467"/>
                  </a:lnTo>
                  <a:lnTo>
                    <a:pt x="175" y="448"/>
                  </a:lnTo>
                  <a:lnTo>
                    <a:pt x="138" y="429"/>
                  </a:lnTo>
                  <a:lnTo>
                    <a:pt x="105" y="408"/>
                  </a:lnTo>
                  <a:lnTo>
                    <a:pt x="78" y="386"/>
                  </a:lnTo>
                  <a:lnTo>
                    <a:pt x="55" y="364"/>
                  </a:lnTo>
                  <a:lnTo>
                    <a:pt x="37" y="342"/>
                  </a:lnTo>
                  <a:lnTo>
                    <a:pt x="23" y="319"/>
                  </a:lnTo>
                  <a:lnTo>
                    <a:pt x="12" y="297"/>
                  </a:lnTo>
                  <a:lnTo>
                    <a:pt x="5" y="274"/>
                  </a:lnTo>
                  <a:lnTo>
                    <a:pt x="1" y="252"/>
                  </a:lnTo>
                  <a:lnTo>
                    <a:pt x="0" y="231"/>
                  </a:lnTo>
                  <a:lnTo>
                    <a:pt x="1" y="209"/>
                  </a:lnTo>
                  <a:lnTo>
                    <a:pt x="4" y="189"/>
                  </a:lnTo>
                  <a:lnTo>
                    <a:pt x="9" y="168"/>
                  </a:lnTo>
                  <a:lnTo>
                    <a:pt x="15" y="150"/>
                  </a:lnTo>
                  <a:lnTo>
                    <a:pt x="22" y="133"/>
                  </a:lnTo>
                  <a:lnTo>
                    <a:pt x="31" y="115"/>
                  </a:lnTo>
                  <a:lnTo>
                    <a:pt x="38" y="100"/>
                  </a:lnTo>
                  <a:lnTo>
                    <a:pt x="47" y="87"/>
                  </a:lnTo>
                  <a:lnTo>
                    <a:pt x="54" y="75"/>
                  </a:lnTo>
                  <a:lnTo>
                    <a:pt x="62" y="65"/>
                  </a:lnTo>
                  <a:lnTo>
                    <a:pt x="73" y="52"/>
                  </a:lnTo>
                  <a:lnTo>
                    <a:pt x="77" y="46"/>
                  </a:lnTo>
                  <a:lnTo>
                    <a:pt x="157" y="6"/>
                  </a:lnTo>
                  <a:lnTo>
                    <a:pt x="1429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6454800" y="4687560"/>
              <a:ext cx="802440" cy="137160"/>
            </a:xfrm>
            <a:custGeom>
              <a:avLst/>
              <a:gdLst/>
              <a:ahLst/>
              <a:rect l="l" t="t" r="r" b="b"/>
              <a:pathLst>
                <a:path w="1609" h="276">
                  <a:moveTo>
                    <a:pt x="1609" y="0"/>
                  </a:moveTo>
                  <a:lnTo>
                    <a:pt x="1608" y="10"/>
                  </a:lnTo>
                  <a:lnTo>
                    <a:pt x="1606" y="20"/>
                  </a:lnTo>
                  <a:lnTo>
                    <a:pt x="1602" y="30"/>
                  </a:lnTo>
                  <a:lnTo>
                    <a:pt x="1599" y="40"/>
                  </a:lnTo>
                  <a:lnTo>
                    <a:pt x="1594" y="50"/>
                  </a:lnTo>
                  <a:lnTo>
                    <a:pt x="1589" y="60"/>
                  </a:lnTo>
                  <a:lnTo>
                    <a:pt x="1583" y="70"/>
                  </a:lnTo>
                  <a:lnTo>
                    <a:pt x="1576" y="79"/>
                  </a:lnTo>
                  <a:lnTo>
                    <a:pt x="1568" y="89"/>
                  </a:lnTo>
                  <a:lnTo>
                    <a:pt x="1559" y="98"/>
                  </a:lnTo>
                  <a:lnTo>
                    <a:pt x="1550" y="107"/>
                  </a:lnTo>
                  <a:lnTo>
                    <a:pt x="1540" y="117"/>
                  </a:lnTo>
                  <a:lnTo>
                    <a:pt x="1528" y="126"/>
                  </a:lnTo>
                  <a:lnTo>
                    <a:pt x="1515" y="135"/>
                  </a:lnTo>
                  <a:lnTo>
                    <a:pt x="1502" y="144"/>
                  </a:lnTo>
                  <a:lnTo>
                    <a:pt x="1487" y="153"/>
                  </a:lnTo>
                  <a:lnTo>
                    <a:pt x="1472" y="160"/>
                  </a:lnTo>
                  <a:lnTo>
                    <a:pt x="1454" y="169"/>
                  </a:lnTo>
                  <a:lnTo>
                    <a:pt x="1436" y="178"/>
                  </a:lnTo>
                  <a:lnTo>
                    <a:pt x="1416" y="185"/>
                  </a:lnTo>
                  <a:lnTo>
                    <a:pt x="1396" y="193"/>
                  </a:lnTo>
                  <a:lnTo>
                    <a:pt x="1374" y="200"/>
                  </a:lnTo>
                  <a:lnTo>
                    <a:pt x="1351" y="207"/>
                  </a:lnTo>
                  <a:lnTo>
                    <a:pt x="1327" y="213"/>
                  </a:lnTo>
                  <a:lnTo>
                    <a:pt x="1301" y="220"/>
                  </a:lnTo>
                  <a:lnTo>
                    <a:pt x="1274" y="226"/>
                  </a:lnTo>
                  <a:lnTo>
                    <a:pt x="1245" y="232"/>
                  </a:lnTo>
                  <a:lnTo>
                    <a:pt x="1214" y="237"/>
                  </a:lnTo>
                  <a:lnTo>
                    <a:pt x="1183" y="242"/>
                  </a:lnTo>
                  <a:lnTo>
                    <a:pt x="1151" y="248"/>
                  </a:lnTo>
                  <a:lnTo>
                    <a:pt x="1116" y="252"/>
                  </a:lnTo>
                  <a:lnTo>
                    <a:pt x="1079" y="255"/>
                  </a:lnTo>
                  <a:lnTo>
                    <a:pt x="1057" y="259"/>
                  </a:lnTo>
                  <a:lnTo>
                    <a:pt x="1015" y="262"/>
                  </a:lnTo>
                  <a:lnTo>
                    <a:pt x="961" y="265"/>
                  </a:lnTo>
                  <a:lnTo>
                    <a:pt x="898" y="269"/>
                  </a:lnTo>
                  <a:lnTo>
                    <a:pt x="835" y="273"/>
                  </a:lnTo>
                  <a:lnTo>
                    <a:pt x="777" y="275"/>
                  </a:lnTo>
                  <a:lnTo>
                    <a:pt x="730" y="276"/>
                  </a:lnTo>
                  <a:lnTo>
                    <a:pt x="701" y="276"/>
                  </a:lnTo>
                  <a:lnTo>
                    <a:pt x="656" y="272"/>
                  </a:lnTo>
                  <a:lnTo>
                    <a:pt x="614" y="267"/>
                  </a:lnTo>
                  <a:lnTo>
                    <a:pt x="573" y="263"/>
                  </a:lnTo>
                  <a:lnTo>
                    <a:pt x="533" y="257"/>
                  </a:lnTo>
                  <a:lnTo>
                    <a:pt x="496" y="252"/>
                  </a:lnTo>
                  <a:lnTo>
                    <a:pt x="459" y="247"/>
                  </a:lnTo>
                  <a:lnTo>
                    <a:pt x="426" y="240"/>
                  </a:lnTo>
                  <a:lnTo>
                    <a:pt x="392" y="234"/>
                  </a:lnTo>
                  <a:lnTo>
                    <a:pt x="362" y="227"/>
                  </a:lnTo>
                  <a:lnTo>
                    <a:pt x="332" y="220"/>
                  </a:lnTo>
                  <a:lnTo>
                    <a:pt x="304" y="212"/>
                  </a:lnTo>
                  <a:lnTo>
                    <a:pt x="278" y="205"/>
                  </a:lnTo>
                  <a:lnTo>
                    <a:pt x="252" y="196"/>
                  </a:lnTo>
                  <a:lnTo>
                    <a:pt x="228" y="187"/>
                  </a:lnTo>
                  <a:lnTo>
                    <a:pt x="205" y="180"/>
                  </a:lnTo>
                  <a:lnTo>
                    <a:pt x="185" y="170"/>
                  </a:lnTo>
                  <a:lnTo>
                    <a:pt x="165" y="161"/>
                  </a:lnTo>
                  <a:lnTo>
                    <a:pt x="147" y="152"/>
                  </a:lnTo>
                  <a:lnTo>
                    <a:pt x="129" y="143"/>
                  </a:lnTo>
                  <a:lnTo>
                    <a:pt x="113" y="133"/>
                  </a:lnTo>
                  <a:lnTo>
                    <a:pt x="98" y="124"/>
                  </a:lnTo>
                  <a:lnTo>
                    <a:pt x="84" y="114"/>
                  </a:lnTo>
                  <a:lnTo>
                    <a:pt x="71" y="103"/>
                  </a:lnTo>
                  <a:lnTo>
                    <a:pt x="59" y="93"/>
                  </a:lnTo>
                  <a:lnTo>
                    <a:pt x="49" y="83"/>
                  </a:lnTo>
                  <a:lnTo>
                    <a:pt x="40" y="73"/>
                  </a:lnTo>
                  <a:lnTo>
                    <a:pt x="30" y="62"/>
                  </a:lnTo>
                  <a:lnTo>
                    <a:pt x="23" y="52"/>
                  </a:lnTo>
                  <a:lnTo>
                    <a:pt x="16" y="41"/>
                  </a:lnTo>
                  <a:lnTo>
                    <a:pt x="10" y="31"/>
                  </a:lnTo>
                  <a:lnTo>
                    <a:pt x="4" y="21"/>
                  </a:lnTo>
                  <a:lnTo>
                    <a:pt x="0" y="1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6456600" y="4655520"/>
              <a:ext cx="792360" cy="133560"/>
            </a:xfrm>
            <a:custGeom>
              <a:avLst/>
              <a:gdLst/>
              <a:ahLst/>
              <a:rect l="l" t="t" r="r" b="b"/>
              <a:pathLst>
                <a:path w="1591" h="265">
                  <a:moveTo>
                    <a:pt x="1591" y="48"/>
                  </a:moveTo>
                  <a:lnTo>
                    <a:pt x="1581" y="65"/>
                  </a:lnTo>
                  <a:lnTo>
                    <a:pt x="1568" y="80"/>
                  </a:lnTo>
                  <a:lnTo>
                    <a:pt x="1554" y="96"/>
                  </a:lnTo>
                  <a:lnTo>
                    <a:pt x="1536" y="111"/>
                  </a:lnTo>
                  <a:lnTo>
                    <a:pt x="1516" y="125"/>
                  </a:lnTo>
                  <a:lnTo>
                    <a:pt x="1493" y="140"/>
                  </a:lnTo>
                  <a:lnTo>
                    <a:pt x="1467" y="154"/>
                  </a:lnTo>
                  <a:lnTo>
                    <a:pt x="1438" y="167"/>
                  </a:lnTo>
                  <a:lnTo>
                    <a:pt x="1406" y="180"/>
                  </a:lnTo>
                  <a:lnTo>
                    <a:pt x="1371" y="192"/>
                  </a:lnTo>
                  <a:lnTo>
                    <a:pt x="1332" y="203"/>
                  </a:lnTo>
                  <a:lnTo>
                    <a:pt x="1289" y="214"/>
                  </a:lnTo>
                  <a:lnTo>
                    <a:pt x="1243" y="223"/>
                  </a:lnTo>
                  <a:lnTo>
                    <a:pt x="1193" y="232"/>
                  </a:lnTo>
                  <a:lnTo>
                    <a:pt x="1139" y="240"/>
                  </a:lnTo>
                  <a:lnTo>
                    <a:pt x="1081" y="246"/>
                  </a:lnTo>
                  <a:lnTo>
                    <a:pt x="1058" y="248"/>
                  </a:lnTo>
                  <a:lnTo>
                    <a:pt x="1016" y="251"/>
                  </a:lnTo>
                  <a:lnTo>
                    <a:pt x="961" y="255"/>
                  </a:lnTo>
                  <a:lnTo>
                    <a:pt x="899" y="258"/>
                  </a:lnTo>
                  <a:lnTo>
                    <a:pt x="837" y="261"/>
                  </a:lnTo>
                  <a:lnTo>
                    <a:pt x="778" y="264"/>
                  </a:lnTo>
                  <a:lnTo>
                    <a:pt x="731" y="265"/>
                  </a:lnTo>
                  <a:lnTo>
                    <a:pt x="700" y="265"/>
                  </a:lnTo>
                  <a:lnTo>
                    <a:pt x="656" y="262"/>
                  </a:lnTo>
                  <a:lnTo>
                    <a:pt x="614" y="258"/>
                  </a:lnTo>
                  <a:lnTo>
                    <a:pt x="573" y="253"/>
                  </a:lnTo>
                  <a:lnTo>
                    <a:pt x="533" y="248"/>
                  </a:lnTo>
                  <a:lnTo>
                    <a:pt x="496" y="243"/>
                  </a:lnTo>
                  <a:lnTo>
                    <a:pt x="461" y="236"/>
                  </a:lnTo>
                  <a:lnTo>
                    <a:pt x="426" y="230"/>
                  </a:lnTo>
                  <a:lnTo>
                    <a:pt x="394" y="223"/>
                  </a:lnTo>
                  <a:lnTo>
                    <a:pt x="362" y="217"/>
                  </a:lnTo>
                  <a:lnTo>
                    <a:pt x="333" y="209"/>
                  </a:lnTo>
                  <a:lnTo>
                    <a:pt x="305" y="202"/>
                  </a:lnTo>
                  <a:lnTo>
                    <a:pt x="278" y="194"/>
                  </a:lnTo>
                  <a:lnTo>
                    <a:pt x="253" y="187"/>
                  </a:lnTo>
                  <a:lnTo>
                    <a:pt x="229" y="178"/>
                  </a:lnTo>
                  <a:lnTo>
                    <a:pt x="207" y="169"/>
                  </a:lnTo>
                  <a:lnTo>
                    <a:pt x="186" y="161"/>
                  </a:lnTo>
                  <a:lnTo>
                    <a:pt x="166" y="151"/>
                  </a:lnTo>
                  <a:lnTo>
                    <a:pt x="147" y="142"/>
                  </a:lnTo>
                  <a:lnTo>
                    <a:pt x="130" y="133"/>
                  </a:lnTo>
                  <a:lnTo>
                    <a:pt x="114" y="123"/>
                  </a:lnTo>
                  <a:lnTo>
                    <a:pt x="99" y="113"/>
                  </a:lnTo>
                  <a:lnTo>
                    <a:pt x="85" y="103"/>
                  </a:lnTo>
                  <a:lnTo>
                    <a:pt x="73" y="94"/>
                  </a:lnTo>
                  <a:lnTo>
                    <a:pt x="61" y="83"/>
                  </a:lnTo>
                  <a:lnTo>
                    <a:pt x="50" y="73"/>
                  </a:lnTo>
                  <a:lnTo>
                    <a:pt x="40" y="62"/>
                  </a:lnTo>
                  <a:lnTo>
                    <a:pt x="32" y="53"/>
                  </a:lnTo>
                  <a:lnTo>
                    <a:pt x="23" y="42"/>
                  </a:lnTo>
                  <a:lnTo>
                    <a:pt x="16" y="31"/>
                  </a:lnTo>
                  <a:lnTo>
                    <a:pt x="10" y="21"/>
                  </a:lnTo>
                  <a:lnTo>
                    <a:pt x="5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6450840" y="4567680"/>
              <a:ext cx="810360" cy="281160"/>
            </a:xfrm>
            <a:custGeom>
              <a:avLst/>
              <a:gdLst/>
              <a:ahLst/>
              <a:rect l="l" t="t" r="r" b="b"/>
              <a:pathLst>
                <a:path w="1624" h="564">
                  <a:moveTo>
                    <a:pt x="1429" y="0"/>
                  </a:moveTo>
                  <a:lnTo>
                    <a:pt x="1510" y="39"/>
                  </a:lnTo>
                  <a:lnTo>
                    <a:pt x="1514" y="44"/>
                  </a:lnTo>
                  <a:lnTo>
                    <a:pt x="1527" y="57"/>
                  </a:lnTo>
                  <a:lnTo>
                    <a:pt x="1545" y="79"/>
                  </a:lnTo>
                  <a:lnTo>
                    <a:pt x="1566" y="106"/>
                  </a:lnTo>
                  <a:lnTo>
                    <a:pt x="1577" y="122"/>
                  </a:lnTo>
                  <a:lnTo>
                    <a:pt x="1586" y="138"/>
                  </a:lnTo>
                  <a:lnTo>
                    <a:pt x="1596" y="156"/>
                  </a:lnTo>
                  <a:lnTo>
                    <a:pt x="1605" y="176"/>
                  </a:lnTo>
                  <a:lnTo>
                    <a:pt x="1612" y="195"/>
                  </a:lnTo>
                  <a:lnTo>
                    <a:pt x="1619" y="216"/>
                  </a:lnTo>
                  <a:lnTo>
                    <a:pt x="1623" y="237"/>
                  </a:lnTo>
                  <a:lnTo>
                    <a:pt x="1624" y="259"/>
                  </a:lnTo>
                  <a:lnTo>
                    <a:pt x="1624" y="281"/>
                  </a:lnTo>
                  <a:lnTo>
                    <a:pt x="1621" y="302"/>
                  </a:lnTo>
                  <a:lnTo>
                    <a:pt x="1615" y="324"/>
                  </a:lnTo>
                  <a:lnTo>
                    <a:pt x="1604" y="345"/>
                  </a:lnTo>
                  <a:lnTo>
                    <a:pt x="1590" y="367"/>
                  </a:lnTo>
                  <a:lnTo>
                    <a:pt x="1571" y="387"/>
                  </a:lnTo>
                  <a:lnTo>
                    <a:pt x="1550" y="408"/>
                  </a:lnTo>
                  <a:lnTo>
                    <a:pt x="1522" y="429"/>
                  </a:lnTo>
                  <a:lnTo>
                    <a:pt x="1489" y="447"/>
                  </a:lnTo>
                  <a:lnTo>
                    <a:pt x="1451" y="465"/>
                  </a:lnTo>
                  <a:lnTo>
                    <a:pt x="1408" y="481"/>
                  </a:lnTo>
                  <a:lnTo>
                    <a:pt x="1358" y="498"/>
                  </a:lnTo>
                  <a:lnTo>
                    <a:pt x="1302" y="512"/>
                  </a:lnTo>
                  <a:lnTo>
                    <a:pt x="1240" y="525"/>
                  </a:lnTo>
                  <a:lnTo>
                    <a:pt x="1169" y="535"/>
                  </a:lnTo>
                  <a:lnTo>
                    <a:pt x="1093" y="545"/>
                  </a:lnTo>
                  <a:lnTo>
                    <a:pt x="1070" y="546"/>
                  </a:lnTo>
                  <a:lnTo>
                    <a:pt x="1028" y="549"/>
                  </a:lnTo>
                  <a:lnTo>
                    <a:pt x="974" y="553"/>
                  </a:lnTo>
                  <a:lnTo>
                    <a:pt x="911" y="556"/>
                  </a:lnTo>
                  <a:lnTo>
                    <a:pt x="849" y="560"/>
                  </a:lnTo>
                  <a:lnTo>
                    <a:pt x="790" y="562"/>
                  </a:lnTo>
                  <a:lnTo>
                    <a:pt x="744" y="564"/>
                  </a:lnTo>
                  <a:lnTo>
                    <a:pt x="715" y="562"/>
                  </a:lnTo>
                  <a:lnTo>
                    <a:pt x="621" y="555"/>
                  </a:lnTo>
                  <a:lnTo>
                    <a:pt x="535" y="544"/>
                  </a:lnTo>
                  <a:lnTo>
                    <a:pt x="457" y="531"/>
                  </a:lnTo>
                  <a:lnTo>
                    <a:pt x="388" y="518"/>
                  </a:lnTo>
                  <a:lnTo>
                    <a:pt x="324" y="502"/>
                  </a:lnTo>
                  <a:lnTo>
                    <a:pt x="268" y="486"/>
                  </a:lnTo>
                  <a:lnTo>
                    <a:pt x="219" y="467"/>
                  </a:lnTo>
                  <a:lnTo>
                    <a:pt x="175" y="448"/>
                  </a:lnTo>
                  <a:lnTo>
                    <a:pt x="138" y="429"/>
                  </a:lnTo>
                  <a:lnTo>
                    <a:pt x="105" y="408"/>
                  </a:lnTo>
                  <a:lnTo>
                    <a:pt x="78" y="386"/>
                  </a:lnTo>
                  <a:lnTo>
                    <a:pt x="55" y="364"/>
                  </a:lnTo>
                  <a:lnTo>
                    <a:pt x="37" y="342"/>
                  </a:lnTo>
                  <a:lnTo>
                    <a:pt x="23" y="319"/>
                  </a:lnTo>
                  <a:lnTo>
                    <a:pt x="12" y="297"/>
                  </a:lnTo>
                  <a:lnTo>
                    <a:pt x="5" y="274"/>
                  </a:lnTo>
                  <a:lnTo>
                    <a:pt x="1" y="252"/>
                  </a:lnTo>
                  <a:lnTo>
                    <a:pt x="0" y="231"/>
                  </a:lnTo>
                  <a:lnTo>
                    <a:pt x="1" y="209"/>
                  </a:lnTo>
                  <a:lnTo>
                    <a:pt x="4" y="189"/>
                  </a:lnTo>
                  <a:lnTo>
                    <a:pt x="9" y="168"/>
                  </a:lnTo>
                  <a:lnTo>
                    <a:pt x="15" y="150"/>
                  </a:lnTo>
                  <a:lnTo>
                    <a:pt x="22" y="133"/>
                  </a:lnTo>
                  <a:lnTo>
                    <a:pt x="31" y="115"/>
                  </a:lnTo>
                  <a:lnTo>
                    <a:pt x="38" y="100"/>
                  </a:lnTo>
                  <a:lnTo>
                    <a:pt x="47" y="87"/>
                  </a:lnTo>
                  <a:lnTo>
                    <a:pt x="54" y="75"/>
                  </a:lnTo>
                  <a:lnTo>
                    <a:pt x="62" y="65"/>
                  </a:lnTo>
                  <a:lnTo>
                    <a:pt x="73" y="52"/>
                  </a:lnTo>
                  <a:lnTo>
                    <a:pt x="77" y="46"/>
                  </a:lnTo>
                  <a:lnTo>
                    <a:pt x="157" y="6"/>
                  </a:lnTo>
                  <a:lnTo>
                    <a:pt x="142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6526800" y="4245120"/>
              <a:ext cx="628560" cy="480240"/>
            </a:xfrm>
            <a:custGeom>
              <a:avLst/>
              <a:gdLst/>
              <a:ahLst/>
              <a:rect l="l" t="t" r="r" b="b"/>
              <a:pathLst>
                <a:path w="1260" h="963">
                  <a:moveTo>
                    <a:pt x="584" y="963"/>
                  </a:moveTo>
                  <a:lnTo>
                    <a:pt x="550" y="963"/>
                  </a:lnTo>
                  <a:lnTo>
                    <a:pt x="516" y="961"/>
                  </a:lnTo>
                  <a:lnTo>
                    <a:pt x="484" y="959"/>
                  </a:lnTo>
                  <a:lnTo>
                    <a:pt x="451" y="956"/>
                  </a:lnTo>
                  <a:lnTo>
                    <a:pt x="421" y="952"/>
                  </a:lnTo>
                  <a:lnTo>
                    <a:pt x="392" y="948"/>
                  </a:lnTo>
                  <a:lnTo>
                    <a:pt x="363" y="944"/>
                  </a:lnTo>
                  <a:lnTo>
                    <a:pt x="336" y="938"/>
                  </a:lnTo>
                  <a:lnTo>
                    <a:pt x="309" y="933"/>
                  </a:lnTo>
                  <a:lnTo>
                    <a:pt x="283" y="926"/>
                  </a:lnTo>
                  <a:lnTo>
                    <a:pt x="259" y="920"/>
                  </a:lnTo>
                  <a:lnTo>
                    <a:pt x="235" y="912"/>
                  </a:lnTo>
                  <a:lnTo>
                    <a:pt x="191" y="898"/>
                  </a:lnTo>
                  <a:lnTo>
                    <a:pt x="152" y="883"/>
                  </a:lnTo>
                  <a:lnTo>
                    <a:pt x="116" y="868"/>
                  </a:lnTo>
                  <a:lnTo>
                    <a:pt x="86" y="854"/>
                  </a:lnTo>
                  <a:lnTo>
                    <a:pt x="60" y="841"/>
                  </a:lnTo>
                  <a:lnTo>
                    <a:pt x="39" y="828"/>
                  </a:lnTo>
                  <a:lnTo>
                    <a:pt x="9" y="811"/>
                  </a:lnTo>
                  <a:lnTo>
                    <a:pt x="0" y="803"/>
                  </a:lnTo>
                  <a:lnTo>
                    <a:pt x="0" y="252"/>
                  </a:lnTo>
                  <a:lnTo>
                    <a:pt x="0" y="182"/>
                  </a:lnTo>
                  <a:lnTo>
                    <a:pt x="17" y="165"/>
                  </a:lnTo>
                  <a:lnTo>
                    <a:pt x="37" y="150"/>
                  </a:lnTo>
                  <a:lnTo>
                    <a:pt x="56" y="135"/>
                  </a:lnTo>
                  <a:lnTo>
                    <a:pt x="78" y="121"/>
                  </a:lnTo>
                  <a:lnTo>
                    <a:pt x="100" y="108"/>
                  </a:lnTo>
                  <a:lnTo>
                    <a:pt x="123" y="96"/>
                  </a:lnTo>
                  <a:lnTo>
                    <a:pt x="147" y="85"/>
                  </a:lnTo>
                  <a:lnTo>
                    <a:pt x="172" y="75"/>
                  </a:lnTo>
                  <a:lnTo>
                    <a:pt x="195" y="65"/>
                  </a:lnTo>
                  <a:lnTo>
                    <a:pt x="221" y="57"/>
                  </a:lnTo>
                  <a:lnTo>
                    <a:pt x="246" y="49"/>
                  </a:lnTo>
                  <a:lnTo>
                    <a:pt x="272" y="43"/>
                  </a:lnTo>
                  <a:lnTo>
                    <a:pt x="322" y="31"/>
                  </a:lnTo>
                  <a:lnTo>
                    <a:pt x="371" y="21"/>
                  </a:lnTo>
                  <a:lnTo>
                    <a:pt x="419" y="14"/>
                  </a:lnTo>
                  <a:lnTo>
                    <a:pt x="462" y="8"/>
                  </a:lnTo>
                  <a:lnTo>
                    <a:pt x="502" y="5"/>
                  </a:lnTo>
                  <a:lnTo>
                    <a:pt x="538" y="2"/>
                  </a:lnTo>
                  <a:lnTo>
                    <a:pt x="589" y="1"/>
                  </a:lnTo>
                  <a:lnTo>
                    <a:pt x="607" y="0"/>
                  </a:lnTo>
                  <a:lnTo>
                    <a:pt x="677" y="0"/>
                  </a:lnTo>
                  <a:lnTo>
                    <a:pt x="691" y="0"/>
                  </a:lnTo>
                  <a:lnTo>
                    <a:pt x="731" y="1"/>
                  </a:lnTo>
                  <a:lnTo>
                    <a:pt x="759" y="2"/>
                  </a:lnTo>
                  <a:lnTo>
                    <a:pt x="792" y="4"/>
                  </a:lnTo>
                  <a:lnTo>
                    <a:pt x="828" y="7"/>
                  </a:lnTo>
                  <a:lnTo>
                    <a:pt x="867" y="13"/>
                  </a:lnTo>
                  <a:lnTo>
                    <a:pt x="910" y="19"/>
                  </a:lnTo>
                  <a:lnTo>
                    <a:pt x="955" y="29"/>
                  </a:lnTo>
                  <a:lnTo>
                    <a:pt x="978" y="34"/>
                  </a:lnTo>
                  <a:lnTo>
                    <a:pt x="1000" y="40"/>
                  </a:lnTo>
                  <a:lnTo>
                    <a:pt x="1023" y="46"/>
                  </a:lnTo>
                  <a:lnTo>
                    <a:pt x="1047" y="54"/>
                  </a:lnTo>
                  <a:lnTo>
                    <a:pt x="1071" y="62"/>
                  </a:lnTo>
                  <a:lnTo>
                    <a:pt x="1094" y="71"/>
                  </a:lnTo>
                  <a:lnTo>
                    <a:pt x="1117" y="81"/>
                  </a:lnTo>
                  <a:lnTo>
                    <a:pt x="1141" y="90"/>
                  </a:lnTo>
                  <a:lnTo>
                    <a:pt x="1163" y="102"/>
                  </a:lnTo>
                  <a:lnTo>
                    <a:pt x="1186" y="114"/>
                  </a:lnTo>
                  <a:lnTo>
                    <a:pt x="1208" y="127"/>
                  </a:lnTo>
                  <a:lnTo>
                    <a:pt x="1229" y="141"/>
                  </a:lnTo>
                  <a:lnTo>
                    <a:pt x="1236" y="146"/>
                  </a:lnTo>
                  <a:lnTo>
                    <a:pt x="1241" y="152"/>
                  </a:lnTo>
                  <a:lnTo>
                    <a:pt x="1247" y="157"/>
                  </a:lnTo>
                  <a:lnTo>
                    <a:pt x="1250" y="163"/>
                  </a:lnTo>
                  <a:lnTo>
                    <a:pt x="1255" y="175"/>
                  </a:lnTo>
                  <a:lnTo>
                    <a:pt x="1259" y="185"/>
                  </a:lnTo>
                  <a:lnTo>
                    <a:pt x="1260" y="195"/>
                  </a:lnTo>
                  <a:lnTo>
                    <a:pt x="1260" y="203"/>
                  </a:lnTo>
                  <a:lnTo>
                    <a:pt x="1260" y="208"/>
                  </a:lnTo>
                  <a:lnTo>
                    <a:pt x="1260" y="210"/>
                  </a:lnTo>
                  <a:lnTo>
                    <a:pt x="1260" y="826"/>
                  </a:lnTo>
                  <a:lnTo>
                    <a:pt x="1247" y="832"/>
                  </a:lnTo>
                  <a:lnTo>
                    <a:pt x="1211" y="847"/>
                  </a:lnTo>
                  <a:lnTo>
                    <a:pt x="1185" y="858"/>
                  </a:lnTo>
                  <a:lnTo>
                    <a:pt x="1155" y="869"/>
                  </a:lnTo>
                  <a:lnTo>
                    <a:pt x="1120" y="882"/>
                  </a:lnTo>
                  <a:lnTo>
                    <a:pt x="1081" y="895"/>
                  </a:lnTo>
                  <a:lnTo>
                    <a:pt x="1040" y="908"/>
                  </a:lnTo>
                  <a:lnTo>
                    <a:pt x="996" y="920"/>
                  </a:lnTo>
                  <a:lnTo>
                    <a:pt x="948" y="932"/>
                  </a:lnTo>
                  <a:lnTo>
                    <a:pt x="900" y="941"/>
                  </a:lnTo>
                  <a:lnTo>
                    <a:pt x="874" y="947"/>
                  </a:lnTo>
                  <a:lnTo>
                    <a:pt x="849" y="950"/>
                  </a:lnTo>
                  <a:lnTo>
                    <a:pt x="823" y="954"/>
                  </a:lnTo>
                  <a:lnTo>
                    <a:pt x="796" y="958"/>
                  </a:lnTo>
                  <a:lnTo>
                    <a:pt x="770" y="960"/>
                  </a:lnTo>
                  <a:lnTo>
                    <a:pt x="743" y="962"/>
                  </a:lnTo>
                  <a:lnTo>
                    <a:pt x="717" y="963"/>
                  </a:lnTo>
                  <a:lnTo>
                    <a:pt x="690" y="963"/>
                  </a:lnTo>
                  <a:lnTo>
                    <a:pt x="584" y="9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6526800" y="4245120"/>
              <a:ext cx="628560" cy="480240"/>
            </a:xfrm>
            <a:custGeom>
              <a:avLst/>
              <a:gdLst/>
              <a:ahLst/>
              <a:rect l="l" t="t" r="r" b="b"/>
              <a:pathLst>
                <a:path w="1260" h="963">
                  <a:moveTo>
                    <a:pt x="584" y="963"/>
                  </a:moveTo>
                  <a:lnTo>
                    <a:pt x="550" y="963"/>
                  </a:lnTo>
                  <a:lnTo>
                    <a:pt x="516" y="961"/>
                  </a:lnTo>
                  <a:lnTo>
                    <a:pt x="484" y="959"/>
                  </a:lnTo>
                  <a:lnTo>
                    <a:pt x="451" y="956"/>
                  </a:lnTo>
                  <a:lnTo>
                    <a:pt x="421" y="952"/>
                  </a:lnTo>
                  <a:lnTo>
                    <a:pt x="392" y="948"/>
                  </a:lnTo>
                  <a:lnTo>
                    <a:pt x="363" y="944"/>
                  </a:lnTo>
                  <a:lnTo>
                    <a:pt x="336" y="938"/>
                  </a:lnTo>
                  <a:lnTo>
                    <a:pt x="309" y="933"/>
                  </a:lnTo>
                  <a:lnTo>
                    <a:pt x="283" y="926"/>
                  </a:lnTo>
                  <a:lnTo>
                    <a:pt x="259" y="920"/>
                  </a:lnTo>
                  <a:lnTo>
                    <a:pt x="235" y="912"/>
                  </a:lnTo>
                  <a:lnTo>
                    <a:pt x="191" y="898"/>
                  </a:lnTo>
                  <a:lnTo>
                    <a:pt x="152" y="883"/>
                  </a:lnTo>
                  <a:lnTo>
                    <a:pt x="116" y="868"/>
                  </a:lnTo>
                  <a:lnTo>
                    <a:pt x="86" y="854"/>
                  </a:lnTo>
                  <a:lnTo>
                    <a:pt x="60" y="841"/>
                  </a:lnTo>
                  <a:lnTo>
                    <a:pt x="39" y="828"/>
                  </a:lnTo>
                  <a:lnTo>
                    <a:pt x="9" y="811"/>
                  </a:lnTo>
                  <a:lnTo>
                    <a:pt x="0" y="803"/>
                  </a:lnTo>
                  <a:lnTo>
                    <a:pt x="0" y="252"/>
                  </a:lnTo>
                  <a:lnTo>
                    <a:pt x="0" y="182"/>
                  </a:lnTo>
                  <a:lnTo>
                    <a:pt x="17" y="165"/>
                  </a:lnTo>
                  <a:lnTo>
                    <a:pt x="37" y="150"/>
                  </a:lnTo>
                  <a:lnTo>
                    <a:pt x="56" y="135"/>
                  </a:lnTo>
                  <a:lnTo>
                    <a:pt x="78" y="121"/>
                  </a:lnTo>
                  <a:lnTo>
                    <a:pt x="100" y="108"/>
                  </a:lnTo>
                  <a:lnTo>
                    <a:pt x="123" y="96"/>
                  </a:lnTo>
                  <a:lnTo>
                    <a:pt x="147" y="85"/>
                  </a:lnTo>
                  <a:lnTo>
                    <a:pt x="172" y="75"/>
                  </a:lnTo>
                  <a:lnTo>
                    <a:pt x="195" y="65"/>
                  </a:lnTo>
                  <a:lnTo>
                    <a:pt x="221" y="57"/>
                  </a:lnTo>
                  <a:lnTo>
                    <a:pt x="246" y="49"/>
                  </a:lnTo>
                  <a:lnTo>
                    <a:pt x="272" y="43"/>
                  </a:lnTo>
                  <a:lnTo>
                    <a:pt x="322" y="31"/>
                  </a:lnTo>
                  <a:lnTo>
                    <a:pt x="371" y="21"/>
                  </a:lnTo>
                  <a:lnTo>
                    <a:pt x="419" y="14"/>
                  </a:lnTo>
                  <a:lnTo>
                    <a:pt x="462" y="8"/>
                  </a:lnTo>
                  <a:lnTo>
                    <a:pt x="502" y="5"/>
                  </a:lnTo>
                  <a:lnTo>
                    <a:pt x="538" y="2"/>
                  </a:lnTo>
                  <a:lnTo>
                    <a:pt x="589" y="1"/>
                  </a:lnTo>
                  <a:lnTo>
                    <a:pt x="607" y="0"/>
                  </a:lnTo>
                  <a:lnTo>
                    <a:pt x="677" y="0"/>
                  </a:lnTo>
                  <a:lnTo>
                    <a:pt x="691" y="0"/>
                  </a:lnTo>
                  <a:lnTo>
                    <a:pt x="731" y="1"/>
                  </a:lnTo>
                  <a:lnTo>
                    <a:pt x="759" y="2"/>
                  </a:lnTo>
                  <a:lnTo>
                    <a:pt x="792" y="4"/>
                  </a:lnTo>
                  <a:lnTo>
                    <a:pt x="828" y="7"/>
                  </a:lnTo>
                  <a:lnTo>
                    <a:pt x="867" y="13"/>
                  </a:lnTo>
                  <a:lnTo>
                    <a:pt x="910" y="19"/>
                  </a:lnTo>
                  <a:lnTo>
                    <a:pt x="955" y="29"/>
                  </a:lnTo>
                  <a:lnTo>
                    <a:pt x="978" y="34"/>
                  </a:lnTo>
                  <a:lnTo>
                    <a:pt x="1000" y="40"/>
                  </a:lnTo>
                  <a:lnTo>
                    <a:pt x="1023" y="46"/>
                  </a:lnTo>
                  <a:lnTo>
                    <a:pt x="1047" y="54"/>
                  </a:lnTo>
                  <a:lnTo>
                    <a:pt x="1071" y="62"/>
                  </a:lnTo>
                  <a:lnTo>
                    <a:pt x="1094" y="71"/>
                  </a:lnTo>
                  <a:lnTo>
                    <a:pt x="1117" y="81"/>
                  </a:lnTo>
                  <a:lnTo>
                    <a:pt x="1141" y="90"/>
                  </a:lnTo>
                  <a:lnTo>
                    <a:pt x="1163" y="102"/>
                  </a:lnTo>
                  <a:lnTo>
                    <a:pt x="1186" y="114"/>
                  </a:lnTo>
                  <a:lnTo>
                    <a:pt x="1208" y="127"/>
                  </a:lnTo>
                  <a:lnTo>
                    <a:pt x="1229" y="141"/>
                  </a:lnTo>
                  <a:lnTo>
                    <a:pt x="1236" y="146"/>
                  </a:lnTo>
                  <a:lnTo>
                    <a:pt x="1241" y="152"/>
                  </a:lnTo>
                  <a:lnTo>
                    <a:pt x="1247" y="157"/>
                  </a:lnTo>
                  <a:lnTo>
                    <a:pt x="1250" y="163"/>
                  </a:lnTo>
                  <a:lnTo>
                    <a:pt x="1255" y="175"/>
                  </a:lnTo>
                  <a:lnTo>
                    <a:pt x="1259" y="185"/>
                  </a:lnTo>
                  <a:lnTo>
                    <a:pt x="1260" y="195"/>
                  </a:lnTo>
                  <a:lnTo>
                    <a:pt x="1260" y="203"/>
                  </a:lnTo>
                  <a:lnTo>
                    <a:pt x="1260" y="208"/>
                  </a:lnTo>
                  <a:lnTo>
                    <a:pt x="1260" y="210"/>
                  </a:lnTo>
                  <a:lnTo>
                    <a:pt x="1260" y="826"/>
                  </a:lnTo>
                  <a:lnTo>
                    <a:pt x="1247" y="832"/>
                  </a:lnTo>
                  <a:lnTo>
                    <a:pt x="1211" y="847"/>
                  </a:lnTo>
                  <a:lnTo>
                    <a:pt x="1185" y="858"/>
                  </a:lnTo>
                  <a:lnTo>
                    <a:pt x="1155" y="869"/>
                  </a:lnTo>
                  <a:lnTo>
                    <a:pt x="1120" y="882"/>
                  </a:lnTo>
                  <a:lnTo>
                    <a:pt x="1081" y="895"/>
                  </a:lnTo>
                  <a:lnTo>
                    <a:pt x="1040" y="908"/>
                  </a:lnTo>
                  <a:lnTo>
                    <a:pt x="996" y="920"/>
                  </a:lnTo>
                  <a:lnTo>
                    <a:pt x="948" y="932"/>
                  </a:lnTo>
                  <a:lnTo>
                    <a:pt x="900" y="941"/>
                  </a:lnTo>
                  <a:lnTo>
                    <a:pt x="874" y="947"/>
                  </a:lnTo>
                  <a:lnTo>
                    <a:pt x="849" y="950"/>
                  </a:lnTo>
                  <a:lnTo>
                    <a:pt x="823" y="954"/>
                  </a:lnTo>
                  <a:lnTo>
                    <a:pt x="796" y="958"/>
                  </a:lnTo>
                  <a:lnTo>
                    <a:pt x="770" y="960"/>
                  </a:lnTo>
                  <a:lnTo>
                    <a:pt x="743" y="962"/>
                  </a:lnTo>
                  <a:lnTo>
                    <a:pt x="717" y="963"/>
                  </a:lnTo>
                  <a:lnTo>
                    <a:pt x="690" y="963"/>
                  </a:lnTo>
                  <a:lnTo>
                    <a:pt x="584" y="96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6526800" y="4239000"/>
              <a:ext cx="628560" cy="205200"/>
            </a:xfrm>
            <a:custGeom>
              <a:avLst/>
              <a:gdLst/>
              <a:ahLst/>
              <a:rect l="l" t="t" r="r" b="b"/>
              <a:pathLst>
                <a:path w="1258" h="410">
                  <a:moveTo>
                    <a:pt x="624" y="410"/>
                  </a:moveTo>
                  <a:lnTo>
                    <a:pt x="656" y="410"/>
                  </a:lnTo>
                  <a:lnTo>
                    <a:pt x="687" y="409"/>
                  </a:lnTo>
                  <a:lnTo>
                    <a:pt x="718" y="407"/>
                  </a:lnTo>
                  <a:lnTo>
                    <a:pt x="749" y="404"/>
                  </a:lnTo>
                  <a:lnTo>
                    <a:pt x="779" y="400"/>
                  </a:lnTo>
                  <a:lnTo>
                    <a:pt x="808" y="397"/>
                  </a:lnTo>
                  <a:lnTo>
                    <a:pt x="837" y="393"/>
                  </a:lnTo>
                  <a:lnTo>
                    <a:pt x="865" y="387"/>
                  </a:lnTo>
                  <a:lnTo>
                    <a:pt x="893" y="382"/>
                  </a:lnTo>
                  <a:lnTo>
                    <a:pt x="920" y="376"/>
                  </a:lnTo>
                  <a:lnTo>
                    <a:pt x="947" y="369"/>
                  </a:lnTo>
                  <a:lnTo>
                    <a:pt x="973" y="363"/>
                  </a:lnTo>
                  <a:lnTo>
                    <a:pt x="998" y="355"/>
                  </a:lnTo>
                  <a:lnTo>
                    <a:pt x="1022" y="347"/>
                  </a:lnTo>
                  <a:lnTo>
                    <a:pt x="1046" y="340"/>
                  </a:lnTo>
                  <a:lnTo>
                    <a:pt x="1067" y="331"/>
                  </a:lnTo>
                  <a:lnTo>
                    <a:pt x="1089" y="323"/>
                  </a:lnTo>
                  <a:lnTo>
                    <a:pt x="1110" y="314"/>
                  </a:lnTo>
                  <a:lnTo>
                    <a:pt x="1128" y="305"/>
                  </a:lnTo>
                  <a:lnTo>
                    <a:pt x="1146" y="297"/>
                  </a:lnTo>
                  <a:lnTo>
                    <a:pt x="1163" y="288"/>
                  </a:lnTo>
                  <a:lnTo>
                    <a:pt x="1179" y="279"/>
                  </a:lnTo>
                  <a:lnTo>
                    <a:pt x="1193" y="271"/>
                  </a:lnTo>
                  <a:lnTo>
                    <a:pt x="1206" y="262"/>
                  </a:lnTo>
                  <a:lnTo>
                    <a:pt x="1218" y="254"/>
                  </a:lnTo>
                  <a:lnTo>
                    <a:pt x="1228" y="245"/>
                  </a:lnTo>
                  <a:lnTo>
                    <a:pt x="1237" y="236"/>
                  </a:lnTo>
                  <a:lnTo>
                    <a:pt x="1245" y="229"/>
                  </a:lnTo>
                  <a:lnTo>
                    <a:pt x="1250" y="220"/>
                  </a:lnTo>
                  <a:lnTo>
                    <a:pt x="1254" y="212"/>
                  </a:lnTo>
                  <a:lnTo>
                    <a:pt x="1257" y="205"/>
                  </a:lnTo>
                  <a:lnTo>
                    <a:pt x="1258" y="198"/>
                  </a:lnTo>
                  <a:lnTo>
                    <a:pt x="1257" y="191"/>
                  </a:lnTo>
                  <a:lnTo>
                    <a:pt x="1253" y="184"/>
                  </a:lnTo>
                  <a:lnTo>
                    <a:pt x="1249" y="177"/>
                  </a:lnTo>
                  <a:lnTo>
                    <a:pt x="1242" y="169"/>
                  </a:lnTo>
                  <a:lnTo>
                    <a:pt x="1235" y="161"/>
                  </a:lnTo>
                  <a:lnTo>
                    <a:pt x="1225" y="153"/>
                  </a:lnTo>
                  <a:lnTo>
                    <a:pt x="1214" y="144"/>
                  </a:lnTo>
                  <a:lnTo>
                    <a:pt x="1201" y="136"/>
                  </a:lnTo>
                  <a:lnTo>
                    <a:pt x="1187" y="128"/>
                  </a:lnTo>
                  <a:lnTo>
                    <a:pt x="1172" y="120"/>
                  </a:lnTo>
                  <a:lnTo>
                    <a:pt x="1156" y="111"/>
                  </a:lnTo>
                  <a:lnTo>
                    <a:pt x="1138" y="103"/>
                  </a:lnTo>
                  <a:lnTo>
                    <a:pt x="1098" y="87"/>
                  </a:lnTo>
                  <a:lnTo>
                    <a:pt x="1054" y="71"/>
                  </a:lnTo>
                  <a:lnTo>
                    <a:pt x="1006" y="57"/>
                  </a:lnTo>
                  <a:lnTo>
                    <a:pt x="955" y="43"/>
                  </a:lnTo>
                  <a:lnTo>
                    <a:pt x="900" y="31"/>
                  </a:lnTo>
                  <a:lnTo>
                    <a:pt x="843" y="20"/>
                  </a:lnTo>
                  <a:lnTo>
                    <a:pt x="814" y="16"/>
                  </a:lnTo>
                  <a:lnTo>
                    <a:pt x="784" y="12"/>
                  </a:lnTo>
                  <a:lnTo>
                    <a:pt x="754" y="8"/>
                  </a:lnTo>
                  <a:lnTo>
                    <a:pt x="723" y="5"/>
                  </a:lnTo>
                  <a:lnTo>
                    <a:pt x="693" y="3"/>
                  </a:lnTo>
                  <a:lnTo>
                    <a:pt x="661" y="1"/>
                  </a:lnTo>
                  <a:lnTo>
                    <a:pt x="629" y="0"/>
                  </a:lnTo>
                  <a:lnTo>
                    <a:pt x="597" y="0"/>
                  </a:lnTo>
                  <a:lnTo>
                    <a:pt x="566" y="0"/>
                  </a:lnTo>
                  <a:lnTo>
                    <a:pt x="535" y="1"/>
                  </a:lnTo>
                  <a:lnTo>
                    <a:pt x="505" y="3"/>
                  </a:lnTo>
                  <a:lnTo>
                    <a:pt x="474" y="5"/>
                  </a:lnTo>
                  <a:lnTo>
                    <a:pt x="445" y="8"/>
                  </a:lnTo>
                  <a:lnTo>
                    <a:pt x="417" y="12"/>
                  </a:lnTo>
                  <a:lnTo>
                    <a:pt x="389" y="16"/>
                  </a:lnTo>
                  <a:lnTo>
                    <a:pt x="361" y="20"/>
                  </a:lnTo>
                  <a:lnTo>
                    <a:pt x="335" y="26"/>
                  </a:lnTo>
                  <a:lnTo>
                    <a:pt x="309" y="31"/>
                  </a:lnTo>
                  <a:lnTo>
                    <a:pt x="284" y="36"/>
                  </a:lnTo>
                  <a:lnTo>
                    <a:pt x="259" y="43"/>
                  </a:lnTo>
                  <a:lnTo>
                    <a:pt x="237" y="49"/>
                  </a:lnTo>
                  <a:lnTo>
                    <a:pt x="214" y="57"/>
                  </a:lnTo>
                  <a:lnTo>
                    <a:pt x="192" y="63"/>
                  </a:lnTo>
                  <a:lnTo>
                    <a:pt x="172" y="71"/>
                  </a:lnTo>
                  <a:lnTo>
                    <a:pt x="152" y="79"/>
                  </a:lnTo>
                  <a:lnTo>
                    <a:pt x="134" y="87"/>
                  </a:lnTo>
                  <a:lnTo>
                    <a:pt x="117" y="95"/>
                  </a:lnTo>
                  <a:lnTo>
                    <a:pt x="99" y="103"/>
                  </a:lnTo>
                  <a:lnTo>
                    <a:pt x="84" y="111"/>
                  </a:lnTo>
                  <a:lnTo>
                    <a:pt x="70" y="120"/>
                  </a:lnTo>
                  <a:lnTo>
                    <a:pt x="57" y="128"/>
                  </a:lnTo>
                  <a:lnTo>
                    <a:pt x="45" y="136"/>
                  </a:lnTo>
                  <a:lnTo>
                    <a:pt x="36" y="144"/>
                  </a:lnTo>
                  <a:lnTo>
                    <a:pt x="26" y="153"/>
                  </a:lnTo>
                  <a:lnTo>
                    <a:pt x="18" y="161"/>
                  </a:lnTo>
                  <a:lnTo>
                    <a:pt x="12" y="169"/>
                  </a:lnTo>
                  <a:lnTo>
                    <a:pt x="6" y="177"/>
                  </a:lnTo>
                  <a:lnTo>
                    <a:pt x="3" y="184"/>
                  </a:lnTo>
                  <a:lnTo>
                    <a:pt x="1" y="191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3" y="212"/>
                  </a:lnTo>
                  <a:lnTo>
                    <a:pt x="7" y="220"/>
                  </a:lnTo>
                  <a:lnTo>
                    <a:pt x="13" y="229"/>
                  </a:lnTo>
                  <a:lnTo>
                    <a:pt x="20" y="236"/>
                  </a:lnTo>
                  <a:lnTo>
                    <a:pt x="29" y="245"/>
                  </a:lnTo>
                  <a:lnTo>
                    <a:pt x="39" y="254"/>
                  </a:lnTo>
                  <a:lnTo>
                    <a:pt x="51" y="262"/>
                  </a:lnTo>
                  <a:lnTo>
                    <a:pt x="64" y="271"/>
                  </a:lnTo>
                  <a:lnTo>
                    <a:pt x="78" y="279"/>
                  </a:lnTo>
                  <a:lnTo>
                    <a:pt x="93" y="288"/>
                  </a:lnTo>
                  <a:lnTo>
                    <a:pt x="110" y="297"/>
                  </a:lnTo>
                  <a:lnTo>
                    <a:pt x="127" y="305"/>
                  </a:lnTo>
                  <a:lnTo>
                    <a:pt x="147" y="314"/>
                  </a:lnTo>
                  <a:lnTo>
                    <a:pt x="166" y="323"/>
                  </a:lnTo>
                  <a:lnTo>
                    <a:pt x="187" y="331"/>
                  </a:lnTo>
                  <a:lnTo>
                    <a:pt x="210" y="340"/>
                  </a:lnTo>
                  <a:lnTo>
                    <a:pt x="232" y="347"/>
                  </a:lnTo>
                  <a:lnTo>
                    <a:pt x="256" y="355"/>
                  </a:lnTo>
                  <a:lnTo>
                    <a:pt x="281" y="363"/>
                  </a:lnTo>
                  <a:lnTo>
                    <a:pt x="306" y="369"/>
                  </a:lnTo>
                  <a:lnTo>
                    <a:pt x="332" y="376"/>
                  </a:lnTo>
                  <a:lnTo>
                    <a:pt x="359" y="382"/>
                  </a:lnTo>
                  <a:lnTo>
                    <a:pt x="387" y="387"/>
                  </a:lnTo>
                  <a:lnTo>
                    <a:pt x="415" y="393"/>
                  </a:lnTo>
                  <a:lnTo>
                    <a:pt x="443" y="397"/>
                  </a:lnTo>
                  <a:lnTo>
                    <a:pt x="472" y="400"/>
                  </a:lnTo>
                  <a:lnTo>
                    <a:pt x="502" y="404"/>
                  </a:lnTo>
                  <a:lnTo>
                    <a:pt x="533" y="407"/>
                  </a:lnTo>
                  <a:lnTo>
                    <a:pt x="563" y="409"/>
                  </a:lnTo>
                  <a:lnTo>
                    <a:pt x="593" y="410"/>
                  </a:lnTo>
                  <a:lnTo>
                    <a:pt x="624" y="4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6526800" y="4239000"/>
              <a:ext cx="628560" cy="205200"/>
            </a:xfrm>
            <a:custGeom>
              <a:avLst/>
              <a:gdLst/>
              <a:ahLst/>
              <a:rect l="l" t="t" r="r" b="b"/>
              <a:pathLst>
                <a:path w="1258" h="410">
                  <a:moveTo>
                    <a:pt x="624" y="410"/>
                  </a:moveTo>
                  <a:lnTo>
                    <a:pt x="656" y="410"/>
                  </a:lnTo>
                  <a:lnTo>
                    <a:pt x="687" y="409"/>
                  </a:lnTo>
                  <a:lnTo>
                    <a:pt x="718" y="407"/>
                  </a:lnTo>
                  <a:lnTo>
                    <a:pt x="749" y="404"/>
                  </a:lnTo>
                  <a:lnTo>
                    <a:pt x="779" y="400"/>
                  </a:lnTo>
                  <a:lnTo>
                    <a:pt x="808" y="397"/>
                  </a:lnTo>
                  <a:lnTo>
                    <a:pt x="837" y="393"/>
                  </a:lnTo>
                  <a:lnTo>
                    <a:pt x="865" y="387"/>
                  </a:lnTo>
                  <a:lnTo>
                    <a:pt x="893" y="382"/>
                  </a:lnTo>
                  <a:lnTo>
                    <a:pt x="920" y="376"/>
                  </a:lnTo>
                  <a:lnTo>
                    <a:pt x="947" y="369"/>
                  </a:lnTo>
                  <a:lnTo>
                    <a:pt x="973" y="363"/>
                  </a:lnTo>
                  <a:lnTo>
                    <a:pt x="998" y="355"/>
                  </a:lnTo>
                  <a:lnTo>
                    <a:pt x="1022" y="347"/>
                  </a:lnTo>
                  <a:lnTo>
                    <a:pt x="1046" y="340"/>
                  </a:lnTo>
                  <a:lnTo>
                    <a:pt x="1067" y="331"/>
                  </a:lnTo>
                  <a:lnTo>
                    <a:pt x="1089" y="323"/>
                  </a:lnTo>
                  <a:lnTo>
                    <a:pt x="1110" y="314"/>
                  </a:lnTo>
                  <a:lnTo>
                    <a:pt x="1128" y="305"/>
                  </a:lnTo>
                  <a:lnTo>
                    <a:pt x="1146" y="297"/>
                  </a:lnTo>
                  <a:lnTo>
                    <a:pt x="1163" y="288"/>
                  </a:lnTo>
                  <a:lnTo>
                    <a:pt x="1179" y="279"/>
                  </a:lnTo>
                  <a:lnTo>
                    <a:pt x="1193" y="271"/>
                  </a:lnTo>
                  <a:lnTo>
                    <a:pt x="1206" y="262"/>
                  </a:lnTo>
                  <a:lnTo>
                    <a:pt x="1218" y="254"/>
                  </a:lnTo>
                  <a:lnTo>
                    <a:pt x="1228" y="245"/>
                  </a:lnTo>
                  <a:lnTo>
                    <a:pt x="1237" y="236"/>
                  </a:lnTo>
                  <a:lnTo>
                    <a:pt x="1245" y="229"/>
                  </a:lnTo>
                  <a:lnTo>
                    <a:pt x="1250" y="220"/>
                  </a:lnTo>
                  <a:lnTo>
                    <a:pt x="1254" y="212"/>
                  </a:lnTo>
                  <a:lnTo>
                    <a:pt x="1257" y="205"/>
                  </a:lnTo>
                  <a:lnTo>
                    <a:pt x="1258" y="198"/>
                  </a:lnTo>
                  <a:lnTo>
                    <a:pt x="1257" y="191"/>
                  </a:lnTo>
                  <a:lnTo>
                    <a:pt x="1253" y="184"/>
                  </a:lnTo>
                  <a:lnTo>
                    <a:pt x="1249" y="177"/>
                  </a:lnTo>
                  <a:lnTo>
                    <a:pt x="1242" y="169"/>
                  </a:lnTo>
                  <a:lnTo>
                    <a:pt x="1235" y="161"/>
                  </a:lnTo>
                  <a:lnTo>
                    <a:pt x="1225" y="153"/>
                  </a:lnTo>
                  <a:lnTo>
                    <a:pt x="1214" y="144"/>
                  </a:lnTo>
                  <a:lnTo>
                    <a:pt x="1201" y="136"/>
                  </a:lnTo>
                  <a:lnTo>
                    <a:pt x="1187" y="128"/>
                  </a:lnTo>
                  <a:lnTo>
                    <a:pt x="1172" y="120"/>
                  </a:lnTo>
                  <a:lnTo>
                    <a:pt x="1156" y="111"/>
                  </a:lnTo>
                  <a:lnTo>
                    <a:pt x="1138" y="103"/>
                  </a:lnTo>
                  <a:lnTo>
                    <a:pt x="1098" y="87"/>
                  </a:lnTo>
                  <a:lnTo>
                    <a:pt x="1054" y="71"/>
                  </a:lnTo>
                  <a:lnTo>
                    <a:pt x="1006" y="57"/>
                  </a:lnTo>
                  <a:lnTo>
                    <a:pt x="955" y="43"/>
                  </a:lnTo>
                  <a:lnTo>
                    <a:pt x="900" y="31"/>
                  </a:lnTo>
                  <a:lnTo>
                    <a:pt x="843" y="20"/>
                  </a:lnTo>
                  <a:lnTo>
                    <a:pt x="814" y="16"/>
                  </a:lnTo>
                  <a:lnTo>
                    <a:pt x="784" y="12"/>
                  </a:lnTo>
                  <a:lnTo>
                    <a:pt x="754" y="8"/>
                  </a:lnTo>
                  <a:lnTo>
                    <a:pt x="723" y="5"/>
                  </a:lnTo>
                  <a:lnTo>
                    <a:pt x="693" y="3"/>
                  </a:lnTo>
                  <a:lnTo>
                    <a:pt x="661" y="1"/>
                  </a:lnTo>
                  <a:lnTo>
                    <a:pt x="629" y="0"/>
                  </a:lnTo>
                  <a:lnTo>
                    <a:pt x="597" y="0"/>
                  </a:lnTo>
                  <a:lnTo>
                    <a:pt x="566" y="0"/>
                  </a:lnTo>
                  <a:lnTo>
                    <a:pt x="535" y="1"/>
                  </a:lnTo>
                  <a:lnTo>
                    <a:pt x="505" y="3"/>
                  </a:lnTo>
                  <a:lnTo>
                    <a:pt x="474" y="5"/>
                  </a:lnTo>
                  <a:lnTo>
                    <a:pt x="445" y="8"/>
                  </a:lnTo>
                  <a:lnTo>
                    <a:pt x="417" y="12"/>
                  </a:lnTo>
                  <a:lnTo>
                    <a:pt x="389" y="16"/>
                  </a:lnTo>
                  <a:lnTo>
                    <a:pt x="361" y="20"/>
                  </a:lnTo>
                  <a:lnTo>
                    <a:pt x="335" y="26"/>
                  </a:lnTo>
                  <a:lnTo>
                    <a:pt x="309" y="31"/>
                  </a:lnTo>
                  <a:lnTo>
                    <a:pt x="284" y="36"/>
                  </a:lnTo>
                  <a:lnTo>
                    <a:pt x="259" y="43"/>
                  </a:lnTo>
                  <a:lnTo>
                    <a:pt x="237" y="49"/>
                  </a:lnTo>
                  <a:lnTo>
                    <a:pt x="214" y="57"/>
                  </a:lnTo>
                  <a:lnTo>
                    <a:pt x="192" y="63"/>
                  </a:lnTo>
                  <a:lnTo>
                    <a:pt x="172" y="71"/>
                  </a:lnTo>
                  <a:lnTo>
                    <a:pt x="152" y="79"/>
                  </a:lnTo>
                  <a:lnTo>
                    <a:pt x="134" y="87"/>
                  </a:lnTo>
                  <a:lnTo>
                    <a:pt x="117" y="95"/>
                  </a:lnTo>
                  <a:lnTo>
                    <a:pt x="99" y="103"/>
                  </a:lnTo>
                  <a:lnTo>
                    <a:pt x="84" y="111"/>
                  </a:lnTo>
                  <a:lnTo>
                    <a:pt x="70" y="120"/>
                  </a:lnTo>
                  <a:lnTo>
                    <a:pt x="57" y="128"/>
                  </a:lnTo>
                  <a:lnTo>
                    <a:pt x="45" y="136"/>
                  </a:lnTo>
                  <a:lnTo>
                    <a:pt x="36" y="144"/>
                  </a:lnTo>
                  <a:lnTo>
                    <a:pt x="26" y="153"/>
                  </a:lnTo>
                  <a:lnTo>
                    <a:pt x="18" y="161"/>
                  </a:lnTo>
                  <a:lnTo>
                    <a:pt x="12" y="169"/>
                  </a:lnTo>
                  <a:lnTo>
                    <a:pt x="6" y="177"/>
                  </a:lnTo>
                  <a:lnTo>
                    <a:pt x="3" y="184"/>
                  </a:lnTo>
                  <a:lnTo>
                    <a:pt x="1" y="191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3" y="212"/>
                  </a:lnTo>
                  <a:lnTo>
                    <a:pt x="7" y="220"/>
                  </a:lnTo>
                  <a:lnTo>
                    <a:pt x="13" y="229"/>
                  </a:lnTo>
                  <a:lnTo>
                    <a:pt x="20" y="236"/>
                  </a:lnTo>
                  <a:lnTo>
                    <a:pt x="29" y="245"/>
                  </a:lnTo>
                  <a:lnTo>
                    <a:pt x="39" y="254"/>
                  </a:lnTo>
                  <a:lnTo>
                    <a:pt x="51" y="262"/>
                  </a:lnTo>
                  <a:lnTo>
                    <a:pt x="64" y="271"/>
                  </a:lnTo>
                  <a:lnTo>
                    <a:pt x="78" y="279"/>
                  </a:lnTo>
                  <a:lnTo>
                    <a:pt x="93" y="288"/>
                  </a:lnTo>
                  <a:lnTo>
                    <a:pt x="110" y="297"/>
                  </a:lnTo>
                  <a:lnTo>
                    <a:pt x="127" y="305"/>
                  </a:lnTo>
                  <a:lnTo>
                    <a:pt x="147" y="314"/>
                  </a:lnTo>
                  <a:lnTo>
                    <a:pt x="166" y="323"/>
                  </a:lnTo>
                  <a:lnTo>
                    <a:pt x="187" y="331"/>
                  </a:lnTo>
                  <a:lnTo>
                    <a:pt x="210" y="340"/>
                  </a:lnTo>
                  <a:lnTo>
                    <a:pt x="232" y="347"/>
                  </a:lnTo>
                  <a:lnTo>
                    <a:pt x="256" y="355"/>
                  </a:lnTo>
                  <a:lnTo>
                    <a:pt x="281" y="363"/>
                  </a:lnTo>
                  <a:lnTo>
                    <a:pt x="306" y="369"/>
                  </a:lnTo>
                  <a:lnTo>
                    <a:pt x="332" y="376"/>
                  </a:lnTo>
                  <a:lnTo>
                    <a:pt x="359" y="382"/>
                  </a:lnTo>
                  <a:lnTo>
                    <a:pt x="387" y="387"/>
                  </a:lnTo>
                  <a:lnTo>
                    <a:pt x="415" y="393"/>
                  </a:lnTo>
                  <a:lnTo>
                    <a:pt x="443" y="397"/>
                  </a:lnTo>
                  <a:lnTo>
                    <a:pt x="472" y="400"/>
                  </a:lnTo>
                  <a:lnTo>
                    <a:pt x="502" y="404"/>
                  </a:lnTo>
                  <a:lnTo>
                    <a:pt x="533" y="407"/>
                  </a:lnTo>
                  <a:lnTo>
                    <a:pt x="563" y="409"/>
                  </a:lnTo>
                  <a:lnTo>
                    <a:pt x="593" y="410"/>
                  </a:lnTo>
                  <a:lnTo>
                    <a:pt x="624" y="41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6698520" y="4289040"/>
              <a:ext cx="281520" cy="91440"/>
            </a:xfrm>
            <a:custGeom>
              <a:avLst/>
              <a:gdLst/>
              <a:ahLst/>
              <a:rect l="l" t="t" r="r" b="b"/>
              <a:pathLst>
                <a:path w="564" h="184">
                  <a:moveTo>
                    <a:pt x="281" y="184"/>
                  </a:moveTo>
                  <a:lnTo>
                    <a:pt x="309" y="183"/>
                  </a:lnTo>
                  <a:lnTo>
                    <a:pt x="337" y="181"/>
                  </a:lnTo>
                  <a:lnTo>
                    <a:pt x="364" y="177"/>
                  </a:lnTo>
                  <a:lnTo>
                    <a:pt x="389" y="173"/>
                  </a:lnTo>
                  <a:lnTo>
                    <a:pt x="414" y="168"/>
                  </a:lnTo>
                  <a:lnTo>
                    <a:pt x="438" y="162"/>
                  </a:lnTo>
                  <a:lnTo>
                    <a:pt x="459" y="156"/>
                  </a:lnTo>
                  <a:lnTo>
                    <a:pt x="480" y="148"/>
                  </a:lnTo>
                  <a:lnTo>
                    <a:pt x="498" y="141"/>
                  </a:lnTo>
                  <a:lnTo>
                    <a:pt x="515" y="133"/>
                  </a:lnTo>
                  <a:lnTo>
                    <a:pt x="529" y="126"/>
                  </a:lnTo>
                  <a:lnTo>
                    <a:pt x="542" y="118"/>
                  </a:lnTo>
                  <a:lnTo>
                    <a:pt x="551" y="109"/>
                  </a:lnTo>
                  <a:lnTo>
                    <a:pt x="558" y="103"/>
                  </a:lnTo>
                  <a:lnTo>
                    <a:pt x="561" y="99"/>
                  </a:lnTo>
                  <a:lnTo>
                    <a:pt x="563" y="95"/>
                  </a:lnTo>
                  <a:lnTo>
                    <a:pt x="564" y="92"/>
                  </a:lnTo>
                  <a:lnTo>
                    <a:pt x="564" y="89"/>
                  </a:lnTo>
                  <a:lnTo>
                    <a:pt x="564" y="86"/>
                  </a:lnTo>
                  <a:lnTo>
                    <a:pt x="562" y="82"/>
                  </a:lnTo>
                  <a:lnTo>
                    <a:pt x="561" y="79"/>
                  </a:lnTo>
                  <a:lnTo>
                    <a:pt x="558" y="76"/>
                  </a:lnTo>
                  <a:lnTo>
                    <a:pt x="550" y="68"/>
                  </a:lnTo>
                  <a:lnTo>
                    <a:pt x="539" y="62"/>
                  </a:lnTo>
                  <a:lnTo>
                    <a:pt x="526" y="54"/>
                  </a:lnTo>
                  <a:lnTo>
                    <a:pt x="511" y="47"/>
                  </a:lnTo>
                  <a:lnTo>
                    <a:pt x="493" y="39"/>
                  </a:lnTo>
                  <a:lnTo>
                    <a:pt x="474" y="33"/>
                  </a:lnTo>
                  <a:lnTo>
                    <a:pt x="452" y="26"/>
                  </a:lnTo>
                  <a:lnTo>
                    <a:pt x="429" y="20"/>
                  </a:lnTo>
                  <a:lnTo>
                    <a:pt x="405" y="14"/>
                  </a:lnTo>
                  <a:lnTo>
                    <a:pt x="380" y="9"/>
                  </a:lnTo>
                  <a:lnTo>
                    <a:pt x="353" y="6"/>
                  </a:lnTo>
                  <a:lnTo>
                    <a:pt x="325" y="2"/>
                  </a:lnTo>
                  <a:lnTo>
                    <a:pt x="297" y="0"/>
                  </a:lnTo>
                  <a:lnTo>
                    <a:pt x="269" y="0"/>
                  </a:lnTo>
                  <a:lnTo>
                    <a:pt x="241" y="0"/>
                  </a:lnTo>
                  <a:lnTo>
                    <a:pt x="214" y="2"/>
                  </a:lnTo>
                  <a:lnTo>
                    <a:pt x="188" y="6"/>
                  </a:lnTo>
                  <a:lnTo>
                    <a:pt x="163" y="9"/>
                  </a:lnTo>
                  <a:lnTo>
                    <a:pt x="140" y="14"/>
                  </a:lnTo>
                  <a:lnTo>
                    <a:pt x="118" y="20"/>
                  </a:lnTo>
                  <a:lnTo>
                    <a:pt x="98" y="26"/>
                  </a:lnTo>
                  <a:lnTo>
                    <a:pt x="78" y="33"/>
                  </a:lnTo>
                  <a:lnTo>
                    <a:pt x="61" y="39"/>
                  </a:lnTo>
                  <a:lnTo>
                    <a:pt x="46" y="47"/>
                  </a:lnTo>
                  <a:lnTo>
                    <a:pt x="33" y="54"/>
                  </a:lnTo>
                  <a:lnTo>
                    <a:pt x="21" y="62"/>
                  </a:lnTo>
                  <a:lnTo>
                    <a:pt x="12" y="68"/>
                  </a:lnTo>
                  <a:lnTo>
                    <a:pt x="6" y="76"/>
                  </a:lnTo>
                  <a:lnTo>
                    <a:pt x="4" y="79"/>
                  </a:lnTo>
                  <a:lnTo>
                    <a:pt x="2" y="82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1" y="92"/>
                  </a:lnTo>
                  <a:lnTo>
                    <a:pt x="2" y="95"/>
                  </a:lnTo>
                  <a:lnTo>
                    <a:pt x="4" y="99"/>
                  </a:lnTo>
                  <a:lnTo>
                    <a:pt x="7" y="103"/>
                  </a:lnTo>
                  <a:lnTo>
                    <a:pt x="13" y="109"/>
                  </a:lnTo>
                  <a:lnTo>
                    <a:pt x="23" y="118"/>
                  </a:lnTo>
                  <a:lnTo>
                    <a:pt x="36" y="126"/>
                  </a:lnTo>
                  <a:lnTo>
                    <a:pt x="50" y="133"/>
                  </a:lnTo>
                  <a:lnTo>
                    <a:pt x="66" y="141"/>
                  </a:lnTo>
                  <a:lnTo>
                    <a:pt x="85" y="148"/>
                  </a:lnTo>
                  <a:lnTo>
                    <a:pt x="105" y="156"/>
                  </a:lnTo>
                  <a:lnTo>
                    <a:pt x="127" y="162"/>
                  </a:lnTo>
                  <a:lnTo>
                    <a:pt x="150" y="168"/>
                  </a:lnTo>
                  <a:lnTo>
                    <a:pt x="174" y="173"/>
                  </a:lnTo>
                  <a:lnTo>
                    <a:pt x="200" y="177"/>
                  </a:lnTo>
                  <a:lnTo>
                    <a:pt x="226" y="181"/>
                  </a:lnTo>
                  <a:lnTo>
                    <a:pt x="254" y="183"/>
                  </a:lnTo>
                  <a:lnTo>
                    <a:pt x="281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6698520" y="4289040"/>
              <a:ext cx="281520" cy="91440"/>
            </a:xfrm>
            <a:custGeom>
              <a:avLst/>
              <a:gdLst/>
              <a:ahLst/>
              <a:rect l="l" t="t" r="r" b="b"/>
              <a:pathLst>
                <a:path w="564" h="184">
                  <a:moveTo>
                    <a:pt x="281" y="184"/>
                  </a:moveTo>
                  <a:lnTo>
                    <a:pt x="309" y="183"/>
                  </a:lnTo>
                  <a:lnTo>
                    <a:pt x="337" y="181"/>
                  </a:lnTo>
                  <a:lnTo>
                    <a:pt x="364" y="177"/>
                  </a:lnTo>
                  <a:lnTo>
                    <a:pt x="389" y="173"/>
                  </a:lnTo>
                  <a:lnTo>
                    <a:pt x="414" y="168"/>
                  </a:lnTo>
                  <a:lnTo>
                    <a:pt x="438" y="162"/>
                  </a:lnTo>
                  <a:lnTo>
                    <a:pt x="459" y="156"/>
                  </a:lnTo>
                  <a:lnTo>
                    <a:pt x="480" y="148"/>
                  </a:lnTo>
                  <a:lnTo>
                    <a:pt x="498" y="141"/>
                  </a:lnTo>
                  <a:lnTo>
                    <a:pt x="515" y="133"/>
                  </a:lnTo>
                  <a:lnTo>
                    <a:pt x="529" y="126"/>
                  </a:lnTo>
                  <a:lnTo>
                    <a:pt x="542" y="118"/>
                  </a:lnTo>
                  <a:lnTo>
                    <a:pt x="551" y="109"/>
                  </a:lnTo>
                  <a:lnTo>
                    <a:pt x="558" y="103"/>
                  </a:lnTo>
                  <a:lnTo>
                    <a:pt x="561" y="99"/>
                  </a:lnTo>
                  <a:lnTo>
                    <a:pt x="563" y="95"/>
                  </a:lnTo>
                  <a:lnTo>
                    <a:pt x="564" y="92"/>
                  </a:lnTo>
                  <a:lnTo>
                    <a:pt x="564" y="89"/>
                  </a:lnTo>
                  <a:lnTo>
                    <a:pt x="564" y="86"/>
                  </a:lnTo>
                  <a:lnTo>
                    <a:pt x="562" y="82"/>
                  </a:lnTo>
                  <a:lnTo>
                    <a:pt x="561" y="79"/>
                  </a:lnTo>
                  <a:lnTo>
                    <a:pt x="558" y="76"/>
                  </a:lnTo>
                  <a:lnTo>
                    <a:pt x="550" y="68"/>
                  </a:lnTo>
                  <a:lnTo>
                    <a:pt x="539" y="62"/>
                  </a:lnTo>
                  <a:lnTo>
                    <a:pt x="526" y="54"/>
                  </a:lnTo>
                  <a:lnTo>
                    <a:pt x="511" y="47"/>
                  </a:lnTo>
                  <a:lnTo>
                    <a:pt x="493" y="39"/>
                  </a:lnTo>
                  <a:lnTo>
                    <a:pt x="474" y="33"/>
                  </a:lnTo>
                  <a:lnTo>
                    <a:pt x="452" y="26"/>
                  </a:lnTo>
                  <a:lnTo>
                    <a:pt x="429" y="20"/>
                  </a:lnTo>
                  <a:lnTo>
                    <a:pt x="405" y="14"/>
                  </a:lnTo>
                  <a:lnTo>
                    <a:pt x="380" y="9"/>
                  </a:lnTo>
                  <a:lnTo>
                    <a:pt x="353" y="6"/>
                  </a:lnTo>
                  <a:lnTo>
                    <a:pt x="325" y="2"/>
                  </a:lnTo>
                  <a:lnTo>
                    <a:pt x="297" y="0"/>
                  </a:lnTo>
                  <a:lnTo>
                    <a:pt x="269" y="0"/>
                  </a:lnTo>
                  <a:lnTo>
                    <a:pt x="241" y="0"/>
                  </a:lnTo>
                  <a:lnTo>
                    <a:pt x="214" y="2"/>
                  </a:lnTo>
                  <a:lnTo>
                    <a:pt x="188" y="6"/>
                  </a:lnTo>
                  <a:lnTo>
                    <a:pt x="163" y="9"/>
                  </a:lnTo>
                  <a:lnTo>
                    <a:pt x="140" y="14"/>
                  </a:lnTo>
                  <a:lnTo>
                    <a:pt x="118" y="20"/>
                  </a:lnTo>
                  <a:lnTo>
                    <a:pt x="98" y="26"/>
                  </a:lnTo>
                  <a:lnTo>
                    <a:pt x="78" y="33"/>
                  </a:lnTo>
                  <a:lnTo>
                    <a:pt x="61" y="39"/>
                  </a:lnTo>
                  <a:lnTo>
                    <a:pt x="46" y="47"/>
                  </a:lnTo>
                  <a:lnTo>
                    <a:pt x="33" y="54"/>
                  </a:lnTo>
                  <a:lnTo>
                    <a:pt x="21" y="62"/>
                  </a:lnTo>
                  <a:lnTo>
                    <a:pt x="12" y="68"/>
                  </a:lnTo>
                  <a:lnTo>
                    <a:pt x="6" y="76"/>
                  </a:lnTo>
                  <a:lnTo>
                    <a:pt x="4" y="79"/>
                  </a:lnTo>
                  <a:lnTo>
                    <a:pt x="2" y="82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1" y="92"/>
                  </a:lnTo>
                  <a:lnTo>
                    <a:pt x="2" y="95"/>
                  </a:lnTo>
                  <a:lnTo>
                    <a:pt x="4" y="99"/>
                  </a:lnTo>
                  <a:lnTo>
                    <a:pt x="7" y="103"/>
                  </a:lnTo>
                  <a:lnTo>
                    <a:pt x="13" y="109"/>
                  </a:lnTo>
                  <a:lnTo>
                    <a:pt x="23" y="118"/>
                  </a:lnTo>
                  <a:lnTo>
                    <a:pt x="36" y="126"/>
                  </a:lnTo>
                  <a:lnTo>
                    <a:pt x="50" y="133"/>
                  </a:lnTo>
                  <a:lnTo>
                    <a:pt x="66" y="141"/>
                  </a:lnTo>
                  <a:lnTo>
                    <a:pt x="85" y="148"/>
                  </a:lnTo>
                  <a:lnTo>
                    <a:pt x="105" y="156"/>
                  </a:lnTo>
                  <a:lnTo>
                    <a:pt x="127" y="162"/>
                  </a:lnTo>
                  <a:lnTo>
                    <a:pt x="150" y="168"/>
                  </a:lnTo>
                  <a:lnTo>
                    <a:pt x="174" y="173"/>
                  </a:lnTo>
                  <a:lnTo>
                    <a:pt x="200" y="177"/>
                  </a:lnTo>
                  <a:lnTo>
                    <a:pt x="226" y="181"/>
                  </a:lnTo>
                  <a:lnTo>
                    <a:pt x="254" y="183"/>
                  </a:lnTo>
                  <a:lnTo>
                    <a:pt x="281" y="184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6311520" y="2120040"/>
              <a:ext cx="307080" cy="426600"/>
            </a:xfrm>
            <a:custGeom>
              <a:avLst/>
              <a:gdLst/>
              <a:ahLst/>
              <a:rect l="l" t="t" r="r" b="b"/>
              <a:pathLst>
                <a:path w="616" h="855">
                  <a:moveTo>
                    <a:pt x="616" y="0"/>
                  </a:moveTo>
                  <a:lnTo>
                    <a:pt x="0" y="672"/>
                  </a:lnTo>
                  <a:lnTo>
                    <a:pt x="9" y="855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 flipH="1" flipV="1">
              <a:off x="6897600" y="2301480"/>
              <a:ext cx="27720" cy="292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6526800" y="4338720"/>
              <a:ext cx="628560" cy="105480"/>
            </a:xfrm>
            <a:custGeom>
              <a:avLst/>
              <a:gdLst/>
              <a:ahLst/>
              <a:rect l="l" t="t" r="r" b="b"/>
              <a:pathLst>
                <a:path w="1258" h="212">
                  <a:moveTo>
                    <a:pt x="0" y="0"/>
                  </a:moveTo>
                  <a:lnTo>
                    <a:pt x="1" y="7"/>
                  </a:lnTo>
                  <a:lnTo>
                    <a:pt x="3" y="14"/>
                  </a:lnTo>
                  <a:lnTo>
                    <a:pt x="7" y="22"/>
                  </a:lnTo>
                  <a:lnTo>
                    <a:pt x="13" y="31"/>
                  </a:lnTo>
                  <a:lnTo>
                    <a:pt x="20" y="38"/>
                  </a:lnTo>
                  <a:lnTo>
                    <a:pt x="29" y="47"/>
                  </a:lnTo>
                  <a:lnTo>
                    <a:pt x="39" y="56"/>
                  </a:lnTo>
                  <a:lnTo>
                    <a:pt x="51" y="64"/>
                  </a:lnTo>
                  <a:lnTo>
                    <a:pt x="64" y="73"/>
                  </a:lnTo>
                  <a:lnTo>
                    <a:pt x="78" y="81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7"/>
                  </a:lnTo>
                  <a:lnTo>
                    <a:pt x="147" y="116"/>
                  </a:lnTo>
                  <a:lnTo>
                    <a:pt x="166" y="125"/>
                  </a:lnTo>
                  <a:lnTo>
                    <a:pt x="187" y="133"/>
                  </a:lnTo>
                  <a:lnTo>
                    <a:pt x="210" y="142"/>
                  </a:lnTo>
                  <a:lnTo>
                    <a:pt x="232" y="149"/>
                  </a:lnTo>
                  <a:lnTo>
                    <a:pt x="256" y="157"/>
                  </a:lnTo>
                  <a:lnTo>
                    <a:pt x="281" y="165"/>
                  </a:lnTo>
                  <a:lnTo>
                    <a:pt x="306" y="171"/>
                  </a:lnTo>
                  <a:lnTo>
                    <a:pt x="332" y="178"/>
                  </a:lnTo>
                  <a:lnTo>
                    <a:pt x="359" y="184"/>
                  </a:lnTo>
                  <a:lnTo>
                    <a:pt x="387" y="189"/>
                  </a:lnTo>
                  <a:lnTo>
                    <a:pt x="415" y="195"/>
                  </a:lnTo>
                  <a:lnTo>
                    <a:pt x="443" y="199"/>
                  </a:lnTo>
                  <a:lnTo>
                    <a:pt x="472" y="202"/>
                  </a:lnTo>
                  <a:lnTo>
                    <a:pt x="502" y="206"/>
                  </a:lnTo>
                  <a:lnTo>
                    <a:pt x="533" y="209"/>
                  </a:lnTo>
                  <a:lnTo>
                    <a:pt x="563" y="211"/>
                  </a:lnTo>
                  <a:lnTo>
                    <a:pt x="593" y="212"/>
                  </a:lnTo>
                  <a:lnTo>
                    <a:pt x="624" y="212"/>
                  </a:lnTo>
                  <a:lnTo>
                    <a:pt x="656" y="212"/>
                  </a:lnTo>
                  <a:lnTo>
                    <a:pt x="687" y="211"/>
                  </a:lnTo>
                  <a:lnTo>
                    <a:pt x="718" y="209"/>
                  </a:lnTo>
                  <a:lnTo>
                    <a:pt x="749" y="206"/>
                  </a:lnTo>
                  <a:lnTo>
                    <a:pt x="779" y="202"/>
                  </a:lnTo>
                  <a:lnTo>
                    <a:pt x="808" y="199"/>
                  </a:lnTo>
                  <a:lnTo>
                    <a:pt x="837" y="195"/>
                  </a:lnTo>
                  <a:lnTo>
                    <a:pt x="865" y="189"/>
                  </a:lnTo>
                  <a:lnTo>
                    <a:pt x="893" y="184"/>
                  </a:lnTo>
                  <a:lnTo>
                    <a:pt x="920" y="178"/>
                  </a:lnTo>
                  <a:lnTo>
                    <a:pt x="947" y="171"/>
                  </a:lnTo>
                  <a:lnTo>
                    <a:pt x="973" y="165"/>
                  </a:lnTo>
                  <a:lnTo>
                    <a:pt x="998" y="157"/>
                  </a:lnTo>
                  <a:lnTo>
                    <a:pt x="1022" y="149"/>
                  </a:lnTo>
                  <a:lnTo>
                    <a:pt x="1046" y="142"/>
                  </a:lnTo>
                  <a:lnTo>
                    <a:pt x="1067" y="133"/>
                  </a:lnTo>
                  <a:lnTo>
                    <a:pt x="1089" y="125"/>
                  </a:lnTo>
                  <a:lnTo>
                    <a:pt x="1110" y="116"/>
                  </a:lnTo>
                  <a:lnTo>
                    <a:pt x="1128" y="107"/>
                  </a:lnTo>
                  <a:lnTo>
                    <a:pt x="1146" y="99"/>
                  </a:lnTo>
                  <a:lnTo>
                    <a:pt x="1163" y="90"/>
                  </a:lnTo>
                  <a:lnTo>
                    <a:pt x="1179" y="81"/>
                  </a:lnTo>
                  <a:lnTo>
                    <a:pt x="1193" y="73"/>
                  </a:lnTo>
                  <a:lnTo>
                    <a:pt x="1206" y="64"/>
                  </a:lnTo>
                  <a:lnTo>
                    <a:pt x="1218" y="56"/>
                  </a:lnTo>
                  <a:lnTo>
                    <a:pt x="1228" y="47"/>
                  </a:lnTo>
                  <a:lnTo>
                    <a:pt x="1237" y="38"/>
                  </a:lnTo>
                  <a:lnTo>
                    <a:pt x="1245" y="31"/>
                  </a:lnTo>
                  <a:lnTo>
                    <a:pt x="1250" y="22"/>
                  </a:lnTo>
                  <a:lnTo>
                    <a:pt x="1254" y="14"/>
                  </a:lnTo>
                  <a:lnTo>
                    <a:pt x="1257" y="7"/>
                  </a:lnTo>
                  <a:lnTo>
                    <a:pt x="1258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6806160" y="3011040"/>
              <a:ext cx="221760" cy="420480"/>
            </a:xfrm>
            <a:custGeom>
              <a:avLst/>
              <a:gdLst/>
              <a:ahLst/>
              <a:rect l="l" t="t" r="r" b="b"/>
              <a:pathLst>
                <a:path w="440" h="844">
                  <a:moveTo>
                    <a:pt x="440" y="117"/>
                  </a:moveTo>
                  <a:lnTo>
                    <a:pt x="440" y="106"/>
                  </a:lnTo>
                  <a:lnTo>
                    <a:pt x="438" y="96"/>
                  </a:lnTo>
                  <a:lnTo>
                    <a:pt x="433" y="87"/>
                  </a:lnTo>
                  <a:lnTo>
                    <a:pt x="425" y="77"/>
                  </a:lnTo>
                  <a:lnTo>
                    <a:pt x="417" y="68"/>
                  </a:lnTo>
                  <a:lnTo>
                    <a:pt x="406" y="60"/>
                  </a:lnTo>
                  <a:lnTo>
                    <a:pt x="393" y="52"/>
                  </a:lnTo>
                  <a:lnTo>
                    <a:pt x="379" y="45"/>
                  </a:lnTo>
                  <a:lnTo>
                    <a:pt x="363" y="37"/>
                  </a:lnTo>
                  <a:lnTo>
                    <a:pt x="346" y="31"/>
                  </a:lnTo>
                  <a:lnTo>
                    <a:pt x="328" y="24"/>
                  </a:lnTo>
                  <a:lnTo>
                    <a:pt x="310" y="19"/>
                  </a:lnTo>
                  <a:lnTo>
                    <a:pt x="289" y="14"/>
                  </a:lnTo>
                  <a:lnTo>
                    <a:pt x="270" y="10"/>
                  </a:lnTo>
                  <a:lnTo>
                    <a:pt x="249" y="7"/>
                  </a:lnTo>
                  <a:lnTo>
                    <a:pt x="229" y="4"/>
                  </a:lnTo>
                  <a:lnTo>
                    <a:pt x="208" y="1"/>
                  </a:lnTo>
                  <a:lnTo>
                    <a:pt x="188" y="0"/>
                  </a:lnTo>
                  <a:lnTo>
                    <a:pt x="167" y="0"/>
                  </a:lnTo>
                  <a:lnTo>
                    <a:pt x="148" y="0"/>
                  </a:lnTo>
                  <a:lnTo>
                    <a:pt x="128" y="2"/>
                  </a:lnTo>
                  <a:lnTo>
                    <a:pt x="110" y="5"/>
                  </a:lnTo>
                  <a:lnTo>
                    <a:pt x="93" y="8"/>
                  </a:lnTo>
                  <a:lnTo>
                    <a:pt x="75" y="12"/>
                  </a:lnTo>
                  <a:lnTo>
                    <a:pt x="61" y="17"/>
                  </a:lnTo>
                  <a:lnTo>
                    <a:pt x="47" y="23"/>
                  </a:lnTo>
                  <a:lnTo>
                    <a:pt x="35" y="31"/>
                  </a:lnTo>
                  <a:lnTo>
                    <a:pt x="24" y="39"/>
                  </a:lnTo>
                  <a:lnTo>
                    <a:pt x="17" y="49"/>
                  </a:lnTo>
                  <a:lnTo>
                    <a:pt x="10" y="60"/>
                  </a:lnTo>
                  <a:lnTo>
                    <a:pt x="6" y="72"/>
                  </a:lnTo>
                  <a:lnTo>
                    <a:pt x="5" y="85"/>
                  </a:lnTo>
                  <a:lnTo>
                    <a:pt x="3" y="223"/>
                  </a:lnTo>
                  <a:lnTo>
                    <a:pt x="2" y="349"/>
                  </a:lnTo>
                  <a:lnTo>
                    <a:pt x="1" y="459"/>
                  </a:lnTo>
                  <a:lnTo>
                    <a:pt x="0" y="554"/>
                  </a:lnTo>
                  <a:lnTo>
                    <a:pt x="0" y="631"/>
                  </a:lnTo>
                  <a:lnTo>
                    <a:pt x="0" y="688"/>
                  </a:lnTo>
                  <a:lnTo>
                    <a:pt x="0" y="723"/>
                  </a:lnTo>
                  <a:lnTo>
                    <a:pt x="0" y="736"/>
                  </a:lnTo>
                  <a:lnTo>
                    <a:pt x="1" y="737"/>
                  </a:lnTo>
                  <a:lnTo>
                    <a:pt x="3" y="740"/>
                  </a:lnTo>
                  <a:lnTo>
                    <a:pt x="6" y="744"/>
                  </a:lnTo>
                  <a:lnTo>
                    <a:pt x="11" y="752"/>
                  </a:lnTo>
                  <a:lnTo>
                    <a:pt x="18" y="760"/>
                  </a:lnTo>
                  <a:lnTo>
                    <a:pt x="27" y="769"/>
                  </a:lnTo>
                  <a:lnTo>
                    <a:pt x="37" y="780"/>
                  </a:lnTo>
                  <a:lnTo>
                    <a:pt x="50" y="791"/>
                  </a:lnTo>
                  <a:lnTo>
                    <a:pt x="61" y="801"/>
                  </a:lnTo>
                  <a:lnTo>
                    <a:pt x="73" y="810"/>
                  </a:lnTo>
                  <a:lnTo>
                    <a:pt x="84" y="819"/>
                  </a:lnTo>
                  <a:lnTo>
                    <a:pt x="96" y="825"/>
                  </a:lnTo>
                  <a:lnTo>
                    <a:pt x="108" y="832"/>
                  </a:lnTo>
                  <a:lnTo>
                    <a:pt x="121" y="836"/>
                  </a:lnTo>
                  <a:lnTo>
                    <a:pt x="134" y="839"/>
                  </a:lnTo>
                  <a:lnTo>
                    <a:pt x="148" y="843"/>
                  </a:lnTo>
                  <a:lnTo>
                    <a:pt x="165" y="844"/>
                  </a:lnTo>
                  <a:lnTo>
                    <a:pt x="183" y="843"/>
                  </a:lnTo>
                  <a:lnTo>
                    <a:pt x="204" y="841"/>
                  </a:lnTo>
                  <a:lnTo>
                    <a:pt x="223" y="836"/>
                  </a:lnTo>
                  <a:lnTo>
                    <a:pt x="243" y="831"/>
                  </a:lnTo>
                  <a:lnTo>
                    <a:pt x="261" y="824"/>
                  </a:lnTo>
                  <a:lnTo>
                    <a:pt x="270" y="821"/>
                  </a:lnTo>
                  <a:lnTo>
                    <a:pt x="277" y="817"/>
                  </a:lnTo>
                  <a:lnTo>
                    <a:pt x="284" y="814"/>
                  </a:lnTo>
                  <a:lnTo>
                    <a:pt x="290" y="809"/>
                  </a:lnTo>
                  <a:lnTo>
                    <a:pt x="303" y="803"/>
                  </a:lnTo>
                  <a:lnTo>
                    <a:pt x="314" y="795"/>
                  </a:lnTo>
                  <a:lnTo>
                    <a:pt x="325" y="788"/>
                  </a:lnTo>
                  <a:lnTo>
                    <a:pt x="333" y="779"/>
                  </a:lnTo>
                  <a:lnTo>
                    <a:pt x="341" y="770"/>
                  </a:lnTo>
                  <a:lnTo>
                    <a:pt x="346" y="762"/>
                  </a:lnTo>
                  <a:lnTo>
                    <a:pt x="349" y="754"/>
                  </a:lnTo>
                  <a:lnTo>
                    <a:pt x="350" y="747"/>
                  </a:lnTo>
                  <a:lnTo>
                    <a:pt x="353" y="724"/>
                  </a:lnTo>
                  <a:lnTo>
                    <a:pt x="362" y="663"/>
                  </a:lnTo>
                  <a:lnTo>
                    <a:pt x="375" y="577"/>
                  </a:lnTo>
                  <a:lnTo>
                    <a:pt x="390" y="473"/>
                  </a:lnTo>
                  <a:lnTo>
                    <a:pt x="405" y="365"/>
                  </a:lnTo>
                  <a:lnTo>
                    <a:pt x="420" y="263"/>
                  </a:lnTo>
                  <a:lnTo>
                    <a:pt x="432" y="176"/>
                  </a:lnTo>
                  <a:lnTo>
                    <a:pt x="440" y="11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6940080" y="3054960"/>
              <a:ext cx="61560" cy="354600"/>
            </a:xfrm>
            <a:custGeom>
              <a:avLst/>
              <a:gdLst/>
              <a:ahLst/>
              <a:rect l="l" t="t" r="r" b="b"/>
              <a:pathLst>
                <a:path w="124" h="710">
                  <a:moveTo>
                    <a:pt x="43" y="710"/>
                  </a:moveTo>
                  <a:lnTo>
                    <a:pt x="124" y="4"/>
                  </a:lnTo>
                  <a:lnTo>
                    <a:pt x="80" y="0"/>
                  </a:lnTo>
                  <a:lnTo>
                    <a:pt x="0" y="705"/>
                  </a:lnTo>
                  <a:lnTo>
                    <a:pt x="43" y="71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6818400" y="3027240"/>
              <a:ext cx="25560" cy="364680"/>
            </a:xfrm>
            <a:custGeom>
              <a:avLst/>
              <a:gdLst/>
              <a:ahLst/>
              <a:rect l="l" t="t" r="r" b="b"/>
              <a:pathLst>
                <a:path w="49" h="732">
                  <a:moveTo>
                    <a:pt x="35" y="732"/>
                  </a:moveTo>
                  <a:lnTo>
                    <a:pt x="49" y="0"/>
                  </a:lnTo>
                  <a:lnTo>
                    <a:pt x="14" y="0"/>
                  </a:lnTo>
                  <a:lnTo>
                    <a:pt x="0" y="731"/>
                  </a:lnTo>
                  <a:lnTo>
                    <a:pt x="35" y="7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6854040" y="3398040"/>
              <a:ext cx="21600" cy="1152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0" y="4"/>
                  </a:lnTo>
                  <a:lnTo>
                    <a:pt x="1" y="10"/>
                  </a:lnTo>
                  <a:lnTo>
                    <a:pt x="3" y="13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20"/>
                  </a:lnTo>
                  <a:lnTo>
                    <a:pt x="16" y="21"/>
                  </a:lnTo>
                  <a:lnTo>
                    <a:pt x="19" y="23"/>
                  </a:lnTo>
                  <a:lnTo>
                    <a:pt x="24" y="23"/>
                  </a:lnTo>
                  <a:lnTo>
                    <a:pt x="28" y="21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0" y="11"/>
                  </a:lnTo>
                  <a:lnTo>
                    <a:pt x="42" y="6"/>
                  </a:lnTo>
                  <a:lnTo>
                    <a:pt x="4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6854040" y="3031200"/>
              <a:ext cx="41760" cy="368280"/>
            </a:xfrm>
            <a:custGeom>
              <a:avLst/>
              <a:gdLst/>
              <a:ahLst/>
              <a:rect l="l" t="t" r="r" b="b"/>
              <a:pathLst>
                <a:path w="82" h="742">
                  <a:moveTo>
                    <a:pt x="39" y="0"/>
                  </a:moveTo>
                  <a:lnTo>
                    <a:pt x="0" y="740"/>
                  </a:lnTo>
                  <a:lnTo>
                    <a:pt x="42" y="742"/>
                  </a:lnTo>
                  <a:lnTo>
                    <a:pt x="82" y="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6874200" y="3018960"/>
              <a:ext cx="21960" cy="1188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3" y="22"/>
                  </a:moveTo>
                  <a:lnTo>
                    <a:pt x="43" y="17"/>
                  </a:lnTo>
                  <a:lnTo>
                    <a:pt x="42" y="12"/>
                  </a:lnTo>
                  <a:lnTo>
                    <a:pt x="40" y="8"/>
                  </a:lnTo>
                  <a:lnTo>
                    <a:pt x="36" y="5"/>
                  </a:lnTo>
                  <a:lnTo>
                    <a:pt x="34" y="3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6906240" y="3039120"/>
              <a:ext cx="39600" cy="372600"/>
            </a:xfrm>
            <a:custGeom>
              <a:avLst/>
              <a:gdLst/>
              <a:ahLst/>
              <a:rect l="l" t="t" r="r" b="b"/>
              <a:pathLst>
                <a:path w="80" h="746">
                  <a:moveTo>
                    <a:pt x="44" y="746"/>
                  </a:moveTo>
                  <a:lnTo>
                    <a:pt x="80" y="3"/>
                  </a:lnTo>
                  <a:lnTo>
                    <a:pt x="37" y="0"/>
                  </a:lnTo>
                  <a:lnTo>
                    <a:pt x="0" y="744"/>
                  </a:lnTo>
                  <a:lnTo>
                    <a:pt x="44" y="7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7008120" y="3119040"/>
              <a:ext cx="21600" cy="1152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3" y="13"/>
                  </a:lnTo>
                  <a:lnTo>
                    <a:pt x="5" y="17"/>
                  </a:lnTo>
                  <a:lnTo>
                    <a:pt x="8" y="20"/>
                  </a:lnTo>
                  <a:lnTo>
                    <a:pt x="13" y="21"/>
                  </a:lnTo>
                  <a:lnTo>
                    <a:pt x="16" y="22"/>
                  </a:lnTo>
                  <a:lnTo>
                    <a:pt x="20" y="23"/>
                  </a:lnTo>
                  <a:lnTo>
                    <a:pt x="25" y="22"/>
                  </a:lnTo>
                  <a:lnTo>
                    <a:pt x="28" y="22"/>
                  </a:lnTo>
                  <a:lnTo>
                    <a:pt x="32" y="20"/>
                  </a:lnTo>
                  <a:lnTo>
                    <a:pt x="35" y="18"/>
                  </a:lnTo>
                  <a:lnTo>
                    <a:pt x="38" y="14"/>
                  </a:lnTo>
                  <a:lnTo>
                    <a:pt x="40" y="11"/>
                  </a:lnTo>
                  <a:lnTo>
                    <a:pt x="42" y="7"/>
                  </a:lnTo>
                  <a:lnTo>
                    <a:pt x="4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6806160" y="3062880"/>
              <a:ext cx="223560" cy="57600"/>
            </a:xfrm>
            <a:custGeom>
              <a:avLst/>
              <a:gdLst/>
              <a:ahLst/>
              <a:rect l="l" t="t" r="r" b="b"/>
              <a:pathLst>
                <a:path w="447" h="115">
                  <a:moveTo>
                    <a:pt x="41" y="101"/>
                  </a:moveTo>
                  <a:lnTo>
                    <a:pt x="44" y="95"/>
                  </a:lnTo>
                  <a:lnTo>
                    <a:pt x="48" y="88"/>
                  </a:lnTo>
                  <a:lnTo>
                    <a:pt x="54" y="82"/>
                  </a:lnTo>
                  <a:lnTo>
                    <a:pt x="61" y="75"/>
                  </a:lnTo>
                  <a:lnTo>
                    <a:pt x="70" y="70"/>
                  </a:lnTo>
                  <a:lnTo>
                    <a:pt x="81" y="65"/>
                  </a:lnTo>
                  <a:lnTo>
                    <a:pt x="92" y="59"/>
                  </a:lnTo>
                  <a:lnTo>
                    <a:pt x="105" y="55"/>
                  </a:lnTo>
                  <a:lnTo>
                    <a:pt x="119" y="52"/>
                  </a:lnTo>
                  <a:lnTo>
                    <a:pt x="135" y="48"/>
                  </a:lnTo>
                  <a:lnTo>
                    <a:pt x="151" y="46"/>
                  </a:lnTo>
                  <a:lnTo>
                    <a:pt x="167" y="44"/>
                  </a:lnTo>
                  <a:lnTo>
                    <a:pt x="184" y="43"/>
                  </a:lnTo>
                  <a:lnTo>
                    <a:pt x="202" y="43"/>
                  </a:lnTo>
                  <a:lnTo>
                    <a:pt x="219" y="43"/>
                  </a:lnTo>
                  <a:lnTo>
                    <a:pt x="236" y="44"/>
                  </a:lnTo>
                  <a:lnTo>
                    <a:pt x="253" y="45"/>
                  </a:lnTo>
                  <a:lnTo>
                    <a:pt x="271" y="47"/>
                  </a:lnTo>
                  <a:lnTo>
                    <a:pt x="288" y="51"/>
                  </a:lnTo>
                  <a:lnTo>
                    <a:pt x="304" y="54"/>
                  </a:lnTo>
                  <a:lnTo>
                    <a:pt x="319" y="57"/>
                  </a:lnTo>
                  <a:lnTo>
                    <a:pt x="333" y="61"/>
                  </a:lnTo>
                  <a:lnTo>
                    <a:pt x="347" y="67"/>
                  </a:lnTo>
                  <a:lnTo>
                    <a:pt x="360" y="72"/>
                  </a:lnTo>
                  <a:lnTo>
                    <a:pt x="371" y="78"/>
                  </a:lnTo>
                  <a:lnTo>
                    <a:pt x="381" y="83"/>
                  </a:lnTo>
                  <a:lnTo>
                    <a:pt x="388" y="88"/>
                  </a:lnTo>
                  <a:lnTo>
                    <a:pt x="395" y="95"/>
                  </a:lnTo>
                  <a:lnTo>
                    <a:pt x="399" y="100"/>
                  </a:lnTo>
                  <a:lnTo>
                    <a:pt x="403" y="106"/>
                  </a:lnTo>
                  <a:lnTo>
                    <a:pt x="404" y="110"/>
                  </a:lnTo>
                  <a:lnTo>
                    <a:pt x="405" y="114"/>
                  </a:lnTo>
                  <a:lnTo>
                    <a:pt x="447" y="115"/>
                  </a:lnTo>
                  <a:lnTo>
                    <a:pt x="446" y="101"/>
                  </a:lnTo>
                  <a:lnTo>
                    <a:pt x="441" y="88"/>
                  </a:lnTo>
                  <a:lnTo>
                    <a:pt x="435" y="75"/>
                  </a:lnTo>
                  <a:lnTo>
                    <a:pt x="426" y="65"/>
                  </a:lnTo>
                  <a:lnTo>
                    <a:pt x="416" y="56"/>
                  </a:lnTo>
                  <a:lnTo>
                    <a:pt x="405" y="47"/>
                  </a:lnTo>
                  <a:lnTo>
                    <a:pt x="392" y="40"/>
                  </a:lnTo>
                  <a:lnTo>
                    <a:pt x="378" y="32"/>
                  </a:lnTo>
                  <a:lnTo>
                    <a:pt x="363" y="26"/>
                  </a:lnTo>
                  <a:lnTo>
                    <a:pt x="347" y="20"/>
                  </a:lnTo>
                  <a:lnTo>
                    <a:pt x="330" y="16"/>
                  </a:lnTo>
                  <a:lnTo>
                    <a:pt x="313" y="12"/>
                  </a:lnTo>
                  <a:lnTo>
                    <a:pt x="296" y="8"/>
                  </a:lnTo>
                  <a:lnTo>
                    <a:pt x="277" y="5"/>
                  </a:lnTo>
                  <a:lnTo>
                    <a:pt x="258" y="3"/>
                  </a:lnTo>
                  <a:lnTo>
                    <a:pt x="239" y="1"/>
                  </a:lnTo>
                  <a:lnTo>
                    <a:pt x="220" y="0"/>
                  </a:lnTo>
                  <a:lnTo>
                    <a:pt x="202" y="0"/>
                  </a:lnTo>
                  <a:lnTo>
                    <a:pt x="182" y="1"/>
                  </a:lnTo>
                  <a:lnTo>
                    <a:pt x="164" y="2"/>
                  </a:lnTo>
                  <a:lnTo>
                    <a:pt x="145" y="3"/>
                  </a:lnTo>
                  <a:lnTo>
                    <a:pt x="127" y="6"/>
                  </a:lnTo>
                  <a:lnTo>
                    <a:pt x="110" y="10"/>
                  </a:lnTo>
                  <a:lnTo>
                    <a:pt x="94" y="14"/>
                  </a:lnTo>
                  <a:lnTo>
                    <a:pt x="77" y="19"/>
                  </a:lnTo>
                  <a:lnTo>
                    <a:pt x="62" y="26"/>
                  </a:lnTo>
                  <a:lnTo>
                    <a:pt x="48" y="32"/>
                  </a:lnTo>
                  <a:lnTo>
                    <a:pt x="35" y="41"/>
                  </a:lnTo>
                  <a:lnTo>
                    <a:pt x="24" y="51"/>
                  </a:lnTo>
                  <a:lnTo>
                    <a:pt x="14" y="62"/>
                  </a:lnTo>
                  <a:lnTo>
                    <a:pt x="6" y="74"/>
                  </a:lnTo>
                  <a:lnTo>
                    <a:pt x="0" y="89"/>
                  </a:lnTo>
                  <a:lnTo>
                    <a:pt x="41" y="1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6806160" y="3106800"/>
              <a:ext cx="19800" cy="1368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0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2" y="13"/>
                  </a:lnTo>
                  <a:lnTo>
                    <a:pt x="4" y="18"/>
                  </a:lnTo>
                  <a:lnTo>
                    <a:pt x="6" y="21"/>
                  </a:lnTo>
                  <a:lnTo>
                    <a:pt x="9" y="23"/>
                  </a:lnTo>
                  <a:lnTo>
                    <a:pt x="12" y="25"/>
                  </a:lnTo>
                  <a:lnTo>
                    <a:pt x="16" y="26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7" y="27"/>
                  </a:lnTo>
                  <a:lnTo>
                    <a:pt x="32" y="26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40" y="18"/>
                  </a:lnTo>
                  <a:lnTo>
                    <a:pt x="43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6808320" y="3368160"/>
              <a:ext cx="171360" cy="43560"/>
            </a:xfrm>
            <a:custGeom>
              <a:avLst/>
              <a:gdLst/>
              <a:ahLst/>
              <a:rect l="l" t="t" r="r" b="b"/>
              <a:pathLst>
                <a:path w="344" h="89">
                  <a:moveTo>
                    <a:pt x="0" y="0"/>
                  </a:moveTo>
                  <a:lnTo>
                    <a:pt x="3" y="3"/>
                  </a:lnTo>
                  <a:lnTo>
                    <a:pt x="10" y="13"/>
                  </a:lnTo>
                  <a:lnTo>
                    <a:pt x="22" y="27"/>
                  </a:lnTo>
                  <a:lnTo>
                    <a:pt x="40" y="43"/>
                  </a:lnTo>
                  <a:lnTo>
                    <a:pt x="50" y="51"/>
                  </a:lnTo>
                  <a:lnTo>
                    <a:pt x="61" y="60"/>
                  </a:lnTo>
                  <a:lnTo>
                    <a:pt x="74" y="67"/>
                  </a:lnTo>
                  <a:lnTo>
                    <a:pt x="88" y="74"/>
                  </a:lnTo>
                  <a:lnTo>
                    <a:pt x="103" y="79"/>
                  </a:lnTo>
                  <a:lnTo>
                    <a:pt x="119" y="84"/>
                  </a:lnTo>
                  <a:lnTo>
                    <a:pt x="136" y="88"/>
                  </a:lnTo>
                  <a:lnTo>
                    <a:pt x="154" y="89"/>
                  </a:lnTo>
                  <a:lnTo>
                    <a:pt x="173" y="89"/>
                  </a:lnTo>
                  <a:lnTo>
                    <a:pt x="190" y="88"/>
                  </a:lnTo>
                  <a:lnTo>
                    <a:pt x="207" y="87"/>
                  </a:lnTo>
                  <a:lnTo>
                    <a:pt x="223" y="84"/>
                  </a:lnTo>
                  <a:lnTo>
                    <a:pt x="238" y="81"/>
                  </a:lnTo>
                  <a:lnTo>
                    <a:pt x="254" y="78"/>
                  </a:lnTo>
                  <a:lnTo>
                    <a:pt x="267" y="75"/>
                  </a:lnTo>
                  <a:lnTo>
                    <a:pt x="280" y="70"/>
                  </a:lnTo>
                  <a:lnTo>
                    <a:pt x="292" y="66"/>
                  </a:lnTo>
                  <a:lnTo>
                    <a:pt x="303" y="61"/>
                  </a:lnTo>
                  <a:lnTo>
                    <a:pt x="313" y="55"/>
                  </a:lnTo>
                  <a:lnTo>
                    <a:pt x="322" y="50"/>
                  </a:lnTo>
                  <a:lnTo>
                    <a:pt x="329" y="44"/>
                  </a:lnTo>
                  <a:lnTo>
                    <a:pt x="336" y="39"/>
                  </a:lnTo>
                  <a:lnTo>
                    <a:pt x="341" y="34"/>
                  </a:lnTo>
                  <a:lnTo>
                    <a:pt x="344" y="28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6811920" y="3092760"/>
              <a:ext cx="201600" cy="46080"/>
            </a:xfrm>
            <a:custGeom>
              <a:avLst/>
              <a:gdLst/>
              <a:ahLst/>
              <a:rect l="l" t="t" r="r" b="b"/>
              <a:pathLst>
                <a:path w="405" h="93">
                  <a:moveTo>
                    <a:pt x="405" y="93"/>
                  </a:moveTo>
                  <a:lnTo>
                    <a:pt x="405" y="83"/>
                  </a:lnTo>
                  <a:lnTo>
                    <a:pt x="401" y="75"/>
                  </a:lnTo>
                  <a:lnTo>
                    <a:pt x="397" y="66"/>
                  </a:lnTo>
                  <a:lnTo>
                    <a:pt x="389" y="57"/>
                  </a:lnTo>
                  <a:lnTo>
                    <a:pt x="382" y="50"/>
                  </a:lnTo>
                  <a:lnTo>
                    <a:pt x="372" y="42"/>
                  </a:lnTo>
                  <a:lnTo>
                    <a:pt x="360" y="36"/>
                  </a:lnTo>
                  <a:lnTo>
                    <a:pt x="348" y="30"/>
                  </a:lnTo>
                  <a:lnTo>
                    <a:pt x="334" y="24"/>
                  </a:lnTo>
                  <a:lnTo>
                    <a:pt x="320" y="20"/>
                  </a:lnTo>
                  <a:lnTo>
                    <a:pt x="304" y="14"/>
                  </a:lnTo>
                  <a:lnTo>
                    <a:pt x="288" y="11"/>
                  </a:lnTo>
                  <a:lnTo>
                    <a:pt x="271" y="8"/>
                  </a:lnTo>
                  <a:lnTo>
                    <a:pt x="253" y="5"/>
                  </a:lnTo>
                  <a:lnTo>
                    <a:pt x="236" y="2"/>
                  </a:lnTo>
                  <a:lnTo>
                    <a:pt x="218" y="1"/>
                  </a:lnTo>
                  <a:lnTo>
                    <a:pt x="199" y="0"/>
                  </a:lnTo>
                  <a:lnTo>
                    <a:pt x="181" y="0"/>
                  </a:lnTo>
                  <a:lnTo>
                    <a:pt x="164" y="0"/>
                  </a:lnTo>
                  <a:lnTo>
                    <a:pt x="145" y="1"/>
                  </a:lnTo>
                  <a:lnTo>
                    <a:pt x="128" y="3"/>
                  </a:lnTo>
                  <a:lnTo>
                    <a:pt x="112" y="6"/>
                  </a:lnTo>
                  <a:lnTo>
                    <a:pt x="95" y="9"/>
                  </a:lnTo>
                  <a:lnTo>
                    <a:pt x="80" y="13"/>
                  </a:lnTo>
                  <a:lnTo>
                    <a:pt x="65" y="18"/>
                  </a:lnTo>
                  <a:lnTo>
                    <a:pt x="52" y="23"/>
                  </a:lnTo>
                  <a:lnTo>
                    <a:pt x="39" y="29"/>
                  </a:lnTo>
                  <a:lnTo>
                    <a:pt x="29" y="37"/>
                  </a:lnTo>
                  <a:lnTo>
                    <a:pt x="20" y="45"/>
                  </a:lnTo>
                  <a:lnTo>
                    <a:pt x="11" y="53"/>
                  </a:lnTo>
                  <a:lnTo>
                    <a:pt x="5" y="63"/>
                  </a:lnTo>
                  <a:lnTo>
                    <a:pt x="0" y="7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6806160" y="3011040"/>
              <a:ext cx="221760" cy="420480"/>
            </a:xfrm>
            <a:custGeom>
              <a:avLst/>
              <a:gdLst/>
              <a:ahLst/>
              <a:rect l="l" t="t" r="r" b="b"/>
              <a:pathLst>
                <a:path w="440" h="844">
                  <a:moveTo>
                    <a:pt x="440" y="117"/>
                  </a:moveTo>
                  <a:lnTo>
                    <a:pt x="440" y="106"/>
                  </a:lnTo>
                  <a:lnTo>
                    <a:pt x="438" y="96"/>
                  </a:lnTo>
                  <a:lnTo>
                    <a:pt x="433" y="87"/>
                  </a:lnTo>
                  <a:lnTo>
                    <a:pt x="425" y="77"/>
                  </a:lnTo>
                  <a:lnTo>
                    <a:pt x="417" y="68"/>
                  </a:lnTo>
                  <a:lnTo>
                    <a:pt x="406" y="60"/>
                  </a:lnTo>
                  <a:lnTo>
                    <a:pt x="393" y="52"/>
                  </a:lnTo>
                  <a:lnTo>
                    <a:pt x="379" y="45"/>
                  </a:lnTo>
                  <a:lnTo>
                    <a:pt x="363" y="37"/>
                  </a:lnTo>
                  <a:lnTo>
                    <a:pt x="346" y="31"/>
                  </a:lnTo>
                  <a:lnTo>
                    <a:pt x="328" y="24"/>
                  </a:lnTo>
                  <a:lnTo>
                    <a:pt x="310" y="19"/>
                  </a:lnTo>
                  <a:lnTo>
                    <a:pt x="289" y="14"/>
                  </a:lnTo>
                  <a:lnTo>
                    <a:pt x="270" y="10"/>
                  </a:lnTo>
                  <a:lnTo>
                    <a:pt x="249" y="7"/>
                  </a:lnTo>
                  <a:lnTo>
                    <a:pt x="229" y="4"/>
                  </a:lnTo>
                  <a:lnTo>
                    <a:pt x="208" y="1"/>
                  </a:lnTo>
                  <a:lnTo>
                    <a:pt x="188" y="0"/>
                  </a:lnTo>
                  <a:lnTo>
                    <a:pt x="167" y="0"/>
                  </a:lnTo>
                  <a:lnTo>
                    <a:pt x="148" y="0"/>
                  </a:lnTo>
                  <a:lnTo>
                    <a:pt x="128" y="2"/>
                  </a:lnTo>
                  <a:lnTo>
                    <a:pt x="110" y="5"/>
                  </a:lnTo>
                  <a:lnTo>
                    <a:pt x="93" y="8"/>
                  </a:lnTo>
                  <a:lnTo>
                    <a:pt x="75" y="12"/>
                  </a:lnTo>
                  <a:lnTo>
                    <a:pt x="61" y="17"/>
                  </a:lnTo>
                  <a:lnTo>
                    <a:pt x="47" y="23"/>
                  </a:lnTo>
                  <a:lnTo>
                    <a:pt x="35" y="31"/>
                  </a:lnTo>
                  <a:lnTo>
                    <a:pt x="24" y="39"/>
                  </a:lnTo>
                  <a:lnTo>
                    <a:pt x="17" y="49"/>
                  </a:lnTo>
                  <a:lnTo>
                    <a:pt x="10" y="60"/>
                  </a:lnTo>
                  <a:lnTo>
                    <a:pt x="6" y="72"/>
                  </a:lnTo>
                  <a:lnTo>
                    <a:pt x="5" y="85"/>
                  </a:lnTo>
                  <a:lnTo>
                    <a:pt x="3" y="223"/>
                  </a:lnTo>
                  <a:lnTo>
                    <a:pt x="2" y="349"/>
                  </a:lnTo>
                  <a:lnTo>
                    <a:pt x="1" y="459"/>
                  </a:lnTo>
                  <a:lnTo>
                    <a:pt x="0" y="554"/>
                  </a:lnTo>
                  <a:lnTo>
                    <a:pt x="0" y="631"/>
                  </a:lnTo>
                  <a:lnTo>
                    <a:pt x="0" y="688"/>
                  </a:lnTo>
                  <a:lnTo>
                    <a:pt x="0" y="723"/>
                  </a:lnTo>
                  <a:lnTo>
                    <a:pt x="0" y="736"/>
                  </a:lnTo>
                  <a:lnTo>
                    <a:pt x="2" y="739"/>
                  </a:lnTo>
                  <a:lnTo>
                    <a:pt x="9" y="750"/>
                  </a:lnTo>
                  <a:lnTo>
                    <a:pt x="21" y="766"/>
                  </a:lnTo>
                  <a:lnTo>
                    <a:pt x="37" y="784"/>
                  </a:lnTo>
                  <a:lnTo>
                    <a:pt x="47" y="794"/>
                  </a:lnTo>
                  <a:lnTo>
                    <a:pt x="58" y="803"/>
                  </a:lnTo>
                  <a:lnTo>
                    <a:pt x="70" y="812"/>
                  </a:lnTo>
                  <a:lnTo>
                    <a:pt x="84" y="820"/>
                  </a:lnTo>
                  <a:lnTo>
                    <a:pt x="98" y="828"/>
                  </a:lnTo>
                  <a:lnTo>
                    <a:pt x="113" y="834"/>
                  </a:lnTo>
                  <a:lnTo>
                    <a:pt x="130" y="839"/>
                  </a:lnTo>
                  <a:lnTo>
                    <a:pt x="148" y="843"/>
                  </a:lnTo>
                  <a:lnTo>
                    <a:pt x="166" y="844"/>
                  </a:lnTo>
                  <a:lnTo>
                    <a:pt x="185" y="843"/>
                  </a:lnTo>
                  <a:lnTo>
                    <a:pt x="204" y="841"/>
                  </a:lnTo>
                  <a:lnTo>
                    <a:pt x="222" y="837"/>
                  </a:lnTo>
                  <a:lnTo>
                    <a:pt x="239" y="832"/>
                  </a:lnTo>
                  <a:lnTo>
                    <a:pt x="257" y="825"/>
                  </a:lnTo>
                  <a:lnTo>
                    <a:pt x="273" y="819"/>
                  </a:lnTo>
                  <a:lnTo>
                    <a:pt x="288" y="811"/>
                  </a:lnTo>
                  <a:lnTo>
                    <a:pt x="301" y="803"/>
                  </a:lnTo>
                  <a:lnTo>
                    <a:pt x="314" y="794"/>
                  </a:lnTo>
                  <a:lnTo>
                    <a:pt x="325" y="785"/>
                  </a:lnTo>
                  <a:lnTo>
                    <a:pt x="335" y="777"/>
                  </a:lnTo>
                  <a:lnTo>
                    <a:pt x="341" y="768"/>
                  </a:lnTo>
                  <a:lnTo>
                    <a:pt x="346" y="761"/>
                  </a:lnTo>
                  <a:lnTo>
                    <a:pt x="350" y="753"/>
                  </a:lnTo>
                  <a:lnTo>
                    <a:pt x="350" y="747"/>
                  </a:lnTo>
                  <a:lnTo>
                    <a:pt x="353" y="724"/>
                  </a:lnTo>
                  <a:lnTo>
                    <a:pt x="362" y="663"/>
                  </a:lnTo>
                  <a:lnTo>
                    <a:pt x="375" y="577"/>
                  </a:lnTo>
                  <a:lnTo>
                    <a:pt x="390" y="473"/>
                  </a:lnTo>
                  <a:lnTo>
                    <a:pt x="405" y="365"/>
                  </a:lnTo>
                  <a:lnTo>
                    <a:pt x="420" y="263"/>
                  </a:lnTo>
                  <a:lnTo>
                    <a:pt x="432" y="176"/>
                  </a:lnTo>
                  <a:lnTo>
                    <a:pt x="440" y="117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6933600" y="2883600"/>
              <a:ext cx="241560" cy="299160"/>
            </a:xfrm>
            <a:custGeom>
              <a:avLst/>
              <a:gdLst/>
              <a:ahLst/>
              <a:rect l="l" t="t" r="r" b="b"/>
              <a:pathLst>
                <a:path w="484" h="602">
                  <a:moveTo>
                    <a:pt x="423" y="54"/>
                  </a:moveTo>
                  <a:lnTo>
                    <a:pt x="421" y="49"/>
                  </a:lnTo>
                  <a:lnTo>
                    <a:pt x="419" y="43"/>
                  </a:lnTo>
                  <a:lnTo>
                    <a:pt x="415" y="39"/>
                  </a:lnTo>
                  <a:lnTo>
                    <a:pt x="411" y="35"/>
                  </a:lnTo>
                  <a:lnTo>
                    <a:pt x="407" y="31"/>
                  </a:lnTo>
                  <a:lnTo>
                    <a:pt x="401" y="26"/>
                  </a:lnTo>
                  <a:lnTo>
                    <a:pt x="396" y="22"/>
                  </a:lnTo>
                  <a:lnTo>
                    <a:pt x="389" y="19"/>
                  </a:lnTo>
                  <a:lnTo>
                    <a:pt x="375" y="13"/>
                  </a:lnTo>
                  <a:lnTo>
                    <a:pt x="360" y="8"/>
                  </a:lnTo>
                  <a:lnTo>
                    <a:pt x="343" y="5"/>
                  </a:lnTo>
                  <a:lnTo>
                    <a:pt x="325" y="2"/>
                  </a:lnTo>
                  <a:lnTo>
                    <a:pt x="305" y="0"/>
                  </a:lnTo>
                  <a:lnTo>
                    <a:pt x="285" y="0"/>
                  </a:lnTo>
                  <a:lnTo>
                    <a:pt x="263" y="1"/>
                  </a:lnTo>
                  <a:lnTo>
                    <a:pt x="241" y="4"/>
                  </a:lnTo>
                  <a:lnTo>
                    <a:pt x="220" y="7"/>
                  </a:lnTo>
                  <a:lnTo>
                    <a:pt x="198" y="11"/>
                  </a:lnTo>
                  <a:lnTo>
                    <a:pt x="175" y="15"/>
                  </a:lnTo>
                  <a:lnTo>
                    <a:pt x="155" y="22"/>
                  </a:lnTo>
                  <a:lnTo>
                    <a:pt x="139" y="27"/>
                  </a:lnTo>
                  <a:lnTo>
                    <a:pt x="125" y="33"/>
                  </a:lnTo>
                  <a:lnTo>
                    <a:pt x="110" y="39"/>
                  </a:lnTo>
                  <a:lnTo>
                    <a:pt x="97" y="46"/>
                  </a:lnTo>
                  <a:lnTo>
                    <a:pt x="83" y="52"/>
                  </a:lnTo>
                  <a:lnTo>
                    <a:pt x="71" y="61"/>
                  </a:lnTo>
                  <a:lnTo>
                    <a:pt x="59" y="68"/>
                  </a:lnTo>
                  <a:lnTo>
                    <a:pt x="48" y="77"/>
                  </a:lnTo>
                  <a:lnTo>
                    <a:pt x="38" y="86"/>
                  </a:lnTo>
                  <a:lnTo>
                    <a:pt x="29" y="95"/>
                  </a:lnTo>
                  <a:lnTo>
                    <a:pt x="21" y="106"/>
                  </a:lnTo>
                  <a:lnTo>
                    <a:pt x="14" y="117"/>
                  </a:lnTo>
                  <a:lnTo>
                    <a:pt x="9" y="128"/>
                  </a:lnTo>
                  <a:lnTo>
                    <a:pt x="5" y="139"/>
                  </a:lnTo>
                  <a:lnTo>
                    <a:pt x="2" y="151"/>
                  </a:lnTo>
                  <a:lnTo>
                    <a:pt x="0" y="163"/>
                  </a:lnTo>
                  <a:lnTo>
                    <a:pt x="0" y="171"/>
                  </a:lnTo>
                  <a:lnTo>
                    <a:pt x="3" y="178"/>
                  </a:lnTo>
                  <a:lnTo>
                    <a:pt x="5" y="186"/>
                  </a:lnTo>
                  <a:lnTo>
                    <a:pt x="7" y="193"/>
                  </a:lnTo>
                  <a:lnTo>
                    <a:pt x="9" y="200"/>
                  </a:lnTo>
                  <a:lnTo>
                    <a:pt x="12" y="207"/>
                  </a:lnTo>
                  <a:lnTo>
                    <a:pt x="14" y="213"/>
                  </a:lnTo>
                  <a:lnTo>
                    <a:pt x="18" y="220"/>
                  </a:lnTo>
                  <a:lnTo>
                    <a:pt x="32" y="268"/>
                  </a:lnTo>
                  <a:lnTo>
                    <a:pt x="46" y="311"/>
                  </a:lnTo>
                  <a:lnTo>
                    <a:pt x="60" y="351"/>
                  </a:lnTo>
                  <a:lnTo>
                    <a:pt x="74" y="388"/>
                  </a:lnTo>
                  <a:lnTo>
                    <a:pt x="88" y="420"/>
                  </a:lnTo>
                  <a:lnTo>
                    <a:pt x="101" y="450"/>
                  </a:lnTo>
                  <a:lnTo>
                    <a:pt x="114" y="475"/>
                  </a:lnTo>
                  <a:lnTo>
                    <a:pt x="126" y="497"/>
                  </a:lnTo>
                  <a:lnTo>
                    <a:pt x="137" y="517"/>
                  </a:lnTo>
                  <a:lnTo>
                    <a:pt x="147" y="533"/>
                  </a:lnTo>
                  <a:lnTo>
                    <a:pt x="156" y="547"/>
                  </a:lnTo>
                  <a:lnTo>
                    <a:pt x="164" y="558"/>
                  </a:lnTo>
                  <a:lnTo>
                    <a:pt x="174" y="572"/>
                  </a:lnTo>
                  <a:lnTo>
                    <a:pt x="179" y="576"/>
                  </a:lnTo>
                  <a:lnTo>
                    <a:pt x="181" y="578"/>
                  </a:lnTo>
                  <a:lnTo>
                    <a:pt x="188" y="582"/>
                  </a:lnTo>
                  <a:lnTo>
                    <a:pt x="201" y="588"/>
                  </a:lnTo>
                  <a:lnTo>
                    <a:pt x="219" y="594"/>
                  </a:lnTo>
                  <a:lnTo>
                    <a:pt x="229" y="596"/>
                  </a:lnTo>
                  <a:lnTo>
                    <a:pt x="240" y="600"/>
                  </a:lnTo>
                  <a:lnTo>
                    <a:pt x="253" y="601"/>
                  </a:lnTo>
                  <a:lnTo>
                    <a:pt x="267" y="602"/>
                  </a:lnTo>
                  <a:lnTo>
                    <a:pt x="282" y="602"/>
                  </a:lnTo>
                  <a:lnTo>
                    <a:pt x="299" y="601"/>
                  </a:lnTo>
                  <a:lnTo>
                    <a:pt x="316" y="599"/>
                  </a:lnTo>
                  <a:lnTo>
                    <a:pt x="334" y="595"/>
                  </a:lnTo>
                  <a:lnTo>
                    <a:pt x="352" y="591"/>
                  </a:lnTo>
                  <a:lnTo>
                    <a:pt x="368" y="586"/>
                  </a:lnTo>
                  <a:lnTo>
                    <a:pt x="383" y="579"/>
                  </a:lnTo>
                  <a:lnTo>
                    <a:pt x="398" y="573"/>
                  </a:lnTo>
                  <a:lnTo>
                    <a:pt x="412" y="566"/>
                  </a:lnTo>
                  <a:lnTo>
                    <a:pt x="425" y="559"/>
                  </a:lnTo>
                  <a:lnTo>
                    <a:pt x="436" y="551"/>
                  </a:lnTo>
                  <a:lnTo>
                    <a:pt x="447" y="544"/>
                  </a:lnTo>
                  <a:lnTo>
                    <a:pt x="456" y="536"/>
                  </a:lnTo>
                  <a:lnTo>
                    <a:pt x="464" y="528"/>
                  </a:lnTo>
                  <a:lnTo>
                    <a:pt x="472" y="522"/>
                  </a:lnTo>
                  <a:lnTo>
                    <a:pt x="477" y="515"/>
                  </a:lnTo>
                  <a:lnTo>
                    <a:pt x="480" y="510"/>
                  </a:lnTo>
                  <a:lnTo>
                    <a:pt x="483" y="505"/>
                  </a:lnTo>
                  <a:lnTo>
                    <a:pt x="484" y="500"/>
                  </a:lnTo>
                  <a:lnTo>
                    <a:pt x="483" y="497"/>
                  </a:lnTo>
                  <a:lnTo>
                    <a:pt x="482" y="483"/>
                  </a:lnTo>
                  <a:lnTo>
                    <a:pt x="479" y="445"/>
                  </a:lnTo>
                  <a:lnTo>
                    <a:pt x="474" y="389"/>
                  </a:lnTo>
                  <a:lnTo>
                    <a:pt x="467" y="322"/>
                  </a:lnTo>
                  <a:lnTo>
                    <a:pt x="459" y="249"/>
                  </a:lnTo>
                  <a:lnTo>
                    <a:pt x="448" y="175"/>
                  </a:lnTo>
                  <a:lnTo>
                    <a:pt x="442" y="141"/>
                  </a:lnTo>
                  <a:lnTo>
                    <a:pt x="436" y="109"/>
                  </a:lnTo>
                  <a:lnTo>
                    <a:pt x="429" y="80"/>
                  </a:lnTo>
                  <a:lnTo>
                    <a:pt x="423" y="54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6933600" y="2883600"/>
              <a:ext cx="241560" cy="299160"/>
            </a:xfrm>
            <a:custGeom>
              <a:avLst/>
              <a:gdLst/>
              <a:ahLst/>
              <a:rect l="l" t="t" r="r" b="b"/>
              <a:pathLst>
                <a:path w="484" h="602">
                  <a:moveTo>
                    <a:pt x="423" y="54"/>
                  </a:moveTo>
                  <a:lnTo>
                    <a:pt x="421" y="49"/>
                  </a:lnTo>
                  <a:lnTo>
                    <a:pt x="419" y="43"/>
                  </a:lnTo>
                  <a:lnTo>
                    <a:pt x="415" y="39"/>
                  </a:lnTo>
                  <a:lnTo>
                    <a:pt x="411" y="35"/>
                  </a:lnTo>
                  <a:lnTo>
                    <a:pt x="407" y="31"/>
                  </a:lnTo>
                  <a:lnTo>
                    <a:pt x="401" y="26"/>
                  </a:lnTo>
                  <a:lnTo>
                    <a:pt x="396" y="22"/>
                  </a:lnTo>
                  <a:lnTo>
                    <a:pt x="389" y="19"/>
                  </a:lnTo>
                  <a:lnTo>
                    <a:pt x="375" y="13"/>
                  </a:lnTo>
                  <a:lnTo>
                    <a:pt x="360" y="8"/>
                  </a:lnTo>
                  <a:lnTo>
                    <a:pt x="343" y="5"/>
                  </a:lnTo>
                  <a:lnTo>
                    <a:pt x="325" y="2"/>
                  </a:lnTo>
                  <a:lnTo>
                    <a:pt x="305" y="0"/>
                  </a:lnTo>
                  <a:lnTo>
                    <a:pt x="285" y="0"/>
                  </a:lnTo>
                  <a:lnTo>
                    <a:pt x="263" y="1"/>
                  </a:lnTo>
                  <a:lnTo>
                    <a:pt x="241" y="4"/>
                  </a:lnTo>
                  <a:lnTo>
                    <a:pt x="220" y="7"/>
                  </a:lnTo>
                  <a:lnTo>
                    <a:pt x="198" y="11"/>
                  </a:lnTo>
                  <a:lnTo>
                    <a:pt x="175" y="15"/>
                  </a:lnTo>
                  <a:lnTo>
                    <a:pt x="155" y="22"/>
                  </a:lnTo>
                  <a:lnTo>
                    <a:pt x="139" y="27"/>
                  </a:lnTo>
                  <a:lnTo>
                    <a:pt x="125" y="33"/>
                  </a:lnTo>
                  <a:lnTo>
                    <a:pt x="110" y="39"/>
                  </a:lnTo>
                  <a:lnTo>
                    <a:pt x="97" y="46"/>
                  </a:lnTo>
                  <a:lnTo>
                    <a:pt x="83" y="52"/>
                  </a:lnTo>
                  <a:lnTo>
                    <a:pt x="71" y="61"/>
                  </a:lnTo>
                  <a:lnTo>
                    <a:pt x="59" y="68"/>
                  </a:lnTo>
                  <a:lnTo>
                    <a:pt x="48" y="77"/>
                  </a:lnTo>
                  <a:lnTo>
                    <a:pt x="38" y="86"/>
                  </a:lnTo>
                  <a:lnTo>
                    <a:pt x="29" y="95"/>
                  </a:lnTo>
                  <a:lnTo>
                    <a:pt x="21" y="106"/>
                  </a:lnTo>
                  <a:lnTo>
                    <a:pt x="14" y="117"/>
                  </a:lnTo>
                  <a:lnTo>
                    <a:pt x="9" y="128"/>
                  </a:lnTo>
                  <a:lnTo>
                    <a:pt x="5" y="139"/>
                  </a:lnTo>
                  <a:lnTo>
                    <a:pt x="2" y="151"/>
                  </a:lnTo>
                  <a:lnTo>
                    <a:pt x="0" y="163"/>
                  </a:lnTo>
                  <a:lnTo>
                    <a:pt x="0" y="171"/>
                  </a:lnTo>
                  <a:lnTo>
                    <a:pt x="3" y="178"/>
                  </a:lnTo>
                  <a:lnTo>
                    <a:pt x="5" y="186"/>
                  </a:lnTo>
                  <a:lnTo>
                    <a:pt x="7" y="193"/>
                  </a:lnTo>
                  <a:lnTo>
                    <a:pt x="9" y="200"/>
                  </a:lnTo>
                  <a:lnTo>
                    <a:pt x="12" y="207"/>
                  </a:lnTo>
                  <a:lnTo>
                    <a:pt x="14" y="213"/>
                  </a:lnTo>
                  <a:lnTo>
                    <a:pt x="18" y="220"/>
                  </a:lnTo>
                  <a:lnTo>
                    <a:pt x="32" y="268"/>
                  </a:lnTo>
                  <a:lnTo>
                    <a:pt x="46" y="311"/>
                  </a:lnTo>
                  <a:lnTo>
                    <a:pt x="60" y="351"/>
                  </a:lnTo>
                  <a:lnTo>
                    <a:pt x="74" y="388"/>
                  </a:lnTo>
                  <a:lnTo>
                    <a:pt x="88" y="420"/>
                  </a:lnTo>
                  <a:lnTo>
                    <a:pt x="101" y="450"/>
                  </a:lnTo>
                  <a:lnTo>
                    <a:pt x="114" y="475"/>
                  </a:lnTo>
                  <a:lnTo>
                    <a:pt x="126" y="497"/>
                  </a:lnTo>
                  <a:lnTo>
                    <a:pt x="137" y="517"/>
                  </a:lnTo>
                  <a:lnTo>
                    <a:pt x="147" y="533"/>
                  </a:lnTo>
                  <a:lnTo>
                    <a:pt x="156" y="547"/>
                  </a:lnTo>
                  <a:lnTo>
                    <a:pt x="164" y="558"/>
                  </a:lnTo>
                  <a:lnTo>
                    <a:pt x="174" y="572"/>
                  </a:lnTo>
                  <a:lnTo>
                    <a:pt x="179" y="576"/>
                  </a:lnTo>
                  <a:lnTo>
                    <a:pt x="181" y="578"/>
                  </a:lnTo>
                  <a:lnTo>
                    <a:pt x="188" y="582"/>
                  </a:lnTo>
                  <a:lnTo>
                    <a:pt x="201" y="588"/>
                  </a:lnTo>
                  <a:lnTo>
                    <a:pt x="219" y="594"/>
                  </a:lnTo>
                  <a:lnTo>
                    <a:pt x="229" y="596"/>
                  </a:lnTo>
                  <a:lnTo>
                    <a:pt x="240" y="600"/>
                  </a:lnTo>
                  <a:lnTo>
                    <a:pt x="253" y="601"/>
                  </a:lnTo>
                  <a:lnTo>
                    <a:pt x="267" y="602"/>
                  </a:lnTo>
                  <a:lnTo>
                    <a:pt x="282" y="602"/>
                  </a:lnTo>
                  <a:lnTo>
                    <a:pt x="299" y="601"/>
                  </a:lnTo>
                  <a:lnTo>
                    <a:pt x="316" y="599"/>
                  </a:lnTo>
                  <a:lnTo>
                    <a:pt x="334" y="595"/>
                  </a:lnTo>
                  <a:lnTo>
                    <a:pt x="352" y="591"/>
                  </a:lnTo>
                  <a:lnTo>
                    <a:pt x="368" y="586"/>
                  </a:lnTo>
                  <a:lnTo>
                    <a:pt x="383" y="579"/>
                  </a:lnTo>
                  <a:lnTo>
                    <a:pt x="398" y="573"/>
                  </a:lnTo>
                  <a:lnTo>
                    <a:pt x="412" y="566"/>
                  </a:lnTo>
                  <a:lnTo>
                    <a:pt x="425" y="559"/>
                  </a:lnTo>
                  <a:lnTo>
                    <a:pt x="436" y="551"/>
                  </a:lnTo>
                  <a:lnTo>
                    <a:pt x="447" y="544"/>
                  </a:lnTo>
                  <a:lnTo>
                    <a:pt x="456" y="536"/>
                  </a:lnTo>
                  <a:lnTo>
                    <a:pt x="464" y="528"/>
                  </a:lnTo>
                  <a:lnTo>
                    <a:pt x="472" y="522"/>
                  </a:lnTo>
                  <a:lnTo>
                    <a:pt x="477" y="515"/>
                  </a:lnTo>
                  <a:lnTo>
                    <a:pt x="480" y="510"/>
                  </a:lnTo>
                  <a:lnTo>
                    <a:pt x="483" y="505"/>
                  </a:lnTo>
                  <a:lnTo>
                    <a:pt x="484" y="500"/>
                  </a:lnTo>
                  <a:lnTo>
                    <a:pt x="483" y="497"/>
                  </a:lnTo>
                  <a:lnTo>
                    <a:pt x="482" y="483"/>
                  </a:lnTo>
                  <a:lnTo>
                    <a:pt x="479" y="445"/>
                  </a:lnTo>
                  <a:lnTo>
                    <a:pt x="474" y="389"/>
                  </a:lnTo>
                  <a:lnTo>
                    <a:pt x="467" y="322"/>
                  </a:lnTo>
                  <a:lnTo>
                    <a:pt x="459" y="249"/>
                  </a:lnTo>
                  <a:lnTo>
                    <a:pt x="448" y="175"/>
                  </a:lnTo>
                  <a:lnTo>
                    <a:pt x="442" y="141"/>
                  </a:lnTo>
                  <a:lnTo>
                    <a:pt x="436" y="109"/>
                  </a:lnTo>
                  <a:lnTo>
                    <a:pt x="429" y="80"/>
                  </a:lnTo>
                  <a:lnTo>
                    <a:pt x="423" y="54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6943680" y="2929680"/>
              <a:ext cx="241560" cy="298440"/>
            </a:xfrm>
            <a:custGeom>
              <a:avLst/>
              <a:gdLst/>
              <a:ahLst/>
              <a:rect l="l" t="t" r="r" b="b"/>
              <a:pathLst>
                <a:path w="482" h="603">
                  <a:moveTo>
                    <a:pt x="423" y="54"/>
                  </a:moveTo>
                  <a:lnTo>
                    <a:pt x="420" y="49"/>
                  </a:lnTo>
                  <a:lnTo>
                    <a:pt x="418" y="43"/>
                  </a:lnTo>
                  <a:lnTo>
                    <a:pt x="415" y="39"/>
                  </a:lnTo>
                  <a:lnTo>
                    <a:pt x="411" y="33"/>
                  </a:lnTo>
                  <a:lnTo>
                    <a:pt x="406" y="29"/>
                  </a:lnTo>
                  <a:lnTo>
                    <a:pt x="401" y="26"/>
                  </a:lnTo>
                  <a:lnTo>
                    <a:pt x="396" y="22"/>
                  </a:lnTo>
                  <a:lnTo>
                    <a:pt x="389" y="18"/>
                  </a:lnTo>
                  <a:lnTo>
                    <a:pt x="375" y="13"/>
                  </a:lnTo>
                  <a:lnTo>
                    <a:pt x="360" y="8"/>
                  </a:lnTo>
                  <a:lnTo>
                    <a:pt x="343" y="4"/>
                  </a:lnTo>
                  <a:lnTo>
                    <a:pt x="324" y="2"/>
                  </a:lnTo>
                  <a:lnTo>
                    <a:pt x="305" y="1"/>
                  </a:lnTo>
                  <a:lnTo>
                    <a:pt x="284" y="0"/>
                  </a:lnTo>
                  <a:lnTo>
                    <a:pt x="263" y="1"/>
                  </a:lnTo>
                  <a:lnTo>
                    <a:pt x="241" y="3"/>
                  </a:lnTo>
                  <a:lnTo>
                    <a:pt x="219" y="6"/>
                  </a:lnTo>
                  <a:lnTo>
                    <a:pt x="197" y="11"/>
                  </a:lnTo>
                  <a:lnTo>
                    <a:pt x="175" y="15"/>
                  </a:lnTo>
                  <a:lnTo>
                    <a:pt x="154" y="22"/>
                  </a:lnTo>
                  <a:lnTo>
                    <a:pt x="138" y="27"/>
                  </a:lnTo>
                  <a:lnTo>
                    <a:pt x="124" y="32"/>
                  </a:lnTo>
                  <a:lnTo>
                    <a:pt x="109" y="39"/>
                  </a:lnTo>
                  <a:lnTo>
                    <a:pt x="96" y="45"/>
                  </a:lnTo>
                  <a:lnTo>
                    <a:pt x="82" y="52"/>
                  </a:lnTo>
                  <a:lnTo>
                    <a:pt x="70" y="60"/>
                  </a:lnTo>
                  <a:lnTo>
                    <a:pt x="58" y="68"/>
                  </a:lnTo>
                  <a:lnTo>
                    <a:pt x="48" y="77"/>
                  </a:lnTo>
                  <a:lnTo>
                    <a:pt x="37" y="86"/>
                  </a:lnTo>
                  <a:lnTo>
                    <a:pt x="28" y="96"/>
                  </a:lnTo>
                  <a:lnTo>
                    <a:pt x="21" y="106"/>
                  </a:lnTo>
                  <a:lnTo>
                    <a:pt x="14" y="117"/>
                  </a:lnTo>
                  <a:lnTo>
                    <a:pt x="9" y="129"/>
                  </a:lnTo>
                  <a:lnTo>
                    <a:pt x="4" y="139"/>
                  </a:lnTo>
                  <a:lnTo>
                    <a:pt x="1" y="152"/>
                  </a:lnTo>
                  <a:lnTo>
                    <a:pt x="0" y="164"/>
                  </a:lnTo>
                  <a:lnTo>
                    <a:pt x="0" y="172"/>
                  </a:lnTo>
                  <a:lnTo>
                    <a:pt x="1" y="179"/>
                  </a:lnTo>
                  <a:lnTo>
                    <a:pt x="3" y="186"/>
                  </a:lnTo>
                  <a:lnTo>
                    <a:pt x="6" y="193"/>
                  </a:lnTo>
                  <a:lnTo>
                    <a:pt x="9" y="200"/>
                  </a:lnTo>
                  <a:lnTo>
                    <a:pt x="11" y="207"/>
                  </a:lnTo>
                  <a:lnTo>
                    <a:pt x="13" y="214"/>
                  </a:lnTo>
                  <a:lnTo>
                    <a:pt x="15" y="220"/>
                  </a:lnTo>
                  <a:lnTo>
                    <a:pt x="30" y="268"/>
                  </a:lnTo>
                  <a:lnTo>
                    <a:pt x="44" y="312"/>
                  </a:lnTo>
                  <a:lnTo>
                    <a:pt x="58" y="352"/>
                  </a:lnTo>
                  <a:lnTo>
                    <a:pt x="73" y="388"/>
                  </a:lnTo>
                  <a:lnTo>
                    <a:pt x="87" y="420"/>
                  </a:lnTo>
                  <a:lnTo>
                    <a:pt x="100" y="449"/>
                  </a:lnTo>
                  <a:lnTo>
                    <a:pt x="112" y="475"/>
                  </a:lnTo>
                  <a:lnTo>
                    <a:pt x="124" y="498"/>
                  </a:lnTo>
                  <a:lnTo>
                    <a:pt x="146" y="534"/>
                  </a:lnTo>
                  <a:lnTo>
                    <a:pt x="162" y="558"/>
                  </a:lnTo>
                  <a:lnTo>
                    <a:pt x="173" y="572"/>
                  </a:lnTo>
                  <a:lnTo>
                    <a:pt x="176" y="577"/>
                  </a:lnTo>
                  <a:lnTo>
                    <a:pt x="179" y="579"/>
                  </a:lnTo>
                  <a:lnTo>
                    <a:pt x="187" y="583"/>
                  </a:lnTo>
                  <a:lnTo>
                    <a:pt x="199" y="589"/>
                  </a:lnTo>
                  <a:lnTo>
                    <a:pt x="216" y="595"/>
                  </a:lnTo>
                  <a:lnTo>
                    <a:pt x="227" y="597"/>
                  </a:lnTo>
                  <a:lnTo>
                    <a:pt x="239" y="599"/>
                  </a:lnTo>
                  <a:lnTo>
                    <a:pt x="252" y="602"/>
                  </a:lnTo>
                  <a:lnTo>
                    <a:pt x="266" y="603"/>
                  </a:lnTo>
                  <a:lnTo>
                    <a:pt x="280" y="603"/>
                  </a:lnTo>
                  <a:lnTo>
                    <a:pt x="296" y="602"/>
                  </a:lnTo>
                  <a:lnTo>
                    <a:pt x="313" y="598"/>
                  </a:lnTo>
                  <a:lnTo>
                    <a:pt x="332" y="595"/>
                  </a:lnTo>
                  <a:lnTo>
                    <a:pt x="349" y="591"/>
                  </a:lnTo>
                  <a:lnTo>
                    <a:pt x="366" y="585"/>
                  </a:lnTo>
                  <a:lnTo>
                    <a:pt x="383" y="579"/>
                  </a:lnTo>
                  <a:lnTo>
                    <a:pt x="397" y="572"/>
                  </a:lnTo>
                  <a:lnTo>
                    <a:pt x="411" y="565"/>
                  </a:lnTo>
                  <a:lnTo>
                    <a:pt x="424" y="558"/>
                  </a:lnTo>
                  <a:lnTo>
                    <a:pt x="436" y="551"/>
                  </a:lnTo>
                  <a:lnTo>
                    <a:pt x="446" y="543"/>
                  </a:lnTo>
                  <a:lnTo>
                    <a:pt x="455" y="536"/>
                  </a:lnTo>
                  <a:lnTo>
                    <a:pt x="464" y="528"/>
                  </a:lnTo>
                  <a:lnTo>
                    <a:pt x="470" y="522"/>
                  </a:lnTo>
                  <a:lnTo>
                    <a:pt x="476" y="515"/>
                  </a:lnTo>
                  <a:lnTo>
                    <a:pt x="480" y="509"/>
                  </a:lnTo>
                  <a:lnTo>
                    <a:pt x="482" y="504"/>
                  </a:lnTo>
                  <a:lnTo>
                    <a:pt x="482" y="500"/>
                  </a:lnTo>
                  <a:lnTo>
                    <a:pt x="482" y="496"/>
                  </a:lnTo>
                  <a:lnTo>
                    <a:pt x="481" y="482"/>
                  </a:lnTo>
                  <a:lnTo>
                    <a:pt x="478" y="444"/>
                  </a:lnTo>
                  <a:lnTo>
                    <a:pt x="472" y="389"/>
                  </a:lnTo>
                  <a:lnTo>
                    <a:pt x="466" y="321"/>
                  </a:lnTo>
                  <a:lnTo>
                    <a:pt x="457" y="248"/>
                  </a:lnTo>
                  <a:lnTo>
                    <a:pt x="446" y="175"/>
                  </a:lnTo>
                  <a:lnTo>
                    <a:pt x="441" y="140"/>
                  </a:lnTo>
                  <a:lnTo>
                    <a:pt x="436" y="108"/>
                  </a:lnTo>
                  <a:lnTo>
                    <a:pt x="429" y="79"/>
                  </a:lnTo>
                  <a:lnTo>
                    <a:pt x="423" y="54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6943680" y="2929680"/>
              <a:ext cx="241560" cy="298440"/>
            </a:xfrm>
            <a:custGeom>
              <a:avLst/>
              <a:gdLst/>
              <a:ahLst/>
              <a:rect l="l" t="t" r="r" b="b"/>
              <a:pathLst>
                <a:path w="482" h="603">
                  <a:moveTo>
                    <a:pt x="423" y="54"/>
                  </a:moveTo>
                  <a:lnTo>
                    <a:pt x="420" y="49"/>
                  </a:lnTo>
                  <a:lnTo>
                    <a:pt x="418" y="43"/>
                  </a:lnTo>
                  <a:lnTo>
                    <a:pt x="415" y="39"/>
                  </a:lnTo>
                  <a:lnTo>
                    <a:pt x="411" y="33"/>
                  </a:lnTo>
                  <a:lnTo>
                    <a:pt x="406" y="29"/>
                  </a:lnTo>
                  <a:lnTo>
                    <a:pt x="401" y="26"/>
                  </a:lnTo>
                  <a:lnTo>
                    <a:pt x="396" y="22"/>
                  </a:lnTo>
                  <a:lnTo>
                    <a:pt x="389" y="18"/>
                  </a:lnTo>
                  <a:lnTo>
                    <a:pt x="375" y="13"/>
                  </a:lnTo>
                  <a:lnTo>
                    <a:pt x="360" y="8"/>
                  </a:lnTo>
                  <a:lnTo>
                    <a:pt x="343" y="4"/>
                  </a:lnTo>
                  <a:lnTo>
                    <a:pt x="324" y="2"/>
                  </a:lnTo>
                  <a:lnTo>
                    <a:pt x="305" y="1"/>
                  </a:lnTo>
                  <a:lnTo>
                    <a:pt x="284" y="0"/>
                  </a:lnTo>
                  <a:lnTo>
                    <a:pt x="263" y="1"/>
                  </a:lnTo>
                  <a:lnTo>
                    <a:pt x="241" y="3"/>
                  </a:lnTo>
                  <a:lnTo>
                    <a:pt x="219" y="6"/>
                  </a:lnTo>
                  <a:lnTo>
                    <a:pt x="197" y="11"/>
                  </a:lnTo>
                  <a:lnTo>
                    <a:pt x="175" y="15"/>
                  </a:lnTo>
                  <a:lnTo>
                    <a:pt x="154" y="22"/>
                  </a:lnTo>
                  <a:lnTo>
                    <a:pt x="138" y="27"/>
                  </a:lnTo>
                  <a:lnTo>
                    <a:pt x="124" y="32"/>
                  </a:lnTo>
                  <a:lnTo>
                    <a:pt x="109" y="39"/>
                  </a:lnTo>
                  <a:lnTo>
                    <a:pt x="96" y="45"/>
                  </a:lnTo>
                  <a:lnTo>
                    <a:pt x="82" y="52"/>
                  </a:lnTo>
                  <a:lnTo>
                    <a:pt x="70" y="60"/>
                  </a:lnTo>
                  <a:lnTo>
                    <a:pt x="58" y="68"/>
                  </a:lnTo>
                  <a:lnTo>
                    <a:pt x="48" y="77"/>
                  </a:lnTo>
                  <a:lnTo>
                    <a:pt x="37" y="86"/>
                  </a:lnTo>
                  <a:lnTo>
                    <a:pt x="28" y="96"/>
                  </a:lnTo>
                  <a:lnTo>
                    <a:pt x="21" y="106"/>
                  </a:lnTo>
                  <a:lnTo>
                    <a:pt x="14" y="117"/>
                  </a:lnTo>
                  <a:lnTo>
                    <a:pt x="9" y="129"/>
                  </a:lnTo>
                  <a:lnTo>
                    <a:pt x="4" y="139"/>
                  </a:lnTo>
                  <a:lnTo>
                    <a:pt x="1" y="152"/>
                  </a:lnTo>
                  <a:lnTo>
                    <a:pt x="0" y="164"/>
                  </a:lnTo>
                  <a:lnTo>
                    <a:pt x="0" y="172"/>
                  </a:lnTo>
                  <a:lnTo>
                    <a:pt x="1" y="179"/>
                  </a:lnTo>
                  <a:lnTo>
                    <a:pt x="3" y="186"/>
                  </a:lnTo>
                  <a:lnTo>
                    <a:pt x="6" y="193"/>
                  </a:lnTo>
                  <a:lnTo>
                    <a:pt x="9" y="200"/>
                  </a:lnTo>
                  <a:lnTo>
                    <a:pt x="11" y="207"/>
                  </a:lnTo>
                  <a:lnTo>
                    <a:pt x="13" y="214"/>
                  </a:lnTo>
                  <a:lnTo>
                    <a:pt x="15" y="220"/>
                  </a:lnTo>
                  <a:lnTo>
                    <a:pt x="30" y="268"/>
                  </a:lnTo>
                  <a:lnTo>
                    <a:pt x="44" y="312"/>
                  </a:lnTo>
                  <a:lnTo>
                    <a:pt x="58" y="352"/>
                  </a:lnTo>
                  <a:lnTo>
                    <a:pt x="73" y="388"/>
                  </a:lnTo>
                  <a:lnTo>
                    <a:pt x="87" y="420"/>
                  </a:lnTo>
                  <a:lnTo>
                    <a:pt x="100" y="449"/>
                  </a:lnTo>
                  <a:lnTo>
                    <a:pt x="112" y="475"/>
                  </a:lnTo>
                  <a:lnTo>
                    <a:pt x="124" y="498"/>
                  </a:lnTo>
                  <a:lnTo>
                    <a:pt x="146" y="534"/>
                  </a:lnTo>
                  <a:lnTo>
                    <a:pt x="162" y="558"/>
                  </a:lnTo>
                  <a:lnTo>
                    <a:pt x="173" y="572"/>
                  </a:lnTo>
                  <a:lnTo>
                    <a:pt x="176" y="577"/>
                  </a:lnTo>
                  <a:lnTo>
                    <a:pt x="179" y="579"/>
                  </a:lnTo>
                  <a:lnTo>
                    <a:pt x="187" y="583"/>
                  </a:lnTo>
                  <a:lnTo>
                    <a:pt x="199" y="589"/>
                  </a:lnTo>
                  <a:lnTo>
                    <a:pt x="216" y="595"/>
                  </a:lnTo>
                  <a:lnTo>
                    <a:pt x="227" y="597"/>
                  </a:lnTo>
                  <a:lnTo>
                    <a:pt x="239" y="599"/>
                  </a:lnTo>
                  <a:lnTo>
                    <a:pt x="252" y="602"/>
                  </a:lnTo>
                  <a:lnTo>
                    <a:pt x="266" y="603"/>
                  </a:lnTo>
                  <a:lnTo>
                    <a:pt x="280" y="603"/>
                  </a:lnTo>
                  <a:lnTo>
                    <a:pt x="296" y="602"/>
                  </a:lnTo>
                  <a:lnTo>
                    <a:pt x="313" y="598"/>
                  </a:lnTo>
                  <a:lnTo>
                    <a:pt x="332" y="595"/>
                  </a:lnTo>
                  <a:lnTo>
                    <a:pt x="349" y="591"/>
                  </a:lnTo>
                  <a:lnTo>
                    <a:pt x="366" y="585"/>
                  </a:lnTo>
                  <a:lnTo>
                    <a:pt x="383" y="579"/>
                  </a:lnTo>
                  <a:lnTo>
                    <a:pt x="397" y="572"/>
                  </a:lnTo>
                  <a:lnTo>
                    <a:pt x="411" y="565"/>
                  </a:lnTo>
                  <a:lnTo>
                    <a:pt x="424" y="558"/>
                  </a:lnTo>
                  <a:lnTo>
                    <a:pt x="436" y="551"/>
                  </a:lnTo>
                  <a:lnTo>
                    <a:pt x="446" y="543"/>
                  </a:lnTo>
                  <a:lnTo>
                    <a:pt x="455" y="536"/>
                  </a:lnTo>
                  <a:lnTo>
                    <a:pt x="464" y="528"/>
                  </a:lnTo>
                  <a:lnTo>
                    <a:pt x="470" y="522"/>
                  </a:lnTo>
                  <a:lnTo>
                    <a:pt x="476" y="515"/>
                  </a:lnTo>
                  <a:lnTo>
                    <a:pt x="480" y="509"/>
                  </a:lnTo>
                  <a:lnTo>
                    <a:pt x="482" y="504"/>
                  </a:lnTo>
                  <a:lnTo>
                    <a:pt x="482" y="500"/>
                  </a:lnTo>
                  <a:lnTo>
                    <a:pt x="482" y="496"/>
                  </a:lnTo>
                  <a:lnTo>
                    <a:pt x="481" y="482"/>
                  </a:lnTo>
                  <a:lnTo>
                    <a:pt x="478" y="444"/>
                  </a:lnTo>
                  <a:lnTo>
                    <a:pt x="472" y="389"/>
                  </a:lnTo>
                  <a:lnTo>
                    <a:pt x="466" y="321"/>
                  </a:lnTo>
                  <a:lnTo>
                    <a:pt x="457" y="248"/>
                  </a:lnTo>
                  <a:lnTo>
                    <a:pt x="446" y="175"/>
                  </a:lnTo>
                  <a:lnTo>
                    <a:pt x="441" y="140"/>
                  </a:lnTo>
                  <a:lnTo>
                    <a:pt x="436" y="108"/>
                  </a:lnTo>
                  <a:lnTo>
                    <a:pt x="429" y="79"/>
                  </a:lnTo>
                  <a:lnTo>
                    <a:pt x="423" y="54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7023960" y="2897640"/>
              <a:ext cx="41400" cy="255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30"/>
                  </a:moveTo>
                  <a:lnTo>
                    <a:pt x="81" y="21"/>
                  </a:lnTo>
                  <a:lnTo>
                    <a:pt x="76" y="13"/>
                  </a:lnTo>
                  <a:lnTo>
                    <a:pt x="69" y="8"/>
                  </a:lnTo>
                  <a:lnTo>
                    <a:pt x="63" y="3"/>
                  </a:lnTo>
                  <a:lnTo>
                    <a:pt x="55" y="1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4" y="5"/>
                  </a:lnTo>
                  <a:lnTo>
                    <a:pt x="16" y="9"/>
                  </a:lnTo>
                  <a:lnTo>
                    <a:pt x="11" y="14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84" y="3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025760" y="2911680"/>
              <a:ext cx="115560" cy="262800"/>
            </a:xfrm>
            <a:custGeom>
              <a:avLst/>
              <a:gdLst/>
              <a:ahLst/>
              <a:rect l="l" t="t" r="r" b="b"/>
              <a:pathLst>
                <a:path w="232" h="527">
                  <a:moveTo>
                    <a:pt x="232" y="504"/>
                  </a:moveTo>
                  <a:lnTo>
                    <a:pt x="82" y="0"/>
                  </a:lnTo>
                  <a:lnTo>
                    <a:pt x="0" y="25"/>
                  </a:lnTo>
                  <a:lnTo>
                    <a:pt x="149" y="527"/>
                  </a:lnTo>
                  <a:lnTo>
                    <a:pt x="232" y="50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7099560" y="3162960"/>
              <a:ext cx="41760" cy="273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0" y="23"/>
                  </a:moveTo>
                  <a:lnTo>
                    <a:pt x="5" y="33"/>
                  </a:lnTo>
                  <a:lnTo>
                    <a:pt x="10" y="41"/>
                  </a:lnTo>
                  <a:lnTo>
                    <a:pt x="15" y="46"/>
                  </a:lnTo>
                  <a:lnTo>
                    <a:pt x="23" y="50"/>
                  </a:lnTo>
                  <a:lnTo>
                    <a:pt x="30" y="54"/>
                  </a:lnTo>
                  <a:lnTo>
                    <a:pt x="38" y="55"/>
                  </a:lnTo>
                  <a:lnTo>
                    <a:pt x="47" y="55"/>
                  </a:lnTo>
                  <a:lnTo>
                    <a:pt x="54" y="53"/>
                  </a:lnTo>
                  <a:lnTo>
                    <a:pt x="62" y="49"/>
                  </a:lnTo>
                  <a:lnTo>
                    <a:pt x="68" y="46"/>
                  </a:lnTo>
                  <a:lnTo>
                    <a:pt x="75" y="41"/>
                  </a:lnTo>
                  <a:lnTo>
                    <a:pt x="79" y="34"/>
                  </a:lnTo>
                  <a:lnTo>
                    <a:pt x="83" y="27"/>
                  </a:lnTo>
                  <a:lnTo>
                    <a:pt x="84" y="18"/>
                  </a:lnTo>
                  <a:lnTo>
                    <a:pt x="84" y="9"/>
                  </a:lnTo>
                  <a:lnTo>
                    <a:pt x="8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6953760" y="2923200"/>
              <a:ext cx="13680" cy="792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0"/>
                  </a:moveTo>
                  <a:lnTo>
                    <a:pt x="26" y="7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9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6953760" y="2927520"/>
              <a:ext cx="108000" cy="262800"/>
            </a:xfrm>
            <a:custGeom>
              <a:avLst/>
              <a:gdLst/>
              <a:ahLst/>
              <a:rect l="l" t="t" r="r" b="b"/>
              <a:pathLst>
                <a:path w="215" h="529">
                  <a:moveTo>
                    <a:pt x="215" y="519"/>
                  </a:moveTo>
                  <a:lnTo>
                    <a:pt x="27" y="0"/>
                  </a:lnTo>
                  <a:lnTo>
                    <a:pt x="0" y="9"/>
                  </a:lnTo>
                  <a:lnTo>
                    <a:pt x="188" y="529"/>
                  </a:lnTo>
                  <a:lnTo>
                    <a:pt x="215" y="5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7047720" y="3186360"/>
              <a:ext cx="13680" cy="100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0"/>
                  </a:moveTo>
                  <a:lnTo>
                    <a:pt x="1" y="13"/>
                  </a:lnTo>
                  <a:lnTo>
                    <a:pt x="3" y="15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3" y="20"/>
                  </a:lnTo>
                  <a:lnTo>
                    <a:pt x="18" y="19"/>
                  </a:lnTo>
                  <a:lnTo>
                    <a:pt x="22" y="16"/>
                  </a:lnTo>
                  <a:lnTo>
                    <a:pt x="26" y="12"/>
                  </a:lnTo>
                  <a:lnTo>
                    <a:pt x="27" y="10"/>
                  </a:lnTo>
                  <a:lnTo>
                    <a:pt x="28" y="7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6933600" y="2917440"/>
              <a:ext cx="235800" cy="153360"/>
            </a:xfrm>
            <a:custGeom>
              <a:avLst/>
              <a:gdLst/>
              <a:ahLst/>
              <a:rect l="l" t="t" r="r" b="b"/>
              <a:pathLst>
                <a:path w="476" h="308">
                  <a:moveTo>
                    <a:pt x="254" y="183"/>
                  </a:moveTo>
                  <a:lnTo>
                    <a:pt x="286" y="175"/>
                  </a:lnTo>
                  <a:lnTo>
                    <a:pt x="314" y="170"/>
                  </a:lnTo>
                  <a:lnTo>
                    <a:pt x="340" y="165"/>
                  </a:lnTo>
                  <a:lnTo>
                    <a:pt x="362" y="162"/>
                  </a:lnTo>
                  <a:lnTo>
                    <a:pt x="382" y="160"/>
                  </a:lnTo>
                  <a:lnTo>
                    <a:pt x="399" y="158"/>
                  </a:lnTo>
                  <a:lnTo>
                    <a:pt x="414" y="158"/>
                  </a:lnTo>
                  <a:lnTo>
                    <a:pt x="427" y="158"/>
                  </a:lnTo>
                  <a:lnTo>
                    <a:pt x="447" y="159"/>
                  </a:lnTo>
                  <a:lnTo>
                    <a:pt x="460" y="161"/>
                  </a:lnTo>
                  <a:lnTo>
                    <a:pt x="466" y="163"/>
                  </a:lnTo>
                  <a:lnTo>
                    <a:pt x="468" y="164"/>
                  </a:lnTo>
                  <a:lnTo>
                    <a:pt x="470" y="159"/>
                  </a:lnTo>
                  <a:lnTo>
                    <a:pt x="473" y="154"/>
                  </a:lnTo>
                  <a:lnTo>
                    <a:pt x="475" y="148"/>
                  </a:lnTo>
                  <a:lnTo>
                    <a:pt x="476" y="143"/>
                  </a:lnTo>
                  <a:lnTo>
                    <a:pt x="476" y="131"/>
                  </a:lnTo>
                  <a:lnTo>
                    <a:pt x="475" y="119"/>
                  </a:lnTo>
                  <a:lnTo>
                    <a:pt x="473" y="106"/>
                  </a:lnTo>
                  <a:lnTo>
                    <a:pt x="469" y="94"/>
                  </a:lnTo>
                  <a:lnTo>
                    <a:pt x="467" y="83"/>
                  </a:lnTo>
                  <a:lnTo>
                    <a:pt x="464" y="73"/>
                  </a:lnTo>
                  <a:lnTo>
                    <a:pt x="462" y="63"/>
                  </a:lnTo>
                  <a:lnTo>
                    <a:pt x="460" y="54"/>
                  </a:lnTo>
                  <a:lnTo>
                    <a:pt x="459" y="47"/>
                  </a:lnTo>
                  <a:lnTo>
                    <a:pt x="456" y="40"/>
                  </a:lnTo>
                  <a:lnTo>
                    <a:pt x="454" y="35"/>
                  </a:lnTo>
                  <a:lnTo>
                    <a:pt x="452" y="28"/>
                  </a:lnTo>
                  <a:lnTo>
                    <a:pt x="449" y="24"/>
                  </a:lnTo>
                  <a:lnTo>
                    <a:pt x="446" y="19"/>
                  </a:lnTo>
                  <a:lnTo>
                    <a:pt x="439" y="13"/>
                  </a:lnTo>
                  <a:lnTo>
                    <a:pt x="430" y="9"/>
                  </a:lnTo>
                  <a:lnTo>
                    <a:pt x="421" y="6"/>
                  </a:lnTo>
                  <a:lnTo>
                    <a:pt x="409" y="3"/>
                  </a:lnTo>
                  <a:lnTo>
                    <a:pt x="395" y="1"/>
                  </a:lnTo>
                  <a:lnTo>
                    <a:pt x="379" y="0"/>
                  </a:lnTo>
                  <a:lnTo>
                    <a:pt x="362" y="0"/>
                  </a:lnTo>
                  <a:lnTo>
                    <a:pt x="344" y="1"/>
                  </a:lnTo>
                  <a:lnTo>
                    <a:pt x="325" y="2"/>
                  </a:lnTo>
                  <a:lnTo>
                    <a:pt x="305" y="6"/>
                  </a:lnTo>
                  <a:lnTo>
                    <a:pt x="285" y="8"/>
                  </a:lnTo>
                  <a:lnTo>
                    <a:pt x="263" y="12"/>
                  </a:lnTo>
                  <a:lnTo>
                    <a:pt x="241" y="16"/>
                  </a:lnTo>
                  <a:lnTo>
                    <a:pt x="219" y="22"/>
                  </a:lnTo>
                  <a:lnTo>
                    <a:pt x="196" y="27"/>
                  </a:lnTo>
                  <a:lnTo>
                    <a:pt x="174" y="35"/>
                  </a:lnTo>
                  <a:lnTo>
                    <a:pt x="143" y="45"/>
                  </a:lnTo>
                  <a:lnTo>
                    <a:pt x="113" y="56"/>
                  </a:lnTo>
                  <a:lnTo>
                    <a:pt x="98" y="64"/>
                  </a:lnTo>
                  <a:lnTo>
                    <a:pt x="83" y="70"/>
                  </a:lnTo>
                  <a:lnTo>
                    <a:pt x="69" y="79"/>
                  </a:lnTo>
                  <a:lnTo>
                    <a:pt x="56" y="87"/>
                  </a:lnTo>
                  <a:lnTo>
                    <a:pt x="44" y="96"/>
                  </a:lnTo>
                  <a:lnTo>
                    <a:pt x="33" y="106"/>
                  </a:lnTo>
                  <a:lnTo>
                    <a:pt x="23" y="116"/>
                  </a:lnTo>
                  <a:lnTo>
                    <a:pt x="16" y="127"/>
                  </a:lnTo>
                  <a:lnTo>
                    <a:pt x="9" y="138"/>
                  </a:lnTo>
                  <a:lnTo>
                    <a:pt x="4" y="150"/>
                  </a:lnTo>
                  <a:lnTo>
                    <a:pt x="2" y="163"/>
                  </a:lnTo>
                  <a:lnTo>
                    <a:pt x="0" y="177"/>
                  </a:lnTo>
                  <a:lnTo>
                    <a:pt x="2" y="185"/>
                  </a:lnTo>
                  <a:lnTo>
                    <a:pt x="4" y="194"/>
                  </a:lnTo>
                  <a:lnTo>
                    <a:pt x="6" y="202"/>
                  </a:lnTo>
                  <a:lnTo>
                    <a:pt x="9" y="211"/>
                  </a:lnTo>
                  <a:lnTo>
                    <a:pt x="12" y="221"/>
                  </a:lnTo>
                  <a:lnTo>
                    <a:pt x="17" y="229"/>
                  </a:lnTo>
                  <a:lnTo>
                    <a:pt x="19" y="238"/>
                  </a:lnTo>
                  <a:lnTo>
                    <a:pt x="22" y="244"/>
                  </a:lnTo>
                  <a:lnTo>
                    <a:pt x="24" y="254"/>
                  </a:lnTo>
                  <a:lnTo>
                    <a:pt x="26" y="263"/>
                  </a:lnTo>
                  <a:lnTo>
                    <a:pt x="30" y="272"/>
                  </a:lnTo>
                  <a:lnTo>
                    <a:pt x="34" y="282"/>
                  </a:lnTo>
                  <a:lnTo>
                    <a:pt x="38" y="291"/>
                  </a:lnTo>
                  <a:lnTo>
                    <a:pt x="44" y="298"/>
                  </a:lnTo>
                  <a:lnTo>
                    <a:pt x="46" y="302"/>
                  </a:lnTo>
                  <a:lnTo>
                    <a:pt x="49" y="305"/>
                  </a:lnTo>
                  <a:lnTo>
                    <a:pt x="53" y="307"/>
                  </a:lnTo>
                  <a:lnTo>
                    <a:pt x="57" y="308"/>
                  </a:lnTo>
                  <a:lnTo>
                    <a:pt x="58" y="305"/>
                  </a:lnTo>
                  <a:lnTo>
                    <a:pt x="63" y="295"/>
                  </a:lnTo>
                  <a:lnTo>
                    <a:pt x="67" y="288"/>
                  </a:lnTo>
                  <a:lnTo>
                    <a:pt x="73" y="280"/>
                  </a:lnTo>
                  <a:lnTo>
                    <a:pt x="80" y="271"/>
                  </a:lnTo>
                  <a:lnTo>
                    <a:pt x="90" y="262"/>
                  </a:lnTo>
                  <a:lnTo>
                    <a:pt x="102" y="251"/>
                  </a:lnTo>
                  <a:lnTo>
                    <a:pt x="115" y="241"/>
                  </a:lnTo>
                  <a:lnTo>
                    <a:pt x="131" y="230"/>
                  </a:lnTo>
                  <a:lnTo>
                    <a:pt x="150" y="221"/>
                  </a:lnTo>
                  <a:lnTo>
                    <a:pt x="171" y="210"/>
                  </a:lnTo>
                  <a:lnTo>
                    <a:pt x="196" y="200"/>
                  </a:lnTo>
                  <a:lnTo>
                    <a:pt x="224" y="191"/>
                  </a:lnTo>
                  <a:lnTo>
                    <a:pt x="254" y="1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6933600" y="2917440"/>
              <a:ext cx="235800" cy="153360"/>
            </a:xfrm>
            <a:custGeom>
              <a:avLst/>
              <a:gdLst/>
              <a:ahLst/>
              <a:rect l="l" t="t" r="r" b="b"/>
              <a:pathLst>
                <a:path w="476" h="308">
                  <a:moveTo>
                    <a:pt x="254" y="183"/>
                  </a:moveTo>
                  <a:lnTo>
                    <a:pt x="286" y="175"/>
                  </a:lnTo>
                  <a:lnTo>
                    <a:pt x="314" y="170"/>
                  </a:lnTo>
                  <a:lnTo>
                    <a:pt x="340" y="165"/>
                  </a:lnTo>
                  <a:lnTo>
                    <a:pt x="362" y="162"/>
                  </a:lnTo>
                  <a:lnTo>
                    <a:pt x="382" y="160"/>
                  </a:lnTo>
                  <a:lnTo>
                    <a:pt x="399" y="158"/>
                  </a:lnTo>
                  <a:lnTo>
                    <a:pt x="414" y="158"/>
                  </a:lnTo>
                  <a:lnTo>
                    <a:pt x="427" y="158"/>
                  </a:lnTo>
                  <a:lnTo>
                    <a:pt x="447" y="159"/>
                  </a:lnTo>
                  <a:lnTo>
                    <a:pt x="460" y="161"/>
                  </a:lnTo>
                  <a:lnTo>
                    <a:pt x="466" y="163"/>
                  </a:lnTo>
                  <a:lnTo>
                    <a:pt x="468" y="164"/>
                  </a:lnTo>
                  <a:lnTo>
                    <a:pt x="470" y="159"/>
                  </a:lnTo>
                  <a:lnTo>
                    <a:pt x="473" y="154"/>
                  </a:lnTo>
                  <a:lnTo>
                    <a:pt x="475" y="148"/>
                  </a:lnTo>
                  <a:lnTo>
                    <a:pt x="476" y="143"/>
                  </a:lnTo>
                  <a:lnTo>
                    <a:pt x="476" y="131"/>
                  </a:lnTo>
                  <a:lnTo>
                    <a:pt x="475" y="119"/>
                  </a:lnTo>
                  <a:lnTo>
                    <a:pt x="473" y="106"/>
                  </a:lnTo>
                  <a:lnTo>
                    <a:pt x="469" y="94"/>
                  </a:lnTo>
                  <a:lnTo>
                    <a:pt x="467" y="83"/>
                  </a:lnTo>
                  <a:lnTo>
                    <a:pt x="464" y="73"/>
                  </a:lnTo>
                  <a:lnTo>
                    <a:pt x="462" y="63"/>
                  </a:lnTo>
                  <a:lnTo>
                    <a:pt x="460" y="54"/>
                  </a:lnTo>
                  <a:lnTo>
                    <a:pt x="459" y="47"/>
                  </a:lnTo>
                  <a:lnTo>
                    <a:pt x="456" y="40"/>
                  </a:lnTo>
                  <a:lnTo>
                    <a:pt x="454" y="35"/>
                  </a:lnTo>
                  <a:lnTo>
                    <a:pt x="452" y="28"/>
                  </a:lnTo>
                  <a:lnTo>
                    <a:pt x="449" y="24"/>
                  </a:lnTo>
                  <a:lnTo>
                    <a:pt x="446" y="19"/>
                  </a:lnTo>
                  <a:lnTo>
                    <a:pt x="439" y="13"/>
                  </a:lnTo>
                  <a:lnTo>
                    <a:pt x="430" y="9"/>
                  </a:lnTo>
                  <a:lnTo>
                    <a:pt x="421" y="6"/>
                  </a:lnTo>
                  <a:lnTo>
                    <a:pt x="409" y="3"/>
                  </a:lnTo>
                  <a:lnTo>
                    <a:pt x="395" y="1"/>
                  </a:lnTo>
                  <a:lnTo>
                    <a:pt x="379" y="0"/>
                  </a:lnTo>
                  <a:lnTo>
                    <a:pt x="362" y="0"/>
                  </a:lnTo>
                  <a:lnTo>
                    <a:pt x="344" y="1"/>
                  </a:lnTo>
                  <a:lnTo>
                    <a:pt x="325" y="2"/>
                  </a:lnTo>
                  <a:lnTo>
                    <a:pt x="305" y="6"/>
                  </a:lnTo>
                  <a:lnTo>
                    <a:pt x="285" y="8"/>
                  </a:lnTo>
                  <a:lnTo>
                    <a:pt x="263" y="12"/>
                  </a:lnTo>
                  <a:lnTo>
                    <a:pt x="241" y="16"/>
                  </a:lnTo>
                  <a:lnTo>
                    <a:pt x="219" y="22"/>
                  </a:lnTo>
                  <a:lnTo>
                    <a:pt x="196" y="27"/>
                  </a:lnTo>
                  <a:lnTo>
                    <a:pt x="174" y="35"/>
                  </a:lnTo>
                  <a:lnTo>
                    <a:pt x="143" y="45"/>
                  </a:lnTo>
                  <a:lnTo>
                    <a:pt x="113" y="56"/>
                  </a:lnTo>
                  <a:lnTo>
                    <a:pt x="98" y="64"/>
                  </a:lnTo>
                  <a:lnTo>
                    <a:pt x="83" y="70"/>
                  </a:lnTo>
                  <a:lnTo>
                    <a:pt x="69" y="79"/>
                  </a:lnTo>
                  <a:lnTo>
                    <a:pt x="56" y="87"/>
                  </a:lnTo>
                  <a:lnTo>
                    <a:pt x="44" y="96"/>
                  </a:lnTo>
                  <a:lnTo>
                    <a:pt x="33" y="106"/>
                  </a:lnTo>
                  <a:lnTo>
                    <a:pt x="23" y="116"/>
                  </a:lnTo>
                  <a:lnTo>
                    <a:pt x="16" y="127"/>
                  </a:lnTo>
                  <a:lnTo>
                    <a:pt x="9" y="138"/>
                  </a:lnTo>
                  <a:lnTo>
                    <a:pt x="4" y="150"/>
                  </a:lnTo>
                  <a:lnTo>
                    <a:pt x="2" y="163"/>
                  </a:lnTo>
                  <a:lnTo>
                    <a:pt x="0" y="177"/>
                  </a:lnTo>
                  <a:lnTo>
                    <a:pt x="2" y="185"/>
                  </a:lnTo>
                  <a:lnTo>
                    <a:pt x="4" y="194"/>
                  </a:lnTo>
                  <a:lnTo>
                    <a:pt x="6" y="202"/>
                  </a:lnTo>
                  <a:lnTo>
                    <a:pt x="9" y="211"/>
                  </a:lnTo>
                  <a:lnTo>
                    <a:pt x="12" y="221"/>
                  </a:lnTo>
                  <a:lnTo>
                    <a:pt x="17" y="229"/>
                  </a:lnTo>
                  <a:lnTo>
                    <a:pt x="19" y="238"/>
                  </a:lnTo>
                  <a:lnTo>
                    <a:pt x="22" y="244"/>
                  </a:lnTo>
                  <a:lnTo>
                    <a:pt x="24" y="254"/>
                  </a:lnTo>
                  <a:lnTo>
                    <a:pt x="26" y="263"/>
                  </a:lnTo>
                  <a:lnTo>
                    <a:pt x="30" y="272"/>
                  </a:lnTo>
                  <a:lnTo>
                    <a:pt x="34" y="282"/>
                  </a:lnTo>
                  <a:lnTo>
                    <a:pt x="38" y="291"/>
                  </a:lnTo>
                  <a:lnTo>
                    <a:pt x="44" y="298"/>
                  </a:lnTo>
                  <a:lnTo>
                    <a:pt x="46" y="302"/>
                  </a:lnTo>
                  <a:lnTo>
                    <a:pt x="49" y="305"/>
                  </a:lnTo>
                  <a:lnTo>
                    <a:pt x="53" y="307"/>
                  </a:lnTo>
                  <a:lnTo>
                    <a:pt x="57" y="308"/>
                  </a:lnTo>
                  <a:lnTo>
                    <a:pt x="58" y="305"/>
                  </a:lnTo>
                  <a:lnTo>
                    <a:pt x="63" y="295"/>
                  </a:lnTo>
                  <a:lnTo>
                    <a:pt x="67" y="288"/>
                  </a:lnTo>
                  <a:lnTo>
                    <a:pt x="73" y="280"/>
                  </a:lnTo>
                  <a:lnTo>
                    <a:pt x="80" y="271"/>
                  </a:lnTo>
                  <a:lnTo>
                    <a:pt x="90" y="262"/>
                  </a:lnTo>
                  <a:lnTo>
                    <a:pt x="102" y="251"/>
                  </a:lnTo>
                  <a:lnTo>
                    <a:pt x="115" y="241"/>
                  </a:lnTo>
                  <a:lnTo>
                    <a:pt x="131" y="230"/>
                  </a:lnTo>
                  <a:lnTo>
                    <a:pt x="150" y="221"/>
                  </a:lnTo>
                  <a:lnTo>
                    <a:pt x="171" y="210"/>
                  </a:lnTo>
                  <a:lnTo>
                    <a:pt x="196" y="200"/>
                  </a:lnTo>
                  <a:lnTo>
                    <a:pt x="224" y="191"/>
                  </a:lnTo>
                  <a:lnTo>
                    <a:pt x="254" y="183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7103520" y="2891520"/>
              <a:ext cx="15840" cy="756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1"/>
                  </a:moveTo>
                  <a:lnTo>
                    <a:pt x="28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7105680" y="2897640"/>
              <a:ext cx="69480" cy="267120"/>
            </a:xfrm>
            <a:custGeom>
              <a:avLst/>
              <a:gdLst/>
              <a:ahLst/>
              <a:rect l="l" t="t" r="r" b="b"/>
              <a:pathLst>
                <a:path w="144" h="538">
                  <a:moveTo>
                    <a:pt x="144" y="532"/>
                  </a:moveTo>
                  <a:lnTo>
                    <a:pt x="28" y="0"/>
                  </a:lnTo>
                  <a:lnTo>
                    <a:pt x="0" y="7"/>
                  </a:lnTo>
                  <a:lnTo>
                    <a:pt x="116" y="538"/>
                  </a:lnTo>
                  <a:lnTo>
                    <a:pt x="144" y="5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7161480" y="3162960"/>
              <a:ext cx="13680" cy="756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6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12" y="17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6" y="12"/>
                  </a:lnTo>
                  <a:lnTo>
                    <a:pt x="27" y="8"/>
                  </a:lnTo>
                  <a:lnTo>
                    <a:pt x="28" y="6"/>
                  </a:lnTo>
                  <a:lnTo>
                    <a:pt x="28" y="3"/>
                  </a:lnTo>
                  <a:lnTo>
                    <a:pt x="2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7031520" y="3154680"/>
              <a:ext cx="153720" cy="73440"/>
            </a:xfrm>
            <a:custGeom>
              <a:avLst/>
              <a:gdLst/>
              <a:ahLst/>
              <a:rect l="l" t="t" r="r" b="b"/>
              <a:pathLst>
                <a:path w="307" h="149">
                  <a:moveTo>
                    <a:pt x="307" y="26"/>
                  </a:moveTo>
                  <a:lnTo>
                    <a:pt x="304" y="23"/>
                  </a:lnTo>
                  <a:lnTo>
                    <a:pt x="296" y="19"/>
                  </a:lnTo>
                  <a:lnTo>
                    <a:pt x="283" y="13"/>
                  </a:lnTo>
                  <a:lnTo>
                    <a:pt x="266" y="7"/>
                  </a:lnTo>
                  <a:lnTo>
                    <a:pt x="255" y="5"/>
                  </a:lnTo>
                  <a:lnTo>
                    <a:pt x="244" y="3"/>
                  </a:lnTo>
                  <a:lnTo>
                    <a:pt x="231" y="1"/>
                  </a:lnTo>
                  <a:lnTo>
                    <a:pt x="217" y="0"/>
                  </a:lnTo>
                  <a:lnTo>
                    <a:pt x="202" y="1"/>
                  </a:lnTo>
                  <a:lnTo>
                    <a:pt x="186" y="2"/>
                  </a:lnTo>
                  <a:lnTo>
                    <a:pt x="170" y="4"/>
                  </a:lnTo>
                  <a:lnTo>
                    <a:pt x="151" y="8"/>
                  </a:lnTo>
                  <a:lnTo>
                    <a:pt x="134" y="14"/>
                  </a:lnTo>
                  <a:lnTo>
                    <a:pt x="117" y="19"/>
                  </a:lnTo>
                  <a:lnTo>
                    <a:pt x="102" y="26"/>
                  </a:lnTo>
                  <a:lnTo>
                    <a:pt x="87" y="32"/>
                  </a:lnTo>
                  <a:lnTo>
                    <a:pt x="73" y="38"/>
                  </a:lnTo>
                  <a:lnTo>
                    <a:pt x="60" y="46"/>
                  </a:lnTo>
                  <a:lnTo>
                    <a:pt x="49" y="54"/>
                  </a:lnTo>
                  <a:lnTo>
                    <a:pt x="38" y="61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4" y="83"/>
                  </a:lnTo>
                  <a:lnTo>
                    <a:pt x="9" y="89"/>
                  </a:lnTo>
                  <a:lnTo>
                    <a:pt x="4" y="96"/>
                  </a:lnTo>
                  <a:lnTo>
                    <a:pt x="2" y="101"/>
                  </a:lnTo>
                  <a:lnTo>
                    <a:pt x="1" y="105"/>
                  </a:lnTo>
                  <a:lnTo>
                    <a:pt x="1" y="109"/>
                  </a:lnTo>
                  <a:lnTo>
                    <a:pt x="0" y="123"/>
                  </a:lnTo>
                  <a:lnTo>
                    <a:pt x="2" y="125"/>
                  </a:lnTo>
                  <a:lnTo>
                    <a:pt x="10" y="129"/>
                  </a:lnTo>
                  <a:lnTo>
                    <a:pt x="23" y="135"/>
                  </a:lnTo>
                  <a:lnTo>
                    <a:pt x="40" y="141"/>
                  </a:lnTo>
                  <a:lnTo>
                    <a:pt x="51" y="143"/>
                  </a:lnTo>
                  <a:lnTo>
                    <a:pt x="63" y="145"/>
                  </a:lnTo>
                  <a:lnTo>
                    <a:pt x="75" y="148"/>
                  </a:lnTo>
                  <a:lnTo>
                    <a:pt x="89" y="149"/>
                  </a:lnTo>
                  <a:lnTo>
                    <a:pt x="104" y="149"/>
                  </a:lnTo>
                  <a:lnTo>
                    <a:pt x="120" y="148"/>
                  </a:lnTo>
                  <a:lnTo>
                    <a:pt x="137" y="144"/>
                  </a:lnTo>
                  <a:lnTo>
                    <a:pt x="156" y="141"/>
                  </a:lnTo>
                  <a:lnTo>
                    <a:pt x="173" y="137"/>
                  </a:lnTo>
                  <a:lnTo>
                    <a:pt x="190" y="131"/>
                  </a:lnTo>
                  <a:lnTo>
                    <a:pt x="205" y="125"/>
                  </a:lnTo>
                  <a:lnTo>
                    <a:pt x="221" y="118"/>
                  </a:lnTo>
                  <a:lnTo>
                    <a:pt x="235" y="111"/>
                  </a:lnTo>
                  <a:lnTo>
                    <a:pt x="248" y="104"/>
                  </a:lnTo>
                  <a:lnTo>
                    <a:pt x="258" y="97"/>
                  </a:lnTo>
                  <a:lnTo>
                    <a:pt x="269" y="89"/>
                  </a:lnTo>
                  <a:lnTo>
                    <a:pt x="279" y="82"/>
                  </a:lnTo>
                  <a:lnTo>
                    <a:pt x="286" y="74"/>
                  </a:lnTo>
                  <a:lnTo>
                    <a:pt x="293" y="68"/>
                  </a:lnTo>
                  <a:lnTo>
                    <a:pt x="298" y="61"/>
                  </a:lnTo>
                  <a:lnTo>
                    <a:pt x="303" y="55"/>
                  </a:lnTo>
                  <a:lnTo>
                    <a:pt x="305" y="50"/>
                  </a:lnTo>
                  <a:lnTo>
                    <a:pt x="306" y="46"/>
                  </a:lnTo>
                  <a:lnTo>
                    <a:pt x="305" y="42"/>
                  </a:lnTo>
                  <a:lnTo>
                    <a:pt x="307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7031520" y="3154680"/>
              <a:ext cx="153720" cy="73440"/>
            </a:xfrm>
            <a:custGeom>
              <a:avLst/>
              <a:gdLst/>
              <a:ahLst/>
              <a:rect l="l" t="t" r="r" b="b"/>
              <a:pathLst>
                <a:path w="307" h="149">
                  <a:moveTo>
                    <a:pt x="307" y="26"/>
                  </a:moveTo>
                  <a:lnTo>
                    <a:pt x="304" y="23"/>
                  </a:lnTo>
                  <a:lnTo>
                    <a:pt x="296" y="19"/>
                  </a:lnTo>
                  <a:lnTo>
                    <a:pt x="283" y="13"/>
                  </a:lnTo>
                  <a:lnTo>
                    <a:pt x="266" y="7"/>
                  </a:lnTo>
                  <a:lnTo>
                    <a:pt x="255" y="5"/>
                  </a:lnTo>
                  <a:lnTo>
                    <a:pt x="244" y="3"/>
                  </a:lnTo>
                  <a:lnTo>
                    <a:pt x="231" y="1"/>
                  </a:lnTo>
                  <a:lnTo>
                    <a:pt x="217" y="0"/>
                  </a:lnTo>
                  <a:lnTo>
                    <a:pt x="202" y="1"/>
                  </a:lnTo>
                  <a:lnTo>
                    <a:pt x="186" y="2"/>
                  </a:lnTo>
                  <a:lnTo>
                    <a:pt x="170" y="4"/>
                  </a:lnTo>
                  <a:lnTo>
                    <a:pt x="151" y="8"/>
                  </a:lnTo>
                  <a:lnTo>
                    <a:pt x="134" y="14"/>
                  </a:lnTo>
                  <a:lnTo>
                    <a:pt x="117" y="19"/>
                  </a:lnTo>
                  <a:lnTo>
                    <a:pt x="102" y="26"/>
                  </a:lnTo>
                  <a:lnTo>
                    <a:pt x="87" y="32"/>
                  </a:lnTo>
                  <a:lnTo>
                    <a:pt x="73" y="38"/>
                  </a:lnTo>
                  <a:lnTo>
                    <a:pt x="60" y="46"/>
                  </a:lnTo>
                  <a:lnTo>
                    <a:pt x="49" y="54"/>
                  </a:lnTo>
                  <a:lnTo>
                    <a:pt x="38" y="61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4" y="83"/>
                  </a:lnTo>
                  <a:lnTo>
                    <a:pt x="9" y="89"/>
                  </a:lnTo>
                  <a:lnTo>
                    <a:pt x="4" y="96"/>
                  </a:lnTo>
                  <a:lnTo>
                    <a:pt x="2" y="101"/>
                  </a:lnTo>
                  <a:lnTo>
                    <a:pt x="1" y="105"/>
                  </a:lnTo>
                  <a:lnTo>
                    <a:pt x="1" y="109"/>
                  </a:lnTo>
                  <a:lnTo>
                    <a:pt x="0" y="123"/>
                  </a:lnTo>
                  <a:lnTo>
                    <a:pt x="2" y="125"/>
                  </a:lnTo>
                  <a:lnTo>
                    <a:pt x="10" y="129"/>
                  </a:lnTo>
                  <a:lnTo>
                    <a:pt x="23" y="135"/>
                  </a:lnTo>
                  <a:lnTo>
                    <a:pt x="40" y="141"/>
                  </a:lnTo>
                  <a:lnTo>
                    <a:pt x="51" y="143"/>
                  </a:lnTo>
                  <a:lnTo>
                    <a:pt x="63" y="145"/>
                  </a:lnTo>
                  <a:lnTo>
                    <a:pt x="75" y="148"/>
                  </a:lnTo>
                  <a:lnTo>
                    <a:pt x="89" y="149"/>
                  </a:lnTo>
                  <a:lnTo>
                    <a:pt x="104" y="149"/>
                  </a:lnTo>
                  <a:lnTo>
                    <a:pt x="120" y="148"/>
                  </a:lnTo>
                  <a:lnTo>
                    <a:pt x="137" y="144"/>
                  </a:lnTo>
                  <a:lnTo>
                    <a:pt x="156" y="141"/>
                  </a:lnTo>
                  <a:lnTo>
                    <a:pt x="173" y="137"/>
                  </a:lnTo>
                  <a:lnTo>
                    <a:pt x="190" y="131"/>
                  </a:lnTo>
                  <a:lnTo>
                    <a:pt x="205" y="125"/>
                  </a:lnTo>
                  <a:lnTo>
                    <a:pt x="221" y="118"/>
                  </a:lnTo>
                  <a:lnTo>
                    <a:pt x="235" y="111"/>
                  </a:lnTo>
                  <a:lnTo>
                    <a:pt x="248" y="104"/>
                  </a:lnTo>
                  <a:lnTo>
                    <a:pt x="258" y="97"/>
                  </a:lnTo>
                  <a:lnTo>
                    <a:pt x="269" y="89"/>
                  </a:lnTo>
                  <a:lnTo>
                    <a:pt x="279" y="82"/>
                  </a:lnTo>
                  <a:lnTo>
                    <a:pt x="286" y="74"/>
                  </a:lnTo>
                  <a:lnTo>
                    <a:pt x="293" y="68"/>
                  </a:lnTo>
                  <a:lnTo>
                    <a:pt x="298" y="61"/>
                  </a:lnTo>
                  <a:lnTo>
                    <a:pt x="303" y="55"/>
                  </a:lnTo>
                  <a:lnTo>
                    <a:pt x="305" y="50"/>
                  </a:lnTo>
                  <a:lnTo>
                    <a:pt x="306" y="46"/>
                  </a:lnTo>
                  <a:lnTo>
                    <a:pt x="305" y="42"/>
                  </a:lnTo>
                  <a:lnTo>
                    <a:pt x="307" y="2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7031520" y="3154680"/>
              <a:ext cx="153720" cy="53640"/>
            </a:xfrm>
            <a:custGeom>
              <a:avLst/>
              <a:gdLst/>
              <a:ahLst/>
              <a:rect l="l" t="t" r="r" b="b"/>
              <a:pathLst>
                <a:path w="306" h="109">
                  <a:moveTo>
                    <a:pt x="306" y="26"/>
                  </a:moveTo>
                  <a:lnTo>
                    <a:pt x="303" y="23"/>
                  </a:lnTo>
                  <a:lnTo>
                    <a:pt x="295" y="19"/>
                  </a:lnTo>
                  <a:lnTo>
                    <a:pt x="282" y="13"/>
                  </a:lnTo>
                  <a:lnTo>
                    <a:pt x="265" y="7"/>
                  </a:lnTo>
                  <a:lnTo>
                    <a:pt x="254" y="5"/>
                  </a:lnTo>
                  <a:lnTo>
                    <a:pt x="243" y="3"/>
                  </a:lnTo>
                  <a:lnTo>
                    <a:pt x="230" y="1"/>
                  </a:lnTo>
                  <a:lnTo>
                    <a:pt x="216" y="0"/>
                  </a:lnTo>
                  <a:lnTo>
                    <a:pt x="201" y="1"/>
                  </a:lnTo>
                  <a:lnTo>
                    <a:pt x="185" y="2"/>
                  </a:lnTo>
                  <a:lnTo>
                    <a:pt x="169" y="4"/>
                  </a:lnTo>
                  <a:lnTo>
                    <a:pt x="150" y="8"/>
                  </a:lnTo>
                  <a:lnTo>
                    <a:pt x="133" y="14"/>
                  </a:lnTo>
                  <a:lnTo>
                    <a:pt x="116" y="19"/>
                  </a:lnTo>
                  <a:lnTo>
                    <a:pt x="101" y="26"/>
                  </a:lnTo>
                  <a:lnTo>
                    <a:pt x="86" y="32"/>
                  </a:lnTo>
                  <a:lnTo>
                    <a:pt x="72" y="38"/>
                  </a:lnTo>
                  <a:lnTo>
                    <a:pt x="59" y="46"/>
                  </a:lnTo>
                  <a:lnTo>
                    <a:pt x="48" y="54"/>
                  </a:lnTo>
                  <a:lnTo>
                    <a:pt x="37" y="61"/>
                  </a:lnTo>
                  <a:lnTo>
                    <a:pt x="27" y="69"/>
                  </a:lnTo>
                  <a:lnTo>
                    <a:pt x="20" y="76"/>
                  </a:lnTo>
                  <a:lnTo>
                    <a:pt x="13" y="83"/>
                  </a:lnTo>
                  <a:lnTo>
                    <a:pt x="8" y="89"/>
                  </a:lnTo>
                  <a:lnTo>
                    <a:pt x="3" y="96"/>
                  </a:lnTo>
                  <a:lnTo>
                    <a:pt x="1" y="101"/>
                  </a:lnTo>
                  <a:lnTo>
                    <a:pt x="0" y="105"/>
                  </a:lnTo>
                  <a:lnTo>
                    <a:pt x="0" y="10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6940080" y="2987640"/>
              <a:ext cx="23760" cy="67320"/>
            </a:xfrm>
            <a:custGeom>
              <a:avLst/>
              <a:gdLst/>
              <a:ahLst/>
              <a:rect l="l" t="t" r="r" b="b"/>
              <a:pathLst>
                <a:path w="48" h="136">
                  <a:moveTo>
                    <a:pt x="0" y="0"/>
                  </a:moveTo>
                  <a:lnTo>
                    <a:pt x="1" y="8"/>
                  </a:lnTo>
                  <a:lnTo>
                    <a:pt x="5" y="19"/>
                  </a:lnTo>
                  <a:lnTo>
                    <a:pt x="8" y="32"/>
                  </a:lnTo>
                  <a:lnTo>
                    <a:pt x="12" y="46"/>
                  </a:lnTo>
                  <a:lnTo>
                    <a:pt x="18" y="60"/>
                  </a:lnTo>
                  <a:lnTo>
                    <a:pt x="22" y="73"/>
                  </a:lnTo>
                  <a:lnTo>
                    <a:pt x="25" y="84"/>
                  </a:lnTo>
                  <a:lnTo>
                    <a:pt x="28" y="93"/>
                  </a:lnTo>
                  <a:lnTo>
                    <a:pt x="30" y="101"/>
                  </a:lnTo>
                  <a:lnTo>
                    <a:pt x="32" y="109"/>
                  </a:lnTo>
                  <a:lnTo>
                    <a:pt x="33" y="115"/>
                  </a:lnTo>
                  <a:lnTo>
                    <a:pt x="34" y="121"/>
                  </a:lnTo>
                  <a:lnTo>
                    <a:pt x="35" y="126"/>
                  </a:lnTo>
                  <a:lnTo>
                    <a:pt x="38" y="129"/>
                  </a:lnTo>
                  <a:lnTo>
                    <a:pt x="43" y="134"/>
                  </a:lnTo>
                  <a:lnTo>
                    <a:pt x="48" y="13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6955920" y="2969280"/>
              <a:ext cx="23760" cy="69480"/>
            </a:xfrm>
            <a:custGeom>
              <a:avLst/>
              <a:gdLst/>
              <a:ahLst/>
              <a:rect l="l" t="t" r="r" b="b"/>
              <a:pathLst>
                <a:path w="48" h="139">
                  <a:moveTo>
                    <a:pt x="0" y="0"/>
                  </a:moveTo>
                  <a:lnTo>
                    <a:pt x="2" y="9"/>
                  </a:lnTo>
                  <a:lnTo>
                    <a:pt x="6" y="23"/>
                  </a:lnTo>
                  <a:lnTo>
                    <a:pt x="12" y="39"/>
                  </a:lnTo>
                  <a:lnTo>
                    <a:pt x="18" y="56"/>
                  </a:lnTo>
                  <a:lnTo>
                    <a:pt x="25" y="73"/>
                  </a:lnTo>
                  <a:lnTo>
                    <a:pt x="30" y="91"/>
                  </a:lnTo>
                  <a:lnTo>
                    <a:pt x="34" y="104"/>
                  </a:lnTo>
                  <a:lnTo>
                    <a:pt x="38" y="114"/>
                  </a:lnTo>
                  <a:lnTo>
                    <a:pt x="40" y="122"/>
                  </a:lnTo>
                  <a:lnTo>
                    <a:pt x="40" y="126"/>
                  </a:lnTo>
                  <a:lnTo>
                    <a:pt x="40" y="131"/>
                  </a:lnTo>
                  <a:lnTo>
                    <a:pt x="40" y="133"/>
                  </a:lnTo>
                  <a:lnTo>
                    <a:pt x="40" y="134"/>
                  </a:lnTo>
                  <a:lnTo>
                    <a:pt x="42" y="135"/>
                  </a:lnTo>
                  <a:lnTo>
                    <a:pt x="44" y="137"/>
                  </a:lnTo>
                  <a:lnTo>
                    <a:pt x="48" y="13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6973920" y="2955240"/>
              <a:ext cx="23400" cy="69480"/>
            </a:xfrm>
            <a:custGeom>
              <a:avLst/>
              <a:gdLst/>
              <a:ahLst/>
              <a:rect l="l" t="t" r="r" b="b"/>
              <a:pathLst>
                <a:path w="46" h="139">
                  <a:moveTo>
                    <a:pt x="0" y="0"/>
                  </a:moveTo>
                  <a:lnTo>
                    <a:pt x="2" y="10"/>
                  </a:lnTo>
                  <a:lnTo>
                    <a:pt x="7" y="24"/>
                  </a:lnTo>
                  <a:lnTo>
                    <a:pt x="14" y="42"/>
                  </a:lnTo>
                  <a:lnTo>
                    <a:pt x="20" y="61"/>
                  </a:lnTo>
                  <a:lnTo>
                    <a:pt x="27" y="81"/>
                  </a:lnTo>
                  <a:lnTo>
                    <a:pt x="33" y="99"/>
                  </a:lnTo>
                  <a:lnTo>
                    <a:pt x="38" y="113"/>
                  </a:lnTo>
                  <a:lnTo>
                    <a:pt x="42" y="124"/>
                  </a:lnTo>
                  <a:lnTo>
                    <a:pt x="44" y="131"/>
                  </a:lnTo>
                  <a:lnTo>
                    <a:pt x="44" y="135"/>
                  </a:lnTo>
                  <a:lnTo>
                    <a:pt x="43" y="136"/>
                  </a:lnTo>
                  <a:lnTo>
                    <a:pt x="42" y="136"/>
                  </a:lnTo>
                  <a:lnTo>
                    <a:pt x="41" y="136"/>
                  </a:lnTo>
                  <a:lnTo>
                    <a:pt x="41" y="136"/>
                  </a:lnTo>
                  <a:lnTo>
                    <a:pt x="43" y="137"/>
                  </a:lnTo>
                  <a:lnTo>
                    <a:pt x="46" y="13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6995880" y="2947320"/>
              <a:ext cx="23760" cy="67680"/>
            </a:xfrm>
            <a:custGeom>
              <a:avLst/>
              <a:gdLst/>
              <a:ahLst/>
              <a:rect l="l" t="t" r="r" b="b"/>
              <a:pathLst>
                <a:path w="46" h="137">
                  <a:moveTo>
                    <a:pt x="0" y="0"/>
                  </a:moveTo>
                  <a:lnTo>
                    <a:pt x="2" y="9"/>
                  </a:lnTo>
                  <a:lnTo>
                    <a:pt x="6" y="25"/>
                  </a:lnTo>
                  <a:lnTo>
                    <a:pt x="13" y="42"/>
                  </a:lnTo>
                  <a:lnTo>
                    <a:pt x="18" y="61"/>
                  </a:lnTo>
                  <a:lnTo>
                    <a:pt x="25" y="81"/>
                  </a:lnTo>
                  <a:lnTo>
                    <a:pt x="31" y="99"/>
                  </a:lnTo>
                  <a:lnTo>
                    <a:pt x="36" y="114"/>
                  </a:lnTo>
                  <a:lnTo>
                    <a:pt x="39" y="124"/>
                  </a:lnTo>
                  <a:lnTo>
                    <a:pt x="41" y="131"/>
                  </a:lnTo>
                  <a:lnTo>
                    <a:pt x="42" y="135"/>
                  </a:lnTo>
                  <a:lnTo>
                    <a:pt x="42" y="136"/>
                  </a:lnTo>
                  <a:lnTo>
                    <a:pt x="42" y="135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4" y="134"/>
                  </a:lnTo>
                  <a:lnTo>
                    <a:pt x="46" y="137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7017840" y="2939400"/>
              <a:ext cx="21600" cy="67680"/>
            </a:xfrm>
            <a:custGeom>
              <a:avLst/>
              <a:gdLst/>
              <a:ahLst/>
              <a:rect l="l" t="t" r="r" b="b"/>
              <a:pathLst>
                <a:path w="42" h="135">
                  <a:moveTo>
                    <a:pt x="0" y="0"/>
                  </a:moveTo>
                  <a:lnTo>
                    <a:pt x="3" y="8"/>
                  </a:lnTo>
                  <a:lnTo>
                    <a:pt x="8" y="23"/>
                  </a:lnTo>
                  <a:lnTo>
                    <a:pt x="13" y="41"/>
                  </a:lnTo>
                  <a:lnTo>
                    <a:pt x="20" y="60"/>
                  </a:lnTo>
                  <a:lnTo>
                    <a:pt x="25" y="79"/>
                  </a:lnTo>
                  <a:lnTo>
                    <a:pt x="31" y="98"/>
                  </a:lnTo>
                  <a:lnTo>
                    <a:pt x="36" y="113"/>
                  </a:lnTo>
                  <a:lnTo>
                    <a:pt x="39" y="124"/>
                  </a:lnTo>
                  <a:lnTo>
                    <a:pt x="40" y="130"/>
                  </a:lnTo>
                  <a:lnTo>
                    <a:pt x="41" y="135"/>
                  </a:lnTo>
                  <a:lnTo>
                    <a:pt x="42" y="135"/>
                  </a:lnTo>
                  <a:lnTo>
                    <a:pt x="41" y="133"/>
                  </a:lnTo>
                  <a:lnTo>
                    <a:pt x="41" y="131"/>
                  </a:lnTo>
                  <a:lnTo>
                    <a:pt x="41" y="130"/>
                  </a:lnTo>
                  <a:lnTo>
                    <a:pt x="41" y="131"/>
                  </a:lnTo>
                  <a:lnTo>
                    <a:pt x="42" y="135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7041960" y="2933280"/>
              <a:ext cx="17640" cy="64080"/>
            </a:xfrm>
            <a:custGeom>
              <a:avLst/>
              <a:gdLst/>
              <a:ahLst/>
              <a:rect l="l" t="t" r="r" b="b"/>
              <a:pathLst>
                <a:path w="38" h="129">
                  <a:moveTo>
                    <a:pt x="0" y="0"/>
                  </a:moveTo>
                  <a:lnTo>
                    <a:pt x="3" y="8"/>
                  </a:lnTo>
                  <a:lnTo>
                    <a:pt x="7" y="22"/>
                  </a:lnTo>
                  <a:lnTo>
                    <a:pt x="11" y="40"/>
                  </a:lnTo>
                  <a:lnTo>
                    <a:pt x="17" y="58"/>
                  </a:lnTo>
                  <a:lnTo>
                    <a:pt x="22" y="77"/>
                  </a:lnTo>
                  <a:lnTo>
                    <a:pt x="28" y="95"/>
                  </a:lnTo>
                  <a:lnTo>
                    <a:pt x="32" y="110"/>
                  </a:lnTo>
                  <a:lnTo>
                    <a:pt x="35" y="121"/>
                  </a:lnTo>
                  <a:lnTo>
                    <a:pt x="37" y="127"/>
                  </a:lnTo>
                  <a:lnTo>
                    <a:pt x="38" y="129"/>
                  </a:lnTo>
                  <a:lnTo>
                    <a:pt x="38" y="128"/>
                  </a:lnTo>
                  <a:lnTo>
                    <a:pt x="37" y="126"/>
                  </a:lnTo>
                  <a:lnTo>
                    <a:pt x="37" y="123"/>
                  </a:lnTo>
                  <a:lnTo>
                    <a:pt x="36" y="121"/>
                  </a:lnTo>
                  <a:lnTo>
                    <a:pt x="36" y="122"/>
                  </a:lnTo>
                  <a:lnTo>
                    <a:pt x="36" y="125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7061760" y="2925720"/>
              <a:ext cx="19800" cy="65520"/>
            </a:xfrm>
            <a:custGeom>
              <a:avLst/>
              <a:gdLst/>
              <a:ahLst/>
              <a:rect l="l" t="t" r="r" b="b"/>
              <a:pathLst>
                <a:path w="42" h="131">
                  <a:moveTo>
                    <a:pt x="0" y="0"/>
                  </a:moveTo>
                  <a:lnTo>
                    <a:pt x="3" y="8"/>
                  </a:lnTo>
                  <a:lnTo>
                    <a:pt x="8" y="21"/>
                  </a:lnTo>
                  <a:lnTo>
                    <a:pt x="14" y="37"/>
                  </a:lnTo>
                  <a:lnTo>
                    <a:pt x="19" y="56"/>
                  </a:lnTo>
                  <a:lnTo>
                    <a:pt x="24" y="73"/>
                  </a:lnTo>
                  <a:lnTo>
                    <a:pt x="30" y="90"/>
                  </a:lnTo>
                  <a:lnTo>
                    <a:pt x="34" y="105"/>
                  </a:lnTo>
                  <a:lnTo>
                    <a:pt x="37" y="117"/>
                  </a:lnTo>
                  <a:lnTo>
                    <a:pt x="39" y="124"/>
                  </a:lnTo>
                  <a:lnTo>
                    <a:pt x="41" y="127"/>
                  </a:lnTo>
                  <a:lnTo>
                    <a:pt x="42" y="128"/>
                  </a:lnTo>
                  <a:lnTo>
                    <a:pt x="42" y="127"/>
                  </a:lnTo>
                  <a:lnTo>
                    <a:pt x="42" y="125"/>
                  </a:lnTo>
                  <a:lnTo>
                    <a:pt x="42" y="125"/>
                  </a:lnTo>
                  <a:lnTo>
                    <a:pt x="41" y="126"/>
                  </a:lnTo>
                  <a:lnTo>
                    <a:pt x="41" y="131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7081920" y="2921400"/>
              <a:ext cx="23760" cy="67680"/>
            </a:xfrm>
            <a:custGeom>
              <a:avLst/>
              <a:gdLst/>
              <a:ahLst/>
              <a:rect l="l" t="t" r="r" b="b"/>
              <a:pathLst>
                <a:path w="46" h="136">
                  <a:moveTo>
                    <a:pt x="0" y="0"/>
                  </a:moveTo>
                  <a:lnTo>
                    <a:pt x="3" y="9"/>
                  </a:lnTo>
                  <a:lnTo>
                    <a:pt x="8" y="20"/>
                  </a:lnTo>
                  <a:lnTo>
                    <a:pt x="14" y="36"/>
                  </a:lnTo>
                  <a:lnTo>
                    <a:pt x="19" y="52"/>
                  </a:lnTo>
                  <a:lnTo>
                    <a:pt x="24" y="68"/>
                  </a:lnTo>
                  <a:lnTo>
                    <a:pt x="30" y="84"/>
                  </a:lnTo>
                  <a:lnTo>
                    <a:pt x="34" y="98"/>
                  </a:lnTo>
                  <a:lnTo>
                    <a:pt x="37" y="109"/>
                  </a:lnTo>
                  <a:lnTo>
                    <a:pt x="40" y="117"/>
                  </a:lnTo>
                  <a:lnTo>
                    <a:pt x="42" y="122"/>
                  </a:lnTo>
                  <a:lnTo>
                    <a:pt x="44" y="124"/>
                  </a:lnTo>
                  <a:lnTo>
                    <a:pt x="45" y="124"/>
                  </a:lnTo>
                  <a:lnTo>
                    <a:pt x="45" y="125"/>
                  </a:lnTo>
                  <a:lnTo>
                    <a:pt x="46" y="126"/>
                  </a:lnTo>
                  <a:lnTo>
                    <a:pt x="45" y="130"/>
                  </a:lnTo>
                  <a:lnTo>
                    <a:pt x="43" y="13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7105680" y="2919600"/>
              <a:ext cx="19800" cy="67680"/>
            </a:xfrm>
            <a:custGeom>
              <a:avLst/>
              <a:gdLst/>
              <a:ahLst/>
              <a:rect l="l" t="t" r="r" b="b"/>
              <a:pathLst>
                <a:path w="43" h="137">
                  <a:moveTo>
                    <a:pt x="0" y="0"/>
                  </a:moveTo>
                  <a:lnTo>
                    <a:pt x="3" y="7"/>
                  </a:lnTo>
                  <a:lnTo>
                    <a:pt x="9" y="18"/>
                  </a:lnTo>
                  <a:lnTo>
                    <a:pt x="13" y="31"/>
                  </a:lnTo>
                  <a:lnTo>
                    <a:pt x="18" y="45"/>
                  </a:lnTo>
                  <a:lnTo>
                    <a:pt x="24" y="59"/>
                  </a:lnTo>
                  <a:lnTo>
                    <a:pt x="28" y="73"/>
                  </a:lnTo>
                  <a:lnTo>
                    <a:pt x="31" y="87"/>
                  </a:lnTo>
                  <a:lnTo>
                    <a:pt x="35" y="98"/>
                  </a:lnTo>
                  <a:lnTo>
                    <a:pt x="37" y="105"/>
                  </a:lnTo>
                  <a:lnTo>
                    <a:pt x="38" y="112"/>
                  </a:lnTo>
                  <a:lnTo>
                    <a:pt x="39" y="115"/>
                  </a:lnTo>
                  <a:lnTo>
                    <a:pt x="40" y="118"/>
                  </a:lnTo>
                  <a:lnTo>
                    <a:pt x="41" y="122"/>
                  </a:lnTo>
                  <a:lnTo>
                    <a:pt x="42" y="126"/>
                  </a:lnTo>
                  <a:lnTo>
                    <a:pt x="42" y="130"/>
                  </a:lnTo>
                  <a:lnTo>
                    <a:pt x="43" y="137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7127640" y="2919600"/>
              <a:ext cx="18000" cy="65520"/>
            </a:xfrm>
            <a:custGeom>
              <a:avLst/>
              <a:gdLst/>
              <a:ahLst/>
              <a:rect l="l" t="t" r="r" b="b"/>
              <a:pathLst>
                <a:path w="38" h="131">
                  <a:moveTo>
                    <a:pt x="0" y="0"/>
                  </a:moveTo>
                  <a:lnTo>
                    <a:pt x="4" y="6"/>
                  </a:lnTo>
                  <a:lnTo>
                    <a:pt x="8" y="15"/>
                  </a:lnTo>
                  <a:lnTo>
                    <a:pt x="12" y="25"/>
                  </a:lnTo>
                  <a:lnTo>
                    <a:pt x="17" y="36"/>
                  </a:lnTo>
                  <a:lnTo>
                    <a:pt x="21" y="48"/>
                  </a:lnTo>
                  <a:lnTo>
                    <a:pt x="25" y="60"/>
                  </a:lnTo>
                  <a:lnTo>
                    <a:pt x="28" y="71"/>
                  </a:lnTo>
                  <a:lnTo>
                    <a:pt x="31" y="82"/>
                  </a:lnTo>
                  <a:lnTo>
                    <a:pt x="34" y="90"/>
                  </a:lnTo>
                  <a:lnTo>
                    <a:pt x="35" y="97"/>
                  </a:lnTo>
                  <a:lnTo>
                    <a:pt x="37" y="102"/>
                  </a:lnTo>
                  <a:lnTo>
                    <a:pt x="38" y="106"/>
                  </a:lnTo>
                  <a:lnTo>
                    <a:pt x="38" y="111"/>
                  </a:lnTo>
                  <a:lnTo>
                    <a:pt x="38" y="116"/>
                  </a:lnTo>
                  <a:lnTo>
                    <a:pt x="37" y="123"/>
                  </a:lnTo>
                  <a:lnTo>
                    <a:pt x="35" y="131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7145640" y="2923200"/>
              <a:ext cx="17640" cy="6588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0" y="0"/>
                  </a:moveTo>
                  <a:lnTo>
                    <a:pt x="3" y="7"/>
                  </a:lnTo>
                  <a:lnTo>
                    <a:pt x="8" y="14"/>
                  </a:lnTo>
                  <a:lnTo>
                    <a:pt x="12" y="23"/>
                  </a:lnTo>
                  <a:lnTo>
                    <a:pt x="16" y="33"/>
                  </a:lnTo>
                  <a:lnTo>
                    <a:pt x="21" y="42"/>
                  </a:lnTo>
                  <a:lnTo>
                    <a:pt x="25" y="53"/>
                  </a:lnTo>
                  <a:lnTo>
                    <a:pt x="28" y="64"/>
                  </a:lnTo>
                  <a:lnTo>
                    <a:pt x="30" y="74"/>
                  </a:lnTo>
                  <a:lnTo>
                    <a:pt x="33" y="83"/>
                  </a:lnTo>
                  <a:lnTo>
                    <a:pt x="35" y="90"/>
                  </a:lnTo>
                  <a:lnTo>
                    <a:pt x="35" y="95"/>
                  </a:lnTo>
                  <a:lnTo>
                    <a:pt x="35" y="101"/>
                  </a:lnTo>
                  <a:lnTo>
                    <a:pt x="35" y="106"/>
                  </a:lnTo>
                  <a:lnTo>
                    <a:pt x="34" y="113"/>
                  </a:lnTo>
                  <a:lnTo>
                    <a:pt x="34" y="120"/>
                  </a:lnTo>
                  <a:lnTo>
                    <a:pt x="33" y="131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9" name="" descr=""/>
          <p:cNvPicPr/>
          <p:nvPr/>
        </p:nvPicPr>
        <p:blipFill>
          <a:blip r:embed="rId2"/>
          <a:stretch/>
        </p:blipFill>
        <p:spPr>
          <a:xfrm>
            <a:off x="2760840" y="911160"/>
            <a:ext cx="36223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"/>
          <p:cNvSpPr/>
          <p:nvPr/>
        </p:nvSpPr>
        <p:spPr>
          <a:xfrm>
            <a:off x="324000" y="1989000"/>
            <a:ext cx="46479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WOMEN SHOULD BE HIV TESTED BEFORE GETTING PREGNANT OR BREASTFEE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1" name=""/>
          <p:cNvGrpSpPr/>
          <p:nvPr/>
        </p:nvGrpSpPr>
        <p:grpSpPr>
          <a:xfrm>
            <a:off x="5410080" y="1676520"/>
            <a:ext cx="2362320" cy="3755880"/>
            <a:chOff x="5410080" y="1676520"/>
            <a:chExt cx="2362320" cy="3755880"/>
          </a:xfrm>
        </p:grpSpPr>
        <p:sp>
          <p:nvSpPr>
            <p:cNvPr id="4262" name=""/>
            <p:cNvSpPr/>
            <p:nvPr/>
          </p:nvSpPr>
          <p:spPr>
            <a:xfrm>
              <a:off x="5410080" y="2611440"/>
              <a:ext cx="2032200" cy="2820960"/>
            </a:xfrm>
            <a:custGeom>
              <a:avLst/>
              <a:gdLst/>
              <a:ahLst/>
              <a:rect l="l" t="t" r="r" b="b"/>
              <a:pathLst>
                <a:path w="6400" h="8887">
                  <a:moveTo>
                    <a:pt x="2851" y="0"/>
                  </a:moveTo>
                  <a:lnTo>
                    <a:pt x="2843" y="1"/>
                  </a:lnTo>
                  <a:lnTo>
                    <a:pt x="2821" y="5"/>
                  </a:lnTo>
                  <a:lnTo>
                    <a:pt x="2788" y="13"/>
                  </a:lnTo>
                  <a:lnTo>
                    <a:pt x="2746" y="22"/>
                  </a:lnTo>
                  <a:lnTo>
                    <a:pt x="2698" y="36"/>
                  </a:lnTo>
                  <a:lnTo>
                    <a:pt x="2648" y="53"/>
                  </a:lnTo>
                  <a:lnTo>
                    <a:pt x="2621" y="64"/>
                  </a:lnTo>
                  <a:lnTo>
                    <a:pt x="2595" y="75"/>
                  </a:lnTo>
                  <a:lnTo>
                    <a:pt x="2569" y="88"/>
                  </a:lnTo>
                  <a:lnTo>
                    <a:pt x="2544" y="100"/>
                  </a:lnTo>
                  <a:lnTo>
                    <a:pt x="2521" y="113"/>
                  </a:lnTo>
                  <a:lnTo>
                    <a:pt x="2500" y="126"/>
                  </a:lnTo>
                  <a:lnTo>
                    <a:pt x="2483" y="138"/>
                  </a:lnTo>
                  <a:lnTo>
                    <a:pt x="2467" y="150"/>
                  </a:lnTo>
                  <a:lnTo>
                    <a:pt x="2453" y="163"/>
                  </a:lnTo>
                  <a:lnTo>
                    <a:pt x="2442" y="176"/>
                  </a:lnTo>
                  <a:lnTo>
                    <a:pt x="2433" y="188"/>
                  </a:lnTo>
                  <a:lnTo>
                    <a:pt x="2424" y="202"/>
                  </a:lnTo>
                  <a:lnTo>
                    <a:pt x="2417" y="217"/>
                  </a:lnTo>
                  <a:lnTo>
                    <a:pt x="2410" y="233"/>
                  </a:lnTo>
                  <a:lnTo>
                    <a:pt x="2404" y="249"/>
                  </a:lnTo>
                  <a:lnTo>
                    <a:pt x="2399" y="267"/>
                  </a:lnTo>
                  <a:lnTo>
                    <a:pt x="2389" y="308"/>
                  </a:lnTo>
                  <a:lnTo>
                    <a:pt x="2378" y="356"/>
                  </a:lnTo>
                  <a:lnTo>
                    <a:pt x="2366" y="411"/>
                  </a:lnTo>
                  <a:lnTo>
                    <a:pt x="2353" y="470"/>
                  </a:lnTo>
                  <a:lnTo>
                    <a:pt x="2339" y="530"/>
                  </a:lnTo>
                  <a:lnTo>
                    <a:pt x="2327" y="588"/>
                  </a:lnTo>
                  <a:lnTo>
                    <a:pt x="2316" y="639"/>
                  </a:lnTo>
                  <a:lnTo>
                    <a:pt x="2307" y="680"/>
                  </a:lnTo>
                  <a:lnTo>
                    <a:pt x="2302" y="708"/>
                  </a:lnTo>
                  <a:lnTo>
                    <a:pt x="2300" y="717"/>
                  </a:lnTo>
                  <a:lnTo>
                    <a:pt x="2282" y="722"/>
                  </a:lnTo>
                  <a:lnTo>
                    <a:pt x="2237" y="737"/>
                  </a:lnTo>
                  <a:lnTo>
                    <a:pt x="2167" y="758"/>
                  </a:lnTo>
                  <a:lnTo>
                    <a:pt x="2082" y="784"/>
                  </a:lnTo>
                  <a:lnTo>
                    <a:pt x="1987" y="812"/>
                  </a:lnTo>
                  <a:lnTo>
                    <a:pt x="1891" y="838"/>
                  </a:lnTo>
                  <a:lnTo>
                    <a:pt x="1843" y="850"/>
                  </a:lnTo>
                  <a:lnTo>
                    <a:pt x="1798" y="862"/>
                  </a:lnTo>
                  <a:lnTo>
                    <a:pt x="1755" y="872"/>
                  </a:lnTo>
                  <a:lnTo>
                    <a:pt x="1715" y="880"/>
                  </a:lnTo>
                  <a:lnTo>
                    <a:pt x="1639" y="896"/>
                  </a:lnTo>
                  <a:lnTo>
                    <a:pt x="1557" y="913"/>
                  </a:lnTo>
                  <a:lnTo>
                    <a:pt x="1515" y="923"/>
                  </a:lnTo>
                  <a:lnTo>
                    <a:pt x="1473" y="934"/>
                  </a:lnTo>
                  <a:lnTo>
                    <a:pt x="1431" y="944"/>
                  </a:lnTo>
                  <a:lnTo>
                    <a:pt x="1390" y="956"/>
                  </a:lnTo>
                  <a:lnTo>
                    <a:pt x="1351" y="968"/>
                  </a:lnTo>
                  <a:lnTo>
                    <a:pt x="1314" y="982"/>
                  </a:lnTo>
                  <a:lnTo>
                    <a:pt x="1280" y="997"/>
                  </a:lnTo>
                  <a:lnTo>
                    <a:pt x="1247" y="1013"/>
                  </a:lnTo>
                  <a:lnTo>
                    <a:pt x="1232" y="1021"/>
                  </a:lnTo>
                  <a:lnTo>
                    <a:pt x="1218" y="1030"/>
                  </a:lnTo>
                  <a:lnTo>
                    <a:pt x="1205" y="1038"/>
                  </a:lnTo>
                  <a:lnTo>
                    <a:pt x="1192" y="1048"/>
                  </a:lnTo>
                  <a:lnTo>
                    <a:pt x="1181" y="1058"/>
                  </a:lnTo>
                  <a:lnTo>
                    <a:pt x="1170" y="1068"/>
                  </a:lnTo>
                  <a:lnTo>
                    <a:pt x="1162" y="1078"/>
                  </a:lnTo>
                  <a:lnTo>
                    <a:pt x="1153" y="1089"/>
                  </a:lnTo>
                  <a:lnTo>
                    <a:pt x="1126" y="1129"/>
                  </a:lnTo>
                  <a:lnTo>
                    <a:pt x="1100" y="1163"/>
                  </a:lnTo>
                  <a:lnTo>
                    <a:pt x="1088" y="1177"/>
                  </a:lnTo>
                  <a:lnTo>
                    <a:pt x="1077" y="1190"/>
                  </a:lnTo>
                  <a:lnTo>
                    <a:pt x="1066" y="1202"/>
                  </a:lnTo>
                  <a:lnTo>
                    <a:pt x="1055" y="1212"/>
                  </a:lnTo>
                  <a:lnTo>
                    <a:pt x="1042" y="1222"/>
                  </a:lnTo>
                  <a:lnTo>
                    <a:pt x="1031" y="1230"/>
                  </a:lnTo>
                  <a:lnTo>
                    <a:pt x="1020" y="1238"/>
                  </a:lnTo>
                  <a:lnTo>
                    <a:pt x="1008" y="1246"/>
                  </a:lnTo>
                  <a:lnTo>
                    <a:pt x="983" y="1260"/>
                  </a:lnTo>
                  <a:lnTo>
                    <a:pt x="955" y="1273"/>
                  </a:lnTo>
                  <a:lnTo>
                    <a:pt x="940" y="1282"/>
                  </a:lnTo>
                  <a:lnTo>
                    <a:pt x="927" y="1293"/>
                  </a:lnTo>
                  <a:lnTo>
                    <a:pt x="914" y="1305"/>
                  </a:lnTo>
                  <a:lnTo>
                    <a:pt x="902" y="1320"/>
                  </a:lnTo>
                  <a:lnTo>
                    <a:pt x="890" y="1335"/>
                  </a:lnTo>
                  <a:lnTo>
                    <a:pt x="880" y="1352"/>
                  </a:lnTo>
                  <a:lnTo>
                    <a:pt x="870" y="1369"/>
                  </a:lnTo>
                  <a:lnTo>
                    <a:pt x="861" y="1386"/>
                  </a:lnTo>
                  <a:lnTo>
                    <a:pt x="854" y="1405"/>
                  </a:lnTo>
                  <a:lnTo>
                    <a:pt x="848" y="1422"/>
                  </a:lnTo>
                  <a:lnTo>
                    <a:pt x="843" y="1441"/>
                  </a:lnTo>
                  <a:lnTo>
                    <a:pt x="839" y="1457"/>
                  </a:lnTo>
                  <a:lnTo>
                    <a:pt x="837" y="1473"/>
                  </a:lnTo>
                  <a:lnTo>
                    <a:pt x="836" y="1486"/>
                  </a:lnTo>
                  <a:lnTo>
                    <a:pt x="837" y="1500"/>
                  </a:lnTo>
                  <a:lnTo>
                    <a:pt x="838" y="1511"/>
                  </a:lnTo>
                  <a:lnTo>
                    <a:pt x="829" y="1513"/>
                  </a:lnTo>
                  <a:lnTo>
                    <a:pt x="806" y="1522"/>
                  </a:lnTo>
                  <a:lnTo>
                    <a:pt x="772" y="1535"/>
                  </a:lnTo>
                  <a:lnTo>
                    <a:pt x="731" y="1553"/>
                  </a:lnTo>
                  <a:lnTo>
                    <a:pt x="709" y="1562"/>
                  </a:lnTo>
                  <a:lnTo>
                    <a:pt x="687" y="1573"/>
                  </a:lnTo>
                  <a:lnTo>
                    <a:pt x="665" y="1586"/>
                  </a:lnTo>
                  <a:lnTo>
                    <a:pt x="644" y="1598"/>
                  </a:lnTo>
                  <a:lnTo>
                    <a:pt x="623" y="1612"/>
                  </a:lnTo>
                  <a:lnTo>
                    <a:pt x="604" y="1625"/>
                  </a:lnTo>
                  <a:lnTo>
                    <a:pt x="588" y="1640"/>
                  </a:lnTo>
                  <a:lnTo>
                    <a:pt x="575" y="1655"/>
                  </a:lnTo>
                  <a:lnTo>
                    <a:pt x="564" y="1669"/>
                  </a:lnTo>
                  <a:lnTo>
                    <a:pt x="554" y="1685"/>
                  </a:lnTo>
                  <a:lnTo>
                    <a:pt x="547" y="1703"/>
                  </a:lnTo>
                  <a:lnTo>
                    <a:pt x="542" y="1720"/>
                  </a:lnTo>
                  <a:lnTo>
                    <a:pt x="537" y="1737"/>
                  </a:lnTo>
                  <a:lnTo>
                    <a:pt x="534" y="1755"/>
                  </a:lnTo>
                  <a:lnTo>
                    <a:pt x="532" y="1771"/>
                  </a:lnTo>
                  <a:lnTo>
                    <a:pt x="532" y="1789"/>
                  </a:lnTo>
                  <a:lnTo>
                    <a:pt x="532" y="1818"/>
                  </a:lnTo>
                  <a:lnTo>
                    <a:pt x="533" y="1842"/>
                  </a:lnTo>
                  <a:lnTo>
                    <a:pt x="535" y="1858"/>
                  </a:lnTo>
                  <a:lnTo>
                    <a:pt x="537" y="1864"/>
                  </a:lnTo>
                  <a:lnTo>
                    <a:pt x="519" y="1877"/>
                  </a:lnTo>
                  <a:lnTo>
                    <a:pt x="474" y="1914"/>
                  </a:lnTo>
                  <a:lnTo>
                    <a:pt x="442" y="1940"/>
                  </a:lnTo>
                  <a:lnTo>
                    <a:pt x="406" y="1971"/>
                  </a:lnTo>
                  <a:lnTo>
                    <a:pt x="367" y="2005"/>
                  </a:lnTo>
                  <a:lnTo>
                    <a:pt x="326" y="2043"/>
                  </a:lnTo>
                  <a:lnTo>
                    <a:pt x="284" y="2084"/>
                  </a:lnTo>
                  <a:lnTo>
                    <a:pt x="241" y="2127"/>
                  </a:lnTo>
                  <a:lnTo>
                    <a:pt x="200" y="2171"/>
                  </a:lnTo>
                  <a:lnTo>
                    <a:pt x="159" y="2217"/>
                  </a:lnTo>
                  <a:lnTo>
                    <a:pt x="141" y="2240"/>
                  </a:lnTo>
                  <a:lnTo>
                    <a:pt x="122" y="2263"/>
                  </a:lnTo>
                  <a:lnTo>
                    <a:pt x="105" y="2287"/>
                  </a:lnTo>
                  <a:lnTo>
                    <a:pt x="89" y="2310"/>
                  </a:lnTo>
                  <a:lnTo>
                    <a:pt x="74" y="2334"/>
                  </a:lnTo>
                  <a:lnTo>
                    <a:pt x="59" y="2356"/>
                  </a:lnTo>
                  <a:lnTo>
                    <a:pt x="47" y="2379"/>
                  </a:lnTo>
                  <a:lnTo>
                    <a:pt x="37" y="2401"/>
                  </a:lnTo>
                  <a:lnTo>
                    <a:pt x="27" y="2423"/>
                  </a:lnTo>
                  <a:lnTo>
                    <a:pt x="20" y="2444"/>
                  </a:lnTo>
                  <a:lnTo>
                    <a:pt x="14" y="2466"/>
                  </a:lnTo>
                  <a:lnTo>
                    <a:pt x="9" y="2487"/>
                  </a:lnTo>
                  <a:lnTo>
                    <a:pt x="5" y="2508"/>
                  </a:lnTo>
                  <a:lnTo>
                    <a:pt x="3" y="2529"/>
                  </a:lnTo>
                  <a:lnTo>
                    <a:pt x="2" y="2550"/>
                  </a:lnTo>
                  <a:lnTo>
                    <a:pt x="0" y="2570"/>
                  </a:lnTo>
                  <a:lnTo>
                    <a:pt x="2" y="2591"/>
                  </a:lnTo>
                  <a:lnTo>
                    <a:pt x="3" y="2610"/>
                  </a:lnTo>
                  <a:lnTo>
                    <a:pt x="5" y="2629"/>
                  </a:lnTo>
                  <a:lnTo>
                    <a:pt x="8" y="2648"/>
                  </a:lnTo>
                  <a:lnTo>
                    <a:pt x="11" y="2667"/>
                  </a:lnTo>
                  <a:lnTo>
                    <a:pt x="16" y="2684"/>
                  </a:lnTo>
                  <a:lnTo>
                    <a:pt x="21" y="2703"/>
                  </a:lnTo>
                  <a:lnTo>
                    <a:pt x="26" y="2720"/>
                  </a:lnTo>
                  <a:lnTo>
                    <a:pt x="40" y="2753"/>
                  </a:lnTo>
                  <a:lnTo>
                    <a:pt x="53" y="2783"/>
                  </a:lnTo>
                  <a:lnTo>
                    <a:pt x="68" y="2812"/>
                  </a:lnTo>
                  <a:lnTo>
                    <a:pt x="84" y="2838"/>
                  </a:lnTo>
                  <a:lnTo>
                    <a:pt x="100" y="2860"/>
                  </a:lnTo>
                  <a:lnTo>
                    <a:pt x="115" y="2881"/>
                  </a:lnTo>
                  <a:lnTo>
                    <a:pt x="129" y="2898"/>
                  </a:lnTo>
                  <a:lnTo>
                    <a:pt x="143" y="2912"/>
                  </a:lnTo>
                  <a:lnTo>
                    <a:pt x="144" y="2906"/>
                  </a:lnTo>
                  <a:lnTo>
                    <a:pt x="147" y="2890"/>
                  </a:lnTo>
                  <a:lnTo>
                    <a:pt x="150" y="2864"/>
                  </a:lnTo>
                  <a:lnTo>
                    <a:pt x="154" y="2832"/>
                  </a:lnTo>
                  <a:lnTo>
                    <a:pt x="157" y="2796"/>
                  </a:lnTo>
                  <a:lnTo>
                    <a:pt x="159" y="2755"/>
                  </a:lnTo>
                  <a:lnTo>
                    <a:pt x="159" y="2736"/>
                  </a:lnTo>
                  <a:lnTo>
                    <a:pt x="159" y="2715"/>
                  </a:lnTo>
                  <a:lnTo>
                    <a:pt x="158" y="2695"/>
                  </a:lnTo>
                  <a:lnTo>
                    <a:pt x="157" y="2676"/>
                  </a:lnTo>
                  <a:lnTo>
                    <a:pt x="154" y="2656"/>
                  </a:lnTo>
                  <a:lnTo>
                    <a:pt x="153" y="2635"/>
                  </a:lnTo>
                  <a:lnTo>
                    <a:pt x="153" y="2614"/>
                  </a:lnTo>
                  <a:lnTo>
                    <a:pt x="154" y="2592"/>
                  </a:lnTo>
                  <a:lnTo>
                    <a:pt x="158" y="2568"/>
                  </a:lnTo>
                  <a:lnTo>
                    <a:pt x="161" y="2545"/>
                  </a:lnTo>
                  <a:lnTo>
                    <a:pt x="168" y="2522"/>
                  </a:lnTo>
                  <a:lnTo>
                    <a:pt x="176" y="2498"/>
                  </a:lnTo>
                  <a:lnTo>
                    <a:pt x="186" y="2475"/>
                  </a:lnTo>
                  <a:lnTo>
                    <a:pt x="198" y="2450"/>
                  </a:lnTo>
                  <a:lnTo>
                    <a:pt x="213" y="2427"/>
                  </a:lnTo>
                  <a:lnTo>
                    <a:pt x="230" y="2402"/>
                  </a:lnTo>
                  <a:lnTo>
                    <a:pt x="250" y="2379"/>
                  </a:lnTo>
                  <a:lnTo>
                    <a:pt x="272" y="2357"/>
                  </a:lnTo>
                  <a:lnTo>
                    <a:pt x="297" y="2334"/>
                  </a:lnTo>
                  <a:lnTo>
                    <a:pt x="325" y="2311"/>
                  </a:lnTo>
                  <a:lnTo>
                    <a:pt x="384" y="2263"/>
                  </a:lnTo>
                  <a:lnTo>
                    <a:pt x="446" y="2214"/>
                  </a:lnTo>
                  <a:lnTo>
                    <a:pt x="479" y="2190"/>
                  </a:lnTo>
                  <a:lnTo>
                    <a:pt x="513" y="2168"/>
                  </a:lnTo>
                  <a:lnTo>
                    <a:pt x="532" y="2156"/>
                  </a:lnTo>
                  <a:lnTo>
                    <a:pt x="550" y="2147"/>
                  </a:lnTo>
                  <a:lnTo>
                    <a:pt x="570" y="2138"/>
                  </a:lnTo>
                  <a:lnTo>
                    <a:pt x="590" y="2128"/>
                  </a:lnTo>
                  <a:lnTo>
                    <a:pt x="610" y="2121"/>
                  </a:lnTo>
                  <a:lnTo>
                    <a:pt x="633" y="2113"/>
                  </a:lnTo>
                  <a:lnTo>
                    <a:pt x="656" y="2108"/>
                  </a:lnTo>
                  <a:lnTo>
                    <a:pt x="679" y="2104"/>
                  </a:lnTo>
                  <a:lnTo>
                    <a:pt x="704" y="2099"/>
                  </a:lnTo>
                  <a:lnTo>
                    <a:pt x="731" y="2096"/>
                  </a:lnTo>
                  <a:lnTo>
                    <a:pt x="758" y="2095"/>
                  </a:lnTo>
                  <a:lnTo>
                    <a:pt x="786" y="2095"/>
                  </a:lnTo>
                  <a:lnTo>
                    <a:pt x="815" y="2096"/>
                  </a:lnTo>
                  <a:lnTo>
                    <a:pt x="847" y="2100"/>
                  </a:lnTo>
                  <a:lnTo>
                    <a:pt x="879" y="2105"/>
                  </a:lnTo>
                  <a:lnTo>
                    <a:pt x="912" y="2111"/>
                  </a:lnTo>
                  <a:lnTo>
                    <a:pt x="946" y="2118"/>
                  </a:lnTo>
                  <a:lnTo>
                    <a:pt x="983" y="2128"/>
                  </a:lnTo>
                  <a:lnTo>
                    <a:pt x="1021" y="2140"/>
                  </a:lnTo>
                  <a:lnTo>
                    <a:pt x="1061" y="2154"/>
                  </a:lnTo>
                  <a:lnTo>
                    <a:pt x="1100" y="2171"/>
                  </a:lnTo>
                  <a:lnTo>
                    <a:pt x="1136" y="2192"/>
                  </a:lnTo>
                  <a:lnTo>
                    <a:pt x="1170" y="2217"/>
                  </a:lnTo>
                  <a:lnTo>
                    <a:pt x="1201" y="2244"/>
                  </a:lnTo>
                  <a:lnTo>
                    <a:pt x="1229" y="2275"/>
                  </a:lnTo>
                  <a:lnTo>
                    <a:pt x="1255" y="2309"/>
                  </a:lnTo>
                  <a:lnTo>
                    <a:pt x="1279" y="2345"/>
                  </a:lnTo>
                  <a:lnTo>
                    <a:pt x="1301" y="2384"/>
                  </a:lnTo>
                  <a:lnTo>
                    <a:pt x="1320" y="2425"/>
                  </a:lnTo>
                  <a:lnTo>
                    <a:pt x="1338" y="2466"/>
                  </a:lnTo>
                  <a:lnTo>
                    <a:pt x="1354" y="2509"/>
                  </a:lnTo>
                  <a:lnTo>
                    <a:pt x="1367" y="2554"/>
                  </a:lnTo>
                  <a:lnTo>
                    <a:pt x="1379" y="2599"/>
                  </a:lnTo>
                  <a:lnTo>
                    <a:pt x="1389" y="2645"/>
                  </a:lnTo>
                  <a:lnTo>
                    <a:pt x="1399" y="2690"/>
                  </a:lnTo>
                  <a:lnTo>
                    <a:pt x="1406" y="2736"/>
                  </a:lnTo>
                  <a:lnTo>
                    <a:pt x="1413" y="2781"/>
                  </a:lnTo>
                  <a:lnTo>
                    <a:pt x="1418" y="2826"/>
                  </a:lnTo>
                  <a:lnTo>
                    <a:pt x="1422" y="2869"/>
                  </a:lnTo>
                  <a:lnTo>
                    <a:pt x="1426" y="2910"/>
                  </a:lnTo>
                  <a:lnTo>
                    <a:pt x="1430" y="2989"/>
                  </a:lnTo>
                  <a:lnTo>
                    <a:pt x="1431" y="3058"/>
                  </a:lnTo>
                  <a:lnTo>
                    <a:pt x="1430" y="3161"/>
                  </a:lnTo>
                  <a:lnTo>
                    <a:pt x="1427" y="3199"/>
                  </a:lnTo>
                  <a:lnTo>
                    <a:pt x="1426" y="3279"/>
                  </a:lnTo>
                  <a:lnTo>
                    <a:pt x="1422" y="3492"/>
                  </a:lnTo>
                  <a:lnTo>
                    <a:pt x="1418" y="3802"/>
                  </a:lnTo>
                  <a:lnTo>
                    <a:pt x="1411" y="4171"/>
                  </a:lnTo>
                  <a:lnTo>
                    <a:pt x="1408" y="4565"/>
                  </a:lnTo>
                  <a:lnTo>
                    <a:pt x="1406" y="4942"/>
                  </a:lnTo>
                  <a:lnTo>
                    <a:pt x="1406" y="5115"/>
                  </a:lnTo>
                  <a:lnTo>
                    <a:pt x="1408" y="5270"/>
                  </a:lnTo>
                  <a:lnTo>
                    <a:pt x="1410" y="5402"/>
                  </a:lnTo>
                  <a:lnTo>
                    <a:pt x="1414" y="5508"/>
                  </a:lnTo>
                  <a:lnTo>
                    <a:pt x="1424" y="5666"/>
                  </a:lnTo>
                  <a:lnTo>
                    <a:pt x="1434" y="5780"/>
                  </a:lnTo>
                  <a:lnTo>
                    <a:pt x="1442" y="5867"/>
                  </a:lnTo>
                  <a:lnTo>
                    <a:pt x="1448" y="5940"/>
                  </a:lnTo>
                  <a:lnTo>
                    <a:pt x="1451" y="5976"/>
                  </a:lnTo>
                  <a:lnTo>
                    <a:pt x="1452" y="6012"/>
                  </a:lnTo>
                  <a:lnTo>
                    <a:pt x="1452" y="6052"/>
                  </a:lnTo>
                  <a:lnTo>
                    <a:pt x="1452" y="6097"/>
                  </a:lnTo>
                  <a:lnTo>
                    <a:pt x="1451" y="6149"/>
                  </a:lnTo>
                  <a:lnTo>
                    <a:pt x="1450" y="6209"/>
                  </a:lnTo>
                  <a:lnTo>
                    <a:pt x="1446" y="6279"/>
                  </a:lnTo>
                  <a:lnTo>
                    <a:pt x="1441" y="6362"/>
                  </a:lnTo>
                  <a:lnTo>
                    <a:pt x="1426" y="6584"/>
                  </a:lnTo>
                  <a:lnTo>
                    <a:pt x="1405" y="6878"/>
                  </a:lnTo>
                  <a:lnTo>
                    <a:pt x="1394" y="7043"/>
                  </a:lnTo>
                  <a:lnTo>
                    <a:pt x="1382" y="7215"/>
                  </a:lnTo>
                  <a:lnTo>
                    <a:pt x="1371" y="7390"/>
                  </a:lnTo>
                  <a:lnTo>
                    <a:pt x="1362" y="7566"/>
                  </a:lnTo>
                  <a:lnTo>
                    <a:pt x="1355" y="7736"/>
                  </a:lnTo>
                  <a:lnTo>
                    <a:pt x="1349" y="7899"/>
                  </a:lnTo>
                  <a:lnTo>
                    <a:pt x="1347" y="7977"/>
                  </a:lnTo>
                  <a:lnTo>
                    <a:pt x="1346" y="8052"/>
                  </a:lnTo>
                  <a:lnTo>
                    <a:pt x="1347" y="8122"/>
                  </a:lnTo>
                  <a:lnTo>
                    <a:pt x="1349" y="8188"/>
                  </a:lnTo>
                  <a:lnTo>
                    <a:pt x="1350" y="8250"/>
                  </a:lnTo>
                  <a:lnTo>
                    <a:pt x="1354" y="8306"/>
                  </a:lnTo>
                  <a:lnTo>
                    <a:pt x="1358" y="8357"/>
                  </a:lnTo>
                  <a:lnTo>
                    <a:pt x="1363" y="8402"/>
                  </a:lnTo>
                  <a:lnTo>
                    <a:pt x="1371" y="8441"/>
                  </a:lnTo>
                  <a:lnTo>
                    <a:pt x="1379" y="8472"/>
                  </a:lnTo>
                  <a:lnTo>
                    <a:pt x="1389" y="8496"/>
                  </a:lnTo>
                  <a:lnTo>
                    <a:pt x="1400" y="8513"/>
                  </a:lnTo>
                  <a:lnTo>
                    <a:pt x="1404" y="8522"/>
                  </a:lnTo>
                  <a:lnTo>
                    <a:pt x="1414" y="8546"/>
                  </a:lnTo>
                  <a:lnTo>
                    <a:pt x="1422" y="8564"/>
                  </a:lnTo>
                  <a:lnTo>
                    <a:pt x="1434" y="8583"/>
                  </a:lnTo>
                  <a:lnTo>
                    <a:pt x="1447" y="8604"/>
                  </a:lnTo>
                  <a:lnTo>
                    <a:pt x="1464" y="8627"/>
                  </a:lnTo>
                  <a:lnTo>
                    <a:pt x="1484" y="8651"/>
                  </a:lnTo>
                  <a:lnTo>
                    <a:pt x="1509" y="8675"/>
                  </a:lnTo>
                  <a:lnTo>
                    <a:pt x="1521" y="8687"/>
                  </a:lnTo>
                  <a:lnTo>
                    <a:pt x="1536" y="8699"/>
                  </a:lnTo>
                  <a:lnTo>
                    <a:pt x="1552" y="8711"/>
                  </a:lnTo>
                  <a:lnTo>
                    <a:pt x="1568" y="8722"/>
                  </a:lnTo>
                  <a:lnTo>
                    <a:pt x="1586" y="8733"/>
                  </a:lnTo>
                  <a:lnTo>
                    <a:pt x="1605" y="8744"/>
                  </a:lnTo>
                  <a:lnTo>
                    <a:pt x="1624" y="8755"/>
                  </a:lnTo>
                  <a:lnTo>
                    <a:pt x="1645" y="8765"/>
                  </a:lnTo>
                  <a:lnTo>
                    <a:pt x="1669" y="8775"/>
                  </a:lnTo>
                  <a:lnTo>
                    <a:pt x="1692" y="8785"/>
                  </a:lnTo>
                  <a:lnTo>
                    <a:pt x="1717" y="8794"/>
                  </a:lnTo>
                  <a:lnTo>
                    <a:pt x="1742" y="8801"/>
                  </a:lnTo>
                  <a:lnTo>
                    <a:pt x="1772" y="8807"/>
                  </a:lnTo>
                  <a:lnTo>
                    <a:pt x="1806" y="8813"/>
                  </a:lnTo>
                  <a:lnTo>
                    <a:pt x="1843" y="8818"/>
                  </a:lnTo>
                  <a:lnTo>
                    <a:pt x="1885" y="8822"/>
                  </a:lnTo>
                  <a:lnTo>
                    <a:pt x="1929" y="8826"/>
                  </a:lnTo>
                  <a:lnTo>
                    <a:pt x="1977" y="8828"/>
                  </a:lnTo>
                  <a:lnTo>
                    <a:pt x="2029" y="8830"/>
                  </a:lnTo>
                  <a:lnTo>
                    <a:pt x="2082" y="8832"/>
                  </a:lnTo>
                  <a:lnTo>
                    <a:pt x="2196" y="8833"/>
                  </a:lnTo>
                  <a:lnTo>
                    <a:pt x="2317" y="8832"/>
                  </a:lnTo>
                  <a:lnTo>
                    <a:pt x="2441" y="8830"/>
                  </a:lnTo>
                  <a:lnTo>
                    <a:pt x="2569" y="8828"/>
                  </a:lnTo>
                  <a:lnTo>
                    <a:pt x="2697" y="8826"/>
                  </a:lnTo>
                  <a:lnTo>
                    <a:pt x="2823" y="8824"/>
                  </a:lnTo>
                  <a:lnTo>
                    <a:pt x="2943" y="8823"/>
                  </a:lnTo>
                  <a:lnTo>
                    <a:pt x="3056" y="8824"/>
                  </a:lnTo>
                  <a:lnTo>
                    <a:pt x="3110" y="8826"/>
                  </a:lnTo>
                  <a:lnTo>
                    <a:pt x="3162" y="8828"/>
                  </a:lnTo>
                  <a:lnTo>
                    <a:pt x="3210" y="8830"/>
                  </a:lnTo>
                  <a:lnTo>
                    <a:pt x="3254" y="8833"/>
                  </a:lnTo>
                  <a:lnTo>
                    <a:pt x="3296" y="8838"/>
                  </a:lnTo>
                  <a:lnTo>
                    <a:pt x="3334" y="8843"/>
                  </a:lnTo>
                  <a:lnTo>
                    <a:pt x="3368" y="8848"/>
                  </a:lnTo>
                  <a:lnTo>
                    <a:pt x="3397" y="8855"/>
                  </a:lnTo>
                  <a:lnTo>
                    <a:pt x="3427" y="8862"/>
                  </a:lnTo>
                  <a:lnTo>
                    <a:pt x="3457" y="8869"/>
                  </a:lnTo>
                  <a:lnTo>
                    <a:pt x="3492" y="8873"/>
                  </a:lnTo>
                  <a:lnTo>
                    <a:pt x="3529" y="8877"/>
                  </a:lnTo>
                  <a:lnTo>
                    <a:pt x="3568" y="8881"/>
                  </a:lnTo>
                  <a:lnTo>
                    <a:pt x="3610" y="8883"/>
                  </a:lnTo>
                  <a:lnTo>
                    <a:pt x="3653" y="8886"/>
                  </a:lnTo>
                  <a:lnTo>
                    <a:pt x="3697" y="8887"/>
                  </a:lnTo>
                  <a:lnTo>
                    <a:pt x="3744" y="8887"/>
                  </a:lnTo>
                  <a:lnTo>
                    <a:pt x="3792" y="8887"/>
                  </a:lnTo>
                  <a:lnTo>
                    <a:pt x="3840" y="8887"/>
                  </a:lnTo>
                  <a:lnTo>
                    <a:pt x="3889" y="8886"/>
                  </a:lnTo>
                  <a:lnTo>
                    <a:pt x="3990" y="8881"/>
                  </a:lnTo>
                  <a:lnTo>
                    <a:pt x="4091" y="8875"/>
                  </a:lnTo>
                  <a:lnTo>
                    <a:pt x="4191" y="8866"/>
                  </a:lnTo>
                  <a:lnTo>
                    <a:pt x="4288" y="8856"/>
                  </a:lnTo>
                  <a:lnTo>
                    <a:pt x="4379" y="8845"/>
                  </a:lnTo>
                  <a:lnTo>
                    <a:pt x="4465" y="8833"/>
                  </a:lnTo>
                  <a:lnTo>
                    <a:pt x="4504" y="8827"/>
                  </a:lnTo>
                  <a:lnTo>
                    <a:pt x="4542" y="8819"/>
                  </a:lnTo>
                  <a:lnTo>
                    <a:pt x="4577" y="8812"/>
                  </a:lnTo>
                  <a:lnTo>
                    <a:pt x="4610" y="8806"/>
                  </a:lnTo>
                  <a:lnTo>
                    <a:pt x="4638" y="8798"/>
                  </a:lnTo>
                  <a:lnTo>
                    <a:pt x="4665" y="8791"/>
                  </a:lnTo>
                  <a:lnTo>
                    <a:pt x="4688" y="8784"/>
                  </a:lnTo>
                  <a:lnTo>
                    <a:pt x="4707" y="8776"/>
                  </a:lnTo>
                  <a:lnTo>
                    <a:pt x="4744" y="8762"/>
                  </a:lnTo>
                  <a:lnTo>
                    <a:pt x="4788" y="8748"/>
                  </a:lnTo>
                  <a:lnTo>
                    <a:pt x="4838" y="8733"/>
                  </a:lnTo>
                  <a:lnTo>
                    <a:pt x="4891" y="8720"/>
                  </a:lnTo>
                  <a:lnTo>
                    <a:pt x="5003" y="8691"/>
                  </a:lnTo>
                  <a:lnTo>
                    <a:pt x="5116" y="8661"/>
                  </a:lnTo>
                  <a:lnTo>
                    <a:pt x="5170" y="8643"/>
                  </a:lnTo>
                  <a:lnTo>
                    <a:pt x="5222" y="8626"/>
                  </a:lnTo>
                  <a:lnTo>
                    <a:pt x="5245" y="8616"/>
                  </a:lnTo>
                  <a:lnTo>
                    <a:pt x="5267" y="8607"/>
                  </a:lnTo>
                  <a:lnTo>
                    <a:pt x="5288" y="8597"/>
                  </a:lnTo>
                  <a:lnTo>
                    <a:pt x="5308" y="8587"/>
                  </a:lnTo>
                  <a:lnTo>
                    <a:pt x="5326" y="8576"/>
                  </a:lnTo>
                  <a:lnTo>
                    <a:pt x="5342" y="8565"/>
                  </a:lnTo>
                  <a:lnTo>
                    <a:pt x="5356" y="8552"/>
                  </a:lnTo>
                  <a:lnTo>
                    <a:pt x="5367" y="8540"/>
                  </a:lnTo>
                  <a:lnTo>
                    <a:pt x="5377" y="8528"/>
                  </a:lnTo>
                  <a:lnTo>
                    <a:pt x="5383" y="8514"/>
                  </a:lnTo>
                  <a:lnTo>
                    <a:pt x="5388" y="8500"/>
                  </a:lnTo>
                  <a:lnTo>
                    <a:pt x="5389" y="8486"/>
                  </a:lnTo>
                  <a:lnTo>
                    <a:pt x="5391" y="8351"/>
                  </a:lnTo>
                  <a:lnTo>
                    <a:pt x="5399" y="8089"/>
                  </a:lnTo>
                  <a:lnTo>
                    <a:pt x="5410" y="7734"/>
                  </a:lnTo>
                  <a:lnTo>
                    <a:pt x="5422" y="7325"/>
                  </a:lnTo>
                  <a:lnTo>
                    <a:pt x="5433" y="6896"/>
                  </a:lnTo>
                  <a:lnTo>
                    <a:pt x="5444" y="6484"/>
                  </a:lnTo>
                  <a:lnTo>
                    <a:pt x="5448" y="6294"/>
                  </a:lnTo>
                  <a:lnTo>
                    <a:pt x="5452" y="6123"/>
                  </a:lnTo>
                  <a:lnTo>
                    <a:pt x="5453" y="5973"/>
                  </a:lnTo>
                  <a:lnTo>
                    <a:pt x="5454" y="5851"/>
                  </a:lnTo>
                  <a:lnTo>
                    <a:pt x="5455" y="5743"/>
                  </a:lnTo>
                  <a:lnTo>
                    <a:pt x="5457" y="5639"/>
                  </a:lnTo>
                  <a:lnTo>
                    <a:pt x="5459" y="5538"/>
                  </a:lnTo>
                  <a:lnTo>
                    <a:pt x="5464" y="5438"/>
                  </a:lnTo>
                  <a:lnTo>
                    <a:pt x="5469" y="5342"/>
                  </a:lnTo>
                  <a:lnTo>
                    <a:pt x="5475" y="5250"/>
                  </a:lnTo>
                  <a:lnTo>
                    <a:pt x="5482" y="5161"/>
                  </a:lnTo>
                  <a:lnTo>
                    <a:pt x="5490" y="5075"/>
                  </a:lnTo>
                  <a:lnTo>
                    <a:pt x="5498" y="4994"/>
                  </a:lnTo>
                  <a:lnTo>
                    <a:pt x="5508" y="4917"/>
                  </a:lnTo>
                  <a:lnTo>
                    <a:pt x="5519" y="4842"/>
                  </a:lnTo>
                  <a:lnTo>
                    <a:pt x="5530" y="4773"/>
                  </a:lnTo>
                  <a:lnTo>
                    <a:pt x="5544" y="4707"/>
                  </a:lnTo>
                  <a:lnTo>
                    <a:pt x="5556" y="4646"/>
                  </a:lnTo>
                  <a:lnTo>
                    <a:pt x="5570" y="4591"/>
                  </a:lnTo>
                  <a:lnTo>
                    <a:pt x="5584" y="4539"/>
                  </a:lnTo>
                  <a:lnTo>
                    <a:pt x="5616" y="4439"/>
                  </a:lnTo>
                  <a:lnTo>
                    <a:pt x="5650" y="4338"/>
                  </a:lnTo>
                  <a:lnTo>
                    <a:pt x="5667" y="4288"/>
                  </a:lnTo>
                  <a:lnTo>
                    <a:pt x="5683" y="4239"/>
                  </a:lnTo>
                  <a:lnTo>
                    <a:pt x="5698" y="4190"/>
                  </a:lnTo>
                  <a:lnTo>
                    <a:pt x="5712" y="4142"/>
                  </a:lnTo>
                  <a:lnTo>
                    <a:pt x="5725" y="4094"/>
                  </a:lnTo>
                  <a:lnTo>
                    <a:pt x="5736" y="4047"/>
                  </a:lnTo>
                  <a:lnTo>
                    <a:pt x="5744" y="4003"/>
                  </a:lnTo>
                  <a:lnTo>
                    <a:pt x="5751" y="3958"/>
                  </a:lnTo>
                  <a:lnTo>
                    <a:pt x="5752" y="3937"/>
                  </a:lnTo>
                  <a:lnTo>
                    <a:pt x="5753" y="3917"/>
                  </a:lnTo>
                  <a:lnTo>
                    <a:pt x="5754" y="3897"/>
                  </a:lnTo>
                  <a:lnTo>
                    <a:pt x="5753" y="3876"/>
                  </a:lnTo>
                  <a:lnTo>
                    <a:pt x="5752" y="3858"/>
                  </a:lnTo>
                  <a:lnTo>
                    <a:pt x="5749" y="3839"/>
                  </a:lnTo>
                  <a:lnTo>
                    <a:pt x="5747" y="3821"/>
                  </a:lnTo>
                  <a:lnTo>
                    <a:pt x="5742" y="3802"/>
                  </a:lnTo>
                  <a:lnTo>
                    <a:pt x="5747" y="3818"/>
                  </a:lnTo>
                  <a:lnTo>
                    <a:pt x="5760" y="3859"/>
                  </a:lnTo>
                  <a:lnTo>
                    <a:pt x="5770" y="3886"/>
                  </a:lnTo>
                  <a:lnTo>
                    <a:pt x="5781" y="3914"/>
                  </a:lnTo>
                  <a:lnTo>
                    <a:pt x="5794" y="3945"/>
                  </a:lnTo>
                  <a:lnTo>
                    <a:pt x="5808" y="3976"/>
                  </a:lnTo>
                  <a:lnTo>
                    <a:pt x="5823" y="4006"/>
                  </a:lnTo>
                  <a:lnTo>
                    <a:pt x="5840" y="4035"/>
                  </a:lnTo>
                  <a:lnTo>
                    <a:pt x="5848" y="4047"/>
                  </a:lnTo>
                  <a:lnTo>
                    <a:pt x="5858" y="4059"/>
                  </a:lnTo>
                  <a:lnTo>
                    <a:pt x="5866" y="4069"/>
                  </a:lnTo>
                  <a:lnTo>
                    <a:pt x="5875" y="4079"/>
                  </a:lnTo>
                  <a:lnTo>
                    <a:pt x="5885" y="4086"/>
                  </a:lnTo>
                  <a:lnTo>
                    <a:pt x="5893" y="4094"/>
                  </a:lnTo>
                  <a:lnTo>
                    <a:pt x="5903" y="4099"/>
                  </a:lnTo>
                  <a:lnTo>
                    <a:pt x="5913" y="4101"/>
                  </a:lnTo>
                  <a:lnTo>
                    <a:pt x="5923" y="4102"/>
                  </a:lnTo>
                  <a:lnTo>
                    <a:pt x="5931" y="4100"/>
                  </a:lnTo>
                  <a:lnTo>
                    <a:pt x="5941" y="4096"/>
                  </a:lnTo>
                  <a:lnTo>
                    <a:pt x="5951" y="4090"/>
                  </a:lnTo>
                  <a:lnTo>
                    <a:pt x="5973" y="4073"/>
                  </a:lnTo>
                  <a:lnTo>
                    <a:pt x="6002" y="4048"/>
                  </a:lnTo>
                  <a:lnTo>
                    <a:pt x="6032" y="4017"/>
                  </a:lnTo>
                  <a:lnTo>
                    <a:pt x="6066" y="3984"/>
                  </a:lnTo>
                  <a:lnTo>
                    <a:pt x="6139" y="3907"/>
                  </a:lnTo>
                  <a:lnTo>
                    <a:pt x="6216" y="3826"/>
                  </a:lnTo>
                  <a:lnTo>
                    <a:pt x="6286" y="3748"/>
                  </a:lnTo>
                  <a:lnTo>
                    <a:pt x="6345" y="3683"/>
                  </a:lnTo>
                  <a:lnTo>
                    <a:pt x="6384" y="3637"/>
                  </a:lnTo>
                  <a:lnTo>
                    <a:pt x="6400" y="3620"/>
                  </a:lnTo>
                  <a:lnTo>
                    <a:pt x="6293" y="1997"/>
                  </a:lnTo>
                  <a:lnTo>
                    <a:pt x="6287" y="1982"/>
                  </a:lnTo>
                  <a:lnTo>
                    <a:pt x="6267" y="1942"/>
                  </a:lnTo>
                  <a:lnTo>
                    <a:pt x="6238" y="1886"/>
                  </a:lnTo>
                  <a:lnTo>
                    <a:pt x="6202" y="1818"/>
                  </a:lnTo>
                  <a:lnTo>
                    <a:pt x="6181" y="1784"/>
                  </a:lnTo>
                  <a:lnTo>
                    <a:pt x="6160" y="1749"/>
                  </a:lnTo>
                  <a:lnTo>
                    <a:pt x="6138" y="1716"/>
                  </a:lnTo>
                  <a:lnTo>
                    <a:pt x="6116" y="1685"/>
                  </a:lnTo>
                  <a:lnTo>
                    <a:pt x="6094" y="1658"/>
                  </a:lnTo>
                  <a:lnTo>
                    <a:pt x="6072" y="1634"/>
                  </a:lnTo>
                  <a:lnTo>
                    <a:pt x="6061" y="1624"/>
                  </a:lnTo>
                  <a:lnTo>
                    <a:pt x="6051" y="1615"/>
                  </a:lnTo>
                  <a:lnTo>
                    <a:pt x="6040" y="1608"/>
                  </a:lnTo>
                  <a:lnTo>
                    <a:pt x="6030" y="1603"/>
                  </a:lnTo>
                  <a:lnTo>
                    <a:pt x="5987" y="1578"/>
                  </a:lnTo>
                  <a:lnTo>
                    <a:pt x="5938" y="1550"/>
                  </a:lnTo>
                  <a:lnTo>
                    <a:pt x="5881" y="1517"/>
                  </a:lnTo>
                  <a:lnTo>
                    <a:pt x="5821" y="1481"/>
                  </a:lnTo>
                  <a:lnTo>
                    <a:pt x="5758" y="1446"/>
                  </a:lnTo>
                  <a:lnTo>
                    <a:pt x="5695" y="1411"/>
                  </a:lnTo>
                  <a:lnTo>
                    <a:pt x="5663" y="1395"/>
                  </a:lnTo>
                  <a:lnTo>
                    <a:pt x="5631" y="1380"/>
                  </a:lnTo>
                  <a:lnTo>
                    <a:pt x="5600" y="1366"/>
                  </a:lnTo>
                  <a:lnTo>
                    <a:pt x="5571" y="1352"/>
                  </a:lnTo>
                  <a:lnTo>
                    <a:pt x="5476" y="1311"/>
                  </a:lnTo>
                  <a:lnTo>
                    <a:pt x="5325" y="1245"/>
                  </a:lnTo>
                  <a:lnTo>
                    <a:pt x="5137" y="1163"/>
                  </a:lnTo>
                  <a:lnTo>
                    <a:pt x="4936" y="1073"/>
                  </a:lnTo>
                  <a:lnTo>
                    <a:pt x="4742" y="987"/>
                  </a:lnTo>
                  <a:lnTo>
                    <a:pt x="4577" y="913"/>
                  </a:lnTo>
                  <a:lnTo>
                    <a:pt x="4462" y="861"/>
                  </a:lnTo>
                  <a:lnTo>
                    <a:pt x="4419" y="842"/>
                  </a:lnTo>
                  <a:lnTo>
                    <a:pt x="2851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7493040" y="1974960"/>
              <a:ext cx="15840" cy="46080"/>
            </a:xfrm>
            <a:custGeom>
              <a:avLst/>
              <a:gdLst/>
              <a:ahLst/>
              <a:rect l="l" t="t" r="r" b="b"/>
              <a:pathLst>
                <a:path w="50" h="147">
                  <a:moveTo>
                    <a:pt x="16" y="0"/>
                  </a:moveTo>
                  <a:lnTo>
                    <a:pt x="16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7" y="13"/>
                  </a:lnTo>
                  <a:lnTo>
                    <a:pt x="18" y="19"/>
                  </a:lnTo>
                  <a:lnTo>
                    <a:pt x="21" y="25"/>
                  </a:lnTo>
                  <a:lnTo>
                    <a:pt x="23" y="34"/>
                  </a:lnTo>
                  <a:lnTo>
                    <a:pt x="27" y="41"/>
                  </a:lnTo>
                  <a:lnTo>
                    <a:pt x="32" y="51"/>
                  </a:lnTo>
                  <a:lnTo>
                    <a:pt x="38" y="63"/>
                  </a:lnTo>
                  <a:lnTo>
                    <a:pt x="43" y="78"/>
                  </a:lnTo>
                  <a:lnTo>
                    <a:pt x="48" y="95"/>
                  </a:lnTo>
                  <a:lnTo>
                    <a:pt x="49" y="102"/>
                  </a:lnTo>
                  <a:lnTo>
                    <a:pt x="50" y="111"/>
                  </a:lnTo>
                  <a:lnTo>
                    <a:pt x="50" y="118"/>
                  </a:lnTo>
                  <a:lnTo>
                    <a:pt x="50" y="125"/>
                  </a:lnTo>
                  <a:lnTo>
                    <a:pt x="48" y="131"/>
                  </a:lnTo>
                  <a:lnTo>
                    <a:pt x="45" y="137"/>
                  </a:lnTo>
                  <a:lnTo>
                    <a:pt x="40" y="141"/>
                  </a:lnTo>
                  <a:lnTo>
                    <a:pt x="34" y="144"/>
                  </a:lnTo>
                  <a:lnTo>
                    <a:pt x="29" y="145"/>
                  </a:lnTo>
                  <a:lnTo>
                    <a:pt x="24" y="147"/>
                  </a:lnTo>
                  <a:lnTo>
                    <a:pt x="21" y="145"/>
                  </a:lnTo>
                  <a:lnTo>
                    <a:pt x="17" y="144"/>
                  </a:lnTo>
                  <a:lnTo>
                    <a:pt x="11" y="141"/>
                  </a:lnTo>
                  <a:lnTo>
                    <a:pt x="6" y="134"/>
                  </a:lnTo>
                  <a:lnTo>
                    <a:pt x="2" y="128"/>
                  </a:lnTo>
                  <a:lnTo>
                    <a:pt x="1" y="123"/>
                  </a:lnTo>
                  <a:lnTo>
                    <a:pt x="0" y="118"/>
                  </a:lnTo>
                  <a:lnTo>
                    <a:pt x="0" y="1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7496280" y="1927440"/>
              <a:ext cx="11160" cy="60120"/>
            </a:xfrm>
            <a:custGeom>
              <a:avLst/>
              <a:gdLst/>
              <a:ahLst/>
              <a:rect l="l" t="t" r="r" b="b"/>
              <a:pathLst>
                <a:path w="34" h="187">
                  <a:moveTo>
                    <a:pt x="0" y="187"/>
                  </a:moveTo>
                  <a:lnTo>
                    <a:pt x="0" y="183"/>
                  </a:lnTo>
                  <a:lnTo>
                    <a:pt x="2" y="171"/>
                  </a:lnTo>
                  <a:lnTo>
                    <a:pt x="5" y="154"/>
                  </a:lnTo>
                  <a:lnTo>
                    <a:pt x="8" y="130"/>
                  </a:lnTo>
                  <a:lnTo>
                    <a:pt x="13" y="102"/>
                  </a:lnTo>
                  <a:lnTo>
                    <a:pt x="19" y="70"/>
                  </a:lnTo>
                  <a:lnTo>
                    <a:pt x="27" y="36"/>
                  </a:lnTo>
                  <a:lnTo>
                    <a:pt x="34" y="0"/>
                  </a:lnTo>
                </a:path>
              </a:pathLst>
            </a:custGeom>
            <a:noFill/>
            <a:ln w="1440">
              <a:solidFill>
                <a:srgbClr val="d5a9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7508880" y="1913040"/>
              <a:ext cx="1440" cy="46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18"/>
                  </a:moveTo>
                  <a:lnTo>
                    <a:pt x="0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d5a9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7515360" y="1887480"/>
              <a:ext cx="1440" cy="648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19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d5a9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7521480" y="1862280"/>
              <a:ext cx="1800" cy="648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0" y="23"/>
                  </a:moveTo>
                  <a:lnTo>
                    <a:pt x="0" y="21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2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d5a9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7496280" y="1990800"/>
              <a:ext cx="11160" cy="27000"/>
            </a:xfrm>
            <a:custGeom>
              <a:avLst/>
              <a:gdLst/>
              <a:ahLst/>
              <a:rect l="l" t="t" r="r" b="b"/>
              <a:pathLst>
                <a:path w="34" h="85">
                  <a:moveTo>
                    <a:pt x="7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19" y="9"/>
                  </a:lnTo>
                  <a:lnTo>
                    <a:pt x="23" y="13"/>
                  </a:lnTo>
                  <a:lnTo>
                    <a:pt x="27" y="19"/>
                  </a:lnTo>
                  <a:lnTo>
                    <a:pt x="29" y="29"/>
                  </a:lnTo>
                  <a:lnTo>
                    <a:pt x="32" y="39"/>
                  </a:lnTo>
                  <a:lnTo>
                    <a:pt x="33" y="48"/>
                  </a:lnTo>
                  <a:lnTo>
                    <a:pt x="34" y="58"/>
                  </a:lnTo>
                  <a:lnTo>
                    <a:pt x="34" y="67"/>
                  </a:lnTo>
                  <a:lnTo>
                    <a:pt x="32" y="76"/>
                  </a:lnTo>
                  <a:lnTo>
                    <a:pt x="30" y="78"/>
                  </a:lnTo>
                  <a:lnTo>
                    <a:pt x="29" y="82"/>
                  </a:lnTo>
                  <a:lnTo>
                    <a:pt x="27" y="83"/>
                  </a:lnTo>
                  <a:lnTo>
                    <a:pt x="23" y="84"/>
                  </a:lnTo>
                  <a:lnTo>
                    <a:pt x="21" y="85"/>
                  </a:lnTo>
                  <a:lnTo>
                    <a:pt x="18" y="84"/>
                  </a:lnTo>
                  <a:lnTo>
                    <a:pt x="16" y="83"/>
                  </a:lnTo>
                  <a:lnTo>
                    <a:pt x="13" y="82"/>
                  </a:lnTo>
                  <a:lnTo>
                    <a:pt x="8" y="77"/>
                  </a:lnTo>
                  <a:lnTo>
                    <a:pt x="5" y="69"/>
                  </a:lnTo>
                  <a:lnTo>
                    <a:pt x="2" y="62"/>
                  </a:lnTo>
                  <a:lnTo>
                    <a:pt x="1" y="55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7324560" y="3789360"/>
              <a:ext cx="187560" cy="324000"/>
            </a:xfrm>
            <a:custGeom>
              <a:avLst/>
              <a:gdLst/>
              <a:ahLst/>
              <a:rect l="l" t="t" r="r" b="b"/>
              <a:pathLst>
                <a:path w="588" h="1021">
                  <a:moveTo>
                    <a:pt x="0" y="236"/>
                  </a:moveTo>
                  <a:lnTo>
                    <a:pt x="5" y="255"/>
                  </a:lnTo>
                  <a:lnTo>
                    <a:pt x="18" y="303"/>
                  </a:lnTo>
                  <a:lnTo>
                    <a:pt x="40" y="371"/>
                  </a:lnTo>
                  <a:lnTo>
                    <a:pt x="68" y="454"/>
                  </a:lnTo>
                  <a:lnTo>
                    <a:pt x="85" y="497"/>
                  </a:lnTo>
                  <a:lnTo>
                    <a:pt x="102" y="541"/>
                  </a:lnTo>
                  <a:lnTo>
                    <a:pt x="120" y="584"/>
                  </a:lnTo>
                  <a:lnTo>
                    <a:pt x="140" y="625"/>
                  </a:lnTo>
                  <a:lnTo>
                    <a:pt x="150" y="644"/>
                  </a:lnTo>
                  <a:lnTo>
                    <a:pt x="161" y="663"/>
                  </a:lnTo>
                  <a:lnTo>
                    <a:pt x="171" y="681"/>
                  </a:lnTo>
                  <a:lnTo>
                    <a:pt x="182" y="697"/>
                  </a:lnTo>
                  <a:lnTo>
                    <a:pt x="193" y="713"/>
                  </a:lnTo>
                  <a:lnTo>
                    <a:pt x="203" y="727"/>
                  </a:lnTo>
                  <a:lnTo>
                    <a:pt x="214" y="739"/>
                  </a:lnTo>
                  <a:lnTo>
                    <a:pt x="226" y="750"/>
                  </a:lnTo>
                  <a:lnTo>
                    <a:pt x="267" y="787"/>
                  </a:lnTo>
                  <a:lnTo>
                    <a:pt x="305" y="819"/>
                  </a:lnTo>
                  <a:lnTo>
                    <a:pt x="338" y="850"/>
                  </a:lnTo>
                  <a:lnTo>
                    <a:pt x="369" y="877"/>
                  </a:lnTo>
                  <a:lnTo>
                    <a:pt x="397" y="904"/>
                  </a:lnTo>
                  <a:lnTo>
                    <a:pt x="423" y="931"/>
                  </a:lnTo>
                  <a:lnTo>
                    <a:pt x="449" y="958"/>
                  </a:lnTo>
                  <a:lnTo>
                    <a:pt x="473" y="986"/>
                  </a:lnTo>
                  <a:lnTo>
                    <a:pt x="480" y="994"/>
                  </a:lnTo>
                  <a:lnTo>
                    <a:pt x="486" y="1000"/>
                  </a:lnTo>
                  <a:lnTo>
                    <a:pt x="492" y="1005"/>
                  </a:lnTo>
                  <a:lnTo>
                    <a:pt x="499" y="1010"/>
                  </a:lnTo>
                  <a:lnTo>
                    <a:pt x="505" y="1013"/>
                  </a:lnTo>
                  <a:lnTo>
                    <a:pt x="513" y="1016"/>
                  </a:lnTo>
                  <a:lnTo>
                    <a:pt x="519" y="1018"/>
                  </a:lnTo>
                  <a:lnTo>
                    <a:pt x="525" y="1020"/>
                  </a:lnTo>
                  <a:lnTo>
                    <a:pt x="533" y="1021"/>
                  </a:lnTo>
                  <a:lnTo>
                    <a:pt x="539" y="1020"/>
                  </a:lnTo>
                  <a:lnTo>
                    <a:pt x="545" y="1018"/>
                  </a:lnTo>
                  <a:lnTo>
                    <a:pt x="551" y="1017"/>
                  </a:lnTo>
                  <a:lnTo>
                    <a:pt x="556" y="1015"/>
                  </a:lnTo>
                  <a:lnTo>
                    <a:pt x="562" y="1010"/>
                  </a:lnTo>
                  <a:lnTo>
                    <a:pt x="567" y="1006"/>
                  </a:lnTo>
                  <a:lnTo>
                    <a:pt x="572" y="1000"/>
                  </a:lnTo>
                  <a:lnTo>
                    <a:pt x="576" y="994"/>
                  </a:lnTo>
                  <a:lnTo>
                    <a:pt x="579" y="986"/>
                  </a:lnTo>
                  <a:lnTo>
                    <a:pt x="582" y="979"/>
                  </a:lnTo>
                  <a:lnTo>
                    <a:pt x="584" y="969"/>
                  </a:lnTo>
                  <a:lnTo>
                    <a:pt x="587" y="959"/>
                  </a:lnTo>
                  <a:lnTo>
                    <a:pt x="588" y="948"/>
                  </a:lnTo>
                  <a:lnTo>
                    <a:pt x="588" y="937"/>
                  </a:lnTo>
                  <a:lnTo>
                    <a:pt x="588" y="924"/>
                  </a:lnTo>
                  <a:lnTo>
                    <a:pt x="587" y="910"/>
                  </a:lnTo>
                  <a:lnTo>
                    <a:pt x="584" y="895"/>
                  </a:lnTo>
                  <a:lnTo>
                    <a:pt x="582" y="881"/>
                  </a:lnTo>
                  <a:lnTo>
                    <a:pt x="578" y="863"/>
                  </a:lnTo>
                  <a:lnTo>
                    <a:pt x="573" y="846"/>
                  </a:lnTo>
                  <a:lnTo>
                    <a:pt x="567" y="828"/>
                  </a:lnTo>
                  <a:lnTo>
                    <a:pt x="560" y="808"/>
                  </a:lnTo>
                  <a:lnTo>
                    <a:pt x="552" y="788"/>
                  </a:lnTo>
                  <a:lnTo>
                    <a:pt x="534" y="743"/>
                  </a:lnTo>
                  <a:lnTo>
                    <a:pt x="515" y="690"/>
                  </a:lnTo>
                  <a:lnTo>
                    <a:pt x="497" y="632"/>
                  </a:lnTo>
                  <a:lnTo>
                    <a:pt x="477" y="571"/>
                  </a:lnTo>
                  <a:lnTo>
                    <a:pt x="437" y="442"/>
                  </a:lnTo>
                  <a:lnTo>
                    <a:pt x="396" y="311"/>
                  </a:lnTo>
                  <a:lnTo>
                    <a:pt x="375" y="248"/>
                  </a:lnTo>
                  <a:lnTo>
                    <a:pt x="355" y="191"/>
                  </a:lnTo>
                  <a:lnTo>
                    <a:pt x="337" y="138"/>
                  </a:lnTo>
                  <a:lnTo>
                    <a:pt x="317" y="92"/>
                  </a:lnTo>
                  <a:lnTo>
                    <a:pt x="309" y="73"/>
                  </a:lnTo>
                  <a:lnTo>
                    <a:pt x="299" y="54"/>
                  </a:lnTo>
                  <a:lnTo>
                    <a:pt x="290" y="38"/>
                  </a:lnTo>
                  <a:lnTo>
                    <a:pt x="282" y="25"/>
                  </a:lnTo>
                  <a:lnTo>
                    <a:pt x="273" y="15"/>
                  </a:lnTo>
                  <a:lnTo>
                    <a:pt x="266" y="7"/>
                  </a:lnTo>
                  <a:lnTo>
                    <a:pt x="258" y="2"/>
                  </a:lnTo>
                  <a:lnTo>
                    <a:pt x="250" y="0"/>
                  </a:lnTo>
                  <a:lnTo>
                    <a:pt x="242" y="1"/>
                  </a:lnTo>
                  <a:lnTo>
                    <a:pt x="235" y="2"/>
                  </a:lnTo>
                  <a:lnTo>
                    <a:pt x="226" y="6"/>
                  </a:lnTo>
                  <a:lnTo>
                    <a:pt x="216" y="11"/>
                  </a:lnTo>
                  <a:lnTo>
                    <a:pt x="198" y="22"/>
                  </a:lnTo>
                  <a:lnTo>
                    <a:pt x="178" y="37"/>
                  </a:lnTo>
                  <a:lnTo>
                    <a:pt x="157" y="55"/>
                  </a:lnTo>
                  <a:lnTo>
                    <a:pt x="136" y="75"/>
                  </a:lnTo>
                  <a:lnTo>
                    <a:pt x="115" y="96"/>
                  </a:lnTo>
                  <a:lnTo>
                    <a:pt x="96" y="118"/>
                  </a:lnTo>
                  <a:lnTo>
                    <a:pt x="59" y="162"/>
                  </a:lnTo>
                  <a:lnTo>
                    <a:pt x="28" y="199"/>
                  </a:lnTo>
                  <a:lnTo>
                    <a:pt x="7" y="22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5f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5442120" y="3260880"/>
              <a:ext cx="385560" cy="299880"/>
            </a:xfrm>
            <a:custGeom>
              <a:avLst/>
              <a:gdLst/>
              <a:ahLst/>
              <a:rect l="l" t="t" r="r" b="b"/>
              <a:pathLst>
                <a:path w="1215" h="941">
                  <a:moveTo>
                    <a:pt x="57" y="941"/>
                  </a:moveTo>
                  <a:lnTo>
                    <a:pt x="53" y="928"/>
                  </a:lnTo>
                  <a:lnTo>
                    <a:pt x="43" y="890"/>
                  </a:lnTo>
                  <a:lnTo>
                    <a:pt x="29" y="833"/>
                  </a:lnTo>
                  <a:lnTo>
                    <a:pt x="16" y="764"/>
                  </a:lnTo>
                  <a:lnTo>
                    <a:pt x="11" y="727"/>
                  </a:lnTo>
                  <a:lnTo>
                    <a:pt x="6" y="688"/>
                  </a:lnTo>
                  <a:lnTo>
                    <a:pt x="2" y="649"/>
                  </a:lnTo>
                  <a:lnTo>
                    <a:pt x="0" y="611"/>
                  </a:lnTo>
                  <a:lnTo>
                    <a:pt x="0" y="572"/>
                  </a:lnTo>
                  <a:lnTo>
                    <a:pt x="2" y="537"/>
                  </a:lnTo>
                  <a:lnTo>
                    <a:pt x="5" y="519"/>
                  </a:lnTo>
                  <a:lnTo>
                    <a:pt x="7" y="502"/>
                  </a:lnTo>
                  <a:lnTo>
                    <a:pt x="11" y="486"/>
                  </a:lnTo>
                  <a:lnTo>
                    <a:pt x="16" y="472"/>
                  </a:lnTo>
                  <a:lnTo>
                    <a:pt x="22" y="456"/>
                  </a:lnTo>
                  <a:lnTo>
                    <a:pt x="31" y="438"/>
                  </a:lnTo>
                  <a:lnTo>
                    <a:pt x="42" y="417"/>
                  </a:lnTo>
                  <a:lnTo>
                    <a:pt x="55" y="396"/>
                  </a:lnTo>
                  <a:lnTo>
                    <a:pt x="71" y="374"/>
                  </a:lnTo>
                  <a:lnTo>
                    <a:pt x="89" y="350"/>
                  </a:lnTo>
                  <a:lnTo>
                    <a:pt x="109" y="325"/>
                  </a:lnTo>
                  <a:lnTo>
                    <a:pt x="132" y="299"/>
                  </a:lnTo>
                  <a:lnTo>
                    <a:pt x="156" y="273"/>
                  </a:lnTo>
                  <a:lnTo>
                    <a:pt x="183" y="248"/>
                  </a:lnTo>
                  <a:lnTo>
                    <a:pt x="212" y="222"/>
                  </a:lnTo>
                  <a:lnTo>
                    <a:pt x="241" y="197"/>
                  </a:lnTo>
                  <a:lnTo>
                    <a:pt x="273" y="171"/>
                  </a:lnTo>
                  <a:lnTo>
                    <a:pt x="306" y="147"/>
                  </a:lnTo>
                  <a:lnTo>
                    <a:pt x="341" y="125"/>
                  </a:lnTo>
                  <a:lnTo>
                    <a:pt x="378" y="103"/>
                  </a:lnTo>
                  <a:lnTo>
                    <a:pt x="416" y="82"/>
                  </a:lnTo>
                  <a:lnTo>
                    <a:pt x="455" y="63"/>
                  </a:lnTo>
                  <a:lnTo>
                    <a:pt x="496" y="46"/>
                  </a:lnTo>
                  <a:lnTo>
                    <a:pt x="538" y="31"/>
                  </a:lnTo>
                  <a:lnTo>
                    <a:pt x="581" y="20"/>
                  </a:lnTo>
                  <a:lnTo>
                    <a:pt x="624" y="10"/>
                  </a:lnTo>
                  <a:lnTo>
                    <a:pt x="669" y="4"/>
                  </a:lnTo>
                  <a:lnTo>
                    <a:pt x="715" y="0"/>
                  </a:lnTo>
                  <a:lnTo>
                    <a:pt x="761" y="0"/>
                  </a:lnTo>
                  <a:lnTo>
                    <a:pt x="809" y="4"/>
                  </a:lnTo>
                  <a:lnTo>
                    <a:pt x="857" y="12"/>
                  </a:lnTo>
                  <a:lnTo>
                    <a:pt x="905" y="23"/>
                  </a:lnTo>
                  <a:lnTo>
                    <a:pt x="955" y="40"/>
                  </a:lnTo>
                  <a:lnTo>
                    <a:pt x="1005" y="59"/>
                  </a:lnTo>
                  <a:lnTo>
                    <a:pt x="1054" y="85"/>
                  </a:lnTo>
                  <a:lnTo>
                    <a:pt x="1105" y="116"/>
                  </a:lnTo>
                  <a:lnTo>
                    <a:pt x="1149" y="149"/>
                  </a:lnTo>
                  <a:lnTo>
                    <a:pt x="1182" y="184"/>
                  </a:lnTo>
                  <a:lnTo>
                    <a:pt x="1203" y="218"/>
                  </a:lnTo>
                  <a:lnTo>
                    <a:pt x="1214" y="254"/>
                  </a:lnTo>
                  <a:lnTo>
                    <a:pt x="1215" y="288"/>
                  </a:lnTo>
                  <a:lnTo>
                    <a:pt x="1208" y="324"/>
                  </a:lnTo>
                  <a:lnTo>
                    <a:pt x="1192" y="360"/>
                  </a:lnTo>
                  <a:lnTo>
                    <a:pt x="1167" y="395"/>
                  </a:lnTo>
                  <a:lnTo>
                    <a:pt x="1137" y="430"/>
                  </a:lnTo>
                  <a:lnTo>
                    <a:pt x="1100" y="465"/>
                  </a:lnTo>
                  <a:lnTo>
                    <a:pt x="1057" y="500"/>
                  </a:lnTo>
                  <a:lnTo>
                    <a:pt x="1010" y="533"/>
                  </a:lnTo>
                  <a:lnTo>
                    <a:pt x="957" y="566"/>
                  </a:lnTo>
                  <a:lnTo>
                    <a:pt x="902" y="599"/>
                  </a:lnTo>
                  <a:lnTo>
                    <a:pt x="843" y="631"/>
                  </a:lnTo>
                  <a:lnTo>
                    <a:pt x="782" y="662"/>
                  </a:lnTo>
                  <a:lnTo>
                    <a:pt x="720" y="692"/>
                  </a:lnTo>
                  <a:lnTo>
                    <a:pt x="657" y="720"/>
                  </a:lnTo>
                  <a:lnTo>
                    <a:pt x="593" y="748"/>
                  </a:lnTo>
                  <a:lnTo>
                    <a:pt x="530" y="774"/>
                  </a:lnTo>
                  <a:lnTo>
                    <a:pt x="467" y="799"/>
                  </a:lnTo>
                  <a:lnTo>
                    <a:pt x="408" y="822"/>
                  </a:lnTo>
                  <a:lnTo>
                    <a:pt x="351" y="843"/>
                  </a:lnTo>
                  <a:lnTo>
                    <a:pt x="295" y="863"/>
                  </a:lnTo>
                  <a:lnTo>
                    <a:pt x="123" y="920"/>
                  </a:lnTo>
                  <a:lnTo>
                    <a:pt x="57" y="941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5410080" y="2611440"/>
              <a:ext cx="2032200" cy="2770200"/>
            </a:xfrm>
            <a:custGeom>
              <a:avLst/>
              <a:gdLst/>
              <a:ahLst/>
              <a:rect l="l" t="t" r="r" b="b"/>
              <a:pathLst>
                <a:path w="6400" h="8725">
                  <a:moveTo>
                    <a:pt x="1748" y="8641"/>
                  </a:moveTo>
                  <a:lnTo>
                    <a:pt x="1721" y="8632"/>
                  </a:lnTo>
                  <a:lnTo>
                    <a:pt x="1697" y="8624"/>
                  </a:lnTo>
                  <a:lnTo>
                    <a:pt x="1673" y="8615"/>
                  </a:lnTo>
                  <a:lnTo>
                    <a:pt x="1651" y="8605"/>
                  </a:lnTo>
                  <a:lnTo>
                    <a:pt x="1629" y="8595"/>
                  </a:lnTo>
                  <a:lnTo>
                    <a:pt x="1609" y="8584"/>
                  </a:lnTo>
                  <a:lnTo>
                    <a:pt x="1591" y="8573"/>
                  </a:lnTo>
                  <a:lnTo>
                    <a:pt x="1574" y="8562"/>
                  </a:lnTo>
                  <a:lnTo>
                    <a:pt x="1557" y="8550"/>
                  </a:lnTo>
                  <a:lnTo>
                    <a:pt x="1542" y="8538"/>
                  </a:lnTo>
                  <a:lnTo>
                    <a:pt x="1527" y="8527"/>
                  </a:lnTo>
                  <a:lnTo>
                    <a:pt x="1514" y="8514"/>
                  </a:lnTo>
                  <a:lnTo>
                    <a:pt x="1489" y="8490"/>
                  </a:lnTo>
                  <a:lnTo>
                    <a:pt x="1469" y="8465"/>
                  </a:lnTo>
                  <a:lnTo>
                    <a:pt x="1452" y="8443"/>
                  </a:lnTo>
                  <a:lnTo>
                    <a:pt x="1438" y="8421"/>
                  </a:lnTo>
                  <a:lnTo>
                    <a:pt x="1427" y="8401"/>
                  </a:lnTo>
                  <a:lnTo>
                    <a:pt x="1419" y="8384"/>
                  </a:lnTo>
                  <a:lnTo>
                    <a:pt x="1409" y="8359"/>
                  </a:lnTo>
                  <a:lnTo>
                    <a:pt x="1406" y="8349"/>
                  </a:lnTo>
                  <a:lnTo>
                    <a:pt x="1394" y="8334"/>
                  </a:lnTo>
                  <a:lnTo>
                    <a:pt x="1384" y="8311"/>
                  </a:lnTo>
                  <a:lnTo>
                    <a:pt x="1376" y="8282"/>
                  </a:lnTo>
                  <a:lnTo>
                    <a:pt x="1370" y="8246"/>
                  </a:lnTo>
                  <a:lnTo>
                    <a:pt x="1363" y="8206"/>
                  </a:lnTo>
                  <a:lnTo>
                    <a:pt x="1358" y="8159"/>
                  </a:lnTo>
                  <a:lnTo>
                    <a:pt x="1355" y="8107"/>
                  </a:lnTo>
                  <a:lnTo>
                    <a:pt x="1352" y="8051"/>
                  </a:lnTo>
                  <a:lnTo>
                    <a:pt x="1351" y="7990"/>
                  </a:lnTo>
                  <a:lnTo>
                    <a:pt x="1351" y="7926"/>
                  </a:lnTo>
                  <a:lnTo>
                    <a:pt x="1351" y="7859"/>
                  </a:lnTo>
                  <a:lnTo>
                    <a:pt x="1352" y="7787"/>
                  </a:lnTo>
                  <a:lnTo>
                    <a:pt x="1357" y="7640"/>
                  </a:lnTo>
                  <a:lnTo>
                    <a:pt x="1365" y="7484"/>
                  </a:lnTo>
                  <a:lnTo>
                    <a:pt x="1373" y="7325"/>
                  </a:lnTo>
                  <a:lnTo>
                    <a:pt x="1384" y="7164"/>
                  </a:lnTo>
                  <a:lnTo>
                    <a:pt x="1395" y="7006"/>
                  </a:lnTo>
                  <a:lnTo>
                    <a:pt x="1406" y="6853"/>
                  </a:lnTo>
                  <a:lnTo>
                    <a:pt x="1426" y="6577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4" y="5972"/>
                  </a:lnTo>
                  <a:lnTo>
                    <a:pt x="5452" y="6116"/>
                  </a:lnTo>
                  <a:lnTo>
                    <a:pt x="5449" y="6279"/>
                  </a:lnTo>
                  <a:lnTo>
                    <a:pt x="5444" y="6458"/>
                  </a:lnTo>
                  <a:lnTo>
                    <a:pt x="5436" y="6845"/>
                  </a:lnTo>
                  <a:lnTo>
                    <a:pt x="5425" y="7245"/>
                  </a:lnTo>
                  <a:lnTo>
                    <a:pt x="5413" y="7625"/>
                  </a:lnTo>
                  <a:lnTo>
                    <a:pt x="5404" y="7953"/>
                  </a:lnTo>
                  <a:lnTo>
                    <a:pt x="5397" y="8197"/>
                  </a:lnTo>
                  <a:lnTo>
                    <a:pt x="5394" y="8325"/>
                  </a:lnTo>
                  <a:lnTo>
                    <a:pt x="5393" y="8340"/>
                  </a:lnTo>
                  <a:lnTo>
                    <a:pt x="5389" y="8353"/>
                  </a:lnTo>
                  <a:lnTo>
                    <a:pt x="5381" y="8367"/>
                  </a:lnTo>
                  <a:lnTo>
                    <a:pt x="5373" y="8380"/>
                  </a:lnTo>
                  <a:lnTo>
                    <a:pt x="5361" y="8393"/>
                  </a:lnTo>
                  <a:lnTo>
                    <a:pt x="5347" y="8404"/>
                  </a:lnTo>
                  <a:lnTo>
                    <a:pt x="5331" y="8415"/>
                  </a:lnTo>
                  <a:lnTo>
                    <a:pt x="5314" y="8426"/>
                  </a:lnTo>
                  <a:lnTo>
                    <a:pt x="5294" y="8436"/>
                  </a:lnTo>
                  <a:lnTo>
                    <a:pt x="5273" y="8447"/>
                  </a:lnTo>
                  <a:lnTo>
                    <a:pt x="5250" y="8455"/>
                  </a:lnTo>
                  <a:lnTo>
                    <a:pt x="5226" y="8465"/>
                  </a:lnTo>
                  <a:lnTo>
                    <a:pt x="5176" y="8482"/>
                  </a:lnTo>
                  <a:lnTo>
                    <a:pt x="5122" y="8498"/>
                  </a:lnTo>
                  <a:lnTo>
                    <a:pt x="5007" y="8529"/>
                  </a:lnTo>
                  <a:lnTo>
                    <a:pt x="4894" y="8557"/>
                  </a:lnTo>
                  <a:lnTo>
                    <a:pt x="4841" y="8571"/>
                  </a:lnTo>
                  <a:lnTo>
                    <a:pt x="4792" y="8584"/>
                  </a:lnTo>
                  <a:lnTo>
                    <a:pt x="4748" y="8599"/>
                  </a:lnTo>
                  <a:lnTo>
                    <a:pt x="4710" y="8613"/>
                  </a:lnTo>
                  <a:lnTo>
                    <a:pt x="4691" y="8620"/>
                  </a:lnTo>
                  <a:lnTo>
                    <a:pt x="4668" y="8627"/>
                  </a:lnTo>
                  <a:lnTo>
                    <a:pt x="4642" y="8635"/>
                  </a:lnTo>
                  <a:lnTo>
                    <a:pt x="4613" y="8642"/>
                  </a:lnTo>
                  <a:lnTo>
                    <a:pt x="4581" y="8650"/>
                  </a:lnTo>
                  <a:lnTo>
                    <a:pt x="4546" y="8657"/>
                  </a:lnTo>
                  <a:lnTo>
                    <a:pt x="4509" y="8663"/>
                  </a:lnTo>
                  <a:lnTo>
                    <a:pt x="4469" y="8669"/>
                  </a:lnTo>
                  <a:lnTo>
                    <a:pt x="4384" y="8683"/>
                  </a:lnTo>
                  <a:lnTo>
                    <a:pt x="4291" y="8694"/>
                  </a:lnTo>
                  <a:lnTo>
                    <a:pt x="4196" y="8704"/>
                  </a:lnTo>
                  <a:lnTo>
                    <a:pt x="4096" y="8711"/>
                  </a:lnTo>
                  <a:lnTo>
                    <a:pt x="3995" y="8718"/>
                  </a:lnTo>
                  <a:lnTo>
                    <a:pt x="3894" y="8722"/>
                  </a:lnTo>
                  <a:lnTo>
                    <a:pt x="3845" y="8723"/>
                  </a:lnTo>
                  <a:lnTo>
                    <a:pt x="3796" y="8725"/>
                  </a:lnTo>
                  <a:lnTo>
                    <a:pt x="3749" y="8725"/>
                  </a:lnTo>
                  <a:lnTo>
                    <a:pt x="3702" y="8725"/>
                  </a:lnTo>
                  <a:lnTo>
                    <a:pt x="3657" y="8722"/>
                  </a:lnTo>
                  <a:lnTo>
                    <a:pt x="3614" y="8721"/>
                  </a:lnTo>
                  <a:lnTo>
                    <a:pt x="3572" y="8718"/>
                  </a:lnTo>
                  <a:lnTo>
                    <a:pt x="3532" y="8715"/>
                  </a:lnTo>
                  <a:lnTo>
                    <a:pt x="3495" y="8710"/>
                  </a:lnTo>
                  <a:lnTo>
                    <a:pt x="3461" y="8705"/>
                  </a:lnTo>
                  <a:lnTo>
                    <a:pt x="3429" y="8699"/>
                  </a:lnTo>
                  <a:lnTo>
                    <a:pt x="3401" y="8691"/>
                  </a:lnTo>
                  <a:lnTo>
                    <a:pt x="3371" y="8685"/>
                  </a:lnTo>
                  <a:lnTo>
                    <a:pt x="3337" y="8679"/>
                  </a:lnTo>
                  <a:lnTo>
                    <a:pt x="3300" y="8674"/>
                  </a:lnTo>
                  <a:lnTo>
                    <a:pt x="3258" y="8671"/>
                  </a:lnTo>
                  <a:lnTo>
                    <a:pt x="3214" y="8667"/>
                  </a:lnTo>
                  <a:lnTo>
                    <a:pt x="3166" y="8664"/>
                  </a:lnTo>
                  <a:lnTo>
                    <a:pt x="3114" y="8663"/>
                  </a:lnTo>
                  <a:lnTo>
                    <a:pt x="3061" y="8662"/>
                  </a:lnTo>
                  <a:lnTo>
                    <a:pt x="2948" y="8661"/>
                  </a:lnTo>
                  <a:lnTo>
                    <a:pt x="2827" y="8662"/>
                  </a:lnTo>
                  <a:lnTo>
                    <a:pt x="2702" y="8664"/>
                  </a:lnTo>
                  <a:lnTo>
                    <a:pt x="2574" y="8667"/>
                  </a:lnTo>
                  <a:lnTo>
                    <a:pt x="2447" y="8669"/>
                  </a:lnTo>
                  <a:lnTo>
                    <a:pt x="2322" y="8671"/>
                  </a:lnTo>
                  <a:lnTo>
                    <a:pt x="2201" y="8672"/>
                  </a:lnTo>
                  <a:lnTo>
                    <a:pt x="2088" y="8671"/>
                  </a:lnTo>
                  <a:lnTo>
                    <a:pt x="2034" y="8669"/>
                  </a:lnTo>
                  <a:lnTo>
                    <a:pt x="1983" y="8668"/>
                  </a:lnTo>
                  <a:lnTo>
                    <a:pt x="1935" y="8666"/>
                  </a:lnTo>
                  <a:lnTo>
                    <a:pt x="1890" y="8662"/>
                  </a:lnTo>
                  <a:lnTo>
                    <a:pt x="1849" y="8658"/>
                  </a:lnTo>
                  <a:lnTo>
                    <a:pt x="1811" y="8653"/>
                  </a:lnTo>
                  <a:lnTo>
                    <a:pt x="1778" y="8647"/>
                  </a:lnTo>
                  <a:lnTo>
                    <a:pt x="1748" y="8641"/>
                  </a:lnTo>
                  <a:close/>
                </a:path>
              </a:pathLst>
            </a:custGeom>
            <a:solidFill>
              <a:srgbClr val="f9f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5410080" y="2611440"/>
              <a:ext cx="2032200" cy="2718000"/>
            </a:xfrm>
            <a:custGeom>
              <a:avLst/>
              <a:gdLst/>
              <a:ahLst/>
              <a:rect l="l" t="t" r="r" b="b"/>
              <a:pathLst>
                <a:path w="6400" h="8561">
                  <a:moveTo>
                    <a:pt x="1753" y="8477"/>
                  </a:moveTo>
                  <a:lnTo>
                    <a:pt x="1728" y="8470"/>
                  </a:lnTo>
                  <a:lnTo>
                    <a:pt x="1702" y="8461"/>
                  </a:lnTo>
                  <a:lnTo>
                    <a:pt x="1678" y="8452"/>
                  </a:lnTo>
                  <a:lnTo>
                    <a:pt x="1655" y="8443"/>
                  </a:lnTo>
                  <a:lnTo>
                    <a:pt x="1634" y="8432"/>
                  </a:lnTo>
                  <a:lnTo>
                    <a:pt x="1614" y="8422"/>
                  </a:lnTo>
                  <a:lnTo>
                    <a:pt x="1596" y="8411"/>
                  </a:lnTo>
                  <a:lnTo>
                    <a:pt x="1577" y="8399"/>
                  </a:lnTo>
                  <a:lnTo>
                    <a:pt x="1561" y="8388"/>
                  </a:lnTo>
                  <a:lnTo>
                    <a:pt x="1546" y="8375"/>
                  </a:lnTo>
                  <a:lnTo>
                    <a:pt x="1531" y="8364"/>
                  </a:lnTo>
                  <a:lnTo>
                    <a:pt x="1517" y="8352"/>
                  </a:lnTo>
                  <a:lnTo>
                    <a:pt x="1494" y="8327"/>
                  </a:lnTo>
                  <a:lnTo>
                    <a:pt x="1474" y="8304"/>
                  </a:lnTo>
                  <a:lnTo>
                    <a:pt x="1457" y="8281"/>
                  </a:lnTo>
                  <a:lnTo>
                    <a:pt x="1443" y="8260"/>
                  </a:lnTo>
                  <a:lnTo>
                    <a:pt x="1432" y="8240"/>
                  </a:lnTo>
                  <a:lnTo>
                    <a:pt x="1424" y="8224"/>
                  </a:lnTo>
                  <a:lnTo>
                    <a:pt x="1414" y="8198"/>
                  </a:lnTo>
                  <a:lnTo>
                    <a:pt x="1411" y="8190"/>
                  </a:lnTo>
                  <a:lnTo>
                    <a:pt x="1400" y="8174"/>
                  </a:lnTo>
                  <a:lnTo>
                    <a:pt x="1390" y="8153"/>
                  </a:lnTo>
                  <a:lnTo>
                    <a:pt x="1382" y="8124"/>
                  </a:lnTo>
                  <a:lnTo>
                    <a:pt x="1374" y="8092"/>
                  </a:lnTo>
                  <a:lnTo>
                    <a:pt x="1368" y="8054"/>
                  </a:lnTo>
                  <a:lnTo>
                    <a:pt x="1363" y="8012"/>
                  </a:lnTo>
                  <a:lnTo>
                    <a:pt x="1360" y="7965"/>
                  </a:lnTo>
                  <a:lnTo>
                    <a:pt x="1357" y="7914"/>
                  </a:lnTo>
                  <a:lnTo>
                    <a:pt x="1356" y="7860"/>
                  </a:lnTo>
                  <a:lnTo>
                    <a:pt x="1355" y="7802"/>
                  </a:lnTo>
                  <a:lnTo>
                    <a:pt x="1355" y="7741"/>
                  </a:lnTo>
                  <a:lnTo>
                    <a:pt x="1356" y="7677"/>
                  </a:lnTo>
                  <a:lnTo>
                    <a:pt x="1361" y="7544"/>
                  </a:lnTo>
                  <a:lnTo>
                    <a:pt x="1367" y="7402"/>
                  </a:lnTo>
                  <a:lnTo>
                    <a:pt x="1376" y="7258"/>
                  </a:lnTo>
                  <a:lnTo>
                    <a:pt x="1386" y="7112"/>
                  </a:lnTo>
                  <a:lnTo>
                    <a:pt x="1397" y="6968"/>
                  </a:lnTo>
                  <a:lnTo>
                    <a:pt x="1406" y="6828"/>
                  </a:lnTo>
                  <a:lnTo>
                    <a:pt x="1427" y="6570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4" y="5969"/>
                  </a:lnTo>
                  <a:lnTo>
                    <a:pt x="5452" y="6108"/>
                  </a:lnTo>
                  <a:lnTo>
                    <a:pt x="5449" y="6265"/>
                  </a:lnTo>
                  <a:lnTo>
                    <a:pt x="5445" y="6433"/>
                  </a:lnTo>
                  <a:lnTo>
                    <a:pt x="5436" y="6794"/>
                  </a:lnTo>
                  <a:lnTo>
                    <a:pt x="5426" y="7164"/>
                  </a:lnTo>
                  <a:lnTo>
                    <a:pt x="5415" y="7513"/>
                  </a:lnTo>
                  <a:lnTo>
                    <a:pt x="5406" y="7816"/>
                  </a:lnTo>
                  <a:lnTo>
                    <a:pt x="5400" y="8042"/>
                  </a:lnTo>
                  <a:lnTo>
                    <a:pt x="5397" y="8163"/>
                  </a:lnTo>
                  <a:lnTo>
                    <a:pt x="5396" y="8177"/>
                  </a:lnTo>
                  <a:lnTo>
                    <a:pt x="5391" y="8191"/>
                  </a:lnTo>
                  <a:lnTo>
                    <a:pt x="5385" y="8204"/>
                  </a:lnTo>
                  <a:lnTo>
                    <a:pt x="5375" y="8217"/>
                  </a:lnTo>
                  <a:lnTo>
                    <a:pt x="5364" y="8229"/>
                  </a:lnTo>
                  <a:lnTo>
                    <a:pt x="5349" y="8241"/>
                  </a:lnTo>
                  <a:lnTo>
                    <a:pt x="5335" y="8252"/>
                  </a:lnTo>
                  <a:lnTo>
                    <a:pt x="5316" y="8262"/>
                  </a:lnTo>
                  <a:lnTo>
                    <a:pt x="5297" y="8273"/>
                  </a:lnTo>
                  <a:lnTo>
                    <a:pt x="5276" y="8283"/>
                  </a:lnTo>
                  <a:lnTo>
                    <a:pt x="5254" y="8293"/>
                  </a:lnTo>
                  <a:lnTo>
                    <a:pt x="5230" y="8302"/>
                  </a:lnTo>
                  <a:lnTo>
                    <a:pt x="5180" y="8320"/>
                  </a:lnTo>
                  <a:lnTo>
                    <a:pt x="5126" y="8336"/>
                  </a:lnTo>
                  <a:lnTo>
                    <a:pt x="5012" y="8367"/>
                  </a:lnTo>
                  <a:lnTo>
                    <a:pt x="4899" y="8394"/>
                  </a:lnTo>
                  <a:lnTo>
                    <a:pt x="4846" y="8409"/>
                  </a:lnTo>
                  <a:lnTo>
                    <a:pt x="4797" y="8422"/>
                  </a:lnTo>
                  <a:lnTo>
                    <a:pt x="4753" y="8436"/>
                  </a:lnTo>
                  <a:lnTo>
                    <a:pt x="4715" y="8450"/>
                  </a:lnTo>
                  <a:lnTo>
                    <a:pt x="4696" y="8458"/>
                  </a:lnTo>
                  <a:lnTo>
                    <a:pt x="4674" y="8465"/>
                  </a:lnTo>
                  <a:lnTo>
                    <a:pt x="4648" y="8472"/>
                  </a:lnTo>
                  <a:lnTo>
                    <a:pt x="4619" y="8480"/>
                  </a:lnTo>
                  <a:lnTo>
                    <a:pt x="4587" y="8486"/>
                  </a:lnTo>
                  <a:lnTo>
                    <a:pt x="4551" y="8493"/>
                  </a:lnTo>
                  <a:lnTo>
                    <a:pt x="4514" y="8501"/>
                  </a:lnTo>
                  <a:lnTo>
                    <a:pt x="4475" y="8507"/>
                  </a:lnTo>
                  <a:lnTo>
                    <a:pt x="4390" y="8519"/>
                  </a:lnTo>
                  <a:lnTo>
                    <a:pt x="4298" y="8530"/>
                  </a:lnTo>
                  <a:lnTo>
                    <a:pt x="4200" y="8540"/>
                  </a:lnTo>
                  <a:lnTo>
                    <a:pt x="4101" y="8549"/>
                  </a:lnTo>
                  <a:lnTo>
                    <a:pt x="4000" y="8555"/>
                  </a:lnTo>
                  <a:lnTo>
                    <a:pt x="3900" y="8560"/>
                  </a:lnTo>
                  <a:lnTo>
                    <a:pt x="3850" y="8561"/>
                  </a:lnTo>
                  <a:lnTo>
                    <a:pt x="3802" y="8561"/>
                  </a:lnTo>
                  <a:lnTo>
                    <a:pt x="3754" y="8561"/>
                  </a:lnTo>
                  <a:lnTo>
                    <a:pt x="3707" y="8561"/>
                  </a:lnTo>
                  <a:lnTo>
                    <a:pt x="3663" y="8560"/>
                  </a:lnTo>
                  <a:lnTo>
                    <a:pt x="3619" y="8557"/>
                  </a:lnTo>
                  <a:lnTo>
                    <a:pt x="3578" y="8555"/>
                  </a:lnTo>
                  <a:lnTo>
                    <a:pt x="3537" y="8551"/>
                  </a:lnTo>
                  <a:lnTo>
                    <a:pt x="3500" y="8548"/>
                  </a:lnTo>
                  <a:lnTo>
                    <a:pt x="3466" y="8543"/>
                  </a:lnTo>
                  <a:lnTo>
                    <a:pt x="3434" y="8536"/>
                  </a:lnTo>
                  <a:lnTo>
                    <a:pt x="3406" y="8529"/>
                  </a:lnTo>
                  <a:lnTo>
                    <a:pt x="3376" y="8522"/>
                  </a:lnTo>
                  <a:lnTo>
                    <a:pt x="3343" y="8517"/>
                  </a:lnTo>
                  <a:lnTo>
                    <a:pt x="3305" y="8512"/>
                  </a:lnTo>
                  <a:lnTo>
                    <a:pt x="3264" y="8507"/>
                  </a:lnTo>
                  <a:lnTo>
                    <a:pt x="3219" y="8504"/>
                  </a:lnTo>
                  <a:lnTo>
                    <a:pt x="3171" y="8502"/>
                  </a:lnTo>
                  <a:lnTo>
                    <a:pt x="3120" y="8500"/>
                  </a:lnTo>
                  <a:lnTo>
                    <a:pt x="3066" y="8498"/>
                  </a:lnTo>
                  <a:lnTo>
                    <a:pt x="2953" y="8498"/>
                  </a:lnTo>
                  <a:lnTo>
                    <a:pt x="2832" y="8498"/>
                  </a:lnTo>
                  <a:lnTo>
                    <a:pt x="2707" y="8501"/>
                  </a:lnTo>
                  <a:lnTo>
                    <a:pt x="2580" y="8503"/>
                  </a:lnTo>
                  <a:lnTo>
                    <a:pt x="2452" y="8506"/>
                  </a:lnTo>
                  <a:lnTo>
                    <a:pt x="2327" y="8508"/>
                  </a:lnTo>
                  <a:lnTo>
                    <a:pt x="2206" y="8508"/>
                  </a:lnTo>
                  <a:lnTo>
                    <a:pt x="2093" y="8508"/>
                  </a:lnTo>
                  <a:lnTo>
                    <a:pt x="2039" y="8507"/>
                  </a:lnTo>
                  <a:lnTo>
                    <a:pt x="1988" y="8504"/>
                  </a:lnTo>
                  <a:lnTo>
                    <a:pt x="1940" y="8502"/>
                  </a:lnTo>
                  <a:lnTo>
                    <a:pt x="1896" y="8500"/>
                  </a:lnTo>
                  <a:lnTo>
                    <a:pt x="1854" y="8495"/>
                  </a:lnTo>
                  <a:lnTo>
                    <a:pt x="1816" y="8490"/>
                  </a:lnTo>
                  <a:lnTo>
                    <a:pt x="1783" y="8485"/>
                  </a:lnTo>
                  <a:lnTo>
                    <a:pt x="1753" y="847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5410080" y="2611440"/>
              <a:ext cx="2032200" cy="2665440"/>
            </a:xfrm>
            <a:custGeom>
              <a:avLst/>
              <a:gdLst/>
              <a:ahLst/>
              <a:rect l="l" t="t" r="r" b="b"/>
              <a:pathLst>
                <a:path w="6400" h="8399">
                  <a:moveTo>
                    <a:pt x="1757" y="8315"/>
                  </a:moveTo>
                  <a:lnTo>
                    <a:pt x="1730" y="8306"/>
                  </a:lnTo>
                  <a:lnTo>
                    <a:pt x="1705" y="8298"/>
                  </a:lnTo>
                  <a:lnTo>
                    <a:pt x="1682" y="8289"/>
                  </a:lnTo>
                  <a:lnTo>
                    <a:pt x="1659" y="8279"/>
                  </a:lnTo>
                  <a:lnTo>
                    <a:pt x="1638" y="8270"/>
                  </a:lnTo>
                  <a:lnTo>
                    <a:pt x="1618" y="8258"/>
                  </a:lnTo>
                  <a:lnTo>
                    <a:pt x="1600" y="8247"/>
                  </a:lnTo>
                  <a:lnTo>
                    <a:pt x="1582" y="8236"/>
                  </a:lnTo>
                  <a:lnTo>
                    <a:pt x="1565" y="8224"/>
                  </a:lnTo>
                  <a:lnTo>
                    <a:pt x="1550" y="8213"/>
                  </a:lnTo>
                  <a:lnTo>
                    <a:pt x="1536" y="8201"/>
                  </a:lnTo>
                  <a:lnTo>
                    <a:pt x="1522" y="8188"/>
                  </a:lnTo>
                  <a:lnTo>
                    <a:pt x="1499" y="8165"/>
                  </a:lnTo>
                  <a:lnTo>
                    <a:pt x="1479" y="8140"/>
                  </a:lnTo>
                  <a:lnTo>
                    <a:pt x="1462" y="8118"/>
                  </a:lnTo>
                  <a:lnTo>
                    <a:pt x="1448" y="8097"/>
                  </a:lnTo>
                  <a:lnTo>
                    <a:pt x="1437" y="8078"/>
                  </a:lnTo>
                  <a:lnTo>
                    <a:pt x="1430" y="8060"/>
                  </a:lnTo>
                  <a:lnTo>
                    <a:pt x="1420" y="8036"/>
                  </a:lnTo>
                  <a:lnTo>
                    <a:pt x="1416" y="8026"/>
                  </a:lnTo>
                  <a:lnTo>
                    <a:pt x="1405" y="8011"/>
                  </a:lnTo>
                  <a:lnTo>
                    <a:pt x="1395" y="7992"/>
                  </a:lnTo>
                  <a:lnTo>
                    <a:pt x="1387" y="7966"/>
                  </a:lnTo>
                  <a:lnTo>
                    <a:pt x="1379" y="7936"/>
                  </a:lnTo>
                  <a:lnTo>
                    <a:pt x="1373" y="7902"/>
                  </a:lnTo>
                  <a:lnTo>
                    <a:pt x="1368" y="7864"/>
                  </a:lnTo>
                  <a:lnTo>
                    <a:pt x="1365" y="7822"/>
                  </a:lnTo>
                  <a:lnTo>
                    <a:pt x="1362" y="7776"/>
                  </a:lnTo>
                  <a:lnTo>
                    <a:pt x="1360" y="7728"/>
                  </a:lnTo>
                  <a:lnTo>
                    <a:pt x="1360" y="7677"/>
                  </a:lnTo>
                  <a:lnTo>
                    <a:pt x="1360" y="7623"/>
                  </a:lnTo>
                  <a:lnTo>
                    <a:pt x="1360" y="7566"/>
                  </a:lnTo>
                  <a:lnTo>
                    <a:pt x="1363" y="7447"/>
                  </a:lnTo>
                  <a:lnTo>
                    <a:pt x="1370" y="7321"/>
                  </a:lnTo>
                  <a:lnTo>
                    <a:pt x="1378" y="7192"/>
                  </a:lnTo>
                  <a:lnTo>
                    <a:pt x="1387" y="7060"/>
                  </a:lnTo>
                  <a:lnTo>
                    <a:pt x="1398" y="6930"/>
                  </a:lnTo>
                  <a:lnTo>
                    <a:pt x="1408" y="6802"/>
                  </a:lnTo>
                  <a:lnTo>
                    <a:pt x="1427" y="6564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4" y="5968"/>
                  </a:lnTo>
                  <a:lnTo>
                    <a:pt x="5452" y="6102"/>
                  </a:lnTo>
                  <a:lnTo>
                    <a:pt x="5449" y="6250"/>
                  </a:lnTo>
                  <a:lnTo>
                    <a:pt x="5447" y="6407"/>
                  </a:lnTo>
                  <a:lnTo>
                    <a:pt x="5438" y="6742"/>
                  </a:lnTo>
                  <a:lnTo>
                    <a:pt x="5428" y="7081"/>
                  </a:lnTo>
                  <a:lnTo>
                    <a:pt x="5418" y="7402"/>
                  </a:lnTo>
                  <a:lnTo>
                    <a:pt x="5411" y="7678"/>
                  </a:lnTo>
                  <a:lnTo>
                    <a:pt x="5405" y="7886"/>
                  </a:lnTo>
                  <a:lnTo>
                    <a:pt x="5402" y="7999"/>
                  </a:lnTo>
                  <a:lnTo>
                    <a:pt x="5401" y="8014"/>
                  </a:lnTo>
                  <a:lnTo>
                    <a:pt x="5397" y="8027"/>
                  </a:lnTo>
                  <a:lnTo>
                    <a:pt x="5390" y="8041"/>
                  </a:lnTo>
                  <a:lnTo>
                    <a:pt x="5380" y="8054"/>
                  </a:lnTo>
                  <a:lnTo>
                    <a:pt x="5369" y="8067"/>
                  </a:lnTo>
                  <a:lnTo>
                    <a:pt x="5356" y="8078"/>
                  </a:lnTo>
                  <a:lnTo>
                    <a:pt x="5340" y="8089"/>
                  </a:lnTo>
                  <a:lnTo>
                    <a:pt x="5322" y="8100"/>
                  </a:lnTo>
                  <a:lnTo>
                    <a:pt x="5303" y="8110"/>
                  </a:lnTo>
                  <a:lnTo>
                    <a:pt x="5282" y="8121"/>
                  </a:lnTo>
                  <a:lnTo>
                    <a:pt x="5260" y="8129"/>
                  </a:lnTo>
                  <a:lnTo>
                    <a:pt x="5235" y="8139"/>
                  </a:lnTo>
                  <a:lnTo>
                    <a:pt x="5185" y="8156"/>
                  </a:lnTo>
                  <a:lnTo>
                    <a:pt x="5131" y="8172"/>
                  </a:lnTo>
                  <a:lnTo>
                    <a:pt x="5017" y="8203"/>
                  </a:lnTo>
                  <a:lnTo>
                    <a:pt x="4905" y="8231"/>
                  </a:lnTo>
                  <a:lnTo>
                    <a:pt x="4852" y="8245"/>
                  </a:lnTo>
                  <a:lnTo>
                    <a:pt x="4803" y="8258"/>
                  </a:lnTo>
                  <a:lnTo>
                    <a:pt x="4759" y="8273"/>
                  </a:lnTo>
                  <a:lnTo>
                    <a:pt x="4721" y="8287"/>
                  </a:lnTo>
                  <a:lnTo>
                    <a:pt x="4701" y="8294"/>
                  </a:lnTo>
                  <a:lnTo>
                    <a:pt x="4679" y="8302"/>
                  </a:lnTo>
                  <a:lnTo>
                    <a:pt x="4652" y="8309"/>
                  </a:lnTo>
                  <a:lnTo>
                    <a:pt x="4624" y="8316"/>
                  </a:lnTo>
                  <a:lnTo>
                    <a:pt x="4590" y="8324"/>
                  </a:lnTo>
                  <a:lnTo>
                    <a:pt x="4556" y="8331"/>
                  </a:lnTo>
                  <a:lnTo>
                    <a:pt x="4518" y="8337"/>
                  </a:lnTo>
                  <a:lnTo>
                    <a:pt x="4478" y="8343"/>
                  </a:lnTo>
                  <a:lnTo>
                    <a:pt x="4394" y="8357"/>
                  </a:lnTo>
                  <a:lnTo>
                    <a:pt x="4301" y="8368"/>
                  </a:lnTo>
                  <a:lnTo>
                    <a:pt x="4204" y="8378"/>
                  </a:lnTo>
                  <a:lnTo>
                    <a:pt x="4104" y="8385"/>
                  </a:lnTo>
                  <a:lnTo>
                    <a:pt x="4004" y="8393"/>
                  </a:lnTo>
                  <a:lnTo>
                    <a:pt x="3903" y="8396"/>
                  </a:lnTo>
                  <a:lnTo>
                    <a:pt x="3853" y="8397"/>
                  </a:lnTo>
                  <a:lnTo>
                    <a:pt x="3806" y="8399"/>
                  </a:lnTo>
                  <a:lnTo>
                    <a:pt x="3758" y="8399"/>
                  </a:lnTo>
                  <a:lnTo>
                    <a:pt x="3711" y="8399"/>
                  </a:lnTo>
                  <a:lnTo>
                    <a:pt x="3666" y="8396"/>
                  </a:lnTo>
                  <a:lnTo>
                    <a:pt x="3623" y="8395"/>
                  </a:lnTo>
                  <a:lnTo>
                    <a:pt x="3582" y="8393"/>
                  </a:lnTo>
                  <a:lnTo>
                    <a:pt x="3542" y="8389"/>
                  </a:lnTo>
                  <a:lnTo>
                    <a:pt x="3505" y="8384"/>
                  </a:lnTo>
                  <a:lnTo>
                    <a:pt x="3471" y="8379"/>
                  </a:lnTo>
                  <a:lnTo>
                    <a:pt x="3440" y="8373"/>
                  </a:lnTo>
                  <a:lnTo>
                    <a:pt x="3411" y="8365"/>
                  </a:lnTo>
                  <a:lnTo>
                    <a:pt x="3382" y="8359"/>
                  </a:lnTo>
                  <a:lnTo>
                    <a:pt x="3348" y="8353"/>
                  </a:lnTo>
                  <a:lnTo>
                    <a:pt x="3311" y="8348"/>
                  </a:lnTo>
                  <a:lnTo>
                    <a:pt x="3269" y="8345"/>
                  </a:lnTo>
                  <a:lnTo>
                    <a:pt x="3225" y="8341"/>
                  </a:lnTo>
                  <a:lnTo>
                    <a:pt x="3177" y="8338"/>
                  </a:lnTo>
                  <a:lnTo>
                    <a:pt x="3125" y="8337"/>
                  </a:lnTo>
                  <a:lnTo>
                    <a:pt x="3072" y="8336"/>
                  </a:lnTo>
                  <a:lnTo>
                    <a:pt x="2958" y="8335"/>
                  </a:lnTo>
                  <a:lnTo>
                    <a:pt x="2837" y="8336"/>
                  </a:lnTo>
                  <a:lnTo>
                    <a:pt x="2712" y="8338"/>
                  </a:lnTo>
                  <a:lnTo>
                    <a:pt x="2585" y="8340"/>
                  </a:lnTo>
                  <a:lnTo>
                    <a:pt x="2457" y="8342"/>
                  </a:lnTo>
                  <a:lnTo>
                    <a:pt x="2332" y="8345"/>
                  </a:lnTo>
                  <a:lnTo>
                    <a:pt x="2211" y="8346"/>
                  </a:lnTo>
                  <a:lnTo>
                    <a:pt x="2097" y="8345"/>
                  </a:lnTo>
                  <a:lnTo>
                    <a:pt x="2044" y="8343"/>
                  </a:lnTo>
                  <a:lnTo>
                    <a:pt x="1992" y="8342"/>
                  </a:lnTo>
                  <a:lnTo>
                    <a:pt x="1944" y="8340"/>
                  </a:lnTo>
                  <a:lnTo>
                    <a:pt x="1900" y="8336"/>
                  </a:lnTo>
                  <a:lnTo>
                    <a:pt x="1858" y="8332"/>
                  </a:lnTo>
                  <a:lnTo>
                    <a:pt x="1820" y="8327"/>
                  </a:lnTo>
                  <a:lnTo>
                    <a:pt x="1785" y="8321"/>
                  </a:lnTo>
                  <a:lnTo>
                    <a:pt x="1757" y="8315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5410080" y="2611440"/>
              <a:ext cx="2032200" cy="2614680"/>
            </a:xfrm>
            <a:custGeom>
              <a:avLst/>
              <a:gdLst/>
              <a:ahLst/>
              <a:rect l="l" t="t" r="r" b="b"/>
              <a:pathLst>
                <a:path w="6400" h="8239">
                  <a:moveTo>
                    <a:pt x="1762" y="8151"/>
                  </a:moveTo>
                  <a:lnTo>
                    <a:pt x="1736" y="8144"/>
                  </a:lnTo>
                  <a:lnTo>
                    <a:pt x="1710" y="8135"/>
                  </a:lnTo>
                  <a:lnTo>
                    <a:pt x="1687" y="8126"/>
                  </a:lnTo>
                  <a:lnTo>
                    <a:pt x="1665" y="8117"/>
                  </a:lnTo>
                  <a:lnTo>
                    <a:pt x="1644" y="8106"/>
                  </a:lnTo>
                  <a:lnTo>
                    <a:pt x="1624" y="8096"/>
                  </a:lnTo>
                  <a:lnTo>
                    <a:pt x="1605" y="8085"/>
                  </a:lnTo>
                  <a:lnTo>
                    <a:pt x="1587" y="8073"/>
                  </a:lnTo>
                  <a:lnTo>
                    <a:pt x="1571" y="8062"/>
                  </a:lnTo>
                  <a:lnTo>
                    <a:pt x="1555" y="8049"/>
                  </a:lnTo>
                  <a:lnTo>
                    <a:pt x="1542" y="8038"/>
                  </a:lnTo>
                  <a:lnTo>
                    <a:pt x="1528" y="8026"/>
                  </a:lnTo>
                  <a:lnTo>
                    <a:pt x="1504" y="8001"/>
                  </a:lnTo>
                  <a:lnTo>
                    <a:pt x="1484" y="7978"/>
                  </a:lnTo>
                  <a:lnTo>
                    <a:pt x="1468" y="7955"/>
                  </a:lnTo>
                  <a:lnTo>
                    <a:pt x="1453" y="7934"/>
                  </a:lnTo>
                  <a:lnTo>
                    <a:pt x="1443" y="7914"/>
                  </a:lnTo>
                  <a:lnTo>
                    <a:pt x="1435" y="7898"/>
                  </a:lnTo>
                  <a:lnTo>
                    <a:pt x="1425" y="7872"/>
                  </a:lnTo>
                  <a:lnTo>
                    <a:pt x="1422" y="7864"/>
                  </a:lnTo>
                  <a:lnTo>
                    <a:pt x="1410" y="7849"/>
                  </a:lnTo>
                  <a:lnTo>
                    <a:pt x="1400" y="7830"/>
                  </a:lnTo>
                  <a:lnTo>
                    <a:pt x="1392" y="7807"/>
                  </a:lnTo>
                  <a:lnTo>
                    <a:pt x="1384" y="7781"/>
                  </a:lnTo>
                  <a:lnTo>
                    <a:pt x="1377" y="7750"/>
                  </a:lnTo>
                  <a:lnTo>
                    <a:pt x="1372" y="7717"/>
                  </a:lnTo>
                  <a:lnTo>
                    <a:pt x="1368" y="7680"/>
                  </a:lnTo>
                  <a:lnTo>
                    <a:pt x="1366" y="7640"/>
                  </a:lnTo>
                  <a:lnTo>
                    <a:pt x="1363" y="7598"/>
                  </a:lnTo>
                  <a:lnTo>
                    <a:pt x="1362" y="7552"/>
                  </a:lnTo>
                  <a:lnTo>
                    <a:pt x="1362" y="7506"/>
                  </a:lnTo>
                  <a:lnTo>
                    <a:pt x="1362" y="7455"/>
                  </a:lnTo>
                  <a:lnTo>
                    <a:pt x="1366" y="7351"/>
                  </a:lnTo>
                  <a:lnTo>
                    <a:pt x="1372" y="7241"/>
                  </a:lnTo>
                  <a:lnTo>
                    <a:pt x="1379" y="7127"/>
                  </a:lnTo>
                  <a:lnTo>
                    <a:pt x="1388" y="7010"/>
                  </a:lnTo>
                  <a:lnTo>
                    <a:pt x="1398" y="6893"/>
                  </a:lnTo>
                  <a:lnTo>
                    <a:pt x="1408" y="6778"/>
                  </a:lnTo>
                  <a:lnTo>
                    <a:pt x="1418" y="6664"/>
                  </a:lnTo>
                  <a:lnTo>
                    <a:pt x="1427" y="6556"/>
                  </a:lnTo>
                  <a:lnTo>
                    <a:pt x="1435" y="6455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4" y="5966"/>
                  </a:lnTo>
                  <a:lnTo>
                    <a:pt x="5452" y="6095"/>
                  </a:lnTo>
                  <a:lnTo>
                    <a:pt x="5450" y="6234"/>
                  </a:lnTo>
                  <a:lnTo>
                    <a:pt x="5447" y="6381"/>
                  </a:lnTo>
                  <a:lnTo>
                    <a:pt x="5439" y="6690"/>
                  </a:lnTo>
                  <a:lnTo>
                    <a:pt x="5431" y="7000"/>
                  </a:lnTo>
                  <a:lnTo>
                    <a:pt x="5422" y="7290"/>
                  </a:lnTo>
                  <a:lnTo>
                    <a:pt x="5415" y="7540"/>
                  </a:lnTo>
                  <a:lnTo>
                    <a:pt x="5410" y="7730"/>
                  </a:lnTo>
                  <a:lnTo>
                    <a:pt x="5409" y="7837"/>
                  </a:lnTo>
                  <a:lnTo>
                    <a:pt x="5406" y="7851"/>
                  </a:lnTo>
                  <a:lnTo>
                    <a:pt x="5402" y="7865"/>
                  </a:lnTo>
                  <a:lnTo>
                    <a:pt x="5395" y="7878"/>
                  </a:lnTo>
                  <a:lnTo>
                    <a:pt x="5386" y="7891"/>
                  </a:lnTo>
                  <a:lnTo>
                    <a:pt x="5374" y="7903"/>
                  </a:lnTo>
                  <a:lnTo>
                    <a:pt x="5361" y="7915"/>
                  </a:lnTo>
                  <a:lnTo>
                    <a:pt x="5345" y="7926"/>
                  </a:lnTo>
                  <a:lnTo>
                    <a:pt x="5327" y="7937"/>
                  </a:lnTo>
                  <a:lnTo>
                    <a:pt x="5308" y="7947"/>
                  </a:lnTo>
                  <a:lnTo>
                    <a:pt x="5287" y="7958"/>
                  </a:lnTo>
                  <a:lnTo>
                    <a:pt x="5263" y="7967"/>
                  </a:lnTo>
                  <a:lnTo>
                    <a:pt x="5240" y="7977"/>
                  </a:lnTo>
                  <a:lnTo>
                    <a:pt x="5190" y="7994"/>
                  </a:lnTo>
                  <a:lnTo>
                    <a:pt x="5135" y="8011"/>
                  </a:lnTo>
                  <a:lnTo>
                    <a:pt x="5022" y="8042"/>
                  </a:lnTo>
                  <a:lnTo>
                    <a:pt x="4909" y="8070"/>
                  </a:lnTo>
                  <a:lnTo>
                    <a:pt x="4856" y="8085"/>
                  </a:lnTo>
                  <a:lnTo>
                    <a:pt x="4808" y="8099"/>
                  </a:lnTo>
                  <a:lnTo>
                    <a:pt x="4764" y="8112"/>
                  </a:lnTo>
                  <a:lnTo>
                    <a:pt x="4726" y="8127"/>
                  </a:lnTo>
                  <a:lnTo>
                    <a:pt x="4707" y="8134"/>
                  </a:lnTo>
                  <a:lnTo>
                    <a:pt x="4684" y="8142"/>
                  </a:lnTo>
                  <a:lnTo>
                    <a:pt x="4658" y="8149"/>
                  </a:lnTo>
                  <a:lnTo>
                    <a:pt x="4629" y="8156"/>
                  </a:lnTo>
                  <a:lnTo>
                    <a:pt x="4597" y="8164"/>
                  </a:lnTo>
                  <a:lnTo>
                    <a:pt x="4561" y="8170"/>
                  </a:lnTo>
                  <a:lnTo>
                    <a:pt x="4524" y="8177"/>
                  </a:lnTo>
                  <a:lnTo>
                    <a:pt x="4483" y="8183"/>
                  </a:lnTo>
                  <a:lnTo>
                    <a:pt x="4398" y="8196"/>
                  </a:lnTo>
                  <a:lnTo>
                    <a:pt x="4306" y="8207"/>
                  </a:lnTo>
                  <a:lnTo>
                    <a:pt x="4210" y="8217"/>
                  </a:lnTo>
                  <a:lnTo>
                    <a:pt x="4109" y="8225"/>
                  </a:lnTo>
                  <a:lnTo>
                    <a:pt x="4009" y="8231"/>
                  </a:lnTo>
                  <a:lnTo>
                    <a:pt x="3909" y="8236"/>
                  </a:lnTo>
                  <a:lnTo>
                    <a:pt x="3860" y="8238"/>
                  </a:lnTo>
                  <a:lnTo>
                    <a:pt x="3810" y="8239"/>
                  </a:lnTo>
                  <a:lnTo>
                    <a:pt x="3762" y="8239"/>
                  </a:lnTo>
                  <a:lnTo>
                    <a:pt x="3717" y="8238"/>
                  </a:lnTo>
                  <a:lnTo>
                    <a:pt x="3671" y="8236"/>
                  </a:lnTo>
                  <a:lnTo>
                    <a:pt x="3628" y="8235"/>
                  </a:lnTo>
                  <a:lnTo>
                    <a:pt x="3587" y="8231"/>
                  </a:lnTo>
                  <a:lnTo>
                    <a:pt x="3548" y="8228"/>
                  </a:lnTo>
                  <a:lnTo>
                    <a:pt x="3511" y="8224"/>
                  </a:lnTo>
                  <a:lnTo>
                    <a:pt x="3477" y="8219"/>
                  </a:lnTo>
                  <a:lnTo>
                    <a:pt x="3445" y="8213"/>
                  </a:lnTo>
                  <a:lnTo>
                    <a:pt x="3417" y="8206"/>
                  </a:lnTo>
                  <a:lnTo>
                    <a:pt x="3387" y="8199"/>
                  </a:lnTo>
                  <a:lnTo>
                    <a:pt x="3354" y="8193"/>
                  </a:lnTo>
                  <a:lnTo>
                    <a:pt x="3316" y="8188"/>
                  </a:lnTo>
                  <a:lnTo>
                    <a:pt x="3275" y="8185"/>
                  </a:lnTo>
                  <a:lnTo>
                    <a:pt x="3230" y="8181"/>
                  </a:lnTo>
                  <a:lnTo>
                    <a:pt x="3182" y="8179"/>
                  </a:lnTo>
                  <a:lnTo>
                    <a:pt x="3131" y="8176"/>
                  </a:lnTo>
                  <a:lnTo>
                    <a:pt x="3077" y="8175"/>
                  </a:lnTo>
                  <a:lnTo>
                    <a:pt x="2964" y="8174"/>
                  </a:lnTo>
                  <a:lnTo>
                    <a:pt x="2843" y="8175"/>
                  </a:lnTo>
                  <a:lnTo>
                    <a:pt x="2718" y="8176"/>
                  </a:lnTo>
                  <a:lnTo>
                    <a:pt x="2590" y="8179"/>
                  </a:lnTo>
                  <a:lnTo>
                    <a:pt x="2462" y="8181"/>
                  </a:lnTo>
                  <a:lnTo>
                    <a:pt x="2338" y="8182"/>
                  </a:lnTo>
                  <a:lnTo>
                    <a:pt x="2216" y="8183"/>
                  </a:lnTo>
                  <a:lnTo>
                    <a:pt x="2103" y="8182"/>
                  </a:lnTo>
                  <a:lnTo>
                    <a:pt x="2049" y="8181"/>
                  </a:lnTo>
                  <a:lnTo>
                    <a:pt x="1998" y="8179"/>
                  </a:lnTo>
                  <a:lnTo>
                    <a:pt x="1950" y="8176"/>
                  </a:lnTo>
                  <a:lnTo>
                    <a:pt x="1905" y="8174"/>
                  </a:lnTo>
                  <a:lnTo>
                    <a:pt x="1863" y="8169"/>
                  </a:lnTo>
                  <a:lnTo>
                    <a:pt x="1825" y="8164"/>
                  </a:lnTo>
                  <a:lnTo>
                    <a:pt x="1792" y="8159"/>
                  </a:lnTo>
                  <a:lnTo>
                    <a:pt x="1762" y="8151"/>
                  </a:lnTo>
                  <a:close/>
                </a:path>
              </a:pathLst>
            </a:custGeom>
            <a:solidFill>
              <a:srgbClr val="e8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5410080" y="2611440"/>
              <a:ext cx="2032200" cy="2563920"/>
            </a:xfrm>
            <a:custGeom>
              <a:avLst/>
              <a:gdLst/>
              <a:ahLst/>
              <a:rect l="l" t="t" r="r" b="b"/>
              <a:pathLst>
                <a:path w="6400" h="8075">
                  <a:moveTo>
                    <a:pt x="1767" y="7992"/>
                  </a:moveTo>
                  <a:lnTo>
                    <a:pt x="1741" y="7983"/>
                  </a:lnTo>
                  <a:lnTo>
                    <a:pt x="1717" y="7976"/>
                  </a:lnTo>
                  <a:lnTo>
                    <a:pt x="1692" y="7966"/>
                  </a:lnTo>
                  <a:lnTo>
                    <a:pt x="1670" y="7956"/>
                  </a:lnTo>
                  <a:lnTo>
                    <a:pt x="1649" y="7946"/>
                  </a:lnTo>
                  <a:lnTo>
                    <a:pt x="1629" y="7935"/>
                  </a:lnTo>
                  <a:lnTo>
                    <a:pt x="1611" y="7924"/>
                  </a:lnTo>
                  <a:lnTo>
                    <a:pt x="1592" y="7913"/>
                  </a:lnTo>
                  <a:lnTo>
                    <a:pt x="1576" y="7901"/>
                  </a:lnTo>
                  <a:lnTo>
                    <a:pt x="1561" y="7889"/>
                  </a:lnTo>
                  <a:lnTo>
                    <a:pt x="1547" y="7877"/>
                  </a:lnTo>
                  <a:lnTo>
                    <a:pt x="1533" y="7865"/>
                  </a:lnTo>
                  <a:lnTo>
                    <a:pt x="1510" y="7840"/>
                  </a:lnTo>
                  <a:lnTo>
                    <a:pt x="1490" y="7817"/>
                  </a:lnTo>
                  <a:lnTo>
                    <a:pt x="1473" y="7794"/>
                  </a:lnTo>
                  <a:lnTo>
                    <a:pt x="1459" y="7771"/>
                  </a:lnTo>
                  <a:lnTo>
                    <a:pt x="1448" y="7752"/>
                  </a:lnTo>
                  <a:lnTo>
                    <a:pt x="1440" y="7734"/>
                  </a:lnTo>
                  <a:lnTo>
                    <a:pt x="1431" y="7710"/>
                  </a:lnTo>
                  <a:lnTo>
                    <a:pt x="1427" y="7700"/>
                  </a:lnTo>
                  <a:lnTo>
                    <a:pt x="1416" y="7687"/>
                  </a:lnTo>
                  <a:lnTo>
                    <a:pt x="1405" y="7669"/>
                  </a:lnTo>
                  <a:lnTo>
                    <a:pt x="1397" y="7648"/>
                  </a:lnTo>
                  <a:lnTo>
                    <a:pt x="1389" y="7625"/>
                  </a:lnTo>
                  <a:lnTo>
                    <a:pt x="1383" y="7598"/>
                  </a:lnTo>
                  <a:lnTo>
                    <a:pt x="1377" y="7570"/>
                  </a:lnTo>
                  <a:lnTo>
                    <a:pt x="1373" y="7538"/>
                  </a:lnTo>
                  <a:lnTo>
                    <a:pt x="1370" y="7503"/>
                  </a:lnTo>
                  <a:lnTo>
                    <a:pt x="1367" y="7466"/>
                  </a:lnTo>
                  <a:lnTo>
                    <a:pt x="1366" y="7427"/>
                  </a:lnTo>
                  <a:lnTo>
                    <a:pt x="1366" y="7386"/>
                  </a:lnTo>
                  <a:lnTo>
                    <a:pt x="1366" y="7345"/>
                  </a:lnTo>
                  <a:lnTo>
                    <a:pt x="1370" y="7255"/>
                  </a:lnTo>
                  <a:lnTo>
                    <a:pt x="1374" y="7159"/>
                  </a:lnTo>
                  <a:lnTo>
                    <a:pt x="1382" y="7060"/>
                  </a:lnTo>
                  <a:lnTo>
                    <a:pt x="1390" y="6958"/>
                  </a:lnTo>
                  <a:lnTo>
                    <a:pt x="1399" y="6855"/>
                  </a:lnTo>
                  <a:lnTo>
                    <a:pt x="1409" y="6752"/>
                  </a:lnTo>
                  <a:lnTo>
                    <a:pt x="1419" y="6650"/>
                  </a:lnTo>
                  <a:lnTo>
                    <a:pt x="1427" y="6549"/>
                  </a:lnTo>
                  <a:lnTo>
                    <a:pt x="1435" y="6453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3" y="6088"/>
                  </a:lnTo>
                  <a:lnTo>
                    <a:pt x="5448" y="6357"/>
                  </a:lnTo>
                  <a:lnTo>
                    <a:pt x="5442" y="6640"/>
                  </a:lnTo>
                  <a:lnTo>
                    <a:pt x="5434" y="6920"/>
                  </a:lnTo>
                  <a:lnTo>
                    <a:pt x="5426" y="7181"/>
                  </a:lnTo>
                  <a:lnTo>
                    <a:pt x="5420" y="7405"/>
                  </a:lnTo>
                  <a:lnTo>
                    <a:pt x="5415" y="7576"/>
                  </a:lnTo>
                  <a:lnTo>
                    <a:pt x="5413" y="7677"/>
                  </a:lnTo>
                  <a:lnTo>
                    <a:pt x="5412" y="7690"/>
                  </a:lnTo>
                  <a:lnTo>
                    <a:pt x="5407" y="7705"/>
                  </a:lnTo>
                  <a:lnTo>
                    <a:pt x="5401" y="7717"/>
                  </a:lnTo>
                  <a:lnTo>
                    <a:pt x="5391" y="7731"/>
                  </a:lnTo>
                  <a:lnTo>
                    <a:pt x="5380" y="7743"/>
                  </a:lnTo>
                  <a:lnTo>
                    <a:pt x="5365" y="7754"/>
                  </a:lnTo>
                  <a:lnTo>
                    <a:pt x="5351" y="7765"/>
                  </a:lnTo>
                  <a:lnTo>
                    <a:pt x="5332" y="7776"/>
                  </a:lnTo>
                  <a:lnTo>
                    <a:pt x="5313" y="7787"/>
                  </a:lnTo>
                  <a:lnTo>
                    <a:pt x="5292" y="7797"/>
                  </a:lnTo>
                  <a:lnTo>
                    <a:pt x="5270" y="7807"/>
                  </a:lnTo>
                  <a:lnTo>
                    <a:pt x="5246" y="7816"/>
                  </a:lnTo>
                  <a:lnTo>
                    <a:pt x="5194" y="7833"/>
                  </a:lnTo>
                  <a:lnTo>
                    <a:pt x="5140" y="7850"/>
                  </a:lnTo>
                  <a:lnTo>
                    <a:pt x="5027" y="7880"/>
                  </a:lnTo>
                  <a:lnTo>
                    <a:pt x="4915" y="7908"/>
                  </a:lnTo>
                  <a:lnTo>
                    <a:pt x="4862" y="7921"/>
                  </a:lnTo>
                  <a:lnTo>
                    <a:pt x="4813" y="7935"/>
                  </a:lnTo>
                  <a:lnTo>
                    <a:pt x="4791" y="7942"/>
                  </a:lnTo>
                  <a:lnTo>
                    <a:pt x="4769" y="7950"/>
                  </a:lnTo>
                  <a:lnTo>
                    <a:pt x="4749" y="7957"/>
                  </a:lnTo>
                  <a:lnTo>
                    <a:pt x="4732" y="7965"/>
                  </a:lnTo>
                  <a:lnTo>
                    <a:pt x="4712" y="7972"/>
                  </a:lnTo>
                  <a:lnTo>
                    <a:pt x="4690" y="7979"/>
                  </a:lnTo>
                  <a:lnTo>
                    <a:pt x="4663" y="7987"/>
                  </a:lnTo>
                  <a:lnTo>
                    <a:pt x="4633" y="7993"/>
                  </a:lnTo>
                  <a:lnTo>
                    <a:pt x="4601" y="8000"/>
                  </a:lnTo>
                  <a:lnTo>
                    <a:pt x="4567" y="8008"/>
                  </a:lnTo>
                  <a:lnTo>
                    <a:pt x="4529" y="8014"/>
                  </a:lnTo>
                  <a:lnTo>
                    <a:pt x="4490" y="8021"/>
                  </a:lnTo>
                  <a:lnTo>
                    <a:pt x="4403" y="8033"/>
                  </a:lnTo>
                  <a:lnTo>
                    <a:pt x="4312" y="8044"/>
                  </a:lnTo>
                  <a:lnTo>
                    <a:pt x="4215" y="8054"/>
                  </a:lnTo>
                  <a:lnTo>
                    <a:pt x="4116" y="8063"/>
                  </a:lnTo>
                  <a:lnTo>
                    <a:pt x="4015" y="8069"/>
                  </a:lnTo>
                  <a:lnTo>
                    <a:pt x="3914" y="8073"/>
                  </a:lnTo>
                  <a:lnTo>
                    <a:pt x="3865" y="8075"/>
                  </a:lnTo>
                  <a:lnTo>
                    <a:pt x="3817" y="8075"/>
                  </a:lnTo>
                  <a:lnTo>
                    <a:pt x="3769" y="8075"/>
                  </a:lnTo>
                  <a:lnTo>
                    <a:pt x="3722" y="8075"/>
                  </a:lnTo>
                  <a:lnTo>
                    <a:pt x="3678" y="8074"/>
                  </a:lnTo>
                  <a:lnTo>
                    <a:pt x="3633" y="8072"/>
                  </a:lnTo>
                  <a:lnTo>
                    <a:pt x="3593" y="8069"/>
                  </a:lnTo>
                  <a:lnTo>
                    <a:pt x="3553" y="8065"/>
                  </a:lnTo>
                  <a:lnTo>
                    <a:pt x="3516" y="8060"/>
                  </a:lnTo>
                  <a:lnTo>
                    <a:pt x="3482" y="8056"/>
                  </a:lnTo>
                  <a:lnTo>
                    <a:pt x="3450" y="8049"/>
                  </a:lnTo>
                  <a:lnTo>
                    <a:pt x="3422" y="8043"/>
                  </a:lnTo>
                  <a:lnTo>
                    <a:pt x="3392" y="8036"/>
                  </a:lnTo>
                  <a:lnTo>
                    <a:pt x="3359" y="8030"/>
                  </a:lnTo>
                  <a:lnTo>
                    <a:pt x="3321" y="8025"/>
                  </a:lnTo>
                  <a:lnTo>
                    <a:pt x="3279" y="8021"/>
                  </a:lnTo>
                  <a:lnTo>
                    <a:pt x="3235" y="8017"/>
                  </a:lnTo>
                  <a:lnTo>
                    <a:pt x="3185" y="8015"/>
                  </a:lnTo>
                  <a:lnTo>
                    <a:pt x="3135" y="8014"/>
                  </a:lnTo>
                  <a:lnTo>
                    <a:pt x="3081" y="8012"/>
                  </a:lnTo>
                  <a:lnTo>
                    <a:pt x="2968" y="8011"/>
                  </a:lnTo>
                  <a:lnTo>
                    <a:pt x="2847" y="8012"/>
                  </a:lnTo>
                  <a:lnTo>
                    <a:pt x="2722" y="8014"/>
                  </a:lnTo>
                  <a:lnTo>
                    <a:pt x="2594" y="8016"/>
                  </a:lnTo>
                  <a:lnTo>
                    <a:pt x="2466" y="8019"/>
                  </a:lnTo>
                  <a:lnTo>
                    <a:pt x="2340" y="8020"/>
                  </a:lnTo>
                  <a:lnTo>
                    <a:pt x="2220" y="8021"/>
                  </a:lnTo>
                  <a:lnTo>
                    <a:pt x="2107" y="8020"/>
                  </a:lnTo>
                  <a:lnTo>
                    <a:pt x="2052" y="8019"/>
                  </a:lnTo>
                  <a:lnTo>
                    <a:pt x="2002" y="8017"/>
                  </a:lnTo>
                  <a:lnTo>
                    <a:pt x="1954" y="8015"/>
                  </a:lnTo>
                  <a:lnTo>
                    <a:pt x="1910" y="8012"/>
                  </a:lnTo>
                  <a:lnTo>
                    <a:pt x="1868" y="8009"/>
                  </a:lnTo>
                  <a:lnTo>
                    <a:pt x="1830" y="8004"/>
                  </a:lnTo>
                  <a:lnTo>
                    <a:pt x="1796" y="7998"/>
                  </a:lnTo>
                  <a:lnTo>
                    <a:pt x="1767" y="7992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410080" y="2611440"/>
              <a:ext cx="2032200" cy="2511360"/>
            </a:xfrm>
            <a:custGeom>
              <a:avLst/>
              <a:gdLst/>
              <a:ahLst/>
              <a:rect l="l" t="t" r="r" b="b"/>
              <a:pathLst>
                <a:path w="6400" h="7913">
                  <a:moveTo>
                    <a:pt x="1773" y="7828"/>
                  </a:moveTo>
                  <a:lnTo>
                    <a:pt x="1746" y="7821"/>
                  </a:lnTo>
                  <a:lnTo>
                    <a:pt x="1721" y="7812"/>
                  </a:lnTo>
                  <a:lnTo>
                    <a:pt x="1698" y="7803"/>
                  </a:lnTo>
                  <a:lnTo>
                    <a:pt x="1676" y="7794"/>
                  </a:lnTo>
                  <a:lnTo>
                    <a:pt x="1654" y="7782"/>
                  </a:lnTo>
                  <a:lnTo>
                    <a:pt x="1634" y="7773"/>
                  </a:lnTo>
                  <a:lnTo>
                    <a:pt x="1616" y="7762"/>
                  </a:lnTo>
                  <a:lnTo>
                    <a:pt x="1598" y="7749"/>
                  </a:lnTo>
                  <a:lnTo>
                    <a:pt x="1581" y="7738"/>
                  </a:lnTo>
                  <a:lnTo>
                    <a:pt x="1565" y="7726"/>
                  </a:lnTo>
                  <a:lnTo>
                    <a:pt x="1552" y="7714"/>
                  </a:lnTo>
                  <a:lnTo>
                    <a:pt x="1538" y="7701"/>
                  </a:lnTo>
                  <a:lnTo>
                    <a:pt x="1514" y="7678"/>
                  </a:lnTo>
                  <a:lnTo>
                    <a:pt x="1494" y="7653"/>
                  </a:lnTo>
                  <a:lnTo>
                    <a:pt x="1477" y="7630"/>
                  </a:lnTo>
                  <a:lnTo>
                    <a:pt x="1463" y="7609"/>
                  </a:lnTo>
                  <a:lnTo>
                    <a:pt x="1452" y="7589"/>
                  </a:lnTo>
                  <a:lnTo>
                    <a:pt x="1443" y="7572"/>
                  </a:lnTo>
                  <a:lnTo>
                    <a:pt x="1434" y="7546"/>
                  </a:lnTo>
                  <a:lnTo>
                    <a:pt x="1430" y="7538"/>
                  </a:lnTo>
                  <a:lnTo>
                    <a:pt x="1419" y="7524"/>
                  </a:lnTo>
                  <a:lnTo>
                    <a:pt x="1409" y="7508"/>
                  </a:lnTo>
                  <a:lnTo>
                    <a:pt x="1400" y="7490"/>
                  </a:lnTo>
                  <a:lnTo>
                    <a:pt x="1393" y="7469"/>
                  </a:lnTo>
                  <a:lnTo>
                    <a:pt x="1386" y="7447"/>
                  </a:lnTo>
                  <a:lnTo>
                    <a:pt x="1381" y="7421"/>
                  </a:lnTo>
                  <a:lnTo>
                    <a:pt x="1377" y="7394"/>
                  </a:lnTo>
                  <a:lnTo>
                    <a:pt x="1373" y="7365"/>
                  </a:lnTo>
                  <a:lnTo>
                    <a:pt x="1371" y="7335"/>
                  </a:lnTo>
                  <a:lnTo>
                    <a:pt x="1370" y="7303"/>
                  </a:lnTo>
                  <a:lnTo>
                    <a:pt x="1370" y="7268"/>
                  </a:lnTo>
                  <a:lnTo>
                    <a:pt x="1370" y="7233"/>
                  </a:lnTo>
                  <a:lnTo>
                    <a:pt x="1372" y="7158"/>
                  </a:lnTo>
                  <a:lnTo>
                    <a:pt x="1377" y="7078"/>
                  </a:lnTo>
                  <a:lnTo>
                    <a:pt x="1383" y="6994"/>
                  </a:lnTo>
                  <a:lnTo>
                    <a:pt x="1392" y="6907"/>
                  </a:lnTo>
                  <a:lnTo>
                    <a:pt x="1400" y="6817"/>
                  </a:lnTo>
                  <a:lnTo>
                    <a:pt x="1410" y="6726"/>
                  </a:lnTo>
                  <a:lnTo>
                    <a:pt x="1419" y="6635"/>
                  </a:lnTo>
                  <a:lnTo>
                    <a:pt x="1427" y="6543"/>
                  </a:lnTo>
                  <a:lnTo>
                    <a:pt x="1435" y="6452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3" y="6081"/>
                  </a:lnTo>
                  <a:lnTo>
                    <a:pt x="5449" y="6331"/>
                  </a:lnTo>
                  <a:lnTo>
                    <a:pt x="5443" y="6588"/>
                  </a:lnTo>
                  <a:lnTo>
                    <a:pt x="5437" y="6839"/>
                  </a:lnTo>
                  <a:lnTo>
                    <a:pt x="5429" y="7070"/>
                  </a:lnTo>
                  <a:lnTo>
                    <a:pt x="5425" y="7268"/>
                  </a:lnTo>
                  <a:lnTo>
                    <a:pt x="5421" y="7420"/>
                  </a:lnTo>
                  <a:lnTo>
                    <a:pt x="5418" y="7513"/>
                  </a:lnTo>
                  <a:lnTo>
                    <a:pt x="5417" y="7528"/>
                  </a:lnTo>
                  <a:lnTo>
                    <a:pt x="5413" y="7541"/>
                  </a:lnTo>
                  <a:lnTo>
                    <a:pt x="5406" y="7555"/>
                  </a:lnTo>
                  <a:lnTo>
                    <a:pt x="5397" y="7567"/>
                  </a:lnTo>
                  <a:lnTo>
                    <a:pt x="5385" y="7580"/>
                  </a:lnTo>
                  <a:lnTo>
                    <a:pt x="5372" y="7592"/>
                  </a:lnTo>
                  <a:lnTo>
                    <a:pt x="5356" y="7603"/>
                  </a:lnTo>
                  <a:lnTo>
                    <a:pt x="5338" y="7614"/>
                  </a:lnTo>
                  <a:lnTo>
                    <a:pt x="5319" y="7624"/>
                  </a:lnTo>
                  <a:lnTo>
                    <a:pt x="5298" y="7634"/>
                  </a:lnTo>
                  <a:lnTo>
                    <a:pt x="5274" y="7643"/>
                  </a:lnTo>
                  <a:lnTo>
                    <a:pt x="5251" y="7653"/>
                  </a:lnTo>
                  <a:lnTo>
                    <a:pt x="5201" y="7671"/>
                  </a:lnTo>
                  <a:lnTo>
                    <a:pt x="5145" y="7687"/>
                  </a:lnTo>
                  <a:lnTo>
                    <a:pt x="5032" y="7717"/>
                  </a:lnTo>
                  <a:lnTo>
                    <a:pt x="4919" y="7746"/>
                  </a:lnTo>
                  <a:lnTo>
                    <a:pt x="4866" y="7759"/>
                  </a:lnTo>
                  <a:lnTo>
                    <a:pt x="4817" y="7773"/>
                  </a:lnTo>
                  <a:lnTo>
                    <a:pt x="4772" y="7786"/>
                  </a:lnTo>
                  <a:lnTo>
                    <a:pt x="4734" y="7801"/>
                  </a:lnTo>
                  <a:lnTo>
                    <a:pt x="4715" y="7808"/>
                  </a:lnTo>
                  <a:lnTo>
                    <a:pt x="4693" y="7816"/>
                  </a:lnTo>
                  <a:lnTo>
                    <a:pt x="4667" y="7823"/>
                  </a:lnTo>
                  <a:lnTo>
                    <a:pt x="4637" y="7830"/>
                  </a:lnTo>
                  <a:lnTo>
                    <a:pt x="4605" y="7838"/>
                  </a:lnTo>
                  <a:lnTo>
                    <a:pt x="4571" y="7844"/>
                  </a:lnTo>
                  <a:lnTo>
                    <a:pt x="4534" y="7851"/>
                  </a:lnTo>
                  <a:lnTo>
                    <a:pt x="4493" y="7857"/>
                  </a:lnTo>
                  <a:lnTo>
                    <a:pt x="4408" y="7870"/>
                  </a:lnTo>
                  <a:lnTo>
                    <a:pt x="4316" y="7881"/>
                  </a:lnTo>
                  <a:lnTo>
                    <a:pt x="4220" y="7891"/>
                  </a:lnTo>
                  <a:lnTo>
                    <a:pt x="4120" y="7899"/>
                  </a:lnTo>
                  <a:lnTo>
                    <a:pt x="4020" y="7905"/>
                  </a:lnTo>
                  <a:lnTo>
                    <a:pt x="3919" y="7910"/>
                  </a:lnTo>
                  <a:lnTo>
                    <a:pt x="3869" y="7912"/>
                  </a:lnTo>
                  <a:lnTo>
                    <a:pt x="3820" y="7913"/>
                  </a:lnTo>
                  <a:lnTo>
                    <a:pt x="3772" y="7913"/>
                  </a:lnTo>
                  <a:lnTo>
                    <a:pt x="3727" y="7912"/>
                  </a:lnTo>
                  <a:lnTo>
                    <a:pt x="3681" y="7910"/>
                  </a:lnTo>
                  <a:lnTo>
                    <a:pt x="3638" y="7909"/>
                  </a:lnTo>
                  <a:lnTo>
                    <a:pt x="3596" y="7905"/>
                  </a:lnTo>
                  <a:lnTo>
                    <a:pt x="3557" y="7902"/>
                  </a:lnTo>
                  <a:lnTo>
                    <a:pt x="3520" y="7898"/>
                  </a:lnTo>
                  <a:lnTo>
                    <a:pt x="3486" y="7893"/>
                  </a:lnTo>
                  <a:lnTo>
                    <a:pt x="3454" y="7887"/>
                  </a:lnTo>
                  <a:lnTo>
                    <a:pt x="3424" y="7880"/>
                  </a:lnTo>
                  <a:lnTo>
                    <a:pt x="3396" y="7873"/>
                  </a:lnTo>
                  <a:lnTo>
                    <a:pt x="3361" y="7867"/>
                  </a:lnTo>
                  <a:lnTo>
                    <a:pt x="3324" y="7862"/>
                  </a:lnTo>
                  <a:lnTo>
                    <a:pt x="3283" y="7859"/>
                  </a:lnTo>
                  <a:lnTo>
                    <a:pt x="3238" y="7855"/>
                  </a:lnTo>
                  <a:lnTo>
                    <a:pt x="3190" y="7853"/>
                  </a:lnTo>
                  <a:lnTo>
                    <a:pt x="3139" y="7851"/>
                  </a:lnTo>
                  <a:lnTo>
                    <a:pt x="3086" y="7850"/>
                  </a:lnTo>
                  <a:lnTo>
                    <a:pt x="2971" y="7849"/>
                  </a:lnTo>
                  <a:lnTo>
                    <a:pt x="2851" y="7850"/>
                  </a:lnTo>
                  <a:lnTo>
                    <a:pt x="2727" y="7851"/>
                  </a:lnTo>
                  <a:lnTo>
                    <a:pt x="2599" y="7854"/>
                  </a:lnTo>
                  <a:lnTo>
                    <a:pt x="2471" y="7856"/>
                  </a:lnTo>
                  <a:lnTo>
                    <a:pt x="2346" y="7859"/>
                  </a:lnTo>
                  <a:lnTo>
                    <a:pt x="2226" y="7859"/>
                  </a:lnTo>
                  <a:lnTo>
                    <a:pt x="2111" y="7859"/>
                  </a:lnTo>
                  <a:lnTo>
                    <a:pt x="2059" y="7857"/>
                  </a:lnTo>
                  <a:lnTo>
                    <a:pt x="2008" y="7855"/>
                  </a:lnTo>
                  <a:lnTo>
                    <a:pt x="1959" y="7853"/>
                  </a:lnTo>
                  <a:lnTo>
                    <a:pt x="1915" y="7850"/>
                  </a:lnTo>
                  <a:lnTo>
                    <a:pt x="1873" y="7846"/>
                  </a:lnTo>
                  <a:lnTo>
                    <a:pt x="1836" y="7842"/>
                  </a:lnTo>
                  <a:lnTo>
                    <a:pt x="1803" y="7835"/>
                  </a:lnTo>
                  <a:lnTo>
                    <a:pt x="1773" y="7828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5410080" y="2611440"/>
              <a:ext cx="2032200" cy="2459160"/>
            </a:xfrm>
            <a:custGeom>
              <a:avLst/>
              <a:gdLst/>
              <a:ahLst/>
              <a:rect l="l" t="t" r="r" b="b"/>
              <a:pathLst>
                <a:path w="6400" h="7749">
                  <a:moveTo>
                    <a:pt x="1778" y="7666"/>
                  </a:moveTo>
                  <a:lnTo>
                    <a:pt x="1752" y="7657"/>
                  </a:lnTo>
                  <a:lnTo>
                    <a:pt x="1726" y="7650"/>
                  </a:lnTo>
                  <a:lnTo>
                    <a:pt x="1703" y="7640"/>
                  </a:lnTo>
                  <a:lnTo>
                    <a:pt x="1680" y="7630"/>
                  </a:lnTo>
                  <a:lnTo>
                    <a:pt x="1659" y="7620"/>
                  </a:lnTo>
                  <a:lnTo>
                    <a:pt x="1639" y="7609"/>
                  </a:lnTo>
                  <a:lnTo>
                    <a:pt x="1619" y="7598"/>
                  </a:lnTo>
                  <a:lnTo>
                    <a:pt x="1602" y="7587"/>
                  </a:lnTo>
                  <a:lnTo>
                    <a:pt x="1586" y="7576"/>
                  </a:lnTo>
                  <a:lnTo>
                    <a:pt x="1570" y="7564"/>
                  </a:lnTo>
                  <a:lnTo>
                    <a:pt x="1555" y="7551"/>
                  </a:lnTo>
                  <a:lnTo>
                    <a:pt x="1542" y="7540"/>
                  </a:lnTo>
                  <a:lnTo>
                    <a:pt x="1518" y="7516"/>
                  </a:lnTo>
                  <a:lnTo>
                    <a:pt x="1498" y="7492"/>
                  </a:lnTo>
                  <a:lnTo>
                    <a:pt x="1482" y="7469"/>
                  </a:lnTo>
                  <a:lnTo>
                    <a:pt x="1468" y="7448"/>
                  </a:lnTo>
                  <a:lnTo>
                    <a:pt x="1457" y="7428"/>
                  </a:lnTo>
                  <a:lnTo>
                    <a:pt x="1448" y="7411"/>
                  </a:lnTo>
                  <a:lnTo>
                    <a:pt x="1438" y="7386"/>
                  </a:lnTo>
                  <a:lnTo>
                    <a:pt x="1436" y="7378"/>
                  </a:lnTo>
                  <a:lnTo>
                    <a:pt x="1425" y="7364"/>
                  </a:lnTo>
                  <a:lnTo>
                    <a:pt x="1414" y="7350"/>
                  </a:lnTo>
                  <a:lnTo>
                    <a:pt x="1405" y="7332"/>
                  </a:lnTo>
                  <a:lnTo>
                    <a:pt x="1398" y="7315"/>
                  </a:lnTo>
                  <a:lnTo>
                    <a:pt x="1390" y="7295"/>
                  </a:lnTo>
                  <a:lnTo>
                    <a:pt x="1386" y="7274"/>
                  </a:lnTo>
                  <a:lnTo>
                    <a:pt x="1382" y="7252"/>
                  </a:lnTo>
                  <a:lnTo>
                    <a:pt x="1378" y="7229"/>
                  </a:lnTo>
                  <a:lnTo>
                    <a:pt x="1376" y="7204"/>
                  </a:lnTo>
                  <a:lnTo>
                    <a:pt x="1374" y="7179"/>
                  </a:lnTo>
                  <a:lnTo>
                    <a:pt x="1373" y="7150"/>
                  </a:lnTo>
                  <a:lnTo>
                    <a:pt x="1373" y="7122"/>
                  </a:lnTo>
                  <a:lnTo>
                    <a:pt x="1376" y="7062"/>
                  </a:lnTo>
                  <a:lnTo>
                    <a:pt x="1379" y="6996"/>
                  </a:lnTo>
                  <a:lnTo>
                    <a:pt x="1393" y="6855"/>
                  </a:lnTo>
                  <a:lnTo>
                    <a:pt x="1410" y="6701"/>
                  </a:lnTo>
                  <a:lnTo>
                    <a:pt x="1420" y="6619"/>
                  </a:lnTo>
                  <a:lnTo>
                    <a:pt x="1427" y="6535"/>
                  </a:lnTo>
                  <a:lnTo>
                    <a:pt x="1435" y="6449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3" y="6074"/>
                  </a:lnTo>
                  <a:lnTo>
                    <a:pt x="5449" y="6305"/>
                  </a:lnTo>
                  <a:lnTo>
                    <a:pt x="5444" y="6536"/>
                  </a:lnTo>
                  <a:lnTo>
                    <a:pt x="5438" y="6758"/>
                  </a:lnTo>
                  <a:lnTo>
                    <a:pt x="5432" y="6958"/>
                  </a:lnTo>
                  <a:lnTo>
                    <a:pt x="5427" y="7131"/>
                  </a:lnTo>
                  <a:lnTo>
                    <a:pt x="5423" y="7265"/>
                  </a:lnTo>
                  <a:lnTo>
                    <a:pt x="5422" y="7351"/>
                  </a:lnTo>
                  <a:lnTo>
                    <a:pt x="5420" y="7364"/>
                  </a:lnTo>
                  <a:lnTo>
                    <a:pt x="5416" y="7379"/>
                  </a:lnTo>
                  <a:lnTo>
                    <a:pt x="5409" y="7391"/>
                  </a:lnTo>
                  <a:lnTo>
                    <a:pt x="5400" y="7405"/>
                  </a:lnTo>
                  <a:lnTo>
                    <a:pt x="5388" y="7417"/>
                  </a:lnTo>
                  <a:lnTo>
                    <a:pt x="5374" y="7428"/>
                  </a:lnTo>
                  <a:lnTo>
                    <a:pt x="5358" y="7439"/>
                  </a:lnTo>
                  <a:lnTo>
                    <a:pt x="5341" y="7450"/>
                  </a:lnTo>
                  <a:lnTo>
                    <a:pt x="5321" y="7461"/>
                  </a:lnTo>
                  <a:lnTo>
                    <a:pt x="5300" y="7471"/>
                  </a:lnTo>
                  <a:lnTo>
                    <a:pt x="5278" y="7481"/>
                  </a:lnTo>
                  <a:lnTo>
                    <a:pt x="5255" y="7490"/>
                  </a:lnTo>
                  <a:lnTo>
                    <a:pt x="5204" y="7507"/>
                  </a:lnTo>
                  <a:lnTo>
                    <a:pt x="5150" y="7524"/>
                  </a:lnTo>
                  <a:lnTo>
                    <a:pt x="5037" y="7554"/>
                  </a:lnTo>
                  <a:lnTo>
                    <a:pt x="4924" y="7582"/>
                  </a:lnTo>
                  <a:lnTo>
                    <a:pt x="4871" y="7596"/>
                  </a:lnTo>
                  <a:lnTo>
                    <a:pt x="4822" y="7609"/>
                  </a:lnTo>
                  <a:lnTo>
                    <a:pt x="4777" y="7624"/>
                  </a:lnTo>
                  <a:lnTo>
                    <a:pt x="4739" y="7639"/>
                  </a:lnTo>
                  <a:lnTo>
                    <a:pt x="4721" y="7646"/>
                  </a:lnTo>
                  <a:lnTo>
                    <a:pt x="4699" y="7653"/>
                  </a:lnTo>
                  <a:lnTo>
                    <a:pt x="4672" y="7661"/>
                  </a:lnTo>
                  <a:lnTo>
                    <a:pt x="4643" y="7667"/>
                  </a:lnTo>
                  <a:lnTo>
                    <a:pt x="4611" y="7674"/>
                  </a:lnTo>
                  <a:lnTo>
                    <a:pt x="4576" y="7682"/>
                  </a:lnTo>
                  <a:lnTo>
                    <a:pt x="4539" y="7688"/>
                  </a:lnTo>
                  <a:lnTo>
                    <a:pt x="4499" y="7695"/>
                  </a:lnTo>
                  <a:lnTo>
                    <a:pt x="4413" y="7707"/>
                  </a:lnTo>
                  <a:lnTo>
                    <a:pt x="4322" y="7719"/>
                  </a:lnTo>
                  <a:lnTo>
                    <a:pt x="4225" y="7728"/>
                  </a:lnTo>
                  <a:lnTo>
                    <a:pt x="4125" y="7737"/>
                  </a:lnTo>
                  <a:lnTo>
                    <a:pt x="4024" y="7743"/>
                  </a:lnTo>
                  <a:lnTo>
                    <a:pt x="3924" y="7747"/>
                  </a:lnTo>
                  <a:lnTo>
                    <a:pt x="3874" y="7749"/>
                  </a:lnTo>
                  <a:lnTo>
                    <a:pt x="3826" y="7749"/>
                  </a:lnTo>
                  <a:lnTo>
                    <a:pt x="3778" y="7749"/>
                  </a:lnTo>
                  <a:lnTo>
                    <a:pt x="3732" y="7749"/>
                  </a:lnTo>
                  <a:lnTo>
                    <a:pt x="3686" y="7748"/>
                  </a:lnTo>
                  <a:lnTo>
                    <a:pt x="3643" y="7746"/>
                  </a:lnTo>
                  <a:lnTo>
                    <a:pt x="3601" y="7743"/>
                  </a:lnTo>
                  <a:lnTo>
                    <a:pt x="3562" y="7739"/>
                  </a:lnTo>
                  <a:lnTo>
                    <a:pt x="3525" y="7734"/>
                  </a:lnTo>
                  <a:lnTo>
                    <a:pt x="3491" y="7730"/>
                  </a:lnTo>
                  <a:lnTo>
                    <a:pt x="3459" y="7723"/>
                  </a:lnTo>
                  <a:lnTo>
                    <a:pt x="3430" y="7717"/>
                  </a:lnTo>
                  <a:lnTo>
                    <a:pt x="3401" y="7710"/>
                  </a:lnTo>
                  <a:lnTo>
                    <a:pt x="3368" y="7704"/>
                  </a:lnTo>
                  <a:lnTo>
                    <a:pt x="3329" y="7699"/>
                  </a:lnTo>
                  <a:lnTo>
                    <a:pt x="3289" y="7695"/>
                  </a:lnTo>
                  <a:lnTo>
                    <a:pt x="3243" y="7693"/>
                  </a:lnTo>
                  <a:lnTo>
                    <a:pt x="3195" y="7690"/>
                  </a:lnTo>
                  <a:lnTo>
                    <a:pt x="3145" y="7688"/>
                  </a:lnTo>
                  <a:lnTo>
                    <a:pt x="3091" y="7687"/>
                  </a:lnTo>
                  <a:lnTo>
                    <a:pt x="2978" y="7685"/>
                  </a:lnTo>
                  <a:lnTo>
                    <a:pt x="2857" y="7687"/>
                  </a:lnTo>
                  <a:lnTo>
                    <a:pt x="2731" y="7689"/>
                  </a:lnTo>
                  <a:lnTo>
                    <a:pt x="2605" y="7691"/>
                  </a:lnTo>
                  <a:lnTo>
                    <a:pt x="2477" y="7694"/>
                  </a:lnTo>
                  <a:lnTo>
                    <a:pt x="2351" y="7695"/>
                  </a:lnTo>
                  <a:lnTo>
                    <a:pt x="2231" y="7696"/>
                  </a:lnTo>
                  <a:lnTo>
                    <a:pt x="2118" y="7695"/>
                  </a:lnTo>
                  <a:lnTo>
                    <a:pt x="2063" y="7694"/>
                  </a:lnTo>
                  <a:lnTo>
                    <a:pt x="2013" y="7693"/>
                  </a:lnTo>
                  <a:lnTo>
                    <a:pt x="1965" y="7690"/>
                  </a:lnTo>
                  <a:lnTo>
                    <a:pt x="1920" y="7687"/>
                  </a:lnTo>
                  <a:lnTo>
                    <a:pt x="1879" y="7683"/>
                  </a:lnTo>
                  <a:lnTo>
                    <a:pt x="1841" y="7678"/>
                  </a:lnTo>
                  <a:lnTo>
                    <a:pt x="1808" y="7672"/>
                  </a:lnTo>
                  <a:lnTo>
                    <a:pt x="1778" y="766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5410080" y="2611440"/>
              <a:ext cx="2032200" cy="2408400"/>
            </a:xfrm>
            <a:custGeom>
              <a:avLst/>
              <a:gdLst/>
              <a:ahLst/>
              <a:rect l="l" t="t" r="r" b="b"/>
              <a:pathLst>
                <a:path w="6400" h="7588">
                  <a:moveTo>
                    <a:pt x="2851" y="0"/>
                  </a:moveTo>
                  <a:lnTo>
                    <a:pt x="2843" y="1"/>
                  </a:lnTo>
                  <a:lnTo>
                    <a:pt x="2821" y="5"/>
                  </a:lnTo>
                  <a:lnTo>
                    <a:pt x="2788" y="13"/>
                  </a:lnTo>
                  <a:lnTo>
                    <a:pt x="2746" y="22"/>
                  </a:lnTo>
                  <a:lnTo>
                    <a:pt x="2698" y="36"/>
                  </a:lnTo>
                  <a:lnTo>
                    <a:pt x="2648" y="53"/>
                  </a:lnTo>
                  <a:lnTo>
                    <a:pt x="2621" y="64"/>
                  </a:lnTo>
                  <a:lnTo>
                    <a:pt x="2595" y="75"/>
                  </a:lnTo>
                  <a:lnTo>
                    <a:pt x="2569" y="88"/>
                  </a:lnTo>
                  <a:lnTo>
                    <a:pt x="2544" y="100"/>
                  </a:lnTo>
                  <a:lnTo>
                    <a:pt x="2521" y="113"/>
                  </a:lnTo>
                  <a:lnTo>
                    <a:pt x="2500" y="126"/>
                  </a:lnTo>
                  <a:lnTo>
                    <a:pt x="2483" y="138"/>
                  </a:lnTo>
                  <a:lnTo>
                    <a:pt x="2467" y="150"/>
                  </a:lnTo>
                  <a:lnTo>
                    <a:pt x="2453" y="163"/>
                  </a:lnTo>
                  <a:lnTo>
                    <a:pt x="2442" y="176"/>
                  </a:lnTo>
                  <a:lnTo>
                    <a:pt x="2433" y="188"/>
                  </a:lnTo>
                  <a:lnTo>
                    <a:pt x="2424" y="202"/>
                  </a:lnTo>
                  <a:lnTo>
                    <a:pt x="2417" y="217"/>
                  </a:lnTo>
                  <a:lnTo>
                    <a:pt x="2410" y="233"/>
                  </a:lnTo>
                  <a:lnTo>
                    <a:pt x="2404" y="249"/>
                  </a:lnTo>
                  <a:lnTo>
                    <a:pt x="2399" y="267"/>
                  </a:lnTo>
                  <a:lnTo>
                    <a:pt x="2389" y="308"/>
                  </a:lnTo>
                  <a:lnTo>
                    <a:pt x="2378" y="356"/>
                  </a:lnTo>
                  <a:lnTo>
                    <a:pt x="2366" y="411"/>
                  </a:lnTo>
                  <a:lnTo>
                    <a:pt x="2353" y="470"/>
                  </a:lnTo>
                  <a:lnTo>
                    <a:pt x="2339" y="530"/>
                  </a:lnTo>
                  <a:lnTo>
                    <a:pt x="2327" y="588"/>
                  </a:lnTo>
                  <a:lnTo>
                    <a:pt x="2316" y="639"/>
                  </a:lnTo>
                  <a:lnTo>
                    <a:pt x="2307" y="680"/>
                  </a:lnTo>
                  <a:lnTo>
                    <a:pt x="2302" y="708"/>
                  </a:lnTo>
                  <a:lnTo>
                    <a:pt x="2300" y="717"/>
                  </a:lnTo>
                  <a:lnTo>
                    <a:pt x="2282" y="722"/>
                  </a:lnTo>
                  <a:lnTo>
                    <a:pt x="2237" y="737"/>
                  </a:lnTo>
                  <a:lnTo>
                    <a:pt x="2167" y="758"/>
                  </a:lnTo>
                  <a:lnTo>
                    <a:pt x="2082" y="784"/>
                  </a:lnTo>
                  <a:lnTo>
                    <a:pt x="1987" y="812"/>
                  </a:lnTo>
                  <a:lnTo>
                    <a:pt x="1891" y="838"/>
                  </a:lnTo>
                  <a:lnTo>
                    <a:pt x="1843" y="850"/>
                  </a:lnTo>
                  <a:lnTo>
                    <a:pt x="1798" y="862"/>
                  </a:lnTo>
                  <a:lnTo>
                    <a:pt x="1755" y="872"/>
                  </a:lnTo>
                  <a:lnTo>
                    <a:pt x="1715" y="880"/>
                  </a:lnTo>
                  <a:lnTo>
                    <a:pt x="1639" y="896"/>
                  </a:lnTo>
                  <a:lnTo>
                    <a:pt x="1557" y="913"/>
                  </a:lnTo>
                  <a:lnTo>
                    <a:pt x="1515" y="923"/>
                  </a:lnTo>
                  <a:lnTo>
                    <a:pt x="1473" y="934"/>
                  </a:lnTo>
                  <a:lnTo>
                    <a:pt x="1431" y="944"/>
                  </a:lnTo>
                  <a:lnTo>
                    <a:pt x="1390" y="956"/>
                  </a:lnTo>
                  <a:lnTo>
                    <a:pt x="1351" y="968"/>
                  </a:lnTo>
                  <a:lnTo>
                    <a:pt x="1314" y="982"/>
                  </a:lnTo>
                  <a:lnTo>
                    <a:pt x="1280" y="997"/>
                  </a:lnTo>
                  <a:lnTo>
                    <a:pt x="1247" y="1013"/>
                  </a:lnTo>
                  <a:lnTo>
                    <a:pt x="1232" y="1021"/>
                  </a:lnTo>
                  <a:lnTo>
                    <a:pt x="1218" y="1030"/>
                  </a:lnTo>
                  <a:lnTo>
                    <a:pt x="1205" y="1038"/>
                  </a:lnTo>
                  <a:lnTo>
                    <a:pt x="1192" y="1048"/>
                  </a:lnTo>
                  <a:lnTo>
                    <a:pt x="1181" y="1058"/>
                  </a:lnTo>
                  <a:lnTo>
                    <a:pt x="1170" y="1068"/>
                  </a:lnTo>
                  <a:lnTo>
                    <a:pt x="1162" y="1078"/>
                  </a:lnTo>
                  <a:lnTo>
                    <a:pt x="1153" y="1089"/>
                  </a:lnTo>
                  <a:lnTo>
                    <a:pt x="1126" y="1129"/>
                  </a:lnTo>
                  <a:lnTo>
                    <a:pt x="1100" y="1163"/>
                  </a:lnTo>
                  <a:lnTo>
                    <a:pt x="1088" y="1177"/>
                  </a:lnTo>
                  <a:lnTo>
                    <a:pt x="1077" y="1190"/>
                  </a:lnTo>
                  <a:lnTo>
                    <a:pt x="1066" y="1202"/>
                  </a:lnTo>
                  <a:lnTo>
                    <a:pt x="1055" y="1212"/>
                  </a:lnTo>
                  <a:lnTo>
                    <a:pt x="1042" y="1222"/>
                  </a:lnTo>
                  <a:lnTo>
                    <a:pt x="1031" y="1230"/>
                  </a:lnTo>
                  <a:lnTo>
                    <a:pt x="1020" y="1238"/>
                  </a:lnTo>
                  <a:lnTo>
                    <a:pt x="1008" y="1246"/>
                  </a:lnTo>
                  <a:lnTo>
                    <a:pt x="983" y="1260"/>
                  </a:lnTo>
                  <a:lnTo>
                    <a:pt x="955" y="1273"/>
                  </a:lnTo>
                  <a:lnTo>
                    <a:pt x="940" y="1282"/>
                  </a:lnTo>
                  <a:lnTo>
                    <a:pt x="927" y="1293"/>
                  </a:lnTo>
                  <a:lnTo>
                    <a:pt x="914" y="1305"/>
                  </a:lnTo>
                  <a:lnTo>
                    <a:pt x="902" y="1320"/>
                  </a:lnTo>
                  <a:lnTo>
                    <a:pt x="890" y="1335"/>
                  </a:lnTo>
                  <a:lnTo>
                    <a:pt x="880" y="1352"/>
                  </a:lnTo>
                  <a:lnTo>
                    <a:pt x="870" y="1369"/>
                  </a:lnTo>
                  <a:lnTo>
                    <a:pt x="861" y="1386"/>
                  </a:lnTo>
                  <a:lnTo>
                    <a:pt x="854" y="1405"/>
                  </a:lnTo>
                  <a:lnTo>
                    <a:pt x="848" y="1422"/>
                  </a:lnTo>
                  <a:lnTo>
                    <a:pt x="843" y="1441"/>
                  </a:lnTo>
                  <a:lnTo>
                    <a:pt x="839" y="1457"/>
                  </a:lnTo>
                  <a:lnTo>
                    <a:pt x="837" y="1473"/>
                  </a:lnTo>
                  <a:lnTo>
                    <a:pt x="836" y="1486"/>
                  </a:lnTo>
                  <a:lnTo>
                    <a:pt x="837" y="1500"/>
                  </a:lnTo>
                  <a:lnTo>
                    <a:pt x="838" y="1511"/>
                  </a:lnTo>
                  <a:lnTo>
                    <a:pt x="829" y="1513"/>
                  </a:lnTo>
                  <a:lnTo>
                    <a:pt x="806" y="1522"/>
                  </a:lnTo>
                  <a:lnTo>
                    <a:pt x="772" y="1535"/>
                  </a:lnTo>
                  <a:lnTo>
                    <a:pt x="731" y="1553"/>
                  </a:lnTo>
                  <a:lnTo>
                    <a:pt x="709" y="1562"/>
                  </a:lnTo>
                  <a:lnTo>
                    <a:pt x="687" y="1573"/>
                  </a:lnTo>
                  <a:lnTo>
                    <a:pt x="665" y="1586"/>
                  </a:lnTo>
                  <a:lnTo>
                    <a:pt x="644" y="1598"/>
                  </a:lnTo>
                  <a:lnTo>
                    <a:pt x="623" y="1612"/>
                  </a:lnTo>
                  <a:lnTo>
                    <a:pt x="604" y="1625"/>
                  </a:lnTo>
                  <a:lnTo>
                    <a:pt x="588" y="1640"/>
                  </a:lnTo>
                  <a:lnTo>
                    <a:pt x="575" y="1655"/>
                  </a:lnTo>
                  <a:lnTo>
                    <a:pt x="564" y="1669"/>
                  </a:lnTo>
                  <a:lnTo>
                    <a:pt x="554" y="1685"/>
                  </a:lnTo>
                  <a:lnTo>
                    <a:pt x="547" y="1703"/>
                  </a:lnTo>
                  <a:lnTo>
                    <a:pt x="542" y="1720"/>
                  </a:lnTo>
                  <a:lnTo>
                    <a:pt x="537" y="1737"/>
                  </a:lnTo>
                  <a:lnTo>
                    <a:pt x="534" y="1755"/>
                  </a:lnTo>
                  <a:lnTo>
                    <a:pt x="532" y="1771"/>
                  </a:lnTo>
                  <a:lnTo>
                    <a:pt x="532" y="1789"/>
                  </a:lnTo>
                  <a:lnTo>
                    <a:pt x="532" y="1818"/>
                  </a:lnTo>
                  <a:lnTo>
                    <a:pt x="533" y="1842"/>
                  </a:lnTo>
                  <a:lnTo>
                    <a:pt x="535" y="1858"/>
                  </a:lnTo>
                  <a:lnTo>
                    <a:pt x="537" y="1864"/>
                  </a:lnTo>
                  <a:lnTo>
                    <a:pt x="519" y="1877"/>
                  </a:lnTo>
                  <a:lnTo>
                    <a:pt x="474" y="1914"/>
                  </a:lnTo>
                  <a:lnTo>
                    <a:pt x="442" y="1940"/>
                  </a:lnTo>
                  <a:lnTo>
                    <a:pt x="406" y="1971"/>
                  </a:lnTo>
                  <a:lnTo>
                    <a:pt x="367" y="2005"/>
                  </a:lnTo>
                  <a:lnTo>
                    <a:pt x="326" y="2043"/>
                  </a:lnTo>
                  <a:lnTo>
                    <a:pt x="284" y="2084"/>
                  </a:lnTo>
                  <a:lnTo>
                    <a:pt x="241" y="2127"/>
                  </a:lnTo>
                  <a:lnTo>
                    <a:pt x="200" y="2171"/>
                  </a:lnTo>
                  <a:lnTo>
                    <a:pt x="159" y="2217"/>
                  </a:lnTo>
                  <a:lnTo>
                    <a:pt x="141" y="2240"/>
                  </a:lnTo>
                  <a:lnTo>
                    <a:pt x="122" y="2263"/>
                  </a:lnTo>
                  <a:lnTo>
                    <a:pt x="105" y="2287"/>
                  </a:lnTo>
                  <a:lnTo>
                    <a:pt x="89" y="2310"/>
                  </a:lnTo>
                  <a:lnTo>
                    <a:pt x="74" y="2334"/>
                  </a:lnTo>
                  <a:lnTo>
                    <a:pt x="59" y="2356"/>
                  </a:lnTo>
                  <a:lnTo>
                    <a:pt x="47" y="2379"/>
                  </a:lnTo>
                  <a:lnTo>
                    <a:pt x="37" y="2401"/>
                  </a:lnTo>
                  <a:lnTo>
                    <a:pt x="27" y="2423"/>
                  </a:lnTo>
                  <a:lnTo>
                    <a:pt x="20" y="2444"/>
                  </a:lnTo>
                  <a:lnTo>
                    <a:pt x="14" y="2466"/>
                  </a:lnTo>
                  <a:lnTo>
                    <a:pt x="9" y="2487"/>
                  </a:lnTo>
                  <a:lnTo>
                    <a:pt x="5" y="2508"/>
                  </a:lnTo>
                  <a:lnTo>
                    <a:pt x="3" y="2529"/>
                  </a:lnTo>
                  <a:lnTo>
                    <a:pt x="2" y="2550"/>
                  </a:lnTo>
                  <a:lnTo>
                    <a:pt x="0" y="2570"/>
                  </a:lnTo>
                  <a:lnTo>
                    <a:pt x="2" y="2591"/>
                  </a:lnTo>
                  <a:lnTo>
                    <a:pt x="3" y="2610"/>
                  </a:lnTo>
                  <a:lnTo>
                    <a:pt x="5" y="2629"/>
                  </a:lnTo>
                  <a:lnTo>
                    <a:pt x="8" y="2648"/>
                  </a:lnTo>
                  <a:lnTo>
                    <a:pt x="11" y="2667"/>
                  </a:lnTo>
                  <a:lnTo>
                    <a:pt x="16" y="2684"/>
                  </a:lnTo>
                  <a:lnTo>
                    <a:pt x="21" y="2703"/>
                  </a:lnTo>
                  <a:lnTo>
                    <a:pt x="26" y="2720"/>
                  </a:lnTo>
                  <a:lnTo>
                    <a:pt x="40" y="2753"/>
                  </a:lnTo>
                  <a:lnTo>
                    <a:pt x="53" y="2783"/>
                  </a:lnTo>
                  <a:lnTo>
                    <a:pt x="68" y="2812"/>
                  </a:lnTo>
                  <a:lnTo>
                    <a:pt x="84" y="2838"/>
                  </a:lnTo>
                  <a:lnTo>
                    <a:pt x="100" y="2860"/>
                  </a:lnTo>
                  <a:lnTo>
                    <a:pt x="115" y="2881"/>
                  </a:lnTo>
                  <a:lnTo>
                    <a:pt x="129" y="2898"/>
                  </a:lnTo>
                  <a:lnTo>
                    <a:pt x="143" y="2912"/>
                  </a:lnTo>
                  <a:lnTo>
                    <a:pt x="144" y="2906"/>
                  </a:lnTo>
                  <a:lnTo>
                    <a:pt x="147" y="2890"/>
                  </a:lnTo>
                  <a:lnTo>
                    <a:pt x="150" y="2864"/>
                  </a:lnTo>
                  <a:lnTo>
                    <a:pt x="154" y="2832"/>
                  </a:lnTo>
                  <a:lnTo>
                    <a:pt x="157" y="2796"/>
                  </a:lnTo>
                  <a:lnTo>
                    <a:pt x="159" y="2755"/>
                  </a:lnTo>
                  <a:lnTo>
                    <a:pt x="159" y="2736"/>
                  </a:lnTo>
                  <a:lnTo>
                    <a:pt x="159" y="2715"/>
                  </a:lnTo>
                  <a:lnTo>
                    <a:pt x="158" y="2695"/>
                  </a:lnTo>
                  <a:lnTo>
                    <a:pt x="157" y="2676"/>
                  </a:lnTo>
                  <a:lnTo>
                    <a:pt x="154" y="2656"/>
                  </a:lnTo>
                  <a:lnTo>
                    <a:pt x="153" y="2635"/>
                  </a:lnTo>
                  <a:lnTo>
                    <a:pt x="153" y="2614"/>
                  </a:lnTo>
                  <a:lnTo>
                    <a:pt x="154" y="2592"/>
                  </a:lnTo>
                  <a:lnTo>
                    <a:pt x="158" y="2568"/>
                  </a:lnTo>
                  <a:lnTo>
                    <a:pt x="161" y="2545"/>
                  </a:lnTo>
                  <a:lnTo>
                    <a:pt x="168" y="2522"/>
                  </a:lnTo>
                  <a:lnTo>
                    <a:pt x="176" y="2498"/>
                  </a:lnTo>
                  <a:lnTo>
                    <a:pt x="186" y="2475"/>
                  </a:lnTo>
                  <a:lnTo>
                    <a:pt x="198" y="2450"/>
                  </a:lnTo>
                  <a:lnTo>
                    <a:pt x="213" y="2427"/>
                  </a:lnTo>
                  <a:lnTo>
                    <a:pt x="230" y="2402"/>
                  </a:lnTo>
                  <a:lnTo>
                    <a:pt x="250" y="2379"/>
                  </a:lnTo>
                  <a:lnTo>
                    <a:pt x="272" y="2357"/>
                  </a:lnTo>
                  <a:lnTo>
                    <a:pt x="297" y="2334"/>
                  </a:lnTo>
                  <a:lnTo>
                    <a:pt x="325" y="2311"/>
                  </a:lnTo>
                  <a:lnTo>
                    <a:pt x="384" y="2263"/>
                  </a:lnTo>
                  <a:lnTo>
                    <a:pt x="446" y="2214"/>
                  </a:lnTo>
                  <a:lnTo>
                    <a:pt x="479" y="2190"/>
                  </a:lnTo>
                  <a:lnTo>
                    <a:pt x="513" y="2168"/>
                  </a:lnTo>
                  <a:lnTo>
                    <a:pt x="532" y="2156"/>
                  </a:lnTo>
                  <a:lnTo>
                    <a:pt x="550" y="2147"/>
                  </a:lnTo>
                  <a:lnTo>
                    <a:pt x="570" y="2138"/>
                  </a:lnTo>
                  <a:lnTo>
                    <a:pt x="590" y="2128"/>
                  </a:lnTo>
                  <a:lnTo>
                    <a:pt x="610" y="2121"/>
                  </a:lnTo>
                  <a:lnTo>
                    <a:pt x="633" y="2113"/>
                  </a:lnTo>
                  <a:lnTo>
                    <a:pt x="656" y="2108"/>
                  </a:lnTo>
                  <a:lnTo>
                    <a:pt x="679" y="2104"/>
                  </a:lnTo>
                  <a:lnTo>
                    <a:pt x="704" y="2099"/>
                  </a:lnTo>
                  <a:lnTo>
                    <a:pt x="731" y="2096"/>
                  </a:lnTo>
                  <a:lnTo>
                    <a:pt x="758" y="2095"/>
                  </a:lnTo>
                  <a:lnTo>
                    <a:pt x="786" y="2095"/>
                  </a:lnTo>
                  <a:lnTo>
                    <a:pt x="815" y="2096"/>
                  </a:lnTo>
                  <a:lnTo>
                    <a:pt x="847" y="2100"/>
                  </a:lnTo>
                  <a:lnTo>
                    <a:pt x="879" y="2105"/>
                  </a:lnTo>
                  <a:lnTo>
                    <a:pt x="912" y="2111"/>
                  </a:lnTo>
                  <a:lnTo>
                    <a:pt x="946" y="2118"/>
                  </a:lnTo>
                  <a:lnTo>
                    <a:pt x="983" y="2128"/>
                  </a:lnTo>
                  <a:lnTo>
                    <a:pt x="1021" y="2140"/>
                  </a:lnTo>
                  <a:lnTo>
                    <a:pt x="1061" y="2154"/>
                  </a:lnTo>
                  <a:lnTo>
                    <a:pt x="1100" y="2171"/>
                  </a:lnTo>
                  <a:lnTo>
                    <a:pt x="1136" y="2192"/>
                  </a:lnTo>
                  <a:lnTo>
                    <a:pt x="1170" y="2217"/>
                  </a:lnTo>
                  <a:lnTo>
                    <a:pt x="1201" y="2244"/>
                  </a:lnTo>
                  <a:lnTo>
                    <a:pt x="1229" y="2275"/>
                  </a:lnTo>
                  <a:lnTo>
                    <a:pt x="1255" y="2309"/>
                  </a:lnTo>
                  <a:lnTo>
                    <a:pt x="1279" y="2345"/>
                  </a:lnTo>
                  <a:lnTo>
                    <a:pt x="1301" y="2384"/>
                  </a:lnTo>
                  <a:lnTo>
                    <a:pt x="1320" y="2425"/>
                  </a:lnTo>
                  <a:lnTo>
                    <a:pt x="1338" y="2466"/>
                  </a:lnTo>
                  <a:lnTo>
                    <a:pt x="1354" y="2509"/>
                  </a:lnTo>
                  <a:lnTo>
                    <a:pt x="1367" y="2554"/>
                  </a:lnTo>
                  <a:lnTo>
                    <a:pt x="1379" y="2599"/>
                  </a:lnTo>
                  <a:lnTo>
                    <a:pt x="1389" y="2645"/>
                  </a:lnTo>
                  <a:lnTo>
                    <a:pt x="1399" y="2690"/>
                  </a:lnTo>
                  <a:lnTo>
                    <a:pt x="1406" y="2736"/>
                  </a:lnTo>
                  <a:lnTo>
                    <a:pt x="1413" y="2781"/>
                  </a:lnTo>
                  <a:lnTo>
                    <a:pt x="1418" y="2826"/>
                  </a:lnTo>
                  <a:lnTo>
                    <a:pt x="1422" y="2869"/>
                  </a:lnTo>
                  <a:lnTo>
                    <a:pt x="1426" y="2910"/>
                  </a:lnTo>
                  <a:lnTo>
                    <a:pt x="1430" y="2989"/>
                  </a:lnTo>
                  <a:lnTo>
                    <a:pt x="1431" y="3058"/>
                  </a:lnTo>
                  <a:lnTo>
                    <a:pt x="1430" y="3161"/>
                  </a:lnTo>
                  <a:lnTo>
                    <a:pt x="1427" y="3199"/>
                  </a:lnTo>
                  <a:lnTo>
                    <a:pt x="1426" y="3279"/>
                  </a:lnTo>
                  <a:lnTo>
                    <a:pt x="1422" y="3492"/>
                  </a:lnTo>
                  <a:lnTo>
                    <a:pt x="1418" y="3802"/>
                  </a:lnTo>
                  <a:lnTo>
                    <a:pt x="1411" y="4171"/>
                  </a:lnTo>
                  <a:lnTo>
                    <a:pt x="1408" y="4565"/>
                  </a:lnTo>
                  <a:lnTo>
                    <a:pt x="1406" y="4942"/>
                  </a:lnTo>
                  <a:lnTo>
                    <a:pt x="1406" y="5115"/>
                  </a:lnTo>
                  <a:lnTo>
                    <a:pt x="1408" y="5270"/>
                  </a:lnTo>
                  <a:lnTo>
                    <a:pt x="1410" y="5402"/>
                  </a:lnTo>
                  <a:lnTo>
                    <a:pt x="1414" y="5508"/>
                  </a:lnTo>
                  <a:lnTo>
                    <a:pt x="1424" y="5666"/>
                  </a:lnTo>
                  <a:lnTo>
                    <a:pt x="1434" y="5780"/>
                  </a:lnTo>
                  <a:lnTo>
                    <a:pt x="1442" y="5867"/>
                  </a:lnTo>
                  <a:lnTo>
                    <a:pt x="1448" y="5940"/>
                  </a:lnTo>
                  <a:lnTo>
                    <a:pt x="1451" y="5976"/>
                  </a:lnTo>
                  <a:lnTo>
                    <a:pt x="1452" y="6012"/>
                  </a:lnTo>
                  <a:lnTo>
                    <a:pt x="1452" y="6052"/>
                  </a:lnTo>
                  <a:lnTo>
                    <a:pt x="1452" y="6097"/>
                  </a:lnTo>
                  <a:lnTo>
                    <a:pt x="1451" y="6149"/>
                  </a:lnTo>
                  <a:lnTo>
                    <a:pt x="1450" y="6209"/>
                  </a:lnTo>
                  <a:lnTo>
                    <a:pt x="1446" y="6279"/>
                  </a:lnTo>
                  <a:lnTo>
                    <a:pt x="1441" y="6362"/>
                  </a:lnTo>
                  <a:lnTo>
                    <a:pt x="1436" y="6448"/>
                  </a:lnTo>
                  <a:lnTo>
                    <a:pt x="1429" y="6528"/>
                  </a:lnTo>
                  <a:lnTo>
                    <a:pt x="1420" y="6604"/>
                  </a:lnTo>
                  <a:lnTo>
                    <a:pt x="1411" y="6675"/>
                  </a:lnTo>
                  <a:lnTo>
                    <a:pt x="1395" y="6805"/>
                  </a:lnTo>
                  <a:lnTo>
                    <a:pt x="1382" y="6917"/>
                  </a:lnTo>
                  <a:lnTo>
                    <a:pt x="1378" y="6966"/>
                  </a:lnTo>
                  <a:lnTo>
                    <a:pt x="1377" y="7011"/>
                  </a:lnTo>
                  <a:lnTo>
                    <a:pt x="1377" y="7033"/>
                  </a:lnTo>
                  <a:lnTo>
                    <a:pt x="1378" y="7054"/>
                  </a:lnTo>
                  <a:lnTo>
                    <a:pt x="1379" y="7074"/>
                  </a:lnTo>
                  <a:lnTo>
                    <a:pt x="1383" y="7092"/>
                  </a:lnTo>
                  <a:lnTo>
                    <a:pt x="1386" y="7111"/>
                  </a:lnTo>
                  <a:lnTo>
                    <a:pt x="1390" y="7128"/>
                  </a:lnTo>
                  <a:lnTo>
                    <a:pt x="1397" y="7144"/>
                  </a:lnTo>
                  <a:lnTo>
                    <a:pt x="1403" y="7160"/>
                  </a:lnTo>
                  <a:lnTo>
                    <a:pt x="1410" y="7175"/>
                  </a:lnTo>
                  <a:lnTo>
                    <a:pt x="1420" y="7188"/>
                  </a:lnTo>
                  <a:lnTo>
                    <a:pt x="1430" y="7202"/>
                  </a:lnTo>
                  <a:lnTo>
                    <a:pt x="1441" y="7214"/>
                  </a:lnTo>
                  <a:lnTo>
                    <a:pt x="1445" y="7224"/>
                  </a:lnTo>
                  <a:lnTo>
                    <a:pt x="1454" y="7249"/>
                  </a:lnTo>
                  <a:lnTo>
                    <a:pt x="1462" y="7266"/>
                  </a:lnTo>
                  <a:lnTo>
                    <a:pt x="1473" y="7284"/>
                  </a:lnTo>
                  <a:lnTo>
                    <a:pt x="1486" y="7306"/>
                  </a:lnTo>
                  <a:lnTo>
                    <a:pt x="1504" y="7329"/>
                  </a:lnTo>
                  <a:lnTo>
                    <a:pt x="1523" y="7352"/>
                  </a:lnTo>
                  <a:lnTo>
                    <a:pt x="1548" y="7377"/>
                  </a:lnTo>
                  <a:lnTo>
                    <a:pt x="1561" y="7389"/>
                  </a:lnTo>
                  <a:lnTo>
                    <a:pt x="1575" y="7401"/>
                  </a:lnTo>
                  <a:lnTo>
                    <a:pt x="1591" y="7412"/>
                  </a:lnTo>
                  <a:lnTo>
                    <a:pt x="1607" y="7425"/>
                  </a:lnTo>
                  <a:lnTo>
                    <a:pt x="1625" y="7436"/>
                  </a:lnTo>
                  <a:lnTo>
                    <a:pt x="1644" y="7447"/>
                  </a:lnTo>
                  <a:lnTo>
                    <a:pt x="1664" y="7457"/>
                  </a:lnTo>
                  <a:lnTo>
                    <a:pt x="1686" y="7468"/>
                  </a:lnTo>
                  <a:lnTo>
                    <a:pt x="1708" y="7477"/>
                  </a:lnTo>
                  <a:lnTo>
                    <a:pt x="1733" y="7486"/>
                  </a:lnTo>
                  <a:lnTo>
                    <a:pt x="1757" y="7495"/>
                  </a:lnTo>
                  <a:lnTo>
                    <a:pt x="1784" y="7502"/>
                  </a:lnTo>
                  <a:lnTo>
                    <a:pt x="1812" y="7509"/>
                  </a:lnTo>
                  <a:lnTo>
                    <a:pt x="1847" y="7516"/>
                  </a:lnTo>
                  <a:lnTo>
                    <a:pt x="1884" y="7520"/>
                  </a:lnTo>
                  <a:lnTo>
                    <a:pt x="1926" y="7524"/>
                  </a:lnTo>
                  <a:lnTo>
                    <a:pt x="1970" y="7528"/>
                  </a:lnTo>
                  <a:lnTo>
                    <a:pt x="2018" y="7530"/>
                  </a:lnTo>
                  <a:lnTo>
                    <a:pt x="2070" y="7532"/>
                  </a:lnTo>
                  <a:lnTo>
                    <a:pt x="2122" y="7533"/>
                  </a:lnTo>
                  <a:lnTo>
                    <a:pt x="2237" y="7534"/>
                  </a:lnTo>
                  <a:lnTo>
                    <a:pt x="2357" y="7533"/>
                  </a:lnTo>
                  <a:lnTo>
                    <a:pt x="2482" y="7532"/>
                  </a:lnTo>
                  <a:lnTo>
                    <a:pt x="2610" y="7529"/>
                  </a:lnTo>
                  <a:lnTo>
                    <a:pt x="2738" y="7528"/>
                  </a:lnTo>
                  <a:lnTo>
                    <a:pt x="2862" y="7525"/>
                  </a:lnTo>
                  <a:lnTo>
                    <a:pt x="2982" y="7525"/>
                  </a:lnTo>
                  <a:lnTo>
                    <a:pt x="3097" y="7525"/>
                  </a:lnTo>
                  <a:lnTo>
                    <a:pt x="3150" y="7528"/>
                  </a:lnTo>
                  <a:lnTo>
                    <a:pt x="3200" y="7529"/>
                  </a:lnTo>
                  <a:lnTo>
                    <a:pt x="3249" y="7532"/>
                  </a:lnTo>
                  <a:lnTo>
                    <a:pt x="3294" y="7535"/>
                  </a:lnTo>
                  <a:lnTo>
                    <a:pt x="3336" y="7539"/>
                  </a:lnTo>
                  <a:lnTo>
                    <a:pt x="3372" y="7544"/>
                  </a:lnTo>
                  <a:lnTo>
                    <a:pt x="3406" y="7550"/>
                  </a:lnTo>
                  <a:lnTo>
                    <a:pt x="3435" y="7556"/>
                  </a:lnTo>
                  <a:lnTo>
                    <a:pt x="3463" y="7564"/>
                  </a:lnTo>
                  <a:lnTo>
                    <a:pt x="3495" y="7570"/>
                  </a:lnTo>
                  <a:lnTo>
                    <a:pt x="3530" y="7575"/>
                  </a:lnTo>
                  <a:lnTo>
                    <a:pt x="3567" y="7578"/>
                  </a:lnTo>
                  <a:lnTo>
                    <a:pt x="3606" y="7582"/>
                  </a:lnTo>
                  <a:lnTo>
                    <a:pt x="3648" y="7584"/>
                  </a:lnTo>
                  <a:lnTo>
                    <a:pt x="3691" y="7586"/>
                  </a:lnTo>
                  <a:lnTo>
                    <a:pt x="3735" y="7587"/>
                  </a:lnTo>
                  <a:lnTo>
                    <a:pt x="3830" y="7588"/>
                  </a:lnTo>
                  <a:lnTo>
                    <a:pt x="3927" y="7586"/>
                  </a:lnTo>
                  <a:lnTo>
                    <a:pt x="4028" y="7582"/>
                  </a:lnTo>
                  <a:lnTo>
                    <a:pt x="4129" y="7576"/>
                  </a:lnTo>
                  <a:lnTo>
                    <a:pt x="4229" y="7567"/>
                  </a:lnTo>
                  <a:lnTo>
                    <a:pt x="4326" y="7557"/>
                  </a:lnTo>
                  <a:lnTo>
                    <a:pt x="4417" y="7546"/>
                  </a:lnTo>
                  <a:lnTo>
                    <a:pt x="4503" y="7534"/>
                  </a:lnTo>
                  <a:lnTo>
                    <a:pt x="4542" y="7528"/>
                  </a:lnTo>
                  <a:lnTo>
                    <a:pt x="4581" y="7520"/>
                  </a:lnTo>
                  <a:lnTo>
                    <a:pt x="4615" y="7514"/>
                  </a:lnTo>
                  <a:lnTo>
                    <a:pt x="4647" y="7507"/>
                  </a:lnTo>
                  <a:lnTo>
                    <a:pt x="4677" y="7500"/>
                  </a:lnTo>
                  <a:lnTo>
                    <a:pt x="4704" y="7492"/>
                  </a:lnTo>
                  <a:lnTo>
                    <a:pt x="4726" y="7485"/>
                  </a:lnTo>
                  <a:lnTo>
                    <a:pt x="4745" y="7477"/>
                  </a:lnTo>
                  <a:lnTo>
                    <a:pt x="4784" y="7464"/>
                  </a:lnTo>
                  <a:lnTo>
                    <a:pt x="4828" y="7449"/>
                  </a:lnTo>
                  <a:lnTo>
                    <a:pt x="4877" y="7436"/>
                  </a:lnTo>
                  <a:lnTo>
                    <a:pt x="4930" y="7421"/>
                  </a:lnTo>
                  <a:lnTo>
                    <a:pt x="5042" y="7393"/>
                  </a:lnTo>
                  <a:lnTo>
                    <a:pt x="5155" y="7362"/>
                  </a:lnTo>
                  <a:lnTo>
                    <a:pt x="5209" y="7346"/>
                  </a:lnTo>
                  <a:lnTo>
                    <a:pt x="5260" y="7327"/>
                  </a:lnTo>
                  <a:lnTo>
                    <a:pt x="5283" y="7319"/>
                  </a:lnTo>
                  <a:lnTo>
                    <a:pt x="5306" y="7309"/>
                  </a:lnTo>
                  <a:lnTo>
                    <a:pt x="5327" y="7299"/>
                  </a:lnTo>
                  <a:lnTo>
                    <a:pt x="5346" y="7288"/>
                  </a:lnTo>
                  <a:lnTo>
                    <a:pt x="5364" y="7277"/>
                  </a:lnTo>
                  <a:lnTo>
                    <a:pt x="5380" y="7266"/>
                  </a:lnTo>
                  <a:lnTo>
                    <a:pt x="5394" y="7254"/>
                  </a:lnTo>
                  <a:lnTo>
                    <a:pt x="5405" y="7241"/>
                  </a:lnTo>
                  <a:lnTo>
                    <a:pt x="5415" y="7229"/>
                  </a:lnTo>
                  <a:lnTo>
                    <a:pt x="5421" y="7215"/>
                  </a:lnTo>
                  <a:lnTo>
                    <a:pt x="5426" y="7202"/>
                  </a:lnTo>
                  <a:lnTo>
                    <a:pt x="5427" y="7187"/>
                  </a:lnTo>
                  <a:lnTo>
                    <a:pt x="5428" y="7108"/>
                  </a:lnTo>
                  <a:lnTo>
                    <a:pt x="5431" y="6993"/>
                  </a:lnTo>
                  <a:lnTo>
                    <a:pt x="5436" y="6846"/>
                  </a:lnTo>
                  <a:lnTo>
                    <a:pt x="5441" y="6675"/>
                  </a:lnTo>
                  <a:lnTo>
                    <a:pt x="5445" y="6485"/>
                  </a:lnTo>
                  <a:lnTo>
                    <a:pt x="5450" y="6281"/>
                  </a:lnTo>
                  <a:lnTo>
                    <a:pt x="5453" y="6067"/>
                  </a:lnTo>
                  <a:lnTo>
                    <a:pt x="5454" y="5851"/>
                  </a:lnTo>
                  <a:lnTo>
                    <a:pt x="5455" y="5743"/>
                  </a:lnTo>
                  <a:lnTo>
                    <a:pt x="5457" y="5639"/>
                  </a:lnTo>
                  <a:lnTo>
                    <a:pt x="5459" y="5538"/>
                  </a:lnTo>
                  <a:lnTo>
                    <a:pt x="5464" y="5438"/>
                  </a:lnTo>
                  <a:lnTo>
                    <a:pt x="5469" y="5342"/>
                  </a:lnTo>
                  <a:lnTo>
                    <a:pt x="5475" y="5250"/>
                  </a:lnTo>
                  <a:lnTo>
                    <a:pt x="5482" y="5161"/>
                  </a:lnTo>
                  <a:lnTo>
                    <a:pt x="5490" y="5075"/>
                  </a:lnTo>
                  <a:lnTo>
                    <a:pt x="5498" y="4994"/>
                  </a:lnTo>
                  <a:lnTo>
                    <a:pt x="5508" y="4917"/>
                  </a:lnTo>
                  <a:lnTo>
                    <a:pt x="5519" y="4842"/>
                  </a:lnTo>
                  <a:lnTo>
                    <a:pt x="5530" y="4773"/>
                  </a:lnTo>
                  <a:lnTo>
                    <a:pt x="5544" y="4707"/>
                  </a:lnTo>
                  <a:lnTo>
                    <a:pt x="5556" y="4646"/>
                  </a:lnTo>
                  <a:lnTo>
                    <a:pt x="5570" y="4591"/>
                  </a:lnTo>
                  <a:lnTo>
                    <a:pt x="5584" y="4539"/>
                  </a:lnTo>
                  <a:lnTo>
                    <a:pt x="5616" y="4439"/>
                  </a:lnTo>
                  <a:lnTo>
                    <a:pt x="5650" y="4338"/>
                  </a:lnTo>
                  <a:lnTo>
                    <a:pt x="5667" y="4288"/>
                  </a:lnTo>
                  <a:lnTo>
                    <a:pt x="5683" y="4239"/>
                  </a:lnTo>
                  <a:lnTo>
                    <a:pt x="5698" y="4190"/>
                  </a:lnTo>
                  <a:lnTo>
                    <a:pt x="5712" y="4142"/>
                  </a:lnTo>
                  <a:lnTo>
                    <a:pt x="5725" y="4094"/>
                  </a:lnTo>
                  <a:lnTo>
                    <a:pt x="5736" y="4047"/>
                  </a:lnTo>
                  <a:lnTo>
                    <a:pt x="5744" y="4003"/>
                  </a:lnTo>
                  <a:lnTo>
                    <a:pt x="5751" y="3958"/>
                  </a:lnTo>
                  <a:lnTo>
                    <a:pt x="5752" y="3937"/>
                  </a:lnTo>
                  <a:lnTo>
                    <a:pt x="5753" y="3917"/>
                  </a:lnTo>
                  <a:lnTo>
                    <a:pt x="5754" y="3897"/>
                  </a:lnTo>
                  <a:lnTo>
                    <a:pt x="5753" y="3876"/>
                  </a:lnTo>
                  <a:lnTo>
                    <a:pt x="5752" y="3858"/>
                  </a:lnTo>
                  <a:lnTo>
                    <a:pt x="5749" y="3839"/>
                  </a:lnTo>
                  <a:lnTo>
                    <a:pt x="5747" y="3821"/>
                  </a:lnTo>
                  <a:lnTo>
                    <a:pt x="5742" y="3802"/>
                  </a:lnTo>
                  <a:lnTo>
                    <a:pt x="5747" y="3818"/>
                  </a:lnTo>
                  <a:lnTo>
                    <a:pt x="5760" y="3859"/>
                  </a:lnTo>
                  <a:lnTo>
                    <a:pt x="5770" y="3886"/>
                  </a:lnTo>
                  <a:lnTo>
                    <a:pt x="5781" y="3914"/>
                  </a:lnTo>
                  <a:lnTo>
                    <a:pt x="5794" y="3945"/>
                  </a:lnTo>
                  <a:lnTo>
                    <a:pt x="5808" y="3976"/>
                  </a:lnTo>
                  <a:lnTo>
                    <a:pt x="5823" y="4006"/>
                  </a:lnTo>
                  <a:lnTo>
                    <a:pt x="5840" y="4035"/>
                  </a:lnTo>
                  <a:lnTo>
                    <a:pt x="5848" y="4047"/>
                  </a:lnTo>
                  <a:lnTo>
                    <a:pt x="5858" y="4059"/>
                  </a:lnTo>
                  <a:lnTo>
                    <a:pt x="5866" y="4069"/>
                  </a:lnTo>
                  <a:lnTo>
                    <a:pt x="5875" y="4079"/>
                  </a:lnTo>
                  <a:lnTo>
                    <a:pt x="5885" y="4086"/>
                  </a:lnTo>
                  <a:lnTo>
                    <a:pt x="5893" y="4094"/>
                  </a:lnTo>
                  <a:lnTo>
                    <a:pt x="5903" y="4099"/>
                  </a:lnTo>
                  <a:lnTo>
                    <a:pt x="5913" y="4101"/>
                  </a:lnTo>
                  <a:lnTo>
                    <a:pt x="5923" y="4102"/>
                  </a:lnTo>
                  <a:lnTo>
                    <a:pt x="5931" y="4100"/>
                  </a:lnTo>
                  <a:lnTo>
                    <a:pt x="5941" y="4096"/>
                  </a:lnTo>
                  <a:lnTo>
                    <a:pt x="5951" y="4090"/>
                  </a:lnTo>
                  <a:lnTo>
                    <a:pt x="5973" y="4073"/>
                  </a:lnTo>
                  <a:lnTo>
                    <a:pt x="6002" y="4048"/>
                  </a:lnTo>
                  <a:lnTo>
                    <a:pt x="6032" y="4017"/>
                  </a:lnTo>
                  <a:lnTo>
                    <a:pt x="6066" y="3984"/>
                  </a:lnTo>
                  <a:lnTo>
                    <a:pt x="6139" y="3907"/>
                  </a:lnTo>
                  <a:lnTo>
                    <a:pt x="6216" y="3826"/>
                  </a:lnTo>
                  <a:lnTo>
                    <a:pt x="6286" y="3748"/>
                  </a:lnTo>
                  <a:lnTo>
                    <a:pt x="6345" y="3683"/>
                  </a:lnTo>
                  <a:lnTo>
                    <a:pt x="6384" y="3637"/>
                  </a:lnTo>
                  <a:lnTo>
                    <a:pt x="6400" y="3620"/>
                  </a:lnTo>
                  <a:lnTo>
                    <a:pt x="6293" y="1997"/>
                  </a:lnTo>
                  <a:lnTo>
                    <a:pt x="6287" y="1982"/>
                  </a:lnTo>
                  <a:lnTo>
                    <a:pt x="6267" y="1942"/>
                  </a:lnTo>
                  <a:lnTo>
                    <a:pt x="6238" y="1886"/>
                  </a:lnTo>
                  <a:lnTo>
                    <a:pt x="6202" y="1818"/>
                  </a:lnTo>
                  <a:lnTo>
                    <a:pt x="6181" y="1784"/>
                  </a:lnTo>
                  <a:lnTo>
                    <a:pt x="6160" y="1749"/>
                  </a:lnTo>
                  <a:lnTo>
                    <a:pt x="6138" y="1716"/>
                  </a:lnTo>
                  <a:lnTo>
                    <a:pt x="6116" y="1685"/>
                  </a:lnTo>
                  <a:lnTo>
                    <a:pt x="6094" y="1658"/>
                  </a:lnTo>
                  <a:lnTo>
                    <a:pt x="6072" y="1634"/>
                  </a:lnTo>
                  <a:lnTo>
                    <a:pt x="6061" y="1624"/>
                  </a:lnTo>
                  <a:lnTo>
                    <a:pt x="6051" y="1615"/>
                  </a:lnTo>
                  <a:lnTo>
                    <a:pt x="6040" y="1608"/>
                  </a:lnTo>
                  <a:lnTo>
                    <a:pt x="6030" y="1603"/>
                  </a:lnTo>
                  <a:lnTo>
                    <a:pt x="5987" y="1578"/>
                  </a:lnTo>
                  <a:lnTo>
                    <a:pt x="5938" y="1550"/>
                  </a:lnTo>
                  <a:lnTo>
                    <a:pt x="5881" y="1517"/>
                  </a:lnTo>
                  <a:lnTo>
                    <a:pt x="5821" y="1481"/>
                  </a:lnTo>
                  <a:lnTo>
                    <a:pt x="5758" y="1446"/>
                  </a:lnTo>
                  <a:lnTo>
                    <a:pt x="5695" y="1411"/>
                  </a:lnTo>
                  <a:lnTo>
                    <a:pt x="5663" y="1395"/>
                  </a:lnTo>
                  <a:lnTo>
                    <a:pt x="5631" y="1380"/>
                  </a:lnTo>
                  <a:lnTo>
                    <a:pt x="5600" y="1366"/>
                  </a:lnTo>
                  <a:lnTo>
                    <a:pt x="5571" y="1352"/>
                  </a:lnTo>
                  <a:lnTo>
                    <a:pt x="5476" y="1311"/>
                  </a:lnTo>
                  <a:lnTo>
                    <a:pt x="5325" y="1245"/>
                  </a:lnTo>
                  <a:lnTo>
                    <a:pt x="5137" y="1163"/>
                  </a:lnTo>
                  <a:lnTo>
                    <a:pt x="4936" y="1073"/>
                  </a:lnTo>
                  <a:lnTo>
                    <a:pt x="4742" y="987"/>
                  </a:lnTo>
                  <a:lnTo>
                    <a:pt x="4577" y="913"/>
                  </a:lnTo>
                  <a:lnTo>
                    <a:pt x="4462" y="861"/>
                  </a:lnTo>
                  <a:lnTo>
                    <a:pt x="4419" y="842"/>
                  </a:lnTo>
                  <a:lnTo>
                    <a:pt x="2851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6232680" y="2632320"/>
              <a:ext cx="85680" cy="136440"/>
            </a:xfrm>
            <a:custGeom>
              <a:avLst/>
              <a:gdLst/>
              <a:ahLst/>
              <a:rect l="l" t="t" r="r" b="b"/>
              <a:pathLst>
                <a:path w="273" h="427">
                  <a:moveTo>
                    <a:pt x="273" y="0"/>
                  </a:moveTo>
                  <a:lnTo>
                    <a:pt x="269" y="0"/>
                  </a:lnTo>
                  <a:lnTo>
                    <a:pt x="255" y="2"/>
                  </a:lnTo>
                  <a:lnTo>
                    <a:pt x="234" y="6"/>
                  </a:lnTo>
                  <a:lnTo>
                    <a:pt x="207" y="12"/>
                  </a:lnTo>
                  <a:lnTo>
                    <a:pt x="176" y="22"/>
                  </a:lnTo>
                  <a:lnTo>
                    <a:pt x="143" y="34"/>
                  </a:lnTo>
                  <a:lnTo>
                    <a:pt x="126" y="42"/>
                  </a:lnTo>
                  <a:lnTo>
                    <a:pt x="109" y="50"/>
                  </a:lnTo>
                  <a:lnTo>
                    <a:pt x="91" y="60"/>
                  </a:lnTo>
                  <a:lnTo>
                    <a:pt x="75" y="70"/>
                  </a:lnTo>
                  <a:lnTo>
                    <a:pt x="61" y="81"/>
                  </a:lnTo>
                  <a:lnTo>
                    <a:pt x="47" y="93"/>
                  </a:lnTo>
                  <a:lnTo>
                    <a:pt x="35" y="104"/>
                  </a:lnTo>
                  <a:lnTo>
                    <a:pt x="25" y="116"/>
                  </a:lnTo>
                  <a:lnTo>
                    <a:pt x="16" y="128"/>
                  </a:lnTo>
                  <a:lnTo>
                    <a:pt x="9" y="139"/>
                  </a:lnTo>
                  <a:lnTo>
                    <a:pt x="4" y="151"/>
                  </a:lnTo>
                  <a:lnTo>
                    <a:pt x="2" y="163"/>
                  </a:lnTo>
                  <a:lnTo>
                    <a:pt x="0" y="177"/>
                  </a:lnTo>
                  <a:lnTo>
                    <a:pt x="2" y="189"/>
                  </a:lnTo>
                  <a:lnTo>
                    <a:pt x="4" y="203"/>
                  </a:lnTo>
                  <a:lnTo>
                    <a:pt x="9" y="218"/>
                  </a:lnTo>
                  <a:lnTo>
                    <a:pt x="15" y="232"/>
                  </a:lnTo>
                  <a:lnTo>
                    <a:pt x="24" y="247"/>
                  </a:lnTo>
                  <a:lnTo>
                    <a:pt x="35" y="263"/>
                  </a:lnTo>
                  <a:lnTo>
                    <a:pt x="48" y="279"/>
                  </a:lnTo>
                  <a:lnTo>
                    <a:pt x="77" y="312"/>
                  </a:lnTo>
                  <a:lnTo>
                    <a:pt x="104" y="342"/>
                  </a:lnTo>
                  <a:lnTo>
                    <a:pt x="129" y="366"/>
                  </a:lnTo>
                  <a:lnTo>
                    <a:pt x="150" y="387"/>
                  </a:lnTo>
                  <a:lnTo>
                    <a:pt x="169" y="405"/>
                  </a:lnTo>
                  <a:lnTo>
                    <a:pt x="182" y="417"/>
                  </a:lnTo>
                  <a:lnTo>
                    <a:pt x="192" y="424"/>
                  </a:lnTo>
                  <a:lnTo>
                    <a:pt x="195" y="427"/>
                  </a:lnTo>
                  <a:lnTo>
                    <a:pt x="198" y="411"/>
                  </a:lnTo>
                  <a:lnTo>
                    <a:pt x="208" y="369"/>
                  </a:lnTo>
                  <a:lnTo>
                    <a:pt x="221" y="309"/>
                  </a:lnTo>
                  <a:lnTo>
                    <a:pt x="237" y="237"/>
                  </a:lnTo>
                  <a:lnTo>
                    <a:pt x="251" y="163"/>
                  </a:lnTo>
                  <a:lnTo>
                    <a:pt x="264" y="93"/>
                  </a:lnTo>
                  <a:lnTo>
                    <a:pt x="269" y="64"/>
                  </a:lnTo>
                  <a:lnTo>
                    <a:pt x="272" y="37"/>
                  </a:lnTo>
                  <a:lnTo>
                    <a:pt x="273" y="15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6269040" y="2417760"/>
              <a:ext cx="531720" cy="1074960"/>
            </a:xfrm>
            <a:custGeom>
              <a:avLst/>
              <a:gdLst/>
              <a:ahLst/>
              <a:rect l="l" t="t" r="r" b="b"/>
              <a:pathLst>
                <a:path w="1679" h="3384">
                  <a:moveTo>
                    <a:pt x="158" y="61"/>
                  </a:moveTo>
                  <a:lnTo>
                    <a:pt x="160" y="94"/>
                  </a:lnTo>
                  <a:lnTo>
                    <a:pt x="162" y="185"/>
                  </a:lnTo>
                  <a:lnTo>
                    <a:pt x="162" y="248"/>
                  </a:lnTo>
                  <a:lnTo>
                    <a:pt x="161" y="321"/>
                  </a:lnTo>
                  <a:lnTo>
                    <a:pt x="158" y="401"/>
                  </a:lnTo>
                  <a:lnTo>
                    <a:pt x="155" y="487"/>
                  </a:lnTo>
                  <a:lnTo>
                    <a:pt x="149" y="579"/>
                  </a:lnTo>
                  <a:lnTo>
                    <a:pt x="140" y="673"/>
                  </a:lnTo>
                  <a:lnTo>
                    <a:pt x="134" y="720"/>
                  </a:lnTo>
                  <a:lnTo>
                    <a:pt x="128" y="768"/>
                  </a:lnTo>
                  <a:lnTo>
                    <a:pt x="120" y="815"/>
                  </a:lnTo>
                  <a:lnTo>
                    <a:pt x="113" y="863"/>
                  </a:lnTo>
                  <a:lnTo>
                    <a:pt x="104" y="909"/>
                  </a:lnTo>
                  <a:lnTo>
                    <a:pt x="94" y="955"/>
                  </a:lnTo>
                  <a:lnTo>
                    <a:pt x="83" y="999"/>
                  </a:lnTo>
                  <a:lnTo>
                    <a:pt x="71" y="1042"/>
                  </a:lnTo>
                  <a:lnTo>
                    <a:pt x="58" y="1085"/>
                  </a:lnTo>
                  <a:lnTo>
                    <a:pt x="44" y="1126"/>
                  </a:lnTo>
                  <a:lnTo>
                    <a:pt x="28" y="1164"/>
                  </a:lnTo>
                  <a:lnTo>
                    <a:pt x="12" y="1201"/>
                  </a:lnTo>
                  <a:lnTo>
                    <a:pt x="7" y="1212"/>
                  </a:lnTo>
                  <a:lnTo>
                    <a:pt x="3" y="1223"/>
                  </a:lnTo>
                  <a:lnTo>
                    <a:pt x="1" y="1234"/>
                  </a:lnTo>
                  <a:lnTo>
                    <a:pt x="0" y="1244"/>
                  </a:lnTo>
                  <a:lnTo>
                    <a:pt x="0" y="1255"/>
                  </a:lnTo>
                  <a:lnTo>
                    <a:pt x="0" y="1265"/>
                  </a:lnTo>
                  <a:lnTo>
                    <a:pt x="2" y="1276"/>
                  </a:lnTo>
                  <a:lnTo>
                    <a:pt x="5" y="1287"/>
                  </a:lnTo>
                  <a:lnTo>
                    <a:pt x="8" y="1297"/>
                  </a:lnTo>
                  <a:lnTo>
                    <a:pt x="12" y="1308"/>
                  </a:lnTo>
                  <a:lnTo>
                    <a:pt x="18" y="1319"/>
                  </a:lnTo>
                  <a:lnTo>
                    <a:pt x="24" y="1330"/>
                  </a:lnTo>
                  <a:lnTo>
                    <a:pt x="39" y="1355"/>
                  </a:lnTo>
                  <a:lnTo>
                    <a:pt x="56" y="1379"/>
                  </a:lnTo>
                  <a:lnTo>
                    <a:pt x="99" y="1436"/>
                  </a:lnTo>
                  <a:lnTo>
                    <a:pt x="152" y="1503"/>
                  </a:lnTo>
                  <a:lnTo>
                    <a:pt x="181" y="1542"/>
                  </a:lnTo>
                  <a:lnTo>
                    <a:pt x="210" y="1585"/>
                  </a:lnTo>
                  <a:lnTo>
                    <a:pt x="241" y="1630"/>
                  </a:lnTo>
                  <a:lnTo>
                    <a:pt x="273" y="1682"/>
                  </a:lnTo>
                  <a:lnTo>
                    <a:pt x="307" y="1743"/>
                  </a:lnTo>
                  <a:lnTo>
                    <a:pt x="344" y="1809"/>
                  </a:lnTo>
                  <a:lnTo>
                    <a:pt x="380" y="1877"/>
                  </a:lnTo>
                  <a:lnTo>
                    <a:pt x="418" y="1950"/>
                  </a:lnTo>
                  <a:lnTo>
                    <a:pt x="493" y="2101"/>
                  </a:lnTo>
                  <a:lnTo>
                    <a:pt x="572" y="2256"/>
                  </a:lnTo>
                  <a:lnTo>
                    <a:pt x="611" y="2335"/>
                  </a:lnTo>
                  <a:lnTo>
                    <a:pt x="651" y="2411"/>
                  </a:lnTo>
                  <a:lnTo>
                    <a:pt x="690" y="2486"/>
                  </a:lnTo>
                  <a:lnTo>
                    <a:pt x="729" y="2560"/>
                  </a:lnTo>
                  <a:lnTo>
                    <a:pt x="769" y="2630"/>
                  </a:lnTo>
                  <a:lnTo>
                    <a:pt x="808" y="2697"/>
                  </a:lnTo>
                  <a:lnTo>
                    <a:pt x="847" y="2759"/>
                  </a:lnTo>
                  <a:lnTo>
                    <a:pt x="887" y="2817"/>
                  </a:lnTo>
                  <a:lnTo>
                    <a:pt x="906" y="2845"/>
                  </a:lnTo>
                  <a:lnTo>
                    <a:pt x="925" y="2874"/>
                  </a:lnTo>
                  <a:lnTo>
                    <a:pt x="943" y="2902"/>
                  </a:lnTo>
                  <a:lnTo>
                    <a:pt x="959" y="2930"/>
                  </a:lnTo>
                  <a:lnTo>
                    <a:pt x="991" y="2986"/>
                  </a:lnTo>
                  <a:lnTo>
                    <a:pt x="1020" y="3040"/>
                  </a:lnTo>
                  <a:lnTo>
                    <a:pt x="1069" y="3143"/>
                  </a:lnTo>
                  <a:lnTo>
                    <a:pt x="1109" y="3233"/>
                  </a:lnTo>
                  <a:lnTo>
                    <a:pt x="1128" y="3271"/>
                  </a:lnTo>
                  <a:lnTo>
                    <a:pt x="1145" y="3305"/>
                  </a:lnTo>
                  <a:lnTo>
                    <a:pt x="1154" y="3320"/>
                  </a:lnTo>
                  <a:lnTo>
                    <a:pt x="1162" y="3334"/>
                  </a:lnTo>
                  <a:lnTo>
                    <a:pt x="1170" y="3346"/>
                  </a:lnTo>
                  <a:lnTo>
                    <a:pt x="1178" y="3357"/>
                  </a:lnTo>
                  <a:lnTo>
                    <a:pt x="1186" y="3366"/>
                  </a:lnTo>
                  <a:lnTo>
                    <a:pt x="1194" y="3373"/>
                  </a:lnTo>
                  <a:lnTo>
                    <a:pt x="1203" y="3379"/>
                  </a:lnTo>
                  <a:lnTo>
                    <a:pt x="1210" y="3382"/>
                  </a:lnTo>
                  <a:lnTo>
                    <a:pt x="1219" y="3384"/>
                  </a:lnTo>
                  <a:lnTo>
                    <a:pt x="1228" y="3384"/>
                  </a:lnTo>
                  <a:lnTo>
                    <a:pt x="1236" y="3382"/>
                  </a:lnTo>
                  <a:lnTo>
                    <a:pt x="1245" y="3377"/>
                  </a:lnTo>
                  <a:lnTo>
                    <a:pt x="1252" y="3372"/>
                  </a:lnTo>
                  <a:lnTo>
                    <a:pt x="1258" y="3366"/>
                  </a:lnTo>
                  <a:lnTo>
                    <a:pt x="1264" y="3357"/>
                  </a:lnTo>
                  <a:lnTo>
                    <a:pt x="1271" y="3347"/>
                  </a:lnTo>
                  <a:lnTo>
                    <a:pt x="1284" y="3323"/>
                  </a:lnTo>
                  <a:lnTo>
                    <a:pt x="1298" y="3293"/>
                  </a:lnTo>
                  <a:lnTo>
                    <a:pt x="1311" y="3257"/>
                  </a:lnTo>
                  <a:lnTo>
                    <a:pt x="1325" y="3218"/>
                  </a:lnTo>
                  <a:lnTo>
                    <a:pt x="1338" y="3175"/>
                  </a:lnTo>
                  <a:lnTo>
                    <a:pt x="1352" y="3127"/>
                  </a:lnTo>
                  <a:lnTo>
                    <a:pt x="1380" y="3025"/>
                  </a:lnTo>
                  <a:lnTo>
                    <a:pt x="1410" y="2916"/>
                  </a:lnTo>
                  <a:lnTo>
                    <a:pt x="1439" y="2802"/>
                  </a:lnTo>
                  <a:lnTo>
                    <a:pt x="1471" y="2692"/>
                  </a:lnTo>
                  <a:lnTo>
                    <a:pt x="1486" y="2644"/>
                  </a:lnTo>
                  <a:lnTo>
                    <a:pt x="1503" y="2597"/>
                  </a:lnTo>
                  <a:lnTo>
                    <a:pt x="1522" y="2550"/>
                  </a:lnTo>
                  <a:lnTo>
                    <a:pt x="1541" y="2503"/>
                  </a:lnTo>
                  <a:lnTo>
                    <a:pt x="1582" y="2411"/>
                  </a:lnTo>
                  <a:lnTo>
                    <a:pt x="1620" y="2319"/>
                  </a:lnTo>
                  <a:lnTo>
                    <a:pt x="1636" y="2273"/>
                  </a:lnTo>
                  <a:lnTo>
                    <a:pt x="1651" y="2228"/>
                  </a:lnTo>
                  <a:lnTo>
                    <a:pt x="1658" y="2205"/>
                  </a:lnTo>
                  <a:lnTo>
                    <a:pt x="1663" y="2181"/>
                  </a:lnTo>
                  <a:lnTo>
                    <a:pt x="1668" y="2159"/>
                  </a:lnTo>
                  <a:lnTo>
                    <a:pt x="1673" y="2136"/>
                  </a:lnTo>
                  <a:lnTo>
                    <a:pt x="1675" y="2112"/>
                  </a:lnTo>
                  <a:lnTo>
                    <a:pt x="1678" y="2089"/>
                  </a:lnTo>
                  <a:lnTo>
                    <a:pt x="1679" y="2066"/>
                  </a:lnTo>
                  <a:lnTo>
                    <a:pt x="1679" y="2042"/>
                  </a:lnTo>
                  <a:lnTo>
                    <a:pt x="1678" y="2019"/>
                  </a:lnTo>
                  <a:lnTo>
                    <a:pt x="1675" y="1995"/>
                  </a:lnTo>
                  <a:lnTo>
                    <a:pt x="1672" y="1972"/>
                  </a:lnTo>
                  <a:lnTo>
                    <a:pt x="1667" y="1947"/>
                  </a:lnTo>
                  <a:lnTo>
                    <a:pt x="1643" y="1853"/>
                  </a:lnTo>
                  <a:lnTo>
                    <a:pt x="1621" y="1767"/>
                  </a:lnTo>
                  <a:lnTo>
                    <a:pt x="1600" y="1689"/>
                  </a:lnTo>
                  <a:lnTo>
                    <a:pt x="1582" y="1622"/>
                  </a:lnTo>
                  <a:lnTo>
                    <a:pt x="1565" y="1561"/>
                  </a:lnTo>
                  <a:lnTo>
                    <a:pt x="1547" y="1508"/>
                  </a:lnTo>
                  <a:lnTo>
                    <a:pt x="1533" y="1463"/>
                  </a:lnTo>
                  <a:lnTo>
                    <a:pt x="1519" y="1424"/>
                  </a:lnTo>
                  <a:lnTo>
                    <a:pt x="1506" y="1389"/>
                  </a:lnTo>
                  <a:lnTo>
                    <a:pt x="1493" y="1360"/>
                  </a:lnTo>
                  <a:lnTo>
                    <a:pt x="1481" y="1335"/>
                  </a:lnTo>
                  <a:lnTo>
                    <a:pt x="1470" y="1313"/>
                  </a:lnTo>
                  <a:lnTo>
                    <a:pt x="1460" y="1294"/>
                  </a:lnTo>
                  <a:lnTo>
                    <a:pt x="1450" y="1280"/>
                  </a:lnTo>
                  <a:lnTo>
                    <a:pt x="1440" y="1265"/>
                  </a:lnTo>
                  <a:lnTo>
                    <a:pt x="1431" y="1253"/>
                  </a:lnTo>
                  <a:lnTo>
                    <a:pt x="1426" y="1246"/>
                  </a:lnTo>
                  <a:lnTo>
                    <a:pt x="1423" y="1239"/>
                  </a:lnTo>
                  <a:lnTo>
                    <a:pt x="1422" y="1232"/>
                  </a:lnTo>
                  <a:lnTo>
                    <a:pt x="1421" y="1223"/>
                  </a:lnTo>
                  <a:lnTo>
                    <a:pt x="1422" y="1205"/>
                  </a:lnTo>
                  <a:lnTo>
                    <a:pt x="1426" y="1182"/>
                  </a:lnTo>
                  <a:lnTo>
                    <a:pt x="1432" y="1160"/>
                  </a:lnTo>
                  <a:lnTo>
                    <a:pt x="1437" y="1134"/>
                  </a:lnTo>
                  <a:lnTo>
                    <a:pt x="1442" y="1107"/>
                  </a:lnTo>
                  <a:lnTo>
                    <a:pt x="1445" y="1079"/>
                  </a:lnTo>
                  <a:lnTo>
                    <a:pt x="1445" y="1064"/>
                  </a:lnTo>
                  <a:lnTo>
                    <a:pt x="1445" y="1048"/>
                  </a:lnTo>
                  <a:lnTo>
                    <a:pt x="1444" y="1032"/>
                  </a:lnTo>
                  <a:lnTo>
                    <a:pt x="1442" y="1016"/>
                  </a:lnTo>
                  <a:lnTo>
                    <a:pt x="1438" y="1000"/>
                  </a:lnTo>
                  <a:lnTo>
                    <a:pt x="1432" y="984"/>
                  </a:lnTo>
                  <a:lnTo>
                    <a:pt x="1426" y="967"/>
                  </a:lnTo>
                  <a:lnTo>
                    <a:pt x="1417" y="950"/>
                  </a:lnTo>
                  <a:lnTo>
                    <a:pt x="1407" y="933"/>
                  </a:lnTo>
                  <a:lnTo>
                    <a:pt x="1395" y="916"/>
                  </a:lnTo>
                  <a:lnTo>
                    <a:pt x="1380" y="897"/>
                  </a:lnTo>
                  <a:lnTo>
                    <a:pt x="1364" y="880"/>
                  </a:lnTo>
                  <a:lnTo>
                    <a:pt x="1344" y="861"/>
                  </a:lnTo>
                  <a:lnTo>
                    <a:pt x="1323" y="844"/>
                  </a:lnTo>
                  <a:lnTo>
                    <a:pt x="1299" y="826"/>
                  </a:lnTo>
                  <a:lnTo>
                    <a:pt x="1273" y="807"/>
                  </a:lnTo>
                  <a:lnTo>
                    <a:pt x="1244" y="786"/>
                  </a:lnTo>
                  <a:lnTo>
                    <a:pt x="1212" y="763"/>
                  </a:lnTo>
                  <a:lnTo>
                    <a:pt x="1177" y="736"/>
                  </a:lnTo>
                  <a:lnTo>
                    <a:pt x="1141" y="706"/>
                  </a:lnTo>
                  <a:lnTo>
                    <a:pt x="1065" y="640"/>
                  </a:lnTo>
                  <a:lnTo>
                    <a:pt x="984" y="566"/>
                  </a:lnTo>
                  <a:lnTo>
                    <a:pt x="899" y="487"/>
                  </a:lnTo>
                  <a:lnTo>
                    <a:pt x="812" y="408"/>
                  </a:lnTo>
                  <a:lnTo>
                    <a:pt x="723" y="328"/>
                  </a:lnTo>
                  <a:lnTo>
                    <a:pt x="636" y="250"/>
                  </a:lnTo>
                  <a:lnTo>
                    <a:pt x="593" y="214"/>
                  </a:lnTo>
                  <a:lnTo>
                    <a:pt x="551" y="179"/>
                  </a:lnTo>
                  <a:lnTo>
                    <a:pt x="510" y="147"/>
                  </a:lnTo>
                  <a:lnTo>
                    <a:pt x="471" y="116"/>
                  </a:lnTo>
                  <a:lnTo>
                    <a:pt x="433" y="89"/>
                  </a:lnTo>
                  <a:lnTo>
                    <a:pt x="396" y="64"/>
                  </a:lnTo>
                  <a:lnTo>
                    <a:pt x="361" y="43"/>
                  </a:lnTo>
                  <a:lnTo>
                    <a:pt x="328" y="26"/>
                  </a:lnTo>
                  <a:lnTo>
                    <a:pt x="297" y="13"/>
                  </a:lnTo>
                  <a:lnTo>
                    <a:pt x="269" y="4"/>
                  </a:lnTo>
                  <a:lnTo>
                    <a:pt x="243" y="0"/>
                  </a:lnTo>
                  <a:lnTo>
                    <a:pt x="220" y="0"/>
                  </a:lnTo>
                  <a:lnTo>
                    <a:pt x="199" y="7"/>
                  </a:lnTo>
                  <a:lnTo>
                    <a:pt x="183" y="19"/>
                  </a:lnTo>
                  <a:lnTo>
                    <a:pt x="168" y="36"/>
                  </a:lnTo>
                  <a:lnTo>
                    <a:pt x="158" y="61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6632640" y="2765520"/>
              <a:ext cx="115920" cy="274680"/>
            </a:xfrm>
            <a:custGeom>
              <a:avLst/>
              <a:gdLst/>
              <a:ahLst/>
              <a:rect l="l" t="t" r="r" b="b"/>
              <a:pathLst>
                <a:path w="365" h="866">
                  <a:moveTo>
                    <a:pt x="178" y="0"/>
                  </a:moveTo>
                  <a:lnTo>
                    <a:pt x="172" y="17"/>
                  </a:lnTo>
                  <a:lnTo>
                    <a:pt x="156" y="63"/>
                  </a:lnTo>
                  <a:lnTo>
                    <a:pt x="132" y="129"/>
                  </a:lnTo>
                  <a:lnTo>
                    <a:pt x="103" y="208"/>
                  </a:lnTo>
                  <a:lnTo>
                    <a:pt x="75" y="292"/>
                  </a:lnTo>
                  <a:lnTo>
                    <a:pt x="47" y="372"/>
                  </a:lnTo>
                  <a:lnTo>
                    <a:pt x="25" y="439"/>
                  </a:lnTo>
                  <a:lnTo>
                    <a:pt x="11" y="486"/>
                  </a:lnTo>
                  <a:lnTo>
                    <a:pt x="6" y="503"/>
                  </a:lnTo>
                  <a:lnTo>
                    <a:pt x="3" y="522"/>
                  </a:lnTo>
                  <a:lnTo>
                    <a:pt x="1" y="539"/>
                  </a:lnTo>
                  <a:lnTo>
                    <a:pt x="0" y="557"/>
                  </a:lnTo>
                  <a:lnTo>
                    <a:pt x="0" y="575"/>
                  </a:lnTo>
                  <a:lnTo>
                    <a:pt x="3" y="593"/>
                  </a:lnTo>
                  <a:lnTo>
                    <a:pt x="5" y="610"/>
                  </a:lnTo>
                  <a:lnTo>
                    <a:pt x="9" y="629"/>
                  </a:lnTo>
                  <a:lnTo>
                    <a:pt x="14" y="646"/>
                  </a:lnTo>
                  <a:lnTo>
                    <a:pt x="20" y="663"/>
                  </a:lnTo>
                  <a:lnTo>
                    <a:pt x="26" y="680"/>
                  </a:lnTo>
                  <a:lnTo>
                    <a:pt x="35" y="698"/>
                  </a:lnTo>
                  <a:lnTo>
                    <a:pt x="43" y="714"/>
                  </a:lnTo>
                  <a:lnTo>
                    <a:pt x="53" y="729"/>
                  </a:lnTo>
                  <a:lnTo>
                    <a:pt x="64" y="745"/>
                  </a:lnTo>
                  <a:lnTo>
                    <a:pt x="76" y="760"/>
                  </a:lnTo>
                  <a:lnTo>
                    <a:pt x="89" y="775"/>
                  </a:lnTo>
                  <a:lnTo>
                    <a:pt x="103" y="790"/>
                  </a:lnTo>
                  <a:lnTo>
                    <a:pt x="119" y="805"/>
                  </a:lnTo>
                  <a:lnTo>
                    <a:pt x="137" y="818"/>
                  </a:lnTo>
                  <a:lnTo>
                    <a:pt x="155" y="832"/>
                  </a:lnTo>
                  <a:lnTo>
                    <a:pt x="174" y="843"/>
                  </a:lnTo>
                  <a:lnTo>
                    <a:pt x="193" y="852"/>
                  </a:lnTo>
                  <a:lnTo>
                    <a:pt x="213" y="860"/>
                  </a:lnTo>
                  <a:lnTo>
                    <a:pt x="223" y="862"/>
                  </a:lnTo>
                  <a:lnTo>
                    <a:pt x="233" y="865"/>
                  </a:lnTo>
                  <a:lnTo>
                    <a:pt x="242" y="866"/>
                  </a:lnTo>
                  <a:lnTo>
                    <a:pt x="252" y="866"/>
                  </a:lnTo>
                  <a:lnTo>
                    <a:pt x="261" y="866"/>
                  </a:lnTo>
                  <a:lnTo>
                    <a:pt x="271" y="866"/>
                  </a:lnTo>
                  <a:lnTo>
                    <a:pt x="281" y="864"/>
                  </a:lnTo>
                  <a:lnTo>
                    <a:pt x="289" y="861"/>
                  </a:lnTo>
                  <a:lnTo>
                    <a:pt x="298" y="857"/>
                  </a:lnTo>
                  <a:lnTo>
                    <a:pt x="306" y="852"/>
                  </a:lnTo>
                  <a:lnTo>
                    <a:pt x="315" y="848"/>
                  </a:lnTo>
                  <a:lnTo>
                    <a:pt x="322" y="840"/>
                  </a:lnTo>
                  <a:lnTo>
                    <a:pt x="330" y="833"/>
                  </a:lnTo>
                  <a:lnTo>
                    <a:pt x="337" y="823"/>
                  </a:lnTo>
                  <a:lnTo>
                    <a:pt x="343" y="813"/>
                  </a:lnTo>
                  <a:lnTo>
                    <a:pt x="351" y="801"/>
                  </a:lnTo>
                  <a:lnTo>
                    <a:pt x="356" y="789"/>
                  </a:lnTo>
                  <a:lnTo>
                    <a:pt x="359" y="773"/>
                  </a:lnTo>
                  <a:lnTo>
                    <a:pt x="363" y="755"/>
                  </a:lnTo>
                  <a:lnTo>
                    <a:pt x="364" y="736"/>
                  </a:lnTo>
                  <a:lnTo>
                    <a:pt x="365" y="715"/>
                  </a:lnTo>
                  <a:lnTo>
                    <a:pt x="365" y="693"/>
                  </a:lnTo>
                  <a:lnTo>
                    <a:pt x="364" y="668"/>
                  </a:lnTo>
                  <a:lnTo>
                    <a:pt x="362" y="643"/>
                  </a:lnTo>
                  <a:lnTo>
                    <a:pt x="356" y="589"/>
                  </a:lnTo>
                  <a:lnTo>
                    <a:pt x="346" y="533"/>
                  </a:lnTo>
                  <a:lnTo>
                    <a:pt x="334" y="472"/>
                  </a:lnTo>
                  <a:lnTo>
                    <a:pt x="319" y="411"/>
                  </a:lnTo>
                  <a:lnTo>
                    <a:pt x="303" y="349"/>
                  </a:lnTo>
                  <a:lnTo>
                    <a:pt x="286" y="288"/>
                  </a:lnTo>
                  <a:lnTo>
                    <a:pt x="267" y="229"/>
                  </a:lnTo>
                  <a:lnTo>
                    <a:pt x="249" y="174"/>
                  </a:lnTo>
                  <a:lnTo>
                    <a:pt x="230" y="122"/>
                  </a:lnTo>
                  <a:lnTo>
                    <a:pt x="212" y="74"/>
                  </a:lnTo>
                  <a:lnTo>
                    <a:pt x="194" y="33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6635880" y="2765520"/>
              <a:ext cx="108000" cy="257040"/>
            </a:xfrm>
            <a:custGeom>
              <a:avLst/>
              <a:gdLst/>
              <a:ahLst/>
              <a:rect l="l" t="t" r="r" b="b"/>
              <a:pathLst>
                <a:path w="342" h="811">
                  <a:moveTo>
                    <a:pt x="69" y="712"/>
                  </a:moveTo>
                  <a:lnTo>
                    <a:pt x="58" y="698"/>
                  </a:lnTo>
                  <a:lnTo>
                    <a:pt x="48" y="683"/>
                  </a:lnTo>
                  <a:lnTo>
                    <a:pt x="40" y="668"/>
                  </a:lnTo>
                  <a:lnTo>
                    <a:pt x="31" y="653"/>
                  </a:lnTo>
                  <a:lnTo>
                    <a:pt x="24" y="637"/>
                  </a:lnTo>
                  <a:lnTo>
                    <a:pt x="18" y="621"/>
                  </a:lnTo>
                  <a:lnTo>
                    <a:pt x="13" y="604"/>
                  </a:lnTo>
                  <a:lnTo>
                    <a:pt x="8" y="588"/>
                  </a:lnTo>
                  <a:lnTo>
                    <a:pt x="4" y="571"/>
                  </a:lnTo>
                  <a:lnTo>
                    <a:pt x="2" y="554"/>
                  </a:lnTo>
                  <a:lnTo>
                    <a:pt x="0" y="538"/>
                  </a:lnTo>
                  <a:lnTo>
                    <a:pt x="0" y="520"/>
                  </a:lnTo>
                  <a:lnTo>
                    <a:pt x="0" y="503"/>
                  </a:lnTo>
                  <a:lnTo>
                    <a:pt x="3" y="487"/>
                  </a:lnTo>
                  <a:lnTo>
                    <a:pt x="5" y="470"/>
                  </a:lnTo>
                  <a:lnTo>
                    <a:pt x="9" y="454"/>
                  </a:lnTo>
                  <a:lnTo>
                    <a:pt x="24" y="410"/>
                  </a:lnTo>
                  <a:lnTo>
                    <a:pt x="45" y="347"/>
                  </a:lnTo>
                  <a:lnTo>
                    <a:pt x="71" y="273"/>
                  </a:lnTo>
                  <a:lnTo>
                    <a:pt x="98" y="196"/>
                  </a:lnTo>
                  <a:lnTo>
                    <a:pt x="123" y="122"/>
                  </a:lnTo>
                  <a:lnTo>
                    <a:pt x="146" y="59"/>
                  </a:lnTo>
                  <a:lnTo>
                    <a:pt x="162" y="16"/>
                  </a:lnTo>
                  <a:lnTo>
                    <a:pt x="166" y="0"/>
                  </a:lnTo>
                  <a:lnTo>
                    <a:pt x="182" y="31"/>
                  </a:lnTo>
                  <a:lnTo>
                    <a:pt x="198" y="69"/>
                  </a:lnTo>
                  <a:lnTo>
                    <a:pt x="216" y="113"/>
                  </a:lnTo>
                  <a:lnTo>
                    <a:pt x="233" y="161"/>
                  </a:lnTo>
                  <a:lnTo>
                    <a:pt x="250" y="214"/>
                  </a:lnTo>
                  <a:lnTo>
                    <a:pt x="267" y="268"/>
                  </a:lnTo>
                  <a:lnTo>
                    <a:pt x="285" y="326"/>
                  </a:lnTo>
                  <a:lnTo>
                    <a:pt x="299" y="383"/>
                  </a:lnTo>
                  <a:lnTo>
                    <a:pt x="313" y="440"/>
                  </a:lnTo>
                  <a:lnTo>
                    <a:pt x="324" y="496"/>
                  </a:lnTo>
                  <a:lnTo>
                    <a:pt x="334" y="550"/>
                  </a:lnTo>
                  <a:lnTo>
                    <a:pt x="340" y="600"/>
                  </a:lnTo>
                  <a:lnTo>
                    <a:pt x="341" y="624"/>
                  </a:lnTo>
                  <a:lnTo>
                    <a:pt x="342" y="647"/>
                  </a:lnTo>
                  <a:lnTo>
                    <a:pt x="342" y="668"/>
                  </a:lnTo>
                  <a:lnTo>
                    <a:pt x="341" y="688"/>
                  </a:lnTo>
                  <a:lnTo>
                    <a:pt x="340" y="706"/>
                  </a:lnTo>
                  <a:lnTo>
                    <a:pt x="336" y="722"/>
                  </a:lnTo>
                  <a:lnTo>
                    <a:pt x="333" y="737"/>
                  </a:lnTo>
                  <a:lnTo>
                    <a:pt x="328" y="749"/>
                  </a:lnTo>
                  <a:lnTo>
                    <a:pt x="322" y="760"/>
                  </a:lnTo>
                  <a:lnTo>
                    <a:pt x="315" y="770"/>
                  </a:lnTo>
                  <a:lnTo>
                    <a:pt x="309" y="779"/>
                  </a:lnTo>
                  <a:lnTo>
                    <a:pt x="302" y="786"/>
                  </a:lnTo>
                  <a:lnTo>
                    <a:pt x="294" y="792"/>
                  </a:lnTo>
                  <a:lnTo>
                    <a:pt x="287" y="798"/>
                  </a:lnTo>
                  <a:lnTo>
                    <a:pt x="278" y="802"/>
                  </a:lnTo>
                  <a:lnTo>
                    <a:pt x="271" y="806"/>
                  </a:lnTo>
                  <a:lnTo>
                    <a:pt x="262" y="808"/>
                  </a:lnTo>
                  <a:lnTo>
                    <a:pt x="254" y="809"/>
                  </a:lnTo>
                  <a:lnTo>
                    <a:pt x="245" y="811"/>
                  </a:lnTo>
                  <a:lnTo>
                    <a:pt x="235" y="811"/>
                  </a:lnTo>
                  <a:lnTo>
                    <a:pt x="227" y="811"/>
                  </a:lnTo>
                  <a:lnTo>
                    <a:pt x="218" y="808"/>
                  </a:lnTo>
                  <a:lnTo>
                    <a:pt x="208" y="807"/>
                  </a:lnTo>
                  <a:lnTo>
                    <a:pt x="200" y="805"/>
                  </a:lnTo>
                  <a:lnTo>
                    <a:pt x="181" y="797"/>
                  </a:lnTo>
                  <a:lnTo>
                    <a:pt x="163" y="789"/>
                  </a:lnTo>
                  <a:lnTo>
                    <a:pt x="144" y="777"/>
                  </a:lnTo>
                  <a:lnTo>
                    <a:pt x="127" y="766"/>
                  </a:lnTo>
                  <a:lnTo>
                    <a:pt x="111" y="753"/>
                  </a:lnTo>
                  <a:lnTo>
                    <a:pt x="96" y="739"/>
                  </a:lnTo>
                  <a:lnTo>
                    <a:pt x="82" y="726"/>
                  </a:lnTo>
                  <a:lnTo>
                    <a:pt x="69" y="712"/>
                  </a:lnTo>
                  <a:close/>
                </a:path>
              </a:pathLst>
            </a:custGeom>
            <a:solidFill>
              <a:srgbClr val="5c4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6638760" y="2765520"/>
              <a:ext cx="101880" cy="237960"/>
            </a:xfrm>
            <a:custGeom>
              <a:avLst/>
              <a:gdLst/>
              <a:ahLst/>
              <a:rect l="l" t="t" r="r" b="b"/>
              <a:pathLst>
                <a:path w="319" h="753">
                  <a:moveTo>
                    <a:pt x="67" y="663"/>
                  </a:moveTo>
                  <a:lnTo>
                    <a:pt x="56" y="650"/>
                  </a:lnTo>
                  <a:lnTo>
                    <a:pt x="46" y="636"/>
                  </a:lnTo>
                  <a:lnTo>
                    <a:pt x="37" y="622"/>
                  </a:lnTo>
                  <a:lnTo>
                    <a:pt x="30" y="608"/>
                  </a:lnTo>
                  <a:lnTo>
                    <a:pt x="23" y="593"/>
                  </a:lnTo>
                  <a:lnTo>
                    <a:pt x="16" y="578"/>
                  </a:lnTo>
                  <a:lnTo>
                    <a:pt x="12" y="563"/>
                  </a:lnTo>
                  <a:lnTo>
                    <a:pt x="8" y="547"/>
                  </a:lnTo>
                  <a:lnTo>
                    <a:pt x="4" y="531"/>
                  </a:lnTo>
                  <a:lnTo>
                    <a:pt x="2" y="517"/>
                  </a:lnTo>
                  <a:lnTo>
                    <a:pt x="0" y="501"/>
                  </a:lnTo>
                  <a:lnTo>
                    <a:pt x="0" y="485"/>
                  </a:lnTo>
                  <a:lnTo>
                    <a:pt x="0" y="469"/>
                  </a:lnTo>
                  <a:lnTo>
                    <a:pt x="3" y="454"/>
                  </a:lnTo>
                  <a:lnTo>
                    <a:pt x="5" y="439"/>
                  </a:lnTo>
                  <a:lnTo>
                    <a:pt x="9" y="423"/>
                  </a:lnTo>
                  <a:lnTo>
                    <a:pt x="21" y="383"/>
                  </a:lnTo>
                  <a:lnTo>
                    <a:pt x="41" y="324"/>
                  </a:lnTo>
                  <a:lnTo>
                    <a:pt x="66" y="253"/>
                  </a:lnTo>
                  <a:lnTo>
                    <a:pt x="90" y="181"/>
                  </a:lnTo>
                  <a:lnTo>
                    <a:pt x="115" y="112"/>
                  </a:lnTo>
                  <a:lnTo>
                    <a:pt x="136" y="54"/>
                  </a:lnTo>
                  <a:lnTo>
                    <a:pt x="151" y="15"/>
                  </a:lnTo>
                  <a:lnTo>
                    <a:pt x="155" y="0"/>
                  </a:lnTo>
                  <a:lnTo>
                    <a:pt x="170" y="30"/>
                  </a:lnTo>
                  <a:lnTo>
                    <a:pt x="185" y="65"/>
                  </a:lnTo>
                  <a:lnTo>
                    <a:pt x="201" y="106"/>
                  </a:lnTo>
                  <a:lnTo>
                    <a:pt x="217" y="151"/>
                  </a:lnTo>
                  <a:lnTo>
                    <a:pt x="233" y="199"/>
                  </a:lnTo>
                  <a:lnTo>
                    <a:pt x="249" y="251"/>
                  </a:lnTo>
                  <a:lnTo>
                    <a:pt x="265" y="304"/>
                  </a:lnTo>
                  <a:lnTo>
                    <a:pt x="279" y="357"/>
                  </a:lnTo>
                  <a:lnTo>
                    <a:pt x="291" y="410"/>
                  </a:lnTo>
                  <a:lnTo>
                    <a:pt x="302" y="461"/>
                  </a:lnTo>
                  <a:lnTo>
                    <a:pt x="311" y="512"/>
                  </a:lnTo>
                  <a:lnTo>
                    <a:pt x="317" y="559"/>
                  </a:lnTo>
                  <a:lnTo>
                    <a:pt x="318" y="579"/>
                  </a:lnTo>
                  <a:lnTo>
                    <a:pt x="319" y="600"/>
                  </a:lnTo>
                  <a:lnTo>
                    <a:pt x="319" y="620"/>
                  </a:lnTo>
                  <a:lnTo>
                    <a:pt x="318" y="638"/>
                  </a:lnTo>
                  <a:lnTo>
                    <a:pt x="317" y="656"/>
                  </a:lnTo>
                  <a:lnTo>
                    <a:pt x="314" y="670"/>
                  </a:lnTo>
                  <a:lnTo>
                    <a:pt x="311" y="684"/>
                  </a:lnTo>
                  <a:lnTo>
                    <a:pt x="306" y="695"/>
                  </a:lnTo>
                  <a:lnTo>
                    <a:pt x="299" y="706"/>
                  </a:lnTo>
                  <a:lnTo>
                    <a:pt x="295" y="715"/>
                  </a:lnTo>
                  <a:lnTo>
                    <a:pt x="288" y="722"/>
                  </a:lnTo>
                  <a:lnTo>
                    <a:pt x="281" y="729"/>
                  </a:lnTo>
                  <a:lnTo>
                    <a:pt x="275" y="736"/>
                  </a:lnTo>
                  <a:lnTo>
                    <a:pt x="267" y="741"/>
                  </a:lnTo>
                  <a:lnTo>
                    <a:pt x="260" y="744"/>
                  </a:lnTo>
                  <a:lnTo>
                    <a:pt x="253" y="748"/>
                  </a:lnTo>
                  <a:lnTo>
                    <a:pt x="244" y="750"/>
                  </a:lnTo>
                  <a:lnTo>
                    <a:pt x="237" y="752"/>
                  </a:lnTo>
                  <a:lnTo>
                    <a:pt x="228" y="753"/>
                  </a:lnTo>
                  <a:lnTo>
                    <a:pt x="219" y="753"/>
                  </a:lnTo>
                  <a:lnTo>
                    <a:pt x="203" y="752"/>
                  </a:lnTo>
                  <a:lnTo>
                    <a:pt x="186" y="748"/>
                  </a:lnTo>
                  <a:lnTo>
                    <a:pt x="169" y="741"/>
                  </a:lnTo>
                  <a:lnTo>
                    <a:pt x="152" y="733"/>
                  </a:lnTo>
                  <a:lnTo>
                    <a:pt x="136" y="723"/>
                  </a:lnTo>
                  <a:lnTo>
                    <a:pt x="120" y="712"/>
                  </a:lnTo>
                  <a:lnTo>
                    <a:pt x="105" y="701"/>
                  </a:lnTo>
                  <a:lnTo>
                    <a:pt x="90" y="689"/>
                  </a:lnTo>
                  <a:lnTo>
                    <a:pt x="78" y="675"/>
                  </a:lnTo>
                  <a:lnTo>
                    <a:pt x="67" y="663"/>
                  </a:lnTo>
                  <a:close/>
                </a:path>
              </a:pathLst>
            </a:custGeom>
            <a:solidFill>
              <a:srgbClr val="544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6643800" y="2765520"/>
              <a:ext cx="93600" cy="220680"/>
            </a:xfrm>
            <a:custGeom>
              <a:avLst/>
              <a:gdLst/>
              <a:ahLst/>
              <a:rect l="l" t="t" r="r" b="b"/>
              <a:pathLst>
                <a:path w="295" h="698">
                  <a:moveTo>
                    <a:pt x="60" y="611"/>
                  </a:moveTo>
                  <a:lnTo>
                    <a:pt x="50" y="599"/>
                  </a:lnTo>
                  <a:lnTo>
                    <a:pt x="41" y="587"/>
                  </a:lnTo>
                  <a:lnTo>
                    <a:pt x="34" y="575"/>
                  </a:lnTo>
                  <a:lnTo>
                    <a:pt x="27" y="561"/>
                  </a:lnTo>
                  <a:lnTo>
                    <a:pt x="20" y="547"/>
                  </a:lnTo>
                  <a:lnTo>
                    <a:pt x="16" y="534"/>
                  </a:lnTo>
                  <a:lnTo>
                    <a:pt x="11" y="519"/>
                  </a:lnTo>
                  <a:lnTo>
                    <a:pt x="7" y="506"/>
                  </a:lnTo>
                  <a:lnTo>
                    <a:pt x="3" y="491"/>
                  </a:lnTo>
                  <a:lnTo>
                    <a:pt x="2" y="476"/>
                  </a:lnTo>
                  <a:lnTo>
                    <a:pt x="1" y="463"/>
                  </a:lnTo>
                  <a:lnTo>
                    <a:pt x="0" y="448"/>
                  </a:lnTo>
                  <a:lnTo>
                    <a:pt x="1" y="433"/>
                  </a:lnTo>
                  <a:lnTo>
                    <a:pt x="2" y="420"/>
                  </a:lnTo>
                  <a:lnTo>
                    <a:pt x="4" y="405"/>
                  </a:lnTo>
                  <a:lnTo>
                    <a:pt x="8" y="391"/>
                  </a:lnTo>
                  <a:lnTo>
                    <a:pt x="20" y="353"/>
                  </a:lnTo>
                  <a:lnTo>
                    <a:pt x="39" y="299"/>
                  </a:lnTo>
                  <a:lnTo>
                    <a:pt x="61" y="235"/>
                  </a:lnTo>
                  <a:lnTo>
                    <a:pt x="84" y="169"/>
                  </a:lnTo>
                  <a:lnTo>
                    <a:pt x="107" y="105"/>
                  </a:lnTo>
                  <a:lnTo>
                    <a:pt x="126" y="51"/>
                  </a:lnTo>
                  <a:lnTo>
                    <a:pt x="139" y="14"/>
                  </a:lnTo>
                  <a:lnTo>
                    <a:pt x="143" y="0"/>
                  </a:lnTo>
                  <a:lnTo>
                    <a:pt x="157" y="27"/>
                  </a:lnTo>
                  <a:lnTo>
                    <a:pt x="171" y="60"/>
                  </a:lnTo>
                  <a:lnTo>
                    <a:pt x="185" y="97"/>
                  </a:lnTo>
                  <a:lnTo>
                    <a:pt x="200" y="139"/>
                  </a:lnTo>
                  <a:lnTo>
                    <a:pt x="216" y="185"/>
                  </a:lnTo>
                  <a:lnTo>
                    <a:pt x="230" y="231"/>
                  </a:lnTo>
                  <a:lnTo>
                    <a:pt x="244" y="281"/>
                  </a:lnTo>
                  <a:lnTo>
                    <a:pt x="257" y="330"/>
                  </a:lnTo>
                  <a:lnTo>
                    <a:pt x="269" y="379"/>
                  </a:lnTo>
                  <a:lnTo>
                    <a:pt x="279" y="427"/>
                  </a:lnTo>
                  <a:lnTo>
                    <a:pt x="286" y="474"/>
                  </a:lnTo>
                  <a:lnTo>
                    <a:pt x="292" y="517"/>
                  </a:lnTo>
                  <a:lnTo>
                    <a:pt x="294" y="536"/>
                  </a:lnTo>
                  <a:lnTo>
                    <a:pt x="295" y="556"/>
                  </a:lnTo>
                  <a:lnTo>
                    <a:pt x="295" y="575"/>
                  </a:lnTo>
                  <a:lnTo>
                    <a:pt x="294" y="591"/>
                  </a:lnTo>
                  <a:lnTo>
                    <a:pt x="292" y="606"/>
                  </a:lnTo>
                  <a:lnTo>
                    <a:pt x="290" y="620"/>
                  </a:lnTo>
                  <a:lnTo>
                    <a:pt x="287" y="634"/>
                  </a:lnTo>
                  <a:lnTo>
                    <a:pt x="283" y="643"/>
                  </a:lnTo>
                  <a:lnTo>
                    <a:pt x="278" y="653"/>
                  </a:lnTo>
                  <a:lnTo>
                    <a:pt x="273" y="662"/>
                  </a:lnTo>
                  <a:lnTo>
                    <a:pt x="267" y="669"/>
                  </a:lnTo>
                  <a:lnTo>
                    <a:pt x="260" y="675"/>
                  </a:lnTo>
                  <a:lnTo>
                    <a:pt x="254" y="682"/>
                  </a:lnTo>
                  <a:lnTo>
                    <a:pt x="248" y="685"/>
                  </a:lnTo>
                  <a:lnTo>
                    <a:pt x="241" y="690"/>
                  </a:lnTo>
                  <a:lnTo>
                    <a:pt x="233" y="693"/>
                  </a:lnTo>
                  <a:lnTo>
                    <a:pt x="226" y="695"/>
                  </a:lnTo>
                  <a:lnTo>
                    <a:pt x="219" y="696"/>
                  </a:lnTo>
                  <a:lnTo>
                    <a:pt x="211" y="698"/>
                  </a:lnTo>
                  <a:lnTo>
                    <a:pt x="204" y="698"/>
                  </a:lnTo>
                  <a:lnTo>
                    <a:pt x="188" y="695"/>
                  </a:lnTo>
                  <a:lnTo>
                    <a:pt x="172" y="691"/>
                  </a:lnTo>
                  <a:lnTo>
                    <a:pt x="156" y="685"/>
                  </a:lnTo>
                  <a:lnTo>
                    <a:pt x="141" y="678"/>
                  </a:lnTo>
                  <a:lnTo>
                    <a:pt x="125" y="669"/>
                  </a:lnTo>
                  <a:lnTo>
                    <a:pt x="110" y="658"/>
                  </a:lnTo>
                  <a:lnTo>
                    <a:pt x="97" y="647"/>
                  </a:lnTo>
                  <a:lnTo>
                    <a:pt x="83" y="636"/>
                  </a:lnTo>
                  <a:lnTo>
                    <a:pt x="71" y="624"/>
                  </a:lnTo>
                  <a:lnTo>
                    <a:pt x="60" y="611"/>
                  </a:lnTo>
                  <a:close/>
                </a:path>
              </a:pathLst>
            </a:custGeom>
            <a:solidFill>
              <a:srgbClr val="4a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6647040" y="2765520"/>
              <a:ext cx="85680" cy="203040"/>
            </a:xfrm>
            <a:custGeom>
              <a:avLst/>
              <a:gdLst/>
              <a:ahLst/>
              <a:rect l="l" t="t" r="r" b="b"/>
              <a:pathLst>
                <a:path w="272" h="641">
                  <a:moveTo>
                    <a:pt x="131" y="0"/>
                  </a:moveTo>
                  <a:lnTo>
                    <a:pt x="128" y="12"/>
                  </a:lnTo>
                  <a:lnTo>
                    <a:pt x="116" y="47"/>
                  </a:lnTo>
                  <a:lnTo>
                    <a:pt x="97" y="96"/>
                  </a:lnTo>
                  <a:lnTo>
                    <a:pt x="76" y="154"/>
                  </a:lnTo>
                  <a:lnTo>
                    <a:pt x="55" y="215"/>
                  </a:lnTo>
                  <a:lnTo>
                    <a:pt x="34" y="274"/>
                  </a:lnTo>
                  <a:lnTo>
                    <a:pt x="18" y="324"/>
                  </a:lnTo>
                  <a:lnTo>
                    <a:pt x="7" y="358"/>
                  </a:lnTo>
                  <a:lnTo>
                    <a:pt x="4" y="372"/>
                  </a:lnTo>
                  <a:lnTo>
                    <a:pt x="2" y="385"/>
                  </a:lnTo>
                  <a:lnTo>
                    <a:pt x="0" y="397"/>
                  </a:lnTo>
                  <a:lnTo>
                    <a:pt x="0" y="411"/>
                  </a:lnTo>
                  <a:lnTo>
                    <a:pt x="0" y="424"/>
                  </a:lnTo>
                  <a:lnTo>
                    <a:pt x="1" y="438"/>
                  </a:lnTo>
                  <a:lnTo>
                    <a:pt x="4" y="452"/>
                  </a:lnTo>
                  <a:lnTo>
                    <a:pt x="6" y="465"/>
                  </a:lnTo>
                  <a:lnTo>
                    <a:pt x="10" y="477"/>
                  </a:lnTo>
                  <a:lnTo>
                    <a:pt x="15" y="491"/>
                  </a:lnTo>
                  <a:lnTo>
                    <a:pt x="20" y="503"/>
                  </a:lnTo>
                  <a:lnTo>
                    <a:pt x="24" y="515"/>
                  </a:lnTo>
                  <a:lnTo>
                    <a:pt x="32" y="528"/>
                  </a:lnTo>
                  <a:lnTo>
                    <a:pt x="39" y="540"/>
                  </a:lnTo>
                  <a:lnTo>
                    <a:pt x="47" y="551"/>
                  </a:lnTo>
                  <a:lnTo>
                    <a:pt x="56" y="562"/>
                  </a:lnTo>
                  <a:lnTo>
                    <a:pt x="66" y="573"/>
                  </a:lnTo>
                  <a:lnTo>
                    <a:pt x="77" y="584"/>
                  </a:lnTo>
                  <a:lnTo>
                    <a:pt x="88" y="595"/>
                  </a:lnTo>
                  <a:lnTo>
                    <a:pt x="102" y="606"/>
                  </a:lnTo>
                  <a:lnTo>
                    <a:pt x="116" y="615"/>
                  </a:lnTo>
                  <a:lnTo>
                    <a:pt x="129" y="624"/>
                  </a:lnTo>
                  <a:lnTo>
                    <a:pt x="144" y="631"/>
                  </a:lnTo>
                  <a:lnTo>
                    <a:pt x="157" y="636"/>
                  </a:lnTo>
                  <a:lnTo>
                    <a:pt x="172" y="640"/>
                  </a:lnTo>
                  <a:lnTo>
                    <a:pt x="187" y="641"/>
                  </a:lnTo>
                  <a:lnTo>
                    <a:pt x="194" y="641"/>
                  </a:lnTo>
                  <a:lnTo>
                    <a:pt x="200" y="641"/>
                  </a:lnTo>
                  <a:lnTo>
                    <a:pt x="208" y="640"/>
                  </a:lnTo>
                  <a:lnTo>
                    <a:pt x="214" y="637"/>
                  </a:lnTo>
                  <a:lnTo>
                    <a:pt x="220" y="635"/>
                  </a:lnTo>
                  <a:lnTo>
                    <a:pt x="227" y="631"/>
                  </a:lnTo>
                  <a:lnTo>
                    <a:pt x="234" y="626"/>
                  </a:lnTo>
                  <a:lnTo>
                    <a:pt x="239" y="621"/>
                  </a:lnTo>
                  <a:lnTo>
                    <a:pt x="245" y="615"/>
                  </a:lnTo>
                  <a:lnTo>
                    <a:pt x="250" y="609"/>
                  </a:lnTo>
                  <a:lnTo>
                    <a:pt x="255" y="600"/>
                  </a:lnTo>
                  <a:lnTo>
                    <a:pt x="259" y="592"/>
                  </a:lnTo>
                  <a:lnTo>
                    <a:pt x="264" y="582"/>
                  </a:lnTo>
                  <a:lnTo>
                    <a:pt x="267" y="571"/>
                  </a:lnTo>
                  <a:lnTo>
                    <a:pt x="269" y="557"/>
                  </a:lnTo>
                  <a:lnTo>
                    <a:pt x="271" y="544"/>
                  </a:lnTo>
                  <a:lnTo>
                    <a:pt x="272" y="528"/>
                  </a:lnTo>
                  <a:lnTo>
                    <a:pt x="272" y="512"/>
                  </a:lnTo>
                  <a:lnTo>
                    <a:pt x="271" y="493"/>
                  </a:lnTo>
                  <a:lnTo>
                    <a:pt x="269" y="475"/>
                  </a:lnTo>
                  <a:lnTo>
                    <a:pt x="264" y="436"/>
                  </a:lnTo>
                  <a:lnTo>
                    <a:pt x="257" y="392"/>
                  </a:lnTo>
                  <a:lnTo>
                    <a:pt x="247" y="348"/>
                  </a:lnTo>
                  <a:lnTo>
                    <a:pt x="237" y="303"/>
                  </a:lnTo>
                  <a:lnTo>
                    <a:pt x="225" y="258"/>
                  </a:lnTo>
                  <a:lnTo>
                    <a:pt x="211" y="213"/>
                  </a:lnTo>
                  <a:lnTo>
                    <a:pt x="198" y="170"/>
                  </a:lnTo>
                  <a:lnTo>
                    <a:pt x="184" y="128"/>
                  </a:lnTo>
                  <a:lnTo>
                    <a:pt x="171" y="90"/>
                  </a:lnTo>
                  <a:lnTo>
                    <a:pt x="157" y="55"/>
                  </a:lnTo>
                  <a:lnTo>
                    <a:pt x="144" y="2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4234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6546960" y="3273480"/>
              <a:ext cx="179280" cy="228600"/>
            </a:xfrm>
            <a:custGeom>
              <a:avLst/>
              <a:gdLst/>
              <a:ahLst/>
              <a:rect l="l" t="t" r="r" b="b"/>
              <a:pathLst>
                <a:path w="566" h="720">
                  <a:moveTo>
                    <a:pt x="0" y="27"/>
                  </a:moveTo>
                  <a:lnTo>
                    <a:pt x="17" y="34"/>
                  </a:lnTo>
                  <a:lnTo>
                    <a:pt x="63" y="47"/>
                  </a:lnTo>
                  <a:lnTo>
                    <a:pt x="95" y="56"/>
                  </a:lnTo>
                  <a:lnTo>
                    <a:pt x="131" y="63"/>
                  </a:lnTo>
                  <a:lnTo>
                    <a:pt x="171" y="72"/>
                  </a:lnTo>
                  <a:lnTo>
                    <a:pt x="214" y="78"/>
                  </a:lnTo>
                  <a:lnTo>
                    <a:pt x="236" y="80"/>
                  </a:lnTo>
                  <a:lnTo>
                    <a:pt x="258" y="82"/>
                  </a:lnTo>
                  <a:lnTo>
                    <a:pt x="282" y="83"/>
                  </a:lnTo>
                  <a:lnTo>
                    <a:pt x="305" y="84"/>
                  </a:lnTo>
                  <a:lnTo>
                    <a:pt x="329" y="84"/>
                  </a:lnTo>
                  <a:lnTo>
                    <a:pt x="353" y="82"/>
                  </a:lnTo>
                  <a:lnTo>
                    <a:pt x="377" y="80"/>
                  </a:lnTo>
                  <a:lnTo>
                    <a:pt x="400" y="77"/>
                  </a:lnTo>
                  <a:lnTo>
                    <a:pt x="422" y="72"/>
                  </a:lnTo>
                  <a:lnTo>
                    <a:pt x="444" y="66"/>
                  </a:lnTo>
                  <a:lnTo>
                    <a:pt x="466" y="59"/>
                  </a:lnTo>
                  <a:lnTo>
                    <a:pt x="489" y="51"/>
                  </a:lnTo>
                  <a:lnTo>
                    <a:pt x="509" y="40"/>
                  </a:lnTo>
                  <a:lnTo>
                    <a:pt x="529" y="29"/>
                  </a:lnTo>
                  <a:lnTo>
                    <a:pt x="548" y="15"/>
                  </a:lnTo>
                  <a:lnTo>
                    <a:pt x="566" y="0"/>
                  </a:lnTo>
                  <a:lnTo>
                    <a:pt x="367" y="7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7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6546960" y="3273480"/>
              <a:ext cx="179280" cy="228600"/>
            </a:xfrm>
            <a:custGeom>
              <a:avLst/>
              <a:gdLst/>
              <a:ahLst/>
              <a:rect l="l" t="t" r="r" b="b"/>
              <a:pathLst>
                <a:path w="566" h="720">
                  <a:moveTo>
                    <a:pt x="0" y="27"/>
                  </a:moveTo>
                  <a:lnTo>
                    <a:pt x="17" y="34"/>
                  </a:lnTo>
                  <a:lnTo>
                    <a:pt x="63" y="47"/>
                  </a:lnTo>
                  <a:lnTo>
                    <a:pt x="95" y="56"/>
                  </a:lnTo>
                  <a:lnTo>
                    <a:pt x="131" y="63"/>
                  </a:lnTo>
                  <a:lnTo>
                    <a:pt x="171" y="72"/>
                  </a:lnTo>
                  <a:lnTo>
                    <a:pt x="214" y="78"/>
                  </a:lnTo>
                  <a:lnTo>
                    <a:pt x="236" y="80"/>
                  </a:lnTo>
                  <a:lnTo>
                    <a:pt x="258" y="82"/>
                  </a:lnTo>
                  <a:lnTo>
                    <a:pt x="282" y="83"/>
                  </a:lnTo>
                  <a:lnTo>
                    <a:pt x="305" y="84"/>
                  </a:lnTo>
                  <a:lnTo>
                    <a:pt x="329" y="84"/>
                  </a:lnTo>
                  <a:lnTo>
                    <a:pt x="353" y="82"/>
                  </a:lnTo>
                  <a:lnTo>
                    <a:pt x="377" y="80"/>
                  </a:lnTo>
                  <a:lnTo>
                    <a:pt x="400" y="77"/>
                  </a:lnTo>
                  <a:lnTo>
                    <a:pt x="422" y="72"/>
                  </a:lnTo>
                  <a:lnTo>
                    <a:pt x="444" y="66"/>
                  </a:lnTo>
                  <a:lnTo>
                    <a:pt x="466" y="59"/>
                  </a:lnTo>
                  <a:lnTo>
                    <a:pt x="489" y="51"/>
                  </a:lnTo>
                  <a:lnTo>
                    <a:pt x="509" y="40"/>
                  </a:lnTo>
                  <a:lnTo>
                    <a:pt x="529" y="29"/>
                  </a:lnTo>
                  <a:lnTo>
                    <a:pt x="548" y="15"/>
                  </a:lnTo>
                  <a:lnTo>
                    <a:pt x="566" y="0"/>
                  </a:lnTo>
                  <a:lnTo>
                    <a:pt x="367" y="720"/>
                  </a:lnTo>
                  <a:lnTo>
                    <a:pt x="0" y="27"/>
                  </a:lnTo>
                </a:path>
              </a:pathLst>
            </a:custGeom>
            <a:noFill/>
            <a:ln w="3240">
              <a:solidFill>
                <a:srgbClr val="0b41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6834240" y="3114720"/>
              <a:ext cx="280800" cy="746280"/>
            </a:xfrm>
            <a:custGeom>
              <a:avLst/>
              <a:gdLst/>
              <a:ahLst/>
              <a:rect l="l" t="t" r="r" b="b"/>
              <a:pathLst>
                <a:path w="885" h="2348">
                  <a:moveTo>
                    <a:pt x="795" y="227"/>
                  </a:moveTo>
                  <a:lnTo>
                    <a:pt x="805" y="257"/>
                  </a:lnTo>
                  <a:lnTo>
                    <a:pt x="815" y="289"/>
                  </a:lnTo>
                  <a:lnTo>
                    <a:pt x="825" y="321"/>
                  </a:lnTo>
                  <a:lnTo>
                    <a:pt x="832" y="353"/>
                  </a:lnTo>
                  <a:lnTo>
                    <a:pt x="841" y="386"/>
                  </a:lnTo>
                  <a:lnTo>
                    <a:pt x="847" y="420"/>
                  </a:lnTo>
                  <a:lnTo>
                    <a:pt x="854" y="454"/>
                  </a:lnTo>
                  <a:lnTo>
                    <a:pt x="859" y="490"/>
                  </a:lnTo>
                  <a:lnTo>
                    <a:pt x="864" y="525"/>
                  </a:lnTo>
                  <a:lnTo>
                    <a:pt x="869" y="561"/>
                  </a:lnTo>
                  <a:lnTo>
                    <a:pt x="873" y="599"/>
                  </a:lnTo>
                  <a:lnTo>
                    <a:pt x="876" y="637"/>
                  </a:lnTo>
                  <a:lnTo>
                    <a:pt x="881" y="717"/>
                  </a:lnTo>
                  <a:lnTo>
                    <a:pt x="884" y="800"/>
                  </a:lnTo>
                  <a:lnTo>
                    <a:pt x="885" y="888"/>
                  </a:lnTo>
                  <a:lnTo>
                    <a:pt x="884" y="980"/>
                  </a:lnTo>
                  <a:lnTo>
                    <a:pt x="881" y="1078"/>
                  </a:lnTo>
                  <a:lnTo>
                    <a:pt x="876" y="1181"/>
                  </a:lnTo>
                  <a:lnTo>
                    <a:pt x="870" y="1290"/>
                  </a:lnTo>
                  <a:lnTo>
                    <a:pt x="863" y="1405"/>
                  </a:lnTo>
                  <a:lnTo>
                    <a:pt x="854" y="1527"/>
                  </a:lnTo>
                  <a:lnTo>
                    <a:pt x="843" y="1655"/>
                  </a:lnTo>
                  <a:lnTo>
                    <a:pt x="837" y="1720"/>
                  </a:lnTo>
                  <a:lnTo>
                    <a:pt x="828" y="1780"/>
                  </a:lnTo>
                  <a:lnTo>
                    <a:pt x="817" y="1837"/>
                  </a:lnTo>
                  <a:lnTo>
                    <a:pt x="804" y="1891"/>
                  </a:lnTo>
                  <a:lnTo>
                    <a:pt x="789" y="1940"/>
                  </a:lnTo>
                  <a:lnTo>
                    <a:pt x="773" y="1987"/>
                  </a:lnTo>
                  <a:lnTo>
                    <a:pt x="755" y="2031"/>
                  </a:lnTo>
                  <a:lnTo>
                    <a:pt x="735" y="2070"/>
                  </a:lnTo>
                  <a:lnTo>
                    <a:pt x="714" y="2108"/>
                  </a:lnTo>
                  <a:lnTo>
                    <a:pt x="692" y="2142"/>
                  </a:lnTo>
                  <a:lnTo>
                    <a:pt x="670" y="2174"/>
                  </a:lnTo>
                  <a:lnTo>
                    <a:pt x="645" y="2202"/>
                  </a:lnTo>
                  <a:lnTo>
                    <a:pt x="620" y="2228"/>
                  </a:lnTo>
                  <a:lnTo>
                    <a:pt x="595" y="2250"/>
                  </a:lnTo>
                  <a:lnTo>
                    <a:pt x="569" y="2271"/>
                  </a:lnTo>
                  <a:lnTo>
                    <a:pt x="542" y="2288"/>
                  </a:lnTo>
                  <a:lnTo>
                    <a:pt x="516" y="2304"/>
                  </a:lnTo>
                  <a:lnTo>
                    <a:pt x="489" y="2316"/>
                  </a:lnTo>
                  <a:lnTo>
                    <a:pt x="462" y="2327"/>
                  </a:lnTo>
                  <a:lnTo>
                    <a:pt x="435" y="2336"/>
                  </a:lnTo>
                  <a:lnTo>
                    <a:pt x="408" y="2342"/>
                  </a:lnTo>
                  <a:lnTo>
                    <a:pt x="381" y="2346"/>
                  </a:lnTo>
                  <a:lnTo>
                    <a:pt x="355" y="2347"/>
                  </a:lnTo>
                  <a:lnTo>
                    <a:pt x="330" y="2348"/>
                  </a:lnTo>
                  <a:lnTo>
                    <a:pt x="304" y="2346"/>
                  </a:lnTo>
                  <a:lnTo>
                    <a:pt x="281" y="2342"/>
                  </a:lnTo>
                  <a:lnTo>
                    <a:pt x="258" y="2337"/>
                  </a:lnTo>
                  <a:lnTo>
                    <a:pt x="235" y="2330"/>
                  </a:lnTo>
                  <a:lnTo>
                    <a:pt x="216" y="2322"/>
                  </a:lnTo>
                  <a:lnTo>
                    <a:pt x="196" y="2311"/>
                  </a:lnTo>
                  <a:lnTo>
                    <a:pt x="178" y="2300"/>
                  </a:lnTo>
                  <a:lnTo>
                    <a:pt x="162" y="2288"/>
                  </a:lnTo>
                  <a:lnTo>
                    <a:pt x="147" y="2274"/>
                  </a:lnTo>
                  <a:lnTo>
                    <a:pt x="132" y="2261"/>
                  </a:lnTo>
                  <a:lnTo>
                    <a:pt x="118" y="2246"/>
                  </a:lnTo>
                  <a:lnTo>
                    <a:pt x="106" y="2231"/>
                  </a:lnTo>
                  <a:lnTo>
                    <a:pt x="94" y="2215"/>
                  </a:lnTo>
                  <a:lnTo>
                    <a:pt x="82" y="2199"/>
                  </a:lnTo>
                  <a:lnTo>
                    <a:pt x="71" y="2182"/>
                  </a:lnTo>
                  <a:lnTo>
                    <a:pt x="61" y="2165"/>
                  </a:lnTo>
                  <a:lnTo>
                    <a:pt x="51" y="2148"/>
                  </a:lnTo>
                  <a:lnTo>
                    <a:pt x="42" y="2129"/>
                  </a:lnTo>
                  <a:lnTo>
                    <a:pt x="34" y="2111"/>
                  </a:lnTo>
                  <a:lnTo>
                    <a:pt x="26" y="2092"/>
                  </a:lnTo>
                  <a:lnTo>
                    <a:pt x="20" y="2073"/>
                  </a:lnTo>
                  <a:lnTo>
                    <a:pt x="14" y="2053"/>
                  </a:lnTo>
                  <a:lnTo>
                    <a:pt x="10" y="2033"/>
                  </a:lnTo>
                  <a:lnTo>
                    <a:pt x="7" y="2012"/>
                  </a:lnTo>
                  <a:lnTo>
                    <a:pt x="3" y="1992"/>
                  </a:lnTo>
                  <a:lnTo>
                    <a:pt x="2" y="1969"/>
                  </a:lnTo>
                  <a:lnTo>
                    <a:pt x="0" y="1947"/>
                  </a:lnTo>
                  <a:lnTo>
                    <a:pt x="0" y="1925"/>
                  </a:lnTo>
                  <a:lnTo>
                    <a:pt x="2" y="1903"/>
                  </a:lnTo>
                  <a:lnTo>
                    <a:pt x="4" y="1880"/>
                  </a:lnTo>
                  <a:lnTo>
                    <a:pt x="8" y="1856"/>
                  </a:lnTo>
                  <a:lnTo>
                    <a:pt x="11" y="1833"/>
                  </a:lnTo>
                  <a:lnTo>
                    <a:pt x="18" y="1808"/>
                  </a:lnTo>
                  <a:lnTo>
                    <a:pt x="24" y="1784"/>
                  </a:lnTo>
                  <a:lnTo>
                    <a:pt x="32" y="1759"/>
                  </a:lnTo>
                  <a:lnTo>
                    <a:pt x="41" y="1734"/>
                  </a:lnTo>
                  <a:lnTo>
                    <a:pt x="52" y="1709"/>
                  </a:lnTo>
                  <a:lnTo>
                    <a:pt x="63" y="1683"/>
                  </a:lnTo>
                  <a:lnTo>
                    <a:pt x="77" y="1657"/>
                  </a:lnTo>
                  <a:lnTo>
                    <a:pt x="91" y="1631"/>
                  </a:lnTo>
                  <a:lnTo>
                    <a:pt x="106" y="1602"/>
                  </a:lnTo>
                  <a:lnTo>
                    <a:pt x="122" y="1568"/>
                  </a:lnTo>
                  <a:lnTo>
                    <a:pt x="137" y="1529"/>
                  </a:lnTo>
                  <a:lnTo>
                    <a:pt x="153" y="1487"/>
                  </a:lnTo>
                  <a:lnTo>
                    <a:pt x="168" y="1442"/>
                  </a:lnTo>
                  <a:lnTo>
                    <a:pt x="182" y="1391"/>
                  </a:lnTo>
                  <a:lnTo>
                    <a:pt x="197" y="1340"/>
                  </a:lnTo>
                  <a:lnTo>
                    <a:pt x="212" y="1284"/>
                  </a:lnTo>
                  <a:lnTo>
                    <a:pt x="227" y="1228"/>
                  </a:lnTo>
                  <a:lnTo>
                    <a:pt x="240" y="1169"/>
                  </a:lnTo>
                  <a:lnTo>
                    <a:pt x="254" y="1108"/>
                  </a:lnTo>
                  <a:lnTo>
                    <a:pt x="267" y="1048"/>
                  </a:lnTo>
                  <a:lnTo>
                    <a:pt x="293" y="924"/>
                  </a:lnTo>
                  <a:lnTo>
                    <a:pt x="318" y="800"/>
                  </a:lnTo>
                  <a:lnTo>
                    <a:pt x="340" y="679"/>
                  </a:lnTo>
                  <a:lnTo>
                    <a:pt x="360" y="565"/>
                  </a:lnTo>
                  <a:lnTo>
                    <a:pt x="377" y="460"/>
                  </a:lnTo>
                  <a:lnTo>
                    <a:pt x="392" y="367"/>
                  </a:lnTo>
                  <a:lnTo>
                    <a:pt x="413" y="231"/>
                  </a:lnTo>
                  <a:lnTo>
                    <a:pt x="420" y="180"/>
                  </a:lnTo>
                  <a:lnTo>
                    <a:pt x="419" y="161"/>
                  </a:lnTo>
                  <a:lnTo>
                    <a:pt x="419" y="142"/>
                  </a:lnTo>
                  <a:lnTo>
                    <a:pt x="420" y="124"/>
                  </a:lnTo>
                  <a:lnTo>
                    <a:pt x="424" y="108"/>
                  </a:lnTo>
                  <a:lnTo>
                    <a:pt x="429" y="92"/>
                  </a:lnTo>
                  <a:lnTo>
                    <a:pt x="435" y="78"/>
                  </a:lnTo>
                  <a:lnTo>
                    <a:pt x="443" y="64"/>
                  </a:lnTo>
                  <a:lnTo>
                    <a:pt x="452" y="52"/>
                  </a:lnTo>
                  <a:lnTo>
                    <a:pt x="462" y="41"/>
                  </a:lnTo>
                  <a:lnTo>
                    <a:pt x="473" y="31"/>
                  </a:lnTo>
                  <a:lnTo>
                    <a:pt x="484" y="22"/>
                  </a:lnTo>
                  <a:lnTo>
                    <a:pt x="496" y="15"/>
                  </a:lnTo>
                  <a:lnTo>
                    <a:pt x="510" y="9"/>
                  </a:lnTo>
                  <a:lnTo>
                    <a:pt x="524" y="5"/>
                  </a:lnTo>
                  <a:lnTo>
                    <a:pt x="539" y="1"/>
                  </a:lnTo>
                  <a:lnTo>
                    <a:pt x="554" y="0"/>
                  </a:lnTo>
                  <a:lnTo>
                    <a:pt x="570" y="0"/>
                  </a:lnTo>
                  <a:lnTo>
                    <a:pt x="586" y="3"/>
                  </a:lnTo>
                  <a:lnTo>
                    <a:pt x="602" y="6"/>
                  </a:lnTo>
                  <a:lnTo>
                    <a:pt x="618" y="11"/>
                  </a:lnTo>
                  <a:lnTo>
                    <a:pt x="634" y="19"/>
                  </a:lnTo>
                  <a:lnTo>
                    <a:pt x="651" y="27"/>
                  </a:lnTo>
                  <a:lnTo>
                    <a:pt x="667" y="38"/>
                  </a:lnTo>
                  <a:lnTo>
                    <a:pt x="683" y="51"/>
                  </a:lnTo>
                  <a:lnTo>
                    <a:pt x="699" y="65"/>
                  </a:lnTo>
                  <a:lnTo>
                    <a:pt x="714" y="81"/>
                  </a:lnTo>
                  <a:lnTo>
                    <a:pt x="730" y="101"/>
                  </a:lnTo>
                  <a:lnTo>
                    <a:pt x="743" y="121"/>
                  </a:lnTo>
                  <a:lnTo>
                    <a:pt x="758" y="144"/>
                  </a:lnTo>
                  <a:lnTo>
                    <a:pt x="771" y="170"/>
                  </a:lnTo>
                  <a:lnTo>
                    <a:pt x="783" y="197"/>
                  </a:lnTo>
                  <a:lnTo>
                    <a:pt x="795" y="227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6850080" y="3183120"/>
              <a:ext cx="247680" cy="657000"/>
            </a:xfrm>
            <a:custGeom>
              <a:avLst/>
              <a:gdLst/>
              <a:ahLst/>
              <a:rect l="l" t="t" r="r" b="b"/>
              <a:pathLst>
                <a:path w="782" h="2070">
                  <a:moveTo>
                    <a:pt x="703" y="198"/>
                  </a:moveTo>
                  <a:lnTo>
                    <a:pt x="713" y="225"/>
                  </a:lnTo>
                  <a:lnTo>
                    <a:pt x="721" y="253"/>
                  </a:lnTo>
                  <a:lnTo>
                    <a:pt x="729" y="282"/>
                  </a:lnTo>
                  <a:lnTo>
                    <a:pt x="736" y="310"/>
                  </a:lnTo>
                  <a:lnTo>
                    <a:pt x="743" y="339"/>
                  </a:lnTo>
                  <a:lnTo>
                    <a:pt x="750" y="369"/>
                  </a:lnTo>
                  <a:lnTo>
                    <a:pt x="756" y="400"/>
                  </a:lnTo>
                  <a:lnTo>
                    <a:pt x="761" y="430"/>
                  </a:lnTo>
                  <a:lnTo>
                    <a:pt x="769" y="494"/>
                  </a:lnTo>
                  <a:lnTo>
                    <a:pt x="775" y="561"/>
                  </a:lnTo>
                  <a:lnTo>
                    <a:pt x="779" y="631"/>
                  </a:lnTo>
                  <a:lnTo>
                    <a:pt x="782" y="704"/>
                  </a:lnTo>
                  <a:lnTo>
                    <a:pt x="782" y="781"/>
                  </a:lnTo>
                  <a:lnTo>
                    <a:pt x="780" y="863"/>
                  </a:lnTo>
                  <a:lnTo>
                    <a:pt x="778" y="950"/>
                  </a:lnTo>
                  <a:lnTo>
                    <a:pt x="774" y="1039"/>
                  </a:lnTo>
                  <a:lnTo>
                    <a:pt x="768" y="1136"/>
                  </a:lnTo>
                  <a:lnTo>
                    <a:pt x="761" y="1237"/>
                  </a:lnTo>
                  <a:lnTo>
                    <a:pt x="753" y="1344"/>
                  </a:lnTo>
                  <a:lnTo>
                    <a:pt x="743" y="1459"/>
                  </a:lnTo>
                  <a:lnTo>
                    <a:pt x="739" y="1515"/>
                  </a:lnTo>
                  <a:lnTo>
                    <a:pt x="730" y="1568"/>
                  </a:lnTo>
                  <a:lnTo>
                    <a:pt x="720" y="1619"/>
                  </a:lnTo>
                  <a:lnTo>
                    <a:pt x="709" y="1667"/>
                  </a:lnTo>
                  <a:lnTo>
                    <a:pt x="697" y="1710"/>
                  </a:lnTo>
                  <a:lnTo>
                    <a:pt x="682" y="1751"/>
                  </a:lnTo>
                  <a:lnTo>
                    <a:pt x="666" y="1790"/>
                  </a:lnTo>
                  <a:lnTo>
                    <a:pt x="649" y="1825"/>
                  </a:lnTo>
                  <a:lnTo>
                    <a:pt x="630" y="1859"/>
                  </a:lnTo>
                  <a:lnTo>
                    <a:pt x="612" y="1888"/>
                  </a:lnTo>
                  <a:lnTo>
                    <a:pt x="591" y="1916"/>
                  </a:lnTo>
                  <a:lnTo>
                    <a:pt x="570" y="1941"/>
                  </a:lnTo>
                  <a:lnTo>
                    <a:pt x="548" y="1963"/>
                  </a:lnTo>
                  <a:lnTo>
                    <a:pt x="526" y="1984"/>
                  </a:lnTo>
                  <a:lnTo>
                    <a:pt x="502" y="2001"/>
                  </a:lnTo>
                  <a:lnTo>
                    <a:pt x="479" y="2017"/>
                  </a:lnTo>
                  <a:lnTo>
                    <a:pt x="456" y="2031"/>
                  </a:lnTo>
                  <a:lnTo>
                    <a:pt x="432" y="2042"/>
                  </a:lnTo>
                  <a:lnTo>
                    <a:pt x="408" y="2052"/>
                  </a:lnTo>
                  <a:lnTo>
                    <a:pt x="384" y="2059"/>
                  </a:lnTo>
                  <a:lnTo>
                    <a:pt x="361" y="2064"/>
                  </a:lnTo>
                  <a:lnTo>
                    <a:pt x="337" y="2068"/>
                  </a:lnTo>
                  <a:lnTo>
                    <a:pt x="314" y="2070"/>
                  </a:lnTo>
                  <a:lnTo>
                    <a:pt x="292" y="2070"/>
                  </a:lnTo>
                  <a:lnTo>
                    <a:pt x="270" y="2068"/>
                  </a:lnTo>
                  <a:lnTo>
                    <a:pt x="249" y="2065"/>
                  </a:lnTo>
                  <a:lnTo>
                    <a:pt x="228" y="2060"/>
                  </a:lnTo>
                  <a:lnTo>
                    <a:pt x="210" y="2054"/>
                  </a:lnTo>
                  <a:lnTo>
                    <a:pt x="191" y="2047"/>
                  </a:lnTo>
                  <a:lnTo>
                    <a:pt x="174" y="2038"/>
                  </a:lnTo>
                  <a:lnTo>
                    <a:pt x="158" y="2029"/>
                  </a:lnTo>
                  <a:lnTo>
                    <a:pt x="143" y="2018"/>
                  </a:lnTo>
                  <a:lnTo>
                    <a:pt x="131" y="2006"/>
                  </a:lnTo>
                  <a:lnTo>
                    <a:pt x="117" y="1994"/>
                  </a:lnTo>
                  <a:lnTo>
                    <a:pt x="105" y="1980"/>
                  </a:lnTo>
                  <a:lnTo>
                    <a:pt x="94" y="1968"/>
                  </a:lnTo>
                  <a:lnTo>
                    <a:pt x="83" y="1953"/>
                  </a:lnTo>
                  <a:lnTo>
                    <a:pt x="72" y="1940"/>
                  </a:lnTo>
                  <a:lnTo>
                    <a:pt x="62" y="1925"/>
                  </a:lnTo>
                  <a:lnTo>
                    <a:pt x="53" y="1910"/>
                  </a:lnTo>
                  <a:lnTo>
                    <a:pt x="45" y="1894"/>
                  </a:lnTo>
                  <a:lnTo>
                    <a:pt x="36" y="1878"/>
                  </a:lnTo>
                  <a:lnTo>
                    <a:pt x="30" y="1862"/>
                  </a:lnTo>
                  <a:lnTo>
                    <a:pt x="23" y="1845"/>
                  </a:lnTo>
                  <a:lnTo>
                    <a:pt x="18" y="1828"/>
                  </a:lnTo>
                  <a:lnTo>
                    <a:pt x="13" y="1811"/>
                  </a:lnTo>
                  <a:lnTo>
                    <a:pt x="9" y="1792"/>
                  </a:lnTo>
                  <a:lnTo>
                    <a:pt x="5" y="1774"/>
                  </a:lnTo>
                  <a:lnTo>
                    <a:pt x="3" y="1755"/>
                  </a:lnTo>
                  <a:lnTo>
                    <a:pt x="2" y="1737"/>
                  </a:lnTo>
                  <a:lnTo>
                    <a:pt x="0" y="1717"/>
                  </a:lnTo>
                  <a:lnTo>
                    <a:pt x="0" y="1697"/>
                  </a:lnTo>
                  <a:lnTo>
                    <a:pt x="2" y="1678"/>
                  </a:lnTo>
                  <a:lnTo>
                    <a:pt x="4" y="1657"/>
                  </a:lnTo>
                  <a:lnTo>
                    <a:pt x="7" y="1636"/>
                  </a:lnTo>
                  <a:lnTo>
                    <a:pt x="11" y="1615"/>
                  </a:lnTo>
                  <a:lnTo>
                    <a:pt x="16" y="1594"/>
                  </a:lnTo>
                  <a:lnTo>
                    <a:pt x="21" y="1572"/>
                  </a:lnTo>
                  <a:lnTo>
                    <a:pt x="29" y="1551"/>
                  </a:lnTo>
                  <a:lnTo>
                    <a:pt x="37" y="1529"/>
                  </a:lnTo>
                  <a:lnTo>
                    <a:pt x="46" y="1505"/>
                  </a:lnTo>
                  <a:lnTo>
                    <a:pt x="57" y="1483"/>
                  </a:lnTo>
                  <a:lnTo>
                    <a:pt x="68" y="1460"/>
                  </a:lnTo>
                  <a:lnTo>
                    <a:pt x="80" y="1437"/>
                  </a:lnTo>
                  <a:lnTo>
                    <a:pt x="95" y="1411"/>
                  </a:lnTo>
                  <a:lnTo>
                    <a:pt x="109" y="1381"/>
                  </a:lnTo>
                  <a:lnTo>
                    <a:pt x="122" y="1348"/>
                  </a:lnTo>
                  <a:lnTo>
                    <a:pt x="136" y="1311"/>
                  </a:lnTo>
                  <a:lnTo>
                    <a:pt x="149" y="1271"/>
                  </a:lnTo>
                  <a:lnTo>
                    <a:pt x="163" y="1226"/>
                  </a:lnTo>
                  <a:lnTo>
                    <a:pt x="175" y="1181"/>
                  </a:lnTo>
                  <a:lnTo>
                    <a:pt x="189" y="1133"/>
                  </a:lnTo>
                  <a:lnTo>
                    <a:pt x="213" y="1031"/>
                  </a:lnTo>
                  <a:lnTo>
                    <a:pt x="238" y="924"/>
                  </a:lnTo>
                  <a:lnTo>
                    <a:pt x="260" y="814"/>
                  </a:lnTo>
                  <a:lnTo>
                    <a:pt x="281" y="705"/>
                  </a:lnTo>
                  <a:lnTo>
                    <a:pt x="301" y="598"/>
                  </a:lnTo>
                  <a:lnTo>
                    <a:pt x="318" y="497"/>
                  </a:lnTo>
                  <a:lnTo>
                    <a:pt x="334" y="405"/>
                  </a:lnTo>
                  <a:lnTo>
                    <a:pt x="347" y="322"/>
                  </a:lnTo>
                  <a:lnTo>
                    <a:pt x="366" y="202"/>
                  </a:lnTo>
                  <a:lnTo>
                    <a:pt x="372" y="157"/>
                  </a:lnTo>
                  <a:lnTo>
                    <a:pt x="371" y="140"/>
                  </a:lnTo>
                  <a:lnTo>
                    <a:pt x="371" y="124"/>
                  </a:lnTo>
                  <a:lnTo>
                    <a:pt x="372" y="108"/>
                  </a:lnTo>
                  <a:lnTo>
                    <a:pt x="376" y="93"/>
                  </a:lnTo>
                  <a:lnTo>
                    <a:pt x="379" y="80"/>
                  </a:lnTo>
                  <a:lnTo>
                    <a:pt x="385" y="66"/>
                  </a:lnTo>
                  <a:lnTo>
                    <a:pt x="392" y="55"/>
                  </a:lnTo>
                  <a:lnTo>
                    <a:pt x="400" y="44"/>
                  </a:lnTo>
                  <a:lnTo>
                    <a:pt x="409" y="34"/>
                  </a:lnTo>
                  <a:lnTo>
                    <a:pt x="419" y="26"/>
                  </a:lnTo>
                  <a:lnTo>
                    <a:pt x="429" y="18"/>
                  </a:lnTo>
                  <a:lnTo>
                    <a:pt x="440" y="12"/>
                  </a:lnTo>
                  <a:lnTo>
                    <a:pt x="452" y="7"/>
                  </a:lnTo>
                  <a:lnTo>
                    <a:pt x="464" y="4"/>
                  </a:lnTo>
                  <a:lnTo>
                    <a:pt x="476" y="0"/>
                  </a:lnTo>
                  <a:lnTo>
                    <a:pt x="490" y="0"/>
                  </a:lnTo>
                  <a:lnTo>
                    <a:pt x="505" y="0"/>
                  </a:lnTo>
                  <a:lnTo>
                    <a:pt x="518" y="1"/>
                  </a:lnTo>
                  <a:lnTo>
                    <a:pt x="533" y="5"/>
                  </a:lnTo>
                  <a:lnTo>
                    <a:pt x="547" y="10"/>
                  </a:lnTo>
                  <a:lnTo>
                    <a:pt x="561" y="16"/>
                  </a:lnTo>
                  <a:lnTo>
                    <a:pt x="576" y="23"/>
                  </a:lnTo>
                  <a:lnTo>
                    <a:pt x="591" y="33"/>
                  </a:lnTo>
                  <a:lnTo>
                    <a:pt x="604" y="44"/>
                  </a:lnTo>
                  <a:lnTo>
                    <a:pt x="619" y="57"/>
                  </a:lnTo>
                  <a:lnTo>
                    <a:pt x="633" y="71"/>
                  </a:lnTo>
                  <a:lnTo>
                    <a:pt x="645" y="87"/>
                  </a:lnTo>
                  <a:lnTo>
                    <a:pt x="659" y="106"/>
                  </a:lnTo>
                  <a:lnTo>
                    <a:pt x="671" y="127"/>
                  </a:lnTo>
                  <a:lnTo>
                    <a:pt x="682" y="148"/>
                  </a:lnTo>
                  <a:lnTo>
                    <a:pt x="693" y="172"/>
                  </a:lnTo>
                  <a:lnTo>
                    <a:pt x="703" y="1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6865920" y="3249720"/>
              <a:ext cx="214200" cy="569880"/>
            </a:xfrm>
            <a:custGeom>
              <a:avLst/>
              <a:gdLst/>
              <a:ahLst/>
              <a:rect l="l" t="t" r="r" b="b"/>
              <a:pathLst>
                <a:path w="677" h="1792">
                  <a:moveTo>
                    <a:pt x="610" y="173"/>
                  </a:moveTo>
                  <a:lnTo>
                    <a:pt x="617" y="198"/>
                  </a:lnTo>
                  <a:lnTo>
                    <a:pt x="626" y="221"/>
                  </a:lnTo>
                  <a:lnTo>
                    <a:pt x="632" y="246"/>
                  </a:lnTo>
                  <a:lnTo>
                    <a:pt x="638" y="270"/>
                  </a:lnTo>
                  <a:lnTo>
                    <a:pt x="650" y="321"/>
                  </a:lnTo>
                  <a:lnTo>
                    <a:pt x="659" y="373"/>
                  </a:lnTo>
                  <a:lnTo>
                    <a:pt x="666" y="429"/>
                  </a:lnTo>
                  <a:lnTo>
                    <a:pt x="671" y="487"/>
                  </a:lnTo>
                  <a:lnTo>
                    <a:pt x="675" y="547"/>
                  </a:lnTo>
                  <a:lnTo>
                    <a:pt x="677" y="610"/>
                  </a:lnTo>
                  <a:lnTo>
                    <a:pt x="677" y="677"/>
                  </a:lnTo>
                  <a:lnTo>
                    <a:pt x="676" y="747"/>
                  </a:lnTo>
                  <a:lnTo>
                    <a:pt x="674" y="822"/>
                  </a:lnTo>
                  <a:lnTo>
                    <a:pt x="670" y="901"/>
                  </a:lnTo>
                  <a:lnTo>
                    <a:pt x="659" y="1072"/>
                  </a:lnTo>
                  <a:lnTo>
                    <a:pt x="645" y="1263"/>
                  </a:lnTo>
                  <a:lnTo>
                    <a:pt x="639" y="1312"/>
                  </a:lnTo>
                  <a:lnTo>
                    <a:pt x="633" y="1357"/>
                  </a:lnTo>
                  <a:lnTo>
                    <a:pt x="625" y="1402"/>
                  </a:lnTo>
                  <a:lnTo>
                    <a:pt x="615" y="1442"/>
                  </a:lnTo>
                  <a:lnTo>
                    <a:pt x="604" y="1480"/>
                  </a:lnTo>
                  <a:lnTo>
                    <a:pt x="590" y="1516"/>
                  </a:lnTo>
                  <a:lnTo>
                    <a:pt x="577" y="1549"/>
                  </a:lnTo>
                  <a:lnTo>
                    <a:pt x="562" y="1580"/>
                  </a:lnTo>
                  <a:lnTo>
                    <a:pt x="546" y="1608"/>
                  </a:lnTo>
                  <a:lnTo>
                    <a:pt x="530" y="1635"/>
                  </a:lnTo>
                  <a:lnTo>
                    <a:pt x="511" y="1659"/>
                  </a:lnTo>
                  <a:lnTo>
                    <a:pt x="493" y="1681"/>
                  </a:lnTo>
                  <a:lnTo>
                    <a:pt x="474" y="1701"/>
                  </a:lnTo>
                  <a:lnTo>
                    <a:pt x="455" y="1718"/>
                  </a:lnTo>
                  <a:lnTo>
                    <a:pt x="435" y="1734"/>
                  </a:lnTo>
                  <a:lnTo>
                    <a:pt x="415" y="1747"/>
                  </a:lnTo>
                  <a:lnTo>
                    <a:pt x="394" y="1758"/>
                  </a:lnTo>
                  <a:lnTo>
                    <a:pt x="374" y="1768"/>
                  </a:lnTo>
                  <a:lnTo>
                    <a:pt x="354" y="1777"/>
                  </a:lnTo>
                  <a:lnTo>
                    <a:pt x="333" y="1783"/>
                  </a:lnTo>
                  <a:lnTo>
                    <a:pt x="312" y="1788"/>
                  </a:lnTo>
                  <a:lnTo>
                    <a:pt x="292" y="1790"/>
                  </a:lnTo>
                  <a:lnTo>
                    <a:pt x="273" y="1792"/>
                  </a:lnTo>
                  <a:lnTo>
                    <a:pt x="253" y="1792"/>
                  </a:lnTo>
                  <a:lnTo>
                    <a:pt x="235" y="1790"/>
                  </a:lnTo>
                  <a:lnTo>
                    <a:pt x="216" y="1788"/>
                  </a:lnTo>
                  <a:lnTo>
                    <a:pt x="199" y="1784"/>
                  </a:lnTo>
                  <a:lnTo>
                    <a:pt x="183" y="1778"/>
                  </a:lnTo>
                  <a:lnTo>
                    <a:pt x="167" y="1772"/>
                  </a:lnTo>
                  <a:lnTo>
                    <a:pt x="152" y="1765"/>
                  </a:lnTo>
                  <a:lnTo>
                    <a:pt x="139" y="1756"/>
                  </a:lnTo>
                  <a:lnTo>
                    <a:pt x="126" y="1746"/>
                  </a:lnTo>
                  <a:lnTo>
                    <a:pt x="114" y="1736"/>
                  </a:lnTo>
                  <a:lnTo>
                    <a:pt x="103" y="1725"/>
                  </a:lnTo>
                  <a:lnTo>
                    <a:pt x="92" y="1714"/>
                  </a:lnTo>
                  <a:lnTo>
                    <a:pt x="82" y="1703"/>
                  </a:lnTo>
                  <a:lnTo>
                    <a:pt x="72" y="1691"/>
                  </a:lnTo>
                  <a:lnTo>
                    <a:pt x="62" y="1680"/>
                  </a:lnTo>
                  <a:lnTo>
                    <a:pt x="54" y="1666"/>
                  </a:lnTo>
                  <a:lnTo>
                    <a:pt x="46" y="1654"/>
                  </a:lnTo>
                  <a:lnTo>
                    <a:pt x="39" y="1640"/>
                  </a:lnTo>
                  <a:lnTo>
                    <a:pt x="32" y="1627"/>
                  </a:lnTo>
                  <a:lnTo>
                    <a:pt x="25" y="1612"/>
                  </a:lnTo>
                  <a:lnTo>
                    <a:pt x="19" y="1599"/>
                  </a:lnTo>
                  <a:lnTo>
                    <a:pt x="14" y="1584"/>
                  </a:lnTo>
                  <a:lnTo>
                    <a:pt x="11" y="1568"/>
                  </a:lnTo>
                  <a:lnTo>
                    <a:pt x="7" y="1553"/>
                  </a:lnTo>
                  <a:lnTo>
                    <a:pt x="4" y="1537"/>
                  </a:lnTo>
                  <a:lnTo>
                    <a:pt x="2" y="1521"/>
                  </a:lnTo>
                  <a:lnTo>
                    <a:pt x="1" y="1504"/>
                  </a:lnTo>
                  <a:lnTo>
                    <a:pt x="0" y="1488"/>
                  </a:lnTo>
                  <a:lnTo>
                    <a:pt x="1" y="1471"/>
                  </a:lnTo>
                  <a:lnTo>
                    <a:pt x="1" y="1453"/>
                  </a:lnTo>
                  <a:lnTo>
                    <a:pt x="3" y="1435"/>
                  </a:lnTo>
                  <a:lnTo>
                    <a:pt x="6" y="1418"/>
                  </a:lnTo>
                  <a:lnTo>
                    <a:pt x="9" y="1399"/>
                  </a:lnTo>
                  <a:lnTo>
                    <a:pt x="14" y="1381"/>
                  </a:lnTo>
                  <a:lnTo>
                    <a:pt x="19" y="1361"/>
                  </a:lnTo>
                  <a:lnTo>
                    <a:pt x="25" y="1343"/>
                  </a:lnTo>
                  <a:lnTo>
                    <a:pt x="33" y="1323"/>
                  </a:lnTo>
                  <a:lnTo>
                    <a:pt x="41" y="1303"/>
                  </a:lnTo>
                  <a:lnTo>
                    <a:pt x="50" y="1284"/>
                  </a:lnTo>
                  <a:lnTo>
                    <a:pt x="60" y="1264"/>
                  </a:lnTo>
                  <a:lnTo>
                    <a:pt x="72" y="1244"/>
                  </a:lnTo>
                  <a:lnTo>
                    <a:pt x="83" y="1222"/>
                  </a:lnTo>
                  <a:lnTo>
                    <a:pt x="96" y="1196"/>
                  </a:lnTo>
                  <a:lnTo>
                    <a:pt x="107" y="1167"/>
                  </a:lnTo>
                  <a:lnTo>
                    <a:pt x="119" y="1135"/>
                  </a:lnTo>
                  <a:lnTo>
                    <a:pt x="130" y="1099"/>
                  </a:lnTo>
                  <a:lnTo>
                    <a:pt x="141" y="1062"/>
                  </a:lnTo>
                  <a:lnTo>
                    <a:pt x="152" y="1022"/>
                  </a:lnTo>
                  <a:lnTo>
                    <a:pt x="163" y="980"/>
                  </a:lnTo>
                  <a:lnTo>
                    <a:pt x="185" y="893"/>
                  </a:lnTo>
                  <a:lnTo>
                    <a:pt x="206" y="799"/>
                  </a:lnTo>
                  <a:lnTo>
                    <a:pt x="225" y="704"/>
                  </a:lnTo>
                  <a:lnTo>
                    <a:pt x="243" y="611"/>
                  </a:lnTo>
                  <a:lnTo>
                    <a:pt x="275" y="431"/>
                  </a:lnTo>
                  <a:lnTo>
                    <a:pt x="300" y="281"/>
                  </a:lnTo>
                  <a:lnTo>
                    <a:pt x="316" y="177"/>
                  </a:lnTo>
                  <a:lnTo>
                    <a:pt x="322" y="139"/>
                  </a:lnTo>
                  <a:lnTo>
                    <a:pt x="321" y="124"/>
                  </a:lnTo>
                  <a:lnTo>
                    <a:pt x="321" y="109"/>
                  </a:lnTo>
                  <a:lnTo>
                    <a:pt x="322" y="95"/>
                  </a:lnTo>
                  <a:lnTo>
                    <a:pt x="324" y="82"/>
                  </a:lnTo>
                  <a:lnTo>
                    <a:pt x="328" y="71"/>
                  </a:lnTo>
                  <a:lnTo>
                    <a:pt x="333" y="60"/>
                  </a:lnTo>
                  <a:lnTo>
                    <a:pt x="339" y="49"/>
                  </a:lnTo>
                  <a:lnTo>
                    <a:pt x="347" y="39"/>
                  </a:lnTo>
                  <a:lnTo>
                    <a:pt x="354" y="30"/>
                  </a:lnTo>
                  <a:lnTo>
                    <a:pt x="363" y="23"/>
                  </a:lnTo>
                  <a:lnTo>
                    <a:pt x="371" y="17"/>
                  </a:lnTo>
                  <a:lnTo>
                    <a:pt x="381" y="11"/>
                  </a:lnTo>
                  <a:lnTo>
                    <a:pt x="391" y="7"/>
                  </a:lnTo>
                  <a:lnTo>
                    <a:pt x="402" y="3"/>
                  </a:lnTo>
                  <a:lnTo>
                    <a:pt x="413" y="1"/>
                  </a:lnTo>
                  <a:lnTo>
                    <a:pt x="425" y="0"/>
                  </a:lnTo>
                  <a:lnTo>
                    <a:pt x="436" y="1"/>
                  </a:lnTo>
                  <a:lnTo>
                    <a:pt x="449" y="2"/>
                  </a:lnTo>
                  <a:lnTo>
                    <a:pt x="461" y="4"/>
                  </a:lnTo>
                  <a:lnTo>
                    <a:pt x="474" y="8"/>
                  </a:lnTo>
                  <a:lnTo>
                    <a:pt x="487" y="14"/>
                  </a:lnTo>
                  <a:lnTo>
                    <a:pt x="499" y="20"/>
                  </a:lnTo>
                  <a:lnTo>
                    <a:pt x="511" y="29"/>
                  </a:lnTo>
                  <a:lnTo>
                    <a:pt x="524" y="39"/>
                  </a:lnTo>
                  <a:lnTo>
                    <a:pt x="536" y="50"/>
                  </a:lnTo>
                  <a:lnTo>
                    <a:pt x="548" y="62"/>
                  </a:lnTo>
                  <a:lnTo>
                    <a:pt x="559" y="77"/>
                  </a:lnTo>
                  <a:lnTo>
                    <a:pt x="570" y="93"/>
                  </a:lnTo>
                  <a:lnTo>
                    <a:pt x="581" y="110"/>
                  </a:lnTo>
                  <a:lnTo>
                    <a:pt x="591" y="130"/>
                  </a:lnTo>
                  <a:lnTo>
                    <a:pt x="601" y="151"/>
                  </a:lnTo>
                  <a:lnTo>
                    <a:pt x="610" y="173"/>
                  </a:lnTo>
                  <a:close/>
                </a:path>
              </a:pathLst>
            </a:custGeom>
            <a:solidFill>
              <a:srgbClr val="e8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6881760" y="3318120"/>
              <a:ext cx="181080" cy="479160"/>
            </a:xfrm>
            <a:custGeom>
              <a:avLst/>
              <a:gdLst/>
              <a:ahLst/>
              <a:rect l="l" t="t" r="r" b="b"/>
              <a:pathLst>
                <a:path w="572" h="1514">
                  <a:moveTo>
                    <a:pt x="513" y="147"/>
                  </a:moveTo>
                  <a:lnTo>
                    <a:pt x="527" y="186"/>
                  </a:lnTo>
                  <a:lnTo>
                    <a:pt x="538" y="227"/>
                  </a:lnTo>
                  <a:lnTo>
                    <a:pt x="547" y="270"/>
                  </a:lnTo>
                  <a:lnTo>
                    <a:pt x="556" y="314"/>
                  </a:lnTo>
                  <a:lnTo>
                    <a:pt x="562" y="361"/>
                  </a:lnTo>
                  <a:lnTo>
                    <a:pt x="566" y="410"/>
                  </a:lnTo>
                  <a:lnTo>
                    <a:pt x="570" y="462"/>
                  </a:lnTo>
                  <a:lnTo>
                    <a:pt x="571" y="514"/>
                  </a:lnTo>
                  <a:lnTo>
                    <a:pt x="572" y="571"/>
                  </a:lnTo>
                  <a:lnTo>
                    <a:pt x="571" y="631"/>
                  </a:lnTo>
                  <a:lnTo>
                    <a:pt x="568" y="694"/>
                  </a:lnTo>
                  <a:lnTo>
                    <a:pt x="566" y="762"/>
                  </a:lnTo>
                  <a:lnTo>
                    <a:pt x="556" y="906"/>
                  </a:lnTo>
                  <a:lnTo>
                    <a:pt x="544" y="1067"/>
                  </a:lnTo>
                  <a:lnTo>
                    <a:pt x="539" y="1109"/>
                  </a:lnTo>
                  <a:lnTo>
                    <a:pt x="533" y="1148"/>
                  </a:lnTo>
                  <a:lnTo>
                    <a:pt x="527" y="1185"/>
                  </a:lnTo>
                  <a:lnTo>
                    <a:pt x="518" y="1219"/>
                  </a:lnTo>
                  <a:lnTo>
                    <a:pt x="508" y="1251"/>
                  </a:lnTo>
                  <a:lnTo>
                    <a:pt x="498" y="1282"/>
                  </a:lnTo>
                  <a:lnTo>
                    <a:pt x="486" y="1310"/>
                  </a:lnTo>
                  <a:lnTo>
                    <a:pt x="474" y="1336"/>
                  </a:lnTo>
                  <a:lnTo>
                    <a:pt x="460" y="1361"/>
                  </a:lnTo>
                  <a:lnTo>
                    <a:pt x="447" y="1383"/>
                  </a:lnTo>
                  <a:lnTo>
                    <a:pt x="432" y="1403"/>
                  </a:lnTo>
                  <a:lnTo>
                    <a:pt x="416" y="1421"/>
                  </a:lnTo>
                  <a:lnTo>
                    <a:pt x="400" y="1437"/>
                  </a:lnTo>
                  <a:lnTo>
                    <a:pt x="384" y="1452"/>
                  </a:lnTo>
                  <a:lnTo>
                    <a:pt x="367" y="1465"/>
                  </a:lnTo>
                  <a:lnTo>
                    <a:pt x="351" y="1476"/>
                  </a:lnTo>
                  <a:lnTo>
                    <a:pt x="333" y="1486"/>
                  </a:lnTo>
                  <a:lnTo>
                    <a:pt x="315" y="1495"/>
                  </a:lnTo>
                  <a:lnTo>
                    <a:pt x="298" y="1502"/>
                  </a:lnTo>
                  <a:lnTo>
                    <a:pt x="281" y="1507"/>
                  </a:lnTo>
                  <a:lnTo>
                    <a:pt x="263" y="1511"/>
                  </a:lnTo>
                  <a:lnTo>
                    <a:pt x="246" y="1513"/>
                  </a:lnTo>
                  <a:lnTo>
                    <a:pt x="230" y="1514"/>
                  </a:lnTo>
                  <a:lnTo>
                    <a:pt x="214" y="1514"/>
                  </a:lnTo>
                  <a:lnTo>
                    <a:pt x="198" y="1514"/>
                  </a:lnTo>
                  <a:lnTo>
                    <a:pt x="182" y="1512"/>
                  </a:lnTo>
                  <a:lnTo>
                    <a:pt x="167" y="1508"/>
                  </a:lnTo>
                  <a:lnTo>
                    <a:pt x="154" y="1503"/>
                  </a:lnTo>
                  <a:lnTo>
                    <a:pt x="140" y="1498"/>
                  </a:lnTo>
                  <a:lnTo>
                    <a:pt x="128" y="1492"/>
                  </a:lnTo>
                  <a:lnTo>
                    <a:pt x="117" y="1485"/>
                  </a:lnTo>
                  <a:lnTo>
                    <a:pt x="106" y="1478"/>
                  </a:lnTo>
                  <a:lnTo>
                    <a:pt x="87" y="1459"/>
                  </a:lnTo>
                  <a:lnTo>
                    <a:pt x="69" y="1439"/>
                  </a:lnTo>
                  <a:lnTo>
                    <a:pt x="53" y="1420"/>
                  </a:lnTo>
                  <a:lnTo>
                    <a:pt x="39" y="1398"/>
                  </a:lnTo>
                  <a:lnTo>
                    <a:pt x="27" y="1374"/>
                  </a:lnTo>
                  <a:lnTo>
                    <a:pt x="17" y="1350"/>
                  </a:lnTo>
                  <a:lnTo>
                    <a:pt x="12" y="1337"/>
                  </a:lnTo>
                  <a:lnTo>
                    <a:pt x="9" y="1324"/>
                  </a:lnTo>
                  <a:lnTo>
                    <a:pt x="6" y="1312"/>
                  </a:lnTo>
                  <a:lnTo>
                    <a:pt x="4" y="1298"/>
                  </a:lnTo>
                  <a:lnTo>
                    <a:pt x="1" y="1284"/>
                  </a:lnTo>
                  <a:lnTo>
                    <a:pt x="0" y="1271"/>
                  </a:lnTo>
                  <a:lnTo>
                    <a:pt x="0" y="1256"/>
                  </a:lnTo>
                  <a:lnTo>
                    <a:pt x="0" y="1241"/>
                  </a:lnTo>
                  <a:lnTo>
                    <a:pt x="0" y="1228"/>
                  </a:lnTo>
                  <a:lnTo>
                    <a:pt x="2" y="1213"/>
                  </a:lnTo>
                  <a:lnTo>
                    <a:pt x="5" y="1197"/>
                  </a:lnTo>
                  <a:lnTo>
                    <a:pt x="7" y="1182"/>
                  </a:lnTo>
                  <a:lnTo>
                    <a:pt x="11" y="1166"/>
                  </a:lnTo>
                  <a:lnTo>
                    <a:pt x="16" y="1152"/>
                  </a:lnTo>
                  <a:lnTo>
                    <a:pt x="21" y="1136"/>
                  </a:lnTo>
                  <a:lnTo>
                    <a:pt x="27" y="1120"/>
                  </a:lnTo>
                  <a:lnTo>
                    <a:pt x="33" y="1104"/>
                  </a:lnTo>
                  <a:lnTo>
                    <a:pt x="42" y="1086"/>
                  </a:lnTo>
                  <a:lnTo>
                    <a:pt x="50" y="1070"/>
                  </a:lnTo>
                  <a:lnTo>
                    <a:pt x="60" y="1053"/>
                  </a:lnTo>
                  <a:lnTo>
                    <a:pt x="70" y="1035"/>
                  </a:lnTo>
                  <a:lnTo>
                    <a:pt x="80" y="1013"/>
                  </a:lnTo>
                  <a:lnTo>
                    <a:pt x="90" y="988"/>
                  </a:lnTo>
                  <a:lnTo>
                    <a:pt x="100" y="961"/>
                  </a:lnTo>
                  <a:lnTo>
                    <a:pt x="110" y="931"/>
                  </a:lnTo>
                  <a:lnTo>
                    <a:pt x="118" y="899"/>
                  </a:lnTo>
                  <a:lnTo>
                    <a:pt x="128" y="866"/>
                  </a:lnTo>
                  <a:lnTo>
                    <a:pt x="138" y="831"/>
                  </a:lnTo>
                  <a:lnTo>
                    <a:pt x="156" y="756"/>
                  </a:lnTo>
                  <a:lnTo>
                    <a:pt x="173" y="677"/>
                  </a:lnTo>
                  <a:lnTo>
                    <a:pt x="189" y="597"/>
                  </a:lnTo>
                  <a:lnTo>
                    <a:pt x="205" y="517"/>
                  </a:lnTo>
                  <a:lnTo>
                    <a:pt x="233" y="364"/>
                  </a:lnTo>
                  <a:lnTo>
                    <a:pt x="253" y="238"/>
                  </a:lnTo>
                  <a:lnTo>
                    <a:pt x="267" y="149"/>
                  </a:lnTo>
                  <a:lnTo>
                    <a:pt x="272" y="116"/>
                  </a:lnTo>
                  <a:lnTo>
                    <a:pt x="271" y="104"/>
                  </a:lnTo>
                  <a:lnTo>
                    <a:pt x="271" y="91"/>
                  </a:lnTo>
                  <a:lnTo>
                    <a:pt x="272" y="80"/>
                  </a:lnTo>
                  <a:lnTo>
                    <a:pt x="274" y="70"/>
                  </a:lnTo>
                  <a:lnTo>
                    <a:pt x="277" y="59"/>
                  </a:lnTo>
                  <a:lnTo>
                    <a:pt x="282" y="51"/>
                  </a:lnTo>
                  <a:lnTo>
                    <a:pt x="287" y="42"/>
                  </a:lnTo>
                  <a:lnTo>
                    <a:pt x="292" y="34"/>
                  </a:lnTo>
                  <a:lnTo>
                    <a:pt x="298" y="26"/>
                  </a:lnTo>
                  <a:lnTo>
                    <a:pt x="305" y="20"/>
                  </a:lnTo>
                  <a:lnTo>
                    <a:pt x="313" y="15"/>
                  </a:lnTo>
                  <a:lnTo>
                    <a:pt x="321" y="10"/>
                  </a:lnTo>
                  <a:lnTo>
                    <a:pt x="330" y="6"/>
                  </a:lnTo>
                  <a:lnTo>
                    <a:pt x="338" y="4"/>
                  </a:lnTo>
                  <a:lnTo>
                    <a:pt x="348" y="2"/>
                  </a:lnTo>
                  <a:lnTo>
                    <a:pt x="358" y="0"/>
                  </a:lnTo>
                  <a:lnTo>
                    <a:pt x="368" y="2"/>
                  </a:lnTo>
                  <a:lnTo>
                    <a:pt x="378" y="3"/>
                  </a:lnTo>
                  <a:lnTo>
                    <a:pt x="389" y="4"/>
                  </a:lnTo>
                  <a:lnTo>
                    <a:pt x="399" y="8"/>
                  </a:lnTo>
                  <a:lnTo>
                    <a:pt x="410" y="13"/>
                  </a:lnTo>
                  <a:lnTo>
                    <a:pt x="421" y="18"/>
                  </a:lnTo>
                  <a:lnTo>
                    <a:pt x="431" y="25"/>
                  </a:lnTo>
                  <a:lnTo>
                    <a:pt x="442" y="34"/>
                  </a:lnTo>
                  <a:lnTo>
                    <a:pt x="452" y="42"/>
                  </a:lnTo>
                  <a:lnTo>
                    <a:pt x="461" y="53"/>
                  </a:lnTo>
                  <a:lnTo>
                    <a:pt x="471" y="66"/>
                  </a:lnTo>
                  <a:lnTo>
                    <a:pt x="481" y="79"/>
                  </a:lnTo>
                  <a:lnTo>
                    <a:pt x="490" y="94"/>
                  </a:lnTo>
                  <a:lnTo>
                    <a:pt x="498" y="110"/>
                  </a:lnTo>
                  <a:lnTo>
                    <a:pt x="506" y="127"/>
                  </a:lnTo>
                  <a:lnTo>
                    <a:pt x="513" y="147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6896160" y="3384720"/>
              <a:ext cx="149040" cy="392040"/>
            </a:xfrm>
            <a:custGeom>
              <a:avLst/>
              <a:gdLst/>
              <a:ahLst/>
              <a:rect l="l" t="t" r="r" b="b"/>
              <a:pathLst>
                <a:path w="468" h="1236">
                  <a:moveTo>
                    <a:pt x="421" y="121"/>
                  </a:moveTo>
                  <a:lnTo>
                    <a:pt x="432" y="153"/>
                  </a:lnTo>
                  <a:lnTo>
                    <a:pt x="441" y="186"/>
                  </a:lnTo>
                  <a:lnTo>
                    <a:pt x="449" y="220"/>
                  </a:lnTo>
                  <a:lnTo>
                    <a:pt x="455" y="257"/>
                  </a:lnTo>
                  <a:lnTo>
                    <a:pt x="460" y="295"/>
                  </a:lnTo>
                  <a:lnTo>
                    <a:pt x="464" y="335"/>
                  </a:lnTo>
                  <a:lnTo>
                    <a:pt x="467" y="376"/>
                  </a:lnTo>
                  <a:lnTo>
                    <a:pt x="468" y="420"/>
                  </a:lnTo>
                  <a:lnTo>
                    <a:pt x="468" y="466"/>
                  </a:lnTo>
                  <a:lnTo>
                    <a:pt x="468" y="515"/>
                  </a:lnTo>
                  <a:lnTo>
                    <a:pt x="465" y="567"/>
                  </a:lnTo>
                  <a:lnTo>
                    <a:pt x="463" y="621"/>
                  </a:lnTo>
                  <a:lnTo>
                    <a:pt x="455" y="739"/>
                  </a:lnTo>
                  <a:lnTo>
                    <a:pt x="446" y="870"/>
                  </a:lnTo>
                  <a:lnTo>
                    <a:pt x="442" y="904"/>
                  </a:lnTo>
                  <a:lnTo>
                    <a:pt x="437" y="936"/>
                  </a:lnTo>
                  <a:lnTo>
                    <a:pt x="432" y="967"/>
                  </a:lnTo>
                  <a:lnTo>
                    <a:pt x="425" y="995"/>
                  </a:lnTo>
                  <a:lnTo>
                    <a:pt x="417" y="1021"/>
                  </a:lnTo>
                  <a:lnTo>
                    <a:pt x="409" y="1046"/>
                  </a:lnTo>
                  <a:lnTo>
                    <a:pt x="399" y="1069"/>
                  </a:lnTo>
                  <a:lnTo>
                    <a:pt x="389" y="1090"/>
                  </a:lnTo>
                  <a:lnTo>
                    <a:pt x="378" y="1110"/>
                  </a:lnTo>
                  <a:lnTo>
                    <a:pt x="367" y="1128"/>
                  </a:lnTo>
                  <a:lnTo>
                    <a:pt x="355" y="1144"/>
                  </a:lnTo>
                  <a:lnTo>
                    <a:pt x="342" y="1160"/>
                  </a:lnTo>
                  <a:lnTo>
                    <a:pt x="329" y="1174"/>
                  </a:lnTo>
                  <a:lnTo>
                    <a:pt x="315" y="1186"/>
                  </a:lnTo>
                  <a:lnTo>
                    <a:pt x="302" y="1196"/>
                  </a:lnTo>
                  <a:lnTo>
                    <a:pt x="288" y="1206"/>
                  </a:lnTo>
                  <a:lnTo>
                    <a:pt x="273" y="1214"/>
                  </a:lnTo>
                  <a:lnTo>
                    <a:pt x="259" y="1220"/>
                  </a:lnTo>
                  <a:lnTo>
                    <a:pt x="245" y="1226"/>
                  </a:lnTo>
                  <a:lnTo>
                    <a:pt x="230" y="1230"/>
                  </a:lnTo>
                  <a:lnTo>
                    <a:pt x="217" y="1234"/>
                  </a:lnTo>
                  <a:lnTo>
                    <a:pt x="202" y="1235"/>
                  </a:lnTo>
                  <a:lnTo>
                    <a:pt x="188" y="1236"/>
                  </a:lnTo>
                  <a:lnTo>
                    <a:pt x="175" y="1236"/>
                  </a:lnTo>
                  <a:lnTo>
                    <a:pt x="163" y="1235"/>
                  </a:lnTo>
                  <a:lnTo>
                    <a:pt x="149" y="1234"/>
                  </a:lnTo>
                  <a:lnTo>
                    <a:pt x="138" y="1231"/>
                  </a:lnTo>
                  <a:lnTo>
                    <a:pt x="126" y="1228"/>
                  </a:lnTo>
                  <a:lnTo>
                    <a:pt x="115" y="1223"/>
                  </a:lnTo>
                  <a:lnTo>
                    <a:pt x="105" y="1218"/>
                  </a:lnTo>
                  <a:lnTo>
                    <a:pt x="95" y="1212"/>
                  </a:lnTo>
                  <a:lnTo>
                    <a:pt x="86" y="1204"/>
                  </a:lnTo>
                  <a:lnTo>
                    <a:pt x="72" y="1190"/>
                  </a:lnTo>
                  <a:lnTo>
                    <a:pt x="57" y="1175"/>
                  </a:lnTo>
                  <a:lnTo>
                    <a:pt x="43" y="1158"/>
                  </a:lnTo>
                  <a:lnTo>
                    <a:pt x="32" y="1140"/>
                  </a:lnTo>
                  <a:lnTo>
                    <a:pt x="22" y="1122"/>
                  </a:lnTo>
                  <a:lnTo>
                    <a:pt x="14" y="1102"/>
                  </a:lnTo>
                  <a:lnTo>
                    <a:pt x="8" y="1081"/>
                  </a:lnTo>
                  <a:lnTo>
                    <a:pt x="3" y="1059"/>
                  </a:lnTo>
                  <a:lnTo>
                    <a:pt x="0" y="1037"/>
                  </a:lnTo>
                  <a:lnTo>
                    <a:pt x="0" y="1014"/>
                  </a:lnTo>
                  <a:lnTo>
                    <a:pt x="1" y="990"/>
                  </a:lnTo>
                  <a:lnTo>
                    <a:pt x="6" y="964"/>
                  </a:lnTo>
                  <a:lnTo>
                    <a:pt x="13" y="940"/>
                  </a:lnTo>
                  <a:lnTo>
                    <a:pt x="22" y="913"/>
                  </a:lnTo>
                  <a:lnTo>
                    <a:pt x="33" y="887"/>
                  </a:lnTo>
                  <a:lnTo>
                    <a:pt x="48" y="860"/>
                  </a:lnTo>
                  <a:lnTo>
                    <a:pt x="57" y="844"/>
                  </a:lnTo>
                  <a:lnTo>
                    <a:pt x="65" y="827"/>
                  </a:lnTo>
                  <a:lnTo>
                    <a:pt x="73" y="806"/>
                  </a:lnTo>
                  <a:lnTo>
                    <a:pt x="81" y="784"/>
                  </a:lnTo>
                  <a:lnTo>
                    <a:pt x="97" y="733"/>
                  </a:lnTo>
                  <a:lnTo>
                    <a:pt x="112" y="677"/>
                  </a:lnTo>
                  <a:lnTo>
                    <a:pt x="128" y="615"/>
                  </a:lnTo>
                  <a:lnTo>
                    <a:pt x="142" y="551"/>
                  </a:lnTo>
                  <a:lnTo>
                    <a:pt x="155" y="486"/>
                  </a:lnTo>
                  <a:lnTo>
                    <a:pt x="169" y="421"/>
                  </a:lnTo>
                  <a:lnTo>
                    <a:pt x="191" y="297"/>
                  </a:lnTo>
                  <a:lnTo>
                    <a:pt x="208" y="192"/>
                  </a:lnTo>
                  <a:lnTo>
                    <a:pt x="219" y="121"/>
                  </a:lnTo>
                  <a:lnTo>
                    <a:pt x="223" y="94"/>
                  </a:lnTo>
                  <a:lnTo>
                    <a:pt x="222" y="84"/>
                  </a:lnTo>
                  <a:lnTo>
                    <a:pt x="223" y="74"/>
                  </a:lnTo>
                  <a:lnTo>
                    <a:pt x="224" y="64"/>
                  </a:lnTo>
                  <a:lnTo>
                    <a:pt x="225" y="55"/>
                  </a:lnTo>
                  <a:lnTo>
                    <a:pt x="228" y="47"/>
                  </a:lnTo>
                  <a:lnTo>
                    <a:pt x="232" y="39"/>
                  </a:lnTo>
                  <a:lnTo>
                    <a:pt x="235" y="32"/>
                  </a:lnTo>
                  <a:lnTo>
                    <a:pt x="240" y="26"/>
                  </a:lnTo>
                  <a:lnTo>
                    <a:pt x="245" y="21"/>
                  </a:lnTo>
                  <a:lnTo>
                    <a:pt x="251" y="15"/>
                  </a:lnTo>
                  <a:lnTo>
                    <a:pt x="257" y="11"/>
                  </a:lnTo>
                  <a:lnTo>
                    <a:pt x="265" y="7"/>
                  </a:lnTo>
                  <a:lnTo>
                    <a:pt x="271" y="4"/>
                  </a:lnTo>
                  <a:lnTo>
                    <a:pt x="278" y="3"/>
                  </a:lnTo>
                  <a:lnTo>
                    <a:pt x="287" y="0"/>
                  </a:lnTo>
                  <a:lnTo>
                    <a:pt x="294" y="0"/>
                  </a:lnTo>
                  <a:lnTo>
                    <a:pt x="303" y="0"/>
                  </a:lnTo>
                  <a:lnTo>
                    <a:pt x="310" y="1"/>
                  </a:lnTo>
                  <a:lnTo>
                    <a:pt x="319" y="4"/>
                  </a:lnTo>
                  <a:lnTo>
                    <a:pt x="327" y="6"/>
                  </a:lnTo>
                  <a:lnTo>
                    <a:pt x="336" y="10"/>
                  </a:lnTo>
                  <a:lnTo>
                    <a:pt x="345" y="15"/>
                  </a:lnTo>
                  <a:lnTo>
                    <a:pt x="353" y="21"/>
                  </a:lnTo>
                  <a:lnTo>
                    <a:pt x="362" y="27"/>
                  </a:lnTo>
                  <a:lnTo>
                    <a:pt x="371" y="35"/>
                  </a:lnTo>
                  <a:lnTo>
                    <a:pt x="378" y="44"/>
                  </a:lnTo>
                  <a:lnTo>
                    <a:pt x="387" y="54"/>
                  </a:lnTo>
                  <a:lnTo>
                    <a:pt x="394" y="65"/>
                  </a:lnTo>
                  <a:lnTo>
                    <a:pt x="401" y="78"/>
                  </a:lnTo>
                  <a:lnTo>
                    <a:pt x="409" y="90"/>
                  </a:lnTo>
                  <a:lnTo>
                    <a:pt x="415" y="105"/>
                  </a:lnTo>
                  <a:lnTo>
                    <a:pt x="421" y="12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6913440" y="3451320"/>
              <a:ext cx="114480" cy="304920"/>
            </a:xfrm>
            <a:custGeom>
              <a:avLst/>
              <a:gdLst/>
              <a:ahLst/>
              <a:rect l="l" t="t" r="r" b="b"/>
              <a:pathLst>
                <a:path w="361" h="961">
                  <a:moveTo>
                    <a:pt x="327" y="93"/>
                  </a:moveTo>
                  <a:lnTo>
                    <a:pt x="334" y="119"/>
                  </a:lnTo>
                  <a:lnTo>
                    <a:pt x="342" y="144"/>
                  </a:lnTo>
                  <a:lnTo>
                    <a:pt x="348" y="171"/>
                  </a:lnTo>
                  <a:lnTo>
                    <a:pt x="352" y="200"/>
                  </a:lnTo>
                  <a:lnTo>
                    <a:pt x="355" y="229"/>
                  </a:lnTo>
                  <a:lnTo>
                    <a:pt x="359" y="260"/>
                  </a:lnTo>
                  <a:lnTo>
                    <a:pt x="360" y="292"/>
                  </a:lnTo>
                  <a:lnTo>
                    <a:pt x="361" y="326"/>
                  </a:lnTo>
                  <a:lnTo>
                    <a:pt x="361" y="362"/>
                  </a:lnTo>
                  <a:lnTo>
                    <a:pt x="361" y="400"/>
                  </a:lnTo>
                  <a:lnTo>
                    <a:pt x="360" y="441"/>
                  </a:lnTo>
                  <a:lnTo>
                    <a:pt x="358" y="483"/>
                  </a:lnTo>
                  <a:lnTo>
                    <a:pt x="353" y="575"/>
                  </a:lnTo>
                  <a:lnTo>
                    <a:pt x="345" y="677"/>
                  </a:lnTo>
                  <a:lnTo>
                    <a:pt x="343" y="703"/>
                  </a:lnTo>
                  <a:lnTo>
                    <a:pt x="339" y="727"/>
                  </a:lnTo>
                  <a:lnTo>
                    <a:pt x="334" y="751"/>
                  </a:lnTo>
                  <a:lnTo>
                    <a:pt x="329" y="773"/>
                  </a:lnTo>
                  <a:lnTo>
                    <a:pt x="323" y="794"/>
                  </a:lnTo>
                  <a:lnTo>
                    <a:pt x="316" y="812"/>
                  </a:lnTo>
                  <a:lnTo>
                    <a:pt x="308" y="831"/>
                  </a:lnTo>
                  <a:lnTo>
                    <a:pt x="301" y="847"/>
                  </a:lnTo>
                  <a:lnTo>
                    <a:pt x="292" y="863"/>
                  </a:lnTo>
                  <a:lnTo>
                    <a:pt x="284" y="876"/>
                  </a:lnTo>
                  <a:lnTo>
                    <a:pt x="274" y="889"/>
                  </a:lnTo>
                  <a:lnTo>
                    <a:pt x="264" y="901"/>
                  </a:lnTo>
                  <a:lnTo>
                    <a:pt x="254" y="911"/>
                  </a:lnTo>
                  <a:lnTo>
                    <a:pt x="243" y="920"/>
                  </a:lnTo>
                  <a:lnTo>
                    <a:pt x="232" y="929"/>
                  </a:lnTo>
                  <a:lnTo>
                    <a:pt x="222" y="936"/>
                  </a:lnTo>
                  <a:lnTo>
                    <a:pt x="211" y="943"/>
                  </a:lnTo>
                  <a:lnTo>
                    <a:pt x="200" y="948"/>
                  </a:lnTo>
                  <a:lnTo>
                    <a:pt x="189" y="952"/>
                  </a:lnTo>
                  <a:lnTo>
                    <a:pt x="178" y="956"/>
                  </a:lnTo>
                  <a:lnTo>
                    <a:pt x="167" y="959"/>
                  </a:lnTo>
                  <a:lnTo>
                    <a:pt x="156" y="960"/>
                  </a:lnTo>
                  <a:lnTo>
                    <a:pt x="145" y="961"/>
                  </a:lnTo>
                  <a:lnTo>
                    <a:pt x="135" y="961"/>
                  </a:lnTo>
                  <a:lnTo>
                    <a:pt x="124" y="961"/>
                  </a:lnTo>
                  <a:lnTo>
                    <a:pt x="114" y="959"/>
                  </a:lnTo>
                  <a:lnTo>
                    <a:pt x="105" y="957"/>
                  </a:lnTo>
                  <a:lnTo>
                    <a:pt x="96" y="955"/>
                  </a:lnTo>
                  <a:lnTo>
                    <a:pt x="88" y="951"/>
                  </a:lnTo>
                  <a:lnTo>
                    <a:pt x="80" y="948"/>
                  </a:lnTo>
                  <a:lnTo>
                    <a:pt x="72" y="943"/>
                  </a:lnTo>
                  <a:lnTo>
                    <a:pt x="66" y="938"/>
                  </a:lnTo>
                  <a:lnTo>
                    <a:pt x="54" y="927"/>
                  </a:lnTo>
                  <a:lnTo>
                    <a:pt x="43" y="914"/>
                  </a:lnTo>
                  <a:lnTo>
                    <a:pt x="32" y="901"/>
                  </a:lnTo>
                  <a:lnTo>
                    <a:pt x="23" y="887"/>
                  </a:lnTo>
                  <a:lnTo>
                    <a:pt x="16" y="873"/>
                  </a:lnTo>
                  <a:lnTo>
                    <a:pt x="10" y="858"/>
                  </a:lnTo>
                  <a:lnTo>
                    <a:pt x="5" y="842"/>
                  </a:lnTo>
                  <a:lnTo>
                    <a:pt x="1" y="825"/>
                  </a:lnTo>
                  <a:lnTo>
                    <a:pt x="0" y="807"/>
                  </a:lnTo>
                  <a:lnTo>
                    <a:pt x="0" y="789"/>
                  </a:lnTo>
                  <a:lnTo>
                    <a:pt x="1" y="770"/>
                  </a:lnTo>
                  <a:lnTo>
                    <a:pt x="5" y="751"/>
                  </a:lnTo>
                  <a:lnTo>
                    <a:pt x="10" y="731"/>
                  </a:lnTo>
                  <a:lnTo>
                    <a:pt x="17" y="710"/>
                  </a:lnTo>
                  <a:lnTo>
                    <a:pt x="27" y="689"/>
                  </a:lnTo>
                  <a:lnTo>
                    <a:pt x="39" y="668"/>
                  </a:lnTo>
                  <a:lnTo>
                    <a:pt x="45" y="657"/>
                  </a:lnTo>
                  <a:lnTo>
                    <a:pt x="51" y="643"/>
                  </a:lnTo>
                  <a:lnTo>
                    <a:pt x="56" y="628"/>
                  </a:lnTo>
                  <a:lnTo>
                    <a:pt x="62" y="611"/>
                  </a:lnTo>
                  <a:lnTo>
                    <a:pt x="75" y="571"/>
                  </a:lnTo>
                  <a:lnTo>
                    <a:pt x="87" y="527"/>
                  </a:lnTo>
                  <a:lnTo>
                    <a:pt x="98" y="480"/>
                  </a:lnTo>
                  <a:lnTo>
                    <a:pt x="109" y="430"/>
                  </a:lnTo>
                  <a:lnTo>
                    <a:pt x="120" y="379"/>
                  </a:lnTo>
                  <a:lnTo>
                    <a:pt x="130" y="328"/>
                  </a:lnTo>
                  <a:lnTo>
                    <a:pt x="147" y="232"/>
                  </a:lnTo>
                  <a:lnTo>
                    <a:pt x="160" y="151"/>
                  </a:lnTo>
                  <a:lnTo>
                    <a:pt x="168" y="94"/>
                  </a:lnTo>
                  <a:lnTo>
                    <a:pt x="172" y="73"/>
                  </a:lnTo>
                  <a:lnTo>
                    <a:pt x="171" y="66"/>
                  </a:lnTo>
                  <a:lnTo>
                    <a:pt x="172" y="58"/>
                  </a:lnTo>
                  <a:lnTo>
                    <a:pt x="172" y="51"/>
                  </a:lnTo>
                  <a:lnTo>
                    <a:pt x="174" y="43"/>
                  </a:lnTo>
                  <a:lnTo>
                    <a:pt x="176" y="37"/>
                  </a:lnTo>
                  <a:lnTo>
                    <a:pt x="179" y="31"/>
                  </a:lnTo>
                  <a:lnTo>
                    <a:pt x="182" y="26"/>
                  </a:lnTo>
                  <a:lnTo>
                    <a:pt x="185" y="21"/>
                  </a:lnTo>
                  <a:lnTo>
                    <a:pt x="189" y="16"/>
                  </a:lnTo>
                  <a:lnTo>
                    <a:pt x="194" y="13"/>
                  </a:lnTo>
                  <a:lnTo>
                    <a:pt x="199" y="9"/>
                  </a:lnTo>
                  <a:lnTo>
                    <a:pt x="204" y="7"/>
                  </a:lnTo>
                  <a:lnTo>
                    <a:pt x="210" y="4"/>
                  </a:lnTo>
                  <a:lnTo>
                    <a:pt x="215" y="2"/>
                  </a:lnTo>
                  <a:lnTo>
                    <a:pt x="221" y="2"/>
                  </a:lnTo>
                  <a:lnTo>
                    <a:pt x="227" y="0"/>
                  </a:lnTo>
                  <a:lnTo>
                    <a:pt x="235" y="0"/>
                  </a:lnTo>
                  <a:lnTo>
                    <a:pt x="241" y="2"/>
                  </a:lnTo>
                  <a:lnTo>
                    <a:pt x="247" y="3"/>
                  </a:lnTo>
                  <a:lnTo>
                    <a:pt x="254" y="5"/>
                  </a:lnTo>
                  <a:lnTo>
                    <a:pt x="260" y="8"/>
                  </a:lnTo>
                  <a:lnTo>
                    <a:pt x="268" y="12"/>
                  </a:lnTo>
                  <a:lnTo>
                    <a:pt x="274" y="16"/>
                  </a:lnTo>
                  <a:lnTo>
                    <a:pt x="280" y="21"/>
                  </a:lnTo>
                  <a:lnTo>
                    <a:pt x="288" y="28"/>
                  </a:lnTo>
                  <a:lnTo>
                    <a:pt x="294" y="34"/>
                  </a:lnTo>
                  <a:lnTo>
                    <a:pt x="300" y="41"/>
                  </a:lnTo>
                  <a:lnTo>
                    <a:pt x="306" y="50"/>
                  </a:lnTo>
                  <a:lnTo>
                    <a:pt x="311" y="59"/>
                  </a:lnTo>
                  <a:lnTo>
                    <a:pt x="317" y="69"/>
                  </a:lnTo>
                  <a:lnTo>
                    <a:pt x="322" y="80"/>
                  </a:lnTo>
                  <a:lnTo>
                    <a:pt x="327" y="93"/>
                  </a:lnTo>
                  <a:close/>
                </a:path>
              </a:pathLst>
            </a:custGeom>
            <a:solidFill>
              <a:srgbClr val="f9f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6927840" y="3519720"/>
              <a:ext cx="82440" cy="215640"/>
            </a:xfrm>
            <a:custGeom>
              <a:avLst/>
              <a:gdLst/>
              <a:ahLst/>
              <a:rect l="l" t="t" r="r" b="b"/>
              <a:pathLst>
                <a:path w="258" h="683">
                  <a:moveTo>
                    <a:pt x="123" y="52"/>
                  </a:moveTo>
                  <a:lnTo>
                    <a:pt x="120" y="66"/>
                  </a:lnTo>
                  <a:lnTo>
                    <a:pt x="114" y="107"/>
                  </a:lnTo>
                  <a:lnTo>
                    <a:pt x="104" y="165"/>
                  </a:lnTo>
                  <a:lnTo>
                    <a:pt x="92" y="232"/>
                  </a:lnTo>
                  <a:lnTo>
                    <a:pt x="77" y="305"/>
                  </a:lnTo>
                  <a:lnTo>
                    <a:pt x="61" y="375"/>
                  </a:lnTo>
                  <a:lnTo>
                    <a:pt x="54" y="406"/>
                  </a:lnTo>
                  <a:lnTo>
                    <a:pt x="45" y="434"/>
                  </a:lnTo>
                  <a:lnTo>
                    <a:pt x="37" y="458"/>
                  </a:lnTo>
                  <a:lnTo>
                    <a:pt x="27" y="476"/>
                  </a:lnTo>
                  <a:lnTo>
                    <a:pt x="20" y="491"/>
                  </a:lnTo>
                  <a:lnTo>
                    <a:pt x="12" y="506"/>
                  </a:lnTo>
                  <a:lnTo>
                    <a:pt x="7" y="520"/>
                  </a:lnTo>
                  <a:lnTo>
                    <a:pt x="4" y="534"/>
                  </a:lnTo>
                  <a:lnTo>
                    <a:pt x="1" y="547"/>
                  </a:lnTo>
                  <a:lnTo>
                    <a:pt x="0" y="561"/>
                  </a:lnTo>
                  <a:lnTo>
                    <a:pt x="0" y="573"/>
                  </a:lnTo>
                  <a:lnTo>
                    <a:pt x="1" y="585"/>
                  </a:lnTo>
                  <a:lnTo>
                    <a:pt x="4" y="598"/>
                  </a:lnTo>
                  <a:lnTo>
                    <a:pt x="7" y="609"/>
                  </a:lnTo>
                  <a:lnTo>
                    <a:pt x="12" y="620"/>
                  </a:lnTo>
                  <a:lnTo>
                    <a:pt x="17" y="630"/>
                  </a:lnTo>
                  <a:lnTo>
                    <a:pt x="23" y="640"/>
                  </a:lnTo>
                  <a:lnTo>
                    <a:pt x="31" y="649"/>
                  </a:lnTo>
                  <a:lnTo>
                    <a:pt x="38" y="658"/>
                  </a:lnTo>
                  <a:lnTo>
                    <a:pt x="47" y="665"/>
                  </a:lnTo>
                  <a:lnTo>
                    <a:pt x="56" y="673"/>
                  </a:lnTo>
                  <a:lnTo>
                    <a:pt x="69" y="678"/>
                  </a:lnTo>
                  <a:lnTo>
                    <a:pt x="81" y="681"/>
                  </a:lnTo>
                  <a:lnTo>
                    <a:pt x="96" y="683"/>
                  </a:lnTo>
                  <a:lnTo>
                    <a:pt x="111" y="683"/>
                  </a:lnTo>
                  <a:lnTo>
                    <a:pt x="127" y="680"/>
                  </a:lnTo>
                  <a:lnTo>
                    <a:pt x="134" y="678"/>
                  </a:lnTo>
                  <a:lnTo>
                    <a:pt x="143" y="674"/>
                  </a:lnTo>
                  <a:lnTo>
                    <a:pt x="150" y="670"/>
                  </a:lnTo>
                  <a:lnTo>
                    <a:pt x="157" y="667"/>
                  </a:lnTo>
                  <a:lnTo>
                    <a:pt x="166" y="662"/>
                  </a:lnTo>
                  <a:lnTo>
                    <a:pt x="173" y="656"/>
                  </a:lnTo>
                  <a:lnTo>
                    <a:pt x="181" y="649"/>
                  </a:lnTo>
                  <a:lnTo>
                    <a:pt x="188" y="642"/>
                  </a:lnTo>
                  <a:lnTo>
                    <a:pt x="194" y="633"/>
                  </a:lnTo>
                  <a:lnTo>
                    <a:pt x="202" y="625"/>
                  </a:lnTo>
                  <a:lnTo>
                    <a:pt x="208" y="615"/>
                  </a:lnTo>
                  <a:lnTo>
                    <a:pt x="214" y="604"/>
                  </a:lnTo>
                  <a:lnTo>
                    <a:pt x="220" y="592"/>
                  </a:lnTo>
                  <a:lnTo>
                    <a:pt x="225" y="579"/>
                  </a:lnTo>
                  <a:lnTo>
                    <a:pt x="230" y="566"/>
                  </a:lnTo>
                  <a:lnTo>
                    <a:pt x="234" y="551"/>
                  </a:lnTo>
                  <a:lnTo>
                    <a:pt x="237" y="536"/>
                  </a:lnTo>
                  <a:lnTo>
                    <a:pt x="241" y="520"/>
                  </a:lnTo>
                  <a:lnTo>
                    <a:pt x="243" y="502"/>
                  </a:lnTo>
                  <a:lnTo>
                    <a:pt x="245" y="483"/>
                  </a:lnTo>
                  <a:lnTo>
                    <a:pt x="251" y="411"/>
                  </a:lnTo>
                  <a:lnTo>
                    <a:pt x="256" y="344"/>
                  </a:lnTo>
                  <a:lnTo>
                    <a:pt x="258" y="287"/>
                  </a:lnTo>
                  <a:lnTo>
                    <a:pt x="258" y="234"/>
                  </a:lnTo>
                  <a:lnTo>
                    <a:pt x="258" y="209"/>
                  </a:lnTo>
                  <a:lnTo>
                    <a:pt x="256" y="186"/>
                  </a:lnTo>
                  <a:lnTo>
                    <a:pt x="253" y="164"/>
                  </a:lnTo>
                  <a:lnTo>
                    <a:pt x="251" y="143"/>
                  </a:lnTo>
                  <a:lnTo>
                    <a:pt x="247" y="123"/>
                  </a:lnTo>
                  <a:lnTo>
                    <a:pt x="242" y="103"/>
                  </a:lnTo>
                  <a:lnTo>
                    <a:pt x="237" y="84"/>
                  </a:lnTo>
                  <a:lnTo>
                    <a:pt x="231" y="65"/>
                  </a:lnTo>
                  <a:lnTo>
                    <a:pt x="225" y="49"/>
                  </a:lnTo>
                  <a:lnTo>
                    <a:pt x="218" y="34"/>
                  </a:lnTo>
                  <a:lnTo>
                    <a:pt x="209" y="23"/>
                  </a:lnTo>
                  <a:lnTo>
                    <a:pt x="200" y="15"/>
                  </a:lnTo>
                  <a:lnTo>
                    <a:pt x="191" y="9"/>
                  </a:lnTo>
                  <a:lnTo>
                    <a:pt x="181" y="4"/>
                  </a:lnTo>
                  <a:lnTo>
                    <a:pt x="172" y="1"/>
                  </a:lnTo>
                  <a:lnTo>
                    <a:pt x="162" y="0"/>
                  </a:lnTo>
                  <a:lnTo>
                    <a:pt x="154" y="1"/>
                  </a:lnTo>
                  <a:lnTo>
                    <a:pt x="146" y="5"/>
                  </a:lnTo>
                  <a:lnTo>
                    <a:pt x="139" y="10"/>
                  </a:lnTo>
                  <a:lnTo>
                    <a:pt x="133" y="15"/>
                  </a:lnTo>
                  <a:lnTo>
                    <a:pt x="128" y="22"/>
                  </a:lnTo>
                  <a:lnTo>
                    <a:pt x="124" y="31"/>
                  </a:lnTo>
                  <a:lnTo>
                    <a:pt x="123" y="41"/>
                  </a:lnTo>
                  <a:lnTo>
                    <a:pt x="123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6676920" y="2968560"/>
              <a:ext cx="265320" cy="716040"/>
            </a:xfrm>
            <a:custGeom>
              <a:avLst/>
              <a:gdLst/>
              <a:ahLst/>
              <a:rect l="l" t="t" r="r" b="b"/>
              <a:pathLst>
                <a:path w="836" h="2254">
                  <a:moveTo>
                    <a:pt x="836" y="965"/>
                  </a:moveTo>
                  <a:lnTo>
                    <a:pt x="835" y="1025"/>
                  </a:lnTo>
                  <a:lnTo>
                    <a:pt x="832" y="1083"/>
                  </a:lnTo>
                  <a:lnTo>
                    <a:pt x="829" y="1142"/>
                  </a:lnTo>
                  <a:lnTo>
                    <a:pt x="821" y="1200"/>
                  </a:lnTo>
                  <a:lnTo>
                    <a:pt x="814" y="1256"/>
                  </a:lnTo>
                  <a:lnTo>
                    <a:pt x="804" y="1313"/>
                  </a:lnTo>
                  <a:lnTo>
                    <a:pt x="793" y="1368"/>
                  </a:lnTo>
                  <a:lnTo>
                    <a:pt x="781" y="1422"/>
                  </a:lnTo>
                  <a:lnTo>
                    <a:pt x="767" y="1475"/>
                  </a:lnTo>
                  <a:lnTo>
                    <a:pt x="751" y="1528"/>
                  </a:lnTo>
                  <a:lnTo>
                    <a:pt x="735" y="1578"/>
                  </a:lnTo>
                  <a:lnTo>
                    <a:pt x="719" y="1628"/>
                  </a:lnTo>
                  <a:lnTo>
                    <a:pt x="701" y="1677"/>
                  </a:lnTo>
                  <a:lnTo>
                    <a:pt x="682" y="1724"/>
                  </a:lnTo>
                  <a:lnTo>
                    <a:pt x="663" y="1769"/>
                  </a:lnTo>
                  <a:lnTo>
                    <a:pt x="643" y="1813"/>
                  </a:lnTo>
                  <a:lnTo>
                    <a:pt x="622" y="1855"/>
                  </a:lnTo>
                  <a:lnTo>
                    <a:pt x="602" y="1896"/>
                  </a:lnTo>
                  <a:lnTo>
                    <a:pt x="582" y="1934"/>
                  </a:lnTo>
                  <a:lnTo>
                    <a:pt x="561" y="1971"/>
                  </a:lnTo>
                  <a:lnTo>
                    <a:pt x="538" y="2007"/>
                  </a:lnTo>
                  <a:lnTo>
                    <a:pt x="518" y="2040"/>
                  </a:lnTo>
                  <a:lnTo>
                    <a:pt x="497" y="2070"/>
                  </a:lnTo>
                  <a:lnTo>
                    <a:pt x="477" y="2099"/>
                  </a:lnTo>
                  <a:lnTo>
                    <a:pt x="456" y="2125"/>
                  </a:lnTo>
                  <a:lnTo>
                    <a:pt x="438" y="2149"/>
                  </a:lnTo>
                  <a:lnTo>
                    <a:pt x="418" y="2170"/>
                  </a:lnTo>
                  <a:lnTo>
                    <a:pt x="399" y="2190"/>
                  </a:lnTo>
                  <a:lnTo>
                    <a:pt x="382" y="2206"/>
                  </a:lnTo>
                  <a:lnTo>
                    <a:pt x="366" y="2219"/>
                  </a:lnTo>
                  <a:lnTo>
                    <a:pt x="350" y="2230"/>
                  </a:lnTo>
                  <a:lnTo>
                    <a:pt x="335" y="2239"/>
                  </a:lnTo>
                  <a:lnTo>
                    <a:pt x="322" y="2245"/>
                  </a:lnTo>
                  <a:lnTo>
                    <a:pt x="308" y="2250"/>
                  </a:lnTo>
                  <a:lnTo>
                    <a:pt x="295" y="2253"/>
                  </a:lnTo>
                  <a:lnTo>
                    <a:pt x="280" y="2254"/>
                  </a:lnTo>
                  <a:lnTo>
                    <a:pt x="267" y="2254"/>
                  </a:lnTo>
                  <a:lnTo>
                    <a:pt x="253" y="2253"/>
                  </a:lnTo>
                  <a:lnTo>
                    <a:pt x="239" y="2249"/>
                  </a:lnTo>
                  <a:lnTo>
                    <a:pt x="226" y="2244"/>
                  </a:lnTo>
                  <a:lnTo>
                    <a:pt x="212" y="2238"/>
                  </a:lnTo>
                  <a:lnTo>
                    <a:pt x="199" y="2230"/>
                  </a:lnTo>
                  <a:lnTo>
                    <a:pt x="185" y="2221"/>
                  </a:lnTo>
                  <a:lnTo>
                    <a:pt x="173" y="2209"/>
                  </a:lnTo>
                  <a:lnTo>
                    <a:pt x="160" y="2197"/>
                  </a:lnTo>
                  <a:lnTo>
                    <a:pt x="147" y="2184"/>
                  </a:lnTo>
                  <a:lnTo>
                    <a:pt x="135" y="2169"/>
                  </a:lnTo>
                  <a:lnTo>
                    <a:pt x="124" y="2152"/>
                  </a:lnTo>
                  <a:lnTo>
                    <a:pt x="113" y="2133"/>
                  </a:lnTo>
                  <a:lnTo>
                    <a:pt x="102" y="2114"/>
                  </a:lnTo>
                  <a:lnTo>
                    <a:pt x="91" y="2093"/>
                  </a:lnTo>
                  <a:lnTo>
                    <a:pt x="80" y="2070"/>
                  </a:lnTo>
                  <a:lnTo>
                    <a:pt x="70" y="2046"/>
                  </a:lnTo>
                  <a:lnTo>
                    <a:pt x="61" y="2020"/>
                  </a:lnTo>
                  <a:lnTo>
                    <a:pt x="52" y="1993"/>
                  </a:lnTo>
                  <a:lnTo>
                    <a:pt x="44" y="1965"/>
                  </a:lnTo>
                  <a:lnTo>
                    <a:pt x="35" y="1935"/>
                  </a:lnTo>
                  <a:lnTo>
                    <a:pt x="29" y="1904"/>
                  </a:lnTo>
                  <a:lnTo>
                    <a:pt x="22" y="1871"/>
                  </a:lnTo>
                  <a:lnTo>
                    <a:pt x="16" y="1838"/>
                  </a:lnTo>
                  <a:lnTo>
                    <a:pt x="11" y="1802"/>
                  </a:lnTo>
                  <a:lnTo>
                    <a:pt x="6" y="1765"/>
                  </a:lnTo>
                  <a:lnTo>
                    <a:pt x="2" y="1727"/>
                  </a:lnTo>
                  <a:lnTo>
                    <a:pt x="0" y="1688"/>
                  </a:lnTo>
                  <a:lnTo>
                    <a:pt x="9" y="1652"/>
                  </a:lnTo>
                  <a:lnTo>
                    <a:pt x="36" y="1559"/>
                  </a:lnTo>
                  <a:lnTo>
                    <a:pt x="76" y="1420"/>
                  </a:lnTo>
                  <a:lnTo>
                    <a:pt x="124" y="1251"/>
                  </a:lnTo>
                  <a:lnTo>
                    <a:pt x="176" y="1069"/>
                  </a:lnTo>
                  <a:lnTo>
                    <a:pt x="227" y="887"/>
                  </a:lnTo>
                  <a:lnTo>
                    <a:pt x="274" y="720"/>
                  </a:lnTo>
                  <a:lnTo>
                    <a:pt x="312" y="585"/>
                  </a:lnTo>
                  <a:lnTo>
                    <a:pt x="343" y="469"/>
                  </a:lnTo>
                  <a:lnTo>
                    <a:pt x="372" y="353"/>
                  </a:lnTo>
                  <a:lnTo>
                    <a:pt x="387" y="297"/>
                  </a:lnTo>
                  <a:lnTo>
                    <a:pt x="402" y="244"/>
                  </a:lnTo>
                  <a:lnTo>
                    <a:pt x="418" y="194"/>
                  </a:lnTo>
                  <a:lnTo>
                    <a:pt x="434" y="148"/>
                  </a:lnTo>
                  <a:lnTo>
                    <a:pt x="442" y="126"/>
                  </a:lnTo>
                  <a:lnTo>
                    <a:pt x="452" y="106"/>
                  </a:lnTo>
                  <a:lnTo>
                    <a:pt x="461" y="88"/>
                  </a:lnTo>
                  <a:lnTo>
                    <a:pt x="471" y="71"/>
                  </a:lnTo>
                  <a:lnTo>
                    <a:pt x="479" y="56"/>
                  </a:lnTo>
                  <a:lnTo>
                    <a:pt x="490" y="41"/>
                  </a:lnTo>
                  <a:lnTo>
                    <a:pt x="500" y="30"/>
                  </a:lnTo>
                  <a:lnTo>
                    <a:pt x="511" y="20"/>
                  </a:lnTo>
                  <a:lnTo>
                    <a:pt x="524" y="11"/>
                  </a:lnTo>
                  <a:lnTo>
                    <a:pt x="535" y="5"/>
                  </a:lnTo>
                  <a:lnTo>
                    <a:pt x="547" y="2"/>
                  </a:lnTo>
                  <a:lnTo>
                    <a:pt x="561" y="0"/>
                  </a:lnTo>
                  <a:lnTo>
                    <a:pt x="574" y="2"/>
                  </a:lnTo>
                  <a:lnTo>
                    <a:pt x="588" y="5"/>
                  </a:lnTo>
                  <a:lnTo>
                    <a:pt x="604" y="11"/>
                  </a:lnTo>
                  <a:lnTo>
                    <a:pt x="618" y="20"/>
                  </a:lnTo>
                  <a:lnTo>
                    <a:pt x="634" y="31"/>
                  </a:lnTo>
                  <a:lnTo>
                    <a:pt x="649" y="42"/>
                  </a:lnTo>
                  <a:lnTo>
                    <a:pt x="664" y="56"/>
                  </a:lnTo>
                  <a:lnTo>
                    <a:pt x="677" y="69"/>
                  </a:lnTo>
                  <a:lnTo>
                    <a:pt x="690" y="84"/>
                  </a:lnTo>
                  <a:lnTo>
                    <a:pt x="703" y="100"/>
                  </a:lnTo>
                  <a:lnTo>
                    <a:pt x="714" y="117"/>
                  </a:lnTo>
                  <a:lnTo>
                    <a:pt x="725" y="136"/>
                  </a:lnTo>
                  <a:lnTo>
                    <a:pt x="737" y="155"/>
                  </a:lnTo>
                  <a:lnTo>
                    <a:pt x="746" y="176"/>
                  </a:lnTo>
                  <a:lnTo>
                    <a:pt x="756" y="197"/>
                  </a:lnTo>
                  <a:lnTo>
                    <a:pt x="765" y="221"/>
                  </a:lnTo>
                  <a:lnTo>
                    <a:pt x="773" y="244"/>
                  </a:lnTo>
                  <a:lnTo>
                    <a:pt x="781" y="270"/>
                  </a:lnTo>
                  <a:lnTo>
                    <a:pt x="788" y="297"/>
                  </a:lnTo>
                  <a:lnTo>
                    <a:pt x="794" y="324"/>
                  </a:lnTo>
                  <a:lnTo>
                    <a:pt x="800" y="353"/>
                  </a:lnTo>
                  <a:lnTo>
                    <a:pt x="807" y="384"/>
                  </a:lnTo>
                  <a:lnTo>
                    <a:pt x="812" y="416"/>
                  </a:lnTo>
                  <a:lnTo>
                    <a:pt x="815" y="449"/>
                  </a:lnTo>
                  <a:lnTo>
                    <a:pt x="824" y="521"/>
                  </a:lnTo>
                  <a:lnTo>
                    <a:pt x="829" y="597"/>
                  </a:lnTo>
                  <a:lnTo>
                    <a:pt x="834" y="679"/>
                  </a:lnTo>
                  <a:lnTo>
                    <a:pt x="836" y="768"/>
                  </a:lnTo>
                  <a:lnTo>
                    <a:pt x="836" y="864"/>
                  </a:lnTo>
                  <a:lnTo>
                    <a:pt x="836" y="965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6683400" y="2976480"/>
              <a:ext cx="249120" cy="673200"/>
            </a:xfrm>
            <a:custGeom>
              <a:avLst/>
              <a:gdLst/>
              <a:ahLst/>
              <a:rect l="l" t="t" r="r" b="b"/>
              <a:pathLst>
                <a:path w="785" h="2120">
                  <a:moveTo>
                    <a:pt x="780" y="925"/>
                  </a:moveTo>
                  <a:lnTo>
                    <a:pt x="779" y="980"/>
                  </a:lnTo>
                  <a:lnTo>
                    <a:pt x="775" y="1034"/>
                  </a:lnTo>
                  <a:lnTo>
                    <a:pt x="770" y="1088"/>
                  </a:lnTo>
                  <a:lnTo>
                    <a:pt x="764" y="1141"/>
                  </a:lnTo>
                  <a:lnTo>
                    <a:pt x="755" y="1194"/>
                  </a:lnTo>
                  <a:lnTo>
                    <a:pt x="747" y="1246"/>
                  </a:lnTo>
                  <a:lnTo>
                    <a:pt x="736" y="1297"/>
                  </a:lnTo>
                  <a:lnTo>
                    <a:pt x="723" y="1348"/>
                  </a:lnTo>
                  <a:lnTo>
                    <a:pt x="711" y="1397"/>
                  </a:lnTo>
                  <a:lnTo>
                    <a:pt x="698" y="1445"/>
                  </a:lnTo>
                  <a:lnTo>
                    <a:pt x="682" y="1493"/>
                  </a:lnTo>
                  <a:lnTo>
                    <a:pt x="666" y="1538"/>
                  </a:lnTo>
                  <a:lnTo>
                    <a:pt x="650" y="1584"/>
                  </a:lnTo>
                  <a:lnTo>
                    <a:pt x="632" y="1627"/>
                  </a:lnTo>
                  <a:lnTo>
                    <a:pt x="615" y="1669"/>
                  </a:lnTo>
                  <a:lnTo>
                    <a:pt x="597" y="1711"/>
                  </a:lnTo>
                  <a:lnTo>
                    <a:pt x="578" y="1750"/>
                  </a:lnTo>
                  <a:lnTo>
                    <a:pt x="559" y="1787"/>
                  </a:lnTo>
                  <a:lnTo>
                    <a:pt x="540" y="1823"/>
                  </a:lnTo>
                  <a:lnTo>
                    <a:pt x="520" y="1857"/>
                  </a:lnTo>
                  <a:lnTo>
                    <a:pt x="501" y="1890"/>
                  </a:lnTo>
                  <a:lnTo>
                    <a:pt x="482" y="1921"/>
                  </a:lnTo>
                  <a:lnTo>
                    <a:pt x="463" y="1949"/>
                  </a:lnTo>
                  <a:lnTo>
                    <a:pt x="444" y="1975"/>
                  </a:lnTo>
                  <a:lnTo>
                    <a:pt x="426" y="2000"/>
                  </a:lnTo>
                  <a:lnTo>
                    <a:pt x="408" y="2022"/>
                  </a:lnTo>
                  <a:lnTo>
                    <a:pt x="391" y="2043"/>
                  </a:lnTo>
                  <a:lnTo>
                    <a:pt x="374" y="2060"/>
                  </a:lnTo>
                  <a:lnTo>
                    <a:pt x="358" y="2076"/>
                  </a:lnTo>
                  <a:lnTo>
                    <a:pt x="343" y="2088"/>
                  </a:lnTo>
                  <a:lnTo>
                    <a:pt x="329" y="2098"/>
                  </a:lnTo>
                  <a:lnTo>
                    <a:pt x="315" y="2107"/>
                  </a:lnTo>
                  <a:lnTo>
                    <a:pt x="303" y="2112"/>
                  </a:lnTo>
                  <a:lnTo>
                    <a:pt x="289" y="2117"/>
                  </a:lnTo>
                  <a:lnTo>
                    <a:pt x="276" y="2119"/>
                  </a:lnTo>
                  <a:lnTo>
                    <a:pt x="263" y="2120"/>
                  </a:lnTo>
                  <a:lnTo>
                    <a:pt x="250" y="2120"/>
                  </a:lnTo>
                  <a:lnTo>
                    <a:pt x="237" y="2119"/>
                  </a:lnTo>
                  <a:lnTo>
                    <a:pt x="224" y="2115"/>
                  </a:lnTo>
                  <a:lnTo>
                    <a:pt x="212" y="2110"/>
                  </a:lnTo>
                  <a:lnTo>
                    <a:pt x="199" y="2106"/>
                  </a:lnTo>
                  <a:lnTo>
                    <a:pt x="187" y="2098"/>
                  </a:lnTo>
                  <a:lnTo>
                    <a:pt x="175" y="2090"/>
                  </a:lnTo>
                  <a:lnTo>
                    <a:pt x="162" y="2080"/>
                  </a:lnTo>
                  <a:lnTo>
                    <a:pt x="150" y="2067"/>
                  </a:lnTo>
                  <a:lnTo>
                    <a:pt x="139" y="2055"/>
                  </a:lnTo>
                  <a:lnTo>
                    <a:pt x="128" y="2040"/>
                  </a:lnTo>
                  <a:lnTo>
                    <a:pt x="117" y="2024"/>
                  </a:lnTo>
                  <a:lnTo>
                    <a:pt x="106" y="2008"/>
                  </a:lnTo>
                  <a:lnTo>
                    <a:pt x="96" y="1990"/>
                  </a:lnTo>
                  <a:lnTo>
                    <a:pt x="86" y="1970"/>
                  </a:lnTo>
                  <a:lnTo>
                    <a:pt x="76" y="1949"/>
                  </a:lnTo>
                  <a:lnTo>
                    <a:pt x="68" y="1926"/>
                  </a:lnTo>
                  <a:lnTo>
                    <a:pt x="59" y="1903"/>
                  </a:lnTo>
                  <a:lnTo>
                    <a:pt x="50" y="1878"/>
                  </a:lnTo>
                  <a:lnTo>
                    <a:pt x="42" y="1851"/>
                  </a:lnTo>
                  <a:lnTo>
                    <a:pt x="36" y="1824"/>
                  </a:lnTo>
                  <a:lnTo>
                    <a:pt x="28" y="1794"/>
                  </a:lnTo>
                  <a:lnTo>
                    <a:pt x="22" y="1764"/>
                  </a:lnTo>
                  <a:lnTo>
                    <a:pt x="16" y="1733"/>
                  </a:lnTo>
                  <a:lnTo>
                    <a:pt x="11" y="1700"/>
                  </a:lnTo>
                  <a:lnTo>
                    <a:pt x="7" y="1665"/>
                  </a:lnTo>
                  <a:lnTo>
                    <a:pt x="4" y="1630"/>
                  </a:lnTo>
                  <a:lnTo>
                    <a:pt x="0" y="1593"/>
                  </a:lnTo>
                  <a:lnTo>
                    <a:pt x="10" y="1561"/>
                  </a:lnTo>
                  <a:lnTo>
                    <a:pt x="34" y="1473"/>
                  </a:lnTo>
                  <a:lnTo>
                    <a:pt x="71" y="1344"/>
                  </a:lnTo>
                  <a:lnTo>
                    <a:pt x="116" y="1188"/>
                  </a:lnTo>
                  <a:lnTo>
                    <a:pt x="164" y="1018"/>
                  </a:lnTo>
                  <a:lnTo>
                    <a:pt x="212" y="850"/>
                  </a:lnTo>
                  <a:lnTo>
                    <a:pt x="256" y="695"/>
                  </a:lnTo>
                  <a:lnTo>
                    <a:pt x="290" y="569"/>
                  </a:lnTo>
                  <a:lnTo>
                    <a:pt x="320" y="460"/>
                  </a:lnTo>
                  <a:lnTo>
                    <a:pt x="348" y="349"/>
                  </a:lnTo>
                  <a:lnTo>
                    <a:pt x="363" y="295"/>
                  </a:lnTo>
                  <a:lnTo>
                    <a:pt x="377" y="243"/>
                  </a:lnTo>
                  <a:lnTo>
                    <a:pt x="392" y="194"/>
                  </a:lnTo>
                  <a:lnTo>
                    <a:pt x="407" y="149"/>
                  </a:lnTo>
                  <a:lnTo>
                    <a:pt x="416" y="128"/>
                  </a:lnTo>
                  <a:lnTo>
                    <a:pt x="424" y="108"/>
                  </a:lnTo>
                  <a:lnTo>
                    <a:pt x="433" y="90"/>
                  </a:lnTo>
                  <a:lnTo>
                    <a:pt x="442" y="72"/>
                  </a:lnTo>
                  <a:lnTo>
                    <a:pt x="452" y="56"/>
                  </a:lnTo>
                  <a:lnTo>
                    <a:pt x="460" y="43"/>
                  </a:lnTo>
                  <a:lnTo>
                    <a:pt x="471" y="31"/>
                  </a:lnTo>
                  <a:lnTo>
                    <a:pt x="481" y="21"/>
                  </a:lnTo>
                  <a:lnTo>
                    <a:pt x="492" y="12"/>
                  </a:lnTo>
                  <a:lnTo>
                    <a:pt x="503" y="6"/>
                  </a:lnTo>
                  <a:lnTo>
                    <a:pt x="514" y="2"/>
                  </a:lnTo>
                  <a:lnTo>
                    <a:pt x="527" y="0"/>
                  </a:lnTo>
                  <a:lnTo>
                    <a:pt x="540" y="1"/>
                  </a:lnTo>
                  <a:lnTo>
                    <a:pt x="554" y="3"/>
                  </a:lnTo>
                  <a:lnTo>
                    <a:pt x="567" y="10"/>
                  </a:lnTo>
                  <a:lnTo>
                    <a:pt x="582" y="17"/>
                  </a:lnTo>
                  <a:lnTo>
                    <a:pt x="595" y="27"/>
                  </a:lnTo>
                  <a:lnTo>
                    <a:pt x="610" y="38"/>
                  </a:lnTo>
                  <a:lnTo>
                    <a:pt x="624" y="49"/>
                  </a:lnTo>
                  <a:lnTo>
                    <a:pt x="636" y="61"/>
                  </a:lnTo>
                  <a:lnTo>
                    <a:pt x="648" y="74"/>
                  </a:lnTo>
                  <a:lnTo>
                    <a:pt x="661" y="88"/>
                  </a:lnTo>
                  <a:lnTo>
                    <a:pt x="672" y="103"/>
                  </a:lnTo>
                  <a:lnTo>
                    <a:pt x="683" y="118"/>
                  </a:lnTo>
                  <a:lnTo>
                    <a:pt x="693" y="135"/>
                  </a:lnTo>
                  <a:lnTo>
                    <a:pt x="703" y="154"/>
                  </a:lnTo>
                  <a:lnTo>
                    <a:pt x="711" y="172"/>
                  </a:lnTo>
                  <a:lnTo>
                    <a:pt x="720" y="193"/>
                  </a:lnTo>
                  <a:lnTo>
                    <a:pt x="728" y="214"/>
                  </a:lnTo>
                  <a:lnTo>
                    <a:pt x="736" y="237"/>
                  </a:lnTo>
                  <a:lnTo>
                    <a:pt x="742" y="262"/>
                  </a:lnTo>
                  <a:lnTo>
                    <a:pt x="749" y="286"/>
                  </a:lnTo>
                  <a:lnTo>
                    <a:pt x="754" y="313"/>
                  </a:lnTo>
                  <a:lnTo>
                    <a:pt x="760" y="343"/>
                  </a:lnTo>
                  <a:lnTo>
                    <a:pt x="765" y="372"/>
                  </a:lnTo>
                  <a:lnTo>
                    <a:pt x="769" y="404"/>
                  </a:lnTo>
                  <a:lnTo>
                    <a:pt x="773" y="438"/>
                  </a:lnTo>
                  <a:lnTo>
                    <a:pt x="776" y="472"/>
                  </a:lnTo>
                  <a:lnTo>
                    <a:pt x="779" y="509"/>
                  </a:lnTo>
                  <a:lnTo>
                    <a:pt x="781" y="547"/>
                  </a:lnTo>
                  <a:lnTo>
                    <a:pt x="784" y="630"/>
                  </a:lnTo>
                  <a:lnTo>
                    <a:pt x="785" y="721"/>
                  </a:lnTo>
                  <a:lnTo>
                    <a:pt x="784" y="818"/>
                  </a:lnTo>
                  <a:lnTo>
                    <a:pt x="780" y="925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6689880" y="2984760"/>
              <a:ext cx="231480" cy="630000"/>
            </a:xfrm>
            <a:custGeom>
              <a:avLst/>
              <a:gdLst/>
              <a:ahLst/>
              <a:rect l="l" t="t" r="r" b="b"/>
              <a:pathLst>
                <a:path w="730" h="1989">
                  <a:moveTo>
                    <a:pt x="717" y="884"/>
                  </a:moveTo>
                  <a:lnTo>
                    <a:pt x="715" y="935"/>
                  </a:lnTo>
                  <a:lnTo>
                    <a:pt x="711" y="985"/>
                  </a:lnTo>
                  <a:lnTo>
                    <a:pt x="706" y="1034"/>
                  </a:lnTo>
                  <a:lnTo>
                    <a:pt x="700" y="1084"/>
                  </a:lnTo>
                  <a:lnTo>
                    <a:pt x="693" y="1133"/>
                  </a:lnTo>
                  <a:lnTo>
                    <a:pt x="684" y="1181"/>
                  </a:lnTo>
                  <a:lnTo>
                    <a:pt x="674" y="1229"/>
                  </a:lnTo>
                  <a:lnTo>
                    <a:pt x="663" y="1275"/>
                  </a:lnTo>
                  <a:lnTo>
                    <a:pt x="651" y="1321"/>
                  </a:lnTo>
                  <a:lnTo>
                    <a:pt x="639" y="1365"/>
                  </a:lnTo>
                  <a:lnTo>
                    <a:pt x="625" y="1409"/>
                  </a:lnTo>
                  <a:lnTo>
                    <a:pt x="610" y="1451"/>
                  </a:lnTo>
                  <a:lnTo>
                    <a:pt x="594" y="1493"/>
                  </a:lnTo>
                  <a:lnTo>
                    <a:pt x="580" y="1534"/>
                  </a:lnTo>
                  <a:lnTo>
                    <a:pt x="562" y="1572"/>
                  </a:lnTo>
                  <a:lnTo>
                    <a:pt x="546" y="1610"/>
                  </a:lnTo>
                  <a:lnTo>
                    <a:pt x="529" y="1647"/>
                  </a:lnTo>
                  <a:lnTo>
                    <a:pt x="512" y="1681"/>
                  </a:lnTo>
                  <a:lnTo>
                    <a:pt x="495" y="1715"/>
                  </a:lnTo>
                  <a:lnTo>
                    <a:pt x="476" y="1747"/>
                  </a:lnTo>
                  <a:lnTo>
                    <a:pt x="459" y="1776"/>
                  </a:lnTo>
                  <a:lnTo>
                    <a:pt x="442" y="1804"/>
                  </a:lnTo>
                  <a:lnTo>
                    <a:pt x="425" y="1830"/>
                  </a:lnTo>
                  <a:lnTo>
                    <a:pt x="407" y="1855"/>
                  </a:lnTo>
                  <a:lnTo>
                    <a:pt x="390" y="1878"/>
                  </a:lnTo>
                  <a:lnTo>
                    <a:pt x="374" y="1898"/>
                  </a:lnTo>
                  <a:lnTo>
                    <a:pt x="358" y="1916"/>
                  </a:lnTo>
                  <a:lnTo>
                    <a:pt x="342" y="1933"/>
                  </a:lnTo>
                  <a:lnTo>
                    <a:pt x="327" y="1947"/>
                  </a:lnTo>
                  <a:lnTo>
                    <a:pt x="314" y="1959"/>
                  </a:lnTo>
                  <a:lnTo>
                    <a:pt x="300" y="1969"/>
                  </a:lnTo>
                  <a:lnTo>
                    <a:pt x="288" y="1975"/>
                  </a:lnTo>
                  <a:lnTo>
                    <a:pt x="276" y="1981"/>
                  </a:lnTo>
                  <a:lnTo>
                    <a:pt x="265" y="1985"/>
                  </a:lnTo>
                  <a:lnTo>
                    <a:pt x="252" y="1988"/>
                  </a:lnTo>
                  <a:lnTo>
                    <a:pt x="240" y="1989"/>
                  </a:lnTo>
                  <a:lnTo>
                    <a:pt x="229" y="1989"/>
                  </a:lnTo>
                  <a:lnTo>
                    <a:pt x="217" y="1986"/>
                  </a:lnTo>
                  <a:lnTo>
                    <a:pt x="206" y="1984"/>
                  </a:lnTo>
                  <a:lnTo>
                    <a:pt x="193" y="1980"/>
                  </a:lnTo>
                  <a:lnTo>
                    <a:pt x="182" y="1974"/>
                  </a:lnTo>
                  <a:lnTo>
                    <a:pt x="170" y="1968"/>
                  </a:lnTo>
                  <a:lnTo>
                    <a:pt x="159" y="1959"/>
                  </a:lnTo>
                  <a:lnTo>
                    <a:pt x="148" y="1951"/>
                  </a:lnTo>
                  <a:lnTo>
                    <a:pt x="137" y="1940"/>
                  </a:lnTo>
                  <a:lnTo>
                    <a:pt x="127" y="1927"/>
                  </a:lnTo>
                  <a:lnTo>
                    <a:pt x="116" y="1915"/>
                  </a:lnTo>
                  <a:lnTo>
                    <a:pt x="106" y="1900"/>
                  </a:lnTo>
                  <a:lnTo>
                    <a:pt x="96" y="1884"/>
                  </a:lnTo>
                  <a:lnTo>
                    <a:pt x="86" y="1868"/>
                  </a:lnTo>
                  <a:lnTo>
                    <a:pt x="78" y="1850"/>
                  </a:lnTo>
                  <a:lnTo>
                    <a:pt x="69" y="1830"/>
                  </a:lnTo>
                  <a:lnTo>
                    <a:pt x="60" y="1809"/>
                  </a:lnTo>
                  <a:lnTo>
                    <a:pt x="52" y="1788"/>
                  </a:lnTo>
                  <a:lnTo>
                    <a:pt x="44" y="1765"/>
                  </a:lnTo>
                  <a:lnTo>
                    <a:pt x="37" y="1740"/>
                  </a:lnTo>
                  <a:lnTo>
                    <a:pt x="31" y="1715"/>
                  </a:lnTo>
                  <a:lnTo>
                    <a:pt x="25" y="1689"/>
                  </a:lnTo>
                  <a:lnTo>
                    <a:pt x="19" y="1660"/>
                  </a:lnTo>
                  <a:lnTo>
                    <a:pt x="14" y="1631"/>
                  </a:lnTo>
                  <a:lnTo>
                    <a:pt x="10" y="1601"/>
                  </a:lnTo>
                  <a:lnTo>
                    <a:pt x="5" y="1569"/>
                  </a:lnTo>
                  <a:lnTo>
                    <a:pt x="3" y="1537"/>
                  </a:lnTo>
                  <a:lnTo>
                    <a:pt x="0" y="1503"/>
                  </a:lnTo>
                  <a:lnTo>
                    <a:pt x="9" y="1473"/>
                  </a:lnTo>
                  <a:lnTo>
                    <a:pt x="31" y="1392"/>
                  </a:lnTo>
                  <a:lnTo>
                    <a:pt x="65" y="1273"/>
                  </a:lnTo>
                  <a:lnTo>
                    <a:pt x="106" y="1128"/>
                  </a:lnTo>
                  <a:lnTo>
                    <a:pt x="150" y="970"/>
                  </a:lnTo>
                  <a:lnTo>
                    <a:pt x="195" y="814"/>
                  </a:lnTo>
                  <a:lnTo>
                    <a:pt x="235" y="671"/>
                  </a:lnTo>
                  <a:lnTo>
                    <a:pt x="268" y="555"/>
                  </a:lnTo>
                  <a:lnTo>
                    <a:pt x="295" y="453"/>
                  </a:lnTo>
                  <a:lnTo>
                    <a:pt x="321" y="347"/>
                  </a:lnTo>
                  <a:lnTo>
                    <a:pt x="335" y="295"/>
                  </a:lnTo>
                  <a:lnTo>
                    <a:pt x="348" y="245"/>
                  </a:lnTo>
                  <a:lnTo>
                    <a:pt x="362" y="197"/>
                  </a:lnTo>
                  <a:lnTo>
                    <a:pt x="377" y="151"/>
                  </a:lnTo>
                  <a:lnTo>
                    <a:pt x="384" y="130"/>
                  </a:lnTo>
                  <a:lnTo>
                    <a:pt x="393" y="111"/>
                  </a:lnTo>
                  <a:lnTo>
                    <a:pt x="400" y="92"/>
                  </a:lnTo>
                  <a:lnTo>
                    <a:pt x="409" y="75"/>
                  </a:lnTo>
                  <a:lnTo>
                    <a:pt x="417" y="59"/>
                  </a:lnTo>
                  <a:lnTo>
                    <a:pt x="426" y="45"/>
                  </a:lnTo>
                  <a:lnTo>
                    <a:pt x="436" y="33"/>
                  </a:lnTo>
                  <a:lnTo>
                    <a:pt x="446" y="22"/>
                  </a:lnTo>
                  <a:lnTo>
                    <a:pt x="455" y="13"/>
                  </a:lnTo>
                  <a:lnTo>
                    <a:pt x="465" y="7"/>
                  </a:lnTo>
                  <a:lnTo>
                    <a:pt x="476" y="2"/>
                  </a:lnTo>
                  <a:lnTo>
                    <a:pt x="487" y="0"/>
                  </a:lnTo>
                  <a:lnTo>
                    <a:pt x="500" y="0"/>
                  </a:lnTo>
                  <a:lnTo>
                    <a:pt x="512" y="2"/>
                  </a:lnTo>
                  <a:lnTo>
                    <a:pt x="524" y="7"/>
                  </a:lnTo>
                  <a:lnTo>
                    <a:pt x="538" y="15"/>
                  </a:lnTo>
                  <a:lnTo>
                    <a:pt x="551" y="23"/>
                  </a:lnTo>
                  <a:lnTo>
                    <a:pt x="565" y="33"/>
                  </a:lnTo>
                  <a:lnTo>
                    <a:pt x="577" y="43"/>
                  </a:lnTo>
                  <a:lnTo>
                    <a:pt x="589" y="54"/>
                  </a:lnTo>
                  <a:lnTo>
                    <a:pt x="601" y="65"/>
                  </a:lnTo>
                  <a:lnTo>
                    <a:pt x="613" y="77"/>
                  </a:lnTo>
                  <a:lnTo>
                    <a:pt x="624" y="90"/>
                  </a:lnTo>
                  <a:lnTo>
                    <a:pt x="634" y="103"/>
                  </a:lnTo>
                  <a:lnTo>
                    <a:pt x="644" y="118"/>
                  </a:lnTo>
                  <a:lnTo>
                    <a:pt x="653" y="133"/>
                  </a:lnTo>
                  <a:lnTo>
                    <a:pt x="662" y="150"/>
                  </a:lnTo>
                  <a:lnTo>
                    <a:pt x="671" y="167"/>
                  </a:lnTo>
                  <a:lnTo>
                    <a:pt x="678" y="187"/>
                  </a:lnTo>
                  <a:lnTo>
                    <a:pt x="685" y="207"/>
                  </a:lnTo>
                  <a:lnTo>
                    <a:pt x="693" y="229"/>
                  </a:lnTo>
                  <a:lnTo>
                    <a:pt x="699" y="252"/>
                  </a:lnTo>
                  <a:lnTo>
                    <a:pt x="704" y="277"/>
                  </a:lnTo>
                  <a:lnTo>
                    <a:pt x="710" y="302"/>
                  </a:lnTo>
                  <a:lnTo>
                    <a:pt x="714" y="331"/>
                  </a:lnTo>
                  <a:lnTo>
                    <a:pt x="719" y="360"/>
                  </a:lnTo>
                  <a:lnTo>
                    <a:pt x="721" y="392"/>
                  </a:lnTo>
                  <a:lnTo>
                    <a:pt x="725" y="425"/>
                  </a:lnTo>
                  <a:lnTo>
                    <a:pt x="726" y="461"/>
                  </a:lnTo>
                  <a:lnTo>
                    <a:pt x="729" y="499"/>
                  </a:lnTo>
                  <a:lnTo>
                    <a:pt x="729" y="539"/>
                  </a:lnTo>
                  <a:lnTo>
                    <a:pt x="730" y="580"/>
                  </a:lnTo>
                  <a:lnTo>
                    <a:pt x="729" y="625"/>
                  </a:lnTo>
                  <a:lnTo>
                    <a:pt x="727" y="671"/>
                  </a:lnTo>
                  <a:lnTo>
                    <a:pt x="724" y="772"/>
                  </a:lnTo>
                  <a:lnTo>
                    <a:pt x="717" y="884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6696000" y="2990880"/>
              <a:ext cx="216000" cy="588960"/>
            </a:xfrm>
            <a:custGeom>
              <a:avLst/>
              <a:gdLst/>
              <a:ahLst/>
              <a:rect l="l" t="t" r="r" b="b"/>
              <a:pathLst>
                <a:path w="679" h="1858">
                  <a:moveTo>
                    <a:pt x="660" y="844"/>
                  </a:moveTo>
                  <a:lnTo>
                    <a:pt x="658" y="890"/>
                  </a:lnTo>
                  <a:lnTo>
                    <a:pt x="653" y="937"/>
                  </a:lnTo>
                  <a:lnTo>
                    <a:pt x="648" y="983"/>
                  </a:lnTo>
                  <a:lnTo>
                    <a:pt x="642" y="1028"/>
                  </a:lnTo>
                  <a:lnTo>
                    <a:pt x="634" y="1072"/>
                  </a:lnTo>
                  <a:lnTo>
                    <a:pt x="626" y="1117"/>
                  </a:lnTo>
                  <a:lnTo>
                    <a:pt x="616" y="1161"/>
                  </a:lnTo>
                  <a:lnTo>
                    <a:pt x="606" y="1203"/>
                  </a:lnTo>
                  <a:lnTo>
                    <a:pt x="595" y="1245"/>
                  </a:lnTo>
                  <a:lnTo>
                    <a:pt x="583" y="1286"/>
                  </a:lnTo>
                  <a:lnTo>
                    <a:pt x="570" y="1327"/>
                  </a:lnTo>
                  <a:lnTo>
                    <a:pt x="557" y="1365"/>
                  </a:lnTo>
                  <a:lnTo>
                    <a:pt x="542" y="1403"/>
                  </a:lnTo>
                  <a:lnTo>
                    <a:pt x="529" y="1440"/>
                  </a:lnTo>
                  <a:lnTo>
                    <a:pt x="514" y="1476"/>
                  </a:lnTo>
                  <a:lnTo>
                    <a:pt x="499" y="1511"/>
                  </a:lnTo>
                  <a:lnTo>
                    <a:pt x="483" y="1545"/>
                  </a:lnTo>
                  <a:lnTo>
                    <a:pt x="468" y="1577"/>
                  </a:lnTo>
                  <a:lnTo>
                    <a:pt x="452" y="1606"/>
                  </a:lnTo>
                  <a:lnTo>
                    <a:pt x="436" y="1636"/>
                  </a:lnTo>
                  <a:lnTo>
                    <a:pt x="420" y="1663"/>
                  </a:lnTo>
                  <a:lnTo>
                    <a:pt x="404" y="1689"/>
                  </a:lnTo>
                  <a:lnTo>
                    <a:pt x="390" y="1713"/>
                  </a:lnTo>
                  <a:lnTo>
                    <a:pt x="374" y="1735"/>
                  </a:lnTo>
                  <a:lnTo>
                    <a:pt x="359" y="1756"/>
                  </a:lnTo>
                  <a:lnTo>
                    <a:pt x="344" y="1775"/>
                  </a:lnTo>
                  <a:lnTo>
                    <a:pt x="329" y="1792"/>
                  </a:lnTo>
                  <a:lnTo>
                    <a:pt x="316" y="1807"/>
                  </a:lnTo>
                  <a:lnTo>
                    <a:pt x="302" y="1820"/>
                  </a:lnTo>
                  <a:lnTo>
                    <a:pt x="290" y="1831"/>
                  </a:lnTo>
                  <a:lnTo>
                    <a:pt x="278" y="1840"/>
                  </a:lnTo>
                  <a:lnTo>
                    <a:pt x="267" y="1846"/>
                  </a:lnTo>
                  <a:lnTo>
                    <a:pt x="256" y="1851"/>
                  </a:lnTo>
                  <a:lnTo>
                    <a:pt x="244" y="1855"/>
                  </a:lnTo>
                  <a:lnTo>
                    <a:pt x="233" y="1857"/>
                  </a:lnTo>
                  <a:lnTo>
                    <a:pt x="222" y="1858"/>
                  </a:lnTo>
                  <a:lnTo>
                    <a:pt x="211" y="1858"/>
                  </a:lnTo>
                  <a:lnTo>
                    <a:pt x="200" y="1857"/>
                  </a:lnTo>
                  <a:lnTo>
                    <a:pt x="189" y="1855"/>
                  </a:lnTo>
                  <a:lnTo>
                    <a:pt x="178" y="1851"/>
                  </a:lnTo>
                  <a:lnTo>
                    <a:pt x="168" y="1846"/>
                  </a:lnTo>
                  <a:lnTo>
                    <a:pt x="157" y="1840"/>
                  </a:lnTo>
                  <a:lnTo>
                    <a:pt x="147" y="1833"/>
                  </a:lnTo>
                  <a:lnTo>
                    <a:pt x="137" y="1824"/>
                  </a:lnTo>
                  <a:lnTo>
                    <a:pt x="126" y="1815"/>
                  </a:lnTo>
                  <a:lnTo>
                    <a:pt x="118" y="1804"/>
                  </a:lnTo>
                  <a:lnTo>
                    <a:pt x="108" y="1792"/>
                  </a:lnTo>
                  <a:lnTo>
                    <a:pt x="98" y="1778"/>
                  </a:lnTo>
                  <a:lnTo>
                    <a:pt x="89" y="1764"/>
                  </a:lnTo>
                  <a:lnTo>
                    <a:pt x="81" y="1749"/>
                  </a:lnTo>
                  <a:lnTo>
                    <a:pt x="72" y="1732"/>
                  </a:lnTo>
                  <a:lnTo>
                    <a:pt x="64" y="1714"/>
                  </a:lnTo>
                  <a:lnTo>
                    <a:pt x="56" y="1695"/>
                  </a:lnTo>
                  <a:lnTo>
                    <a:pt x="49" y="1675"/>
                  </a:lnTo>
                  <a:lnTo>
                    <a:pt x="41" y="1653"/>
                  </a:lnTo>
                  <a:lnTo>
                    <a:pt x="35" y="1631"/>
                  </a:lnTo>
                  <a:lnTo>
                    <a:pt x="29" y="1607"/>
                  </a:lnTo>
                  <a:lnTo>
                    <a:pt x="23" y="1583"/>
                  </a:lnTo>
                  <a:lnTo>
                    <a:pt x="18" y="1557"/>
                  </a:lnTo>
                  <a:lnTo>
                    <a:pt x="13" y="1530"/>
                  </a:lnTo>
                  <a:lnTo>
                    <a:pt x="9" y="1502"/>
                  </a:lnTo>
                  <a:lnTo>
                    <a:pt x="6" y="1473"/>
                  </a:lnTo>
                  <a:lnTo>
                    <a:pt x="2" y="1443"/>
                  </a:lnTo>
                  <a:lnTo>
                    <a:pt x="0" y="1412"/>
                  </a:lnTo>
                  <a:lnTo>
                    <a:pt x="8" y="1385"/>
                  </a:lnTo>
                  <a:lnTo>
                    <a:pt x="29" y="1310"/>
                  </a:lnTo>
                  <a:lnTo>
                    <a:pt x="60" y="1202"/>
                  </a:lnTo>
                  <a:lnTo>
                    <a:pt x="98" y="1069"/>
                  </a:lnTo>
                  <a:lnTo>
                    <a:pt x="139" y="926"/>
                  </a:lnTo>
                  <a:lnTo>
                    <a:pt x="179" y="782"/>
                  </a:lnTo>
                  <a:lnTo>
                    <a:pt x="217" y="652"/>
                  </a:lnTo>
                  <a:lnTo>
                    <a:pt x="247" y="545"/>
                  </a:lnTo>
                  <a:lnTo>
                    <a:pt x="272" y="449"/>
                  </a:lnTo>
                  <a:lnTo>
                    <a:pt x="296" y="347"/>
                  </a:lnTo>
                  <a:lnTo>
                    <a:pt x="308" y="296"/>
                  </a:lnTo>
                  <a:lnTo>
                    <a:pt x="322" y="246"/>
                  </a:lnTo>
                  <a:lnTo>
                    <a:pt x="336" y="199"/>
                  </a:lnTo>
                  <a:lnTo>
                    <a:pt x="349" y="155"/>
                  </a:lnTo>
                  <a:lnTo>
                    <a:pt x="356" y="134"/>
                  </a:lnTo>
                  <a:lnTo>
                    <a:pt x="364" y="114"/>
                  </a:lnTo>
                  <a:lnTo>
                    <a:pt x="371" y="96"/>
                  </a:lnTo>
                  <a:lnTo>
                    <a:pt x="380" y="79"/>
                  </a:lnTo>
                  <a:lnTo>
                    <a:pt x="387" y="63"/>
                  </a:lnTo>
                  <a:lnTo>
                    <a:pt x="396" y="48"/>
                  </a:lnTo>
                  <a:lnTo>
                    <a:pt x="404" y="35"/>
                  </a:lnTo>
                  <a:lnTo>
                    <a:pt x="414" y="24"/>
                  </a:lnTo>
                  <a:lnTo>
                    <a:pt x="423" y="16"/>
                  </a:lnTo>
                  <a:lnTo>
                    <a:pt x="433" y="8"/>
                  </a:lnTo>
                  <a:lnTo>
                    <a:pt x="443" y="4"/>
                  </a:lnTo>
                  <a:lnTo>
                    <a:pt x="454" y="1"/>
                  </a:lnTo>
                  <a:lnTo>
                    <a:pt x="465" y="0"/>
                  </a:lnTo>
                  <a:lnTo>
                    <a:pt x="476" y="1"/>
                  </a:lnTo>
                  <a:lnTo>
                    <a:pt x="488" y="6"/>
                  </a:lnTo>
                  <a:lnTo>
                    <a:pt x="499" y="12"/>
                  </a:lnTo>
                  <a:lnTo>
                    <a:pt x="524" y="29"/>
                  </a:lnTo>
                  <a:lnTo>
                    <a:pt x="547" y="47"/>
                  </a:lnTo>
                  <a:lnTo>
                    <a:pt x="558" y="56"/>
                  </a:lnTo>
                  <a:lnTo>
                    <a:pt x="569" y="66"/>
                  </a:lnTo>
                  <a:lnTo>
                    <a:pt x="579" y="76"/>
                  </a:lnTo>
                  <a:lnTo>
                    <a:pt x="589" y="87"/>
                  </a:lnTo>
                  <a:lnTo>
                    <a:pt x="599" y="99"/>
                  </a:lnTo>
                  <a:lnTo>
                    <a:pt x="607" y="113"/>
                  </a:lnTo>
                  <a:lnTo>
                    <a:pt x="616" y="127"/>
                  </a:lnTo>
                  <a:lnTo>
                    <a:pt x="625" y="142"/>
                  </a:lnTo>
                  <a:lnTo>
                    <a:pt x="632" y="158"/>
                  </a:lnTo>
                  <a:lnTo>
                    <a:pt x="639" y="176"/>
                  </a:lnTo>
                  <a:lnTo>
                    <a:pt x="646" y="195"/>
                  </a:lnTo>
                  <a:lnTo>
                    <a:pt x="652" y="216"/>
                  </a:lnTo>
                  <a:lnTo>
                    <a:pt x="658" y="238"/>
                  </a:lnTo>
                  <a:lnTo>
                    <a:pt x="663" y="263"/>
                  </a:lnTo>
                  <a:lnTo>
                    <a:pt x="666" y="289"/>
                  </a:lnTo>
                  <a:lnTo>
                    <a:pt x="670" y="317"/>
                  </a:lnTo>
                  <a:lnTo>
                    <a:pt x="674" y="348"/>
                  </a:lnTo>
                  <a:lnTo>
                    <a:pt x="676" y="380"/>
                  </a:lnTo>
                  <a:lnTo>
                    <a:pt x="678" y="414"/>
                  </a:lnTo>
                  <a:lnTo>
                    <a:pt x="679" y="451"/>
                  </a:lnTo>
                  <a:lnTo>
                    <a:pt x="679" y="491"/>
                  </a:lnTo>
                  <a:lnTo>
                    <a:pt x="679" y="532"/>
                  </a:lnTo>
                  <a:lnTo>
                    <a:pt x="678" y="577"/>
                  </a:lnTo>
                  <a:lnTo>
                    <a:pt x="676" y="625"/>
                  </a:lnTo>
                  <a:lnTo>
                    <a:pt x="670" y="728"/>
                  </a:lnTo>
                  <a:lnTo>
                    <a:pt x="660" y="844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6702480" y="2997360"/>
              <a:ext cx="198360" cy="549360"/>
            </a:xfrm>
            <a:custGeom>
              <a:avLst/>
              <a:gdLst/>
              <a:ahLst/>
              <a:rect l="l" t="t" r="r" b="b"/>
              <a:pathLst>
                <a:path w="629" h="1729">
                  <a:moveTo>
                    <a:pt x="601" y="804"/>
                  </a:moveTo>
                  <a:lnTo>
                    <a:pt x="597" y="846"/>
                  </a:lnTo>
                  <a:lnTo>
                    <a:pt x="593" y="889"/>
                  </a:lnTo>
                  <a:lnTo>
                    <a:pt x="587" y="931"/>
                  </a:lnTo>
                  <a:lnTo>
                    <a:pt x="581" y="971"/>
                  </a:lnTo>
                  <a:lnTo>
                    <a:pt x="574" y="1013"/>
                  </a:lnTo>
                  <a:lnTo>
                    <a:pt x="566" y="1053"/>
                  </a:lnTo>
                  <a:lnTo>
                    <a:pt x="558" y="1093"/>
                  </a:lnTo>
                  <a:lnTo>
                    <a:pt x="548" y="1131"/>
                  </a:lnTo>
                  <a:lnTo>
                    <a:pt x="538" y="1169"/>
                  </a:lnTo>
                  <a:lnTo>
                    <a:pt x="527" y="1208"/>
                  </a:lnTo>
                  <a:lnTo>
                    <a:pt x="515" y="1244"/>
                  </a:lnTo>
                  <a:lnTo>
                    <a:pt x="502" y="1280"/>
                  </a:lnTo>
                  <a:lnTo>
                    <a:pt x="490" y="1315"/>
                  </a:lnTo>
                  <a:lnTo>
                    <a:pt x="478" y="1348"/>
                  </a:lnTo>
                  <a:lnTo>
                    <a:pt x="464" y="1381"/>
                  </a:lnTo>
                  <a:lnTo>
                    <a:pt x="451" y="1412"/>
                  </a:lnTo>
                  <a:lnTo>
                    <a:pt x="437" y="1443"/>
                  </a:lnTo>
                  <a:lnTo>
                    <a:pt x="422" y="1472"/>
                  </a:lnTo>
                  <a:lnTo>
                    <a:pt x="409" y="1499"/>
                  </a:lnTo>
                  <a:lnTo>
                    <a:pt x="394" y="1526"/>
                  </a:lnTo>
                  <a:lnTo>
                    <a:pt x="380" y="1551"/>
                  </a:lnTo>
                  <a:lnTo>
                    <a:pt x="366" y="1574"/>
                  </a:lnTo>
                  <a:lnTo>
                    <a:pt x="352" y="1596"/>
                  </a:lnTo>
                  <a:lnTo>
                    <a:pt x="339" y="1617"/>
                  </a:lnTo>
                  <a:lnTo>
                    <a:pt x="325" y="1637"/>
                  </a:lnTo>
                  <a:lnTo>
                    <a:pt x="312" y="1654"/>
                  </a:lnTo>
                  <a:lnTo>
                    <a:pt x="299" y="1669"/>
                  </a:lnTo>
                  <a:lnTo>
                    <a:pt x="286" y="1682"/>
                  </a:lnTo>
                  <a:lnTo>
                    <a:pt x="275" y="1695"/>
                  </a:lnTo>
                  <a:lnTo>
                    <a:pt x="262" y="1705"/>
                  </a:lnTo>
                  <a:lnTo>
                    <a:pt x="253" y="1713"/>
                  </a:lnTo>
                  <a:lnTo>
                    <a:pt x="241" y="1719"/>
                  </a:lnTo>
                  <a:lnTo>
                    <a:pt x="232" y="1723"/>
                  </a:lnTo>
                  <a:lnTo>
                    <a:pt x="222" y="1727"/>
                  </a:lnTo>
                  <a:lnTo>
                    <a:pt x="212" y="1729"/>
                  </a:lnTo>
                  <a:lnTo>
                    <a:pt x="202" y="1729"/>
                  </a:lnTo>
                  <a:lnTo>
                    <a:pt x="192" y="1729"/>
                  </a:lnTo>
                  <a:lnTo>
                    <a:pt x="182" y="1728"/>
                  </a:lnTo>
                  <a:lnTo>
                    <a:pt x="173" y="1725"/>
                  </a:lnTo>
                  <a:lnTo>
                    <a:pt x="163" y="1722"/>
                  </a:lnTo>
                  <a:lnTo>
                    <a:pt x="153" y="1718"/>
                  </a:lnTo>
                  <a:lnTo>
                    <a:pt x="143" y="1712"/>
                  </a:lnTo>
                  <a:lnTo>
                    <a:pt x="133" y="1706"/>
                  </a:lnTo>
                  <a:lnTo>
                    <a:pt x="125" y="1697"/>
                  </a:lnTo>
                  <a:lnTo>
                    <a:pt x="115" y="1689"/>
                  </a:lnTo>
                  <a:lnTo>
                    <a:pt x="106" y="1679"/>
                  </a:lnTo>
                  <a:lnTo>
                    <a:pt x="98" y="1668"/>
                  </a:lnTo>
                  <a:lnTo>
                    <a:pt x="89" y="1655"/>
                  </a:lnTo>
                  <a:lnTo>
                    <a:pt x="82" y="1643"/>
                  </a:lnTo>
                  <a:lnTo>
                    <a:pt x="73" y="1628"/>
                  </a:lnTo>
                  <a:lnTo>
                    <a:pt x="66" y="1613"/>
                  </a:lnTo>
                  <a:lnTo>
                    <a:pt x="58" y="1597"/>
                  </a:lnTo>
                  <a:lnTo>
                    <a:pt x="51" y="1580"/>
                  </a:lnTo>
                  <a:lnTo>
                    <a:pt x="45" y="1562"/>
                  </a:lnTo>
                  <a:lnTo>
                    <a:pt x="37" y="1542"/>
                  </a:lnTo>
                  <a:lnTo>
                    <a:pt x="32" y="1522"/>
                  </a:lnTo>
                  <a:lnTo>
                    <a:pt x="26" y="1502"/>
                  </a:lnTo>
                  <a:lnTo>
                    <a:pt x="21" y="1479"/>
                  </a:lnTo>
                  <a:lnTo>
                    <a:pt x="16" y="1456"/>
                  </a:lnTo>
                  <a:lnTo>
                    <a:pt x="13" y="1431"/>
                  </a:lnTo>
                  <a:lnTo>
                    <a:pt x="8" y="1407"/>
                  </a:lnTo>
                  <a:lnTo>
                    <a:pt x="5" y="1381"/>
                  </a:lnTo>
                  <a:lnTo>
                    <a:pt x="2" y="1354"/>
                  </a:lnTo>
                  <a:lnTo>
                    <a:pt x="0" y="1326"/>
                  </a:lnTo>
                  <a:lnTo>
                    <a:pt x="6" y="1300"/>
                  </a:lnTo>
                  <a:lnTo>
                    <a:pt x="26" y="1232"/>
                  </a:lnTo>
                  <a:lnTo>
                    <a:pt x="54" y="1133"/>
                  </a:lnTo>
                  <a:lnTo>
                    <a:pt x="89" y="1011"/>
                  </a:lnTo>
                  <a:lnTo>
                    <a:pt x="127" y="880"/>
                  </a:lnTo>
                  <a:lnTo>
                    <a:pt x="164" y="749"/>
                  </a:lnTo>
                  <a:lnTo>
                    <a:pt x="197" y="629"/>
                  </a:lnTo>
                  <a:lnTo>
                    <a:pt x="225" y="532"/>
                  </a:lnTo>
                  <a:lnTo>
                    <a:pt x="249" y="443"/>
                  </a:lnTo>
                  <a:lnTo>
                    <a:pt x="271" y="345"/>
                  </a:lnTo>
                  <a:lnTo>
                    <a:pt x="283" y="296"/>
                  </a:lnTo>
                  <a:lnTo>
                    <a:pt x="296" y="248"/>
                  </a:lnTo>
                  <a:lnTo>
                    <a:pt x="308" y="203"/>
                  </a:lnTo>
                  <a:lnTo>
                    <a:pt x="320" y="158"/>
                  </a:lnTo>
                  <a:lnTo>
                    <a:pt x="335" y="118"/>
                  </a:lnTo>
                  <a:lnTo>
                    <a:pt x="348" y="82"/>
                  </a:lnTo>
                  <a:lnTo>
                    <a:pt x="357" y="66"/>
                  </a:lnTo>
                  <a:lnTo>
                    <a:pt x="364" y="51"/>
                  </a:lnTo>
                  <a:lnTo>
                    <a:pt x="372" y="39"/>
                  </a:lnTo>
                  <a:lnTo>
                    <a:pt x="380" y="28"/>
                  </a:lnTo>
                  <a:lnTo>
                    <a:pt x="389" y="18"/>
                  </a:lnTo>
                  <a:lnTo>
                    <a:pt x="399" y="11"/>
                  </a:lnTo>
                  <a:lnTo>
                    <a:pt x="408" y="5"/>
                  </a:lnTo>
                  <a:lnTo>
                    <a:pt x="417" y="1"/>
                  </a:lnTo>
                  <a:lnTo>
                    <a:pt x="427" y="0"/>
                  </a:lnTo>
                  <a:lnTo>
                    <a:pt x="437" y="1"/>
                  </a:lnTo>
                  <a:lnTo>
                    <a:pt x="448" y="5"/>
                  </a:lnTo>
                  <a:lnTo>
                    <a:pt x="459" y="11"/>
                  </a:lnTo>
                  <a:lnTo>
                    <a:pt x="483" y="26"/>
                  </a:lnTo>
                  <a:lnTo>
                    <a:pt x="505" y="40"/>
                  </a:lnTo>
                  <a:lnTo>
                    <a:pt x="526" y="55"/>
                  </a:lnTo>
                  <a:lnTo>
                    <a:pt x="545" y="74"/>
                  </a:lnTo>
                  <a:lnTo>
                    <a:pt x="554" y="83"/>
                  </a:lnTo>
                  <a:lnTo>
                    <a:pt x="563" y="93"/>
                  </a:lnTo>
                  <a:lnTo>
                    <a:pt x="571" y="106"/>
                  </a:lnTo>
                  <a:lnTo>
                    <a:pt x="580" y="118"/>
                  </a:lnTo>
                  <a:lnTo>
                    <a:pt x="587" y="131"/>
                  </a:lnTo>
                  <a:lnTo>
                    <a:pt x="593" y="147"/>
                  </a:lnTo>
                  <a:lnTo>
                    <a:pt x="601" y="163"/>
                  </a:lnTo>
                  <a:lnTo>
                    <a:pt x="606" y="182"/>
                  </a:lnTo>
                  <a:lnTo>
                    <a:pt x="612" y="203"/>
                  </a:lnTo>
                  <a:lnTo>
                    <a:pt x="615" y="225"/>
                  </a:lnTo>
                  <a:lnTo>
                    <a:pt x="620" y="248"/>
                  </a:lnTo>
                  <a:lnTo>
                    <a:pt x="623" y="275"/>
                  </a:lnTo>
                  <a:lnTo>
                    <a:pt x="625" y="304"/>
                  </a:lnTo>
                  <a:lnTo>
                    <a:pt x="628" y="334"/>
                  </a:lnTo>
                  <a:lnTo>
                    <a:pt x="629" y="367"/>
                  </a:lnTo>
                  <a:lnTo>
                    <a:pt x="629" y="403"/>
                  </a:lnTo>
                  <a:lnTo>
                    <a:pt x="629" y="443"/>
                  </a:lnTo>
                  <a:lnTo>
                    <a:pt x="628" y="484"/>
                  </a:lnTo>
                  <a:lnTo>
                    <a:pt x="625" y="530"/>
                  </a:lnTo>
                  <a:lnTo>
                    <a:pt x="622" y="578"/>
                  </a:lnTo>
                  <a:lnTo>
                    <a:pt x="618" y="628"/>
                  </a:lnTo>
                  <a:lnTo>
                    <a:pt x="613" y="684"/>
                  </a:lnTo>
                  <a:lnTo>
                    <a:pt x="607" y="741"/>
                  </a:lnTo>
                  <a:lnTo>
                    <a:pt x="601" y="804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6707160" y="3005280"/>
              <a:ext cx="184320" cy="506520"/>
            </a:xfrm>
            <a:custGeom>
              <a:avLst/>
              <a:gdLst/>
              <a:ahLst/>
              <a:rect l="l" t="t" r="r" b="b"/>
              <a:pathLst>
                <a:path w="580" h="1597">
                  <a:moveTo>
                    <a:pt x="544" y="761"/>
                  </a:moveTo>
                  <a:lnTo>
                    <a:pt x="539" y="800"/>
                  </a:lnTo>
                  <a:lnTo>
                    <a:pt x="535" y="838"/>
                  </a:lnTo>
                  <a:lnTo>
                    <a:pt x="529" y="876"/>
                  </a:lnTo>
                  <a:lnTo>
                    <a:pt x="523" y="913"/>
                  </a:lnTo>
                  <a:lnTo>
                    <a:pt x="515" y="950"/>
                  </a:lnTo>
                  <a:lnTo>
                    <a:pt x="508" y="987"/>
                  </a:lnTo>
                  <a:lnTo>
                    <a:pt x="499" y="1022"/>
                  </a:lnTo>
                  <a:lnTo>
                    <a:pt x="489" y="1057"/>
                  </a:lnTo>
                  <a:lnTo>
                    <a:pt x="481" y="1091"/>
                  </a:lnTo>
                  <a:lnTo>
                    <a:pt x="471" y="1126"/>
                  </a:lnTo>
                  <a:lnTo>
                    <a:pt x="460" y="1159"/>
                  </a:lnTo>
                  <a:lnTo>
                    <a:pt x="449" y="1191"/>
                  </a:lnTo>
                  <a:lnTo>
                    <a:pt x="427" y="1252"/>
                  </a:lnTo>
                  <a:lnTo>
                    <a:pt x="403" y="1310"/>
                  </a:lnTo>
                  <a:lnTo>
                    <a:pt x="379" y="1364"/>
                  </a:lnTo>
                  <a:lnTo>
                    <a:pt x="354" y="1413"/>
                  </a:lnTo>
                  <a:lnTo>
                    <a:pt x="329" y="1456"/>
                  </a:lnTo>
                  <a:lnTo>
                    <a:pt x="305" y="1496"/>
                  </a:lnTo>
                  <a:lnTo>
                    <a:pt x="294" y="1513"/>
                  </a:lnTo>
                  <a:lnTo>
                    <a:pt x="282" y="1528"/>
                  </a:lnTo>
                  <a:lnTo>
                    <a:pt x="270" y="1543"/>
                  </a:lnTo>
                  <a:lnTo>
                    <a:pt x="259" y="1555"/>
                  </a:lnTo>
                  <a:lnTo>
                    <a:pt x="250" y="1566"/>
                  </a:lnTo>
                  <a:lnTo>
                    <a:pt x="238" y="1574"/>
                  </a:lnTo>
                  <a:lnTo>
                    <a:pt x="229" y="1582"/>
                  </a:lnTo>
                  <a:lnTo>
                    <a:pt x="220" y="1588"/>
                  </a:lnTo>
                  <a:lnTo>
                    <a:pt x="211" y="1592"/>
                  </a:lnTo>
                  <a:lnTo>
                    <a:pt x="202" y="1594"/>
                  </a:lnTo>
                  <a:lnTo>
                    <a:pt x="193" y="1597"/>
                  </a:lnTo>
                  <a:lnTo>
                    <a:pt x="184" y="1597"/>
                  </a:lnTo>
                  <a:lnTo>
                    <a:pt x="174" y="1597"/>
                  </a:lnTo>
                  <a:lnTo>
                    <a:pt x="166" y="1595"/>
                  </a:lnTo>
                  <a:lnTo>
                    <a:pt x="157" y="1593"/>
                  </a:lnTo>
                  <a:lnTo>
                    <a:pt x="149" y="1590"/>
                  </a:lnTo>
                  <a:lnTo>
                    <a:pt x="140" y="1587"/>
                  </a:lnTo>
                  <a:lnTo>
                    <a:pt x="131" y="1582"/>
                  </a:lnTo>
                  <a:lnTo>
                    <a:pt x="123" y="1576"/>
                  </a:lnTo>
                  <a:lnTo>
                    <a:pt x="114" y="1568"/>
                  </a:lnTo>
                  <a:lnTo>
                    <a:pt x="106" y="1561"/>
                  </a:lnTo>
                  <a:lnTo>
                    <a:pt x="98" y="1551"/>
                  </a:lnTo>
                  <a:lnTo>
                    <a:pt x="90" y="1541"/>
                  </a:lnTo>
                  <a:lnTo>
                    <a:pt x="82" y="1530"/>
                  </a:lnTo>
                  <a:lnTo>
                    <a:pt x="75" y="1519"/>
                  </a:lnTo>
                  <a:lnTo>
                    <a:pt x="67" y="1507"/>
                  </a:lnTo>
                  <a:lnTo>
                    <a:pt x="60" y="1493"/>
                  </a:lnTo>
                  <a:lnTo>
                    <a:pt x="54" y="1479"/>
                  </a:lnTo>
                  <a:lnTo>
                    <a:pt x="42" y="1447"/>
                  </a:lnTo>
                  <a:lnTo>
                    <a:pt x="31" y="1411"/>
                  </a:lnTo>
                  <a:lnTo>
                    <a:pt x="19" y="1372"/>
                  </a:lnTo>
                  <a:lnTo>
                    <a:pt x="12" y="1328"/>
                  </a:lnTo>
                  <a:lnTo>
                    <a:pt x="5" y="1282"/>
                  </a:lnTo>
                  <a:lnTo>
                    <a:pt x="0" y="1231"/>
                  </a:lnTo>
                  <a:lnTo>
                    <a:pt x="6" y="1209"/>
                  </a:lnTo>
                  <a:lnTo>
                    <a:pt x="24" y="1148"/>
                  </a:lnTo>
                  <a:lnTo>
                    <a:pt x="50" y="1058"/>
                  </a:lnTo>
                  <a:lnTo>
                    <a:pt x="81" y="948"/>
                  </a:lnTo>
                  <a:lnTo>
                    <a:pt x="115" y="830"/>
                  </a:lnTo>
                  <a:lnTo>
                    <a:pt x="149" y="712"/>
                  </a:lnTo>
                  <a:lnTo>
                    <a:pt x="179" y="605"/>
                  </a:lnTo>
                  <a:lnTo>
                    <a:pt x="204" y="517"/>
                  </a:lnTo>
                  <a:lnTo>
                    <a:pt x="225" y="434"/>
                  </a:lnTo>
                  <a:lnTo>
                    <a:pt x="246" y="343"/>
                  </a:lnTo>
                  <a:lnTo>
                    <a:pt x="257" y="295"/>
                  </a:lnTo>
                  <a:lnTo>
                    <a:pt x="269" y="249"/>
                  </a:lnTo>
                  <a:lnTo>
                    <a:pt x="280" y="203"/>
                  </a:lnTo>
                  <a:lnTo>
                    <a:pt x="293" y="160"/>
                  </a:lnTo>
                  <a:lnTo>
                    <a:pt x="306" y="121"/>
                  </a:lnTo>
                  <a:lnTo>
                    <a:pt x="320" y="85"/>
                  </a:lnTo>
                  <a:lnTo>
                    <a:pt x="327" y="69"/>
                  </a:lnTo>
                  <a:lnTo>
                    <a:pt x="334" y="54"/>
                  </a:lnTo>
                  <a:lnTo>
                    <a:pt x="342" y="41"/>
                  </a:lnTo>
                  <a:lnTo>
                    <a:pt x="349" y="30"/>
                  </a:lnTo>
                  <a:lnTo>
                    <a:pt x="357" y="20"/>
                  </a:lnTo>
                  <a:lnTo>
                    <a:pt x="365" y="11"/>
                  </a:lnTo>
                  <a:lnTo>
                    <a:pt x="374" y="6"/>
                  </a:lnTo>
                  <a:lnTo>
                    <a:pt x="382" y="1"/>
                  </a:lnTo>
                  <a:lnTo>
                    <a:pt x="392" y="0"/>
                  </a:lnTo>
                  <a:lnTo>
                    <a:pt x="401" y="1"/>
                  </a:lnTo>
                  <a:lnTo>
                    <a:pt x="411" y="4"/>
                  </a:lnTo>
                  <a:lnTo>
                    <a:pt x="421" y="10"/>
                  </a:lnTo>
                  <a:lnTo>
                    <a:pt x="462" y="33"/>
                  </a:lnTo>
                  <a:lnTo>
                    <a:pt x="500" y="57"/>
                  </a:lnTo>
                  <a:lnTo>
                    <a:pt x="509" y="64"/>
                  </a:lnTo>
                  <a:lnTo>
                    <a:pt x="518" y="73"/>
                  </a:lnTo>
                  <a:lnTo>
                    <a:pt x="526" y="81"/>
                  </a:lnTo>
                  <a:lnTo>
                    <a:pt x="534" y="91"/>
                  </a:lnTo>
                  <a:lnTo>
                    <a:pt x="541" y="103"/>
                  </a:lnTo>
                  <a:lnTo>
                    <a:pt x="547" y="116"/>
                  </a:lnTo>
                  <a:lnTo>
                    <a:pt x="553" y="130"/>
                  </a:lnTo>
                  <a:lnTo>
                    <a:pt x="560" y="146"/>
                  </a:lnTo>
                  <a:lnTo>
                    <a:pt x="564" y="164"/>
                  </a:lnTo>
                  <a:lnTo>
                    <a:pt x="569" y="185"/>
                  </a:lnTo>
                  <a:lnTo>
                    <a:pt x="573" y="207"/>
                  </a:lnTo>
                  <a:lnTo>
                    <a:pt x="576" y="231"/>
                  </a:lnTo>
                  <a:lnTo>
                    <a:pt x="578" y="257"/>
                  </a:lnTo>
                  <a:lnTo>
                    <a:pt x="579" y="288"/>
                  </a:lnTo>
                  <a:lnTo>
                    <a:pt x="580" y="320"/>
                  </a:lnTo>
                  <a:lnTo>
                    <a:pt x="580" y="356"/>
                  </a:lnTo>
                  <a:lnTo>
                    <a:pt x="579" y="394"/>
                  </a:lnTo>
                  <a:lnTo>
                    <a:pt x="577" y="436"/>
                  </a:lnTo>
                  <a:lnTo>
                    <a:pt x="574" y="480"/>
                  </a:lnTo>
                  <a:lnTo>
                    <a:pt x="569" y="529"/>
                  </a:lnTo>
                  <a:lnTo>
                    <a:pt x="564" y="581"/>
                  </a:lnTo>
                  <a:lnTo>
                    <a:pt x="558" y="637"/>
                  </a:lnTo>
                  <a:lnTo>
                    <a:pt x="552" y="698"/>
                  </a:lnTo>
                  <a:lnTo>
                    <a:pt x="544" y="761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6715080" y="3011760"/>
              <a:ext cx="168480" cy="465120"/>
            </a:xfrm>
            <a:custGeom>
              <a:avLst/>
              <a:gdLst/>
              <a:ahLst/>
              <a:rect l="l" t="t" r="r" b="b"/>
              <a:pathLst>
                <a:path w="529" h="1466">
                  <a:moveTo>
                    <a:pt x="483" y="723"/>
                  </a:moveTo>
                  <a:lnTo>
                    <a:pt x="478" y="758"/>
                  </a:lnTo>
                  <a:lnTo>
                    <a:pt x="474" y="791"/>
                  </a:lnTo>
                  <a:lnTo>
                    <a:pt x="467" y="824"/>
                  </a:lnTo>
                  <a:lnTo>
                    <a:pt x="461" y="858"/>
                  </a:lnTo>
                  <a:lnTo>
                    <a:pt x="447" y="923"/>
                  </a:lnTo>
                  <a:lnTo>
                    <a:pt x="431" y="985"/>
                  </a:lnTo>
                  <a:lnTo>
                    <a:pt x="413" y="1046"/>
                  </a:lnTo>
                  <a:lnTo>
                    <a:pt x="394" y="1104"/>
                  </a:lnTo>
                  <a:lnTo>
                    <a:pt x="374" y="1159"/>
                  </a:lnTo>
                  <a:lnTo>
                    <a:pt x="353" y="1211"/>
                  </a:lnTo>
                  <a:lnTo>
                    <a:pt x="332" y="1259"/>
                  </a:lnTo>
                  <a:lnTo>
                    <a:pt x="311" y="1302"/>
                  </a:lnTo>
                  <a:lnTo>
                    <a:pt x="290" y="1341"/>
                  </a:lnTo>
                  <a:lnTo>
                    <a:pt x="269" y="1375"/>
                  </a:lnTo>
                  <a:lnTo>
                    <a:pt x="260" y="1390"/>
                  </a:lnTo>
                  <a:lnTo>
                    <a:pt x="250" y="1404"/>
                  </a:lnTo>
                  <a:lnTo>
                    <a:pt x="240" y="1417"/>
                  </a:lnTo>
                  <a:lnTo>
                    <a:pt x="230" y="1428"/>
                  </a:lnTo>
                  <a:lnTo>
                    <a:pt x="220" y="1437"/>
                  </a:lnTo>
                  <a:lnTo>
                    <a:pt x="212" y="1445"/>
                  </a:lnTo>
                  <a:lnTo>
                    <a:pt x="203" y="1452"/>
                  </a:lnTo>
                  <a:lnTo>
                    <a:pt x="196" y="1457"/>
                  </a:lnTo>
                  <a:lnTo>
                    <a:pt x="187" y="1460"/>
                  </a:lnTo>
                  <a:lnTo>
                    <a:pt x="178" y="1463"/>
                  </a:lnTo>
                  <a:lnTo>
                    <a:pt x="171" y="1465"/>
                  </a:lnTo>
                  <a:lnTo>
                    <a:pt x="162" y="1466"/>
                  </a:lnTo>
                  <a:lnTo>
                    <a:pt x="155" y="1466"/>
                  </a:lnTo>
                  <a:lnTo>
                    <a:pt x="146" y="1465"/>
                  </a:lnTo>
                  <a:lnTo>
                    <a:pt x="138" y="1463"/>
                  </a:lnTo>
                  <a:lnTo>
                    <a:pt x="130" y="1460"/>
                  </a:lnTo>
                  <a:lnTo>
                    <a:pt x="123" y="1457"/>
                  </a:lnTo>
                  <a:lnTo>
                    <a:pt x="114" y="1453"/>
                  </a:lnTo>
                  <a:lnTo>
                    <a:pt x="107" y="1447"/>
                  </a:lnTo>
                  <a:lnTo>
                    <a:pt x="100" y="1441"/>
                  </a:lnTo>
                  <a:lnTo>
                    <a:pt x="92" y="1433"/>
                  </a:lnTo>
                  <a:lnTo>
                    <a:pt x="85" y="1426"/>
                  </a:lnTo>
                  <a:lnTo>
                    <a:pt x="77" y="1417"/>
                  </a:lnTo>
                  <a:lnTo>
                    <a:pt x="71" y="1407"/>
                  </a:lnTo>
                  <a:lnTo>
                    <a:pt x="58" y="1385"/>
                  </a:lnTo>
                  <a:lnTo>
                    <a:pt x="45" y="1361"/>
                  </a:lnTo>
                  <a:lnTo>
                    <a:pt x="34" y="1332"/>
                  </a:lnTo>
                  <a:lnTo>
                    <a:pt x="25" y="1300"/>
                  </a:lnTo>
                  <a:lnTo>
                    <a:pt x="16" y="1266"/>
                  </a:lnTo>
                  <a:lnTo>
                    <a:pt x="9" y="1228"/>
                  </a:lnTo>
                  <a:lnTo>
                    <a:pt x="4" y="1186"/>
                  </a:lnTo>
                  <a:lnTo>
                    <a:pt x="0" y="1142"/>
                  </a:lnTo>
                  <a:lnTo>
                    <a:pt x="5" y="1122"/>
                  </a:lnTo>
                  <a:lnTo>
                    <a:pt x="21" y="1067"/>
                  </a:lnTo>
                  <a:lnTo>
                    <a:pt x="43" y="987"/>
                  </a:lnTo>
                  <a:lnTo>
                    <a:pt x="71" y="888"/>
                  </a:lnTo>
                  <a:lnTo>
                    <a:pt x="101" y="783"/>
                  </a:lnTo>
                  <a:lnTo>
                    <a:pt x="130" y="678"/>
                  </a:lnTo>
                  <a:lnTo>
                    <a:pt x="157" y="582"/>
                  </a:lnTo>
                  <a:lnTo>
                    <a:pt x="178" y="503"/>
                  </a:lnTo>
                  <a:lnTo>
                    <a:pt x="198" y="428"/>
                  </a:lnTo>
                  <a:lnTo>
                    <a:pt x="219" y="341"/>
                  </a:lnTo>
                  <a:lnTo>
                    <a:pt x="229" y="297"/>
                  </a:lnTo>
                  <a:lnTo>
                    <a:pt x="240" y="251"/>
                  </a:lnTo>
                  <a:lnTo>
                    <a:pt x="251" y="207"/>
                  </a:lnTo>
                  <a:lnTo>
                    <a:pt x="262" y="164"/>
                  </a:lnTo>
                  <a:lnTo>
                    <a:pt x="274" y="124"/>
                  </a:lnTo>
                  <a:lnTo>
                    <a:pt x="287" y="89"/>
                  </a:lnTo>
                  <a:lnTo>
                    <a:pt x="294" y="73"/>
                  </a:lnTo>
                  <a:lnTo>
                    <a:pt x="300" y="58"/>
                  </a:lnTo>
                  <a:lnTo>
                    <a:pt x="307" y="45"/>
                  </a:lnTo>
                  <a:lnTo>
                    <a:pt x="315" y="32"/>
                  </a:lnTo>
                  <a:lnTo>
                    <a:pt x="322" y="22"/>
                  </a:lnTo>
                  <a:lnTo>
                    <a:pt x="330" y="14"/>
                  </a:lnTo>
                  <a:lnTo>
                    <a:pt x="337" y="8"/>
                  </a:lnTo>
                  <a:lnTo>
                    <a:pt x="346" y="3"/>
                  </a:lnTo>
                  <a:lnTo>
                    <a:pt x="353" y="0"/>
                  </a:lnTo>
                  <a:lnTo>
                    <a:pt x="362" y="0"/>
                  </a:lnTo>
                  <a:lnTo>
                    <a:pt x="371" y="1"/>
                  </a:lnTo>
                  <a:lnTo>
                    <a:pt x="380" y="6"/>
                  </a:lnTo>
                  <a:lnTo>
                    <a:pt x="417" y="26"/>
                  </a:lnTo>
                  <a:lnTo>
                    <a:pt x="453" y="42"/>
                  </a:lnTo>
                  <a:lnTo>
                    <a:pt x="461" y="47"/>
                  </a:lnTo>
                  <a:lnTo>
                    <a:pt x="470" y="52"/>
                  </a:lnTo>
                  <a:lnTo>
                    <a:pt x="477" y="59"/>
                  </a:lnTo>
                  <a:lnTo>
                    <a:pt x="485" y="67"/>
                  </a:lnTo>
                  <a:lnTo>
                    <a:pt x="492" y="75"/>
                  </a:lnTo>
                  <a:lnTo>
                    <a:pt x="498" y="85"/>
                  </a:lnTo>
                  <a:lnTo>
                    <a:pt x="504" y="97"/>
                  </a:lnTo>
                  <a:lnTo>
                    <a:pt x="510" y="111"/>
                  </a:lnTo>
                  <a:lnTo>
                    <a:pt x="515" y="127"/>
                  </a:lnTo>
                  <a:lnTo>
                    <a:pt x="519" y="145"/>
                  </a:lnTo>
                  <a:lnTo>
                    <a:pt x="523" y="165"/>
                  </a:lnTo>
                  <a:lnTo>
                    <a:pt x="525" y="188"/>
                  </a:lnTo>
                  <a:lnTo>
                    <a:pt x="528" y="213"/>
                  </a:lnTo>
                  <a:lnTo>
                    <a:pt x="528" y="241"/>
                  </a:lnTo>
                  <a:lnTo>
                    <a:pt x="529" y="273"/>
                  </a:lnTo>
                  <a:lnTo>
                    <a:pt x="528" y="308"/>
                  </a:lnTo>
                  <a:lnTo>
                    <a:pt x="526" y="346"/>
                  </a:lnTo>
                  <a:lnTo>
                    <a:pt x="523" y="388"/>
                  </a:lnTo>
                  <a:lnTo>
                    <a:pt x="519" y="433"/>
                  </a:lnTo>
                  <a:lnTo>
                    <a:pt x="514" y="482"/>
                  </a:lnTo>
                  <a:lnTo>
                    <a:pt x="509" y="537"/>
                  </a:lnTo>
                  <a:lnTo>
                    <a:pt x="502" y="594"/>
                  </a:lnTo>
                  <a:lnTo>
                    <a:pt x="493" y="656"/>
                  </a:lnTo>
                  <a:lnTo>
                    <a:pt x="483" y="723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6719760" y="3017880"/>
              <a:ext cx="152640" cy="424080"/>
            </a:xfrm>
            <a:custGeom>
              <a:avLst/>
              <a:gdLst/>
              <a:ahLst/>
              <a:rect l="l" t="t" r="r" b="b"/>
              <a:pathLst>
                <a:path w="480" h="1336">
                  <a:moveTo>
                    <a:pt x="0" y="1052"/>
                  </a:moveTo>
                  <a:lnTo>
                    <a:pt x="5" y="1033"/>
                  </a:lnTo>
                  <a:lnTo>
                    <a:pt x="19" y="985"/>
                  </a:lnTo>
                  <a:lnTo>
                    <a:pt x="40" y="915"/>
                  </a:lnTo>
                  <a:lnTo>
                    <a:pt x="63" y="829"/>
                  </a:lnTo>
                  <a:lnTo>
                    <a:pt x="90" y="737"/>
                  </a:lnTo>
                  <a:lnTo>
                    <a:pt x="116" y="644"/>
                  </a:lnTo>
                  <a:lnTo>
                    <a:pt x="141" y="560"/>
                  </a:lnTo>
                  <a:lnTo>
                    <a:pt x="160" y="492"/>
                  </a:lnTo>
                  <a:lnTo>
                    <a:pt x="178" y="423"/>
                  </a:lnTo>
                  <a:lnTo>
                    <a:pt x="195" y="342"/>
                  </a:lnTo>
                  <a:lnTo>
                    <a:pt x="214" y="255"/>
                  </a:lnTo>
                  <a:lnTo>
                    <a:pt x="234" y="168"/>
                  </a:lnTo>
                  <a:lnTo>
                    <a:pt x="245" y="130"/>
                  </a:lnTo>
                  <a:lnTo>
                    <a:pt x="258" y="93"/>
                  </a:lnTo>
                  <a:lnTo>
                    <a:pt x="264" y="77"/>
                  </a:lnTo>
                  <a:lnTo>
                    <a:pt x="270" y="63"/>
                  </a:lnTo>
                  <a:lnTo>
                    <a:pt x="276" y="49"/>
                  </a:lnTo>
                  <a:lnTo>
                    <a:pt x="283" y="37"/>
                  </a:lnTo>
                  <a:lnTo>
                    <a:pt x="289" y="26"/>
                  </a:lnTo>
                  <a:lnTo>
                    <a:pt x="297" y="17"/>
                  </a:lnTo>
                  <a:lnTo>
                    <a:pt x="304" y="10"/>
                  </a:lnTo>
                  <a:lnTo>
                    <a:pt x="312" y="4"/>
                  </a:lnTo>
                  <a:lnTo>
                    <a:pt x="319" y="1"/>
                  </a:lnTo>
                  <a:lnTo>
                    <a:pt x="326" y="0"/>
                  </a:lnTo>
                  <a:lnTo>
                    <a:pt x="335" y="1"/>
                  </a:lnTo>
                  <a:lnTo>
                    <a:pt x="342" y="5"/>
                  </a:lnTo>
                  <a:lnTo>
                    <a:pt x="351" y="10"/>
                  </a:lnTo>
                  <a:lnTo>
                    <a:pt x="360" y="13"/>
                  </a:lnTo>
                  <a:lnTo>
                    <a:pt x="367" y="17"/>
                  </a:lnTo>
                  <a:lnTo>
                    <a:pt x="376" y="20"/>
                  </a:lnTo>
                  <a:lnTo>
                    <a:pt x="393" y="23"/>
                  </a:lnTo>
                  <a:lnTo>
                    <a:pt x="410" y="27"/>
                  </a:lnTo>
                  <a:lnTo>
                    <a:pt x="417" y="29"/>
                  </a:lnTo>
                  <a:lnTo>
                    <a:pt x="425" y="33"/>
                  </a:lnTo>
                  <a:lnTo>
                    <a:pt x="433" y="37"/>
                  </a:lnTo>
                  <a:lnTo>
                    <a:pt x="440" y="42"/>
                  </a:lnTo>
                  <a:lnTo>
                    <a:pt x="447" y="48"/>
                  </a:lnTo>
                  <a:lnTo>
                    <a:pt x="453" y="56"/>
                  </a:lnTo>
                  <a:lnTo>
                    <a:pt x="459" y="65"/>
                  </a:lnTo>
                  <a:lnTo>
                    <a:pt x="464" y="77"/>
                  </a:lnTo>
                  <a:lnTo>
                    <a:pt x="469" y="91"/>
                  </a:lnTo>
                  <a:lnTo>
                    <a:pt x="473" y="107"/>
                  </a:lnTo>
                  <a:lnTo>
                    <a:pt x="475" y="124"/>
                  </a:lnTo>
                  <a:lnTo>
                    <a:pt x="478" y="145"/>
                  </a:lnTo>
                  <a:lnTo>
                    <a:pt x="480" y="170"/>
                  </a:lnTo>
                  <a:lnTo>
                    <a:pt x="480" y="197"/>
                  </a:lnTo>
                  <a:lnTo>
                    <a:pt x="480" y="227"/>
                  </a:lnTo>
                  <a:lnTo>
                    <a:pt x="479" y="261"/>
                  </a:lnTo>
                  <a:lnTo>
                    <a:pt x="476" y="299"/>
                  </a:lnTo>
                  <a:lnTo>
                    <a:pt x="473" y="341"/>
                  </a:lnTo>
                  <a:lnTo>
                    <a:pt x="468" y="386"/>
                  </a:lnTo>
                  <a:lnTo>
                    <a:pt x="462" y="437"/>
                  </a:lnTo>
                  <a:lnTo>
                    <a:pt x="454" y="491"/>
                  </a:lnTo>
                  <a:lnTo>
                    <a:pt x="446" y="550"/>
                  </a:lnTo>
                  <a:lnTo>
                    <a:pt x="436" y="615"/>
                  </a:lnTo>
                  <a:lnTo>
                    <a:pt x="425" y="685"/>
                  </a:lnTo>
                  <a:lnTo>
                    <a:pt x="414" y="744"/>
                  </a:lnTo>
                  <a:lnTo>
                    <a:pt x="401" y="802"/>
                  </a:lnTo>
                  <a:lnTo>
                    <a:pt x="388" y="858"/>
                  </a:lnTo>
                  <a:lnTo>
                    <a:pt x="374" y="914"/>
                  </a:lnTo>
                  <a:lnTo>
                    <a:pt x="358" y="968"/>
                  </a:lnTo>
                  <a:lnTo>
                    <a:pt x="342" y="1018"/>
                  </a:lnTo>
                  <a:lnTo>
                    <a:pt x="325" y="1066"/>
                  </a:lnTo>
                  <a:lnTo>
                    <a:pt x="307" y="1112"/>
                  </a:lnTo>
                  <a:lnTo>
                    <a:pt x="289" y="1155"/>
                  </a:lnTo>
                  <a:lnTo>
                    <a:pt x="271" y="1193"/>
                  </a:lnTo>
                  <a:lnTo>
                    <a:pt x="254" y="1227"/>
                  </a:lnTo>
                  <a:lnTo>
                    <a:pt x="237" y="1257"/>
                  </a:lnTo>
                  <a:lnTo>
                    <a:pt x="219" y="1283"/>
                  </a:lnTo>
                  <a:lnTo>
                    <a:pt x="202" y="1304"/>
                  </a:lnTo>
                  <a:lnTo>
                    <a:pt x="195" y="1312"/>
                  </a:lnTo>
                  <a:lnTo>
                    <a:pt x="186" y="1318"/>
                  </a:lnTo>
                  <a:lnTo>
                    <a:pt x="179" y="1325"/>
                  </a:lnTo>
                  <a:lnTo>
                    <a:pt x="171" y="1328"/>
                  </a:lnTo>
                  <a:lnTo>
                    <a:pt x="165" y="1331"/>
                  </a:lnTo>
                  <a:lnTo>
                    <a:pt x="158" y="1333"/>
                  </a:lnTo>
                  <a:lnTo>
                    <a:pt x="150" y="1336"/>
                  </a:lnTo>
                  <a:lnTo>
                    <a:pt x="144" y="1336"/>
                  </a:lnTo>
                  <a:lnTo>
                    <a:pt x="137" y="1336"/>
                  </a:lnTo>
                  <a:lnTo>
                    <a:pt x="130" y="1336"/>
                  </a:lnTo>
                  <a:lnTo>
                    <a:pt x="123" y="1334"/>
                  </a:lnTo>
                  <a:lnTo>
                    <a:pt x="116" y="1332"/>
                  </a:lnTo>
                  <a:lnTo>
                    <a:pt x="110" y="1328"/>
                  </a:lnTo>
                  <a:lnTo>
                    <a:pt x="102" y="1325"/>
                  </a:lnTo>
                  <a:lnTo>
                    <a:pt x="96" y="1320"/>
                  </a:lnTo>
                  <a:lnTo>
                    <a:pt x="90" y="1315"/>
                  </a:lnTo>
                  <a:lnTo>
                    <a:pt x="77" y="1301"/>
                  </a:lnTo>
                  <a:lnTo>
                    <a:pt x="64" y="1285"/>
                  </a:lnTo>
                  <a:lnTo>
                    <a:pt x="53" y="1267"/>
                  </a:lnTo>
                  <a:lnTo>
                    <a:pt x="42" y="1245"/>
                  </a:lnTo>
                  <a:lnTo>
                    <a:pt x="32" y="1219"/>
                  </a:lnTo>
                  <a:lnTo>
                    <a:pt x="24" y="1192"/>
                  </a:lnTo>
                  <a:lnTo>
                    <a:pt x="16" y="1161"/>
                  </a:lnTo>
                  <a:lnTo>
                    <a:pt x="10" y="1127"/>
                  </a:lnTo>
                  <a:lnTo>
                    <a:pt x="4" y="1091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6278400" y="2430720"/>
              <a:ext cx="409680" cy="647640"/>
            </a:xfrm>
            <a:custGeom>
              <a:avLst/>
              <a:gdLst/>
              <a:ahLst/>
              <a:rect l="l" t="t" r="r" b="b"/>
              <a:pathLst>
                <a:path w="1289" h="2040">
                  <a:moveTo>
                    <a:pt x="203" y="1292"/>
                  </a:moveTo>
                  <a:lnTo>
                    <a:pt x="204" y="1339"/>
                  </a:lnTo>
                  <a:lnTo>
                    <a:pt x="207" y="1382"/>
                  </a:lnTo>
                  <a:lnTo>
                    <a:pt x="212" y="1423"/>
                  </a:lnTo>
                  <a:lnTo>
                    <a:pt x="217" y="1461"/>
                  </a:lnTo>
                  <a:lnTo>
                    <a:pt x="224" y="1496"/>
                  </a:lnTo>
                  <a:lnTo>
                    <a:pt x="233" y="1530"/>
                  </a:lnTo>
                  <a:lnTo>
                    <a:pt x="243" y="1560"/>
                  </a:lnTo>
                  <a:lnTo>
                    <a:pt x="254" y="1589"/>
                  </a:lnTo>
                  <a:lnTo>
                    <a:pt x="265" y="1615"/>
                  </a:lnTo>
                  <a:lnTo>
                    <a:pt x="278" y="1639"/>
                  </a:lnTo>
                  <a:lnTo>
                    <a:pt x="291" y="1661"/>
                  </a:lnTo>
                  <a:lnTo>
                    <a:pt x="305" y="1681"/>
                  </a:lnTo>
                  <a:lnTo>
                    <a:pt x="319" y="1699"/>
                  </a:lnTo>
                  <a:lnTo>
                    <a:pt x="334" y="1717"/>
                  </a:lnTo>
                  <a:lnTo>
                    <a:pt x="348" y="1731"/>
                  </a:lnTo>
                  <a:lnTo>
                    <a:pt x="363" y="1745"/>
                  </a:lnTo>
                  <a:lnTo>
                    <a:pt x="379" y="1757"/>
                  </a:lnTo>
                  <a:lnTo>
                    <a:pt x="394" y="1767"/>
                  </a:lnTo>
                  <a:lnTo>
                    <a:pt x="409" y="1777"/>
                  </a:lnTo>
                  <a:lnTo>
                    <a:pt x="422" y="1784"/>
                  </a:lnTo>
                  <a:lnTo>
                    <a:pt x="437" y="1792"/>
                  </a:lnTo>
                  <a:lnTo>
                    <a:pt x="449" y="1798"/>
                  </a:lnTo>
                  <a:lnTo>
                    <a:pt x="462" y="1803"/>
                  </a:lnTo>
                  <a:lnTo>
                    <a:pt x="474" y="1806"/>
                  </a:lnTo>
                  <a:lnTo>
                    <a:pt x="511" y="1815"/>
                  </a:lnTo>
                  <a:lnTo>
                    <a:pt x="524" y="1816"/>
                  </a:lnTo>
                  <a:lnTo>
                    <a:pt x="532" y="1814"/>
                  </a:lnTo>
                  <a:lnTo>
                    <a:pt x="538" y="1811"/>
                  </a:lnTo>
                  <a:lnTo>
                    <a:pt x="543" y="1806"/>
                  </a:lnTo>
                  <a:lnTo>
                    <a:pt x="546" y="1801"/>
                  </a:lnTo>
                  <a:lnTo>
                    <a:pt x="549" y="1797"/>
                  </a:lnTo>
                  <a:lnTo>
                    <a:pt x="551" y="1790"/>
                  </a:lnTo>
                  <a:lnTo>
                    <a:pt x="553" y="1785"/>
                  </a:lnTo>
                  <a:lnTo>
                    <a:pt x="554" y="1778"/>
                  </a:lnTo>
                  <a:lnTo>
                    <a:pt x="556" y="1766"/>
                  </a:lnTo>
                  <a:lnTo>
                    <a:pt x="559" y="1754"/>
                  </a:lnTo>
                  <a:lnTo>
                    <a:pt x="561" y="1747"/>
                  </a:lnTo>
                  <a:lnTo>
                    <a:pt x="565" y="1742"/>
                  </a:lnTo>
                  <a:lnTo>
                    <a:pt x="570" y="1736"/>
                  </a:lnTo>
                  <a:lnTo>
                    <a:pt x="576" y="1733"/>
                  </a:lnTo>
                  <a:lnTo>
                    <a:pt x="578" y="1731"/>
                  </a:lnTo>
                  <a:lnTo>
                    <a:pt x="581" y="1730"/>
                  </a:lnTo>
                  <a:lnTo>
                    <a:pt x="583" y="1730"/>
                  </a:lnTo>
                  <a:lnTo>
                    <a:pt x="585" y="1731"/>
                  </a:lnTo>
                  <a:lnTo>
                    <a:pt x="587" y="1734"/>
                  </a:lnTo>
                  <a:lnTo>
                    <a:pt x="588" y="1739"/>
                  </a:lnTo>
                  <a:lnTo>
                    <a:pt x="588" y="1755"/>
                  </a:lnTo>
                  <a:lnTo>
                    <a:pt x="585" y="1776"/>
                  </a:lnTo>
                  <a:lnTo>
                    <a:pt x="581" y="1799"/>
                  </a:lnTo>
                  <a:lnTo>
                    <a:pt x="576" y="1821"/>
                  </a:lnTo>
                  <a:lnTo>
                    <a:pt x="572" y="1842"/>
                  </a:lnTo>
                  <a:lnTo>
                    <a:pt x="570" y="1857"/>
                  </a:lnTo>
                  <a:lnTo>
                    <a:pt x="571" y="1869"/>
                  </a:lnTo>
                  <a:lnTo>
                    <a:pt x="572" y="1880"/>
                  </a:lnTo>
                  <a:lnTo>
                    <a:pt x="575" y="1891"/>
                  </a:lnTo>
                  <a:lnTo>
                    <a:pt x="577" y="1901"/>
                  </a:lnTo>
                  <a:lnTo>
                    <a:pt x="581" y="1911"/>
                  </a:lnTo>
                  <a:lnTo>
                    <a:pt x="586" y="1921"/>
                  </a:lnTo>
                  <a:lnTo>
                    <a:pt x="592" y="1931"/>
                  </a:lnTo>
                  <a:lnTo>
                    <a:pt x="597" y="1939"/>
                  </a:lnTo>
                  <a:lnTo>
                    <a:pt x="610" y="1956"/>
                  </a:lnTo>
                  <a:lnTo>
                    <a:pt x="625" y="1972"/>
                  </a:lnTo>
                  <a:lnTo>
                    <a:pt x="642" y="1986"/>
                  </a:lnTo>
                  <a:lnTo>
                    <a:pt x="658" y="1998"/>
                  </a:lnTo>
                  <a:lnTo>
                    <a:pt x="676" y="2009"/>
                  </a:lnTo>
                  <a:lnTo>
                    <a:pt x="693" y="2018"/>
                  </a:lnTo>
                  <a:lnTo>
                    <a:pt x="710" y="2025"/>
                  </a:lnTo>
                  <a:lnTo>
                    <a:pt x="725" y="2031"/>
                  </a:lnTo>
                  <a:lnTo>
                    <a:pt x="738" y="2036"/>
                  </a:lnTo>
                  <a:lnTo>
                    <a:pt x="751" y="2039"/>
                  </a:lnTo>
                  <a:lnTo>
                    <a:pt x="759" y="2040"/>
                  </a:lnTo>
                  <a:lnTo>
                    <a:pt x="765" y="2039"/>
                  </a:lnTo>
                  <a:lnTo>
                    <a:pt x="794" y="2033"/>
                  </a:lnTo>
                  <a:lnTo>
                    <a:pt x="818" y="2024"/>
                  </a:lnTo>
                  <a:lnTo>
                    <a:pt x="840" y="2017"/>
                  </a:lnTo>
                  <a:lnTo>
                    <a:pt x="861" y="2008"/>
                  </a:lnTo>
                  <a:lnTo>
                    <a:pt x="879" y="1997"/>
                  </a:lnTo>
                  <a:lnTo>
                    <a:pt x="896" y="1986"/>
                  </a:lnTo>
                  <a:lnTo>
                    <a:pt x="911" y="1972"/>
                  </a:lnTo>
                  <a:lnTo>
                    <a:pt x="924" y="1958"/>
                  </a:lnTo>
                  <a:lnTo>
                    <a:pt x="936" y="1940"/>
                  </a:lnTo>
                  <a:lnTo>
                    <a:pt x="949" y="1921"/>
                  </a:lnTo>
                  <a:lnTo>
                    <a:pt x="960" y="1899"/>
                  </a:lnTo>
                  <a:lnTo>
                    <a:pt x="971" y="1874"/>
                  </a:lnTo>
                  <a:lnTo>
                    <a:pt x="982" y="1845"/>
                  </a:lnTo>
                  <a:lnTo>
                    <a:pt x="993" y="1814"/>
                  </a:lnTo>
                  <a:lnTo>
                    <a:pt x="1004" y="1778"/>
                  </a:lnTo>
                  <a:lnTo>
                    <a:pt x="1015" y="1738"/>
                  </a:lnTo>
                  <a:lnTo>
                    <a:pt x="1030" y="1693"/>
                  </a:lnTo>
                  <a:lnTo>
                    <a:pt x="1046" y="1644"/>
                  </a:lnTo>
                  <a:lnTo>
                    <a:pt x="1066" y="1592"/>
                  </a:lnTo>
                  <a:lnTo>
                    <a:pt x="1087" y="1537"/>
                  </a:lnTo>
                  <a:lnTo>
                    <a:pt x="1131" y="1424"/>
                  </a:lnTo>
                  <a:lnTo>
                    <a:pt x="1178" y="1313"/>
                  </a:lnTo>
                  <a:lnTo>
                    <a:pt x="1221" y="1214"/>
                  </a:lnTo>
                  <a:lnTo>
                    <a:pt x="1256" y="1131"/>
                  </a:lnTo>
                  <a:lnTo>
                    <a:pt x="1281" y="1076"/>
                  </a:lnTo>
                  <a:lnTo>
                    <a:pt x="1289" y="1056"/>
                  </a:lnTo>
                  <a:lnTo>
                    <a:pt x="116" y="0"/>
                  </a:lnTo>
                  <a:lnTo>
                    <a:pt x="120" y="24"/>
                  </a:lnTo>
                  <a:lnTo>
                    <a:pt x="124" y="95"/>
                  </a:lnTo>
                  <a:lnTo>
                    <a:pt x="127" y="147"/>
                  </a:lnTo>
                  <a:lnTo>
                    <a:pt x="129" y="206"/>
                  </a:lnTo>
                  <a:lnTo>
                    <a:pt x="129" y="275"/>
                  </a:lnTo>
                  <a:lnTo>
                    <a:pt x="128" y="350"/>
                  </a:lnTo>
                  <a:lnTo>
                    <a:pt x="124" y="431"/>
                  </a:lnTo>
                  <a:lnTo>
                    <a:pt x="120" y="519"/>
                  </a:lnTo>
                  <a:lnTo>
                    <a:pt x="115" y="564"/>
                  </a:lnTo>
                  <a:lnTo>
                    <a:pt x="110" y="611"/>
                  </a:lnTo>
                  <a:lnTo>
                    <a:pt x="104" y="659"/>
                  </a:lnTo>
                  <a:lnTo>
                    <a:pt x="97" y="708"/>
                  </a:lnTo>
                  <a:lnTo>
                    <a:pt x="89" y="757"/>
                  </a:lnTo>
                  <a:lnTo>
                    <a:pt x="80" y="808"/>
                  </a:lnTo>
                  <a:lnTo>
                    <a:pt x="70" y="858"/>
                  </a:lnTo>
                  <a:lnTo>
                    <a:pt x="58" y="909"/>
                  </a:lnTo>
                  <a:lnTo>
                    <a:pt x="46" y="960"/>
                  </a:lnTo>
                  <a:lnTo>
                    <a:pt x="32" y="1012"/>
                  </a:lnTo>
                  <a:lnTo>
                    <a:pt x="16" y="1063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4" y="1135"/>
                  </a:lnTo>
                  <a:lnTo>
                    <a:pt x="10" y="1153"/>
                  </a:lnTo>
                  <a:lnTo>
                    <a:pt x="20" y="1173"/>
                  </a:lnTo>
                  <a:lnTo>
                    <a:pt x="25" y="1182"/>
                  </a:lnTo>
                  <a:lnTo>
                    <a:pt x="31" y="1189"/>
                  </a:lnTo>
                  <a:lnTo>
                    <a:pt x="38" y="1195"/>
                  </a:lnTo>
                  <a:lnTo>
                    <a:pt x="46" y="1199"/>
                  </a:lnTo>
                  <a:lnTo>
                    <a:pt x="49" y="1199"/>
                  </a:lnTo>
                  <a:lnTo>
                    <a:pt x="54" y="1199"/>
                  </a:lnTo>
                  <a:lnTo>
                    <a:pt x="58" y="1199"/>
                  </a:lnTo>
                  <a:lnTo>
                    <a:pt x="63" y="1196"/>
                  </a:lnTo>
                  <a:lnTo>
                    <a:pt x="68" y="1194"/>
                  </a:lnTo>
                  <a:lnTo>
                    <a:pt x="73" y="1191"/>
                  </a:lnTo>
                  <a:lnTo>
                    <a:pt x="78" y="1186"/>
                  </a:lnTo>
                  <a:lnTo>
                    <a:pt x="84" y="1182"/>
                  </a:lnTo>
                  <a:lnTo>
                    <a:pt x="95" y="1169"/>
                  </a:lnTo>
                  <a:lnTo>
                    <a:pt x="106" y="1161"/>
                  </a:lnTo>
                  <a:lnTo>
                    <a:pt x="117" y="1153"/>
                  </a:lnTo>
                  <a:lnTo>
                    <a:pt x="128" y="1148"/>
                  </a:lnTo>
                  <a:lnTo>
                    <a:pt x="138" y="1145"/>
                  </a:lnTo>
                  <a:lnTo>
                    <a:pt x="148" y="1145"/>
                  </a:lnTo>
                  <a:lnTo>
                    <a:pt x="153" y="1146"/>
                  </a:lnTo>
                  <a:lnTo>
                    <a:pt x="158" y="1147"/>
                  </a:lnTo>
                  <a:lnTo>
                    <a:pt x="161" y="1148"/>
                  </a:lnTo>
                  <a:lnTo>
                    <a:pt x="166" y="1151"/>
                  </a:lnTo>
                  <a:lnTo>
                    <a:pt x="174" y="1158"/>
                  </a:lnTo>
                  <a:lnTo>
                    <a:pt x="181" y="1168"/>
                  </a:lnTo>
                  <a:lnTo>
                    <a:pt x="187" y="1182"/>
                  </a:lnTo>
                  <a:lnTo>
                    <a:pt x="193" y="1198"/>
                  </a:lnTo>
                  <a:lnTo>
                    <a:pt x="197" y="1216"/>
                  </a:lnTo>
                  <a:lnTo>
                    <a:pt x="201" y="1238"/>
                  </a:lnTo>
                  <a:lnTo>
                    <a:pt x="203" y="1264"/>
                  </a:lnTo>
                  <a:lnTo>
                    <a:pt x="203" y="129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6278400" y="2430720"/>
              <a:ext cx="409680" cy="623880"/>
            </a:xfrm>
            <a:custGeom>
              <a:avLst/>
              <a:gdLst/>
              <a:ahLst/>
              <a:rect l="l" t="t" r="r" b="b"/>
              <a:pathLst>
                <a:path w="1289" h="1965">
                  <a:moveTo>
                    <a:pt x="1026" y="1674"/>
                  </a:moveTo>
                  <a:lnTo>
                    <a:pt x="1015" y="1714"/>
                  </a:lnTo>
                  <a:lnTo>
                    <a:pt x="1003" y="1750"/>
                  </a:lnTo>
                  <a:lnTo>
                    <a:pt x="992" y="1780"/>
                  </a:lnTo>
                  <a:lnTo>
                    <a:pt x="981" y="1809"/>
                  </a:lnTo>
                  <a:lnTo>
                    <a:pt x="970" y="1833"/>
                  </a:lnTo>
                  <a:lnTo>
                    <a:pt x="957" y="1855"/>
                  </a:lnTo>
                  <a:lnTo>
                    <a:pt x="945" y="1874"/>
                  </a:lnTo>
                  <a:lnTo>
                    <a:pt x="933" y="1891"/>
                  </a:lnTo>
                  <a:lnTo>
                    <a:pt x="919" y="1904"/>
                  </a:lnTo>
                  <a:lnTo>
                    <a:pt x="903" y="1917"/>
                  </a:lnTo>
                  <a:lnTo>
                    <a:pt x="887" y="1928"/>
                  </a:lnTo>
                  <a:lnTo>
                    <a:pt x="870" y="1936"/>
                  </a:lnTo>
                  <a:lnTo>
                    <a:pt x="850" y="1945"/>
                  </a:lnTo>
                  <a:lnTo>
                    <a:pt x="828" y="1952"/>
                  </a:lnTo>
                  <a:lnTo>
                    <a:pt x="805" y="1959"/>
                  </a:lnTo>
                  <a:lnTo>
                    <a:pt x="779" y="1965"/>
                  </a:lnTo>
                  <a:lnTo>
                    <a:pt x="772" y="1965"/>
                  </a:lnTo>
                  <a:lnTo>
                    <a:pt x="762" y="1962"/>
                  </a:lnTo>
                  <a:lnTo>
                    <a:pt x="749" y="1959"/>
                  </a:lnTo>
                  <a:lnTo>
                    <a:pt x="735" y="1952"/>
                  </a:lnTo>
                  <a:lnTo>
                    <a:pt x="720" y="1946"/>
                  </a:lnTo>
                  <a:lnTo>
                    <a:pt x="704" y="1938"/>
                  </a:lnTo>
                  <a:lnTo>
                    <a:pt x="688" y="1928"/>
                  </a:lnTo>
                  <a:lnTo>
                    <a:pt x="672" y="1916"/>
                  </a:lnTo>
                  <a:lnTo>
                    <a:pt x="657" y="1903"/>
                  </a:lnTo>
                  <a:lnTo>
                    <a:pt x="642" y="1889"/>
                  </a:lnTo>
                  <a:lnTo>
                    <a:pt x="628" y="1873"/>
                  </a:lnTo>
                  <a:lnTo>
                    <a:pt x="617" y="1857"/>
                  </a:lnTo>
                  <a:lnTo>
                    <a:pt x="610" y="1848"/>
                  </a:lnTo>
                  <a:lnTo>
                    <a:pt x="607" y="1838"/>
                  </a:lnTo>
                  <a:lnTo>
                    <a:pt x="602" y="1828"/>
                  </a:lnTo>
                  <a:lnTo>
                    <a:pt x="598" y="1820"/>
                  </a:lnTo>
                  <a:lnTo>
                    <a:pt x="596" y="1809"/>
                  </a:lnTo>
                  <a:lnTo>
                    <a:pt x="593" y="1799"/>
                  </a:lnTo>
                  <a:lnTo>
                    <a:pt x="592" y="1788"/>
                  </a:lnTo>
                  <a:lnTo>
                    <a:pt x="592" y="1778"/>
                  </a:lnTo>
                  <a:lnTo>
                    <a:pt x="593" y="1754"/>
                  </a:lnTo>
                  <a:lnTo>
                    <a:pt x="596" y="1729"/>
                  </a:lnTo>
                  <a:lnTo>
                    <a:pt x="599" y="1703"/>
                  </a:lnTo>
                  <a:lnTo>
                    <a:pt x="602" y="1677"/>
                  </a:lnTo>
                  <a:lnTo>
                    <a:pt x="603" y="1656"/>
                  </a:lnTo>
                  <a:lnTo>
                    <a:pt x="602" y="1641"/>
                  </a:lnTo>
                  <a:lnTo>
                    <a:pt x="601" y="1636"/>
                  </a:lnTo>
                  <a:lnTo>
                    <a:pt x="598" y="1635"/>
                  </a:lnTo>
                  <a:lnTo>
                    <a:pt x="594" y="1635"/>
                  </a:lnTo>
                  <a:lnTo>
                    <a:pt x="589" y="1639"/>
                  </a:lnTo>
                  <a:lnTo>
                    <a:pt x="583" y="1645"/>
                  </a:lnTo>
                  <a:lnTo>
                    <a:pt x="578" y="1651"/>
                  </a:lnTo>
                  <a:lnTo>
                    <a:pt x="575" y="1657"/>
                  </a:lnTo>
                  <a:lnTo>
                    <a:pt x="571" y="1665"/>
                  </a:lnTo>
                  <a:lnTo>
                    <a:pt x="567" y="1678"/>
                  </a:lnTo>
                  <a:lnTo>
                    <a:pt x="564" y="1692"/>
                  </a:lnTo>
                  <a:lnTo>
                    <a:pt x="559" y="1705"/>
                  </a:lnTo>
                  <a:lnTo>
                    <a:pt x="554" y="1716"/>
                  </a:lnTo>
                  <a:lnTo>
                    <a:pt x="549" y="1721"/>
                  </a:lnTo>
                  <a:lnTo>
                    <a:pt x="544" y="1725"/>
                  </a:lnTo>
                  <a:lnTo>
                    <a:pt x="538" y="1729"/>
                  </a:lnTo>
                  <a:lnTo>
                    <a:pt x="529" y="1731"/>
                  </a:lnTo>
                  <a:lnTo>
                    <a:pt x="517" y="1730"/>
                  </a:lnTo>
                  <a:lnTo>
                    <a:pt x="482" y="1721"/>
                  </a:lnTo>
                  <a:lnTo>
                    <a:pt x="459" y="1713"/>
                  </a:lnTo>
                  <a:lnTo>
                    <a:pt x="433" y="1700"/>
                  </a:lnTo>
                  <a:lnTo>
                    <a:pt x="420" y="1692"/>
                  </a:lnTo>
                  <a:lnTo>
                    <a:pt x="406" y="1683"/>
                  </a:lnTo>
                  <a:lnTo>
                    <a:pt x="393" y="1673"/>
                  </a:lnTo>
                  <a:lnTo>
                    <a:pt x="378" y="1661"/>
                  </a:lnTo>
                  <a:lnTo>
                    <a:pt x="364" y="1649"/>
                  </a:lnTo>
                  <a:lnTo>
                    <a:pt x="350" y="1634"/>
                  </a:lnTo>
                  <a:lnTo>
                    <a:pt x="336" y="1618"/>
                  </a:lnTo>
                  <a:lnTo>
                    <a:pt x="323" y="1601"/>
                  </a:lnTo>
                  <a:lnTo>
                    <a:pt x="309" y="1581"/>
                  </a:lnTo>
                  <a:lnTo>
                    <a:pt x="297" y="1560"/>
                  </a:lnTo>
                  <a:lnTo>
                    <a:pt x="284" y="1537"/>
                  </a:lnTo>
                  <a:lnTo>
                    <a:pt x="273" y="1512"/>
                  </a:lnTo>
                  <a:lnTo>
                    <a:pt x="263" y="1485"/>
                  </a:lnTo>
                  <a:lnTo>
                    <a:pt x="254" y="1456"/>
                  </a:lnTo>
                  <a:lnTo>
                    <a:pt x="246" y="1425"/>
                  </a:lnTo>
                  <a:lnTo>
                    <a:pt x="239" y="1390"/>
                  </a:lnTo>
                  <a:lnTo>
                    <a:pt x="233" y="1355"/>
                  </a:lnTo>
                  <a:lnTo>
                    <a:pt x="229" y="1317"/>
                  </a:lnTo>
                  <a:lnTo>
                    <a:pt x="227" y="1275"/>
                  </a:lnTo>
                  <a:lnTo>
                    <a:pt x="225" y="1232"/>
                  </a:lnTo>
                  <a:lnTo>
                    <a:pt x="224" y="1205"/>
                  </a:lnTo>
                  <a:lnTo>
                    <a:pt x="222" y="1180"/>
                  </a:lnTo>
                  <a:lnTo>
                    <a:pt x="218" y="1158"/>
                  </a:lnTo>
                  <a:lnTo>
                    <a:pt x="212" y="1138"/>
                  </a:lnTo>
                  <a:lnTo>
                    <a:pt x="206" y="1121"/>
                  </a:lnTo>
                  <a:lnTo>
                    <a:pt x="198" y="1105"/>
                  </a:lnTo>
                  <a:lnTo>
                    <a:pt x="190" y="1093"/>
                  </a:lnTo>
                  <a:lnTo>
                    <a:pt x="180" y="1083"/>
                  </a:lnTo>
                  <a:lnTo>
                    <a:pt x="175" y="1079"/>
                  </a:lnTo>
                  <a:lnTo>
                    <a:pt x="170" y="1075"/>
                  </a:lnTo>
                  <a:lnTo>
                    <a:pt x="165" y="1073"/>
                  </a:lnTo>
                  <a:lnTo>
                    <a:pt x="160" y="1072"/>
                  </a:lnTo>
                  <a:lnTo>
                    <a:pt x="154" y="1071"/>
                  </a:lnTo>
                  <a:lnTo>
                    <a:pt x="149" y="1071"/>
                  </a:lnTo>
                  <a:lnTo>
                    <a:pt x="143" y="1071"/>
                  </a:lnTo>
                  <a:lnTo>
                    <a:pt x="138" y="1072"/>
                  </a:lnTo>
                  <a:lnTo>
                    <a:pt x="132" y="1074"/>
                  </a:lnTo>
                  <a:lnTo>
                    <a:pt x="127" y="1077"/>
                  </a:lnTo>
                  <a:lnTo>
                    <a:pt x="121" y="1080"/>
                  </a:lnTo>
                  <a:lnTo>
                    <a:pt x="116" y="1085"/>
                  </a:lnTo>
                  <a:lnTo>
                    <a:pt x="105" y="1096"/>
                  </a:lnTo>
                  <a:lnTo>
                    <a:pt x="95" y="1112"/>
                  </a:lnTo>
                  <a:lnTo>
                    <a:pt x="85" y="1125"/>
                  </a:lnTo>
                  <a:lnTo>
                    <a:pt x="75" y="1135"/>
                  </a:lnTo>
                  <a:lnTo>
                    <a:pt x="65" y="1141"/>
                  </a:lnTo>
                  <a:lnTo>
                    <a:pt x="57" y="1146"/>
                  </a:lnTo>
                  <a:lnTo>
                    <a:pt x="48" y="1147"/>
                  </a:lnTo>
                  <a:lnTo>
                    <a:pt x="41" y="1147"/>
                  </a:lnTo>
                  <a:lnTo>
                    <a:pt x="33" y="1144"/>
                  </a:lnTo>
                  <a:lnTo>
                    <a:pt x="27" y="1142"/>
                  </a:lnTo>
                  <a:lnTo>
                    <a:pt x="21" y="1137"/>
                  </a:lnTo>
                  <a:lnTo>
                    <a:pt x="15" y="1132"/>
                  </a:lnTo>
                  <a:lnTo>
                    <a:pt x="11" y="1127"/>
                  </a:lnTo>
                  <a:lnTo>
                    <a:pt x="6" y="1123"/>
                  </a:lnTo>
                  <a:lnTo>
                    <a:pt x="1" y="1115"/>
                  </a:lnTo>
                  <a:lnTo>
                    <a:pt x="0" y="1112"/>
                  </a:lnTo>
                  <a:lnTo>
                    <a:pt x="16" y="1059"/>
                  </a:lnTo>
                  <a:lnTo>
                    <a:pt x="31" y="1008"/>
                  </a:lnTo>
                  <a:lnTo>
                    <a:pt x="46" y="956"/>
                  </a:lnTo>
                  <a:lnTo>
                    <a:pt x="58" y="905"/>
                  </a:lnTo>
                  <a:lnTo>
                    <a:pt x="69" y="853"/>
                  </a:lnTo>
                  <a:lnTo>
                    <a:pt x="79" y="802"/>
                  </a:lnTo>
                  <a:lnTo>
                    <a:pt x="88" y="752"/>
                  </a:lnTo>
                  <a:lnTo>
                    <a:pt x="96" y="703"/>
                  </a:lnTo>
                  <a:lnTo>
                    <a:pt x="102" y="655"/>
                  </a:lnTo>
                  <a:lnTo>
                    <a:pt x="108" y="607"/>
                  </a:lnTo>
                  <a:lnTo>
                    <a:pt x="113" y="561"/>
                  </a:lnTo>
                  <a:lnTo>
                    <a:pt x="118" y="516"/>
                  </a:lnTo>
                  <a:lnTo>
                    <a:pt x="123" y="428"/>
                  </a:lnTo>
                  <a:lnTo>
                    <a:pt x="127" y="347"/>
                  </a:lnTo>
                  <a:lnTo>
                    <a:pt x="128" y="272"/>
                  </a:lnTo>
                  <a:lnTo>
                    <a:pt x="128" y="206"/>
                  </a:lnTo>
                  <a:lnTo>
                    <a:pt x="127" y="147"/>
                  </a:lnTo>
                  <a:lnTo>
                    <a:pt x="124" y="96"/>
                  </a:lnTo>
                  <a:lnTo>
                    <a:pt x="120" y="26"/>
                  </a:lnTo>
                  <a:lnTo>
                    <a:pt x="116" y="0"/>
                  </a:lnTo>
                  <a:lnTo>
                    <a:pt x="1289" y="1052"/>
                  </a:lnTo>
                  <a:lnTo>
                    <a:pt x="1281" y="1069"/>
                  </a:lnTo>
                  <a:lnTo>
                    <a:pt x="1258" y="1119"/>
                  </a:lnTo>
                  <a:lnTo>
                    <a:pt x="1224" y="1190"/>
                  </a:lnTo>
                  <a:lnTo>
                    <a:pt x="1182" y="1280"/>
                  </a:lnTo>
                  <a:lnTo>
                    <a:pt x="1138" y="1379"/>
                  </a:lnTo>
                  <a:lnTo>
                    <a:pt x="1095" y="1483"/>
                  </a:lnTo>
                  <a:lnTo>
                    <a:pt x="1075" y="1534"/>
                  </a:lnTo>
                  <a:lnTo>
                    <a:pt x="1057" y="1583"/>
                  </a:lnTo>
                  <a:lnTo>
                    <a:pt x="1040" y="1630"/>
                  </a:lnTo>
                  <a:lnTo>
                    <a:pt x="1026" y="1674"/>
                  </a:lnTo>
                  <a:close/>
                </a:path>
              </a:pathLst>
            </a:custGeom>
            <a:solidFill>
              <a:srgbClr val="635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6278400" y="2432160"/>
              <a:ext cx="409680" cy="600120"/>
            </a:xfrm>
            <a:custGeom>
              <a:avLst/>
              <a:gdLst/>
              <a:ahLst/>
              <a:rect l="l" t="t" r="r" b="b"/>
              <a:pathLst>
                <a:path w="1289" h="1887">
                  <a:moveTo>
                    <a:pt x="1040" y="1610"/>
                  </a:moveTo>
                  <a:lnTo>
                    <a:pt x="1027" y="1650"/>
                  </a:lnTo>
                  <a:lnTo>
                    <a:pt x="1015" y="1685"/>
                  </a:lnTo>
                  <a:lnTo>
                    <a:pt x="1004" y="1716"/>
                  </a:lnTo>
                  <a:lnTo>
                    <a:pt x="992" y="1744"/>
                  </a:lnTo>
                  <a:lnTo>
                    <a:pt x="979" y="1769"/>
                  </a:lnTo>
                  <a:lnTo>
                    <a:pt x="968" y="1790"/>
                  </a:lnTo>
                  <a:lnTo>
                    <a:pt x="955" y="1808"/>
                  </a:lnTo>
                  <a:lnTo>
                    <a:pt x="943" y="1823"/>
                  </a:lnTo>
                  <a:lnTo>
                    <a:pt x="928" y="1837"/>
                  </a:lnTo>
                  <a:lnTo>
                    <a:pt x="913" y="1848"/>
                  </a:lnTo>
                  <a:lnTo>
                    <a:pt x="897" y="1857"/>
                  </a:lnTo>
                  <a:lnTo>
                    <a:pt x="880" y="1865"/>
                  </a:lnTo>
                  <a:lnTo>
                    <a:pt x="860" y="1872"/>
                  </a:lnTo>
                  <a:lnTo>
                    <a:pt x="839" y="1877"/>
                  </a:lnTo>
                  <a:lnTo>
                    <a:pt x="817" y="1883"/>
                  </a:lnTo>
                  <a:lnTo>
                    <a:pt x="792" y="1887"/>
                  </a:lnTo>
                  <a:lnTo>
                    <a:pt x="784" y="1887"/>
                  </a:lnTo>
                  <a:lnTo>
                    <a:pt x="773" y="1883"/>
                  </a:lnTo>
                  <a:lnTo>
                    <a:pt x="760" y="1880"/>
                  </a:lnTo>
                  <a:lnTo>
                    <a:pt x="747" y="1873"/>
                  </a:lnTo>
                  <a:lnTo>
                    <a:pt x="732" y="1865"/>
                  </a:lnTo>
                  <a:lnTo>
                    <a:pt x="717" y="1856"/>
                  </a:lnTo>
                  <a:lnTo>
                    <a:pt x="701" y="1845"/>
                  </a:lnTo>
                  <a:lnTo>
                    <a:pt x="687" y="1833"/>
                  </a:lnTo>
                  <a:lnTo>
                    <a:pt x="672" y="1821"/>
                  </a:lnTo>
                  <a:lnTo>
                    <a:pt x="658" y="1806"/>
                  </a:lnTo>
                  <a:lnTo>
                    <a:pt x="646" y="1790"/>
                  </a:lnTo>
                  <a:lnTo>
                    <a:pt x="635" y="1774"/>
                  </a:lnTo>
                  <a:lnTo>
                    <a:pt x="626" y="1757"/>
                  </a:lnTo>
                  <a:lnTo>
                    <a:pt x="619" y="1738"/>
                  </a:lnTo>
                  <a:lnTo>
                    <a:pt x="617" y="1730"/>
                  </a:lnTo>
                  <a:lnTo>
                    <a:pt x="615" y="1720"/>
                  </a:lnTo>
                  <a:lnTo>
                    <a:pt x="614" y="1710"/>
                  </a:lnTo>
                  <a:lnTo>
                    <a:pt x="614" y="1700"/>
                  </a:lnTo>
                  <a:lnTo>
                    <a:pt x="614" y="1669"/>
                  </a:lnTo>
                  <a:lnTo>
                    <a:pt x="615" y="1637"/>
                  </a:lnTo>
                  <a:lnTo>
                    <a:pt x="618" y="1607"/>
                  </a:lnTo>
                  <a:lnTo>
                    <a:pt x="618" y="1579"/>
                  </a:lnTo>
                  <a:lnTo>
                    <a:pt x="618" y="1568"/>
                  </a:lnTo>
                  <a:lnTo>
                    <a:pt x="618" y="1557"/>
                  </a:lnTo>
                  <a:lnTo>
                    <a:pt x="617" y="1550"/>
                  </a:lnTo>
                  <a:lnTo>
                    <a:pt x="615" y="1544"/>
                  </a:lnTo>
                  <a:lnTo>
                    <a:pt x="614" y="1541"/>
                  </a:lnTo>
                  <a:lnTo>
                    <a:pt x="613" y="1540"/>
                  </a:lnTo>
                  <a:lnTo>
                    <a:pt x="610" y="1539"/>
                  </a:lnTo>
                  <a:lnTo>
                    <a:pt x="609" y="1539"/>
                  </a:lnTo>
                  <a:lnTo>
                    <a:pt x="605" y="1540"/>
                  </a:lnTo>
                  <a:lnTo>
                    <a:pt x="601" y="1545"/>
                  </a:lnTo>
                  <a:lnTo>
                    <a:pt x="594" y="1552"/>
                  </a:lnTo>
                  <a:lnTo>
                    <a:pt x="589" y="1560"/>
                  </a:lnTo>
                  <a:lnTo>
                    <a:pt x="585" y="1568"/>
                  </a:lnTo>
                  <a:lnTo>
                    <a:pt x="582" y="1576"/>
                  </a:lnTo>
                  <a:lnTo>
                    <a:pt x="577" y="1592"/>
                  </a:lnTo>
                  <a:lnTo>
                    <a:pt x="572" y="1607"/>
                  </a:lnTo>
                  <a:lnTo>
                    <a:pt x="571" y="1614"/>
                  </a:lnTo>
                  <a:lnTo>
                    <a:pt x="569" y="1620"/>
                  </a:lnTo>
                  <a:lnTo>
                    <a:pt x="565" y="1626"/>
                  </a:lnTo>
                  <a:lnTo>
                    <a:pt x="561" y="1632"/>
                  </a:lnTo>
                  <a:lnTo>
                    <a:pt x="557" y="1636"/>
                  </a:lnTo>
                  <a:lnTo>
                    <a:pt x="553" y="1641"/>
                  </a:lnTo>
                  <a:lnTo>
                    <a:pt x="545" y="1643"/>
                  </a:lnTo>
                  <a:lnTo>
                    <a:pt x="538" y="1646"/>
                  </a:lnTo>
                  <a:lnTo>
                    <a:pt x="525" y="1643"/>
                  </a:lnTo>
                  <a:lnTo>
                    <a:pt x="494" y="1635"/>
                  </a:lnTo>
                  <a:lnTo>
                    <a:pt x="471" y="1626"/>
                  </a:lnTo>
                  <a:lnTo>
                    <a:pt x="448" y="1615"/>
                  </a:lnTo>
                  <a:lnTo>
                    <a:pt x="434" y="1608"/>
                  </a:lnTo>
                  <a:lnTo>
                    <a:pt x="422" y="1599"/>
                  </a:lnTo>
                  <a:lnTo>
                    <a:pt x="409" y="1589"/>
                  </a:lnTo>
                  <a:lnTo>
                    <a:pt x="395" y="1578"/>
                  </a:lnTo>
                  <a:lnTo>
                    <a:pt x="382" y="1566"/>
                  </a:lnTo>
                  <a:lnTo>
                    <a:pt x="368" y="1551"/>
                  </a:lnTo>
                  <a:lnTo>
                    <a:pt x="356" y="1536"/>
                  </a:lnTo>
                  <a:lnTo>
                    <a:pt x="342" y="1519"/>
                  </a:lnTo>
                  <a:lnTo>
                    <a:pt x="330" y="1501"/>
                  </a:lnTo>
                  <a:lnTo>
                    <a:pt x="318" y="1481"/>
                  </a:lnTo>
                  <a:lnTo>
                    <a:pt x="307" y="1459"/>
                  </a:lnTo>
                  <a:lnTo>
                    <a:pt x="295" y="1434"/>
                  </a:lnTo>
                  <a:lnTo>
                    <a:pt x="286" y="1408"/>
                  </a:lnTo>
                  <a:lnTo>
                    <a:pt x="277" y="1381"/>
                  </a:lnTo>
                  <a:lnTo>
                    <a:pt x="268" y="1351"/>
                  </a:lnTo>
                  <a:lnTo>
                    <a:pt x="262" y="1319"/>
                  </a:lnTo>
                  <a:lnTo>
                    <a:pt x="256" y="1284"/>
                  </a:lnTo>
                  <a:lnTo>
                    <a:pt x="251" y="1249"/>
                  </a:lnTo>
                  <a:lnTo>
                    <a:pt x="249" y="1209"/>
                  </a:lnTo>
                  <a:lnTo>
                    <a:pt x="246" y="1167"/>
                  </a:lnTo>
                  <a:lnTo>
                    <a:pt x="246" y="1144"/>
                  </a:lnTo>
                  <a:lnTo>
                    <a:pt x="243" y="1121"/>
                  </a:lnTo>
                  <a:lnTo>
                    <a:pt x="238" y="1099"/>
                  </a:lnTo>
                  <a:lnTo>
                    <a:pt x="231" y="1078"/>
                  </a:lnTo>
                  <a:lnTo>
                    <a:pt x="224" y="1059"/>
                  </a:lnTo>
                  <a:lnTo>
                    <a:pt x="215" y="1042"/>
                  </a:lnTo>
                  <a:lnTo>
                    <a:pt x="206" y="1027"/>
                  </a:lnTo>
                  <a:lnTo>
                    <a:pt x="196" y="1015"/>
                  </a:lnTo>
                  <a:lnTo>
                    <a:pt x="190" y="1009"/>
                  </a:lnTo>
                  <a:lnTo>
                    <a:pt x="185" y="1005"/>
                  </a:lnTo>
                  <a:lnTo>
                    <a:pt x="179" y="1001"/>
                  </a:lnTo>
                  <a:lnTo>
                    <a:pt x="172" y="999"/>
                  </a:lnTo>
                  <a:lnTo>
                    <a:pt x="167" y="996"/>
                  </a:lnTo>
                  <a:lnTo>
                    <a:pt x="161" y="995"/>
                  </a:lnTo>
                  <a:lnTo>
                    <a:pt x="155" y="995"/>
                  </a:lnTo>
                  <a:lnTo>
                    <a:pt x="149" y="996"/>
                  </a:lnTo>
                  <a:lnTo>
                    <a:pt x="144" y="998"/>
                  </a:lnTo>
                  <a:lnTo>
                    <a:pt x="138" y="1001"/>
                  </a:lnTo>
                  <a:lnTo>
                    <a:pt x="132" y="1005"/>
                  </a:lnTo>
                  <a:lnTo>
                    <a:pt x="127" y="1010"/>
                  </a:lnTo>
                  <a:lnTo>
                    <a:pt x="121" y="1016"/>
                  </a:lnTo>
                  <a:lnTo>
                    <a:pt x="116" y="1024"/>
                  </a:lnTo>
                  <a:lnTo>
                    <a:pt x="111" y="1032"/>
                  </a:lnTo>
                  <a:lnTo>
                    <a:pt x="106" y="1043"/>
                  </a:lnTo>
                  <a:lnTo>
                    <a:pt x="96" y="1058"/>
                  </a:lnTo>
                  <a:lnTo>
                    <a:pt x="86" y="1071"/>
                  </a:lnTo>
                  <a:lnTo>
                    <a:pt x="76" y="1083"/>
                  </a:lnTo>
                  <a:lnTo>
                    <a:pt x="67" y="1091"/>
                  </a:lnTo>
                  <a:lnTo>
                    <a:pt x="58" y="1097"/>
                  </a:lnTo>
                  <a:lnTo>
                    <a:pt x="49" y="1102"/>
                  </a:lnTo>
                  <a:lnTo>
                    <a:pt x="41" y="1106"/>
                  </a:lnTo>
                  <a:lnTo>
                    <a:pt x="33" y="1108"/>
                  </a:lnTo>
                  <a:lnTo>
                    <a:pt x="20" y="1111"/>
                  </a:lnTo>
                  <a:lnTo>
                    <a:pt x="9" y="1111"/>
                  </a:lnTo>
                  <a:lnTo>
                    <a:pt x="1" y="1108"/>
                  </a:lnTo>
                  <a:lnTo>
                    <a:pt x="0" y="1108"/>
                  </a:lnTo>
                  <a:lnTo>
                    <a:pt x="16" y="1055"/>
                  </a:lnTo>
                  <a:lnTo>
                    <a:pt x="31" y="1003"/>
                  </a:lnTo>
                  <a:lnTo>
                    <a:pt x="44" y="951"/>
                  </a:lnTo>
                  <a:lnTo>
                    <a:pt x="57" y="899"/>
                  </a:lnTo>
                  <a:lnTo>
                    <a:pt x="68" y="849"/>
                  </a:lnTo>
                  <a:lnTo>
                    <a:pt x="78" y="797"/>
                  </a:lnTo>
                  <a:lnTo>
                    <a:pt x="88" y="748"/>
                  </a:lnTo>
                  <a:lnTo>
                    <a:pt x="95" y="699"/>
                  </a:lnTo>
                  <a:lnTo>
                    <a:pt x="102" y="651"/>
                  </a:lnTo>
                  <a:lnTo>
                    <a:pt x="108" y="603"/>
                  </a:lnTo>
                  <a:lnTo>
                    <a:pt x="113" y="556"/>
                  </a:lnTo>
                  <a:lnTo>
                    <a:pt x="117" y="512"/>
                  </a:lnTo>
                  <a:lnTo>
                    <a:pt x="123" y="424"/>
                  </a:lnTo>
                  <a:lnTo>
                    <a:pt x="128" y="343"/>
                  </a:lnTo>
                  <a:lnTo>
                    <a:pt x="129" y="270"/>
                  </a:lnTo>
                  <a:lnTo>
                    <a:pt x="129" y="203"/>
                  </a:lnTo>
                  <a:lnTo>
                    <a:pt x="128" y="144"/>
                  </a:lnTo>
                  <a:lnTo>
                    <a:pt x="126" y="94"/>
                  </a:lnTo>
                  <a:lnTo>
                    <a:pt x="122" y="25"/>
                  </a:lnTo>
                  <a:lnTo>
                    <a:pt x="120" y="0"/>
                  </a:lnTo>
                  <a:lnTo>
                    <a:pt x="1289" y="1048"/>
                  </a:lnTo>
                  <a:lnTo>
                    <a:pt x="1282" y="1063"/>
                  </a:lnTo>
                  <a:lnTo>
                    <a:pt x="1260" y="1105"/>
                  </a:lnTo>
                  <a:lnTo>
                    <a:pt x="1228" y="1167"/>
                  </a:lnTo>
                  <a:lnTo>
                    <a:pt x="1190" y="1246"/>
                  </a:lnTo>
                  <a:lnTo>
                    <a:pt x="1169" y="1289"/>
                  </a:lnTo>
                  <a:lnTo>
                    <a:pt x="1148" y="1335"/>
                  </a:lnTo>
                  <a:lnTo>
                    <a:pt x="1127" y="1381"/>
                  </a:lnTo>
                  <a:lnTo>
                    <a:pt x="1106" y="1428"/>
                  </a:lnTo>
                  <a:lnTo>
                    <a:pt x="1088" y="1476"/>
                  </a:lnTo>
                  <a:lnTo>
                    <a:pt x="1069" y="1522"/>
                  </a:lnTo>
                  <a:lnTo>
                    <a:pt x="1053" y="1567"/>
                  </a:lnTo>
                  <a:lnTo>
                    <a:pt x="1040" y="1610"/>
                  </a:lnTo>
                  <a:close/>
                </a:path>
              </a:pathLst>
            </a:custGeom>
            <a:solidFill>
              <a:srgbClr val="5f4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6278400" y="2433600"/>
              <a:ext cx="409680" cy="576360"/>
            </a:xfrm>
            <a:custGeom>
              <a:avLst/>
              <a:gdLst/>
              <a:ahLst/>
              <a:rect l="l" t="t" r="r" b="b"/>
              <a:pathLst>
                <a:path w="1289" h="1812">
                  <a:moveTo>
                    <a:pt x="1051" y="1546"/>
                  </a:moveTo>
                  <a:lnTo>
                    <a:pt x="1039" y="1586"/>
                  </a:lnTo>
                  <a:lnTo>
                    <a:pt x="1027" y="1620"/>
                  </a:lnTo>
                  <a:lnTo>
                    <a:pt x="1015" y="1651"/>
                  </a:lnTo>
                  <a:lnTo>
                    <a:pt x="1003" y="1679"/>
                  </a:lnTo>
                  <a:lnTo>
                    <a:pt x="992" y="1702"/>
                  </a:lnTo>
                  <a:lnTo>
                    <a:pt x="978" y="1722"/>
                  </a:lnTo>
                  <a:lnTo>
                    <a:pt x="966" y="1741"/>
                  </a:lnTo>
                  <a:lnTo>
                    <a:pt x="952" y="1755"/>
                  </a:lnTo>
                  <a:lnTo>
                    <a:pt x="939" y="1768"/>
                  </a:lnTo>
                  <a:lnTo>
                    <a:pt x="923" y="1777"/>
                  </a:lnTo>
                  <a:lnTo>
                    <a:pt x="908" y="1786"/>
                  </a:lnTo>
                  <a:lnTo>
                    <a:pt x="891" y="1793"/>
                  </a:lnTo>
                  <a:lnTo>
                    <a:pt x="872" y="1800"/>
                  </a:lnTo>
                  <a:lnTo>
                    <a:pt x="853" y="1804"/>
                  </a:lnTo>
                  <a:lnTo>
                    <a:pt x="832" y="1808"/>
                  </a:lnTo>
                  <a:lnTo>
                    <a:pt x="810" y="1812"/>
                  </a:lnTo>
                  <a:lnTo>
                    <a:pt x="797" y="1809"/>
                  </a:lnTo>
                  <a:lnTo>
                    <a:pt x="785" y="1806"/>
                  </a:lnTo>
                  <a:lnTo>
                    <a:pt x="773" y="1801"/>
                  </a:lnTo>
                  <a:lnTo>
                    <a:pt x="758" y="1793"/>
                  </a:lnTo>
                  <a:lnTo>
                    <a:pt x="744" y="1785"/>
                  </a:lnTo>
                  <a:lnTo>
                    <a:pt x="730" y="1774"/>
                  </a:lnTo>
                  <a:lnTo>
                    <a:pt x="716" y="1763"/>
                  </a:lnTo>
                  <a:lnTo>
                    <a:pt x="703" y="1750"/>
                  </a:lnTo>
                  <a:lnTo>
                    <a:pt x="689" y="1737"/>
                  </a:lnTo>
                  <a:lnTo>
                    <a:pt x="677" y="1722"/>
                  </a:lnTo>
                  <a:lnTo>
                    <a:pt x="666" y="1706"/>
                  </a:lnTo>
                  <a:lnTo>
                    <a:pt x="657" y="1690"/>
                  </a:lnTo>
                  <a:lnTo>
                    <a:pt x="649" y="1673"/>
                  </a:lnTo>
                  <a:lnTo>
                    <a:pt x="644" y="1656"/>
                  </a:lnTo>
                  <a:lnTo>
                    <a:pt x="641" y="1646"/>
                  </a:lnTo>
                  <a:lnTo>
                    <a:pt x="640" y="1637"/>
                  </a:lnTo>
                  <a:lnTo>
                    <a:pt x="639" y="1629"/>
                  </a:lnTo>
                  <a:lnTo>
                    <a:pt x="637" y="1619"/>
                  </a:lnTo>
                  <a:lnTo>
                    <a:pt x="639" y="1581"/>
                  </a:lnTo>
                  <a:lnTo>
                    <a:pt x="637" y="1544"/>
                  </a:lnTo>
                  <a:lnTo>
                    <a:pt x="637" y="1511"/>
                  </a:lnTo>
                  <a:lnTo>
                    <a:pt x="636" y="1481"/>
                  </a:lnTo>
                  <a:lnTo>
                    <a:pt x="634" y="1469"/>
                  </a:lnTo>
                  <a:lnTo>
                    <a:pt x="633" y="1458"/>
                  </a:lnTo>
                  <a:lnTo>
                    <a:pt x="630" y="1450"/>
                  </a:lnTo>
                  <a:lnTo>
                    <a:pt x="628" y="1444"/>
                  </a:lnTo>
                  <a:lnTo>
                    <a:pt x="626" y="1443"/>
                  </a:lnTo>
                  <a:lnTo>
                    <a:pt x="624" y="1442"/>
                  </a:lnTo>
                  <a:lnTo>
                    <a:pt x="623" y="1440"/>
                  </a:lnTo>
                  <a:lnTo>
                    <a:pt x="620" y="1442"/>
                  </a:lnTo>
                  <a:lnTo>
                    <a:pt x="617" y="1444"/>
                  </a:lnTo>
                  <a:lnTo>
                    <a:pt x="610" y="1450"/>
                  </a:lnTo>
                  <a:lnTo>
                    <a:pt x="605" y="1459"/>
                  </a:lnTo>
                  <a:lnTo>
                    <a:pt x="601" y="1469"/>
                  </a:lnTo>
                  <a:lnTo>
                    <a:pt x="597" y="1477"/>
                  </a:lnTo>
                  <a:lnTo>
                    <a:pt x="593" y="1486"/>
                  </a:lnTo>
                  <a:lnTo>
                    <a:pt x="587" y="1503"/>
                  </a:lnTo>
                  <a:lnTo>
                    <a:pt x="582" y="1520"/>
                  </a:lnTo>
                  <a:lnTo>
                    <a:pt x="580" y="1528"/>
                  </a:lnTo>
                  <a:lnTo>
                    <a:pt x="576" y="1534"/>
                  </a:lnTo>
                  <a:lnTo>
                    <a:pt x="572" y="1540"/>
                  </a:lnTo>
                  <a:lnTo>
                    <a:pt x="569" y="1545"/>
                  </a:lnTo>
                  <a:lnTo>
                    <a:pt x="564" y="1550"/>
                  </a:lnTo>
                  <a:lnTo>
                    <a:pt x="557" y="1554"/>
                  </a:lnTo>
                  <a:lnTo>
                    <a:pt x="551" y="1555"/>
                  </a:lnTo>
                  <a:lnTo>
                    <a:pt x="543" y="1556"/>
                  </a:lnTo>
                  <a:lnTo>
                    <a:pt x="532" y="1555"/>
                  </a:lnTo>
                  <a:lnTo>
                    <a:pt x="502" y="1546"/>
                  </a:lnTo>
                  <a:lnTo>
                    <a:pt x="482" y="1539"/>
                  </a:lnTo>
                  <a:lnTo>
                    <a:pt x="460" y="1526"/>
                  </a:lnTo>
                  <a:lnTo>
                    <a:pt x="448" y="1520"/>
                  </a:lnTo>
                  <a:lnTo>
                    <a:pt x="436" y="1512"/>
                  </a:lnTo>
                  <a:lnTo>
                    <a:pt x="423" y="1502"/>
                  </a:lnTo>
                  <a:lnTo>
                    <a:pt x="411" y="1492"/>
                  </a:lnTo>
                  <a:lnTo>
                    <a:pt x="399" y="1480"/>
                  </a:lnTo>
                  <a:lnTo>
                    <a:pt x="385" y="1467"/>
                  </a:lnTo>
                  <a:lnTo>
                    <a:pt x="373" y="1453"/>
                  </a:lnTo>
                  <a:lnTo>
                    <a:pt x="362" y="1437"/>
                  </a:lnTo>
                  <a:lnTo>
                    <a:pt x="350" y="1419"/>
                  </a:lnTo>
                  <a:lnTo>
                    <a:pt x="338" y="1400"/>
                  </a:lnTo>
                  <a:lnTo>
                    <a:pt x="327" y="1380"/>
                  </a:lnTo>
                  <a:lnTo>
                    <a:pt x="318" y="1357"/>
                  </a:lnTo>
                  <a:lnTo>
                    <a:pt x="308" y="1332"/>
                  </a:lnTo>
                  <a:lnTo>
                    <a:pt x="299" y="1306"/>
                  </a:lnTo>
                  <a:lnTo>
                    <a:pt x="291" y="1278"/>
                  </a:lnTo>
                  <a:lnTo>
                    <a:pt x="284" y="1249"/>
                  </a:lnTo>
                  <a:lnTo>
                    <a:pt x="278" y="1215"/>
                  </a:lnTo>
                  <a:lnTo>
                    <a:pt x="273" y="1181"/>
                  </a:lnTo>
                  <a:lnTo>
                    <a:pt x="271" y="1145"/>
                  </a:lnTo>
                  <a:lnTo>
                    <a:pt x="268" y="1106"/>
                  </a:lnTo>
                  <a:lnTo>
                    <a:pt x="267" y="1084"/>
                  </a:lnTo>
                  <a:lnTo>
                    <a:pt x="263" y="1062"/>
                  </a:lnTo>
                  <a:lnTo>
                    <a:pt x="259" y="1041"/>
                  </a:lnTo>
                  <a:lnTo>
                    <a:pt x="251" y="1019"/>
                  </a:lnTo>
                  <a:lnTo>
                    <a:pt x="243" y="998"/>
                  </a:lnTo>
                  <a:lnTo>
                    <a:pt x="233" y="978"/>
                  </a:lnTo>
                  <a:lnTo>
                    <a:pt x="222" y="961"/>
                  </a:lnTo>
                  <a:lnTo>
                    <a:pt x="209" y="945"/>
                  </a:lnTo>
                  <a:lnTo>
                    <a:pt x="203" y="939"/>
                  </a:lnTo>
                  <a:lnTo>
                    <a:pt x="197" y="934"/>
                  </a:lnTo>
                  <a:lnTo>
                    <a:pt x="191" y="929"/>
                  </a:lnTo>
                  <a:lnTo>
                    <a:pt x="185" y="924"/>
                  </a:lnTo>
                  <a:lnTo>
                    <a:pt x="177" y="921"/>
                  </a:lnTo>
                  <a:lnTo>
                    <a:pt x="171" y="920"/>
                  </a:lnTo>
                  <a:lnTo>
                    <a:pt x="165" y="919"/>
                  </a:lnTo>
                  <a:lnTo>
                    <a:pt x="159" y="919"/>
                  </a:lnTo>
                  <a:lnTo>
                    <a:pt x="153" y="921"/>
                  </a:lnTo>
                  <a:lnTo>
                    <a:pt x="147" y="924"/>
                  </a:lnTo>
                  <a:lnTo>
                    <a:pt x="140" y="927"/>
                  </a:lnTo>
                  <a:lnTo>
                    <a:pt x="134" y="934"/>
                  </a:lnTo>
                  <a:lnTo>
                    <a:pt x="129" y="941"/>
                  </a:lnTo>
                  <a:lnTo>
                    <a:pt x="123" y="950"/>
                  </a:lnTo>
                  <a:lnTo>
                    <a:pt x="118" y="961"/>
                  </a:lnTo>
                  <a:lnTo>
                    <a:pt x="113" y="973"/>
                  </a:lnTo>
                  <a:lnTo>
                    <a:pt x="105" y="991"/>
                  </a:lnTo>
                  <a:lnTo>
                    <a:pt x="96" y="1007"/>
                  </a:lnTo>
                  <a:lnTo>
                    <a:pt x="88" y="1022"/>
                  </a:lnTo>
                  <a:lnTo>
                    <a:pt x="78" y="1037"/>
                  </a:lnTo>
                  <a:lnTo>
                    <a:pt x="68" y="1048"/>
                  </a:lnTo>
                  <a:lnTo>
                    <a:pt x="58" y="1059"/>
                  </a:lnTo>
                  <a:lnTo>
                    <a:pt x="49" y="1069"/>
                  </a:lnTo>
                  <a:lnTo>
                    <a:pt x="41" y="1076"/>
                  </a:lnTo>
                  <a:lnTo>
                    <a:pt x="25" y="1089"/>
                  </a:lnTo>
                  <a:lnTo>
                    <a:pt x="11" y="1097"/>
                  </a:lnTo>
                  <a:lnTo>
                    <a:pt x="3" y="1101"/>
                  </a:lnTo>
                  <a:lnTo>
                    <a:pt x="0" y="1103"/>
                  </a:lnTo>
                  <a:lnTo>
                    <a:pt x="16" y="1050"/>
                  </a:lnTo>
                  <a:lnTo>
                    <a:pt x="31" y="998"/>
                  </a:lnTo>
                  <a:lnTo>
                    <a:pt x="44" y="946"/>
                  </a:lnTo>
                  <a:lnTo>
                    <a:pt x="57" y="894"/>
                  </a:lnTo>
                  <a:lnTo>
                    <a:pt x="68" y="843"/>
                  </a:lnTo>
                  <a:lnTo>
                    <a:pt x="78" y="792"/>
                  </a:lnTo>
                  <a:lnTo>
                    <a:pt x="88" y="743"/>
                  </a:lnTo>
                  <a:lnTo>
                    <a:pt x="95" y="694"/>
                  </a:lnTo>
                  <a:lnTo>
                    <a:pt x="102" y="645"/>
                  </a:lnTo>
                  <a:lnTo>
                    <a:pt x="108" y="598"/>
                  </a:lnTo>
                  <a:lnTo>
                    <a:pt x="113" y="552"/>
                  </a:lnTo>
                  <a:lnTo>
                    <a:pt x="117" y="507"/>
                  </a:lnTo>
                  <a:lnTo>
                    <a:pt x="123" y="421"/>
                  </a:lnTo>
                  <a:lnTo>
                    <a:pt x="128" y="341"/>
                  </a:lnTo>
                  <a:lnTo>
                    <a:pt x="129" y="267"/>
                  </a:lnTo>
                  <a:lnTo>
                    <a:pt x="129" y="201"/>
                  </a:lnTo>
                  <a:lnTo>
                    <a:pt x="128" y="143"/>
                  </a:lnTo>
                  <a:lnTo>
                    <a:pt x="126" y="94"/>
                  </a:lnTo>
                  <a:lnTo>
                    <a:pt x="122" y="25"/>
                  </a:lnTo>
                  <a:lnTo>
                    <a:pt x="120" y="0"/>
                  </a:lnTo>
                  <a:lnTo>
                    <a:pt x="1289" y="1043"/>
                  </a:lnTo>
                  <a:lnTo>
                    <a:pt x="1282" y="1055"/>
                  </a:lnTo>
                  <a:lnTo>
                    <a:pt x="1262" y="1090"/>
                  </a:lnTo>
                  <a:lnTo>
                    <a:pt x="1232" y="1143"/>
                  </a:lnTo>
                  <a:lnTo>
                    <a:pt x="1195" y="1210"/>
                  </a:lnTo>
                  <a:lnTo>
                    <a:pt x="1175" y="1249"/>
                  </a:lnTo>
                  <a:lnTo>
                    <a:pt x="1155" y="1289"/>
                  </a:lnTo>
                  <a:lnTo>
                    <a:pt x="1136" y="1331"/>
                  </a:lnTo>
                  <a:lnTo>
                    <a:pt x="1116" y="1373"/>
                  </a:lnTo>
                  <a:lnTo>
                    <a:pt x="1098" y="1417"/>
                  </a:lnTo>
                  <a:lnTo>
                    <a:pt x="1080" y="1460"/>
                  </a:lnTo>
                  <a:lnTo>
                    <a:pt x="1064" y="1503"/>
                  </a:lnTo>
                  <a:lnTo>
                    <a:pt x="1051" y="1546"/>
                  </a:lnTo>
                  <a:close/>
                </a:path>
              </a:pathLst>
            </a:custGeom>
            <a:solidFill>
              <a:srgbClr val="5b4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6278400" y="2435400"/>
              <a:ext cx="409680" cy="550800"/>
            </a:xfrm>
            <a:custGeom>
              <a:avLst/>
              <a:gdLst/>
              <a:ahLst/>
              <a:rect l="l" t="t" r="r" b="b"/>
              <a:pathLst>
                <a:path w="1289" h="1735">
                  <a:moveTo>
                    <a:pt x="1062" y="1483"/>
                  </a:moveTo>
                  <a:lnTo>
                    <a:pt x="1050" y="1522"/>
                  </a:lnTo>
                  <a:lnTo>
                    <a:pt x="1037" y="1557"/>
                  </a:lnTo>
                  <a:lnTo>
                    <a:pt x="1025" y="1587"/>
                  </a:lnTo>
                  <a:lnTo>
                    <a:pt x="1014" y="1615"/>
                  </a:lnTo>
                  <a:lnTo>
                    <a:pt x="1002" y="1638"/>
                  </a:lnTo>
                  <a:lnTo>
                    <a:pt x="988" y="1658"/>
                  </a:lnTo>
                  <a:lnTo>
                    <a:pt x="976" y="1675"/>
                  </a:lnTo>
                  <a:lnTo>
                    <a:pt x="962" y="1688"/>
                  </a:lnTo>
                  <a:lnTo>
                    <a:pt x="947" y="1701"/>
                  </a:lnTo>
                  <a:lnTo>
                    <a:pt x="933" y="1709"/>
                  </a:lnTo>
                  <a:lnTo>
                    <a:pt x="917" y="1717"/>
                  </a:lnTo>
                  <a:lnTo>
                    <a:pt x="901" y="1723"/>
                  </a:lnTo>
                  <a:lnTo>
                    <a:pt x="882" y="1728"/>
                  </a:lnTo>
                  <a:lnTo>
                    <a:pt x="864" y="1730"/>
                  </a:lnTo>
                  <a:lnTo>
                    <a:pt x="844" y="1734"/>
                  </a:lnTo>
                  <a:lnTo>
                    <a:pt x="823" y="1735"/>
                  </a:lnTo>
                  <a:lnTo>
                    <a:pt x="810" y="1733"/>
                  </a:lnTo>
                  <a:lnTo>
                    <a:pt x="797" y="1729"/>
                  </a:lnTo>
                  <a:lnTo>
                    <a:pt x="784" y="1722"/>
                  </a:lnTo>
                  <a:lnTo>
                    <a:pt x="770" y="1714"/>
                  </a:lnTo>
                  <a:lnTo>
                    <a:pt x="756" y="1704"/>
                  </a:lnTo>
                  <a:lnTo>
                    <a:pt x="742" y="1693"/>
                  </a:lnTo>
                  <a:lnTo>
                    <a:pt x="730" y="1681"/>
                  </a:lnTo>
                  <a:lnTo>
                    <a:pt x="717" y="1669"/>
                  </a:lnTo>
                  <a:lnTo>
                    <a:pt x="705" y="1654"/>
                  </a:lnTo>
                  <a:lnTo>
                    <a:pt x="694" y="1639"/>
                  </a:lnTo>
                  <a:lnTo>
                    <a:pt x="684" y="1623"/>
                  </a:lnTo>
                  <a:lnTo>
                    <a:pt x="676" y="1607"/>
                  </a:lnTo>
                  <a:lnTo>
                    <a:pt x="669" y="1590"/>
                  </a:lnTo>
                  <a:lnTo>
                    <a:pt x="665" y="1574"/>
                  </a:lnTo>
                  <a:lnTo>
                    <a:pt x="661" y="1557"/>
                  </a:lnTo>
                  <a:lnTo>
                    <a:pt x="660" y="1539"/>
                  </a:lnTo>
                  <a:lnTo>
                    <a:pt x="660" y="1495"/>
                  </a:lnTo>
                  <a:lnTo>
                    <a:pt x="658" y="1452"/>
                  </a:lnTo>
                  <a:lnTo>
                    <a:pt x="656" y="1415"/>
                  </a:lnTo>
                  <a:lnTo>
                    <a:pt x="652" y="1383"/>
                  </a:lnTo>
                  <a:lnTo>
                    <a:pt x="650" y="1371"/>
                  </a:lnTo>
                  <a:lnTo>
                    <a:pt x="647" y="1361"/>
                  </a:lnTo>
                  <a:lnTo>
                    <a:pt x="644" y="1353"/>
                  </a:lnTo>
                  <a:lnTo>
                    <a:pt x="640" y="1348"/>
                  </a:lnTo>
                  <a:lnTo>
                    <a:pt x="639" y="1346"/>
                  </a:lnTo>
                  <a:lnTo>
                    <a:pt x="636" y="1345"/>
                  </a:lnTo>
                  <a:lnTo>
                    <a:pt x="634" y="1345"/>
                  </a:lnTo>
                  <a:lnTo>
                    <a:pt x="633" y="1346"/>
                  </a:lnTo>
                  <a:lnTo>
                    <a:pt x="628" y="1350"/>
                  </a:lnTo>
                  <a:lnTo>
                    <a:pt x="621" y="1357"/>
                  </a:lnTo>
                  <a:lnTo>
                    <a:pt x="612" y="1377"/>
                  </a:lnTo>
                  <a:lnTo>
                    <a:pt x="604" y="1398"/>
                  </a:lnTo>
                  <a:lnTo>
                    <a:pt x="598" y="1416"/>
                  </a:lnTo>
                  <a:lnTo>
                    <a:pt x="592" y="1434"/>
                  </a:lnTo>
                  <a:lnTo>
                    <a:pt x="588" y="1442"/>
                  </a:lnTo>
                  <a:lnTo>
                    <a:pt x="585" y="1450"/>
                  </a:lnTo>
                  <a:lnTo>
                    <a:pt x="581" y="1456"/>
                  </a:lnTo>
                  <a:lnTo>
                    <a:pt x="576" y="1462"/>
                  </a:lnTo>
                  <a:lnTo>
                    <a:pt x="571" y="1466"/>
                  </a:lnTo>
                  <a:lnTo>
                    <a:pt x="565" y="1469"/>
                  </a:lnTo>
                  <a:lnTo>
                    <a:pt x="559" y="1472"/>
                  </a:lnTo>
                  <a:lnTo>
                    <a:pt x="551" y="1472"/>
                  </a:lnTo>
                  <a:lnTo>
                    <a:pt x="540" y="1471"/>
                  </a:lnTo>
                  <a:lnTo>
                    <a:pt x="513" y="1462"/>
                  </a:lnTo>
                  <a:lnTo>
                    <a:pt x="494" y="1453"/>
                  </a:lnTo>
                  <a:lnTo>
                    <a:pt x="473" y="1442"/>
                  </a:lnTo>
                  <a:lnTo>
                    <a:pt x="462" y="1436"/>
                  </a:lnTo>
                  <a:lnTo>
                    <a:pt x="450" y="1428"/>
                  </a:lnTo>
                  <a:lnTo>
                    <a:pt x="438" y="1419"/>
                  </a:lnTo>
                  <a:lnTo>
                    <a:pt x="427" y="1409"/>
                  </a:lnTo>
                  <a:lnTo>
                    <a:pt x="415" y="1398"/>
                  </a:lnTo>
                  <a:lnTo>
                    <a:pt x="404" y="1386"/>
                  </a:lnTo>
                  <a:lnTo>
                    <a:pt x="391" y="1372"/>
                  </a:lnTo>
                  <a:lnTo>
                    <a:pt x="380" y="1356"/>
                  </a:lnTo>
                  <a:lnTo>
                    <a:pt x="369" y="1340"/>
                  </a:lnTo>
                  <a:lnTo>
                    <a:pt x="358" y="1322"/>
                  </a:lnTo>
                  <a:lnTo>
                    <a:pt x="347" y="1302"/>
                  </a:lnTo>
                  <a:lnTo>
                    <a:pt x="338" y="1281"/>
                  </a:lnTo>
                  <a:lnTo>
                    <a:pt x="329" y="1258"/>
                  </a:lnTo>
                  <a:lnTo>
                    <a:pt x="320" y="1233"/>
                  </a:lnTo>
                  <a:lnTo>
                    <a:pt x="313" y="1206"/>
                  </a:lnTo>
                  <a:lnTo>
                    <a:pt x="307" y="1178"/>
                  </a:lnTo>
                  <a:lnTo>
                    <a:pt x="300" y="1147"/>
                  </a:lnTo>
                  <a:lnTo>
                    <a:pt x="295" y="1114"/>
                  </a:lnTo>
                  <a:lnTo>
                    <a:pt x="293" y="1079"/>
                  </a:lnTo>
                  <a:lnTo>
                    <a:pt x="291" y="1043"/>
                  </a:lnTo>
                  <a:lnTo>
                    <a:pt x="289" y="1024"/>
                  </a:lnTo>
                  <a:lnTo>
                    <a:pt x="286" y="1004"/>
                  </a:lnTo>
                  <a:lnTo>
                    <a:pt x="279" y="982"/>
                  </a:lnTo>
                  <a:lnTo>
                    <a:pt x="271" y="960"/>
                  </a:lnTo>
                  <a:lnTo>
                    <a:pt x="261" y="938"/>
                  </a:lnTo>
                  <a:lnTo>
                    <a:pt x="250" y="916"/>
                  </a:lnTo>
                  <a:lnTo>
                    <a:pt x="238" y="896"/>
                  </a:lnTo>
                  <a:lnTo>
                    <a:pt x="225" y="879"/>
                  </a:lnTo>
                  <a:lnTo>
                    <a:pt x="218" y="870"/>
                  </a:lnTo>
                  <a:lnTo>
                    <a:pt x="211" y="863"/>
                  </a:lnTo>
                  <a:lnTo>
                    <a:pt x="204" y="857"/>
                  </a:lnTo>
                  <a:lnTo>
                    <a:pt x="197" y="852"/>
                  </a:lnTo>
                  <a:lnTo>
                    <a:pt x="191" y="848"/>
                  </a:lnTo>
                  <a:lnTo>
                    <a:pt x="183" y="846"/>
                  </a:lnTo>
                  <a:lnTo>
                    <a:pt x="176" y="843"/>
                  </a:lnTo>
                  <a:lnTo>
                    <a:pt x="170" y="843"/>
                  </a:lnTo>
                  <a:lnTo>
                    <a:pt x="164" y="845"/>
                  </a:lnTo>
                  <a:lnTo>
                    <a:pt x="156" y="847"/>
                  </a:lnTo>
                  <a:lnTo>
                    <a:pt x="150" y="852"/>
                  </a:lnTo>
                  <a:lnTo>
                    <a:pt x="145" y="858"/>
                  </a:lnTo>
                  <a:lnTo>
                    <a:pt x="139" y="865"/>
                  </a:lnTo>
                  <a:lnTo>
                    <a:pt x="134" y="875"/>
                  </a:lnTo>
                  <a:lnTo>
                    <a:pt x="129" y="888"/>
                  </a:lnTo>
                  <a:lnTo>
                    <a:pt x="124" y="901"/>
                  </a:lnTo>
                  <a:lnTo>
                    <a:pt x="116" y="923"/>
                  </a:lnTo>
                  <a:lnTo>
                    <a:pt x="107" y="944"/>
                  </a:lnTo>
                  <a:lnTo>
                    <a:pt x="97" y="963"/>
                  </a:lnTo>
                  <a:lnTo>
                    <a:pt x="88" y="982"/>
                  </a:lnTo>
                  <a:lnTo>
                    <a:pt x="67" y="1016"/>
                  </a:lnTo>
                  <a:lnTo>
                    <a:pt x="47" y="1045"/>
                  </a:lnTo>
                  <a:lnTo>
                    <a:pt x="28" y="1068"/>
                  </a:lnTo>
                  <a:lnTo>
                    <a:pt x="14" y="1086"/>
                  </a:lnTo>
                  <a:lnTo>
                    <a:pt x="4" y="1097"/>
                  </a:lnTo>
                  <a:lnTo>
                    <a:pt x="0" y="1100"/>
                  </a:lnTo>
                  <a:lnTo>
                    <a:pt x="16" y="1047"/>
                  </a:lnTo>
                  <a:lnTo>
                    <a:pt x="31" y="995"/>
                  </a:lnTo>
                  <a:lnTo>
                    <a:pt x="44" y="942"/>
                  </a:lnTo>
                  <a:lnTo>
                    <a:pt x="57" y="890"/>
                  </a:lnTo>
                  <a:lnTo>
                    <a:pt x="68" y="840"/>
                  </a:lnTo>
                  <a:lnTo>
                    <a:pt x="78" y="788"/>
                  </a:lnTo>
                  <a:lnTo>
                    <a:pt x="86" y="739"/>
                  </a:lnTo>
                  <a:lnTo>
                    <a:pt x="94" y="690"/>
                  </a:lnTo>
                  <a:lnTo>
                    <a:pt x="101" y="642"/>
                  </a:lnTo>
                  <a:lnTo>
                    <a:pt x="107" y="595"/>
                  </a:lnTo>
                  <a:lnTo>
                    <a:pt x="112" y="548"/>
                  </a:lnTo>
                  <a:lnTo>
                    <a:pt x="116" y="504"/>
                  </a:lnTo>
                  <a:lnTo>
                    <a:pt x="123" y="418"/>
                  </a:lnTo>
                  <a:lnTo>
                    <a:pt x="127" y="338"/>
                  </a:lnTo>
                  <a:lnTo>
                    <a:pt x="128" y="265"/>
                  </a:lnTo>
                  <a:lnTo>
                    <a:pt x="128" y="199"/>
                  </a:lnTo>
                  <a:lnTo>
                    <a:pt x="127" y="141"/>
                  </a:lnTo>
                  <a:lnTo>
                    <a:pt x="126" y="92"/>
                  </a:lnTo>
                  <a:lnTo>
                    <a:pt x="121" y="24"/>
                  </a:lnTo>
                  <a:lnTo>
                    <a:pt x="120" y="0"/>
                  </a:lnTo>
                  <a:lnTo>
                    <a:pt x="1289" y="1040"/>
                  </a:lnTo>
                  <a:lnTo>
                    <a:pt x="1283" y="1050"/>
                  </a:lnTo>
                  <a:lnTo>
                    <a:pt x="1264" y="1078"/>
                  </a:lnTo>
                  <a:lnTo>
                    <a:pt x="1235" y="1121"/>
                  </a:lnTo>
                  <a:lnTo>
                    <a:pt x="1201" y="1178"/>
                  </a:lnTo>
                  <a:lnTo>
                    <a:pt x="1181" y="1210"/>
                  </a:lnTo>
                  <a:lnTo>
                    <a:pt x="1163" y="1244"/>
                  </a:lnTo>
                  <a:lnTo>
                    <a:pt x="1143" y="1281"/>
                  </a:lnTo>
                  <a:lnTo>
                    <a:pt x="1125" y="1319"/>
                  </a:lnTo>
                  <a:lnTo>
                    <a:pt x="1107" y="1359"/>
                  </a:lnTo>
                  <a:lnTo>
                    <a:pt x="1090" y="1399"/>
                  </a:lnTo>
                  <a:lnTo>
                    <a:pt x="1075" y="1441"/>
                  </a:lnTo>
                  <a:lnTo>
                    <a:pt x="1062" y="1483"/>
                  </a:lnTo>
                  <a:close/>
                </a:path>
              </a:pathLst>
            </a:custGeom>
            <a:solidFill>
              <a:srgbClr val="554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278400" y="2436840"/>
              <a:ext cx="409680" cy="527040"/>
            </a:xfrm>
            <a:custGeom>
              <a:avLst/>
              <a:gdLst/>
              <a:ahLst/>
              <a:rect l="l" t="t" r="r" b="b"/>
              <a:pathLst>
                <a:path w="1289" h="1659">
                  <a:moveTo>
                    <a:pt x="1073" y="1417"/>
                  </a:moveTo>
                  <a:lnTo>
                    <a:pt x="1061" y="1456"/>
                  </a:lnTo>
                  <a:lnTo>
                    <a:pt x="1048" y="1492"/>
                  </a:lnTo>
                  <a:lnTo>
                    <a:pt x="1036" y="1521"/>
                  </a:lnTo>
                  <a:lnTo>
                    <a:pt x="1024" y="1548"/>
                  </a:lnTo>
                  <a:lnTo>
                    <a:pt x="1011" y="1570"/>
                  </a:lnTo>
                  <a:lnTo>
                    <a:pt x="998" y="1589"/>
                  </a:lnTo>
                  <a:lnTo>
                    <a:pt x="984" y="1605"/>
                  </a:lnTo>
                  <a:lnTo>
                    <a:pt x="971" y="1618"/>
                  </a:lnTo>
                  <a:lnTo>
                    <a:pt x="956" y="1629"/>
                  </a:lnTo>
                  <a:lnTo>
                    <a:pt x="941" y="1638"/>
                  </a:lnTo>
                  <a:lnTo>
                    <a:pt x="927" y="1644"/>
                  </a:lnTo>
                  <a:lnTo>
                    <a:pt x="911" y="1649"/>
                  </a:lnTo>
                  <a:lnTo>
                    <a:pt x="893" y="1653"/>
                  </a:lnTo>
                  <a:lnTo>
                    <a:pt x="875" y="1655"/>
                  </a:lnTo>
                  <a:lnTo>
                    <a:pt x="856" y="1658"/>
                  </a:lnTo>
                  <a:lnTo>
                    <a:pt x="837" y="1659"/>
                  </a:lnTo>
                  <a:lnTo>
                    <a:pt x="822" y="1655"/>
                  </a:lnTo>
                  <a:lnTo>
                    <a:pt x="808" y="1649"/>
                  </a:lnTo>
                  <a:lnTo>
                    <a:pt x="795" y="1642"/>
                  </a:lnTo>
                  <a:lnTo>
                    <a:pt x="781" y="1632"/>
                  </a:lnTo>
                  <a:lnTo>
                    <a:pt x="768" y="1622"/>
                  </a:lnTo>
                  <a:lnTo>
                    <a:pt x="756" y="1611"/>
                  </a:lnTo>
                  <a:lnTo>
                    <a:pt x="743" y="1597"/>
                  </a:lnTo>
                  <a:lnTo>
                    <a:pt x="731" y="1584"/>
                  </a:lnTo>
                  <a:lnTo>
                    <a:pt x="721" y="1569"/>
                  </a:lnTo>
                  <a:lnTo>
                    <a:pt x="711" y="1554"/>
                  </a:lnTo>
                  <a:lnTo>
                    <a:pt x="703" y="1540"/>
                  </a:lnTo>
                  <a:lnTo>
                    <a:pt x="695" y="1524"/>
                  </a:lnTo>
                  <a:lnTo>
                    <a:pt x="689" y="1508"/>
                  </a:lnTo>
                  <a:lnTo>
                    <a:pt x="685" y="1492"/>
                  </a:lnTo>
                  <a:lnTo>
                    <a:pt x="683" y="1476"/>
                  </a:lnTo>
                  <a:lnTo>
                    <a:pt x="682" y="1461"/>
                  </a:lnTo>
                  <a:lnTo>
                    <a:pt x="681" y="1408"/>
                  </a:lnTo>
                  <a:lnTo>
                    <a:pt x="678" y="1359"/>
                  </a:lnTo>
                  <a:lnTo>
                    <a:pt x="674" y="1317"/>
                  </a:lnTo>
                  <a:lnTo>
                    <a:pt x="668" y="1284"/>
                  </a:lnTo>
                  <a:lnTo>
                    <a:pt x="666" y="1270"/>
                  </a:lnTo>
                  <a:lnTo>
                    <a:pt x="662" y="1260"/>
                  </a:lnTo>
                  <a:lnTo>
                    <a:pt x="658" y="1252"/>
                  </a:lnTo>
                  <a:lnTo>
                    <a:pt x="653" y="1247"/>
                  </a:lnTo>
                  <a:lnTo>
                    <a:pt x="652" y="1246"/>
                  </a:lnTo>
                  <a:lnTo>
                    <a:pt x="650" y="1246"/>
                  </a:lnTo>
                  <a:lnTo>
                    <a:pt x="647" y="1246"/>
                  </a:lnTo>
                  <a:lnTo>
                    <a:pt x="645" y="1248"/>
                  </a:lnTo>
                  <a:lnTo>
                    <a:pt x="640" y="1253"/>
                  </a:lnTo>
                  <a:lnTo>
                    <a:pt x="635" y="1262"/>
                  </a:lnTo>
                  <a:lnTo>
                    <a:pt x="624" y="1285"/>
                  </a:lnTo>
                  <a:lnTo>
                    <a:pt x="615" y="1306"/>
                  </a:lnTo>
                  <a:lnTo>
                    <a:pt x="608" y="1327"/>
                  </a:lnTo>
                  <a:lnTo>
                    <a:pt x="601" y="1345"/>
                  </a:lnTo>
                  <a:lnTo>
                    <a:pt x="597" y="1354"/>
                  </a:lnTo>
                  <a:lnTo>
                    <a:pt x="593" y="1361"/>
                  </a:lnTo>
                  <a:lnTo>
                    <a:pt x="588" y="1369"/>
                  </a:lnTo>
                  <a:lnTo>
                    <a:pt x="583" y="1374"/>
                  </a:lnTo>
                  <a:lnTo>
                    <a:pt x="578" y="1379"/>
                  </a:lnTo>
                  <a:lnTo>
                    <a:pt x="572" y="1382"/>
                  </a:lnTo>
                  <a:lnTo>
                    <a:pt x="565" y="1383"/>
                  </a:lnTo>
                  <a:lnTo>
                    <a:pt x="556" y="1385"/>
                  </a:lnTo>
                  <a:lnTo>
                    <a:pt x="546" y="1382"/>
                  </a:lnTo>
                  <a:lnTo>
                    <a:pt x="522" y="1375"/>
                  </a:lnTo>
                  <a:lnTo>
                    <a:pt x="505" y="1366"/>
                  </a:lnTo>
                  <a:lnTo>
                    <a:pt x="485" y="1356"/>
                  </a:lnTo>
                  <a:lnTo>
                    <a:pt x="475" y="1349"/>
                  </a:lnTo>
                  <a:lnTo>
                    <a:pt x="464" y="1342"/>
                  </a:lnTo>
                  <a:lnTo>
                    <a:pt x="453" y="1333"/>
                  </a:lnTo>
                  <a:lnTo>
                    <a:pt x="442" y="1323"/>
                  </a:lnTo>
                  <a:lnTo>
                    <a:pt x="432" y="1313"/>
                  </a:lnTo>
                  <a:lnTo>
                    <a:pt x="421" y="1301"/>
                  </a:lnTo>
                  <a:lnTo>
                    <a:pt x="410" y="1287"/>
                  </a:lnTo>
                  <a:lnTo>
                    <a:pt x="399" y="1274"/>
                  </a:lnTo>
                  <a:lnTo>
                    <a:pt x="389" y="1258"/>
                  </a:lnTo>
                  <a:lnTo>
                    <a:pt x="378" y="1241"/>
                  </a:lnTo>
                  <a:lnTo>
                    <a:pt x="368" y="1222"/>
                  </a:lnTo>
                  <a:lnTo>
                    <a:pt x="359" y="1203"/>
                  </a:lnTo>
                  <a:lnTo>
                    <a:pt x="351" y="1180"/>
                  </a:lnTo>
                  <a:lnTo>
                    <a:pt x="342" y="1157"/>
                  </a:lnTo>
                  <a:lnTo>
                    <a:pt x="335" y="1133"/>
                  </a:lnTo>
                  <a:lnTo>
                    <a:pt x="329" y="1105"/>
                  </a:lnTo>
                  <a:lnTo>
                    <a:pt x="323" y="1077"/>
                  </a:lnTo>
                  <a:lnTo>
                    <a:pt x="319" y="1046"/>
                  </a:lnTo>
                  <a:lnTo>
                    <a:pt x="315" y="1014"/>
                  </a:lnTo>
                  <a:lnTo>
                    <a:pt x="311" y="980"/>
                  </a:lnTo>
                  <a:lnTo>
                    <a:pt x="310" y="964"/>
                  </a:lnTo>
                  <a:lnTo>
                    <a:pt x="307" y="944"/>
                  </a:lnTo>
                  <a:lnTo>
                    <a:pt x="299" y="923"/>
                  </a:lnTo>
                  <a:lnTo>
                    <a:pt x="291" y="900"/>
                  </a:lnTo>
                  <a:lnTo>
                    <a:pt x="279" y="875"/>
                  </a:lnTo>
                  <a:lnTo>
                    <a:pt x="267" y="852"/>
                  </a:lnTo>
                  <a:lnTo>
                    <a:pt x="254" y="829"/>
                  </a:lnTo>
                  <a:lnTo>
                    <a:pt x="239" y="808"/>
                  </a:lnTo>
                  <a:lnTo>
                    <a:pt x="231" y="799"/>
                  </a:lnTo>
                  <a:lnTo>
                    <a:pt x="224" y="791"/>
                  </a:lnTo>
                  <a:lnTo>
                    <a:pt x="217" y="783"/>
                  </a:lnTo>
                  <a:lnTo>
                    <a:pt x="209" y="777"/>
                  </a:lnTo>
                  <a:lnTo>
                    <a:pt x="202" y="772"/>
                  </a:lnTo>
                  <a:lnTo>
                    <a:pt x="195" y="768"/>
                  </a:lnTo>
                  <a:lnTo>
                    <a:pt x="187" y="766"/>
                  </a:lnTo>
                  <a:lnTo>
                    <a:pt x="180" y="766"/>
                  </a:lnTo>
                  <a:lnTo>
                    <a:pt x="174" y="766"/>
                  </a:lnTo>
                  <a:lnTo>
                    <a:pt x="166" y="770"/>
                  </a:lnTo>
                  <a:lnTo>
                    <a:pt x="160" y="775"/>
                  </a:lnTo>
                  <a:lnTo>
                    <a:pt x="155" y="781"/>
                  </a:lnTo>
                  <a:lnTo>
                    <a:pt x="149" y="789"/>
                  </a:lnTo>
                  <a:lnTo>
                    <a:pt x="144" y="800"/>
                  </a:lnTo>
                  <a:lnTo>
                    <a:pt x="139" y="814"/>
                  </a:lnTo>
                  <a:lnTo>
                    <a:pt x="136" y="830"/>
                  </a:lnTo>
                  <a:lnTo>
                    <a:pt x="128" y="855"/>
                  </a:lnTo>
                  <a:lnTo>
                    <a:pt x="120" y="879"/>
                  </a:lnTo>
                  <a:lnTo>
                    <a:pt x="110" y="902"/>
                  </a:lnTo>
                  <a:lnTo>
                    <a:pt x="100" y="927"/>
                  </a:lnTo>
                  <a:lnTo>
                    <a:pt x="76" y="971"/>
                  </a:lnTo>
                  <a:lnTo>
                    <a:pt x="54" y="1011"/>
                  </a:lnTo>
                  <a:lnTo>
                    <a:pt x="33" y="1045"/>
                  </a:lnTo>
                  <a:lnTo>
                    <a:pt x="16" y="1071"/>
                  </a:lnTo>
                  <a:lnTo>
                    <a:pt x="4" y="1088"/>
                  </a:lnTo>
                  <a:lnTo>
                    <a:pt x="0" y="1094"/>
                  </a:lnTo>
                  <a:lnTo>
                    <a:pt x="15" y="1040"/>
                  </a:lnTo>
                  <a:lnTo>
                    <a:pt x="30" y="987"/>
                  </a:lnTo>
                  <a:lnTo>
                    <a:pt x="43" y="936"/>
                  </a:lnTo>
                  <a:lnTo>
                    <a:pt x="56" y="884"/>
                  </a:lnTo>
                  <a:lnTo>
                    <a:pt x="67" y="832"/>
                  </a:lnTo>
                  <a:lnTo>
                    <a:pt x="76" y="782"/>
                  </a:lnTo>
                  <a:lnTo>
                    <a:pt x="85" y="733"/>
                  </a:lnTo>
                  <a:lnTo>
                    <a:pt x="94" y="684"/>
                  </a:lnTo>
                  <a:lnTo>
                    <a:pt x="100" y="636"/>
                  </a:lnTo>
                  <a:lnTo>
                    <a:pt x="106" y="589"/>
                  </a:lnTo>
                  <a:lnTo>
                    <a:pt x="111" y="542"/>
                  </a:lnTo>
                  <a:lnTo>
                    <a:pt x="116" y="498"/>
                  </a:lnTo>
                  <a:lnTo>
                    <a:pt x="123" y="413"/>
                  </a:lnTo>
                  <a:lnTo>
                    <a:pt x="127" y="333"/>
                  </a:lnTo>
                  <a:lnTo>
                    <a:pt x="129" y="260"/>
                  </a:lnTo>
                  <a:lnTo>
                    <a:pt x="129" y="195"/>
                  </a:lnTo>
                  <a:lnTo>
                    <a:pt x="129" y="139"/>
                  </a:lnTo>
                  <a:lnTo>
                    <a:pt x="128" y="91"/>
                  </a:lnTo>
                  <a:lnTo>
                    <a:pt x="124" y="23"/>
                  </a:lnTo>
                  <a:lnTo>
                    <a:pt x="122" y="0"/>
                  </a:lnTo>
                  <a:lnTo>
                    <a:pt x="1289" y="1034"/>
                  </a:lnTo>
                  <a:lnTo>
                    <a:pt x="1283" y="1041"/>
                  </a:lnTo>
                  <a:lnTo>
                    <a:pt x="1266" y="1062"/>
                  </a:lnTo>
                  <a:lnTo>
                    <a:pt x="1239" y="1097"/>
                  </a:lnTo>
                  <a:lnTo>
                    <a:pt x="1207" y="1142"/>
                  </a:lnTo>
                  <a:lnTo>
                    <a:pt x="1190" y="1168"/>
                  </a:lnTo>
                  <a:lnTo>
                    <a:pt x="1171" y="1198"/>
                  </a:lnTo>
                  <a:lnTo>
                    <a:pt x="1153" y="1230"/>
                  </a:lnTo>
                  <a:lnTo>
                    <a:pt x="1136" y="1263"/>
                  </a:lnTo>
                  <a:lnTo>
                    <a:pt x="1118" y="1299"/>
                  </a:lnTo>
                  <a:lnTo>
                    <a:pt x="1101" y="1337"/>
                  </a:lnTo>
                  <a:lnTo>
                    <a:pt x="1087" y="1376"/>
                  </a:lnTo>
                  <a:lnTo>
                    <a:pt x="1073" y="1417"/>
                  </a:lnTo>
                  <a:close/>
                </a:path>
              </a:pathLst>
            </a:custGeom>
            <a:solidFill>
              <a:srgbClr val="504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6278400" y="2436840"/>
              <a:ext cx="409680" cy="503280"/>
            </a:xfrm>
            <a:custGeom>
              <a:avLst/>
              <a:gdLst/>
              <a:ahLst/>
              <a:rect l="l" t="t" r="r" b="b"/>
              <a:pathLst>
                <a:path w="1289" h="1583">
                  <a:moveTo>
                    <a:pt x="1087" y="1356"/>
                  </a:moveTo>
                  <a:lnTo>
                    <a:pt x="1074" y="1395"/>
                  </a:lnTo>
                  <a:lnTo>
                    <a:pt x="1062" y="1429"/>
                  </a:lnTo>
                  <a:lnTo>
                    <a:pt x="1048" y="1459"/>
                  </a:lnTo>
                  <a:lnTo>
                    <a:pt x="1036" y="1485"/>
                  </a:lnTo>
                  <a:lnTo>
                    <a:pt x="1023" y="1507"/>
                  </a:lnTo>
                  <a:lnTo>
                    <a:pt x="1009" y="1525"/>
                  </a:lnTo>
                  <a:lnTo>
                    <a:pt x="994" y="1540"/>
                  </a:lnTo>
                  <a:lnTo>
                    <a:pt x="981" y="1552"/>
                  </a:lnTo>
                  <a:lnTo>
                    <a:pt x="966" y="1562"/>
                  </a:lnTo>
                  <a:lnTo>
                    <a:pt x="950" y="1570"/>
                  </a:lnTo>
                  <a:lnTo>
                    <a:pt x="935" y="1576"/>
                  </a:lnTo>
                  <a:lnTo>
                    <a:pt x="919" y="1579"/>
                  </a:lnTo>
                  <a:lnTo>
                    <a:pt x="902" y="1582"/>
                  </a:lnTo>
                  <a:lnTo>
                    <a:pt x="886" y="1583"/>
                  </a:lnTo>
                  <a:lnTo>
                    <a:pt x="868" y="1583"/>
                  </a:lnTo>
                  <a:lnTo>
                    <a:pt x="850" y="1583"/>
                  </a:lnTo>
                  <a:lnTo>
                    <a:pt x="834" y="1579"/>
                  </a:lnTo>
                  <a:lnTo>
                    <a:pt x="820" y="1572"/>
                  </a:lnTo>
                  <a:lnTo>
                    <a:pt x="805" y="1565"/>
                  </a:lnTo>
                  <a:lnTo>
                    <a:pt x="792" y="1555"/>
                  </a:lnTo>
                  <a:lnTo>
                    <a:pt x="779" y="1544"/>
                  </a:lnTo>
                  <a:lnTo>
                    <a:pt x="768" y="1530"/>
                  </a:lnTo>
                  <a:lnTo>
                    <a:pt x="757" y="1518"/>
                  </a:lnTo>
                  <a:lnTo>
                    <a:pt x="747" y="1503"/>
                  </a:lnTo>
                  <a:lnTo>
                    <a:pt x="737" y="1488"/>
                  </a:lnTo>
                  <a:lnTo>
                    <a:pt x="730" y="1474"/>
                  </a:lnTo>
                  <a:lnTo>
                    <a:pt x="722" y="1458"/>
                  </a:lnTo>
                  <a:lnTo>
                    <a:pt x="716" y="1442"/>
                  </a:lnTo>
                  <a:lnTo>
                    <a:pt x="712" y="1427"/>
                  </a:lnTo>
                  <a:lnTo>
                    <a:pt x="709" y="1411"/>
                  </a:lnTo>
                  <a:lnTo>
                    <a:pt x="706" y="1396"/>
                  </a:lnTo>
                  <a:lnTo>
                    <a:pt x="706" y="1383"/>
                  </a:lnTo>
                  <a:lnTo>
                    <a:pt x="705" y="1352"/>
                  </a:lnTo>
                  <a:lnTo>
                    <a:pt x="704" y="1322"/>
                  </a:lnTo>
                  <a:lnTo>
                    <a:pt x="703" y="1294"/>
                  </a:lnTo>
                  <a:lnTo>
                    <a:pt x="700" y="1268"/>
                  </a:lnTo>
                  <a:lnTo>
                    <a:pt x="698" y="1245"/>
                  </a:lnTo>
                  <a:lnTo>
                    <a:pt x="694" y="1224"/>
                  </a:lnTo>
                  <a:lnTo>
                    <a:pt x="690" y="1204"/>
                  </a:lnTo>
                  <a:lnTo>
                    <a:pt x="687" y="1188"/>
                  </a:lnTo>
                  <a:lnTo>
                    <a:pt x="682" y="1175"/>
                  </a:lnTo>
                  <a:lnTo>
                    <a:pt x="677" y="1164"/>
                  </a:lnTo>
                  <a:lnTo>
                    <a:pt x="672" y="1156"/>
                  </a:lnTo>
                  <a:lnTo>
                    <a:pt x="667" y="1151"/>
                  </a:lnTo>
                  <a:lnTo>
                    <a:pt x="665" y="1150"/>
                  </a:lnTo>
                  <a:lnTo>
                    <a:pt x="662" y="1150"/>
                  </a:lnTo>
                  <a:lnTo>
                    <a:pt x="660" y="1151"/>
                  </a:lnTo>
                  <a:lnTo>
                    <a:pt x="657" y="1154"/>
                  </a:lnTo>
                  <a:lnTo>
                    <a:pt x="651" y="1160"/>
                  </a:lnTo>
                  <a:lnTo>
                    <a:pt x="646" y="1171"/>
                  </a:lnTo>
                  <a:lnTo>
                    <a:pt x="636" y="1196"/>
                  </a:lnTo>
                  <a:lnTo>
                    <a:pt x="626" y="1220"/>
                  </a:lnTo>
                  <a:lnTo>
                    <a:pt x="619" y="1242"/>
                  </a:lnTo>
                  <a:lnTo>
                    <a:pt x="610" y="1262"/>
                  </a:lnTo>
                  <a:lnTo>
                    <a:pt x="605" y="1271"/>
                  </a:lnTo>
                  <a:lnTo>
                    <a:pt x="601" y="1278"/>
                  </a:lnTo>
                  <a:lnTo>
                    <a:pt x="596" y="1284"/>
                  </a:lnTo>
                  <a:lnTo>
                    <a:pt x="591" y="1290"/>
                  </a:lnTo>
                  <a:lnTo>
                    <a:pt x="585" y="1294"/>
                  </a:lnTo>
                  <a:lnTo>
                    <a:pt x="577" y="1297"/>
                  </a:lnTo>
                  <a:lnTo>
                    <a:pt x="570" y="1299"/>
                  </a:lnTo>
                  <a:lnTo>
                    <a:pt x="562" y="1298"/>
                  </a:lnTo>
                  <a:lnTo>
                    <a:pt x="554" y="1297"/>
                  </a:lnTo>
                  <a:lnTo>
                    <a:pt x="530" y="1288"/>
                  </a:lnTo>
                  <a:lnTo>
                    <a:pt x="514" y="1282"/>
                  </a:lnTo>
                  <a:lnTo>
                    <a:pt x="497" y="1271"/>
                  </a:lnTo>
                  <a:lnTo>
                    <a:pt x="478" y="1257"/>
                  </a:lnTo>
                  <a:lnTo>
                    <a:pt x="458" y="1240"/>
                  </a:lnTo>
                  <a:lnTo>
                    <a:pt x="448" y="1230"/>
                  </a:lnTo>
                  <a:lnTo>
                    <a:pt x="438" y="1219"/>
                  </a:lnTo>
                  <a:lnTo>
                    <a:pt x="428" y="1207"/>
                  </a:lnTo>
                  <a:lnTo>
                    <a:pt x="418" y="1193"/>
                  </a:lnTo>
                  <a:lnTo>
                    <a:pt x="409" y="1178"/>
                  </a:lnTo>
                  <a:lnTo>
                    <a:pt x="399" y="1162"/>
                  </a:lnTo>
                  <a:lnTo>
                    <a:pt x="390" y="1145"/>
                  </a:lnTo>
                  <a:lnTo>
                    <a:pt x="380" y="1127"/>
                  </a:lnTo>
                  <a:lnTo>
                    <a:pt x="373" y="1106"/>
                  </a:lnTo>
                  <a:lnTo>
                    <a:pt x="364" y="1084"/>
                  </a:lnTo>
                  <a:lnTo>
                    <a:pt x="358" y="1060"/>
                  </a:lnTo>
                  <a:lnTo>
                    <a:pt x="351" y="1036"/>
                  </a:lnTo>
                  <a:lnTo>
                    <a:pt x="346" y="1009"/>
                  </a:lnTo>
                  <a:lnTo>
                    <a:pt x="341" y="980"/>
                  </a:lnTo>
                  <a:lnTo>
                    <a:pt x="337" y="950"/>
                  </a:lnTo>
                  <a:lnTo>
                    <a:pt x="334" y="918"/>
                  </a:lnTo>
                  <a:lnTo>
                    <a:pt x="332" y="905"/>
                  </a:lnTo>
                  <a:lnTo>
                    <a:pt x="327" y="887"/>
                  </a:lnTo>
                  <a:lnTo>
                    <a:pt x="320" y="866"/>
                  </a:lnTo>
                  <a:lnTo>
                    <a:pt x="309" y="841"/>
                  </a:lnTo>
                  <a:lnTo>
                    <a:pt x="298" y="816"/>
                  </a:lnTo>
                  <a:lnTo>
                    <a:pt x="283" y="790"/>
                  </a:lnTo>
                  <a:lnTo>
                    <a:pt x="268" y="765"/>
                  </a:lnTo>
                  <a:lnTo>
                    <a:pt x="254" y="742"/>
                  </a:lnTo>
                  <a:lnTo>
                    <a:pt x="245" y="731"/>
                  </a:lnTo>
                  <a:lnTo>
                    <a:pt x="238" y="722"/>
                  </a:lnTo>
                  <a:lnTo>
                    <a:pt x="229" y="714"/>
                  </a:lnTo>
                  <a:lnTo>
                    <a:pt x="222" y="706"/>
                  </a:lnTo>
                  <a:lnTo>
                    <a:pt x="213" y="700"/>
                  </a:lnTo>
                  <a:lnTo>
                    <a:pt x="206" y="695"/>
                  </a:lnTo>
                  <a:lnTo>
                    <a:pt x="198" y="693"/>
                  </a:lnTo>
                  <a:lnTo>
                    <a:pt x="191" y="691"/>
                  </a:lnTo>
                  <a:lnTo>
                    <a:pt x="183" y="693"/>
                  </a:lnTo>
                  <a:lnTo>
                    <a:pt x="176" y="695"/>
                  </a:lnTo>
                  <a:lnTo>
                    <a:pt x="170" y="700"/>
                  </a:lnTo>
                  <a:lnTo>
                    <a:pt x="165" y="707"/>
                  </a:lnTo>
                  <a:lnTo>
                    <a:pt x="159" y="717"/>
                  </a:lnTo>
                  <a:lnTo>
                    <a:pt x="154" y="730"/>
                  </a:lnTo>
                  <a:lnTo>
                    <a:pt x="150" y="746"/>
                  </a:lnTo>
                  <a:lnTo>
                    <a:pt x="147" y="763"/>
                  </a:lnTo>
                  <a:lnTo>
                    <a:pt x="139" y="790"/>
                  </a:lnTo>
                  <a:lnTo>
                    <a:pt x="131" y="818"/>
                  </a:lnTo>
                  <a:lnTo>
                    <a:pt x="121" y="846"/>
                  </a:lnTo>
                  <a:lnTo>
                    <a:pt x="110" y="875"/>
                  </a:lnTo>
                  <a:lnTo>
                    <a:pt x="85" y="929"/>
                  </a:lnTo>
                  <a:lnTo>
                    <a:pt x="60" y="980"/>
                  </a:lnTo>
                  <a:lnTo>
                    <a:pt x="37" y="1025"/>
                  </a:lnTo>
                  <a:lnTo>
                    <a:pt x="17" y="1060"/>
                  </a:lnTo>
                  <a:lnTo>
                    <a:pt x="5" y="1084"/>
                  </a:lnTo>
                  <a:lnTo>
                    <a:pt x="0" y="1092"/>
                  </a:lnTo>
                  <a:lnTo>
                    <a:pt x="15" y="1038"/>
                  </a:lnTo>
                  <a:lnTo>
                    <a:pt x="30" y="985"/>
                  </a:lnTo>
                  <a:lnTo>
                    <a:pt x="43" y="932"/>
                  </a:lnTo>
                  <a:lnTo>
                    <a:pt x="56" y="881"/>
                  </a:lnTo>
                  <a:lnTo>
                    <a:pt x="67" y="830"/>
                  </a:lnTo>
                  <a:lnTo>
                    <a:pt x="76" y="779"/>
                  </a:lnTo>
                  <a:lnTo>
                    <a:pt x="85" y="730"/>
                  </a:lnTo>
                  <a:lnTo>
                    <a:pt x="94" y="680"/>
                  </a:lnTo>
                  <a:lnTo>
                    <a:pt x="100" y="632"/>
                  </a:lnTo>
                  <a:lnTo>
                    <a:pt x="106" y="586"/>
                  </a:lnTo>
                  <a:lnTo>
                    <a:pt x="111" y="540"/>
                  </a:lnTo>
                  <a:lnTo>
                    <a:pt x="116" y="496"/>
                  </a:lnTo>
                  <a:lnTo>
                    <a:pt x="123" y="411"/>
                  </a:lnTo>
                  <a:lnTo>
                    <a:pt x="127" y="332"/>
                  </a:lnTo>
                  <a:lnTo>
                    <a:pt x="129" y="260"/>
                  </a:lnTo>
                  <a:lnTo>
                    <a:pt x="129" y="194"/>
                  </a:lnTo>
                  <a:lnTo>
                    <a:pt x="129" y="138"/>
                  </a:lnTo>
                  <a:lnTo>
                    <a:pt x="128" y="90"/>
                  </a:lnTo>
                  <a:lnTo>
                    <a:pt x="124" y="24"/>
                  </a:lnTo>
                  <a:lnTo>
                    <a:pt x="122" y="0"/>
                  </a:lnTo>
                  <a:lnTo>
                    <a:pt x="1289" y="1032"/>
                  </a:lnTo>
                  <a:lnTo>
                    <a:pt x="1285" y="1037"/>
                  </a:lnTo>
                  <a:lnTo>
                    <a:pt x="1267" y="1052"/>
                  </a:lnTo>
                  <a:lnTo>
                    <a:pt x="1256" y="1062"/>
                  </a:lnTo>
                  <a:lnTo>
                    <a:pt x="1243" y="1075"/>
                  </a:lnTo>
                  <a:lnTo>
                    <a:pt x="1228" y="1091"/>
                  </a:lnTo>
                  <a:lnTo>
                    <a:pt x="1213" y="1110"/>
                  </a:lnTo>
                  <a:lnTo>
                    <a:pt x="1196" y="1132"/>
                  </a:lnTo>
                  <a:lnTo>
                    <a:pt x="1180" y="1155"/>
                  </a:lnTo>
                  <a:lnTo>
                    <a:pt x="1163" y="1182"/>
                  </a:lnTo>
                  <a:lnTo>
                    <a:pt x="1146" y="1210"/>
                  </a:lnTo>
                  <a:lnTo>
                    <a:pt x="1130" y="1242"/>
                  </a:lnTo>
                  <a:lnTo>
                    <a:pt x="1114" y="1277"/>
                  </a:lnTo>
                  <a:lnTo>
                    <a:pt x="1099" y="1315"/>
                  </a:lnTo>
                  <a:lnTo>
                    <a:pt x="1087" y="1356"/>
                  </a:lnTo>
                  <a:close/>
                </a:path>
              </a:pathLst>
            </a:custGeom>
            <a:solidFill>
              <a:srgbClr val="4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6278400" y="2438640"/>
              <a:ext cx="409680" cy="479160"/>
            </a:xfrm>
            <a:custGeom>
              <a:avLst/>
              <a:gdLst/>
              <a:ahLst/>
              <a:rect l="l" t="t" r="r" b="b"/>
              <a:pathLst>
                <a:path w="1289" h="1508">
                  <a:moveTo>
                    <a:pt x="1098" y="1290"/>
                  </a:moveTo>
                  <a:lnTo>
                    <a:pt x="1085" y="1330"/>
                  </a:lnTo>
                  <a:lnTo>
                    <a:pt x="1072" y="1364"/>
                  </a:lnTo>
                  <a:lnTo>
                    <a:pt x="1059" y="1394"/>
                  </a:lnTo>
                  <a:lnTo>
                    <a:pt x="1046" y="1419"/>
                  </a:lnTo>
                  <a:lnTo>
                    <a:pt x="1032" y="1440"/>
                  </a:lnTo>
                  <a:lnTo>
                    <a:pt x="1019" y="1459"/>
                  </a:lnTo>
                  <a:lnTo>
                    <a:pt x="1004" y="1472"/>
                  </a:lnTo>
                  <a:lnTo>
                    <a:pt x="989" y="1485"/>
                  </a:lnTo>
                  <a:lnTo>
                    <a:pt x="975" y="1493"/>
                  </a:lnTo>
                  <a:lnTo>
                    <a:pt x="960" y="1499"/>
                  </a:lnTo>
                  <a:lnTo>
                    <a:pt x="944" y="1504"/>
                  </a:lnTo>
                  <a:lnTo>
                    <a:pt x="929" y="1507"/>
                  </a:lnTo>
                  <a:lnTo>
                    <a:pt x="913" y="1508"/>
                  </a:lnTo>
                  <a:lnTo>
                    <a:pt x="897" y="1507"/>
                  </a:lnTo>
                  <a:lnTo>
                    <a:pt x="880" y="1507"/>
                  </a:lnTo>
                  <a:lnTo>
                    <a:pt x="864" y="1506"/>
                  </a:lnTo>
                  <a:lnTo>
                    <a:pt x="847" y="1499"/>
                  </a:lnTo>
                  <a:lnTo>
                    <a:pt x="831" y="1493"/>
                  </a:lnTo>
                  <a:lnTo>
                    <a:pt x="817" y="1483"/>
                  </a:lnTo>
                  <a:lnTo>
                    <a:pt x="804" y="1474"/>
                  </a:lnTo>
                  <a:lnTo>
                    <a:pt x="791" y="1461"/>
                  </a:lnTo>
                  <a:lnTo>
                    <a:pt x="780" y="1448"/>
                  </a:lnTo>
                  <a:lnTo>
                    <a:pt x="770" y="1434"/>
                  </a:lnTo>
                  <a:lnTo>
                    <a:pt x="760" y="1419"/>
                  </a:lnTo>
                  <a:lnTo>
                    <a:pt x="753" y="1405"/>
                  </a:lnTo>
                  <a:lnTo>
                    <a:pt x="746" y="1389"/>
                  </a:lnTo>
                  <a:lnTo>
                    <a:pt x="741" y="1373"/>
                  </a:lnTo>
                  <a:lnTo>
                    <a:pt x="736" y="1358"/>
                  </a:lnTo>
                  <a:lnTo>
                    <a:pt x="732" y="1342"/>
                  </a:lnTo>
                  <a:lnTo>
                    <a:pt x="730" y="1328"/>
                  </a:lnTo>
                  <a:lnTo>
                    <a:pt x="728" y="1314"/>
                  </a:lnTo>
                  <a:lnTo>
                    <a:pt x="727" y="1301"/>
                  </a:lnTo>
                  <a:lnTo>
                    <a:pt x="727" y="1267"/>
                  </a:lnTo>
                  <a:lnTo>
                    <a:pt x="726" y="1234"/>
                  </a:lnTo>
                  <a:lnTo>
                    <a:pt x="724" y="1203"/>
                  </a:lnTo>
                  <a:lnTo>
                    <a:pt x="720" y="1175"/>
                  </a:lnTo>
                  <a:lnTo>
                    <a:pt x="716" y="1150"/>
                  </a:lnTo>
                  <a:lnTo>
                    <a:pt x="712" y="1127"/>
                  </a:lnTo>
                  <a:lnTo>
                    <a:pt x="708" y="1106"/>
                  </a:lnTo>
                  <a:lnTo>
                    <a:pt x="703" y="1089"/>
                  </a:lnTo>
                  <a:lnTo>
                    <a:pt x="697" y="1075"/>
                  </a:lnTo>
                  <a:lnTo>
                    <a:pt x="692" y="1064"/>
                  </a:lnTo>
                  <a:lnTo>
                    <a:pt x="688" y="1059"/>
                  </a:lnTo>
                  <a:lnTo>
                    <a:pt x="685" y="1057"/>
                  </a:lnTo>
                  <a:lnTo>
                    <a:pt x="683" y="1054"/>
                  </a:lnTo>
                  <a:lnTo>
                    <a:pt x="679" y="1053"/>
                  </a:lnTo>
                  <a:lnTo>
                    <a:pt x="677" y="1052"/>
                  </a:lnTo>
                  <a:lnTo>
                    <a:pt x="673" y="1052"/>
                  </a:lnTo>
                  <a:lnTo>
                    <a:pt x="671" y="1054"/>
                  </a:lnTo>
                  <a:lnTo>
                    <a:pt x="668" y="1055"/>
                  </a:lnTo>
                  <a:lnTo>
                    <a:pt x="662" y="1064"/>
                  </a:lnTo>
                  <a:lnTo>
                    <a:pt x="657" y="1076"/>
                  </a:lnTo>
                  <a:lnTo>
                    <a:pt x="647" y="1103"/>
                  </a:lnTo>
                  <a:lnTo>
                    <a:pt x="639" y="1130"/>
                  </a:lnTo>
                  <a:lnTo>
                    <a:pt x="630" y="1155"/>
                  </a:lnTo>
                  <a:lnTo>
                    <a:pt x="620" y="1176"/>
                  </a:lnTo>
                  <a:lnTo>
                    <a:pt x="615" y="1185"/>
                  </a:lnTo>
                  <a:lnTo>
                    <a:pt x="610" y="1192"/>
                  </a:lnTo>
                  <a:lnTo>
                    <a:pt x="605" y="1199"/>
                  </a:lnTo>
                  <a:lnTo>
                    <a:pt x="599" y="1204"/>
                  </a:lnTo>
                  <a:lnTo>
                    <a:pt x="593" y="1209"/>
                  </a:lnTo>
                  <a:lnTo>
                    <a:pt x="586" y="1212"/>
                  </a:lnTo>
                  <a:lnTo>
                    <a:pt x="578" y="1213"/>
                  </a:lnTo>
                  <a:lnTo>
                    <a:pt x="570" y="1212"/>
                  </a:lnTo>
                  <a:lnTo>
                    <a:pt x="562" y="1210"/>
                  </a:lnTo>
                  <a:lnTo>
                    <a:pt x="540" y="1202"/>
                  </a:lnTo>
                  <a:lnTo>
                    <a:pt x="527" y="1194"/>
                  </a:lnTo>
                  <a:lnTo>
                    <a:pt x="510" y="1185"/>
                  </a:lnTo>
                  <a:lnTo>
                    <a:pt x="492" y="1172"/>
                  </a:lnTo>
                  <a:lnTo>
                    <a:pt x="474" y="1156"/>
                  </a:lnTo>
                  <a:lnTo>
                    <a:pt x="464" y="1146"/>
                  </a:lnTo>
                  <a:lnTo>
                    <a:pt x="455" y="1137"/>
                  </a:lnTo>
                  <a:lnTo>
                    <a:pt x="446" y="1124"/>
                  </a:lnTo>
                  <a:lnTo>
                    <a:pt x="437" y="1112"/>
                  </a:lnTo>
                  <a:lnTo>
                    <a:pt x="427" y="1098"/>
                  </a:lnTo>
                  <a:lnTo>
                    <a:pt x="418" y="1082"/>
                  </a:lnTo>
                  <a:lnTo>
                    <a:pt x="410" y="1066"/>
                  </a:lnTo>
                  <a:lnTo>
                    <a:pt x="401" y="1049"/>
                  </a:lnTo>
                  <a:lnTo>
                    <a:pt x="394" y="1030"/>
                  </a:lnTo>
                  <a:lnTo>
                    <a:pt x="386" y="1010"/>
                  </a:lnTo>
                  <a:lnTo>
                    <a:pt x="379" y="988"/>
                  </a:lnTo>
                  <a:lnTo>
                    <a:pt x="373" y="964"/>
                  </a:lnTo>
                  <a:lnTo>
                    <a:pt x="368" y="940"/>
                  </a:lnTo>
                  <a:lnTo>
                    <a:pt x="363" y="914"/>
                  </a:lnTo>
                  <a:lnTo>
                    <a:pt x="358" y="886"/>
                  </a:lnTo>
                  <a:lnTo>
                    <a:pt x="356" y="856"/>
                  </a:lnTo>
                  <a:lnTo>
                    <a:pt x="353" y="845"/>
                  </a:lnTo>
                  <a:lnTo>
                    <a:pt x="348" y="828"/>
                  </a:lnTo>
                  <a:lnTo>
                    <a:pt x="340" y="807"/>
                  </a:lnTo>
                  <a:lnTo>
                    <a:pt x="329" y="781"/>
                  </a:lnTo>
                  <a:lnTo>
                    <a:pt x="316" y="754"/>
                  </a:lnTo>
                  <a:lnTo>
                    <a:pt x="302" y="726"/>
                  </a:lnTo>
                  <a:lnTo>
                    <a:pt x="286" y="699"/>
                  </a:lnTo>
                  <a:lnTo>
                    <a:pt x="268" y="673"/>
                  </a:lnTo>
                  <a:lnTo>
                    <a:pt x="260" y="661"/>
                  </a:lnTo>
                  <a:lnTo>
                    <a:pt x="251" y="649"/>
                  </a:lnTo>
                  <a:lnTo>
                    <a:pt x="243" y="640"/>
                  </a:lnTo>
                  <a:lnTo>
                    <a:pt x="234" y="632"/>
                  </a:lnTo>
                  <a:lnTo>
                    <a:pt x="225" y="625"/>
                  </a:lnTo>
                  <a:lnTo>
                    <a:pt x="217" y="620"/>
                  </a:lnTo>
                  <a:lnTo>
                    <a:pt x="208" y="616"/>
                  </a:lnTo>
                  <a:lnTo>
                    <a:pt x="201" y="615"/>
                  </a:lnTo>
                  <a:lnTo>
                    <a:pt x="193" y="615"/>
                  </a:lnTo>
                  <a:lnTo>
                    <a:pt x="186" y="618"/>
                  </a:lnTo>
                  <a:lnTo>
                    <a:pt x="180" y="624"/>
                  </a:lnTo>
                  <a:lnTo>
                    <a:pt x="174" y="631"/>
                  </a:lnTo>
                  <a:lnTo>
                    <a:pt x="167" y="642"/>
                  </a:lnTo>
                  <a:lnTo>
                    <a:pt x="163" y="656"/>
                  </a:lnTo>
                  <a:lnTo>
                    <a:pt x="158" y="673"/>
                  </a:lnTo>
                  <a:lnTo>
                    <a:pt x="154" y="693"/>
                  </a:lnTo>
                  <a:lnTo>
                    <a:pt x="149" y="723"/>
                  </a:lnTo>
                  <a:lnTo>
                    <a:pt x="140" y="754"/>
                  </a:lnTo>
                  <a:lnTo>
                    <a:pt x="131" y="787"/>
                  </a:lnTo>
                  <a:lnTo>
                    <a:pt x="120" y="819"/>
                  </a:lnTo>
                  <a:lnTo>
                    <a:pt x="107" y="852"/>
                  </a:lnTo>
                  <a:lnTo>
                    <a:pt x="95" y="886"/>
                  </a:lnTo>
                  <a:lnTo>
                    <a:pt x="81" y="918"/>
                  </a:lnTo>
                  <a:lnTo>
                    <a:pt x="68" y="948"/>
                  </a:lnTo>
                  <a:lnTo>
                    <a:pt x="42" y="1003"/>
                  </a:lnTo>
                  <a:lnTo>
                    <a:pt x="20" y="1047"/>
                  </a:lnTo>
                  <a:lnTo>
                    <a:pt x="5" y="1076"/>
                  </a:lnTo>
                  <a:lnTo>
                    <a:pt x="0" y="1087"/>
                  </a:lnTo>
                  <a:lnTo>
                    <a:pt x="15" y="1033"/>
                  </a:lnTo>
                  <a:lnTo>
                    <a:pt x="30" y="980"/>
                  </a:lnTo>
                  <a:lnTo>
                    <a:pt x="43" y="927"/>
                  </a:lnTo>
                  <a:lnTo>
                    <a:pt x="54" y="876"/>
                  </a:lnTo>
                  <a:lnTo>
                    <a:pt x="65" y="824"/>
                  </a:lnTo>
                  <a:lnTo>
                    <a:pt x="75" y="774"/>
                  </a:lnTo>
                  <a:lnTo>
                    <a:pt x="84" y="725"/>
                  </a:lnTo>
                  <a:lnTo>
                    <a:pt x="92" y="675"/>
                  </a:lnTo>
                  <a:lnTo>
                    <a:pt x="99" y="627"/>
                  </a:lnTo>
                  <a:lnTo>
                    <a:pt x="105" y="581"/>
                  </a:lnTo>
                  <a:lnTo>
                    <a:pt x="110" y="535"/>
                  </a:lnTo>
                  <a:lnTo>
                    <a:pt x="115" y="491"/>
                  </a:lnTo>
                  <a:lnTo>
                    <a:pt x="122" y="407"/>
                  </a:lnTo>
                  <a:lnTo>
                    <a:pt x="126" y="328"/>
                  </a:lnTo>
                  <a:lnTo>
                    <a:pt x="128" y="257"/>
                  </a:lnTo>
                  <a:lnTo>
                    <a:pt x="129" y="193"/>
                  </a:lnTo>
                  <a:lnTo>
                    <a:pt x="128" y="137"/>
                  </a:lnTo>
                  <a:lnTo>
                    <a:pt x="127" y="90"/>
                  </a:lnTo>
                  <a:lnTo>
                    <a:pt x="123" y="23"/>
                  </a:lnTo>
                  <a:lnTo>
                    <a:pt x="122" y="0"/>
                  </a:lnTo>
                  <a:lnTo>
                    <a:pt x="1289" y="1027"/>
                  </a:lnTo>
                  <a:lnTo>
                    <a:pt x="1285" y="1030"/>
                  </a:lnTo>
                  <a:lnTo>
                    <a:pt x="1269" y="1037"/>
                  </a:lnTo>
                  <a:lnTo>
                    <a:pt x="1259" y="1043"/>
                  </a:lnTo>
                  <a:lnTo>
                    <a:pt x="1246" y="1052"/>
                  </a:lnTo>
                  <a:lnTo>
                    <a:pt x="1233" y="1063"/>
                  </a:lnTo>
                  <a:lnTo>
                    <a:pt x="1218" y="1075"/>
                  </a:lnTo>
                  <a:lnTo>
                    <a:pt x="1202" y="1091"/>
                  </a:lnTo>
                  <a:lnTo>
                    <a:pt x="1187" y="1110"/>
                  </a:lnTo>
                  <a:lnTo>
                    <a:pt x="1171" y="1130"/>
                  </a:lnTo>
                  <a:lnTo>
                    <a:pt x="1155" y="1155"/>
                  </a:lnTo>
                  <a:lnTo>
                    <a:pt x="1139" y="1183"/>
                  </a:lnTo>
                  <a:lnTo>
                    <a:pt x="1125" y="1215"/>
                  </a:lnTo>
                  <a:lnTo>
                    <a:pt x="1117" y="1233"/>
                  </a:lnTo>
                  <a:lnTo>
                    <a:pt x="1110" y="1251"/>
                  </a:lnTo>
                  <a:lnTo>
                    <a:pt x="1104" y="1271"/>
                  </a:lnTo>
                  <a:lnTo>
                    <a:pt x="1098" y="1290"/>
                  </a:lnTo>
                  <a:close/>
                </a:path>
              </a:pathLst>
            </a:custGeom>
            <a:solidFill>
              <a:srgbClr val="493a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6278400" y="2440080"/>
              <a:ext cx="409680" cy="455760"/>
            </a:xfrm>
            <a:custGeom>
              <a:avLst/>
              <a:gdLst/>
              <a:ahLst/>
              <a:rect l="l" t="t" r="r" b="b"/>
              <a:pathLst>
                <a:path w="1289" h="1437">
                  <a:moveTo>
                    <a:pt x="1109" y="1228"/>
                  </a:moveTo>
                  <a:lnTo>
                    <a:pt x="1095" y="1266"/>
                  </a:lnTo>
                  <a:lnTo>
                    <a:pt x="1083" y="1301"/>
                  </a:lnTo>
                  <a:lnTo>
                    <a:pt x="1069" y="1330"/>
                  </a:lnTo>
                  <a:lnTo>
                    <a:pt x="1056" y="1355"/>
                  </a:lnTo>
                  <a:lnTo>
                    <a:pt x="1042" y="1376"/>
                  </a:lnTo>
                  <a:lnTo>
                    <a:pt x="1027" y="1393"/>
                  </a:lnTo>
                  <a:lnTo>
                    <a:pt x="1020" y="1400"/>
                  </a:lnTo>
                  <a:lnTo>
                    <a:pt x="1014" y="1408"/>
                  </a:lnTo>
                  <a:lnTo>
                    <a:pt x="1007" y="1413"/>
                  </a:lnTo>
                  <a:lnTo>
                    <a:pt x="999" y="1418"/>
                  </a:lnTo>
                  <a:lnTo>
                    <a:pt x="984" y="1426"/>
                  </a:lnTo>
                  <a:lnTo>
                    <a:pt x="968" y="1431"/>
                  </a:lnTo>
                  <a:lnTo>
                    <a:pt x="954" y="1435"/>
                  </a:lnTo>
                  <a:lnTo>
                    <a:pt x="939" y="1436"/>
                  </a:lnTo>
                  <a:lnTo>
                    <a:pt x="923" y="1437"/>
                  </a:lnTo>
                  <a:lnTo>
                    <a:pt x="908" y="1436"/>
                  </a:lnTo>
                  <a:lnTo>
                    <a:pt x="892" y="1434"/>
                  </a:lnTo>
                  <a:lnTo>
                    <a:pt x="877" y="1431"/>
                  </a:lnTo>
                  <a:lnTo>
                    <a:pt x="868" y="1429"/>
                  </a:lnTo>
                  <a:lnTo>
                    <a:pt x="859" y="1425"/>
                  </a:lnTo>
                  <a:lnTo>
                    <a:pt x="850" y="1421"/>
                  </a:lnTo>
                  <a:lnTo>
                    <a:pt x="842" y="1416"/>
                  </a:lnTo>
                  <a:lnTo>
                    <a:pt x="827" y="1407"/>
                  </a:lnTo>
                  <a:lnTo>
                    <a:pt x="813" y="1396"/>
                  </a:lnTo>
                  <a:lnTo>
                    <a:pt x="802" y="1382"/>
                  </a:lnTo>
                  <a:lnTo>
                    <a:pt x="791" y="1369"/>
                  </a:lnTo>
                  <a:lnTo>
                    <a:pt x="783" y="1354"/>
                  </a:lnTo>
                  <a:lnTo>
                    <a:pt x="774" y="1339"/>
                  </a:lnTo>
                  <a:lnTo>
                    <a:pt x="768" y="1323"/>
                  </a:lnTo>
                  <a:lnTo>
                    <a:pt x="763" y="1307"/>
                  </a:lnTo>
                  <a:lnTo>
                    <a:pt x="758" y="1291"/>
                  </a:lnTo>
                  <a:lnTo>
                    <a:pt x="754" y="1276"/>
                  </a:lnTo>
                  <a:lnTo>
                    <a:pt x="751" y="1248"/>
                  </a:lnTo>
                  <a:lnTo>
                    <a:pt x="749" y="1225"/>
                  </a:lnTo>
                  <a:lnTo>
                    <a:pt x="749" y="1186"/>
                  </a:lnTo>
                  <a:lnTo>
                    <a:pt x="747" y="1150"/>
                  </a:lnTo>
                  <a:lnTo>
                    <a:pt x="744" y="1116"/>
                  </a:lnTo>
                  <a:lnTo>
                    <a:pt x="741" y="1084"/>
                  </a:lnTo>
                  <a:lnTo>
                    <a:pt x="737" y="1057"/>
                  </a:lnTo>
                  <a:lnTo>
                    <a:pt x="732" y="1031"/>
                  </a:lnTo>
                  <a:lnTo>
                    <a:pt x="726" y="1011"/>
                  </a:lnTo>
                  <a:lnTo>
                    <a:pt x="720" y="992"/>
                  </a:lnTo>
                  <a:lnTo>
                    <a:pt x="714" y="977"/>
                  </a:lnTo>
                  <a:lnTo>
                    <a:pt x="708" y="966"/>
                  </a:lnTo>
                  <a:lnTo>
                    <a:pt x="704" y="963"/>
                  </a:lnTo>
                  <a:lnTo>
                    <a:pt x="701" y="959"/>
                  </a:lnTo>
                  <a:lnTo>
                    <a:pt x="698" y="956"/>
                  </a:lnTo>
                  <a:lnTo>
                    <a:pt x="694" y="955"/>
                  </a:lnTo>
                  <a:lnTo>
                    <a:pt x="692" y="955"/>
                  </a:lnTo>
                  <a:lnTo>
                    <a:pt x="688" y="956"/>
                  </a:lnTo>
                  <a:lnTo>
                    <a:pt x="685" y="958"/>
                  </a:lnTo>
                  <a:lnTo>
                    <a:pt x="682" y="960"/>
                  </a:lnTo>
                  <a:lnTo>
                    <a:pt x="676" y="970"/>
                  </a:lnTo>
                  <a:lnTo>
                    <a:pt x="671" y="984"/>
                  </a:lnTo>
                  <a:lnTo>
                    <a:pt x="661" y="1014"/>
                  </a:lnTo>
                  <a:lnTo>
                    <a:pt x="651" y="1043"/>
                  </a:lnTo>
                  <a:lnTo>
                    <a:pt x="641" y="1068"/>
                  </a:lnTo>
                  <a:lnTo>
                    <a:pt x="630" y="1091"/>
                  </a:lnTo>
                  <a:lnTo>
                    <a:pt x="625" y="1100"/>
                  </a:lnTo>
                  <a:lnTo>
                    <a:pt x="619" y="1109"/>
                  </a:lnTo>
                  <a:lnTo>
                    <a:pt x="613" y="1115"/>
                  </a:lnTo>
                  <a:lnTo>
                    <a:pt x="605" y="1121"/>
                  </a:lnTo>
                  <a:lnTo>
                    <a:pt x="599" y="1125"/>
                  </a:lnTo>
                  <a:lnTo>
                    <a:pt x="592" y="1127"/>
                  </a:lnTo>
                  <a:lnTo>
                    <a:pt x="583" y="1129"/>
                  </a:lnTo>
                  <a:lnTo>
                    <a:pt x="576" y="1127"/>
                  </a:lnTo>
                  <a:lnTo>
                    <a:pt x="569" y="1125"/>
                  </a:lnTo>
                  <a:lnTo>
                    <a:pt x="550" y="1118"/>
                  </a:lnTo>
                  <a:lnTo>
                    <a:pt x="537" y="1110"/>
                  </a:lnTo>
                  <a:lnTo>
                    <a:pt x="522" y="1102"/>
                  </a:lnTo>
                  <a:lnTo>
                    <a:pt x="506" y="1089"/>
                  </a:lnTo>
                  <a:lnTo>
                    <a:pt x="490" y="1073"/>
                  </a:lnTo>
                  <a:lnTo>
                    <a:pt x="481" y="1065"/>
                  </a:lnTo>
                  <a:lnTo>
                    <a:pt x="473" y="1055"/>
                  </a:lnTo>
                  <a:lnTo>
                    <a:pt x="464" y="1044"/>
                  </a:lnTo>
                  <a:lnTo>
                    <a:pt x="455" y="1031"/>
                  </a:lnTo>
                  <a:lnTo>
                    <a:pt x="447" y="1018"/>
                  </a:lnTo>
                  <a:lnTo>
                    <a:pt x="439" y="1004"/>
                  </a:lnTo>
                  <a:lnTo>
                    <a:pt x="431" y="988"/>
                  </a:lnTo>
                  <a:lnTo>
                    <a:pt x="423" y="972"/>
                  </a:lnTo>
                  <a:lnTo>
                    <a:pt x="416" y="955"/>
                  </a:lnTo>
                  <a:lnTo>
                    <a:pt x="409" y="936"/>
                  </a:lnTo>
                  <a:lnTo>
                    <a:pt x="402" y="916"/>
                  </a:lnTo>
                  <a:lnTo>
                    <a:pt x="396" y="894"/>
                  </a:lnTo>
                  <a:lnTo>
                    <a:pt x="390" y="872"/>
                  </a:lnTo>
                  <a:lnTo>
                    <a:pt x="385" y="847"/>
                  </a:lnTo>
                  <a:lnTo>
                    <a:pt x="380" y="821"/>
                  </a:lnTo>
                  <a:lnTo>
                    <a:pt x="377" y="793"/>
                  </a:lnTo>
                  <a:lnTo>
                    <a:pt x="375" y="785"/>
                  </a:lnTo>
                  <a:lnTo>
                    <a:pt x="369" y="771"/>
                  </a:lnTo>
                  <a:lnTo>
                    <a:pt x="361" y="750"/>
                  </a:lnTo>
                  <a:lnTo>
                    <a:pt x="348" y="724"/>
                  </a:lnTo>
                  <a:lnTo>
                    <a:pt x="334" y="694"/>
                  </a:lnTo>
                  <a:lnTo>
                    <a:pt x="318" y="665"/>
                  </a:lnTo>
                  <a:lnTo>
                    <a:pt x="300" y="634"/>
                  </a:lnTo>
                  <a:lnTo>
                    <a:pt x="282" y="606"/>
                  </a:lnTo>
                  <a:lnTo>
                    <a:pt x="273" y="592"/>
                  </a:lnTo>
                  <a:lnTo>
                    <a:pt x="263" y="581"/>
                  </a:lnTo>
                  <a:lnTo>
                    <a:pt x="255" y="570"/>
                  </a:lnTo>
                  <a:lnTo>
                    <a:pt x="245" y="560"/>
                  </a:lnTo>
                  <a:lnTo>
                    <a:pt x="236" y="552"/>
                  </a:lnTo>
                  <a:lnTo>
                    <a:pt x="228" y="546"/>
                  </a:lnTo>
                  <a:lnTo>
                    <a:pt x="219" y="542"/>
                  </a:lnTo>
                  <a:lnTo>
                    <a:pt x="211" y="539"/>
                  </a:lnTo>
                  <a:lnTo>
                    <a:pt x="203" y="541"/>
                  </a:lnTo>
                  <a:lnTo>
                    <a:pt x="196" y="543"/>
                  </a:lnTo>
                  <a:lnTo>
                    <a:pt x="190" y="548"/>
                  </a:lnTo>
                  <a:lnTo>
                    <a:pt x="183" y="557"/>
                  </a:lnTo>
                  <a:lnTo>
                    <a:pt x="177" y="569"/>
                  </a:lnTo>
                  <a:lnTo>
                    <a:pt x="172" y="584"/>
                  </a:lnTo>
                  <a:lnTo>
                    <a:pt x="169" y="602"/>
                  </a:lnTo>
                  <a:lnTo>
                    <a:pt x="165" y="624"/>
                  </a:lnTo>
                  <a:lnTo>
                    <a:pt x="160" y="658"/>
                  </a:lnTo>
                  <a:lnTo>
                    <a:pt x="151" y="692"/>
                  </a:lnTo>
                  <a:lnTo>
                    <a:pt x="142" y="729"/>
                  </a:lnTo>
                  <a:lnTo>
                    <a:pt x="131" y="766"/>
                  </a:lnTo>
                  <a:lnTo>
                    <a:pt x="117" y="805"/>
                  </a:lnTo>
                  <a:lnTo>
                    <a:pt x="104" y="843"/>
                  </a:lnTo>
                  <a:lnTo>
                    <a:pt x="89" y="880"/>
                  </a:lnTo>
                  <a:lnTo>
                    <a:pt x="74" y="916"/>
                  </a:lnTo>
                  <a:lnTo>
                    <a:pt x="46" y="982"/>
                  </a:lnTo>
                  <a:lnTo>
                    <a:pt x="22" y="1035"/>
                  </a:lnTo>
                  <a:lnTo>
                    <a:pt x="6" y="1071"/>
                  </a:lnTo>
                  <a:lnTo>
                    <a:pt x="0" y="1084"/>
                  </a:lnTo>
                  <a:lnTo>
                    <a:pt x="15" y="1030"/>
                  </a:lnTo>
                  <a:lnTo>
                    <a:pt x="30" y="977"/>
                  </a:lnTo>
                  <a:lnTo>
                    <a:pt x="42" y="924"/>
                  </a:lnTo>
                  <a:lnTo>
                    <a:pt x="54" y="872"/>
                  </a:lnTo>
                  <a:lnTo>
                    <a:pt x="64" y="821"/>
                  </a:lnTo>
                  <a:lnTo>
                    <a:pt x="74" y="769"/>
                  </a:lnTo>
                  <a:lnTo>
                    <a:pt x="83" y="720"/>
                  </a:lnTo>
                  <a:lnTo>
                    <a:pt x="91" y="671"/>
                  </a:lnTo>
                  <a:lnTo>
                    <a:pt x="97" y="624"/>
                  </a:lnTo>
                  <a:lnTo>
                    <a:pt x="104" y="578"/>
                  </a:lnTo>
                  <a:lnTo>
                    <a:pt x="108" y="532"/>
                  </a:lnTo>
                  <a:lnTo>
                    <a:pt x="113" y="488"/>
                  </a:lnTo>
                  <a:lnTo>
                    <a:pt x="121" y="404"/>
                  </a:lnTo>
                  <a:lnTo>
                    <a:pt x="124" y="325"/>
                  </a:lnTo>
                  <a:lnTo>
                    <a:pt x="127" y="255"/>
                  </a:lnTo>
                  <a:lnTo>
                    <a:pt x="128" y="191"/>
                  </a:lnTo>
                  <a:lnTo>
                    <a:pt x="128" y="135"/>
                  </a:lnTo>
                  <a:lnTo>
                    <a:pt x="127" y="88"/>
                  </a:lnTo>
                  <a:lnTo>
                    <a:pt x="123" y="23"/>
                  </a:lnTo>
                  <a:lnTo>
                    <a:pt x="122" y="0"/>
                  </a:lnTo>
                  <a:lnTo>
                    <a:pt x="1289" y="1024"/>
                  </a:lnTo>
                  <a:lnTo>
                    <a:pt x="1285" y="1024"/>
                  </a:lnTo>
                  <a:lnTo>
                    <a:pt x="1271" y="1024"/>
                  </a:lnTo>
                  <a:lnTo>
                    <a:pt x="1261" y="1027"/>
                  </a:lnTo>
                  <a:lnTo>
                    <a:pt x="1250" y="1030"/>
                  </a:lnTo>
                  <a:lnTo>
                    <a:pt x="1238" y="1035"/>
                  </a:lnTo>
                  <a:lnTo>
                    <a:pt x="1224" y="1043"/>
                  </a:lnTo>
                  <a:lnTo>
                    <a:pt x="1211" y="1052"/>
                  </a:lnTo>
                  <a:lnTo>
                    <a:pt x="1196" y="1066"/>
                  </a:lnTo>
                  <a:lnTo>
                    <a:pt x="1180" y="1082"/>
                  </a:lnTo>
                  <a:lnTo>
                    <a:pt x="1165" y="1102"/>
                  </a:lnTo>
                  <a:lnTo>
                    <a:pt x="1158" y="1114"/>
                  </a:lnTo>
                  <a:lnTo>
                    <a:pt x="1150" y="1126"/>
                  </a:lnTo>
                  <a:lnTo>
                    <a:pt x="1143" y="1140"/>
                  </a:lnTo>
                  <a:lnTo>
                    <a:pt x="1136" y="1154"/>
                  </a:lnTo>
                  <a:lnTo>
                    <a:pt x="1128" y="1172"/>
                  </a:lnTo>
                  <a:lnTo>
                    <a:pt x="1121" y="1189"/>
                  </a:lnTo>
                  <a:lnTo>
                    <a:pt x="1115" y="1207"/>
                  </a:lnTo>
                  <a:lnTo>
                    <a:pt x="1109" y="1228"/>
                  </a:lnTo>
                  <a:close/>
                </a:path>
              </a:pathLst>
            </a:custGeom>
            <a:solidFill>
              <a:srgbClr val="463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6278400" y="2441520"/>
              <a:ext cx="409680" cy="433440"/>
            </a:xfrm>
            <a:custGeom>
              <a:avLst/>
              <a:gdLst/>
              <a:ahLst/>
              <a:rect l="l" t="t" r="r" b="b"/>
              <a:pathLst>
                <a:path w="1289" h="1363">
                  <a:moveTo>
                    <a:pt x="0" y="1078"/>
                  </a:moveTo>
                  <a:lnTo>
                    <a:pt x="15" y="1024"/>
                  </a:lnTo>
                  <a:lnTo>
                    <a:pt x="30" y="970"/>
                  </a:lnTo>
                  <a:lnTo>
                    <a:pt x="42" y="917"/>
                  </a:lnTo>
                  <a:lnTo>
                    <a:pt x="54" y="866"/>
                  </a:lnTo>
                  <a:lnTo>
                    <a:pt x="65" y="814"/>
                  </a:lnTo>
                  <a:lnTo>
                    <a:pt x="75" y="763"/>
                  </a:lnTo>
                  <a:lnTo>
                    <a:pt x="84" y="714"/>
                  </a:lnTo>
                  <a:lnTo>
                    <a:pt x="91" y="665"/>
                  </a:lnTo>
                  <a:lnTo>
                    <a:pt x="99" y="617"/>
                  </a:lnTo>
                  <a:lnTo>
                    <a:pt x="105" y="572"/>
                  </a:lnTo>
                  <a:lnTo>
                    <a:pt x="110" y="526"/>
                  </a:lnTo>
                  <a:lnTo>
                    <a:pt x="115" y="482"/>
                  </a:lnTo>
                  <a:lnTo>
                    <a:pt x="122" y="399"/>
                  </a:lnTo>
                  <a:lnTo>
                    <a:pt x="126" y="322"/>
                  </a:lnTo>
                  <a:lnTo>
                    <a:pt x="129" y="251"/>
                  </a:lnTo>
                  <a:lnTo>
                    <a:pt x="131" y="188"/>
                  </a:lnTo>
                  <a:lnTo>
                    <a:pt x="131" y="133"/>
                  </a:lnTo>
                  <a:lnTo>
                    <a:pt x="129" y="87"/>
                  </a:lnTo>
                  <a:lnTo>
                    <a:pt x="126" y="22"/>
                  </a:lnTo>
                  <a:lnTo>
                    <a:pt x="124" y="0"/>
                  </a:lnTo>
                  <a:lnTo>
                    <a:pt x="1289" y="1018"/>
                  </a:lnTo>
                  <a:lnTo>
                    <a:pt x="1286" y="1016"/>
                  </a:lnTo>
                  <a:lnTo>
                    <a:pt x="1274" y="1009"/>
                  </a:lnTo>
                  <a:lnTo>
                    <a:pt x="1264" y="1007"/>
                  </a:lnTo>
                  <a:lnTo>
                    <a:pt x="1254" y="1005"/>
                  </a:lnTo>
                  <a:lnTo>
                    <a:pt x="1243" y="1005"/>
                  </a:lnTo>
                  <a:lnTo>
                    <a:pt x="1230" y="1007"/>
                  </a:lnTo>
                  <a:lnTo>
                    <a:pt x="1224" y="1008"/>
                  </a:lnTo>
                  <a:lnTo>
                    <a:pt x="1217" y="1011"/>
                  </a:lnTo>
                  <a:lnTo>
                    <a:pt x="1211" y="1014"/>
                  </a:lnTo>
                  <a:lnTo>
                    <a:pt x="1203" y="1018"/>
                  </a:lnTo>
                  <a:lnTo>
                    <a:pt x="1197" y="1024"/>
                  </a:lnTo>
                  <a:lnTo>
                    <a:pt x="1190" y="1030"/>
                  </a:lnTo>
                  <a:lnTo>
                    <a:pt x="1182" y="1038"/>
                  </a:lnTo>
                  <a:lnTo>
                    <a:pt x="1175" y="1045"/>
                  </a:lnTo>
                  <a:lnTo>
                    <a:pt x="1169" y="1055"/>
                  </a:lnTo>
                  <a:lnTo>
                    <a:pt x="1162" y="1066"/>
                  </a:lnTo>
                  <a:lnTo>
                    <a:pt x="1154" y="1078"/>
                  </a:lnTo>
                  <a:lnTo>
                    <a:pt x="1148" y="1092"/>
                  </a:lnTo>
                  <a:lnTo>
                    <a:pt x="1141" y="1107"/>
                  </a:lnTo>
                  <a:lnTo>
                    <a:pt x="1134" y="1124"/>
                  </a:lnTo>
                  <a:lnTo>
                    <a:pt x="1128" y="1142"/>
                  </a:lnTo>
                  <a:lnTo>
                    <a:pt x="1122" y="1162"/>
                  </a:lnTo>
                  <a:lnTo>
                    <a:pt x="1109" y="1201"/>
                  </a:lnTo>
                  <a:lnTo>
                    <a:pt x="1096" y="1235"/>
                  </a:lnTo>
                  <a:lnTo>
                    <a:pt x="1083" y="1264"/>
                  </a:lnTo>
                  <a:lnTo>
                    <a:pt x="1068" y="1289"/>
                  </a:lnTo>
                  <a:lnTo>
                    <a:pt x="1061" y="1300"/>
                  </a:lnTo>
                  <a:lnTo>
                    <a:pt x="1055" y="1310"/>
                  </a:lnTo>
                  <a:lnTo>
                    <a:pt x="1047" y="1318"/>
                  </a:lnTo>
                  <a:lnTo>
                    <a:pt x="1040" y="1326"/>
                  </a:lnTo>
                  <a:lnTo>
                    <a:pt x="1032" y="1333"/>
                  </a:lnTo>
                  <a:lnTo>
                    <a:pt x="1024" y="1339"/>
                  </a:lnTo>
                  <a:lnTo>
                    <a:pt x="1016" y="1344"/>
                  </a:lnTo>
                  <a:lnTo>
                    <a:pt x="1009" y="1349"/>
                  </a:lnTo>
                  <a:lnTo>
                    <a:pt x="994" y="1356"/>
                  </a:lnTo>
                  <a:lnTo>
                    <a:pt x="978" y="1360"/>
                  </a:lnTo>
                  <a:lnTo>
                    <a:pt x="963" y="1363"/>
                  </a:lnTo>
                  <a:lnTo>
                    <a:pt x="949" y="1363"/>
                  </a:lnTo>
                  <a:lnTo>
                    <a:pt x="934" y="1361"/>
                  </a:lnTo>
                  <a:lnTo>
                    <a:pt x="919" y="1359"/>
                  </a:lnTo>
                  <a:lnTo>
                    <a:pt x="904" y="1356"/>
                  </a:lnTo>
                  <a:lnTo>
                    <a:pt x="891" y="1353"/>
                  </a:lnTo>
                  <a:lnTo>
                    <a:pt x="881" y="1349"/>
                  </a:lnTo>
                  <a:lnTo>
                    <a:pt x="871" y="1345"/>
                  </a:lnTo>
                  <a:lnTo>
                    <a:pt x="863" y="1342"/>
                  </a:lnTo>
                  <a:lnTo>
                    <a:pt x="854" y="1337"/>
                  </a:lnTo>
                  <a:lnTo>
                    <a:pt x="845" y="1332"/>
                  </a:lnTo>
                  <a:lnTo>
                    <a:pt x="838" y="1326"/>
                  </a:lnTo>
                  <a:lnTo>
                    <a:pt x="832" y="1319"/>
                  </a:lnTo>
                  <a:lnTo>
                    <a:pt x="826" y="1313"/>
                  </a:lnTo>
                  <a:lnTo>
                    <a:pt x="815" y="1300"/>
                  </a:lnTo>
                  <a:lnTo>
                    <a:pt x="805" y="1285"/>
                  </a:lnTo>
                  <a:lnTo>
                    <a:pt x="797" y="1269"/>
                  </a:lnTo>
                  <a:lnTo>
                    <a:pt x="790" y="1254"/>
                  </a:lnTo>
                  <a:lnTo>
                    <a:pt x="785" y="1237"/>
                  </a:lnTo>
                  <a:lnTo>
                    <a:pt x="781" y="1221"/>
                  </a:lnTo>
                  <a:lnTo>
                    <a:pt x="779" y="1206"/>
                  </a:lnTo>
                  <a:lnTo>
                    <a:pt x="776" y="1192"/>
                  </a:lnTo>
                  <a:lnTo>
                    <a:pt x="774" y="1164"/>
                  </a:lnTo>
                  <a:lnTo>
                    <a:pt x="774" y="1144"/>
                  </a:lnTo>
                  <a:lnTo>
                    <a:pt x="773" y="1101"/>
                  </a:lnTo>
                  <a:lnTo>
                    <a:pt x="772" y="1060"/>
                  </a:lnTo>
                  <a:lnTo>
                    <a:pt x="768" y="1024"/>
                  </a:lnTo>
                  <a:lnTo>
                    <a:pt x="763" y="990"/>
                  </a:lnTo>
                  <a:lnTo>
                    <a:pt x="758" y="960"/>
                  </a:lnTo>
                  <a:lnTo>
                    <a:pt x="752" y="934"/>
                  </a:lnTo>
                  <a:lnTo>
                    <a:pt x="744" y="911"/>
                  </a:lnTo>
                  <a:lnTo>
                    <a:pt x="738" y="893"/>
                  </a:lnTo>
                  <a:lnTo>
                    <a:pt x="730" y="877"/>
                  </a:lnTo>
                  <a:lnTo>
                    <a:pt x="722" y="866"/>
                  </a:lnTo>
                  <a:lnTo>
                    <a:pt x="719" y="862"/>
                  </a:lnTo>
                  <a:lnTo>
                    <a:pt x="715" y="858"/>
                  </a:lnTo>
                  <a:lnTo>
                    <a:pt x="711" y="856"/>
                  </a:lnTo>
                  <a:lnTo>
                    <a:pt x="708" y="856"/>
                  </a:lnTo>
                  <a:lnTo>
                    <a:pt x="704" y="856"/>
                  </a:lnTo>
                  <a:lnTo>
                    <a:pt x="700" y="857"/>
                  </a:lnTo>
                  <a:lnTo>
                    <a:pt x="697" y="859"/>
                  </a:lnTo>
                  <a:lnTo>
                    <a:pt x="693" y="862"/>
                  </a:lnTo>
                  <a:lnTo>
                    <a:pt x="690" y="867"/>
                  </a:lnTo>
                  <a:lnTo>
                    <a:pt x="687" y="873"/>
                  </a:lnTo>
                  <a:lnTo>
                    <a:pt x="684" y="879"/>
                  </a:lnTo>
                  <a:lnTo>
                    <a:pt x="682" y="888"/>
                  </a:lnTo>
                  <a:lnTo>
                    <a:pt x="672" y="921"/>
                  </a:lnTo>
                  <a:lnTo>
                    <a:pt x="661" y="952"/>
                  </a:lnTo>
                  <a:lnTo>
                    <a:pt x="651" y="979"/>
                  </a:lnTo>
                  <a:lnTo>
                    <a:pt x="640" y="1002"/>
                  </a:lnTo>
                  <a:lnTo>
                    <a:pt x="634" y="1012"/>
                  </a:lnTo>
                  <a:lnTo>
                    <a:pt x="628" y="1021"/>
                  </a:lnTo>
                  <a:lnTo>
                    <a:pt x="621" y="1027"/>
                  </a:lnTo>
                  <a:lnTo>
                    <a:pt x="614" y="1033"/>
                  </a:lnTo>
                  <a:lnTo>
                    <a:pt x="608" y="1037"/>
                  </a:lnTo>
                  <a:lnTo>
                    <a:pt x="601" y="1038"/>
                  </a:lnTo>
                  <a:lnTo>
                    <a:pt x="592" y="1039"/>
                  </a:lnTo>
                  <a:lnTo>
                    <a:pt x="583" y="1037"/>
                  </a:lnTo>
                  <a:lnTo>
                    <a:pt x="577" y="1035"/>
                  </a:lnTo>
                  <a:lnTo>
                    <a:pt x="561" y="1028"/>
                  </a:lnTo>
                  <a:lnTo>
                    <a:pt x="549" y="1021"/>
                  </a:lnTo>
                  <a:lnTo>
                    <a:pt x="537" y="1012"/>
                  </a:lnTo>
                  <a:lnTo>
                    <a:pt x="522" y="1001"/>
                  </a:lnTo>
                  <a:lnTo>
                    <a:pt x="507" y="986"/>
                  </a:lnTo>
                  <a:lnTo>
                    <a:pt x="491" y="969"/>
                  </a:lnTo>
                  <a:lnTo>
                    <a:pt x="475" y="948"/>
                  </a:lnTo>
                  <a:lnTo>
                    <a:pt x="468" y="936"/>
                  </a:lnTo>
                  <a:lnTo>
                    <a:pt x="460" y="923"/>
                  </a:lnTo>
                  <a:lnTo>
                    <a:pt x="453" y="909"/>
                  </a:lnTo>
                  <a:lnTo>
                    <a:pt x="446" y="894"/>
                  </a:lnTo>
                  <a:lnTo>
                    <a:pt x="438" y="878"/>
                  </a:lnTo>
                  <a:lnTo>
                    <a:pt x="431" y="861"/>
                  </a:lnTo>
                  <a:lnTo>
                    <a:pt x="425" y="842"/>
                  </a:lnTo>
                  <a:lnTo>
                    <a:pt x="418" y="823"/>
                  </a:lnTo>
                  <a:lnTo>
                    <a:pt x="412" y="802"/>
                  </a:lnTo>
                  <a:lnTo>
                    <a:pt x="407" y="778"/>
                  </a:lnTo>
                  <a:lnTo>
                    <a:pt x="402" y="755"/>
                  </a:lnTo>
                  <a:lnTo>
                    <a:pt x="399" y="730"/>
                  </a:lnTo>
                  <a:lnTo>
                    <a:pt x="390" y="711"/>
                  </a:lnTo>
                  <a:lnTo>
                    <a:pt x="368" y="663"/>
                  </a:lnTo>
                  <a:lnTo>
                    <a:pt x="353" y="632"/>
                  </a:lnTo>
                  <a:lnTo>
                    <a:pt x="336" y="600"/>
                  </a:lnTo>
                  <a:lnTo>
                    <a:pt x="318" y="567"/>
                  </a:lnTo>
                  <a:lnTo>
                    <a:pt x="298" y="536"/>
                  </a:lnTo>
                  <a:lnTo>
                    <a:pt x="288" y="521"/>
                  </a:lnTo>
                  <a:lnTo>
                    <a:pt x="278" y="508"/>
                  </a:lnTo>
                  <a:lnTo>
                    <a:pt x="268" y="495"/>
                  </a:lnTo>
                  <a:lnTo>
                    <a:pt x="259" y="486"/>
                  </a:lnTo>
                  <a:lnTo>
                    <a:pt x="249" y="477"/>
                  </a:lnTo>
                  <a:lnTo>
                    <a:pt x="240" y="470"/>
                  </a:lnTo>
                  <a:lnTo>
                    <a:pt x="231" y="465"/>
                  </a:lnTo>
                  <a:lnTo>
                    <a:pt x="223" y="462"/>
                  </a:lnTo>
                  <a:lnTo>
                    <a:pt x="214" y="462"/>
                  </a:lnTo>
                  <a:lnTo>
                    <a:pt x="207" y="465"/>
                  </a:lnTo>
                  <a:lnTo>
                    <a:pt x="199" y="471"/>
                  </a:lnTo>
                  <a:lnTo>
                    <a:pt x="193" y="481"/>
                  </a:lnTo>
                  <a:lnTo>
                    <a:pt x="188" y="493"/>
                  </a:lnTo>
                  <a:lnTo>
                    <a:pt x="183" y="509"/>
                  </a:lnTo>
                  <a:lnTo>
                    <a:pt x="180" y="530"/>
                  </a:lnTo>
                  <a:lnTo>
                    <a:pt x="176" y="553"/>
                  </a:lnTo>
                  <a:lnTo>
                    <a:pt x="171" y="589"/>
                  </a:lnTo>
                  <a:lnTo>
                    <a:pt x="164" y="627"/>
                  </a:lnTo>
                  <a:lnTo>
                    <a:pt x="154" y="669"/>
                  </a:lnTo>
                  <a:lnTo>
                    <a:pt x="142" y="711"/>
                  </a:lnTo>
                  <a:lnTo>
                    <a:pt x="128" y="755"/>
                  </a:lnTo>
                  <a:lnTo>
                    <a:pt x="113" y="798"/>
                  </a:lnTo>
                  <a:lnTo>
                    <a:pt x="97" y="841"/>
                  </a:lnTo>
                  <a:lnTo>
                    <a:pt x="81" y="883"/>
                  </a:lnTo>
                  <a:lnTo>
                    <a:pt x="51" y="959"/>
                  </a:lnTo>
                  <a:lnTo>
                    <a:pt x="25" y="1021"/>
                  </a:lnTo>
                  <a:lnTo>
                    <a:pt x="6" y="1062"/>
                  </a:lnTo>
                  <a:lnTo>
                    <a:pt x="0" y="1078"/>
                  </a:lnTo>
                  <a:close/>
                </a:path>
              </a:pathLst>
            </a:custGeom>
            <a:solidFill>
              <a:srgbClr val="4234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6269040" y="2417760"/>
              <a:ext cx="531720" cy="1074960"/>
            </a:xfrm>
            <a:custGeom>
              <a:avLst/>
              <a:gdLst/>
              <a:ahLst/>
              <a:rect l="l" t="t" r="r" b="b"/>
              <a:pathLst>
                <a:path w="1679" h="3384">
                  <a:moveTo>
                    <a:pt x="158" y="61"/>
                  </a:moveTo>
                  <a:lnTo>
                    <a:pt x="160" y="94"/>
                  </a:lnTo>
                  <a:lnTo>
                    <a:pt x="162" y="185"/>
                  </a:lnTo>
                  <a:lnTo>
                    <a:pt x="162" y="248"/>
                  </a:lnTo>
                  <a:lnTo>
                    <a:pt x="161" y="321"/>
                  </a:lnTo>
                  <a:lnTo>
                    <a:pt x="158" y="401"/>
                  </a:lnTo>
                  <a:lnTo>
                    <a:pt x="155" y="487"/>
                  </a:lnTo>
                  <a:lnTo>
                    <a:pt x="149" y="579"/>
                  </a:lnTo>
                  <a:lnTo>
                    <a:pt x="140" y="673"/>
                  </a:lnTo>
                  <a:lnTo>
                    <a:pt x="134" y="720"/>
                  </a:lnTo>
                  <a:lnTo>
                    <a:pt x="128" y="768"/>
                  </a:lnTo>
                  <a:lnTo>
                    <a:pt x="120" y="815"/>
                  </a:lnTo>
                  <a:lnTo>
                    <a:pt x="113" y="863"/>
                  </a:lnTo>
                  <a:lnTo>
                    <a:pt x="104" y="909"/>
                  </a:lnTo>
                  <a:lnTo>
                    <a:pt x="94" y="955"/>
                  </a:lnTo>
                  <a:lnTo>
                    <a:pt x="83" y="999"/>
                  </a:lnTo>
                  <a:lnTo>
                    <a:pt x="71" y="1042"/>
                  </a:lnTo>
                  <a:lnTo>
                    <a:pt x="58" y="1085"/>
                  </a:lnTo>
                  <a:lnTo>
                    <a:pt x="44" y="1126"/>
                  </a:lnTo>
                  <a:lnTo>
                    <a:pt x="28" y="1164"/>
                  </a:lnTo>
                  <a:lnTo>
                    <a:pt x="12" y="1201"/>
                  </a:lnTo>
                  <a:lnTo>
                    <a:pt x="7" y="1212"/>
                  </a:lnTo>
                  <a:lnTo>
                    <a:pt x="3" y="1223"/>
                  </a:lnTo>
                  <a:lnTo>
                    <a:pt x="1" y="1234"/>
                  </a:lnTo>
                  <a:lnTo>
                    <a:pt x="0" y="1244"/>
                  </a:lnTo>
                  <a:lnTo>
                    <a:pt x="0" y="1255"/>
                  </a:lnTo>
                  <a:lnTo>
                    <a:pt x="0" y="1265"/>
                  </a:lnTo>
                  <a:lnTo>
                    <a:pt x="2" y="1276"/>
                  </a:lnTo>
                  <a:lnTo>
                    <a:pt x="5" y="1287"/>
                  </a:lnTo>
                  <a:lnTo>
                    <a:pt x="8" y="1297"/>
                  </a:lnTo>
                  <a:lnTo>
                    <a:pt x="12" y="1308"/>
                  </a:lnTo>
                  <a:lnTo>
                    <a:pt x="18" y="1319"/>
                  </a:lnTo>
                  <a:lnTo>
                    <a:pt x="24" y="1330"/>
                  </a:lnTo>
                  <a:lnTo>
                    <a:pt x="39" y="1355"/>
                  </a:lnTo>
                  <a:lnTo>
                    <a:pt x="56" y="1379"/>
                  </a:lnTo>
                  <a:lnTo>
                    <a:pt x="99" y="1436"/>
                  </a:lnTo>
                  <a:lnTo>
                    <a:pt x="152" y="1503"/>
                  </a:lnTo>
                  <a:lnTo>
                    <a:pt x="181" y="1542"/>
                  </a:lnTo>
                  <a:lnTo>
                    <a:pt x="210" y="1585"/>
                  </a:lnTo>
                  <a:lnTo>
                    <a:pt x="241" y="1630"/>
                  </a:lnTo>
                  <a:lnTo>
                    <a:pt x="273" y="1682"/>
                  </a:lnTo>
                  <a:lnTo>
                    <a:pt x="307" y="1743"/>
                  </a:lnTo>
                  <a:lnTo>
                    <a:pt x="344" y="1809"/>
                  </a:lnTo>
                  <a:lnTo>
                    <a:pt x="380" y="1877"/>
                  </a:lnTo>
                  <a:lnTo>
                    <a:pt x="418" y="1950"/>
                  </a:lnTo>
                  <a:lnTo>
                    <a:pt x="493" y="2101"/>
                  </a:lnTo>
                  <a:lnTo>
                    <a:pt x="572" y="2256"/>
                  </a:lnTo>
                  <a:lnTo>
                    <a:pt x="611" y="2335"/>
                  </a:lnTo>
                  <a:lnTo>
                    <a:pt x="651" y="2411"/>
                  </a:lnTo>
                  <a:lnTo>
                    <a:pt x="690" y="2486"/>
                  </a:lnTo>
                  <a:lnTo>
                    <a:pt x="729" y="2560"/>
                  </a:lnTo>
                  <a:lnTo>
                    <a:pt x="769" y="2630"/>
                  </a:lnTo>
                  <a:lnTo>
                    <a:pt x="808" y="2697"/>
                  </a:lnTo>
                  <a:lnTo>
                    <a:pt x="847" y="2759"/>
                  </a:lnTo>
                  <a:lnTo>
                    <a:pt x="887" y="2817"/>
                  </a:lnTo>
                  <a:lnTo>
                    <a:pt x="906" y="2845"/>
                  </a:lnTo>
                  <a:lnTo>
                    <a:pt x="925" y="2874"/>
                  </a:lnTo>
                  <a:lnTo>
                    <a:pt x="943" y="2902"/>
                  </a:lnTo>
                  <a:lnTo>
                    <a:pt x="959" y="2930"/>
                  </a:lnTo>
                  <a:lnTo>
                    <a:pt x="991" y="2986"/>
                  </a:lnTo>
                  <a:lnTo>
                    <a:pt x="1020" y="3040"/>
                  </a:lnTo>
                  <a:lnTo>
                    <a:pt x="1069" y="3143"/>
                  </a:lnTo>
                  <a:lnTo>
                    <a:pt x="1109" y="3233"/>
                  </a:lnTo>
                  <a:lnTo>
                    <a:pt x="1128" y="3271"/>
                  </a:lnTo>
                  <a:lnTo>
                    <a:pt x="1145" y="3305"/>
                  </a:lnTo>
                  <a:lnTo>
                    <a:pt x="1154" y="3320"/>
                  </a:lnTo>
                  <a:lnTo>
                    <a:pt x="1162" y="3334"/>
                  </a:lnTo>
                  <a:lnTo>
                    <a:pt x="1170" y="3346"/>
                  </a:lnTo>
                  <a:lnTo>
                    <a:pt x="1178" y="3357"/>
                  </a:lnTo>
                  <a:lnTo>
                    <a:pt x="1186" y="3366"/>
                  </a:lnTo>
                  <a:lnTo>
                    <a:pt x="1194" y="3373"/>
                  </a:lnTo>
                  <a:lnTo>
                    <a:pt x="1203" y="3379"/>
                  </a:lnTo>
                  <a:lnTo>
                    <a:pt x="1210" y="3382"/>
                  </a:lnTo>
                  <a:lnTo>
                    <a:pt x="1219" y="3384"/>
                  </a:lnTo>
                  <a:lnTo>
                    <a:pt x="1228" y="3384"/>
                  </a:lnTo>
                  <a:lnTo>
                    <a:pt x="1236" y="3382"/>
                  </a:lnTo>
                  <a:lnTo>
                    <a:pt x="1245" y="3377"/>
                  </a:lnTo>
                  <a:lnTo>
                    <a:pt x="1252" y="3372"/>
                  </a:lnTo>
                  <a:lnTo>
                    <a:pt x="1258" y="3366"/>
                  </a:lnTo>
                  <a:lnTo>
                    <a:pt x="1264" y="3357"/>
                  </a:lnTo>
                  <a:lnTo>
                    <a:pt x="1271" y="3347"/>
                  </a:lnTo>
                  <a:lnTo>
                    <a:pt x="1284" y="3323"/>
                  </a:lnTo>
                  <a:lnTo>
                    <a:pt x="1298" y="3293"/>
                  </a:lnTo>
                  <a:lnTo>
                    <a:pt x="1311" y="3257"/>
                  </a:lnTo>
                  <a:lnTo>
                    <a:pt x="1325" y="3218"/>
                  </a:lnTo>
                  <a:lnTo>
                    <a:pt x="1338" y="3175"/>
                  </a:lnTo>
                  <a:lnTo>
                    <a:pt x="1352" y="3127"/>
                  </a:lnTo>
                  <a:lnTo>
                    <a:pt x="1380" y="3025"/>
                  </a:lnTo>
                  <a:lnTo>
                    <a:pt x="1410" y="2916"/>
                  </a:lnTo>
                  <a:lnTo>
                    <a:pt x="1439" y="2802"/>
                  </a:lnTo>
                  <a:lnTo>
                    <a:pt x="1471" y="2692"/>
                  </a:lnTo>
                  <a:lnTo>
                    <a:pt x="1486" y="2644"/>
                  </a:lnTo>
                  <a:lnTo>
                    <a:pt x="1503" y="2597"/>
                  </a:lnTo>
                  <a:lnTo>
                    <a:pt x="1522" y="2550"/>
                  </a:lnTo>
                  <a:lnTo>
                    <a:pt x="1541" y="2503"/>
                  </a:lnTo>
                  <a:lnTo>
                    <a:pt x="1582" y="2411"/>
                  </a:lnTo>
                  <a:lnTo>
                    <a:pt x="1620" y="2319"/>
                  </a:lnTo>
                  <a:lnTo>
                    <a:pt x="1636" y="2273"/>
                  </a:lnTo>
                  <a:lnTo>
                    <a:pt x="1651" y="2228"/>
                  </a:lnTo>
                  <a:lnTo>
                    <a:pt x="1658" y="2205"/>
                  </a:lnTo>
                  <a:lnTo>
                    <a:pt x="1663" y="2181"/>
                  </a:lnTo>
                  <a:lnTo>
                    <a:pt x="1668" y="2159"/>
                  </a:lnTo>
                  <a:lnTo>
                    <a:pt x="1673" y="2136"/>
                  </a:lnTo>
                  <a:lnTo>
                    <a:pt x="1675" y="2112"/>
                  </a:lnTo>
                  <a:lnTo>
                    <a:pt x="1678" y="2089"/>
                  </a:lnTo>
                  <a:lnTo>
                    <a:pt x="1679" y="2066"/>
                  </a:lnTo>
                  <a:lnTo>
                    <a:pt x="1679" y="2042"/>
                  </a:lnTo>
                  <a:lnTo>
                    <a:pt x="1678" y="2019"/>
                  </a:lnTo>
                  <a:lnTo>
                    <a:pt x="1675" y="1995"/>
                  </a:lnTo>
                  <a:lnTo>
                    <a:pt x="1672" y="1972"/>
                  </a:lnTo>
                  <a:lnTo>
                    <a:pt x="1667" y="1947"/>
                  </a:lnTo>
                  <a:lnTo>
                    <a:pt x="1643" y="1853"/>
                  </a:lnTo>
                  <a:lnTo>
                    <a:pt x="1621" y="1767"/>
                  </a:lnTo>
                  <a:lnTo>
                    <a:pt x="1600" y="1689"/>
                  </a:lnTo>
                  <a:lnTo>
                    <a:pt x="1582" y="1622"/>
                  </a:lnTo>
                  <a:lnTo>
                    <a:pt x="1565" y="1561"/>
                  </a:lnTo>
                  <a:lnTo>
                    <a:pt x="1547" y="1508"/>
                  </a:lnTo>
                  <a:lnTo>
                    <a:pt x="1533" y="1463"/>
                  </a:lnTo>
                  <a:lnTo>
                    <a:pt x="1519" y="1424"/>
                  </a:lnTo>
                  <a:lnTo>
                    <a:pt x="1506" y="1389"/>
                  </a:lnTo>
                  <a:lnTo>
                    <a:pt x="1493" y="1360"/>
                  </a:lnTo>
                  <a:lnTo>
                    <a:pt x="1481" y="1335"/>
                  </a:lnTo>
                  <a:lnTo>
                    <a:pt x="1470" y="1313"/>
                  </a:lnTo>
                  <a:lnTo>
                    <a:pt x="1460" y="1294"/>
                  </a:lnTo>
                  <a:lnTo>
                    <a:pt x="1450" y="1280"/>
                  </a:lnTo>
                  <a:lnTo>
                    <a:pt x="1440" y="1265"/>
                  </a:lnTo>
                  <a:lnTo>
                    <a:pt x="1431" y="1253"/>
                  </a:lnTo>
                  <a:lnTo>
                    <a:pt x="1426" y="1246"/>
                  </a:lnTo>
                  <a:lnTo>
                    <a:pt x="1423" y="1239"/>
                  </a:lnTo>
                  <a:lnTo>
                    <a:pt x="1422" y="1232"/>
                  </a:lnTo>
                  <a:lnTo>
                    <a:pt x="1421" y="1223"/>
                  </a:lnTo>
                  <a:lnTo>
                    <a:pt x="1422" y="1205"/>
                  </a:lnTo>
                  <a:lnTo>
                    <a:pt x="1426" y="1182"/>
                  </a:lnTo>
                  <a:lnTo>
                    <a:pt x="1432" y="1160"/>
                  </a:lnTo>
                  <a:lnTo>
                    <a:pt x="1437" y="1134"/>
                  </a:lnTo>
                  <a:lnTo>
                    <a:pt x="1442" y="1107"/>
                  </a:lnTo>
                  <a:lnTo>
                    <a:pt x="1445" y="1079"/>
                  </a:lnTo>
                  <a:lnTo>
                    <a:pt x="1445" y="1064"/>
                  </a:lnTo>
                  <a:lnTo>
                    <a:pt x="1445" y="1048"/>
                  </a:lnTo>
                  <a:lnTo>
                    <a:pt x="1444" y="1032"/>
                  </a:lnTo>
                  <a:lnTo>
                    <a:pt x="1442" y="1016"/>
                  </a:lnTo>
                  <a:lnTo>
                    <a:pt x="1438" y="1000"/>
                  </a:lnTo>
                  <a:lnTo>
                    <a:pt x="1432" y="984"/>
                  </a:lnTo>
                  <a:lnTo>
                    <a:pt x="1426" y="967"/>
                  </a:lnTo>
                  <a:lnTo>
                    <a:pt x="1417" y="950"/>
                  </a:lnTo>
                  <a:lnTo>
                    <a:pt x="1407" y="933"/>
                  </a:lnTo>
                  <a:lnTo>
                    <a:pt x="1395" y="916"/>
                  </a:lnTo>
                  <a:lnTo>
                    <a:pt x="1380" y="897"/>
                  </a:lnTo>
                  <a:lnTo>
                    <a:pt x="1364" y="880"/>
                  </a:lnTo>
                  <a:lnTo>
                    <a:pt x="1344" y="861"/>
                  </a:lnTo>
                  <a:lnTo>
                    <a:pt x="1323" y="844"/>
                  </a:lnTo>
                  <a:lnTo>
                    <a:pt x="1299" y="826"/>
                  </a:lnTo>
                  <a:lnTo>
                    <a:pt x="1273" y="807"/>
                  </a:lnTo>
                  <a:lnTo>
                    <a:pt x="1244" y="786"/>
                  </a:lnTo>
                  <a:lnTo>
                    <a:pt x="1212" y="763"/>
                  </a:lnTo>
                  <a:lnTo>
                    <a:pt x="1177" y="736"/>
                  </a:lnTo>
                  <a:lnTo>
                    <a:pt x="1141" y="706"/>
                  </a:lnTo>
                  <a:lnTo>
                    <a:pt x="1065" y="640"/>
                  </a:lnTo>
                  <a:lnTo>
                    <a:pt x="984" y="566"/>
                  </a:lnTo>
                  <a:lnTo>
                    <a:pt x="899" y="487"/>
                  </a:lnTo>
                  <a:lnTo>
                    <a:pt x="812" y="408"/>
                  </a:lnTo>
                  <a:lnTo>
                    <a:pt x="723" y="328"/>
                  </a:lnTo>
                  <a:lnTo>
                    <a:pt x="636" y="250"/>
                  </a:lnTo>
                  <a:lnTo>
                    <a:pt x="593" y="214"/>
                  </a:lnTo>
                  <a:lnTo>
                    <a:pt x="551" y="179"/>
                  </a:lnTo>
                  <a:lnTo>
                    <a:pt x="510" y="147"/>
                  </a:lnTo>
                  <a:lnTo>
                    <a:pt x="471" y="116"/>
                  </a:lnTo>
                  <a:lnTo>
                    <a:pt x="433" y="89"/>
                  </a:lnTo>
                  <a:lnTo>
                    <a:pt x="396" y="64"/>
                  </a:lnTo>
                  <a:lnTo>
                    <a:pt x="361" y="43"/>
                  </a:lnTo>
                  <a:lnTo>
                    <a:pt x="328" y="26"/>
                  </a:lnTo>
                  <a:lnTo>
                    <a:pt x="297" y="13"/>
                  </a:lnTo>
                  <a:lnTo>
                    <a:pt x="269" y="4"/>
                  </a:lnTo>
                  <a:lnTo>
                    <a:pt x="243" y="0"/>
                  </a:lnTo>
                  <a:lnTo>
                    <a:pt x="220" y="0"/>
                  </a:lnTo>
                  <a:lnTo>
                    <a:pt x="199" y="7"/>
                  </a:lnTo>
                  <a:lnTo>
                    <a:pt x="183" y="19"/>
                  </a:lnTo>
                  <a:lnTo>
                    <a:pt x="168" y="36"/>
                  </a:lnTo>
                  <a:lnTo>
                    <a:pt x="158" y="61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6662880" y="2757600"/>
              <a:ext cx="195120" cy="777960"/>
            </a:xfrm>
            <a:custGeom>
              <a:avLst/>
              <a:gdLst/>
              <a:ahLst/>
              <a:rect l="l" t="t" r="r" b="b"/>
              <a:pathLst>
                <a:path w="613" h="2450">
                  <a:moveTo>
                    <a:pt x="79" y="37"/>
                  </a:moveTo>
                  <a:lnTo>
                    <a:pt x="78" y="42"/>
                  </a:lnTo>
                  <a:lnTo>
                    <a:pt x="73" y="53"/>
                  </a:lnTo>
                  <a:lnTo>
                    <a:pt x="68" y="67"/>
                  </a:lnTo>
                  <a:lnTo>
                    <a:pt x="62" y="83"/>
                  </a:lnTo>
                  <a:lnTo>
                    <a:pt x="57" y="97"/>
                  </a:lnTo>
                  <a:lnTo>
                    <a:pt x="52" y="111"/>
                  </a:lnTo>
                  <a:lnTo>
                    <a:pt x="49" y="121"/>
                  </a:lnTo>
                  <a:lnTo>
                    <a:pt x="48" y="123"/>
                  </a:lnTo>
                  <a:lnTo>
                    <a:pt x="52" y="138"/>
                  </a:lnTo>
                  <a:lnTo>
                    <a:pt x="67" y="181"/>
                  </a:lnTo>
                  <a:lnTo>
                    <a:pt x="76" y="213"/>
                  </a:lnTo>
                  <a:lnTo>
                    <a:pt x="87" y="252"/>
                  </a:lnTo>
                  <a:lnTo>
                    <a:pt x="98" y="298"/>
                  </a:lnTo>
                  <a:lnTo>
                    <a:pt x="109" y="350"/>
                  </a:lnTo>
                  <a:lnTo>
                    <a:pt x="120" y="407"/>
                  </a:lnTo>
                  <a:lnTo>
                    <a:pt x="131" y="473"/>
                  </a:lnTo>
                  <a:lnTo>
                    <a:pt x="142" y="543"/>
                  </a:lnTo>
                  <a:lnTo>
                    <a:pt x="151" y="620"/>
                  </a:lnTo>
                  <a:lnTo>
                    <a:pt x="158" y="703"/>
                  </a:lnTo>
                  <a:lnTo>
                    <a:pt x="163" y="791"/>
                  </a:lnTo>
                  <a:lnTo>
                    <a:pt x="166" y="838"/>
                  </a:lnTo>
                  <a:lnTo>
                    <a:pt x="167" y="886"/>
                  </a:lnTo>
                  <a:lnTo>
                    <a:pt x="167" y="934"/>
                  </a:lnTo>
                  <a:lnTo>
                    <a:pt x="167" y="986"/>
                  </a:lnTo>
                  <a:lnTo>
                    <a:pt x="166" y="1036"/>
                  </a:lnTo>
                  <a:lnTo>
                    <a:pt x="164" y="1088"/>
                  </a:lnTo>
                  <a:lnTo>
                    <a:pt x="162" y="1140"/>
                  </a:lnTo>
                  <a:lnTo>
                    <a:pt x="158" y="1193"/>
                  </a:lnTo>
                  <a:lnTo>
                    <a:pt x="151" y="1300"/>
                  </a:lnTo>
                  <a:lnTo>
                    <a:pt x="141" y="1406"/>
                  </a:lnTo>
                  <a:lnTo>
                    <a:pt x="130" y="1512"/>
                  </a:lnTo>
                  <a:lnTo>
                    <a:pt x="116" y="1615"/>
                  </a:lnTo>
                  <a:lnTo>
                    <a:pt x="103" y="1716"/>
                  </a:lnTo>
                  <a:lnTo>
                    <a:pt x="89" y="1812"/>
                  </a:lnTo>
                  <a:lnTo>
                    <a:pt x="75" y="1903"/>
                  </a:lnTo>
                  <a:lnTo>
                    <a:pt x="61" y="1988"/>
                  </a:lnTo>
                  <a:lnTo>
                    <a:pt x="48" y="2065"/>
                  </a:lnTo>
                  <a:lnTo>
                    <a:pt x="35" y="2136"/>
                  </a:lnTo>
                  <a:lnTo>
                    <a:pt x="14" y="2244"/>
                  </a:lnTo>
                  <a:lnTo>
                    <a:pt x="1" y="2308"/>
                  </a:lnTo>
                  <a:lnTo>
                    <a:pt x="1" y="2316"/>
                  </a:lnTo>
                  <a:lnTo>
                    <a:pt x="0" y="2340"/>
                  </a:lnTo>
                  <a:lnTo>
                    <a:pt x="0" y="2370"/>
                  </a:lnTo>
                  <a:lnTo>
                    <a:pt x="0" y="2402"/>
                  </a:lnTo>
                  <a:lnTo>
                    <a:pt x="1" y="2417"/>
                  </a:lnTo>
                  <a:lnTo>
                    <a:pt x="2" y="2431"/>
                  </a:lnTo>
                  <a:lnTo>
                    <a:pt x="3" y="2441"/>
                  </a:lnTo>
                  <a:lnTo>
                    <a:pt x="6" y="2448"/>
                  </a:lnTo>
                  <a:lnTo>
                    <a:pt x="7" y="2449"/>
                  </a:lnTo>
                  <a:lnTo>
                    <a:pt x="9" y="2450"/>
                  </a:lnTo>
                  <a:lnTo>
                    <a:pt x="11" y="2449"/>
                  </a:lnTo>
                  <a:lnTo>
                    <a:pt x="13" y="2448"/>
                  </a:lnTo>
                  <a:lnTo>
                    <a:pt x="18" y="2439"/>
                  </a:lnTo>
                  <a:lnTo>
                    <a:pt x="23" y="2425"/>
                  </a:lnTo>
                  <a:lnTo>
                    <a:pt x="39" y="2377"/>
                  </a:lnTo>
                  <a:lnTo>
                    <a:pt x="62" y="2309"/>
                  </a:lnTo>
                  <a:lnTo>
                    <a:pt x="91" y="2227"/>
                  </a:lnTo>
                  <a:lnTo>
                    <a:pt x="125" y="2134"/>
                  </a:lnTo>
                  <a:lnTo>
                    <a:pt x="163" y="2036"/>
                  </a:lnTo>
                  <a:lnTo>
                    <a:pt x="204" y="1936"/>
                  </a:lnTo>
                  <a:lnTo>
                    <a:pt x="226" y="1887"/>
                  </a:lnTo>
                  <a:lnTo>
                    <a:pt x="248" y="1840"/>
                  </a:lnTo>
                  <a:lnTo>
                    <a:pt x="270" y="1794"/>
                  </a:lnTo>
                  <a:lnTo>
                    <a:pt x="292" y="1751"/>
                  </a:lnTo>
                  <a:lnTo>
                    <a:pt x="337" y="1666"/>
                  </a:lnTo>
                  <a:lnTo>
                    <a:pt x="383" y="1580"/>
                  </a:lnTo>
                  <a:lnTo>
                    <a:pt x="430" y="1492"/>
                  </a:lnTo>
                  <a:lnTo>
                    <a:pt x="473" y="1404"/>
                  </a:lnTo>
                  <a:lnTo>
                    <a:pt x="494" y="1359"/>
                  </a:lnTo>
                  <a:lnTo>
                    <a:pt x="514" y="1315"/>
                  </a:lnTo>
                  <a:lnTo>
                    <a:pt x="532" y="1271"/>
                  </a:lnTo>
                  <a:lnTo>
                    <a:pt x="549" y="1227"/>
                  </a:lnTo>
                  <a:lnTo>
                    <a:pt x="564" y="1184"/>
                  </a:lnTo>
                  <a:lnTo>
                    <a:pt x="577" y="1140"/>
                  </a:lnTo>
                  <a:lnTo>
                    <a:pt x="588" y="1097"/>
                  </a:lnTo>
                  <a:lnTo>
                    <a:pt x="596" y="1056"/>
                  </a:lnTo>
                  <a:lnTo>
                    <a:pt x="602" y="1013"/>
                  </a:lnTo>
                  <a:lnTo>
                    <a:pt x="607" y="968"/>
                  </a:lnTo>
                  <a:lnTo>
                    <a:pt x="611" y="923"/>
                  </a:lnTo>
                  <a:lnTo>
                    <a:pt x="612" y="877"/>
                  </a:lnTo>
                  <a:lnTo>
                    <a:pt x="613" y="831"/>
                  </a:lnTo>
                  <a:lnTo>
                    <a:pt x="612" y="786"/>
                  </a:lnTo>
                  <a:lnTo>
                    <a:pt x="611" y="742"/>
                  </a:lnTo>
                  <a:lnTo>
                    <a:pt x="609" y="700"/>
                  </a:lnTo>
                  <a:lnTo>
                    <a:pt x="604" y="625"/>
                  </a:lnTo>
                  <a:lnTo>
                    <a:pt x="597" y="566"/>
                  </a:lnTo>
                  <a:lnTo>
                    <a:pt x="593" y="527"/>
                  </a:lnTo>
                  <a:lnTo>
                    <a:pt x="591" y="512"/>
                  </a:lnTo>
                  <a:lnTo>
                    <a:pt x="584" y="496"/>
                  </a:lnTo>
                  <a:lnTo>
                    <a:pt x="567" y="450"/>
                  </a:lnTo>
                  <a:lnTo>
                    <a:pt x="540" y="386"/>
                  </a:lnTo>
                  <a:lnTo>
                    <a:pt x="508" y="310"/>
                  </a:lnTo>
                  <a:lnTo>
                    <a:pt x="490" y="270"/>
                  </a:lnTo>
                  <a:lnTo>
                    <a:pt x="473" y="230"/>
                  </a:lnTo>
                  <a:lnTo>
                    <a:pt x="455" y="192"/>
                  </a:lnTo>
                  <a:lnTo>
                    <a:pt x="438" y="156"/>
                  </a:lnTo>
                  <a:lnTo>
                    <a:pt x="420" y="125"/>
                  </a:lnTo>
                  <a:lnTo>
                    <a:pt x="404" y="97"/>
                  </a:lnTo>
                  <a:lnTo>
                    <a:pt x="397" y="85"/>
                  </a:lnTo>
                  <a:lnTo>
                    <a:pt x="390" y="74"/>
                  </a:lnTo>
                  <a:lnTo>
                    <a:pt x="382" y="65"/>
                  </a:lnTo>
                  <a:lnTo>
                    <a:pt x="376" y="58"/>
                  </a:lnTo>
                  <a:lnTo>
                    <a:pt x="365" y="49"/>
                  </a:lnTo>
                  <a:lnTo>
                    <a:pt x="351" y="41"/>
                  </a:lnTo>
                  <a:lnTo>
                    <a:pt x="334" y="32"/>
                  </a:lnTo>
                  <a:lnTo>
                    <a:pt x="316" y="25"/>
                  </a:lnTo>
                  <a:lnTo>
                    <a:pt x="295" y="17"/>
                  </a:lnTo>
                  <a:lnTo>
                    <a:pt x="273" y="11"/>
                  </a:lnTo>
                  <a:lnTo>
                    <a:pt x="251" y="6"/>
                  </a:lnTo>
                  <a:lnTo>
                    <a:pt x="227" y="3"/>
                  </a:lnTo>
                  <a:lnTo>
                    <a:pt x="204" y="0"/>
                  </a:lnTo>
                  <a:lnTo>
                    <a:pt x="182" y="0"/>
                  </a:lnTo>
                  <a:lnTo>
                    <a:pt x="159" y="0"/>
                  </a:lnTo>
                  <a:lnTo>
                    <a:pt x="139" y="4"/>
                  </a:lnTo>
                  <a:lnTo>
                    <a:pt x="130" y="6"/>
                  </a:lnTo>
                  <a:lnTo>
                    <a:pt x="120" y="9"/>
                  </a:lnTo>
                  <a:lnTo>
                    <a:pt x="111" y="11"/>
                  </a:lnTo>
                  <a:lnTo>
                    <a:pt x="104" y="15"/>
                  </a:lnTo>
                  <a:lnTo>
                    <a:pt x="97" y="20"/>
                  </a:lnTo>
                  <a:lnTo>
                    <a:pt x="91" y="25"/>
                  </a:lnTo>
                  <a:lnTo>
                    <a:pt x="84" y="31"/>
                  </a:lnTo>
                  <a:lnTo>
                    <a:pt x="79" y="37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6678720" y="2766960"/>
              <a:ext cx="93600" cy="625680"/>
            </a:xfrm>
            <a:custGeom>
              <a:avLst/>
              <a:gdLst/>
              <a:ahLst/>
              <a:rect l="l" t="t" r="r" b="b"/>
              <a:pathLst>
                <a:path w="294" h="1970">
                  <a:moveTo>
                    <a:pt x="11" y="1970"/>
                  </a:moveTo>
                  <a:lnTo>
                    <a:pt x="28" y="1863"/>
                  </a:lnTo>
                  <a:lnTo>
                    <a:pt x="46" y="1746"/>
                  </a:lnTo>
                  <a:lnTo>
                    <a:pt x="63" y="1621"/>
                  </a:lnTo>
                  <a:lnTo>
                    <a:pt x="79" y="1491"/>
                  </a:lnTo>
                  <a:lnTo>
                    <a:pt x="88" y="1424"/>
                  </a:lnTo>
                  <a:lnTo>
                    <a:pt x="94" y="1356"/>
                  </a:lnTo>
                  <a:lnTo>
                    <a:pt x="100" y="1289"/>
                  </a:lnTo>
                  <a:lnTo>
                    <a:pt x="107" y="1221"/>
                  </a:lnTo>
                  <a:lnTo>
                    <a:pt x="111" y="1154"/>
                  </a:lnTo>
                  <a:lnTo>
                    <a:pt x="115" y="1086"/>
                  </a:lnTo>
                  <a:lnTo>
                    <a:pt x="118" y="1021"/>
                  </a:lnTo>
                  <a:lnTo>
                    <a:pt x="119" y="956"/>
                  </a:lnTo>
                  <a:lnTo>
                    <a:pt x="119" y="904"/>
                  </a:lnTo>
                  <a:lnTo>
                    <a:pt x="119" y="856"/>
                  </a:lnTo>
                  <a:lnTo>
                    <a:pt x="118" y="808"/>
                  </a:lnTo>
                  <a:lnTo>
                    <a:pt x="115" y="761"/>
                  </a:lnTo>
                  <a:lnTo>
                    <a:pt x="110" y="673"/>
                  </a:lnTo>
                  <a:lnTo>
                    <a:pt x="103" y="590"/>
                  </a:lnTo>
                  <a:lnTo>
                    <a:pt x="94" y="513"/>
                  </a:lnTo>
                  <a:lnTo>
                    <a:pt x="83" y="443"/>
                  </a:lnTo>
                  <a:lnTo>
                    <a:pt x="72" y="377"/>
                  </a:lnTo>
                  <a:lnTo>
                    <a:pt x="61" y="320"/>
                  </a:lnTo>
                  <a:lnTo>
                    <a:pt x="50" y="268"/>
                  </a:lnTo>
                  <a:lnTo>
                    <a:pt x="39" y="222"/>
                  </a:lnTo>
                  <a:lnTo>
                    <a:pt x="28" y="183"/>
                  </a:lnTo>
                  <a:lnTo>
                    <a:pt x="19" y="151"/>
                  </a:lnTo>
                  <a:lnTo>
                    <a:pt x="4" y="108"/>
                  </a:lnTo>
                  <a:lnTo>
                    <a:pt x="0" y="93"/>
                  </a:lnTo>
                  <a:lnTo>
                    <a:pt x="1" y="91"/>
                  </a:lnTo>
                  <a:lnTo>
                    <a:pt x="4" y="81"/>
                  </a:lnTo>
                  <a:lnTo>
                    <a:pt x="9" y="67"/>
                  </a:lnTo>
                  <a:lnTo>
                    <a:pt x="14" y="53"/>
                  </a:lnTo>
                  <a:lnTo>
                    <a:pt x="20" y="37"/>
                  </a:lnTo>
                  <a:lnTo>
                    <a:pt x="25" y="23"/>
                  </a:lnTo>
                  <a:lnTo>
                    <a:pt x="30" y="12"/>
                  </a:lnTo>
                  <a:lnTo>
                    <a:pt x="31" y="7"/>
                  </a:lnTo>
                  <a:lnTo>
                    <a:pt x="38" y="5"/>
                  </a:lnTo>
                  <a:lnTo>
                    <a:pt x="54" y="1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5" y="1"/>
                  </a:lnTo>
                  <a:lnTo>
                    <a:pt x="120" y="5"/>
                  </a:lnTo>
                  <a:lnTo>
                    <a:pt x="136" y="10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8" y="23"/>
                  </a:lnTo>
                  <a:lnTo>
                    <a:pt x="166" y="28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8" y="51"/>
                  </a:lnTo>
                  <a:lnTo>
                    <a:pt x="194" y="60"/>
                  </a:lnTo>
                  <a:lnTo>
                    <a:pt x="200" y="70"/>
                  </a:lnTo>
                  <a:lnTo>
                    <a:pt x="206" y="82"/>
                  </a:lnTo>
                  <a:lnTo>
                    <a:pt x="212" y="95"/>
                  </a:lnTo>
                  <a:lnTo>
                    <a:pt x="217" y="107"/>
                  </a:lnTo>
                  <a:lnTo>
                    <a:pt x="226" y="139"/>
                  </a:lnTo>
                  <a:lnTo>
                    <a:pt x="236" y="174"/>
                  </a:lnTo>
                  <a:lnTo>
                    <a:pt x="244" y="215"/>
                  </a:lnTo>
                  <a:lnTo>
                    <a:pt x="252" y="259"/>
                  </a:lnTo>
                  <a:lnTo>
                    <a:pt x="259" y="307"/>
                  </a:lnTo>
                  <a:lnTo>
                    <a:pt x="266" y="359"/>
                  </a:lnTo>
                  <a:lnTo>
                    <a:pt x="273" y="413"/>
                  </a:lnTo>
                  <a:lnTo>
                    <a:pt x="278" y="471"/>
                  </a:lnTo>
                  <a:lnTo>
                    <a:pt x="282" y="531"/>
                  </a:lnTo>
                  <a:lnTo>
                    <a:pt x="286" y="593"/>
                  </a:lnTo>
                  <a:lnTo>
                    <a:pt x="290" y="657"/>
                  </a:lnTo>
                  <a:lnTo>
                    <a:pt x="292" y="722"/>
                  </a:lnTo>
                  <a:lnTo>
                    <a:pt x="292" y="787"/>
                  </a:lnTo>
                  <a:lnTo>
                    <a:pt x="294" y="853"/>
                  </a:lnTo>
                  <a:lnTo>
                    <a:pt x="292" y="921"/>
                  </a:lnTo>
                  <a:lnTo>
                    <a:pt x="290" y="987"/>
                  </a:lnTo>
                  <a:lnTo>
                    <a:pt x="287" y="1031"/>
                  </a:lnTo>
                  <a:lnTo>
                    <a:pt x="284" y="1072"/>
                  </a:lnTo>
                  <a:lnTo>
                    <a:pt x="279" y="1115"/>
                  </a:lnTo>
                  <a:lnTo>
                    <a:pt x="271" y="1160"/>
                  </a:lnTo>
                  <a:lnTo>
                    <a:pt x="264" y="1203"/>
                  </a:lnTo>
                  <a:lnTo>
                    <a:pt x="257" y="1246"/>
                  </a:lnTo>
                  <a:lnTo>
                    <a:pt x="247" y="1289"/>
                  </a:lnTo>
                  <a:lnTo>
                    <a:pt x="237" y="1332"/>
                  </a:lnTo>
                  <a:lnTo>
                    <a:pt x="227" y="1374"/>
                  </a:lnTo>
                  <a:lnTo>
                    <a:pt x="216" y="1416"/>
                  </a:lnTo>
                  <a:lnTo>
                    <a:pt x="204" y="1456"/>
                  </a:lnTo>
                  <a:lnTo>
                    <a:pt x="193" y="1497"/>
                  </a:lnTo>
                  <a:lnTo>
                    <a:pt x="167" y="1574"/>
                  </a:lnTo>
                  <a:lnTo>
                    <a:pt x="142" y="1648"/>
                  </a:lnTo>
                  <a:lnTo>
                    <a:pt x="118" y="1717"/>
                  </a:lnTo>
                  <a:lnTo>
                    <a:pt x="93" y="1778"/>
                  </a:lnTo>
                  <a:lnTo>
                    <a:pt x="71" y="1834"/>
                  </a:lnTo>
                  <a:lnTo>
                    <a:pt x="51" y="1880"/>
                  </a:lnTo>
                  <a:lnTo>
                    <a:pt x="22" y="1947"/>
                  </a:lnTo>
                  <a:lnTo>
                    <a:pt x="11" y="197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6678720" y="2770200"/>
              <a:ext cx="83880" cy="592200"/>
            </a:xfrm>
            <a:custGeom>
              <a:avLst/>
              <a:gdLst/>
              <a:ahLst/>
              <a:rect l="l" t="t" r="r" b="b"/>
              <a:pathLst>
                <a:path w="263" h="1865">
                  <a:moveTo>
                    <a:pt x="260" y="974"/>
                  </a:moveTo>
                  <a:lnTo>
                    <a:pt x="258" y="1016"/>
                  </a:lnTo>
                  <a:lnTo>
                    <a:pt x="254" y="1059"/>
                  </a:lnTo>
                  <a:lnTo>
                    <a:pt x="250" y="1101"/>
                  </a:lnTo>
                  <a:lnTo>
                    <a:pt x="244" y="1143"/>
                  </a:lnTo>
                  <a:lnTo>
                    <a:pt x="238" y="1183"/>
                  </a:lnTo>
                  <a:lnTo>
                    <a:pt x="232" y="1225"/>
                  </a:lnTo>
                  <a:lnTo>
                    <a:pt x="225" y="1264"/>
                  </a:lnTo>
                  <a:lnTo>
                    <a:pt x="216" y="1305"/>
                  </a:lnTo>
                  <a:lnTo>
                    <a:pt x="199" y="1381"/>
                  </a:lnTo>
                  <a:lnTo>
                    <a:pt x="179" y="1455"/>
                  </a:lnTo>
                  <a:lnTo>
                    <a:pt x="158" y="1525"/>
                  </a:lnTo>
                  <a:lnTo>
                    <a:pt x="137" y="1589"/>
                  </a:lnTo>
                  <a:lnTo>
                    <a:pt x="118" y="1649"/>
                  </a:lnTo>
                  <a:lnTo>
                    <a:pt x="98" y="1702"/>
                  </a:lnTo>
                  <a:lnTo>
                    <a:pt x="79" y="1749"/>
                  </a:lnTo>
                  <a:lnTo>
                    <a:pt x="62" y="1790"/>
                  </a:lnTo>
                  <a:lnTo>
                    <a:pt x="39" y="1845"/>
                  </a:lnTo>
                  <a:lnTo>
                    <a:pt x="29" y="1865"/>
                  </a:lnTo>
                  <a:lnTo>
                    <a:pt x="45" y="1761"/>
                  </a:lnTo>
                  <a:lnTo>
                    <a:pt x="61" y="1654"/>
                  </a:lnTo>
                  <a:lnTo>
                    <a:pt x="76" y="1545"/>
                  </a:lnTo>
                  <a:lnTo>
                    <a:pt x="88" y="1432"/>
                  </a:lnTo>
                  <a:lnTo>
                    <a:pt x="99" y="1315"/>
                  </a:lnTo>
                  <a:lnTo>
                    <a:pt x="109" y="1195"/>
                  </a:lnTo>
                  <a:lnTo>
                    <a:pt x="113" y="1134"/>
                  </a:lnTo>
                  <a:lnTo>
                    <a:pt x="115" y="1071"/>
                  </a:lnTo>
                  <a:lnTo>
                    <a:pt x="118" y="1008"/>
                  </a:lnTo>
                  <a:lnTo>
                    <a:pt x="119" y="945"/>
                  </a:lnTo>
                  <a:lnTo>
                    <a:pt x="119" y="893"/>
                  </a:lnTo>
                  <a:lnTo>
                    <a:pt x="119" y="845"/>
                  </a:lnTo>
                  <a:lnTo>
                    <a:pt x="118" y="797"/>
                  </a:lnTo>
                  <a:lnTo>
                    <a:pt x="115" y="750"/>
                  </a:lnTo>
                  <a:lnTo>
                    <a:pt x="110" y="662"/>
                  </a:lnTo>
                  <a:lnTo>
                    <a:pt x="103" y="579"/>
                  </a:lnTo>
                  <a:lnTo>
                    <a:pt x="94" y="502"/>
                  </a:lnTo>
                  <a:lnTo>
                    <a:pt x="83" y="432"/>
                  </a:lnTo>
                  <a:lnTo>
                    <a:pt x="72" y="366"/>
                  </a:lnTo>
                  <a:lnTo>
                    <a:pt x="61" y="309"/>
                  </a:lnTo>
                  <a:lnTo>
                    <a:pt x="50" y="257"/>
                  </a:lnTo>
                  <a:lnTo>
                    <a:pt x="39" y="211"/>
                  </a:lnTo>
                  <a:lnTo>
                    <a:pt x="28" y="172"/>
                  </a:lnTo>
                  <a:lnTo>
                    <a:pt x="19" y="140"/>
                  </a:lnTo>
                  <a:lnTo>
                    <a:pt x="4" y="97"/>
                  </a:lnTo>
                  <a:lnTo>
                    <a:pt x="0" y="82"/>
                  </a:lnTo>
                  <a:lnTo>
                    <a:pt x="1" y="80"/>
                  </a:lnTo>
                  <a:lnTo>
                    <a:pt x="3" y="71"/>
                  </a:lnTo>
                  <a:lnTo>
                    <a:pt x="7" y="59"/>
                  </a:lnTo>
                  <a:lnTo>
                    <a:pt x="12" y="45"/>
                  </a:lnTo>
                  <a:lnTo>
                    <a:pt x="18" y="32"/>
                  </a:lnTo>
                  <a:lnTo>
                    <a:pt x="23" y="18"/>
                  </a:lnTo>
                  <a:lnTo>
                    <a:pt x="27" y="8"/>
                  </a:lnTo>
                  <a:lnTo>
                    <a:pt x="29" y="4"/>
                  </a:lnTo>
                  <a:lnTo>
                    <a:pt x="34" y="2"/>
                  </a:lnTo>
                  <a:lnTo>
                    <a:pt x="46" y="1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76" y="1"/>
                  </a:lnTo>
                  <a:lnTo>
                    <a:pt x="87" y="4"/>
                  </a:lnTo>
                  <a:lnTo>
                    <a:pt x="99" y="7"/>
                  </a:lnTo>
                  <a:lnTo>
                    <a:pt x="111" y="13"/>
                  </a:lnTo>
                  <a:lnTo>
                    <a:pt x="125" y="21"/>
                  </a:lnTo>
                  <a:lnTo>
                    <a:pt x="137" y="32"/>
                  </a:lnTo>
                  <a:lnTo>
                    <a:pt x="150" y="45"/>
                  </a:lnTo>
                  <a:lnTo>
                    <a:pt x="161" y="61"/>
                  </a:lnTo>
                  <a:lnTo>
                    <a:pt x="167" y="71"/>
                  </a:lnTo>
                  <a:lnTo>
                    <a:pt x="172" y="81"/>
                  </a:lnTo>
                  <a:lnTo>
                    <a:pt x="177" y="92"/>
                  </a:lnTo>
                  <a:lnTo>
                    <a:pt x="182" y="104"/>
                  </a:lnTo>
                  <a:lnTo>
                    <a:pt x="191" y="135"/>
                  </a:lnTo>
                  <a:lnTo>
                    <a:pt x="200" y="171"/>
                  </a:lnTo>
                  <a:lnTo>
                    <a:pt x="209" y="210"/>
                  </a:lnTo>
                  <a:lnTo>
                    <a:pt x="217" y="254"/>
                  </a:lnTo>
                  <a:lnTo>
                    <a:pt x="226" y="302"/>
                  </a:lnTo>
                  <a:lnTo>
                    <a:pt x="233" y="353"/>
                  </a:lnTo>
                  <a:lnTo>
                    <a:pt x="239" y="406"/>
                  </a:lnTo>
                  <a:lnTo>
                    <a:pt x="246" y="462"/>
                  </a:lnTo>
                  <a:lnTo>
                    <a:pt x="250" y="521"/>
                  </a:lnTo>
                  <a:lnTo>
                    <a:pt x="255" y="583"/>
                  </a:lnTo>
                  <a:lnTo>
                    <a:pt x="258" y="646"/>
                  </a:lnTo>
                  <a:lnTo>
                    <a:pt x="262" y="710"/>
                  </a:lnTo>
                  <a:lnTo>
                    <a:pt x="263" y="775"/>
                  </a:lnTo>
                  <a:lnTo>
                    <a:pt x="263" y="840"/>
                  </a:lnTo>
                  <a:lnTo>
                    <a:pt x="263" y="908"/>
                  </a:lnTo>
                  <a:lnTo>
                    <a:pt x="260" y="974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6678720" y="2773440"/>
              <a:ext cx="74520" cy="558720"/>
            </a:xfrm>
            <a:custGeom>
              <a:avLst/>
              <a:gdLst/>
              <a:ahLst/>
              <a:rect l="l" t="t" r="r" b="b"/>
              <a:pathLst>
                <a:path w="233" h="1759">
                  <a:moveTo>
                    <a:pt x="231" y="963"/>
                  </a:moveTo>
                  <a:lnTo>
                    <a:pt x="228" y="1005"/>
                  </a:lnTo>
                  <a:lnTo>
                    <a:pt x="225" y="1045"/>
                  </a:lnTo>
                  <a:lnTo>
                    <a:pt x="221" y="1086"/>
                  </a:lnTo>
                  <a:lnTo>
                    <a:pt x="217" y="1127"/>
                  </a:lnTo>
                  <a:lnTo>
                    <a:pt x="212" y="1166"/>
                  </a:lnTo>
                  <a:lnTo>
                    <a:pt x="206" y="1204"/>
                  </a:lnTo>
                  <a:lnTo>
                    <a:pt x="200" y="1241"/>
                  </a:lnTo>
                  <a:lnTo>
                    <a:pt x="194" y="1278"/>
                  </a:lnTo>
                  <a:lnTo>
                    <a:pt x="179" y="1347"/>
                  </a:lnTo>
                  <a:lnTo>
                    <a:pt x="163" y="1413"/>
                  </a:lnTo>
                  <a:lnTo>
                    <a:pt x="147" y="1473"/>
                  </a:lnTo>
                  <a:lnTo>
                    <a:pt x="131" y="1530"/>
                  </a:lnTo>
                  <a:lnTo>
                    <a:pt x="115" y="1580"/>
                  </a:lnTo>
                  <a:lnTo>
                    <a:pt x="99" y="1626"/>
                  </a:lnTo>
                  <a:lnTo>
                    <a:pt x="84" y="1665"/>
                  </a:lnTo>
                  <a:lnTo>
                    <a:pt x="72" y="1697"/>
                  </a:lnTo>
                  <a:lnTo>
                    <a:pt x="52" y="1743"/>
                  </a:lnTo>
                  <a:lnTo>
                    <a:pt x="46" y="1759"/>
                  </a:lnTo>
                  <a:lnTo>
                    <a:pt x="62" y="1659"/>
                  </a:lnTo>
                  <a:lnTo>
                    <a:pt x="76" y="1563"/>
                  </a:lnTo>
                  <a:lnTo>
                    <a:pt x="88" y="1469"/>
                  </a:lnTo>
                  <a:lnTo>
                    <a:pt x="98" y="1374"/>
                  </a:lnTo>
                  <a:lnTo>
                    <a:pt x="105" y="1274"/>
                  </a:lnTo>
                  <a:lnTo>
                    <a:pt x="111" y="1170"/>
                  </a:lnTo>
                  <a:lnTo>
                    <a:pt x="116" y="1057"/>
                  </a:lnTo>
                  <a:lnTo>
                    <a:pt x="119" y="934"/>
                  </a:lnTo>
                  <a:lnTo>
                    <a:pt x="119" y="882"/>
                  </a:lnTo>
                  <a:lnTo>
                    <a:pt x="119" y="834"/>
                  </a:lnTo>
                  <a:lnTo>
                    <a:pt x="118" y="786"/>
                  </a:lnTo>
                  <a:lnTo>
                    <a:pt x="115" y="739"/>
                  </a:lnTo>
                  <a:lnTo>
                    <a:pt x="110" y="651"/>
                  </a:lnTo>
                  <a:lnTo>
                    <a:pt x="103" y="568"/>
                  </a:lnTo>
                  <a:lnTo>
                    <a:pt x="94" y="491"/>
                  </a:lnTo>
                  <a:lnTo>
                    <a:pt x="83" y="421"/>
                  </a:lnTo>
                  <a:lnTo>
                    <a:pt x="72" y="355"/>
                  </a:lnTo>
                  <a:lnTo>
                    <a:pt x="61" y="298"/>
                  </a:lnTo>
                  <a:lnTo>
                    <a:pt x="50" y="246"/>
                  </a:lnTo>
                  <a:lnTo>
                    <a:pt x="39" y="200"/>
                  </a:lnTo>
                  <a:lnTo>
                    <a:pt x="28" y="161"/>
                  </a:lnTo>
                  <a:lnTo>
                    <a:pt x="19" y="129"/>
                  </a:lnTo>
                  <a:lnTo>
                    <a:pt x="4" y="86"/>
                  </a:lnTo>
                  <a:lnTo>
                    <a:pt x="0" y="71"/>
                  </a:lnTo>
                  <a:lnTo>
                    <a:pt x="1" y="69"/>
                  </a:lnTo>
                  <a:lnTo>
                    <a:pt x="3" y="61"/>
                  </a:lnTo>
                  <a:lnTo>
                    <a:pt x="7" y="50"/>
                  </a:lnTo>
                  <a:lnTo>
                    <a:pt x="11" y="38"/>
                  </a:lnTo>
                  <a:lnTo>
                    <a:pt x="16" y="26"/>
                  </a:lnTo>
                  <a:lnTo>
                    <a:pt x="19" y="15"/>
                  </a:lnTo>
                  <a:lnTo>
                    <a:pt x="22" y="6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60" y="2"/>
                  </a:lnTo>
                  <a:lnTo>
                    <a:pt x="68" y="6"/>
                  </a:lnTo>
                  <a:lnTo>
                    <a:pt x="78" y="10"/>
                  </a:lnTo>
                  <a:lnTo>
                    <a:pt x="88" y="16"/>
                  </a:lnTo>
                  <a:lnTo>
                    <a:pt x="99" y="25"/>
                  </a:lnTo>
                  <a:lnTo>
                    <a:pt x="109" y="34"/>
                  </a:lnTo>
                  <a:lnTo>
                    <a:pt x="119" y="47"/>
                  </a:lnTo>
                  <a:lnTo>
                    <a:pt x="129" y="63"/>
                  </a:lnTo>
                  <a:lnTo>
                    <a:pt x="137" y="80"/>
                  </a:lnTo>
                  <a:lnTo>
                    <a:pt x="146" y="102"/>
                  </a:lnTo>
                  <a:lnTo>
                    <a:pt x="156" y="133"/>
                  </a:lnTo>
                  <a:lnTo>
                    <a:pt x="166" y="167"/>
                  </a:lnTo>
                  <a:lnTo>
                    <a:pt x="174" y="208"/>
                  </a:lnTo>
                  <a:lnTo>
                    <a:pt x="183" y="251"/>
                  </a:lnTo>
                  <a:lnTo>
                    <a:pt x="191" y="298"/>
                  </a:lnTo>
                  <a:lnTo>
                    <a:pt x="200" y="347"/>
                  </a:lnTo>
                  <a:lnTo>
                    <a:pt x="207" y="400"/>
                  </a:lnTo>
                  <a:lnTo>
                    <a:pt x="214" y="456"/>
                  </a:lnTo>
                  <a:lnTo>
                    <a:pt x="220" y="514"/>
                  </a:lnTo>
                  <a:lnTo>
                    <a:pt x="225" y="574"/>
                  </a:lnTo>
                  <a:lnTo>
                    <a:pt x="228" y="636"/>
                  </a:lnTo>
                  <a:lnTo>
                    <a:pt x="231" y="700"/>
                  </a:lnTo>
                  <a:lnTo>
                    <a:pt x="233" y="764"/>
                  </a:lnTo>
                  <a:lnTo>
                    <a:pt x="233" y="830"/>
                  </a:lnTo>
                  <a:lnTo>
                    <a:pt x="233" y="897"/>
                  </a:lnTo>
                  <a:lnTo>
                    <a:pt x="231" y="963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6678720" y="2776680"/>
              <a:ext cx="65160" cy="525240"/>
            </a:xfrm>
            <a:custGeom>
              <a:avLst/>
              <a:gdLst/>
              <a:ahLst/>
              <a:rect l="l" t="t" r="r" b="b"/>
              <a:pathLst>
                <a:path w="204" h="1652">
                  <a:moveTo>
                    <a:pt x="200" y="949"/>
                  </a:moveTo>
                  <a:lnTo>
                    <a:pt x="196" y="1031"/>
                  </a:lnTo>
                  <a:lnTo>
                    <a:pt x="189" y="1108"/>
                  </a:lnTo>
                  <a:lnTo>
                    <a:pt x="180" y="1181"/>
                  </a:lnTo>
                  <a:lnTo>
                    <a:pt x="171" y="1250"/>
                  </a:lnTo>
                  <a:lnTo>
                    <a:pt x="159" y="1313"/>
                  </a:lnTo>
                  <a:lnTo>
                    <a:pt x="148" y="1370"/>
                  </a:lnTo>
                  <a:lnTo>
                    <a:pt x="136" y="1422"/>
                  </a:lnTo>
                  <a:lnTo>
                    <a:pt x="124" y="1470"/>
                  </a:lnTo>
                  <a:lnTo>
                    <a:pt x="113" y="1512"/>
                  </a:lnTo>
                  <a:lnTo>
                    <a:pt x="100" y="1549"/>
                  </a:lnTo>
                  <a:lnTo>
                    <a:pt x="91" y="1580"/>
                  </a:lnTo>
                  <a:lnTo>
                    <a:pt x="81" y="1605"/>
                  </a:lnTo>
                  <a:lnTo>
                    <a:pt x="67" y="1640"/>
                  </a:lnTo>
                  <a:lnTo>
                    <a:pt x="62" y="1652"/>
                  </a:lnTo>
                  <a:lnTo>
                    <a:pt x="77" y="1556"/>
                  </a:lnTo>
                  <a:lnTo>
                    <a:pt x="89" y="1471"/>
                  </a:lnTo>
                  <a:lnTo>
                    <a:pt x="99" y="1393"/>
                  </a:lnTo>
                  <a:lnTo>
                    <a:pt x="105" y="1314"/>
                  </a:lnTo>
                  <a:lnTo>
                    <a:pt x="110" y="1233"/>
                  </a:lnTo>
                  <a:lnTo>
                    <a:pt x="114" y="1143"/>
                  </a:lnTo>
                  <a:lnTo>
                    <a:pt x="116" y="1041"/>
                  </a:lnTo>
                  <a:lnTo>
                    <a:pt x="119" y="922"/>
                  </a:lnTo>
                  <a:lnTo>
                    <a:pt x="119" y="870"/>
                  </a:lnTo>
                  <a:lnTo>
                    <a:pt x="119" y="822"/>
                  </a:lnTo>
                  <a:lnTo>
                    <a:pt x="118" y="774"/>
                  </a:lnTo>
                  <a:lnTo>
                    <a:pt x="115" y="727"/>
                  </a:lnTo>
                  <a:lnTo>
                    <a:pt x="110" y="639"/>
                  </a:lnTo>
                  <a:lnTo>
                    <a:pt x="103" y="556"/>
                  </a:lnTo>
                  <a:lnTo>
                    <a:pt x="94" y="479"/>
                  </a:lnTo>
                  <a:lnTo>
                    <a:pt x="83" y="409"/>
                  </a:lnTo>
                  <a:lnTo>
                    <a:pt x="72" y="343"/>
                  </a:lnTo>
                  <a:lnTo>
                    <a:pt x="61" y="286"/>
                  </a:lnTo>
                  <a:lnTo>
                    <a:pt x="50" y="234"/>
                  </a:lnTo>
                  <a:lnTo>
                    <a:pt x="39" y="188"/>
                  </a:lnTo>
                  <a:lnTo>
                    <a:pt x="28" y="149"/>
                  </a:lnTo>
                  <a:lnTo>
                    <a:pt x="19" y="117"/>
                  </a:lnTo>
                  <a:lnTo>
                    <a:pt x="4" y="74"/>
                  </a:lnTo>
                  <a:lnTo>
                    <a:pt x="0" y="59"/>
                  </a:lnTo>
                  <a:lnTo>
                    <a:pt x="1" y="57"/>
                  </a:lnTo>
                  <a:lnTo>
                    <a:pt x="2" y="51"/>
                  </a:lnTo>
                  <a:lnTo>
                    <a:pt x="6" y="42"/>
                  </a:lnTo>
                  <a:lnTo>
                    <a:pt x="9" y="31"/>
                  </a:lnTo>
                  <a:lnTo>
                    <a:pt x="13" y="20"/>
                  </a:lnTo>
                  <a:lnTo>
                    <a:pt x="17" y="10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9" y="3"/>
                  </a:lnTo>
                  <a:lnTo>
                    <a:pt x="50" y="9"/>
                  </a:lnTo>
                  <a:lnTo>
                    <a:pt x="57" y="13"/>
                  </a:lnTo>
                  <a:lnTo>
                    <a:pt x="63" y="19"/>
                  </a:lnTo>
                  <a:lnTo>
                    <a:pt x="71" y="27"/>
                  </a:lnTo>
                  <a:lnTo>
                    <a:pt x="78" y="37"/>
                  </a:lnTo>
                  <a:lnTo>
                    <a:pt x="86" y="48"/>
                  </a:lnTo>
                  <a:lnTo>
                    <a:pt x="93" y="63"/>
                  </a:lnTo>
                  <a:lnTo>
                    <a:pt x="100" y="79"/>
                  </a:lnTo>
                  <a:lnTo>
                    <a:pt x="108" y="97"/>
                  </a:lnTo>
                  <a:lnTo>
                    <a:pt x="118" y="128"/>
                  </a:lnTo>
                  <a:lnTo>
                    <a:pt x="127" y="164"/>
                  </a:lnTo>
                  <a:lnTo>
                    <a:pt x="137" y="202"/>
                  </a:lnTo>
                  <a:lnTo>
                    <a:pt x="147" y="245"/>
                  </a:lnTo>
                  <a:lnTo>
                    <a:pt x="156" y="291"/>
                  </a:lnTo>
                  <a:lnTo>
                    <a:pt x="164" y="340"/>
                  </a:lnTo>
                  <a:lnTo>
                    <a:pt x="173" y="391"/>
                  </a:lnTo>
                  <a:lnTo>
                    <a:pt x="180" y="447"/>
                  </a:lnTo>
                  <a:lnTo>
                    <a:pt x="187" y="503"/>
                  </a:lnTo>
                  <a:lnTo>
                    <a:pt x="193" y="562"/>
                  </a:lnTo>
                  <a:lnTo>
                    <a:pt x="196" y="624"/>
                  </a:lnTo>
                  <a:lnTo>
                    <a:pt x="200" y="687"/>
                  </a:lnTo>
                  <a:lnTo>
                    <a:pt x="203" y="751"/>
                  </a:lnTo>
                  <a:lnTo>
                    <a:pt x="204" y="816"/>
                  </a:lnTo>
                  <a:lnTo>
                    <a:pt x="203" y="882"/>
                  </a:lnTo>
                  <a:lnTo>
                    <a:pt x="200" y="949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6678720" y="2779920"/>
              <a:ext cx="55440" cy="492120"/>
            </a:xfrm>
            <a:custGeom>
              <a:avLst/>
              <a:gdLst/>
              <a:ahLst/>
              <a:rect l="l" t="t" r="r" b="b"/>
              <a:pathLst>
                <a:path w="173" h="1548">
                  <a:moveTo>
                    <a:pt x="78" y="1548"/>
                  </a:moveTo>
                  <a:lnTo>
                    <a:pt x="93" y="1457"/>
                  </a:lnTo>
                  <a:lnTo>
                    <a:pt x="103" y="1383"/>
                  </a:lnTo>
                  <a:lnTo>
                    <a:pt x="107" y="1350"/>
                  </a:lnTo>
                  <a:lnTo>
                    <a:pt x="110" y="1319"/>
                  </a:lnTo>
                  <a:lnTo>
                    <a:pt x="113" y="1289"/>
                  </a:lnTo>
                  <a:lnTo>
                    <a:pt x="114" y="1258"/>
                  </a:lnTo>
                  <a:lnTo>
                    <a:pt x="116" y="1194"/>
                  </a:lnTo>
                  <a:lnTo>
                    <a:pt x="116" y="1120"/>
                  </a:lnTo>
                  <a:lnTo>
                    <a:pt x="118" y="1028"/>
                  </a:lnTo>
                  <a:lnTo>
                    <a:pt x="119" y="914"/>
                  </a:lnTo>
                  <a:lnTo>
                    <a:pt x="119" y="862"/>
                  </a:lnTo>
                  <a:lnTo>
                    <a:pt x="119" y="814"/>
                  </a:lnTo>
                  <a:lnTo>
                    <a:pt x="118" y="766"/>
                  </a:lnTo>
                  <a:lnTo>
                    <a:pt x="115" y="719"/>
                  </a:lnTo>
                  <a:lnTo>
                    <a:pt x="110" y="631"/>
                  </a:lnTo>
                  <a:lnTo>
                    <a:pt x="103" y="548"/>
                  </a:lnTo>
                  <a:lnTo>
                    <a:pt x="94" y="471"/>
                  </a:lnTo>
                  <a:lnTo>
                    <a:pt x="83" y="401"/>
                  </a:lnTo>
                  <a:lnTo>
                    <a:pt x="72" y="335"/>
                  </a:lnTo>
                  <a:lnTo>
                    <a:pt x="61" y="278"/>
                  </a:lnTo>
                  <a:lnTo>
                    <a:pt x="50" y="226"/>
                  </a:lnTo>
                  <a:lnTo>
                    <a:pt x="39" y="180"/>
                  </a:lnTo>
                  <a:lnTo>
                    <a:pt x="28" y="141"/>
                  </a:lnTo>
                  <a:lnTo>
                    <a:pt x="19" y="109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1" y="50"/>
                  </a:lnTo>
                  <a:lnTo>
                    <a:pt x="2" y="44"/>
                  </a:lnTo>
                  <a:lnTo>
                    <a:pt x="4" y="37"/>
                  </a:lnTo>
                  <a:lnTo>
                    <a:pt x="8" y="27"/>
                  </a:lnTo>
                  <a:lnTo>
                    <a:pt x="12" y="18"/>
                  </a:lnTo>
                  <a:lnTo>
                    <a:pt x="14" y="9"/>
                  </a:lnTo>
                  <a:lnTo>
                    <a:pt x="17" y="3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3" y="2"/>
                  </a:lnTo>
                  <a:lnTo>
                    <a:pt x="27" y="6"/>
                  </a:lnTo>
                  <a:lnTo>
                    <a:pt x="34" y="13"/>
                  </a:lnTo>
                  <a:lnTo>
                    <a:pt x="41" y="25"/>
                  </a:lnTo>
                  <a:lnTo>
                    <a:pt x="51" y="43"/>
                  </a:lnTo>
                  <a:lnTo>
                    <a:pt x="61" y="66"/>
                  </a:lnTo>
                  <a:lnTo>
                    <a:pt x="73" y="98"/>
                  </a:lnTo>
                  <a:lnTo>
                    <a:pt x="83" y="129"/>
                  </a:lnTo>
                  <a:lnTo>
                    <a:pt x="93" y="163"/>
                  </a:lnTo>
                  <a:lnTo>
                    <a:pt x="103" y="201"/>
                  </a:lnTo>
                  <a:lnTo>
                    <a:pt x="113" y="243"/>
                  </a:lnTo>
                  <a:lnTo>
                    <a:pt x="121" y="289"/>
                  </a:lnTo>
                  <a:lnTo>
                    <a:pt x="131" y="338"/>
                  </a:lnTo>
                  <a:lnTo>
                    <a:pt x="140" y="388"/>
                  </a:lnTo>
                  <a:lnTo>
                    <a:pt x="147" y="442"/>
                  </a:lnTo>
                  <a:lnTo>
                    <a:pt x="155" y="499"/>
                  </a:lnTo>
                  <a:lnTo>
                    <a:pt x="161" y="557"/>
                  </a:lnTo>
                  <a:lnTo>
                    <a:pt x="166" y="617"/>
                  </a:lnTo>
                  <a:lnTo>
                    <a:pt x="169" y="679"/>
                  </a:lnTo>
                  <a:lnTo>
                    <a:pt x="172" y="741"/>
                  </a:lnTo>
                  <a:lnTo>
                    <a:pt x="173" y="806"/>
                  </a:lnTo>
                  <a:lnTo>
                    <a:pt x="173" y="872"/>
                  </a:lnTo>
                  <a:lnTo>
                    <a:pt x="171" y="937"/>
                  </a:lnTo>
                  <a:lnTo>
                    <a:pt x="167" y="1019"/>
                  </a:lnTo>
                  <a:lnTo>
                    <a:pt x="161" y="1094"/>
                  </a:lnTo>
                  <a:lnTo>
                    <a:pt x="155" y="1162"/>
                  </a:lnTo>
                  <a:lnTo>
                    <a:pt x="148" y="1225"/>
                  </a:lnTo>
                  <a:lnTo>
                    <a:pt x="141" y="1280"/>
                  </a:lnTo>
                  <a:lnTo>
                    <a:pt x="134" y="1330"/>
                  </a:lnTo>
                  <a:lnTo>
                    <a:pt x="125" y="1375"/>
                  </a:lnTo>
                  <a:lnTo>
                    <a:pt x="118" y="1413"/>
                  </a:lnTo>
                  <a:lnTo>
                    <a:pt x="110" y="1446"/>
                  </a:lnTo>
                  <a:lnTo>
                    <a:pt x="103" y="1474"/>
                  </a:lnTo>
                  <a:lnTo>
                    <a:pt x="95" y="1498"/>
                  </a:lnTo>
                  <a:lnTo>
                    <a:pt x="91" y="1517"/>
                  </a:lnTo>
                  <a:lnTo>
                    <a:pt x="82" y="1541"/>
                  </a:lnTo>
                  <a:lnTo>
                    <a:pt x="78" y="1548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6218280" y="1795680"/>
              <a:ext cx="787320" cy="985680"/>
            </a:xfrm>
            <a:custGeom>
              <a:avLst/>
              <a:gdLst/>
              <a:ahLst/>
              <a:rect l="l" t="t" r="r" b="b"/>
              <a:pathLst>
                <a:path w="2480" h="3104">
                  <a:moveTo>
                    <a:pt x="1994" y="76"/>
                  </a:moveTo>
                  <a:lnTo>
                    <a:pt x="2008" y="84"/>
                  </a:lnTo>
                  <a:lnTo>
                    <a:pt x="2045" y="110"/>
                  </a:lnTo>
                  <a:lnTo>
                    <a:pt x="2069" y="128"/>
                  </a:lnTo>
                  <a:lnTo>
                    <a:pt x="2098" y="151"/>
                  </a:lnTo>
                  <a:lnTo>
                    <a:pt x="2128" y="175"/>
                  </a:lnTo>
                  <a:lnTo>
                    <a:pt x="2162" y="203"/>
                  </a:lnTo>
                  <a:lnTo>
                    <a:pt x="2195" y="235"/>
                  </a:lnTo>
                  <a:lnTo>
                    <a:pt x="2228" y="270"/>
                  </a:lnTo>
                  <a:lnTo>
                    <a:pt x="2245" y="288"/>
                  </a:lnTo>
                  <a:lnTo>
                    <a:pt x="2261" y="307"/>
                  </a:lnTo>
                  <a:lnTo>
                    <a:pt x="2277" y="325"/>
                  </a:lnTo>
                  <a:lnTo>
                    <a:pt x="2293" y="345"/>
                  </a:lnTo>
                  <a:lnTo>
                    <a:pt x="2308" y="366"/>
                  </a:lnTo>
                  <a:lnTo>
                    <a:pt x="2323" y="387"/>
                  </a:lnTo>
                  <a:lnTo>
                    <a:pt x="2335" y="408"/>
                  </a:lnTo>
                  <a:lnTo>
                    <a:pt x="2349" y="430"/>
                  </a:lnTo>
                  <a:lnTo>
                    <a:pt x="2360" y="452"/>
                  </a:lnTo>
                  <a:lnTo>
                    <a:pt x="2371" y="474"/>
                  </a:lnTo>
                  <a:lnTo>
                    <a:pt x="2379" y="497"/>
                  </a:lnTo>
                  <a:lnTo>
                    <a:pt x="2388" y="521"/>
                  </a:lnTo>
                  <a:lnTo>
                    <a:pt x="2402" y="568"/>
                  </a:lnTo>
                  <a:lnTo>
                    <a:pt x="2413" y="613"/>
                  </a:lnTo>
                  <a:lnTo>
                    <a:pt x="2421" y="659"/>
                  </a:lnTo>
                  <a:lnTo>
                    <a:pt x="2429" y="704"/>
                  </a:lnTo>
                  <a:lnTo>
                    <a:pt x="2433" y="748"/>
                  </a:lnTo>
                  <a:lnTo>
                    <a:pt x="2437" y="791"/>
                  </a:lnTo>
                  <a:lnTo>
                    <a:pt x="2440" y="833"/>
                  </a:lnTo>
                  <a:lnTo>
                    <a:pt x="2440" y="874"/>
                  </a:lnTo>
                  <a:lnTo>
                    <a:pt x="2440" y="913"/>
                  </a:lnTo>
                  <a:lnTo>
                    <a:pt x="2437" y="950"/>
                  </a:lnTo>
                  <a:lnTo>
                    <a:pt x="2435" y="987"/>
                  </a:lnTo>
                  <a:lnTo>
                    <a:pt x="2431" y="1021"/>
                  </a:lnTo>
                  <a:lnTo>
                    <a:pt x="2427" y="1053"/>
                  </a:lnTo>
                  <a:lnTo>
                    <a:pt x="2422" y="1083"/>
                  </a:lnTo>
                  <a:lnTo>
                    <a:pt x="2418" y="1111"/>
                  </a:lnTo>
                  <a:lnTo>
                    <a:pt x="2413" y="1137"/>
                  </a:lnTo>
                  <a:lnTo>
                    <a:pt x="2403" y="1181"/>
                  </a:lnTo>
                  <a:lnTo>
                    <a:pt x="2394" y="1219"/>
                  </a:lnTo>
                  <a:lnTo>
                    <a:pt x="2386" y="1249"/>
                  </a:lnTo>
                  <a:lnTo>
                    <a:pt x="2377" y="1271"/>
                  </a:lnTo>
                  <a:lnTo>
                    <a:pt x="2371" y="1288"/>
                  </a:lnTo>
                  <a:lnTo>
                    <a:pt x="2366" y="1299"/>
                  </a:lnTo>
                  <a:lnTo>
                    <a:pt x="2362" y="1307"/>
                  </a:lnTo>
                  <a:lnTo>
                    <a:pt x="2361" y="1308"/>
                  </a:lnTo>
                  <a:lnTo>
                    <a:pt x="2363" y="1314"/>
                  </a:lnTo>
                  <a:lnTo>
                    <a:pt x="2370" y="1334"/>
                  </a:lnTo>
                  <a:lnTo>
                    <a:pt x="2379" y="1363"/>
                  </a:lnTo>
                  <a:lnTo>
                    <a:pt x="2392" y="1401"/>
                  </a:lnTo>
                  <a:lnTo>
                    <a:pt x="2406" y="1448"/>
                  </a:lnTo>
                  <a:lnTo>
                    <a:pt x="2421" y="1502"/>
                  </a:lnTo>
                  <a:lnTo>
                    <a:pt x="2437" y="1560"/>
                  </a:lnTo>
                  <a:lnTo>
                    <a:pt x="2453" y="1623"/>
                  </a:lnTo>
                  <a:lnTo>
                    <a:pt x="2459" y="1656"/>
                  </a:lnTo>
                  <a:lnTo>
                    <a:pt x="2465" y="1692"/>
                  </a:lnTo>
                  <a:lnTo>
                    <a:pt x="2472" y="1729"/>
                  </a:lnTo>
                  <a:lnTo>
                    <a:pt x="2475" y="1767"/>
                  </a:lnTo>
                  <a:lnTo>
                    <a:pt x="2478" y="1806"/>
                  </a:lnTo>
                  <a:lnTo>
                    <a:pt x="2480" y="1848"/>
                  </a:lnTo>
                  <a:lnTo>
                    <a:pt x="2480" y="1890"/>
                  </a:lnTo>
                  <a:lnTo>
                    <a:pt x="2479" y="1933"/>
                  </a:lnTo>
                  <a:lnTo>
                    <a:pt x="2475" y="1977"/>
                  </a:lnTo>
                  <a:lnTo>
                    <a:pt x="2470" y="2021"/>
                  </a:lnTo>
                  <a:lnTo>
                    <a:pt x="2462" y="2067"/>
                  </a:lnTo>
                  <a:lnTo>
                    <a:pt x="2453" y="2111"/>
                  </a:lnTo>
                  <a:lnTo>
                    <a:pt x="2447" y="2135"/>
                  </a:lnTo>
                  <a:lnTo>
                    <a:pt x="2441" y="2157"/>
                  </a:lnTo>
                  <a:lnTo>
                    <a:pt x="2433" y="2179"/>
                  </a:lnTo>
                  <a:lnTo>
                    <a:pt x="2426" y="2202"/>
                  </a:lnTo>
                  <a:lnTo>
                    <a:pt x="2418" y="2224"/>
                  </a:lnTo>
                  <a:lnTo>
                    <a:pt x="2408" y="2246"/>
                  </a:lnTo>
                  <a:lnTo>
                    <a:pt x="2398" y="2270"/>
                  </a:lnTo>
                  <a:lnTo>
                    <a:pt x="2388" y="2292"/>
                  </a:lnTo>
                  <a:lnTo>
                    <a:pt x="2344" y="2377"/>
                  </a:lnTo>
                  <a:lnTo>
                    <a:pt x="2299" y="2458"/>
                  </a:lnTo>
                  <a:lnTo>
                    <a:pt x="2258" y="2533"/>
                  </a:lnTo>
                  <a:lnTo>
                    <a:pt x="2217" y="2606"/>
                  </a:lnTo>
                  <a:lnTo>
                    <a:pt x="2179" y="2674"/>
                  </a:lnTo>
                  <a:lnTo>
                    <a:pt x="2144" y="2741"/>
                  </a:lnTo>
                  <a:lnTo>
                    <a:pt x="2128" y="2773"/>
                  </a:lnTo>
                  <a:lnTo>
                    <a:pt x="2112" y="2806"/>
                  </a:lnTo>
                  <a:lnTo>
                    <a:pt x="2099" y="2838"/>
                  </a:lnTo>
                  <a:lnTo>
                    <a:pt x="2087" y="2870"/>
                  </a:lnTo>
                  <a:lnTo>
                    <a:pt x="2079" y="2886"/>
                  </a:lnTo>
                  <a:lnTo>
                    <a:pt x="2072" y="2901"/>
                  </a:lnTo>
                  <a:lnTo>
                    <a:pt x="2063" y="2917"/>
                  </a:lnTo>
                  <a:lnTo>
                    <a:pt x="2053" y="2932"/>
                  </a:lnTo>
                  <a:lnTo>
                    <a:pt x="2043" y="2946"/>
                  </a:lnTo>
                  <a:lnTo>
                    <a:pt x="2032" y="2961"/>
                  </a:lnTo>
                  <a:lnTo>
                    <a:pt x="2020" y="2975"/>
                  </a:lnTo>
                  <a:lnTo>
                    <a:pt x="2007" y="2988"/>
                  </a:lnTo>
                  <a:lnTo>
                    <a:pt x="1993" y="3002"/>
                  </a:lnTo>
                  <a:lnTo>
                    <a:pt x="1978" y="3014"/>
                  </a:lnTo>
                  <a:lnTo>
                    <a:pt x="1964" y="3025"/>
                  </a:lnTo>
                  <a:lnTo>
                    <a:pt x="1946" y="3037"/>
                  </a:lnTo>
                  <a:lnTo>
                    <a:pt x="1929" y="3047"/>
                  </a:lnTo>
                  <a:lnTo>
                    <a:pt x="1912" y="3057"/>
                  </a:lnTo>
                  <a:lnTo>
                    <a:pt x="1892" y="3066"/>
                  </a:lnTo>
                  <a:lnTo>
                    <a:pt x="1872" y="3074"/>
                  </a:lnTo>
                  <a:lnTo>
                    <a:pt x="1852" y="3082"/>
                  </a:lnTo>
                  <a:lnTo>
                    <a:pt x="1831" y="3088"/>
                  </a:lnTo>
                  <a:lnTo>
                    <a:pt x="1809" y="3093"/>
                  </a:lnTo>
                  <a:lnTo>
                    <a:pt x="1785" y="3098"/>
                  </a:lnTo>
                  <a:lnTo>
                    <a:pt x="1762" y="3100"/>
                  </a:lnTo>
                  <a:lnTo>
                    <a:pt x="1737" y="3103"/>
                  </a:lnTo>
                  <a:lnTo>
                    <a:pt x="1711" y="3104"/>
                  </a:lnTo>
                  <a:lnTo>
                    <a:pt x="1684" y="3104"/>
                  </a:lnTo>
                  <a:lnTo>
                    <a:pt x="1657" y="3103"/>
                  </a:lnTo>
                  <a:lnTo>
                    <a:pt x="1630" y="3099"/>
                  </a:lnTo>
                  <a:lnTo>
                    <a:pt x="1601" y="3095"/>
                  </a:lnTo>
                  <a:lnTo>
                    <a:pt x="1571" y="3089"/>
                  </a:lnTo>
                  <a:lnTo>
                    <a:pt x="1540" y="3083"/>
                  </a:lnTo>
                  <a:lnTo>
                    <a:pt x="1510" y="3074"/>
                  </a:lnTo>
                  <a:lnTo>
                    <a:pt x="1478" y="3063"/>
                  </a:lnTo>
                  <a:lnTo>
                    <a:pt x="1446" y="3052"/>
                  </a:lnTo>
                  <a:lnTo>
                    <a:pt x="1311" y="3005"/>
                  </a:lnTo>
                  <a:lnTo>
                    <a:pt x="1177" y="2962"/>
                  </a:lnTo>
                  <a:lnTo>
                    <a:pt x="1112" y="2939"/>
                  </a:lnTo>
                  <a:lnTo>
                    <a:pt x="1047" y="2914"/>
                  </a:lnTo>
                  <a:lnTo>
                    <a:pt x="1014" y="2901"/>
                  </a:lnTo>
                  <a:lnTo>
                    <a:pt x="983" y="2887"/>
                  </a:lnTo>
                  <a:lnTo>
                    <a:pt x="951" y="2873"/>
                  </a:lnTo>
                  <a:lnTo>
                    <a:pt x="920" y="2858"/>
                  </a:lnTo>
                  <a:lnTo>
                    <a:pt x="890" y="2842"/>
                  </a:lnTo>
                  <a:lnTo>
                    <a:pt x="859" y="2825"/>
                  </a:lnTo>
                  <a:lnTo>
                    <a:pt x="829" y="2806"/>
                  </a:lnTo>
                  <a:lnTo>
                    <a:pt x="801" y="2788"/>
                  </a:lnTo>
                  <a:lnTo>
                    <a:pt x="773" y="2767"/>
                  </a:lnTo>
                  <a:lnTo>
                    <a:pt x="744" y="2745"/>
                  </a:lnTo>
                  <a:lnTo>
                    <a:pt x="717" y="2721"/>
                  </a:lnTo>
                  <a:lnTo>
                    <a:pt x="691" y="2697"/>
                  </a:lnTo>
                  <a:lnTo>
                    <a:pt x="666" y="2671"/>
                  </a:lnTo>
                  <a:lnTo>
                    <a:pt x="641" y="2643"/>
                  </a:lnTo>
                  <a:lnTo>
                    <a:pt x="618" y="2613"/>
                  </a:lnTo>
                  <a:lnTo>
                    <a:pt x="595" y="2581"/>
                  </a:lnTo>
                  <a:lnTo>
                    <a:pt x="573" y="2548"/>
                  </a:lnTo>
                  <a:lnTo>
                    <a:pt x="552" y="2512"/>
                  </a:lnTo>
                  <a:lnTo>
                    <a:pt x="531" y="2475"/>
                  </a:lnTo>
                  <a:lnTo>
                    <a:pt x="513" y="2436"/>
                  </a:lnTo>
                  <a:lnTo>
                    <a:pt x="449" y="2293"/>
                  </a:lnTo>
                  <a:lnTo>
                    <a:pt x="400" y="2187"/>
                  </a:lnTo>
                  <a:lnTo>
                    <a:pt x="365" y="2114"/>
                  </a:lnTo>
                  <a:lnTo>
                    <a:pt x="342" y="2064"/>
                  </a:lnTo>
                  <a:lnTo>
                    <a:pt x="327" y="2036"/>
                  </a:lnTo>
                  <a:lnTo>
                    <a:pt x="321" y="2021"/>
                  </a:lnTo>
                  <a:lnTo>
                    <a:pt x="317" y="2018"/>
                  </a:lnTo>
                  <a:lnTo>
                    <a:pt x="317" y="2018"/>
                  </a:lnTo>
                  <a:lnTo>
                    <a:pt x="314" y="2020"/>
                  </a:lnTo>
                  <a:lnTo>
                    <a:pt x="301" y="2029"/>
                  </a:lnTo>
                  <a:lnTo>
                    <a:pt x="294" y="2034"/>
                  </a:lnTo>
                  <a:lnTo>
                    <a:pt x="284" y="2037"/>
                  </a:lnTo>
                  <a:lnTo>
                    <a:pt x="273" y="2040"/>
                  </a:lnTo>
                  <a:lnTo>
                    <a:pt x="262" y="2042"/>
                  </a:lnTo>
                  <a:lnTo>
                    <a:pt x="249" y="2042"/>
                  </a:lnTo>
                  <a:lnTo>
                    <a:pt x="235" y="2040"/>
                  </a:lnTo>
                  <a:lnTo>
                    <a:pt x="228" y="2037"/>
                  </a:lnTo>
                  <a:lnTo>
                    <a:pt x="221" y="2035"/>
                  </a:lnTo>
                  <a:lnTo>
                    <a:pt x="214" y="2031"/>
                  </a:lnTo>
                  <a:lnTo>
                    <a:pt x="207" y="2026"/>
                  </a:lnTo>
                  <a:lnTo>
                    <a:pt x="199" y="2020"/>
                  </a:lnTo>
                  <a:lnTo>
                    <a:pt x="192" y="2014"/>
                  </a:lnTo>
                  <a:lnTo>
                    <a:pt x="183" y="2007"/>
                  </a:lnTo>
                  <a:lnTo>
                    <a:pt x="176" y="1998"/>
                  </a:lnTo>
                  <a:lnTo>
                    <a:pt x="169" y="1987"/>
                  </a:lnTo>
                  <a:lnTo>
                    <a:pt x="161" y="1976"/>
                  </a:lnTo>
                  <a:lnTo>
                    <a:pt x="154" y="1964"/>
                  </a:lnTo>
                  <a:lnTo>
                    <a:pt x="146" y="1949"/>
                  </a:lnTo>
                  <a:lnTo>
                    <a:pt x="114" y="1886"/>
                  </a:lnTo>
                  <a:lnTo>
                    <a:pt x="79" y="1816"/>
                  </a:lnTo>
                  <a:lnTo>
                    <a:pt x="62" y="1778"/>
                  </a:lnTo>
                  <a:lnTo>
                    <a:pt x="46" y="1740"/>
                  </a:lnTo>
                  <a:lnTo>
                    <a:pt x="31" y="1699"/>
                  </a:lnTo>
                  <a:lnTo>
                    <a:pt x="18" y="1659"/>
                  </a:lnTo>
                  <a:lnTo>
                    <a:pt x="14" y="1639"/>
                  </a:lnTo>
                  <a:lnTo>
                    <a:pt x="9" y="1618"/>
                  </a:lnTo>
                  <a:lnTo>
                    <a:pt x="5" y="1598"/>
                  </a:lnTo>
                  <a:lnTo>
                    <a:pt x="2" y="1577"/>
                  </a:lnTo>
                  <a:lnTo>
                    <a:pt x="1" y="1556"/>
                  </a:lnTo>
                  <a:lnTo>
                    <a:pt x="0" y="1537"/>
                  </a:lnTo>
                  <a:lnTo>
                    <a:pt x="1" y="1517"/>
                  </a:lnTo>
                  <a:lnTo>
                    <a:pt x="2" y="1496"/>
                  </a:lnTo>
                  <a:lnTo>
                    <a:pt x="5" y="1476"/>
                  </a:lnTo>
                  <a:lnTo>
                    <a:pt x="10" y="1457"/>
                  </a:lnTo>
                  <a:lnTo>
                    <a:pt x="15" y="1438"/>
                  </a:lnTo>
                  <a:lnTo>
                    <a:pt x="22" y="1419"/>
                  </a:lnTo>
                  <a:lnTo>
                    <a:pt x="31" y="1400"/>
                  </a:lnTo>
                  <a:lnTo>
                    <a:pt x="42" y="1382"/>
                  </a:lnTo>
                  <a:lnTo>
                    <a:pt x="54" y="1363"/>
                  </a:lnTo>
                  <a:lnTo>
                    <a:pt x="68" y="1346"/>
                  </a:lnTo>
                  <a:lnTo>
                    <a:pt x="82" y="1330"/>
                  </a:lnTo>
                  <a:lnTo>
                    <a:pt x="96" y="1318"/>
                  </a:lnTo>
                  <a:lnTo>
                    <a:pt x="111" y="1308"/>
                  </a:lnTo>
                  <a:lnTo>
                    <a:pt x="123" y="1299"/>
                  </a:lnTo>
                  <a:lnTo>
                    <a:pt x="137" y="1294"/>
                  </a:lnTo>
                  <a:lnTo>
                    <a:pt x="149" y="1291"/>
                  </a:lnTo>
                  <a:lnTo>
                    <a:pt x="161" y="1290"/>
                  </a:lnTo>
                  <a:lnTo>
                    <a:pt x="173" y="1291"/>
                  </a:lnTo>
                  <a:lnTo>
                    <a:pt x="185" y="1292"/>
                  </a:lnTo>
                  <a:lnTo>
                    <a:pt x="196" y="1297"/>
                  </a:lnTo>
                  <a:lnTo>
                    <a:pt x="205" y="1302"/>
                  </a:lnTo>
                  <a:lnTo>
                    <a:pt x="215" y="1308"/>
                  </a:lnTo>
                  <a:lnTo>
                    <a:pt x="225" y="1317"/>
                  </a:lnTo>
                  <a:lnTo>
                    <a:pt x="235" y="1325"/>
                  </a:lnTo>
                  <a:lnTo>
                    <a:pt x="244" y="1334"/>
                  </a:lnTo>
                  <a:lnTo>
                    <a:pt x="252" y="1345"/>
                  </a:lnTo>
                  <a:lnTo>
                    <a:pt x="267" y="1367"/>
                  </a:lnTo>
                  <a:lnTo>
                    <a:pt x="281" y="1389"/>
                  </a:lnTo>
                  <a:lnTo>
                    <a:pt x="292" y="1411"/>
                  </a:lnTo>
                  <a:lnTo>
                    <a:pt x="300" y="1433"/>
                  </a:lnTo>
                  <a:lnTo>
                    <a:pt x="314" y="1467"/>
                  </a:lnTo>
                  <a:lnTo>
                    <a:pt x="317" y="1479"/>
                  </a:lnTo>
                  <a:lnTo>
                    <a:pt x="319" y="1468"/>
                  </a:lnTo>
                  <a:lnTo>
                    <a:pt x="320" y="1436"/>
                  </a:lnTo>
                  <a:lnTo>
                    <a:pt x="325" y="1384"/>
                  </a:lnTo>
                  <a:lnTo>
                    <a:pt x="333" y="1317"/>
                  </a:lnTo>
                  <a:lnTo>
                    <a:pt x="338" y="1278"/>
                  </a:lnTo>
                  <a:lnTo>
                    <a:pt x="346" y="1237"/>
                  </a:lnTo>
                  <a:lnTo>
                    <a:pt x="353" y="1192"/>
                  </a:lnTo>
                  <a:lnTo>
                    <a:pt x="362" y="1144"/>
                  </a:lnTo>
                  <a:lnTo>
                    <a:pt x="373" y="1096"/>
                  </a:lnTo>
                  <a:lnTo>
                    <a:pt x="385" y="1045"/>
                  </a:lnTo>
                  <a:lnTo>
                    <a:pt x="399" y="993"/>
                  </a:lnTo>
                  <a:lnTo>
                    <a:pt x="413" y="939"/>
                  </a:lnTo>
                  <a:lnTo>
                    <a:pt x="431" y="885"/>
                  </a:lnTo>
                  <a:lnTo>
                    <a:pt x="450" y="831"/>
                  </a:lnTo>
                  <a:lnTo>
                    <a:pt x="471" y="775"/>
                  </a:lnTo>
                  <a:lnTo>
                    <a:pt x="495" y="721"/>
                  </a:lnTo>
                  <a:lnTo>
                    <a:pt x="519" y="667"/>
                  </a:lnTo>
                  <a:lnTo>
                    <a:pt x="547" y="613"/>
                  </a:lnTo>
                  <a:lnTo>
                    <a:pt x="577" y="561"/>
                  </a:lnTo>
                  <a:lnTo>
                    <a:pt x="610" y="510"/>
                  </a:lnTo>
                  <a:lnTo>
                    <a:pt x="645" y="460"/>
                  </a:lnTo>
                  <a:lnTo>
                    <a:pt x="683" y="414"/>
                  </a:lnTo>
                  <a:lnTo>
                    <a:pt x="723" y="368"/>
                  </a:lnTo>
                  <a:lnTo>
                    <a:pt x="768" y="326"/>
                  </a:lnTo>
                  <a:lnTo>
                    <a:pt x="813" y="287"/>
                  </a:lnTo>
                  <a:lnTo>
                    <a:pt x="864" y="251"/>
                  </a:lnTo>
                  <a:lnTo>
                    <a:pt x="917" y="219"/>
                  </a:lnTo>
                  <a:lnTo>
                    <a:pt x="972" y="192"/>
                  </a:lnTo>
                  <a:lnTo>
                    <a:pt x="1029" y="167"/>
                  </a:lnTo>
                  <a:lnTo>
                    <a:pt x="1084" y="144"/>
                  </a:lnTo>
                  <a:lnTo>
                    <a:pt x="1136" y="123"/>
                  </a:lnTo>
                  <a:lnTo>
                    <a:pt x="1186" y="105"/>
                  </a:lnTo>
                  <a:lnTo>
                    <a:pt x="1234" y="88"/>
                  </a:lnTo>
                  <a:lnTo>
                    <a:pt x="1280" y="72"/>
                  </a:lnTo>
                  <a:lnTo>
                    <a:pt x="1324" y="58"/>
                  </a:lnTo>
                  <a:lnTo>
                    <a:pt x="1367" y="47"/>
                  </a:lnTo>
                  <a:lnTo>
                    <a:pt x="1407" y="36"/>
                  </a:lnTo>
                  <a:lnTo>
                    <a:pt x="1446" y="28"/>
                  </a:lnTo>
                  <a:lnTo>
                    <a:pt x="1482" y="20"/>
                  </a:lnTo>
                  <a:lnTo>
                    <a:pt x="1518" y="14"/>
                  </a:lnTo>
                  <a:lnTo>
                    <a:pt x="1553" y="9"/>
                  </a:lnTo>
                  <a:lnTo>
                    <a:pt x="1585" y="5"/>
                  </a:lnTo>
                  <a:lnTo>
                    <a:pt x="1617" y="3"/>
                  </a:lnTo>
                  <a:lnTo>
                    <a:pt x="1646" y="0"/>
                  </a:lnTo>
                  <a:lnTo>
                    <a:pt x="1674" y="0"/>
                  </a:lnTo>
                  <a:lnTo>
                    <a:pt x="1701" y="2"/>
                  </a:lnTo>
                  <a:lnTo>
                    <a:pt x="1729" y="3"/>
                  </a:lnTo>
                  <a:lnTo>
                    <a:pt x="1753" y="5"/>
                  </a:lnTo>
                  <a:lnTo>
                    <a:pt x="1778" y="8"/>
                  </a:lnTo>
                  <a:lnTo>
                    <a:pt x="1800" y="12"/>
                  </a:lnTo>
                  <a:lnTo>
                    <a:pt x="1823" y="16"/>
                  </a:lnTo>
                  <a:lnTo>
                    <a:pt x="1844" y="21"/>
                  </a:lnTo>
                  <a:lnTo>
                    <a:pt x="1885" y="32"/>
                  </a:lnTo>
                  <a:lnTo>
                    <a:pt x="1923" y="46"/>
                  </a:lnTo>
                  <a:lnTo>
                    <a:pt x="1959" y="61"/>
                  </a:lnTo>
                  <a:lnTo>
                    <a:pt x="1994" y="76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6313320" y="1974960"/>
              <a:ext cx="567000" cy="806400"/>
            </a:xfrm>
            <a:custGeom>
              <a:avLst/>
              <a:gdLst/>
              <a:ahLst/>
              <a:rect l="l" t="t" r="r" b="b"/>
              <a:pathLst>
                <a:path w="1787" h="2540">
                  <a:moveTo>
                    <a:pt x="1787" y="2306"/>
                  </a:moveTo>
                  <a:lnTo>
                    <a:pt x="1779" y="2322"/>
                  </a:lnTo>
                  <a:lnTo>
                    <a:pt x="1772" y="2337"/>
                  </a:lnTo>
                  <a:lnTo>
                    <a:pt x="1763" y="2353"/>
                  </a:lnTo>
                  <a:lnTo>
                    <a:pt x="1753" y="2368"/>
                  </a:lnTo>
                  <a:lnTo>
                    <a:pt x="1743" y="2382"/>
                  </a:lnTo>
                  <a:lnTo>
                    <a:pt x="1732" y="2397"/>
                  </a:lnTo>
                  <a:lnTo>
                    <a:pt x="1720" y="2411"/>
                  </a:lnTo>
                  <a:lnTo>
                    <a:pt x="1707" y="2424"/>
                  </a:lnTo>
                  <a:lnTo>
                    <a:pt x="1693" y="2438"/>
                  </a:lnTo>
                  <a:lnTo>
                    <a:pt x="1678" y="2450"/>
                  </a:lnTo>
                  <a:lnTo>
                    <a:pt x="1664" y="2461"/>
                  </a:lnTo>
                  <a:lnTo>
                    <a:pt x="1646" y="2473"/>
                  </a:lnTo>
                  <a:lnTo>
                    <a:pt x="1629" y="2483"/>
                  </a:lnTo>
                  <a:lnTo>
                    <a:pt x="1612" y="2493"/>
                  </a:lnTo>
                  <a:lnTo>
                    <a:pt x="1592" y="2502"/>
                  </a:lnTo>
                  <a:lnTo>
                    <a:pt x="1572" y="2510"/>
                  </a:lnTo>
                  <a:lnTo>
                    <a:pt x="1552" y="2518"/>
                  </a:lnTo>
                  <a:lnTo>
                    <a:pt x="1531" y="2524"/>
                  </a:lnTo>
                  <a:lnTo>
                    <a:pt x="1509" y="2529"/>
                  </a:lnTo>
                  <a:lnTo>
                    <a:pt x="1485" y="2534"/>
                  </a:lnTo>
                  <a:lnTo>
                    <a:pt x="1462" y="2536"/>
                  </a:lnTo>
                  <a:lnTo>
                    <a:pt x="1437" y="2539"/>
                  </a:lnTo>
                  <a:lnTo>
                    <a:pt x="1411" y="2540"/>
                  </a:lnTo>
                  <a:lnTo>
                    <a:pt x="1384" y="2540"/>
                  </a:lnTo>
                  <a:lnTo>
                    <a:pt x="1357" y="2539"/>
                  </a:lnTo>
                  <a:lnTo>
                    <a:pt x="1330" y="2535"/>
                  </a:lnTo>
                  <a:lnTo>
                    <a:pt x="1301" y="2531"/>
                  </a:lnTo>
                  <a:lnTo>
                    <a:pt x="1271" y="2525"/>
                  </a:lnTo>
                  <a:lnTo>
                    <a:pt x="1240" y="2519"/>
                  </a:lnTo>
                  <a:lnTo>
                    <a:pt x="1210" y="2510"/>
                  </a:lnTo>
                  <a:lnTo>
                    <a:pt x="1178" y="2499"/>
                  </a:lnTo>
                  <a:lnTo>
                    <a:pt x="1146" y="2488"/>
                  </a:lnTo>
                  <a:lnTo>
                    <a:pt x="1013" y="2441"/>
                  </a:lnTo>
                  <a:lnTo>
                    <a:pt x="880" y="2397"/>
                  </a:lnTo>
                  <a:lnTo>
                    <a:pt x="815" y="2374"/>
                  </a:lnTo>
                  <a:lnTo>
                    <a:pt x="751" y="2348"/>
                  </a:lnTo>
                  <a:lnTo>
                    <a:pt x="719" y="2334"/>
                  </a:lnTo>
                  <a:lnTo>
                    <a:pt x="688" y="2321"/>
                  </a:lnTo>
                  <a:lnTo>
                    <a:pt x="657" y="2306"/>
                  </a:lnTo>
                  <a:lnTo>
                    <a:pt x="626" y="2291"/>
                  </a:lnTo>
                  <a:lnTo>
                    <a:pt x="596" y="2274"/>
                  </a:lnTo>
                  <a:lnTo>
                    <a:pt x="566" y="2257"/>
                  </a:lnTo>
                  <a:lnTo>
                    <a:pt x="537" y="2238"/>
                  </a:lnTo>
                  <a:lnTo>
                    <a:pt x="508" y="2220"/>
                  </a:lnTo>
                  <a:lnTo>
                    <a:pt x="480" y="2199"/>
                  </a:lnTo>
                  <a:lnTo>
                    <a:pt x="452" y="2177"/>
                  </a:lnTo>
                  <a:lnTo>
                    <a:pt x="425" y="2154"/>
                  </a:lnTo>
                  <a:lnTo>
                    <a:pt x="399" y="2129"/>
                  </a:lnTo>
                  <a:lnTo>
                    <a:pt x="373" y="2103"/>
                  </a:lnTo>
                  <a:lnTo>
                    <a:pt x="347" y="2076"/>
                  </a:lnTo>
                  <a:lnTo>
                    <a:pt x="324" y="2047"/>
                  </a:lnTo>
                  <a:lnTo>
                    <a:pt x="299" y="2015"/>
                  </a:lnTo>
                  <a:lnTo>
                    <a:pt x="277" y="1983"/>
                  </a:lnTo>
                  <a:lnTo>
                    <a:pt x="255" y="1947"/>
                  </a:lnTo>
                  <a:lnTo>
                    <a:pt x="234" y="1910"/>
                  </a:lnTo>
                  <a:lnTo>
                    <a:pt x="213" y="1872"/>
                  </a:lnTo>
                  <a:lnTo>
                    <a:pt x="175" y="1793"/>
                  </a:lnTo>
                  <a:lnTo>
                    <a:pt x="138" y="1718"/>
                  </a:lnTo>
                  <a:lnTo>
                    <a:pt x="105" y="1647"/>
                  </a:lnTo>
                  <a:lnTo>
                    <a:pt x="75" y="1584"/>
                  </a:lnTo>
                  <a:lnTo>
                    <a:pt x="52" y="1530"/>
                  </a:lnTo>
                  <a:lnTo>
                    <a:pt x="33" y="1489"/>
                  </a:lnTo>
                  <a:lnTo>
                    <a:pt x="21" y="1462"/>
                  </a:lnTo>
                  <a:lnTo>
                    <a:pt x="17" y="1454"/>
                  </a:lnTo>
                  <a:lnTo>
                    <a:pt x="16" y="1444"/>
                  </a:lnTo>
                  <a:lnTo>
                    <a:pt x="14" y="1418"/>
                  </a:lnTo>
                  <a:lnTo>
                    <a:pt x="10" y="1380"/>
                  </a:lnTo>
                  <a:lnTo>
                    <a:pt x="5" y="1333"/>
                  </a:lnTo>
                  <a:lnTo>
                    <a:pt x="3" y="1280"/>
                  </a:lnTo>
                  <a:lnTo>
                    <a:pt x="0" y="1225"/>
                  </a:lnTo>
                  <a:lnTo>
                    <a:pt x="0" y="1198"/>
                  </a:lnTo>
                  <a:lnTo>
                    <a:pt x="0" y="1172"/>
                  </a:lnTo>
                  <a:lnTo>
                    <a:pt x="1" y="1147"/>
                  </a:lnTo>
                  <a:lnTo>
                    <a:pt x="4" y="1124"/>
                  </a:lnTo>
                  <a:lnTo>
                    <a:pt x="9" y="1081"/>
                  </a:lnTo>
                  <a:lnTo>
                    <a:pt x="11" y="1042"/>
                  </a:lnTo>
                  <a:lnTo>
                    <a:pt x="14" y="1006"/>
                  </a:lnTo>
                  <a:lnTo>
                    <a:pt x="16" y="975"/>
                  </a:lnTo>
                  <a:lnTo>
                    <a:pt x="17" y="949"/>
                  </a:lnTo>
                  <a:lnTo>
                    <a:pt x="17" y="931"/>
                  </a:lnTo>
                  <a:lnTo>
                    <a:pt x="17" y="920"/>
                  </a:lnTo>
                  <a:lnTo>
                    <a:pt x="17" y="915"/>
                  </a:lnTo>
                  <a:lnTo>
                    <a:pt x="19" y="892"/>
                  </a:lnTo>
                  <a:lnTo>
                    <a:pt x="25" y="828"/>
                  </a:lnTo>
                  <a:lnTo>
                    <a:pt x="30" y="782"/>
                  </a:lnTo>
                  <a:lnTo>
                    <a:pt x="36" y="729"/>
                  </a:lnTo>
                  <a:lnTo>
                    <a:pt x="46" y="670"/>
                  </a:lnTo>
                  <a:lnTo>
                    <a:pt x="57" y="605"/>
                  </a:lnTo>
                  <a:lnTo>
                    <a:pt x="72" y="536"/>
                  </a:lnTo>
                  <a:lnTo>
                    <a:pt x="89" y="462"/>
                  </a:lnTo>
                  <a:lnTo>
                    <a:pt x="99" y="425"/>
                  </a:lnTo>
                  <a:lnTo>
                    <a:pt x="110" y="387"/>
                  </a:lnTo>
                  <a:lnTo>
                    <a:pt x="122" y="348"/>
                  </a:lnTo>
                  <a:lnTo>
                    <a:pt x="134" y="309"/>
                  </a:lnTo>
                  <a:lnTo>
                    <a:pt x="148" y="270"/>
                  </a:lnTo>
                  <a:lnTo>
                    <a:pt x="163" y="231"/>
                  </a:lnTo>
                  <a:lnTo>
                    <a:pt x="179" y="192"/>
                  </a:lnTo>
                  <a:lnTo>
                    <a:pt x="196" y="152"/>
                  </a:lnTo>
                  <a:lnTo>
                    <a:pt x="214" y="113"/>
                  </a:lnTo>
                  <a:lnTo>
                    <a:pt x="233" y="75"/>
                  </a:lnTo>
                  <a:lnTo>
                    <a:pt x="254" y="37"/>
                  </a:lnTo>
                  <a:lnTo>
                    <a:pt x="276" y="0"/>
                  </a:lnTo>
                  <a:lnTo>
                    <a:pt x="289" y="11"/>
                  </a:lnTo>
                  <a:lnTo>
                    <a:pt x="324" y="43"/>
                  </a:lnTo>
                  <a:lnTo>
                    <a:pt x="347" y="65"/>
                  </a:lnTo>
                  <a:lnTo>
                    <a:pt x="372" y="91"/>
                  </a:lnTo>
                  <a:lnTo>
                    <a:pt x="399" y="119"/>
                  </a:lnTo>
                  <a:lnTo>
                    <a:pt x="425" y="150"/>
                  </a:lnTo>
                  <a:lnTo>
                    <a:pt x="450" y="183"/>
                  </a:lnTo>
                  <a:lnTo>
                    <a:pt x="474" y="218"/>
                  </a:lnTo>
                  <a:lnTo>
                    <a:pt x="485" y="236"/>
                  </a:lnTo>
                  <a:lnTo>
                    <a:pt x="495" y="253"/>
                  </a:lnTo>
                  <a:lnTo>
                    <a:pt x="503" y="272"/>
                  </a:lnTo>
                  <a:lnTo>
                    <a:pt x="511" y="290"/>
                  </a:lnTo>
                  <a:lnTo>
                    <a:pt x="517" y="309"/>
                  </a:lnTo>
                  <a:lnTo>
                    <a:pt x="522" y="326"/>
                  </a:lnTo>
                  <a:lnTo>
                    <a:pt x="526" y="344"/>
                  </a:lnTo>
                  <a:lnTo>
                    <a:pt x="527" y="361"/>
                  </a:lnTo>
                  <a:lnTo>
                    <a:pt x="527" y="379"/>
                  </a:lnTo>
                  <a:lnTo>
                    <a:pt x="526" y="396"/>
                  </a:lnTo>
                  <a:lnTo>
                    <a:pt x="521" y="413"/>
                  </a:lnTo>
                  <a:lnTo>
                    <a:pt x="514" y="429"/>
                  </a:lnTo>
                  <a:lnTo>
                    <a:pt x="482" y="494"/>
                  </a:lnTo>
                  <a:lnTo>
                    <a:pt x="448" y="563"/>
                  </a:lnTo>
                  <a:lnTo>
                    <a:pt x="432" y="598"/>
                  </a:lnTo>
                  <a:lnTo>
                    <a:pt x="416" y="632"/>
                  </a:lnTo>
                  <a:lnTo>
                    <a:pt x="401" y="665"/>
                  </a:lnTo>
                  <a:lnTo>
                    <a:pt x="389" y="700"/>
                  </a:lnTo>
                  <a:lnTo>
                    <a:pt x="383" y="717"/>
                  </a:lnTo>
                  <a:lnTo>
                    <a:pt x="378" y="733"/>
                  </a:lnTo>
                  <a:lnTo>
                    <a:pt x="374" y="750"/>
                  </a:lnTo>
                  <a:lnTo>
                    <a:pt x="371" y="766"/>
                  </a:lnTo>
                  <a:lnTo>
                    <a:pt x="368" y="782"/>
                  </a:lnTo>
                  <a:lnTo>
                    <a:pt x="366" y="798"/>
                  </a:lnTo>
                  <a:lnTo>
                    <a:pt x="364" y="814"/>
                  </a:lnTo>
                  <a:lnTo>
                    <a:pt x="364" y="829"/>
                  </a:lnTo>
                  <a:lnTo>
                    <a:pt x="366" y="844"/>
                  </a:lnTo>
                  <a:lnTo>
                    <a:pt x="368" y="858"/>
                  </a:lnTo>
                  <a:lnTo>
                    <a:pt x="372" y="873"/>
                  </a:lnTo>
                  <a:lnTo>
                    <a:pt x="377" y="888"/>
                  </a:lnTo>
                  <a:lnTo>
                    <a:pt x="383" y="901"/>
                  </a:lnTo>
                  <a:lnTo>
                    <a:pt x="390" y="915"/>
                  </a:lnTo>
                  <a:lnTo>
                    <a:pt x="399" y="927"/>
                  </a:lnTo>
                  <a:lnTo>
                    <a:pt x="409" y="940"/>
                  </a:lnTo>
                  <a:lnTo>
                    <a:pt x="432" y="965"/>
                  </a:lnTo>
                  <a:lnTo>
                    <a:pt x="459" y="990"/>
                  </a:lnTo>
                  <a:lnTo>
                    <a:pt x="486" y="1017"/>
                  </a:lnTo>
                  <a:lnTo>
                    <a:pt x="516" y="1044"/>
                  </a:lnTo>
                  <a:lnTo>
                    <a:pt x="545" y="1072"/>
                  </a:lnTo>
                  <a:lnTo>
                    <a:pt x="574" y="1102"/>
                  </a:lnTo>
                  <a:lnTo>
                    <a:pt x="602" y="1133"/>
                  </a:lnTo>
                  <a:lnTo>
                    <a:pt x="629" y="1166"/>
                  </a:lnTo>
                  <a:lnTo>
                    <a:pt x="641" y="1183"/>
                  </a:lnTo>
                  <a:lnTo>
                    <a:pt x="652" y="1200"/>
                  </a:lnTo>
                  <a:lnTo>
                    <a:pt x="663" y="1219"/>
                  </a:lnTo>
                  <a:lnTo>
                    <a:pt x="673" y="1238"/>
                  </a:lnTo>
                  <a:lnTo>
                    <a:pt x="683" y="1257"/>
                  </a:lnTo>
                  <a:lnTo>
                    <a:pt x="692" y="1278"/>
                  </a:lnTo>
                  <a:lnTo>
                    <a:pt x="698" y="1297"/>
                  </a:lnTo>
                  <a:lnTo>
                    <a:pt x="704" y="1320"/>
                  </a:lnTo>
                  <a:lnTo>
                    <a:pt x="709" y="1342"/>
                  </a:lnTo>
                  <a:lnTo>
                    <a:pt x="713" y="1364"/>
                  </a:lnTo>
                  <a:lnTo>
                    <a:pt x="714" y="1388"/>
                  </a:lnTo>
                  <a:lnTo>
                    <a:pt x="715" y="1412"/>
                  </a:lnTo>
                  <a:lnTo>
                    <a:pt x="714" y="1438"/>
                  </a:lnTo>
                  <a:lnTo>
                    <a:pt x="710" y="1464"/>
                  </a:lnTo>
                  <a:lnTo>
                    <a:pt x="706" y="1491"/>
                  </a:lnTo>
                  <a:lnTo>
                    <a:pt x="699" y="1519"/>
                  </a:lnTo>
                  <a:lnTo>
                    <a:pt x="693" y="1546"/>
                  </a:lnTo>
                  <a:lnTo>
                    <a:pt x="687" y="1574"/>
                  </a:lnTo>
                  <a:lnTo>
                    <a:pt x="682" y="1601"/>
                  </a:lnTo>
                  <a:lnTo>
                    <a:pt x="678" y="1628"/>
                  </a:lnTo>
                  <a:lnTo>
                    <a:pt x="676" y="1654"/>
                  </a:lnTo>
                  <a:lnTo>
                    <a:pt x="673" y="1680"/>
                  </a:lnTo>
                  <a:lnTo>
                    <a:pt x="672" y="1706"/>
                  </a:lnTo>
                  <a:lnTo>
                    <a:pt x="671" y="1730"/>
                  </a:lnTo>
                  <a:lnTo>
                    <a:pt x="672" y="1755"/>
                  </a:lnTo>
                  <a:lnTo>
                    <a:pt x="673" y="1780"/>
                  </a:lnTo>
                  <a:lnTo>
                    <a:pt x="674" y="1803"/>
                  </a:lnTo>
                  <a:lnTo>
                    <a:pt x="677" y="1825"/>
                  </a:lnTo>
                  <a:lnTo>
                    <a:pt x="679" y="1847"/>
                  </a:lnTo>
                  <a:lnTo>
                    <a:pt x="683" y="1869"/>
                  </a:lnTo>
                  <a:lnTo>
                    <a:pt x="688" y="1890"/>
                  </a:lnTo>
                  <a:lnTo>
                    <a:pt x="692" y="1910"/>
                  </a:lnTo>
                  <a:lnTo>
                    <a:pt x="703" y="1949"/>
                  </a:lnTo>
                  <a:lnTo>
                    <a:pt x="715" y="1985"/>
                  </a:lnTo>
                  <a:lnTo>
                    <a:pt x="729" y="2018"/>
                  </a:lnTo>
                  <a:lnTo>
                    <a:pt x="742" y="2048"/>
                  </a:lnTo>
                  <a:lnTo>
                    <a:pt x="757" y="2075"/>
                  </a:lnTo>
                  <a:lnTo>
                    <a:pt x="773" y="2098"/>
                  </a:lnTo>
                  <a:lnTo>
                    <a:pt x="788" y="2118"/>
                  </a:lnTo>
                  <a:lnTo>
                    <a:pt x="802" y="2135"/>
                  </a:lnTo>
                  <a:lnTo>
                    <a:pt x="811" y="2142"/>
                  </a:lnTo>
                  <a:lnTo>
                    <a:pt x="822" y="2151"/>
                  </a:lnTo>
                  <a:lnTo>
                    <a:pt x="834" y="2160"/>
                  </a:lnTo>
                  <a:lnTo>
                    <a:pt x="848" y="2168"/>
                  </a:lnTo>
                  <a:lnTo>
                    <a:pt x="881" y="2188"/>
                  </a:lnTo>
                  <a:lnTo>
                    <a:pt x="919" y="2209"/>
                  </a:lnTo>
                  <a:lnTo>
                    <a:pt x="962" y="2230"/>
                  </a:lnTo>
                  <a:lnTo>
                    <a:pt x="1010" y="2251"/>
                  </a:lnTo>
                  <a:lnTo>
                    <a:pt x="1061" y="2272"/>
                  </a:lnTo>
                  <a:lnTo>
                    <a:pt x="1114" y="2291"/>
                  </a:lnTo>
                  <a:lnTo>
                    <a:pt x="1168" y="2311"/>
                  </a:lnTo>
                  <a:lnTo>
                    <a:pt x="1222" y="2328"/>
                  </a:lnTo>
                  <a:lnTo>
                    <a:pt x="1276" y="2343"/>
                  </a:lnTo>
                  <a:lnTo>
                    <a:pt x="1330" y="2355"/>
                  </a:lnTo>
                  <a:lnTo>
                    <a:pt x="1356" y="2361"/>
                  </a:lnTo>
                  <a:lnTo>
                    <a:pt x="1381" y="2365"/>
                  </a:lnTo>
                  <a:lnTo>
                    <a:pt x="1405" y="2369"/>
                  </a:lnTo>
                  <a:lnTo>
                    <a:pt x="1429" y="2371"/>
                  </a:lnTo>
                  <a:lnTo>
                    <a:pt x="1451" y="2372"/>
                  </a:lnTo>
                  <a:lnTo>
                    <a:pt x="1473" y="2374"/>
                  </a:lnTo>
                  <a:lnTo>
                    <a:pt x="1493" y="2372"/>
                  </a:lnTo>
                  <a:lnTo>
                    <a:pt x="1512" y="2371"/>
                  </a:lnTo>
                  <a:lnTo>
                    <a:pt x="1580" y="2360"/>
                  </a:lnTo>
                  <a:lnTo>
                    <a:pt x="1638" y="2349"/>
                  </a:lnTo>
                  <a:lnTo>
                    <a:pt x="1684" y="2339"/>
                  </a:lnTo>
                  <a:lnTo>
                    <a:pt x="1723" y="2328"/>
                  </a:lnTo>
                  <a:lnTo>
                    <a:pt x="1751" y="2320"/>
                  </a:lnTo>
                  <a:lnTo>
                    <a:pt x="1771" y="2312"/>
                  </a:lnTo>
                  <a:lnTo>
                    <a:pt x="1783" y="2307"/>
                  </a:lnTo>
                  <a:lnTo>
                    <a:pt x="1787" y="2306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6508800" y="1827360"/>
              <a:ext cx="458640" cy="277920"/>
            </a:xfrm>
            <a:custGeom>
              <a:avLst/>
              <a:gdLst/>
              <a:ahLst/>
              <a:rect l="l" t="t" r="r" b="b"/>
              <a:pathLst>
                <a:path w="1443" h="875">
                  <a:moveTo>
                    <a:pt x="263" y="133"/>
                  </a:moveTo>
                  <a:lnTo>
                    <a:pt x="291" y="119"/>
                  </a:lnTo>
                  <a:lnTo>
                    <a:pt x="368" y="89"/>
                  </a:lnTo>
                  <a:lnTo>
                    <a:pt x="421" y="70"/>
                  </a:lnTo>
                  <a:lnTo>
                    <a:pt x="481" y="52"/>
                  </a:lnTo>
                  <a:lnTo>
                    <a:pt x="514" y="43"/>
                  </a:lnTo>
                  <a:lnTo>
                    <a:pt x="550" y="35"/>
                  </a:lnTo>
                  <a:lnTo>
                    <a:pt x="585" y="26"/>
                  </a:lnTo>
                  <a:lnTo>
                    <a:pt x="624" y="19"/>
                  </a:lnTo>
                  <a:lnTo>
                    <a:pt x="662" y="12"/>
                  </a:lnTo>
                  <a:lnTo>
                    <a:pt x="701" y="7"/>
                  </a:lnTo>
                  <a:lnTo>
                    <a:pt x="742" y="4"/>
                  </a:lnTo>
                  <a:lnTo>
                    <a:pt x="782" y="1"/>
                  </a:lnTo>
                  <a:lnTo>
                    <a:pt x="824" y="0"/>
                  </a:lnTo>
                  <a:lnTo>
                    <a:pt x="866" y="1"/>
                  </a:lnTo>
                  <a:lnTo>
                    <a:pt x="908" y="5"/>
                  </a:lnTo>
                  <a:lnTo>
                    <a:pt x="950" y="10"/>
                  </a:lnTo>
                  <a:lnTo>
                    <a:pt x="991" y="17"/>
                  </a:lnTo>
                  <a:lnTo>
                    <a:pt x="1033" y="27"/>
                  </a:lnTo>
                  <a:lnTo>
                    <a:pt x="1074" y="41"/>
                  </a:lnTo>
                  <a:lnTo>
                    <a:pt x="1114" y="57"/>
                  </a:lnTo>
                  <a:lnTo>
                    <a:pt x="1154" y="75"/>
                  </a:lnTo>
                  <a:lnTo>
                    <a:pt x="1192" y="97"/>
                  </a:lnTo>
                  <a:lnTo>
                    <a:pt x="1230" y="123"/>
                  </a:lnTo>
                  <a:lnTo>
                    <a:pt x="1266" y="151"/>
                  </a:lnTo>
                  <a:lnTo>
                    <a:pt x="1273" y="161"/>
                  </a:lnTo>
                  <a:lnTo>
                    <a:pt x="1294" y="186"/>
                  </a:lnTo>
                  <a:lnTo>
                    <a:pt x="1308" y="204"/>
                  </a:lnTo>
                  <a:lnTo>
                    <a:pt x="1322" y="225"/>
                  </a:lnTo>
                  <a:lnTo>
                    <a:pt x="1338" y="249"/>
                  </a:lnTo>
                  <a:lnTo>
                    <a:pt x="1354" y="274"/>
                  </a:lnTo>
                  <a:lnTo>
                    <a:pt x="1370" y="303"/>
                  </a:lnTo>
                  <a:lnTo>
                    <a:pt x="1386" y="332"/>
                  </a:lnTo>
                  <a:lnTo>
                    <a:pt x="1401" y="364"/>
                  </a:lnTo>
                  <a:lnTo>
                    <a:pt x="1415" y="396"/>
                  </a:lnTo>
                  <a:lnTo>
                    <a:pt x="1421" y="412"/>
                  </a:lnTo>
                  <a:lnTo>
                    <a:pt x="1427" y="428"/>
                  </a:lnTo>
                  <a:lnTo>
                    <a:pt x="1431" y="444"/>
                  </a:lnTo>
                  <a:lnTo>
                    <a:pt x="1436" y="461"/>
                  </a:lnTo>
                  <a:lnTo>
                    <a:pt x="1438" y="477"/>
                  </a:lnTo>
                  <a:lnTo>
                    <a:pt x="1440" y="495"/>
                  </a:lnTo>
                  <a:lnTo>
                    <a:pt x="1442" y="511"/>
                  </a:lnTo>
                  <a:lnTo>
                    <a:pt x="1443" y="527"/>
                  </a:lnTo>
                  <a:lnTo>
                    <a:pt x="1443" y="592"/>
                  </a:lnTo>
                  <a:lnTo>
                    <a:pt x="1443" y="658"/>
                  </a:lnTo>
                  <a:lnTo>
                    <a:pt x="1440" y="690"/>
                  </a:lnTo>
                  <a:lnTo>
                    <a:pt x="1439" y="722"/>
                  </a:lnTo>
                  <a:lnTo>
                    <a:pt x="1436" y="752"/>
                  </a:lnTo>
                  <a:lnTo>
                    <a:pt x="1429" y="780"/>
                  </a:lnTo>
                  <a:lnTo>
                    <a:pt x="1427" y="792"/>
                  </a:lnTo>
                  <a:lnTo>
                    <a:pt x="1423" y="805"/>
                  </a:lnTo>
                  <a:lnTo>
                    <a:pt x="1418" y="817"/>
                  </a:lnTo>
                  <a:lnTo>
                    <a:pt x="1413" y="827"/>
                  </a:lnTo>
                  <a:lnTo>
                    <a:pt x="1408" y="837"/>
                  </a:lnTo>
                  <a:lnTo>
                    <a:pt x="1402" y="845"/>
                  </a:lnTo>
                  <a:lnTo>
                    <a:pt x="1395" y="852"/>
                  </a:lnTo>
                  <a:lnTo>
                    <a:pt x="1388" y="860"/>
                  </a:lnTo>
                  <a:lnTo>
                    <a:pt x="1379" y="865"/>
                  </a:lnTo>
                  <a:lnTo>
                    <a:pt x="1370" y="870"/>
                  </a:lnTo>
                  <a:lnTo>
                    <a:pt x="1360" y="872"/>
                  </a:lnTo>
                  <a:lnTo>
                    <a:pt x="1351" y="873"/>
                  </a:lnTo>
                  <a:lnTo>
                    <a:pt x="1338" y="875"/>
                  </a:lnTo>
                  <a:lnTo>
                    <a:pt x="1326" y="873"/>
                  </a:lnTo>
                  <a:lnTo>
                    <a:pt x="1312" y="870"/>
                  </a:lnTo>
                  <a:lnTo>
                    <a:pt x="1299" y="866"/>
                  </a:lnTo>
                  <a:lnTo>
                    <a:pt x="1265" y="856"/>
                  </a:lnTo>
                  <a:lnTo>
                    <a:pt x="1223" y="846"/>
                  </a:lnTo>
                  <a:lnTo>
                    <a:pt x="1173" y="837"/>
                  </a:lnTo>
                  <a:lnTo>
                    <a:pt x="1117" y="828"/>
                  </a:lnTo>
                  <a:lnTo>
                    <a:pt x="1057" y="819"/>
                  </a:lnTo>
                  <a:lnTo>
                    <a:pt x="991" y="811"/>
                  </a:lnTo>
                  <a:lnTo>
                    <a:pt x="923" y="805"/>
                  </a:lnTo>
                  <a:lnTo>
                    <a:pt x="852" y="800"/>
                  </a:lnTo>
                  <a:lnTo>
                    <a:pt x="780" y="796"/>
                  </a:lnTo>
                  <a:lnTo>
                    <a:pt x="707" y="795"/>
                  </a:lnTo>
                  <a:lnTo>
                    <a:pt x="672" y="795"/>
                  </a:lnTo>
                  <a:lnTo>
                    <a:pt x="635" y="796"/>
                  </a:lnTo>
                  <a:lnTo>
                    <a:pt x="600" y="797"/>
                  </a:lnTo>
                  <a:lnTo>
                    <a:pt x="564" y="800"/>
                  </a:lnTo>
                  <a:lnTo>
                    <a:pt x="530" y="802"/>
                  </a:lnTo>
                  <a:lnTo>
                    <a:pt x="497" y="805"/>
                  </a:lnTo>
                  <a:lnTo>
                    <a:pt x="464" y="809"/>
                  </a:lnTo>
                  <a:lnTo>
                    <a:pt x="433" y="814"/>
                  </a:lnTo>
                  <a:lnTo>
                    <a:pt x="402" y="819"/>
                  </a:lnTo>
                  <a:lnTo>
                    <a:pt x="373" y="825"/>
                  </a:lnTo>
                  <a:lnTo>
                    <a:pt x="344" y="833"/>
                  </a:lnTo>
                  <a:lnTo>
                    <a:pt x="318" y="841"/>
                  </a:lnTo>
                  <a:lnTo>
                    <a:pt x="293" y="849"/>
                  </a:lnTo>
                  <a:lnTo>
                    <a:pt x="268" y="855"/>
                  </a:lnTo>
                  <a:lnTo>
                    <a:pt x="245" y="859"/>
                  </a:lnTo>
                  <a:lnTo>
                    <a:pt x="222" y="861"/>
                  </a:lnTo>
                  <a:lnTo>
                    <a:pt x="203" y="862"/>
                  </a:lnTo>
                  <a:lnTo>
                    <a:pt x="182" y="861"/>
                  </a:lnTo>
                  <a:lnTo>
                    <a:pt x="163" y="859"/>
                  </a:lnTo>
                  <a:lnTo>
                    <a:pt x="146" y="855"/>
                  </a:lnTo>
                  <a:lnTo>
                    <a:pt x="130" y="850"/>
                  </a:lnTo>
                  <a:lnTo>
                    <a:pt x="114" y="844"/>
                  </a:lnTo>
                  <a:lnTo>
                    <a:pt x="99" y="837"/>
                  </a:lnTo>
                  <a:lnTo>
                    <a:pt x="86" y="827"/>
                  </a:lnTo>
                  <a:lnTo>
                    <a:pt x="74" y="817"/>
                  </a:lnTo>
                  <a:lnTo>
                    <a:pt x="63" y="806"/>
                  </a:lnTo>
                  <a:lnTo>
                    <a:pt x="53" y="793"/>
                  </a:lnTo>
                  <a:lnTo>
                    <a:pt x="43" y="781"/>
                  </a:lnTo>
                  <a:lnTo>
                    <a:pt x="34" y="766"/>
                  </a:lnTo>
                  <a:lnTo>
                    <a:pt x="27" y="752"/>
                  </a:lnTo>
                  <a:lnTo>
                    <a:pt x="21" y="736"/>
                  </a:lnTo>
                  <a:lnTo>
                    <a:pt x="15" y="720"/>
                  </a:lnTo>
                  <a:lnTo>
                    <a:pt x="10" y="702"/>
                  </a:lnTo>
                  <a:lnTo>
                    <a:pt x="6" y="685"/>
                  </a:lnTo>
                  <a:lnTo>
                    <a:pt x="3" y="667"/>
                  </a:lnTo>
                  <a:lnTo>
                    <a:pt x="1" y="648"/>
                  </a:lnTo>
                  <a:lnTo>
                    <a:pt x="0" y="629"/>
                  </a:lnTo>
                  <a:lnTo>
                    <a:pt x="0" y="609"/>
                  </a:lnTo>
                  <a:lnTo>
                    <a:pt x="1" y="589"/>
                  </a:lnTo>
                  <a:lnTo>
                    <a:pt x="2" y="568"/>
                  </a:lnTo>
                  <a:lnTo>
                    <a:pt x="5" y="547"/>
                  </a:lnTo>
                  <a:lnTo>
                    <a:pt x="7" y="528"/>
                  </a:lnTo>
                  <a:lnTo>
                    <a:pt x="12" y="507"/>
                  </a:lnTo>
                  <a:lnTo>
                    <a:pt x="16" y="486"/>
                  </a:lnTo>
                  <a:lnTo>
                    <a:pt x="21" y="465"/>
                  </a:lnTo>
                  <a:lnTo>
                    <a:pt x="27" y="445"/>
                  </a:lnTo>
                  <a:lnTo>
                    <a:pt x="33" y="427"/>
                  </a:lnTo>
                  <a:lnTo>
                    <a:pt x="39" y="408"/>
                  </a:lnTo>
                  <a:lnTo>
                    <a:pt x="53" y="375"/>
                  </a:lnTo>
                  <a:lnTo>
                    <a:pt x="67" y="343"/>
                  </a:lnTo>
                  <a:lnTo>
                    <a:pt x="83" y="315"/>
                  </a:lnTo>
                  <a:lnTo>
                    <a:pt x="99" y="289"/>
                  </a:lnTo>
                  <a:lnTo>
                    <a:pt x="117" y="266"/>
                  </a:lnTo>
                  <a:lnTo>
                    <a:pt x="135" y="245"/>
                  </a:lnTo>
                  <a:lnTo>
                    <a:pt x="152" y="225"/>
                  </a:lnTo>
                  <a:lnTo>
                    <a:pt x="171" y="208"/>
                  </a:lnTo>
                  <a:lnTo>
                    <a:pt x="188" y="192"/>
                  </a:lnTo>
                  <a:lnTo>
                    <a:pt x="204" y="178"/>
                  </a:lnTo>
                  <a:lnTo>
                    <a:pt x="236" y="154"/>
                  </a:lnTo>
                  <a:lnTo>
                    <a:pt x="263" y="133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6448320" y="2111400"/>
              <a:ext cx="263520" cy="230400"/>
            </a:xfrm>
            <a:custGeom>
              <a:avLst/>
              <a:gdLst/>
              <a:ahLst/>
              <a:rect l="l" t="t" r="r" b="b"/>
              <a:pathLst>
                <a:path w="830" h="722">
                  <a:moveTo>
                    <a:pt x="300" y="203"/>
                  </a:moveTo>
                  <a:lnTo>
                    <a:pt x="304" y="197"/>
                  </a:lnTo>
                  <a:lnTo>
                    <a:pt x="312" y="181"/>
                  </a:lnTo>
                  <a:lnTo>
                    <a:pt x="317" y="171"/>
                  </a:lnTo>
                  <a:lnTo>
                    <a:pt x="322" y="159"/>
                  </a:lnTo>
                  <a:lnTo>
                    <a:pt x="326" y="147"/>
                  </a:lnTo>
                  <a:lnTo>
                    <a:pt x="330" y="134"/>
                  </a:lnTo>
                  <a:lnTo>
                    <a:pt x="331" y="121"/>
                  </a:lnTo>
                  <a:lnTo>
                    <a:pt x="331" y="109"/>
                  </a:lnTo>
                  <a:lnTo>
                    <a:pt x="330" y="102"/>
                  </a:lnTo>
                  <a:lnTo>
                    <a:pt x="328" y="96"/>
                  </a:lnTo>
                  <a:lnTo>
                    <a:pt x="326" y="90"/>
                  </a:lnTo>
                  <a:lnTo>
                    <a:pt x="323" y="85"/>
                  </a:lnTo>
                  <a:lnTo>
                    <a:pt x="320" y="80"/>
                  </a:lnTo>
                  <a:lnTo>
                    <a:pt x="315" y="75"/>
                  </a:lnTo>
                  <a:lnTo>
                    <a:pt x="310" y="70"/>
                  </a:lnTo>
                  <a:lnTo>
                    <a:pt x="304" y="68"/>
                  </a:lnTo>
                  <a:lnTo>
                    <a:pt x="296" y="64"/>
                  </a:lnTo>
                  <a:lnTo>
                    <a:pt x="288" y="62"/>
                  </a:lnTo>
                  <a:lnTo>
                    <a:pt x="279" y="61"/>
                  </a:lnTo>
                  <a:lnTo>
                    <a:pt x="268" y="59"/>
                  </a:lnTo>
                  <a:lnTo>
                    <a:pt x="279" y="53"/>
                  </a:lnTo>
                  <a:lnTo>
                    <a:pt x="309" y="40"/>
                  </a:lnTo>
                  <a:lnTo>
                    <a:pt x="330" y="32"/>
                  </a:lnTo>
                  <a:lnTo>
                    <a:pt x="353" y="24"/>
                  </a:lnTo>
                  <a:lnTo>
                    <a:pt x="379" y="16"/>
                  </a:lnTo>
                  <a:lnTo>
                    <a:pt x="407" y="9"/>
                  </a:lnTo>
                  <a:lnTo>
                    <a:pt x="438" y="4"/>
                  </a:lnTo>
                  <a:lnTo>
                    <a:pt x="469" y="2"/>
                  </a:lnTo>
                  <a:lnTo>
                    <a:pt x="483" y="0"/>
                  </a:lnTo>
                  <a:lnTo>
                    <a:pt x="499" y="0"/>
                  </a:lnTo>
                  <a:lnTo>
                    <a:pt x="515" y="2"/>
                  </a:lnTo>
                  <a:lnTo>
                    <a:pt x="530" y="4"/>
                  </a:lnTo>
                  <a:lnTo>
                    <a:pt x="546" y="6"/>
                  </a:lnTo>
                  <a:lnTo>
                    <a:pt x="561" y="11"/>
                  </a:lnTo>
                  <a:lnTo>
                    <a:pt x="576" y="16"/>
                  </a:lnTo>
                  <a:lnTo>
                    <a:pt x="590" y="22"/>
                  </a:lnTo>
                  <a:lnTo>
                    <a:pt x="604" y="30"/>
                  </a:lnTo>
                  <a:lnTo>
                    <a:pt x="617" y="40"/>
                  </a:lnTo>
                  <a:lnTo>
                    <a:pt x="631" y="50"/>
                  </a:lnTo>
                  <a:lnTo>
                    <a:pt x="643" y="62"/>
                  </a:lnTo>
                  <a:lnTo>
                    <a:pt x="697" y="120"/>
                  </a:lnTo>
                  <a:lnTo>
                    <a:pt x="748" y="175"/>
                  </a:lnTo>
                  <a:lnTo>
                    <a:pt x="769" y="202"/>
                  </a:lnTo>
                  <a:lnTo>
                    <a:pt x="788" y="228"/>
                  </a:lnTo>
                  <a:lnTo>
                    <a:pt x="797" y="241"/>
                  </a:lnTo>
                  <a:lnTo>
                    <a:pt x="804" y="254"/>
                  </a:lnTo>
                  <a:lnTo>
                    <a:pt x="812" y="267"/>
                  </a:lnTo>
                  <a:lnTo>
                    <a:pt x="817" y="281"/>
                  </a:lnTo>
                  <a:lnTo>
                    <a:pt x="822" y="294"/>
                  </a:lnTo>
                  <a:lnTo>
                    <a:pt x="825" y="308"/>
                  </a:lnTo>
                  <a:lnTo>
                    <a:pt x="829" y="321"/>
                  </a:lnTo>
                  <a:lnTo>
                    <a:pt x="830" y="335"/>
                  </a:lnTo>
                  <a:lnTo>
                    <a:pt x="830" y="348"/>
                  </a:lnTo>
                  <a:lnTo>
                    <a:pt x="830" y="363"/>
                  </a:lnTo>
                  <a:lnTo>
                    <a:pt x="828" y="378"/>
                  </a:lnTo>
                  <a:lnTo>
                    <a:pt x="824" y="393"/>
                  </a:lnTo>
                  <a:lnTo>
                    <a:pt x="819" y="407"/>
                  </a:lnTo>
                  <a:lnTo>
                    <a:pt x="813" y="423"/>
                  </a:lnTo>
                  <a:lnTo>
                    <a:pt x="806" y="439"/>
                  </a:lnTo>
                  <a:lnTo>
                    <a:pt x="796" y="455"/>
                  </a:lnTo>
                  <a:lnTo>
                    <a:pt x="785" y="473"/>
                  </a:lnTo>
                  <a:lnTo>
                    <a:pt x="771" y="490"/>
                  </a:lnTo>
                  <a:lnTo>
                    <a:pt x="758" y="508"/>
                  </a:lnTo>
                  <a:lnTo>
                    <a:pt x="741" y="526"/>
                  </a:lnTo>
                  <a:lnTo>
                    <a:pt x="733" y="535"/>
                  </a:lnTo>
                  <a:lnTo>
                    <a:pt x="709" y="559"/>
                  </a:lnTo>
                  <a:lnTo>
                    <a:pt x="691" y="573"/>
                  </a:lnTo>
                  <a:lnTo>
                    <a:pt x="672" y="591"/>
                  </a:lnTo>
                  <a:lnTo>
                    <a:pt x="648" y="609"/>
                  </a:lnTo>
                  <a:lnTo>
                    <a:pt x="622" y="628"/>
                  </a:lnTo>
                  <a:lnTo>
                    <a:pt x="593" y="646"/>
                  </a:lnTo>
                  <a:lnTo>
                    <a:pt x="562" y="665"/>
                  </a:lnTo>
                  <a:lnTo>
                    <a:pt x="546" y="673"/>
                  </a:lnTo>
                  <a:lnTo>
                    <a:pt x="529" y="681"/>
                  </a:lnTo>
                  <a:lnTo>
                    <a:pt x="512" y="689"/>
                  </a:lnTo>
                  <a:lnTo>
                    <a:pt x="493" y="695"/>
                  </a:lnTo>
                  <a:lnTo>
                    <a:pt x="475" y="701"/>
                  </a:lnTo>
                  <a:lnTo>
                    <a:pt x="456" y="708"/>
                  </a:lnTo>
                  <a:lnTo>
                    <a:pt x="437" y="712"/>
                  </a:lnTo>
                  <a:lnTo>
                    <a:pt x="417" y="716"/>
                  </a:lnTo>
                  <a:lnTo>
                    <a:pt x="397" y="720"/>
                  </a:lnTo>
                  <a:lnTo>
                    <a:pt x="378" y="721"/>
                  </a:lnTo>
                  <a:lnTo>
                    <a:pt x="357" y="722"/>
                  </a:lnTo>
                  <a:lnTo>
                    <a:pt x="336" y="721"/>
                  </a:lnTo>
                  <a:lnTo>
                    <a:pt x="252" y="716"/>
                  </a:lnTo>
                  <a:lnTo>
                    <a:pt x="255" y="712"/>
                  </a:lnTo>
                  <a:lnTo>
                    <a:pt x="263" y="703"/>
                  </a:lnTo>
                  <a:lnTo>
                    <a:pt x="273" y="689"/>
                  </a:lnTo>
                  <a:lnTo>
                    <a:pt x="283" y="672"/>
                  </a:lnTo>
                  <a:lnTo>
                    <a:pt x="287" y="663"/>
                  </a:lnTo>
                  <a:lnTo>
                    <a:pt x="290" y="655"/>
                  </a:lnTo>
                  <a:lnTo>
                    <a:pt x="291" y="646"/>
                  </a:lnTo>
                  <a:lnTo>
                    <a:pt x="290" y="637"/>
                  </a:lnTo>
                  <a:lnTo>
                    <a:pt x="288" y="629"/>
                  </a:lnTo>
                  <a:lnTo>
                    <a:pt x="284" y="621"/>
                  </a:lnTo>
                  <a:lnTo>
                    <a:pt x="280" y="619"/>
                  </a:lnTo>
                  <a:lnTo>
                    <a:pt x="275" y="615"/>
                  </a:lnTo>
                  <a:lnTo>
                    <a:pt x="271" y="613"/>
                  </a:lnTo>
                  <a:lnTo>
                    <a:pt x="266" y="610"/>
                  </a:lnTo>
                  <a:lnTo>
                    <a:pt x="237" y="598"/>
                  </a:lnTo>
                  <a:lnTo>
                    <a:pt x="202" y="582"/>
                  </a:lnTo>
                  <a:lnTo>
                    <a:pt x="162" y="562"/>
                  </a:lnTo>
                  <a:lnTo>
                    <a:pt x="123" y="539"/>
                  </a:lnTo>
                  <a:lnTo>
                    <a:pt x="103" y="527"/>
                  </a:lnTo>
                  <a:lnTo>
                    <a:pt x="85" y="514"/>
                  </a:lnTo>
                  <a:lnTo>
                    <a:pt x="66" y="500"/>
                  </a:lnTo>
                  <a:lnTo>
                    <a:pt x="50" y="486"/>
                  </a:lnTo>
                  <a:lnTo>
                    <a:pt x="36" y="471"/>
                  </a:lnTo>
                  <a:lnTo>
                    <a:pt x="22" y="457"/>
                  </a:lnTo>
                  <a:lnTo>
                    <a:pt x="17" y="449"/>
                  </a:lnTo>
                  <a:lnTo>
                    <a:pt x="12" y="441"/>
                  </a:lnTo>
                  <a:lnTo>
                    <a:pt x="8" y="433"/>
                  </a:lnTo>
                  <a:lnTo>
                    <a:pt x="5" y="426"/>
                  </a:lnTo>
                  <a:lnTo>
                    <a:pt x="2" y="417"/>
                  </a:lnTo>
                  <a:lnTo>
                    <a:pt x="0" y="406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1" y="371"/>
                  </a:lnTo>
                  <a:lnTo>
                    <a:pt x="4" y="357"/>
                  </a:lnTo>
                  <a:lnTo>
                    <a:pt x="6" y="343"/>
                  </a:lnTo>
                  <a:lnTo>
                    <a:pt x="10" y="330"/>
                  </a:lnTo>
                  <a:lnTo>
                    <a:pt x="13" y="315"/>
                  </a:lnTo>
                  <a:lnTo>
                    <a:pt x="18" y="302"/>
                  </a:lnTo>
                  <a:lnTo>
                    <a:pt x="24" y="289"/>
                  </a:lnTo>
                  <a:lnTo>
                    <a:pt x="31" y="276"/>
                  </a:lnTo>
                  <a:lnTo>
                    <a:pt x="38" y="265"/>
                  </a:lnTo>
                  <a:lnTo>
                    <a:pt x="45" y="254"/>
                  </a:lnTo>
                  <a:lnTo>
                    <a:pt x="53" y="244"/>
                  </a:lnTo>
                  <a:lnTo>
                    <a:pt x="61" y="235"/>
                  </a:lnTo>
                  <a:lnTo>
                    <a:pt x="75" y="227"/>
                  </a:lnTo>
                  <a:lnTo>
                    <a:pt x="90" y="219"/>
                  </a:lnTo>
                  <a:lnTo>
                    <a:pt x="106" y="213"/>
                  </a:lnTo>
                  <a:lnTo>
                    <a:pt x="124" y="208"/>
                  </a:lnTo>
                  <a:lnTo>
                    <a:pt x="143" y="204"/>
                  </a:lnTo>
                  <a:lnTo>
                    <a:pt x="161" y="202"/>
                  </a:lnTo>
                  <a:lnTo>
                    <a:pt x="179" y="201"/>
                  </a:lnTo>
                  <a:lnTo>
                    <a:pt x="198" y="200"/>
                  </a:lnTo>
                  <a:lnTo>
                    <a:pt x="234" y="200"/>
                  </a:lnTo>
                  <a:lnTo>
                    <a:pt x="264" y="201"/>
                  </a:lnTo>
                  <a:lnTo>
                    <a:pt x="288" y="202"/>
                  </a:lnTo>
                  <a:lnTo>
                    <a:pt x="300" y="203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456240" y="2116080"/>
              <a:ext cx="254160" cy="219240"/>
            </a:xfrm>
            <a:custGeom>
              <a:avLst/>
              <a:gdLst/>
              <a:ahLst/>
              <a:rect l="l" t="t" r="r" b="b"/>
              <a:pathLst>
                <a:path w="800" h="691">
                  <a:moveTo>
                    <a:pt x="294" y="193"/>
                  </a:moveTo>
                  <a:lnTo>
                    <a:pt x="298" y="187"/>
                  </a:lnTo>
                  <a:lnTo>
                    <a:pt x="309" y="171"/>
                  </a:lnTo>
                  <a:lnTo>
                    <a:pt x="316" y="161"/>
                  </a:lnTo>
                  <a:lnTo>
                    <a:pt x="323" y="149"/>
                  </a:lnTo>
                  <a:lnTo>
                    <a:pt x="329" y="135"/>
                  </a:lnTo>
                  <a:lnTo>
                    <a:pt x="335" y="122"/>
                  </a:lnTo>
                  <a:lnTo>
                    <a:pt x="340" y="108"/>
                  </a:lnTo>
                  <a:lnTo>
                    <a:pt x="342" y="95"/>
                  </a:lnTo>
                  <a:lnTo>
                    <a:pt x="343" y="87"/>
                  </a:lnTo>
                  <a:lnTo>
                    <a:pt x="343" y="81"/>
                  </a:lnTo>
                  <a:lnTo>
                    <a:pt x="342" y="75"/>
                  </a:lnTo>
                  <a:lnTo>
                    <a:pt x="341" y="69"/>
                  </a:lnTo>
                  <a:lnTo>
                    <a:pt x="339" y="64"/>
                  </a:lnTo>
                  <a:lnTo>
                    <a:pt x="336" y="59"/>
                  </a:lnTo>
                  <a:lnTo>
                    <a:pt x="332" y="54"/>
                  </a:lnTo>
                  <a:lnTo>
                    <a:pt x="328" y="49"/>
                  </a:lnTo>
                  <a:lnTo>
                    <a:pt x="321" y="46"/>
                  </a:lnTo>
                  <a:lnTo>
                    <a:pt x="314" y="43"/>
                  </a:lnTo>
                  <a:lnTo>
                    <a:pt x="305" y="41"/>
                  </a:lnTo>
                  <a:lnTo>
                    <a:pt x="297" y="38"/>
                  </a:lnTo>
                  <a:lnTo>
                    <a:pt x="307" y="35"/>
                  </a:lnTo>
                  <a:lnTo>
                    <a:pt x="331" y="25"/>
                  </a:lnTo>
                  <a:lnTo>
                    <a:pt x="350" y="19"/>
                  </a:lnTo>
                  <a:lnTo>
                    <a:pt x="369" y="14"/>
                  </a:lnTo>
                  <a:lnTo>
                    <a:pt x="393" y="7"/>
                  </a:lnTo>
                  <a:lnTo>
                    <a:pt x="417" y="4"/>
                  </a:lnTo>
                  <a:lnTo>
                    <a:pt x="443" y="0"/>
                  </a:lnTo>
                  <a:lnTo>
                    <a:pt x="469" y="0"/>
                  </a:lnTo>
                  <a:lnTo>
                    <a:pt x="483" y="0"/>
                  </a:lnTo>
                  <a:lnTo>
                    <a:pt x="496" y="1"/>
                  </a:lnTo>
                  <a:lnTo>
                    <a:pt x="510" y="3"/>
                  </a:lnTo>
                  <a:lnTo>
                    <a:pt x="523" y="5"/>
                  </a:lnTo>
                  <a:lnTo>
                    <a:pt x="537" y="9"/>
                  </a:lnTo>
                  <a:lnTo>
                    <a:pt x="550" y="12"/>
                  </a:lnTo>
                  <a:lnTo>
                    <a:pt x="564" y="19"/>
                  </a:lnTo>
                  <a:lnTo>
                    <a:pt x="576" y="25"/>
                  </a:lnTo>
                  <a:lnTo>
                    <a:pt x="588" y="31"/>
                  </a:lnTo>
                  <a:lnTo>
                    <a:pt x="601" y="39"/>
                  </a:lnTo>
                  <a:lnTo>
                    <a:pt x="612" y="49"/>
                  </a:lnTo>
                  <a:lnTo>
                    <a:pt x="623" y="60"/>
                  </a:lnTo>
                  <a:lnTo>
                    <a:pt x="674" y="121"/>
                  </a:lnTo>
                  <a:lnTo>
                    <a:pt x="722" y="175"/>
                  </a:lnTo>
                  <a:lnTo>
                    <a:pt x="742" y="201"/>
                  </a:lnTo>
                  <a:lnTo>
                    <a:pt x="761" y="226"/>
                  </a:lnTo>
                  <a:lnTo>
                    <a:pt x="768" y="239"/>
                  </a:lnTo>
                  <a:lnTo>
                    <a:pt x="775" y="251"/>
                  </a:lnTo>
                  <a:lnTo>
                    <a:pt x="781" y="265"/>
                  </a:lnTo>
                  <a:lnTo>
                    <a:pt x="788" y="277"/>
                  </a:lnTo>
                  <a:lnTo>
                    <a:pt x="791" y="289"/>
                  </a:lnTo>
                  <a:lnTo>
                    <a:pt x="795" y="301"/>
                  </a:lnTo>
                  <a:lnTo>
                    <a:pt x="797" y="315"/>
                  </a:lnTo>
                  <a:lnTo>
                    <a:pt x="799" y="327"/>
                  </a:lnTo>
                  <a:lnTo>
                    <a:pt x="800" y="341"/>
                  </a:lnTo>
                  <a:lnTo>
                    <a:pt x="799" y="353"/>
                  </a:lnTo>
                  <a:lnTo>
                    <a:pt x="796" y="367"/>
                  </a:lnTo>
                  <a:lnTo>
                    <a:pt x="793" y="380"/>
                  </a:lnTo>
                  <a:lnTo>
                    <a:pt x="789" y="395"/>
                  </a:lnTo>
                  <a:lnTo>
                    <a:pt x="783" y="408"/>
                  </a:lnTo>
                  <a:lnTo>
                    <a:pt x="775" y="423"/>
                  </a:lnTo>
                  <a:lnTo>
                    <a:pt x="767" y="438"/>
                  </a:lnTo>
                  <a:lnTo>
                    <a:pt x="756" y="454"/>
                  </a:lnTo>
                  <a:lnTo>
                    <a:pt x="743" y="470"/>
                  </a:lnTo>
                  <a:lnTo>
                    <a:pt x="730" y="486"/>
                  </a:lnTo>
                  <a:lnTo>
                    <a:pt x="715" y="503"/>
                  </a:lnTo>
                  <a:lnTo>
                    <a:pt x="708" y="512"/>
                  </a:lnTo>
                  <a:lnTo>
                    <a:pt x="686" y="534"/>
                  </a:lnTo>
                  <a:lnTo>
                    <a:pt x="670" y="549"/>
                  </a:lnTo>
                  <a:lnTo>
                    <a:pt x="651" y="566"/>
                  </a:lnTo>
                  <a:lnTo>
                    <a:pt x="629" y="583"/>
                  </a:lnTo>
                  <a:lnTo>
                    <a:pt x="604" y="602"/>
                  </a:lnTo>
                  <a:lnTo>
                    <a:pt x="577" y="620"/>
                  </a:lnTo>
                  <a:lnTo>
                    <a:pt x="548" y="637"/>
                  </a:lnTo>
                  <a:lnTo>
                    <a:pt x="532" y="645"/>
                  </a:lnTo>
                  <a:lnTo>
                    <a:pt x="516" y="653"/>
                  </a:lnTo>
                  <a:lnTo>
                    <a:pt x="499" y="661"/>
                  </a:lnTo>
                  <a:lnTo>
                    <a:pt x="481" y="667"/>
                  </a:lnTo>
                  <a:lnTo>
                    <a:pt x="463" y="673"/>
                  </a:lnTo>
                  <a:lnTo>
                    <a:pt x="446" y="678"/>
                  </a:lnTo>
                  <a:lnTo>
                    <a:pt x="426" y="683"/>
                  </a:lnTo>
                  <a:lnTo>
                    <a:pt x="407" y="686"/>
                  </a:lnTo>
                  <a:lnTo>
                    <a:pt x="388" y="689"/>
                  </a:lnTo>
                  <a:lnTo>
                    <a:pt x="368" y="690"/>
                  </a:lnTo>
                  <a:lnTo>
                    <a:pt x="347" y="691"/>
                  </a:lnTo>
                  <a:lnTo>
                    <a:pt x="326" y="690"/>
                  </a:lnTo>
                  <a:lnTo>
                    <a:pt x="256" y="685"/>
                  </a:lnTo>
                  <a:lnTo>
                    <a:pt x="259" y="681"/>
                  </a:lnTo>
                  <a:lnTo>
                    <a:pt x="265" y="674"/>
                  </a:lnTo>
                  <a:lnTo>
                    <a:pt x="272" y="662"/>
                  </a:lnTo>
                  <a:lnTo>
                    <a:pt x="280" y="647"/>
                  </a:lnTo>
                  <a:lnTo>
                    <a:pt x="282" y="640"/>
                  </a:lnTo>
                  <a:lnTo>
                    <a:pt x="283" y="632"/>
                  </a:lnTo>
                  <a:lnTo>
                    <a:pt x="283" y="624"/>
                  </a:lnTo>
                  <a:lnTo>
                    <a:pt x="281" y="616"/>
                  </a:lnTo>
                  <a:lnTo>
                    <a:pt x="277" y="609"/>
                  </a:lnTo>
                  <a:lnTo>
                    <a:pt x="272" y="602"/>
                  </a:lnTo>
                  <a:lnTo>
                    <a:pt x="264" y="595"/>
                  </a:lnTo>
                  <a:lnTo>
                    <a:pt x="254" y="589"/>
                  </a:lnTo>
                  <a:lnTo>
                    <a:pt x="224" y="578"/>
                  </a:lnTo>
                  <a:lnTo>
                    <a:pt x="190" y="562"/>
                  </a:lnTo>
                  <a:lnTo>
                    <a:pt x="152" y="544"/>
                  </a:lnTo>
                  <a:lnTo>
                    <a:pt x="112" y="522"/>
                  </a:lnTo>
                  <a:lnTo>
                    <a:pt x="93" y="509"/>
                  </a:lnTo>
                  <a:lnTo>
                    <a:pt x="75" y="497"/>
                  </a:lnTo>
                  <a:lnTo>
                    <a:pt x="58" y="483"/>
                  </a:lnTo>
                  <a:lnTo>
                    <a:pt x="42" y="470"/>
                  </a:lnTo>
                  <a:lnTo>
                    <a:pt x="29" y="456"/>
                  </a:lnTo>
                  <a:lnTo>
                    <a:pt x="17" y="442"/>
                  </a:lnTo>
                  <a:lnTo>
                    <a:pt x="13" y="434"/>
                  </a:lnTo>
                  <a:lnTo>
                    <a:pt x="9" y="426"/>
                  </a:lnTo>
                  <a:lnTo>
                    <a:pt x="5" y="418"/>
                  </a:lnTo>
                  <a:lnTo>
                    <a:pt x="3" y="411"/>
                  </a:lnTo>
                  <a:lnTo>
                    <a:pt x="1" y="402"/>
                  </a:lnTo>
                  <a:lnTo>
                    <a:pt x="0" y="394"/>
                  </a:lnTo>
                  <a:lnTo>
                    <a:pt x="0" y="383"/>
                  </a:lnTo>
                  <a:lnTo>
                    <a:pt x="0" y="372"/>
                  </a:lnTo>
                  <a:lnTo>
                    <a:pt x="1" y="360"/>
                  </a:lnTo>
                  <a:lnTo>
                    <a:pt x="4" y="348"/>
                  </a:lnTo>
                  <a:lnTo>
                    <a:pt x="6" y="336"/>
                  </a:lnTo>
                  <a:lnTo>
                    <a:pt x="11" y="324"/>
                  </a:lnTo>
                  <a:lnTo>
                    <a:pt x="15" y="311"/>
                  </a:lnTo>
                  <a:lnTo>
                    <a:pt x="20" y="299"/>
                  </a:lnTo>
                  <a:lnTo>
                    <a:pt x="26" y="288"/>
                  </a:lnTo>
                  <a:lnTo>
                    <a:pt x="32" y="277"/>
                  </a:lnTo>
                  <a:lnTo>
                    <a:pt x="40" y="266"/>
                  </a:lnTo>
                  <a:lnTo>
                    <a:pt x="47" y="256"/>
                  </a:lnTo>
                  <a:lnTo>
                    <a:pt x="54" y="247"/>
                  </a:lnTo>
                  <a:lnTo>
                    <a:pt x="63" y="240"/>
                  </a:lnTo>
                  <a:lnTo>
                    <a:pt x="75" y="230"/>
                  </a:lnTo>
                  <a:lnTo>
                    <a:pt x="90" y="223"/>
                  </a:lnTo>
                  <a:lnTo>
                    <a:pt x="106" y="217"/>
                  </a:lnTo>
                  <a:lnTo>
                    <a:pt x="122" y="210"/>
                  </a:lnTo>
                  <a:lnTo>
                    <a:pt x="139" y="205"/>
                  </a:lnTo>
                  <a:lnTo>
                    <a:pt x="158" y="202"/>
                  </a:lnTo>
                  <a:lnTo>
                    <a:pt x="176" y="199"/>
                  </a:lnTo>
                  <a:lnTo>
                    <a:pt x="193" y="197"/>
                  </a:lnTo>
                  <a:lnTo>
                    <a:pt x="228" y="194"/>
                  </a:lnTo>
                  <a:lnTo>
                    <a:pt x="257" y="193"/>
                  </a:lnTo>
                  <a:lnTo>
                    <a:pt x="281" y="193"/>
                  </a:lnTo>
                  <a:lnTo>
                    <a:pt x="294" y="193"/>
                  </a:lnTo>
                  <a:close/>
                </a:path>
              </a:pathLst>
            </a:custGeom>
            <a:solidFill>
              <a:srgbClr val="655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6462720" y="2121120"/>
              <a:ext cx="244440" cy="209520"/>
            </a:xfrm>
            <a:custGeom>
              <a:avLst/>
              <a:gdLst/>
              <a:ahLst/>
              <a:rect l="l" t="t" r="r" b="b"/>
              <a:pathLst>
                <a:path w="768" h="660">
                  <a:moveTo>
                    <a:pt x="288" y="183"/>
                  </a:moveTo>
                  <a:lnTo>
                    <a:pt x="293" y="178"/>
                  </a:lnTo>
                  <a:lnTo>
                    <a:pt x="307" y="161"/>
                  </a:lnTo>
                  <a:lnTo>
                    <a:pt x="325" y="138"/>
                  </a:lnTo>
                  <a:lnTo>
                    <a:pt x="342" y="111"/>
                  </a:lnTo>
                  <a:lnTo>
                    <a:pt x="349" y="96"/>
                  </a:lnTo>
                  <a:lnTo>
                    <a:pt x="355" y="82"/>
                  </a:lnTo>
                  <a:lnTo>
                    <a:pt x="358" y="69"/>
                  </a:lnTo>
                  <a:lnTo>
                    <a:pt x="360" y="55"/>
                  </a:lnTo>
                  <a:lnTo>
                    <a:pt x="358" y="49"/>
                  </a:lnTo>
                  <a:lnTo>
                    <a:pt x="357" y="44"/>
                  </a:lnTo>
                  <a:lnTo>
                    <a:pt x="355" y="39"/>
                  </a:lnTo>
                  <a:lnTo>
                    <a:pt x="351" y="34"/>
                  </a:lnTo>
                  <a:lnTo>
                    <a:pt x="346" y="29"/>
                  </a:lnTo>
                  <a:lnTo>
                    <a:pt x="341" y="26"/>
                  </a:lnTo>
                  <a:lnTo>
                    <a:pt x="334" y="23"/>
                  </a:lnTo>
                  <a:lnTo>
                    <a:pt x="326" y="21"/>
                  </a:lnTo>
                  <a:lnTo>
                    <a:pt x="334" y="18"/>
                  </a:lnTo>
                  <a:lnTo>
                    <a:pt x="356" y="12"/>
                  </a:lnTo>
                  <a:lnTo>
                    <a:pt x="371" y="8"/>
                  </a:lnTo>
                  <a:lnTo>
                    <a:pt x="388" y="5"/>
                  </a:lnTo>
                  <a:lnTo>
                    <a:pt x="408" y="2"/>
                  </a:lnTo>
                  <a:lnTo>
                    <a:pt x="429" y="0"/>
                  </a:lnTo>
                  <a:lnTo>
                    <a:pt x="451" y="0"/>
                  </a:lnTo>
                  <a:lnTo>
                    <a:pt x="473" y="0"/>
                  </a:lnTo>
                  <a:lnTo>
                    <a:pt x="496" y="4"/>
                  </a:lnTo>
                  <a:lnTo>
                    <a:pt x="518" y="8"/>
                  </a:lnTo>
                  <a:lnTo>
                    <a:pt x="531" y="12"/>
                  </a:lnTo>
                  <a:lnTo>
                    <a:pt x="542" y="16"/>
                  </a:lnTo>
                  <a:lnTo>
                    <a:pt x="553" y="21"/>
                  </a:lnTo>
                  <a:lnTo>
                    <a:pt x="564" y="27"/>
                  </a:lnTo>
                  <a:lnTo>
                    <a:pt x="574" y="33"/>
                  </a:lnTo>
                  <a:lnTo>
                    <a:pt x="585" y="40"/>
                  </a:lnTo>
                  <a:lnTo>
                    <a:pt x="593" y="49"/>
                  </a:lnTo>
                  <a:lnTo>
                    <a:pt x="603" y="59"/>
                  </a:lnTo>
                  <a:lnTo>
                    <a:pt x="654" y="119"/>
                  </a:lnTo>
                  <a:lnTo>
                    <a:pt x="698" y="173"/>
                  </a:lnTo>
                  <a:lnTo>
                    <a:pt x="718" y="198"/>
                  </a:lnTo>
                  <a:lnTo>
                    <a:pt x="734" y="222"/>
                  </a:lnTo>
                  <a:lnTo>
                    <a:pt x="741" y="235"/>
                  </a:lnTo>
                  <a:lnTo>
                    <a:pt x="747" y="247"/>
                  </a:lnTo>
                  <a:lnTo>
                    <a:pt x="753" y="259"/>
                  </a:lnTo>
                  <a:lnTo>
                    <a:pt x="758" y="270"/>
                  </a:lnTo>
                  <a:lnTo>
                    <a:pt x="762" y="283"/>
                  </a:lnTo>
                  <a:lnTo>
                    <a:pt x="764" y="294"/>
                  </a:lnTo>
                  <a:lnTo>
                    <a:pt x="767" y="306"/>
                  </a:lnTo>
                  <a:lnTo>
                    <a:pt x="768" y="318"/>
                  </a:lnTo>
                  <a:lnTo>
                    <a:pt x="768" y="331"/>
                  </a:lnTo>
                  <a:lnTo>
                    <a:pt x="767" y="343"/>
                  </a:lnTo>
                  <a:lnTo>
                    <a:pt x="766" y="355"/>
                  </a:lnTo>
                  <a:lnTo>
                    <a:pt x="762" y="368"/>
                  </a:lnTo>
                  <a:lnTo>
                    <a:pt x="757" y="381"/>
                  </a:lnTo>
                  <a:lnTo>
                    <a:pt x="752" y="395"/>
                  </a:lnTo>
                  <a:lnTo>
                    <a:pt x="745" y="408"/>
                  </a:lnTo>
                  <a:lnTo>
                    <a:pt x="737" y="422"/>
                  </a:lnTo>
                  <a:lnTo>
                    <a:pt x="727" y="436"/>
                  </a:lnTo>
                  <a:lnTo>
                    <a:pt x="716" y="451"/>
                  </a:lnTo>
                  <a:lnTo>
                    <a:pt x="704" y="467"/>
                  </a:lnTo>
                  <a:lnTo>
                    <a:pt x="691" y="482"/>
                  </a:lnTo>
                  <a:lnTo>
                    <a:pt x="683" y="491"/>
                  </a:lnTo>
                  <a:lnTo>
                    <a:pt x="664" y="512"/>
                  </a:lnTo>
                  <a:lnTo>
                    <a:pt x="649" y="526"/>
                  </a:lnTo>
                  <a:lnTo>
                    <a:pt x="632" y="542"/>
                  </a:lnTo>
                  <a:lnTo>
                    <a:pt x="611" y="558"/>
                  </a:lnTo>
                  <a:lnTo>
                    <a:pt x="587" y="575"/>
                  </a:lnTo>
                  <a:lnTo>
                    <a:pt x="563" y="593"/>
                  </a:lnTo>
                  <a:lnTo>
                    <a:pt x="534" y="609"/>
                  </a:lnTo>
                  <a:lnTo>
                    <a:pt x="518" y="617"/>
                  </a:lnTo>
                  <a:lnTo>
                    <a:pt x="504" y="625"/>
                  </a:lnTo>
                  <a:lnTo>
                    <a:pt x="488" y="631"/>
                  </a:lnTo>
                  <a:lnTo>
                    <a:pt x="470" y="637"/>
                  </a:lnTo>
                  <a:lnTo>
                    <a:pt x="453" y="643"/>
                  </a:lnTo>
                  <a:lnTo>
                    <a:pt x="435" y="648"/>
                  </a:lnTo>
                  <a:lnTo>
                    <a:pt x="417" y="652"/>
                  </a:lnTo>
                  <a:lnTo>
                    <a:pt x="398" y="655"/>
                  </a:lnTo>
                  <a:lnTo>
                    <a:pt x="379" y="658"/>
                  </a:lnTo>
                  <a:lnTo>
                    <a:pt x="358" y="659"/>
                  </a:lnTo>
                  <a:lnTo>
                    <a:pt x="339" y="660"/>
                  </a:lnTo>
                  <a:lnTo>
                    <a:pt x="318" y="659"/>
                  </a:lnTo>
                  <a:lnTo>
                    <a:pt x="259" y="651"/>
                  </a:lnTo>
                  <a:lnTo>
                    <a:pt x="260" y="648"/>
                  </a:lnTo>
                  <a:lnTo>
                    <a:pt x="265" y="642"/>
                  </a:lnTo>
                  <a:lnTo>
                    <a:pt x="270" y="632"/>
                  </a:lnTo>
                  <a:lnTo>
                    <a:pt x="275" y="621"/>
                  </a:lnTo>
                  <a:lnTo>
                    <a:pt x="276" y="615"/>
                  </a:lnTo>
                  <a:lnTo>
                    <a:pt x="276" y="607"/>
                  </a:lnTo>
                  <a:lnTo>
                    <a:pt x="275" y="601"/>
                  </a:lnTo>
                  <a:lnTo>
                    <a:pt x="272" y="595"/>
                  </a:lnTo>
                  <a:lnTo>
                    <a:pt x="267" y="589"/>
                  </a:lnTo>
                  <a:lnTo>
                    <a:pt x="261" y="583"/>
                  </a:lnTo>
                  <a:lnTo>
                    <a:pt x="253" y="577"/>
                  </a:lnTo>
                  <a:lnTo>
                    <a:pt x="242" y="572"/>
                  </a:lnTo>
                  <a:lnTo>
                    <a:pt x="213" y="561"/>
                  </a:lnTo>
                  <a:lnTo>
                    <a:pt x="179" y="545"/>
                  </a:lnTo>
                  <a:lnTo>
                    <a:pt x="142" y="528"/>
                  </a:lnTo>
                  <a:lnTo>
                    <a:pt x="104" y="507"/>
                  </a:lnTo>
                  <a:lnTo>
                    <a:pt x="85" y="494"/>
                  </a:lnTo>
                  <a:lnTo>
                    <a:pt x="67" y="482"/>
                  </a:lnTo>
                  <a:lnTo>
                    <a:pt x="51" y="470"/>
                  </a:lnTo>
                  <a:lnTo>
                    <a:pt x="37" y="456"/>
                  </a:lnTo>
                  <a:lnTo>
                    <a:pt x="25" y="441"/>
                  </a:lnTo>
                  <a:lnTo>
                    <a:pt x="14" y="427"/>
                  </a:lnTo>
                  <a:lnTo>
                    <a:pt x="10" y="419"/>
                  </a:lnTo>
                  <a:lnTo>
                    <a:pt x="8" y="412"/>
                  </a:lnTo>
                  <a:lnTo>
                    <a:pt x="4" y="403"/>
                  </a:lnTo>
                  <a:lnTo>
                    <a:pt x="3" y="396"/>
                  </a:lnTo>
                  <a:lnTo>
                    <a:pt x="2" y="389"/>
                  </a:lnTo>
                  <a:lnTo>
                    <a:pt x="0" y="380"/>
                  </a:lnTo>
                  <a:lnTo>
                    <a:pt x="0" y="371"/>
                  </a:lnTo>
                  <a:lnTo>
                    <a:pt x="2" y="361"/>
                  </a:lnTo>
                  <a:lnTo>
                    <a:pt x="3" y="352"/>
                  </a:lnTo>
                  <a:lnTo>
                    <a:pt x="5" y="341"/>
                  </a:lnTo>
                  <a:lnTo>
                    <a:pt x="9" y="331"/>
                  </a:lnTo>
                  <a:lnTo>
                    <a:pt x="13" y="320"/>
                  </a:lnTo>
                  <a:lnTo>
                    <a:pt x="16" y="310"/>
                  </a:lnTo>
                  <a:lnTo>
                    <a:pt x="21" y="299"/>
                  </a:lnTo>
                  <a:lnTo>
                    <a:pt x="27" y="289"/>
                  </a:lnTo>
                  <a:lnTo>
                    <a:pt x="34" y="279"/>
                  </a:lnTo>
                  <a:lnTo>
                    <a:pt x="40" y="269"/>
                  </a:lnTo>
                  <a:lnTo>
                    <a:pt x="47" y="261"/>
                  </a:lnTo>
                  <a:lnTo>
                    <a:pt x="55" y="253"/>
                  </a:lnTo>
                  <a:lnTo>
                    <a:pt x="63" y="246"/>
                  </a:lnTo>
                  <a:lnTo>
                    <a:pt x="75" y="236"/>
                  </a:lnTo>
                  <a:lnTo>
                    <a:pt x="90" y="227"/>
                  </a:lnTo>
                  <a:lnTo>
                    <a:pt x="106" y="220"/>
                  </a:lnTo>
                  <a:lnTo>
                    <a:pt x="122" y="214"/>
                  </a:lnTo>
                  <a:lnTo>
                    <a:pt x="139" y="208"/>
                  </a:lnTo>
                  <a:lnTo>
                    <a:pt x="157" y="203"/>
                  </a:lnTo>
                  <a:lnTo>
                    <a:pt x="174" y="198"/>
                  </a:lnTo>
                  <a:lnTo>
                    <a:pt x="191" y="194"/>
                  </a:lnTo>
                  <a:lnTo>
                    <a:pt x="223" y="189"/>
                  </a:lnTo>
                  <a:lnTo>
                    <a:pt x="251" y="186"/>
                  </a:lnTo>
                  <a:lnTo>
                    <a:pt x="275" y="184"/>
                  </a:lnTo>
                  <a:lnTo>
                    <a:pt x="288" y="183"/>
                  </a:lnTo>
                  <a:close/>
                </a:path>
              </a:pathLst>
            </a:custGeom>
            <a:solidFill>
              <a:srgbClr val="63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6469200" y="2124000"/>
              <a:ext cx="234720" cy="201960"/>
            </a:xfrm>
            <a:custGeom>
              <a:avLst/>
              <a:gdLst/>
              <a:ahLst/>
              <a:rect l="l" t="t" r="r" b="b"/>
              <a:pathLst>
                <a:path w="737" h="635">
                  <a:moveTo>
                    <a:pt x="283" y="181"/>
                  </a:moveTo>
                  <a:lnTo>
                    <a:pt x="289" y="175"/>
                  </a:lnTo>
                  <a:lnTo>
                    <a:pt x="305" y="158"/>
                  </a:lnTo>
                  <a:lnTo>
                    <a:pt x="328" y="133"/>
                  </a:lnTo>
                  <a:lnTo>
                    <a:pt x="350" y="104"/>
                  </a:lnTo>
                  <a:lnTo>
                    <a:pt x="360" y="89"/>
                  </a:lnTo>
                  <a:lnTo>
                    <a:pt x="368" y="74"/>
                  </a:lnTo>
                  <a:lnTo>
                    <a:pt x="374" y="59"/>
                  </a:lnTo>
                  <a:lnTo>
                    <a:pt x="379" y="46"/>
                  </a:lnTo>
                  <a:lnTo>
                    <a:pt x="379" y="40"/>
                  </a:lnTo>
                  <a:lnTo>
                    <a:pt x="379" y="34"/>
                  </a:lnTo>
                  <a:lnTo>
                    <a:pt x="379" y="28"/>
                  </a:lnTo>
                  <a:lnTo>
                    <a:pt x="378" y="23"/>
                  </a:lnTo>
                  <a:lnTo>
                    <a:pt x="374" y="18"/>
                  </a:lnTo>
                  <a:lnTo>
                    <a:pt x="371" y="14"/>
                  </a:lnTo>
                  <a:lnTo>
                    <a:pt x="366" y="10"/>
                  </a:lnTo>
                  <a:lnTo>
                    <a:pt x="360" y="8"/>
                  </a:lnTo>
                  <a:lnTo>
                    <a:pt x="366" y="5"/>
                  </a:lnTo>
                  <a:lnTo>
                    <a:pt x="383" y="3"/>
                  </a:lnTo>
                  <a:lnTo>
                    <a:pt x="395" y="2"/>
                  </a:lnTo>
                  <a:lnTo>
                    <a:pt x="409" y="0"/>
                  </a:lnTo>
                  <a:lnTo>
                    <a:pt x="425" y="0"/>
                  </a:lnTo>
                  <a:lnTo>
                    <a:pt x="442" y="2"/>
                  </a:lnTo>
                  <a:lnTo>
                    <a:pt x="459" y="3"/>
                  </a:lnTo>
                  <a:lnTo>
                    <a:pt x="478" y="5"/>
                  </a:lnTo>
                  <a:lnTo>
                    <a:pt x="496" y="10"/>
                  </a:lnTo>
                  <a:lnTo>
                    <a:pt x="515" y="16"/>
                  </a:lnTo>
                  <a:lnTo>
                    <a:pt x="533" y="25"/>
                  </a:lnTo>
                  <a:lnTo>
                    <a:pt x="550" y="35"/>
                  </a:lnTo>
                  <a:lnTo>
                    <a:pt x="559" y="41"/>
                  </a:lnTo>
                  <a:lnTo>
                    <a:pt x="567" y="48"/>
                  </a:lnTo>
                  <a:lnTo>
                    <a:pt x="575" y="56"/>
                  </a:lnTo>
                  <a:lnTo>
                    <a:pt x="582" y="64"/>
                  </a:lnTo>
                  <a:lnTo>
                    <a:pt x="631" y="125"/>
                  </a:lnTo>
                  <a:lnTo>
                    <a:pt x="673" y="179"/>
                  </a:lnTo>
                  <a:lnTo>
                    <a:pt x="692" y="203"/>
                  </a:lnTo>
                  <a:lnTo>
                    <a:pt x="706" y="227"/>
                  </a:lnTo>
                  <a:lnTo>
                    <a:pt x="713" y="239"/>
                  </a:lnTo>
                  <a:lnTo>
                    <a:pt x="719" y="250"/>
                  </a:lnTo>
                  <a:lnTo>
                    <a:pt x="724" y="261"/>
                  </a:lnTo>
                  <a:lnTo>
                    <a:pt x="729" y="272"/>
                  </a:lnTo>
                  <a:lnTo>
                    <a:pt x="732" y="283"/>
                  </a:lnTo>
                  <a:lnTo>
                    <a:pt x="735" y="294"/>
                  </a:lnTo>
                  <a:lnTo>
                    <a:pt x="736" y="305"/>
                  </a:lnTo>
                  <a:lnTo>
                    <a:pt x="737" y="317"/>
                  </a:lnTo>
                  <a:lnTo>
                    <a:pt x="737" y="328"/>
                  </a:lnTo>
                  <a:lnTo>
                    <a:pt x="736" y="340"/>
                  </a:lnTo>
                  <a:lnTo>
                    <a:pt x="735" y="351"/>
                  </a:lnTo>
                  <a:lnTo>
                    <a:pt x="731" y="362"/>
                  </a:lnTo>
                  <a:lnTo>
                    <a:pt x="727" y="374"/>
                  </a:lnTo>
                  <a:lnTo>
                    <a:pt x="722" y="387"/>
                  </a:lnTo>
                  <a:lnTo>
                    <a:pt x="716" y="399"/>
                  </a:lnTo>
                  <a:lnTo>
                    <a:pt x="709" y="411"/>
                  </a:lnTo>
                  <a:lnTo>
                    <a:pt x="700" y="425"/>
                  </a:lnTo>
                  <a:lnTo>
                    <a:pt x="690" y="438"/>
                  </a:lnTo>
                  <a:lnTo>
                    <a:pt x="679" y="452"/>
                  </a:lnTo>
                  <a:lnTo>
                    <a:pt x="667" y="467"/>
                  </a:lnTo>
                  <a:lnTo>
                    <a:pt x="661" y="474"/>
                  </a:lnTo>
                  <a:lnTo>
                    <a:pt x="643" y="495"/>
                  </a:lnTo>
                  <a:lnTo>
                    <a:pt x="629" y="508"/>
                  </a:lnTo>
                  <a:lnTo>
                    <a:pt x="613" y="523"/>
                  </a:lnTo>
                  <a:lnTo>
                    <a:pt x="593" y="539"/>
                  </a:lnTo>
                  <a:lnTo>
                    <a:pt x="572" y="555"/>
                  </a:lnTo>
                  <a:lnTo>
                    <a:pt x="548" y="572"/>
                  </a:lnTo>
                  <a:lnTo>
                    <a:pt x="521" y="587"/>
                  </a:lnTo>
                  <a:lnTo>
                    <a:pt x="507" y="595"/>
                  </a:lnTo>
                  <a:lnTo>
                    <a:pt x="492" y="602"/>
                  </a:lnTo>
                  <a:lnTo>
                    <a:pt x="476" y="608"/>
                  </a:lnTo>
                  <a:lnTo>
                    <a:pt x="460" y="614"/>
                  </a:lnTo>
                  <a:lnTo>
                    <a:pt x="443" y="619"/>
                  </a:lnTo>
                  <a:lnTo>
                    <a:pt x="426" y="624"/>
                  </a:lnTo>
                  <a:lnTo>
                    <a:pt x="409" y="628"/>
                  </a:lnTo>
                  <a:lnTo>
                    <a:pt x="390" y="631"/>
                  </a:lnTo>
                  <a:lnTo>
                    <a:pt x="371" y="634"/>
                  </a:lnTo>
                  <a:lnTo>
                    <a:pt x="351" y="635"/>
                  </a:lnTo>
                  <a:lnTo>
                    <a:pt x="331" y="635"/>
                  </a:lnTo>
                  <a:lnTo>
                    <a:pt x="310" y="635"/>
                  </a:lnTo>
                  <a:lnTo>
                    <a:pt x="265" y="627"/>
                  </a:lnTo>
                  <a:lnTo>
                    <a:pt x="266" y="625"/>
                  </a:lnTo>
                  <a:lnTo>
                    <a:pt x="269" y="620"/>
                  </a:lnTo>
                  <a:lnTo>
                    <a:pt x="271" y="612"/>
                  </a:lnTo>
                  <a:lnTo>
                    <a:pt x="272" y="603"/>
                  </a:lnTo>
                  <a:lnTo>
                    <a:pt x="272" y="597"/>
                  </a:lnTo>
                  <a:lnTo>
                    <a:pt x="271" y="592"/>
                  </a:lnTo>
                  <a:lnTo>
                    <a:pt x="269" y="586"/>
                  </a:lnTo>
                  <a:lnTo>
                    <a:pt x="265" y="581"/>
                  </a:lnTo>
                  <a:lnTo>
                    <a:pt x="259" y="575"/>
                  </a:lnTo>
                  <a:lnTo>
                    <a:pt x="253" y="570"/>
                  </a:lnTo>
                  <a:lnTo>
                    <a:pt x="243" y="564"/>
                  </a:lnTo>
                  <a:lnTo>
                    <a:pt x="232" y="559"/>
                  </a:lnTo>
                  <a:lnTo>
                    <a:pt x="203" y="547"/>
                  </a:lnTo>
                  <a:lnTo>
                    <a:pt x="169" y="533"/>
                  </a:lnTo>
                  <a:lnTo>
                    <a:pt x="150" y="524"/>
                  </a:lnTo>
                  <a:lnTo>
                    <a:pt x="132" y="516"/>
                  </a:lnTo>
                  <a:lnTo>
                    <a:pt x="112" y="506"/>
                  </a:lnTo>
                  <a:lnTo>
                    <a:pt x="94" y="496"/>
                  </a:lnTo>
                  <a:lnTo>
                    <a:pt x="77" y="485"/>
                  </a:lnTo>
                  <a:lnTo>
                    <a:pt x="59" y="473"/>
                  </a:lnTo>
                  <a:lnTo>
                    <a:pt x="43" y="460"/>
                  </a:lnTo>
                  <a:lnTo>
                    <a:pt x="30" y="447"/>
                  </a:lnTo>
                  <a:lnTo>
                    <a:pt x="24" y="441"/>
                  </a:lnTo>
                  <a:lnTo>
                    <a:pt x="19" y="433"/>
                  </a:lnTo>
                  <a:lnTo>
                    <a:pt x="14" y="426"/>
                  </a:lnTo>
                  <a:lnTo>
                    <a:pt x="10" y="419"/>
                  </a:lnTo>
                  <a:lnTo>
                    <a:pt x="6" y="411"/>
                  </a:lnTo>
                  <a:lnTo>
                    <a:pt x="4" y="404"/>
                  </a:lnTo>
                  <a:lnTo>
                    <a:pt x="2" y="395"/>
                  </a:lnTo>
                  <a:lnTo>
                    <a:pt x="2" y="388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2" y="366"/>
                  </a:lnTo>
                  <a:lnTo>
                    <a:pt x="3" y="357"/>
                  </a:lnTo>
                  <a:lnTo>
                    <a:pt x="8" y="340"/>
                  </a:lnTo>
                  <a:lnTo>
                    <a:pt x="15" y="321"/>
                  </a:lnTo>
                  <a:lnTo>
                    <a:pt x="25" y="303"/>
                  </a:lnTo>
                  <a:lnTo>
                    <a:pt x="36" y="286"/>
                  </a:lnTo>
                  <a:lnTo>
                    <a:pt x="42" y="278"/>
                  </a:lnTo>
                  <a:lnTo>
                    <a:pt x="48" y="271"/>
                  </a:lnTo>
                  <a:lnTo>
                    <a:pt x="56" y="264"/>
                  </a:lnTo>
                  <a:lnTo>
                    <a:pt x="63" y="258"/>
                  </a:lnTo>
                  <a:lnTo>
                    <a:pt x="77" y="246"/>
                  </a:lnTo>
                  <a:lnTo>
                    <a:pt x="91" y="238"/>
                  </a:lnTo>
                  <a:lnTo>
                    <a:pt x="106" y="229"/>
                  </a:lnTo>
                  <a:lnTo>
                    <a:pt x="122" y="221"/>
                  </a:lnTo>
                  <a:lnTo>
                    <a:pt x="139" y="214"/>
                  </a:lnTo>
                  <a:lnTo>
                    <a:pt x="155" y="208"/>
                  </a:lnTo>
                  <a:lnTo>
                    <a:pt x="173" y="202"/>
                  </a:lnTo>
                  <a:lnTo>
                    <a:pt x="189" y="197"/>
                  </a:lnTo>
                  <a:lnTo>
                    <a:pt x="219" y="190"/>
                  </a:lnTo>
                  <a:lnTo>
                    <a:pt x="248" y="185"/>
                  </a:lnTo>
                  <a:lnTo>
                    <a:pt x="269" y="182"/>
                  </a:lnTo>
                  <a:lnTo>
                    <a:pt x="283" y="181"/>
                  </a:lnTo>
                  <a:close/>
                </a:path>
              </a:pathLst>
            </a:custGeom>
            <a:solidFill>
              <a:srgbClr val="60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6477120" y="2125800"/>
              <a:ext cx="223560" cy="195120"/>
            </a:xfrm>
            <a:custGeom>
              <a:avLst/>
              <a:gdLst/>
              <a:ahLst/>
              <a:rect l="l" t="t" r="r" b="b"/>
              <a:pathLst>
                <a:path w="707" h="615">
                  <a:moveTo>
                    <a:pt x="281" y="182"/>
                  </a:moveTo>
                  <a:lnTo>
                    <a:pt x="287" y="176"/>
                  </a:lnTo>
                  <a:lnTo>
                    <a:pt x="306" y="159"/>
                  </a:lnTo>
                  <a:lnTo>
                    <a:pt x="330" y="133"/>
                  </a:lnTo>
                  <a:lnTo>
                    <a:pt x="357" y="103"/>
                  </a:lnTo>
                  <a:lnTo>
                    <a:pt x="370" y="89"/>
                  </a:lnTo>
                  <a:lnTo>
                    <a:pt x="381" y="73"/>
                  </a:lnTo>
                  <a:lnTo>
                    <a:pt x="390" y="57"/>
                  </a:lnTo>
                  <a:lnTo>
                    <a:pt x="398" y="43"/>
                  </a:lnTo>
                  <a:lnTo>
                    <a:pt x="400" y="36"/>
                  </a:lnTo>
                  <a:lnTo>
                    <a:pt x="402" y="30"/>
                  </a:lnTo>
                  <a:lnTo>
                    <a:pt x="402" y="24"/>
                  </a:lnTo>
                  <a:lnTo>
                    <a:pt x="402" y="17"/>
                  </a:lnTo>
                  <a:lnTo>
                    <a:pt x="400" y="12"/>
                  </a:lnTo>
                  <a:lnTo>
                    <a:pt x="398" y="8"/>
                  </a:lnTo>
                  <a:lnTo>
                    <a:pt x="394" y="4"/>
                  </a:lnTo>
                  <a:lnTo>
                    <a:pt x="389" y="0"/>
                  </a:lnTo>
                  <a:lnTo>
                    <a:pt x="394" y="0"/>
                  </a:lnTo>
                  <a:lnTo>
                    <a:pt x="408" y="1"/>
                  </a:lnTo>
                  <a:lnTo>
                    <a:pt x="427" y="3"/>
                  </a:lnTo>
                  <a:lnTo>
                    <a:pt x="453" y="8"/>
                  </a:lnTo>
                  <a:lnTo>
                    <a:pt x="467" y="11"/>
                  </a:lnTo>
                  <a:lnTo>
                    <a:pt x="480" y="16"/>
                  </a:lnTo>
                  <a:lnTo>
                    <a:pt x="495" y="22"/>
                  </a:lnTo>
                  <a:lnTo>
                    <a:pt x="510" y="30"/>
                  </a:lnTo>
                  <a:lnTo>
                    <a:pt x="523" y="38"/>
                  </a:lnTo>
                  <a:lnTo>
                    <a:pt x="538" y="48"/>
                  </a:lnTo>
                  <a:lnTo>
                    <a:pt x="550" y="60"/>
                  </a:lnTo>
                  <a:lnTo>
                    <a:pt x="563" y="74"/>
                  </a:lnTo>
                  <a:lnTo>
                    <a:pt x="609" y="135"/>
                  </a:lnTo>
                  <a:lnTo>
                    <a:pt x="649" y="190"/>
                  </a:lnTo>
                  <a:lnTo>
                    <a:pt x="666" y="214"/>
                  </a:lnTo>
                  <a:lnTo>
                    <a:pt x="680" y="236"/>
                  </a:lnTo>
                  <a:lnTo>
                    <a:pt x="691" y="258"/>
                  </a:lnTo>
                  <a:lnTo>
                    <a:pt x="699" y="279"/>
                  </a:lnTo>
                  <a:lnTo>
                    <a:pt x="702" y="290"/>
                  </a:lnTo>
                  <a:lnTo>
                    <a:pt x="704" y="300"/>
                  </a:lnTo>
                  <a:lnTo>
                    <a:pt x="705" y="310"/>
                  </a:lnTo>
                  <a:lnTo>
                    <a:pt x="707" y="321"/>
                  </a:lnTo>
                  <a:lnTo>
                    <a:pt x="707" y="331"/>
                  </a:lnTo>
                  <a:lnTo>
                    <a:pt x="705" y="342"/>
                  </a:lnTo>
                  <a:lnTo>
                    <a:pt x="703" y="352"/>
                  </a:lnTo>
                  <a:lnTo>
                    <a:pt x="700" y="363"/>
                  </a:lnTo>
                  <a:lnTo>
                    <a:pt x="696" y="374"/>
                  </a:lnTo>
                  <a:lnTo>
                    <a:pt x="691" y="384"/>
                  </a:lnTo>
                  <a:lnTo>
                    <a:pt x="684" y="396"/>
                  </a:lnTo>
                  <a:lnTo>
                    <a:pt x="678" y="407"/>
                  </a:lnTo>
                  <a:lnTo>
                    <a:pt x="670" y="420"/>
                  </a:lnTo>
                  <a:lnTo>
                    <a:pt x="661" y="432"/>
                  </a:lnTo>
                  <a:lnTo>
                    <a:pt x="650" y="444"/>
                  </a:lnTo>
                  <a:lnTo>
                    <a:pt x="639" y="456"/>
                  </a:lnTo>
                  <a:lnTo>
                    <a:pt x="634" y="464"/>
                  </a:lnTo>
                  <a:lnTo>
                    <a:pt x="618" y="484"/>
                  </a:lnTo>
                  <a:lnTo>
                    <a:pt x="606" y="496"/>
                  </a:lnTo>
                  <a:lnTo>
                    <a:pt x="591" y="511"/>
                  </a:lnTo>
                  <a:lnTo>
                    <a:pt x="574" y="525"/>
                  </a:lnTo>
                  <a:lnTo>
                    <a:pt x="554" y="541"/>
                  </a:lnTo>
                  <a:lnTo>
                    <a:pt x="532" y="556"/>
                  </a:lnTo>
                  <a:lnTo>
                    <a:pt x="507" y="571"/>
                  </a:lnTo>
                  <a:lnTo>
                    <a:pt x="494" y="577"/>
                  </a:lnTo>
                  <a:lnTo>
                    <a:pt x="479" y="584"/>
                  </a:lnTo>
                  <a:lnTo>
                    <a:pt x="464" y="591"/>
                  </a:lnTo>
                  <a:lnTo>
                    <a:pt x="450" y="595"/>
                  </a:lnTo>
                  <a:lnTo>
                    <a:pt x="432" y="600"/>
                  </a:lnTo>
                  <a:lnTo>
                    <a:pt x="416" y="605"/>
                  </a:lnTo>
                  <a:lnTo>
                    <a:pt x="399" y="609"/>
                  </a:lnTo>
                  <a:lnTo>
                    <a:pt x="381" y="611"/>
                  </a:lnTo>
                  <a:lnTo>
                    <a:pt x="362" y="614"/>
                  </a:lnTo>
                  <a:lnTo>
                    <a:pt x="342" y="615"/>
                  </a:lnTo>
                  <a:lnTo>
                    <a:pt x="323" y="615"/>
                  </a:lnTo>
                  <a:lnTo>
                    <a:pt x="302" y="614"/>
                  </a:lnTo>
                  <a:lnTo>
                    <a:pt x="270" y="604"/>
                  </a:lnTo>
                  <a:lnTo>
                    <a:pt x="270" y="603"/>
                  </a:lnTo>
                  <a:lnTo>
                    <a:pt x="271" y="599"/>
                  </a:lnTo>
                  <a:lnTo>
                    <a:pt x="271" y="594"/>
                  </a:lnTo>
                  <a:lnTo>
                    <a:pt x="270" y="587"/>
                  </a:lnTo>
                  <a:lnTo>
                    <a:pt x="267" y="583"/>
                  </a:lnTo>
                  <a:lnTo>
                    <a:pt x="265" y="579"/>
                  </a:lnTo>
                  <a:lnTo>
                    <a:pt x="261" y="575"/>
                  </a:lnTo>
                  <a:lnTo>
                    <a:pt x="256" y="571"/>
                  </a:lnTo>
                  <a:lnTo>
                    <a:pt x="249" y="566"/>
                  </a:lnTo>
                  <a:lnTo>
                    <a:pt x="242" y="561"/>
                  </a:lnTo>
                  <a:lnTo>
                    <a:pt x="232" y="556"/>
                  </a:lnTo>
                  <a:lnTo>
                    <a:pt x="221" y="552"/>
                  </a:lnTo>
                  <a:lnTo>
                    <a:pt x="192" y="540"/>
                  </a:lnTo>
                  <a:lnTo>
                    <a:pt x="158" y="527"/>
                  </a:lnTo>
                  <a:lnTo>
                    <a:pt x="139" y="519"/>
                  </a:lnTo>
                  <a:lnTo>
                    <a:pt x="121" y="511"/>
                  </a:lnTo>
                  <a:lnTo>
                    <a:pt x="103" y="501"/>
                  </a:lnTo>
                  <a:lnTo>
                    <a:pt x="84" y="491"/>
                  </a:lnTo>
                  <a:lnTo>
                    <a:pt x="67" y="481"/>
                  </a:lnTo>
                  <a:lnTo>
                    <a:pt x="51" y="469"/>
                  </a:lnTo>
                  <a:lnTo>
                    <a:pt x="36" y="456"/>
                  </a:lnTo>
                  <a:lnTo>
                    <a:pt x="24" y="444"/>
                  </a:lnTo>
                  <a:lnTo>
                    <a:pt x="18" y="437"/>
                  </a:lnTo>
                  <a:lnTo>
                    <a:pt x="14" y="431"/>
                  </a:lnTo>
                  <a:lnTo>
                    <a:pt x="9" y="423"/>
                  </a:lnTo>
                  <a:lnTo>
                    <a:pt x="5" y="416"/>
                  </a:lnTo>
                  <a:lnTo>
                    <a:pt x="3" y="407"/>
                  </a:lnTo>
                  <a:lnTo>
                    <a:pt x="2" y="400"/>
                  </a:lnTo>
                  <a:lnTo>
                    <a:pt x="0" y="391"/>
                  </a:lnTo>
                  <a:lnTo>
                    <a:pt x="0" y="384"/>
                  </a:lnTo>
                  <a:lnTo>
                    <a:pt x="2" y="370"/>
                  </a:lnTo>
                  <a:lnTo>
                    <a:pt x="5" y="357"/>
                  </a:lnTo>
                  <a:lnTo>
                    <a:pt x="12" y="342"/>
                  </a:lnTo>
                  <a:lnTo>
                    <a:pt x="19" y="327"/>
                  </a:lnTo>
                  <a:lnTo>
                    <a:pt x="28" y="313"/>
                  </a:lnTo>
                  <a:lnTo>
                    <a:pt x="39" y="298"/>
                  </a:lnTo>
                  <a:lnTo>
                    <a:pt x="51" y="284"/>
                  </a:lnTo>
                  <a:lnTo>
                    <a:pt x="63" y="272"/>
                  </a:lnTo>
                  <a:lnTo>
                    <a:pt x="77" y="262"/>
                  </a:lnTo>
                  <a:lnTo>
                    <a:pt x="91" y="252"/>
                  </a:lnTo>
                  <a:lnTo>
                    <a:pt x="106" y="242"/>
                  </a:lnTo>
                  <a:lnTo>
                    <a:pt x="122" y="234"/>
                  </a:lnTo>
                  <a:lnTo>
                    <a:pt x="154" y="219"/>
                  </a:lnTo>
                  <a:lnTo>
                    <a:pt x="186" y="206"/>
                  </a:lnTo>
                  <a:lnTo>
                    <a:pt x="216" y="196"/>
                  </a:lnTo>
                  <a:lnTo>
                    <a:pt x="243" y="188"/>
                  </a:lnTo>
                  <a:lnTo>
                    <a:pt x="265" y="185"/>
                  </a:lnTo>
                  <a:lnTo>
                    <a:pt x="281" y="182"/>
                  </a:lnTo>
                  <a:close/>
                </a:path>
              </a:pathLst>
            </a:custGeom>
            <a:solidFill>
              <a:srgbClr val="5d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6481800" y="2124000"/>
              <a:ext cx="216000" cy="192240"/>
            </a:xfrm>
            <a:custGeom>
              <a:avLst/>
              <a:gdLst/>
              <a:ahLst/>
              <a:rect l="l" t="t" r="r" b="b"/>
              <a:pathLst>
                <a:path w="678" h="607">
                  <a:moveTo>
                    <a:pt x="69" y="297"/>
                  </a:moveTo>
                  <a:lnTo>
                    <a:pt x="96" y="276"/>
                  </a:lnTo>
                  <a:lnTo>
                    <a:pt x="127" y="256"/>
                  </a:lnTo>
                  <a:lnTo>
                    <a:pt x="156" y="238"/>
                  </a:lnTo>
                  <a:lnTo>
                    <a:pt x="187" y="222"/>
                  </a:lnTo>
                  <a:lnTo>
                    <a:pt x="215" y="209"/>
                  </a:lnTo>
                  <a:lnTo>
                    <a:pt x="240" y="198"/>
                  </a:lnTo>
                  <a:lnTo>
                    <a:pt x="252" y="195"/>
                  </a:lnTo>
                  <a:lnTo>
                    <a:pt x="262" y="192"/>
                  </a:lnTo>
                  <a:lnTo>
                    <a:pt x="271" y="191"/>
                  </a:lnTo>
                  <a:lnTo>
                    <a:pt x="278" y="191"/>
                  </a:lnTo>
                  <a:lnTo>
                    <a:pt x="285" y="183"/>
                  </a:lnTo>
                  <a:lnTo>
                    <a:pt x="306" y="166"/>
                  </a:lnTo>
                  <a:lnTo>
                    <a:pt x="336" y="140"/>
                  </a:lnTo>
                  <a:lnTo>
                    <a:pt x="368" y="111"/>
                  </a:lnTo>
                  <a:lnTo>
                    <a:pt x="383" y="95"/>
                  </a:lnTo>
                  <a:lnTo>
                    <a:pt x="396" y="78"/>
                  </a:lnTo>
                  <a:lnTo>
                    <a:pt x="408" y="62"/>
                  </a:lnTo>
                  <a:lnTo>
                    <a:pt x="419" y="47"/>
                  </a:lnTo>
                  <a:lnTo>
                    <a:pt x="423" y="40"/>
                  </a:lnTo>
                  <a:lnTo>
                    <a:pt x="426" y="32"/>
                  </a:lnTo>
                  <a:lnTo>
                    <a:pt x="428" y="26"/>
                  </a:lnTo>
                  <a:lnTo>
                    <a:pt x="429" y="20"/>
                  </a:lnTo>
                  <a:lnTo>
                    <a:pt x="429" y="14"/>
                  </a:lnTo>
                  <a:lnTo>
                    <a:pt x="428" y="9"/>
                  </a:lnTo>
                  <a:lnTo>
                    <a:pt x="426" y="4"/>
                  </a:lnTo>
                  <a:lnTo>
                    <a:pt x="422" y="0"/>
                  </a:lnTo>
                  <a:lnTo>
                    <a:pt x="426" y="1"/>
                  </a:lnTo>
                  <a:lnTo>
                    <a:pt x="435" y="5"/>
                  </a:lnTo>
                  <a:lnTo>
                    <a:pt x="449" y="13"/>
                  </a:lnTo>
                  <a:lnTo>
                    <a:pt x="467" y="22"/>
                  </a:lnTo>
                  <a:lnTo>
                    <a:pt x="487" y="35"/>
                  </a:lnTo>
                  <a:lnTo>
                    <a:pt x="508" y="51"/>
                  </a:lnTo>
                  <a:lnTo>
                    <a:pt x="518" y="59"/>
                  </a:lnTo>
                  <a:lnTo>
                    <a:pt x="528" y="70"/>
                  </a:lnTo>
                  <a:lnTo>
                    <a:pt x="538" y="80"/>
                  </a:lnTo>
                  <a:lnTo>
                    <a:pt x="547" y="92"/>
                  </a:lnTo>
                  <a:lnTo>
                    <a:pt x="592" y="155"/>
                  </a:lnTo>
                  <a:lnTo>
                    <a:pt x="627" y="208"/>
                  </a:lnTo>
                  <a:lnTo>
                    <a:pt x="642" y="231"/>
                  </a:lnTo>
                  <a:lnTo>
                    <a:pt x="654" y="254"/>
                  </a:lnTo>
                  <a:lnTo>
                    <a:pt x="664" y="275"/>
                  </a:lnTo>
                  <a:lnTo>
                    <a:pt x="672" y="294"/>
                  </a:lnTo>
                  <a:lnTo>
                    <a:pt x="674" y="304"/>
                  </a:lnTo>
                  <a:lnTo>
                    <a:pt x="677" y="314"/>
                  </a:lnTo>
                  <a:lnTo>
                    <a:pt x="678" y="324"/>
                  </a:lnTo>
                  <a:lnTo>
                    <a:pt x="678" y="332"/>
                  </a:lnTo>
                  <a:lnTo>
                    <a:pt x="678" y="342"/>
                  </a:lnTo>
                  <a:lnTo>
                    <a:pt x="677" y="351"/>
                  </a:lnTo>
                  <a:lnTo>
                    <a:pt x="674" y="361"/>
                  </a:lnTo>
                  <a:lnTo>
                    <a:pt x="672" y="370"/>
                  </a:lnTo>
                  <a:lnTo>
                    <a:pt x="668" y="380"/>
                  </a:lnTo>
                  <a:lnTo>
                    <a:pt x="663" y="390"/>
                  </a:lnTo>
                  <a:lnTo>
                    <a:pt x="658" y="400"/>
                  </a:lnTo>
                  <a:lnTo>
                    <a:pt x="652" y="410"/>
                  </a:lnTo>
                  <a:lnTo>
                    <a:pt x="636" y="431"/>
                  </a:lnTo>
                  <a:lnTo>
                    <a:pt x="618" y="454"/>
                  </a:lnTo>
                  <a:lnTo>
                    <a:pt x="613" y="460"/>
                  </a:lnTo>
                  <a:lnTo>
                    <a:pt x="599" y="479"/>
                  </a:lnTo>
                  <a:lnTo>
                    <a:pt x="588" y="491"/>
                  </a:lnTo>
                  <a:lnTo>
                    <a:pt x="574" y="505"/>
                  </a:lnTo>
                  <a:lnTo>
                    <a:pt x="558" y="519"/>
                  </a:lnTo>
                  <a:lnTo>
                    <a:pt x="541" y="534"/>
                  </a:lnTo>
                  <a:lnTo>
                    <a:pt x="520" y="549"/>
                  </a:lnTo>
                  <a:lnTo>
                    <a:pt x="496" y="562"/>
                  </a:lnTo>
                  <a:lnTo>
                    <a:pt x="483" y="570"/>
                  </a:lnTo>
                  <a:lnTo>
                    <a:pt x="470" y="576"/>
                  </a:lnTo>
                  <a:lnTo>
                    <a:pt x="456" y="581"/>
                  </a:lnTo>
                  <a:lnTo>
                    <a:pt x="442" y="587"/>
                  </a:lnTo>
                  <a:lnTo>
                    <a:pt x="426" y="592"/>
                  </a:lnTo>
                  <a:lnTo>
                    <a:pt x="410" y="596"/>
                  </a:lnTo>
                  <a:lnTo>
                    <a:pt x="392" y="599"/>
                  </a:lnTo>
                  <a:lnTo>
                    <a:pt x="375" y="603"/>
                  </a:lnTo>
                  <a:lnTo>
                    <a:pt x="357" y="604"/>
                  </a:lnTo>
                  <a:lnTo>
                    <a:pt x="337" y="605"/>
                  </a:lnTo>
                  <a:lnTo>
                    <a:pt x="317" y="607"/>
                  </a:lnTo>
                  <a:lnTo>
                    <a:pt x="296" y="605"/>
                  </a:lnTo>
                  <a:lnTo>
                    <a:pt x="278" y="592"/>
                  </a:lnTo>
                  <a:lnTo>
                    <a:pt x="278" y="592"/>
                  </a:lnTo>
                  <a:lnTo>
                    <a:pt x="277" y="589"/>
                  </a:lnTo>
                  <a:lnTo>
                    <a:pt x="274" y="587"/>
                  </a:lnTo>
                  <a:lnTo>
                    <a:pt x="269" y="582"/>
                  </a:lnTo>
                  <a:lnTo>
                    <a:pt x="262" y="576"/>
                  </a:lnTo>
                  <a:lnTo>
                    <a:pt x="251" y="570"/>
                  </a:lnTo>
                  <a:lnTo>
                    <a:pt x="234" y="561"/>
                  </a:lnTo>
                  <a:lnTo>
                    <a:pt x="213" y="551"/>
                  </a:lnTo>
                  <a:lnTo>
                    <a:pt x="184" y="541"/>
                  </a:lnTo>
                  <a:lnTo>
                    <a:pt x="150" y="529"/>
                  </a:lnTo>
                  <a:lnTo>
                    <a:pt x="133" y="522"/>
                  </a:lnTo>
                  <a:lnTo>
                    <a:pt x="114" y="513"/>
                  </a:lnTo>
                  <a:lnTo>
                    <a:pt x="96" y="505"/>
                  </a:lnTo>
                  <a:lnTo>
                    <a:pt x="79" y="496"/>
                  </a:lnTo>
                  <a:lnTo>
                    <a:pt x="61" y="485"/>
                  </a:lnTo>
                  <a:lnTo>
                    <a:pt x="45" y="474"/>
                  </a:lnTo>
                  <a:lnTo>
                    <a:pt x="32" y="463"/>
                  </a:lnTo>
                  <a:lnTo>
                    <a:pt x="20" y="449"/>
                  </a:lnTo>
                  <a:lnTo>
                    <a:pt x="15" y="443"/>
                  </a:lnTo>
                  <a:lnTo>
                    <a:pt x="11" y="436"/>
                  </a:lnTo>
                  <a:lnTo>
                    <a:pt x="7" y="428"/>
                  </a:lnTo>
                  <a:lnTo>
                    <a:pt x="4" y="421"/>
                  </a:lnTo>
                  <a:lnTo>
                    <a:pt x="2" y="413"/>
                  </a:lnTo>
                  <a:lnTo>
                    <a:pt x="1" y="405"/>
                  </a:lnTo>
                  <a:lnTo>
                    <a:pt x="0" y="398"/>
                  </a:lnTo>
                  <a:lnTo>
                    <a:pt x="1" y="389"/>
                  </a:lnTo>
                  <a:lnTo>
                    <a:pt x="4" y="378"/>
                  </a:lnTo>
                  <a:lnTo>
                    <a:pt x="9" y="366"/>
                  </a:lnTo>
                  <a:lnTo>
                    <a:pt x="16" y="354"/>
                  </a:lnTo>
                  <a:lnTo>
                    <a:pt x="23" y="342"/>
                  </a:lnTo>
                  <a:lnTo>
                    <a:pt x="33" y="331"/>
                  </a:lnTo>
                  <a:lnTo>
                    <a:pt x="44" y="319"/>
                  </a:lnTo>
                  <a:lnTo>
                    <a:pt x="55" y="308"/>
                  </a:lnTo>
                  <a:lnTo>
                    <a:pt x="69" y="297"/>
                  </a:lnTo>
                  <a:close/>
                </a:path>
              </a:pathLst>
            </a:custGeom>
            <a:solidFill>
              <a:srgbClr val="5b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6651720" y="2127240"/>
              <a:ext cx="225360" cy="115920"/>
            </a:xfrm>
            <a:custGeom>
              <a:avLst/>
              <a:gdLst/>
              <a:ahLst/>
              <a:rect l="l" t="t" r="r" b="b"/>
              <a:pathLst>
                <a:path w="710" h="361">
                  <a:moveTo>
                    <a:pt x="499" y="361"/>
                  </a:moveTo>
                  <a:lnTo>
                    <a:pt x="501" y="361"/>
                  </a:lnTo>
                  <a:lnTo>
                    <a:pt x="502" y="350"/>
                  </a:lnTo>
                  <a:lnTo>
                    <a:pt x="505" y="329"/>
                  </a:lnTo>
                  <a:lnTo>
                    <a:pt x="510" y="301"/>
                  </a:lnTo>
                  <a:lnTo>
                    <a:pt x="518" y="268"/>
                  </a:lnTo>
                  <a:lnTo>
                    <a:pt x="529" y="230"/>
                  </a:lnTo>
                  <a:lnTo>
                    <a:pt x="536" y="211"/>
                  </a:lnTo>
                  <a:lnTo>
                    <a:pt x="545" y="192"/>
                  </a:lnTo>
                  <a:lnTo>
                    <a:pt x="553" y="172"/>
                  </a:lnTo>
                  <a:lnTo>
                    <a:pt x="565" y="152"/>
                  </a:lnTo>
                  <a:lnTo>
                    <a:pt x="574" y="134"/>
                  </a:lnTo>
                  <a:lnTo>
                    <a:pt x="584" y="117"/>
                  </a:lnTo>
                  <a:lnTo>
                    <a:pt x="593" y="103"/>
                  </a:lnTo>
                  <a:lnTo>
                    <a:pt x="601" y="91"/>
                  </a:lnTo>
                  <a:lnTo>
                    <a:pt x="610" y="80"/>
                  </a:lnTo>
                  <a:lnTo>
                    <a:pt x="619" y="71"/>
                  </a:lnTo>
                  <a:lnTo>
                    <a:pt x="627" y="62"/>
                  </a:lnTo>
                  <a:lnTo>
                    <a:pt x="636" y="56"/>
                  </a:lnTo>
                  <a:lnTo>
                    <a:pt x="652" y="43"/>
                  </a:lnTo>
                  <a:lnTo>
                    <a:pt x="669" y="32"/>
                  </a:lnTo>
                  <a:lnTo>
                    <a:pt x="688" y="18"/>
                  </a:lnTo>
                  <a:lnTo>
                    <a:pt x="708" y="2"/>
                  </a:lnTo>
                  <a:lnTo>
                    <a:pt x="710" y="1"/>
                  </a:lnTo>
                  <a:lnTo>
                    <a:pt x="710" y="1"/>
                  </a:lnTo>
                  <a:lnTo>
                    <a:pt x="708" y="1"/>
                  </a:lnTo>
                  <a:lnTo>
                    <a:pt x="706" y="0"/>
                  </a:lnTo>
                  <a:lnTo>
                    <a:pt x="700" y="1"/>
                  </a:lnTo>
                  <a:lnTo>
                    <a:pt x="689" y="1"/>
                  </a:lnTo>
                  <a:lnTo>
                    <a:pt x="657" y="5"/>
                  </a:lnTo>
                  <a:lnTo>
                    <a:pt x="611" y="10"/>
                  </a:lnTo>
                  <a:lnTo>
                    <a:pt x="553" y="16"/>
                  </a:lnTo>
                  <a:lnTo>
                    <a:pt x="483" y="22"/>
                  </a:lnTo>
                  <a:lnTo>
                    <a:pt x="403" y="27"/>
                  </a:lnTo>
                  <a:lnTo>
                    <a:pt x="315" y="29"/>
                  </a:lnTo>
                  <a:lnTo>
                    <a:pt x="269" y="30"/>
                  </a:lnTo>
                  <a:lnTo>
                    <a:pt x="226" y="28"/>
                  </a:lnTo>
                  <a:lnTo>
                    <a:pt x="186" y="26"/>
                  </a:lnTo>
                  <a:lnTo>
                    <a:pt x="150" y="22"/>
                  </a:lnTo>
                  <a:lnTo>
                    <a:pt x="86" y="13"/>
                  </a:lnTo>
                  <a:lnTo>
                    <a:pt x="39" y="6"/>
                  </a:lnTo>
                  <a:lnTo>
                    <a:pt x="22" y="3"/>
                  </a:lnTo>
                  <a:lnTo>
                    <a:pt x="10" y="3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21"/>
                  </a:lnTo>
                  <a:lnTo>
                    <a:pt x="11" y="27"/>
                  </a:lnTo>
                  <a:lnTo>
                    <a:pt x="26" y="40"/>
                  </a:lnTo>
                  <a:lnTo>
                    <a:pt x="45" y="60"/>
                  </a:lnTo>
                  <a:lnTo>
                    <a:pt x="68" y="81"/>
                  </a:lnTo>
                  <a:lnTo>
                    <a:pt x="88" y="103"/>
                  </a:lnTo>
                  <a:lnTo>
                    <a:pt x="106" y="126"/>
                  </a:lnTo>
                  <a:lnTo>
                    <a:pt x="123" y="150"/>
                  </a:lnTo>
                  <a:lnTo>
                    <a:pt x="136" y="173"/>
                  </a:lnTo>
                  <a:lnTo>
                    <a:pt x="150" y="197"/>
                  </a:lnTo>
                  <a:lnTo>
                    <a:pt x="160" y="220"/>
                  </a:lnTo>
                  <a:lnTo>
                    <a:pt x="170" y="241"/>
                  </a:lnTo>
                  <a:lnTo>
                    <a:pt x="184" y="280"/>
                  </a:lnTo>
                  <a:lnTo>
                    <a:pt x="194" y="311"/>
                  </a:lnTo>
                  <a:lnTo>
                    <a:pt x="199" y="332"/>
                  </a:lnTo>
                  <a:lnTo>
                    <a:pt x="200" y="339"/>
                  </a:lnTo>
                  <a:lnTo>
                    <a:pt x="203" y="336"/>
                  </a:lnTo>
                  <a:lnTo>
                    <a:pt x="210" y="327"/>
                  </a:lnTo>
                  <a:lnTo>
                    <a:pt x="223" y="316"/>
                  </a:lnTo>
                  <a:lnTo>
                    <a:pt x="241" y="302"/>
                  </a:lnTo>
                  <a:lnTo>
                    <a:pt x="251" y="295"/>
                  </a:lnTo>
                  <a:lnTo>
                    <a:pt x="263" y="289"/>
                  </a:lnTo>
                  <a:lnTo>
                    <a:pt x="277" y="283"/>
                  </a:lnTo>
                  <a:lnTo>
                    <a:pt x="291" y="278"/>
                  </a:lnTo>
                  <a:lnTo>
                    <a:pt x="306" y="273"/>
                  </a:lnTo>
                  <a:lnTo>
                    <a:pt x="323" y="270"/>
                  </a:lnTo>
                  <a:lnTo>
                    <a:pt x="342" y="269"/>
                  </a:lnTo>
                  <a:lnTo>
                    <a:pt x="360" y="269"/>
                  </a:lnTo>
                  <a:lnTo>
                    <a:pt x="365" y="268"/>
                  </a:lnTo>
                  <a:lnTo>
                    <a:pt x="378" y="269"/>
                  </a:lnTo>
                  <a:lnTo>
                    <a:pt x="386" y="270"/>
                  </a:lnTo>
                  <a:lnTo>
                    <a:pt x="395" y="272"/>
                  </a:lnTo>
                  <a:lnTo>
                    <a:pt x="406" y="274"/>
                  </a:lnTo>
                  <a:lnTo>
                    <a:pt x="417" y="276"/>
                  </a:lnTo>
                  <a:lnTo>
                    <a:pt x="428" y="281"/>
                  </a:lnTo>
                  <a:lnTo>
                    <a:pt x="440" y="288"/>
                  </a:lnTo>
                  <a:lnTo>
                    <a:pt x="451" y="295"/>
                  </a:lnTo>
                  <a:lnTo>
                    <a:pt x="462" y="304"/>
                  </a:lnTo>
                  <a:lnTo>
                    <a:pt x="474" y="315"/>
                  </a:lnTo>
                  <a:lnTo>
                    <a:pt x="483" y="328"/>
                  </a:lnTo>
                  <a:lnTo>
                    <a:pt x="492" y="343"/>
                  </a:lnTo>
                  <a:lnTo>
                    <a:pt x="499" y="361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6648480" y="2124000"/>
              <a:ext cx="233280" cy="111240"/>
            </a:xfrm>
            <a:custGeom>
              <a:avLst/>
              <a:gdLst/>
              <a:ahLst/>
              <a:rect l="l" t="t" r="r" b="b"/>
              <a:pathLst>
                <a:path w="733" h="351">
                  <a:moveTo>
                    <a:pt x="370" y="249"/>
                  </a:moveTo>
                  <a:lnTo>
                    <a:pt x="352" y="249"/>
                  </a:lnTo>
                  <a:lnTo>
                    <a:pt x="333" y="251"/>
                  </a:lnTo>
                  <a:lnTo>
                    <a:pt x="317" y="254"/>
                  </a:lnTo>
                  <a:lnTo>
                    <a:pt x="301" y="258"/>
                  </a:lnTo>
                  <a:lnTo>
                    <a:pt x="287" y="264"/>
                  </a:lnTo>
                  <a:lnTo>
                    <a:pt x="273" y="270"/>
                  </a:lnTo>
                  <a:lnTo>
                    <a:pt x="261" y="278"/>
                  </a:lnTo>
                  <a:lnTo>
                    <a:pt x="249" y="285"/>
                  </a:lnTo>
                  <a:lnTo>
                    <a:pt x="230" y="300"/>
                  </a:lnTo>
                  <a:lnTo>
                    <a:pt x="217" y="313"/>
                  </a:lnTo>
                  <a:lnTo>
                    <a:pt x="208" y="322"/>
                  </a:lnTo>
                  <a:lnTo>
                    <a:pt x="205" y="326"/>
                  </a:lnTo>
                  <a:lnTo>
                    <a:pt x="203" y="319"/>
                  </a:lnTo>
                  <a:lnTo>
                    <a:pt x="197" y="300"/>
                  </a:lnTo>
                  <a:lnTo>
                    <a:pt x="187" y="272"/>
                  </a:lnTo>
                  <a:lnTo>
                    <a:pt x="171" y="235"/>
                  </a:lnTo>
                  <a:lnTo>
                    <a:pt x="161" y="214"/>
                  </a:lnTo>
                  <a:lnTo>
                    <a:pt x="150" y="193"/>
                  </a:lnTo>
                  <a:lnTo>
                    <a:pt x="137" y="171"/>
                  </a:lnTo>
                  <a:lnTo>
                    <a:pt x="122" y="149"/>
                  </a:lnTo>
                  <a:lnTo>
                    <a:pt x="106" y="125"/>
                  </a:lnTo>
                  <a:lnTo>
                    <a:pt x="87" y="103"/>
                  </a:lnTo>
                  <a:lnTo>
                    <a:pt x="66" y="81"/>
                  </a:lnTo>
                  <a:lnTo>
                    <a:pt x="44" y="60"/>
                  </a:lnTo>
                  <a:lnTo>
                    <a:pt x="25" y="41"/>
                  </a:lnTo>
                  <a:lnTo>
                    <a:pt x="10" y="27"/>
                  </a:lnTo>
                  <a:lnTo>
                    <a:pt x="6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1" y="6"/>
                  </a:lnTo>
                  <a:lnTo>
                    <a:pt x="4" y="3"/>
                  </a:lnTo>
                  <a:lnTo>
                    <a:pt x="7" y="2"/>
                  </a:lnTo>
                  <a:lnTo>
                    <a:pt x="12" y="2"/>
                  </a:lnTo>
                  <a:lnTo>
                    <a:pt x="26" y="2"/>
                  </a:lnTo>
                  <a:lnTo>
                    <a:pt x="44" y="3"/>
                  </a:lnTo>
                  <a:lnTo>
                    <a:pt x="94" y="11"/>
                  </a:lnTo>
                  <a:lnTo>
                    <a:pt x="157" y="18"/>
                  </a:lnTo>
                  <a:lnTo>
                    <a:pt x="196" y="23"/>
                  </a:lnTo>
                  <a:lnTo>
                    <a:pt x="235" y="26"/>
                  </a:lnTo>
                  <a:lnTo>
                    <a:pt x="279" y="27"/>
                  </a:lnTo>
                  <a:lnTo>
                    <a:pt x="325" y="27"/>
                  </a:lnTo>
                  <a:lnTo>
                    <a:pt x="415" y="23"/>
                  </a:lnTo>
                  <a:lnTo>
                    <a:pt x="496" y="18"/>
                  </a:lnTo>
                  <a:lnTo>
                    <a:pt x="567" y="12"/>
                  </a:lnTo>
                  <a:lnTo>
                    <a:pt x="627" y="7"/>
                  </a:lnTo>
                  <a:lnTo>
                    <a:pt x="677" y="2"/>
                  </a:lnTo>
                  <a:lnTo>
                    <a:pt x="710" y="0"/>
                  </a:lnTo>
                  <a:lnTo>
                    <a:pt x="722" y="0"/>
                  </a:lnTo>
                  <a:lnTo>
                    <a:pt x="730" y="0"/>
                  </a:lnTo>
                  <a:lnTo>
                    <a:pt x="732" y="0"/>
                  </a:lnTo>
                  <a:lnTo>
                    <a:pt x="733" y="1"/>
                  </a:lnTo>
                  <a:lnTo>
                    <a:pt x="733" y="1"/>
                  </a:lnTo>
                  <a:lnTo>
                    <a:pt x="732" y="2"/>
                  </a:lnTo>
                  <a:lnTo>
                    <a:pt x="710" y="18"/>
                  </a:lnTo>
                  <a:lnTo>
                    <a:pt x="690" y="32"/>
                  </a:lnTo>
                  <a:lnTo>
                    <a:pt x="671" y="45"/>
                  </a:lnTo>
                  <a:lnTo>
                    <a:pt x="651" y="60"/>
                  </a:lnTo>
                  <a:lnTo>
                    <a:pt x="642" y="69"/>
                  </a:lnTo>
                  <a:lnTo>
                    <a:pt x="632" y="77"/>
                  </a:lnTo>
                  <a:lnTo>
                    <a:pt x="623" y="88"/>
                  </a:lnTo>
                  <a:lnTo>
                    <a:pt x="614" y="99"/>
                  </a:lnTo>
                  <a:lnTo>
                    <a:pt x="604" y="113"/>
                  </a:lnTo>
                  <a:lnTo>
                    <a:pt x="594" y="128"/>
                  </a:lnTo>
                  <a:lnTo>
                    <a:pt x="584" y="144"/>
                  </a:lnTo>
                  <a:lnTo>
                    <a:pt x="575" y="163"/>
                  </a:lnTo>
                  <a:lnTo>
                    <a:pt x="563" y="182"/>
                  </a:lnTo>
                  <a:lnTo>
                    <a:pt x="555" y="201"/>
                  </a:lnTo>
                  <a:lnTo>
                    <a:pt x="546" y="220"/>
                  </a:lnTo>
                  <a:lnTo>
                    <a:pt x="539" y="237"/>
                  </a:lnTo>
                  <a:lnTo>
                    <a:pt x="528" y="272"/>
                  </a:lnTo>
                  <a:lnTo>
                    <a:pt x="520" y="300"/>
                  </a:lnTo>
                  <a:lnTo>
                    <a:pt x="514" y="324"/>
                  </a:lnTo>
                  <a:lnTo>
                    <a:pt x="511" y="342"/>
                  </a:lnTo>
                  <a:lnTo>
                    <a:pt x="509" y="347"/>
                  </a:lnTo>
                  <a:lnTo>
                    <a:pt x="508" y="350"/>
                  </a:lnTo>
                  <a:lnTo>
                    <a:pt x="507" y="351"/>
                  </a:lnTo>
                  <a:lnTo>
                    <a:pt x="507" y="350"/>
                  </a:lnTo>
                  <a:lnTo>
                    <a:pt x="499" y="332"/>
                  </a:lnTo>
                  <a:lnTo>
                    <a:pt x="491" y="316"/>
                  </a:lnTo>
                  <a:lnTo>
                    <a:pt x="482" y="302"/>
                  </a:lnTo>
                  <a:lnTo>
                    <a:pt x="471" y="291"/>
                  </a:lnTo>
                  <a:lnTo>
                    <a:pt x="460" y="281"/>
                  </a:lnTo>
                  <a:lnTo>
                    <a:pt x="449" y="273"/>
                  </a:lnTo>
                  <a:lnTo>
                    <a:pt x="438" y="267"/>
                  </a:lnTo>
                  <a:lnTo>
                    <a:pt x="427" y="262"/>
                  </a:lnTo>
                  <a:lnTo>
                    <a:pt x="416" y="257"/>
                  </a:lnTo>
                  <a:lnTo>
                    <a:pt x="405" y="254"/>
                  </a:lnTo>
                  <a:lnTo>
                    <a:pt x="395" y="252"/>
                  </a:lnTo>
                  <a:lnTo>
                    <a:pt x="388" y="251"/>
                  </a:lnTo>
                  <a:lnTo>
                    <a:pt x="375" y="249"/>
                  </a:lnTo>
                  <a:lnTo>
                    <a:pt x="370" y="249"/>
                  </a:lnTo>
                  <a:close/>
                </a:path>
              </a:pathLst>
            </a:custGeom>
            <a:solidFill>
              <a:srgbClr val="64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6647040" y="2121120"/>
              <a:ext cx="239400" cy="108000"/>
            </a:xfrm>
            <a:custGeom>
              <a:avLst/>
              <a:gdLst/>
              <a:ahLst/>
              <a:rect l="l" t="t" r="r" b="b"/>
              <a:pathLst>
                <a:path w="753" h="341">
                  <a:moveTo>
                    <a:pt x="509" y="339"/>
                  </a:moveTo>
                  <a:lnTo>
                    <a:pt x="510" y="341"/>
                  </a:lnTo>
                  <a:lnTo>
                    <a:pt x="512" y="341"/>
                  </a:lnTo>
                  <a:lnTo>
                    <a:pt x="513" y="339"/>
                  </a:lnTo>
                  <a:lnTo>
                    <a:pt x="514" y="335"/>
                  </a:lnTo>
                  <a:lnTo>
                    <a:pt x="519" y="321"/>
                  </a:lnTo>
                  <a:lnTo>
                    <a:pt x="525" y="302"/>
                  </a:lnTo>
                  <a:lnTo>
                    <a:pt x="534" y="277"/>
                  </a:lnTo>
                  <a:lnTo>
                    <a:pt x="545" y="248"/>
                  </a:lnTo>
                  <a:lnTo>
                    <a:pt x="552" y="230"/>
                  </a:lnTo>
                  <a:lnTo>
                    <a:pt x="561" y="213"/>
                  </a:lnTo>
                  <a:lnTo>
                    <a:pt x="569" y="195"/>
                  </a:lnTo>
                  <a:lnTo>
                    <a:pt x="581" y="176"/>
                  </a:lnTo>
                  <a:lnTo>
                    <a:pt x="590" y="157"/>
                  </a:lnTo>
                  <a:lnTo>
                    <a:pt x="601" y="139"/>
                  </a:lnTo>
                  <a:lnTo>
                    <a:pt x="611" y="125"/>
                  </a:lnTo>
                  <a:lnTo>
                    <a:pt x="621" y="111"/>
                  </a:lnTo>
                  <a:lnTo>
                    <a:pt x="632" y="99"/>
                  </a:lnTo>
                  <a:lnTo>
                    <a:pt x="642" y="88"/>
                  </a:lnTo>
                  <a:lnTo>
                    <a:pt x="653" y="77"/>
                  </a:lnTo>
                  <a:lnTo>
                    <a:pt x="664" y="68"/>
                  </a:lnTo>
                  <a:lnTo>
                    <a:pt x="685" y="51"/>
                  </a:lnTo>
                  <a:lnTo>
                    <a:pt x="707" y="36"/>
                  </a:lnTo>
                  <a:lnTo>
                    <a:pt x="729" y="21"/>
                  </a:lnTo>
                  <a:lnTo>
                    <a:pt x="752" y="4"/>
                  </a:lnTo>
                  <a:lnTo>
                    <a:pt x="753" y="4"/>
                  </a:lnTo>
                  <a:lnTo>
                    <a:pt x="753" y="3"/>
                  </a:lnTo>
                  <a:lnTo>
                    <a:pt x="750" y="2"/>
                  </a:lnTo>
                  <a:lnTo>
                    <a:pt x="748" y="2"/>
                  </a:lnTo>
                  <a:lnTo>
                    <a:pt x="740" y="0"/>
                  </a:lnTo>
                  <a:lnTo>
                    <a:pt x="728" y="2"/>
                  </a:lnTo>
                  <a:lnTo>
                    <a:pt x="691" y="3"/>
                  </a:lnTo>
                  <a:lnTo>
                    <a:pt x="641" y="7"/>
                  </a:lnTo>
                  <a:lnTo>
                    <a:pt x="578" y="11"/>
                  </a:lnTo>
                  <a:lnTo>
                    <a:pt x="504" y="16"/>
                  </a:lnTo>
                  <a:lnTo>
                    <a:pt x="421" y="21"/>
                  </a:lnTo>
                  <a:lnTo>
                    <a:pt x="331" y="24"/>
                  </a:lnTo>
                  <a:lnTo>
                    <a:pt x="284" y="24"/>
                  </a:lnTo>
                  <a:lnTo>
                    <a:pt x="241" y="23"/>
                  </a:lnTo>
                  <a:lnTo>
                    <a:pt x="200" y="20"/>
                  </a:lnTo>
                  <a:lnTo>
                    <a:pt x="162" y="18"/>
                  </a:lnTo>
                  <a:lnTo>
                    <a:pt x="97" y="9"/>
                  </a:lnTo>
                  <a:lnTo>
                    <a:pt x="45" y="3"/>
                  </a:lnTo>
                  <a:lnTo>
                    <a:pt x="27" y="2"/>
                  </a:lnTo>
                  <a:lnTo>
                    <a:pt x="12" y="2"/>
                  </a:lnTo>
                  <a:lnTo>
                    <a:pt x="7" y="3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4" y="21"/>
                  </a:lnTo>
                  <a:lnTo>
                    <a:pt x="8" y="27"/>
                  </a:lnTo>
                  <a:lnTo>
                    <a:pt x="22" y="42"/>
                  </a:lnTo>
                  <a:lnTo>
                    <a:pt x="43" y="62"/>
                  </a:lnTo>
                  <a:lnTo>
                    <a:pt x="65" y="83"/>
                  </a:lnTo>
                  <a:lnTo>
                    <a:pt x="86" y="105"/>
                  </a:lnTo>
                  <a:lnTo>
                    <a:pt x="104" y="127"/>
                  </a:lnTo>
                  <a:lnTo>
                    <a:pt x="122" y="149"/>
                  </a:lnTo>
                  <a:lnTo>
                    <a:pt x="136" y="170"/>
                  </a:lnTo>
                  <a:lnTo>
                    <a:pt x="150" y="191"/>
                  </a:lnTo>
                  <a:lnTo>
                    <a:pt x="162" y="212"/>
                  </a:lnTo>
                  <a:lnTo>
                    <a:pt x="172" y="232"/>
                  </a:lnTo>
                  <a:lnTo>
                    <a:pt x="188" y="266"/>
                  </a:lnTo>
                  <a:lnTo>
                    <a:pt x="200" y="293"/>
                  </a:lnTo>
                  <a:lnTo>
                    <a:pt x="207" y="310"/>
                  </a:lnTo>
                  <a:lnTo>
                    <a:pt x="208" y="316"/>
                  </a:lnTo>
                  <a:lnTo>
                    <a:pt x="211" y="313"/>
                  </a:lnTo>
                  <a:lnTo>
                    <a:pt x="220" y="303"/>
                  </a:lnTo>
                  <a:lnTo>
                    <a:pt x="235" y="288"/>
                  </a:lnTo>
                  <a:lnTo>
                    <a:pt x="255" y="271"/>
                  </a:lnTo>
                  <a:lnTo>
                    <a:pt x="266" y="264"/>
                  </a:lnTo>
                  <a:lnTo>
                    <a:pt x="279" y="255"/>
                  </a:lnTo>
                  <a:lnTo>
                    <a:pt x="293" y="248"/>
                  </a:lnTo>
                  <a:lnTo>
                    <a:pt x="307" y="241"/>
                  </a:lnTo>
                  <a:lnTo>
                    <a:pt x="325" y="237"/>
                  </a:lnTo>
                  <a:lnTo>
                    <a:pt x="342" y="233"/>
                  </a:lnTo>
                  <a:lnTo>
                    <a:pt x="360" y="230"/>
                  </a:lnTo>
                  <a:lnTo>
                    <a:pt x="379" y="230"/>
                  </a:lnTo>
                  <a:lnTo>
                    <a:pt x="384" y="230"/>
                  </a:lnTo>
                  <a:lnTo>
                    <a:pt x="395" y="233"/>
                  </a:lnTo>
                  <a:lnTo>
                    <a:pt x="412" y="238"/>
                  </a:lnTo>
                  <a:lnTo>
                    <a:pt x="433" y="246"/>
                  </a:lnTo>
                  <a:lnTo>
                    <a:pt x="443" y="253"/>
                  </a:lnTo>
                  <a:lnTo>
                    <a:pt x="454" y="260"/>
                  </a:lnTo>
                  <a:lnTo>
                    <a:pt x="465" y="269"/>
                  </a:lnTo>
                  <a:lnTo>
                    <a:pt x="476" y="280"/>
                  </a:lnTo>
                  <a:lnTo>
                    <a:pt x="486" y="292"/>
                  </a:lnTo>
                  <a:lnTo>
                    <a:pt x="494" y="305"/>
                  </a:lnTo>
                  <a:lnTo>
                    <a:pt x="503" y="321"/>
                  </a:lnTo>
                  <a:lnTo>
                    <a:pt x="509" y="339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6761160" y="2390760"/>
              <a:ext cx="104760" cy="61920"/>
            </a:xfrm>
            <a:custGeom>
              <a:avLst/>
              <a:gdLst/>
              <a:ahLst/>
              <a:rect l="l" t="t" r="r" b="b"/>
              <a:pathLst>
                <a:path w="327" h="194">
                  <a:moveTo>
                    <a:pt x="185" y="22"/>
                  </a:moveTo>
                  <a:lnTo>
                    <a:pt x="189" y="20"/>
                  </a:lnTo>
                  <a:lnTo>
                    <a:pt x="200" y="15"/>
                  </a:lnTo>
                  <a:lnTo>
                    <a:pt x="215" y="7"/>
                  </a:lnTo>
                  <a:lnTo>
                    <a:pt x="235" y="2"/>
                  </a:lnTo>
                  <a:lnTo>
                    <a:pt x="244" y="0"/>
                  </a:lnTo>
                  <a:lnTo>
                    <a:pt x="255" y="0"/>
                  </a:lnTo>
                  <a:lnTo>
                    <a:pt x="265" y="0"/>
                  </a:lnTo>
                  <a:lnTo>
                    <a:pt x="276" y="4"/>
                  </a:lnTo>
                  <a:lnTo>
                    <a:pt x="286" y="7"/>
                  </a:lnTo>
                  <a:lnTo>
                    <a:pt x="296" y="15"/>
                  </a:lnTo>
                  <a:lnTo>
                    <a:pt x="306" y="23"/>
                  </a:lnTo>
                  <a:lnTo>
                    <a:pt x="313" y="36"/>
                  </a:lnTo>
                  <a:lnTo>
                    <a:pt x="319" y="49"/>
                  </a:lnTo>
                  <a:lnTo>
                    <a:pt x="323" y="61"/>
                  </a:lnTo>
                  <a:lnTo>
                    <a:pt x="326" y="74"/>
                  </a:lnTo>
                  <a:lnTo>
                    <a:pt x="327" y="85"/>
                  </a:lnTo>
                  <a:lnTo>
                    <a:pt x="326" y="95"/>
                  </a:lnTo>
                  <a:lnTo>
                    <a:pt x="323" y="105"/>
                  </a:lnTo>
                  <a:lnTo>
                    <a:pt x="318" y="113"/>
                  </a:lnTo>
                  <a:lnTo>
                    <a:pt x="313" y="121"/>
                  </a:lnTo>
                  <a:lnTo>
                    <a:pt x="307" y="128"/>
                  </a:lnTo>
                  <a:lnTo>
                    <a:pt x="299" y="135"/>
                  </a:lnTo>
                  <a:lnTo>
                    <a:pt x="290" y="141"/>
                  </a:lnTo>
                  <a:lnTo>
                    <a:pt x="281" y="146"/>
                  </a:lnTo>
                  <a:lnTo>
                    <a:pt x="271" y="151"/>
                  </a:lnTo>
                  <a:lnTo>
                    <a:pt x="260" y="155"/>
                  </a:lnTo>
                  <a:lnTo>
                    <a:pt x="249" y="159"/>
                  </a:lnTo>
                  <a:lnTo>
                    <a:pt x="237" y="161"/>
                  </a:lnTo>
                  <a:lnTo>
                    <a:pt x="215" y="167"/>
                  </a:lnTo>
                  <a:lnTo>
                    <a:pt x="196" y="172"/>
                  </a:lnTo>
                  <a:lnTo>
                    <a:pt x="182" y="178"/>
                  </a:lnTo>
                  <a:lnTo>
                    <a:pt x="168" y="184"/>
                  </a:lnTo>
                  <a:lnTo>
                    <a:pt x="155" y="189"/>
                  </a:lnTo>
                  <a:lnTo>
                    <a:pt x="142" y="193"/>
                  </a:lnTo>
                  <a:lnTo>
                    <a:pt x="129" y="194"/>
                  </a:lnTo>
                  <a:lnTo>
                    <a:pt x="113" y="194"/>
                  </a:lnTo>
                  <a:lnTo>
                    <a:pt x="94" y="192"/>
                  </a:lnTo>
                  <a:lnTo>
                    <a:pt x="76" y="188"/>
                  </a:lnTo>
                  <a:lnTo>
                    <a:pt x="59" y="184"/>
                  </a:lnTo>
                  <a:lnTo>
                    <a:pt x="41" y="178"/>
                  </a:lnTo>
                  <a:lnTo>
                    <a:pt x="34" y="175"/>
                  </a:lnTo>
                  <a:lnTo>
                    <a:pt x="27" y="171"/>
                  </a:lnTo>
                  <a:lnTo>
                    <a:pt x="20" y="166"/>
                  </a:lnTo>
                  <a:lnTo>
                    <a:pt x="14" y="160"/>
                  </a:lnTo>
                  <a:lnTo>
                    <a:pt x="9" y="154"/>
                  </a:lnTo>
                  <a:lnTo>
                    <a:pt x="6" y="146"/>
                  </a:lnTo>
                  <a:lnTo>
                    <a:pt x="3" y="138"/>
                  </a:lnTo>
                  <a:lnTo>
                    <a:pt x="1" y="129"/>
                  </a:lnTo>
                  <a:lnTo>
                    <a:pt x="0" y="108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2" y="69"/>
                  </a:lnTo>
                  <a:lnTo>
                    <a:pt x="4" y="59"/>
                  </a:lnTo>
                  <a:lnTo>
                    <a:pt x="7" y="50"/>
                  </a:lnTo>
                  <a:lnTo>
                    <a:pt x="11" y="43"/>
                  </a:lnTo>
                  <a:lnTo>
                    <a:pt x="16" y="34"/>
                  </a:lnTo>
                  <a:lnTo>
                    <a:pt x="22" y="28"/>
                  </a:lnTo>
                  <a:lnTo>
                    <a:pt x="28" y="21"/>
                  </a:lnTo>
                  <a:lnTo>
                    <a:pt x="35" y="16"/>
                  </a:lnTo>
                  <a:lnTo>
                    <a:pt x="45" y="11"/>
                  </a:lnTo>
                  <a:lnTo>
                    <a:pt x="55" y="6"/>
                  </a:lnTo>
                  <a:lnTo>
                    <a:pt x="66" y="4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1"/>
                  </a:lnTo>
                  <a:lnTo>
                    <a:pt x="121" y="4"/>
                  </a:lnTo>
                  <a:lnTo>
                    <a:pt x="135" y="9"/>
                  </a:lnTo>
                  <a:lnTo>
                    <a:pt x="147" y="14"/>
                  </a:lnTo>
                  <a:lnTo>
                    <a:pt x="159" y="17"/>
                  </a:lnTo>
                  <a:lnTo>
                    <a:pt x="172" y="21"/>
                  </a:lnTo>
                  <a:lnTo>
                    <a:pt x="185" y="2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6643800" y="2216160"/>
              <a:ext cx="71280" cy="103320"/>
            </a:xfrm>
            <a:custGeom>
              <a:avLst/>
              <a:gdLst/>
              <a:ahLst/>
              <a:rect l="l" t="t" r="r" b="b"/>
              <a:pathLst>
                <a:path w="228" h="325">
                  <a:moveTo>
                    <a:pt x="0" y="288"/>
                  </a:moveTo>
                  <a:lnTo>
                    <a:pt x="6" y="286"/>
                  </a:lnTo>
                  <a:lnTo>
                    <a:pt x="20" y="278"/>
                  </a:lnTo>
                  <a:lnTo>
                    <a:pt x="41" y="270"/>
                  </a:lnTo>
                  <a:lnTo>
                    <a:pt x="65" y="264"/>
                  </a:lnTo>
                  <a:lnTo>
                    <a:pt x="77" y="261"/>
                  </a:lnTo>
                  <a:lnTo>
                    <a:pt x="88" y="261"/>
                  </a:lnTo>
                  <a:lnTo>
                    <a:pt x="98" y="262"/>
                  </a:lnTo>
                  <a:lnTo>
                    <a:pt x="107" y="266"/>
                  </a:lnTo>
                  <a:lnTo>
                    <a:pt x="110" y="269"/>
                  </a:lnTo>
                  <a:lnTo>
                    <a:pt x="114" y="271"/>
                  </a:lnTo>
                  <a:lnTo>
                    <a:pt x="116" y="276"/>
                  </a:lnTo>
                  <a:lnTo>
                    <a:pt x="119" y="281"/>
                  </a:lnTo>
                  <a:lnTo>
                    <a:pt x="120" y="286"/>
                  </a:lnTo>
                  <a:lnTo>
                    <a:pt x="120" y="292"/>
                  </a:lnTo>
                  <a:lnTo>
                    <a:pt x="120" y="299"/>
                  </a:lnTo>
                  <a:lnTo>
                    <a:pt x="120" y="308"/>
                  </a:lnTo>
                  <a:lnTo>
                    <a:pt x="119" y="315"/>
                  </a:lnTo>
                  <a:lnTo>
                    <a:pt x="119" y="320"/>
                  </a:lnTo>
                  <a:lnTo>
                    <a:pt x="119" y="324"/>
                  </a:lnTo>
                  <a:lnTo>
                    <a:pt x="120" y="325"/>
                  </a:lnTo>
                  <a:lnTo>
                    <a:pt x="123" y="325"/>
                  </a:lnTo>
                  <a:lnTo>
                    <a:pt x="125" y="323"/>
                  </a:lnTo>
                  <a:lnTo>
                    <a:pt x="129" y="319"/>
                  </a:lnTo>
                  <a:lnTo>
                    <a:pt x="131" y="314"/>
                  </a:lnTo>
                  <a:lnTo>
                    <a:pt x="140" y="301"/>
                  </a:lnTo>
                  <a:lnTo>
                    <a:pt x="150" y="282"/>
                  </a:lnTo>
                  <a:lnTo>
                    <a:pt x="159" y="260"/>
                  </a:lnTo>
                  <a:lnTo>
                    <a:pt x="171" y="237"/>
                  </a:lnTo>
                  <a:lnTo>
                    <a:pt x="193" y="185"/>
                  </a:lnTo>
                  <a:lnTo>
                    <a:pt x="211" y="135"/>
                  </a:lnTo>
                  <a:lnTo>
                    <a:pt x="219" y="114"/>
                  </a:lnTo>
                  <a:lnTo>
                    <a:pt x="225" y="95"/>
                  </a:lnTo>
                  <a:lnTo>
                    <a:pt x="228" y="80"/>
                  </a:lnTo>
                  <a:lnTo>
                    <a:pt x="228" y="72"/>
                  </a:lnTo>
                  <a:lnTo>
                    <a:pt x="226" y="60"/>
                  </a:lnTo>
                  <a:lnTo>
                    <a:pt x="225" y="46"/>
                  </a:lnTo>
                  <a:lnTo>
                    <a:pt x="223" y="35"/>
                  </a:lnTo>
                  <a:lnTo>
                    <a:pt x="221" y="24"/>
                  </a:lnTo>
                  <a:lnTo>
                    <a:pt x="219" y="14"/>
                  </a:lnTo>
                  <a:lnTo>
                    <a:pt x="215" y="7"/>
                  </a:lnTo>
                  <a:lnTo>
                    <a:pt x="212" y="4"/>
                  </a:lnTo>
                  <a:lnTo>
                    <a:pt x="210" y="3"/>
                  </a:lnTo>
                  <a:lnTo>
                    <a:pt x="207" y="2"/>
                  </a:lnTo>
                  <a:lnTo>
                    <a:pt x="204" y="0"/>
                  </a:lnTo>
                  <a:lnTo>
                    <a:pt x="199" y="4"/>
                  </a:lnTo>
                  <a:lnTo>
                    <a:pt x="190" y="13"/>
                  </a:lnTo>
                  <a:lnTo>
                    <a:pt x="178" y="28"/>
                  </a:lnTo>
                  <a:lnTo>
                    <a:pt x="164" y="46"/>
                  </a:lnTo>
                  <a:lnTo>
                    <a:pt x="131" y="92"/>
                  </a:lnTo>
                  <a:lnTo>
                    <a:pt x="94" y="144"/>
                  </a:lnTo>
                  <a:lnTo>
                    <a:pt x="60" y="197"/>
                  </a:lnTo>
                  <a:lnTo>
                    <a:pt x="29" y="244"/>
                  </a:lnTo>
                  <a:lnTo>
                    <a:pt x="8" y="276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6556320" y="2230560"/>
              <a:ext cx="312840" cy="461880"/>
            </a:xfrm>
            <a:custGeom>
              <a:avLst/>
              <a:gdLst/>
              <a:ahLst/>
              <a:rect l="l" t="t" r="r" b="b"/>
              <a:pathLst>
                <a:path w="985" h="1454">
                  <a:moveTo>
                    <a:pt x="243" y="542"/>
                  </a:moveTo>
                  <a:lnTo>
                    <a:pt x="255" y="526"/>
                  </a:lnTo>
                  <a:lnTo>
                    <a:pt x="267" y="505"/>
                  </a:lnTo>
                  <a:lnTo>
                    <a:pt x="282" y="480"/>
                  </a:lnTo>
                  <a:lnTo>
                    <a:pt x="298" y="452"/>
                  </a:lnTo>
                  <a:lnTo>
                    <a:pt x="332" y="385"/>
                  </a:lnTo>
                  <a:lnTo>
                    <a:pt x="369" y="313"/>
                  </a:lnTo>
                  <a:lnTo>
                    <a:pt x="406" y="235"/>
                  </a:lnTo>
                  <a:lnTo>
                    <a:pt x="442" y="158"/>
                  </a:lnTo>
                  <a:lnTo>
                    <a:pt x="474" y="87"/>
                  </a:lnTo>
                  <a:lnTo>
                    <a:pt x="499" y="24"/>
                  </a:lnTo>
                  <a:lnTo>
                    <a:pt x="503" y="18"/>
                  </a:lnTo>
                  <a:lnTo>
                    <a:pt x="508" y="13"/>
                  </a:lnTo>
                  <a:lnTo>
                    <a:pt x="513" y="8"/>
                  </a:lnTo>
                  <a:lnTo>
                    <a:pt x="520" y="4"/>
                  </a:lnTo>
                  <a:lnTo>
                    <a:pt x="529" y="2"/>
                  </a:lnTo>
                  <a:lnTo>
                    <a:pt x="538" y="0"/>
                  </a:lnTo>
                  <a:lnTo>
                    <a:pt x="546" y="2"/>
                  </a:lnTo>
                  <a:lnTo>
                    <a:pt x="555" y="3"/>
                  </a:lnTo>
                  <a:lnTo>
                    <a:pt x="565" y="7"/>
                  </a:lnTo>
                  <a:lnTo>
                    <a:pt x="573" y="13"/>
                  </a:lnTo>
                  <a:lnTo>
                    <a:pt x="582" y="20"/>
                  </a:lnTo>
                  <a:lnTo>
                    <a:pt x="589" y="30"/>
                  </a:lnTo>
                  <a:lnTo>
                    <a:pt x="597" y="42"/>
                  </a:lnTo>
                  <a:lnTo>
                    <a:pt x="603" y="58"/>
                  </a:lnTo>
                  <a:lnTo>
                    <a:pt x="608" y="75"/>
                  </a:lnTo>
                  <a:lnTo>
                    <a:pt x="610" y="96"/>
                  </a:lnTo>
                  <a:lnTo>
                    <a:pt x="616" y="148"/>
                  </a:lnTo>
                  <a:lnTo>
                    <a:pt x="625" y="208"/>
                  </a:lnTo>
                  <a:lnTo>
                    <a:pt x="633" y="275"/>
                  </a:lnTo>
                  <a:lnTo>
                    <a:pt x="642" y="341"/>
                  </a:lnTo>
                  <a:lnTo>
                    <a:pt x="649" y="403"/>
                  </a:lnTo>
                  <a:lnTo>
                    <a:pt x="656" y="452"/>
                  </a:lnTo>
                  <a:lnTo>
                    <a:pt x="661" y="486"/>
                  </a:lnTo>
                  <a:lnTo>
                    <a:pt x="662" y="499"/>
                  </a:lnTo>
                  <a:lnTo>
                    <a:pt x="663" y="505"/>
                  </a:lnTo>
                  <a:lnTo>
                    <a:pt x="663" y="511"/>
                  </a:lnTo>
                  <a:lnTo>
                    <a:pt x="662" y="516"/>
                  </a:lnTo>
                  <a:lnTo>
                    <a:pt x="659" y="521"/>
                  </a:lnTo>
                  <a:lnTo>
                    <a:pt x="656" y="526"/>
                  </a:lnTo>
                  <a:lnTo>
                    <a:pt x="651" y="529"/>
                  </a:lnTo>
                  <a:lnTo>
                    <a:pt x="646" y="533"/>
                  </a:lnTo>
                  <a:lnTo>
                    <a:pt x="640" y="536"/>
                  </a:lnTo>
                  <a:lnTo>
                    <a:pt x="632" y="537"/>
                  </a:lnTo>
                  <a:lnTo>
                    <a:pt x="625" y="538"/>
                  </a:lnTo>
                  <a:lnTo>
                    <a:pt x="615" y="538"/>
                  </a:lnTo>
                  <a:lnTo>
                    <a:pt x="606" y="538"/>
                  </a:lnTo>
                  <a:lnTo>
                    <a:pt x="597" y="536"/>
                  </a:lnTo>
                  <a:lnTo>
                    <a:pt x="586" y="533"/>
                  </a:lnTo>
                  <a:lnTo>
                    <a:pt x="573" y="528"/>
                  </a:lnTo>
                  <a:lnTo>
                    <a:pt x="562" y="523"/>
                  </a:lnTo>
                  <a:lnTo>
                    <a:pt x="550" y="518"/>
                  </a:lnTo>
                  <a:lnTo>
                    <a:pt x="538" y="515"/>
                  </a:lnTo>
                  <a:lnTo>
                    <a:pt x="525" y="512"/>
                  </a:lnTo>
                  <a:lnTo>
                    <a:pt x="514" y="512"/>
                  </a:lnTo>
                  <a:lnTo>
                    <a:pt x="504" y="513"/>
                  </a:lnTo>
                  <a:lnTo>
                    <a:pt x="494" y="515"/>
                  </a:lnTo>
                  <a:lnTo>
                    <a:pt x="485" y="518"/>
                  </a:lnTo>
                  <a:lnTo>
                    <a:pt x="476" y="523"/>
                  </a:lnTo>
                  <a:lnTo>
                    <a:pt x="467" y="529"/>
                  </a:lnTo>
                  <a:lnTo>
                    <a:pt x="459" y="536"/>
                  </a:lnTo>
                  <a:lnTo>
                    <a:pt x="453" y="543"/>
                  </a:lnTo>
                  <a:lnTo>
                    <a:pt x="445" y="550"/>
                  </a:lnTo>
                  <a:lnTo>
                    <a:pt x="440" y="559"/>
                  </a:lnTo>
                  <a:lnTo>
                    <a:pt x="434" y="569"/>
                  </a:lnTo>
                  <a:lnTo>
                    <a:pt x="429" y="579"/>
                  </a:lnTo>
                  <a:lnTo>
                    <a:pt x="426" y="588"/>
                  </a:lnTo>
                  <a:lnTo>
                    <a:pt x="422" y="598"/>
                  </a:lnTo>
                  <a:lnTo>
                    <a:pt x="419" y="607"/>
                  </a:lnTo>
                  <a:lnTo>
                    <a:pt x="418" y="617"/>
                  </a:lnTo>
                  <a:lnTo>
                    <a:pt x="418" y="625"/>
                  </a:lnTo>
                  <a:lnTo>
                    <a:pt x="418" y="633"/>
                  </a:lnTo>
                  <a:lnTo>
                    <a:pt x="421" y="641"/>
                  </a:lnTo>
                  <a:lnTo>
                    <a:pt x="422" y="647"/>
                  </a:lnTo>
                  <a:lnTo>
                    <a:pt x="426" y="654"/>
                  </a:lnTo>
                  <a:lnTo>
                    <a:pt x="429" y="660"/>
                  </a:lnTo>
                  <a:lnTo>
                    <a:pt x="433" y="663"/>
                  </a:lnTo>
                  <a:lnTo>
                    <a:pt x="438" y="667"/>
                  </a:lnTo>
                  <a:lnTo>
                    <a:pt x="444" y="670"/>
                  </a:lnTo>
                  <a:lnTo>
                    <a:pt x="449" y="670"/>
                  </a:lnTo>
                  <a:lnTo>
                    <a:pt x="456" y="670"/>
                  </a:lnTo>
                  <a:lnTo>
                    <a:pt x="462" y="668"/>
                  </a:lnTo>
                  <a:lnTo>
                    <a:pt x="470" y="665"/>
                  </a:lnTo>
                  <a:lnTo>
                    <a:pt x="480" y="657"/>
                  </a:lnTo>
                  <a:lnTo>
                    <a:pt x="491" y="650"/>
                  </a:lnTo>
                  <a:lnTo>
                    <a:pt x="503" y="644"/>
                  </a:lnTo>
                  <a:lnTo>
                    <a:pt x="515" y="640"/>
                  </a:lnTo>
                  <a:lnTo>
                    <a:pt x="523" y="638"/>
                  </a:lnTo>
                  <a:lnTo>
                    <a:pt x="531" y="636"/>
                  </a:lnTo>
                  <a:lnTo>
                    <a:pt x="539" y="636"/>
                  </a:lnTo>
                  <a:lnTo>
                    <a:pt x="547" y="636"/>
                  </a:lnTo>
                  <a:lnTo>
                    <a:pt x="557" y="638"/>
                  </a:lnTo>
                  <a:lnTo>
                    <a:pt x="567" y="639"/>
                  </a:lnTo>
                  <a:lnTo>
                    <a:pt x="578" y="641"/>
                  </a:lnTo>
                  <a:lnTo>
                    <a:pt x="589" y="645"/>
                  </a:lnTo>
                  <a:lnTo>
                    <a:pt x="604" y="650"/>
                  </a:lnTo>
                  <a:lnTo>
                    <a:pt x="624" y="654"/>
                  </a:lnTo>
                  <a:lnTo>
                    <a:pt x="645" y="656"/>
                  </a:lnTo>
                  <a:lnTo>
                    <a:pt x="667" y="660"/>
                  </a:lnTo>
                  <a:lnTo>
                    <a:pt x="716" y="666"/>
                  </a:lnTo>
                  <a:lnTo>
                    <a:pt x="765" y="672"/>
                  </a:lnTo>
                  <a:lnTo>
                    <a:pt x="809" y="677"/>
                  </a:lnTo>
                  <a:lnTo>
                    <a:pt x="845" y="683"/>
                  </a:lnTo>
                  <a:lnTo>
                    <a:pt x="857" y="686"/>
                  </a:lnTo>
                  <a:lnTo>
                    <a:pt x="865" y="688"/>
                  </a:lnTo>
                  <a:lnTo>
                    <a:pt x="867" y="689"/>
                  </a:lnTo>
                  <a:lnTo>
                    <a:pt x="868" y="692"/>
                  </a:lnTo>
                  <a:lnTo>
                    <a:pt x="868" y="693"/>
                  </a:lnTo>
                  <a:lnTo>
                    <a:pt x="866" y="694"/>
                  </a:lnTo>
                  <a:lnTo>
                    <a:pt x="856" y="702"/>
                  </a:lnTo>
                  <a:lnTo>
                    <a:pt x="848" y="709"/>
                  </a:lnTo>
                  <a:lnTo>
                    <a:pt x="839" y="718"/>
                  </a:lnTo>
                  <a:lnTo>
                    <a:pt x="833" y="725"/>
                  </a:lnTo>
                  <a:lnTo>
                    <a:pt x="825" y="734"/>
                  </a:lnTo>
                  <a:lnTo>
                    <a:pt x="820" y="742"/>
                  </a:lnTo>
                  <a:lnTo>
                    <a:pt x="816" y="752"/>
                  </a:lnTo>
                  <a:lnTo>
                    <a:pt x="811" y="761"/>
                  </a:lnTo>
                  <a:lnTo>
                    <a:pt x="804" y="779"/>
                  </a:lnTo>
                  <a:lnTo>
                    <a:pt x="801" y="798"/>
                  </a:lnTo>
                  <a:lnTo>
                    <a:pt x="798" y="816"/>
                  </a:lnTo>
                  <a:lnTo>
                    <a:pt x="797" y="834"/>
                  </a:lnTo>
                  <a:lnTo>
                    <a:pt x="798" y="852"/>
                  </a:lnTo>
                  <a:lnTo>
                    <a:pt x="801" y="869"/>
                  </a:lnTo>
                  <a:lnTo>
                    <a:pt x="803" y="885"/>
                  </a:lnTo>
                  <a:lnTo>
                    <a:pt x="807" y="900"/>
                  </a:lnTo>
                  <a:lnTo>
                    <a:pt x="816" y="924"/>
                  </a:lnTo>
                  <a:lnTo>
                    <a:pt x="823" y="941"/>
                  </a:lnTo>
                  <a:lnTo>
                    <a:pt x="829" y="962"/>
                  </a:lnTo>
                  <a:lnTo>
                    <a:pt x="841" y="998"/>
                  </a:lnTo>
                  <a:lnTo>
                    <a:pt x="856" y="1042"/>
                  </a:lnTo>
                  <a:lnTo>
                    <a:pt x="876" y="1090"/>
                  </a:lnTo>
                  <a:lnTo>
                    <a:pt x="886" y="1114"/>
                  </a:lnTo>
                  <a:lnTo>
                    <a:pt x="896" y="1136"/>
                  </a:lnTo>
                  <a:lnTo>
                    <a:pt x="907" y="1157"/>
                  </a:lnTo>
                  <a:lnTo>
                    <a:pt x="916" y="1174"/>
                  </a:lnTo>
                  <a:lnTo>
                    <a:pt x="923" y="1181"/>
                  </a:lnTo>
                  <a:lnTo>
                    <a:pt x="928" y="1189"/>
                  </a:lnTo>
                  <a:lnTo>
                    <a:pt x="932" y="1195"/>
                  </a:lnTo>
                  <a:lnTo>
                    <a:pt x="939" y="1198"/>
                  </a:lnTo>
                  <a:lnTo>
                    <a:pt x="944" y="1202"/>
                  </a:lnTo>
                  <a:lnTo>
                    <a:pt x="948" y="1205"/>
                  </a:lnTo>
                  <a:lnTo>
                    <a:pt x="953" y="1206"/>
                  </a:lnTo>
                  <a:lnTo>
                    <a:pt x="958" y="1205"/>
                  </a:lnTo>
                  <a:lnTo>
                    <a:pt x="963" y="1205"/>
                  </a:lnTo>
                  <a:lnTo>
                    <a:pt x="967" y="1205"/>
                  </a:lnTo>
                  <a:lnTo>
                    <a:pt x="971" y="1205"/>
                  </a:lnTo>
                  <a:lnTo>
                    <a:pt x="974" y="1206"/>
                  </a:lnTo>
                  <a:lnTo>
                    <a:pt x="977" y="1208"/>
                  </a:lnTo>
                  <a:lnTo>
                    <a:pt x="979" y="1212"/>
                  </a:lnTo>
                  <a:lnTo>
                    <a:pt x="980" y="1214"/>
                  </a:lnTo>
                  <a:lnTo>
                    <a:pt x="983" y="1218"/>
                  </a:lnTo>
                  <a:lnTo>
                    <a:pt x="984" y="1228"/>
                  </a:lnTo>
                  <a:lnTo>
                    <a:pt x="985" y="1239"/>
                  </a:lnTo>
                  <a:lnTo>
                    <a:pt x="985" y="1250"/>
                  </a:lnTo>
                  <a:lnTo>
                    <a:pt x="984" y="1262"/>
                  </a:lnTo>
                  <a:lnTo>
                    <a:pt x="982" y="1287"/>
                  </a:lnTo>
                  <a:lnTo>
                    <a:pt x="977" y="1308"/>
                  </a:lnTo>
                  <a:lnTo>
                    <a:pt x="973" y="1324"/>
                  </a:lnTo>
                  <a:lnTo>
                    <a:pt x="972" y="1330"/>
                  </a:lnTo>
                  <a:lnTo>
                    <a:pt x="962" y="1340"/>
                  </a:lnTo>
                  <a:lnTo>
                    <a:pt x="953" y="1351"/>
                  </a:lnTo>
                  <a:lnTo>
                    <a:pt x="947" y="1362"/>
                  </a:lnTo>
                  <a:lnTo>
                    <a:pt x="944" y="1372"/>
                  </a:lnTo>
                  <a:lnTo>
                    <a:pt x="940" y="1383"/>
                  </a:lnTo>
                  <a:lnTo>
                    <a:pt x="939" y="1393"/>
                  </a:lnTo>
                  <a:lnTo>
                    <a:pt x="937" y="1404"/>
                  </a:lnTo>
                  <a:lnTo>
                    <a:pt x="937" y="1413"/>
                  </a:lnTo>
                  <a:lnTo>
                    <a:pt x="940" y="1430"/>
                  </a:lnTo>
                  <a:lnTo>
                    <a:pt x="944" y="1443"/>
                  </a:lnTo>
                  <a:lnTo>
                    <a:pt x="946" y="1452"/>
                  </a:lnTo>
                  <a:lnTo>
                    <a:pt x="947" y="1454"/>
                  </a:lnTo>
                  <a:lnTo>
                    <a:pt x="945" y="1453"/>
                  </a:lnTo>
                  <a:lnTo>
                    <a:pt x="936" y="1451"/>
                  </a:lnTo>
                  <a:lnTo>
                    <a:pt x="921" y="1446"/>
                  </a:lnTo>
                  <a:lnTo>
                    <a:pt x="899" y="1440"/>
                  </a:lnTo>
                  <a:lnTo>
                    <a:pt x="872" y="1433"/>
                  </a:lnTo>
                  <a:lnTo>
                    <a:pt x="839" y="1426"/>
                  </a:lnTo>
                  <a:lnTo>
                    <a:pt x="798" y="1420"/>
                  </a:lnTo>
                  <a:lnTo>
                    <a:pt x="752" y="1414"/>
                  </a:lnTo>
                  <a:lnTo>
                    <a:pt x="705" y="1411"/>
                  </a:lnTo>
                  <a:lnTo>
                    <a:pt x="662" y="1411"/>
                  </a:lnTo>
                  <a:lnTo>
                    <a:pt x="620" y="1413"/>
                  </a:lnTo>
                  <a:lnTo>
                    <a:pt x="579" y="1416"/>
                  </a:lnTo>
                  <a:lnTo>
                    <a:pt x="538" y="1421"/>
                  </a:lnTo>
                  <a:lnTo>
                    <a:pt x="492" y="1427"/>
                  </a:lnTo>
                  <a:lnTo>
                    <a:pt x="443" y="1435"/>
                  </a:lnTo>
                  <a:lnTo>
                    <a:pt x="385" y="1441"/>
                  </a:lnTo>
                  <a:lnTo>
                    <a:pt x="369" y="1443"/>
                  </a:lnTo>
                  <a:lnTo>
                    <a:pt x="352" y="1443"/>
                  </a:lnTo>
                  <a:lnTo>
                    <a:pt x="336" y="1443"/>
                  </a:lnTo>
                  <a:lnTo>
                    <a:pt x="319" y="1442"/>
                  </a:lnTo>
                  <a:lnTo>
                    <a:pt x="303" y="1440"/>
                  </a:lnTo>
                  <a:lnTo>
                    <a:pt x="287" y="1437"/>
                  </a:lnTo>
                  <a:lnTo>
                    <a:pt x="271" y="1433"/>
                  </a:lnTo>
                  <a:lnTo>
                    <a:pt x="255" y="1430"/>
                  </a:lnTo>
                  <a:lnTo>
                    <a:pt x="239" y="1425"/>
                  </a:lnTo>
                  <a:lnTo>
                    <a:pt x="223" y="1419"/>
                  </a:lnTo>
                  <a:lnTo>
                    <a:pt x="208" y="1413"/>
                  </a:lnTo>
                  <a:lnTo>
                    <a:pt x="193" y="1405"/>
                  </a:lnTo>
                  <a:lnTo>
                    <a:pt x="178" y="1397"/>
                  </a:lnTo>
                  <a:lnTo>
                    <a:pt x="164" y="1388"/>
                  </a:lnTo>
                  <a:lnTo>
                    <a:pt x="150" y="1378"/>
                  </a:lnTo>
                  <a:lnTo>
                    <a:pt x="136" y="1367"/>
                  </a:lnTo>
                  <a:lnTo>
                    <a:pt x="124" y="1356"/>
                  </a:lnTo>
                  <a:lnTo>
                    <a:pt x="111" y="1344"/>
                  </a:lnTo>
                  <a:lnTo>
                    <a:pt x="100" y="1331"/>
                  </a:lnTo>
                  <a:lnTo>
                    <a:pt x="87" y="1318"/>
                  </a:lnTo>
                  <a:lnTo>
                    <a:pt x="76" y="1304"/>
                  </a:lnTo>
                  <a:lnTo>
                    <a:pt x="66" y="1290"/>
                  </a:lnTo>
                  <a:lnTo>
                    <a:pt x="56" y="1274"/>
                  </a:lnTo>
                  <a:lnTo>
                    <a:pt x="48" y="1258"/>
                  </a:lnTo>
                  <a:lnTo>
                    <a:pt x="39" y="1240"/>
                  </a:lnTo>
                  <a:lnTo>
                    <a:pt x="32" y="1223"/>
                  </a:lnTo>
                  <a:lnTo>
                    <a:pt x="24" y="1205"/>
                  </a:lnTo>
                  <a:lnTo>
                    <a:pt x="18" y="1185"/>
                  </a:lnTo>
                  <a:lnTo>
                    <a:pt x="13" y="1165"/>
                  </a:lnTo>
                  <a:lnTo>
                    <a:pt x="9" y="1144"/>
                  </a:lnTo>
                  <a:lnTo>
                    <a:pt x="5" y="1123"/>
                  </a:lnTo>
                  <a:lnTo>
                    <a:pt x="2" y="1101"/>
                  </a:lnTo>
                  <a:lnTo>
                    <a:pt x="0" y="1078"/>
                  </a:lnTo>
                  <a:lnTo>
                    <a:pt x="0" y="1055"/>
                  </a:lnTo>
                  <a:lnTo>
                    <a:pt x="1" y="1031"/>
                  </a:lnTo>
                  <a:lnTo>
                    <a:pt x="4" y="1008"/>
                  </a:lnTo>
                  <a:lnTo>
                    <a:pt x="6" y="986"/>
                  </a:lnTo>
                  <a:lnTo>
                    <a:pt x="11" y="962"/>
                  </a:lnTo>
                  <a:lnTo>
                    <a:pt x="16" y="940"/>
                  </a:lnTo>
                  <a:lnTo>
                    <a:pt x="22" y="918"/>
                  </a:lnTo>
                  <a:lnTo>
                    <a:pt x="29" y="896"/>
                  </a:lnTo>
                  <a:lnTo>
                    <a:pt x="37" y="874"/>
                  </a:lnTo>
                  <a:lnTo>
                    <a:pt x="45" y="853"/>
                  </a:lnTo>
                  <a:lnTo>
                    <a:pt x="54" y="832"/>
                  </a:lnTo>
                  <a:lnTo>
                    <a:pt x="74" y="793"/>
                  </a:lnTo>
                  <a:lnTo>
                    <a:pt x="95" y="753"/>
                  </a:lnTo>
                  <a:lnTo>
                    <a:pt x="117" y="718"/>
                  </a:lnTo>
                  <a:lnTo>
                    <a:pt x="138" y="683"/>
                  </a:lnTo>
                  <a:lnTo>
                    <a:pt x="160" y="652"/>
                  </a:lnTo>
                  <a:lnTo>
                    <a:pt x="181" y="624"/>
                  </a:lnTo>
                  <a:lnTo>
                    <a:pt x="218" y="576"/>
                  </a:lnTo>
                  <a:lnTo>
                    <a:pt x="243" y="542"/>
                  </a:lnTo>
                  <a:close/>
                </a:path>
              </a:pathLst>
            </a:custGeom>
            <a:solidFill>
              <a:srgbClr val="64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6570720" y="2241720"/>
              <a:ext cx="296640" cy="444600"/>
            </a:xfrm>
            <a:custGeom>
              <a:avLst/>
              <a:gdLst/>
              <a:ahLst/>
              <a:rect l="l" t="t" r="r" b="b"/>
              <a:pathLst>
                <a:path w="936" h="1402">
                  <a:moveTo>
                    <a:pt x="561" y="96"/>
                  </a:moveTo>
                  <a:lnTo>
                    <a:pt x="567" y="145"/>
                  </a:lnTo>
                  <a:lnTo>
                    <a:pt x="575" y="200"/>
                  </a:lnTo>
                  <a:lnTo>
                    <a:pt x="582" y="260"/>
                  </a:lnTo>
                  <a:lnTo>
                    <a:pt x="591" y="318"/>
                  </a:lnTo>
                  <a:lnTo>
                    <a:pt x="598" y="371"/>
                  </a:lnTo>
                  <a:lnTo>
                    <a:pt x="604" y="414"/>
                  </a:lnTo>
                  <a:lnTo>
                    <a:pt x="609" y="444"/>
                  </a:lnTo>
                  <a:lnTo>
                    <a:pt x="610" y="454"/>
                  </a:lnTo>
                  <a:lnTo>
                    <a:pt x="612" y="460"/>
                  </a:lnTo>
                  <a:lnTo>
                    <a:pt x="612" y="466"/>
                  </a:lnTo>
                  <a:lnTo>
                    <a:pt x="610" y="472"/>
                  </a:lnTo>
                  <a:lnTo>
                    <a:pt x="608" y="477"/>
                  </a:lnTo>
                  <a:lnTo>
                    <a:pt x="605" y="482"/>
                  </a:lnTo>
                  <a:lnTo>
                    <a:pt x="602" y="487"/>
                  </a:lnTo>
                  <a:lnTo>
                    <a:pt x="597" y="490"/>
                  </a:lnTo>
                  <a:lnTo>
                    <a:pt x="592" y="493"/>
                  </a:lnTo>
                  <a:lnTo>
                    <a:pt x="585" y="495"/>
                  </a:lnTo>
                  <a:lnTo>
                    <a:pt x="578" y="498"/>
                  </a:lnTo>
                  <a:lnTo>
                    <a:pt x="570" y="498"/>
                  </a:lnTo>
                  <a:lnTo>
                    <a:pt x="561" y="498"/>
                  </a:lnTo>
                  <a:lnTo>
                    <a:pt x="551" y="495"/>
                  </a:lnTo>
                  <a:lnTo>
                    <a:pt x="540" y="493"/>
                  </a:lnTo>
                  <a:lnTo>
                    <a:pt x="529" y="489"/>
                  </a:lnTo>
                  <a:lnTo>
                    <a:pt x="518" y="484"/>
                  </a:lnTo>
                  <a:lnTo>
                    <a:pt x="506" y="478"/>
                  </a:lnTo>
                  <a:lnTo>
                    <a:pt x="494" y="476"/>
                  </a:lnTo>
                  <a:lnTo>
                    <a:pt x="481" y="473"/>
                  </a:lnTo>
                  <a:lnTo>
                    <a:pt x="470" y="473"/>
                  </a:lnTo>
                  <a:lnTo>
                    <a:pt x="459" y="474"/>
                  </a:lnTo>
                  <a:lnTo>
                    <a:pt x="448" y="477"/>
                  </a:lnTo>
                  <a:lnTo>
                    <a:pt x="438" y="481"/>
                  </a:lnTo>
                  <a:lnTo>
                    <a:pt x="428" y="487"/>
                  </a:lnTo>
                  <a:lnTo>
                    <a:pt x="420" y="492"/>
                  </a:lnTo>
                  <a:lnTo>
                    <a:pt x="411" y="499"/>
                  </a:lnTo>
                  <a:lnTo>
                    <a:pt x="404" y="506"/>
                  </a:lnTo>
                  <a:lnTo>
                    <a:pt x="398" y="515"/>
                  </a:lnTo>
                  <a:lnTo>
                    <a:pt x="390" y="524"/>
                  </a:lnTo>
                  <a:lnTo>
                    <a:pt x="385" y="532"/>
                  </a:lnTo>
                  <a:lnTo>
                    <a:pt x="380" y="542"/>
                  </a:lnTo>
                  <a:lnTo>
                    <a:pt x="377" y="552"/>
                  </a:lnTo>
                  <a:lnTo>
                    <a:pt x="373" y="562"/>
                  </a:lnTo>
                  <a:lnTo>
                    <a:pt x="372" y="570"/>
                  </a:lnTo>
                  <a:lnTo>
                    <a:pt x="369" y="580"/>
                  </a:lnTo>
                  <a:lnTo>
                    <a:pt x="369" y="589"/>
                  </a:lnTo>
                  <a:lnTo>
                    <a:pt x="369" y="596"/>
                  </a:lnTo>
                  <a:lnTo>
                    <a:pt x="370" y="605"/>
                  </a:lnTo>
                  <a:lnTo>
                    <a:pt x="373" y="612"/>
                  </a:lnTo>
                  <a:lnTo>
                    <a:pt x="375" y="618"/>
                  </a:lnTo>
                  <a:lnTo>
                    <a:pt x="379" y="625"/>
                  </a:lnTo>
                  <a:lnTo>
                    <a:pt x="384" y="628"/>
                  </a:lnTo>
                  <a:lnTo>
                    <a:pt x="389" y="633"/>
                  </a:lnTo>
                  <a:lnTo>
                    <a:pt x="394" y="636"/>
                  </a:lnTo>
                  <a:lnTo>
                    <a:pt x="401" y="638"/>
                  </a:lnTo>
                  <a:lnTo>
                    <a:pt x="409" y="638"/>
                  </a:lnTo>
                  <a:lnTo>
                    <a:pt x="416" y="638"/>
                  </a:lnTo>
                  <a:lnTo>
                    <a:pt x="426" y="636"/>
                  </a:lnTo>
                  <a:lnTo>
                    <a:pt x="436" y="631"/>
                  </a:lnTo>
                  <a:lnTo>
                    <a:pt x="447" y="626"/>
                  </a:lnTo>
                  <a:lnTo>
                    <a:pt x="457" y="621"/>
                  </a:lnTo>
                  <a:lnTo>
                    <a:pt x="468" y="617"/>
                  </a:lnTo>
                  <a:lnTo>
                    <a:pt x="481" y="615"/>
                  </a:lnTo>
                  <a:lnTo>
                    <a:pt x="496" y="615"/>
                  </a:lnTo>
                  <a:lnTo>
                    <a:pt x="514" y="617"/>
                  </a:lnTo>
                  <a:lnTo>
                    <a:pt x="537" y="622"/>
                  </a:lnTo>
                  <a:lnTo>
                    <a:pt x="571" y="629"/>
                  </a:lnTo>
                  <a:lnTo>
                    <a:pt x="614" y="636"/>
                  </a:lnTo>
                  <a:lnTo>
                    <a:pt x="660" y="642"/>
                  </a:lnTo>
                  <a:lnTo>
                    <a:pt x="706" y="648"/>
                  </a:lnTo>
                  <a:lnTo>
                    <a:pt x="748" y="653"/>
                  </a:lnTo>
                  <a:lnTo>
                    <a:pt x="780" y="658"/>
                  </a:lnTo>
                  <a:lnTo>
                    <a:pt x="791" y="660"/>
                  </a:lnTo>
                  <a:lnTo>
                    <a:pt x="799" y="664"/>
                  </a:lnTo>
                  <a:lnTo>
                    <a:pt x="801" y="665"/>
                  </a:lnTo>
                  <a:lnTo>
                    <a:pt x="802" y="666"/>
                  </a:lnTo>
                  <a:lnTo>
                    <a:pt x="802" y="668"/>
                  </a:lnTo>
                  <a:lnTo>
                    <a:pt x="800" y="669"/>
                  </a:lnTo>
                  <a:lnTo>
                    <a:pt x="794" y="675"/>
                  </a:lnTo>
                  <a:lnTo>
                    <a:pt x="788" y="682"/>
                  </a:lnTo>
                  <a:lnTo>
                    <a:pt x="781" y="690"/>
                  </a:lnTo>
                  <a:lnTo>
                    <a:pt x="776" y="697"/>
                  </a:lnTo>
                  <a:lnTo>
                    <a:pt x="768" y="713"/>
                  </a:lnTo>
                  <a:lnTo>
                    <a:pt x="760" y="730"/>
                  </a:lnTo>
                  <a:lnTo>
                    <a:pt x="756" y="748"/>
                  </a:lnTo>
                  <a:lnTo>
                    <a:pt x="752" y="766"/>
                  </a:lnTo>
                  <a:lnTo>
                    <a:pt x="749" y="784"/>
                  </a:lnTo>
                  <a:lnTo>
                    <a:pt x="748" y="802"/>
                  </a:lnTo>
                  <a:lnTo>
                    <a:pt x="749" y="820"/>
                  </a:lnTo>
                  <a:lnTo>
                    <a:pt x="751" y="836"/>
                  </a:lnTo>
                  <a:lnTo>
                    <a:pt x="752" y="852"/>
                  </a:lnTo>
                  <a:lnTo>
                    <a:pt x="756" y="867"/>
                  </a:lnTo>
                  <a:lnTo>
                    <a:pt x="758" y="880"/>
                  </a:lnTo>
                  <a:lnTo>
                    <a:pt x="763" y="891"/>
                  </a:lnTo>
                  <a:lnTo>
                    <a:pt x="767" y="900"/>
                  </a:lnTo>
                  <a:lnTo>
                    <a:pt x="770" y="907"/>
                  </a:lnTo>
                  <a:lnTo>
                    <a:pt x="779" y="927"/>
                  </a:lnTo>
                  <a:lnTo>
                    <a:pt x="792" y="962"/>
                  </a:lnTo>
                  <a:lnTo>
                    <a:pt x="810" y="1006"/>
                  </a:lnTo>
                  <a:lnTo>
                    <a:pt x="829" y="1055"/>
                  </a:lnTo>
                  <a:lnTo>
                    <a:pt x="839" y="1078"/>
                  </a:lnTo>
                  <a:lnTo>
                    <a:pt x="850" y="1101"/>
                  </a:lnTo>
                  <a:lnTo>
                    <a:pt x="861" y="1121"/>
                  </a:lnTo>
                  <a:lnTo>
                    <a:pt x="872" y="1140"/>
                  </a:lnTo>
                  <a:lnTo>
                    <a:pt x="877" y="1147"/>
                  </a:lnTo>
                  <a:lnTo>
                    <a:pt x="884" y="1155"/>
                  </a:lnTo>
                  <a:lnTo>
                    <a:pt x="888" y="1160"/>
                  </a:lnTo>
                  <a:lnTo>
                    <a:pt x="895" y="1164"/>
                  </a:lnTo>
                  <a:lnTo>
                    <a:pt x="900" y="1168"/>
                  </a:lnTo>
                  <a:lnTo>
                    <a:pt x="904" y="1171"/>
                  </a:lnTo>
                  <a:lnTo>
                    <a:pt x="909" y="1172"/>
                  </a:lnTo>
                  <a:lnTo>
                    <a:pt x="914" y="1171"/>
                  </a:lnTo>
                  <a:lnTo>
                    <a:pt x="919" y="1171"/>
                  </a:lnTo>
                  <a:lnTo>
                    <a:pt x="923" y="1171"/>
                  </a:lnTo>
                  <a:lnTo>
                    <a:pt x="927" y="1171"/>
                  </a:lnTo>
                  <a:lnTo>
                    <a:pt x="929" y="1172"/>
                  </a:lnTo>
                  <a:lnTo>
                    <a:pt x="931" y="1174"/>
                  </a:lnTo>
                  <a:lnTo>
                    <a:pt x="933" y="1177"/>
                  </a:lnTo>
                  <a:lnTo>
                    <a:pt x="934" y="1180"/>
                  </a:lnTo>
                  <a:lnTo>
                    <a:pt x="935" y="1184"/>
                  </a:lnTo>
                  <a:lnTo>
                    <a:pt x="936" y="1193"/>
                  </a:lnTo>
                  <a:lnTo>
                    <a:pt x="935" y="1203"/>
                  </a:lnTo>
                  <a:lnTo>
                    <a:pt x="934" y="1214"/>
                  </a:lnTo>
                  <a:lnTo>
                    <a:pt x="931" y="1226"/>
                  </a:lnTo>
                  <a:lnTo>
                    <a:pt x="924" y="1249"/>
                  </a:lnTo>
                  <a:lnTo>
                    <a:pt x="917" y="1270"/>
                  </a:lnTo>
                  <a:lnTo>
                    <a:pt x="912" y="1285"/>
                  </a:lnTo>
                  <a:lnTo>
                    <a:pt x="909" y="1290"/>
                  </a:lnTo>
                  <a:lnTo>
                    <a:pt x="900" y="1301"/>
                  </a:lnTo>
                  <a:lnTo>
                    <a:pt x="891" y="1311"/>
                  </a:lnTo>
                  <a:lnTo>
                    <a:pt x="885" y="1321"/>
                  </a:lnTo>
                  <a:lnTo>
                    <a:pt x="881" y="1331"/>
                  </a:lnTo>
                  <a:lnTo>
                    <a:pt x="877" y="1340"/>
                  </a:lnTo>
                  <a:lnTo>
                    <a:pt x="875" y="1350"/>
                  </a:lnTo>
                  <a:lnTo>
                    <a:pt x="874" y="1359"/>
                  </a:lnTo>
                  <a:lnTo>
                    <a:pt x="874" y="1366"/>
                  </a:lnTo>
                  <a:lnTo>
                    <a:pt x="875" y="1381"/>
                  </a:lnTo>
                  <a:lnTo>
                    <a:pt x="879" y="1392"/>
                  </a:lnTo>
                  <a:lnTo>
                    <a:pt x="881" y="1399"/>
                  </a:lnTo>
                  <a:lnTo>
                    <a:pt x="882" y="1402"/>
                  </a:lnTo>
                  <a:lnTo>
                    <a:pt x="879" y="1401"/>
                  </a:lnTo>
                  <a:lnTo>
                    <a:pt x="870" y="1398"/>
                  </a:lnTo>
                  <a:lnTo>
                    <a:pt x="855" y="1393"/>
                  </a:lnTo>
                  <a:lnTo>
                    <a:pt x="836" y="1388"/>
                  </a:lnTo>
                  <a:lnTo>
                    <a:pt x="810" y="1382"/>
                  </a:lnTo>
                  <a:lnTo>
                    <a:pt x="779" y="1377"/>
                  </a:lnTo>
                  <a:lnTo>
                    <a:pt x="743" y="1371"/>
                  </a:lnTo>
                  <a:lnTo>
                    <a:pt x="703" y="1366"/>
                  </a:lnTo>
                  <a:lnTo>
                    <a:pt x="661" y="1364"/>
                  </a:lnTo>
                  <a:lnTo>
                    <a:pt x="621" y="1363"/>
                  </a:lnTo>
                  <a:lnTo>
                    <a:pt x="583" y="1365"/>
                  </a:lnTo>
                  <a:lnTo>
                    <a:pt x="545" y="1367"/>
                  </a:lnTo>
                  <a:lnTo>
                    <a:pt x="506" y="1371"/>
                  </a:lnTo>
                  <a:lnTo>
                    <a:pt x="463" y="1376"/>
                  </a:lnTo>
                  <a:lnTo>
                    <a:pt x="416" y="1382"/>
                  </a:lnTo>
                  <a:lnTo>
                    <a:pt x="363" y="1388"/>
                  </a:lnTo>
                  <a:lnTo>
                    <a:pt x="346" y="1390"/>
                  </a:lnTo>
                  <a:lnTo>
                    <a:pt x="330" y="1390"/>
                  </a:lnTo>
                  <a:lnTo>
                    <a:pt x="314" y="1390"/>
                  </a:lnTo>
                  <a:lnTo>
                    <a:pt x="298" y="1388"/>
                  </a:lnTo>
                  <a:lnTo>
                    <a:pt x="281" y="1386"/>
                  </a:lnTo>
                  <a:lnTo>
                    <a:pt x="266" y="1383"/>
                  </a:lnTo>
                  <a:lnTo>
                    <a:pt x="250" y="1380"/>
                  </a:lnTo>
                  <a:lnTo>
                    <a:pt x="234" y="1376"/>
                  </a:lnTo>
                  <a:lnTo>
                    <a:pt x="219" y="1371"/>
                  </a:lnTo>
                  <a:lnTo>
                    <a:pt x="204" y="1365"/>
                  </a:lnTo>
                  <a:lnTo>
                    <a:pt x="190" y="1359"/>
                  </a:lnTo>
                  <a:lnTo>
                    <a:pt x="175" y="1351"/>
                  </a:lnTo>
                  <a:lnTo>
                    <a:pt x="161" y="1344"/>
                  </a:lnTo>
                  <a:lnTo>
                    <a:pt x="148" y="1335"/>
                  </a:lnTo>
                  <a:lnTo>
                    <a:pt x="134" y="1326"/>
                  </a:lnTo>
                  <a:lnTo>
                    <a:pt x="122" y="1316"/>
                  </a:lnTo>
                  <a:lnTo>
                    <a:pt x="110" y="1305"/>
                  </a:lnTo>
                  <a:lnTo>
                    <a:pt x="99" y="1294"/>
                  </a:lnTo>
                  <a:lnTo>
                    <a:pt x="88" y="1281"/>
                  </a:lnTo>
                  <a:lnTo>
                    <a:pt x="76" y="1269"/>
                  </a:lnTo>
                  <a:lnTo>
                    <a:pt x="67" y="1256"/>
                  </a:lnTo>
                  <a:lnTo>
                    <a:pt x="57" y="1242"/>
                  </a:lnTo>
                  <a:lnTo>
                    <a:pt x="48" y="1227"/>
                  </a:lnTo>
                  <a:lnTo>
                    <a:pt x="40" y="1211"/>
                  </a:lnTo>
                  <a:lnTo>
                    <a:pt x="32" y="1196"/>
                  </a:lnTo>
                  <a:lnTo>
                    <a:pt x="26" y="1179"/>
                  </a:lnTo>
                  <a:lnTo>
                    <a:pt x="20" y="1162"/>
                  </a:lnTo>
                  <a:lnTo>
                    <a:pt x="15" y="1145"/>
                  </a:lnTo>
                  <a:lnTo>
                    <a:pt x="10" y="1126"/>
                  </a:lnTo>
                  <a:lnTo>
                    <a:pt x="6" y="1108"/>
                  </a:lnTo>
                  <a:lnTo>
                    <a:pt x="4" y="1088"/>
                  </a:lnTo>
                  <a:lnTo>
                    <a:pt x="1" y="1067"/>
                  </a:lnTo>
                  <a:lnTo>
                    <a:pt x="0" y="1044"/>
                  </a:lnTo>
                  <a:lnTo>
                    <a:pt x="0" y="1022"/>
                  </a:lnTo>
                  <a:lnTo>
                    <a:pt x="1" y="998"/>
                  </a:lnTo>
                  <a:lnTo>
                    <a:pt x="4" y="976"/>
                  </a:lnTo>
                  <a:lnTo>
                    <a:pt x="8" y="953"/>
                  </a:lnTo>
                  <a:lnTo>
                    <a:pt x="11" y="931"/>
                  </a:lnTo>
                  <a:lnTo>
                    <a:pt x="16" y="910"/>
                  </a:lnTo>
                  <a:lnTo>
                    <a:pt x="21" y="888"/>
                  </a:lnTo>
                  <a:lnTo>
                    <a:pt x="27" y="867"/>
                  </a:lnTo>
                  <a:lnTo>
                    <a:pt x="33" y="846"/>
                  </a:lnTo>
                  <a:lnTo>
                    <a:pt x="41" y="825"/>
                  </a:lnTo>
                  <a:lnTo>
                    <a:pt x="48" y="805"/>
                  </a:lnTo>
                  <a:lnTo>
                    <a:pt x="65" y="767"/>
                  </a:lnTo>
                  <a:lnTo>
                    <a:pt x="84" y="730"/>
                  </a:lnTo>
                  <a:lnTo>
                    <a:pt x="102" y="695"/>
                  </a:lnTo>
                  <a:lnTo>
                    <a:pt x="121" y="663"/>
                  </a:lnTo>
                  <a:lnTo>
                    <a:pt x="140" y="633"/>
                  </a:lnTo>
                  <a:lnTo>
                    <a:pt x="159" y="605"/>
                  </a:lnTo>
                  <a:lnTo>
                    <a:pt x="192" y="558"/>
                  </a:lnTo>
                  <a:lnTo>
                    <a:pt x="217" y="525"/>
                  </a:lnTo>
                  <a:lnTo>
                    <a:pt x="228" y="509"/>
                  </a:lnTo>
                  <a:lnTo>
                    <a:pt x="240" y="489"/>
                  </a:lnTo>
                  <a:lnTo>
                    <a:pt x="254" y="465"/>
                  </a:lnTo>
                  <a:lnTo>
                    <a:pt x="268" y="438"/>
                  </a:lnTo>
                  <a:lnTo>
                    <a:pt x="302" y="375"/>
                  </a:lnTo>
                  <a:lnTo>
                    <a:pt x="335" y="305"/>
                  </a:lnTo>
                  <a:lnTo>
                    <a:pt x="370" y="231"/>
                  </a:lnTo>
                  <a:lnTo>
                    <a:pt x="404" y="156"/>
                  </a:lnTo>
                  <a:lnTo>
                    <a:pt x="434" y="85"/>
                  </a:lnTo>
                  <a:lnTo>
                    <a:pt x="460" y="22"/>
                  </a:lnTo>
                  <a:lnTo>
                    <a:pt x="464" y="16"/>
                  </a:lnTo>
                  <a:lnTo>
                    <a:pt x="468" y="11"/>
                  </a:lnTo>
                  <a:lnTo>
                    <a:pt x="473" y="6"/>
                  </a:lnTo>
                  <a:lnTo>
                    <a:pt x="480" y="3"/>
                  </a:lnTo>
                  <a:lnTo>
                    <a:pt x="486" y="1"/>
                  </a:lnTo>
                  <a:lnTo>
                    <a:pt x="495" y="0"/>
                  </a:lnTo>
                  <a:lnTo>
                    <a:pt x="502" y="0"/>
                  </a:lnTo>
                  <a:lnTo>
                    <a:pt x="511" y="2"/>
                  </a:lnTo>
                  <a:lnTo>
                    <a:pt x="519" y="6"/>
                  </a:lnTo>
                  <a:lnTo>
                    <a:pt x="528" y="11"/>
                  </a:lnTo>
                  <a:lnTo>
                    <a:pt x="535" y="19"/>
                  </a:lnTo>
                  <a:lnTo>
                    <a:pt x="543" y="29"/>
                  </a:lnTo>
                  <a:lnTo>
                    <a:pt x="549" y="41"/>
                  </a:lnTo>
                  <a:lnTo>
                    <a:pt x="554" y="56"/>
                  </a:lnTo>
                  <a:lnTo>
                    <a:pt x="559" y="75"/>
                  </a:lnTo>
                  <a:lnTo>
                    <a:pt x="561" y="96"/>
                  </a:lnTo>
                  <a:close/>
                </a:path>
              </a:pathLst>
            </a:custGeom>
            <a:solidFill>
              <a:srgbClr val="63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6585120" y="2251080"/>
              <a:ext cx="282240" cy="430200"/>
            </a:xfrm>
            <a:custGeom>
              <a:avLst/>
              <a:gdLst/>
              <a:ahLst/>
              <a:rect l="l" t="t" r="r" b="b"/>
              <a:pathLst>
                <a:path w="889" h="1351">
                  <a:moveTo>
                    <a:pt x="515" y="96"/>
                  </a:moveTo>
                  <a:lnTo>
                    <a:pt x="521" y="144"/>
                  </a:lnTo>
                  <a:lnTo>
                    <a:pt x="527" y="194"/>
                  </a:lnTo>
                  <a:lnTo>
                    <a:pt x="534" y="247"/>
                  </a:lnTo>
                  <a:lnTo>
                    <a:pt x="542" y="297"/>
                  </a:lnTo>
                  <a:lnTo>
                    <a:pt x="548" y="342"/>
                  </a:lnTo>
                  <a:lnTo>
                    <a:pt x="553" y="378"/>
                  </a:lnTo>
                  <a:lnTo>
                    <a:pt x="557" y="402"/>
                  </a:lnTo>
                  <a:lnTo>
                    <a:pt x="558" y="410"/>
                  </a:lnTo>
                  <a:lnTo>
                    <a:pt x="559" y="417"/>
                  </a:lnTo>
                  <a:lnTo>
                    <a:pt x="559" y="423"/>
                  </a:lnTo>
                  <a:lnTo>
                    <a:pt x="558" y="429"/>
                  </a:lnTo>
                  <a:lnTo>
                    <a:pt x="557" y="435"/>
                  </a:lnTo>
                  <a:lnTo>
                    <a:pt x="554" y="440"/>
                  </a:lnTo>
                  <a:lnTo>
                    <a:pt x="550" y="445"/>
                  </a:lnTo>
                  <a:lnTo>
                    <a:pt x="547" y="450"/>
                  </a:lnTo>
                  <a:lnTo>
                    <a:pt x="542" y="454"/>
                  </a:lnTo>
                  <a:lnTo>
                    <a:pt x="537" y="456"/>
                  </a:lnTo>
                  <a:lnTo>
                    <a:pt x="531" y="458"/>
                  </a:lnTo>
                  <a:lnTo>
                    <a:pt x="523" y="460"/>
                  </a:lnTo>
                  <a:lnTo>
                    <a:pt x="515" y="460"/>
                  </a:lnTo>
                  <a:lnTo>
                    <a:pt x="506" y="458"/>
                  </a:lnTo>
                  <a:lnTo>
                    <a:pt x="496" y="456"/>
                  </a:lnTo>
                  <a:lnTo>
                    <a:pt x="485" y="451"/>
                  </a:lnTo>
                  <a:lnTo>
                    <a:pt x="474" y="446"/>
                  </a:lnTo>
                  <a:lnTo>
                    <a:pt x="461" y="441"/>
                  </a:lnTo>
                  <a:lnTo>
                    <a:pt x="448" y="438"/>
                  </a:lnTo>
                  <a:lnTo>
                    <a:pt x="437" y="436"/>
                  </a:lnTo>
                  <a:lnTo>
                    <a:pt x="425" y="436"/>
                  </a:lnTo>
                  <a:lnTo>
                    <a:pt x="414" y="438"/>
                  </a:lnTo>
                  <a:lnTo>
                    <a:pt x="403" y="441"/>
                  </a:lnTo>
                  <a:lnTo>
                    <a:pt x="393" y="445"/>
                  </a:lnTo>
                  <a:lnTo>
                    <a:pt x="383" y="450"/>
                  </a:lnTo>
                  <a:lnTo>
                    <a:pt x="373" y="457"/>
                  </a:lnTo>
                  <a:lnTo>
                    <a:pt x="365" y="465"/>
                  </a:lnTo>
                  <a:lnTo>
                    <a:pt x="357" y="472"/>
                  </a:lnTo>
                  <a:lnTo>
                    <a:pt x="350" y="481"/>
                  </a:lnTo>
                  <a:lnTo>
                    <a:pt x="342" y="490"/>
                  </a:lnTo>
                  <a:lnTo>
                    <a:pt x="336" y="499"/>
                  </a:lnTo>
                  <a:lnTo>
                    <a:pt x="331" y="510"/>
                  </a:lnTo>
                  <a:lnTo>
                    <a:pt x="326" y="520"/>
                  </a:lnTo>
                  <a:lnTo>
                    <a:pt x="324" y="530"/>
                  </a:lnTo>
                  <a:lnTo>
                    <a:pt x="322" y="538"/>
                  </a:lnTo>
                  <a:lnTo>
                    <a:pt x="320" y="548"/>
                  </a:lnTo>
                  <a:lnTo>
                    <a:pt x="319" y="557"/>
                  </a:lnTo>
                  <a:lnTo>
                    <a:pt x="319" y="565"/>
                  </a:lnTo>
                  <a:lnTo>
                    <a:pt x="320" y="573"/>
                  </a:lnTo>
                  <a:lnTo>
                    <a:pt x="322" y="580"/>
                  </a:lnTo>
                  <a:lnTo>
                    <a:pt x="325" y="588"/>
                  </a:lnTo>
                  <a:lnTo>
                    <a:pt x="329" y="594"/>
                  </a:lnTo>
                  <a:lnTo>
                    <a:pt x="333" y="599"/>
                  </a:lnTo>
                  <a:lnTo>
                    <a:pt x="339" y="604"/>
                  </a:lnTo>
                  <a:lnTo>
                    <a:pt x="345" y="607"/>
                  </a:lnTo>
                  <a:lnTo>
                    <a:pt x="352" y="610"/>
                  </a:lnTo>
                  <a:lnTo>
                    <a:pt x="361" y="612"/>
                  </a:lnTo>
                  <a:lnTo>
                    <a:pt x="371" y="612"/>
                  </a:lnTo>
                  <a:lnTo>
                    <a:pt x="382" y="612"/>
                  </a:lnTo>
                  <a:lnTo>
                    <a:pt x="393" y="607"/>
                  </a:lnTo>
                  <a:lnTo>
                    <a:pt x="402" y="604"/>
                  </a:lnTo>
                  <a:lnTo>
                    <a:pt x="411" y="600"/>
                  </a:lnTo>
                  <a:lnTo>
                    <a:pt x="420" y="597"/>
                  </a:lnTo>
                  <a:lnTo>
                    <a:pt x="431" y="596"/>
                  </a:lnTo>
                  <a:lnTo>
                    <a:pt x="445" y="596"/>
                  </a:lnTo>
                  <a:lnTo>
                    <a:pt x="461" y="597"/>
                  </a:lnTo>
                  <a:lnTo>
                    <a:pt x="482" y="601"/>
                  </a:lnTo>
                  <a:lnTo>
                    <a:pt x="517" y="606"/>
                  </a:lnTo>
                  <a:lnTo>
                    <a:pt x="559" y="612"/>
                  </a:lnTo>
                  <a:lnTo>
                    <a:pt x="603" y="618"/>
                  </a:lnTo>
                  <a:lnTo>
                    <a:pt x="648" y="624"/>
                  </a:lnTo>
                  <a:lnTo>
                    <a:pt x="686" y="631"/>
                  </a:lnTo>
                  <a:lnTo>
                    <a:pt x="715" y="637"/>
                  </a:lnTo>
                  <a:lnTo>
                    <a:pt x="725" y="639"/>
                  </a:lnTo>
                  <a:lnTo>
                    <a:pt x="732" y="640"/>
                  </a:lnTo>
                  <a:lnTo>
                    <a:pt x="735" y="642"/>
                  </a:lnTo>
                  <a:lnTo>
                    <a:pt x="736" y="643"/>
                  </a:lnTo>
                  <a:lnTo>
                    <a:pt x="736" y="644"/>
                  </a:lnTo>
                  <a:lnTo>
                    <a:pt x="735" y="644"/>
                  </a:lnTo>
                  <a:lnTo>
                    <a:pt x="726" y="656"/>
                  </a:lnTo>
                  <a:lnTo>
                    <a:pt x="719" y="671"/>
                  </a:lnTo>
                  <a:lnTo>
                    <a:pt x="713" y="686"/>
                  </a:lnTo>
                  <a:lnTo>
                    <a:pt x="708" y="702"/>
                  </a:lnTo>
                  <a:lnTo>
                    <a:pt x="704" y="719"/>
                  </a:lnTo>
                  <a:lnTo>
                    <a:pt x="702" y="738"/>
                  </a:lnTo>
                  <a:lnTo>
                    <a:pt x="699" y="755"/>
                  </a:lnTo>
                  <a:lnTo>
                    <a:pt x="698" y="773"/>
                  </a:lnTo>
                  <a:lnTo>
                    <a:pt x="698" y="791"/>
                  </a:lnTo>
                  <a:lnTo>
                    <a:pt x="698" y="808"/>
                  </a:lnTo>
                  <a:lnTo>
                    <a:pt x="699" y="824"/>
                  </a:lnTo>
                  <a:lnTo>
                    <a:pt x="702" y="837"/>
                  </a:lnTo>
                  <a:lnTo>
                    <a:pt x="704" y="851"/>
                  </a:lnTo>
                  <a:lnTo>
                    <a:pt x="709" y="861"/>
                  </a:lnTo>
                  <a:lnTo>
                    <a:pt x="713" y="869"/>
                  </a:lnTo>
                  <a:lnTo>
                    <a:pt x="718" y="875"/>
                  </a:lnTo>
                  <a:lnTo>
                    <a:pt x="723" y="883"/>
                  </a:lnTo>
                  <a:lnTo>
                    <a:pt x="729" y="894"/>
                  </a:lnTo>
                  <a:lnTo>
                    <a:pt x="736" y="909"/>
                  </a:lnTo>
                  <a:lnTo>
                    <a:pt x="744" y="928"/>
                  </a:lnTo>
                  <a:lnTo>
                    <a:pt x="762" y="973"/>
                  </a:lnTo>
                  <a:lnTo>
                    <a:pt x="783" y="1021"/>
                  </a:lnTo>
                  <a:lnTo>
                    <a:pt x="794" y="1044"/>
                  </a:lnTo>
                  <a:lnTo>
                    <a:pt x="805" y="1067"/>
                  </a:lnTo>
                  <a:lnTo>
                    <a:pt x="816" y="1088"/>
                  </a:lnTo>
                  <a:lnTo>
                    <a:pt x="828" y="1107"/>
                  </a:lnTo>
                  <a:lnTo>
                    <a:pt x="833" y="1114"/>
                  </a:lnTo>
                  <a:lnTo>
                    <a:pt x="840" y="1121"/>
                  </a:lnTo>
                  <a:lnTo>
                    <a:pt x="844" y="1128"/>
                  </a:lnTo>
                  <a:lnTo>
                    <a:pt x="851" y="1132"/>
                  </a:lnTo>
                  <a:lnTo>
                    <a:pt x="856" y="1136"/>
                  </a:lnTo>
                  <a:lnTo>
                    <a:pt x="860" y="1139"/>
                  </a:lnTo>
                  <a:lnTo>
                    <a:pt x="865" y="1140"/>
                  </a:lnTo>
                  <a:lnTo>
                    <a:pt x="870" y="1139"/>
                  </a:lnTo>
                  <a:lnTo>
                    <a:pt x="875" y="1139"/>
                  </a:lnTo>
                  <a:lnTo>
                    <a:pt x="879" y="1139"/>
                  </a:lnTo>
                  <a:lnTo>
                    <a:pt x="881" y="1139"/>
                  </a:lnTo>
                  <a:lnTo>
                    <a:pt x="884" y="1140"/>
                  </a:lnTo>
                  <a:lnTo>
                    <a:pt x="886" y="1142"/>
                  </a:lnTo>
                  <a:lnTo>
                    <a:pt x="887" y="1145"/>
                  </a:lnTo>
                  <a:lnTo>
                    <a:pt x="889" y="1147"/>
                  </a:lnTo>
                  <a:lnTo>
                    <a:pt x="889" y="1151"/>
                  </a:lnTo>
                  <a:lnTo>
                    <a:pt x="887" y="1160"/>
                  </a:lnTo>
                  <a:lnTo>
                    <a:pt x="885" y="1169"/>
                  </a:lnTo>
                  <a:lnTo>
                    <a:pt x="881" y="1179"/>
                  </a:lnTo>
                  <a:lnTo>
                    <a:pt x="878" y="1192"/>
                  </a:lnTo>
                  <a:lnTo>
                    <a:pt x="868" y="1214"/>
                  </a:lnTo>
                  <a:lnTo>
                    <a:pt x="857" y="1233"/>
                  </a:lnTo>
                  <a:lnTo>
                    <a:pt x="849" y="1248"/>
                  </a:lnTo>
                  <a:lnTo>
                    <a:pt x="846" y="1253"/>
                  </a:lnTo>
                  <a:lnTo>
                    <a:pt x="837" y="1263"/>
                  </a:lnTo>
                  <a:lnTo>
                    <a:pt x="828" y="1273"/>
                  </a:lnTo>
                  <a:lnTo>
                    <a:pt x="822" y="1281"/>
                  </a:lnTo>
                  <a:lnTo>
                    <a:pt x="817" y="1290"/>
                  </a:lnTo>
                  <a:lnTo>
                    <a:pt x="815" y="1299"/>
                  </a:lnTo>
                  <a:lnTo>
                    <a:pt x="811" y="1307"/>
                  </a:lnTo>
                  <a:lnTo>
                    <a:pt x="810" y="1315"/>
                  </a:lnTo>
                  <a:lnTo>
                    <a:pt x="809" y="1322"/>
                  </a:lnTo>
                  <a:lnTo>
                    <a:pt x="810" y="1333"/>
                  </a:lnTo>
                  <a:lnTo>
                    <a:pt x="811" y="1343"/>
                  </a:lnTo>
                  <a:lnTo>
                    <a:pt x="812" y="1349"/>
                  </a:lnTo>
                  <a:lnTo>
                    <a:pt x="814" y="1351"/>
                  </a:lnTo>
                  <a:lnTo>
                    <a:pt x="810" y="1350"/>
                  </a:lnTo>
                  <a:lnTo>
                    <a:pt x="801" y="1348"/>
                  </a:lnTo>
                  <a:lnTo>
                    <a:pt x="788" y="1344"/>
                  </a:lnTo>
                  <a:lnTo>
                    <a:pt x="769" y="1340"/>
                  </a:lnTo>
                  <a:lnTo>
                    <a:pt x="746" y="1335"/>
                  </a:lnTo>
                  <a:lnTo>
                    <a:pt x="718" y="1332"/>
                  </a:lnTo>
                  <a:lnTo>
                    <a:pt x="687" y="1327"/>
                  </a:lnTo>
                  <a:lnTo>
                    <a:pt x="653" y="1323"/>
                  </a:lnTo>
                  <a:lnTo>
                    <a:pt x="617" y="1321"/>
                  </a:lnTo>
                  <a:lnTo>
                    <a:pt x="581" y="1319"/>
                  </a:lnTo>
                  <a:lnTo>
                    <a:pt x="545" y="1319"/>
                  </a:lnTo>
                  <a:lnTo>
                    <a:pt x="510" y="1321"/>
                  </a:lnTo>
                  <a:lnTo>
                    <a:pt x="473" y="1323"/>
                  </a:lnTo>
                  <a:lnTo>
                    <a:pt x="432" y="1327"/>
                  </a:lnTo>
                  <a:lnTo>
                    <a:pt x="389" y="1331"/>
                  </a:lnTo>
                  <a:lnTo>
                    <a:pt x="341" y="1334"/>
                  </a:lnTo>
                  <a:lnTo>
                    <a:pt x="324" y="1335"/>
                  </a:lnTo>
                  <a:lnTo>
                    <a:pt x="308" y="1337"/>
                  </a:lnTo>
                  <a:lnTo>
                    <a:pt x="292" y="1335"/>
                  </a:lnTo>
                  <a:lnTo>
                    <a:pt x="276" y="1334"/>
                  </a:lnTo>
                  <a:lnTo>
                    <a:pt x="260" y="1333"/>
                  </a:lnTo>
                  <a:lnTo>
                    <a:pt x="244" y="1331"/>
                  </a:lnTo>
                  <a:lnTo>
                    <a:pt x="229" y="1327"/>
                  </a:lnTo>
                  <a:lnTo>
                    <a:pt x="215" y="1323"/>
                  </a:lnTo>
                  <a:lnTo>
                    <a:pt x="200" y="1318"/>
                  </a:lnTo>
                  <a:lnTo>
                    <a:pt x="185" y="1312"/>
                  </a:lnTo>
                  <a:lnTo>
                    <a:pt x="171" y="1306"/>
                  </a:lnTo>
                  <a:lnTo>
                    <a:pt x="158" y="1300"/>
                  </a:lnTo>
                  <a:lnTo>
                    <a:pt x="144" y="1292"/>
                  </a:lnTo>
                  <a:lnTo>
                    <a:pt x="132" y="1284"/>
                  </a:lnTo>
                  <a:lnTo>
                    <a:pt x="120" y="1275"/>
                  </a:lnTo>
                  <a:lnTo>
                    <a:pt x="108" y="1265"/>
                  </a:lnTo>
                  <a:lnTo>
                    <a:pt x="96" y="1255"/>
                  </a:lnTo>
                  <a:lnTo>
                    <a:pt x="85" y="1244"/>
                  </a:lnTo>
                  <a:lnTo>
                    <a:pt x="76" y="1233"/>
                  </a:lnTo>
                  <a:lnTo>
                    <a:pt x="66" y="1222"/>
                  </a:lnTo>
                  <a:lnTo>
                    <a:pt x="56" y="1209"/>
                  </a:lnTo>
                  <a:lnTo>
                    <a:pt x="48" y="1196"/>
                  </a:lnTo>
                  <a:lnTo>
                    <a:pt x="40" y="1183"/>
                  </a:lnTo>
                  <a:lnTo>
                    <a:pt x="32" y="1168"/>
                  </a:lnTo>
                  <a:lnTo>
                    <a:pt x="26" y="1153"/>
                  </a:lnTo>
                  <a:lnTo>
                    <a:pt x="20" y="1139"/>
                  </a:lnTo>
                  <a:lnTo>
                    <a:pt x="15" y="1123"/>
                  </a:lnTo>
                  <a:lnTo>
                    <a:pt x="10" y="1107"/>
                  </a:lnTo>
                  <a:lnTo>
                    <a:pt x="7" y="1089"/>
                  </a:lnTo>
                  <a:lnTo>
                    <a:pt x="4" y="1072"/>
                  </a:lnTo>
                  <a:lnTo>
                    <a:pt x="2" y="1054"/>
                  </a:lnTo>
                  <a:lnTo>
                    <a:pt x="0" y="1035"/>
                  </a:lnTo>
                  <a:lnTo>
                    <a:pt x="0" y="1013"/>
                  </a:lnTo>
                  <a:lnTo>
                    <a:pt x="2" y="990"/>
                  </a:lnTo>
                  <a:lnTo>
                    <a:pt x="3" y="968"/>
                  </a:lnTo>
                  <a:lnTo>
                    <a:pt x="5" y="946"/>
                  </a:lnTo>
                  <a:lnTo>
                    <a:pt x="8" y="925"/>
                  </a:lnTo>
                  <a:lnTo>
                    <a:pt x="12" y="902"/>
                  </a:lnTo>
                  <a:lnTo>
                    <a:pt x="16" y="882"/>
                  </a:lnTo>
                  <a:lnTo>
                    <a:pt x="21" y="861"/>
                  </a:lnTo>
                  <a:lnTo>
                    <a:pt x="31" y="820"/>
                  </a:lnTo>
                  <a:lnTo>
                    <a:pt x="45" y="782"/>
                  </a:lnTo>
                  <a:lnTo>
                    <a:pt x="58" y="745"/>
                  </a:lnTo>
                  <a:lnTo>
                    <a:pt x="74" y="709"/>
                  </a:lnTo>
                  <a:lnTo>
                    <a:pt x="89" y="676"/>
                  </a:lnTo>
                  <a:lnTo>
                    <a:pt x="106" y="645"/>
                  </a:lnTo>
                  <a:lnTo>
                    <a:pt x="122" y="616"/>
                  </a:lnTo>
                  <a:lnTo>
                    <a:pt x="138" y="590"/>
                  </a:lnTo>
                  <a:lnTo>
                    <a:pt x="168" y="545"/>
                  </a:lnTo>
                  <a:lnTo>
                    <a:pt x="191" y="511"/>
                  </a:lnTo>
                  <a:lnTo>
                    <a:pt x="202" y="497"/>
                  </a:lnTo>
                  <a:lnTo>
                    <a:pt x="213" y="477"/>
                  </a:lnTo>
                  <a:lnTo>
                    <a:pt x="227" y="454"/>
                  </a:lnTo>
                  <a:lnTo>
                    <a:pt x="240" y="428"/>
                  </a:lnTo>
                  <a:lnTo>
                    <a:pt x="270" y="366"/>
                  </a:lnTo>
                  <a:lnTo>
                    <a:pt x="302" y="299"/>
                  </a:lnTo>
                  <a:lnTo>
                    <a:pt x="335" y="227"/>
                  </a:lnTo>
                  <a:lnTo>
                    <a:pt x="366" y="155"/>
                  </a:lnTo>
                  <a:lnTo>
                    <a:pt x="394" y="86"/>
                  </a:lnTo>
                  <a:lnTo>
                    <a:pt x="420" y="23"/>
                  </a:lnTo>
                  <a:lnTo>
                    <a:pt x="422" y="17"/>
                  </a:lnTo>
                  <a:lnTo>
                    <a:pt x="427" y="12"/>
                  </a:lnTo>
                  <a:lnTo>
                    <a:pt x="432" y="7"/>
                  </a:lnTo>
                  <a:lnTo>
                    <a:pt x="438" y="3"/>
                  </a:lnTo>
                  <a:lnTo>
                    <a:pt x="445" y="1"/>
                  </a:lnTo>
                  <a:lnTo>
                    <a:pt x="452" y="0"/>
                  </a:lnTo>
                  <a:lnTo>
                    <a:pt x="459" y="1"/>
                  </a:lnTo>
                  <a:lnTo>
                    <a:pt x="467" y="2"/>
                  </a:lnTo>
                  <a:lnTo>
                    <a:pt x="474" y="6"/>
                  </a:lnTo>
                  <a:lnTo>
                    <a:pt x="482" y="12"/>
                  </a:lnTo>
                  <a:lnTo>
                    <a:pt x="489" y="19"/>
                  </a:lnTo>
                  <a:lnTo>
                    <a:pt x="496" y="29"/>
                  </a:lnTo>
                  <a:lnTo>
                    <a:pt x="502" y="41"/>
                  </a:lnTo>
                  <a:lnTo>
                    <a:pt x="507" y="57"/>
                  </a:lnTo>
                  <a:lnTo>
                    <a:pt x="511" y="75"/>
                  </a:lnTo>
                  <a:lnTo>
                    <a:pt x="515" y="96"/>
                  </a:lnTo>
                  <a:close/>
                </a:path>
              </a:pathLst>
            </a:custGeom>
            <a:solidFill>
              <a:srgbClr val="62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6599160" y="2262240"/>
              <a:ext cx="266760" cy="412920"/>
            </a:xfrm>
            <a:custGeom>
              <a:avLst/>
              <a:gdLst/>
              <a:ahLst/>
              <a:rect l="l" t="t" r="r" b="b"/>
              <a:pathLst>
                <a:path w="841" h="1301">
                  <a:moveTo>
                    <a:pt x="467" y="96"/>
                  </a:moveTo>
                  <a:lnTo>
                    <a:pt x="472" y="141"/>
                  </a:lnTo>
                  <a:lnTo>
                    <a:pt x="478" y="187"/>
                  </a:lnTo>
                  <a:lnTo>
                    <a:pt x="484" y="232"/>
                  </a:lnTo>
                  <a:lnTo>
                    <a:pt x="491" y="275"/>
                  </a:lnTo>
                  <a:lnTo>
                    <a:pt x="497" y="312"/>
                  </a:lnTo>
                  <a:lnTo>
                    <a:pt x="500" y="341"/>
                  </a:lnTo>
                  <a:lnTo>
                    <a:pt x="504" y="360"/>
                  </a:lnTo>
                  <a:lnTo>
                    <a:pt x="505" y="368"/>
                  </a:lnTo>
                  <a:lnTo>
                    <a:pt x="505" y="380"/>
                  </a:lnTo>
                  <a:lnTo>
                    <a:pt x="504" y="392"/>
                  </a:lnTo>
                  <a:lnTo>
                    <a:pt x="503" y="397"/>
                  </a:lnTo>
                  <a:lnTo>
                    <a:pt x="500" y="403"/>
                  </a:lnTo>
                  <a:lnTo>
                    <a:pt x="497" y="408"/>
                  </a:lnTo>
                  <a:lnTo>
                    <a:pt x="493" y="412"/>
                  </a:lnTo>
                  <a:lnTo>
                    <a:pt x="488" y="416"/>
                  </a:lnTo>
                  <a:lnTo>
                    <a:pt x="483" y="418"/>
                  </a:lnTo>
                  <a:lnTo>
                    <a:pt x="476" y="419"/>
                  </a:lnTo>
                  <a:lnTo>
                    <a:pt x="468" y="419"/>
                  </a:lnTo>
                  <a:lnTo>
                    <a:pt x="460" y="419"/>
                  </a:lnTo>
                  <a:lnTo>
                    <a:pt x="451" y="417"/>
                  </a:lnTo>
                  <a:lnTo>
                    <a:pt x="440" y="413"/>
                  </a:lnTo>
                  <a:lnTo>
                    <a:pt x="429" y="408"/>
                  </a:lnTo>
                  <a:lnTo>
                    <a:pt x="416" y="403"/>
                  </a:lnTo>
                  <a:lnTo>
                    <a:pt x="403" y="400"/>
                  </a:lnTo>
                  <a:lnTo>
                    <a:pt x="391" y="398"/>
                  </a:lnTo>
                  <a:lnTo>
                    <a:pt x="380" y="398"/>
                  </a:lnTo>
                  <a:lnTo>
                    <a:pt x="368" y="401"/>
                  </a:lnTo>
                  <a:lnTo>
                    <a:pt x="357" y="405"/>
                  </a:lnTo>
                  <a:lnTo>
                    <a:pt x="345" y="408"/>
                  </a:lnTo>
                  <a:lnTo>
                    <a:pt x="336" y="414"/>
                  </a:lnTo>
                  <a:lnTo>
                    <a:pt x="326" y="421"/>
                  </a:lnTo>
                  <a:lnTo>
                    <a:pt x="317" y="429"/>
                  </a:lnTo>
                  <a:lnTo>
                    <a:pt x="309" y="437"/>
                  </a:lnTo>
                  <a:lnTo>
                    <a:pt x="301" y="445"/>
                  </a:lnTo>
                  <a:lnTo>
                    <a:pt x="294" y="455"/>
                  </a:lnTo>
                  <a:lnTo>
                    <a:pt x="289" y="465"/>
                  </a:lnTo>
                  <a:lnTo>
                    <a:pt x="284" y="475"/>
                  </a:lnTo>
                  <a:lnTo>
                    <a:pt x="279" y="484"/>
                  </a:lnTo>
                  <a:lnTo>
                    <a:pt x="273" y="504"/>
                  </a:lnTo>
                  <a:lnTo>
                    <a:pt x="270" y="523"/>
                  </a:lnTo>
                  <a:lnTo>
                    <a:pt x="270" y="531"/>
                  </a:lnTo>
                  <a:lnTo>
                    <a:pt x="270" y="540"/>
                  </a:lnTo>
                  <a:lnTo>
                    <a:pt x="272" y="547"/>
                  </a:lnTo>
                  <a:lnTo>
                    <a:pt x="274" y="555"/>
                  </a:lnTo>
                  <a:lnTo>
                    <a:pt x="278" y="561"/>
                  </a:lnTo>
                  <a:lnTo>
                    <a:pt x="283" y="567"/>
                  </a:lnTo>
                  <a:lnTo>
                    <a:pt x="288" y="572"/>
                  </a:lnTo>
                  <a:lnTo>
                    <a:pt x="295" y="577"/>
                  </a:lnTo>
                  <a:lnTo>
                    <a:pt x="304" y="580"/>
                  </a:lnTo>
                  <a:lnTo>
                    <a:pt x="313" y="583"/>
                  </a:lnTo>
                  <a:lnTo>
                    <a:pt x="323" y="584"/>
                  </a:lnTo>
                  <a:lnTo>
                    <a:pt x="337" y="584"/>
                  </a:lnTo>
                  <a:lnTo>
                    <a:pt x="348" y="582"/>
                  </a:lnTo>
                  <a:lnTo>
                    <a:pt x="357" y="579"/>
                  </a:lnTo>
                  <a:lnTo>
                    <a:pt x="365" y="578"/>
                  </a:lnTo>
                  <a:lnTo>
                    <a:pt x="373" y="576"/>
                  </a:lnTo>
                  <a:lnTo>
                    <a:pt x="381" y="574"/>
                  </a:lnTo>
                  <a:lnTo>
                    <a:pt x="393" y="574"/>
                  </a:lnTo>
                  <a:lnTo>
                    <a:pt x="408" y="576"/>
                  </a:lnTo>
                  <a:lnTo>
                    <a:pt x="429" y="579"/>
                  </a:lnTo>
                  <a:lnTo>
                    <a:pt x="465" y="584"/>
                  </a:lnTo>
                  <a:lnTo>
                    <a:pt x="505" y="589"/>
                  </a:lnTo>
                  <a:lnTo>
                    <a:pt x="547" y="595"/>
                  </a:lnTo>
                  <a:lnTo>
                    <a:pt x="588" y="601"/>
                  </a:lnTo>
                  <a:lnTo>
                    <a:pt x="622" y="607"/>
                  </a:lnTo>
                  <a:lnTo>
                    <a:pt x="651" y="614"/>
                  </a:lnTo>
                  <a:lnTo>
                    <a:pt x="660" y="616"/>
                  </a:lnTo>
                  <a:lnTo>
                    <a:pt x="667" y="619"/>
                  </a:lnTo>
                  <a:lnTo>
                    <a:pt x="670" y="621"/>
                  </a:lnTo>
                  <a:lnTo>
                    <a:pt x="670" y="622"/>
                  </a:lnTo>
                  <a:lnTo>
                    <a:pt x="664" y="646"/>
                  </a:lnTo>
                  <a:lnTo>
                    <a:pt x="658" y="675"/>
                  </a:lnTo>
                  <a:lnTo>
                    <a:pt x="652" y="708"/>
                  </a:lnTo>
                  <a:lnTo>
                    <a:pt x="648" y="744"/>
                  </a:lnTo>
                  <a:lnTo>
                    <a:pt x="647" y="761"/>
                  </a:lnTo>
                  <a:lnTo>
                    <a:pt x="646" y="777"/>
                  </a:lnTo>
                  <a:lnTo>
                    <a:pt x="647" y="793"/>
                  </a:lnTo>
                  <a:lnTo>
                    <a:pt x="648" y="807"/>
                  </a:lnTo>
                  <a:lnTo>
                    <a:pt x="651" y="819"/>
                  </a:lnTo>
                  <a:lnTo>
                    <a:pt x="654" y="830"/>
                  </a:lnTo>
                  <a:lnTo>
                    <a:pt x="655" y="834"/>
                  </a:lnTo>
                  <a:lnTo>
                    <a:pt x="659" y="837"/>
                  </a:lnTo>
                  <a:lnTo>
                    <a:pt x="662" y="840"/>
                  </a:lnTo>
                  <a:lnTo>
                    <a:pt x="665" y="842"/>
                  </a:lnTo>
                  <a:lnTo>
                    <a:pt x="670" y="849"/>
                  </a:lnTo>
                  <a:lnTo>
                    <a:pt x="678" y="860"/>
                  </a:lnTo>
                  <a:lnTo>
                    <a:pt x="685" y="874"/>
                  </a:lnTo>
                  <a:lnTo>
                    <a:pt x="695" y="893"/>
                  </a:lnTo>
                  <a:lnTo>
                    <a:pt x="715" y="937"/>
                  </a:lnTo>
                  <a:lnTo>
                    <a:pt x="737" y="985"/>
                  </a:lnTo>
                  <a:lnTo>
                    <a:pt x="748" y="1010"/>
                  </a:lnTo>
                  <a:lnTo>
                    <a:pt x="759" y="1033"/>
                  </a:lnTo>
                  <a:lnTo>
                    <a:pt x="771" y="1054"/>
                  </a:lnTo>
                  <a:lnTo>
                    <a:pt x="782" y="1072"/>
                  </a:lnTo>
                  <a:lnTo>
                    <a:pt x="793" y="1088"/>
                  </a:lnTo>
                  <a:lnTo>
                    <a:pt x="804" y="1099"/>
                  </a:lnTo>
                  <a:lnTo>
                    <a:pt x="811" y="1103"/>
                  </a:lnTo>
                  <a:lnTo>
                    <a:pt x="815" y="1106"/>
                  </a:lnTo>
                  <a:lnTo>
                    <a:pt x="820" y="1107"/>
                  </a:lnTo>
                  <a:lnTo>
                    <a:pt x="825" y="1106"/>
                  </a:lnTo>
                  <a:lnTo>
                    <a:pt x="830" y="1106"/>
                  </a:lnTo>
                  <a:lnTo>
                    <a:pt x="834" y="1104"/>
                  </a:lnTo>
                  <a:lnTo>
                    <a:pt x="836" y="1106"/>
                  </a:lnTo>
                  <a:lnTo>
                    <a:pt x="839" y="1107"/>
                  </a:lnTo>
                  <a:lnTo>
                    <a:pt x="840" y="1108"/>
                  </a:lnTo>
                  <a:lnTo>
                    <a:pt x="841" y="1111"/>
                  </a:lnTo>
                  <a:lnTo>
                    <a:pt x="841" y="1114"/>
                  </a:lnTo>
                  <a:lnTo>
                    <a:pt x="841" y="1117"/>
                  </a:lnTo>
                  <a:lnTo>
                    <a:pt x="839" y="1125"/>
                  </a:lnTo>
                  <a:lnTo>
                    <a:pt x="835" y="1134"/>
                  </a:lnTo>
                  <a:lnTo>
                    <a:pt x="830" y="1145"/>
                  </a:lnTo>
                  <a:lnTo>
                    <a:pt x="824" y="1155"/>
                  </a:lnTo>
                  <a:lnTo>
                    <a:pt x="812" y="1177"/>
                  </a:lnTo>
                  <a:lnTo>
                    <a:pt x="798" y="1195"/>
                  </a:lnTo>
                  <a:lnTo>
                    <a:pt x="788" y="1209"/>
                  </a:lnTo>
                  <a:lnTo>
                    <a:pt x="785" y="1215"/>
                  </a:lnTo>
                  <a:lnTo>
                    <a:pt x="775" y="1224"/>
                  </a:lnTo>
                  <a:lnTo>
                    <a:pt x="766" y="1234"/>
                  </a:lnTo>
                  <a:lnTo>
                    <a:pt x="760" y="1242"/>
                  </a:lnTo>
                  <a:lnTo>
                    <a:pt x="755" y="1250"/>
                  </a:lnTo>
                  <a:lnTo>
                    <a:pt x="751" y="1258"/>
                  </a:lnTo>
                  <a:lnTo>
                    <a:pt x="749" y="1264"/>
                  </a:lnTo>
                  <a:lnTo>
                    <a:pt x="747" y="1272"/>
                  </a:lnTo>
                  <a:lnTo>
                    <a:pt x="745" y="1278"/>
                  </a:lnTo>
                  <a:lnTo>
                    <a:pt x="745" y="1288"/>
                  </a:lnTo>
                  <a:lnTo>
                    <a:pt x="747" y="1295"/>
                  </a:lnTo>
                  <a:lnTo>
                    <a:pt x="749" y="1300"/>
                  </a:lnTo>
                  <a:lnTo>
                    <a:pt x="749" y="1301"/>
                  </a:lnTo>
                  <a:lnTo>
                    <a:pt x="747" y="1301"/>
                  </a:lnTo>
                  <a:lnTo>
                    <a:pt x="737" y="1299"/>
                  </a:lnTo>
                  <a:lnTo>
                    <a:pt x="723" y="1296"/>
                  </a:lnTo>
                  <a:lnTo>
                    <a:pt x="705" y="1293"/>
                  </a:lnTo>
                  <a:lnTo>
                    <a:pt x="683" y="1289"/>
                  </a:lnTo>
                  <a:lnTo>
                    <a:pt x="658" y="1284"/>
                  </a:lnTo>
                  <a:lnTo>
                    <a:pt x="631" y="1280"/>
                  </a:lnTo>
                  <a:lnTo>
                    <a:pt x="603" y="1277"/>
                  </a:lnTo>
                  <a:lnTo>
                    <a:pt x="572" y="1274"/>
                  </a:lnTo>
                  <a:lnTo>
                    <a:pt x="540" y="1272"/>
                  </a:lnTo>
                  <a:lnTo>
                    <a:pt x="508" y="1272"/>
                  </a:lnTo>
                  <a:lnTo>
                    <a:pt x="475" y="1272"/>
                  </a:lnTo>
                  <a:lnTo>
                    <a:pt x="439" y="1273"/>
                  </a:lnTo>
                  <a:lnTo>
                    <a:pt x="402" y="1275"/>
                  </a:lnTo>
                  <a:lnTo>
                    <a:pt x="361" y="1279"/>
                  </a:lnTo>
                  <a:lnTo>
                    <a:pt x="317" y="1283"/>
                  </a:lnTo>
                  <a:lnTo>
                    <a:pt x="301" y="1284"/>
                  </a:lnTo>
                  <a:lnTo>
                    <a:pt x="285" y="1284"/>
                  </a:lnTo>
                  <a:lnTo>
                    <a:pt x="269" y="1284"/>
                  </a:lnTo>
                  <a:lnTo>
                    <a:pt x="253" y="1283"/>
                  </a:lnTo>
                  <a:lnTo>
                    <a:pt x="237" y="1280"/>
                  </a:lnTo>
                  <a:lnTo>
                    <a:pt x="222" y="1278"/>
                  </a:lnTo>
                  <a:lnTo>
                    <a:pt x="208" y="1275"/>
                  </a:lnTo>
                  <a:lnTo>
                    <a:pt x="194" y="1270"/>
                  </a:lnTo>
                  <a:lnTo>
                    <a:pt x="179" y="1267"/>
                  </a:lnTo>
                  <a:lnTo>
                    <a:pt x="166" y="1261"/>
                  </a:lnTo>
                  <a:lnTo>
                    <a:pt x="152" y="1256"/>
                  </a:lnTo>
                  <a:lnTo>
                    <a:pt x="140" y="1248"/>
                  </a:lnTo>
                  <a:lnTo>
                    <a:pt x="128" y="1241"/>
                  </a:lnTo>
                  <a:lnTo>
                    <a:pt x="115" y="1234"/>
                  </a:lnTo>
                  <a:lnTo>
                    <a:pt x="104" y="1225"/>
                  </a:lnTo>
                  <a:lnTo>
                    <a:pt x="93" y="1216"/>
                  </a:lnTo>
                  <a:lnTo>
                    <a:pt x="83" y="1206"/>
                  </a:lnTo>
                  <a:lnTo>
                    <a:pt x="72" y="1197"/>
                  </a:lnTo>
                  <a:lnTo>
                    <a:pt x="64" y="1186"/>
                  </a:lnTo>
                  <a:lnTo>
                    <a:pt x="55" y="1175"/>
                  </a:lnTo>
                  <a:lnTo>
                    <a:pt x="47" y="1163"/>
                  </a:lnTo>
                  <a:lnTo>
                    <a:pt x="39" y="1151"/>
                  </a:lnTo>
                  <a:lnTo>
                    <a:pt x="32" y="1139"/>
                  </a:lnTo>
                  <a:lnTo>
                    <a:pt x="26" y="1125"/>
                  </a:lnTo>
                  <a:lnTo>
                    <a:pt x="19" y="1112"/>
                  </a:lnTo>
                  <a:lnTo>
                    <a:pt x="15" y="1098"/>
                  </a:lnTo>
                  <a:lnTo>
                    <a:pt x="11" y="1083"/>
                  </a:lnTo>
                  <a:lnTo>
                    <a:pt x="7" y="1069"/>
                  </a:lnTo>
                  <a:lnTo>
                    <a:pt x="3" y="1054"/>
                  </a:lnTo>
                  <a:lnTo>
                    <a:pt x="1" y="1038"/>
                  </a:lnTo>
                  <a:lnTo>
                    <a:pt x="0" y="1022"/>
                  </a:lnTo>
                  <a:lnTo>
                    <a:pt x="0" y="1006"/>
                  </a:lnTo>
                  <a:lnTo>
                    <a:pt x="1" y="960"/>
                  </a:lnTo>
                  <a:lnTo>
                    <a:pt x="5" y="917"/>
                  </a:lnTo>
                  <a:lnTo>
                    <a:pt x="11" y="876"/>
                  </a:lnTo>
                  <a:lnTo>
                    <a:pt x="19" y="835"/>
                  </a:lnTo>
                  <a:lnTo>
                    <a:pt x="28" y="796"/>
                  </a:lnTo>
                  <a:lnTo>
                    <a:pt x="39" y="758"/>
                  </a:lnTo>
                  <a:lnTo>
                    <a:pt x="50" y="722"/>
                  </a:lnTo>
                  <a:lnTo>
                    <a:pt x="63" y="689"/>
                  </a:lnTo>
                  <a:lnTo>
                    <a:pt x="76" y="657"/>
                  </a:lnTo>
                  <a:lnTo>
                    <a:pt x="90" y="627"/>
                  </a:lnTo>
                  <a:lnTo>
                    <a:pt x="102" y="599"/>
                  </a:lnTo>
                  <a:lnTo>
                    <a:pt x="115" y="574"/>
                  </a:lnTo>
                  <a:lnTo>
                    <a:pt x="129" y="551"/>
                  </a:lnTo>
                  <a:lnTo>
                    <a:pt x="141" y="530"/>
                  </a:lnTo>
                  <a:lnTo>
                    <a:pt x="152" y="513"/>
                  </a:lnTo>
                  <a:lnTo>
                    <a:pt x="162" y="498"/>
                  </a:lnTo>
                  <a:lnTo>
                    <a:pt x="173" y="482"/>
                  </a:lnTo>
                  <a:lnTo>
                    <a:pt x="186" y="464"/>
                  </a:lnTo>
                  <a:lnTo>
                    <a:pt x="198" y="440"/>
                  </a:lnTo>
                  <a:lnTo>
                    <a:pt x="210" y="416"/>
                  </a:lnTo>
                  <a:lnTo>
                    <a:pt x="238" y="357"/>
                  </a:lnTo>
                  <a:lnTo>
                    <a:pt x="268" y="291"/>
                  </a:lnTo>
                  <a:lnTo>
                    <a:pt x="297" y="222"/>
                  </a:lnTo>
                  <a:lnTo>
                    <a:pt x="327" y="152"/>
                  </a:lnTo>
                  <a:lnTo>
                    <a:pt x="355" y="85"/>
                  </a:lnTo>
                  <a:lnTo>
                    <a:pt x="380" y="22"/>
                  </a:lnTo>
                  <a:lnTo>
                    <a:pt x="382" y="16"/>
                  </a:lnTo>
                  <a:lnTo>
                    <a:pt x="387" y="11"/>
                  </a:lnTo>
                  <a:lnTo>
                    <a:pt x="392" y="7"/>
                  </a:lnTo>
                  <a:lnTo>
                    <a:pt x="397" y="4"/>
                  </a:lnTo>
                  <a:lnTo>
                    <a:pt x="403" y="1"/>
                  </a:lnTo>
                  <a:lnTo>
                    <a:pt x="409" y="0"/>
                  </a:lnTo>
                  <a:lnTo>
                    <a:pt x="417" y="1"/>
                  </a:lnTo>
                  <a:lnTo>
                    <a:pt x="423" y="2"/>
                  </a:lnTo>
                  <a:lnTo>
                    <a:pt x="430" y="7"/>
                  </a:lnTo>
                  <a:lnTo>
                    <a:pt x="437" y="12"/>
                  </a:lnTo>
                  <a:lnTo>
                    <a:pt x="444" y="21"/>
                  </a:lnTo>
                  <a:lnTo>
                    <a:pt x="449" y="31"/>
                  </a:lnTo>
                  <a:lnTo>
                    <a:pt x="455" y="43"/>
                  </a:lnTo>
                  <a:lnTo>
                    <a:pt x="460" y="58"/>
                  </a:lnTo>
                  <a:lnTo>
                    <a:pt x="464" y="75"/>
                  </a:lnTo>
                  <a:lnTo>
                    <a:pt x="467" y="96"/>
                  </a:lnTo>
                  <a:close/>
                </a:path>
              </a:pathLst>
            </a:custGeom>
            <a:solidFill>
              <a:srgbClr val="61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6613560" y="2273400"/>
              <a:ext cx="252360" cy="396720"/>
            </a:xfrm>
            <a:custGeom>
              <a:avLst/>
              <a:gdLst/>
              <a:ahLst/>
              <a:rect l="l" t="t" r="r" b="b"/>
              <a:pathLst>
                <a:path w="796" h="1250">
                  <a:moveTo>
                    <a:pt x="421" y="95"/>
                  </a:moveTo>
                  <a:lnTo>
                    <a:pt x="427" y="139"/>
                  </a:lnTo>
                  <a:lnTo>
                    <a:pt x="432" y="181"/>
                  </a:lnTo>
                  <a:lnTo>
                    <a:pt x="438" y="220"/>
                  </a:lnTo>
                  <a:lnTo>
                    <a:pt x="443" y="253"/>
                  </a:lnTo>
                  <a:lnTo>
                    <a:pt x="446" y="283"/>
                  </a:lnTo>
                  <a:lnTo>
                    <a:pt x="450" y="304"/>
                  </a:lnTo>
                  <a:lnTo>
                    <a:pt x="453" y="319"/>
                  </a:lnTo>
                  <a:lnTo>
                    <a:pt x="454" y="324"/>
                  </a:lnTo>
                  <a:lnTo>
                    <a:pt x="455" y="336"/>
                  </a:lnTo>
                  <a:lnTo>
                    <a:pt x="455" y="349"/>
                  </a:lnTo>
                  <a:lnTo>
                    <a:pt x="454" y="356"/>
                  </a:lnTo>
                  <a:lnTo>
                    <a:pt x="451" y="360"/>
                  </a:lnTo>
                  <a:lnTo>
                    <a:pt x="449" y="367"/>
                  </a:lnTo>
                  <a:lnTo>
                    <a:pt x="446" y="370"/>
                  </a:lnTo>
                  <a:lnTo>
                    <a:pt x="443" y="375"/>
                  </a:lnTo>
                  <a:lnTo>
                    <a:pt x="438" y="378"/>
                  </a:lnTo>
                  <a:lnTo>
                    <a:pt x="432" y="380"/>
                  </a:lnTo>
                  <a:lnTo>
                    <a:pt x="424" y="380"/>
                  </a:lnTo>
                  <a:lnTo>
                    <a:pt x="417" y="380"/>
                  </a:lnTo>
                  <a:lnTo>
                    <a:pt x="407" y="378"/>
                  </a:lnTo>
                  <a:lnTo>
                    <a:pt x="397" y="375"/>
                  </a:lnTo>
                  <a:lnTo>
                    <a:pt x="386" y="369"/>
                  </a:lnTo>
                  <a:lnTo>
                    <a:pt x="373" y="364"/>
                  </a:lnTo>
                  <a:lnTo>
                    <a:pt x="360" y="362"/>
                  </a:lnTo>
                  <a:lnTo>
                    <a:pt x="348" y="360"/>
                  </a:lnTo>
                  <a:lnTo>
                    <a:pt x="336" y="362"/>
                  </a:lnTo>
                  <a:lnTo>
                    <a:pt x="323" y="363"/>
                  </a:lnTo>
                  <a:lnTo>
                    <a:pt x="312" y="368"/>
                  </a:lnTo>
                  <a:lnTo>
                    <a:pt x="301" y="373"/>
                  </a:lnTo>
                  <a:lnTo>
                    <a:pt x="290" y="379"/>
                  </a:lnTo>
                  <a:lnTo>
                    <a:pt x="280" y="386"/>
                  </a:lnTo>
                  <a:lnTo>
                    <a:pt x="270" y="394"/>
                  </a:lnTo>
                  <a:lnTo>
                    <a:pt x="262" y="402"/>
                  </a:lnTo>
                  <a:lnTo>
                    <a:pt x="253" y="412"/>
                  </a:lnTo>
                  <a:lnTo>
                    <a:pt x="246" y="422"/>
                  </a:lnTo>
                  <a:lnTo>
                    <a:pt x="240" y="432"/>
                  </a:lnTo>
                  <a:lnTo>
                    <a:pt x="235" y="442"/>
                  </a:lnTo>
                  <a:lnTo>
                    <a:pt x="231" y="451"/>
                  </a:lnTo>
                  <a:lnTo>
                    <a:pt x="225" y="470"/>
                  </a:lnTo>
                  <a:lnTo>
                    <a:pt x="221" y="488"/>
                  </a:lnTo>
                  <a:lnTo>
                    <a:pt x="220" y="497"/>
                  </a:lnTo>
                  <a:lnTo>
                    <a:pt x="221" y="506"/>
                  </a:lnTo>
                  <a:lnTo>
                    <a:pt x="223" y="513"/>
                  </a:lnTo>
                  <a:lnTo>
                    <a:pt x="225" y="520"/>
                  </a:lnTo>
                  <a:lnTo>
                    <a:pt x="227" y="527"/>
                  </a:lnTo>
                  <a:lnTo>
                    <a:pt x="232" y="534"/>
                  </a:lnTo>
                  <a:lnTo>
                    <a:pt x="238" y="539"/>
                  </a:lnTo>
                  <a:lnTo>
                    <a:pt x="247" y="544"/>
                  </a:lnTo>
                  <a:lnTo>
                    <a:pt x="256" y="549"/>
                  </a:lnTo>
                  <a:lnTo>
                    <a:pt x="267" y="552"/>
                  </a:lnTo>
                  <a:lnTo>
                    <a:pt x="279" y="555"/>
                  </a:lnTo>
                  <a:lnTo>
                    <a:pt x="294" y="557"/>
                  </a:lnTo>
                  <a:lnTo>
                    <a:pt x="305" y="557"/>
                  </a:lnTo>
                  <a:lnTo>
                    <a:pt x="314" y="556"/>
                  </a:lnTo>
                  <a:lnTo>
                    <a:pt x="320" y="556"/>
                  </a:lnTo>
                  <a:lnTo>
                    <a:pt x="326" y="555"/>
                  </a:lnTo>
                  <a:lnTo>
                    <a:pt x="333" y="555"/>
                  </a:lnTo>
                  <a:lnTo>
                    <a:pt x="342" y="555"/>
                  </a:lnTo>
                  <a:lnTo>
                    <a:pt x="355" y="555"/>
                  </a:lnTo>
                  <a:lnTo>
                    <a:pt x="375" y="557"/>
                  </a:lnTo>
                  <a:lnTo>
                    <a:pt x="412" y="561"/>
                  </a:lnTo>
                  <a:lnTo>
                    <a:pt x="451" y="566"/>
                  </a:lnTo>
                  <a:lnTo>
                    <a:pt x="491" y="572"/>
                  </a:lnTo>
                  <a:lnTo>
                    <a:pt x="528" y="578"/>
                  </a:lnTo>
                  <a:lnTo>
                    <a:pt x="561" y="584"/>
                  </a:lnTo>
                  <a:lnTo>
                    <a:pt x="585" y="590"/>
                  </a:lnTo>
                  <a:lnTo>
                    <a:pt x="595" y="593"/>
                  </a:lnTo>
                  <a:lnTo>
                    <a:pt x="601" y="594"/>
                  </a:lnTo>
                  <a:lnTo>
                    <a:pt x="605" y="597"/>
                  </a:lnTo>
                  <a:lnTo>
                    <a:pt x="606" y="598"/>
                  </a:lnTo>
                  <a:lnTo>
                    <a:pt x="608" y="606"/>
                  </a:lnTo>
                  <a:lnTo>
                    <a:pt x="609" y="618"/>
                  </a:lnTo>
                  <a:lnTo>
                    <a:pt x="608" y="631"/>
                  </a:lnTo>
                  <a:lnTo>
                    <a:pt x="606" y="646"/>
                  </a:lnTo>
                  <a:lnTo>
                    <a:pt x="603" y="679"/>
                  </a:lnTo>
                  <a:lnTo>
                    <a:pt x="598" y="713"/>
                  </a:lnTo>
                  <a:lnTo>
                    <a:pt x="597" y="731"/>
                  </a:lnTo>
                  <a:lnTo>
                    <a:pt x="595" y="747"/>
                  </a:lnTo>
                  <a:lnTo>
                    <a:pt x="594" y="761"/>
                  </a:lnTo>
                  <a:lnTo>
                    <a:pt x="595" y="775"/>
                  </a:lnTo>
                  <a:lnTo>
                    <a:pt x="598" y="787"/>
                  </a:lnTo>
                  <a:lnTo>
                    <a:pt x="601" y="796"/>
                  </a:lnTo>
                  <a:lnTo>
                    <a:pt x="604" y="800"/>
                  </a:lnTo>
                  <a:lnTo>
                    <a:pt x="606" y="803"/>
                  </a:lnTo>
                  <a:lnTo>
                    <a:pt x="610" y="806"/>
                  </a:lnTo>
                  <a:lnTo>
                    <a:pt x="614" y="807"/>
                  </a:lnTo>
                  <a:lnTo>
                    <a:pt x="617" y="808"/>
                  </a:lnTo>
                  <a:lnTo>
                    <a:pt x="621" y="812"/>
                  </a:lnTo>
                  <a:lnTo>
                    <a:pt x="625" y="817"/>
                  </a:lnTo>
                  <a:lnTo>
                    <a:pt x="628" y="822"/>
                  </a:lnTo>
                  <a:lnTo>
                    <a:pt x="637" y="836"/>
                  </a:lnTo>
                  <a:lnTo>
                    <a:pt x="647" y="855"/>
                  </a:lnTo>
                  <a:lnTo>
                    <a:pt x="668" y="899"/>
                  </a:lnTo>
                  <a:lnTo>
                    <a:pt x="691" y="950"/>
                  </a:lnTo>
                  <a:lnTo>
                    <a:pt x="704" y="974"/>
                  </a:lnTo>
                  <a:lnTo>
                    <a:pt x="715" y="998"/>
                  </a:lnTo>
                  <a:lnTo>
                    <a:pt x="727" y="1020"/>
                  </a:lnTo>
                  <a:lnTo>
                    <a:pt x="739" y="1038"/>
                  </a:lnTo>
                  <a:lnTo>
                    <a:pt x="750" y="1054"/>
                  </a:lnTo>
                  <a:lnTo>
                    <a:pt x="761" y="1066"/>
                  </a:lnTo>
                  <a:lnTo>
                    <a:pt x="768" y="1070"/>
                  </a:lnTo>
                  <a:lnTo>
                    <a:pt x="772" y="1073"/>
                  </a:lnTo>
                  <a:lnTo>
                    <a:pt x="777" y="1074"/>
                  </a:lnTo>
                  <a:lnTo>
                    <a:pt x="782" y="1073"/>
                  </a:lnTo>
                  <a:lnTo>
                    <a:pt x="787" y="1073"/>
                  </a:lnTo>
                  <a:lnTo>
                    <a:pt x="791" y="1071"/>
                  </a:lnTo>
                  <a:lnTo>
                    <a:pt x="793" y="1073"/>
                  </a:lnTo>
                  <a:lnTo>
                    <a:pt x="795" y="1074"/>
                  </a:lnTo>
                  <a:lnTo>
                    <a:pt x="796" y="1075"/>
                  </a:lnTo>
                  <a:lnTo>
                    <a:pt x="796" y="1078"/>
                  </a:lnTo>
                  <a:lnTo>
                    <a:pt x="796" y="1080"/>
                  </a:lnTo>
                  <a:lnTo>
                    <a:pt x="795" y="1084"/>
                  </a:lnTo>
                  <a:lnTo>
                    <a:pt x="791" y="1091"/>
                  </a:lnTo>
                  <a:lnTo>
                    <a:pt x="786" y="1100"/>
                  </a:lnTo>
                  <a:lnTo>
                    <a:pt x="780" y="1110"/>
                  </a:lnTo>
                  <a:lnTo>
                    <a:pt x="772" y="1119"/>
                  </a:lnTo>
                  <a:lnTo>
                    <a:pt x="755" y="1140"/>
                  </a:lnTo>
                  <a:lnTo>
                    <a:pt x="739" y="1159"/>
                  </a:lnTo>
                  <a:lnTo>
                    <a:pt x="727" y="1171"/>
                  </a:lnTo>
                  <a:lnTo>
                    <a:pt x="723" y="1176"/>
                  </a:lnTo>
                  <a:lnTo>
                    <a:pt x="713" y="1186"/>
                  </a:lnTo>
                  <a:lnTo>
                    <a:pt x="705" y="1194"/>
                  </a:lnTo>
                  <a:lnTo>
                    <a:pt x="697" y="1202"/>
                  </a:lnTo>
                  <a:lnTo>
                    <a:pt x="692" y="1209"/>
                  </a:lnTo>
                  <a:lnTo>
                    <a:pt x="685" y="1223"/>
                  </a:lnTo>
                  <a:lnTo>
                    <a:pt x="681" y="1233"/>
                  </a:lnTo>
                  <a:lnTo>
                    <a:pt x="680" y="1240"/>
                  </a:lnTo>
                  <a:lnTo>
                    <a:pt x="680" y="1245"/>
                  </a:lnTo>
                  <a:lnTo>
                    <a:pt x="681" y="1249"/>
                  </a:lnTo>
                  <a:lnTo>
                    <a:pt x="681" y="1250"/>
                  </a:lnTo>
                  <a:lnTo>
                    <a:pt x="679" y="1249"/>
                  </a:lnTo>
                  <a:lnTo>
                    <a:pt x="670" y="1247"/>
                  </a:lnTo>
                  <a:lnTo>
                    <a:pt x="657" y="1246"/>
                  </a:lnTo>
                  <a:lnTo>
                    <a:pt x="640" y="1244"/>
                  </a:lnTo>
                  <a:lnTo>
                    <a:pt x="620" y="1240"/>
                  </a:lnTo>
                  <a:lnTo>
                    <a:pt x="598" y="1237"/>
                  </a:lnTo>
                  <a:lnTo>
                    <a:pt x="576" y="1234"/>
                  </a:lnTo>
                  <a:lnTo>
                    <a:pt x="555" y="1230"/>
                  </a:lnTo>
                  <a:lnTo>
                    <a:pt x="528" y="1228"/>
                  </a:lnTo>
                  <a:lnTo>
                    <a:pt x="501" y="1225"/>
                  </a:lnTo>
                  <a:lnTo>
                    <a:pt x="471" y="1224"/>
                  </a:lnTo>
                  <a:lnTo>
                    <a:pt x="439" y="1224"/>
                  </a:lnTo>
                  <a:lnTo>
                    <a:pt x="407" y="1224"/>
                  </a:lnTo>
                  <a:lnTo>
                    <a:pt x="371" y="1225"/>
                  </a:lnTo>
                  <a:lnTo>
                    <a:pt x="334" y="1228"/>
                  </a:lnTo>
                  <a:lnTo>
                    <a:pt x="296" y="1230"/>
                  </a:lnTo>
                  <a:lnTo>
                    <a:pt x="280" y="1231"/>
                  </a:lnTo>
                  <a:lnTo>
                    <a:pt x="263" y="1231"/>
                  </a:lnTo>
                  <a:lnTo>
                    <a:pt x="248" y="1231"/>
                  </a:lnTo>
                  <a:lnTo>
                    <a:pt x="232" y="1230"/>
                  </a:lnTo>
                  <a:lnTo>
                    <a:pt x="218" y="1228"/>
                  </a:lnTo>
                  <a:lnTo>
                    <a:pt x="203" y="1225"/>
                  </a:lnTo>
                  <a:lnTo>
                    <a:pt x="188" y="1221"/>
                  </a:lnTo>
                  <a:lnTo>
                    <a:pt x="175" y="1218"/>
                  </a:lnTo>
                  <a:lnTo>
                    <a:pt x="161" y="1214"/>
                  </a:lnTo>
                  <a:lnTo>
                    <a:pt x="149" y="1208"/>
                  </a:lnTo>
                  <a:lnTo>
                    <a:pt x="135" y="1203"/>
                  </a:lnTo>
                  <a:lnTo>
                    <a:pt x="123" y="1197"/>
                  </a:lnTo>
                  <a:lnTo>
                    <a:pt x="112" y="1189"/>
                  </a:lnTo>
                  <a:lnTo>
                    <a:pt x="101" y="1182"/>
                  </a:lnTo>
                  <a:lnTo>
                    <a:pt x="90" y="1175"/>
                  </a:lnTo>
                  <a:lnTo>
                    <a:pt x="80" y="1166"/>
                  </a:lnTo>
                  <a:lnTo>
                    <a:pt x="70" y="1156"/>
                  </a:lnTo>
                  <a:lnTo>
                    <a:pt x="61" y="1148"/>
                  </a:lnTo>
                  <a:lnTo>
                    <a:pt x="53" y="1138"/>
                  </a:lnTo>
                  <a:lnTo>
                    <a:pt x="45" y="1127"/>
                  </a:lnTo>
                  <a:lnTo>
                    <a:pt x="38" y="1116"/>
                  </a:lnTo>
                  <a:lnTo>
                    <a:pt x="31" y="1105"/>
                  </a:lnTo>
                  <a:lnTo>
                    <a:pt x="24" y="1094"/>
                  </a:lnTo>
                  <a:lnTo>
                    <a:pt x="20" y="1081"/>
                  </a:lnTo>
                  <a:lnTo>
                    <a:pt x="15" y="1069"/>
                  </a:lnTo>
                  <a:lnTo>
                    <a:pt x="10" y="1055"/>
                  </a:lnTo>
                  <a:lnTo>
                    <a:pt x="7" y="1043"/>
                  </a:lnTo>
                  <a:lnTo>
                    <a:pt x="4" y="1030"/>
                  </a:lnTo>
                  <a:lnTo>
                    <a:pt x="2" y="1016"/>
                  </a:lnTo>
                  <a:lnTo>
                    <a:pt x="1" y="1001"/>
                  </a:lnTo>
                  <a:lnTo>
                    <a:pt x="0" y="987"/>
                  </a:lnTo>
                  <a:lnTo>
                    <a:pt x="0" y="973"/>
                  </a:lnTo>
                  <a:lnTo>
                    <a:pt x="4" y="929"/>
                  </a:lnTo>
                  <a:lnTo>
                    <a:pt x="7" y="886"/>
                  </a:lnTo>
                  <a:lnTo>
                    <a:pt x="13" y="845"/>
                  </a:lnTo>
                  <a:lnTo>
                    <a:pt x="20" y="806"/>
                  </a:lnTo>
                  <a:lnTo>
                    <a:pt x="27" y="768"/>
                  </a:lnTo>
                  <a:lnTo>
                    <a:pt x="36" y="732"/>
                  </a:lnTo>
                  <a:lnTo>
                    <a:pt x="44" y="697"/>
                  </a:lnTo>
                  <a:lnTo>
                    <a:pt x="54" y="666"/>
                  </a:lnTo>
                  <a:lnTo>
                    <a:pt x="64" y="636"/>
                  </a:lnTo>
                  <a:lnTo>
                    <a:pt x="75" y="608"/>
                  </a:lnTo>
                  <a:lnTo>
                    <a:pt x="85" y="582"/>
                  </a:lnTo>
                  <a:lnTo>
                    <a:pt x="96" y="557"/>
                  </a:lnTo>
                  <a:lnTo>
                    <a:pt x="107" y="535"/>
                  </a:lnTo>
                  <a:lnTo>
                    <a:pt x="118" y="515"/>
                  </a:lnTo>
                  <a:lnTo>
                    <a:pt x="128" y="498"/>
                  </a:lnTo>
                  <a:lnTo>
                    <a:pt x="139" y="483"/>
                  </a:lnTo>
                  <a:lnTo>
                    <a:pt x="149" y="467"/>
                  </a:lnTo>
                  <a:lnTo>
                    <a:pt x="160" y="449"/>
                  </a:lnTo>
                  <a:lnTo>
                    <a:pt x="171" y="427"/>
                  </a:lnTo>
                  <a:lnTo>
                    <a:pt x="183" y="402"/>
                  </a:lnTo>
                  <a:lnTo>
                    <a:pt x="209" y="346"/>
                  </a:lnTo>
                  <a:lnTo>
                    <a:pt x="236" y="283"/>
                  </a:lnTo>
                  <a:lnTo>
                    <a:pt x="263" y="218"/>
                  </a:lnTo>
                  <a:lnTo>
                    <a:pt x="290" y="150"/>
                  </a:lnTo>
                  <a:lnTo>
                    <a:pt x="316" y="85"/>
                  </a:lnTo>
                  <a:lnTo>
                    <a:pt x="339" y="25"/>
                  </a:lnTo>
                  <a:lnTo>
                    <a:pt x="343" y="19"/>
                  </a:lnTo>
                  <a:lnTo>
                    <a:pt x="347" y="12"/>
                  </a:lnTo>
                  <a:lnTo>
                    <a:pt x="350" y="7"/>
                  </a:lnTo>
                  <a:lnTo>
                    <a:pt x="357" y="4"/>
                  </a:lnTo>
                  <a:lnTo>
                    <a:pt x="362" y="1"/>
                  </a:lnTo>
                  <a:lnTo>
                    <a:pt x="368" y="0"/>
                  </a:lnTo>
                  <a:lnTo>
                    <a:pt x="374" y="1"/>
                  </a:lnTo>
                  <a:lnTo>
                    <a:pt x="380" y="3"/>
                  </a:lnTo>
                  <a:lnTo>
                    <a:pt x="386" y="6"/>
                  </a:lnTo>
                  <a:lnTo>
                    <a:pt x="394" y="12"/>
                  </a:lnTo>
                  <a:lnTo>
                    <a:pt x="398" y="20"/>
                  </a:lnTo>
                  <a:lnTo>
                    <a:pt x="405" y="30"/>
                  </a:lnTo>
                  <a:lnTo>
                    <a:pt x="410" y="42"/>
                  </a:lnTo>
                  <a:lnTo>
                    <a:pt x="414" y="57"/>
                  </a:lnTo>
                  <a:lnTo>
                    <a:pt x="418" y="75"/>
                  </a:lnTo>
                  <a:lnTo>
                    <a:pt x="421" y="95"/>
                  </a:lnTo>
                  <a:close/>
                </a:path>
              </a:pathLst>
            </a:custGeom>
            <a:solidFill>
              <a:srgbClr val="604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6626160" y="2284560"/>
              <a:ext cx="239760" cy="379440"/>
            </a:xfrm>
            <a:custGeom>
              <a:avLst/>
              <a:gdLst/>
              <a:ahLst/>
              <a:rect l="l" t="t" r="r" b="b"/>
              <a:pathLst>
                <a:path w="752" h="1195">
                  <a:moveTo>
                    <a:pt x="400" y="277"/>
                  </a:moveTo>
                  <a:lnTo>
                    <a:pt x="400" y="274"/>
                  </a:lnTo>
                  <a:lnTo>
                    <a:pt x="397" y="265"/>
                  </a:lnTo>
                  <a:lnTo>
                    <a:pt x="395" y="250"/>
                  </a:lnTo>
                  <a:lnTo>
                    <a:pt x="391" y="230"/>
                  </a:lnTo>
                  <a:lnTo>
                    <a:pt x="387" y="204"/>
                  </a:lnTo>
                  <a:lnTo>
                    <a:pt x="384" y="172"/>
                  </a:lnTo>
                  <a:lnTo>
                    <a:pt x="380" y="135"/>
                  </a:lnTo>
                  <a:lnTo>
                    <a:pt x="375" y="93"/>
                  </a:lnTo>
                  <a:lnTo>
                    <a:pt x="373" y="72"/>
                  </a:lnTo>
                  <a:lnTo>
                    <a:pt x="369" y="55"/>
                  </a:lnTo>
                  <a:lnTo>
                    <a:pt x="365" y="40"/>
                  </a:lnTo>
                  <a:lnTo>
                    <a:pt x="360" y="28"/>
                  </a:lnTo>
                  <a:lnTo>
                    <a:pt x="355" y="18"/>
                  </a:lnTo>
                  <a:lnTo>
                    <a:pt x="349" y="11"/>
                  </a:lnTo>
                  <a:lnTo>
                    <a:pt x="344" y="4"/>
                  </a:lnTo>
                  <a:lnTo>
                    <a:pt x="338" y="2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2" y="1"/>
                  </a:lnTo>
                  <a:lnTo>
                    <a:pt x="317" y="3"/>
                  </a:lnTo>
                  <a:lnTo>
                    <a:pt x="312" y="7"/>
                  </a:lnTo>
                  <a:lnTo>
                    <a:pt x="309" y="11"/>
                  </a:lnTo>
                  <a:lnTo>
                    <a:pt x="305" y="17"/>
                  </a:lnTo>
                  <a:lnTo>
                    <a:pt x="303" y="22"/>
                  </a:lnTo>
                  <a:lnTo>
                    <a:pt x="279" y="82"/>
                  </a:lnTo>
                  <a:lnTo>
                    <a:pt x="255" y="146"/>
                  </a:lnTo>
                  <a:lnTo>
                    <a:pt x="229" y="211"/>
                  </a:lnTo>
                  <a:lnTo>
                    <a:pt x="204" y="274"/>
                  </a:lnTo>
                  <a:lnTo>
                    <a:pt x="180" y="334"/>
                  </a:lnTo>
                  <a:lnTo>
                    <a:pt x="155" y="388"/>
                  </a:lnTo>
                  <a:lnTo>
                    <a:pt x="144" y="413"/>
                  </a:lnTo>
                  <a:lnTo>
                    <a:pt x="133" y="434"/>
                  </a:lnTo>
                  <a:lnTo>
                    <a:pt x="122" y="452"/>
                  </a:lnTo>
                  <a:lnTo>
                    <a:pt x="112" y="468"/>
                  </a:lnTo>
                  <a:lnTo>
                    <a:pt x="102" y="482"/>
                  </a:lnTo>
                  <a:lnTo>
                    <a:pt x="93" y="499"/>
                  </a:lnTo>
                  <a:lnTo>
                    <a:pt x="85" y="517"/>
                  </a:lnTo>
                  <a:lnTo>
                    <a:pt x="76" y="538"/>
                  </a:lnTo>
                  <a:lnTo>
                    <a:pt x="68" y="560"/>
                  </a:lnTo>
                  <a:lnTo>
                    <a:pt x="60" y="586"/>
                  </a:lnTo>
                  <a:lnTo>
                    <a:pt x="52" y="613"/>
                  </a:lnTo>
                  <a:lnTo>
                    <a:pt x="45" y="642"/>
                  </a:lnTo>
                  <a:lnTo>
                    <a:pt x="38" y="672"/>
                  </a:lnTo>
                  <a:lnTo>
                    <a:pt x="32" y="706"/>
                  </a:lnTo>
                  <a:lnTo>
                    <a:pt x="26" y="740"/>
                  </a:lnTo>
                  <a:lnTo>
                    <a:pt x="20" y="777"/>
                  </a:lnTo>
                  <a:lnTo>
                    <a:pt x="10" y="854"/>
                  </a:lnTo>
                  <a:lnTo>
                    <a:pt x="0" y="940"/>
                  </a:lnTo>
                  <a:lnTo>
                    <a:pt x="0" y="953"/>
                  </a:lnTo>
                  <a:lnTo>
                    <a:pt x="0" y="965"/>
                  </a:lnTo>
                  <a:lnTo>
                    <a:pt x="0" y="977"/>
                  </a:lnTo>
                  <a:lnTo>
                    <a:pt x="1" y="990"/>
                  </a:lnTo>
                  <a:lnTo>
                    <a:pt x="4" y="1002"/>
                  </a:lnTo>
                  <a:lnTo>
                    <a:pt x="6" y="1013"/>
                  </a:lnTo>
                  <a:lnTo>
                    <a:pt x="8" y="1025"/>
                  </a:lnTo>
                  <a:lnTo>
                    <a:pt x="12" y="1036"/>
                  </a:lnTo>
                  <a:lnTo>
                    <a:pt x="17" y="1046"/>
                  </a:lnTo>
                  <a:lnTo>
                    <a:pt x="22" y="1057"/>
                  </a:lnTo>
                  <a:lnTo>
                    <a:pt x="28" y="1067"/>
                  </a:lnTo>
                  <a:lnTo>
                    <a:pt x="34" y="1077"/>
                  </a:lnTo>
                  <a:lnTo>
                    <a:pt x="42" y="1087"/>
                  </a:lnTo>
                  <a:lnTo>
                    <a:pt x="49" y="1097"/>
                  </a:lnTo>
                  <a:lnTo>
                    <a:pt x="58" y="1105"/>
                  </a:lnTo>
                  <a:lnTo>
                    <a:pt x="66" y="1114"/>
                  </a:lnTo>
                  <a:lnTo>
                    <a:pt x="76" y="1121"/>
                  </a:lnTo>
                  <a:lnTo>
                    <a:pt x="86" y="1129"/>
                  </a:lnTo>
                  <a:lnTo>
                    <a:pt x="96" y="1136"/>
                  </a:lnTo>
                  <a:lnTo>
                    <a:pt x="107" y="1142"/>
                  </a:lnTo>
                  <a:lnTo>
                    <a:pt x="118" y="1148"/>
                  </a:lnTo>
                  <a:lnTo>
                    <a:pt x="130" y="1154"/>
                  </a:lnTo>
                  <a:lnTo>
                    <a:pt x="143" y="1159"/>
                  </a:lnTo>
                  <a:lnTo>
                    <a:pt x="156" y="1163"/>
                  </a:lnTo>
                  <a:lnTo>
                    <a:pt x="168" y="1167"/>
                  </a:lnTo>
                  <a:lnTo>
                    <a:pt x="183" y="1170"/>
                  </a:lnTo>
                  <a:lnTo>
                    <a:pt x="197" y="1173"/>
                  </a:lnTo>
                  <a:lnTo>
                    <a:pt x="211" y="1175"/>
                  </a:lnTo>
                  <a:lnTo>
                    <a:pt x="227" y="1177"/>
                  </a:lnTo>
                  <a:lnTo>
                    <a:pt x="242" y="1177"/>
                  </a:lnTo>
                  <a:lnTo>
                    <a:pt x="258" y="1177"/>
                  </a:lnTo>
                  <a:lnTo>
                    <a:pt x="275" y="1177"/>
                  </a:lnTo>
                  <a:lnTo>
                    <a:pt x="309" y="1174"/>
                  </a:lnTo>
                  <a:lnTo>
                    <a:pt x="343" y="1173"/>
                  </a:lnTo>
                  <a:lnTo>
                    <a:pt x="375" y="1173"/>
                  </a:lnTo>
                  <a:lnTo>
                    <a:pt x="406" y="1173"/>
                  </a:lnTo>
                  <a:lnTo>
                    <a:pt x="434" y="1174"/>
                  </a:lnTo>
                  <a:lnTo>
                    <a:pt x="461" y="1177"/>
                  </a:lnTo>
                  <a:lnTo>
                    <a:pt x="485" y="1179"/>
                  </a:lnTo>
                  <a:lnTo>
                    <a:pt x="506" y="1182"/>
                  </a:lnTo>
                  <a:lnTo>
                    <a:pt x="522" y="1184"/>
                  </a:lnTo>
                  <a:lnTo>
                    <a:pt x="539" y="1186"/>
                  </a:lnTo>
                  <a:lnTo>
                    <a:pt x="557" y="1189"/>
                  </a:lnTo>
                  <a:lnTo>
                    <a:pt x="576" y="1191"/>
                  </a:lnTo>
                  <a:lnTo>
                    <a:pt x="592" y="1193"/>
                  </a:lnTo>
                  <a:lnTo>
                    <a:pt x="605" y="1194"/>
                  </a:lnTo>
                  <a:lnTo>
                    <a:pt x="614" y="1195"/>
                  </a:lnTo>
                  <a:lnTo>
                    <a:pt x="617" y="1195"/>
                  </a:lnTo>
                  <a:lnTo>
                    <a:pt x="616" y="1195"/>
                  </a:lnTo>
                  <a:lnTo>
                    <a:pt x="616" y="1194"/>
                  </a:lnTo>
                  <a:lnTo>
                    <a:pt x="616" y="1190"/>
                  </a:lnTo>
                  <a:lnTo>
                    <a:pt x="617" y="1185"/>
                  </a:lnTo>
                  <a:lnTo>
                    <a:pt x="622" y="1178"/>
                  </a:lnTo>
                  <a:lnTo>
                    <a:pt x="631" y="1167"/>
                  </a:lnTo>
                  <a:lnTo>
                    <a:pt x="645" y="1153"/>
                  </a:lnTo>
                  <a:lnTo>
                    <a:pt x="663" y="1136"/>
                  </a:lnTo>
                  <a:lnTo>
                    <a:pt x="669" y="1131"/>
                  </a:lnTo>
                  <a:lnTo>
                    <a:pt x="683" y="1119"/>
                  </a:lnTo>
                  <a:lnTo>
                    <a:pt x="701" y="1102"/>
                  </a:lnTo>
                  <a:lnTo>
                    <a:pt x="721" y="1082"/>
                  </a:lnTo>
                  <a:lnTo>
                    <a:pt x="738" y="1063"/>
                  </a:lnTo>
                  <a:lnTo>
                    <a:pt x="749" y="1047"/>
                  </a:lnTo>
                  <a:lnTo>
                    <a:pt x="750" y="1045"/>
                  </a:lnTo>
                  <a:lnTo>
                    <a:pt x="752" y="1043"/>
                  </a:lnTo>
                  <a:lnTo>
                    <a:pt x="752" y="1040"/>
                  </a:lnTo>
                  <a:lnTo>
                    <a:pt x="752" y="1039"/>
                  </a:lnTo>
                  <a:lnTo>
                    <a:pt x="749" y="1038"/>
                  </a:lnTo>
                  <a:lnTo>
                    <a:pt x="747" y="1036"/>
                  </a:lnTo>
                  <a:lnTo>
                    <a:pt x="744" y="1038"/>
                  </a:lnTo>
                  <a:lnTo>
                    <a:pt x="739" y="1038"/>
                  </a:lnTo>
                  <a:lnTo>
                    <a:pt x="734" y="1039"/>
                  </a:lnTo>
                  <a:lnTo>
                    <a:pt x="729" y="1038"/>
                  </a:lnTo>
                  <a:lnTo>
                    <a:pt x="725" y="1035"/>
                  </a:lnTo>
                  <a:lnTo>
                    <a:pt x="718" y="1030"/>
                  </a:lnTo>
                  <a:lnTo>
                    <a:pt x="707" y="1019"/>
                  </a:lnTo>
                  <a:lnTo>
                    <a:pt x="695" y="1003"/>
                  </a:lnTo>
                  <a:lnTo>
                    <a:pt x="683" y="984"/>
                  </a:lnTo>
                  <a:lnTo>
                    <a:pt x="670" y="961"/>
                  </a:lnTo>
                  <a:lnTo>
                    <a:pt x="658" y="937"/>
                  </a:lnTo>
                  <a:lnTo>
                    <a:pt x="646" y="912"/>
                  </a:lnTo>
                  <a:lnTo>
                    <a:pt x="621" y="862"/>
                  </a:lnTo>
                  <a:lnTo>
                    <a:pt x="598" y="817"/>
                  </a:lnTo>
                  <a:lnTo>
                    <a:pt x="588" y="799"/>
                  </a:lnTo>
                  <a:lnTo>
                    <a:pt x="577" y="785"/>
                  </a:lnTo>
                  <a:lnTo>
                    <a:pt x="573" y="781"/>
                  </a:lnTo>
                  <a:lnTo>
                    <a:pt x="568" y="776"/>
                  </a:lnTo>
                  <a:lnTo>
                    <a:pt x="565" y="773"/>
                  </a:lnTo>
                  <a:lnTo>
                    <a:pt x="560" y="772"/>
                  </a:lnTo>
                  <a:lnTo>
                    <a:pt x="556" y="771"/>
                  </a:lnTo>
                  <a:lnTo>
                    <a:pt x="552" y="769"/>
                  </a:lnTo>
                  <a:lnTo>
                    <a:pt x="549" y="766"/>
                  </a:lnTo>
                  <a:lnTo>
                    <a:pt x="546" y="763"/>
                  </a:lnTo>
                  <a:lnTo>
                    <a:pt x="544" y="754"/>
                  </a:lnTo>
                  <a:lnTo>
                    <a:pt x="542" y="742"/>
                  </a:lnTo>
                  <a:lnTo>
                    <a:pt x="542" y="729"/>
                  </a:lnTo>
                  <a:lnTo>
                    <a:pt x="544" y="714"/>
                  </a:lnTo>
                  <a:lnTo>
                    <a:pt x="546" y="698"/>
                  </a:lnTo>
                  <a:lnTo>
                    <a:pt x="549" y="681"/>
                  </a:lnTo>
                  <a:lnTo>
                    <a:pt x="551" y="665"/>
                  </a:lnTo>
                  <a:lnTo>
                    <a:pt x="554" y="648"/>
                  </a:lnTo>
                  <a:lnTo>
                    <a:pt x="556" y="631"/>
                  </a:lnTo>
                  <a:lnTo>
                    <a:pt x="556" y="616"/>
                  </a:lnTo>
                  <a:lnTo>
                    <a:pt x="556" y="601"/>
                  </a:lnTo>
                  <a:lnTo>
                    <a:pt x="554" y="589"/>
                  </a:lnTo>
                  <a:lnTo>
                    <a:pt x="551" y="584"/>
                  </a:lnTo>
                  <a:lnTo>
                    <a:pt x="549" y="579"/>
                  </a:lnTo>
                  <a:lnTo>
                    <a:pt x="545" y="574"/>
                  </a:lnTo>
                  <a:lnTo>
                    <a:pt x="541" y="570"/>
                  </a:lnTo>
                  <a:lnTo>
                    <a:pt x="536" y="569"/>
                  </a:lnTo>
                  <a:lnTo>
                    <a:pt x="522" y="565"/>
                  </a:lnTo>
                  <a:lnTo>
                    <a:pt x="498" y="559"/>
                  </a:lnTo>
                  <a:lnTo>
                    <a:pt x="470" y="553"/>
                  </a:lnTo>
                  <a:lnTo>
                    <a:pt x="437" y="546"/>
                  </a:lnTo>
                  <a:lnTo>
                    <a:pt x="398" y="539"/>
                  </a:lnTo>
                  <a:lnTo>
                    <a:pt x="360" y="535"/>
                  </a:lnTo>
                  <a:lnTo>
                    <a:pt x="321" y="533"/>
                  </a:lnTo>
                  <a:lnTo>
                    <a:pt x="303" y="532"/>
                  </a:lnTo>
                  <a:lnTo>
                    <a:pt x="290" y="532"/>
                  </a:lnTo>
                  <a:lnTo>
                    <a:pt x="283" y="531"/>
                  </a:lnTo>
                  <a:lnTo>
                    <a:pt x="278" y="531"/>
                  </a:lnTo>
                  <a:lnTo>
                    <a:pt x="274" y="531"/>
                  </a:lnTo>
                  <a:lnTo>
                    <a:pt x="269" y="530"/>
                  </a:lnTo>
                  <a:lnTo>
                    <a:pt x="262" y="528"/>
                  </a:lnTo>
                  <a:lnTo>
                    <a:pt x="251" y="527"/>
                  </a:lnTo>
                  <a:lnTo>
                    <a:pt x="234" y="525"/>
                  </a:lnTo>
                  <a:lnTo>
                    <a:pt x="220" y="521"/>
                  </a:lnTo>
                  <a:lnTo>
                    <a:pt x="208" y="516"/>
                  </a:lnTo>
                  <a:lnTo>
                    <a:pt x="198" y="511"/>
                  </a:lnTo>
                  <a:lnTo>
                    <a:pt x="191" y="506"/>
                  </a:lnTo>
                  <a:lnTo>
                    <a:pt x="183" y="500"/>
                  </a:lnTo>
                  <a:lnTo>
                    <a:pt x="178" y="493"/>
                  </a:lnTo>
                  <a:lnTo>
                    <a:pt x="175" y="485"/>
                  </a:lnTo>
                  <a:lnTo>
                    <a:pt x="173" y="478"/>
                  </a:lnTo>
                  <a:lnTo>
                    <a:pt x="172" y="469"/>
                  </a:lnTo>
                  <a:lnTo>
                    <a:pt x="172" y="461"/>
                  </a:lnTo>
                  <a:lnTo>
                    <a:pt x="173" y="452"/>
                  </a:lnTo>
                  <a:lnTo>
                    <a:pt x="178" y="434"/>
                  </a:lnTo>
                  <a:lnTo>
                    <a:pt x="186" y="413"/>
                  </a:lnTo>
                  <a:lnTo>
                    <a:pt x="189" y="403"/>
                  </a:lnTo>
                  <a:lnTo>
                    <a:pt x="194" y="393"/>
                  </a:lnTo>
                  <a:lnTo>
                    <a:pt x="200" y="383"/>
                  </a:lnTo>
                  <a:lnTo>
                    <a:pt x="208" y="373"/>
                  </a:lnTo>
                  <a:lnTo>
                    <a:pt x="216" y="365"/>
                  </a:lnTo>
                  <a:lnTo>
                    <a:pt x="225" y="355"/>
                  </a:lnTo>
                  <a:lnTo>
                    <a:pt x="235" y="348"/>
                  </a:lnTo>
                  <a:lnTo>
                    <a:pt x="246" y="339"/>
                  </a:lnTo>
                  <a:lnTo>
                    <a:pt x="257" y="333"/>
                  </a:lnTo>
                  <a:lnTo>
                    <a:pt x="268" y="328"/>
                  </a:lnTo>
                  <a:lnTo>
                    <a:pt x="280" y="324"/>
                  </a:lnTo>
                  <a:lnTo>
                    <a:pt x="293" y="322"/>
                  </a:lnTo>
                  <a:lnTo>
                    <a:pt x="305" y="321"/>
                  </a:lnTo>
                  <a:lnTo>
                    <a:pt x="317" y="322"/>
                  </a:lnTo>
                  <a:lnTo>
                    <a:pt x="330" y="324"/>
                  </a:lnTo>
                  <a:lnTo>
                    <a:pt x="343" y="329"/>
                  </a:lnTo>
                  <a:lnTo>
                    <a:pt x="354" y="334"/>
                  </a:lnTo>
                  <a:lnTo>
                    <a:pt x="364" y="338"/>
                  </a:lnTo>
                  <a:lnTo>
                    <a:pt x="373" y="339"/>
                  </a:lnTo>
                  <a:lnTo>
                    <a:pt x="380" y="339"/>
                  </a:lnTo>
                  <a:lnTo>
                    <a:pt x="386" y="338"/>
                  </a:lnTo>
                  <a:lnTo>
                    <a:pt x="391" y="335"/>
                  </a:lnTo>
                  <a:lnTo>
                    <a:pt x="396" y="332"/>
                  </a:lnTo>
                  <a:lnTo>
                    <a:pt x="398" y="328"/>
                  </a:lnTo>
                  <a:lnTo>
                    <a:pt x="401" y="323"/>
                  </a:lnTo>
                  <a:lnTo>
                    <a:pt x="402" y="317"/>
                  </a:lnTo>
                  <a:lnTo>
                    <a:pt x="403" y="311"/>
                  </a:lnTo>
                  <a:lnTo>
                    <a:pt x="403" y="303"/>
                  </a:lnTo>
                  <a:lnTo>
                    <a:pt x="402" y="290"/>
                  </a:lnTo>
                  <a:lnTo>
                    <a:pt x="400" y="277"/>
                  </a:lnTo>
                  <a:close/>
                </a:path>
              </a:pathLst>
            </a:custGeom>
            <a:solidFill>
              <a:srgbClr val="5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6792840" y="2251080"/>
              <a:ext cx="173160" cy="314280"/>
            </a:xfrm>
            <a:custGeom>
              <a:avLst/>
              <a:gdLst/>
              <a:ahLst/>
              <a:rect l="l" t="t" r="r" b="b"/>
              <a:pathLst>
                <a:path w="545" h="990">
                  <a:moveTo>
                    <a:pt x="406" y="835"/>
                  </a:moveTo>
                  <a:lnTo>
                    <a:pt x="394" y="868"/>
                  </a:lnTo>
                  <a:lnTo>
                    <a:pt x="382" y="901"/>
                  </a:lnTo>
                  <a:lnTo>
                    <a:pt x="375" y="918"/>
                  </a:lnTo>
                  <a:lnTo>
                    <a:pt x="367" y="933"/>
                  </a:lnTo>
                  <a:lnTo>
                    <a:pt x="359" y="947"/>
                  </a:lnTo>
                  <a:lnTo>
                    <a:pt x="350" y="960"/>
                  </a:lnTo>
                  <a:lnTo>
                    <a:pt x="340" y="970"/>
                  </a:lnTo>
                  <a:lnTo>
                    <a:pt x="329" y="979"/>
                  </a:lnTo>
                  <a:lnTo>
                    <a:pt x="324" y="982"/>
                  </a:lnTo>
                  <a:lnTo>
                    <a:pt x="318" y="985"/>
                  </a:lnTo>
                  <a:lnTo>
                    <a:pt x="312" y="987"/>
                  </a:lnTo>
                  <a:lnTo>
                    <a:pt x="306" y="989"/>
                  </a:lnTo>
                  <a:lnTo>
                    <a:pt x="300" y="990"/>
                  </a:lnTo>
                  <a:lnTo>
                    <a:pt x="294" y="990"/>
                  </a:lnTo>
                  <a:lnTo>
                    <a:pt x="287" y="989"/>
                  </a:lnTo>
                  <a:lnTo>
                    <a:pt x="280" y="987"/>
                  </a:lnTo>
                  <a:lnTo>
                    <a:pt x="273" y="985"/>
                  </a:lnTo>
                  <a:lnTo>
                    <a:pt x="265" y="981"/>
                  </a:lnTo>
                  <a:lnTo>
                    <a:pt x="258" y="976"/>
                  </a:lnTo>
                  <a:lnTo>
                    <a:pt x="250" y="970"/>
                  </a:lnTo>
                  <a:lnTo>
                    <a:pt x="223" y="947"/>
                  </a:lnTo>
                  <a:lnTo>
                    <a:pt x="200" y="928"/>
                  </a:lnTo>
                  <a:lnTo>
                    <a:pt x="182" y="914"/>
                  </a:lnTo>
                  <a:lnTo>
                    <a:pt x="166" y="901"/>
                  </a:lnTo>
                  <a:lnTo>
                    <a:pt x="152" y="894"/>
                  </a:lnTo>
                  <a:lnTo>
                    <a:pt x="141" y="888"/>
                  </a:lnTo>
                  <a:lnTo>
                    <a:pt x="129" y="884"/>
                  </a:lnTo>
                  <a:lnTo>
                    <a:pt x="116" y="884"/>
                  </a:lnTo>
                  <a:lnTo>
                    <a:pt x="115" y="883"/>
                  </a:lnTo>
                  <a:lnTo>
                    <a:pt x="110" y="880"/>
                  </a:lnTo>
                  <a:lnTo>
                    <a:pt x="103" y="875"/>
                  </a:lnTo>
                  <a:lnTo>
                    <a:pt x="95" y="866"/>
                  </a:lnTo>
                  <a:lnTo>
                    <a:pt x="91" y="859"/>
                  </a:lnTo>
                  <a:lnTo>
                    <a:pt x="87" y="852"/>
                  </a:lnTo>
                  <a:lnTo>
                    <a:pt x="83" y="843"/>
                  </a:lnTo>
                  <a:lnTo>
                    <a:pt x="81" y="834"/>
                  </a:lnTo>
                  <a:lnTo>
                    <a:pt x="77" y="821"/>
                  </a:lnTo>
                  <a:lnTo>
                    <a:pt x="76" y="808"/>
                  </a:lnTo>
                  <a:lnTo>
                    <a:pt x="75" y="792"/>
                  </a:lnTo>
                  <a:lnTo>
                    <a:pt x="73" y="775"/>
                  </a:lnTo>
                  <a:lnTo>
                    <a:pt x="75" y="757"/>
                  </a:lnTo>
                  <a:lnTo>
                    <a:pt x="78" y="741"/>
                  </a:lnTo>
                  <a:lnTo>
                    <a:pt x="83" y="727"/>
                  </a:lnTo>
                  <a:lnTo>
                    <a:pt x="88" y="713"/>
                  </a:lnTo>
                  <a:lnTo>
                    <a:pt x="94" y="702"/>
                  </a:lnTo>
                  <a:lnTo>
                    <a:pt x="99" y="693"/>
                  </a:lnTo>
                  <a:lnTo>
                    <a:pt x="102" y="687"/>
                  </a:lnTo>
                  <a:lnTo>
                    <a:pt x="103" y="685"/>
                  </a:lnTo>
                  <a:lnTo>
                    <a:pt x="104" y="684"/>
                  </a:lnTo>
                  <a:lnTo>
                    <a:pt x="108" y="677"/>
                  </a:lnTo>
                  <a:lnTo>
                    <a:pt x="114" y="670"/>
                  </a:lnTo>
                  <a:lnTo>
                    <a:pt x="120" y="660"/>
                  </a:lnTo>
                  <a:lnTo>
                    <a:pt x="129" y="650"/>
                  </a:lnTo>
                  <a:lnTo>
                    <a:pt x="136" y="640"/>
                  </a:lnTo>
                  <a:lnTo>
                    <a:pt x="145" y="633"/>
                  </a:lnTo>
                  <a:lnTo>
                    <a:pt x="152" y="628"/>
                  </a:lnTo>
                  <a:lnTo>
                    <a:pt x="172" y="624"/>
                  </a:lnTo>
                  <a:lnTo>
                    <a:pt x="189" y="618"/>
                  </a:lnTo>
                  <a:lnTo>
                    <a:pt x="203" y="612"/>
                  </a:lnTo>
                  <a:lnTo>
                    <a:pt x="215" y="604"/>
                  </a:lnTo>
                  <a:lnTo>
                    <a:pt x="225" y="596"/>
                  </a:lnTo>
                  <a:lnTo>
                    <a:pt x="232" y="586"/>
                  </a:lnTo>
                  <a:lnTo>
                    <a:pt x="238" y="577"/>
                  </a:lnTo>
                  <a:lnTo>
                    <a:pt x="242" y="567"/>
                  </a:lnTo>
                  <a:lnTo>
                    <a:pt x="246" y="557"/>
                  </a:lnTo>
                  <a:lnTo>
                    <a:pt x="247" y="547"/>
                  </a:lnTo>
                  <a:lnTo>
                    <a:pt x="248" y="537"/>
                  </a:lnTo>
                  <a:lnTo>
                    <a:pt x="248" y="527"/>
                  </a:lnTo>
                  <a:lnTo>
                    <a:pt x="247" y="510"/>
                  </a:lnTo>
                  <a:lnTo>
                    <a:pt x="244" y="495"/>
                  </a:lnTo>
                  <a:lnTo>
                    <a:pt x="243" y="489"/>
                  </a:lnTo>
                  <a:lnTo>
                    <a:pt x="239" y="483"/>
                  </a:lnTo>
                  <a:lnTo>
                    <a:pt x="237" y="478"/>
                  </a:lnTo>
                  <a:lnTo>
                    <a:pt x="233" y="473"/>
                  </a:lnTo>
                  <a:lnTo>
                    <a:pt x="223" y="465"/>
                  </a:lnTo>
                  <a:lnTo>
                    <a:pt x="215" y="457"/>
                  </a:lnTo>
                  <a:lnTo>
                    <a:pt x="205" y="451"/>
                  </a:lnTo>
                  <a:lnTo>
                    <a:pt x="198" y="447"/>
                  </a:lnTo>
                  <a:lnTo>
                    <a:pt x="193" y="445"/>
                  </a:lnTo>
                  <a:lnTo>
                    <a:pt x="190" y="444"/>
                  </a:lnTo>
                  <a:lnTo>
                    <a:pt x="178" y="436"/>
                  </a:lnTo>
                  <a:lnTo>
                    <a:pt x="166" y="431"/>
                  </a:lnTo>
                  <a:lnTo>
                    <a:pt x="153" y="429"/>
                  </a:lnTo>
                  <a:lnTo>
                    <a:pt x="142" y="428"/>
                  </a:lnTo>
                  <a:lnTo>
                    <a:pt x="132" y="429"/>
                  </a:lnTo>
                  <a:lnTo>
                    <a:pt x="121" y="430"/>
                  </a:lnTo>
                  <a:lnTo>
                    <a:pt x="111" y="433"/>
                  </a:lnTo>
                  <a:lnTo>
                    <a:pt x="103" y="435"/>
                  </a:lnTo>
                  <a:lnTo>
                    <a:pt x="86" y="440"/>
                  </a:lnTo>
                  <a:lnTo>
                    <a:pt x="72" y="442"/>
                  </a:lnTo>
                  <a:lnTo>
                    <a:pt x="66" y="442"/>
                  </a:lnTo>
                  <a:lnTo>
                    <a:pt x="60" y="439"/>
                  </a:lnTo>
                  <a:lnTo>
                    <a:pt x="56" y="435"/>
                  </a:lnTo>
                  <a:lnTo>
                    <a:pt x="51" y="428"/>
                  </a:lnTo>
                  <a:lnTo>
                    <a:pt x="47" y="417"/>
                  </a:lnTo>
                  <a:lnTo>
                    <a:pt x="44" y="402"/>
                  </a:lnTo>
                  <a:lnTo>
                    <a:pt x="40" y="383"/>
                  </a:lnTo>
                  <a:lnTo>
                    <a:pt x="36" y="361"/>
                  </a:lnTo>
                  <a:lnTo>
                    <a:pt x="29" y="311"/>
                  </a:lnTo>
                  <a:lnTo>
                    <a:pt x="22" y="252"/>
                  </a:lnTo>
                  <a:lnTo>
                    <a:pt x="16" y="192"/>
                  </a:lnTo>
                  <a:lnTo>
                    <a:pt x="9" y="132"/>
                  </a:lnTo>
                  <a:lnTo>
                    <a:pt x="4" y="80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2" y="7"/>
                  </a:lnTo>
                  <a:lnTo>
                    <a:pt x="4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3" y="2"/>
                  </a:lnTo>
                  <a:lnTo>
                    <a:pt x="32" y="7"/>
                  </a:lnTo>
                  <a:lnTo>
                    <a:pt x="40" y="14"/>
                  </a:lnTo>
                  <a:lnTo>
                    <a:pt x="50" y="23"/>
                  </a:lnTo>
                  <a:lnTo>
                    <a:pt x="60" y="34"/>
                  </a:lnTo>
                  <a:lnTo>
                    <a:pt x="70" y="45"/>
                  </a:lnTo>
                  <a:lnTo>
                    <a:pt x="81" y="57"/>
                  </a:lnTo>
                  <a:lnTo>
                    <a:pt x="100" y="85"/>
                  </a:lnTo>
                  <a:lnTo>
                    <a:pt x="116" y="113"/>
                  </a:lnTo>
                  <a:lnTo>
                    <a:pt x="124" y="125"/>
                  </a:lnTo>
                  <a:lnTo>
                    <a:pt x="134" y="137"/>
                  </a:lnTo>
                  <a:lnTo>
                    <a:pt x="143" y="150"/>
                  </a:lnTo>
                  <a:lnTo>
                    <a:pt x="153" y="163"/>
                  </a:lnTo>
                  <a:lnTo>
                    <a:pt x="177" y="188"/>
                  </a:lnTo>
                  <a:lnTo>
                    <a:pt x="201" y="210"/>
                  </a:lnTo>
                  <a:lnTo>
                    <a:pt x="223" y="230"/>
                  </a:lnTo>
                  <a:lnTo>
                    <a:pt x="241" y="246"/>
                  </a:lnTo>
                  <a:lnTo>
                    <a:pt x="254" y="255"/>
                  </a:lnTo>
                  <a:lnTo>
                    <a:pt x="258" y="259"/>
                  </a:lnTo>
                  <a:lnTo>
                    <a:pt x="265" y="259"/>
                  </a:lnTo>
                  <a:lnTo>
                    <a:pt x="285" y="260"/>
                  </a:lnTo>
                  <a:lnTo>
                    <a:pt x="313" y="263"/>
                  </a:lnTo>
                  <a:lnTo>
                    <a:pt x="349" y="267"/>
                  </a:lnTo>
                  <a:lnTo>
                    <a:pt x="367" y="270"/>
                  </a:lnTo>
                  <a:lnTo>
                    <a:pt x="388" y="274"/>
                  </a:lnTo>
                  <a:lnTo>
                    <a:pt x="408" y="279"/>
                  </a:lnTo>
                  <a:lnTo>
                    <a:pt x="428" y="284"/>
                  </a:lnTo>
                  <a:lnTo>
                    <a:pt x="447" y="290"/>
                  </a:lnTo>
                  <a:lnTo>
                    <a:pt x="466" y="297"/>
                  </a:lnTo>
                  <a:lnTo>
                    <a:pt x="484" y="306"/>
                  </a:lnTo>
                  <a:lnTo>
                    <a:pt x="500" y="316"/>
                  </a:lnTo>
                  <a:lnTo>
                    <a:pt x="508" y="323"/>
                  </a:lnTo>
                  <a:lnTo>
                    <a:pt x="515" y="331"/>
                  </a:lnTo>
                  <a:lnTo>
                    <a:pt x="522" y="340"/>
                  </a:lnTo>
                  <a:lnTo>
                    <a:pt x="527" y="350"/>
                  </a:lnTo>
                  <a:lnTo>
                    <a:pt x="532" y="360"/>
                  </a:lnTo>
                  <a:lnTo>
                    <a:pt x="536" y="372"/>
                  </a:lnTo>
                  <a:lnTo>
                    <a:pt x="540" y="383"/>
                  </a:lnTo>
                  <a:lnTo>
                    <a:pt x="542" y="397"/>
                  </a:lnTo>
                  <a:lnTo>
                    <a:pt x="543" y="409"/>
                  </a:lnTo>
                  <a:lnTo>
                    <a:pt x="545" y="423"/>
                  </a:lnTo>
                  <a:lnTo>
                    <a:pt x="545" y="436"/>
                  </a:lnTo>
                  <a:lnTo>
                    <a:pt x="545" y="450"/>
                  </a:lnTo>
                  <a:lnTo>
                    <a:pt x="542" y="477"/>
                  </a:lnTo>
                  <a:lnTo>
                    <a:pt x="537" y="503"/>
                  </a:lnTo>
                  <a:lnTo>
                    <a:pt x="530" y="529"/>
                  </a:lnTo>
                  <a:lnTo>
                    <a:pt x="521" y="551"/>
                  </a:lnTo>
                  <a:lnTo>
                    <a:pt x="516" y="562"/>
                  </a:lnTo>
                  <a:lnTo>
                    <a:pt x="511" y="570"/>
                  </a:lnTo>
                  <a:lnTo>
                    <a:pt x="505" y="579"/>
                  </a:lnTo>
                  <a:lnTo>
                    <a:pt x="499" y="586"/>
                  </a:lnTo>
                  <a:lnTo>
                    <a:pt x="493" y="594"/>
                  </a:lnTo>
                  <a:lnTo>
                    <a:pt x="487" y="599"/>
                  </a:lnTo>
                  <a:lnTo>
                    <a:pt x="479" y="602"/>
                  </a:lnTo>
                  <a:lnTo>
                    <a:pt x="473" y="605"/>
                  </a:lnTo>
                  <a:lnTo>
                    <a:pt x="466" y="606"/>
                  </a:lnTo>
                  <a:lnTo>
                    <a:pt x="458" y="605"/>
                  </a:lnTo>
                  <a:lnTo>
                    <a:pt x="451" y="602"/>
                  </a:lnTo>
                  <a:lnTo>
                    <a:pt x="442" y="599"/>
                  </a:lnTo>
                  <a:lnTo>
                    <a:pt x="440" y="597"/>
                  </a:lnTo>
                  <a:lnTo>
                    <a:pt x="434" y="594"/>
                  </a:lnTo>
                  <a:lnTo>
                    <a:pt x="425" y="591"/>
                  </a:lnTo>
                  <a:lnTo>
                    <a:pt x="417" y="590"/>
                  </a:lnTo>
                  <a:lnTo>
                    <a:pt x="412" y="590"/>
                  </a:lnTo>
                  <a:lnTo>
                    <a:pt x="408" y="591"/>
                  </a:lnTo>
                  <a:lnTo>
                    <a:pt x="406" y="593"/>
                  </a:lnTo>
                  <a:lnTo>
                    <a:pt x="403" y="596"/>
                  </a:lnTo>
                  <a:lnTo>
                    <a:pt x="402" y="601"/>
                  </a:lnTo>
                  <a:lnTo>
                    <a:pt x="402" y="607"/>
                  </a:lnTo>
                  <a:lnTo>
                    <a:pt x="404" y="616"/>
                  </a:lnTo>
                  <a:lnTo>
                    <a:pt x="408" y="626"/>
                  </a:lnTo>
                  <a:lnTo>
                    <a:pt x="413" y="637"/>
                  </a:lnTo>
                  <a:lnTo>
                    <a:pt x="417" y="649"/>
                  </a:lnTo>
                  <a:lnTo>
                    <a:pt x="420" y="660"/>
                  </a:lnTo>
                  <a:lnTo>
                    <a:pt x="423" y="672"/>
                  </a:lnTo>
                  <a:lnTo>
                    <a:pt x="424" y="685"/>
                  </a:lnTo>
                  <a:lnTo>
                    <a:pt x="426" y="697"/>
                  </a:lnTo>
                  <a:lnTo>
                    <a:pt x="426" y="711"/>
                  </a:lnTo>
                  <a:lnTo>
                    <a:pt x="426" y="723"/>
                  </a:lnTo>
                  <a:lnTo>
                    <a:pt x="425" y="750"/>
                  </a:lnTo>
                  <a:lnTo>
                    <a:pt x="420" y="777"/>
                  </a:lnTo>
                  <a:lnTo>
                    <a:pt x="414" y="805"/>
                  </a:lnTo>
                  <a:lnTo>
                    <a:pt x="406" y="835"/>
                  </a:lnTo>
                  <a:close/>
                </a:path>
              </a:pathLst>
            </a:custGeom>
            <a:solidFill>
              <a:srgbClr val="6b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6797520" y="2259000"/>
              <a:ext cx="152640" cy="300240"/>
            </a:xfrm>
            <a:custGeom>
              <a:avLst/>
              <a:gdLst/>
              <a:ahLst/>
              <a:rect l="l" t="t" r="r" b="b"/>
              <a:pathLst>
                <a:path w="482" h="944">
                  <a:moveTo>
                    <a:pt x="367" y="778"/>
                  </a:moveTo>
                  <a:lnTo>
                    <a:pt x="359" y="812"/>
                  </a:lnTo>
                  <a:lnTo>
                    <a:pt x="348" y="846"/>
                  </a:lnTo>
                  <a:lnTo>
                    <a:pt x="342" y="862"/>
                  </a:lnTo>
                  <a:lnTo>
                    <a:pt x="335" y="878"/>
                  </a:lnTo>
                  <a:lnTo>
                    <a:pt x="328" y="893"/>
                  </a:lnTo>
                  <a:lnTo>
                    <a:pt x="319" y="907"/>
                  </a:lnTo>
                  <a:lnTo>
                    <a:pt x="311" y="919"/>
                  </a:lnTo>
                  <a:lnTo>
                    <a:pt x="301" y="929"/>
                  </a:lnTo>
                  <a:lnTo>
                    <a:pt x="296" y="933"/>
                  </a:lnTo>
                  <a:lnTo>
                    <a:pt x="291" y="936"/>
                  </a:lnTo>
                  <a:lnTo>
                    <a:pt x="285" y="940"/>
                  </a:lnTo>
                  <a:lnTo>
                    <a:pt x="280" y="941"/>
                  </a:lnTo>
                  <a:lnTo>
                    <a:pt x="274" y="944"/>
                  </a:lnTo>
                  <a:lnTo>
                    <a:pt x="268" y="944"/>
                  </a:lnTo>
                  <a:lnTo>
                    <a:pt x="262" y="944"/>
                  </a:lnTo>
                  <a:lnTo>
                    <a:pt x="255" y="942"/>
                  </a:lnTo>
                  <a:lnTo>
                    <a:pt x="249" y="941"/>
                  </a:lnTo>
                  <a:lnTo>
                    <a:pt x="243" y="939"/>
                  </a:lnTo>
                  <a:lnTo>
                    <a:pt x="236" y="935"/>
                  </a:lnTo>
                  <a:lnTo>
                    <a:pt x="228" y="930"/>
                  </a:lnTo>
                  <a:lnTo>
                    <a:pt x="205" y="910"/>
                  </a:lnTo>
                  <a:lnTo>
                    <a:pt x="185" y="894"/>
                  </a:lnTo>
                  <a:lnTo>
                    <a:pt x="167" y="882"/>
                  </a:lnTo>
                  <a:lnTo>
                    <a:pt x="151" y="872"/>
                  </a:lnTo>
                  <a:lnTo>
                    <a:pt x="136" y="865"/>
                  </a:lnTo>
                  <a:lnTo>
                    <a:pt x="124" y="860"/>
                  </a:lnTo>
                  <a:lnTo>
                    <a:pt x="111" y="858"/>
                  </a:lnTo>
                  <a:lnTo>
                    <a:pt x="100" y="856"/>
                  </a:lnTo>
                  <a:lnTo>
                    <a:pt x="99" y="856"/>
                  </a:lnTo>
                  <a:lnTo>
                    <a:pt x="94" y="854"/>
                  </a:lnTo>
                  <a:lnTo>
                    <a:pt x="88" y="849"/>
                  </a:lnTo>
                  <a:lnTo>
                    <a:pt x="82" y="840"/>
                  </a:lnTo>
                  <a:lnTo>
                    <a:pt x="78" y="834"/>
                  </a:lnTo>
                  <a:lnTo>
                    <a:pt x="75" y="828"/>
                  </a:lnTo>
                  <a:lnTo>
                    <a:pt x="72" y="819"/>
                  </a:lnTo>
                  <a:lnTo>
                    <a:pt x="70" y="811"/>
                  </a:lnTo>
                  <a:lnTo>
                    <a:pt x="68" y="801"/>
                  </a:lnTo>
                  <a:lnTo>
                    <a:pt x="67" y="790"/>
                  </a:lnTo>
                  <a:lnTo>
                    <a:pt x="67" y="776"/>
                  </a:lnTo>
                  <a:lnTo>
                    <a:pt x="68" y="762"/>
                  </a:lnTo>
                  <a:lnTo>
                    <a:pt x="70" y="747"/>
                  </a:lnTo>
                  <a:lnTo>
                    <a:pt x="73" y="731"/>
                  </a:lnTo>
                  <a:lnTo>
                    <a:pt x="78" y="716"/>
                  </a:lnTo>
                  <a:lnTo>
                    <a:pt x="84" y="701"/>
                  </a:lnTo>
                  <a:lnTo>
                    <a:pt x="91" y="690"/>
                  </a:lnTo>
                  <a:lnTo>
                    <a:pt x="95" y="680"/>
                  </a:lnTo>
                  <a:lnTo>
                    <a:pt x="99" y="674"/>
                  </a:lnTo>
                  <a:lnTo>
                    <a:pt x="100" y="672"/>
                  </a:lnTo>
                  <a:lnTo>
                    <a:pt x="103" y="669"/>
                  </a:lnTo>
                  <a:lnTo>
                    <a:pt x="105" y="664"/>
                  </a:lnTo>
                  <a:lnTo>
                    <a:pt x="111" y="655"/>
                  </a:lnTo>
                  <a:lnTo>
                    <a:pt x="119" y="645"/>
                  </a:lnTo>
                  <a:lnTo>
                    <a:pt x="126" y="634"/>
                  </a:lnTo>
                  <a:lnTo>
                    <a:pt x="134" y="623"/>
                  </a:lnTo>
                  <a:lnTo>
                    <a:pt x="142" y="614"/>
                  </a:lnTo>
                  <a:lnTo>
                    <a:pt x="150" y="607"/>
                  </a:lnTo>
                  <a:lnTo>
                    <a:pt x="167" y="602"/>
                  </a:lnTo>
                  <a:lnTo>
                    <a:pt x="182" y="597"/>
                  </a:lnTo>
                  <a:lnTo>
                    <a:pt x="194" y="589"/>
                  </a:lnTo>
                  <a:lnTo>
                    <a:pt x="204" y="581"/>
                  </a:lnTo>
                  <a:lnTo>
                    <a:pt x="212" y="572"/>
                  </a:lnTo>
                  <a:lnTo>
                    <a:pt x="220" y="564"/>
                  </a:lnTo>
                  <a:lnTo>
                    <a:pt x="225" y="554"/>
                  </a:lnTo>
                  <a:lnTo>
                    <a:pt x="228" y="543"/>
                  </a:lnTo>
                  <a:lnTo>
                    <a:pt x="231" y="533"/>
                  </a:lnTo>
                  <a:lnTo>
                    <a:pt x="232" y="523"/>
                  </a:lnTo>
                  <a:lnTo>
                    <a:pt x="232" y="513"/>
                  </a:lnTo>
                  <a:lnTo>
                    <a:pt x="232" y="503"/>
                  </a:lnTo>
                  <a:lnTo>
                    <a:pt x="231" y="486"/>
                  </a:lnTo>
                  <a:lnTo>
                    <a:pt x="228" y="471"/>
                  </a:lnTo>
                  <a:lnTo>
                    <a:pt x="227" y="465"/>
                  </a:lnTo>
                  <a:lnTo>
                    <a:pt x="223" y="459"/>
                  </a:lnTo>
                  <a:lnTo>
                    <a:pt x="221" y="454"/>
                  </a:lnTo>
                  <a:lnTo>
                    <a:pt x="217" y="449"/>
                  </a:lnTo>
                  <a:lnTo>
                    <a:pt x="207" y="441"/>
                  </a:lnTo>
                  <a:lnTo>
                    <a:pt x="199" y="433"/>
                  </a:lnTo>
                  <a:lnTo>
                    <a:pt x="189" y="427"/>
                  </a:lnTo>
                  <a:lnTo>
                    <a:pt x="182" y="423"/>
                  </a:lnTo>
                  <a:lnTo>
                    <a:pt x="177" y="421"/>
                  </a:lnTo>
                  <a:lnTo>
                    <a:pt x="174" y="420"/>
                  </a:lnTo>
                  <a:lnTo>
                    <a:pt x="162" y="412"/>
                  </a:lnTo>
                  <a:lnTo>
                    <a:pt x="151" y="407"/>
                  </a:lnTo>
                  <a:lnTo>
                    <a:pt x="140" y="405"/>
                  </a:lnTo>
                  <a:lnTo>
                    <a:pt x="129" y="404"/>
                  </a:lnTo>
                  <a:lnTo>
                    <a:pt x="120" y="405"/>
                  </a:lnTo>
                  <a:lnTo>
                    <a:pt x="110" y="406"/>
                  </a:lnTo>
                  <a:lnTo>
                    <a:pt x="103" y="409"/>
                  </a:lnTo>
                  <a:lnTo>
                    <a:pt x="94" y="411"/>
                  </a:lnTo>
                  <a:lnTo>
                    <a:pt x="81" y="416"/>
                  </a:lnTo>
                  <a:lnTo>
                    <a:pt x="68" y="418"/>
                  </a:lnTo>
                  <a:lnTo>
                    <a:pt x="63" y="418"/>
                  </a:lnTo>
                  <a:lnTo>
                    <a:pt x="59" y="415"/>
                  </a:lnTo>
                  <a:lnTo>
                    <a:pt x="54" y="411"/>
                  </a:lnTo>
                  <a:lnTo>
                    <a:pt x="49" y="404"/>
                  </a:lnTo>
                  <a:lnTo>
                    <a:pt x="46" y="393"/>
                  </a:lnTo>
                  <a:lnTo>
                    <a:pt x="43" y="378"/>
                  </a:lnTo>
                  <a:lnTo>
                    <a:pt x="39" y="361"/>
                  </a:lnTo>
                  <a:lnTo>
                    <a:pt x="35" y="340"/>
                  </a:lnTo>
                  <a:lnTo>
                    <a:pt x="28" y="291"/>
                  </a:lnTo>
                  <a:lnTo>
                    <a:pt x="20" y="236"/>
                  </a:lnTo>
                  <a:lnTo>
                    <a:pt x="14" y="180"/>
                  </a:lnTo>
                  <a:lnTo>
                    <a:pt x="9" y="124"/>
                  </a:lnTo>
                  <a:lnTo>
                    <a:pt x="4" y="73"/>
                  </a:lnTo>
                  <a:lnTo>
                    <a:pt x="1" y="31"/>
                  </a:lnTo>
                  <a:lnTo>
                    <a:pt x="0" y="19"/>
                  </a:lnTo>
                  <a:lnTo>
                    <a:pt x="1" y="9"/>
                  </a:lnTo>
                  <a:lnTo>
                    <a:pt x="2" y="5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28" y="8"/>
                  </a:lnTo>
                  <a:lnTo>
                    <a:pt x="36" y="15"/>
                  </a:lnTo>
                  <a:lnTo>
                    <a:pt x="46" y="24"/>
                  </a:lnTo>
                  <a:lnTo>
                    <a:pt x="55" y="33"/>
                  </a:lnTo>
                  <a:lnTo>
                    <a:pt x="65" y="45"/>
                  </a:lnTo>
                  <a:lnTo>
                    <a:pt x="75" y="57"/>
                  </a:lnTo>
                  <a:lnTo>
                    <a:pt x="94" y="83"/>
                  </a:lnTo>
                  <a:lnTo>
                    <a:pt x="111" y="110"/>
                  </a:lnTo>
                  <a:lnTo>
                    <a:pt x="118" y="121"/>
                  </a:lnTo>
                  <a:lnTo>
                    <a:pt x="126" y="133"/>
                  </a:lnTo>
                  <a:lnTo>
                    <a:pt x="135" y="144"/>
                  </a:lnTo>
                  <a:lnTo>
                    <a:pt x="143" y="155"/>
                  </a:lnTo>
                  <a:lnTo>
                    <a:pt x="164" y="176"/>
                  </a:lnTo>
                  <a:lnTo>
                    <a:pt x="185" y="196"/>
                  </a:lnTo>
                  <a:lnTo>
                    <a:pt x="205" y="213"/>
                  </a:lnTo>
                  <a:lnTo>
                    <a:pt x="221" y="227"/>
                  </a:lnTo>
                  <a:lnTo>
                    <a:pt x="232" y="235"/>
                  </a:lnTo>
                  <a:lnTo>
                    <a:pt x="237" y="238"/>
                  </a:lnTo>
                  <a:lnTo>
                    <a:pt x="243" y="238"/>
                  </a:lnTo>
                  <a:lnTo>
                    <a:pt x="259" y="240"/>
                  </a:lnTo>
                  <a:lnTo>
                    <a:pt x="284" y="244"/>
                  </a:lnTo>
                  <a:lnTo>
                    <a:pt x="314" y="249"/>
                  </a:lnTo>
                  <a:lnTo>
                    <a:pt x="348" y="257"/>
                  </a:lnTo>
                  <a:lnTo>
                    <a:pt x="382" y="267"/>
                  </a:lnTo>
                  <a:lnTo>
                    <a:pt x="399" y="273"/>
                  </a:lnTo>
                  <a:lnTo>
                    <a:pt x="415" y="281"/>
                  </a:lnTo>
                  <a:lnTo>
                    <a:pt x="430" y="288"/>
                  </a:lnTo>
                  <a:lnTo>
                    <a:pt x="444" y="298"/>
                  </a:lnTo>
                  <a:lnTo>
                    <a:pt x="451" y="304"/>
                  </a:lnTo>
                  <a:lnTo>
                    <a:pt x="457" y="311"/>
                  </a:lnTo>
                  <a:lnTo>
                    <a:pt x="462" y="320"/>
                  </a:lnTo>
                  <a:lnTo>
                    <a:pt x="467" y="329"/>
                  </a:lnTo>
                  <a:lnTo>
                    <a:pt x="472" y="339"/>
                  </a:lnTo>
                  <a:lnTo>
                    <a:pt x="474" y="348"/>
                  </a:lnTo>
                  <a:lnTo>
                    <a:pt x="478" y="358"/>
                  </a:lnTo>
                  <a:lnTo>
                    <a:pt x="479" y="369"/>
                  </a:lnTo>
                  <a:lnTo>
                    <a:pt x="482" y="393"/>
                  </a:lnTo>
                  <a:lnTo>
                    <a:pt x="482" y="416"/>
                  </a:lnTo>
                  <a:lnTo>
                    <a:pt x="479" y="439"/>
                  </a:lnTo>
                  <a:lnTo>
                    <a:pt x="474" y="462"/>
                  </a:lnTo>
                  <a:lnTo>
                    <a:pt x="468" y="484"/>
                  </a:lnTo>
                  <a:lnTo>
                    <a:pt x="461" y="502"/>
                  </a:lnTo>
                  <a:lnTo>
                    <a:pt x="456" y="512"/>
                  </a:lnTo>
                  <a:lnTo>
                    <a:pt x="451" y="519"/>
                  </a:lnTo>
                  <a:lnTo>
                    <a:pt x="446" y="527"/>
                  </a:lnTo>
                  <a:lnTo>
                    <a:pt x="441" y="533"/>
                  </a:lnTo>
                  <a:lnTo>
                    <a:pt x="435" y="539"/>
                  </a:lnTo>
                  <a:lnTo>
                    <a:pt x="430" y="544"/>
                  </a:lnTo>
                  <a:lnTo>
                    <a:pt x="424" y="546"/>
                  </a:lnTo>
                  <a:lnTo>
                    <a:pt x="418" y="549"/>
                  </a:lnTo>
                  <a:lnTo>
                    <a:pt x="412" y="550"/>
                  </a:lnTo>
                  <a:lnTo>
                    <a:pt x="404" y="550"/>
                  </a:lnTo>
                  <a:lnTo>
                    <a:pt x="398" y="548"/>
                  </a:lnTo>
                  <a:lnTo>
                    <a:pt x="392" y="545"/>
                  </a:lnTo>
                  <a:lnTo>
                    <a:pt x="390" y="544"/>
                  </a:lnTo>
                  <a:lnTo>
                    <a:pt x="385" y="543"/>
                  </a:lnTo>
                  <a:lnTo>
                    <a:pt x="377" y="543"/>
                  </a:lnTo>
                  <a:lnTo>
                    <a:pt x="370" y="544"/>
                  </a:lnTo>
                  <a:lnTo>
                    <a:pt x="366" y="545"/>
                  </a:lnTo>
                  <a:lnTo>
                    <a:pt x="362" y="548"/>
                  </a:lnTo>
                  <a:lnTo>
                    <a:pt x="361" y="550"/>
                  </a:lnTo>
                  <a:lnTo>
                    <a:pt x="360" y="555"/>
                  </a:lnTo>
                  <a:lnTo>
                    <a:pt x="359" y="560"/>
                  </a:lnTo>
                  <a:lnTo>
                    <a:pt x="360" y="567"/>
                  </a:lnTo>
                  <a:lnTo>
                    <a:pt x="362" y="576"/>
                  </a:lnTo>
                  <a:lnTo>
                    <a:pt x="367" y="586"/>
                  </a:lnTo>
                  <a:lnTo>
                    <a:pt x="372" y="597"/>
                  </a:lnTo>
                  <a:lnTo>
                    <a:pt x="376" y="608"/>
                  </a:lnTo>
                  <a:lnTo>
                    <a:pt x="380" y="619"/>
                  </a:lnTo>
                  <a:lnTo>
                    <a:pt x="382" y="630"/>
                  </a:lnTo>
                  <a:lnTo>
                    <a:pt x="383" y="642"/>
                  </a:lnTo>
                  <a:lnTo>
                    <a:pt x="385" y="653"/>
                  </a:lnTo>
                  <a:lnTo>
                    <a:pt x="386" y="664"/>
                  </a:lnTo>
                  <a:lnTo>
                    <a:pt x="386" y="677"/>
                  </a:lnTo>
                  <a:lnTo>
                    <a:pt x="383" y="700"/>
                  </a:lnTo>
                  <a:lnTo>
                    <a:pt x="380" y="726"/>
                  </a:lnTo>
                  <a:lnTo>
                    <a:pt x="375" y="752"/>
                  </a:lnTo>
                  <a:lnTo>
                    <a:pt x="367" y="778"/>
                  </a:lnTo>
                  <a:close/>
                </a:path>
              </a:pathLst>
            </a:custGeom>
            <a:solidFill>
              <a:srgbClr val="6f5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6802560" y="2266920"/>
              <a:ext cx="133200" cy="285840"/>
            </a:xfrm>
            <a:custGeom>
              <a:avLst/>
              <a:gdLst/>
              <a:ahLst/>
              <a:rect l="l" t="t" r="r" b="b"/>
              <a:pathLst>
                <a:path w="419" h="896">
                  <a:moveTo>
                    <a:pt x="329" y="717"/>
                  </a:moveTo>
                  <a:lnTo>
                    <a:pt x="327" y="734"/>
                  </a:lnTo>
                  <a:lnTo>
                    <a:pt x="324" y="752"/>
                  </a:lnTo>
                  <a:lnTo>
                    <a:pt x="319" y="769"/>
                  </a:lnTo>
                  <a:lnTo>
                    <a:pt x="316" y="787"/>
                  </a:lnTo>
                  <a:lnTo>
                    <a:pt x="310" y="805"/>
                  </a:lnTo>
                  <a:lnTo>
                    <a:pt x="303" y="822"/>
                  </a:lnTo>
                  <a:lnTo>
                    <a:pt x="297" y="836"/>
                  </a:lnTo>
                  <a:lnTo>
                    <a:pt x="290" y="851"/>
                  </a:lnTo>
                  <a:lnTo>
                    <a:pt x="281" y="865"/>
                  </a:lnTo>
                  <a:lnTo>
                    <a:pt x="273" y="876"/>
                  </a:lnTo>
                  <a:lnTo>
                    <a:pt x="264" y="884"/>
                  </a:lnTo>
                  <a:lnTo>
                    <a:pt x="253" y="891"/>
                  </a:lnTo>
                  <a:lnTo>
                    <a:pt x="248" y="893"/>
                  </a:lnTo>
                  <a:lnTo>
                    <a:pt x="243" y="896"/>
                  </a:lnTo>
                  <a:lnTo>
                    <a:pt x="237" y="896"/>
                  </a:lnTo>
                  <a:lnTo>
                    <a:pt x="232" y="896"/>
                  </a:lnTo>
                  <a:lnTo>
                    <a:pt x="226" y="896"/>
                  </a:lnTo>
                  <a:lnTo>
                    <a:pt x="220" y="894"/>
                  </a:lnTo>
                  <a:lnTo>
                    <a:pt x="214" y="892"/>
                  </a:lnTo>
                  <a:lnTo>
                    <a:pt x="207" y="888"/>
                  </a:lnTo>
                  <a:lnTo>
                    <a:pt x="188" y="872"/>
                  </a:lnTo>
                  <a:lnTo>
                    <a:pt x="168" y="859"/>
                  </a:lnTo>
                  <a:lnTo>
                    <a:pt x="151" y="849"/>
                  </a:lnTo>
                  <a:lnTo>
                    <a:pt x="134" y="840"/>
                  </a:lnTo>
                  <a:lnTo>
                    <a:pt x="119" y="835"/>
                  </a:lnTo>
                  <a:lnTo>
                    <a:pt x="105" y="832"/>
                  </a:lnTo>
                  <a:lnTo>
                    <a:pt x="94" y="829"/>
                  </a:lnTo>
                  <a:lnTo>
                    <a:pt x="84" y="828"/>
                  </a:lnTo>
                  <a:lnTo>
                    <a:pt x="83" y="828"/>
                  </a:lnTo>
                  <a:lnTo>
                    <a:pt x="79" y="824"/>
                  </a:lnTo>
                  <a:lnTo>
                    <a:pt x="75" y="819"/>
                  </a:lnTo>
                  <a:lnTo>
                    <a:pt x="68" y="812"/>
                  </a:lnTo>
                  <a:lnTo>
                    <a:pt x="66" y="807"/>
                  </a:lnTo>
                  <a:lnTo>
                    <a:pt x="65" y="801"/>
                  </a:lnTo>
                  <a:lnTo>
                    <a:pt x="62" y="793"/>
                  </a:lnTo>
                  <a:lnTo>
                    <a:pt x="61" y="786"/>
                  </a:lnTo>
                  <a:lnTo>
                    <a:pt x="60" y="777"/>
                  </a:lnTo>
                  <a:lnTo>
                    <a:pt x="60" y="768"/>
                  </a:lnTo>
                  <a:lnTo>
                    <a:pt x="61" y="757"/>
                  </a:lnTo>
                  <a:lnTo>
                    <a:pt x="63" y="744"/>
                  </a:lnTo>
                  <a:lnTo>
                    <a:pt x="66" y="731"/>
                  </a:lnTo>
                  <a:lnTo>
                    <a:pt x="70" y="716"/>
                  </a:lnTo>
                  <a:lnTo>
                    <a:pt x="76" y="702"/>
                  </a:lnTo>
                  <a:lnTo>
                    <a:pt x="82" y="689"/>
                  </a:lnTo>
                  <a:lnTo>
                    <a:pt x="88" y="677"/>
                  </a:lnTo>
                  <a:lnTo>
                    <a:pt x="93" y="668"/>
                  </a:lnTo>
                  <a:lnTo>
                    <a:pt x="97" y="662"/>
                  </a:lnTo>
                  <a:lnTo>
                    <a:pt x="98" y="659"/>
                  </a:lnTo>
                  <a:lnTo>
                    <a:pt x="99" y="657"/>
                  </a:lnTo>
                  <a:lnTo>
                    <a:pt x="103" y="651"/>
                  </a:lnTo>
                  <a:lnTo>
                    <a:pt x="108" y="641"/>
                  </a:lnTo>
                  <a:lnTo>
                    <a:pt x="115" y="629"/>
                  </a:lnTo>
                  <a:lnTo>
                    <a:pt x="123" y="616"/>
                  </a:lnTo>
                  <a:lnTo>
                    <a:pt x="131" y="604"/>
                  </a:lnTo>
                  <a:lnTo>
                    <a:pt x="139" y="593"/>
                  </a:lnTo>
                  <a:lnTo>
                    <a:pt x="147" y="584"/>
                  </a:lnTo>
                  <a:lnTo>
                    <a:pt x="162" y="578"/>
                  </a:lnTo>
                  <a:lnTo>
                    <a:pt x="174" y="571"/>
                  </a:lnTo>
                  <a:lnTo>
                    <a:pt x="184" y="563"/>
                  </a:lnTo>
                  <a:lnTo>
                    <a:pt x="193" y="555"/>
                  </a:lnTo>
                  <a:lnTo>
                    <a:pt x="200" y="546"/>
                  </a:lnTo>
                  <a:lnTo>
                    <a:pt x="205" y="536"/>
                  </a:lnTo>
                  <a:lnTo>
                    <a:pt x="210" y="527"/>
                  </a:lnTo>
                  <a:lnTo>
                    <a:pt x="212" y="517"/>
                  </a:lnTo>
                  <a:lnTo>
                    <a:pt x="215" y="507"/>
                  </a:lnTo>
                  <a:lnTo>
                    <a:pt x="216" y="496"/>
                  </a:lnTo>
                  <a:lnTo>
                    <a:pt x="216" y="486"/>
                  </a:lnTo>
                  <a:lnTo>
                    <a:pt x="216" y="477"/>
                  </a:lnTo>
                  <a:lnTo>
                    <a:pt x="215" y="459"/>
                  </a:lnTo>
                  <a:lnTo>
                    <a:pt x="212" y="445"/>
                  </a:lnTo>
                  <a:lnTo>
                    <a:pt x="211" y="439"/>
                  </a:lnTo>
                  <a:lnTo>
                    <a:pt x="207" y="433"/>
                  </a:lnTo>
                  <a:lnTo>
                    <a:pt x="205" y="428"/>
                  </a:lnTo>
                  <a:lnTo>
                    <a:pt x="201" y="423"/>
                  </a:lnTo>
                  <a:lnTo>
                    <a:pt x="191" y="415"/>
                  </a:lnTo>
                  <a:lnTo>
                    <a:pt x="183" y="407"/>
                  </a:lnTo>
                  <a:lnTo>
                    <a:pt x="173" y="401"/>
                  </a:lnTo>
                  <a:lnTo>
                    <a:pt x="166" y="397"/>
                  </a:lnTo>
                  <a:lnTo>
                    <a:pt x="161" y="395"/>
                  </a:lnTo>
                  <a:lnTo>
                    <a:pt x="158" y="394"/>
                  </a:lnTo>
                  <a:lnTo>
                    <a:pt x="146" y="386"/>
                  </a:lnTo>
                  <a:lnTo>
                    <a:pt x="135" y="381"/>
                  </a:lnTo>
                  <a:lnTo>
                    <a:pt x="125" y="379"/>
                  </a:lnTo>
                  <a:lnTo>
                    <a:pt x="115" y="378"/>
                  </a:lnTo>
                  <a:lnTo>
                    <a:pt x="107" y="378"/>
                  </a:lnTo>
                  <a:lnTo>
                    <a:pt x="99" y="379"/>
                  </a:lnTo>
                  <a:lnTo>
                    <a:pt x="92" y="381"/>
                  </a:lnTo>
                  <a:lnTo>
                    <a:pt x="86" y="384"/>
                  </a:lnTo>
                  <a:lnTo>
                    <a:pt x="75" y="389"/>
                  </a:lnTo>
                  <a:lnTo>
                    <a:pt x="65" y="390"/>
                  </a:lnTo>
                  <a:lnTo>
                    <a:pt x="61" y="390"/>
                  </a:lnTo>
                  <a:lnTo>
                    <a:pt x="57" y="386"/>
                  </a:lnTo>
                  <a:lnTo>
                    <a:pt x="54" y="381"/>
                  </a:lnTo>
                  <a:lnTo>
                    <a:pt x="50" y="374"/>
                  </a:lnTo>
                  <a:lnTo>
                    <a:pt x="46" y="364"/>
                  </a:lnTo>
                  <a:lnTo>
                    <a:pt x="43" y="351"/>
                  </a:lnTo>
                  <a:lnTo>
                    <a:pt x="39" y="333"/>
                  </a:lnTo>
                  <a:lnTo>
                    <a:pt x="35" y="315"/>
                  </a:lnTo>
                  <a:lnTo>
                    <a:pt x="29" y="271"/>
                  </a:lnTo>
                  <a:lnTo>
                    <a:pt x="22" y="220"/>
                  </a:lnTo>
                  <a:lnTo>
                    <a:pt x="15" y="167"/>
                  </a:lnTo>
                  <a:lnTo>
                    <a:pt x="11" y="116"/>
                  </a:lnTo>
                  <a:lnTo>
                    <a:pt x="6" y="68"/>
                  </a:lnTo>
                  <a:lnTo>
                    <a:pt x="1" y="27"/>
                  </a:lnTo>
                  <a:lnTo>
                    <a:pt x="0" y="15"/>
                  </a:lnTo>
                  <a:lnTo>
                    <a:pt x="1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5" y="7"/>
                  </a:lnTo>
                  <a:lnTo>
                    <a:pt x="33" y="15"/>
                  </a:lnTo>
                  <a:lnTo>
                    <a:pt x="50" y="32"/>
                  </a:lnTo>
                  <a:lnTo>
                    <a:pt x="68" y="54"/>
                  </a:lnTo>
                  <a:lnTo>
                    <a:pt x="87" y="80"/>
                  </a:lnTo>
                  <a:lnTo>
                    <a:pt x="104" y="106"/>
                  </a:lnTo>
                  <a:lnTo>
                    <a:pt x="110" y="116"/>
                  </a:lnTo>
                  <a:lnTo>
                    <a:pt x="118" y="126"/>
                  </a:lnTo>
                  <a:lnTo>
                    <a:pt x="125" y="137"/>
                  </a:lnTo>
                  <a:lnTo>
                    <a:pt x="134" y="146"/>
                  </a:lnTo>
                  <a:lnTo>
                    <a:pt x="152" y="165"/>
                  </a:lnTo>
                  <a:lnTo>
                    <a:pt x="171" y="182"/>
                  </a:lnTo>
                  <a:lnTo>
                    <a:pt x="188" y="196"/>
                  </a:lnTo>
                  <a:lnTo>
                    <a:pt x="202" y="207"/>
                  </a:lnTo>
                  <a:lnTo>
                    <a:pt x="212" y="214"/>
                  </a:lnTo>
                  <a:lnTo>
                    <a:pt x="215" y="217"/>
                  </a:lnTo>
                  <a:lnTo>
                    <a:pt x="221" y="218"/>
                  </a:lnTo>
                  <a:lnTo>
                    <a:pt x="234" y="220"/>
                  </a:lnTo>
                  <a:lnTo>
                    <a:pt x="255" y="224"/>
                  </a:lnTo>
                  <a:lnTo>
                    <a:pt x="281" y="230"/>
                  </a:lnTo>
                  <a:lnTo>
                    <a:pt x="310" y="237"/>
                  </a:lnTo>
                  <a:lnTo>
                    <a:pt x="338" y="249"/>
                  </a:lnTo>
                  <a:lnTo>
                    <a:pt x="353" y="255"/>
                  </a:lnTo>
                  <a:lnTo>
                    <a:pt x="365" y="261"/>
                  </a:lnTo>
                  <a:lnTo>
                    <a:pt x="378" y="268"/>
                  </a:lnTo>
                  <a:lnTo>
                    <a:pt x="389" y="277"/>
                  </a:lnTo>
                  <a:lnTo>
                    <a:pt x="394" y="283"/>
                  </a:lnTo>
                  <a:lnTo>
                    <a:pt x="401" y="290"/>
                  </a:lnTo>
                  <a:lnTo>
                    <a:pt x="404" y="298"/>
                  </a:lnTo>
                  <a:lnTo>
                    <a:pt x="408" y="305"/>
                  </a:lnTo>
                  <a:lnTo>
                    <a:pt x="412" y="314"/>
                  </a:lnTo>
                  <a:lnTo>
                    <a:pt x="414" y="322"/>
                  </a:lnTo>
                  <a:lnTo>
                    <a:pt x="417" y="331"/>
                  </a:lnTo>
                  <a:lnTo>
                    <a:pt x="418" y="341"/>
                  </a:lnTo>
                  <a:lnTo>
                    <a:pt x="419" y="360"/>
                  </a:lnTo>
                  <a:lnTo>
                    <a:pt x="419" y="380"/>
                  </a:lnTo>
                  <a:lnTo>
                    <a:pt x="417" y="400"/>
                  </a:lnTo>
                  <a:lnTo>
                    <a:pt x="413" y="418"/>
                  </a:lnTo>
                  <a:lnTo>
                    <a:pt x="407" y="437"/>
                  </a:lnTo>
                  <a:lnTo>
                    <a:pt x="399" y="453"/>
                  </a:lnTo>
                  <a:lnTo>
                    <a:pt x="392" y="466"/>
                  </a:lnTo>
                  <a:lnTo>
                    <a:pt x="382" y="479"/>
                  </a:lnTo>
                  <a:lnTo>
                    <a:pt x="377" y="482"/>
                  </a:lnTo>
                  <a:lnTo>
                    <a:pt x="372" y="487"/>
                  </a:lnTo>
                  <a:lnTo>
                    <a:pt x="367" y="490"/>
                  </a:lnTo>
                  <a:lnTo>
                    <a:pt x="361" y="492"/>
                  </a:lnTo>
                  <a:lnTo>
                    <a:pt x="355" y="492"/>
                  </a:lnTo>
                  <a:lnTo>
                    <a:pt x="350" y="492"/>
                  </a:lnTo>
                  <a:lnTo>
                    <a:pt x="344" y="491"/>
                  </a:lnTo>
                  <a:lnTo>
                    <a:pt x="338" y="488"/>
                  </a:lnTo>
                  <a:lnTo>
                    <a:pt x="337" y="488"/>
                  </a:lnTo>
                  <a:lnTo>
                    <a:pt x="332" y="490"/>
                  </a:lnTo>
                  <a:lnTo>
                    <a:pt x="327" y="491"/>
                  </a:lnTo>
                  <a:lnTo>
                    <a:pt x="322" y="495"/>
                  </a:lnTo>
                  <a:lnTo>
                    <a:pt x="319" y="498"/>
                  </a:lnTo>
                  <a:lnTo>
                    <a:pt x="318" y="502"/>
                  </a:lnTo>
                  <a:lnTo>
                    <a:pt x="317" y="506"/>
                  </a:lnTo>
                  <a:lnTo>
                    <a:pt x="317" y="512"/>
                  </a:lnTo>
                  <a:lnTo>
                    <a:pt x="318" y="518"/>
                  </a:lnTo>
                  <a:lnTo>
                    <a:pt x="319" y="527"/>
                  </a:lnTo>
                  <a:lnTo>
                    <a:pt x="322" y="535"/>
                  </a:lnTo>
                  <a:lnTo>
                    <a:pt x="327" y="546"/>
                  </a:lnTo>
                  <a:lnTo>
                    <a:pt x="334" y="567"/>
                  </a:lnTo>
                  <a:lnTo>
                    <a:pt x="340" y="588"/>
                  </a:lnTo>
                  <a:lnTo>
                    <a:pt x="343" y="609"/>
                  </a:lnTo>
                  <a:lnTo>
                    <a:pt x="344" y="630"/>
                  </a:lnTo>
                  <a:lnTo>
                    <a:pt x="343" y="650"/>
                  </a:lnTo>
                  <a:lnTo>
                    <a:pt x="339" y="670"/>
                  </a:lnTo>
                  <a:lnTo>
                    <a:pt x="335" y="694"/>
                  </a:lnTo>
                  <a:lnTo>
                    <a:pt x="329" y="717"/>
                  </a:lnTo>
                  <a:close/>
                </a:path>
              </a:pathLst>
            </a:custGeom>
            <a:solidFill>
              <a:srgbClr val="715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6807240" y="2274840"/>
              <a:ext cx="112680" cy="271440"/>
            </a:xfrm>
            <a:custGeom>
              <a:avLst/>
              <a:gdLst/>
              <a:ahLst/>
              <a:rect l="l" t="t" r="r" b="b"/>
              <a:pathLst>
                <a:path w="358" h="853">
                  <a:moveTo>
                    <a:pt x="294" y="661"/>
                  </a:moveTo>
                  <a:lnTo>
                    <a:pt x="292" y="678"/>
                  </a:lnTo>
                  <a:lnTo>
                    <a:pt x="291" y="695"/>
                  </a:lnTo>
                  <a:lnTo>
                    <a:pt x="287" y="713"/>
                  </a:lnTo>
                  <a:lnTo>
                    <a:pt x="283" y="731"/>
                  </a:lnTo>
                  <a:lnTo>
                    <a:pt x="278" y="748"/>
                  </a:lnTo>
                  <a:lnTo>
                    <a:pt x="273" y="766"/>
                  </a:lnTo>
                  <a:lnTo>
                    <a:pt x="267" y="783"/>
                  </a:lnTo>
                  <a:lnTo>
                    <a:pt x="261" y="797"/>
                  </a:lnTo>
                  <a:lnTo>
                    <a:pt x="254" y="812"/>
                  </a:lnTo>
                  <a:lnTo>
                    <a:pt x="245" y="825"/>
                  </a:lnTo>
                  <a:lnTo>
                    <a:pt x="236" y="834"/>
                  </a:lnTo>
                  <a:lnTo>
                    <a:pt x="228" y="843"/>
                  </a:lnTo>
                  <a:lnTo>
                    <a:pt x="223" y="847"/>
                  </a:lnTo>
                  <a:lnTo>
                    <a:pt x="218" y="849"/>
                  </a:lnTo>
                  <a:lnTo>
                    <a:pt x="213" y="850"/>
                  </a:lnTo>
                  <a:lnTo>
                    <a:pt x="207" y="852"/>
                  </a:lnTo>
                  <a:lnTo>
                    <a:pt x="202" y="853"/>
                  </a:lnTo>
                  <a:lnTo>
                    <a:pt x="197" y="852"/>
                  </a:lnTo>
                  <a:lnTo>
                    <a:pt x="191" y="850"/>
                  </a:lnTo>
                  <a:lnTo>
                    <a:pt x="185" y="849"/>
                  </a:lnTo>
                  <a:lnTo>
                    <a:pt x="170" y="837"/>
                  </a:lnTo>
                  <a:lnTo>
                    <a:pt x="153" y="826"/>
                  </a:lnTo>
                  <a:lnTo>
                    <a:pt x="137" y="817"/>
                  </a:lnTo>
                  <a:lnTo>
                    <a:pt x="120" y="811"/>
                  </a:lnTo>
                  <a:lnTo>
                    <a:pt x="104" y="806"/>
                  </a:lnTo>
                  <a:lnTo>
                    <a:pt x="89" y="802"/>
                  </a:lnTo>
                  <a:lnTo>
                    <a:pt x="77" y="800"/>
                  </a:lnTo>
                  <a:lnTo>
                    <a:pt x="68" y="800"/>
                  </a:lnTo>
                  <a:lnTo>
                    <a:pt x="67" y="799"/>
                  </a:lnTo>
                  <a:lnTo>
                    <a:pt x="64" y="796"/>
                  </a:lnTo>
                  <a:lnTo>
                    <a:pt x="61" y="791"/>
                  </a:lnTo>
                  <a:lnTo>
                    <a:pt x="57" y="785"/>
                  </a:lnTo>
                  <a:lnTo>
                    <a:pt x="53" y="775"/>
                  </a:lnTo>
                  <a:lnTo>
                    <a:pt x="52" y="763"/>
                  </a:lnTo>
                  <a:lnTo>
                    <a:pt x="52" y="756"/>
                  </a:lnTo>
                  <a:lnTo>
                    <a:pt x="53" y="748"/>
                  </a:lnTo>
                  <a:lnTo>
                    <a:pt x="54" y="738"/>
                  </a:lnTo>
                  <a:lnTo>
                    <a:pt x="57" y="729"/>
                  </a:lnTo>
                  <a:lnTo>
                    <a:pt x="61" y="718"/>
                  </a:lnTo>
                  <a:lnTo>
                    <a:pt x="65" y="705"/>
                  </a:lnTo>
                  <a:lnTo>
                    <a:pt x="73" y="692"/>
                  </a:lnTo>
                  <a:lnTo>
                    <a:pt x="80" y="678"/>
                  </a:lnTo>
                  <a:lnTo>
                    <a:pt x="86" y="666"/>
                  </a:lnTo>
                  <a:lnTo>
                    <a:pt x="93" y="656"/>
                  </a:lnTo>
                  <a:lnTo>
                    <a:pt x="96" y="650"/>
                  </a:lnTo>
                  <a:lnTo>
                    <a:pt x="99" y="647"/>
                  </a:lnTo>
                  <a:lnTo>
                    <a:pt x="100" y="645"/>
                  </a:lnTo>
                  <a:lnTo>
                    <a:pt x="102" y="638"/>
                  </a:lnTo>
                  <a:lnTo>
                    <a:pt x="107" y="628"/>
                  </a:lnTo>
                  <a:lnTo>
                    <a:pt x="115" y="614"/>
                  </a:lnTo>
                  <a:lnTo>
                    <a:pt x="122" y="601"/>
                  </a:lnTo>
                  <a:lnTo>
                    <a:pt x="131" y="587"/>
                  </a:lnTo>
                  <a:lnTo>
                    <a:pt x="138" y="574"/>
                  </a:lnTo>
                  <a:lnTo>
                    <a:pt x="147" y="564"/>
                  </a:lnTo>
                  <a:lnTo>
                    <a:pt x="159" y="556"/>
                  </a:lnTo>
                  <a:lnTo>
                    <a:pt x="169" y="549"/>
                  </a:lnTo>
                  <a:lnTo>
                    <a:pt x="177" y="542"/>
                  </a:lnTo>
                  <a:lnTo>
                    <a:pt x="185" y="532"/>
                  </a:lnTo>
                  <a:lnTo>
                    <a:pt x="190" y="523"/>
                  </a:lnTo>
                  <a:lnTo>
                    <a:pt x="195" y="513"/>
                  </a:lnTo>
                  <a:lnTo>
                    <a:pt x="198" y="504"/>
                  </a:lnTo>
                  <a:lnTo>
                    <a:pt x="201" y="492"/>
                  </a:lnTo>
                  <a:lnTo>
                    <a:pt x="202" y="473"/>
                  </a:lnTo>
                  <a:lnTo>
                    <a:pt x="202" y="453"/>
                  </a:lnTo>
                  <a:lnTo>
                    <a:pt x="201" y="436"/>
                  </a:lnTo>
                  <a:lnTo>
                    <a:pt x="198" y="422"/>
                  </a:lnTo>
                  <a:lnTo>
                    <a:pt x="197" y="416"/>
                  </a:lnTo>
                  <a:lnTo>
                    <a:pt x="193" y="410"/>
                  </a:lnTo>
                  <a:lnTo>
                    <a:pt x="191" y="405"/>
                  </a:lnTo>
                  <a:lnTo>
                    <a:pt x="187" y="400"/>
                  </a:lnTo>
                  <a:lnTo>
                    <a:pt x="177" y="392"/>
                  </a:lnTo>
                  <a:lnTo>
                    <a:pt x="169" y="384"/>
                  </a:lnTo>
                  <a:lnTo>
                    <a:pt x="159" y="378"/>
                  </a:lnTo>
                  <a:lnTo>
                    <a:pt x="152" y="374"/>
                  </a:lnTo>
                  <a:lnTo>
                    <a:pt x="147" y="372"/>
                  </a:lnTo>
                  <a:lnTo>
                    <a:pt x="144" y="371"/>
                  </a:lnTo>
                  <a:lnTo>
                    <a:pt x="132" y="363"/>
                  </a:lnTo>
                  <a:lnTo>
                    <a:pt x="122" y="358"/>
                  </a:lnTo>
                  <a:lnTo>
                    <a:pt x="112" y="356"/>
                  </a:lnTo>
                  <a:lnTo>
                    <a:pt x="104" y="355"/>
                  </a:lnTo>
                  <a:lnTo>
                    <a:pt x="96" y="355"/>
                  </a:lnTo>
                  <a:lnTo>
                    <a:pt x="90" y="356"/>
                  </a:lnTo>
                  <a:lnTo>
                    <a:pt x="84" y="357"/>
                  </a:lnTo>
                  <a:lnTo>
                    <a:pt x="79" y="360"/>
                  </a:lnTo>
                  <a:lnTo>
                    <a:pt x="70" y="363"/>
                  </a:lnTo>
                  <a:lnTo>
                    <a:pt x="64" y="366"/>
                  </a:lnTo>
                  <a:lnTo>
                    <a:pt x="61" y="365"/>
                  </a:lnTo>
                  <a:lnTo>
                    <a:pt x="57" y="361"/>
                  </a:lnTo>
                  <a:lnTo>
                    <a:pt x="53" y="356"/>
                  </a:lnTo>
                  <a:lnTo>
                    <a:pt x="49" y="349"/>
                  </a:lnTo>
                  <a:lnTo>
                    <a:pt x="46" y="339"/>
                  </a:lnTo>
                  <a:lnTo>
                    <a:pt x="42" y="325"/>
                  </a:lnTo>
                  <a:lnTo>
                    <a:pt x="38" y="310"/>
                  </a:lnTo>
                  <a:lnTo>
                    <a:pt x="36" y="292"/>
                  </a:lnTo>
                  <a:lnTo>
                    <a:pt x="30" y="251"/>
                  </a:lnTo>
                  <a:lnTo>
                    <a:pt x="24" y="206"/>
                  </a:lnTo>
                  <a:lnTo>
                    <a:pt x="17" y="157"/>
                  </a:lnTo>
                  <a:lnTo>
                    <a:pt x="13" y="109"/>
                  </a:lnTo>
                  <a:lnTo>
                    <a:pt x="6" y="63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7" y="4"/>
                  </a:lnTo>
                  <a:lnTo>
                    <a:pt x="24" y="9"/>
                  </a:lnTo>
                  <a:lnTo>
                    <a:pt x="31" y="16"/>
                  </a:lnTo>
                  <a:lnTo>
                    <a:pt x="47" y="34"/>
                  </a:lnTo>
                  <a:lnTo>
                    <a:pt x="65" y="56"/>
                  </a:lnTo>
                  <a:lnTo>
                    <a:pt x="83" y="80"/>
                  </a:lnTo>
                  <a:lnTo>
                    <a:pt x="101" y="107"/>
                  </a:lnTo>
                  <a:lnTo>
                    <a:pt x="106" y="116"/>
                  </a:lnTo>
                  <a:lnTo>
                    <a:pt x="112" y="125"/>
                  </a:lnTo>
                  <a:lnTo>
                    <a:pt x="118" y="133"/>
                  </a:lnTo>
                  <a:lnTo>
                    <a:pt x="126" y="141"/>
                  </a:lnTo>
                  <a:lnTo>
                    <a:pt x="142" y="157"/>
                  </a:lnTo>
                  <a:lnTo>
                    <a:pt x="158" y="170"/>
                  </a:lnTo>
                  <a:lnTo>
                    <a:pt x="173" y="182"/>
                  </a:lnTo>
                  <a:lnTo>
                    <a:pt x="185" y="191"/>
                  </a:lnTo>
                  <a:lnTo>
                    <a:pt x="193" y="197"/>
                  </a:lnTo>
                  <a:lnTo>
                    <a:pt x="196" y="200"/>
                  </a:lnTo>
                  <a:lnTo>
                    <a:pt x="200" y="201"/>
                  </a:lnTo>
                  <a:lnTo>
                    <a:pt x="212" y="203"/>
                  </a:lnTo>
                  <a:lnTo>
                    <a:pt x="228" y="207"/>
                  </a:lnTo>
                  <a:lnTo>
                    <a:pt x="249" y="214"/>
                  </a:lnTo>
                  <a:lnTo>
                    <a:pt x="271" y="222"/>
                  </a:lnTo>
                  <a:lnTo>
                    <a:pt x="294" y="233"/>
                  </a:lnTo>
                  <a:lnTo>
                    <a:pt x="305" y="239"/>
                  </a:lnTo>
                  <a:lnTo>
                    <a:pt x="316" y="245"/>
                  </a:lnTo>
                  <a:lnTo>
                    <a:pt x="326" y="251"/>
                  </a:lnTo>
                  <a:lnTo>
                    <a:pt x="335" y="259"/>
                  </a:lnTo>
                  <a:lnTo>
                    <a:pt x="340" y="265"/>
                  </a:lnTo>
                  <a:lnTo>
                    <a:pt x="344" y="272"/>
                  </a:lnTo>
                  <a:lnTo>
                    <a:pt x="347" y="278"/>
                  </a:lnTo>
                  <a:lnTo>
                    <a:pt x="351" y="286"/>
                  </a:lnTo>
                  <a:lnTo>
                    <a:pt x="355" y="301"/>
                  </a:lnTo>
                  <a:lnTo>
                    <a:pt x="358" y="317"/>
                  </a:lnTo>
                  <a:lnTo>
                    <a:pt x="358" y="333"/>
                  </a:lnTo>
                  <a:lnTo>
                    <a:pt x="358" y="349"/>
                  </a:lnTo>
                  <a:lnTo>
                    <a:pt x="356" y="365"/>
                  </a:lnTo>
                  <a:lnTo>
                    <a:pt x="352" y="379"/>
                  </a:lnTo>
                  <a:lnTo>
                    <a:pt x="347" y="394"/>
                  </a:lnTo>
                  <a:lnTo>
                    <a:pt x="341" y="406"/>
                  </a:lnTo>
                  <a:lnTo>
                    <a:pt x="334" y="417"/>
                  </a:lnTo>
                  <a:lnTo>
                    <a:pt x="326" y="427"/>
                  </a:lnTo>
                  <a:lnTo>
                    <a:pt x="321" y="431"/>
                  </a:lnTo>
                  <a:lnTo>
                    <a:pt x="318" y="435"/>
                  </a:lnTo>
                  <a:lnTo>
                    <a:pt x="313" y="437"/>
                  </a:lnTo>
                  <a:lnTo>
                    <a:pt x="308" y="438"/>
                  </a:lnTo>
                  <a:lnTo>
                    <a:pt x="303" y="440"/>
                  </a:lnTo>
                  <a:lnTo>
                    <a:pt x="298" y="441"/>
                  </a:lnTo>
                  <a:lnTo>
                    <a:pt x="293" y="440"/>
                  </a:lnTo>
                  <a:lnTo>
                    <a:pt x="288" y="438"/>
                  </a:lnTo>
                  <a:lnTo>
                    <a:pt x="287" y="440"/>
                  </a:lnTo>
                  <a:lnTo>
                    <a:pt x="284" y="441"/>
                  </a:lnTo>
                  <a:lnTo>
                    <a:pt x="281" y="444"/>
                  </a:lnTo>
                  <a:lnTo>
                    <a:pt x="278" y="451"/>
                  </a:lnTo>
                  <a:lnTo>
                    <a:pt x="276" y="460"/>
                  </a:lnTo>
                  <a:lnTo>
                    <a:pt x="276" y="472"/>
                  </a:lnTo>
                  <a:lnTo>
                    <a:pt x="277" y="479"/>
                  </a:lnTo>
                  <a:lnTo>
                    <a:pt x="278" y="488"/>
                  </a:lnTo>
                  <a:lnTo>
                    <a:pt x="282" y="496"/>
                  </a:lnTo>
                  <a:lnTo>
                    <a:pt x="286" y="506"/>
                  </a:lnTo>
                  <a:lnTo>
                    <a:pt x="294" y="528"/>
                  </a:lnTo>
                  <a:lnTo>
                    <a:pt x="300" y="548"/>
                  </a:lnTo>
                  <a:lnTo>
                    <a:pt x="303" y="566"/>
                  </a:lnTo>
                  <a:lnTo>
                    <a:pt x="304" y="583"/>
                  </a:lnTo>
                  <a:lnTo>
                    <a:pt x="303" y="602"/>
                  </a:lnTo>
                  <a:lnTo>
                    <a:pt x="300" y="620"/>
                  </a:lnTo>
                  <a:lnTo>
                    <a:pt x="298" y="640"/>
                  </a:lnTo>
                  <a:lnTo>
                    <a:pt x="294" y="661"/>
                  </a:lnTo>
                  <a:close/>
                </a:path>
              </a:pathLst>
            </a:custGeom>
            <a:solidFill>
              <a:srgbClr val="76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6811920" y="2282760"/>
              <a:ext cx="93600" cy="255600"/>
            </a:xfrm>
            <a:custGeom>
              <a:avLst/>
              <a:gdLst/>
              <a:ahLst/>
              <a:rect l="l" t="t" r="r" b="b"/>
              <a:pathLst>
                <a:path w="297" h="807">
                  <a:moveTo>
                    <a:pt x="259" y="603"/>
                  </a:moveTo>
                  <a:lnTo>
                    <a:pt x="259" y="620"/>
                  </a:lnTo>
                  <a:lnTo>
                    <a:pt x="257" y="637"/>
                  </a:lnTo>
                  <a:lnTo>
                    <a:pt x="255" y="655"/>
                  </a:lnTo>
                  <a:lnTo>
                    <a:pt x="251" y="674"/>
                  </a:lnTo>
                  <a:lnTo>
                    <a:pt x="248" y="692"/>
                  </a:lnTo>
                  <a:lnTo>
                    <a:pt x="243" y="710"/>
                  </a:lnTo>
                  <a:lnTo>
                    <a:pt x="238" y="727"/>
                  </a:lnTo>
                  <a:lnTo>
                    <a:pt x="232" y="744"/>
                  </a:lnTo>
                  <a:lnTo>
                    <a:pt x="225" y="759"/>
                  </a:lnTo>
                  <a:lnTo>
                    <a:pt x="218" y="772"/>
                  </a:lnTo>
                  <a:lnTo>
                    <a:pt x="209" y="783"/>
                  </a:lnTo>
                  <a:lnTo>
                    <a:pt x="201" y="793"/>
                  </a:lnTo>
                  <a:lnTo>
                    <a:pt x="192" y="801"/>
                  </a:lnTo>
                  <a:lnTo>
                    <a:pt x="184" y="805"/>
                  </a:lnTo>
                  <a:lnTo>
                    <a:pt x="179" y="807"/>
                  </a:lnTo>
                  <a:lnTo>
                    <a:pt x="174" y="807"/>
                  </a:lnTo>
                  <a:lnTo>
                    <a:pt x="169" y="807"/>
                  </a:lnTo>
                  <a:lnTo>
                    <a:pt x="164" y="805"/>
                  </a:lnTo>
                  <a:lnTo>
                    <a:pt x="159" y="802"/>
                  </a:lnTo>
                  <a:lnTo>
                    <a:pt x="153" y="798"/>
                  </a:lnTo>
                  <a:lnTo>
                    <a:pt x="145" y="794"/>
                  </a:lnTo>
                  <a:lnTo>
                    <a:pt x="137" y="792"/>
                  </a:lnTo>
                  <a:lnTo>
                    <a:pt x="121" y="786"/>
                  </a:lnTo>
                  <a:lnTo>
                    <a:pt x="102" y="781"/>
                  </a:lnTo>
                  <a:lnTo>
                    <a:pt x="86" y="777"/>
                  </a:lnTo>
                  <a:lnTo>
                    <a:pt x="70" y="775"/>
                  </a:lnTo>
                  <a:lnTo>
                    <a:pt x="59" y="773"/>
                  </a:lnTo>
                  <a:lnTo>
                    <a:pt x="52" y="773"/>
                  </a:lnTo>
                  <a:lnTo>
                    <a:pt x="51" y="772"/>
                  </a:lnTo>
                  <a:lnTo>
                    <a:pt x="48" y="769"/>
                  </a:lnTo>
                  <a:lnTo>
                    <a:pt x="46" y="764"/>
                  </a:lnTo>
                  <a:lnTo>
                    <a:pt x="43" y="758"/>
                  </a:lnTo>
                  <a:lnTo>
                    <a:pt x="41" y="749"/>
                  </a:lnTo>
                  <a:lnTo>
                    <a:pt x="42" y="739"/>
                  </a:lnTo>
                  <a:lnTo>
                    <a:pt x="43" y="733"/>
                  </a:lnTo>
                  <a:lnTo>
                    <a:pt x="46" y="727"/>
                  </a:lnTo>
                  <a:lnTo>
                    <a:pt x="48" y="721"/>
                  </a:lnTo>
                  <a:lnTo>
                    <a:pt x="52" y="713"/>
                  </a:lnTo>
                  <a:lnTo>
                    <a:pt x="57" y="705"/>
                  </a:lnTo>
                  <a:lnTo>
                    <a:pt x="62" y="694"/>
                  </a:lnTo>
                  <a:lnTo>
                    <a:pt x="69" y="680"/>
                  </a:lnTo>
                  <a:lnTo>
                    <a:pt x="75" y="666"/>
                  </a:lnTo>
                  <a:lnTo>
                    <a:pt x="83" y="654"/>
                  </a:lnTo>
                  <a:lnTo>
                    <a:pt x="88" y="644"/>
                  </a:lnTo>
                  <a:lnTo>
                    <a:pt x="91" y="637"/>
                  </a:lnTo>
                  <a:lnTo>
                    <a:pt x="93" y="635"/>
                  </a:lnTo>
                  <a:lnTo>
                    <a:pt x="94" y="632"/>
                  </a:lnTo>
                  <a:lnTo>
                    <a:pt x="97" y="623"/>
                  </a:lnTo>
                  <a:lnTo>
                    <a:pt x="104" y="612"/>
                  </a:lnTo>
                  <a:lnTo>
                    <a:pt x="111" y="599"/>
                  </a:lnTo>
                  <a:lnTo>
                    <a:pt x="118" y="583"/>
                  </a:lnTo>
                  <a:lnTo>
                    <a:pt x="127" y="568"/>
                  </a:lnTo>
                  <a:lnTo>
                    <a:pt x="136" y="555"/>
                  </a:lnTo>
                  <a:lnTo>
                    <a:pt x="144" y="542"/>
                  </a:lnTo>
                  <a:lnTo>
                    <a:pt x="154" y="535"/>
                  </a:lnTo>
                  <a:lnTo>
                    <a:pt x="163" y="526"/>
                  </a:lnTo>
                  <a:lnTo>
                    <a:pt x="169" y="518"/>
                  </a:lnTo>
                  <a:lnTo>
                    <a:pt x="174" y="508"/>
                  </a:lnTo>
                  <a:lnTo>
                    <a:pt x="179" y="498"/>
                  </a:lnTo>
                  <a:lnTo>
                    <a:pt x="182" y="488"/>
                  </a:lnTo>
                  <a:lnTo>
                    <a:pt x="185" y="478"/>
                  </a:lnTo>
                  <a:lnTo>
                    <a:pt x="186" y="468"/>
                  </a:lnTo>
                  <a:lnTo>
                    <a:pt x="187" y="448"/>
                  </a:lnTo>
                  <a:lnTo>
                    <a:pt x="186" y="429"/>
                  </a:lnTo>
                  <a:lnTo>
                    <a:pt x="185" y="412"/>
                  </a:lnTo>
                  <a:lnTo>
                    <a:pt x="182" y="398"/>
                  </a:lnTo>
                  <a:lnTo>
                    <a:pt x="181" y="392"/>
                  </a:lnTo>
                  <a:lnTo>
                    <a:pt x="177" y="386"/>
                  </a:lnTo>
                  <a:lnTo>
                    <a:pt x="175" y="381"/>
                  </a:lnTo>
                  <a:lnTo>
                    <a:pt x="171" y="376"/>
                  </a:lnTo>
                  <a:lnTo>
                    <a:pt x="161" y="368"/>
                  </a:lnTo>
                  <a:lnTo>
                    <a:pt x="153" y="360"/>
                  </a:lnTo>
                  <a:lnTo>
                    <a:pt x="143" y="354"/>
                  </a:lnTo>
                  <a:lnTo>
                    <a:pt x="136" y="350"/>
                  </a:lnTo>
                  <a:lnTo>
                    <a:pt x="131" y="348"/>
                  </a:lnTo>
                  <a:lnTo>
                    <a:pt x="128" y="347"/>
                  </a:lnTo>
                  <a:lnTo>
                    <a:pt x="116" y="339"/>
                  </a:lnTo>
                  <a:lnTo>
                    <a:pt x="106" y="334"/>
                  </a:lnTo>
                  <a:lnTo>
                    <a:pt x="97" y="332"/>
                  </a:lnTo>
                  <a:lnTo>
                    <a:pt x="90" y="331"/>
                  </a:lnTo>
                  <a:lnTo>
                    <a:pt x="84" y="331"/>
                  </a:lnTo>
                  <a:lnTo>
                    <a:pt x="79" y="332"/>
                  </a:lnTo>
                  <a:lnTo>
                    <a:pt x="74" y="333"/>
                  </a:lnTo>
                  <a:lnTo>
                    <a:pt x="70" y="336"/>
                  </a:lnTo>
                  <a:lnTo>
                    <a:pt x="65" y="339"/>
                  </a:lnTo>
                  <a:lnTo>
                    <a:pt x="61" y="342"/>
                  </a:lnTo>
                  <a:lnTo>
                    <a:pt x="58" y="341"/>
                  </a:lnTo>
                  <a:lnTo>
                    <a:pt x="56" y="337"/>
                  </a:lnTo>
                  <a:lnTo>
                    <a:pt x="53" y="332"/>
                  </a:lnTo>
                  <a:lnTo>
                    <a:pt x="49" y="325"/>
                  </a:lnTo>
                  <a:lnTo>
                    <a:pt x="46" y="315"/>
                  </a:lnTo>
                  <a:lnTo>
                    <a:pt x="42" y="302"/>
                  </a:lnTo>
                  <a:lnTo>
                    <a:pt x="40" y="288"/>
                  </a:lnTo>
                  <a:lnTo>
                    <a:pt x="36" y="272"/>
                  </a:lnTo>
                  <a:lnTo>
                    <a:pt x="30" y="234"/>
                  </a:lnTo>
                  <a:lnTo>
                    <a:pt x="24" y="190"/>
                  </a:lnTo>
                  <a:lnTo>
                    <a:pt x="19" y="146"/>
                  </a:lnTo>
                  <a:lnTo>
                    <a:pt x="13" y="101"/>
                  </a:lnTo>
                  <a:lnTo>
                    <a:pt x="6" y="58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5" y="5"/>
                  </a:lnTo>
                  <a:lnTo>
                    <a:pt x="21" y="10"/>
                  </a:lnTo>
                  <a:lnTo>
                    <a:pt x="27" y="17"/>
                  </a:lnTo>
                  <a:lnTo>
                    <a:pt x="41" y="34"/>
                  </a:lnTo>
                  <a:lnTo>
                    <a:pt x="57" y="55"/>
                  </a:lnTo>
                  <a:lnTo>
                    <a:pt x="74" y="80"/>
                  </a:lnTo>
                  <a:lnTo>
                    <a:pt x="90" y="104"/>
                  </a:lnTo>
                  <a:lnTo>
                    <a:pt x="101" y="119"/>
                  </a:lnTo>
                  <a:lnTo>
                    <a:pt x="113" y="133"/>
                  </a:lnTo>
                  <a:lnTo>
                    <a:pt x="127" y="146"/>
                  </a:lnTo>
                  <a:lnTo>
                    <a:pt x="141" y="157"/>
                  </a:lnTo>
                  <a:lnTo>
                    <a:pt x="153" y="167"/>
                  </a:lnTo>
                  <a:lnTo>
                    <a:pt x="163" y="174"/>
                  </a:lnTo>
                  <a:lnTo>
                    <a:pt x="169" y="179"/>
                  </a:lnTo>
                  <a:lnTo>
                    <a:pt x="171" y="181"/>
                  </a:lnTo>
                  <a:lnTo>
                    <a:pt x="175" y="182"/>
                  </a:lnTo>
                  <a:lnTo>
                    <a:pt x="184" y="184"/>
                  </a:lnTo>
                  <a:lnTo>
                    <a:pt x="197" y="189"/>
                  </a:lnTo>
                  <a:lnTo>
                    <a:pt x="214" y="197"/>
                  </a:lnTo>
                  <a:lnTo>
                    <a:pt x="232" y="204"/>
                  </a:lnTo>
                  <a:lnTo>
                    <a:pt x="250" y="214"/>
                  </a:lnTo>
                  <a:lnTo>
                    <a:pt x="259" y="220"/>
                  </a:lnTo>
                  <a:lnTo>
                    <a:pt x="266" y="225"/>
                  </a:lnTo>
                  <a:lnTo>
                    <a:pt x="273" y="231"/>
                  </a:lnTo>
                  <a:lnTo>
                    <a:pt x="281" y="238"/>
                  </a:lnTo>
                  <a:lnTo>
                    <a:pt x="287" y="250"/>
                  </a:lnTo>
                  <a:lnTo>
                    <a:pt x="292" y="263"/>
                  </a:lnTo>
                  <a:lnTo>
                    <a:pt x="296" y="275"/>
                  </a:lnTo>
                  <a:lnTo>
                    <a:pt x="297" y="289"/>
                  </a:lnTo>
                  <a:lnTo>
                    <a:pt x="297" y="302"/>
                  </a:lnTo>
                  <a:lnTo>
                    <a:pt x="296" y="315"/>
                  </a:lnTo>
                  <a:lnTo>
                    <a:pt x="293" y="327"/>
                  </a:lnTo>
                  <a:lnTo>
                    <a:pt x="289" y="339"/>
                  </a:lnTo>
                  <a:lnTo>
                    <a:pt x="286" y="349"/>
                  </a:lnTo>
                  <a:lnTo>
                    <a:pt x="280" y="359"/>
                  </a:lnTo>
                  <a:lnTo>
                    <a:pt x="273" y="368"/>
                  </a:lnTo>
                  <a:lnTo>
                    <a:pt x="267" y="375"/>
                  </a:lnTo>
                  <a:lnTo>
                    <a:pt x="259" y="380"/>
                  </a:lnTo>
                  <a:lnTo>
                    <a:pt x="251" y="384"/>
                  </a:lnTo>
                  <a:lnTo>
                    <a:pt x="243" y="386"/>
                  </a:lnTo>
                  <a:lnTo>
                    <a:pt x="234" y="385"/>
                  </a:lnTo>
                  <a:lnTo>
                    <a:pt x="234" y="386"/>
                  </a:lnTo>
                  <a:lnTo>
                    <a:pt x="232" y="390"/>
                  </a:lnTo>
                  <a:lnTo>
                    <a:pt x="230" y="396"/>
                  </a:lnTo>
                  <a:lnTo>
                    <a:pt x="229" y="404"/>
                  </a:lnTo>
                  <a:lnTo>
                    <a:pt x="230" y="416"/>
                  </a:lnTo>
                  <a:lnTo>
                    <a:pt x="232" y="430"/>
                  </a:lnTo>
                  <a:lnTo>
                    <a:pt x="236" y="448"/>
                  </a:lnTo>
                  <a:lnTo>
                    <a:pt x="245" y="468"/>
                  </a:lnTo>
                  <a:lnTo>
                    <a:pt x="254" y="489"/>
                  </a:lnTo>
                  <a:lnTo>
                    <a:pt x="259" y="508"/>
                  </a:lnTo>
                  <a:lnTo>
                    <a:pt x="262" y="524"/>
                  </a:lnTo>
                  <a:lnTo>
                    <a:pt x="264" y="539"/>
                  </a:lnTo>
                  <a:lnTo>
                    <a:pt x="262" y="553"/>
                  </a:lnTo>
                  <a:lnTo>
                    <a:pt x="261" y="568"/>
                  </a:lnTo>
                  <a:lnTo>
                    <a:pt x="260" y="584"/>
                  </a:lnTo>
                  <a:lnTo>
                    <a:pt x="259" y="603"/>
                  </a:lnTo>
                  <a:close/>
                </a:path>
              </a:pathLst>
            </a:custGeom>
            <a:solidFill>
              <a:srgbClr val="78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6816600" y="2290680"/>
              <a:ext cx="74880" cy="243000"/>
            </a:xfrm>
            <a:custGeom>
              <a:avLst/>
              <a:gdLst/>
              <a:ahLst/>
              <a:rect l="l" t="t" r="r" b="b"/>
              <a:pathLst>
                <a:path w="235" h="765">
                  <a:moveTo>
                    <a:pt x="220" y="543"/>
                  </a:moveTo>
                  <a:lnTo>
                    <a:pt x="222" y="560"/>
                  </a:lnTo>
                  <a:lnTo>
                    <a:pt x="222" y="579"/>
                  </a:lnTo>
                  <a:lnTo>
                    <a:pt x="220" y="598"/>
                  </a:lnTo>
                  <a:lnTo>
                    <a:pt x="218" y="617"/>
                  </a:lnTo>
                  <a:lnTo>
                    <a:pt x="216" y="636"/>
                  </a:lnTo>
                  <a:lnTo>
                    <a:pt x="212" y="655"/>
                  </a:lnTo>
                  <a:lnTo>
                    <a:pt x="207" y="672"/>
                  </a:lnTo>
                  <a:lnTo>
                    <a:pt x="202" y="689"/>
                  </a:lnTo>
                  <a:lnTo>
                    <a:pt x="196" y="705"/>
                  </a:lnTo>
                  <a:lnTo>
                    <a:pt x="190" y="720"/>
                  </a:lnTo>
                  <a:lnTo>
                    <a:pt x="182" y="734"/>
                  </a:lnTo>
                  <a:lnTo>
                    <a:pt x="175" y="745"/>
                  </a:lnTo>
                  <a:lnTo>
                    <a:pt x="168" y="753"/>
                  </a:lnTo>
                  <a:lnTo>
                    <a:pt x="159" y="761"/>
                  </a:lnTo>
                  <a:lnTo>
                    <a:pt x="155" y="763"/>
                  </a:lnTo>
                  <a:lnTo>
                    <a:pt x="150" y="764"/>
                  </a:lnTo>
                  <a:lnTo>
                    <a:pt x="147" y="765"/>
                  </a:lnTo>
                  <a:lnTo>
                    <a:pt x="142" y="765"/>
                  </a:lnTo>
                  <a:lnTo>
                    <a:pt x="134" y="762"/>
                  </a:lnTo>
                  <a:lnTo>
                    <a:pt x="121" y="758"/>
                  </a:lnTo>
                  <a:lnTo>
                    <a:pt x="104" y="754"/>
                  </a:lnTo>
                  <a:lnTo>
                    <a:pt x="86" y="752"/>
                  </a:lnTo>
                  <a:lnTo>
                    <a:pt x="69" y="749"/>
                  </a:lnTo>
                  <a:lnTo>
                    <a:pt x="53" y="748"/>
                  </a:lnTo>
                  <a:lnTo>
                    <a:pt x="42" y="747"/>
                  </a:lnTo>
                  <a:lnTo>
                    <a:pt x="36" y="746"/>
                  </a:lnTo>
                  <a:lnTo>
                    <a:pt x="36" y="746"/>
                  </a:lnTo>
                  <a:lnTo>
                    <a:pt x="33" y="742"/>
                  </a:lnTo>
                  <a:lnTo>
                    <a:pt x="32" y="737"/>
                  </a:lnTo>
                  <a:lnTo>
                    <a:pt x="31" y="731"/>
                  </a:lnTo>
                  <a:lnTo>
                    <a:pt x="31" y="724"/>
                  </a:lnTo>
                  <a:lnTo>
                    <a:pt x="32" y="715"/>
                  </a:lnTo>
                  <a:lnTo>
                    <a:pt x="35" y="711"/>
                  </a:lnTo>
                  <a:lnTo>
                    <a:pt x="38" y="706"/>
                  </a:lnTo>
                  <a:lnTo>
                    <a:pt x="42" y="702"/>
                  </a:lnTo>
                  <a:lnTo>
                    <a:pt x="47" y="698"/>
                  </a:lnTo>
                  <a:lnTo>
                    <a:pt x="51" y="692"/>
                  </a:lnTo>
                  <a:lnTo>
                    <a:pt x="57" y="682"/>
                  </a:lnTo>
                  <a:lnTo>
                    <a:pt x="64" y="670"/>
                  </a:lnTo>
                  <a:lnTo>
                    <a:pt x="72" y="657"/>
                  </a:lnTo>
                  <a:lnTo>
                    <a:pt x="79" y="645"/>
                  </a:lnTo>
                  <a:lnTo>
                    <a:pt x="85" y="634"/>
                  </a:lnTo>
                  <a:lnTo>
                    <a:pt x="89" y="626"/>
                  </a:lnTo>
                  <a:lnTo>
                    <a:pt x="90" y="624"/>
                  </a:lnTo>
                  <a:lnTo>
                    <a:pt x="91" y="622"/>
                  </a:lnTo>
                  <a:lnTo>
                    <a:pt x="95" y="613"/>
                  </a:lnTo>
                  <a:lnTo>
                    <a:pt x="101" y="601"/>
                  </a:lnTo>
                  <a:lnTo>
                    <a:pt x="109" y="585"/>
                  </a:lnTo>
                  <a:lnTo>
                    <a:pt x="116" y="567"/>
                  </a:lnTo>
                  <a:lnTo>
                    <a:pt x="125" y="550"/>
                  </a:lnTo>
                  <a:lnTo>
                    <a:pt x="133" y="534"/>
                  </a:lnTo>
                  <a:lnTo>
                    <a:pt x="142" y="521"/>
                  </a:lnTo>
                  <a:lnTo>
                    <a:pt x="149" y="512"/>
                  </a:lnTo>
                  <a:lnTo>
                    <a:pt x="155" y="503"/>
                  </a:lnTo>
                  <a:lnTo>
                    <a:pt x="160" y="494"/>
                  </a:lnTo>
                  <a:lnTo>
                    <a:pt x="164" y="484"/>
                  </a:lnTo>
                  <a:lnTo>
                    <a:pt x="168" y="474"/>
                  </a:lnTo>
                  <a:lnTo>
                    <a:pt x="169" y="464"/>
                  </a:lnTo>
                  <a:lnTo>
                    <a:pt x="171" y="454"/>
                  </a:lnTo>
                  <a:lnTo>
                    <a:pt x="171" y="443"/>
                  </a:lnTo>
                  <a:lnTo>
                    <a:pt x="172" y="424"/>
                  </a:lnTo>
                  <a:lnTo>
                    <a:pt x="171" y="405"/>
                  </a:lnTo>
                  <a:lnTo>
                    <a:pt x="169" y="388"/>
                  </a:lnTo>
                  <a:lnTo>
                    <a:pt x="166" y="374"/>
                  </a:lnTo>
                  <a:lnTo>
                    <a:pt x="165" y="368"/>
                  </a:lnTo>
                  <a:lnTo>
                    <a:pt x="161" y="362"/>
                  </a:lnTo>
                  <a:lnTo>
                    <a:pt x="159" y="357"/>
                  </a:lnTo>
                  <a:lnTo>
                    <a:pt x="155" y="352"/>
                  </a:lnTo>
                  <a:lnTo>
                    <a:pt x="145" y="344"/>
                  </a:lnTo>
                  <a:lnTo>
                    <a:pt x="137" y="336"/>
                  </a:lnTo>
                  <a:lnTo>
                    <a:pt x="127" y="330"/>
                  </a:lnTo>
                  <a:lnTo>
                    <a:pt x="120" y="326"/>
                  </a:lnTo>
                  <a:lnTo>
                    <a:pt x="115" y="324"/>
                  </a:lnTo>
                  <a:lnTo>
                    <a:pt x="112" y="323"/>
                  </a:lnTo>
                  <a:lnTo>
                    <a:pt x="101" y="315"/>
                  </a:lnTo>
                  <a:lnTo>
                    <a:pt x="91" y="310"/>
                  </a:lnTo>
                  <a:lnTo>
                    <a:pt x="83" y="307"/>
                  </a:lnTo>
                  <a:lnTo>
                    <a:pt x="77" y="305"/>
                  </a:lnTo>
                  <a:lnTo>
                    <a:pt x="72" y="305"/>
                  </a:lnTo>
                  <a:lnTo>
                    <a:pt x="68" y="307"/>
                  </a:lnTo>
                  <a:lnTo>
                    <a:pt x="64" y="308"/>
                  </a:lnTo>
                  <a:lnTo>
                    <a:pt x="62" y="310"/>
                  </a:lnTo>
                  <a:lnTo>
                    <a:pt x="59" y="314"/>
                  </a:lnTo>
                  <a:lnTo>
                    <a:pt x="57" y="315"/>
                  </a:lnTo>
                  <a:lnTo>
                    <a:pt x="53" y="310"/>
                  </a:lnTo>
                  <a:lnTo>
                    <a:pt x="47" y="298"/>
                  </a:lnTo>
                  <a:lnTo>
                    <a:pt x="43" y="288"/>
                  </a:lnTo>
                  <a:lnTo>
                    <a:pt x="41" y="277"/>
                  </a:lnTo>
                  <a:lnTo>
                    <a:pt x="37" y="264"/>
                  </a:lnTo>
                  <a:lnTo>
                    <a:pt x="35" y="248"/>
                  </a:lnTo>
                  <a:lnTo>
                    <a:pt x="29" y="213"/>
                  </a:lnTo>
                  <a:lnTo>
                    <a:pt x="24" y="175"/>
                  </a:lnTo>
                  <a:lnTo>
                    <a:pt x="19" y="134"/>
                  </a:lnTo>
                  <a:lnTo>
                    <a:pt x="14" y="93"/>
                  </a:lnTo>
                  <a:lnTo>
                    <a:pt x="8" y="51"/>
                  </a:lnTo>
                  <a:lnTo>
                    <a:pt x="1" y="13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13" y="7"/>
                  </a:lnTo>
                  <a:lnTo>
                    <a:pt x="24" y="18"/>
                  </a:lnTo>
                  <a:lnTo>
                    <a:pt x="37" y="35"/>
                  </a:lnTo>
                  <a:lnTo>
                    <a:pt x="52" y="56"/>
                  </a:lnTo>
                  <a:lnTo>
                    <a:pt x="68" y="78"/>
                  </a:lnTo>
                  <a:lnTo>
                    <a:pt x="85" y="103"/>
                  </a:lnTo>
                  <a:lnTo>
                    <a:pt x="94" y="115"/>
                  </a:lnTo>
                  <a:lnTo>
                    <a:pt x="105" y="125"/>
                  </a:lnTo>
                  <a:lnTo>
                    <a:pt x="116" y="134"/>
                  </a:lnTo>
                  <a:lnTo>
                    <a:pt x="126" y="143"/>
                  </a:lnTo>
                  <a:lnTo>
                    <a:pt x="136" y="150"/>
                  </a:lnTo>
                  <a:lnTo>
                    <a:pt x="143" y="155"/>
                  </a:lnTo>
                  <a:lnTo>
                    <a:pt x="148" y="159"/>
                  </a:lnTo>
                  <a:lnTo>
                    <a:pt x="150" y="159"/>
                  </a:lnTo>
                  <a:lnTo>
                    <a:pt x="153" y="162"/>
                  </a:lnTo>
                  <a:lnTo>
                    <a:pt x="159" y="165"/>
                  </a:lnTo>
                  <a:lnTo>
                    <a:pt x="169" y="170"/>
                  </a:lnTo>
                  <a:lnTo>
                    <a:pt x="180" y="179"/>
                  </a:lnTo>
                  <a:lnTo>
                    <a:pt x="192" y="187"/>
                  </a:lnTo>
                  <a:lnTo>
                    <a:pt x="204" y="197"/>
                  </a:lnTo>
                  <a:lnTo>
                    <a:pt x="216" y="208"/>
                  </a:lnTo>
                  <a:lnTo>
                    <a:pt x="224" y="219"/>
                  </a:lnTo>
                  <a:lnTo>
                    <a:pt x="229" y="230"/>
                  </a:lnTo>
                  <a:lnTo>
                    <a:pt x="232" y="242"/>
                  </a:lnTo>
                  <a:lnTo>
                    <a:pt x="234" y="251"/>
                  </a:lnTo>
                  <a:lnTo>
                    <a:pt x="235" y="262"/>
                  </a:lnTo>
                  <a:lnTo>
                    <a:pt x="234" y="272"/>
                  </a:lnTo>
                  <a:lnTo>
                    <a:pt x="233" y="281"/>
                  </a:lnTo>
                  <a:lnTo>
                    <a:pt x="230" y="289"/>
                  </a:lnTo>
                  <a:lnTo>
                    <a:pt x="228" y="298"/>
                  </a:lnTo>
                  <a:lnTo>
                    <a:pt x="224" y="304"/>
                  </a:lnTo>
                  <a:lnTo>
                    <a:pt x="219" y="312"/>
                  </a:lnTo>
                  <a:lnTo>
                    <a:pt x="214" y="317"/>
                  </a:lnTo>
                  <a:lnTo>
                    <a:pt x="208" y="321"/>
                  </a:lnTo>
                  <a:lnTo>
                    <a:pt x="202" y="325"/>
                  </a:lnTo>
                  <a:lnTo>
                    <a:pt x="196" y="329"/>
                  </a:lnTo>
                  <a:lnTo>
                    <a:pt x="190" y="330"/>
                  </a:lnTo>
                  <a:lnTo>
                    <a:pt x="182" y="331"/>
                  </a:lnTo>
                  <a:lnTo>
                    <a:pt x="182" y="333"/>
                  </a:lnTo>
                  <a:lnTo>
                    <a:pt x="182" y="337"/>
                  </a:lnTo>
                  <a:lnTo>
                    <a:pt x="182" y="346"/>
                  </a:lnTo>
                  <a:lnTo>
                    <a:pt x="184" y="358"/>
                  </a:lnTo>
                  <a:lnTo>
                    <a:pt x="186" y="373"/>
                  </a:lnTo>
                  <a:lnTo>
                    <a:pt x="190" y="389"/>
                  </a:lnTo>
                  <a:lnTo>
                    <a:pt x="196" y="408"/>
                  </a:lnTo>
                  <a:lnTo>
                    <a:pt x="204" y="428"/>
                  </a:lnTo>
                  <a:lnTo>
                    <a:pt x="212" y="448"/>
                  </a:lnTo>
                  <a:lnTo>
                    <a:pt x="217" y="465"/>
                  </a:lnTo>
                  <a:lnTo>
                    <a:pt x="219" y="479"/>
                  </a:lnTo>
                  <a:lnTo>
                    <a:pt x="220" y="491"/>
                  </a:lnTo>
                  <a:lnTo>
                    <a:pt x="220" y="502"/>
                  </a:lnTo>
                  <a:lnTo>
                    <a:pt x="220" y="513"/>
                  </a:lnTo>
                  <a:lnTo>
                    <a:pt x="220" y="527"/>
                  </a:lnTo>
                  <a:lnTo>
                    <a:pt x="220" y="543"/>
                  </a:lnTo>
                  <a:close/>
                </a:path>
              </a:pathLst>
            </a:custGeom>
            <a:solidFill>
              <a:srgbClr val="7c6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6821640" y="2298960"/>
              <a:ext cx="60120" cy="228600"/>
            </a:xfrm>
            <a:custGeom>
              <a:avLst/>
              <a:gdLst/>
              <a:ahLst/>
              <a:rect l="l" t="t" r="r" b="b"/>
              <a:pathLst>
                <a:path w="186" h="724">
                  <a:moveTo>
                    <a:pt x="96" y="298"/>
                  </a:moveTo>
                  <a:lnTo>
                    <a:pt x="85" y="290"/>
                  </a:lnTo>
                  <a:lnTo>
                    <a:pt x="75" y="285"/>
                  </a:lnTo>
                  <a:lnTo>
                    <a:pt x="68" y="282"/>
                  </a:lnTo>
                  <a:lnTo>
                    <a:pt x="62" y="280"/>
                  </a:lnTo>
                  <a:lnTo>
                    <a:pt x="58" y="280"/>
                  </a:lnTo>
                  <a:lnTo>
                    <a:pt x="56" y="280"/>
                  </a:lnTo>
                  <a:lnTo>
                    <a:pt x="53" y="283"/>
                  </a:lnTo>
                  <a:lnTo>
                    <a:pt x="52" y="284"/>
                  </a:lnTo>
                  <a:lnTo>
                    <a:pt x="52" y="287"/>
                  </a:lnTo>
                  <a:lnTo>
                    <a:pt x="52" y="288"/>
                  </a:lnTo>
                  <a:lnTo>
                    <a:pt x="52" y="283"/>
                  </a:lnTo>
                  <a:lnTo>
                    <a:pt x="47" y="271"/>
                  </a:lnTo>
                  <a:lnTo>
                    <a:pt x="41" y="250"/>
                  </a:lnTo>
                  <a:lnTo>
                    <a:pt x="35" y="224"/>
                  </a:lnTo>
                  <a:lnTo>
                    <a:pt x="30" y="193"/>
                  </a:lnTo>
                  <a:lnTo>
                    <a:pt x="25" y="159"/>
                  </a:lnTo>
                  <a:lnTo>
                    <a:pt x="19" y="122"/>
                  </a:lnTo>
                  <a:lnTo>
                    <a:pt x="14" y="84"/>
                  </a:lnTo>
                  <a:lnTo>
                    <a:pt x="8" y="47"/>
                  </a:lnTo>
                  <a:lnTo>
                    <a:pt x="1" y="10"/>
                  </a:lnTo>
                  <a:lnTo>
                    <a:pt x="0" y="5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10" y="6"/>
                  </a:lnTo>
                  <a:lnTo>
                    <a:pt x="20" y="17"/>
                  </a:lnTo>
                  <a:lnTo>
                    <a:pt x="31" y="33"/>
                  </a:lnTo>
                  <a:lnTo>
                    <a:pt x="45" y="53"/>
                  </a:lnTo>
                  <a:lnTo>
                    <a:pt x="61" y="75"/>
                  </a:lnTo>
                  <a:lnTo>
                    <a:pt x="78" y="100"/>
                  </a:lnTo>
                  <a:lnTo>
                    <a:pt x="85" y="108"/>
                  </a:lnTo>
                  <a:lnTo>
                    <a:pt x="94" y="117"/>
                  </a:lnTo>
                  <a:lnTo>
                    <a:pt x="102" y="124"/>
                  </a:lnTo>
                  <a:lnTo>
                    <a:pt x="110" y="130"/>
                  </a:lnTo>
                  <a:lnTo>
                    <a:pt x="117" y="134"/>
                  </a:lnTo>
                  <a:lnTo>
                    <a:pt x="123" y="138"/>
                  </a:lnTo>
                  <a:lnTo>
                    <a:pt x="127" y="139"/>
                  </a:lnTo>
                  <a:lnTo>
                    <a:pt x="129" y="140"/>
                  </a:lnTo>
                  <a:lnTo>
                    <a:pt x="131" y="141"/>
                  </a:lnTo>
                  <a:lnTo>
                    <a:pt x="134" y="145"/>
                  </a:lnTo>
                  <a:lnTo>
                    <a:pt x="139" y="151"/>
                  </a:lnTo>
                  <a:lnTo>
                    <a:pt x="147" y="160"/>
                  </a:lnTo>
                  <a:lnTo>
                    <a:pt x="153" y="169"/>
                  </a:lnTo>
                  <a:lnTo>
                    <a:pt x="160" y="180"/>
                  </a:lnTo>
                  <a:lnTo>
                    <a:pt x="165" y="189"/>
                  </a:lnTo>
                  <a:lnTo>
                    <a:pt x="170" y="199"/>
                  </a:lnTo>
                  <a:lnTo>
                    <a:pt x="171" y="210"/>
                  </a:lnTo>
                  <a:lnTo>
                    <a:pt x="172" y="219"/>
                  </a:lnTo>
                  <a:lnTo>
                    <a:pt x="174" y="228"/>
                  </a:lnTo>
                  <a:lnTo>
                    <a:pt x="172" y="234"/>
                  </a:lnTo>
                  <a:lnTo>
                    <a:pt x="171" y="241"/>
                  </a:lnTo>
                  <a:lnTo>
                    <a:pt x="170" y="246"/>
                  </a:lnTo>
                  <a:lnTo>
                    <a:pt x="168" y="251"/>
                  </a:lnTo>
                  <a:lnTo>
                    <a:pt x="165" y="256"/>
                  </a:lnTo>
                  <a:lnTo>
                    <a:pt x="158" y="263"/>
                  </a:lnTo>
                  <a:lnTo>
                    <a:pt x="149" y="268"/>
                  </a:lnTo>
                  <a:lnTo>
                    <a:pt x="139" y="273"/>
                  </a:lnTo>
                  <a:lnTo>
                    <a:pt x="129" y="278"/>
                  </a:lnTo>
                  <a:lnTo>
                    <a:pt x="129" y="280"/>
                  </a:lnTo>
                  <a:lnTo>
                    <a:pt x="131" y="288"/>
                  </a:lnTo>
                  <a:lnTo>
                    <a:pt x="133" y="298"/>
                  </a:lnTo>
                  <a:lnTo>
                    <a:pt x="136" y="312"/>
                  </a:lnTo>
                  <a:lnTo>
                    <a:pt x="140" y="328"/>
                  </a:lnTo>
                  <a:lnTo>
                    <a:pt x="147" y="347"/>
                  </a:lnTo>
                  <a:lnTo>
                    <a:pt x="153" y="368"/>
                  </a:lnTo>
                  <a:lnTo>
                    <a:pt x="161" y="390"/>
                  </a:lnTo>
                  <a:lnTo>
                    <a:pt x="170" y="408"/>
                  </a:lnTo>
                  <a:lnTo>
                    <a:pt x="175" y="423"/>
                  </a:lnTo>
                  <a:lnTo>
                    <a:pt x="179" y="434"/>
                  </a:lnTo>
                  <a:lnTo>
                    <a:pt x="180" y="444"/>
                  </a:lnTo>
                  <a:lnTo>
                    <a:pt x="180" y="453"/>
                  </a:lnTo>
                  <a:lnTo>
                    <a:pt x="180" y="461"/>
                  </a:lnTo>
                  <a:lnTo>
                    <a:pt x="181" y="471"/>
                  </a:lnTo>
                  <a:lnTo>
                    <a:pt x="184" y="485"/>
                  </a:lnTo>
                  <a:lnTo>
                    <a:pt x="185" y="502"/>
                  </a:lnTo>
                  <a:lnTo>
                    <a:pt x="186" y="520"/>
                  </a:lnTo>
                  <a:lnTo>
                    <a:pt x="186" y="540"/>
                  </a:lnTo>
                  <a:lnTo>
                    <a:pt x="185" y="558"/>
                  </a:lnTo>
                  <a:lnTo>
                    <a:pt x="182" y="578"/>
                  </a:lnTo>
                  <a:lnTo>
                    <a:pt x="180" y="598"/>
                  </a:lnTo>
                  <a:lnTo>
                    <a:pt x="176" y="616"/>
                  </a:lnTo>
                  <a:lnTo>
                    <a:pt x="171" y="635"/>
                  </a:lnTo>
                  <a:lnTo>
                    <a:pt x="166" y="651"/>
                  </a:lnTo>
                  <a:lnTo>
                    <a:pt x="161" y="668"/>
                  </a:lnTo>
                  <a:lnTo>
                    <a:pt x="155" y="681"/>
                  </a:lnTo>
                  <a:lnTo>
                    <a:pt x="148" y="695"/>
                  </a:lnTo>
                  <a:lnTo>
                    <a:pt x="142" y="706"/>
                  </a:lnTo>
                  <a:lnTo>
                    <a:pt x="134" y="715"/>
                  </a:lnTo>
                  <a:lnTo>
                    <a:pt x="128" y="721"/>
                  </a:lnTo>
                  <a:lnTo>
                    <a:pt x="121" y="724"/>
                  </a:lnTo>
                  <a:lnTo>
                    <a:pt x="20" y="718"/>
                  </a:lnTo>
                  <a:lnTo>
                    <a:pt x="20" y="717"/>
                  </a:lnTo>
                  <a:lnTo>
                    <a:pt x="19" y="715"/>
                  </a:lnTo>
                  <a:lnTo>
                    <a:pt x="17" y="710"/>
                  </a:lnTo>
                  <a:lnTo>
                    <a:pt x="16" y="704"/>
                  </a:lnTo>
                  <a:lnTo>
                    <a:pt x="19" y="697"/>
                  </a:lnTo>
                  <a:lnTo>
                    <a:pt x="22" y="691"/>
                  </a:lnTo>
                  <a:lnTo>
                    <a:pt x="26" y="688"/>
                  </a:lnTo>
                  <a:lnTo>
                    <a:pt x="30" y="685"/>
                  </a:lnTo>
                  <a:lnTo>
                    <a:pt x="36" y="683"/>
                  </a:lnTo>
                  <a:lnTo>
                    <a:pt x="42" y="680"/>
                  </a:lnTo>
                  <a:lnTo>
                    <a:pt x="47" y="677"/>
                  </a:lnTo>
                  <a:lnTo>
                    <a:pt x="53" y="667"/>
                  </a:lnTo>
                  <a:lnTo>
                    <a:pt x="62" y="656"/>
                  </a:lnTo>
                  <a:lnTo>
                    <a:pt x="69" y="643"/>
                  </a:lnTo>
                  <a:lnTo>
                    <a:pt x="77" y="631"/>
                  </a:lnTo>
                  <a:lnTo>
                    <a:pt x="83" y="620"/>
                  </a:lnTo>
                  <a:lnTo>
                    <a:pt x="86" y="613"/>
                  </a:lnTo>
                  <a:lnTo>
                    <a:pt x="88" y="610"/>
                  </a:lnTo>
                  <a:lnTo>
                    <a:pt x="89" y="606"/>
                  </a:lnTo>
                  <a:lnTo>
                    <a:pt x="93" y="598"/>
                  </a:lnTo>
                  <a:lnTo>
                    <a:pt x="97" y="584"/>
                  </a:lnTo>
                  <a:lnTo>
                    <a:pt x="105" y="568"/>
                  </a:lnTo>
                  <a:lnTo>
                    <a:pt x="112" y="551"/>
                  </a:lnTo>
                  <a:lnTo>
                    <a:pt x="121" y="533"/>
                  </a:lnTo>
                  <a:lnTo>
                    <a:pt x="131" y="514"/>
                  </a:lnTo>
                  <a:lnTo>
                    <a:pt x="139" y="498"/>
                  </a:lnTo>
                  <a:lnTo>
                    <a:pt x="144" y="490"/>
                  </a:lnTo>
                  <a:lnTo>
                    <a:pt x="148" y="480"/>
                  </a:lnTo>
                  <a:lnTo>
                    <a:pt x="152" y="470"/>
                  </a:lnTo>
                  <a:lnTo>
                    <a:pt x="154" y="459"/>
                  </a:lnTo>
                  <a:lnTo>
                    <a:pt x="156" y="438"/>
                  </a:lnTo>
                  <a:lnTo>
                    <a:pt x="158" y="418"/>
                  </a:lnTo>
                  <a:lnTo>
                    <a:pt x="156" y="399"/>
                  </a:lnTo>
                  <a:lnTo>
                    <a:pt x="155" y="379"/>
                  </a:lnTo>
                  <a:lnTo>
                    <a:pt x="153" y="363"/>
                  </a:lnTo>
                  <a:lnTo>
                    <a:pt x="150" y="349"/>
                  </a:lnTo>
                  <a:lnTo>
                    <a:pt x="149" y="343"/>
                  </a:lnTo>
                  <a:lnTo>
                    <a:pt x="145" y="337"/>
                  </a:lnTo>
                  <a:lnTo>
                    <a:pt x="143" y="332"/>
                  </a:lnTo>
                  <a:lnTo>
                    <a:pt x="139" y="327"/>
                  </a:lnTo>
                  <a:lnTo>
                    <a:pt x="129" y="319"/>
                  </a:lnTo>
                  <a:lnTo>
                    <a:pt x="121" y="311"/>
                  </a:lnTo>
                  <a:lnTo>
                    <a:pt x="111" y="305"/>
                  </a:lnTo>
                  <a:lnTo>
                    <a:pt x="104" y="301"/>
                  </a:lnTo>
                  <a:lnTo>
                    <a:pt x="99" y="299"/>
                  </a:lnTo>
                  <a:lnTo>
                    <a:pt x="96" y="298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6640560" y="2455920"/>
              <a:ext cx="155520" cy="131760"/>
            </a:xfrm>
            <a:custGeom>
              <a:avLst/>
              <a:gdLst/>
              <a:ahLst/>
              <a:rect l="l" t="t" r="r" b="b"/>
              <a:pathLst>
                <a:path w="494" h="417">
                  <a:moveTo>
                    <a:pt x="176" y="21"/>
                  </a:moveTo>
                  <a:lnTo>
                    <a:pt x="190" y="15"/>
                  </a:lnTo>
                  <a:lnTo>
                    <a:pt x="205" y="11"/>
                  </a:lnTo>
                  <a:lnTo>
                    <a:pt x="220" y="7"/>
                  </a:lnTo>
                  <a:lnTo>
                    <a:pt x="235" y="5"/>
                  </a:lnTo>
                  <a:lnTo>
                    <a:pt x="248" y="2"/>
                  </a:lnTo>
                  <a:lnTo>
                    <a:pt x="263" y="1"/>
                  </a:lnTo>
                  <a:lnTo>
                    <a:pt x="277" y="0"/>
                  </a:lnTo>
                  <a:lnTo>
                    <a:pt x="290" y="0"/>
                  </a:lnTo>
                  <a:lnTo>
                    <a:pt x="316" y="1"/>
                  </a:lnTo>
                  <a:lnTo>
                    <a:pt x="340" y="5"/>
                  </a:lnTo>
                  <a:lnTo>
                    <a:pt x="363" y="10"/>
                  </a:lnTo>
                  <a:lnTo>
                    <a:pt x="384" y="16"/>
                  </a:lnTo>
                  <a:lnTo>
                    <a:pt x="403" y="23"/>
                  </a:lnTo>
                  <a:lnTo>
                    <a:pt x="420" y="31"/>
                  </a:lnTo>
                  <a:lnTo>
                    <a:pt x="435" y="37"/>
                  </a:lnTo>
                  <a:lnTo>
                    <a:pt x="449" y="44"/>
                  </a:lnTo>
                  <a:lnTo>
                    <a:pt x="466" y="54"/>
                  </a:lnTo>
                  <a:lnTo>
                    <a:pt x="472" y="59"/>
                  </a:lnTo>
                  <a:lnTo>
                    <a:pt x="477" y="68"/>
                  </a:lnTo>
                  <a:lnTo>
                    <a:pt x="481" y="77"/>
                  </a:lnTo>
                  <a:lnTo>
                    <a:pt x="484" y="87"/>
                  </a:lnTo>
                  <a:lnTo>
                    <a:pt x="488" y="97"/>
                  </a:lnTo>
                  <a:lnTo>
                    <a:pt x="492" y="118"/>
                  </a:lnTo>
                  <a:lnTo>
                    <a:pt x="494" y="140"/>
                  </a:lnTo>
                  <a:lnTo>
                    <a:pt x="494" y="151"/>
                  </a:lnTo>
                  <a:lnTo>
                    <a:pt x="493" y="162"/>
                  </a:lnTo>
                  <a:lnTo>
                    <a:pt x="493" y="173"/>
                  </a:lnTo>
                  <a:lnTo>
                    <a:pt x="491" y="184"/>
                  </a:lnTo>
                  <a:lnTo>
                    <a:pt x="488" y="194"/>
                  </a:lnTo>
                  <a:lnTo>
                    <a:pt x="486" y="205"/>
                  </a:lnTo>
                  <a:lnTo>
                    <a:pt x="482" y="215"/>
                  </a:lnTo>
                  <a:lnTo>
                    <a:pt x="477" y="224"/>
                  </a:lnTo>
                  <a:lnTo>
                    <a:pt x="475" y="229"/>
                  </a:lnTo>
                  <a:lnTo>
                    <a:pt x="470" y="235"/>
                  </a:lnTo>
                  <a:lnTo>
                    <a:pt x="464" y="240"/>
                  </a:lnTo>
                  <a:lnTo>
                    <a:pt x="455" y="246"/>
                  </a:lnTo>
                  <a:lnTo>
                    <a:pt x="435" y="258"/>
                  </a:lnTo>
                  <a:lnTo>
                    <a:pt x="411" y="272"/>
                  </a:lnTo>
                  <a:lnTo>
                    <a:pt x="382" y="287"/>
                  </a:lnTo>
                  <a:lnTo>
                    <a:pt x="350" y="301"/>
                  </a:lnTo>
                  <a:lnTo>
                    <a:pt x="317" y="316"/>
                  </a:lnTo>
                  <a:lnTo>
                    <a:pt x="283" y="331"/>
                  </a:lnTo>
                  <a:lnTo>
                    <a:pt x="211" y="359"/>
                  </a:lnTo>
                  <a:lnTo>
                    <a:pt x="144" y="384"/>
                  </a:lnTo>
                  <a:lnTo>
                    <a:pt x="87" y="403"/>
                  </a:lnTo>
                  <a:lnTo>
                    <a:pt x="48" y="414"/>
                  </a:lnTo>
                  <a:lnTo>
                    <a:pt x="42" y="416"/>
                  </a:lnTo>
                  <a:lnTo>
                    <a:pt x="35" y="417"/>
                  </a:lnTo>
                  <a:lnTo>
                    <a:pt x="29" y="416"/>
                  </a:lnTo>
                  <a:lnTo>
                    <a:pt x="24" y="416"/>
                  </a:lnTo>
                  <a:lnTo>
                    <a:pt x="19" y="413"/>
                  </a:lnTo>
                  <a:lnTo>
                    <a:pt x="16" y="411"/>
                  </a:lnTo>
                  <a:lnTo>
                    <a:pt x="12" y="408"/>
                  </a:lnTo>
                  <a:lnTo>
                    <a:pt x="10" y="403"/>
                  </a:lnTo>
                  <a:lnTo>
                    <a:pt x="5" y="395"/>
                  </a:lnTo>
                  <a:lnTo>
                    <a:pt x="1" y="382"/>
                  </a:lnTo>
                  <a:lnTo>
                    <a:pt x="0" y="369"/>
                  </a:lnTo>
                  <a:lnTo>
                    <a:pt x="0" y="353"/>
                  </a:lnTo>
                  <a:lnTo>
                    <a:pt x="1" y="335"/>
                  </a:lnTo>
                  <a:lnTo>
                    <a:pt x="3" y="315"/>
                  </a:lnTo>
                  <a:lnTo>
                    <a:pt x="6" y="295"/>
                  </a:lnTo>
                  <a:lnTo>
                    <a:pt x="10" y="273"/>
                  </a:lnTo>
                  <a:lnTo>
                    <a:pt x="19" y="226"/>
                  </a:lnTo>
                  <a:lnTo>
                    <a:pt x="29" y="178"/>
                  </a:lnTo>
                  <a:lnTo>
                    <a:pt x="33" y="157"/>
                  </a:lnTo>
                  <a:lnTo>
                    <a:pt x="38" y="140"/>
                  </a:lnTo>
                  <a:lnTo>
                    <a:pt x="44" y="124"/>
                  </a:lnTo>
                  <a:lnTo>
                    <a:pt x="50" y="109"/>
                  </a:lnTo>
                  <a:lnTo>
                    <a:pt x="58" y="97"/>
                  </a:lnTo>
                  <a:lnTo>
                    <a:pt x="65" y="85"/>
                  </a:lnTo>
                  <a:lnTo>
                    <a:pt x="74" y="75"/>
                  </a:lnTo>
                  <a:lnTo>
                    <a:pt x="83" y="66"/>
                  </a:lnTo>
                  <a:lnTo>
                    <a:pt x="93" y="59"/>
                  </a:lnTo>
                  <a:lnTo>
                    <a:pt x="103" y="53"/>
                  </a:lnTo>
                  <a:lnTo>
                    <a:pt x="114" y="47"/>
                  </a:lnTo>
                  <a:lnTo>
                    <a:pt x="125" y="41"/>
                  </a:lnTo>
                  <a:lnTo>
                    <a:pt x="150" y="31"/>
                  </a:lnTo>
                  <a:lnTo>
                    <a:pt x="176" y="21"/>
                  </a:lnTo>
                  <a:close/>
                </a:path>
              </a:pathLst>
            </a:custGeom>
            <a:solidFill>
              <a:srgbClr val="5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6643800" y="2463840"/>
              <a:ext cx="150840" cy="117360"/>
            </a:xfrm>
            <a:custGeom>
              <a:avLst/>
              <a:gdLst/>
              <a:ahLst/>
              <a:rect l="l" t="t" r="r" b="b"/>
              <a:pathLst>
                <a:path w="474" h="372">
                  <a:moveTo>
                    <a:pt x="168" y="23"/>
                  </a:moveTo>
                  <a:lnTo>
                    <a:pt x="184" y="17"/>
                  </a:lnTo>
                  <a:lnTo>
                    <a:pt x="200" y="12"/>
                  </a:lnTo>
                  <a:lnTo>
                    <a:pt x="215" y="8"/>
                  </a:lnTo>
                  <a:lnTo>
                    <a:pt x="231" y="6"/>
                  </a:lnTo>
                  <a:lnTo>
                    <a:pt x="259" y="1"/>
                  </a:lnTo>
                  <a:lnTo>
                    <a:pt x="286" y="0"/>
                  </a:lnTo>
                  <a:lnTo>
                    <a:pt x="312" y="0"/>
                  </a:lnTo>
                  <a:lnTo>
                    <a:pt x="335" y="2"/>
                  </a:lnTo>
                  <a:lnTo>
                    <a:pt x="356" y="6"/>
                  </a:lnTo>
                  <a:lnTo>
                    <a:pt x="376" y="11"/>
                  </a:lnTo>
                  <a:lnTo>
                    <a:pt x="393" y="17"/>
                  </a:lnTo>
                  <a:lnTo>
                    <a:pt x="409" y="23"/>
                  </a:lnTo>
                  <a:lnTo>
                    <a:pt x="422" y="28"/>
                  </a:lnTo>
                  <a:lnTo>
                    <a:pt x="432" y="34"/>
                  </a:lnTo>
                  <a:lnTo>
                    <a:pt x="447" y="44"/>
                  </a:lnTo>
                  <a:lnTo>
                    <a:pt x="452" y="48"/>
                  </a:lnTo>
                  <a:lnTo>
                    <a:pt x="457" y="54"/>
                  </a:lnTo>
                  <a:lnTo>
                    <a:pt x="462" y="62"/>
                  </a:lnTo>
                  <a:lnTo>
                    <a:pt x="466" y="71"/>
                  </a:lnTo>
                  <a:lnTo>
                    <a:pt x="468" y="79"/>
                  </a:lnTo>
                  <a:lnTo>
                    <a:pt x="470" y="89"/>
                  </a:lnTo>
                  <a:lnTo>
                    <a:pt x="473" y="99"/>
                  </a:lnTo>
                  <a:lnTo>
                    <a:pt x="474" y="109"/>
                  </a:lnTo>
                  <a:lnTo>
                    <a:pt x="474" y="119"/>
                  </a:lnTo>
                  <a:lnTo>
                    <a:pt x="474" y="129"/>
                  </a:lnTo>
                  <a:lnTo>
                    <a:pt x="474" y="140"/>
                  </a:lnTo>
                  <a:lnTo>
                    <a:pt x="473" y="150"/>
                  </a:lnTo>
                  <a:lnTo>
                    <a:pt x="472" y="159"/>
                  </a:lnTo>
                  <a:lnTo>
                    <a:pt x="469" y="169"/>
                  </a:lnTo>
                  <a:lnTo>
                    <a:pt x="466" y="179"/>
                  </a:lnTo>
                  <a:lnTo>
                    <a:pt x="462" y="188"/>
                  </a:lnTo>
                  <a:lnTo>
                    <a:pt x="458" y="196"/>
                  </a:lnTo>
                  <a:lnTo>
                    <a:pt x="454" y="201"/>
                  </a:lnTo>
                  <a:lnTo>
                    <a:pt x="450" y="205"/>
                  </a:lnTo>
                  <a:lnTo>
                    <a:pt x="443" y="210"/>
                  </a:lnTo>
                  <a:lnTo>
                    <a:pt x="436" y="215"/>
                  </a:lnTo>
                  <a:lnTo>
                    <a:pt x="416" y="226"/>
                  </a:lnTo>
                  <a:lnTo>
                    <a:pt x="393" y="238"/>
                  </a:lnTo>
                  <a:lnTo>
                    <a:pt x="366" y="252"/>
                  </a:lnTo>
                  <a:lnTo>
                    <a:pt x="335" y="264"/>
                  </a:lnTo>
                  <a:lnTo>
                    <a:pt x="303" y="278"/>
                  </a:lnTo>
                  <a:lnTo>
                    <a:pt x="269" y="292"/>
                  </a:lnTo>
                  <a:lnTo>
                    <a:pt x="200" y="318"/>
                  </a:lnTo>
                  <a:lnTo>
                    <a:pt x="136" y="341"/>
                  </a:lnTo>
                  <a:lnTo>
                    <a:pt x="82" y="359"/>
                  </a:lnTo>
                  <a:lnTo>
                    <a:pt x="45" y="371"/>
                  </a:lnTo>
                  <a:lnTo>
                    <a:pt x="39" y="372"/>
                  </a:lnTo>
                  <a:lnTo>
                    <a:pt x="32" y="372"/>
                  </a:lnTo>
                  <a:lnTo>
                    <a:pt x="28" y="372"/>
                  </a:lnTo>
                  <a:lnTo>
                    <a:pt x="23" y="372"/>
                  </a:lnTo>
                  <a:lnTo>
                    <a:pt x="19" y="371"/>
                  </a:lnTo>
                  <a:lnTo>
                    <a:pt x="15" y="369"/>
                  </a:lnTo>
                  <a:lnTo>
                    <a:pt x="12" y="366"/>
                  </a:lnTo>
                  <a:lnTo>
                    <a:pt x="9" y="364"/>
                  </a:lnTo>
                  <a:lnTo>
                    <a:pt x="4" y="356"/>
                  </a:lnTo>
                  <a:lnTo>
                    <a:pt x="2" y="346"/>
                  </a:lnTo>
                  <a:lnTo>
                    <a:pt x="0" y="334"/>
                  </a:lnTo>
                  <a:lnTo>
                    <a:pt x="0" y="321"/>
                  </a:lnTo>
                  <a:lnTo>
                    <a:pt x="2" y="306"/>
                  </a:lnTo>
                  <a:lnTo>
                    <a:pt x="3" y="289"/>
                  </a:lnTo>
                  <a:lnTo>
                    <a:pt x="7" y="271"/>
                  </a:lnTo>
                  <a:lnTo>
                    <a:pt x="10" y="252"/>
                  </a:lnTo>
                  <a:lnTo>
                    <a:pt x="19" y="211"/>
                  </a:lnTo>
                  <a:lnTo>
                    <a:pt x="29" y="167"/>
                  </a:lnTo>
                  <a:lnTo>
                    <a:pt x="32" y="152"/>
                  </a:lnTo>
                  <a:lnTo>
                    <a:pt x="36" y="139"/>
                  </a:lnTo>
                  <a:lnTo>
                    <a:pt x="42" y="125"/>
                  </a:lnTo>
                  <a:lnTo>
                    <a:pt x="48" y="114"/>
                  </a:lnTo>
                  <a:lnTo>
                    <a:pt x="55" y="103"/>
                  </a:lnTo>
                  <a:lnTo>
                    <a:pt x="62" y="93"/>
                  </a:lnTo>
                  <a:lnTo>
                    <a:pt x="71" y="83"/>
                  </a:lnTo>
                  <a:lnTo>
                    <a:pt x="79" y="75"/>
                  </a:lnTo>
                  <a:lnTo>
                    <a:pt x="89" y="66"/>
                  </a:lnTo>
                  <a:lnTo>
                    <a:pt x="99" y="59"/>
                  </a:lnTo>
                  <a:lnTo>
                    <a:pt x="110" y="52"/>
                  </a:lnTo>
                  <a:lnTo>
                    <a:pt x="120" y="45"/>
                  </a:lnTo>
                  <a:lnTo>
                    <a:pt x="143" y="34"/>
                  </a:lnTo>
                  <a:lnTo>
                    <a:pt x="168" y="23"/>
                  </a:lnTo>
                  <a:close/>
                </a:path>
              </a:pathLst>
            </a:custGeom>
            <a:solidFill>
              <a:srgbClr val="5e4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6648480" y="2470320"/>
              <a:ext cx="144360" cy="106200"/>
            </a:xfrm>
            <a:custGeom>
              <a:avLst/>
              <a:gdLst/>
              <a:ahLst/>
              <a:rect l="l" t="t" r="r" b="b"/>
              <a:pathLst>
                <a:path w="455" h="332">
                  <a:moveTo>
                    <a:pt x="155" y="30"/>
                  </a:moveTo>
                  <a:lnTo>
                    <a:pt x="190" y="18"/>
                  </a:lnTo>
                  <a:lnTo>
                    <a:pt x="222" y="10"/>
                  </a:lnTo>
                  <a:lnTo>
                    <a:pt x="252" y="5"/>
                  </a:lnTo>
                  <a:lnTo>
                    <a:pt x="280" y="1"/>
                  </a:lnTo>
                  <a:lnTo>
                    <a:pt x="304" y="0"/>
                  </a:lnTo>
                  <a:lnTo>
                    <a:pt x="327" y="1"/>
                  </a:lnTo>
                  <a:lnTo>
                    <a:pt x="347" y="3"/>
                  </a:lnTo>
                  <a:lnTo>
                    <a:pt x="366" y="7"/>
                  </a:lnTo>
                  <a:lnTo>
                    <a:pt x="382" y="12"/>
                  </a:lnTo>
                  <a:lnTo>
                    <a:pt x="395" y="17"/>
                  </a:lnTo>
                  <a:lnTo>
                    <a:pt x="406" y="22"/>
                  </a:lnTo>
                  <a:lnTo>
                    <a:pt x="416" y="27"/>
                  </a:lnTo>
                  <a:lnTo>
                    <a:pt x="428" y="35"/>
                  </a:lnTo>
                  <a:lnTo>
                    <a:pt x="432" y="39"/>
                  </a:lnTo>
                  <a:lnTo>
                    <a:pt x="437" y="44"/>
                  </a:lnTo>
                  <a:lnTo>
                    <a:pt x="441" y="50"/>
                  </a:lnTo>
                  <a:lnTo>
                    <a:pt x="444" y="57"/>
                  </a:lnTo>
                  <a:lnTo>
                    <a:pt x="447" y="65"/>
                  </a:lnTo>
                  <a:lnTo>
                    <a:pt x="452" y="82"/>
                  </a:lnTo>
                  <a:lnTo>
                    <a:pt x="454" y="101"/>
                  </a:lnTo>
                  <a:lnTo>
                    <a:pt x="455" y="110"/>
                  </a:lnTo>
                  <a:lnTo>
                    <a:pt x="455" y="119"/>
                  </a:lnTo>
                  <a:lnTo>
                    <a:pt x="454" y="129"/>
                  </a:lnTo>
                  <a:lnTo>
                    <a:pt x="453" y="139"/>
                  </a:lnTo>
                  <a:lnTo>
                    <a:pt x="451" y="147"/>
                  </a:lnTo>
                  <a:lnTo>
                    <a:pt x="448" y="156"/>
                  </a:lnTo>
                  <a:lnTo>
                    <a:pt x="444" y="165"/>
                  </a:lnTo>
                  <a:lnTo>
                    <a:pt x="441" y="172"/>
                  </a:lnTo>
                  <a:lnTo>
                    <a:pt x="432" y="179"/>
                  </a:lnTo>
                  <a:lnTo>
                    <a:pt x="419" y="188"/>
                  </a:lnTo>
                  <a:lnTo>
                    <a:pt x="399" y="198"/>
                  </a:lnTo>
                  <a:lnTo>
                    <a:pt x="375" y="209"/>
                  </a:lnTo>
                  <a:lnTo>
                    <a:pt x="319" y="233"/>
                  </a:lnTo>
                  <a:lnTo>
                    <a:pt x="255" y="258"/>
                  </a:lnTo>
                  <a:lnTo>
                    <a:pt x="188" y="281"/>
                  </a:lnTo>
                  <a:lnTo>
                    <a:pt x="127" y="303"/>
                  </a:lnTo>
                  <a:lnTo>
                    <a:pt x="75" y="319"/>
                  </a:lnTo>
                  <a:lnTo>
                    <a:pt x="41" y="329"/>
                  </a:lnTo>
                  <a:lnTo>
                    <a:pt x="30" y="332"/>
                  </a:lnTo>
                  <a:lnTo>
                    <a:pt x="20" y="332"/>
                  </a:lnTo>
                  <a:lnTo>
                    <a:pt x="16" y="332"/>
                  </a:lnTo>
                  <a:lnTo>
                    <a:pt x="13" y="331"/>
                  </a:lnTo>
                  <a:lnTo>
                    <a:pt x="10" y="328"/>
                  </a:lnTo>
                  <a:lnTo>
                    <a:pt x="8" y="327"/>
                  </a:lnTo>
                  <a:lnTo>
                    <a:pt x="4" y="321"/>
                  </a:lnTo>
                  <a:lnTo>
                    <a:pt x="1" y="313"/>
                  </a:lnTo>
                  <a:lnTo>
                    <a:pt x="0" y="303"/>
                  </a:lnTo>
                  <a:lnTo>
                    <a:pt x="0" y="294"/>
                  </a:lnTo>
                  <a:lnTo>
                    <a:pt x="1" y="281"/>
                  </a:lnTo>
                  <a:lnTo>
                    <a:pt x="3" y="267"/>
                  </a:lnTo>
                  <a:lnTo>
                    <a:pt x="6" y="252"/>
                  </a:lnTo>
                  <a:lnTo>
                    <a:pt x="10" y="236"/>
                  </a:lnTo>
                  <a:lnTo>
                    <a:pt x="19" y="200"/>
                  </a:lnTo>
                  <a:lnTo>
                    <a:pt x="30" y="161"/>
                  </a:lnTo>
                  <a:lnTo>
                    <a:pt x="33" y="151"/>
                  </a:lnTo>
                  <a:lnTo>
                    <a:pt x="37" y="141"/>
                  </a:lnTo>
                  <a:lnTo>
                    <a:pt x="41" y="131"/>
                  </a:lnTo>
                  <a:lnTo>
                    <a:pt x="47" y="120"/>
                  </a:lnTo>
                  <a:lnTo>
                    <a:pt x="53" y="112"/>
                  </a:lnTo>
                  <a:lnTo>
                    <a:pt x="59" y="102"/>
                  </a:lnTo>
                  <a:lnTo>
                    <a:pt x="67" y="92"/>
                  </a:lnTo>
                  <a:lnTo>
                    <a:pt x="75" y="83"/>
                  </a:lnTo>
                  <a:lnTo>
                    <a:pt x="84" y="75"/>
                  </a:lnTo>
                  <a:lnTo>
                    <a:pt x="93" y="67"/>
                  </a:lnTo>
                  <a:lnTo>
                    <a:pt x="102" y="60"/>
                  </a:lnTo>
                  <a:lnTo>
                    <a:pt x="112" y="53"/>
                  </a:lnTo>
                  <a:lnTo>
                    <a:pt x="122" y="46"/>
                  </a:lnTo>
                  <a:lnTo>
                    <a:pt x="133" y="40"/>
                  </a:lnTo>
                  <a:lnTo>
                    <a:pt x="144" y="35"/>
                  </a:lnTo>
                  <a:lnTo>
                    <a:pt x="155" y="30"/>
                  </a:lnTo>
                  <a:close/>
                </a:path>
              </a:pathLst>
            </a:custGeom>
            <a:solidFill>
              <a:srgbClr val="5c4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6653160" y="2478240"/>
              <a:ext cx="139680" cy="92160"/>
            </a:xfrm>
            <a:custGeom>
              <a:avLst/>
              <a:gdLst/>
              <a:ahLst/>
              <a:rect l="l" t="t" r="r" b="b"/>
              <a:pathLst>
                <a:path w="437" h="292">
                  <a:moveTo>
                    <a:pt x="413" y="30"/>
                  </a:moveTo>
                  <a:lnTo>
                    <a:pt x="409" y="27"/>
                  </a:lnTo>
                  <a:lnTo>
                    <a:pt x="400" y="20"/>
                  </a:lnTo>
                  <a:lnTo>
                    <a:pt x="392" y="15"/>
                  </a:lnTo>
                  <a:lnTo>
                    <a:pt x="382" y="11"/>
                  </a:lnTo>
                  <a:lnTo>
                    <a:pt x="371" y="7"/>
                  </a:lnTo>
                  <a:lnTo>
                    <a:pt x="357" y="4"/>
                  </a:lnTo>
                  <a:lnTo>
                    <a:pt x="341" y="1"/>
                  </a:lnTo>
                  <a:lnTo>
                    <a:pt x="321" y="0"/>
                  </a:lnTo>
                  <a:lnTo>
                    <a:pt x="300" y="0"/>
                  </a:lnTo>
                  <a:lnTo>
                    <a:pt x="275" y="3"/>
                  </a:lnTo>
                  <a:lnTo>
                    <a:pt x="247" y="6"/>
                  </a:lnTo>
                  <a:lnTo>
                    <a:pt x="218" y="12"/>
                  </a:lnTo>
                  <a:lnTo>
                    <a:pt x="183" y="22"/>
                  </a:lnTo>
                  <a:lnTo>
                    <a:pt x="146" y="34"/>
                  </a:lnTo>
                  <a:lnTo>
                    <a:pt x="136" y="39"/>
                  </a:lnTo>
                  <a:lnTo>
                    <a:pt x="126" y="46"/>
                  </a:lnTo>
                  <a:lnTo>
                    <a:pt x="117" y="52"/>
                  </a:lnTo>
                  <a:lnTo>
                    <a:pt x="107" y="59"/>
                  </a:lnTo>
                  <a:lnTo>
                    <a:pt x="88" y="75"/>
                  </a:lnTo>
                  <a:lnTo>
                    <a:pt x="72" y="92"/>
                  </a:lnTo>
                  <a:lnTo>
                    <a:pt x="58" y="110"/>
                  </a:lnTo>
                  <a:lnTo>
                    <a:pt x="47" y="127"/>
                  </a:lnTo>
                  <a:lnTo>
                    <a:pt x="38" y="140"/>
                  </a:lnTo>
                  <a:lnTo>
                    <a:pt x="32" y="151"/>
                  </a:lnTo>
                  <a:lnTo>
                    <a:pt x="21" y="186"/>
                  </a:lnTo>
                  <a:lnTo>
                    <a:pt x="11" y="217"/>
                  </a:lnTo>
                  <a:lnTo>
                    <a:pt x="3" y="242"/>
                  </a:lnTo>
                  <a:lnTo>
                    <a:pt x="0" y="262"/>
                  </a:lnTo>
                  <a:lnTo>
                    <a:pt x="0" y="271"/>
                  </a:lnTo>
                  <a:lnTo>
                    <a:pt x="1" y="278"/>
                  </a:lnTo>
                  <a:lnTo>
                    <a:pt x="3" y="284"/>
                  </a:lnTo>
                  <a:lnTo>
                    <a:pt x="7" y="288"/>
                  </a:lnTo>
                  <a:lnTo>
                    <a:pt x="12" y="290"/>
                  </a:lnTo>
                  <a:lnTo>
                    <a:pt x="19" y="292"/>
                  </a:lnTo>
                  <a:lnTo>
                    <a:pt x="28" y="292"/>
                  </a:lnTo>
                  <a:lnTo>
                    <a:pt x="38" y="290"/>
                  </a:lnTo>
                  <a:lnTo>
                    <a:pt x="70" y="280"/>
                  </a:lnTo>
                  <a:lnTo>
                    <a:pt x="119" y="265"/>
                  </a:lnTo>
                  <a:lnTo>
                    <a:pt x="178" y="245"/>
                  </a:lnTo>
                  <a:lnTo>
                    <a:pt x="241" y="223"/>
                  </a:lnTo>
                  <a:lnTo>
                    <a:pt x="304" y="201"/>
                  </a:lnTo>
                  <a:lnTo>
                    <a:pt x="358" y="178"/>
                  </a:lnTo>
                  <a:lnTo>
                    <a:pt x="380" y="170"/>
                  </a:lnTo>
                  <a:lnTo>
                    <a:pt x="400" y="160"/>
                  </a:lnTo>
                  <a:lnTo>
                    <a:pt x="413" y="153"/>
                  </a:lnTo>
                  <a:lnTo>
                    <a:pt x="421" y="146"/>
                  </a:lnTo>
                  <a:lnTo>
                    <a:pt x="425" y="140"/>
                  </a:lnTo>
                  <a:lnTo>
                    <a:pt x="429" y="133"/>
                  </a:lnTo>
                  <a:lnTo>
                    <a:pt x="433" y="124"/>
                  </a:lnTo>
                  <a:lnTo>
                    <a:pt x="434" y="116"/>
                  </a:lnTo>
                  <a:lnTo>
                    <a:pt x="435" y="107"/>
                  </a:lnTo>
                  <a:lnTo>
                    <a:pt x="437" y="98"/>
                  </a:lnTo>
                  <a:lnTo>
                    <a:pt x="437" y="90"/>
                  </a:lnTo>
                  <a:lnTo>
                    <a:pt x="437" y="81"/>
                  </a:lnTo>
                  <a:lnTo>
                    <a:pt x="435" y="73"/>
                  </a:lnTo>
                  <a:lnTo>
                    <a:pt x="433" y="64"/>
                  </a:lnTo>
                  <a:lnTo>
                    <a:pt x="430" y="55"/>
                  </a:lnTo>
                  <a:lnTo>
                    <a:pt x="428" y="49"/>
                  </a:lnTo>
                  <a:lnTo>
                    <a:pt x="424" y="42"/>
                  </a:lnTo>
                  <a:lnTo>
                    <a:pt x="422" y="37"/>
                  </a:lnTo>
                  <a:lnTo>
                    <a:pt x="417" y="32"/>
                  </a:lnTo>
                  <a:lnTo>
                    <a:pt x="413" y="30"/>
                  </a:lnTo>
                  <a:close/>
                </a:path>
              </a:pathLst>
            </a:custGeom>
            <a:solidFill>
              <a:srgbClr val="5b4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6669000" y="2482920"/>
              <a:ext cx="122400" cy="82440"/>
            </a:xfrm>
            <a:custGeom>
              <a:avLst/>
              <a:gdLst/>
              <a:ahLst/>
              <a:rect l="l" t="t" r="r" b="b"/>
              <a:pathLst>
                <a:path w="386" h="256">
                  <a:moveTo>
                    <a:pt x="130" y="31"/>
                  </a:moveTo>
                  <a:lnTo>
                    <a:pt x="162" y="20"/>
                  </a:lnTo>
                  <a:lnTo>
                    <a:pt x="192" y="11"/>
                  </a:lnTo>
                  <a:lnTo>
                    <a:pt x="219" y="5"/>
                  </a:lnTo>
                  <a:lnTo>
                    <a:pt x="244" y="2"/>
                  </a:lnTo>
                  <a:lnTo>
                    <a:pt x="266" y="0"/>
                  </a:lnTo>
                  <a:lnTo>
                    <a:pt x="284" y="0"/>
                  </a:lnTo>
                  <a:lnTo>
                    <a:pt x="301" y="2"/>
                  </a:lnTo>
                  <a:lnTo>
                    <a:pt x="316" y="3"/>
                  </a:lnTo>
                  <a:lnTo>
                    <a:pt x="328" y="6"/>
                  </a:lnTo>
                  <a:lnTo>
                    <a:pt x="340" y="10"/>
                  </a:lnTo>
                  <a:lnTo>
                    <a:pt x="348" y="14"/>
                  </a:lnTo>
                  <a:lnTo>
                    <a:pt x="356" y="17"/>
                  </a:lnTo>
                  <a:lnTo>
                    <a:pt x="364" y="24"/>
                  </a:lnTo>
                  <a:lnTo>
                    <a:pt x="367" y="26"/>
                  </a:lnTo>
                  <a:lnTo>
                    <a:pt x="370" y="29"/>
                  </a:lnTo>
                  <a:lnTo>
                    <a:pt x="373" y="32"/>
                  </a:lnTo>
                  <a:lnTo>
                    <a:pt x="376" y="37"/>
                  </a:lnTo>
                  <a:lnTo>
                    <a:pt x="379" y="43"/>
                  </a:lnTo>
                  <a:lnTo>
                    <a:pt x="383" y="57"/>
                  </a:lnTo>
                  <a:lnTo>
                    <a:pt x="385" y="72"/>
                  </a:lnTo>
                  <a:lnTo>
                    <a:pt x="386" y="88"/>
                  </a:lnTo>
                  <a:lnTo>
                    <a:pt x="384" y="104"/>
                  </a:lnTo>
                  <a:lnTo>
                    <a:pt x="383" y="111"/>
                  </a:lnTo>
                  <a:lnTo>
                    <a:pt x="379" y="117"/>
                  </a:lnTo>
                  <a:lnTo>
                    <a:pt x="376" y="123"/>
                  </a:lnTo>
                  <a:lnTo>
                    <a:pt x="372" y="129"/>
                  </a:lnTo>
                  <a:lnTo>
                    <a:pt x="364" y="134"/>
                  </a:lnTo>
                  <a:lnTo>
                    <a:pt x="352" y="142"/>
                  </a:lnTo>
                  <a:lnTo>
                    <a:pt x="336" y="149"/>
                  </a:lnTo>
                  <a:lnTo>
                    <a:pt x="316" y="158"/>
                  </a:lnTo>
                  <a:lnTo>
                    <a:pt x="268" y="177"/>
                  </a:lnTo>
                  <a:lnTo>
                    <a:pt x="213" y="197"/>
                  </a:lnTo>
                  <a:lnTo>
                    <a:pt x="157" y="216"/>
                  </a:lnTo>
                  <a:lnTo>
                    <a:pt x="105" y="233"/>
                  </a:lnTo>
                  <a:lnTo>
                    <a:pt x="61" y="246"/>
                  </a:lnTo>
                  <a:lnTo>
                    <a:pt x="32" y="254"/>
                  </a:lnTo>
                  <a:lnTo>
                    <a:pt x="23" y="256"/>
                  </a:lnTo>
                  <a:lnTo>
                    <a:pt x="16" y="256"/>
                  </a:lnTo>
                  <a:lnTo>
                    <a:pt x="10" y="256"/>
                  </a:lnTo>
                  <a:lnTo>
                    <a:pt x="6" y="254"/>
                  </a:lnTo>
                  <a:lnTo>
                    <a:pt x="2" y="250"/>
                  </a:lnTo>
                  <a:lnTo>
                    <a:pt x="1" y="245"/>
                  </a:lnTo>
                  <a:lnTo>
                    <a:pt x="0" y="239"/>
                  </a:lnTo>
                  <a:lnTo>
                    <a:pt x="0" y="232"/>
                  </a:lnTo>
                  <a:lnTo>
                    <a:pt x="4" y="214"/>
                  </a:lnTo>
                  <a:lnTo>
                    <a:pt x="10" y="192"/>
                  </a:lnTo>
                  <a:lnTo>
                    <a:pt x="18" y="165"/>
                  </a:lnTo>
                  <a:lnTo>
                    <a:pt x="30" y="134"/>
                  </a:lnTo>
                  <a:lnTo>
                    <a:pt x="33" y="125"/>
                  </a:lnTo>
                  <a:lnTo>
                    <a:pt x="41" y="112"/>
                  </a:lnTo>
                  <a:lnTo>
                    <a:pt x="50" y="97"/>
                  </a:lnTo>
                  <a:lnTo>
                    <a:pt x="64" y="81"/>
                  </a:lnTo>
                  <a:lnTo>
                    <a:pt x="79" y="67"/>
                  </a:lnTo>
                  <a:lnTo>
                    <a:pt x="95" y="52"/>
                  </a:lnTo>
                  <a:lnTo>
                    <a:pt x="103" y="46"/>
                  </a:lnTo>
                  <a:lnTo>
                    <a:pt x="112" y="41"/>
                  </a:lnTo>
                  <a:lnTo>
                    <a:pt x="121" y="36"/>
                  </a:lnTo>
                  <a:lnTo>
                    <a:pt x="130" y="31"/>
                  </a:lnTo>
                  <a:close/>
                </a:path>
              </a:pathLst>
            </a:custGeom>
            <a:solidFill>
              <a:srgbClr val="5f4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6684840" y="2489400"/>
              <a:ext cx="106560" cy="69840"/>
            </a:xfrm>
            <a:custGeom>
              <a:avLst/>
              <a:gdLst/>
              <a:ahLst/>
              <a:rect l="l" t="t" r="r" b="b"/>
              <a:pathLst>
                <a:path w="335" h="223">
                  <a:moveTo>
                    <a:pt x="111" y="28"/>
                  </a:moveTo>
                  <a:lnTo>
                    <a:pt x="139" y="18"/>
                  </a:lnTo>
                  <a:lnTo>
                    <a:pt x="166" y="10"/>
                  </a:lnTo>
                  <a:lnTo>
                    <a:pt x="190" y="5"/>
                  </a:lnTo>
                  <a:lnTo>
                    <a:pt x="211" y="2"/>
                  </a:lnTo>
                  <a:lnTo>
                    <a:pt x="230" y="0"/>
                  </a:lnTo>
                  <a:lnTo>
                    <a:pt x="246" y="0"/>
                  </a:lnTo>
                  <a:lnTo>
                    <a:pt x="261" y="0"/>
                  </a:lnTo>
                  <a:lnTo>
                    <a:pt x="275" y="3"/>
                  </a:lnTo>
                  <a:lnTo>
                    <a:pt x="286" y="5"/>
                  </a:lnTo>
                  <a:lnTo>
                    <a:pt x="294" y="9"/>
                  </a:lnTo>
                  <a:lnTo>
                    <a:pt x="302" y="12"/>
                  </a:lnTo>
                  <a:lnTo>
                    <a:pt x="308" y="15"/>
                  </a:lnTo>
                  <a:lnTo>
                    <a:pt x="315" y="20"/>
                  </a:lnTo>
                  <a:lnTo>
                    <a:pt x="318" y="23"/>
                  </a:lnTo>
                  <a:lnTo>
                    <a:pt x="320" y="25"/>
                  </a:lnTo>
                  <a:lnTo>
                    <a:pt x="324" y="29"/>
                  </a:lnTo>
                  <a:lnTo>
                    <a:pt x="326" y="32"/>
                  </a:lnTo>
                  <a:lnTo>
                    <a:pt x="329" y="37"/>
                  </a:lnTo>
                  <a:lnTo>
                    <a:pt x="332" y="50"/>
                  </a:lnTo>
                  <a:lnTo>
                    <a:pt x="335" y="62"/>
                  </a:lnTo>
                  <a:lnTo>
                    <a:pt x="335" y="76"/>
                  </a:lnTo>
                  <a:lnTo>
                    <a:pt x="334" y="89"/>
                  </a:lnTo>
                  <a:lnTo>
                    <a:pt x="332" y="95"/>
                  </a:lnTo>
                  <a:lnTo>
                    <a:pt x="330" y="101"/>
                  </a:lnTo>
                  <a:lnTo>
                    <a:pt x="326" y="108"/>
                  </a:lnTo>
                  <a:lnTo>
                    <a:pt x="323" y="112"/>
                  </a:lnTo>
                  <a:lnTo>
                    <a:pt x="316" y="117"/>
                  </a:lnTo>
                  <a:lnTo>
                    <a:pt x="305" y="122"/>
                  </a:lnTo>
                  <a:lnTo>
                    <a:pt x="292" y="130"/>
                  </a:lnTo>
                  <a:lnTo>
                    <a:pt x="275" y="137"/>
                  </a:lnTo>
                  <a:lnTo>
                    <a:pt x="233" y="153"/>
                  </a:lnTo>
                  <a:lnTo>
                    <a:pt x="185" y="170"/>
                  </a:lnTo>
                  <a:lnTo>
                    <a:pt x="137" y="187"/>
                  </a:lnTo>
                  <a:lnTo>
                    <a:pt x="91" y="202"/>
                  </a:lnTo>
                  <a:lnTo>
                    <a:pt x="54" y="215"/>
                  </a:lnTo>
                  <a:lnTo>
                    <a:pt x="30" y="221"/>
                  </a:lnTo>
                  <a:lnTo>
                    <a:pt x="21" y="223"/>
                  </a:lnTo>
                  <a:lnTo>
                    <a:pt x="15" y="223"/>
                  </a:lnTo>
                  <a:lnTo>
                    <a:pt x="10" y="223"/>
                  </a:lnTo>
                  <a:lnTo>
                    <a:pt x="5" y="221"/>
                  </a:lnTo>
                  <a:lnTo>
                    <a:pt x="3" y="218"/>
                  </a:lnTo>
                  <a:lnTo>
                    <a:pt x="1" y="213"/>
                  </a:lnTo>
                  <a:lnTo>
                    <a:pt x="0" y="208"/>
                  </a:lnTo>
                  <a:lnTo>
                    <a:pt x="0" y="201"/>
                  </a:lnTo>
                  <a:lnTo>
                    <a:pt x="3" y="185"/>
                  </a:lnTo>
                  <a:lnTo>
                    <a:pt x="8" y="165"/>
                  </a:lnTo>
                  <a:lnTo>
                    <a:pt x="15" y="142"/>
                  </a:lnTo>
                  <a:lnTo>
                    <a:pt x="24" y="115"/>
                  </a:lnTo>
                  <a:lnTo>
                    <a:pt x="27" y="108"/>
                  </a:lnTo>
                  <a:lnTo>
                    <a:pt x="35" y="96"/>
                  </a:lnTo>
                  <a:lnTo>
                    <a:pt x="43" y="84"/>
                  </a:lnTo>
                  <a:lnTo>
                    <a:pt x="54" y="72"/>
                  </a:lnTo>
                  <a:lnTo>
                    <a:pt x="67" y="58"/>
                  </a:lnTo>
                  <a:lnTo>
                    <a:pt x="81" y="46"/>
                  </a:lnTo>
                  <a:lnTo>
                    <a:pt x="89" y="41"/>
                  </a:lnTo>
                  <a:lnTo>
                    <a:pt x="96" y="36"/>
                  </a:lnTo>
                  <a:lnTo>
                    <a:pt x="104" y="31"/>
                  </a:lnTo>
                  <a:lnTo>
                    <a:pt x="111" y="28"/>
                  </a:lnTo>
                  <a:close/>
                </a:path>
              </a:pathLst>
            </a:custGeom>
            <a:solidFill>
              <a:srgbClr val="624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6700680" y="2494080"/>
              <a:ext cx="88920" cy="6048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94" y="23"/>
                  </a:moveTo>
                  <a:lnTo>
                    <a:pt x="119" y="15"/>
                  </a:lnTo>
                  <a:lnTo>
                    <a:pt x="141" y="9"/>
                  </a:lnTo>
                  <a:lnTo>
                    <a:pt x="162" y="4"/>
                  </a:lnTo>
                  <a:lnTo>
                    <a:pt x="179" y="2"/>
                  </a:lnTo>
                  <a:lnTo>
                    <a:pt x="195" y="0"/>
                  </a:lnTo>
                  <a:lnTo>
                    <a:pt x="210" y="0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2" y="5"/>
                  </a:lnTo>
                  <a:lnTo>
                    <a:pt x="249" y="8"/>
                  </a:lnTo>
                  <a:lnTo>
                    <a:pt x="255" y="12"/>
                  </a:lnTo>
                  <a:lnTo>
                    <a:pt x="260" y="14"/>
                  </a:lnTo>
                  <a:lnTo>
                    <a:pt x="266" y="18"/>
                  </a:lnTo>
                  <a:lnTo>
                    <a:pt x="269" y="20"/>
                  </a:lnTo>
                  <a:lnTo>
                    <a:pt x="271" y="23"/>
                  </a:lnTo>
                  <a:lnTo>
                    <a:pt x="274" y="25"/>
                  </a:lnTo>
                  <a:lnTo>
                    <a:pt x="276" y="29"/>
                  </a:lnTo>
                  <a:lnTo>
                    <a:pt x="278" y="32"/>
                  </a:lnTo>
                  <a:lnTo>
                    <a:pt x="282" y="42"/>
                  </a:lnTo>
                  <a:lnTo>
                    <a:pt x="283" y="53"/>
                  </a:lnTo>
                  <a:lnTo>
                    <a:pt x="283" y="64"/>
                  </a:lnTo>
                  <a:lnTo>
                    <a:pt x="282" y="77"/>
                  </a:lnTo>
                  <a:lnTo>
                    <a:pt x="278" y="87"/>
                  </a:lnTo>
                  <a:lnTo>
                    <a:pt x="274" y="96"/>
                  </a:lnTo>
                  <a:lnTo>
                    <a:pt x="269" y="100"/>
                  </a:lnTo>
                  <a:lnTo>
                    <a:pt x="259" y="105"/>
                  </a:lnTo>
                  <a:lnTo>
                    <a:pt x="246" y="111"/>
                  </a:lnTo>
                  <a:lnTo>
                    <a:pt x="232" y="117"/>
                  </a:lnTo>
                  <a:lnTo>
                    <a:pt x="196" y="131"/>
                  </a:lnTo>
                  <a:lnTo>
                    <a:pt x="155" y="146"/>
                  </a:lnTo>
                  <a:lnTo>
                    <a:pt x="115" y="159"/>
                  </a:lnTo>
                  <a:lnTo>
                    <a:pt x="77" y="173"/>
                  </a:lnTo>
                  <a:lnTo>
                    <a:pt x="45" y="183"/>
                  </a:lnTo>
                  <a:lnTo>
                    <a:pt x="24" y="189"/>
                  </a:lnTo>
                  <a:lnTo>
                    <a:pt x="18" y="190"/>
                  </a:lnTo>
                  <a:lnTo>
                    <a:pt x="11" y="190"/>
                  </a:lnTo>
                  <a:lnTo>
                    <a:pt x="8" y="190"/>
                  </a:lnTo>
                  <a:lnTo>
                    <a:pt x="4" y="189"/>
                  </a:lnTo>
                  <a:lnTo>
                    <a:pt x="2" y="186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73"/>
                  </a:lnTo>
                  <a:lnTo>
                    <a:pt x="3" y="159"/>
                  </a:lnTo>
                  <a:lnTo>
                    <a:pt x="7" y="142"/>
                  </a:lnTo>
                  <a:lnTo>
                    <a:pt x="14" y="122"/>
                  </a:lnTo>
                  <a:lnTo>
                    <a:pt x="21" y="99"/>
                  </a:lnTo>
                  <a:lnTo>
                    <a:pt x="25" y="93"/>
                  </a:lnTo>
                  <a:lnTo>
                    <a:pt x="30" y="83"/>
                  </a:lnTo>
                  <a:lnTo>
                    <a:pt x="37" y="73"/>
                  </a:lnTo>
                  <a:lnTo>
                    <a:pt x="47" y="61"/>
                  </a:lnTo>
                  <a:lnTo>
                    <a:pt x="57" y="50"/>
                  </a:lnTo>
                  <a:lnTo>
                    <a:pt x="69" y="39"/>
                  </a:lnTo>
                  <a:lnTo>
                    <a:pt x="82" y="30"/>
                  </a:lnTo>
                  <a:lnTo>
                    <a:pt x="94" y="23"/>
                  </a:lnTo>
                  <a:close/>
                </a:path>
              </a:pathLst>
            </a:custGeom>
            <a:solidFill>
              <a:srgbClr val="64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6716880" y="2500560"/>
              <a:ext cx="72720" cy="48960"/>
            </a:xfrm>
            <a:custGeom>
              <a:avLst/>
              <a:gdLst/>
              <a:ahLst/>
              <a:rect l="l" t="t" r="r" b="b"/>
              <a:pathLst>
                <a:path w="232" h="156">
                  <a:moveTo>
                    <a:pt x="221" y="16"/>
                  </a:moveTo>
                  <a:lnTo>
                    <a:pt x="220" y="14"/>
                  </a:lnTo>
                  <a:lnTo>
                    <a:pt x="214" y="11"/>
                  </a:lnTo>
                  <a:lnTo>
                    <a:pt x="205" y="6"/>
                  </a:lnTo>
                  <a:lnTo>
                    <a:pt x="190" y="2"/>
                  </a:lnTo>
                  <a:lnTo>
                    <a:pt x="182" y="1"/>
                  </a:lnTo>
                  <a:lnTo>
                    <a:pt x="172" y="0"/>
                  </a:lnTo>
                  <a:lnTo>
                    <a:pt x="160" y="0"/>
                  </a:lnTo>
                  <a:lnTo>
                    <a:pt x="146" y="1"/>
                  </a:lnTo>
                  <a:lnTo>
                    <a:pt x="131" y="3"/>
                  </a:lnTo>
                  <a:lnTo>
                    <a:pt x="115" y="7"/>
                  </a:lnTo>
                  <a:lnTo>
                    <a:pt x="97" y="12"/>
                  </a:lnTo>
                  <a:lnTo>
                    <a:pt x="77" y="18"/>
                  </a:lnTo>
                  <a:lnTo>
                    <a:pt x="66" y="24"/>
                  </a:lnTo>
                  <a:lnTo>
                    <a:pt x="55" y="30"/>
                  </a:lnTo>
                  <a:lnTo>
                    <a:pt x="46" y="39"/>
                  </a:lnTo>
                  <a:lnTo>
                    <a:pt x="37" y="49"/>
                  </a:lnTo>
                  <a:lnTo>
                    <a:pt x="29" y="58"/>
                  </a:lnTo>
                  <a:lnTo>
                    <a:pt x="24" y="67"/>
                  </a:lnTo>
                  <a:lnTo>
                    <a:pt x="19" y="75"/>
                  </a:lnTo>
                  <a:lnTo>
                    <a:pt x="17" y="81"/>
                  </a:lnTo>
                  <a:lnTo>
                    <a:pt x="11" y="99"/>
                  </a:lnTo>
                  <a:lnTo>
                    <a:pt x="5" y="115"/>
                  </a:lnTo>
                  <a:lnTo>
                    <a:pt x="1" y="129"/>
                  </a:lnTo>
                  <a:lnTo>
                    <a:pt x="0" y="140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1"/>
                  </a:lnTo>
                  <a:lnTo>
                    <a:pt x="3" y="153"/>
                  </a:lnTo>
                  <a:lnTo>
                    <a:pt x="6" y="155"/>
                  </a:lnTo>
                  <a:lnTo>
                    <a:pt x="9" y="156"/>
                  </a:lnTo>
                  <a:lnTo>
                    <a:pt x="14" y="156"/>
                  </a:lnTo>
                  <a:lnTo>
                    <a:pt x="21" y="155"/>
                  </a:lnTo>
                  <a:lnTo>
                    <a:pt x="37" y="150"/>
                  </a:lnTo>
                  <a:lnTo>
                    <a:pt x="62" y="141"/>
                  </a:lnTo>
                  <a:lnTo>
                    <a:pt x="93" y="131"/>
                  </a:lnTo>
                  <a:lnTo>
                    <a:pt x="128" y="119"/>
                  </a:lnTo>
                  <a:lnTo>
                    <a:pt x="160" y="107"/>
                  </a:lnTo>
                  <a:lnTo>
                    <a:pt x="189" y="96"/>
                  </a:lnTo>
                  <a:lnTo>
                    <a:pt x="201" y="91"/>
                  </a:lnTo>
                  <a:lnTo>
                    <a:pt x="211" y="86"/>
                  </a:lnTo>
                  <a:lnTo>
                    <a:pt x="219" y="82"/>
                  </a:lnTo>
                  <a:lnTo>
                    <a:pt x="224" y="78"/>
                  </a:lnTo>
                  <a:lnTo>
                    <a:pt x="228" y="71"/>
                  </a:lnTo>
                  <a:lnTo>
                    <a:pt x="231" y="62"/>
                  </a:lnTo>
                  <a:lnTo>
                    <a:pt x="232" y="53"/>
                  </a:lnTo>
                  <a:lnTo>
                    <a:pt x="232" y="43"/>
                  </a:lnTo>
                  <a:lnTo>
                    <a:pt x="231" y="34"/>
                  </a:lnTo>
                  <a:lnTo>
                    <a:pt x="228" y="26"/>
                  </a:lnTo>
                  <a:lnTo>
                    <a:pt x="225" y="19"/>
                  </a:lnTo>
                  <a:lnTo>
                    <a:pt x="221" y="16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6692760" y="2395800"/>
              <a:ext cx="68400" cy="42840"/>
            </a:xfrm>
            <a:custGeom>
              <a:avLst/>
              <a:gdLst/>
              <a:ahLst/>
              <a:rect l="l" t="t" r="r" b="b"/>
              <a:pathLst>
                <a:path w="213" h="134">
                  <a:moveTo>
                    <a:pt x="201" y="41"/>
                  </a:moveTo>
                  <a:lnTo>
                    <a:pt x="197" y="39"/>
                  </a:lnTo>
                  <a:lnTo>
                    <a:pt x="188" y="34"/>
                  </a:lnTo>
                  <a:lnTo>
                    <a:pt x="176" y="27"/>
                  </a:lnTo>
                  <a:lnTo>
                    <a:pt x="160" y="18"/>
                  </a:lnTo>
                  <a:lnTo>
                    <a:pt x="142" y="9"/>
                  </a:lnTo>
                  <a:lnTo>
                    <a:pt x="125" y="3"/>
                  </a:lnTo>
                  <a:lnTo>
                    <a:pt x="115" y="1"/>
                  </a:lnTo>
                  <a:lnTo>
                    <a:pt x="107" y="0"/>
                  </a:lnTo>
                  <a:lnTo>
                    <a:pt x="99" y="0"/>
                  </a:lnTo>
                  <a:lnTo>
                    <a:pt x="93" y="1"/>
                  </a:lnTo>
                  <a:lnTo>
                    <a:pt x="78" y="3"/>
                  </a:lnTo>
                  <a:lnTo>
                    <a:pt x="61" y="9"/>
                  </a:lnTo>
                  <a:lnTo>
                    <a:pt x="52" y="13"/>
                  </a:lnTo>
                  <a:lnTo>
                    <a:pt x="43" y="18"/>
                  </a:lnTo>
                  <a:lnTo>
                    <a:pt x="36" y="23"/>
                  </a:lnTo>
                  <a:lnTo>
                    <a:pt x="27" y="29"/>
                  </a:lnTo>
                  <a:lnTo>
                    <a:pt x="21" y="36"/>
                  </a:lnTo>
                  <a:lnTo>
                    <a:pt x="14" y="43"/>
                  </a:lnTo>
                  <a:lnTo>
                    <a:pt x="9" y="51"/>
                  </a:lnTo>
                  <a:lnTo>
                    <a:pt x="4" y="60"/>
                  </a:lnTo>
                  <a:lnTo>
                    <a:pt x="1" y="68"/>
                  </a:lnTo>
                  <a:lnTo>
                    <a:pt x="0" y="79"/>
                  </a:lnTo>
                  <a:lnTo>
                    <a:pt x="0" y="89"/>
                  </a:lnTo>
                  <a:lnTo>
                    <a:pt x="3" y="100"/>
                  </a:lnTo>
                  <a:lnTo>
                    <a:pt x="6" y="111"/>
                  </a:lnTo>
                  <a:lnTo>
                    <a:pt x="10" y="120"/>
                  </a:lnTo>
                  <a:lnTo>
                    <a:pt x="14" y="126"/>
                  </a:lnTo>
                  <a:lnTo>
                    <a:pt x="17" y="130"/>
                  </a:lnTo>
                  <a:lnTo>
                    <a:pt x="22" y="132"/>
                  </a:lnTo>
                  <a:lnTo>
                    <a:pt x="26" y="134"/>
                  </a:lnTo>
                  <a:lnTo>
                    <a:pt x="31" y="134"/>
                  </a:lnTo>
                  <a:lnTo>
                    <a:pt x="35" y="132"/>
                  </a:lnTo>
                  <a:lnTo>
                    <a:pt x="45" y="129"/>
                  </a:lnTo>
                  <a:lnTo>
                    <a:pt x="54" y="123"/>
                  </a:lnTo>
                  <a:lnTo>
                    <a:pt x="64" y="116"/>
                  </a:lnTo>
                  <a:lnTo>
                    <a:pt x="75" y="111"/>
                  </a:lnTo>
                  <a:lnTo>
                    <a:pt x="88" y="108"/>
                  </a:lnTo>
                  <a:lnTo>
                    <a:pt x="101" y="104"/>
                  </a:lnTo>
                  <a:lnTo>
                    <a:pt x="115" y="100"/>
                  </a:lnTo>
                  <a:lnTo>
                    <a:pt x="129" y="97"/>
                  </a:lnTo>
                  <a:lnTo>
                    <a:pt x="143" y="95"/>
                  </a:lnTo>
                  <a:lnTo>
                    <a:pt x="158" y="95"/>
                  </a:lnTo>
                  <a:lnTo>
                    <a:pt x="171" y="97"/>
                  </a:lnTo>
                  <a:lnTo>
                    <a:pt x="185" y="100"/>
                  </a:lnTo>
                  <a:lnTo>
                    <a:pt x="190" y="103"/>
                  </a:lnTo>
                  <a:lnTo>
                    <a:pt x="196" y="103"/>
                  </a:lnTo>
                  <a:lnTo>
                    <a:pt x="200" y="102"/>
                  </a:lnTo>
                  <a:lnTo>
                    <a:pt x="203" y="99"/>
                  </a:lnTo>
                  <a:lnTo>
                    <a:pt x="207" y="95"/>
                  </a:lnTo>
                  <a:lnTo>
                    <a:pt x="209" y="91"/>
                  </a:lnTo>
                  <a:lnTo>
                    <a:pt x="212" y="86"/>
                  </a:lnTo>
                  <a:lnTo>
                    <a:pt x="213" y="81"/>
                  </a:lnTo>
                  <a:lnTo>
                    <a:pt x="213" y="75"/>
                  </a:lnTo>
                  <a:lnTo>
                    <a:pt x="213" y="68"/>
                  </a:lnTo>
                  <a:lnTo>
                    <a:pt x="213" y="62"/>
                  </a:lnTo>
                  <a:lnTo>
                    <a:pt x="212" y="57"/>
                  </a:lnTo>
                  <a:lnTo>
                    <a:pt x="211" y="52"/>
                  </a:lnTo>
                  <a:lnTo>
                    <a:pt x="208" y="47"/>
                  </a:lnTo>
                  <a:lnTo>
                    <a:pt x="204" y="44"/>
                  </a:lnTo>
                  <a:lnTo>
                    <a:pt x="201" y="41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6772320" y="2395800"/>
              <a:ext cx="90360" cy="52200"/>
            </a:xfrm>
            <a:custGeom>
              <a:avLst/>
              <a:gdLst/>
              <a:ahLst/>
              <a:rect l="l" t="t" r="r" b="b"/>
              <a:pathLst>
                <a:path w="284" h="161">
                  <a:moveTo>
                    <a:pt x="54" y="7"/>
                  </a:moveTo>
                  <a:lnTo>
                    <a:pt x="64" y="6"/>
                  </a:lnTo>
                  <a:lnTo>
                    <a:pt x="73" y="6"/>
                  </a:lnTo>
                  <a:lnTo>
                    <a:pt x="81" y="6"/>
                  </a:lnTo>
                  <a:lnTo>
                    <a:pt x="89" y="6"/>
                  </a:lnTo>
                  <a:lnTo>
                    <a:pt x="101" y="8"/>
                  </a:lnTo>
                  <a:lnTo>
                    <a:pt x="112" y="13"/>
                  </a:lnTo>
                  <a:lnTo>
                    <a:pt x="123" y="18"/>
                  </a:lnTo>
                  <a:lnTo>
                    <a:pt x="133" y="22"/>
                  </a:lnTo>
                  <a:lnTo>
                    <a:pt x="143" y="26"/>
                  </a:lnTo>
                  <a:lnTo>
                    <a:pt x="155" y="27"/>
                  </a:lnTo>
                  <a:lnTo>
                    <a:pt x="159" y="24"/>
                  </a:lnTo>
                  <a:lnTo>
                    <a:pt x="169" y="18"/>
                  </a:lnTo>
                  <a:lnTo>
                    <a:pt x="183" y="11"/>
                  </a:lnTo>
                  <a:lnTo>
                    <a:pt x="201" y="5"/>
                  </a:lnTo>
                  <a:lnTo>
                    <a:pt x="210" y="2"/>
                  </a:lnTo>
                  <a:lnTo>
                    <a:pt x="220" y="1"/>
                  </a:lnTo>
                  <a:lnTo>
                    <a:pt x="230" y="0"/>
                  </a:lnTo>
                  <a:lnTo>
                    <a:pt x="240" y="1"/>
                  </a:lnTo>
                  <a:lnTo>
                    <a:pt x="249" y="5"/>
                  </a:lnTo>
                  <a:lnTo>
                    <a:pt x="257" y="10"/>
                  </a:lnTo>
                  <a:lnTo>
                    <a:pt x="265" y="17"/>
                  </a:lnTo>
                  <a:lnTo>
                    <a:pt x="272" y="27"/>
                  </a:lnTo>
                  <a:lnTo>
                    <a:pt x="277" y="39"/>
                  </a:lnTo>
                  <a:lnTo>
                    <a:pt x="282" y="50"/>
                  </a:lnTo>
                  <a:lnTo>
                    <a:pt x="284" y="61"/>
                  </a:lnTo>
                  <a:lnTo>
                    <a:pt x="284" y="70"/>
                  </a:lnTo>
                  <a:lnTo>
                    <a:pt x="283" y="80"/>
                  </a:lnTo>
                  <a:lnTo>
                    <a:pt x="281" y="87"/>
                  </a:lnTo>
                  <a:lnTo>
                    <a:pt x="276" y="94"/>
                  </a:lnTo>
                  <a:lnTo>
                    <a:pt x="271" y="101"/>
                  </a:lnTo>
                  <a:lnTo>
                    <a:pt x="265" y="107"/>
                  </a:lnTo>
                  <a:lnTo>
                    <a:pt x="257" y="112"/>
                  </a:lnTo>
                  <a:lnTo>
                    <a:pt x="250" y="117"/>
                  </a:lnTo>
                  <a:lnTo>
                    <a:pt x="241" y="122"/>
                  </a:lnTo>
                  <a:lnTo>
                    <a:pt x="223" y="128"/>
                  </a:lnTo>
                  <a:lnTo>
                    <a:pt x="203" y="133"/>
                  </a:lnTo>
                  <a:lnTo>
                    <a:pt x="185" y="138"/>
                  </a:lnTo>
                  <a:lnTo>
                    <a:pt x="170" y="142"/>
                  </a:lnTo>
                  <a:lnTo>
                    <a:pt x="156" y="147"/>
                  </a:lnTo>
                  <a:lnTo>
                    <a:pt x="145" y="152"/>
                  </a:lnTo>
                  <a:lnTo>
                    <a:pt x="134" y="156"/>
                  </a:lnTo>
                  <a:lnTo>
                    <a:pt x="123" y="160"/>
                  </a:lnTo>
                  <a:lnTo>
                    <a:pt x="112" y="161"/>
                  </a:lnTo>
                  <a:lnTo>
                    <a:pt x="100" y="160"/>
                  </a:lnTo>
                  <a:lnTo>
                    <a:pt x="85" y="158"/>
                  </a:lnTo>
                  <a:lnTo>
                    <a:pt x="69" y="157"/>
                  </a:lnTo>
                  <a:lnTo>
                    <a:pt x="54" y="154"/>
                  </a:lnTo>
                  <a:lnTo>
                    <a:pt x="41" y="150"/>
                  </a:lnTo>
                  <a:lnTo>
                    <a:pt x="34" y="147"/>
                  </a:lnTo>
                  <a:lnTo>
                    <a:pt x="28" y="144"/>
                  </a:lnTo>
                  <a:lnTo>
                    <a:pt x="22" y="140"/>
                  </a:lnTo>
                  <a:lnTo>
                    <a:pt x="17" y="135"/>
                  </a:lnTo>
                  <a:lnTo>
                    <a:pt x="14" y="130"/>
                  </a:lnTo>
                  <a:lnTo>
                    <a:pt x="10" y="124"/>
                  </a:lnTo>
                  <a:lnTo>
                    <a:pt x="7" y="118"/>
                  </a:lnTo>
                  <a:lnTo>
                    <a:pt x="5" y="110"/>
                  </a:lnTo>
                  <a:lnTo>
                    <a:pt x="1" y="94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1" y="62"/>
                  </a:lnTo>
                  <a:lnTo>
                    <a:pt x="2" y="54"/>
                  </a:lnTo>
                  <a:lnTo>
                    <a:pt x="4" y="46"/>
                  </a:lnTo>
                  <a:lnTo>
                    <a:pt x="7" y="40"/>
                  </a:lnTo>
                  <a:lnTo>
                    <a:pt x="11" y="34"/>
                  </a:lnTo>
                  <a:lnTo>
                    <a:pt x="15" y="28"/>
                  </a:lnTo>
                  <a:lnTo>
                    <a:pt x="21" y="22"/>
                  </a:lnTo>
                  <a:lnTo>
                    <a:pt x="27" y="17"/>
                  </a:lnTo>
                  <a:lnTo>
                    <a:pt x="34" y="13"/>
                  </a:lnTo>
                  <a:lnTo>
                    <a:pt x="44" y="10"/>
                  </a:lnTo>
                  <a:lnTo>
                    <a:pt x="54" y="7"/>
                  </a:lnTo>
                  <a:close/>
                </a:path>
              </a:pathLst>
            </a:custGeom>
            <a:solidFill>
              <a:srgbClr val="6d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6783480" y="2400480"/>
              <a:ext cx="75960" cy="41040"/>
            </a:xfrm>
            <a:custGeom>
              <a:avLst/>
              <a:gdLst/>
              <a:ahLst/>
              <a:rect l="l" t="t" r="r" b="b"/>
              <a:pathLst>
                <a:path w="241" h="131">
                  <a:moveTo>
                    <a:pt x="40" y="14"/>
                  </a:moveTo>
                  <a:lnTo>
                    <a:pt x="48" y="13"/>
                  </a:lnTo>
                  <a:lnTo>
                    <a:pt x="56" y="11"/>
                  </a:lnTo>
                  <a:lnTo>
                    <a:pt x="62" y="11"/>
                  </a:lnTo>
                  <a:lnTo>
                    <a:pt x="68" y="13"/>
                  </a:lnTo>
                  <a:lnTo>
                    <a:pt x="79" y="15"/>
                  </a:lnTo>
                  <a:lnTo>
                    <a:pt x="89" y="19"/>
                  </a:lnTo>
                  <a:lnTo>
                    <a:pt x="97" y="24"/>
                  </a:lnTo>
                  <a:lnTo>
                    <a:pt x="107" y="27"/>
                  </a:lnTo>
                  <a:lnTo>
                    <a:pt x="116" y="30"/>
                  </a:lnTo>
                  <a:lnTo>
                    <a:pt x="127" y="30"/>
                  </a:lnTo>
                  <a:lnTo>
                    <a:pt x="131" y="27"/>
                  </a:lnTo>
                  <a:lnTo>
                    <a:pt x="139" y="21"/>
                  </a:lnTo>
                  <a:lnTo>
                    <a:pt x="153" y="14"/>
                  </a:lnTo>
                  <a:lnTo>
                    <a:pt x="169" y="6"/>
                  </a:lnTo>
                  <a:lnTo>
                    <a:pt x="177" y="3"/>
                  </a:lnTo>
                  <a:lnTo>
                    <a:pt x="186" y="2"/>
                  </a:lnTo>
                  <a:lnTo>
                    <a:pt x="195" y="0"/>
                  </a:lnTo>
                  <a:lnTo>
                    <a:pt x="202" y="0"/>
                  </a:lnTo>
                  <a:lnTo>
                    <a:pt x="211" y="2"/>
                  </a:lnTo>
                  <a:lnTo>
                    <a:pt x="218" y="5"/>
                  </a:lnTo>
                  <a:lnTo>
                    <a:pt x="224" y="11"/>
                  </a:lnTo>
                  <a:lnTo>
                    <a:pt x="230" y="19"/>
                  </a:lnTo>
                  <a:lnTo>
                    <a:pt x="235" y="30"/>
                  </a:lnTo>
                  <a:lnTo>
                    <a:pt x="239" y="41"/>
                  </a:lnTo>
                  <a:lnTo>
                    <a:pt x="241" y="49"/>
                  </a:lnTo>
                  <a:lnTo>
                    <a:pt x="241" y="58"/>
                  </a:lnTo>
                  <a:lnTo>
                    <a:pt x="240" y="65"/>
                  </a:lnTo>
                  <a:lnTo>
                    <a:pt x="236" y="73"/>
                  </a:lnTo>
                  <a:lnTo>
                    <a:pt x="233" y="79"/>
                  </a:lnTo>
                  <a:lnTo>
                    <a:pt x="228" y="84"/>
                  </a:lnTo>
                  <a:lnTo>
                    <a:pt x="222" y="89"/>
                  </a:lnTo>
                  <a:lnTo>
                    <a:pt x="214" y="94"/>
                  </a:lnTo>
                  <a:lnTo>
                    <a:pt x="207" y="97"/>
                  </a:lnTo>
                  <a:lnTo>
                    <a:pt x="200" y="100"/>
                  </a:lnTo>
                  <a:lnTo>
                    <a:pt x="184" y="105"/>
                  </a:lnTo>
                  <a:lnTo>
                    <a:pt x="168" y="109"/>
                  </a:lnTo>
                  <a:lnTo>
                    <a:pt x="154" y="112"/>
                  </a:lnTo>
                  <a:lnTo>
                    <a:pt x="142" y="116"/>
                  </a:lnTo>
                  <a:lnTo>
                    <a:pt x="131" y="120"/>
                  </a:lnTo>
                  <a:lnTo>
                    <a:pt x="121" y="123"/>
                  </a:lnTo>
                  <a:lnTo>
                    <a:pt x="112" y="127"/>
                  </a:lnTo>
                  <a:lnTo>
                    <a:pt x="105" y="129"/>
                  </a:lnTo>
                  <a:lnTo>
                    <a:pt x="97" y="131"/>
                  </a:lnTo>
                  <a:lnTo>
                    <a:pt x="89" y="131"/>
                  </a:lnTo>
                  <a:lnTo>
                    <a:pt x="75" y="131"/>
                  </a:lnTo>
                  <a:lnTo>
                    <a:pt x="63" y="129"/>
                  </a:lnTo>
                  <a:lnTo>
                    <a:pt x="51" y="127"/>
                  </a:lnTo>
                  <a:lnTo>
                    <a:pt x="40" y="123"/>
                  </a:lnTo>
                  <a:lnTo>
                    <a:pt x="30" y="118"/>
                  </a:lnTo>
                  <a:lnTo>
                    <a:pt x="21" y="112"/>
                  </a:lnTo>
                  <a:lnTo>
                    <a:pt x="14" y="104"/>
                  </a:lnTo>
                  <a:lnTo>
                    <a:pt x="8" y="93"/>
                  </a:lnTo>
                  <a:lnTo>
                    <a:pt x="3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4" y="40"/>
                  </a:lnTo>
                  <a:lnTo>
                    <a:pt x="6" y="35"/>
                  </a:lnTo>
                  <a:lnTo>
                    <a:pt x="10" y="30"/>
                  </a:lnTo>
                  <a:lnTo>
                    <a:pt x="15" y="25"/>
                  </a:lnTo>
                  <a:lnTo>
                    <a:pt x="20" y="21"/>
                  </a:lnTo>
                  <a:lnTo>
                    <a:pt x="26" y="19"/>
                  </a:lnTo>
                  <a:lnTo>
                    <a:pt x="32" y="15"/>
                  </a:lnTo>
                  <a:lnTo>
                    <a:pt x="40" y="14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6794640" y="2403720"/>
              <a:ext cx="61920" cy="31680"/>
            </a:xfrm>
            <a:custGeom>
              <a:avLst/>
              <a:gdLst/>
              <a:ahLst/>
              <a:rect l="l" t="t" r="r" b="b"/>
              <a:pathLst>
                <a:path w="197" h="101">
                  <a:moveTo>
                    <a:pt x="27" y="21"/>
                  </a:moveTo>
                  <a:lnTo>
                    <a:pt x="32" y="20"/>
                  </a:lnTo>
                  <a:lnTo>
                    <a:pt x="38" y="20"/>
                  </a:lnTo>
                  <a:lnTo>
                    <a:pt x="43" y="20"/>
                  </a:lnTo>
                  <a:lnTo>
                    <a:pt x="46" y="21"/>
                  </a:lnTo>
                  <a:lnTo>
                    <a:pt x="55" y="24"/>
                  </a:lnTo>
                  <a:lnTo>
                    <a:pt x="64" y="27"/>
                  </a:lnTo>
                  <a:lnTo>
                    <a:pt x="71" y="31"/>
                  </a:lnTo>
                  <a:lnTo>
                    <a:pt x="80" y="35"/>
                  </a:lnTo>
                  <a:lnTo>
                    <a:pt x="87" y="36"/>
                  </a:lnTo>
                  <a:lnTo>
                    <a:pt x="94" y="35"/>
                  </a:lnTo>
                  <a:lnTo>
                    <a:pt x="98" y="32"/>
                  </a:lnTo>
                  <a:lnTo>
                    <a:pt x="105" y="26"/>
                  </a:lnTo>
                  <a:lnTo>
                    <a:pt x="118" y="19"/>
                  </a:lnTo>
                  <a:lnTo>
                    <a:pt x="133" y="10"/>
                  </a:lnTo>
                  <a:lnTo>
                    <a:pt x="140" y="7"/>
                  </a:lnTo>
                  <a:lnTo>
                    <a:pt x="149" y="4"/>
                  </a:lnTo>
                  <a:lnTo>
                    <a:pt x="156" y="2"/>
                  </a:lnTo>
                  <a:lnTo>
                    <a:pt x="163" y="0"/>
                  </a:lnTo>
                  <a:lnTo>
                    <a:pt x="171" y="2"/>
                  </a:lnTo>
                  <a:lnTo>
                    <a:pt x="177" y="4"/>
                  </a:lnTo>
                  <a:lnTo>
                    <a:pt x="183" y="8"/>
                  </a:lnTo>
                  <a:lnTo>
                    <a:pt x="187" y="14"/>
                  </a:lnTo>
                  <a:lnTo>
                    <a:pt x="192" y="24"/>
                  </a:lnTo>
                  <a:lnTo>
                    <a:pt x="195" y="32"/>
                  </a:lnTo>
                  <a:lnTo>
                    <a:pt x="197" y="41"/>
                  </a:lnTo>
                  <a:lnTo>
                    <a:pt x="197" y="48"/>
                  </a:lnTo>
                  <a:lnTo>
                    <a:pt x="194" y="54"/>
                  </a:lnTo>
                  <a:lnTo>
                    <a:pt x="192" y="59"/>
                  </a:lnTo>
                  <a:lnTo>
                    <a:pt x="187" y="64"/>
                  </a:lnTo>
                  <a:lnTo>
                    <a:pt x="182" y="68"/>
                  </a:lnTo>
                  <a:lnTo>
                    <a:pt x="171" y="74"/>
                  </a:lnTo>
                  <a:lnTo>
                    <a:pt x="157" y="79"/>
                  </a:lnTo>
                  <a:lnTo>
                    <a:pt x="144" y="82"/>
                  </a:lnTo>
                  <a:lnTo>
                    <a:pt x="133" y="84"/>
                  </a:lnTo>
                  <a:lnTo>
                    <a:pt x="121" y="86"/>
                  </a:lnTo>
                  <a:lnTo>
                    <a:pt x="113" y="89"/>
                  </a:lnTo>
                  <a:lnTo>
                    <a:pt x="104" y="93"/>
                  </a:lnTo>
                  <a:lnTo>
                    <a:pt x="97" y="95"/>
                  </a:lnTo>
                  <a:lnTo>
                    <a:pt x="91" y="98"/>
                  </a:lnTo>
                  <a:lnTo>
                    <a:pt x="85" y="100"/>
                  </a:lnTo>
                  <a:lnTo>
                    <a:pt x="80" y="101"/>
                  </a:lnTo>
                  <a:lnTo>
                    <a:pt x="76" y="100"/>
                  </a:lnTo>
                  <a:lnTo>
                    <a:pt x="64" y="101"/>
                  </a:lnTo>
                  <a:lnTo>
                    <a:pt x="54" y="101"/>
                  </a:lnTo>
                  <a:lnTo>
                    <a:pt x="45" y="100"/>
                  </a:lnTo>
                  <a:lnTo>
                    <a:pt x="38" y="99"/>
                  </a:lnTo>
                  <a:lnTo>
                    <a:pt x="30" y="96"/>
                  </a:lnTo>
                  <a:lnTo>
                    <a:pt x="24" y="91"/>
                  </a:lnTo>
                  <a:lnTo>
                    <a:pt x="17" y="86"/>
                  </a:lnTo>
                  <a:lnTo>
                    <a:pt x="11" y="79"/>
                  </a:lnTo>
                  <a:lnTo>
                    <a:pt x="5" y="72"/>
                  </a:lnTo>
                  <a:lnTo>
                    <a:pt x="1" y="63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5" y="35"/>
                  </a:lnTo>
                  <a:lnTo>
                    <a:pt x="7" y="31"/>
                  </a:lnTo>
                  <a:lnTo>
                    <a:pt x="11" y="29"/>
                  </a:lnTo>
                  <a:lnTo>
                    <a:pt x="16" y="26"/>
                  </a:lnTo>
                  <a:lnTo>
                    <a:pt x="21" y="24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7a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6804000" y="2408400"/>
              <a:ext cx="49320" cy="22320"/>
            </a:xfrm>
            <a:custGeom>
              <a:avLst/>
              <a:gdLst/>
              <a:ahLst/>
              <a:rect l="l" t="t" r="r" b="b"/>
              <a:pathLst>
                <a:path w="157" h="73">
                  <a:moveTo>
                    <a:pt x="71" y="41"/>
                  </a:moveTo>
                  <a:lnTo>
                    <a:pt x="73" y="39"/>
                  </a:lnTo>
                  <a:lnTo>
                    <a:pt x="80" y="33"/>
                  </a:lnTo>
                  <a:lnTo>
                    <a:pt x="90" y="23"/>
                  </a:lnTo>
                  <a:lnTo>
                    <a:pt x="104" y="14"/>
                  </a:lnTo>
                  <a:lnTo>
                    <a:pt x="117" y="6"/>
                  </a:lnTo>
                  <a:lnTo>
                    <a:pt x="130" y="1"/>
                  </a:lnTo>
                  <a:lnTo>
                    <a:pt x="136" y="0"/>
                  </a:lnTo>
                  <a:lnTo>
                    <a:pt x="141" y="1"/>
                  </a:lnTo>
                  <a:lnTo>
                    <a:pt x="146" y="2"/>
                  </a:lnTo>
                  <a:lnTo>
                    <a:pt x="149" y="6"/>
                  </a:lnTo>
                  <a:lnTo>
                    <a:pt x="153" y="14"/>
                  </a:lnTo>
                  <a:lnTo>
                    <a:pt x="157" y="23"/>
                  </a:lnTo>
                  <a:lnTo>
                    <a:pt x="157" y="30"/>
                  </a:lnTo>
                  <a:lnTo>
                    <a:pt x="157" y="35"/>
                  </a:lnTo>
                  <a:lnTo>
                    <a:pt x="154" y="41"/>
                  </a:lnTo>
                  <a:lnTo>
                    <a:pt x="152" y="45"/>
                  </a:lnTo>
                  <a:lnTo>
                    <a:pt x="148" y="49"/>
                  </a:lnTo>
                  <a:lnTo>
                    <a:pt x="143" y="51"/>
                  </a:lnTo>
                  <a:lnTo>
                    <a:pt x="132" y="55"/>
                  </a:lnTo>
                  <a:lnTo>
                    <a:pt x="121" y="57"/>
                  </a:lnTo>
                  <a:lnTo>
                    <a:pt x="111" y="59"/>
                  </a:lnTo>
                  <a:lnTo>
                    <a:pt x="103" y="60"/>
                  </a:lnTo>
                  <a:lnTo>
                    <a:pt x="95" y="61"/>
                  </a:lnTo>
                  <a:lnTo>
                    <a:pt x="88" y="62"/>
                  </a:lnTo>
                  <a:lnTo>
                    <a:pt x="82" y="64"/>
                  </a:lnTo>
                  <a:lnTo>
                    <a:pt x="75" y="65"/>
                  </a:lnTo>
                  <a:lnTo>
                    <a:pt x="71" y="66"/>
                  </a:lnTo>
                  <a:lnTo>
                    <a:pt x="68" y="67"/>
                  </a:lnTo>
                  <a:lnTo>
                    <a:pt x="66" y="69"/>
                  </a:lnTo>
                  <a:lnTo>
                    <a:pt x="64" y="69"/>
                  </a:lnTo>
                  <a:lnTo>
                    <a:pt x="57" y="71"/>
                  </a:lnTo>
                  <a:lnTo>
                    <a:pt x="50" y="72"/>
                  </a:lnTo>
                  <a:lnTo>
                    <a:pt x="45" y="73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0" y="70"/>
                  </a:lnTo>
                  <a:lnTo>
                    <a:pt x="24" y="66"/>
                  </a:lnTo>
                  <a:lnTo>
                    <a:pt x="15" y="62"/>
                  </a:lnTo>
                  <a:lnTo>
                    <a:pt x="9" y="59"/>
                  </a:lnTo>
                  <a:lnTo>
                    <a:pt x="4" y="54"/>
                  </a:lnTo>
                  <a:lnTo>
                    <a:pt x="2" y="49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4" y="34"/>
                  </a:lnTo>
                  <a:lnTo>
                    <a:pt x="9" y="30"/>
                  </a:lnTo>
                  <a:lnTo>
                    <a:pt x="15" y="28"/>
                  </a:lnTo>
                  <a:lnTo>
                    <a:pt x="24" y="27"/>
                  </a:lnTo>
                  <a:lnTo>
                    <a:pt x="31" y="28"/>
                  </a:lnTo>
                  <a:lnTo>
                    <a:pt x="39" y="32"/>
                  </a:lnTo>
                  <a:lnTo>
                    <a:pt x="45" y="34"/>
                  </a:lnTo>
                  <a:lnTo>
                    <a:pt x="51" y="38"/>
                  </a:lnTo>
                  <a:lnTo>
                    <a:pt x="58" y="40"/>
                  </a:lnTo>
                  <a:lnTo>
                    <a:pt x="64" y="41"/>
                  </a:lnTo>
                  <a:lnTo>
                    <a:pt x="71" y="41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6699240" y="2397240"/>
              <a:ext cx="57240" cy="36360"/>
            </a:xfrm>
            <a:custGeom>
              <a:avLst/>
              <a:gdLst/>
              <a:ahLst/>
              <a:rect l="l" t="t" r="r" b="b"/>
              <a:pathLst>
                <a:path w="178" h="115">
                  <a:moveTo>
                    <a:pt x="167" y="38"/>
                  </a:moveTo>
                  <a:lnTo>
                    <a:pt x="171" y="40"/>
                  </a:lnTo>
                  <a:lnTo>
                    <a:pt x="173" y="43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78" y="60"/>
                  </a:lnTo>
                  <a:lnTo>
                    <a:pt x="177" y="70"/>
                  </a:lnTo>
                  <a:lnTo>
                    <a:pt x="177" y="75"/>
                  </a:lnTo>
                  <a:lnTo>
                    <a:pt x="175" y="78"/>
                  </a:lnTo>
                  <a:lnTo>
                    <a:pt x="172" y="82"/>
                  </a:lnTo>
                  <a:lnTo>
                    <a:pt x="170" y="85"/>
                  </a:lnTo>
                  <a:lnTo>
                    <a:pt x="166" y="87"/>
                  </a:lnTo>
                  <a:lnTo>
                    <a:pt x="162" y="88"/>
                  </a:lnTo>
                  <a:lnTo>
                    <a:pt x="159" y="88"/>
                  </a:lnTo>
                  <a:lnTo>
                    <a:pt x="154" y="87"/>
                  </a:lnTo>
                  <a:lnTo>
                    <a:pt x="143" y="83"/>
                  </a:lnTo>
                  <a:lnTo>
                    <a:pt x="132" y="82"/>
                  </a:lnTo>
                  <a:lnTo>
                    <a:pt x="119" y="82"/>
                  </a:lnTo>
                  <a:lnTo>
                    <a:pt x="106" y="83"/>
                  </a:lnTo>
                  <a:lnTo>
                    <a:pt x="93" y="86"/>
                  </a:lnTo>
                  <a:lnTo>
                    <a:pt x="82" y="88"/>
                  </a:lnTo>
                  <a:lnTo>
                    <a:pt x="71" y="92"/>
                  </a:lnTo>
                  <a:lnTo>
                    <a:pt x="61" y="94"/>
                  </a:lnTo>
                  <a:lnTo>
                    <a:pt x="52" y="99"/>
                  </a:lnTo>
                  <a:lnTo>
                    <a:pt x="43" y="104"/>
                  </a:lnTo>
                  <a:lnTo>
                    <a:pt x="36" y="110"/>
                  </a:lnTo>
                  <a:lnTo>
                    <a:pt x="27" y="114"/>
                  </a:lnTo>
                  <a:lnTo>
                    <a:pt x="23" y="115"/>
                  </a:lnTo>
                  <a:lnTo>
                    <a:pt x="20" y="115"/>
                  </a:lnTo>
                  <a:lnTo>
                    <a:pt x="16" y="114"/>
                  </a:lnTo>
                  <a:lnTo>
                    <a:pt x="13" y="112"/>
                  </a:lnTo>
                  <a:lnTo>
                    <a:pt x="10" y="108"/>
                  </a:lnTo>
                  <a:lnTo>
                    <a:pt x="7" y="103"/>
                  </a:lnTo>
                  <a:lnTo>
                    <a:pt x="4" y="96"/>
                  </a:lnTo>
                  <a:lnTo>
                    <a:pt x="1" y="87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1" y="60"/>
                  </a:lnTo>
                  <a:lnTo>
                    <a:pt x="2" y="53"/>
                  </a:lnTo>
                  <a:lnTo>
                    <a:pt x="6" y="45"/>
                  </a:lnTo>
                  <a:lnTo>
                    <a:pt x="11" y="38"/>
                  </a:lnTo>
                  <a:lnTo>
                    <a:pt x="16" y="32"/>
                  </a:lnTo>
                  <a:lnTo>
                    <a:pt x="22" y="26"/>
                  </a:lnTo>
                  <a:lnTo>
                    <a:pt x="34" y="16"/>
                  </a:lnTo>
                  <a:lnTo>
                    <a:pt x="49" y="8"/>
                  </a:lnTo>
                  <a:lnTo>
                    <a:pt x="63" y="3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6" y="1"/>
                  </a:lnTo>
                  <a:lnTo>
                    <a:pt x="103" y="3"/>
                  </a:lnTo>
                  <a:lnTo>
                    <a:pt x="118" y="10"/>
                  </a:lnTo>
                  <a:lnTo>
                    <a:pt x="133" y="17"/>
                  </a:lnTo>
                  <a:lnTo>
                    <a:pt x="146" y="24"/>
                  </a:lnTo>
                  <a:lnTo>
                    <a:pt x="157" y="32"/>
                  </a:lnTo>
                  <a:lnTo>
                    <a:pt x="165" y="37"/>
                  </a:lnTo>
                  <a:lnTo>
                    <a:pt x="167" y="38"/>
                  </a:lnTo>
                  <a:close/>
                </a:path>
              </a:pathLst>
            </a:custGeom>
            <a:solidFill>
              <a:srgbClr val="6c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6703920" y="2400480"/>
              <a:ext cx="47880" cy="30240"/>
            </a:xfrm>
            <a:custGeom>
              <a:avLst/>
              <a:gdLst/>
              <a:ahLst/>
              <a:rect l="l" t="t" r="r" b="b"/>
              <a:pathLst>
                <a:path w="148" h="95">
                  <a:moveTo>
                    <a:pt x="138" y="31"/>
                  </a:moveTo>
                  <a:lnTo>
                    <a:pt x="140" y="33"/>
                  </a:lnTo>
                  <a:lnTo>
                    <a:pt x="143" y="36"/>
                  </a:lnTo>
                  <a:lnTo>
                    <a:pt x="145" y="38"/>
                  </a:lnTo>
                  <a:lnTo>
                    <a:pt x="146" y="42"/>
                  </a:lnTo>
                  <a:lnTo>
                    <a:pt x="148" y="50"/>
                  </a:lnTo>
                  <a:lnTo>
                    <a:pt x="148" y="58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4" y="69"/>
                  </a:lnTo>
                  <a:lnTo>
                    <a:pt x="141" y="71"/>
                  </a:lnTo>
                  <a:lnTo>
                    <a:pt x="138" y="73"/>
                  </a:lnTo>
                  <a:lnTo>
                    <a:pt x="135" y="74"/>
                  </a:lnTo>
                  <a:lnTo>
                    <a:pt x="132" y="73"/>
                  </a:lnTo>
                  <a:lnTo>
                    <a:pt x="127" y="71"/>
                  </a:lnTo>
                  <a:lnTo>
                    <a:pt x="118" y="69"/>
                  </a:lnTo>
                  <a:lnTo>
                    <a:pt x="108" y="69"/>
                  </a:lnTo>
                  <a:lnTo>
                    <a:pt x="98" y="69"/>
                  </a:lnTo>
                  <a:lnTo>
                    <a:pt x="89" y="70"/>
                  </a:lnTo>
                  <a:lnTo>
                    <a:pt x="79" y="71"/>
                  </a:lnTo>
                  <a:lnTo>
                    <a:pt x="69" y="74"/>
                  </a:lnTo>
                  <a:lnTo>
                    <a:pt x="59" y="76"/>
                  </a:lnTo>
                  <a:lnTo>
                    <a:pt x="50" y="80"/>
                  </a:lnTo>
                  <a:lnTo>
                    <a:pt x="43" y="82"/>
                  </a:lnTo>
                  <a:lnTo>
                    <a:pt x="37" y="87"/>
                  </a:lnTo>
                  <a:lnTo>
                    <a:pt x="29" y="91"/>
                  </a:lnTo>
                  <a:lnTo>
                    <a:pt x="23" y="94"/>
                  </a:lnTo>
                  <a:lnTo>
                    <a:pt x="20" y="95"/>
                  </a:lnTo>
                  <a:lnTo>
                    <a:pt x="17" y="95"/>
                  </a:lnTo>
                  <a:lnTo>
                    <a:pt x="13" y="94"/>
                  </a:lnTo>
                  <a:lnTo>
                    <a:pt x="11" y="92"/>
                  </a:lnTo>
                  <a:lnTo>
                    <a:pt x="9" y="89"/>
                  </a:lnTo>
                  <a:lnTo>
                    <a:pt x="6" y="85"/>
                  </a:lnTo>
                  <a:lnTo>
                    <a:pt x="4" y="79"/>
                  </a:lnTo>
                  <a:lnTo>
                    <a:pt x="1" y="71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1" y="49"/>
                  </a:lnTo>
                  <a:lnTo>
                    <a:pt x="4" y="43"/>
                  </a:lnTo>
                  <a:lnTo>
                    <a:pt x="6" y="37"/>
                  </a:lnTo>
                  <a:lnTo>
                    <a:pt x="10" y="32"/>
                  </a:lnTo>
                  <a:lnTo>
                    <a:pt x="13" y="27"/>
                  </a:lnTo>
                  <a:lnTo>
                    <a:pt x="18" y="22"/>
                  </a:lnTo>
                  <a:lnTo>
                    <a:pt x="29" y="15"/>
                  </a:lnTo>
                  <a:lnTo>
                    <a:pt x="42" y="9"/>
                  </a:lnTo>
                  <a:lnTo>
                    <a:pt x="53" y="4"/>
                  </a:lnTo>
                  <a:lnTo>
                    <a:pt x="64" y="1"/>
                  </a:lnTo>
                  <a:lnTo>
                    <a:pt x="69" y="0"/>
                  </a:lnTo>
                  <a:lnTo>
                    <a:pt x="74" y="1"/>
                  </a:lnTo>
                  <a:lnTo>
                    <a:pt x="80" y="1"/>
                  </a:lnTo>
                  <a:lnTo>
                    <a:pt x="86" y="4"/>
                  </a:lnTo>
                  <a:lnTo>
                    <a:pt x="98" y="9"/>
                  </a:lnTo>
                  <a:lnTo>
                    <a:pt x="109" y="14"/>
                  </a:lnTo>
                  <a:lnTo>
                    <a:pt x="121" y="20"/>
                  </a:lnTo>
                  <a:lnTo>
                    <a:pt x="129" y="26"/>
                  </a:lnTo>
                  <a:lnTo>
                    <a:pt x="135" y="30"/>
                  </a:lnTo>
                  <a:lnTo>
                    <a:pt x="138" y="31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6710400" y="2403720"/>
              <a:ext cx="36360" cy="21960"/>
            </a:xfrm>
            <a:custGeom>
              <a:avLst/>
              <a:gdLst/>
              <a:ahLst/>
              <a:rect l="l" t="t" r="r" b="b"/>
              <a:pathLst>
                <a:path w="116" h="73">
                  <a:moveTo>
                    <a:pt x="110" y="22"/>
                  </a:moveTo>
                  <a:lnTo>
                    <a:pt x="113" y="25"/>
                  </a:lnTo>
                  <a:lnTo>
                    <a:pt x="116" y="30"/>
                  </a:lnTo>
                  <a:lnTo>
                    <a:pt x="116" y="37"/>
                  </a:lnTo>
                  <a:lnTo>
                    <a:pt x="116" y="43"/>
                  </a:lnTo>
                  <a:lnTo>
                    <a:pt x="113" y="49"/>
                  </a:lnTo>
                  <a:lnTo>
                    <a:pt x="110" y="54"/>
                  </a:lnTo>
                  <a:lnTo>
                    <a:pt x="107" y="55"/>
                  </a:lnTo>
                  <a:lnTo>
                    <a:pt x="105" y="56"/>
                  </a:lnTo>
                  <a:lnTo>
                    <a:pt x="102" y="55"/>
                  </a:lnTo>
                  <a:lnTo>
                    <a:pt x="99" y="55"/>
                  </a:lnTo>
                  <a:lnTo>
                    <a:pt x="92" y="53"/>
                  </a:lnTo>
                  <a:lnTo>
                    <a:pt x="85" y="53"/>
                  </a:lnTo>
                  <a:lnTo>
                    <a:pt x="78" y="53"/>
                  </a:lnTo>
                  <a:lnTo>
                    <a:pt x="70" y="54"/>
                  </a:lnTo>
                  <a:lnTo>
                    <a:pt x="63" y="55"/>
                  </a:lnTo>
                  <a:lnTo>
                    <a:pt x="56" y="56"/>
                  </a:lnTo>
                  <a:lnTo>
                    <a:pt x="48" y="57"/>
                  </a:lnTo>
                  <a:lnTo>
                    <a:pt x="42" y="60"/>
                  </a:lnTo>
                  <a:lnTo>
                    <a:pt x="36" y="62"/>
                  </a:lnTo>
                  <a:lnTo>
                    <a:pt x="30" y="66"/>
                  </a:lnTo>
                  <a:lnTo>
                    <a:pt x="24" y="70"/>
                  </a:lnTo>
                  <a:lnTo>
                    <a:pt x="19" y="72"/>
                  </a:lnTo>
                  <a:lnTo>
                    <a:pt x="16" y="73"/>
                  </a:lnTo>
                  <a:lnTo>
                    <a:pt x="14" y="73"/>
                  </a:lnTo>
                  <a:lnTo>
                    <a:pt x="11" y="72"/>
                  </a:lnTo>
                  <a:lnTo>
                    <a:pt x="9" y="71"/>
                  </a:lnTo>
                  <a:lnTo>
                    <a:pt x="6" y="69"/>
                  </a:lnTo>
                  <a:lnTo>
                    <a:pt x="4" y="65"/>
                  </a:lnTo>
                  <a:lnTo>
                    <a:pt x="3" y="60"/>
                  </a:lnTo>
                  <a:lnTo>
                    <a:pt x="1" y="55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3" y="33"/>
                  </a:lnTo>
                  <a:lnTo>
                    <a:pt x="8" y="24"/>
                  </a:lnTo>
                  <a:lnTo>
                    <a:pt x="15" y="16"/>
                  </a:lnTo>
                  <a:lnTo>
                    <a:pt x="24" y="10"/>
                  </a:lnTo>
                  <a:lnTo>
                    <a:pt x="33" y="6"/>
                  </a:lnTo>
                  <a:lnTo>
                    <a:pt x="42" y="2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8" y="1"/>
                  </a:lnTo>
                  <a:lnTo>
                    <a:pt x="78" y="5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4" y="18"/>
                  </a:lnTo>
                  <a:lnTo>
                    <a:pt x="108" y="21"/>
                  </a:lnTo>
                  <a:lnTo>
                    <a:pt x="110" y="22"/>
                  </a:lnTo>
                  <a:close/>
                </a:path>
              </a:pathLst>
            </a:custGeom>
            <a:solidFill>
              <a:srgbClr val="735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6715080" y="2405160"/>
              <a:ext cx="27000" cy="1764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80" y="18"/>
                  </a:moveTo>
                  <a:lnTo>
                    <a:pt x="79" y="18"/>
                  </a:lnTo>
                  <a:lnTo>
                    <a:pt x="75" y="16"/>
                  </a:lnTo>
                  <a:lnTo>
                    <a:pt x="70" y="12"/>
                  </a:lnTo>
                  <a:lnTo>
                    <a:pt x="63" y="10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1"/>
                  </a:lnTo>
                  <a:lnTo>
                    <a:pt x="25" y="4"/>
                  </a:lnTo>
                  <a:lnTo>
                    <a:pt x="19" y="7"/>
                  </a:lnTo>
                  <a:lnTo>
                    <a:pt x="11" y="12"/>
                  </a:lnTo>
                  <a:lnTo>
                    <a:pt x="6" y="17"/>
                  </a:lnTo>
                  <a:lnTo>
                    <a:pt x="3" y="24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4" y="48"/>
                  </a:lnTo>
                  <a:lnTo>
                    <a:pt x="8" y="51"/>
                  </a:lnTo>
                  <a:lnTo>
                    <a:pt x="11" y="54"/>
                  </a:lnTo>
                  <a:lnTo>
                    <a:pt x="14" y="53"/>
                  </a:lnTo>
                  <a:lnTo>
                    <a:pt x="17" y="51"/>
                  </a:lnTo>
                  <a:lnTo>
                    <a:pt x="22" y="49"/>
                  </a:lnTo>
                  <a:lnTo>
                    <a:pt x="26" y="48"/>
                  </a:lnTo>
                  <a:lnTo>
                    <a:pt x="31" y="45"/>
                  </a:lnTo>
                  <a:lnTo>
                    <a:pt x="36" y="44"/>
                  </a:lnTo>
                  <a:lnTo>
                    <a:pt x="41" y="42"/>
                  </a:lnTo>
                  <a:lnTo>
                    <a:pt x="46" y="40"/>
                  </a:lnTo>
                  <a:lnTo>
                    <a:pt x="52" y="39"/>
                  </a:lnTo>
                  <a:lnTo>
                    <a:pt x="58" y="38"/>
                  </a:lnTo>
                  <a:lnTo>
                    <a:pt x="64" y="38"/>
                  </a:lnTo>
                  <a:lnTo>
                    <a:pt x="69" y="39"/>
                  </a:lnTo>
                  <a:lnTo>
                    <a:pt x="75" y="40"/>
                  </a:lnTo>
                  <a:lnTo>
                    <a:pt x="79" y="42"/>
                  </a:lnTo>
                  <a:lnTo>
                    <a:pt x="81" y="39"/>
                  </a:lnTo>
                  <a:lnTo>
                    <a:pt x="84" y="37"/>
                  </a:lnTo>
                  <a:lnTo>
                    <a:pt x="85" y="33"/>
                  </a:lnTo>
                  <a:lnTo>
                    <a:pt x="85" y="28"/>
                  </a:lnTo>
                  <a:lnTo>
                    <a:pt x="84" y="24"/>
                  </a:lnTo>
                  <a:lnTo>
                    <a:pt x="83" y="21"/>
                  </a:lnTo>
                  <a:lnTo>
                    <a:pt x="80" y="18"/>
                  </a:lnTo>
                  <a:close/>
                </a:path>
              </a:pathLst>
            </a:custGeom>
            <a:solidFill>
              <a:srgbClr val="78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6313320" y="1982880"/>
              <a:ext cx="560520" cy="798480"/>
            </a:xfrm>
            <a:custGeom>
              <a:avLst/>
              <a:gdLst/>
              <a:ahLst/>
              <a:rect l="l" t="t" r="r" b="b"/>
              <a:pathLst>
                <a:path w="1764" h="2516">
                  <a:moveTo>
                    <a:pt x="395" y="940"/>
                  </a:moveTo>
                  <a:lnTo>
                    <a:pt x="443" y="992"/>
                  </a:lnTo>
                  <a:lnTo>
                    <a:pt x="497" y="1048"/>
                  </a:lnTo>
                  <a:lnTo>
                    <a:pt x="524" y="1079"/>
                  </a:lnTo>
                  <a:lnTo>
                    <a:pt x="551" y="1110"/>
                  </a:lnTo>
                  <a:lnTo>
                    <a:pt x="578" y="1143"/>
                  </a:lnTo>
                  <a:lnTo>
                    <a:pt x="603" y="1179"/>
                  </a:lnTo>
                  <a:lnTo>
                    <a:pt x="614" y="1196"/>
                  </a:lnTo>
                  <a:lnTo>
                    <a:pt x="625" y="1214"/>
                  </a:lnTo>
                  <a:lnTo>
                    <a:pt x="636" y="1234"/>
                  </a:lnTo>
                  <a:lnTo>
                    <a:pt x="645" y="1254"/>
                  </a:lnTo>
                  <a:lnTo>
                    <a:pt x="655" y="1273"/>
                  </a:lnTo>
                  <a:lnTo>
                    <a:pt x="662" y="1294"/>
                  </a:lnTo>
                  <a:lnTo>
                    <a:pt x="669" y="1315"/>
                  </a:lnTo>
                  <a:lnTo>
                    <a:pt x="676" y="1337"/>
                  </a:lnTo>
                  <a:lnTo>
                    <a:pt x="681" y="1360"/>
                  </a:lnTo>
                  <a:lnTo>
                    <a:pt x="684" y="1382"/>
                  </a:lnTo>
                  <a:lnTo>
                    <a:pt x="687" y="1405"/>
                  </a:lnTo>
                  <a:lnTo>
                    <a:pt x="688" y="1430"/>
                  </a:lnTo>
                  <a:lnTo>
                    <a:pt x="688" y="1454"/>
                  </a:lnTo>
                  <a:lnTo>
                    <a:pt x="685" y="1480"/>
                  </a:lnTo>
                  <a:lnTo>
                    <a:pt x="683" y="1506"/>
                  </a:lnTo>
                  <a:lnTo>
                    <a:pt x="678" y="1532"/>
                  </a:lnTo>
                  <a:lnTo>
                    <a:pt x="673" y="1560"/>
                  </a:lnTo>
                  <a:lnTo>
                    <a:pt x="668" y="1588"/>
                  </a:lnTo>
                  <a:lnTo>
                    <a:pt x="665" y="1615"/>
                  </a:lnTo>
                  <a:lnTo>
                    <a:pt x="662" y="1642"/>
                  </a:lnTo>
                  <a:lnTo>
                    <a:pt x="661" y="1668"/>
                  </a:lnTo>
                  <a:lnTo>
                    <a:pt x="660" y="1694"/>
                  </a:lnTo>
                  <a:lnTo>
                    <a:pt x="660" y="1719"/>
                  </a:lnTo>
                  <a:lnTo>
                    <a:pt x="660" y="1743"/>
                  </a:lnTo>
                  <a:lnTo>
                    <a:pt x="661" y="1768"/>
                  </a:lnTo>
                  <a:lnTo>
                    <a:pt x="663" y="1791"/>
                  </a:lnTo>
                  <a:lnTo>
                    <a:pt x="666" y="1813"/>
                  </a:lnTo>
                  <a:lnTo>
                    <a:pt x="668" y="1836"/>
                  </a:lnTo>
                  <a:lnTo>
                    <a:pt x="676" y="1879"/>
                  </a:lnTo>
                  <a:lnTo>
                    <a:pt x="685" y="1918"/>
                  </a:lnTo>
                  <a:lnTo>
                    <a:pt x="697" y="1955"/>
                  </a:lnTo>
                  <a:lnTo>
                    <a:pt x="709" y="1989"/>
                  </a:lnTo>
                  <a:lnTo>
                    <a:pt x="722" y="2021"/>
                  </a:lnTo>
                  <a:lnTo>
                    <a:pt x="737" y="2050"/>
                  </a:lnTo>
                  <a:lnTo>
                    <a:pt x="752" y="2075"/>
                  </a:lnTo>
                  <a:lnTo>
                    <a:pt x="767" y="2098"/>
                  </a:lnTo>
                  <a:lnTo>
                    <a:pt x="783" y="2117"/>
                  </a:lnTo>
                  <a:lnTo>
                    <a:pt x="797" y="2133"/>
                  </a:lnTo>
                  <a:lnTo>
                    <a:pt x="806" y="2141"/>
                  </a:lnTo>
                  <a:lnTo>
                    <a:pt x="816" y="2148"/>
                  </a:lnTo>
                  <a:lnTo>
                    <a:pt x="828" y="2158"/>
                  </a:lnTo>
                  <a:lnTo>
                    <a:pt x="842" y="2166"/>
                  </a:lnTo>
                  <a:lnTo>
                    <a:pt x="875" y="2186"/>
                  </a:lnTo>
                  <a:lnTo>
                    <a:pt x="913" y="2207"/>
                  </a:lnTo>
                  <a:lnTo>
                    <a:pt x="956" y="2228"/>
                  </a:lnTo>
                  <a:lnTo>
                    <a:pt x="1004" y="2249"/>
                  </a:lnTo>
                  <a:lnTo>
                    <a:pt x="1055" y="2270"/>
                  </a:lnTo>
                  <a:lnTo>
                    <a:pt x="1107" y="2291"/>
                  </a:lnTo>
                  <a:lnTo>
                    <a:pt x="1162" y="2309"/>
                  </a:lnTo>
                  <a:lnTo>
                    <a:pt x="1216" y="2326"/>
                  </a:lnTo>
                  <a:lnTo>
                    <a:pt x="1270" y="2342"/>
                  </a:lnTo>
                  <a:lnTo>
                    <a:pt x="1323" y="2355"/>
                  </a:lnTo>
                  <a:lnTo>
                    <a:pt x="1349" y="2360"/>
                  </a:lnTo>
                  <a:lnTo>
                    <a:pt x="1374" y="2364"/>
                  </a:lnTo>
                  <a:lnTo>
                    <a:pt x="1399" y="2367"/>
                  </a:lnTo>
                  <a:lnTo>
                    <a:pt x="1422" y="2369"/>
                  </a:lnTo>
                  <a:lnTo>
                    <a:pt x="1445" y="2372"/>
                  </a:lnTo>
                  <a:lnTo>
                    <a:pt x="1467" y="2372"/>
                  </a:lnTo>
                  <a:lnTo>
                    <a:pt x="1488" y="2371"/>
                  </a:lnTo>
                  <a:lnTo>
                    <a:pt x="1506" y="2369"/>
                  </a:lnTo>
                  <a:lnTo>
                    <a:pt x="1572" y="2360"/>
                  </a:lnTo>
                  <a:lnTo>
                    <a:pt x="1628" y="2350"/>
                  </a:lnTo>
                  <a:lnTo>
                    <a:pt x="1673" y="2340"/>
                  </a:lnTo>
                  <a:lnTo>
                    <a:pt x="1708" y="2330"/>
                  </a:lnTo>
                  <a:lnTo>
                    <a:pt x="1734" y="2321"/>
                  </a:lnTo>
                  <a:lnTo>
                    <a:pt x="1751" y="2315"/>
                  </a:lnTo>
                  <a:lnTo>
                    <a:pt x="1761" y="2310"/>
                  </a:lnTo>
                  <a:lnTo>
                    <a:pt x="1764" y="2309"/>
                  </a:lnTo>
                  <a:lnTo>
                    <a:pt x="1758" y="2323"/>
                  </a:lnTo>
                  <a:lnTo>
                    <a:pt x="1752" y="2335"/>
                  </a:lnTo>
                  <a:lnTo>
                    <a:pt x="1745" y="2348"/>
                  </a:lnTo>
                  <a:lnTo>
                    <a:pt x="1736" y="2361"/>
                  </a:lnTo>
                  <a:lnTo>
                    <a:pt x="1726" y="2374"/>
                  </a:lnTo>
                  <a:lnTo>
                    <a:pt x="1716" y="2387"/>
                  </a:lnTo>
                  <a:lnTo>
                    <a:pt x="1705" y="2399"/>
                  </a:lnTo>
                  <a:lnTo>
                    <a:pt x="1693" y="2410"/>
                  </a:lnTo>
                  <a:lnTo>
                    <a:pt x="1681" y="2422"/>
                  </a:lnTo>
                  <a:lnTo>
                    <a:pt x="1667" y="2433"/>
                  </a:lnTo>
                  <a:lnTo>
                    <a:pt x="1652" y="2444"/>
                  </a:lnTo>
                  <a:lnTo>
                    <a:pt x="1636" y="2454"/>
                  </a:lnTo>
                  <a:lnTo>
                    <a:pt x="1620" y="2464"/>
                  </a:lnTo>
                  <a:lnTo>
                    <a:pt x="1603" y="2473"/>
                  </a:lnTo>
                  <a:lnTo>
                    <a:pt x="1585" y="2481"/>
                  </a:lnTo>
                  <a:lnTo>
                    <a:pt x="1566" y="2489"/>
                  </a:lnTo>
                  <a:lnTo>
                    <a:pt x="1545" y="2495"/>
                  </a:lnTo>
                  <a:lnTo>
                    <a:pt x="1526" y="2501"/>
                  </a:lnTo>
                  <a:lnTo>
                    <a:pt x="1504" y="2506"/>
                  </a:lnTo>
                  <a:lnTo>
                    <a:pt x="1481" y="2510"/>
                  </a:lnTo>
                  <a:lnTo>
                    <a:pt x="1458" y="2513"/>
                  </a:lnTo>
                  <a:lnTo>
                    <a:pt x="1433" y="2515"/>
                  </a:lnTo>
                  <a:lnTo>
                    <a:pt x="1409" y="2516"/>
                  </a:lnTo>
                  <a:lnTo>
                    <a:pt x="1383" y="2516"/>
                  </a:lnTo>
                  <a:lnTo>
                    <a:pt x="1356" y="2515"/>
                  </a:lnTo>
                  <a:lnTo>
                    <a:pt x="1329" y="2511"/>
                  </a:lnTo>
                  <a:lnTo>
                    <a:pt x="1301" y="2507"/>
                  </a:lnTo>
                  <a:lnTo>
                    <a:pt x="1271" y="2501"/>
                  </a:lnTo>
                  <a:lnTo>
                    <a:pt x="1240" y="2495"/>
                  </a:lnTo>
                  <a:lnTo>
                    <a:pt x="1210" y="2486"/>
                  </a:lnTo>
                  <a:lnTo>
                    <a:pt x="1178" y="2475"/>
                  </a:lnTo>
                  <a:lnTo>
                    <a:pt x="1146" y="2464"/>
                  </a:lnTo>
                  <a:lnTo>
                    <a:pt x="1013" y="2417"/>
                  </a:lnTo>
                  <a:lnTo>
                    <a:pt x="880" y="2373"/>
                  </a:lnTo>
                  <a:lnTo>
                    <a:pt x="815" y="2350"/>
                  </a:lnTo>
                  <a:lnTo>
                    <a:pt x="751" y="2324"/>
                  </a:lnTo>
                  <a:lnTo>
                    <a:pt x="719" y="2310"/>
                  </a:lnTo>
                  <a:lnTo>
                    <a:pt x="688" y="2297"/>
                  </a:lnTo>
                  <a:lnTo>
                    <a:pt x="657" y="2282"/>
                  </a:lnTo>
                  <a:lnTo>
                    <a:pt x="626" y="2267"/>
                  </a:lnTo>
                  <a:lnTo>
                    <a:pt x="596" y="2250"/>
                  </a:lnTo>
                  <a:lnTo>
                    <a:pt x="566" y="2233"/>
                  </a:lnTo>
                  <a:lnTo>
                    <a:pt x="537" y="2214"/>
                  </a:lnTo>
                  <a:lnTo>
                    <a:pt x="508" y="2196"/>
                  </a:lnTo>
                  <a:lnTo>
                    <a:pt x="480" y="2175"/>
                  </a:lnTo>
                  <a:lnTo>
                    <a:pt x="452" y="2153"/>
                  </a:lnTo>
                  <a:lnTo>
                    <a:pt x="425" y="2130"/>
                  </a:lnTo>
                  <a:lnTo>
                    <a:pt x="399" y="2105"/>
                  </a:lnTo>
                  <a:lnTo>
                    <a:pt x="373" y="2079"/>
                  </a:lnTo>
                  <a:lnTo>
                    <a:pt x="347" y="2052"/>
                  </a:lnTo>
                  <a:lnTo>
                    <a:pt x="324" y="2023"/>
                  </a:lnTo>
                  <a:lnTo>
                    <a:pt x="299" y="1991"/>
                  </a:lnTo>
                  <a:lnTo>
                    <a:pt x="277" y="1959"/>
                  </a:lnTo>
                  <a:lnTo>
                    <a:pt x="255" y="1923"/>
                  </a:lnTo>
                  <a:lnTo>
                    <a:pt x="234" y="1886"/>
                  </a:lnTo>
                  <a:lnTo>
                    <a:pt x="213" y="1848"/>
                  </a:lnTo>
                  <a:lnTo>
                    <a:pt x="175" y="1769"/>
                  </a:lnTo>
                  <a:lnTo>
                    <a:pt x="138" y="1694"/>
                  </a:lnTo>
                  <a:lnTo>
                    <a:pt x="105" y="1623"/>
                  </a:lnTo>
                  <a:lnTo>
                    <a:pt x="75" y="1560"/>
                  </a:lnTo>
                  <a:lnTo>
                    <a:pt x="52" y="1506"/>
                  </a:lnTo>
                  <a:lnTo>
                    <a:pt x="33" y="1465"/>
                  </a:lnTo>
                  <a:lnTo>
                    <a:pt x="21" y="1438"/>
                  </a:lnTo>
                  <a:lnTo>
                    <a:pt x="17" y="1430"/>
                  </a:lnTo>
                  <a:lnTo>
                    <a:pt x="16" y="1420"/>
                  </a:lnTo>
                  <a:lnTo>
                    <a:pt x="14" y="1394"/>
                  </a:lnTo>
                  <a:lnTo>
                    <a:pt x="10" y="1356"/>
                  </a:lnTo>
                  <a:lnTo>
                    <a:pt x="5" y="1309"/>
                  </a:lnTo>
                  <a:lnTo>
                    <a:pt x="3" y="1256"/>
                  </a:lnTo>
                  <a:lnTo>
                    <a:pt x="0" y="1201"/>
                  </a:lnTo>
                  <a:lnTo>
                    <a:pt x="0" y="1174"/>
                  </a:lnTo>
                  <a:lnTo>
                    <a:pt x="0" y="1148"/>
                  </a:lnTo>
                  <a:lnTo>
                    <a:pt x="1" y="1123"/>
                  </a:lnTo>
                  <a:lnTo>
                    <a:pt x="4" y="1100"/>
                  </a:lnTo>
                  <a:lnTo>
                    <a:pt x="9" y="1057"/>
                  </a:lnTo>
                  <a:lnTo>
                    <a:pt x="11" y="1018"/>
                  </a:lnTo>
                  <a:lnTo>
                    <a:pt x="14" y="982"/>
                  </a:lnTo>
                  <a:lnTo>
                    <a:pt x="16" y="951"/>
                  </a:lnTo>
                  <a:lnTo>
                    <a:pt x="17" y="925"/>
                  </a:lnTo>
                  <a:lnTo>
                    <a:pt x="17" y="907"/>
                  </a:lnTo>
                  <a:lnTo>
                    <a:pt x="17" y="896"/>
                  </a:lnTo>
                  <a:lnTo>
                    <a:pt x="17" y="891"/>
                  </a:lnTo>
                  <a:lnTo>
                    <a:pt x="19" y="869"/>
                  </a:lnTo>
                  <a:lnTo>
                    <a:pt x="22" y="807"/>
                  </a:lnTo>
                  <a:lnTo>
                    <a:pt x="27" y="764"/>
                  </a:lnTo>
                  <a:lnTo>
                    <a:pt x="32" y="714"/>
                  </a:lnTo>
                  <a:lnTo>
                    <a:pt x="41" y="657"/>
                  </a:lnTo>
                  <a:lnTo>
                    <a:pt x="52" y="595"/>
                  </a:lnTo>
                  <a:lnTo>
                    <a:pt x="65" y="527"/>
                  </a:lnTo>
                  <a:lnTo>
                    <a:pt x="81" y="457"/>
                  </a:lnTo>
                  <a:lnTo>
                    <a:pt x="91" y="420"/>
                  </a:lnTo>
                  <a:lnTo>
                    <a:pt x="101" y="383"/>
                  </a:lnTo>
                  <a:lnTo>
                    <a:pt x="113" y="345"/>
                  </a:lnTo>
                  <a:lnTo>
                    <a:pt x="126" y="307"/>
                  </a:lnTo>
                  <a:lnTo>
                    <a:pt x="139" y="269"/>
                  </a:lnTo>
                  <a:lnTo>
                    <a:pt x="153" y="230"/>
                  </a:lnTo>
                  <a:lnTo>
                    <a:pt x="169" y="191"/>
                  </a:lnTo>
                  <a:lnTo>
                    <a:pt x="186" y="153"/>
                  </a:lnTo>
                  <a:lnTo>
                    <a:pt x="203" y="114"/>
                  </a:lnTo>
                  <a:lnTo>
                    <a:pt x="223" y="75"/>
                  </a:lnTo>
                  <a:lnTo>
                    <a:pt x="243" y="37"/>
                  </a:lnTo>
                  <a:lnTo>
                    <a:pt x="265" y="0"/>
                  </a:lnTo>
                  <a:lnTo>
                    <a:pt x="277" y="11"/>
                  </a:lnTo>
                  <a:lnTo>
                    <a:pt x="310" y="43"/>
                  </a:lnTo>
                  <a:lnTo>
                    <a:pt x="331" y="66"/>
                  </a:lnTo>
                  <a:lnTo>
                    <a:pt x="355" y="91"/>
                  </a:lnTo>
                  <a:lnTo>
                    <a:pt x="379" y="121"/>
                  </a:lnTo>
                  <a:lnTo>
                    <a:pt x="403" y="152"/>
                  </a:lnTo>
                  <a:lnTo>
                    <a:pt x="426" y="185"/>
                  </a:lnTo>
                  <a:lnTo>
                    <a:pt x="448" y="221"/>
                  </a:lnTo>
                  <a:lnTo>
                    <a:pt x="458" y="238"/>
                  </a:lnTo>
                  <a:lnTo>
                    <a:pt x="466" y="256"/>
                  </a:lnTo>
                  <a:lnTo>
                    <a:pt x="475" y="275"/>
                  </a:lnTo>
                  <a:lnTo>
                    <a:pt x="481" y="293"/>
                  </a:lnTo>
                  <a:lnTo>
                    <a:pt x="487" y="310"/>
                  </a:lnTo>
                  <a:lnTo>
                    <a:pt x="491" y="329"/>
                  </a:lnTo>
                  <a:lnTo>
                    <a:pt x="494" y="347"/>
                  </a:lnTo>
                  <a:lnTo>
                    <a:pt x="496" y="364"/>
                  </a:lnTo>
                  <a:lnTo>
                    <a:pt x="495" y="382"/>
                  </a:lnTo>
                  <a:lnTo>
                    <a:pt x="492" y="399"/>
                  </a:lnTo>
                  <a:lnTo>
                    <a:pt x="489" y="416"/>
                  </a:lnTo>
                  <a:lnTo>
                    <a:pt x="482" y="432"/>
                  </a:lnTo>
                  <a:lnTo>
                    <a:pt x="450" y="497"/>
                  </a:lnTo>
                  <a:lnTo>
                    <a:pt x="418" y="565"/>
                  </a:lnTo>
                  <a:lnTo>
                    <a:pt x="403" y="599"/>
                  </a:lnTo>
                  <a:lnTo>
                    <a:pt x="389" y="634"/>
                  </a:lnTo>
                  <a:lnTo>
                    <a:pt x="375" y="668"/>
                  </a:lnTo>
                  <a:lnTo>
                    <a:pt x="364" y="702"/>
                  </a:lnTo>
                  <a:lnTo>
                    <a:pt x="359" y="719"/>
                  </a:lnTo>
                  <a:lnTo>
                    <a:pt x="356" y="735"/>
                  </a:lnTo>
                  <a:lnTo>
                    <a:pt x="352" y="751"/>
                  </a:lnTo>
                  <a:lnTo>
                    <a:pt x="350" y="768"/>
                  </a:lnTo>
                  <a:lnTo>
                    <a:pt x="347" y="784"/>
                  </a:lnTo>
                  <a:lnTo>
                    <a:pt x="346" y="799"/>
                  </a:lnTo>
                  <a:lnTo>
                    <a:pt x="346" y="815"/>
                  </a:lnTo>
                  <a:lnTo>
                    <a:pt x="347" y="829"/>
                  </a:lnTo>
                  <a:lnTo>
                    <a:pt x="350" y="845"/>
                  </a:lnTo>
                  <a:lnTo>
                    <a:pt x="352" y="860"/>
                  </a:lnTo>
                  <a:lnTo>
                    <a:pt x="356" y="874"/>
                  </a:lnTo>
                  <a:lnTo>
                    <a:pt x="362" y="888"/>
                  </a:lnTo>
                  <a:lnTo>
                    <a:pt x="368" y="902"/>
                  </a:lnTo>
                  <a:lnTo>
                    <a:pt x="375" y="914"/>
                  </a:lnTo>
                  <a:lnTo>
                    <a:pt x="385" y="928"/>
                  </a:lnTo>
                  <a:lnTo>
                    <a:pt x="395" y="940"/>
                  </a:lnTo>
                  <a:close/>
                </a:path>
              </a:pathLst>
            </a:custGeom>
            <a:solidFill>
              <a:srgbClr val="655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6313320" y="1990800"/>
              <a:ext cx="554040" cy="790560"/>
            </a:xfrm>
            <a:custGeom>
              <a:avLst/>
              <a:gdLst/>
              <a:ahLst/>
              <a:rect l="l" t="t" r="r" b="b"/>
              <a:pathLst>
                <a:path w="1746" h="2489">
                  <a:moveTo>
                    <a:pt x="379" y="940"/>
                  </a:moveTo>
                  <a:lnTo>
                    <a:pt x="426" y="992"/>
                  </a:lnTo>
                  <a:lnTo>
                    <a:pt x="478" y="1051"/>
                  </a:lnTo>
                  <a:lnTo>
                    <a:pt x="503" y="1083"/>
                  </a:lnTo>
                  <a:lnTo>
                    <a:pt x="529" y="1116"/>
                  </a:lnTo>
                  <a:lnTo>
                    <a:pt x="554" y="1152"/>
                  </a:lnTo>
                  <a:lnTo>
                    <a:pt x="577" y="1187"/>
                  </a:lnTo>
                  <a:lnTo>
                    <a:pt x="588" y="1207"/>
                  </a:lnTo>
                  <a:lnTo>
                    <a:pt x="599" y="1227"/>
                  </a:lnTo>
                  <a:lnTo>
                    <a:pt x="609" y="1246"/>
                  </a:lnTo>
                  <a:lnTo>
                    <a:pt x="618" y="1266"/>
                  </a:lnTo>
                  <a:lnTo>
                    <a:pt x="626" y="1287"/>
                  </a:lnTo>
                  <a:lnTo>
                    <a:pt x="635" y="1308"/>
                  </a:lnTo>
                  <a:lnTo>
                    <a:pt x="641" y="1330"/>
                  </a:lnTo>
                  <a:lnTo>
                    <a:pt x="647" y="1352"/>
                  </a:lnTo>
                  <a:lnTo>
                    <a:pt x="652" y="1374"/>
                  </a:lnTo>
                  <a:lnTo>
                    <a:pt x="657" y="1397"/>
                  </a:lnTo>
                  <a:lnTo>
                    <a:pt x="660" y="1420"/>
                  </a:lnTo>
                  <a:lnTo>
                    <a:pt x="661" y="1444"/>
                  </a:lnTo>
                  <a:lnTo>
                    <a:pt x="662" y="1468"/>
                  </a:lnTo>
                  <a:lnTo>
                    <a:pt x="661" y="1492"/>
                  </a:lnTo>
                  <a:lnTo>
                    <a:pt x="660" y="1518"/>
                  </a:lnTo>
                  <a:lnTo>
                    <a:pt x="656" y="1543"/>
                  </a:lnTo>
                  <a:lnTo>
                    <a:pt x="652" y="1571"/>
                  </a:lnTo>
                  <a:lnTo>
                    <a:pt x="650" y="1599"/>
                  </a:lnTo>
                  <a:lnTo>
                    <a:pt x="649" y="1627"/>
                  </a:lnTo>
                  <a:lnTo>
                    <a:pt x="647" y="1652"/>
                  </a:lnTo>
                  <a:lnTo>
                    <a:pt x="647" y="1678"/>
                  </a:lnTo>
                  <a:lnTo>
                    <a:pt x="647" y="1704"/>
                  </a:lnTo>
                  <a:lnTo>
                    <a:pt x="649" y="1729"/>
                  </a:lnTo>
                  <a:lnTo>
                    <a:pt x="650" y="1752"/>
                  </a:lnTo>
                  <a:lnTo>
                    <a:pt x="655" y="1799"/>
                  </a:lnTo>
                  <a:lnTo>
                    <a:pt x="662" y="1842"/>
                  </a:lnTo>
                  <a:lnTo>
                    <a:pt x="669" y="1882"/>
                  </a:lnTo>
                  <a:lnTo>
                    <a:pt x="681" y="1922"/>
                  </a:lnTo>
                  <a:lnTo>
                    <a:pt x="692" y="1957"/>
                  </a:lnTo>
                  <a:lnTo>
                    <a:pt x="704" y="1991"/>
                  </a:lnTo>
                  <a:lnTo>
                    <a:pt x="717" y="2020"/>
                  </a:lnTo>
                  <a:lnTo>
                    <a:pt x="732" y="2048"/>
                  </a:lnTo>
                  <a:lnTo>
                    <a:pt x="747" y="2073"/>
                  </a:lnTo>
                  <a:lnTo>
                    <a:pt x="762" y="2095"/>
                  </a:lnTo>
                  <a:lnTo>
                    <a:pt x="777" y="2114"/>
                  </a:lnTo>
                  <a:lnTo>
                    <a:pt x="791" y="2130"/>
                  </a:lnTo>
                  <a:lnTo>
                    <a:pt x="800" y="2138"/>
                  </a:lnTo>
                  <a:lnTo>
                    <a:pt x="811" y="2146"/>
                  </a:lnTo>
                  <a:lnTo>
                    <a:pt x="823" y="2154"/>
                  </a:lnTo>
                  <a:lnTo>
                    <a:pt x="837" y="2164"/>
                  </a:lnTo>
                  <a:lnTo>
                    <a:pt x="870" y="2184"/>
                  </a:lnTo>
                  <a:lnTo>
                    <a:pt x="908" y="2205"/>
                  </a:lnTo>
                  <a:lnTo>
                    <a:pt x="951" y="2226"/>
                  </a:lnTo>
                  <a:lnTo>
                    <a:pt x="998" y="2246"/>
                  </a:lnTo>
                  <a:lnTo>
                    <a:pt x="1048" y="2267"/>
                  </a:lnTo>
                  <a:lnTo>
                    <a:pt x="1101" y="2288"/>
                  </a:lnTo>
                  <a:lnTo>
                    <a:pt x="1155" y="2307"/>
                  </a:lnTo>
                  <a:lnTo>
                    <a:pt x="1210" y="2324"/>
                  </a:lnTo>
                  <a:lnTo>
                    <a:pt x="1264" y="2340"/>
                  </a:lnTo>
                  <a:lnTo>
                    <a:pt x="1317" y="2352"/>
                  </a:lnTo>
                  <a:lnTo>
                    <a:pt x="1342" y="2357"/>
                  </a:lnTo>
                  <a:lnTo>
                    <a:pt x="1367" y="2362"/>
                  </a:lnTo>
                  <a:lnTo>
                    <a:pt x="1392" y="2365"/>
                  </a:lnTo>
                  <a:lnTo>
                    <a:pt x="1415" y="2367"/>
                  </a:lnTo>
                  <a:lnTo>
                    <a:pt x="1437" y="2368"/>
                  </a:lnTo>
                  <a:lnTo>
                    <a:pt x="1459" y="2369"/>
                  </a:lnTo>
                  <a:lnTo>
                    <a:pt x="1479" y="2368"/>
                  </a:lnTo>
                  <a:lnTo>
                    <a:pt x="1499" y="2367"/>
                  </a:lnTo>
                  <a:lnTo>
                    <a:pt x="1565" y="2356"/>
                  </a:lnTo>
                  <a:lnTo>
                    <a:pt x="1619" y="2346"/>
                  </a:lnTo>
                  <a:lnTo>
                    <a:pt x="1662" y="2336"/>
                  </a:lnTo>
                  <a:lnTo>
                    <a:pt x="1696" y="2328"/>
                  </a:lnTo>
                  <a:lnTo>
                    <a:pt x="1719" y="2320"/>
                  </a:lnTo>
                  <a:lnTo>
                    <a:pt x="1735" y="2314"/>
                  </a:lnTo>
                  <a:lnTo>
                    <a:pt x="1742" y="2310"/>
                  </a:lnTo>
                  <a:lnTo>
                    <a:pt x="1746" y="2309"/>
                  </a:lnTo>
                  <a:lnTo>
                    <a:pt x="1741" y="2320"/>
                  </a:lnTo>
                  <a:lnTo>
                    <a:pt x="1735" y="2330"/>
                  </a:lnTo>
                  <a:lnTo>
                    <a:pt x="1728" y="2341"/>
                  </a:lnTo>
                  <a:lnTo>
                    <a:pt x="1720" y="2351"/>
                  </a:lnTo>
                  <a:lnTo>
                    <a:pt x="1712" y="2362"/>
                  </a:lnTo>
                  <a:lnTo>
                    <a:pt x="1702" y="2373"/>
                  </a:lnTo>
                  <a:lnTo>
                    <a:pt x="1692" y="2383"/>
                  </a:lnTo>
                  <a:lnTo>
                    <a:pt x="1681" y="2394"/>
                  </a:lnTo>
                  <a:lnTo>
                    <a:pt x="1668" y="2404"/>
                  </a:lnTo>
                  <a:lnTo>
                    <a:pt x="1656" y="2414"/>
                  </a:lnTo>
                  <a:lnTo>
                    <a:pt x="1641" y="2424"/>
                  </a:lnTo>
                  <a:lnTo>
                    <a:pt x="1627" y="2432"/>
                  </a:lnTo>
                  <a:lnTo>
                    <a:pt x="1612" y="2441"/>
                  </a:lnTo>
                  <a:lnTo>
                    <a:pt x="1595" y="2449"/>
                  </a:lnTo>
                  <a:lnTo>
                    <a:pt x="1577" y="2457"/>
                  </a:lnTo>
                  <a:lnTo>
                    <a:pt x="1559" y="2464"/>
                  </a:lnTo>
                  <a:lnTo>
                    <a:pt x="1541" y="2470"/>
                  </a:lnTo>
                  <a:lnTo>
                    <a:pt x="1520" y="2475"/>
                  </a:lnTo>
                  <a:lnTo>
                    <a:pt x="1499" y="2480"/>
                  </a:lnTo>
                  <a:lnTo>
                    <a:pt x="1478" y="2484"/>
                  </a:lnTo>
                  <a:lnTo>
                    <a:pt x="1454" y="2486"/>
                  </a:lnTo>
                  <a:lnTo>
                    <a:pt x="1431" y="2489"/>
                  </a:lnTo>
                  <a:lnTo>
                    <a:pt x="1406" y="2489"/>
                  </a:lnTo>
                  <a:lnTo>
                    <a:pt x="1381" y="2489"/>
                  </a:lnTo>
                  <a:lnTo>
                    <a:pt x="1355" y="2486"/>
                  </a:lnTo>
                  <a:lnTo>
                    <a:pt x="1328" y="2484"/>
                  </a:lnTo>
                  <a:lnTo>
                    <a:pt x="1299" y="2480"/>
                  </a:lnTo>
                  <a:lnTo>
                    <a:pt x="1270" y="2474"/>
                  </a:lnTo>
                  <a:lnTo>
                    <a:pt x="1240" y="2468"/>
                  </a:lnTo>
                  <a:lnTo>
                    <a:pt x="1210" y="2459"/>
                  </a:lnTo>
                  <a:lnTo>
                    <a:pt x="1178" y="2448"/>
                  </a:lnTo>
                  <a:lnTo>
                    <a:pt x="1146" y="2437"/>
                  </a:lnTo>
                  <a:lnTo>
                    <a:pt x="1013" y="2390"/>
                  </a:lnTo>
                  <a:lnTo>
                    <a:pt x="880" y="2346"/>
                  </a:lnTo>
                  <a:lnTo>
                    <a:pt x="815" y="2323"/>
                  </a:lnTo>
                  <a:lnTo>
                    <a:pt x="751" y="2297"/>
                  </a:lnTo>
                  <a:lnTo>
                    <a:pt x="719" y="2283"/>
                  </a:lnTo>
                  <a:lnTo>
                    <a:pt x="688" y="2270"/>
                  </a:lnTo>
                  <a:lnTo>
                    <a:pt x="657" y="2255"/>
                  </a:lnTo>
                  <a:lnTo>
                    <a:pt x="626" y="2240"/>
                  </a:lnTo>
                  <a:lnTo>
                    <a:pt x="596" y="2223"/>
                  </a:lnTo>
                  <a:lnTo>
                    <a:pt x="566" y="2206"/>
                  </a:lnTo>
                  <a:lnTo>
                    <a:pt x="537" y="2187"/>
                  </a:lnTo>
                  <a:lnTo>
                    <a:pt x="508" y="2169"/>
                  </a:lnTo>
                  <a:lnTo>
                    <a:pt x="480" y="2148"/>
                  </a:lnTo>
                  <a:lnTo>
                    <a:pt x="452" y="2126"/>
                  </a:lnTo>
                  <a:lnTo>
                    <a:pt x="425" y="2103"/>
                  </a:lnTo>
                  <a:lnTo>
                    <a:pt x="399" y="2078"/>
                  </a:lnTo>
                  <a:lnTo>
                    <a:pt x="373" y="2052"/>
                  </a:lnTo>
                  <a:lnTo>
                    <a:pt x="347" y="2025"/>
                  </a:lnTo>
                  <a:lnTo>
                    <a:pt x="324" y="1996"/>
                  </a:lnTo>
                  <a:lnTo>
                    <a:pt x="299" y="1964"/>
                  </a:lnTo>
                  <a:lnTo>
                    <a:pt x="277" y="1932"/>
                  </a:lnTo>
                  <a:lnTo>
                    <a:pt x="255" y="1896"/>
                  </a:lnTo>
                  <a:lnTo>
                    <a:pt x="234" y="1859"/>
                  </a:lnTo>
                  <a:lnTo>
                    <a:pt x="213" y="1821"/>
                  </a:lnTo>
                  <a:lnTo>
                    <a:pt x="175" y="1742"/>
                  </a:lnTo>
                  <a:lnTo>
                    <a:pt x="138" y="1667"/>
                  </a:lnTo>
                  <a:lnTo>
                    <a:pt x="105" y="1596"/>
                  </a:lnTo>
                  <a:lnTo>
                    <a:pt x="75" y="1533"/>
                  </a:lnTo>
                  <a:lnTo>
                    <a:pt x="52" y="1479"/>
                  </a:lnTo>
                  <a:lnTo>
                    <a:pt x="33" y="1438"/>
                  </a:lnTo>
                  <a:lnTo>
                    <a:pt x="21" y="1411"/>
                  </a:lnTo>
                  <a:lnTo>
                    <a:pt x="17" y="1403"/>
                  </a:lnTo>
                  <a:lnTo>
                    <a:pt x="16" y="1393"/>
                  </a:lnTo>
                  <a:lnTo>
                    <a:pt x="14" y="1367"/>
                  </a:lnTo>
                  <a:lnTo>
                    <a:pt x="10" y="1329"/>
                  </a:lnTo>
                  <a:lnTo>
                    <a:pt x="5" y="1282"/>
                  </a:lnTo>
                  <a:lnTo>
                    <a:pt x="3" y="1229"/>
                  </a:lnTo>
                  <a:lnTo>
                    <a:pt x="0" y="1174"/>
                  </a:lnTo>
                  <a:lnTo>
                    <a:pt x="0" y="1147"/>
                  </a:lnTo>
                  <a:lnTo>
                    <a:pt x="0" y="1121"/>
                  </a:lnTo>
                  <a:lnTo>
                    <a:pt x="1" y="1096"/>
                  </a:lnTo>
                  <a:lnTo>
                    <a:pt x="4" y="1073"/>
                  </a:lnTo>
                  <a:lnTo>
                    <a:pt x="9" y="1030"/>
                  </a:lnTo>
                  <a:lnTo>
                    <a:pt x="11" y="991"/>
                  </a:lnTo>
                  <a:lnTo>
                    <a:pt x="14" y="955"/>
                  </a:lnTo>
                  <a:lnTo>
                    <a:pt x="16" y="924"/>
                  </a:lnTo>
                  <a:lnTo>
                    <a:pt x="17" y="898"/>
                  </a:lnTo>
                  <a:lnTo>
                    <a:pt x="17" y="880"/>
                  </a:lnTo>
                  <a:lnTo>
                    <a:pt x="17" y="869"/>
                  </a:lnTo>
                  <a:lnTo>
                    <a:pt x="17" y="864"/>
                  </a:lnTo>
                  <a:lnTo>
                    <a:pt x="17" y="843"/>
                  </a:lnTo>
                  <a:lnTo>
                    <a:pt x="20" y="785"/>
                  </a:lnTo>
                  <a:lnTo>
                    <a:pt x="24" y="743"/>
                  </a:lnTo>
                  <a:lnTo>
                    <a:pt x="29" y="695"/>
                  </a:lnTo>
                  <a:lnTo>
                    <a:pt x="36" y="641"/>
                  </a:lnTo>
                  <a:lnTo>
                    <a:pt x="44" y="581"/>
                  </a:lnTo>
                  <a:lnTo>
                    <a:pt x="57" y="517"/>
                  </a:lnTo>
                  <a:lnTo>
                    <a:pt x="73" y="448"/>
                  </a:lnTo>
                  <a:lnTo>
                    <a:pt x="81" y="413"/>
                  </a:lnTo>
                  <a:lnTo>
                    <a:pt x="91" y="377"/>
                  </a:lnTo>
                  <a:lnTo>
                    <a:pt x="102" y="340"/>
                  </a:lnTo>
                  <a:lnTo>
                    <a:pt x="113" y="303"/>
                  </a:lnTo>
                  <a:lnTo>
                    <a:pt x="127" y="265"/>
                  </a:lnTo>
                  <a:lnTo>
                    <a:pt x="140" y="228"/>
                  </a:lnTo>
                  <a:lnTo>
                    <a:pt x="156" y="190"/>
                  </a:lnTo>
                  <a:lnTo>
                    <a:pt x="172" y="152"/>
                  </a:lnTo>
                  <a:lnTo>
                    <a:pt x="190" y="114"/>
                  </a:lnTo>
                  <a:lnTo>
                    <a:pt x="209" y="76"/>
                  </a:lnTo>
                  <a:lnTo>
                    <a:pt x="229" y="37"/>
                  </a:lnTo>
                  <a:lnTo>
                    <a:pt x="251" y="0"/>
                  </a:lnTo>
                  <a:lnTo>
                    <a:pt x="263" y="12"/>
                  </a:lnTo>
                  <a:lnTo>
                    <a:pt x="293" y="44"/>
                  </a:lnTo>
                  <a:lnTo>
                    <a:pt x="313" y="66"/>
                  </a:lnTo>
                  <a:lnTo>
                    <a:pt x="335" y="91"/>
                  </a:lnTo>
                  <a:lnTo>
                    <a:pt x="357" y="121"/>
                  </a:lnTo>
                  <a:lnTo>
                    <a:pt x="380" y="152"/>
                  </a:lnTo>
                  <a:lnTo>
                    <a:pt x="401" y="186"/>
                  </a:lnTo>
                  <a:lnTo>
                    <a:pt x="421" y="221"/>
                  </a:lnTo>
                  <a:lnTo>
                    <a:pt x="431" y="238"/>
                  </a:lnTo>
                  <a:lnTo>
                    <a:pt x="438" y="256"/>
                  </a:lnTo>
                  <a:lnTo>
                    <a:pt x="446" y="275"/>
                  </a:lnTo>
                  <a:lnTo>
                    <a:pt x="452" y="293"/>
                  </a:lnTo>
                  <a:lnTo>
                    <a:pt x="457" y="310"/>
                  </a:lnTo>
                  <a:lnTo>
                    <a:pt x="460" y="329"/>
                  </a:lnTo>
                  <a:lnTo>
                    <a:pt x="463" y="347"/>
                  </a:lnTo>
                  <a:lnTo>
                    <a:pt x="464" y="365"/>
                  </a:lnTo>
                  <a:lnTo>
                    <a:pt x="463" y="382"/>
                  </a:lnTo>
                  <a:lnTo>
                    <a:pt x="460" y="399"/>
                  </a:lnTo>
                  <a:lnTo>
                    <a:pt x="455" y="416"/>
                  </a:lnTo>
                  <a:lnTo>
                    <a:pt x="449" y="432"/>
                  </a:lnTo>
                  <a:lnTo>
                    <a:pt x="418" y="497"/>
                  </a:lnTo>
                  <a:lnTo>
                    <a:pt x="389" y="565"/>
                  </a:lnTo>
                  <a:lnTo>
                    <a:pt x="374" y="599"/>
                  </a:lnTo>
                  <a:lnTo>
                    <a:pt x="361" y="633"/>
                  </a:lnTo>
                  <a:lnTo>
                    <a:pt x="350" y="667"/>
                  </a:lnTo>
                  <a:lnTo>
                    <a:pt x="340" y="700"/>
                  </a:lnTo>
                  <a:lnTo>
                    <a:pt x="336" y="718"/>
                  </a:lnTo>
                  <a:lnTo>
                    <a:pt x="332" y="734"/>
                  </a:lnTo>
                  <a:lnTo>
                    <a:pt x="330" y="750"/>
                  </a:lnTo>
                  <a:lnTo>
                    <a:pt x="327" y="767"/>
                  </a:lnTo>
                  <a:lnTo>
                    <a:pt x="326" y="783"/>
                  </a:lnTo>
                  <a:lnTo>
                    <a:pt x="326" y="798"/>
                  </a:lnTo>
                  <a:lnTo>
                    <a:pt x="327" y="814"/>
                  </a:lnTo>
                  <a:lnTo>
                    <a:pt x="329" y="829"/>
                  </a:lnTo>
                  <a:lnTo>
                    <a:pt x="331" y="844"/>
                  </a:lnTo>
                  <a:lnTo>
                    <a:pt x="335" y="859"/>
                  </a:lnTo>
                  <a:lnTo>
                    <a:pt x="339" y="874"/>
                  </a:lnTo>
                  <a:lnTo>
                    <a:pt x="345" y="887"/>
                  </a:lnTo>
                  <a:lnTo>
                    <a:pt x="351" y="901"/>
                  </a:lnTo>
                  <a:lnTo>
                    <a:pt x="359" y="914"/>
                  </a:lnTo>
                  <a:lnTo>
                    <a:pt x="368" y="928"/>
                  </a:lnTo>
                  <a:lnTo>
                    <a:pt x="379" y="940"/>
                  </a:lnTo>
                  <a:close/>
                </a:path>
              </a:pathLst>
            </a:custGeom>
            <a:solidFill>
              <a:srgbClr val="63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6313320" y="2000520"/>
              <a:ext cx="547920" cy="780840"/>
            </a:xfrm>
            <a:custGeom>
              <a:avLst/>
              <a:gdLst/>
              <a:ahLst/>
              <a:rect l="l" t="t" r="r" b="b"/>
              <a:pathLst>
                <a:path w="1726" h="2461">
                  <a:moveTo>
                    <a:pt x="363" y="937"/>
                  </a:moveTo>
                  <a:lnTo>
                    <a:pt x="385" y="963"/>
                  </a:lnTo>
                  <a:lnTo>
                    <a:pt x="410" y="990"/>
                  </a:lnTo>
                  <a:lnTo>
                    <a:pt x="434" y="1020"/>
                  </a:lnTo>
                  <a:lnTo>
                    <a:pt x="459" y="1052"/>
                  </a:lnTo>
                  <a:lnTo>
                    <a:pt x="484" y="1086"/>
                  </a:lnTo>
                  <a:lnTo>
                    <a:pt x="507" y="1121"/>
                  </a:lnTo>
                  <a:lnTo>
                    <a:pt x="530" y="1158"/>
                  </a:lnTo>
                  <a:lnTo>
                    <a:pt x="553" y="1198"/>
                  </a:lnTo>
                  <a:lnTo>
                    <a:pt x="574" y="1238"/>
                  </a:lnTo>
                  <a:lnTo>
                    <a:pt x="591" y="1279"/>
                  </a:lnTo>
                  <a:lnTo>
                    <a:pt x="599" y="1301"/>
                  </a:lnTo>
                  <a:lnTo>
                    <a:pt x="607" y="1322"/>
                  </a:lnTo>
                  <a:lnTo>
                    <a:pt x="614" y="1344"/>
                  </a:lnTo>
                  <a:lnTo>
                    <a:pt x="620" y="1366"/>
                  </a:lnTo>
                  <a:lnTo>
                    <a:pt x="625" y="1389"/>
                  </a:lnTo>
                  <a:lnTo>
                    <a:pt x="630" y="1412"/>
                  </a:lnTo>
                  <a:lnTo>
                    <a:pt x="634" y="1435"/>
                  </a:lnTo>
                  <a:lnTo>
                    <a:pt x="636" y="1458"/>
                  </a:lnTo>
                  <a:lnTo>
                    <a:pt x="637" y="1482"/>
                  </a:lnTo>
                  <a:lnTo>
                    <a:pt x="639" y="1505"/>
                  </a:lnTo>
                  <a:lnTo>
                    <a:pt x="639" y="1530"/>
                  </a:lnTo>
                  <a:lnTo>
                    <a:pt x="637" y="1553"/>
                  </a:lnTo>
                  <a:lnTo>
                    <a:pt x="634" y="1610"/>
                  </a:lnTo>
                  <a:lnTo>
                    <a:pt x="634" y="1662"/>
                  </a:lnTo>
                  <a:lnTo>
                    <a:pt x="636" y="1714"/>
                  </a:lnTo>
                  <a:lnTo>
                    <a:pt x="640" y="1761"/>
                  </a:lnTo>
                  <a:lnTo>
                    <a:pt x="646" y="1806"/>
                  </a:lnTo>
                  <a:lnTo>
                    <a:pt x="653" y="1849"/>
                  </a:lnTo>
                  <a:lnTo>
                    <a:pt x="662" y="1889"/>
                  </a:lnTo>
                  <a:lnTo>
                    <a:pt x="673" y="1926"/>
                  </a:lnTo>
                  <a:lnTo>
                    <a:pt x="684" y="1960"/>
                  </a:lnTo>
                  <a:lnTo>
                    <a:pt x="697" y="1992"/>
                  </a:lnTo>
                  <a:lnTo>
                    <a:pt x="710" y="2020"/>
                  </a:lnTo>
                  <a:lnTo>
                    <a:pt x="725" y="2047"/>
                  </a:lnTo>
                  <a:lnTo>
                    <a:pt x="740" y="2071"/>
                  </a:lnTo>
                  <a:lnTo>
                    <a:pt x="754" y="2092"/>
                  </a:lnTo>
                  <a:lnTo>
                    <a:pt x="769" y="2110"/>
                  </a:lnTo>
                  <a:lnTo>
                    <a:pt x="784" y="2126"/>
                  </a:lnTo>
                  <a:lnTo>
                    <a:pt x="792" y="2135"/>
                  </a:lnTo>
                  <a:lnTo>
                    <a:pt x="802" y="2142"/>
                  </a:lnTo>
                  <a:lnTo>
                    <a:pt x="815" y="2151"/>
                  </a:lnTo>
                  <a:lnTo>
                    <a:pt x="828" y="2161"/>
                  </a:lnTo>
                  <a:lnTo>
                    <a:pt x="861" y="2180"/>
                  </a:lnTo>
                  <a:lnTo>
                    <a:pt x="901" y="2200"/>
                  </a:lnTo>
                  <a:lnTo>
                    <a:pt x="944" y="2221"/>
                  </a:lnTo>
                  <a:lnTo>
                    <a:pt x="991" y="2242"/>
                  </a:lnTo>
                  <a:lnTo>
                    <a:pt x="1042" y="2263"/>
                  </a:lnTo>
                  <a:lnTo>
                    <a:pt x="1094" y="2284"/>
                  </a:lnTo>
                  <a:lnTo>
                    <a:pt x="1148" y="2302"/>
                  </a:lnTo>
                  <a:lnTo>
                    <a:pt x="1203" y="2319"/>
                  </a:lnTo>
                  <a:lnTo>
                    <a:pt x="1258" y="2335"/>
                  </a:lnTo>
                  <a:lnTo>
                    <a:pt x="1310" y="2348"/>
                  </a:lnTo>
                  <a:lnTo>
                    <a:pt x="1336" y="2353"/>
                  </a:lnTo>
                  <a:lnTo>
                    <a:pt x="1361" y="2357"/>
                  </a:lnTo>
                  <a:lnTo>
                    <a:pt x="1385" y="2360"/>
                  </a:lnTo>
                  <a:lnTo>
                    <a:pt x="1409" y="2364"/>
                  </a:lnTo>
                  <a:lnTo>
                    <a:pt x="1432" y="2365"/>
                  </a:lnTo>
                  <a:lnTo>
                    <a:pt x="1453" y="2365"/>
                  </a:lnTo>
                  <a:lnTo>
                    <a:pt x="1474" y="2365"/>
                  </a:lnTo>
                  <a:lnTo>
                    <a:pt x="1493" y="2362"/>
                  </a:lnTo>
                  <a:lnTo>
                    <a:pt x="1558" y="2353"/>
                  </a:lnTo>
                  <a:lnTo>
                    <a:pt x="1611" y="2343"/>
                  </a:lnTo>
                  <a:lnTo>
                    <a:pt x="1651" y="2334"/>
                  </a:lnTo>
                  <a:lnTo>
                    <a:pt x="1682" y="2325"/>
                  </a:lnTo>
                  <a:lnTo>
                    <a:pt x="1703" y="2318"/>
                  </a:lnTo>
                  <a:lnTo>
                    <a:pt x="1718" y="2313"/>
                  </a:lnTo>
                  <a:lnTo>
                    <a:pt x="1724" y="2309"/>
                  </a:lnTo>
                  <a:lnTo>
                    <a:pt x="1726" y="2308"/>
                  </a:lnTo>
                  <a:lnTo>
                    <a:pt x="1716" y="2324"/>
                  </a:lnTo>
                  <a:lnTo>
                    <a:pt x="1703" y="2341"/>
                  </a:lnTo>
                  <a:lnTo>
                    <a:pt x="1687" y="2359"/>
                  </a:lnTo>
                  <a:lnTo>
                    <a:pt x="1667" y="2376"/>
                  </a:lnTo>
                  <a:lnTo>
                    <a:pt x="1656" y="2385"/>
                  </a:lnTo>
                  <a:lnTo>
                    <a:pt x="1644" y="2393"/>
                  </a:lnTo>
                  <a:lnTo>
                    <a:pt x="1630" y="2402"/>
                  </a:lnTo>
                  <a:lnTo>
                    <a:pt x="1617" y="2410"/>
                  </a:lnTo>
                  <a:lnTo>
                    <a:pt x="1602" y="2418"/>
                  </a:lnTo>
                  <a:lnTo>
                    <a:pt x="1586" y="2425"/>
                  </a:lnTo>
                  <a:lnTo>
                    <a:pt x="1569" y="2432"/>
                  </a:lnTo>
                  <a:lnTo>
                    <a:pt x="1552" y="2439"/>
                  </a:lnTo>
                  <a:lnTo>
                    <a:pt x="1533" y="2444"/>
                  </a:lnTo>
                  <a:lnTo>
                    <a:pt x="1515" y="2448"/>
                  </a:lnTo>
                  <a:lnTo>
                    <a:pt x="1494" y="2453"/>
                  </a:lnTo>
                  <a:lnTo>
                    <a:pt x="1473" y="2457"/>
                  </a:lnTo>
                  <a:lnTo>
                    <a:pt x="1451" y="2460"/>
                  </a:lnTo>
                  <a:lnTo>
                    <a:pt x="1427" y="2461"/>
                  </a:lnTo>
                  <a:lnTo>
                    <a:pt x="1404" y="2461"/>
                  </a:lnTo>
                  <a:lnTo>
                    <a:pt x="1379" y="2461"/>
                  </a:lnTo>
                  <a:lnTo>
                    <a:pt x="1354" y="2458"/>
                  </a:lnTo>
                  <a:lnTo>
                    <a:pt x="1326" y="2456"/>
                  </a:lnTo>
                  <a:lnTo>
                    <a:pt x="1298" y="2452"/>
                  </a:lnTo>
                  <a:lnTo>
                    <a:pt x="1270" y="2446"/>
                  </a:lnTo>
                  <a:lnTo>
                    <a:pt x="1240" y="2439"/>
                  </a:lnTo>
                  <a:lnTo>
                    <a:pt x="1210" y="2431"/>
                  </a:lnTo>
                  <a:lnTo>
                    <a:pt x="1178" y="2420"/>
                  </a:lnTo>
                  <a:lnTo>
                    <a:pt x="1146" y="2409"/>
                  </a:lnTo>
                  <a:lnTo>
                    <a:pt x="1013" y="2362"/>
                  </a:lnTo>
                  <a:lnTo>
                    <a:pt x="880" y="2318"/>
                  </a:lnTo>
                  <a:lnTo>
                    <a:pt x="815" y="2295"/>
                  </a:lnTo>
                  <a:lnTo>
                    <a:pt x="751" y="2269"/>
                  </a:lnTo>
                  <a:lnTo>
                    <a:pt x="719" y="2255"/>
                  </a:lnTo>
                  <a:lnTo>
                    <a:pt x="688" y="2242"/>
                  </a:lnTo>
                  <a:lnTo>
                    <a:pt x="657" y="2227"/>
                  </a:lnTo>
                  <a:lnTo>
                    <a:pt x="626" y="2212"/>
                  </a:lnTo>
                  <a:lnTo>
                    <a:pt x="596" y="2195"/>
                  </a:lnTo>
                  <a:lnTo>
                    <a:pt x="566" y="2178"/>
                  </a:lnTo>
                  <a:lnTo>
                    <a:pt x="537" y="2159"/>
                  </a:lnTo>
                  <a:lnTo>
                    <a:pt x="508" y="2141"/>
                  </a:lnTo>
                  <a:lnTo>
                    <a:pt x="480" y="2120"/>
                  </a:lnTo>
                  <a:lnTo>
                    <a:pt x="452" y="2098"/>
                  </a:lnTo>
                  <a:lnTo>
                    <a:pt x="425" y="2075"/>
                  </a:lnTo>
                  <a:lnTo>
                    <a:pt x="399" y="2050"/>
                  </a:lnTo>
                  <a:lnTo>
                    <a:pt x="373" y="2024"/>
                  </a:lnTo>
                  <a:lnTo>
                    <a:pt x="347" y="1997"/>
                  </a:lnTo>
                  <a:lnTo>
                    <a:pt x="324" y="1968"/>
                  </a:lnTo>
                  <a:lnTo>
                    <a:pt x="299" y="1936"/>
                  </a:lnTo>
                  <a:lnTo>
                    <a:pt x="277" y="1904"/>
                  </a:lnTo>
                  <a:lnTo>
                    <a:pt x="255" y="1868"/>
                  </a:lnTo>
                  <a:lnTo>
                    <a:pt x="234" y="1831"/>
                  </a:lnTo>
                  <a:lnTo>
                    <a:pt x="213" y="1793"/>
                  </a:lnTo>
                  <a:lnTo>
                    <a:pt x="175" y="1714"/>
                  </a:lnTo>
                  <a:lnTo>
                    <a:pt x="138" y="1639"/>
                  </a:lnTo>
                  <a:lnTo>
                    <a:pt x="105" y="1568"/>
                  </a:lnTo>
                  <a:lnTo>
                    <a:pt x="75" y="1505"/>
                  </a:lnTo>
                  <a:lnTo>
                    <a:pt x="52" y="1451"/>
                  </a:lnTo>
                  <a:lnTo>
                    <a:pt x="33" y="1410"/>
                  </a:lnTo>
                  <a:lnTo>
                    <a:pt x="21" y="1383"/>
                  </a:lnTo>
                  <a:lnTo>
                    <a:pt x="17" y="1375"/>
                  </a:lnTo>
                  <a:lnTo>
                    <a:pt x="16" y="1365"/>
                  </a:lnTo>
                  <a:lnTo>
                    <a:pt x="14" y="1339"/>
                  </a:lnTo>
                  <a:lnTo>
                    <a:pt x="10" y="1301"/>
                  </a:lnTo>
                  <a:lnTo>
                    <a:pt x="5" y="1254"/>
                  </a:lnTo>
                  <a:lnTo>
                    <a:pt x="3" y="1201"/>
                  </a:lnTo>
                  <a:lnTo>
                    <a:pt x="0" y="1146"/>
                  </a:lnTo>
                  <a:lnTo>
                    <a:pt x="0" y="1119"/>
                  </a:lnTo>
                  <a:lnTo>
                    <a:pt x="0" y="1093"/>
                  </a:lnTo>
                  <a:lnTo>
                    <a:pt x="1" y="1068"/>
                  </a:lnTo>
                  <a:lnTo>
                    <a:pt x="4" y="1045"/>
                  </a:lnTo>
                  <a:lnTo>
                    <a:pt x="9" y="1002"/>
                  </a:lnTo>
                  <a:lnTo>
                    <a:pt x="11" y="963"/>
                  </a:lnTo>
                  <a:lnTo>
                    <a:pt x="14" y="927"/>
                  </a:lnTo>
                  <a:lnTo>
                    <a:pt x="16" y="896"/>
                  </a:lnTo>
                  <a:lnTo>
                    <a:pt x="17" y="870"/>
                  </a:lnTo>
                  <a:lnTo>
                    <a:pt x="17" y="852"/>
                  </a:lnTo>
                  <a:lnTo>
                    <a:pt x="17" y="841"/>
                  </a:lnTo>
                  <a:lnTo>
                    <a:pt x="17" y="836"/>
                  </a:lnTo>
                  <a:lnTo>
                    <a:pt x="17" y="816"/>
                  </a:lnTo>
                  <a:lnTo>
                    <a:pt x="19" y="761"/>
                  </a:lnTo>
                  <a:lnTo>
                    <a:pt x="21" y="722"/>
                  </a:lnTo>
                  <a:lnTo>
                    <a:pt x="25" y="676"/>
                  </a:lnTo>
                  <a:lnTo>
                    <a:pt x="31" y="623"/>
                  </a:lnTo>
                  <a:lnTo>
                    <a:pt x="40" y="565"/>
                  </a:lnTo>
                  <a:lnTo>
                    <a:pt x="51" y="504"/>
                  </a:lnTo>
                  <a:lnTo>
                    <a:pt x="64" y="437"/>
                  </a:lnTo>
                  <a:lnTo>
                    <a:pt x="73" y="403"/>
                  </a:lnTo>
                  <a:lnTo>
                    <a:pt x="83" y="369"/>
                  </a:lnTo>
                  <a:lnTo>
                    <a:pt x="94" y="333"/>
                  </a:lnTo>
                  <a:lnTo>
                    <a:pt x="105" y="296"/>
                  </a:lnTo>
                  <a:lnTo>
                    <a:pt x="117" y="260"/>
                  </a:lnTo>
                  <a:lnTo>
                    <a:pt x="131" y="223"/>
                  </a:lnTo>
                  <a:lnTo>
                    <a:pt x="145" y="186"/>
                  </a:lnTo>
                  <a:lnTo>
                    <a:pt x="163" y="148"/>
                  </a:lnTo>
                  <a:lnTo>
                    <a:pt x="180" y="111"/>
                  </a:lnTo>
                  <a:lnTo>
                    <a:pt x="198" y="75"/>
                  </a:lnTo>
                  <a:lnTo>
                    <a:pt x="219" y="36"/>
                  </a:lnTo>
                  <a:lnTo>
                    <a:pt x="240" y="0"/>
                  </a:lnTo>
                  <a:lnTo>
                    <a:pt x="251" y="12"/>
                  </a:lnTo>
                  <a:lnTo>
                    <a:pt x="279" y="44"/>
                  </a:lnTo>
                  <a:lnTo>
                    <a:pt x="297" y="66"/>
                  </a:lnTo>
                  <a:lnTo>
                    <a:pt x="316" y="92"/>
                  </a:lnTo>
                  <a:lnTo>
                    <a:pt x="337" y="121"/>
                  </a:lnTo>
                  <a:lnTo>
                    <a:pt x="358" y="152"/>
                  </a:lnTo>
                  <a:lnTo>
                    <a:pt x="378" y="186"/>
                  </a:lnTo>
                  <a:lnTo>
                    <a:pt x="395" y="221"/>
                  </a:lnTo>
                  <a:lnTo>
                    <a:pt x="404" y="239"/>
                  </a:lnTo>
                  <a:lnTo>
                    <a:pt x="411" y="257"/>
                  </a:lnTo>
                  <a:lnTo>
                    <a:pt x="417" y="275"/>
                  </a:lnTo>
                  <a:lnTo>
                    <a:pt x="422" y="294"/>
                  </a:lnTo>
                  <a:lnTo>
                    <a:pt x="427" y="311"/>
                  </a:lnTo>
                  <a:lnTo>
                    <a:pt x="430" y="329"/>
                  </a:lnTo>
                  <a:lnTo>
                    <a:pt x="432" y="348"/>
                  </a:lnTo>
                  <a:lnTo>
                    <a:pt x="432" y="365"/>
                  </a:lnTo>
                  <a:lnTo>
                    <a:pt x="431" y="382"/>
                  </a:lnTo>
                  <a:lnTo>
                    <a:pt x="428" y="399"/>
                  </a:lnTo>
                  <a:lnTo>
                    <a:pt x="423" y="415"/>
                  </a:lnTo>
                  <a:lnTo>
                    <a:pt x="417" y="431"/>
                  </a:lnTo>
                  <a:lnTo>
                    <a:pt x="388" y="498"/>
                  </a:lnTo>
                  <a:lnTo>
                    <a:pt x="358" y="564"/>
                  </a:lnTo>
                  <a:lnTo>
                    <a:pt x="346" y="599"/>
                  </a:lnTo>
                  <a:lnTo>
                    <a:pt x="335" y="632"/>
                  </a:lnTo>
                  <a:lnTo>
                    <a:pt x="324" y="666"/>
                  </a:lnTo>
                  <a:lnTo>
                    <a:pt x="316" y="699"/>
                  </a:lnTo>
                  <a:lnTo>
                    <a:pt x="313" y="717"/>
                  </a:lnTo>
                  <a:lnTo>
                    <a:pt x="310" y="733"/>
                  </a:lnTo>
                  <a:lnTo>
                    <a:pt x="309" y="749"/>
                  </a:lnTo>
                  <a:lnTo>
                    <a:pt x="308" y="765"/>
                  </a:lnTo>
                  <a:lnTo>
                    <a:pt x="308" y="781"/>
                  </a:lnTo>
                  <a:lnTo>
                    <a:pt x="308" y="797"/>
                  </a:lnTo>
                  <a:lnTo>
                    <a:pt x="309" y="811"/>
                  </a:lnTo>
                  <a:lnTo>
                    <a:pt x="310" y="827"/>
                  </a:lnTo>
                  <a:lnTo>
                    <a:pt x="314" y="842"/>
                  </a:lnTo>
                  <a:lnTo>
                    <a:pt x="318" y="857"/>
                  </a:lnTo>
                  <a:lnTo>
                    <a:pt x="323" y="870"/>
                  </a:lnTo>
                  <a:lnTo>
                    <a:pt x="329" y="885"/>
                  </a:lnTo>
                  <a:lnTo>
                    <a:pt x="335" y="899"/>
                  </a:lnTo>
                  <a:lnTo>
                    <a:pt x="343" y="911"/>
                  </a:lnTo>
                  <a:lnTo>
                    <a:pt x="352" y="924"/>
                  </a:lnTo>
                  <a:lnTo>
                    <a:pt x="363" y="937"/>
                  </a:lnTo>
                  <a:close/>
                </a:path>
              </a:pathLst>
            </a:custGeom>
            <a:solidFill>
              <a:srgbClr val="60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6313320" y="2008440"/>
              <a:ext cx="541440" cy="772920"/>
            </a:xfrm>
            <a:custGeom>
              <a:avLst/>
              <a:gdLst/>
              <a:ahLst/>
              <a:rect l="l" t="t" r="r" b="b"/>
              <a:pathLst>
                <a:path w="1708" h="2438">
                  <a:moveTo>
                    <a:pt x="346" y="937"/>
                  </a:moveTo>
                  <a:lnTo>
                    <a:pt x="369" y="963"/>
                  </a:lnTo>
                  <a:lnTo>
                    <a:pt x="393" y="992"/>
                  </a:lnTo>
                  <a:lnTo>
                    <a:pt x="416" y="1023"/>
                  </a:lnTo>
                  <a:lnTo>
                    <a:pt x="439" y="1057"/>
                  </a:lnTo>
                  <a:lnTo>
                    <a:pt x="463" y="1092"/>
                  </a:lnTo>
                  <a:lnTo>
                    <a:pt x="485" y="1129"/>
                  </a:lnTo>
                  <a:lnTo>
                    <a:pt x="507" y="1169"/>
                  </a:lnTo>
                  <a:lnTo>
                    <a:pt x="528" y="1209"/>
                  </a:lnTo>
                  <a:lnTo>
                    <a:pt x="546" y="1252"/>
                  </a:lnTo>
                  <a:lnTo>
                    <a:pt x="564" y="1295"/>
                  </a:lnTo>
                  <a:lnTo>
                    <a:pt x="580" y="1340"/>
                  </a:lnTo>
                  <a:lnTo>
                    <a:pt x="592" y="1384"/>
                  </a:lnTo>
                  <a:lnTo>
                    <a:pt x="598" y="1407"/>
                  </a:lnTo>
                  <a:lnTo>
                    <a:pt x="603" y="1429"/>
                  </a:lnTo>
                  <a:lnTo>
                    <a:pt x="607" y="1453"/>
                  </a:lnTo>
                  <a:lnTo>
                    <a:pt x="610" y="1476"/>
                  </a:lnTo>
                  <a:lnTo>
                    <a:pt x="613" y="1498"/>
                  </a:lnTo>
                  <a:lnTo>
                    <a:pt x="614" y="1522"/>
                  </a:lnTo>
                  <a:lnTo>
                    <a:pt x="615" y="1545"/>
                  </a:lnTo>
                  <a:lnTo>
                    <a:pt x="615" y="1567"/>
                  </a:lnTo>
                  <a:lnTo>
                    <a:pt x="615" y="1624"/>
                  </a:lnTo>
                  <a:lnTo>
                    <a:pt x="618" y="1677"/>
                  </a:lnTo>
                  <a:lnTo>
                    <a:pt x="623" y="1727"/>
                  </a:lnTo>
                  <a:lnTo>
                    <a:pt x="629" y="1775"/>
                  </a:lnTo>
                  <a:lnTo>
                    <a:pt x="636" y="1818"/>
                  </a:lnTo>
                  <a:lnTo>
                    <a:pt x="645" y="1860"/>
                  </a:lnTo>
                  <a:lnTo>
                    <a:pt x="655" y="1898"/>
                  </a:lnTo>
                  <a:lnTo>
                    <a:pt x="666" y="1934"/>
                  </a:lnTo>
                  <a:lnTo>
                    <a:pt x="678" y="1967"/>
                  </a:lnTo>
                  <a:lnTo>
                    <a:pt x="692" y="1996"/>
                  </a:lnTo>
                  <a:lnTo>
                    <a:pt x="705" y="2025"/>
                  </a:lnTo>
                  <a:lnTo>
                    <a:pt x="719" y="2049"/>
                  </a:lnTo>
                  <a:lnTo>
                    <a:pt x="733" y="2073"/>
                  </a:lnTo>
                  <a:lnTo>
                    <a:pt x="748" y="2094"/>
                  </a:lnTo>
                  <a:lnTo>
                    <a:pt x="763" y="2111"/>
                  </a:lnTo>
                  <a:lnTo>
                    <a:pt x="778" y="2127"/>
                  </a:lnTo>
                  <a:lnTo>
                    <a:pt x="786" y="2134"/>
                  </a:lnTo>
                  <a:lnTo>
                    <a:pt x="797" y="2143"/>
                  </a:lnTo>
                  <a:lnTo>
                    <a:pt x="810" y="2151"/>
                  </a:lnTo>
                  <a:lnTo>
                    <a:pt x="823" y="2161"/>
                  </a:lnTo>
                  <a:lnTo>
                    <a:pt x="856" y="2180"/>
                  </a:lnTo>
                  <a:lnTo>
                    <a:pt x="895" y="2201"/>
                  </a:lnTo>
                  <a:lnTo>
                    <a:pt x="938" y="2222"/>
                  </a:lnTo>
                  <a:lnTo>
                    <a:pt x="984" y="2242"/>
                  </a:lnTo>
                  <a:lnTo>
                    <a:pt x="1035" y="2263"/>
                  </a:lnTo>
                  <a:lnTo>
                    <a:pt x="1088" y="2284"/>
                  </a:lnTo>
                  <a:lnTo>
                    <a:pt x="1142" y="2303"/>
                  </a:lnTo>
                  <a:lnTo>
                    <a:pt x="1196" y="2320"/>
                  </a:lnTo>
                  <a:lnTo>
                    <a:pt x="1251" y="2335"/>
                  </a:lnTo>
                  <a:lnTo>
                    <a:pt x="1304" y="2348"/>
                  </a:lnTo>
                  <a:lnTo>
                    <a:pt x="1330" y="2353"/>
                  </a:lnTo>
                  <a:lnTo>
                    <a:pt x="1355" y="2357"/>
                  </a:lnTo>
                  <a:lnTo>
                    <a:pt x="1379" y="2361"/>
                  </a:lnTo>
                  <a:lnTo>
                    <a:pt x="1403" y="2363"/>
                  </a:lnTo>
                  <a:lnTo>
                    <a:pt x="1426" y="2365"/>
                  </a:lnTo>
                  <a:lnTo>
                    <a:pt x="1447" y="2365"/>
                  </a:lnTo>
                  <a:lnTo>
                    <a:pt x="1468" y="2365"/>
                  </a:lnTo>
                  <a:lnTo>
                    <a:pt x="1488" y="2363"/>
                  </a:lnTo>
                  <a:lnTo>
                    <a:pt x="1553" y="2353"/>
                  </a:lnTo>
                  <a:lnTo>
                    <a:pt x="1603" y="2343"/>
                  </a:lnTo>
                  <a:lnTo>
                    <a:pt x="1641" y="2335"/>
                  </a:lnTo>
                  <a:lnTo>
                    <a:pt x="1670" y="2327"/>
                  </a:lnTo>
                  <a:lnTo>
                    <a:pt x="1688" y="2321"/>
                  </a:lnTo>
                  <a:lnTo>
                    <a:pt x="1700" y="2316"/>
                  </a:lnTo>
                  <a:lnTo>
                    <a:pt x="1705" y="2313"/>
                  </a:lnTo>
                  <a:lnTo>
                    <a:pt x="1708" y="2311"/>
                  </a:lnTo>
                  <a:lnTo>
                    <a:pt x="1699" y="2322"/>
                  </a:lnTo>
                  <a:lnTo>
                    <a:pt x="1688" y="2335"/>
                  </a:lnTo>
                  <a:lnTo>
                    <a:pt x="1672" y="2349"/>
                  </a:lnTo>
                  <a:lnTo>
                    <a:pt x="1655" y="2364"/>
                  </a:lnTo>
                  <a:lnTo>
                    <a:pt x="1633" y="2379"/>
                  </a:lnTo>
                  <a:lnTo>
                    <a:pt x="1607" y="2392"/>
                  </a:lnTo>
                  <a:lnTo>
                    <a:pt x="1593" y="2400"/>
                  </a:lnTo>
                  <a:lnTo>
                    <a:pt x="1579" y="2406"/>
                  </a:lnTo>
                  <a:lnTo>
                    <a:pt x="1563" y="2412"/>
                  </a:lnTo>
                  <a:lnTo>
                    <a:pt x="1545" y="2417"/>
                  </a:lnTo>
                  <a:lnTo>
                    <a:pt x="1528" y="2423"/>
                  </a:lnTo>
                  <a:lnTo>
                    <a:pt x="1509" y="2427"/>
                  </a:lnTo>
                  <a:lnTo>
                    <a:pt x="1489" y="2431"/>
                  </a:lnTo>
                  <a:lnTo>
                    <a:pt x="1469" y="2434"/>
                  </a:lnTo>
                  <a:lnTo>
                    <a:pt x="1447" y="2436"/>
                  </a:lnTo>
                  <a:lnTo>
                    <a:pt x="1425" y="2438"/>
                  </a:lnTo>
                  <a:lnTo>
                    <a:pt x="1401" y="2438"/>
                  </a:lnTo>
                  <a:lnTo>
                    <a:pt x="1377" y="2437"/>
                  </a:lnTo>
                  <a:lnTo>
                    <a:pt x="1351" y="2436"/>
                  </a:lnTo>
                  <a:lnTo>
                    <a:pt x="1325" y="2432"/>
                  </a:lnTo>
                  <a:lnTo>
                    <a:pt x="1298" y="2428"/>
                  </a:lnTo>
                  <a:lnTo>
                    <a:pt x="1269" y="2422"/>
                  </a:lnTo>
                  <a:lnTo>
                    <a:pt x="1239" y="2415"/>
                  </a:lnTo>
                  <a:lnTo>
                    <a:pt x="1210" y="2407"/>
                  </a:lnTo>
                  <a:lnTo>
                    <a:pt x="1178" y="2396"/>
                  </a:lnTo>
                  <a:lnTo>
                    <a:pt x="1146" y="2385"/>
                  </a:lnTo>
                  <a:lnTo>
                    <a:pt x="1013" y="2338"/>
                  </a:lnTo>
                  <a:lnTo>
                    <a:pt x="880" y="2294"/>
                  </a:lnTo>
                  <a:lnTo>
                    <a:pt x="815" y="2271"/>
                  </a:lnTo>
                  <a:lnTo>
                    <a:pt x="751" y="2245"/>
                  </a:lnTo>
                  <a:lnTo>
                    <a:pt x="719" y="2231"/>
                  </a:lnTo>
                  <a:lnTo>
                    <a:pt x="688" y="2218"/>
                  </a:lnTo>
                  <a:lnTo>
                    <a:pt x="657" y="2203"/>
                  </a:lnTo>
                  <a:lnTo>
                    <a:pt x="626" y="2188"/>
                  </a:lnTo>
                  <a:lnTo>
                    <a:pt x="596" y="2171"/>
                  </a:lnTo>
                  <a:lnTo>
                    <a:pt x="566" y="2154"/>
                  </a:lnTo>
                  <a:lnTo>
                    <a:pt x="537" y="2135"/>
                  </a:lnTo>
                  <a:lnTo>
                    <a:pt x="508" y="2117"/>
                  </a:lnTo>
                  <a:lnTo>
                    <a:pt x="480" y="2096"/>
                  </a:lnTo>
                  <a:lnTo>
                    <a:pt x="452" y="2074"/>
                  </a:lnTo>
                  <a:lnTo>
                    <a:pt x="425" y="2051"/>
                  </a:lnTo>
                  <a:lnTo>
                    <a:pt x="399" y="2026"/>
                  </a:lnTo>
                  <a:lnTo>
                    <a:pt x="373" y="2000"/>
                  </a:lnTo>
                  <a:lnTo>
                    <a:pt x="347" y="1973"/>
                  </a:lnTo>
                  <a:lnTo>
                    <a:pt x="324" y="1944"/>
                  </a:lnTo>
                  <a:lnTo>
                    <a:pt x="299" y="1912"/>
                  </a:lnTo>
                  <a:lnTo>
                    <a:pt x="277" y="1880"/>
                  </a:lnTo>
                  <a:lnTo>
                    <a:pt x="255" y="1844"/>
                  </a:lnTo>
                  <a:lnTo>
                    <a:pt x="234" y="1807"/>
                  </a:lnTo>
                  <a:lnTo>
                    <a:pt x="213" y="1769"/>
                  </a:lnTo>
                  <a:lnTo>
                    <a:pt x="175" y="1690"/>
                  </a:lnTo>
                  <a:lnTo>
                    <a:pt x="138" y="1615"/>
                  </a:lnTo>
                  <a:lnTo>
                    <a:pt x="105" y="1544"/>
                  </a:lnTo>
                  <a:lnTo>
                    <a:pt x="75" y="1481"/>
                  </a:lnTo>
                  <a:lnTo>
                    <a:pt x="52" y="1427"/>
                  </a:lnTo>
                  <a:lnTo>
                    <a:pt x="33" y="1386"/>
                  </a:lnTo>
                  <a:lnTo>
                    <a:pt x="21" y="1359"/>
                  </a:lnTo>
                  <a:lnTo>
                    <a:pt x="17" y="1351"/>
                  </a:lnTo>
                  <a:lnTo>
                    <a:pt x="16" y="1341"/>
                  </a:lnTo>
                  <a:lnTo>
                    <a:pt x="14" y="1315"/>
                  </a:lnTo>
                  <a:lnTo>
                    <a:pt x="10" y="1277"/>
                  </a:lnTo>
                  <a:lnTo>
                    <a:pt x="5" y="1230"/>
                  </a:lnTo>
                  <a:lnTo>
                    <a:pt x="3" y="1177"/>
                  </a:lnTo>
                  <a:lnTo>
                    <a:pt x="0" y="1122"/>
                  </a:lnTo>
                  <a:lnTo>
                    <a:pt x="0" y="1095"/>
                  </a:lnTo>
                  <a:lnTo>
                    <a:pt x="0" y="1069"/>
                  </a:lnTo>
                  <a:lnTo>
                    <a:pt x="1" y="1044"/>
                  </a:lnTo>
                  <a:lnTo>
                    <a:pt x="4" y="1021"/>
                  </a:lnTo>
                  <a:lnTo>
                    <a:pt x="9" y="978"/>
                  </a:lnTo>
                  <a:lnTo>
                    <a:pt x="11" y="939"/>
                  </a:lnTo>
                  <a:lnTo>
                    <a:pt x="14" y="903"/>
                  </a:lnTo>
                  <a:lnTo>
                    <a:pt x="16" y="872"/>
                  </a:lnTo>
                  <a:lnTo>
                    <a:pt x="17" y="846"/>
                  </a:lnTo>
                  <a:lnTo>
                    <a:pt x="17" y="828"/>
                  </a:lnTo>
                  <a:lnTo>
                    <a:pt x="17" y="817"/>
                  </a:lnTo>
                  <a:lnTo>
                    <a:pt x="17" y="812"/>
                  </a:lnTo>
                  <a:lnTo>
                    <a:pt x="17" y="793"/>
                  </a:lnTo>
                  <a:lnTo>
                    <a:pt x="17" y="741"/>
                  </a:lnTo>
                  <a:lnTo>
                    <a:pt x="19" y="704"/>
                  </a:lnTo>
                  <a:lnTo>
                    <a:pt x="21" y="659"/>
                  </a:lnTo>
                  <a:lnTo>
                    <a:pt x="26" y="610"/>
                  </a:lnTo>
                  <a:lnTo>
                    <a:pt x="33" y="555"/>
                  </a:lnTo>
                  <a:lnTo>
                    <a:pt x="44" y="495"/>
                  </a:lnTo>
                  <a:lnTo>
                    <a:pt x="57" y="432"/>
                  </a:lnTo>
                  <a:lnTo>
                    <a:pt x="65" y="399"/>
                  </a:lnTo>
                  <a:lnTo>
                    <a:pt x="74" y="364"/>
                  </a:lnTo>
                  <a:lnTo>
                    <a:pt x="84" y="330"/>
                  </a:lnTo>
                  <a:lnTo>
                    <a:pt x="95" y="294"/>
                  </a:lnTo>
                  <a:lnTo>
                    <a:pt x="107" y="258"/>
                  </a:lnTo>
                  <a:lnTo>
                    <a:pt x="121" y="223"/>
                  </a:lnTo>
                  <a:lnTo>
                    <a:pt x="136" y="186"/>
                  </a:lnTo>
                  <a:lnTo>
                    <a:pt x="152" y="149"/>
                  </a:lnTo>
                  <a:lnTo>
                    <a:pt x="169" y="112"/>
                  </a:lnTo>
                  <a:lnTo>
                    <a:pt x="187" y="75"/>
                  </a:lnTo>
                  <a:lnTo>
                    <a:pt x="208" y="37"/>
                  </a:lnTo>
                  <a:lnTo>
                    <a:pt x="229" y="0"/>
                  </a:lnTo>
                  <a:lnTo>
                    <a:pt x="239" y="12"/>
                  </a:lnTo>
                  <a:lnTo>
                    <a:pt x="265" y="44"/>
                  </a:lnTo>
                  <a:lnTo>
                    <a:pt x="281" y="67"/>
                  </a:lnTo>
                  <a:lnTo>
                    <a:pt x="299" y="94"/>
                  </a:lnTo>
                  <a:lnTo>
                    <a:pt x="318" y="122"/>
                  </a:lnTo>
                  <a:lnTo>
                    <a:pt x="336" y="154"/>
                  </a:lnTo>
                  <a:lnTo>
                    <a:pt x="355" y="188"/>
                  </a:lnTo>
                  <a:lnTo>
                    <a:pt x="371" y="223"/>
                  </a:lnTo>
                  <a:lnTo>
                    <a:pt x="377" y="241"/>
                  </a:lnTo>
                  <a:lnTo>
                    <a:pt x="383" y="260"/>
                  </a:lnTo>
                  <a:lnTo>
                    <a:pt x="389" y="278"/>
                  </a:lnTo>
                  <a:lnTo>
                    <a:pt x="394" y="295"/>
                  </a:lnTo>
                  <a:lnTo>
                    <a:pt x="396" y="314"/>
                  </a:lnTo>
                  <a:lnTo>
                    <a:pt x="399" y="332"/>
                  </a:lnTo>
                  <a:lnTo>
                    <a:pt x="400" y="349"/>
                  </a:lnTo>
                  <a:lnTo>
                    <a:pt x="400" y="368"/>
                  </a:lnTo>
                  <a:lnTo>
                    <a:pt x="399" y="385"/>
                  </a:lnTo>
                  <a:lnTo>
                    <a:pt x="395" y="402"/>
                  </a:lnTo>
                  <a:lnTo>
                    <a:pt x="390" y="418"/>
                  </a:lnTo>
                  <a:lnTo>
                    <a:pt x="384" y="434"/>
                  </a:lnTo>
                  <a:lnTo>
                    <a:pt x="369" y="468"/>
                  </a:lnTo>
                  <a:lnTo>
                    <a:pt x="356" y="501"/>
                  </a:lnTo>
                  <a:lnTo>
                    <a:pt x="341" y="534"/>
                  </a:lnTo>
                  <a:lnTo>
                    <a:pt x="329" y="567"/>
                  </a:lnTo>
                  <a:lnTo>
                    <a:pt x="318" y="600"/>
                  </a:lnTo>
                  <a:lnTo>
                    <a:pt x="307" y="635"/>
                  </a:lnTo>
                  <a:lnTo>
                    <a:pt x="298" y="668"/>
                  </a:lnTo>
                  <a:lnTo>
                    <a:pt x="292" y="701"/>
                  </a:lnTo>
                  <a:lnTo>
                    <a:pt x="289" y="717"/>
                  </a:lnTo>
                  <a:lnTo>
                    <a:pt x="288" y="734"/>
                  </a:lnTo>
                  <a:lnTo>
                    <a:pt x="287" y="750"/>
                  </a:lnTo>
                  <a:lnTo>
                    <a:pt x="286" y="766"/>
                  </a:lnTo>
                  <a:lnTo>
                    <a:pt x="287" y="782"/>
                  </a:lnTo>
                  <a:lnTo>
                    <a:pt x="287" y="797"/>
                  </a:lnTo>
                  <a:lnTo>
                    <a:pt x="289" y="813"/>
                  </a:lnTo>
                  <a:lnTo>
                    <a:pt x="292" y="828"/>
                  </a:lnTo>
                  <a:lnTo>
                    <a:pt x="295" y="843"/>
                  </a:lnTo>
                  <a:lnTo>
                    <a:pt x="299" y="857"/>
                  </a:lnTo>
                  <a:lnTo>
                    <a:pt x="305" y="871"/>
                  </a:lnTo>
                  <a:lnTo>
                    <a:pt x="311" y="886"/>
                  </a:lnTo>
                  <a:lnTo>
                    <a:pt x="319" y="899"/>
                  </a:lnTo>
                  <a:lnTo>
                    <a:pt x="326" y="912"/>
                  </a:lnTo>
                  <a:lnTo>
                    <a:pt x="336" y="925"/>
                  </a:lnTo>
                  <a:lnTo>
                    <a:pt x="346" y="937"/>
                  </a:lnTo>
                  <a:close/>
                </a:path>
              </a:pathLst>
            </a:custGeom>
            <a:solidFill>
              <a:srgbClr val="5d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6313320" y="2016360"/>
              <a:ext cx="535320" cy="765000"/>
            </a:xfrm>
            <a:custGeom>
              <a:avLst/>
              <a:gdLst/>
              <a:ahLst/>
              <a:rect l="l" t="t" r="r" b="b"/>
              <a:pathLst>
                <a:path w="1686" h="2411">
                  <a:moveTo>
                    <a:pt x="1686" y="2311"/>
                  </a:moveTo>
                  <a:lnTo>
                    <a:pt x="1670" y="2326"/>
                  </a:lnTo>
                  <a:lnTo>
                    <a:pt x="1640" y="2347"/>
                  </a:lnTo>
                  <a:lnTo>
                    <a:pt x="1620" y="2359"/>
                  </a:lnTo>
                  <a:lnTo>
                    <a:pt x="1597" y="2372"/>
                  </a:lnTo>
                  <a:lnTo>
                    <a:pt x="1570" y="2383"/>
                  </a:lnTo>
                  <a:lnTo>
                    <a:pt x="1539" y="2393"/>
                  </a:lnTo>
                  <a:lnTo>
                    <a:pt x="1522" y="2397"/>
                  </a:lnTo>
                  <a:lnTo>
                    <a:pt x="1504" y="2401"/>
                  </a:lnTo>
                  <a:lnTo>
                    <a:pt x="1485" y="2405"/>
                  </a:lnTo>
                  <a:lnTo>
                    <a:pt x="1465" y="2407"/>
                  </a:lnTo>
                  <a:lnTo>
                    <a:pt x="1445" y="2410"/>
                  </a:lnTo>
                  <a:lnTo>
                    <a:pt x="1422" y="2411"/>
                  </a:lnTo>
                  <a:lnTo>
                    <a:pt x="1399" y="2411"/>
                  </a:lnTo>
                  <a:lnTo>
                    <a:pt x="1376" y="2410"/>
                  </a:lnTo>
                  <a:lnTo>
                    <a:pt x="1350" y="2409"/>
                  </a:lnTo>
                  <a:lnTo>
                    <a:pt x="1324" y="2405"/>
                  </a:lnTo>
                  <a:lnTo>
                    <a:pt x="1297" y="2401"/>
                  </a:lnTo>
                  <a:lnTo>
                    <a:pt x="1269" y="2395"/>
                  </a:lnTo>
                  <a:lnTo>
                    <a:pt x="1239" y="2388"/>
                  </a:lnTo>
                  <a:lnTo>
                    <a:pt x="1210" y="2380"/>
                  </a:lnTo>
                  <a:lnTo>
                    <a:pt x="1178" y="2369"/>
                  </a:lnTo>
                  <a:lnTo>
                    <a:pt x="1146" y="2358"/>
                  </a:lnTo>
                  <a:lnTo>
                    <a:pt x="1013" y="2311"/>
                  </a:lnTo>
                  <a:lnTo>
                    <a:pt x="880" y="2267"/>
                  </a:lnTo>
                  <a:lnTo>
                    <a:pt x="815" y="2244"/>
                  </a:lnTo>
                  <a:lnTo>
                    <a:pt x="751" y="2218"/>
                  </a:lnTo>
                  <a:lnTo>
                    <a:pt x="719" y="2204"/>
                  </a:lnTo>
                  <a:lnTo>
                    <a:pt x="688" y="2191"/>
                  </a:lnTo>
                  <a:lnTo>
                    <a:pt x="657" y="2176"/>
                  </a:lnTo>
                  <a:lnTo>
                    <a:pt x="626" y="2161"/>
                  </a:lnTo>
                  <a:lnTo>
                    <a:pt x="596" y="2144"/>
                  </a:lnTo>
                  <a:lnTo>
                    <a:pt x="566" y="2127"/>
                  </a:lnTo>
                  <a:lnTo>
                    <a:pt x="537" y="2108"/>
                  </a:lnTo>
                  <a:lnTo>
                    <a:pt x="508" y="2090"/>
                  </a:lnTo>
                  <a:lnTo>
                    <a:pt x="480" y="2069"/>
                  </a:lnTo>
                  <a:lnTo>
                    <a:pt x="452" y="2047"/>
                  </a:lnTo>
                  <a:lnTo>
                    <a:pt x="425" y="2024"/>
                  </a:lnTo>
                  <a:lnTo>
                    <a:pt x="399" y="1999"/>
                  </a:lnTo>
                  <a:lnTo>
                    <a:pt x="373" y="1973"/>
                  </a:lnTo>
                  <a:lnTo>
                    <a:pt x="347" y="1946"/>
                  </a:lnTo>
                  <a:lnTo>
                    <a:pt x="324" y="1917"/>
                  </a:lnTo>
                  <a:lnTo>
                    <a:pt x="299" y="1885"/>
                  </a:lnTo>
                  <a:lnTo>
                    <a:pt x="277" y="1853"/>
                  </a:lnTo>
                  <a:lnTo>
                    <a:pt x="255" y="1817"/>
                  </a:lnTo>
                  <a:lnTo>
                    <a:pt x="234" y="1780"/>
                  </a:lnTo>
                  <a:lnTo>
                    <a:pt x="213" y="1742"/>
                  </a:lnTo>
                  <a:lnTo>
                    <a:pt x="175" y="1663"/>
                  </a:lnTo>
                  <a:lnTo>
                    <a:pt x="138" y="1588"/>
                  </a:lnTo>
                  <a:lnTo>
                    <a:pt x="105" y="1517"/>
                  </a:lnTo>
                  <a:lnTo>
                    <a:pt x="75" y="1454"/>
                  </a:lnTo>
                  <a:lnTo>
                    <a:pt x="52" y="1400"/>
                  </a:lnTo>
                  <a:lnTo>
                    <a:pt x="33" y="1359"/>
                  </a:lnTo>
                  <a:lnTo>
                    <a:pt x="21" y="1332"/>
                  </a:lnTo>
                  <a:lnTo>
                    <a:pt x="17" y="1324"/>
                  </a:lnTo>
                  <a:lnTo>
                    <a:pt x="16" y="1314"/>
                  </a:lnTo>
                  <a:lnTo>
                    <a:pt x="14" y="1288"/>
                  </a:lnTo>
                  <a:lnTo>
                    <a:pt x="10" y="1250"/>
                  </a:lnTo>
                  <a:lnTo>
                    <a:pt x="5" y="1203"/>
                  </a:lnTo>
                  <a:lnTo>
                    <a:pt x="3" y="1150"/>
                  </a:lnTo>
                  <a:lnTo>
                    <a:pt x="0" y="1095"/>
                  </a:lnTo>
                  <a:lnTo>
                    <a:pt x="0" y="1068"/>
                  </a:lnTo>
                  <a:lnTo>
                    <a:pt x="0" y="1042"/>
                  </a:lnTo>
                  <a:lnTo>
                    <a:pt x="1" y="1017"/>
                  </a:lnTo>
                  <a:lnTo>
                    <a:pt x="4" y="994"/>
                  </a:lnTo>
                  <a:lnTo>
                    <a:pt x="9" y="951"/>
                  </a:lnTo>
                  <a:lnTo>
                    <a:pt x="11" y="912"/>
                  </a:lnTo>
                  <a:lnTo>
                    <a:pt x="14" y="876"/>
                  </a:lnTo>
                  <a:lnTo>
                    <a:pt x="16" y="845"/>
                  </a:lnTo>
                  <a:lnTo>
                    <a:pt x="17" y="819"/>
                  </a:lnTo>
                  <a:lnTo>
                    <a:pt x="17" y="801"/>
                  </a:lnTo>
                  <a:lnTo>
                    <a:pt x="17" y="790"/>
                  </a:lnTo>
                  <a:lnTo>
                    <a:pt x="17" y="785"/>
                  </a:lnTo>
                  <a:lnTo>
                    <a:pt x="16" y="768"/>
                  </a:lnTo>
                  <a:lnTo>
                    <a:pt x="15" y="719"/>
                  </a:lnTo>
                  <a:lnTo>
                    <a:pt x="15" y="683"/>
                  </a:lnTo>
                  <a:lnTo>
                    <a:pt x="17" y="641"/>
                  </a:lnTo>
                  <a:lnTo>
                    <a:pt x="21" y="594"/>
                  </a:lnTo>
                  <a:lnTo>
                    <a:pt x="27" y="541"/>
                  </a:lnTo>
                  <a:lnTo>
                    <a:pt x="31" y="513"/>
                  </a:lnTo>
                  <a:lnTo>
                    <a:pt x="36" y="485"/>
                  </a:lnTo>
                  <a:lnTo>
                    <a:pt x="42" y="454"/>
                  </a:lnTo>
                  <a:lnTo>
                    <a:pt x="48" y="423"/>
                  </a:lnTo>
                  <a:lnTo>
                    <a:pt x="56" y="391"/>
                  </a:lnTo>
                  <a:lnTo>
                    <a:pt x="64" y="358"/>
                  </a:lnTo>
                  <a:lnTo>
                    <a:pt x="74" y="325"/>
                  </a:lnTo>
                  <a:lnTo>
                    <a:pt x="84" y="290"/>
                  </a:lnTo>
                  <a:lnTo>
                    <a:pt x="96" y="255"/>
                  </a:lnTo>
                  <a:lnTo>
                    <a:pt x="108" y="220"/>
                  </a:lnTo>
                  <a:lnTo>
                    <a:pt x="123" y="185"/>
                  </a:lnTo>
                  <a:lnTo>
                    <a:pt x="139" y="148"/>
                  </a:lnTo>
                  <a:lnTo>
                    <a:pt x="155" y="111"/>
                  </a:lnTo>
                  <a:lnTo>
                    <a:pt x="174" y="74"/>
                  </a:lnTo>
                  <a:lnTo>
                    <a:pt x="195" y="37"/>
                  </a:lnTo>
                  <a:lnTo>
                    <a:pt x="216" y="0"/>
                  </a:lnTo>
                  <a:lnTo>
                    <a:pt x="225" y="12"/>
                  </a:lnTo>
                  <a:lnTo>
                    <a:pt x="249" y="44"/>
                  </a:lnTo>
                  <a:lnTo>
                    <a:pt x="263" y="68"/>
                  </a:lnTo>
                  <a:lnTo>
                    <a:pt x="279" y="94"/>
                  </a:lnTo>
                  <a:lnTo>
                    <a:pt x="297" y="123"/>
                  </a:lnTo>
                  <a:lnTo>
                    <a:pt x="314" y="155"/>
                  </a:lnTo>
                  <a:lnTo>
                    <a:pt x="329" y="188"/>
                  </a:lnTo>
                  <a:lnTo>
                    <a:pt x="343" y="224"/>
                  </a:lnTo>
                  <a:lnTo>
                    <a:pt x="350" y="243"/>
                  </a:lnTo>
                  <a:lnTo>
                    <a:pt x="355" y="261"/>
                  </a:lnTo>
                  <a:lnTo>
                    <a:pt x="359" y="278"/>
                  </a:lnTo>
                  <a:lnTo>
                    <a:pt x="363" y="297"/>
                  </a:lnTo>
                  <a:lnTo>
                    <a:pt x="367" y="315"/>
                  </a:lnTo>
                  <a:lnTo>
                    <a:pt x="368" y="334"/>
                  </a:lnTo>
                  <a:lnTo>
                    <a:pt x="369" y="352"/>
                  </a:lnTo>
                  <a:lnTo>
                    <a:pt x="368" y="369"/>
                  </a:lnTo>
                  <a:lnTo>
                    <a:pt x="367" y="388"/>
                  </a:lnTo>
                  <a:lnTo>
                    <a:pt x="363" y="405"/>
                  </a:lnTo>
                  <a:lnTo>
                    <a:pt x="358" y="421"/>
                  </a:lnTo>
                  <a:lnTo>
                    <a:pt x="352" y="438"/>
                  </a:lnTo>
                  <a:lnTo>
                    <a:pt x="337" y="470"/>
                  </a:lnTo>
                  <a:lnTo>
                    <a:pt x="324" y="502"/>
                  </a:lnTo>
                  <a:lnTo>
                    <a:pt x="310" y="535"/>
                  </a:lnTo>
                  <a:lnTo>
                    <a:pt x="299" y="568"/>
                  </a:lnTo>
                  <a:lnTo>
                    <a:pt x="288" y="602"/>
                  </a:lnTo>
                  <a:lnTo>
                    <a:pt x="279" y="635"/>
                  </a:lnTo>
                  <a:lnTo>
                    <a:pt x="272" y="668"/>
                  </a:lnTo>
                  <a:lnTo>
                    <a:pt x="268" y="700"/>
                  </a:lnTo>
                  <a:lnTo>
                    <a:pt x="266" y="717"/>
                  </a:lnTo>
                  <a:lnTo>
                    <a:pt x="265" y="733"/>
                  </a:lnTo>
                  <a:lnTo>
                    <a:pt x="265" y="749"/>
                  </a:lnTo>
                  <a:lnTo>
                    <a:pt x="266" y="764"/>
                  </a:lnTo>
                  <a:lnTo>
                    <a:pt x="266" y="780"/>
                  </a:lnTo>
                  <a:lnTo>
                    <a:pt x="268" y="796"/>
                  </a:lnTo>
                  <a:lnTo>
                    <a:pt x="271" y="811"/>
                  </a:lnTo>
                  <a:lnTo>
                    <a:pt x="275" y="826"/>
                  </a:lnTo>
                  <a:lnTo>
                    <a:pt x="278" y="840"/>
                  </a:lnTo>
                  <a:lnTo>
                    <a:pt x="283" y="855"/>
                  </a:lnTo>
                  <a:lnTo>
                    <a:pt x="289" y="869"/>
                  </a:lnTo>
                  <a:lnTo>
                    <a:pt x="295" y="883"/>
                  </a:lnTo>
                  <a:lnTo>
                    <a:pt x="304" y="897"/>
                  </a:lnTo>
                  <a:lnTo>
                    <a:pt x="313" y="909"/>
                  </a:lnTo>
                  <a:lnTo>
                    <a:pt x="323" y="923"/>
                  </a:lnTo>
                  <a:lnTo>
                    <a:pt x="332" y="935"/>
                  </a:lnTo>
                  <a:lnTo>
                    <a:pt x="355" y="961"/>
                  </a:lnTo>
                  <a:lnTo>
                    <a:pt x="377" y="990"/>
                  </a:lnTo>
                  <a:lnTo>
                    <a:pt x="399" y="1022"/>
                  </a:lnTo>
                  <a:lnTo>
                    <a:pt x="421" y="1058"/>
                  </a:lnTo>
                  <a:lnTo>
                    <a:pt x="442" y="1095"/>
                  </a:lnTo>
                  <a:lnTo>
                    <a:pt x="463" y="1134"/>
                  </a:lnTo>
                  <a:lnTo>
                    <a:pt x="482" y="1176"/>
                  </a:lnTo>
                  <a:lnTo>
                    <a:pt x="502" y="1219"/>
                  </a:lnTo>
                  <a:lnTo>
                    <a:pt x="519" y="1263"/>
                  </a:lnTo>
                  <a:lnTo>
                    <a:pt x="535" y="1308"/>
                  </a:lnTo>
                  <a:lnTo>
                    <a:pt x="550" y="1353"/>
                  </a:lnTo>
                  <a:lnTo>
                    <a:pt x="564" y="1399"/>
                  </a:lnTo>
                  <a:lnTo>
                    <a:pt x="575" y="1444"/>
                  </a:lnTo>
                  <a:lnTo>
                    <a:pt x="583" y="1490"/>
                  </a:lnTo>
                  <a:lnTo>
                    <a:pt x="590" y="1535"/>
                  </a:lnTo>
                  <a:lnTo>
                    <a:pt x="593" y="1578"/>
                  </a:lnTo>
                  <a:lnTo>
                    <a:pt x="598" y="1635"/>
                  </a:lnTo>
                  <a:lnTo>
                    <a:pt x="603" y="1688"/>
                  </a:lnTo>
                  <a:lnTo>
                    <a:pt x="610" y="1737"/>
                  </a:lnTo>
                  <a:lnTo>
                    <a:pt x="618" y="1782"/>
                  </a:lnTo>
                  <a:lnTo>
                    <a:pt x="626" y="1826"/>
                  </a:lnTo>
                  <a:lnTo>
                    <a:pt x="637" y="1866"/>
                  </a:lnTo>
                  <a:lnTo>
                    <a:pt x="647" y="1903"/>
                  </a:lnTo>
                  <a:lnTo>
                    <a:pt x="660" y="1936"/>
                  </a:lnTo>
                  <a:lnTo>
                    <a:pt x="672" y="1968"/>
                  </a:lnTo>
                  <a:lnTo>
                    <a:pt x="684" y="1996"/>
                  </a:lnTo>
                  <a:lnTo>
                    <a:pt x="698" y="2024"/>
                  </a:lnTo>
                  <a:lnTo>
                    <a:pt x="713" y="2047"/>
                  </a:lnTo>
                  <a:lnTo>
                    <a:pt x="726" y="2069"/>
                  </a:lnTo>
                  <a:lnTo>
                    <a:pt x="741" y="2089"/>
                  </a:lnTo>
                  <a:lnTo>
                    <a:pt x="756" y="2106"/>
                  </a:lnTo>
                  <a:lnTo>
                    <a:pt x="770" y="2122"/>
                  </a:lnTo>
                  <a:lnTo>
                    <a:pt x="779" y="2129"/>
                  </a:lnTo>
                  <a:lnTo>
                    <a:pt x="789" y="2138"/>
                  </a:lnTo>
                  <a:lnTo>
                    <a:pt x="801" y="2147"/>
                  </a:lnTo>
                  <a:lnTo>
                    <a:pt x="815" y="2155"/>
                  </a:lnTo>
                  <a:lnTo>
                    <a:pt x="848" y="2175"/>
                  </a:lnTo>
                  <a:lnTo>
                    <a:pt x="887" y="2196"/>
                  </a:lnTo>
                  <a:lnTo>
                    <a:pt x="930" y="2217"/>
                  </a:lnTo>
                  <a:lnTo>
                    <a:pt x="977" y="2239"/>
                  </a:lnTo>
                  <a:lnTo>
                    <a:pt x="1027" y="2260"/>
                  </a:lnTo>
                  <a:lnTo>
                    <a:pt x="1080" y="2279"/>
                  </a:lnTo>
                  <a:lnTo>
                    <a:pt x="1135" y="2299"/>
                  </a:lnTo>
                  <a:lnTo>
                    <a:pt x="1190" y="2316"/>
                  </a:lnTo>
                  <a:lnTo>
                    <a:pt x="1244" y="2331"/>
                  </a:lnTo>
                  <a:lnTo>
                    <a:pt x="1297" y="2343"/>
                  </a:lnTo>
                  <a:lnTo>
                    <a:pt x="1323" y="2348"/>
                  </a:lnTo>
                  <a:lnTo>
                    <a:pt x="1347" y="2353"/>
                  </a:lnTo>
                  <a:lnTo>
                    <a:pt x="1372" y="2357"/>
                  </a:lnTo>
                  <a:lnTo>
                    <a:pt x="1395" y="2359"/>
                  </a:lnTo>
                  <a:lnTo>
                    <a:pt x="1419" y="2361"/>
                  </a:lnTo>
                  <a:lnTo>
                    <a:pt x="1440" y="2361"/>
                  </a:lnTo>
                  <a:lnTo>
                    <a:pt x="1461" y="2361"/>
                  </a:lnTo>
                  <a:lnTo>
                    <a:pt x="1479" y="2358"/>
                  </a:lnTo>
                  <a:lnTo>
                    <a:pt x="1544" y="2349"/>
                  </a:lnTo>
                  <a:lnTo>
                    <a:pt x="1593" y="2341"/>
                  </a:lnTo>
                  <a:lnTo>
                    <a:pt x="1630" y="2332"/>
                  </a:lnTo>
                  <a:lnTo>
                    <a:pt x="1656" y="2326"/>
                  </a:lnTo>
                  <a:lnTo>
                    <a:pt x="1672" y="2320"/>
                  </a:lnTo>
                  <a:lnTo>
                    <a:pt x="1681" y="2315"/>
                  </a:lnTo>
                  <a:lnTo>
                    <a:pt x="1684" y="2313"/>
                  </a:lnTo>
                  <a:lnTo>
                    <a:pt x="1686" y="2311"/>
                  </a:lnTo>
                  <a:close/>
                </a:path>
              </a:pathLst>
            </a:custGeom>
            <a:solidFill>
              <a:srgbClr val="5b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6808680" y="2116080"/>
              <a:ext cx="171720" cy="204840"/>
            </a:xfrm>
            <a:custGeom>
              <a:avLst/>
              <a:gdLst/>
              <a:ahLst/>
              <a:rect l="l" t="t" r="r" b="b"/>
              <a:pathLst>
                <a:path w="539" h="647">
                  <a:moveTo>
                    <a:pt x="391" y="638"/>
                  </a:moveTo>
                  <a:lnTo>
                    <a:pt x="366" y="642"/>
                  </a:lnTo>
                  <a:lnTo>
                    <a:pt x="340" y="644"/>
                  </a:lnTo>
                  <a:lnTo>
                    <a:pt x="318" y="647"/>
                  </a:lnTo>
                  <a:lnTo>
                    <a:pt x="295" y="647"/>
                  </a:lnTo>
                  <a:lnTo>
                    <a:pt x="277" y="647"/>
                  </a:lnTo>
                  <a:lnTo>
                    <a:pt x="259" y="645"/>
                  </a:lnTo>
                  <a:lnTo>
                    <a:pt x="243" y="643"/>
                  </a:lnTo>
                  <a:lnTo>
                    <a:pt x="227" y="640"/>
                  </a:lnTo>
                  <a:lnTo>
                    <a:pt x="213" y="637"/>
                  </a:lnTo>
                  <a:lnTo>
                    <a:pt x="201" y="633"/>
                  </a:lnTo>
                  <a:lnTo>
                    <a:pt x="188" y="628"/>
                  </a:lnTo>
                  <a:lnTo>
                    <a:pt x="177" y="623"/>
                  </a:lnTo>
                  <a:lnTo>
                    <a:pt x="158" y="612"/>
                  </a:lnTo>
                  <a:lnTo>
                    <a:pt x="139" y="600"/>
                  </a:lnTo>
                  <a:lnTo>
                    <a:pt x="122" y="586"/>
                  </a:lnTo>
                  <a:lnTo>
                    <a:pt x="105" y="568"/>
                  </a:lnTo>
                  <a:lnTo>
                    <a:pt x="88" y="548"/>
                  </a:lnTo>
                  <a:lnTo>
                    <a:pt x="72" y="527"/>
                  </a:lnTo>
                  <a:lnTo>
                    <a:pt x="56" y="504"/>
                  </a:lnTo>
                  <a:lnTo>
                    <a:pt x="42" y="482"/>
                  </a:lnTo>
                  <a:lnTo>
                    <a:pt x="37" y="471"/>
                  </a:lnTo>
                  <a:lnTo>
                    <a:pt x="32" y="460"/>
                  </a:lnTo>
                  <a:lnTo>
                    <a:pt x="28" y="450"/>
                  </a:lnTo>
                  <a:lnTo>
                    <a:pt x="25" y="440"/>
                  </a:lnTo>
                  <a:lnTo>
                    <a:pt x="22" y="435"/>
                  </a:lnTo>
                  <a:lnTo>
                    <a:pt x="15" y="423"/>
                  </a:lnTo>
                  <a:lnTo>
                    <a:pt x="11" y="414"/>
                  </a:lnTo>
                  <a:lnTo>
                    <a:pt x="8" y="403"/>
                  </a:lnTo>
                  <a:lnTo>
                    <a:pt x="4" y="390"/>
                  </a:lnTo>
                  <a:lnTo>
                    <a:pt x="1" y="376"/>
                  </a:lnTo>
                  <a:lnTo>
                    <a:pt x="0" y="359"/>
                  </a:lnTo>
                  <a:lnTo>
                    <a:pt x="0" y="342"/>
                  </a:lnTo>
                  <a:lnTo>
                    <a:pt x="3" y="322"/>
                  </a:lnTo>
                  <a:lnTo>
                    <a:pt x="8" y="301"/>
                  </a:lnTo>
                  <a:lnTo>
                    <a:pt x="11" y="290"/>
                  </a:lnTo>
                  <a:lnTo>
                    <a:pt x="16" y="279"/>
                  </a:lnTo>
                  <a:lnTo>
                    <a:pt x="21" y="267"/>
                  </a:lnTo>
                  <a:lnTo>
                    <a:pt x="27" y="255"/>
                  </a:lnTo>
                  <a:lnTo>
                    <a:pt x="33" y="242"/>
                  </a:lnTo>
                  <a:lnTo>
                    <a:pt x="42" y="230"/>
                  </a:lnTo>
                  <a:lnTo>
                    <a:pt x="51" y="217"/>
                  </a:lnTo>
                  <a:lnTo>
                    <a:pt x="60" y="204"/>
                  </a:lnTo>
                  <a:lnTo>
                    <a:pt x="96" y="158"/>
                  </a:lnTo>
                  <a:lnTo>
                    <a:pt x="129" y="118"/>
                  </a:lnTo>
                  <a:lnTo>
                    <a:pt x="147" y="99"/>
                  </a:lnTo>
                  <a:lnTo>
                    <a:pt x="163" y="83"/>
                  </a:lnTo>
                  <a:lnTo>
                    <a:pt x="179" y="67"/>
                  </a:lnTo>
                  <a:lnTo>
                    <a:pt x="195" y="54"/>
                  </a:lnTo>
                  <a:lnTo>
                    <a:pt x="211" y="41"/>
                  </a:lnTo>
                  <a:lnTo>
                    <a:pt x="225" y="30"/>
                  </a:lnTo>
                  <a:lnTo>
                    <a:pt x="241" y="22"/>
                  </a:lnTo>
                  <a:lnTo>
                    <a:pt x="256" y="13"/>
                  </a:lnTo>
                  <a:lnTo>
                    <a:pt x="271" y="7"/>
                  </a:lnTo>
                  <a:lnTo>
                    <a:pt x="286" y="3"/>
                  </a:lnTo>
                  <a:lnTo>
                    <a:pt x="302" y="1"/>
                  </a:lnTo>
                  <a:lnTo>
                    <a:pt x="316" y="0"/>
                  </a:lnTo>
                  <a:lnTo>
                    <a:pt x="329" y="1"/>
                  </a:lnTo>
                  <a:lnTo>
                    <a:pt x="342" y="2"/>
                  </a:lnTo>
                  <a:lnTo>
                    <a:pt x="358" y="5"/>
                  </a:lnTo>
                  <a:lnTo>
                    <a:pt x="375" y="8"/>
                  </a:lnTo>
                  <a:lnTo>
                    <a:pt x="394" y="13"/>
                  </a:lnTo>
                  <a:lnTo>
                    <a:pt x="411" y="19"/>
                  </a:lnTo>
                  <a:lnTo>
                    <a:pt x="430" y="25"/>
                  </a:lnTo>
                  <a:lnTo>
                    <a:pt x="448" y="33"/>
                  </a:lnTo>
                  <a:lnTo>
                    <a:pt x="465" y="40"/>
                  </a:lnTo>
                  <a:lnTo>
                    <a:pt x="481" y="49"/>
                  </a:lnTo>
                  <a:lnTo>
                    <a:pt x="496" y="57"/>
                  </a:lnTo>
                  <a:lnTo>
                    <a:pt x="508" y="66"/>
                  </a:lnTo>
                  <a:lnTo>
                    <a:pt x="519" y="76"/>
                  </a:lnTo>
                  <a:lnTo>
                    <a:pt x="527" y="86"/>
                  </a:lnTo>
                  <a:lnTo>
                    <a:pt x="530" y="91"/>
                  </a:lnTo>
                  <a:lnTo>
                    <a:pt x="532" y="96"/>
                  </a:lnTo>
                  <a:lnTo>
                    <a:pt x="533" y="100"/>
                  </a:lnTo>
                  <a:lnTo>
                    <a:pt x="533" y="105"/>
                  </a:lnTo>
                  <a:lnTo>
                    <a:pt x="532" y="130"/>
                  </a:lnTo>
                  <a:lnTo>
                    <a:pt x="530" y="153"/>
                  </a:lnTo>
                  <a:lnTo>
                    <a:pt x="528" y="173"/>
                  </a:lnTo>
                  <a:lnTo>
                    <a:pt x="526" y="191"/>
                  </a:lnTo>
                  <a:lnTo>
                    <a:pt x="523" y="207"/>
                  </a:lnTo>
                  <a:lnTo>
                    <a:pt x="519" y="221"/>
                  </a:lnTo>
                  <a:lnTo>
                    <a:pt x="514" y="233"/>
                  </a:lnTo>
                  <a:lnTo>
                    <a:pt x="511" y="243"/>
                  </a:lnTo>
                  <a:lnTo>
                    <a:pt x="506" y="252"/>
                  </a:lnTo>
                  <a:lnTo>
                    <a:pt x="501" y="259"/>
                  </a:lnTo>
                  <a:lnTo>
                    <a:pt x="495" y="264"/>
                  </a:lnTo>
                  <a:lnTo>
                    <a:pt x="490" y="268"/>
                  </a:lnTo>
                  <a:lnTo>
                    <a:pt x="484" y="271"/>
                  </a:lnTo>
                  <a:lnTo>
                    <a:pt x="478" y="273"/>
                  </a:lnTo>
                  <a:lnTo>
                    <a:pt x="471" y="274"/>
                  </a:lnTo>
                  <a:lnTo>
                    <a:pt x="465" y="274"/>
                  </a:lnTo>
                  <a:lnTo>
                    <a:pt x="452" y="271"/>
                  </a:lnTo>
                  <a:lnTo>
                    <a:pt x="438" y="268"/>
                  </a:lnTo>
                  <a:lnTo>
                    <a:pt x="426" y="262"/>
                  </a:lnTo>
                  <a:lnTo>
                    <a:pt x="412" y="257"/>
                  </a:lnTo>
                  <a:lnTo>
                    <a:pt x="401" y="251"/>
                  </a:lnTo>
                  <a:lnTo>
                    <a:pt x="389" y="247"/>
                  </a:lnTo>
                  <a:lnTo>
                    <a:pt x="384" y="246"/>
                  </a:lnTo>
                  <a:lnTo>
                    <a:pt x="379" y="246"/>
                  </a:lnTo>
                  <a:lnTo>
                    <a:pt x="374" y="246"/>
                  </a:lnTo>
                  <a:lnTo>
                    <a:pt x="370" y="247"/>
                  </a:lnTo>
                  <a:lnTo>
                    <a:pt x="374" y="247"/>
                  </a:lnTo>
                  <a:lnTo>
                    <a:pt x="385" y="248"/>
                  </a:lnTo>
                  <a:lnTo>
                    <a:pt x="401" y="251"/>
                  </a:lnTo>
                  <a:lnTo>
                    <a:pt x="420" y="255"/>
                  </a:lnTo>
                  <a:lnTo>
                    <a:pt x="430" y="259"/>
                  </a:lnTo>
                  <a:lnTo>
                    <a:pt x="439" y="263"/>
                  </a:lnTo>
                  <a:lnTo>
                    <a:pt x="449" y="268"/>
                  </a:lnTo>
                  <a:lnTo>
                    <a:pt x="459" y="273"/>
                  </a:lnTo>
                  <a:lnTo>
                    <a:pt x="466" y="280"/>
                  </a:lnTo>
                  <a:lnTo>
                    <a:pt x="474" y="287"/>
                  </a:lnTo>
                  <a:lnTo>
                    <a:pt x="480" y="296"/>
                  </a:lnTo>
                  <a:lnTo>
                    <a:pt x="485" y="307"/>
                  </a:lnTo>
                  <a:lnTo>
                    <a:pt x="489" y="324"/>
                  </a:lnTo>
                  <a:lnTo>
                    <a:pt x="495" y="344"/>
                  </a:lnTo>
                  <a:lnTo>
                    <a:pt x="500" y="364"/>
                  </a:lnTo>
                  <a:lnTo>
                    <a:pt x="506" y="382"/>
                  </a:lnTo>
                  <a:lnTo>
                    <a:pt x="511" y="399"/>
                  </a:lnTo>
                  <a:lnTo>
                    <a:pt x="516" y="414"/>
                  </a:lnTo>
                  <a:lnTo>
                    <a:pt x="518" y="423"/>
                  </a:lnTo>
                  <a:lnTo>
                    <a:pt x="519" y="426"/>
                  </a:lnTo>
                  <a:lnTo>
                    <a:pt x="522" y="429"/>
                  </a:lnTo>
                  <a:lnTo>
                    <a:pt x="526" y="439"/>
                  </a:lnTo>
                  <a:lnTo>
                    <a:pt x="530" y="452"/>
                  </a:lnTo>
                  <a:lnTo>
                    <a:pt x="535" y="471"/>
                  </a:lnTo>
                  <a:lnTo>
                    <a:pt x="537" y="481"/>
                  </a:lnTo>
                  <a:lnTo>
                    <a:pt x="538" y="490"/>
                  </a:lnTo>
                  <a:lnTo>
                    <a:pt x="539" y="500"/>
                  </a:lnTo>
                  <a:lnTo>
                    <a:pt x="538" y="511"/>
                  </a:lnTo>
                  <a:lnTo>
                    <a:pt x="537" y="521"/>
                  </a:lnTo>
                  <a:lnTo>
                    <a:pt x="533" y="532"/>
                  </a:lnTo>
                  <a:lnTo>
                    <a:pt x="529" y="542"/>
                  </a:lnTo>
                  <a:lnTo>
                    <a:pt x="522" y="551"/>
                  </a:lnTo>
                  <a:lnTo>
                    <a:pt x="521" y="554"/>
                  </a:lnTo>
                  <a:lnTo>
                    <a:pt x="516" y="563"/>
                  </a:lnTo>
                  <a:lnTo>
                    <a:pt x="507" y="574"/>
                  </a:lnTo>
                  <a:lnTo>
                    <a:pt x="494" y="589"/>
                  </a:lnTo>
                  <a:lnTo>
                    <a:pt x="486" y="596"/>
                  </a:lnTo>
                  <a:lnTo>
                    <a:pt x="476" y="604"/>
                  </a:lnTo>
                  <a:lnTo>
                    <a:pt x="465" y="611"/>
                  </a:lnTo>
                  <a:lnTo>
                    <a:pt x="454" y="617"/>
                  </a:lnTo>
                  <a:lnTo>
                    <a:pt x="441" y="624"/>
                  </a:lnTo>
                  <a:lnTo>
                    <a:pt x="426" y="629"/>
                  </a:lnTo>
                  <a:lnTo>
                    <a:pt x="410" y="634"/>
                  </a:lnTo>
                  <a:lnTo>
                    <a:pt x="391" y="638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6810480" y="2122560"/>
              <a:ext cx="166680" cy="193680"/>
            </a:xfrm>
            <a:custGeom>
              <a:avLst/>
              <a:gdLst/>
              <a:ahLst/>
              <a:rect l="l" t="t" r="r" b="b"/>
              <a:pathLst>
                <a:path w="523" h="611">
                  <a:moveTo>
                    <a:pt x="291" y="0"/>
                  </a:moveTo>
                  <a:lnTo>
                    <a:pt x="302" y="0"/>
                  </a:lnTo>
                  <a:lnTo>
                    <a:pt x="315" y="1"/>
                  </a:lnTo>
                  <a:lnTo>
                    <a:pt x="330" y="3"/>
                  </a:lnTo>
                  <a:lnTo>
                    <a:pt x="346" y="7"/>
                  </a:lnTo>
                  <a:lnTo>
                    <a:pt x="363" y="11"/>
                  </a:lnTo>
                  <a:lnTo>
                    <a:pt x="380" y="16"/>
                  </a:lnTo>
                  <a:lnTo>
                    <a:pt x="399" y="21"/>
                  </a:lnTo>
                  <a:lnTo>
                    <a:pt x="417" y="27"/>
                  </a:lnTo>
                  <a:lnTo>
                    <a:pt x="435" y="34"/>
                  </a:lnTo>
                  <a:lnTo>
                    <a:pt x="451" y="42"/>
                  </a:lnTo>
                  <a:lnTo>
                    <a:pt x="465" y="50"/>
                  </a:lnTo>
                  <a:lnTo>
                    <a:pt x="479" y="59"/>
                  </a:lnTo>
                  <a:lnTo>
                    <a:pt x="490" y="69"/>
                  </a:lnTo>
                  <a:lnTo>
                    <a:pt x="500" y="78"/>
                  </a:lnTo>
                  <a:lnTo>
                    <a:pt x="502" y="83"/>
                  </a:lnTo>
                  <a:lnTo>
                    <a:pt x="506" y="90"/>
                  </a:lnTo>
                  <a:lnTo>
                    <a:pt x="507" y="94"/>
                  </a:lnTo>
                  <a:lnTo>
                    <a:pt x="508" y="99"/>
                  </a:lnTo>
                  <a:lnTo>
                    <a:pt x="508" y="123"/>
                  </a:lnTo>
                  <a:lnTo>
                    <a:pt x="507" y="142"/>
                  </a:lnTo>
                  <a:lnTo>
                    <a:pt x="506" y="161"/>
                  </a:lnTo>
                  <a:lnTo>
                    <a:pt x="505" y="177"/>
                  </a:lnTo>
                  <a:lnTo>
                    <a:pt x="501" y="192"/>
                  </a:lnTo>
                  <a:lnTo>
                    <a:pt x="499" y="204"/>
                  </a:lnTo>
                  <a:lnTo>
                    <a:pt x="494" y="215"/>
                  </a:lnTo>
                  <a:lnTo>
                    <a:pt x="490" y="225"/>
                  </a:lnTo>
                  <a:lnTo>
                    <a:pt x="485" y="232"/>
                  </a:lnTo>
                  <a:lnTo>
                    <a:pt x="480" y="238"/>
                  </a:lnTo>
                  <a:lnTo>
                    <a:pt x="474" y="245"/>
                  </a:lnTo>
                  <a:lnTo>
                    <a:pt x="468" y="248"/>
                  </a:lnTo>
                  <a:lnTo>
                    <a:pt x="462" y="251"/>
                  </a:lnTo>
                  <a:lnTo>
                    <a:pt x="454" y="253"/>
                  </a:lnTo>
                  <a:lnTo>
                    <a:pt x="448" y="254"/>
                  </a:lnTo>
                  <a:lnTo>
                    <a:pt x="441" y="254"/>
                  </a:lnTo>
                  <a:lnTo>
                    <a:pt x="426" y="253"/>
                  </a:lnTo>
                  <a:lnTo>
                    <a:pt x="411" y="249"/>
                  </a:lnTo>
                  <a:lnTo>
                    <a:pt x="398" y="246"/>
                  </a:lnTo>
                  <a:lnTo>
                    <a:pt x="383" y="241"/>
                  </a:lnTo>
                  <a:lnTo>
                    <a:pt x="369" y="237"/>
                  </a:lnTo>
                  <a:lnTo>
                    <a:pt x="357" y="233"/>
                  </a:lnTo>
                  <a:lnTo>
                    <a:pt x="351" y="233"/>
                  </a:lnTo>
                  <a:lnTo>
                    <a:pt x="346" y="233"/>
                  </a:lnTo>
                  <a:lnTo>
                    <a:pt x="341" y="235"/>
                  </a:lnTo>
                  <a:lnTo>
                    <a:pt x="337" y="236"/>
                  </a:lnTo>
                  <a:lnTo>
                    <a:pt x="341" y="235"/>
                  </a:lnTo>
                  <a:lnTo>
                    <a:pt x="353" y="235"/>
                  </a:lnTo>
                  <a:lnTo>
                    <a:pt x="371" y="235"/>
                  </a:lnTo>
                  <a:lnTo>
                    <a:pt x="392" y="237"/>
                  </a:lnTo>
                  <a:lnTo>
                    <a:pt x="401" y="240"/>
                  </a:lnTo>
                  <a:lnTo>
                    <a:pt x="412" y="242"/>
                  </a:lnTo>
                  <a:lnTo>
                    <a:pt x="424" y="247"/>
                  </a:lnTo>
                  <a:lnTo>
                    <a:pt x="435" y="252"/>
                  </a:lnTo>
                  <a:lnTo>
                    <a:pt x="444" y="258"/>
                  </a:lnTo>
                  <a:lnTo>
                    <a:pt x="453" y="267"/>
                  </a:lnTo>
                  <a:lnTo>
                    <a:pt x="460" y="277"/>
                  </a:lnTo>
                  <a:lnTo>
                    <a:pt x="468" y="288"/>
                  </a:lnTo>
                  <a:lnTo>
                    <a:pt x="474" y="306"/>
                  </a:lnTo>
                  <a:lnTo>
                    <a:pt x="481" y="326"/>
                  </a:lnTo>
                  <a:lnTo>
                    <a:pt x="488" y="345"/>
                  </a:lnTo>
                  <a:lnTo>
                    <a:pt x="492" y="364"/>
                  </a:lnTo>
                  <a:lnTo>
                    <a:pt x="496" y="381"/>
                  </a:lnTo>
                  <a:lnTo>
                    <a:pt x="500" y="395"/>
                  </a:lnTo>
                  <a:lnTo>
                    <a:pt x="502" y="403"/>
                  </a:lnTo>
                  <a:lnTo>
                    <a:pt x="502" y="407"/>
                  </a:lnTo>
                  <a:lnTo>
                    <a:pt x="505" y="409"/>
                  </a:lnTo>
                  <a:lnTo>
                    <a:pt x="508" y="418"/>
                  </a:lnTo>
                  <a:lnTo>
                    <a:pt x="513" y="430"/>
                  </a:lnTo>
                  <a:lnTo>
                    <a:pt x="518" y="446"/>
                  </a:lnTo>
                  <a:lnTo>
                    <a:pt x="521" y="455"/>
                  </a:lnTo>
                  <a:lnTo>
                    <a:pt x="522" y="463"/>
                  </a:lnTo>
                  <a:lnTo>
                    <a:pt x="523" y="473"/>
                  </a:lnTo>
                  <a:lnTo>
                    <a:pt x="522" y="482"/>
                  </a:lnTo>
                  <a:lnTo>
                    <a:pt x="521" y="492"/>
                  </a:lnTo>
                  <a:lnTo>
                    <a:pt x="518" y="500"/>
                  </a:lnTo>
                  <a:lnTo>
                    <a:pt x="513" y="510"/>
                  </a:lnTo>
                  <a:lnTo>
                    <a:pt x="508" y="519"/>
                  </a:lnTo>
                  <a:lnTo>
                    <a:pt x="507" y="521"/>
                  </a:lnTo>
                  <a:lnTo>
                    <a:pt x="504" y="529"/>
                  </a:lnTo>
                  <a:lnTo>
                    <a:pt x="496" y="540"/>
                  </a:lnTo>
                  <a:lnTo>
                    <a:pt x="485" y="553"/>
                  </a:lnTo>
                  <a:lnTo>
                    <a:pt x="478" y="561"/>
                  </a:lnTo>
                  <a:lnTo>
                    <a:pt x="469" y="568"/>
                  </a:lnTo>
                  <a:lnTo>
                    <a:pt x="459" y="574"/>
                  </a:lnTo>
                  <a:lnTo>
                    <a:pt x="448" y="582"/>
                  </a:lnTo>
                  <a:lnTo>
                    <a:pt x="436" y="588"/>
                  </a:lnTo>
                  <a:lnTo>
                    <a:pt x="422" y="594"/>
                  </a:lnTo>
                  <a:lnTo>
                    <a:pt x="406" y="599"/>
                  </a:lnTo>
                  <a:lnTo>
                    <a:pt x="389" y="602"/>
                  </a:lnTo>
                  <a:lnTo>
                    <a:pt x="364" y="606"/>
                  </a:lnTo>
                  <a:lnTo>
                    <a:pt x="341" y="609"/>
                  </a:lnTo>
                  <a:lnTo>
                    <a:pt x="319" y="610"/>
                  </a:lnTo>
                  <a:lnTo>
                    <a:pt x="298" y="611"/>
                  </a:lnTo>
                  <a:lnTo>
                    <a:pt x="280" y="610"/>
                  </a:lnTo>
                  <a:lnTo>
                    <a:pt x="261" y="610"/>
                  </a:lnTo>
                  <a:lnTo>
                    <a:pt x="244" y="607"/>
                  </a:lnTo>
                  <a:lnTo>
                    <a:pt x="229" y="605"/>
                  </a:lnTo>
                  <a:lnTo>
                    <a:pt x="214" y="602"/>
                  </a:lnTo>
                  <a:lnTo>
                    <a:pt x="201" y="599"/>
                  </a:lnTo>
                  <a:lnTo>
                    <a:pt x="187" y="594"/>
                  </a:lnTo>
                  <a:lnTo>
                    <a:pt x="176" y="589"/>
                  </a:lnTo>
                  <a:lnTo>
                    <a:pt x="154" y="579"/>
                  </a:lnTo>
                  <a:lnTo>
                    <a:pt x="136" y="567"/>
                  </a:lnTo>
                  <a:lnTo>
                    <a:pt x="120" y="553"/>
                  </a:lnTo>
                  <a:lnTo>
                    <a:pt x="102" y="537"/>
                  </a:lnTo>
                  <a:lnTo>
                    <a:pt x="85" y="519"/>
                  </a:lnTo>
                  <a:lnTo>
                    <a:pt x="69" y="499"/>
                  </a:lnTo>
                  <a:lnTo>
                    <a:pt x="54" y="479"/>
                  </a:lnTo>
                  <a:lnTo>
                    <a:pt x="42" y="459"/>
                  </a:lnTo>
                  <a:lnTo>
                    <a:pt x="36" y="447"/>
                  </a:lnTo>
                  <a:lnTo>
                    <a:pt x="31" y="438"/>
                  </a:lnTo>
                  <a:lnTo>
                    <a:pt x="27" y="428"/>
                  </a:lnTo>
                  <a:lnTo>
                    <a:pt x="25" y="418"/>
                  </a:lnTo>
                  <a:lnTo>
                    <a:pt x="21" y="414"/>
                  </a:lnTo>
                  <a:lnTo>
                    <a:pt x="15" y="402"/>
                  </a:lnTo>
                  <a:lnTo>
                    <a:pt x="11" y="393"/>
                  </a:lnTo>
                  <a:lnTo>
                    <a:pt x="8" y="382"/>
                  </a:lnTo>
                  <a:lnTo>
                    <a:pt x="4" y="370"/>
                  </a:lnTo>
                  <a:lnTo>
                    <a:pt x="2" y="356"/>
                  </a:lnTo>
                  <a:lnTo>
                    <a:pt x="0" y="340"/>
                  </a:lnTo>
                  <a:lnTo>
                    <a:pt x="2" y="322"/>
                  </a:lnTo>
                  <a:lnTo>
                    <a:pt x="4" y="304"/>
                  </a:lnTo>
                  <a:lnTo>
                    <a:pt x="9" y="283"/>
                  </a:lnTo>
                  <a:lnTo>
                    <a:pt x="16" y="261"/>
                  </a:lnTo>
                  <a:lnTo>
                    <a:pt x="27" y="236"/>
                  </a:lnTo>
                  <a:lnTo>
                    <a:pt x="34" y="224"/>
                  </a:lnTo>
                  <a:lnTo>
                    <a:pt x="42" y="211"/>
                  </a:lnTo>
                  <a:lnTo>
                    <a:pt x="51" y="198"/>
                  </a:lnTo>
                  <a:lnTo>
                    <a:pt x="59" y="184"/>
                  </a:lnTo>
                  <a:lnTo>
                    <a:pt x="91" y="144"/>
                  </a:lnTo>
                  <a:lnTo>
                    <a:pt x="122" y="108"/>
                  </a:lnTo>
                  <a:lnTo>
                    <a:pt x="137" y="91"/>
                  </a:lnTo>
                  <a:lnTo>
                    <a:pt x="152" y="76"/>
                  </a:lnTo>
                  <a:lnTo>
                    <a:pt x="166" y="62"/>
                  </a:lnTo>
                  <a:lnTo>
                    <a:pt x="180" y="50"/>
                  </a:lnTo>
                  <a:lnTo>
                    <a:pt x="195" y="39"/>
                  </a:lnTo>
                  <a:lnTo>
                    <a:pt x="208" y="29"/>
                  </a:lnTo>
                  <a:lnTo>
                    <a:pt x="222" y="21"/>
                  </a:lnTo>
                  <a:lnTo>
                    <a:pt x="237" y="13"/>
                  </a:lnTo>
                  <a:lnTo>
                    <a:pt x="250" y="7"/>
                  </a:lnTo>
                  <a:lnTo>
                    <a:pt x="264" y="3"/>
                  </a:lnTo>
                  <a:lnTo>
                    <a:pt x="277" y="1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14f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811920" y="2130480"/>
              <a:ext cx="162000" cy="182520"/>
            </a:xfrm>
            <a:custGeom>
              <a:avLst/>
              <a:gdLst/>
              <a:ahLst/>
              <a:rect l="l" t="t" r="r" b="b"/>
              <a:pathLst>
                <a:path w="510" h="575">
                  <a:moveTo>
                    <a:pt x="264" y="1"/>
                  </a:moveTo>
                  <a:lnTo>
                    <a:pt x="275" y="0"/>
                  </a:lnTo>
                  <a:lnTo>
                    <a:pt x="287" y="1"/>
                  </a:lnTo>
                  <a:lnTo>
                    <a:pt x="302" y="3"/>
                  </a:lnTo>
                  <a:lnTo>
                    <a:pt x="318" y="5"/>
                  </a:lnTo>
                  <a:lnTo>
                    <a:pt x="334" y="8"/>
                  </a:lnTo>
                  <a:lnTo>
                    <a:pt x="352" y="11"/>
                  </a:lnTo>
                  <a:lnTo>
                    <a:pt x="369" y="16"/>
                  </a:lnTo>
                  <a:lnTo>
                    <a:pt x="388" y="21"/>
                  </a:lnTo>
                  <a:lnTo>
                    <a:pt x="405" y="27"/>
                  </a:lnTo>
                  <a:lnTo>
                    <a:pt x="421" y="35"/>
                  </a:lnTo>
                  <a:lnTo>
                    <a:pt x="437" y="42"/>
                  </a:lnTo>
                  <a:lnTo>
                    <a:pt x="451" y="51"/>
                  </a:lnTo>
                  <a:lnTo>
                    <a:pt x="463" y="60"/>
                  </a:lnTo>
                  <a:lnTo>
                    <a:pt x="473" y="70"/>
                  </a:lnTo>
                  <a:lnTo>
                    <a:pt x="476" y="76"/>
                  </a:lnTo>
                  <a:lnTo>
                    <a:pt x="480" y="81"/>
                  </a:lnTo>
                  <a:lnTo>
                    <a:pt x="483" y="87"/>
                  </a:lnTo>
                  <a:lnTo>
                    <a:pt x="484" y="94"/>
                  </a:lnTo>
                  <a:lnTo>
                    <a:pt x="485" y="113"/>
                  </a:lnTo>
                  <a:lnTo>
                    <a:pt x="486" y="131"/>
                  </a:lnTo>
                  <a:lnTo>
                    <a:pt x="485" y="148"/>
                  </a:lnTo>
                  <a:lnTo>
                    <a:pt x="484" y="161"/>
                  </a:lnTo>
                  <a:lnTo>
                    <a:pt x="481" y="175"/>
                  </a:lnTo>
                  <a:lnTo>
                    <a:pt x="479" y="186"/>
                  </a:lnTo>
                  <a:lnTo>
                    <a:pt x="475" y="196"/>
                  </a:lnTo>
                  <a:lnTo>
                    <a:pt x="470" y="204"/>
                  </a:lnTo>
                  <a:lnTo>
                    <a:pt x="465" y="212"/>
                  </a:lnTo>
                  <a:lnTo>
                    <a:pt x="459" y="218"/>
                  </a:lnTo>
                  <a:lnTo>
                    <a:pt x="454" y="222"/>
                  </a:lnTo>
                  <a:lnTo>
                    <a:pt x="447" y="226"/>
                  </a:lnTo>
                  <a:lnTo>
                    <a:pt x="441" y="229"/>
                  </a:lnTo>
                  <a:lnTo>
                    <a:pt x="433" y="231"/>
                  </a:lnTo>
                  <a:lnTo>
                    <a:pt x="426" y="233"/>
                  </a:lnTo>
                  <a:lnTo>
                    <a:pt x="417" y="233"/>
                  </a:lnTo>
                  <a:lnTo>
                    <a:pt x="401" y="233"/>
                  </a:lnTo>
                  <a:lnTo>
                    <a:pt x="385" y="230"/>
                  </a:lnTo>
                  <a:lnTo>
                    <a:pt x="368" y="228"/>
                  </a:lnTo>
                  <a:lnTo>
                    <a:pt x="353" y="224"/>
                  </a:lnTo>
                  <a:lnTo>
                    <a:pt x="337" y="222"/>
                  </a:lnTo>
                  <a:lnTo>
                    <a:pt x="324" y="220"/>
                  </a:lnTo>
                  <a:lnTo>
                    <a:pt x="318" y="220"/>
                  </a:lnTo>
                  <a:lnTo>
                    <a:pt x="312" y="220"/>
                  </a:lnTo>
                  <a:lnTo>
                    <a:pt x="307" y="222"/>
                  </a:lnTo>
                  <a:lnTo>
                    <a:pt x="302" y="224"/>
                  </a:lnTo>
                  <a:lnTo>
                    <a:pt x="307" y="223"/>
                  </a:lnTo>
                  <a:lnTo>
                    <a:pt x="320" y="220"/>
                  </a:lnTo>
                  <a:lnTo>
                    <a:pt x="339" y="218"/>
                  </a:lnTo>
                  <a:lnTo>
                    <a:pt x="362" y="217"/>
                  </a:lnTo>
                  <a:lnTo>
                    <a:pt x="374" y="218"/>
                  </a:lnTo>
                  <a:lnTo>
                    <a:pt x="387" y="220"/>
                  </a:lnTo>
                  <a:lnTo>
                    <a:pt x="400" y="223"/>
                  </a:lnTo>
                  <a:lnTo>
                    <a:pt x="412" y="228"/>
                  </a:lnTo>
                  <a:lnTo>
                    <a:pt x="425" y="235"/>
                  </a:lnTo>
                  <a:lnTo>
                    <a:pt x="436" y="244"/>
                  </a:lnTo>
                  <a:lnTo>
                    <a:pt x="446" y="254"/>
                  </a:lnTo>
                  <a:lnTo>
                    <a:pt x="454" y="267"/>
                  </a:lnTo>
                  <a:lnTo>
                    <a:pt x="462" y="287"/>
                  </a:lnTo>
                  <a:lnTo>
                    <a:pt x="469" y="306"/>
                  </a:lnTo>
                  <a:lnTo>
                    <a:pt x="475" y="326"/>
                  </a:lnTo>
                  <a:lnTo>
                    <a:pt x="480" y="343"/>
                  </a:lnTo>
                  <a:lnTo>
                    <a:pt x="484" y="359"/>
                  </a:lnTo>
                  <a:lnTo>
                    <a:pt x="487" y="373"/>
                  </a:lnTo>
                  <a:lnTo>
                    <a:pt x="489" y="381"/>
                  </a:lnTo>
                  <a:lnTo>
                    <a:pt x="490" y="384"/>
                  </a:lnTo>
                  <a:lnTo>
                    <a:pt x="491" y="386"/>
                  </a:lnTo>
                  <a:lnTo>
                    <a:pt x="495" y="394"/>
                  </a:lnTo>
                  <a:lnTo>
                    <a:pt x="500" y="406"/>
                  </a:lnTo>
                  <a:lnTo>
                    <a:pt x="505" y="420"/>
                  </a:lnTo>
                  <a:lnTo>
                    <a:pt x="507" y="428"/>
                  </a:lnTo>
                  <a:lnTo>
                    <a:pt x="508" y="436"/>
                  </a:lnTo>
                  <a:lnTo>
                    <a:pt x="510" y="444"/>
                  </a:lnTo>
                  <a:lnTo>
                    <a:pt x="510" y="453"/>
                  </a:lnTo>
                  <a:lnTo>
                    <a:pt x="508" y="461"/>
                  </a:lnTo>
                  <a:lnTo>
                    <a:pt x="506" y="469"/>
                  </a:lnTo>
                  <a:lnTo>
                    <a:pt x="502" y="477"/>
                  </a:lnTo>
                  <a:lnTo>
                    <a:pt x="497" y="485"/>
                  </a:lnTo>
                  <a:lnTo>
                    <a:pt x="497" y="487"/>
                  </a:lnTo>
                  <a:lnTo>
                    <a:pt x="494" y="495"/>
                  </a:lnTo>
                  <a:lnTo>
                    <a:pt x="487" y="506"/>
                  </a:lnTo>
                  <a:lnTo>
                    <a:pt x="478" y="518"/>
                  </a:lnTo>
                  <a:lnTo>
                    <a:pt x="471" y="525"/>
                  </a:lnTo>
                  <a:lnTo>
                    <a:pt x="463" y="531"/>
                  </a:lnTo>
                  <a:lnTo>
                    <a:pt x="454" y="539"/>
                  </a:lnTo>
                  <a:lnTo>
                    <a:pt x="444" y="545"/>
                  </a:lnTo>
                  <a:lnTo>
                    <a:pt x="432" y="551"/>
                  </a:lnTo>
                  <a:lnTo>
                    <a:pt x="419" y="557"/>
                  </a:lnTo>
                  <a:lnTo>
                    <a:pt x="404" y="562"/>
                  </a:lnTo>
                  <a:lnTo>
                    <a:pt x="387" y="566"/>
                  </a:lnTo>
                  <a:lnTo>
                    <a:pt x="364" y="570"/>
                  </a:lnTo>
                  <a:lnTo>
                    <a:pt x="344" y="572"/>
                  </a:lnTo>
                  <a:lnTo>
                    <a:pt x="323" y="575"/>
                  </a:lnTo>
                  <a:lnTo>
                    <a:pt x="303" y="575"/>
                  </a:lnTo>
                  <a:lnTo>
                    <a:pt x="284" y="575"/>
                  </a:lnTo>
                  <a:lnTo>
                    <a:pt x="266" y="575"/>
                  </a:lnTo>
                  <a:lnTo>
                    <a:pt x="249" y="573"/>
                  </a:lnTo>
                  <a:lnTo>
                    <a:pt x="233" y="571"/>
                  </a:lnTo>
                  <a:lnTo>
                    <a:pt x="217" y="568"/>
                  </a:lnTo>
                  <a:lnTo>
                    <a:pt x="202" y="565"/>
                  </a:lnTo>
                  <a:lnTo>
                    <a:pt x="188" y="561"/>
                  </a:lnTo>
                  <a:lnTo>
                    <a:pt x="176" y="556"/>
                  </a:lnTo>
                  <a:lnTo>
                    <a:pt x="164" y="551"/>
                  </a:lnTo>
                  <a:lnTo>
                    <a:pt x="153" y="546"/>
                  </a:lnTo>
                  <a:lnTo>
                    <a:pt x="143" y="540"/>
                  </a:lnTo>
                  <a:lnTo>
                    <a:pt x="133" y="533"/>
                  </a:lnTo>
                  <a:lnTo>
                    <a:pt x="116" y="520"/>
                  </a:lnTo>
                  <a:lnTo>
                    <a:pt x="99" y="506"/>
                  </a:lnTo>
                  <a:lnTo>
                    <a:pt x="83" y="488"/>
                  </a:lnTo>
                  <a:lnTo>
                    <a:pt x="67" y="471"/>
                  </a:lnTo>
                  <a:lnTo>
                    <a:pt x="53" y="453"/>
                  </a:lnTo>
                  <a:lnTo>
                    <a:pt x="41" y="433"/>
                  </a:lnTo>
                  <a:lnTo>
                    <a:pt x="36" y="424"/>
                  </a:lnTo>
                  <a:lnTo>
                    <a:pt x="32" y="415"/>
                  </a:lnTo>
                  <a:lnTo>
                    <a:pt x="29" y="405"/>
                  </a:lnTo>
                  <a:lnTo>
                    <a:pt x="25" y="395"/>
                  </a:lnTo>
                  <a:lnTo>
                    <a:pt x="22" y="391"/>
                  </a:lnTo>
                  <a:lnTo>
                    <a:pt x="15" y="379"/>
                  </a:lnTo>
                  <a:lnTo>
                    <a:pt x="11" y="370"/>
                  </a:lnTo>
                  <a:lnTo>
                    <a:pt x="8" y="361"/>
                  </a:lnTo>
                  <a:lnTo>
                    <a:pt x="4" y="348"/>
                  </a:lnTo>
                  <a:lnTo>
                    <a:pt x="1" y="335"/>
                  </a:lnTo>
                  <a:lnTo>
                    <a:pt x="0" y="319"/>
                  </a:lnTo>
                  <a:lnTo>
                    <a:pt x="1" y="301"/>
                  </a:lnTo>
                  <a:lnTo>
                    <a:pt x="4" y="283"/>
                  </a:lnTo>
                  <a:lnTo>
                    <a:pt x="9" y="263"/>
                  </a:lnTo>
                  <a:lnTo>
                    <a:pt x="16" y="241"/>
                  </a:lnTo>
                  <a:lnTo>
                    <a:pt x="27" y="218"/>
                  </a:lnTo>
                  <a:lnTo>
                    <a:pt x="35" y="206"/>
                  </a:lnTo>
                  <a:lnTo>
                    <a:pt x="42" y="193"/>
                  </a:lnTo>
                  <a:lnTo>
                    <a:pt x="51" y="180"/>
                  </a:lnTo>
                  <a:lnTo>
                    <a:pt x="61" y="166"/>
                  </a:lnTo>
                  <a:lnTo>
                    <a:pt x="89" y="129"/>
                  </a:lnTo>
                  <a:lnTo>
                    <a:pt x="116" y="96"/>
                  </a:lnTo>
                  <a:lnTo>
                    <a:pt x="129" y="81"/>
                  </a:lnTo>
                  <a:lnTo>
                    <a:pt x="142" y="68"/>
                  </a:lnTo>
                  <a:lnTo>
                    <a:pt x="154" y="55"/>
                  </a:lnTo>
                  <a:lnTo>
                    <a:pt x="166" y="44"/>
                  </a:lnTo>
                  <a:lnTo>
                    <a:pt x="179" y="35"/>
                  </a:lnTo>
                  <a:lnTo>
                    <a:pt x="191" y="26"/>
                  </a:lnTo>
                  <a:lnTo>
                    <a:pt x="202" y="19"/>
                  </a:lnTo>
                  <a:lnTo>
                    <a:pt x="214" y="12"/>
                  </a:lnTo>
                  <a:lnTo>
                    <a:pt x="227" y="8"/>
                  </a:lnTo>
                  <a:lnTo>
                    <a:pt x="239" y="4"/>
                  </a:lnTo>
                  <a:lnTo>
                    <a:pt x="251" y="3"/>
                  </a:lnTo>
                  <a:lnTo>
                    <a:pt x="264" y="1"/>
                  </a:lnTo>
                  <a:close/>
                </a:path>
              </a:pathLst>
            </a:custGeom>
            <a:solidFill>
              <a:srgbClr val="5e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15160" y="2138400"/>
              <a:ext cx="155520" cy="169920"/>
            </a:xfrm>
            <a:custGeom>
              <a:avLst/>
              <a:gdLst/>
              <a:ahLst/>
              <a:rect l="l" t="t" r="r" b="b"/>
              <a:pathLst>
                <a:path w="492" h="537">
                  <a:moveTo>
                    <a:pt x="235" y="0"/>
                  </a:moveTo>
                  <a:lnTo>
                    <a:pt x="257" y="0"/>
                  </a:lnTo>
                  <a:lnTo>
                    <a:pt x="285" y="2"/>
                  </a:lnTo>
                  <a:lnTo>
                    <a:pt x="302" y="5"/>
                  </a:lnTo>
                  <a:lnTo>
                    <a:pt x="320" y="7"/>
                  </a:lnTo>
                  <a:lnTo>
                    <a:pt x="337" y="11"/>
                  </a:lnTo>
                  <a:lnTo>
                    <a:pt x="355" y="14"/>
                  </a:lnTo>
                  <a:lnTo>
                    <a:pt x="372" y="19"/>
                  </a:lnTo>
                  <a:lnTo>
                    <a:pt x="390" y="26"/>
                  </a:lnTo>
                  <a:lnTo>
                    <a:pt x="406" y="32"/>
                  </a:lnTo>
                  <a:lnTo>
                    <a:pt x="419" y="40"/>
                  </a:lnTo>
                  <a:lnTo>
                    <a:pt x="433" y="49"/>
                  </a:lnTo>
                  <a:lnTo>
                    <a:pt x="444" y="59"/>
                  </a:lnTo>
                  <a:lnTo>
                    <a:pt x="447" y="64"/>
                  </a:lnTo>
                  <a:lnTo>
                    <a:pt x="451" y="70"/>
                  </a:lnTo>
                  <a:lnTo>
                    <a:pt x="455" y="76"/>
                  </a:lnTo>
                  <a:lnTo>
                    <a:pt x="457" y="82"/>
                  </a:lnTo>
                  <a:lnTo>
                    <a:pt x="460" y="99"/>
                  </a:lnTo>
                  <a:lnTo>
                    <a:pt x="461" y="115"/>
                  </a:lnTo>
                  <a:lnTo>
                    <a:pt x="461" y="129"/>
                  </a:lnTo>
                  <a:lnTo>
                    <a:pt x="460" y="142"/>
                  </a:lnTo>
                  <a:lnTo>
                    <a:pt x="459" y="153"/>
                  </a:lnTo>
                  <a:lnTo>
                    <a:pt x="456" y="163"/>
                  </a:lnTo>
                  <a:lnTo>
                    <a:pt x="452" y="173"/>
                  </a:lnTo>
                  <a:lnTo>
                    <a:pt x="447" y="181"/>
                  </a:lnTo>
                  <a:lnTo>
                    <a:pt x="443" y="187"/>
                  </a:lnTo>
                  <a:lnTo>
                    <a:pt x="436" y="193"/>
                  </a:lnTo>
                  <a:lnTo>
                    <a:pt x="430" y="198"/>
                  </a:lnTo>
                  <a:lnTo>
                    <a:pt x="424" y="201"/>
                  </a:lnTo>
                  <a:lnTo>
                    <a:pt x="417" y="204"/>
                  </a:lnTo>
                  <a:lnTo>
                    <a:pt x="408" y="206"/>
                  </a:lnTo>
                  <a:lnTo>
                    <a:pt x="401" y="208"/>
                  </a:lnTo>
                  <a:lnTo>
                    <a:pt x="392" y="209"/>
                  </a:lnTo>
                  <a:lnTo>
                    <a:pt x="374" y="209"/>
                  </a:lnTo>
                  <a:lnTo>
                    <a:pt x="356" y="209"/>
                  </a:lnTo>
                  <a:lnTo>
                    <a:pt x="338" y="208"/>
                  </a:lnTo>
                  <a:lnTo>
                    <a:pt x="321" y="205"/>
                  </a:lnTo>
                  <a:lnTo>
                    <a:pt x="305" y="204"/>
                  </a:lnTo>
                  <a:lnTo>
                    <a:pt x="290" y="204"/>
                  </a:lnTo>
                  <a:lnTo>
                    <a:pt x="283" y="205"/>
                  </a:lnTo>
                  <a:lnTo>
                    <a:pt x="278" y="205"/>
                  </a:lnTo>
                  <a:lnTo>
                    <a:pt x="272" y="208"/>
                  </a:lnTo>
                  <a:lnTo>
                    <a:pt x="267" y="210"/>
                  </a:lnTo>
                  <a:lnTo>
                    <a:pt x="272" y="208"/>
                  </a:lnTo>
                  <a:lnTo>
                    <a:pt x="286" y="203"/>
                  </a:lnTo>
                  <a:lnTo>
                    <a:pt x="295" y="200"/>
                  </a:lnTo>
                  <a:lnTo>
                    <a:pt x="306" y="199"/>
                  </a:lnTo>
                  <a:lnTo>
                    <a:pt x="318" y="197"/>
                  </a:lnTo>
                  <a:lnTo>
                    <a:pt x="331" y="195"/>
                  </a:lnTo>
                  <a:lnTo>
                    <a:pt x="344" y="195"/>
                  </a:lnTo>
                  <a:lnTo>
                    <a:pt x="358" y="197"/>
                  </a:lnTo>
                  <a:lnTo>
                    <a:pt x="372" y="199"/>
                  </a:lnTo>
                  <a:lnTo>
                    <a:pt x="386" y="204"/>
                  </a:lnTo>
                  <a:lnTo>
                    <a:pt x="399" y="210"/>
                  </a:lnTo>
                  <a:lnTo>
                    <a:pt x="413" y="219"/>
                  </a:lnTo>
                  <a:lnTo>
                    <a:pt x="419" y="225"/>
                  </a:lnTo>
                  <a:lnTo>
                    <a:pt x="424" y="231"/>
                  </a:lnTo>
                  <a:lnTo>
                    <a:pt x="430" y="237"/>
                  </a:lnTo>
                  <a:lnTo>
                    <a:pt x="435" y="244"/>
                  </a:lnTo>
                  <a:lnTo>
                    <a:pt x="446" y="264"/>
                  </a:lnTo>
                  <a:lnTo>
                    <a:pt x="454" y="284"/>
                  </a:lnTo>
                  <a:lnTo>
                    <a:pt x="461" y="304"/>
                  </a:lnTo>
                  <a:lnTo>
                    <a:pt x="466" y="321"/>
                  </a:lnTo>
                  <a:lnTo>
                    <a:pt x="470" y="337"/>
                  </a:lnTo>
                  <a:lnTo>
                    <a:pt x="472" y="348"/>
                  </a:lnTo>
                  <a:lnTo>
                    <a:pt x="473" y="356"/>
                  </a:lnTo>
                  <a:lnTo>
                    <a:pt x="473" y="359"/>
                  </a:lnTo>
                  <a:lnTo>
                    <a:pt x="475" y="361"/>
                  </a:lnTo>
                  <a:lnTo>
                    <a:pt x="478" y="369"/>
                  </a:lnTo>
                  <a:lnTo>
                    <a:pt x="483" y="380"/>
                  </a:lnTo>
                  <a:lnTo>
                    <a:pt x="488" y="392"/>
                  </a:lnTo>
                  <a:lnTo>
                    <a:pt x="491" y="407"/>
                  </a:lnTo>
                  <a:lnTo>
                    <a:pt x="492" y="422"/>
                  </a:lnTo>
                  <a:lnTo>
                    <a:pt x="491" y="429"/>
                  </a:lnTo>
                  <a:lnTo>
                    <a:pt x="489" y="436"/>
                  </a:lnTo>
                  <a:lnTo>
                    <a:pt x="486" y="443"/>
                  </a:lnTo>
                  <a:lnTo>
                    <a:pt x="482" y="449"/>
                  </a:lnTo>
                  <a:lnTo>
                    <a:pt x="481" y="451"/>
                  </a:lnTo>
                  <a:lnTo>
                    <a:pt x="479" y="457"/>
                  </a:lnTo>
                  <a:lnTo>
                    <a:pt x="475" y="467"/>
                  </a:lnTo>
                  <a:lnTo>
                    <a:pt x="467" y="479"/>
                  </a:lnTo>
                  <a:lnTo>
                    <a:pt x="461" y="487"/>
                  </a:lnTo>
                  <a:lnTo>
                    <a:pt x="454" y="493"/>
                  </a:lnTo>
                  <a:lnTo>
                    <a:pt x="446" y="499"/>
                  </a:lnTo>
                  <a:lnTo>
                    <a:pt x="436" y="505"/>
                  </a:lnTo>
                  <a:lnTo>
                    <a:pt x="424" y="511"/>
                  </a:lnTo>
                  <a:lnTo>
                    <a:pt x="411" y="518"/>
                  </a:lnTo>
                  <a:lnTo>
                    <a:pt x="396" y="522"/>
                  </a:lnTo>
                  <a:lnTo>
                    <a:pt x="379" y="527"/>
                  </a:lnTo>
                  <a:lnTo>
                    <a:pt x="359" y="531"/>
                  </a:lnTo>
                  <a:lnTo>
                    <a:pt x="340" y="534"/>
                  </a:lnTo>
                  <a:lnTo>
                    <a:pt x="321" y="536"/>
                  </a:lnTo>
                  <a:lnTo>
                    <a:pt x="302" y="537"/>
                  </a:lnTo>
                  <a:lnTo>
                    <a:pt x="284" y="537"/>
                  </a:lnTo>
                  <a:lnTo>
                    <a:pt x="267" y="537"/>
                  </a:lnTo>
                  <a:lnTo>
                    <a:pt x="248" y="536"/>
                  </a:lnTo>
                  <a:lnTo>
                    <a:pt x="232" y="534"/>
                  </a:lnTo>
                  <a:lnTo>
                    <a:pt x="216" y="532"/>
                  </a:lnTo>
                  <a:lnTo>
                    <a:pt x="200" y="529"/>
                  </a:lnTo>
                  <a:lnTo>
                    <a:pt x="187" y="525"/>
                  </a:lnTo>
                  <a:lnTo>
                    <a:pt x="172" y="521"/>
                  </a:lnTo>
                  <a:lnTo>
                    <a:pt x="160" y="516"/>
                  </a:lnTo>
                  <a:lnTo>
                    <a:pt x="149" y="511"/>
                  </a:lnTo>
                  <a:lnTo>
                    <a:pt x="137" y="506"/>
                  </a:lnTo>
                  <a:lnTo>
                    <a:pt x="129" y="500"/>
                  </a:lnTo>
                  <a:lnTo>
                    <a:pt x="112" y="487"/>
                  </a:lnTo>
                  <a:lnTo>
                    <a:pt x="94" y="473"/>
                  </a:lnTo>
                  <a:lnTo>
                    <a:pt x="78" y="459"/>
                  </a:lnTo>
                  <a:lnTo>
                    <a:pt x="64" y="443"/>
                  </a:lnTo>
                  <a:lnTo>
                    <a:pt x="50" y="425"/>
                  </a:lnTo>
                  <a:lnTo>
                    <a:pt x="38" y="407"/>
                  </a:lnTo>
                  <a:lnTo>
                    <a:pt x="33" y="398"/>
                  </a:lnTo>
                  <a:lnTo>
                    <a:pt x="29" y="388"/>
                  </a:lnTo>
                  <a:lnTo>
                    <a:pt x="25" y="380"/>
                  </a:lnTo>
                  <a:lnTo>
                    <a:pt x="23" y="370"/>
                  </a:lnTo>
                  <a:lnTo>
                    <a:pt x="19" y="366"/>
                  </a:lnTo>
                  <a:lnTo>
                    <a:pt x="13" y="355"/>
                  </a:lnTo>
                  <a:lnTo>
                    <a:pt x="9" y="347"/>
                  </a:lnTo>
                  <a:lnTo>
                    <a:pt x="6" y="337"/>
                  </a:lnTo>
                  <a:lnTo>
                    <a:pt x="3" y="326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3" y="262"/>
                  </a:lnTo>
                  <a:lnTo>
                    <a:pt x="8" y="241"/>
                  </a:lnTo>
                  <a:lnTo>
                    <a:pt x="17" y="220"/>
                  </a:lnTo>
                  <a:lnTo>
                    <a:pt x="28" y="197"/>
                  </a:lnTo>
                  <a:lnTo>
                    <a:pt x="43" y="171"/>
                  </a:lnTo>
                  <a:lnTo>
                    <a:pt x="60" y="145"/>
                  </a:lnTo>
                  <a:lnTo>
                    <a:pt x="85" y="110"/>
                  </a:lnTo>
                  <a:lnTo>
                    <a:pt x="107" y="82"/>
                  </a:lnTo>
                  <a:lnTo>
                    <a:pt x="118" y="70"/>
                  </a:lnTo>
                  <a:lnTo>
                    <a:pt x="129" y="58"/>
                  </a:lnTo>
                  <a:lnTo>
                    <a:pt x="139" y="48"/>
                  </a:lnTo>
                  <a:lnTo>
                    <a:pt x="150" y="38"/>
                  </a:lnTo>
                  <a:lnTo>
                    <a:pt x="160" y="29"/>
                  </a:lnTo>
                  <a:lnTo>
                    <a:pt x="171" y="22"/>
                  </a:lnTo>
                  <a:lnTo>
                    <a:pt x="180" y="16"/>
                  </a:lnTo>
                  <a:lnTo>
                    <a:pt x="192" y="11"/>
                  </a:lnTo>
                  <a:lnTo>
                    <a:pt x="201" y="6"/>
                  </a:lnTo>
                  <a:lnTo>
                    <a:pt x="212" y="3"/>
                  </a:lnTo>
                  <a:lnTo>
                    <a:pt x="224" y="1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5e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816600" y="2144880"/>
              <a:ext cx="150840" cy="158760"/>
            </a:xfrm>
            <a:custGeom>
              <a:avLst/>
              <a:gdLst/>
              <a:ahLst/>
              <a:rect l="l" t="t" r="r" b="b"/>
              <a:pathLst>
                <a:path w="477" h="499">
                  <a:moveTo>
                    <a:pt x="209" y="1"/>
                  </a:moveTo>
                  <a:lnTo>
                    <a:pt x="230" y="0"/>
                  </a:lnTo>
                  <a:lnTo>
                    <a:pt x="257" y="0"/>
                  </a:lnTo>
                  <a:lnTo>
                    <a:pt x="273" y="1"/>
                  </a:lnTo>
                  <a:lnTo>
                    <a:pt x="290" y="3"/>
                  </a:lnTo>
                  <a:lnTo>
                    <a:pt x="307" y="5"/>
                  </a:lnTo>
                  <a:lnTo>
                    <a:pt x="325" y="7"/>
                  </a:lnTo>
                  <a:lnTo>
                    <a:pt x="342" y="12"/>
                  </a:lnTo>
                  <a:lnTo>
                    <a:pt x="359" y="17"/>
                  </a:lnTo>
                  <a:lnTo>
                    <a:pt x="375" y="23"/>
                  </a:lnTo>
                  <a:lnTo>
                    <a:pt x="390" y="31"/>
                  </a:lnTo>
                  <a:lnTo>
                    <a:pt x="402" y="39"/>
                  </a:lnTo>
                  <a:lnTo>
                    <a:pt x="414" y="49"/>
                  </a:lnTo>
                  <a:lnTo>
                    <a:pt x="419" y="55"/>
                  </a:lnTo>
                  <a:lnTo>
                    <a:pt x="423" y="62"/>
                  </a:lnTo>
                  <a:lnTo>
                    <a:pt x="427" y="68"/>
                  </a:lnTo>
                  <a:lnTo>
                    <a:pt x="429" y="75"/>
                  </a:lnTo>
                  <a:lnTo>
                    <a:pt x="433" y="90"/>
                  </a:lnTo>
                  <a:lnTo>
                    <a:pt x="435" y="103"/>
                  </a:lnTo>
                  <a:lnTo>
                    <a:pt x="437" y="116"/>
                  </a:lnTo>
                  <a:lnTo>
                    <a:pt x="437" y="128"/>
                  </a:lnTo>
                  <a:lnTo>
                    <a:pt x="435" y="138"/>
                  </a:lnTo>
                  <a:lnTo>
                    <a:pt x="434" y="146"/>
                  </a:lnTo>
                  <a:lnTo>
                    <a:pt x="430" y="154"/>
                  </a:lnTo>
                  <a:lnTo>
                    <a:pt x="425" y="161"/>
                  </a:lnTo>
                  <a:lnTo>
                    <a:pt x="421" y="167"/>
                  </a:lnTo>
                  <a:lnTo>
                    <a:pt x="416" y="172"/>
                  </a:lnTo>
                  <a:lnTo>
                    <a:pt x="408" y="176"/>
                  </a:lnTo>
                  <a:lnTo>
                    <a:pt x="401" y="180"/>
                  </a:lnTo>
                  <a:lnTo>
                    <a:pt x="393" y="183"/>
                  </a:lnTo>
                  <a:lnTo>
                    <a:pt x="385" y="185"/>
                  </a:lnTo>
                  <a:lnTo>
                    <a:pt x="376" y="187"/>
                  </a:lnTo>
                  <a:lnTo>
                    <a:pt x="368" y="188"/>
                  </a:lnTo>
                  <a:lnTo>
                    <a:pt x="330" y="190"/>
                  </a:lnTo>
                  <a:lnTo>
                    <a:pt x="291" y="190"/>
                  </a:lnTo>
                  <a:lnTo>
                    <a:pt x="273" y="190"/>
                  </a:lnTo>
                  <a:lnTo>
                    <a:pt x="257" y="191"/>
                  </a:lnTo>
                  <a:lnTo>
                    <a:pt x="251" y="192"/>
                  </a:lnTo>
                  <a:lnTo>
                    <a:pt x="245" y="193"/>
                  </a:lnTo>
                  <a:lnTo>
                    <a:pt x="238" y="194"/>
                  </a:lnTo>
                  <a:lnTo>
                    <a:pt x="234" y="197"/>
                  </a:lnTo>
                  <a:lnTo>
                    <a:pt x="240" y="194"/>
                  </a:lnTo>
                  <a:lnTo>
                    <a:pt x="253" y="188"/>
                  </a:lnTo>
                  <a:lnTo>
                    <a:pt x="263" y="185"/>
                  </a:lnTo>
                  <a:lnTo>
                    <a:pt x="275" y="181"/>
                  </a:lnTo>
                  <a:lnTo>
                    <a:pt x="288" y="177"/>
                  </a:lnTo>
                  <a:lnTo>
                    <a:pt x="302" y="175"/>
                  </a:lnTo>
                  <a:lnTo>
                    <a:pt x="317" y="174"/>
                  </a:lnTo>
                  <a:lnTo>
                    <a:pt x="332" y="174"/>
                  </a:lnTo>
                  <a:lnTo>
                    <a:pt x="348" y="176"/>
                  </a:lnTo>
                  <a:lnTo>
                    <a:pt x="364" y="180"/>
                  </a:lnTo>
                  <a:lnTo>
                    <a:pt x="371" y="183"/>
                  </a:lnTo>
                  <a:lnTo>
                    <a:pt x="379" y="187"/>
                  </a:lnTo>
                  <a:lnTo>
                    <a:pt x="386" y="191"/>
                  </a:lnTo>
                  <a:lnTo>
                    <a:pt x="393" y="196"/>
                  </a:lnTo>
                  <a:lnTo>
                    <a:pt x="401" y="202"/>
                  </a:lnTo>
                  <a:lnTo>
                    <a:pt x="408" y="208"/>
                  </a:lnTo>
                  <a:lnTo>
                    <a:pt x="414" y="217"/>
                  </a:lnTo>
                  <a:lnTo>
                    <a:pt x="422" y="224"/>
                  </a:lnTo>
                  <a:lnTo>
                    <a:pt x="433" y="245"/>
                  </a:lnTo>
                  <a:lnTo>
                    <a:pt x="443" y="266"/>
                  </a:lnTo>
                  <a:lnTo>
                    <a:pt x="449" y="284"/>
                  </a:lnTo>
                  <a:lnTo>
                    <a:pt x="454" y="301"/>
                  </a:lnTo>
                  <a:lnTo>
                    <a:pt x="456" y="316"/>
                  </a:lnTo>
                  <a:lnTo>
                    <a:pt x="459" y="329"/>
                  </a:lnTo>
                  <a:lnTo>
                    <a:pt x="459" y="336"/>
                  </a:lnTo>
                  <a:lnTo>
                    <a:pt x="460" y="338"/>
                  </a:lnTo>
                  <a:lnTo>
                    <a:pt x="461" y="341"/>
                  </a:lnTo>
                  <a:lnTo>
                    <a:pt x="464" y="347"/>
                  </a:lnTo>
                  <a:lnTo>
                    <a:pt x="469" y="357"/>
                  </a:lnTo>
                  <a:lnTo>
                    <a:pt x="473" y="368"/>
                  </a:lnTo>
                  <a:lnTo>
                    <a:pt x="476" y="380"/>
                  </a:lnTo>
                  <a:lnTo>
                    <a:pt x="477" y="392"/>
                  </a:lnTo>
                  <a:lnTo>
                    <a:pt x="477" y="399"/>
                  </a:lnTo>
                  <a:lnTo>
                    <a:pt x="476" y="405"/>
                  </a:lnTo>
                  <a:lnTo>
                    <a:pt x="473" y="410"/>
                  </a:lnTo>
                  <a:lnTo>
                    <a:pt x="470" y="415"/>
                  </a:lnTo>
                  <a:lnTo>
                    <a:pt x="470" y="417"/>
                  </a:lnTo>
                  <a:lnTo>
                    <a:pt x="469" y="423"/>
                  </a:lnTo>
                  <a:lnTo>
                    <a:pt x="466" y="432"/>
                  </a:lnTo>
                  <a:lnTo>
                    <a:pt x="460" y="443"/>
                  </a:lnTo>
                  <a:lnTo>
                    <a:pt x="455" y="449"/>
                  </a:lnTo>
                  <a:lnTo>
                    <a:pt x="448" y="456"/>
                  </a:lnTo>
                  <a:lnTo>
                    <a:pt x="440" y="463"/>
                  </a:lnTo>
                  <a:lnTo>
                    <a:pt x="432" y="469"/>
                  </a:lnTo>
                  <a:lnTo>
                    <a:pt x="421" y="475"/>
                  </a:lnTo>
                  <a:lnTo>
                    <a:pt x="407" y="480"/>
                  </a:lnTo>
                  <a:lnTo>
                    <a:pt x="392" y="486"/>
                  </a:lnTo>
                  <a:lnTo>
                    <a:pt x="375" y="491"/>
                  </a:lnTo>
                  <a:lnTo>
                    <a:pt x="359" y="493"/>
                  </a:lnTo>
                  <a:lnTo>
                    <a:pt x="342" y="497"/>
                  </a:lnTo>
                  <a:lnTo>
                    <a:pt x="323" y="498"/>
                  </a:lnTo>
                  <a:lnTo>
                    <a:pt x="306" y="499"/>
                  </a:lnTo>
                  <a:lnTo>
                    <a:pt x="288" y="499"/>
                  </a:lnTo>
                  <a:lnTo>
                    <a:pt x="270" y="499"/>
                  </a:lnTo>
                  <a:lnTo>
                    <a:pt x="252" y="499"/>
                  </a:lnTo>
                  <a:lnTo>
                    <a:pt x="235" y="498"/>
                  </a:lnTo>
                  <a:lnTo>
                    <a:pt x="218" y="496"/>
                  </a:lnTo>
                  <a:lnTo>
                    <a:pt x="202" y="493"/>
                  </a:lnTo>
                  <a:lnTo>
                    <a:pt x="186" y="490"/>
                  </a:lnTo>
                  <a:lnTo>
                    <a:pt x="172" y="486"/>
                  </a:lnTo>
                  <a:lnTo>
                    <a:pt x="158" y="482"/>
                  </a:lnTo>
                  <a:lnTo>
                    <a:pt x="146" y="477"/>
                  </a:lnTo>
                  <a:lnTo>
                    <a:pt x="135" y="472"/>
                  </a:lnTo>
                  <a:lnTo>
                    <a:pt x="125" y="466"/>
                  </a:lnTo>
                  <a:lnTo>
                    <a:pt x="108" y="454"/>
                  </a:lnTo>
                  <a:lnTo>
                    <a:pt x="91" y="442"/>
                  </a:lnTo>
                  <a:lnTo>
                    <a:pt x="75" y="428"/>
                  </a:lnTo>
                  <a:lnTo>
                    <a:pt x="60" y="413"/>
                  </a:lnTo>
                  <a:lnTo>
                    <a:pt x="48" y="399"/>
                  </a:lnTo>
                  <a:lnTo>
                    <a:pt x="37" y="383"/>
                  </a:lnTo>
                  <a:lnTo>
                    <a:pt x="32" y="374"/>
                  </a:lnTo>
                  <a:lnTo>
                    <a:pt x="28" y="365"/>
                  </a:lnTo>
                  <a:lnTo>
                    <a:pt x="24" y="357"/>
                  </a:lnTo>
                  <a:lnTo>
                    <a:pt x="22" y="347"/>
                  </a:lnTo>
                  <a:lnTo>
                    <a:pt x="19" y="343"/>
                  </a:lnTo>
                  <a:lnTo>
                    <a:pt x="12" y="333"/>
                  </a:lnTo>
                  <a:lnTo>
                    <a:pt x="8" y="325"/>
                  </a:lnTo>
                  <a:lnTo>
                    <a:pt x="5" y="316"/>
                  </a:lnTo>
                  <a:lnTo>
                    <a:pt x="2" y="304"/>
                  </a:lnTo>
                  <a:lnTo>
                    <a:pt x="0" y="292"/>
                  </a:lnTo>
                  <a:lnTo>
                    <a:pt x="0" y="277"/>
                  </a:lnTo>
                  <a:lnTo>
                    <a:pt x="0" y="260"/>
                  </a:lnTo>
                  <a:lnTo>
                    <a:pt x="3" y="242"/>
                  </a:lnTo>
                  <a:lnTo>
                    <a:pt x="8" y="221"/>
                  </a:lnTo>
                  <a:lnTo>
                    <a:pt x="16" y="201"/>
                  </a:lnTo>
                  <a:lnTo>
                    <a:pt x="27" y="176"/>
                  </a:lnTo>
                  <a:lnTo>
                    <a:pt x="42" y="151"/>
                  </a:lnTo>
                  <a:lnTo>
                    <a:pt x="60" y="124"/>
                  </a:lnTo>
                  <a:lnTo>
                    <a:pt x="81" y="96"/>
                  </a:lnTo>
                  <a:lnTo>
                    <a:pt x="99" y="71"/>
                  </a:lnTo>
                  <a:lnTo>
                    <a:pt x="118" y="51"/>
                  </a:lnTo>
                  <a:lnTo>
                    <a:pt x="135" y="33"/>
                  </a:lnTo>
                  <a:lnTo>
                    <a:pt x="145" y="26"/>
                  </a:lnTo>
                  <a:lnTo>
                    <a:pt x="154" y="20"/>
                  </a:lnTo>
                  <a:lnTo>
                    <a:pt x="162" y="15"/>
                  </a:lnTo>
                  <a:lnTo>
                    <a:pt x="171" y="10"/>
                  </a:lnTo>
                  <a:lnTo>
                    <a:pt x="181" y="7"/>
                  </a:lnTo>
                  <a:lnTo>
                    <a:pt x="189" y="5"/>
                  </a:lnTo>
                  <a:lnTo>
                    <a:pt x="199" y="3"/>
                  </a:lnTo>
                  <a:lnTo>
                    <a:pt x="209" y="1"/>
                  </a:lnTo>
                  <a:close/>
                </a:path>
              </a:pathLst>
            </a:custGeom>
            <a:solidFill>
              <a:srgbClr val="5d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6816600" y="2151000"/>
              <a:ext cx="149400" cy="149400"/>
            </a:xfrm>
            <a:custGeom>
              <a:avLst/>
              <a:gdLst/>
              <a:ahLst/>
              <a:rect l="l" t="t" r="r" b="b"/>
              <a:pathLst>
                <a:path w="466" h="468">
                  <a:moveTo>
                    <a:pt x="21" y="327"/>
                  </a:moveTo>
                  <a:lnTo>
                    <a:pt x="19" y="323"/>
                  </a:lnTo>
                  <a:lnTo>
                    <a:pt x="13" y="313"/>
                  </a:lnTo>
                  <a:lnTo>
                    <a:pt x="9" y="306"/>
                  </a:lnTo>
                  <a:lnTo>
                    <a:pt x="5" y="296"/>
                  </a:lnTo>
                  <a:lnTo>
                    <a:pt x="3" y="285"/>
                  </a:lnTo>
                  <a:lnTo>
                    <a:pt x="2" y="273"/>
                  </a:lnTo>
                  <a:lnTo>
                    <a:pt x="0" y="259"/>
                  </a:lnTo>
                  <a:lnTo>
                    <a:pt x="2" y="242"/>
                  </a:lnTo>
                  <a:lnTo>
                    <a:pt x="4" y="225"/>
                  </a:lnTo>
                  <a:lnTo>
                    <a:pt x="10" y="205"/>
                  </a:lnTo>
                  <a:lnTo>
                    <a:pt x="18" y="184"/>
                  </a:lnTo>
                  <a:lnTo>
                    <a:pt x="30" y="161"/>
                  </a:lnTo>
                  <a:lnTo>
                    <a:pt x="44" y="136"/>
                  </a:lnTo>
                  <a:lnTo>
                    <a:pt x="62" y="109"/>
                  </a:lnTo>
                  <a:lnTo>
                    <a:pt x="79" y="85"/>
                  </a:lnTo>
                  <a:lnTo>
                    <a:pt x="95" y="63"/>
                  </a:lnTo>
                  <a:lnTo>
                    <a:pt x="110" y="45"/>
                  </a:lnTo>
                  <a:lnTo>
                    <a:pt x="125" y="32"/>
                  </a:lnTo>
                  <a:lnTo>
                    <a:pt x="138" y="21"/>
                  </a:lnTo>
                  <a:lnTo>
                    <a:pt x="153" y="13"/>
                  </a:lnTo>
                  <a:lnTo>
                    <a:pt x="168" y="7"/>
                  </a:lnTo>
                  <a:lnTo>
                    <a:pt x="185" y="3"/>
                  </a:lnTo>
                  <a:lnTo>
                    <a:pt x="203" y="1"/>
                  </a:lnTo>
                  <a:lnTo>
                    <a:pt x="229" y="0"/>
                  </a:lnTo>
                  <a:lnTo>
                    <a:pt x="245" y="1"/>
                  </a:lnTo>
                  <a:lnTo>
                    <a:pt x="261" y="1"/>
                  </a:lnTo>
                  <a:lnTo>
                    <a:pt x="279" y="2"/>
                  </a:lnTo>
                  <a:lnTo>
                    <a:pt x="296" y="5"/>
                  </a:lnTo>
                  <a:lnTo>
                    <a:pt x="313" y="8"/>
                  </a:lnTo>
                  <a:lnTo>
                    <a:pt x="330" y="12"/>
                  </a:lnTo>
                  <a:lnTo>
                    <a:pt x="347" y="18"/>
                  </a:lnTo>
                  <a:lnTo>
                    <a:pt x="362" y="26"/>
                  </a:lnTo>
                  <a:lnTo>
                    <a:pt x="377" y="34"/>
                  </a:lnTo>
                  <a:lnTo>
                    <a:pt x="389" y="45"/>
                  </a:lnTo>
                  <a:lnTo>
                    <a:pt x="394" y="50"/>
                  </a:lnTo>
                  <a:lnTo>
                    <a:pt x="399" y="58"/>
                  </a:lnTo>
                  <a:lnTo>
                    <a:pt x="404" y="64"/>
                  </a:lnTo>
                  <a:lnTo>
                    <a:pt x="408" y="71"/>
                  </a:lnTo>
                  <a:lnTo>
                    <a:pt x="413" y="83"/>
                  </a:lnTo>
                  <a:lnTo>
                    <a:pt x="416" y="96"/>
                  </a:lnTo>
                  <a:lnTo>
                    <a:pt x="418" y="106"/>
                  </a:lnTo>
                  <a:lnTo>
                    <a:pt x="419" y="115"/>
                  </a:lnTo>
                  <a:lnTo>
                    <a:pt x="418" y="123"/>
                  </a:lnTo>
                  <a:lnTo>
                    <a:pt x="416" y="131"/>
                  </a:lnTo>
                  <a:lnTo>
                    <a:pt x="413" y="138"/>
                  </a:lnTo>
                  <a:lnTo>
                    <a:pt x="409" y="144"/>
                  </a:lnTo>
                  <a:lnTo>
                    <a:pt x="403" y="149"/>
                  </a:lnTo>
                  <a:lnTo>
                    <a:pt x="397" y="154"/>
                  </a:lnTo>
                  <a:lnTo>
                    <a:pt x="390" y="157"/>
                  </a:lnTo>
                  <a:lnTo>
                    <a:pt x="383" y="161"/>
                  </a:lnTo>
                  <a:lnTo>
                    <a:pt x="366" y="166"/>
                  </a:lnTo>
                  <a:lnTo>
                    <a:pt x="346" y="170"/>
                  </a:lnTo>
                  <a:lnTo>
                    <a:pt x="304" y="173"/>
                  </a:lnTo>
                  <a:lnTo>
                    <a:pt x="264" y="176"/>
                  </a:lnTo>
                  <a:lnTo>
                    <a:pt x="245" y="177"/>
                  </a:lnTo>
                  <a:lnTo>
                    <a:pt x="228" y="179"/>
                  </a:lnTo>
                  <a:lnTo>
                    <a:pt x="221" y="181"/>
                  </a:lnTo>
                  <a:lnTo>
                    <a:pt x="215" y="183"/>
                  </a:lnTo>
                  <a:lnTo>
                    <a:pt x="208" y="186"/>
                  </a:lnTo>
                  <a:lnTo>
                    <a:pt x="203" y="188"/>
                  </a:lnTo>
                  <a:lnTo>
                    <a:pt x="210" y="184"/>
                  </a:lnTo>
                  <a:lnTo>
                    <a:pt x="224" y="176"/>
                  </a:lnTo>
                  <a:lnTo>
                    <a:pt x="235" y="171"/>
                  </a:lnTo>
                  <a:lnTo>
                    <a:pt x="248" y="166"/>
                  </a:lnTo>
                  <a:lnTo>
                    <a:pt x="261" y="162"/>
                  </a:lnTo>
                  <a:lnTo>
                    <a:pt x="276" y="158"/>
                  </a:lnTo>
                  <a:lnTo>
                    <a:pt x="292" y="156"/>
                  </a:lnTo>
                  <a:lnTo>
                    <a:pt x="308" y="155"/>
                  </a:lnTo>
                  <a:lnTo>
                    <a:pt x="325" y="156"/>
                  </a:lnTo>
                  <a:lnTo>
                    <a:pt x="342" y="160"/>
                  </a:lnTo>
                  <a:lnTo>
                    <a:pt x="351" y="162"/>
                  </a:lnTo>
                  <a:lnTo>
                    <a:pt x="360" y="166"/>
                  </a:lnTo>
                  <a:lnTo>
                    <a:pt x="368" y="171"/>
                  </a:lnTo>
                  <a:lnTo>
                    <a:pt x="376" y="176"/>
                  </a:lnTo>
                  <a:lnTo>
                    <a:pt x="384" y="182"/>
                  </a:lnTo>
                  <a:lnTo>
                    <a:pt x="392" y="189"/>
                  </a:lnTo>
                  <a:lnTo>
                    <a:pt x="400" y="198"/>
                  </a:lnTo>
                  <a:lnTo>
                    <a:pt x="408" y="208"/>
                  </a:lnTo>
                  <a:lnTo>
                    <a:pt x="415" y="217"/>
                  </a:lnTo>
                  <a:lnTo>
                    <a:pt x="421" y="229"/>
                  </a:lnTo>
                  <a:lnTo>
                    <a:pt x="426" y="238"/>
                  </a:lnTo>
                  <a:lnTo>
                    <a:pt x="431" y="248"/>
                  </a:lnTo>
                  <a:lnTo>
                    <a:pt x="437" y="268"/>
                  </a:lnTo>
                  <a:lnTo>
                    <a:pt x="442" y="284"/>
                  </a:lnTo>
                  <a:lnTo>
                    <a:pt x="445" y="299"/>
                  </a:lnTo>
                  <a:lnTo>
                    <a:pt x="446" y="310"/>
                  </a:lnTo>
                  <a:lnTo>
                    <a:pt x="446" y="316"/>
                  </a:lnTo>
                  <a:lnTo>
                    <a:pt x="446" y="318"/>
                  </a:lnTo>
                  <a:lnTo>
                    <a:pt x="447" y="321"/>
                  </a:lnTo>
                  <a:lnTo>
                    <a:pt x="451" y="326"/>
                  </a:lnTo>
                  <a:lnTo>
                    <a:pt x="454" y="334"/>
                  </a:lnTo>
                  <a:lnTo>
                    <a:pt x="459" y="344"/>
                  </a:lnTo>
                  <a:lnTo>
                    <a:pt x="463" y="355"/>
                  </a:lnTo>
                  <a:lnTo>
                    <a:pt x="466" y="365"/>
                  </a:lnTo>
                  <a:lnTo>
                    <a:pt x="464" y="371"/>
                  </a:lnTo>
                  <a:lnTo>
                    <a:pt x="464" y="375"/>
                  </a:lnTo>
                  <a:lnTo>
                    <a:pt x="462" y="380"/>
                  </a:lnTo>
                  <a:lnTo>
                    <a:pt x="459" y="384"/>
                  </a:lnTo>
                  <a:lnTo>
                    <a:pt x="459" y="386"/>
                  </a:lnTo>
                  <a:lnTo>
                    <a:pt x="459" y="391"/>
                  </a:lnTo>
                  <a:lnTo>
                    <a:pt x="457" y="400"/>
                  </a:lnTo>
                  <a:lnTo>
                    <a:pt x="452" y="411"/>
                  </a:lnTo>
                  <a:lnTo>
                    <a:pt x="448" y="416"/>
                  </a:lnTo>
                  <a:lnTo>
                    <a:pt x="443" y="422"/>
                  </a:lnTo>
                  <a:lnTo>
                    <a:pt x="436" y="428"/>
                  </a:lnTo>
                  <a:lnTo>
                    <a:pt x="429" y="434"/>
                  </a:lnTo>
                  <a:lnTo>
                    <a:pt x="418" y="440"/>
                  </a:lnTo>
                  <a:lnTo>
                    <a:pt x="405" y="446"/>
                  </a:lnTo>
                  <a:lnTo>
                    <a:pt x="392" y="451"/>
                  </a:lnTo>
                  <a:lnTo>
                    <a:pt x="374" y="457"/>
                  </a:lnTo>
                  <a:lnTo>
                    <a:pt x="361" y="460"/>
                  </a:lnTo>
                  <a:lnTo>
                    <a:pt x="345" y="463"/>
                  </a:lnTo>
                  <a:lnTo>
                    <a:pt x="329" y="465"/>
                  </a:lnTo>
                  <a:lnTo>
                    <a:pt x="312" y="467"/>
                  </a:lnTo>
                  <a:lnTo>
                    <a:pt x="276" y="468"/>
                  </a:lnTo>
                  <a:lnTo>
                    <a:pt x="239" y="467"/>
                  </a:lnTo>
                  <a:lnTo>
                    <a:pt x="222" y="466"/>
                  </a:lnTo>
                  <a:lnTo>
                    <a:pt x="205" y="463"/>
                  </a:lnTo>
                  <a:lnTo>
                    <a:pt x="189" y="461"/>
                  </a:lnTo>
                  <a:lnTo>
                    <a:pt x="173" y="457"/>
                  </a:lnTo>
                  <a:lnTo>
                    <a:pt x="159" y="454"/>
                  </a:lnTo>
                  <a:lnTo>
                    <a:pt x="146" y="449"/>
                  </a:lnTo>
                  <a:lnTo>
                    <a:pt x="135" y="444"/>
                  </a:lnTo>
                  <a:lnTo>
                    <a:pt x="125" y="438"/>
                  </a:lnTo>
                  <a:lnTo>
                    <a:pt x="108" y="427"/>
                  </a:lnTo>
                  <a:lnTo>
                    <a:pt x="92" y="414"/>
                  </a:lnTo>
                  <a:lnTo>
                    <a:pt x="76" y="402"/>
                  </a:lnTo>
                  <a:lnTo>
                    <a:pt x="61" y="390"/>
                  </a:lnTo>
                  <a:lnTo>
                    <a:pt x="48" y="376"/>
                  </a:lnTo>
                  <a:lnTo>
                    <a:pt x="37" y="361"/>
                  </a:lnTo>
                  <a:lnTo>
                    <a:pt x="32" y="353"/>
                  </a:lnTo>
                  <a:lnTo>
                    <a:pt x="28" y="345"/>
                  </a:lnTo>
                  <a:lnTo>
                    <a:pt x="25" y="336"/>
                  </a:lnTo>
                  <a:lnTo>
                    <a:pt x="21" y="327"/>
                  </a:lnTo>
                  <a:close/>
                </a:path>
              </a:pathLst>
            </a:custGeom>
            <a:solidFill>
              <a:srgbClr val="5b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6710400" y="2432160"/>
              <a:ext cx="57240" cy="1908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37" y="44"/>
                  </a:moveTo>
                  <a:lnTo>
                    <a:pt x="34" y="43"/>
                  </a:lnTo>
                  <a:lnTo>
                    <a:pt x="28" y="42"/>
                  </a:lnTo>
                  <a:lnTo>
                    <a:pt x="21" y="39"/>
                  </a:lnTo>
                  <a:lnTo>
                    <a:pt x="13" y="37"/>
                  </a:lnTo>
                  <a:lnTo>
                    <a:pt x="6" y="32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8" y="11"/>
                  </a:lnTo>
                  <a:lnTo>
                    <a:pt x="13" y="9"/>
                  </a:lnTo>
                  <a:lnTo>
                    <a:pt x="21" y="6"/>
                  </a:lnTo>
                  <a:lnTo>
                    <a:pt x="28" y="4"/>
                  </a:lnTo>
                  <a:lnTo>
                    <a:pt x="46" y="1"/>
                  </a:lnTo>
                  <a:lnTo>
                    <a:pt x="66" y="0"/>
                  </a:lnTo>
                  <a:lnTo>
                    <a:pt x="77" y="0"/>
                  </a:lnTo>
                  <a:lnTo>
                    <a:pt x="88" y="0"/>
                  </a:lnTo>
                  <a:lnTo>
                    <a:pt x="98" y="2"/>
                  </a:lnTo>
                  <a:lnTo>
                    <a:pt x="109" y="4"/>
                  </a:lnTo>
                  <a:lnTo>
                    <a:pt x="120" y="6"/>
                  </a:lnTo>
                  <a:lnTo>
                    <a:pt x="130" y="10"/>
                  </a:lnTo>
                  <a:lnTo>
                    <a:pt x="139" y="15"/>
                  </a:lnTo>
                  <a:lnTo>
                    <a:pt x="147" y="20"/>
                  </a:lnTo>
                  <a:lnTo>
                    <a:pt x="162" y="31"/>
                  </a:lnTo>
                  <a:lnTo>
                    <a:pt x="172" y="39"/>
                  </a:lnTo>
                  <a:lnTo>
                    <a:pt x="178" y="47"/>
                  </a:lnTo>
                  <a:lnTo>
                    <a:pt x="180" y="53"/>
                  </a:lnTo>
                  <a:lnTo>
                    <a:pt x="180" y="55"/>
                  </a:lnTo>
                  <a:lnTo>
                    <a:pt x="179" y="58"/>
                  </a:lnTo>
                  <a:lnTo>
                    <a:pt x="178" y="59"/>
                  </a:lnTo>
                  <a:lnTo>
                    <a:pt x="176" y="60"/>
                  </a:lnTo>
                  <a:lnTo>
                    <a:pt x="171" y="61"/>
                  </a:lnTo>
                  <a:lnTo>
                    <a:pt x="163" y="60"/>
                  </a:lnTo>
                  <a:lnTo>
                    <a:pt x="156" y="58"/>
                  </a:lnTo>
                  <a:lnTo>
                    <a:pt x="148" y="56"/>
                  </a:lnTo>
                  <a:lnTo>
                    <a:pt x="141" y="54"/>
                  </a:lnTo>
                  <a:lnTo>
                    <a:pt x="132" y="52"/>
                  </a:lnTo>
                  <a:lnTo>
                    <a:pt x="123" y="49"/>
                  </a:lnTo>
                  <a:lnTo>
                    <a:pt x="113" y="48"/>
                  </a:lnTo>
                  <a:lnTo>
                    <a:pt x="102" y="47"/>
                  </a:lnTo>
                  <a:lnTo>
                    <a:pt x="91" y="47"/>
                  </a:lnTo>
                  <a:lnTo>
                    <a:pt x="80" y="47"/>
                  </a:lnTo>
                  <a:lnTo>
                    <a:pt x="71" y="47"/>
                  </a:lnTo>
                  <a:lnTo>
                    <a:pt x="64" y="48"/>
                  </a:lnTo>
                  <a:lnTo>
                    <a:pt x="57" y="48"/>
                  </a:lnTo>
                  <a:lnTo>
                    <a:pt x="51" y="48"/>
                  </a:lnTo>
                  <a:lnTo>
                    <a:pt x="46" y="47"/>
                  </a:lnTo>
                  <a:lnTo>
                    <a:pt x="41" y="45"/>
                  </a:lnTo>
                  <a:lnTo>
                    <a:pt x="37" y="44"/>
                  </a:lnTo>
                  <a:close/>
                </a:path>
              </a:pathLst>
            </a:custGeom>
            <a:solidFill>
              <a:srgbClr val="463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6816600" y="2427480"/>
              <a:ext cx="41400" cy="25200"/>
            </a:xfrm>
            <a:custGeom>
              <a:avLst/>
              <a:gdLst/>
              <a:ahLst/>
              <a:rect l="l" t="t" r="r" b="b"/>
              <a:pathLst>
                <a:path w="131" h="80">
                  <a:moveTo>
                    <a:pt x="14" y="61"/>
                  </a:moveTo>
                  <a:lnTo>
                    <a:pt x="17" y="58"/>
                  </a:lnTo>
                  <a:lnTo>
                    <a:pt x="24" y="51"/>
                  </a:lnTo>
                  <a:lnTo>
                    <a:pt x="35" y="42"/>
                  </a:lnTo>
                  <a:lnTo>
                    <a:pt x="49" y="31"/>
                  </a:lnTo>
                  <a:lnTo>
                    <a:pt x="64" y="20"/>
                  </a:lnTo>
                  <a:lnTo>
                    <a:pt x="80" y="10"/>
                  </a:lnTo>
                  <a:lnTo>
                    <a:pt x="87" y="7"/>
                  </a:lnTo>
                  <a:lnTo>
                    <a:pt x="94" y="4"/>
                  </a:lnTo>
                  <a:lnTo>
                    <a:pt x="100" y="2"/>
                  </a:lnTo>
                  <a:lnTo>
                    <a:pt x="107" y="0"/>
                  </a:lnTo>
                  <a:lnTo>
                    <a:pt x="113" y="2"/>
                  </a:lnTo>
                  <a:lnTo>
                    <a:pt x="118" y="3"/>
                  </a:lnTo>
                  <a:lnTo>
                    <a:pt x="121" y="4"/>
                  </a:lnTo>
                  <a:lnTo>
                    <a:pt x="125" y="7"/>
                  </a:lnTo>
                  <a:lnTo>
                    <a:pt x="128" y="10"/>
                  </a:lnTo>
                  <a:lnTo>
                    <a:pt x="129" y="14"/>
                  </a:lnTo>
                  <a:lnTo>
                    <a:pt x="130" y="18"/>
                  </a:lnTo>
                  <a:lnTo>
                    <a:pt x="131" y="21"/>
                  </a:lnTo>
                  <a:lnTo>
                    <a:pt x="130" y="30"/>
                  </a:lnTo>
                  <a:lnTo>
                    <a:pt x="128" y="39"/>
                  </a:lnTo>
                  <a:lnTo>
                    <a:pt x="124" y="46"/>
                  </a:lnTo>
                  <a:lnTo>
                    <a:pt x="118" y="52"/>
                  </a:lnTo>
                  <a:lnTo>
                    <a:pt x="112" y="56"/>
                  </a:lnTo>
                  <a:lnTo>
                    <a:pt x="103" y="58"/>
                  </a:lnTo>
                  <a:lnTo>
                    <a:pt x="94" y="59"/>
                  </a:lnTo>
                  <a:lnTo>
                    <a:pt x="84" y="61"/>
                  </a:lnTo>
                  <a:lnTo>
                    <a:pt x="76" y="61"/>
                  </a:lnTo>
                  <a:lnTo>
                    <a:pt x="66" y="62"/>
                  </a:lnTo>
                  <a:lnTo>
                    <a:pt x="57" y="63"/>
                  </a:lnTo>
                  <a:lnTo>
                    <a:pt x="50" y="66"/>
                  </a:lnTo>
                  <a:lnTo>
                    <a:pt x="44" y="68"/>
                  </a:lnTo>
                  <a:lnTo>
                    <a:pt x="38" y="70"/>
                  </a:lnTo>
                  <a:lnTo>
                    <a:pt x="30" y="73"/>
                  </a:lnTo>
                  <a:lnTo>
                    <a:pt x="24" y="75"/>
                  </a:lnTo>
                  <a:lnTo>
                    <a:pt x="18" y="77"/>
                  </a:lnTo>
                  <a:lnTo>
                    <a:pt x="12" y="78"/>
                  </a:lnTo>
                  <a:lnTo>
                    <a:pt x="7" y="79"/>
                  </a:lnTo>
                  <a:lnTo>
                    <a:pt x="4" y="80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1" y="73"/>
                  </a:lnTo>
                  <a:lnTo>
                    <a:pt x="3" y="70"/>
                  </a:lnTo>
                  <a:lnTo>
                    <a:pt x="6" y="67"/>
                  </a:lnTo>
                  <a:lnTo>
                    <a:pt x="11" y="64"/>
                  </a:lnTo>
                  <a:lnTo>
                    <a:pt x="14" y="61"/>
                  </a:lnTo>
                  <a:close/>
                </a:path>
              </a:pathLst>
            </a:custGeom>
            <a:solidFill>
              <a:srgbClr val="463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6764400" y="2448000"/>
              <a:ext cx="55440" cy="12600"/>
            </a:xfrm>
            <a:custGeom>
              <a:avLst/>
              <a:gdLst/>
              <a:ahLst/>
              <a:rect l="l" t="t" r="r" b="b"/>
              <a:pathLst>
                <a:path w="174" h="36">
                  <a:moveTo>
                    <a:pt x="166" y="14"/>
                  </a:moveTo>
                  <a:lnTo>
                    <a:pt x="165" y="14"/>
                  </a:lnTo>
                  <a:lnTo>
                    <a:pt x="163" y="16"/>
                  </a:lnTo>
                  <a:lnTo>
                    <a:pt x="159" y="18"/>
                  </a:lnTo>
                  <a:lnTo>
                    <a:pt x="154" y="22"/>
                  </a:lnTo>
                  <a:lnTo>
                    <a:pt x="148" y="24"/>
                  </a:lnTo>
                  <a:lnTo>
                    <a:pt x="141" y="28"/>
                  </a:lnTo>
                  <a:lnTo>
                    <a:pt x="133" y="30"/>
                  </a:lnTo>
                  <a:lnTo>
                    <a:pt x="125" y="33"/>
                  </a:lnTo>
                  <a:lnTo>
                    <a:pt x="116" y="35"/>
                  </a:lnTo>
                  <a:lnTo>
                    <a:pt x="105" y="36"/>
                  </a:lnTo>
                  <a:lnTo>
                    <a:pt x="91" y="35"/>
                  </a:lnTo>
                  <a:lnTo>
                    <a:pt x="75" y="34"/>
                  </a:lnTo>
                  <a:lnTo>
                    <a:pt x="61" y="32"/>
                  </a:lnTo>
                  <a:lnTo>
                    <a:pt x="45" y="27"/>
                  </a:lnTo>
                  <a:lnTo>
                    <a:pt x="30" y="22"/>
                  </a:lnTo>
                  <a:lnTo>
                    <a:pt x="16" y="17"/>
                  </a:lnTo>
                  <a:lnTo>
                    <a:pt x="7" y="11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8" y="3"/>
                  </a:lnTo>
                  <a:lnTo>
                    <a:pt x="21" y="6"/>
                  </a:lnTo>
                  <a:lnTo>
                    <a:pt x="26" y="9"/>
                  </a:lnTo>
                  <a:lnTo>
                    <a:pt x="34" y="12"/>
                  </a:lnTo>
                  <a:lnTo>
                    <a:pt x="43" y="16"/>
                  </a:lnTo>
                  <a:lnTo>
                    <a:pt x="55" y="19"/>
                  </a:lnTo>
                  <a:lnTo>
                    <a:pt x="67" y="22"/>
                  </a:lnTo>
                  <a:lnTo>
                    <a:pt x="79" y="24"/>
                  </a:lnTo>
                  <a:lnTo>
                    <a:pt x="91" y="25"/>
                  </a:lnTo>
                  <a:lnTo>
                    <a:pt x="104" y="24"/>
                  </a:lnTo>
                  <a:lnTo>
                    <a:pt x="115" y="23"/>
                  </a:lnTo>
                  <a:lnTo>
                    <a:pt x="127" y="19"/>
                  </a:lnTo>
                  <a:lnTo>
                    <a:pt x="139" y="16"/>
                  </a:lnTo>
                  <a:lnTo>
                    <a:pt x="150" y="12"/>
                  </a:lnTo>
                  <a:lnTo>
                    <a:pt x="159" y="7"/>
                  </a:lnTo>
                  <a:lnTo>
                    <a:pt x="168" y="3"/>
                  </a:lnTo>
                  <a:lnTo>
                    <a:pt x="173" y="1"/>
                  </a:lnTo>
                  <a:lnTo>
                    <a:pt x="174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463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6899400" y="2529000"/>
              <a:ext cx="28440" cy="44280"/>
            </a:xfrm>
            <a:custGeom>
              <a:avLst/>
              <a:gdLst/>
              <a:ahLst/>
              <a:rect l="l" t="t" r="r" b="b"/>
              <a:pathLst>
                <a:path w="89" h="139">
                  <a:moveTo>
                    <a:pt x="38" y="4"/>
                  </a:moveTo>
                  <a:lnTo>
                    <a:pt x="45" y="15"/>
                  </a:lnTo>
                  <a:lnTo>
                    <a:pt x="53" y="27"/>
                  </a:lnTo>
                  <a:lnTo>
                    <a:pt x="61" y="42"/>
                  </a:lnTo>
                  <a:lnTo>
                    <a:pt x="70" y="57"/>
                  </a:lnTo>
                  <a:lnTo>
                    <a:pt x="77" y="72"/>
                  </a:lnTo>
                  <a:lnTo>
                    <a:pt x="84" y="89"/>
                  </a:lnTo>
                  <a:lnTo>
                    <a:pt x="86" y="96"/>
                  </a:lnTo>
                  <a:lnTo>
                    <a:pt x="88" y="105"/>
                  </a:lnTo>
                  <a:lnTo>
                    <a:pt x="89" y="113"/>
                  </a:lnTo>
                  <a:lnTo>
                    <a:pt x="89" y="121"/>
                  </a:lnTo>
                  <a:lnTo>
                    <a:pt x="89" y="128"/>
                  </a:lnTo>
                  <a:lnTo>
                    <a:pt x="88" y="133"/>
                  </a:lnTo>
                  <a:lnTo>
                    <a:pt x="87" y="137"/>
                  </a:lnTo>
                  <a:lnTo>
                    <a:pt x="86" y="138"/>
                  </a:lnTo>
                  <a:lnTo>
                    <a:pt x="83" y="137"/>
                  </a:lnTo>
                  <a:lnTo>
                    <a:pt x="81" y="135"/>
                  </a:lnTo>
                  <a:lnTo>
                    <a:pt x="78" y="133"/>
                  </a:lnTo>
                  <a:lnTo>
                    <a:pt x="76" y="129"/>
                  </a:lnTo>
                  <a:lnTo>
                    <a:pt x="70" y="121"/>
                  </a:lnTo>
                  <a:lnTo>
                    <a:pt x="64" y="111"/>
                  </a:lnTo>
                  <a:lnTo>
                    <a:pt x="60" y="107"/>
                  </a:lnTo>
                  <a:lnTo>
                    <a:pt x="57" y="105"/>
                  </a:lnTo>
                  <a:lnTo>
                    <a:pt x="54" y="102"/>
                  </a:lnTo>
                  <a:lnTo>
                    <a:pt x="51" y="102"/>
                  </a:lnTo>
                  <a:lnTo>
                    <a:pt x="45" y="104"/>
                  </a:lnTo>
                  <a:lnTo>
                    <a:pt x="38" y="110"/>
                  </a:lnTo>
                  <a:lnTo>
                    <a:pt x="29" y="117"/>
                  </a:lnTo>
                  <a:lnTo>
                    <a:pt x="21" y="124"/>
                  </a:lnTo>
                  <a:lnTo>
                    <a:pt x="13" y="132"/>
                  </a:lnTo>
                  <a:lnTo>
                    <a:pt x="6" y="138"/>
                  </a:lnTo>
                  <a:lnTo>
                    <a:pt x="3" y="139"/>
                  </a:lnTo>
                  <a:lnTo>
                    <a:pt x="2" y="139"/>
                  </a:lnTo>
                  <a:lnTo>
                    <a:pt x="1" y="139"/>
                  </a:lnTo>
                  <a:lnTo>
                    <a:pt x="0" y="137"/>
                  </a:lnTo>
                  <a:lnTo>
                    <a:pt x="3" y="132"/>
                  </a:lnTo>
                  <a:lnTo>
                    <a:pt x="8" y="127"/>
                  </a:lnTo>
                  <a:lnTo>
                    <a:pt x="16" y="122"/>
                  </a:lnTo>
                  <a:lnTo>
                    <a:pt x="24" y="115"/>
                  </a:lnTo>
                  <a:lnTo>
                    <a:pt x="33" y="107"/>
                  </a:lnTo>
                  <a:lnTo>
                    <a:pt x="39" y="97"/>
                  </a:lnTo>
                  <a:lnTo>
                    <a:pt x="43" y="92"/>
                  </a:lnTo>
                  <a:lnTo>
                    <a:pt x="44" y="86"/>
                  </a:lnTo>
                  <a:lnTo>
                    <a:pt x="45" y="79"/>
                  </a:lnTo>
                  <a:lnTo>
                    <a:pt x="46" y="72"/>
                  </a:lnTo>
                  <a:lnTo>
                    <a:pt x="45" y="56"/>
                  </a:lnTo>
                  <a:lnTo>
                    <a:pt x="44" y="41"/>
                  </a:lnTo>
                  <a:lnTo>
                    <a:pt x="41" y="27"/>
                  </a:lnTo>
                  <a:lnTo>
                    <a:pt x="39" y="16"/>
                  </a:lnTo>
                  <a:lnTo>
                    <a:pt x="37" y="8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3d3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6600960" y="2540160"/>
              <a:ext cx="31680" cy="4104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85" y="95"/>
                  </a:moveTo>
                  <a:lnTo>
                    <a:pt x="83" y="94"/>
                  </a:lnTo>
                  <a:lnTo>
                    <a:pt x="79" y="92"/>
                  </a:lnTo>
                  <a:lnTo>
                    <a:pt x="72" y="90"/>
                  </a:lnTo>
                  <a:lnTo>
                    <a:pt x="64" y="86"/>
                  </a:lnTo>
                  <a:lnTo>
                    <a:pt x="58" y="81"/>
                  </a:lnTo>
                  <a:lnTo>
                    <a:pt x="53" y="75"/>
                  </a:lnTo>
                  <a:lnTo>
                    <a:pt x="52" y="72"/>
                  </a:lnTo>
                  <a:lnTo>
                    <a:pt x="51" y="67"/>
                  </a:lnTo>
                  <a:lnTo>
                    <a:pt x="51" y="62"/>
                  </a:lnTo>
                  <a:lnTo>
                    <a:pt x="52" y="57"/>
                  </a:lnTo>
                  <a:lnTo>
                    <a:pt x="57" y="44"/>
                  </a:lnTo>
                  <a:lnTo>
                    <a:pt x="63" y="32"/>
                  </a:lnTo>
                  <a:lnTo>
                    <a:pt x="68" y="20"/>
                  </a:lnTo>
                  <a:lnTo>
                    <a:pt x="73" y="10"/>
                  </a:lnTo>
                  <a:lnTo>
                    <a:pt x="75" y="3"/>
                  </a:lnTo>
                  <a:lnTo>
                    <a:pt x="74" y="0"/>
                  </a:lnTo>
                  <a:lnTo>
                    <a:pt x="70" y="5"/>
                  </a:lnTo>
                  <a:lnTo>
                    <a:pt x="60" y="16"/>
                  </a:lnTo>
                  <a:lnTo>
                    <a:pt x="49" y="31"/>
                  </a:lnTo>
                  <a:lnTo>
                    <a:pt x="40" y="46"/>
                  </a:lnTo>
                  <a:lnTo>
                    <a:pt x="30" y="60"/>
                  </a:lnTo>
                  <a:lnTo>
                    <a:pt x="21" y="75"/>
                  </a:lnTo>
                  <a:lnTo>
                    <a:pt x="14" y="89"/>
                  </a:lnTo>
                  <a:lnTo>
                    <a:pt x="8" y="101"/>
                  </a:lnTo>
                  <a:lnTo>
                    <a:pt x="4" y="113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3"/>
                  </a:lnTo>
                  <a:lnTo>
                    <a:pt x="1" y="133"/>
                  </a:lnTo>
                  <a:lnTo>
                    <a:pt x="4" y="129"/>
                  </a:lnTo>
                  <a:lnTo>
                    <a:pt x="9" y="123"/>
                  </a:lnTo>
                  <a:lnTo>
                    <a:pt x="14" y="115"/>
                  </a:lnTo>
                  <a:lnTo>
                    <a:pt x="20" y="107"/>
                  </a:lnTo>
                  <a:lnTo>
                    <a:pt x="25" y="100"/>
                  </a:lnTo>
                  <a:lnTo>
                    <a:pt x="31" y="97"/>
                  </a:lnTo>
                  <a:lnTo>
                    <a:pt x="36" y="96"/>
                  </a:lnTo>
                  <a:lnTo>
                    <a:pt x="42" y="96"/>
                  </a:lnTo>
                  <a:lnTo>
                    <a:pt x="49" y="97"/>
                  </a:lnTo>
                  <a:lnTo>
                    <a:pt x="57" y="100"/>
                  </a:lnTo>
                  <a:lnTo>
                    <a:pt x="64" y="103"/>
                  </a:lnTo>
                  <a:lnTo>
                    <a:pt x="72" y="107"/>
                  </a:lnTo>
                  <a:lnTo>
                    <a:pt x="79" y="110"/>
                  </a:lnTo>
                  <a:lnTo>
                    <a:pt x="85" y="113"/>
                  </a:lnTo>
                  <a:lnTo>
                    <a:pt x="87" y="115"/>
                  </a:lnTo>
                  <a:lnTo>
                    <a:pt x="90" y="116"/>
                  </a:lnTo>
                  <a:lnTo>
                    <a:pt x="92" y="116"/>
                  </a:lnTo>
                  <a:lnTo>
                    <a:pt x="94" y="116"/>
                  </a:lnTo>
                  <a:lnTo>
                    <a:pt x="96" y="113"/>
                  </a:lnTo>
                  <a:lnTo>
                    <a:pt x="97" y="110"/>
                  </a:lnTo>
                  <a:lnTo>
                    <a:pt x="96" y="105"/>
                  </a:lnTo>
                  <a:lnTo>
                    <a:pt x="94" y="100"/>
                  </a:lnTo>
                  <a:lnTo>
                    <a:pt x="90" y="96"/>
                  </a:lnTo>
                  <a:lnTo>
                    <a:pt x="85" y="95"/>
                  </a:lnTo>
                  <a:close/>
                </a:path>
              </a:pathLst>
            </a:custGeom>
            <a:solidFill>
              <a:srgbClr val="3d3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6653160" y="2559240"/>
              <a:ext cx="249120" cy="66600"/>
            </a:xfrm>
            <a:custGeom>
              <a:avLst/>
              <a:gdLst/>
              <a:ahLst/>
              <a:rect l="l" t="t" r="r" b="b"/>
              <a:pathLst>
                <a:path w="788" h="207">
                  <a:moveTo>
                    <a:pt x="82" y="87"/>
                  </a:moveTo>
                  <a:lnTo>
                    <a:pt x="69" y="86"/>
                  </a:lnTo>
                  <a:lnTo>
                    <a:pt x="42" y="81"/>
                  </a:lnTo>
                  <a:lnTo>
                    <a:pt x="27" y="78"/>
                  </a:lnTo>
                  <a:lnTo>
                    <a:pt x="14" y="74"/>
                  </a:lnTo>
                  <a:lnTo>
                    <a:pt x="9" y="73"/>
                  </a:lnTo>
                  <a:lnTo>
                    <a:pt x="4" y="70"/>
                  </a:lnTo>
                  <a:lnTo>
                    <a:pt x="2" y="68"/>
                  </a:lnTo>
                  <a:lnTo>
                    <a:pt x="0" y="65"/>
                  </a:lnTo>
                  <a:lnTo>
                    <a:pt x="2" y="63"/>
                  </a:lnTo>
                  <a:lnTo>
                    <a:pt x="4" y="60"/>
                  </a:lnTo>
                  <a:lnTo>
                    <a:pt x="9" y="57"/>
                  </a:lnTo>
                  <a:lnTo>
                    <a:pt x="16" y="54"/>
                  </a:lnTo>
                  <a:lnTo>
                    <a:pt x="41" y="48"/>
                  </a:lnTo>
                  <a:lnTo>
                    <a:pt x="77" y="42"/>
                  </a:lnTo>
                  <a:lnTo>
                    <a:pt x="128" y="35"/>
                  </a:lnTo>
                  <a:lnTo>
                    <a:pt x="196" y="28"/>
                  </a:lnTo>
                  <a:lnTo>
                    <a:pt x="282" y="21"/>
                  </a:lnTo>
                  <a:lnTo>
                    <a:pt x="389" y="14"/>
                  </a:lnTo>
                  <a:lnTo>
                    <a:pt x="458" y="9"/>
                  </a:lnTo>
                  <a:lnTo>
                    <a:pt x="539" y="4"/>
                  </a:lnTo>
                  <a:lnTo>
                    <a:pt x="581" y="1"/>
                  </a:lnTo>
                  <a:lnTo>
                    <a:pt x="623" y="0"/>
                  </a:lnTo>
                  <a:lnTo>
                    <a:pt x="662" y="0"/>
                  </a:lnTo>
                  <a:lnTo>
                    <a:pt x="698" y="0"/>
                  </a:lnTo>
                  <a:lnTo>
                    <a:pt x="729" y="3"/>
                  </a:lnTo>
                  <a:lnTo>
                    <a:pt x="754" y="6"/>
                  </a:lnTo>
                  <a:lnTo>
                    <a:pt x="766" y="9"/>
                  </a:lnTo>
                  <a:lnTo>
                    <a:pt x="774" y="12"/>
                  </a:lnTo>
                  <a:lnTo>
                    <a:pt x="780" y="16"/>
                  </a:lnTo>
                  <a:lnTo>
                    <a:pt x="785" y="21"/>
                  </a:lnTo>
                  <a:lnTo>
                    <a:pt x="788" y="26"/>
                  </a:lnTo>
                  <a:lnTo>
                    <a:pt x="786" y="32"/>
                  </a:lnTo>
                  <a:lnTo>
                    <a:pt x="784" y="38"/>
                  </a:lnTo>
                  <a:lnTo>
                    <a:pt x="778" y="46"/>
                  </a:lnTo>
                  <a:lnTo>
                    <a:pt x="770" y="53"/>
                  </a:lnTo>
                  <a:lnTo>
                    <a:pt x="758" y="62"/>
                  </a:lnTo>
                  <a:lnTo>
                    <a:pt x="743" y="71"/>
                  </a:lnTo>
                  <a:lnTo>
                    <a:pt x="725" y="83"/>
                  </a:lnTo>
                  <a:lnTo>
                    <a:pt x="697" y="99"/>
                  </a:lnTo>
                  <a:lnTo>
                    <a:pt x="660" y="118"/>
                  </a:lnTo>
                  <a:lnTo>
                    <a:pt x="618" y="142"/>
                  </a:lnTo>
                  <a:lnTo>
                    <a:pt x="572" y="164"/>
                  </a:lnTo>
                  <a:lnTo>
                    <a:pt x="549" y="174"/>
                  </a:lnTo>
                  <a:lnTo>
                    <a:pt x="524" y="183"/>
                  </a:lnTo>
                  <a:lnTo>
                    <a:pt x="501" y="192"/>
                  </a:lnTo>
                  <a:lnTo>
                    <a:pt x="476" y="198"/>
                  </a:lnTo>
                  <a:lnTo>
                    <a:pt x="453" y="203"/>
                  </a:lnTo>
                  <a:lnTo>
                    <a:pt x="431" y="206"/>
                  </a:lnTo>
                  <a:lnTo>
                    <a:pt x="420" y="207"/>
                  </a:lnTo>
                  <a:lnTo>
                    <a:pt x="409" y="207"/>
                  </a:lnTo>
                  <a:lnTo>
                    <a:pt x="399" y="206"/>
                  </a:lnTo>
                  <a:lnTo>
                    <a:pt x="389" y="204"/>
                  </a:lnTo>
                  <a:lnTo>
                    <a:pt x="368" y="201"/>
                  </a:lnTo>
                  <a:lnTo>
                    <a:pt x="345" y="194"/>
                  </a:lnTo>
                  <a:lnTo>
                    <a:pt x="320" y="187"/>
                  </a:lnTo>
                  <a:lnTo>
                    <a:pt x="296" y="180"/>
                  </a:lnTo>
                  <a:lnTo>
                    <a:pt x="245" y="160"/>
                  </a:lnTo>
                  <a:lnTo>
                    <a:pt x="195" y="140"/>
                  </a:lnTo>
                  <a:lnTo>
                    <a:pt x="150" y="121"/>
                  </a:lnTo>
                  <a:lnTo>
                    <a:pt x="115" y="103"/>
                  </a:lnTo>
                  <a:lnTo>
                    <a:pt x="90" y="92"/>
                  </a:lnTo>
                  <a:lnTo>
                    <a:pt x="82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6678720" y="2554560"/>
              <a:ext cx="190440" cy="29880"/>
            </a:xfrm>
            <a:custGeom>
              <a:avLst/>
              <a:gdLst/>
              <a:ahLst/>
              <a:rect l="l" t="t" r="r" b="b"/>
              <a:pathLst>
                <a:path w="602" h="97">
                  <a:moveTo>
                    <a:pt x="599" y="45"/>
                  </a:moveTo>
                  <a:lnTo>
                    <a:pt x="601" y="49"/>
                  </a:lnTo>
                  <a:lnTo>
                    <a:pt x="602" y="51"/>
                  </a:lnTo>
                  <a:lnTo>
                    <a:pt x="602" y="54"/>
                  </a:lnTo>
                  <a:lnTo>
                    <a:pt x="601" y="56"/>
                  </a:lnTo>
                  <a:lnTo>
                    <a:pt x="597" y="61"/>
                  </a:lnTo>
                  <a:lnTo>
                    <a:pt x="590" y="66"/>
                  </a:lnTo>
                  <a:lnTo>
                    <a:pt x="581" y="70"/>
                  </a:lnTo>
                  <a:lnTo>
                    <a:pt x="570" y="72"/>
                  </a:lnTo>
                  <a:lnTo>
                    <a:pt x="556" y="75"/>
                  </a:lnTo>
                  <a:lnTo>
                    <a:pt x="542" y="76"/>
                  </a:lnTo>
                  <a:lnTo>
                    <a:pt x="529" y="76"/>
                  </a:lnTo>
                  <a:lnTo>
                    <a:pt x="519" y="75"/>
                  </a:lnTo>
                  <a:lnTo>
                    <a:pt x="511" y="75"/>
                  </a:lnTo>
                  <a:lnTo>
                    <a:pt x="505" y="75"/>
                  </a:lnTo>
                  <a:lnTo>
                    <a:pt x="499" y="75"/>
                  </a:lnTo>
                  <a:lnTo>
                    <a:pt x="492" y="76"/>
                  </a:lnTo>
                  <a:lnTo>
                    <a:pt x="485" y="77"/>
                  </a:lnTo>
                  <a:lnTo>
                    <a:pt x="476" y="81"/>
                  </a:lnTo>
                  <a:lnTo>
                    <a:pt x="465" y="86"/>
                  </a:lnTo>
                  <a:lnTo>
                    <a:pt x="453" y="89"/>
                  </a:lnTo>
                  <a:lnTo>
                    <a:pt x="441" y="92"/>
                  </a:lnTo>
                  <a:lnTo>
                    <a:pt x="427" y="93"/>
                  </a:lnTo>
                  <a:lnTo>
                    <a:pt x="412" y="94"/>
                  </a:lnTo>
                  <a:lnTo>
                    <a:pt x="400" y="94"/>
                  </a:lnTo>
                  <a:lnTo>
                    <a:pt x="388" y="93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3" y="92"/>
                  </a:lnTo>
                  <a:lnTo>
                    <a:pt x="361" y="92"/>
                  </a:lnTo>
                  <a:lnTo>
                    <a:pt x="353" y="93"/>
                  </a:lnTo>
                  <a:lnTo>
                    <a:pt x="344" y="94"/>
                  </a:lnTo>
                  <a:lnTo>
                    <a:pt x="330" y="96"/>
                  </a:lnTo>
                  <a:lnTo>
                    <a:pt x="315" y="97"/>
                  </a:lnTo>
                  <a:lnTo>
                    <a:pt x="299" y="97"/>
                  </a:lnTo>
                  <a:lnTo>
                    <a:pt x="283" y="96"/>
                  </a:lnTo>
                  <a:lnTo>
                    <a:pt x="267" y="92"/>
                  </a:lnTo>
                  <a:lnTo>
                    <a:pt x="252" y="88"/>
                  </a:lnTo>
                  <a:lnTo>
                    <a:pt x="239" y="85"/>
                  </a:lnTo>
                  <a:lnTo>
                    <a:pt x="227" y="83"/>
                  </a:lnTo>
                  <a:lnTo>
                    <a:pt x="214" y="83"/>
                  </a:lnTo>
                  <a:lnTo>
                    <a:pt x="205" y="83"/>
                  </a:lnTo>
                  <a:lnTo>
                    <a:pt x="195" y="83"/>
                  </a:lnTo>
                  <a:lnTo>
                    <a:pt x="186" y="83"/>
                  </a:lnTo>
                  <a:lnTo>
                    <a:pt x="179" y="83"/>
                  </a:lnTo>
                  <a:lnTo>
                    <a:pt x="168" y="83"/>
                  </a:lnTo>
                  <a:lnTo>
                    <a:pt x="150" y="82"/>
                  </a:lnTo>
                  <a:lnTo>
                    <a:pt x="127" y="81"/>
                  </a:lnTo>
                  <a:lnTo>
                    <a:pt x="102" y="77"/>
                  </a:lnTo>
                  <a:lnTo>
                    <a:pt x="75" y="73"/>
                  </a:lnTo>
                  <a:lnTo>
                    <a:pt x="49" y="67"/>
                  </a:lnTo>
                  <a:lnTo>
                    <a:pt x="37" y="65"/>
                  </a:lnTo>
                  <a:lnTo>
                    <a:pt x="25" y="60"/>
                  </a:lnTo>
                  <a:lnTo>
                    <a:pt x="14" y="56"/>
                  </a:lnTo>
                  <a:lnTo>
                    <a:pt x="4" y="51"/>
                  </a:lnTo>
                  <a:lnTo>
                    <a:pt x="2" y="49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5" y="40"/>
                  </a:lnTo>
                  <a:lnTo>
                    <a:pt x="18" y="35"/>
                  </a:lnTo>
                  <a:lnTo>
                    <a:pt x="36" y="30"/>
                  </a:lnTo>
                  <a:lnTo>
                    <a:pt x="61" y="26"/>
                  </a:lnTo>
                  <a:lnTo>
                    <a:pt x="90" y="22"/>
                  </a:lnTo>
                  <a:lnTo>
                    <a:pt x="122" y="18"/>
                  </a:lnTo>
                  <a:lnTo>
                    <a:pt x="155" y="14"/>
                  </a:lnTo>
                  <a:lnTo>
                    <a:pt x="227" y="8"/>
                  </a:lnTo>
                  <a:lnTo>
                    <a:pt x="292" y="3"/>
                  </a:lnTo>
                  <a:lnTo>
                    <a:pt x="345" y="1"/>
                  </a:lnTo>
                  <a:lnTo>
                    <a:pt x="377" y="0"/>
                  </a:lnTo>
                  <a:lnTo>
                    <a:pt x="399" y="1"/>
                  </a:lnTo>
                  <a:lnTo>
                    <a:pt x="428" y="3"/>
                  </a:lnTo>
                  <a:lnTo>
                    <a:pt x="463" y="8"/>
                  </a:lnTo>
                  <a:lnTo>
                    <a:pt x="499" y="13"/>
                  </a:lnTo>
                  <a:lnTo>
                    <a:pt x="532" y="21"/>
                  </a:lnTo>
                  <a:lnTo>
                    <a:pt x="563" y="28"/>
                  </a:lnTo>
                  <a:lnTo>
                    <a:pt x="575" y="33"/>
                  </a:lnTo>
                  <a:lnTo>
                    <a:pt x="586" y="37"/>
                  </a:lnTo>
                  <a:lnTo>
                    <a:pt x="593" y="41"/>
                  </a:lnTo>
                  <a:lnTo>
                    <a:pt x="599" y="4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6670800" y="2584440"/>
              <a:ext cx="199800" cy="36720"/>
            </a:xfrm>
            <a:custGeom>
              <a:avLst/>
              <a:gdLst/>
              <a:ahLst/>
              <a:rect l="l" t="t" r="r" b="b"/>
              <a:pathLst>
                <a:path w="630" h="115">
                  <a:moveTo>
                    <a:pt x="405" y="27"/>
                  </a:moveTo>
                  <a:lnTo>
                    <a:pt x="415" y="27"/>
                  </a:lnTo>
                  <a:lnTo>
                    <a:pt x="424" y="27"/>
                  </a:lnTo>
                  <a:lnTo>
                    <a:pt x="433" y="27"/>
                  </a:lnTo>
                  <a:lnTo>
                    <a:pt x="442" y="26"/>
                  </a:lnTo>
                  <a:lnTo>
                    <a:pt x="450" y="26"/>
                  </a:lnTo>
                  <a:lnTo>
                    <a:pt x="458" y="25"/>
                  </a:lnTo>
                  <a:lnTo>
                    <a:pt x="465" y="25"/>
                  </a:lnTo>
                  <a:lnTo>
                    <a:pt x="472" y="25"/>
                  </a:lnTo>
                  <a:lnTo>
                    <a:pt x="480" y="25"/>
                  </a:lnTo>
                  <a:lnTo>
                    <a:pt x="485" y="25"/>
                  </a:lnTo>
                  <a:lnTo>
                    <a:pt x="488" y="25"/>
                  </a:lnTo>
                  <a:lnTo>
                    <a:pt x="491" y="25"/>
                  </a:lnTo>
                  <a:lnTo>
                    <a:pt x="493" y="25"/>
                  </a:lnTo>
                  <a:lnTo>
                    <a:pt x="493" y="25"/>
                  </a:lnTo>
                  <a:lnTo>
                    <a:pt x="494" y="25"/>
                  </a:lnTo>
                  <a:lnTo>
                    <a:pt x="494" y="25"/>
                  </a:lnTo>
                  <a:lnTo>
                    <a:pt x="496" y="24"/>
                  </a:lnTo>
                  <a:lnTo>
                    <a:pt x="501" y="23"/>
                  </a:lnTo>
                  <a:lnTo>
                    <a:pt x="508" y="19"/>
                  </a:lnTo>
                  <a:lnTo>
                    <a:pt x="518" y="15"/>
                  </a:lnTo>
                  <a:lnTo>
                    <a:pt x="529" y="13"/>
                  </a:lnTo>
                  <a:lnTo>
                    <a:pt x="540" y="9"/>
                  </a:lnTo>
                  <a:lnTo>
                    <a:pt x="552" y="7"/>
                  </a:lnTo>
                  <a:lnTo>
                    <a:pt x="565" y="7"/>
                  </a:lnTo>
                  <a:lnTo>
                    <a:pt x="577" y="7"/>
                  </a:lnTo>
                  <a:lnTo>
                    <a:pt x="589" y="8"/>
                  </a:lnTo>
                  <a:lnTo>
                    <a:pt x="600" y="9"/>
                  </a:lnTo>
                  <a:lnTo>
                    <a:pt x="610" y="10"/>
                  </a:lnTo>
                  <a:lnTo>
                    <a:pt x="619" y="11"/>
                  </a:lnTo>
                  <a:lnTo>
                    <a:pt x="625" y="13"/>
                  </a:lnTo>
                  <a:lnTo>
                    <a:pt x="629" y="14"/>
                  </a:lnTo>
                  <a:lnTo>
                    <a:pt x="630" y="14"/>
                  </a:lnTo>
                  <a:lnTo>
                    <a:pt x="625" y="19"/>
                  </a:lnTo>
                  <a:lnTo>
                    <a:pt x="610" y="31"/>
                  </a:lnTo>
                  <a:lnTo>
                    <a:pt x="587" y="47"/>
                  </a:lnTo>
                  <a:lnTo>
                    <a:pt x="555" y="67"/>
                  </a:lnTo>
                  <a:lnTo>
                    <a:pt x="536" y="77"/>
                  </a:lnTo>
                  <a:lnTo>
                    <a:pt x="518" y="85"/>
                  </a:lnTo>
                  <a:lnTo>
                    <a:pt x="497" y="94"/>
                  </a:lnTo>
                  <a:lnTo>
                    <a:pt x="475" y="101"/>
                  </a:lnTo>
                  <a:lnTo>
                    <a:pt x="451" y="107"/>
                  </a:lnTo>
                  <a:lnTo>
                    <a:pt x="428" y="112"/>
                  </a:lnTo>
                  <a:lnTo>
                    <a:pt x="403" y="115"/>
                  </a:lnTo>
                  <a:lnTo>
                    <a:pt x="378" y="115"/>
                  </a:lnTo>
                  <a:lnTo>
                    <a:pt x="352" y="112"/>
                  </a:lnTo>
                  <a:lnTo>
                    <a:pt x="323" y="109"/>
                  </a:lnTo>
                  <a:lnTo>
                    <a:pt x="294" y="104"/>
                  </a:lnTo>
                  <a:lnTo>
                    <a:pt x="263" y="98"/>
                  </a:lnTo>
                  <a:lnTo>
                    <a:pt x="202" y="83"/>
                  </a:lnTo>
                  <a:lnTo>
                    <a:pt x="144" y="67"/>
                  </a:lnTo>
                  <a:lnTo>
                    <a:pt x="91" y="51"/>
                  </a:lnTo>
                  <a:lnTo>
                    <a:pt x="47" y="37"/>
                  </a:lnTo>
                  <a:lnTo>
                    <a:pt x="16" y="26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6" y="14"/>
                  </a:lnTo>
                  <a:lnTo>
                    <a:pt x="13" y="9"/>
                  </a:lnTo>
                  <a:lnTo>
                    <a:pt x="22" y="5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7" y="3"/>
                  </a:lnTo>
                  <a:lnTo>
                    <a:pt x="92" y="4"/>
                  </a:lnTo>
                  <a:lnTo>
                    <a:pt x="107" y="5"/>
                  </a:lnTo>
                  <a:lnTo>
                    <a:pt x="122" y="7"/>
                  </a:lnTo>
                  <a:lnTo>
                    <a:pt x="135" y="9"/>
                  </a:lnTo>
                  <a:lnTo>
                    <a:pt x="146" y="11"/>
                  </a:lnTo>
                  <a:lnTo>
                    <a:pt x="155" y="14"/>
                  </a:lnTo>
                  <a:lnTo>
                    <a:pt x="173" y="20"/>
                  </a:lnTo>
                  <a:lnTo>
                    <a:pt x="175" y="20"/>
                  </a:lnTo>
                  <a:lnTo>
                    <a:pt x="177" y="19"/>
                  </a:lnTo>
                  <a:lnTo>
                    <a:pt x="181" y="19"/>
                  </a:lnTo>
                  <a:lnTo>
                    <a:pt x="184" y="19"/>
                  </a:lnTo>
                  <a:lnTo>
                    <a:pt x="189" y="18"/>
                  </a:lnTo>
                  <a:lnTo>
                    <a:pt x="194" y="18"/>
                  </a:lnTo>
                  <a:lnTo>
                    <a:pt x="199" y="18"/>
                  </a:lnTo>
                  <a:lnTo>
                    <a:pt x="204" y="16"/>
                  </a:lnTo>
                  <a:lnTo>
                    <a:pt x="210" y="18"/>
                  </a:lnTo>
                  <a:lnTo>
                    <a:pt x="221" y="18"/>
                  </a:lnTo>
                  <a:lnTo>
                    <a:pt x="234" y="18"/>
                  </a:lnTo>
                  <a:lnTo>
                    <a:pt x="247" y="19"/>
                  </a:lnTo>
                  <a:lnTo>
                    <a:pt x="261" y="20"/>
                  </a:lnTo>
                  <a:lnTo>
                    <a:pt x="272" y="20"/>
                  </a:lnTo>
                  <a:lnTo>
                    <a:pt x="282" y="21"/>
                  </a:lnTo>
                  <a:lnTo>
                    <a:pt x="288" y="23"/>
                  </a:lnTo>
                  <a:lnTo>
                    <a:pt x="291" y="24"/>
                  </a:lnTo>
                  <a:lnTo>
                    <a:pt x="296" y="24"/>
                  </a:lnTo>
                  <a:lnTo>
                    <a:pt x="301" y="25"/>
                  </a:lnTo>
                  <a:lnTo>
                    <a:pt x="307" y="26"/>
                  </a:lnTo>
                  <a:lnTo>
                    <a:pt x="312" y="26"/>
                  </a:lnTo>
                  <a:lnTo>
                    <a:pt x="316" y="27"/>
                  </a:lnTo>
                  <a:lnTo>
                    <a:pt x="320" y="27"/>
                  </a:lnTo>
                  <a:lnTo>
                    <a:pt x="321" y="27"/>
                  </a:lnTo>
                  <a:lnTo>
                    <a:pt x="322" y="27"/>
                  </a:lnTo>
                  <a:lnTo>
                    <a:pt x="327" y="27"/>
                  </a:lnTo>
                  <a:lnTo>
                    <a:pt x="333" y="27"/>
                  </a:lnTo>
                  <a:lnTo>
                    <a:pt x="342" y="26"/>
                  </a:lnTo>
                  <a:lnTo>
                    <a:pt x="351" y="26"/>
                  </a:lnTo>
                  <a:lnTo>
                    <a:pt x="359" y="26"/>
                  </a:lnTo>
                  <a:lnTo>
                    <a:pt x="368" y="27"/>
                  </a:lnTo>
                  <a:lnTo>
                    <a:pt x="375" y="27"/>
                  </a:lnTo>
                  <a:lnTo>
                    <a:pt x="380" y="29"/>
                  </a:lnTo>
                  <a:lnTo>
                    <a:pt x="385" y="31"/>
                  </a:lnTo>
                  <a:lnTo>
                    <a:pt x="387" y="34"/>
                  </a:lnTo>
                  <a:lnTo>
                    <a:pt x="389" y="37"/>
                  </a:lnTo>
                  <a:lnTo>
                    <a:pt x="390" y="40"/>
                  </a:lnTo>
                  <a:lnTo>
                    <a:pt x="391" y="42"/>
                  </a:lnTo>
                  <a:lnTo>
                    <a:pt x="391" y="43"/>
                  </a:lnTo>
                  <a:lnTo>
                    <a:pt x="391" y="45"/>
                  </a:lnTo>
                  <a:lnTo>
                    <a:pt x="405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6630840" y="2565360"/>
              <a:ext cx="276480" cy="82800"/>
            </a:xfrm>
            <a:custGeom>
              <a:avLst/>
              <a:gdLst/>
              <a:ahLst/>
              <a:rect l="l" t="t" r="r" b="b"/>
              <a:pathLst>
                <a:path w="870" h="260">
                  <a:moveTo>
                    <a:pt x="148" y="70"/>
                  </a:moveTo>
                  <a:lnTo>
                    <a:pt x="156" y="72"/>
                  </a:lnTo>
                  <a:lnTo>
                    <a:pt x="179" y="73"/>
                  </a:lnTo>
                  <a:lnTo>
                    <a:pt x="214" y="77"/>
                  </a:lnTo>
                  <a:lnTo>
                    <a:pt x="256" y="82"/>
                  </a:lnTo>
                  <a:lnTo>
                    <a:pt x="300" y="88"/>
                  </a:lnTo>
                  <a:lnTo>
                    <a:pt x="343" y="95"/>
                  </a:lnTo>
                  <a:lnTo>
                    <a:pt x="364" y="99"/>
                  </a:lnTo>
                  <a:lnTo>
                    <a:pt x="381" y="102"/>
                  </a:lnTo>
                  <a:lnTo>
                    <a:pt x="397" y="107"/>
                  </a:lnTo>
                  <a:lnTo>
                    <a:pt x="411" y="111"/>
                  </a:lnTo>
                  <a:lnTo>
                    <a:pt x="433" y="120"/>
                  </a:lnTo>
                  <a:lnTo>
                    <a:pt x="451" y="126"/>
                  </a:lnTo>
                  <a:lnTo>
                    <a:pt x="469" y="129"/>
                  </a:lnTo>
                  <a:lnTo>
                    <a:pt x="482" y="133"/>
                  </a:lnTo>
                  <a:lnTo>
                    <a:pt x="493" y="134"/>
                  </a:lnTo>
                  <a:lnTo>
                    <a:pt x="502" y="136"/>
                  </a:lnTo>
                  <a:lnTo>
                    <a:pt x="507" y="136"/>
                  </a:lnTo>
                  <a:lnTo>
                    <a:pt x="509" y="136"/>
                  </a:lnTo>
                  <a:lnTo>
                    <a:pt x="515" y="133"/>
                  </a:lnTo>
                  <a:lnTo>
                    <a:pt x="531" y="128"/>
                  </a:lnTo>
                  <a:lnTo>
                    <a:pt x="555" y="120"/>
                  </a:lnTo>
                  <a:lnTo>
                    <a:pt x="585" y="110"/>
                  </a:lnTo>
                  <a:lnTo>
                    <a:pt x="617" y="99"/>
                  </a:lnTo>
                  <a:lnTo>
                    <a:pt x="651" y="88"/>
                  </a:lnTo>
                  <a:lnTo>
                    <a:pt x="683" y="78"/>
                  </a:lnTo>
                  <a:lnTo>
                    <a:pt x="710" y="70"/>
                  </a:lnTo>
                  <a:lnTo>
                    <a:pt x="733" y="64"/>
                  </a:lnTo>
                  <a:lnTo>
                    <a:pt x="752" y="58"/>
                  </a:lnTo>
                  <a:lnTo>
                    <a:pt x="765" y="53"/>
                  </a:lnTo>
                  <a:lnTo>
                    <a:pt x="776" y="48"/>
                  </a:lnTo>
                  <a:lnTo>
                    <a:pt x="784" y="45"/>
                  </a:lnTo>
                  <a:lnTo>
                    <a:pt x="788" y="42"/>
                  </a:lnTo>
                  <a:lnTo>
                    <a:pt x="791" y="41"/>
                  </a:lnTo>
                  <a:lnTo>
                    <a:pt x="791" y="41"/>
                  </a:lnTo>
                  <a:lnTo>
                    <a:pt x="870" y="0"/>
                  </a:lnTo>
                  <a:lnTo>
                    <a:pt x="867" y="6"/>
                  </a:lnTo>
                  <a:lnTo>
                    <a:pt x="857" y="25"/>
                  </a:lnTo>
                  <a:lnTo>
                    <a:pt x="844" y="51"/>
                  </a:lnTo>
                  <a:lnTo>
                    <a:pt x="825" y="82"/>
                  </a:lnTo>
                  <a:lnTo>
                    <a:pt x="814" y="99"/>
                  </a:lnTo>
                  <a:lnTo>
                    <a:pt x="803" y="116"/>
                  </a:lnTo>
                  <a:lnTo>
                    <a:pt x="791" y="133"/>
                  </a:lnTo>
                  <a:lnTo>
                    <a:pt x="779" y="149"/>
                  </a:lnTo>
                  <a:lnTo>
                    <a:pt x="765" y="164"/>
                  </a:lnTo>
                  <a:lnTo>
                    <a:pt x="752" y="179"/>
                  </a:lnTo>
                  <a:lnTo>
                    <a:pt x="738" y="191"/>
                  </a:lnTo>
                  <a:lnTo>
                    <a:pt x="723" y="201"/>
                  </a:lnTo>
                  <a:lnTo>
                    <a:pt x="696" y="217"/>
                  </a:lnTo>
                  <a:lnTo>
                    <a:pt x="669" y="230"/>
                  </a:lnTo>
                  <a:lnTo>
                    <a:pt x="643" y="240"/>
                  </a:lnTo>
                  <a:lnTo>
                    <a:pt x="616" y="249"/>
                  </a:lnTo>
                  <a:lnTo>
                    <a:pt x="590" y="255"/>
                  </a:lnTo>
                  <a:lnTo>
                    <a:pt x="566" y="257"/>
                  </a:lnTo>
                  <a:lnTo>
                    <a:pt x="540" y="259"/>
                  </a:lnTo>
                  <a:lnTo>
                    <a:pt x="514" y="257"/>
                  </a:lnTo>
                  <a:lnTo>
                    <a:pt x="491" y="257"/>
                  </a:lnTo>
                  <a:lnTo>
                    <a:pt x="466" y="257"/>
                  </a:lnTo>
                  <a:lnTo>
                    <a:pt x="442" y="259"/>
                  </a:lnTo>
                  <a:lnTo>
                    <a:pt x="414" y="260"/>
                  </a:lnTo>
                  <a:lnTo>
                    <a:pt x="401" y="259"/>
                  </a:lnTo>
                  <a:lnTo>
                    <a:pt x="386" y="257"/>
                  </a:lnTo>
                  <a:lnTo>
                    <a:pt x="370" y="255"/>
                  </a:lnTo>
                  <a:lnTo>
                    <a:pt x="354" y="252"/>
                  </a:lnTo>
                  <a:lnTo>
                    <a:pt x="336" y="249"/>
                  </a:lnTo>
                  <a:lnTo>
                    <a:pt x="317" y="243"/>
                  </a:lnTo>
                  <a:lnTo>
                    <a:pt x="296" y="237"/>
                  </a:lnTo>
                  <a:lnTo>
                    <a:pt x="275" y="228"/>
                  </a:lnTo>
                  <a:lnTo>
                    <a:pt x="252" y="218"/>
                  </a:lnTo>
                  <a:lnTo>
                    <a:pt x="227" y="208"/>
                  </a:lnTo>
                  <a:lnTo>
                    <a:pt x="202" y="196"/>
                  </a:lnTo>
                  <a:lnTo>
                    <a:pt x="177" y="182"/>
                  </a:lnTo>
                  <a:lnTo>
                    <a:pt x="152" y="169"/>
                  </a:lnTo>
                  <a:lnTo>
                    <a:pt x="128" y="154"/>
                  </a:lnTo>
                  <a:lnTo>
                    <a:pt x="104" y="141"/>
                  </a:lnTo>
                  <a:lnTo>
                    <a:pt x="82" y="126"/>
                  </a:lnTo>
                  <a:lnTo>
                    <a:pt x="63" y="111"/>
                  </a:lnTo>
                  <a:lnTo>
                    <a:pt x="44" y="98"/>
                  </a:lnTo>
                  <a:lnTo>
                    <a:pt x="28" y="84"/>
                  </a:lnTo>
                  <a:lnTo>
                    <a:pt x="16" y="72"/>
                  </a:lnTo>
                  <a:lnTo>
                    <a:pt x="7" y="61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38"/>
                  </a:lnTo>
                  <a:lnTo>
                    <a:pt x="4" y="35"/>
                  </a:lnTo>
                  <a:lnTo>
                    <a:pt x="6" y="32"/>
                  </a:lnTo>
                  <a:lnTo>
                    <a:pt x="10" y="31"/>
                  </a:lnTo>
                  <a:lnTo>
                    <a:pt x="13" y="29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38" y="29"/>
                  </a:lnTo>
                  <a:lnTo>
                    <a:pt x="50" y="30"/>
                  </a:lnTo>
                  <a:lnTo>
                    <a:pt x="63" y="34"/>
                  </a:lnTo>
                  <a:lnTo>
                    <a:pt x="75" y="37"/>
                  </a:lnTo>
                  <a:lnTo>
                    <a:pt x="87" y="42"/>
                  </a:lnTo>
                  <a:lnTo>
                    <a:pt x="109" y="52"/>
                  </a:lnTo>
                  <a:lnTo>
                    <a:pt x="129" y="61"/>
                  </a:lnTo>
                  <a:lnTo>
                    <a:pt x="143" y="68"/>
                  </a:lnTo>
                  <a:lnTo>
                    <a:pt x="148" y="70"/>
                  </a:lnTo>
                  <a:close/>
                </a:path>
              </a:pathLst>
            </a:custGeom>
            <a:solidFill>
              <a:srgbClr val="674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6632640" y="2570400"/>
              <a:ext cx="271440" cy="77760"/>
            </a:xfrm>
            <a:custGeom>
              <a:avLst/>
              <a:gdLst/>
              <a:ahLst/>
              <a:rect l="l" t="t" r="r" b="b"/>
              <a:pathLst>
                <a:path w="859" h="246">
                  <a:moveTo>
                    <a:pt x="855" y="16"/>
                  </a:moveTo>
                  <a:lnTo>
                    <a:pt x="848" y="33"/>
                  </a:lnTo>
                  <a:lnTo>
                    <a:pt x="835" y="55"/>
                  </a:lnTo>
                  <a:lnTo>
                    <a:pt x="819" y="80"/>
                  </a:lnTo>
                  <a:lnTo>
                    <a:pt x="802" y="104"/>
                  </a:lnTo>
                  <a:lnTo>
                    <a:pt x="783" y="129"/>
                  </a:lnTo>
                  <a:lnTo>
                    <a:pt x="763" y="152"/>
                  </a:lnTo>
                  <a:lnTo>
                    <a:pt x="753" y="162"/>
                  </a:lnTo>
                  <a:lnTo>
                    <a:pt x="742" y="172"/>
                  </a:lnTo>
                  <a:lnTo>
                    <a:pt x="732" y="179"/>
                  </a:lnTo>
                  <a:lnTo>
                    <a:pt x="722" y="187"/>
                  </a:lnTo>
                  <a:lnTo>
                    <a:pt x="695" y="203"/>
                  </a:lnTo>
                  <a:lnTo>
                    <a:pt x="668" y="216"/>
                  </a:lnTo>
                  <a:lnTo>
                    <a:pt x="642" y="226"/>
                  </a:lnTo>
                  <a:lnTo>
                    <a:pt x="615" y="235"/>
                  </a:lnTo>
                  <a:lnTo>
                    <a:pt x="589" y="241"/>
                  </a:lnTo>
                  <a:lnTo>
                    <a:pt x="565" y="243"/>
                  </a:lnTo>
                  <a:lnTo>
                    <a:pt x="539" y="245"/>
                  </a:lnTo>
                  <a:lnTo>
                    <a:pt x="513" y="243"/>
                  </a:lnTo>
                  <a:lnTo>
                    <a:pt x="490" y="243"/>
                  </a:lnTo>
                  <a:lnTo>
                    <a:pt x="465" y="243"/>
                  </a:lnTo>
                  <a:lnTo>
                    <a:pt x="441" y="245"/>
                  </a:lnTo>
                  <a:lnTo>
                    <a:pt x="413" y="246"/>
                  </a:lnTo>
                  <a:lnTo>
                    <a:pt x="400" y="245"/>
                  </a:lnTo>
                  <a:lnTo>
                    <a:pt x="385" y="243"/>
                  </a:lnTo>
                  <a:lnTo>
                    <a:pt x="369" y="241"/>
                  </a:lnTo>
                  <a:lnTo>
                    <a:pt x="353" y="238"/>
                  </a:lnTo>
                  <a:lnTo>
                    <a:pt x="335" y="235"/>
                  </a:lnTo>
                  <a:lnTo>
                    <a:pt x="316" y="229"/>
                  </a:lnTo>
                  <a:lnTo>
                    <a:pt x="295" y="223"/>
                  </a:lnTo>
                  <a:lnTo>
                    <a:pt x="274" y="214"/>
                  </a:lnTo>
                  <a:lnTo>
                    <a:pt x="254" y="205"/>
                  </a:lnTo>
                  <a:lnTo>
                    <a:pt x="233" y="197"/>
                  </a:lnTo>
                  <a:lnTo>
                    <a:pt x="210" y="186"/>
                  </a:lnTo>
                  <a:lnTo>
                    <a:pt x="188" y="173"/>
                  </a:lnTo>
                  <a:lnTo>
                    <a:pt x="144" y="149"/>
                  </a:lnTo>
                  <a:lnTo>
                    <a:pt x="101" y="123"/>
                  </a:lnTo>
                  <a:lnTo>
                    <a:pt x="81" y="109"/>
                  </a:lnTo>
                  <a:lnTo>
                    <a:pt x="63" y="96"/>
                  </a:lnTo>
                  <a:lnTo>
                    <a:pt x="47" y="84"/>
                  </a:lnTo>
                  <a:lnTo>
                    <a:pt x="32" y="72"/>
                  </a:lnTo>
                  <a:lnTo>
                    <a:pt x="20" y="61"/>
                  </a:lnTo>
                  <a:lnTo>
                    <a:pt x="10" y="52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4" y="26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5" y="20"/>
                  </a:lnTo>
                  <a:lnTo>
                    <a:pt x="19" y="18"/>
                  </a:lnTo>
                  <a:lnTo>
                    <a:pt x="23" y="18"/>
                  </a:lnTo>
                  <a:lnTo>
                    <a:pt x="30" y="20"/>
                  </a:lnTo>
                  <a:lnTo>
                    <a:pt x="36" y="22"/>
                  </a:lnTo>
                  <a:lnTo>
                    <a:pt x="43" y="24"/>
                  </a:lnTo>
                  <a:lnTo>
                    <a:pt x="52" y="29"/>
                  </a:lnTo>
                  <a:lnTo>
                    <a:pt x="78" y="44"/>
                  </a:lnTo>
                  <a:lnTo>
                    <a:pt x="117" y="66"/>
                  </a:lnTo>
                  <a:lnTo>
                    <a:pt x="167" y="93"/>
                  </a:lnTo>
                  <a:lnTo>
                    <a:pt x="224" y="120"/>
                  </a:lnTo>
                  <a:lnTo>
                    <a:pt x="254" y="135"/>
                  </a:lnTo>
                  <a:lnTo>
                    <a:pt x="283" y="147"/>
                  </a:lnTo>
                  <a:lnTo>
                    <a:pt x="313" y="160"/>
                  </a:lnTo>
                  <a:lnTo>
                    <a:pt x="342" y="171"/>
                  </a:lnTo>
                  <a:lnTo>
                    <a:pt x="370" y="179"/>
                  </a:lnTo>
                  <a:lnTo>
                    <a:pt x="396" y="187"/>
                  </a:lnTo>
                  <a:lnTo>
                    <a:pt x="409" y="189"/>
                  </a:lnTo>
                  <a:lnTo>
                    <a:pt x="421" y="191"/>
                  </a:lnTo>
                  <a:lnTo>
                    <a:pt x="432" y="192"/>
                  </a:lnTo>
                  <a:lnTo>
                    <a:pt x="443" y="192"/>
                  </a:lnTo>
                  <a:lnTo>
                    <a:pt x="482" y="192"/>
                  </a:lnTo>
                  <a:lnTo>
                    <a:pt x="521" y="189"/>
                  </a:lnTo>
                  <a:lnTo>
                    <a:pt x="557" y="187"/>
                  </a:lnTo>
                  <a:lnTo>
                    <a:pt x="592" y="181"/>
                  </a:lnTo>
                  <a:lnTo>
                    <a:pt x="609" y="178"/>
                  </a:lnTo>
                  <a:lnTo>
                    <a:pt x="625" y="173"/>
                  </a:lnTo>
                  <a:lnTo>
                    <a:pt x="640" y="168"/>
                  </a:lnTo>
                  <a:lnTo>
                    <a:pt x="655" y="163"/>
                  </a:lnTo>
                  <a:lnTo>
                    <a:pt x="669" y="157"/>
                  </a:lnTo>
                  <a:lnTo>
                    <a:pt x="683" y="151"/>
                  </a:lnTo>
                  <a:lnTo>
                    <a:pt x="696" y="144"/>
                  </a:lnTo>
                  <a:lnTo>
                    <a:pt x="709" y="135"/>
                  </a:lnTo>
                  <a:lnTo>
                    <a:pt x="721" y="127"/>
                  </a:lnTo>
                  <a:lnTo>
                    <a:pt x="733" y="117"/>
                  </a:lnTo>
                  <a:lnTo>
                    <a:pt x="746" y="106"/>
                  </a:lnTo>
                  <a:lnTo>
                    <a:pt x="757" y="95"/>
                  </a:lnTo>
                  <a:lnTo>
                    <a:pt x="779" y="72"/>
                  </a:lnTo>
                  <a:lnTo>
                    <a:pt x="799" y="52"/>
                  </a:lnTo>
                  <a:lnTo>
                    <a:pt x="816" y="32"/>
                  </a:lnTo>
                  <a:lnTo>
                    <a:pt x="831" y="16"/>
                  </a:lnTo>
                  <a:lnTo>
                    <a:pt x="837" y="8"/>
                  </a:lnTo>
                  <a:lnTo>
                    <a:pt x="842" y="5"/>
                  </a:lnTo>
                  <a:lnTo>
                    <a:pt x="847" y="1"/>
                  </a:lnTo>
                  <a:lnTo>
                    <a:pt x="850" y="0"/>
                  </a:lnTo>
                  <a:lnTo>
                    <a:pt x="855" y="0"/>
                  </a:lnTo>
                  <a:lnTo>
                    <a:pt x="858" y="1"/>
                  </a:lnTo>
                  <a:lnTo>
                    <a:pt x="859" y="4"/>
                  </a:lnTo>
                  <a:lnTo>
                    <a:pt x="859" y="6"/>
                  </a:lnTo>
                  <a:lnTo>
                    <a:pt x="858" y="10"/>
                  </a:lnTo>
                  <a:lnTo>
                    <a:pt x="858" y="13"/>
                  </a:lnTo>
                  <a:lnTo>
                    <a:pt x="856" y="15"/>
                  </a:lnTo>
                  <a:lnTo>
                    <a:pt x="855" y="16"/>
                  </a:lnTo>
                  <a:close/>
                </a:path>
              </a:pathLst>
            </a:custGeom>
            <a:solidFill>
              <a:srgbClr val="674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6634080" y="2576520"/>
              <a:ext cx="263520" cy="69840"/>
            </a:xfrm>
            <a:custGeom>
              <a:avLst/>
              <a:gdLst/>
              <a:ahLst/>
              <a:rect l="l" t="t" r="r" b="b"/>
              <a:pathLst>
                <a:path w="833" h="220">
                  <a:moveTo>
                    <a:pt x="123" y="38"/>
                  </a:moveTo>
                  <a:lnTo>
                    <a:pt x="135" y="42"/>
                  </a:lnTo>
                  <a:lnTo>
                    <a:pt x="162" y="48"/>
                  </a:lnTo>
                  <a:lnTo>
                    <a:pt x="199" y="57"/>
                  </a:lnTo>
                  <a:lnTo>
                    <a:pt x="244" y="67"/>
                  </a:lnTo>
                  <a:lnTo>
                    <a:pt x="292" y="77"/>
                  </a:lnTo>
                  <a:lnTo>
                    <a:pt x="337" y="85"/>
                  </a:lnTo>
                  <a:lnTo>
                    <a:pt x="378" y="94"/>
                  </a:lnTo>
                  <a:lnTo>
                    <a:pt x="411" y="101"/>
                  </a:lnTo>
                  <a:lnTo>
                    <a:pt x="436" y="107"/>
                  </a:lnTo>
                  <a:lnTo>
                    <a:pt x="460" y="112"/>
                  </a:lnTo>
                  <a:lnTo>
                    <a:pt x="481" y="115"/>
                  </a:lnTo>
                  <a:lnTo>
                    <a:pt x="500" y="117"/>
                  </a:lnTo>
                  <a:lnTo>
                    <a:pt x="516" y="117"/>
                  </a:lnTo>
                  <a:lnTo>
                    <a:pt x="529" y="116"/>
                  </a:lnTo>
                  <a:lnTo>
                    <a:pt x="539" y="113"/>
                  </a:lnTo>
                  <a:lnTo>
                    <a:pt x="546" y="110"/>
                  </a:lnTo>
                  <a:lnTo>
                    <a:pt x="556" y="105"/>
                  </a:lnTo>
                  <a:lnTo>
                    <a:pt x="573" y="96"/>
                  </a:lnTo>
                  <a:lnTo>
                    <a:pt x="595" y="85"/>
                  </a:lnTo>
                  <a:lnTo>
                    <a:pt x="623" y="73"/>
                  </a:lnTo>
                  <a:lnTo>
                    <a:pt x="651" y="61"/>
                  </a:lnTo>
                  <a:lnTo>
                    <a:pt x="680" y="48"/>
                  </a:lnTo>
                  <a:lnTo>
                    <a:pt x="707" y="38"/>
                  </a:lnTo>
                  <a:lnTo>
                    <a:pt x="731" y="31"/>
                  </a:lnTo>
                  <a:lnTo>
                    <a:pt x="749" y="25"/>
                  </a:lnTo>
                  <a:lnTo>
                    <a:pt x="764" y="19"/>
                  </a:lnTo>
                  <a:lnTo>
                    <a:pt x="776" y="14"/>
                  </a:lnTo>
                  <a:lnTo>
                    <a:pt x="785" y="10"/>
                  </a:lnTo>
                  <a:lnTo>
                    <a:pt x="792" y="6"/>
                  </a:lnTo>
                  <a:lnTo>
                    <a:pt x="796" y="3"/>
                  </a:lnTo>
                  <a:lnTo>
                    <a:pt x="798" y="1"/>
                  </a:lnTo>
                  <a:lnTo>
                    <a:pt x="798" y="1"/>
                  </a:lnTo>
                  <a:lnTo>
                    <a:pt x="798" y="3"/>
                  </a:lnTo>
                  <a:lnTo>
                    <a:pt x="800" y="3"/>
                  </a:lnTo>
                  <a:lnTo>
                    <a:pt x="802" y="4"/>
                  </a:lnTo>
                  <a:lnTo>
                    <a:pt x="805" y="4"/>
                  </a:lnTo>
                  <a:lnTo>
                    <a:pt x="811" y="3"/>
                  </a:lnTo>
                  <a:lnTo>
                    <a:pt x="818" y="3"/>
                  </a:lnTo>
                  <a:lnTo>
                    <a:pt x="826" y="1"/>
                  </a:lnTo>
                  <a:lnTo>
                    <a:pt x="830" y="1"/>
                  </a:lnTo>
                  <a:lnTo>
                    <a:pt x="833" y="1"/>
                  </a:lnTo>
                  <a:lnTo>
                    <a:pt x="833" y="1"/>
                  </a:lnTo>
                  <a:lnTo>
                    <a:pt x="833" y="3"/>
                  </a:lnTo>
                  <a:lnTo>
                    <a:pt x="832" y="4"/>
                  </a:lnTo>
                  <a:lnTo>
                    <a:pt x="824" y="11"/>
                  </a:lnTo>
                  <a:lnTo>
                    <a:pt x="812" y="29"/>
                  </a:lnTo>
                  <a:lnTo>
                    <a:pt x="796" y="52"/>
                  </a:lnTo>
                  <a:lnTo>
                    <a:pt x="776" y="78"/>
                  </a:lnTo>
                  <a:lnTo>
                    <a:pt x="754" y="106"/>
                  </a:lnTo>
                  <a:lnTo>
                    <a:pt x="730" y="133"/>
                  </a:lnTo>
                  <a:lnTo>
                    <a:pt x="717" y="145"/>
                  </a:lnTo>
                  <a:lnTo>
                    <a:pt x="704" y="156"/>
                  </a:lnTo>
                  <a:lnTo>
                    <a:pt x="690" y="166"/>
                  </a:lnTo>
                  <a:lnTo>
                    <a:pt x="677" y="175"/>
                  </a:lnTo>
                  <a:lnTo>
                    <a:pt x="650" y="187"/>
                  </a:lnTo>
                  <a:lnTo>
                    <a:pt x="624" y="198"/>
                  </a:lnTo>
                  <a:lnTo>
                    <a:pt x="598" y="207"/>
                  </a:lnTo>
                  <a:lnTo>
                    <a:pt x="571" y="213"/>
                  </a:lnTo>
                  <a:lnTo>
                    <a:pt x="559" y="215"/>
                  </a:lnTo>
                  <a:lnTo>
                    <a:pt x="545" y="218"/>
                  </a:lnTo>
                  <a:lnTo>
                    <a:pt x="532" y="219"/>
                  </a:lnTo>
                  <a:lnTo>
                    <a:pt x="518" y="220"/>
                  </a:lnTo>
                  <a:lnTo>
                    <a:pt x="504" y="220"/>
                  </a:lnTo>
                  <a:lnTo>
                    <a:pt x="491" y="219"/>
                  </a:lnTo>
                  <a:lnTo>
                    <a:pt x="476" y="218"/>
                  </a:lnTo>
                  <a:lnTo>
                    <a:pt x="463" y="215"/>
                  </a:lnTo>
                  <a:lnTo>
                    <a:pt x="433" y="211"/>
                  </a:lnTo>
                  <a:lnTo>
                    <a:pt x="405" y="207"/>
                  </a:lnTo>
                  <a:lnTo>
                    <a:pt x="376" y="202"/>
                  </a:lnTo>
                  <a:lnTo>
                    <a:pt x="347" y="197"/>
                  </a:lnTo>
                  <a:lnTo>
                    <a:pt x="316" y="190"/>
                  </a:lnTo>
                  <a:lnTo>
                    <a:pt x="284" y="181"/>
                  </a:lnTo>
                  <a:lnTo>
                    <a:pt x="251" y="170"/>
                  </a:lnTo>
                  <a:lnTo>
                    <a:pt x="215" y="155"/>
                  </a:lnTo>
                  <a:lnTo>
                    <a:pt x="196" y="148"/>
                  </a:lnTo>
                  <a:lnTo>
                    <a:pt x="176" y="139"/>
                  </a:lnTo>
                  <a:lnTo>
                    <a:pt x="156" y="129"/>
                  </a:lnTo>
                  <a:lnTo>
                    <a:pt x="137" y="120"/>
                  </a:lnTo>
                  <a:lnTo>
                    <a:pt x="97" y="96"/>
                  </a:lnTo>
                  <a:lnTo>
                    <a:pt x="62" y="74"/>
                  </a:lnTo>
                  <a:lnTo>
                    <a:pt x="47" y="63"/>
                  </a:lnTo>
                  <a:lnTo>
                    <a:pt x="32" y="52"/>
                  </a:lnTo>
                  <a:lnTo>
                    <a:pt x="20" y="42"/>
                  </a:lnTo>
                  <a:lnTo>
                    <a:pt x="11" y="32"/>
                  </a:lnTo>
                  <a:lnTo>
                    <a:pt x="4" y="2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9" y="3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52" y="5"/>
                  </a:lnTo>
                  <a:lnTo>
                    <a:pt x="71" y="13"/>
                  </a:lnTo>
                  <a:lnTo>
                    <a:pt x="91" y="21"/>
                  </a:lnTo>
                  <a:lnTo>
                    <a:pt x="107" y="30"/>
                  </a:lnTo>
                  <a:lnTo>
                    <a:pt x="118" y="36"/>
                  </a:lnTo>
                  <a:lnTo>
                    <a:pt x="123" y="38"/>
                  </a:lnTo>
                  <a:close/>
                </a:path>
              </a:pathLst>
            </a:custGeom>
            <a:solidFill>
              <a:srgbClr val="6244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6634080" y="2576520"/>
              <a:ext cx="257400" cy="69840"/>
            </a:xfrm>
            <a:custGeom>
              <a:avLst/>
              <a:gdLst/>
              <a:ahLst/>
              <a:rect l="l" t="t" r="r" b="b"/>
              <a:pathLst>
                <a:path w="808" h="221">
                  <a:moveTo>
                    <a:pt x="102" y="44"/>
                  </a:moveTo>
                  <a:lnTo>
                    <a:pt x="118" y="50"/>
                  </a:lnTo>
                  <a:lnTo>
                    <a:pt x="147" y="60"/>
                  </a:lnTo>
                  <a:lnTo>
                    <a:pt x="188" y="74"/>
                  </a:lnTo>
                  <a:lnTo>
                    <a:pt x="235" y="87"/>
                  </a:lnTo>
                  <a:lnTo>
                    <a:pt x="284" y="102"/>
                  </a:lnTo>
                  <a:lnTo>
                    <a:pt x="333" y="115"/>
                  </a:lnTo>
                  <a:lnTo>
                    <a:pt x="376" y="126"/>
                  </a:lnTo>
                  <a:lnTo>
                    <a:pt x="412" y="134"/>
                  </a:lnTo>
                  <a:lnTo>
                    <a:pt x="441" y="138"/>
                  </a:lnTo>
                  <a:lnTo>
                    <a:pt x="468" y="140"/>
                  </a:lnTo>
                  <a:lnTo>
                    <a:pt x="494" y="141"/>
                  </a:lnTo>
                  <a:lnTo>
                    <a:pt x="518" y="141"/>
                  </a:lnTo>
                  <a:lnTo>
                    <a:pt x="540" y="140"/>
                  </a:lnTo>
                  <a:lnTo>
                    <a:pt x="558" y="136"/>
                  </a:lnTo>
                  <a:lnTo>
                    <a:pt x="567" y="134"/>
                  </a:lnTo>
                  <a:lnTo>
                    <a:pt x="574" y="131"/>
                  </a:lnTo>
                  <a:lnTo>
                    <a:pt x="580" y="129"/>
                  </a:lnTo>
                  <a:lnTo>
                    <a:pt x="585" y="125"/>
                  </a:lnTo>
                  <a:lnTo>
                    <a:pt x="599" y="117"/>
                  </a:lnTo>
                  <a:lnTo>
                    <a:pt x="617" y="104"/>
                  </a:lnTo>
                  <a:lnTo>
                    <a:pt x="638" y="90"/>
                  </a:lnTo>
                  <a:lnTo>
                    <a:pt x="663" y="75"/>
                  </a:lnTo>
                  <a:lnTo>
                    <a:pt x="687" y="60"/>
                  </a:lnTo>
                  <a:lnTo>
                    <a:pt x="711" y="47"/>
                  </a:lnTo>
                  <a:lnTo>
                    <a:pt x="733" y="35"/>
                  </a:lnTo>
                  <a:lnTo>
                    <a:pt x="751" y="27"/>
                  </a:lnTo>
                  <a:lnTo>
                    <a:pt x="767" y="22"/>
                  </a:lnTo>
                  <a:lnTo>
                    <a:pt x="780" y="17"/>
                  </a:lnTo>
                  <a:lnTo>
                    <a:pt x="790" y="13"/>
                  </a:lnTo>
                  <a:lnTo>
                    <a:pt x="797" y="8"/>
                  </a:lnTo>
                  <a:lnTo>
                    <a:pt x="803" y="5"/>
                  </a:lnTo>
                  <a:lnTo>
                    <a:pt x="806" y="2"/>
                  </a:lnTo>
                  <a:lnTo>
                    <a:pt x="808" y="1"/>
                  </a:lnTo>
                  <a:lnTo>
                    <a:pt x="808" y="0"/>
                  </a:lnTo>
                  <a:lnTo>
                    <a:pt x="807" y="6"/>
                  </a:lnTo>
                  <a:lnTo>
                    <a:pt x="806" y="12"/>
                  </a:lnTo>
                  <a:lnTo>
                    <a:pt x="807" y="17"/>
                  </a:lnTo>
                  <a:lnTo>
                    <a:pt x="807" y="23"/>
                  </a:lnTo>
                  <a:lnTo>
                    <a:pt x="807" y="28"/>
                  </a:lnTo>
                  <a:lnTo>
                    <a:pt x="807" y="33"/>
                  </a:lnTo>
                  <a:lnTo>
                    <a:pt x="803" y="39"/>
                  </a:lnTo>
                  <a:lnTo>
                    <a:pt x="798" y="44"/>
                  </a:lnTo>
                  <a:lnTo>
                    <a:pt x="785" y="54"/>
                  </a:lnTo>
                  <a:lnTo>
                    <a:pt x="769" y="71"/>
                  </a:lnTo>
                  <a:lnTo>
                    <a:pt x="750" y="91"/>
                  </a:lnTo>
                  <a:lnTo>
                    <a:pt x="730" y="114"/>
                  </a:lnTo>
                  <a:lnTo>
                    <a:pt x="707" y="136"/>
                  </a:lnTo>
                  <a:lnTo>
                    <a:pt x="684" y="157"/>
                  </a:lnTo>
                  <a:lnTo>
                    <a:pt x="671" y="167"/>
                  </a:lnTo>
                  <a:lnTo>
                    <a:pt x="658" y="176"/>
                  </a:lnTo>
                  <a:lnTo>
                    <a:pt x="646" y="182"/>
                  </a:lnTo>
                  <a:lnTo>
                    <a:pt x="632" y="188"/>
                  </a:lnTo>
                  <a:lnTo>
                    <a:pt x="605" y="198"/>
                  </a:lnTo>
                  <a:lnTo>
                    <a:pt x="579" y="206"/>
                  </a:lnTo>
                  <a:lnTo>
                    <a:pt x="553" y="213"/>
                  </a:lnTo>
                  <a:lnTo>
                    <a:pt x="526" y="219"/>
                  </a:lnTo>
                  <a:lnTo>
                    <a:pt x="513" y="220"/>
                  </a:lnTo>
                  <a:lnTo>
                    <a:pt x="499" y="221"/>
                  </a:lnTo>
                  <a:lnTo>
                    <a:pt x="486" y="221"/>
                  </a:lnTo>
                  <a:lnTo>
                    <a:pt x="471" y="221"/>
                  </a:lnTo>
                  <a:lnTo>
                    <a:pt x="456" y="220"/>
                  </a:lnTo>
                  <a:lnTo>
                    <a:pt x="441" y="219"/>
                  </a:lnTo>
                  <a:lnTo>
                    <a:pt x="425" y="216"/>
                  </a:lnTo>
                  <a:lnTo>
                    <a:pt x="409" y="213"/>
                  </a:lnTo>
                  <a:lnTo>
                    <a:pt x="377" y="204"/>
                  </a:lnTo>
                  <a:lnTo>
                    <a:pt x="345" y="194"/>
                  </a:lnTo>
                  <a:lnTo>
                    <a:pt x="312" y="184"/>
                  </a:lnTo>
                  <a:lnTo>
                    <a:pt x="279" y="174"/>
                  </a:lnTo>
                  <a:lnTo>
                    <a:pt x="247" y="163"/>
                  </a:lnTo>
                  <a:lnTo>
                    <a:pt x="215" y="151"/>
                  </a:lnTo>
                  <a:lnTo>
                    <a:pt x="184" y="138"/>
                  </a:lnTo>
                  <a:lnTo>
                    <a:pt x="154" y="123"/>
                  </a:lnTo>
                  <a:lnTo>
                    <a:pt x="126" y="109"/>
                  </a:lnTo>
                  <a:lnTo>
                    <a:pt x="97" y="94"/>
                  </a:lnTo>
                  <a:lnTo>
                    <a:pt x="69" y="79"/>
                  </a:lnTo>
                  <a:lnTo>
                    <a:pt x="43" y="63"/>
                  </a:lnTo>
                  <a:lnTo>
                    <a:pt x="30" y="54"/>
                  </a:lnTo>
                  <a:lnTo>
                    <a:pt x="21" y="47"/>
                  </a:lnTo>
                  <a:lnTo>
                    <a:pt x="13" y="39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5" y="13"/>
                  </a:lnTo>
                  <a:lnTo>
                    <a:pt x="10" y="12"/>
                  </a:lnTo>
                  <a:lnTo>
                    <a:pt x="14" y="11"/>
                  </a:lnTo>
                  <a:lnTo>
                    <a:pt x="21" y="11"/>
                  </a:lnTo>
                  <a:lnTo>
                    <a:pt x="28" y="12"/>
                  </a:lnTo>
                  <a:lnTo>
                    <a:pt x="44" y="17"/>
                  </a:lnTo>
                  <a:lnTo>
                    <a:pt x="59" y="23"/>
                  </a:lnTo>
                  <a:lnTo>
                    <a:pt x="75" y="29"/>
                  </a:lnTo>
                  <a:lnTo>
                    <a:pt x="87" y="35"/>
                  </a:lnTo>
                  <a:lnTo>
                    <a:pt x="97" y="42"/>
                  </a:lnTo>
                  <a:lnTo>
                    <a:pt x="102" y="44"/>
                  </a:lnTo>
                  <a:close/>
                </a:path>
              </a:pathLst>
            </a:custGeom>
            <a:solidFill>
              <a:srgbClr val="5d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6635880" y="2576520"/>
              <a:ext cx="260280" cy="69840"/>
            </a:xfrm>
            <a:custGeom>
              <a:avLst/>
              <a:gdLst/>
              <a:ahLst/>
              <a:rect l="l" t="t" r="r" b="b"/>
              <a:pathLst>
                <a:path w="817" h="221">
                  <a:moveTo>
                    <a:pt x="81" y="49"/>
                  </a:moveTo>
                  <a:lnTo>
                    <a:pt x="99" y="59"/>
                  </a:lnTo>
                  <a:lnTo>
                    <a:pt x="131" y="72"/>
                  </a:lnTo>
                  <a:lnTo>
                    <a:pt x="174" y="90"/>
                  </a:lnTo>
                  <a:lnTo>
                    <a:pt x="224" y="108"/>
                  </a:lnTo>
                  <a:lnTo>
                    <a:pt x="275" y="126"/>
                  </a:lnTo>
                  <a:lnTo>
                    <a:pt x="327" y="142"/>
                  </a:lnTo>
                  <a:lnTo>
                    <a:pt x="350" y="149"/>
                  </a:lnTo>
                  <a:lnTo>
                    <a:pt x="374" y="154"/>
                  </a:lnTo>
                  <a:lnTo>
                    <a:pt x="395" y="158"/>
                  </a:lnTo>
                  <a:lnTo>
                    <a:pt x="412" y="161"/>
                  </a:lnTo>
                  <a:lnTo>
                    <a:pt x="445" y="163"/>
                  </a:lnTo>
                  <a:lnTo>
                    <a:pt x="477" y="166"/>
                  </a:lnTo>
                  <a:lnTo>
                    <a:pt x="508" y="166"/>
                  </a:lnTo>
                  <a:lnTo>
                    <a:pt x="536" y="163"/>
                  </a:lnTo>
                  <a:lnTo>
                    <a:pt x="563" y="161"/>
                  </a:lnTo>
                  <a:lnTo>
                    <a:pt x="586" y="155"/>
                  </a:lnTo>
                  <a:lnTo>
                    <a:pt x="598" y="152"/>
                  </a:lnTo>
                  <a:lnTo>
                    <a:pt x="607" y="147"/>
                  </a:lnTo>
                  <a:lnTo>
                    <a:pt x="616" y="144"/>
                  </a:lnTo>
                  <a:lnTo>
                    <a:pt x="625" y="139"/>
                  </a:lnTo>
                  <a:lnTo>
                    <a:pt x="641" y="126"/>
                  </a:lnTo>
                  <a:lnTo>
                    <a:pt x="659" y="112"/>
                  </a:lnTo>
                  <a:lnTo>
                    <a:pt x="680" y="94"/>
                  </a:lnTo>
                  <a:lnTo>
                    <a:pt x="701" y="76"/>
                  </a:lnTo>
                  <a:lnTo>
                    <a:pt x="722" y="60"/>
                  </a:lnTo>
                  <a:lnTo>
                    <a:pt x="741" y="44"/>
                  </a:lnTo>
                  <a:lnTo>
                    <a:pt x="760" y="32"/>
                  </a:lnTo>
                  <a:lnTo>
                    <a:pt x="773" y="24"/>
                  </a:lnTo>
                  <a:lnTo>
                    <a:pt x="786" y="19"/>
                  </a:lnTo>
                  <a:lnTo>
                    <a:pt x="796" y="15"/>
                  </a:lnTo>
                  <a:lnTo>
                    <a:pt x="803" y="11"/>
                  </a:lnTo>
                  <a:lnTo>
                    <a:pt x="809" y="7"/>
                  </a:lnTo>
                  <a:lnTo>
                    <a:pt x="813" y="5"/>
                  </a:lnTo>
                  <a:lnTo>
                    <a:pt x="815" y="2"/>
                  </a:lnTo>
                  <a:lnTo>
                    <a:pt x="817" y="1"/>
                  </a:lnTo>
                  <a:lnTo>
                    <a:pt x="817" y="0"/>
                  </a:lnTo>
                  <a:lnTo>
                    <a:pt x="813" y="10"/>
                  </a:lnTo>
                  <a:lnTo>
                    <a:pt x="808" y="19"/>
                  </a:lnTo>
                  <a:lnTo>
                    <a:pt x="803" y="31"/>
                  </a:lnTo>
                  <a:lnTo>
                    <a:pt x="797" y="42"/>
                  </a:lnTo>
                  <a:lnTo>
                    <a:pt x="789" y="53"/>
                  </a:lnTo>
                  <a:lnTo>
                    <a:pt x="781" y="64"/>
                  </a:lnTo>
                  <a:lnTo>
                    <a:pt x="771" y="74"/>
                  </a:lnTo>
                  <a:lnTo>
                    <a:pt x="760" y="82"/>
                  </a:lnTo>
                  <a:lnTo>
                    <a:pt x="743" y="94"/>
                  </a:lnTo>
                  <a:lnTo>
                    <a:pt x="724" y="109"/>
                  </a:lnTo>
                  <a:lnTo>
                    <a:pt x="703" y="128"/>
                  </a:lnTo>
                  <a:lnTo>
                    <a:pt x="682" y="145"/>
                  </a:lnTo>
                  <a:lnTo>
                    <a:pt x="659" y="163"/>
                  </a:lnTo>
                  <a:lnTo>
                    <a:pt x="636" y="179"/>
                  </a:lnTo>
                  <a:lnTo>
                    <a:pt x="623" y="187"/>
                  </a:lnTo>
                  <a:lnTo>
                    <a:pt x="611" y="193"/>
                  </a:lnTo>
                  <a:lnTo>
                    <a:pt x="599" y="198"/>
                  </a:lnTo>
                  <a:lnTo>
                    <a:pt x="586" y="202"/>
                  </a:lnTo>
                  <a:lnTo>
                    <a:pt x="559" y="206"/>
                  </a:lnTo>
                  <a:lnTo>
                    <a:pt x="534" y="213"/>
                  </a:lnTo>
                  <a:lnTo>
                    <a:pt x="508" y="216"/>
                  </a:lnTo>
                  <a:lnTo>
                    <a:pt x="481" y="220"/>
                  </a:lnTo>
                  <a:lnTo>
                    <a:pt x="467" y="221"/>
                  </a:lnTo>
                  <a:lnTo>
                    <a:pt x="454" y="221"/>
                  </a:lnTo>
                  <a:lnTo>
                    <a:pt x="439" y="221"/>
                  </a:lnTo>
                  <a:lnTo>
                    <a:pt x="423" y="220"/>
                  </a:lnTo>
                  <a:lnTo>
                    <a:pt x="408" y="219"/>
                  </a:lnTo>
                  <a:lnTo>
                    <a:pt x="391" y="215"/>
                  </a:lnTo>
                  <a:lnTo>
                    <a:pt x="374" y="211"/>
                  </a:lnTo>
                  <a:lnTo>
                    <a:pt x="355" y="206"/>
                  </a:lnTo>
                  <a:lnTo>
                    <a:pt x="321" y="195"/>
                  </a:lnTo>
                  <a:lnTo>
                    <a:pt x="285" y="182"/>
                  </a:lnTo>
                  <a:lnTo>
                    <a:pt x="248" y="167"/>
                  </a:lnTo>
                  <a:lnTo>
                    <a:pt x="212" y="151"/>
                  </a:lnTo>
                  <a:lnTo>
                    <a:pt x="178" y="134"/>
                  </a:lnTo>
                  <a:lnTo>
                    <a:pt x="147" y="117"/>
                  </a:lnTo>
                  <a:lnTo>
                    <a:pt x="118" y="101"/>
                  </a:lnTo>
                  <a:lnTo>
                    <a:pt x="94" y="85"/>
                  </a:lnTo>
                  <a:lnTo>
                    <a:pt x="76" y="76"/>
                  </a:lnTo>
                  <a:lnTo>
                    <a:pt x="56" y="67"/>
                  </a:lnTo>
                  <a:lnTo>
                    <a:pt x="38" y="58"/>
                  </a:lnTo>
                  <a:lnTo>
                    <a:pt x="22" y="47"/>
                  </a:lnTo>
                  <a:lnTo>
                    <a:pt x="9" y="38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" y="23"/>
                  </a:lnTo>
                  <a:lnTo>
                    <a:pt x="5" y="22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7" y="21"/>
                  </a:lnTo>
                  <a:lnTo>
                    <a:pt x="23" y="22"/>
                  </a:lnTo>
                  <a:lnTo>
                    <a:pt x="34" y="26"/>
                  </a:lnTo>
                  <a:lnTo>
                    <a:pt x="46" y="31"/>
                  </a:lnTo>
                  <a:lnTo>
                    <a:pt x="57" y="35"/>
                  </a:lnTo>
                  <a:lnTo>
                    <a:pt x="67" y="42"/>
                  </a:lnTo>
                  <a:lnTo>
                    <a:pt x="76" y="47"/>
                  </a:lnTo>
                  <a:lnTo>
                    <a:pt x="81" y="49"/>
                  </a:lnTo>
                  <a:close/>
                </a:path>
              </a:pathLst>
            </a:custGeom>
            <a:solidFill>
              <a:srgbClr val="57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6637320" y="2575080"/>
              <a:ext cx="263520" cy="73080"/>
            </a:xfrm>
            <a:custGeom>
              <a:avLst/>
              <a:gdLst/>
              <a:ahLst/>
              <a:rect l="l" t="t" r="r" b="b"/>
              <a:pathLst>
                <a:path w="829" h="227">
                  <a:moveTo>
                    <a:pt x="63" y="57"/>
                  </a:moveTo>
                  <a:lnTo>
                    <a:pt x="85" y="69"/>
                  </a:lnTo>
                  <a:lnTo>
                    <a:pt x="121" y="88"/>
                  </a:lnTo>
                  <a:lnTo>
                    <a:pt x="165" y="109"/>
                  </a:lnTo>
                  <a:lnTo>
                    <a:pt x="217" y="132"/>
                  </a:lnTo>
                  <a:lnTo>
                    <a:pt x="244" y="143"/>
                  </a:lnTo>
                  <a:lnTo>
                    <a:pt x="272" y="154"/>
                  </a:lnTo>
                  <a:lnTo>
                    <a:pt x="299" y="164"/>
                  </a:lnTo>
                  <a:lnTo>
                    <a:pt x="326" y="173"/>
                  </a:lnTo>
                  <a:lnTo>
                    <a:pt x="352" y="181"/>
                  </a:lnTo>
                  <a:lnTo>
                    <a:pt x="375" y="187"/>
                  </a:lnTo>
                  <a:lnTo>
                    <a:pt x="399" y="191"/>
                  </a:lnTo>
                  <a:lnTo>
                    <a:pt x="418" y="193"/>
                  </a:lnTo>
                  <a:lnTo>
                    <a:pt x="455" y="193"/>
                  </a:lnTo>
                  <a:lnTo>
                    <a:pt x="491" y="193"/>
                  </a:lnTo>
                  <a:lnTo>
                    <a:pt x="525" y="192"/>
                  </a:lnTo>
                  <a:lnTo>
                    <a:pt x="559" y="190"/>
                  </a:lnTo>
                  <a:lnTo>
                    <a:pt x="573" y="187"/>
                  </a:lnTo>
                  <a:lnTo>
                    <a:pt x="588" y="185"/>
                  </a:lnTo>
                  <a:lnTo>
                    <a:pt x="603" y="181"/>
                  </a:lnTo>
                  <a:lnTo>
                    <a:pt x="616" y="177"/>
                  </a:lnTo>
                  <a:lnTo>
                    <a:pt x="630" y="174"/>
                  </a:lnTo>
                  <a:lnTo>
                    <a:pt x="641" y="168"/>
                  </a:lnTo>
                  <a:lnTo>
                    <a:pt x="653" y="161"/>
                  </a:lnTo>
                  <a:lnTo>
                    <a:pt x="663" y="155"/>
                  </a:lnTo>
                  <a:lnTo>
                    <a:pt x="684" y="139"/>
                  </a:lnTo>
                  <a:lnTo>
                    <a:pt x="705" y="121"/>
                  </a:lnTo>
                  <a:lnTo>
                    <a:pt x="725" y="100"/>
                  </a:lnTo>
                  <a:lnTo>
                    <a:pt x="744" y="80"/>
                  </a:lnTo>
                  <a:lnTo>
                    <a:pt x="762" y="61"/>
                  </a:lnTo>
                  <a:lnTo>
                    <a:pt x="778" y="45"/>
                  </a:lnTo>
                  <a:lnTo>
                    <a:pt x="790" y="32"/>
                  </a:lnTo>
                  <a:lnTo>
                    <a:pt x="799" y="25"/>
                  </a:lnTo>
                  <a:lnTo>
                    <a:pt x="807" y="20"/>
                  </a:lnTo>
                  <a:lnTo>
                    <a:pt x="813" y="15"/>
                  </a:lnTo>
                  <a:lnTo>
                    <a:pt x="819" y="11"/>
                  </a:lnTo>
                  <a:lnTo>
                    <a:pt x="823" y="8"/>
                  </a:lnTo>
                  <a:lnTo>
                    <a:pt x="826" y="5"/>
                  </a:lnTo>
                  <a:lnTo>
                    <a:pt x="828" y="3"/>
                  </a:lnTo>
                  <a:lnTo>
                    <a:pt x="828" y="2"/>
                  </a:lnTo>
                  <a:lnTo>
                    <a:pt x="829" y="0"/>
                  </a:lnTo>
                  <a:lnTo>
                    <a:pt x="822" y="14"/>
                  </a:lnTo>
                  <a:lnTo>
                    <a:pt x="812" y="29"/>
                  </a:lnTo>
                  <a:lnTo>
                    <a:pt x="801" y="46"/>
                  </a:lnTo>
                  <a:lnTo>
                    <a:pt x="787" y="63"/>
                  </a:lnTo>
                  <a:lnTo>
                    <a:pt x="774" y="82"/>
                  </a:lnTo>
                  <a:lnTo>
                    <a:pt x="759" y="97"/>
                  </a:lnTo>
                  <a:lnTo>
                    <a:pt x="752" y="105"/>
                  </a:lnTo>
                  <a:lnTo>
                    <a:pt x="743" y="112"/>
                  </a:lnTo>
                  <a:lnTo>
                    <a:pt x="736" y="117"/>
                  </a:lnTo>
                  <a:lnTo>
                    <a:pt x="728" y="122"/>
                  </a:lnTo>
                  <a:lnTo>
                    <a:pt x="705" y="137"/>
                  </a:lnTo>
                  <a:lnTo>
                    <a:pt x="683" y="153"/>
                  </a:lnTo>
                  <a:lnTo>
                    <a:pt x="660" y="168"/>
                  </a:lnTo>
                  <a:lnTo>
                    <a:pt x="637" y="181"/>
                  </a:lnTo>
                  <a:lnTo>
                    <a:pt x="614" y="193"/>
                  </a:lnTo>
                  <a:lnTo>
                    <a:pt x="591" y="203"/>
                  </a:lnTo>
                  <a:lnTo>
                    <a:pt x="578" y="208"/>
                  </a:lnTo>
                  <a:lnTo>
                    <a:pt x="566" y="211"/>
                  </a:lnTo>
                  <a:lnTo>
                    <a:pt x="554" y="213"/>
                  </a:lnTo>
                  <a:lnTo>
                    <a:pt x="540" y="216"/>
                  </a:lnTo>
                  <a:lnTo>
                    <a:pt x="516" y="218"/>
                  </a:lnTo>
                  <a:lnTo>
                    <a:pt x="491" y="220"/>
                  </a:lnTo>
                  <a:lnTo>
                    <a:pt x="465" y="224"/>
                  </a:lnTo>
                  <a:lnTo>
                    <a:pt x="439" y="225"/>
                  </a:lnTo>
                  <a:lnTo>
                    <a:pt x="425" y="227"/>
                  </a:lnTo>
                  <a:lnTo>
                    <a:pt x="410" y="225"/>
                  </a:lnTo>
                  <a:lnTo>
                    <a:pt x="395" y="224"/>
                  </a:lnTo>
                  <a:lnTo>
                    <a:pt x="379" y="223"/>
                  </a:lnTo>
                  <a:lnTo>
                    <a:pt x="362" y="219"/>
                  </a:lnTo>
                  <a:lnTo>
                    <a:pt x="343" y="216"/>
                  </a:lnTo>
                  <a:lnTo>
                    <a:pt x="325" y="211"/>
                  </a:lnTo>
                  <a:lnTo>
                    <a:pt x="304" y="205"/>
                  </a:lnTo>
                  <a:lnTo>
                    <a:pt x="266" y="189"/>
                  </a:lnTo>
                  <a:lnTo>
                    <a:pt x="226" y="171"/>
                  </a:lnTo>
                  <a:lnTo>
                    <a:pt x="186" y="150"/>
                  </a:lnTo>
                  <a:lnTo>
                    <a:pt x="147" y="129"/>
                  </a:lnTo>
                  <a:lnTo>
                    <a:pt x="111" y="107"/>
                  </a:lnTo>
                  <a:lnTo>
                    <a:pt x="80" y="86"/>
                  </a:lnTo>
                  <a:lnTo>
                    <a:pt x="67" y="78"/>
                  </a:lnTo>
                  <a:lnTo>
                    <a:pt x="55" y="68"/>
                  </a:lnTo>
                  <a:lnTo>
                    <a:pt x="46" y="59"/>
                  </a:lnTo>
                  <a:lnTo>
                    <a:pt x="38" y="52"/>
                  </a:lnTo>
                  <a:lnTo>
                    <a:pt x="28" y="48"/>
                  </a:lnTo>
                  <a:lnTo>
                    <a:pt x="20" y="45"/>
                  </a:lnTo>
                  <a:lnTo>
                    <a:pt x="12" y="41"/>
                  </a:lnTo>
                  <a:lnTo>
                    <a:pt x="6" y="37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3" y="32"/>
                  </a:lnTo>
                  <a:lnTo>
                    <a:pt x="9" y="34"/>
                  </a:lnTo>
                  <a:lnTo>
                    <a:pt x="14" y="34"/>
                  </a:lnTo>
                  <a:lnTo>
                    <a:pt x="21" y="36"/>
                  </a:lnTo>
                  <a:lnTo>
                    <a:pt x="28" y="40"/>
                  </a:lnTo>
                  <a:lnTo>
                    <a:pt x="37" y="43"/>
                  </a:lnTo>
                  <a:lnTo>
                    <a:pt x="44" y="47"/>
                  </a:lnTo>
                  <a:lnTo>
                    <a:pt x="52" y="52"/>
                  </a:lnTo>
                  <a:lnTo>
                    <a:pt x="58" y="54"/>
                  </a:lnTo>
                  <a:lnTo>
                    <a:pt x="63" y="57"/>
                  </a:lnTo>
                  <a:close/>
                </a:path>
              </a:pathLst>
            </a:custGeom>
            <a:solidFill>
              <a:srgbClr val="523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6632640" y="2575080"/>
              <a:ext cx="271440" cy="73080"/>
            </a:xfrm>
            <a:custGeom>
              <a:avLst/>
              <a:gdLst/>
              <a:ahLst/>
              <a:rect l="l" t="t" r="r" b="b"/>
              <a:pathLst>
                <a:path w="855" h="230">
                  <a:moveTo>
                    <a:pt x="855" y="0"/>
                  </a:moveTo>
                  <a:lnTo>
                    <a:pt x="847" y="17"/>
                  </a:lnTo>
                  <a:lnTo>
                    <a:pt x="833" y="38"/>
                  </a:lnTo>
                  <a:lnTo>
                    <a:pt x="817" y="60"/>
                  </a:lnTo>
                  <a:lnTo>
                    <a:pt x="797" y="85"/>
                  </a:lnTo>
                  <a:lnTo>
                    <a:pt x="775" y="108"/>
                  </a:lnTo>
                  <a:lnTo>
                    <a:pt x="753" y="129"/>
                  </a:lnTo>
                  <a:lnTo>
                    <a:pt x="732" y="147"/>
                  </a:lnTo>
                  <a:lnTo>
                    <a:pt x="711" y="162"/>
                  </a:lnTo>
                  <a:lnTo>
                    <a:pt x="685" y="179"/>
                  </a:lnTo>
                  <a:lnTo>
                    <a:pt x="660" y="194"/>
                  </a:lnTo>
                  <a:lnTo>
                    <a:pt x="635" y="207"/>
                  </a:lnTo>
                  <a:lnTo>
                    <a:pt x="610" y="215"/>
                  </a:lnTo>
                  <a:lnTo>
                    <a:pt x="598" y="220"/>
                  </a:lnTo>
                  <a:lnTo>
                    <a:pt x="587" y="222"/>
                  </a:lnTo>
                  <a:lnTo>
                    <a:pt x="575" y="225"/>
                  </a:lnTo>
                  <a:lnTo>
                    <a:pt x="562" y="227"/>
                  </a:lnTo>
                  <a:lnTo>
                    <a:pt x="550" y="229"/>
                  </a:lnTo>
                  <a:lnTo>
                    <a:pt x="538" y="229"/>
                  </a:lnTo>
                  <a:lnTo>
                    <a:pt x="525" y="229"/>
                  </a:lnTo>
                  <a:lnTo>
                    <a:pt x="513" y="227"/>
                  </a:lnTo>
                  <a:lnTo>
                    <a:pt x="490" y="227"/>
                  </a:lnTo>
                  <a:lnTo>
                    <a:pt x="465" y="227"/>
                  </a:lnTo>
                  <a:lnTo>
                    <a:pt x="441" y="229"/>
                  </a:lnTo>
                  <a:lnTo>
                    <a:pt x="413" y="230"/>
                  </a:lnTo>
                  <a:lnTo>
                    <a:pt x="400" y="229"/>
                  </a:lnTo>
                  <a:lnTo>
                    <a:pt x="385" y="227"/>
                  </a:lnTo>
                  <a:lnTo>
                    <a:pt x="369" y="225"/>
                  </a:lnTo>
                  <a:lnTo>
                    <a:pt x="353" y="222"/>
                  </a:lnTo>
                  <a:lnTo>
                    <a:pt x="335" y="219"/>
                  </a:lnTo>
                  <a:lnTo>
                    <a:pt x="316" y="213"/>
                  </a:lnTo>
                  <a:lnTo>
                    <a:pt x="295" y="207"/>
                  </a:lnTo>
                  <a:lnTo>
                    <a:pt x="274" y="198"/>
                  </a:lnTo>
                  <a:lnTo>
                    <a:pt x="254" y="189"/>
                  </a:lnTo>
                  <a:lnTo>
                    <a:pt x="233" y="181"/>
                  </a:lnTo>
                  <a:lnTo>
                    <a:pt x="210" y="170"/>
                  </a:lnTo>
                  <a:lnTo>
                    <a:pt x="188" y="157"/>
                  </a:lnTo>
                  <a:lnTo>
                    <a:pt x="144" y="133"/>
                  </a:lnTo>
                  <a:lnTo>
                    <a:pt x="101" y="107"/>
                  </a:lnTo>
                  <a:lnTo>
                    <a:pt x="81" y="93"/>
                  </a:lnTo>
                  <a:lnTo>
                    <a:pt x="63" y="80"/>
                  </a:lnTo>
                  <a:lnTo>
                    <a:pt x="47" y="68"/>
                  </a:lnTo>
                  <a:lnTo>
                    <a:pt x="32" y="56"/>
                  </a:lnTo>
                  <a:lnTo>
                    <a:pt x="20" y="45"/>
                  </a:lnTo>
                  <a:lnTo>
                    <a:pt x="10" y="36"/>
                  </a:lnTo>
                  <a:lnTo>
                    <a:pt x="4" y="2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3" y="22"/>
                  </a:lnTo>
                  <a:lnTo>
                    <a:pt x="7" y="26"/>
                  </a:lnTo>
                  <a:lnTo>
                    <a:pt x="14" y="32"/>
                  </a:lnTo>
                  <a:lnTo>
                    <a:pt x="22" y="38"/>
                  </a:lnTo>
                  <a:lnTo>
                    <a:pt x="33" y="45"/>
                  </a:lnTo>
                  <a:lnTo>
                    <a:pt x="47" y="53"/>
                  </a:lnTo>
                  <a:lnTo>
                    <a:pt x="63" y="63"/>
                  </a:lnTo>
                  <a:lnTo>
                    <a:pt x="87" y="77"/>
                  </a:lnTo>
                  <a:lnTo>
                    <a:pt x="126" y="98"/>
                  </a:lnTo>
                  <a:lnTo>
                    <a:pt x="174" y="125"/>
                  </a:lnTo>
                  <a:lnTo>
                    <a:pt x="228" y="152"/>
                  </a:lnTo>
                  <a:lnTo>
                    <a:pt x="256" y="166"/>
                  </a:lnTo>
                  <a:lnTo>
                    <a:pt x="284" y="179"/>
                  </a:lnTo>
                  <a:lnTo>
                    <a:pt x="314" y="191"/>
                  </a:lnTo>
                  <a:lnTo>
                    <a:pt x="342" y="202"/>
                  </a:lnTo>
                  <a:lnTo>
                    <a:pt x="369" y="210"/>
                  </a:lnTo>
                  <a:lnTo>
                    <a:pt x="394" y="216"/>
                  </a:lnTo>
                  <a:lnTo>
                    <a:pt x="406" y="219"/>
                  </a:lnTo>
                  <a:lnTo>
                    <a:pt x="418" y="221"/>
                  </a:lnTo>
                  <a:lnTo>
                    <a:pt x="429" y="222"/>
                  </a:lnTo>
                  <a:lnTo>
                    <a:pt x="439" y="222"/>
                  </a:lnTo>
                  <a:lnTo>
                    <a:pt x="480" y="222"/>
                  </a:lnTo>
                  <a:lnTo>
                    <a:pt x="521" y="221"/>
                  </a:lnTo>
                  <a:lnTo>
                    <a:pt x="559" y="219"/>
                  </a:lnTo>
                  <a:lnTo>
                    <a:pt x="597" y="214"/>
                  </a:lnTo>
                  <a:lnTo>
                    <a:pt x="614" y="211"/>
                  </a:lnTo>
                  <a:lnTo>
                    <a:pt x="632" y="208"/>
                  </a:lnTo>
                  <a:lnTo>
                    <a:pt x="648" y="203"/>
                  </a:lnTo>
                  <a:lnTo>
                    <a:pt x="664" y="198"/>
                  </a:lnTo>
                  <a:lnTo>
                    <a:pt x="680" y="193"/>
                  </a:lnTo>
                  <a:lnTo>
                    <a:pt x="695" y="187"/>
                  </a:lnTo>
                  <a:lnTo>
                    <a:pt x="709" y="179"/>
                  </a:lnTo>
                  <a:lnTo>
                    <a:pt x="722" y="171"/>
                  </a:lnTo>
                  <a:lnTo>
                    <a:pt x="735" y="161"/>
                  </a:lnTo>
                  <a:lnTo>
                    <a:pt x="747" y="151"/>
                  </a:lnTo>
                  <a:lnTo>
                    <a:pt x="758" y="140"/>
                  </a:lnTo>
                  <a:lnTo>
                    <a:pt x="769" y="129"/>
                  </a:lnTo>
                  <a:lnTo>
                    <a:pt x="787" y="106"/>
                  </a:lnTo>
                  <a:lnTo>
                    <a:pt x="805" y="82"/>
                  </a:lnTo>
                  <a:lnTo>
                    <a:pt x="818" y="61"/>
                  </a:lnTo>
                  <a:lnTo>
                    <a:pt x="829" y="44"/>
                  </a:lnTo>
                  <a:lnTo>
                    <a:pt x="838" y="31"/>
                  </a:lnTo>
                  <a:lnTo>
                    <a:pt x="842" y="24"/>
                  </a:lnTo>
                  <a:lnTo>
                    <a:pt x="845" y="20"/>
                  </a:lnTo>
                  <a:lnTo>
                    <a:pt x="849" y="15"/>
                  </a:lnTo>
                  <a:lnTo>
                    <a:pt x="851" y="11"/>
                  </a:lnTo>
                  <a:lnTo>
                    <a:pt x="853" y="7"/>
                  </a:lnTo>
                  <a:lnTo>
                    <a:pt x="854" y="4"/>
                  </a:lnTo>
                  <a:lnTo>
                    <a:pt x="855" y="1"/>
                  </a:lnTo>
                  <a:lnTo>
                    <a:pt x="855" y="0"/>
                  </a:lnTo>
                  <a:lnTo>
                    <a:pt x="855" y="0"/>
                  </a:lnTo>
                  <a:close/>
                </a:path>
              </a:pathLst>
            </a:custGeom>
            <a:solidFill>
              <a:srgbClr val="4c3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6620040" y="2533680"/>
              <a:ext cx="287280" cy="42840"/>
            </a:xfrm>
            <a:custGeom>
              <a:avLst/>
              <a:gdLst/>
              <a:ahLst/>
              <a:rect l="l" t="t" r="r" b="b"/>
              <a:pathLst>
                <a:path w="905" h="135">
                  <a:moveTo>
                    <a:pt x="23" y="107"/>
                  </a:moveTo>
                  <a:lnTo>
                    <a:pt x="34" y="106"/>
                  </a:lnTo>
                  <a:lnTo>
                    <a:pt x="63" y="101"/>
                  </a:lnTo>
                  <a:lnTo>
                    <a:pt x="106" y="92"/>
                  </a:lnTo>
                  <a:lnTo>
                    <a:pt x="158" y="83"/>
                  </a:lnTo>
                  <a:lnTo>
                    <a:pt x="213" y="70"/>
                  </a:lnTo>
                  <a:lnTo>
                    <a:pt x="266" y="57"/>
                  </a:lnTo>
                  <a:lnTo>
                    <a:pt x="291" y="49"/>
                  </a:lnTo>
                  <a:lnTo>
                    <a:pt x="312" y="42"/>
                  </a:lnTo>
                  <a:lnTo>
                    <a:pt x="330" y="33"/>
                  </a:lnTo>
                  <a:lnTo>
                    <a:pt x="345" y="26"/>
                  </a:lnTo>
                  <a:lnTo>
                    <a:pt x="358" y="20"/>
                  </a:lnTo>
                  <a:lnTo>
                    <a:pt x="372" y="14"/>
                  </a:lnTo>
                  <a:lnTo>
                    <a:pt x="387" y="9"/>
                  </a:lnTo>
                  <a:lnTo>
                    <a:pt x="401" y="6"/>
                  </a:lnTo>
                  <a:lnTo>
                    <a:pt x="417" y="4"/>
                  </a:lnTo>
                  <a:lnTo>
                    <a:pt x="432" y="1"/>
                  </a:lnTo>
                  <a:lnTo>
                    <a:pt x="448" y="1"/>
                  </a:lnTo>
                  <a:lnTo>
                    <a:pt x="464" y="0"/>
                  </a:lnTo>
                  <a:lnTo>
                    <a:pt x="494" y="1"/>
                  </a:lnTo>
                  <a:lnTo>
                    <a:pt x="521" y="5"/>
                  </a:lnTo>
                  <a:lnTo>
                    <a:pt x="545" y="8"/>
                  </a:lnTo>
                  <a:lnTo>
                    <a:pt x="565" y="10"/>
                  </a:lnTo>
                  <a:lnTo>
                    <a:pt x="582" y="11"/>
                  </a:lnTo>
                  <a:lnTo>
                    <a:pt x="598" y="11"/>
                  </a:lnTo>
                  <a:lnTo>
                    <a:pt x="614" y="10"/>
                  </a:lnTo>
                  <a:lnTo>
                    <a:pt x="630" y="8"/>
                  </a:lnTo>
                  <a:lnTo>
                    <a:pt x="645" y="6"/>
                  </a:lnTo>
                  <a:lnTo>
                    <a:pt x="659" y="4"/>
                  </a:lnTo>
                  <a:lnTo>
                    <a:pt x="673" y="3"/>
                  </a:lnTo>
                  <a:lnTo>
                    <a:pt x="688" y="1"/>
                  </a:lnTo>
                  <a:lnTo>
                    <a:pt x="694" y="3"/>
                  </a:lnTo>
                  <a:lnTo>
                    <a:pt x="703" y="4"/>
                  </a:lnTo>
                  <a:lnTo>
                    <a:pt x="710" y="6"/>
                  </a:lnTo>
                  <a:lnTo>
                    <a:pt x="719" y="9"/>
                  </a:lnTo>
                  <a:lnTo>
                    <a:pt x="737" y="17"/>
                  </a:lnTo>
                  <a:lnTo>
                    <a:pt x="756" y="27"/>
                  </a:lnTo>
                  <a:lnTo>
                    <a:pt x="774" y="38"/>
                  </a:lnTo>
                  <a:lnTo>
                    <a:pt x="790" y="49"/>
                  </a:lnTo>
                  <a:lnTo>
                    <a:pt x="805" y="59"/>
                  </a:lnTo>
                  <a:lnTo>
                    <a:pt x="816" y="67"/>
                  </a:lnTo>
                  <a:lnTo>
                    <a:pt x="830" y="76"/>
                  </a:lnTo>
                  <a:lnTo>
                    <a:pt x="844" y="83"/>
                  </a:lnTo>
                  <a:lnTo>
                    <a:pt x="859" y="89"/>
                  </a:lnTo>
                  <a:lnTo>
                    <a:pt x="874" y="92"/>
                  </a:lnTo>
                  <a:lnTo>
                    <a:pt x="886" y="95"/>
                  </a:lnTo>
                  <a:lnTo>
                    <a:pt x="896" y="96"/>
                  </a:lnTo>
                  <a:lnTo>
                    <a:pt x="902" y="96"/>
                  </a:lnTo>
                  <a:lnTo>
                    <a:pt x="905" y="97"/>
                  </a:lnTo>
                  <a:lnTo>
                    <a:pt x="900" y="99"/>
                  </a:lnTo>
                  <a:lnTo>
                    <a:pt x="886" y="103"/>
                  </a:lnTo>
                  <a:lnTo>
                    <a:pt x="865" y="111"/>
                  </a:lnTo>
                  <a:lnTo>
                    <a:pt x="839" y="119"/>
                  </a:lnTo>
                  <a:lnTo>
                    <a:pt x="810" y="127"/>
                  </a:lnTo>
                  <a:lnTo>
                    <a:pt x="780" y="133"/>
                  </a:lnTo>
                  <a:lnTo>
                    <a:pt x="766" y="134"/>
                  </a:lnTo>
                  <a:lnTo>
                    <a:pt x="751" y="135"/>
                  </a:lnTo>
                  <a:lnTo>
                    <a:pt x="739" y="135"/>
                  </a:lnTo>
                  <a:lnTo>
                    <a:pt x="726" y="135"/>
                  </a:lnTo>
                  <a:lnTo>
                    <a:pt x="696" y="131"/>
                  </a:lnTo>
                  <a:lnTo>
                    <a:pt x="659" y="126"/>
                  </a:lnTo>
                  <a:lnTo>
                    <a:pt x="618" y="122"/>
                  </a:lnTo>
                  <a:lnTo>
                    <a:pt x="574" y="118"/>
                  </a:lnTo>
                  <a:lnTo>
                    <a:pt x="529" y="116"/>
                  </a:lnTo>
                  <a:lnTo>
                    <a:pt x="485" y="115"/>
                  </a:lnTo>
                  <a:lnTo>
                    <a:pt x="464" y="116"/>
                  </a:lnTo>
                  <a:lnTo>
                    <a:pt x="445" y="117"/>
                  </a:lnTo>
                  <a:lnTo>
                    <a:pt x="426" y="118"/>
                  </a:lnTo>
                  <a:lnTo>
                    <a:pt x="408" y="121"/>
                  </a:lnTo>
                  <a:lnTo>
                    <a:pt x="390" y="124"/>
                  </a:lnTo>
                  <a:lnTo>
                    <a:pt x="372" y="127"/>
                  </a:lnTo>
                  <a:lnTo>
                    <a:pt x="354" y="129"/>
                  </a:lnTo>
                  <a:lnTo>
                    <a:pt x="334" y="131"/>
                  </a:lnTo>
                  <a:lnTo>
                    <a:pt x="292" y="132"/>
                  </a:lnTo>
                  <a:lnTo>
                    <a:pt x="250" y="132"/>
                  </a:lnTo>
                  <a:lnTo>
                    <a:pt x="207" y="132"/>
                  </a:lnTo>
                  <a:lnTo>
                    <a:pt x="167" y="131"/>
                  </a:lnTo>
                  <a:lnTo>
                    <a:pt x="127" y="131"/>
                  </a:lnTo>
                  <a:lnTo>
                    <a:pt x="90" y="132"/>
                  </a:lnTo>
                  <a:lnTo>
                    <a:pt x="59" y="133"/>
                  </a:lnTo>
                  <a:lnTo>
                    <a:pt x="36" y="133"/>
                  </a:lnTo>
                  <a:lnTo>
                    <a:pt x="18" y="131"/>
                  </a:lnTo>
                  <a:lnTo>
                    <a:pt x="7" y="127"/>
                  </a:lnTo>
                  <a:lnTo>
                    <a:pt x="3" y="126"/>
                  </a:lnTo>
                  <a:lnTo>
                    <a:pt x="0" y="123"/>
                  </a:lnTo>
                  <a:lnTo>
                    <a:pt x="0" y="121"/>
                  </a:lnTo>
                  <a:lnTo>
                    <a:pt x="2" y="118"/>
                  </a:lnTo>
                  <a:lnTo>
                    <a:pt x="4" y="116"/>
                  </a:lnTo>
                  <a:lnTo>
                    <a:pt x="9" y="113"/>
                  </a:lnTo>
                  <a:lnTo>
                    <a:pt x="15" y="111"/>
                  </a:lnTo>
                  <a:lnTo>
                    <a:pt x="23" y="107"/>
                  </a:lnTo>
                  <a:close/>
                </a:path>
              </a:pathLst>
            </a:custGeom>
            <a:solidFill>
              <a:srgbClr val="5f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6621480" y="2556000"/>
              <a:ext cx="285840" cy="20520"/>
            </a:xfrm>
            <a:custGeom>
              <a:avLst/>
              <a:gdLst/>
              <a:ahLst/>
              <a:rect l="l" t="t" r="r" b="b"/>
              <a:pathLst>
                <a:path w="900" h="67">
                  <a:moveTo>
                    <a:pt x="900" y="29"/>
                  </a:moveTo>
                  <a:lnTo>
                    <a:pt x="895" y="31"/>
                  </a:lnTo>
                  <a:lnTo>
                    <a:pt x="881" y="35"/>
                  </a:lnTo>
                  <a:lnTo>
                    <a:pt x="860" y="43"/>
                  </a:lnTo>
                  <a:lnTo>
                    <a:pt x="834" y="51"/>
                  </a:lnTo>
                  <a:lnTo>
                    <a:pt x="805" y="59"/>
                  </a:lnTo>
                  <a:lnTo>
                    <a:pt x="775" y="65"/>
                  </a:lnTo>
                  <a:lnTo>
                    <a:pt x="761" y="66"/>
                  </a:lnTo>
                  <a:lnTo>
                    <a:pt x="746" y="67"/>
                  </a:lnTo>
                  <a:lnTo>
                    <a:pt x="734" y="67"/>
                  </a:lnTo>
                  <a:lnTo>
                    <a:pt x="721" y="67"/>
                  </a:lnTo>
                  <a:lnTo>
                    <a:pt x="692" y="63"/>
                  </a:lnTo>
                  <a:lnTo>
                    <a:pt x="655" y="58"/>
                  </a:lnTo>
                  <a:lnTo>
                    <a:pt x="614" y="54"/>
                  </a:lnTo>
                  <a:lnTo>
                    <a:pt x="570" y="50"/>
                  </a:lnTo>
                  <a:lnTo>
                    <a:pt x="524" y="48"/>
                  </a:lnTo>
                  <a:lnTo>
                    <a:pt x="481" y="47"/>
                  </a:lnTo>
                  <a:lnTo>
                    <a:pt x="459" y="48"/>
                  </a:lnTo>
                  <a:lnTo>
                    <a:pt x="440" y="49"/>
                  </a:lnTo>
                  <a:lnTo>
                    <a:pt x="421" y="50"/>
                  </a:lnTo>
                  <a:lnTo>
                    <a:pt x="403" y="53"/>
                  </a:lnTo>
                  <a:lnTo>
                    <a:pt x="385" y="56"/>
                  </a:lnTo>
                  <a:lnTo>
                    <a:pt x="367" y="59"/>
                  </a:lnTo>
                  <a:lnTo>
                    <a:pt x="349" y="61"/>
                  </a:lnTo>
                  <a:lnTo>
                    <a:pt x="329" y="63"/>
                  </a:lnTo>
                  <a:lnTo>
                    <a:pt x="287" y="64"/>
                  </a:lnTo>
                  <a:lnTo>
                    <a:pt x="245" y="64"/>
                  </a:lnTo>
                  <a:lnTo>
                    <a:pt x="202" y="64"/>
                  </a:lnTo>
                  <a:lnTo>
                    <a:pt x="162" y="63"/>
                  </a:lnTo>
                  <a:lnTo>
                    <a:pt x="122" y="63"/>
                  </a:lnTo>
                  <a:lnTo>
                    <a:pt x="85" y="64"/>
                  </a:lnTo>
                  <a:lnTo>
                    <a:pt x="69" y="65"/>
                  </a:lnTo>
                  <a:lnTo>
                    <a:pt x="56" y="65"/>
                  </a:lnTo>
                  <a:lnTo>
                    <a:pt x="42" y="65"/>
                  </a:lnTo>
                  <a:lnTo>
                    <a:pt x="31" y="65"/>
                  </a:lnTo>
                  <a:lnTo>
                    <a:pt x="21" y="64"/>
                  </a:lnTo>
                  <a:lnTo>
                    <a:pt x="13" y="63"/>
                  </a:lnTo>
                  <a:lnTo>
                    <a:pt x="5" y="60"/>
                  </a:lnTo>
                  <a:lnTo>
                    <a:pt x="0" y="59"/>
                  </a:lnTo>
                  <a:lnTo>
                    <a:pt x="14" y="58"/>
                  </a:lnTo>
                  <a:lnTo>
                    <a:pt x="48" y="55"/>
                  </a:lnTo>
                  <a:lnTo>
                    <a:pt x="99" y="51"/>
                  </a:lnTo>
                  <a:lnTo>
                    <a:pt x="158" y="45"/>
                  </a:lnTo>
                  <a:lnTo>
                    <a:pt x="219" y="38"/>
                  </a:lnTo>
                  <a:lnTo>
                    <a:pt x="280" y="31"/>
                  </a:lnTo>
                  <a:lnTo>
                    <a:pt x="307" y="26"/>
                  </a:lnTo>
                  <a:lnTo>
                    <a:pt x="330" y="21"/>
                  </a:lnTo>
                  <a:lnTo>
                    <a:pt x="350" y="16"/>
                  </a:lnTo>
                  <a:lnTo>
                    <a:pt x="365" y="10"/>
                  </a:lnTo>
                  <a:lnTo>
                    <a:pt x="378" y="5"/>
                  </a:lnTo>
                  <a:lnTo>
                    <a:pt x="392" y="2"/>
                  </a:lnTo>
                  <a:lnTo>
                    <a:pt x="406" y="0"/>
                  </a:lnTo>
                  <a:lnTo>
                    <a:pt x="421" y="0"/>
                  </a:lnTo>
                  <a:lnTo>
                    <a:pt x="436" y="0"/>
                  </a:lnTo>
                  <a:lnTo>
                    <a:pt x="452" y="1"/>
                  </a:lnTo>
                  <a:lnTo>
                    <a:pt x="467" y="4"/>
                  </a:lnTo>
                  <a:lnTo>
                    <a:pt x="481" y="6"/>
                  </a:lnTo>
                  <a:lnTo>
                    <a:pt x="508" y="12"/>
                  </a:lnTo>
                  <a:lnTo>
                    <a:pt x="534" y="18"/>
                  </a:lnTo>
                  <a:lnTo>
                    <a:pt x="554" y="23"/>
                  </a:lnTo>
                  <a:lnTo>
                    <a:pt x="569" y="26"/>
                  </a:lnTo>
                  <a:lnTo>
                    <a:pt x="580" y="26"/>
                  </a:lnTo>
                  <a:lnTo>
                    <a:pt x="593" y="22"/>
                  </a:lnTo>
                  <a:lnTo>
                    <a:pt x="606" y="18"/>
                  </a:lnTo>
                  <a:lnTo>
                    <a:pt x="619" y="15"/>
                  </a:lnTo>
                  <a:lnTo>
                    <a:pt x="633" y="11"/>
                  </a:lnTo>
                  <a:lnTo>
                    <a:pt x="645" y="8"/>
                  </a:lnTo>
                  <a:lnTo>
                    <a:pt x="657" y="6"/>
                  </a:lnTo>
                  <a:lnTo>
                    <a:pt x="670" y="7"/>
                  </a:lnTo>
                  <a:lnTo>
                    <a:pt x="677" y="8"/>
                  </a:lnTo>
                  <a:lnTo>
                    <a:pt x="684" y="8"/>
                  </a:lnTo>
                  <a:lnTo>
                    <a:pt x="692" y="10"/>
                  </a:lnTo>
                  <a:lnTo>
                    <a:pt x="700" y="12"/>
                  </a:lnTo>
                  <a:lnTo>
                    <a:pt x="710" y="15"/>
                  </a:lnTo>
                  <a:lnTo>
                    <a:pt x="720" y="18"/>
                  </a:lnTo>
                  <a:lnTo>
                    <a:pt x="731" y="23"/>
                  </a:lnTo>
                  <a:lnTo>
                    <a:pt x="742" y="29"/>
                  </a:lnTo>
                  <a:lnTo>
                    <a:pt x="750" y="32"/>
                  </a:lnTo>
                  <a:lnTo>
                    <a:pt x="759" y="34"/>
                  </a:lnTo>
                  <a:lnTo>
                    <a:pt x="770" y="35"/>
                  </a:lnTo>
                  <a:lnTo>
                    <a:pt x="782" y="37"/>
                  </a:lnTo>
                  <a:lnTo>
                    <a:pt x="807" y="37"/>
                  </a:lnTo>
                  <a:lnTo>
                    <a:pt x="834" y="35"/>
                  </a:lnTo>
                  <a:lnTo>
                    <a:pt x="859" y="34"/>
                  </a:lnTo>
                  <a:lnTo>
                    <a:pt x="880" y="32"/>
                  </a:lnTo>
                  <a:lnTo>
                    <a:pt x="895" y="29"/>
                  </a:lnTo>
                  <a:lnTo>
                    <a:pt x="900" y="29"/>
                  </a:lnTo>
                  <a:close/>
                </a:path>
              </a:pathLst>
            </a:custGeom>
            <a:solidFill>
              <a:srgbClr val="5f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6621480" y="2559240"/>
              <a:ext cx="285840" cy="17280"/>
            </a:xfrm>
            <a:custGeom>
              <a:avLst/>
              <a:gdLst/>
              <a:ahLst/>
              <a:rect l="l" t="t" r="r" b="b"/>
              <a:pathLst>
                <a:path w="900" h="59">
                  <a:moveTo>
                    <a:pt x="368" y="10"/>
                  </a:moveTo>
                  <a:lnTo>
                    <a:pt x="381" y="5"/>
                  </a:lnTo>
                  <a:lnTo>
                    <a:pt x="394" y="3"/>
                  </a:lnTo>
                  <a:lnTo>
                    <a:pt x="408" y="0"/>
                  </a:lnTo>
                  <a:lnTo>
                    <a:pt x="421" y="0"/>
                  </a:lnTo>
                  <a:lnTo>
                    <a:pt x="435" y="0"/>
                  </a:lnTo>
                  <a:lnTo>
                    <a:pt x="449" y="0"/>
                  </a:lnTo>
                  <a:lnTo>
                    <a:pt x="462" y="3"/>
                  </a:lnTo>
                  <a:lnTo>
                    <a:pt x="475" y="4"/>
                  </a:lnTo>
                  <a:lnTo>
                    <a:pt x="500" y="9"/>
                  </a:lnTo>
                  <a:lnTo>
                    <a:pt x="522" y="14"/>
                  </a:lnTo>
                  <a:lnTo>
                    <a:pt x="539" y="19"/>
                  </a:lnTo>
                  <a:lnTo>
                    <a:pt x="553" y="21"/>
                  </a:lnTo>
                  <a:lnTo>
                    <a:pt x="564" y="21"/>
                  </a:lnTo>
                  <a:lnTo>
                    <a:pt x="577" y="19"/>
                  </a:lnTo>
                  <a:lnTo>
                    <a:pt x="591" y="16"/>
                  </a:lnTo>
                  <a:lnTo>
                    <a:pt x="606" y="13"/>
                  </a:lnTo>
                  <a:lnTo>
                    <a:pt x="619" y="10"/>
                  </a:lnTo>
                  <a:lnTo>
                    <a:pt x="633" y="8"/>
                  </a:lnTo>
                  <a:lnTo>
                    <a:pt x="645" y="7"/>
                  </a:lnTo>
                  <a:lnTo>
                    <a:pt x="656" y="8"/>
                  </a:lnTo>
                  <a:lnTo>
                    <a:pt x="666" y="8"/>
                  </a:lnTo>
                  <a:lnTo>
                    <a:pt x="676" y="8"/>
                  </a:lnTo>
                  <a:lnTo>
                    <a:pt x="686" y="10"/>
                  </a:lnTo>
                  <a:lnTo>
                    <a:pt x="695" y="12"/>
                  </a:lnTo>
                  <a:lnTo>
                    <a:pt x="705" y="14"/>
                  </a:lnTo>
                  <a:lnTo>
                    <a:pt x="714" y="18"/>
                  </a:lnTo>
                  <a:lnTo>
                    <a:pt x="725" y="21"/>
                  </a:lnTo>
                  <a:lnTo>
                    <a:pt x="735" y="26"/>
                  </a:lnTo>
                  <a:lnTo>
                    <a:pt x="742" y="30"/>
                  </a:lnTo>
                  <a:lnTo>
                    <a:pt x="752" y="31"/>
                  </a:lnTo>
                  <a:lnTo>
                    <a:pt x="763" y="32"/>
                  </a:lnTo>
                  <a:lnTo>
                    <a:pt x="775" y="34"/>
                  </a:lnTo>
                  <a:lnTo>
                    <a:pt x="802" y="32"/>
                  </a:lnTo>
                  <a:lnTo>
                    <a:pt x="831" y="31"/>
                  </a:lnTo>
                  <a:lnTo>
                    <a:pt x="857" y="27"/>
                  </a:lnTo>
                  <a:lnTo>
                    <a:pt x="879" y="24"/>
                  </a:lnTo>
                  <a:lnTo>
                    <a:pt x="895" y="21"/>
                  </a:lnTo>
                  <a:lnTo>
                    <a:pt x="900" y="21"/>
                  </a:lnTo>
                  <a:lnTo>
                    <a:pt x="895" y="23"/>
                  </a:lnTo>
                  <a:lnTo>
                    <a:pt x="881" y="27"/>
                  </a:lnTo>
                  <a:lnTo>
                    <a:pt x="860" y="35"/>
                  </a:lnTo>
                  <a:lnTo>
                    <a:pt x="834" y="43"/>
                  </a:lnTo>
                  <a:lnTo>
                    <a:pt x="806" y="51"/>
                  </a:lnTo>
                  <a:lnTo>
                    <a:pt x="777" y="57"/>
                  </a:lnTo>
                  <a:lnTo>
                    <a:pt x="762" y="58"/>
                  </a:lnTo>
                  <a:lnTo>
                    <a:pt x="747" y="59"/>
                  </a:lnTo>
                  <a:lnTo>
                    <a:pt x="734" y="59"/>
                  </a:lnTo>
                  <a:lnTo>
                    <a:pt x="721" y="59"/>
                  </a:lnTo>
                  <a:lnTo>
                    <a:pt x="691" y="55"/>
                  </a:lnTo>
                  <a:lnTo>
                    <a:pt x="654" y="50"/>
                  </a:lnTo>
                  <a:lnTo>
                    <a:pt x="613" y="46"/>
                  </a:lnTo>
                  <a:lnTo>
                    <a:pt x="569" y="42"/>
                  </a:lnTo>
                  <a:lnTo>
                    <a:pt x="524" y="40"/>
                  </a:lnTo>
                  <a:lnTo>
                    <a:pt x="480" y="39"/>
                  </a:lnTo>
                  <a:lnTo>
                    <a:pt x="459" y="40"/>
                  </a:lnTo>
                  <a:lnTo>
                    <a:pt x="440" y="41"/>
                  </a:lnTo>
                  <a:lnTo>
                    <a:pt x="421" y="42"/>
                  </a:lnTo>
                  <a:lnTo>
                    <a:pt x="403" y="45"/>
                  </a:lnTo>
                  <a:lnTo>
                    <a:pt x="385" y="48"/>
                  </a:lnTo>
                  <a:lnTo>
                    <a:pt x="367" y="51"/>
                  </a:lnTo>
                  <a:lnTo>
                    <a:pt x="349" y="53"/>
                  </a:lnTo>
                  <a:lnTo>
                    <a:pt x="329" y="55"/>
                  </a:lnTo>
                  <a:lnTo>
                    <a:pt x="287" y="56"/>
                  </a:lnTo>
                  <a:lnTo>
                    <a:pt x="245" y="56"/>
                  </a:lnTo>
                  <a:lnTo>
                    <a:pt x="202" y="56"/>
                  </a:lnTo>
                  <a:lnTo>
                    <a:pt x="162" y="55"/>
                  </a:lnTo>
                  <a:lnTo>
                    <a:pt x="122" y="55"/>
                  </a:lnTo>
                  <a:lnTo>
                    <a:pt x="85" y="56"/>
                  </a:lnTo>
                  <a:lnTo>
                    <a:pt x="69" y="57"/>
                  </a:lnTo>
                  <a:lnTo>
                    <a:pt x="56" y="57"/>
                  </a:lnTo>
                  <a:lnTo>
                    <a:pt x="42" y="57"/>
                  </a:lnTo>
                  <a:lnTo>
                    <a:pt x="31" y="57"/>
                  </a:lnTo>
                  <a:lnTo>
                    <a:pt x="21" y="56"/>
                  </a:lnTo>
                  <a:lnTo>
                    <a:pt x="13" y="55"/>
                  </a:lnTo>
                  <a:lnTo>
                    <a:pt x="5" y="52"/>
                  </a:lnTo>
                  <a:lnTo>
                    <a:pt x="0" y="51"/>
                  </a:lnTo>
                  <a:lnTo>
                    <a:pt x="13" y="51"/>
                  </a:lnTo>
                  <a:lnTo>
                    <a:pt x="45" y="50"/>
                  </a:lnTo>
                  <a:lnTo>
                    <a:pt x="93" y="47"/>
                  </a:lnTo>
                  <a:lnTo>
                    <a:pt x="149" y="43"/>
                  </a:lnTo>
                  <a:lnTo>
                    <a:pt x="211" y="39"/>
                  </a:lnTo>
                  <a:lnTo>
                    <a:pt x="271" y="31"/>
                  </a:lnTo>
                  <a:lnTo>
                    <a:pt x="299" y="27"/>
                  </a:lnTo>
                  <a:lnTo>
                    <a:pt x="325" y="21"/>
                  </a:lnTo>
                  <a:lnTo>
                    <a:pt x="349" y="16"/>
                  </a:lnTo>
                  <a:lnTo>
                    <a:pt x="368" y="10"/>
                  </a:lnTo>
                  <a:close/>
                </a:path>
              </a:pathLst>
            </a:custGeom>
            <a:solidFill>
              <a:srgbClr val="5b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6621480" y="2560680"/>
              <a:ext cx="285840" cy="15840"/>
            </a:xfrm>
            <a:custGeom>
              <a:avLst/>
              <a:gdLst/>
              <a:ahLst/>
              <a:rect l="l" t="t" r="r" b="b"/>
              <a:pathLst>
                <a:path w="900" h="50">
                  <a:moveTo>
                    <a:pt x="368" y="12"/>
                  </a:moveTo>
                  <a:lnTo>
                    <a:pt x="381" y="7"/>
                  </a:lnTo>
                  <a:lnTo>
                    <a:pt x="394" y="4"/>
                  </a:lnTo>
                  <a:lnTo>
                    <a:pt x="408" y="1"/>
                  </a:lnTo>
                  <a:lnTo>
                    <a:pt x="420" y="0"/>
                  </a:lnTo>
                  <a:lnTo>
                    <a:pt x="446" y="0"/>
                  </a:lnTo>
                  <a:lnTo>
                    <a:pt x="469" y="3"/>
                  </a:lnTo>
                  <a:lnTo>
                    <a:pt x="491" y="5"/>
                  </a:lnTo>
                  <a:lnTo>
                    <a:pt x="511" y="9"/>
                  </a:lnTo>
                  <a:lnTo>
                    <a:pt x="527" y="12"/>
                  </a:lnTo>
                  <a:lnTo>
                    <a:pt x="539" y="15"/>
                  </a:lnTo>
                  <a:lnTo>
                    <a:pt x="550" y="16"/>
                  </a:lnTo>
                  <a:lnTo>
                    <a:pt x="564" y="15"/>
                  </a:lnTo>
                  <a:lnTo>
                    <a:pt x="577" y="14"/>
                  </a:lnTo>
                  <a:lnTo>
                    <a:pt x="593" y="11"/>
                  </a:lnTo>
                  <a:lnTo>
                    <a:pt x="608" y="9"/>
                  </a:lnTo>
                  <a:lnTo>
                    <a:pt x="622" y="6"/>
                  </a:lnTo>
                  <a:lnTo>
                    <a:pt x="634" y="5"/>
                  </a:lnTo>
                  <a:lnTo>
                    <a:pt x="645" y="4"/>
                  </a:lnTo>
                  <a:lnTo>
                    <a:pt x="657" y="4"/>
                  </a:lnTo>
                  <a:lnTo>
                    <a:pt x="668" y="5"/>
                  </a:lnTo>
                  <a:lnTo>
                    <a:pt x="679" y="7"/>
                  </a:lnTo>
                  <a:lnTo>
                    <a:pt x="691" y="10"/>
                  </a:lnTo>
                  <a:lnTo>
                    <a:pt x="700" y="12"/>
                  </a:lnTo>
                  <a:lnTo>
                    <a:pt x="710" y="16"/>
                  </a:lnTo>
                  <a:lnTo>
                    <a:pt x="720" y="21"/>
                  </a:lnTo>
                  <a:lnTo>
                    <a:pt x="729" y="26"/>
                  </a:lnTo>
                  <a:lnTo>
                    <a:pt x="737" y="28"/>
                  </a:lnTo>
                  <a:lnTo>
                    <a:pt x="746" y="30"/>
                  </a:lnTo>
                  <a:lnTo>
                    <a:pt x="758" y="31"/>
                  </a:lnTo>
                  <a:lnTo>
                    <a:pt x="770" y="31"/>
                  </a:lnTo>
                  <a:lnTo>
                    <a:pt x="799" y="28"/>
                  </a:lnTo>
                  <a:lnTo>
                    <a:pt x="828" y="25"/>
                  </a:lnTo>
                  <a:lnTo>
                    <a:pt x="855" y="21"/>
                  </a:lnTo>
                  <a:lnTo>
                    <a:pt x="879" y="16"/>
                  </a:lnTo>
                  <a:lnTo>
                    <a:pt x="895" y="14"/>
                  </a:lnTo>
                  <a:lnTo>
                    <a:pt x="900" y="12"/>
                  </a:lnTo>
                  <a:lnTo>
                    <a:pt x="895" y="14"/>
                  </a:lnTo>
                  <a:lnTo>
                    <a:pt x="881" y="18"/>
                  </a:lnTo>
                  <a:lnTo>
                    <a:pt x="860" y="26"/>
                  </a:lnTo>
                  <a:lnTo>
                    <a:pt x="834" y="34"/>
                  </a:lnTo>
                  <a:lnTo>
                    <a:pt x="806" y="42"/>
                  </a:lnTo>
                  <a:lnTo>
                    <a:pt x="777" y="48"/>
                  </a:lnTo>
                  <a:lnTo>
                    <a:pt x="762" y="49"/>
                  </a:lnTo>
                  <a:lnTo>
                    <a:pt x="747" y="50"/>
                  </a:lnTo>
                  <a:lnTo>
                    <a:pt x="734" y="50"/>
                  </a:lnTo>
                  <a:lnTo>
                    <a:pt x="721" y="50"/>
                  </a:lnTo>
                  <a:lnTo>
                    <a:pt x="689" y="46"/>
                  </a:lnTo>
                  <a:lnTo>
                    <a:pt x="652" y="41"/>
                  </a:lnTo>
                  <a:lnTo>
                    <a:pt x="612" y="37"/>
                  </a:lnTo>
                  <a:lnTo>
                    <a:pt x="568" y="33"/>
                  </a:lnTo>
                  <a:lnTo>
                    <a:pt x="523" y="31"/>
                  </a:lnTo>
                  <a:lnTo>
                    <a:pt x="480" y="30"/>
                  </a:lnTo>
                  <a:lnTo>
                    <a:pt x="459" y="31"/>
                  </a:lnTo>
                  <a:lnTo>
                    <a:pt x="440" y="32"/>
                  </a:lnTo>
                  <a:lnTo>
                    <a:pt x="421" y="33"/>
                  </a:lnTo>
                  <a:lnTo>
                    <a:pt x="403" y="36"/>
                  </a:lnTo>
                  <a:lnTo>
                    <a:pt x="385" y="39"/>
                  </a:lnTo>
                  <a:lnTo>
                    <a:pt x="367" y="42"/>
                  </a:lnTo>
                  <a:lnTo>
                    <a:pt x="349" y="44"/>
                  </a:lnTo>
                  <a:lnTo>
                    <a:pt x="329" y="46"/>
                  </a:lnTo>
                  <a:lnTo>
                    <a:pt x="287" y="47"/>
                  </a:lnTo>
                  <a:lnTo>
                    <a:pt x="245" y="47"/>
                  </a:lnTo>
                  <a:lnTo>
                    <a:pt x="202" y="47"/>
                  </a:lnTo>
                  <a:lnTo>
                    <a:pt x="162" y="46"/>
                  </a:lnTo>
                  <a:lnTo>
                    <a:pt x="122" y="46"/>
                  </a:lnTo>
                  <a:lnTo>
                    <a:pt x="85" y="47"/>
                  </a:lnTo>
                  <a:lnTo>
                    <a:pt x="69" y="48"/>
                  </a:lnTo>
                  <a:lnTo>
                    <a:pt x="56" y="48"/>
                  </a:lnTo>
                  <a:lnTo>
                    <a:pt x="42" y="48"/>
                  </a:lnTo>
                  <a:lnTo>
                    <a:pt x="31" y="48"/>
                  </a:lnTo>
                  <a:lnTo>
                    <a:pt x="21" y="47"/>
                  </a:lnTo>
                  <a:lnTo>
                    <a:pt x="13" y="46"/>
                  </a:lnTo>
                  <a:lnTo>
                    <a:pt x="5" y="43"/>
                  </a:lnTo>
                  <a:lnTo>
                    <a:pt x="0" y="42"/>
                  </a:lnTo>
                  <a:lnTo>
                    <a:pt x="11" y="42"/>
                  </a:lnTo>
                  <a:lnTo>
                    <a:pt x="42" y="42"/>
                  </a:lnTo>
                  <a:lnTo>
                    <a:pt x="86" y="42"/>
                  </a:lnTo>
                  <a:lnTo>
                    <a:pt x="141" y="41"/>
                  </a:lnTo>
                  <a:lnTo>
                    <a:pt x="200" y="38"/>
                  </a:lnTo>
                  <a:lnTo>
                    <a:pt x="261" y="32"/>
                  </a:lnTo>
                  <a:lnTo>
                    <a:pt x="291" y="28"/>
                  </a:lnTo>
                  <a:lnTo>
                    <a:pt x="318" y="25"/>
                  </a:lnTo>
                  <a:lnTo>
                    <a:pt x="345" y="18"/>
                  </a:lnTo>
                  <a:lnTo>
                    <a:pt x="368" y="12"/>
                  </a:lnTo>
                  <a:close/>
                </a:path>
              </a:pathLst>
            </a:custGeom>
            <a:solidFill>
              <a:srgbClr val="563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6621480" y="2563920"/>
              <a:ext cx="285840" cy="14400"/>
            </a:xfrm>
            <a:custGeom>
              <a:avLst/>
              <a:gdLst/>
              <a:ahLst/>
              <a:rect l="l" t="t" r="r" b="b"/>
              <a:pathLst>
                <a:path w="900" h="45">
                  <a:moveTo>
                    <a:pt x="371" y="13"/>
                  </a:moveTo>
                  <a:lnTo>
                    <a:pt x="383" y="9"/>
                  </a:lnTo>
                  <a:lnTo>
                    <a:pt x="396" y="5"/>
                  </a:lnTo>
                  <a:lnTo>
                    <a:pt x="409" y="3"/>
                  </a:lnTo>
                  <a:lnTo>
                    <a:pt x="420" y="2"/>
                  </a:lnTo>
                  <a:lnTo>
                    <a:pt x="442" y="0"/>
                  </a:lnTo>
                  <a:lnTo>
                    <a:pt x="463" y="0"/>
                  </a:lnTo>
                  <a:lnTo>
                    <a:pt x="481" y="3"/>
                  </a:lnTo>
                  <a:lnTo>
                    <a:pt x="497" y="7"/>
                  </a:lnTo>
                  <a:lnTo>
                    <a:pt x="511" y="10"/>
                  </a:lnTo>
                  <a:lnTo>
                    <a:pt x="522" y="13"/>
                  </a:lnTo>
                  <a:lnTo>
                    <a:pt x="534" y="14"/>
                  </a:lnTo>
                  <a:lnTo>
                    <a:pt x="548" y="14"/>
                  </a:lnTo>
                  <a:lnTo>
                    <a:pt x="564" y="14"/>
                  </a:lnTo>
                  <a:lnTo>
                    <a:pt x="580" y="11"/>
                  </a:lnTo>
                  <a:lnTo>
                    <a:pt x="595" y="10"/>
                  </a:lnTo>
                  <a:lnTo>
                    <a:pt x="611" y="8"/>
                  </a:lnTo>
                  <a:lnTo>
                    <a:pt x="623" y="7"/>
                  </a:lnTo>
                  <a:lnTo>
                    <a:pt x="634" y="5"/>
                  </a:lnTo>
                  <a:lnTo>
                    <a:pt x="647" y="4"/>
                  </a:lnTo>
                  <a:lnTo>
                    <a:pt x="661" y="4"/>
                  </a:lnTo>
                  <a:lnTo>
                    <a:pt x="672" y="7"/>
                  </a:lnTo>
                  <a:lnTo>
                    <a:pt x="683" y="9"/>
                  </a:lnTo>
                  <a:lnTo>
                    <a:pt x="694" y="13"/>
                  </a:lnTo>
                  <a:lnTo>
                    <a:pt x="703" y="16"/>
                  </a:lnTo>
                  <a:lnTo>
                    <a:pt x="713" y="20"/>
                  </a:lnTo>
                  <a:lnTo>
                    <a:pt x="721" y="24"/>
                  </a:lnTo>
                  <a:lnTo>
                    <a:pt x="729" y="26"/>
                  </a:lnTo>
                  <a:lnTo>
                    <a:pt x="740" y="27"/>
                  </a:lnTo>
                  <a:lnTo>
                    <a:pt x="752" y="29"/>
                  </a:lnTo>
                  <a:lnTo>
                    <a:pt x="764" y="27"/>
                  </a:lnTo>
                  <a:lnTo>
                    <a:pt x="794" y="25"/>
                  </a:lnTo>
                  <a:lnTo>
                    <a:pt x="825" y="20"/>
                  </a:lnTo>
                  <a:lnTo>
                    <a:pt x="853" y="15"/>
                  </a:lnTo>
                  <a:lnTo>
                    <a:pt x="878" y="10"/>
                  </a:lnTo>
                  <a:lnTo>
                    <a:pt x="894" y="7"/>
                  </a:lnTo>
                  <a:lnTo>
                    <a:pt x="900" y="5"/>
                  </a:lnTo>
                  <a:lnTo>
                    <a:pt x="895" y="7"/>
                  </a:lnTo>
                  <a:lnTo>
                    <a:pt x="881" y="13"/>
                  </a:lnTo>
                  <a:lnTo>
                    <a:pt x="860" y="20"/>
                  </a:lnTo>
                  <a:lnTo>
                    <a:pt x="834" y="27"/>
                  </a:lnTo>
                  <a:lnTo>
                    <a:pt x="806" y="36"/>
                  </a:lnTo>
                  <a:lnTo>
                    <a:pt x="777" y="41"/>
                  </a:lnTo>
                  <a:lnTo>
                    <a:pt x="762" y="43"/>
                  </a:lnTo>
                  <a:lnTo>
                    <a:pt x="747" y="45"/>
                  </a:lnTo>
                  <a:lnTo>
                    <a:pt x="734" y="45"/>
                  </a:lnTo>
                  <a:lnTo>
                    <a:pt x="721" y="43"/>
                  </a:lnTo>
                  <a:lnTo>
                    <a:pt x="689" y="37"/>
                  </a:lnTo>
                  <a:lnTo>
                    <a:pt x="651" y="32"/>
                  </a:lnTo>
                  <a:lnTo>
                    <a:pt x="611" y="29"/>
                  </a:lnTo>
                  <a:lnTo>
                    <a:pt x="568" y="25"/>
                  </a:lnTo>
                  <a:lnTo>
                    <a:pt x="523" y="23"/>
                  </a:lnTo>
                  <a:lnTo>
                    <a:pt x="480" y="23"/>
                  </a:lnTo>
                  <a:lnTo>
                    <a:pt x="459" y="24"/>
                  </a:lnTo>
                  <a:lnTo>
                    <a:pt x="440" y="25"/>
                  </a:lnTo>
                  <a:lnTo>
                    <a:pt x="421" y="26"/>
                  </a:lnTo>
                  <a:lnTo>
                    <a:pt x="403" y="29"/>
                  </a:lnTo>
                  <a:lnTo>
                    <a:pt x="385" y="32"/>
                  </a:lnTo>
                  <a:lnTo>
                    <a:pt x="367" y="35"/>
                  </a:lnTo>
                  <a:lnTo>
                    <a:pt x="349" y="37"/>
                  </a:lnTo>
                  <a:lnTo>
                    <a:pt x="329" y="39"/>
                  </a:lnTo>
                  <a:lnTo>
                    <a:pt x="287" y="40"/>
                  </a:lnTo>
                  <a:lnTo>
                    <a:pt x="245" y="40"/>
                  </a:lnTo>
                  <a:lnTo>
                    <a:pt x="202" y="40"/>
                  </a:lnTo>
                  <a:lnTo>
                    <a:pt x="162" y="39"/>
                  </a:lnTo>
                  <a:lnTo>
                    <a:pt x="122" y="39"/>
                  </a:lnTo>
                  <a:lnTo>
                    <a:pt x="85" y="40"/>
                  </a:lnTo>
                  <a:lnTo>
                    <a:pt x="69" y="41"/>
                  </a:lnTo>
                  <a:lnTo>
                    <a:pt x="56" y="41"/>
                  </a:lnTo>
                  <a:lnTo>
                    <a:pt x="42" y="41"/>
                  </a:lnTo>
                  <a:lnTo>
                    <a:pt x="31" y="41"/>
                  </a:lnTo>
                  <a:lnTo>
                    <a:pt x="21" y="40"/>
                  </a:lnTo>
                  <a:lnTo>
                    <a:pt x="13" y="39"/>
                  </a:lnTo>
                  <a:lnTo>
                    <a:pt x="5" y="36"/>
                  </a:lnTo>
                  <a:lnTo>
                    <a:pt x="0" y="35"/>
                  </a:lnTo>
                  <a:lnTo>
                    <a:pt x="11" y="36"/>
                  </a:lnTo>
                  <a:lnTo>
                    <a:pt x="38" y="37"/>
                  </a:lnTo>
                  <a:lnTo>
                    <a:pt x="80" y="40"/>
                  </a:lnTo>
                  <a:lnTo>
                    <a:pt x="133" y="40"/>
                  </a:lnTo>
                  <a:lnTo>
                    <a:pt x="162" y="40"/>
                  </a:lnTo>
                  <a:lnTo>
                    <a:pt x="191" y="39"/>
                  </a:lnTo>
                  <a:lnTo>
                    <a:pt x="222" y="37"/>
                  </a:lnTo>
                  <a:lnTo>
                    <a:pt x="253" y="35"/>
                  </a:lnTo>
                  <a:lnTo>
                    <a:pt x="283" y="31"/>
                  </a:lnTo>
                  <a:lnTo>
                    <a:pt x="314" y="26"/>
                  </a:lnTo>
                  <a:lnTo>
                    <a:pt x="342" y="20"/>
                  </a:lnTo>
                  <a:lnTo>
                    <a:pt x="371" y="13"/>
                  </a:lnTo>
                  <a:close/>
                </a:path>
              </a:pathLst>
            </a:custGeom>
            <a:solidFill>
              <a:srgbClr val="503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6621480" y="2565360"/>
              <a:ext cx="285840" cy="12960"/>
            </a:xfrm>
            <a:custGeom>
              <a:avLst/>
              <a:gdLst/>
              <a:ahLst/>
              <a:rect l="l" t="t" r="r" b="b"/>
              <a:pathLst>
                <a:path w="900" h="42">
                  <a:moveTo>
                    <a:pt x="900" y="0"/>
                  </a:moveTo>
                  <a:lnTo>
                    <a:pt x="895" y="2"/>
                  </a:lnTo>
                  <a:lnTo>
                    <a:pt x="881" y="8"/>
                  </a:lnTo>
                  <a:lnTo>
                    <a:pt x="862" y="15"/>
                  </a:lnTo>
                  <a:lnTo>
                    <a:pt x="836" y="22"/>
                  </a:lnTo>
                  <a:lnTo>
                    <a:pt x="807" y="31"/>
                  </a:lnTo>
                  <a:lnTo>
                    <a:pt x="778" y="36"/>
                  </a:lnTo>
                  <a:lnTo>
                    <a:pt x="763" y="38"/>
                  </a:lnTo>
                  <a:lnTo>
                    <a:pt x="748" y="40"/>
                  </a:lnTo>
                  <a:lnTo>
                    <a:pt x="734" y="40"/>
                  </a:lnTo>
                  <a:lnTo>
                    <a:pt x="721" y="38"/>
                  </a:lnTo>
                  <a:lnTo>
                    <a:pt x="688" y="32"/>
                  </a:lnTo>
                  <a:lnTo>
                    <a:pt x="651" y="27"/>
                  </a:lnTo>
                  <a:lnTo>
                    <a:pt x="609" y="24"/>
                  </a:lnTo>
                  <a:lnTo>
                    <a:pt x="566" y="20"/>
                  </a:lnTo>
                  <a:lnTo>
                    <a:pt x="522" y="18"/>
                  </a:lnTo>
                  <a:lnTo>
                    <a:pt x="479" y="18"/>
                  </a:lnTo>
                  <a:lnTo>
                    <a:pt x="459" y="19"/>
                  </a:lnTo>
                  <a:lnTo>
                    <a:pt x="440" y="20"/>
                  </a:lnTo>
                  <a:lnTo>
                    <a:pt x="420" y="21"/>
                  </a:lnTo>
                  <a:lnTo>
                    <a:pt x="403" y="24"/>
                  </a:lnTo>
                  <a:lnTo>
                    <a:pt x="385" y="27"/>
                  </a:lnTo>
                  <a:lnTo>
                    <a:pt x="367" y="30"/>
                  </a:lnTo>
                  <a:lnTo>
                    <a:pt x="349" y="32"/>
                  </a:lnTo>
                  <a:lnTo>
                    <a:pt x="329" y="34"/>
                  </a:lnTo>
                  <a:lnTo>
                    <a:pt x="287" y="35"/>
                  </a:lnTo>
                  <a:lnTo>
                    <a:pt x="245" y="35"/>
                  </a:lnTo>
                  <a:lnTo>
                    <a:pt x="202" y="35"/>
                  </a:lnTo>
                  <a:lnTo>
                    <a:pt x="162" y="34"/>
                  </a:lnTo>
                  <a:lnTo>
                    <a:pt x="122" y="34"/>
                  </a:lnTo>
                  <a:lnTo>
                    <a:pt x="85" y="35"/>
                  </a:lnTo>
                  <a:lnTo>
                    <a:pt x="69" y="36"/>
                  </a:lnTo>
                  <a:lnTo>
                    <a:pt x="56" y="36"/>
                  </a:lnTo>
                  <a:lnTo>
                    <a:pt x="42" y="36"/>
                  </a:lnTo>
                  <a:lnTo>
                    <a:pt x="31" y="36"/>
                  </a:lnTo>
                  <a:lnTo>
                    <a:pt x="21" y="35"/>
                  </a:lnTo>
                  <a:lnTo>
                    <a:pt x="13" y="34"/>
                  </a:lnTo>
                  <a:lnTo>
                    <a:pt x="5" y="31"/>
                  </a:lnTo>
                  <a:lnTo>
                    <a:pt x="0" y="30"/>
                  </a:lnTo>
                  <a:lnTo>
                    <a:pt x="10" y="31"/>
                  </a:lnTo>
                  <a:lnTo>
                    <a:pt x="35" y="35"/>
                  </a:lnTo>
                  <a:lnTo>
                    <a:pt x="74" y="38"/>
                  </a:lnTo>
                  <a:lnTo>
                    <a:pt x="123" y="41"/>
                  </a:lnTo>
                  <a:lnTo>
                    <a:pt x="152" y="42"/>
                  </a:lnTo>
                  <a:lnTo>
                    <a:pt x="181" y="42"/>
                  </a:lnTo>
                  <a:lnTo>
                    <a:pt x="212" y="41"/>
                  </a:lnTo>
                  <a:lnTo>
                    <a:pt x="244" y="38"/>
                  </a:lnTo>
                  <a:lnTo>
                    <a:pt x="276" y="36"/>
                  </a:lnTo>
                  <a:lnTo>
                    <a:pt x="309" y="31"/>
                  </a:lnTo>
                  <a:lnTo>
                    <a:pt x="341" y="25"/>
                  </a:lnTo>
                  <a:lnTo>
                    <a:pt x="373" y="16"/>
                  </a:lnTo>
                  <a:lnTo>
                    <a:pt x="398" y="9"/>
                  </a:lnTo>
                  <a:lnTo>
                    <a:pt x="420" y="5"/>
                  </a:lnTo>
                  <a:lnTo>
                    <a:pt x="440" y="3"/>
                  </a:lnTo>
                  <a:lnTo>
                    <a:pt x="457" y="3"/>
                  </a:lnTo>
                  <a:lnTo>
                    <a:pt x="473" y="3"/>
                  </a:lnTo>
                  <a:lnTo>
                    <a:pt x="486" y="5"/>
                  </a:lnTo>
                  <a:lnTo>
                    <a:pt x="499" y="8"/>
                  </a:lnTo>
                  <a:lnTo>
                    <a:pt x="508" y="10"/>
                  </a:lnTo>
                  <a:lnTo>
                    <a:pt x="520" y="13"/>
                  </a:lnTo>
                  <a:lnTo>
                    <a:pt x="533" y="14"/>
                  </a:lnTo>
                  <a:lnTo>
                    <a:pt x="549" y="14"/>
                  </a:lnTo>
                  <a:lnTo>
                    <a:pt x="566" y="14"/>
                  </a:lnTo>
                  <a:lnTo>
                    <a:pt x="582" y="13"/>
                  </a:lnTo>
                  <a:lnTo>
                    <a:pt x="597" y="10"/>
                  </a:lnTo>
                  <a:lnTo>
                    <a:pt x="611" y="9"/>
                  </a:lnTo>
                  <a:lnTo>
                    <a:pt x="620" y="8"/>
                  </a:lnTo>
                  <a:lnTo>
                    <a:pt x="636" y="6"/>
                  </a:lnTo>
                  <a:lnTo>
                    <a:pt x="652" y="6"/>
                  </a:lnTo>
                  <a:lnTo>
                    <a:pt x="666" y="9"/>
                  </a:lnTo>
                  <a:lnTo>
                    <a:pt x="678" y="13"/>
                  </a:lnTo>
                  <a:lnTo>
                    <a:pt x="689" y="16"/>
                  </a:lnTo>
                  <a:lnTo>
                    <a:pt x="699" y="20"/>
                  </a:lnTo>
                  <a:lnTo>
                    <a:pt x="708" y="25"/>
                  </a:lnTo>
                  <a:lnTo>
                    <a:pt x="715" y="27"/>
                  </a:lnTo>
                  <a:lnTo>
                    <a:pt x="724" y="29"/>
                  </a:lnTo>
                  <a:lnTo>
                    <a:pt x="735" y="30"/>
                  </a:lnTo>
                  <a:lnTo>
                    <a:pt x="747" y="30"/>
                  </a:lnTo>
                  <a:lnTo>
                    <a:pt x="761" y="29"/>
                  </a:lnTo>
                  <a:lnTo>
                    <a:pt x="790" y="25"/>
                  </a:lnTo>
                  <a:lnTo>
                    <a:pt x="822" y="19"/>
                  </a:lnTo>
                  <a:lnTo>
                    <a:pt x="852" y="13"/>
                  </a:lnTo>
                  <a:lnTo>
                    <a:pt x="876" y="6"/>
                  </a:lnTo>
                  <a:lnTo>
                    <a:pt x="894" y="2"/>
                  </a:lnTo>
                  <a:lnTo>
                    <a:pt x="900" y="0"/>
                  </a:lnTo>
                  <a:close/>
                </a:path>
              </a:pathLst>
            </a:custGeom>
            <a:solidFill>
              <a:srgbClr val="4c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6659640" y="2536920"/>
              <a:ext cx="220680" cy="34920"/>
            </a:xfrm>
            <a:custGeom>
              <a:avLst/>
              <a:gdLst/>
              <a:ahLst/>
              <a:rect l="l" t="t" r="r" b="b"/>
              <a:pathLst>
                <a:path w="694" h="109">
                  <a:moveTo>
                    <a:pt x="674" y="58"/>
                  </a:moveTo>
                  <a:lnTo>
                    <a:pt x="665" y="50"/>
                  </a:lnTo>
                  <a:lnTo>
                    <a:pt x="655" y="42"/>
                  </a:lnTo>
                  <a:lnTo>
                    <a:pt x="642" y="33"/>
                  </a:lnTo>
                  <a:lnTo>
                    <a:pt x="630" y="26"/>
                  </a:lnTo>
                  <a:lnTo>
                    <a:pt x="616" y="18"/>
                  </a:lnTo>
                  <a:lnTo>
                    <a:pt x="604" y="12"/>
                  </a:lnTo>
                  <a:lnTo>
                    <a:pt x="593" y="8"/>
                  </a:lnTo>
                  <a:lnTo>
                    <a:pt x="584" y="6"/>
                  </a:lnTo>
                  <a:lnTo>
                    <a:pt x="569" y="7"/>
                  </a:lnTo>
                  <a:lnTo>
                    <a:pt x="551" y="8"/>
                  </a:lnTo>
                  <a:lnTo>
                    <a:pt x="529" y="10"/>
                  </a:lnTo>
                  <a:lnTo>
                    <a:pt x="505" y="11"/>
                  </a:lnTo>
                  <a:lnTo>
                    <a:pt x="482" y="12"/>
                  </a:lnTo>
                  <a:lnTo>
                    <a:pt x="460" y="13"/>
                  </a:lnTo>
                  <a:lnTo>
                    <a:pt x="438" y="13"/>
                  </a:lnTo>
                  <a:lnTo>
                    <a:pt x="419" y="12"/>
                  </a:lnTo>
                  <a:lnTo>
                    <a:pt x="401" y="10"/>
                  </a:lnTo>
                  <a:lnTo>
                    <a:pt x="380" y="6"/>
                  </a:lnTo>
                  <a:lnTo>
                    <a:pt x="358" y="2"/>
                  </a:lnTo>
                  <a:lnTo>
                    <a:pt x="333" y="0"/>
                  </a:lnTo>
                  <a:lnTo>
                    <a:pt x="321" y="0"/>
                  </a:lnTo>
                  <a:lnTo>
                    <a:pt x="308" y="0"/>
                  </a:lnTo>
                  <a:lnTo>
                    <a:pt x="296" y="1"/>
                  </a:lnTo>
                  <a:lnTo>
                    <a:pt x="283" y="3"/>
                  </a:lnTo>
                  <a:lnTo>
                    <a:pt x="270" y="6"/>
                  </a:lnTo>
                  <a:lnTo>
                    <a:pt x="257" y="11"/>
                  </a:lnTo>
                  <a:lnTo>
                    <a:pt x="245" y="16"/>
                  </a:lnTo>
                  <a:lnTo>
                    <a:pt x="231" y="23"/>
                  </a:lnTo>
                  <a:lnTo>
                    <a:pt x="225" y="27"/>
                  </a:lnTo>
                  <a:lnTo>
                    <a:pt x="216" y="31"/>
                  </a:lnTo>
                  <a:lnTo>
                    <a:pt x="206" y="34"/>
                  </a:lnTo>
                  <a:lnTo>
                    <a:pt x="195" y="38"/>
                  </a:lnTo>
                  <a:lnTo>
                    <a:pt x="183" y="42"/>
                  </a:lnTo>
                  <a:lnTo>
                    <a:pt x="171" y="47"/>
                  </a:lnTo>
                  <a:lnTo>
                    <a:pt x="160" y="50"/>
                  </a:lnTo>
                  <a:lnTo>
                    <a:pt x="150" y="55"/>
                  </a:lnTo>
                  <a:lnTo>
                    <a:pt x="135" y="60"/>
                  </a:lnTo>
                  <a:lnTo>
                    <a:pt x="98" y="71"/>
                  </a:lnTo>
                  <a:lnTo>
                    <a:pt x="55" y="85"/>
                  </a:lnTo>
                  <a:lnTo>
                    <a:pt x="18" y="98"/>
                  </a:lnTo>
                  <a:lnTo>
                    <a:pt x="6" y="104"/>
                  </a:lnTo>
                  <a:lnTo>
                    <a:pt x="0" y="108"/>
                  </a:lnTo>
                  <a:lnTo>
                    <a:pt x="1" y="109"/>
                  </a:lnTo>
                  <a:lnTo>
                    <a:pt x="3" y="109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40" y="106"/>
                  </a:lnTo>
                  <a:lnTo>
                    <a:pt x="78" y="99"/>
                  </a:lnTo>
                  <a:lnTo>
                    <a:pt x="131" y="88"/>
                  </a:lnTo>
                  <a:lnTo>
                    <a:pt x="201" y="75"/>
                  </a:lnTo>
                  <a:lnTo>
                    <a:pt x="227" y="70"/>
                  </a:lnTo>
                  <a:lnTo>
                    <a:pt x="251" y="65"/>
                  </a:lnTo>
                  <a:lnTo>
                    <a:pt x="272" y="61"/>
                  </a:lnTo>
                  <a:lnTo>
                    <a:pt x="291" y="56"/>
                  </a:lnTo>
                  <a:lnTo>
                    <a:pt x="307" y="53"/>
                  </a:lnTo>
                  <a:lnTo>
                    <a:pt x="322" y="49"/>
                  </a:lnTo>
                  <a:lnTo>
                    <a:pt x="334" y="45"/>
                  </a:lnTo>
                  <a:lnTo>
                    <a:pt x="345" y="42"/>
                  </a:lnTo>
                  <a:lnTo>
                    <a:pt x="356" y="39"/>
                  </a:lnTo>
                  <a:lnTo>
                    <a:pt x="368" y="39"/>
                  </a:lnTo>
                  <a:lnTo>
                    <a:pt x="379" y="42"/>
                  </a:lnTo>
                  <a:lnTo>
                    <a:pt x="391" y="44"/>
                  </a:lnTo>
                  <a:lnTo>
                    <a:pt x="403" y="49"/>
                  </a:lnTo>
                  <a:lnTo>
                    <a:pt x="416" y="53"/>
                  </a:lnTo>
                  <a:lnTo>
                    <a:pt x="428" y="59"/>
                  </a:lnTo>
                  <a:lnTo>
                    <a:pt x="440" y="64"/>
                  </a:lnTo>
                  <a:lnTo>
                    <a:pt x="448" y="65"/>
                  </a:lnTo>
                  <a:lnTo>
                    <a:pt x="456" y="66"/>
                  </a:lnTo>
                  <a:lnTo>
                    <a:pt x="466" y="66"/>
                  </a:lnTo>
                  <a:lnTo>
                    <a:pt x="476" y="65"/>
                  </a:lnTo>
                  <a:lnTo>
                    <a:pt x="498" y="63"/>
                  </a:lnTo>
                  <a:lnTo>
                    <a:pt x="523" y="60"/>
                  </a:lnTo>
                  <a:lnTo>
                    <a:pt x="546" y="58"/>
                  </a:lnTo>
                  <a:lnTo>
                    <a:pt x="569" y="56"/>
                  </a:lnTo>
                  <a:lnTo>
                    <a:pt x="580" y="56"/>
                  </a:lnTo>
                  <a:lnTo>
                    <a:pt x="590" y="56"/>
                  </a:lnTo>
                  <a:lnTo>
                    <a:pt x="599" y="58"/>
                  </a:lnTo>
                  <a:lnTo>
                    <a:pt x="606" y="61"/>
                  </a:lnTo>
                  <a:lnTo>
                    <a:pt x="631" y="71"/>
                  </a:lnTo>
                  <a:lnTo>
                    <a:pt x="649" y="79"/>
                  </a:lnTo>
                  <a:lnTo>
                    <a:pt x="665" y="83"/>
                  </a:lnTo>
                  <a:lnTo>
                    <a:pt x="676" y="87"/>
                  </a:lnTo>
                  <a:lnTo>
                    <a:pt x="685" y="88"/>
                  </a:lnTo>
                  <a:lnTo>
                    <a:pt x="690" y="87"/>
                  </a:lnTo>
                  <a:lnTo>
                    <a:pt x="692" y="86"/>
                  </a:lnTo>
                  <a:lnTo>
                    <a:pt x="694" y="82"/>
                  </a:lnTo>
                  <a:lnTo>
                    <a:pt x="690" y="75"/>
                  </a:lnTo>
                  <a:lnTo>
                    <a:pt x="684" y="67"/>
                  </a:lnTo>
                  <a:lnTo>
                    <a:pt x="678" y="60"/>
                  </a:lnTo>
                  <a:lnTo>
                    <a:pt x="674" y="58"/>
                  </a:lnTo>
                  <a:close/>
                </a:path>
              </a:pathLst>
            </a:custGeom>
            <a:solidFill>
              <a:srgbClr val="5f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6672240" y="2538360"/>
              <a:ext cx="201600" cy="30240"/>
            </a:xfrm>
            <a:custGeom>
              <a:avLst/>
              <a:gdLst/>
              <a:ahLst/>
              <a:rect l="l" t="t" r="r" b="b"/>
              <a:pathLst>
                <a:path w="638" h="98">
                  <a:moveTo>
                    <a:pt x="317" y="36"/>
                  </a:moveTo>
                  <a:lnTo>
                    <a:pt x="306" y="39"/>
                  </a:lnTo>
                  <a:lnTo>
                    <a:pt x="295" y="40"/>
                  </a:lnTo>
                  <a:lnTo>
                    <a:pt x="281" y="42"/>
                  </a:lnTo>
                  <a:lnTo>
                    <a:pt x="267" y="46"/>
                  </a:lnTo>
                  <a:lnTo>
                    <a:pt x="249" y="48"/>
                  </a:lnTo>
                  <a:lnTo>
                    <a:pt x="230" y="53"/>
                  </a:lnTo>
                  <a:lnTo>
                    <a:pt x="206" y="57"/>
                  </a:lnTo>
                  <a:lnTo>
                    <a:pt x="180" y="63"/>
                  </a:lnTo>
                  <a:lnTo>
                    <a:pt x="118" y="77"/>
                  </a:lnTo>
                  <a:lnTo>
                    <a:pt x="70" y="88"/>
                  </a:lnTo>
                  <a:lnTo>
                    <a:pt x="35" y="94"/>
                  </a:lnTo>
                  <a:lnTo>
                    <a:pt x="13" y="98"/>
                  </a:lnTo>
                  <a:lnTo>
                    <a:pt x="6" y="98"/>
                  </a:lnTo>
                  <a:lnTo>
                    <a:pt x="2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5" y="93"/>
                  </a:lnTo>
                  <a:lnTo>
                    <a:pt x="16" y="88"/>
                  </a:lnTo>
                  <a:lnTo>
                    <a:pt x="49" y="76"/>
                  </a:lnTo>
                  <a:lnTo>
                    <a:pt x="88" y="62"/>
                  </a:lnTo>
                  <a:lnTo>
                    <a:pt x="121" y="51"/>
                  </a:lnTo>
                  <a:lnTo>
                    <a:pt x="135" y="47"/>
                  </a:lnTo>
                  <a:lnTo>
                    <a:pt x="142" y="42"/>
                  </a:lnTo>
                  <a:lnTo>
                    <a:pt x="152" y="39"/>
                  </a:lnTo>
                  <a:lnTo>
                    <a:pt x="162" y="36"/>
                  </a:lnTo>
                  <a:lnTo>
                    <a:pt x="172" y="32"/>
                  </a:lnTo>
                  <a:lnTo>
                    <a:pt x="182" y="29"/>
                  </a:lnTo>
                  <a:lnTo>
                    <a:pt x="192" y="26"/>
                  </a:lnTo>
                  <a:lnTo>
                    <a:pt x="199" y="23"/>
                  </a:lnTo>
                  <a:lnTo>
                    <a:pt x="205" y="20"/>
                  </a:lnTo>
                  <a:lnTo>
                    <a:pt x="217" y="14"/>
                  </a:lnTo>
                  <a:lnTo>
                    <a:pt x="230" y="9"/>
                  </a:lnTo>
                  <a:lnTo>
                    <a:pt x="242" y="5"/>
                  </a:lnTo>
                  <a:lnTo>
                    <a:pt x="254" y="3"/>
                  </a:lnTo>
                  <a:lnTo>
                    <a:pt x="267" y="2"/>
                  </a:lnTo>
                  <a:lnTo>
                    <a:pt x="280" y="0"/>
                  </a:lnTo>
                  <a:lnTo>
                    <a:pt x="292" y="0"/>
                  </a:lnTo>
                  <a:lnTo>
                    <a:pt x="305" y="2"/>
                  </a:lnTo>
                  <a:lnTo>
                    <a:pt x="329" y="4"/>
                  </a:lnTo>
                  <a:lnTo>
                    <a:pt x="351" y="7"/>
                  </a:lnTo>
                  <a:lnTo>
                    <a:pt x="372" y="9"/>
                  </a:lnTo>
                  <a:lnTo>
                    <a:pt x="390" y="12"/>
                  </a:lnTo>
                  <a:lnTo>
                    <a:pt x="408" y="13"/>
                  </a:lnTo>
                  <a:lnTo>
                    <a:pt x="428" y="13"/>
                  </a:lnTo>
                  <a:lnTo>
                    <a:pt x="449" y="13"/>
                  </a:lnTo>
                  <a:lnTo>
                    <a:pt x="471" y="10"/>
                  </a:lnTo>
                  <a:lnTo>
                    <a:pt x="492" y="9"/>
                  </a:lnTo>
                  <a:lnTo>
                    <a:pt x="511" y="8"/>
                  </a:lnTo>
                  <a:lnTo>
                    <a:pt x="530" y="7"/>
                  </a:lnTo>
                  <a:lnTo>
                    <a:pt x="545" y="7"/>
                  </a:lnTo>
                  <a:lnTo>
                    <a:pt x="553" y="7"/>
                  </a:lnTo>
                  <a:lnTo>
                    <a:pt x="563" y="10"/>
                  </a:lnTo>
                  <a:lnTo>
                    <a:pt x="573" y="15"/>
                  </a:lnTo>
                  <a:lnTo>
                    <a:pt x="584" y="20"/>
                  </a:lnTo>
                  <a:lnTo>
                    <a:pt x="595" y="26"/>
                  </a:lnTo>
                  <a:lnTo>
                    <a:pt x="605" y="34"/>
                  </a:lnTo>
                  <a:lnTo>
                    <a:pt x="613" y="40"/>
                  </a:lnTo>
                  <a:lnTo>
                    <a:pt x="621" y="47"/>
                  </a:lnTo>
                  <a:lnTo>
                    <a:pt x="623" y="50"/>
                  </a:lnTo>
                  <a:lnTo>
                    <a:pt x="629" y="55"/>
                  </a:lnTo>
                  <a:lnTo>
                    <a:pt x="634" y="62"/>
                  </a:lnTo>
                  <a:lnTo>
                    <a:pt x="638" y="68"/>
                  </a:lnTo>
                  <a:lnTo>
                    <a:pt x="638" y="71"/>
                  </a:lnTo>
                  <a:lnTo>
                    <a:pt x="637" y="72"/>
                  </a:lnTo>
                  <a:lnTo>
                    <a:pt x="633" y="73"/>
                  </a:lnTo>
                  <a:lnTo>
                    <a:pt x="627" y="72"/>
                  </a:lnTo>
                  <a:lnTo>
                    <a:pt x="618" y="69"/>
                  </a:lnTo>
                  <a:lnTo>
                    <a:pt x="606" y="66"/>
                  </a:lnTo>
                  <a:lnTo>
                    <a:pt x="591" y="61"/>
                  </a:lnTo>
                  <a:lnTo>
                    <a:pt x="572" y="52"/>
                  </a:lnTo>
                  <a:lnTo>
                    <a:pt x="564" y="50"/>
                  </a:lnTo>
                  <a:lnTo>
                    <a:pt x="554" y="48"/>
                  </a:lnTo>
                  <a:lnTo>
                    <a:pt x="546" y="47"/>
                  </a:lnTo>
                  <a:lnTo>
                    <a:pt x="535" y="47"/>
                  </a:lnTo>
                  <a:lnTo>
                    <a:pt x="514" y="47"/>
                  </a:lnTo>
                  <a:lnTo>
                    <a:pt x="492" y="50"/>
                  </a:lnTo>
                  <a:lnTo>
                    <a:pt x="470" y="51"/>
                  </a:lnTo>
                  <a:lnTo>
                    <a:pt x="450" y="52"/>
                  </a:lnTo>
                  <a:lnTo>
                    <a:pt x="431" y="53"/>
                  </a:lnTo>
                  <a:lnTo>
                    <a:pt x="417" y="52"/>
                  </a:lnTo>
                  <a:lnTo>
                    <a:pt x="403" y="51"/>
                  </a:lnTo>
                  <a:lnTo>
                    <a:pt x="390" y="48"/>
                  </a:lnTo>
                  <a:lnTo>
                    <a:pt x="376" y="46"/>
                  </a:lnTo>
                  <a:lnTo>
                    <a:pt x="364" y="42"/>
                  </a:lnTo>
                  <a:lnTo>
                    <a:pt x="351" y="39"/>
                  </a:lnTo>
                  <a:lnTo>
                    <a:pt x="339" y="36"/>
                  </a:lnTo>
                  <a:lnTo>
                    <a:pt x="328" y="35"/>
                  </a:lnTo>
                  <a:lnTo>
                    <a:pt x="317" y="36"/>
                  </a:lnTo>
                  <a:close/>
                </a:path>
              </a:pathLst>
            </a:custGeom>
            <a:solidFill>
              <a:srgbClr val="6647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6683400" y="2538360"/>
              <a:ext cx="185760" cy="28800"/>
            </a:xfrm>
            <a:custGeom>
              <a:avLst/>
              <a:gdLst/>
              <a:ahLst/>
              <a:rect l="l" t="t" r="r" b="b"/>
              <a:pathLst>
                <a:path w="586" h="86">
                  <a:moveTo>
                    <a:pt x="289" y="27"/>
                  </a:moveTo>
                  <a:lnTo>
                    <a:pt x="280" y="28"/>
                  </a:lnTo>
                  <a:lnTo>
                    <a:pt x="268" y="31"/>
                  </a:lnTo>
                  <a:lnTo>
                    <a:pt x="256" y="32"/>
                  </a:lnTo>
                  <a:lnTo>
                    <a:pt x="243" y="36"/>
                  </a:lnTo>
                  <a:lnTo>
                    <a:pt x="228" y="38"/>
                  </a:lnTo>
                  <a:lnTo>
                    <a:pt x="209" y="43"/>
                  </a:lnTo>
                  <a:lnTo>
                    <a:pt x="187" y="48"/>
                  </a:lnTo>
                  <a:lnTo>
                    <a:pt x="163" y="55"/>
                  </a:lnTo>
                  <a:lnTo>
                    <a:pt x="106" y="68"/>
                  </a:lnTo>
                  <a:lnTo>
                    <a:pt x="63" y="76"/>
                  </a:lnTo>
                  <a:lnTo>
                    <a:pt x="33" y="82"/>
                  </a:lnTo>
                  <a:lnTo>
                    <a:pt x="13" y="85"/>
                  </a:lnTo>
                  <a:lnTo>
                    <a:pt x="6" y="86"/>
                  </a:lnTo>
                  <a:lnTo>
                    <a:pt x="3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4" y="81"/>
                  </a:lnTo>
                  <a:lnTo>
                    <a:pt x="14" y="76"/>
                  </a:lnTo>
                  <a:lnTo>
                    <a:pt x="43" y="64"/>
                  </a:lnTo>
                  <a:lnTo>
                    <a:pt x="78" y="52"/>
                  </a:lnTo>
                  <a:lnTo>
                    <a:pt x="106" y="42"/>
                  </a:lnTo>
                  <a:lnTo>
                    <a:pt x="118" y="38"/>
                  </a:lnTo>
                  <a:lnTo>
                    <a:pt x="125" y="36"/>
                  </a:lnTo>
                  <a:lnTo>
                    <a:pt x="132" y="33"/>
                  </a:lnTo>
                  <a:lnTo>
                    <a:pt x="141" y="31"/>
                  </a:lnTo>
                  <a:lnTo>
                    <a:pt x="150" y="27"/>
                  </a:lnTo>
                  <a:lnTo>
                    <a:pt x="159" y="25"/>
                  </a:lnTo>
                  <a:lnTo>
                    <a:pt x="168" y="22"/>
                  </a:lnTo>
                  <a:lnTo>
                    <a:pt x="175" y="20"/>
                  </a:lnTo>
                  <a:lnTo>
                    <a:pt x="181" y="17"/>
                  </a:lnTo>
                  <a:lnTo>
                    <a:pt x="192" y="11"/>
                  </a:lnTo>
                  <a:lnTo>
                    <a:pt x="203" y="7"/>
                  </a:lnTo>
                  <a:lnTo>
                    <a:pt x="214" y="4"/>
                  </a:lnTo>
                  <a:lnTo>
                    <a:pt x="227" y="1"/>
                  </a:lnTo>
                  <a:lnTo>
                    <a:pt x="239" y="0"/>
                  </a:lnTo>
                  <a:lnTo>
                    <a:pt x="251" y="0"/>
                  </a:lnTo>
                  <a:lnTo>
                    <a:pt x="265" y="0"/>
                  </a:lnTo>
                  <a:lnTo>
                    <a:pt x="277" y="1"/>
                  </a:lnTo>
                  <a:lnTo>
                    <a:pt x="302" y="4"/>
                  </a:lnTo>
                  <a:lnTo>
                    <a:pt x="324" y="7"/>
                  </a:lnTo>
                  <a:lnTo>
                    <a:pt x="344" y="11"/>
                  </a:lnTo>
                  <a:lnTo>
                    <a:pt x="361" y="13"/>
                  </a:lnTo>
                  <a:lnTo>
                    <a:pt x="378" y="15"/>
                  </a:lnTo>
                  <a:lnTo>
                    <a:pt x="398" y="13"/>
                  </a:lnTo>
                  <a:lnTo>
                    <a:pt x="417" y="12"/>
                  </a:lnTo>
                  <a:lnTo>
                    <a:pt x="438" y="11"/>
                  </a:lnTo>
                  <a:lnTo>
                    <a:pt x="458" y="9"/>
                  </a:lnTo>
                  <a:lnTo>
                    <a:pt x="476" y="7"/>
                  </a:lnTo>
                  <a:lnTo>
                    <a:pt x="492" y="6"/>
                  </a:lnTo>
                  <a:lnTo>
                    <a:pt x="507" y="6"/>
                  </a:lnTo>
                  <a:lnTo>
                    <a:pt x="515" y="6"/>
                  </a:lnTo>
                  <a:lnTo>
                    <a:pt x="523" y="9"/>
                  </a:lnTo>
                  <a:lnTo>
                    <a:pt x="531" y="11"/>
                  </a:lnTo>
                  <a:lnTo>
                    <a:pt x="539" y="15"/>
                  </a:lnTo>
                  <a:lnTo>
                    <a:pt x="548" y="18"/>
                  </a:lnTo>
                  <a:lnTo>
                    <a:pt x="555" y="23"/>
                  </a:lnTo>
                  <a:lnTo>
                    <a:pt x="563" y="28"/>
                  </a:lnTo>
                  <a:lnTo>
                    <a:pt x="570" y="33"/>
                  </a:lnTo>
                  <a:lnTo>
                    <a:pt x="572" y="34"/>
                  </a:lnTo>
                  <a:lnTo>
                    <a:pt x="577" y="39"/>
                  </a:lnTo>
                  <a:lnTo>
                    <a:pt x="582" y="45"/>
                  </a:lnTo>
                  <a:lnTo>
                    <a:pt x="586" y="52"/>
                  </a:lnTo>
                  <a:lnTo>
                    <a:pt x="586" y="54"/>
                  </a:lnTo>
                  <a:lnTo>
                    <a:pt x="586" y="57"/>
                  </a:lnTo>
                  <a:lnTo>
                    <a:pt x="583" y="58"/>
                  </a:lnTo>
                  <a:lnTo>
                    <a:pt x="578" y="58"/>
                  </a:lnTo>
                  <a:lnTo>
                    <a:pt x="572" y="58"/>
                  </a:lnTo>
                  <a:lnTo>
                    <a:pt x="564" y="55"/>
                  </a:lnTo>
                  <a:lnTo>
                    <a:pt x="551" y="52"/>
                  </a:lnTo>
                  <a:lnTo>
                    <a:pt x="537" y="47"/>
                  </a:lnTo>
                  <a:lnTo>
                    <a:pt x="521" y="43"/>
                  </a:lnTo>
                  <a:lnTo>
                    <a:pt x="502" y="41"/>
                  </a:lnTo>
                  <a:lnTo>
                    <a:pt x="483" y="39"/>
                  </a:lnTo>
                  <a:lnTo>
                    <a:pt x="463" y="39"/>
                  </a:lnTo>
                  <a:lnTo>
                    <a:pt x="444" y="41"/>
                  </a:lnTo>
                  <a:lnTo>
                    <a:pt x="426" y="42"/>
                  </a:lnTo>
                  <a:lnTo>
                    <a:pt x="410" y="43"/>
                  </a:lnTo>
                  <a:lnTo>
                    <a:pt x="395" y="44"/>
                  </a:lnTo>
                  <a:lnTo>
                    <a:pt x="380" y="45"/>
                  </a:lnTo>
                  <a:lnTo>
                    <a:pt x="366" y="44"/>
                  </a:lnTo>
                  <a:lnTo>
                    <a:pt x="352" y="42"/>
                  </a:lnTo>
                  <a:lnTo>
                    <a:pt x="339" y="39"/>
                  </a:lnTo>
                  <a:lnTo>
                    <a:pt x="326" y="34"/>
                  </a:lnTo>
                  <a:lnTo>
                    <a:pt x="314" y="31"/>
                  </a:lnTo>
                  <a:lnTo>
                    <a:pt x="302" y="28"/>
                  </a:lnTo>
                  <a:lnTo>
                    <a:pt x="289" y="27"/>
                  </a:lnTo>
                  <a:close/>
                </a:path>
              </a:pathLst>
            </a:custGeom>
            <a:solidFill>
              <a:srgbClr val="6c4a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6694560" y="2540160"/>
              <a:ext cx="169920" cy="23760"/>
            </a:xfrm>
            <a:custGeom>
              <a:avLst/>
              <a:gdLst/>
              <a:ahLst/>
              <a:rect l="l" t="t" r="r" b="b"/>
              <a:pathLst>
                <a:path w="533" h="72">
                  <a:moveTo>
                    <a:pt x="262" y="21"/>
                  </a:moveTo>
                  <a:lnTo>
                    <a:pt x="252" y="21"/>
                  </a:lnTo>
                  <a:lnTo>
                    <a:pt x="242" y="21"/>
                  </a:lnTo>
                  <a:lnTo>
                    <a:pt x="231" y="22"/>
                  </a:lnTo>
                  <a:lnTo>
                    <a:pt x="219" y="23"/>
                  </a:lnTo>
                  <a:lnTo>
                    <a:pt x="205" y="27"/>
                  </a:lnTo>
                  <a:lnTo>
                    <a:pt x="188" y="30"/>
                  </a:lnTo>
                  <a:lnTo>
                    <a:pt x="167" y="37"/>
                  </a:lnTo>
                  <a:lnTo>
                    <a:pt x="143" y="43"/>
                  </a:lnTo>
                  <a:lnTo>
                    <a:pt x="55" y="64"/>
                  </a:lnTo>
                  <a:lnTo>
                    <a:pt x="11" y="72"/>
                  </a:lnTo>
                  <a:lnTo>
                    <a:pt x="2" y="72"/>
                  </a:lnTo>
                  <a:lnTo>
                    <a:pt x="0" y="71"/>
                  </a:lnTo>
                  <a:lnTo>
                    <a:pt x="4" y="69"/>
                  </a:lnTo>
                  <a:lnTo>
                    <a:pt x="12" y="65"/>
                  </a:lnTo>
                  <a:lnTo>
                    <a:pt x="38" y="55"/>
                  </a:lnTo>
                  <a:lnTo>
                    <a:pt x="69" y="44"/>
                  </a:lnTo>
                  <a:lnTo>
                    <a:pt x="93" y="35"/>
                  </a:lnTo>
                  <a:lnTo>
                    <a:pt x="105" y="32"/>
                  </a:lnTo>
                  <a:lnTo>
                    <a:pt x="107" y="29"/>
                  </a:lnTo>
                  <a:lnTo>
                    <a:pt x="113" y="27"/>
                  </a:lnTo>
                  <a:lnTo>
                    <a:pt x="119" y="24"/>
                  </a:lnTo>
                  <a:lnTo>
                    <a:pt x="127" y="22"/>
                  </a:lnTo>
                  <a:lnTo>
                    <a:pt x="135" y="19"/>
                  </a:lnTo>
                  <a:lnTo>
                    <a:pt x="143" y="16"/>
                  </a:lnTo>
                  <a:lnTo>
                    <a:pt x="150" y="13"/>
                  </a:lnTo>
                  <a:lnTo>
                    <a:pt x="156" y="9"/>
                  </a:lnTo>
                  <a:lnTo>
                    <a:pt x="166" y="6"/>
                  </a:lnTo>
                  <a:lnTo>
                    <a:pt x="176" y="3"/>
                  </a:lnTo>
                  <a:lnTo>
                    <a:pt x="187" y="1"/>
                  </a:lnTo>
                  <a:lnTo>
                    <a:pt x="199" y="0"/>
                  </a:lnTo>
                  <a:lnTo>
                    <a:pt x="224" y="0"/>
                  </a:lnTo>
                  <a:lnTo>
                    <a:pt x="248" y="1"/>
                  </a:lnTo>
                  <a:lnTo>
                    <a:pt x="273" y="5"/>
                  </a:lnTo>
                  <a:lnTo>
                    <a:pt x="295" y="8"/>
                  </a:lnTo>
                  <a:lnTo>
                    <a:pt x="316" y="11"/>
                  </a:lnTo>
                  <a:lnTo>
                    <a:pt x="332" y="13"/>
                  </a:lnTo>
                  <a:lnTo>
                    <a:pt x="351" y="13"/>
                  </a:lnTo>
                  <a:lnTo>
                    <a:pt x="368" y="12"/>
                  </a:lnTo>
                  <a:lnTo>
                    <a:pt x="386" y="11"/>
                  </a:lnTo>
                  <a:lnTo>
                    <a:pt x="405" y="8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3" y="2"/>
                  </a:lnTo>
                  <a:lnTo>
                    <a:pt x="466" y="2"/>
                  </a:lnTo>
                  <a:lnTo>
                    <a:pt x="472" y="2"/>
                  </a:lnTo>
                  <a:lnTo>
                    <a:pt x="480" y="3"/>
                  </a:lnTo>
                  <a:lnTo>
                    <a:pt x="487" y="5"/>
                  </a:lnTo>
                  <a:lnTo>
                    <a:pt x="493" y="7"/>
                  </a:lnTo>
                  <a:lnTo>
                    <a:pt x="499" y="9"/>
                  </a:lnTo>
                  <a:lnTo>
                    <a:pt x="506" y="13"/>
                  </a:lnTo>
                  <a:lnTo>
                    <a:pt x="512" y="17"/>
                  </a:lnTo>
                  <a:lnTo>
                    <a:pt x="518" y="21"/>
                  </a:lnTo>
                  <a:lnTo>
                    <a:pt x="519" y="23"/>
                  </a:lnTo>
                  <a:lnTo>
                    <a:pt x="523" y="27"/>
                  </a:lnTo>
                  <a:lnTo>
                    <a:pt x="528" y="32"/>
                  </a:lnTo>
                  <a:lnTo>
                    <a:pt x="531" y="37"/>
                  </a:lnTo>
                  <a:lnTo>
                    <a:pt x="533" y="39"/>
                  </a:lnTo>
                  <a:lnTo>
                    <a:pt x="533" y="41"/>
                  </a:lnTo>
                  <a:lnTo>
                    <a:pt x="533" y="43"/>
                  </a:lnTo>
                  <a:lnTo>
                    <a:pt x="530" y="44"/>
                  </a:lnTo>
                  <a:lnTo>
                    <a:pt x="520" y="43"/>
                  </a:lnTo>
                  <a:lnTo>
                    <a:pt x="503" y="37"/>
                  </a:lnTo>
                  <a:lnTo>
                    <a:pt x="487" y="34"/>
                  </a:lnTo>
                  <a:lnTo>
                    <a:pt x="469" y="30"/>
                  </a:lnTo>
                  <a:lnTo>
                    <a:pt x="451" y="29"/>
                  </a:lnTo>
                  <a:lnTo>
                    <a:pt x="433" y="29"/>
                  </a:lnTo>
                  <a:lnTo>
                    <a:pt x="416" y="29"/>
                  </a:lnTo>
                  <a:lnTo>
                    <a:pt x="399" y="30"/>
                  </a:lnTo>
                  <a:lnTo>
                    <a:pt x="384" y="32"/>
                  </a:lnTo>
                  <a:lnTo>
                    <a:pt x="370" y="34"/>
                  </a:lnTo>
                  <a:lnTo>
                    <a:pt x="362" y="37"/>
                  </a:lnTo>
                  <a:lnTo>
                    <a:pt x="354" y="39"/>
                  </a:lnTo>
                  <a:lnTo>
                    <a:pt x="347" y="39"/>
                  </a:lnTo>
                  <a:lnTo>
                    <a:pt x="340" y="39"/>
                  </a:lnTo>
                  <a:lnTo>
                    <a:pt x="326" y="38"/>
                  </a:lnTo>
                  <a:lnTo>
                    <a:pt x="314" y="35"/>
                  </a:lnTo>
                  <a:lnTo>
                    <a:pt x="301" y="30"/>
                  </a:lnTo>
                  <a:lnTo>
                    <a:pt x="289" y="27"/>
                  </a:lnTo>
                  <a:lnTo>
                    <a:pt x="276" y="23"/>
                  </a:lnTo>
                  <a:lnTo>
                    <a:pt x="262" y="21"/>
                  </a:lnTo>
                  <a:close/>
                </a:path>
              </a:pathLst>
            </a:custGeom>
            <a:solidFill>
              <a:srgbClr val="734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6705720" y="2541600"/>
              <a:ext cx="152280" cy="19080"/>
            </a:xfrm>
            <a:custGeom>
              <a:avLst/>
              <a:gdLst/>
              <a:ahLst/>
              <a:rect l="l" t="t" r="r" b="b"/>
              <a:pathLst>
                <a:path w="479" h="62">
                  <a:moveTo>
                    <a:pt x="465" y="11"/>
                  </a:moveTo>
                  <a:lnTo>
                    <a:pt x="461" y="7"/>
                  </a:lnTo>
                  <a:lnTo>
                    <a:pt x="457" y="6"/>
                  </a:lnTo>
                  <a:lnTo>
                    <a:pt x="454" y="5"/>
                  </a:lnTo>
                  <a:lnTo>
                    <a:pt x="449" y="4"/>
                  </a:lnTo>
                  <a:lnTo>
                    <a:pt x="445" y="3"/>
                  </a:lnTo>
                  <a:lnTo>
                    <a:pt x="439" y="3"/>
                  </a:lnTo>
                  <a:lnTo>
                    <a:pt x="434" y="3"/>
                  </a:lnTo>
                  <a:lnTo>
                    <a:pt x="427" y="3"/>
                  </a:lnTo>
                  <a:lnTo>
                    <a:pt x="413" y="3"/>
                  </a:lnTo>
                  <a:lnTo>
                    <a:pt x="399" y="5"/>
                  </a:lnTo>
                  <a:lnTo>
                    <a:pt x="385" y="6"/>
                  </a:lnTo>
                  <a:lnTo>
                    <a:pt x="370" y="9"/>
                  </a:lnTo>
                  <a:lnTo>
                    <a:pt x="354" y="11"/>
                  </a:lnTo>
                  <a:lnTo>
                    <a:pt x="338" y="12"/>
                  </a:lnTo>
                  <a:lnTo>
                    <a:pt x="322" y="14"/>
                  </a:lnTo>
                  <a:lnTo>
                    <a:pt x="305" y="14"/>
                  </a:lnTo>
                  <a:lnTo>
                    <a:pt x="289" y="12"/>
                  </a:lnTo>
                  <a:lnTo>
                    <a:pt x="268" y="10"/>
                  </a:lnTo>
                  <a:lnTo>
                    <a:pt x="244" y="6"/>
                  </a:lnTo>
                  <a:lnTo>
                    <a:pt x="220" y="3"/>
                  </a:lnTo>
                  <a:lnTo>
                    <a:pt x="194" y="0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48" y="3"/>
                  </a:lnTo>
                  <a:lnTo>
                    <a:pt x="139" y="5"/>
                  </a:lnTo>
                  <a:lnTo>
                    <a:pt x="131" y="7"/>
                  </a:lnTo>
                  <a:lnTo>
                    <a:pt x="125" y="11"/>
                  </a:lnTo>
                  <a:lnTo>
                    <a:pt x="119" y="14"/>
                  </a:lnTo>
                  <a:lnTo>
                    <a:pt x="112" y="16"/>
                  </a:lnTo>
                  <a:lnTo>
                    <a:pt x="105" y="19"/>
                  </a:lnTo>
                  <a:lnTo>
                    <a:pt x="99" y="20"/>
                  </a:lnTo>
                  <a:lnTo>
                    <a:pt x="94" y="22"/>
                  </a:lnTo>
                  <a:lnTo>
                    <a:pt x="91" y="23"/>
                  </a:lnTo>
                  <a:lnTo>
                    <a:pt x="91" y="25"/>
                  </a:lnTo>
                  <a:lnTo>
                    <a:pt x="81" y="27"/>
                  </a:lnTo>
                  <a:lnTo>
                    <a:pt x="59" y="36"/>
                  </a:lnTo>
                  <a:lnTo>
                    <a:pt x="33" y="46"/>
                  </a:lnTo>
                  <a:lnTo>
                    <a:pt x="11" y="54"/>
                  </a:lnTo>
                  <a:lnTo>
                    <a:pt x="3" y="58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9" y="60"/>
                  </a:lnTo>
                  <a:lnTo>
                    <a:pt x="48" y="52"/>
                  </a:lnTo>
                  <a:lnTo>
                    <a:pt x="123" y="32"/>
                  </a:lnTo>
                  <a:lnTo>
                    <a:pt x="147" y="25"/>
                  </a:lnTo>
                  <a:lnTo>
                    <a:pt x="167" y="20"/>
                  </a:lnTo>
                  <a:lnTo>
                    <a:pt x="183" y="15"/>
                  </a:lnTo>
                  <a:lnTo>
                    <a:pt x="196" y="12"/>
                  </a:lnTo>
                  <a:lnTo>
                    <a:pt x="206" y="11"/>
                  </a:lnTo>
                  <a:lnTo>
                    <a:pt x="216" y="11"/>
                  </a:lnTo>
                  <a:lnTo>
                    <a:pt x="226" y="11"/>
                  </a:lnTo>
                  <a:lnTo>
                    <a:pt x="237" y="14"/>
                  </a:lnTo>
                  <a:lnTo>
                    <a:pt x="251" y="17"/>
                  </a:lnTo>
                  <a:lnTo>
                    <a:pt x="263" y="22"/>
                  </a:lnTo>
                  <a:lnTo>
                    <a:pt x="275" y="27"/>
                  </a:lnTo>
                  <a:lnTo>
                    <a:pt x="288" y="32"/>
                  </a:lnTo>
                  <a:lnTo>
                    <a:pt x="294" y="33"/>
                  </a:lnTo>
                  <a:lnTo>
                    <a:pt x="300" y="35"/>
                  </a:lnTo>
                  <a:lnTo>
                    <a:pt x="307" y="36"/>
                  </a:lnTo>
                  <a:lnTo>
                    <a:pt x="315" y="36"/>
                  </a:lnTo>
                  <a:lnTo>
                    <a:pt x="322" y="35"/>
                  </a:lnTo>
                  <a:lnTo>
                    <a:pt x="331" y="32"/>
                  </a:lnTo>
                  <a:lnTo>
                    <a:pt x="339" y="28"/>
                  </a:lnTo>
                  <a:lnTo>
                    <a:pt x="348" y="25"/>
                  </a:lnTo>
                  <a:lnTo>
                    <a:pt x="360" y="20"/>
                  </a:lnTo>
                  <a:lnTo>
                    <a:pt x="374" y="19"/>
                  </a:lnTo>
                  <a:lnTo>
                    <a:pt x="387" y="17"/>
                  </a:lnTo>
                  <a:lnTo>
                    <a:pt x="403" y="19"/>
                  </a:lnTo>
                  <a:lnTo>
                    <a:pt x="419" y="21"/>
                  </a:lnTo>
                  <a:lnTo>
                    <a:pt x="435" y="23"/>
                  </a:lnTo>
                  <a:lnTo>
                    <a:pt x="451" y="27"/>
                  </a:lnTo>
                  <a:lnTo>
                    <a:pt x="467" y="30"/>
                  </a:lnTo>
                  <a:lnTo>
                    <a:pt x="476" y="31"/>
                  </a:lnTo>
                  <a:lnTo>
                    <a:pt x="479" y="30"/>
                  </a:lnTo>
                  <a:lnTo>
                    <a:pt x="479" y="27"/>
                  </a:lnTo>
                  <a:lnTo>
                    <a:pt x="477" y="23"/>
                  </a:lnTo>
                  <a:lnTo>
                    <a:pt x="473" y="19"/>
                  </a:lnTo>
                  <a:lnTo>
                    <a:pt x="470" y="15"/>
                  </a:lnTo>
                  <a:lnTo>
                    <a:pt x="466" y="12"/>
                  </a:lnTo>
                  <a:lnTo>
                    <a:pt x="465" y="11"/>
                  </a:lnTo>
                  <a:close/>
                </a:path>
              </a:pathLst>
            </a:custGeom>
            <a:solidFill>
              <a:srgbClr val="785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6792840" y="2583000"/>
              <a:ext cx="90720" cy="46080"/>
            </a:xfrm>
            <a:custGeom>
              <a:avLst/>
              <a:gdLst/>
              <a:ahLst/>
              <a:rect l="l" t="t" r="r" b="b"/>
              <a:pathLst>
                <a:path w="283" h="146">
                  <a:moveTo>
                    <a:pt x="251" y="0"/>
                  </a:moveTo>
                  <a:lnTo>
                    <a:pt x="246" y="2"/>
                  </a:lnTo>
                  <a:lnTo>
                    <a:pt x="241" y="4"/>
                  </a:lnTo>
                  <a:lnTo>
                    <a:pt x="236" y="7"/>
                  </a:lnTo>
                  <a:lnTo>
                    <a:pt x="230" y="8"/>
                  </a:lnTo>
                  <a:lnTo>
                    <a:pt x="224" y="10"/>
                  </a:lnTo>
                  <a:lnTo>
                    <a:pt x="218" y="13"/>
                  </a:lnTo>
                  <a:lnTo>
                    <a:pt x="210" y="14"/>
                  </a:lnTo>
                  <a:lnTo>
                    <a:pt x="202" y="16"/>
                  </a:lnTo>
                  <a:lnTo>
                    <a:pt x="181" y="23"/>
                  </a:lnTo>
                  <a:lnTo>
                    <a:pt x="159" y="29"/>
                  </a:lnTo>
                  <a:lnTo>
                    <a:pt x="135" y="36"/>
                  </a:lnTo>
                  <a:lnTo>
                    <a:pt x="111" y="44"/>
                  </a:lnTo>
                  <a:lnTo>
                    <a:pt x="86" y="51"/>
                  </a:lnTo>
                  <a:lnTo>
                    <a:pt x="64" y="58"/>
                  </a:lnTo>
                  <a:lnTo>
                    <a:pt x="43" y="66"/>
                  </a:lnTo>
                  <a:lnTo>
                    <a:pt x="26" y="71"/>
                  </a:lnTo>
                  <a:lnTo>
                    <a:pt x="25" y="72"/>
                  </a:lnTo>
                  <a:lnTo>
                    <a:pt x="21" y="73"/>
                  </a:lnTo>
                  <a:lnTo>
                    <a:pt x="16" y="77"/>
                  </a:lnTo>
                  <a:lnTo>
                    <a:pt x="11" y="80"/>
                  </a:lnTo>
                  <a:lnTo>
                    <a:pt x="6" y="85"/>
                  </a:lnTo>
                  <a:lnTo>
                    <a:pt x="2" y="91"/>
                  </a:lnTo>
                  <a:lnTo>
                    <a:pt x="1" y="95"/>
                  </a:lnTo>
                  <a:lnTo>
                    <a:pt x="0" y="99"/>
                  </a:lnTo>
                  <a:lnTo>
                    <a:pt x="0" y="103"/>
                  </a:lnTo>
                  <a:lnTo>
                    <a:pt x="1" y="106"/>
                  </a:lnTo>
                  <a:lnTo>
                    <a:pt x="1" y="115"/>
                  </a:lnTo>
                  <a:lnTo>
                    <a:pt x="2" y="125"/>
                  </a:lnTo>
                  <a:lnTo>
                    <a:pt x="4" y="128"/>
                  </a:lnTo>
                  <a:lnTo>
                    <a:pt x="5" y="132"/>
                  </a:lnTo>
                  <a:lnTo>
                    <a:pt x="6" y="136"/>
                  </a:lnTo>
                  <a:lnTo>
                    <a:pt x="9" y="138"/>
                  </a:lnTo>
                  <a:lnTo>
                    <a:pt x="12" y="141"/>
                  </a:lnTo>
                  <a:lnTo>
                    <a:pt x="17" y="143"/>
                  </a:lnTo>
                  <a:lnTo>
                    <a:pt x="23" y="144"/>
                  </a:lnTo>
                  <a:lnTo>
                    <a:pt x="30" y="146"/>
                  </a:lnTo>
                  <a:lnTo>
                    <a:pt x="38" y="144"/>
                  </a:lnTo>
                  <a:lnTo>
                    <a:pt x="48" y="144"/>
                  </a:lnTo>
                  <a:lnTo>
                    <a:pt x="60" y="142"/>
                  </a:lnTo>
                  <a:lnTo>
                    <a:pt x="74" y="138"/>
                  </a:lnTo>
                  <a:lnTo>
                    <a:pt x="89" y="135"/>
                  </a:lnTo>
                  <a:lnTo>
                    <a:pt x="105" y="131"/>
                  </a:lnTo>
                  <a:lnTo>
                    <a:pt x="119" y="125"/>
                  </a:lnTo>
                  <a:lnTo>
                    <a:pt x="134" y="119"/>
                  </a:lnTo>
                  <a:lnTo>
                    <a:pt x="164" y="104"/>
                  </a:lnTo>
                  <a:lnTo>
                    <a:pt x="192" y="88"/>
                  </a:lnTo>
                  <a:lnTo>
                    <a:pt x="218" y="72"/>
                  </a:lnTo>
                  <a:lnTo>
                    <a:pt x="240" y="55"/>
                  </a:lnTo>
                  <a:lnTo>
                    <a:pt x="258" y="40"/>
                  </a:lnTo>
                  <a:lnTo>
                    <a:pt x="273" y="28"/>
                  </a:lnTo>
                  <a:lnTo>
                    <a:pt x="278" y="21"/>
                  </a:lnTo>
                  <a:lnTo>
                    <a:pt x="280" y="16"/>
                  </a:lnTo>
                  <a:lnTo>
                    <a:pt x="283" y="13"/>
                  </a:lnTo>
                  <a:lnTo>
                    <a:pt x="283" y="9"/>
                  </a:lnTo>
                  <a:lnTo>
                    <a:pt x="282" y="7"/>
                  </a:lnTo>
                  <a:lnTo>
                    <a:pt x="280" y="4"/>
                  </a:lnTo>
                  <a:lnTo>
                    <a:pt x="277" y="3"/>
                  </a:lnTo>
                  <a:lnTo>
                    <a:pt x="274" y="2"/>
                  </a:lnTo>
                  <a:lnTo>
                    <a:pt x="266" y="0"/>
                  </a:lnTo>
                  <a:lnTo>
                    <a:pt x="258" y="0"/>
                  </a:lnTo>
                  <a:lnTo>
                    <a:pt x="253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674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6672240" y="2587680"/>
              <a:ext cx="122400" cy="42840"/>
            </a:xfrm>
            <a:custGeom>
              <a:avLst/>
              <a:gdLst/>
              <a:ahLst/>
              <a:rect l="l" t="t" r="r" b="b"/>
              <a:pathLst>
                <a:path w="383" h="132">
                  <a:moveTo>
                    <a:pt x="48" y="0"/>
                  </a:moveTo>
                  <a:lnTo>
                    <a:pt x="74" y="2"/>
                  </a:lnTo>
                  <a:lnTo>
                    <a:pt x="103" y="5"/>
                  </a:lnTo>
                  <a:lnTo>
                    <a:pt x="137" y="9"/>
                  </a:lnTo>
                  <a:lnTo>
                    <a:pt x="170" y="13"/>
                  </a:lnTo>
                  <a:lnTo>
                    <a:pt x="203" y="18"/>
                  </a:lnTo>
                  <a:lnTo>
                    <a:pt x="235" y="25"/>
                  </a:lnTo>
                  <a:lnTo>
                    <a:pt x="261" y="31"/>
                  </a:lnTo>
                  <a:lnTo>
                    <a:pt x="282" y="38"/>
                  </a:lnTo>
                  <a:lnTo>
                    <a:pt x="292" y="42"/>
                  </a:lnTo>
                  <a:lnTo>
                    <a:pt x="300" y="45"/>
                  </a:lnTo>
                  <a:lnTo>
                    <a:pt x="308" y="48"/>
                  </a:lnTo>
                  <a:lnTo>
                    <a:pt x="316" y="50"/>
                  </a:lnTo>
                  <a:lnTo>
                    <a:pt x="324" y="53"/>
                  </a:lnTo>
                  <a:lnTo>
                    <a:pt x="331" y="55"/>
                  </a:lnTo>
                  <a:lnTo>
                    <a:pt x="338" y="56"/>
                  </a:lnTo>
                  <a:lnTo>
                    <a:pt x="345" y="58"/>
                  </a:lnTo>
                  <a:lnTo>
                    <a:pt x="346" y="59"/>
                  </a:lnTo>
                  <a:lnTo>
                    <a:pt x="351" y="61"/>
                  </a:lnTo>
                  <a:lnTo>
                    <a:pt x="357" y="66"/>
                  </a:lnTo>
                  <a:lnTo>
                    <a:pt x="363" y="74"/>
                  </a:lnTo>
                  <a:lnTo>
                    <a:pt x="370" y="81"/>
                  </a:lnTo>
                  <a:lnTo>
                    <a:pt x="377" y="91"/>
                  </a:lnTo>
                  <a:lnTo>
                    <a:pt x="379" y="96"/>
                  </a:lnTo>
                  <a:lnTo>
                    <a:pt x="381" y="101"/>
                  </a:lnTo>
                  <a:lnTo>
                    <a:pt x="383" y="106"/>
                  </a:lnTo>
                  <a:lnTo>
                    <a:pt x="383" y="112"/>
                  </a:lnTo>
                  <a:lnTo>
                    <a:pt x="381" y="117"/>
                  </a:lnTo>
                  <a:lnTo>
                    <a:pt x="379" y="120"/>
                  </a:lnTo>
                  <a:lnTo>
                    <a:pt x="375" y="124"/>
                  </a:lnTo>
                  <a:lnTo>
                    <a:pt x="369" y="128"/>
                  </a:lnTo>
                  <a:lnTo>
                    <a:pt x="363" y="129"/>
                  </a:lnTo>
                  <a:lnTo>
                    <a:pt x="354" y="130"/>
                  </a:lnTo>
                  <a:lnTo>
                    <a:pt x="345" y="132"/>
                  </a:lnTo>
                  <a:lnTo>
                    <a:pt x="335" y="132"/>
                  </a:lnTo>
                  <a:lnTo>
                    <a:pt x="311" y="129"/>
                  </a:lnTo>
                  <a:lnTo>
                    <a:pt x="285" y="125"/>
                  </a:lnTo>
                  <a:lnTo>
                    <a:pt x="257" y="119"/>
                  </a:lnTo>
                  <a:lnTo>
                    <a:pt x="228" y="112"/>
                  </a:lnTo>
                  <a:lnTo>
                    <a:pt x="198" y="104"/>
                  </a:lnTo>
                  <a:lnTo>
                    <a:pt x="169" y="95"/>
                  </a:lnTo>
                  <a:lnTo>
                    <a:pt x="140" y="86"/>
                  </a:lnTo>
                  <a:lnTo>
                    <a:pt x="112" y="76"/>
                  </a:lnTo>
                  <a:lnTo>
                    <a:pt x="86" y="66"/>
                  </a:lnTo>
                  <a:lnTo>
                    <a:pt x="63" y="56"/>
                  </a:lnTo>
                  <a:lnTo>
                    <a:pt x="42" y="47"/>
                  </a:lnTo>
                  <a:lnTo>
                    <a:pt x="23" y="38"/>
                  </a:lnTo>
                  <a:lnTo>
                    <a:pt x="17" y="34"/>
                  </a:lnTo>
                  <a:lnTo>
                    <a:pt x="11" y="31"/>
                  </a:lnTo>
                  <a:lnTo>
                    <a:pt x="6" y="27"/>
                  </a:lnTo>
                  <a:lnTo>
                    <a:pt x="4" y="23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lnTo>
                    <a:pt x="7" y="5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31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74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6797520" y="2584440"/>
              <a:ext cx="78120" cy="38160"/>
            </a:xfrm>
            <a:custGeom>
              <a:avLst/>
              <a:gdLst/>
              <a:ahLst/>
              <a:rect l="l" t="t" r="r" b="b"/>
              <a:pathLst>
                <a:path w="243" h="123">
                  <a:moveTo>
                    <a:pt x="30" y="61"/>
                  </a:moveTo>
                  <a:lnTo>
                    <a:pt x="44" y="56"/>
                  </a:lnTo>
                  <a:lnTo>
                    <a:pt x="62" y="50"/>
                  </a:lnTo>
                  <a:lnTo>
                    <a:pt x="80" y="43"/>
                  </a:lnTo>
                  <a:lnTo>
                    <a:pt x="100" y="37"/>
                  </a:lnTo>
                  <a:lnTo>
                    <a:pt x="120" y="31"/>
                  </a:lnTo>
                  <a:lnTo>
                    <a:pt x="139" y="25"/>
                  </a:lnTo>
                  <a:lnTo>
                    <a:pt x="158" y="19"/>
                  </a:lnTo>
                  <a:lnTo>
                    <a:pt x="174" y="14"/>
                  </a:lnTo>
                  <a:lnTo>
                    <a:pt x="181" y="13"/>
                  </a:lnTo>
                  <a:lnTo>
                    <a:pt x="187" y="10"/>
                  </a:lnTo>
                  <a:lnTo>
                    <a:pt x="193" y="9"/>
                  </a:lnTo>
                  <a:lnTo>
                    <a:pt x="198" y="8"/>
                  </a:lnTo>
                  <a:lnTo>
                    <a:pt x="203" y="5"/>
                  </a:lnTo>
                  <a:lnTo>
                    <a:pt x="208" y="4"/>
                  </a:lnTo>
                  <a:lnTo>
                    <a:pt x="212" y="3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8" y="2"/>
                  </a:lnTo>
                  <a:lnTo>
                    <a:pt x="234" y="3"/>
                  </a:lnTo>
                  <a:lnTo>
                    <a:pt x="238" y="4"/>
                  </a:lnTo>
                  <a:lnTo>
                    <a:pt x="240" y="5"/>
                  </a:lnTo>
                  <a:lnTo>
                    <a:pt x="241" y="8"/>
                  </a:lnTo>
                  <a:lnTo>
                    <a:pt x="243" y="10"/>
                  </a:lnTo>
                  <a:lnTo>
                    <a:pt x="243" y="13"/>
                  </a:lnTo>
                  <a:lnTo>
                    <a:pt x="241" y="16"/>
                  </a:lnTo>
                  <a:lnTo>
                    <a:pt x="238" y="20"/>
                  </a:lnTo>
                  <a:lnTo>
                    <a:pt x="234" y="25"/>
                  </a:lnTo>
                  <a:lnTo>
                    <a:pt x="222" y="36"/>
                  </a:lnTo>
                  <a:lnTo>
                    <a:pt x="206" y="48"/>
                  </a:lnTo>
                  <a:lnTo>
                    <a:pt x="186" y="62"/>
                  </a:lnTo>
                  <a:lnTo>
                    <a:pt x="164" y="75"/>
                  </a:lnTo>
                  <a:lnTo>
                    <a:pt x="139" y="89"/>
                  </a:lnTo>
                  <a:lnTo>
                    <a:pt x="113" y="101"/>
                  </a:lnTo>
                  <a:lnTo>
                    <a:pt x="101" y="106"/>
                  </a:lnTo>
                  <a:lnTo>
                    <a:pt x="88" y="111"/>
                  </a:lnTo>
                  <a:lnTo>
                    <a:pt x="75" y="115"/>
                  </a:lnTo>
                  <a:lnTo>
                    <a:pt x="63" y="117"/>
                  </a:lnTo>
                  <a:lnTo>
                    <a:pt x="41" y="122"/>
                  </a:lnTo>
                  <a:lnTo>
                    <a:pt x="26" y="123"/>
                  </a:lnTo>
                  <a:lnTo>
                    <a:pt x="20" y="123"/>
                  </a:lnTo>
                  <a:lnTo>
                    <a:pt x="15" y="122"/>
                  </a:lnTo>
                  <a:lnTo>
                    <a:pt x="11" y="121"/>
                  </a:lnTo>
                  <a:lnTo>
                    <a:pt x="8" y="118"/>
                  </a:lnTo>
                  <a:lnTo>
                    <a:pt x="4" y="114"/>
                  </a:lnTo>
                  <a:lnTo>
                    <a:pt x="1" y="107"/>
                  </a:lnTo>
                  <a:lnTo>
                    <a:pt x="1" y="100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1" y="82"/>
                  </a:lnTo>
                  <a:lnTo>
                    <a:pt x="4" y="79"/>
                  </a:lnTo>
                  <a:lnTo>
                    <a:pt x="9" y="73"/>
                  </a:lnTo>
                  <a:lnTo>
                    <a:pt x="14" y="68"/>
                  </a:lnTo>
                  <a:lnTo>
                    <a:pt x="20" y="66"/>
                  </a:lnTo>
                  <a:lnTo>
                    <a:pt x="25" y="62"/>
                  </a:lnTo>
                  <a:lnTo>
                    <a:pt x="28" y="61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704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6804000" y="2586240"/>
              <a:ext cx="63360" cy="31680"/>
            </a:xfrm>
            <a:custGeom>
              <a:avLst/>
              <a:gdLst/>
              <a:ahLst/>
              <a:rect l="l" t="t" r="r" b="b"/>
              <a:pathLst>
                <a:path w="199" h="100">
                  <a:moveTo>
                    <a:pt x="30" y="48"/>
                  </a:moveTo>
                  <a:lnTo>
                    <a:pt x="43" y="44"/>
                  </a:lnTo>
                  <a:lnTo>
                    <a:pt x="56" y="39"/>
                  </a:lnTo>
                  <a:lnTo>
                    <a:pt x="71" y="33"/>
                  </a:lnTo>
                  <a:lnTo>
                    <a:pt x="86" y="28"/>
                  </a:lnTo>
                  <a:lnTo>
                    <a:pt x="102" y="23"/>
                  </a:lnTo>
                  <a:lnTo>
                    <a:pt x="117" y="18"/>
                  </a:lnTo>
                  <a:lnTo>
                    <a:pt x="131" y="13"/>
                  </a:lnTo>
                  <a:lnTo>
                    <a:pt x="144" y="9"/>
                  </a:lnTo>
                  <a:lnTo>
                    <a:pt x="150" y="9"/>
                  </a:lnTo>
                  <a:lnTo>
                    <a:pt x="156" y="8"/>
                  </a:lnTo>
                  <a:lnTo>
                    <a:pt x="160" y="7"/>
                  </a:lnTo>
                  <a:lnTo>
                    <a:pt x="165" y="6"/>
                  </a:lnTo>
                  <a:lnTo>
                    <a:pt x="168" y="4"/>
                  </a:lnTo>
                  <a:lnTo>
                    <a:pt x="172" y="3"/>
                  </a:lnTo>
                  <a:lnTo>
                    <a:pt x="174" y="1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88" y="0"/>
                  </a:lnTo>
                  <a:lnTo>
                    <a:pt x="193" y="1"/>
                  </a:lnTo>
                  <a:lnTo>
                    <a:pt x="195" y="1"/>
                  </a:lnTo>
                  <a:lnTo>
                    <a:pt x="196" y="2"/>
                  </a:lnTo>
                  <a:lnTo>
                    <a:pt x="198" y="4"/>
                  </a:lnTo>
                  <a:lnTo>
                    <a:pt x="199" y="6"/>
                  </a:lnTo>
                  <a:lnTo>
                    <a:pt x="198" y="8"/>
                  </a:lnTo>
                  <a:lnTo>
                    <a:pt x="196" y="11"/>
                  </a:lnTo>
                  <a:lnTo>
                    <a:pt x="194" y="14"/>
                  </a:lnTo>
                  <a:lnTo>
                    <a:pt x="190" y="18"/>
                  </a:lnTo>
                  <a:lnTo>
                    <a:pt x="181" y="27"/>
                  </a:lnTo>
                  <a:lnTo>
                    <a:pt x="167" y="36"/>
                  </a:lnTo>
                  <a:lnTo>
                    <a:pt x="151" y="48"/>
                  </a:lnTo>
                  <a:lnTo>
                    <a:pt x="133" y="60"/>
                  </a:lnTo>
                  <a:lnTo>
                    <a:pt x="112" y="71"/>
                  </a:lnTo>
                  <a:lnTo>
                    <a:pt x="91" y="82"/>
                  </a:lnTo>
                  <a:lnTo>
                    <a:pt x="69" y="91"/>
                  </a:lnTo>
                  <a:lnTo>
                    <a:pt x="49" y="97"/>
                  </a:lnTo>
                  <a:lnTo>
                    <a:pt x="32" y="99"/>
                  </a:lnTo>
                  <a:lnTo>
                    <a:pt x="19" y="100"/>
                  </a:lnTo>
                  <a:lnTo>
                    <a:pt x="11" y="98"/>
                  </a:lnTo>
                  <a:lnTo>
                    <a:pt x="6" y="95"/>
                  </a:lnTo>
                  <a:lnTo>
                    <a:pt x="2" y="91"/>
                  </a:lnTo>
                  <a:lnTo>
                    <a:pt x="1" y="86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1" y="70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8" y="60"/>
                  </a:lnTo>
                  <a:lnTo>
                    <a:pt x="14" y="55"/>
                  </a:lnTo>
                  <a:lnTo>
                    <a:pt x="19" y="52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775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6810480" y="2587680"/>
              <a:ext cx="48960" cy="25560"/>
            </a:xfrm>
            <a:custGeom>
              <a:avLst/>
              <a:gdLst/>
              <a:ahLst/>
              <a:rect l="l" t="t" r="r" b="b"/>
              <a:pathLst>
                <a:path w="157" h="76">
                  <a:moveTo>
                    <a:pt x="34" y="33"/>
                  </a:moveTo>
                  <a:lnTo>
                    <a:pt x="44" y="31"/>
                  </a:lnTo>
                  <a:lnTo>
                    <a:pt x="54" y="27"/>
                  </a:lnTo>
                  <a:lnTo>
                    <a:pt x="65" y="25"/>
                  </a:lnTo>
                  <a:lnTo>
                    <a:pt x="76" y="21"/>
                  </a:lnTo>
                  <a:lnTo>
                    <a:pt x="87" y="16"/>
                  </a:lnTo>
                  <a:lnTo>
                    <a:pt x="98" y="12"/>
                  </a:lnTo>
                  <a:lnTo>
                    <a:pt x="109" y="9"/>
                  </a:lnTo>
                  <a:lnTo>
                    <a:pt x="119" y="6"/>
                  </a:lnTo>
                  <a:lnTo>
                    <a:pt x="122" y="5"/>
                  </a:lnTo>
                  <a:lnTo>
                    <a:pt x="125" y="4"/>
                  </a:lnTo>
                  <a:lnTo>
                    <a:pt x="128" y="2"/>
                  </a:lnTo>
                  <a:lnTo>
                    <a:pt x="132" y="2"/>
                  </a:lnTo>
                  <a:lnTo>
                    <a:pt x="134" y="1"/>
                  </a:lnTo>
                  <a:lnTo>
                    <a:pt x="138" y="1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4" y="1"/>
                  </a:lnTo>
                  <a:lnTo>
                    <a:pt x="156" y="1"/>
                  </a:lnTo>
                  <a:lnTo>
                    <a:pt x="157" y="4"/>
                  </a:lnTo>
                  <a:lnTo>
                    <a:pt x="156" y="7"/>
                  </a:lnTo>
                  <a:lnTo>
                    <a:pt x="151" y="11"/>
                  </a:lnTo>
                  <a:lnTo>
                    <a:pt x="144" y="18"/>
                  </a:lnTo>
                  <a:lnTo>
                    <a:pt x="133" y="27"/>
                  </a:lnTo>
                  <a:lnTo>
                    <a:pt x="119" y="36"/>
                  </a:lnTo>
                  <a:lnTo>
                    <a:pt x="102" y="45"/>
                  </a:lnTo>
                  <a:lnTo>
                    <a:pt x="85" y="54"/>
                  </a:lnTo>
                  <a:lnTo>
                    <a:pt x="68" y="63"/>
                  </a:lnTo>
                  <a:lnTo>
                    <a:pt x="50" y="69"/>
                  </a:lnTo>
                  <a:lnTo>
                    <a:pt x="34" y="74"/>
                  </a:lnTo>
                  <a:lnTo>
                    <a:pt x="22" y="76"/>
                  </a:lnTo>
                  <a:lnTo>
                    <a:pt x="13" y="76"/>
                  </a:lnTo>
                  <a:lnTo>
                    <a:pt x="7" y="75"/>
                  </a:lnTo>
                  <a:lnTo>
                    <a:pt x="4" y="72"/>
                  </a:lnTo>
                  <a:lnTo>
                    <a:pt x="2" y="69"/>
                  </a:lnTo>
                  <a:lnTo>
                    <a:pt x="1" y="65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52"/>
                  </a:lnTo>
                  <a:lnTo>
                    <a:pt x="4" y="49"/>
                  </a:lnTo>
                  <a:lnTo>
                    <a:pt x="10" y="44"/>
                  </a:lnTo>
                  <a:lnTo>
                    <a:pt x="16" y="41"/>
                  </a:lnTo>
                  <a:lnTo>
                    <a:pt x="23" y="38"/>
                  </a:lnTo>
                  <a:lnTo>
                    <a:pt x="29" y="36"/>
                  </a:lnTo>
                  <a:lnTo>
                    <a:pt x="33" y="33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805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6815160" y="2589480"/>
              <a:ext cx="36360" cy="17280"/>
            </a:xfrm>
            <a:custGeom>
              <a:avLst/>
              <a:gdLst/>
              <a:ahLst/>
              <a:rect l="l" t="t" r="r" b="b"/>
              <a:pathLst>
                <a:path w="118" h="54">
                  <a:moveTo>
                    <a:pt x="108" y="1"/>
                  </a:moveTo>
                  <a:lnTo>
                    <a:pt x="107" y="1"/>
                  </a:lnTo>
                  <a:lnTo>
                    <a:pt x="104" y="1"/>
                  </a:lnTo>
                  <a:lnTo>
                    <a:pt x="102" y="1"/>
                  </a:lnTo>
                  <a:lnTo>
                    <a:pt x="101" y="2"/>
                  </a:lnTo>
                  <a:lnTo>
                    <a:pt x="98" y="2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2" y="4"/>
                  </a:lnTo>
                  <a:lnTo>
                    <a:pt x="86" y="6"/>
                  </a:lnTo>
                  <a:lnTo>
                    <a:pt x="80" y="8"/>
                  </a:lnTo>
                  <a:lnTo>
                    <a:pt x="72" y="11"/>
                  </a:lnTo>
                  <a:lnTo>
                    <a:pt x="65" y="13"/>
                  </a:lnTo>
                  <a:lnTo>
                    <a:pt x="58" y="16"/>
                  </a:lnTo>
                  <a:lnTo>
                    <a:pt x="50" y="18"/>
                  </a:lnTo>
                  <a:lnTo>
                    <a:pt x="43" y="21"/>
                  </a:lnTo>
                  <a:lnTo>
                    <a:pt x="38" y="22"/>
                  </a:lnTo>
                  <a:lnTo>
                    <a:pt x="36" y="23"/>
                  </a:lnTo>
                  <a:lnTo>
                    <a:pt x="32" y="24"/>
                  </a:lnTo>
                  <a:lnTo>
                    <a:pt x="26" y="26"/>
                  </a:lnTo>
                  <a:lnTo>
                    <a:pt x="18" y="29"/>
                  </a:lnTo>
                  <a:lnTo>
                    <a:pt x="12" y="32"/>
                  </a:lnTo>
                  <a:lnTo>
                    <a:pt x="6" y="36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2" y="50"/>
                  </a:lnTo>
                  <a:lnTo>
                    <a:pt x="4" y="51"/>
                  </a:lnTo>
                  <a:lnTo>
                    <a:pt x="6" y="54"/>
                  </a:lnTo>
                  <a:lnTo>
                    <a:pt x="11" y="54"/>
                  </a:lnTo>
                  <a:lnTo>
                    <a:pt x="16" y="54"/>
                  </a:lnTo>
                  <a:lnTo>
                    <a:pt x="24" y="53"/>
                  </a:lnTo>
                  <a:lnTo>
                    <a:pt x="34" y="49"/>
                  </a:lnTo>
                  <a:lnTo>
                    <a:pt x="48" y="44"/>
                  </a:lnTo>
                  <a:lnTo>
                    <a:pt x="61" y="38"/>
                  </a:lnTo>
                  <a:lnTo>
                    <a:pt x="75" y="32"/>
                  </a:lnTo>
                  <a:lnTo>
                    <a:pt x="88" y="24"/>
                  </a:lnTo>
                  <a:lnTo>
                    <a:pt x="100" y="18"/>
                  </a:lnTo>
                  <a:lnTo>
                    <a:pt x="108" y="13"/>
                  </a:lnTo>
                  <a:lnTo>
                    <a:pt x="114" y="8"/>
                  </a:lnTo>
                  <a:lnTo>
                    <a:pt x="117" y="5"/>
                  </a:lnTo>
                  <a:lnTo>
                    <a:pt x="118" y="4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3" y="0"/>
                  </a:lnTo>
                  <a:lnTo>
                    <a:pt x="111" y="0"/>
                  </a:lnTo>
                  <a:lnTo>
                    <a:pt x="109" y="1"/>
                  </a:lnTo>
                  <a:lnTo>
                    <a:pt x="108" y="1"/>
                  </a:lnTo>
                  <a:close/>
                </a:path>
              </a:pathLst>
            </a:custGeom>
            <a:solidFill>
              <a:srgbClr val="8a5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6683400" y="2590920"/>
              <a:ext cx="103320" cy="34920"/>
            </a:xfrm>
            <a:custGeom>
              <a:avLst/>
              <a:gdLst/>
              <a:ahLst/>
              <a:rect l="l" t="t" r="r" b="b"/>
              <a:pathLst>
                <a:path w="322" h="110">
                  <a:moveTo>
                    <a:pt x="21" y="32"/>
                  </a:moveTo>
                  <a:lnTo>
                    <a:pt x="10" y="25"/>
                  </a:lnTo>
                  <a:lnTo>
                    <a:pt x="2" y="19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3"/>
                  </a:lnTo>
                  <a:lnTo>
                    <a:pt x="13" y="1"/>
                  </a:lnTo>
                  <a:lnTo>
                    <a:pt x="24" y="0"/>
                  </a:lnTo>
                  <a:lnTo>
                    <a:pt x="39" y="0"/>
                  </a:lnTo>
                  <a:lnTo>
                    <a:pt x="60" y="1"/>
                  </a:lnTo>
                  <a:lnTo>
                    <a:pt x="85" y="4"/>
                  </a:lnTo>
                  <a:lnTo>
                    <a:pt x="112" y="7"/>
                  </a:lnTo>
                  <a:lnTo>
                    <a:pt x="140" y="11"/>
                  </a:lnTo>
                  <a:lnTo>
                    <a:pt x="167" y="16"/>
                  </a:lnTo>
                  <a:lnTo>
                    <a:pt x="193" y="21"/>
                  </a:lnTo>
                  <a:lnTo>
                    <a:pt x="215" y="26"/>
                  </a:lnTo>
                  <a:lnTo>
                    <a:pt x="232" y="32"/>
                  </a:lnTo>
                  <a:lnTo>
                    <a:pt x="241" y="36"/>
                  </a:lnTo>
                  <a:lnTo>
                    <a:pt x="249" y="38"/>
                  </a:lnTo>
                  <a:lnTo>
                    <a:pt x="257" y="41"/>
                  </a:lnTo>
                  <a:lnTo>
                    <a:pt x="265" y="42"/>
                  </a:lnTo>
                  <a:lnTo>
                    <a:pt x="273" y="44"/>
                  </a:lnTo>
                  <a:lnTo>
                    <a:pt x="280" y="46"/>
                  </a:lnTo>
                  <a:lnTo>
                    <a:pt x="286" y="47"/>
                  </a:lnTo>
                  <a:lnTo>
                    <a:pt x="293" y="48"/>
                  </a:lnTo>
                  <a:lnTo>
                    <a:pt x="294" y="49"/>
                  </a:lnTo>
                  <a:lnTo>
                    <a:pt x="297" y="52"/>
                  </a:lnTo>
                  <a:lnTo>
                    <a:pt x="301" y="57"/>
                  </a:lnTo>
                  <a:lnTo>
                    <a:pt x="307" y="63"/>
                  </a:lnTo>
                  <a:lnTo>
                    <a:pt x="312" y="69"/>
                  </a:lnTo>
                  <a:lnTo>
                    <a:pt x="317" y="78"/>
                  </a:lnTo>
                  <a:lnTo>
                    <a:pt x="321" y="86"/>
                  </a:lnTo>
                  <a:lnTo>
                    <a:pt x="322" y="95"/>
                  </a:lnTo>
                  <a:lnTo>
                    <a:pt x="321" y="98"/>
                  </a:lnTo>
                  <a:lnTo>
                    <a:pt x="320" y="102"/>
                  </a:lnTo>
                  <a:lnTo>
                    <a:pt x="316" y="105"/>
                  </a:lnTo>
                  <a:lnTo>
                    <a:pt x="311" y="107"/>
                  </a:lnTo>
                  <a:lnTo>
                    <a:pt x="305" y="108"/>
                  </a:lnTo>
                  <a:lnTo>
                    <a:pt x="297" y="108"/>
                  </a:lnTo>
                  <a:lnTo>
                    <a:pt x="289" y="110"/>
                  </a:lnTo>
                  <a:lnTo>
                    <a:pt x="280" y="108"/>
                  </a:lnTo>
                  <a:lnTo>
                    <a:pt x="259" y="107"/>
                  </a:lnTo>
                  <a:lnTo>
                    <a:pt x="237" y="102"/>
                  </a:lnTo>
                  <a:lnTo>
                    <a:pt x="214" y="97"/>
                  </a:lnTo>
                  <a:lnTo>
                    <a:pt x="189" y="92"/>
                  </a:lnTo>
                  <a:lnTo>
                    <a:pt x="165" y="85"/>
                  </a:lnTo>
                  <a:lnTo>
                    <a:pt x="140" y="78"/>
                  </a:lnTo>
                  <a:lnTo>
                    <a:pt x="117" y="70"/>
                  </a:lnTo>
                  <a:lnTo>
                    <a:pt x="93" y="62"/>
                  </a:lnTo>
                  <a:lnTo>
                    <a:pt x="72" y="54"/>
                  </a:lnTo>
                  <a:lnTo>
                    <a:pt x="53" y="46"/>
                  </a:lnTo>
                  <a:lnTo>
                    <a:pt x="35" y="39"/>
                  </a:lnTo>
                  <a:lnTo>
                    <a:pt x="21" y="32"/>
                  </a:lnTo>
                  <a:close/>
                </a:path>
              </a:pathLst>
            </a:custGeom>
            <a:solidFill>
              <a:srgbClr val="6e4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6696000" y="2592360"/>
              <a:ext cx="82800" cy="27000"/>
            </a:xfrm>
            <a:custGeom>
              <a:avLst/>
              <a:gdLst/>
              <a:ahLst/>
              <a:rect l="l" t="t" r="r" b="b"/>
              <a:pathLst>
                <a:path w="263" h="87">
                  <a:moveTo>
                    <a:pt x="16" y="25"/>
                  </a:moveTo>
                  <a:lnTo>
                    <a:pt x="7" y="20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9" y="1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46" y="1"/>
                  </a:lnTo>
                  <a:lnTo>
                    <a:pt x="66" y="4"/>
                  </a:lnTo>
                  <a:lnTo>
                    <a:pt x="88" y="6"/>
                  </a:lnTo>
                  <a:lnTo>
                    <a:pt x="110" y="10"/>
                  </a:lnTo>
                  <a:lnTo>
                    <a:pt x="131" y="12"/>
                  </a:lnTo>
                  <a:lnTo>
                    <a:pt x="151" y="16"/>
                  </a:lnTo>
                  <a:lnTo>
                    <a:pt x="168" y="21"/>
                  </a:lnTo>
                  <a:lnTo>
                    <a:pt x="182" y="25"/>
                  </a:lnTo>
                  <a:lnTo>
                    <a:pt x="189" y="27"/>
                  </a:lnTo>
                  <a:lnTo>
                    <a:pt x="198" y="31"/>
                  </a:lnTo>
                  <a:lnTo>
                    <a:pt x="205" y="32"/>
                  </a:lnTo>
                  <a:lnTo>
                    <a:pt x="214" y="34"/>
                  </a:lnTo>
                  <a:lnTo>
                    <a:pt x="221" y="37"/>
                  </a:lnTo>
                  <a:lnTo>
                    <a:pt x="228" y="38"/>
                  </a:lnTo>
                  <a:lnTo>
                    <a:pt x="235" y="39"/>
                  </a:lnTo>
                  <a:lnTo>
                    <a:pt x="238" y="41"/>
                  </a:lnTo>
                  <a:lnTo>
                    <a:pt x="240" y="42"/>
                  </a:lnTo>
                  <a:lnTo>
                    <a:pt x="243" y="44"/>
                  </a:lnTo>
                  <a:lnTo>
                    <a:pt x="247" y="47"/>
                  </a:lnTo>
                  <a:lnTo>
                    <a:pt x="251" y="52"/>
                  </a:lnTo>
                  <a:lnTo>
                    <a:pt x="256" y="57"/>
                  </a:lnTo>
                  <a:lnTo>
                    <a:pt x="259" y="63"/>
                  </a:lnTo>
                  <a:lnTo>
                    <a:pt x="263" y="69"/>
                  </a:lnTo>
                  <a:lnTo>
                    <a:pt x="263" y="76"/>
                  </a:lnTo>
                  <a:lnTo>
                    <a:pt x="263" y="80"/>
                  </a:lnTo>
                  <a:lnTo>
                    <a:pt x="260" y="82"/>
                  </a:lnTo>
                  <a:lnTo>
                    <a:pt x="257" y="84"/>
                  </a:lnTo>
                  <a:lnTo>
                    <a:pt x="253" y="86"/>
                  </a:lnTo>
                  <a:lnTo>
                    <a:pt x="241" y="87"/>
                  </a:lnTo>
                  <a:lnTo>
                    <a:pt x="226" y="87"/>
                  </a:lnTo>
                  <a:lnTo>
                    <a:pt x="208" y="85"/>
                  </a:lnTo>
                  <a:lnTo>
                    <a:pt x="189" y="82"/>
                  </a:lnTo>
                  <a:lnTo>
                    <a:pt x="169" y="79"/>
                  </a:lnTo>
                  <a:lnTo>
                    <a:pt x="150" y="74"/>
                  </a:lnTo>
                  <a:lnTo>
                    <a:pt x="130" y="68"/>
                  </a:lnTo>
                  <a:lnTo>
                    <a:pt x="110" y="61"/>
                  </a:lnTo>
                  <a:lnTo>
                    <a:pt x="92" y="55"/>
                  </a:lnTo>
                  <a:lnTo>
                    <a:pt x="73" y="49"/>
                  </a:lnTo>
                  <a:lnTo>
                    <a:pt x="56" y="42"/>
                  </a:lnTo>
                  <a:lnTo>
                    <a:pt x="41" y="36"/>
                  </a:lnTo>
                  <a:lnTo>
                    <a:pt x="28" y="30"/>
                  </a:lnTo>
                  <a:lnTo>
                    <a:pt x="16" y="25"/>
                  </a:lnTo>
                  <a:close/>
                </a:path>
              </a:pathLst>
            </a:custGeom>
            <a:solidFill>
              <a:srgbClr val="745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6707160" y="2594160"/>
              <a:ext cx="63360" cy="20520"/>
            </a:xfrm>
            <a:custGeom>
              <a:avLst/>
              <a:gdLst/>
              <a:ahLst/>
              <a:rect l="l" t="t" r="r" b="b"/>
              <a:pathLst>
                <a:path w="204" h="68">
                  <a:moveTo>
                    <a:pt x="12" y="20"/>
                  </a:moveTo>
                  <a:lnTo>
                    <a:pt x="6" y="16"/>
                  </a:lnTo>
                  <a:lnTo>
                    <a:pt x="3" y="12"/>
                  </a:lnTo>
                  <a:lnTo>
                    <a:pt x="0" y="9"/>
                  </a:lnTo>
                  <a:lnTo>
                    <a:pt x="1" y="6"/>
                  </a:lnTo>
                  <a:lnTo>
                    <a:pt x="4" y="4"/>
                  </a:lnTo>
                  <a:lnTo>
                    <a:pt x="9" y="2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6" y="2"/>
                  </a:lnTo>
                  <a:lnTo>
                    <a:pt x="51" y="4"/>
                  </a:lnTo>
                  <a:lnTo>
                    <a:pt x="67" y="6"/>
                  </a:lnTo>
                  <a:lnTo>
                    <a:pt x="83" y="9"/>
                  </a:lnTo>
                  <a:lnTo>
                    <a:pt x="100" y="11"/>
                  </a:lnTo>
                  <a:lnTo>
                    <a:pt x="115" y="13"/>
                  </a:lnTo>
                  <a:lnTo>
                    <a:pt x="127" y="16"/>
                  </a:lnTo>
                  <a:lnTo>
                    <a:pt x="137" y="20"/>
                  </a:lnTo>
                  <a:lnTo>
                    <a:pt x="142" y="22"/>
                  </a:lnTo>
                  <a:lnTo>
                    <a:pt x="149" y="23"/>
                  </a:lnTo>
                  <a:lnTo>
                    <a:pt x="156" y="26"/>
                  </a:lnTo>
                  <a:lnTo>
                    <a:pt x="164" y="27"/>
                  </a:lnTo>
                  <a:lnTo>
                    <a:pt x="171" y="29"/>
                  </a:lnTo>
                  <a:lnTo>
                    <a:pt x="177" y="31"/>
                  </a:lnTo>
                  <a:lnTo>
                    <a:pt x="182" y="32"/>
                  </a:lnTo>
                  <a:lnTo>
                    <a:pt x="186" y="33"/>
                  </a:lnTo>
                  <a:lnTo>
                    <a:pt x="187" y="33"/>
                  </a:lnTo>
                  <a:lnTo>
                    <a:pt x="188" y="36"/>
                  </a:lnTo>
                  <a:lnTo>
                    <a:pt x="192" y="37"/>
                  </a:lnTo>
                  <a:lnTo>
                    <a:pt x="196" y="40"/>
                  </a:lnTo>
                  <a:lnTo>
                    <a:pt x="199" y="44"/>
                  </a:lnTo>
                  <a:lnTo>
                    <a:pt x="202" y="49"/>
                  </a:lnTo>
                  <a:lnTo>
                    <a:pt x="204" y="54"/>
                  </a:lnTo>
                  <a:lnTo>
                    <a:pt x="204" y="60"/>
                  </a:lnTo>
                  <a:lnTo>
                    <a:pt x="204" y="63"/>
                  </a:lnTo>
                  <a:lnTo>
                    <a:pt x="202" y="64"/>
                  </a:lnTo>
                  <a:lnTo>
                    <a:pt x="199" y="66"/>
                  </a:lnTo>
                  <a:lnTo>
                    <a:pt x="196" y="66"/>
                  </a:lnTo>
                  <a:lnTo>
                    <a:pt x="185" y="68"/>
                  </a:lnTo>
                  <a:lnTo>
                    <a:pt x="171" y="66"/>
                  </a:lnTo>
                  <a:lnTo>
                    <a:pt x="156" y="65"/>
                  </a:lnTo>
                  <a:lnTo>
                    <a:pt x="140" y="63"/>
                  </a:lnTo>
                  <a:lnTo>
                    <a:pt x="124" y="59"/>
                  </a:lnTo>
                  <a:lnTo>
                    <a:pt x="110" y="55"/>
                  </a:lnTo>
                  <a:lnTo>
                    <a:pt x="96" y="50"/>
                  </a:lnTo>
                  <a:lnTo>
                    <a:pt x="81" y="47"/>
                  </a:lnTo>
                  <a:lnTo>
                    <a:pt x="68" y="42"/>
                  </a:lnTo>
                  <a:lnTo>
                    <a:pt x="54" y="37"/>
                  </a:lnTo>
                  <a:lnTo>
                    <a:pt x="42" y="33"/>
                  </a:lnTo>
                  <a:lnTo>
                    <a:pt x="31" y="28"/>
                  </a:lnTo>
                  <a:lnTo>
                    <a:pt x="21" y="23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7b5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6718320" y="2595600"/>
              <a:ext cx="46080" cy="14400"/>
            </a:xfrm>
            <a:custGeom>
              <a:avLst/>
              <a:gdLst/>
              <a:ahLst/>
              <a:rect l="l" t="t" r="r" b="b"/>
              <a:pathLst>
                <a:path w="144" h="46">
                  <a:moveTo>
                    <a:pt x="16" y="0"/>
                  </a:moveTo>
                  <a:lnTo>
                    <a:pt x="23" y="1"/>
                  </a:lnTo>
                  <a:lnTo>
                    <a:pt x="32" y="3"/>
                  </a:lnTo>
                  <a:lnTo>
                    <a:pt x="42" y="4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1" y="10"/>
                  </a:lnTo>
                  <a:lnTo>
                    <a:pt x="80" y="11"/>
                  </a:lnTo>
                  <a:lnTo>
                    <a:pt x="86" y="14"/>
                  </a:lnTo>
                  <a:lnTo>
                    <a:pt x="91" y="15"/>
                  </a:lnTo>
                  <a:lnTo>
                    <a:pt x="96" y="16"/>
                  </a:lnTo>
                  <a:lnTo>
                    <a:pt x="103" y="19"/>
                  </a:lnTo>
                  <a:lnTo>
                    <a:pt x="111" y="20"/>
                  </a:lnTo>
                  <a:lnTo>
                    <a:pt x="118" y="22"/>
                  </a:lnTo>
                  <a:lnTo>
                    <a:pt x="124" y="23"/>
                  </a:lnTo>
                  <a:lnTo>
                    <a:pt x="129" y="23"/>
                  </a:lnTo>
                  <a:lnTo>
                    <a:pt x="133" y="25"/>
                  </a:lnTo>
                  <a:lnTo>
                    <a:pt x="133" y="25"/>
                  </a:lnTo>
                  <a:lnTo>
                    <a:pt x="134" y="26"/>
                  </a:lnTo>
                  <a:lnTo>
                    <a:pt x="137" y="27"/>
                  </a:lnTo>
                  <a:lnTo>
                    <a:pt x="138" y="30"/>
                  </a:lnTo>
                  <a:lnTo>
                    <a:pt x="140" y="32"/>
                  </a:lnTo>
                  <a:lnTo>
                    <a:pt x="141" y="34"/>
                  </a:lnTo>
                  <a:lnTo>
                    <a:pt x="143" y="38"/>
                  </a:lnTo>
                  <a:lnTo>
                    <a:pt x="144" y="41"/>
                  </a:lnTo>
                  <a:lnTo>
                    <a:pt x="143" y="42"/>
                  </a:lnTo>
                  <a:lnTo>
                    <a:pt x="141" y="44"/>
                  </a:lnTo>
                  <a:lnTo>
                    <a:pt x="139" y="44"/>
                  </a:lnTo>
                  <a:lnTo>
                    <a:pt x="135" y="46"/>
                  </a:lnTo>
                  <a:lnTo>
                    <a:pt x="127" y="46"/>
                  </a:lnTo>
                  <a:lnTo>
                    <a:pt x="116" y="44"/>
                  </a:lnTo>
                  <a:lnTo>
                    <a:pt x="105" y="42"/>
                  </a:lnTo>
                  <a:lnTo>
                    <a:pt x="92" y="39"/>
                  </a:lnTo>
                  <a:lnTo>
                    <a:pt x="80" y="37"/>
                  </a:lnTo>
                  <a:lnTo>
                    <a:pt x="70" y="36"/>
                  </a:lnTo>
                  <a:lnTo>
                    <a:pt x="62" y="33"/>
                  </a:lnTo>
                  <a:lnTo>
                    <a:pt x="52" y="31"/>
                  </a:lnTo>
                  <a:lnTo>
                    <a:pt x="43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9"/>
                  </a:lnTo>
                  <a:lnTo>
                    <a:pt x="14" y="16"/>
                  </a:lnTo>
                  <a:lnTo>
                    <a:pt x="7" y="14"/>
                  </a:lnTo>
                  <a:lnTo>
                    <a:pt x="4" y="11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25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6532560" y="1835280"/>
              <a:ext cx="428760" cy="258840"/>
            </a:xfrm>
            <a:custGeom>
              <a:avLst/>
              <a:gdLst/>
              <a:ahLst/>
              <a:rect l="l" t="t" r="r" b="b"/>
              <a:pathLst>
                <a:path w="1346" h="814">
                  <a:moveTo>
                    <a:pt x="15" y="452"/>
                  </a:moveTo>
                  <a:lnTo>
                    <a:pt x="24" y="414"/>
                  </a:lnTo>
                  <a:lnTo>
                    <a:pt x="37" y="379"/>
                  </a:lnTo>
                  <a:lnTo>
                    <a:pt x="49" y="347"/>
                  </a:lnTo>
                  <a:lnTo>
                    <a:pt x="63" y="319"/>
                  </a:lnTo>
                  <a:lnTo>
                    <a:pt x="77" y="292"/>
                  </a:lnTo>
                  <a:lnTo>
                    <a:pt x="93" y="267"/>
                  </a:lnTo>
                  <a:lnTo>
                    <a:pt x="109" y="246"/>
                  </a:lnTo>
                  <a:lnTo>
                    <a:pt x="127" y="226"/>
                  </a:lnTo>
                  <a:lnTo>
                    <a:pt x="143" y="208"/>
                  </a:lnTo>
                  <a:lnTo>
                    <a:pt x="160" y="191"/>
                  </a:lnTo>
                  <a:lnTo>
                    <a:pt x="176" y="176"/>
                  </a:lnTo>
                  <a:lnTo>
                    <a:pt x="192" y="163"/>
                  </a:lnTo>
                  <a:lnTo>
                    <a:pt x="223" y="141"/>
                  </a:lnTo>
                  <a:lnTo>
                    <a:pt x="248" y="120"/>
                  </a:lnTo>
                  <a:lnTo>
                    <a:pt x="274" y="109"/>
                  </a:lnTo>
                  <a:lnTo>
                    <a:pt x="344" y="80"/>
                  </a:lnTo>
                  <a:lnTo>
                    <a:pt x="394" y="63"/>
                  </a:lnTo>
                  <a:lnTo>
                    <a:pt x="450" y="46"/>
                  </a:lnTo>
                  <a:lnTo>
                    <a:pt x="481" y="39"/>
                  </a:lnTo>
                  <a:lnTo>
                    <a:pt x="513" y="30"/>
                  </a:lnTo>
                  <a:lnTo>
                    <a:pt x="547" y="23"/>
                  </a:lnTo>
                  <a:lnTo>
                    <a:pt x="582" y="16"/>
                  </a:lnTo>
                  <a:lnTo>
                    <a:pt x="617" y="10"/>
                  </a:lnTo>
                  <a:lnTo>
                    <a:pt x="654" y="5"/>
                  </a:lnTo>
                  <a:lnTo>
                    <a:pt x="692" y="3"/>
                  </a:lnTo>
                  <a:lnTo>
                    <a:pt x="731" y="0"/>
                  </a:lnTo>
                  <a:lnTo>
                    <a:pt x="769" y="0"/>
                  </a:lnTo>
                  <a:lnTo>
                    <a:pt x="808" y="0"/>
                  </a:lnTo>
                  <a:lnTo>
                    <a:pt x="846" y="4"/>
                  </a:lnTo>
                  <a:lnTo>
                    <a:pt x="886" y="9"/>
                  </a:lnTo>
                  <a:lnTo>
                    <a:pt x="925" y="16"/>
                  </a:lnTo>
                  <a:lnTo>
                    <a:pt x="963" y="26"/>
                  </a:lnTo>
                  <a:lnTo>
                    <a:pt x="1001" y="39"/>
                  </a:lnTo>
                  <a:lnTo>
                    <a:pt x="1038" y="53"/>
                  </a:lnTo>
                  <a:lnTo>
                    <a:pt x="1075" y="71"/>
                  </a:lnTo>
                  <a:lnTo>
                    <a:pt x="1112" y="91"/>
                  </a:lnTo>
                  <a:lnTo>
                    <a:pt x="1146" y="115"/>
                  </a:lnTo>
                  <a:lnTo>
                    <a:pt x="1180" y="142"/>
                  </a:lnTo>
                  <a:lnTo>
                    <a:pt x="1187" y="151"/>
                  </a:lnTo>
                  <a:lnTo>
                    <a:pt x="1206" y="174"/>
                  </a:lnTo>
                  <a:lnTo>
                    <a:pt x="1219" y="190"/>
                  </a:lnTo>
                  <a:lnTo>
                    <a:pt x="1233" y="210"/>
                  </a:lnTo>
                  <a:lnTo>
                    <a:pt x="1247" y="232"/>
                  </a:lnTo>
                  <a:lnTo>
                    <a:pt x="1263" y="255"/>
                  </a:lnTo>
                  <a:lnTo>
                    <a:pt x="1278" y="281"/>
                  </a:lnTo>
                  <a:lnTo>
                    <a:pt x="1293" y="309"/>
                  </a:lnTo>
                  <a:lnTo>
                    <a:pt x="1308" y="337"/>
                  </a:lnTo>
                  <a:lnTo>
                    <a:pt x="1320" y="367"/>
                  </a:lnTo>
                  <a:lnTo>
                    <a:pt x="1331" y="397"/>
                  </a:lnTo>
                  <a:lnTo>
                    <a:pt x="1338" y="427"/>
                  </a:lnTo>
                  <a:lnTo>
                    <a:pt x="1342" y="442"/>
                  </a:lnTo>
                  <a:lnTo>
                    <a:pt x="1345" y="457"/>
                  </a:lnTo>
                  <a:lnTo>
                    <a:pt x="1346" y="473"/>
                  </a:lnTo>
                  <a:lnTo>
                    <a:pt x="1346" y="488"/>
                  </a:lnTo>
                  <a:lnTo>
                    <a:pt x="1346" y="549"/>
                  </a:lnTo>
                  <a:lnTo>
                    <a:pt x="1345" y="611"/>
                  </a:lnTo>
                  <a:lnTo>
                    <a:pt x="1342" y="640"/>
                  </a:lnTo>
                  <a:lnTo>
                    <a:pt x="1338" y="670"/>
                  </a:lnTo>
                  <a:lnTo>
                    <a:pt x="1335" y="697"/>
                  </a:lnTo>
                  <a:lnTo>
                    <a:pt x="1329" y="722"/>
                  </a:lnTo>
                  <a:lnTo>
                    <a:pt x="1325" y="735"/>
                  </a:lnTo>
                  <a:lnTo>
                    <a:pt x="1321" y="746"/>
                  </a:lnTo>
                  <a:lnTo>
                    <a:pt x="1316" y="757"/>
                  </a:lnTo>
                  <a:lnTo>
                    <a:pt x="1311" y="767"/>
                  </a:lnTo>
                  <a:lnTo>
                    <a:pt x="1305" y="775"/>
                  </a:lnTo>
                  <a:lnTo>
                    <a:pt x="1299" y="784"/>
                  </a:lnTo>
                  <a:lnTo>
                    <a:pt x="1293" y="791"/>
                  </a:lnTo>
                  <a:lnTo>
                    <a:pt x="1285" y="798"/>
                  </a:lnTo>
                  <a:lnTo>
                    <a:pt x="1277" y="802"/>
                  </a:lnTo>
                  <a:lnTo>
                    <a:pt x="1268" y="807"/>
                  </a:lnTo>
                  <a:lnTo>
                    <a:pt x="1258" y="810"/>
                  </a:lnTo>
                  <a:lnTo>
                    <a:pt x="1249" y="812"/>
                  </a:lnTo>
                  <a:lnTo>
                    <a:pt x="1237" y="814"/>
                  </a:lnTo>
                  <a:lnTo>
                    <a:pt x="1225" y="812"/>
                  </a:lnTo>
                  <a:lnTo>
                    <a:pt x="1213" y="811"/>
                  </a:lnTo>
                  <a:lnTo>
                    <a:pt x="1199" y="807"/>
                  </a:lnTo>
                  <a:lnTo>
                    <a:pt x="1167" y="799"/>
                  </a:lnTo>
                  <a:lnTo>
                    <a:pt x="1129" y="791"/>
                  </a:lnTo>
                  <a:lnTo>
                    <a:pt x="1084" y="783"/>
                  </a:lnTo>
                  <a:lnTo>
                    <a:pt x="1032" y="774"/>
                  </a:lnTo>
                  <a:lnTo>
                    <a:pt x="977" y="767"/>
                  </a:lnTo>
                  <a:lnTo>
                    <a:pt x="916" y="761"/>
                  </a:lnTo>
                  <a:lnTo>
                    <a:pt x="854" y="754"/>
                  </a:lnTo>
                  <a:lnTo>
                    <a:pt x="788" y="750"/>
                  </a:lnTo>
                  <a:lnTo>
                    <a:pt x="723" y="746"/>
                  </a:lnTo>
                  <a:lnTo>
                    <a:pt x="656" y="745"/>
                  </a:lnTo>
                  <a:lnTo>
                    <a:pt x="590" y="745"/>
                  </a:lnTo>
                  <a:lnTo>
                    <a:pt x="525" y="747"/>
                  </a:lnTo>
                  <a:lnTo>
                    <a:pt x="493" y="750"/>
                  </a:lnTo>
                  <a:lnTo>
                    <a:pt x="462" y="752"/>
                  </a:lnTo>
                  <a:lnTo>
                    <a:pt x="433" y="756"/>
                  </a:lnTo>
                  <a:lnTo>
                    <a:pt x="403" y="759"/>
                  </a:lnTo>
                  <a:lnTo>
                    <a:pt x="375" y="764"/>
                  </a:lnTo>
                  <a:lnTo>
                    <a:pt x="348" y="770"/>
                  </a:lnTo>
                  <a:lnTo>
                    <a:pt x="322" y="777"/>
                  </a:lnTo>
                  <a:lnTo>
                    <a:pt x="298" y="783"/>
                  </a:lnTo>
                  <a:lnTo>
                    <a:pt x="273" y="789"/>
                  </a:lnTo>
                  <a:lnTo>
                    <a:pt x="251" y="794"/>
                  </a:lnTo>
                  <a:lnTo>
                    <a:pt x="230" y="798"/>
                  </a:lnTo>
                  <a:lnTo>
                    <a:pt x="209" y="799"/>
                  </a:lnTo>
                  <a:lnTo>
                    <a:pt x="189" y="800"/>
                  </a:lnTo>
                  <a:lnTo>
                    <a:pt x="171" y="799"/>
                  </a:lnTo>
                  <a:lnTo>
                    <a:pt x="154" y="796"/>
                  </a:lnTo>
                  <a:lnTo>
                    <a:pt x="138" y="793"/>
                  </a:lnTo>
                  <a:lnTo>
                    <a:pt x="122" y="788"/>
                  </a:lnTo>
                  <a:lnTo>
                    <a:pt x="107" y="783"/>
                  </a:lnTo>
                  <a:lnTo>
                    <a:pt x="93" y="775"/>
                  </a:lnTo>
                  <a:lnTo>
                    <a:pt x="81" y="767"/>
                  </a:lnTo>
                  <a:lnTo>
                    <a:pt x="70" y="758"/>
                  </a:lnTo>
                  <a:lnTo>
                    <a:pt x="59" y="747"/>
                  </a:lnTo>
                  <a:lnTo>
                    <a:pt x="49" y="736"/>
                  </a:lnTo>
                  <a:lnTo>
                    <a:pt x="40" y="725"/>
                  </a:lnTo>
                  <a:lnTo>
                    <a:pt x="33" y="711"/>
                  </a:lnTo>
                  <a:lnTo>
                    <a:pt x="26" y="698"/>
                  </a:lnTo>
                  <a:lnTo>
                    <a:pt x="20" y="683"/>
                  </a:lnTo>
                  <a:lnTo>
                    <a:pt x="15" y="668"/>
                  </a:lnTo>
                  <a:lnTo>
                    <a:pt x="10" y="652"/>
                  </a:lnTo>
                  <a:lnTo>
                    <a:pt x="6" y="636"/>
                  </a:lnTo>
                  <a:lnTo>
                    <a:pt x="4" y="620"/>
                  </a:lnTo>
                  <a:lnTo>
                    <a:pt x="2" y="602"/>
                  </a:lnTo>
                  <a:lnTo>
                    <a:pt x="1" y="585"/>
                  </a:lnTo>
                  <a:lnTo>
                    <a:pt x="0" y="566"/>
                  </a:lnTo>
                  <a:lnTo>
                    <a:pt x="1" y="548"/>
                  </a:lnTo>
                  <a:lnTo>
                    <a:pt x="2" y="529"/>
                  </a:lnTo>
                  <a:lnTo>
                    <a:pt x="4" y="510"/>
                  </a:lnTo>
                  <a:lnTo>
                    <a:pt x="7" y="491"/>
                  </a:lnTo>
                  <a:lnTo>
                    <a:pt x="11" y="472"/>
                  </a:lnTo>
                  <a:lnTo>
                    <a:pt x="15" y="452"/>
                  </a:lnTo>
                  <a:close/>
                </a:path>
              </a:pathLst>
            </a:custGeom>
            <a:solidFill>
              <a:srgbClr val="6a5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6558120" y="1843200"/>
              <a:ext cx="395280" cy="237960"/>
            </a:xfrm>
            <a:custGeom>
              <a:avLst/>
              <a:gdLst/>
              <a:ahLst/>
              <a:rect l="l" t="t" r="r" b="b"/>
              <a:pathLst>
                <a:path w="1247" h="750">
                  <a:moveTo>
                    <a:pt x="14" y="418"/>
                  </a:moveTo>
                  <a:lnTo>
                    <a:pt x="22" y="383"/>
                  </a:lnTo>
                  <a:lnTo>
                    <a:pt x="34" y="351"/>
                  </a:lnTo>
                  <a:lnTo>
                    <a:pt x="46" y="322"/>
                  </a:lnTo>
                  <a:lnTo>
                    <a:pt x="58" y="295"/>
                  </a:lnTo>
                  <a:lnTo>
                    <a:pt x="73" y="270"/>
                  </a:lnTo>
                  <a:lnTo>
                    <a:pt x="86" y="248"/>
                  </a:lnTo>
                  <a:lnTo>
                    <a:pt x="101" y="228"/>
                  </a:lnTo>
                  <a:lnTo>
                    <a:pt x="117" y="210"/>
                  </a:lnTo>
                  <a:lnTo>
                    <a:pt x="132" y="193"/>
                  </a:lnTo>
                  <a:lnTo>
                    <a:pt x="148" y="178"/>
                  </a:lnTo>
                  <a:lnTo>
                    <a:pt x="163" y="163"/>
                  </a:lnTo>
                  <a:lnTo>
                    <a:pt x="178" y="151"/>
                  </a:lnTo>
                  <a:lnTo>
                    <a:pt x="205" y="130"/>
                  </a:lnTo>
                  <a:lnTo>
                    <a:pt x="228" y="112"/>
                  </a:lnTo>
                  <a:lnTo>
                    <a:pt x="253" y="100"/>
                  </a:lnTo>
                  <a:lnTo>
                    <a:pt x="318" y="75"/>
                  </a:lnTo>
                  <a:lnTo>
                    <a:pt x="363" y="59"/>
                  </a:lnTo>
                  <a:lnTo>
                    <a:pt x="416" y="43"/>
                  </a:lnTo>
                  <a:lnTo>
                    <a:pt x="444" y="35"/>
                  </a:lnTo>
                  <a:lnTo>
                    <a:pt x="474" y="28"/>
                  </a:lnTo>
                  <a:lnTo>
                    <a:pt x="506" y="21"/>
                  </a:lnTo>
                  <a:lnTo>
                    <a:pt x="538" y="14"/>
                  </a:lnTo>
                  <a:lnTo>
                    <a:pt x="571" y="9"/>
                  </a:lnTo>
                  <a:lnTo>
                    <a:pt x="606" y="6"/>
                  </a:lnTo>
                  <a:lnTo>
                    <a:pt x="640" y="2"/>
                  </a:lnTo>
                  <a:lnTo>
                    <a:pt x="676" y="1"/>
                  </a:lnTo>
                  <a:lnTo>
                    <a:pt x="711" y="0"/>
                  </a:lnTo>
                  <a:lnTo>
                    <a:pt x="747" y="1"/>
                  </a:lnTo>
                  <a:lnTo>
                    <a:pt x="784" y="5"/>
                  </a:lnTo>
                  <a:lnTo>
                    <a:pt x="820" y="9"/>
                  </a:lnTo>
                  <a:lnTo>
                    <a:pt x="855" y="16"/>
                  </a:lnTo>
                  <a:lnTo>
                    <a:pt x="891" y="24"/>
                  </a:lnTo>
                  <a:lnTo>
                    <a:pt x="927" y="37"/>
                  </a:lnTo>
                  <a:lnTo>
                    <a:pt x="961" y="50"/>
                  </a:lnTo>
                  <a:lnTo>
                    <a:pt x="996" y="66"/>
                  </a:lnTo>
                  <a:lnTo>
                    <a:pt x="1029" y="86"/>
                  </a:lnTo>
                  <a:lnTo>
                    <a:pt x="1061" y="108"/>
                  </a:lnTo>
                  <a:lnTo>
                    <a:pt x="1093" y="132"/>
                  </a:lnTo>
                  <a:lnTo>
                    <a:pt x="1099" y="140"/>
                  </a:lnTo>
                  <a:lnTo>
                    <a:pt x="1116" y="162"/>
                  </a:lnTo>
                  <a:lnTo>
                    <a:pt x="1141" y="195"/>
                  </a:lnTo>
                  <a:lnTo>
                    <a:pt x="1170" y="237"/>
                  </a:lnTo>
                  <a:lnTo>
                    <a:pt x="1184" y="260"/>
                  </a:lnTo>
                  <a:lnTo>
                    <a:pt x="1199" y="285"/>
                  </a:lnTo>
                  <a:lnTo>
                    <a:pt x="1211" y="312"/>
                  </a:lnTo>
                  <a:lnTo>
                    <a:pt x="1223" y="339"/>
                  </a:lnTo>
                  <a:lnTo>
                    <a:pt x="1233" y="366"/>
                  </a:lnTo>
                  <a:lnTo>
                    <a:pt x="1240" y="394"/>
                  </a:lnTo>
                  <a:lnTo>
                    <a:pt x="1243" y="409"/>
                  </a:lnTo>
                  <a:lnTo>
                    <a:pt x="1245" y="423"/>
                  </a:lnTo>
                  <a:lnTo>
                    <a:pt x="1247" y="436"/>
                  </a:lnTo>
                  <a:lnTo>
                    <a:pt x="1247" y="451"/>
                  </a:lnTo>
                  <a:lnTo>
                    <a:pt x="1247" y="508"/>
                  </a:lnTo>
                  <a:lnTo>
                    <a:pt x="1244" y="564"/>
                  </a:lnTo>
                  <a:lnTo>
                    <a:pt x="1240" y="592"/>
                  </a:lnTo>
                  <a:lnTo>
                    <a:pt x="1237" y="618"/>
                  </a:lnTo>
                  <a:lnTo>
                    <a:pt x="1232" y="643"/>
                  </a:lnTo>
                  <a:lnTo>
                    <a:pt x="1226" y="666"/>
                  </a:lnTo>
                  <a:lnTo>
                    <a:pt x="1222" y="677"/>
                  </a:lnTo>
                  <a:lnTo>
                    <a:pt x="1217" y="688"/>
                  </a:lnTo>
                  <a:lnTo>
                    <a:pt x="1212" y="698"/>
                  </a:lnTo>
                  <a:lnTo>
                    <a:pt x="1207" y="707"/>
                  </a:lnTo>
                  <a:lnTo>
                    <a:pt x="1201" y="715"/>
                  </a:lnTo>
                  <a:lnTo>
                    <a:pt x="1195" y="723"/>
                  </a:lnTo>
                  <a:lnTo>
                    <a:pt x="1188" y="729"/>
                  </a:lnTo>
                  <a:lnTo>
                    <a:pt x="1180" y="735"/>
                  </a:lnTo>
                  <a:lnTo>
                    <a:pt x="1173" y="740"/>
                  </a:lnTo>
                  <a:lnTo>
                    <a:pt x="1164" y="744"/>
                  </a:lnTo>
                  <a:lnTo>
                    <a:pt x="1154" y="747"/>
                  </a:lnTo>
                  <a:lnTo>
                    <a:pt x="1145" y="750"/>
                  </a:lnTo>
                  <a:lnTo>
                    <a:pt x="1135" y="750"/>
                  </a:lnTo>
                  <a:lnTo>
                    <a:pt x="1122" y="750"/>
                  </a:lnTo>
                  <a:lnTo>
                    <a:pt x="1110" y="749"/>
                  </a:lnTo>
                  <a:lnTo>
                    <a:pt x="1098" y="746"/>
                  </a:lnTo>
                  <a:lnTo>
                    <a:pt x="1068" y="740"/>
                  </a:lnTo>
                  <a:lnTo>
                    <a:pt x="1033" y="733"/>
                  </a:lnTo>
                  <a:lnTo>
                    <a:pt x="992" y="725"/>
                  </a:lnTo>
                  <a:lnTo>
                    <a:pt x="945" y="719"/>
                  </a:lnTo>
                  <a:lnTo>
                    <a:pt x="895" y="713"/>
                  </a:lnTo>
                  <a:lnTo>
                    <a:pt x="839" y="707"/>
                  </a:lnTo>
                  <a:lnTo>
                    <a:pt x="783" y="702"/>
                  </a:lnTo>
                  <a:lnTo>
                    <a:pt x="724" y="698"/>
                  </a:lnTo>
                  <a:lnTo>
                    <a:pt x="663" y="696"/>
                  </a:lnTo>
                  <a:lnTo>
                    <a:pt x="603" y="693"/>
                  </a:lnTo>
                  <a:lnTo>
                    <a:pt x="543" y="693"/>
                  </a:lnTo>
                  <a:lnTo>
                    <a:pt x="484" y="696"/>
                  </a:lnTo>
                  <a:lnTo>
                    <a:pt x="426" y="699"/>
                  </a:lnTo>
                  <a:lnTo>
                    <a:pt x="372" y="706"/>
                  </a:lnTo>
                  <a:lnTo>
                    <a:pt x="346" y="709"/>
                  </a:lnTo>
                  <a:lnTo>
                    <a:pt x="321" y="714"/>
                  </a:lnTo>
                  <a:lnTo>
                    <a:pt x="297" y="719"/>
                  </a:lnTo>
                  <a:lnTo>
                    <a:pt x="275" y="725"/>
                  </a:lnTo>
                  <a:lnTo>
                    <a:pt x="253" y="730"/>
                  </a:lnTo>
                  <a:lnTo>
                    <a:pt x="232" y="734"/>
                  </a:lnTo>
                  <a:lnTo>
                    <a:pt x="212" y="736"/>
                  </a:lnTo>
                  <a:lnTo>
                    <a:pt x="192" y="738"/>
                  </a:lnTo>
                  <a:lnTo>
                    <a:pt x="175" y="738"/>
                  </a:lnTo>
                  <a:lnTo>
                    <a:pt x="158" y="736"/>
                  </a:lnTo>
                  <a:lnTo>
                    <a:pt x="142" y="734"/>
                  </a:lnTo>
                  <a:lnTo>
                    <a:pt x="126" y="730"/>
                  </a:lnTo>
                  <a:lnTo>
                    <a:pt x="112" y="725"/>
                  </a:lnTo>
                  <a:lnTo>
                    <a:pt x="99" y="720"/>
                  </a:lnTo>
                  <a:lnTo>
                    <a:pt x="86" y="713"/>
                  </a:lnTo>
                  <a:lnTo>
                    <a:pt x="74" y="706"/>
                  </a:lnTo>
                  <a:lnTo>
                    <a:pt x="64" y="697"/>
                  </a:lnTo>
                  <a:lnTo>
                    <a:pt x="54" y="688"/>
                  </a:lnTo>
                  <a:lnTo>
                    <a:pt x="45" y="679"/>
                  </a:lnTo>
                  <a:lnTo>
                    <a:pt x="37" y="668"/>
                  </a:lnTo>
                  <a:lnTo>
                    <a:pt x="30" y="655"/>
                  </a:lnTo>
                  <a:lnTo>
                    <a:pt x="24" y="643"/>
                  </a:lnTo>
                  <a:lnTo>
                    <a:pt x="18" y="629"/>
                  </a:lnTo>
                  <a:lnTo>
                    <a:pt x="13" y="616"/>
                  </a:lnTo>
                  <a:lnTo>
                    <a:pt x="9" y="602"/>
                  </a:lnTo>
                  <a:lnTo>
                    <a:pt x="5" y="588"/>
                  </a:lnTo>
                  <a:lnTo>
                    <a:pt x="3" y="572"/>
                  </a:lnTo>
                  <a:lnTo>
                    <a:pt x="2" y="556"/>
                  </a:lnTo>
                  <a:lnTo>
                    <a:pt x="0" y="540"/>
                  </a:lnTo>
                  <a:lnTo>
                    <a:pt x="0" y="524"/>
                  </a:lnTo>
                  <a:lnTo>
                    <a:pt x="0" y="506"/>
                  </a:lnTo>
                  <a:lnTo>
                    <a:pt x="2" y="489"/>
                  </a:lnTo>
                  <a:lnTo>
                    <a:pt x="4" y="472"/>
                  </a:lnTo>
                  <a:lnTo>
                    <a:pt x="7" y="453"/>
                  </a:lnTo>
                  <a:lnTo>
                    <a:pt x="10" y="436"/>
                  </a:lnTo>
                  <a:lnTo>
                    <a:pt x="14" y="418"/>
                  </a:lnTo>
                  <a:close/>
                </a:path>
              </a:pathLst>
            </a:custGeom>
            <a:solidFill>
              <a:srgbClr val="6d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6581880" y="1849680"/>
              <a:ext cx="365040" cy="218880"/>
            </a:xfrm>
            <a:custGeom>
              <a:avLst/>
              <a:gdLst/>
              <a:ahLst/>
              <a:rect l="l" t="t" r="r" b="b"/>
              <a:pathLst>
                <a:path w="1151" h="689">
                  <a:moveTo>
                    <a:pt x="13" y="382"/>
                  </a:moveTo>
                  <a:lnTo>
                    <a:pt x="21" y="350"/>
                  </a:lnTo>
                  <a:lnTo>
                    <a:pt x="30" y="321"/>
                  </a:lnTo>
                  <a:lnTo>
                    <a:pt x="41" y="295"/>
                  </a:lnTo>
                  <a:lnTo>
                    <a:pt x="54" y="270"/>
                  </a:lnTo>
                  <a:lnTo>
                    <a:pt x="66" y="247"/>
                  </a:lnTo>
                  <a:lnTo>
                    <a:pt x="80" y="227"/>
                  </a:lnTo>
                  <a:lnTo>
                    <a:pt x="93" y="208"/>
                  </a:lnTo>
                  <a:lnTo>
                    <a:pt x="107" y="192"/>
                  </a:lnTo>
                  <a:lnTo>
                    <a:pt x="121" y="176"/>
                  </a:lnTo>
                  <a:lnTo>
                    <a:pt x="135" y="162"/>
                  </a:lnTo>
                  <a:lnTo>
                    <a:pt x="150" y="149"/>
                  </a:lnTo>
                  <a:lnTo>
                    <a:pt x="163" y="138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3" y="90"/>
                  </a:lnTo>
                  <a:lnTo>
                    <a:pt x="292" y="66"/>
                  </a:lnTo>
                  <a:lnTo>
                    <a:pt x="335" y="53"/>
                  </a:lnTo>
                  <a:lnTo>
                    <a:pt x="383" y="38"/>
                  </a:lnTo>
                  <a:lnTo>
                    <a:pt x="409" y="31"/>
                  </a:lnTo>
                  <a:lnTo>
                    <a:pt x="438" y="24"/>
                  </a:lnTo>
                  <a:lnTo>
                    <a:pt x="466" y="18"/>
                  </a:lnTo>
                  <a:lnTo>
                    <a:pt x="495" y="13"/>
                  </a:lnTo>
                  <a:lnTo>
                    <a:pt x="526" y="8"/>
                  </a:lnTo>
                  <a:lnTo>
                    <a:pt x="558" y="5"/>
                  </a:lnTo>
                  <a:lnTo>
                    <a:pt x="590" y="2"/>
                  </a:lnTo>
                  <a:lnTo>
                    <a:pt x="622" y="0"/>
                  </a:lnTo>
                  <a:lnTo>
                    <a:pt x="655" y="0"/>
                  </a:lnTo>
                  <a:lnTo>
                    <a:pt x="689" y="1"/>
                  </a:lnTo>
                  <a:lnTo>
                    <a:pt x="722" y="3"/>
                  </a:lnTo>
                  <a:lnTo>
                    <a:pt x="754" y="8"/>
                  </a:lnTo>
                  <a:lnTo>
                    <a:pt x="787" y="15"/>
                  </a:lnTo>
                  <a:lnTo>
                    <a:pt x="820" y="23"/>
                  </a:lnTo>
                  <a:lnTo>
                    <a:pt x="852" y="33"/>
                  </a:lnTo>
                  <a:lnTo>
                    <a:pt x="884" y="45"/>
                  </a:lnTo>
                  <a:lnTo>
                    <a:pt x="916" y="61"/>
                  </a:lnTo>
                  <a:lnTo>
                    <a:pt x="946" y="78"/>
                  </a:lnTo>
                  <a:lnTo>
                    <a:pt x="976" y="98"/>
                  </a:lnTo>
                  <a:lnTo>
                    <a:pt x="1005" y="122"/>
                  </a:lnTo>
                  <a:lnTo>
                    <a:pt x="1011" y="129"/>
                  </a:lnTo>
                  <a:lnTo>
                    <a:pt x="1027" y="149"/>
                  </a:lnTo>
                  <a:lnTo>
                    <a:pt x="1050" y="178"/>
                  </a:lnTo>
                  <a:lnTo>
                    <a:pt x="1077" y="217"/>
                  </a:lnTo>
                  <a:lnTo>
                    <a:pt x="1091" y="240"/>
                  </a:lnTo>
                  <a:lnTo>
                    <a:pt x="1104" y="263"/>
                  </a:lnTo>
                  <a:lnTo>
                    <a:pt x="1117" y="286"/>
                  </a:lnTo>
                  <a:lnTo>
                    <a:pt x="1128" y="312"/>
                  </a:lnTo>
                  <a:lnTo>
                    <a:pt x="1138" y="338"/>
                  </a:lnTo>
                  <a:lnTo>
                    <a:pt x="1145" y="364"/>
                  </a:lnTo>
                  <a:lnTo>
                    <a:pt x="1147" y="376"/>
                  </a:lnTo>
                  <a:lnTo>
                    <a:pt x="1150" y="390"/>
                  </a:lnTo>
                  <a:lnTo>
                    <a:pt x="1151" y="402"/>
                  </a:lnTo>
                  <a:lnTo>
                    <a:pt x="1151" y="415"/>
                  </a:lnTo>
                  <a:lnTo>
                    <a:pt x="1151" y="440"/>
                  </a:lnTo>
                  <a:lnTo>
                    <a:pt x="1150" y="467"/>
                  </a:lnTo>
                  <a:lnTo>
                    <a:pt x="1149" y="493"/>
                  </a:lnTo>
                  <a:lnTo>
                    <a:pt x="1146" y="518"/>
                  </a:lnTo>
                  <a:lnTo>
                    <a:pt x="1143" y="543"/>
                  </a:lnTo>
                  <a:lnTo>
                    <a:pt x="1138" y="567"/>
                  </a:lnTo>
                  <a:lnTo>
                    <a:pt x="1131" y="590"/>
                  </a:lnTo>
                  <a:lnTo>
                    <a:pt x="1124" y="611"/>
                  </a:lnTo>
                  <a:lnTo>
                    <a:pt x="1119" y="621"/>
                  </a:lnTo>
                  <a:lnTo>
                    <a:pt x="1115" y="630"/>
                  </a:lnTo>
                  <a:lnTo>
                    <a:pt x="1111" y="639"/>
                  </a:lnTo>
                  <a:lnTo>
                    <a:pt x="1104" y="647"/>
                  </a:lnTo>
                  <a:lnTo>
                    <a:pt x="1098" y="655"/>
                  </a:lnTo>
                  <a:lnTo>
                    <a:pt x="1092" y="661"/>
                  </a:lnTo>
                  <a:lnTo>
                    <a:pt x="1085" y="668"/>
                  </a:lnTo>
                  <a:lnTo>
                    <a:pt x="1077" y="674"/>
                  </a:lnTo>
                  <a:lnTo>
                    <a:pt x="1070" y="679"/>
                  </a:lnTo>
                  <a:lnTo>
                    <a:pt x="1061" y="682"/>
                  </a:lnTo>
                  <a:lnTo>
                    <a:pt x="1053" y="685"/>
                  </a:lnTo>
                  <a:lnTo>
                    <a:pt x="1043" y="687"/>
                  </a:lnTo>
                  <a:lnTo>
                    <a:pt x="1033" y="689"/>
                  </a:lnTo>
                  <a:lnTo>
                    <a:pt x="1022" y="689"/>
                  </a:lnTo>
                  <a:lnTo>
                    <a:pt x="1011" y="689"/>
                  </a:lnTo>
                  <a:lnTo>
                    <a:pt x="999" y="686"/>
                  </a:lnTo>
                  <a:lnTo>
                    <a:pt x="940" y="676"/>
                  </a:lnTo>
                  <a:lnTo>
                    <a:pt x="858" y="666"/>
                  </a:lnTo>
                  <a:lnTo>
                    <a:pt x="813" y="661"/>
                  </a:lnTo>
                  <a:lnTo>
                    <a:pt x="764" y="657"/>
                  </a:lnTo>
                  <a:lnTo>
                    <a:pt x="712" y="652"/>
                  </a:lnTo>
                  <a:lnTo>
                    <a:pt x="659" y="648"/>
                  </a:lnTo>
                  <a:lnTo>
                    <a:pt x="605" y="646"/>
                  </a:lnTo>
                  <a:lnTo>
                    <a:pt x="550" y="644"/>
                  </a:lnTo>
                  <a:lnTo>
                    <a:pt x="495" y="644"/>
                  </a:lnTo>
                  <a:lnTo>
                    <a:pt x="443" y="646"/>
                  </a:lnTo>
                  <a:lnTo>
                    <a:pt x="391" y="648"/>
                  </a:lnTo>
                  <a:lnTo>
                    <a:pt x="342" y="653"/>
                  </a:lnTo>
                  <a:lnTo>
                    <a:pt x="317" y="655"/>
                  </a:lnTo>
                  <a:lnTo>
                    <a:pt x="295" y="659"/>
                  </a:lnTo>
                  <a:lnTo>
                    <a:pt x="273" y="663"/>
                  </a:lnTo>
                  <a:lnTo>
                    <a:pt x="252" y="668"/>
                  </a:lnTo>
                  <a:lnTo>
                    <a:pt x="231" y="671"/>
                  </a:lnTo>
                  <a:lnTo>
                    <a:pt x="212" y="674"/>
                  </a:lnTo>
                  <a:lnTo>
                    <a:pt x="194" y="676"/>
                  </a:lnTo>
                  <a:lnTo>
                    <a:pt x="176" y="676"/>
                  </a:lnTo>
                  <a:lnTo>
                    <a:pt x="160" y="676"/>
                  </a:lnTo>
                  <a:lnTo>
                    <a:pt x="144" y="675"/>
                  </a:lnTo>
                  <a:lnTo>
                    <a:pt x="129" y="673"/>
                  </a:lnTo>
                  <a:lnTo>
                    <a:pt x="114" y="669"/>
                  </a:lnTo>
                  <a:lnTo>
                    <a:pt x="102" y="664"/>
                  </a:lnTo>
                  <a:lnTo>
                    <a:pt x="89" y="659"/>
                  </a:lnTo>
                  <a:lnTo>
                    <a:pt x="77" y="653"/>
                  </a:lnTo>
                  <a:lnTo>
                    <a:pt x="67" y="646"/>
                  </a:lnTo>
                  <a:lnTo>
                    <a:pt x="57" y="638"/>
                  </a:lnTo>
                  <a:lnTo>
                    <a:pt x="48" y="630"/>
                  </a:lnTo>
                  <a:lnTo>
                    <a:pt x="40" y="621"/>
                  </a:lnTo>
                  <a:lnTo>
                    <a:pt x="33" y="611"/>
                  </a:lnTo>
                  <a:lnTo>
                    <a:pt x="25" y="600"/>
                  </a:lnTo>
                  <a:lnTo>
                    <a:pt x="21" y="589"/>
                  </a:lnTo>
                  <a:lnTo>
                    <a:pt x="14" y="577"/>
                  </a:lnTo>
                  <a:lnTo>
                    <a:pt x="11" y="564"/>
                  </a:lnTo>
                  <a:lnTo>
                    <a:pt x="7" y="551"/>
                  </a:lnTo>
                  <a:lnTo>
                    <a:pt x="5" y="537"/>
                  </a:lnTo>
                  <a:lnTo>
                    <a:pt x="2" y="524"/>
                  </a:lnTo>
                  <a:lnTo>
                    <a:pt x="1" y="509"/>
                  </a:lnTo>
                  <a:lnTo>
                    <a:pt x="0" y="494"/>
                  </a:lnTo>
                  <a:lnTo>
                    <a:pt x="0" y="479"/>
                  </a:lnTo>
                  <a:lnTo>
                    <a:pt x="0" y="463"/>
                  </a:lnTo>
                  <a:lnTo>
                    <a:pt x="1" y="447"/>
                  </a:lnTo>
                  <a:lnTo>
                    <a:pt x="6" y="415"/>
                  </a:lnTo>
                  <a:lnTo>
                    <a:pt x="13" y="382"/>
                  </a:lnTo>
                  <a:close/>
                </a:path>
              </a:pathLst>
            </a:custGeom>
            <a:solidFill>
              <a:srgbClr val="715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6605640" y="1857600"/>
              <a:ext cx="334800" cy="198360"/>
            </a:xfrm>
            <a:custGeom>
              <a:avLst/>
              <a:gdLst/>
              <a:ahLst/>
              <a:rect l="l" t="t" r="r" b="b"/>
              <a:pathLst>
                <a:path w="1054" h="629">
                  <a:moveTo>
                    <a:pt x="11" y="348"/>
                  </a:moveTo>
                  <a:lnTo>
                    <a:pt x="19" y="319"/>
                  </a:lnTo>
                  <a:lnTo>
                    <a:pt x="28" y="292"/>
                  </a:lnTo>
                  <a:lnTo>
                    <a:pt x="38" y="267"/>
                  </a:lnTo>
                  <a:lnTo>
                    <a:pt x="49" y="245"/>
                  </a:lnTo>
                  <a:lnTo>
                    <a:pt x="61" y="224"/>
                  </a:lnTo>
                  <a:lnTo>
                    <a:pt x="73" y="206"/>
                  </a:lnTo>
                  <a:lnTo>
                    <a:pt x="86" y="188"/>
                  </a:lnTo>
                  <a:lnTo>
                    <a:pt x="99" y="172"/>
                  </a:lnTo>
                  <a:lnTo>
                    <a:pt x="112" y="159"/>
                  </a:lnTo>
                  <a:lnTo>
                    <a:pt x="125" y="145"/>
                  </a:lnTo>
                  <a:lnTo>
                    <a:pt x="139" y="134"/>
                  </a:lnTo>
                  <a:lnTo>
                    <a:pt x="151" y="124"/>
                  </a:lnTo>
                  <a:lnTo>
                    <a:pt x="173" y="106"/>
                  </a:lnTo>
                  <a:lnTo>
                    <a:pt x="193" y="90"/>
                  </a:lnTo>
                  <a:lnTo>
                    <a:pt x="213" y="81"/>
                  </a:lnTo>
                  <a:lnTo>
                    <a:pt x="268" y="60"/>
                  </a:lnTo>
                  <a:lnTo>
                    <a:pt x="306" y="47"/>
                  </a:lnTo>
                  <a:lnTo>
                    <a:pt x="350" y="35"/>
                  </a:lnTo>
                  <a:lnTo>
                    <a:pt x="375" y="28"/>
                  </a:lnTo>
                  <a:lnTo>
                    <a:pt x="400" y="22"/>
                  </a:lnTo>
                  <a:lnTo>
                    <a:pt x="427" y="16"/>
                  </a:lnTo>
                  <a:lnTo>
                    <a:pt x="454" y="11"/>
                  </a:lnTo>
                  <a:lnTo>
                    <a:pt x="481" y="8"/>
                  </a:lnTo>
                  <a:lnTo>
                    <a:pt x="510" y="4"/>
                  </a:lnTo>
                  <a:lnTo>
                    <a:pt x="540" y="1"/>
                  </a:lnTo>
                  <a:lnTo>
                    <a:pt x="569" y="0"/>
                  </a:lnTo>
                  <a:lnTo>
                    <a:pt x="599" y="0"/>
                  </a:lnTo>
                  <a:lnTo>
                    <a:pt x="630" y="1"/>
                  </a:lnTo>
                  <a:lnTo>
                    <a:pt x="660" y="4"/>
                  </a:lnTo>
                  <a:lnTo>
                    <a:pt x="691" y="8"/>
                  </a:lnTo>
                  <a:lnTo>
                    <a:pt x="721" y="14"/>
                  </a:lnTo>
                  <a:lnTo>
                    <a:pt x="751" y="21"/>
                  </a:lnTo>
                  <a:lnTo>
                    <a:pt x="781" y="31"/>
                  </a:lnTo>
                  <a:lnTo>
                    <a:pt x="810" y="43"/>
                  </a:lnTo>
                  <a:lnTo>
                    <a:pt x="839" y="57"/>
                  </a:lnTo>
                  <a:lnTo>
                    <a:pt x="867" y="73"/>
                  </a:lnTo>
                  <a:lnTo>
                    <a:pt x="895" y="91"/>
                  </a:lnTo>
                  <a:lnTo>
                    <a:pt x="921" y="112"/>
                  </a:lnTo>
                  <a:lnTo>
                    <a:pt x="927" y="118"/>
                  </a:lnTo>
                  <a:lnTo>
                    <a:pt x="942" y="137"/>
                  </a:lnTo>
                  <a:lnTo>
                    <a:pt x="963" y="164"/>
                  </a:lnTo>
                  <a:lnTo>
                    <a:pt x="988" y="198"/>
                  </a:lnTo>
                  <a:lnTo>
                    <a:pt x="1000" y="218"/>
                  </a:lnTo>
                  <a:lnTo>
                    <a:pt x="1012" y="239"/>
                  </a:lnTo>
                  <a:lnTo>
                    <a:pt x="1023" y="261"/>
                  </a:lnTo>
                  <a:lnTo>
                    <a:pt x="1033" y="284"/>
                  </a:lnTo>
                  <a:lnTo>
                    <a:pt x="1042" y="308"/>
                  </a:lnTo>
                  <a:lnTo>
                    <a:pt x="1049" y="331"/>
                  </a:lnTo>
                  <a:lnTo>
                    <a:pt x="1052" y="343"/>
                  </a:lnTo>
                  <a:lnTo>
                    <a:pt x="1053" y="354"/>
                  </a:lnTo>
                  <a:lnTo>
                    <a:pt x="1054" y="367"/>
                  </a:lnTo>
                  <a:lnTo>
                    <a:pt x="1054" y="378"/>
                  </a:lnTo>
                  <a:lnTo>
                    <a:pt x="1054" y="402"/>
                  </a:lnTo>
                  <a:lnTo>
                    <a:pt x="1053" y="426"/>
                  </a:lnTo>
                  <a:lnTo>
                    <a:pt x="1050" y="449"/>
                  </a:lnTo>
                  <a:lnTo>
                    <a:pt x="1048" y="472"/>
                  </a:lnTo>
                  <a:lnTo>
                    <a:pt x="1043" y="495"/>
                  </a:lnTo>
                  <a:lnTo>
                    <a:pt x="1038" y="515"/>
                  </a:lnTo>
                  <a:lnTo>
                    <a:pt x="1031" y="536"/>
                  </a:lnTo>
                  <a:lnTo>
                    <a:pt x="1023" y="555"/>
                  </a:lnTo>
                  <a:lnTo>
                    <a:pt x="1013" y="572"/>
                  </a:lnTo>
                  <a:lnTo>
                    <a:pt x="1002" y="588"/>
                  </a:lnTo>
                  <a:lnTo>
                    <a:pt x="996" y="595"/>
                  </a:lnTo>
                  <a:lnTo>
                    <a:pt x="990" y="602"/>
                  </a:lnTo>
                  <a:lnTo>
                    <a:pt x="983" y="608"/>
                  </a:lnTo>
                  <a:lnTo>
                    <a:pt x="975" y="613"/>
                  </a:lnTo>
                  <a:lnTo>
                    <a:pt x="968" y="618"/>
                  </a:lnTo>
                  <a:lnTo>
                    <a:pt x="959" y="621"/>
                  </a:lnTo>
                  <a:lnTo>
                    <a:pt x="951" y="624"/>
                  </a:lnTo>
                  <a:lnTo>
                    <a:pt x="941" y="626"/>
                  </a:lnTo>
                  <a:lnTo>
                    <a:pt x="932" y="629"/>
                  </a:lnTo>
                  <a:lnTo>
                    <a:pt x="921" y="629"/>
                  </a:lnTo>
                  <a:lnTo>
                    <a:pt x="911" y="629"/>
                  </a:lnTo>
                  <a:lnTo>
                    <a:pt x="899" y="629"/>
                  </a:lnTo>
                  <a:lnTo>
                    <a:pt x="845" y="620"/>
                  </a:lnTo>
                  <a:lnTo>
                    <a:pt x="774" y="611"/>
                  </a:lnTo>
                  <a:lnTo>
                    <a:pt x="689" y="603"/>
                  </a:lnTo>
                  <a:lnTo>
                    <a:pt x="596" y="597"/>
                  </a:lnTo>
                  <a:lnTo>
                    <a:pt x="547" y="594"/>
                  </a:lnTo>
                  <a:lnTo>
                    <a:pt x="499" y="592"/>
                  </a:lnTo>
                  <a:lnTo>
                    <a:pt x="450" y="592"/>
                  </a:lnTo>
                  <a:lnTo>
                    <a:pt x="403" y="592"/>
                  </a:lnTo>
                  <a:lnTo>
                    <a:pt x="356" y="594"/>
                  </a:lnTo>
                  <a:lnTo>
                    <a:pt x="312" y="598"/>
                  </a:lnTo>
                  <a:lnTo>
                    <a:pt x="270" y="603"/>
                  </a:lnTo>
                  <a:lnTo>
                    <a:pt x="231" y="609"/>
                  </a:lnTo>
                  <a:lnTo>
                    <a:pt x="213" y="613"/>
                  </a:lnTo>
                  <a:lnTo>
                    <a:pt x="195" y="614"/>
                  </a:lnTo>
                  <a:lnTo>
                    <a:pt x="178" y="615"/>
                  </a:lnTo>
                  <a:lnTo>
                    <a:pt x="162" y="615"/>
                  </a:lnTo>
                  <a:lnTo>
                    <a:pt x="146" y="614"/>
                  </a:lnTo>
                  <a:lnTo>
                    <a:pt x="133" y="613"/>
                  </a:lnTo>
                  <a:lnTo>
                    <a:pt x="118" y="610"/>
                  </a:lnTo>
                  <a:lnTo>
                    <a:pt x="105" y="607"/>
                  </a:lnTo>
                  <a:lnTo>
                    <a:pt x="93" y="602"/>
                  </a:lnTo>
                  <a:lnTo>
                    <a:pt x="82" y="597"/>
                  </a:lnTo>
                  <a:lnTo>
                    <a:pt x="72" y="592"/>
                  </a:lnTo>
                  <a:lnTo>
                    <a:pt x="62" y="586"/>
                  </a:lnTo>
                  <a:lnTo>
                    <a:pt x="53" y="578"/>
                  </a:lnTo>
                  <a:lnTo>
                    <a:pt x="45" y="571"/>
                  </a:lnTo>
                  <a:lnTo>
                    <a:pt x="38" y="562"/>
                  </a:lnTo>
                  <a:lnTo>
                    <a:pt x="30" y="554"/>
                  </a:lnTo>
                  <a:lnTo>
                    <a:pt x="24" y="544"/>
                  </a:lnTo>
                  <a:lnTo>
                    <a:pt x="19" y="534"/>
                  </a:lnTo>
                  <a:lnTo>
                    <a:pt x="14" y="523"/>
                  </a:lnTo>
                  <a:lnTo>
                    <a:pt x="11" y="512"/>
                  </a:lnTo>
                  <a:lnTo>
                    <a:pt x="7" y="501"/>
                  </a:lnTo>
                  <a:lnTo>
                    <a:pt x="5" y="488"/>
                  </a:lnTo>
                  <a:lnTo>
                    <a:pt x="2" y="476"/>
                  </a:lnTo>
                  <a:lnTo>
                    <a:pt x="1" y="463"/>
                  </a:lnTo>
                  <a:lnTo>
                    <a:pt x="0" y="436"/>
                  </a:lnTo>
                  <a:lnTo>
                    <a:pt x="1" y="408"/>
                  </a:lnTo>
                  <a:lnTo>
                    <a:pt x="5" y="379"/>
                  </a:lnTo>
                  <a:lnTo>
                    <a:pt x="11" y="348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6629400" y="1863720"/>
              <a:ext cx="304920" cy="181080"/>
            </a:xfrm>
            <a:custGeom>
              <a:avLst/>
              <a:gdLst/>
              <a:ahLst/>
              <a:rect l="l" t="t" r="r" b="b"/>
              <a:pathLst>
                <a:path w="957" h="569">
                  <a:moveTo>
                    <a:pt x="11" y="315"/>
                  </a:moveTo>
                  <a:lnTo>
                    <a:pt x="18" y="289"/>
                  </a:lnTo>
                  <a:lnTo>
                    <a:pt x="27" y="263"/>
                  </a:lnTo>
                  <a:lnTo>
                    <a:pt x="36" y="241"/>
                  </a:lnTo>
                  <a:lnTo>
                    <a:pt x="45" y="220"/>
                  </a:lnTo>
                  <a:lnTo>
                    <a:pt x="57" y="202"/>
                  </a:lnTo>
                  <a:lnTo>
                    <a:pt x="68" y="185"/>
                  </a:lnTo>
                  <a:lnTo>
                    <a:pt x="79" y="169"/>
                  </a:lnTo>
                  <a:lnTo>
                    <a:pt x="91" y="155"/>
                  </a:lnTo>
                  <a:lnTo>
                    <a:pt x="103" y="142"/>
                  </a:lnTo>
                  <a:lnTo>
                    <a:pt x="114" y="131"/>
                  </a:lnTo>
                  <a:lnTo>
                    <a:pt x="127" y="120"/>
                  </a:lnTo>
                  <a:lnTo>
                    <a:pt x="138" y="110"/>
                  </a:lnTo>
                  <a:lnTo>
                    <a:pt x="159" y="94"/>
                  </a:lnTo>
                  <a:lnTo>
                    <a:pt x="177" y="79"/>
                  </a:lnTo>
                  <a:lnTo>
                    <a:pt x="194" y="72"/>
                  </a:lnTo>
                  <a:lnTo>
                    <a:pt x="245" y="53"/>
                  </a:lnTo>
                  <a:lnTo>
                    <a:pt x="279" y="41"/>
                  </a:lnTo>
                  <a:lnTo>
                    <a:pt x="319" y="30"/>
                  </a:lnTo>
                  <a:lnTo>
                    <a:pt x="364" y="19"/>
                  </a:lnTo>
                  <a:lnTo>
                    <a:pt x="412" y="10"/>
                  </a:lnTo>
                  <a:lnTo>
                    <a:pt x="437" y="6"/>
                  </a:lnTo>
                  <a:lnTo>
                    <a:pt x="464" y="4"/>
                  </a:lnTo>
                  <a:lnTo>
                    <a:pt x="490" y="1"/>
                  </a:lnTo>
                  <a:lnTo>
                    <a:pt x="517" y="0"/>
                  </a:lnTo>
                  <a:lnTo>
                    <a:pt x="544" y="0"/>
                  </a:lnTo>
                  <a:lnTo>
                    <a:pt x="571" y="1"/>
                  </a:lnTo>
                  <a:lnTo>
                    <a:pt x="599" y="4"/>
                  </a:lnTo>
                  <a:lnTo>
                    <a:pt x="626" y="8"/>
                  </a:lnTo>
                  <a:lnTo>
                    <a:pt x="653" y="14"/>
                  </a:lnTo>
                  <a:lnTo>
                    <a:pt x="682" y="21"/>
                  </a:lnTo>
                  <a:lnTo>
                    <a:pt x="707" y="30"/>
                  </a:lnTo>
                  <a:lnTo>
                    <a:pt x="734" y="41"/>
                  </a:lnTo>
                  <a:lnTo>
                    <a:pt x="760" y="53"/>
                  </a:lnTo>
                  <a:lnTo>
                    <a:pt x="786" y="68"/>
                  </a:lnTo>
                  <a:lnTo>
                    <a:pt x="811" y="85"/>
                  </a:lnTo>
                  <a:lnTo>
                    <a:pt x="834" y="104"/>
                  </a:lnTo>
                  <a:lnTo>
                    <a:pt x="840" y="110"/>
                  </a:lnTo>
                  <a:lnTo>
                    <a:pt x="854" y="124"/>
                  </a:lnTo>
                  <a:lnTo>
                    <a:pt x="873" y="149"/>
                  </a:lnTo>
                  <a:lnTo>
                    <a:pt x="896" y="181"/>
                  </a:lnTo>
                  <a:lnTo>
                    <a:pt x="907" y="198"/>
                  </a:lnTo>
                  <a:lnTo>
                    <a:pt x="918" y="217"/>
                  </a:lnTo>
                  <a:lnTo>
                    <a:pt x="929" y="236"/>
                  </a:lnTo>
                  <a:lnTo>
                    <a:pt x="937" y="257"/>
                  </a:lnTo>
                  <a:lnTo>
                    <a:pt x="945" y="278"/>
                  </a:lnTo>
                  <a:lnTo>
                    <a:pt x="951" y="299"/>
                  </a:lnTo>
                  <a:lnTo>
                    <a:pt x="956" y="321"/>
                  </a:lnTo>
                  <a:lnTo>
                    <a:pt x="957" y="342"/>
                  </a:lnTo>
                  <a:lnTo>
                    <a:pt x="956" y="363"/>
                  </a:lnTo>
                  <a:lnTo>
                    <a:pt x="955" y="385"/>
                  </a:lnTo>
                  <a:lnTo>
                    <a:pt x="952" y="405"/>
                  </a:lnTo>
                  <a:lnTo>
                    <a:pt x="947" y="426"/>
                  </a:lnTo>
                  <a:lnTo>
                    <a:pt x="942" y="446"/>
                  </a:lnTo>
                  <a:lnTo>
                    <a:pt x="936" y="464"/>
                  </a:lnTo>
                  <a:lnTo>
                    <a:pt x="929" y="482"/>
                  </a:lnTo>
                  <a:lnTo>
                    <a:pt x="920" y="500"/>
                  </a:lnTo>
                  <a:lnTo>
                    <a:pt x="909" y="514"/>
                  </a:lnTo>
                  <a:lnTo>
                    <a:pt x="898" y="529"/>
                  </a:lnTo>
                  <a:lnTo>
                    <a:pt x="885" y="540"/>
                  </a:lnTo>
                  <a:lnTo>
                    <a:pt x="871" y="551"/>
                  </a:lnTo>
                  <a:lnTo>
                    <a:pt x="864" y="555"/>
                  </a:lnTo>
                  <a:lnTo>
                    <a:pt x="855" y="559"/>
                  </a:lnTo>
                  <a:lnTo>
                    <a:pt x="846" y="562"/>
                  </a:lnTo>
                  <a:lnTo>
                    <a:pt x="838" y="565"/>
                  </a:lnTo>
                  <a:lnTo>
                    <a:pt x="829" y="566"/>
                  </a:lnTo>
                  <a:lnTo>
                    <a:pt x="819" y="567"/>
                  </a:lnTo>
                  <a:lnTo>
                    <a:pt x="809" y="569"/>
                  </a:lnTo>
                  <a:lnTo>
                    <a:pt x="800" y="569"/>
                  </a:lnTo>
                  <a:lnTo>
                    <a:pt x="750" y="564"/>
                  </a:lnTo>
                  <a:lnTo>
                    <a:pt x="688" y="559"/>
                  </a:lnTo>
                  <a:lnTo>
                    <a:pt x="614" y="553"/>
                  </a:lnTo>
                  <a:lnTo>
                    <a:pt x="533" y="546"/>
                  </a:lnTo>
                  <a:lnTo>
                    <a:pt x="490" y="544"/>
                  </a:lnTo>
                  <a:lnTo>
                    <a:pt x="448" y="543"/>
                  </a:lnTo>
                  <a:lnTo>
                    <a:pt x="405" y="541"/>
                  </a:lnTo>
                  <a:lnTo>
                    <a:pt x="364" y="540"/>
                  </a:lnTo>
                  <a:lnTo>
                    <a:pt x="322" y="541"/>
                  </a:lnTo>
                  <a:lnTo>
                    <a:pt x="284" y="543"/>
                  </a:lnTo>
                  <a:lnTo>
                    <a:pt x="247" y="545"/>
                  </a:lnTo>
                  <a:lnTo>
                    <a:pt x="213" y="549"/>
                  </a:lnTo>
                  <a:lnTo>
                    <a:pt x="196" y="551"/>
                  </a:lnTo>
                  <a:lnTo>
                    <a:pt x="178" y="553"/>
                  </a:lnTo>
                  <a:lnTo>
                    <a:pt x="164" y="553"/>
                  </a:lnTo>
                  <a:lnTo>
                    <a:pt x="149" y="553"/>
                  </a:lnTo>
                  <a:lnTo>
                    <a:pt x="134" y="551"/>
                  </a:lnTo>
                  <a:lnTo>
                    <a:pt x="121" y="549"/>
                  </a:lnTo>
                  <a:lnTo>
                    <a:pt x="108" y="546"/>
                  </a:lnTo>
                  <a:lnTo>
                    <a:pt x="97" y="544"/>
                  </a:lnTo>
                  <a:lnTo>
                    <a:pt x="86" y="540"/>
                  </a:lnTo>
                  <a:lnTo>
                    <a:pt x="75" y="535"/>
                  </a:lnTo>
                  <a:lnTo>
                    <a:pt x="66" y="530"/>
                  </a:lnTo>
                  <a:lnTo>
                    <a:pt x="57" y="524"/>
                  </a:lnTo>
                  <a:lnTo>
                    <a:pt x="49" y="518"/>
                  </a:lnTo>
                  <a:lnTo>
                    <a:pt x="42" y="512"/>
                  </a:lnTo>
                  <a:lnTo>
                    <a:pt x="34" y="505"/>
                  </a:lnTo>
                  <a:lnTo>
                    <a:pt x="28" y="497"/>
                  </a:lnTo>
                  <a:lnTo>
                    <a:pt x="22" y="489"/>
                  </a:lnTo>
                  <a:lnTo>
                    <a:pt x="17" y="480"/>
                  </a:lnTo>
                  <a:lnTo>
                    <a:pt x="13" y="470"/>
                  </a:lnTo>
                  <a:lnTo>
                    <a:pt x="10" y="460"/>
                  </a:lnTo>
                  <a:lnTo>
                    <a:pt x="7" y="450"/>
                  </a:lnTo>
                  <a:lnTo>
                    <a:pt x="5" y="439"/>
                  </a:lnTo>
                  <a:lnTo>
                    <a:pt x="2" y="428"/>
                  </a:lnTo>
                  <a:lnTo>
                    <a:pt x="1" y="417"/>
                  </a:lnTo>
                  <a:lnTo>
                    <a:pt x="0" y="394"/>
                  </a:lnTo>
                  <a:lnTo>
                    <a:pt x="2" y="369"/>
                  </a:lnTo>
                  <a:lnTo>
                    <a:pt x="6" y="342"/>
                  </a:lnTo>
                  <a:lnTo>
                    <a:pt x="11" y="315"/>
                  </a:lnTo>
                  <a:close/>
                </a:path>
              </a:pathLst>
            </a:custGeom>
            <a:solidFill>
              <a:srgbClr val="76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6654960" y="1870200"/>
              <a:ext cx="271440" cy="162000"/>
            </a:xfrm>
            <a:custGeom>
              <a:avLst/>
              <a:gdLst/>
              <a:ahLst/>
              <a:rect l="l" t="t" r="r" b="b"/>
              <a:pathLst>
                <a:path w="859" h="509">
                  <a:moveTo>
                    <a:pt x="9" y="284"/>
                  </a:moveTo>
                  <a:lnTo>
                    <a:pt x="15" y="260"/>
                  </a:lnTo>
                  <a:lnTo>
                    <a:pt x="22" y="238"/>
                  </a:lnTo>
                  <a:lnTo>
                    <a:pt x="31" y="218"/>
                  </a:lnTo>
                  <a:lnTo>
                    <a:pt x="41" y="198"/>
                  </a:lnTo>
                  <a:lnTo>
                    <a:pt x="49" y="182"/>
                  </a:lnTo>
                  <a:lnTo>
                    <a:pt x="61" y="166"/>
                  </a:lnTo>
                  <a:lnTo>
                    <a:pt x="70" y="151"/>
                  </a:lnTo>
                  <a:lnTo>
                    <a:pt x="81" y="139"/>
                  </a:lnTo>
                  <a:lnTo>
                    <a:pt x="102" y="117"/>
                  </a:lnTo>
                  <a:lnTo>
                    <a:pt x="123" y="99"/>
                  </a:lnTo>
                  <a:lnTo>
                    <a:pt x="142" y="84"/>
                  </a:lnTo>
                  <a:lnTo>
                    <a:pt x="158" y="72"/>
                  </a:lnTo>
                  <a:lnTo>
                    <a:pt x="174" y="65"/>
                  </a:lnTo>
                  <a:lnTo>
                    <a:pt x="218" y="48"/>
                  </a:lnTo>
                  <a:lnTo>
                    <a:pt x="249" y="37"/>
                  </a:lnTo>
                  <a:lnTo>
                    <a:pt x="286" y="27"/>
                  </a:lnTo>
                  <a:lnTo>
                    <a:pt x="325" y="17"/>
                  </a:lnTo>
                  <a:lnTo>
                    <a:pt x="368" y="9"/>
                  </a:lnTo>
                  <a:lnTo>
                    <a:pt x="391" y="6"/>
                  </a:lnTo>
                  <a:lnTo>
                    <a:pt x="414" y="4"/>
                  </a:lnTo>
                  <a:lnTo>
                    <a:pt x="438" y="1"/>
                  </a:lnTo>
                  <a:lnTo>
                    <a:pt x="462" y="0"/>
                  </a:lnTo>
                  <a:lnTo>
                    <a:pt x="486" y="1"/>
                  </a:lnTo>
                  <a:lnTo>
                    <a:pt x="511" y="1"/>
                  </a:lnTo>
                  <a:lnTo>
                    <a:pt x="535" y="4"/>
                  </a:lnTo>
                  <a:lnTo>
                    <a:pt x="560" y="8"/>
                  </a:lnTo>
                  <a:lnTo>
                    <a:pt x="585" y="12"/>
                  </a:lnTo>
                  <a:lnTo>
                    <a:pt x="609" y="19"/>
                  </a:lnTo>
                  <a:lnTo>
                    <a:pt x="634" y="27"/>
                  </a:lnTo>
                  <a:lnTo>
                    <a:pt x="657" y="37"/>
                  </a:lnTo>
                  <a:lnTo>
                    <a:pt x="681" y="48"/>
                  </a:lnTo>
                  <a:lnTo>
                    <a:pt x="704" y="62"/>
                  </a:lnTo>
                  <a:lnTo>
                    <a:pt x="726" y="76"/>
                  </a:lnTo>
                  <a:lnTo>
                    <a:pt x="747" y="94"/>
                  </a:lnTo>
                  <a:lnTo>
                    <a:pt x="752" y="99"/>
                  </a:lnTo>
                  <a:lnTo>
                    <a:pt x="765" y="112"/>
                  </a:lnTo>
                  <a:lnTo>
                    <a:pt x="783" y="134"/>
                  </a:lnTo>
                  <a:lnTo>
                    <a:pt x="804" y="161"/>
                  </a:lnTo>
                  <a:lnTo>
                    <a:pt x="813" y="177"/>
                  </a:lnTo>
                  <a:lnTo>
                    <a:pt x="823" y="195"/>
                  </a:lnTo>
                  <a:lnTo>
                    <a:pt x="833" y="212"/>
                  </a:lnTo>
                  <a:lnTo>
                    <a:pt x="842" y="230"/>
                  </a:lnTo>
                  <a:lnTo>
                    <a:pt x="849" y="249"/>
                  </a:lnTo>
                  <a:lnTo>
                    <a:pt x="854" y="267"/>
                  </a:lnTo>
                  <a:lnTo>
                    <a:pt x="858" y="287"/>
                  </a:lnTo>
                  <a:lnTo>
                    <a:pt x="859" y="305"/>
                  </a:lnTo>
                  <a:lnTo>
                    <a:pt x="858" y="325"/>
                  </a:lnTo>
                  <a:lnTo>
                    <a:pt x="856" y="343"/>
                  </a:lnTo>
                  <a:lnTo>
                    <a:pt x="853" y="362"/>
                  </a:lnTo>
                  <a:lnTo>
                    <a:pt x="848" y="380"/>
                  </a:lnTo>
                  <a:lnTo>
                    <a:pt x="843" y="397"/>
                  </a:lnTo>
                  <a:lnTo>
                    <a:pt x="836" y="415"/>
                  </a:lnTo>
                  <a:lnTo>
                    <a:pt x="827" y="431"/>
                  </a:lnTo>
                  <a:lnTo>
                    <a:pt x="817" y="445"/>
                  </a:lnTo>
                  <a:lnTo>
                    <a:pt x="807" y="459"/>
                  </a:lnTo>
                  <a:lnTo>
                    <a:pt x="795" y="471"/>
                  </a:lnTo>
                  <a:lnTo>
                    <a:pt x="781" y="481"/>
                  </a:lnTo>
                  <a:lnTo>
                    <a:pt x="767" y="491"/>
                  </a:lnTo>
                  <a:lnTo>
                    <a:pt x="752" y="498"/>
                  </a:lnTo>
                  <a:lnTo>
                    <a:pt x="735" y="504"/>
                  </a:lnTo>
                  <a:lnTo>
                    <a:pt x="717" y="508"/>
                  </a:lnTo>
                  <a:lnTo>
                    <a:pt x="699" y="509"/>
                  </a:lnTo>
                  <a:lnTo>
                    <a:pt x="656" y="509"/>
                  </a:lnTo>
                  <a:lnTo>
                    <a:pt x="602" y="506"/>
                  </a:lnTo>
                  <a:lnTo>
                    <a:pt x="538" y="502"/>
                  </a:lnTo>
                  <a:lnTo>
                    <a:pt x="468" y="498"/>
                  </a:lnTo>
                  <a:lnTo>
                    <a:pt x="395" y="493"/>
                  </a:lnTo>
                  <a:lnTo>
                    <a:pt x="323" y="491"/>
                  </a:lnTo>
                  <a:lnTo>
                    <a:pt x="288" y="491"/>
                  </a:lnTo>
                  <a:lnTo>
                    <a:pt x="254" y="491"/>
                  </a:lnTo>
                  <a:lnTo>
                    <a:pt x="222" y="491"/>
                  </a:lnTo>
                  <a:lnTo>
                    <a:pt x="191" y="493"/>
                  </a:lnTo>
                  <a:lnTo>
                    <a:pt x="160" y="493"/>
                  </a:lnTo>
                  <a:lnTo>
                    <a:pt x="133" y="492"/>
                  </a:lnTo>
                  <a:lnTo>
                    <a:pt x="121" y="491"/>
                  </a:lnTo>
                  <a:lnTo>
                    <a:pt x="108" y="488"/>
                  </a:lnTo>
                  <a:lnTo>
                    <a:pt x="97" y="486"/>
                  </a:lnTo>
                  <a:lnTo>
                    <a:pt x="86" y="484"/>
                  </a:lnTo>
                  <a:lnTo>
                    <a:pt x="77" y="480"/>
                  </a:lnTo>
                  <a:lnTo>
                    <a:pt x="68" y="476"/>
                  </a:lnTo>
                  <a:lnTo>
                    <a:pt x="59" y="471"/>
                  </a:lnTo>
                  <a:lnTo>
                    <a:pt x="51" y="466"/>
                  </a:lnTo>
                  <a:lnTo>
                    <a:pt x="43" y="461"/>
                  </a:lnTo>
                  <a:lnTo>
                    <a:pt x="37" y="455"/>
                  </a:lnTo>
                  <a:lnTo>
                    <a:pt x="31" y="449"/>
                  </a:lnTo>
                  <a:lnTo>
                    <a:pt x="25" y="442"/>
                  </a:lnTo>
                  <a:lnTo>
                    <a:pt x="20" y="436"/>
                  </a:lnTo>
                  <a:lnTo>
                    <a:pt x="16" y="428"/>
                  </a:lnTo>
                  <a:lnTo>
                    <a:pt x="11" y="420"/>
                  </a:lnTo>
                  <a:lnTo>
                    <a:pt x="9" y="411"/>
                  </a:lnTo>
                  <a:lnTo>
                    <a:pt x="4" y="394"/>
                  </a:lnTo>
                  <a:lnTo>
                    <a:pt x="0" y="374"/>
                  </a:lnTo>
                  <a:lnTo>
                    <a:pt x="0" y="353"/>
                  </a:lnTo>
                  <a:lnTo>
                    <a:pt x="1" y="331"/>
                  </a:lnTo>
                  <a:lnTo>
                    <a:pt x="4" y="308"/>
                  </a:lnTo>
                  <a:lnTo>
                    <a:pt x="9" y="284"/>
                  </a:lnTo>
                  <a:close/>
                </a:path>
              </a:pathLst>
            </a:custGeom>
            <a:solidFill>
              <a:srgbClr val="7a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6678720" y="1878120"/>
              <a:ext cx="242640" cy="142920"/>
            </a:xfrm>
            <a:custGeom>
              <a:avLst/>
              <a:gdLst/>
              <a:ahLst/>
              <a:rect l="l" t="t" r="r" b="b"/>
              <a:pathLst>
                <a:path w="764" h="452">
                  <a:moveTo>
                    <a:pt x="8" y="246"/>
                  </a:moveTo>
                  <a:lnTo>
                    <a:pt x="13" y="225"/>
                  </a:lnTo>
                  <a:lnTo>
                    <a:pt x="19" y="206"/>
                  </a:lnTo>
                  <a:lnTo>
                    <a:pt x="27" y="188"/>
                  </a:lnTo>
                  <a:lnTo>
                    <a:pt x="35" y="172"/>
                  </a:lnTo>
                  <a:lnTo>
                    <a:pt x="44" y="157"/>
                  </a:lnTo>
                  <a:lnTo>
                    <a:pt x="52" y="143"/>
                  </a:lnTo>
                  <a:lnTo>
                    <a:pt x="62" y="131"/>
                  </a:lnTo>
                  <a:lnTo>
                    <a:pt x="71" y="120"/>
                  </a:lnTo>
                  <a:lnTo>
                    <a:pt x="91" y="100"/>
                  </a:lnTo>
                  <a:lnTo>
                    <a:pt x="109" y="84"/>
                  </a:lnTo>
                  <a:lnTo>
                    <a:pt x="126" y="71"/>
                  </a:lnTo>
                  <a:lnTo>
                    <a:pt x="141" y="59"/>
                  </a:lnTo>
                  <a:lnTo>
                    <a:pt x="155" y="52"/>
                  </a:lnTo>
                  <a:lnTo>
                    <a:pt x="194" y="38"/>
                  </a:lnTo>
                  <a:lnTo>
                    <a:pt x="221" y="29"/>
                  </a:lnTo>
                  <a:lnTo>
                    <a:pt x="253" y="20"/>
                  </a:lnTo>
                  <a:lnTo>
                    <a:pt x="287" y="13"/>
                  </a:lnTo>
                  <a:lnTo>
                    <a:pt x="326" y="6"/>
                  </a:lnTo>
                  <a:lnTo>
                    <a:pt x="345" y="3"/>
                  </a:lnTo>
                  <a:lnTo>
                    <a:pt x="366" y="1"/>
                  </a:lnTo>
                  <a:lnTo>
                    <a:pt x="387" y="0"/>
                  </a:lnTo>
                  <a:lnTo>
                    <a:pt x="408" y="0"/>
                  </a:lnTo>
                  <a:lnTo>
                    <a:pt x="430" y="0"/>
                  </a:lnTo>
                  <a:lnTo>
                    <a:pt x="451" y="1"/>
                  </a:lnTo>
                  <a:lnTo>
                    <a:pt x="473" y="3"/>
                  </a:lnTo>
                  <a:lnTo>
                    <a:pt x="495" y="6"/>
                  </a:lnTo>
                  <a:lnTo>
                    <a:pt x="516" y="11"/>
                  </a:lnTo>
                  <a:lnTo>
                    <a:pt x="538" y="17"/>
                  </a:lnTo>
                  <a:lnTo>
                    <a:pt x="559" y="24"/>
                  </a:lnTo>
                  <a:lnTo>
                    <a:pt x="580" y="33"/>
                  </a:lnTo>
                  <a:lnTo>
                    <a:pt x="601" y="43"/>
                  </a:lnTo>
                  <a:lnTo>
                    <a:pt x="621" y="54"/>
                  </a:lnTo>
                  <a:lnTo>
                    <a:pt x="640" y="68"/>
                  </a:lnTo>
                  <a:lnTo>
                    <a:pt x="660" y="83"/>
                  </a:lnTo>
                  <a:lnTo>
                    <a:pt x="664" y="87"/>
                  </a:lnTo>
                  <a:lnTo>
                    <a:pt x="676" y="99"/>
                  </a:lnTo>
                  <a:lnTo>
                    <a:pt x="692" y="118"/>
                  </a:lnTo>
                  <a:lnTo>
                    <a:pt x="712" y="142"/>
                  </a:lnTo>
                  <a:lnTo>
                    <a:pt x="720" y="156"/>
                  </a:lnTo>
                  <a:lnTo>
                    <a:pt x="730" y="171"/>
                  </a:lnTo>
                  <a:lnTo>
                    <a:pt x="739" y="185"/>
                  </a:lnTo>
                  <a:lnTo>
                    <a:pt x="746" y="201"/>
                  </a:lnTo>
                  <a:lnTo>
                    <a:pt x="754" y="217"/>
                  </a:lnTo>
                  <a:lnTo>
                    <a:pt x="759" y="234"/>
                  </a:lnTo>
                  <a:lnTo>
                    <a:pt x="762" y="250"/>
                  </a:lnTo>
                  <a:lnTo>
                    <a:pt x="764" y="268"/>
                  </a:lnTo>
                  <a:lnTo>
                    <a:pt x="762" y="285"/>
                  </a:lnTo>
                  <a:lnTo>
                    <a:pt x="760" y="301"/>
                  </a:lnTo>
                  <a:lnTo>
                    <a:pt x="756" y="317"/>
                  </a:lnTo>
                  <a:lnTo>
                    <a:pt x="750" y="332"/>
                  </a:lnTo>
                  <a:lnTo>
                    <a:pt x="744" y="348"/>
                  </a:lnTo>
                  <a:lnTo>
                    <a:pt x="735" y="361"/>
                  </a:lnTo>
                  <a:lnTo>
                    <a:pt x="727" y="375"/>
                  </a:lnTo>
                  <a:lnTo>
                    <a:pt x="716" y="387"/>
                  </a:lnTo>
                  <a:lnTo>
                    <a:pt x="704" y="399"/>
                  </a:lnTo>
                  <a:lnTo>
                    <a:pt x="691" y="410"/>
                  </a:lnTo>
                  <a:lnTo>
                    <a:pt x="677" y="420"/>
                  </a:lnTo>
                  <a:lnTo>
                    <a:pt x="663" y="429"/>
                  </a:lnTo>
                  <a:lnTo>
                    <a:pt x="648" y="436"/>
                  </a:lnTo>
                  <a:lnTo>
                    <a:pt x="632" y="442"/>
                  </a:lnTo>
                  <a:lnTo>
                    <a:pt x="615" y="446"/>
                  </a:lnTo>
                  <a:lnTo>
                    <a:pt x="597" y="450"/>
                  </a:lnTo>
                  <a:lnTo>
                    <a:pt x="561" y="452"/>
                  </a:lnTo>
                  <a:lnTo>
                    <a:pt x="514" y="451"/>
                  </a:lnTo>
                  <a:lnTo>
                    <a:pt x="460" y="448"/>
                  </a:lnTo>
                  <a:lnTo>
                    <a:pt x="402" y="446"/>
                  </a:lnTo>
                  <a:lnTo>
                    <a:pt x="342" y="442"/>
                  </a:lnTo>
                  <a:lnTo>
                    <a:pt x="280" y="439"/>
                  </a:lnTo>
                  <a:lnTo>
                    <a:pt x="222" y="435"/>
                  </a:lnTo>
                  <a:lnTo>
                    <a:pt x="168" y="434"/>
                  </a:lnTo>
                  <a:lnTo>
                    <a:pt x="141" y="433"/>
                  </a:lnTo>
                  <a:lnTo>
                    <a:pt x="116" y="430"/>
                  </a:lnTo>
                  <a:lnTo>
                    <a:pt x="94" y="425"/>
                  </a:lnTo>
                  <a:lnTo>
                    <a:pt x="75" y="420"/>
                  </a:lnTo>
                  <a:lnTo>
                    <a:pt x="57" y="413"/>
                  </a:lnTo>
                  <a:lnTo>
                    <a:pt x="43" y="404"/>
                  </a:lnTo>
                  <a:lnTo>
                    <a:pt x="36" y="399"/>
                  </a:lnTo>
                  <a:lnTo>
                    <a:pt x="30" y="394"/>
                  </a:lnTo>
                  <a:lnTo>
                    <a:pt x="25" y="389"/>
                  </a:lnTo>
                  <a:lnTo>
                    <a:pt x="20" y="383"/>
                  </a:lnTo>
                  <a:lnTo>
                    <a:pt x="12" y="371"/>
                  </a:lnTo>
                  <a:lnTo>
                    <a:pt x="7" y="357"/>
                  </a:lnTo>
                  <a:lnTo>
                    <a:pt x="2" y="341"/>
                  </a:lnTo>
                  <a:lnTo>
                    <a:pt x="0" y="325"/>
                  </a:lnTo>
                  <a:lnTo>
                    <a:pt x="0" y="307"/>
                  </a:lnTo>
                  <a:lnTo>
                    <a:pt x="1" y="289"/>
                  </a:lnTo>
                  <a:lnTo>
                    <a:pt x="3" y="268"/>
                  </a:lnTo>
                  <a:lnTo>
                    <a:pt x="8" y="246"/>
                  </a:lnTo>
                  <a:close/>
                </a:path>
              </a:pathLst>
            </a:custGeom>
            <a:solidFill>
              <a:srgbClr val="7d6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6702480" y="1884600"/>
              <a:ext cx="210960" cy="126720"/>
            </a:xfrm>
            <a:custGeom>
              <a:avLst/>
              <a:gdLst/>
              <a:ahLst/>
              <a:rect l="l" t="t" r="r" b="b"/>
              <a:pathLst>
                <a:path w="665" h="398">
                  <a:moveTo>
                    <a:pt x="122" y="50"/>
                  </a:moveTo>
                  <a:lnTo>
                    <a:pt x="134" y="45"/>
                  </a:lnTo>
                  <a:lnTo>
                    <a:pt x="168" y="33"/>
                  </a:lnTo>
                  <a:lnTo>
                    <a:pt x="192" y="26"/>
                  </a:lnTo>
                  <a:lnTo>
                    <a:pt x="219" y="18"/>
                  </a:lnTo>
                  <a:lnTo>
                    <a:pt x="250" y="11"/>
                  </a:lnTo>
                  <a:lnTo>
                    <a:pt x="283" y="6"/>
                  </a:lnTo>
                  <a:lnTo>
                    <a:pt x="300" y="3"/>
                  </a:lnTo>
                  <a:lnTo>
                    <a:pt x="318" y="2"/>
                  </a:lnTo>
                  <a:lnTo>
                    <a:pt x="337" y="1"/>
                  </a:lnTo>
                  <a:lnTo>
                    <a:pt x="355" y="0"/>
                  </a:lnTo>
                  <a:lnTo>
                    <a:pt x="374" y="1"/>
                  </a:lnTo>
                  <a:lnTo>
                    <a:pt x="392" y="2"/>
                  </a:lnTo>
                  <a:lnTo>
                    <a:pt x="411" y="3"/>
                  </a:lnTo>
                  <a:lnTo>
                    <a:pt x="430" y="7"/>
                  </a:lnTo>
                  <a:lnTo>
                    <a:pt x="449" y="11"/>
                  </a:lnTo>
                  <a:lnTo>
                    <a:pt x="467" y="16"/>
                  </a:lnTo>
                  <a:lnTo>
                    <a:pt x="486" y="22"/>
                  </a:lnTo>
                  <a:lnTo>
                    <a:pt x="504" y="30"/>
                  </a:lnTo>
                  <a:lnTo>
                    <a:pt x="523" y="39"/>
                  </a:lnTo>
                  <a:lnTo>
                    <a:pt x="540" y="49"/>
                  </a:lnTo>
                  <a:lnTo>
                    <a:pt x="556" y="61"/>
                  </a:lnTo>
                  <a:lnTo>
                    <a:pt x="573" y="75"/>
                  </a:lnTo>
                  <a:lnTo>
                    <a:pt x="577" y="78"/>
                  </a:lnTo>
                  <a:lnTo>
                    <a:pt x="588" y="88"/>
                  </a:lnTo>
                  <a:lnTo>
                    <a:pt x="603" y="104"/>
                  </a:lnTo>
                  <a:lnTo>
                    <a:pt x="619" y="124"/>
                  </a:lnTo>
                  <a:lnTo>
                    <a:pt x="627" y="135"/>
                  </a:lnTo>
                  <a:lnTo>
                    <a:pt x="636" y="147"/>
                  </a:lnTo>
                  <a:lnTo>
                    <a:pt x="643" y="161"/>
                  </a:lnTo>
                  <a:lnTo>
                    <a:pt x="651" y="174"/>
                  </a:lnTo>
                  <a:lnTo>
                    <a:pt x="657" y="189"/>
                  </a:lnTo>
                  <a:lnTo>
                    <a:pt x="662" y="203"/>
                  </a:lnTo>
                  <a:lnTo>
                    <a:pt x="664" y="217"/>
                  </a:lnTo>
                  <a:lnTo>
                    <a:pt x="665" y="232"/>
                  </a:lnTo>
                  <a:lnTo>
                    <a:pt x="664" y="247"/>
                  </a:lnTo>
                  <a:lnTo>
                    <a:pt x="662" y="260"/>
                  </a:lnTo>
                  <a:lnTo>
                    <a:pt x="657" y="274"/>
                  </a:lnTo>
                  <a:lnTo>
                    <a:pt x="651" y="288"/>
                  </a:lnTo>
                  <a:lnTo>
                    <a:pt x="643" y="300"/>
                  </a:lnTo>
                  <a:lnTo>
                    <a:pt x="635" y="311"/>
                  </a:lnTo>
                  <a:lnTo>
                    <a:pt x="625" y="322"/>
                  </a:lnTo>
                  <a:lnTo>
                    <a:pt x="614" y="333"/>
                  </a:lnTo>
                  <a:lnTo>
                    <a:pt x="601" y="342"/>
                  </a:lnTo>
                  <a:lnTo>
                    <a:pt x="589" y="351"/>
                  </a:lnTo>
                  <a:lnTo>
                    <a:pt x="576" y="360"/>
                  </a:lnTo>
                  <a:lnTo>
                    <a:pt x="561" y="367"/>
                  </a:lnTo>
                  <a:lnTo>
                    <a:pt x="546" y="374"/>
                  </a:lnTo>
                  <a:lnTo>
                    <a:pt x="531" y="380"/>
                  </a:lnTo>
                  <a:lnTo>
                    <a:pt x="515" y="386"/>
                  </a:lnTo>
                  <a:lnTo>
                    <a:pt x="499" y="390"/>
                  </a:lnTo>
                  <a:lnTo>
                    <a:pt x="485" y="393"/>
                  </a:lnTo>
                  <a:lnTo>
                    <a:pt x="469" y="396"/>
                  </a:lnTo>
                  <a:lnTo>
                    <a:pt x="450" y="397"/>
                  </a:lnTo>
                  <a:lnTo>
                    <a:pt x="429" y="398"/>
                  </a:lnTo>
                  <a:lnTo>
                    <a:pt x="386" y="398"/>
                  </a:lnTo>
                  <a:lnTo>
                    <a:pt x="339" y="396"/>
                  </a:lnTo>
                  <a:lnTo>
                    <a:pt x="290" y="393"/>
                  </a:lnTo>
                  <a:lnTo>
                    <a:pt x="241" y="388"/>
                  </a:lnTo>
                  <a:lnTo>
                    <a:pt x="192" y="382"/>
                  </a:lnTo>
                  <a:lnTo>
                    <a:pt x="146" y="376"/>
                  </a:lnTo>
                  <a:lnTo>
                    <a:pt x="123" y="372"/>
                  </a:lnTo>
                  <a:lnTo>
                    <a:pt x="101" y="369"/>
                  </a:lnTo>
                  <a:lnTo>
                    <a:pt x="82" y="364"/>
                  </a:lnTo>
                  <a:lnTo>
                    <a:pt x="65" y="359"/>
                  </a:lnTo>
                  <a:lnTo>
                    <a:pt x="50" y="351"/>
                  </a:lnTo>
                  <a:lnTo>
                    <a:pt x="38" y="345"/>
                  </a:lnTo>
                  <a:lnTo>
                    <a:pt x="27" y="337"/>
                  </a:lnTo>
                  <a:lnTo>
                    <a:pt x="18" y="327"/>
                  </a:lnTo>
                  <a:lnTo>
                    <a:pt x="11" y="317"/>
                  </a:lnTo>
                  <a:lnTo>
                    <a:pt x="6" y="306"/>
                  </a:lnTo>
                  <a:lnTo>
                    <a:pt x="2" y="294"/>
                  </a:lnTo>
                  <a:lnTo>
                    <a:pt x="0" y="280"/>
                  </a:lnTo>
                  <a:lnTo>
                    <a:pt x="0" y="265"/>
                  </a:lnTo>
                  <a:lnTo>
                    <a:pt x="1" y="249"/>
                  </a:lnTo>
                  <a:lnTo>
                    <a:pt x="3" y="232"/>
                  </a:lnTo>
                  <a:lnTo>
                    <a:pt x="7" y="214"/>
                  </a:lnTo>
                  <a:lnTo>
                    <a:pt x="12" y="195"/>
                  </a:lnTo>
                  <a:lnTo>
                    <a:pt x="18" y="178"/>
                  </a:lnTo>
                  <a:lnTo>
                    <a:pt x="24" y="162"/>
                  </a:lnTo>
                  <a:lnTo>
                    <a:pt x="32" y="147"/>
                  </a:lnTo>
                  <a:lnTo>
                    <a:pt x="39" y="135"/>
                  </a:lnTo>
                  <a:lnTo>
                    <a:pt x="47" y="123"/>
                  </a:lnTo>
                  <a:lnTo>
                    <a:pt x="55" y="112"/>
                  </a:lnTo>
                  <a:lnTo>
                    <a:pt x="63" y="102"/>
                  </a:lnTo>
                  <a:lnTo>
                    <a:pt x="79" y="86"/>
                  </a:lnTo>
                  <a:lnTo>
                    <a:pt x="95" y="71"/>
                  </a:lnTo>
                  <a:lnTo>
                    <a:pt x="109" y="60"/>
                  </a:lnTo>
                  <a:lnTo>
                    <a:pt x="122" y="50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6696000" y="2679840"/>
              <a:ext cx="162000" cy="55440"/>
            </a:xfrm>
            <a:custGeom>
              <a:avLst/>
              <a:gdLst/>
              <a:ahLst/>
              <a:rect l="l" t="t" r="r" b="b"/>
              <a:pathLst>
                <a:path w="511" h="174">
                  <a:moveTo>
                    <a:pt x="301" y="174"/>
                  </a:moveTo>
                  <a:lnTo>
                    <a:pt x="291" y="173"/>
                  </a:lnTo>
                  <a:lnTo>
                    <a:pt x="264" y="172"/>
                  </a:lnTo>
                  <a:lnTo>
                    <a:pt x="224" y="169"/>
                  </a:lnTo>
                  <a:lnTo>
                    <a:pt x="177" y="165"/>
                  </a:lnTo>
                  <a:lnTo>
                    <a:pt x="152" y="161"/>
                  </a:lnTo>
                  <a:lnTo>
                    <a:pt x="128" y="156"/>
                  </a:lnTo>
                  <a:lnTo>
                    <a:pt x="103" y="151"/>
                  </a:lnTo>
                  <a:lnTo>
                    <a:pt x="80" y="144"/>
                  </a:lnTo>
                  <a:lnTo>
                    <a:pt x="59" y="136"/>
                  </a:lnTo>
                  <a:lnTo>
                    <a:pt x="40" y="128"/>
                  </a:lnTo>
                  <a:lnTo>
                    <a:pt x="33" y="123"/>
                  </a:lnTo>
                  <a:lnTo>
                    <a:pt x="25" y="118"/>
                  </a:lnTo>
                  <a:lnTo>
                    <a:pt x="19" y="112"/>
                  </a:lnTo>
                  <a:lnTo>
                    <a:pt x="13" y="106"/>
                  </a:lnTo>
                  <a:lnTo>
                    <a:pt x="8" y="101"/>
                  </a:lnTo>
                  <a:lnTo>
                    <a:pt x="5" y="94"/>
                  </a:lnTo>
                  <a:lnTo>
                    <a:pt x="2" y="88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2" y="62"/>
                  </a:lnTo>
                  <a:lnTo>
                    <a:pt x="3" y="58"/>
                  </a:lnTo>
                  <a:lnTo>
                    <a:pt x="7" y="53"/>
                  </a:lnTo>
                  <a:lnTo>
                    <a:pt x="11" y="48"/>
                  </a:lnTo>
                  <a:lnTo>
                    <a:pt x="14" y="44"/>
                  </a:lnTo>
                  <a:lnTo>
                    <a:pt x="25" y="35"/>
                  </a:lnTo>
                  <a:lnTo>
                    <a:pt x="39" y="29"/>
                  </a:lnTo>
                  <a:lnTo>
                    <a:pt x="54" y="22"/>
                  </a:lnTo>
                  <a:lnTo>
                    <a:pt x="72" y="17"/>
                  </a:lnTo>
                  <a:lnTo>
                    <a:pt x="91" y="12"/>
                  </a:lnTo>
                  <a:lnTo>
                    <a:pt x="113" y="7"/>
                  </a:lnTo>
                  <a:lnTo>
                    <a:pt x="135" y="5"/>
                  </a:lnTo>
                  <a:lnTo>
                    <a:pt x="158" y="2"/>
                  </a:lnTo>
                  <a:lnTo>
                    <a:pt x="183" y="1"/>
                  </a:lnTo>
                  <a:lnTo>
                    <a:pt x="209" y="0"/>
                  </a:lnTo>
                  <a:lnTo>
                    <a:pt x="260" y="1"/>
                  </a:lnTo>
                  <a:lnTo>
                    <a:pt x="308" y="5"/>
                  </a:lnTo>
                  <a:lnTo>
                    <a:pt x="354" y="11"/>
                  </a:lnTo>
                  <a:lnTo>
                    <a:pt x="396" y="18"/>
                  </a:lnTo>
                  <a:lnTo>
                    <a:pt x="414" y="22"/>
                  </a:lnTo>
                  <a:lnTo>
                    <a:pt x="431" y="27"/>
                  </a:lnTo>
                  <a:lnTo>
                    <a:pt x="447" y="32"/>
                  </a:lnTo>
                  <a:lnTo>
                    <a:pt x="462" y="37"/>
                  </a:lnTo>
                  <a:lnTo>
                    <a:pt x="475" y="43"/>
                  </a:lnTo>
                  <a:lnTo>
                    <a:pt x="486" y="48"/>
                  </a:lnTo>
                  <a:lnTo>
                    <a:pt x="495" y="54"/>
                  </a:lnTo>
                  <a:lnTo>
                    <a:pt x="503" y="60"/>
                  </a:lnTo>
                  <a:lnTo>
                    <a:pt x="508" y="66"/>
                  </a:lnTo>
                  <a:lnTo>
                    <a:pt x="510" y="74"/>
                  </a:lnTo>
                  <a:lnTo>
                    <a:pt x="511" y="82"/>
                  </a:lnTo>
                  <a:lnTo>
                    <a:pt x="510" y="91"/>
                  </a:lnTo>
                  <a:lnTo>
                    <a:pt x="507" y="99"/>
                  </a:lnTo>
                  <a:lnTo>
                    <a:pt x="500" y="108"/>
                  </a:lnTo>
                  <a:lnTo>
                    <a:pt x="492" y="118"/>
                  </a:lnTo>
                  <a:lnTo>
                    <a:pt x="482" y="126"/>
                  </a:lnTo>
                  <a:lnTo>
                    <a:pt x="468" y="135"/>
                  </a:lnTo>
                  <a:lnTo>
                    <a:pt x="452" y="142"/>
                  </a:lnTo>
                  <a:lnTo>
                    <a:pt x="434" y="151"/>
                  </a:lnTo>
                  <a:lnTo>
                    <a:pt x="413" y="157"/>
                  </a:lnTo>
                  <a:lnTo>
                    <a:pt x="390" y="163"/>
                  </a:lnTo>
                  <a:lnTo>
                    <a:pt x="363" y="168"/>
                  </a:lnTo>
                  <a:lnTo>
                    <a:pt x="333" y="172"/>
                  </a:lnTo>
                  <a:lnTo>
                    <a:pt x="301" y="174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6715080" y="2683080"/>
              <a:ext cx="131760" cy="46080"/>
            </a:xfrm>
            <a:custGeom>
              <a:avLst/>
              <a:gdLst/>
              <a:ahLst/>
              <a:rect l="l" t="t" r="r" b="b"/>
              <a:pathLst>
                <a:path w="417" h="144">
                  <a:moveTo>
                    <a:pt x="410" y="49"/>
                  </a:moveTo>
                  <a:lnTo>
                    <a:pt x="415" y="54"/>
                  </a:lnTo>
                  <a:lnTo>
                    <a:pt x="417" y="60"/>
                  </a:lnTo>
                  <a:lnTo>
                    <a:pt x="417" y="67"/>
                  </a:lnTo>
                  <a:lnTo>
                    <a:pt x="417" y="74"/>
                  </a:lnTo>
                  <a:lnTo>
                    <a:pt x="413" y="81"/>
                  </a:lnTo>
                  <a:lnTo>
                    <a:pt x="408" y="88"/>
                  </a:lnTo>
                  <a:lnTo>
                    <a:pt x="402" y="96"/>
                  </a:lnTo>
                  <a:lnTo>
                    <a:pt x="394" y="103"/>
                  </a:lnTo>
                  <a:lnTo>
                    <a:pt x="383" y="111"/>
                  </a:lnTo>
                  <a:lnTo>
                    <a:pt x="370" y="118"/>
                  </a:lnTo>
                  <a:lnTo>
                    <a:pt x="355" y="124"/>
                  </a:lnTo>
                  <a:lnTo>
                    <a:pt x="338" y="129"/>
                  </a:lnTo>
                  <a:lnTo>
                    <a:pt x="319" y="135"/>
                  </a:lnTo>
                  <a:lnTo>
                    <a:pt x="298" y="139"/>
                  </a:lnTo>
                  <a:lnTo>
                    <a:pt x="273" y="141"/>
                  </a:lnTo>
                  <a:lnTo>
                    <a:pt x="247" y="144"/>
                  </a:lnTo>
                  <a:lnTo>
                    <a:pt x="239" y="144"/>
                  </a:lnTo>
                  <a:lnTo>
                    <a:pt x="216" y="142"/>
                  </a:lnTo>
                  <a:lnTo>
                    <a:pt x="183" y="140"/>
                  </a:lnTo>
                  <a:lnTo>
                    <a:pt x="145" y="136"/>
                  </a:lnTo>
                  <a:lnTo>
                    <a:pt x="124" y="133"/>
                  </a:lnTo>
                  <a:lnTo>
                    <a:pt x="104" y="129"/>
                  </a:lnTo>
                  <a:lnTo>
                    <a:pt x="85" y="124"/>
                  </a:lnTo>
                  <a:lnTo>
                    <a:pt x="65" y="119"/>
                  </a:lnTo>
                  <a:lnTo>
                    <a:pt x="48" y="113"/>
                  </a:lnTo>
                  <a:lnTo>
                    <a:pt x="33" y="106"/>
                  </a:lnTo>
                  <a:lnTo>
                    <a:pt x="26" y="101"/>
                  </a:lnTo>
                  <a:lnTo>
                    <a:pt x="21" y="97"/>
                  </a:lnTo>
                  <a:lnTo>
                    <a:pt x="15" y="92"/>
                  </a:lnTo>
                  <a:lnTo>
                    <a:pt x="11" y="87"/>
                  </a:lnTo>
                  <a:lnTo>
                    <a:pt x="4" y="77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1" y="50"/>
                  </a:lnTo>
                  <a:lnTo>
                    <a:pt x="6" y="43"/>
                  </a:lnTo>
                  <a:lnTo>
                    <a:pt x="12" y="35"/>
                  </a:lnTo>
                  <a:lnTo>
                    <a:pt x="22" y="29"/>
                  </a:lnTo>
                  <a:lnTo>
                    <a:pt x="33" y="23"/>
                  </a:lnTo>
                  <a:lnTo>
                    <a:pt x="45" y="18"/>
                  </a:lnTo>
                  <a:lnTo>
                    <a:pt x="60" y="13"/>
                  </a:lnTo>
                  <a:lnTo>
                    <a:pt x="75" y="10"/>
                  </a:lnTo>
                  <a:lnTo>
                    <a:pt x="92" y="6"/>
                  </a:lnTo>
                  <a:lnTo>
                    <a:pt x="111" y="3"/>
                  </a:lnTo>
                  <a:lnTo>
                    <a:pt x="130" y="1"/>
                  </a:lnTo>
                  <a:lnTo>
                    <a:pt x="150" y="0"/>
                  </a:lnTo>
                  <a:lnTo>
                    <a:pt x="171" y="0"/>
                  </a:lnTo>
                  <a:lnTo>
                    <a:pt x="213" y="1"/>
                  </a:lnTo>
                  <a:lnTo>
                    <a:pt x="253" y="3"/>
                  </a:lnTo>
                  <a:lnTo>
                    <a:pt x="290" y="8"/>
                  </a:lnTo>
                  <a:lnTo>
                    <a:pt x="323" y="15"/>
                  </a:lnTo>
                  <a:lnTo>
                    <a:pt x="353" y="22"/>
                  </a:lnTo>
                  <a:lnTo>
                    <a:pt x="378" y="29"/>
                  </a:lnTo>
                  <a:lnTo>
                    <a:pt x="389" y="34"/>
                  </a:lnTo>
                  <a:lnTo>
                    <a:pt x="397" y="39"/>
                  </a:lnTo>
                  <a:lnTo>
                    <a:pt x="405" y="44"/>
                  </a:lnTo>
                  <a:lnTo>
                    <a:pt x="410" y="49"/>
                  </a:lnTo>
                  <a:close/>
                </a:path>
              </a:pathLst>
            </a:custGeom>
            <a:solidFill>
              <a:srgbClr val="6d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6734160" y="2686320"/>
              <a:ext cx="103320" cy="36360"/>
            </a:xfrm>
            <a:custGeom>
              <a:avLst/>
              <a:gdLst/>
              <a:ahLst/>
              <a:rect l="l" t="t" r="r" b="b"/>
              <a:pathLst>
                <a:path w="326" h="112">
                  <a:moveTo>
                    <a:pt x="322" y="38"/>
                  </a:moveTo>
                  <a:lnTo>
                    <a:pt x="325" y="42"/>
                  </a:lnTo>
                  <a:lnTo>
                    <a:pt x="326" y="47"/>
                  </a:lnTo>
                  <a:lnTo>
                    <a:pt x="326" y="53"/>
                  </a:lnTo>
                  <a:lnTo>
                    <a:pt x="325" y="58"/>
                  </a:lnTo>
                  <a:lnTo>
                    <a:pt x="323" y="64"/>
                  </a:lnTo>
                  <a:lnTo>
                    <a:pt x="319" y="69"/>
                  </a:lnTo>
                  <a:lnTo>
                    <a:pt x="314" y="75"/>
                  </a:lnTo>
                  <a:lnTo>
                    <a:pt x="308" y="81"/>
                  </a:lnTo>
                  <a:lnTo>
                    <a:pt x="299" y="86"/>
                  </a:lnTo>
                  <a:lnTo>
                    <a:pt x="288" y="91"/>
                  </a:lnTo>
                  <a:lnTo>
                    <a:pt x="277" y="96"/>
                  </a:lnTo>
                  <a:lnTo>
                    <a:pt x="264" y="101"/>
                  </a:lnTo>
                  <a:lnTo>
                    <a:pt x="248" y="104"/>
                  </a:lnTo>
                  <a:lnTo>
                    <a:pt x="232" y="107"/>
                  </a:lnTo>
                  <a:lnTo>
                    <a:pt x="212" y="109"/>
                  </a:lnTo>
                  <a:lnTo>
                    <a:pt x="191" y="112"/>
                  </a:lnTo>
                  <a:lnTo>
                    <a:pt x="185" y="111"/>
                  </a:lnTo>
                  <a:lnTo>
                    <a:pt x="168" y="111"/>
                  </a:lnTo>
                  <a:lnTo>
                    <a:pt x="142" y="108"/>
                  </a:lnTo>
                  <a:lnTo>
                    <a:pt x="112" y="104"/>
                  </a:lnTo>
                  <a:lnTo>
                    <a:pt x="96" y="102"/>
                  </a:lnTo>
                  <a:lnTo>
                    <a:pt x="82" y="100"/>
                  </a:lnTo>
                  <a:lnTo>
                    <a:pt x="66" y="96"/>
                  </a:lnTo>
                  <a:lnTo>
                    <a:pt x="51" y="92"/>
                  </a:lnTo>
                  <a:lnTo>
                    <a:pt x="39" y="87"/>
                  </a:lnTo>
                  <a:lnTo>
                    <a:pt x="26" y="81"/>
                  </a:lnTo>
                  <a:lnTo>
                    <a:pt x="16" y="75"/>
                  </a:lnTo>
                  <a:lnTo>
                    <a:pt x="9" y="68"/>
                  </a:lnTo>
                  <a:lnTo>
                    <a:pt x="4" y="60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2" y="39"/>
                  </a:lnTo>
                  <a:lnTo>
                    <a:pt x="4" y="33"/>
                  </a:lnTo>
                  <a:lnTo>
                    <a:pt x="9" y="27"/>
                  </a:lnTo>
                  <a:lnTo>
                    <a:pt x="16" y="22"/>
                  </a:lnTo>
                  <a:lnTo>
                    <a:pt x="25" y="17"/>
                  </a:lnTo>
                  <a:lnTo>
                    <a:pt x="35" y="13"/>
                  </a:lnTo>
                  <a:lnTo>
                    <a:pt x="46" y="10"/>
                  </a:lnTo>
                  <a:lnTo>
                    <a:pt x="58" y="7"/>
                  </a:lnTo>
                  <a:lnTo>
                    <a:pt x="72" y="5"/>
                  </a:lnTo>
                  <a:lnTo>
                    <a:pt x="101" y="1"/>
                  </a:lnTo>
                  <a:lnTo>
                    <a:pt x="135" y="0"/>
                  </a:lnTo>
                  <a:lnTo>
                    <a:pt x="167" y="1"/>
                  </a:lnTo>
                  <a:lnTo>
                    <a:pt x="197" y="2"/>
                  </a:lnTo>
                  <a:lnTo>
                    <a:pt x="226" y="6"/>
                  </a:lnTo>
                  <a:lnTo>
                    <a:pt x="253" y="11"/>
                  </a:lnTo>
                  <a:lnTo>
                    <a:pt x="276" y="16"/>
                  </a:lnTo>
                  <a:lnTo>
                    <a:pt x="296" y="23"/>
                  </a:lnTo>
                  <a:lnTo>
                    <a:pt x="304" y="27"/>
                  </a:lnTo>
                  <a:lnTo>
                    <a:pt x="310" y="31"/>
                  </a:lnTo>
                  <a:lnTo>
                    <a:pt x="317" y="34"/>
                  </a:lnTo>
                  <a:lnTo>
                    <a:pt x="322" y="38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6753240" y="2691000"/>
              <a:ext cx="74520" cy="23760"/>
            </a:xfrm>
            <a:custGeom>
              <a:avLst/>
              <a:gdLst/>
              <a:ahLst/>
              <a:rect l="l" t="t" r="r" b="b"/>
              <a:pathLst>
                <a:path w="232" h="79">
                  <a:moveTo>
                    <a:pt x="229" y="27"/>
                  </a:moveTo>
                  <a:lnTo>
                    <a:pt x="231" y="29"/>
                  </a:lnTo>
                  <a:lnTo>
                    <a:pt x="232" y="33"/>
                  </a:lnTo>
                  <a:lnTo>
                    <a:pt x="232" y="37"/>
                  </a:lnTo>
                  <a:lnTo>
                    <a:pt x="232" y="41"/>
                  </a:lnTo>
                  <a:lnTo>
                    <a:pt x="231" y="44"/>
                  </a:lnTo>
                  <a:lnTo>
                    <a:pt x="229" y="48"/>
                  </a:lnTo>
                  <a:lnTo>
                    <a:pt x="225" y="53"/>
                  </a:lnTo>
                  <a:lnTo>
                    <a:pt x="220" y="57"/>
                  </a:lnTo>
                  <a:lnTo>
                    <a:pt x="214" y="60"/>
                  </a:lnTo>
                  <a:lnTo>
                    <a:pt x="206" y="65"/>
                  </a:lnTo>
                  <a:lnTo>
                    <a:pt x="198" y="68"/>
                  </a:lnTo>
                  <a:lnTo>
                    <a:pt x="188" y="71"/>
                  </a:lnTo>
                  <a:lnTo>
                    <a:pt x="177" y="74"/>
                  </a:lnTo>
                  <a:lnTo>
                    <a:pt x="165" y="76"/>
                  </a:lnTo>
                  <a:lnTo>
                    <a:pt x="151" y="77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19" y="77"/>
                  </a:lnTo>
                  <a:lnTo>
                    <a:pt x="101" y="77"/>
                  </a:lnTo>
                  <a:lnTo>
                    <a:pt x="80" y="75"/>
                  </a:lnTo>
                  <a:lnTo>
                    <a:pt x="58" y="71"/>
                  </a:lnTo>
                  <a:lnTo>
                    <a:pt x="35" y="66"/>
                  </a:lnTo>
                  <a:lnTo>
                    <a:pt x="27" y="63"/>
                  </a:lnTo>
                  <a:lnTo>
                    <a:pt x="18" y="59"/>
                  </a:lnTo>
                  <a:lnTo>
                    <a:pt x="11" y="54"/>
                  </a:lnTo>
                  <a:lnTo>
                    <a:pt x="6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6" y="20"/>
                  </a:lnTo>
                  <a:lnTo>
                    <a:pt x="11" y="16"/>
                  </a:lnTo>
                  <a:lnTo>
                    <a:pt x="17" y="13"/>
                  </a:lnTo>
                  <a:lnTo>
                    <a:pt x="33" y="7"/>
                  </a:lnTo>
                  <a:lnTo>
                    <a:pt x="51" y="4"/>
                  </a:lnTo>
                  <a:lnTo>
                    <a:pt x="72" y="1"/>
                  </a:lnTo>
                  <a:lnTo>
                    <a:pt x="94" y="0"/>
                  </a:lnTo>
                  <a:lnTo>
                    <a:pt x="118" y="0"/>
                  </a:lnTo>
                  <a:lnTo>
                    <a:pt x="140" y="1"/>
                  </a:lnTo>
                  <a:lnTo>
                    <a:pt x="161" y="4"/>
                  </a:lnTo>
                  <a:lnTo>
                    <a:pt x="179" y="7"/>
                  </a:lnTo>
                  <a:lnTo>
                    <a:pt x="197" y="11"/>
                  </a:lnTo>
                  <a:lnTo>
                    <a:pt x="210" y="16"/>
                  </a:lnTo>
                  <a:lnTo>
                    <a:pt x="221" y="21"/>
                  </a:lnTo>
                  <a:lnTo>
                    <a:pt x="229" y="27"/>
                  </a:lnTo>
                  <a:close/>
                </a:path>
              </a:pathLst>
            </a:custGeom>
            <a:solidFill>
              <a:srgbClr val="7a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6772320" y="2694240"/>
              <a:ext cx="44280" cy="14040"/>
            </a:xfrm>
            <a:custGeom>
              <a:avLst/>
              <a:gdLst/>
              <a:ahLst/>
              <a:rect l="l" t="t" r="r" b="b"/>
              <a:pathLst>
                <a:path w="140" h="48">
                  <a:moveTo>
                    <a:pt x="84" y="48"/>
                  </a:moveTo>
                  <a:lnTo>
                    <a:pt x="81" y="48"/>
                  </a:lnTo>
                  <a:lnTo>
                    <a:pt x="74" y="48"/>
                  </a:lnTo>
                  <a:lnTo>
                    <a:pt x="63" y="47"/>
                  </a:lnTo>
                  <a:lnTo>
                    <a:pt x="49" y="46"/>
                  </a:lnTo>
                  <a:lnTo>
                    <a:pt x="36" y="43"/>
                  </a:lnTo>
                  <a:lnTo>
                    <a:pt x="23" y="39"/>
                  </a:lnTo>
                  <a:lnTo>
                    <a:pt x="17" y="37"/>
                  </a:lnTo>
                  <a:lnTo>
                    <a:pt x="12" y="34"/>
                  </a:lnTo>
                  <a:lnTo>
                    <a:pt x="9" y="32"/>
                  </a:lnTo>
                  <a:lnTo>
                    <a:pt x="5" y="30"/>
                  </a:lnTo>
                  <a:lnTo>
                    <a:pt x="2" y="26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10"/>
                  </a:lnTo>
                  <a:lnTo>
                    <a:pt x="11" y="7"/>
                  </a:lnTo>
                  <a:lnTo>
                    <a:pt x="20" y="4"/>
                  </a:lnTo>
                  <a:lnTo>
                    <a:pt x="31" y="1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71" y="0"/>
                  </a:lnTo>
                  <a:lnTo>
                    <a:pt x="85" y="1"/>
                  </a:lnTo>
                  <a:lnTo>
                    <a:pt x="97" y="2"/>
                  </a:lnTo>
                  <a:lnTo>
                    <a:pt x="108" y="5"/>
                  </a:lnTo>
                  <a:lnTo>
                    <a:pt x="119" y="7"/>
                  </a:lnTo>
                  <a:lnTo>
                    <a:pt x="128" y="10"/>
                  </a:lnTo>
                  <a:lnTo>
                    <a:pt x="134" y="12"/>
                  </a:lnTo>
                  <a:lnTo>
                    <a:pt x="138" y="16"/>
                  </a:lnTo>
                  <a:lnTo>
                    <a:pt x="140" y="20"/>
                  </a:lnTo>
                  <a:lnTo>
                    <a:pt x="140" y="25"/>
                  </a:lnTo>
                  <a:lnTo>
                    <a:pt x="138" y="30"/>
                  </a:lnTo>
                  <a:lnTo>
                    <a:pt x="133" y="34"/>
                  </a:lnTo>
                  <a:lnTo>
                    <a:pt x="124" y="39"/>
                  </a:lnTo>
                  <a:lnTo>
                    <a:pt x="114" y="43"/>
                  </a:lnTo>
                  <a:lnTo>
                    <a:pt x="101" y="47"/>
                  </a:lnTo>
                  <a:lnTo>
                    <a:pt x="84" y="48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6715080" y="2432160"/>
              <a:ext cx="49320" cy="17280"/>
            </a:xfrm>
            <a:custGeom>
              <a:avLst/>
              <a:gdLst/>
              <a:ahLst/>
              <a:rect l="l" t="t" r="r" b="b"/>
              <a:pathLst>
                <a:path w="158" h="55">
                  <a:moveTo>
                    <a:pt x="80" y="42"/>
                  </a:moveTo>
                  <a:lnTo>
                    <a:pt x="70" y="42"/>
                  </a:lnTo>
                  <a:lnTo>
                    <a:pt x="62" y="42"/>
                  </a:lnTo>
                  <a:lnTo>
                    <a:pt x="56" y="42"/>
                  </a:lnTo>
                  <a:lnTo>
                    <a:pt x="51" y="42"/>
                  </a:lnTo>
                  <a:lnTo>
                    <a:pt x="46" y="42"/>
                  </a:lnTo>
                  <a:lnTo>
                    <a:pt x="42" y="42"/>
                  </a:lnTo>
                  <a:lnTo>
                    <a:pt x="37" y="41"/>
                  </a:lnTo>
                  <a:lnTo>
                    <a:pt x="30" y="38"/>
                  </a:lnTo>
                  <a:lnTo>
                    <a:pt x="29" y="38"/>
                  </a:lnTo>
                  <a:lnTo>
                    <a:pt x="24" y="37"/>
                  </a:lnTo>
                  <a:lnTo>
                    <a:pt x="18" y="36"/>
                  </a:lnTo>
                  <a:lnTo>
                    <a:pt x="11" y="32"/>
                  </a:lnTo>
                  <a:lnTo>
                    <a:pt x="5" y="29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5"/>
                  </a:lnTo>
                  <a:lnTo>
                    <a:pt x="39" y="1"/>
                  </a:lnTo>
                  <a:lnTo>
                    <a:pt x="58" y="0"/>
                  </a:lnTo>
                  <a:lnTo>
                    <a:pt x="76" y="1"/>
                  </a:lnTo>
                  <a:lnTo>
                    <a:pt x="96" y="4"/>
                  </a:lnTo>
                  <a:lnTo>
                    <a:pt x="105" y="6"/>
                  </a:lnTo>
                  <a:lnTo>
                    <a:pt x="114" y="9"/>
                  </a:lnTo>
                  <a:lnTo>
                    <a:pt x="123" y="12"/>
                  </a:lnTo>
                  <a:lnTo>
                    <a:pt x="131" y="17"/>
                  </a:lnTo>
                  <a:lnTo>
                    <a:pt x="144" y="27"/>
                  </a:lnTo>
                  <a:lnTo>
                    <a:pt x="151" y="34"/>
                  </a:lnTo>
                  <a:lnTo>
                    <a:pt x="156" y="42"/>
                  </a:lnTo>
                  <a:lnTo>
                    <a:pt x="158" y="47"/>
                  </a:lnTo>
                  <a:lnTo>
                    <a:pt x="158" y="49"/>
                  </a:lnTo>
                  <a:lnTo>
                    <a:pt x="157" y="52"/>
                  </a:lnTo>
                  <a:lnTo>
                    <a:pt x="156" y="53"/>
                  </a:lnTo>
                  <a:lnTo>
                    <a:pt x="155" y="54"/>
                  </a:lnTo>
                  <a:lnTo>
                    <a:pt x="150" y="55"/>
                  </a:lnTo>
                  <a:lnTo>
                    <a:pt x="145" y="55"/>
                  </a:lnTo>
                  <a:lnTo>
                    <a:pt x="137" y="53"/>
                  </a:lnTo>
                  <a:lnTo>
                    <a:pt x="130" y="50"/>
                  </a:lnTo>
                  <a:lnTo>
                    <a:pt x="123" y="48"/>
                  </a:lnTo>
                  <a:lnTo>
                    <a:pt x="115" y="47"/>
                  </a:lnTo>
                  <a:lnTo>
                    <a:pt x="107" y="44"/>
                  </a:lnTo>
                  <a:lnTo>
                    <a:pt x="98" y="43"/>
                  </a:lnTo>
                  <a:lnTo>
                    <a:pt x="90" y="42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4133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6716880" y="2432160"/>
              <a:ext cx="44280" cy="15840"/>
            </a:xfrm>
            <a:custGeom>
              <a:avLst/>
              <a:gdLst/>
              <a:ahLst/>
              <a:rect l="l" t="t" r="r" b="b"/>
              <a:pathLst>
                <a:path w="139" h="48">
                  <a:moveTo>
                    <a:pt x="72" y="36"/>
                  </a:moveTo>
                  <a:lnTo>
                    <a:pt x="63" y="36"/>
                  </a:lnTo>
                  <a:lnTo>
                    <a:pt x="56" y="37"/>
                  </a:lnTo>
                  <a:lnTo>
                    <a:pt x="51" y="37"/>
                  </a:lnTo>
                  <a:lnTo>
                    <a:pt x="46" y="37"/>
                  </a:lnTo>
                  <a:lnTo>
                    <a:pt x="41" y="37"/>
                  </a:lnTo>
                  <a:lnTo>
                    <a:pt x="37" y="36"/>
                  </a:lnTo>
                  <a:lnTo>
                    <a:pt x="32" y="34"/>
                  </a:lnTo>
                  <a:lnTo>
                    <a:pt x="27" y="33"/>
                  </a:lnTo>
                  <a:lnTo>
                    <a:pt x="26" y="33"/>
                  </a:lnTo>
                  <a:lnTo>
                    <a:pt x="22" y="32"/>
                  </a:lnTo>
                  <a:lnTo>
                    <a:pt x="16" y="29"/>
                  </a:lnTo>
                  <a:lnTo>
                    <a:pt x="10" y="27"/>
                  </a:lnTo>
                  <a:lnTo>
                    <a:pt x="5" y="25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10" y="7"/>
                  </a:lnTo>
                  <a:lnTo>
                    <a:pt x="21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68" y="0"/>
                  </a:lnTo>
                  <a:lnTo>
                    <a:pt x="84" y="2"/>
                  </a:lnTo>
                  <a:lnTo>
                    <a:pt x="93" y="5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5" y="15"/>
                  </a:lnTo>
                  <a:lnTo>
                    <a:pt x="126" y="23"/>
                  </a:lnTo>
                  <a:lnTo>
                    <a:pt x="133" y="31"/>
                  </a:lnTo>
                  <a:lnTo>
                    <a:pt x="138" y="37"/>
                  </a:lnTo>
                  <a:lnTo>
                    <a:pt x="139" y="42"/>
                  </a:lnTo>
                  <a:lnTo>
                    <a:pt x="139" y="44"/>
                  </a:lnTo>
                  <a:lnTo>
                    <a:pt x="139" y="45"/>
                  </a:lnTo>
                  <a:lnTo>
                    <a:pt x="138" y="47"/>
                  </a:lnTo>
                  <a:lnTo>
                    <a:pt x="136" y="48"/>
                  </a:lnTo>
                  <a:lnTo>
                    <a:pt x="132" y="48"/>
                  </a:lnTo>
                  <a:lnTo>
                    <a:pt x="126" y="47"/>
                  </a:lnTo>
                  <a:lnTo>
                    <a:pt x="121" y="44"/>
                  </a:lnTo>
                  <a:lnTo>
                    <a:pt x="115" y="43"/>
                  </a:lnTo>
                  <a:lnTo>
                    <a:pt x="109" y="41"/>
                  </a:lnTo>
                  <a:lnTo>
                    <a:pt x="102" y="39"/>
                  </a:lnTo>
                  <a:lnTo>
                    <a:pt x="96" y="38"/>
                  </a:lnTo>
                  <a:lnTo>
                    <a:pt x="89" y="37"/>
                  </a:lnTo>
                  <a:lnTo>
                    <a:pt x="80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3d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6721560" y="2432160"/>
              <a:ext cx="36360" cy="12600"/>
            </a:xfrm>
            <a:custGeom>
              <a:avLst/>
              <a:gdLst/>
              <a:ahLst/>
              <a:rect l="l" t="t" r="r" b="b"/>
              <a:pathLst>
                <a:path w="115" h="38">
                  <a:moveTo>
                    <a:pt x="21" y="27"/>
                  </a:moveTo>
                  <a:lnTo>
                    <a:pt x="19" y="26"/>
                  </a:lnTo>
                  <a:lnTo>
                    <a:pt x="16" y="26"/>
                  </a:lnTo>
                  <a:lnTo>
                    <a:pt x="12" y="25"/>
                  </a:lnTo>
                  <a:lnTo>
                    <a:pt x="7" y="22"/>
                  </a:lnTo>
                  <a:lnTo>
                    <a:pt x="2" y="20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8"/>
                  </a:lnTo>
                  <a:lnTo>
                    <a:pt x="7" y="6"/>
                  </a:lnTo>
                  <a:lnTo>
                    <a:pt x="12" y="4"/>
                  </a:lnTo>
                  <a:lnTo>
                    <a:pt x="17" y="3"/>
                  </a:lnTo>
                  <a:lnTo>
                    <a:pt x="28" y="0"/>
                  </a:lnTo>
                  <a:lnTo>
                    <a:pt x="41" y="0"/>
                  </a:lnTo>
                  <a:lnTo>
                    <a:pt x="55" y="0"/>
                  </a:lnTo>
                  <a:lnTo>
                    <a:pt x="70" y="3"/>
                  </a:lnTo>
                  <a:lnTo>
                    <a:pt x="82" y="8"/>
                  </a:lnTo>
                  <a:lnTo>
                    <a:pt x="93" y="14"/>
                  </a:lnTo>
                  <a:lnTo>
                    <a:pt x="103" y="19"/>
                  </a:lnTo>
                  <a:lnTo>
                    <a:pt x="110" y="25"/>
                  </a:lnTo>
                  <a:lnTo>
                    <a:pt x="114" y="30"/>
                  </a:lnTo>
                  <a:lnTo>
                    <a:pt x="115" y="33"/>
                  </a:lnTo>
                  <a:lnTo>
                    <a:pt x="115" y="37"/>
                  </a:lnTo>
                  <a:lnTo>
                    <a:pt x="113" y="38"/>
                  </a:lnTo>
                  <a:lnTo>
                    <a:pt x="109" y="38"/>
                  </a:lnTo>
                  <a:lnTo>
                    <a:pt x="104" y="37"/>
                  </a:lnTo>
                  <a:lnTo>
                    <a:pt x="99" y="37"/>
                  </a:lnTo>
                  <a:lnTo>
                    <a:pt x="94" y="35"/>
                  </a:lnTo>
                  <a:lnTo>
                    <a:pt x="89" y="33"/>
                  </a:lnTo>
                  <a:lnTo>
                    <a:pt x="83" y="32"/>
                  </a:lnTo>
                  <a:lnTo>
                    <a:pt x="78" y="31"/>
                  </a:lnTo>
                  <a:lnTo>
                    <a:pt x="72" y="31"/>
                  </a:lnTo>
                  <a:lnTo>
                    <a:pt x="65" y="30"/>
                  </a:lnTo>
                  <a:lnTo>
                    <a:pt x="59" y="30"/>
                  </a:lnTo>
                  <a:lnTo>
                    <a:pt x="51" y="30"/>
                  </a:lnTo>
                  <a:lnTo>
                    <a:pt x="45" y="30"/>
                  </a:lnTo>
                  <a:lnTo>
                    <a:pt x="40" y="30"/>
                  </a:lnTo>
                  <a:lnTo>
                    <a:pt x="37" y="30"/>
                  </a:lnTo>
                  <a:lnTo>
                    <a:pt x="33" y="28"/>
                  </a:lnTo>
                  <a:lnTo>
                    <a:pt x="29" y="28"/>
                  </a:lnTo>
                  <a:lnTo>
                    <a:pt x="25" y="27"/>
                  </a:lnTo>
                  <a:lnTo>
                    <a:pt x="21" y="27"/>
                  </a:lnTo>
                  <a:close/>
                </a:path>
              </a:pathLst>
            </a:custGeom>
            <a:solidFill>
              <a:srgbClr val="3a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6819840" y="2427480"/>
              <a:ext cx="36720" cy="23760"/>
            </a:xfrm>
            <a:custGeom>
              <a:avLst/>
              <a:gdLst/>
              <a:ahLst/>
              <a:rect l="l" t="t" r="r" b="b"/>
              <a:pathLst>
                <a:path w="114" h="72">
                  <a:moveTo>
                    <a:pt x="104" y="47"/>
                  </a:moveTo>
                  <a:lnTo>
                    <a:pt x="98" y="50"/>
                  </a:lnTo>
                  <a:lnTo>
                    <a:pt x="91" y="52"/>
                  </a:lnTo>
                  <a:lnTo>
                    <a:pt x="83" y="53"/>
                  </a:lnTo>
                  <a:lnTo>
                    <a:pt x="75" y="53"/>
                  </a:lnTo>
                  <a:lnTo>
                    <a:pt x="66" y="55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44" y="58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4"/>
                  </a:lnTo>
                  <a:lnTo>
                    <a:pt x="21" y="67"/>
                  </a:lnTo>
                  <a:lnTo>
                    <a:pt x="16" y="69"/>
                  </a:lnTo>
                  <a:lnTo>
                    <a:pt x="11" y="70"/>
                  </a:lnTo>
                  <a:lnTo>
                    <a:pt x="7" y="72"/>
                  </a:lnTo>
                  <a:lnTo>
                    <a:pt x="3" y="72"/>
                  </a:lnTo>
                  <a:lnTo>
                    <a:pt x="1" y="72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1" y="66"/>
                  </a:lnTo>
                  <a:lnTo>
                    <a:pt x="2" y="62"/>
                  </a:lnTo>
                  <a:lnTo>
                    <a:pt x="5" y="59"/>
                  </a:lnTo>
                  <a:lnTo>
                    <a:pt x="8" y="56"/>
                  </a:lnTo>
                  <a:lnTo>
                    <a:pt x="12" y="52"/>
                  </a:lnTo>
                  <a:lnTo>
                    <a:pt x="14" y="51"/>
                  </a:lnTo>
                  <a:lnTo>
                    <a:pt x="21" y="45"/>
                  </a:lnTo>
                  <a:lnTo>
                    <a:pt x="30" y="36"/>
                  </a:lnTo>
                  <a:lnTo>
                    <a:pt x="41" y="26"/>
                  </a:lnTo>
                  <a:lnTo>
                    <a:pt x="55" y="18"/>
                  </a:lnTo>
                  <a:lnTo>
                    <a:pt x="69" y="9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2"/>
                  </a:lnTo>
                  <a:lnTo>
                    <a:pt x="93" y="0"/>
                  </a:lnTo>
                  <a:lnTo>
                    <a:pt x="98" y="2"/>
                  </a:lnTo>
                  <a:lnTo>
                    <a:pt x="102" y="3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3" y="13"/>
                  </a:lnTo>
                  <a:lnTo>
                    <a:pt x="114" y="20"/>
                  </a:lnTo>
                  <a:lnTo>
                    <a:pt x="114" y="27"/>
                  </a:lnTo>
                  <a:lnTo>
                    <a:pt x="112" y="35"/>
                  </a:lnTo>
                  <a:lnTo>
                    <a:pt x="109" y="42"/>
                  </a:lnTo>
                  <a:lnTo>
                    <a:pt x="104" y="47"/>
                  </a:lnTo>
                  <a:close/>
                </a:path>
              </a:pathLst>
            </a:custGeom>
            <a:solidFill>
              <a:srgbClr val="4133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6823080" y="2428920"/>
              <a:ext cx="31680" cy="17640"/>
            </a:xfrm>
            <a:custGeom>
              <a:avLst/>
              <a:gdLst/>
              <a:ahLst/>
              <a:rect l="l" t="t" r="r" b="b"/>
              <a:pathLst>
                <a:path w="98" h="57">
                  <a:moveTo>
                    <a:pt x="88" y="38"/>
                  </a:moveTo>
                  <a:lnTo>
                    <a:pt x="83" y="41"/>
                  </a:lnTo>
                  <a:lnTo>
                    <a:pt x="77" y="42"/>
                  </a:lnTo>
                  <a:lnTo>
                    <a:pt x="71" y="42"/>
                  </a:lnTo>
                  <a:lnTo>
                    <a:pt x="64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44" y="44"/>
                  </a:lnTo>
                  <a:lnTo>
                    <a:pt x="39" y="46"/>
                  </a:lnTo>
                  <a:lnTo>
                    <a:pt x="34" y="48"/>
                  </a:lnTo>
                  <a:lnTo>
                    <a:pt x="28" y="49"/>
                  </a:lnTo>
                  <a:lnTo>
                    <a:pt x="23" y="52"/>
                  </a:lnTo>
                  <a:lnTo>
                    <a:pt x="18" y="53"/>
                  </a:lnTo>
                  <a:lnTo>
                    <a:pt x="13" y="54"/>
                  </a:lnTo>
                  <a:lnTo>
                    <a:pt x="10" y="55"/>
                  </a:lnTo>
                  <a:lnTo>
                    <a:pt x="6" y="57"/>
                  </a:lnTo>
                  <a:lnTo>
                    <a:pt x="3" y="57"/>
                  </a:lnTo>
                  <a:lnTo>
                    <a:pt x="1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1"/>
                  </a:lnTo>
                  <a:lnTo>
                    <a:pt x="3" y="49"/>
                  </a:lnTo>
                  <a:lnTo>
                    <a:pt x="6" y="46"/>
                  </a:lnTo>
                  <a:lnTo>
                    <a:pt x="10" y="43"/>
                  </a:lnTo>
                  <a:lnTo>
                    <a:pt x="11" y="42"/>
                  </a:lnTo>
                  <a:lnTo>
                    <a:pt x="17" y="37"/>
                  </a:lnTo>
                  <a:lnTo>
                    <a:pt x="26" y="30"/>
                  </a:lnTo>
                  <a:lnTo>
                    <a:pt x="35" y="21"/>
                  </a:lnTo>
                  <a:lnTo>
                    <a:pt x="46" y="14"/>
                  </a:lnTo>
                  <a:lnTo>
                    <a:pt x="59" y="6"/>
                  </a:lnTo>
                  <a:lnTo>
                    <a:pt x="64" y="4"/>
                  </a:lnTo>
                  <a:lnTo>
                    <a:pt x="70" y="1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3" y="0"/>
                  </a:lnTo>
                  <a:lnTo>
                    <a:pt x="87" y="1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7" y="9"/>
                  </a:lnTo>
                  <a:lnTo>
                    <a:pt x="98" y="15"/>
                  </a:lnTo>
                  <a:lnTo>
                    <a:pt x="98" y="21"/>
                  </a:lnTo>
                  <a:lnTo>
                    <a:pt x="96" y="27"/>
                  </a:lnTo>
                  <a:lnTo>
                    <a:pt x="92" y="33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3d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6826320" y="2428920"/>
              <a:ext cx="25200" cy="1584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8" y="35"/>
                  </a:moveTo>
                  <a:lnTo>
                    <a:pt x="11" y="33"/>
                  </a:lnTo>
                  <a:lnTo>
                    <a:pt x="15" y="30"/>
                  </a:lnTo>
                  <a:lnTo>
                    <a:pt x="21" y="23"/>
                  </a:lnTo>
                  <a:lnTo>
                    <a:pt x="29" y="17"/>
                  </a:lnTo>
                  <a:lnTo>
                    <a:pt x="38" y="11"/>
                  </a:lnTo>
                  <a:lnTo>
                    <a:pt x="48" y="5"/>
                  </a:lnTo>
                  <a:lnTo>
                    <a:pt x="58" y="1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6" y="4"/>
                  </a:lnTo>
                  <a:lnTo>
                    <a:pt x="79" y="7"/>
                  </a:lnTo>
                  <a:lnTo>
                    <a:pt x="80" y="12"/>
                  </a:lnTo>
                  <a:lnTo>
                    <a:pt x="80" y="19"/>
                  </a:lnTo>
                  <a:lnTo>
                    <a:pt x="79" y="23"/>
                  </a:lnTo>
                  <a:lnTo>
                    <a:pt x="77" y="28"/>
                  </a:lnTo>
                  <a:lnTo>
                    <a:pt x="74" y="32"/>
                  </a:lnTo>
                  <a:lnTo>
                    <a:pt x="70" y="35"/>
                  </a:lnTo>
                  <a:lnTo>
                    <a:pt x="64" y="35"/>
                  </a:lnTo>
                  <a:lnTo>
                    <a:pt x="59" y="36"/>
                  </a:lnTo>
                  <a:lnTo>
                    <a:pt x="53" y="37"/>
                  </a:lnTo>
                  <a:lnTo>
                    <a:pt x="47" y="37"/>
                  </a:lnTo>
                  <a:lnTo>
                    <a:pt x="40" y="38"/>
                  </a:lnTo>
                  <a:lnTo>
                    <a:pt x="35" y="38"/>
                  </a:lnTo>
                  <a:lnTo>
                    <a:pt x="31" y="41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19" y="44"/>
                  </a:lnTo>
                  <a:lnTo>
                    <a:pt x="15" y="46"/>
                  </a:lnTo>
                  <a:lnTo>
                    <a:pt x="11" y="47"/>
                  </a:lnTo>
                  <a:lnTo>
                    <a:pt x="7" y="48"/>
                  </a:lnTo>
                  <a:lnTo>
                    <a:pt x="3" y="48"/>
                  </a:lnTo>
                  <a:lnTo>
                    <a:pt x="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6" y="38"/>
                  </a:lnTo>
                  <a:lnTo>
                    <a:pt x="8" y="35"/>
                  </a:lnTo>
                  <a:close/>
                </a:path>
              </a:pathLst>
            </a:custGeom>
            <a:solidFill>
              <a:srgbClr val="3a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534000" y="2301840"/>
              <a:ext cx="144720" cy="219240"/>
            </a:xfrm>
            <a:custGeom>
              <a:avLst/>
              <a:gdLst/>
              <a:ahLst/>
              <a:rect l="l" t="t" r="r" b="b"/>
              <a:pathLst>
                <a:path w="454" h="692">
                  <a:moveTo>
                    <a:pt x="15" y="432"/>
                  </a:moveTo>
                  <a:lnTo>
                    <a:pt x="15" y="422"/>
                  </a:lnTo>
                  <a:lnTo>
                    <a:pt x="13" y="395"/>
                  </a:lnTo>
                  <a:lnTo>
                    <a:pt x="13" y="377"/>
                  </a:lnTo>
                  <a:lnTo>
                    <a:pt x="15" y="357"/>
                  </a:lnTo>
                  <a:lnTo>
                    <a:pt x="17" y="334"/>
                  </a:lnTo>
                  <a:lnTo>
                    <a:pt x="19" y="311"/>
                  </a:lnTo>
                  <a:lnTo>
                    <a:pt x="24" y="286"/>
                  </a:lnTo>
                  <a:lnTo>
                    <a:pt x="31" y="262"/>
                  </a:lnTo>
                  <a:lnTo>
                    <a:pt x="34" y="251"/>
                  </a:lnTo>
                  <a:lnTo>
                    <a:pt x="39" y="238"/>
                  </a:lnTo>
                  <a:lnTo>
                    <a:pt x="44" y="227"/>
                  </a:lnTo>
                  <a:lnTo>
                    <a:pt x="49" y="216"/>
                  </a:lnTo>
                  <a:lnTo>
                    <a:pt x="55" y="205"/>
                  </a:lnTo>
                  <a:lnTo>
                    <a:pt x="63" y="195"/>
                  </a:lnTo>
                  <a:lnTo>
                    <a:pt x="70" y="186"/>
                  </a:lnTo>
                  <a:lnTo>
                    <a:pt x="79" y="177"/>
                  </a:lnTo>
                  <a:lnTo>
                    <a:pt x="87" y="168"/>
                  </a:lnTo>
                  <a:lnTo>
                    <a:pt x="97" y="161"/>
                  </a:lnTo>
                  <a:lnTo>
                    <a:pt x="107" y="155"/>
                  </a:lnTo>
                  <a:lnTo>
                    <a:pt x="118" y="149"/>
                  </a:lnTo>
                  <a:lnTo>
                    <a:pt x="166" y="128"/>
                  </a:lnTo>
                  <a:lnTo>
                    <a:pt x="213" y="104"/>
                  </a:lnTo>
                  <a:lnTo>
                    <a:pt x="259" y="81"/>
                  </a:lnTo>
                  <a:lnTo>
                    <a:pt x="304" y="58"/>
                  </a:lnTo>
                  <a:lnTo>
                    <a:pt x="344" y="36"/>
                  </a:lnTo>
                  <a:lnTo>
                    <a:pt x="380" y="18"/>
                  </a:lnTo>
                  <a:lnTo>
                    <a:pt x="396" y="11"/>
                  </a:lnTo>
                  <a:lnTo>
                    <a:pt x="411" y="6"/>
                  </a:lnTo>
                  <a:lnTo>
                    <a:pt x="423" y="1"/>
                  </a:lnTo>
                  <a:lnTo>
                    <a:pt x="434" y="0"/>
                  </a:lnTo>
                  <a:lnTo>
                    <a:pt x="438" y="0"/>
                  </a:lnTo>
                  <a:lnTo>
                    <a:pt x="441" y="0"/>
                  </a:lnTo>
                  <a:lnTo>
                    <a:pt x="445" y="0"/>
                  </a:lnTo>
                  <a:lnTo>
                    <a:pt x="448" y="2"/>
                  </a:lnTo>
                  <a:lnTo>
                    <a:pt x="450" y="4"/>
                  </a:lnTo>
                  <a:lnTo>
                    <a:pt x="451" y="6"/>
                  </a:lnTo>
                  <a:lnTo>
                    <a:pt x="453" y="10"/>
                  </a:lnTo>
                  <a:lnTo>
                    <a:pt x="454" y="13"/>
                  </a:lnTo>
                  <a:lnTo>
                    <a:pt x="454" y="22"/>
                  </a:lnTo>
                  <a:lnTo>
                    <a:pt x="451" y="32"/>
                  </a:lnTo>
                  <a:lnTo>
                    <a:pt x="448" y="44"/>
                  </a:lnTo>
                  <a:lnTo>
                    <a:pt x="444" y="58"/>
                  </a:lnTo>
                  <a:lnTo>
                    <a:pt x="430" y="88"/>
                  </a:lnTo>
                  <a:lnTo>
                    <a:pt x="413" y="123"/>
                  </a:lnTo>
                  <a:lnTo>
                    <a:pt x="393" y="159"/>
                  </a:lnTo>
                  <a:lnTo>
                    <a:pt x="374" y="195"/>
                  </a:lnTo>
                  <a:lnTo>
                    <a:pt x="363" y="214"/>
                  </a:lnTo>
                  <a:lnTo>
                    <a:pt x="352" y="232"/>
                  </a:lnTo>
                  <a:lnTo>
                    <a:pt x="338" y="252"/>
                  </a:lnTo>
                  <a:lnTo>
                    <a:pt x="323" y="273"/>
                  </a:lnTo>
                  <a:lnTo>
                    <a:pt x="293" y="315"/>
                  </a:lnTo>
                  <a:lnTo>
                    <a:pt x="258" y="358"/>
                  </a:lnTo>
                  <a:lnTo>
                    <a:pt x="225" y="403"/>
                  </a:lnTo>
                  <a:lnTo>
                    <a:pt x="192" y="451"/>
                  </a:lnTo>
                  <a:lnTo>
                    <a:pt x="177" y="475"/>
                  </a:lnTo>
                  <a:lnTo>
                    <a:pt x="162" y="500"/>
                  </a:lnTo>
                  <a:lnTo>
                    <a:pt x="150" y="525"/>
                  </a:lnTo>
                  <a:lnTo>
                    <a:pt x="138" y="551"/>
                  </a:lnTo>
                  <a:lnTo>
                    <a:pt x="126" y="576"/>
                  </a:lnTo>
                  <a:lnTo>
                    <a:pt x="115" y="599"/>
                  </a:lnTo>
                  <a:lnTo>
                    <a:pt x="104" y="619"/>
                  </a:lnTo>
                  <a:lnTo>
                    <a:pt x="93" y="637"/>
                  </a:lnTo>
                  <a:lnTo>
                    <a:pt x="82" y="653"/>
                  </a:lnTo>
                  <a:lnTo>
                    <a:pt x="71" y="667"/>
                  </a:lnTo>
                  <a:lnTo>
                    <a:pt x="60" y="678"/>
                  </a:lnTo>
                  <a:lnTo>
                    <a:pt x="50" y="685"/>
                  </a:lnTo>
                  <a:lnTo>
                    <a:pt x="45" y="689"/>
                  </a:lnTo>
                  <a:lnTo>
                    <a:pt x="40" y="690"/>
                  </a:lnTo>
                  <a:lnTo>
                    <a:pt x="37" y="691"/>
                  </a:lnTo>
                  <a:lnTo>
                    <a:pt x="32" y="692"/>
                  </a:lnTo>
                  <a:lnTo>
                    <a:pt x="28" y="692"/>
                  </a:lnTo>
                  <a:lnTo>
                    <a:pt x="24" y="691"/>
                  </a:lnTo>
                  <a:lnTo>
                    <a:pt x="21" y="689"/>
                  </a:lnTo>
                  <a:lnTo>
                    <a:pt x="17" y="686"/>
                  </a:lnTo>
                  <a:lnTo>
                    <a:pt x="13" y="683"/>
                  </a:lnTo>
                  <a:lnTo>
                    <a:pt x="11" y="678"/>
                  </a:lnTo>
                  <a:lnTo>
                    <a:pt x="8" y="673"/>
                  </a:lnTo>
                  <a:lnTo>
                    <a:pt x="6" y="665"/>
                  </a:lnTo>
                  <a:lnTo>
                    <a:pt x="3" y="649"/>
                  </a:lnTo>
                  <a:lnTo>
                    <a:pt x="1" y="630"/>
                  </a:lnTo>
                  <a:lnTo>
                    <a:pt x="0" y="590"/>
                  </a:lnTo>
                  <a:lnTo>
                    <a:pt x="0" y="557"/>
                  </a:lnTo>
                  <a:lnTo>
                    <a:pt x="2" y="531"/>
                  </a:lnTo>
                  <a:lnTo>
                    <a:pt x="5" y="510"/>
                  </a:lnTo>
                  <a:lnTo>
                    <a:pt x="8" y="492"/>
                  </a:lnTo>
                  <a:lnTo>
                    <a:pt x="12" y="473"/>
                  </a:lnTo>
                  <a:lnTo>
                    <a:pt x="15" y="454"/>
                  </a:lnTo>
                  <a:lnTo>
                    <a:pt x="15" y="43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6546960" y="2313000"/>
              <a:ext cx="118800" cy="182520"/>
            </a:xfrm>
            <a:custGeom>
              <a:avLst/>
              <a:gdLst/>
              <a:ahLst/>
              <a:rect l="l" t="t" r="r" b="b"/>
              <a:pathLst>
                <a:path w="376" h="573">
                  <a:moveTo>
                    <a:pt x="360" y="0"/>
                  </a:moveTo>
                  <a:lnTo>
                    <a:pt x="368" y="0"/>
                  </a:lnTo>
                  <a:lnTo>
                    <a:pt x="373" y="1"/>
                  </a:lnTo>
                  <a:lnTo>
                    <a:pt x="375" y="6"/>
                  </a:lnTo>
                  <a:lnTo>
                    <a:pt x="376" y="11"/>
                  </a:lnTo>
                  <a:lnTo>
                    <a:pt x="376" y="18"/>
                  </a:lnTo>
                  <a:lnTo>
                    <a:pt x="375" y="27"/>
                  </a:lnTo>
                  <a:lnTo>
                    <a:pt x="373" y="37"/>
                  </a:lnTo>
                  <a:lnTo>
                    <a:pt x="368" y="49"/>
                  </a:lnTo>
                  <a:lnTo>
                    <a:pt x="357" y="74"/>
                  </a:lnTo>
                  <a:lnTo>
                    <a:pt x="343" y="102"/>
                  </a:lnTo>
                  <a:lnTo>
                    <a:pt x="327" y="132"/>
                  </a:lnTo>
                  <a:lnTo>
                    <a:pt x="311" y="162"/>
                  </a:lnTo>
                  <a:lnTo>
                    <a:pt x="303" y="178"/>
                  </a:lnTo>
                  <a:lnTo>
                    <a:pt x="293" y="194"/>
                  </a:lnTo>
                  <a:lnTo>
                    <a:pt x="282" y="210"/>
                  </a:lnTo>
                  <a:lnTo>
                    <a:pt x="269" y="226"/>
                  </a:lnTo>
                  <a:lnTo>
                    <a:pt x="244" y="261"/>
                  </a:lnTo>
                  <a:lnTo>
                    <a:pt x="215" y="298"/>
                  </a:lnTo>
                  <a:lnTo>
                    <a:pt x="188" y="335"/>
                  </a:lnTo>
                  <a:lnTo>
                    <a:pt x="161" y="374"/>
                  </a:lnTo>
                  <a:lnTo>
                    <a:pt x="148" y="394"/>
                  </a:lnTo>
                  <a:lnTo>
                    <a:pt x="136" y="415"/>
                  </a:lnTo>
                  <a:lnTo>
                    <a:pt x="125" y="435"/>
                  </a:lnTo>
                  <a:lnTo>
                    <a:pt x="116" y="456"/>
                  </a:lnTo>
                  <a:lnTo>
                    <a:pt x="107" y="477"/>
                  </a:lnTo>
                  <a:lnTo>
                    <a:pt x="97" y="496"/>
                  </a:lnTo>
                  <a:lnTo>
                    <a:pt x="87" y="513"/>
                  </a:lnTo>
                  <a:lnTo>
                    <a:pt x="77" y="528"/>
                  </a:lnTo>
                  <a:lnTo>
                    <a:pt x="69" y="541"/>
                  </a:lnTo>
                  <a:lnTo>
                    <a:pt x="59" y="552"/>
                  </a:lnTo>
                  <a:lnTo>
                    <a:pt x="50" y="562"/>
                  </a:lnTo>
                  <a:lnTo>
                    <a:pt x="42" y="568"/>
                  </a:lnTo>
                  <a:lnTo>
                    <a:pt x="34" y="572"/>
                  </a:lnTo>
                  <a:lnTo>
                    <a:pt x="27" y="573"/>
                  </a:lnTo>
                  <a:lnTo>
                    <a:pt x="23" y="573"/>
                  </a:lnTo>
                  <a:lnTo>
                    <a:pt x="21" y="572"/>
                  </a:lnTo>
                  <a:lnTo>
                    <a:pt x="17" y="571"/>
                  </a:lnTo>
                  <a:lnTo>
                    <a:pt x="15" y="568"/>
                  </a:lnTo>
                  <a:lnTo>
                    <a:pt x="10" y="561"/>
                  </a:lnTo>
                  <a:lnTo>
                    <a:pt x="6" y="551"/>
                  </a:lnTo>
                  <a:lnTo>
                    <a:pt x="4" y="538"/>
                  </a:lnTo>
                  <a:lnTo>
                    <a:pt x="1" y="522"/>
                  </a:lnTo>
                  <a:lnTo>
                    <a:pt x="0" y="488"/>
                  </a:lnTo>
                  <a:lnTo>
                    <a:pt x="1" y="462"/>
                  </a:lnTo>
                  <a:lnTo>
                    <a:pt x="2" y="442"/>
                  </a:lnTo>
                  <a:lnTo>
                    <a:pt x="5" y="423"/>
                  </a:lnTo>
                  <a:lnTo>
                    <a:pt x="7" y="408"/>
                  </a:lnTo>
                  <a:lnTo>
                    <a:pt x="10" y="392"/>
                  </a:lnTo>
                  <a:lnTo>
                    <a:pt x="12" y="376"/>
                  </a:lnTo>
                  <a:lnTo>
                    <a:pt x="12" y="358"/>
                  </a:lnTo>
                  <a:lnTo>
                    <a:pt x="12" y="351"/>
                  </a:lnTo>
                  <a:lnTo>
                    <a:pt x="11" y="328"/>
                  </a:lnTo>
                  <a:lnTo>
                    <a:pt x="12" y="312"/>
                  </a:lnTo>
                  <a:lnTo>
                    <a:pt x="12" y="296"/>
                  </a:lnTo>
                  <a:lnTo>
                    <a:pt x="15" y="277"/>
                  </a:lnTo>
                  <a:lnTo>
                    <a:pt x="17" y="258"/>
                  </a:lnTo>
                  <a:lnTo>
                    <a:pt x="21" y="237"/>
                  </a:lnTo>
                  <a:lnTo>
                    <a:pt x="27" y="218"/>
                  </a:lnTo>
                  <a:lnTo>
                    <a:pt x="33" y="198"/>
                  </a:lnTo>
                  <a:lnTo>
                    <a:pt x="42" y="180"/>
                  </a:lnTo>
                  <a:lnTo>
                    <a:pt x="48" y="171"/>
                  </a:lnTo>
                  <a:lnTo>
                    <a:pt x="53" y="162"/>
                  </a:lnTo>
                  <a:lnTo>
                    <a:pt x="59" y="155"/>
                  </a:lnTo>
                  <a:lnTo>
                    <a:pt x="66" y="148"/>
                  </a:lnTo>
                  <a:lnTo>
                    <a:pt x="74" y="140"/>
                  </a:lnTo>
                  <a:lnTo>
                    <a:pt x="81" y="134"/>
                  </a:lnTo>
                  <a:lnTo>
                    <a:pt x="90" y="129"/>
                  </a:lnTo>
                  <a:lnTo>
                    <a:pt x="100" y="124"/>
                  </a:lnTo>
                  <a:lnTo>
                    <a:pt x="139" y="107"/>
                  </a:lnTo>
                  <a:lnTo>
                    <a:pt x="177" y="87"/>
                  </a:lnTo>
                  <a:lnTo>
                    <a:pt x="215" y="68"/>
                  </a:lnTo>
                  <a:lnTo>
                    <a:pt x="252" y="48"/>
                  </a:lnTo>
                  <a:lnTo>
                    <a:pt x="285" y="31"/>
                  </a:lnTo>
                  <a:lnTo>
                    <a:pt x="316" y="16"/>
                  </a:lnTo>
                  <a:lnTo>
                    <a:pt x="328" y="10"/>
                  </a:lnTo>
                  <a:lnTo>
                    <a:pt x="341" y="5"/>
                  </a:lnTo>
                  <a:lnTo>
                    <a:pt x="352" y="1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6c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6559560" y="2325960"/>
              <a:ext cx="93600" cy="144360"/>
            </a:xfrm>
            <a:custGeom>
              <a:avLst/>
              <a:gdLst/>
              <a:ahLst/>
              <a:rect l="l" t="t" r="r" b="b"/>
              <a:pathLst>
                <a:path w="298" h="456">
                  <a:moveTo>
                    <a:pt x="284" y="0"/>
                  </a:moveTo>
                  <a:lnTo>
                    <a:pt x="290" y="0"/>
                  </a:lnTo>
                  <a:lnTo>
                    <a:pt x="294" y="1"/>
                  </a:lnTo>
                  <a:lnTo>
                    <a:pt x="297" y="5"/>
                  </a:lnTo>
                  <a:lnTo>
                    <a:pt x="298" y="10"/>
                  </a:lnTo>
                  <a:lnTo>
                    <a:pt x="298" y="16"/>
                  </a:lnTo>
                  <a:lnTo>
                    <a:pt x="297" y="22"/>
                  </a:lnTo>
                  <a:lnTo>
                    <a:pt x="295" y="31"/>
                  </a:lnTo>
                  <a:lnTo>
                    <a:pt x="292" y="39"/>
                  </a:lnTo>
                  <a:lnTo>
                    <a:pt x="283" y="59"/>
                  </a:lnTo>
                  <a:lnTo>
                    <a:pt x="272" y="81"/>
                  </a:lnTo>
                  <a:lnTo>
                    <a:pt x="260" y="106"/>
                  </a:lnTo>
                  <a:lnTo>
                    <a:pt x="246" y="131"/>
                  </a:lnTo>
                  <a:lnTo>
                    <a:pt x="240" y="143"/>
                  </a:lnTo>
                  <a:lnTo>
                    <a:pt x="231" y="155"/>
                  </a:lnTo>
                  <a:lnTo>
                    <a:pt x="223" y="167"/>
                  </a:lnTo>
                  <a:lnTo>
                    <a:pt x="213" y="181"/>
                  </a:lnTo>
                  <a:lnTo>
                    <a:pt x="193" y="208"/>
                  </a:lnTo>
                  <a:lnTo>
                    <a:pt x="171" y="236"/>
                  </a:lnTo>
                  <a:lnTo>
                    <a:pt x="149" y="266"/>
                  </a:lnTo>
                  <a:lnTo>
                    <a:pt x="127" y="298"/>
                  </a:lnTo>
                  <a:lnTo>
                    <a:pt x="117" y="314"/>
                  </a:lnTo>
                  <a:lnTo>
                    <a:pt x="107" y="330"/>
                  </a:lnTo>
                  <a:lnTo>
                    <a:pt x="98" y="347"/>
                  </a:lnTo>
                  <a:lnTo>
                    <a:pt x="91" y="364"/>
                  </a:lnTo>
                  <a:lnTo>
                    <a:pt x="84" y="380"/>
                  </a:lnTo>
                  <a:lnTo>
                    <a:pt x="76" y="395"/>
                  </a:lnTo>
                  <a:lnTo>
                    <a:pt x="69" y="408"/>
                  </a:lnTo>
                  <a:lnTo>
                    <a:pt x="62" y="421"/>
                  </a:lnTo>
                  <a:lnTo>
                    <a:pt x="54" y="431"/>
                  </a:lnTo>
                  <a:lnTo>
                    <a:pt x="48" y="439"/>
                  </a:lnTo>
                  <a:lnTo>
                    <a:pt x="41" y="447"/>
                  </a:lnTo>
                  <a:lnTo>
                    <a:pt x="34" y="452"/>
                  </a:lnTo>
                  <a:lnTo>
                    <a:pt x="28" y="455"/>
                  </a:lnTo>
                  <a:lnTo>
                    <a:pt x="22" y="456"/>
                  </a:lnTo>
                  <a:lnTo>
                    <a:pt x="17" y="455"/>
                  </a:lnTo>
                  <a:lnTo>
                    <a:pt x="12" y="452"/>
                  </a:lnTo>
                  <a:lnTo>
                    <a:pt x="9" y="447"/>
                  </a:lnTo>
                  <a:lnTo>
                    <a:pt x="5" y="439"/>
                  </a:lnTo>
                  <a:lnTo>
                    <a:pt x="3" y="428"/>
                  </a:lnTo>
                  <a:lnTo>
                    <a:pt x="1" y="416"/>
                  </a:lnTo>
                  <a:lnTo>
                    <a:pt x="0" y="389"/>
                  </a:lnTo>
                  <a:lnTo>
                    <a:pt x="0" y="368"/>
                  </a:lnTo>
                  <a:lnTo>
                    <a:pt x="1" y="351"/>
                  </a:lnTo>
                  <a:lnTo>
                    <a:pt x="4" y="337"/>
                  </a:lnTo>
                  <a:lnTo>
                    <a:pt x="6" y="325"/>
                  </a:lnTo>
                  <a:lnTo>
                    <a:pt x="7" y="313"/>
                  </a:lnTo>
                  <a:lnTo>
                    <a:pt x="9" y="300"/>
                  </a:lnTo>
                  <a:lnTo>
                    <a:pt x="10" y="285"/>
                  </a:lnTo>
                  <a:lnTo>
                    <a:pt x="10" y="278"/>
                  </a:lnTo>
                  <a:lnTo>
                    <a:pt x="9" y="261"/>
                  </a:lnTo>
                  <a:lnTo>
                    <a:pt x="10" y="236"/>
                  </a:lnTo>
                  <a:lnTo>
                    <a:pt x="14" y="206"/>
                  </a:lnTo>
                  <a:lnTo>
                    <a:pt x="16" y="190"/>
                  </a:lnTo>
                  <a:lnTo>
                    <a:pt x="20" y="175"/>
                  </a:lnTo>
                  <a:lnTo>
                    <a:pt x="26" y="159"/>
                  </a:lnTo>
                  <a:lnTo>
                    <a:pt x="32" y="144"/>
                  </a:lnTo>
                  <a:lnTo>
                    <a:pt x="41" y="131"/>
                  </a:lnTo>
                  <a:lnTo>
                    <a:pt x="52" y="118"/>
                  </a:lnTo>
                  <a:lnTo>
                    <a:pt x="57" y="113"/>
                  </a:lnTo>
                  <a:lnTo>
                    <a:pt x="64" y="108"/>
                  </a:lnTo>
                  <a:lnTo>
                    <a:pt x="70" y="103"/>
                  </a:lnTo>
                  <a:lnTo>
                    <a:pt x="78" y="100"/>
                  </a:lnTo>
                  <a:lnTo>
                    <a:pt x="110" y="86"/>
                  </a:lnTo>
                  <a:lnTo>
                    <a:pt x="140" y="70"/>
                  </a:lnTo>
                  <a:lnTo>
                    <a:pt x="171" y="54"/>
                  </a:lnTo>
                  <a:lnTo>
                    <a:pt x="201" y="38"/>
                  </a:lnTo>
                  <a:lnTo>
                    <a:pt x="226" y="25"/>
                  </a:lnTo>
                  <a:lnTo>
                    <a:pt x="250" y="12"/>
                  </a:lnTo>
                  <a:lnTo>
                    <a:pt x="269" y="4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6570720" y="2338560"/>
              <a:ext cx="69840" cy="106200"/>
            </a:xfrm>
            <a:custGeom>
              <a:avLst/>
              <a:gdLst/>
              <a:ahLst/>
              <a:rect l="l" t="t" r="r" b="b"/>
              <a:pathLst>
                <a:path w="219" h="334">
                  <a:moveTo>
                    <a:pt x="210" y="0"/>
                  </a:moveTo>
                  <a:lnTo>
                    <a:pt x="213" y="0"/>
                  </a:lnTo>
                  <a:lnTo>
                    <a:pt x="217" y="1"/>
                  </a:lnTo>
                  <a:lnTo>
                    <a:pt x="218" y="3"/>
                  </a:lnTo>
                  <a:lnTo>
                    <a:pt x="219" y="6"/>
                  </a:lnTo>
                  <a:lnTo>
                    <a:pt x="218" y="16"/>
                  </a:lnTo>
                  <a:lnTo>
                    <a:pt x="214" y="28"/>
                  </a:lnTo>
                  <a:lnTo>
                    <a:pt x="208" y="43"/>
                  </a:lnTo>
                  <a:lnTo>
                    <a:pt x="201" y="59"/>
                  </a:lnTo>
                  <a:lnTo>
                    <a:pt x="192" y="76"/>
                  </a:lnTo>
                  <a:lnTo>
                    <a:pt x="182" y="94"/>
                  </a:lnTo>
                  <a:lnTo>
                    <a:pt x="171" y="113"/>
                  </a:lnTo>
                  <a:lnTo>
                    <a:pt x="157" y="131"/>
                  </a:lnTo>
                  <a:lnTo>
                    <a:pt x="142" y="151"/>
                  </a:lnTo>
                  <a:lnTo>
                    <a:pt x="126" y="172"/>
                  </a:lnTo>
                  <a:lnTo>
                    <a:pt x="110" y="194"/>
                  </a:lnTo>
                  <a:lnTo>
                    <a:pt x="94" y="216"/>
                  </a:lnTo>
                  <a:lnTo>
                    <a:pt x="87" y="228"/>
                  </a:lnTo>
                  <a:lnTo>
                    <a:pt x="80" y="241"/>
                  </a:lnTo>
                  <a:lnTo>
                    <a:pt x="74" y="253"/>
                  </a:lnTo>
                  <a:lnTo>
                    <a:pt x="68" y="265"/>
                  </a:lnTo>
                  <a:lnTo>
                    <a:pt x="57" y="289"/>
                  </a:lnTo>
                  <a:lnTo>
                    <a:pt x="46" y="308"/>
                  </a:lnTo>
                  <a:lnTo>
                    <a:pt x="40" y="316"/>
                  </a:lnTo>
                  <a:lnTo>
                    <a:pt x="35" y="323"/>
                  </a:lnTo>
                  <a:lnTo>
                    <a:pt x="30" y="328"/>
                  </a:lnTo>
                  <a:lnTo>
                    <a:pt x="24" y="332"/>
                  </a:lnTo>
                  <a:lnTo>
                    <a:pt x="20" y="334"/>
                  </a:lnTo>
                  <a:lnTo>
                    <a:pt x="15" y="334"/>
                  </a:lnTo>
                  <a:lnTo>
                    <a:pt x="11" y="334"/>
                  </a:lnTo>
                  <a:lnTo>
                    <a:pt x="8" y="332"/>
                  </a:lnTo>
                  <a:lnTo>
                    <a:pt x="5" y="327"/>
                  </a:lnTo>
                  <a:lnTo>
                    <a:pt x="3" y="321"/>
                  </a:lnTo>
                  <a:lnTo>
                    <a:pt x="2" y="313"/>
                  </a:lnTo>
                  <a:lnTo>
                    <a:pt x="0" y="304"/>
                  </a:lnTo>
                  <a:lnTo>
                    <a:pt x="0" y="285"/>
                  </a:lnTo>
                  <a:lnTo>
                    <a:pt x="0" y="269"/>
                  </a:lnTo>
                  <a:lnTo>
                    <a:pt x="2" y="257"/>
                  </a:lnTo>
                  <a:lnTo>
                    <a:pt x="3" y="247"/>
                  </a:lnTo>
                  <a:lnTo>
                    <a:pt x="4" y="238"/>
                  </a:lnTo>
                  <a:lnTo>
                    <a:pt x="5" y="230"/>
                  </a:lnTo>
                  <a:lnTo>
                    <a:pt x="5" y="220"/>
                  </a:lnTo>
                  <a:lnTo>
                    <a:pt x="7" y="209"/>
                  </a:lnTo>
                  <a:lnTo>
                    <a:pt x="5" y="204"/>
                  </a:lnTo>
                  <a:lnTo>
                    <a:pt x="5" y="190"/>
                  </a:lnTo>
                  <a:lnTo>
                    <a:pt x="7" y="172"/>
                  </a:lnTo>
                  <a:lnTo>
                    <a:pt x="9" y="150"/>
                  </a:lnTo>
                  <a:lnTo>
                    <a:pt x="11" y="139"/>
                  </a:lnTo>
                  <a:lnTo>
                    <a:pt x="15" y="126"/>
                  </a:lnTo>
                  <a:lnTo>
                    <a:pt x="19" y="115"/>
                  </a:lnTo>
                  <a:lnTo>
                    <a:pt x="24" y="104"/>
                  </a:lnTo>
                  <a:lnTo>
                    <a:pt x="31" y="94"/>
                  </a:lnTo>
                  <a:lnTo>
                    <a:pt x="39" y="86"/>
                  </a:lnTo>
                  <a:lnTo>
                    <a:pt x="47" y="78"/>
                  </a:lnTo>
                  <a:lnTo>
                    <a:pt x="58" y="72"/>
                  </a:lnTo>
                  <a:lnTo>
                    <a:pt x="80" y="62"/>
                  </a:lnTo>
                  <a:lnTo>
                    <a:pt x="104" y="50"/>
                  </a:lnTo>
                  <a:lnTo>
                    <a:pt x="126" y="38"/>
                  </a:lnTo>
                  <a:lnTo>
                    <a:pt x="147" y="27"/>
                  </a:lnTo>
                  <a:lnTo>
                    <a:pt x="167" y="17"/>
                  </a:lnTo>
                  <a:lnTo>
                    <a:pt x="184" y="8"/>
                  </a:lnTo>
                  <a:lnTo>
                    <a:pt x="198" y="2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735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6583320" y="2351160"/>
              <a:ext cx="46080" cy="68400"/>
            </a:xfrm>
            <a:custGeom>
              <a:avLst/>
              <a:gdLst/>
              <a:ahLst/>
              <a:rect l="l" t="t" r="r" b="b"/>
              <a:pathLst>
                <a:path w="142" h="216">
                  <a:moveTo>
                    <a:pt x="4" y="135"/>
                  </a:moveTo>
                  <a:lnTo>
                    <a:pt x="4" y="133"/>
                  </a:lnTo>
                  <a:lnTo>
                    <a:pt x="4" y="124"/>
                  </a:lnTo>
                  <a:lnTo>
                    <a:pt x="4" y="112"/>
                  </a:lnTo>
                  <a:lnTo>
                    <a:pt x="6" y="98"/>
                  </a:lnTo>
                  <a:lnTo>
                    <a:pt x="7" y="91"/>
                  </a:lnTo>
                  <a:lnTo>
                    <a:pt x="9" y="83"/>
                  </a:lnTo>
                  <a:lnTo>
                    <a:pt x="12" y="76"/>
                  </a:lnTo>
                  <a:lnTo>
                    <a:pt x="16" y="69"/>
                  </a:lnTo>
                  <a:lnTo>
                    <a:pt x="19" y="63"/>
                  </a:lnTo>
                  <a:lnTo>
                    <a:pt x="24" y="56"/>
                  </a:lnTo>
                  <a:lnTo>
                    <a:pt x="30" y="52"/>
                  </a:lnTo>
                  <a:lnTo>
                    <a:pt x="38" y="48"/>
                  </a:lnTo>
                  <a:lnTo>
                    <a:pt x="52" y="42"/>
                  </a:lnTo>
                  <a:lnTo>
                    <a:pt x="67" y="34"/>
                  </a:lnTo>
                  <a:lnTo>
                    <a:pt x="81" y="27"/>
                  </a:lnTo>
                  <a:lnTo>
                    <a:pt x="94" y="18"/>
                  </a:lnTo>
                  <a:lnTo>
                    <a:pt x="108" y="12"/>
                  </a:lnTo>
                  <a:lnTo>
                    <a:pt x="119" y="6"/>
                  </a:lnTo>
                  <a:lnTo>
                    <a:pt x="129" y="2"/>
                  </a:lnTo>
                  <a:lnTo>
                    <a:pt x="135" y="0"/>
                  </a:lnTo>
                  <a:lnTo>
                    <a:pt x="139" y="0"/>
                  </a:lnTo>
                  <a:lnTo>
                    <a:pt x="140" y="1"/>
                  </a:lnTo>
                  <a:lnTo>
                    <a:pt x="141" y="2"/>
                  </a:lnTo>
                  <a:lnTo>
                    <a:pt x="142" y="5"/>
                  </a:lnTo>
                  <a:lnTo>
                    <a:pt x="141" y="11"/>
                  </a:lnTo>
                  <a:lnTo>
                    <a:pt x="139" y="20"/>
                  </a:lnTo>
                  <a:lnTo>
                    <a:pt x="134" y="29"/>
                  </a:lnTo>
                  <a:lnTo>
                    <a:pt x="129" y="39"/>
                  </a:lnTo>
                  <a:lnTo>
                    <a:pt x="123" y="50"/>
                  </a:lnTo>
                  <a:lnTo>
                    <a:pt x="116" y="63"/>
                  </a:lnTo>
                  <a:lnTo>
                    <a:pt x="109" y="74"/>
                  </a:lnTo>
                  <a:lnTo>
                    <a:pt x="100" y="86"/>
                  </a:lnTo>
                  <a:lnTo>
                    <a:pt x="91" y="98"/>
                  </a:lnTo>
                  <a:lnTo>
                    <a:pt x="81" y="112"/>
                  </a:lnTo>
                  <a:lnTo>
                    <a:pt x="71" y="127"/>
                  </a:lnTo>
                  <a:lnTo>
                    <a:pt x="60" y="141"/>
                  </a:lnTo>
                  <a:lnTo>
                    <a:pt x="51" y="156"/>
                  </a:lnTo>
                  <a:lnTo>
                    <a:pt x="43" y="171"/>
                  </a:lnTo>
                  <a:lnTo>
                    <a:pt x="36" y="186"/>
                  </a:lnTo>
                  <a:lnTo>
                    <a:pt x="29" y="198"/>
                  </a:lnTo>
                  <a:lnTo>
                    <a:pt x="22" y="208"/>
                  </a:lnTo>
                  <a:lnTo>
                    <a:pt x="16" y="214"/>
                  </a:lnTo>
                  <a:lnTo>
                    <a:pt x="12" y="215"/>
                  </a:lnTo>
                  <a:lnTo>
                    <a:pt x="9" y="216"/>
                  </a:lnTo>
                  <a:lnTo>
                    <a:pt x="7" y="216"/>
                  </a:lnTo>
                  <a:lnTo>
                    <a:pt x="4" y="215"/>
                  </a:lnTo>
                  <a:lnTo>
                    <a:pt x="3" y="213"/>
                  </a:lnTo>
                  <a:lnTo>
                    <a:pt x="2" y="209"/>
                  </a:lnTo>
                  <a:lnTo>
                    <a:pt x="1" y="204"/>
                  </a:lnTo>
                  <a:lnTo>
                    <a:pt x="0" y="198"/>
                  </a:lnTo>
                  <a:lnTo>
                    <a:pt x="0" y="186"/>
                  </a:lnTo>
                  <a:lnTo>
                    <a:pt x="0" y="175"/>
                  </a:lnTo>
                  <a:lnTo>
                    <a:pt x="0" y="166"/>
                  </a:lnTo>
                  <a:lnTo>
                    <a:pt x="1" y="160"/>
                  </a:lnTo>
                  <a:lnTo>
                    <a:pt x="2" y="154"/>
                  </a:lnTo>
                  <a:lnTo>
                    <a:pt x="3" y="147"/>
                  </a:lnTo>
                  <a:lnTo>
                    <a:pt x="4" y="143"/>
                  </a:lnTo>
                  <a:lnTo>
                    <a:pt x="4" y="135"/>
                  </a:lnTo>
                  <a:close/>
                </a:path>
              </a:pathLst>
            </a:custGeom>
            <a:solidFill>
              <a:srgbClr val="78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861240" y="2279880"/>
              <a:ext cx="144360" cy="434880"/>
            </a:xfrm>
            <a:custGeom>
              <a:avLst/>
              <a:gdLst/>
              <a:ahLst/>
              <a:rect l="l" t="t" r="r" b="b"/>
              <a:pathLst>
                <a:path w="454" h="1372">
                  <a:moveTo>
                    <a:pt x="47" y="1372"/>
                  </a:moveTo>
                  <a:lnTo>
                    <a:pt x="48" y="1368"/>
                  </a:lnTo>
                  <a:lnTo>
                    <a:pt x="51" y="1366"/>
                  </a:lnTo>
                  <a:lnTo>
                    <a:pt x="52" y="1362"/>
                  </a:lnTo>
                  <a:lnTo>
                    <a:pt x="53" y="1359"/>
                  </a:lnTo>
                  <a:lnTo>
                    <a:pt x="54" y="1356"/>
                  </a:lnTo>
                  <a:lnTo>
                    <a:pt x="57" y="1353"/>
                  </a:lnTo>
                  <a:lnTo>
                    <a:pt x="58" y="1350"/>
                  </a:lnTo>
                  <a:lnTo>
                    <a:pt x="61" y="1347"/>
                  </a:lnTo>
                  <a:lnTo>
                    <a:pt x="73" y="1315"/>
                  </a:lnTo>
                  <a:lnTo>
                    <a:pt x="86" y="1283"/>
                  </a:lnTo>
                  <a:lnTo>
                    <a:pt x="102" y="1250"/>
                  </a:lnTo>
                  <a:lnTo>
                    <a:pt x="118" y="1218"/>
                  </a:lnTo>
                  <a:lnTo>
                    <a:pt x="153" y="1151"/>
                  </a:lnTo>
                  <a:lnTo>
                    <a:pt x="191" y="1083"/>
                  </a:lnTo>
                  <a:lnTo>
                    <a:pt x="232" y="1010"/>
                  </a:lnTo>
                  <a:lnTo>
                    <a:pt x="273" y="935"/>
                  </a:lnTo>
                  <a:lnTo>
                    <a:pt x="318" y="854"/>
                  </a:lnTo>
                  <a:lnTo>
                    <a:pt x="362" y="769"/>
                  </a:lnTo>
                  <a:lnTo>
                    <a:pt x="372" y="747"/>
                  </a:lnTo>
                  <a:lnTo>
                    <a:pt x="382" y="723"/>
                  </a:lnTo>
                  <a:lnTo>
                    <a:pt x="392" y="701"/>
                  </a:lnTo>
                  <a:lnTo>
                    <a:pt x="400" y="679"/>
                  </a:lnTo>
                  <a:lnTo>
                    <a:pt x="407" y="656"/>
                  </a:lnTo>
                  <a:lnTo>
                    <a:pt x="415" y="634"/>
                  </a:lnTo>
                  <a:lnTo>
                    <a:pt x="421" y="612"/>
                  </a:lnTo>
                  <a:lnTo>
                    <a:pt x="427" y="588"/>
                  </a:lnTo>
                  <a:lnTo>
                    <a:pt x="436" y="544"/>
                  </a:lnTo>
                  <a:lnTo>
                    <a:pt x="444" y="498"/>
                  </a:lnTo>
                  <a:lnTo>
                    <a:pt x="449" y="454"/>
                  </a:lnTo>
                  <a:lnTo>
                    <a:pt x="453" y="410"/>
                  </a:lnTo>
                  <a:lnTo>
                    <a:pt x="454" y="367"/>
                  </a:lnTo>
                  <a:lnTo>
                    <a:pt x="454" y="325"/>
                  </a:lnTo>
                  <a:lnTo>
                    <a:pt x="452" y="283"/>
                  </a:lnTo>
                  <a:lnTo>
                    <a:pt x="449" y="244"/>
                  </a:lnTo>
                  <a:lnTo>
                    <a:pt x="446" y="206"/>
                  </a:lnTo>
                  <a:lnTo>
                    <a:pt x="439" y="169"/>
                  </a:lnTo>
                  <a:lnTo>
                    <a:pt x="433" y="133"/>
                  </a:lnTo>
                  <a:lnTo>
                    <a:pt x="427" y="100"/>
                  </a:lnTo>
                  <a:lnTo>
                    <a:pt x="423" y="88"/>
                  </a:lnTo>
                  <a:lnTo>
                    <a:pt x="421" y="74"/>
                  </a:lnTo>
                  <a:lnTo>
                    <a:pt x="417" y="60"/>
                  </a:lnTo>
                  <a:lnTo>
                    <a:pt x="415" y="48"/>
                  </a:lnTo>
                  <a:lnTo>
                    <a:pt x="411" y="36"/>
                  </a:lnTo>
                  <a:lnTo>
                    <a:pt x="409" y="24"/>
                  </a:lnTo>
                  <a:lnTo>
                    <a:pt x="405" y="11"/>
                  </a:lnTo>
                  <a:lnTo>
                    <a:pt x="403" y="0"/>
                  </a:lnTo>
                  <a:lnTo>
                    <a:pt x="401" y="5"/>
                  </a:lnTo>
                  <a:lnTo>
                    <a:pt x="399" y="21"/>
                  </a:lnTo>
                  <a:lnTo>
                    <a:pt x="395" y="44"/>
                  </a:lnTo>
                  <a:lnTo>
                    <a:pt x="389" y="75"/>
                  </a:lnTo>
                  <a:lnTo>
                    <a:pt x="380" y="111"/>
                  </a:lnTo>
                  <a:lnTo>
                    <a:pt x="369" y="150"/>
                  </a:lnTo>
                  <a:lnTo>
                    <a:pt x="363" y="170"/>
                  </a:lnTo>
                  <a:lnTo>
                    <a:pt x="356" y="191"/>
                  </a:lnTo>
                  <a:lnTo>
                    <a:pt x="348" y="211"/>
                  </a:lnTo>
                  <a:lnTo>
                    <a:pt x="340" y="230"/>
                  </a:lnTo>
                  <a:lnTo>
                    <a:pt x="332" y="252"/>
                  </a:lnTo>
                  <a:lnTo>
                    <a:pt x="325" y="277"/>
                  </a:lnTo>
                  <a:lnTo>
                    <a:pt x="318" y="303"/>
                  </a:lnTo>
                  <a:lnTo>
                    <a:pt x="310" y="331"/>
                  </a:lnTo>
                  <a:lnTo>
                    <a:pt x="298" y="391"/>
                  </a:lnTo>
                  <a:lnTo>
                    <a:pt x="287" y="454"/>
                  </a:lnTo>
                  <a:lnTo>
                    <a:pt x="278" y="513"/>
                  </a:lnTo>
                  <a:lnTo>
                    <a:pt x="271" y="566"/>
                  </a:lnTo>
                  <a:lnTo>
                    <a:pt x="265" y="609"/>
                  </a:lnTo>
                  <a:lnTo>
                    <a:pt x="261" y="639"/>
                  </a:lnTo>
                  <a:lnTo>
                    <a:pt x="260" y="661"/>
                  </a:lnTo>
                  <a:lnTo>
                    <a:pt x="257" y="690"/>
                  </a:lnTo>
                  <a:lnTo>
                    <a:pt x="254" y="723"/>
                  </a:lnTo>
                  <a:lnTo>
                    <a:pt x="248" y="760"/>
                  </a:lnTo>
                  <a:lnTo>
                    <a:pt x="244" y="779"/>
                  </a:lnTo>
                  <a:lnTo>
                    <a:pt x="239" y="798"/>
                  </a:lnTo>
                  <a:lnTo>
                    <a:pt x="233" y="818"/>
                  </a:lnTo>
                  <a:lnTo>
                    <a:pt x="227" y="838"/>
                  </a:lnTo>
                  <a:lnTo>
                    <a:pt x="218" y="858"/>
                  </a:lnTo>
                  <a:lnTo>
                    <a:pt x="208" y="876"/>
                  </a:lnTo>
                  <a:lnTo>
                    <a:pt x="197" y="894"/>
                  </a:lnTo>
                  <a:lnTo>
                    <a:pt x="185" y="913"/>
                  </a:lnTo>
                  <a:lnTo>
                    <a:pt x="171" y="931"/>
                  </a:lnTo>
                  <a:lnTo>
                    <a:pt x="155" y="952"/>
                  </a:lnTo>
                  <a:lnTo>
                    <a:pt x="141" y="974"/>
                  </a:lnTo>
                  <a:lnTo>
                    <a:pt x="125" y="999"/>
                  </a:lnTo>
                  <a:lnTo>
                    <a:pt x="109" y="1025"/>
                  </a:lnTo>
                  <a:lnTo>
                    <a:pt x="93" y="1051"/>
                  </a:lnTo>
                  <a:lnTo>
                    <a:pt x="77" y="1078"/>
                  </a:lnTo>
                  <a:lnTo>
                    <a:pt x="62" y="1105"/>
                  </a:lnTo>
                  <a:lnTo>
                    <a:pt x="48" y="1132"/>
                  </a:lnTo>
                  <a:lnTo>
                    <a:pt x="36" y="1159"/>
                  </a:lnTo>
                  <a:lnTo>
                    <a:pt x="25" y="1183"/>
                  </a:lnTo>
                  <a:lnTo>
                    <a:pt x="15" y="1208"/>
                  </a:lnTo>
                  <a:lnTo>
                    <a:pt x="8" y="1231"/>
                  </a:lnTo>
                  <a:lnTo>
                    <a:pt x="3" y="1252"/>
                  </a:lnTo>
                  <a:lnTo>
                    <a:pt x="2" y="1262"/>
                  </a:lnTo>
                  <a:lnTo>
                    <a:pt x="0" y="1271"/>
                  </a:lnTo>
                  <a:lnTo>
                    <a:pt x="0" y="1279"/>
                  </a:lnTo>
                  <a:lnTo>
                    <a:pt x="0" y="1287"/>
                  </a:lnTo>
                  <a:lnTo>
                    <a:pt x="2" y="1302"/>
                  </a:lnTo>
                  <a:lnTo>
                    <a:pt x="4" y="1314"/>
                  </a:lnTo>
                  <a:lnTo>
                    <a:pt x="6" y="1325"/>
                  </a:lnTo>
                  <a:lnTo>
                    <a:pt x="10" y="1334"/>
                  </a:lnTo>
                  <a:lnTo>
                    <a:pt x="14" y="1342"/>
                  </a:lnTo>
                  <a:lnTo>
                    <a:pt x="17" y="1348"/>
                  </a:lnTo>
                  <a:lnTo>
                    <a:pt x="21" y="1354"/>
                  </a:lnTo>
                  <a:lnTo>
                    <a:pt x="26" y="1359"/>
                  </a:lnTo>
                  <a:lnTo>
                    <a:pt x="33" y="1366"/>
                  </a:lnTo>
                  <a:lnTo>
                    <a:pt x="40" y="1369"/>
                  </a:lnTo>
                  <a:lnTo>
                    <a:pt x="45" y="1372"/>
                  </a:lnTo>
                  <a:lnTo>
                    <a:pt x="47" y="137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6865920" y="2292480"/>
              <a:ext cx="139680" cy="417600"/>
            </a:xfrm>
            <a:custGeom>
              <a:avLst/>
              <a:gdLst/>
              <a:ahLst/>
              <a:rect l="l" t="t" r="r" b="b"/>
              <a:pathLst>
                <a:path w="438" h="1315">
                  <a:moveTo>
                    <a:pt x="275" y="594"/>
                  </a:moveTo>
                  <a:lnTo>
                    <a:pt x="278" y="568"/>
                  </a:lnTo>
                  <a:lnTo>
                    <a:pt x="283" y="529"/>
                  </a:lnTo>
                  <a:lnTo>
                    <a:pt x="289" y="480"/>
                  </a:lnTo>
                  <a:lnTo>
                    <a:pt x="298" y="425"/>
                  </a:lnTo>
                  <a:lnTo>
                    <a:pt x="308" y="369"/>
                  </a:lnTo>
                  <a:lnTo>
                    <a:pt x="319" y="312"/>
                  </a:lnTo>
                  <a:lnTo>
                    <a:pt x="325" y="285"/>
                  </a:lnTo>
                  <a:lnTo>
                    <a:pt x="332" y="259"/>
                  </a:lnTo>
                  <a:lnTo>
                    <a:pt x="339" y="236"/>
                  </a:lnTo>
                  <a:lnTo>
                    <a:pt x="346" y="214"/>
                  </a:lnTo>
                  <a:lnTo>
                    <a:pt x="358" y="176"/>
                  </a:lnTo>
                  <a:lnTo>
                    <a:pt x="368" y="139"/>
                  </a:lnTo>
                  <a:lnTo>
                    <a:pt x="377" y="102"/>
                  </a:lnTo>
                  <a:lnTo>
                    <a:pt x="384" y="69"/>
                  </a:lnTo>
                  <a:lnTo>
                    <a:pt x="389" y="40"/>
                  </a:lnTo>
                  <a:lnTo>
                    <a:pt x="391" y="19"/>
                  </a:lnTo>
                  <a:lnTo>
                    <a:pt x="394" y="5"/>
                  </a:lnTo>
                  <a:lnTo>
                    <a:pt x="395" y="0"/>
                  </a:lnTo>
                  <a:lnTo>
                    <a:pt x="398" y="10"/>
                  </a:lnTo>
                  <a:lnTo>
                    <a:pt x="400" y="19"/>
                  </a:lnTo>
                  <a:lnTo>
                    <a:pt x="403" y="27"/>
                  </a:lnTo>
                  <a:lnTo>
                    <a:pt x="404" y="35"/>
                  </a:lnTo>
                  <a:lnTo>
                    <a:pt x="406" y="44"/>
                  </a:lnTo>
                  <a:lnTo>
                    <a:pt x="409" y="53"/>
                  </a:lnTo>
                  <a:lnTo>
                    <a:pt x="411" y="64"/>
                  </a:lnTo>
                  <a:lnTo>
                    <a:pt x="414" y="76"/>
                  </a:lnTo>
                  <a:lnTo>
                    <a:pt x="420" y="106"/>
                  </a:lnTo>
                  <a:lnTo>
                    <a:pt x="426" y="139"/>
                  </a:lnTo>
                  <a:lnTo>
                    <a:pt x="431" y="173"/>
                  </a:lnTo>
                  <a:lnTo>
                    <a:pt x="435" y="210"/>
                  </a:lnTo>
                  <a:lnTo>
                    <a:pt x="437" y="248"/>
                  </a:lnTo>
                  <a:lnTo>
                    <a:pt x="438" y="288"/>
                  </a:lnTo>
                  <a:lnTo>
                    <a:pt x="438" y="328"/>
                  </a:lnTo>
                  <a:lnTo>
                    <a:pt x="437" y="371"/>
                  </a:lnTo>
                  <a:lnTo>
                    <a:pt x="433" y="414"/>
                  </a:lnTo>
                  <a:lnTo>
                    <a:pt x="428" y="459"/>
                  </a:lnTo>
                  <a:lnTo>
                    <a:pt x="421" y="503"/>
                  </a:lnTo>
                  <a:lnTo>
                    <a:pt x="411" y="547"/>
                  </a:lnTo>
                  <a:lnTo>
                    <a:pt x="405" y="571"/>
                  </a:lnTo>
                  <a:lnTo>
                    <a:pt x="399" y="593"/>
                  </a:lnTo>
                  <a:lnTo>
                    <a:pt x="391" y="616"/>
                  </a:lnTo>
                  <a:lnTo>
                    <a:pt x="384" y="638"/>
                  </a:lnTo>
                  <a:lnTo>
                    <a:pt x="376" y="660"/>
                  </a:lnTo>
                  <a:lnTo>
                    <a:pt x="366" y="682"/>
                  </a:lnTo>
                  <a:lnTo>
                    <a:pt x="356" y="706"/>
                  </a:lnTo>
                  <a:lnTo>
                    <a:pt x="346" y="728"/>
                  </a:lnTo>
                  <a:lnTo>
                    <a:pt x="302" y="813"/>
                  </a:lnTo>
                  <a:lnTo>
                    <a:pt x="259" y="892"/>
                  </a:lnTo>
                  <a:lnTo>
                    <a:pt x="217" y="964"/>
                  </a:lnTo>
                  <a:lnTo>
                    <a:pt x="177" y="1034"/>
                  </a:lnTo>
                  <a:lnTo>
                    <a:pt x="142" y="1099"/>
                  </a:lnTo>
                  <a:lnTo>
                    <a:pt x="107" y="1163"/>
                  </a:lnTo>
                  <a:lnTo>
                    <a:pt x="93" y="1194"/>
                  </a:lnTo>
                  <a:lnTo>
                    <a:pt x="78" y="1225"/>
                  </a:lnTo>
                  <a:lnTo>
                    <a:pt x="64" y="1256"/>
                  </a:lnTo>
                  <a:lnTo>
                    <a:pt x="52" y="1288"/>
                  </a:lnTo>
                  <a:lnTo>
                    <a:pt x="51" y="1290"/>
                  </a:lnTo>
                  <a:lnTo>
                    <a:pt x="48" y="1294"/>
                  </a:lnTo>
                  <a:lnTo>
                    <a:pt x="47" y="1296"/>
                  </a:lnTo>
                  <a:lnTo>
                    <a:pt x="46" y="1300"/>
                  </a:lnTo>
                  <a:lnTo>
                    <a:pt x="45" y="1304"/>
                  </a:lnTo>
                  <a:lnTo>
                    <a:pt x="42" y="1306"/>
                  </a:lnTo>
                  <a:lnTo>
                    <a:pt x="41" y="1310"/>
                  </a:lnTo>
                  <a:lnTo>
                    <a:pt x="38" y="1315"/>
                  </a:lnTo>
                  <a:lnTo>
                    <a:pt x="37" y="1315"/>
                  </a:lnTo>
                  <a:lnTo>
                    <a:pt x="33" y="1313"/>
                  </a:lnTo>
                  <a:lnTo>
                    <a:pt x="27" y="1310"/>
                  </a:lnTo>
                  <a:lnTo>
                    <a:pt x="21" y="1305"/>
                  </a:lnTo>
                  <a:lnTo>
                    <a:pt x="17" y="1301"/>
                  </a:lnTo>
                  <a:lnTo>
                    <a:pt x="14" y="1296"/>
                  </a:lnTo>
                  <a:lnTo>
                    <a:pt x="11" y="1290"/>
                  </a:lnTo>
                  <a:lnTo>
                    <a:pt x="8" y="1283"/>
                  </a:lnTo>
                  <a:lnTo>
                    <a:pt x="5" y="1275"/>
                  </a:lnTo>
                  <a:lnTo>
                    <a:pt x="3" y="1265"/>
                  </a:lnTo>
                  <a:lnTo>
                    <a:pt x="1" y="1253"/>
                  </a:lnTo>
                  <a:lnTo>
                    <a:pt x="0" y="1241"/>
                  </a:lnTo>
                  <a:lnTo>
                    <a:pt x="1" y="1225"/>
                  </a:lnTo>
                  <a:lnTo>
                    <a:pt x="5" y="1208"/>
                  </a:lnTo>
                  <a:lnTo>
                    <a:pt x="11" y="1187"/>
                  </a:lnTo>
                  <a:lnTo>
                    <a:pt x="19" y="1165"/>
                  </a:lnTo>
                  <a:lnTo>
                    <a:pt x="29" y="1141"/>
                  </a:lnTo>
                  <a:lnTo>
                    <a:pt x="38" y="1117"/>
                  </a:lnTo>
                  <a:lnTo>
                    <a:pt x="51" y="1091"/>
                  </a:lnTo>
                  <a:lnTo>
                    <a:pt x="64" y="1065"/>
                  </a:lnTo>
                  <a:lnTo>
                    <a:pt x="93" y="1013"/>
                  </a:lnTo>
                  <a:lnTo>
                    <a:pt x="122" y="963"/>
                  </a:lnTo>
                  <a:lnTo>
                    <a:pt x="137" y="940"/>
                  </a:lnTo>
                  <a:lnTo>
                    <a:pt x="152" y="917"/>
                  </a:lnTo>
                  <a:lnTo>
                    <a:pt x="166" y="898"/>
                  </a:lnTo>
                  <a:lnTo>
                    <a:pt x="180" y="879"/>
                  </a:lnTo>
                  <a:lnTo>
                    <a:pt x="193" y="862"/>
                  </a:lnTo>
                  <a:lnTo>
                    <a:pt x="204" y="842"/>
                  </a:lnTo>
                  <a:lnTo>
                    <a:pt x="216" y="824"/>
                  </a:lnTo>
                  <a:lnTo>
                    <a:pt x="224" y="803"/>
                  </a:lnTo>
                  <a:lnTo>
                    <a:pt x="233" y="783"/>
                  </a:lnTo>
                  <a:lnTo>
                    <a:pt x="240" y="762"/>
                  </a:lnTo>
                  <a:lnTo>
                    <a:pt x="246" y="741"/>
                  </a:lnTo>
                  <a:lnTo>
                    <a:pt x="252" y="722"/>
                  </a:lnTo>
                  <a:lnTo>
                    <a:pt x="261" y="682"/>
                  </a:lnTo>
                  <a:lnTo>
                    <a:pt x="267" y="648"/>
                  </a:lnTo>
                  <a:lnTo>
                    <a:pt x="272" y="617"/>
                  </a:lnTo>
                  <a:lnTo>
                    <a:pt x="275" y="594"/>
                  </a:lnTo>
                  <a:close/>
                </a:path>
              </a:pathLst>
            </a:custGeom>
            <a:solidFill>
              <a:srgbClr val="6c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6872400" y="2305080"/>
              <a:ext cx="133200" cy="398520"/>
            </a:xfrm>
            <a:custGeom>
              <a:avLst/>
              <a:gdLst/>
              <a:ahLst/>
              <a:rect l="l" t="t" r="r" b="b"/>
              <a:pathLst>
                <a:path w="421" h="1255">
                  <a:moveTo>
                    <a:pt x="286" y="551"/>
                  </a:moveTo>
                  <a:lnTo>
                    <a:pt x="288" y="526"/>
                  </a:lnTo>
                  <a:lnTo>
                    <a:pt x="293" y="490"/>
                  </a:lnTo>
                  <a:lnTo>
                    <a:pt x="301" y="446"/>
                  </a:lnTo>
                  <a:lnTo>
                    <a:pt x="308" y="396"/>
                  </a:lnTo>
                  <a:lnTo>
                    <a:pt x="318" y="345"/>
                  </a:lnTo>
                  <a:lnTo>
                    <a:pt x="328" y="292"/>
                  </a:lnTo>
                  <a:lnTo>
                    <a:pt x="338" y="243"/>
                  </a:lnTo>
                  <a:lnTo>
                    <a:pt x="347" y="198"/>
                  </a:lnTo>
                  <a:lnTo>
                    <a:pt x="359" y="162"/>
                  </a:lnTo>
                  <a:lnTo>
                    <a:pt x="366" y="126"/>
                  </a:lnTo>
                  <a:lnTo>
                    <a:pt x="373" y="93"/>
                  </a:lnTo>
                  <a:lnTo>
                    <a:pt x="378" y="63"/>
                  </a:lnTo>
                  <a:lnTo>
                    <a:pt x="382" y="37"/>
                  </a:lnTo>
                  <a:lnTo>
                    <a:pt x="384" y="18"/>
                  </a:lnTo>
                  <a:lnTo>
                    <a:pt x="386" y="5"/>
                  </a:lnTo>
                  <a:lnTo>
                    <a:pt x="386" y="0"/>
                  </a:lnTo>
                  <a:lnTo>
                    <a:pt x="388" y="10"/>
                  </a:lnTo>
                  <a:lnTo>
                    <a:pt x="390" y="16"/>
                  </a:lnTo>
                  <a:lnTo>
                    <a:pt x="392" y="20"/>
                  </a:lnTo>
                  <a:lnTo>
                    <a:pt x="394" y="24"/>
                  </a:lnTo>
                  <a:lnTo>
                    <a:pt x="395" y="27"/>
                  </a:lnTo>
                  <a:lnTo>
                    <a:pt x="397" y="34"/>
                  </a:lnTo>
                  <a:lnTo>
                    <a:pt x="398" y="41"/>
                  </a:lnTo>
                  <a:lnTo>
                    <a:pt x="399" y="52"/>
                  </a:lnTo>
                  <a:lnTo>
                    <a:pt x="405" y="79"/>
                  </a:lnTo>
                  <a:lnTo>
                    <a:pt x="410" y="110"/>
                  </a:lnTo>
                  <a:lnTo>
                    <a:pt x="414" y="142"/>
                  </a:lnTo>
                  <a:lnTo>
                    <a:pt x="418" y="176"/>
                  </a:lnTo>
                  <a:lnTo>
                    <a:pt x="420" y="213"/>
                  </a:lnTo>
                  <a:lnTo>
                    <a:pt x="421" y="251"/>
                  </a:lnTo>
                  <a:lnTo>
                    <a:pt x="421" y="292"/>
                  </a:lnTo>
                  <a:lnTo>
                    <a:pt x="419" y="332"/>
                  </a:lnTo>
                  <a:lnTo>
                    <a:pt x="415" y="376"/>
                  </a:lnTo>
                  <a:lnTo>
                    <a:pt x="410" y="419"/>
                  </a:lnTo>
                  <a:lnTo>
                    <a:pt x="403" y="463"/>
                  </a:lnTo>
                  <a:lnTo>
                    <a:pt x="393" y="508"/>
                  </a:lnTo>
                  <a:lnTo>
                    <a:pt x="388" y="531"/>
                  </a:lnTo>
                  <a:lnTo>
                    <a:pt x="382" y="553"/>
                  </a:lnTo>
                  <a:lnTo>
                    <a:pt x="374" y="576"/>
                  </a:lnTo>
                  <a:lnTo>
                    <a:pt x="367" y="598"/>
                  </a:lnTo>
                  <a:lnTo>
                    <a:pt x="359" y="620"/>
                  </a:lnTo>
                  <a:lnTo>
                    <a:pt x="349" y="642"/>
                  </a:lnTo>
                  <a:lnTo>
                    <a:pt x="339" y="666"/>
                  </a:lnTo>
                  <a:lnTo>
                    <a:pt x="329" y="688"/>
                  </a:lnTo>
                  <a:lnTo>
                    <a:pt x="285" y="772"/>
                  </a:lnTo>
                  <a:lnTo>
                    <a:pt x="243" y="849"/>
                  </a:lnTo>
                  <a:lnTo>
                    <a:pt x="202" y="920"/>
                  </a:lnTo>
                  <a:lnTo>
                    <a:pt x="165" y="987"/>
                  </a:lnTo>
                  <a:lnTo>
                    <a:pt x="130" y="1050"/>
                  </a:lnTo>
                  <a:lnTo>
                    <a:pt x="98" y="1110"/>
                  </a:lnTo>
                  <a:lnTo>
                    <a:pt x="83" y="1139"/>
                  </a:lnTo>
                  <a:lnTo>
                    <a:pt x="69" y="1169"/>
                  </a:lnTo>
                  <a:lnTo>
                    <a:pt x="56" y="1198"/>
                  </a:lnTo>
                  <a:lnTo>
                    <a:pt x="44" y="1228"/>
                  </a:lnTo>
                  <a:lnTo>
                    <a:pt x="42" y="1232"/>
                  </a:lnTo>
                  <a:lnTo>
                    <a:pt x="41" y="1234"/>
                  </a:lnTo>
                  <a:lnTo>
                    <a:pt x="40" y="1238"/>
                  </a:lnTo>
                  <a:lnTo>
                    <a:pt x="39" y="1241"/>
                  </a:lnTo>
                  <a:lnTo>
                    <a:pt x="36" y="1245"/>
                  </a:lnTo>
                  <a:lnTo>
                    <a:pt x="35" y="1249"/>
                  </a:lnTo>
                  <a:lnTo>
                    <a:pt x="34" y="1253"/>
                  </a:lnTo>
                  <a:lnTo>
                    <a:pt x="32" y="1255"/>
                  </a:lnTo>
                  <a:lnTo>
                    <a:pt x="31" y="1255"/>
                  </a:lnTo>
                  <a:lnTo>
                    <a:pt x="28" y="1255"/>
                  </a:lnTo>
                  <a:lnTo>
                    <a:pt x="21" y="1254"/>
                  </a:lnTo>
                  <a:lnTo>
                    <a:pt x="15" y="1251"/>
                  </a:lnTo>
                  <a:lnTo>
                    <a:pt x="13" y="1249"/>
                  </a:lnTo>
                  <a:lnTo>
                    <a:pt x="9" y="1245"/>
                  </a:lnTo>
                  <a:lnTo>
                    <a:pt x="7" y="1240"/>
                  </a:lnTo>
                  <a:lnTo>
                    <a:pt x="4" y="1234"/>
                  </a:lnTo>
                  <a:lnTo>
                    <a:pt x="2" y="1228"/>
                  </a:lnTo>
                  <a:lnTo>
                    <a:pt x="0" y="1219"/>
                  </a:lnTo>
                  <a:lnTo>
                    <a:pt x="0" y="1209"/>
                  </a:lnTo>
                  <a:lnTo>
                    <a:pt x="0" y="1198"/>
                  </a:lnTo>
                  <a:lnTo>
                    <a:pt x="3" y="1182"/>
                  </a:lnTo>
                  <a:lnTo>
                    <a:pt x="7" y="1165"/>
                  </a:lnTo>
                  <a:lnTo>
                    <a:pt x="13" y="1146"/>
                  </a:lnTo>
                  <a:lnTo>
                    <a:pt x="20" y="1123"/>
                  </a:lnTo>
                  <a:lnTo>
                    <a:pt x="30" y="1101"/>
                  </a:lnTo>
                  <a:lnTo>
                    <a:pt x="40" y="1078"/>
                  </a:lnTo>
                  <a:lnTo>
                    <a:pt x="52" y="1053"/>
                  </a:lnTo>
                  <a:lnTo>
                    <a:pt x="64" y="1027"/>
                  </a:lnTo>
                  <a:lnTo>
                    <a:pt x="90" y="977"/>
                  </a:lnTo>
                  <a:lnTo>
                    <a:pt x="120" y="929"/>
                  </a:lnTo>
                  <a:lnTo>
                    <a:pt x="133" y="906"/>
                  </a:lnTo>
                  <a:lnTo>
                    <a:pt x="148" y="884"/>
                  </a:lnTo>
                  <a:lnTo>
                    <a:pt x="163" y="864"/>
                  </a:lnTo>
                  <a:lnTo>
                    <a:pt x="176" y="845"/>
                  </a:lnTo>
                  <a:lnTo>
                    <a:pt x="190" y="827"/>
                  </a:lnTo>
                  <a:lnTo>
                    <a:pt x="201" y="809"/>
                  </a:lnTo>
                  <a:lnTo>
                    <a:pt x="212" y="789"/>
                  </a:lnTo>
                  <a:lnTo>
                    <a:pt x="222" y="768"/>
                  </a:lnTo>
                  <a:lnTo>
                    <a:pt x="232" y="747"/>
                  </a:lnTo>
                  <a:lnTo>
                    <a:pt x="240" y="726"/>
                  </a:lnTo>
                  <a:lnTo>
                    <a:pt x="248" y="705"/>
                  </a:lnTo>
                  <a:lnTo>
                    <a:pt x="254" y="684"/>
                  </a:lnTo>
                  <a:lnTo>
                    <a:pt x="266" y="644"/>
                  </a:lnTo>
                  <a:lnTo>
                    <a:pt x="275" y="608"/>
                  </a:lnTo>
                  <a:lnTo>
                    <a:pt x="281" y="576"/>
                  </a:lnTo>
                  <a:lnTo>
                    <a:pt x="286" y="551"/>
                  </a:lnTo>
                  <a:close/>
                </a:path>
              </a:pathLst>
            </a:custGeom>
            <a:solidFill>
              <a:srgbClr val="715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6877080" y="2317680"/>
              <a:ext cx="128520" cy="381240"/>
            </a:xfrm>
            <a:custGeom>
              <a:avLst/>
              <a:gdLst/>
              <a:ahLst/>
              <a:rect l="l" t="t" r="r" b="b"/>
              <a:pathLst>
                <a:path w="402" h="1197">
                  <a:moveTo>
                    <a:pt x="295" y="510"/>
                  </a:moveTo>
                  <a:lnTo>
                    <a:pt x="297" y="486"/>
                  </a:lnTo>
                  <a:lnTo>
                    <a:pt x="304" y="453"/>
                  </a:lnTo>
                  <a:lnTo>
                    <a:pt x="310" y="412"/>
                  </a:lnTo>
                  <a:lnTo>
                    <a:pt x="318" y="368"/>
                  </a:lnTo>
                  <a:lnTo>
                    <a:pt x="327" y="321"/>
                  </a:lnTo>
                  <a:lnTo>
                    <a:pt x="336" y="274"/>
                  </a:lnTo>
                  <a:lnTo>
                    <a:pt x="344" y="228"/>
                  </a:lnTo>
                  <a:lnTo>
                    <a:pt x="352" y="184"/>
                  </a:lnTo>
                  <a:lnTo>
                    <a:pt x="358" y="149"/>
                  </a:lnTo>
                  <a:lnTo>
                    <a:pt x="364" y="114"/>
                  </a:lnTo>
                  <a:lnTo>
                    <a:pt x="368" y="84"/>
                  </a:lnTo>
                  <a:lnTo>
                    <a:pt x="371" y="55"/>
                  </a:lnTo>
                  <a:lnTo>
                    <a:pt x="374" y="33"/>
                  </a:lnTo>
                  <a:lnTo>
                    <a:pt x="375" y="15"/>
                  </a:lnTo>
                  <a:lnTo>
                    <a:pt x="376" y="4"/>
                  </a:lnTo>
                  <a:lnTo>
                    <a:pt x="376" y="0"/>
                  </a:lnTo>
                  <a:lnTo>
                    <a:pt x="379" y="9"/>
                  </a:lnTo>
                  <a:lnTo>
                    <a:pt x="380" y="12"/>
                  </a:lnTo>
                  <a:lnTo>
                    <a:pt x="381" y="14"/>
                  </a:lnTo>
                  <a:lnTo>
                    <a:pt x="381" y="14"/>
                  </a:lnTo>
                  <a:lnTo>
                    <a:pt x="381" y="12"/>
                  </a:lnTo>
                  <a:lnTo>
                    <a:pt x="382" y="15"/>
                  </a:lnTo>
                  <a:lnTo>
                    <a:pt x="382" y="20"/>
                  </a:lnTo>
                  <a:lnTo>
                    <a:pt x="384" y="30"/>
                  </a:lnTo>
                  <a:lnTo>
                    <a:pt x="388" y="54"/>
                  </a:lnTo>
                  <a:lnTo>
                    <a:pt x="393" y="81"/>
                  </a:lnTo>
                  <a:lnTo>
                    <a:pt x="396" y="111"/>
                  </a:lnTo>
                  <a:lnTo>
                    <a:pt x="400" y="144"/>
                  </a:lnTo>
                  <a:lnTo>
                    <a:pt x="402" y="178"/>
                  </a:lnTo>
                  <a:lnTo>
                    <a:pt x="402" y="215"/>
                  </a:lnTo>
                  <a:lnTo>
                    <a:pt x="402" y="255"/>
                  </a:lnTo>
                  <a:lnTo>
                    <a:pt x="401" y="294"/>
                  </a:lnTo>
                  <a:lnTo>
                    <a:pt x="397" y="336"/>
                  </a:lnTo>
                  <a:lnTo>
                    <a:pt x="392" y="379"/>
                  </a:lnTo>
                  <a:lnTo>
                    <a:pt x="385" y="423"/>
                  </a:lnTo>
                  <a:lnTo>
                    <a:pt x="375" y="467"/>
                  </a:lnTo>
                  <a:lnTo>
                    <a:pt x="363" y="512"/>
                  </a:lnTo>
                  <a:lnTo>
                    <a:pt x="349" y="557"/>
                  </a:lnTo>
                  <a:lnTo>
                    <a:pt x="341" y="579"/>
                  </a:lnTo>
                  <a:lnTo>
                    <a:pt x="331" y="601"/>
                  </a:lnTo>
                  <a:lnTo>
                    <a:pt x="321" y="625"/>
                  </a:lnTo>
                  <a:lnTo>
                    <a:pt x="311" y="647"/>
                  </a:lnTo>
                  <a:lnTo>
                    <a:pt x="267" y="731"/>
                  </a:lnTo>
                  <a:lnTo>
                    <a:pt x="226" y="807"/>
                  </a:lnTo>
                  <a:lnTo>
                    <a:pt x="187" y="876"/>
                  </a:lnTo>
                  <a:lnTo>
                    <a:pt x="151" y="940"/>
                  </a:lnTo>
                  <a:lnTo>
                    <a:pt x="118" y="1000"/>
                  </a:lnTo>
                  <a:lnTo>
                    <a:pt x="87" y="1057"/>
                  </a:lnTo>
                  <a:lnTo>
                    <a:pt x="72" y="1085"/>
                  </a:lnTo>
                  <a:lnTo>
                    <a:pt x="59" y="1112"/>
                  </a:lnTo>
                  <a:lnTo>
                    <a:pt x="45" y="1140"/>
                  </a:lnTo>
                  <a:lnTo>
                    <a:pt x="34" y="1168"/>
                  </a:lnTo>
                  <a:lnTo>
                    <a:pt x="33" y="1172"/>
                  </a:lnTo>
                  <a:lnTo>
                    <a:pt x="32" y="1176"/>
                  </a:lnTo>
                  <a:lnTo>
                    <a:pt x="29" y="1180"/>
                  </a:lnTo>
                  <a:lnTo>
                    <a:pt x="28" y="1182"/>
                  </a:lnTo>
                  <a:lnTo>
                    <a:pt x="27" y="1186"/>
                  </a:lnTo>
                  <a:lnTo>
                    <a:pt x="26" y="1189"/>
                  </a:lnTo>
                  <a:lnTo>
                    <a:pt x="24" y="1192"/>
                  </a:lnTo>
                  <a:lnTo>
                    <a:pt x="23" y="1196"/>
                  </a:lnTo>
                  <a:lnTo>
                    <a:pt x="22" y="1196"/>
                  </a:lnTo>
                  <a:lnTo>
                    <a:pt x="18" y="1197"/>
                  </a:lnTo>
                  <a:lnTo>
                    <a:pt x="13" y="1197"/>
                  </a:lnTo>
                  <a:lnTo>
                    <a:pt x="8" y="1197"/>
                  </a:lnTo>
                  <a:lnTo>
                    <a:pt x="7" y="1194"/>
                  </a:lnTo>
                  <a:lnTo>
                    <a:pt x="5" y="1192"/>
                  </a:lnTo>
                  <a:lnTo>
                    <a:pt x="2" y="1189"/>
                  </a:lnTo>
                  <a:lnTo>
                    <a:pt x="1" y="1184"/>
                  </a:lnTo>
                  <a:lnTo>
                    <a:pt x="0" y="1180"/>
                  </a:lnTo>
                  <a:lnTo>
                    <a:pt x="0" y="1172"/>
                  </a:lnTo>
                  <a:lnTo>
                    <a:pt x="0" y="1165"/>
                  </a:lnTo>
                  <a:lnTo>
                    <a:pt x="1" y="1155"/>
                  </a:lnTo>
                  <a:lnTo>
                    <a:pt x="5" y="1139"/>
                  </a:lnTo>
                  <a:lnTo>
                    <a:pt x="10" y="1121"/>
                  </a:lnTo>
                  <a:lnTo>
                    <a:pt x="16" y="1101"/>
                  </a:lnTo>
                  <a:lnTo>
                    <a:pt x="23" y="1080"/>
                  </a:lnTo>
                  <a:lnTo>
                    <a:pt x="42" y="1036"/>
                  </a:lnTo>
                  <a:lnTo>
                    <a:pt x="64" y="986"/>
                  </a:lnTo>
                  <a:lnTo>
                    <a:pt x="88" y="938"/>
                  </a:lnTo>
                  <a:lnTo>
                    <a:pt x="115" y="892"/>
                  </a:lnTo>
                  <a:lnTo>
                    <a:pt x="129" y="868"/>
                  </a:lnTo>
                  <a:lnTo>
                    <a:pt x="142" y="847"/>
                  </a:lnTo>
                  <a:lnTo>
                    <a:pt x="156" y="828"/>
                  </a:lnTo>
                  <a:lnTo>
                    <a:pt x="169" y="809"/>
                  </a:lnTo>
                  <a:lnTo>
                    <a:pt x="183" y="792"/>
                  </a:lnTo>
                  <a:lnTo>
                    <a:pt x="195" y="772"/>
                  </a:lnTo>
                  <a:lnTo>
                    <a:pt x="208" y="753"/>
                  </a:lnTo>
                  <a:lnTo>
                    <a:pt x="219" y="732"/>
                  </a:lnTo>
                  <a:lnTo>
                    <a:pt x="230" y="711"/>
                  </a:lnTo>
                  <a:lnTo>
                    <a:pt x="240" y="689"/>
                  </a:lnTo>
                  <a:lnTo>
                    <a:pt x="249" y="668"/>
                  </a:lnTo>
                  <a:lnTo>
                    <a:pt x="258" y="646"/>
                  </a:lnTo>
                  <a:lnTo>
                    <a:pt x="272" y="604"/>
                  </a:lnTo>
                  <a:lnTo>
                    <a:pt x="283" y="567"/>
                  </a:lnTo>
                  <a:lnTo>
                    <a:pt x="290" y="535"/>
                  </a:lnTo>
                  <a:lnTo>
                    <a:pt x="295" y="510"/>
                  </a:lnTo>
                  <a:close/>
                </a:path>
              </a:pathLst>
            </a:custGeom>
            <a:solidFill>
              <a:srgbClr val="76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6881760" y="2328840"/>
              <a:ext cx="123840" cy="365400"/>
            </a:xfrm>
            <a:custGeom>
              <a:avLst/>
              <a:gdLst/>
              <a:ahLst/>
              <a:rect l="l" t="t" r="r" b="b"/>
              <a:pathLst>
                <a:path w="388" h="1148">
                  <a:moveTo>
                    <a:pt x="308" y="474"/>
                  </a:moveTo>
                  <a:lnTo>
                    <a:pt x="311" y="451"/>
                  </a:lnTo>
                  <a:lnTo>
                    <a:pt x="317" y="421"/>
                  </a:lnTo>
                  <a:lnTo>
                    <a:pt x="323" y="387"/>
                  </a:lnTo>
                  <a:lnTo>
                    <a:pt x="331" y="347"/>
                  </a:lnTo>
                  <a:lnTo>
                    <a:pt x="339" y="305"/>
                  </a:lnTo>
                  <a:lnTo>
                    <a:pt x="346" y="261"/>
                  </a:lnTo>
                  <a:lnTo>
                    <a:pt x="352" y="218"/>
                  </a:lnTo>
                  <a:lnTo>
                    <a:pt x="356" y="175"/>
                  </a:lnTo>
                  <a:lnTo>
                    <a:pt x="360" y="141"/>
                  </a:lnTo>
                  <a:lnTo>
                    <a:pt x="363" y="109"/>
                  </a:lnTo>
                  <a:lnTo>
                    <a:pt x="366" y="80"/>
                  </a:lnTo>
                  <a:lnTo>
                    <a:pt x="367" y="56"/>
                  </a:lnTo>
                  <a:lnTo>
                    <a:pt x="368" y="35"/>
                  </a:lnTo>
                  <a:lnTo>
                    <a:pt x="370" y="20"/>
                  </a:lnTo>
                  <a:lnTo>
                    <a:pt x="370" y="10"/>
                  </a:lnTo>
                  <a:lnTo>
                    <a:pt x="370" y="7"/>
                  </a:lnTo>
                  <a:lnTo>
                    <a:pt x="372" y="14"/>
                  </a:lnTo>
                  <a:lnTo>
                    <a:pt x="373" y="15"/>
                  </a:lnTo>
                  <a:lnTo>
                    <a:pt x="374" y="13"/>
                  </a:lnTo>
                  <a:lnTo>
                    <a:pt x="374" y="8"/>
                  </a:lnTo>
                  <a:lnTo>
                    <a:pt x="373" y="3"/>
                  </a:lnTo>
                  <a:lnTo>
                    <a:pt x="373" y="0"/>
                  </a:lnTo>
                  <a:lnTo>
                    <a:pt x="374" y="3"/>
                  </a:lnTo>
                  <a:lnTo>
                    <a:pt x="376" y="13"/>
                  </a:lnTo>
                  <a:lnTo>
                    <a:pt x="378" y="34"/>
                  </a:lnTo>
                  <a:lnTo>
                    <a:pt x="382" y="58"/>
                  </a:lnTo>
                  <a:lnTo>
                    <a:pt x="384" y="85"/>
                  </a:lnTo>
                  <a:lnTo>
                    <a:pt x="387" y="116"/>
                  </a:lnTo>
                  <a:lnTo>
                    <a:pt x="388" y="149"/>
                  </a:lnTo>
                  <a:lnTo>
                    <a:pt x="388" y="185"/>
                  </a:lnTo>
                  <a:lnTo>
                    <a:pt x="388" y="223"/>
                  </a:lnTo>
                  <a:lnTo>
                    <a:pt x="386" y="262"/>
                  </a:lnTo>
                  <a:lnTo>
                    <a:pt x="383" y="303"/>
                  </a:lnTo>
                  <a:lnTo>
                    <a:pt x="377" y="346"/>
                  </a:lnTo>
                  <a:lnTo>
                    <a:pt x="370" y="389"/>
                  </a:lnTo>
                  <a:lnTo>
                    <a:pt x="361" y="433"/>
                  </a:lnTo>
                  <a:lnTo>
                    <a:pt x="349" y="478"/>
                  </a:lnTo>
                  <a:lnTo>
                    <a:pt x="334" y="523"/>
                  </a:lnTo>
                  <a:lnTo>
                    <a:pt x="327" y="545"/>
                  </a:lnTo>
                  <a:lnTo>
                    <a:pt x="317" y="567"/>
                  </a:lnTo>
                  <a:lnTo>
                    <a:pt x="307" y="591"/>
                  </a:lnTo>
                  <a:lnTo>
                    <a:pt x="297" y="613"/>
                  </a:lnTo>
                  <a:lnTo>
                    <a:pt x="254" y="697"/>
                  </a:lnTo>
                  <a:lnTo>
                    <a:pt x="213" y="770"/>
                  </a:lnTo>
                  <a:lnTo>
                    <a:pt x="175" y="838"/>
                  </a:lnTo>
                  <a:lnTo>
                    <a:pt x="139" y="898"/>
                  </a:lnTo>
                  <a:lnTo>
                    <a:pt x="108" y="956"/>
                  </a:lnTo>
                  <a:lnTo>
                    <a:pt x="78" y="1010"/>
                  </a:lnTo>
                  <a:lnTo>
                    <a:pt x="64" y="1037"/>
                  </a:lnTo>
                  <a:lnTo>
                    <a:pt x="52" y="1063"/>
                  </a:lnTo>
                  <a:lnTo>
                    <a:pt x="40" y="1090"/>
                  </a:lnTo>
                  <a:lnTo>
                    <a:pt x="28" y="1117"/>
                  </a:lnTo>
                  <a:lnTo>
                    <a:pt x="26" y="1121"/>
                  </a:lnTo>
                  <a:lnTo>
                    <a:pt x="25" y="1123"/>
                  </a:lnTo>
                  <a:lnTo>
                    <a:pt x="24" y="1127"/>
                  </a:lnTo>
                  <a:lnTo>
                    <a:pt x="23" y="1130"/>
                  </a:lnTo>
                  <a:lnTo>
                    <a:pt x="21" y="1133"/>
                  </a:lnTo>
                  <a:lnTo>
                    <a:pt x="19" y="1136"/>
                  </a:lnTo>
                  <a:lnTo>
                    <a:pt x="18" y="1139"/>
                  </a:lnTo>
                  <a:lnTo>
                    <a:pt x="16" y="1142"/>
                  </a:lnTo>
                  <a:lnTo>
                    <a:pt x="16" y="1143"/>
                  </a:lnTo>
                  <a:lnTo>
                    <a:pt x="13" y="1146"/>
                  </a:lnTo>
                  <a:lnTo>
                    <a:pt x="10" y="1147"/>
                  </a:lnTo>
                  <a:lnTo>
                    <a:pt x="7" y="1148"/>
                  </a:lnTo>
                  <a:lnTo>
                    <a:pt x="4" y="1148"/>
                  </a:lnTo>
                  <a:lnTo>
                    <a:pt x="3" y="1147"/>
                  </a:lnTo>
                  <a:lnTo>
                    <a:pt x="2" y="1144"/>
                  </a:lnTo>
                  <a:lnTo>
                    <a:pt x="0" y="1141"/>
                  </a:lnTo>
                  <a:lnTo>
                    <a:pt x="0" y="1131"/>
                  </a:lnTo>
                  <a:lnTo>
                    <a:pt x="3" y="1115"/>
                  </a:lnTo>
                  <a:lnTo>
                    <a:pt x="13" y="1083"/>
                  </a:lnTo>
                  <a:lnTo>
                    <a:pt x="28" y="1045"/>
                  </a:lnTo>
                  <a:lnTo>
                    <a:pt x="45" y="1002"/>
                  </a:lnTo>
                  <a:lnTo>
                    <a:pt x="66" y="955"/>
                  </a:lnTo>
                  <a:lnTo>
                    <a:pt x="89" y="909"/>
                  </a:lnTo>
                  <a:lnTo>
                    <a:pt x="115" y="864"/>
                  </a:lnTo>
                  <a:lnTo>
                    <a:pt x="128" y="842"/>
                  </a:lnTo>
                  <a:lnTo>
                    <a:pt x="142" y="821"/>
                  </a:lnTo>
                  <a:lnTo>
                    <a:pt x="155" y="801"/>
                  </a:lnTo>
                  <a:lnTo>
                    <a:pt x="169" y="784"/>
                  </a:lnTo>
                  <a:lnTo>
                    <a:pt x="183" y="765"/>
                  </a:lnTo>
                  <a:lnTo>
                    <a:pt x="195" y="746"/>
                  </a:lnTo>
                  <a:lnTo>
                    <a:pt x="207" y="725"/>
                  </a:lnTo>
                  <a:lnTo>
                    <a:pt x="219" y="704"/>
                  </a:lnTo>
                  <a:lnTo>
                    <a:pt x="243" y="658"/>
                  </a:lnTo>
                  <a:lnTo>
                    <a:pt x="263" y="613"/>
                  </a:lnTo>
                  <a:lnTo>
                    <a:pt x="280" y="570"/>
                  </a:lnTo>
                  <a:lnTo>
                    <a:pt x="293" y="531"/>
                  </a:lnTo>
                  <a:lnTo>
                    <a:pt x="299" y="513"/>
                  </a:lnTo>
                  <a:lnTo>
                    <a:pt x="303" y="499"/>
                  </a:lnTo>
                  <a:lnTo>
                    <a:pt x="306" y="485"/>
                  </a:lnTo>
                  <a:lnTo>
                    <a:pt x="308" y="474"/>
                  </a:lnTo>
                  <a:close/>
                </a:path>
              </a:pathLst>
            </a:custGeom>
            <a:solidFill>
              <a:srgbClr val="7b6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6886440" y="2335320"/>
              <a:ext cx="119160" cy="355680"/>
            </a:xfrm>
            <a:custGeom>
              <a:avLst/>
              <a:gdLst/>
              <a:ahLst/>
              <a:rect l="l" t="t" r="r" b="b"/>
              <a:pathLst>
                <a:path w="375" h="1117">
                  <a:moveTo>
                    <a:pt x="11" y="1106"/>
                  </a:moveTo>
                  <a:lnTo>
                    <a:pt x="14" y="1102"/>
                  </a:lnTo>
                  <a:lnTo>
                    <a:pt x="15" y="1098"/>
                  </a:lnTo>
                  <a:lnTo>
                    <a:pt x="16" y="1095"/>
                  </a:lnTo>
                  <a:lnTo>
                    <a:pt x="17" y="1091"/>
                  </a:lnTo>
                  <a:lnTo>
                    <a:pt x="18" y="1087"/>
                  </a:lnTo>
                  <a:lnTo>
                    <a:pt x="20" y="1085"/>
                  </a:lnTo>
                  <a:lnTo>
                    <a:pt x="21" y="1081"/>
                  </a:lnTo>
                  <a:lnTo>
                    <a:pt x="22" y="1079"/>
                  </a:lnTo>
                  <a:lnTo>
                    <a:pt x="46" y="1027"/>
                  </a:lnTo>
                  <a:lnTo>
                    <a:pt x="71" y="978"/>
                  </a:lnTo>
                  <a:lnTo>
                    <a:pt x="100" y="926"/>
                  </a:lnTo>
                  <a:lnTo>
                    <a:pt x="130" y="872"/>
                  </a:lnTo>
                  <a:lnTo>
                    <a:pt x="164" y="813"/>
                  </a:lnTo>
                  <a:lnTo>
                    <a:pt x="201" y="749"/>
                  </a:lnTo>
                  <a:lnTo>
                    <a:pt x="240" y="675"/>
                  </a:lnTo>
                  <a:lnTo>
                    <a:pt x="283" y="593"/>
                  </a:lnTo>
                  <a:lnTo>
                    <a:pt x="293" y="571"/>
                  </a:lnTo>
                  <a:lnTo>
                    <a:pt x="303" y="547"/>
                  </a:lnTo>
                  <a:lnTo>
                    <a:pt x="313" y="525"/>
                  </a:lnTo>
                  <a:lnTo>
                    <a:pt x="320" y="503"/>
                  </a:lnTo>
                  <a:lnTo>
                    <a:pt x="335" y="459"/>
                  </a:lnTo>
                  <a:lnTo>
                    <a:pt x="347" y="413"/>
                  </a:lnTo>
                  <a:lnTo>
                    <a:pt x="357" y="370"/>
                  </a:lnTo>
                  <a:lnTo>
                    <a:pt x="363" y="327"/>
                  </a:lnTo>
                  <a:lnTo>
                    <a:pt x="369" y="285"/>
                  </a:lnTo>
                  <a:lnTo>
                    <a:pt x="373" y="245"/>
                  </a:lnTo>
                  <a:lnTo>
                    <a:pt x="374" y="206"/>
                  </a:lnTo>
                  <a:lnTo>
                    <a:pt x="375" y="169"/>
                  </a:lnTo>
                  <a:lnTo>
                    <a:pt x="375" y="135"/>
                  </a:lnTo>
                  <a:lnTo>
                    <a:pt x="374" y="103"/>
                  </a:lnTo>
                  <a:lnTo>
                    <a:pt x="369" y="49"/>
                  </a:lnTo>
                  <a:lnTo>
                    <a:pt x="364" y="9"/>
                  </a:lnTo>
                  <a:lnTo>
                    <a:pt x="363" y="0"/>
                  </a:lnTo>
                  <a:lnTo>
                    <a:pt x="363" y="1"/>
                  </a:lnTo>
                  <a:lnTo>
                    <a:pt x="364" y="6"/>
                  </a:lnTo>
                  <a:lnTo>
                    <a:pt x="365" y="16"/>
                  </a:lnTo>
                  <a:lnTo>
                    <a:pt x="367" y="25"/>
                  </a:lnTo>
                  <a:lnTo>
                    <a:pt x="367" y="32"/>
                  </a:lnTo>
                  <a:lnTo>
                    <a:pt x="367" y="33"/>
                  </a:lnTo>
                  <a:lnTo>
                    <a:pt x="367" y="33"/>
                  </a:lnTo>
                  <a:lnTo>
                    <a:pt x="365" y="32"/>
                  </a:lnTo>
                  <a:lnTo>
                    <a:pt x="364" y="27"/>
                  </a:lnTo>
                  <a:lnTo>
                    <a:pt x="364" y="31"/>
                  </a:lnTo>
                  <a:lnTo>
                    <a:pt x="364" y="38"/>
                  </a:lnTo>
                  <a:lnTo>
                    <a:pt x="364" y="52"/>
                  </a:lnTo>
                  <a:lnTo>
                    <a:pt x="364" y="69"/>
                  </a:lnTo>
                  <a:lnTo>
                    <a:pt x="364" y="91"/>
                  </a:lnTo>
                  <a:lnTo>
                    <a:pt x="364" y="117"/>
                  </a:lnTo>
                  <a:lnTo>
                    <a:pt x="364" y="146"/>
                  </a:lnTo>
                  <a:lnTo>
                    <a:pt x="364" y="180"/>
                  </a:lnTo>
                  <a:lnTo>
                    <a:pt x="364" y="201"/>
                  </a:lnTo>
                  <a:lnTo>
                    <a:pt x="363" y="222"/>
                  </a:lnTo>
                  <a:lnTo>
                    <a:pt x="360" y="242"/>
                  </a:lnTo>
                  <a:lnTo>
                    <a:pt x="359" y="263"/>
                  </a:lnTo>
                  <a:lnTo>
                    <a:pt x="353" y="303"/>
                  </a:lnTo>
                  <a:lnTo>
                    <a:pt x="346" y="338"/>
                  </a:lnTo>
                  <a:lnTo>
                    <a:pt x="338" y="373"/>
                  </a:lnTo>
                  <a:lnTo>
                    <a:pt x="331" y="404"/>
                  </a:lnTo>
                  <a:lnTo>
                    <a:pt x="325" y="429"/>
                  </a:lnTo>
                  <a:lnTo>
                    <a:pt x="321" y="452"/>
                  </a:lnTo>
                  <a:lnTo>
                    <a:pt x="319" y="463"/>
                  </a:lnTo>
                  <a:lnTo>
                    <a:pt x="316" y="476"/>
                  </a:lnTo>
                  <a:lnTo>
                    <a:pt x="311" y="492"/>
                  </a:lnTo>
                  <a:lnTo>
                    <a:pt x="305" y="509"/>
                  </a:lnTo>
                  <a:lnTo>
                    <a:pt x="289" y="550"/>
                  </a:lnTo>
                  <a:lnTo>
                    <a:pt x="269" y="595"/>
                  </a:lnTo>
                  <a:lnTo>
                    <a:pt x="246" y="641"/>
                  </a:lnTo>
                  <a:lnTo>
                    <a:pt x="220" y="688"/>
                  </a:lnTo>
                  <a:lnTo>
                    <a:pt x="207" y="710"/>
                  </a:lnTo>
                  <a:lnTo>
                    <a:pt x="193" y="731"/>
                  </a:lnTo>
                  <a:lnTo>
                    <a:pt x="180" y="750"/>
                  </a:lnTo>
                  <a:lnTo>
                    <a:pt x="166" y="769"/>
                  </a:lnTo>
                  <a:lnTo>
                    <a:pt x="153" y="787"/>
                  </a:lnTo>
                  <a:lnTo>
                    <a:pt x="140" y="806"/>
                  </a:lnTo>
                  <a:lnTo>
                    <a:pt x="127" y="827"/>
                  </a:lnTo>
                  <a:lnTo>
                    <a:pt x="114" y="848"/>
                  </a:lnTo>
                  <a:lnTo>
                    <a:pt x="91" y="892"/>
                  </a:lnTo>
                  <a:lnTo>
                    <a:pt x="70" y="937"/>
                  </a:lnTo>
                  <a:lnTo>
                    <a:pt x="49" y="980"/>
                  </a:lnTo>
                  <a:lnTo>
                    <a:pt x="32" y="1022"/>
                  </a:lnTo>
                  <a:lnTo>
                    <a:pt x="17" y="1060"/>
                  </a:lnTo>
                  <a:lnTo>
                    <a:pt x="6" y="1092"/>
                  </a:lnTo>
                  <a:lnTo>
                    <a:pt x="1" y="1106"/>
                  </a:lnTo>
                  <a:lnTo>
                    <a:pt x="0" y="1114"/>
                  </a:lnTo>
                  <a:lnTo>
                    <a:pt x="0" y="1116"/>
                  </a:lnTo>
                  <a:lnTo>
                    <a:pt x="0" y="1117"/>
                  </a:lnTo>
                  <a:lnTo>
                    <a:pt x="1" y="1117"/>
                  </a:lnTo>
                  <a:lnTo>
                    <a:pt x="2" y="1117"/>
                  </a:lnTo>
                  <a:lnTo>
                    <a:pt x="5" y="1113"/>
                  </a:lnTo>
                  <a:lnTo>
                    <a:pt x="7" y="1111"/>
                  </a:lnTo>
                  <a:lnTo>
                    <a:pt x="10" y="1107"/>
                  </a:lnTo>
                  <a:lnTo>
                    <a:pt x="11" y="1106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6505560" y="2198880"/>
              <a:ext cx="160200" cy="83880"/>
            </a:xfrm>
            <a:custGeom>
              <a:avLst/>
              <a:gdLst/>
              <a:ahLst/>
              <a:rect l="l" t="t" r="r" b="b"/>
              <a:pathLst>
                <a:path w="508" h="261">
                  <a:moveTo>
                    <a:pt x="0" y="139"/>
                  </a:moveTo>
                  <a:lnTo>
                    <a:pt x="4" y="131"/>
                  </a:lnTo>
                  <a:lnTo>
                    <a:pt x="16" y="114"/>
                  </a:lnTo>
                  <a:lnTo>
                    <a:pt x="26" y="102"/>
                  </a:lnTo>
                  <a:lnTo>
                    <a:pt x="38" y="90"/>
                  </a:lnTo>
                  <a:lnTo>
                    <a:pt x="52" y="76"/>
                  </a:lnTo>
                  <a:lnTo>
                    <a:pt x="69" y="61"/>
                  </a:lnTo>
                  <a:lnTo>
                    <a:pt x="89" y="48"/>
                  </a:lnTo>
                  <a:lnTo>
                    <a:pt x="111" y="36"/>
                  </a:lnTo>
                  <a:lnTo>
                    <a:pt x="122" y="29"/>
                  </a:lnTo>
                  <a:lnTo>
                    <a:pt x="136" y="23"/>
                  </a:lnTo>
                  <a:lnTo>
                    <a:pt x="149" y="18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93" y="6"/>
                  </a:lnTo>
                  <a:lnTo>
                    <a:pt x="211" y="4"/>
                  </a:lnTo>
                  <a:lnTo>
                    <a:pt x="228" y="2"/>
                  </a:lnTo>
                  <a:lnTo>
                    <a:pt x="245" y="1"/>
                  </a:lnTo>
                  <a:lnTo>
                    <a:pt x="265" y="0"/>
                  </a:lnTo>
                  <a:lnTo>
                    <a:pt x="284" y="1"/>
                  </a:lnTo>
                  <a:lnTo>
                    <a:pt x="304" y="2"/>
                  </a:lnTo>
                  <a:lnTo>
                    <a:pt x="310" y="4"/>
                  </a:lnTo>
                  <a:lnTo>
                    <a:pt x="328" y="6"/>
                  </a:lnTo>
                  <a:lnTo>
                    <a:pt x="339" y="8"/>
                  </a:lnTo>
                  <a:lnTo>
                    <a:pt x="352" y="12"/>
                  </a:lnTo>
                  <a:lnTo>
                    <a:pt x="366" y="18"/>
                  </a:lnTo>
                  <a:lnTo>
                    <a:pt x="382" y="24"/>
                  </a:lnTo>
                  <a:lnTo>
                    <a:pt x="398" y="33"/>
                  </a:lnTo>
                  <a:lnTo>
                    <a:pt x="415" y="44"/>
                  </a:lnTo>
                  <a:lnTo>
                    <a:pt x="431" y="56"/>
                  </a:lnTo>
                  <a:lnTo>
                    <a:pt x="448" y="71"/>
                  </a:lnTo>
                  <a:lnTo>
                    <a:pt x="464" y="90"/>
                  </a:lnTo>
                  <a:lnTo>
                    <a:pt x="479" y="111"/>
                  </a:lnTo>
                  <a:lnTo>
                    <a:pt x="486" y="122"/>
                  </a:lnTo>
                  <a:lnTo>
                    <a:pt x="494" y="134"/>
                  </a:lnTo>
                  <a:lnTo>
                    <a:pt x="500" y="146"/>
                  </a:lnTo>
                  <a:lnTo>
                    <a:pt x="506" y="161"/>
                  </a:lnTo>
                  <a:lnTo>
                    <a:pt x="506" y="162"/>
                  </a:lnTo>
                  <a:lnTo>
                    <a:pt x="507" y="168"/>
                  </a:lnTo>
                  <a:lnTo>
                    <a:pt x="508" y="177"/>
                  </a:lnTo>
                  <a:lnTo>
                    <a:pt x="507" y="186"/>
                  </a:lnTo>
                  <a:lnTo>
                    <a:pt x="507" y="190"/>
                  </a:lnTo>
                  <a:lnTo>
                    <a:pt x="505" y="195"/>
                  </a:lnTo>
                  <a:lnTo>
                    <a:pt x="503" y="199"/>
                  </a:lnTo>
                  <a:lnTo>
                    <a:pt x="500" y="203"/>
                  </a:lnTo>
                  <a:lnTo>
                    <a:pt x="496" y="205"/>
                  </a:lnTo>
                  <a:lnTo>
                    <a:pt x="491" y="208"/>
                  </a:lnTo>
                  <a:lnTo>
                    <a:pt x="485" y="209"/>
                  </a:lnTo>
                  <a:lnTo>
                    <a:pt x="479" y="209"/>
                  </a:lnTo>
                  <a:lnTo>
                    <a:pt x="471" y="209"/>
                  </a:lnTo>
                  <a:lnTo>
                    <a:pt x="463" y="209"/>
                  </a:lnTo>
                  <a:lnTo>
                    <a:pt x="455" y="210"/>
                  </a:lnTo>
                  <a:lnTo>
                    <a:pt x="447" y="211"/>
                  </a:lnTo>
                  <a:lnTo>
                    <a:pt x="430" y="215"/>
                  </a:lnTo>
                  <a:lnTo>
                    <a:pt x="411" y="221"/>
                  </a:lnTo>
                  <a:lnTo>
                    <a:pt x="393" y="227"/>
                  </a:lnTo>
                  <a:lnTo>
                    <a:pt x="376" y="234"/>
                  </a:lnTo>
                  <a:lnTo>
                    <a:pt x="360" y="240"/>
                  </a:lnTo>
                  <a:lnTo>
                    <a:pt x="346" y="245"/>
                  </a:lnTo>
                  <a:lnTo>
                    <a:pt x="316" y="251"/>
                  </a:lnTo>
                  <a:lnTo>
                    <a:pt x="277" y="257"/>
                  </a:lnTo>
                  <a:lnTo>
                    <a:pt x="254" y="259"/>
                  </a:lnTo>
                  <a:lnTo>
                    <a:pt x="230" y="261"/>
                  </a:lnTo>
                  <a:lnTo>
                    <a:pt x="204" y="261"/>
                  </a:lnTo>
                  <a:lnTo>
                    <a:pt x="179" y="259"/>
                  </a:lnTo>
                  <a:lnTo>
                    <a:pt x="166" y="257"/>
                  </a:lnTo>
                  <a:lnTo>
                    <a:pt x="153" y="254"/>
                  </a:lnTo>
                  <a:lnTo>
                    <a:pt x="141" y="252"/>
                  </a:lnTo>
                  <a:lnTo>
                    <a:pt x="127" y="248"/>
                  </a:lnTo>
                  <a:lnTo>
                    <a:pt x="115" y="245"/>
                  </a:lnTo>
                  <a:lnTo>
                    <a:pt x="102" y="240"/>
                  </a:lnTo>
                  <a:lnTo>
                    <a:pt x="90" y="234"/>
                  </a:lnTo>
                  <a:lnTo>
                    <a:pt x="78" y="227"/>
                  </a:lnTo>
                  <a:lnTo>
                    <a:pt x="67" y="220"/>
                  </a:lnTo>
                  <a:lnTo>
                    <a:pt x="56" y="211"/>
                  </a:lnTo>
                  <a:lnTo>
                    <a:pt x="45" y="202"/>
                  </a:lnTo>
                  <a:lnTo>
                    <a:pt x="35" y="192"/>
                  </a:lnTo>
                  <a:lnTo>
                    <a:pt x="25" y="179"/>
                  </a:lnTo>
                  <a:lnTo>
                    <a:pt x="16" y="167"/>
                  </a:lnTo>
                  <a:lnTo>
                    <a:pt x="8" y="154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6842160" y="2200320"/>
              <a:ext cx="127080" cy="81000"/>
            </a:xfrm>
            <a:custGeom>
              <a:avLst/>
              <a:gdLst/>
              <a:ahLst/>
              <a:rect l="l" t="t" r="r" b="b"/>
              <a:pathLst>
                <a:path w="401" h="257">
                  <a:moveTo>
                    <a:pt x="401" y="137"/>
                  </a:moveTo>
                  <a:lnTo>
                    <a:pt x="401" y="131"/>
                  </a:lnTo>
                  <a:lnTo>
                    <a:pt x="396" y="113"/>
                  </a:lnTo>
                  <a:lnTo>
                    <a:pt x="393" y="102"/>
                  </a:lnTo>
                  <a:lnTo>
                    <a:pt x="388" y="90"/>
                  </a:lnTo>
                  <a:lnTo>
                    <a:pt x="380" y="77"/>
                  </a:lnTo>
                  <a:lnTo>
                    <a:pt x="372" y="64"/>
                  </a:lnTo>
                  <a:lnTo>
                    <a:pt x="361" y="51"/>
                  </a:lnTo>
                  <a:lnTo>
                    <a:pt x="347" y="38"/>
                  </a:lnTo>
                  <a:lnTo>
                    <a:pt x="339" y="32"/>
                  </a:lnTo>
                  <a:lnTo>
                    <a:pt x="330" y="26"/>
                  </a:lnTo>
                  <a:lnTo>
                    <a:pt x="321" y="21"/>
                  </a:lnTo>
                  <a:lnTo>
                    <a:pt x="311" y="16"/>
                  </a:lnTo>
                  <a:lnTo>
                    <a:pt x="300" y="13"/>
                  </a:lnTo>
                  <a:lnTo>
                    <a:pt x="289" y="9"/>
                  </a:lnTo>
                  <a:lnTo>
                    <a:pt x="277" y="5"/>
                  </a:lnTo>
                  <a:lnTo>
                    <a:pt x="263" y="3"/>
                  </a:lnTo>
                  <a:lnTo>
                    <a:pt x="249" y="2"/>
                  </a:lnTo>
                  <a:lnTo>
                    <a:pt x="234" y="0"/>
                  </a:lnTo>
                  <a:lnTo>
                    <a:pt x="218" y="0"/>
                  </a:lnTo>
                  <a:lnTo>
                    <a:pt x="201" y="0"/>
                  </a:lnTo>
                  <a:lnTo>
                    <a:pt x="195" y="2"/>
                  </a:lnTo>
                  <a:lnTo>
                    <a:pt x="179" y="4"/>
                  </a:lnTo>
                  <a:lnTo>
                    <a:pt x="168" y="6"/>
                  </a:lnTo>
                  <a:lnTo>
                    <a:pt x="154" y="10"/>
                  </a:lnTo>
                  <a:lnTo>
                    <a:pt x="140" y="16"/>
                  </a:lnTo>
                  <a:lnTo>
                    <a:pt x="124" y="22"/>
                  </a:lnTo>
                  <a:lnTo>
                    <a:pt x="108" y="31"/>
                  </a:lnTo>
                  <a:lnTo>
                    <a:pt x="92" y="42"/>
                  </a:lnTo>
                  <a:lnTo>
                    <a:pt x="76" y="54"/>
                  </a:lnTo>
                  <a:lnTo>
                    <a:pt x="59" y="69"/>
                  </a:lnTo>
                  <a:lnTo>
                    <a:pt x="45" y="88"/>
                  </a:lnTo>
                  <a:lnTo>
                    <a:pt x="29" y="109"/>
                  </a:lnTo>
                  <a:lnTo>
                    <a:pt x="21" y="120"/>
                  </a:lnTo>
                  <a:lnTo>
                    <a:pt x="15" y="132"/>
                  </a:lnTo>
                  <a:lnTo>
                    <a:pt x="9" y="144"/>
                  </a:lnTo>
                  <a:lnTo>
                    <a:pt x="3" y="159"/>
                  </a:lnTo>
                  <a:lnTo>
                    <a:pt x="1" y="160"/>
                  </a:lnTo>
                  <a:lnTo>
                    <a:pt x="1" y="166"/>
                  </a:lnTo>
                  <a:lnTo>
                    <a:pt x="0" y="175"/>
                  </a:lnTo>
                  <a:lnTo>
                    <a:pt x="1" y="184"/>
                  </a:lnTo>
                  <a:lnTo>
                    <a:pt x="3" y="188"/>
                  </a:lnTo>
                  <a:lnTo>
                    <a:pt x="4" y="193"/>
                  </a:lnTo>
                  <a:lnTo>
                    <a:pt x="5" y="197"/>
                  </a:lnTo>
                  <a:lnTo>
                    <a:pt x="8" y="201"/>
                  </a:lnTo>
                  <a:lnTo>
                    <a:pt x="11" y="203"/>
                  </a:lnTo>
                  <a:lnTo>
                    <a:pt x="16" y="206"/>
                  </a:lnTo>
                  <a:lnTo>
                    <a:pt x="21" y="207"/>
                  </a:lnTo>
                  <a:lnTo>
                    <a:pt x="27" y="207"/>
                  </a:lnTo>
                  <a:lnTo>
                    <a:pt x="42" y="207"/>
                  </a:lnTo>
                  <a:lnTo>
                    <a:pt x="58" y="207"/>
                  </a:lnTo>
                  <a:lnTo>
                    <a:pt x="73" y="211"/>
                  </a:lnTo>
                  <a:lnTo>
                    <a:pt x="90" y="214"/>
                  </a:lnTo>
                  <a:lnTo>
                    <a:pt x="106" y="220"/>
                  </a:lnTo>
                  <a:lnTo>
                    <a:pt x="124" y="227"/>
                  </a:lnTo>
                  <a:lnTo>
                    <a:pt x="143" y="235"/>
                  </a:lnTo>
                  <a:lnTo>
                    <a:pt x="163" y="243"/>
                  </a:lnTo>
                  <a:lnTo>
                    <a:pt x="179" y="248"/>
                  </a:lnTo>
                  <a:lnTo>
                    <a:pt x="195" y="252"/>
                  </a:lnTo>
                  <a:lnTo>
                    <a:pt x="211" y="255"/>
                  </a:lnTo>
                  <a:lnTo>
                    <a:pt x="228" y="256"/>
                  </a:lnTo>
                  <a:lnTo>
                    <a:pt x="245" y="257"/>
                  </a:lnTo>
                  <a:lnTo>
                    <a:pt x="262" y="256"/>
                  </a:lnTo>
                  <a:lnTo>
                    <a:pt x="278" y="254"/>
                  </a:lnTo>
                  <a:lnTo>
                    <a:pt x="295" y="249"/>
                  </a:lnTo>
                  <a:lnTo>
                    <a:pt x="311" y="243"/>
                  </a:lnTo>
                  <a:lnTo>
                    <a:pt x="327" y="234"/>
                  </a:lnTo>
                  <a:lnTo>
                    <a:pt x="342" y="224"/>
                  </a:lnTo>
                  <a:lnTo>
                    <a:pt x="357" y="212"/>
                  </a:lnTo>
                  <a:lnTo>
                    <a:pt x="369" y="196"/>
                  </a:lnTo>
                  <a:lnTo>
                    <a:pt x="382" y="179"/>
                  </a:lnTo>
                  <a:lnTo>
                    <a:pt x="393" y="159"/>
                  </a:lnTo>
                  <a:lnTo>
                    <a:pt x="401" y="13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6505560" y="2198880"/>
              <a:ext cx="160200" cy="52200"/>
            </a:xfrm>
            <a:custGeom>
              <a:avLst/>
              <a:gdLst/>
              <a:ahLst/>
              <a:rect l="l" t="t" r="r" b="b"/>
              <a:pathLst>
                <a:path w="506" h="161">
                  <a:moveTo>
                    <a:pt x="506" y="161"/>
                  </a:moveTo>
                  <a:lnTo>
                    <a:pt x="500" y="146"/>
                  </a:lnTo>
                  <a:lnTo>
                    <a:pt x="494" y="134"/>
                  </a:lnTo>
                  <a:lnTo>
                    <a:pt x="486" y="122"/>
                  </a:lnTo>
                  <a:lnTo>
                    <a:pt x="479" y="111"/>
                  </a:lnTo>
                  <a:lnTo>
                    <a:pt x="464" y="90"/>
                  </a:lnTo>
                  <a:lnTo>
                    <a:pt x="448" y="71"/>
                  </a:lnTo>
                  <a:lnTo>
                    <a:pt x="431" y="56"/>
                  </a:lnTo>
                  <a:lnTo>
                    <a:pt x="415" y="44"/>
                  </a:lnTo>
                  <a:lnTo>
                    <a:pt x="398" y="33"/>
                  </a:lnTo>
                  <a:lnTo>
                    <a:pt x="382" y="24"/>
                  </a:lnTo>
                  <a:lnTo>
                    <a:pt x="366" y="18"/>
                  </a:lnTo>
                  <a:lnTo>
                    <a:pt x="352" y="12"/>
                  </a:lnTo>
                  <a:lnTo>
                    <a:pt x="339" y="8"/>
                  </a:lnTo>
                  <a:lnTo>
                    <a:pt x="328" y="6"/>
                  </a:lnTo>
                  <a:lnTo>
                    <a:pt x="310" y="4"/>
                  </a:lnTo>
                  <a:lnTo>
                    <a:pt x="304" y="2"/>
                  </a:lnTo>
                  <a:lnTo>
                    <a:pt x="284" y="1"/>
                  </a:lnTo>
                  <a:lnTo>
                    <a:pt x="265" y="0"/>
                  </a:lnTo>
                  <a:lnTo>
                    <a:pt x="245" y="1"/>
                  </a:lnTo>
                  <a:lnTo>
                    <a:pt x="228" y="2"/>
                  </a:lnTo>
                  <a:lnTo>
                    <a:pt x="211" y="4"/>
                  </a:lnTo>
                  <a:lnTo>
                    <a:pt x="193" y="6"/>
                  </a:lnTo>
                  <a:lnTo>
                    <a:pt x="179" y="10"/>
                  </a:lnTo>
                  <a:lnTo>
                    <a:pt x="163" y="13"/>
                  </a:lnTo>
                  <a:lnTo>
                    <a:pt x="149" y="18"/>
                  </a:lnTo>
                  <a:lnTo>
                    <a:pt x="136" y="23"/>
                  </a:lnTo>
                  <a:lnTo>
                    <a:pt x="122" y="29"/>
                  </a:lnTo>
                  <a:lnTo>
                    <a:pt x="111" y="36"/>
                  </a:lnTo>
                  <a:lnTo>
                    <a:pt x="89" y="48"/>
                  </a:lnTo>
                  <a:lnTo>
                    <a:pt x="69" y="61"/>
                  </a:lnTo>
                  <a:lnTo>
                    <a:pt x="52" y="76"/>
                  </a:lnTo>
                  <a:lnTo>
                    <a:pt x="38" y="90"/>
                  </a:lnTo>
                  <a:lnTo>
                    <a:pt x="26" y="102"/>
                  </a:lnTo>
                  <a:lnTo>
                    <a:pt x="16" y="114"/>
                  </a:lnTo>
                  <a:lnTo>
                    <a:pt x="4" y="131"/>
                  </a:lnTo>
                  <a:lnTo>
                    <a:pt x="0" y="139"/>
                  </a:lnTo>
                  <a:lnTo>
                    <a:pt x="6" y="139"/>
                  </a:lnTo>
                  <a:lnTo>
                    <a:pt x="25" y="138"/>
                  </a:lnTo>
                  <a:lnTo>
                    <a:pt x="53" y="138"/>
                  </a:lnTo>
                  <a:lnTo>
                    <a:pt x="89" y="136"/>
                  </a:lnTo>
                  <a:lnTo>
                    <a:pt x="131" y="136"/>
                  </a:lnTo>
                  <a:lnTo>
                    <a:pt x="176" y="136"/>
                  </a:lnTo>
                  <a:lnTo>
                    <a:pt x="223" y="138"/>
                  </a:lnTo>
                  <a:lnTo>
                    <a:pt x="270" y="139"/>
                  </a:lnTo>
                  <a:lnTo>
                    <a:pt x="314" y="143"/>
                  </a:lnTo>
                  <a:lnTo>
                    <a:pt x="357" y="145"/>
                  </a:lnTo>
                  <a:lnTo>
                    <a:pt x="396" y="149"/>
                  </a:lnTo>
                  <a:lnTo>
                    <a:pt x="432" y="152"/>
                  </a:lnTo>
                  <a:lnTo>
                    <a:pt x="463" y="156"/>
                  </a:lnTo>
                  <a:lnTo>
                    <a:pt x="486" y="159"/>
                  </a:lnTo>
                  <a:lnTo>
                    <a:pt x="501" y="160"/>
                  </a:lnTo>
                  <a:lnTo>
                    <a:pt x="506" y="16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6507000" y="2200320"/>
              <a:ext cx="158760" cy="50760"/>
            </a:xfrm>
            <a:custGeom>
              <a:avLst/>
              <a:gdLst/>
              <a:ahLst/>
              <a:rect l="l" t="t" r="r" b="b"/>
              <a:pathLst>
                <a:path w="500" h="160">
                  <a:moveTo>
                    <a:pt x="261" y="118"/>
                  </a:moveTo>
                  <a:lnTo>
                    <a:pt x="216" y="118"/>
                  </a:lnTo>
                  <a:lnTo>
                    <a:pt x="169" y="118"/>
                  </a:lnTo>
                  <a:lnTo>
                    <a:pt x="126" y="119"/>
                  </a:lnTo>
                  <a:lnTo>
                    <a:pt x="85" y="122"/>
                  </a:lnTo>
                  <a:lnTo>
                    <a:pt x="51" y="124"/>
                  </a:lnTo>
                  <a:lnTo>
                    <a:pt x="24" y="127"/>
                  </a:lnTo>
                  <a:lnTo>
                    <a:pt x="7" y="129"/>
                  </a:lnTo>
                  <a:lnTo>
                    <a:pt x="0" y="129"/>
                  </a:lnTo>
                  <a:lnTo>
                    <a:pt x="4" y="123"/>
                  </a:lnTo>
                  <a:lnTo>
                    <a:pt x="16" y="107"/>
                  </a:lnTo>
                  <a:lnTo>
                    <a:pt x="25" y="96"/>
                  </a:lnTo>
                  <a:lnTo>
                    <a:pt x="37" y="84"/>
                  </a:lnTo>
                  <a:lnTo>
                    <a:pt x="51" y="70"/>
                  </a:lnTo>
                  <a:lnTo>
                    <a:pt x="68" y="58"/>
                  </a:lnTo>
                  <a:lnTo>
                    <a:pt x="87" y="44"/>
                  </a:lnTo>
                  <a:lnTo>
                    <a:pt x="109" y="33"/>
                  </a:lnTo>
                  <a:lnTo>
                    <a:pt x="121" y="27"/>
                  </a:lnTo>
                  <a:lnTo>
                    <a:pt x="133" y="22"/>
                  </a:lnTo>
                  <a:lnTo>
                    <a:pt x="147" y="17"/>
                  </a:lnTo>
                  <a:lnTo>
                    <a:pt x="160" y="12"/>
                  </a:lnTo>
                  <a:lnTo>
                    <a:pt x="175" y="9"/>
                  </a:lnTo>
                  <a:lnTo>
                    <a:pt x="190" y="5"/>
                  </a:lnTo>
                  <a:lnTo>
                    <a:pt x="207" y="3"/>
                  </a:lnTo>
                  <a:lnTo>
                    <a:pt x="223" y="1"/>
                  </a:lnTo>
                  <a:lnTo>
                    <a:pt x="242" y="0"/>
                  </a:lnTo>
                  <a:lnTo>
                    <a:pt x="260" y="0"/>
                  </a:lnTo>
                  <a:lnTo>
                    <a:pt x="278" y="0"/>
                  </a:lnTo>
                  <a:lnTo>
                    <a:pt x="298" y="1"/>
                  </a:lnTo>
                  <a:lnTo>
                    <a:pt x="304" y="3"/>
                  </a:lnTo>
                  <a:lnTo>
                    <a:pt x="322" y="5"/>
                  </a:lnTo>
                  <a:lnTo>
                    <a:pt x="333" y="7"/>
                  </a:lnTo>
                  <a:lnTo>
                    <a:pt x="346" y="11"/>
                  </a:lnTo>
                  <a:lnTo>
                    <a:pt x="360" y="17"/>
                  </a:lnTo>
                  <a:lnTo>
                    <a:pt x="376" y="23"/>
                  </a:lnTo>
                  <a:lnTo>
                    <a:pt x="392" y="32"/>
                  </a:lnTo>
                  <a:lnTo>
                    <a:pt x="409" y="43"/>
                  </a:lnTo>
                  <a:lnTo>
                    <a:pt x="425" y="55"/>
                  </a:lnTo>
                  <a:lnTo>
                    <a:pt x="442" y="70"/>
                  </a:lnTo>
                  <a:lnTo>
                    <a:pt x="458" y="89"/>
                  </a:lnTo>
                  <a:lnTo>
                    <a:pt x="473" y="110"/>
                  </a:lnTo>
                  <a:lnTo>
                    <a:pt x="480" y="121"/>
                  </a:lnTo>
                  <a:lnTo>
                    <a:pt x="488" y="133"/>
                  </a:lnTo>
                  <a:lnTo>
                    <a:pt x="494" y="145"/>
                  </a:lnTo>
                  <a:lnTo>
                    <a:pt x="500" y="160"/>
                  </a:lnTo>
                  <a:lnTo>
                    <a:pt x="495" y="158"/>
                  </a:lnTo>
                  <a:lnTo>
                    <a:pt x="481" y="154"/>
                  </a:lnTo>
                  <a:lnTo>
                    <a:pt x="459" y="148"/>
                  </a:lnTo>
                  <a:lnTo>
                    <a:pt x="430" y="142"/>
                  </a:lnTo>
                  <a:lnTo>
                    <a:pt x="395" y="134"/>
                  </a:lnTo>
                  <a:lnTo>
                    <a:pt x="355" y="127"/>
                  </a:lnTo>
                  <a:lnTo>
                    <a:pt x="309" y="122"/>
                  </a:lnTo>
                  <a:lnTo>
                    <a:pt x="261" y="118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6508800" y="2200320"/>
              <a:ext cx="156960" cy="50760"/>
            </a:xfrm>
            <a:custGeom>
              <a:avLst/>
              <a:gdLst/>
              <a:ahLst/>
              <a:rect l="l" t="t" r="r" b="b"/>
              <a:pathLst>
                <a:path w="492" h="160">
                  <a:moveTo>
                    <a:pt x="253" y="100"/>
                  </a:moveTo>
                  <a:lnTo>
                    <a:pt x="206" y="98"/>
                  </a:lnTo>
                  <a:lnTo>
                    <a:pt x="162" y="101"/>
                  </a:lnTo>
                  <a:lnTo>
                    <a:pt x="119" y="105"/>
                  </a:lnTo>
                  <a:lnTo>
                    <a:pt x="81" y="108"/>
                  </a:lnTo>
                  <a:lnTo>
                    <a:pt x="48" y="113"/>
                  </a:lnTo>
                  <a:lnTo>
                    <a:pt x="22" y="117"/>
                  </a:lnTo>
                  <a:lnTo>
                    <a:pt x="6" y="121"/>
                  </a:lnTo>
                  <a:lnTo>
                    <a:pt x="0" y="122"/>
                  </a:lnTo>
                  <a:lnTo>
                    <a:pt x="3" y="116"/>
                  </a:lnTo>
                  <a:lnTo>
                    <a:pt x="16" y="100"/>
                  </a:lnTo>
                  <a:lnTo>
                    <a:pt x="24" y="90"/>
                  </a:lnTo>
                  <a:lnTo>
                    <a:pt x="35" y="79"/>
                  </a:lnTo>
                  <a:lnTo>
                    <a:pt x="50" y="66"/>
                  </a:lnTo>
                  <a:lnTo>
                    <a:pt x="66" y="54"/>
                  </a:lnTo>
                  <a:lnTo>
                    <a:pt x="85" y="43"/>
                  </a:lnTo>
                  <a:lnTo>
                    <a:pt x="106" y="31"/>
                  </a:lnTo>
                  <a:lnTo>
                    <a:pt x="129" y="21"/>
                  </a:lnTo>
                  <a:lnTo>
                    <a:pt x="156" y="12"/>
                  </a:lnTo>
                  <a:lnTo>
                    <a:pt x="170" y="9"/>
                  </a:lnTo>
                  <a:lnTo>
                    <a:pt x="186" y="6"/>
                  </a:lnTo>
                  <a:lnTo>
                    <a:pt x="200" y="4"/>
                  </a:lnTo>
                  <a:lnTo>
                    <a:pt x="218" y="1"/>
                  </a:lnTo>
                  <a:lnTo>
                    <a:pt x="235" y="0"/>
                  </a:lnTo>
                  <a:lnTo>
                    <a:pt x="252" y="0"/>
                  </a:lnTo>
                  <a:lnTo>
                    <a:pt x="272" y="0"/>
                  </a:lnTo>
                  <a:lnTo>
                    <a:pt x="290" y="1"/>
                  </a:lnTo>
                  <a:lnTo>
                    <a:pt x="296" y="3"/>
                  </a:lnTo>
                  <a:lnTo>
                    <a:pt x="314" y="5"/>
                  </a:lnTo>
                  <a:lnTo>
                    <a:pt x="325" y="7"/>
                  </a:lnTo>
                  <a:lnTo>
                    <a:pt x="338" y="11"/>
                  </a:lnTo>
                  <a:lnTo>
                    <a:pt x="352" y="17"/>
                  </a:lnTo>
                  <a:lnTo>
                    <a:pt x="368" y="23"/>
                  </a:lnTo>
                  <a:lnTo>
                    <a:pt x="384" y="32"/>
                  </a:lnTo>
                  <a:lnTo>
                    <a:pt x="401" y="43"/>
                  </a:lnTo>
                  <a:lnTo>
                    <a:pt x="417" y="55"/>
                  </a:lnTo>
                  <a:lnTo>
                    <a:pt x="434" y="70"/>
                  </a:lnTo>
                  <a:lnTo>
                    <a:pt x="450" y="89"/>
                  </a:lnTo>
                  <a:lnTo>
                    <a:pt x="465" y="110"/>
                  </a:lnTo>
                  <a:lnTo>
                    <a:pt x="472" y="121"/>
                  </a:lnTo>
                  <a:lnTo>
                    <a:pt x="480" y="133"/>
                  </a:lnTo>
                  <a:lnTo>
                    <a:pt x="486" y="145"/>
                  </a:lnTo>
                  <a:lnTo>
                    <a:pt x="492" y="160"/>
                  </a:lnTo>
                  <a:lnTo>
                    <a:pt x="487" y="158"/>
                  </a:lnTo>
                  <a:lnTo>
                    <a:pt x="475" y="151"/>
                  </a:lnTo>
                  <a:lnTo>
                    <a:pt x="454" y="142"/>
                  </a:lnTo>
                  <a:lnTo>
                    <a:pt x="425" y="132"/>
                  </a:lnTo>
                  <a:lnTo>
                    <a:pt x="390" y="121"/>
                  </a:lnTo>
                  <a:lnTo>
                    <a:pt x="349" y="111"/>
                  </a:lnTo>
                  <a:lnTo>
                    <a:pt x="327" y="107"/>
                  </a:lnTo>
                  <a:lnTo>
                    <a:pt x="304" y="103"/>
                  </a:lnTo>
                  <a:lnTo>
                    <a:pt x="279" y="101"/>
                  </a:lnTo>
                  <a:lnTo>
                    <a:pt x="253" y="10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6512040" y="2200320"/>
              <a:ext cx="153720" cy="50760"/>
            </a:xfrm>
            <a:custGeom>
              <a:avLst/>
              <a:gdLst/>
              <a:ahLst/>
              <a:rect l="l" t="t" r="r" b="b"/>
              <a:pathLst>
                <a:path w="484" h="160">
                  <a:moveTo>
                    <a:pt x="245" y="81"/>
                  </a:moveTo>
                  <a:lnTo>
                    <a:pt x="222" y="80"/>
                  </a:lnTo>
                  <a:lnTo>
                    <a:pt x="198" y="80"/>
                  </a:lnTo>
                  <a:lnTo>
                    <a:pt x="176" y="81"/>
                  </a:lnTo>
                  <a:lnTo>
                    <a:pt x="155" y="82"/>
                  </a:lnTo>
                  <a:lnTo>
                    <a:pt x="114" y="87"/>
                  </a:lnTo>
                  <a:lnTo>
                    <a:pt x="77" y="94"/>
                  </a:lnTo>
                  <a:lnTo>
                    <a:pt x="45" y="100"/>
                  </a:lnTo>
                  <a:lnTo>
                    <a:pt x="21" y="105"/>
                  </a:lnTo>
                  <a:lnTo>
                    <a:pt x="5" y="110"/>
                  </a:lnTo>
                  <a:lnTo>
                    <a:pt x="0" y="111"/>
                  </a:lnTo>
                  <a:lnTo>
                    <a:pt x="4" y="105"/>
                  </a:lnTo>
                  <a:lnTo>
                    <a:pt x="15" y="91"/>
                  </a:lnTo>
                  <a:lnTo>
                    <a:pt x="24" y="82"/>
                  </a:lnTo>
                  <a:lnTo>
                    <a:pt x="35" y="71"/>
                  </a:lnTo>
                  <a:lnTo>
                    <a:pt x="47" y="62"/>
                  </a:lnTo>
                  <a:lnTo>
                    <a:pt x="63" y="50"/>
                  </a:lnTo>
                  <a:lnTo>
                    <a:pt x="80" y="39"/>
                  </a:lnTo>
                  <a:lnTo>
                    <a:pt x="101" y="30"/>
                  </a:lnTo>
                  <a:lnTo>
                    <a:pt x="125" y="20"/>
                  </a:lnTo>
                  <a:lnTo>
                    <a:pt x="151" y="12"/>
                  </a:lnTo>
                  <a:lnTo>
                    <a:pt x="164" y="9"/>
                  </a:lnTo>
                  <a:lnTo>
                    <a:pt x="179" y="6"/>
                  </a:lnTo>
                  <a:lnTo>
                    <a:pt x="195" y="4"/>
                  </a:lnTo>
                  <a:lnTo>
                    <a:pt x="211" y="1"/>
                  </a:lnTo>
                  <a:lnTo>
                    <a:pt x="227" y="1"/>
                  </a:lnTo>
                  <a:lnTo>
                    <a:pt x="245" y="0"/>
                  </a:lnTo>
                  <a:lnTo>
                    <a:pt x="264" y="1"/>
                  </a:lnTo>
                  <a:lnTo>
                    <a:pt x="282" y="1"/>
                  </a:lnTo>
                  <a:lnTo>
                    <a:pt x="288" y="3"/>
                  </a:lnTo>
                  <a:lnTo>
                    <a:pt x="306" y="5"/>
                  </a:lnTo>
                  <a:lnTo>
                    <a:pt x="317" y="7"/>
                  </a:lnTo>
                  <a:lnTo>
                    <a:pt x="330" y="11"/>
                  </a:lnTo>
                  <a:lnTo>
                    <a:pt x="344" y="17"/>
                  </a:lnTo>
                  <a:lnTo>
                    <a:pt x="360" y="23"/>
                  </a:lnTo>
                  <a:lnTo>
                    <a:pt x="376" y="32"/>
                  </a:lnTo>
                  <a:lnTo>
                    <a:pt x="393" y="43"/>
                  </a:lnTo>
                  <a:lnTo>
                    <a:pt x="409" y="55"/>
                  </a:lnTo>
                  <a:lnTo>
                    <a:pt x="426" y="70"/>
                  </a:lnTo>
                  <a:lnTo>
                    <a:pt x="442" y="89"/>
                  </a:lnTo>
                  <a:lnTo>
                    <a:pt x="457" y="110"/>
                  </a:lnTo>
                  <a:lnTo>
                    <a:pt x="464" y="121"/>
                  </a:lnTo>
                  <a:lnTo>
                    <a:pt x="472" y="133"/>
                  </a:lnTo>
                  <a:lnTo>
                    <a:pt x="478" y="145"/>
                  </a:lnTo>
                  <a:lnTo>
                    <a:pt x="484" y="160"/>
                  </a:lnTo>
                  <a:lnTo>
                    <a:pt x="479" y="156"/>
                  </a:lnTo>
                  <a:lnTo>
                    <a:pt x="468" y="148"/>
                  </a:lnTo>
                  <a:lnTo>
                    <a:pt x="447" y="135"/>
                  </a:lnTo>
                  <a:lnTo>
                    <a:pt x="420" y="122"/>
                  </a:lnTo>
                  <a:lnTo>
                    <a:pt x="404" y="114"/>
                  </a:lnTo>
                  <a:lnTo>
                    <a:pt x="385" y="108"/>
                  </a:lnTo>
                  <a:lnTo>
                    <a:pt x="366" y="101"/>
                  </a:lnTo>
                  <a:lnTo>
                    <a:pt x="345" y="95"/>
                  </a:lnTo>
                  <a:lnTo>
                    <a:pt x="323" y="90"/>
                  </a:lnTo>
                  <a:lnTo>
                    <a:pt x="298" y="86"/>
                  </a:lnTo>
                  <a:lnTo>
                    <a:pt x="272" y="82"/>
                  </a:lnTo>
                  <a:lnTo>
                    <a:pt x="245" y="81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6515280" y="2200320"/>
              <a:ext cx="150480" cy="50760"/>
            </a:xfrm>
            <a:custGeom>
              <a:avLst/>
              <a:gdLst/>
              <a:ahLst/>
              <a:rect l="l" t="t" r="r" b="b"/>
              <a:pathLst>
                <a:path w="476" h="159">
                  <a:moveTo>
                    <a:pt x="476" y="159"/>
                  </a:moveTo>
                  <a:lnTo>
                    <a:pt x="470" y="144"/>
                  </a:lnTo>
                  <a:lnTo>
                    <a:pt x="464" y="132"/>
                  </a:lnTo>
                  <a:lnTo>
                    <a:pt x="456" y="120"/>
                  </a:lnTo>
                  <a:lnTo>
                    <a:pt x="449" y="109"/>
                  </a:lnTo>
                  <a:lnTo>
                    <a:pt x="434" y="88"/>
                  </a:lnTo>
                  <a:lnTo>
                    <a:pt x="418" y="69"/>
                  </a:lnTo>
                  <a:lnTo>
                    <a:pt x="401" y="54"/>
                  </a:lnTo>
                  <a:lnTo>
                    <a:pt x="385" y="42"/>
                  </a:lnTo>
                  <a:lnTo>
                    <a:pt x="368" y="31"/>
                  </a:lnTo>
                  <a:lnTo>
                    <a:pt x="352" y="22"/>
                  </a:lnTo>
                  <a:lnTo>
                    <a:pt x="336" y="16"/>
                  </a:lnTo>
                  <a:lnTo>
                    <a:pt x="322" y="10"/>
                  </a:lnTo>
                  <a:lnTo>
                    <a:pt x="309" y="6"/>
                  </a:lnTo>
                  <a:lnTo>
                    <a:pt x="298" y="4"/>
                  </a:lnTo>
                  <a:lnTo>
                    <a:pt x="280" y="2"/>
                  </a:lnTo>
                  <a:lnTo>
                    <a:pt x="274" y="0"/>
                  </a:lnTo>
                  <a:lnTo>
                    <a:pt x="256" y="0"/>
                  </a:lnTo>
                  <a:lnTo>
                    <a:pt x="238" y="0"/>
                  </a:lnTo>
                  <a:lnTo>
                    <a:pt x="221" y="0"/>
                  </a:lnTo>
                  <a:lnTo>
                    <a:pt x="204" y="2"/>
                  </a:lnTo>
                  <a:lnTo>
                    <a:pt x="173" y="5"/>
                  </a:lnTo>
                  <a:lnTo>
                    <a:pt x="146" y="11"/>
                  </a:lnTo>
                  <a:lnTo>
                    <a:pt x="120" y="19"/>
                  </a:lnTo>
                  <a:lnTo>
                    <a:pt x="98" y="26"/>
                  </a:lnTo>
                  <a:lnTo>
                    <a:pt x="79" y="36"/>
                  </a:lnTo>
                  <a:lnTo>
                    <a:pt x="61" y="46"/>
                  </a:lnTo>
                  <a:lnTo>
                    <a:pt x="47" y="56"/>
                  </a:lnTo>
                  <a:lnTo>
                    <a:pt x="33" y="65"/>
                  </a:lnTo>
                  <a:lnTo>
                    <a:pt x="23" y="75"/>
                  </a:lnTo>
                  <a:lnTo>
                    <a:pt x="15" y="84"/>
                  </a:lnTo>
                  <a:lnTo>
                    <a:pt x="3" y="96"/>
                  </a:lnTo>
                  <a:lnTo>
                    <a:pt x="0" y="101"/>
                  </a:lnTo>
                  <a:lnTo>
                    <a:pt x="6" y="99"/>
                  </a:lnTo>
                  <a:lnTo>
                    <a:pt x="19" y="94"/>
                  </a:lnTo>
                  <a:lnTo>
                    <a:pt x="43" y="86"/>
                  </a:lnTo>
                  <a:lnTo>
                    <a:pt x="72" y="78"/>
                  </a:lnTo>
                  <a:lnTo>
                    <a:pt x="108" y="69"/>
                  </a:lnTo>
                  <a:lnTo>
                    <a:pt x="149" y="63"/>
                  </a:lnTo>
                  <a:lnTo>
                    <a:pt x="170" y="59"/>
                  </a:lnTo>
                  <a:lnTo>
                    <a:pt x="192" y="58"/>
                  </a:lnTo>
                  <a:lnTo>
                    <a:pt x="214" y="58"/>
                  </a:lnTo>
                  <a:lnTo>
                    <a:pt x="237" y="58"/>
                  </a:lnTo>
                  <a:lnTo>
                    <a:pt x="266" y="61"/>
                  </a:lnTo>
                  <a:lnTo>
                    <a:pt x="293" y="64"/>
                  </a:lnTo>
                  <a:lnTo>
                    <a:pt x="318" y="70"/>
                  </a:lnTo>
                  <a:lnTo>
                    <a:pt x="342" y="77"/>
                  </a:lnTo>
                  <a:lnTo>
                    <a:pt x="363" y="85"/>
                  </a:lnTo>
                  <a:lnTo>
                    <a:pt x="382" y="94"/>
                  </a:lnTo>
                  <a:lnTo>
                    <a:pt x="401" y="102"/>
                  </a:lnTo>
                  <a:lnTo>
                    <a:pt x="417" y="111"/>
                  </a:lnTo>
                  <a:lnTo>
                    <a:pt x="443" y="128"/>
                  </a:lnTo>
                  <a:lnTo>
                    <a:pt x="461" y="144"/>
                  </a:lnTo>
                  <a:lnTo>
                    <a:pt x="472" y="154"/>
                  </a:lnTo>
                  <a:lnTo>
                    <a:pt x="476" y="159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398" y="137"/>
                  </a:moveTo>
                  <a:lnTo>
                    <a:pt x="398" y="131"/>
                  </a:lnTo>
                  <a:lnTo>
                    <a:pt x="393" y="113"/>
                  </a:lnTo>
                  <a:lnTo>
                    <a:pt x="390" y="102"/>
                  </a:lnTo>
                  <a:lnTo>
                    <a:pt x="385" y="90"/>
                  </a:lnTo>
                  <a:lnTo>
                    <a:pt x="377" y="77"/>
                  </a:lnTo>
                  <a:lnTo>
                    <a:pt x="369" y="64"/>
                  </a:lnTo>
                  <a:lnTo>
                    <a:pt x="358" y="51"/>
                  </a:lnTo>
                  <a:lnTo>
                    <a:pt x="344" y="38"/>
                  </a:lnTo>
                  <a:lnTo>
                    <a:pt x="336" y="32"/>
                  </a:lnTo>
                  <a:lnTo>
                    <a:pt x="327" y="26"/>
                  </a:lnTo>
                  <a:lnTo>
                    <a:pt x="318" y="21"/>
                  </a:lnTo>
                  <a:lnTo>
                    <a:pt x="308" y="16"/>
                  </a:lnTo>
                  <a:lnTo>
                    <a:pt x="297" y="13"/>
                  </a:lnTo>
                  <a:lnTo>
                    <a:pt x="286" y="9"/>
                  </a:lnTo>
                  <a:lnTo>
                    <a:pt x="274" y="5"/>
                  </a:lnTo>
                  <a:lnTo>
                    <a:pt x="260" y="3"/>
                  </a:lnTo>
                  <a:lnTo>
                    <a:pt x="246" y="2"/>
                  </a:lnTo>
                  <a:lnTo>
                    <a:pt x="231" y="0"/>
                  </a:lnTo>
                  <a:lnTo>
                    <a:pt x="215" y="0"/>
                  </a:lnTo>
                  <a:lnTo>
                    <a:pt x="198" y="0"/>
                  </a:lnTo>
                  <a:lnTo>
                    <a:pt x="192" y="2"/>
                  </a:lnTo>
                  <a:lnTo>
                    <a:pt x="176" y="4"/>
                  </a:lnTo>
                  <a:lnTo>
                    <a:pt x="165" y="6"/>
                  </a:lnTo>
                  <a:lnTo>
                    <a:pt x="151" y="10"/>
                  </a:lnTo>
                  <a:lnTo>
                    <a:pt x="137" y="16"/>
                  </a:lnTo>
                  <a:lnTo>
                    <a:pt x="121" y="22"/>
                  </a:lnTo>
                  <a:lnTo>
                    <a:pt x="105" y="31"/>
                  </a:lnTo>
                  <a:lnTo>
                    <a:pt x="89" y="42"/>
                  </a:lnTo>
                  <a:lnTo>
                    <a:pt x="73" y="54"/>
                  </a:lnTo>
                  <a:lnTo>
                    <a:pt x="56" y="69"/>
                  </a:lnTo>
                  <a:lnTo>
                    <a:pt x="42" y="88"/>
                  </a:lnTo>
                  <a:lnTo>
                    <a:pt x="26" y="109"/>
                  </a:lnTo>
                  <a:lnTo>
                    <a:pt x="18" y="120"/>
                  </a:lnTo>
                  <a:lnTo>
                    <a:pt x="12" y="132"/>
                  </a:lnTo>
                  <a:lnTo>
                    <a:pt x="6" y="144"/>
                  </a:lnTo>
                  <a:lnTo>
                    <a:pt x="0" y="159"/>
                  </a:lnTo>
                  <a:lnTo>
                    <a:pt x="6" y="158"/>
                  </a:lnTo>
                  <a:lnTo>
                    <a:pt x="23" y="154"/>
                  </a:lnTo>
                  <a:lnTo>
                    <a:pt x="50" y="149"/>
                  </a:lnTo>
                  <a:lnTo>
                    <a:pt x="83" y="144"/>
                  </a:lnTo>
                  <a:lnTo>
                    <a:pt x="123" y="138"/>
                  </a:lnTo>
                  <a:lnTo>
                    <a:pt x="165" y="134"/>
                  </a:lnTo>
                  <a:lnTo>
                    <a:pt x="208" y="132"/>
                  </a:lnTo>
                  <a:lnTo>
                    <a:pt x="249" y="131"/>
                  </a:lnTo>
                  <a:lnTo>
                    <a:pt x="288" y="132"/>
                  </a:lnTo>
                  <a:lnTo>
                    <a:pt x="318" y="133"/>
                  </a:lnTo>
                  <a:lnTo>
                    <a:pt x="344" y="134"/>
                  </a:lnTo>
                  <a:lnTo>
                    <a:pt x="365" y="136"/>
                  </a:lnTo>
                  <a:lnTo>
                    <a:pt x="380" y="136"/>
                  </a:lnTo>
                  <a:lnTo>
                    <a:pt x="391" y="137"/>
                  </a:lnTo>
                  <a:lnTo>
                    <a:pt x="397" y="137"/>
                  </a:lnTo>
                  <a:lnTo>
                    <a:pt x="398" y="13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249" y="117"/>
                  </a:moveTo>
                  <a:lnTo>
                    <a:pt x="226" y="117"/>
                  </a:lnTo>
                  <a:lnTo>
                    <a:pt x="201" y="118"/>
                  </a:lnTo>
                  <a:lnTo>
                    <a:pt x="179" y="121"/>
                  </a:lnTo>
                  <a:lnTo>
                    <a:pt x="156" y="123"/>
                  </a:lnTo>
                  <a:lnTo>
                    <a:pt x="114" y="129"/>
                  </a:lnTo>
                  <a:lnTo>
                    <a:pt x="76" y="137"/>
                  </a:lnTo>
                  <a:lnTo>
                    <a:pt x="45" y="145"/>
                  </a:lnTo>
                  <a:lnTo>
                    <a:pt x="21" y="152"/>
                  </a:lnTo>
                  <a:lnTo>
                    <a:pt x="5" y="157"/>
                  </a:lnTo>
                  <a:lnTo>
                    <a:pt x="0" y="159"/>
                  </a:lnTo>
                  <a:lnTo>
                    <a:pt x="6" y="144"/>
                  </a:lnTo>
                  <a:lnTo>
                    <a:pt x="12" y="132"/>
                  </a:lnTo>
                  <a:lnTo>
                    <a:pt x="18" y="120"/>
                  </a:lnTo>
                  <a:lnTo>
                    <a:pt x="26" y="109"/>
                  </a:lnTo>
                  <a:lnTo>
                    <a:pt x="42" y="88"/>
                  </a:lnTo>
                  <a:lnTo>
                    <a:pt x="56" y="69"/>
                  </a:lnTo>
                  <a:lnTo>
                    <a:pt x="73" y="54"/>
                  </a:lnTo>
                  <a:lnTo>
                    <a:pt x="89" y="42"/>
                  </a:lnTo>
                  <a:lnTo>
                    <a:pt x="105" y="31"/>
                  </a:lnTo>
                  <a:lnTo>
                    <a:pt x="121" y="22"/>
                  </a:lnTo>
                  <a:lnTo>
                    <a:pt x="137" y="16"/>
                  </a:lnTo>
                  <a:lnTo>
                    <a:pt x="151" y="10"/>
                  </a:lnTo>
                  <a:lnTo>
                    <a:pt x="165" y="6"/>
                  </a:lnTo>
                  <a:lnTo>
                    <a:pt x="176" y="4"/>
                  </a:lnTo>
                  <a:lnTo>
                    <a:pt x="192" y="2"/>
                  </a:lnTo>
                  <a:lnTo>
                    <a:pt x="198" y="0"/>
                  </a:lnTo>
                  <a:lnTo>
                    <a:pt x="215" y="0"/>
                  </a:lnTo>
                  <a:lnTo>
                    <a:pt x="231" y="0"/>
                  </a:lnTo>
                  <a:lnTo>
                    <a:pt x="246" y="2"/>
                  </a:lnTo>
                  <a:lnTo>
                    <a:pt x="260" y="3"/>
                  </a:lnTo>
                  <a:lnTo>
                    <a:pt x="274" y="5"/>
                  </a:lnTo>
                  <a:lnTo>
                    <a:pt x="286" y="9"/>
                  </a:lnTo>
                  <a:lnTo>
                    <a:pt x="297" y="13"/>
                  </a:lnTo>
                  <a:lnTo>
                    <a:pt x="308" y="16"/>
                  </a:lnTo>
                  <a:lnTo>
                    <a:pt x="318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4" y="38"/>
                  </a:lnTo>
                  <a:lnTo>
                    <a:pt x="358" y="51"/>
                  </a:lnTo>
                  <a:lnTo>
                    <a:pt x="369" y="64"/>
                  </a:lnTo>
                  <a:lnTo>
                    <a:pt x="377" y="77"/>
                  </a:lnTo>
                  <a:lnTo>
                    <a:pt x="385" y="90"/>
                  </a:lnTo>
                  <a:lnTo>
                    <a:pt x="390" y="102"/>
                  </a:lnTo>
                  <a:lnTo>
                    <a:pt x="393" y="113"/>
                  </a:lnTo>
                  <a:lnTo>
                    <a:pt x="398" y="131"/>
                  </a:lnTo>
                  <a:lnTo>
                    <a:pt x="398" y="137"/>
                  </a:lnTo>
                  <a:lnTo>
                    <a:pt x="397" y="136"/>
                  </a:lnTo>
                  <a:lnTo>
                    <a:pt x="391" y="134"/>
                  </a:lnTo>
                  <a:lnTo>
                    <a:pt x="381" y="132"/>
                  </a:lnTo>
                  <a:lnTo>
                    <a:pt x="366" y="128"/>
                  </a:lnTo>
                  <a:lnTo>
                    <a:pt x="345" y="125"/>
                  </a:lnTo>
                  <a:lnTo>
                    <a:pt x="320" y="122"/>
                  </a:lnTo>
                  <a:lnTo>
                    <a:pt x="288" y="120"/>
                  </a:lnTo>
                  <a:lnTo>
                    <a:pt x="249" y="117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252" y="104"/>
                  </a:moveTo>
                  <a:lnTo>
                    <a:pt x="225" y="105"/>
                  </a:lnTo>
                  <a:lnTo>
                    <a:pt x="199" y="106"/>
                  </a:lnTo>
                  <a:lnTo>
                    <a:pt x="174" y="109"/>
                  </a:lnTo>
                  <a:lnTo>
                    <a:pt x="151" y="112"/>
                  </a:lnTo>
                  <a:lnTo>
                    <a:pt x="129" y="117"/>
                  </a:lnTo>
                  <a:lnTo>
                    <a:pt x="108" y="121"/>
                  </a:lnTo>
                  <a:lnTo>
                    <a:pt x="88" y="126"/>
                  </a:lnTo>
                  <a:lnTo>
                    <a:pt x="71" y="131"/>
                  </a:lnTo>
                  <a:lnTo>
                    <a:pt x="40" y="142"/>
                  </a:lnTo>
                  <a:lnTo>
                    <a:pt x="18" y="150"/>
                  </a:lnTo>
                  <a:lnTo>
                    <a:pt x="5" y="157"/>
                  </a:lnTo>
                  <a:lnTo>
                    <a:pt x="0" y="159"/>
                  </a:lnTo>
                  <a:lnTo>
                    <a:pt x="6" y="144"/>
                  </a:lnTo>
                  <a:lnTo>
                    <a:pt x="12" y="132"/>
                  </a:lnTo>
                  <a:lnTo>
                    <a:pt x="18" y="120"/>
                  </a:lnTo>
                  <a:lnTo>
                    <a:pt x="26" y="109"/>
                  </a:lnTo>
                  <a:lnTo>
                    <a:pt x="42" y="88"/>
                  </a:lnTo>
                  <a:lnTo>
                    <a:pt x="56" y="69"/>
                  </a:lnTo>
                  <a:lnTo>
                    <a:pt x="73" y="54"/>
                  </a:lnTo>
                  <a:lnTo>
                    <a:pt x="89" y="42"/>
                  </a:lnTo>
                  <a:lnTo>
                    <a:pt x="105" y="31"/>
                  </a:lnTo>
                  <a:lnTo>
                    <a:pt x="121" y="22"/>
                  </a:lnTo>
                  <a:lnTo>
                    <a:pt x="137" y="16"/>
                  </a:lnTo>
                  <a:lnTo>
                    <a:pt x="151" y="10"/>
                  </a:lnTo>
                  <a:lnTo>
                    <a:pt x="165" y="6"/>
                  </a:lnTo>
                  <a:lnTo>
                    <a:pt x="176" y="4"/>
                  </a:lnTo>
                  <a:lnTo>
                    <a:pt x="192" y="2"/>
                  </a:lnTo>
                  <a:lnTo>
                    <a:pt x="198" y="0"/>
                  </a:lnTo>
                  <a:lnTo>
                    <a:pt x="215" y="0"/>
                  </a:lnTo>
                  <a:lnTo>
                    <a:pt x="231" y="0"/>
                  </a:lnTo>
                  <a:lnTo>
                    <a:pt x="246" y="2"/>
                  </a:lnTo>
                  <a:lnTo>
                    <a:pt x="260" y="3"/>
                  </a:lnTo>
                  <a:lnTo>
                    <a:pt x="274" y="5"/>
                  </a:lnTo>
                  <a:lnTo>
                    <a:pt x="286" y="9"/>
                  </a:lnTo>
                  <a:lnTo>
                    <a:pt x="297" y="13"/>
                  </a:lnTo>
                  <a:lnTo>
                    <a:pt x="308" y="16"/>
                  </a:lnTo>
                  <a:lnTo>
                    <a:pt x="318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4" y="38"/>
                  </a:lnTo>
                  <a:lnTo>
                    <a:pt x="358" y="51"/>
                  </a:lnTo>
                  <a:lnTo>
                    <a:pt x="369" y="64"/>
                  </a:lnTo>
                  <a:lnTo>
                    <a:pt x="377" y="77"/>
                  </a:lnTo>
                  <a:lnTo>
                    <a:pt x="385" y="90"/>
                  </a:lnTo>
                  <a:lnTo>
                    <a:pt x="390" y="102"/>
                  </a:lnTo>
                  <a:lnTo>
                    <a:pt x="393" y="113"/>
                  </a:lnTo>
                  <a:lnTo>
                    <a:pt x="398" y="131"/>
                  </a:lnTo>
                  <a:lnTo>
                    <a:pt x="398" y="137"/>
                  </a:lnTo>
                  <a:lnTo>
                    <a:pt x="397" y="136"/>
                  </a:lnTo>
                  <a:lnTo>
                    <a:pt x="392" y="132"/>
                  </a:lnTo>
                  <a:lnTo>
                    <a:pt x="382" y="127"/>
                  </a:lnTo>
                  <a:lnTo>
                    <a:pt x="368" y="121"/>
                  </a:lnTo>
                  <a:lnTo>
                    <a:pt x="348" y="116"/>
                  </a:lnTo>
                  <a:lnTo>
                    <a:pt x="322" y="110"/>
                  </a:lnTo>
                  <a:lnTo>
                    <a:pt x="290" y="106"/>
                  </a:lnTo>
                  <a:lnTo>
                    <a:pt x="252" y="104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252" y="94"/>
                  </a:moveTo>
                  <a:lnTo>
                    <a:pt x="222" y="94"/>
                  </a:lnTo>
                  <a:lnTo>
                    <a:pt x="194" y="95"/>
                  </a:lnTo>
                  <a:lnTo>
                    <a:pt x="167" y="99"/>
                  </a:lnTo>
                  <a:lnTo>
                    <a:pt x="142" y="102"/>
                  </a:lnTo>
                  <a:lnTo>
                    <a:pt x="120" y="107"/>
                  </a:lnTo>
                  <a:lnTo>
                    <a:pt x="99" y="112"/>
                  </a:lnTo>
                  <a:lnTo>
                    <a:pt x="81" y="118"/>
                  </a:lnTo>
                  <a:lnTo>
                    <a:pt x="64" y="125"/>
                  </a:lnTo>
                  <a:lnTo>
                    <a:pt x="35" y="137"/>
                  </a:lnTo>
                  <a:lnTo>
                    <a:pt x="16" y="148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6" y="144"/>
                  </a:lnTo>
                  <a:lnTo>
                    <a:pt x="12" y="132"/>
                  </a:lnTo>
                  <a:lnTo>
                    <a:pt x="18" y="120"/>
                  </a:lnTo>
                  <a:lnTo>
                    <a:pt x="26" y="109"/>
                  </a:lnTo>
                  <a:lnTo>
                    <a:pt x="42" y="88"/>
                  </a:lnTo>
                  <a:lnTo>
                    <a:pt x="56" y="69"/>
                  </a:lnTo>
                  <a:lnTo>
                    <a:pt x="73" y="54"/>
                  </a:lnTo>
                  <a:lnTo>
                    <a:pt x="89" y="42"/>
                  </a:lnTo>
                  <a:lnTo>
                    <a:pt x="105" y="31"/>
                  </a:lnTo>
                  <a:lnTo>
                    <a:pt x="121" y="22"/>
                  </a:lnTo>
                  <a:lnTo>
                    <a:pt x="137" y="16"/>
                  </a:lnTo>
                  <a:lnTo>
                    <a:pt x="151" y="10"/>
                  </a:lnTo>
                  <a:lnTo>
                    <a:pt x="165" y="6"/>
                  </a:lnTo>
                  <a:lnTo>
                    <a:pt x="176" y="4"/>
                  </a:lnTo>
                  <a:lnTo>
                    <a:pt x="192" y="2"/>
                  </a:lnTo>
                  <a:lnTo>
                    <a:pt x="198" y="0"/>
                  </a:lnTo>
                  <a:lnTo>
                    <a:pt x="215" y="0"/>
                  </a:lnTo>
                  <a:lnTo>
                    <a:pt x="231" y="0"/>
                  </a:lnTo>
                  <a:lnTo>
                    <a:pt x="246" y="2"/>
                  </a:lnTo>
                  <a:lnTo>
                    <a:pt x="260" y="3"/>
                  </a:lnTo>
                  <a:lnTo>
                    <a:pt x="274" y="5"/>
                  </a:lnTo>
                  <a:lnTo>
                    <a:pt x="286" y="9"/>
                  </a:lnTo>
                  <a:lnTo>
                    <a:pt x="297" y="13"/>
                  </a:lnTo>
                  <a:lnTo>
                    <a:pt x="308" y="16"/>
                  </a:lnTo>
                  <a:lnTo>
                    <a:pt x="318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4" y="38"/>
                  </a:lnTo>
                  <a:lnTo>
                    <a:pt x="358" y="51"/>
                  </a:lnTo>
                  <a:lnTo>
                    <a:pt x="369" y="64"/>
                  </a:lnTo>
                  <a:lnTo>
                    <a:pt x="377" y="77"/>
                  </a:lnTo>
                  <a:lnTo>
                    <a:pt x="385" y="90"/>
                  </a:lnTo>
                  <a:lnTo>
                    <a:pt x="390" y="102"/>
                  </a:lnTo>
                  <a:lnTo>
                    <a:pt x="393" y="113"/>
                  </a:lnTo>
                  <a:lnTo>
                    <a:pt x="398" y="131"/>
                  </a:lnTo>
                  <a:lnTo>
                    <a:pt x="398" y="137"/>
                  </a:lnTo>
                  <a:lnTo>
                    <a:pt x="397" y="134"/>
                  </a:lnTo>
                  <a:lnTo>
                    <a:pt x="392" y="129"/>
                  </a:lnTo>
                  <a:lnTo>
                    <a:pt x="382" y="123"/>
                  </a:lnTo>
                  <a:lnTo>
                    <a:pt x="369" y="115"/>
                  </a:lnTo>
                  <a:lnTo>
                    <a:pt x="359" y="111"/>
                  </a:lnTo>
                  <a:lnTo>
                    <a:pt x="349" y="107"/>
                  </a:lnTo>
                  <a:lnTo>
                    <a:pt x="337" y="104"/>
                  </a:lnTo>
                  <a:lnTo>
                    <a:pt x="323" y="100"/>
                  </a:lnTo>
                  <a:lnTo>
                    <a:pt x="308" y="97"/>
                  </a:lnTo>
                  <a:lnTo>
                    <a:pt x="291" y="95"/>
                  </a:lnTo>
                  <a:lnTo>
                    <a:pt x="273" y="94"/>
                  </a:lnTo>
                  <a:lnTo>
                    <a:pt x="252" y="9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398" y="137"/>
                  </a:moveTo>
                  <a:lnTo>
                    <a:pt x="398" y="131"/>
                  </a:lnTo>
                  <a:lnTo>
                    <a:pt x="393" y="113"/>
                  </a:lnTo>
                  <a:lnTo>
                    <a:pt x="390" y="102"/>
                  </a:lnTo>
                  <a:lnTo>
                    <a:pt x="385" y="90"/>
                  </a:lnTo>
                  <a:lnTo>
                    <a:pt x="377" y="77"/>
                  </a:lnTo>
                  <a:lnTo>
                    <a:pt x="369" y="64"/>
                  </a:lnTo>
                  <a:lnTo>
                    <a:pt x="358" y="51"/>
                  </a:lnTo>
                  <a:lnTo>
                    <a:pt x="344" y="38"/>
                  </a:lnTo>
                  <a:lnTo>
                    <a:pt x="336" y="32"/>
                  </a:lnTo>
                  <a:lnTo>
                    <a:pt x="327" y="26"/>
                  </a:lnTo>
                  <a:lnTo>
                    <a:pt x="318" y="21"/>
                  </a:lnTo>
                  <a:lnTo>
                    <a:pt x="308" y="16"/>
                  </a:lnTo>
                  <a:lnTo>
                    <a:pt x="297" y="13"/>
                  </a:lnTo>
                  <a:lnTo>
                    <a:pt x="286" y="9"/>
                  </a:lnTo>
                  <a:lnTo>
                    <a:pt x="274" y="5"/>
                  </a:lnTo>
                  <a:lnTo>
                    <a:pt x="260" y="3"/>
                  </a:lnTo>
                  <a:lnTo>
                    <a:pt x="246" y="2"/>
                  </a:lnTo>
                  <a:lnTo>
                    <a:pt x="231" y="0"/>
                  </a:lnTo>
                  <a:lnTo>
                    <a:pt x="215" y="0"/>
                  </a:lnTo>
                  <a:lnTo>
                    <a:pt x="198" y="0"/>
                  </a:lnTo>
                  <a:lnTo>
                    <a:pt x="192" y="2"/>
                  </a:lnTo>
                  <a:lnTo>
                    <a:pt x="176" y="4"/>
                  </a:lnTo>
                  <a:lnTo>
                    <a:pt x="165" y="6"/>
                  </a:lnTo>
                  <a:lnTo>
                    <a:pt x="151" y="10"/>
                  </a:lnTo>
                  <a:lnTo>
                    <a:pt x="137" y="16"/>
                  </a:lnTo>
                  <a:lnTo>
                    <a:pt x="121" y="22"/>
                  </a:lnTo>
                  <a:lnTo>
                    <a:pt x="105" y="31"/>
                  </a:lnTo>
                  <a:lnTo>
                    <a:pt x="89" y="42"/>
                  </a:lnTo>
                  <a:lnTo>
                    <a:pt x="73" y="54"/>
                  </a:lnTo>
                  <a:lnTo>
                    <a:pt x="56" y="69"/>
                  </a:lnTo>
                  <a:lnTo>
                    <a:pt x="42" y="88"/>
                  </a:lnTo>
                  <a:lnTo>
                    <a:pt x="26" y="109"/>
                  </a:lnTo>
                  <a:lnTo>
                    <a:pt x="18" y="120"/>
                  </a:lnTo>
                  <a:lnTo>
                    <a:pt x="12" y="132"/>
                  </a:lnTo>
                  <a:lnTo>
                    <a:pt x="6" y="144"/>
                  </a:lnTo>
                  <a:lnTo>
                    <a:pt x="0" y="159"/>
                  </a:lnTo>
                  <a:lnTo>
                    <a:pt x="2" y="155"/>
                  </a:lnTo>
                  <a:lnTo>
                    <a:pt x="13" y="147"/>
                  </a:lnTo>
                  <a:lnTo>
                    <a:pt x="21" y="141"/>
                  </a:lnTo>
                  <a:lnTo>
                    <a:pt x="30" y="133"/>
                  </a:lnTo>
                  <a:lnTo>
                    <a:pt x="43" y="127"/>
                  </a:lnTo>
                  <a:lnTo>
                    <a:pt x="56" y="120"/>
                  </a:lnTo>
                  <a:lnTo>
                    <a:pt x="73" y="112"/>
                  </a:lnTo>
                  <a:lnTo>
                    <a:pt x="92" y="105"/>
                  </a:lnTo>
                  <a:lnTo>
                    <a:pt x="113" y="97"/>
                  </a:lnTo>
                  <a:lnTo>
                    <a:pt x="136" y="93"/>
                  </a:lnTo>
                  <a:lnTo>
                    <a:pt x="162" y="86"/>
                  </a:lnTo>
                  <a:lnTo>
                    <a:pt x="190" y="83"/>
                  </a:lnTo>
                  <a:lnTo>
                    <a:pt x="221" y="80"/>
                  </a:lnTo>
                  <a:lnTo>
                    <a:pt x="254" y="80"/>
                  </a:lnTo>
                  <a:lnTo>
                    <a:pt x="275" y="80"/>
                  </a:lnTo>
                  <a:lnTo>
                    <a:pt x="294" y="83"/>
                  </a:lnTo>
                  <a:lnTo>
                    <a:pt x="311" y="85"/>
                  </a:lnTo>
                  <a:lnTo>
                    <a:pt x="326" y="89"/>
                  </a:lnTo>
                  <a:lnTo>
                    <a:pt x="339" y="93"/>
                  </a:lnTo>
                  <a:lnTo>
                    <a:pt x="350" y="97"/>
                  </a:lnTo>
                  <a:lnTo>
                    <a:pt x="360" y="102"/>
                  </a:lnTo>
                  <a:lnTo>
                    <a:pt x="370" y="109"/>
                  </a:lnTo>
                  <a:lnTo>
                    <a:pt x="384" y="118"/>
                  </a:lnTo>
                  <a:lnTo>
                    <a:pt x="392" y="128"/>
                  </a:lnTo>
                  <a:lnTo>
                    <a:pt x="397" y="134"/>
                  </a:lnTo>
                  <a:lnTo>
                    <a:pt x="398" y="137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6570720" y="2202120"/>
              <a:ext cx="66600" cy="56880"/>
            </a:xfrm>
            <a:custGeom>
              <a:avLst/>
              <a:gdLst/>
              <a:ahLst/>
              <a:rect l="l" t="t" r="r" b="b"/>
              <a:pathLst>
                <a:path w="213" h="179">
                  <a:moveTo>
                    <a:pt x="46" y="3"/>
                  </a:moveTo>
                  <a:lnTo>
                    <a:pt x="44" y="4"/>
                  </a:lnTo>
                  <a:lnTo>
                    <a:pt x="38" y="10"/>
                  </a:lnTo>
                  <a:lnTo>
                    <a:pt x="28" y="18"/>
                  </a:lnTo>
                  <a:lnTo>
                    <a:pt x="18" y="30"/>
                  </a:lnTo>
                  <a:lnTo>
                    <a:pt x="13" y="37"/>
                  </a:lnTo>
                  <a:lnTo>
                    <a:pt x="10" y="46"/>
                  </a:lnTo>
                  <a:lnTo>
                    <a:pt x="5" y="55"/>
                  </a:lnTo>
                  <a:lnTo>
                    <a:pt x="2" y="64"/>
                  </a:lnTo>
                  <a:lnTo>
                    <a:pt x="1" y="75"/>
                  </a:lnTo>
                  <a:lnTo>
                    <a:pt x="0" y="88"/>
                  </a:lnTo>
                  <a:lnTo>
                    <a:pt x="1" y="100"/>
                  </a:lnTo>
                  <a:lnTo>
                    <a:pt x="3" y="115"/>
                  </a:lnTo>
                  <a:lnTo>
                    <a:pt x="6" y="121"/>
                  </a:lnTo>
                  <a:lnTo>
                    <a:pt x="8" y="128"/>
                  </a:lnTo>
                  <a:lnTo>
                    <a:pt x="12" y="135"/>
                  </a:lnTo>
                  <a:lnTo>
                    <a:pt x="17" y="141"/>
                  </a:lnTo>
                  <a:lnTo>
                    <a:pt x="22" y="146"/>
                  </a:lnTo>
                  <a:lnTo>
                    <a:pt x="27" y="151"/>
                  </a:lnTo>
                  <a:lnTo>
                    <a:pt x="33" y="155"/>
                  </a:lnTo>
                  <a:lnTo>
                    <a:pt x="39" y="160"/>
                  </a:lnTo>
                  <a:lnTo>
                    <a:pt x="53" y="168"/>
                  </a:lnTo>
                  <a:lnTo>
                    <a:pt x="69" y="173"/>
                  </a:lnTo>
                  <a:lnTo>
                    <a:pt x="85" y="176"/>
                  </a:lnTo>
                  <a:lnTo>
                    <a:pt x="101" y="179"/>
                  </a:lnTo>
                  <a:lnTo>
                    <a:pt x="118" y="179"/>
                  </a:lnTo>
                  <a:lnTo>
                    <a:pt x="134" y="176"/>
                  </a:lnTo>
                  <a:lnTo>
                    <a:pt x="142" y="174"/>
                  </a:lnTo>
                  <a:lnTo>
                    <a:pt x="150" y="171"/>
                  </a:lnTo>
                  <a:lnTo>
                    <a:pt x="157" y="169"/>
                  </a:lnTo>
                  <a:lnTo>
                    <a:pt x="165" y="165"/>
                  </a:lnTo>
                  <a:lnTo>
                    <a:pt x="171" y="162"/>
                  </a:lnTo>
                  <a:lnTo>
                    <a:pt x="178" y="157"/>
                  </a:lnTo>
                  <a:lnTo>
                    <a:pt x="183" y="151"/>
                  </a:lnTo>
                  <a:lnTo>
                    <a:pt x="189" y="144"/>
                  </a:lnTo>
                  <a:lnTo>
                    <a:pt x="194" y="138"/>
                  </a:lnTo>
                  <a:lnTo>
                    <a:pt x="198" y="131"/>
                  </a:lnTo>
                  <a:lnTo>
                    <a:pt x="201" y="123"/>
                  </a:lnTo>
                  <a:lnTo>
                    <a:pt x="205" y="115"/>
                  </a:lnTo>
                  <a:lnTo>
                    <a:pt x="205" y="112"/>
                  </a:lnTo>
                  <a:lnTo>
                    <a:pt x="208" y="109"/>
                  </a:lnTo>
                  <a:lnTo>
                    <a:pt x="210" y="101"/>
                  </a:lnTo>
                  <a:lnTo>
                    <a:pt x="211" y="91"/>
                  </a:lnTo>
                  <a:lnTo>
                    <a:pt x="213" y="80"/>
                  </a:lnTo>
                  <a:lnTo>
                    <a:pt x="213" y="67"/>
                  </a:lnTo>
                  <a:lnTo>
                    <a:pt x="211" y="61"/>
                  </a:lnTo>
                  <a:lnTo>
                    <a:pt x="210" y="53"/>
                  </a:lnTo>
                  <a:lnTo>
                    <a:pt x="208" y="46"/>
                  </a:lnTo>
                  <a:lnTo>
                    <a:pt x="205" y="39"/>
                  </a:lnTo>
                  <a:lnTo>
                    <a:pt x="201" y="36"/>
                  </a:lnTo>
                  <a:lnTo>
                    <a:pt x="190" y="30"/>
                  </a:lnTo>
                  <a:lnTo>
                    <a:pt x="174" y="23"/>
                  </a:lnTo>
                  <a:lnTo>
                    <a:pt x="154" y="14"/>
                  </a:lnTo>
                  <a:lnTo>
                    <a:pt x="141" y="10"/>
                  </a:lnTo>
                  <a:lnTo>
                    <a:pt x="129" y="7"/>
                  </a:lnTo>
                  <a:lnTo>
                    <a:pt x="117" y="4"/>
                  </a:lnTo>
                  <a:lnTo>
                    <a:pt x="103" y="2"/>
                  </a:lnTo>
                  <a:lnTo>
                    <a:pt x="88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1d1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6573960" y="2203560"/>
              <a:ext cx="61920" cy="52200"/>
            </a:xfrm>
            <a:custGeom>
              <a:avLst/>
              <a:gdLst/>
              <a:ahLst/>
              <a:rect l="l" t="t" r="r" b="b"/>
              <a:pathLst>
                <a:path w="197" h="166">
                  <a:moveTo>
                    <a:pt x="3" y="106"/>
                  </a:moveTo>
                  <a:lnTo>
                    <a:pt x="1" y="93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2" y="61"/>
                  </a:lnTo>
                  <a:lnTo>
                    <a:pt x="5" y="52"/>
                  </a:lnTo>
                  <a:lnTo>
                    <a:pt x="8" y="43"/>
                  </a:lnTo>
                  <a:lnTo>
                    <a:pt x="12" y="36"/>
                  </a:lnTo>
                  <a:lnTo>
                    <a:pt x="17" y="29"/>
                  </a:lnTo>
                  <a:lnTo>
                    <a:pt x="27" y="17"/>
                  </a:lnTo>
                  <a:lnTo>
                    <a:pt x="35" y="10"/>
                  </a:lnTo>
                  <a:lnTo>
                    <a:pt x="42" y="5"/>
                  </a:lnTo>
                  <a:lnTo>
                    <a:pt x="44" y="2"/>
                  </a:lnTo>
                  <a:lnTo>
                    <a:pt x="58" y="1"/>
                  </a:lnTo>
                  <a:lnTo>
                    <a:pt x="70" y="0"/>
                  </a:lnTo>
                  <a:lnTo>
                    <a:pt x="82" y="1"/>
                  </a:lnTo>
                  <a:lnTo>
                    <a:pt x="96" y="2"/>
                  </a:lnTo>
                  <a:lnTo>
                    <a:pt x="119" y="9"/>
                  </a:lnTo>
                  <a:lnTo>
                    <a:pt x="141" y="16"/>
                  </a:lnTo>
                  <a:lnTo>
                    <a:pt x="161" y="23"/>
                  </a:lnTo>
                  <a:lnTo>
                    <a:pt x="176" y="31"/>
                  </a:lnTo>
                  <a:lnTo>
                    <a:pt x="184" y="36"/>
                  </a:lnTo>
                  <a:lnTo>
                    <a:pt x="188" y="38"/>
                  </a:lnTo>
                  <a:lnTo>
                    <a:pt x="192" y="44"/>
                  </a:lnTo>
                  <a:lnTo>
                    <a:pt x="194" y="52"/>
                  </a:lnTo>
                  <a:lnTo>
                    <a:pt x="195" y="58"/>
                  </a:lnTo>
                  <a:lnTo>
                    <a:pt x="197" y="64"/>
                  </a:lnTo>
                  <a:lnTo>
                    <a:pt x="197" y="75"/>
                  </a:lnTo>
                  <a:lnTo>
                    <a:pt x="195" y="85"/>
                  </a:lnTo>
                  <a:lnTo>
                    <a:pt x="193" y="93"/>
                  </a:lnTo>
                  <a:lnTo>
                    <a:pt x="190" y="101"/>
                  </a:lnTo>
                  <a:lnTo>
                    <a:pt x="189" y="104"/>
                  </a:lnTo>
                  <a:lnTo>
                    <a:pt x="188" y="106"/>
                  </a:lnTo>
                  <a:lnTo>
                    <a:pt x="186" y="114"/>
                  </a:lnTo>
                  <a:lnTo>
                    <a:pt x="182" y="122"/>
                  </a:lnTo>
                  <a:lnTo>
                    <a:pt x="178" y="128"/>
                  </a:lnTo>
                  <a:lnTo>
                    <a:pt x="174" y="135"/>
                  </a:lnTo>
                  <a:lnTo>
                    <a:pt x="170" y="140"/>
                  </a:lnTo>
                  <a:lnTo>
                    <a:pt x="163" y="145"/>
                  </a:lnTo>
                  <a:lnTo>
                    <a:pt x="157" y="150"/>
                  </a:lnTo>
                  <a:lnTo>
                    <a:pt x="151" y="154"/>
                  </a:lnTo>
                  <a:lnTo>
                    <a:pt x="139" y="160"/>
                  </a:lnTo>
                  <a:lnTo>
                    <a:pt x="124" y="163"/>
                  </a:lnTo>
                  <a:lnTo>
                    <a:pt x="109" y="166"/>
                  </a:lnTo>
                  <a:lnTo>
                    <a:pt x="93" y="166"/>
                  </a:lnTo>
                  <a:lnTo>
                    <a:pt x="79" y="165"/>
                  </a:lnTo>
                  <a:lnTo>
                    <a:pt x="64" y="161"/>
                  </a:lnTo>
                  <a:lnTo>
                    <a:pt x="50" y="155"/>
                  </a:lnTo>
                  <a:lnTo>
                    <a:pt x="37" y="149"/>
                  </a:lnTo>
                  <a:lnTo>
                    <a:pt x="26" y="140"/>
                  </a:lnTo>
                  <a:lnTo>
                    <a:pt x="16" y="130"/>
                  </a:lnTo>
                  <a:lnTo>
                    <a:pt x="12" y="124"/>
                  </a:lnTo>
                  <a:lnTo>
                    <a:pt x="8" y="118"/>
                  </a:lnTo>
                  <a:lnTo>
                    <a:pt x="6" y="112"/>
                  </a:lnTo>
                  <a:lnTo>
                    <a:pt x="3" y="106"/>
                  </a:lnTo>
                  <a:close/>
                </a:path>
              </a:pathLst>
            </a:custGeom>
            <a:solidFill>
              <a:srgbClr val="2a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6576840" y="2205000"/>
              <a:ext cx="59040" cy="4788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4" y="96"/>
                  </a:moveTo>
                  <a:lnTo>
                    <a:pt x="1" y="85"/>
                  </a:lnTo>
                  <a:lnTo>
                    <a:pt x="0" y="74"/>
                  </a:lnTo>
                  <a:lnTo>
                    <a:pt x="1" y="64"/>
                  </a:lnTo>
                  <a:lnTo>
                    <a:pt x="2" y="55"/>
                  </a:lnTo>
                  <a:lnTo>
                    <a:pt x="5" y="47"/>
                  </a:lnTo>
                  <a:lnTo>
                    <a:pt x="8" y="39"/>
                  </a:lnTo>
                  <a:lnTo>
                    <a:pt x="12" y="32"/>
                  </a:lnTo>
                  <a:lnTo>
                    <a:pt x="16" y="26"/>
                  </a:lnTo>
                  <a:lnTo>
                    <a:pt x="24" y="16"/>
                  </a:lnTo>
                  <a:lnTo>
                    <a:pt x="33" y="8"/>
                  </a:lnTo>
                  <a:lnTo>
                    <a:pt x="39" y="5"/>
                  </a:lnTo>
                  <a:lnTo>
                    <a:pt x="42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88" y="1"/>
                  </a:lnTo>
                  <a:lnTo>
                    <a:pt x="100" y="2"/>
                  </a:lnTo>
                  <a:lnTo>
                    <a:pt x="111" y="6"/>
                  </a:lnTo>
                  <a:lnTo>
                    <a:pt x="122" y="8"/>
                  </a:lnTo>
                  <a:lnTo>
                    <a:pt x="132" y="12"/>
                  </a:lnTo>
                  <a:lnTo>
                    <a:pt x="149" y="20"/>
                  </a:lnTo>
                  <a:lnTo>
                    <a:pt x="162" y="26"/>
                  </a:lnTo>
                  <a:lnTo>
                    <a:pt x="171" y="31"/>
                  </a:lnTo>
                  <a:lnTo>
                    <a:pt x="175" y="33"/>
                  </a:lnTo>
                  <a:lnTo>
                    <a:pt x="179" y="45"/>
                  </a:lnTo>
                  <a:lnTo>
                    <a:pt x="182" y="56"/>
                  </a:lnTo>
                  <a:lnTo>
                    <a:pt x="182" y="67"/>
                  </a:lnTo>
                  <a:lnTo>
                    <a:pt x="181" y="76"/>
                  </a:lnTo>
                  <a:lnTo>
                    <a:pt x="178" y="85"/>
                  </a:lnTo>
                  <a:lnTo>
                    <a:pt x="177" y="91"/>
                  </a:lnTo>
                  <a:lnTo>
                    <a:pt x="175" y="95"/>
                  </a:lnTo>
                  <a:lnTo>
                    <a:pt x="175" y="96"/>
                  </a:lnTo>
                  <a:lnTo>
                    <a:pt x="172" y="103"/>
                  </a:lnTo>
                  <a:lnTo>
                    <a:pt x="170" y="109"/>
                  </a:lnTo>
                  <a:lnTo>
                    <a:pt x="166" y="115"/>
                  </a:lnTo>
                  <a:lnTo>
                    <a:pt x="162" y="122"/>
                  </a:lnTo>
                  <a:lnTo>
                    <a:pt x="157" y="127"/>
                  </a:lnTo>
                  <a:lnTo>
                    <a:pt x="152" y="131"/>
                  </a:lnTo>
                  <a:lnTo>
                    <a:pt x="148" y="135"/>
                  </a:lnTo>
                  <a:lnTo>
                    <a:pt x="141" y="139"/>
                  </a:lnTo>
                  <a:lnTo>
                    <a:pt x="129" y="145"/>
                  </a:lnTo>
                  <a:lnTo>
                    <a:pt x="116" y="149"/>
                  </a:lnTo>
                  <a:lnTo>
                    <a:pt x="102" y="150"/>
                  </a:lnTo>
                  <a:lnTo>
                    <a:pt x="88" y="151"/>
                  </a:lnTo>
                  <a:lnTo>
                    <a:pt x="74" y="149"/>
                  </a:lnTo>
                  <a:lnTo>
                    <a:pt x="60" y="146"/>
                  </a:lnTo>
                  <a:lnTo>
                    <a:pt x="47" y="141"/>
                  </a:lnTo>
                  <a:lnTo>
                    <a:pt x="36" y="134"/>
                  </a:lnTo>
                  <a:lnTo>
                    <a:pt x="24" y="127"/>
                  </a:lnTo>
                  <a:lnTo>
                    <a:pt x="15" y="118"/>
                  </a:lnTo>
                  <a:lnTo>
                    <a:pt x="11" y="113"/>
                  </a:lnTo>
                  <a:lnTo>
                    <a:pt x="8" y="107"/>
                  </a:lnTo>
                  <a:lnTo>
                    <a:pt x="6" y="102"/>
                  </a:lnTo>
                  <a:lnTo>
                    <a:pt x="4" y="96"/>
                  </a:lnTo>
                  <a:close/>
                </a:path>
              </a:pathLst>
            </a:custGeom>
            <a:solidFill>
              <a:srgbClr val="352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6581880" y="2205000"/>
              <a:ext cx="52200" cy="44640"/>
            </a:xfrm>
            <a:custGeom>
              <a:avLst/>
              <a:gdLst/>
              <a:ahLst/>
              <a:rect l="l" t="t" r="r" b="b"/>
              <a:pathLst>
                <a:path w="165" h="137">
                  <a:moveTo>
                    <a:pt x="4" y="89"/>
                  </a:moveTo>
                  <a:lnTo>
                    <a:pt x="2" y="78"/>
                  </a:lnTo>
                  <a:lnTo>
                    <a:pt x="0" y="68"/>
                  </a:lnTo>
                  <a:lnTo>
                    <a:pt x="0" y="59"/>
                  </a:lnTo>
                  <a:lnTo>
                    <a:pt x="2" y="50"/>
                  </a:lnTo>
                  <a:lnTo>
                    <a:pt x="4" y="43"/>
                  </a:lnTo>
                  <a:lnTo>
                    <a:pt x="7" y="35"/>
                  </a:lnTo>
                  <a:lnTo>
                    <a:pt x="10" y="29"/>
                  </a:lnTo>
                  <a:lnTo>
                    <a:pt x="14" y="23"/>
                  </a:lnTo>
                  <a:lnTo>
                    <a:pt x="21" y="13"/>
                  </a:lnTo>
                  <a:lnTo>
                    <a:pt x="29" y="7"/>
                  </a:lnTo>
                  <a:lnTo>
                    <a:pt x="35" y="3"/>
                  </a:lnTo>
                  <a:lnTo>
                    <a:pt x="36" y="2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79" y="1"/>
                  </a:lnTo>
                  <a:lnTo>
                    <a:pt x="100" y="4"/>
                  </a:lnTo>
                  <a:lnTo>
                    <a:pt x="119" y="11"/>
                  </a:lnTo>
                  <a:lnTo>
                    <a:pt x="136" y="17"/>
                  </a:lnTo>
                  <a:lnTo>
                    <a:pt x="148" y="23"/>
                  </a:lnTo>
                  <a:lnTo>
                    <a:pt x="155" y="28"/>
                  </a:lnTo>
                  <a:lnTo>
                    <a:pt x="159" y="29"/>
                  </a:lnTo>
                  <a:lnTo>
                    <a:pt x="163" y="40"/>
                  </a:lnTo>
                  <a:lnTo>
                    <a:pt x="164" y="51"/>
                  </a:lnTo>
                  <a:lnTo>
                    <a:pt x="165" y="61"/>
                  </a:lnTo>
                  <a:lnTo>
                    <a:pt x="164" y="70"/>
                  </a:lnTo>
                  <a:lnTo>
                    <a:pt x="163" y="78"/>
                  </a:lnTo>
                  <a:lnTo>
                    <a:pt x="160" y="83"/>
                  </a:lnTo>
                  <a:lnTo>
                    <a:pt x="159" y="88"/>
                  </a:lnTo>
                  <a:lnTo>
                    <a:pt x="159" y="89"/>
                  </a:lnTo>
                  <a:lnTo>
                    <a:pt x="157" y="95"/>
                  </a:lnTo>
                  <a:lnTo>
                    <a:pt x="154" y="102"/>
                  </a:lnTo>
                  <a:lnTo>
                    <a:pt x="150" y="107"/>
                  </a:lnTo>
                  <a:lnTo>
                    <a:pt x="147" y="113"/>
                  </a:lnTo>
                  <a:lnTo>
                    <a:pt x="137" y="121"/>
                  </a:lnTo>
                  <a:lnTo>
                    <a:pt x="127" y="127"/>
                  </a:lnTo>
                  <a:lnTo>
                    <a:pt x="116" y="132"/>
                  </a:lnTo>
                  <a:lnTo>
                    <a:pt x="104" y="136"/>
                  </a:lnTo>
                  <a:lnTo>
                    <a:pt x="91" y="137"/>
                  </a:lnTo>
                  <a:lnTo>
                    <a:pt x="78" y="137"/>
                  </a:lnTo>
                  <a:lnTo>
                    <a:pt x="66" y="136"/>
                  </a:lnTo>
                  <a:lnTo>
                    <a:pt x="53" y="134"/>
                  </a:lnTo>
                  <a:lnTo>
                    <a:pt x="41" y="129"/>
                  </a:lnTo>
                  <a:lnTo>
                    <a:pt x="31" y="124"/>
                  </a:lnTo>
                  <a:lnTo>
                    <a:pt x="21" y="116"/>
                  </a:lnTo>
                  <a:lnTo>
                    <a:pt x="14" y="108"/>
                  </a:lnTo>
                  <a:lnTo>
                    <a:pt x="8" y="99"/>
                  </a:lnTo>
                  <a:lnTo>
                    <a:pt x="4" y="89"/>
                  </a:lnTo>
                  <a:close/>
                </a:path>
              </a:pathLst>
            </a:custGeom>
            <a:solidFill>
              <a:srgbClr val="4236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6585120" y="2206800"/>
              <a:ext cx="47520" cy="39600"/>
            </a:xfrm>
            <a:custGeom>
              <a:avLst/>
              <a:gdLst/>
              <a:ahLst/>
              <a:rect l="l" t="t" r="r" b="b"/>
              <a:pathLst>
                <a:path w="146" h="125">
                  <a:moveTo>
                    <a:pt x="2" y="81"/>
                  </a:moveTo>
                  <a:lnTo>
                    <a:pt x="0" y="71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1" y="47"/>
                  </a:lnTo>
                  <a:lnTo>
                    <a:pt x="2" y="39"/>
                  </a:lnTo>
                  <a:lnTo>
                    <a:pt x="6" y="33"/>
                  </a:lnTo>
                  <a:lnTo>
                    <a:pt x="8" y="27"/>
                  </a:lnTo>
                  <a:lnTo>
                    <a:pt x="12" y="22"/>
                  </a:lnTo>
                  <a:lnTo>
                    <a:pt x="18" y="14"/>
                  </a:lnTo>
                  <a:lnTo>
                    <a:pt x="26" y="7"/>
                  </a:lnTo>
                  <a:lnTo>
                    <a:pt x="29" y="4"/>
                  </a:lnTo>
                  <a:lnTo>
                    <a:pt x="32" y="2"/>
                  </a:lnTo>
                  <a:lnTo>
                    <a:pt x="42" y="1"/>
                  </a:lnTo>
                  <a:lnTo>
                    <a:pt x="51" y="0"/>
                  </a:lnTo>
                  <a:lnTo>
                    <a:pt x="61" y="1"/>
                  </a:lnTo>
                  <a:lnTo>
                    <a:pt x="70" y="2"/>
                  </a:lnTo>
                  <a:lnTo>
                    <a:pt x="88" y="6"/>
                  </a:lnTo>
                  <a:lnTo>
                    <a:pt x="106" y="11"/>
                  </a:lnTo>
                  <a:lnTo>
                    <a:pt x="119" y="16"/>
                  </a:lnTo>
                  <a:lnTo>
                    <a:pt x="130" y="22"/>
                  </a:lnTo>
                  <a:lnTo>
                    <a:pt x="137" y="26"/>
                  </a:lnTo>
                  <a:lnTo>
                    <a:pt x="140" y="27"/>
                  </a:lnTo>
                  <a:lnTo>
                    <a:pt x="144" y="37"/>
                  </a:lnTo>
                  <a:lnTo>
                    <a:pt x="146" y="47"/>
                  </a:lnTo>
                  <a:lnTo>
                    <a:pt x="146" y="57"/>
                  </a:lnTo>
                  <a:lnTo>
                    <a:pt x="145" y="64"/>
                  </a:lnTo>
                  <a:lnTo>
                    <a:pt x="144" y="71"/>
                  </a:lnTo>
                  <a:lnTo>
                    <a:pt x="142" y="76"/>
                  </a:lnTo>
                  <a:lnTo>
                    <a:pt x="141" y="80"/>
                  </a:lnTo>
                  <a:lnTo>
                    <a:pt x="140" y="81"/>
                  </a:lnTo>
                  <a:lnTo>
                    <a:pt x="139" y="87"/>
                  </a:lnTo>
                  <a:lnTo>
                    <a:pt x="136" y="92"/>
                  </a:lnTo>
                  <a:lnTo>
                    <a:pt x="134" y="97"/>
                  </a:lnTo>
                  <a:lnTo>
                    <a:pt x="130" y="102"/>
                  </a:lnTo>
                  <a:lnTo>
                    <a:pt x="123" y="109"/>
                  </a:lnTo>
                  <a:lnTo>
                    <a:pt x="114" y="116"/>
                  </a:lnTo>
                  <a:lnTo>
                    <a:pt x="104" y="121"/>
                  </a:lnTo>
                  <a:lnTo>
                    <a:pt x="93" y="124"/>
                  </a:lnTo>
                  <a:lnTo>
                    <a:pt x="82" y="125"/>
                  </a:lnTo>
                  <a:lnTo>
                    <a:pt x="70" y="125"/>
                  </a:lnTo>
                  <a:lnTo>
                    <a:pt x="59" y="124"/>
                  </a:lnTo>
                  <a:lnTo>
                    <a:pt x="48" y="122"/>
                  </a:lnTo>
                  <a:lnTo>
                    <a:pt x="37" y="117"/>
                  </a:lnTo>
                  <a:lnTo>
                    <a:pt x="27" y="112"/>
                  </a:lnTo>
                  <a:lnTo>
                    <a:pt x="18" y="106"/>
                  </a:lnTo>
                  <a:lnTo>
                    <a:pt x="11" y="98"/>
                  </a:lnTo>
                  <a:lnTo>
                    <a:pt x="6" y="91"/>
                  </a:lnTo>
                  <a:lnTo>
                    <a:pt x="2" y="81"/>
                  </a:lnTo>
                  <a:close/>
                </a:path>
              </a:pathLst>
            </a:custGeom>
            <a:solidFill>
              <a:srgbClr val="4f40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8" name=""/>
            <p:cNvGrpSpPr/>
            <p:nvPr/>
          </p:nvGrpSpPr>
          <p:grpSpPr>
            <a:xfrm>
              <a:off x="5456160" y="2094120"/>
              <a:ext cx="2309760" cy="2919240"/>
              <a:chOff x="5456160" y="2094120"/>
              <a:chExt cx="2309760" cy="2919240"/>
            </a:xfrm>
          </p:grpSpPr>
          <p:sp>
            <p:nvSpPr>
              <p:cNvPr id="4459" name=""/>
              <p:cNvSpPr/>
              <p:nvPr/>
            </p:nvSpPr>
            <p:spPr>
              <a:xfrm>
                <a:off x="6588000" y="220824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132" h="112">
                    <a:moveTo>
                      <a:pt x="3" y="72"/>
                    </a:moveTo>
                    <a:lnTo>
                      <a:pt x="1" y="64"/>
                    </a:lnTo>
                    <a:lnTo>
                      <a:pt x="0" y="56"/>
                    </a:lnTo>
                    <a:lnTo>
                      <a:pt x="0" y="49"/>
                    </a:lnTo>
                    <a:lnTo>
                      <a:pt x="1" y="41"/>
                    </a:lnTo>
                    <a:lnTo>
                      <a:pt x="3" y="35"/>
                    </a:lnTo>
                    <a:lnTo>
                      <a:pt x="6" y="29"/>
                    </a:lnTo>
                    <a:lnTo>
                      <a:pt x="8" y="24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28" y="2"/>
                    </a:lnTo>
                    <a:lnTo>
                      <a:pt x="30" y="1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5" y="1"/>
                    </a:lnTo>
                    <a:lnTo>
                      <a:pt x="81" y="5"/>
                    </a:lnTo>
                    <a:lnTo>
                      <a:pt x="96" y="10"/>
                    </a:lnTo>
                    <a:lnTo>
                      <a:pt x="109" y="16"/>
                    </a:lnTo>
                    <a:lnTo>
                      <a:pt x="119" y="21"/>
                    </a:lnTo>
                    <a:lnTo>
                      <a:pt x="125" y="24"/>
                    </a:lnTo>
                    <a:lnTo>
                      <a:pt x="127" y="25"/>
                    </a:lnTo>
                    <a:lnTo>
                      <a:pt x="131" y="35"/>
                    </a:lnTo>
                    <a:lnTo>
                      <a:pt x="132" y="43"/>
                    </a:lnTo>
                    <a:lnTo>
                      <a:pt x="132" y="51"/>
                    </a:lnTo>
                    <a:lnTo>
                      <a:pt x="131" y="57"/>
                    </a:lnTo>
                    <a:lnTo>
                      <a:pt x="130" y="64"/>
                    </a:lnTo>
                    <a:lnTo>
                      <a:pt x="129" y="69"/>
                    </a:lnTo>
                    <a:lnTo>
                      <a:pt x="127" y="71"/>
                    </a:lnTo>
                    <a:lnTo>
                      <a:pt x="127" y="72"/>
                    </a:lnTo>
                    <a:lnTo>
                      <a:pt x="124" y="82"/>
                    </a:lnTo>
                    <a:lnTo>
                      <a:pt x="118" y="91"/>
                    </a:lnTo>
                    <a:lnTo>
                      <a:pt x="112" y="98"/>
                    </a:lnTo>
                    <a:lnTo>
                      <a:pt x="103" y="104"/>
                    </a:lnTo>
                    <a:lnTo>
                      <a:pt x="93" y="108"/>
                    </a:lnTo>
                    <a:lnTo>
                      <a:pt x="83" y="110"/>
                    </a:lnTo>
                    <a:lnTo>
                      <a:pt x="73" y="112"/>
                    </a:lnTo>
                    <a:lnTo>
                      <a:pt x="64" y="112"/>
                    </a:lnTo>
                    <a:lnTo>
                      <a:pt x="52" y="110"/>
                    </a:lnTo>
                    <a:lnTo>
                      <a:pt x="43" y="108"/>
                    </a:lnTo>
                    <a:lnTo>
                      <a:pt x="33" y="104"/>
                    </a:lnTo>
                    <a:lnTo>
                      <a:pt x="24" y="99"/>
                    </a:lnTo>
                    <a:lnTo>
                      <a:pt x="17" y="94"/>
                    </a:lnTo>
                    <a:lnTo>
                      <a:pt x="11" y="88"/>
                    </a:lnTo>
                    <a:lnTo>
                      <a:pt x="6" y="80"/>
                    </a:lnTo>
                    <a:lnTo>
                      <a:pt x="3" y="72"/>
                    </a:lnTo>
                    <a:close/>
                  </a:path>
                </a:pathLst>
              </a:custGeom>
              <a:solidFill>
                <a:srgbClr val="5a4a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6593040" y="220824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118" h="100">
                    <a:moveTo>
                      <a:pt x="26" y="3"/>
                    </a:moveTo>
                    <a:lnTo>
                      <a:pt x="24" y="3"/>
                    </a:lnTo>
                    <a:lnTo>
                      <a:pt x="21" y="6"/>
                    </a:lnTo>
                    <a:lnTo>
                      <a:pt x="16" y="11"/>
                    </a:lnTo>
                    <a:lnTo>
                      <a:pt x="10" y="19"/>
                    </a:lnTo>
                    <a:lnTo>
                      <a:pt x="5" y="27"/>
                    </a:lnTo>
                    <a:lnTo>
                      <a:pt x="1" y="37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1" y="64"/>
                    </a:lnTo>
                    <a:lnTo>
                      <a:pt x="5" y="71"/>
                    </a:lnTo>
                    <a:lnTo>
                      <a:pt x="8" y="79"/>
                    </a:lnTo>
                    <a:lnTo>
                      <a:pt x="15" y="84"/>
                    </a:lnTo>
                    <a:lnTo>
                      <a:pt x="21" y="89"/>
                    </a:lnTo>
                    <a:lnTo>
                      <a:pt x="29" y="92"/>
                    </a:lnTo>
                    <a:lnTo>
                      <a:pt x="37" y="96"/>
                    </a:lnTo>
                    <a:lnTo>
                      <a:pt x="47" y="99"/>
                    </a:lnTo>
                    <a:lnTo>
                      <a:pt x="55" y="100"/>
                    </a:lnTo>
                    <a:lnTo>
                      <a:pt x="64" y="99"/>
                    </a:lnTo>
                    <a:lnTo>
                      <a:pt x="74" y="99"/>
                    </a:lnTo>
                    <a:lnTo>
                      <a:pt x="82" y="96"/>
                    </a:lnTo>
                    <a:lnTo>
                      <a:pt x="90" y="92"/>
                    </a:lnTo>
                    <a:lnTo>
                      <a:pt x="97" y="87"/>
                    </a:lnTo>
                    <a:lnTo>
                      <a:pt x="104" y="81"/>
                    </a:lnTo>
                    <a:lnTo>
                      <a:pt x="109" y="74"/>
                    </a:lnTo>
                    <a:lnTo>
                      <a:pt x="113" y="64"/>
                    </a:lnTo>
                    <a:lnTo>
                      <a:pt x="113" y="64"/>
                    </a:lnTo>
                    <a:lnTo>
                      <a:pt x="114" y="62"/>
                    </a:lnTo>
                    <a:lnTo>
                      <a:pt x="115" y="58"/>
                    </a:lnTo>
                    <a:lnTo>
                      <a:pt x="117" y="52"/>
                    </a:lnTo>
                    <a:lnTo>
                      <a:pt x="118" y="46"/>
                    </a:lnTo>
                    <a:lnTo>
                      <a:pt x="118" y="39"/>
                    </a:lnTo>
                    <a:lnTo>
                      <a:pt x="115" y="32"/>
                    </a:lnTo>
                    <a:lnTo>
                      <a:pt x="113" y="23"/>
                    </a:lnTo>
                    <a:lnTo>
                      <a:pt x="111" y="22"/>
                    </a:lnTo>
                    <a:lnTo>
                      <a:pt x="106" y="20"/>
                    </a:lnTo>
                    <a:lnTo>
                      <a:pt x="96" y="15"/>
                    </a:lnTo>
                    <a:lnTo>
                      <a:pt x="85" y="10"/>
                    </a:lnTo>
                    <a:lnTo>
                      <a:pt x="71" y="5"/>
                    </a:lnTo>
                    <a:lnTo>
                      <a:pt x="56" y="3"/>
                    </a:lnTo>
                    <a:lnTo>
                      <a:pt x="49" y="1"/>
                    </a:lnTo>
                    <a:lnTo>
                      <a:pt x="42" y="0"/>
                    </a:lnTo>
                    <a:lnTo>
                      <a:pt x="33" y="1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695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6599160" y="221472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82" h="74">
                    <a:moveTo>
                      <a:pt x="17" y="10"/>
                    </a:moveTo>
                    <a:lnTo>
                      <a:pt x="16" y="10"/>
                    </a:lnTo>
                    <a:lnTo>
                      <a:pt x="13" y="13"/>
                    </a:lnTo>
                    <a:lnTo>
                      <a:pt x="11" y="15"/>
                    </a:lnTo>
                    <a:lnTo>
                      <a:pt x="7" y="20"/>
                    </a:lnTo>
                    <a:lnTo>
                      <a:pt x="3" y="26"/>
                    </a:lnTo>
                    <a:lnTo>
                      <a:pt x="1" y="32"/>
                    </a:lnTo>
                    <a:lnTo>
                      <a:pt x="0" y="41"/>
                    </a:lnTo>
                    <a:lnTo>
                      <a:pt x="1" y="51"/>
                    </a:lnTo>
                    <a:lnTo>
                      <a:pt x="2" y="56"/>
                    </a:lnTo>
                    <a:lnTo>
                      <a:pt x="6" y="59"/>
                    </a:lnTo>
                    <a:lnTo>
                      <a:pt x="9" y="64"/>
                    </a:lnTo>
                    <a:lnTo>
                      <a:pt x="14" y="67"/>
                    </a:lnTo>
                    <a:lnTo>
                      <a:pt x="19" y="70"/>
                    </a:lnTo>
                    <a:lnTo>
                      <a:pt x="25" y="72"/>
                    </a:lnTo>
                    <a:lnTo>
                      <a:pt x="32" y="73"/>
                    </a:lnTo>
                    <a:lnTo>
                      <a:pt x="38" y="74"/>
                    </a:lnTo>
                    <a:lnTo>
                      <a:pt x="44" y="74"/>
                    </a:lnTo>
                    <a:lnTo>
                      <a:pt x="50" y="73"/>
                    </a:lnTo>
                    <a:lnTo>
                      <a:pt x="56" y="72"/>
                    </a:lnTo>
                    <a:lnTo>
                      <a:pt x="61" y="69"/>
                    </a:lnTo>
                    <a:lnTo>
                      <a:pt x="66" y="67"/>
                    </a:lnTo>
                    <a:lnTo>
                      <a:pt x="71" y="62"/>
                    </a:lnTo>
                    <a:lnTo>
                      <a:pt x="75" y="57"/>
                    </a:lnTo>
                    <a:lnTo>
                      <a:pt x="77" y="51"/>
                    </a:lnTo>
                    <a:lnTo>
                      <a:pt x="77" y="49"/>
                    </a:lnTo>
                    <a:lnTo>
                      <a:pt x="78" y="48"/>
                    </a:lnTo>
                    <a:lnTo>
                      <a:pt x="80" y="45"/>
                    </a:lnTo>
                    <a:lnTo>
                      <a:pt x="81" y="41"/>
                    </a:lnTo>
                    <a:lnTo>
                      <a:pt x="82" y="36"/>
                    </a:lnTo>
                    <a:lnTo>
                      <a:pt x="82" y="30"/>
                    </a:lnTo>
                    <a:lnTo>
                      <a:pt x="82" y="24"/>
                    </a:lnTo>
                    <a:lnTo>
                      <a:pt x="80" y="17"/>
                    </a:lnTo>
                    <a:lnTo>
                      <a:pt x="78" y="16"/>
                    </a:lnTo>
                    <a:lnTo>
                      <a:pt x="76" y="13"/>
                    </a:lnTo>
                    <a:lnTo>
                      <a:pt x="71" y="9"/>
                    </a:lnTo>
                    <a:lnTo>
                      <a:pt x="64" y="4"/>
                    </a:lnTo>
                    <a:lnTo>
                      <a:pt x="59" y="1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2" y="3"/>
                    </a:lnTo>
                    <a:lnTo>
                      <a:pt x="24" y="5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120f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6888240" y="22050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213" h="178">
                    <a:moveTo>
                      <a:pt x="47" y="4"/>
                    </a:moveTo>
                    <a:lnTo>
                      <a:pt x="44" y="5"/>
                    </a:lnTo>
                    <a:lnTo>
                      <a:pt x="37" y="10"/>
                    </a:lnTo>
                    <a:lnTo>
                      <a:pt x="28" y="18"/>
                    </a:lnTo>
                    <a:lnTo>
                      <a:pt x="18" y="31"/>
                    </a:lnTo>
                    <a:lnTo>
                      <a:pt x="13" y="38"/>
                    </a:lnTo>
                    <a:lnTo>
                      <a:pt x="9" y="45"/>
                    </a:lnTo>
                    <a:lnTo>
                      <a:pt x="5" y="55"/>
                    </a:lnTo>
                    <a:lnTo>
                      <a:pt x="2" y="65"/>
                    </a:lnTo>
                    <a:lnTo>
                      <a:pt x="0" y="76"/>
                    </a:lnTo>
                    <a:lnTo>
                      <a:pt x="0" y="88"/>
                    </a:lnTo>
                    <a:lnTo>
                      <a:pt x="1" y="101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9" y="128"/>
                    </a:lnTo>
                    <a:lnTo>
                      <a:pt x="12" y="134"/>
                    </a:lnTo>
                    <a:lnTo>
                      <a:pt x="17" y="140"/>
                    </a:lnTo>
                    <a:lnTo>
                      <a:pt x="28" y="150"/>
                    </a:lnTo>
                    <a:lnTo>
                      <a:pt x="41" y="158"/>
                    </a:lnTo>
                    <a:lnTo>
                      <a:pt x="54" y="166"/>
                    </a:lnTo>
                    <a:lnTo>
                      <a:pt x="69" y="172"/>
                    </a:lnTo>
                    <a:lnTo>
                      <a:pt x="85" y="176"/>
                    </a:lnTo>
                    <a:lnTo>
                      <a:pt x="102" y="178"/>
                    </a:lnTo>
                    <a:lnTo>
                      <a:pt x="118" y="178"/>
                    </a:lnTo>
                    <a:lnTo>
                      <a:pt x="134" y="176"/>
                    </a:lnTo>
                    <a:lnTo>
                      <a:pt x="143" y="173"/>
                    </a:lnTo>
                    <a:lnTo>
                      <a:pt x="150" y="172"/>
                    </a:lnTo>
                    <a:lnTo>
                      <a:pt x="157" y="168"/>
                    </a:lnTo>
                    <a:lnTo>
                      <a:pt x="165" y="165"/>
                    </a:lnTo>
                    <a:lnTo>
                      <a:pt x="171" y="161"/>
                    </a:lnTo>
                    <a:lnTo>
                      <a:pt x="177" y="156"/>
                    </a:lnTo>
                    <a:lnTo>
                      <a:pt x="183" y="151"/>
                    </a:lnTo>
                    <a:lnTo>
                      <a:pt x="189" y="145"/>
                    </a:lnTo>
                    <a:lnTo>
                      <a:pt x="194" y="139"/>
                    </a:lnTo>
                    <a:lnTo>
                      <a:pt x="198" y="131"/>
                    </a:lnTo>
                    <a:lnTo>
                      <a:pt x="202" y="123"/>
                    </a:lnTo>
                    <a:lnTo>
                      <a:pt x="204" y="114"/>
                    </a:lnTo>
                    <a:lnTo>
                      <a:pt x="205" y="113"/>
                    </a:lnTo>
                    <a:lnTo>
                      <a:pt x="207" y="108"/>
                    </a:lnTo>
                    <a:lnTo>
                      <a:pt x="209" y="101"/>
                    </a:lnTo>
                    <a:lnTo>
                      <a:pt x="212" y="91"/>
                    </a:lnTo>
                    <a:lnTo>
                      <a:pt x="213" y="80"/>
                    </a:lnTo>
                    <a:lnTo>
                      <a:pt x="213" y="66"/>
                    </a:lnTo>
                    <a:lnTo>
                      <a:pt x="212" y="60"/>
                    </a:lnTo>
                    <a:lnTo>
                      <a:pt x="210" y="53"/>
                    </a:lnTo>
                    <a:lnTo>
                      <a:pt x="208" y="45"/>
                    </a:lnTo>
                    <a:lnTo>
                      <a:pt x="204" y="38"/>
                    </a:lnTo>
                    <a:lnTo>
                      <a:pt x="200" y="37"/>
                    </a:lnTo>
                    <a:lnTo>
                      <a:pt x="191" y="31"/>
                    </a:lnTo>
                    <a:lnTo>
                      <a:pt x="173" y="23"/>
                    </a:lnTo>
                    <a:lnTo>
                      <a:pt x="154" y="15"/>
                    </a:lnTo>
                    <a:lnTo>
                      <a:pt x="141" y="11"/>
                    </a:lnTo>
                    <a:lnTo>
                      <a:pt x="129" y="7"/>
                    </a:lnTo>
                    <a:lnTo>
                      <a:pt x="116" y="5"/>
                    </a:lnTo>
                    <a:lnTo>
                      <a:pt x="102" y="2"/>
                    </a:lnTo>
                    <a:lnTo>
                      <a:pt x="89" y="0"/>
                    </a:lnTo>
                    <a:lnTo>
                      <a:pt x="75" y="0"/>
                    </a:lnTo>
                    <a:lnTo>
                      <a:pt x="60" y="1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1d18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6891480" y="2205000"/>
                <a:ext cx="63360" cy="52560"/>
              </a:xfrm>
              <a:custGeom>
                <a:avLst/>
                <a:gdLst/>
                <a:ahLst/>
                <a:rect l="l" t="t" r="r" b="b"/>
                <a:pathLst>
                  <a:path w="197" h="165">
                    <a:moveTo>
                      <a:pt x="4" y="107"/>
                    </a:moveTo>
                    <a:lnTo>
                      <a:pt x="2" y="94"/>
                    </a:lnTo>
                    <a:lnTo>
                      <a:pt x="0" y="83"/>
                    </a:lnTo>
                    <a:lnTo>
                      <a:pt x="0" y="72"/>
                    </a:lnTo>
                    <a:lnTo>
                      <a:pt x="2" y="62"/>
                    </a:lnTo>
                    <a:lnTo>
                      <a:pt x="4" y="52"/>
                    </a:lnTo>
                    <a:lnTo>
                      <a:pt x="8" y="43"/>
                    </a:lnTo>
                    <a:lnTo>
                      <a:pt x="12" y="36"/>
                    </a:lnTo>
                    <a:lnTo>
                      <a:pt x="16" y="29"/>
                    </a:lnTo>
                    <a:lnTo>
                      <a:pt x="25" y="18"/>
                    </a:lnTo>
                    <a:lnTo>
                      <a:pt x="34" y="10"/>
                    </a:lnTo>
                    <a:lnTo>
                      <a:pt x="40" y="5"/>
                    </a:lnTo>
                    <a:lnTo>
                      <a:pt x="42" y="4"/>
                    </a:lnTo>
                    <a:lnTo>
                      <a:pt x="55" y="2"/>
                    </a:lnTo>
                    <a:lnTo>
                      <a:pt x="68" y="0"/>
                    </a:lnTo>
                    <a:lnTo>
                      <a:pt x="80" y="0"/>
                    </a:lnTo>
                    <a:lnTo>
                      <a:pt x="94" y="2"/>
                    </a:lnTo>
                    <a:lnTo>
                      <a:pt x="106" y="4"/>
                    </a:lnTo>
                    <a:lnTo>
                      <a:pt x="119" y="6"/>
                    </a:lnTo>
                    <a:lnTo>
                      <a:pt x="130" y="10"/>
                    </a:lnTo>
                    <a:lnTo>
                      <a:pt x="141" y="14"/>
                    </a:lnTo>
                    <a:lnTo>
                      <a:pt x="160" y="22"/>
                    </a:lnTo>
                    <a:lnTo>
                      <a:pt x="175" y="29"/>
                    </a:lnTo>
                    <a:lnTo>
                      <a:pt x="185" y="35"/>
                    </a:lnTo>
                    <a:lnTo>
                      <a:pt x="189" y="36"/>
                    </a:lnTo>
                    <a:lnTo>
                      <a:pt x="192" y="43"/>
                    </a:lnTo>
                    <a:lnTo>
                      <a:pt x="194" y="49"/>
                    </a:lnTo>
                    <a:lnTo>
                      <a:pt x="196" y="56"/>
                    </a:lnTo>
                    <a:lnTo>
                      <a:pt x="197" y="63"/>
                    </a:lnTo>
                    <a:lnTo>
                      <a:pt x="197" y="74"/>
                    </a:lnTo>
                    <a:lnTo>
                      <a:pt x="196" y="85"/>
                    </a:lnTo>
                    <a:lnTo>
                      <a:pt x="194" y="94"/>
                    </a:lnTo>
                    <a:lnTo>
                      <a:pt x="191" y="101"/>
                    </a:lnTo>
                    <a:lnTo>
                      <a:pt x="190" y="106"/>
                    </a:lnTo>
                    <a:lnTo>
                      <a:pt x="189" y="107"/>
                    </a:lnTo>
                    <a:lnTo>
                      <a:pt x="186" y="115"/>
                    </a:lnTo>
                    <a:lnTo>
                      <a:pt x="183" y="122"/>
                    </a:lnTo>
                    <a:lnTo>
                      <a:pt x="179" y="129"/>
                    </a:lnTo>
                    <a:lnTo>
                      <a:pt x="174" y="134"/>
                    </a:lnTo>
                    <a:lnTo>
                      <a:pt x="169" y="141"/>
                    </a:lnTo>
                    <a:lnTo>
                      <a:pt x="164" y="145"/>
                    </a:lnTo>
                    <a:lnTo>
                      <a:pt x="158" y="149"/>
                    </a:lnTo>
                    <a:lnTo>
                      <a:pt x="152" y="153"/>
                    </a:lnTo>
                    <a:lnTo>
                      <a:pt x="138" y="159"/>
                    </a:lnTo>
                    <a:lnTo>
                      <a:pt x="123" y="163"/>
                    </a:lnTo>
                    <a:lnTo>
                      <a:pt x="109" y="165"/>
                    </a:lnTo>
                    <a:lnTo>
                      <a:pt x="93" y="165"/>
                    </a:lnTo>
                    <a:lnTo>
                      <a:pt x="78" y="164"/>
                    </a:lnTo>
                    <a:lnTo>
                      <a:pt x="63" y="160"/>
                    </a:lnTo>
                    <a:lnTo>
                      <a:pt x="50" y="155"/>
                    </a:lnTo>
                    <a:lnTo>
                      <a:pt x="36" y="148"/>
                    </a:lnTo>
                    <a:lnTo>
                      <a:pt x="25" y="139"/>
                    </a:lnTo>
                    <a:lnTo>
                      <a:pt x="15" y="131"/>
                    </a:lnTo>
                    <a:lnTo>
                      <a:pt x="12" y="125"/>
                    </a:lnTo>
                    <a:lnTo>
                      <a:pt x="9" y="120"/>
                    </a:lnTo>
                    <a:lnTo>
                      <a:pt x="5" y="113"/>
                    </a:lnTo>
                    <a:lnTo>
                      <a:pt x="4" y="107"/>
                    </a:lnTo>
                    <a:close/>
                  </a:path>
                </a:pathLst>
              </a:custGeom>
              <a:solidFill>
                <a:srgbClr val="2a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6896160" y="220680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179" h="152">
                    <a:moveTo>
                      <a:pt x="3" y="97"/>
                    </a:moveTo>
                    <a:lnTo>
                      <a:pt x="1" y="86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2" y="55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4" y="26"/>
                    </a:lnTo>
                    <a:lnTo>
                      <a:pt x="23" y="16"/>
                    </a:lnTo>
                    <a:lnTo>
                      <a:pt x="30" y="9"/>
                    </a:lnTo>
                    <a:lnTo>
                      <a:pt x="36" y="4"/>
                    </a:lnTo>
                    <a:lnTo>
                      <a:pt x="38" y="2"/>
                    </a:lnTo>
                    <a:lnTo>
                      <a:pt x="50" y="1"/>
                    </a:lnTo>
                    <a:lnTo>
                      <a:pt x="62" y="0"/>
                    </a:lnTo>
                    <a:lnTo>
                      <a:pt x="73" y="0"/>
                    </a:lnTo>
                    <a:lnTo>
                      <a:pt x="86" y="1"/>
                    </a:lnTo>
                    <a:lnTo>
                      <a:pt x="108" y="6"/>
                    </a:lnTo>
                    <a:lnTo>
                      <a:pt x="129" y="12"/>
                    </a:lnTo>
                    <a:lnTo>
                      <a:pt x="146" y="20"/>
                    </a:lnTo>
                    <a:lnTo>
                      <a:pt x="159" y="26"/>
                    </a:lnTo>
                    <a:lnTo>
                      <a:pt x="168" y="31"/>
                    </a:lnTo>
                    <a:lnTo>
                      <a:pt x="172" y="32"/>
                    </a:lnTo>
                    <a:lnTo>
                      <a:pt x="174" y="39"/>
                    </a:lnTo>
                    <a:lnTo>
                      <a:pt x="177" y="45"/>
                    </a:lnTo>
                    <a:lnTo>
                      <a:pt x="178" y="52"/>
                    </a:lnTo>
                    <a:lnTo>
                      <a:pt x="179" y="58"/>
                    </a:lnTo>
                    <a:lnTo>
                      <a:pt x="179" y="69"/>
                    </a:lnTo>
                    <a:lnTo>
                      <a:pt x="178" y="79"/>
                    </a:lnTo>
                    <a:lnTo>
                      <a:pt x="177" y="86"/>
                    </a:lnTo>
                    <a:lnTo>
                      <a:pt x="174" y="92"/>
                    </a:lnTo>
                    <a:lnTo>
                      <a:pt x="172" y="96"/>
                    </a:lnTo>
                    <a:lnTo>
                      <a:pt x="172" y="97"/>
                    </a:lnTo>
                    <a:lnTo>
                      <a:pt x="169" y="105"/>
                    </a:lnTo>
                    <a:lnTo>
                      <a:pt x="166" y="112"/>
                    </a:lnTo>
                    <a:lnTo>
                      <a:pt x="162" y="118"/>
                    </a:lnTo>
                    <a:lnTo>
                      <a:pt x="158" y="124"/>
                    </a:lnTo>
                    <a:lnTo>
                      <a:pt x="155" y="129"/>
                    </a:lnTo>
                    <a:lnTo>
                      <a:pt x="150" y="134"/>
                    </a:lnTo>
                    <a:lnTo>
                      <a:pt x="143" y="138"/>
                    </a:lnTo>
                    <a:lnTo>
                      <a:pt x="139" y="141"/>
                    </a:lnTo>
                    <a:lnTo>
                      <a:pt x="126" y="146"/>
                    </a:lnTo>
                    <a:lnTo>
                      <a:pt x="113" y="151"/>
                    </a:lnTo>
                    <a:lnTo>
                      <a:pt x="99" y="152"/>
                    </a:lnTo>
                    <a:lnTo>
                      <a:pt x="86" y="152"/>
                    </a:lnTo>
                    <a:lnTo>
                      <a:pt x="71" y="151"/>
                    </a:lnTo>
                    <a:lnTo>
                      <a:pt x="57" y="148"/>
                    </a:lnTo>
                    <a:lnTo>
                      <a:pt x="45" y="143"/>
                    </a:lnTo>
                    <a:lnTo>
                      <a:pt x="33" y="137"/>
                    </a:lnTo>
                    <a:lnTo>
                      <a:pt x="23" y="129"/>
                    </a:lnTo>
                    <a:lnTo>
                      <a:pt x="14" y="119"/>
                    </a:lnTo>
                    <a:lnTo>
                      <a:pt x="11" y="114"/>
                    </a:lnTo>
                    <a:lnTo>
                      <a:pt x="7" y="109"/>
                    </a:lnTo>
                    <a:lnTo>
                      <a:pt x="4" y="103"/>
                    </a:lnTo>
                    <a:lnTo>
                      <a:pt x="3" y="97"/>
                    </a:lnTo>
                    <a:close/>
                  </a:path>
                </a:pathLst>
              </a:custGeom>
              <a:solidFill>
                <a:srgbClr val="352b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6899400" y="2208240"/>
                <a:ext cx="52200" cy="42840"/>
              </a:xfrm>
              <a:custGeom>
                <a:avLst/>
                <a:gdLst/>
                <a:ahLst/>
                <a:rect l="l" t="t" r="r" b="b"/>
                <a:pathLst>
                  <a:path w="164" h="139">
                    <a:moveTo>
                      <a:pt x="3" y="88"/>
                    </a:moveTo>
                    <a:lnTo>
                      <a:pt x="1" y="78"/>
                    </a:lnTo>
                    <a:lnTo>
                      <a:pt x="0" y="69"/>
                    </a:lnTo>
                    <a:lnTo>
                      <a:pt x="0" y="59"/>
                    </a:lnTo>
                    <a:lnTo>
                      <a:pt x="1" y="50"/>
                    </a:lnTo>
                    <a:lnTo>
                      <a:pt x="3" y="43"/>
                    </a:lnTo>
                    <a:lnTo>
                      <a:pt x="6" y="35"/>
                    </a:lnTo>
                    <a:lnTo>
                      <a:pt x="9" y="29"/>
                    </a:lnTo>
                    <a:lnTo>
                      <a:pt x="13" y="23"/>
                    </a:lnTo>
                    <a:lnTo>
                      <a:pt x="21" y="13"/>
                    </a:lnTo>
                    <a:lnTo>
                      <a:pt x="28" y="7"/>
                    </a:lnTo>
                    <a:lnTo>
                      <a:pt x="33" y="2"/>
                    </a:lnTo>
                    <a:lnTo>
                      <a:pt x="35" y="1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67" y="0"/>
                    </a:lnTo>
                    <a:lnTo>
                      <a:pt x="78" y="1"/>
                    </a:lnTo>
                    <a:lnTo>
                      <a:pt x="99" y="6"/>
                    </a:lnTo>
                    <a:lnTo>
                      <a:pt x="118" y="12"/>
                    </a:lnTo>
                    <a:lnTo>
                      <a:pt x="134" y="19"/>
                    </a:lnTo>
                    <a:lnTo>
                      <a:pt x="146" y="25"/>
                    </a:lnTo>
                    <a:lnTo>
                      <a:pt x="155" y="29"/>
                    </a:lnTo>
                    <a:lnTo>
                      <a:pt x="157" y="32"/>
                    </a:lnTo>
                    <a:lnTo>
                      <a:pt x="162" y="43"/>
                    </a:lnTo>
                    <a:lnTo>
                      <a:pt x="164" y="53"/>
                    </a:lnTo>
                    <a:lnTo>
                      <a:pt x="164" y="62"/>
                    </a:lnTo>
                    <a:lnTo>
                      <a:pt x="163" y="71"/>
                    </a:lnTo>
                    <a:lnTo>
                      <a:pt x="162" y="78"/>
                    </a:lnTo>
                    <a:lnTo>
                      <a:pt x="160" y="83"/>
                    </a:lnTo>
                    <a:lnTo>
                      <a:pt x="158" y="87"/>
                    </a:lnTo>
                    <a:lnTo>
                      <a:pt x="157" y="88"/>
                    </a:lnTo>
                    <a:lnTo>
                      <a:pt x="156" y="94"/>
                    </a:lnTo>
                    <a:lnTo>
                      <a:pt x="153" y="101"/>
                    </a:lnTo>
                    <a:lnTo>
                      <a:pt x="150" y="107"/>
                    </a:lnTo>
                    <a:lnTo>
                      <a:pt x="146" y="112"/>
                    </a:lnTo>
                    <a:lnTo>
                      <a:pt x="137" y="120"/>
                    </a:lnTo>
                    <a:lnTo>
                      <a:pt x="128" y="128"/>
                    </a:lnTo>
                    <a:lnTo>
                      <a:pt x="116" y="133"/>
                    </a:lnTo>
                    <a:lnTo>
                      <a:pt x="104" y="136"/>
                    </a:lnTo>
                    <a:lnTo>
                      <a:pt x="92" y="137"/>
                    </a:lnTo>
                    <a:lnTo>
                      <a:pt x="80" y="139"/>
                    </a:lnTo>
                    <a:lnTo>
                      <a:pt x="66" y="136"/>
                    </a:lnTo>
                    <a:lnTo>
                      <a:pt x="54" y="134"/>
                    </a:lnTo>
                    <a:lnTo>
                      <a:pt x="41" y="130"/>
                    </a:lnTo>
                    <a:lnTo>
                      <a:pt x="32" y="124"/>
                    </a:lnTo>
                    <a:lnTo>
                      <a:pt x="22" y="117"/>
                    </a:lnTo>
                    <a:lnTo>
                      <a:pt x="13" y="108"/>
                    </a:lnTo>
                    <a:lnTo>
                      <a:pt x="7" y="99"/>
                    </a:lnTo>
                    <a:lnTo>
                      <a:pt x="3" y="88"/>
                    </a:lnTo>
                    <a:close/>
                  </a:path>
                </a:pathLst>
              </a:custGeom>
              <a:solidFill>
                <a:srgbClr val="4236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6902280" y="2208240"/>
                <a:ext cx="47880" cy="39600"/>
              </a:xfrm>
              <a:custGeom>
                <a:avLst/>
                <a:gdLst/>
                <a:ahLst/>
                <a:rect l="l" t="t" r="r" b="b"/>
                <a:pathLst>
                  <a:path w="150" h="127">
                    <a:moveTo>
                      <a:pt x="2" y="81"/>
                    </a:moveTo>
                    <a:lnTo>
                      <a:pt x="1" y="71"/>
                    </a:lnTo>
                    <a:lnTo>
                      <a:pt x="0" y="63"/>
                    </a:lnTo>
                    <a:lnTo>
                      <a:pt x="1" y="54"/>
                    </a:lnTo>
                    <a:lnTo>
                      <a:pt x="2" y="47"/>
                    </a:lnTo>
                    <a:lnTo>
                      <a:pt x="3" y="39"/>
                    </a:lnTo>
                    <a:lnTo>
                      <a:pt x="6" y="33"/>
                    </a:lnTo>
                    <a:lnTo>
                      <a:pt x="10" y="27"/>
                    </a:lnTo>
                    <a:lnTo>
                      <a:pt x="12" y="22"/>
                    </a:lnTo>
                    <a:lnTo>
                      <a:pt x="19" y="14"/>
                    </a:lnTo>
                    <a:lnTo>
                      <a:pt x="26" y="8"/>
                    </a:lnTo>
                    <a:lnTo>
                      <a:pt x="30" y="4"/>
                    </a:lnTo>
                    <a:lnTo>
                      <a:pt x="33" y="3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62" y="0"/>
                    </a:lnTo>
                    <a:lnTo>
                      <a:pt x="71" y="1"/>
                    </a:lnTo>
                    <a:lnTo>
                      <a:pt x="91" y="6"/>
                    </a:lnTo>
                    <a:lnTo>
                      <a:pt x="108" y="11"/>
                    </a:lnTo>
                    <a:lnTo>
                      <a:pt x="123" y="17"/>
                    </a:lnTo>
                    <a:lnTo>
                      <a:pt x="134" y="23"/>
                    </a:lnTo>
                    <a:lnTo>
                      <a:pt x="141" y="27"/>
                    </a:lnTo>
                    <a:lnTo>
                      <a:pt x="144" y="30"/>
                    </a:lnTo>
                    <a:lnTo>
                      <a:pt x="147" y="39"/>
                    </a:lnTo>
                    <a:lnTo>
                      <a:pt x="150" y="49"/>
                    </a:lnTo>
                    <a:lnTo>
                      <a:pt x="150" y="58"/>
                    </a:lnTo>
                    <a:lnTo>
                      <a:pt x="149" y="65"/>
                    </a:lnTo>
                    <a:lnTo>
                      <a:pt x="147" y="71"/>
                    </a:lnTo>
                    <a:lnTo>
                      <a:pt x="146" y="76"/>
                    </a:lnTo>
                    <a:lnTo>
                      <a:pt x="145" y="80"/>
                    </a:lnTo>
                    <a:lnTo>
                      <a:pt x="144" y="81"/>
                    </a:lnTo>
                    <a:lnTo>
                      <a:pt x="142" y="87"/>
                    </a:lnTo>
                    <a:lnTo>
                      <a:pt x="139" y="92"/>
                    </a:lnTo>
                    <a:lnTo>
                      <a:pt x="136" y="97"/>
                    </a:lnTo>
                    <a:lnTo>
                      <a:pt x="133" y="102"/>
                    </a:lnTo>
                    <a:lnTo>
                      <a:pt x="125" y="111"/>
                    </a:lnTo>
                    <a:lnTo>
                      <a:pt x="115" y="117"/>
                    </a:lnTo>
                    <a:lnTo>
                      <a:pt x="105" y="122"/>
                    </a:lnTo>
                    <a:lnTo>
                      <a:pt x="94" y="126"/>
                    </a:lnTo>
                    <a:lnTo>
                      <a:pt x="83" y="127"/>
                    </a:lnTo>
                    <a:lnTo>
                      <a:pt x="71" y="127"/>
                    </a:lnTo>
                    <a:lnTo>
                      <a:pt x="60" y="126"/>
                    </a:lnTo>
                    <a:lnTo>
                      <a:pt x="48" y="123"/>
                    </a:lnTo>
                    <a:lnTo>
                      <a:pt x="38" y="118"/>
                    </a:lnTo>
                    <a:lnTo>
                      <a:pt x="28" y="113"/>
                    </a:lnTo>
                    <a:lnTo>
                      <a:pt x="19" y="107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2" y="81"/>
                    </a:lnTo>
                    <a:close/>
                  </a:path>
                </a:pathLst>
              </a:custGeom>
              <a:solidFill>
                <a:srgbClr val="4f40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6907320" y="2210040"/>
                <a:ext cx="41040" cy="34920"/>
              </a:xfrm>
              <a:custGeom>
                <a:avLst/>
                <a:gdLst/>
                <a:ahLst/>
                <a:rect l="l" t="t" r="r" b="b"/>
                <a:pathLst>
                  <a:path w="133" h="111">
                    <a:moveTo>
                      <a:pt x="1" y="70"/>
                    </a:moveTo>
                    <a:lnTo>
                      <a:pt x="0" y="62"/>
                    </a:lnTo>
                    <a:lnTo>
                      <a:pt x="0" y="54"/>
                    </a:lnTo>
                    <a:lnTo>
                      <a:pt x="0" y="47"/>
                    </a:lnTo>
                    <a:lnTo>
                      <a:pt x="1" y="41"/>
                    </a:lnTo>
                    <a:lnTo>
                      <a:pt x="5" y="28"/>
                    </a:lnTo>
                    <a:lnTo>
                      <a:pt x="11" y="18"/>
                    </a:lnTo>
                    <a:lnTo>
                      <a:pt x="17" y="12"/>
                    </a:lnTo>
                    <a:lnTo>
                      <a:pt x="23" y="6"/>
                    </a:lnTo>
                    <a:lnTo>
                      <a:pt x="27" y="4"/>
                    </a:lnTo>
                    <a:lnTo>
                      <a:pt x="28" y="3"/>
                    </a:lnTo>
                    <a:lnTo>
                      <a:pt x="37" y="1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64" y="1"/>
                    </a:lnTo>
                    <a:lnTo>
                      <a:pt x="80" y="5"/>
                    </a:lnTo>
                    <a:lnTo>
                      <a:pt x="95" y="9"/>
                    </a:lnTo>
                    <a:lnTo>
                      <a:pt x="108" y="15"/>
                    </a:lnTo>
                    <a:lnTo>
                      <a:pt x="118" y="20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33"/>
                    </a:lnTo>
                    <a:lnTo>
                      <a:pt x="132" y="42"/>
                    </a:lnTo>
                    <a:lnTo>
                      <a:pt x="133" y="49"/>
                    </a:lnTo>
                    <a:lnTo>
                      <a:pt x="132" y="57"/>
                    </a:lnTo>
                    <a:lnTo>
                      <a:pt x="130" y="63"/>
                    </a:lnTo>
                    <a:lnTo>
                      <a:pt x="128" y="66"/>
                    </a:lnTo>
                    <a:lnTo>
                      <a:pt x="127" y="69"/>
                    </a:lnTo>
                    <a:lnTo>
                      <a:pt x="127" y="70"/>
                    </a:lnTo>
                    <a:lnTo>
                      <a:pt x="123" y="81"/>
                    </a:lnTo>
                    <a:lnTo>
                      <a:pt x="117" y="90"/>
                    </a:lnTo>
                    <a:lnTo>
                      <a:pt x="109" y="97"/>
                    </a:lnTo>
                    <a:lnTo>
                      <a:pt x="102" y="102"/>
                    </a:lnTo>
                    <a:lnTo>
                      <a:pt x="93" y="107"/>
                    </a:lnTo>
                    <a:lnTo>
                      <a:pt x="84" y="110"/>
                    </a:lnTo>
                    <a:lnTo>
                      <a:pt x="74" y="111"/>
                    </a:lnTo>
                    <a:lnTo>
                      <a:pt x="63" y="111"/>
                    </a:lnTo>
                    <a:lnTo>
                      <a:pt x="53" y="110"/>
                    </a:lnTo>
                    <a:lnTo>
                      <a:pt x="43" y="107"/>
                    </a:lnTo>
                    <a:lnTo>
                      <a:pt x="33" y="105"/>
                    </a:lnTo>
                    <a:lnTo>
                      <a:pt x="25" y="100"/>
                    </a:lnTo>
                    <a:lnTo>
                      <a:pt x="17" y="94"/>
                    </a:lnTo>
                    <a:lnTo>
                      <a:pt x="10" y="87"/>
                    </a:lnTo>
                    <a:lnTo>
                      <a:pt x="5" y="79"/>
                    </a:lnTo>
                    <a:lnTo>
                      <a:pt x="1" y="70"/>
                    </a:lnTo>
                    <a:close/>
                  </a:path>
                </a:pathLst>
              </a:custGeom>
              <a:solidFill>
                <a:srgbClr val="5a4a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6910560" y="221148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116" h="98">
                    <a:moveTo>
                      <a:pt x="25" y="1"/>
                    </a:moveTo>
                    <a:lnTo>
                      <a:pt x="24" y="2"/>
                    </a:lnTo>
                    <a:lnTo>
                      <a:pt x="20" y="5"/>
                    </a:lnTo>
                    <a:lnTo>
                      <a:pt x="15" y="10"/>
                    </a:lnTo>
                    <a:lnTo>
                      <a:pt x="10" y="16"/>
                    </a:lnTo>
                    <a:lnTo>
                      <a:pt x="5" y="24"/>
                    </a:lnTo>
                    <a:lnTo>
                      <a:pt x="2" y="34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2" y="54"/>
                    </a:lnTo>
                    <a:lnTo>
                      <a:pt x="3" y="61"/>
                    </a:lnTo>
                    <a:lnTo>
                      <a:pt x="6" y="69"/>
                    </a:lnTo>
                    <a:lnTo>
                      <a:pt x="10" y="76"/>
                    </a:lnTo>
                    <a:lnTo>
                      <a:pt x="16" y="82"/>
                    </a:lnTo>
                    <a:lnTo>
                      <a:pt x="22" y="87"/>
                    </a:lnTo>
                    <a:lnTo>
                      <a:pt x="30" y="91"/>
                    </a:lnTo>
                    <a:lnTo>
                      <a:pt x="38" y="94"/>
                    </a:lnTo>
                    <a:lnTo>
                      <a:pt x="47" y="97"/>
                    </a:lnTo>
                    <a:lnTo>
                      <a:pt x="57" y="98"/>
                    </a:lnTo>
                    <a:lnTo>
                      <a:pt x="65" y="98"/>
                    </a:lnTo>
                    <a:lnTo>
                      <a:pt x="74" y="96"/>
                    </a:lnTo>
                    <a:lnTo>
                      <a:pt x="83" y="93"/>
                    </a:lnTo>
                    <a:lnTo>
                      <a:pt x="90" y="90"/>
                    </a:lnTo>
                    <a:lnTo>
                      <a:pt x="97" y="85"/>
                    </a:lnTo>
                    <a:lnTo>
                      <a:pt x="104" y="78"/>
                    </a:lnTo>
                    <a:lnTo>
                      <a:pt x="109" y="70"/>
                    </a:lnTo>
                    <a:lnTo>
                      <a:pt x="112" y="61"/>
                    </a:lnTo>
                    <a:lnTo>
                      <a:pt x="112" y="60"/>
                    </a:lnTo>
                    <a:lnTo>
                      <a:pt x="113" y="58"/>
                    </a:lnTo>
                    <a:lnTo>
                      <a:pt x="115" y="54"/>
                    </a:lnTo>
                    <a:lnTo>
                      <a:pt x="116" y="49"/>
                    </a:lnTo>
                    <a:lnTo>
                      <a:pt x="116" y="43"/>
                    </a:lnTo>
                    <a:lnTo>
                      <a:pt x="116" y="35"/>
                    </a:lnTo>
                    <a:lnTo>
                      <a:pt x="115" y="28"/>
                    </a:lnTo>
                    <a:lnTo>
                      <a:pt x="112" y="21"/>
                    </a:lnTo>
                    <a:lnTo>
                      <a:pt x="110" y="19"/>
                    </a:lnTo>
                    <a:lnTo>
                      <a:pt x="104" y="16"/>
                    </a:lnTo>
                    <a:lnTo>
                      <a:pt x="95" y="12"/>
                    </a:lnTo>
                    <a:lnTo>
                      <a:pt x="84" y="7"/>
                    </a:lnTo>
                    <a:lnTo>
                      <a:pt x="70" y="3"/>
                    </a:lnTo>
                    <a:lnTo>
                      <a:pt x="56" y="1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695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6647040" y="2238480"/>
                <a:ext cx="18720" cy="28440"/>
              </a:xfrm>
              <a:custGeom>
                <a:avLst/>
                <a:gdLst/>
                <a:ahLst/>
                <a:rect l="l" t="t" r="r" b="b"/>
                <a:pathLst>
                  <a:path w="60" h="91">
                    <a:moveTo>
                      <a:pt x="0" y="85"/>
                    </a:moveTo>
                    <a:lnTo>
                      <a:pt x="3" y="84"/>
                    </a:lnTo>
                    <a:lnTo>
                      <a:pt x="6" y="80"/>
                    </a:lnTo>
                    <a:lnTo>
                      <a:pt x="11" y="74"/>
                    </a:lnTo>
                    <a:lnTo>
                      <a:pt x="19" y="66"/>
                    </a:lnTo>
                    <a:lnTo>
                      <a:pt x="25" y="57"/>
                    </a:lnTo>
                    <a:lnTo>
                      <a:pt x="30" y="44"/>
                    </a:lnTo>
                    <a:lnTo>
                      <a:pt x="31" y="37"/>
                    </a:lnTo>
                    <a:lnTo>
                      <a:pt x="32" y="31"/>
                    </a:lnTo>
                    <a:lnTo>
                      <a:pt x="33" y="22"/>
                    </a:lnTo>
                    <a:lnTo>
                      <a:pt x="33" y="15"/>
                    </a:lnTo>
                    <a:lnTo>
                      <a:pt x="33" y="9"/>
                    </a:lnTo>
                    <a:lnTo>
                      <a:pt x="33" y="4"/>
                    </a:lnTo>
                    <a:lnTo>
                      <a:pt x="35" y="1"/>
                    </a:lnTo>
                    <a:lnTo>
                      <a:pt x="36" y="0"/>
                    </a:lnTo>
                    <a:lnTo>
                      <a:pt x="39" y="3"/>
                    </a:lnTo>
                    <a:lnTo>
                      <a:pt x="44" y="9"/>
                    </a:lnTo>
                    <a:lnTo>
                      <a:pt x="51" y="17"/>
                    </a:lnTo>
                    <a:lnTo>
                      <a:pt x="54" y="28"/>
                    </a:lnTo>
                    <a:lnTo>
                      <a:pt x="58" y="38"/>
                    </a:lnTo>
                    <a:lnTo>
                      <a:pt x="60" y="47"/>
                    </a:lnTo>
                    <a:lnTo>
                      <a:pt x="60" y="53"/>
                    </a:lnTo>
                    <a:lnTo>
                      <a:pt x="60" y="60"/>
                    </a:lnTo>
                    <a:lnTo>
                      <a:pt x="58" y="66"/>
                    </a:lnTo>
                    <a:lnTo>
                      <a:pt x="54" y="71"/>
                    </a:lnTo>
                    <a:lnTo>
                      <a:pt x="49" y="78"/>
                    </a:lnTo>
                    <a:lnTo>
                      <a:pt x="42" y="81"/>
                    </a:lnTo>
                    <a:lnTo>
                      <a:pt x="35" y="85"/>
                    </a:lnTo>
                    <a:lnTo>
                      <a:pt x="25" y="89"/>
                    </a:lnTo>
                    <a:lnTo>
                      <a:pt x="16" y="90"/>
                    </a:lnTo>
                    <a:lnTo>
                      <a:pt x="10" y="91"/>
                    </a:lnTo>
                    <a:lnTo>
                      <a:pt x="5" y="91"/>
                    </a:lnTo>
                    <a:lnTo>
                      <a:pt x="3" y="90"/>
                    </a:lnTo>
                    <a:lnTo>
                      <a:pt x="1" y="89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9c6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6483240" y="2195640"/>
                <a:ext cx="184320" cy="60120"/>
              </a:xfrm>
              <a:custGeom>
                <a:avLst/>
                <a:gdLst/>
                <a:ahLst/>
                <a:rect l="l" t="t" r="r" b="b"/>
                <a:pathLst>
                  <a:path w="583" h="189">
                    <a:moveTo>
                      <a:pt x="68" y="102"/>
                    </a:moveTo>
                    <a:lnTo>
                      <a:pt x="73" y="97"/>
                    </a:lnTo>
                    <a:lnTo>
                      <a:pt x="86" y="85"/>
                    </a:lnTo>
                    <a:lnTo>
                      <a:pt x="96" y="76"/>
                    </a:lnTo>
                    <a:lnTo>
                      <a:pt x="108" y="66"/>
                    </a:lnTo>
                    <a:lnTo>
                      <a:pt x="122" y="57"/>
                    </a:lnTo>
                    <a:lnTo>
                      <a:pt x="139" y="47"/>
                    </a:lnTo>
                    <a:lnTo>
                      <a:pt x="158" y="36"/>
                    </a:lnTo>
                    <a:lnTo>
                      <a:pt x="179" y="27"/>
                    </a:lnTo>
                    <a:lnTo>
                      <a:pt x="201" y="18"/>
                    </a:lnTo>
                    <a:lnTo>
                      <a:pt x="225" y="11"/>
                    </a:lnTo>
                    <a:lnTo>
                      <a:pt x="252" y="5"/>
                    </a:lnTo>
                    <a:lnTo>
                      <a:pt x="282" y="1"/>
                    </a:lnTo>
                    <a:lnTo>
                      <a:pt x="297" y="1"/>
                    </a:lnTo>
                    <a:lnTo>
                      <a:pt x="313" y="0"/>
                    </a:lnTo>
                    <a:lnTo>
                      <a:pt x="329" y="1"/>
                    </a:lnTo>
                    <a:lnTo>
                      <a:pt x="345" y="2"/>
                    </a:lnTo>
                    <a:lnTo>
                      <a:pt x="352" y="2"/>
                    </a:lnTo>
                    <a:lnTo>
                      <a:pt x="372" y="2"/>
                    </a:lnTo>
                    <a:lnTo>
                      <a:pt x="384" y="5"/>
                    </a:lnTo>
                    <a:lnTo>
                      <a:pt x="400" y="7"/>
                    </a:lnTo>
                    <a:lnTo>
                      <a:pt x="416" y="12"/>
                    </a:lnTo>
                    <a:lnTo>
                      <a:pt x="434" y="17"/>
                    </a:lnTo>
                    <a:lnTo>
                      <a:pt x="454" y="26"/>
                    </a:lnTo>
                    <a:lnTo>
                      <a:pt x="474" y="36"/>
                    </a:lnTo>
                    <a:lnTo>
                      <a:pt x="493" y="48"/>
                    </a:lnTo>
                    <a:lnTo>
                      <a:pt x="513" y="64"/>
                    </a:lnTo>
                    <a:lnTo>
                      <a:pt x="523" y="73"/>
                    </a:lnTo>
                    <a:lnTo>
                      <a:pt x="533" y="82"/>
                    </a:lnTo>
                    <a:lnTo>
                      <a:pt x="541" y="93"/>
                    </a:lnTo>
                    <a:lnTo>
                      <a:pt x="551" y="105"/>
                    </a:lnTo>
                    <a:lnTo>
                      <a:pt x="560" y="117"/>
                    </a:lnTo>
                    <a:lnTo>
                      <a:pt x="569" y="130"/>
                    </a:lnTo>
                    <a:lnTo>
                      <a:pt x="576" y="144"/>
                    </a:lnTo>
                    <a:lnTo>
                      <a:pt x="583" y="160"/>
                    </a:lnTo>
                    <a:lnTo>
                      <a:pt x="583" y="189"/>
                    </a:lnTo>
                    <a:lnTo>
                      <a:pt x="582" y="186"/>
                    </a:lnTo>
                    <a:lnTo>
                      <a:pt x="575" y="178"/>
                    </a:lnTo>
                    <a:lnTo>
                      <a:pt x="565" y="165"/>
                    </a:lnTo>
                    <a:lnTo>
                      <a:pt x="553" y="150"/>
                    </a:lnTo>
                    <a:lnTo>
                      <a:pt x="539" y="133"/>
                    </a:lnTo>
                    <a:lnTo>
                      <a:pt x="523" y="116"/>
                    </a:lnTo>
                    <a:lnTo>
                      <a:pt x="507" y="100"/>
                    </a:lnTo>
                    <a:lnTo>
                      <a:pt x="491" y="86"/>
                    </a:lnTo>
                    <a:lnTo>
                      <a:pt x="476" y="74"/>
                    </a:lnTo>
                    <a:lnTo>
                      <a:pt x="459" y="63"/>
                    </a:lnTo>
                    <a:lnTo>
                      <a:pt x="450" y="58"/>
                    </a:lnTo>
                    <a:lnTo>
                      <a:pt x="439" y="53"/>
                    </a:lnTo>
                    <a:lnTo>
                      <a:pt x="430" y="48"/>
                    </a:lnTo>
                    <a:lnTo>
                      <a:pt x="417" y="44"/>
                    </a:lnTo>
                    <a:lnTo>
                      <a:pt x="404" y="41"/>
                    </a:lnTo>
                    <a:lnTo>
                      <a:pt x="390" y="38"/>
                    </a:lnTo>
                    <a:lnTo>
                      <a:pt x="375" y="36"/>
                    </a:lnTo>
                    <a:lnTo>
                      <a:pt x="359" y="34"/>
                    </a:lnTo>
                    <a:lnTo>
                      <a:pt x="341" y="34"/>
                    </a:lnTo>
                    <a:lnTo>
                      <a:pt x="322" y="34"/>
                    </a:lnTo>
                    <a:lnTo>
                      <a:pt x="302" y="36"/>
                    </a:lnTo>
                    <a:lnTo>
                      <a:pt x="279" y="37"/>
                    </a:lnTo>
                    <a:lnTo>
                      <a:pt x="257" y="41"/>
                    </a:lnTo>
                    <a:lnTo>
                      <a:pt x="238" y="44"/>
                    </a:lnTo>
                    <a:lnTo>
                      <a:pt x="219" y="50"/>
                    </a:lnTo>
                    <a:lnTo>
                      <a:pt x="202" y="57"/>
                    </a:lnTo>
                    <a:lnTo>
                      <a:pt x="186" y="63"/>
                    </a:lnTo>
                    <a:lnTo>
                      <a:pt x="172" y="70"/>
                    </a:lnTo>
                    <a:lnTo>
                      <a:pt x="159" y="77"/>
                    </a:lnTo>
                    <a:lnTo>
                      <a:pt x="148" y="85"/>
                    </a:lnTo>
                    <a:lnTo>
                      <a:pt x="129" y="100"/>
                    </a:lnTo>
                    <a:lnTo>
                      <a:pt x="116" y="113"/>
                    </a:lnTo>
                    <a:lnTo>
                      <a:pt x="106" y="125"/>
                    </a:lnTo>
                    <a:lnTo>
                      <a:pt x="100" y="133"/>
                    </a:lnTo>
                    <a:lnTo>
                      <a:pt x="95" y="137"/>
                    </a:lnTo>
                    <a:lnTo>
                      <a:pt x="87" y="141"/>
                    </a:lnTo>
                    <a:lnTo>
                      <a:pt x="80" y="144"/>
                    </a:lnTo>
                    <a:lnTo>
                      <a:pt x="71" y="146"/>
                    </a:lnTo>
                    <a:lnTo>
                      <a:pt x="62" y="148"/>
                    </a:lnTo>
                    <a:lnTo>
                      <a:pt x="53" y="148"/>
                    </a:lnTo>
                    <a:lnTo>
                      <a:pt x="42" y="148"/>
                    </a:lnTo>
                    <a:lnTo>
                      <a:pt x="32" y="146"/>
                    </a:lnTo>
                    <a:lnTo>
                      <a:pt x="24" y="144"/>
                    </a:lnTo>
                    <a:lnTo>
                      <a:pt x="17" y="141"/>
                    </a:lnTo>
                    <a:lnTo>
                      <a:pt x="11" y="139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1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3" y="132"/>
                    </a:lnTo>
                    <a:lnTo>
                      <a:pt x="9" y="129"/>
                    </a:lnTo>
                    <a:lnTo>
                      <a:pt x="17" y="125"/>
                    </a:lnTo>
                    <a:lnTo>
                      <a:pt x="28" y="122"/>
                    </a:lnTo>
                    <a:lnTo>
                      <a:pt x="41" y="117"/>
                    </a:lnTo>
                    <a:lnTo>
                      <a:pt x="52" y="112"/>
                    </a:lnTo>
                    <a:lnTo>
                      <a:pt x="60" y="107"/>
                    </a:lnTo>
                    <a:lnTo>
                      <a:pt x="68" y="1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6500880" y="2238480"/>
                <a:ext cx="166680" cy="46080"/>
              </a:xfrm>
              <a:custGeom>
                <a:avLst/>
                <a:gdLst/>
                <a:ahLst/>
                <a:rect l="l" t="t" r="r" b="b"/>
                <a:pathLst>
                  <a:path w="524" h="145">
                    <a:moveTo>
                      <a:pt x="27" y="0"/>
                    </a:moveTo>
                    <a:lnTo>
                      <a:pt x="30" y="5"/>
                    </a:lnTo>
                    <a:lnTo>
                      <a:pt x="42" y="17"/>
                    </a:lnTo>
                    <a:lnTo>
                      <a:pt x="60" y="36"/>
                    </a:lnTo>
                    <a:lnTo>
                      <a:pt x="83" y="56"/>
                    </a:lnTo>
                    <a:lnTo>
                      <a:pt x="97" y="67"/>
                    </a:lnTo>
                    <a:lnTo>
                      <a:pt x="112" y="77"/>
                    </a:lnTo>
                    <a:lnTo>
                      <a:pt x="128" y="87"/>
                    </a:lnTo>
                    <a:lnTo>
                      <a:pt x="145" y="97"/>
                    </a:lnTo>
                    <a:lnTo>
                      <a:pt x="163" y="104"/>
                    </a:lnTo>
                    <a:lnTo>
                      <a:pt x="182" y="112"/>
                    </a:lnTo>
                    <a:lnTo>
                      <a:pt x="201" y="117"/>
                    </a:lnTo>
                    <a:lnTo>
                      <a:pt x="222" y="119"/>
                    </a:lnTo>
                    <a:lnTo>
                      <a:pt x="262" y="120"/>
                    </a:lnTo>
                    <a:lnTo>
                      <a:pt x="296" y="119"/>
                    </a:lnTo>
                    <a:lnTo>
                      <a:pt x="327" y="118"/>
                    </a:lnTo>
                    <a:lnTo>
                      <a:pt x="354" y="115"/>
                    </a:lnTo>
                    <a:lnTo>
                      <a:pt x="377" y="112"/>
                    </a:lnTo>
                    <a:lnTo>
                      <a:pt x="396" y="107"/>
                    </a:lnTo>
                    <a:lnTo>
                      <a:pt x="413" y="102"/>
                    </a:lnTo>
                    <a:lnTo>
                      <a:pt x="427" y="97"/>
                    </a:lnTo>
                    <a:lnTo>
                      <a:pt x="438" y="93"/>
                    </a:lnTo>
                    <a:lnTo>
                      <a:pt x="449" y="91"/>
                    </a:lnTo>
                    <a:lnTo>
                      <a:pt x="457" y="90"/>
                    </a:lnTo>
                    <a:lnTo>
                      <a:pt x="466" y="90"/>
                    </a:lnTo>
                    <a:lnTo>
                      <a:pt x="473" y="90"/>
                    </a:lnTo>
                    <a:lnTo>
                      <a:pt x="481" y="90"/>
                    </a:lnTo>
                    <a:lnTo>
                      <a:pt x="486" y="88"/>
                    </a:lnTo>
                    <a:lnTo>
                      <a:pt x="492" y="86"/>
                    </a:lnTo>
                    <a:lnTo>
                      <a:pt x="497" y="82"/>
                    </a:lnTo>
                    <a:lnTo>
                      <a:pt x="502" y="80"/>
                    </a:lnTo>
                    <a:lnTo>
                      <a:pt x="507" y="77"/>
                    </a:lnTo>
                    <a:lnTo>
                      <a:pt x="512" y="75"/>
                    </a:lnTo>
                    <a:lnTo>
                      <a:pt x="516" y="74"/>
                    </a:lnTo>
                    <a:lnTo>
                      <a:pt x="520" y="71"/>
                    </a:lnTo>
                    <a:lnTo>
                      <a:pt x="523" y="69"/>
                    </a:lnTo>
                    <a:lnTo>
                      <a:pt x="524" y="65"/>
                    </a:lnTo>
                    <a:lnTo>
                      <a:pt x="524" y="66"/>
                    </a:lnTo>
                    <a:lnTo>
                      <a:pt x="521" y="70"/>
                    </a:lnTo>
                    <a:lnTo>
                      <a:pt x="518" y="75"/>
                    </a:lnTo>
                    <a:lnTo>
                      <a:pt x="512" y="82"/>
                    </a:lnTo>
                    <a:lnTo>
                      <a:pt x="504" y="88"/>
                    </a:lnTo>
                    <a:lnTo>
                      <a:pt x="496" y="96"/>
                    </a:lnTo>
                    <a:lnTo>
                      <a:pt x="484" y="101"/>
                    </a:lnTo>
                    <a:lnTo>
                      <a:pt x="472" y="106"/>
                    </a:lnTo>
                    <a:lnTo>
                      <a:pt x="454" y="109"/>
                    </a:lnTo>
                    <a:lnTo>
                      <a:pt x="428" y="115"/>
                    </a:lnTo>
                    <a:lnTo>
                      <a:pt x="395" y="124"/>
                    </a:lnTo>
                    <a:lnTo>
                      <a:pt x="357" y="133"/>
                    </a:lnTo>
                    <a:lnTo>
                      <a:pt x="336" y="136"/>
                    </a:lnTo>
                    <a:lnTo>
                      <a:pt x="315" y="139"/>
                    </a:lnTo>
                    <a:lnTo>
                      <a:pt x="291" y="143"/>
                    </a:lnTo>
                    <a:lnTo>
                      <a:pt x="269" y="144"/>
                    </a:lnTo>
                    <a:lnTo>
                      <a:pt x="246" y="145"/>
                    </a:lnTo>
                    <a:lnTo>
                      <a:pt x="221" y="145"/>
                    </a:lnTo>
                    <a:lnTo>
                      <a:pt x="198" y="144"/>
                    </a:lnTo>
                    <a:lnTo>
                      <a:pt x="173" y="140"/>
                    </a:lnTo>
                    <a:lnTo>
                      <a:pt x="151" y="136"/>
                    </a:lnTo>
                    <a:lnTo>
                      <a:pt x="130" y="130"/>
                    </a:lnTo>
                    <a:lnTo>
                      <a:pt x="110" y="122"/>
                    </a:lnTo>
                    <a:lnTo>
                      <a:pt x="93" y="113"/>
                    </a:lnTo>
                    <a:lnTo>
                      <a:pt x="77" y="103"/>
                    </a:lnTo>
                    <a:lnTo>
                      <a:pt x="62" y="93"/>
                    </a:lnTo>
                    <a:lnTo>
                      <a:pt x="50" y="82"/>
                    </a:lnTo>
                    <a:lnTo>
                      <a:pt x="39" y="71"/>
                    </a:lnTo>
                    <a:lnTo>
                      <a:pt x="29" y="60"/>
                    </a:lnTo>
                    <a:lnTo>
                      <a:pt x="21" y="50"/>
                    </a:lnTo>
                    <a:lnTo>
                      <a:pt x="14" y="40"/>
                    </a:lnTo>
                    <a:lnTo>
                      <a:pt x="10" y="33"/>
                    </a:lnTo>
                    <a:lnTo>
                      <a:pt x="2" y="21"/>
                    </a:lnTo>
                    <a:lnTo>
                      <a:pt x="0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6462720" y="2094120"/>
                <a:ext cx="193680" cy="61920"/>
              </a:xfrm>
              <a:custGeom>
                <a:avLst/>
                <a:gdLst/>
                <a:ahLst/>
                <a:rect l="l" t="t" r="r" b="b"/>
                <a:pathLst>
                  <a:path w="613" h="194">
                    <a:moveTo>
                      <a:pt x="26" y="184"/>
                    </a:moveTo>
                    <a:lnTo>
                      <a:pt x="37" y="180"/>
                    </a:lnTo>
                    <a:lnTo>
                      <a:pt x="67" y="166"/>
                    </a:lnTo>
                    <a:lnTo>
                      <a:pt x="110" y="149"/>
                    </a:lnTo>
                    <a:lnTo>
                      <a:pt x="164" y="128"/>
                    </a:lnTo>
                    <a:lnTo>
                      <a:pt x="192" y="118"/>
                    </a:lnTo>
                    <a:lnTo>
                      <a:pt x="222" y="108"/>
                    </a:lnTo>
                    <a:lnTo>
                      <a:pt x="251" y="100"/>
                    </a:lnTo>
                    <a:lnTo>
                      <a:pt x="281" y="92"/>
                    </a:lnTo>
                    <a:lnTo>
                      <a:pt x="308" y="86"/>
                    </a:lnTo>
                    <a:lnTo>
                      <a:pt x="334" y="82"/>
                    </a:lnTo>
                    <a:lnTo>
                      <a:pt x="346" y="81"/>
                    </a:lnTo>
                    <a:lnTo>
                      <a:pt x="358" y="80"/>
                    </a:lnTo>
                    <a:lnTo>
                      <a:pt x="369" y="80"/>
                    </a:lnTo>
                    <a:lnTo>
                      <a:pt x="379" y="81"/>
                    </a:lnTo>
                    <a:lnTo>
                      <a:pt x="416" y="84"/>
                    </a:lnTo>
                    <a:lnTo>
                      <a:pt x="449" y="85"/>
                    </a:lnTo>
                    <a:lnTo>
                      <a:pt x="478" y="84"/>
                    </a:lnTo>
                    <a:lnTo>
                      <a:pt x="502" y="82"/>
                    </a:lnTo>
                    <a:lnTo>
                      <a:pt x="524" y="82"/>
                    </a:lnTo>
                    <a:lnTo>
                      <a:pt x="541" y="82"/>
                    </a:lnTo>
                    <a:lnTo>
                      <a:pt x="550" y="84"/>
                    </a:lnTo>
                    <a:lnTo>
                      <a:pt x="556" y="86"/>
                    </a:lnTo>
                    <a:lnTo>
                      <a:pt x="564" y="89"/>
                    </a:lnTo>
                    <a:lnTo>
                      <a:pt x="569" y="92"/>
                    </a:lnTo>
                    <a:lnTo>
                      <a:pt x="575" y="96"/>
                    </a:lnTo>
                    <a:lnTo>
                      <a:pt x="581" y="98"/>
                    </a:lnTo>
                    <a:lnTo>
                      <a:pt x="586" y="100"/>
                    </a:lnTo>
                    <a:lnTo>
                      <a:pt x="591" y="100"/>
                    </a:lnTo>
                    <a:lnTo>
                      <a:pt x="597" y="97"/>
                    </a:lnTo>
                    <a:lnTo>
                      <a:pt x="601" y="96"/>
                    </a:lnTo>
                    <a:lnTo>
                      <a:pt x="604" y="92"/>
                    </a:lnTo>
                    <a:lnTo>
                      <a:pt x="608" y="89"/>
                    </a:lnTo>
                    <a:lnTo>
                      <a:pt x="610" y="84"/>
                    </a:lnTo>
                    <a:lnTo>
                      <a:pt x="613" y="79"/>
                    </a:lnTo>
                    <a:lnTo>
                      <a:pt x="613" y="74"/>
                    </a:lnTo>
                    <a:lnTo>
                      <a:pt x="613" y="68"/>
                    </a:lnTo>
                    <a:lnTo>
                      <a:pt x="610" y="63"/>
                    </a:lnTo>
                    <a:lnTo>
                      <a:pt x="607" y="57"/>
                    </a:lnTo>
                    <a:lnTo>
                      <a:pt x="603" y="52"/>
                    </a:lnTo>
                    <a:lnTo>
                      <a:pt x="597" y="45"/>
                    </a:lnTo>
                    <a:lnTo>
                      <a:pt x="580" y="37"/>
                    </a:lnTo>
                    <a:lnTo>
                      <a:pt x="562" y="27"/>
                    </a:lnTo>
                    <a:lnTo>
                      <a:pt x="543" y="18"/>
                    </a:lnTo>
                    <a:lnTo>
                      <a:pt x="519" y="10"/>
                    </a:lnTo>
                    <a:lnTo>
                      <a:pt x="507" y="6"/>
                    </a:lnTo>
                    <a:lnTo>
                      <a:pt x="495" y="4"/>
                    </a:lnTo>
                    <a:lnTo>
                      <a:pt x="481" y="1"/>
                    </a:lnTo>
                    <a:lnTo>
                      <a:pt x="466" y="0"/>
                    </a:lnTo>
                    <a:lnTo>
                      <a:pt x="452" y="0"/>
                    </a:lnTo>
                    <a:lnTo>
                      <a:pt x="436" y="0"/>
                    </a:lnTo>
                    <a:lnTo>
                      <a:pt x="418" y="0"/>
                    </a:lnTo>
                    <a:lnTo>
                      <a:pt x="401" y="2"/>
                    </a:lnTo>
                    <a:lnTo>
                      <a:pt x="380" y="5"/>
                    </a:lnTo>
                    <a:lnTo>
                      <a:pt x="358" y="10"/>
                    </a:lnTo>
                    <a:lnTo>
                      <a:pt x="335" y="15"/>
                    </a:lnTo>
                    <a:lnTo>
                      <a:pt x="310" y="21"/>
                    </a:lnTo>
                    <a:lnTo>
                      <a:pt x="257" y="37"/>
                    </a:lnTo>
                    <a:lnTo>
                      <a:pt x="204" y="54"/>
                    </a:lnTo>
                    <a:lnTo>
                      <a:pt x="179" y="64"/>
                    </a:lnTo>
                    <a:lnTo>
                      <a:pt x="154" y="74"/>
                    </a:lnTo>
                    <a:lnTo>
                      <a:pt x="129" y="85"/>
                    </a:lnTo>
                    <a:lnTo>
                      <a:pt x="108" y="95"/>
                    </a:lnTo>
                    <a:lnTo>
                      <a:pt x="88" y="105"/>
                    </a:lnTo>
                    <a:lnTo>
                      <a:pt x="70" y="114"/>
                    </a:lnTo>
                    <a:lnTo>
                      <a:pt x="56" y="124"/>
                    </a:lnTo>
                    <a:lnTo>
                      <a:pt x="44" y="133"/>
                    </a:lnTo>
                    <a:lnTo>
                      <a:pt x="27" y="150"/>
                    </a:lnTo>
                    <a:lnTo>
                      <a:pt x="14" y="165"/>
                    </a:lnTo>
                    <a:lnTo>
                      <a:pt x="5" y="177"/>
                    </a:lnTo>
                    <a:lnTo>
                      <a:pt x="0" y="186"/>
                    </a:lnTo>
                    <a:lnTo>
                      <a:pt x="0" y="189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4" y="194"/>
                    </a:lnTo>
                    <a:lnTo>
                      <a:pt x="8" y="194"/>
                    </a:lnTo>
                    <a:lnTo>
                      <a:pt x="12" y="192"/>
                    </a:lnTo>
                    <a:lnTo>
                      <a:pt x="19" y="189"/>
                    </a:lnTo>
                    <a:lnTo>
                      <a:pt x="26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6842160" y="22464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28" h="57">
                    <a:moveTo>
                      <a:pt x="22" y="1"/>
                    </a:moveTo>
                    <a:lnTo>
                      <a:pt x="22" y="1"/>
                    </a:lnTo>
                    <a:lnTo>
                      <a:pt x="23" y="3"/>
                    </a:lnTo>
                    <a:lnTo>
                      <a:pt x="23" y="7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6" y="21"/>
                    </a:lnTo>
                    <a:lnTo>
                      <a:pt x="27" y="25"/>
                    </a:lnTo>
                    <a:lnTo>
                      <a:pt x="28" y="30"/>
                    </a:lnTo>
                    <a:lnTo>
                      <a:pt x="28" y="37"/>
                    </a:lnTo>
                    <a:lnTo>
                      <a:pt x="28" y="41"/>
                    </a:lnTo>
                    <a:lnTo>
                      <a:pt x="28" y="46"/>
                    </a:lnTo>
                    <a:lnTo>
                      <a:pt x="27" y="50"/>
                    </a:lnTo>
                    <a:lnTo>
                      <a:pt x="27" y="54"/>
                    </a:lnTo>
                    <a:lnTo>
                      <a:pt x="26" y="56"/>
                    </a:lnTo>
                    <a:lnTo>
                      <a:pt x="26" y="57"/>
                    </a:lnTo>
                    <a:lnTo>
                      <a:pt x="25" y="57"/>
                    </a:lnTo>
                    <a:lnTo>
                      <a:pt x="23" y="57"/>
                    </a:lnTo>
                    <a:lnTo>
                      <a:pt x="21" y="57"/>
                    </a:lnTo>
                    <a:lnTo>
                      <a:pt x="17" y="56"/>
                    </a:lnTo>
                    <a:lnTo>
                      <a:pt x="12" y="54"/>
                    </a:lnTo>
                    <a:lnTo>
                      <a:pt x="7" y="51"/>
                    </a:lnTo>
                    <a:lnTo>
                      <a:pt x="4" y="46"/>
                    </a:lnTo>
                    <a:lnTo>
                      <a:pt x="2" y="43"/>
                    </a:lnTo>
                    <a:lnTo>
                      <a:pt x="1" y="39"/>
                    </a:lnTo>
                    <a:lnTo>
                      <a:pt x="0" y="35"/>
                    </a:lnTo>
                    <a:lnTo>
                      <a:pt x="1" y="30"/>
                    </a:lnTo>
                    <a:lnTo>
                      <a:pt x="2" y="22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10" y="5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9c6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6842160" y="2195640"/>
                <a:ext cx="139680" cy="61920"/>
              </a:xfrm>
              <a:custGeom>
                <a:avLst/>
                <a:gdLst/>
                <a:ahLst/>
                <a:rect l="l" t="t" r="r" b="b"/>
                <a:pathLst>
                  <a:path w="440" h="194">
                    <a:moveTo>
                      <a:pt x="1" y="173"/>
                    </a:moveTo>
                    <a:lnTo>
                      <a:pt x="0" y="176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4"/>
                    </a:lnTo>
                    <a:lnTo>
                      <a:pt x="0" y="188"/>
                    </a:lnTo>
                    <a:lnTo>
                      <a:pt x="0" y="191"/>
                    </a:lnTo>
                    <a:lnTo>
                      <a:pt x="0" y="193"/>
                    </a:lnTo>
                    <a:lnTo>
                      <a:pt x="1" y="194"/>
                    </a:lnTo>
                    <a:lnTo>
                      <a:pt x="4" y="189"/>
                    </a:lnTo>
                    <a:lnTo>
                      <a:pt x="11" y="175"/>
                    </a:lnTo>
                    <a:lnTo>
                      <a:pt x="26" y="155"/>
                    </a:lnTo>
                    <a:lnTo>
                      <a:pt x="46" y="129"/>
                    </a:lnTo>
                    <a:lnTo>
                      <a:pt x="58" y="117"/>
                    </a:lnTo>
                    <a:lnTo>
                      <a:pt x="71" y="103"/>
                    </a:lnTo>
                    <a:lnTo>
                      <a:pt x="87" y="91"/>
                    </a:lnTo>
                    <a:lnTo>
                      <a:pt x="103" y="77"/>
                    </a:lnTo>
                    <a:lnTo>
                      <a:pt x="123" y="66"/>
                    </a:lnTo>
                    <a:lnTo>
                      <a:pt x="143" y="57"/>
                    </a:lnTo>
                    <a:lnTo>
                      <a:pt x="165" y="47"/>
                    </a:lnTo>
                    <a:lnTo>
                      <a:pt x="188" y="41"/>
                    </a:lnTo>
                    <a:lnTo>
                      <a:pt x="194" y="38"/>
                    </a:lnTo>
                    <a:lnTo>
                      <a:pt x="213" y="34"/>
                    </a:lnTo>
                    <a:lnTo>
                      <a:pt x="225" y="32"/>
                    </a:lnTo>
                    <a:lnTo>
                      <a:pt x="239" y="32"/>
                    </a:lnTo>
                    <a:lnTo>
                      <a:pt x="255" y="32"/>
                    </a:lnTo>
                    <a:lnTo>
                      <a:pt x="271" y="33"/>
                    </a:lnTo>
                    <a:lnTo>
                      <a:pt x="288" y="37"/>
                    </a:lnTo>
                    <a:lnTo>
                      <a:pt x="305" y="43"/>
                    </a:lnTo>
                    <a:lnTo>
                      <a:pt x="314" y="48"/>
                    </a:lnTo>
                    <a:lnTo>
                      <a:pt x="322" y="52"/>
                    </a:lnTo>
                    <a:lnTo>
                      <a:pt x="331" y="58"/>
                    </a:lnTo>
                    <a:lnTo>
                      <a:pt x="340" y="64"/>
                    </a:lnTo>
                    <a:lnTo>
                      <a:pt x="348" y="71"/>
                    </a:lnTo>
                    <a:lnTo>
                      <a:pt x="356" y="80"/>
                    </a:lnTo>
                    <a:lnTo>
                      <a:pt x="363" y="89"/>
                    </a:lnTo>
                    <a:lnTo>
                      <a:pt x="370" y="100"/>
                    </a:lnTo>
                    <a:lnTo>
                      <a:pt x="376" y="111"/>
                    </a:lnTo>
                    <a:lnTo>
                      <a:pt x="384" y="123"/>
                    </a:lnTo>
                    <a:lnTo>
                      <a:pt x="389" y="137"/>
                    </a:lnTo>
                    <a:lnTo>
                      <a:pt x="395" y="151"/>
                    </a:lnTo>
                    <a:lnTo>
                      <a:pt x="396" y="151"/>
                    </a:lnTo>
                    <a:lnTo>
                      <a:pt x="400" y="151"/>
                    </a:lnTo>
                    <a:lnTo>
                      <a:pt x="406" y="151"/>
                    </a:lnTo>
                    <a:lnTo>
                      <a:pt x="412" y="150"/>
                    </a:lnTo>
                    <a:lnTo>
                      <a:pt x="421" y="149"/>
                    </a:lnTo>
                    <a:lnTo>
                      <a:pt x="428" y="148"/>
                    </a:lnTo>
                    <a:lnTo>
                      <a:pt x="436" y="146"/>
                    </a:lnTo>
                    <a:lnTo>
                      <a:pt x="440" y="143"/>
                    </a:lnTo>
                    <a:lnTo>
                      <a:pt x="438" y="138"/>
                    </a:lnTo>
                    <a:lnTo>
                      <a:pt x="431" y="123"/>
                    </a:lnTo>
                    <a:lnTo>
                      <a:pt x="417" y="102"/>
                    </a:lnTo>
                    <a:lnTo>
                      <a:pt x="400" y="77"/>
                    </a:lnTo>
                    <a:lnTo>
                      <a:pt x="389" y="65"/>
                    </a:lnTo>
                    <a:lnTo>
                      <a:pt x="376" y="53"/>
                    </a:lnTo>
                    <a:lnTo>
                      <a:pt x="363" y="41"/>
                    </a:lnTo>
                    <a:lnTo>
                      <a:pt x="349" y="30"/>
                    </a:lnTo>
                    <a:lnTo>
                      <a:pt x="333" y="20"/>
                    </a:lnTo>
                    <a:lnTo>
                      <a:pt x="317" y="12"/>
                    </a:lnTo>
                    <a:lnTo>
                      <a:pt x="309" y="9"/>
                    </a:lnTo>
                    <a:lnTo>
                      <a:pt x="299" y="6"/>
                    </a:lnTo>
                    <a:lnTo>
                      <a:pt x="290" y="4"/>
                    </a:lnTo>
                    <a:lnTo>
                      <a:pt x="280" y="2"/>
                    </a:lnTo>
                    <a:lnTo>
                      <a:pt x="258" y="0"/>
                    </a:lnTo>
                    <a:lnTo>
                      <a:pt x="237" y="0"/>
                    </a:lnTo>
                    <a:lnTo>
                      <a:pt x="215" y="1"/>
                    </a:lnTo>
                    <a:lnTo>
                      <a:pt x="193" y="4"/>
                    </a:lnTo>
                    <a:lnTo>
                      <a:pt x="171" y="7"/>
                    </a:lnTo>
                    <a:lnTo>
                      <a:pt x="150" y="14"/>
                    </a:lnTo>
                    <a:lnTo>
                      <a:pt x="129" y="21"/>
                    </a:lnTo>
                    <a:lnTo>
                      <a:pt x="109" y="30"/>
                    </a:lnTo>
                    <a:lnTo>
                      <a:pt x="90" y="41"/>
                    </a:lnTo>
                    <a:lnTo>
                      <a:pt x="73" y="53"/>
                    </a:lnTo>
                    <a:lnTo>
                      <a:pt x="64" y="60"/>
                    </a:lnTo>
                    <a:lnTo>
                      <a:pt x="55" y="68"/>
                    </a:lnTo>
                    <a:lnTo>
                      <a:pt x="48" y="76"/>
                    </a:lnTo>
                    <a:lnTo>
                      <a:pt x="41" y="85"/>
                    </a:lnTo>
                    <a:lnTo>
                      <a:pt x="34" y="93"/>
                    </a:lnTo>
                    <a:lnTo>
                      <a:pt x="28" y="103"/>
                    </a:lnTo>
                    <a:lnTo>
                      <a:pt x="22" y="114"/>
                    </a:lnTo>
                    <a:lnTo>
                      <a:pt x="17" y="124"/>
                    </a:lnTo>
                    <a:lnTo>
                      <a:pt x="12" y="137"/>
                    </a:lnTo>
                    <a:lnTo>
                      <a:pt x="7" y="148"/>
                    </a:lnTo>
                    <a:lnTo>
                      <a:pt x="4" y="160"/>
                    </a:lnTo>
                    <a:lnTo>
                      <a:pt x="1" y="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6843600" y="2241720"/>
                <a:ext cx="130320" cy="44280"/>
              </a:xfrm>
              <a:custGeom>
                <a:avLst/>
                <a:gdLst/>
                <a:ahLst/>
                <a:rect l="l" t="t" r="r" b="b"/>
                <a:pathLst>
                  <a:path w="409" h="142">
                    <a:moveTo>
                      <a:pt x="391" y="10"/>
                    </a:moveTo>
                    <a:lnTo>
                      <a:pt x="388" y="14"/>
                    </a:lnTo>
                    <a:lnTo>
                      <a:pt x="384" y="21"/>
                    </a:lnTo>
                    <a:lnTo>
                      <a:pt x="376" y="34"/>
                    </a:lnTo>
                    <a:lnTo>
                      <a:pt x="366" y="47"/>
                    </a:lnTo>
                    <a:lnTo>
                      <a:pt x="355" y="63"/>
                    </a:lnTo>
                    <a:lnTo>
                      <a:pt x="343" y="77"/>
                    </a:lnTo>
                    <a:lnTo>
                      <a:pt x="336" y="83"/>
                    </a:lnTo>
                    <a:lnTo>
                      <a:pt x="328" y="89"/>
                    </a:lnTo>
                    <a:lnTo>
                      <a:pt x="322" y="94"/>
                    </a:lnTo>
                    <a:lnTo>
                      <a:pt x="315" y="98"/>
                    </a:lnTo>
                    <a:lnTo>
                      <a:pt x="300" y="103"/>
                    </a:lnTo>
                    <a:lnTo>
                      <a:pt x="280" y="107"/>
                    </a:lnTo>
                    <a:lnTo>
                      <a:pt x="258" y="110"/>
                    </a:lnTo>
                    <a:lnTo>
                      <a:pt x="235" y="111"/>
                    </a:lnTo>
                    <a:lnTo>
                      <a:pt x="210" y="111"/>
                    </a:lnTo>
                    <a:lnTo>
                      <a:pt x="183" y="109"/>
                    </a:lnTo>
                    <a:lnTo>
                      <a:pt x="171" y="106"/>
                    </a:lnTo>
                    <a:lnTo>
                      <a:pt x="157" y="104"/>
                    </a:lnTo>
                    <a:lnTo>
                      <a:pt x="145" y="101"/>
                    </a:lnTo>
                    <a:lnTo>
                      <a:pt x="133" y="98"/>
                    </a:lnTo>
                    <a:lnTo>
                      <a:pt x="109" y="89"/>
                    </a:lnTo>
                    <a:lnTo>
                      <a:pt x="87" y="84"/>
                    </a:lnTo>
                    <a:lnTo>
                      <a:pt x="66" y="80"/>
                    </a:lnTo>
                    <a:lnTo>
                      <a:pt x="48" y="78"/>
                    </a:lnTo>
                    <a:lnTo>
                      <a:pt x="32" y="75"/>
                    </a:lnTo>
                    <a:lnTo>
                      <a:pt x="18" y="73"/>
                    </a:lnTo>
                    <a:lnTo>
                      <a:pt x="12" y="72"/>
                    </a:lnTo>
                    <a:lnTo>
                      <a:pt x="7" y="69"/>
                    </a:lnTo>
                    <a:lnTo>
                      <a:pt x="3" y="68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2" y="69"/>
                    </a:lnTo>
                    <a:lnTo>
                      <a:pt x="6" y="73"/>
                    </a:lnTo>
                    <a:lnTo>
                      <a:pt x="11" y="79"/>
                    </a:lnTo>
                    <a:lnTo>
                      <a:pt x="19" y="85"/>
                    </a:lnTo>
                    <a:lnTo>
                      <a:pt x="29" y="91"/>
                    </a:lnTo>
                    <a:lnTo>
                      <a:pt x="43" y="98"/>
                    </a:lnTo>
                    <a:lnTo>
                      <a:pt x="59" y="103"/>
                    </a:lnTo>
                    <a:lnTo>
                      <a:pt x="80" y="109"/>
                    </a:lnTo>
                    <a:lnTo>
                      <a:pt x="103" y="115"/>
                    </a:lnTo>
                    <a:lnTo>
                      <a:pt x="129" y="122"/>
                    </a:lnTo>
                    <a:lnTo>
                      <a:pt x="156" y="128"/>
                    </a:lnTo>
                    <a:lnTo>
                      <a:pt x="183" y="135"/>
                    </a:lnTo>
                    <a:lnTo>
                      <a:pt x="210" y="139"/>
                    </a:lnTo>
                    <a:lnTo>
                      <a:pt x="224" y="141"/>
                    </a:lnTo>
                    <a:lnTo>
                      <a:pt x="236" y="141"/>
                    </a:lnTo>
                    <a:lnTo>
                      <a:pt x="248" y="142"/>
                    </a:lnTo>
                    <a:lnTo>
                      <a:pt x="260" y="141"/>
                    </a:lnTo>
                    <a:lnTo>
                      <a:pt x="283" y="137"/>
                    </a:lnTo>
                    <a:lnTo>
                      <a:pt x="305" y="133"/>
                    </a:lnTo>
                    <a:lnTo>
                      <a:pt x="316" y="130"/>
                    </a:lnTo>
                    <a:lnTo>
                      <a:pt x="327" y="126"/>
                    </a:lnTo>
                    <a:lnTo>
                      <a:pt x="338" y="122"/>
                    </a:lnTo>
                    <a:lnTo>
                      <a:pt x="348" y="116"/>
                    </a:lnTo>
                    <a:lnTo>
                      <a:pt x="358" y="109"/>
                    </a:lnTo>
                    <a:lnTo>
                      <a:pt x="368" y="101"/>
                    </a:lnTo>
                    <a:lnTo>
                      <a:pt x="377" y="91"/>
                    </a:lnTo>
                    <a:lnTo>
                      <a:pt x="385" y="80"/>
                    </a:lnTo>
                    <a:lnTo>
                      <a:pt x="392" y="67"/>
                    </a:lnTo>
                    <a:lnTo>
                      <a:pt x="400" y="52"/>
                    </a:lnTo>
                    <a:lnTo>
                      <a:pt x="404" y="35"/>
                    </a:lnTo>
                    <a:lnTo>
                      <a:pt x="409" y="16"/>
                    </a:lnTo>
                    <a:lnTo>
                      <a:pt x="409" y="15"/>
                    </a:lnTo>
                    <a:lnTo>
                      <a:pt x="408" y="12"/>
                    </a:lnTo>
                    <a:lnTo>
                      <a:pt x="407" y="8"/>
                    </a:lnTo>
                    <a:lnTo>
                      <a:pt x="404" y="4"/>
                    </a:lnTo>
                    <a:lnTo>
                      <a:pt x="402" y="2"/>
                    </a:lnTo>
                    <a:lnTo>
                      <a:pt x="398" y="0"/>
                    </a:lnTo>
                    <a:lnTo>
                      <a:pt x="395" y="4"/>
                    </a:lnTo>
                    <a:lnTo>
                      <a:pt x="391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6489720" y="2176560"/>
                <a:ext cx="176040" cy="50760"/>
              </a:xfrm>
              <a:custGeom>
                <a:avLst/>
                <a:gdLst/>
                <a:ahLst/>
                <a:rect l="l" t="t" r="r" b="b"/>
                <a:pathLst>
                  <a:path w="555" h="160">
                    <a:moveTo>
                      <a:pt x="52" y="110"/>
                    </a:moveTo>
                    <a:lnTo>
                      <a:pt x="59" y="107"/>
                    </a:lnTo>
                    <a:lnTo>
                      <a:pt x="76" y="98"/>
                    </a:lnTo>
                    <a:lnTo>
                      <a:pt x="105" y="83"/>
                    </a:lnTo>
                    <a:lnTo>
                      <a:pt x="139" y="69"/>
                    </a:lnTo>
                    <a:lnTo>
                      <a:pt x="159" y="60"/>
                    </a:lnTo>
                    <a:lnTo>
                      <a:pt x="180" y="53"/>
                    </a:lnTo>
                    <a:lnTo>
                      <a:pt x="201" y="44"/>
                    </a:lnTo>
                    <a:lnTo>
                      <a:pt x="223" y="38"/>
                    </a:lnTo>
                    <a:lnTo>
                      <a:pt x="245" y="32"/>
                    </a:lnTo>
                    <a:lnTo>
                      <a:pt x="267" y="27"/>
                    </a:lnTo>
                    <a:lnTo>
                      <a:pt x="289" y="23"/>
                    </a:lnTo>
                    <a:lnTo>
                      <a:pt x="310" y="22"/>
                    </a:lnTo>
                    <a:lnTo>
                      <a:pt x="351" y="21"/>
                    </a:lnTo>
                    <a:lnTo>
                      <a:pt x="388" y="21"/>
                    </a:lnTo>
                    <a:lnTo>
                      <a:pt x="404" y="22"/>
                    </a:lnTo>
                    <a:lnTo>
                      <a:pt x="420" y="24"/>
                    </a:lnTo>
                    <a:lnTo>
                      <a:pt x="436" y="27"/>
                    </a:lnTo>
                    <a:lnTo>
                      <a:pt x="450" y="30"/>
                    </a:lnTo>
                    <a:lnTo>
                      <a:pt x="463" y="35"/>
                    </a:lnTo>
                    <a:lnTo>
                      <a:pt x="476" y="42"/>
                    </a:lnTo>
                    <a:lnTo>
                      <a:pt x="487" y="49"/>
                    </a:lnTo>
                    <a:lnTo>
                      <a:pt x="498" y="59"/>
                    </a:lnTo>
                    <a:lnTo>
                      <a:pt x="507" y="70"/>
                    </a:lnTo>
                    <a:lnTo>
                      <a:pt x="516" y="82"/>
                    </a:lnTo>
                    <a:lnTo>
                      <a:pt x="524" y="97"/>
                    </a:lnTo>
                    <a:lnTo>
                      <a:pt x="530" y="114"/>
                    </a:lnTo>
                    <a:lnTo>
                      <a:pt x="555" y="160"/>
                    </a:lnTo>
                    <a:lnTo>
                      <a:pt x="554" y="156"/>
                    </a:lnTo>
                    <a:lnTo>
                      <a:pt x="552" y="146"/>
                    </a:lnTo>
                    <a:lnTo>
                      <a:pt x="549" y="131"/>
                    </a:lnTo>
                    <a:lnTo>
                      <a:pt x="543" y="113"/>
                    </a:lnTo>
                    <a:lnTo>
                      <a:pt x="535" y="93"/>
                    </a:lnTo>
                    <a:lnTo>
                      <a:pt x="524" y="71"/>
                    </a:lnTo>
                    <a:lnTo>
                      <a:pt x="517" y="61"/>
                    </a:lnTo>
                    <a:lnTo>
                      <a:pt x="509" y="51"/>
                    </a:lnTo>
                    <a:lnTo>
                      <a:pt x="502" y="42"/>
                    </a:lnTo>
                    <a:lnTo>
                      <a:pt x="492" y="32"/>
                    </a:lnTo>
                    <a:lnTo>
                      <a:pt x="481" y="24"/>
                    </a:lnTo>
                    <a:lnTo>
                      <a:pt x="468" y="17"/>
                    </a:lnTo>
                    <a:lnTo>
                      <a:pt x="452" y="12"/>
                    </a:lnTo>
                    <a:lnTo>
                      <a:pt x="434" y="8"/>
                    </a:lnTo>
                    <a:lnTo>
                      <a:pt x="416" y="5"/>
                    </a:lnTo>
                    <a:lnTo>
                      <a:pt x="396" y="2"/>
                    </a:lnTo>
                    <a:lnTo>
                      <a:pt x="377" y="1"/>
                    </a:lnTo>
                    <a:lnTo>
                      <a:pt x="357" y="0"/>
                    </a:lnTo>
                    <a:lnTo>
                      <a:pt x="317" y="1"/>
                    </a:lnTo>
                    <a:lnTo>
                      <a:pt x="281" y="3"/>
                    </a:lnTo>
                    <a:lnTo>
                      <a:pt x="250" y="8"/>
                    </a:lnTo>
                    <a:lnTo>
                      <a:pt x="229" y="13"/>
                    </a:lnTo>
                    <a:lnTo>
                      <a:pt x="208" y="21"/>
                    </a:lnTo>
                    <a:lnTo>
                      <a:pt x="182" y="32"/>
                    </a:lnTo>
                    <a:lnTo>
                      <a:pt x="153" y="45"/>
                    </a:lnTo>
                    <a:lnTo>
                      <a:pt x="121" y="61"/>
                    </a:lnTo>
                    <a:lnTo>
                      <a:pt x="87" y="80"/>
                    </a:lnTo>
                    <a:lnTo>
                      <a:pt x="55" y="99"/>
                    </a:lnTo>
                    <a:lnTo>
                      <a:pt x="41" y="109"/>
                    </a:lnTo>
                    <a:lnTo>
                      <a:pt x="26" y="120"/>
                    </a:lnTo>
                    <a:lnTo>
                      <a:pt x="12" y="131"/>
                    </a:lnTo>
                    <a:lnTo>
                      <a:pt x="0" y="144"/>
                    </a:lnTo>
                    <a:lnTo>
                      <a:pt x="3" y="142"/>
                    </a:lnTo>
                    <a:lnTo>
                      <a:pt x="6" y="140"/>
                    </a:lnTo>
                    <a:lnTo>
                      <a:pt x="12" y="136"/>
                    </a:lnTo>
                    <a:lnTo>
                      <a:pt x="20" y="131"/>
                    </a:lnTo>
                    <a:lnTo>
                      <a:pt x="28" y="126"/>
                    </a:lnTo>
                    <a:lnTo>
                      <a:pt x="37" y="120"/>
                    </a:lnTo>
                    <a:lnTo>
                      <a:pt x="46" y="115"/>
                    </a:lnTo>
                    <a:lnTo>
                      <a:pt x="52" y="110"/>
                    </a:lnTo>
                    <a:close/>
                  </a:path>
                </a:pathLst>
              </a:custGeom>
              <a:solidFill>
                <a:srgbClr val="3d3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6846840" y="2178000"/>
                <a:ext cx="117360" cy="47880"/>
              </a:xfrm>
              <a:custGeom>
                <a:avLst/>
                <a:gdLst/>
                <a:ahLst/>
                <a:rect l="l" t="t" r="r" b="b"/>
                <a:pathLst>
                  <a:path w="367" h="154">
                    <a:moveTo>
                      <a:pt x="367" y="93"/>
                    </a:moveTo>
                    <a:lnTo>
                      <a:pt x="366" y="91"/>
                    </a:lnTo>
                    <a:lnTo>
                      <a:pt x="359" y="85"/>
                    </a:lnTo>
                    <a:lnTo>
                      <a:pt x="351" y="76"/>
                    </a:lnTo>
                    <a:lnTo>
                      <a:pt x="340" y="65"/>
                    </a:lnTo>
                    <a:lnTo>
                      <a:pt x="325" y="53"/>
                    </a:lnTo>
                    <a:lnTo>
                      <a:pt x="308" y="41"/>
                    </a:lnTo>
                    <a:lnTo>
                      <a:pt x="299" y="36"/>
                    </a:lnTo>
                    <a:lnTo>
                      <a:pt x="288" y="29"/>
                    </a:lnTo>
                    <a:lnTo>
                      <a:pt x="278" y="25"/>
                    </a:lnTo>
                    <a:lnTo>
                      <a:pt x="266" y="21"/>
                    </a:lnTo>
                    <a:lnTo>
                      <a:pt x="254" y="17"/>
                    </a:lnTo>
                    <a:lnTo>
                      <a:pt x="241" y="15"/>
                    </a:lnTo>
                    <a:lnTo>
                      <a:pt x="227" y="13"/>
                    </a:lnTo>
                    <a:lnTo>
                      <a:pt x="212" y="12"/>
                    </a:lnTo>
                    <a:lnTo>
                      <a:pt x="182" y="12"/>
                    </a:lnTo>
                    <a:lnTo>
                      <a:pt x="152" y="13"/>
                    </a:lnTo>
                    <a:lnTo>
                      <a:pt x="123" y="17"/>
                    </a:lnTo>
                    <a:lnTo>
                      <a:pt x="99" y="22"/>
                    </a:lnTo>
                    <a:lnTo>
                      <a:pt x="78" y="28"/>
                    </a:lnTo>
                    <a:lnTo>
                      <a:pt x="63" y="34"/>
                    </a:lnTo>
                    <a:lnTo>
                      <a:pt x="57" y="38"/>
                    </a:lnTo>
                    <a:lnTo>
                      <a:pt x="52" y="43"/>
                    </a:lnTo>
                    <a:lnTo>
                      <a:pt x="46" y="48"/>
                    </a:lnTo>
                    <a:lnTo>
                      <a:pt x="41" y="55"/>
                    </a:lnTo>
                    <a:lnTo>
                      <a:pt x="30" y="71"/>
                    </a:lnTo>
                    <a:lnTo>
                      <a:pt x="21" y="89"/>
                    </a:lnTo>
                    <a:lnTo>
                      <a:pt x="13" y="107"/>
                    </a:lnTo>
                    <a:lnTo>
                      <a:pt x="6" y="124"/>
                    </a:lnTo>
                    <a:lnTo>
                      <a:pt x="3" y="140"/>
                    </a:lnTo>
                    <a:lnTo>
                      <a:pt x="0" y="154"/>
                    </a:lnTo>
                    <a:lnTo>
                      <a:pt x="0" y="148"/>
                    </a:lnTo>
                    <a:lnTo>
                      <a:pt x="3" y="133"/>
                    </a:lnTo>
                    <a:lnTo>
                      <a:pt x="6" y="112"/>
                    </a:lnTo>
                    <a:lnTo>
                      <a:pt x="14" y="87"/>
                    </a:lnTo>
                    <a:lnTo>
                      <a:pt x="17" y="75"/>
                    </a:lnTo>
                    <a:lnTo>
                      <a:pt x="24" y="63"/>
                    </a:lnTo>
                    <a:lnTo>
                      <a:pt x="30" y="50"/>
                    </a:lnTo>
                    <a:lnTo>
                      <a:pt x="38" y="39"/>
                    </a:lnTo>
                    <a:lnTo>
                      <a:pt x="47" y="28"/>
                    </a:lnTo>
                    <a:lnTo>
                      <a:pt x="57" y="21"/>
                    </a:lnTo>
                    <a:lnTo>
                      <a:pt x="63" y="17"/>
                    </a:lnTo>
                    <a:lnTo>
                      <a:pt x="68" y="13"/>
                    </a:lnTo>
                    <a:lnTo>
                      <a:pt x="75" y="11"/>
                    </a:lnTo>
                    <a:lnTo>
                      <a:pt x="81" y="10"/>
                    </a:lnTo>
                    <a:lnTo>
                      <a:pt x="96" y="6"/>
                    </a:lnTo>
                    <a:lnTo>
                      <a:pt x="113" y="4"/>
                    </a:lnTo>
                    <a:lnTo>
                      <a:pt x="132" y="2"/>
                    </a:lnTo>
                    <a:lnTo>
                      <a:pt x="150" y="0"/>
                    </a:lnTo>
                    <a:lnTo>
                      <a:pt x="170" y="0"/>
                    </a:lnTo>
                    <a:lnTo>
                      <a:pt x="191" y="0"/>
                    </a:lnTo>
                    <a:lnTo>
                      <a:pt x="212" y="1"/>
                    </a:lnTo>
                    <a:lnTo>
                      <a:pt x="233" y="5"/>
                    </a:lnTo>
                    <a:lnTo>
                      <a:pt x="252" y="9"/>
                    </a:lnTo>
                    <a:lnTo>
                      <a:pt x="272" y="15"/>
                    </a:lnTo>
                    <a:lnTo>
                      <a:pt x="292" y="22"/>
                    </a:lnTo>
                    <a:lnTo>
                      <a:pt x="310" y="32"/>
                    </a:lnTo>
                    <a:lnTo>
                      <a:pt x="319" y="38"/>
                    </a:lnTo>
                    <a:lnTo>
                      <a:pt x="326" y="44"/>
                    </a:lnTo>
                    <a:lnTo>
                      <a:pt x="335" y="50"/>
                    </a:lnTo>
                    <a:lnTo>
                      <a:pt x="342" y="58"/>
                    </a:lnTo>
                    <a:lnTo>
                      <a:pt x="348" y="66"/>
                    </a:lnTo>
                    <a:lnTo>
                      <a:pt x="356" y="75"/>
                    </a:lnTo>
                    <a:lnTo>
                      <a:pt x="362" y="84"/>
                    </a:lnTo>
                    <a:lnTo>
                      <a:pt x="367" y="93"/>
                    </a:lnTo>
                    <a:close/>
                  </a:path>
                </a:pathLst>
              </a:custGeom>
              <a:solidFill>
                <a:srgbClr val="3d3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6645240" y="2394000"/>
                <a:ext cx="54000" cy="93600"/>
              </a:xfrm>
              <a:custGeom>
                <a:avLst/>
                <a:gdLst/>
                <a:ahLst/>
                <a:rect l="l" t="t" r="r" b="b"/>
                <a:pathLst>
                  <a:path w="171" h="294">
                    <a:moveTo>
                      <a:pt x="171" y="0"/>
                    </a:moveTo>
                    <a:lnTo>
                      <a:pt x="169" y="3"/>
                    </a:lnTo>
                    <a:lnTo>
                      <a:pt x="161" y="11"/>
                    </a:lnTo>
                    <a:lnTo>
                      <a:pt x="149" y="24"/>
                    </a:lnTo>
                    <a:lnTo>
                      <a:pt x="134" y="41"/>
                    </a:lnTo>
                    <a:lnTo>
                      <a:pt x="117" y="62"/>
                    </a:lnTo>
                    <a:lnTo>
                      <a:pt x="99" y="88"/>
                    </a:lnTo>
                    <a:lnTo>
                      <a:pt x="80" y="118"/>
                    </a:lnTo>
                    <a:lnTo>
                      <a:pt x="63" y="150"/>
                    </a:lnTo>
                    <a:lnTo>
                      <a:pt x="47" y="180"/>
                    </a:lnTo>
                    <a:lnTo>
                      <a:pt x="33" y="209"/>
                    </a:lnTo>
                    <a:lnTo>
                      <a:pt x="22" y="233"/>
                    </a:lnTo>
                    <a:lnTo>
                      <a:pt x="14" y="254"/>
                    </a:lnTo>
                    <a:lnTo>
                      <a:pt x="8" y="270"/>
                    </a:lnTo>
                    <a:lnTo>
                      <a:pt x="4" y="284"/>
                    </a:lnTo>
                    <a:lnTo>
                      <a:pt x="1" y="291"/>
                    </a:lnTo>
                    <a:lnTo>
                      <a:pt x="0" y="294"/>
                    </a:lnTo>
                    <a:lnTo>
                      <a:pt x="4" y="287"/>
                    </a:lnTo>
                    <a:lnTo>
                      <a:pt x="12" y="269"/>
                    </a:lnTo>
                    <a:lnTo>
                      <a:pt x="25" y="244"/>
                    </a:lnTo>
                    <a:lnTo>
                      <a:pt x="41" y="216"/>
                    </a:lnTo>
                    <a:lnTo>
                      <a:pt x="49" y="203"/>
                    </a:lnTo>
                    <a:lnTo>
                      <a:pt x="59" y="188"/>
                    </a:lnTo>
                    <a:lnTo>
                      <a:pt x="69" y="174"/>
                    </a:lnTo>
                    <a:lnTo>
                      <a:pt x="78" y="163"/>
                    </a:lnTo>
                    <a:lnTo>
                      <a:pt x="88" y="152"/>
                    </a:lnTo>
                    <a:lnTo>
                      <a:pt x="97" y="145"/>
                    </a:lnTo>
                    <a:lnTo>
                      <a:pt x="101" y="141"/>
                    </a:lnTo>
                    <a:lnTo>
                      <a:pt x="106" y="139"/>
                    </a:lnTo>
                    <a:lnTo>
                      <a:pt x="110" y="137"/>
                    </a:lnTo>
                    <a:lnTo>
                      <a:pt x="115" y="136"/>
                    </a:lnTo>
                    <a:lnTo>
                      <a:pt x="113" y="132"/>
                    </a:lnTo>
                    <a:lnTo>
                      <a:pt x="113" y="125"/>
                    </a:lnTo>
                    <a:lnTo>
                      <a:pt x="113" y="112"/>
                    </a:lnTo>
                    <a:lnTo>
                      <a:pt x="116" y="94"/>
                    </a:lnTo>
                    <a:lnTo>
                      <a:pt x="118" y="84"/>
                    </a:lnTo>
                    <a:lnTo>
                      <a:pt x="122" y="75"/>
                    </a:lnTo>
                    <a:lnTo>
                      <a:pt x="127" y="62"/>
                    </a:lnTo>
                    <a:lnTo>
                      <a:pt x="133" y="51"/>
                    </a:lnTo>
                    <a:lnTo>
                      <a:pt x="140" y="39"/>
                    </a:lnTo>
                    <a:lnTo>
                      <a:pt x="149" y="27"/>
                    </a:lnTo>
                    <a:lnTo>
                      <a:pt x="159" y="13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3d3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6865920" y="2401920"/>
                <a:ext cx="38160" cy="58680"/>
              </a:xfrm>
              <a:custGeom>
                <a:avLst/>
                <a:gdLst/>
                <a:ahLst/>
                <a:rect l="l" t="t" r="r" b="b"/>
                <a:pathLst>
                  <a:path w="117" h="185">
                    <a:moveTo>
                      <a:pt x="0" y="0"/>
                    </a:moveTo>
                    <a:lnTo>
                      <a:pt x="5" y="6"/>
                    </a:lnTo>
                    <a:lnTo>
                      <a:pt x="16" y="20"/>
                    </a:lnTo>
                    <a:lnTo>
                      <a:pt x="32" y="42"/>
                    </a:lnTo>
                    <a:lnTo>
                      <a:pt x="51" y="68"/>
                    </a:lnTo>
                    <a:lnTo>
                      <a:pt x="72" y="99"/>
                    </a:lnTo>
                    <a:lnTo>
                      <a:pt x="90" y="129"/>
                    </a:lnTo>
                    <a:lnTo>
                      <a:pt x="99" y="144"/>
                    </a:lnTo>
                    <a:lnTo>
                      <a:pt x="106" y="159"/>
                    </a:lnTo>
                    <a:lnTo>
                      <a:pt x="112" y="172"/>
                    </a:lnTo>
                    <a:lnTo>
                      <a:pt x="117" y="185"/>
                    </a:lnTo>
                    <a:lnTo>
                      <a:pt x="115" y="180"/>
                    </a:lnTo>
                    <a:lnTo>
                      <a:pt x="107" y="166"/>
                    </a:lnTo>
                    <a:lnTo>
                      <a:pt x="95" y="148"/>
                    </a:lnTo>
                    <a:lnTo>
                      <a:pt x="80" y="127"/>
                    </a:lnTo>
                    <a:lnTo>
                      <a:pt x="73" y="117"/>
                    </a:lnTo>
                    <a:lnTo>
                      <a:pt x="64" y="107"/>
                    </a:lnTo>
                    <a:lnTo>
                      <a:pt x="56" y="97"/>
                    </a:lnTo>
                    <a:lnTo>
                      <a:pt x="48" y="90"/>
                    </a:lnTo>
                    <a:lnTo>
                      <a:pt x="40" y="84"/>
                    </a:lnTo>
                    <a:lnTo>
                      <a:pt x="31" y="80"/>
                    </a:lnTo>
                    <a:lnTo>
                      <a:pt x="27" y="79"/>
                    </a:lnTo>
                    <a:lnTo>
                      <a:pt x="24" y="78"/>
                    </a:lnTo>
                    <a:lnTo>
                      <a:pt x="20" y="79"/>
                    </a:lnTo>
                    <a:lnTo>
                      <a:pt x="17" y="79"/>
                    </a:lnTo>
                    <a:lnTo>
                      <a:pt x="17" y="76"/>
                    </a:lnTo>
                    <a:lnTo>
                      <a:pt x="16" y="70"/>
                    </a:lnTo>
                    <a:lnTo>
                      <a:pt x="16" y="60"/>
                    </a:lnTo>
                    <a:lnTo>
                      <a:pt x="15" y="49"/>
                    </a:lnTo>
                    <a:lnTo>
                      <a:pt x="13" y="36"/>
                    </a:lnTo>
                    <a:lnTo>
                      <a:pt x="10" y="24"/>
                    </a:lnTo>
                    <a:lnTo>
                      <a:pt x="6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6676920" y="24336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8" y="13"/>
                    </a:moveTo>
                    <a:lnTo>
                      <a:pt x="18" y="14"/>
                    </a:lnTo>
                    <a:lnTo>
                      <a:pt x="19" y="18"/>
                    </a:lnTo>
                    <a:lnTo>
                      <a:pt x="23" y="24"/>
                    </a:lnTo>
                    <a:lnTo>
                      <a:pt x="29" y="32"/>
                    </a:lnTo>
                    <a:lnTo>
                      <a:pt x="34" y="35"/>
                    </a:lnTo>
                    <a:lnTo>
                      <a:pt x="38" y="39"/>
                    </a:lnTo>
                    <a:lnTo>
                      <a:pt x="46" y="43"/>
                    </a:lnTo>
                    <a:lnTo>
                      <a:pt x="54" y="46"/>
                    </a:lnTo>
                    <a:lnTo>
                      <a:pt x="63" y="49"/>
                    </a:lnTo>
                    <a:lnTo>
                      <a:pt x="74" y="52"/>
                    </a:lnTo>
                    <a:lnTo>
                      <a:pt x="88" y="55"/>
                    </a:lnTo>
                    <a:lnTo>
                      <a:pt x="101" y="56"/>
                    </a:lnTo>
                    <a:lnTo>
                      <a:pt x="98" y="56"/>
                    </a:lnTo>
                    <a:lnTo>
                      <a:pt x="88" y="57"/>
                    </a:lnTo>
                    <a:lnTo>
                      <a:pt x="73" y="56"/>
                    </a:lnTo>
                    <a:lnTo>
                      <a:pt x="57" y="55"/>
                    </a:lnTo>
                    <a:lnTo>
                      <a:pt x="48" y="54"/>
                    </a:lnTo>
                    <a:lnTo>
                      <a:pt x="40" y="51"/>
                    </a:lnTo>
                    <a:lnTo>
                      <a:pt x="31" y="49"/>
                    </a:lnTo>
                    <a:lnTo>
                      <a:pt x="24" y="45"/>
                    </a:lnTo>
                    <a:lnTo>
                      <a:pt x="16" y="40"/>
                    </a:lnTo>
                    <a:lnTo>
                      <a:pt x="11" y="35"/>
                    </a:lnTo>
                    <a:lnTo>
                      <a:pt x="7" y="29"/>
                    </a:lnTo>
                    <a:lnTo>
                      <a:pt x="4" y="21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9" y="5"/>
                    </a:lnTo>
                    <a:lnTo>
                      <a:pt x="14" y="8"/>
                    </a:lnTo>
                    <a:lnTo>
                      <a:pt x="16" y="12"/>
                    </a:lnTo>
                    <a:lnTo>
                      <a:pt x="18" y="13"/>
                    </a:lnTo>
                    <a:close/>
                  </a:path>
                </a:pathLst>
              </a:custGeom>
              <a:solidFill>
                <a:srgbClr val="3d3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6845400" y="242568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94" h="74">
                    <a:moveTo>
                      <a:pt x="84" y="3"/>
                    </a:moveTo>
                    <a:lnTo>
                      <a:pt x="83" y="5"/>
                    </a:lnTo>
                    <a:lnTo>
                      <a:pt x="82" y="10"/>
                    </a:lnTo>
                    <a:lnTo>
                      <a:pt x="80" y="19"/>
                    </a:lnTo>
                    <a:lnTo>
                      <a:pt x="73" y="29"/>
                    </a:lnTo>
                    <a:lnTo>
                      <a:pt x="66" y="40"/>
                    </a:lnTo>
                    <a:lnTo>
                      <a:pt x="54" y="51"/>
                    </a:lnTo>
                    <a:lnTo>
                      <a:pt x="48" y="57"/>
                    </a:lnTo>
                    <a:lnTo>
                      <a:pt x="39" y="62"/>
                    </a:lnTo>
                    <a:lnTo>
                      <a:pt x="29" y="67"/>
                    </a:lnTo>
                    <a:lnTo>
                      <a:pt x="19" y="71"/>
                    </a:lnTo>
                    <a:lnTo>
                      <a:pt x="0" y="74"/>
                    </a:lnTo>
                    <a:lnTo>
                      <a:pt x="2" y="74"/>
                    </a:lnTo>
                    <a:lnTo>
                      <a:pt x="8" y="73"/>
                    </a:lnTo>
                    <a:lnTo>
                      <a:pt x="18" y="72"/>
                    </a:lnTo>
                    <a:lnTo>
                      <a:pt x="29" y="69"/>
                    </a:lnTo>
                    <a:lnTo>
                      <a:pt x="41" y="66"/>
                    </a:lnTo>
                    <a:lnTo>
                      <a:pt x="54" y="61"/>
                    </a:lnTo>
                    <a:lnTo>
                      <a:pt x="60" y="56"/>
                    </a:lnTo>
                    <a:lnTo>
                      <a:pt x="65" y="52"/>
                    </a:lnTo>
                    <a:lnTo>
                      <a:pt x="70" y="47"/>
                    </a:lnTo>
                    <a:lnTo>
                      <a:pt x="73" y="41"/>
                    </a:lnTo>
                    <a:lnTo>
                      <a:pt x="80" y="31"/>
                    </a:lnTo>
                    <a:lnTo>
                      <a:pt x="84" y="23"/>
                    </a:lnTo>
                    <a:lnTo>
                      <a:pt x="88" y="15"/>
                    </a:lnTo>
                    <a:lnTo>
                      <a:pt x="91" y="10"/>
                    </a:lnTo>
                    <a:lnTo>
                      <a:pt x="93" y="5"/>
                    </a:lnTo>
                    <a:lnTo>
                      <a:pt x="94" y="3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84" y="3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6872400" y="2106720"/>
                <a:ext cx="110880" cy="58680"/>
              </a:xfrm>
              <a:custGeom>
                <a:avLst/>
                <a:gdLst/>
                <a:ahLst/>
                <a:rect l="l" t="t" r="r" b="b"/>
                <a:pathLst>
                  <a:path w="348" h="185">
                    <a:moveTo>
                      <a:pt x="40" y="83"/>
                    </a:moveTo>
                    <a:lnTo>
                      <a:pt x="43" y="82"/>
                    </a:lnTo>
                    <a:lnTo>
                      <a:pt x="52" y="78"/>
                    </a:lnTo>
                    <a:lnTo>
                      <a:pt x="65" y="73"/>
                    </a:lnTo>
                    <a:lnTo>
                      <a:pt x="84" y="68"/>
                    </a:lnTo>
                    <a:lnTo>
                      <a:pt x="105" y="63"/>
                    </a:lnTo>
                    <a:lnTo>
                      <a:pt x="129" y="62"/>
                    </a:lnTo>
                    <a:lnTo>
                      <a:pt x="142" y="61"/>
                    </a:lnTo>
                    <a:lnTo>
                      <a:pt x="154" y="62"/>
                    </a:lnTo>
                    <a:lnTo>
                      <a:pt x="167" y="64"/>
                    </a:lnTo>
                    <a:lnTo>
                      <a:pt x="181" y="67"/>
                    </a:lnTo>
                    <a:lnTo>
                      <a:pt x="206" y="75"/>
                    </a:lnTo>
                    <a:lnTo>
                      <a:pt x="231" y="85"/>
                    </a:lnTo>
                    <a:lnTo>
                      <a:pt x="254" y="96"/>
                    </a:lnTo>
                    <a:lnTo>
                      <a:pt x="276" y="109"/>
                    </a:lnTo>
                    <a:lnTo>
                      <a:pt x="294" y="122"/>
                    </a:lnTo>
                    <a:lnTo>
                      <a:pt x="309" y="134"/>
                    </a:lnTo>
                    <a:lnTo>
                      <a:pt x="316" y="141"/>
                    </a:lnTo>
                    <a:lnTo>
                      <a:pt x="321" y="147"/>
                    </a:lnTo>
                    <a:lnTo>
                      <a:pt x="325" y="153"/>
                    </a:lnTo>
                    <a:lnTo>
                      <a:pt x="327" y="159"/>
                    </a:lnTo>
                    <a:lnTo>
                      <a:pt x="331" y="169"/>
                    </a:lnTo>
                    <a:lnTo>
                      <a:pt x="335" y="176"/>
                    </a:lnTo>
                    <a:lnTo>
                      <a:pt x="337" y="181"/>
                    </a:lnTo>
                    <a:lnTo>
                      <a:pt x="340" y="185"/>
                    </a:lnTo>
                    <a:lnTo>
                      <a:pt x="342" y="185"/>
                    </a:lnTo>
                    <a:lnTo>
                      <a:pt x="343" y="184"/>
                    </a:lnTo>
                    <a:lnTo>
                      <a:pt x="346" y="181"/>
                    </a:lnTo>
                    <a:lnTo>
                      <a:pt x="347" y="175"/>
                    </a:lnTo>
                    <a:lnTo>
                      <a:pt x="347" y="169"/>
                    </a:lnTo>
                    <a:lnTo>
                      <a:pt x="348" y="161"/>
                    </a:lnTo>
                    <a:lnTo>
                      <a:pt x="348" y="153"/>
                    </a:lnTo>
                    <a:lnTo>
                      <a:pt x="348" y="143"/>
                    </a:lnTo>
                    <a:lnTo>
                      <a:pt x="346" y="133"/>
                    </a:lnTo>
                    <a:lnTo>
                      <a:pt x="341" y="122"/>
                    </a:lnTo>
                    <a:lnTo>
                      <a:pt x="335" y="111"/>
                    </a:lnTo>
                    <a:lnTo>
                      <a:pt x="325" y="99"/>
                    </a:lnTo>
                    <a:lnTo>
                      <a:pt x="310" y="86"/>
                    </a:lnTo>
                    <a:lnTo>
                      <a:pt x="292" y="72"/>
                    </a:lnTo>
                    <a:lnTo>
                      <a:pt x="268" y="58"/>
                    </a:lnTo>
                    <a:lnTo>
                      <a:pt x="244" y="43"/>
                    </a:lnTo>
                    <a:lnTo>
                      <a:pt x="219" y="31"/>
                    </a:lnTo>
                    <a:lnTo>
                      <a:pt x="195" y="19"/>
                    </a:lnTo>
                    <a:lnTo>
                      <a:pt x="172" y="10"/>
                    </a:lnTo>
                    <a:lnTo>
                      <a:pt x="154" y="4"/>
                    </a:lnTo>
                    <a:lnTo>
                      <a:pt x="138" y="2"/>
                    </a:lnTo>
                    <a:lnTo>
                      <a:pt x="123" y="0"/>
                    </a:lnTo>
                    <a:lnTo>
                      <a:pt x="108" y="0"/>
                    </a:lnTo>
                    <a:lnTo>
                      <a:pt x="95" y="2"/>
                    </a:lnTo>
                    <a:lnTo>
                      <a:pt x="83" y="4"/>
                    </a:lnTo>
                    <a:lnTo>
                      <a:pt x="69" y="8"/>
                    </a:lnTo>
                    <a:lnTo>
                      <a:pt x="57" y="13"/>
                    </a:lnTo>
                    <a:lnTo>
                      <a:pt x="44" y="18"/>
                    </a:lnTo>
                    <a:lnTo>
                      <a:pt x="38" y="21"/>
                    </a:lnTo>
                    <a:lnTo>
                      <a:pt x="32" y="26"/>
                    </a:lnTo>
                    <a:lnTo>
                      <a:pt x="26" y="32"/>
                    </a:lnTo>
                    <a:lnTo>
                      <a:pt x="20" y="40"/>
                    </a:lnTo>
                    <a:lnTo>
                      <a:pt x="15" y="46"/>
                    </a:lnTo>
                    <a:lnTo>
                      <a:pt x="10" y="53"/>
                    </a:lnTo>
                    <a:lnTo>
                      <a:pt x="5" y="61"/>
                    </a:lnTo>
                    <a:lnTo>
                      <a:pt x="3" y="68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1" y="84"/>
                    </a:lnTo>
                    <a:lnTo>
                      <a:pt x="5" y="88"/>
                    </a:lnTo>
                    <a:lnTo>
                      <a:pt x="10" y="89"/>
                    </a:lnTo>
                    <a:lnTo>
                      <a:pt x="17" y="89"/>
                    </a:lnTo>
                    <a:lnTo>
                      <a:pt x="27" y="88"/>
                    </a:lnTo>
                    <a:lnTo>
                      <a:pt x="40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235560" y="2239920"/>
                <a:ext cx="86040" cy="147600"/>
              </a:xfrm>
              <a:custGeom>
                <a:avLst/>
                <a:gdLst/>
                <a:ahLst/>
                <a:rect l="l" t="t" r="r" b="b"/>
                <a:pathLst>
                  <a:path w="267" h="465">
                    <a:moveTo>
                      <a:pt x="233" y="197"/>
                    </a:moveTo>
                    <a:lnTo>
                      <a:pt x="232" y="193"/>
                    </a:lnTo>
                    <a:lnTo>
                      <a:pt x="227" y="183"/>
                    </a:lnTo>
                    <a:lnTo>
                      <a:pt x="221" y="167"/>
                    </a:lnTo>
                    <a:lnTo>
                      <a:pt x="211" y="148"/>
                    </a:lnTo>
                    <a:lnTo>
                      <a:pt x="200" y="125"/>
                    </a:lnTo>
                    <a:lnTo>
                      <a:pt x="187" y="101"/>
                    </a:lnTo>
                    <a:lnTo>
                      <a:pt x="171" y="76"/>
                    </a:lnTo>
                    <a:lnTo>
                      <a:pt x="155" y="53"/>
                    </a:lnTo>
                    <a:lnTo>
                      <a:pt x="139" y="33"/>
                    </a:lnTo>
                    <a:lnTo>
                      <a:pt x="128" y="20"/>
                    </a:lnTo>
                    <a:lnTo>
                      <a:pt x="118" y="11"/>
                    </a:lnTo>
                    <a:lnTo>
                      <a:pt x="112" y="5"/>
                    </a:lnTo>
                    <a:lnTo>
                      <a:pt x="107" y="2"/>
                    </a:lnTo>
                    <a:lnTo>
                      <a:pt x="104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0" y="1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2" y="2"/>
                    </a:lnTo>
                    <a:lnTo>
                      <a:pt x="65" y="5"/>
                    </a:lnTo>
                    <a:lnTo>
                      <a:pt x="57" y="10"/>
                    </a:lnTo>
                    <a:lnTo>
                      <a:pt x="50" y="15"/>
                    </a:lnTo>
                    <a:lnTo>
                      <a:pt x="44" y="22"/>
                    </a:lnTo>
                    <a:lnTo>
                      <a:pt x="37" y="32"/>
                    </a:lnTo>
                    <a:lnTo>
                      <a:pt x="29" y="43"/>
                    </a:lnTo>
                    <a:lnTo>
                      <a:pt x="22" y="57"/>
                    </a:lnTo>
                    <a:lnTo>
                      <a:pt x="16" y="73"/>
                    </a:lnTo>
                    <a:lnTo>
                      <a:pt x="11" y="90"/>
                    </a:lnTo>
                    <a:lnTo>
                      <a:pt x="6" y="106"/>
                    </a:lnTo>
                    <a:lnTo>
                      <a:pt x="3" y="122"/>
                    </a:lnTo>
                    <a:lnTo>
                      <a:pt x="1" y="137"/>
                    </a:lnTo>
                    <a:lnTo>
                      <a:pt x="0" y="153"/>
                    </a:lnTo>
                    <a:lnTo>
                      <a:pt x="0" y="167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3" y="209"/>
                    </a:lnTo>
                    <a:lnTo>
                      <a:pt x="6" y="224"/>
                    </a:lnTo>
                    <a:lnTo>
                      <a:pt x="9" y="237"/>
                    </a:lnTo>
                    <a:lnTo>
                      <a:pt x="13" y="251"/>
                    </a:lnTo>
                    <a:lnTo>
                      <a:pt x="23" y="279"/>
                    </a:lnTo>
                    <a:lnTo>
                      <a:pt x="35" y="309"/>
                    </a:lnTo>
                    <a:lnTo>
                      <a:pt x="46" y="335"/>
                    </a:lnTo>
                    <a:lnTo>
                      <a:pt x="55" y="355"/>
                    </a:lnTo>
                    <a:lnTo>
                      <a:pt x="60" y="371"/>
                    </a:lnTo>
                    <a:lnTo>
                      <a:pt x="65" y="385"/>
                    </a:lnTo>
                    <a:lnTo>
                      <a:pt x="67" y="395"/>
                    </a:lnTo>
                    <a:lnTo>
                      <a:pt x="71" y="403"/>
                    </a:lnTo>
                    <a:lnTo>
                      <a:pt x="75" y="411"/>
                    </a:lnTo>
                    <a:lnTo>
                      <a:pt x="81" y="419"/>
                    </a:lnTo>
                    <a:lnTo>
                      <a:pt x="83" y="422"/>
                    </a:lnTo>
                    <a:lnTo>
                      <a:pt x="89" y="429"/>
                    </a:lnTo>
                    <a:lnTo>
                      <a:pt x="98" y="438"/>
                    </a:lnTo>
                    <a:lnTo>
                      <a:pt x="108" y="448"/>
                    </a:lnTo>
                    <a:lnTo>
                      <a:pt x="114" y="451"/>
                    </a:lnTo>
                    <a:lnTo>
                      <a:pt x="120" y="456"/>
                    </a:lnTo>
                    <a:lnTo>
                      <a:pt x="128" y="460"/>
                    </a:lnTo>
                    <a:lnTo>
                      <a:pt x="134" y="462"/>
                    </a:lnTo>
                    <a:lnTo>
                      <a:pt x="141" y="464"/>
                    </a:lnTo>
                    <a:lnTo>
                      <a:pt x="147" y="465"/>
                    </a:lnTo>
                    <a:lnTo>
                      <a:pt x="153" y="464"/>
                    </a:lnTo>
                    <a:lnTo>
                      <a:pt x="160" y="460"/>
                    </a:lnTo>
                    <a:lnTo>
                      <a:pt x="171" y="454"/>
                    </a:lnTo>
                    <a:lnTo>
                      <a:pt x="180" y="449"/>
                    </a:lnTo>
                    <a:lnTo>
                      <a:pt x="189" y="445"/>
                    </a:lnTo>
                    <a:lnTo>
                      <a:pt x="196" y="444"/>
                    </a:lnTo>
                    <a:lnTo>
                      <a:pt x="203" y="445"/>
                    </a:lnTo>
                    <a:lnTo>
                      <a:pt x="210" y="449"/>
                    </a:lnTo>
                    <a:lnTo>
                      <a:pt x="219" y="454"/>
                    </a:lnTo>
                    <a:lnTo>
                      <a:pt x="228" y="460"/>
                    </a:lnTo>
                    <a:lnTo>
                      <a:pt x="232" y="462"/>
                    </a:lnTo>
                    <a:lnTo>
                      <a:pt x="237" y="462"/>
                    </a:lnTo>
                    <a:lnTo>
                      <a:pt x="242" y="461"/>
                    </a:lnTo>
                    <a:lnTo>
                      <a:pt x="246" y="456"/>
                    </a:lnTo>
                    <a:lnTo>
                      <a:pt x="251" y="451"/>
                    </a:lnTo>
                    <a:lnTo>
                      <a:pt x="254" y="444"/>
                    </a:lnTo>
                    <a:lnTo>
                      <a:pt x="258" y="437"/>
                    </a:lnTo>
                    <a:lnTo>
                      <a:pt x="260" y="428"/>
                    </a:lnTo>
                    <a:lnTo>
                      <a:pt x="263" y="418"/>
                    </a:lnTo>
                    <a:lnTo>
                      <a:pt x="265" y="408"/>
                    </a:lnTo>
                    <a:lnTo>
                      <a:pt x="267" y="400"/>
                    </a:lnTo>
                    <a:lnTo>
                      <a:pt x="267" y="390"/>
                    </a:lnTo>
                    <a:lnTo>
                      <a:pt x="267" y="381"/>
                    </a:lnTo>
                    <a:lnTo>
                      <a:pt x="265" y="373"/>
                    </a:lnTo>
                    <a:lnTo>
                      <a:pt x="264" y="365"/>
                    </a:lnTo>
                    <a:lnTo>
                      <a:pt x="260" y="360"/>
                    </a:lnTo>
                    <a:lnTo>
                      <a:pt x="253" y="352"/>
                    </a:lnTo>
                    <a:lnTo>
                      <a:pt x="248" y="343"/>
                    </a:lnTo>
                    <a:lnTo>
                      <a:pt x="244" y="335"/>
                    </a:lnTo>
                    <a:lnTo>
                      <a:pt x="242" y="326"/>
                    </a:lnTo>
                    <a:lnTo>
                      <a:pt x="242" y="317"/>
                    </a:lnTo>
                    <a:lnTo>
                      <a:pt x="242" y="309"/>
                    </a:lnTo>
                    <a:lnTo>
                      <a:pt x="244" y="299"/>
                    </a:lnTo>
                    <a:lnTo>
                      <a:pt x="247" y="289"/>
                    </a:lnTo>
                    <a:lnTo>
                      <a:pt x="248" y="278"/>
                    </a:lnTo>
                    <a:lnTo>
                      <a:pt x="247" y="263"/>
                    </a:lnTo>
                    <a:lnTo>
                      <a:pt x="244" y="248"/>
                    </a:lnTo>
                    <a:lnTo>
                      <a:pt x="242" y="234"/>
                    </a:lnTo>
                    <a:lnTo>
                      <a:pt x="240" y="219"/>
                    </a:lnTo>
                    <a:lnTo>
                      <a:pt x="236" y="208"/>
                    </a:lnTo>
                    <a:lnTo>
                      <a:pt x="235" y="200"/>
                    </a:lnTo>
                    <a:lnTo>
                      <a:pt x="233" y="197"/>
                    </a:lnTo>
                    <a:close/>
                  </a:path>
                </a:pathLst>
              </a:custGeom>
              <a:solidFill>
                <a:srgbClr val="5b4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6235560" y="2239920"/>
                <a:ext cx="86040" cy="147600"/>
              </a:xfrm>
              <a:custGeom>
                <a:avLst/>
                <a:gdLst/>
                <a:ahLst/>
                <a:rect l="l" t="t" r="r" b="b"/>
                <a:pathLst>
                  <a:path w="267" h="462">
                    <a:moveTo>
                      <a:pt x="182" y="450"/>
                    </a:moveTo>
                    <a:lnTo>
                      <a:pt x="188" y="450"/>
                    </a:lnTo>
                    <a:lnTo>
                      <a:pt x="194" y="450"/>
                    </a:lnTo>
                    <a:lnTo>
                      <a:pt x="199" y="450"/>
                    </a:lnTo>
                    <a:lnTo>
                      <a:pt x="204" y="450"/>
                    </a:lnTo>
                    <a:lnTo>
                      <a:pt x="209" y="450"/>
                    </a:lnTo>
                    <a:lnTo>
                      <a:pt x="214" y="453"/>
                    </a:lnTo>
                    <a:lnTo>
                      <a:pt x="221" y="455"/>
                    </a:lnTo>
                    <a:lnTo>
                      <a:pt x="228" y="460"/>
                    </a:lnTo>
                    <a:lnTo>
                      <a:pt x="232" y="462"/>
                    </a:lnTo>
                    <a:lnTo>
                      <a:pt x="237" y="462"/>
                    </a:lnTo>
                    <a:lnTo>
                      <a:pt x="242" y="461"/>
                    </a:lnTo>
                    <a:lnTo>
                      <a:pt x="246" y="456"/>
                    </a:lnTo>
                    <a:lnTo>
                      <a:pt x="251" y="451"/>
                    </a:lnTo>
                    <a:lnTo>
                      <a:pt x="254" y="444"/>
                    </a:lnTo>
                    <a:lnTo>
                      <a:pt x="258" y="437"/>
                    </a:lnTo>
                    <a:lnTo>
                      <a:pt x="260" y="428"/>
                    </a:lnTo>
                    <a:lnTo>
                      <a:pt x="263" y="418"/>
                    </a:lnTo>
                    <a:lnTo>
                      <a:pt x="265" y="408"/>
                    </a:lnTo>
                    <a:lnTo>
                      <a:pt x="267" y="400"/>
                    </a:lnTo>
                    <a:lnTo>
                      <a:pt x="267" y="390"/>
                    </a:lnTo>
                    <a:lnTo>
                      <a:pt x="267" y="381"/>
                    </a:lnTo>
                    <a:lnTo>
                      <a:pt x="265" y="373"/>
                    </a:lnTo>
                    <a:lnTo>
                      <a:pt x="264" y="365"/>
                    </a:lnTo>
                    <a:lnTo>
                      <a:pt x="260" y="360"/>
                    </a:lnTo>
                    <a:lnTo>
                      <a:pt x="253" y="352"/>
                    </a:lnTo>
                    <a:lnTo>
                      <a:pt x="248" y="343"/>
                    </a:lnTo>
                    <a:lnTo>
                      <a:pt x="244" y="335"/>
                    </a:lnTo>
                    <a:lnTo>
                      <a:pt x="242" y="326"/>
                    </a:lnTo>
                    <a:lnTo>
                      <a:pt x="242" y="317"/>
                    </a:lnTo>
                    <a:lnTo>
                      <a:pt x="242" y="309"/>
                    </a:lnTo>
                    <a:lnTo>
                      <a:pt x="244" y="299"/>
                    </a:lnTo>
                    <a:lnTo>
                      <a:pt x="247" y="289"/>
                    </a:lnTo>
                    <a:lnTo>
                      <a:pt x="248" y="278"/>
                    </a:lnTo>
                    <a:lnTo>
                      <a:pt x="247" y="263"/>
                    </a:lnTo>
                    <a:lnTo>
                      <a:pt x="244" y="248"/>
                    </a:lnTo>
                    <a:lnTo>
                      <a:pt x="242" y="234"/>
                    </a:lnTo>
                    <a:lnTo>
                      <a:pt x="240" y="219"/>
                    </a:lnTo>
                    <a:lnTo>
                      <a:pt x="236" y="208"/>
                    </a:lnTo>
                    <a:lnTo>
                      <a:pt x="235" y="200"/>
                    </a:lnTo>
                    <a:lnTo>
                      <a:pt x="233" y="197"/>
                    </a:lnTo>
                    <a:lnTo>
                      <a:pt x="232" y="193"/>
                    </a:lnTo>
                    <a:lnTo>
                      <a:pt x="227" y="183"/>
                    </a:lnTo>
                    <a:lnTo>
                      <a:pt x="221" y="167"/>
                    </a:lnTo>
                    <a:lnTo>
                      <a:pt x="211" y="148"/>
                    </a:lnTo>
                    <a:lnTo>
                      <a:pt x="200" y="125"/>
                    </a:lnTo>
                    <a:lnTo>
                      <a:pt x="187" y="101"/>
                    </a:lnTo>
                    <a:lnTo>
                      <a:pt x="171" y="76"/>
                    </a:lnTo>
                    <a:lnTo>
                      <a:pt x="155" y="53"/>
                    </a:lnTo>
                    <a:lnTo>
                      <a:pt x="139" y="33"/>
                    </a:lnTo>
                    <a:lnTo>
                      <a:pt x="128" y="20"/>
                    </a:lnTo>
                    <a:lnTo>
                      <a:pt x="118" y="11"/>
                    </a:lnTo>
                    <a:lnTo>
                      <a:pt x="112" y="5"/>
                    </a:lnTo>
                    <a:lnTo>
                      <a:pt x="107" y="2"/>
                    </a:lnTo>
                    <a:lnTo>
                      <a:pt x="104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0" y="1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2" y="2"/>
                    </a:lnTo>
                    <a:lnTo>
                      <a:pt x="65" y="5"/>
                    </a:lnTo>
                    <a:lnTo>
                      <a:pt x="57" y="10"/>
                    </a:lnTo>
                    <a:lnTo>
                      <a:pt x="50" y="15"/>
                    </a:lnTo>
                    <a:lnTo>
                      <a:pt x="44" y="22"/>
                    </a:lnTo>
                    <a:lnTo>
                      <a:pt x="37" y="32"/>
                    </a:lnTo>
                    <a:lnTo>
                      <a:pt x="29" y="43"/>
                    </a:lnTo>
                    <a:lnTo>
                      <a:pt x="22" y="57"/>
                    </a:lnTo>
                    <a:lnTo>
                      <a:pt x="16" y="73"/>
                    </a:lnTo>
                    <a:lnTo>
                      <a:pt x="12" y="87"/>
                    </a:lnTo>
                    <a:lnTo>
                      <a:pt x="7" y="101"/>
                    </a:lnTo>
                    <a:lnTo>
                      <a:pt x="5" y="116"/>
                    </a:lnTo>
                    <a:lnTo>
                      <a:pt x="2" y="128"/>
                    </a:lnTo>
                    <a:lnTo>
                      <a:pt x="0" y="141"/>
                    </a:lnTo>
                    <a:lnTo>
                      <a:pt x="0" y="154"/>
                    </a:lnTo>
                    <a:lnTo>
                      <a:pt x="0" y="166"/>
                    </a:lnTo>
                    <a:lnTo>
                      <a:pt x="0" y="178"/>
                    </a:lnTo>
                    <a:lnTo>
                      <a:pt x="1" y="172"/>
                    </a:lnTo>
                    <a:lnTo>
                      <a:pt x="5" y="157"/>
                    </a:lnTo>
                    <a:lnTo>
                      <a:pt x="9" y="137"/>
                    </a:lnTo>
                    <a:lnTo>
                      <a:pt x="18" y="113"/>
                    </a:lnTo>
                    <a:lnTo>
                      <a:pt x="23" y="101"/>
                    </a:lnTo>
                    <a:lnTo>
                      <a:pt x="28" y="89"/>
                    </a:lnTo>
                    <a:lnTo>
                      <a:pt x="34" y="77"/>
                    </a:lnTo>
                    <a:lnTo>
                      <a:pt x="40" y="68"/>
                    </a:lnTo>
                    <a:lnTo>
                      <a:pt x="46" y="60"/>
                    </a:lnTo>
                    <a:lnTo>
                      <a:pt x="54" y="53"/>
                    </a:lnTo>
                    <a:lnTo>
                      <a:pt x="57" y="50"/>
                    </a:lnTo>
                    <a:lnTo>
                      <a:pt x="62" y="49"/>
                    </a:lnTo>
                    <a:lnTo>
                      <a:pt x="66" y="48"/>
                    </a:lnTo>
                    <a:lnTo>
                      <a:pt x="71" y="48"/>
                    </a:lnTo>
                    <a:lnTo>
                      <a:pt x="78" y="48"/>
                    </a:lnTo>
                    <a:lnTo>
                      <a:pt x="86" y="49"/>
                    </a:lnTo>
                    <a:lnTo>
                      <a:pt x="94" y="50"/>
                    </a:lnTo>
                    <a:lnTo>
                      <a:pt x="102" y="53"/>
                    </a:lnTo>
                    <a:lnTo>
                      <a:pt x="109" y="55"/>
                    </a:lnTo>
                    <a:lnTo>
                      <a:pt x="116" y="59"/>
                    </a:lnTo>
                    <a:lnTo>
                      <a:pt x="123" y="64"/>
                    </a:lnTo>
                    <a:lnTo>
                      <a:pt x="130" y="70"/>
                    </a:lnTo>
                    <a:lnTo>
                      <a:pt x="137" y="76"/>
                    </a:lnTo>
                    <a:lnTo>
                      <a:pt x="144" y="84"/>
                    </a:lnTo>
                    <a:lnTo>
                      <a:pt x="150" y="92"/>
                    </a:lnTo>
                    <a:lnTo>
                      <a:pt x="157" y="102"/>
                    </a:lnTo>
                    <a:lnTo>
                      <a:pt x="169" y="124"/>
                    </a:lnTo>
                    <a:lnTo>
                      <a:pt x="182" y="151"/>
                    </a:lnTo>
                    <a:lnTo>
                      <a:pt x="194" y="178"/>
                    </a:lnTo>
                    <a:lnTo>
                      <a:pt x="204" y="200"/>
                    </a:lnTo>
                    <a:lnTo>
                      <a:pt x="212" y="220"/>
                    </a:lnTo>
                    <a:lnTo>
                      <a:pt x="220" y="236"/>
                    </a:lnTo>
                    <a:lnTo>
                      <a:pt x="222" y="242"/>
                    </a:lnTo>
                    <a:lnTo>
                      <a:pt x="224" y="248"/>
                    </a:lnTo>
                    <a:lnTo>
                      <a:pt x="225" y="255"/>
                    </a:lnTo>
                    <a:lnTo>
                      <a:pt x="225" y="260"/>
                    </a:lnTo>
                    <a:lnTo>
                      <a:pt x="224" y="264"/>
                    </a:lnTo>
                    <a:lnTo>
                      <a:pt x="221" y="268"/>
                    </a:lnTo>
                    <a:lnTo>
                      <a:pt x="219" y="272"/>
                    </a:lnTo>
                    <a:lnTo>
                      <a:pt x="215" y="276"/>
                    </a:lnTo>
                    <a:lnTo>
                      <a:pt x="201" y="282"/>
                    </a:lnTo>
                    <a:lnTo>
                      <a:pt x="185" y="287"/>
                    </a:lnTo>
                    <a:lnTo>
                      <a:pt x="176" y="289"/>
                    </a:lnTo>
                    <a:lnTo>
                      <a:pt x="167" y="293"/>
                    </a:lnTo>
                    <a:lnTo>
                      <a:pt x="158" y="296"/>
                    </a:lnTo>
                    <a:lnTo>
                      <a:pt x="150" y="300"/>
                    </a:lnTo>
                    <a:lnTo>
                      <a:pt x="142" y="306"/>
                    </a:lnTo>
                    <a:lnTo>
                      <a:pt x="136" y="314"/>
                    </a:lnTo>
                    <a:lnTo>
                      <a:pt x="132" y="322"/>
                    </a:lnTo>
                    <a:lnTo>
                      <a:pt x="129" y="333"/>
                    </a:lnTo>
                    <a:lnTo>
                      <a:pt x="129" y="347"/>
                    </a:lnTo>
                    <a:lnTo>
                      <a:pt x="130" y="362"/>
                    </a:lnTo>
                    <a:lnTo>
                      <a:pt x="134" y="380"/>
                    </a:lnTo>
                    <a:lnTo>
                      <a:pt x="141" y="401"/>
                    </a:lnTo>
                    <a:lnTo>
                      <a:pt x="142" y="402"/>
                    </a:lnTo>
                    <a:lnTo>
                      <a:pt x="144" y="407"/>
                    </a:lnTo>
                    <a:lnTo>
                      <a:pt x="147" y="414"/>
                    </a:lnTo>
                    <a:lnTo>
                      <a:pt x="152" y="423"/>
                    </a:lnTo>
                    <a:lnTo>
                      <a:pt x="158" y="432"/>
                    </a:lnTo>
                    <a:lnTo>
                      <a:pt x="164" y="440"/>
                    </a:lnTo>
                    <a:lnTo>
                      <a:pt x="169" y="443"/>
                    </a:lnTo>
                    <a:lnTo>
                      <a:pt x="173" y="446"/>
                    </a:lnTo>
                    <a:lnTo>
                      <a:pt x="177" y="448"/>
                    </a:lnTo>
                    <a:lnTo>
                      <a:pt x="182" y="450"/>
                    </a:lnTo>
                    <a:close/>
                  </a:path>
                </a:pathLst>
              </a:custGeom>
              <a:solidFill>
                <a:srgbClr val="3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6143760" y="2847960"/>
                <a:ext cx="511200" cy="754200"/>
              </a:xfrm>
              <a:custGeom>
                <a:avLst/>
                <a:gdLst/>
                <a:ahLst/>
                <a:rect l="l" t="t" r="r" b="b"/>
                <a:pathLst>
                  <a:path w="1611" h="2372">
                    <a:moveTo>
                      <a:pt x="1356" y="2305"/>
                    </a:moveTo>
                    <a:lnTo>
                      <a:pt x="1334" y="2285"/>
                    </a:lnTo>
                    <a:lnTo>
                      <a:pt x="1311" y="2263"/>
                    </a:lnTo>
                    <a:lnTo>
                      <a:pt x="1286" y="2237"/>
                    </a:lnTo>
                    <a:lnTo>
                      <a:pt x="1260" y="2210"/>
                    </a:lnTo>
                    <a:lnTo>
                      <a:pt x="1233" y="2180"/>
                    </a:lnTo>
                    <a:lnTo>
                      <a:pt x="1205" y="2148"/>
                    </a:lnTo>
                    <a:lnTo>
                      <a:pt x="1176" y="2112"/>
                    </a:lnTo>
                    <a:lnTo>
                      <a:pt x="1147" y="2076"/>
                    </a:lnTo>
                    <a:lnTo>
                      <a:pt x="1085" y="1998"/>
                    </a:lnTo>
                    <a:lnTo>
                      <a:pt x="1023" y="1914"/>
                    </a:lnTo>
                    <a:lnTo>
                      <a:pt x="957" y="1827"/>
                    </a:lnTo>
                    <a:lnTo>
                      <a:pt x="892" y="1737"/>
                    </a:lnTo>
                    <a:lnTo>
                      <a:pt x="763" y="1554"/>
                    </a:lnTo>
                    <a:lnTo>
                      <a:pt x="639" y="1379"/>
                    </a:lnTo>
                    <a:lnTo>
                      <a:pt x="582" y="1298"/>
                    </a:lnTo>
                    <a:lnTo>
                      <a:pt x="528" y="1223"/>
                    </a:lnTo>
                    <a:lnTo>
                      <a:pt x="479" y="1155"/>
                    </a:lnTo>
                    <a:lnTo>
                      <a:pt x="435" y="1096"/>
                    </a:lnTo>
                    <a:lnTo>
                      <a:pt x="400" y="1052"/>
                    </a:lnTo>
                    <a:lnTo>
                      <a:pt x="368" y="1007"/>
                    </a:lnTo>
                    <a:lnTo>
                      <a:pt x="337" y="962"/>
                    </a:lnTo>
                    <a:lnTo>
                      <a:pt x="308" y="915"/>
                    </a:lnTo>
                    <a:lnTo>
                      <a:pt x="281" y="870"/>
                    </a:lnTo>
                    <a:lnTo>
                      <a:pt x="255" y="823"/>
                    </a:lnTo>
                    <a:lnTo>
                      <a:pt x="232" y="776"/>
                    </a:lnTo>
                    <a:lnTo>
                      <a:pt x="208" y="729"/>
                    </a:lnTo>
                    <a:lnTo>
                      <a:pt x="187" y="684"/>
                    </a:lnTo>
                    <a:lnTo>
                      <a:pt x="168" y="637"/>
                    </a:lnTo>
                    <a:lnTo>
                      <a:pt x="149" y="593"/>
                    </a:lnTo>
                    <a:lnTo>
                      <a:pt x="132" y="547"/>
                    </a:lnTo>
                    <a:lnTo>
                      <a:pt x="117" y="504"/>
                    </a:lnTo>
                    <a:lnTo>
                      <a:pt x="102" y="461"/>
                    </a:lnTo>
                    <a:lnTo>
                      <a:pt x="89" y="420"/>
                    </a:lnTo>
                    <a:lnTo>
                      <a:pt x="77" y="379"/>
                    </a:lnTo>
                    <a:lnTo>
                      <a:pt x="56" y="303"/>
                    </a:lnTo>
                    <a:lnTo>
                      <a:pt x="38" y="233"/>
                    </a:lnTo>
                    <a:lnTo>
                      <a:pt x="25" y="170"/>
                    </a:lnTo>
                    <a:lnTo>
                      <a:pt x="15" y="116"/>
                    </a:lnTo>
                    <a:lnTo>
                      <a:pt x="3" y="39"/>
                    </a:lnTo>
                    <a:lnTo>
                      <a:pt x="0" y="12"/>
                    </a:lnTo>
                    <a:lnTo>
                      <a:pt x="19" y="10"/>
                    </a:lnTo>
                    <a:lnTo>
                      <a:pt x="69" y="4"/>
                    </a:lnTo>
                    <a:lnTo>
                      <a:pt x="104" y="1"/>
                    </a:lnTo>
                    <a:lnTo>
                      <a:pt x="143" y="0"/>
                    </a:lnTo>
                    <a:lnTo>
                      <a:pt x="187" y="0"/>
                    </a:lnTo>
                    <a:lnTo>
                      <a:pt x="234" y="3"/>
                    </a:lnTo>
                    <a:lnTo>
                      <a:pt x="259" y="5"/>
                    </a:lnTo>
                    <a:lnTo>
                      <a:pt x="283" y="7"/>
                    </a:lnTo>
                    <a:lnTo>
                      <a:pt x="309" y="11"/>
                    </a:lnTo>
                    <a:lnTo>
                      <a:pt x="335" y="16"/>
                    </a:lnTo>
                    <a:lnTo>
                      <a:pt x="360" y="22"/>
                    </a:lnTo>
                    <a:lnTo>
                      <a:pt x="385" y="28"/>
                    </a:lnTo>
                    <a:lnTo>
                      <a:pt x="410" y="36"/>
                    </a:lnTo>
                    <a:lnTo>
                      <a:pt x="436" y="44"/>
                    </a:lnTo>
                    <a:lnTo>
                      <a:pt x="460" y="54"/>
                    </a:lnTo>
                    <a:lnTo>
                      <a:pt x="484" y="65"/>
                    </a:lnTo>
                    <a:lnTo>
                      <a:pt x="507" y="79"/>
                    </a:lnTo>
                    <a:lnTo>
                      <a:pt x="531" y="92"/>
                    </a:lnTo>
                    <a:lnTo>
                      <a:pt x="553" y="108"/>
                    </a:lnTo>
                    <a:lnTo>
                      <a:pt x="574" y="126"/>
                    </a:lnTo>
                    <a:lnTo>
                      <a:pt x="593" y="144"/>
                    </a:lnTo>
                    <a:lnTo>
                      <a:pt x="612" y="165"/>
                    </a:lnTo>
                    <a:lnTo>
                      <a:pt x="630" y="188"/>
                    </a:lnTo>
                    <a:lnTo>
                      <a:pt x="652" y="219"/>
                    </a:lnTo>
                    <a:lnTo>
                      <a:pt x="676" y="255"/>
                    </a:lnTo>
                    <a:lnTo>
                      <a:pt x="702" y="297"/>
                    </a:lnTo>
                    <a:lnTo>
                      <a:pt x="730" y="342"/>
                    </a:lnTo>
                    <a:lnTo>
                      <a:pt x="761" y="394"/>
                    </a:lnTo>
                    <a:lnTo>
                      <a:pt x="793" y="448"/>
                    </a:lnTo>
                    <a:lnTo>
                      <a:pt x="826" y="506"/>
                    </a:lnTo>
                    <a:lnTo>
                      <a:pt x="896" y="632"/>
                    </a:lnTo>
                    <a:lnTo>
                      <a:pt x="970" y="768"/>
                    </a:lnTo>
                    <a:lnTo>
                      <a:pt x="1046" y="910"/>
                    </a:lnTo>
                    <a:lnTo>
                      <a:pt x="1122" y="1057"/>
                    </a:lnTo>
                    <a:lnTo>
                      <a:pt x="1197" y="1204"/>
                    </a:lnTo>
                    <a:lnTo>
                      <a:pt x="1270" y="1348"/>
                    </a:lnTo>
                    <a:lnTo>
                      <a:pt x="1339" y="1486"/>
                    </a:lnTo>
                    <a:lnTo>
                      <a:pt x="1403" y="1615"/>
                    </a:lnTo>
                    <a:lnTo>
                      <a:pt x="1458" y="1732"/>
                    </a:lnTo>
                    <a:lnTo>
                      <a:pt x="1505" y="1833"/>
                    </a:lnTo>
                    <a:lnTo>
                      <a:pt x="1542" y="1915"/>
                    </a:lnTo>
                    <a:lnTo>
                      <a:pt x="1568" y="1977"/>
                    </a:lnTo>
                    <a:lnTo>
                      <a:pt x="1576" y="2001"/>
                    </a:lnTo>
                    <a:lnTo>
                      <a:pt x="1585" y="2026"/>
                    </a:lnTo>
                    <a:lnTo>
                      <a:pt x="1592" y="2051"/>
                    </a:lnTo>
                    <a:lnTo>
                      <a:pt x="1597" y="2075"/>
                    </a:lnTo>
                    <a:lnTo>
                      <a:pt x="1602" y="2098"/>
                    </a:lnTo>
                    <a:lnTo>
                      <a:pt x="1606" y="2122"/>
                    </a:lnTo>
                    <a:lnTo>
                      <a:pt x="1608" y="2144"/>
                    </a:lnTo>
                    <a:lnTo>
                      <a:pt x="1609" y="2166"/>
                    </a:lnTo>
                    <a:lnTo>
                      <a:pt x="1611" y="2188"/>
                    </a:lnTo>
                    <a:lnTo>
                      <a:pt x="1609" y="2209"/>
                    </a:lnTo>
                    <a:lnTo>
                      <a:pt x="1608" y="2229"/>
                    </a:lnTo>
                    <a:lnTo>
                      <a:pt x="1606" y="2247"/>
                    </a:lnTo>
                    <a:lnTo>
                      <a:pt x="1602" y="2266"/>
                    </a:lnTo>
                    <a:lnTo>
                      <a:pt x="1597" y="2282"/>
                    </a:lnTo>
                    <a:lnTo>
                      <a:pt x="1591" y="2298"/>
                    </a:lnTo>
                    <a:lnTo>
                      <a:pt x="1585" y="2311"/>
                    </a:lnTo>
                    <a:lnTo>
                      <a:pt x="1577" y="2325"/>
                    </a:lnTo>
                    <a:lnTo>
                      <a:pt x="1569" y="2336"/>
                    </a:lnTo>
                    <a:lnTo>
                      <a:pt x="1559" y="2346"/>
                    </a:lnTo>
                    <a:lnTo>
                      <a:pt x="1549" y="2354"/>
                    </a:lnTo>
                    <a:lnTo>
                      <a:pt x="1538" y="2362"/>
                    </a:lnTo>
                    <a:lnTo>
                      <a:pt x="1526" y="2367"/>
                    </a:lnTo>
                    <a:lnTo>
                      <a:pt x="1512" y="2370"/>
                    </a:lnTo>
                    <a:lnTo>
                      <a:pt x="1499" y="2372"/>
                    </a:lnTo>
                    <a:lnTo>
                      <a:pt x="1484" y="2370"/>
                    </a:lnTo>
                    <a:lnTo>
                      <a:pt x="1468" y="2368"/>
                    </a:lnTo>
                    <a:lnTo>
                      <a:pt x="1451" y="2363"/>
                    </a:lnTo>
                    <a:lnTo>
                      <a:pt x="1434" y="2357"/>
                    </a:lnTo>
                    <a:lnTo>
                      <a:pt x="1415" y="2347"/>
                    </a:lnTo>
                    <a:lnTo>
                      <a:pt x="1397" y="2336"/>
                    </a:lnTo>
                    <a:lnTo>
                      <a:pt x="1377" y="2321"/>
                    </a:lnTo>
                    <a:lnTo>
                      <a:pt x="1356" y="2305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148440" y="2851200"/>
                <a:ext cx="495360" cy="719280"/>
              </a:xfrm>
              <a:custGeom>
                <a:avLst/>
                <a:gdLst/>
                <a:ahLst/>
                <a:rect l="l" t="t" r="r" b="b"/>
                <a:pathLst>
                  <a:path w="1563" h="2266">
                    <a:moveTo>
                      <a:pt x="1317" y="2203"/>
                    </a:moveTo>
                    <a:lnTo>
                      <a:pt x="1297" y="2185"/>
                    </a:lnTo>
                    <a:lnTo>
                      <a:pt x="1274" y="2163"/>
                    </a:lnTo>
                    <a:lnTo>
                      <a:pt x="1250" y="2139"/>
                    </a:lnTo>
                    <a:lnTo>
                      <a:pt x="1225" y="2114"/>
                    </a:lnTo>
                    <a:lnTo>
                      <a:pt x="1199" y="2084"/>
                    </a:lnTo>
                    <a:lnTo>
                      <a:pt x="1172" y="2053"/>
                    </a:lnTo>
                    <a:lnTo>
                      <a:pt x="1145" y="2020"/>
                    </a:lnTo>
                    <a:lnTo>
                      <a:pt x="1117" y="1986"/>
                    </a:lnTo>
                    <a:lnTo>
                      <a:pt x="1058" y="1911"/>
                    </a:lnTo>
                    <a:lnTo>
                      <a:pt x="996" y="1831"/>
                    </a:lnTo>
                    <a:lnTo>
                      <a:pt x="935" y="1747"/>
                    </a:lnTo>
                    <a:lnTo>
                      <a:pt x="872" y="1661"/>
                    </a:lnTo>
                    <a:lnTo>
                      <a:pt x="747" y="1486"/>
                    </a:lnTo>
                    <a:lnTo>
                      <a:pt x="628" y="1318"/>
                    </a:lnTo>
                    <a:lnTo>
                      <a:pt x="523" y="1168"/>
                    </a:lnTo>
                    <a:lnTo>
                      <a:pt x="434" y="1046"/>
                    </a:lnTo>
                    <a:lnTo>
                      <a:pt x="405" y="1005"/>
                    </a:lnTo>
                    <a:lnTo>
                      <a:pt x="376" y="964"/>
                    </a:lnTo>
                    <a:lnTo>
                      <a:pt x="348" y="922"/>
                    </a:lnTo>
                    <a:lnTo>
                      <a:pt x="322" y="879"/>
                    </a:lnTo>
                    <a:lnTo>
                      <a:pt x="298" y="836"/>
                    </a:lnTo>
                    <a:lnTo>
                      <a:pt x="273" y="793"/>
                    </a:lnTo>
                    <a:lnTo>
                      <a:pt x="251" y="748"/>
                    </a:lnTo>
                    <a:lnTo>
                      <a:pt x="229" y="705"/>
                    </a:lnTo>
                    <a:lnTo>
                      <a:pt x="209" y="661"/>
                    </a:lnTo>
                    <a:lnTo>
                      <a:pt x="189" y="618"/>
                    </a:lnTo>
                    <a:lnTo>
                      <a:pt x="171" y="575"/>
                    </a:lnTo>
                    <a:lnTo>
                      <a:pt x="154" y="533"/>
                    </a:lnTo>
                    <a:lnTo>
                      <a:pt x="122" y="449"/>
                    </a:lnTo>
                    <a:lnTo>
                      <a:pt x="95" y="371"/>
                    </a:lnTo>
                    <a:lnTo>
                      <a:pt x="71" y="297"/>
                    </a:lnTo>
                    <a:lnTo>
                      <a:pt x="51" y="229"/>
                    </a:lnTo>
                    <a:lnTo>
                      <a:pt x="34" y="169"/>
                    </a:lnTo>
                    <a:lnTo>
                      <a:pt x="22" y="117"/>
                    </a:lnTo>
                    <a:lnTo>
                      <a:pt x="5" y="44"/>
                    </a:lnTo>
                    <a:lnTo>
                      <a:pt x="0" y="16"/>
                    </a:lnTo>
                    <a:lnTo>
                      <a:pt x="18" y="13"/>
                    </a:lnTo>
                    <a:lnTo>
                      <a:pt x="69" y="7"/>
                    </a:lnTo>
                    <a:lnTo>
                      <a:pt x="103" y="3"/>
                    </a:lnTo>
                    <a:lnTo>
                      <a:pt x="144" y="2"/>
                    </a:lnTo>
                    <a:lnTo>
                      <a:pt x="187" y="0"/>
                    </a:lnTo>
                    <a:lnTo>
                      <a:pt x="234" y="2"/>
                    </a:lnTo>
                    <a:lnTo>
                      <a:pt x="258" y="3"/>
                    </a:lnTo>
                    <a:lnTo>
                      <a:pt x="283" y="5"/>
                    </a:lnTo>
                    <a:lnTo>
                      <a:pt x="307" y="8"/>
                    </a:lnTo>
                    <a:lnTo>
                      <a:pt x="333" y="12"/>
                    </a:lnTo>
                    <a:lnTo>
                      <a:pt x="358" y="16"/>
                    </a:lnTo>
                    <a:lnTo>
                      <a:pt x="384" y="23"/>
                    </a:lnTo>
                    <a:lnTo>
                      <a:pt x="408" y="29"/>
                    </a:lnTo>
                    <a:lnTo>
                      <a:pt x="433" y="37"/>
                    </a:lnTo>
                    <a:lnTo>
                      <a:pt x="457" y="46"/>
                    </a:lnTo>
                    <a:lnTo>
                      <a:pt x="481" y="56"/>
                    </a:lnTo>
                    <a:lnTo>
                      <a:pt x="503" y="68"/>
                    </a:lnTo>
                    <a:lnTo>
                      <a:pt x="525" y="82"/>
                    </a:lnTo>
                    <a:lnTo>
                      <a:pt x="546" y="96"/>
                    </a:lnTo>
                    <a:lnTo>
                      <a:pt x="567" y="112"/>
                    </a:lnTo>
                    <a:lnTo>
                      <a:pt x="585" y="130"/>
                    </a:lnTo>
                    <a:lnTo>
                      <a:pt x="603" y="149"/>
                    </a:lnTo>
                    <a:lnTo>
                      <a:pt x="621" y="173"/>
                    </a:lnTo>
                    <a:lnTo>
                      <a:pt x="642" y="202"/>
                    </a:lnTo>
                    <a:lnTo>
                      <a:pt x="665" y="237"/>
                    </a:lnTo>
                    <a:lnTo>
                      <a:pt x="690" y="276"/>
                    </a:lnTo>
                    <a:lnTo>
                      <a:pt x="747" y="369"/>
                    </a:lnTo>
                    <a:lnTo>
                      <a:pt x="809" y="478"/>
                    </a:lnTo>
                    <a:lnTo>
                      <a:pt x="877" y="598"/>
                    </a:lnTo>
                    <a:lnTo>
                      <a:pt x="948" y="729"/>
                    </a:lnTo>
                    <a:lnTo>
                      <a:pt x="1021" y="866"/>
                    </a:lnTo>
                    <a:lnTo>
                      <a:pt x="1095" y="1007"/>
                    </a:lnTo>
                    <a:lnTo>
                      <a:pt x="1167" y="1148"/>
                    </a:lnTo>
                    <a:lnTo>
                      <a:pt x="1237" y="1286"/>
                    </a:lnTo>
                    <a:lnTo>
                      <a:pt x="1304" y="1419"/>
                    </a:lnTo>
                    <a:lnTo>
                      <a:pt x="1364" y="1543"/>
                    </a:lnTo>
                    <a:lnTo>
                      <a:pt x="1418" y="1655"/>
                    </a:lnTo>
                    <a:lnTo>
                      <a:pt x="1464" y="1752"/>
                    </a:lnTo>
                    <a:lnTo>
                      <a:pt x="1500" y="1832"/>
                    </a:lnTo>
                    <a:lnTo>
                      <a:pt x="1524" y="1891"/>
                    </a:lnTo>
                    <a:lnTo>
                      <a:pt x="1533" y="1914"/>
                    </a:lnTo>
                    <a:lnTo>
                      <a:pt x="1540" y="1938"/>
                    </a:lnTo>
                    <a:lnTo>
                      <a:pt x="1546" y="1961"/>
                    </a:lnTo>
                    <a:lnTo>
                      <a:pt x="1552" y="1984"/>
                    </a:lnTo>
                    <a:lnTo>
                      <a:pt x="1556" y="2007"/>
                    </a:lnTo>
                    <a:lnTo>
                      <a:pt x="1560" y="2029"/>
                    </a:lnTo>
                    <a:lnTo>
                      <a:pt x="1562" y="2051"/>
                    </a:lnTo>
                    <a:lnTo>
                      <a:pt x="1563" y="2072"/>
                    </a:lnTo>
                    <a:lnTo>
                      <a:pt x="1563" y="2091"/>
                    </a:lnTo>
                    <a:lnTo>
                      <a:pt x="1563" y="2111"/>
                    </a:lnTo>
                    <a:lnTo>
                      <a:pt x="1561" y="2131"/>
                    </a:lnTo>
                    <a:lnTo>
                      <a:pt x="1559" y="2148"/>
                    </a:lnTo>
                    <a:lnTo>
                      <a:pt x="1555" y="2165"/>
                    </a:lnTo>
                    <a:lnTo>
                      <a:pt x="1551" y="2181"/>
                    </a:lnTo>
                    <a:lnTo>
                      <a:pt x="1545" y="2196"/>
                    </a:lnTo>
                    <a:lnTo>
                      <a:pt x="1539" y="2210"/>
                    </a:lnTo>
                    <a:lnTo>
                      <a:pt x="1531" y="2222"/>
                    </a:lnTo>
                    <a:lnTo>
                      <a:pt x="1523" y="2233"/>
                    </a:lnTo>
                    <a:lnTo>
                      <a:pt x="1514" y="2243"/>
                    </a:lnTo>
                    <a:lnTo>
                      <a:pt x="1504" y="2250"/>
                    </a:lnTo>
                    <a:lnTo>
                      <a:pt x="1493" y="2258"/>
                    </a:lnTo>
                    <a:lnTo>
                      <a:pt x="1481" y="2262"/>
                    </a:lnTo>
                    <a:lnTo>
                      <a:pt x="1469" y="2265"/>
                    </a:lnTo>
                    <a:lnTo>
                      <a:pt x="1455" y="2266"/>
                    </a:lnTo>
                    <a:lnTo>
                      <a:pt x="1440" y="2266"/>
                    </a:lnTo>
                    <a:lnTo>
                      <a:pt x="1426" y="2264"/>
                    </a:lnTo>
                    <a:lnTo>
                      <a:pt x="1410" y="2259"/>
                    </a:lnTo>
                    <a:lnTo>
                      <a:pt x="1392" y="2253"/>
                    </a:lnTo>
                    <a:lnTo>
                      <a:pt x="1375" y="2243"/>
                    </a:lnTo>
                    <a:lnTo>
                      <a:pt x="1357" y="2232"/>
                    </a:lnTo>
                    <a:lnTo>
                      <a:pt x="1337" y="2218"/>
                    </a:lnTo>
                    <a:lnTo>
                      <a:pt x="1317" y="2203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6151680" y="2853000"/>
                <a:ext cx="482400" cy="687240"/>
              </a:xfrm>
              <a:custGeom>
                <a:avLst/>
                <a:gdLst/>
                <a:ahLst/>
                <a:rect l="l" t="t" r="r" b="b"/>
                <a:pathLst>
                  <a:path w="1519" h="2164">
                    <a:moveTo>
                      <a:pt x="1284" y="2104"/>
                    </a:moveTo>
                    <a:lnTo>
                      <a:pt x="1265" y="2086"/>
                    </a:lnTo>
                    <a:lnTo>
                      <a:pt x="1242" y="2066"/>
                    </a:lnTo>
                    <a:lnTo>
                      <a:pt x="1220" y="2043"/>
                    </a:lnTo>
                    <a:lnTo>
                      <a:pt x="1196" y="2017"/>
                    </a:lnTo>
                    <a:lnTo>
                      <a:pt x="1145" y="1960"/>
                    </a:lnTo>
                    <a:lnTo>
                      <a:pt x="1091" y="1895"/>
                    </a:lnTo>
                    <a:lnTo>
                      <a:pt x="1033" y="1824"/>
                    </a:lnTo>
                    <a:lnTo>
                      <a:pt x="974" y="1747"/>
                    </a:lnTo>
                    <a:lnTo>
                      <a:pt x="914" y="1668"/>
                    </a:lnTo>
                    <a:lnTo>
                      <a:pt x="854" y="1585"/>
                    </a:lnTo>
                    <a:lnTo>
                      <a:pt x="733" y="1418"/>
                    </a:lnTo>
                    <a:lnTo>
                      <a:pt x="620" y="1257"/>
                    </a:lnTo>
                    <a:lnTo>
                      <a:pt x="519" y="1112"/>
                    </a:lnTo>
                    <a:lnTo>
                      <a:pt x="437" y="992"/>
                    </a:lnTo>
                    <a:lnTo>
                      <a:pt x="411" y="957"/>
                    </a:lnTo>
                    <a:lnTo>
                      <a:pt x="386" y="918"/>
                    </a:lnTo>
                    <a:lnTo>
                      <a:pt x="362" y="880"/>
                    </a:lnTo>
                    <a:lnTo>
                      <a:pt x="338" y="842"/>
                    </a:lnTo>
                    <a:lnTo>
                      <a:pt x="315" y="802"/>
                    </a:lnTo>
                    <a:lnTo>
                      <a:pt x="293" y="762"/>
                    </a:lnTo>
                    <a:lnTo>
                      <a:pt x="272" y="722"/>
                    </a:lnTo>
                    <a:lnTo>
                      <a:pt x="251" y="680"/>
                    </a:lnTo>
                    <a:lnTo>
                      <a:pt x="231" y="639"/>
                    </a:lnTo>
                    <a:lnTo>
                      <a:pt x="211" y="599"/>
                    </a:lnTo>
                    <a:lnTo>
                      <a:pt x="193" y="558"/>
                    </a:lnTo>
                    <a:lnTo>
                      <a:pt x="176" y="517"/>
                    </a:lnTo>
                    <a:lnTo>
                      <a:pt x="143" y="439"/>
                    </a:lnTo>
                    <a:lnTo>
                      <a:pt x="113" y="364"/>
                    </a:lnTo>
                    <a:lnTo>
                      <a:pt x="87" y="292"/>
                    </a:lnTo>
                    <a:lnTo>
                      <a:pt x="64" y="227"/>
                    </a:lnTo>
                    <a:lnTo>
                      <a:pt x="44" y="169"/>
                    </a:lnTo>
                    <a:lnTo>
                      <a:pt x="28" y="119"/>
                    </a:lnTo>
                    <a:lnTo>
                      <a:pt x="7" y="46"/>
                    </a:lnTo>
                    <a:lnTo>
                      <a:pt x="0" y="21"/>
                    </a:lnTo>
                    <a:lnTo>
                      <a:pt x="18" y="17"/>
                    </a:lnTo>
                    <a:lnTo>
                      <a:pt x="69" y="9"/>
                    </a:lnTo>
                    <a:lnTo>
                      <a:pt x="103" y="5"/>
                    </a:lnTo>
                    <a:lnTo>
                      <a:pt x="144" y="2"/>
                    </a:lnTo>
                    <a:lnTo>
                      <a:pt x="188" y="0"/>
                    </a:lnTo>
                    <a:lnTo>
                      <a:pt x="235" y="0"/>
                    </a:lnTo>
                    <a:lnTo>
                      <a:pt x="258" y="1"/>
                    </a:lnTo>
                    <a:lnTo>
                      <a:pt x="284" y="2"/>
                    </a:lnTo>
                    <a:lnTo>
                      <a:pt x="309" y="5"/>
                    </a:lnTo>
                    <a:lnTo>
                      <a:pt x="333" y="8"/>
                    </a:lnTo>
                    <a:lnTo>
                      <a:pt x="359" y="12"/>
                    </a:lnTo>
                    <a:lnTo>
                      <a:pt x="384" y="17"/>
                    </a:lnTo>
                    <a:lnTo>
                      <a:pt x="408" y="23"/>
                    </a:lnTo>
                    <a:lnTo>
                      <a:pt x="433" y="30"/>
                    </a:lnTo>
                    <a:lnTo>
                      <a:pt x="456" y="39"/>
                    </a:lnTo>
                    <a:lnTo>
                      <a:pt x="480" y="49"/>
                    </a:lnTo>
                    <a:lnTo>
                      <a:pt x="503" y="60"/>
                    </a:lnTo>
                    <a:lnTo>
                      <a:pt x="524" y="72"/>
                    </a:lnTo>
                    <a:lnTo>
                      <a:pt x="545" y="86"/>
                    </a:lnTo>
                    <a:lnTo>
                      <a:pt x="565" y="102"/>
                    </a:lnTo>
                    <a:lnTo>
                      <a:pt x="583" y="118"/>
                    </a:lnTo>
                    <a:lnTo>
                      <a:pt x="600" y="137"/>
                    </a:lnTo>
                    <a:lnTo>
                      <a:pt x="617" y="160"/>
                    </a:lnTo>
                    <a:lnTo>
                      <a:pt x="637" y="187"/>
                    </a:lnTo>
                    <a:lnTo>
                      <a:pt x="659" y="220"/>
                    </a:lnTo>
                    <a:lnTo>
                      <a:pt x="684" y="258"/>
                    </a:lnTo>
                    <a:lnTo>
                      <a:pt x="738" y="346"/>
                    </a:lnTo>
                    <a:lnTo>
                      <a:pt x="798" y="450"/>
                    </a:lnTo>
                    <a:lnTo>
                      <a:pt x="862" y="565"/>
                    </a:lnTo>
                    <a:lnTo>
                      <a:pt x="930" y="691"/>
                    </a:lnTo>
                    <a:lnTo>
                      <a:pt x="1000" y="822"/>
                    </a:lnTo>
                    <a:lnTo>
                      <a:pt x="1070" y="957"/>
                    </a:lnTo>
                    <a:lnTo>
                      <a:pt x="1140" y="1092"/>
                    </a:lnTo>
                    <a:lnTo>
                      <a:pt x="1207" y="1223"/>
                    </a:lnTo>
                    <a:lnTo>
                      <a:pt x="1270" y="1351"/>
                    </a:lnTo>
                    <a:lnTo>
                      <a:pt x="1329" y="1469"/>
                    </a:lnTo>
                    <a:lnTo>
                      <a:pt x="1379" y="1578"/>
                    </a:lnTo>
                    <a:lnTo>
                      <a:pt x="1423" y="1671"/>
                    </a:lnTo>
                    <a:lnTo>
                      <a:pt x="1457" y="1747"/>
                    </a:lnTo>
                    <a:lnTo>
                      <a:pt x="1480" y="1805"/>
                    </a:lnTo>
                    <a:lnTo>
                      <a:pt x="1489" y="1827"/>
                    </a:lnTo>
                    <a:lnTo>
                      <a:pt x="1496" y="1850"/>
                    </a:lnTo>
                    <a:lnTo>
                      <a:pt x="1502" y="1872"/>
                    </a:lnTo>
                    <a:lnTo>
                      <a:pt x="1508" y="1894"/>
                    </a:lnTo>
                    <a:lnTo>
                      <a:pt x="1512" y="1915"/>
                    </a:lnTo>
                    <a:lnTo>
                      <a:pt x="1516" y="1936"/>
                    </a:lnTo>
                    <a:lnTo>
                      <a:pt x="1518" y="1957"/>
                    </a:lnTo>
                    <a:lnTo>
                      <a:pt x="1519" y="1976"/>
                    </a:lnTo>
                    <a:lnTo>
                      <a:pt x="1519" y="1996"/>
                    </a:lnTo>
                    <a:lnTo>
                      <a:pt x="1519" y="2016"/>
                    </a:lnTo>
                    <a:lnTo>
                      <a:pt x="1518" y="2033"/>
                    </a:lnTo>
                    <a:lnTo>
                      <a:pt x="1516" y="2050"/>
                    </a:lnTo>
                    <a:lnTo>
                      <a:pt x="1512" y="2066"/>
                    </a:lnTo>
                    <a:lnTo>
                      <a:pt x="1508" y="2082"/>
                    </a:lnTo>
                    <a:lnTo>
                      <a:pt x="1502" y="2096"/>
                    </a:lnTo>
                    <a:lnTo>
                      <a:pt x="1496" y="2109"/>
                    </a:lnTo>
                    <a:lnTo>
                      <a:pt x="1490" y="2121"/>
                    </a:lnTo>
                    <a:lnTo>
                      <a:pt x="1481" y="2131"/>
                    </a:lnTo>
                    <a:lnTo>
                      <a:pt x="1473" y="2141"/>
                    </a:lnTo>
                    <a:lnTo>
                      <a:pt x="1464" y="2148"/>
                    </a:lnTo>
                    <a:lnTo>
                      <a:pt x="1453" y="2155"/>
                    </a:lnTo>
                    <a:lnTo>
                      <a:pt x="1442" y="2160"/>
                    </a:lnTo>
                    <a:lnTo>
                      <a:pt x="1429" y="2162"/>
                    </a:lnTo>
                    <a:lnTo>
                      <a:pt x="1417" y="2164"/>
                    </a:lnTo>
                    <a:lnTo>
                      <a:pt x="1402" y="2163"/>
                    </a:lnTo>
                    <a:lnTo>
                      <a:pt x="1389" y="2161"/>
                    </a:lnTo>
                    <a:lnTo>
                      <a:pt x="1373" y="2157"/>
                    </a:lnTo>
                    <a:lnTo>
                      <a:pt x="1357" y="2151"/>
                    </a:lnTo>
                    <a:lnTo>
                      <a:pt x="1340" y="2142"/>
                    </a:lnTo>
                    <a:lnTo>
                      <a:pt x="1322" y="2131"/>
                    </a:lnTo>
                    <a:lnTo>
                      <a:pt x="1304" y="2119"/>
                    </a:lnTo>
                    <a:lnTo>
                      <a:pt x="1284" y="210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6156360" y="2854440"/>
                <a:ext cx="466560" cy="654120"/>
              </a:xfrm>
              <a:custGeom>
                <a:avLst/>
                <a:gdLst/>
                <a:ahLst/>
                <a:rect l="l" t="t" r="r" b="b"/>
                <a:pathLst>
                  <a:path w="1473" h="2060">
                    <a:moveTo>
                      <a:pt x="1250" y="2002"/>
                    </a:moveTo>
                    <a:lnTo>
                      <a:pt x="1231" y="1985"/>
                    </a:lnTo>
                    <a:lnTo>
                      <a:pt x="1210" y="1967"/>
                    </a:lnTo>
                    <a:lnTo>
                      <a:pt x="1188" y="1944"/>
                    </a:lnTo>
                    <a:lnTo>
                      <a:pt x="1164" y="1920"/>
                    </a:lnTo>
                    <a:lnTo>
                      <a:pt x="1115" y="1866"/>
                    </a:lnTo>
                    <a:lnTo>
                      <a:pt x="1063" y="1804"/>
                    </a:lnTo>
                    <a:lnTo>
                      <a:pt x="1008" y="1737"/>
                    </a:lnTo>
                    <a:lnTo>
                      <a:pt x="951" y="1664"/>
                    </a:lnTo>
                    <a:lnTo>
                      <a:pt x="894" y="1588"/>
                    </a:lnTo>
                    <a:lnTo>
                      <a:pt x="835" y="1509"/>
                    </a:lnTo>
                    <a:lnTo>
                      <a:pt x="777" y="1430"/>
                    </a:lnTo>
                    <a:lnTo>
                      <a:pt x="720" y="1350"/>
                    </a:lnTo>
                    <a:lnTo>
                      <a:pt x="665" y="1272"/>
                    </a:lnTo>
                    <a:lnTo>
                      <a:pt x="612" y="1197"/>
                    </a:lnTo>
                    <a:lnTo>
                      <a:pt x="517" y="1058"/>
                    </a:lnTo>
                    <a:lnTo>
                      <a:pt x="440" y="943"/>
                    </a:lnTo>
                    <a:lnTo>
                      <a:pt x="419" y="911"/>
                    </a:lnTo>
                    <a:lnTo>
                      <a:pt x="397" y="877"/>
                    </a:lnTo>
                    <a:lnTo>
                      <a:pt x="376" y="842"/>
                    </a:lnTo>
                    <a:lnTo>
                      <a:pt x="355" y="807"/>
                    </a:lnTo>
                    <a:lnTo>
                      <a:pt x="313" y="733"/>
                    </a:lnTo>
                    <a:lnTo>
                      <a:pt x="272" y="657"/>
                    </a:lnTo>
                    <a:lnTo>
                      <a:pt x="234" y="580"/>
                    </a:lnTo>
                    <a:lnTo>
                      <a:pt x="198" y="503"/>
                    </a:lnTo>
                    <a:lnTo>
                      <a:pt x="164" y="429"/>
                    </a:lnTo>
                    <a:lnTo>
                      <a:pt x="132" y="356"/>
                    </a:lnTo>
                    <a:lnTo>
                      <a:pt x="78" y="226"/>
                    </a:lnTo>
                    <a:lnTo>
                      <a:pt x="36" y="120"/>
                    </a:lnTo>
                    <a:lnTo>
                      <a:pt x="9" y="50"/>
                    </a:lnTo>
                    <a:lnTo>
                      <a:pt x="0" y="26"/>
                    </a:lnTo>
                    <a:lnTo>
                      <a:pt x="19" y="21"/>
                    </a:lnTo>
                    <a:lnTo>
                      <a:pt x="69" y="12"/>
                    </a:lnTo>
                    <a:lnTo>
                      <a:pt x="105" y="7"/>
                    </a:lnTo>
                    <a:lnTo>
                      <a:pt x="144" y="3"/>
                    </a:lnTo>
                    <a:lnTo>
                      <a:pt x="189" y="1"/>
                    </a:lnTo>
                    <a:lnTo>
                      <a:pt x="235" y="0"/>
                    </a:lnTo>
                    <a:lnTo>
                      <a:pt x="260" y="0"/>
                    </a:lnTo>
                    <a:lnTo>
                      <a:pt x="285" y="1"/>
                    </a:lnTo>
                    <a:lnTo>
                      <a:pt x="309" y="2"/>
                    </a:lnTo>
                    <a:lnTo>
                      <a:pt x="334" y="5"/>
                    </a:lnTo>
                    <a:lnTo>
                      <a:pt x="358" y="8"/>
                    </a:lnTo>
                    <a:lnTo>
                      <a:pt x="383" y="12"/>
                    </a:lnTo>
                    <a:lnTo>
                      <a:pt x="408" y="17"/>
                    </a:lnTo>
                    <a:lnTo>
                      <a:pt x="432" y="24"/>
                    </a:lnTo>
                    <a:lnTo>
                      <a:pt x="456" y="32"/>
                    </a:lnTo>
                    <a:lnTo>
                      <a:pt x="479" y="40"/>
                    </a:lnTo>
                    <a:lnTo>
                      <a:pt x="501" y="50"/>
                    </a:lnTo>
                    <a:lnTo>
                      <a:pt x="522" y="61"/>
                    </a:lnTo>
                    <a:lnTo>
                      <a:pt x="542" y="75"/>
                    </a:lnTo>
                    <a:lnTo>
                      <a:pt x="561" y="90"/>
                    </a:lnTo>
                    <a:lnTo>
                      <a:pt x="579" y="106"/>
                    </a:lnTo>
                    <a:lnTo>
                      <a:pt x="595" y="123"/>
                    </a:lnTo>
                    <a:lnTo>
                      <a:pt x="612" y="144"/>
                    </a:lnTo>
                    <a:lnTo>
                      <a:pt x="630" y="171"/>
                    </a:lnTo>
                    <a:lnTo>
                      <a:pt x="652" y="203"/>
                    </a:lnTo>
                    <a:lnTo>
                      <a:pt x="675" y="238"/>
                    </a:lnTo>
                    <a:lnTo>
                      <a:pt x="726" y="323"/>
                    </a:lnTo>
                    <a:lnTo>
                      <a:pt x="784" y="423"/>
                    </a:lnTo>
                    <a:lnTo>
                      <a:pt x="846" y="534"/>
                    </a:lnTo>
                    <a:lnTo>
                      <a:pt x="911" y="654"/>
                    </a:lnTo>
                    <a:lnTo>
                      <a:pt x="977" y="780"/>
                    </a:lnTo>
                    <a:lnTo>
                      <a:pt x="1045" y="908"/>
                    </a:lnTo>
                    <a:lnTo>
                      <a:pt x="1111" y="1037"/>
                    </a:lnTo>
                    <a:lnTo>
                      <a:pt x="1175" y="1163"/>
                    </a:lnTo>
                    <a:lnTo>
                      <a:pt x="1236" y="1285"/>
                    </a:lnTo>
                    <a:lnTo>
                      <a:pt x="1291" y="1398"/>
                    </a:lnTo>
                    <a:lnTo>
                      <a:pt x="1340" y="1502"/>
                    </a:lnTo>
                    <a:lnTo>
                      <a:pt x="1382" y="1590"/>
                    </a:lnTo>
                    <a:lnTo>
                      <a:pt x="1415" y="1664"/>
                    </a:lnTo>
                    <a:lnTo>
                      <a:pt x="1437" y="1717"/>
                    </a:lnTo>
                    <a:lnTo>
                      <a:pt x="1445" y="1739"/>
                    </a:lnTo>
                    <a:lnTo>
                      <a:pt x="1452" y="1760"/>
                    </a:lnTo>
                    <a:lnTo>
                      <a:pt x="1457" y="1782"/>
                    </a:lnTo>
                    <a:lnTo>
                      <a:pt x="1462" y="1803"/>
                    </a:lnTo>
                    <a:lnTo>
                      <a:pt x="1466" y="1824"/>
                    </a:lnTo>
                    <a:lnTo>
                      <a:pt x="1469" y="1844"/>
                    </a:lnTo>
                    <a:lnTo>
                      <a:pt x="1472" y="1863"/>
                    </a:lnTo>
                    <a:lnTo>
                      <a:pt x="1473" y="1883"/>
                    </a:lnTo>
                    <a:lnTo>
                      <a:pt x="1473" y="1901"/>
                    </a:lnTo>
                    <a:lnTo>
                      <a:pt x="1472" y="1919"/>
                    </a:lnTo>
                    <a:lnTo>
                      <a:pt x="1471" y="1936"/>
                    </a:lnTo>
                    <a:lnTo>
                      <a:pt x="1468" y="1953"/>
                    </a:lnTo>
                    <a:lnTo>
                      <a:pt x="1466" y="1968"/>
                    </a:lnTo>
                    <a:lnTo>
                      <a:pt x="1461" y="1983"/>
                    </a:lnTo>
                    <a:lnTo>
                      <a:pt x="1456" y="1996"/>
                    </a:lnTo>
                    <a:lnTo>
                      <a:pt x="1451" y="2008"/>
                    </a:lnTo>
                    <a:lnTo>
                      <a:pt x="1444" y="2019"/>
                    </a:lnTo>
                    <a:lnTo>
                      <a:pt x="1436" y="2029"/>
                    </a:lnTo>
                    <a:lnTo>
                      <a:pt x="1429" y="2039"/>
                    </a:lnTo>
                    <a:lnTo>
                      <a:pt x="1419" y="2046"/>
                    </a:lnTo>
                    <a:lnTo>
                      <a:pt x="1409" y="2051"/>
                    </a:lnTo>
                    <a:lnTo>
                      <a:pt x="1399" y="2056"/>
                    </a:lnTo>
                    <a:lnTo>
                      <a:pt x="1387" y="2059"/>
                    </a:lnTo>
                    <a:lnTo>
                      <a:pt x="1375" y="2060"/>
                    </a:lnTo>
                    <a:lnTo>
                      <a:pt x="1362" y="2060"/>
                    </a:lnTo>
                    <a:lnTo>
                      <a:pt x="1349" y="2058"/>
                    </a:lnTo>
                    <a:lnTo>
                      <a:pt x="1334" y="2054"/>
                    </a:lnTo>
                    <a:lnTo>
                      <a:pt x="1318" y="2048"/>
                    </a:lnTo>
                    <a:lnTo>
                      <a:pt x="1302" y="2039"/>
                    </a:lnTo>
                    <a:lnTo>
                      <a:pt x="1286" y="2029"/>
                    </a:lnTo>
                    <a:lnTo>
                      <a:pt x="1268" y="2017"/>
                    </a:lnTo>
                    <a:lnTo>
                      <a:pt x="1250" y="2002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6159600" y="2855880"/>
                <a:ext cx="453960" cy="622440"/>
              </a:xfrm>
              <a:custGeom>
                <a:avLst/>
                <a:gdLst/>
                <a:ahLst/>
                <a:rect l="l" t="t" r="r" b="b"/>
                <a:pathLst>
                  <a:path w="1426" h="1961">
                    <a:moveTo>
                      <a:pt x="1212" y="1907"/>
                    </a:moveTo>
                    <a:lnTo>
                      <a:pt x="1193" y="1891"/>
                    </a:lnTo>
                    <a:lnTo>
                      <a:pt x="1174" y="1873"/>
                    </a:lnTo>
                    <a:lnTo>
                      <a:pt x="1153" y="1852"/>
                    </a:lnTo>
                    <a:lnTo>
                      <a:pt x="1131" y="1829"/>
                    </a:lnTo>
                    <a:lnTo>
                      <a:pt x="1083" y="1778"/>
                    </a:lnTo>
                    <a:lnTo>
                      <a:pt x="1032" y="1719"/>
                    </a:lnTo>
                    <a:lnTo>
                      <a:pt x="980" y="1655"/>
                    </a:lnTo>
                    <a:lnTo>
                      <a:pt x="925" y="1586"/>
                    </a:lnTo>
                    <a:lnTo>
                      <a:pt x="870" y="1513"/>
                    </a:lnTo>
                    <a:lnTo>
                      <a:pt x="813" y="1438"/>
                    </a:lnTo>
                    <a:lnTo>
                      <a:pt x="758" y="1362"/>
                    </a:lnTo>
                    <a:lnTo>
                      <a:pt x="702" y="1286"/>
                    </a:lnTo>
                    <a:lnTo>
                      <a:pt x="651" y="1212"/>
                    </a:lnTo>
                    <a:lnTo>
                      <a:pt x="600" y="1139"/>
                    </a:lnTo>
                    <a:lnTo>
                      <a:pt x="554" y="1069"/>
                    </a:lnTo>
                    <a:lnTo>
                      <a:pt x="511" y="1005"/>
                    </a:lnTo>
                    <a:lnTo>
                      <a:pt x="472" y="946"/>
                    </a:lnTo>
                    <a:lnTo>
                      <a:pt x="440" y="893"/>
                    </a:lnTo>
                    <a:lnTo>
                      <a:pt x="403" y="836"/>
                    </a:lnTo>
                    <a:lnTo>
                      <a:pt x="367" y="773"/>
                    </a:lnTo>
                    <a:lnTo>
                      <a:pt x="330" y="705"/>
                    </a:lnTo>
                    <a:lnTo>
                      <a:pt x="292" y="635"/>
                    </a:lnTo>
                    <a:lnTo>
                      <a:pt x="255" y="564"/>
                    </a:lnTo>
                    <a:lnTo>
                      <a:pt x="218" y="492"/>
                    </a:lnTo>
                    <a:lnTo>
                      <a:pt x="183" y="422"/>
                    </a:lnTo>
                    <a:lnTo>
                      <a:pt x="149" y="353"/>
                    </a:lnTo>
                    <a:lnTo>
                      <a:pt x="90" y="228"/>
                    </a:lnTo>
                    <a:lnTo>
                      <a:pt x="42" y="126"/>
                    </a:lnTo>
                    <a:lnTo>
                      <a:pt x="11" y="58"/>
                    </a:lnTo>
                    <a:lnTo>
                      <a:pt x="0" y="32"/>
                    </a:lnTo>
                    <a:lnTo>
                      <a:pt x="18" y="29"/>
                    </a:lnTo>
                    <a:lnTo>
                      <a:pt x="69" y="19"/>
                    </a:lnTo>
                    <a:lnTo>
                      <a:pt x="105" y="13"/>
                    </a:lnTo>
                    <a:lnTo>
                      <a:pt x="144" y="8"/>
                    </a:lnTo>
                    <a:lnTo>
                      <a:pt x="188" y="3"/>
                    </a:lnTo>
                    <a:lnTo>
                      <a:pt x="235" y="0"/>
                    </a:lnTo>
                    <a:lnTo>
                      <a:pt x="258" y="0"/>
                    </a:lnTo>
                    <a:lnTo>
                      <a:pt x="283" y="0"/>
                    </a:lnTo>
                    <a:lnTo>
                      <a:pt x="308" y="2"/>
                    </a:lnTo>
                    <a:lnTo>
                      <a:pt x="332" y="3"/>
                    </a:lnTo>
                    <a:lnTo>
                      <a:pt x="357" y="5"/>
                    </a:lnTo>
                    <a:lnTo>
                      <a:pt x="381" y="9"/>
                    </a:lnTo>
                    <a:lnTo>
                      <a:pt x="406" y="14"/>
                    </a:lnTo>
                    <a:lnTo>
                      <a:pt x="429" y="19"/>
                    </a:lnTo>
                    <a:lnTo>
                      <a:pt x="453" y="26"/>
                    </a:lnTo>
                    <a:lnTo>
                      <a:pt x="475" y="34"/>
                    </a:lnTo>
                    <a:lnTo>
                      <a:pt x="497" y="44"/>
                    </a:lnTo>
                    <a:lnTo>
                      <a:pt x="518" y="53"/>
                    </a:lnTo>
                    <a:lnTo>
                      <a:pt x="538" y="66"/>
                    </a:lnTo>
                    <a:lnTo>
                      <a:pt x="556" y="79"/>
                    </a:lnTo>
                    <a:lnTo>
                      <a:pt x="573" y="95"/>
                    </a:lnTo>
                    <a:lnTo>
                      <a:pt x="589" y="111"/>
                    </a:lnTo>
                    <a:lnTo>
                      <a:pt x="605" y="132"/>
                    </a:lnTo>
                    <a:lnTo>
                      <a:pt x="624" y="158"/>
                    </a:lnTo>
                    <a:lnTo>
                      <a:pt x="643" y="187"/>
                    </a:lnTo>
                    <a:lnTo>
                      <a:pt x="666" y="223"/>
                    </a:lnTo>
                    <a:lnTo>
                      <a:pt x="715" y="304"/>
                    </a:lnTo>
                    <a:lnTo>
                      <a:pt x="769" y="399"/>
                    </a:lnTo>
                    <a:lnTo>
                      <a:pt x="828" y="505"/>
                    </a:lnTo>
                    <a:lnTo>
                      <a:pt x="889" y="618"/>
                    </a:lnTo>
                    <a:lnTo>
                      <a:pt x="953" y="738"/>
                    </a:lnTo>
                    <a:lnTo>
                      <a:pt x="1017" y="861"/>
                    </a:lnTo>
                    <a:lnTo>
                      <a:pt x="1080" y="984"/>
                    </a:lnTo>
                    <a:lnTo>
                      <a:pt x="1142" y="1105"/>
                    </a:lnTo>
                    <a:lnTo>
                      <a:pt x="1199" y="1221"/>
                    </a:lnTo>
                    <a:lnTo>
                      <a:pt x="1252" y="1329"/>
                    </a:lnTo>
                    <a:lnTo>
                      <a:pt x="1299" y="1427"/>
                    </a:lnTo>
                    <a:lnTo>
                      <a:pt x="1338" y="1512"/>
                    </a:lnTo>
                    <a:lnTo>
                      <a:pt x="1369" y="1581"/>
                    </a:lnTo>
                    <a:lnTo>
                      <a:pt x="1390" y="1633"/>
                    </a:lnTo>
                    <a:lnTo>
                      <a:pt x="1398" y="1654"/>
                    </a:lnTo>
                    <a:lnTo>
                      <a:pt x="1405" y="1673"/>
                    </a:lnTo>
                    <a:lnTo>
                      <a:pt x="1410" y="1694"/>
                    </a:lnTo>
                    <a:lnTo>
                      <a:pt x="1415" y="1714"/>
                    </a:lnTo>
                    <a:lnTo>
                      <a:pt x="1418" y="1734"/>
                    </a:lnTo>
                    <a:lnTo>
                      <a:pt x="1422" y="1753"/>
                    </a:lnTo>
                    <a:lnTo>
                      <a:pt x="1423" y="1772"/>
                    </a:lnTo>
                    <a:lnTo>
                      <a:pt x="1425" y="1790"/>
                    </a:lnTo>
                    <a:lnTo>
                      <a:pt x="1426" y="1809"/>
                    </a:lnTo>
                    <a:lnTo>
                      <a:pt x="1425" y="1826"/>
                    </a:lnTo>
                    <a:lnTo>
                      <a:pt x="1423" y="1842"/>
                    </a:lnTo>
                    <a:lnTo>
                      <a:pt x="1421" y="1858"/>
                    </a:lnTo>
                    <a:lnTo>
                      <a:pt x="1418" y="1873"/>
                    </a:lnTo>
                    <a:lnTo>
                      <a:pt x="1414" y="1886"/>
                    </a:lnTo>
                    <a:lnTo>
                      <a:pt x="1410" y="1900"/>
                    </a:lnTo>
                    <a:lnTo>
                      <a:pt x="1404" y="1912"/>
                    </a:lnTo>
                    <a:lnTo>
                      <a:pt x="1398" y="1923"/>
                    </a:lnTo>
                    <a:lnTo>
                      <a:pt x="1390" y="1932"/>
                    </a:lnTo>
                    <a:lnTo>
                      <a:pt x="1383" y="1940"/>
                    </a:lnTo>
                    <a:lnTo>
                      <a:pt x="1374" y="1948"/>
                    </a:lnTo>
                    <a:lnTo>
                      <a:pt x="1364" y="1954"/>
                    </a:lnTo>
                    <a:lnTo>
                      <a:pt x="1354" y="1957"/>
                    </a:lnTo>
                    <a:lnTo>
                      <a:pt x="1343" y="1960"/>
                    </a:lnTo>
                    <a:lnTo>
                      <a:pt x="1331" y="1961"/>
                    </a:lnTo>
                    <a:lnTo>
                      <a:pt x="1319" y="1961"/>
                    </a:lnTo>
                    <a:lnTo>
                      <a:pt x="1305" y="1959"/>
                    </a:lnTo>
                    <a:lnTo>
                      <a:pt x="1292" y="1955"/>
                    </a:lnTo>
                    <a:lnTo>
                      <a:pt x="1277" y="1950"/>
                    </a:lnTo>
                    <a:lnTo>
                      <a:pt x="1262" y="1941"/>
                    </a:lnTo>
                    <a:lnTo>
                      <a:pt x="1246" y="1933"/>
                    </a:lnTo>
                    <a:lnTo>
                      <a:pt x="1229" y="1920"/>
                    </a:lnTo>
                    <a:lnTo>
                      <a:pt x="1212" y="1907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6164280" y="2857680"/>
                <a:ext cx="438120" cy="590400"/>
              </a:xfrm>
              <a:custGeom>
                <a:avLst/>
                <a:gdLst/>
                <a:ahLst/>
                <a:rect l="l" t="t" r="r" b="b"/>
                <a:pathLst>
                  <a:path w="1380" h="1859">
                    <a:moveTo>
                      <a:pt x="0" y="39"/>
                    </a:moveTo>
                    <a:lnTo>
                      <a:pt x="14" y="63"/>
                    </a:lnTo>
                    <a:lnTo>
                      <a:pt x="50" y="130"/>
                    </a:lnTo>
                    <a:lnTo>
                      <a:pt x="103" y="228"/>
                    </a:lnTo>
                    <a:lnTo>
                      <a:pt x="169" y="347"/>
                    </a:lnTo>
                    <a:lnTo>
                      <a:pt x="240" y="479"/>
                    </a:lnTo>
                    <a:lnTo>
                      <a:pt x="314" y="613"/>
                    </a:lnTo>
                    <a:lnTo>
                      <a:pt x="383" y="738"/>
                    </a:lnTo>
                    <a:lnTo>
                      <a:pt x="443" y="845"/>
                    </a:lnTo>
                    <a:lnTo>
                      <a:pt x="472" y="896"/>
                    </a:lnTo>
                    <a:lnTo>
                      <a:pt x="507" y="952"/>
                    </a:lnTo>
                    <a:lnTo>
                      <a:pt x="547" y="1014"/>
                    </a:lnTo>
                    <a:lnTo>
                      <a:pt x="591" y="1080"/>
                    </a:lnTo>
                    <a:lnTo>
                      <a:pt x="638" y="1149"/>
                    </a:lnTo>
                    <a:lnTo>
                      <a:pt x="688" y="1221"/>
                    </a:lnTo>
                    <a:lnTo>
                      <a:pt x="740" y="1292"/>
                    </a:lnTo>
                    <a:lnTo>
                      <a:pt x="794" y="1364"/>
                    </a:lnTo>
                    <a:lnTo>
                      <a:pt x="847" y="1435"/>
                    </a:lnTo>
                    <a:lnTo>
                      <a:pt x="901" y="1503"/>
                    </a:lnTo>
                    <a:lnTo>
                      <a:pt x="954" y="1569"/>
                    </a:lnTo>
                    <a:lnTo>
                      <a:pt x="1004" y="1629"/>
                    </a:lnTo>
                    <a:lnTo>
                      <a:pt x="1054" y="1684"/>
                    </a:lnTo>
                    <a:lnTo>
                      <a:pt x="1099" y="1733"/>
                    </a:lnTo>
                    <a:lnTo>
                      <a:pt x="1120" y="1754"/>
                    </a:lnTo>
                    <a:lnTo>
                      <a:pt x="1140" y="1774"/>
                    </a:lnTo>
                    <a:lnTo>
                      <a:pt x="1159" y="1791"/>
                    </a:lnTo>
                    <a:lnTo>
                      <a:pt x="1177" y="1807"/>
                    </a:lnTo>
                    <a:lnTo>
                      <a:pt x="1193" y="1820"/>
                    </a:lnTo>
                    <a:lnTo>
                      <a:pt x="1209" y="1831"/>
                    </a:lnTo>
                    <a:lnTo>
                      <a:pt x="1225" y="1840"/>
                    </a:lnTo>
                    <a:lnTo>
                      <a:pt x="1238" y="1848"/>
                    </a:lnTo>
                    <a:lnTo>
                      <a:pt x="1253" y="1853"/>
                    </a:lnTo>
                    <a:lnTo>
                      <a:pt x="1265" y="1856"/>
                    </a:lnTo>
                    <a:lnTo>
                      <a:pt x="1279" y="1859"/>
                    </a:lnTo>
                    <a:lnTo>
                      <a:pt x="1290" y="1859"/>
                    </a:lnTo>
                    <a:lnTo>
                      <a:pt x="1301" y="1858"/>
                    </a:lnTo>
                    <a:lnTo>
                      <a:pt x="1312" y="1855"/>
                    </a:lnTo>
                    <a:lnTo>
                      <a:pt x="1322" y="1852"/>
                    </a:lnTo>
                    <a:lnTo>
                      <a:pt x="1330" y="1847"/>
                    </a:lnTo>
                    <a:lnTo>
                      <a:pt x="1339" y="1839"/>
                    </a:lnTo>
                    <a:lnTo>
                      <a:pt x="1346" y="1832"/>
                    </a:lnTo>
                    <a:lnTo>
                      <a:pt x="1353" y="1823"/>
                    </a:lnTo>
                    <a:lnTo>
                      <a:pt x="1359" y="1812"/>
                    </a:lnTo>
                    <a:lnTo>
                      <a:pt x="1365" y="1801"/>
                    </a:lnTo>
                    <a:lnTo>
                      <a:pt x="1369" y="1789"/>
                    </a:lnTo>
                    <a:lnTo>
                      <a:pt x="1372" y="1777"/>
                    </a:lnTo>
                    <a:lnTo>
                      <a:pt x="1376" y="1762"/>
                    </a:lnTo>
                    <a:lnTo>
                      <a:pt x="1377" y="1747"/>
                    </a:lnTo>
                    <a:lnTo>
                      <a:pt x="1380" y="1732"/>
                    </a:lnTo>
                    <a:lnTo>
                      <a:pt x="1380" y="1715"/>
                    </a:lnTo>
                    <a:lnTo>
                      <a:pt x="1380" y="1699"/>
                    </a:lnTo>
                    <a:lnTo>
                      <a:pt x="1378" y="1682"/>
                    </a:lnTo>
                    <a:lnTo>
                      <a:pt x="1377" y="1663"/>
                    </a:lnTo>
                    <a:lnTo>
                      <a:pt x="1373" y="1645"/>
                    </a:lnTo>
                    <a:lnTo>
                      <a:pt x="1371" y="1626"/>
                    </a:lnTo>
                    <a:lnTo>
                      <a:pt x="1366" y="1607"/>
                    </a:lnTo>
                    <a:lnTo>
                      <a:pt x="1361" y="1588"/>
                    </a:lnTo>
                    <a:lnTo>
                      <a:pt x="1355" y="1569"/>
                    </a:lnTo>
                    <a:lnTo>
                      <a:pt x="1348" y="1549"/>
                    </a:lnTo>
                    <a:lnTo>
                      <a:pt x="1328" y="1500"/>
                    </a:lnTo>
                    <a:lnTo>
                      <a:pt x="1297" y="1433"/>
                    </a:lnTo>
                    <a:lnTo>
                      <a:pt x="1260" y="1352"/>
                    </a:lnTo>
                    <a:lnTo>
                      <a:pt x="1215" y="1259"/>
                    </a:lnTo>
                    <a:lnTo>
                      <a:pt x="1164" y="1155"/>
                    </a:lnTo>
                    <a:lnTo>
                      <a:pt x="1110" y="1045"/>
                    </a:lnTo>
                    <a:lnTo>
                      <a:pt x="1051" y="930"/>
                    </a:lnTo>
                    <a:lnTo>
                      <a:pt x="991" y="813"/>
                    </a:lnTo>
                    <a:lnTo>
                      <a:pt x="931" y="697"/>
                    </a:lnTo>
                    <a:lnTo>
                      <a:pt x="869" y="582"/>
                    </a:lnTo>
                    <a:lnTo>
                      <a:pt x="810" y="474"/>
                    </a:lnTo>
                    <a:lnTo>
                      <a:pt x="755" y="373"/>
                    </a:lnTo>
                    <a:lnTo>
                      <a:pt x="702" y="283"/>
                    </a:lnTo>
                    <a:lnTo>
                      <a:pt x="655" y="206"/>
                    </a:lnTo>
                    <a:lnTo>
                      <a:pt x="634" y="174"/>
                    </a:lnTo>
                    <a:lnTo>
                      <a:pt x="614" y="144"/>
                    </a:lnTo>
                    <a:lnTo>
                      <a:pt x="597" y="121"/>
                    </a:lnTo>
                    <a:lnTo>
                      <a:pt x="581" y="101"/>
                    </a:lnTo>
                    <a:lnTo>
                      <a:pt x="566" y="85"/>
                    </a:lnTo>
                    <a:lnTo>
                      <a:pt x="550" y="70"/>
                    </a:lnTo>
                    <a:lnTo>
                      <a:pt x="533" y="58"/>
                    </a:lnTo>
                    <a:lnTo>
                      <a:pt x="513" y="46"/>
                    </a:lnTo>
                    <a:lnTo>
                      <a:pt x="494" y="36"/>
                    </a:lnTo>
                    <a:lnTo>
                      <a:pt x="473" y="27"/>
                    </a:lnTo>
                    <a:lnTo>
                      <a:pt x="451" y="20"/>
                    </a:lnTo>
                    <a:lnTo>
                      <a:pt x="427" y="15"/>
                    </a:lnTo>
                    <a:lnTo>
                      <a:pt x="404" y="10"/>
                    </a:lnTo>
                    <a:lnTo>
                      <a:pt x="381" y="7"/>
                    </a:lnTo>
                    <a:lnTo>
                      <a:pt x="356" y="3"/>
                    </a:lnTo>
                    <a:lnTo>
                      <a:pt x="331" y="2"/>
                    </a:lnTo>
                    <a:lnTo>
                      <a:pt x="308" y="0"/>
                    </a:lnTo>
                    <a:lnTo>
                      <a:pt x="283" y="0"/>
                    </a:lnTo>
                    <a:lnTo>
                      <a:pt x="259" y="0"/>
                    </a:lnTo>
                    <a:lnTo>
                      <a:pt x="235" y="2"/>
                    </a:lnTo>
                    <a:lnTo>
                      <a:pt x="189" y="5"/>
                    </a:lnTo>
                    <a:lnTo>
                      <a:pt x="144" y="10"/>
                    </a:lnTo>
                    <a:lnTo>
                      <a:pt x="105" y="16"/>
                    </a:lnTo>
                    <a:lnTo>
                      <a:pt x="71" y="23"/>
                    </a:lnTo>
                    <a:lnTo>
                      <a:pt x="19" y="34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6149880" y="2710080"/>
                <a:ext cx="517680" cy="830160"/>
              </a:xfrm>
              <a:custGeom>
                <a:avLst/>
                <a:gdLst/>
                <a:ahLst/>
                <a:rect l="l" t="t" r="r" b="b"/>
                <a:pathLst>
                  <a:path w="1629" h="2614">
                    <a:moveTo>
                      <a:pt x="377" y="115"/>
                    </a:moveTo>
                    <a:lnTo>
                      <a:pt x="392" y="135"/>
                    </a:lnTo>
                    <a:lnTo>
                      <a:pt x="429" y="185"/>
                    </a:lnTo>
                    <a:lnTo>
                      <a:pt x="483" y="261"/>
                    </a:lnTo>
                    <a:lnTo>
                      <a:pt x="549" y="353"/>
                    </a:lnTo>
                    <a:lnTo>
                      <a:pt x="622" y="456"/>
                    </a:lnTo>
                    <a:lnTo>
                      <a:pt x="693" y="559"/>
                    </a:lnTo>
                    <a:lnTo>
                      <a:pt x="726" y="609"/>
                    </a:lnTo>
                    <a:lnTo>
                      <a:pt x="757" y="656"/>
                    </a:lnTo>
                    <a:lnTo>
                      <a:pt x="785" y="700"/>
                    </a:lnTo>
                    <a:lnTo>
                      <a:pt x="810" y="740"/>
                    </a:lnTo>
                    <a:lnTo>
                      <a:pt x="836" y="784"/>
                    </a:lnTo>
                    <a:lnTo>
                      <a:pt x="868" y="842"/>
                    </a:lnTo>
                    <a:lnTo>
                      <a:pt x="905" y="912"/>
                    </a:lnTo>
                    <a:lnTo>
                      <a:pt x="946" y="993"/>
                    </a:lnTo>
                    <a:lnTo>
                      <a:pt x="1041" y="1176"/>
                    </a:lnTo>
                    <a:lnTo>
                      <a:pt x="1142" y="1377"/>
                    </a:lnTo>
                    <a:lnTo>
                      <a:pt x="1243" y="1582"/>
                    </a:lnTo>
                    <a:lnTo>
                      <a:pt x="1336" y="1775"/>
                    </a:lnTo>
                    <a:lnTo>
                      <a:pt x="1415" y="1941"/>
                    </a:lnTo>
                    <a:lnTo>
                      <a:pt x="1472" y="2066"/>
                    </a:lnTo>
                    <a:lnTo>
                      <a:pt x="1494" y="2115"/>
                    </a:lnTo>
                    <a:lnTo>
                      <a:pt x="1514" y="2163"/>
                    </a:lnTo>
                    <a:lnTo>
                      <a:pt x="1531" y="2212"/>
                    </a:lnTo>
                    <a:lnTo>
                      <a:pt x="1547" y="2260"/>
                    </a:lnTo>
                    <a:lnTo>
                      <a:pt x="1562" y="2307"/>
                    </a:lnTo>
                    <a:lnTo>
                      <a:pt x="1575" y="2352"/>
                    </a:lnTo>
                    <a:lnTo>
                      <a:pt x="1586" y="2396"/>
                    </a:lnTo>
                    <a:lnTo>
                      <a:pt x="1596" y="2437"/>
                    </a:lnTo>
                    <a:lnTo>
                      <a:pt x="1612" y="2508"/>
                    </a:lnTo>
                    <a:lnTo>
                      <a:pt x="1622" y="2565"/>
                    </a:lnTo>
                    <a:lnTo>
                      <a:pt x="1628" y="2602"/>
                    </a:lnTo>
                    <a:lnTo>
                      <a:pt x="1629" y="2614"/>
                    </a:lnTo>
                    <a:lnTo>
                      <a:pt x="1622" y="2601"/>
                    </a:lnTo>
                    <a:lnTo>
                      <a:pt x="1600" y="2563"/>
                    </a:lnTo>
                    <a:lnTo>
                      <a:pt x="1565" y="2506"/>
                    </a:lnTo>
                    <a:lnTo>
                      <a:pt x="1522" y="2437"/>
                    </a:lnTo>
                    <a:lnTo>
                      <a:pt x="1473" y="2361"/>
                    </a:lnTo>
                    <a:lnTo>
                      <a:pt x="1420" y="2283"/>
                    </a:lnTo>
                    <a:lnTo>
                      <a:pt x="1393" y="2245"/>
                    </a:lnTo>
                    <a:lnTo>
                      <a:pt x="1366" y="2210"/>
                    </a:lnTo>
                    <a:lnTo>
                      <a:pt x="1340" y="2175"/>
                    </a:lnTo>
                    <a:lnTo>
                      <a:pt x="1314" y="2144"/>
                    </a:lnTo>
                    <a:lnTo>
                      <a:pt x="1284" y="2109"/>
                    </a:lnTo>
                    <a:lnTo>
                      <a:pt x="1241" y="2061"/>
                    </a:lnTo>
                    <a:lnTo>
                      <a:pt x="1186" y="2003"/>
                    </a:lnTo>
                    <a:lnTo>
                      <a:pt x="1124" y="1938"/>
                    </a:lnTo>
                    <a:lnTo>
                      <a:pt x="980" y="1789"/>
                    </a:lnTo>
                    <a:lnTo>
                      <a:pt x="823" y="1630"/>
                    </a:lnTo>
                    <a:lnTo>
                      <a:pt x="671" y="1476"/>
                    </a:lnTo>
                    <a:lnTo>
                      <a:pt x="534" y="1341"/>
                    </a:lnTo>
                    <a:lnTo>
                      <a:pt x="477" y="1285"/>
                    </a:lnTo>
                    <a:lnTo>
                      <a:pt x="430" y="1239"/>
                    </a:lnTo>
                    <a:lnTo>
                      <a:pt x="394" y="1206"/>
                    </a:lnTo>
                    <a:lnTo>
                      <a:pt x="372" y="1185"/>
                    </a:lnTo>
                    <a:lnTo>
                      <a:pt x="378" y="1171"/>
                    </a:lnTo>
                    <a:lnTo>
                      <a:pt x="397" y="1131"/>
                    </a:lnTo>
                    <a:lnTo>
                      <a:pt x="408" y="1104"/>
                    </a:lnTo>
                    <a:lnTo>
                      <a:pt x="420" y="1072"/>
                    </a:lnTo>
                    <a:lnTo>
                      <a:pt x="433" y="1035"/>
                    </a:lnTo>
                    <a:lnTo>
                      <a:pt x="447" y="997"/>
                    </a:lnTo>
                    <a:lnTo>
                      <a:pt x="461" y="956"/>
                    </a:lnTo>
                    <a:lnTo>
                      <a:pt x="473" y="913"/>
                    </a:lnTo>
                    <a:lnTo>
                      <a:pt x="484" y="870"/>
                    </a:lnTo>
                    <a:lnTo>
                      <a:pt x="494" y="826"/>
                    </a:lnTo>
                    <a:lnTo>
                      <a:pt x="497" y="804"/>
                    </a:lnTo>
                    <a:lnTo>
                      <a:pt x="500" y="783"/>
                    </a:lnTo>
                    <a:lnTo>
                      <a:pt x="502" y="761"/>
                    </a:lnTo>
                    <a:lnTo>
                      <a:pt x="505" y="740"/>
                    </a:lnTo>
                    <a:lnTo>
                      <a:pt x="505" y="720"/>
                    </a:lnTo>
                    <a:lnTo>
                      <a:pt x="505" y="699"/>
                    </a:lnTo>
                    <a:lnTo>
                      <a:pt x="505" y="679"/>
                    </a:lnTo>
                    <a:lnTo>
                      <a:pt x="502" y="661"/>
                    </a:lnTo>
                    <a:lnTo>
                      <a:pt x="488" y="667"/>
                    </a:lnTo>
                    <a:lnTo>
                      <a:pt x="451" y="686"/>
                    </a:lnTo>
                    <a:lnTo>
                      <a:pt x="397" y="711"/>
                    </a:lnTo>
                    <a:lnTo>
                      <a:pt x="335" y="743"/>
                    </a:lnTo>
                    <a:lnTo>
                      <a:pt x="303" y="761"/>
                    </a:lnTo>
                    <a:lnTo>
                      <a:pt x="271" y="779"/>
                    </a:lnTo>
                    <a:lnTo>
                      <a:pt x="242" y="797"/>
                    </a:lnTo>
                    <a:lnTo>
                      <a:pt x="214" y="816"/>
                    </a:lnTo>
                    <a:lnTo>
                      <a:pt x="191" y="834"/>
                    </a:lnTo>
                    <a:lnTo>
                      <a:pt x="171" y="852"/>
                    </a:lnTo>
                    <a:lnTo>
                      <a:pt x="164" y="860"/>
                    </a:lnTo>
                    <a:lnTo>
                      <a:pt x="157" y="869"/>
                    </a:lnTo>
                    <a:lnTo>
                      <a:pt x="152" y="876"/>
                    </a:lnTo>
                    <a:lnTo>
                      <a:pt x="149" y="884"/>
                    </a:lnTo>
                    <a:lnTo>
                      <a:pt x="142" y="870"/>
                    </a:lnTo>
                    <a:lnTo>
                      <a:pt x="122" y="832"/>
                    </a:lnTo>
                    <a:lnTo>
                      <a:pt x="110" y="805"/>
                    </a:lnTo>
                    <a:lnTo>
                      <a:pt x="96" y="774"/>
                    </a:lnTo>
                    <a:lnTo>
                      <a:pt x="82" y="741"/>
                    </a:lnTo>
                    <a:lnTo>
                      <a:pt x="67" y="703"/>
                    </a:lnTo>
                    <a:lnTo>
                      <a:pt x="52" y="665"/>
                    </a:lnTo>
                    <a:lnTo>
                      <a:pt x="39" y="624"/>
                    </a:lnTo>
                    <a:lnTo>
                      <a:pt x="26" y="582"/>
                    </a:lnTo>
                    <a:lnTo>
                      <a:pt x="15" y="540"/>
                    </a:lnTo>
                    <a:lnTo>
                      <a:pt x="10" y="520"/>
                    </a:lnTo>
                    <a:lnTo>
                      <a:pt x="7" y="499"/>
                    </a:lnTo>
                    <a:lnTo>
                      <a:pt x="4" y="479"/>
                    </a:lnTo>
                    <a:lnTo>
                      <a:pt x="2" y="459"/>
                    </a:lnTo>
                    <a:lnTo>
                      <a:pt x="0" y="440"/>
                    </a:lnTo>
                    <a:lnTo>
                      <a:pt x="0" y="420"/>
                    </a:lnTo>
                    <a:lnTo>
                      <a:pt x="0" y="401"/>
                    </a:lnTo>
                    <a:lnTo>
                      <a:pt x="3" y="384"/>
                    </a:lnTo>
                    <a:lnTo>
                      <a:pt x="8" y="350"/>
                    </a:lnTo>
                    <a:lnTo>
                      <a:pt x="14" y="314"/>
                    </a:lnTo>
                    <a:lnTo>
                      <a:pt x="21" y="278"/>
                    </a:lnTo>
                    <a:lnTo>
                      <a:pt x="30" y="244"/>
                    </a:lnTo>
                    <a:lnTo>
                      <a:pt x="39" y="208"/>
                    </a:lnTo>
                    <a:lnTo>
                      <a:pt x="50" y="175"/>
                    </a:lnTo>
                    <a:lnTo>
                      <a:pt x="61" y="143"/>
                    </a:lnTo>
                    <a:lnTo>
                      <a:pt x="72" y="114"/>
                    </a:lnTo>
                    <a:lnTo>
                      <a:pt x="85" y="87"/>
                    </a:lnTo>
                    <a:lnTo>
                      <a:pt x="99" y="62"/>
                    </a:lnTo>
                    <a:lnTo>
                      <a:pt x="106" y="51"/>
                    </a:lnTo>
                    <a:lnTo>
                      <a:pt x="114" y="41"/>
                    </a:lnTo>
                    <a:lnTo>
                      <a:pt x="121" y="32"/>
                    </a:lnTo>
                    <a:lnTo>
                      <a:pt x="128" y="24"/>
                    </a:lnTo>
                    <a:lnTo>
                      <a:pt x="137" y="18"/>
                    </a:lnTo>
                    <a:lnTo>
                      <a:pt x="146" y="12"/>
                    </a:lnTo>
                    <a:lnTo>
                      <a:pt x="154" y="7"/>
                    </a:lnTo>
                    <a:lnTo>
                      <a:pt x="163" y="3"/>
                    </a:lnTo>
                    <a:lnTo>
                      <a:pt x="173" y="2"/>
                    </a:lnTo>
                    <a:lnTo>
                      <a:pt x="181" y="0"/>
                    </a:lnTo>
                    <a:lnTo>
                      <a:pt x="191" y="2"/>
                    </a:lnTo>
                    <a:lnTo>
                      <a:pt x="201" y="4"/>
                    </a:lnTo>
                    <a:lnTo>
                      <a:pt x="219" y="10"/>
                    </a:lnTo>
                    <a:lnTo>
                      <a:pt x="238" y="18"/>
                    </a:lnTo>
                    <a:lnTo>
                      <a:pt x="255" y="26"/>
                    </a:lnTo>
                    <a:lnTo>
                      <a:pt x="272" y="35"/>
                    </a:lnTo>
                    <a:lnTo>
                      <a:pt x="302" y="53"/>
                    </a:lnTo>
                    <a:lnTo>
                      <a:pt x="328" y="72"/>
                    </a:lnTo>
                    <a:lnTo>
                      <a:pt x="349" y="89"/>
                    </a:lnTo>
                    <a:lnTo>
                      <a:pt x="365" y="103"/>
                    </a:lnTo>
                    <a:lnTo>
                      <a:pt x="374" y="112"/>
                    </a:lnTo>
                    <a:lnTo>
                      <a:pt x="377" y="115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5681520" y="3011760"/>
                <a:ext cx="676440" cy="720720"/>
              </a:xfrm>
              <a:custGeom>
                <a:avLst/>
                <a:gdLst/>
                <a:ahLst/>
                <a:rect l="l" t="t" r="r" b="b"/>
                <a:pathLst>
                  <a:path w="2132" h="2273">
                    <a:moveTo>
                      <a:pt x="1852" y="2103"/>
                    </a:moveTo>
                    <a:lnTo>
                      <a:pt x="1723" y="1935"/>
                    </a:lnTo>
                    <a:lnTo>
                      <a:pt x="1617" y="1796"/>
                    </a:lnTo>
                    <a:lnTo>
                      <a:pt x="1533" y="1685"/>
                    </a:lnTo>
                    <a:lnTo>
                      <a:pt x="1466" y="1596"/>
                    </a:lnTo>
                    <a:lnTo>
                      <a:pt x="1414" y="1525"/>
                    </a:lnTo>
                    <a:lnTo>
                      <a:pt x="1375" y="1470"/>
                    </a:lnTo>
                    <a:lnTo>
                      <a:pt x="1359" y="1445"/>
                    </a:lnTo>
                    <a:lnTo>
                      <a:pt x="1346" y="1423"/>
                    </a:lnTo>
                    <a:lnTo>
                      <a:pt x="1333" y="1402"/>
                    </a:lnTo>
                    <a:lnTo>
                      <a:pt x="1323" y="1382"/>
                    </a:lnTo>
                    <a:lnTo>
                      <a:pt x="1316" y="1372"/>
                    </a:lnTo>
                    <a:lnTo>
                      <a:pt x="1306" y="1361"/>
                    </a:lnTo>
                    <a:lnTo>
                      <a:pt x="1294" y="1349"/>
                    </a:lnTo>
                    <a:lnTo>
                      <a:pt x="1278" y="1337"/>
                    </a:lnTo>
                    <a:lnTo>
                      <a:pt x="1258" y="1323"/>
                    </a:lnTo>
                    <a:lnTo>
                      <a:pt x="1237" y="1308"/>
                    </a:lnTo>
                    <a:lnTo>
                      <a:pt x="1214" y="1294"/>
                    </a:lnTo>
                    <a:lnTo>
                      <a:pt x="1188" y="1278"/>
                    </a:lnTo>
                    <a:lnTo>
                      <a:pt x="1131" y="1246"/>
                    </a:lnTo>
                    <a:lnTo>
                      <a:pt x="1069" y="1213"/>
                    </a:lnTo>
                    <a:lnTo>
                      <a:pt x="1001" y="1179"/>
                    </a:lnTo>
                    <a:lnTo>
                      <a:pt x="931" y="1145"/>
                    </a:lnTo>
                    <a:lnTo>
                      <a:pt x="860" y="1112"/>
                    </a:lnTo>
                    <a:lnTo>
                      <a:pt x="788" y="1080"/>
                    </a:lnTo>
                    <a:lnTo>
                      <a:pt x="719" y="1049"/>
                    </a:lnTo>
                    <a:lnTo>
                      <a:pt x="653" y="1021"/>
                    </a:lnTo>
                    <a:lnTo>
                      <a:pt x="593" y="996"/>
                    </a:lnTo>
                    <a:lnTo>
                      <a:pt x="540" y="975"/>
                    </a:lnTo>
                    <a:lnTo>
                      <a:pt x="494" y="958"/>
                    </a:lnTo>
                    <a:lnTo>
                      <a:pt x="459" y="946"/>
                    </a:lnTo>
                    <a:lnTo>
                      <a:pt x="395" y="926"/>
                    </a:lnTo>
                    <a:lnTo>
                      <a:pt x="321" y="906"/>
                    </a:lnTo>
                    <a:lnTo>
                      <a:pt x="244" y="888"/>
                    </a:lnTo>
                    <a:lnTo>
                      <a:pt x="171" y="872"/>
                    </a:lnTo>
                    <a:lnTo>
                      <a:pt x="103" y="857"/>
                    </a:lnTo>
                    <a:lnTo>
                      <a:pt x="49" y="846"/>
                    </a:lnTo>
                    <a:lnTo>
                      <a:pt x="13" y="840"/>
                    </a:lnTo>
                    <a:lnTo>
                      <a:pt x="0" y="837"/>
                    </a:lnTo>
                    <a:lnTo>
                      <a:pt x="11" y="836"/>
                    </a:lnTo>
                    <a:lnTo>
                      <a:pt x="41" y="835"/>
                    </a:lnTo>
                    <a:lnTo>
                      <a:pt x="62" y="834"/>
                    </a:lnTo>
                    <a:lnTo>
                      <a:pt x="86" y="831"/>
                    </a:lnTo>
                    <a:lnTo>
                      <a:pt x="112" y="828"/>
                    </a:lnTo>
                    <a:lnTo>
                      <a:pt x="137" y="823"/>
                    </a:lnTo>
                    <a:lnTo>
                      <a:pt x="164" y="818"/>
                    </a:lnTo>
                    <a:lnTo>
                      <a:pt x="192" y="812"/>
                    </a:lnTo>
                    <a:lnTo>
                      <a:pt x="216" y="803"/>
                    </a:lnTo>
                    <a:lnTo>
                      <a:pt x="241" y="793"/>
                    </a:lnTo>
                    <a:lnTo>
                      <a:pt x="252" y="788"/>
                    </a:lnTo>
                    <a:lnTo>
                      <a:pt x="262" y="782"/>
                    </a:lnTo>
                    <a:lnTo>
                      <a:pt x="272" y="776"/>
                    </a:lnTo>
                    <a:lnTo>
                      <a:pt x="280" y="769"/>
                    </a:lnTo>
                    <a:lnTo>
                      <a:pt x="288" y="761"/>
                    </a:lnTo>
                    <a:lnTo>
                      <a:pt x="295" y="754"/>
                    </a:lnTo>
                    <a:lnTo>
                      <a:pt x="300" y="745"/>
                    </a:lnTo>
                    <a:lnTo>
                      <a:pt x="304" y="737"/>
                    </a:lnTo>
                    <a:lnTo>
                      <a:pt x="311" y="717"/>
                    </a:lnTo>
                    <a:lnTo>
                      <a:pt x="316" y="698"/>
                    </a:lnTo>
                    <a:lnTo>
                      <a:pt x="318" y="681"/>
                    </a:lnTo>
                    <a:lnTo>
                      <a:pt x="321" y="664"/>
                    </a:lnTo>
                    <a:lnTo>
                      <a:pt x="321" y="648"/>
                    </a:lnTo>
                    <a:lnTo>
                      <a:pt x="321" y="633"/>
                    </a:lnTo>
                    <a:lnTo>
                      <a:pt x="317" y="618"/>
                    </a:lnTo>
                    <a:lnTo>
                      <a:pt x="313" y="605"/>
                    </a:lnTo>
                    <a:lnTo>
                      <a:pt x="308" y="593"/>
                    </a:lnTo>
                    <a:lnTo>
                      <a:pt x="301" y="580"/>
                    </a:lnTo>
                    <a:lnTo>
                      <a:pt x="292" y="570"/>
                    </a:lnTo>
                    <a:lnTo>
                      <a:pt x="281" y="561"/>
                    </a:lnTo>
                    <a:lnTo>
                      <a:pt x="270" y="552"/>
                    </a:lnTo>
                    <a:lnTo>
                      <a:pt x="257" y="545"/>
                    </a:lnTo>
                    <a:lnTo>
                      <a:pt x="242" y="537"/>
                    </a:lnTo>
                    <a:lnTo>
                      <a:pt x="225" y="532"/>
                    </a:lnTo>
                    <a:lnTo>
                      <a:pt x="219" y="530"/>
                    </a:lnTo>
                    <a:lnTo>
                      <a:pt x="214" y="527"/>
                    </a:lnTo>
                    <a:lnTo>
                      <a:pt x="210" y="524"/>
                    </a:lnTo>
                    <a:lnTo>
                      <a:pt x="210" y="521"/>
                    </a:lnTo>
                    <a:lnTo>
                      <a:pt x="211" y="518"/>
                    </a:lnTo>
                    <a:lnTo>
                      <a:pt x="215" y="514"/>
                    </a:lnTo>
                    <a:lnTo>
                      <a:pt x="220" y="511"/>
                    </a:lnTo>
                    <a:lnTo>
                      <a:pt x="227" y="508"/>
                    </a:lnTo>
                    <a:lnTo>
                      <a:pt x="246" y="502"/>
                    </a:lnTo>
                    <a:lnTo>
                      <a:pt x="270" y="497"/>
                    </a:lnTo>
                    <a:lnTo>
                      <a:pt x="300" y="493"/>
                    </a:lnTo>
                    <a:lnTo>
                      <a:pt x="333" y="491"/>
                    </a:lnTo>
                    <a:lnTo>
                      <a:pt x="370" y="489"/>
                    </a:lnTo>
                    <a:lnTo>
                      <a:pt x="411" y="492"/>
                    </a:lnTo>
                    <a:lnTo>
                      <a:pt x="431" y="494"/>
                    </a:lnTo>
                    <a:lnTo>
                      <a:pt x="452" y="497"/>
                    </a:lnTo>
                    <a:lnTo>
                      <a:pt x="475" y="500"/>
                    </a:lnTo>
                    <a:lnTo>
                      <a:pt x="495" y="505"/>
                    </a:lnTo>
                    <a:lnTo>
                      <a:pt x="518" y="510"/>
                    </a:lnTo>
                    <a:lnTo>
                      <a:pt x="540" y="516"/>
                    </a:lnTo>
                    <a:lnTo>
                      <a:pt x="561" y="524"/>
                    </a:lnTo>
                    <a:lnTo>
                      <a:pt x="583" y="532"/>
                    </a:lnTo>
                    <a:lnTo>
                      <a:pt x="604" y="541"/>
                    </a:lnTo>
                    <a:lnTo>
                      <a:pt x="625" y="552"/>
                    </a:lnTo>
                    <a:lnTo>
                      <a:pt x="646" y="563"/>
                    </a:lnTo>
                    <a:lnTo>
                      <a:pt x="665" y="577"/>
                    </a:lnTo>
                    <a:lnTo>
                      <a:pt x="684" y="589"/>
                    </a:lnTo>
                    <a:lnTo>
                      <a:pt x="702" y="599"/>
                    </a:lnTo>
                    <a:lnTo>
                      <a:pt x="717" y="607"/>
                    </a:lnTo>
                    <a:lnTo>
                      <a:pt x="732" y="614"/>
                    </a:lnTo>
                    <a:lnTo>
                      <a:pt x="745" y="618"/>
                    </a:lnTo>
                    <a:lnTo>
                      <a:pt x="756" y="621"/>
                    </a:lnTo>
                    <a:lnTo>
                      <a:pt x="766" y="622"/>
                    </a:lnTo>
                    <a:lnTo>
                      <a:pt x="775" y="622"/>
                    </a:lnTo>
                    <a:lnTo>
                      <a:pt x="783" y="621"/>
                    </a:lnTo>
                    <a:lnTo>
                      <a:pt x="789" y="617"/>
                    </a:lnTo>
                    <a:lnTo>
                      <a:pt x="794" y="614"/>
                    </a:lnTo>
                    <a:lnTo>
                      <a:pt x="798" y="607"/>
                    </a:lnTo>
                    <a:lnTo>
                      <a:pt x="801" y="601"/>
                    </a:lnTo>
                    <a:lnTo>
                      <a:pt x="802" y="594"/>
                    </a:lnTo>
                    <a:lnTo>
                      <a:pt x="803" y="585"/>
                    </a:lnTo>
                    <a:lnTo>
                      <a:pt x="802" y="577"/>
                    </a:lnTo>
                    <a:lnTo>
                      <a:pt x="801" y="566"/>
                    </a:lnTo>
                    <a:lnTo>
                      <a:pt x="798" y="556"/>
                    </a:lnTo>
                    <a:lnTo>
                      <a:pt x="794" y="545"/>
                    </a:lnTo>
                    <a:lnTo>
                      <a:pt x="789" y="532"/>
                    </a:lnTo>
                    <a:lnTo>
                      <a:pt x="783" y="520"/>
                    </a:lnTo>
                    <a:lnTo>
                      <a:pt x="777" y="508"/>
                    </a:lnTo>
                    <a:lnTo>
                      <a:pt x="771" y="495"/>
                    </a:lnTo>
                    <a:lnTo>
                      <a:pt x="762" y="483"/>
                    </a:lnTo>
                    <a:lnTo>
                      <a:pt x="754" y="470"/>
                    </a:lnTo>
                    <a:lnTo>
                      <a:pt x="744" y="457"/>
                    </a:lnTo>
                    <a:lnTo>
                      <a:pt x="734" y="445"/>
                    </a:lnTo>
                    <a:lnTo>
                      <a:pt x="723" y="433"/>
                    </a:lnTo>
                    <a:lnTo>
                      <a:pt x="712" y="422"/>
                    </a:lnTo>
                    <a:lnTo>
                      <a:pt x="700" y="409"/>
                    </a:lnTo>
                    <a:lnTo>
                      <a:pt x="687" y="400"/>
                    </a:lnTo>
                    <a:lnTo>
                      <a:pt x="674" y="388"/>
                    </a:lnTo>
                    <a:lnTo>
                      <a:pt x="614" y="348"/>
                    </a:lnTo>
                    <a:lnTo>
                      <a:pt x="550" y="307"/>
                    </a:lnTo>
                    <a:lnTo>
                      <a:pt x="488" y="268"/>
                    </a:lnTo>
                    <a:lnTo>
                      <a:pt x="438" y="233"/>
                    </a:lnTo>
                    <a:lnTo>
                      <a:pt x="418" y="219"/>
                    </a:lnTo>
                    <a:lnTo>
                      <a:pt x="403" y="206"/>
                    </a:lnTo>
                    <a:lnTo>
                      <a:pt x="398" y="201"/>
                    </a:lnTo>
                    <a:lnTo>
                      <a:pt x="395" y="197"/>
                    </a:lnTo>
                    <a:lnTo>
                      <a:pt x="393" y="194"/>
                    </a:lnTo>
                    <a:lnTo>
                      <a:pt x="393" y="190"/>
                    </a:lnTo>
                    <a:lnTo>
                      <a:pt x="396" y="189"/>
                    </a:lnTo>
                    <a:lnTo>
                      <a:pt x="401" y="188"/>
                    </a:lnTo>
                    <a:lnTo>
                      <a:pt x="407" y="188"/>
                    </a:lnTo>
                    <a:lnTo>
                      <a:pt x="417" y="189"/>
                    </a:lnTo>
                    <a:lnTo>
                      <a:pt x="441" y="194"/>
                    </a:lnTo>
                    <a:lnTo>
                      <a:pt x="478" y="204"/>
                    </a:lnTo>
                    <a:lnTo>
                      <a:pt x="520" y="216"/>
                    </a:lnTo>
                    <a:lnTo>
                      <a:pt x="562" y="227"/>
                    </a:lnTo>
                    <a:lnTo>
                      <a:pt x="604" y="237"/>
                    </a:lnTo>
                    <a:lnTo>
                      <a:pt x="646" y="246"/>
                    </a:lnTo>
                    <a:lnTo>
                      <a:pt x="685" y="254"/>
                    </a:lnTo>
                    <a:lnTo>
                      <a:pt x="722" y="261"/>
                    </a:lnTo>
                    <a:lnTo>
                      <a:pt x="757" y="265"/>
                    </a:lnTo>
                    <a:lnTo>
                      <a:pt x="789" y="268"/>
                    </a:lnTo>
                    <a:lnTo>
                      <a:pt x="818" y="270"/>
                    </a:lnTo>
                    <a:lnTo>
                      <a:pt x="842" y="269"/>
                    </a:lnTo>
                    <a:lnTo>
                      <a:pt x="853" y="268"/>
                    </a:lnTo>
                    <a:lnTo>
                      <a:pt x="862" y="267"/>
                    </a:lnTo>
                    <a:lnTo>
                      <a:pt x="871" y="264"/>
                    </a:lnTo>
                    <a:lnTo>
                      <a:pt x="877" y="262"/>
                    </a:lnTo>
                    <a:lnTo>
                      <a:pt x="883" y="258"/>
                    </a:lnTo>
                    <a:lnTo>
                      <a:pt x="887" y="253"/>
                    </a:lnTo>
                    <a:lnTo>
                      <a:pt x="889" y="249"/>
                    </a:lnTo>
                    <a:lnTo>
                      <a:pt x="889" y="243"/>
                    </a:lnTo>
                    <a:lnTo>
                      <a:pt x="888" y="237"/>
                    </a:lnTo>
                    <a:lnTo>
                      <a:pt x="885" y="231"/>
                    </a:lnTo>
                    <a:lnTo>
                      <a:pt x="881" y="224"/>
                    </a:lnTo>
                    <a:lnTo>
                      <a:pt x="874" y="215"/>
                    </a:lnTo>
                    <a:lnTo>
                      <a:pt x="860" y="197"/>
                    </a:lnTo>
                    <a:lnTo>
                      <a:pt x="845" y="176"/>
                    </a:lnTo>
                    <a:lnTo>
                      <a:pt x="830" y="155"/>
                    </a:lnTo>
                    <a:lnTo>
                      <a:pt x="815" y="131"/>
                    </a:lnTo>
                    <a:lnTo>
                      <a:pt x="803" y="109"/>
                    </a:lnTo>
                    <a:lnTo>
                      <a:pt x="792" y="87"/>
                    </a:lnTo>
                    <a:lnTo>
                      <a:pt x="783" y="66"/>
                    </a:lnTo>
                    <a:lnTo>
                      <a:pt x="778" y="48"/>
                    </a:lnTo>
                    <a:lnTo>
                      <a:pt x="776" y="39"/>
                    </a:lnTo>
                    <a:lnTo>
                      <a:pt x="776" y="31"/>
                    </a:lnTo>
                    <a:lnTo>
                      <a:pt x="776" y="23"/>
                    </a:lnTo>
                    <a:lnTo>
                      <a:pt x="777" y="17"/>
                    </a:lnTo>
                    <a:lnTo>
                      <a:pt x="780" y="12"/>
                    </a:lnTo>
                    <a:lnTo>
                      <a:pt x="783" y="7"/>
                    </a:lnTo>
                    <a:lnTo>
                      <a:pt x="788" y="3"/>
                    </a:lnTo>
                    <a:lnTo>
                      <a:pt x="793" y="1"/>
                    </a:lnTo>
                    <a:lnTo>
                      <a:pt x="801" y="0"/>
                    </a:lnTo>
                    <a:lnTo>
                      <a:pt x="809" y="0"/>
                    </a:lnTo>
                    <a:lnTo>
                      <a:pt x="819" y="2"/>
                    </a:lnTo>
                    <a:lnTo>
                      <a:pt x="831" y="5"/>
                    </a:lnTo>
                    <a:lnTo>
                      <a:pt x="844" y="10"/>
                    </a:lnTo>
                    <a:lnTo>
                      <a:pt x="858" y="16"/>
                    </a:lnTo>
                    <a:lnTo>
                      <a:pt x="876" y="23"/>
                    </a:lnTo>
                    <a:lnTo>
                      <a:pt x="894" y="33"/>
                    </a:lnTo>
                    <a:lnTo>
                      <a:pt x="930" y="53"/>
                    </a:lnTo>
                    <a:lnTo>
                      <a:pt x="968" y="76"/>
                    </a:lnTo>
                    <a:lnTo>
                      <a:pt x="1007" y="103"/>
                    </a:lnTo>
                    <a:lnTo>
                      <a:pt x="1047" y="131"/>
                    </a:lnTo>
                    <a:lnTo>
                      <a:pt x="1086" y="163"/>
                    </a:lnTo>
                    <a:lnTo>
                      <a:pt x="1125" y="197"/>
                    </a:lnTo>
                    <a:lnTo>
                      <a:pt x="1163" y="232"/>
                    </a:lnTo>
                    <a:lnTo>
                      <a:pt x="1200" y="270"/>
                    </a:lnTo>
                    <a:lnTo>
                      <a:pt x="1218" y="290"/>
                    </a:lnTo>
                    <a:lnTo>
                      <a:pt x="1235" y="310"/>
                    </a:lnTo>
                    <a:lnTo>
                      <a:pt x="1252" y="331"/>
                    </a:lnTo>
                    <a:lnTo>
                      <a:pt x="1267" y="352"/>
                    </a:lnTo>
                    <a:lnTo>
                      <a:pt x="1283" y="372"/>
                    </a:lnTo>
                    <a:lnTo>
                      <a:pt x="1296" y="395"/>
                    </a:lnTo>
                    <a:lnTo>
                      <a:pt x="1310" y="417"/>
                    </a:lnTo>
                    <a:lnTo>
                      <a:pt x="1322" y="439"/>
                    </a:lnTo>
                    <a:lnTo>
                      <a:pt x="1334" y="461"/>
                    </a:lnTo>
                    <a:lnTo>
                      <a:pt x="1344" y="484"/>
                    </a:lnTo>
                    <a:lnTo>
                      <a:pt x="1354" y="508"/>
                    </a:lnTo>
                    <a:lnTo>
                      <a:pt x="1363" y="531"/>
                    </a:lnTo>
                    <a:lnTo>
                      <a:pt x="1369" y="556"/>
                    </a:lnTo>
                    <a:lnTo>
                      <a:pt x="1375" y="579"/>
                    </a:lnTo>
                    <a:lnTo>
                      <a:pt x="1380" y="604"/>
                    </a:lnTo>
                    <a:lnTo>
                      <a:pt x="1382" y="627"/>
                    </a:lnTo>
                    <a:lnTo>
                      <a:pt x="1386" y="652"/>
                    </a:lnTo>
                    <a:lnTo>
                      <a:pt x="1390" y="676"/>
                    </a:lnTo>
                    <a:lnTo>
                      <a:pt x="1396" y="700"/>
                    </a:lnTo>
                    <a:lnTo>
                      <a:pt x="1403" y="723"/>
                    </a:lnTo>
                    <a:lnTo>
                      <a:pt x="1411" y="745"/>
                    </a:lnTo>
                    <a:lnTo>
                      <a:pt x="1421" y="767"/>
                    </a:lnTo>
                    <a:lnTo>
                      <a:pt x="1430" y="789"/>
                    </a:lnTo>
                    <a:lnTo>
                      <a:pt x="1442" y="812"/>
                    </a:lnTo>
                    <a:lnTo>
                      <a:pt x="1454" y="832"/>
                    </a:lnTo>
                    <a:lnTo>
                      <a:pt x="1467" y="855"/>
                    </a:lnTo>
                    <a:lnTo>
                      <a:pt x="1482" y="876"/>
                    </a:lnTo>
                    <a:lnTo>
                      <a:pt x="1497" y="896"/>
                    </a:lnTo>
                    <a:lnTo>
                      <a:pt x="1529" y="939"/>
                    </a:lnTo>
                    <a:lnTo>
                      <a:pt x="1563" y="981"/>
                    </a:lnTo>
                    <a:lnTo>
                      <a:pt x="1641" y="1069"/>
                    </a:lnTo>
                    <a:lnTo>
                      <a:pt x="1724" y="1161"/>
                    </a:lnTo>
                    <a:lnTo>
                      <a:pt x="1769" y="1210"/>
                    </a:lnTo>
                    <a:lnTo>
                      <a:pt x="1813" y="1261"/>
                    </a:lnTo>
                    <a:lnTo>
                      <a:pt x="1857" y="1315"/>
                    </a:lnTo>
                    <a:lnTo>
                      <a:pt x="1902" y="1372"/>
                    </a:lnTo>
                    <a:lnTo>
                      <a:pt x="1924" y="1403"/>
                    </a:lnTo>
                    <a:lnTo>
                      <a:pt x="1945" y="1438"/>
                    </a:lnTo>
                    <a:lnTo>
                      <a:pt x="1966" y="1476"/>
                    </a:lnTo>
                    <a:lnTo>
                      <a:pt x="1985" y="1516"/>
                    </a:lnTo>
                    <a:lnTo>
                      <a:pt x="2004" y="1559"/>
                    </a:lnTo>
                    <a:lnTo>
                      <a:pt x="2022" y="1605"/>
                    </a:lnTo>
                    <a:lnTo>
                      <a:pt x="2039" y="1650"/>
                    </a:lnTo>
                    <a:lnTo>
                      <a:pt x="2055" y="1697"/>
                    </a:lnTo>
                    <a:lnTo>
                      <a:pt x="2070" y="1745"/>
                    </a:lnTo>
                    <a:lnTo>
                      <a:pt x="2082" y="1794"/>
                    </a:lnTo>
                    <a:lnTo>
                      <a:pt x="2095" y="1842"/>
                    </a:lnTo>
                    <a:lnTo>
                      <a:pt x="2106" y="1889"/>
                    </a:lnTo>
                    <a:lnTo>
                      <a:pt x="2114" y="1936"/>
                    </a:lnTo>
                    <a:lnTo>
                      <a:pt x="2121" y="1981"/>
                    </a:lnTo>
                    <a:lnTo>
                      <a:pt x="2127" y="2024"/>
                    </a:lnTo>
                    <a:lnTo>
                      <a:pt x="2129" y="2065"/>
                    </a:lnTo>
                    <a:lnTo>
                      <a:pt x="2132" y="2104"/>
                    </a:lnTo>
                    <a:lnTo>
                      <a:pt x="2130" y="2140"/>
                    </a:lnTo>
                    <a:lnTo>
                      <a:pt x="2128" y="2172"/>
                    </a:lnTo>
                    <a:lnTo>
                      <a:pt x="2123" y="2200"/>
                    </a:lnTo>
                    <a:lnTo>
                      <a:pt x="2116" y="2225"/>
                    </a:lnTo>
                    <a:lnTo>
                      <a:pt x="2106" y="2245"/>
                    </a:lnTo>
                    <a:lnTo>
                      <a:pt x="2094" y="2259"/>
                    </a:lnTo>
                    <a:lnTo>
                      <a:pt x="2078" y="2269"/>
                    </a:lnTo>
                    <a:lnTo>
                      <a:pt x="2060" y="2273"/>
                    </a:lnTo>
                    <a:lnTo>
                      <a:pt x="2039" y="2270"/>
                    </a:lnTo>
                    <a:lnTo>
                      <a:pt x="2016" y="2261"/>
                    </a:lnTo>
                    <a:lnTo>
                      <a:pt x="1990" y="2245"/>
                    </a:lnTo>
                    <a:lnTo>
                      <a:pt x="1961" y="2221"/>
                    </a:lnTo>
                    <a:lnTo>
                      <a:pt x="1927" y="2190"/>
                    </a:lnTo>
                    <a:lnTo>
                      <a:pt x="1892" y="2151"/>
                    </a:lnTo>
                    <a:lnTo>
                      <a:pt x="1852" y="2103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5694480" y="3027600"/>
                <a:ext cx="641160" cy="663480"/>
              </a:xfrm>
              <a:custGeom>
                <a:avLst/>
                <a:gdLst/>
                <a:ahLst/>
                <a:rect l="l" t="t" r="r" b="b"/>
                <a:pathLst>
                  <a:path w="2020" h="2088">
                    <a:moveTo>
                      <a:pt x="1750" y="1909"/>
                    </a:moveTo>
                    <a:lnTo>
                      <a:pt x="1637" y="1763"/>
                    </a:lnTo>
                    <a:lnTo>
                      <a:pt x="1545" y="1644"/>
                    </a:lnTo>
                    <a:lnTo>
                      <a:pt x="1471" y="1548"/>
                    </a:lnTo>
                    <a:lnTo>
                      <a:pt x="1412" y="1470"/>
                    </a:lnTo>
                    <a:lnTo>
                      <a:pt x="1365" y="1407"/>
                    </a:lnTo>
                    <a:lnTo>
                      <a:pt x="1330" y="1355"/>
                    </a:lnTo>
                    <a:lnTo>
                      <a:pt x="1315" y="1332"/>
                    </a:lnTo>
                    <a:lnTo>
                      <a:pt x="1303" y="1311"/>
                    </a:lnTo>
                    <a:lnTo>
                      <a:pt x="1290" y="1290"/>
                    </a:lnTo>
                    <a:lnTo>
                      <a:pt x="1280" y="1270"/>
                    </a:lnTo>
                    <a:lnTo>
                      <a:pt x="1273" y="1260"/>
                    </a:lnTo>
                    <a:lnTo>
                      <a:pt x="1263" y="1249"/>
                    </a:lnTo>
                    <a:lnTo>
                      <a:pt x="1251" y="1238"/>
                    </a:lnTo>
                    <a:lnTo>
                      <a:pt x="1235" y="1226"/>
                    </a:lnTo>
                    <a:lnTo>
                      <a:pt x="1215" y="1214"/>
                    </a:lnTo>
                    <a:lnTo>
                      <a:pt x="1194" y="1201"/>
                    </a:lnTo>
                    <a:lnTo>
                      <a:pt x="1171" y="1188"/>
                    </a:lnTo>
                    <a:lnTo>
                      <a:pt x="1145" y="1174"/>
                    </a:lnTo>
                    <a:lnTo>
                      <a:pt x="1088" y="1147"/>
                    </a:lnTo>
                    <a:lnTo>
                      <a:pt x="1026" y="1119"/>
                    </a:lnTo>
                    <a:lnTo>
                      <a:pt x="958" y="1091"/>
                    </a:lnTo>
                    <a:lnTo>
                      <a:pt x="888" y="1062"/>
                    </a:lnTo>
                    <a:lnTo>
                      <a:pt x="817" y="1034"/>
                    </a:lnTo>
                    <a:lnTo>
                      <a:pt x="745" y="1007"/>
                    </a:lnTo>
                    <a:lnTo>
                      <a:pt x="676" y="982"/>
                    </a:lnTo>
                    <a:lnTo>
                      <a:pt x="610" y="959"/>
                    </a:lnTo>
                    <a:lnTo>
                      <a:pt x="497" y="920"/>
                    </a:lnTo>
                    <a:lnTo>
                      <a:pt x="416" y="893"/>
                    </a:lnTo>
                    <a:lnTo>
                      <a:pt x="385" y="883"/>
                    </a:lnTo>
                    <a:lnTo>
                      <a:pt x="353" y="874"/>
                    </a:lnTo>
                    <a:lnTo>
                      <a:pt x="320" y="864"/>
                    </a:lnTo>
                    <a:lnTo>
                      <a:pt x="284" y="856"/>
                    </a:lnTo>
                    <a:lnTo>
                      <a:pt x="215" y="840"/>
                    </a:lnTo>
                    <a:lnTo>
                      <a:pt x="149" y="825"/>
                    </a:lnTo>
                    <a:lnTo>
                      <a:pt x="91" y="814"/>
                    </a:lnTo>
                    <a:lnTo>
                      <a:pt x="43" y="805"/>
                    </a:lnTo>
                    <a:lnTo>
                      <a:pt x="12" y="799"/>
                    </a:lnTo>
                    <a:lnTo>
                      <a:pt x="0" y="798"/>
                    </a:lnTo>
                    <a:lnTo>
                      <a:pt x="11" y="797"/>
                    </a:lnTo>
                    <a:lnTo>
                      <a:pt x="40" y="794"/>
                    </a:lnTo>
                    <a:lnTo>
                      <a:pt x="83" y="789"/>
                    </a:lnTo>
                    <a:lnTo>
                      <a:pt x="134" y="782"/>
                    </a:lnTo>
                    <a:lnTo>
                      <a:pt x="160" y="776"/>
                    </a:lnTo>
                    <a:lnTo>
                      <a:pt x="187" y="768"/>
                    </a:lnTo>
                    <a:lnTo>
                      <a:pt x="211" y="760"/>
                    </a:lnTo>
                    <a:lnTo>
                      <a:pt x="235" y="750"/>
                    </a:lnTo>
                    <a:lnTo>
                      <a:pt x="246" y="745"/>
                    </a:lnTo>
                    <a:lnTo>
                      <a:pt x="257" y="739"/>
                    </a:lnTo>
                    <a:lnTo>
                      <a:pt x="267" y="733"/>
                    </a:lnTo>
                    <a:lnTo>
                      <a:pt x="275" y="725"/>
                    </a:lnTo>
                    <a:lnTo>
                      <a:pt x="284" y="719"/>
                    </a:lnTo>
                    <a:lnTo>
                      <a:pt x="291" y="711"/>
                    </a:lnTo>
                    <a:lnTo>
                      <a:pt x="297" y="703"/>
                    </a:lnTo>
                    <a:lnTo>
                      <a:pt x="302" y="695"/>
                    </a:lnTo>
                    <a:lnTo>
                      <a:pt x="311" y="676"/>
                    </a:lnTo>
                    <a:lnTo>
                      <a:pt x="318" y="658"/>
                    </a:lnTo>
                    <a:lnTo>
                      <a:pt x="323" y="640"/>
                    </a:lnTo>
                    <a:lnTo>
                      <a:pt x="327" y="623"/>
                    </a:lnTo>
                    <a:lnTo>
                      <a:pt x="329" y="606"/>
                    </a:lnTo>
                    <a:lnTo>
                      <a:pt x="329" y="591"/>
                    </a:lnTo>
                    <a:lnTo>
                      <a:pt x="328" y="577"/>
                    </a:lnTo>
                    <a:lnTo>
                      <a:pt x="324" y="562"/>
                    </a:lnTo>
                    <a:lnTo>
                      <a:pt x="320" y="549"/>
                    </a:lnTo>
                    <a:lnTo>
                      <a:pt x="313" y="537"/>
                    </a:lnTo>
                    <a:lnTo>
                      <a:pt x="305" y="525"/>
                    </a:lnTo>
                    <a:lnTo>
                      <a:pt x="295" y="515"/>
                    </a:lnTo>
                    <a:lnTo>
                      <a:pt x="284" y="506"/>
                    </a:lnTo>
                    <a:lnTo>
                      <a:pt x="270" y="498"/>
                    </a:lnTo>
                    <a:lnTo>
                      <a:pt x="256" y="490"/>
                    </a:lnTo>
                    <a:lnTo>
                      <a:pt x="240" y="486"/>
                    </a:lnTo>
                    <a:lnTo>
                      <a:pt x="232" y="483"/>
                    </a:lnTo>
                    <a:lnTo>
                      <a:pt x="226" y="481"/>
                    </a:lnTo>
                    <a:lnTo>
                      <a:pt x="222" y="477"/>
                    </a:lnTo>
                    <a:lnTo>
                      <a:pt x="221" y="474"/>
                    </a:lnTo>
                    <a:lnTo>
                      <a:pt x="221" y="472"/>
                    </a:lnTo>
                    <a:lnTo>
                      <a:pt x="224" y="470"/>
                    </a:lnTo>
                    <a:lnTo>
                      <a:pt x="227" y="467"/>
                    </a:lnTo>
                    <a:lnTo>
                      <a:pt x="232" y="465"/>
                    </a:lnTo>
                    <a:lnTo>
                      <a:pt x="248" y="460"/>
                    </a:lnTo>
                    <a:lnTo>
                      <a:pt x="268" y="456"/>
                    </a:lnTo>
                    <a:lnTo>
                      <a:pt x="294" y="454"/>
                    </a:lnTo>
                    <a:lnTo>
                      <a:pt x="323" y="454"/>
                    </a:lnTo>
                    <a:lnTo>
                      <a:pt x="356" y="455"/>
                    </a:lnTo>
                    <a:lnTo>
                      <a:pt x="392" y="458"/>
                    </a:lnTo>
                    <a:lnTo>
                      <a:pt x="411" y="461"/>
                    </a:lnTo>
                    <a:lnTo>
                      <a:pt x="430" y="465"/>
                    </a:lnTo>
                    <a:lnTo>
                      <a:pt x="450" y="468"/>
                    </a:lnTo>
                    <a:lnTo>
                      <a:pt x="471" y="473"/>
                    </a:lnTo>
                    <a:lnTo>
                      <a:pt x="491" y="479"/>
                    </a:lnTo>
                    <a:lnTo>
                      <a:pt x="511" y="487"/>
                    </a:lnTo>
                    <a:lnTo>
                      <a:pt x="532" y="494"/>
                    </a:lnTo>
                    <a:lnTo>
                      <a:pt x="552" y="503"/>
                    </a:lnTo>
                    <a:lnTo>
                      <a:pt x="573" y="513"/>
                    </a:lnTo>
                    <a:lnTo>
                      <a:pt x="594" y="522"/>
                    </a:lnTo>
                    <a:lnTo>
                      <a:pt x="614" y="535"/>
                    </a:lnTo>
                    <a:lnTo>
                      <a:pt x="633" y="547"/>
                    </a:lnTo>
                    <a:lnTo>
                      <a:pt x="652" y="561"/>
                    </a:lnTo>
                    <a:lnTo>
                      <a:pt x="670" y="570"/>
                    </a:lnTo>
                    <a:lnTo>
                      <a:pt x="686" y="579"/>
                    </a:lnTo>
                    <a:lnTo>
                      <a:pt x="701" y="585"/>
                    </a:lnTo>
                    <a:lnTo>
                      <a:pt x="714" y="590"/>
                    </a:lnTo>
                    <a:lnTo>
                      <a:pt x="727" y="593"/>
                    </a:lnTo>
                    <a:lnTo>
                      <a:pt x="738" y="594"/>
                    </a:lnTo>
                    <a:lnTo>
                      <a:pt x="748" y="594"/>
                    </a:lnTo>
                    <a:lnTo>
                      <a:pt x="756" y="591"/>
                    </a:lnTo>
                    <a:lnTo>
                      <a:pt x="765" y="589"/>
                    </a:lnTo>
                    <a:lnTo>
                      <a:pt x="771" y="584"/>
                    </a:lnTo>
                    <a:lnTo>
                      <a:pt x="776" y="579"/>
                    </a:lnTo>
                    <a:lnTo>
                      <a:pt x="780" y="572"/>
                    </a:lnTo>
                    <a:lnTo>
                      <a:pt x="783" y="564"/>
                    </a:lnTo>
                    <a:lnTo>
                      <a:pt x="785" y="556"/>
                    </a:lnTo>
                    <a:lnTo>
                      <a:pt x="786" y="547"/>
                    </a:lnTo>
                    <a:lnTo>
                      <a:pt x="786" y="536"/>
                    </a:lnTo>
                    <a:lnTo>
                      <a:pt x="785" y="526"/>
                    </a:lnTo>
                    <a:lnTo>
                      <a:pt x="782" y="515"/>
                    </a:lnTo>
                    <a:lnTo>
                      <a:pt x="780" y="503"/>
                    </a:lnTo>
                    <a:lnTo>
                      <a:pt x="776" y="490"/>
                    </a:lnTo>
                    <a:lnTo>
                      <a:pt x="771" y="478"/>
                    </a:lnTo>
                    <a:lnTo>
                      <a:pt x="765" y="466"/>
                    </a:lnTo>
                    <a:lnTo>
                      <a:pt x="758" y="454"/>
                    </a:lnTo>
                    <a:lnTo>
                      <a:pt x="750" y="440"/>
                    </a:lnTo>
                    <a:lnTo>
                      <a:pt x="742" y="428"/>
                    </a:lnTo>
                    <a:lnTo>
                      <a:pt x="733" y="415"/>
                    </a:lnTo>
                    <a:lnTo>
                      <a:pt x="722" y="403"/>
                    </a:lnTo>
                    <a:lnTo>
                      <a:pt x="711" y="392"/>
                    </a:lnTo>
                    <a:lnTo>
                      <a:pt x="700" y="381"/>
                    </a:lnTo>
                    <a:lnTo>
                      <a:pt x="687" y="370"/>
                    </a:lnTo>
                    <a:lnTo>
                      <a:pt x="674" y="360"/>
                    </a:lnTo>
                    <a:lnTo>
                      <a:pt x="616" y="318"/>
                    </a:lnTo>
                    <a:lnTo>
                      <a:pt x="553" y="276"/>
                    </a:lnTo>
                    <a:lnTo>
                      <a:pt x="495" y="236"/>
                    </a:lnTo>
                    <a:lnTo>
                      <a:pt x="446" y="201"/>
                    </a:lnTo>
                    <a:lnTo>
                      <a:pt x="429" y="185"/>
                    </a:lnTo>
                    <a:lnTo>
                      <a:pt x="416" y="173"/>
                    </a:lnTo>
                    <a:lnTo>
                      <a:pt x="412" y="168"/>
                    </a:lnTo>
                    <a:lnTo>
                      <a:pt x="408" y="163"/>
                    </a:lnTo>
                    <a:lnTo>
                      <a:pt x="408" y="160"/>
                    </a:lnTo>
                    <a:lnTo>
                      <a:pt x="408" y="157"/>
                    </a:lnTo>
                    <a:lnTo>
                      <a:pt x="412" y="156"/>
                    </a:lnTo>
                    <a:lnTo>
                      <a:pt x="417" y="155"/>
                    </a:lnTo>
                    <a:lnTo>
                      <a:pt x="423" y="155"/>
                    </a:lnTo>
                    <a:lnTo>
                      <a:pt x="433" y="155"/>
                    </a:lnTo>
                    <a:lnTo>
                      <a:pt x="459" y="161"/>
                    </a:lnTo>
                    <a:lnTo>
                      <a:pt x="494" y="169"/>
                    </a:lnTo>
                    <a:lnTo>
                      <a:pt x="578" y="193"/>
                    </a:lnTo>
                    <a:lnTo>
                      <a:pt x="658" y="214"/>
                    </a:lnTo>
                    <a:lnTo>
                      <a:pt x="695" y="222"/>
                    </a:lnTo>
                    <a:lnTo>
                      <a:pt x="730" y="230"/>
                    </a:lnTo>
                    <a:lnTo>
                      <a:pt x="762" y="236"/>
                    </a:lnTo>
                    <a:lnTo>
                      <a:pt x="792" y="240"/>
                    </a:lnTo>
                    <a:lnTo>
                      <a:pt x="819" y="242"/>
                    </a:lnTo>
                    <a:lnTo>
                      <a:pt x="841" y="242"/>
                    </a:lnTo>
                    <a:lnTo>
                      <a:pt x="850" y="242"/>
                    </a:lnTo>
                    <a:lnTo>
                      <a:pt x="858" y="241"/>
                    </a:lnTo>
                    <a:lnTo>
                      <a:pt x="866" y="238"/>
                    </a:lnTo>
                    <a:lnTo>
                      <a:pt x="871" y="236"/>
                    </a:lnTo>
                    <a:lnTo>
                      <a:pt x="876" y="233"/>
                    </a:lnTo>
                    <a:lnTo>
                      <a:pt x="878" y="230"/>
                    </a:lnTo>
                    <a:lnTo>
                      <a:pt x="881" y="225"/>
                    </a:lnTo>
                    <a:lnTo>
                      <a:pt x="881" y="220"/>
                    </a:lnTo>
                    <a:lnTo>
                      <a:pt x="878" y="214"/>
                    </a:lnTo>
                    <a:lnTo>
                      <a:pt x="876" y="208"/>
                    </a:lnTo>
                    <a:lnTo>
                      <a:pt x="871" y="200"/>
                    </a:lnTo>
                    <a:lnTo>
                      <a:pt x="865" y="192"/>
                    </a:lnTo>
                    <a:lnTo>
                      <a:pt x="850" y="174"/>
                    </a:lnTo>
                    <a:lnTo>
                      <a:pt x="836" y="155"/>
                    </a:lnTo>
                    <a:lnTo>
                      <a:pt x="823" y="134"/>
                    </a:lnTo>
                    <a:lnTo>
                      <a:pt x="810" y="113"/>
                    </a:lnTo>
                    <a:lnTo>
                      <a:pt x="801" y="92"/>
                    </a:lnTo>
                    <a:lnTo>
                      <a:pt x="792" y="72"/>
                    </a:lnTo>
                    <a:lnTo>
                      <a:pt x="785" y="53"/>
                    </a:lnTo>
                    <a:lnTo>
                      <a:pt x="782" y="37"/>
                    </a:lnTo>
                    <a:lnTo>
                      <a:pt x="781" y="29"/>
                    </a:lnTo>
                    <a:lnTo>
                      <a:pt x="781" y="22"/>
                    </a:lnTo>
                    <a:lnTo>
                      <a:pt x="782" y="16"/>
                    </a:lnTo>
                    <a:lnTo>
                      <a:pt x="785" y="11"/>
                    </a:lnTo>
                    <a:lnTo>
                      <a:pt x="788" y="6"/>
                    </a:lnTo>
                    <a:lnTo>
                      <a:pt x="792" y="2"/>
                    </a:lnTo>
                    <a:lnTo>
                      <a:pt x="798" y="1"/>
                    </a:lnTo>
                    <a:lnTo>
                      <a:pt x="804" y="0"/>
                    </a:lnTo>
                    <a:lnTo>
                      <a:pt x="812" y="0"/>
                    </a:lnTo>
                    <a:lnTo>
                      <a:pt x="822" y="1"/>
                    </a:lnTo>
                    <a:lnTo>
                      <a:pt x="831" y="3"/>
                    </a:lnTo>
                    <a:lnTo>
                      <a:pt x="844" y="7"/>
                    </a:lnTo>
                    <a:lnTo>
                      <a:pt x="856" y="13"/>
                    </a:lnTo>
                    <a:lnTo>
                      <a:pt x="871" y="21"/>
                    </a:lnTo>
                    <a:lnTo>
                      <a:pt x="887" y="29"/>
                    </a:lnTo>
                    <a:lnTo>
                      <a:pt x="905" y="39"/>
                    </a:lnTo>
                    <a:lnTo>
                      <a:pt x="937" y="59"/>
                    </a:lnTo>
                    <a:lnTo>
                      <a:pt x="970" y="81"/>
                    </a:lnTo>
                    <a:lnTo>
                      <a:pt x="1005" y="105"/>
                    </a:lnTo>
                    <a:lnTo>
                      <a:pt x="1038" y="133"/>
                    </a:lnTo>
                    <a:lnTo>
                      <a:pt x="1071" y="162"/>
                    </a:lnTo>
                    <a:lnTo>
                      <a:pt x="1104" y="193"/>
                    </a:lnTo>
                    <a:lnTo>
                      <a:pt x="1136" y="227"/>
                    </a:lnTo>
                    <a:lnTo>
                      <a:pt x="1167" y="263"/>
                    </a:lnTo>
                    <a:lnTo>
                      <a:pt x="1182" y="281"/>
                    </a:lnTo>
                    <a:lnTo>
                      <a:pt x="1196" y="301"/>
                    </a:lnTo>
                    <a:lnTo>
                      <a:pt x="1209" y="321"/>
                    </a:lnTo>
                    <a:lnTo>
                      <a:pt x="1223" y="340"/>
                    </a:lnTo>
                    <a:lnTo>
                      <a:pt x="1235" y="361"/>
                    </a:lnTo>
                    <a:lnTo>
                      <a:pt x="1247" y="382"/>
                    </a:lnTo>
                    <a:lnTo>
                      <a:pt x="1258" y="403"/>
                    </a:lnTo>
                    <a:lnTo>
                      <a:pt x="1268" y="425"/>
                    </a:lnTo>
                    <a:lnTo>
                      <a:pt x="1278" y="447"/>
                    </a:lnTo>
                    <a:lnTo>
                      <a:pt x="1287" y="470"/>
                    </a:lnTo>
                    <a:lnTo>
                      <a:pt x="1295" y="493"/>
                    </a:lnTo>
                    <a:lnTo>
                      <a:pt x="1303" y="516"/>
                    </a:lnTo>
                    <a:lnTo>
                      <a:pt x="1309" y="540"/>
                    </a:lnTo>
                    <a:lnTo>
                      <a:pt x="1314" y="564"/>
                    </a:lnTo>
                    <a:lnTo>
                      <a:pt x="1317" y="588"/>
                    </a:lnTo>
                    <a:lnTo>
                      <a:pt x="1321" y="612"/>
                    </a:lnTo>
                    <a:lnTo>
                      <a:pt x="1323" y="637"/>
                    </a:lnTo>
                    <a:lnTo>
                      <a:pt x="1327" y="659"/>
                    </a:lnTo>
                    <a:lnTo>
                      <a:pt x="1332" y="681"/>
                    </a:lnTo>
                    <a:lnTo>
                      <a:pt x="1338" y="703"/>
                    </a:lnTo>
                    <a:lnTo>
                      <a:pt x="1346" y="723"/>
                    </a:lnTo>
                    <a:lnTo>
                      <a:pt x="1353" y="743"/>
                    </a:lnTo>
                    <a:lnTo>
                      <a:pt x="1362" y="762"/>
                    </a:lnTo>
                    <a:lnTo>
                      <a:pt x="1370" y="781"/>
                    </a:lnTo>
                    <a:lnTo>
                      <a:pt x="1381" y="798"/>
                    </a:lnTo>
                    <a:lnTo>
                      <a:pt x="1391" y="816"/>
                    </a:lnTo>
                    <a:lnTo>
                      <a:pt x="1403" y="834"/>
                    </a:lnTo>
                    <a:lnTo>
                      <a:pt x="1416" y="851"/>
                    </a:lnTo>
                    <a:lnTo>
                      <a:pt x="1443" y="884"/>
                    </a:lnTo>
                    <a:lnTo>
                      <a:pt x="1472" y="918"/>
                    </a:lnTo>
                    <a:lnTo>
                      <a:pt x="1538" y="989"/>
                    </a:lnTo>
                    <a:lnTo>
                      <a:pt x="1613" y="1065"/>
                    </a:lnTo>
                    <a:lnTo>
                      <a:pt x="1652" y="1108"/>
                    </a:lnTo>
                    <a:lnTo>
                      <a:pt x="1694" y="1155"/>
                    </a:lnTo>
                    <a:lnTo>
                      <a:pt x="1736" y="1206"/>
                    </a:lnTo>
                    <a:lnTo>
                      <a:pt x="1780" y="1262"/>
                    </a:lnTo>
                    <a:lnTo>
                      <a:pt x="1802" y="1294"/>
                    </a:lnTo>
                    <a:lnTo>
                      <a:pt x="1823" y="1327"/>
                    </a:lnTo>
                    <a:lnTo>
                      <a:pt x="1844" y="1364"/>
                    </a:lnTo>
                    <a:lnTo>
                      <a:pt x="1865" y="1403"/>
                    </a:lnTo>
                    <a:lnTo>
                      <a:pt x="1883" y="1444"/>
                    </a:lnTo>
                    <a:lnTo>
                      <a:pt x="1902" y="1487"/>
                    </a:lnTo>
                    <a:lnTo>
                      <a:pt x="1920" y="1530"/>
                    </a:lnTo>
                    <a:lnTo>
                      <a:pt x="1936" y="1574"/>
                    </a:lnTo>
                    <a:lnTo>
                      <a:pt x="1952" y="1620"/>
                    </a:lnTo>
                    <a:lnTo>
                      <a:pt x="1966" y="1664"/>
                    </a:lnTo>
                    <a:lnTo>
                      <a:pt x="1978" y="1708"/>
                    </a:lnTo>
                    <a:lnTo>
                      <a:pt x="1989" y="1752"/>
                    </a:lnTo>
                    <a:lnTo>
                      <a:pt x="1999" y="1795"/>
                    </a:lnTo>
                    <a:lnTo>
                      <a:pt x="2007" y="1836"/>
                    </a:lnTo>
                    <a:lnTo>
                      <a:pt x="2014" y="1875"/>
                    </a:lnTo>
                    <a:lnTo>
                      <a:pt x="2017" y="1914"/>
                    </a:lnTo>
                    <a:lnTo>
                      <a:pt x="2020" y="1948"/>
                    </a:lnTo>
                    <a:lnTo>
                      <a:pt x="2020" y="1980"/>
                    </a:lnTo>
                    <a:lnTo>
                      <a:pt x="2019" y="2008"/>
                    </a:lnTo>
                    <a:lnTo>
                      <a:pt x="2014" y="2033"/>
                    </a:lnTo>
                    <a:lnTo>
                      <a:pt x="2007" y="2054"/>
                    </a:lnTo>
                    <a:lnTo>
                      <a:pt x="1999" y="2070"/>
                    </a:lnTo>
                    <a:lnTo>
                      <a:pt x="1987" y="2081"/>
                    </a:lnTo>
                    <a:lnTo>
                      <a:pt x="1972" y="2088"/>
                    </a:lnTo>
                    <a:lnTo>
                      <a:pt x="1956" y="2088"/>
                    </a:lnTo>
                    <a:lnTo>
                      <a:pt x="1935" y="2083"/>
                    </a:lnTo>
                    <a:lnTo>
                      <a:pt x="1913" y="2072"/>
                    </a:lnTo>
                    <a:lnTo>
                      <a:pt x="1887" y="2054"/>
                    </a:lnTo>
                    <a:lnTo>
                      <a:pt x="1857" y="2029"/>
                    </a:lnTo>
                    <a:lnTo>
                      <a:pt x="1825" y="1997"/>
                    </a:lnTo>
                    <a:lnTo>
                      <a:pt x="1790" y="1957"/>
                    </a:lnTo>
                    <a:lnTo>
                      <a:pt x="1750" y="190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5708520" y="3043440"/>
                <a:ext cx="606600" cy="606240"/>
              </a:xfrm>
              <a:custGeom>
                <a:avLst/>
                <a:gdLst/>
                <a:ahLst/>
                <a:rect l="l" t="t" r="r" b="b"/>
                <a:pathLst>
                  <a:path w="1911" h="1909">
                    <a:moveTo>
                      <a:pt x="1646" y="1719"/>
                    </a:moveTo>
                    <a:lnTo>
                      <a:pt x="1551" y="1597"/>
                    </a:lnTo>
                    <a:lnTo>
                      <a:pt x="1473" y="1496"/>
                    </a:lnTo>
                    <a:lnTo>
                      <a:pt x="1411" y="1414"/>
                    </a:lnTo>
                    <a:lnTo>
                      <a:pt x="1359" y="1346"/>
                    </a:lnTo>
                    <a:lnTo>
                      <a:pt x="1318" y="1289"/>
                    </a:lnTo>
                    <a:lnTo>
                      <a:pt x="1286" y="1243"/>
                    </a:lnTo>
                    <a:lnTo>
                      <a:pt x="1259" y="1201"/>
                    </a:lnTo>
                    <a:lnTo>
                      <a:pt x="1238" y="1161"/>
                    </a:lnTo>
                    <a:lnTo>
                      <a:pt x="1231" y="1152"/>
                    </a:lnTo>
                    <a:lnTo>
                      <a:pt x="1221" y="1142"/>
                    </a:lnTo>
                    <a:lnTo>
                      <a:pt x="1209" y="1132"/>
                    </a:lnTo>
                    <a:lnTo>
                      <a:pt x="1193" y="1121"/>
                    </a:lnTo>
                    <a:lnTo>
                      <a:pt x="1173" y="1110"/>
                    </a:lnTo>
                    <a:lnTo>
                      <a:pt x="1152" y="1099"/>
                    </a:lnTo>
                    <a:lnTo>
                      <a:pt x="1129" y="1088"/>
                    </a:lnTo>
                    <a:lnTo>
                      <a:pt x="1103" y="1075"/>
                    </a:lnTo>
                    <a:lnTo>
                      <a:pt x="1046" y="1052"/>
                    </a:lnTo>
                    <a:lnTo>
                      <a:pt x="984" y="1029"/>
                    </a:lnTo>
                    <a:lnTo>
                      <a:pt x="916" y="1005"/>
                    </a:lnTo>
                    <a:lnTo>
                      <a:pt x="846" y="982"/>
                    </a:lnTo>
                    <a:lnTo>
                      <a:pt x="703" y="939"/>
                    </a:lnTo>
                    <a:lnTo>
                      <a:pt x="568" y="898"/>
                    </a:lnTo>
                    <a:lnTo>
                      <a:pt x="455" y="866"/>
                    </a:lnTo>
                    <a:lnTo>
                      <a:pt x="374" y="842"/>
                    </a:lnTo>
                    <a:lnTo>
                      <a:pt x="344" y="832"/>
                    </a:lnTo>
                    <a:lnTo>
                      <a:pt x="312" y="823"/>
                    </a:lnTo>
                    <a:lnTo>
                      <a:pt x="281" y="815"/>
                    </a:lnTo>
                    <a:lnTo>
                      <a:pt x="249" y="806"/>
                    </a:lnTo>
                    <a:lnTo>
                      <a:pt x="187" y="792"/>
                    </a:lnTo>
                    <a:lnTo>
                      <a:pt x="127" y="780"/>
                    </a:lnTo>
                    <a:lnTo>
                      <a:pt x="76" y="770"/>
                    </a:lnTo>
                    <a:lnTo>
                      <a:pt x="35" y="763"/>
                    </a:lnTo>
                    <a:lnTo>
                      <a:pt x="8" y="759"/>
                    </a:lnTo>
                    <a:lnTo>
                      <a:pt x="0" y="757"/>
                    </a:lnTo>
                    <a:lnTo>
                      <a:pt x="9" y="757"/>
                    </a:lnTo>
                    <a:lnTo>
                      <a:pt x="39" y="754"/>
                    </a:lnTo>
                    <a:lnTo>
                      <a:pt x="79" y="749"/>
                    </a:lnTo>
                    <a:lnTo>
                      <a:pt x="130" y="741"/>
                    </a:lnTo>
                    <a:lnTo>
                      <a:pt x="156" y="735"/>
                    </a:lnTo>
                    <a:lnTo>
                      <a:pt x="182" y="728"/>
                    </a:lnTo>
                    <a:lnTo>
                      <a:pt x="206" y="720"/>
                    </a:lnTo>
                    <a:lnTo>
                      <a:pt x="231" y="710"/>
                    </a:lnTo>
                    <a:lnTo>
                      <a:pt x="242" y="705"/>
                    </a:lnTo>
                    <a:lnTo>
                      <a:pt x="253" y="699"/>
                    </a:lnTo>
                    <a:lnTo>
                      <a:pt x="263" y="693"/>
                    </a:lnTo>
                    <a:lnTo>
                      <a:pt x="271" y="687"/>
                    </a:lnTo>
                    <a:lnTo>
                      <a:pt x="280" y="681"/>
                    </a:lnTo>
                    <a:lnTo>
                      <a:pt x="289" y="673"/>
                    </a:lnTo>
                    <a:lnTo>
                      <a:pt x="295" y="665"/>
                    </a:lnTo>
                    <a:lnTo>
                      <a:pt x="301" y="657"/>
                    </a:lnTo>
                    <a:lnTo>
                      <a:pt x="312" y="639"/>
                    </a:lnTo>
                    <a:lnTo>
                      <a:pt x="321" y="620"/>
                    </a:lnTo>
                    <a:lnTo>
                      <a:pt x="328" y="603"/>
                    </a:lnTo>
                    <a:lnTo>
                      <a:pt x="334" y="586"/>
                    </a:lnTo>
                    <a:lnTo>
                      <a:pt x="338" y="569"/>
                    </a:lnTo>
                    <a:lnTo>
                      <a:pt x="339" y="553"/>
                    </a:lnTo>
                    <a:lnTo>
                      <a:pt x="339" y="537"/>
                    </a:lnTo>
                    <a:lnTo>
                      <a:pt x="337" y="522"/>
                    </a:lnTo>
                    <a:lnTo>
                      <a:pt x="333" y="508"/>
                    </a:lnTo>
                    <a:lnTo>
                      <a:pt x="327" y="495"/>
                    </a:lnTo>
                    <a:lnTo>
                      <a:pt x="319" y="484"/>
                    </a:lnTo>
                    <a:lnTo>
                      <a:pt x="310" y="473"/>
                    </a:lnTo>
                    <a:lnTo>
                      <a:pt x="298" y="463"/>
                    </a:lnTo>
                    <a:lnTo>
                      <a:pt x="285" y="454"/>
                    </a:lnTo>
                    <a:lnTo>
                      <a:pt x="271" y="448"/>
                    </a:lnTo>
                    <a:lnTo>
                      <a:pt x="254" y="442"/>
                    </a:lnTo>
                    <a:lnTo>
                      <a:pt x="247" y="439"/>
                    </a:lnTo>
                    <a:lnTo>
                      <a:pt x="241" y="437"/>
                    </a:lnTo>
                    <a:lnTo>
                      <a:pt x="237" y="435"/>
                    </a:lnTo>
                    <a:lnTo>
                      <a:pt x="234" y="432"/>
                    </a:lnTo>
                    <a:lnTo>
                      <a:pt x="233" y="430"/>
                    </a:lnTo>
                    <a:lnTo>
                      <a:pt x="234" y="427"/>
                    </a:lnTo>
                    <a:lnTo>
                      <a:pt x="237" y="425"/>
                    </a:lnTo>
                    <a:lnTo>
                      <a:pt x="241" y="422"/>
                    </a:lnTo>
                    <a:lnTo>
                      <a:pt x="252" y="419"/>
                    </a:lnTo>
                    <a:lnTo>
                      <a:pt x="269" y="416"/>
                    </a:lnTo>
                    <a:lnTo>
                      <a:pt x="290" y="416"/>
                    </a:lnTo>
                    <a:lnTo>
                      <a:pt x="316" y="416"/>
                    </a:lnTo>
                    <a:lnTo>
                      <a:pt x="344" y="420"/>
                    </a:lnTo>
                    <a:lnTo>
                      <a:pt x="376" y="425"/>
                    </a:lnTo>
                    <a:lnTo>
                      <a:pt x="410" y="432"/>
                    </a:lnTo>
                    <a:lnTo>
                      <a:pt x="446" y="443"/>
                    </a:lnTo>
                    <a:lnTo>
                      <a:pt x="466" y="449"/>
                    </a:lnTo>
                    <a:lnTo>
                      <a:pt x="484" y="457"/>
                    </a:lnTo>
                    <a:lnTo>
                      <a:pt x="504" y="465"/>
                    </a:lnTo>
                    <a:lnTo>
                      <a:pt x="524" y="474"/>
                    </a:lnTo>
                    <a:lnTo>
                      <a:pt x="543" y="485"/>
                    </a:lnTo>
                    <a:lnTo>
                      <a:pt x="563" y="496"/>
                    </a:lnTo>
                    <a:lnTo>
                      <a:pt x="583" y="508"/>
                    </a:lnTo>
                    <a:lnTo>
                      <a:pt x="602" y="521"/>
                    </a:lnTo>
                    <a:lnTo>
                      <a:pt x="621" y="533"/>
                    </a:lnTo>
                    <a:lnTo>
                      <a:pt x="639" y="544"/>
                    </a:lnTo>
                    <a:lnTo>
                      <a:pt x="655" y="553"/>
                    </a:lnTo>
                    <a:lnTo>
                      <a:pt x="671" y="559"/>
                    </a:lnTo>
                    <a:lnTo>
                      <a:pt x="686" y="562"/>
                    </a:lnTo>
                    <a:lnTo>
                      <a:pt x="698" y="566"/>
                    </a:lnTo>
                    <a:lnTo>
                      <a:pt x="711" y="567"/>
                    </a:lnTo>
                    <a:lnTo>
                      <a:pt x="722" y="566"/>
                    </a:lnTo>
                    <a:lnTo>
                      <a:pt x="732" y="565"/>
                    </a:lnTo>
                    <a:lnTo>
                      <a:pt x="741" y="561"/>
                    </a:lnTo>
                    <a:lnTo>
                      <a:pt x="749" y="558"/>
                    </a:lnTo>
                    <a:lnTo>
                      <a:pt x="755" y="551"/>
                    </a:lnTo>
                    <a:lnTo>
                      <a:pt x="761" y="544"/>
                    </a:lnTo>
                    <a:lnTo>
                      <a:pt x="765" y="537"/>
                    </a:lnTo>
                    <a:lnTo>
                      <a:pt x="768" y="528"/>
                    </a:lnTo>
                    <a:lnTo>
                      <a:pt x="771" y="518"/>
                    </a:lnTo>
                    <a:lnTo>
                      <a:pt x="772" y="508"/>
                    </a:lnTo>
                    <a:lnTo>
                      <a:pt x="773" y="497"/>
                    </a:lnTo>
                    <a:lnTo>
                      <a:pt x="772" y="486"/>
                    </a:lnTo>
                    <a:lnTo>
                      <a:pt x="771" y="474"/>
                    </a:lnTo>
                    <a:lnTo>
                      <a:pt x="768" y="462"/>
                    </a:lnTo>
                    <a:lnTo>
                      <a:pt x="765" y="449"/>
                    </a:lnTo>
                    <a:lnTo>
                      <a:pt x="760" y="437"/>
                    </a:lnTo>
                    <a:lnTo>
                      <a:pt x="754" y="425"/>
                    </a:lnTo>
                    <a:lnTo>
                      <a:pt x="748" y="411"/>
                    </a:lnTo>
                    <a:lnTo>
                      <a:pt x="740" y="399"/>
                    </a:lnTo>
                    <a:lnTo>
                      <a:pt x="732" y="387"/>
                    </a:lnTo>
                    <a:lnTo>
                      <a:pt x="722" y="374"/>
                    </a:lnTo>
                    <a:lnTo>
                      <a:pt x="712" y="363"/>
                    </a:lnTo>
                    <a:lnTo>
                      <a:pt x="701" y="352"/>
                    </a:lnTo>
                    <a:lnTo>
                      <a:pt x="688" y="341"/>
                    </a:lnTo>
                    <a:lnTo>
                      <a:pt x="675" y="331"/>
                    </a:lnTo>
                    <a:lnTo>
                      <a:pt x="618" y="289"/>
                    </a:lnTo>
                    <a:lnTo>
                      <a:pt x="558" y="246"/>
                    </a:lnTo>
                    <a:lnTo>
                      <a:pt x="501" y="206"/>
                    </a:lnTo>
                    <a:lnTo>
                      <a:pt x="455" y="170"/>
                    </a:lnTo>
                    <a:lnTo>
                      <a:pt x="439" y="155"/>
                    </a:lnTo>
                    <a:lnTo>
                      <a:pt x="426" y="143"/>
                    </a:lnTo>
                    <a:lnTo>
                      <a:pt x="423" y="138"/>
                    </a:lnTo>
                    <a:lnTo>
                      <a:pt x="420" y="133"/>
                    </a:lnTo>
                    <a:lnTo>
                      <a:pt x="420" y="129"/>
                    </a:lnTo>
                    <a:lnTo>
                      <a:pt x="421" y="127"/>
                    </a:lnTo>
                    <a:lnTo>
                      <a:pt x="425" y="125"/>
                    </a:lnTo>
                    <a:lnTo>
                      <a:pt x="430" y="123"/>
                    </a:lnTo>
                    <a:lnTo>
                      <a:pt x="437" y="125"/>
                    </a:lnTo>
                    <a:lnTo>
                      <a:pt x="447" y="125"/>
                    </a:lnTo>
                    <a:lnTo>
                      <a:pt x="473" y="131"/>
                    </a:lnTo>
                    <a:lnTo>
                      <a:pt x="510" y="141"/>
                    </a:lnTo>
                    <a:lnTo>
                      <a:pt x="593" y="164"/>
                    </a:lnTo>
                    <a:lnTo>
                      <a:pt x="669" y="186"/>
                    </a:lnTo>
                    <a:lnTo>
                      <a:pt x="704" y="195"/>
                    </a:lnTo>
                    <a:lnTo>
                      <a:pt x="739" y="203"/>
                    </a:lnTo>
                    <a:lnTo>
                      <a:pt x="770" y="209"/>
                    </a:lnTo>
                    <a:lnTo>
                      <a:pt x="797" y="216"/>
                    </a:lnTo>
                    <a:lnTo>
                      <a:pt x="821" y="218"/>
                    </a:lnTo>
                    <a:lnTo>
                      <a:pt x="841" y="219"/>
                    </a:lnTo>
                    <a:lnTo>
                      <a:pt x="850" y="219"/>
                    </a:lnTo>
                    <a:lnTo>
                      <a:pt x="857" y="218"/>
                    </a:lnTo>
                    <a:lnTo>
                      <a:pt x="863" y="217"/>
                    </a:lnTo>
                    <a:lnTo>
                      <a:pt x="868" y="216"/>
                    </a:lnTo>
                    <a:lnTo>
                      <a:pt x="872" y="213"/>
                    </a:lnTo>
                    <a:lnTo>
                      <a:pt x="874" y="209"/>
                    </a:lnTo>
                    <a:lnTo>
                      <a:pt x="874" y="205"/>
                    </a:lnTo>
                    <a:lnTo>
                      <a:pt x="874" y="201"/>
                    </a:lnTo>
                    <a:lnTo>
                      <a:pt x="873" y="195"/>
                    </a:lnTo>
                    <a:lnTo>
                      <a:pt x="869" y="189"/>
                    </a:lnTo>
                    <a:lnTo>
                      <a:pt x="864" y="181"/>
                    </a:lnTo>
                    <a:lnTo>
                      <a:pt x="857" y="174"/>
                    </a:lnTo>
                    <a:lnTo>
                      <a:pt x="843" y="155"/>
                    </a:lnTo>
                    <a:lnTo>
                      <a:pt x="830" y="136"/>
                    </a:lnTo>
                    <a:lnTo>
                      <a:pt x="818" y="116"/>
                    </a:lnTo>
                    <a:lnTo>
                      <a:pt x="807" y="96"/>
                    </a:lnTo>
                    <a:lnTo>
                      <a:pt x="798" y="77"/>
                    </a:lnTo>
                    <a:lnTo>
                      <a:pt x="791" y="59"/>
                    </a:lnTo>
                    <a:lnTo>
                      <a:pt x="788" y="51"/>
                    </a:lnTo>
                    <a:lnTo>
                      <a:pt x="787" y="42"/>
                    </a:lnTo>
                    <a:lnTo>
                      <a:pt x="786" y="35"/>
                    </a:lnTo>
                    <a:lnTo>
                      <a:pt x="786" y="27"/>
                    </a:lnTo>
                    <a:lnTo>
                      <a:pt x="786" y="21"/>
                    </a:lnTo>
                    <a:lnTo>
                      <a:pt x="787" y="15"/>
                    </a:lnTo>
                    <a:lnTo>
                      <a:pt x="789" y="10"/>
                    </a:lnTo>
                    <a:lnTo>
                      <a:pt x="793" y="6"/>
                    </a:lnTo>
                    <a:lnTo>
                      <a:pt x="797" y="3"/>
                    </a:lnTo>
                    <a:lnTo>
                      <a:pt x="802" y="0"/>
                    </a:lnTo>
                    <a:lnTo>
                      <a:pt x="808" y="0"/>
                    </a:lnTo>
                    <a:lnTo>
                      <a:pt x="815" y="0"/>
                    </a:lnTo>
                    <a:lnTo>
                      <a:pt x="824" y="2"/>
                    </a:lnTo>
                    <a:lnTo>
                      <a:pt x="834" y="4"/>
                    </a:lnTo>
                    <a:lnTo>
                      <a:pt x="845" y="8"/>
                    </a:lnTo>
                    <a:lnTo>
                      <a:pt x="856" y="13"/>
                    </a:lnTo>
                    <a:lnTo>
                      <a:pt x="869" y="19"/>
                    </a:lnTo>
                    <a:lnTo>
                      <a:pt x="884" y="27"/>
                    </a:lnTo>
                    <a:lnTo>
                      <a:pt x="900" y="37"/>
                    </a:lnTo>
                    <a:lnTo>
                      <a:pt x="917" y="48"/>
                    </a:lnTo>
                    <a:lnTo>
                      <a:pt x="946" y="67"/>
                    </a:lnTo>
                    <a:lnTo>
                      <a:pt x="975" y="88"/>
                    </a:lnTo>
                    <a:lnTo>
                      <a:pt x="1003" y="111"/>
                    </a:lnTo>
                    <a:lnTo>
                      <a:pt x="1032" y="137"/>
                    </a:lnTo>
                    <a:lnTo>
                      <a:pt x="1059" y="164"/>
                    </a:lnTo>
                    <a:lnTo>
                      <a:pt x="1086" y="193"/>
                    </a:lnTo>
                    <a:lnTo>
                      <a:pt x="1110" y="225"/>
                    </a:lnTo>
                    <a:lnTo>
                      <a:pt x="1135" y="260"/>
                    </a:lnTo>
                    <a:lnTo>
                      <a:pt x="1158" y="296"/>
                    </a:lnTo>
                    <a:lnTo>
                      <a:pt x="1179" y="334"/>
                    </a:lnTo>
                    <a:lnTo>
                      <a:pt x="1189" y="353"/>
                    </a:lnTo>
                    <a:lnTo>
                      <a:pt x="1199" y="374"/>
                    </a:lnTo>
                    <a:lnTo>
                      <a:pt x="1208" y="394"/>
                    </a:lnTo>
                    <a:lnTo>
                      <a:pt x="1216" y="415"/>
                    </a:lnTo>
                    <a:lnTo>
                      <a:pt x="1224" y="437"/>
                    </a:lnTo>
                    <a:lnTo>
                      <a:pt x="1231" y="459"/>
                    </a:lnTo>
                    <a:lnTo>
                      <a:pt x="1237" y="481"/>
                    </a:lnTo>
                    <a:lnTo>
                      <a:pt x="1243" y="505"/>
                    </a:lnTo>
                    <a:lnTo>
                      <a:pt x="1248" y="528"/>
                    </a:lnTo>
                    <a:lnTo>
                      <a:pt x="1253" y="551"/>
                    </a:lnTo>
                    <a:lnTo>
                      <a:pt x="1257" y="575"/>
                    </a:lnTo>
                    <a:lnTo>
                      <a:pt x="1259" y="599"/>
                    </a:lnTo>
                    <a:lnTo>
                      <a:pt x="1262" y="624"/>
                    </a:lnTo>
                    <a:lnTo>
                      <a:pt x="1265" y="646"/>
                    </a:lnTo>
                    <a:lnTo>
                      <a:pt x="1269" y="666"/>
                    </a:lnTo>
                    <a:lnTo>
                      <a:pt x="1274" y="685"/>
                    </a:lnTo>
                    <a:lnTo>
                      <a:pt x="1279" y="704"/>
                    </a:lnTo>
                    <a:lnTo>
                      <a:pt x="1285" y="721"/>
                    </a:lnTo>
                    <a:lnTo>
                      <a:pt x="1291" y="737"/>
                    </a:lnTo>
                    <a:lnTo>
                      <a:pt x="1299" y="752"/>
                    </a:lnTo>
                    <a:lnTo>
                      <a:pt x="1307" y="767"/>
                    </a:lnTo>
                    <a:lnTo>
                      <a:pt x="1316" y="781"/>
                    </a:lnTo>
                    <a:lnTo>
                      <a:pt x="1325" y="795"/>
                    </a:lnTo>
                    <a:lnTo>
                      <a:pt x="1334" y="807"/>
                    </a:lnTo>
                    <a:lnTo>
                      <a:pt x="1355" y="833"/>
                    </a:lnTo>
                    <a:lnTo>
                      <a:pt x="1380" y="858"/>
                    </a:lnTo>
                    <a:lnTo>
                      <a:pt x="1435" y="911"/>
                    </a:lnTo>
                    <a:lnTo>
                      <a:pt x="1500" y="973"/>
                    </a:lnTo>
                    <a:lnTo>
                      <a:pt x="1536" y="1010"/>
                    </a:lnTo>
                    <a:lnTo>
                      <a:pt x="1575" y="1053"/>
                    </a:lnTo>
                    <a:lnTo>
                      <a:pt x="1595" y="1077"/>
                    </a:lnTo>
                    <a:lnTo>
                      <a:pt x="1616" y="1101"/>
                    </a:lnTo>
                    <a:lnTo>
                      <a:pt x="1637" y="1128"/>
                    </a:lnTo>
                    <a:lnTo>
                      <a:pt x="1659" y="1157"/>
                    </a:lnTo>
                    <a:lnTo>
                      <a:pt x="1681" y="1187"/>
                    </a:lnTo>
                    <a:lnTo>
                      <a:pt x="1702" y="1220"/>
                    </a:lnTo>
                    <a:lnTo>
                      <a:pt x="1724" y="1256"/>
                    </a:lnTo>
                    <a:lnTo>
                      <a:pt x="1744" y="1293"/>
                    </a:lnTo>
                    <a:lnTo>
                      <a:pt x="1765" y="1332"/>
                    </a:lnTo>
                    <a:lnTo>
                      <a:pt x="1783" y="1372"/>
                    </a:lnTo>
                    <a:lnTo>
                      <a:pt x="1802" y="1414"/>
                    </a:lnTo>
                    <a:lnTo>
                      <a:pt x="1819" y="1454"/>
                    </a:lnTo>
                    <a:lnTo>
                      <a:pt x="1835" y="1496"/>
                    </a:lnTo>
                    <a:lnTo>
                      <a:pt x="1850" y="1538"/>
                    </a:lnTo>
                    <a:lnTo>
                      <a:pt x="1863" y="1578"/>
                    </a:lnTo>
                    <a:lnTo>
                      <a:pt x="1876" y="1619"/>
                    </a:lnTo>
                    <a:lnTo>
                      <a:pt x="1886" y="1657"/>
                    </a:lnTo>
                    <a:lnTo>
                      <a:pt x="1894" y="1695"/>
                    </a:lnTo>
                    <a:lnTo>
                      <a:pt x="1902" y="1731"/>
                    </a:lnTo>
                    <a:lnTo>
                      <a:pt x="1906" y="1764"/>
                    </a:lnTo>
                    <a:lnTo>
                      <a:pt x="1910" y="1795"/>
                    </a:lnTo>
                    <a:lnTo>
                      <a:pt x="1911" y="1822"/>
                    </a:lnTo>
                    <a:lnTo>
                      <a:pt x="1910" y="1847"/>
                    </a:lnTo>
                    <a:lnTo>
                      <a:pt x="1906" y="1867"/>
                    </a:lnTo>
                    <a:lnTo>
                      <a:pt x="1900" y="1885"/>
                    </a:lnTo>
                    <a:lnTo>
                      <a:pt x="1893" y="1898"/>
                    </a:lnTo>
                    <a:lnTo>
                      <a:pt x="1882" y="1907"/>
                    </a:lnTo>
                    <a:lnTo>
                      <a:pt x="1867" y="1909"/>
                    </a:lnTo>
                    <a:lnTo>
                      <a:pt x="1851" y="1908"/>
                    </a:lnTo>
                    <a:lnTo>
                      <a:pt x="1831" y="1901"/>
                    </a:lnTo>
                    <a:lnTo>
                      <a:pt x="1809" y="1887"/>
                    </a:lnTo>
                    <a:lnTo>
                      <a:pt x="1783" y="1867"/>
                    </a:lnTo>
                    <a:lnTo>
                      <a:pt x="1754" y="1842"/>
                    </a:lnTo>
                    <a:lnTo>
                      <a:pt x="1721" y="1807"/>
                    </a:lnTo>
                    <a:lnTo>
                      <a:pt x="1685" y="1767"/>
                    </a:lnTo>
                    <a:lnTo>
                      <a:pt x="1646" y="1719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5721480" y="3059280"/>
                <a:ext cx="573120" cy="549360"/>
              </a:xfrm>
              <a:custGeom>
                <a:avLst/>
                <a:gdLst/>
                <a:ahLst/>
                <a:rect l="l" t="t" r="r" b="b"/>
                <a:pathLst>
                  <a:path w="1804" h="1730">
                    <a:moveTo>
                      <a:pt x="1545" y="1527"/>
                    </a:moveTo>
                    <a:lnTo>
                      <a:pt x="1469" y="1430"/>
                    </a:lnTo>
                    <a:lnTo>
                      <a:pt x="1405" y="1348"/>
                    </a:lnTo>
                    <a:lnTo>
                      <a:pt x="1352" y="1280"/>
                    </a:lnTo>
                    <a:lnTo>
                      <a:pt x="1309" y="1223"/>
                    </a:lnTo>
                    <a:lnTo>
                      <a:pt x="1273" y="1174"/>
                    </a:lnTo>
                    <a:lnTo>
                      <a:pt x="1244" y="1132"/>
                    </a:lnTo>
                    <a:lnTo>
                      <a:pt x="1219" y="1093"/>
                    </a:lnTo>
                    <a:lnTo>
                      <a:pt x="1198" y="1055"/>
                    </a:lnTo>
                    <a:lnTo>
                      <a:pt x="1191" y="1045"/>
                    </a:lnTo>
                    <a:lnTo>
                      <a:pt x="1181" y="1035"/>
                    </a:lnTo>
                    <a:lnTo>
                      <a:pt x="1169" y="1025"/>
                    </a:lnTo>
                    <a:lnTo>
                      <a:pt x="1153" y="1016"/>
                    </a:lnTo>
                    <a:lnTo>
                      <a:pt x="1133" y="1006"/>
                    </a:lnTo>
                    <a:lnTo>
                      <a:pt x="1112" y="996"/>
                    </a:lnTo>
                    <a:lnTo>
                      <a:pt x="1089" y="986"/>
                    </a:lnTo>
                    <a:lnTo>
                      <a:pt x="1063" y="976"/>
                    </a:lnTo>
                    <a:lnTo>
                      <a:pt x="1006" y="958"/>
                    </a:lnTo>
                    <a:lnTo>
                      <a:pt x="944" y="939"/>
                    </a:lnTo>
                    <a:lnTo>
                      <a:pt x="876" y="921"/>
                    </a:lnTo>
                    <a:lnTo>
                      <a:pt x="806" y="902"/>
                    </a:lnTo>
                    <a:lnTo>
                      <a:pt x="663" y="869"/>
                    </a:lnTo>
                    <a:lnTo>
                      <a:pt x="528" y="840"/>
                    </a:lnTo>
                    <a:lnTo>
                      <a:pt x="468" y="826"/>
                    </a:lnTo>
                    <a:lnTo>
                      <a:pt x="415" y="814"/>
                    </a:lnTo>
                    <a:lnTo>
                      <a:pt x="369" y="801"/>
                    </a:lnTo>
                    <a:lnTo>
                      <a:pt x="334" y="792"/>
                    </a:lnTo>
                    <a:lnTo>
                      <a:pt x="274" y="773"/>
                    </a:lnTo>
                    <a:lnTo>
                      <a:pt x="215" y="758"/>
                    </a:lnTo>
                    <a:lnTo>
                      <a:pt x="159" y="746"/>
                    </a:lnTo>
                    <a:lnTo>
                      <a:pt x="107" y="735"/>
                    </a:lnTo>
                    <a:lnTo>
                      <a:pt x="64" y="728"/>
                    </a:lnTo>
                    <a:lnTo>
                      <a:pt x="30" y="723"/>
                    </a:lnTo>
                    <a:lnTo>
                      <a:pt x="7" y="719"/>
                    </a:lnTo>
                    <a:lnTo>
                      <a:pt x="0" y="718"/>
                    </a:lnTo>
                    <a:lnTo>
                      <a:pt x="10" y="718"/>
                    </a:lnTo>
                    <a:lnTo>
                      <a:pt x="38" y="714"/>
                    </a:lnTo>
                    <a:lnTo>
                      <a:pt x="79" y="709"/>
                    </a:lnTo>
                    <a:lnTo>
                      <a:pt x="127" y="699"/>
                    </a:lnTo>
                    <a:lnTo>
                      <a:pt x="153" y="694"/>
                    </a:lnTo>
                    <a:lnTo>
                      <a:pt x="179" y="687"/>
                    </a:lnTo>
                    <a:lnTo>
                      <a:pt x="203" y="680"/>
                    </a:lnTo>
                    <a:lnTo>
                      <a:pt x="228" y="670"/>
                    </a:lnTo>
                    <a:lnTo>
                      <a:pt x="250" y="660"/>
                    </a:lnTo>
                    <a:lnTo>
                      <a:pt x="271" y="648"/>
                    </a:lnTo>
                    <a:lnTo>
                      <a:pt x="279" y="642"/>
                    </a:lnTo>
                    <a:lnTo>
                      <a:pt x="288" y="635"/>
                    </a:lnTo>
                    <a:lnTo>
                      <a:pt x="295" y="628"/>
                    </a:lnTo>
                    <a:lnTo>
                      <a:pt x="302" y="621"/>
                    </a:lnTo>
                    <a:lnTo>
                      <a:pt x="315" y="602"/>
                    </a:lnTo>
                    <a:lnTo>
                      <a:pt x="326" y="585"/>
                    </a:lnTo>
                    <a:lnTo>
                      <a:pt x="336" y="567"/>
                    </a:lnTo>
                    <a:lnTo>
                      <a:pt x="343" y="549"/>
                    </a:lnTo>
                    <a:lnTo>
                      <a:pt x="348" y="532"/>
                    </a:lnTo>
                    <a:lnTo>
                      <a:pt x="351" y="515"/>
                    </a:lnTo>
                    <a:lnTo>
                      <a:pt x="352" y="499"/>
                    </a:lnTo>
                    <a:lnTo>
                      <a:pt x="351" y="483"/>
                    </a:lnTo>
                    <a:lnTo>
                      <a:pt x="347" y="469"/>
                    </a:lnTo>
                    <a:lnTo>
                      <a:pt x="342" y="455"/>
                    </a:lnTo>
                    <a:lnTo>
                      <a:pt x="335" y="442"/>
                    </a:lnTo>
                    <a:lnTo>
                      <a:pt x="326" y="430"/>
                    </a:lnTo>
                    <a:lnTo>
                      <a:pt x="315" y="420"/>
                    </a:lnTo>
                    <a:lnTo>
                      <a:pt x="303" y="412"/>
                    </a:lnTo>
                    <a:lnTo>
                      <a:pt x="288" y="403"/>
                    </a:lnTo>
                    <a:lnTo>
                      <a:pt x="272" y="398"/>
                    </a:lnTo>
                    <a:lnTo>
                      <a:pt x="257" y="393"/>
                    </a:lnTo>
                    <a:lnTo>
                      <a:pt x="250" y="388"/>
                    </a:lnTo>
                    <a:lnTo>
                      <a:pt x="247" y="386"/>
                    </a:lnTo>
                    <a:lnTo>
                      <a:pt x="247" y="385"/>
                    </a:lnTo>
                    <a:lnTo>
                      <a:pt x="247" y="382"/>
                    </a:lnTo>
                    <a:lnTo>
                      <a:pt x="250" y="381"/>
                    </a:lnTo>
                    <a:lnTo>
                      <a:pt x="258" y="378"/>
                    </a:lnTo>
                    <a:lnTo>
                      <a:pt x="271" y="378"/>
                    </a:lnTo>
                    <a:lnTo>
                      <a:pt x="288" y="378"/>
                    </a:lnTo>
                    <a:lnTo>
                      <a:pt x="309" y="381"/>
                    </a:lnTo>
                    <a:lnTo>
                      <a:pt x="334" y="386"/>
                    </a:lnTo>
                    <a:lnTo>
                      <a:pt x="362" y="392"/>
                    </a:lnTo>
                    <a:lnTo>
                      <a:pt x="391" y="402"/>
                    </a:lnTo>
                    <a:lnTo>
                      <a:pt x="425" y="413"/>
                    </a:lnTo>
                    <a:lnTo>
                      <a:pt x="459" y="428"/>
                    </a:lnTo>
                    <a:lnTo>
                      <a:pt x="496" y="446"/>
                    </a:lnTo>
                    <a:lnTo>
                      <a:pt x="516" y="456"/>
                    </a:lnTo>
                    <a:lnTo>
                      <a:pt x="534" y="468"/>
                    </a:lnTo>
                    <a:lnTo>
                      <a:pt x="554" y="479"/>
                    </a:lnTo>
                    <a:lnTo>
                      <a:pt x="573" y="493"/>
                    </a:lnTo>
                    <a:lnTo>
                      <a:pt x="592" y="505"/>
                    </a:lnTo>
                    <a:lnTo>
                      <a:pt x="610" y="516"/>
                    </a:lnTo>
                    <a:lnTo>
                      <a:pt x="628" y="525"/>
                    </a:lnTo>
                    <a:lnTo>
                      <a:pt x="644" y="531"/>
                    </a:lnTo>
                    <a:lnTo>
                      <a:pt x="658" y="536"/>
                    </a:lnTo>
                    <a:lnTo>
                      <a:pt x="673" y="538"/>
                    </a:lnTo>
                    <a:lnTo>
                      <a:pt x="685" y="539"/>
                    </a:lnTo>
                    <a:lnTo>
                      <a:pt x="698" y="539"/>
                    </a:lnTo>
                    <a:lnTo>
                      <a:pt x="709" y="537"/>
                    </a:lnTo>
                    <a:lnTo>
                      <a:pt x="720" y="535"/>
                    </a:lnTo>
                    <a:lnTo>
                      <a:pt x="728" y="530"/>
                    </a:lnTo>
                    <a:lnTo>
                      <a:pt x="736" y="525"/>
                    </a:lnTo>
                    <a:lnTo>
                      <a:pt x="743" y="517"/>
                    </a:lnTo>
                    <a:lnTo>
                      <a:pt x="749" y="510"/>
                    </a:lnTo>
                    <a:lnTo>
                      <a:pt x="754" y="501"/>
                    </a:lnTo>
                    <a:lnTo>
                      <a:pt x="758" y="492"/>
                    </a:lnTo>
                    <a:lnTo>
                      <a:pt x="762" y="480"/>
                    </a:lnTo>
                    <a:lnTo>
                      <a:pt x="763" y="471"/>
                    </a:lnTo>
                    <a:lnTo>
                      <a:pt x="764" y="458"/>
                    </a:lnTo>
                    <a:lnTo>
                      <a:pt x="764" y="447"/>
                    </a:lnTo>
                    <a:lnTo>
                      <a:pt x="763" y="435"/>
                    </a:lnTo>
                    <a:lnTo>
                      <a:pt x="760" y="421"/>
                    </a:lnTo>
                    <a:lnTo>
                      <a:pt x="757" y="409"/>
                    </a:lnTo>
                    <a:lnTo>
                      <a:pt x="753" y="397"/>
                    </a:lnTo>
                    <a:lnTo>
                      <a:pt x="747" y="383"/>
                    </a:lnTo>
                    <a:lnTo>
                      <a:pt x="741" y="371"/>
                    </a:lnTo>
                    <a:lnTo>
                      <a:pt x="733" y="359"/>
                    </a:lnTo>
                    <a:lnTo>
                      <a:pt x="725" y="346"/>
                    </a:lnTo>
                    <a:lnTo>
                      <a:pt x="715" y="334"/>
                    </a:lnTo>
                    <a:lnTo>
                      <a:pt x="704" y="323"/>
                    </a:lnTo>
                    <a:lnTo>
                      <a:pt x="692" y="313"/>
                    </a:lnTo>
                    <a:lnTo>
                      <a:pt x="679" y="302"/>
                    </a:lnTo>
                    <a:lnTo>
                      <a:pt x="623" y="262"/>
                    </a:lnTo>
                    <a:lnTo>
                      <a:pt x="564" y="218"/>
                    </a:lnTo>
                    <a:lnTo>
                      <a:pt x="535" y="198"/>
                    </a:lnTo>
                    <a:lnTo>
                      <a:pt x="509" y="178"/>
                    </a:lnTo>
                    <a:lnTo>
                      <a:pt x="486" y="159"/>
                    </a:lnTo>
                    <a:lnTo>
                      <a:pt x="466" y="142"/>
                    </a:lnTo>
                    <a:lnTo>
                      <a:pt x="452" y="127"/>
                    </a:lnTo>
                    <a:lnTo>
                      <a:pt x="441" y="114"/>
                    </a:lnTo>
                    <a:lnTo>
                      <a:pt x="438" y="109"/>
                    </a:lnTo>
                    <a:lnTo>
                      <a:pt x="437" y="104"/>
                    </a:lnTo>
                    <a:lnTo>
                      <a:pt x="437" y="100"/>
                    </a:lnTo>
                    <a:lnTo>
                      <a:pt x="438" y="98"/>
                    </a:lnTo>
                    <a:lnTo>
                      <a:pt x="443" y="95"/>
                    </a:lnTo>
                    <a:lnTo>
                      <a:pt x="448" y="94"/>
                    </a:lnTo>
                    <a:lnTo>
                      <a:pt x="457" y="94"/>
                    </a:lnTo>
                    <a:lnTo>
                      <a:pt x="466" y="95"/>
                    </a:lnTo>
                    <a:lnTo>
                      <a:pt x="493" y="100"/>
                    </a:lnTo>
                    <a:lnTo>
                      <a:pt x="529" y="110"/>
                    </a:lnTo>
                    <a:lnTo>
                      <a:pt x="610" y="134"/>
                    </a:lnTo>
                    <a:lnTo>
                      <a:pt x="685" y="157"/>
                    </a:lnTo>
                    <a:lnTo>
                      <a:pt x="751" y="177"/>
                    </a:lnTo>
                    <a:lnTo>
                      <a:pt x="805" y="190"/>
                    </a:lnTo>
                    <a:lnTo>
                      <a:pt x="826" y="195"/>
                    </a:lnTo>
                    <a:lnTo>
                      <a:pt x="844" y="198"/>
                    </a:lnTo>
                    <a:lnTo>
                      <a:pt x="851" y="198"/>
                    </a:lnTo>
                    <a:lnTo>
                      <a:pt x="858" y="198"/>
                    </a:lnTo>
                    <a:lnTo>
                      <a:pt x="863" y="196"/>
                    </a:lnTo>
                    <a:lnTo>
                      <a:pt x="867" y="195"/>
                    </a:lnTo>
                    <a:lnTo>
                      <a:pt x="870" y="193"/>
                    </a:lnTo>
                    <a:lnTo>
                      <a:pt x="871" y="189"/>
                    </a:lnTo>
                    <a:lnTo>
                      <a:pt x="871" y="185"/>
                    </a:lnTo>
                    <a:lnTo>
                      <a:pt x="871" y="180"/>
                    </a:lnTo>
                    <a:lnTo>
                      <a:pt x="869" y="175"/>
                    </a:lnTo>
                    <a:lnTo>
                      <a:pt x="865" y="168"/>
                    </a:lnTo>
                    <a:lnTo>
                      <a:pt x="860" y="162"/>
                    </a:lnTo>
                    <a:lnTo>
                      <a:pt x="853" y="153"/>
                    </a:lnTo>
                    <a:lnTo>
                      <a:pt x="839" y="135"/>
                    </a:lnTo>
                    <a:lnTo>
                      <a:pt x="826" y="116"/>
                    </a:lnTo>
                    <a:lnTo>
                      <a:pt x="815" y="98"/>
                    </a:lnTo>
                    <a:lnTo>
                      <a:pt x="806" y="79"/>
                    </a:lnTo>
                    <a:lnTo>
                      <a:pt x="799" y="62"/>
                    </a:lnTo>
                    <a:lnTo>
                      <a:pt x="794" y="46"/>
                    </a:lnTo>
                    <a:lnTo>
                      <a:pt x="792" y="38"/>
                    </a:lnTo>
                    <a:lnTo>
                      <a:pt x="791" y="32"/>
                    </a:lnTo>
                    <a:lnTo>
                      <a:pt x="791" y="24"/>
                    </a:lnTo>
                    <a:lnTo>
                      <a:pt x="792" y="19"/>
                    </a:lnTo>
                    <a:lnTo>
                      <a:pt x="794" y="13"/>
                    </a:lnTo>
                    <a:lnTo>
                      <a:pt x="796" y="9"/>
                    </a:lnTo>
                    <a:lnTo>
                      <a:pt x="800" y="6"/>
                    </a:lnTo>
                    <a:lnTo>
                      <a:pt x="803" y="2"/>
                    </a:lnTo>
                    <a:lnTo>
                      <a:pt x="808" y="1"/>
                    </a:lnTo>
                    <a:lnTo>
                      <a:pt x="815" y="0"/>
                    </a:lnTo>
                    <a:lnTo>
                      <a:pt x="821" y="0"/>
                    </a:lnTo>
                    <a:lnTo>
                      <a:pt x="829" y="1"/>
                    </a:lnTo>
                    <a:lnTo>
                      <a:pt x="838" y="3"/>
                    </a:lnTo>
                    <a:lnTo>
                      <a:pt x="848" y="6"/>
                    </a:lnTo>
                    <a:lnTo>
                      <a:pt x="859" y="11"/>
                    </a:lnTo>
                    <a:lnTo>
                      <a:pt x="871" y="17"/>
                    </a:lnTo>
                    <a:lnTo>
                      <a:pt x="899" y="33"/>
                    </a:lnTo>
                    <a:lnTo>
                      <a:pt x="931" y="55"/>
                    </a:lnTo>
                    <a:lnTo>
                      <a:pt x="956" y="73"/>
                    </a:lnTo>
                    <a:lnTo>
                      <a:pt x="981" y="93"/>
                    </a:lnTo>
                    <a:lnTo>
                      <a:pt x="1004" y="115"/>
                    </a:lnTo>
                    <a:lnTo>
                      <a:pt x="1026" y="140"/>
                    </a:lnTo>
                    <a:lnTo>
                      <a:pt x="1047" y="166"/>
                    </a:lnTo>
                    <a:lnTo>
                      <a:pt x="1068" y="194"/>
                    </a:lnTo>
                    <a:lnTo>
                      <a:pt x="1088" y="223"/>
                    </a:lnTo>
                    <a:lnTo>
                      <a:pt x="1106" y="257"/>
                    </a:lnTo>
                    <a:lnTo>
                      <a:pt x="1122" y="290"/>
                    </a:lnTo>
                    <a:lnTo>
                      <a:pt x="1138" y="327"/>
                    </a:lnTo>
                    <a:lnTo>
                      <a:pt x="1152" y="365"/>
                    </a:lnTo>
                    <a:lnTo>
                      <a:pt x="1165" y="405"/>
                    </a:lnTo>
                    <a:lnTo>
                      <a:pt x="1175" y="447"/>
                    </a:lnTo>
                    <a:lnTo>
                      <a:pt x="1185" y="492"/>
                    </a:lnTo>
                    <a:lnTo>
                      <a:pt x="1192" y="537"/>
                    </a:lnTo>
                    <a:lnTo>
                      <a:pt x="1198" y="585"/>
                    </a:lnTo>
                    <a:lnTo>
                      <a:pt x="1201" y="608"/>
                    </a:lnTo>
                    <a:lnTo>
                      <a:pt x="1203" y="631"/>
                    </a:lnTo>
                    <a:lnTo>
                      <a:pt x="1207" y="650"/>
                    </a:lnTo>
                    <a:lnTo>
                      <a:pt x="1211" y="667"/>
                    </a:lnTo>
                    <a:lnTo>
                      <a:pt x="1214" y="683"/>
                    </a:lnTo>
                    <a:lnTo>
                      <a:pt x="1219" y="698"/>
                    </a:lnTo>
                    <a:lnTo>
                      <a:pt x="1224" y="712"/>
                    </a:lnTo>
                    <a:lnTo>
                      <a:pt x="1229" y="724"/>
                    </a:lnTo>
                    <a:lnTo>
                      <a:pt x="1235" y="736"/>
                    </a:lnTo>
                    <a:lnTo>
                      <a:pt x="1241" y="746"/>
                    </a:lnTo>
                    <a:lnTo>
                      <a:pt x="1249" y="756"/>
                    </a:lnTo>
                    <a:lnTo>
                      <a:pt x="1256" y="765"/>
                    </a:lnTo>
                    <a:lnTo>
                      <a:pt x="1272" y="782"/>
                    </a:lnTo>
                    <a:lnTo>
                      <a:pt x="1291" y="798"/>
                    </a:lnTo>
                    <a:lnTo>
                      <a:pt x="1335" y="833"/>
                    </a:lnTo>
                    <a:lnTo>
                      <a:pt x="1390" y="881"/>
                    </a:lnTo>
                    <a:lnTo>
                      <a:pt x="1424" y="912"/>
                    </a:lnTo>
                    <a:lnTo>
                      <a:pt x="1459" y="950"/>
                    </a:lnTo>
                    <a:lnTo>
                      <a:pt x="1478" y="971"/>
                    </a:lnTo>
                    <a:lnTo>
                      <a:pt x="1497" y="996"/>
                    </a:lnTo>
                    <a:lnTo>
                      <a:pt x="1518" y="1022"/>
                    </a:lnTo>
                    <a:lnTo>
                      <a:pt x="1540" y="1050"/>
                    </a:lnTo>
                    <a:lnTo>
                      <a:pt x="1563" y="1079"/>
                    </a:lnTo>
                    <a:lnTo>
                      <a:pt x="1585" y="1113"/>
                    </a:lnTo>
                    <a:lnTo>
                      <a:pt x="1606" y="1147"/>
                    </a:lnTo>
                    <a:lnTo>
                      <a:pt x="1627" y="1183"/>
                    </a:lnTo>
                    <a:lnTo>
                      <a:pt x="1646" y="1220"/>
                    </a:lnTo>
                    <a:lnTo>
                      <a:pt x="1666" y="1257"/>
                    </a:lnTo>
                    <a:lnTo>
                      <a:pt x="1686" y="1296"/>
                    </a:lnTo>
                    <a:lnTo>
                      <a:pt x="1703" y="1334"/>
                    </a:lnTo>
                    <a:lnTo>
                      <a:pt x="1720" y="1372"/>
                    </a:lnTo>
                    <a:lnTo>
                      <a:pt x="1735" y="1410"/>
                    </a:lnTo>
                    <a:lnTo>
                      <a:pt x="1750" y="1447"/>
                    </a:lnTo>
                    <a:lnTo>
                      <a:pt x="1763" y="1484"/>
                    </a:lnTo>
                    <a:lnTo>
                      <a:pt x="1774" y="1520"/>
                    </a:lnTo>
                    <a:lnTo>
                      <a:pt x="1784" y="1553"/>
                    </a:lnTo>
                    <a:lnTo>
                      <a:pt x="1791" y="1584"/>
                    </a:lnTo>
                    <a:lnTo>
                      <a:pt x="1798" y="1613"/>
                    </a:lnTo>
                    <a:lnTo>
                      <a:pt x="1801" y="1640"/>
                    </a:lnTo>
                    <a:lnTo>
                      <a:pt x="1804" y="1664"/>
                    </a:lnTo>
                    <a:lnTo>
                      <a:pt x="1804" y="1685"/>
                    </a:lnTo>
                    <a:lnTo>
                      <a:pt x="1801" y="1702"/>
                    </a:lnTo>
                    <a:lnTo>
                      <a:pt x="1796" y="1715"/>
                    </a:lnTo>
                    <a:lnTo>
                      <a:pt x="1788" y="1725"/>
                    </a:lnTo>
                    <a:lnTo>
                      <a:pt x="1778" y="1730"/>
                    </a:lnTo>
                    <a:lnTo>
                      <a:pt x="1764" y="1730"/>
                    </a:lnTo>
                    <a:lnTo>
                      <a:pt x="1748" y="1726"/>
                    </a:lnTo>
                    <a:lnTo>
                      <a:pt x="1730" y="1717"/>
                    </a:lnTo>
                    <a:lnTo>
                      <a:pt x="1708" y="1701"/>
                    </a:lnTo>
                    <a:lnTo>
                      <a:pt x="1682" y="1678"/>
                    </a:lnTo>
                    <a:lnTo>
                      <a:pt x="1654" y="1651"/>
                    </a:lnTo>
                    <a:lnTo>
                      <a:pt x="1622" y="1617"/>
                    </a:lnTo>
                    <a:lnTo>
                      <a:pt x="1585" y="1576"/>
                    </a:lnTo>
                    <a:lnTo>
                      <a:pt x="1545" y="1527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5734080" y="3075120"/>
                <a:ext cx="538200" cy="493560"/>
              </a:xfrm>
              <a:custGeom>
                <a:avLst/>
                <a:gdLst/>
                <a:ahLst/>
                <a:rect l="l" t="t" r="r" b="b"/>
                <a:pathLst>
                  <a:path w="1694" h="1556">
                    <a:moveTo>
                      <a:pt x="1440" y="1338"/>
                    </a:moveTo>
                    <a:lnTo>
                      <a:pt x="1381" y="1264"/>
                    </a:lnTo>
                    <a:lnTo>
                      <a:pt x="1331" y="1201"/>
                    </a:lnTo>
                    <a:lnTo>
                      <a:pt x="1289" y="1147"/>
                    </a:lnTo>
                    <a:lnTo>
                      <a:pt x="1254" y="1101"/>
                    </a:lnTo>
                    <a:lnTo>
                      <a:pt x="1224" y="1060"/>
                    </a:lnTo>
                    <a:lnTo>
                      <a:pt x="1198" y="1021"/>
                    </a:lnTo>
                    <a:lnTo>
                      <a:pt x="1176" y="984"/>
                    </a:lnTo>
                    <a:lnTo>
                      <a:pt x="1155" y="946"/>
                    </a:lnTo>
                    <a:lnTo>
                      <a:pt x="1148" y="937"/>
                    </a:lnTo>
                    <a:lnTo>
                      <a:pt x="1138" y="927"/>
                    </a:lnTo>
                    <a:lnTo>
                      <a:pt x="1126" y="919"/>
                    </a:lnTo>
                    <a:lnTo>
                      <a:pt x="1110" y="909"/>
                    </a:lnTo>
                    <a:lnTo>
                      <a:pt x="1090" y="900"/>
                    </a:lnTo>
                    <a:lnTo>
                      <a:pt x="1069" y="893"/>
                    </a:lnTo>
                    <a:lnTo>
                      <a:pt x="1046" y="884"/>
                    </a:lnTo>
                    <a:lnTo>
                      <a:pt x="1020" y="877"/>
                    </a:lnTo>
                    <a:lnTo>
                      <a:pt x="963" y="862"/>
                    </a:lnTo>
                    <a:lnTo>
                      <a:pt x="901" y="848"/>
                    </a:lnTo>
                    <a:lnTo>
                      <a:pt x="833" y="836"/>
                    </a:lnTo>
                    <a:lnTo>
                      <a:pt x="763" y="824"/>
                    </a:lnTo>
                    <a:lnTo>
                      <a:pt x="620" y="802"/>
                    </a:lnTo>
                    <a:lnTo>
                      <a:pt x="485" y="781"/>
                    </a:lnTo>
                    <a:lnTo>
                      <a:pt x="425" y="771"/>
                    </a:lnTo>
                    <a:lnTo>
                      <a:pt x="372" y="761"/>
                    </a:lnTo>
                    <a:lnTo>
                      <a:pt x="326" y="752"/>
                    </a:lnTo>
                    <a:lnTo>
                      <a:pt x="291" y="743"/>
                    </a:lnTo>
                    <a:lnTo>
                      <a:pt x="233" y="725"/>
                    </a:lnTo>
                    <a:lnTo>
                      <a:pt x="179" y="711"/>
                    </a:lnTo>
                    <a:lnTo>
                      <a:pt x="129" y="700"/>
                    </a:lnTo>
                    <a:lnTo>
                      <a:pt x="86" y="692"/>
                    </a:lnTo>
                    <a:lnTo>
                      <a:pt x="51" y="686"/>
                    </a:lnTo>
                    <a:lnTo>
                      <a:pt x="24" y="682"/>
                    </a:lnTo>
                    <a:lnTo>
                      <a:pt x="6" y="681"/>
                    </a:lnTo>
                    <a:lnTo>
                      <a:pt x="0" y="680"/>
                    </a:lnTo>
                    <a:lnTo>
                      <a:pt x="10" y="679"/>
                    </a:lnTo>
                    <a:lnTo>
                      <a:pt x="37" y="676"/>
                    </a:lnTo>
                    <a:lnTo>
                      <a:pt x="76" y="670"/>
                    </a:lnTo>
                    <a:lnTo>
                      <a:pt x="123" y="661"/>
                    </a:lnTo>
                    <a:lnTo>
                      <a:pt x="149" y="655"/>
                    </a:lnTo>
                    <a:lnTo>
                      <a:pt x="174" y="648"/>
                    </a:lnTo>
                    <a:lnTo>
                      <a:pt x="199" y="641"/>
                    </a:lnTo>
                    <a:lnTo>
                      <a:pt x="224" y="632"/>
                    </a:lnTo>
                    <a:lnTo>
                      <a:pt x="246" y="622"/>
                    </a:lnTo>
                    <a:lnTo>
                      <a:pt x="268" y="611"/>
                    </a:lnTo>
                    <a:lnTo>
                      <a:pt x="277" y="605"/>
                    </a:lnTo>
                    <a:lnTo>
                      <a:pt x="287" y="599"/>
                    </a:lnTo>
                    <a:lnTo>
                      <a:pt x="294" y="591"/>
                    </a:lnTo>
                    <a:lnTo>
                      <a:pt x="302" y="585"/>
                    </a:lnTo>
                    <a:lnTo>
                      <a:pt x="318" y="567"/>
                    </a:lnTo>
                    <a:lnTo>
                      <a:pt x="331" y="548"/>
                    </a:lnTo>
                    <a:lnTo>
                      <a:pt x="342" y="531"/>
                    </a:lnTo>
                    <a:lnTo>
                      <a:pt x="351" y="513"/>
                    </a:lnTo>
                    <a:lnTo>
                      <a:pt x="357" y="494"/>
                    </a:lnTo>
                    <a:lnTo>
                      <a:pt x="362" y="477"/>
                    </a:lnTo>
                    <a:lnTo>
                      <a:pt x="363" y="460"/>
                    </a:lnTo>
                    <a:lnTo>
                      <a:pt x="363" y="444"/>
                    </a:lnTo>
                    <a:lnTo>
                      <a:pt x="361" y="429"/>
                    </a:lnTo>
                    <a:lnTo>
                      <a:pt x="356" y="414"/>
                    </a:lnTo>
                    <a:lnTo>
                      <a:pt x="348" y="401"/>
                    </a:lnTo>
                    <a:lnTo>
                      <a:pt x="340" y="388"/>
                    </a:lnTo>
                    <a:lnTo>
                      <a:pt x="329" y="377"/>
                    </a:lnTo>
                    <a:lnTo>
                      <a:pt x="316" y="367"/>
                    </a:lnTo>
                    <a:lnTo>
                      <a:pt x="302" y="360"/>
                    </a:lnTo>
                    <a:lnTo>
                      <a:pt x="286" y="354"/>
                    </a:lnTo>
                    <a:lnTo>
                      <a:pt x="271" y="350"/>
                    </a:lnTo>
                    <a:lnTo>
                      <a:pt x="261" y="347"/>
                    </a:lnTo>
                    <a:lnTo>
                      <a:pt x="259" y="344"/>
                    </a:lnTo>
                    <a:lnTo>
                      <a:pt x="257" y="343"/>
                    </a:lnTo>
                    <a:lnTo>
                      <a:pt x="256" y="342"/>
                    </a:lnTo>
                    <a:lnTo>
                      <a:pt x="257" y="342"/>
                    </a:lnTo>
                    <a:lnTo>
                      <a:pt x="262" y="340"/>
                    </a:lnTo>
                    <a:lnTo>
                      <a:pt x="271" y="342"/>
                    </a:lnTo>
                    <a:lnTo>
                      <a:pt x="283" y="344"/>
                    </a:lnTo>
                    <a:lnTo>
                      <a:pt x="300" y="348"/>
                    </a:lnTo>
                    <a:lnTo>
                      <a:pt x="320" y="354"/>
                    </a:lnTo>
                    <a:lnTo>
                      <a:pt x="343" y="363"/>
                    </a:lnTo>
                    <a:lnTo>
                      <a:pt x="370" y="372"/>
                    </a:lnTo>
                    <a:lnTo>
                      <a:pt x="400" y="386"/>
                    </a:lnTo>
                    <a:lnTo>
                      <a:pt x="432" y="402"/>
                    </a:lnTo>
                    <a:lnTo>
                      <a:pt x="466" y="420"/>
                    </a:lnTo>
                    <a:lnTo>
                      <a:pt x="502" y="443"/>
                    </a:lnTo>
                    <a:lnTo>
                      <a:pt x="540" y="468"/>
                    </a:lnTo>
                    <a:lnTo>
                      <a:pt x="560" y="481"/>
                    </a:lnTo>
                    <a:lnTo>
                      <a:pt x="578" y="490"/>
                    </a:lnTo>
                    <a:lnTo>
                      <a:pt x="597" y="499"/>
                    </a:lnTo>
                    <a:lnTo>
                      <a:pt x="614" y="505"/>
                    </a:lnTo>
                    <a:lnTo>
                      <a:pt x="630" y="510"/>
                    </a:lnTo>
                    <a:lnTo>
                      <a:pt x="645" y="513"/>
                    </a:lnTo>
                    <a:lnTo>
                      <a:pt x="658" y="514"/>
                    </a:lnTo>
                    <a:lnTo>
                      <a:pt x="672" y="514"/>
                    </a:lnTo>
                    <a:lnTo>
                      <a:pt x="684" y="511"/>
                    </a:lnTo>
                    <a:lnTo>
                      <a:pt x="697" y="508"/>
                    </a:lnTo>
                    <a:lnTo>
                      <a:pt x="706" y="503"/>
                    </a:lnTo>
                    <a:lnTo>
                      <a:pt x="716" y="498"/>
                    </a:lnTo>
                    <a:lnTo>
                      <a:pt x="725" y="490"/>
                    </a:lnTo>
                    <a:lnTo>
                      <a:pt x="732" y="483"/>
                    </a:lnTo>
                    <a:lnTo>
                      <a:pt x="738" y="475"/>
                    </a:lnTo>
                    <a:lnTo>
                      <a:pt x="743" y="465"/>
                    </a:lnTo>
                    <a:lnTo>
                      <a:pt x="748" y="454"/>
                    </a:lnTo>
                    <a:lnTo>
                      <a:pt x="752" y="443"/>
                    </a:lnTo>
                    <a:lnTo>
                      <a:pt x="753" y="431"/>
                    </a:lnTo>
                    <a:lnTo>
                      <a:pt x="754" y="419"/>
                    </a:lnTo>
                    <a:lnTo>
                      <a:pt x="754" y="407"/>
                    </a:lnTo>
                    <a:lnTo>
                      <a:pt x="754" y="395"/>
                    </a:lnTo>
                    <a:lnTo>
                      <a:pt x="752" y="382"/>
                    </a:lnTo>
                    <a:lnTo>
                      <a:pt x="748" y="369"/>
                    </a:lnTo>
                    <a:lnTo>
                      <a:pt x="744" y="356"/>
                    </a:lnTo>
                    <a:lnTo>
                      <a:pt x="738" y="344"/>
                    </a:lnTo>
                    <a:lnTo>
                      <a:pt x="731" y="332"/>
                    </a:lnTo>
                    <a:lnTo>
                      <a:pt x="724" y="320"/>
                    </a:lnTo>
                    <a:lnTo>
                      <a:pt x="714" y="307"/>
                    </a:lnTo>
                    <a:lnTo>
                      <a:pt x="704" y="296"/>
                    </a:lnTo>
                    <a:lnTo>
                      <a:pt x="693" y="285"/>
                    </a:lnTo>
                    <a:lnTo>
                      <a:pt x="679" y="275"/>
                    </a:lnTo>
                    <a:lnTo>
                      <a:pt x="623" y="233"/>
                    </a:lnTo>
                    <a:lnTo>
                      <a:pt x="566" y="190"/>
                    </a:lnTo>
                    <a:lnTo>
                      <a:pt x="540" y="169"/>
                    </a:lnTo>
                    <a:lnTo>
                      <a:pt x="516" y="150"/>
                    </a:lnTo>
                    <a:lnTo>
                      <a:pt x="494" y="130"/>
                    </a:lnTo>
                    <a:lnTo>
                      <a:pt x="475" y="113"/>
                    </a:lnTo>
                    <a:lnTo>
                      <a:pt x="462" y="98"/>
                    </a:lnTo>
                    <a:lnTo>
                      <a:pt x="453" y="85"/>
                    </a:lnTo>
                    <a:lnTo>
                      <a:pt x="450" y="80"/>
                    </a:lnTo>
                    <a:lnTo>
                      <a:pt x="449" y="75"/>
                    </a:lnTo>
                    <a:lnTo>
                      <a:pt x="450" y="71"/>
                    </a:lnTo>
                    <a:lnTo>
                      <a:pt x="453" y="67"/>
                    </a:lnTo>
                    <a:lnTo>
                      <a:pt x="458" y="66"/>
                    </a:lnTo>
                    <a:lnTo>
                      <a:pt x="464" y="65"/>
                    </a:lnTo>
                    <a:lnTo>
                      <a:pt x="471" y="64"/>
                    </a:lnTo>
                    <a:lnTo>
                      <a:pt x="482" y="65"/>
                    </a:lnTo>
                    <a:lnTo>
                      <a:pt x="495" y="67"/>
                    </a:lnTo>
                    <a:lnTo>
                      <a:pt x="510" y="70"/>
                    </a:lnTo>
                    <a:lnTo>
                      <a:pt x="527" y="75"/>
                    </a:lnTo>
                    <a:lnTo>
                      <a:pt x="546" y="80"/>
                    </a:lnTo>
                    <a:lnTo>
                      <a:pt x="626" y="104"/>
                    </a:lnTo>
                    <a:lnTo>
                      <a:pt x="698" y="129"/>
                    </a:lnTo>
                    <a:lnTo>
                      <a:pt x="759" y="150"/>
                    </a:lnTo>
                    <a:lnTo>
                      <a:pt x="808" y="166"/>
                    </a:lnTo>
                    <a:lnTo>
                      <a:pt x="828" y="172"/>
                    </a:lnTo>
                    <a:lnTo>
                      <a:pt x="844" y="174"/>
                    </a:lnTo>
                    <a:lnTo>
                      <a:pt x="850" y="176"/>
                    </a:lnTo>
                    <a:lnTo>
                      <a:pt x="855" y="176"/>
                    </a:lnTo>
                    <a:lnTo>
                      <a:pt x="860" y="174"/>
                    </a:lnTo>
                    <a:lnTo>
                      <a:pt x="863" y="173"/>
                    </a:lnTo>
                    <a:lnTo>
                      <a:pt x="865" y="172"/>
                    </a:lnTo>
                    <a:lnTo>
                      <a:pt x="866" y="169"/>
                    </a:lnTo>
                    <a:lnTo>
                      <a:pt x="865" y="166"/>
                    </a:lnTo>
                    <a:lnTo>
                      <a:pt x="864" y="161"/>
                    </a:lnTo>
                    <a:lnTo>
                      <a:pt x="858" y="150"/>
                    </a:lnTo>
                    <a:lnTo>
                      <a:pt x="845" y="134"/>
                    </a:lnTo>
                    <a:lnTo>
                      <a:pt x="832" y="117"/>
                    </a:lnTo>
                    <a:lnTo>
                      <a:pt x="820" y="98"/>
                    </a:lnTo>
                    <a:lnTo>
                      <a:pt x="810" y="81"/>
                    </a:lnTo>
                    <a:lnTo>
                      <a:pt x="801" y="64"/>
                    </a:lnTo>
                    <a:lnTo>
                      <a:pt x="796" y="49"/>
                    </a:lnTo>
                    <a:lnTo>
                      <a:pt x="794" y="34"/>
                    </a:lnTo>
                    <a:lnTo>
                      <a:pt x="794" y="28"/>
                    </a:lnTo>
                    <a:lnTo>
                      <a:pt x="794" y="22"/>
                    </a:lnTo>
                    <a:lnTo>
                      <a:pt x="795" y="16"/>
                    </a:lnTo>
                    <a:lnTo>
                      <a:pt x="796" y="12"/>
                    </a:lnTo>
                    <a:lnTo>
                      <a:pt x="799" y="7"/>
                    </a:lnTo>
                    <a:lnTo>
                      <a:pt x="802" y="5"/>
                    </a:lnTo>
                    <a:lnTo>
                      <a:pt x="806" y="2"/>
                    </a:lnTo>
                    <a:lnTo>
                      <a:pt x="811" y="0"/>
                    </a:lnTo>
                    <a:lnTo>
                      <a:pt x="817" y="0"/>
                    </a:lnTo>
                    <a:lnTo>
                      <a:pt x="823" y="0"/>
                    </a:lnTo>
                    <a:lnTo>
                      <a:pt x="832" y="1"/>
                    </a:lnTo>
                    <a:lnTo>
                      <a:pt x="839" y="3"/>
                    </a:lnTo>
                    <a:lnTo>
                      <a:pt x="849" y="6"/>
                    </a:lnTo>
                    <a:lnTo>
                      <a:pt x="860" y="11"/>
                    </a:lnTo>
                    <a:lnTo>
                      <a:pt x="871" y="17"/>
                    </a:lnTo>
                    <a:lnTo>
                      <a:pt x="884" y="24"/>
                    </a:lnTo>
                    <a:lnTo>
                      <a:pt x="911" y="42"/>
                    </a:lnTo>
                    <a:lnTo>
                      <a:pt x="943" y="66"/>
                    </a:lnTo>
                    <a:lnTo>
                      <a:pt x="963" y="83"/>
                    </a:lnTo>
                    <a:lnTo>
                      <a:pt x="982" y="102"/>
                    </a:lnTo>
                    <a:lnTo>
                      <a:pt x="1000" y="121"/>
                    </a:lnTo>
                    <a:lnTo>
                      <a:pt x="1016" y="144"/>
                    </a:lnTo>
                    <a:lnTo>
                      <a:pt x="1032" y="168"/>
                    </a:lnTo>
                    <a:lnTo>
                      <a:pt x="1046" y="194"/>
                    </a:lnTo>
                    <a:lnTo>
                      <a:pt x="1059" y="222"/>
                    </a:lnTo>
                    <a:lnTo>
                      <a:pt x="1072" y="253"/>
                    </a:lnTo>
                    <a:lnTo>
                      <a:pt x="1083" y="285"/>
                    </a:lnTo>
                    <a:lnTo>
                      <a:pt x="1094" y="320"/>
                    </a:lnTo>
                    <a:lnTo>
                      <a:pt x="1102" y="356"/>
                    </a:lnTo>
                    <a:lnTo>
                      <a:pt x="1111" y="396"/>
                    </a:lnTo>
                    <a:lnTo>
                      <a:pt x="1118" y="436"/>
                    </a:lnTo>
                    <a:lnTo>
                      <a:pt x="1125" y="481"/>
                    </a:lnTo>
                    <a:lnTo>
                      <a:pt x="1131" y="526"/>
                    </a:lnTo>
                    <a:lnTo>
                      <a:pt x="1136" y="574"/>
                    </a:lnTo>
                    <a:lnTo>
                      <a:pt x="1141" y="618"/>
                    </a:lnTo>
                    <a:lnTo>
                      <a:pt x="1146" y="653"/>
                    </a:lnTo>
                    <a:lnTo>
                      <a:pt x="1149" y="666"/>
                    </a:lnTo>
                    <a:lnTo>
                      <a:pt x="1152" y="679"/>
                    </a:lnTo>
                    <a:lnTo>
                      <a:pt x="1155" y="690"/>
                    </a:lnTo>
                    <a:lnTo>
                      <a:pt x="1158" y="698"/>
                    </a:lnTo>
                    <a:lnTo>
                      <a:pt x="1162" y="707"/>
                    </a:lnTo>
                    <a:lnTo>
                      <a:pt x="1165" y="713"/>
                    </a:lnTo>
                    <a:lnTo>
                      <a:pt x="1170" y="719"/>
                    </a:lnTo>
                    <a:lnTo>
                      <a:pt x="1175" y="724"/>
                    </a:lnTo>
                    <a:lnTo>
                      <a:pt x="1186" y="732"/>
                    </a:lnTo>
                    <a:lnTo>
                      <a:pt x="1198" y="739"/>
                    </a:lnTo>
                    <a:lnTo>
                      <a:pt x="1214" y="748"/>
                    </a:lnTo>
                    <a:lnTo>
                      <a:pt x="1233" y="757"/>
                    </a:lnTo>
                    <a:lnTo>
                      <a:pt x="1254" y="771"/>
                    </a:lnTo>
                    <a:lnTo>
                      <a:pt x="1278" y="789"/>
                    </a:lnTo>
                    <a:lnTo>
                      <a:pt x="1292" y="802"/>
                    </a:lnTo>
                    <a:lnTo>
                      <a:pt x="1307" y="815"/>
                    </a:lnTo>
                    <a:lnTo>
                      <a:pt x="1323" y="830"/>
                    </a:lnTo>
                    <a:lnTo>
                      <a:pt x="1340" y="848"/>
                    </a:lnTo>
                    <a:lnTo>
                      <a:pt x="1357" y="868"/>
                    </a:lnTo>
                    <a:lnTo>
                      <a:pt x="1377" y="890"/>
                    </a:lnTo>
                    <a:lnTo>
                      <a:pt x="1397" y="916"/>
                    </a:lnTo>
                    <a:lnTo>
                      <a:pt x="1419" y="943"/>
                    </a:lnTo>
                    <a:lnTo>
                      <a:pt x="1441" y="974"/>
                    </a:lnTo>
                    <a:lnTo>
                      <a:pt x="1463" y="1006"/>
                    </a:lnTo>
                    <a:lnTo>
                      <a:pt x="1484" y="1039"/>
                    </a:lnTo>
                    <a:lnTo>
                      <a:pt x="1506" y="1072"/>
                    </a:lnTo>
                    <a:lnTo>
                      <a:pt x="1527" y="1108"/>
                    </a:lnTo>
                    <a:lnTo>
                      <a:pt x="1547" y="1144"/>
                    </a:lnTo>
                    <a:lnTo>
                      <a:pt x="1566" y="1179"/>
                    </a:lnTo>
                    <a:lnTo>
                      <a:pt x="1585" y="1215"/>
                    </a:lnTo>
                    <a:lnTo>
                      <a:pt x="1602" y="1251"/>
                    </a:lnTo>
                    <a:lnTo>
                      <a:pt x="1618" y="1285"/>
                    </a:lnTo>
                    <a:lnTo>
                      <a:pt x="1634" y="1318"/>
                    </a:lnTo>
                    <a:lnTo>
                      <a:pt x="1648" y="1351"/>
                    </a:lnTo>
                    <a:lnTo>
                      <a:pt x="1660" y="1382"/>
                    </a:lnTo>
                    <a:lnTo>
                      <a:pt x="1670" y="1413"/>
                    </a:lnTo>
                    <a:lnTo>
                      <a:pt x="1679" y="1440"/>
                    </a:lnTo>
                    <a:lnTo>
                      <a:pt x="1686" y="1466"/>
                    </a:lnTo>
                    <a:lnTo>
                      <a:pt x="1691" y="1488"/>
                    </a:lnTo>
                    <a:lnTo>
                      <a:pt x="1694" y="1508"/>
                    </a:lnTo>
                    <a:lnTo>
                      <a:pt x="1694" y="1525"/>
                    </a:lnTo>
                    <a:lnTo>
                      <a:pt x="1693" y="1538"/>
                    </a:lnTo>
                    <a:lnTo>
                      <a:pt x="1688" y="1548"/>
                    </a:lnTo>
                    <a:lnTo>
                      <a:pt x="1682" y="1554"/>
                    </a:lnTo>
                    <a:lnTo>
                      <a:pt x="1672" y="1556"/>
                    </a:lnTo>
                    <a:lnTo>
                      <a:pt x="1659" y="1553"/>
                    </a:lnTo>
                    <a:lnTo>
                      <a:pt x="1644" y="1546"/>
                    </a:lnTo>
                    <a:lnTo>
                      <a:pt x="1625" y="1534"/>
                    </a:lnTo>
                    <a:lnTo>
                      <a:pt x="1603" y="1516"/>
                    </a:lnTo>
                    <a:lnTo>
                      <a:pt x="1577" y="1493"/>
                    </a:lnTo>
                    <a:lnTo>
                      <a:pt x="1549" y="1463"/>
                    </a:lnTo>
                    <a:lnTo>
                      <a:pt x="1516" y="1428"/>
                    </a:lnTo>
                    <a:lnTo>
                      <a:pt x="1480" y="1386"/>
                    </a:lnTo>
                    <a:lnTo>
                      <a:pt x="1440" y="1338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5748480" y="3090960"/>
                <a:ext cx="503280" cy="439560"/>
              </a:xfrm>
              <a:custGeom>
                <a:avLst/>
                <a:gdLst/>
                <a:ahLst/>
                <a:rect l="l" t="t" r="r" b="b"/>
                <a:pathLst>
                  <a:path w="1587" h="1386">
                    <a:moveTo>
                      <a:pt x="0" y="643"/>
                    </a:moveTo>
                    <a:lnTo>
                      <a:pt x="10" y="642"/>
                    </a:lnTo>
                    <a:lnTo>
                      <a:pt x="35" y="638"/>
                    </a:lnTo>
                    <a:lnTo>
                      <a:pt x="74" y="632"/>
                    </a:lnTo>
                    <a:lnTo>
                      <a:pt x="120" y="623"/>
                    </a:lnTo>
                    <a:lnTo>
                      <a:pt x="145" y="617"/>
                    </a:lnTo>
                    <a:lnTo>
                      <a:pt x="171" y="611"/>
                    </a:lnTo>
                    <a:lnTo>
                      <a:pt x="195" y="604"/>
                    </a:lnTo>
                    <a:lnTo>
                      <a:pt x="220" y="595"/>
                    </a:lnTo>
                    <a:lnTo>
                      <a:pt x="243" y="585"/>
                    </a:lnTo>
                    <a:lnTo>
                      <a:pt x="266" y="575"/>
                    </a:lnTo>
                    <a:lnTo>
                      <a:pt x="285" y="563"/>
                    </a:lnTo>
                    <a:lnTo>
                      <a:pt x="301" y="551"/>
                    </a:lnTo>
                    <a:lnTo>
                      <a:pt x="320" y="534"/>
                    </a:lnTo>
                    <a:lnTo>
                      <a:pt x="336" y="515"/>
                    </a:lnTo>
                    <a:lnTo>
                      <a:pt x="349" y="497"/>
                    </a:lnTo>
                    <a:lnTo>
                      <a:pt x="359" y="478"/>
                    </a:lnTo>
                    <a:lnTo>
                      <a:pt x="368" y="460"/>
                    </a:lnTo>
                    <a:lnTo>
                      <a:pt x="373" y="442"/>
                    </a:lnTo>
                    <a:lnTo>
                      <a:pt x="375" y="425"/>
                    </a:lnTo>
                    <a:lnTo>
                      <a:pt x="376" y="408"/>
                    </a:lnTo>
                    <a:lnTo>
                      <a:pt x="374" y="392"/>
                    </a:lnTo>
                    <a:lnTo>
                      <a:pt x="370" y="376"/>
                    </a:lnTo>
                    <a:lnTo>
                      <a:pt x="364" y="363"/>
                    </a:lnTo>
                    <a:lnTo>
                      <a:pt x="355" y="349"/>
                    </a:lnTo>
                    <a:lnTo>
                      <a:pt x="350" y="344"/>
                    </a:lnTo>
                    <a:lnTo>
                      <a:pt x="345" y="338"/>
                    </a:lnTo>
                    <a:lnTo>
                      <a:pt x="339" y="333"/>
                    </a:lnTo>
                    <a:lnTo>
                      <a:pt x="332" y="328"/>
                    </a:lnTo>
                    <a:lnTo>
                      <a:pt x="326" y="324"/>
                    </a:lnTo>
                    <a:lnTo>
                      <a:pt x="318" y="321"/>
                    </a:lnTo>
                    <a:lnTo>
                      <a:pt x="310" y="317"/>
                    </a:lnTo>
                    <a:lnTo>
                      <a:pt x="301" y="315"/>
                    </a:lnTo>
                    <a:lnTo>
                      <a:pt x="275" y="306"/>
                    </a:lnTo>
                    <a:lnTo>
                      <a:pt x="266" y="302"/>
                    </a:lnTo>
                    <a:lnTo>
                      <a:pt x="272" y="306"/>
                    </a:lnTo>
                    <a:lnTo>
                      <a:pt x="293" y="316"/>
                    </a:lnTo>
                    <a:lnTo>
                      <a:pt x="328" y="333"/>
                    </a:lnTo>
                    <a:lnTo>
                      <a:pt x="376" y="360"/>
                    </a:lnTo>
                    <a:lnTo>
                      <a:pt x="406" y="377"/>
                    </a:lnTo>
                    <a:lnTo>
                      <a:pt x="438" y="397"/>
                    </a:lnTo>
                    <a:lnTo>
                      <a:pt x="473" y="419"/>
                    </a:lnTo>
                    <a:lnTo>
                      <a:pt x="510" y="445"/>
                    </a:lnTo>
                    <a:lnTo>
                      <a:pt x="530" y="457"/>
                    </a:lnTo>
                    <a:lnTo>
                      <a:pt x="550" y="467"/>
                    </a:lnTo>
                    <a:lnTo>
                      <a:pt x="567" y="476"/>
                    </a:lnTo>
                    <a:lnTo>
                      <a:pt x="585" y="482"/>
                    </a:lnTo>
                    <a:lnTo>
                      <a:pt x="601" y="487"/>
                    </a:lnTo>
                    <a:lnTo>
                      <a:pt x="617" y="489"/>
                    </a:lnTo>
                    <a:lnTo>
                      <a:pt x="633" y="490"/>
                    </a:lnTo>
                    <a:lnTo>
                      <a:pt x="647" y="489"/>
                    </a:lnTo>
                    <a:lnTo>
                      <a:pt x="660" y="487"/>
                    </a:lnTo>
                    <a:lnTo>
                      <a:pt x="673" y="484"/>
                    </a:lnTo>
                    <a:lnTo>
                      <a:pt x="685" y="479"/>
                    </a:lnTo>
                    <a:lnTo>
                      <a:pt x="696" y="473"/>
                    </a:lnTo>
                    <a:lnTo>
                      <a:pt x="706" y="466"/>
                    </a:lnTo>
                    <a:lnTo>
                      <a:pt x="715" y="458"/>
                    </a:lnTo>
                    <a:lnTo>
                      <a:pt x="723" y="449"/>
                    </a:lnTo>
                    <a:lnTo>
                      <a:pt x="729" y="440"/>
                    </a:lnTo>
                    <a:lnTo>
                      <a:pt x="735" y="429"/>
                    </a:lnTo>
                    <a:lnTo>
                      <a:pt x="740" y="418"/>
                    </a:lnTo>
                    <a:lnTo>
                      <a:pt x="744" y="407"/>
                    </a:lnTo>
                    <a:lnTo>
                      <a:pt x="747" y="395"/>
                    </a:lnTo>
                    <a:lnTo>
                      <a:pt x="748" y="382"/>
                    </a:lnTo>
                    <a:lnTo>
                      <a:pt x="749" y="369"/>
                    </a:lnTo>
                    <a:lnTo>
                      <a:pt x="748" y="356"/>
                    </a:lnTo>
                    <a:lnTo>
                      <a:pt x="745" y="343"/>
                    </a:lnTo>
                    <a:lnTo>
                      <a:pt x="743" y="331"/>
                    </a:lnTo>
                    <a:lnTo>
                      <a:pt x="738" y="318"/>
                    </a:lnTo>
                    <a:lnTo>
                      <a:pt x="732" y="305"/>
                    </a:lnTo>
                    <a:lnTo>
                      <a:pt x="724" y="292"/>
                    </a:lnTo>
                    <a:lnTo>
                      <a:pt x="716" y="281"/>
                    </a:lnTo>
                    <a:lnTo>
                      <a:pt x="706" y="270"/>
                    </a:lnTo>
                    <a:lnTo>
                      <a:pt x="695" y="259"/>
                    </a:lnTo>
                    <a:lnTo>
                      <a:pt x="681" y="249"/>
                    </a:lnTo>
                    <a:lnTo>
                      <a:pt x="626" y="208"/>
                    </a:lnTo>
                    <a:lnTo>
                      <a:pt x="571" y="165"/>
                    </a:lnTo>
                    <a:lnTo>
                      <a:pt x="546" y="142"/>
                    </a:lnTo>
                    <a:lnTo>
                      <a:pt x="523" y="123"/>
                    </a:lnTo>
                    <a:lnTo>
                      <a:pt x="502" y="103"/>
                    </a:lnTo>
                    <a:lnTo>
                      <a:pt x="485" y="86"/>
                    </a:lnTo>
                    <a:lnTo>
                      <a:pt x="478" y="77"/>
                    </a:lnTo>
                    <a:lnTo>
                      <a:pt x="472" y="70"/>
                    </a:lnTo>
                    <a:lnTo>
                      <a:pt x="469" y="64"/>
                    </a:lnTo>
                    <a:lnTo>
                      <a:pt x="465" y="56"/>
                    </a:lnTo>
                    <a:lnTo>
                      <a:pt x="464" y="51"/>
                    </a:lnTo>
                    <a:lnTo>
                      <a:pt x="464" y="46"/>
                    </a:lnTo>
                    <a:lnTo>
                      <a:pt x="465" y="43"/>
                    </a:lnTo>
                    <a:lnTo>
                      <a:pt x="469" y="39"/>
                    </a:lnTo>
                    <a:lnTo>
                      <a:pt x="473" y="37"/>
                    </a:lnTo>
                    <a:lnTo>
                      <a:pt x="480" y="35"/>
                    </a:lnTo>
                    <a:lnTo>
                      <a:pt x="488" y="35"/>
                    </a:lnTo>
                    <a:lnTo>
                      <a:pt x="499" y="37"/>
                    </a:lnTo>
                    <a:lnTo>
                      <a:pt x="513" y="38"/>
                    </a:lnTo>
                    <a:lnTo>
                      <a:pt x="528" y="42"/>
                    </a:lnTo>
                    <a:lnTo>
                      <a:pt x="545" y="45"/>
                    </a:lnTo>
                    <a:lnTo>
                      <a:pt x="564" y="50"/>
                    </a:lnTo>
                    <a:lnTo>
                      <a:pt x="606" y="64"/>
                    </a:lnTo>
                    <a:lnTo>
                      <a:pt x="644" y="76"/>
                    </a:lnTo>
                    <a:lnTo>
                      <a:pt x="680" y="88"/>
                    </a:lnTo>
                    <a:lnTo>
                      <a:pt x="713" y="102"/>
                    </a:lnTo>
                    <a:lnTo>
                      <a:pt x="771" y="124"/>
                    </a:lnTo>
                    <a:lnTo>
                      <a:pt x="815" y="142"/>
                    </a:lnTo>
                    <a:lnTo>
                      <a:pt x="833" y="149"/>
                    </a:lnTo>
                    <a:lnTo>
                      <a:pt x="846" y="153"/>
                    </a:lnTo>
                    <a:lnTo>
                      <a:pt x="851" y="155"/>
                    </a:lnTo>
                    <a:lnTo>
                      <a:pt x="856" y="155"/>
                    </a:lnTo>
                    <a:lnTo>
                      <a:pt x="859" y="155"/>
                    </a:lnTo>
                    <a:lnTo>
                      <a:pt x="861" y="153"/>
                    </a:lnTo>
                    <a:lnTo>
                      <a:pt x="862" y="152"/>
                    </a:lnTo>
                    <a:lnTo>
                      <a:pt x="862" y="150"/>
                    </a:lnTo>
                    <a:lnTo>
                      <a:pt x="861" y="146"/>
                    </a:lnTo>
                    <a:lnTo>
                      <a:pt x="860" y="142"/>
                    </a:lnTo>
                    <a:lnTo>
                      <a:pt x="852" y="131"/>
                    </a:lnTo>
                    <a:lnTo>
                      <a:pt x="840" y="115"/>
                    </a:lnTo>
                    <a:lnTo>
                      <a:pt x="825" y="99"/>
                    </a:lnTo>
                    <a:lnTo>
                      <a:pt x="814" y="82"/>
                    </a:lnTo>
                    <a:lnTo>
                      <a:pt x="806" y="66"/>
                    </a:lnTo>
                    <a:lnTo>
                      <a:pt x="799" y="51"/>
                    </a:lnTo>
                    <a:lnTo>
                      <a:pt x="796" y="37"/>
                    </a:lnTo>
                    <a:lnTo>
                      <a:pt x="796" y="24"/>
                    </a:lnTo>
                    <a:lnTo>
                      <a:pt x="796" y="19"/>
                    </a:lnTo>
                    <a:lnTo>
                      <a:pt x="797" y="14"/>
                    </a:lnTo>
                    <a:lnTo>
                      <a:pt x="799" y="10"/>
                    </a:lnTo>
                    <a:lnTo>
                      <a:pt x="802" y="6"/>
                    </a:lnTo>
                    <a:lnTo>
                      <a:pt x="806" y="3"/>
                    </a:lnTo>
                    <a:lnTo>
                      <a:pt x="811" y="1"/>
                    </a:lnTo>
                    <a:lnTo>
                      <a:pt x="815" y="0"/>
                    </a:lnTo>
                    <a:lnTo>
                      <a:pt x="820" y="0"/>
                    </a:lnTo>
                    <a:lnTo>
                      <a:pt x="828" y="0"/>
                    </a:lnTo>
                    <a:lnTo>
                      <a:pt x="835" y="1"/>
                    </a:lnTo>
                    <a:lnTo>
                      <a:pt x="844" y="3"/>
                    </a:lnTo>
                    <a:lnTo>
                      <a:pt x="852" y="7"/>
                    </a:lnTo>
                    <a:lnTo>
                      <a:pt x="873" y="17"/>
                    </a:lnTo>
                    <a:lnTo>
                      <a:pt x="898" y="32"/>
                    </a:lnTo>
                    <a:lnTo>
                      <a:pt x="925" y="53"/>
                    </a:lnTo>
                    <a:lnTo>
                      <a:pt x="957" y="78"/>
                    </a:lnTo>
                    <a:lnTo>
                      <a:pt x="964" y="86"/>
                    </a:lnTo>
                    <a:lnTo>
                      <a:pt x="973" y="93"/>
                    </a:lnTo>
                    <a:lnTo>
                      <a:pt x="980" y="102"/>
                    </a:lnTo>
                    <a:lnTo>
                      <a:pt x="986" y="110"/>
                    </a:lnTo>
                    <a:lnTo>
                      <a:pt x="999" y="129"/>
                    </a:lnTo>
                    <a:lnTo>
                      <a:pt x="1010" y="150"/>
                    </a:lnTo>
                    <a:lnTo>
                      <a:pt x="1020" y="172"/>
                    </a:lnTo>
                    <a:lnTo>
                      <a:pt x="1027" y="196"/>
                    </a:lnTo>
                    <a:lnTo>
                      <a:pt x="1034" y="224"/>
                    </a:lnTo>
                    <a:lnTo>
                      <a:pt x="1041" y="252"/>
                    </a:lnTo>
                    <a:lnTo>
                      <a:pt x="1046" y="283"/>
                    </a:lnTo>
                    <a:lnTo>
                      <a:pt x="1050" y="316"/>
                    </a:lnTo>
                    <a:lnTo>
                      <a:pt x="1054" y="350"/>
                    </a:lnTo>
                    <a:lnTo>
                      <a:pt x="1059" y="388"/>
                    </a:lnTo>
                    <a:lnTo>
                      <a:pt x="1066" y="471"/>
                    </a:lnTo>
                    <a:lnTo>
                      <a:pt x="1076" y="564"/>
                    </a:lnTo>
                    <a:lnTo>
                      <a:pt x="1084" y="638"/>
                    </a:lnTo>
                    <a:lnTo>
                      <a:pt x="1089" y="673"/>
                    </a:lnTo>
                    <a:lnTo>
                      <a:pt x="1090" y="677"/>
                    </a:lnTo>
                    <a:lnTo>
                      <a:pt x="1092" y="680"/>
                    </a:lnTo>
                    <a:lnTo>
                      <a:pt x="1093" y="681"/>
                    </a:lnTo>
                    <a:lnTo>
                      <a:pt x="1096" y="682"/>
                    </a:lnTo>
                    <a:lnTo>
                      <a:pt x="1101" y="682"/>
                    </a:lnTo>
                    <a:lnTo>
                      <a:pt x="1108" y="681"/>
                    </a:lnTo>
                    <a:lnTo>
                      <a:pt x="1118" y="680"/>
                    </a:lnTo>
                    <a:lnTo>
                      <a:pt x="1132" y="682"/>
                    </a:lnTo>
                    <a:lnTo>
                      <a:pt x="1139" y="685"/>
                    </a:lnTo>
                    <a:lnTo>
                      <a:pt x="1148" y="687"/>
                    </a:lnTo>
                    <a:lnTo>
                      <a:pt x="1157" y="692"/>
                    </a:lnTo>
                    <a:lnTo>
                      <a:pt x="1169" y="700"/>
                    </a:lnTo>
                    <a:lnTo>
                      <a:pt x="1180" y="708"/>
                    </a:lnTo>
                    <a:lnTo>
                      <a:pt x="1193" y="718"/>
                    </a:lnTo>
                    <a:lnTo>
                      <a:pt x="1207" y="732"/>
                    </a:lnTo>
                    <a:lnTo>
                      <a:pt x="1223" y="746"/>
                    </a:lnTo>
                    <a:lnTo>
                      <a:pt x="1239" y="765"/>
                    </a:lnTo>
                    <a:lnTo>
                      <a:pt x="1257" y="787"/>
                    </a:lnTo>
                    <a:lnTo>
                      <a:pt x="1277" y="810"/>
                    </a:lnTo>
                    <a:lnTo>
                      <a:pt x="1299" y="839"/>
                    </a:lnTo>
                    <a:lnTo>
                      <a:pt x="1321" y="868"/>
                    </a:lnTo>
                    <a:lnTo>
                      <a:pt x="1343" y="900"/>
                    </a:lnTo>
                    <a:lnTo>
                      <a:pt x="1365" y="932"/>
                    </a:lnTo>
                    <a:lnTo>
                      <a:pt x="1386" y="964"/>
                    </a:lnTo>
                    <a:lnTo>
                      <a:pt x="1428" y="1030"/>
                    </a:lnTo>
                    <a:lnTo>
                      <a:pt x="1467" y="1097"/>
                    </a:lnTo>
                    <a:lnTo>
                      <a:pt x="1503" y="1161"/>
                    </a:lnTo>
                    <a:lnTo>
                      <a:pt x="1534" y="1220"/>
                    </a:lnTo>
                    <a:lnTo>
                      <a:pt x="1546" y="1248"/>
                    </a:lnTo>
                    <a:lnTo>
                      <a:pt x="1559" y="1273"/>
                    </a:lnTo>
                    <a:lnTo>
                      <a:pt x="1568" y="1297"/>
                    </a:lnTo>
                    <a:lnTo>
                      <a:pt x="1576" y="1318"/>
                    </a:lnTo>
                    <a:lnTo>
                      <a:pt x="1582" y="1338"/>
                    </a:lnTo>
                    <a:lnTo>
                      <a:pt x="1586" y="1354"/>
                    </a:lnTo>
                    <a:lnTo>
                      <a:pt x="1587" y="1366"/>
                    </a:lnTo>
                    <a:lnTo>
                      <a:pt x="1586" y="1376"/>
                    </a:lnTo>
                    <a:lnTo>
                      <a:pt x="1582" y="1383"/>
                    </a:lnTo>
                    <a:lnTo>
                      <a:pt x="1576" y="1386"/>
                    </a:lnTo>
                    <a:lnTo>
                      <a:pt x="1567" y="1385"/>
                    </a:lnTo>
                    <a:lnTo>
                      <a:pt x="1555" y="1379"/>
                    </a:lnTo>
                    <a:lnTo>
                      <a:pt x="1540" y="1369"/>
                    </a:lnTo>
                    <a:lnTo>
                      <a:pt x="1523" y="1354"/>
                    </a:lnTo>
                    <a:lnTo>
                      <a:pt x="1501" y="1334"/>
                    </a:lnTo>
                    <a:lnTo>
                      <a:pt x="1476" y="1308"/>
                    </a:lnTo>
                    <a:lnTo>
                      <a:pt x="1448" y="1278"/>
                    </a:lnTo>
                    <a:lnTo>
                      <a:pt x="1416" y="1242"/>
                    </a:lnTo>
                    <a:lnTo>
                      <a:pt x="1379" y="1199"/>
                    </a:lnTo>
                    <a:lnTo>
                      <a:pt x="1340" y="1151"/>
                    </a:lnTo>
                    <a:lnTo>
                      <a:pt x="1298" y="1102"/>
                    </a:lnTo>
                    <a:lnTo>
                      <a:pt x="1261" y="1057"/>
                    </a:lnTo>
                    <a:lnTo>
                      <a:pt x="1230" y="1018"/>
                    </a:lnTo>
                    <a:lnTo>
                      <a:pt x="1202" y="981"/>
                    </a:lnTo>
                    <a:lnTo>
                      <a:pt x="1177" y="947"/>
                    </a:lnTo>
                    <a:lnTo>
                      <a:pt x="1155" y="912"/>
                    </a:lnTo>
                    <a:lnTo>
                      <a:pt x="1134" y="877"/>
                    </a:lnTo>
                    <a:lnTo>
                      <a:pt x="1114" y="839"/>
                    </a:lnTo>
                    <a:lnTo>
                      <a:pt x="1107" y="829"/>
                    </a:lnTo>
                    <a:lnTo>
                      <a:pt x="1097" y="820"/>
                    </a:lnTo>
                    <a:lnTo>
                      <a:pt x="1085" y="811"/>
                    </a:lnTo>
                    <a:lnTo>
                      <a:pt x="1069" y="804"/>
                    </a:lnTo>
                    <a:lnTo>
                      <a:pt x="1049" y="797"/>
                    </a:lnTo>
                    <a:lnTo>
                      <a:pt x="1028" y="791"/>
                    </a:lnTo>
                    <a:lnTo>
                      <a:pt x="1005" y="784"/>
                    </a:lnTo>
                    <a:lnTo>
                      <a:pt x="979" y="778"/>
                    </a:lnTo>
                    <a:lnTo>
                      <a:pt x="922" y="768"/>
                    </a:lnTo>
                    <a:lnTo>
                      <a:pt x="860" y="760"/>
                    </a:lnTo>
                    <a:lnTo>
                      <a:pt x="792" y="752"/>
                    </a:lnTo>
                    <a:lnTo>
                      <a:pt x="722" y="746"/>
                    </a:lnTo>
                    <a:lnTo>
                      <a:pt x="579" y="735"/>
                    </a:lnTo>
                    <a:lnTo>
                      <a:pt x="444" y="724"/>
                    </a:lnTo>
                    <a:lnTo>
                      <a:pt x="384" y="718"/>
                    </a:lnTo>
                    <a:lnTo>
                      <a:pt x="331" y="711"/>
                    </a:lnTo>
                    <a:lnTo>
                      <a:pt x="306" y="707"/>
                    </a:lnTo>
                    <a:lnTo>
                      <a:pt x="285" y="703"/>
                    </a:lnTo>
                    <a:lnTo>
                      <a:pt x="266" y="700"/>
                    </a:lnTo>
                    <a:lnTo>
                      <a:pt x="250" y="695"/>
                    </a:lnTo>
                    <a:lnTo>
                      <a:pt x="194" y="677"/>
                    </a:lnTo>
                    <a:lnTo>
                      <a:pt x="145" y="665"/>
                    </a:lnTo>
                    <a:lnTo>
                      <a:pt x="102" y="655"/>
                    </a:lnTo>
                    <a:lnTo>
                      <a:pt x="66" y="649"/>
                    </a:lnTo>
                    <a:lnTo>
                      <a:pt x="38" y="645"/>
                    </a:lnTo>
                    <a:lnTo>
                      <a:pt x="17" y="644"/>
                    </a:lnTo>
                    <a:lnTo>
                      <a:pt x="5" y="643"/>
                    </a:lnTo>
                    <a:lnTo>
                      <a:pt x="0" y="643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5857920" y="3486240"/>
                <a:ext cx="433440" cy="966960"/>
              </a:xfrm>
              <a:custGeom>
                <a:avLst/>
                <a:gdLst/>
                <a:ahLst/>
                <a:rect l="l" t="t" r="r" b="b"/>
                <a:pathLst>
                  <a:path w="1365" h="3041">
                    <a:moveTo>
                      <a:pt x="885" y="2956"/>
                    </a:moveTo>
                    <a:lnTo>
                      <a:pt x="856" y="2985"/>
                    </a:lnTo>
                    <a:lnTo>
                      <a:pt x="828" y="3007"/>
                    </a:lnTo>
                    <a:lnTo>
                      <a:pt x="797" y="3025"/>
                    </a:lnTo>
                    <a:lnTo>
                      <a:pt x="765" y="3036"/>
                    </a:lnTo>
                    <a:lnTo>
                      <a:pt x="732" y="3041"/>
                    </a:lnTo>
                    <a:lnTo>
                      <a:pt x="698" y="3041"/>
                    </a:lnTo>
                    <a:lnTo>
                      <a:pt x="663" y="3036"/>
                    </a:lnTo>
                    <a:lnTo>
                      <a:pt x="628" y="3026"/>
                    </a:lnTo>
                    <a:lnTo>
                      <a:pt x="592" y="3011"/>
                    </a:lnTo>
                    <a:lnTo>
                      <a:pt x="555" y="2993"/>
                    </a:lnTo>
                    <a:lnTo>
                      <a:pt x="518" y="2971"/>
                    </a:lnTo>
                    <a:lnTo>
                      <a:pt x="481" y="2945"/>
                    </a:lnTo>
                    <a:lnTo>
                      <a:pt x="446" y="2915"/>
                    </a:lnTo>
                    <a:lnTo>
                      <a:pt x="409" y="2882"/>
                    </a:lnTo>
                    <a:lnTo>
                      <a:pt x="373" y="2848"/>
                    </a:lnTo>
                    <a:lnTo>
                      <a:pt x="338" y="2809"/>
                    </a:lnTo>
                    <a:lnTo>
                      <a:pt x="304" y="2770"/>
                    </a:lnTo>
                    <a:lnTo>
                      <a:pt x="271" y="2728"/>
                    </a:lnTo>
                    <a:lnTo>
                      <a:pt x="239" y="2685"/>
                    </a:lnTo>
                    <a:lnTo>
                      <a:pt x="208" y="2640"/>
                    </a:lnTo>
                    <a:lnTo>
                      <a:pt x="179" y="2594"/>
                    </a:lnTo>
                    <a:lnTo>
                      <a:pt x="150" y="2547"/>
                    </a:lnTo>
                    <a:lnTo>
                      <a:pt x="124" y="2501"/>
                    </a:lnTo>
                    <a:lnTo>
                      <a:pt x="101" y="2454"/>
                    </a:lnTo>
                    <a:lnTo>
                      <a:pt x="79" y="2406"/>
                    </a:lnTo>
                    <a:lnTo>
                      <a:pt x="59" y="2359"/>
                    </a:lnTo>
                    <a:lnTo>
                      <a:pt x="43" y="2314"/>
                    </a:lnTo>
                    <a:lnTo>
                      <a:pt x="28" y="2268"/>
                    </a:lnTo>
                    <a:lnTo>
                      <a:pt x="17" y="2225"/>
                    </a:lnTo>
                    <a:lnTo>
                      <a:pt x="9" y="2182"/>
                    </a:lnTo>
                    <a:lnTo>
                      <a:pt x="4" y="2142"/>
                    </a:lnTo>
                    <a:lnTo>
                      <a:pt x="1" y="2103"/>
                    </a:lnTo>
                    <a:lnTo>
                      <a:pt x="0" y="1966"/>
                    </a:lnTo>
                    <a:lnTo>
                      <a:pt x="0" y="1862"/>
                    </a:lnTo>
                    <a:lnTo>
                      <a:pt x="0" y="1785"/>
                    </a:lnTo>
                    <a:lnTo>
                      <a:pt x="1" y="1730"/>
                    </a:lnTo>
                    <a:lnTo>
                      <a:pt x="3" y="1688"/>
                    </a:lnTo>
                    <a:lnTo>
                      <a:pt x="4" y="1652"/>
                    </a:lnTo>
                    <a:lnTo>
                      <a:pt x="5" y="1618"/>
                    </a:lnTo>
                    <a:lnTo>
                      <a:pt x="6" y="1576"/>
                    </a:lnTo>
                    <a:lnTo>
                      <a:pt x="8" y="1533"/>
                    </a:lnTo>
                    <a:lnTo>
                      <a:pt x="9" y="1417"/>
                    </a:lnTo>
                    <a:lnTo>
                      <a:pt x="10" y="1251"/>
                    </a:lnTo>
                    <a:lnTo>
                      <a:pt x="12" y="1057"/>
                    </a:lnTo>
                    <a:lnTo>
                      <a:pt x="14" y="857"/>
                    </a:lnTo>
                    <a:lnTo>
                      <a:pt x="16" y="673"/>
                    </a:lnTo>
                    <a:lnTo>
                      <a:pt x="17" y="527"/>
                    </a:lnTo>
                    <a:lnTo>
                      <a:pt x="17" y="440"/>
                    </a:lnTo>
                    <a:lnTo>
                      <a:pt x="20" y="428"/>
                    </a:lnTo>
                    <a:lnTo>
                      <a:pt x="26" y="415"/>
                    </a:lnTo>
                    <a:lnTo>
                      <a:pt x="37" y="400"/>
                    </a:lnTo>
                    <a:lnTo>
                      <a:pt x="51" y="384"/>
                    </a:lnTo>
                    <a:lnTo>
                      <a:pt x="68" y="368"/>
                    </a:lnTo>
                    <a:lnTo>
                      <a:pt x="88" y="352"/>
                    </a:lnTo>
                    <a:lnTo>
                      <a:pt x="111" y="335"/>
                    </a:lnTo>
                    <a:lnTo>
                      <a:pt x="137" y="317"/>
                    </a:lnTo>
                    <a:lnTo>
                      <a:pt x="164" y="299"/>
                    </a:lnTo>
                    <a:lnTo>
                      <a:pt x="195" y="281"/>
                    </a:lnTo>
                    <a:lnTo>
                      <a:pt x="225" y="262"/>
                    </a:lnTo>
                    <a:lnTo>
                      <a:pt x="259" y="244"/>
                    </a:lnTo>
                    <a:lnTo>
                      <a:pt x="327" y="208"/>
                    </a:lnTo>
                    <a:lnTo>
                      <a:pt x="398" y="172"/>
                    </a:lnTo>
                    <a:lnTo>
                      <a:pt x="469" y="138"/>
                    </a:lnTo>
                    <a:lnTo>
                      <a:pt x="538" y="106"/>
                    </a:lnTo>
                    <a:lnTo>
                      <a:pt x="602" y="76"/>
                    </a:lnTo>
                    <a:lnTo>
                      <a:pt x="660" y="51"/>
                    </a:lnTo>
                    <a:lnTo>
                      <a:pt x="746" y="14"/>
                    </a:lnTo>
                    <a:lnTo>
                      <a:pt x="779" y="0"/>
                    </a:lnTo>
                    <a:lnTo>
                      <a:pt x="795" y="42"/>
                    </a:lnTo>
                    <a:lnTo>
                      <a:pt x="842" y="153"/>
                    </a:lnTo>
                    <a:lnTo>
                      <a:pt x="909" y="317"/>
                    </a:lnTo>
                    <a:lnTo>
                      <a:pt x="993" y="514"/>
                    </a:lnTo>
                    <a:lnTo>
                      <a:pt x="1083" y="728"/>
                    </a:lnTo>
                    <a:lnTo>
                      <a:pt x="1173" y="940"/>
                    </a:lnTo>
                    <a:lnTo>
                      <a:pt x="1256" y="1132"/>
                    </a:lnTo>
                    <a:lnTo>
                      <a:pt x="1325" y="1285"/>
                    </a:lnTo>
                    <a:lnTo>
                      <a:pt x="1337" y="1319"/>
                    </a:lnTo>
                    <a:lnTo>
                      <a:pt x="1347" y="1354"/>
                    </a:lnTo>
                    <a:lnTo>
                      <a:pt x="1356" y="1394"/>
                    </a:lnTo>
                    <a:lnTo>
                      <a:pt x="1361" y="1437"/>
                    </a:lnTo>
                    <a:lnTo>
                      <a:pt x="1363" y="1484"/>
                    </a:lnTo>
                    <a:lnTo>
                      <a:pt x="1365" y="1531"/>
                    </a:lnTo>
                    <a:lnTo>
                      <a:pt x="1362" y="1583"/>
                    </a:lnTo>
                    <a:lnTo>
                      <a:pt x="1358" y="1636"/>
                    </a:lnTo>
                    <a:lnTo>
                      <a:pt x="1352" y="1691"/>
                    </a:lnTo>
                    <a:lnTo>
                      <a:pt x="1345" y="1748"/>
                    </a:lnTo>
                    <a:lnTo>
                      <a:pt x="1336" y="1807"/>
                    </a:lnTo>
                    <a:lnTo>
                      <a:pt x="1324" y="1867"/>
                    </a:lnTo>
                    <a:lnTo>
                      <a:pt x="1312" y="1928"/>
                    </a:lnTo>
                    <a:lnTo>
                      <a:pt x="1297" y="1989"/>
                    </a:lnTo>
                    <a:lnTo>
                      <a:pt x="1282" y="2052"/>
                    </a:lnTo>
                    <a:lnTo>
                      <a:pt x="1265" y="2113"/>
                    </a:lnTo>
                    <a:lnTo>
                      <a:pt x="1246" y="2176"/>
                    </a:lnTo>
                    <a:lnTo>
                      <a:pt x="1227" y="2239"/>
                    </a:lnTo>
                    <a:lnTo>
                      <a:pt x="1206" y="2300"/>
                    </a:lnTo>
                    <a:lnTo>
                      <a:pt x="1185" y="2362"/>
                    </a:lnTo>
                    <a:lnTo>
                      <a:pt x="1162" y="2422"/>
                    </a:lnTo>
                    <a:lnTo>
                      <a:pt x="1138" y="2481"/>
                    </a:lnTo>
                    <a:lnTo>
                      <a:pt x="1115" y="2539"/>
                    </a:lnTo>
                    <a:lnTo>
                      <a:pt x="1090" y="2594"/>
                    </a:lnTo>
                    <a:lnTo>
                      <a:pt x="1066" y="2648"/>
                    </a:lnTo>
                    <a:lnTo>
                      <a:pt x="1040" y="2701"/>
                    </a:lnTo>
                    <a:lnTo>
                      <a:pt x="1014" y="2750"/>
                    </a:lnTo>
                    <a:lnTo>
                      <a:pt x="988" y="2798"/>
                    </a:lnTo>
                    <a:lnTo>
                      <a:pt x="962" y="2843"/>
                    </a:lnTo>
                    <a:lnTo>
                      <a:pt x="936" y="2883"/>
                    </a:lnTo>
                    <a:lnTo>
                      <a:pt x="911" y="2921"/>
                    </a:lnTo>
                    <a:lnTo>
                      <a:pt x="885" y="2956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5859360" y="3489480"/>
                <a:ext cx="412920" cy="904680"/>
              </a:xfrm>
              <a:custGeom>
                <a:avLst/>
                <a:gdLst/>
                <a:ahLst/>
                <a:rect l="l" t="t" r="r" b="b"/>
                <a:pathLst>
                  <a:path w="1298" h="2847">
                    <a:moveTo>
                      <a:pt x="1258" y="1209"/>
                    </a:moveTo>
                    <a:lnTo>
                      <a:pt x="1271" y="1240"/>
                    </a:lnTo>
                    <a:lnTo>
                      <a:pt x="1281" y="1274"/>
                    </a:lnTo>
                    <a:lnTo>
                      <a:pt x="1288" y="1312"/>
                    </a:lnTo>
                    <a:lnTo>
                      <a:pt x="1294" y="1353"/>
                    </a:lnTo>
                    <a:lnTo>
                      <a:pt x="1297" y="1396"/>
                    </a:lnTo>
                    <a:lnTo>
                      <a:pt x="1298" y="1441"/>
                    </a:lnTo>
                    <a:lnTo>
                      <a:pt x="1297" y="1489"/>
                    </a:lnTo>
                    <a:lnTo>
                      <a:pt x="1294" y="1540"/>
                    </a:lnTo>
                    <a:lnTo>
                      <a:pt x="1289" y="1591"/>
                    </a:lnTo>
                    <a:lnTo>
                      <a:pt x="1283" y="1644"/>
                    </a:lnTo>
                    <a:lnTo>
                      <a:pt x="1274" y="1700"/>
                    </a:lnTo>
                    <a:lnTo>
                      <a:pt x="1265" y="1755"/>
                    </a:lnTo>
                    <a:lnTo>
                      <a:pt x="1254" y="1812"/>
                    </a:lnTo>
                    <a:lnTo>
                      <a:pt x="1241" y="1868"/>
                    </a:lnTo>
                    <a:lnTo>
                      <a:pt x="1226" y="1926"/>
                    </a:lnTo>
                    <a:lnTo>
                      <a:pt x="1212" y="1985"/>
                    </a:lnTo>
                    <a:lnTo>
                      <a:pt x="1194" y="2043"/>
                    </a:lnTo>
                    <a:lnTo>
                      <a:pt x="1177" y="2101"/>
                    </a:lnTo>
                    <a:lnTo>
                      <a:pt x="1159" y="2157"/>
                    </a:lnTo>
                    <a:lnTo>
                      <a:pt x="1139" y="2214"/>
                    </a:lnTo>
                    <a:lnTo>
                      <a:pt x="1118" y="2270"/>
                    </a:lnTo>
                    <a:lnTo>
                      <a:pt x="1097" y="2324"/>
                    </a:lnTo>
                    <a:lnTo>
                      <a:pt x="1075" y="2377"/>
                    </a:lnTo>
                    <a:lnTo>
                      <a:pt x="1053" y="2430"/>
                    </a:lnTo>
                    <a:lnTo>
                      <a:pt x="1030" y="2479"/>
                    </a:lnTo>
                    <a:lnTo>
                      <a:pt x="1006" y="2527"/>
                    </a:lnTo>
                    <a:lnTo>
                      <a:pt x="983" y="2574"/>
                    </a:lnTo>
                    <a:lnTo>
                      <a:pt x="958" y="2617"/>
                    </a:lnTo>
                    <a:lnTo>
                      <a:pt x="935" y="2658"/>
                    </a:lnTo>
                    <a:lnTo>
                      <a:pt x="910" y="2696"/>
                    </a:lnTo>
                    <a:lnTo>
                      <a:pt x="886" y="2730"/>
                    </a:lnTo>
                    <a:lnTo>
                      <a:pt x="861" y="2762"/>
                    </a:lnTo>
                    <a:lnTo>
                      <a:pt x="835" y="2789"/>
                    </a:lnTo>
                    <a:lnTo>
                      <a:pt x="807" y="2812"/>
                    </a:lnTo>
                    <a:lnTo>
                      <a:pt x="777" y="2828"/>
                    </a:lnTo>
                    <a:lnTo>
                      <a:pt x="747" y="2839"/>
                    </a:lnTo>
                    <a:lnTo>
                      <a:pt x="715" y="2846"/>
                    </a:lnTo>
                    <a:lnTo>
                      <a:pt x="683" y="2847"/>
                    </a:lnTo>
                    <a:lnTo>
                      <a:pt x="648" y="2845"/>
                    </a:lnTo>
                    <a:lnTo>
                      <a:pt x="614" y="2837"/>
                    </a:lnTo>
                    <a:lnTo>
                      <a:pt x="579" y="2826"/>
                    </a:lnTo>
                    <a:lnTo>
                      <a:pt x="544" y="2812"/>
                    </a:lnTo>
                    <a:lnTo>
                      <a:pt x="509" y="2793"/>
                    </a:lnTo>
                    <a:lnTo>
                      <a:pt x="474" y="2772"/>
                    </a:lnTo>
                    <a:lnTo>
                      <a:pt x="438" y="2748"/>
                    </a:lnTo>
                    <a:lnTo>
                      <a:pt x="403" y="2721"/>
                    </a:lnTo>
                    <a:lnTo>
                      <a:pt x="369" y="2691"/>
                    </a:lnTo>
                    <a:lnTo>
                      <a:pt x="334" y="2659"/>
                    </a:lnTo>
                    <a:lnTo>
                      <a:pt x="301" y="2626"/>
                    </a:lnTo>
                    <a:lnTo>
                      <a:pt x="269" y="2590"/>
                    </a:lnTo>
                    <a:lnTo>
                      <a:pt x="239" y="2552"/>
                    </a:lnTo>
                    <a:lnTo>
                      <a:pt x="208" y="2514"/>
                    </a:lnTo>
                    <a:lnTo>
                      <a:pt x="179" y="2475"/>
                    </a:lnTo>
                    <a:lnTo>
                      <a:pt x="152" y="2434"/>
                    </a:lnTo>
                    <a:lnTo>
                      <a:pt x="128" y="2393"/>
                    </a:lnTo>
                    <a:lnTo>
                      <a:pt x="104" y="2352"/>
                    </a:lnTo>
                    <a:lnTo>
                      <a:pt x="84" y="2310"/>
                    </a:lnTo>
                    <a:lnTo>
                      <a:pt x="64" y="2269"/>
                    </a:lnTo>
                    <a:lnTo>
                      <a:pt x="48" y="2227"/>
                    </a:lnTo>
                    <a:lnTo>
                      <a:pt x="33" y="2188"/>
                    </a:lnTo>
                    <a:lnTo>
                      <a:pt x="22" y="2149"/>
                    </a:lnTo>
                    <a:lnTo>
                      <a:pt x="13" y="2109"/>
                    </a:lnTo>
                    <a:lnTo>
                      <a:pt x="8" y="2072"/>
                    </a:lnTo>
                    <a:lnTo>
                      <a:pt x="6" y="2037"/>
                    </a:lnTo>
                    <a:lnTo>
                      <a:pt x="2" y="1909"/>
                    </a:lnTo>
                    <a:lnTo>
                      <a:pt x="1" y="1809"/>
                    </a:lnTo>
                    <a:lnTo>
                      <a:pt x="0" y="1732"/>
                    </a:lnTo>
                    <a:lnTo>
                      <a:pt x="0" y="1674"/>
                    </a:lnTo>
                    <a:lnTo>
                      <a:pt x="1" y="1627"/>
                    </a:lnTo>
                    <a:lnTo>
                      <a:pt x="2" y="1588"/>
                    </a:lnTo>
                    <a:lnTo>
                      <a:pt x="2" y="1550"/>
                    </a:lnTo>
                    <a:lnTo>
                      <a:pt x="2" y="1508"/>
                    </a:lnTo>
                    <a:lnTo>
                      <a:pt x="4" y="1466"/>
                    </a:lnTo>
                    <a:lnTo>
                      <a:pt x="5" y="1358"/>
                    </a:lnTo>
                    <a:lnTo>
                      <a:pt x="6" y="1201"/>
                    </a:lnTo>
                    <a:lnTo>
                      <a:pt x="8" y="1018"/>
                    </a:lnTo>
                    <a:lnTo>
                      <a:pt x="10" y="829"/>
                    </a:lnTo>
                    <a:lnTo>
                      <a:pt x="12" y="655"/>
                    </a:lnTo>
                    <a:lnTo>
                      <a:pt x="13" y="515"/>
                    </a:lnTo>
                    <a:lnTo>
                      <a:pt x="13" y="431"/>
                    </a:lnTo>
                    <a:lnTo>
                      <a:pt x="16" y="419"/>
                    </a:lnTo>
                    <a:lnTo>
                      <a:pt x="22" y="406"/>
                    </a:lnTo>
                    <a:lnTo>
                      <a:pt x="32" y="391"/>
                    </a:lnTo>
                    <a:lnTo>
                      <a:pt x="45" y="376"/>
                    </a:lnTo>
                    <a:lnTo>
                      <a:pt x="63" y="360"/>
                    </a:lnTo>
                    <a:lnTo>
                      <a:pt x="82" y="343"/>
                    </a:lnTo>
                    <a:lnTo>
                      <a:pt x="104" y="327"/>
                    </a:lnTo>
                    <a:lnTo>
                      <a:pt x="129" y="310"/>
                    </a:lnTo>
                    <a:lnTo>
                      <a:pt x="156" y="291"/>
                    </a:lnTo>
                    <a:lnTo>
                      <a:pt x="186" y="274"/>
                    </a:lnTo>
                    <a:lnTo>
                      <a:pt x="215" y="256"/>
                    </a:lnTo>
                    <a:lnTo>
                      <a:pt x="247" y="237"/>
                    </a:lnTo>
                    <a:lnTo>
                      <a:pt x="315" y="201"/>
                    </a:lnTo>
                    <a:lnTo>
                      <a:pt x="384" y="167"/>
                    </a:lnTo>
                    <a:lnTo>
                      <a:pt x="453" y="134"/>
                    </a:lnTo>
                    <a:lnTo>
                      <a:pt x="519" y="102"/>
                    </a:lnTo>
                    <a:lnTo>
                      <a:pt x="582" y="74"/>
                    </a:lnTo>
                    <a:lnTo>
                      <a:pt x="637" y="49"/>
                    </a:lnTo>
                    <a:lnTo>
                      <a:pt x="721" y="13"/>
                    </a:lnTo>
                    <a:lnTo>
                      <a:pt x="753" y="0"/>
                    </a:lnTo>
                    <a:lnTo>
                      <a:pt x="768" y="38"/>
                    </a:lnTo>
                    <a:lnTo>
                      <a:pt x="809" y="141"/>
                    </a:lnTo>
                    <a:lnTo>
                      <a:pt x="871" y="292"/>
                    </a:lnTo>
                    <a:lnTo>
                      <a:pt x="946" y="477"/>
                    </a:lnTo>
                    <a:lnTo>
                      <a:pt x="1028" y="676"/>
                    </a:lnTo>
                    <a:lnTo>
                      <a:pt x="1113" y="877"/>
                    </a:lnTo>
                    <a:lnTo>
                      <a:pt x="1153" y="971"/>
                    </a:lnTo>
                    <a:lnTo>
                      <a:pt x="1191" y="1059"/>
                    </a:lnTo>
                    <a:lnTo>
                      <a:pt x="1226" y="1139"/>
                    </a:lnTo>
                    <a:lnTo>
                      <a:pt x="1258" y="120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5861160" y="3492720"/>
                <a:ext cx="392040" cy="842760"/>
              </a:xfrm>
              <a:custGeom>
                <a:avLst/>
                <a:gdLst/>
                <a:ahLst/>
                <a:rect l="l" t="t" r="r" b="b"/>
                <a:pathLst>
                  <a:path w="1236" h="2652">
                    <a:moveTo>
                      <a:pt x="1196" y="1133"/>
                    </a:moveTo>
                    <a:lnTo>
                      <a:pt x="1208" y="1162"/>
                    </a:lnTo>
                    <a:lnTo>
                      <a:pt x="1218" y="1194"/>
                    </a:lnTo>
                    <a:lnTo>
                      <a:pt x="1226" y="1230"/>
                    </a:lnTo>
                    <a:lnTo>
                      <a:pt x="1231" y="1268"/>
                    </a:lnTo>
                    <a:lnTo>
                      <a:pt x="1234" y="1309"/>
                    </a:lnTo>
                    <a:lnTo>
                      <a:pt x="1236" y="1350"/>
                    </a:lnTo>
                    <a:lnTo>
                      <a:pt x="1236" y="1396"/>
                    </a:lnTo>
                    <a:lnTo>
                      <a:pt x="1233" y="1441"/>
                    </a:lnTo>
                    <a:lnTo>
                      <a:pt x="1229" y="1489"/>
                    </a:lnTo>
                    <a:lnTo>
                      <a:pt x="1224" y="1539"/>
                    </a:lnTo>
                    <a:lnTo>
                      <a:pt x="1217" y="1589"/>
                    </a:lnTo>
                    <a:lnTo>
                      <a:pt x="1208" y="1641"/>
                    </a:lnTo>
                    <a:lnTo>
                      <a:pt x="1199" y="1694"/>
                    </a:lnTo>
                    <a:lnTo>
                      <a:pt x="1188" y="1746"/>
                    </a:lnTo>
                    <a:lnTo>
                      <a:pt x="1175" y="1799"/>
                    </a:lnTo>
                    <a:lnTo>
                      <a:pt x="1160" y="1852"/>
                    </a:lnTo>
                    <a:lnTo>
                      <a:pt x="1146" y="1906"/>
                    </a:lnTo>
                    <a:lnTo>
                      <a:pt x="1130" y="1959"/>
                    </a:lnTo>
                    <a:lnTo>
                      <a:pt x="1114" y="2012"/>
                    </a:lnTo>
                    <a:lnTo>
                      <a:pt x="1095" y="2064"/>
                    </a:lnTo>
                    <a:lnTo>
                      <a:pt x="1077" y="2115"/>
                    </a:lnTo>
                    <a:lnTo>
                      <a:pt x="1058" y="2166"/>
                    </a:lnTo>
                    <a:lnTo>
                      <a:pt x="1037" y="2214"/>
                    </a:lnTo>
                    <a:lnTo>
                      <a:pt x="1018" y="2262"/>
                    </a:lnTo>
                    <a:lnTo>
                      <a:pt x="997" y="2307"/>
                    </a:lnTo>
                    <a:lnTo>
                      <a:pt x="975" y="2352"/>
                    </a:lnTo>
                    <a:lnTo>
                      <a:pt x="953" y="2393"/>
                    </a:lnTo>
                    <a:lnTo>
                      <a:pt x="930" y="2434"/>
                    </a:lnTo>
                    <a:lnTo>
                      <a:pt x="908" y="2471"/>
                    </a:lnTo>
                    <a:lnTo>
                      <a:pt x="886" y="2505"/>
                    </a:lnTo>
                    <a:lnTo>
                      <a:pt x="863" y="2537"/>
                    </a:lnTo>
                    <a:lnTo>
                      <a:pt x="841" y="2567"/>
                    </a:lnTo>
                    <a:lnTo>
                      <a:pt x="815" y="2593"/>
                    </a:lnTo>
                    <a:lnTo>
                      <a:pt x="788" y="2612"/>
                    </a:lnTo>
                    <a:lnTo>
                      <a:pt x="759" y="2630"/>
                    </a:lnTo>
                    <a:lnTo>
                      <a:pt x="730" y="2641"/>
                    </a:lnTo>
                    <a:lnTo>
                      <a:pt x="699" y="2648"/>
                    </a:lnTo>
                    <a:lnTo>
                      <a:pt x="668" y="2652"/>
                    </a:lnTo>
                    <a:lnTo>
                      <a:pt x="635" y="2652"/>
                    </a:lnTo>
                    <a:lnTo>
                      <a:pt x="602" y="2647"/>
                    </a:lnTo>
                    <a:lnTo>
                      <a:pt x="569" y="2639"/>
                    </a:lnTo>
                    <a:lnTo>
                      <a:pt x="534" y="2630"/>
                    </a:lnTo>
                    <a:lnTo>
                      <a:pt x="501" y="2616"/>
                    </a:lnTo>
                    <a:lnTo>
                      <a:pt x="467" y="2599"/>
                    </a:lnTo>
                    <a:lnTo>
                      <a:pt x="432" y="2580"/>
                    </a:lnTo>
                    <a:lnTo>
                      <a:pt x="399" y="2558"/>
                    </a:lnTo>
                    <a:lnTo>
                      <a:pt x="366" y="2534"/>
                    </a:lnTo>
                    <a:lnTo>
                      <a:pt x="332" y="2508"/>
                    </a:lnTo>
                    <a:lnTo>
                      <a:pt x="301" y="2481"/>
                    </a:lnTo>
                    <a:lnTo>
                      <a:pt x="269" y="2451"/>
                    </a:lnTo>
                    <a:lnTo>
                      <a:pt x="239" y="2419"/>
                    </a:lnTo>
                    <a:lnTo>
                      <a:pt x="209" y="2387"/>
                    </a:lnTo>
                    <a:lnTo>
                      <a:pt x="182" y="2354"/>
                    </a:lnTo>
                    <a:lnTo>
                      <a:pt x="157" y="2320"/>
                    </a:lnTo>
                    <a:lnTo>
                      <a:pt x="132" y="2284"/>
                    </a:lnTo>
                    <a:lnTo>
                      <a:pt x="109" y="2248"/>
                    </a:lnTo>
                    <a:lnTo>
                      <a:pt x="89" y="2213"/>
                    </a:lnTo>
                    <a:lnTo>
                      <a:pt x="70" y="2177"/>
                    </a:lnTo>
                    <a:lnTo>
                      <a:pt x="53" y="2141"/>
                    </a:lnTo>
                    <a:lnTo>
                      <a:pt x="40" y="2106"/>
                    </a:lnTo>
                    <a:lnTo>
                      <a:pt x="29" y="2070"/>
                    </a:lnTo>
                    <a:lnTo>
                      <a:pt x="20" y="2035"/>
                    </a:lnTo>
                    <a:lnTo>
                      <a:pt x="14" y="2001"/>
                    </a:lnTo>
                    <a:lnTo>
                      <a:pt x="11" y="1969"/>
                    </a:lnTo>
                    <a:lnTo>
                      <a:pt x="6" y="1850"/>
                    </a:lnTo>
                    <a:lnTo>
                      <a:pt x="3" y="1754"/>
                    </a:lnTo>
                    <a:lnTo>
                      <a:pt x="2" y="1676"/>
                    </a:lnTo>
                    <a:lnTo>
                      <a:pt x="0" y="1615"/>
                    </a:lnTo>
                    <a:lnTo>
                      <a:pt x="0" y="1564"/>
                    </a:lnTo>
                    <a:lnTo>
                      <a:pt x="0" y="1520"/>
                    </a:lnTo>
                    <a:lnTo>
                      <a:pt x="0" y="1480"/>
                    </a:lnTo>
                    <a:lnTo>
                      <a:pt x="0" y="1436"/>
                    </a:lnTo>
                    <a:lnTo>
                      <a:pt x="2" y="1398"/>
                    </a:lnTo>
                    <a:lnTo>
                      <a:pt x="3" y="1296"/>
                    </a:lnTo>
                    <a:lnTo>
                      <a:pt x="4" y="1150"/>
                    </a:lnTo>
                    <a:lnTo>
                      <a:pt x="6" y="978"/>
                    </a:lnTo>
                    <a:lnTo>
                      <a:pt x="8" y="799"/>
                    </a:lnTo>
                    <a:lnTo>
                      <a:pt x="10" y="635"/>
                    </a:lnTo>
                    <a:lnTo>
                      <a:pt x="11" y="502"/>
                    </a:lnTo>
                    <a:lnTo>
                      <a:pt x="11" y="420"/>
                    </a:lnTo>
                    <a:lnTo>
                      <a:pt x="14" y="408"/>
                    </a:lnTo>
                    <a:lnTo>
                      <a:pt x="20" y="395"/>
                    </a:lnTo>
                    <a:lnTo>
                      <a:pt x="30" y="380"/>
                    </a:lnTo>
                    <a:lnTo>
                      <a:pt x="42" y="365"/>
                    </a:lnTo>
                    <a:lnTo>
                      <a:pt x="59" y="349"/>
                    </a:lnTo>
                    <a:lnTo>
                      <a:pt x="78" y="333"/>
                    </a:lnTo>
                    <a:lnTo>
                      <a:pt x="100" y="317"/>
                    </a:lnTo>
                    <a:lnTo>
                      <a:pt x="125" y="300"/>
                    </a:lnTo>
                    <a:lnTo>
                      <a:pt x="150" y="283"/>
                    </a:lnTo>
                    <a:lnTo>
                      <a:pt x="179" y="266"/>
                    </a:lnTo>
                    <a:lnTo>
                      <a:pt x="208" y="248"/>
                    </a:lnTo>
                    <a:lnTo>
                      <a:pt x="239" y="230"/>
                    </a:lnTo>
                    <a:lnTo>
                      <a:pt x="304" y="195"/>
                    </a:lnTo>
                    <a:lnTo>
                      <a:pt x="372" y="161"/>
                    </a:lnTo>
                    <a:lnTo>
                      <a:pt x="438" y="129"/>
                    </a:lnTo>
                    <a:lnTo>
                      <a:pt x="504" y="98"/>
                    </a:lnTo>
                    <a:lnTo>
                      <a:pt x="565" y="71"/>
                    </a:lnTo>
                    <a:lnTo>
                      <a:pt x="619" y="47"/>
                    </a:lnTo>
                    <a:lnTo>
                      <a:pt x="700" y="12"/>
                    </a:lnTo>
                    <a:lnTo>
                      <a:pt x="732" y="0"/>
                    </a:lnTo>
                    <a:lnTo>
                      <a:pt x="745" y="34"/>
                    </a:lnTo>
                    <a:lnTo>
                      <a:pt x="782" y="129"/>
                    </a:lnTo>
                    <a:lnTo>
                      <a:pt x="837" y="268"/>
                    </a:lnTo>
                    <a:lnTo>
                      <a:pt x="903" y="439"/>
                    </a:lnTo>
                    <a:lnTo>
                      <a:pt x="978" y="625"/>
                    </a:lnTo>
                    <a:lnTo>
                      <a:pt x="1056" y="812"/>
                    </a:lnTo>
                    <a:lnTo>
                      <a:pt x="1094" y="901"/>
                    </a:lnTo>
                    <a:lnTo>
                      <a:pt x="1130" y="986"/>
                    </a:lnTo>
                    <a:lnTo>
                      <a:pt x="1164" y="1064"/>
                    </a:lnTo>
                    <a:lnTo>
                      <a:pt x="1196" y="1133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5861160" y="3495600"/>
                <a:ext cx="371520" cy="781200"/>
              </a:xfrm>
              <a:custGeom>
                <a:avLst/>
                <a:gdLst/>
                <a:ahLst/>
                <a:rect l="l" t="t" r="r" b="b"/>
                <a:pathLst>
                  <a:path w="1171" h="2463">
                    <a:moveTo>
                      <a:pt x="1130" y="1060"/>
                    </a:moveTo>
                    <a:lnTo>
                      <a:pt x="1143" y="1088"/>
                    </a:lnTo>
                    <a:lnTo>
                      <a:pt x="1151" y="1118"/>
                    </a:lnTo>
                    <a:lnTo>
                      <a:pt x="1159" y="1151"/>
                    </a:lnTo>
                    <a:lnTo>
                      <a:pt x="1165" y="1187"/>
                    </a:lnTo>
                    <a:lnTo>
                      <a:pt x="1169" y="1224"/>
                    </a:lnTo>
                    <a:lnTo>
                      <a:pt x="1171" y="1263"/>
                    </a:lnTo>
                    <a:lnTo>
                      <a:pt x="1171" y="1305"/>
                    </a:lnTo>
                    <a:lnTo>
                      <a:pt x="1170" y="1348"/>
                    </a:lnTo>
                    <a:lnTo>
                      <a:pt x="1167" y="1391"/>
                    </a:lnTo>
                    <a:lnTo>
                      <a:pt x="1162" y="1437"/>
                    </a:lnTo>
                    <a:lnTo>
                      <a:pt x="1157" y="1484"/>
                    </a:lnTo>
                    <a:lnTo>
                      <a:pt x="1150" y="1530"/>
                    </a:lnTo>
                    <a:lnTo>
                      <a:pt x="1141" y="1578"/>
                    </a:lnTo>
                    <a:lnTo>
                      <a:pt x="1132" y="1627"/>
                    </a:lnTo>
                    <a:lnTo>
                      <a:pt x="1121" y="1675"/>
                    </a:lnTo>
                    <a:lnTo>
                      <a:pt x="1109" y="1725"/>
                    </a:lnTo>
                    <a:lnTo>
                      <a:pt x="1096" y="1774"/>
                    </a:lnTo>
                    <a:lnTo>
                      <a:pt x="1082" y="1822"/>
                    </a:lnTo>
                    <a:lnTo>
                      <a:pt x="1068" y="1870"/>
                    </a:lnTo>
                    <a:lnTo>
                      <a:pt x="1052" y="1918"/>
                    </a:lnTo>
                    <a:lnTo>
                      <a:pt x="1034" y="1965"/>
                    </a:lnTo>
                    <a:lnTo>
                      <a:pt x="1017" y="2010"/>
                    </a:lnTo>
                    <a:lnTo>
                      <a:pt x="1000" y="2054"/>
                    </a:lnTo>
                    <a:lnTo>
                      <a:pt x="982" y="2099"/>
                    </a:lnTo>
                    <a:lnTo>
                      <a:pt x="962" y="2140"/>
                    </a:lnTo>
                    <a:lnTo>
                      <a:pt x="942" y="2180"/>
                    </a:lnTo>
                    <a:lnTo>
                      <a:pt x="922" y="2218"/>
                    </a:lnTo>
                    <a:lnTo>
                      <a:pt x="902" y="2255"/>
                    </a:lnTo>
                    <a:lnTo>
                      <a:pt x="882" y="2288"/>
                    </a:lnTo>
                    <a:lnTo>
                      <a:pt x="861" y="2320"/>
                    </a:lnTo>
                    <a:lnTo>
                      <a:pt x="840" y="2348"/>
                    </a:lnTo>
                    <a:lnTo>
                      <a:pt x="818" y="2375"/>
                    </a:lnTo>
                    <a:lnTo>
                      <a:pt x="793" y="2399"/>
                    </a:lnTo>
                    <a:lnTo>
                      <a:pt x="767" y="2418"/>
                    </a:lnTo>
                    <a:lnTo>
                      <a:pt x="740" y="2434"/>
                    </a:lnTo>
                    <a:lnTo>
                      <a:pt x="712" y="2447"/>
                    </a:lnTo>
                    <a:lnTo>
                      <a:pt x="683" y="2455"/>
                    </a:lnTo>
                    <a:lnTo>
                      <a:pt x="652" y="2460"/>
                    </a:lnTo>
                    <a:lnTo>
                      <a:pt x="621" y="2463"/>
                    </a:lnTo>
                    <a:lnTo>
                      <a:pt x="589" y="2461"/>
                    </a:lnTo>
                    <a:lnTo>
                      <a:pt x="556" y="2457"/>
                    </a:lnTo>
                    <a:lnTo>
                      <a:pt x="524" y="2450"/>
                    </a:lnTo>
                    <a:lnTo>
                      <a:pt x="491" y="2441"/>
                    </a:lnTo>
                    <a:lnTo>
                      <a:pt x="457" y="2429"/>
                    </a:lnTo>
                    <a:lnTo>
                      <a:pt x="425" y="2415"/>
                    </a:lnTo>
                    <a:lnTo>
                      <a:pt x="392" y="2399"/>
                    </a:lnTo>
                    <a:lnTo>
                      <a:pt x="360" y="2380"/>
                    </a:lnTo>
                    <a:lnTo>
                      <a:pt x="329" y="2359"/>
                    </a:lnTo>
                    <a:lnTo>
                      <a:pt x="298" y="2338"/>
                    </a:lnTo>
                    <a:lnTo>
                      <a:pt x="268" y="2314"/>
                    </a:lnTo>
                    <a:lnTo>
                      <a:pt x="238" y="2289"/>
                    </a:lnTo>
                    <a:lnTo>
                      <a:pt x="211" y="2263"/>
                    </a:lnTo>
                    <a:lnTo>
                      <a:pt x="184" y="2236"/>
                    </a:lnTo>
                    <a:lnTo>
                      <a:pt x="160" y="2208"/>
                    </a:lnTo>
                    <a:lnTo>
                      <a:pt x="135" y="2179"/>
                    </a:lnTo>
                    <a:lnTo>
                      <a:pt x="113" y="2149"/>
                    </a:lnTo>
                    <a:lnTo>
                      <a:pt x="93" y="2118"/>
                    </a:lnTo>
                    <a:lnTo>
                      <a:pt x="75" y="2088"/>
                    </a:lnTo>
                    <a:lnTo>
                      <a:pt x="59" y="2057"/>
                    </a:lnTo>
                    <a:lnTo>
                      <a:pt x="45" y="2026"/>
                    </a:lnTo>
                    <a:lnTo>
                      <a:pt x="34" y="1995"/>
                    </a:lnTo>
                    <a:lnTo>
                      <a:pt x="26" y="1965"/>
                    </a:lnTo>
                    <a:lnTo>
                      <a:pt x="19" y="1935"/>
                    </a:lnTo>
                    <a:lnTo>
                      <a:pt x="17" y="1905"/>
                    </a:lnTo>
                    <a:lnTo>
                      <a:pt x="10" y="1795"/>
                    </a:lnTo>
                    <a:lnTo>
                      <a:pt x="5" y="1703"/>
                    </a:lnTo>
                    <a:lnTo>
                      <a:pt x="2" y="1625"/>
                    </a:lnTo>
                    <a:lnTo>
                      <a:pt x="1" y="1561"/>
                    </a:lnTo>
                    <a:lnTo>
                      <a:pt x="0" y="1506"/>
                    </a:lnTo>
                    <a:lnTo>
                      <a:pt x="0" y="1458"/>
                    </a:lnTo>
                    <a:lnTo>
                      <a:pt x="1" y="1413"/>
                    </a:lnTo>
                    <a:lnTo>
                      <a:pt x="1" y="1369"/>
                    </a:lnTo>
                    <a:lnTo>
                      <a:pt x="1" y="1334"/>
                    </a:lnTo>
                    <a:lnTo>
                      <a:pt x="2" y="1239"/>
                    </a:lnTo>
                    <a:lnTo>
                      <a:pt x="3" y="1101"/>
                    </a:lnTo>
                    <a:lnTo>
                      <a:pt x="5" y="941"/>
                    </a:lnTo>
                    <a:lnTo>
                      <a:pt x="6" y="774"/>
                    </a:lnTo>
                    <a:lnTo>
                      <a:pt x="7" y="618"/>
                    </a:lnTo>
                    <a:lnTo>
                      <a:pt x="8" y="492"/>
                    </a:lnTo>
                    <a:lnTo>
                      <a:pt x="8" y="413"/>
                    </a:lnTo>
                    <a:lnTo>
                      <a:pt x="11" y="401"/>
                    </a:lnTo>
                    <a:lnTo>
                      <a:pt x="17" y="388"/>
                    </a:lnTo>
                    <a:lnTo>
                      <a:pt x="26" y="373"/>
                    </a:lnTo>
                    <a:lnTo>
                      <a:pt x="39" y="358"/>
                    </a:lnTo>
                    <a:lnTo>
                      <a:pt x="55" y="343"/>
                    </a:lnTo>
                    <a:lnTo>
                      <a:pt x="74" y="327"/>
                    </a:lnTo>
                    <a:lnTo>
                      <a:pt x="95" y="311"/>
                    </a:lnTo>
                    <a:lnTo>
                      <a:pt x="118" y="294"/>
                    </a:lnTo>
                    <a:lnTo>
                      <a:pt x="144" y="277"/>
                    </a:lnTo>
                    <a:lnTo>
                      <a:pt x="171" y="260"/>
                    </a:lnTo>
                    <a:lnTo>
                      <a:pt x="199" y="243"/>
                    </a:lnTo>
                    <a:lnTo>
                      <a:pt x="230" y="225"/>
                    </a:lnTo>
                    <a:lnTo>
                      <a:pt x="293" y="192"/>
                    </a:lnTo>
                    <a:lnTo>
                      <a:pt x="358" y="159"/>
                    </a:lnTo>
                    <a:lnTo>
                      <a:pt x="423" y="127"/>
                    </a:lnTo>
                    <a:lnTo>
                      <a:pt x="486" y="97"/>
                    </a:lnTo>
                    <a:lnTo>
                      <a:pt x="545" y="70"/>
                    </a:lnTo>
                    <a:lnTo>
                      <a:pt x="598" y="47"/>
                    </a:lnTo>
                    <a:lnTo>
                      <a:pt x="676" y="14"/>
                    </a:lnTo>
                    <a:lnTo>
                      <a:pt x="707" y="0"/>
                    </a:lnTo>
                    <a:lnTo>
                      <a:pt x="718" y="32"/>
                    </a:lnTo>
                    <a:lnTo>
                      <a:pt x="750" y="118"/>
                    </a:lnTo>
                    <a:lnTo>
                      <a:pt x="798" y="246"/>
                    </a:lnTo>
                    <a:lnTo>
                      <a:pt x="859" y="404"/>
                    </a:lnTo>
                    <a:lnTo>
                      <a:pt x="926" y="576"/>
                    </a:lnTo>
                    <a:lnTo>
                      <a:pt x="998" y="752"/>
                    </a:lnTo>
                    <a:lnTo>
                      <a:pt x="1032" y="837"/>
                    </a:lnTo>
                    <a:lnTo>
                      <a:pt x="1066" y="917"/>
                    </a:lnTo>
                    <a:lnTo>
                      <a:pt x="1100" y="993"/>
                    </a:lnTo>
                    <a:lnTo>
                      <a:pt x="1130" y="106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5861160" y="3498840"/>
                <a:ext cx="352440" cy="720720"/>
              </a:xfrm>
              <a:custGeom>
                <a:avLst/>
                <a:gdLst/>
                <a:ahLst/>
                <a:rect l="l" t="t" r="r" b="b"/>
                <a:pathLst>
                  <a:path w="1108" h="2273">
                    <a:moveTo>
                      <a:pt x="1068" y="984"/>
                    </a:moveTo>
                    <a:lnTo>
                      <a:pt x="1079" y="1010"/>
                    </a:lnTo>
                    <a:lnTo>
                      <a:pt x="1088" y="1038"/>
                    </a:lnTo>
                    <a:lnTo>
                      <a:pt x="1095" y="1070"/>
                    </a:lnTo>
                    <a:lnTo>
                      <a:pt x="1101" y="1102"/>
                    </a:lnTo>
                    <a:lnTo>
                      <a:pt x="1105" y="1138"/>
                    </a:lnTo>
                    <a:lnTo>
                      <a:pt x="1107" y="1173"/>
                    </a:lnTo>
                    <a:lnTo>
                      <a:pt x="1108" y="1211"/>
                    </a:lnTo>
                    <a:lnTo>
                      <a:pt x="1108" y="1251"/>
                    </a:lnTo>
                    <a:lnTo>
                      <a:pt x="1107" y="1291"/>
                    </a:lnTo>
                    <a:lnTo>
                      <a:pt x="1104" y="1333"/>
                    </a:lnTo>
                    <a:lnTo>
                      <a:pt x="1099" y="1376"/>
                    </a:lnTo>
                    <a:lnTo>
                      <a:pt x="1094" y="1419"/>
                    </a:lnTo>
                    <a:lnTo>
                      <a:pt x="1086" y="1462"/>
                    </a:lnTo>
                    <a:lnTo>
                      <a:pt x="1079" y="1507"/>
                    </a:lnTo>
                    <a:lnTo>
                      <a:pt x="1069" y="1551"/>
                    </a:lnTo>
                    <a:lnTo>
                      <a:pt x="1059" y="1595"/>
                    </a:lnTo>
                    <a:lnTo>
                      <a:pt x="1048" y="1639"/>
                    </a:lnTo>
                    <a:lnTo>
                      <a:pt x="1036" y="1684"/>
                    </a:lnTo>
                    <a:lnTo>
                      <a:pt x="1022" y="1728"/>
                    </a:lnTo>
                    <a:lnTo>
                      <a:pt x="1009" y="1770"/>
                    </a:lnTo>
                    <a:lnTo>
                      <a:pt x="994" y="1813"/>
                    </a:lnTo>
                    <a:lnTo>
                      <a:pt x="979" y="1853"/>
                    </a:lnTo>
                    <a:lnTo>
                      <a:pt x="963" y="1894"/>
                    </a:lnTo>
                    <a:lnTo>
                      <a:pt x="946" y="1933"/>
                    </a:lnTo>
                    <a:lnTo>
                      <a:pt x="929" y="1970"/>
                    </a:lnTo>
                    <a:lnTo>
                      <a:pt x="912" y="2007"/>
                    </a:lnTo>
                    <a:lnTo>
                      <a:pt x="893" y="2042"/>
                    </a:lnTo>
                    <a:lnTo>
                      <a:pt x="875" y="2074"/>
                    </a:lnTo>
                    <a:lnTo>
                      <a:pt x="856" y="2104"/>
                    </a:lnTo>
                    <a:lnTo>
                      <a:pt x="838" y="2133"/>
                    </a:lnTo>
                    <a:lnTo>
                      <a:pt x="818" y="2158"/>
                    </a:lnTo>
                    <a:lnTo>
                      <a:pt x="798" y="2181"/>
                    </a:lnTo>
                    <a:lnTo>
                      <a:pt x="775" y="2203"/>
                    </a:lnTo>
                    <a:lnTo>
                      <a:pt x="750" y="2221"/>
                    </a:lnTo>
                    <a:lnTo>
                      <a:pt x="723" y="2237"/>
                    </a:lnTo>
                    <a:lnTo>
                      <a:pt x="696" y="2249"/>
                    </a:lnTo>
                    <a:lnTo>
                      <a:pt x="668" y="2259"/>
                    </a:lnTo>
                    <a:lnTo>
                      <a:pt x="639" y="2267"/>
                    </a:lnTo>
                    <a:lnTo>
                      <a:pt x="609" y="2270"/>
                    </a:lnTo>
                    <a:lnTo>
                      <a:pt x="578" y="2273"/>
                    </a:lnTo>
                    <a:lnTo>
                      <a:pt x="547" y="2273"/>
                    </a:lnTo>
                    <a:lnTo>
                      <a:pt x="515" y="2269"/>
                    </a:lnTo>
                    <a:lnTo>
                      <a:pt x="485" y="2264"/>
                    </a:lnTo>
                    <a:lnTo>
                      <a:pt x="453" y="2257"/>
                    </a:lnTo>
                    <a:lnTo>
                      <a:pt x="421" y="2248"/>
                    </a:lnTo>
                    <a:lnTo>
                      <a:pt x="390" y="2237"/>
                    </a:lnTo>
                    <a:lnTo>
                      <a:pt x="359" y="2224"/>
                    </a:lnTo>
                    <a:lnTo>
                      <a:pt x="328" y="2210"/>
                    </a:lnTo>
                    <a:lnTo>
                      <a:pt x="299" y="2194"/>
                    </a:lnTo>
                    <a:lnTo>
                      <a:pt x="269" y="2176"/>
                    </a:lnTo>
                    <a:lnTo>
                      <a:pt x="241" y="2157"/>
                    </a:lnTo>
                    <a:lnTo>
                      <a:pt x="214" y="2138"/>
                    </a:lnTo>
                    <a:lnTo>
                      <a:pt x="188" y="2115"/>
                    </a:lnTo>
                    <a:lnTo>
                      <a:pt x="164" y="2093"/>
                    </a:lnTo>
                    <a:lnTo>
                      <a:pt x="140" y="2071"/>
                    </a:lnTo>
                    <a:lnTo>
                      <a:pt x="119" y="2047"/>
                    </a:lnTo>
                    <a:lnTo>
                      <a:pt x="100" y="2022"/>
                    </a:lnTo>
                    <a:lnTo>
                      <a:pt x="81" y="1997"/>
                    </a:lnTo>
                    <a:lnTo>
                      <a:pt x="65" y="1972"/>
                    </a:lnTo>
                    <a:lnTo>
                      <a:pt x="52" y="1944"/>
                    </a:lnTo>
                    <a:lnTo>
                      <a:pt x="41" y="1919"/>
                    </a:lnTo>
                    <a:lnTo>
                      <a:pt x="32" y="1892"/>
                    </a:lnTo>
                    <a:lnTo>
                      <a:pt x="25" y="1866"/>
                    </a:lnTo>
                    <a:lnTo>
                      <a:pt x="21" y="1839"/>
                    </a:lnTo>
                    <a:lnTo>
                      <a:pt x="14" y="1737"/>
                    </a:lnTo>
                    <a:lnTo>
                      <a:pt x="9" y="1648"/>
                    </a:lnTo>
                    <a:lnTo>
                      <a:pt x="5" y="1571"/>
                    </a:lnTo>
                    <a:lnTo>
                      <a:pt x="2" y="1503"/>
                    </a:lnTo>
                    <a:lnTo>
                      <a:pt x="1" y="1444"/>
                    </a:lnTo>
                    <a:lnTo>
                      <a:pt x="0" y="1391"/>
                    </a:lnTo>
                    <a:lnTo>
                      <a:pt x="0" y="1343"/>
                    </a:lnTo>
                    <a:lnTo>
                      <a:pt x="0" y="1299"/>
                    </a:lnTo>
                    <a:lnTo>
                      <a:pt x="0" y="1265"/>
                    </a:lnTo>
                    <a:lnTo>
                      <a:pt x="1" y="1177"/>
                    </a:lnTo>
                    <a:lnTo>
                      <a:pt x="2" y="1050"/>
                    </a:lnTo>
                    <a:lnTo>
                      <a:pt x="4" y="900"/>
                    </a:lnTo>
                    <a:lnTo>
                      <a:pt x="5" y="745"/>
                    </a:lnTo>
                    <a:lnTo>
                      <a:pt x="6" y="599"/>
                    </a:lnTo>
                    <a:lnTo>
                      <a:pt x="7" y="481"/>
                    </a:lnTo>
                    <a:lnTo>
                      <a:pt x="7" y="404"/>
                    </a:lnTo>
                    <a:lnTo>
                      <a:pt x="10" y="392"/>
                    </a:lnTo>
                    <a:lnTo>
                      <a:pt x="15" y="379"/>
                    </a:lnTo>
                    <a:lnTo>
                      <a:pt x="25" y="365"/>
                    </a:lnTo>
                    <a:lnTo>
                      <a:pt x="37" y="350"/>
                    </a:lnTo>
                    <a:lnTo>
                      <a:pt x="52" y="334"/>
                    </a:lnTo>
                    <a:lnTo>
                      <a:pt x="70" y="318"/>
                    </a:lnTo>
                    <a:lnTo>
                      <a:pt x="91" y="302"/>
                    </a:lnTo>
                    <a:lnTo>
                      <a:pt x="114" y="286"/>
                    </a:lnTo>
                    <a:lnTo>
                      <a:pt x="139" y="270"/>
                    </a:lnTo>
                    <a:lnTo>
                      <a:pt x="165" y="253"/>
                    </a:lnTo>
                    <a:lnTo>
                      <a:pt x="193" y="236"/>
                    </a:lnTo>
                    <a:lnTo>
                      <a:pt x="223" y="219"/>
                    </a:lnTo>
                    <a:lnTo>
                      <a:pt x="284" y="186"/>
                    </a:lnTo>
                    <a:lnTo>
                      <a:pt x="347" y="154"/>
                    </a:lnTo>
                    <a:lnTo>
                      <a:pt x="411" y="123"/>
                    </a:lnTo>
                    <a:lnTo>
                      <a:pt x="472" y="93"/>
                    </a:lnTo>
                    <a:lnTo>
                      <a:pt x="529" y="67"/>
                    </a:lnTo>
                    <a:lnTo>
                      <a:pt x="581" y="45"/>
                    </a:lnTo>
                    <a:lnTo>
                      <a:pt x="658" y="12"/>
                    </a:lnTo>
                    <a:lnTo>
                      <a:pt x="687" y="0"/>
                    </a:lnTo>
                    <a:lnTo>
                      <a:pt x="696" y="28"/>
                    </a:lnTo>
                    <a:lnTo>
                      <a:pt x="723" y="106"/>
                    </a:lnTo>
                    <a:lnTo>
                      <a:pt x="765" y="222"/>
                    </a:lnTo>
                    <a:lnTo>
                      <a:pt x="817" y="365"/>
                    </a:lnTo>
                    <a:lnTo>
                      <a:pt x="876" y="524"/>
                    </a:lnTo>
                    <a:lnTo>
                      <a:pt x="940" y="687"/>
                    </a:lnTo>
                    <a:lnTo>
                      <a:pt x="973" y="767"/>
                    </a:lnTo>
                    <a:lnTo>
                      <a:pt x="1005" y="845"/>
                    </a:lnTo>
                    <a:lnTo>
                      <a:pt x="1037" y="916"/>
                    </a:lnTo>
                    <a:lnTo>
                      <a:pt x="1068" y="984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5862600" y="3502080"/>
                <a:ext cx="331920" cy="662040"/>
              </a:xfrm>
              <a:custGeom>
                <a:avLst/>
                <a:gdLst/>
                <a:ahLst/>
                <a:rect l="l" t="t" r="r" b="b"/>
                <a:pathLst>
                  <a:path w="1047" h="2085">
                    <a:moveTo>
                      <a:pt x="1006" y="908"/>
                    </a:moveTo>
                    <a:lnTo>
                      <a:pt x="1015" y="932"/>
                    </a:lnTo>
                    <a:lnTo>
                      <a:pt x="1025" y="958"/>
                    </a:lnTo>
                    <a:lnTo>
                      <a:pt x="1033" y="988"/>
                    </a:lnTo>
                    <a:lnTo>
                      <a:pt x="1038" y="1017"/>
                    </a:lnTo>
                    <a:lnTo>
                      <a:pt x="1043" y="1049"/>
                    </a:lnTo>
                    <a:lnTo>
                      <a:pt x="1045" y="1082"/>
                    </a:lnTo>
                    <a:lnTo>
                      <a:pt x="1046" y="1117"/>
                    </a:lnTo>
                    <a:lnTo>
                      <a:pt x="1047" y="1154"/>
                    </a:lnTo>
                    <a:lnTo>
                      <a:pt x="1046" y="1189"/>
                    </a:lnTo>
                    <a:lnTo>
                      <a:pt x="1044" y="1227"/>
                    </a:lnTo>
                    <a:lnTo>
                      <a:pt x="1040" y="1266"/>
                    </a:lnTo>
                    <a:lnTo>
                      <a:pt x="1036" y="1305"/>
                    </a:lnTo>
                    <a:lnTo>
                      <a:pt x="1030" y="1344"/>
                    </a:lnTo>
                    <a:lnTo>
                      <a:pt x="1024" y="1384"/>
                    </a:lnTo>
                    <a:lnTo>
                      <a:pt x="1017" y="1424"/>
                    </a:lnTo>
                    <a:lnTo>
                      <a:pt x="1008" y="1464"/>
                    </a:lnTo>
                    <a:lnTo>
                      <a:pt x="998" y="1503"/>
                    </a:lnTo>
                    <a:lnTo>
                      <a:pt x="987" y="1542"/>
                    </a:lnTo>
                    <a:lnTo>
                      <a:pt x="976" y="1582"/>
                    </a:lnTo>
                    <a:lnTo>
                      <a:pt x="965" y="1620"/>
                    </a:lnTo>
                    <a:lnTo>
                      <a:pt x="951" y="1658"/>
                    </a:lnTo>
                    <a:lnTo>
                      <a:pt x="939" y="1695"/>
                    </a:lnTo>
                    <a:lnTo>
                      <a:pt x="924" y="1730"/>
                    </a:lnTo>
                    <a:lnTo>
                      <a:pt x="910" y="1765"/>
                    </a:lnTo>
                    <a:lnTo>
                      <a:pt x="895" y="1799"/>
                    </a:lnTo>
                    <a:lnTo>
                      <a:pt x="879" y="1831"/>
                    </a:lnTo>
                    <a:lnTo>
                      <a:pt x="863" y="1861"/>
                    </a:lnTo>
                    <a:lnTo>
                      <a:pt x="847" y="1890"/>
                    </a:lnTo>
                    <a:lnTo>
                      <a:pt x="830" y="1917"/>
                    </a:lnTo>
                    <a:lnTo>
                      <a:pt x="812" y="1942"/>
                    </a:lnTo>
                    <a:lnTo>
                      <a:pt x="795" y="1965"/>
                    </a:lnTo>
                    <a:lnTo>
                      <a:pt x="777" y="1985"/>
                    </a:lnTo>
                    <a:lnTo>
                      <a:pt x="755" y="2005"/>
                    </a:lnTo>
                    <a:lnTo>
                      <a:pt x="731" y="2022"/>
                    </a:lnTo>
                    <a:lnTo>
                      <a:pt x="707" y="2038"/>
                    </a:lnTo>
                    <a:lnTo>
                      <a:pt x="680" y="2050"/>
                    </a:lnTo>
                    <a:lnTo>
                      <a:pt x="653" y="2061"/>
                    </a:lnTo>
                    <a:lnTo>
                      <a:pt x="624" y="2070"/>
                    </a:lnTo>
                    <a:lnTo>
                      <a:pt x="596" y="2076"/>
                    </a:lnTo>
                    <a:lnTo>
                      <a:pt x="566" y="2081"/>
                    </a:lnTo>
                    <a:lnTo>
                      <a:pt x="537" y="2085"/>
                    </a:lnTo>
                    <a:lnTo>
                      <a:pt x="506" y="2085"/>
                    </a:lnTo>
                    <a:lnTo>
                      <a:pt x="477" y="2085"/>
                    </a:lnTo>
                    <a:lnTo>
                      <a:pt x="446" y="2082"/>
                    </a:lnTo>
                    <a:lnTo>
                      <a:pt x="415" y="2077"/>
                    </a:lnTo>
                    <a:lnTo>
                      <a:pt x="386" y="2072"/>
                    </a:lnTo>
                    <a:lnTo>
                      <a:pt x="355" y="2065"/>
                    </a:lnTo>
                    <a:lnTo>
                      <a:pt x="326" y="2056"/>
                    </a:lnTo>
                    <a:lnTo>
                      <a:pt x="297" y="2047"/>
                    </a:lnTo>
                    <a:lnTo>
                      <a:pt x="269" y="2036"/>
                    </a:lnTo>
                    <a:lnTo>
                      <a:pt x="242" y="2022"/>
                    </a:lnTo>
                    <a:lnTo>
                      <a:pt x="216" y="2008"/>
                    </a:lnTo>
                    <a:lnTo>
                      <a:pt x="191" y="1994"/>
                    </a:lnTo>
                    <a:lnTo>
                      <a:pt x="167" y="1978"/>
                    </a:lnTo>
                    <a:lnTo>
                      <a:pt x="144" y="1961"/>
                    </a:lnTo>
                    <a:lnTo>
                      <a:pt x="124" y="1942"/>
                    </a:lnTo>
                    <a:lnTo>
                      <a:pt x="104" y="1924"/>
                    </a:lnTo>
                    <a:lnTo>
                      <a:pt x="87" y="1904"/>
                    </a:lnTo>
                    <a:lnTo>
                      <a:pt x="72" y="1883"/>
                    </a:lnTo>
                    <a:lnTo>
                      <a:pt x="58" y="1862"/>
                    </a:lnTo>
                    <a:lnTo>
                      <a:pt x="47" y="1840"/>
                    </a:lnTo>
                    <a:lnTo>
                      <a:pt x="37" y="1818"/>
                    </a:lnTo>
                    <a:lnTo>
                      <a:pt x="31" y="1794"/>
                    </a:lnTo>
                    <a:lnTo>
                      <a:pt x="28" y="1771"/>
                    </a:lnTo>
                    <a:lnTo>
                      <a:pt x="19" y="1678"/>
                    </a:lnTo>
                    <a:lnTo>
                      <a:pt x="12" y="1594"/>
                    </a:lnTo>
                    <a:lnTo>
                      <a:pt x="7" y="1516"/>
                    </a:lnTo>
                    <a:lnTo>
                      <a:pt x="4" y="1446"/>
                    </a:lnTo>
                    <a:lnTo>
                      <a:pt x="2" y="1382"/>
                    </a:lnTo>
                    <a:lnTo>
                      <a:pt x="0" y="1326"/>
                    </a:lnTo>
                    <a:lnTo>
                      <a:pt x="0" y="1274"/>
                    </a:lnTo>
                    <a:lnTo>
                      <a:pt x="0" y="1227"/>
                    </a:lnTo>
                    <a:lnTo>
                      <a:pt x="0" y="1197"/>
                    </a:lnTo>
                    <a:lnTo>
                      <a:pt x="2" y="1115"/>
                    </a:lnTo>
                    <a:lnTo>
                      <a:pt x="2" y="999"/>
                    </a:lnTo>
                    <a:lnTo>
                      <a:pt x="3" y="860"/>
                    </a:lnTo>
                    <a:lnTo>
                      <a:pt x="4" y="715"/>
                    </a:lnTo>
                    <a:lnTo>
                      <a:pt x="5" y="579"/>
                    </a:lnTo>
                    <a:lnTo>
                      <a:pt x="5" y="467"/>
                    </a:lnTo>
                    <a:lnTo>
                      <a:pt x="5" y="393"/>
                    </a:lnTo>
                    <a:lnTo>
                      <a:pt x="8" y="381"/>
                    </a:lnTo>
                    <a:lnTo>
                      <a:pt x="13" y="368"/>
                    </a:lnTo>
                    <a:lnTo>
                      <a:pt x="23" y="354"/>
                    </a:lnTo>
                    <a:lnTo>
                      <a:pt x="34" y="339"/>
                    </a:lnTo>
                    <a:lnTo>
                      <a:pt x="48" y="325"/>
                    </a:lnTo>
                    <a:lnTo>
                      <a:pt x="67" y="309"/>
                    </a:lnTo>
                    <a:lnTo>
                      <a:pt x="87" y="293"/>
                    </a:lnTo>
                    <a:lnTo>
                      <a:pt x="109" y="277"/>
                    </a:lnTo>
                    <a:lnTo>
                      <a:pt x="133" y="261"/>
                    </a:lnTo>
                    <a:lnTo>
                      <a:pt x="159" y="245"/>
                    </a:lnTo>
                    <a:lnTo>
                      <a:pt x="186" y="229"/>
                    </a:lnTo>
                    <a:lnTo>
                      <a:pt x="215" y="211"/>
                    </a:lnTo>
                    <a:lnTo>
                      <a:pt x="275" y="179"/>
                    </a:lnTo>
                    <a:lnTo>
                      <a:pt x="336" y="147"/>
                    </a:lnTo>
                    <a:lnTo>
                      <a:pt x="398" y="118"/>
                    </a:lnTo>
                    <a:lnTo>
                      <a:pt x="457" y="90"/>
                    </a:lnTo>
                    <a:lnTo>
                      <a:pt x="512" y="65"/>
                    </a:lnTo>
                    <a:lnTo>
                      <a:pt x="563" y="43"/>
                    </a:lnTo>
                    <a:lnTo>
                      <a:pt x="638" y="11"/>
                    </a:lnTo>
                    <a:lnTo>
                      <a:pt x="666" y="0"/>
                    </a:lnTo>
                    <a:lnTo>
                      <a:pt x="673" y="24"/>
                    </a:lnTo>
                    <a:lnTo>
                      <a:pt x="696" y="95"/>
                    </a:lnTo>
                    <a:lnTo>
                      <a:pt x="730" y="198"/>
                    </a:lnTo>
                    <a:lnTo>
                      <a:pt x="774" y="327"/>
                    </a:lnTo>
                    <a:lnTo>
                      <a:pt x="800" y="398"/>
                    </a:lnTo>
                    <a:lnTo>
                      <a:pt x="826" y="472"/>
                    </a:lnTo>
                    <a:lnTo>
                      <a:pt x="854" y="547"/>
                    </a:lnTo>
                    <a:lnTo>
                      <a:pt x="884" y="623"/>
                    </a:lnTo>
                    <a:lnTo>
                      <a:pt x="913" y="699"/>
                    </a:lnTo>
                    <a:lnTo>
                      <a:pt x="944" y="771"/>
                    </a:lnTo>
                    <a:lnTo>
                      <a:pt x="975" y="841"/>
                    </a:lnTo>
                    <a:lnTo>
                      <a:pt x="1006" y="90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5862600" y="3503880"/>
                <a:ext cx="312840" cy="607680"/>
              </a:xfrm>
              <a:custGeom>
                <a:avLst/>
                <a:gdLst/>
                <a:ahLst/>
                <a:rect l="l" t="t" r="r" b="b"/>
                <a:pathLst>
                  <a:path w="987" h="1912">
                    <a:moveTo>
                      <a:pt x="943" y="834"/>
                    </a:moveTo>
                    <a:lnTo>
                      <a:pt x="953" y="857"/>
                    </a:lnTo>
                    <a:lnTo>
                      <a:pt x="961" y="881"/>
                    </a:lnTo>
                    <a:lnTo>
                      <a:pt x="969" y="908"/>
                    </a:lnTo>
                    <a:lnTo>
                      <a:pt x="975" y="935"/>
                    </a:lnTo>
                    <a:lnTo>
                      <a:pt x="980" y="965"/>
                    </a:lnTo>
                    <a:lnTo>
                      <a:pt x="983" y="994"/>
                    </a:lnTo>
                    <a:lnTo>
                      <a:pt x="986" y="1026"/>
                    </a:lnTo>
                    <a:lnTo>
                      <a:pt x="987" y="1058"/>
                    </a:lnTo>
                    <a:lnTo>
                      <a:pt x="987" y="1092"/>
                    </a:lnTo>
                    <a:lnTo>
                      <a:pt x="986" y="1125"/>
                    </a:lnTo>
                    <a:lnTo>
                      <a:pt x="983" y="1159"/>
                    </a:lnTo>
                    <a:lnTo>
                      <a:pt x="981" y="1194"/>
                    </a:lnTo>
                    <a:lnTo>
                      <a:pt x="976" y="1229"/>
                    </a:lnTo>
                    <a:lnTo>
                      <a:pt x="971" y="1264"/>
                    </a:lnTo>
                    <a:lnTo>
                      <a:pt x="965" y="1299"/>
                    </a:lnTo>
                    <a:lnTo>
                      <a:pt x="959" y="1335"/>
                    </a:lnTo>
                    <a:lnTo>
                      <a:pt x="951" y="1369"/>
                    </a:lnTo>
                    <a:lnTo>
                      <a:pt x="943" y="1405"/>
                    </a:lnTo>
                    <a:lnTo>
                      <a:pt x="933" y="1440"/>
                    </a:lnTo>
                    <a:lnTo>
                      <a:pt x="923" y="1473"/>
                    </a:lnTo>
                    <a:lnTo>
                      <a:pt x="912" y="1506"/>
                    </a:lnTo>
                    <a:lnTo>
                      <a:pt x="901" y="1538"/>
                    </a:lnTo>
                    <a:lnTo>
                      <a:pt x="889" y="1570"/>
                    </a:lnTo>
                    <a:lnTo>
                      <a:pt x="876" y="1601"/>
                    </a:lnTo>
                    <a:lnTo>
                      <a:pt x="863" y="1630"/>
                    </a:lnTo>
                    <a:lnTo>
                      <a:pt x="849" y="1657"/>
                    </a:lnTo>
                    <a:lnTo>
                      <a:pt x="836" y="1684"/>
                    </a:lnTo>
                    <a:lnTo>
                      <a:pt x="821" y="1710"/>
                    </a:lnTo>
                    <a:lnTo>
                      <a:pt x="806" y="1734"/>
                    </a:lnTo>
                    <a:lnTo>
                      <a:pt x="790" y="1754"/>
                    </a:lnTo>
                    <a:lnTo>
                      <a:pt x="774" y="1775"/>
                    </a:lnTo>
                    <a:lnTo>
                      <a:pt x="758" y="1793"/>
                    </a:lnTo>
                    <a:lnTo>
                      <a:pt x="737" y="1811"/>
                    </a:lnTo>
                    <a:lnTo>
                      <a:pt x="714" y="1827"/>
                    </a:lnTo>
                    <a:lnTo>
                      <a:pt x="691" y="1842"/>
                    </a:lnTo>
                    <a:lnTo>
                      <a:pt x="665" y="1855"/>
                    </a:lnTo>
                    <a:lnTo>
                      <a:pt x="639" y="1866"/>
                    </a:lnTo>
                    <a:lnTo>
                      <a:pt x="613" y="1877"/>
                    </a:lnTo>
                    <a:lnTo>
                      <a:pt x="585" y="1886"/>
                    </a:lnTo>
                    <a:lnTo>
                      <a:pt x="557" y="1895"/>
                    </a:lnTo>
                    <a:lnTo>
                      <a:pt x="528" y="1901"/>
                    </a:lnTo>
                    <a:lnTo>
                      <a:pt x="500" y="1906"/>
                    </a:lnTo>
                    <a:lnTo>
                      <a:pt x="470" y="1909"/>
                    </a:lnTo>
                    <a:lnTo>
                      <a:pt x="442" y="1911"/>
                    </a:lnTo>
                    <a:lnTo>
                      <a:pt x="413" y="1912"/>
                    </a:lnTo>
                    <a:lnTo>
                      <a:pt x="383" y="1912"/>
                    </a:lnTo>
                    <a:lnTo>
                      <a:pt x="355" y="1909"/>
                    </a:lnTo>
                    <a:lnTo>
                      <a:pt x="326" y="1907"/>
                    </a:lnTo>
                    <a:lnTo>
                      <a:pt x="299" y="1903"/>
                    </a:lnTo>
                    <a:lnTo>
                      <a:pt x="272" y="1897"/>
                    </a:lnTo>
                    <a:lnTo>
                      <a:pt x="245" y="1891"/>
                    </a:lnTo>
                    <a:lnTo>
                      <a:pt x="221" y="1884"/>
                    </a:lnTo>
                    <a:lnTo>
                      <a:pt x="196" y="1875"/>
                    </a:lnTo>
                    <a:lnTo>
                      <a:pt x="174" y="1865"/>
                    </a:lnTo>
                    <a:lnTo>
                      <a:pt x="152" y="1853"/>
                    </a:lnTo>
                    <a:lnTo>
                      <a:pt x="131" y="1842"/>
                    </a:lnTo>
                    <a:lnTo>
                      <a:pt x="112" y="1828"/>
                    </a:lnTo>
                    <a:lnTo>
                      <a:pt x="95" y="1814"/>
                    </a:lnTo>
                    <a:lnTo>
                      <a:pt x="80" y="1798"/>
                    </a:lnTo>
                    <a:lnTo>
                      <a:pt x="67" y="1782"/>
                    </a:lnTo>
                    <a:lnTo>
                      <a:pt x="56" y="1764"/>
                    </a:lnTo>
                    <a:lnTo>
                      <a:pt x="47" y="1746"/>
                    </a:lnTo>
                    <a:lnTo>
                      <a:pt x="40" y="1726"/>
                    </a:lnTo>
                    <a:lnTo>
                      <a:pt x="36" y="1705"/>
                    </a:lnTo>
                    <a:lnTo>
                      <a:pt x="25" y="1623"/>
                    </a:lnTo>
                    <a:lnTo>
                      <a:pt x="16" y="1542"/>
                    </a:lnTo>
                    <a:lnTo>
                      <a:pt x="10" y="1464"/>
                    </a:lnTo>
                    <a:lnTo>
                      <a:pt x="5" y="1392"/>
                    </a:lnTo>
                    <a:lnTo>
                      <a:pt x="3" y="1323"/>
                    </a:lnTo>
                    <a:lnTo>
                      <a:pt x="2" y="1261"/>
                    </a:lnTo>
                    <a:lnTo>
                      <a:pt x="0" y="1207"/>
                    </a:lnTo>
                    <a:lnTo>
                      <a:pt x="0" y="1160"/>
                    </a:lnTo>
                    <a:lnTo>
                      <a:pt x="0" y="1132"/>
                    </a:lnTo>
                    <a:lnTo>
                      <a:pt x="2" y="1057"/>
                    </a:lnTo>
                    <a:lnTo>
                      <a:pt x="2" y="949"/>
                    </a:lnTo>
                    <a:lnTo>
                      <a:pt x="3" y="822"/>
                    </a:lnTo>
                    <a:lnTo>
                      <a:pt x="4" y="688"/>
                    </a:lnTo>
                    <a:lnTo>
                      <a:pt x="5" y="561"/>
                    </a:lnTo>
                    <a:lnTo>
                      <a:pt x="5" y="457"/>
                    </a:lnTo>
                    <a:lnTo>
                      <a:pt x="5" y="385"/>
                    </a:lnTo>
                    <a:lnTo>
                      <a:pt x="8" y="373"/>
                    </a:lnTo>
                    <a:lnTo>
                      <a:pt x="13" y="360"/>
                    </a:lnTo>
                    <a:lnTo>
                      <a:pt x="21" y="346"/>
                    </a:lnTo>
                    <a:lnTo>
                      <a:pt x="34" y="331"/>
                    </a:lnTo>
                    <a:lnTo>
                      <a:pt x="47" y="317"/>
                    </a:lnTo>
                    <a:lnTo>
                      <a:pt x="64" y="302"/>
                    </a:lnTo>
                    <a:lnTo>
                      <a:pt x="84" y="286"/>
                    </a:lnTo>
                    <a:lnTo>
                      <a:pt x="105" y="270"/>
                    </a:lnTo>
                    <a:lnTo>
                      <a:pt x="128" y="254"/>
                    </a:lnTo>
                    <a:lnTo>
                      <a:pt x="154" y="238"/>
                    </a:lnTo>
                    <a:lnTo>
                      <a:pt x="180" y="222"/>
                    </a:lnTo>
                    <a:lnTo>
                      <a:pt x="207" y="206"/>
                    </a:lnTo>
                    <a:lnTo>
                      <a:pt x="265" y="175"/>
                    </a:lnTo>
                    <a:lnTo>
                      <a:pt x="325" y="144"/>
                    </a:lnTo>
                    <a:lnTo>
                      <a:pt x="384" y="115"/>
                    </a:lnTo>
                    <a:lnTo>
                      <a:pt x="442" y="88"/>
                    </a:lnTo>
                    <a:lnTo>
                      <a:pt x="496" y="63"/>
                    </a:lnTo>
                    <a:lnTo>
                      <a:pt x="544" y="42"/>
                    </a:lnTo>
                    <a:lnTo>
                      <a:pt x="617" y="12"/>
                    </a:lnTo>
                    <a:lnTo>
                      <a:pt x="644" y="0"/>
                    </a:lnTo>
                    <a:lnTo>
                      <a:pt x="650" y="21"/>
                    </a:lnTo>
                    <a:lnTo>
                      <a:pt x="669" y="83"/>
                    </a:lnTo>
                    <a:lnTo>
                      <a:pt x="696" y="174"/>
                    </a:lnTo>
                    <a:lnTo>
                      <a:pt x="732" y="290"/>
                    </a:lnTo>
                    <a:lnTo>
                      <a:pt x="753" y="354"/>
                    </a:lnTo>
                    <a:lnTo>
                      <a:pt x="777" y="421"/>
                    </a:lnTo>
                    <a:lnTo>
                      <a:pt x="801" y="490"/>
                    </a:lnTo>
                    <a:lnTo>
                      <a:pt x="827" y="560"/>
                    </a:lnTo>
                    <a:lnTo>
                      <a:pt x="856" y="630"/>
                    </a:lnTo>
                    <a:lnTo>
                      <a:pt x="884" y="700"/>
                    </a:lnTo>
                    <a:lnTo>
                      <a:pt x="913" y="768"/>
                    </a:lnTo>
                    <a:lnTo>
                      <a:pt x="943" y="834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5862600" y="3506760"/>
                <a:ext cx="293760" cy="559080"/>
              </a:xfrm>
              <a:custGeom>
                <a:avLst/>
                <a:gdLst/>
                <a:ahLst/>
                <a:rect l="l" t="t" r="r" b="b"/>
                <a:pathLst>
                  <a:path w="927" h="1760">
                    <a:moveTo>
                      <a:pt x="884" y="761"/>
                    </a:moveTo>
                    <a:lnTo>
                      <a:pt x="892" y="782"/>
                    </a:lnTo>
                    <a:lnTo>
                      <a:pt x="900" y="804"/>
                    </a:lnTo>
                    <a:lnTo>
                      <a:pt x="907" y="829"/>
                    </a:lnTo>
                    <a:lnTo>
                      <a:pt x="913" y="853"/>
                    </a:lnTo>
                    <a:lnTo>
                      <a:pt x="918" y="879"/>
                    </a:lnTo>
                    <a:lnTo>
                      <a:pt x="922" y="908"/>
                    </a:lnTo>
                    <a:lnTo>
                      <a:pt x="924" y="935"/>
                    </a:lnTo>
                    <a:lnTo>
                      <a:pt x="927" y="964"/>
                    </a:lnTo>
                    <a:lnTo>
                      <a:pt x="927" y="992"/>
                    </a:lnTo>
                    <a:lnTo>
                      <a:pt x="927" y="1023"/>
                    </a:lnTo>
                    <a:lnTo>
                      <a:pt x="927" y="1053"/>
                    </a:lnTo>
                    <a:lnTo>
                      <a:pt x="924" y="1084"/>
                    </a:lnTo>
                    <a:lnTo>
                      <a:pt x="922" y="1114"/>
                    </a:lnTo>
                    <a:lnTo>
                      <a:pt x="918" y="1145"/>
                    </a:lnTo>
                    <a:lnTo>
                      <a:pt x="915" y="1176"/>
                    </a:lnTo>
                    <a:lnTo>
                      <a:pt x="910" y="1207"/>
                    </a:lnTo>
                    <a:lnTo>
                      <a:pt x="903" y="1237"/>
                    </a:lnTo>
                    <a:lnTo>
                      <a:pt x="896" y="1268"/>
                    </a:lnTo>
                    <a:lnTo>
                      <a:pt x="889" y="1298"/>
                    </a:lnTo>
                    <a:lnTo>
                      <a:pt x="881" y="1327"/>
                    </a:lnTo>
                    <a:lnTo>
                      <a:pt x="873" y="1355"/>
                    </a:lnTo>
                    <a:lnTo>
                      <a:pt x="863" y="1384"/>
                    </a:lnTo>
                    <a:lnTo>
                      <a:pt x="853" y="1411"/>
                    </a:lnTo>
                    <a:lnTo>
                      <a:pt x="843" y="1437"/>
                    </a:lnTo>
                    <a:lnTo>
                      <a:pt x="832" y="1462"/>
                    </a:lnTo>
                    <a:lnTo>
                      <a:pt x="820" y="1486"/>
                    </a:lnTo>
                    <a:lnTo>
                      <a:pt x="808" y="1509"/>
                    </a:lnTo>
                    <a:lnTo>
                      <a:pt x="795" y="1530"/>
                    </a:lnTo>
                    <a:lnTo>
                      <a:pt x="782" y="1550"/>
                    </a:lnTo>
                    <a:lnTo>
                      <a:pt x="768" y="1568"/>
                    </a:lnTo>
                    <a:lnTo>
                      <a:pt x="753" y="1585"/>
                    </a:lnTo>
                    <a:lnTo>
                      <a:pt x="740" y="1600"/>
                    </a:lnTo>
                    <a:lnTo>
                      <a:pt x="719" y="1616"/>
                    </a:lnTo>
                    <a:lnTo>
                      <a:pt x="698" y="1631"/>
                    </a:lnTo>
                    <a:lnTo>
                      <a:pt x="675" y="1646"/>
                    </a:lnTo>
                    <a:lnTo>
                      <a:pt x="651" y="1659"/>
                    </a:lnTo>
                    <a:lnTo>
                      <a:pt x="627" y="1673"/>
                    </a:lnTo>
                    <a:lnTo>
                      <a:pt x="601" y="1685"/>
                    </a:lnTo>
                    <a:lnTo>
                      <a:pt x="575" y="1696"/>
                    </a:lnTo>
                    <a:lnTo>
                      <a:pt x="548" y="1707"/>
                    </a:lnTo>
                    <a:lnTo>
                      <a:pt x="521" y="1717"/>
                    </a:lnTo>
                    <a:lnTo>
                      <a:pt x="493" y="1726"/>
                    </a:lnTo>
                    <a:lnTo>
                      <a:pt x="466" y="1733"/>
                    </a:lnTo>
                    <a:lnTo>
                      <a:pt x="437" y="1740"/>
                    </a:lnTo>
                    <a:lnTo>
                      <a:pt x="409" y="1746"/>
                    </a:lnTo>
                    <a:lnTo>
                      <a:pt x="382" y="1751"/>
                    </a:lnTo>
                    <a:lnTo>
                      <a:pt x="354" y="1755"/>
                    </a:lnTo>
                    <a:lnTo>
                      <a:pt x="326" y="1758"/>
                    </a:lnTo>
                    <a:lnTo>
                      <a:pt x="301" y="1760"/>
                    </a:lnTo>
                    <a:lnTo>
                      <a:pt x="275" y="1760"/>
                    </a:lnTo>
                    <a:lnTo>
                      <a:pt x="249" y="1760"/>
                    </a:lnTo>
                    <a:lnTo>
                      <a:pt x="224" y="1759"/>
                    </a:lnTo>
                    <a:lnTo>
                      <a:pt x="201" y="1756"/>
                    </a:lnTo>
                    <a:lnTo>
                      <a:pt x="179" y="1751"/>
                    </a:lnTo>
                    <a:lnTo>
                      <a:pt x="158" y="1746"/>
                    </a:lnTo>
                    <a:lnTo>
                      <a:pt x="138" y="1740"/>
                    </a:lnTo>
                    <a:lnTo>
                      <a:pt x="120" y="1733"/>
                    </a:lnTo>
                    <a:lnTo>
                      <a:pt x="103" y="1723"/>
                    </a:lnTo>
                    <a:lnTo>
                      <a:pt x="88" y="1713"/>
                    </a:lnTo>
                    <a:lnTo>
                      <a:pt x="74" y="1701"/>
                    </a:lnTo>
                    <a:lnTo>
                      <a:pt x="63" y="1689"/>
                    </a:lnTo>
                    <a:lnTo>
                      <a:pt x="53" y="1674"/>
                    </a:lnTo>
                    <a:lnTo>
                      <a:pt x="46" y="1658"/>
                    </a:lnTo>
                    <a:lnTo>
                      <a:pt x="41" y="1641"/>
                    </a:lnTo>
                    <a:lnTo>
                      <a:pt x="35" y="1604"/>
                    </a:lnTo>
                    <a:lnTo>
                      <a:pt x="29" y="1567"/>
                    </a:lnTo>
                    <a:lnTo>
                      <a:pt x="24" y="1528"/>
                    </a:lnTo>
                    <a:lnTo>
                      <a:pt x="20" y="1489"/>
                    </a:lnTo>
                    <a:lnTo>
                      <a:pt x="13" y="1412"/>
                    </a:lnTo>
                    <a:lnTo>
                      <a:pt x="8" y="1336"/>
                    </a:lnTo>
                    <a:lnTo>
                      <a:pt x="4" y="1264"/>
                    </a:lnTo>
                    <a:lnTo>
                      <a:pt x="2" y="1198"/>
                    </a:lnTo>
                    <a:lnTo>
                      <a:pt x="0" y="1140"/>
                    </a:lnTo>
                    <a:lnTo>
                      <a:pt x="0" y="1092"/>
                    </a:lnTo>
                    <a:lnTo>
                      <a:pt x="0" y="1066"/>
                    </a:lnTo>
                    <a:lnTo>
                      <a:pt x="2" y="999"/>
                    </a:lnTo>
                    <a:lnTo>
                      <a:pt x="2" y="900"/>
                    </a:lnTo>
                    <a:lnTo>
                      <a:pt x="3" y="783"/>
                    </a:lnTo>
                    <a:lnTo>
                      <a:pt x="4" y="660"/>
                    </a:lnTo>
                    <a:lnTo>
                      <a:pt x="5" y="545"/>
                    </a:lnTo>
                    <a:lnTo>
                      <a:pt x="5" y="446"/>
                    </a:lnTo>
                    <a:lnTo>
                      <a:pt x="5" y="377"/>
                    </a:lnTo>
                    <a:lnTo>
                      <a:pt x="8" y="365"/>
                    </a:lnTo>
                    <a:lnTo>
                      <a:pt x="13" y="352"/>
                    </a:lnTo>
                    <a:lnTo>
                      <a:pt x="21" y="338"/>
                    </a:lnTo>
                    <a:lnTo>
                      <a:pt x="32" y="325"/>
                    </a:lnTo>
                    <a:lnTo>
                      <a:pt x="46" y="310"/>
                    </a:lnTo>
                    <a:lnTo>
                      <a:pt x="63" y="294"/>
                    </a:lnTo>
                    <a:lnTo>
                      <a:pt x="82" y="279"/>
                    </a:lnTo>
                    <a:lnTo>
                      <a:pt x="103" y="263"/>
                    </a:lnTo>
                    <a:lnTo>
                      <a:pt x="125" y="248"/>
                    </a:lnTo>
                    <a:lnTo>
                      <a:pt x="149" y="232"/>
                    </a:lnTo>
                    <a:lnTo>
                      <a:pt x="175" y="216"/>
                    </a:lnTo>
                    <a:lnTo>
                      <a:pt x="202" y="200"/>
                    </a:lnTo>
                    <a:lnTo>
                      <a:pt x="258" y="170"/>
                    </a:lnTo>
                    <a:lnTo>
                      <a:pt x="315" y="140"/>
                    </a:lnTo>
                    <a:lnTo>
                      <a:pt x="373" y="112"/>
                    </a:lnTo>
                    <a:lnTo>
                      <a:pt x="429" y="85"/>
                    </a:lnTo>
                    <a:lnTo>
                      <a:pt x="482" y="61"/>
                    </a:lnTo>
                    <a:lnTo>
                      <a:pt x="528" y="40"/>
                    </a:lnTo>
                    <a:lnTo>
                      <a:pt x="598" y="11"/>
                    </a:lnTo>
                    <a:lnTo>
                      <a:pt x="625" y="0"/>
                    </a:lnTo>
                    <a:lnTo>
                      <a:pt x="629" y="18"/>
                    </a:lnTo>
                    <a:lnTo>
                      <a:pt x="643" y="71"/>
                    </a:lnTo>
                    <a:lnTo>
                      <a:pt x="664" y="151"/>
                    </a:lnTo>
                    <a:lnTo>
                      <a:pt x="692" y="253"/>
                    </a:lnTo>
                    <a:lnTo>
                      <a:pt x="709" y="310"/>
                    </a:lnTo>
                    <a:lnTo>
                      <a:pt x="729" y="371"/>
                    </a:lnTo>
                    <a:lnTo>
                      <a:pt x="750" y="434"/>
                    </a:lnTo>
                    <a:lnTo>
                      <a:pt x="773" y="498"/>
                    </a:lnTo>
                    <a:lnTo>
                      <a:pt x="798" y="564"/>
                    </a:lnTo>
                    <a:lnTo>
                      <a:pt x="825" y="631"/>
                    </a:lnTo>
                    <a:lnTo>
                      <a:pt x="853" y="696"/>
                    </a:lnTo>
                    <a:lnTo>
                      <a:pt x="884" y="761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5862600" y="3510000"/>
                <a:ext cx="276120" cy="520920"/>
              </a:xfrm>
              <a:custGeom>
                <a:avLst/>
                <a:gdLst/>
                <a:ahLst/>
                <a:rect l="l" t="t" r="r" b="b"/>
                <a:pathLst>
                  <a:path w="866" h="1638">
                    <a:moveTo>
                      <a:pt x="818" y="681"/>
                    </a:moveTo>
                    <a:lnTo>
                      <a:pt x="827" y="701"/>
                    </a:lnTo>
                    <a:lnTo>
                      <a:pt x="834" y="722"/>
                    </a:lnTo>
                    <a:lnTo>
                      <a:pt x="841" y="744"/>
                    </a:lnTo>
                    <a:lnTo>
                      <a:pt x="848" y="767"/>
                    </a:lnTo>
                    <a:lnTo>
                      <a:pt x="853" y="791"/>
                    </a:lnTo>
                    <a:lnTo>
                      <a:pt x="857" y="814"/>
                    </a:lnTo>
                    <a:lnTo>
                      <a:pt x="860" y="839"/>
                    </a:lnTo>
                    <a:lnTo>
                      <a:pt x="864" y="865"/>
                    </a:lnTo>
                    <a:lnTo>
                      <a:pt x="865" y="890"/>
                    </a:lnTo>
                    <a:lnTo>
                      <a:pt x="866" y="916"/>
                    </a:lnTo>
                    <a:lnTo>
                      <a:pt x="866" y="942"/>
                    </a:lnTo>
                    <a:lnTo>
                      <a:pt x="866" y="969"/>
                    </a:lnTo>
                    <a:lnTo>
                      <a:pt x="865" y="995"/>
                    </a:lnTo>
                    <a:lnTo>
                      <a:pt x="864" y="1022"/>
                    </a:lnTo>
                    <a:lnTo>
                      <a:pt x="861" y="1048"/>
                    </a:lnTo>
                    <a:lnTo>
                      <a:pt x="857" y="1075"/>
                    </a:lnTo>
                    <a:lnTo>
                      <a:pt x="854" y="1101"/>
                    </a:lnTo>
                    <a:lnTo>
                      <a:pt x="849" y="1127"/>
                    </a:lnTo>
                    <a:lnTo>
                      <a:pt x="843" y="1151"/>
                    </a:lnTo>
                    <a:lnTo>
                      <a:pt x="837" y="1176"/>
                    </a:lnTo>
                    <a:lnTo>
                      <a:pt x="830" y="1200"/>
                    </a:lnTo>
                    <a:lnTo>
                      <a:pt x="823" y="1224"/>
                    </a:lnTo>
                    <a:lnTo>
                      <a:pt x="814" y="1247"/>
                    </a:lnTo>
                    <a:lnTo>
                      <a:pt x="806" y="1269"/>
                    </a:lnTo>
                    <a:lnTo>
                      <a:pt x="797" y="1290"/>
                    </a:lnTo>
                    <a:lnTo>
                      <a:pt x="787" y="1310"/>
                    </a:lnTo>
                    <a:lnTo>
                      <a:pt x="777" y="1328"/>
                    </a:lnTo>
                    <a:lnTo>
                      <a:pt x="766" y="1347"/>
                    </a:lnTo>
                    <a:lnTo>
                      <a:pt x="755" y="1363"/>
                    </a:lnTo>
                    <a:lnTo>
                      <a:pt x="743" y="1379"/>
                    </a:lnTo>
                    <a:lnTo>
                      <a:pt x="731" y="1392"/>
                    </a:lnTo>
                    <a:lnTo>
                      <a:pt x="717" y="1405"/>
                    </a:lnTo>
                    <a:lnTo>
                      <a:pt x="677" y="1433"/>
                    </a:lnTo>
                    <a:lnTo>
                      <a:pt x="632" y="1461"/>
                    </a:lnTo>
                    <a:lnTo>
                      <a:pt x="584" y="1489"/>
                    </a:lnTo>
                    <a:lnTo>
                      <a:pt x="534" y="1517"/>
                    </a:lnTo>
                    <a:lnTo>
                      <a:pt x="481" y="1542"/>
                    </a:lnTo>
                    <a:lnTo>
                      <a:pt x="428" y="1567"/>
                    </a:lnTo>
                    <a:lnTo>
                      <a:pt x="401" y="1578"/>
                    </a:lnTo>
                    <a:lnTo>
                      <a:pt x="375" y="1588"/>
                    </a:lnTo>
                    <a:lnTo>
                      <a:pt x="348" y="1598"/>
                    </a:lnTo>
                    <a:lnTo>
                      <a:pt x="322" y="1606"/>
                    </a:lnTo>
                    <a:lnTo>
                      <a:pt x="298" y="1615"/>
                    </a:lnTo>
                    <a:lnTo>
                      <a:pt x="272" y="1621"/>
                    </a:lnTo>
                    <a:lnTo>
                      <a:pt x="248" y="1627"/>
                    </a:lnTo>
                    <a:lnTo>
                      <a:pt x="225" y="1632"/>
                    </a:lnTo>
                    <a:lnTo>
                      <a:pt x="202" y="1635"/>
                    </a:lnTo>
                    <a:lnTo>
                      <a:pt x="181" y="1637"/>
                    </a:lnTo>
                    <a:lnTo>
                      <a:pt x="160" y="1638"/>
                    </a:lnTo>
                    <a:lnTo>
                      <a:pt x="141" y="1637"/>
                    </a:lnTo>
                    <a:lnTo>
                      <a:pt x="123" y="1635"/>
                    </a:lnTo>
                    <a:lnTo>
                      <a:pt x="107" y="1631"/>
                    </a:lnTo>
                    <a:lnTo>
                      <a:pt x="92" y="1626"/>
                    </a:lnTo>
                    <a:lnTo>
                      <a:pt x="79" y="1619"/>
                    </a:lnTo>
                    <a:lnTo>
                      <a:pt x="68" y="1610"/>
                    </a:lnTo>
                    <a:lnTo>
                      <a:pt x="59" y="1600"/>
                    </a:lnTo>
                    <a:lnTo>
                      <a:pt x="52" y="1587"/>
                    </a:lnTo>
                    <a:lnTo>
                      <a:pt x="47" y="1573"/>
                    </a:lnTo>
                    <a:lnTo>
                      <a:pt x="39" y="1541"/>
                    </a:lnTo>
                    <a:lnTo>
                      <a:pt x="32" y="1508"/>
                    </a:lnTo>
                    <a:lnTo>
                      <a:pt x="27" y="1471"/>
                    </a:lnTo>
                    <a:lnTo>
                      <a:pt x="22" y="1434"/>
                    </a:lnTo>
                    <a:lnTo>
                      <a:pt x="13" y="1357"/>
                    </a:lnTo>
                    <a:lnTo>
                      <a:pt x="7" y="1278"/>
                    </a:lnTo>
                    <a:lnTo>
                      <a:pt x="4" y="1202"/>
                    </a:lnTo>
                    <a:lnTo>
                      <a:pt x="1" y="1130"/>
                    </a:lnTo>
                    <a:lnTo>
                      <a:pt x="0" y="1070"/>
                    </a:lnTo>
                    <a:lnTo>
                      <a:pt x="0" y="1021"/>
                    </a:lnTo>
                    <a:lnTo>
                      <a:pt x="0" y="999"/>
                    </a:lnTo>
                    <a:lnTo>
                      <a:pt x="0" y="937"/>
                    </a:lnTo>
                    <a:lnTo>
                      <a:pt x="1" y="849"/>
                    </a:lnTo>
                    <a:lnTo>
                      <a:pt x="1" y="743"/>
                    </a:lnTo>
                    <a:lnTo>
                      <a:pt x="2" y="631"/>
                    </a:lnTo>
                    <a:lnTo>
                      <a:pt x="2" y="524"/>
                    </a:lnTo>
                    <a:lnTo>
                      <a:pt x="2" y="432"/>
                    </a:lnTo>
                    <a:lnTo>
                      <a:pt x="2" y="366"/>
                    </a:lnTo>
                    <a:lnTo>
                      <a:pt x="5" y="354"/>
                    </a:lnTo>
                    <a:lnTo>
                      <a:pt x="10" y="341"/>
                    </a:lnTo>
                    <a:lnTo>
                      <a:pt x="17" y="327"/>
                    </a:lnTo>
                    <a:lnTo>
                      <a:pt x="28" y="314"/>
                    </a:lnTo>
                    <a:lnTo>
                      <a:pt x="42" y="299"/>
                    </a:lnTo>
                    <a:lnTo>
                      <a:pt x="58" y="284"/>
                    </a:lnTo>
                    <a:lnTo>
                      <a:pt x="76" y="269"/>
                    </a:lnTo>
                    <a:lnTo>
                      <a:pt x="96" y="255"/>
                    </a:lnTo>
                    <a:lnTo>
                      <a:pt x="118" y="239"/>
                    </a:lnTo>
                    <a:lnTo>
                      <a:pt x="141" y="224"/>
                    </a:lnTo>
                    <a:lnTo>
                      <a:pt x="166" y="209"/>
                    </a:lnTo>
                    <a:lnTo>
                      <a:pt x="192" y="193"/>
                    </a:lnTo>
                    <a:lnTo>
                      <a:pt x="246" y="164"/>
                    </a:lnTo>
                    <a:lnTo>
                      <a:pt x="301" y="134"/>
                    </a:lnTo>
                    <a:lnTo>
                      <a:pt x="358" y="107"/>
                    </a:lnTo>
                    <a:lnTo>
                      <a:pt x="411" y="81"/>
                    </a:lnTo>
                    <a:lnTo>
                      <a:pt x="461" y="59"/>
                    </a:lnTo>
                    <a:lnTo>
                      <a:pt x="507" y="39"/>
                    </a:lnTo>
                    <a:lnTo>
                      <a:pt x="574" y="10"/>
                    </a:lnTo>
                    <a:lnTo>
                      <a:pt x="600" y="0"/>
                    </a:lnTo>
                    <a:lnTo>
                      <a:pt x="603" y="16"/>
                    </a:lnTo>
                    <a:lnTo>
                      <a:pt x="611" y="59"/>
                    </a:lnTo>
                    <a:lnTo>
                      <a:pt x="626" y="127"/>
                    </a:lnTo>
                    <a:lnTo>
                      <a:pt x="647" y="214"/>
                    </a:lnTo>
                    <a:lnTo>
                      <a:pt x="661" y="264"/>
                    </a:lnTo>
                    <a:lnTo>
                      <a:pt x="677" y="319"/>
                    </a:lnTo>
                    <a:lnTo>
                      <a:pt x="694" y="374"/>
                    </a:lnTo>
                    <a:lnTo>
                      <a:pt x="713" y="433"/>
                    </a:lnTo>
                    <a:lnTo>
                      <a:pt x="736" y="493"/>
                    </a:lnTo>
                    <a:lnTo>
                      <a:pt x="761" y="556"/>
                    </a:lnTo>
                    <a:lnTo>
                      <a:pt x="789" y="619"/>
                    </a:lnTo>
                    <a:lnTo>
                      <a:pt x="818" y="681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5862600" y="3513240"/>
                <a:ext cx="258840" cy="488880"/>
              </a:xfrm>
              <a:custGeom>
                <a:avLst/>
                <a:gdLst/>
                <a:ahLst/>
                <a:rect l="l" t="t" r="r" b="b"/>
                <a:pathLst>
                  <a:path w="811" h="1541">
                    <a:moveTo>
                      <a:pt x="755" y="607"/>
                    </a:moveTo>
                    <a:lnTo>
                      <a:pt x="764" y="626"/>
                    </a:lnTo>
                    <a:lnTo>
                      <a:pt x="771" y="644"/>
                    </a:lnTo>
                    <a:lnTo>
                      <a:pt x="779" y="664"/>
                    </a:lnTo>
                    <a:lnTo>
                      <a:pt x="785" y="685"/>
                    </a:lnTo>
                    <a:lnTo>
                      <a:pt x="790" y="704"/>
                    </a:lnTo>
                    <a:lnTo>
                      <a:pt x="795" y="725"/>
                    </a:lnTo>
                    <a:lnTo>
                      <a:pt x="800" y="747"/>
                    </a:lnTo>
                    <a:lnTo>
                      <a:pt x="803" y="768"/>
                    </a:lnTo>
                    <a:lnTo>
                      <a:pt x="806" y="790"/>
                    </a:lnTo>
                    <a:lnTo>
                      <a:pt x="808" y="813"/>
                    </a:lnTo>
                    <a:lnTo>
                      <a:pt x="809" y="835"/>
                    </a:lnTo>
                    <a:lnTo>
                      <a:pt x="811" y="857"/>
                    </a:lnTo>
                    <a:lnTo>
                      <a:pt x="811" y="879"/>
                    </a:lnTo>
                    <a:lnTo>
                      <a:pt x="811" y="901"/>
                    </a:lnTo>
                    <a:lnTo>
                      <a:pt x="809" y="923"/>
                    </a:lnTo>
                    <a:lnTo>
                      <a:pt x="808" y="945"/>
                    </a:lnTo>
                    <a:lnTo>
                      <a:pt x="806" y="966"/>
                    </a:lnTo>
                    <a:lnTo>
                      <a:pt x="803" y="987"/>
                    </a:lnTo>
                    <a:lnTo>
                      <a:pt x="800" y="1008"/>
                    </a:lnTo>
                    <a:lnTo>
                      <a:pt x="796" y="1029"/>
                    </a:lnTo>
                    <a:lnTo>
                      <a:pt x="791" y="1049"/>
                    </a:lnTo>
                    <a:lnTo>
                      <a:pt x="786" y="1067"/>
                    </a:lnTo>
                    <a:lnTo>
                      <a:pt x="780" y="1087"/>
                    </a:lnTo>
                    <a:lnTo>
                      <a:pt x="773" y="1104"/>
                    </a:lnTo>
                    <a:lnTo>
                      <a:pt x="765" y="1121"/>
                    </a:lnTo>
                    <a:lnTo>
                      <a:pt x="758" y="1137"/>
                    </a:lnTo>
                    <a:lnTo>
                      <a:pt x="749" y="1153"/>
                    </a:lnTo>
                    <a:lnTo>
                      <a:pt x="741" y="1167"/>
                    </a:lnTo>
                    <a:lnTo>
                      <a:pt x="731" y="1180"/>
                    </a:lnTo>
                    <a:lnTo>
                      <a:pt x="721" y="1193"/>
                    </a:lnTo>
                    <a:lnTo>
                      <a:pt x="710" y="1204"/>
                    </a:lnTo>
                    <a:lnTo>
                      <a:pt x="699" y="1214"/>
                    </a:lnTo>
                    <a:lnTo>
                      <a:pt x="618" y="1266"/>
                    </a:lnTo>
                    <a:lnTo>
                      <a:pt x="524" y="1330"/>
                    </a:lnTo>
                    <a:lnTo>
                      <a:pt x="475" y="1362"/>
                    </a:lnTo>
                    <a:lnTo>
                      <a:pt x="424" y="1396"/>
                    </a:lnTo>
                    <a:lnTo>
                      <a:pt x="373" y="1428"/>
                    </a:lnTo>
                    <a:lnTo>
                      <a:pt x="323" y="1457"/>
                    </a:lnTo>
                    <a:lnTo>
                      <a:pt x="276" y="1483"/>
                    </a:lnTo>
                    <a:lnTo>
                      <a:pt x="230" y="1506"/>
                    </a:lnTo>
                    <a:lnTo>
                      <a:pt x="208" y="1515"/>
                    </a:lnTo>
                    <a:lnTo>
                      <a:pt x="187" y="1524"/>
                    </a:lnTo>
                    <a:lnTo>
                      <a:pt x="167" y="1530"/>
                    </a:lnTo>
                    <a:lnTo>
                      <a:pt x="149" y="1536"/>
                    </a:lnTo>
                    <a:lnTo>
                      <a:pt x="132" y="1538"/>
                    </a:lnTo>
                    <a:lnTo>
                      <a:pt x="116" y="1541"/>
                    </a:lnTo>
                    <a:lnTo>
                      <a:pt x="101" y="1541"/>
                    </a:lnTo>
                    <a:lnTo>
                      <a:pt x="89" y="1538"/>
                    </a:lnTo>
                    <a:lnTo>
                      <a:pt x="77" y="1533"/>
                    </a:lnTo>
                    <a:lnTo>
                      <a:pt x="68" y="1527"/>
                    </a:lnTo>
                    <a:lnTo>
                      <a:pt x="60" y="1519"/>
                    </a:lnTo>
                    <a:lnTo>
                      <a:pt x="54" y="1506"/>
                    </a:lnTo>
                    <a:lnTo>
                      <a:pt x="47" y="1480"/>
                    </a:lnTo>
                    <a:lnTo>
                      <a:pt x="39" y="1451"/>
                    </a:lnTo>
                    <a:lnTo>
                      <a:pt x="33" y="1418"/>
                    </a:lnTo>
                    <a:lnTo>
                      <a:pt x="27" y="1381"/>
                    </a:lnTo>
                    <a:lnTo>
                      <a:pt x="22" y="1343"/>
                    </a:lnTo>
                    <a:lnTo>
                      <a:pt x="18" y="1303"/>
                    </a:lnTo>
                    <a:lnTo>
                      <a:pt x="15" y="1263"/>
                    </a:lnTo>
                    <a:lnTo>
                      <a:pt x="11" y="1221"/>
                    </a:lnTo>
                    <a:lnTo>
                      <a:pt x="6" y="1140"/>
                    </a:lnTo>
                    <a:lnTo>
                      <a:pt x="2" y="1065"/>
                    </a:lnTo>
                    <a:lnTo>
                      <a:pt x="1" y="1000"/>
                    </a:lnTo>
                    <a:lnTo>
                      <a:pt x="0" y="950"/>
                    </a:lnTo>
                    <a:lnTo>
                      <a:pt x="0" y="929"/>
                    </a:lnTo>
                    <a:lnTo>
                      <a:pt x="0" y="875"/>
                    </a:lnTo>
                    <a:lnTo>
                      <a:pt x="1" y="797"/>
                    </a:lnTo>
                    <a:lnTo>
                      <a:pt x="1" y="703"/>
                    </a:lnTo>
                    <a:lnTo>
                      <a:pt x="2" y="602"/>
                    </a:lnTo>
                    <a:lnTo>
                      <a:pt x="2" y="505"/>
                    </a:lnTo>
                    <a:lnTo>
                      <a:pt x="2" y="420"/>
                    </a:lnTo>
                    <a:lnTo>
                      <a:pt x="2" y="357"/>
                    </a:lnTo>
                    <a:lnTo>
                      <a:pt x="5" y="345"/>
                    </a:lnTo>
                    <a:lnTo>
                      <a:pt x="10" y="332"/>
                    </a:lnTo>
                    <a:lnTo>
                      <a:pt x="17" y="318"/>
                    </a:lnTo>
                    <a:lnTo>
                      <a:pt x="27" y="305"/>
                    </a:lnTo>
                    <a:lnTo>
                      <a:pt x="41" y="291"/>
                    </a:lnTo>
                    <a:lnTo>
                      <a:pt x="57" y="276"/>
                    </a:lnTo>
                    <a:lnTo>
                      <a:pt x="74" y="262"/>
                    </a:lnTo>
                    <a:lnTo>
                      <a:pt x="93" y="247"/>
                    </a:lnTo>
                    <a:lnTo>
                      <a:pt x="114" y="232"/>
                    </a:lnTo>
                    <a:lnTo>
                      <a:pt x="136" y="217"/>
                    </a:lnTo>
                    <a:lnTo>
                      <a:pt x="161" y="201"/>
                    </a:lnTo>
                    <a:lnTo>
                      <a:pt x="186" y="187"/>
                    </a:lnTo>
                    <a:lnTo>
                      <a:pt x="239" y="158"/>
                    </a:lnTo>
                    <a:lnTo>
                      <a:pt x="292" y="130"/>
                    </a:lnTo>
                    <a:lnTo>
                      <a:pt x="346" y="103"/>
                    </a:lnTo>
                    <a:lnTo>
                      <a:pt x="399" y="78"/>
                    </a:lnTo>
                    <a:lnTo>
                      <a:pt x="448" y="56"/>
                    </a:lnTo>
                    <a:lnTo>
                      <a:pt x="491" y="36"/>
                    </a:lnTo>
                    <a:lnTo>
                      <a:pt x="556" y="9"/>
                    </a:lnTo>
                    <a:lnTo>
                      <a:pt x="582" y="0"/>
                    </a:lnTo>
                    <a:lnTo>
                      <a:pt x="582" y="12"/>
                    </a:lnTo>
                    <a:lnTo>
                      <a:pt x="586" y="46"/>
                    </a:lnTo>
                    <a:lnTo>
                      <a:pt x="588" y="72"/>
                    </a:lnTo>
                    <a:lnTo>
                      <a:pt x="593" y="103"/>
                    </a:lnTo>
                    <a:lnTo>
                      <a:pt x="599" y="137"/>
                    </a:lnTo>
                    <a:lnTo>
                      <a:pt x="606" y="177"/>
                    </a:lnTo>
                    <a:lnTo>
                      <a:pt x="616" y="220"/>
                    </a:lnTo>
                    <a:lnTo>
                      <a:pt x="627" y="266"/>
                    </a:lnTo>
                    <a:lnTo>
                      <a:pt x="642" y="317"/>
                    </a:lnTo>
                    <a:lnTo>
                      <a:pt x="658" y="370"/>
                    </a:lnTo>
                    <a:lnTo>
                      <a:pt x="678" y="426"/>
                    </a:lnTo>
                    <a:lnTo>
                      <a:pt x="700" y="484"/>
                    </a:lnTo>
                    <a:lnTo>
                      <a:pt x="726" y="546"/>
                    </a:lnTo>
                    <a:lnTo>
                      <a:pt x="755" y="607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5864400" y="3514680"/>
                <a:ext cx="239400" cy="465120"/>
              </a:xfrm>
              <a:custGeom>
                <a:avLst/>
                <a:gdLst/>
                <a:ahLst/>
                <a:rect l="l" t="t" r="r" b="b"/>
                <a:pathLst>
                  <a:path w="758" h="1461">
                    <a:moveTo>
                      <a:pt x="693" y="535"/>
                    </a:moveTo>
                    <a:lnTo>
                      <a:pt x="709" y="568"/>
                    </a:lnTo>
                    <a:lnTo>
                      <a:pt x="721" y="603"/>
                    </a:lnTo>
                    <a:lnTo>
                      <a:pt x="732" y="638"/>
                    </a:lnTo>
                    <a:lnTo>
                      <a:pt x="742" y="674"/>
                    </a:lnTo>
                    <a:lnTo>
                      <a:pt x="748" y="711"/>
                    </a:lnTo>
                    <a:lnTo>
                      <a:pt x="755" y="747"/>
                    </a:lnTo>
                    <a:lnTo>
                      <a:pt x="757" y="782"/>
                    </a:lnTo>
                    <a:lnTo>
                      <a:pt x="758" y="817"/>
                    </a:lnTo>
                    <a:lnTo>
                      <a:pt x="756" y="851"/>
                    </a:lnTo>
                    <a:lnTo>
                      <a:pt x="752" y="883"/>
                    </a:lnTo>
                    <a:lnTo>
                      <a:pt x="750" y="898"/>
                    </a:lnTo>
                    <a:lnTo>
                      <a:pt x="746" y="913"/>
                    </a:lnTo>
                    <a:lnTo>
                      <a:pt x="742" y="927"/>
                    </a:lnTo>
                    <a:lnTo>
                      <a:pt x="737" y="941"/>
                    </a:lnTo>
                    <a:lnTo>
                      <a:pt x="732" y="954"/>
                    </a:lnTo>
                    <a:lnTo>
                      <a:pt x="726" y="967"/>
                    </a:lnTo>
                    <a:lnTo>
                      <a:pt x="720" y="978"/>
                    </a:lnTo>
                    <a:lnTo>
                      <a:pt x="713" y="988"/>
                    </a:lnTo>
                    <a:lnTo>
                      <a:pt x="705" y="997"/>
                    </a:lnTo>
                    <a:lnTo>
                      <a:pt x="697" y="1007"/>
                    </a:lnTo>
                    <a:lnTo>
                      <a:pt x="687" y="1015"/>
                    </a:lnTo>
                    <a:lnTo>
                      <a:pt x="677" y="1022"/>
                    </a:lnTo>
                    <a:lnTo>
                      <a:pt x="660" y="1032"/>
                    </a:lnTo>
                    <a:lnTo>
                      <a:pt x="641" y="1043"/>
                    </a:lnTo>
                    <a:lnTo>
                      <a:pt x="622" y="1057"/>
                    </a:lnTo>
                    <a:lnTo>
                      <a:pt x="602" y="1071"/>
                    </a:lnTo>
                    <a:lnTo>
                      <a:pt x="559" y="1104"/>
                    </a:lnTo>
                    <a:lnTo>
                      <a:pt x="513" y="1143"/>
                    </a:lnTo>
                    <a:lnTo>
                      <a:pt x="417" y="1225"/>
                    </a:lnTo>
                    <a:lnTo>
                      <a:pt x="321" y="1307"/>
                    </a:lnTo>
                    <a:lnTo>
                      <a:pt x="276" y="1347"/>
                    </a:lnTo>
                    <a:lnTo>
                      <a:pt x="232" y="1381"/>
                    </a:lnTo>
                    <a:lnTo>
                      <a:pt x="212" y="1397"/>
                    </a:lnTo>
                    <a:lnTo>
                      <a:pt x="191" y="1412"/>
                    </a:lnTo>
                    <a:lnTo>
                      <a:pt x="173" y="1424"/>
                    </a:lnTo>
                    <a:lnTo>
                      <a:pt x="154" y="1437"/>
                    </a:lnTo>
                    <a:lnTo>
                      <a:pt x="138" y="1445"/>
                    </a:lnTo>
                    <a:lnTo>
                      <a:pt x="122" y="1453"/>
                    </a:lnTo>
                    <a:lnTo>
                      <a:pt x="107" y="1457"/>
                    </a:lnTo>
                    <a:lnTo>
                      <a:pt x="95" y="1461"/>
                    </a:lnTo>
                    <a:lnTo>
                      <a:pt x="84" y="1461"/>
                    </a:lnTo>
                    <a:lnTo>
                      <a:pt x="74" y="1459"/>
                    </a:lnTo>
                    <a:lnTo>
                      <a:pt x="67" y="1454"/>
                    </a:lnTo>
                    <a:lnTo>
                      <a:pt x="61" y="1445"/>
                    </a:lnTo>
                    <a:lnTo>
                      <a:pt x="56" y="1435"/>
                    </a:lnTo>
                    <a:lnTo>
                      <a:pt x="52" y="1424"/>
                    </a:lnTo>
                    <a:lnTo>
                      <a:pt x="47" y="1412"/>
                    </a:lnTo>
                    <a:lnTo>
                      <a:pt x="43" y="1397"/>
                    </a:lnTo>
                    <a:lnTo>
                      <a:pt x="37" y="1366"/>
                    </a:lnTo>
                    <a:lnTo>
                      <a:pt x="31" y="1331"/>
                    </a:lnTo>
                    <a:lnTo>
                      <a:pt x="25" y="1293"/>
                    </a:lnTo>
                    <a:lnTo>
                      <a:pt x="20" y="1252"/>
                    </a:lnTo>
                    <a:lnTo>
                      <a:pt x="16" y="1210"/>
                    </a:lnTo>
                    <a:lnTo>
                      <a:pt x="13" y="1167"/>
                    </a:lnTo>
                    <a:lnTo>
                      <a:pt x="7" y="1082"/>
                    </a:lnTo>
                    <a:lnTo>
                      <a:pt x="3" y="1002"/>
                    </a:lnTo>
                    <a:lnTo>
                      <a:pt x="2" y="934"/>
                    </a:lnTo>
                    <a:lnTo>
                      <a:pt x="0" y="883"/>
                    </a:lnTo>
                    <a:lnTo>
                      <a:pt x="0" y="866"/>
                    </a:lnTo>
                    <a:lnTo>
                      <a:pt x="0" y="818"/>
                    </a:lnTo>
                    <a:lnTo>
                      <a:pt x="0" y="749"/>
                    </a:lnTo>
                    <a:lnTo>
                      <a:pt x="0" y="665"/>
                    </a:lnTo>
                    <a:lnTo>
                      <a:pt x="0" y="577"/>
                    </a:lnTo>
                    <a:lnTo>
                      <a:pt x="0" y="488"/>
                    </a:lnTo>
                    <a:lnTo>
                      <a:pt x="0" y="411"/>
                    </a:lnTo>
                    <a:lnTo>
                      <a:pt x="0" y="350"/>
                    </a:lnTo>
                    <a:lnTo>
                      <a:pt x="3" y="338"/>
                    </a:lnTo>
                    <a:lnTo>
                      <a:pt x="7" y="325"/>
                    </a:lnTo>
                    <a:lnTo>
                      <a:pt x="15" y="312"/>
                    </a:lnTo>
                    <a:lnTo>
                      <a:pt x="25" y="298"/>
                    </a:lnTo>
                    <a:lnTo>
                      <a:pt x="37" y="284"/>
                    </a:lnTo>
                    <a:lnTo>
                      <a:pt x="52" y="269"/>
                    </a:lnTo>
                    <a:lnTo>
                      <a:pt x="69" y="256"/>
                    </a:lnTo>
                    <a:lnTo>
                      <a:pt x="88" y="241"/>
                    </a:lnTo>
                    <a:lnTo>
                      <a:pt x="109" y="226"/>
                    </a:lnTo>
                    <a:lnTo>
                      <a:pt x="131" y="211"/>
                    </a:lnTo>
                    <a:lnTo>
                      <a:pt x="154" y="197"/>
                    </a:lnTo>
                    <a:lnTo>
                      <a:pt x="178" y="182"/>
                    </a:lnTo>
                    <a:lnTo>
                      <a:pt x="228" y="154"/>
                    </a:lnTo>
                    <a:lnTo>
                      <a:pt x="281" y="127"/>
                    </a:lnTo>
                    <a:lnTo>
                      <a:pt x="333" y="101"/>
                    </a:lnTo>
                    <a:lnTo>
                      <a:pt x="383" y="76"/>
                    </a:lnTo>
                    <a:lnTo>
                      <a:pt x="431" y="55"/>
                    </a:lnTo>
                    <a:lnTo>
                      <a:pt x="473" y="37"/>
                    </a:lnTo>
                    <a:lnTo>
                      <a:pt x="537" y="10"/>
                    </a:lnTo>
                    <a:lnTo>
                      <a:pt x="560" y="0"/>
                    </a:lnTo>
                    <a:lnTo>
                      <a:pt x="559" y="10"/>
                    </a:lnTo>
                    <a:lnTo>
                      <a:pt x="558" y="37"/>
                    </a:lnTo>
                    <a:lnTo>
                      <a:pt x="558" y="57"/>
                    </a:lnTo>
                    <a:lnTo>
                      <a:pt x="558" y="81"/>
                    </a:lnTo>
                    <a:lnTo>
                      <a:pt x="560" y="109"/>
                    </a:lnTo>
                    <a:lnTo>
                      <a:pt x="564" y="141"/>
                    </a:lnTo>
                    <a:lnTo>
                      <a:pt x="570" y="178"/>
                    </a:lnTo>
                    <a:lnTo>
                      <a:pt x="577" y="218"/>
                    </a:lnTo>
                    <a:lnTo>
                      <a:pt x="588" y="262"/>
                    </a:lnTo>
                    <a:lnTo>
                      <a:pt x="602" y="310"/>
                    </a:lnTo>
                    <a:lnTo>
                      <a:pt x="619" y="360"/>
                    </a:lnTo>
                    <a:lnTo>
                      <a:pt x="639" y="416"/>
                    </a:lnTo>
                    <a:lnTo>
                      <a:pt x="651" y="444"/>
                    </a:lnTo>
                    <a:lnTo>
                      <a:pt x="665" y="473"/>
                    </a:lnTo>
                    <a:lnTo>
                      <a:pt x="678" y="504"/>
                    </a:lnTo>
                    <a:lnTo>
                      <a:pt x="693" y="535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5864400" y="3517920"/>
                <a:ext cx="225360" cy="439920"/>
              </a:xfrm>
              <a:custGeom>
                <a:avLst/>
                <a:gdLst/>
                <a:ahLst/>
                <a:rect l="l" t="t" r="r" b="b"/>
                <a:pathLst>
                  <a:path w="710" h="1386">
                    <a:moveTo>
                      <a:pt x="539" y="0"/>
                    </a:moveTo>
                    <a:lnTo>
                      <a:pt x="536" y="6"/>
                    </a:lnTo>
                    <a:lnTo>
                      <a:pt x="529" y="24"/>
                    </a:lnTo>
                    <a:lnTo>
                      <a:pt x="526" y="39"/>
                    </a:lnTo>
                    <a:lnTo>
                      <a:pt x="523" y="56"/>
                    </a:lnTo>
                    <a:lnTo>
                      <a:pt x="522" y="78"/>
                    </a:lnTo>
                    <a:lnTo>
                      <a:pt x="522" y="104"/>
                    </a:lnTo>
                    <a:lnTo>
                      <a:pt x="523" y="134"/>
                    </a:lnTo>
                    <a:lnTo>
                      <a:pt x="528" y="167"/>
                    </a:lnTo>
                    <a:lnTo>
                      <a:pt x="536" y="204"/>
                    </a:lnTo>
                    <a:lnTo>
                      <a:pt x="545" y="246"/>
                    </a:lnTo>
                    <a:lnTo>
                      <a:pt x="553" y="269"/>
                    </a:lnTo>
                    <a:lnTo>
                      <a:pt x="560" y="292"/>
                    </a:lnTo>
                    <a:lnTo>
                      <a:pt x="569" y="317"/>
                    </a:lnTo>
                    <a:lnTo>
                      <a:pt x="579" y="343"/>
                    </a:lnTo>
                    <a:lnTo>
                      <a:pt x="590" y="370"/>
                    </a:lnTo>
                    <a:lnTo>
                      <a:pt x="602" y="398"/>
                    </a:lnTo>
                    <a:lnTo>
                      <a:pt x="616" y="428"/>
                    </a:lnTo>
                    <a:lnTo>
                      <a:pt x="632" y="458"/>
                    </a:lnTo>
                    <a:lnTo>
                      <a:pt x="645" y="488"/>
                    </a:lnTo>
                    <a:lnTo>
                      <a:pt x="659" y="517"/>
                    </a:lnTo>
                    <a:lnTo>
                      <a:pt x="671" y="548"/>
                    </a:lnTo>
                    <a:lnTo>
                      <a:pt x="681" y="576"/>
                    </a:lnTo>
                    <a:lnTo>
                      <a:pt x="691" y="606"/>
                    </a:lnTo>
                    <a:lnTo>
                      <a:pt x="698" y="634"/>
                    </a:lnTo>
                    <a:lnTo>
                      <a:pt x="704" y="661"/>
                    </a:lnTo>
                    <a:lnTo>
                      <a:pt x="708" y="687"/>
                    </a:lnTo>
                    <a:lnTo>
                      <a:pt x="710" y="712"/>
                    </a:lnTo>
                    <a:lnTo>
                      <a:pt x="710" y="735"/>
                    </a:lnTo>
                    <a:lnTo>
                      <a:pt x="709" y="745"/>
                    </a:lnTo>
                    <a:lnTo>
                      <a:pt x="708" y="756"/>
                    </a:lnTo>
                    <a:lnTo>
                      <a:pt x="705" y="766"/>
                    </a:lnTo>
                    <a:lnTo>
                      <a:pt x="703" y="776"/>
                    </a:lnTo>
                    <a:lnTo>
                      <a:pt x="699" y="784"/>
                    </a:lnTo>
                    <a:lnTo>
                      <a:pt x="695" y="792"/>
                    </a:lnTo>
                    <a:lnTo>
                      <a:pt x="692" y="800"/>
                    </a:lnTo>
                    <a:lnTo>
                      <a:pt x="686" y="806"/>
                    </a:lnTo>
                    <a:lnTo>
                      <a:pt x="681" y="813"/>
                    </a:lnTo>
                    <a:lnTo>
                      <a:pt x="673" y="819"/>
                    </a:lnTo>
                    <a:lnTo>
                      <a:pt x="666" y="824"/>
                    </a:lnTo>
                    <a:lnTo>
                      <a:pt x="659" y="827"/>
                    </a:lnTo>
                    <a:lnTo>
                      <a:pt x="641" y="836"/>
                    </a:lnTo>
                    <a:lnTo>
                      <a:pt x="624" y="847"/>
                    </a:lnTo>
                    <a:lnTo>
                      <a:pt x="606" y="859"/>
                    </a:lnTo>
                    <a:lnTo>
                      <a:pt x="587" y="875"/>
                    </a:lnTo>
                    <a:lnTo>
                      <a:pt x="566" y="893"/>
                    </a:lnTo>
                    <a:lnTo>
                      <a:pt x="547" y="911"/>
                    </a:lnTo>
                    <a:lnTo>
                      <a:pt x="524" y="932"/>
                    </a:lnTo>
                    <a:lnTo>
                      <a:pt x="504" y="954"/>
                    </a:lnTo>
                    <a:lnTo>
                      <a:pt x="458" y="1002"/>
                    </a:lnTo>
                    <a:lnTo>
                      <a:pt x="413" y="1052"/>
                    </a:lnTo>
                    <a:lnTo>
                      <a:pt x="367" y="1105"/>
                    </a:lnTo>
                    <a:lnTo>
                      <a:pt x="321" y="1157"/>
                    </a:lnTo>
                    <a:lnTo>
                      <a:pt x="277" y="1209"/>
                    </a:lnTo>
                    <a:lnTo>
                      <a:pt x="235" y="1255"/>
                    </a:lnTo>
                    <a:lnTo>
                      <a:pt x="196" y="1298"/>
                    </a:lnTo>
                    <a:lnTo>
                      <a:pt x="160" y="1334"/>
                    </a:lnTo>
                    <a:lnTo>
                      <a:pt x="143" y="1349"/>
                    </a:lnTo>
                    <a:lnTo>
                      <a:pt x="128" y="1361"/>
                    </a:lnTo>
                    <a:lnTo>
                      <a:pt x="115" y="1372"/>
                    </a:lnTo>
                    <a:lnTo>
                      <a:pt x="101" y="1380"/>
                    </a:lnTo>
                    <a:lnTo>
                      <a:pt x="90" y="1385"/>
                    </a:lnTo>
                    <a:lnTo>
                      <a:pt x="80" y="1386"/>
                    </a:lnTo>
                    <a:lnTo>
                      <a:pt x="73" y="1385"/>
                    </a:lnTo>
                    <a:lnTo>
                      <a:pt x="66" y="1380"/>
                    </a:lnTo>
                    <a:lnTo>
                      <a:pt x="61" y="1372"/>
                    </a:lnTo>
                    <a:lnTo>
                      <a:pt x="57" y="1362"/>
                    </a:lnTo>
                    <a:lnTo>
                      <a:pt x="52" y="1353"/>
                    </a:lnTo>
                    <a:lnTo>
                      <a:pt x="48" y="1340"/>
                    </a:lnTo>
                    <a:lnTo>
                      <a:pt x="41" y="1311"/>
                    </a:lnTo>
                    <a:lnTo>
                      <a:pt x="34" y="1278"/>
                    </a:lnTo>
                    <a:lnTo>
                      <a:pt x="27" y="1239"/>
                    </a:lnTo>
                    <a:lnTo>
                      <a:pt x="23" y="1199"/>
                    </a:lnTo>
                    <a:lnTo>
                      <a:pt x="18" y="1156"/>
                    </a:lnTo>
                    <a:lnTo>
                      <a:pt x="14" y="1111"/>
                    </a:lnTo>
                    <a:lnTo>
                      <a:pt x="8" y="1022"/>
                    </a:lnTo>
                    <a:lnTo>
                      <a:pt x="4" y="938"/>
                    </a:lnTo>
                    <a:lnTo>
                      <a:pt x="2" y="867"/>
                    </a:lnTo>
                    <a:lnTo>
                      <a:pt x="0" y="814"/>
                    </a:lnTo>
                    <a:lnTo>
                      <a:pt x="0" y="799"/>
                    </a:lnTo>
                    <a:lnTo>
                      <a:pt x="0" y="758"/>
                    </a:lnTo>
                    <a:lnTo>
                      <a:pt x="0" y="699"/>
                    </a:lnTo>
                    <a:lnTo>
                      <a:pt x="0" y="627"/>
                    </a:lnTo>
                    <a:lnTo>
                      <a:pt x="0" y="548"/>
                    </a:lnTo>
                    <a:lnTo>
                      <a:pt x="0" y="471"/>
                    </a:lnTo>
                    <a:lnTo>
                      <a:pt x="0" y="399"/>
                    </a:lnTo>
                    <a:lnTo>
                      <a:pt x="0" y="341"/>
                    </a:lnTo>
                    <a:lnTo>
                      <a:pt x="3" y="329"/>
                    </a:lnTo>
                    <a:lnTo>
                      <a:pt x="7" y="317"/>
                    </a:lnTo>
                    <a:lnTo>
                      <a:pt x="14" y="303"/>
                    </a:lnTo>
                    <a:lnTo>
                      <a:pt x="24" y="290"/>
                    </a:lnTo>
                    <a:lnTo>
                      <a:pt x="36" y="276"/>
                    </a:lnTo>
                    <a:lnTo>
                      <a:pt x="51" y="262"/>
                    </a:lnTo>
                    <a:lnTo>
                      <a:pt x="67" y="248"/>
                    </a:lnTo>
                    <a:lnTo>
                      <a:pt x="85" y="233"/>
                    </a:lnTo>
                    <a:lnTo>
                      <a:pt x="105" y="218"/>
                    </a:lnTo>
                    <a:lnTo>
                      <a:pt x="126" y="205"/>
                    </a:lnTo>
                    <a:lnTo>
                      <a:pt x="148" y="190"/>
                    </a:lnTo>
                    <a:lnTo>
                      <a:pt x="171" y="177"/>
                    </a:lnTo>
                    <a:lnTo>
                      <a:pt x="219" y="148"/>
                    </a:lnTo>
                    <a:lnTo>
                      <a:pt x="270" y="121"/>
                    </a:lnTo>
                    <a:lnTo>
                      <a:pt x="320" y="97"/>
                    </a:lnTo>
                    <a:lnTo>
                      <a:pt x="368" y="73"/>
                    </a:lnTo>
                    <a:lnTo>
                      <a:pt x="414" y="52"/>
                    </a:lnTo>
                    <a:lnTo>
                      <a:pt x="454" y="34"/>
                    </a:lnTo>
                    <a:lnTo>
                      <a:pt x="516" y="8"/>
                    </a:lnTo>
                    <a:lnTo>
                      <a:pt x="539" y="0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7159680" y="3167280"/>
                <a:ext cx="216000" cy="627120"/>
              </a:xfrm>
              <a:custGeom>
                <a:avLst/>
                <a:gdLst/>
                <a:ahLst/>
                <a:rect l="l" t="t" r="r" b="b"/>
                <a:pathLst>
                  <a:path w="682" h="1974">
                    <a:moveTo>
                      <a:pt x="597" y="1259"/>
                    </a:moveTo>
                    <a:lnTo>
                      <a:pt x="609" y="1268"/>
                    </a:lnTo>
                    <a:lnTo>
                      <a:pt x="619" y="1277"/>
                    </a:lnTo>
                    <a:lnTo>
                      <a:pt x="622" y="1282"/>
                    </a:lnTo>
                    <a:lnTo>
                      <a:pt x="625" y="1286"/>
                    </a:lnTo>
                    <a:lnTo>
                      <a:pt x="626" y="1291"/>
                    </a:lnTo>
                    <a:lnTo>
                      <a:pt x="627" y="1294"/>
                    </a:lnTo>
                    <a:lnTo>
                      <a:pt x="627" y="1299"/>
                    </a:lnTo>
                    <a:lnTo>
                      <a:pt x="627" y="1303"/>
                    </a:lnTo>
                    <a:lnTo>
                      <a:pt x="626" y="1308"/>
                    </a:lnTo>
                    <a:lnTo>
                      <a:pt x="625" y="1313"/>
                    </a:lnTo>
                    <a:lnTo>
                      <a:pt x="619" y="1322"/>
                    </a:lnTo>
                    <a:lnTo>
                      <a:pt x="610" y="1334"/>
                    </a:lnTo>
                    <a:lnTo>
                      <a:pt x="588" y="1361"/>
                    </a:lnTo>
                    <a:lnTo>
                      <a:pt x="559" y="1394"/>
                    </a:lnTo>
                    <a:lnTo>
                      <a:pt x="541" y="1415"/>
                    </a:lnTo>
                    <a:lnTo>
                      <a:pt x="523" y="1438"/>
                    </a:lnTo>
                    <a:lnTo>
                      <a:pt x="503" y="1465"/>
                    </a:lnTo>
                    <a:lnTo>
                      <a:pt x="482" y="1495"/>
                    </a:lnTo>
                    <a:lnTo>
                      <a:pt x="440" y="1559"/>
                    </a:lnTo>
                    <a:lnTo>
                      <a:pt x="397" y="1626"/>
                    </a:lnTo>
                    <a:lnTo>
                      <a:pt x="354" y="1694"/>
                    </a:lnTo>
                    <a:lnTo>
                      <a:pt x="314" y="1759"/>
                    </a:lnTo>
                    <a:lnTo>
                      <a:pt x="276" y="1823"/>
                    </a:lnTo>
                    <a:lnTo>
                      <a:pt x="242" y="1880"/>
                    </a:lnTo>
                    <a:lnTo>
                      <a:pt x="229" y="1906"/>
                    </a:lnTo>
                    <a:lnTo>
                      <a:pt x="215" y="1930"/>
                    </a:lnTo>
                    <a:lnTo>
                      <a:pt x="205" y="1951"/>
                    </a:lnTo>
                    <a:lnTo>
                      <a:pt x="197" y="1969"/>
                    </a:lnTo>
                    <a:lnTo>
                      <a:pt x="192" y="1974"/>
                    </a:lnTo>
                    <a:lnTo>
                      <a:pt x="187" y="1972"/>
                    </a:lnTo>
                    <a:lnTo>
                      <a:pt x="180" y="1963"/>
                    </a:lnTo>
                    <a:lnTo>
                      <a:pt x="171" y="1949"/>
                    </a:lnTo>
                    <a:lnTo>
                      <a:pt x="161" y="1926"/>
                    </a:lnTo>
                    <a:lnTo>
                      <a:pt x="150" y="1899"/>
                    </a:lnTo>
                    <a:lnTo>
                      <a:pt x="139" y="1867"/>
                    </a:lnTo>
                    <a:lnTo>
                      <a:pt x="128" y="1830"/>
                    </a:lnTo>
                    <a:lnTo>
                      <a:pt x="116" y="1789"/>
                    </a:lnTo>
                    <a:lnTo>
                      <a:pt x="103" y="1744"/>
                    </a:lnTo>
                    <a:lnTo>
                      <a:pt x="91" y="1695"/>
                    </a:lnTo>
                    <a:lnTo>
                      <a:pt x="80" y="1644"/>
                    </a:lnTo>
                    <a:lnTo>
                      <a:pt x="68" y="1589"/>
                    </a:lnTo>
                    <a:lnTo>
                      <a:pt x="57" y="1533"/>
                    </a:lnTo>
                    <a:lnTo>
                      <a:pt x="45" y="1474"/>
                    </a:lnTo>
                    <a:lnTo>
                      <a:pt x="36" y="1414"/>
                    </a:lnTo>
                    <a:lnTo>
                      <a:pt x="26" y="1353"/>
                    </a:lnTo>
                    <a:lnTo>
                      <a:pt x="18" y="1292"/>
                    </a:lnTo>
                    <a:lnTo>
                      <a:pt x="12" y="1230"/>
                    </a:lnTo>
                    <a:lnTo>
                      <a:pt x="6" y="1168"/>
                    </a:lnTo>
                    <a:lnTo>
                      <a:pt x="2" y="1107"/>
                    </a:lnTo>
                    <a:lnTo>
                      <a:pt x="0" y="1047"/>
                    </a:lnTo>
                    <a:lnTo>
                      <a:pt x="0" y="989"/>
                    </a:lnTo>
                    <a:lnTo>
                      <a:pt x="2" y="933"/>
                    </a:lnTo>
                    <a:lnTo>
                      <a:pt x="6" y="877"/>
                    </a:lnTo>
                    <a:lnTo>
                      <a:pt x="12" y="826"/>
                    </a:lnTo>
                    <a:lnTo>
                      <a:pt x="22" y="778"/>
                    </a:lnTo>
                    <a:lnTo>
                      <a:pt x="33" y="732"/>
                    </a:lnTo>
                    <a:lnTo>
                      <a:pt x="48" y="691"/>
                    </a:lnTo>
                    <a:lnTo>
                      <a:pt x="65" y="655"/>
                    </a:lnTo>
                    <a:lnTo>
                      <a:pt x="86" y="623"/>
                    </a:lnTo>
                    <a:lnTo>
                      <a:pt x="111" y="596"/>
                    </a:lnTo>
                    <a:lnTo>
                      <a:pt x="111" y="581"/>
                    </a:lnTo>
                    <a:lnTo>
                      <a:pt x="112" y="543"/>
                    </a:lnTo>
                    <a:lnTo>
                      <a:pt x="114" y="485"/>
                    </a:lnTo>
                    <a:lnTo>
                      <a:pt x="119" y="414"/>
                    </a:lnTo>
                    <a:lnTo>
                      <a:pt x="125" y="336"/>
                    </a:lnTo>
                    <a:lnTo>
                      <a:pt x="134" y="256"/>
                    </a:lnTo>
                    <a:lnTo>
                      <a:pt x="139" y="218"/>
                    </a:lnTo>
                    <a:lnTo>
                      <a:pt x="145" y="181"/>
                    </a:lnTo>
                    <a:lnTo>
                      <a:pt x="151" y="147"/>
                    </a:lnTo>
                    <a:lnTo>
                      <a:pt x="159" y="115"/>
                    </a:lnTo>
                    <a:lnTo>
                      <a:pt x="164" y="100"/>
                    </a:lnTo>
                    <a:lnTo>
                      <a:pt x="169" y="86"/>
                    </a:lnTo>
                    <a:lnTo>
                      <a:pt x="175" y="74"/>
                    </a:lnTo>
                    <a:lnTo>
                      <a:pt x="182" y="63"/>
                    </a:lnTo>
                    <a:lnTo>
                      <a:pt x="189" y="52"/>
                    </a:lnTo>
                    <a:lnTo>
                      <a:pt x="198" y="42"/>
                    </a:lnTo>
                    <a:lnTo>
                      <a:pt x="208" y="33"/>
                    </a:lnTo>
                    <a:lnTo>
                      <a:pt x="218" y="26"/>
                    </a:lnTo>
                    <a:lnTo>
                      <a:pt x="228" y="19"/>
                    </a:lnTo>
                    <a:lnTo>
                      <a:pt x="239" y="14"/>
                    </a:lnTo>
                    <a:lnTo>
                      <a:pt x="250" y="9"/>
                    </a:lnTo>
                    <a:lnTo>
                      <a:pt x="261" y="5"/>
                    </a:lnTo>
                    <a:lnTo>
                      <a:pt x="272" y="3"/>
                    </a:lnTo>
                    <a:lnTo>
                      <a:pt x="283" y="0"/>
                    </a:lnTo>
                    <a:lnTo>
                      <a:pt x="294" y="0"/>
                    </a:lnTo>
                    <a:lnTo>
                      <a:pt x="305" y="1"/>
                    </a:lnTo>
                    <a:lnTo>
                      <a:pt x="316" y="3"/>
                    </a:lnTo>
                    <a:lnTo>
                      <a:pt x="326" y="5"/>
                    </a:lnTo>
                    <a:lnTo>
                      <a:pt x="336" y="10"/>
                    </a:lnTo>
                    <a:lnTo>
                      <a:pt x="346" y="15"/>
                    </a:lnTo>
                    <a:lnTo>
                      <a:pt x="354" y="21"/>
                    </a:lnTo>
                    <a:lnTo>
                      <a:pt x="362" y="29"/>
                    </a:lnTo>
                    <a:lnTo>
                      <a:pt x="369" y="38"/>
                    </a:lnTo>
                    <a:lnTo>
                      <a:pt x="375" y="48"/>
                    </a:lnTo>
                    <a:lnTo>
                      <a:pt x="380" y="59"/>
                    </a:lnTo>
                    <a:lnTo>
                      <a:pt x="385" y="72"/>
                    </a:lnTo>
                    <a:lnTo>
                      <a:pt x="388" y="85"/>
                    </a:lnTo>
                    <a:lnTo>
                      <a:pt x="390" y="101"/>
                    </a:lnTo>
                    <a:lnTo>
                      <a:pt x="390" y="117"/>
                    </a:lnTo>
                    <a:lnTo>
                      <a:pt x="389" y="134"/>
                    </a:lnTo>
                    <a:lnTo>
                      <a:pt x="386" y="154"/>
                    </a:lnTo>
                    <a:lnTo>
                      <a:pt x="381" y="175"/>
                    </a:lnTo>
                    <a:lnTo>
                      <a:pt x="359" y="266"/>
                    </a:lnTo>
                    <a:lnTo>
                      <a:pt x="331" y="368"/>
                    </a:lnTo>
                    <a:lnTo>
                      <a:pt x="300" y="479"/>
                    </a:lnTo>
                    <a:lnTo>
                      <a:pt x="269" y="592"/>
                    </a:lnTo>
                    <a:lnTo>
                      <a:pt x="256" y="647"/>
                    </a:lnTo>
                    <a:lnTo>
                      <a:pt x="244" y="703"/>
                    </a:lnTo>
                    <a:lnTo>
                      <a:pt x="232" y="757"/>
                    </a:lnTo>
                    <a:lnTo>
                      <a:pt x="224" y="807"/>
                    </a:lnTo>
                    <a:lnTo>
                      <a:pt x="216" y="856"/>
                    </a:lnTo>
                    <a:lnTo>
                      <a:pt x="213" y="901"/>
                    </a:lnTo>
                    <a:lnTo>
                      <a:pt x="213" y="922"/>
                    </a:lnTo>
                    <a:lnTo>
                      <a:pt x="213" y="942"/>
                    </a:lnTo>
                    <a:lnTo>
                      <a:pt x="214" y="961"/>
                    </a:lnTo>
                    <a:lnTo>
                      <a:pt x="216" y="978"/>
                    </a:lnTo>
                    <a:lnTo>
                      <a:pt x="221" y="1013"/>
                    </a:lnTo>
                    <a:lnTo>
                      <a:pt x="226" y="1040"/>
                    </a:lnTo>
                    <a:lnTo>
                      <a:pt x="229" y="1049"/>
                    </a:lnTo>
                    <a:lnTo>
                      <a:pt x="232" y="1058"/>
                    </a:lnTo>
                    <a:lnTo>
                      <a:pt x="235" y="1065"/>
                    </a:lnTo>
                    <a:lnTo>
                      <a:pt x="237" y="1070"/>
                    </a:lnTo>
                    <a:lnTo>
                      <a:pt x="241" y="1074"/>
                    </a:lnTo>
                    <a:lnTo>
                      <a:pt x="244" y="1075"/>
                    </a:lnTo>
                    <a:lnTo>
                      <a:pt x="247" y="1075"/>
                    </a:lnTo>
                    <a:lnTo>
                      <a:pt x="251" y="1075"/>
                    </a:lnTo>
                    <a:lnTo>
                      <a:pt x="256" y="1073"/>
                    </a:lnTo>
                    <a:lnTo>
                      <a:pt x="260" y="1068"/>
                    </a:lnTo>
                    <a:lnTo>
                      <a:pt x="264" y="1063"/>
                    </a:lnTo>
                    <a:lnTo>
                      <a:pt x="269" y="1057"/>
                    </a:lnTo>
                    <a:lnTo>
                      <a:pt x="295" y="1019"/>
                    </a:lnTo>
                    <a:lnTo>
                      <a:pt x="331" y="965"/>
                    </a:lnTo>
                    <a:lnTo>
                      <a:pt x="354" y="933"/>
                    </a:lnTo>
                    <a:lnTo>
                      <a:pt x="379" y="898"/>
                    </a:lnTo>
                    <a:lnTo>
                      <a:pt x="408" y="860"/>
                    </a:lnTo>
                    <a:lnTo>
                      <a:pt x="442" y="821"/>
                    </a:lnTo>
                    <a:lnTo>
                      <a:pt x="475" y="785"/>
                    </a:lnTo>
                    <a:lnTo>
                      <a:pt x="508" y="753"/>
                    </a:lnTo>
                    <a:lnTo>
                      <a:pt x="538" y="727"/>
                    </a:lnTo>
                    <a:lnTo>
                      <a:pt x="566" y="705"/>
                    </a:lnTo>
                    <a:lnTo>
                      <a:pt x="578" y="695"/>
                    </a:lnTo>
                    <a:lnTo>
                      <a:pt x="591" y="688"/>
                    </a:lnTo>
                    <a:lnTo>
                      <a:pt x="603" y="680"/>
                    </a:lnTo>
                    <a:lnTo>
                      <a:pt x="614" y="676"/>
                    </a:lnTo>
                    <a:lnTo>
                      <a:pt x="624" y="671"/>
                    </a:lnTo>
                    <a:lnTo>
                      <a:pt x="634" y="667"/>
                    </a:lnTo>
                    <a:lnTo>
                      <a:pt x="642" y="664"/>
                    </a:lnTo>
                    <a:lnTo>
                      <a:pt x="651" y="663"/>
                    </a:lnTo>
                    <a:lnTo>
                      <a:pt x="658" y="663"/>
                    </a:lnTo>
                    <a:lnTo>
                      <a:pt x="664" y="664"/>
                    </a:lnTo>
                    <a:lnTo>
                      <a:pt x="669" y="667"/>
                    </a:lnTo>
                    <a:lnTo>
                      <a:pt x="674" y="671"/>
                    </a:lnTo>
                    <a:lnTo>
                      <a:pt x="678" y="674"/>
                    </a:lnTo>
                    <a:lnTo>
                      <a:pt x="680" y="680"/>
                    </a:lnTo>
                    <a:lnTo>
                      <a:pt x="682" y="687"/>
                    </a:lnTo>
                    <a:lnTo>
                      <a:pt x="682" y="694"/>
                    </a:lnTo>
                    <a:lnTo>
                      <a:pt x="682" y="704"/>
                    </a:lnTo>
                    <a:lnTo>
                      <a:pt x="680" y="712"/>
                    </a:lnTo>
                    <a:lnTo>
                      <a:pt x="677" y="723"/>
                    </a:lnTo>
                    <a:lnTo>
                      <a:pt x="673" y="736"/>
                    </a:lnTo>
                    <a:lnTo>
                      <a:pt x="668" y="749"/>
                    </a:lnTo>
                    <a:lnTo>
                      <a:pt x="662" y="763"/>
                    </a:lnTo>
                    <a:lnTo>
                      <a:pt x="654" y="778"/>
                    </a:lnTo>
                    <a:lnTo>
                      <a:pt x="646" y="794"/>
                    </a:lnTo>
                    <a:lnTo>
                      <a:pt x="599" y="869"/>
                    </a:lnTo>
                    <a:lnTo>
                      <a:pt x="546" y="950"/>
                    </a:lnTo>
                    <a:lnTo>
                      <a:pt x="492" y="1032"/>
                    </a:lnTo>
                    <a:lnTo>
                      <a:pt x="442" y="1113"/>
                    </a:lnTo>
                    <a:lnTo>
                      <a:pt x="418" y="1153"/>
                    </a:lnTo>
                    <a:lnTo>
                      <a:pt x="397" y="1190"/>
                    </a:lnTo>
                    <a:lnTo>
                      <a:pt x="379" y="1224"/>
                    </a:lnTo>
                    <a:lnTo>
                      <a:pt x="363" y="1256"/>
                    </a:lnTo>
                    <a:lnTo>
                      <a:pt x="357" y="1270"/>
                    </a:lnTo>
                    <a:lnTo>
                      <a:pt x="352" y="1283"/>
                    </a:lnTo>
                    <a:lnTo>
                      <a:pt x="347" y="1297"/>
                    </a:lnTo>
                    <a:lnTo>
                      <a:pt x="344" y="1308"/>
                    </a:lnTo>
                    <a:lnTo>
                      <a:pt x="342" y="1319"/>
                    </a:lnTo>
                    <a:lnTo>
                      <a:pt x="342" y="1327"/>
                    </a:lnTo>
                    <a:lnTo>
                      <a:pt x="342" y="1336"/>
                    </a:lnTo>
                    <a:lnTo>
                      <a:pt x="344" y="1342"/>
                    </a:lnTo>
                    <a:lnTo>
                      <a:pt x="347" y="1348"/>
                    </a:lnTo>
                    <a:lnTo>
                      <a:pt x="349" y="1352"/>
                    </a:lnTo>
                    <a:lnTo>
                      <a:pt x="354" y="1354"/>
                    </a:lnTo>
                    <a:lnTo>
                      <a:pt x="358" y="1356"/>
                    </a:lnTo>
                    <a:lnTo>
                      <a:pt x="364" y="1356"/>
                    </a:lnTo>
                    <a:lnTo>
                      <a:pt x="369" y="1354"/>
                    </a:lnTo>
                    <a:lnTo>
                      <a:pt x="375" y="1352"/>
                    </a:lnTo>
                    <a:lnTo>
                      <a:pt x="383" y="1350"/>
                    </a:lnTo>
                    <a:lnTo>
                      <a:pt x="397" y="1341"/>
                    </a:lnTo>
                    <a:lnTo>
                      <a:pt x="413" y="1331"/>
                    </a:lnTo>
                    <a:lnTo>
                      <a:pt x="432" y="1319"/>
                    </a:lnTo>
                    <a:lnTo>
                      <a:pt x="450" y="1305"/>
                    </a:lnTo>
                    <a:lnTo>
                      <a:pt x="469" y="1292"/>
                    </a:lnTo>
                    <a:lnTo>
                      <a:pt x="488" y="1279"/>
                    </a:lnTo>
                    <a:lnTo>
                      <a:pt x="508" y="1268"/>
                    </a:lnTo>
                    <a:lnTo>
                      <a:pt x="528" y="1259"/>
                    </a:lnTo>
                    <a:lnTo>
                      <a:pt x="536" y="1255"/>
                    </a:lnTo>
                    <a:lnTo>
                      <a:pt x="546" y="1252"/>
                    </a:lnTo>
                    <a:lnTo>
                      <a:pt x="555" y="1251"/>
                    </a:lnTo>
                    <a:lnTo>
                      <a:pt x="563" y="1250"/>
                    </a:lnTo>
                    <a:lnTo>
                      <a:pt x="572" y="1250"/>
                    </a:lnTo>
                    <a:lnTo>
                      <a:pt x="581" y="1251"/>
                    </a:lnTo>
                    <a:lnTo>
                      <a:pt x="589" y="1254"/>
                    </a:lnTo>
                    <a:lnTo>
                      <a:pt x="597" y="1259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7157880" y="3186360"/>
                <a:ext cx="200160" cy="608040"/>
              </a:xfrm>
              <a:custGeom>
                <a:avLst/>
                <a:gdLst/>
                <a:ahLst/>
                <a:rect l="l" t="t" r="r" b="b"/>
                <a:pathLst>
                  <a:path w="630" h="1918">
                    <a:moveTo>
                      <a:pt x="541" y="1268"/>
                    </a:moveTo>
                    <a:lnTo>
                      <a:pt x="549" y="1273"/>
                    </a:lnTo>
                    <a:lnTo>
                      <a:pt x="555" y="1278"/>
                    </a:lnTo>
                    <a:lnTo>
                      <a:pt x="560" y="1282"/>
                    </a:lnTo>
                    <a:lnTo>
                      <a:pt x="564" y="1287"/>
                    </a:lnTo>
                    <a:lnTo>
                      <a:pt x="566" y="1292"/>
                    </a:lnTo>
                    <a:lnTo>
                      <a:pt x="568" y="1297"/>
                    </a:lnTo>
                    <a:lnTo>
                      <a:pt x="570" y="1302"/>
                    </a:lnTo>
                    <a:lnTo>
                      <a:pt x="571" y="1307"/>
                    </a:lnTo>
                    <a:lnTo>
                      <a:pt x="571" y="1313"/>
                    </a:lnTo>
                    <a:lnTo>
                      <a:pt x="570" y="1318"/>
                    </a:lnTo>
                    <a:lnTo>
                      <a:pt x="568" y="1324"/>
                    </a:lnTo>
                    <a:lnTo>
                      <a:pt x="566" y="1330"/>
                    </a:lnTo>
                    <a:lnTo>
                      <a:pt x="559" y="1343"/>
                    </a:lnTo>
                    <a:lnTo>
                      <a:pt x="550" y="1356"/>
                    </a:lnTo>
                    <a:lnTo>
                      <a:pt x="528" y="1387"/>
                    </a:lnTo>
                    <a:lnTo>
                      <a:pt x="500" y="1423"/>
                    </a:lnTo>
                    <a:lnTo>
                      <a:pt x="484" y="1442"/>
                    </a:lnTo>
                    <a:lnTo>
                      <a:pt x="466" y="1465"/>
                    </a:lnTo>
                    <a:lnTo>
                      <a:pt x="450" y="1489"/>
                    </a:lnTo>
                    <a:lnTo>
                      <a:pt x="433" y="1515"/>
                    </a:lnTo>
                    <a:lnTo>
                      <a:pt x="400" y="1567"/>
                    </a:lnTo>
                    <a:lnTo>
                      <a:pt x="365" y="1621"/>
                    </a:lnTo>
                    <a:lnTo>
                      <a:pt x="332" y="1676"/>
                    </a:lnTo>
                    <a:lnTo>
                      <a:pt x="299" y="1730"/>
                    </a:lnTo>
                    <a:lnTo>
                      <a:pt x="269" y="1783"/>
                    </a:lnTo>
                    <a:lnTo>
                      <a:pt x="242" y="1831"/>
                    </a:lnTo>
                    <a:lnTo>
                      <a:pt x="219" y="1875"/>
                    </a:lnTo>
                    <a:lnTo>
                      <a:pt x="202" y="1913"/>
                    </a:lnTo>
                    <a:lnTo>
                      <a:pt x="197" y="1918"/>
                    </a:lnTo>
                    <a:lnTo>
                      <a:pt x="191" y="1917"/>
                    </a:lnTo>
                    <a:lnTo>
                      <a:pt x="183" y="1909"/>
                    </a:lnTo>
                    <a:lnTo>
                      <a:pt x="175" y="1894"/>
                    </a:lnTo>
                    <a:lnTo>
                      <a:pt x="165" y="1873"/>
                    </a:lnTo>
                    <a:lnTo>
                      <a:pt x="155" y="1847"/>
                    </a:lnTo>
                    <a:lnTo>
                      <a:pt x="143" y="1816"/>
                    </a:lnTo>
                    <a:lnTo>
                      <a:pt x="132" y="1781"/>
                    </a:lnTo>
                    <a:lnTo>
                      <a:pt x="119" y="1740"/>
                    </a:lnTo>
                    <a:lnTo>
                      <a:pt x="107" y="1697"/>
                    </a:lnTo>
                    <a:lnTo>
                      <a:pt x="95" y="1650"/>
                    </a:lnTo>
                    <a:lnTo>
                      <a:pt x="82" y="1600"/>
                    </a:lnTo>
                    <a:lnTo>
                      <a:pt x="70" y="1547"/>
                    </a:lnTo>
                    <a:lnTo>
                      <a:pt x="58" y="1492"/>
                    </a:lnTo>
                    <a:lnTo>
                      <a:pt x="47" y="1435"/>
                    </a:lnTo>
                    <a:lnTo>
                      <a:pt x="37" y="1377"/>
                    </a:lnTo>
                    <a:lnTo>
                      <a:pt x="27" y="1318"/>
                    </a:lnTo>
                    <a:lnTo>
                      <a:pt x="19" y="1258"/>
                    </a:lnTo>
                    <a:lnTo>
                      <a:pt x="12" y="1198"/>
                    </a:lnTo>
                    <a:lnTo>
                      <a:pt x="6" y="1139"/>
                    </a:lnTo>
                    <a:lnTo>
                      <a:pt x="3" y="1078"/>
                    </a:lnTo>
                    <a:lnTo>
                      <a:pt x="0" y="1020"/>
                    </a:lnTo>
                    <a:lnTo>
                      <a:pt x="0" y="964"/>
                    </a:lnTo>
                    <a:lnTo>
                      <a:pt x="1" y="909"/>
                    </a:lnTo>
                    <a:lnTo>
                      <a:pt x="5" y="856"/>
                    </a:lnTo>
                    <a:lnTo>
                      <a:pt x="12" y="804"/>
                    </a:lnTo>
                    <a:lnTo>
                      <a:pt x="21" y="757"/>
                    </a:lnTo>
                    <a:lnTo>
                      <a:pt x="32" y="713"/>
                    </a:lnTo>
                    <a:lnTo>
                      <a:pt x="47" y="672"/>
                    </a:lnTo>
                    <a:lnTo>
                      <a:pt x="65" y="635"/>
                    </a:lnTo>
                    <a:lnTo>
                      <a:pt x="85" y="605"/>
                    </a:lnTo>
                    <a:lnTo>
                      <a:pt x="110" y="578"/>
                    </a:lnTo>
                    <a:lnTo>
                      <a:pt x="111" y="564"/>
                    </a:lnTo>
                    <a:lnTo>
                      <a:pt x="114" y="527"/>
                    </a:lnTo>
                    <a:lnTo>
                      <a:pt x="121" y="473"/>
                    </a:lnTo>
                    <a:lnTo>
                      <a:pt x="129" y="405"/>
                    </a:lnTo>
                    <a:lnTo>
                      <a:pt x="139" y="332"/>
                    </a:lnTo>
                    <a:lnTo>
                      <a:pt x="151" y="255"/>
                    </a:lnTo>
                    <a:lnTo>
                      <a:pt x="158" y="219"/>
                    </a:lnTo>
                    <a:lnTo>
                      <a:pt x="164" y="183"/>
                    </a:lnTo>
                    <a:lnTo>
                      <a:pt x="171" y="150"/>
                    </a:lnTo>
                    <a:lnTo>
                      <a:pt x="177" y="119"/>
                    </a:lnTo>
                    <a:lnTo>
                      <a:pt x="182" y="104"/>
                    </a:lnTo>
                    <a:lnTo>
                      <a:pt x="187" y="91"/>
                    </a:lnTo>
                    <a:lnTo>
                      <a:pt x="192" y="78"/>
                    </a:lnTo>
                    <a:lnTo>
                      <a:pt x="198" y="66"/>
                    </a:lnTo>
                    <a:lnTo>
                      <a:pt x="206" y="55"/>
                    </a:lnTo>
                    <a:lnTo>
                      <a:pt x="212" y="45"/>
                    </a:lnTo>
                    <a:lnTo>
                      <a:pt x="220" y="36"/>
                    </a:lnTo>
                    <a:lnTo>
                      <a:pt x="228" y="28"/>
                    </a:lnTo>
                    <a:lnTo>
                      <a:pt x="236" y="22"/>
                    </a:lnTo>
                    <a:lnTo>
                      <a:pt x="245" y="16"/>
                    </a:lnTo>
                    <a:lnTo>
                      <a:pt x="253" y="9"/>
                    </a:lnTo>
                    <a:lnTo>
                      <a:pt x="263" y="6"/>
                    </a:lnTo>
                    <a:lnTo>
                      <a:pt x="272" y="3"/>
                    </a:lnTo>
                    <a:lnTo>
                      <a:pt x="281" y="1"/>
                    </a:lnTo>
                    <a:lnTo>
                      <a:pt x="289" y="0"/>
                    </a:lnTo>
                    <a:lnTo>
                      <a:pt x="298" y="1"/>
                    </a:lnTo>
                    <a:lnTo>
                      <a:pt x="306" y="2"/>
                    </a:lnTo>
                    <a:lnTo>
                      <a:pt x="315" y="5"/>
                    </a:lnTo>
                    <a:lnTo>
                      <a:pt x="322" y="8"/>
                    </a:lnTo>
                    <a:lnTo>
                      <a:pt x="330" y="12"/>
                    </a:lnTo>
                    <a:lnTo>
                      <a:pt x="336" y="18"/>
                    </a:lnTo>
                    <a:lnTo>
                      <a:pt x="342" y="25"/>
                    </a:lnTo>
                    <a:lnTo>
                      <a:pt x="347" y="34"/>
                    </a:lnTo>
                    <a:lnTo>
                      <a:pt x="352" y="44"/>
                    </a:lnTo>
                    <a:lnTo>
                      <a:pt x="356" y="55"/>
                    </a:lnTo>
                    <a:lnTo>
                      <a:pt x="358" y="66"/>
                    </a:lnTo>
                    <a:lnTo>
                      <a:pt x="359" y="80"/>
                    </a:lnTo>
                    <a:lnTo>
                      <a:pt x="361" y="94"/>
                    </a:lnTo>
                    <a:lnTo>
                      <a:pt x="361" y="110"/>
                    </a:lnTo>
                    <a:lnTo>
                      <a:pt x="358" y="129"/>
                    </a:lnTo>
                    <a:lnTo>
                      <a:pt x="356" y="147"/>
                    </a:lnTo>
                    <a:lnTo>
                      <a:pt x="352" y="167"/>
                    </a:lnTo>
                    <a:lnTo>
                      <a:pt x="329" y="258"/>
                    </a:lnTo>
                    <a:lnTo>
                      <a:pt x="301" y="359"/>
                    </a:lnTo>
                    <a:lnTo>
                      <a:pt x="273" y="466"/>
                    </a:lnTo>
                    <a:lnTo>
                      <a:pt x="246" y="575"/>
                    </a:lnTo>
                    <a:lnTo>
                      <a:pt x="234" y="629"/>
                    </a:lnTo>
                    <a:lnTo>
                      <a:pt x="223" y="683"/>
                    </a:lnTo>
                    <a:lnTo>
                      <a:pt x="214" y="735"/>
                    </a:lnTo>
                    <a:lnTo>
                      <a:pt x="207" y="786"/>
                    </a:lnTo>
                    <a:lnTo>
                      <a:pt x="201" y="832"/>
                    </a:lnTo>
                    <a:lnTo>
                      <a:pt x="198" y="878"/>
                    </a:lnTo>
                    <a:lnTo>
                      <a:pt x="198" y="899"/>
                    </a:lnTo>
                    <a:lnTo>
                      <a:pt x="198" y="918"/>
                    </a:lnTo>
                    <a:lnTo>
                      <a:pt x="201" y="937"/>
                    </a:lnTo>
                    <a:lnTo>
                      <a:pt x="202" y="955"/>
                    </a:lnTo>
                    <a:lnTo>
                      <a:pt x="208" y="993"/>
                    </a:lnTo>
                    <a:lnTo>
                      <a:pt x="213" y="1023"/>
                    </a:lnTo>
                    <a:lnTo>
                      <a:pt x="217" y="1034"/>
                    </a:lnTo>
                    <a:lnTo>
                      <a:pt x="219" y="1044"/>
                    </a:lnTo>
                    <a:lnTo>
                      <a:pt x="221" y="1051"/>
                    </a:lnTo>
                    <a:lnTo>
                      <a:pt x="225" y="1057"/>
                    </a:lnTo>
                    <a:lnTo>
                      <a:pt x="228" y="1062"/>
                    </a:lnTo>
                    <a:lnTo>
                      <a:pt x="231" y="1065"/>
                    </a:lnTo>
                    <a:lnTo>
                      <a:pt x="235" y="1066"/>
                    </a:lnTo>
                    <a:lnTo>
                      <a:pt x="239" y="1065"/>
                    </a:lnTo>
                    <a:lnTo>
                      <a:pt x="242" y="1064"/>
                    </a:lnTo>
                    <a:lnTo>
                      <a:pt x="247" y="1060"/>
                    </a:lnTo>
                    <a:lnTo>
                      <a:pt x="252" y="1055"/>
                    </a:lnTo>
                    <a:lnTo>
                      <a:pt x="257" y="1048"/>
                    </a:lnTo>
                    <a:lnTo>
                      <a:pt x="283" y="1011"/>
                    </a:lnTo>
                    <a:lnTo>
                      <a:pt x="319" y="955"/>
                    </a:lnTo>
                    <a:lnTo>
                      <a:pt x="341" y="923"/>
                    </a:lnTo>
                    <a:lnTo>
                      <a:pt x="367" y="888"/>
                    </a:lnTo>
                    <a:lnTo>
                      <a:pt x="396" y="851"/>
                    </a:lnTo>
                    <a:lnTo>
                      <a:pt x="431" y="811"/>
                    </a:lnTo>
                    <a:lnTo>
                      <a:pt x="463" y="774"/>
                    </a:lnTo>
                    <a:lnTo>
                      <a:pt x="493" y="744"/>
                    </a:lnTo>
                    <a:lnTo>
                      <a:pt x="520" y="718"/>
                    </a:lnTo>
                    <a:lnTo>
                      <a:pt x="545" y="698"/>
                    </a:lnTo>
                    <a:lnTo>
                      <a:pt x="567" y="682"/>
                    </a:lnTo>
                    <a:lnTo>
                      <a:pt x="586" y="671"/>
                    </a:lnTo>
                    <a:lnTo>
                      <a:pt x="593" y="667"/>
                    </a:lnTo>
                    <a:lnTo>
                      <a:pt x="600" y="665"/>
                    </a:lnTo>
                    <a:lnTo>
                      <a:pt x="608" y="664"/>
                    </a:lnTo>
                    <a:lnTo>
                      <a:pt x="613" y="664"/>
                    </a:lnTo>
                    <a:lnTo>
                      <a:pt x="618" y="665"/>
                    </a:lnTo>
                    <a:lnTo>
                      <a:pt x="623" y="666"/>
                    </a:lnTo>
                    <a:lnTo>
                      <a:pt x="625" y="669"/>
                    </a:lnTo>
                    <a:lnTo>
                      <a:pt x="627" y="674"/>
                    </a:lnTo>
                    <a:lnTo>
                      <a:pt x="630" y="677"/>
                    </a:lnTo>
                    <a:lnTo>
                      <a:pt x="630" y="683"/>
                    </a:lnTo>
                    <a:lnTo>
                      <a:pt x="630" y="691"/>
                    </a:lnTo>
                    <a:lnTo>
                      <a:pt x="629" y="698"/>
                    </a:lnTo>
                    <a:lnTo>
                      <a:pt x="624" y="715"/>
                    </a:lnTo>
                    <a:lnTo>
                      <a:pt x="616" y="738"/>
                    </a:lnTo>
                    <a:lnTo>
                      <a:pt x="604" y="762"/>
                    </a:lnTo>
                    <a:lnTo>
                      <a:pt x="588" y="789"/>
                    </a:lnTo>
                    <a:lnTo>
                      <a:pt x="540" y="862"/>
                    </a:lnTo>
                    <a:lnTo>
                      <a:pt x="491" y="941"/>
                    </a:lnTo>
                    <a:lnTo>
                      <a:pt x="468" y="980"/>
                    </a:lnTo>
                    <a:lnTo>
                      <a:pt x="444" y="1020"/>
                    </a:lnTo>
                    <a:lnTo>
                      <a:pt x="421" y="1060"/>
                    </a:lnTo>
                    <a:lnTo>
                      <a:pt x="400" y="1098"/>
                    </a:lnTo>
                    <a:lnTo>
                      <a:pt x="380" y="1135"/>
                    </a:lnTo>
                    <a:lnTo>
                      <a:pt x="363" y="1169"/>
                    </a:lnTo>
                    <a:lnTo>
                      <a:pt x="349" y="1203"/>
                    </a:lnTo>
                    <a:lnTo>
                      <a:pt x="337" y="1232"/>
                    </a:lnTo>
                    <a:lnTo>
                      <a:pt x="329" y="1259"/>
                    </a:lnTo>
                    <a:lnTo>
                      <a:pt x="322" y="1282"/>
                    </a:lnTo>
                    <a:lnTo>
                      <a:pt x="321" y="1292"/>
                    </a:lnTo>
                    <a:lnTo>
                      <a:pt x="321" y="1302"/>
                    </a:lnTo>
                    <a:lnTo>
                      <a:pt x="322" y="1310"/>
                    </a:lnTo>
                    <a:lnTo>
                      <a:pt x="325" y="1317"/>
                    </a:lnTo>
                    <a:lnTo>
                      <a:pt x="327" y="1322"/>
                    </a:lnTo>
                    <a:lnTo>
                      <a:pt x="331" y="1326"/>
                    </a:lnTo>
                    <a:lnTo>
                      <a:pt x="335" y="1329"/>
                    </a:lnTo>
                    <a:lnTo>
                      <a:pt x="338" y="1330"/>
                    </a:lnTo>
                    <a:lnTo>
                      <a:pt x="343" y="1332"/>
                    </a:lnTo>
                    <a:lnTo>
                      <a:pt x="348" y="1332"/>
                    </a:lnTo>
                    <a:lnTo>
                      <a:pt x="353" y="1330"/>
                    </a:lnTo>
                    <a:lnTo>
                      <a:pt x="359" y="1328"/>
                    </a:lnTo>
                    <a:lnTo>
                      <a:pt x="370" y="1323"/>
                    </a:lnTo>
                    <a:lnTo>
                      <a:pt x="384" y="1316"/>
                    </a:lnTo>
                    <a:lnTo>
                      <a:pt x="399" y="1306"/>
                    </a:lnTo>
                    <a:lnTo>
                      <a:pt x="413" y="1296"/>
                    </a:lnTo>
                    <a:lnTo>
                      <a:pt x="429" y="1286"/>
                    </a:lnTo>
                    <a:lnTo>
                      <a:pt x="445" y="1276"/>
                    </a:lnTo>
                    <a:lnTo>
                      <a:pt x="461" y="1268"/>
                    </a:lnTo>
                    <a:lnTo>
                      <a:pt x="479" y="1262"/>
                    </a:lnTo>
                    <a:lnTo>
                      <a:pt x="486" y="1259"/>
                    </a:lnTo>
                    <a:lnTo>
                      <a:pt x="495" y="1258"/>
                    </a:lnTo>
                    <a:lnTo>
                      <a:pt x="503" y="1257"/>
                    </a:lnTo>
                    <a:lnTo>
                      <a:pt x="511" y="1257"/>
                    </a:lnTo>
                    <a:lnTo>
                      <a:pt x="519" y="1258"/>
                    </a:lnTo>
                    <a:lnTo>
                      <a:pt x="527" y="1260"/>
                    </a:lnTo>
                    <a:lnTo>
                      <a:pt x="534" y="1263"/>
                    </a:lnTo>
                    <a:lnTo>
                      <a:pt x="541" y="1268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7156440" y="3202200"/>
                <a:ext cx="184320" cy="593640"/>
              </a:xfrm>
              <a:custGeom>
                <a:avLst/>
                <a:gdLst/>
                <a:ahLst/>
                <a:rect l="l" t="t" r="r" b="b"/>
                <a:pathLst>
                  <a:path w="584" h="1866">
                    <a:moveTo>
                      <a:pt x="491" y="1276"/>
                    </a:moveTo>
                    <a:lnTo>
                      <a:pt x="497" y="1281"/>
                    </a:lnTo>
                    <a:lnTo>
                      <a:pt x="503" y="1286"/>
                    </a:lnTo>
                    <a:lnTo>
                      <a:pt x="508" y="1291"/>
                    </a:lnTo>
                    <a:lnTo>
                      <a:pt x="512" y="1297"/>
                    </a:lnTo>
                    <a:lnTo>
                      <a:pt x="514" y="1304"/>
                    </a:lnTo>
                    <a:lnTo>
                      <a:pt x="517" y="1310"/>
                    </a:lnTo>
                    <a:lnTo>
                      <a:pt x="517" y="1316"/>
                    </a:lnTo>
                    <a:lnTo>
                      <a:pt x="518" y="1322"/>
                    </a:lnTo>
                    <a:lnTo>
                      <a:pt x="517" y="1329"/>
                    </a:lnTo>
                    <a:lnTo>
                      <a:pt x="515" y="1335"/>
                    </a:lnTo>
                    <a:lnTo>
                      <a:pt x="513" y="1343"/>
                    </a:lnTo>
                    <a:lnTo>
                      <a:pt x="510" y="1350"/>
                    </a:lnTo>
                    <a:lnTo>
                      <a:pt x="503" y="1366"/>
                    </a:lnTo>
                    <a:lnTo>
                      <a:pt x="493" y="1382"/>
                    </a:lnTo>
                    <a:lnTo>
                      <a:pt x="470" y="1417"/>
                    </a:lnTo>
                    <a:lnTo>
                      <a:pt x="442" y="1454"/>
                    </a:lnTo>
                    <a:lnTo>
                      <a:pt x="411" y="1494"/>
                    </a:lnTo>
                    <a:lnTo>
                      <a:pt x="383" y="1537"/>
                    </a:lnTo>
                    <a:lnTo>
                      <a:pt x="358" y="1578"/>
                    </a:lnTo>
                    <a:lnTo>
                      <a:pt x="332" y="1618"/>
                    </a:lnTo>
                    <a:lnTo>
                      <a:pt x="309" y="1661"/>
                    </a:lnTo>
                    <a:lnTo>
                      <a:pt x="285" y="1703"/>
                    </a:lnTo>
                    <a:lnTo>
                      <a:pt x="263" y="1745"/>
                    </a:lnTo>
                    <a:lnTo>
                      <a:pt x="242" y="1786"/>
                    </a:lnTo>
                    <a:lnTo>
                      <a:pt x="224" y="1824"/>
                    </a:lnTo>
                    <a:lnTo>
                      <a:pt x="208" y="1859"/>
                    </a:lnTo>
                    <a:lnTo>
                      <a:pt x="203" y="1866"/>
                    </a:lnTo>
                    <a:lnTo>
                      <a:pt x="197" y="1863"/>
                    </a:lnTo>
                    <a:lnTo>
                      <a:pt x="189" y="1856"/>
                    </a:lnTo>
                    <a:lnTo>
                      <a:pt x="181" y="1841"/>
                    </a:lnTo>
                    <a:lnTo>
                      <a:pt x="171" y="1821"/>
                    </a:lnTo>
                    <a:lnTo>
                      <a:pt x="160" y="1797"/>
                    </a:lnTo>
                    <a:lnTo>
                      <a:pt x="149" y="1767"/>
                    </a:lnTo>
                    <a:lnTo>
                      <a:pt x="136" y="1733"/>
                    </a:lnTo>
                    <a:lnTo>
                      <a:pt x="124" y="1693"/>
                    </a:lnTo>
                    <a:lnTo>
                      <a:pt x="112" y="1652"/>
                    </a:lnTo>
                    <a:lnTo>
                      <a:pt x="98" y="1606"/>
                    </a:lnTo>
                    <a:lnTo>
                      <a:pt x="86" y="1558"/>
                    </a:lnTo>
                    <a:lnTo>
                      <a:pt x="74" y="1506"/>
                    </a:lnTo>
                    <a:lnTo>
                      <a:pt x="61" y="1454"/>
                    </a:lnTo>
                    <a:lnTo>
                      <a:pt x="50" y="1398"/>
                    </a:lnTo>
                    <a:lnTo>
                      <a:pt x="39" y="1342"/>
                    </a:lnTo>
                    <a:lnTo>
                      <a:pt x="29" y="1285"/>
                    </a:lnTo>
                    <a:lnTo>
                      <a:pt x="21" y="1226"/>
                    </a:lnTo>
                    <a:lnTo>
                      <a:pt x="13" y="1168"/>
                    </a:lnTo>
                    <a:lnTo>
                      <a:pt x="9" y="1110"/>
                    </a:lnTo>
                    <a:lnTo>
                      <a:pt x="4" y="1053"/>
                    </a:lnTo>
                    <a:lnTo>
                      <a:pt x="1" y="996"/>
                    </a:lnTo>
                    <a:lnTo>
                      <a:pt x="0" y="941"/>
                    </a:lnTo>
                    <a:lnTo>
                      <a:pt x="2" y="887"/>
                    </a:lnTo>
                    <a:lnTo>
                      <a:pt x="5" y="835"/>
                    </a:lnTo>
                    <a:lnTo>
                      <a:pt x="11" y="786"/>
                    </a:lnTo>
                    <a:lnTo>
                      <a:pt x="20" y="739"/>
                    </a:lnTo>
                    <a:lnTo>
                      <a:pt x="32" y="695"/>
                    </a:lnTo>
                    <a:lnTo>
                      <a:pt x="45" y="655"/>
                    </a:lnTo>
                    <a:lnTo>
                      <a:pt x="63" y="620"/>
                    </a:lnTo>
                    <a:lnTo>
                      <a:pt x="84" y="588"/>
                    </a:lnTo>
                    <a:lnTo>
                      <a:pt x="108" y="562"/>
                    </a:lnTo>
                    <a:lnTo>
                      <a:pt x="109" y="550"/>
                    </a:lnTo>
                    <a:lnTo>
                      <a:pt x="117" y="515"/>
                    </a:lnTo>
                    <a:lnTo>
                      <a:pt x="125" y="463"/>
                    </a:lnTo>
                    <a:lnTo>
                      <a:pt x="138" y="401"/>
                    </a:lnTo>
                    <a:lnTo>
                      <a:pt x="152" y="329"/>
                    </a:lnTo>
                    <a:lnTo>
                      <a:pt x="167" y="257"/>
                    </a:lnTo>
                    <a:lnTo>
                      <a:pt x="182" y="185"/>
                    </a:lnTo>
                    <a:lnTo>
                      <a:pt x="197" y="121"/>
                    </a:lnTo>
                    <a:lnTo>
                      <a:pt x="202" y="107"/>
                    </a:lnTo>
                    <a:lnTo>
                      <a:pt x="205" y="93"/>
                    </a:lnTo>
                    <a:lnTo>
                      <a:pt x="212" y="81"/>
                    </a:lnTo>
                    <a:lnTo>
                      <a:pt x="216" y="69"/>
                    </a:lnTo>
                    <a:lnTo>
                      <a:pt x="223" y="58"/>
                    </a:lnTo>
                    <a:lnTo>
                      <a:pt x="229" y="48"/>
                    </a:lnTo>
                    <a:lnTo>
                      <a:pt x="235" y="38"/>
                    </a:lnTo>
                    <a:lnTo>
                      <a:pt x="241" y="30"/>
                    </a:lnTo>
                    <a:lnTo>
                      <a:pt x="248" y="23"/>
                    </a:lnTo>
                    <a:lnTo>
                      <a:pt x="255" y="16"/>
                    </a:lnTo>
                    <a:lnTo>
                      <a:pt x="262" y="11"/>
                    </a:lnTo>
                    <a:lnTo>
                      <a:pt x="268" y="6"/>
                    </a:lnTo>
                    <a:lnTo>
                      <a:pt x="274" y="3"/>
                    </a:lnTo>
                    <a:lnTo>
                      <a:pt x="282" y="1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5" y="2"/>
                    </a:lnTo>
                    <a:lnTo>
                      <a:pt x="311" y="6"/>
                    </a:lnTo>
                    <a:lnTo>
                      <a:pt x="315" y="10"/>
                    </a:lnTo>
                    <a:lnTo>
                      <a:pt x="320" y="16"/>
                    </a:lnTo>
                    <a:lnTo>
                      <a:pt x="323" y="22"/>
                    </a:lnTo>
                    <a:lnTo>
                      <a:pt x="327" y="30"/>
                    </a:lnTo>
                    <a:lnTo>
                      <a:pt x="330" y="40"/>
                    </a:lnTo>
                    <a:lnTo>
                      <a:pt x="331" y="50"/>
                    </a:lnTo>
                    <a:lnTo>
                      <a:pt x="332" y="62"/>
                    </a:lnTo>
                    <a:lnTo>
                      <a:pt x="332" y="76"/>
                    </a:lnTo>
                    <a:lnTo>
                      <a:pt x="332" y="89"/>
                    </a:lnTo>
                    <a:lnTo>
                      <a:pt x="330" y="105"/>
                    </a:lnTo>
                    <a:lnTo>
                      <a:pt x="327" y="123"/>
                    </a:lnTo>
                    <a:lnTo>
                      <a:pt x="323" y="142"/>
                    </a:lnTo>
                    <a:lnTo>
                      <a:pt x="320" y="162"/>
                    </a:lnTo>
                    <a:lnTo>
                      <a:pt x="298" y="252"/>
                    </a:lnTo>
                    <a:lnTo>
                      <a:pt x="273" y="350"/>
                    </a:lnTo>
                    <a:lnTo>
                      <a:pt x="248" y="455"/>
                    </a:lnTo>
                    <a:lnTo>
                      <a:pt x="224" y="562"/>
                    </a:lnTo>
                    <a:lnTo>
                      <a:pt x="214" y="615"/>
                    </a:lnTo>
                    <a:lnTo>
                      <a:pt x="204" y="666"/>
                    </a:lnTo>
                    <a:lnTo>
                      <a:pt x="196" y="717"/>
                    </a:lnTo>
                    <a:lnTo>
                      <a:pt x="189" y="765"/>
                    </a:lnTo>
                    <a:lnTo>
                      <a:pt x="186" y="812"/>
                    </a:lnTo>
                    <a:lnTo>
                      <a:pt x="183" y="855"/>
                    </a:lnTo>
                    <a:lnTo>
                      <a:pt x="183" y="875"/>
                    </a:lnTo>
                    <a:lnTo>
                      <a:pt x="183" y="895"/>
                    </a:lnTo>
                    <a:lnTo>
                      <a:pt x="184" y="914"/>
                    </a:lnTo>
                    <a:lnTo>
                      <a:pt x="187" y="931"/>
                    </a:lnTo>
                    <a:lnTo>
                      <a:pt x="193" y="973"/>
                    </a:lnTo>
                    <a:lnTo>
                      <a:pt x="199" y="1006"/>
                    </a:lnTo>
                    <a:lnTo>
                      <a:pt x="202" y="1018"/>
                    </a:lnTo>
                    <a:lnTo>
                      <a:pt x="204" y="1029"/>
                    </a:lnTo>
                    <a:lnTo>
                      <a:pt x="208" y="1039"/>
                    </a:lnTo>
                    <a:lnTo>
                      <a:pt x="210" y="1045"/>
                    </a:lnTo>
                    <a:lnTo>
                      <a:pt x="214" y="1051"/>
                    </a:lnTo>
                    <a:lnTo>
                      <a:pt x="218" y="1055"/>
                    </a:lnTo>
                    <a:lnTo>
                      <a:pt x="221" y="1056"/>
                    </a:lnTo>
                    <a:lnTo>
                      <a:pt x="225" y="1056"/>
                    </a:lnTo>
                    <a:lnTo>
                      <a:pt x="229" y="1055"/>
                    </a:lnTo>
                    <a:lnTo>
                      <a:pt x="234" y="1051"/>
                    </a:lnTo>
                    <a:lnTo>
                      <a:pt x="239" y="1046"/>
                    </a:lnTo>
                    <a:lnTo>
                      <a:pt x="243" y="1042"/>
                    </a:lnTo>
                    <a:lnTo>
                      <a:pt x="271" y="1003"/>
                    </a:lnTo>
                    <a:lnTo>
                      <a:pt x="306" y="948"/>
                    </a:lnTo>
                    <a:lnTo>
                      <a:pt x="328" y="916"/>
                    </a:lnTo>
                    <a:lnTo>
                      <a:pt x="354" y="879"/>
                    </a:lnTo>
                    <a:lnTo>
                      <a:pt x="384" y="841"/>
                    </a:lnTo>
                    <a:lnTo>
                      <a:pt x="417" y="800"/>
                    </a:lnTo>
                    <a:lnTo>
                      <a:pt x="450" y="765"/>
                    </a:lnTo>
                    <a:lnTo>
                      <a:pt x="478" y="735"/>
                    </a:lnTo>
                    <a:lnTo>
                      <a:pt x="504" y="711"/>
                    </a:lnTo>
                    <a:lnTo>
                      <a:pt x="526" y="692"/>
                    </a:lnTo>
                    <a:lnTo>
                      <a:pt x="544" y="679"/>
                    </a:lnTo>
                    <a:lnTo>
                      <a:pt x="558" y="670"/>
                    </a:lnTo>
                    <a:lnTo>
                      <a:pt x="565" y="668"/>
                    </a:lnTo>
                    <a:lnTo>
                      <a:pt x="570" y="666"/>
                    </a:lnTo>
                    <a:lnTo>
                      <a:pt x="574" y="666"/>
                    </a:lnTo>
                    <a:lnTo>
                      <a:pt x="578" y="666"/>
                    </a:lnTo>
                    <a:lnTo>
                      <a:pt x="581" y="669"/>
                    </a:lnTo>
                    <a:lnTo>
                      <a:pt x="583" y="671"/>
                    </a:lnTo>
                    <a:lnTo>
                      <a:pt x="583" y="675"/>
                    </a:lnTo>
                    <a:lnTo>
                      <a:pt x="584" y="679"/>
                    </a:lnTo>
                    <a:lnTo>
                      <a:pt x="582" y="691"/>
                    </a:lnTo>
                    <a:lnTo>
                      <a:pt x="577" y="704"/>
                    </a:lnTo>
                    <a:lnTo>
                      <a:pt x="570" y="723"/>
                    </a:lnTo>
                    <a:lnTo>
                      <a:pt x="558" y="743"/>
                    </a:lnTo>
                    <a:lnTo>
                      <a:pt x="545" y="765"/>
                    </a:lnTo>
                    <a:lnTo>
                      <a:pt x="529" y="789"/>
                    </a:lnTo>
                    <a:lnTo>
                      <a:pt x="504" y="824"/>
                    </a:lnTo>
                    <a:lnTo>
                      <a:pt x="481" y="859"/>
                    </a:lnTo>
                    <a:lnTo>
                      <a:pt x="459" y="896"/>
                    </a:lnTo>
                    <a:lnTo>
                      <a:pt x="437" y="935"/>
                    </a:lnTo>
                    <a:lnTo>
                      <a:pt x="416" y="971"/>
                    </a:lnTo>
                    <a:lnTo>
                      <a:pt x="396" y="1010"/>
                    </a:lnTo>
                    <a:lnTo>
                      <a:pt x="378" y="1046"/>
                    </a:lnTo>
                    <a:lnTo>
                      <a:pt x="360" y="1082"/>
                    </a:lnTo>
                    <a:lnTo>
                      <a:pt x="346" y="1118"/>
                    </a:lnTo>
                    <a:lnTo>
                      <a:pt x="332" y="1151"/>
                    </a:lnTo>
                    <a:lnTo>
                      <a:pt x="321" y="1182"/>
                    </a:lnTo>
                    <a:lnTo>
                      <a:pt x="312" y="1210"/>
                    </a:lnTo>
                    <a:lnTo>
                      <a:pt x="306" y="1236"/>
                    </a:lnTo>
                    <a:lnTo>
                      <a:pt x="304" y="1258"/>
                    </a:lnTo>
                    <a:lnTo>
                      <a:pt x="303" y="1268"/>
                    </a:lnTo>
                    <a:lnTo>
                      <a:pt x="303" y="1278"/>
                    </a:lnTo>
                    <a:lnTo>
                      <a:pt x="304" y="1285"/>
                    </a:lnTo>
                    <a:lnTo>
                      <a:pt x="306" y="1292"/>
                    </a:lnTo>
                    <a:lnTo>
                      <a:pt x="309" y="1297"/>
                    </a:lnTo>
                    <a:lnTo>
                      <a:pt x="311" y="1302"/>
                    </a:lnTo>
                    <a:lnTo>
                      <a:pt x="315" y="1306"/>
                    </a:lnTo>
                    <a:lnTo>
                      <a:pt x="319" y="1308"/>
                    </a:lnTo>
                    <a:lnTo>
                      <a:pt x="322" y="1310"/>
                    </a:lnTo>
                    <a:lnTo>
                      <a:pt x="326" y="1310"/>
                    </a:lnTo>
                    <a:lnTo>
                      <a:pt x="331" y="1310"/>
                    </a:lnTo>
                    <a:lnTo>
                      <a:pt x="336" y="1310"/>
                    </a:lnTo>
                    <a:lnTo>
                      <a:pt x="344" y="1306"/>
                    </a:lnTo>
                    <a:lnTo>
                      <a:pt x="355" y="1301"/>
                    </a:lnTo>
                    <a:lnTo>
                      <a:pt x="367" y="1295"/>
                    </a:lnTo>
                    <a:lnTo>
                      <a:pt x="379" y="1288"/>
                    </a:lnTo>
                    <a:lnTo>
                      <a:pt x="391" y="1281"/>
                    </a:lnTo>
                    <a:lnTo>
                      <a:pt x="405" y="1274"/>
                    </a:lnTo>
                    <a:lnTo>
                      <a:pt x="418" y="1269"/>
                    </a:lnTo>
                    <a:lnTo>
                      <a:pt x="433" y="1264"/>
                    </a:lnTo>
                    <a:lnTo>
                      <a:pt x="439" y="1263"/>
                    </a:lnTo>
                    <a:lnTo>
                      <a:pt x="446" y="1263"/>
                    </a:lnTo>
                    <a:lnTo>
                      <a:pt x="454" y="1263"/>
                    </a:lnTo>
                    <a:lnTo>
                      <a:pt x="461" y="1264"/>
                    </a:lnTo>
                    <a:lnTo>
                      <a:pt x="469" y="1265"/>
                    </a:lnTo>
                    <a:lnTo>
                      <a:pt x="476" y="1268"/>
                    </a:lnTo>
                    <a:lnTo>
                      <a:pt x="483" y="1272"/>
                    </a:lnTo>
                    <a:lnTo>
                      <a:pt x="491" y="1276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7155000" y="3219480"/>
                <a:ext cx="171360" cy="576360"/>
              </a:xfrm>
              <a:custGeom>
                <a:avLst/>
                <a:gdLst/>
                <a:ahLst/>
                <a:rect l="l" t="t" r="r" b="b"/>
                <a:pathLst>
                  <a:path w="540" h="1813">
                    <a:moveTo>
                      <a:pt x="434" y="1285"/>
                    </a:moveTo>
                    <a:lnTo>
                      <a:pt x="442" y="1290"/>
                    </a:lnTo>
                    <a:lnTo>
                      <a:pt x="447" y="1296"/>
                    </a:lnTo>
                    <a:lnTo>
                      <a:pt x="452" y="1302"/>
                    </a:lnTo>
                    <a:lnTo>
                      <a:pt x="455" y="1308"/>
                    </a:lnTo>
                    <a:lnTo>
                      <a:pt x="458" y="1314"/>
                    </a:lnTo>
                    <a:lnTo>
                      <a:pt x="459" y="1322"/>
                    </a:lnTo>
                    <a:lnTo>
                      <a:pt x="459" y="1329"/>
                    </a:lnTo>
                    <a:lnTo>
                      <a:pt x="459" y="1338"/>
                    </a:lnTo>
                    <a:lnTo>
                      <a:pt x="457" y="1354"/>
                    </a:lnTo>
                    <a:lnTo>
                      <a:pt x="450" y="1371"/>
                    </a:lnTo>
                    <a:lnTo>
                      <a:pt x="442" y="1389"/>
                    </a:lnTo>
                    <a:lnTo>
                      <a:pt x="432" y="1408"/>
                    </a:lnTo>
                    <a:lnTo>
                      <a:pt x="407" y="1447"/>
                    </a:lnTo>
                    <a:lnTo>
                      <a:pt x="380" y="1487"/>
                    </a:lnTo>
                    <a:lnTo>
                      <a:pt x="355" y="1525"/>
                    </a:lnTo>
                    <a:lnTo>
                      <a:pt x="331" y="1559"/>
                    </a:lnTo>
                    <a:lnTo>
                      <a:pt x="315" y="1588"/>
                    </a:lnTo>
                    <a:lnTo>
                      <a:pt x="300" y="1616"/>
                    </a:lnTo>
                    <a:lnTo>
                      <a:pt x="284" y="1645"/>
                    </a:lnTo>
                    <a:lnTo>
                      <a:pt x="270" y="1676"/>
                    </a:lnTo>
                    <a:lnTo>
                      <a:pt x="255" y="1708"/>
                    </a:lnTo>
                    <a:lnTo>
                      <a:pt x="240" y="1740"/>
                    </a:lnTo>
                    <a:lnTo>
                      <a:pt x="227" y="1773"/>
                    </a:lnTo>
                    <a:lnTo>
                      <a:pt x="212" y="1806"/>
                    </a:lnTo>
                    <a:lnTo>
                      <a:pt x="207" y="1813"/>
                    </a:lnTo>
                    <a:lnTo>
                      <a:pt x="201" y="1811"/>
                    </a:lnTo>
                    <a:lnTo>
                      <a:pt x="193" y="1803"/>
                    </a:lnTo>
                    <a:lnTo>
                      <a:pt x="185" y="1789"/>
                    </a:lnTo>
                    <a:lnTo>
                      <a:pt x="175" y="1771"/>
                    </a:lnTo>
                    <a:lnTo>
                      <a:pt x="164" y="1747"/>
                    </a:lnTo>
                    <a:lnTo>
                      <a:pt x="152" y="1718"/>
                    </a:lnTo>
                    <a:lnTo>
                      <a:pt x="139" y="1685"/>
                    </a:lnTo>
                    <a:lnTo>
                      <a:pt x="127" y="1648"/>
                    </a:lnTo>
                    <a:lnTo>
                      <a:pt x="115" y="1607"/>
                    </a:lnTo>
                    <a:lnTo>
                      <a:pt x="101" y="1564"/>
                    </a:lnTo>
                    <a:lnTo>
                      <a:pt x="89" y="1516"/>
                    </a:lnTo>
                    <a:lnTo>
                      <a:pt x="75" y="1467"/>
                    </a:lnTo>
                    <a:lnTo>
                      <a:pt x="63" y="1417"/>
                    </a:lnTo>
                    <a:lnTo>
                      <a:pt x="52" y="1362"/>
                    </a:lnTo>
                    <a:lnTo>
                      <a:pt x="41" y="1308"/>
                    </a:lnTo>
                    <a:lnTo>
                      <a:pt x="31" y="1253"/>
                    </a:lnTo>
                    <a:lnTo>
                      <a:pt x="22" y="1196"/>
                    </a:lnTo>
                    <a:lnTo>
                      <a:pt x="15" y="1140"/>
                    </a:lnTo>
                    <a:lnTo>
                      <a:pt x="9" y="1083"/>
                    </a:lnTo>
                    <a:lnTo>
                      <a:pt x="4" y="1027"/>
                    </a:lnTo>
                    <a:lnTo>
                      <a:pt x="1" y="971"/>
                    </a:lnTo>
                    <a:lnTo>
                      <a:pt x="0" y="918"/>
                    </a:lnTo>
                    <a:lnTo>
                      <a:pt x="1" y="866"/>
                    </a:lnTo>
                    <a:lnTo>
                      <a:pt x="5" y="815"/>
                    </a:lnTo>
                    <a:lnTo>
                      <a:pt x="10" y="767"/>
                    </a:lnTo>
                    <a:lnTo>
                      <a:pt x="19" y="722"/>
                    </a:lnTo>
                    <a:lnTo>
                      <a:pt x="30" y="679"/>
                    </a:lnTo>
                    <a:lnTo>
                      <a:pt x="44" y="639"/>
                    </a:lnTo>
                    <a:lnTo>
                      <a:pt x="62" y="605"/>
                    </a:lnTo>
                    <a:lnTo>
                      <a:pt x="83" y="573"/>
                    </a:lnTo>
                    <a:lnTo>
                      <a:pt x="106" y="547"/>
                    </a:lnTo>
                    <a:lnTo>
                      <a:pt x="110" y="535"/>
                    </a:lnTo>
                    <a:lnTo>
                      <a:pt x="118" y="503"/>
                    </a:lnTo>
                    <a:lnTo>
                      <a:pt x="131" y="455"/>
                    </a:lnTo>
                    <a:lnTo>
                      <a:pt x="147" y="396"/>
                    </a:lnTo>
                    <a:lnTo>
                      <a:pt x="164" y="328"/>
                    </a:lnTo>
                    <a:lnTo>
                      <a:pt x="184" y="258"/>
                    </a:lnTo>
                    <a:lnTo>
                      <a:pt x="201" y="189"/>
                    </a:lnTo>
                    <a:lnTo>
                      <a:pt x="218" y="125"/>
                    </a:lnTo>
                    <a:lnTo>
                      <a:pt x="225" y="98"/>
                    </a:lnTo>
                    <a:lnTo>
                      <a:pt x="234" y="72"/>
                    </a:lnTo>
                    <a:lnTo>
                      <a:pt x="243" y="51"/>
                    </a:lnTo>
                    <a:lnTo>
                      <a:pt x="252" y="33"/>
                    </a:lnTo>
                    <a:lnTo>
                      <a:pt x="261" y="18"/>
                    </a:lnTo>
                    <a:lnTo>
                      <a:pt x="270" y="8"/>
                    </a:lnTo>
                    <a:lnTo>
                      <a:pt x="275" y="5"/>
                    </a:lnTo>
                    <a:lnTo>
                      <a:pt x="278" y="2"/>
                    </a:lnTo>
                    <a:lnTo>
                      <a:pt x="283" y="0"/>
                    </a:lnTo>
                    <a:lnTo>
                      <a:pt x="287" y="0"/>
                    </a:lnTo>
                    <a:lnTo>
                      <a:pt x="291" y="0"/>
                    </a:lnTo>
                    <a:lnTo>
                      <a:pt x="293" y="2"/>
                    </a:lnTo>
                    <a:lnTo>
                      <a:pt x="295" y="5"/>
                    </a:lnTo>
                    <a:lnTo>
                      <a:pt x="298" y="9"/>
                    </a:lnTo>
                    <a:lnTo>
                      <a:pt x="300" y="14"/>
                    </a:lnTo>
                    <a:lnTo>
                      <a:pt x="303" y="21"/>
                    </a:lnTo>
                    <a:lnTo>
                      <a:pt x="304" y="29"/>
                    </a:lnTo>
                    <a:lnTo>
                      <a:pt x="304" y="38"/>
                    </a:lnTo>
                    <a:lnTo>
                      <a:pt x="304" y="60"/>
                    </a:lnTo>
                    <a:lnTo>
                      <a:pt x="302" y="88"/>
                    </a:lnTo>
                    <a:lnTo>
                      <a:pt x="297" y="121"/>
                    </a:lnTo>
                    <a:lnTo>
                      <a:pt x="288" y="161"/>
                    </a:lnTo>
                    <a:lnTo>
                      <a:pt x="266" y="249"/>
                    </a:lnTo>
                    <a:lnTo>
                      <a:pt x="244" y="346"/>
                    </a:lnTo>
                    <a:lnTo>
                      <a:pt x="220" y="447"/>
                    </a:lnTo>
                    <a:lnTo>
                      <a:pt x="201" y="549"/>
                    </a:lnTo>
                    <a:lnTo>
                      <a:pt x="191" y="601"/>
                    </a:lnTo>
                    <a:lnTo>
                      <a:pt x="184" y="651"/>
                    </a:lnTo>
                    <a:lnTo>
                      <a:pt x="176" y="699"/>
                    </a:lnTo>
                    <a:lnTo>
                      <a:pt x="171" y="746"/>
                    </a:lnTo>
                    <a:lnTo>
                      <a:pt x="169" y="792"/>
                    </a:lnTo>
                    <a:lnTo>
                      <a:pt x="168" y="835"/>
                    </a:lnTo>
                    <a:lnTo>
                      <a:pt x="168" y="854"/>
                    </a:lnTo>
                    <a:lnTo>
                      <a:pt x="168" y="874"/>
                    </a:lnTo>
                    <a:lnTo>
                      <a:pt x="170" y="893"/>
                    </a:lnTo>
                    <a:lnTo>
                      <a:pt x="171" y="911"/>
                    </a:lnTo>
                    <a:lnTo>
                      <a:pt x="179" y="955"/>
                    </a:lnTo>
                    <a:lnTo>
                      <a:pt x="185" y="991"/>
                    </a:lnTo>
                    <a:lnTo>
                      <a:pt x="190" y="1018"/>
                    </a:lnTo>
                    <a:lnTo>
                      <a:pt x="196" y="1035"/>
                    </a:lnTo>
                    <a:lnTo>
                      <a:pt x="200" y="1041"/>
                    </a:lnTo>
                    <a:lnTo>
                      <a:pt x="203" y="1046"/>
                    </a:lnTo>
                    <a:lnTo>
                      <a:pt x="207" y="1049"/>
                    </a:lnTo>
                    <a:lnTo>
                      <a:pt x="211" y="1049"/>
                    </a:lnTo>
                    <a:lnTo>
                      <a:pt x="214" y="1048"/>
                    </a:lnTo>
                    <a:lnTo>
                      <a:pt x="219" y="1045"/>
                    </a:lnTo>
                    <a:lnTo>
                      <a:pt x="224" y="1041"/>
                    </a:lnTo>
                    <a:lnTo>
                      <a:pt x="229" y="1035"/>
                    </a:lnTo>
                    <a:lnTo>
                      <a:pt x="255" y="998"/>
                    </a:lnTo>
                    <a:lnTo>
                      <a:pt x="292" y="942"/>
                    </a:lnTo>
                    <a:lnTo>
                      <a:pt x="314" y="909"/>
                    </a:lnTo>
                    <a:lnTo>
                      <a:pt x="340" y="872"/>
                    </a:lnTo>
                    <a:lnTo>
                      <a:pt x="371" y="832"/>
                    </a:lnTo>
                    <a:lnTo>
                      <a:pt x="405" y="790"/>
                    </a:lnTo>
                    <a:lnTo>
                      <a:pt x="437" y="756"/>
                    </a:lnTo>
                    <a:lnTo>
                      <a:pt x="464" y="727"/>
                    </a:lnTo>
                    <a:lnTo>
                      <a:pt x="487" y="704"/>
                    </a:lnTo>
                    <a:lnTo>
                      <a:pt x="506" y="687"/>
                    </a:lnTo>
                    <a:lnTo>
                      <a:pt x="521" y="675"/>
                    </a:lnTo>
                    <a:lnTo>
                      <a:pt x="530" y="669"/>
                    </a:lnTo>
                    <a:lnTo>
                      <a:pt x="534" y="667"/>
                    </a:lnTo>
                    <a:lnTo>
                      <a:pt x="537" y="666"/>
                    </a:lnTo>
                    <a:lnTo>
                      <a:pt x="539" y="667"/>
                    </a:lnTo>
                    <a:lnTo>
                      <a:pt x="540" y="669"/>
                    </a:lnTo>
                    <a:lnTo>
                      <a:pt x="540" y="674"/>
                    </a:lnTo>
                    <a:lnTo>
                      <a:pt x="538" y="683"/>
                    </a:lnTo>
                    <a:lnTo>
                      <a:pt x="532" y="696"/>
                    </a:lnTo>
                    <a:lnTo>
                      <a:pt x="524" y="711"/>
                    </a:lnTo>
                    <a:lnTo>
                      <a:pt x="513" y="728"/>
                    </a:lnTo>
                    <a:lnTo>
                      <a:pt x="501" y="746"/>
                    </a:lnTo>
                    <a:lnTo>
                      <a:pt x="486" y="767"/>
                    </a:lnTo>
                    <a:lnTo>
                      <a:pt x="470" y="788"/>
                    </a:lnTo>
                    <a:lnTo>
                      <a:pt x="446" y="822"/>
                    </a:lnTo>
                    <a:lnTo>
                      <a:pt x="422" y="857"/>
                    </a:lnTo>
                    <a:lnTo>
                      <a:pt x="400" y="893"/>
                    </a:lnTo>
                    <a:lnTo>
                      <a:pt x="380" y="928"/>
                    </a:lnTo>
                    <a:lnTo>
                      <a:pt x="362" y="964"/>
                    </a:lnTo>
                    <a:lnTo>
                      <a:pt x="346" y="1000"/>
                    </a:lnTo>
                    <a:lnTo>
                      <a:pt x="331" y="1035"/>
                    </a:lnTo>
                    <a:lnTo>
                      <a:pt x="318" y="1068"/>
                    </a:lnTo>
                    <a:lnTo>
                      <a:pt x="307" y="1102"/>
                    </a:lnTo>
                    <a:lnTo>
                      <a:pt x="298" y="1132"/>
                    </a:lnTo>
                    <a:lnTo>
                      <a:pt x="291" y="1162"/>
                    </a:lnTo>
                    <a:lnTo>
                      <a:pt x="286" y="1189"/>
                    </a:lnTo>
                    <a:lnTo>
                      <a:pt x="283" y="1214"/>
                    </a:lnTo>
                    <a:lnTo>
                      <a:pt x="283" y="1235"/>
                    </a:lnTo>
                    <a:lnTo>
                      <a:pt x="283" y="1243"/>
                    </a:lnTo>
                    <a:lnTo>
                      <a:pt x="284" y="1252"/>
                    </a:lnTo>
                    <a:lnTo>
                      <a:pt x="286" y="1260"/>
                    </a:lnTo>
                    <a:lnTo>
                      <a:pt x="288" y="1266"/>
                    </a:lnTo>
                    <a:lnTo>
                      <a:pt x="293" y="1276"/>
                    </a:lnTo>
                    <a:lnTo>
                      <a:pt x="298" y="1284"/>
                    </a:lnTo>
                    <a:lnTo>
                      <a:pt x="304" y="1287"/>
                    </a:lnTo>
                    <a:lnTo>
                      <a:pt x="310" y="1290"/>
                    </a:lnTo>
                    <a:lnTo>
                      <a:pt x="318" y="1290"/>
                    </a:lnTo>
                    <a:lnTo>
                      <a:pt x="325" y="1287"/>
                    </a:lnTo>
                    <a:lnTo>
                      <a:pt x="332" y="1285"/>
                    </a:lnTo>
                    <a:lnTo>
                      <a:pt x="341" y="1281"/>
                    </a:lnTo>
                    <a:lnTo>
                      <a:pt x="351" y="1278"/>
                    </a:lnTo>
                    <a:lnTo>
                      <a:pt x="361" y="1274"/>
                    </a:lnTo>
                    <a:lnTo>
                      <a:pt x="371" y="1271"/>
                    </a:lnTo>
                    <a:lnTo>
                      <a:pt x="382" y="1270"/>
                    </a:lnTo>
                    <a:lnTo>
                      <a:pt x="394" y="1270"/>
                    </a:lnTo>
                    <a:lnTo>
                      <a:pt x="407" y="1273"/>
                    </a:lnTo>
                    <a:lnTo>
                      <a:pt x="421" y="1278"/>
                    </a:lnTo>
                    <a:lnTo>
                      <a:pt x="434" y="1285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7153200" y="3237120"/>
                <a:ext cx="160560" cy="558720"/>
              </a:xfrm>
              <a:custGeom>
                <a:avLst/>
                <a:gdLst/>
                <a:ahLst/>
                <a:rect l="l" t="t" r="r" b="b"/>
                <a:pathLst>
                  <a:path w="507" h="1759">
                    <a:moveTo>
                      <a:pt x="107" y="531"/>
                    </a:moveTo>
                    <a:lnTo>
                      <a:pt x="111" y="520"/>
                    </a:lnTo>
                    <a:lnTo>
                      <a:pt x="122" y="490"/>
                    </a:lnTo>
                    <a:lnTo>
                      <a:pt x="138" y="445"/>
                    </a:lnTo>
                    <a:lnTo>
                      <a:pt x="156" y="388"/>
                    </a:lnTo>
                    <a:lnTo>
                      <a:pt x="178" y="324"/>
                    </a:lnTo>
                    <a:lnTo>
                      <a:pt x="199" y="258"/>
                    </a:lnTo>
                    <a:lnTo>
                      <a:pt x="220" y="192"/>
                    </a:lnTo>
                    <a:lnTo>
                      <a:pt x="237" y="129"/>
                    </a:lnTo>
                    <a:lnTo>
                      <a:pt x="251" y="75"/>
                    </a:lnTo>
                    <a:lnTo>
                      <a:pt x="263" y="35"/>
                    </a:lnTo>
                    <a:lnTo>
                      <a:pt x="268" y="21"/>
                    </a:lnTo>
                    <a:lnTo>
                      <a:pt x="273" y="10"/>
                    </a:lnTo>
                    <a:lnTo>
                      <a:pt x="277" y="2"/>
                    </a:lnTo>
                    <a:lnTo>
                      <a:pt x="281" y="0"/>
                    </a:lnTo>
                    <a:lnTo>
                      <a:pt x="282" y="0"/>
                    </a:lnTo>
                    <a:lnTo>
                      <a:pt x="282" y="1"/>
                    </a:lnTo>
                    <a:lnTo>
                      <a:pt x="283" y="3"/>
                    </a:lnTo>
                    <a:lnTo>
                      <a:pt x="283" y="7"/>
                    </a:lnTo>
                    <a:lnTo>
                      <a:pt x="282" y="19"/>
                    </a:lnTo>
                    <a:lnTo>
                      <a:pt x="281" y="35"/>
                    </a:lnTo>
                    <a:lnTo>
                      <a:pt x="272" y="85"/>
                    </a:lnTo>
                    <a:lnTo>
                      <a:pt x="256" y="156"/>
                    </a:lnTo>
                    <a:lnTo>
                      <a:pt x="236" y="243"/>
                    </a:lnTo>
                    <a:lnTo>
                      <a:pt x="215" y="338"/>
                    </a:lnTo>
                    <a:lnTo>
                      <a:pt x="196" y="436"/>
                    </a:lnTo>
                    <a:lnTo>
                      <a:pt x="177" y="536"/>
                    </a:lnTo>
                    <a:lnTo>
                      <a:pt x="170" y="585"/>
                    </a:lnTo>
                    <a:lnTo>
                      <a:pt x="164" y="634"/>
                    </a:lnTo>
                    <a:lnTo>
                      <a:pt x="159" y="681"/>
                    </a:lnTo>
                    <a:lnTo>
                      <a:pt x="155" y="727"/>
                    </a:lnTo>
                    <a:lnTo>
                      <a:pt x="153" y="771"/>
                    </a:lnTo>
                    <a:lnTo>
                      <a:pt x="153" y="812"/>
                    </a:lnTo>
                    <a:lnTo>
                      <a:pt x="154" y="851"/>
                    </a:lnTo>
                    <a:lnTo>
                      <a:pt x="159" y="887"/>
                    </a:lnTo>
                    <a:lnTo>
                      <a:pt x="166" y="936"/>
                    </a:lnTo>
                    <a:lnTo>
                      <a:pt x="172" y="975"/>
                    </a:lnTo>
                    <a:lnTo>
                      <a:pt x="178" y="1005"/>
                    </a:lnTo>
                    <a:lnTo>
                      <a:pt x="185" y="1024"/>
                    </a:lnTo>
                    <a:lnTo>
                      <a:pt x="188" y="1032"/>
                    </a:lnTo>
                    <a:lnTo>
                      <a:pt x="191" y="1037"/>
                    </a:lnTo>
                    <a:lnTo>
                      <a:pt x="194" y="1040"/>
                    </a:lnTo>
                    <a:lnTo>
                      <a:pt x="198" y="1042"/>
                    </a:lnTo>
                    <a:lnTo>
                      <a:pt x="203" y="1040"/>
                    </a:lnTo>
                    <a:lnTo>
                      <a:pt x="207" y="1038"/>
                    </a:lnTo>
                    <a:lnTo>
                      <a:pt x="212" y="1034"/>
                    </a:lnTo>
                    <a:lnTo>
                      <a:pt x="218" y="1028"/>
                    </a:lnTo>
                    <a:lnTo>
                      <a:pt x="244" y="991"/>
                    </a:lnTo>
                    <a:lnTo>
                      <a:pt x="279" y="936"/>
                    </a:lnTo>
                    <a:lnTo>
                      <a:pt x="303" y="901"/>
                    </a:lnTo>
                    <a:lnTo>
                      <a:pt x="330" y="864"/>
                    </a:lnTo>
                    <a:lnTo>
                      <a:pt x="359" y="825"/>
                    </a:lnTo>
                    <a:lnTo>
                      <a:pt x="395" y="783"/>
                    </a:lnTo>
                    <a:lnTo>
                      <a:pt x="452" y="719"/>
                    </a:lnTo>
                    <a:lnTo>
                      <a:pt x="487" y="682"/>
                    </a:lnTo>
                    <a:lnTo>
                      <a:pt x="498" y="673"/>
                    </a:lnTo>
                    <a:lnTo>
                      <a:pt x="504" y="668"/>
                    </a:lnTo>
                    <a:lnTo>
                      <a:pt x="507" y="666"/>
                    </a:lnTo>
                    <a:lnTo>
                      <a:pt x="507" y="666"/>
                    </a:lnTo>
                    <a:lnTo>
                      <a:pt x="507" y="669"/>
                    </a:lnTo>
                    <a:lnTo>
                      <a:pt x="506" y="671"/>
                    </a:lnTo>
                    <a:lnTo>
                      <a:pt x="495" y="689"/>
                    </a:lnTo>
                    <a:lnTo>
                      <a:pt x="474" y="717"/>
                    </a:lnTo>
                    <a:lnTo>
                      <a:pt x="445" y="751"/>
                    </a:lnTo>
                    <a:lnTo>
                      <a:pt x="413" y="788"/>
                    </a:lnTo>
                    <a:lnTo>
                      <a:pt x="400" y="804"/>
                    </a:lnTo>
                    <a:lnTo>
                      <a:pt x="388" y="821"/>
                    </a:lnTo>
                    <a:lnTo>
                      <a:pt x="375" y="837"/>
                    </a:lnTo>
                    <a:lnTo>
                      <a:pt x="364" y="853"/>
                    </a:lnTo>
                    <a:lnTo>
                      <a:pt x="343" y="888"/>
                    </a:lnTo>
                    <a:lnTo>
                      <a:pt x="326" y="921"/>
                    </a:lnTo>
                    <a:lnTo>
                      <a:pt x="310" y="955"/>
                    </a:lnTo>
                    <a:lnTo>
                      <a:pt x="297" y="989"/>
                    </a:lnTo>
                    <a:lnTo>
                      <a:pt x="285" y="1022"/>
                    </a:lnTo>
                    <a:lnTo>
                      <a:pt x="277" y="1054"/>
                    </a:lnTo>
                    <a:lnTo>
                      <a:pt x="269" y="1085"/>
                    </a:lnTo>
                    <a:lnTo>
                      <a:pt x="265" y="1114"/>
                    </a:lnTo>
                    <a:lnTo>
                      <a:pt x="262" y="1142"/>
                    </a:lnTo>
                    <a:lnTo>
                      <a:pt x="260" y="1167"/>
                    </a:lnTo>
                    <a:lnTo>
                      <a:pt x="261" y="1190"/>
                    </a:lnTo>
                    <a:lnTo>
                      <a:pt x="262" y="1211"/>
                    </a:lnTo>
                    <a:lnTo>
                      <a:pt x="266" y="1228"/>
                    </a:lnTo>
                    <a:lnTo>
                      <a:pt x="269" y="1242"/>
                    </a:lnTo>
                    <a:lnTo>
                      <a:pt x="274" y="1253"/>
                    </a:lnTo>
                    <a:lnTo>
                      <a:pt x="279" y="1260"/>
                    </a:lnTo>
                    <a:lnTo>
                      <a:pt x="283" y="1267"/>
                    </a:lnTo>
                    <a:lnTo>
                      <a:pt x="288" y="1270"/>
                    </a:lnTo>
                    <a:lnTo>
                      <a:pt x="292" y="1273"/>
                    </a:lnTo>
                    <a:lnTo>
                      <a:pt x="297" y="1274"/>
                    </a:lnTo>
                    <a:lnTo>
                      <a:pt x="301" y="1274"/>
                    </a:lnTo>
                    <a:lnTo>
                      <a:pt x="306" y="1273"/>
                    </a:lnTo>
                    <a:lnTo>
                      <a:pt x="319" y="1272"/>
                    </a:lnTo>
                    <a:lnTo>
                      <a:pt x="335" y="1273"/>
                    </a:lnTo>
                    <a:lnTo>
                      <a:pt x="343" y="1275"/>
                    </a:lnTo>
                    <a:lnTo>
                      <a:pt x="354" y="1279"/>
                    </a:lnTo>
                    <a:lnTo>
                      <a:pt x="367" y="1285"/>
                    </a:lnTo>
                    <a:lnTo>
                      <a:pt x="381" y="1294"/>
                    </a:lnTo>
                    <a:lnTo>
                      <a:pt x="388" y="1299"/>
                    </a:lnTo>
                    <a:lnTo>
                      <a:pt x="394" y="1305"/>
                    </a:lnTo>
                    <a:lnTo>
                      <a:pt x="397" y="1311"/>
                    </a:lnTo>
                    <a:lnTo>
                      <a:pt x="401" y="1318"/>
                    </a:lnTo>
                    <a:lnTo>
                      <a:pt x="404" y="1326"/>
                    </a:lnTo>
                    <a:lnTo>
                      <a:pt x="404" y="1334"/>
                    </a:lnTo>
                    <a:lnTo>
                      <a:pt x="405" y="1343"/>
                    </a:lnTo>
                    <a:lnTo>
                      <a:pt x="404" y="1351"/>
                    </a:lnTo>
                    <a:lnTo>
                      <a:pt x="400" y="1370"/>
                    </a:lnTo>
                    <a:lnTo>
                      <a:pt x="394" y="1391"/>
                    </a:lnTo>
                    <a:lnTo>
                      <a:pt x="385" y="1412"/>
                    </a:lnTo>
                    <a:lnTo>
                      <a:pt x="374" y="1433"/>
                    </a:lnTo>
                    <a:lnTo>
                      <a:pt x="349" y="1476"/>
                    </a:lnTo>
                    <a:lnTo>
                      <a:pt x="324" y="1516"/>
                    </a:lnTo>
                    <a:lnTo>
                      <a:pt x="300" y="1553"/>
                    </a:lnTo>
                    <a:lnTo>
                      <a:pt x="283" y="1581"/>
                    </a:lnTo>
                    <a:lnTo>
                      <a:pt x="276" y="1597"/>
                    </a:lnTo>
                    <a:lnTo>
                      <a:pt x="269" y="1613"/>
                    </a:lnTo>
                    <a:lnTo>
                      <a:pt x="263" y="1631"/>
                    </a:lnTo>
                    <a:lnTo>
                      <a:pt x="257" y="1649"/>
                    </a:lnTo>
                    <a:lnTo>
                      <a:pt x="250" y="1670"/>
                    </a:lnTo>
                    <a:lnTo>
                      <a:pt x="241" y="1693"/>
                    </a:lnTo>
                    <a:lnTo>
                      <a:pt x="231" y="1720"/>
                    </a:lnTo>
                    <a:lnTo>
                      <a:pt x="218" y="1752"/>
                    </a:lnTo>
                    <a:lnTo>
                      <a:pt x="213" y="1759"/>
                    </a:lnTo>
                    <a:lnTo>
                      <a:pt x="207" y="1757"/>
                    </a:lnTo>
                    <a:lnTo>
                      <a:pt x="199" y="1750"/>
                    </a:lnTo>
                    <a:lnTo>
                      <a:pt x="191" y="1738"/>
                    </a:lnTo>
                    <a:lnTo>
                      <a:pt x="180" y="1719"/>
                    </a:lnTo>
                    <a:lnTo>
                      <a:pt x="169" y="1697"/>
                    </a:lnTo>
                    <a:lnTo>
                      <a:pt x="158" y="1669"/>
                    </a:lnTo>
                    <a:lnTo>
                      <a:pt x="144" y="1637"/>
                    </a:lnTo>
                    <a:lnTo>
                      <a:pt x="132" y="1601"/>
                    </a:lnTo>
                    <a:lnTo>
                      <a:pt x="118" y="1562"/>
                    </a:lnTo>
                    <a:lnTo>
                      <a:pt x="105" y="1520"/>
                    </a:lnTo>
                    <a:lnTo>
                      <a:pt x="92" y="1474"/>
                    </a:lnTo>
                    <a:lnTo>
                      <a:pt x="79" y="1428"/>
                    </a:lnTo>
                    <a:lnTo>
                      <a:pt x="66" y="1377"/>
                    </a:lnTo>
                    <a:lnTo>
                      <a:pt x="54" y="1326"/>
                    </a:lnTo>
                    <a:lnTo>
                      <a:pt x="43" y="1273"/>
                    </a:lnTo>
                    <a:lnTo>
                      <a:pt x="33" y="1220"/>
                    </a:lnTo>
                    <a:lnTo>
                      <a:pt x="23" y="1165"/>
                    </a:lnTo>
                    <a:lnTo>
                      <a:pt x="16" y="1110"/>
                    </a:lnTo>
                    <a:lnTo>
                      <a:pt x="10" y="1055"/>
                    </a:lnTo>
                    <a:lnTo>
                      <a:pt x="5" y="1001"/>
                    </a:lnTo>
                    <a:lnTo>
                      <a:pt x="1" y="947"/>
                    </a:lnTo>
                    <a:lnTo>
                      <a:pt x="0" y="894"/>
                    </a:lnTo>
                    <a:lnTo>
                      <a:pt x="1" y="843"/>
                    </a:lnTo>
                    <a:lnTo>
                      <a:pt x="5" y="794"/>
                    </a:lnTo>
                    <a:lnTo>
                      <a:pt x="11" y="748"/>
                    </a:lnTo>
                    <a:lnTo>
                      <a:pt x="19" y="702"/>
                    </a:lnTo>
                    <a:lnTo>
                      <a:pt x="31" y="661"/>
                    </a:lnTo>
                    <a:lnTo>
                      <a:pt x="44" y="622"/>
                    </a:lnTo>
                    <a:lnTo>
                      <a:pt x="62" y="588"/>
                    </a:lnTo>
                    <a:lnTo>
                      <a:pt x="82" y="557"/>
                    </a:lnTo>
                    <a:lnTo>
                      <a:pt x="107" y="53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6878520" y="3294000"/>
                <a:ext cx="357480" cy="1168560"/>
              </a:xfrm>
              <a:custGeom>
                <a:avLst/>
                <a:gdLst/>
                <a:ahLst/>
                <a:rect l="l" t="t" r="r" b="b"/>
                <a:pathLst>
                  <a:path w="1124" h="3683">
                    <a:moveTo>
                      <a:pt x="1120" y="1652"/>
                    </a:moveTo>
                    <a:lnTo>
                      <a:pt x="1119" y="1629"/>
                    </a:lnTo>
                    <a:lnTo>
                      <a:pt x="1115" y="1565"/>
                    </a:lnTo>
                    <a:lnTo>
                      <a:pt x="1109" y="1471"/>
                    </a:lnTo>
                    <a:lnTo>
                      <a:pt x="1099" y="1358"/>
                    </a:lnTo>
                    <a:lnTo>
                      <a:pt x="1094" y="1297"/>
                    </a:lnTo>
                    <a:lnTo>
                      <a:pt x="1087" y="1234"/>
                    </a:lnTo>
                    <a:lnTo>
                      <a:pt x="1079" y="1171"/>
                    </a:lnTo>
                    <a:lnTo>
                      <a:pt x="1071" y="1111"/>
                    </a:lnTo>
                    <a:lnTo>
                      <a:pt x="1062" y="1052"/>
                    </a:lnTo>
                    <a:lnTo>
                      <a:pt x="1051" y="998"/>
                    </a:lnTo>
                    <a:lnTo>
                      <a:pt x="1046" y="972"/>
                    </a:lnTo>
                    <a:lnTo>
                      <a:pt x="1040" y="949"/>
                    </a:lnTo>
                    <a:lnTo>
                      <a:pt x="1034" y="926"/>
                    </a:lnTo>
                    <a:lnTo>
                      <a:pt x="1028" y="906"/>
                    </a:lnTo>
                    <a:lnTo>
                      <a:pt x="1017" y="865"/>
                    </a:lnTo>
                    <a:lnTo>
                      <a:pt x="1006" y="823"/>
                    </a:lnTo>
                    <a:lnTo>
                      <a:pt x="996" y="779"/>
                    </a:lnTo>
                    <a:lnTo>
                      <a:pt x="987" y="733"/>
                    </a:lnTo>
                    <a:lnTo>
                      <a:pt x="980" y="687"/>
                    </a:lnTo>
                    <a:lnTo>
                      <a:pt x="972" y="639"/>
                    </a:lnTo>
                    <a:lnTo>
                      <a:pt x="967" y="591"/>
                    </a:lnTo>
                    <a:lnTo>
                      <a:pt x="964" y="544"/>
                    </a:lnTo>
                    <a:lnTo>
                      <a:pt x="960" y="496"/>
                    </a:lnTo>
                    <a:lnTo>
                      <a:pt x="959" y="449"/>
                    </a:lnTo>
                    <a:lnTo>
                      <a:pt x="958" y="403"/>
                    </a:lnTo>
                    <a:lnTo>
                      <a:pt x="959" y="358"/>
                    </a:lnTo>
                    <a:lnTo>
                      <a:pt x="961" y="315"/>
                    </a:lnTo>
                    <a:lnTo>
                      <a:pt x="965" y="275"/>
                    </a:lnTo>
                    <a:lnTo>
                      <a:pt x="970" y="235"/>
                    </a:lnTo>
                    <a:lnTo>
                      <a:pt x="976" y="200"/>
                    </a:lnTo>
                    <a:lnTo>
                      <a:pt x="980" y="182"/>
                    </a:lnTo>
                    <a:lnTo>
                      <a:pt x="981" y="165"/>
                    </a:lnTo>
                    <a:lnTo>
                      <a:pt x="982" y="148"/>
                    </a:lnTo>
                    <a:lnTo>
                      <a:pt x="982" y="132"/>
                    </a:lnTo>
                    <a:lnTo>
                      <a:pt x="981" y="116"/>
                    </a:lnTo>
                    <a:lnTo>
                      <a:pt x="978" y="101"/>
                    </a:lnTo>
                    <a:lnTo>
                      <a:pt x="976" y="86"/>
                    </a:lnTo>
                    <a:lnTo>
                      <a:pt x="972" y="73"/>
                    </a:lnTo>
                    <a:lnTo>
                      <a:pt x="967" y="59"/>
                    </a:lnTo>
                    <a:lnTo>
                      <a:pt x="962" y="48"/>
                    </a:lnTo>
                    <a:lnTo>
                      <a:pt x="958" y="37"/>
                    </a:lnTo>
                    <a:lnTo>
                      <a:pt x="950" y="27"/>
                    </a:lnTo>
                    <a:lnTo>
                      <a:pt x="944" y="19"/>
                    </a:lnTo>
                    <a:lnTo>
                      <a:pt x="937" y="13"/>
                    </a:lnTo>
                    <a:lnTo>
                      <a:pt x="929" y="6"/>
                    </a:lnTo>
                    <a:lnTo>
                      <a:pt x="921" y="3"/>
                    </a:lnTo>
                    <a:lnTo>
                      <a:pt x="913" y="0"/>
                    </a:lnTo>
                    <a:lnTo>
                      <a:pt x="905" y="0"/>
                    </a:lnTo>
                    <a:lnTo>
                      <a:pt x="896" y="2"/>
                    </a:lnTo>
                    <a:lnTo>
                      <a:pt x="887" y="5"/>
                    </a:lnTo>
                    <a:lnTo>
                      <a:pt x="879" y="11"/>
                    </a:lnTo>
                    <a:lnTo>
                      <a:pt x="871" y="19"/>
                    </a:lnTo>
                    <a:lnTo>
                      <a:pt x="863" y="29"/>
                    </a:lnTo>
                    <a:lnTo>
                      <a:pt x="854" y="42"/>
                    </a:lnTo>
                    <a:lnTo>
                      <a:pt x="847" y="57"/>
                    </a:lnTo>
                    <a:lnTo>
                      <a:pt x="839" y="74"/>
                    </a:lnTo>
                    <a:lnTo>
                      <a:pt x="832" y="95"/>
                    </a:lnTo>
                    <a:lnTo>
                      <a:pt x="826" y="118"/>
                    </a:lnTo>
                    <a:lnTo>
                      <a:pt x="820" y="144"/>
                    </a:lnTo>
                    <a:lnTo>
                      <a:pt x="814" y="172"/>
                    </a:lnTo>
                    <a:lnTo>
                      <a:pt x="809" y="204"/>
                    </a:lnTo>
                    <a:lnTo>
                      <a:pt x="805" y="240"/>
                    </a:lnTo>
                    <a:lnTo>
                      <a:pt x="801" y="277"/>
                    </a:lnTo>
                    <a:lnTo>
                      <a:pt x="799" y="316"/>
                    </a:lnTo>
                    <a:lnTo>
                      <a:pt x="796" y="358"/>
                    </a:lnTo>
                    <a:lnTo>
                      <a:pt x="795" y="401"/>
                    </a:lnTo>
                    <a:lnTo>
                      <a:pt x="793" y="491"/>
                    </a:lnTo>
                    <a:lnTo>
                      <a:pt x="793" y="585"/>
                    </a:lnTo>
                    <a:lnTo>
                      <a:pt x="794" y="783"/>
                    </a:lnTo>
                    <a:lnTo>
                      <a:pt x="798" y="982"/>
                    </a:lnTo>
                    <a:lnTo>
                      <a:pt x="800" y="1080"/>
                    </a:lnTo>
                    <a:lnTo>
                      <a:pt x="801" y="1176"/>
                    </a:lnTo>
                    <a:lnTo>
                      <a:pt x="801" y="1267"/>
                    </a:lnTo>
                    <a:lnTo>
                      <a:pt x="801" y="1352"/>
                    </a:lnTo>
                    <a:lnTo>
                      <a:pt x="799" y="1431"/>
                    </a:lnTo>
                    <a:lnTo>
                      <a:pt x="795" y="1502"/>
                    </a:lnTo>
                    <a:lnTo>
                      <a:pt x="793" y="1534"/>
                    </a:lnTo>
                    <a:lnTo>
                      <a:pt x="789" y="1564"/>
                    </a:lnTo>
                    <a:lnTo>
                      <a:pt x="785" y="1591"/>
                    </a:lnTo>
                    <a:lnTo>
                      <a:pt x="780" y="1614"/>
                    </a:lnTo>
                    <a:lnTo>
                      <a:pt x="772" y="1648"/>
                    </a:lnTo>
                    <a:lnTo>
                      <a:pt x="761" y="1683"/>
                    </a:lnTo>
                    <a:lnTo>
                      <a:pt x="747" y="1717"/>
                    </a:lnTo>
                    <a:lnTo>
                      <a:pt x="731" y="1752"/>
                    </a:lnTo>
                    <a:lnTo>
                      <a:pt x="713" y="1786"/>
                    </a:lnTo>
                    <a:lnTo>
                      <a:pt x="693" y="1821"/>
                    </a:lnTo>
                    <a:lnTo>
                      <a:pt x="672" y="1855"/>
                    </a:lnTo>
                    <a:lnTo>
                      <a:pt x="649" y="1891"/>
                    </a:lnTo>
                    <a:lnTo>
                      <a:pt x="598" y="1962"/>
                    </a:lnTo>
                    <a:lnTo>
                      <a:pt x="543" y="2036"/>
                    </a:lnTo>
                    <a:lnTo>
                      <a:pt x="485" y="2112"/>
                    </a:lnTo>
                    <a:lnTo>
                      <a:pt x="425" y="2192"/>
                    </a:lnTo>
                    <a:lnTo>
                      <a:pt x="394" y="2234"/>
                    </a:lnTo>
                    <a:lnTo>
                      <a:pt x="363" y="2276"/>
                    </a:lnTo>
                    <a:lnTo>
                      <a:pt x="333" y="2319"/>
                    </a:lnTo>
                    <a:lnTo>
                      <a:pt x="302" y="2364"/>
                    </a:lnTo>
                    <a:lnTo>
                      <a:pt x="272" y="2410"/>
                    </a:lnTo>
                    <a:lnTo>
                      <a:pt x="243" y="2457"/>
                    </a:lnTo>
                    <a:lnTo>
                      <a:pt x="214" y="2506"/>
                    </a:lnTo>
                    <a:lnTo>
                      <a:pt x="187" y="2555"/>
                    </a:lnTo>
                    <a:lnTo>
                      <a:pt x="160" y="2607"/>
                    </a:lnTo>
                    <a:lnTo>
                      <a:pt x="136" y="2660"/>
                    </a:lnTo>
                    <a:lnTo>
                      <a:pt x="111" y="2715"/>
                    </a:lnTo>
                    <a:lnTo>
                      <a:pt x="89" y="2771"/>
                    </a:lnTo>
                    <a:lnTo>
                      <a:pt x="68" y="2829"/>
                    </a:lnTo>
                    <a:lnTo>
                      <a:pt x="48" y="2890"/>
                    </a:lnTo>
                    <a:lnTo>
                      <a:pt x="32" y="2952"/>
                    </a:lnTo>
                    <a:lnTo>
                      <a:pt x="18" y="3016"/>
                    </a:lnTo>
                    <a:lnTo>
                      <a:pt x="7" y="3080"/>
                    </a:lnTo>
                    <a:lnTo>
                      <a:pt x="0" y="3143"/>
                    </a:lnTo>
                    <a:lnTo>
                      <a:pt x="0" y="3203"/>
                    </a:lnTo>
                    <a:lnTo>
                      <a:pt x="4" y="3261"/>
                    </a:lnTo>
                    <a:lnTo>
                      <a:pt x="13" y="3315"/>
                    </a:lnTo>
                    <a:lnTo>
                      <a:pt x="24" y="3367"/>
                    </a:lnTo>
                    <a:lnTo>
                      <a:pt x="40" y="3416"/>
                    </a:lnTo>
                    <a:lnTo>
                      <a:pt x="59" y="3462"/>
                    </a:lnTo>
                    <a:lnTo>
                      <a:pt x="82" y="3503"/>
                    </a:lnTo>
                    <a:lnTo>
                      <a:pt x="107" y="3541"/>
                    </a:lnTo>
                    <a:lnTo>
                      <a:pt x="136" y="3576"/>
                    </a:lnTo>
                    <a:lnTo>
                      <a:pt x="165" y="3605"/>
                    </a:lnTo>
                    <a:lnTo>
                      <a:pt x="198" y="3631"/>
                    </a:lnTo>
                    <a:lnTo>
                      <a:pt x="233" y="3651"/>
                    </a:lnTo>
                    <a:lnTo>
                      <a:pt x="269" y="3667"/>
                    </a:lnTo>
                    <a:lnTo>
                      <a:pt x="306" y="3677"/>
                    </a:lnTo>
                    <a:lnTo>
                      <a:pt x="344" y="3683"/>
                    </a:lnTo>
                    <a:lnTo>
                      <a:pt x="383" y="3682"/>
                    </a:lnTo>
                    <a:lnTo>
                      <a:pt x="422" y="3676"/>
                    </a:lnTo>
                    <a:lnTo>
                      <a:pt x="463" y="3662"/>
                    </a:lnTo>
                    <a:lnTo>
                      <a:pt x="502" y="3644"/>
                    </a:lnTo>
                    <a:lnTo>
                      <a:pt x="542" y="3618"/>
                    </a:lnTo>
                    <a:lnTo>
                      <a:pt x="580" y="3586"/>
                    </a:lnTo>
                    <a:lnTo>
                      <a:pt x="618" y="3546"/>
                    </a:lnTo>
                    <a:lnTo>
                      <a:pt x="655" y="3500"/>
                    </a:lnTo>
                    <a:lnTo>
                      <a:pt x="691" y="3446"/>
                    </a:lnTo>
                    <a:lnTo>
                      <a:pt x="725" y="3384"/>
                    </a:lnTo>
                    <a:lnTo>
                      <a:pt x="757" y="3314"/>
                    </a:lnTo>
                    <a:lnTo>
                      <a:pt x="787" y="3236"/>
                    </a:lnTo>
                    <a:lnTo>
                      <a:pt x="814" y="3149"/>
                    </a:lnTo>
                    <a:lnTo>
                      <a:pt x="838" y="3054"/>
                    </a:lnTo>
                    <a:lnTo>
                      <a:pt x="859" y="2951"/>
                    </a:lnTo>
                    <a:lnTo>
                      <a:pt x="860" y="2938"/>
                    </a:lnTo>
                    <a:lnTo>
                      <a:pt x="865" y="2898"/>
                    </a:lnTo>
                    <a:lnTo>
                      <a:pt x="873" y="2842"/>
                    </a:lnTo>
                    <a:lnTo>
                      <a:pt x="881" y="2770"/>
                    </a:lnTo>
                    <a:lnTo>
                      <a:pt x="892" y="2693"/>
                    </a:lnTo>
                    <a:lnTo>
                      <a:pt x="906" y="2612"/>
                    </a:lnTo>
                    <a:lnTo>
                      <a:pt x="913" y="2572"/>
                    </a:lnTo>
                    <a:lnTo>
                      <a:pt x="922" y="2535"/>
                    </a:lnTo>
                    <a:lnTo>
                      <a:pt x="929" y="2500"/>
                    </a:lnTo>
                    <a:lnTo>
                      <a:pt x="938" y="2468"/>
                    </a:lnTo>
                    <a:lnTo>
                      <a:pt x="948" y="2434"/>
                    </a:lnTo>
                    <a:lnTo>
                      <a:pt x="960" y="2399"/>
                    </a:lnTo>
                    <a:lnTo>
                      <a:pt x="974" y="2361"/>
                    </a:lnTo>
                    <a:lnTo>
                      <a:pt x="988" y="2319"/>
                    </a:lnTo>
                    <a:lnTo>
                      <a:pt x="1006" y="2276"/>
                    </a:lnTo>
                    <a:lnTo>
                      <a:pt x="1022" y="2229"/>
                    </a:lnTo>
                    <a:lnTo>
                      <a:pt x="1039" y="2180"/>
                    </a:lnTo>
                    <a:lnTo>
                      <a:pt x="1056" y="2128"/>
                    </a:lnTo>
                    <a:lnTo>
                      <a:pt x="1072" y="2075"/>
                    </a:lnTo>
                    <a:lnTo>
                      <a:pt x="1086" y="2020"/>
                    </a:lnTo>
                    <a:lnTo>
                      <a:pt x="1093" y="1992"/>
                    </a:lnTo>
                    <a:lnTo>
                      <a:pt x="1099" y="1962"/>
                    </a:lnTo>
                    <a:lnTo>
                      <a:pt x="1104" y="1933"/>
                    </a:lnTo>
                    <a:lnTo>
                      <a:pt x="1109" y="1903"/>
                    </a:lnTo>
                    <a:lnTo>
                      <a:pt x="1114" y="1874"/>
                    </a:lnTo>
                    <a:lnTo>
                      <a:pt x="1117" y="1843"/>
                    </a:lnTo>
                    <a:lnTo>
                      <a:pt x="1120" y="1812"/>
                    </a:lnTo>
                    <a:lnTo>
                      <a:pt x="1122" y="1781"/>
                    </a:lnTo>
                    <a:lnTo>
                      <a:pt x="1122" y="1749"/>
                    </a:lnTo>
                    <a:lnTo>
                      <a:pt x="1124" y="1717"/>
                    </a:lnTo>
                    <a:lnTo>
                      <a:pt x="1122" y="1685"/>
                    </a:lnTo>
                    <a:lnTo>
                      <a:pt x="1120" y="1652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6899400" y="3311640"/>
                <a:ext cx="336600" cy="1122480"/>
              </a:xfrm>
              <a:custGeom>
                <a:avLst/>
                <a:gdLst/>
                <a:ahLst/>
                <a:rect l="l" t="t" r="r" b="b"/>
                <a:pathLst>
                  <a:path w="1056" h="3535">
                    <a:moveTo>
                      <a:pt x="25" y="2893"/>
                    </a:moveTo>
                    <a:lnTo>
                      <a:pt x="39" y="2832"/>
                    </a:lnTo>
                    <a:lnTo>
                      <a:pt x="55" y="2775"/>
                    </a:lnTo>
                    <a:lnTo>
                      <a:pt x="74" y="2718"/>
                    </a:lnTo>
                    <a:lnTo>
                      <a:pt x="94" y="2664"/>
                    </a:lnTo>
                    <a:lnTo>
                      <a:pt x="114" y="2611"/>
                    </a:lnTo>
                    <a:lnTo>
                      <a:pt x="138" y="2561"/>
                    </a:lnTo>
                    <a:lnTo>
                      <a:pt x="161" y="2510"/>
                    </a:lnTo>
                    <a:lnTo>
                      <a:pt x="186" y="2462"/>
                    </a:lnTo>
                    <a:lnTo>
                      <a:pt x="212" y="2415"/>
                    </a:lnTo>
                    <a:lnTo>
                      <a:pt x="239" y="2371"/>
                    </a:lnTo>
                    <a:lnTo>
                      <a:pt x="266" y="2327"/>
                    </a:lnTo>
                    <a:lnTo>
                      <a:pt x="293" y="2284"/>
                    </a:lnTo>
                    <a:lnTo>
                      <a:pt x="321" y="2242"/>
                    </a:lnTo>
                    <a:lnTo>
                      <a:pt x="349" y="2201"/>
                    </a:lnTo>
                    <a:lnTo>
                      <a:pt x="378" y="2161"/>
                    </a:lnTo>
                    <a:lnTo>
                      <a:pt x="406" y="2123"/>
                    </a:lnTo>
                    <a:lnTo>
                      <a:pt x="461" y="2046"/>
                    </a:lnTo>
                    <a:lnTo>
                      <a:pt x="516" y="1974"/>
                    </a:lnTo>
                    <a:lnTo>
                      <a:pt x="566" y="1904"/>
                    </a:lnTo>
                    <a:lnTo>
                      <a:pt x="613" y="1835"/>
                    </a:lnTo>
                    <a:lnTo>
                      <a:pt x="635" y="1802"/>
                    </a:lnTo>
                    <a:lnTo>
                      <a:pt x="655" y="1767"/>
                    </a:lnTo>
                    <a:lnTo>
                      <a:pt x="673" y="1734"/>
                    </a:lnTo>
                    <a:lnTo>
                      <a:pt x="690" y="1700"/>
                    </a:lnTo>
                    <a:lnTo>
                      <a:pt x="705" y="1666"/>
                    </a:lnTo>
                    <a:lnTo>
                      <a:pt x="717" y="1632"/>
                    </a:lnTo>
                    <a:lnTo>
                      <a:pt x="728" y="1599"/>
                    </a:lnTo>
                    <a:lnTo>
                      <a:pt x="737" y="1564"/>
                    </a:lnTo>
                    <a:lnTo>
                      <a:pt x="742" y="1540"/>
                    </a:lnTo>
                    <a:lnTo>
                      <a:pt x="746" y="1514"/>
                    </a:lnTo>
                    <a:lnTo>
                      <a:pt x="748" y="1484"/>
                    </a:lnTo>
                    <a:lnTo>
                      <a:pt x="752" y="1454"/>
                    </a:lnTo>
                    <a:lnTo>
                      <a:pt x="755" y="1385"/>
                    </a:lnTo>
                    <a:lnTo>
                      <a:pt x="758" y="1310"/>
                    </a:lnTo>
                    <a:lnTo>
                      <a:pt x="758" y="1227"/>
                    </a:lnTo>
                    <a:lnTo>
                      <a:pt x="758" y="1140"/>
                    </a:lnTo>
                    <a:lnTo>
                      <a:pt x="755" y="1049"/>
                    </a:lnTo>
                    <a:lnTo>
                      <a:pt x="754" y="955"/>
                    </a:lnTo>
                    <a:lnTo>
                      <a:pt x="749" y="763"/>
                    </a:lnTo>
                    <a:lnTo>
                      <a:pt x="746" y="573"/>
                    </a:lnTo>
                    <a:lnTo>
                      <a:pt x="744" y="482"/>
                    </a:lnTo>
                    <a:lnTo>
                      <a:pt x="746" y="394"/>
                    </a:lnTo>
                    <a:lnTo>
                      <a:pt x="747" y="312"/>
                    </a:lnTo>
                    <a:lnTo>
                      <a:pt x="751" y="236"/>
                    </a:lnTo>
                    <a:lnTo>
                      <a:pt x="754" y="201"/>
                    </a:lnTo>
                    <a:lnTo>
                      <a:pt x="758" y="171"/>
                    </a:lnTo>
                    <a:lnTo>
                      <a:pt x="762" y="144"/>
                    </a:lnTo>
                    <a:lnTo>
                      <a:pt x="768" y="118"/>
                    </a:lnTo>
                    <a:lnTo>
                      <a:pt x="773" y="96"/>
                    </a:lnTo>
                    <a:lnTo>
                      <a:pt x="779" y="75"/>
                    </a:lnTo>
                    <a:lnTo>
                      <a:pt x="785" y="57"/>
                    </a:lnTo>
                    <a:lnTo>
                      <a:pt x="792" y="43"/>
                    </a:lnTo>
                    <a:lnTo>
                      <a:pt x="799" y="30"/>
                    </a:lnTo>
                    <a:lnTo>
                      <a:pt x="806" y="21"/>
                    </a:lnTo>
                    <a:lnTo>
                      <a:pt x="813" y="12"/>
                    </a:lnTo>
                    <a:lnTo>
                      <a:pt x="821" y="6"/>
                    </a:lnTo>
                    <a:lnTo>
                      <a:pt x="829" y="2"/>
                    </a:lnTo>
                    <a:lnTo>
                      <a:pt x="837" y="0"/>
                    </a:lnTo>
                    <a:lnTo>
                      <a:pt x="844" y="0"/>
                    </a:lnTo>
                    <a:lnTo>
                      <a:pt x="851" y="1"/>
                    </a:lnTo>
                    <a:lnTo>
                      <a:pt x="859" y="3"/>
                    </a:lnTo>
                    <a:lnTo>
                      <a:pt x="865" y="8"/>
                    </a:lnTo>
                    <a:lnTo>
                      <a:pt x="872" y="14"/>
                    </a:lnTo>
                    <a:lnTo>
                      <a:pt x="878" y="22"/>
                    </a:lnTo>
                    <a:lnTo>
                      <a:pt x="883" y="30"/>
                    </a:lnTo>
                    <a:lnTo>
                      <a:pt x="890" y="40"/>
                    </a:lnTo>
                    <a:lnTo>
                      <a:pt x="894" y="51"/>
                    </a:lnTo>
                    <a:lnTo>
                      <a:pt x="898" y="64"/>
                    </a:lnTo>
                    <a:lnTo>
                      <a:pt x="902" y="77"/>
                    </a:lnTo>
                    <a:lnTo>
                      <a:pt x="904" y="91"/>
                    </a:lnTo>
                    <a:lnTo>
                      <a:pt x="907" y="105"/>
                    </a:lnTo>
                    <a:lnTo>
                      <a:pt x="908" y="120"/>
                    </a:lnTo>
                    <a:lnTo>
                      <a:pt x="908" y="136"/>
                    </a:lnTo>
                    <a:lnTo>
                      <a:pt x="907" y="153"/>
                    </a:lnTo>
                    <a:lnTo>
                      <a:pt x="906" y="169"/>
                    </a:lnTo>
                    <a:lnTo>
                      <a:pt x="903" y="187"/>
                    </a:lnTo>
                    <a:lnTo>
                      <a:pt x="897" y="220"/>
                    </a:lnTo>
                    <a:lnTo>
                      <a:pt x="893" y="255"/>
                    </a:lnTo>
                    <a:lnTo>
                      <a:pt x="891" y="292"/>
                    </a:lnTo>
                    <a:lnTo>
                      <a:pt x="888" y="332"/>
                    </a:lnTo>
                    <a:lnTo>
                      <a:pt x="888" y="374"/>
                    </a:lnTo>
                    <a:lnTo>
                      <a:pt x="890" y="415"/>
                    </a:lnTo>
                    <a:lnTo>
                      <a:pt x="891" y="458"/>
                    </a:lnTo>
                    <a:lnTo>
                      <a:pt x="894" y="503"/>
                    </a:lnTo>
                    <a:lnTo>
                      <a:pt x="899" y="548"/>
                    </a:lnTo>
                    <a:lnTo>
                      <a:pt x="904" y="593"/>
                    </a:lnTo>
                    <a:lnTo>
                      <a:pt x="910" y="637"/>
                    </a:lnTo>
                    <a:lnTo>
                      <a:pt x="919" y="681"/>
                    </a:lnTo>
                    <a:lnTo>
                      <a:pt x="928" y="725"/>
                    </a:lnTo>
                    <a:lnTo>
                      <a:pt x="938" y="768"/>
                    </a:lnTo>
                    <a:lnTo>
                      <a:pt x="949" y="810"/>
                    </a:lnTo>
                    <a:lnTo>
                      <a:pt x="960" y="850"/>
                    </a:lnTo>
                    <a:lnTo>
                      <a:pt x="966" y="870"/>
                    </a:lnTo>
                    <a:lnTo>
                      <a:pt x="972" y="893"/>
                    </a:lnTo>
                    <a:lnTo>
                      <a:pt x="978" y="916"/>
                    </a:lnTo>
                    <a:lnTo>
                      <a:pt x="983" y="942"/>
                    </a:lnTo>
                    <a:lnTo>
                      <a:pt x="994" y="996"/>
                    </a:lnTo>
                    <a:lnTo>
                      <a:pt x="1003" y="1055"/>
                    </a:lnTo>
                    <a:lnTo>
                      <a:pt x="1011" y="1115"/>
                    </a:lnTo>
                    <a:lnTo>
                      <a:pt x="1019" y="1178"/>
                    </a:lnTo>
                    <a:lnTo>
                      <a:pt x="1026" y="1241"/>
                    </a:lnTo>
                    <a:lnTo>
                      <a:pt x="1031" y="1302"/>
                    </a:lnTo>
                    <a:lnTo>
                      <a:pt x="1041" y="1415"/>
                    </a:lnTo>
                    <a:lnTo>
                      <a:pt x="1047" y="1509"/>
                    </a:lnTo>
                    <a:lnTo>
                      <a:pt x="1051" y="1573"/>
                    </a:lnTo>
                    <a:lnTo>
                      <a:pt x="1052" y="1596"/>
                    </a:lnTo>
                    <a:lnTo>
                      <a:pt x="1054" y="1629"/>
                    </a:lnTo>
                    <a:lnTo>
                      <a:pt x="1056" y="1661"/>
                    </a:lnTo>
                    <a:lnTo>
                      <a:pt x="1054" y="1693"/>
                    </a:lnTo>
                    <a:lnTo>
                      <a:pt x="1054" y="1725"/>
                    </a:lnTo>
                    <a:lnTo>
                      <a:pt x="1052" y="1756"/>
                    </a:lnTo>
                    <a:lnTo>
                      <a:pt x="1049" y="1787"/>
                    </a:lnTo>
                    <a:lnTo>
                      <a:pt x="1046" y="1818"/>
                    </a:lnTo>
                    <a:lnTo>
                      <a:pt x="1041" y="1847"/>
                    </a:lnTo>
                    <a:lnTo>
                      <a:pt x="1036" y="1877"/>
                    </a:lnTo>
                    <a:lnTo>
                      <a:pt x="1031" y="1906"/>
                    </a:lnTo>
                    <a:lnTo>
                      <a:pt x="1025" y="1936"/>
                    </a:lnTo>
                    <a:lnTo>
                      <a:pt x="1018" y="1964"/>
                    </a:lnTo>
                    <a:lnTo>
                      <a:pt x="1004" y="2019"/>
                    </a:lnTo>
                    <a:lnTo>
                      <a:pt x="988" y="2072"/>
                    </a:lnTo>
                    <a:lnTo>
                      <a:pt x="971" y="2124"/>
                    </a:lnTo>
                    <a:lnTo>
                      <a:pt x="954" y="2173"/>
                    </a:lnTo>
                    <a:lnTo>
                      <a:pt x="938" y="2220"/>
                    </a:lnTo>
                    <a:lnTo>
                      <a:pt x="920" y="2263"/>
                    </a:lnTo>
                    <a:lnTo>
                      <a:pt x="906" y="2305"/>
                    </a:lnTo>
                    <a:lnTo>
                      <a:pt x="892" y="2343"/>
                    </a:lnTo>
                    <a:lnTo>
                      <a:pt x="880" y="2378"/>
                    </a:lnTo>
                    <a:lnTo>
                      <a:pt x="870" y="2412"/>
                    </a:lnTo>
                    <a:lnTo>
                      <a:pt x="862" y="2441"/>
                    </a:lnTo>
                    <a:lnTo>
                      <a:pt x="854" y="2473"/>
                    </a:lnTo>
                    <a:lnTo>
                      <a:pt x="848" y="2508"/>
                    </a:lnTo>
                    <a:lnTo>
                      <a:pt x="840" y="2543"/>
                    </a:lnTo>
                    <a:lnTo>
                      <a:pt x="828" y="2616"/>
                    </a:lnTo>
                    <a:lnTo>
                      <a:pt x="817" y="2687"/>
                    </a:lnTo>
                    <a:lnTo>
                      <a:pt x="808" y="2752"/>
                    </a:lnTo>
                    <a:lnTo>
                      <a:pt x="802" y="2804"/>
                    </a:lnTo>
                    <a:lnTo>
                      <a:pt x="799" y="2838"/>
                    </a:lnTo>
                    <a:lnTo>
                      <a:pt x="797" y="2852"/>
                    </a:lnTo>
                    <a:lnTo>
                      <a:pt x="776" y="2948"/>
                    </a:lnTo>
                    <a:lnTo>
                      <a:pt x="753" y="3037"/>
                    </a:lnTo>
                    <a:lnTo>
                      <a:pt x="727" y="3116"/>
                    </a:lnTo>
                    <a:lnTo>
                      <a:pt x="699" y="3189"/>
                    </a:lnTo>
                    <a:lnTo>
                      <a:pt x="668" y="3254"/>
                    </a:lnTo>
                    <a:lnTo>
                      <a:pt x="636" y="3312"/>
                    </a:lnTo>
                    <a:lnTo>
                      <a:pt x="603" y="3362"/>
                    </a:lnTo>
                    <a:lnTo>
                      <a:pt x="567" y="3406"/>
                    </a:lnTo>
                    <a:lnTo>
                      <a:pt x="532" y="3442"/>
                    </a:lnTo>
                    <a:lnTo>
                      <a:pt x="495" y="3473"/>
                    </a:lnTo>
                    <a:lnTo>
                      <a:pt x="457" y="3498"/>
                    </a:lnTo>
                    <a:lnTo>
                      <a:pt x="420" y="3515"/>
                    </a:lnTo>
                    <a:lnTo>
                      <a:pt x="381" y="3527"/>
                    </a:lnTo>
                    <a:lnTo>
                      <a:pt x="345" y="3533"/>
                    </a:lnTo>
                    <a:lnTo>
                      <a:pt x="308" y="3535"/>
                    </a:lnTo>
                    <a:lnTo>
                      <a:pt x="272" y="3530"/>
                    </a:lnTo>
                    <a:lnTo>
                      <a:pt x="236" y="3520"/>
                    </a:lnTo>
                    <a:lnTo>
                      <a:pt x="203" y="3505"/>
                    </a:lnTo>
                    <a:lnTo>
                      <a:pt x="171" y="3487"/>
                    </a:lnTo>
                    <a:lnTo>
                      <a:pt x="142" y="3462"/>
                    </a:lnTo>
                    <a:lnTo>
                      <a:pt x="113" y="3434"/>
                    </a:lnTo>
                    <a:lnTo>
                      <a:pt x="87" y="3402"/>
                    </a:lnTo>
                    <a:lnTo>
                      <a:pt x="65" y="3365"/>
                    </a:lnTo>
                    <a:lnTo>
                      <a:pt x="46" y="3326"/>
                    </a:lnTo>
                    <a:lnTo>
                      <a:pt x="28" y="3281"/>
                    </a:lnTo>
                    <a:lnTo>
                      <a:pt x="16" y="3235"/>
                    </a:lnTo>
                    <a:lnTo>
                      <a:pt x="6" y="3184"/>
                    </a:lnTo>
                    <a:lnTo>
                      <a:pt x="1" y="3131"/>
                    </a:lnTo>
                    <a:lnTo>
                      <a:pt x="0" y="3075"/>
                    </a:lnTo>
                    <a:lnTo>
                      <a:pt x="4" y="3017"/>
                    </a:lnTo>
                    <a:lnTo>
                      <a:pt x="11" y="2955"/>
                    </a:lnTo>
                    <a:lnTo>
                      <a:pt x="25" y="289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6919920" y="3327480"/>
                <a:ext cx="316080" cy="1076400"/>
              </a:xfrm>
              <a:custGeom>
                <a:avLst/>
                <a:gdLst/>
                <a:ahLst/>
                <a:rect l="l" t="t" r="r" b="b"/>
                <a:pathLst>
                  <a:path w="991" h="3388">
                    <a:moveTo>
                      <a:pt x="33" y="2768"/>
                    </a:moveTo>
                    <a:lnTo>
                      <a:pt x="48" y="2713"/>
                    </a:lnTo>
                    <a:lnTo>
                      <a:pt x="64" y="2660"/>
                    </a:lnTo>
                    <a:lnTo>
                      <a:pt x="81" y="2608"/>
                    </a:lnTo>
                    <a:lnTo>
                      <a:pt x="100" y="2558"/>
                    </a:lnTo>
                    <a:lnTo>
                      <a:pt x="121" y="2509"/>
                    </a:lnTo>
                    <a:lnTo>
                      <a:pt x="142" y="2462"/>
                    </a:lnTo>
                    <a:lnTo>
                      <a:pt x="164" y="2416"/>
                    </a:lnTo>
                    <a:lnTo>
                      <a:pt x="187" y="2371"/>
                    </a:lnTo>
                    <a:lnTo>
                      <a:pt x="211" y="2328"/>
                    </a:lnTo>
                    <a:lnTo>
                      <a:pt x="235" y="2286"/>
                    </a:lnTo>
                    <a:lnTo>
                      <a:pt x="261" y="2246"/>
                    </a:lnTo>
                    <a:lnTo>
                      <a:pt x="287" y="2205"/>
                    </a:lnTo>
                    <a:lnTo>
                      <a:pt x="339" y="2129"/>
                    </a:lnTo>
                    <a:lnTo>
                      <a:pt x="390" y="2055"/>
                    </a:lnTo>
                    <a:lnTo>
                      <a:pt x="442" y="1985"/>
                    </a:lnTo>
                    <a:lnTo>
                      <a:pt x="492" y="1916"/>
                    </a:lnTo>
                    <a:lnTo>
                      <a:pt x="516" y="1881"/>
                    </a:lnTo>
                    <a:lnTo>
                      <a:pt x="539" y="1848"/>
                    </a:lnTo>
                    <a:lnTo>
                      <a:pt x="561" y="1815"/>
                    </a:lnTo>
                    <a:lnTo>
                      <a:pt x="582" y="1783"/>
                    </a:lnTo>
                    <a:lnTo>
                      <a:pt x="602" y="1750"/>
                    </a:lnTo>
                    <a:lnTo>
                      <a:pt x="620" y="1717"/>
                    </a:lnTo>
                    <a:lnTo>
                      <a:pt x="638" y="1683"/>
                    </a:lnTo>
                    <a:lnTo>
                      <a:pt x="654" y="1651"/>
                    </a:lnTo>
                    <a:lnTo>
                      <a:pt x="668" y="1618"/>
                    </a:lnTo>
                    <a:lnTo>
                      <a:pt x="681" y="1585"/>
                    </a:lnTo>
                    <a:lnTo>
                      <a:pt x="690" y="1551"/>
                    </a:lnTo>
                    <a:lnTo>
                      <a:pt x="699" y="1516"/>
                    </a:lnTo>
                    <a:lnTo>
                      <a:pt x="704" y="1493"/>
                    </a:lnTo>
                    <a:lnTo>
                      <a:pt x="708" y="1467"/>
                    </a:lnTo>
                    <a:lnTo>
                      <a:pt x="711" y="1439"/>
                    </a:lnTo>
                    <a:lnTo>
                      <a:pt x="714" y="1408"/>
                    </a:lnTo>
                    <a:lnTo>
                      <a:pt x="718" y="1341"/>
                    </a:lnTo>
                    <a:lnTo>
                      <a:pt x="720" y="1269"/>
                    </a:lnTo>
                    <a:lnTo>
                      <a:pt x="720" y="1190"/>
                    </a:lnTo>
                    <a:lnTo>
                      <a:pt x="720" y="1107"/>
                    </a:lnTo>
                    <a:lnTo>
                      <a:pt x="718" y="1020"/>
                    </a:lnTo>
                    <a:lnTo>
                      <a:pt x="715" y="931"/>
                    </a:lnTo>
                    <a:lnTo>
                      <a:pt x="709" y="747"/>
                    </a:lnTo>
                    <a:lnTo>
                      <a:pt x="703" y="564"/>
                    </a:lnTo>
                    <a:lnTo>
                      <a:pt x="700" y="477"/>
                    </a:lnTo>
                    <a:lnTo>
                      <a:pt x="699" y="391"/>
                    </a:lnTo>
                    <a:lnTo>
                      <a:pt x="698" y="311"/>
                    </a:lnTo>
                    <a:lnTo>
                      <a:pt x="699" y="234"/>
                    </a:lnTo>
                    <a:lnTo>
                      <a:pt x="702" y="202"/>
                    </a:lnTo>
                    <a:lnTo>
                      <a:pt x="704" y="172"/>
                    </a:lnTo>
                    <a:lnTo>
                      <a:pt x="706" y="145"/>
                    </a:lnTo>
                    <a:lnTo>
                      <a:pt x="711" y="120"/>
                    </a:lnTo>
                    <a:lnTo>
                      <a:pt x="715" y="98"/>
                    </a:lnTo>
                    <a:lnTo>
                      <a:pt x="720" y="79"/>
                    </a:lnTo>
                    <a:lnTo>
                      <a:pt x="725" y="62"/>
                    </a:lnTo>
                    <a:lnTo>
                      <a:pt x="731" y="46"/>
                    </a:lnTo>
                    <a:lnTo>
                      <a:pt x="737" y="34"/>
                    </a:lnTo>
                    <a:lnTo>
                      <a:pt x="743" y="23"/>
                    </a:lnTo>
                    <a:lnTo>
                      <a:pt x="750" y="14"/>
                    </a:lnTo>
                    <a:lnTo>
                      <a:pt x="757" y="8"/>
                    </a:lnTo>
                    <a:lnTo>
                      <a:pt x="763" y="3"/>
                    </a:lnTo>
                    <a:lnTo>
                      <a:pt x="770" y="1"/>
                    </a:lnTo>
                    <a:lnTo>
                      <a:pt x="777" y="0"/>
                    </a:lnTo>
                    <a:lnTo>
                      <a:pt x="784" y="0"/>
                    </a:lnTo>
                    <a:lnTo>
                      <a:pt x="790" y="2"/>
                    </a:lnTo>
                    <a:lnTo>
                      <a:pt x="796" y="6"/>
                    </a:lnTo>
                    <a:lnTo>
                      <a:pt x="802" y="11"/>
                    </a:lnTo>
                    <a:lnTo>
                      <a:pt x="809" y="17"/>
                    </a:lnTo>
                    <a:lnTo>
                      <a:pt x="813" y="25"/>
                    </a:lnTo>
                    <a:lnTo>
                      <a:pt x="818" y="34"/>
                    </a:lnTo>
                    <a:lnTo>
                      <a:pt x="823" y="44"/>
                    </a:lnTo>
                    <a:lnTo>
                      <a:pt x="827" y="55"/>
                    </a:lnTo>
                    <a:lnTo>
                      <a:pt x="831" y="67"/>
                    </a:lnTo>
                    <a:lnTo>
                      <a:pt x="834" y="81"/>
                    </a:lnTo>
                    <a:lnTo>
                      <a:pt x="836" y="94"/>
                    </a:lnTo>
                    <a:lnTo>
                      <a:pt x="838" y="109"/>
                    </a:lnTo>
                    <a:lnTo>
                      <a:pt x="838" y="125"/>
                    </a:lnTo>
                    <a:lnTo>
                      <a:pt x="838" y="141"/>
                    </a:lnTo>
                    <a:lnTo>
                      <a:pt x="837" y="157"/>
                    </a:lnTo>
                    <a:lnTo>
                      <a:pt x="836" y="174"/>
                    </a:lnTo>
                    <a:lnTo>
                      <a:pt x="829" y="205"/>
                    </a:lnTo>
                    <a:lnTo>
                      <a:pt x="826" y="237"/>
                    </a:lnTo>
                    <a:lnTo>
                      <a:pt x="823" y="271"/>
                    </a:lnTo>
                    <a:lnTo>
                      <a:pt x="822" y="308"/>
                    </a:lnTo>
                    <a:lnTo>
                      <a:pt x="822" y="345"/>
                    </a:lnTo>
                    <a:lnTo>
                      <a:pt x="823" y="385"/>
                    </a:lnTo>
                    <a:lnTo>
                      <a:pt x="826" y="424"/>
                    </a:lnTo>
                    <a:lnTo>
                      <a:pt x="829" y="466"/>
                    </a:lnTo>
                    <a:lnTo>
                      <a:pt x="833" y="506"/>
                    </a:lnTo>
                    <a:lnTo>
                      <a:pt x="839" y="549"/>
                    </a:lnTo>
                    <a:lnTo>
                      <a:pt x="845" y="591"/>
                    </a:lnTo>
                    <a:lnTo>
                      <a:pt x="854" y="633"/>
                    </a:lnTo>
                    <a:lnTo>
                      <a:pt x="863" y="675"/>
                    </a:lnTo>
                    <a:lnTo>
                      <a:pt x="873" y="717"/>
                    </a:lnTo>
                    <a:lnTo>
                      <a:pt x="884" y="757"/>
                    </a:lnTo>
                    <a:lnTo>
                      <a:pt x="895" y="797"/>
                    </a:lnTo>
                    <a:lnTo>
                      <a:pt x="901" y="817"/>
                    </a:lnTo>
                    <a:lnTo>
                      <a:pt x="907" y="840"/>
                    </a:lnTo>
                    <a:lnTo>
                      <a:pt x="913" y="863"/>
                    </a:lnTo>
                    <a:lnTo>
                      <a:pt x="918" y="889"/>
                    </a:lnTo>
                    <a:lnTo>
                      <a:pt x="929" y="943"/>
                    </a:lnTo>
                    <a:lnTo>
                      <a:pt x="938" y="1002"/>
                    </a:lnTo>
                    <a:lnTo>
                      <a:pt x="946" y="1062"/>
                    </a:lnTo>
                    <a:lnTo>
                      <a:pt x="954" y="1125"/>
                    </a:lnTo>
                    <a:lnTo>
                      <a:pt x="961" y="1188"/>
                    </a:lnTo>
                    <a:lnTo>
                      <a:pt x="966" y="1249"/>
                    </a:lnTo>
                    <a:lnTo>
                      <a:pt x="976" y="1362"/>
                    </a:lnTo>
                    <a:lnTo>
                      <a:pt x="982" y="1456"/>
                    </a:lnTo>
                    <a:lnTo>
                      <a:pt x="986" y="1520"/>
                    </a:lnTo>
                    <a:lnTo>
                      <a:pt x="987" y="1543"/>
                    </a:lnTo>
                    <a:lnTo>
                      <a:pt x="989" y="1576"/>
                    </a:lnTo>
                    <a:lnTo>
                      <a:pt x="991" y="1608"/>
                    </a:lnTo>
                    <a:lnTo>
                      <a:pt x="989" y="1640"/>
                    </a:lnTo>
                    <a:lnTo>
                      <a:pt x="989" y="1672"/>
                    </a:lnTo>
                    <a:lnTo>
                      <a:pt x="987" y="1703"/>
                    </a:lnTo>
                    <a:lnTo>
                      <a:pt x="984" y="1734"/>
                    </a:lnTo>
                    <a:lnTo>
                      <a:pt x="981" y="1765"/>
                    </a:lnTo>
                    <a:lnTo>
                      <a:pt x="976" y="1794"/>
                    </a:lnTo>
                    <a:lnTo>
                      <a:pt x="971" y="1824"/>
                    </a:lnTo>
                    <a:lnTo>
                      <a:pt x="966" y="1853"/>
                    </a:lnTo>
                    <a:lnTo>
                      <a:pt x="960" y="1883"/>
                    </a:lnTo>
                    <a:lnTo>
                      <a:pt x="953" y="1911"/>
                    </a:lnTo>
                    <a:lnTo>
                      <a:pt x="939" y="1966"/>
                    </a:lnTo>
                    <a:lnTo>
                      <a:pt x="923" y="2019"/>
                    </a:lnTo>
                    <a:lnTo>
                      <a:pt x="906" y="2071"/>
                    </a:lnTo>
                    <a:lnTo>
                      <a:pt x="889" y="2120"/>
                    </a:lnTo>
                    <a:lnTo>
                      <a:pt x="873" y="2167"/>
                    </a:lnTo>
                    <a:lnTo>
                      <a:pt x="855" y="2210"/>
                    </a:lnTo>
                    <a:lnTo>
                      <a:pt x="841" y="2252"/>
                    </a:lnTo>
                    <a:lnTo>
                      <a:pt x="827" y="2290"/>
                    </a:lnTo>
                    <a:lnTo>
                      <a:pt x="815" y="2325"/>
                    </a:lnTo>
                    <a:lnTo>
                      <a:pt x="805" y="2359"/>
                    </a:lnTo>
                    <a:lnTo>
                      <a:pt x="791" y="2414"/>
                    </a:lnTo>
                    <a:lnTo>
                      <a:pt x="778" y="2478"/>
                    </a:lnTo>
                    <a:lnTo>
                      <a:pt x="766" y="2543"/>
                    </a:lnTo>
                    <a:lnTo>
                      <a:pt x="756" y="2608"/>
                    </a:lnTo>
                    <a:lnTo>
                      <a:pt x="747" y="2665"/>
                    </a:lnTo>
                    <a:lnTo>
                      <a:pt x="740" y="2712"/>
                    </a:lnTo>
                    <a:lnTo>
                      <a:pt x="736" y="2744"/>
                    </a:lnTo>
                    <a:lnTo>
                      <a:pt x="735" y="2755"/>
                    </a:lnTo>
                    <a:lnTo>
                      <a:pt x="715" y="2843"/>
                    </a:lnTo>
                    <a:lnTo>
                      <a:pt x="694" y="2924"/>
                    </a:lnTo>
                    <a:lnTo>
                      <a:pt x="670" y="2998"/>
                    </a:lnTo>
                    <a:lnTo>
                      <a:pt x="642" y="3066"/>
                    </a:lnTo>
                    <a:lnTo>
                      <a:pt x="614" y="3126"/>
                    </a:lnTo>
                    <a:lnTo>
                      <a:pt x="583" y="3179"/>
                    </a:lnTo>
                    <a:lnTo>
                      <a:pt x="551" y="3227"/>
                    </a:lnTo>
                    <a:lnTo>
                      <a:pt x="518" y="3268"/>
                    </a:lnTo>
                    <a:lnTo>
                      <a:pt x="484" y="3302"/>
                    </a:lnTo>
                    <a:lnTo>
                      <a:pt x="449" y="3330"/>
                    </a:lnTo>
                    <a:lnTo>
                      <a:pt x="414" y="3353"/>
                    </a:lnTo>
                    <a:lnTo>
                      <a:pt x="379" y="3370"/>
                    </a:lnTo>
                    <a:lnTo>
                      <a:pt x="344" y="3381"/>
                    </a:lnTo>
                    <a:lnTo>
                      <a:pt x="308" y="3387"/>
                    </a:lnTo>
                    <a:lnTo>
                      <a:pt x="273" y="3388"/>
                    </a:lnTo>
                    <a:lnTo>
                      <a:pt x="240" y="3384"/>
                    </a:lnTo>
                    <a:lnTo>
                      <a:pt x="208" y="3376"/>
                    </a:lnTo>
                    <a:lnTo>
                      <a:pt x="177" y="3361"/>
                    </a:lnTo>
                    <a:lnTo>
                      <a:pt x="148" y="3344"/>
                    </a:lnTo>
                    <a:lnTo>
                      <a:pt x="120" y="3321"/>
                    </a:lnTo>
                    <a:lnTo>
                      <a:pt x="95" y="3295"/>
                    </a:lnTo>
                    <a:lnTo>
                      <a:pt x="72" y="3264"/>
                    </a:lnTo>
                    <a:lnTo>
                      <a:pt x="52" y="3228"/>
                    </a:lnTo>
                    <a:lnTo>
                      <a:pt x="35" y="3190"/>
                    </a:lnTo>
                    <a:lnTo>
                      <a:pt x="20" y="3148"/>
                    </a:lnTo>
                    <a:lnTo>
                      <a:pt x="10" y="3103"/>
                    </a:lnTo>
                    <a:lnTo>
                      <a:pt x="3" y="3055"/>
                    </a:lnTo>
                    <a:lnTo>
                      <a:pt x="0" y="3003"/>
                    </a:lnTo>
                    <a:lnTo>
                      <a:pt x="2" y="2948"/>
                    </a:lnTo>
                    <a:lnTo>
                      <a:pt x="8" y="2891"/>
                    </a:lnTo>
                    <a:lnTo>
                      <a:pt x="17" y="2831"/>
                    </a:lnTo>
                    <a:lnTo>
                      <a:pt x="33" y="276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6940440" y="3345120"/>
                <a:ext cx="295560" cy="1028520"/>
              </a:xfrm>
              <a:custGeom>
                <a:avLst/>
                <a:gdLst/>
                <a:ahLst/>
                <a:rect l="l" t="t" r="r" b="b"/>
                <a:pathLst>
                  <a:path w="927" h="3241">
                    <a:moveTo>
                      <a:pt x="43" y="2647"/>
                    </a:moveTo>
                    <a:lnTo>
                      <a:pt x="57" y="2595"/>
                    </a:lnTo>
                    <a:lnTo>
                      <a:pt x="73" y="2546"/>
                    </a:lnTo>
                    <a:lnTo>
                      <a:pt x="90" y="2498"/>
                    </a:lnTo>
                    <a:lnTo>
                      <a:pt x="107" y="2451"/>
                    </a:lnTo>
                    <a:lnTo>
                      <a:pt x="127" y="2407"/>
                    </a:lnTo>
                    <a:lnTo>
                      <a:pt x="147" y="2362"/>
                    </a:lnTo>
                    <a:lnTo>
                      <a:pt x="168" y="2321"/>
                    </a:lnTo>
                    <a:lnTo>
                      <a:pt x="190" y="2279"/>
                    </a:lnTo>
                    <a:lnTo>
                      <a:pt x="212" y="2239"/>
                    </a:lnTo>
                    <a:lnTo>
                      <a:pt x="234" y="2200"/>
                    </a:lnTo>
                    <a:lnTo>
                      <a:pt x="257" y="2162"/>
                    </a:lnTo>
                    <a:lnTo>
                      <a:pt x="282" y="2125"/>
                    </a:lnTo>
                    <a:lnTo>
                      <a:pt x="329" y="2054"/>
                    </a:lnTo>
                    <a:lnTo>
                      <a:pt x="377" y="1986"/>
                    </a:lnTo>
                    <a:lnTo>
                      <a:pt x="425" y="1920"/>
                    </a:lnTo>
                    <a:lnTo>
                      <a:pt x="470" y="1854"/>
                    </a:lnTo>
                    <a:lnTo>
                      <a:pt x="491" y="1823"/>
                    </a:lnTo>
                    <a:lnTo>
                      <a:pt x="513" y="1791"/>
                    </a:lnTo>
                    <a:lnTo>
                      <a:pt x="533" y="1759"/>
                    </a:lnTo>
                    <a:lnTo>
                      <a:pt x="553" y="1728"/>
                    </a:lnTo>
                    <a:lnTo>
                      <a:pt x="571" y="1696"/>
                    </a:lnTo>
                    <a:lnTo>
                      <a:pt x="588" y="1664"/>
                    </a:lnTo>
                    <a:lnTo>
                      <a:pt x="604" y="1632"/>
                    </a:lnTo>
                    <a:lnTo>
                      <a:pt x="619" y="1599"/>
                    </a:lnTo>
                    <a:lnTo>
                      <a:pt x="633" y="1567"/>
                    </a:lnTo>
                    <a:lnTo>
                      <a:pt x="644" y="1533"/>
                    </a:lnTo>
                    <a:lnTo>
                      <a:pt x="654" y="1499"/>
                    </a:lnTo>
                    <a:lnTo>
                      <a:pt x="662" y="1466"/>
                    </a:lnTo>
                    <a:lnTo>
                      <a:pt x="667" y="1441"/>
                    </a:lnTo>
                    <a:lnTo>
                      <a:pt x="671" y="1417"/>
                    </a:lnTo>
                    <a:lnTo>
                      <a:pt x="674" y="1388"/>
                    </a:lnTo>
                    <a:lnTo>
                      <a:pt x="677" y="1360"/>
                    </a:lnTo>
                    <a:lnTo>
                      <a:pt x="681" y="1296"/>
                    </a:lnTo>
                    <a:lnTo>
                      <a:pt x="683" y="1226"/>
                    </a:lnTo>
                    <a:lnTo>
                      <a:pt x="684" y="1151"/>
                    </a:lnTo>
                    <a:lnTo>
                      <a:pt x="683" y="1072"/>
                    </a:lnTo>
                    <a:lnTo>
                      <a:pt x="681" y="990"/>
                    </a:lnTo>
                    <a:lnTo>
                      <a:pt x="678" y="905"/>
                    </a:lnTo>
                    <a:lnTo>
                      <a:pt x="671" y="730"/>
                    </a:lnTo>
                    <a:lnTo>
                      <a:pt x="662" y="554"/>
                    </a:lnTo>
                    <a:lnTo>
                      <a:pt x="654" y="387"/>
                    </a:lnTo>
                    <a:lnTo>
                      <a:pt x="649" y="232"/>
                    </a:lnTo>
                    <a:lnTo>
                      <a:pt x="650" y="201"/>
                    </a:lnTo>
                    <a:lnTo>
                      <a:pt x="651" y="173"/>
                    </a:lnTo>
                    <a:lnTo>
                      <a:pt x="654" y="147"/>
                    </a:lnTo>
                    <a:lnTo>
                      <a:pt x="656" y="123"/>
                    </a:lnTo>
                    <a:lnTo>
                      <a:pt x="660" y="102"/>
                    </a:lnTo>
                    <a:lnTo>
                      <a:pt x="663" y="82"/>
                    </a:lnTo>
                    <a:lnTo>
                      <a:pt x="668" y="66"/>
                    </a:lnTo>
                    <a:lnTo>
                      <a:pt x="672" y="50"/>
                    </a:lnTo>
                    <a:lnTo>
                      <a:pt x="677" y="38"/>
                    </a:lnTo>
                    <a:lnTo>
                      <a:pt x="683" y="27"/>
                    </a:lnTo>
                    <a:lnTo>
                      <a:pt x="688" y="18"/>
                    </a:lnTo>
                    <a:lnTo>
                      <a:pt x="694" y="11"/>
                    </a:lnTo>
                    <a:lnTo>
                      <a:pt x="699" y="6"/>
                    </a:lnTo>
                    <a:lnTo>
                      <a:pt x="705" y="2"/>
                    </a:lnTo>
                    <a:lnTo>
                      <a:pt x="711" y="0"/>
                    </a:lnTo>
                    <a:lnTo>
                      <a:pt x="717" y="0"/>
                    </a:lnTo>
                    <a:lnTo>
                      <a:pt x="724" y="0"/>
                    </a:lnTo>
                    <a:lnTo>
                      <a:pt x="729" y="3"/>
                    </a:lnTo>
                    <a:lnTo>
                      <a:pt x="735" y="7"/>
                    </a:lnTo>
                    <a:lnTo>
                      <a:pt x="740" y="12"/>
                    </a:lnTo>
                    <a:lnTo>
                      <a:pt x="745" y="19"/>
                    </a:lnTo>
                    <a:lnTo>
                      <a:pt x="749" y="27"/>
                    </a:lnTo>
                    <a:lnTo>
                      <a:pt x="753" y="37"/>
                    </a:lnTo>
                    <a:lnTo>
                      <a:pt x="757" y="46"/>
                    </a:lnTo>
                    <a:lnTo>
                      <a:pt x="761" y="57"/>
                    </a:lnTo>
                    <a:lnTo>
                      <a:pt x="763" y="70"/>
                    </a:lnTo>
                    <a:lnTo>
                      <a:pt x="765" y="83"/>
                    </a:lnTo>
                    <a:lnTo>
                      <a:pt x="767" y="97"/>
                    </a:lnTo>
                    <a:lnTo>
                      <a:pt x="768" y="113"/>
                    </a:lnTo>
                    <a:lnTo>
                      <a:pt x="768" y="128"/>
                    </a:lnTo>
                    <a:lnTo>
                      <a:pt x="767" y="145"/>
                    </a:lnTo>
                    <a:lnTo>
                      <a:pt x="765" y="161"/>
                    </a:lnTo>
                    <a:lnTo>
                      <a:pt x="762" y="189"/>
                    </a:lnTo>
                    <a:lnTo>
                      <a:pt x="758" y="219"/>
                    </a:lnTo>
                    <a:lnTo>
                      <a:pt x="757" y="251"/>
                    </a:lnTo>
                    <a:lnTo>
                      <a:pt x="757" y="284"/>
                    </a:lnTo>
                    <a:lnTo>
                      <a:pt x="757" y="318"/>
                    </a:lnTo>
                    <a:lnTo>
                      <a:pt x="758" y="354"/>
                    </a:lnTo>
                    <a:lnTo>
                      <a:pt x="761" y="390"/>
                    </a:lnTo>
                    <a:lnTo>
                      <a:pt x="764" y="428"/>
                    </a:lnTo>
                    <a:lnTo>
                      <a:pt x="769" y="466"/>
                    </a:lnTo>
                    <a:lnTo>
                      <a:pt x="775" y="505"/>
                    </a:lnTo>
                    <a:lnTo>
                      <a:pt x="781" y="545"/>
                    </a:lnTo>
                    <a:lnTo>
                      <a:pt x="790" y="584"/>
                    </a:lnTo>
                    <a:lnTo>
                      <a:pt x="799" y="623"/>
                    </a:lnTo>
                    <a:lnTo>
                      <a:pt x="809" y="664"/>
                    </a:lnTo>
                    <a:lnTo>
                      <a:pt x="820" y="703"/>
                    </a:lnTo>
                    <a:lnTo>
                      <a:pt x="831" y="743"/>
                    </a:lnTo>
                    <a:lnTo>
                      <a:pt x="837" y="763"/>
                    </a:lnTo>
                    <a:lnTo>
                      <a:pt x="843" y="786"/>
                    </a:lnTo>
                    <a:lnTo>
                      <a:pt x="849" y="809"/>
                    </a:lnTo>
                    <a:lnTo>
                      <a:pt x="854" y="835"/>
                    </a:lnTo>
                    <a:lnTo>
                      <a:pt x="865" y="889"/>
                    </a:lnTo>
                    <a:lnTo>
                      <a:pt x="874" y="948"/>
                    </a:lnTo>
                    <a:lnTo>
                      <a:pt x="882" y="1008"/>
                    </a:lnTo>
                    <a:lnTo>
                      <a:pt x="890" y="1071"/>
                    </a:lnTo>
                    <a:lnTo>
                      <a:pt x="897" y="1134"/>
                    </a:lnTo>
                    <a:lnTo>
                      <a:pt x="902" y="1195"/>
                    </a:lnTo>
                    <a:lnTo>
                      <a:pt x="912" y="1308"/>
                    </a:lnTo>
                    <a:lnTo>
                      <a:pt x="918" y="1402"/>
                    </a:lnTo>
                    <a:lnTo>
                      <a:pt x="922" y="1466"/>
                    </a:lnTo>
                    <a:lnTo>
                      <a:pt x="923" y="1489"/>
                    </a:lnTo>
                    <a:lnTo>
                      <a:pt x="925" y="1522"/>
                    </a:lnTo>
                    <a:lnTo>
                      <a:pt x="927" y="1554"/>
                    </a:lnTo>
                    <a:lnTo>
                      <a:pt x="925" y="1586"/>
                    </a:lnTo>
                    <a:lnTo>
                      <a:pt x="925" y="1618"/>
                    </a:lnTo>
                    <a:lnTo>
                      <a:pt x="923" y="1649"/>
                    </a:lnTo>
                    <a:lnTo>
                      <a:pt x="920" y="1680"/>
                    </a:lnTo>
                    <a:lnTo>
                      <a:pt x="917" y="1711"/>
                    </a:lnTo>
                    <a:lnTo>
                      <a:pt x="912" y="1740"/>
                    </a:lnTo>
                    <a:lnTo>
                      <a:pt x="907" y="1770"/>
                    </a:lnTo>
                    <a:lnTo>
                      <a:pt x="902" y="1799"/>
                    </a:lnTo>
                    <a:lnTo>
                      <a:pt x="896" y="1829"/>
                    </a:lnTo>
                    <a:lnTo>
                      <a:pt x="889" y="1857"/>
                    </a:lnTo>
                    <a:lnTo>
                      <a:pt x="875" y="1912"/>
                    </a:lnTo>
                    <a:lnTo>
                      <a:pt x="859" y="1965"/>
                    </a:lnTo>
                    <a:lnTo>
                      <a:pt x="842" y="2017"/>
                    </a:lnTo>
                    <a:lnTo>
                      <a:pt x="825" y="2066"/>
                    </a:lnTo>
                    <a:lnTo>
                      <a:pt x="809" y="2113"/>
                    </a:lnTo>
                    <a:lnTo>
                      <a:pt x="791" y="2156"/>
                    </a:lnTo>
                    <a:lnTo>
                      <a:pt x="777" y="2198"/>
                    </a:lnTo>
                    <a:lnTo>
                      <a:pt x="763" y="2236"/>
                    </a:lnTo>
                    <a:lnTo>
                      <a:pt x="751" y="2271"/>
                    </a:lnTo>
                    <a:lnTo>
                      <a:pt x="741" y="2305"/>
                    </a:lnTo>
                    <a:lnTo>
                      <a:pt x="729" y="2355"/>
                    </a:lnTo>
                    <a:lnTo>
                      <a:pt x="716" y="2412"/>
                    </a:lnTo>
                    <a:lnTo>
                      <a:pt x="705" y="2471"/>
                    </a:lnTo>
                    <a:lnTo>
                      <a:pt x="695" y="2529"/>
                    </a:lnTo>
                    <a:lnTo>
                      <a:pt x="687" y="2580"/>
                    </a:lnTo>
                    <a:lnTo>
                      <a:pt x="681" y="2622"/>
                    </a:lnTo>
                    <a:lnTo>
                      <a:pt x="677" y="2650"/>
                    </a:lnTo>
                    <a:lnTo>
                      <a:pt x="676" y="2660"/>
                    </a:lnTo>
                    <a:lnTo>
                      <a:pt x="658" y="2741"/>
                    </a:lnTo>
                    <a:lnTo>
                      <a:pt x="638" y="2815"/>
                    </a:lnTo>
                    <a:lnTo>
                      <a:pt x="614" y="2883"/>
                    </a:lnTo>
                    <a:lnTo>
                      <a:pt x="590" y="2943"/>
                    </a:lnTo>
                    <a:lnTo>
                      <a:pt x="561" y="2998"/>
                    </a:lnTo>
                    <a:lnTo>
                      <a:pt x="533" y="3048"/>
                    </a:lnTo>
                    <a:lnTo>
                      <a:pt x="503" y="3091"/>
                    </a:lnTo>
                    <a:lnTo>
                      <a:pt x="471" y="3129"/>
                    </a:lnTo>
                    <a:lnTo>
                      <a:pt x="439" y="3161"/>
                    </a:lnTo>
                    <a:lnTo>
                      <a:pt x="406" y="3187"/>
                    </a:lnTo>
                    <a:lnTo>
                      <a:pt x="373" y="3207"/>
                    </a:lnTo>
                    <a:lnTo>
                      <a:pt x="340" y="3223"/>
                    </a:lnTo>
                    <a:lnTo>
                      <a:pt x="307" y="3235"/>
                    </a:lnTo>
                    <a:lnTo>
                      <a:pt x="275" y="3241"/>
                    </a:lnTo>
                    <a:lnTo>
                      <a:pt x="241" y="3241"/>
                    </a:lnTo>
                    <a:lnTo>
                      <a:pt x="211" y="3237"/>
                    </a:lnTo>
                    <a:lnTo>
                      <a:pt x="181" y="3228"/>
                    </a:lnTo>
                    <a:lnTo>
                      <a:pt x="152" y="3216"/>
                    </a:lnTo>
                    <a:lnTo>
                      <a:pt x="125" y="3199"/>
                    </a:lnTo>
                    <a:lnTo>
                      <a:pt x="100" y="3178"/>
                    </a:lnTo>
                    <a:lnTo>
                      <a:pt x="77" y="3153"/>
                    </a:lnTo>
                    <a:lnTo>
                      <a:pt x="57" y="3124"/>
                    </a:lnTo>
                    <a:lnTo>
                      <a:pt x="38" y="3091"/>
                    </a:lnTo>
                    <a:lnTo>
                      <a:pt x="24" y="3054"/>
                    </a:lnTo>
                    <a:lnTo>
                      <a:pt x="13" y="3014"/>
                    </a:lnTo>
                    <a:lnTo>
                      <a:pt x="4" y="2971"/>
                    </a:lnTo>
                    <a:lnTo>
                      <a:pt x="0" y="2925"/>
                    </a:lnTo>
                    <a:lnTo>
                      <a:pt x="0" y="2874"/>
                    </a:lnTo>
                    <a:lnTo>
                      <a:pt x="4" y="2821"/>
                    </a:lnTo>
                    <a:lnTo>
                      <a:pt x="11" y="2766"/>
                    </a:lnTo>
                    <a:lnTo>
                      <a:pt x="25" y="2708"/>
                    </a:lnTo>
                    <a:lnTo>
                      <a:pt x="43" y="2647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6961320" y="3362400"/>
                <a:ext cx="274680" cy="982800"/>
              </a:xfrm>
              <a:custGeom>
                <a:avLst/>
                <a:gdLst/>
                <a:ahLst/>
                <a:rect l="l" t="t" r="r" b="b"/>
                <a:pathLst>
                  <a:path w="865" h="3095">
                    <a:moveTo>
                      <a:pt x="54" y="2524"/>
                    </a:moveTo>
                    <a:lnTo>
                      <a:pt x="69" y="2477"/>
                    </a:lnTo>
                    <a:lnTo>
                      <a:pt x="83" y="2431"/>
                    </a:lnTo>
                    <a:lnTo>
                      <a:pt x="101" y="2387"/>
                    </a:lnTo>
                    <a:lnTo>
                      <a:pt x="118" y="2345"/>
                    </a:lnTo>
                    <a:lnTo>
                      <a:pt x="136" y="2305"/>
                    </a:lnTo>
                    <a:lnTo>
                      <a:pt x="155" y="2264"/>
                    </a:lnTo>
                    <a:lnTo>
                      <a:pt x="174" y="2226"/>
                    </a:lnTo>
                    <a:lnTo>
                      <a:pt x="194" y="2188"/>
                    </a:lnTo>
                    <a:lnTo>
                      <a:pt x="215" y="2152"/>
                    </a:lnTo>
                    <a:lnTo>
                      <a:pt x="236" y="2116"/>
                    </a:lnTo>
                    <a:lnTo>
                      <a:pt x="257" y="2082"/>
                    </a:lnTo>
                    <a:lnTo>
                      <a:pt x="279" y="2047"/>
                    </a:lnTo>
                    <a:lnTo>
                      <a:pt x="322" y="1982"/>
                    </a:lnTo>
                    <a:lnTo>
                      <a:pt x="365" y="1918"/>
                    </a:lnTo>
                    <a:lnTo>
                      <a:pt x="407" y="1857"/>
                    </a:lnTo>
                    <a:lnTo>
                      <a:pt x="449" y="1795"/>
                    </a:lnTo>
                    <a:lnTo>
                      <a:pt x="468" y="1766"/>
                    </a:lnTo>
                    <a:lnTo>
                      <a:pt x="487" y="1735"/>
                    </a:lnTo>
                    <a:lnTo>
                      <a:pt x="505" y="1706"/>
                    </a:lnTo>
                    <a:lnTo>
                      <a:pt x="523" y="1675"/>
                    </a:lnTo>
                    <a:lnTo>
                      <a:pt x="540" y="1644"/>
                    </a:lnTo>
                    <a:lnTo>
                      <a:pt x="556" y="1613"/>
                    </a:lnTo>
                    <a:lnTo>
                      <a:pt x="571" y="1583"/>
                    </a:lnTo>
                    <a:lnTo>
                      <a:pt x="584" y="1551"/>
                    </a:lnTo>
                    <a:lnTo>
                      <a:pt x="596" y="1519"/>
                    </a:lnTo>
                    <a:lnTo>
                      <a:pt x="608" y="1485"/>
                    </a:lnTo>
                    <a:lnTo>
                      <a:pt x="616" y="1452"/>
                    </a:lnTo>
                    <a:lnTo>
                      <a:pt x="625" y="1418"/>
                    </a:lnTo>
                    <a:lnTo>
                      <a:pt x="630" y="1394"/>
                    </a:lnTo>
                    <a:lnTo>
                      <a:pt x="633" y="1370"/>
                    </a:lnTo>
                    <a:lnTo>
                      <a:pt x="637" y="1343"/>
                    </a:lnTo>
                    <a:lnTo>
                      <a:pt x="640" y="1314"/>
                    </a:lnTo>
                    <a:lnTo>
                      <a:pt x="643" y="1253"/>
                    </a:lnTo>
                    <a:lnTo>
                      <a:pt x="646" y="1186"/>
                    </a:lnTo>
                    <a:lnTo>
                      <a:pt x="647" y="1115"/>
                    </a:lnTo>
                    <a:lnTo>
                      <a:pt x="646" y="1039"/>
                    </a:lnTo>
                    <a:lnTo>
                      <a:pt x="643" y="961"/>
                    </a:lnTo>
                    <a:lnTo>
                      <a:pt x="640" y="880"/>
                    </a:lnTo>
                    <a:lnTo>
                      <a:pt x="631" y="713"/>
                    </a:lnTo>
                    <a:lnTo>
                      <a:pt x="621" y="546"/>
                    </a:lnTo>
                    <a:lnTo>
                      <a:pt x="610" y="382"/>
                    </a:lnTo>
                    <a:lnTo>
                      <a:pt x="600" y="228"/>
                    </a:lnTo>
                    <a:lnTo>
                      <a:pt x="600" y="199"/>
                    </a:lnTo>
                    <a:lnTo>
                      <a:pt x="600" y="172"/>
                    </a:lnTo>
                    <a:lnTo>
                      <a:pt x="601" y="147"/>
                    </a:lnTo>
                    <a:lnTo>
                      <a:pt x="604" y="124"/>
                    </a:lnTo>
                    <a:lnTo>
                      <a:pt x="606" y="104"/>
                    </a:lnTo>
                    <a:lnTo>
                      <a:pt x="609" y="86"/>
                    </a:lnTo>
                    <a:lnTo>
                      <a:pt x="612" y="68"/>
                    </a:lnTo>
                    <a:lnTo>
                      <a:pt x="616" y="54"/>
                    </a:lnTo>
                    <a:lnTo>
                      <a:pt x="620" y="41"/>
                    </a:lnTo>
                    <a:lnTo>
                      <a:pt x="624" y="30"/>
                    </a:lnTo>
                    <a:lnTo>
                      <a:pt x="628" y="20"/>
                    </a:lnTo>
                    <a:lnTo>
                      <a:pt x="633" y="13"/>
                    </a:lnTo>
                    <a:lnTo>
                      <a:pt x="638" y="7"/>
                    </a:lnTo>
                    <a:lnTo>
                      <a:pt x="643" y="3"/>
                    </a:lnTo>
                    <a:lnTo>
                      <a:pt x="648" y="1"/>
                    </a:lnTo>
                    <a:lnTo>
                      <a:pt x="653" y="0"/>
                    </a:lnTo>
                    <a:lnTo>
                      <a:pt x="658" y="0"/>
                    </a:lnTo>
                    <a:lnTo>
                      <a:pt x="663" y="2"/>
                    </a:lnTo>
                    <a:lnTo>
                      <a:pt x="668" y="4"/>
                    </a:lnTo>
                    <a:lnTo>
                      <a:pt x="673" y="9"/>
                    </a:lnTo>
                    <a:lnTo>
                      <a:pt x="678" y="16"/>
                    </a:lnTo>
                    <a:lnTo>
                      <a:pt x="681" y="23"/>
                    </a:lnTo>
                    <a:lnTo>
                      <a:pt x="685" y="30"/>
                    </a:lnTo>
                    <a:lnTo>
                      <a:pt x="689" y="40"/>
                    </a:lnTo>
                    <a:lnTo>
                      <a:pt x="692" y="51"/>
                    </a:lnTo>
                    <a:lnTo>
                      <a:pt x="695" y="62"/>
                    </a:lnTo>
                    <a:lnTo>
                      <a:pt x="697" y="76"/>
                    </a:lnTo>
                    <a:lnTo>
                      <a:pt x="699" y="89"/>
                    </a:lnTo>
                    <a:lnTo>
                      <a:pt x="700" y="103"/>
                    </a:lnTo>
                    <a:lnTo>
                      <a:pt x="700" y="119"/>
                    </a:lnTo>
                    <a:lnTo>
                      <a:pt x="700" y="135"/>
                    </a:lnTo>
                    <a:lnTo>
                      <a:pt x="699" y="152"/>
                    </a:lnTo>
                    <a:lnTo>
                      <a:pt x="695" y="177"/>
                    </a:lnTo>
                    <a:lnTo>
                      <a:pt x="694" y="202"/>
                    </a:lnTo>
                    <a:lnTo>
                      <a:pt x="692" y="231"/>
                    </a:lnTo>
                    <a:lnTo>
                      <a:pt x="692" y="260"/>
                    </a:lnTo>
                    <a:lnTo>
                      <a:pt x="692" y="291"/>
                    </a:lnTo>
                    <a:lnTo>
                      <a:pt x="695" y="323"/>
                    </a:lnTo>
                    <a:lnTo>
                      <a:pt x="697" y="356"/>
                    </a:lnTo>
                    <a:lnTo>
                      <a:pt x="702" y="391"/>
                    </a:lnTo>
                    <a:lnTo>
                      <a:pt x="707" y="425"/>
                    </a:lnTo>
                    <a:lnTo>
                      <a:pt x="713" y="461"/>
                    </a:lnTo>
                    <a:lnTo>
                      <a:pt x="719" y="498"/>
                    </a:lnTo>
                    <a:lnTo>
                      <a:pt x="728" y="536"/>
                    </a:lnTo>
                    <a:lnTo>
                      <a:pt x="737" y="574"/>
                    </a:lnTo>
                    <a:lnTo>
                      <a:pt x="747" y="612"/>
                    </a:lnTo>
                    <a:lnTo>
                      <a:pt x="758" y="650"/>
                    </a:lnTo>
                    <a:lnTo>
                      <a:pt x="769" y="690"/>
                    </a:lnTo>
                    <a:lnTo>
                      <a:pt x="775" y="710"/>
                    </a:lnTo>
                    <a:lnTo>
                      <a:pt x="781" y="733"/>
                    </a:lnTo>
                    <a:lnTo>
                      <a:pt x="787" y="756"/>
                    </a:lnTo>
                    <a:lnTo>
                      <a:pt x="792" y="782"/>
                    </a:lnTo>
                    <a:lnTo>
                      <a:pt x="803" y="836"/>
                    </a:lnTo>
                    <a:lnTo>
                      <a:pt x="812" y="895"/>
                    </a:lnTo>
                    <a:lnTo>
                      <a:pt x="820" y="955"/>
                    </a:lnTo>
                    <a:lnTo>
                      <a:pt x="828" y="1018"/>
                    </a:lnTo>
                    <a:lnTo>
                      <a:pt x="835" y="1081"/>
                    </a:lnTo>
                    <a:lnTo>
                      <a:pt x="840" y="1142"/>
                    </a:lnTo>
                    <a:lnTo>
                      <a:pt x="850" y="1255"/>
                    </a:lnTo>
                    <a:lnTo>
                      <a:pt x="856" y="1349"/>
                    </a:lnTo>
                    <a:lnTo>
                      <a:pt x="860" y="1413"/>
                    </a:lnTo>
                    <a:lnTo>
                      <a:pt x="861" y="1436"/>
                    </a:lnTo>
                    <a:lnTo>
                      <a:pt x="863" y="1469"/>
                    </a:lnTo>
                    <a:lnTo>
                      <a:pt x="865" y="1501"/>
                    </a:lnTo>
                    <a:lnTo>
                      <a:pt x="863" y="1533"/>
                    </a:lnTo>
                    <a:lnTo>
                      <a:pt x="863" y="1565"/>
                    </a:lnTo>
                    <a:lnTo>
                      <a:pt x="861" y="1596"/>
                    </a:lnTo>
                    <a:lnTo>
                      <a:pt x="858" y="1627"/>
                    </a:lnTo>
                    <a:lnTo>
                      <a:pt x="855" y="1658"/>
                    </a:lnTo>
                    <a:lnTo>
                      <a:pt x="850" y="1687"/>
                    </a:lnTo>
                    <a:lnTo>
                      <a:pt x="845" y="1717"/>
                    </a:lnTo>
                    <a:lnTo>
                      <a:pt x="840" y="1746"/>
                    </a:lnTo>
                    <a:lnTo>
                      <a:pt x="834" y="1776"/>
                    </a:lnTo>
                    <a:lnTo>
                      <a:pt x="827" y="1804"/>
                    </a:lnTo>
                    <a:lnTo>
                      <a:pt x="813" y="1859"/>
                    </a:lnTo>
                    <a:lnTo>
                      <a:pt x="797" y="1912"/>
                    </a:lnTo>
                    <a:lnTo>
                      <a:pt x="780" y="1964"/>
                    </a:lnTo>
                    <a:lnTo>
                      <a:pt x="763" y="2013"/>
                    </a:lnTo>
                    <a:lnTo>
                      <a:pt x="747" y="2060"/>
                    </a:lnTo>
                    <a:lnTo>
                      <a:pt x="729" y="2103"/>
                    </a:lnTo>
                    <a:lnTo>
                      <a:pt x="715" y="2145"/>
                    </a:lnTo>
                    <a:lnTo>
                      <a:pt x="701" y="2183"/>
                    </a:lnTo>
                    <a:lnTo>
                      <a:pt x="689" y="2218"/>
                    </a:lnTo>
                    <a:lnTo>
                      <a:pt x="679" y="2252"/>
                    </a:lnTo>
                    <a:lnTo>
                      <a:pt x="668" y="2296"/>
                    </a:lnTo>
                    <a:lnTo>
                      <a:pt x="655" y="2346"/>
                    </a:lnTo>
                    <a:lnTo>
                      <a:pt x="646" y="2398"/>
                    </a:lnTo>
                    <a:lnTo>
                      <a:pt x="637" y="2448"/>
                    </a:lnTo>
                    <a:lnTo>
                      <a:pt x="630" y="2494"/>
                    </a:lnTo>
                    <a:lnTo>
                      <a:pt x="624" y="2531"/>
                    </a:lnTo>
                    <a:lnTo>
                      <a:pt x="621" y="2555"/>
                    </a:lnTo>
                    <a:lnTo>
                      <a:pt x="620" y="2564"/>
                    </a:lnTo>
                    <a:lnTo>
                      <a:pt x="603" y="2637"/>
                    </a:lnTo>
                    <a:lnTo>
                      <a:pt x="583" y="2703"/>
                    </a:lnTo>
                    <a:lnTo>
                      <a:pt x="561" y="2765"/>
                    </a:lnTo>
                    <a:lnTo>
                      <a:pt x="536" y="2821"/>
                    </a:lnTo>
                    <a:lnTo>
                      <a:pt x="510" y="2870"/>
                    </a:lnTo>
                    <a:lnTo>
                      <a:pt x="483" y="2916"/>
                    </a:lnTo>
                    <a:lnTo>
                      <a:pt x="455" y="2955"/>
                    </a:lnTo>
                    <a:lnTo>
                      <a:pt x="425" y="2990"/>
                    </a:lnTo>
                    <a:lnTo>
                      <a:pt x="395" y="3019"/>
                    </a:lnTo>
                    <a:lnTo>
                      <a:pt x="364" y="3044"/>
                    </a:lnTo>
                    <a:lnTo>
                      <a:pt x="333" y="3063"/>
                    </a:lnTo>
                    <a:lnTo>
                      <a:pt x="302" y="3078"/>
                    </a:lnTo>
                    <a:lnTo>
                      <a:pt x="272" y="3088"/>
                    </a:lnTo>
                    <a:lnTo>
                      <a:pt x="241" y="3094"/>
                    </a:lnTo>
                    <a:lnTo>
                      <a:pt x="211" y="3095"/>
                    </a:lnTo>
                    <a:lnTo>
                      <a:pt x="182" y="3092"/>
                    </a:lnTo>
                    <a:lnTo>
                      <a:pt x="155" y="3084"/>
                    </a:lnTo>
                    <a:lnTo>
                      <a:pt x="128" y="3072"/>
                    </a:lnTo>
                    <a:lnTo>
                      <a:pt x="103" y="3056"/>
                    </a:lnTo>
                    <a:lnTo>
                      <a:pt x="81" y="3036"/>
                    </a:lnTo>
                    <a:lnTo>
                      <a:pt x="61" y="3013"/>
                    </a:lnTo>
                    <a:lnTo>
                      <a:pt x="43" y="2985"/>
                    </a:lnTo>
                    <a:lnTo>
                      <a:pt x="28" y="2954"/>
                    </a:lnTo>
                    <a:lnTo>
                      <a:pt x="16" y="2920"/>
                    </a:lnTo>
                    <a:lnTo>
                      <a:pt x="7" y="2881"/>
                    </a:lnTo>
                    <a:lnTo>
                      <a:pt x="1" y="2840"/>
                    </a:lnTo>
                    <a:lnTo>
                      <a:pt x="0" y="2794"/>
                    </a:lnTo>
                    <a:lnTo>
                      <a:pt x="1" y="2746"/>
                    </a:lnTo>
                    <a:lnTo>
                      <a:pt x="7" y="2694"/>
                    </a:lnTo>
                    <a:lnTo>
                      <a:pt x="18" y="2640"/>
                    </a:lnTo>
                    <a:lnTo>
                      <a:pt x="34" y="2584"/>
                    </a:lnTo>
                    <a:lnTo>
                      <a:pt x="54" y="252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6980400" y="3378240"/>
                <a:ext cx="255600" cy="936720"/>
              </a:xfrm>
              <a:custGeom>
                <a:avLst/>
                <a:gdLst/>
                <a:ahLst/>
                <a:rect l="l" t="t" r="r" b="b"/>
                <a:pathLst>
                  <a:path w="805" h="2951">
                    <a:moveTo>
                      <a:pt x="68" y="2401"/>
                    </a:moveTo>
                    <a:lnTo>
                      <a:pt x="81" y="2359"/>
                    </a:lnTo>
                    <a:lnTo>
                      <a:pt x="97" y="2318"/>
                    </a:lnTo>
                    <a:lnTo>
                      <a:pt x="112" y="2278"/>
                    </a:lnTo>
                    <a:lnTo>
                      <a:pt x="129" y="2240"/>
                    </a:lnTo>
                    <a:lnTo>
                      <a:pt x="146" y="2203"/>
                    </a:lnTo>
                    <a:lnTo>
                      <a:pt x="164" y="2166"/>
                    </a:lnTo>
                    <a:lnTo>
                      <a:pt x="182" y="2132"/>
                    </a:lnTo>
                    <a:lnTo>
                      <a:pt x="201" y="2097"/>
                    </a:lnTo>
                    <a:lnTo>
                      <a:pt x="239" y="2032"/>
                    </a:lnTo>
                    <a:lnTo>
                      <a:pt x="277" y="1971"/>
                    </a:lnTo>
                    <a:lnTo>
                      <a:pt x="316" y="1910"/>
                    </a:lnTo>
                    <a:lnTo>
                      <a:pt x="356" y="1853"/>
                    </a:lnTo>
                    <a:lnTo>
                      <a:pt x="394" y="1795"/>
                    </a:lnTo>
                    <a:lnTo>
                      <a:pt x="431" y="1738"/>
                    </a:lnTo>
                    <a:lnTo>
                      <a:pt x="448" y="1710"/>
                    </a:lnTo>
                    <a:lnTo>
                      <a:pt x="465" y="1682"/>
                    </a:lnTo>
                    <a:lnTo>
                      <a:pt x="481" y="1653"/>
                    </a:lnTo>
                    <a:lnTo>
                      <a:pt x="497" y="1624"/>
                    </a:lnTo>
                    <a:lnTo>
                      <a:pt x="513" y="1594"/>
                    </a:lnTo>
                    <a:lnTo>
                      <a:pt x="527" y="1565"/>
                    </a:lnTo>
                    <a:lnTo>
                      <a:pt x="540" y="1534"/>
                    </a:lnTo>
                    <a:lnTo>
                      <a:pt x="552" y="1503"/>
                    </a:lnTo>
                    <a:lnTo>
                      <a:pt x="565" y="1471"/>
                    </a:lnTo>
                    <a:lnTo>
                      <a:pt x="575" y="1439"/>
                    </a:lnTo>
                    <a:lnTo>
                      <a:pt x="584" y="1406"/>
                    </a:lnTo>
                    <a:lnTo>
                      <a:pt x="592" y="1372"/>
                    </a:lnTo>
                    <a:lnTo>
                      <a:pt x="597" y="1348"/>
                    </a:lnTo>
                    <a:lnTo>
                      <a:pt x="600" y="1324"/>
                    </a:lnTo>
                    <a:lnTo>
                      <a:pt x="604" y="1298"/>
                    </a:lnTo>
                    <a:lnTo>
                      <a:pt x="607" y="1271"/>
                    </a:lnTo>
                    <a:lnTo>
                      <a:pt x="610" y="1212"/>
                    </a:lnTo>
                    <a:lnTo>
                      <a:pt x="613" y="1148"/>
                    </a:lnTo>
                    <a:lnTo>
                      <a:pt x="614" y="1080"/>
                    </a:lnTo>
                    <a:lnTo>
                      <a:pt x="613" y="1009"/>
                    </a:lnTo>
                    <a:lnTo>
                      <a:pt x="610" y="934"/>
                    </a:lnTo>
                    <a:lnTo>
                      <a:pt x="607" y="858"/>
                    </a:lnTo>
                    <a:lnTo>
                      <a:pt x="602" y="779"/>
                    </a:lnTo>
                    <a:lnTo>
                      <a:pt x="595" y="699"/>
                    </a:lnTo>
                    <a:lnTo>
                      <a:pt x="589" y="619"/>
                    </a:lnTo>
                    <a:lnTo>
                      <a:pt x="582" y="539"/>
                    </a:lnTo>
                    <a:lnTo>
                      <a:pt x="567" y="380"/>
                    </a:lnTo>
                    <a:lnTo>
                      <a:pt x="551" y="229"/>
                    </a:lnTo>
                    <a:lnTo>
                      <a:pt x="550" y="201"/>
                    </a:lnTo>
                    <a:lnTo>
                      <a:pt x="550" y="175"/>
                    </a:lnTo>
                    <a:lnTo>
                      <a:pt x="550" y="151"/>
                    </a:lnTo>
                    <a:lnTo>
                      <a:pt x="551" y="129"/>
                    </a:lnTo>
                    <a:lnTo>
                      <a:pt x="552" y="108"/>
                    </a:lnTo>
                    <a:lnTo>
                      <a:pt x="555" y="91"/>
                    </a:lnTo>
                    <a:lnTo>
                      <a:pt x="557" y="74"/>
                    </a:lnTo>
                    <a:lnTo>
                      <a:pt x="560" y="59"/>
                    </a:lnTo>
                    <a:lnTo>
                      <a:pt x="564" y="47"/>
                    </a:lnTo>
                    <a:lnTo>
                      <a:pt x="566" y="35"/>
                    </a:lnTo>
                    <a:lnTo>
                      <a:pt x="570" y="26"/>
                    </a:lnTo>
                    <a:lnTo>
                      <a:pt x="575" y="17"/>
                    </a:lnTo>
                    <a:lnTo>
                      <a:pt x="578" y="11"/>
                    </a:lnTo>
                    <a:lnTo>
                      <a:pt x="582" y="6"/>
                    </a:lnTo>
                    <a:lnTo>
                      <a:pt x="587" y="3"/>
                    </a:lnTo>
                    <a:lnTo>
                      <a:pt x="592" y="0"/>
                    </a:lnTo>
                    <a:lnTo>
                      <a:pt x="595" y="0"/>
                    </a:lnTo>
                    <a:lnTo>
                      <a:pt x="600" y="1"/>
                    </a:lnTo>
                    <a:lnTo>
                      <a:pt x="604" y="4"/>
                    </a:lnTo>
                    <a:lnTo>
                      <a:pt x="609" y="8"/>
                    </a:lnTo>
                    <a:lnTo>
                      <a:pt x="613" y="13"/>
                    </a:lnTo>
                    <a:lnTo>
                      <a:pt x="616" y="19"/>
                    </a:lnTo>
                    <a:lnTo>
                      <a:pt x="620" y="26"/>
                    </a:lnTo>
                    <a:lnTo>
                      <a:pt x="624" y="35"/>
                    </a:lnTo>
                    <a:lnTo>
                      <a:pt x="626" y="43"/>
                    </a:lnTo>
                    <a:lnTo>
                      <a:pt x="630" y="54"/>
                    </a:lnTo>
                    <a:lnTo>
                      <a:pt x="631" y="67"/>
                    </a:lnTo>
                    <a:lnTo>
                      <a:pt x="634" y="80"/>
                    </a:lnTo>
                    <a:lnTo>
                      <a:pt x="636" y="108"/>
                    </a:lnTo>
                    <a:lnTo>
                      <a:pt x="635" y="142"/>
                    </a:lnTo>
                    <a:lnTo>
                      <a:pt x="632" y="164"/>
                    </a:lnTo>
                    <a:lnTo>
                      <a:pt x="631" y="188"/>
                    </a:lnTo>
                    <a:lnTo>
                      <a:pt x="630" y="213"/>
                    </a:lnTo>
                    <a:lnTo>
                      <a:pt x="631" y="239"/>
                    </a:lnTo>
                    <a:lnTo>
                      <a:pt x="632" y="267"/>
                    </a:lnTo>
                    <a:lnTo>
                      <a:pt x="635" y="295"/>
                    </a:lnTo>
                    <a:lnTo>
                      <a:pt x="637" y="325"/>
                    </a:lnTo>
                    <a:lnTo>
                      <a:pt x="641" y="356"/>
                    </a:lnTo>
                    <a:lnTo>
                      <a:pt x="647" y="388"/>
                    </a:lnTo>
                    <a:lnTo>
                      <a:pt x="652" y="421"/>
                    </a:lnTo>
                    <a:lnTo>
                      <a:pt x="659" y="454"/>
                    </a:lnTo>
                    <a:lnTo>
                      <a:pt x="668" y="490"/>
                    </a:lnTo>
                    <a:lnTo>
                      <a:pt x="677" y="525"/>
                    </a:lnTo>
                    <a:lnTo>
                      <a:pt x="687" y="562"/>
                    </a:lnTo>
                    <a:lnTo>
                      <a:pt x="698" y="600"/>
                    </a:lnTo>
                    <a:lnTo>
                      <a:pt x="709" y="639"/>
                    </a:lnTo>
                    <a:lnTo>
                      <a:pt x="715" y="659"/>
                    </a:lnTo>
                    <a:lnTo>
                      <a:pt x="721" y="682"/>
                    </a:lnTo>
                    <a:lnTo>
                      <a:pt x="727" y="705"/>
                    </a:lnTo>
                    <a:lnTo>
                      <a:pt x="732" y="731"/>
                    </a:lnTo>
                    <a:lnTo>
                      <a:pt x="743" y="785"/>
                    </a:lnTo>
                    <a:lnTo>
                      <a:pt x="752" y="844"/>
                    </a:lnTo>
                    <a:lnTo>
                      <a:pt x="760" y="904"/>
                    </a:lnTo>
                    <a:lnTo>
                      <a:pt x="768" y="967"/>
                    </a:lnTo>
                    <a:lnTo>
                      <a:pt x="775" y="1030"/>
                    </a:lnTo>
                    <a:lnTo>
                      <a:pt x="780" y="1091"/>
                    </a:lnTo>
                    <a:lnTo>
                      <a:pt x="790" y="1204"/>
                    </a:lnTo>
                    <a:lnTo>
                      <a:pt x="796" y="1298"/>
                    </a:lnTo>
                    <a:lnTo>
                      <a:pt x="800" y="1362"/>
                    </a:lnTo>
                    <a:lnTo>
                      <a:pt x="801" y="1385"/>
                    </a:lnTo>
                    <a:lnTo>
                      <a:pt x="803" y="1418"/>
                    </a:lnTo>
                    <a:lnTo>
                      <a:pt x="805" y="1450"/>
                    </a:lnTo>
                    <a:lnTo>
                      <a:pt x="803" y="1482"/>
                    </a:lnTo>
                    <a:lnTo>
                      <a:pt x="803" y="1514"/>
                    </a:lnTo>
                    <a:lnTo>
                      <a:pt x="801" y="1545"/>
                    </a:lnTo>
                    <a:lnTo>
                      <a:pt x="798" y="1576"/>
                    </a:lnTo>
                    <a:lnTo>
                      <a:pt x="795" y="1607"/>
                    </a:lnTo>
                    <a:lnTo>
                      <a:pt x="790" y="1636"/>
                    </a:lnTo>
                    <a:lnTo>
                      <a:pt x="785" y="1666"/>
                    </a:lnTo>
                    <a:lnTo>
                      <a:pt x="780" y="1695"/>
                    </a:lnTo>
                    <a:lnTo>
                      <a:pt x="774" y="1725"/>
                    </a:lnTo>
                    <a:lnTo>
                      <a:pt x="767" y="1753"/>
                    </a:lnTo>
                    <a:lnTo>
                      <a:pt x="753" y="1808"/>
                    </a:lnTo>
                    <a:lnTo>
                      <a:pt x="737" y="1861"/>
                    </a:lnTo>
                    <a:lnTo>
                      <a:pt x="720" y="1913"/>
                    </a:lnTo>
                    <a:lnTo>
                      <a:pt x="703" y="1962"/>
                    </a:lnTo>
                    <a:lnTo>
                      <a:pt x="687" y="2009"/>
                    </a:lnTo>
                    <a:lnTo>
                      <a:pt x="669" y="2052"/>
                    </a:lnTo>
                    <a:lnTo>
                      <a:pt x="655" y="2094"/>
                    </a:lnTo>
                    <a:lnTo>
                      <a:pt x="641" y="2132"/>
                    </a:lnTo>
                    <a:lnTo>
                      <a:pt x="629" y="2167"/>
                    </a:lnTo>
                    <a:lnTo>
                      <a:pt x="619" y="2201"/>
                    </a:lnTo>
                    <a:lnTo>
                      <a:pt x="609" y="2240"/>
                    </a:lnTo>
                    <a:lnTo>
                      <a:pt x="599" y="2283"/>
                    </a:lnTo>
                    <a:lnTo>
                      <a:pt x="591" y="2327"/>
                    </a:lnTo>
                    <a:lnTo>
                      <a:pt x="582" y="2370"/>
                    </a:lnTo>
                    <a:lnTo>
                      <a:pt x="575" y="2410"/>
                    </a:lnTo>
                    <a:lnTo>
                      <a:pt x="570" y="2441"/>
                    </a:lnTo>
                    <a:lnTo>
                      <a:pt x="566" y="2461"/>
                    </a:lnTo>
                    <a:lnTo>
                      <a:pt x="565" y="2470"/>
                    </a:lnTo>
                    <a:lnTo>
                      <a:pt x="549" y="2534"/>
                    </a:lnTo>
                    <a:lnTo>
                      <a:pt x="530" y="2594"/>
                    </a:lnTo>
                    <a:lnTo>
                      <a:pt x="509" y="2650"/>
                    </a:lnTo>
                    <a:lnTo>
                      <a:pt x="487" y="2700"/>
                    </a:lnTo>
                    <a:lnTo>
                      <a:pt x="463" y="2746"/>
                    </a:lnTo>
                    <a:lnTo>
                      <a:pt x="437" y="2786"/>
                    </a:lnTo>
                    <a:lnTo>
                      <a:pt x="411" y="2822"/>
                    </a:lnTo>
                    <a:lnTo>
                      <a:pt x="383" y="2854"/>
                    </a:lnTo>
                    <a:lnTo>
                      <a:pt x="354" y="2881"/>
                    </a:lnTo>
                    <a:lnTo>
                      <a:pt x="326" y="2903"/>
                    </a:lnTo>
                    <a:lnTo>
                      <a:pt x="297" y="2921"/>
                    </a:lnTo>
                    <a:lnTo>
                      <a:pt x="267" y="2935"/>
                    </a:lnTo>
                    <a:lnTo>
                      <a:pt x="239" y="2945"/>
                    </a:lnTo>
                    <a:lnTo>
                      <a:pt x="210" y="2950"/>
                    </a:lnTo>
                    <a:lnTo>
                      <a:pt x="182" y="2951"/>
                    </a:lnTo>
                    <a:lnTo>
                      <a:pt x="156" y="2947"/>
                    </a:lnTo>
                    <a:lnTo>
                      <a:pt x="130" y="2941"/>
                    </a:lnTo>
                    <a:lnTo>
                      <a:pt x="107" y="2930"/>
                    </a:lnTo>
                    <a:lnTo>
                      <a:pt x="85" y="2915"/>
                    </a:lnTo>
                    <a:lnTo>
                      <a:pt x="65" y="2897"/>
                    </a:lnTo>
                    <a:lnTo>
                      <a:pt x="47" y="2875"/>
                    </a:lnTo>
                    <a:lnTo>
                      <a:pt x="32" y="2849"/>
                    </a:lnTo>
                    <a:lnTo>
                      <a:pt x="20" y="2819"/>
                    </a:lnTo>
                    <a:lnTo>
                      <a:pt x="10" y="2786"/>
                    </a:lnTo>
                    <a:lnTo>
                      <a:pt x="4" y="2749"/>
                    </a:lnTo>
                    <a:lnTo>
                      <a:pt x="0" y="2710"/>
                    </a:lnTo>
                    <a:lnTo>
                      <a:pt x="1" y="2667"/>
                    </a:lnTo>
                    <a:lnTo>
                      <a:pt x="5" y="2620"/>
                    </a:lnTo>
                    <a:lnTo>
                      <a:pt x="14" y="2570"/>
                    </a:lnTo>
                    <a:lnTo>
                      <a:pt x="27" y="2517"/>
                    </a:lnTo>
                    <a:lnTo>
                      <a:pt x="44" y="2460"/>
                    </a:lnTo>
                    <a:lnTo>
                      <a:pt x="68" y="240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6997680" y="3395880"/>
                <a:ext cx="236520" cy="888840"/>
              </a:xfrm>
              <a:custGeom>
                <a:avLst/>
                <a:gdLst/>
                <a:ahLst/>
                <a:rect l="l" t="t" r="r" b="b"/>
                <a:pathLst>
                  <a:path w="744" h="2804">
                    <a:moveTo>
                      <a:pt x="83" y="2281"/>
                    </a:moveTo>
                    <a:lnTo>
                      <a:pt x="96" y="2242"/>
                    </a:lnTo>
                    <a:lnTo>
                      <a:pt x="111" y="2205"/>
                    </a:lnTo>
                    <a:lnTo>
                      <a:pt x="126" y="2170"/>
                    </a:lnTo>
                    <a:lnTo>
                      <a:pt x="142" y="2135"/>
                    </a:lnTo>
                    <a:lnTo>
                      <a:pt x="158" y="2102"/>
                    </a:lnTo>
                    <a:lnTo>
                      <a:pt x="174" y="2070"/>
                    </a:lnTo>
                    <a:lnTo>
                      <a:pt x="191" y="2038"/>
                    </a:lnTo>
                    <a:lnTo>
                      <a:pt x="208" y="2007"/>
                    </a:lnTo>
                    <a:lnTo>
                      <a:pt x="242" y="1950"/>
                    </a:lnTo>
                    <a:lnTo>
                      <a:pt x="277" y="1893"/>
                    </a:lnTo>
                    <a:lnTo>
                      <a:pt x="311" y="1839"/>
                    </a:lnTo>
                    <a:lnTo>
                      <a:pt x="347" y="1785"/>
                    </a:lnTo>
                    <a:lnTo>
                      <a:pt x="380" y="1733"/>
                    </a:lnTo>
                    <a:lnTo>
                      <a:pt x="413" y="1680"/>
                    </a:lnTo>
                    <a:lnTo>
                      <a:pt x="444" y="1626"/>
                    </a:lnTo>
                    <a:lnTo>
                      <a:pt x="473" y="1571"/>
                    </a:lnTo>
                    <a:lnTo>
                      <a:pt x="486" y="1544"/>
                    </a:lnTo>
                    <a:lnTo>
                      <a:pt x="500" y="1514"/>
                    </a:lnTo>
                    <a:lnTo>
                      <a:pt x="512" y="1485"/>
                    </a:lnTo>
                    <a:lnTo>
                      <a:pt x="523" y="1455"/>
                    </a:lnTo>
                    <a:lnTo>
                      <a:pt x="534" y="1423"/>
                    </a:lnTo>
                    <a:lnTo>
                      <a:pt x="544" y="1391"/>
                    </a:lnTo>
                    <a:lnTo>
                      <a:pt x="552" y="1358"/>
                    </a:lnTo>
                    <a:lnTo>
                      <a:pt x="560" y="1325"/>
                    </a:lnTo>
                    <a:lnTo>
                      <a:pt x="565" y="1301"/>
                    </a:lnTo>
                    <a:lnTo>
                      <a:pt x="568" y="1277"/>
                    </a:lnTo>
                    <a:lnTo>
                      <a:pt x="572" y="1251"/>
                    </a:lnTo>
                    <a:lnTo>
                      <a:pt x="575" y="1225"/>
                    </a:lnTo>
                    <a:lnTo>
                      <a:pt x="580" y="1167"/>
                    </a:lnTo>
                    <a:lnTo>
                      <a:pt x="582" y="1107"/>
                    </a:lnTo>
                    <a:lnTo>
                      <a:pt x="582" y="1042"/>
                    </a:lnTo>
                    <a:lnTo>
                      <a:pt x="581" y="974"/>
                    </a:lnTo>
                    <a:lnTo>
                      <a:pt x="578" y="904"/>
                    </a:lnTo>
                    <a:lnTo>
                      <a:pt x="573" y="832"/>
                    </a:lnTo>
                    <a:lnTo>
                      <a:pt x="568" y="758"/>
                    </a:lnTo>
                    <a:lnTo>
                      <a:pt x="561" y="682"/>
                    </a:lnTo>
                    <a:lnTo>
                      <a:pt x="554" y="605"/>
                    </a:lnTo>
                    <a:lnTo>
                      <a:pt x="545" y="529"/>
                    </a:lnTo>
                    <a:lnTo>
                      <a:pt x="527" y="376"/>
                    </a:lnTo>
                    <a:lnTo>
                      <a:pt x="506" y="228"/>
                    </a:lnTo>
                    <a:lnTo>
                      <a:pt x="502" y="176"/>
                    </a:lnTo>
                    <a:lnTo>
                      <a:pt x="502" y="133"/>
                    </a:lnTo>
                    <a:lnTo>
                      <a:pt x="503" y="96"/>
                    </a:lnTo>
                    <a:lnTo>
                      <a:pt x="506" y="65"/>
                    </a:lnTo>
                    <a:lnTo>
                      <a:pt x="508" y="52"/>
                    </a:lnTo>
                    <a:lnTo>
                      <a:pt x="511" y="41"/>
                    </a:lnTo>
                    <a:lnTo>
                      <a:pt x="513" y="30"/>
                    </a:lnTo>
                    <a:lnTo>
                      <a:pt x="517" y="22"/>
                    </a:lnTo>
                    <a:lnTo>
                      <a:pt x="519" y="15"/>
                    </a:lnTo>
                    <a:lnTo>
                      <a:pt x="523" y="9"/>
                    </a:lnTo>
                    <a:lnTo>
                      <a:pt x="527" y="5"/>
                    </a:lnTo>
                    <a:lnTo>
                      <a:pt x="530" y="3"/>
                    </a:lnTo>
                    <a:lnTo>
                      <a:pt x="534" y="0"/>
                    </a:lnTo>
                    <a:lnTo>
                      <a:pt x="538" y="0"/>
                    </a:lnTo>
                    <a:lnTo>
                      <a:pt x="541" y="1"/>
                    </a:lnTo>
                    <a:lnTo>
                      <a:pt x="545" y="5"/>
                    </a:lnTo>
                    <a:lnTo>
                      <a:pt x="549" y="9"/>
                    </a:lnTo>
                    <a:lnTo>
                      <a:pt x="552" y="14"/>
                    </a:lnTo>
                    <a:lnTo>
                      <a:pt x="555" y="20"/>
                    </a:lnTo>
                    <a:lnTo>
                      <a:pt x="559" y="27"/>
                    </a:lnTo>
                    <a:lnTo>
                      <a:pt x="564" y="46"/>
                    </a:lnTo>
                    <a:lnTo>
                      <a:pt x="568" y="69"/>
                    </a:lnTo>
                    <a:lnTo>
                      <a:pt x="571" y="97"/>
                    </a:lnTo>
                    <a:lnTo>
                      <a:pt x="571" y="129"/>
                    </a:lnTo>
                    <a:lnTo>
                      <a:pt x="570" y="149"/>
                    </a:lnTo>
                    <a:lnTo>
                      <a:pt x="568" y="170"/>
                    </a:lnTo>
                    <a:lnTo>
                      <a:pt x="568" y="192"/>
                    </a:lnTo>
                    <a:lnTo>
                      <a:pt x="570" y="215"/>
                    </a:lnTo>
                    <a:lnTo>
                      <a:pt x="571" y="239"/>
                    </a:lnTo>
                    <a:lnTo>
                      <a:pt x="573" y="265"/>
                    </a:lnTo>
                    <a:lnTo>
                      <a:pt x="577" y="290"/>
                    </a:lnTo>
                    <a:lnTo>
                      <a:pt x="582" y="317"/>
                    </a:lnTo>
                    <a:lnTo>
                      <a:pt x="593" y="376"/>
                    </a:lnTo>
                    <a:lnTo>
                      <a:pt x="608" y="440"/>
                    </a:lnTo>
                    <a:lnTo>
                      <a:pt x="628" y="511"/>
                    </a:lnTo>
                    <a:lnTo>
                      <a:pt x="650" y="586"/>
                    </a:lnTo>
                    <a:lnTo>
                      <a:pt x="656" y="606"/>
                    </a:lnTo>
                    <a:lnTo>
                      <a:pt x="662" y="629"/>
                    </a:lnTo>
                    <a:lnTo>
                      <a:pt x="668" y="652"/>
                    </a:lnTo>
                    <a:lnTo>
                      <a:pt x="673" y="678"/>
                    </a:lnTo>
                    <a:lnTo>
                      <a:pt x="684" y="732"/>
                    </a:lnTo>
                    <a:lnTo>
                      <a:pt x="693" y="791"/>
                    </a:lnTo>
                    <a:lnTo>
                      <a:pt x="701" y="851"/>
                    </a:lnTo>
                    <a:lnTo>
                      <a:pt x="709" y="914"/>
                    </a:lnTo>
                    <a:lnTo>
                      <a:pt x="716" y="977"/>
                    </a:lnTo>
                    <a:lnTo>
                      <a:pt x="721" y="1038"/>
                    </a:lnTo>
                    <a:lnTo>
                      <a:pt x="731" y="1151"/>
                    </a:lnTo>
                    <a:lnTo>
                      <a:pt x="737" y="1245"/>
                    </a:lnTo>
                    <a:lnTo>
                      <a:pt x="741" y="1309"/>
                    </a:lnTo>
                    <a:lnTo>
                      <a:pt x="742" y="1332"/>
                    </a:lnTo>
                    <a:lnTo>
                      <a:pt x="744" y="1365"/>
                    </a:lnTo>
                    <a:lnTo>
                      <a:pt x="744" y="1397"/>
                    </a:lnTo>
                    <a:lnTo>
                      <a:pt x="744" y="1429"/>
                    </a:lnTo>
                    <a:lnTo>
                      <a:pt x="744" y="1461"/>
                    </a:lnTo>
                    <a:lnTo>
                      <a:pt x="742" y="1492"/>
                    </a:lnTo>
                    <a:lnTo>
                      <a:pt x="739" y="1523"/>
                    </a:lnTo>
                    <a:lnTo>
                      <a:pt x="736" y="1554"/>
                    </a:lnTo>
                    <a:lnTo>
                      <a:pt x="731" y="1583"/>
                    </a:lnTo>
                    <a:lnTo>
                      <a:pt x="726" y="1613"/>
                    </a:lnTo>
                    <a:lnTo>
                      <a:pt x="720" y="1642"/>
                    </a:lnTo>
                    <a:lnTo>
                      <a:pt x="714" y="1672"/>
                    </a:lnTo>
                    <a:lnTo>
                      <a:pt x="708" y="1700"/>
                    </a:lnTo>
                    <a:lnTo>
                      <a:pt x="693" y="1755"/>
                    </a:lnTo>
                    <a:lnTo>
                      <a:pt x="677" y="1808"/>
                    </a:lnTo>
                    <a:lnTo>
                      <a:pt x="660" y="1860"/>
                    </a:lnTo>
                    <a:lnTo>
                      <a:pt x="642" y="1909"/>
                    </a:lnTo>
                    <a:lnTo>
                      <a:pt x="626" y="1956"/>
                    </a:lnTo>
                    <a:lnTo>
                      <a:pt x="609" y="1999"/>
                    </a:lnTo>
                    <a:lnTo>
                      <a:pt x="594" y="2041"/>
                    </a:lnTo>
                    <a:lnTo>
                      <a:pt x="581" y="2079"/>
                    </a:lnTo>
                    <a:lnTo>
                      <a:pt x="570" y="2114"/>
                    </a:lnTo>
                    <a:lnTo>
                      <a:pt x="560" y="2148"/>
                    </a:lnTo>
                    <a:lnTo>
                      <a:pt x="551" y="2181"/>
                    </a:lnTo>
                    <a:lnTo>
                      <a:pt x="543" y="2218"/>
                    </a:lnTo>
                    <a:lnTo>
                      <a:pt x="534" y="2255"/>
                    </a:lnTo>
                    <a:lnTo>
                      <a:pt x="527" y="2290"/>
                    </a:lnTo>
                    <a:lnTo>
                      <a:pt x="521" y="2324"/>
                    </a:lnTo>
                    <a:lnTo>
                      <a:pt x="516" y="2349"/>
                    </a:lnTo>
                    <a:lnTo>
                      <a:pt x="512" y="2367"/>
                    </a:lnTo>
                    <a:lnTo>
                      <a:pt x="511" y="2373"/>
                    </a:lnTo>
                    <a:lnTo>
                      <a:pt x="496" y="2431"/>
                    </a:lnTo>
                    <a:lnTo>
                      <a:pt x="479" y="2483"/>
                    </a:lnTo>
                    <a:lnTo>
                      <a:pt x="460" y="2533"/>
                    </a:lnTo>
                    <a:lnTo>
                      <a:pt x="438" y="2577"/>
                    </a:lnTo>
                    <a:lnTo>
                      <a:pt x="416" y="2618"/>
                    </a:lnTo>
                    <a:lnTo>
                      <a:pt x="393" y="2653"/>
                    </a:lnTo>
                    <a:lnTo>
                      <a:pt x="367" y="2686"/>
                    </a:lnTo>
                    <a:lnTo>
                      <a:pt x="341" y="2715"/>
                    </a:lnTo>
                    <a:lnTo>
                      <a:pt x="315" y="2739"/>
                    </a:lnTo>
                    <a:lnTo>
                      <a:pt x="288" y="2759"/>
                    </a:lnTo>
                    <a:lnTo>
                      <a:pt x="261" y="2776"/>
                    </a:lnTo>
                    <a:lnTo>
                      <a:pt x="234" y="2789"/>
                    </a:lnTo>
                    <a:lnTo>
                      <a:pt x="207" y="2797"/>
                    </a:lnTo>
                    <a:lnTo>
                      <a:pt x="181" y="2803"/>
                    </a:lnTo>
                    <a:lnTo>
                      <a:pt x="155" y="2804"/>
                    </a:lnTo>
                    <a:lnTo>
                      <a:pt x="132" y="2802"/>
                    </a:lnTo>
                    <a:lnTo>
                      <a:pt x="108" y="2796"/>
                    </a:lnTo>
                    <a:lnTo>
                      <a:pt x="87" y="2786"/>
                    </a:lnTo>
                    <a:lnTo>
                      <a:pt x="68" y="2773"/>
                    </a:lnTo>
                    <a:lnTo>
                      <a:pt x="51" y="2755"/>
                    </a:lnTo>
                    <a:lnTo>
                      <a:pt x="35" y="2734"/>
                    </a:lnTo>
                    <a:lnTo>
                      <a:pt x="22" y="2710"/>
                    </a:lnTo>
                    <a:lnTo>
                      <a:pt x="11" y="2683"/>
                    </a:lnTo>
                    <a:lnTo>
                      <a:pt x="5" y="2651"/>
                    </a:lnTo>
                    <a:lnTo>
                      <a:pt x="0" y="2616"/>
                    </a:lnTo>
                    <a:lnTo>
                      <a:pt x="0" y="2578"/>
                    </a:lnTo>
                    <a:lnTo>
                      <a:pt x="3" y="2538"/>
                    </a:lnTo>
                    <a:lnTo>
                      <a:pt x="10" y="2492"/>
                    </a:lnTo>
                    <a:lnTo>
                      <a:pt x="21" y="2444"/>
                    </a:lnTo>
                    <a:lnTo>
                      <a:pt x="37" y="2392"/>
                    </a:lnTo>
                    <a:lnTo>
                      <a:pt x="57" y="2338"/>
                    </a:lnTo>
                    <a:lnTo>
                      <a:pt x="83" y="2281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7016760" y="3411720"/>
                <a:ext cx="217440" cy="844560"/>
              </a:xfrm>
              <a:custGeom>
                <a:avLst/>
                <a:gdLst/>
                <a:ahLst/>
                <a:rect l="l" t="t" r="r" b="b"/>
                <a:pathLst>
                  <a:path w="687" h="2661">
                    <a:moveTo>
                      <a:pt x="98" y="2159"/>
                    </a:moveTo>
                    <a:lnTo>
                      <a:pt x="113" y="2125"/>
                    </a:lnTo>
                    <a:lnTo>
                      <a:pt x="126" y="2092"/>
                    </a:lnTo>
                    <a:lnTo>
                      <a:pt x="141" y="2061"/>
                    </a:lnTo>
                    <a:lnTo>
                      <a:pt x="156" y="2030"/>
                    </a:lnTo>
                    <a:lnTo>
                      <a:pt x="187" y="1972"/>
                    </a:lnTo>
                    <a:lnTo>
                      <a:pt x="217" y="1917"/>
                    </a:lnTo>
                    <a:lnTo>
                      <a:pt x="279" y="1815"/>
                    </a:lnTo>
                    <a:lnTo>
                      <a:pt x="339" y="1718"/>
                    </a:lnTo>
                    <a:lnTo>
                      <a:pt x="369" y="1670"/>
                    </a:lnTo>
                    <a:lnTo>
                      <a:pt x="397" y="1621"/>
                    </a:lnTo>
                    <a:lnTo>
                      <a:pt x="423" y="1571"/>
                    </a:lnTo>
                    <a:lnTo>
                      <a:pt x="449" y="1520"/>
                    </a:lnTo>
                    <a:lnTo>
                      <a:pt x="460" y="1493"/>
                    </a:lnTo>
                    <a:lnTo>
                      <a:pt x="472" y="1464"/>
                    </a:lnTo>
                    <a:lnTo>
                      <a:pt x="482" y="1436"/>
                    </a:lnTo>
                    <a:lnTo>
                      <a:pt x="493" y="1407"/>
                    </a:lnTo>
                    <a:lnTo>
                      <a:pt x="503" y="1377"/>
                    </a:lnTo>
                    <a:lnTo>
                      <a:pt x="511" y="1345"/>
                    </a:lnTo>
                    <a:lnTo>
                      <a:pt x="520" y="1313"/>
                    </a:lnTo>
                    <a:lnTo>
                      <a:pt x="527" y="1279"/>
                    </a:lnTo>
                    <a:lnTo>
                      <a:pt x="532" y="1255"/>
                    </a:lnTo>
                    <a:lnTo>
                      <a:pt x="536" y="1232"/>
                    </a:lnTo>
                    <a:lnTo>
                      <a:pt x="540" y="1206"/>
                    </a:lnTo>
                    <a:lnTo>
                      <a:pt x="542" y="1180"/>
                    </a:lnTo>
                    <a:lnTo>
                      <a:pt x="547" y="1125"/>
                    </a:lnTo>
                    <a:lnTo>
                      <a:pt x="550" y="1067"/>
                    </a:lnTo>
                    <a:lnTo>
                      <a:pt x="550" y="1006"/>
                    </a:lnTo>
                    <a:lnTo>
                      <a:pt x="548" y="943"/>
                    </a:lnTo>
                    <a:lnTo>
                      <a:pt x="545" y="877"/>
                    </a:lnTo>
                    <a:lnTo>
                      <a:pt x="541" y="809"/>
                    </a:lnTo>
                    <a:lnTo>
                      <a:pt x="535" y="739"/>
                    </a:lnTo>
                    <a:lnTo>
                      <a:pt x="527" y="667"/>
                    </a:lnTo>
                    <a:lnTo>
                      <a:pt x="519" y="595"/>
                    </a:lnTo>
                    <a:lnTo>
                      <a:pt x="509" y="522"/>
                    </a:lnTo>
                    <a:lnTo>
                      <a:pt x="499" y="448"/>
                    </a:lnTo>
                    <a:lnTo>
                      <a:pt x="488" y="375"/>
                    </a:lnTo>
                    <a:lnTo>
                      <a:pt x="476" y="301"/>
                    </a:lnTo>
                    <a:lnTo>
                      <a:pt x="462" y="228"/>
                    </a:lnTo>
                    <a:lnTo>
                      <a:pt x="457" y="180"/>
                    </a:lnTo>
                    <a:lnTo>
                      <a:pt x="454" y="137"/>
                    </a:lnTo>
                    <a:lnTo>
                      <a:pt x="454" y="102"/>
                    </a:lnTo>
                    <a:lnTo>
                      <a:pt x="455" y="71"/>
                    </a:lnTo>
                    <a:lnTo>
                      <a:pt x="457" y="45"/>
                    </a:lnTo>
                    <a:lnTo>
                      <a:pt x="461" y="27"/>
                    </a:lnTo>
                    <a:lnTo>
                      <a:pt x="464" y="18"/>
                    </a:lnTo>
                    <a:lnTo>
                      <a:pt x="466" y="12"/>
                    </a:lnTo>
                    <a:lnTo>
                      <a:pt x="468" y="7"/>
                    </a:lnTo>
                    <a:lnTo>
                      <a:pt x="471" y="3"/>
                    </a:lnTo>
                    <a:lnTo>
                      <a:pt x="475" y="1"/>
                    </a:lnTo>
                    <a:lnTo>
                      <a:pt x="477" y="0"/>
                    </a:lnTo>
                    <a:lnTo>
                      <a:pt x="481" y="1"/>
                    </a:lnTo>
                    <a:lnTo>
                      <a:pt x="483" y="2"/>
                    </a:lnTo>
                    <a:lnTo>
                      <a:pt x="487" y="4"/>
                    </a:lnTo>
                    <a:lnTo>
                      <a:pt x="489" y="9"/>
                    </a:lnTo>
                    <a:lnTo>
                      <a:pt x="493" y="14"/>
                    </a:lnTo>
                    <a:lnTo>
                      <a:pt x="495" y="22"/>
                    </a:lnTo>
                    <a:lnTo>
                      <a:pt x="500" y="39"/>
                    </a:lnTo>
                    <a:lnTo>
                      <a:pt x="504" y="60"/>
                    </a:lnTo>
                    <a:lnTo>
                      <a:pt x="508" y="87"/>
                    </a:lnTo>
                    <a:lnTo>
                      <a:pt x="509" y="119"/>
                    </a:lnTo>
                    <a:lnTo>
                      <a:pt x="508" y="137"/>
                    </a:lnTo>
                    <a:lnTo>
                      <a:pt x="508" y="155"/>
                    </a:lnTo>
                    <a:lnTo>
                      <a:pt x="509" y="174"/>
                    </a:lnTo>
                    <a:lnTo>
                      <a:pt x="510" y="194"/>
                    </a:lnTo>
                    <a:lnTo>
                      <a:pt x="515" y="236"/>
                    </a:lnTo>
                    <a:lnTo>
                      <a:pt x="524" y="284"/>
                    </a:lnTo>
                    <a:lnTo>
                      <a:pt x="536" y="335"/>
                    </a:lnTo>
                    <a:lnTo>
                      <a:pt x="551" y="394"/>
                    </a:lnTo>
                    <a:lnTo>
                      <a:pt x="571" y="461"/>
                    </a:lnTo>
                    <a:lnTo>
                      <a:pt x="593" y="535"/>
                    </a:lnTo>
                    <a:lnTo>
                      <a:pt x="599" y="555"/>
                    </a:lnTo>
                    <a:lnTo>
                      <a:pt x="605" y="578"/>
                    </a:lnTo>
                    <a:lnTo>
                      <a:pt x="611" y="601"/>
                    </a:lnTo>
                    <a:lnTo>
                      <a:pt x="616" y="627"/>
                    </a:lnTo>
                    <a:lnTo>
                      <a:pt x="627" y="681"/>
                    </a:lnTo>
                    <a:lnTo>
                      <a:pt x="636" y="740"/>
                    </a:lnTo>
                    <a:lnTo>
                      <a:pt x="644" y="800"/>
                    </a:lnTo>
                    <a:lnTo>
                      <a:pt x="652" y="863"/>
                    </a:lnTo>
                    <a:lnTo>
                      <a:pt x="659" y="926"/>
                    </a:lnTo>
                    <a:lnTo>
                      <a:pt x="664" y="987"/>
                    </a:lnTo>
                    <a:lnTo>
                      <a:pt x="674" y="1100"/>
                    </a:lnTo>
                    <a:lnTo>
                      <a:pt x="680" y="1194"/>
                    </a:lnTo>
                    <a:lnTo>
                      <a:pt x="684" y="1258"/>
                    </a:lnTo>
                    <a:lnTo>
                      <a:pt x="685" y="1281"/>
                    </a:lnTo>
                    <a:lnTo>
                      <a:pt x="687" y="1314"/>
                    </a:lnTo>
                    <a:lnTo>
                      <a:pt x="687" y="1346"/>
                    </a:lnTo>
                    <a:lnTo>
                      <a:pt x="687" y="1378"/>
                    </a:lnTo>
                    <a:lnTo>
                      <a:pt x="687" y="1410"/>
                    </a:lnTo>
                    <a:lnTo>
                      <a:pt x="685" y="1441"/>
                    </a:lnTo>
                    <a:lnTo>
                      <a:pt x="682" y="1472"/>
                    </a:lnTo>
                    <a:lnTo>
                      <a:pt x="679" y="1503"/>
                    </a:lnTo>
                    <a:lnTo>
                      <a:pt x="674" y="1532"/>
                    </a:lnTo>
                    <a:lnTo>
                      <a:pt x="669" y="1562"/>
                    </a:lnTo>
                    <a:lnTo>
                      <a:pt x="663" y="1591"/>
                    </a:lnTo>
                    <a:lnTo>
                      <a:pt x="657" y="1621"/>
                    </a:lnTo>
                    <a:lnTo>
                      <a:pt x="651" y="1649"/>
                    </a:lnTo>
                    <a:lnTo>
                      <a:pt x="636" y="1704"/>
                    </a:lnTo>
                    <a:lnTo>
                      <a:pt x="620" y="1757"/>
                    </a:lnTo>
                    <a:lnTo>
                      <a:pt x="603" y="1809"/>
                    </a:lnTo>
                    <a:lnTo>
                      <a:pt x="585" y="1858"/>
                    </a:lnTo>
                    <a:lnTo>
                      <a:pt x="569" y="1905"/>
                    </a:lnTo>
                    <a:lnTo>
                      <a:pt x="552" y="1948"/>
                    </a:lnTo>
                    <a:lnTo>
                      <a:pt x="537" y="1990"/>
                    </a:lnTo>
                    <a:lnTo>
                      <a:pt x="524" y="2028"/>
                    </a:lnTo>
                    <a:lnTo>
                      <a:pt x="513" y="2063"/>
                    </a:lnTo>
                    <a:lnTo>
                      <a:pt x="503" y="2097"/>
                    </a:lnTo>
                    <a:lnTo>
                      <a:pt x="495" y="2123"/>
                    </a:lnTo>
                    <a:lnTo>
                      <a:pt x="488" y="2152"/>
                    </a:lnTo>
                    <a:lnTo>
                      <a:pt x="481" y="2183"/>
                    </a:lnTo>
                    <a:lnTo>
                      <a:pt x="475" y="2212"/>
                    </a:lnTo>
                    <a:lnTo>
                      <a:pt x="468" y="2238"/>
                    </a:lnTo>
                    <a:lnTo>
                      <a:pt x="464" y="2259"/>
                    </a:lnTo>
                    <a:lnTo>
                      <a:pt x="461" y="2274"/>
                    </a:lnTo>
                    <a:lnTo>
                      <a:pt x="460" y="2279"/>
                    </a:lnTo>
                    <a:lnTo>
                      <a:pt x="446" y="2328"/>
                    </a:lnTo>
                    <a:lnTo>
                      <a:pt x="430" y="2375"/>
                    </a:lnTo>
                    <a:lnTo>
                      <a:pt x="412" y="2418"/>
                    </a:lnTo>
                    <a:lnTo>
                      <a:pt x="392" y="2457"/>
                    </a:lnTo>
                    <a:lnTo>
                      <a:pt x="371" y="2493"/>
                    </a:lnTo>
                    <a:lnTo>
                      <a:pt x="349" y="2525"/>
                    </a:lnTo>
                    <a:lnTo>
                      <a:pt x="326" y="2554"/>
                    </a:lnTo>
                    <a:lnTo>
                      <a:pt x="301" y="2579"/>
                    </a:lnTo>
                    <a:lnTo>
                      <a:pt x="277" y="2601"/>
                    </a:lnTo>
                    <a:lnTo>
                      <a:pt x="252" y="2619"/>
                    </a:lnTo>
                    <a:lnTo>
                      <a:pt x="226" y="2635"/>
                    </a:lnTo>
                    <a:lnTo>
                      <a:pt x="201" y="2646"/>
                    </a:lnTo>
                    <a:lnTo>
                      <a:pt x="177" y="2655"/>
                    </a:lnTo>
                    <a:lnTo>
                      <a:pt x="153" y="2660"/>
                    </a:lnTo>
                    <a:lnTo>
                      <a:pt x="130" y="2661"/>
                    </a:lnTo>
                    <a:lnTo>
                      <a:pt x="109" y="2659"/>
                    </a:lnTo>
                    <a:lnTo>
                      <a:pt x="88" y="2654"/>
                    </a:lnTo>
                    <a:lnTo>
                      <a:pt x="70" y="2644"/>
                    </a:lnTo>
                    <a:lnTo>
                      <a:pt x="53" y="2632"/>
                    </a:lnTo>
                    <a:lnTo>
                      <a:pt x="37" y="2616"/>
                    </a:lnTo>
                    <a:lnTo>
                      <a:pt x="24" y="2597"/>
                    </a:lnTo>
                    <a:lnTo>
                      <a:pt x="14" y="2574"/>
                    </a:lnTo>
                    <a:lnTo>
                      <a:pt x="6" y="2548"/>
                    </a:lnTo>
                    <a:lnTo>
                      <a:pt x="2" y="2519"/>
                    </a:lnTo>
                    <a:lnTo>
                      <a:pt x="0" y="2485"/>
                    </a:lnTo>
                    <a:lnTo>
                      <a:pt x="2" y="2450"/>
                    </a:lnTo>
                    <a:lnTo>
                      <a:pt x="7" y="2409"/>
                    </a:lnTo>
                    <a:lnTo>
                      <a:pt x="17" y="2366"/>
                    </a:lnTo>
                    <a:lnTo>
                      <a:pt x="30" y="2319"/>
                    </a:lnTo>
                    <a:lnTo>
                      <a:pt x="49" y="2269"/>
                    </a:lnTo>
                    <a:lnTo>
                      <a:pt x="71" y="2216"/>
                    </a:lnTo>
                    <a:lnTo>
                      <a:pt x="98" y="2159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7034040" y="3427560"/>
                <a:ext cx="200160" cy="798480"/>
              </a:xfrm>
              <a:custGeom>
                <a:avLst/>
                <a:gdLst/>
                <a:ahLst/>
                <a:rect l="l" t="t" r="r" b="b"/>
                <a:pathLst>
                  <a:path w="632" h="2518">
                    <a:moveTo>
                      <a:pt x="117" y="2041"/>
                    </a:moveTo>
                    <a:lnTo>
                      <a:pt x="145" y="1983"/>
                    </a:lnTo>
                    <a:lnTo>
                      <a:pt x="172" y="1929"/>
                    </a:lnTo>
                    <a:lnTo>
                      <a:pt x="201" y="1878"/>
                    </a:lnTo>
                    <a:lnTo>
                      <a:pt x="229" y="1830"/>
                    </a:lnTo>
                    <a:lnTo>
                      <a:pt x="283" y="1740"/>
                    </a:lnTo>
                    <a:lnTo>
                      <a:pt x="335" y="1654"/>
                    </a:lnTo>
                    <a:lnTo>
                      <a:pt x="359" y="1610"/>
                    </a:lnTo>
                    <a:lnTo>
                      <a:pt x="384" y="1566"/>
                    </a:lnTo>
                    <a:lnTo>
                      <a:pt x="406" y="1519"/>
                    </a:lnTo>
                    <a:lnTo>
                      <a:pt x="428" y="1470"/>
                    </a:lnTo>
                    <a:lnTo>
                      <a:pt x="438" y="1444"/>
                    </a:lnTo>
                    <a:lnTo>
                      <a:pt x="448" y="1417"/>
                    </a:lnTo>
                    <a:lnTo>
                      <a:pt x="458" y="1390"/>
                    </a:lnTo>
                    <a:lnTo>
                      <a:pt x="466" y="1362"/>
                    </a:lnTo>
                    <a:lnTo>
                      <a:pt x="476" y="1331"/>
                    </a:lnTo>
                    <a:lnTo>
                      <a:pt x="484" y="1300"/>
                    </a:lnTo>
                    <a:lnTo>
                      <a:pt x="492" y="1268"/>
                    </a:lnTo>
                    <a:lnTo>
                      <a:pt x="500" y="1235"/>
                    </a:lnTo>
                    <a:lnTo>
                      <a:pt x="504" y="1212"/>
                    </a:lnTo>
                    <a:lnTo>
                      <a:pt x="508" y="1188"/>
                    </a:lnTo>
                    <a:lnTo>
                      <a:pt x="512" y="1164"/>
                    </a:lnTo>
                    <a:lnTo>
                      <a:pt x="514" y="1138"/>
                    </a:lnTo>
                    <a:lnTo>
                      <a:pt x="519" y="1085"/>
                    </a:lnTo>
                    <a:lnTo>
                      <a:pt x="522" y="1029"/>
                    </a:lnTo>
                    <a:lnTo>
                      <a:pt x="522" y="973"/>
                    </a:lnTo>
                    <a:lnTo>
                      <a:pt x="520" y="913"/>
                    </a:lnTo>
                    <a:lnTo>
                      <a:pt x="517" y="851"/>
                    </a:lnTo>
                    <a:lnTo>
                      <a:pt x="512" y="787"/>
                    </a:lnTo>
                    <a:lnTo>
                      <a:pt x="506" y="722"/>
                    </a:lnTo>
                    <a:lnTo>
                      <a:pt x="498" y="654"/>
                    </a:lnTo>
                    <a:lnTo>
                      <a:pt x="488" y="585"/>
                    </a:lnTo>
                    <a:lnTo>
                      <a:pt x="477" y="517"/>
                    </a:lnTo>
                    <a:lnTo>
                      <a:pt x="465" y="445"/>
                    </a:lnTo>
                    <a:lnTo>
                      <a:pt x="452" y="374"/>
                    </a:lnTo>
                    <a:lnTo>
                      <a:pt x="437" y="303"/>
                    </a:lnTo>
                    <a:lnTo>
                      <a:pt x="421" y="230"/>
                    </a:lnTo>
                    <a:lnTo>
                      <a:pt x="413" y="184"/>
                    </a:lnTo>
                    <a:lnTo>
                      <a:pt x="409" y="144"/>
                    </a:lnTo>
                    <a:lnTo>
                      <a:pt x="406" y="108"/>
                    </a:lnTo>
                    <a:lnTo>
                      <a:pt x="405" y="77"/>
                    </a:lnTo>
                    <a:lnTo>
                      <a:pt x="405" y="52"/>
                    </a:lnTo>
                    <a:lnTo>
                      <a:pt x="407" y="32"/>
                    </a:lnTo>
                    <a:lnTo>
                      <a:pt x="411" y="16"/>
                    </a:lnTo>
                    <a:lnTo>
                      <a:pt x="415" y="6"/>
                    </a:lnTo>
                    <a:lnTo>
                      <a:pt x="417" y="2"/>
                    </a:lnTo>
                    <a:lnTo>
                      <a:pt x="420" y="1"/>
                    </a:lnTo>
                    <a:lnTo>
                      <a:pt x="422" y="0"/>
                    </a:lnTo>
                    <a:lnTo>
                      <a:pt x="424" y="1"/>
                    </a:lnTo>
                    <a:lnTo>
                      <a:pt x="427" y="4"/>
                    </a:lnTo>
                    <a:lnTo>
                      <a:pt x="429" y="6"/>
                    </a:lnTo>
                    <a:lnTo>
                      <a:pt x="432" y="11"/>
                    </a:lnTo>
                    <a:lnTo>
                      <a:pt x="436" y="17"/>
                    </a:lnTo>
                    <a:lnTo>
                      <a:pt x="440" y="33"/>
                    </a:lnTo>
                    <a:lnTo>
                      <a:pt x="444" y="54"/>
                    </a:lnTo>
                    <a:lnTo>
                      <a:pt x="448" y="81"/>
                    </a:lnTo>
                    <a:lnTo>
                      <a:pt x="450" y="113"/>
                    </a:lnTo>
                    <a:lnTo>
                      <a:pt x="450" y="128"/>
                    </a:lnTo>
                    <a:lnTo>
                      <a:pt x="452" y="143"/>
                    </a:lnTo>
                    <a:lnTo>
                      <a:pt x="453" y="159"/>
                    </a:lnTo>
                    <a:lnTo>
                      <a:pt x="454" y="175"/>
                    </a:lnTo>
                    <a:lnTo>
                      <a:pt x="460" y="210"/>
                    </a:lnTo>
                    <a:lnTo>
                      <a:pt x="469" y="250"/>
                    </a:lnTo>
                    <a:lnTo>
                      <a:pt x="481" y="296"/>
                    </a:lnTo>
                    <a:lnTo>
                      <a:pt x="496" y="349"/>
                    </a:lnTo>
                    <a:lnTo>
                      <a:pt x="516" y="412"/>
                    </a:lnTo>
                    <a:lnTo>
                      <a:pt x="538" y="485"/>
                    </a:lnTo>
                    <a:lnTo>
                      <a:pt x="544" y="505"/>
                    </a:lnTo>
                    <a:lnTo>
                      <a:pt x="550" y="528"/>
                    </a:lnTo>
                    <a:lnTo>
                      <a:pt x="556" y="551"/>
                    </a:lnTo>
                    <a:lnTo>
                      <a:pt x="561" y="577"/>
                    </a:lnTo>
                    <a:lnTo>
                      <a:pt x="572" y="631"/>
                    </a:lnTo>
                    <a:lnTo>
                      <a:pt x="581" y="690"/>
                    </a:lnTo>
                    <a:lnTo>
                      <a:pt x="589" y="750"/>
                    </a:lnTo>
                    <a:lnTo>
                      <a:pt x="597" y="813"/>
                    </a:lnTo>
                    <a:lnTo>
                      <a:pt x="604" y="876"/>
                    </a:lnTo>
                    <a:lnTo>
                      <a:pt x="609" y="937"/>
                    </a:lnTo>
                    <a:lnTo>
                      <a:pt x="619" y="1050"/>
                    </a:lnTo>
                    <a:lnTo>
                      <a:pt x="625" y="1144"/>
                    </a:lnTo>
                    <a:lnTo>
                      <a:pt x="629" y="1208"/>
                    </a:lnTo>
                    <a:lnTo>
                      <a:pt x="630" y="1231"/>
                    </a:lnTo>
                    <a:lnTo>
                      <a:pt x="632" y="1264"/>
                    </a:lnTo>
                    <a:lnTo>
                      <a:pt x="632" y="1296"/>
                    </a:lnTo>
                    <a:lnTo>
                      <a:pt x="632" y="1328"/>
                    </a:lnTo>
                    <a:lnTo>
                      <a:pt x="632" y="1360"/>
                    </a:lnTo>
                    <a:lnTo>
                      <a:pt x="630" y="1391"/>
                    </a:lnTo>
                    <a:lnTo>
                      <a:pt x="627" y="1422"/>
                    </a:lnTo>
                    <a:lnTo>
                      <a:pt x="624" y="1453"/>
                    </a:lnTo>
                    <a:lnTo>
                      <a:pt x="619" y="1482"/>
                    </a:lnTo>
                    <a:lnTo>
                      <a:pt x="614" y="1512"/>
                    </a:lnTo>
                    <a:lnTo>
                      <a:pt x="608" y="1541"/>
                    </a:lnTo>
                    <a:lnTo>
                      <a:pt x="602" y="1571"/>
                    </a:lnTo>
                    <a:lnTo>
                      <a:pt x="596" y="1599"/>
                    </a:lnTo>
                    <a:lnTo>
                      <a:pt x="581" y="1654"/>
                    </a:lnTo>
                    <a:lnTo>
                      <a:pt x="565" y="1707"/>
                    </a:lnTo>
                    <a:lnTo>
                      <a:pt x="548" y="1759"/>
                    </a:lnTo>
                    <a:lnTo>
                      <a:pt x="530" y="1808"/>
                    </a:lnTo>
                    <a:lnTo>
                      <a:pt x="514" y="1855"/>
                    </a:lnTo>
                    <a:lnTo>
                      <a:pt x="497" y="1898"/>
                    </a:lnTo>
                    <a:lnTo>
                      <a:pt x="482" y="1940"/>
                    </a:lnTo>
                    <a:lnTo>
                      <a:pt x="469" y="1978"/>
                    </a:lnTo>
                    <a:lnTo>
                      <a:pt x="458" y="2013"/>
                    </a:lnTo>
                    <a:lnTo>
                      <a:pt x="448" y="2047"/>
                    </a:lnTo>
                    <a:lnTo>
                      <a:pt x="442" y="2068"/>
                    </a:lnTo>
                    <a:lnTo>
                      <a:pt x="436" y="2090"/>
                    </a:lnTo>
                    <a:lnTo>
                      <a:pt x="429" y="2113"/>
                    </a:lnTo>
                    <a:lnTo>
                      <a:pt x="423" y="2135"/>
                    </a:lnTo>
                    <a:lnTo>
                      <a:pt x="418" y="2155"/>
                    </a:lnTo>
                    <a:lnTo>
                      <a:pt x="413" y="2171"/>
                    </a:lnTo>
                    <a:lnTo>
                      <a:pt x="411" y="2181"/>
                    </a:lnTo>
                    <a:lnTo>
                      <a:pt x="410" y="2186"/>
                    </a:lnTo>
                    <a:lnTo>
                      <a:pt x="397" y="2227"/>
                    </a:lnTo>
                    <a:lnTo>
                      <a:pt x="383" y="2267"/>
                    </a:lnTo>
                    <a:lnTo>
                      <a:pt x="365" y="2303"/>
                    </a:lnTo>
                    <a:lnTo>
                      <a:pt x="347" y="2337"/>
                    </a:lnTo>
                    <a:lnTo>
                      <a:pt x="329" y="2368"/>
                    </a:lnTo>
                    <a:lnTo>
                      <a:pt x="308" y="2396"/>
                    </a:lnTo>
                    <a:lnTo>
                      <a:pt x="285" y="2422"/>
                    </a:lnTo>
                    <a:lnTo>
                      <a:pt x="263" y="2444"/>
                    </a:lnTo>
                    <a:lnTo>
                      <a:pt x="241" y="2464"/>
                    </a:lnTo>
                    <a:lnTo>
                      <a:pt x="218" y="2480"/>
                    </a:lnTo>
                    <a:lnTo>
                      <a:pt x="194" y="2493"/>
                    </a:lnTo>
                    <a:lnTo>
                      <a:pt x="172" y="2504"/>
                    </a:lnTo>
                    <a:lnTo>
                      <a:pt x="150" y="2512"/>
                    </a:lnTo>
                    <a:lnTo>
                      <a:pt x="128" y="2517"/>
                    </a:lnTo>
                    <a:lnTo>
                      <a:pt x="107" y="2518"/>
                    </a:lnTo>
                    <a:lnTo>
                      <a:pt x="89" y="2517"/>
                    </a:lnTo>
                    <a:lnTo>
                      <a:pt x="70" y="2512"/>
                    </a:lnTo>
                    <a:lnTo>
                      <a:pt x="53" y="2504"/>
                    </a:lnTo>
                    <a:lnTo>
                      <a:pt x="38" y="2493"/>
                    </a:lnTo>
                    <a:lnTo>
                      <a:pt x="26" y="2478"/>
                    </a:lnTo>
                    <a:lnTo>
                      <a:pt x="16" y="2460"/>
                    </a:lnTo>
                    <a:lnTo>
                      <a:pt x="7" y="2439"/>
                    </a:lnTo>
                    <a:lnTo>
                      <a:pt x="3" y="2416"/>
                    </a:lnTo>
                    <a:lnTo>
                      <a:pt x="0" y="2387"/>
                    </a:lnTo>
                    <a:lnTo>
                      <a:pt x="1" y="2357"/>
                    </a:lnTo>
                    <a:lnTo>
                      <a:pt x="6" y="2322"/>
                    </a:lnTo>
                    <a:lnTo>
                      <a:pt x="14" y="2284"/>
                    </a:lnTo>
                    <a:lnTo>
                      <a:pt x="26" y="2242"/>
                    </a:lnTo>
                    <a:lnTo>
                      <a:pt x="42" y="2198"/>
                    </a:lnTo>
                    <a:lnTo>
                      <a:pt x="62" y="2149"/>
                    </a:lnTo>
                    <a:lnTo>
                      <a:pt x="87" y="2097"/>
                    </a:lnTo>
                    <a:lnTo>
                      <a:pt x="117" y="2041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7051680" y="3443400"/>
                <a:ext cx="182520" cy="754200"/>
              </a:xfrm>
              <a:custGeom>
                <a:avLst/>
                <a:gdLst/>
                <a:ahLst/>
                <a:rect l="l" t="t" r="r" b="b"/>
                <a:pathLst>
                  <a:path w="578" h="2374">
                    <a:moveTo>
                      <a:pt x="136" y="1920"/>
                    </a:moveTo>
                    <a:lnTo>
                      <a:pt x="164" y="1871"/>
                    </a:lnTo>
                    <a:lnTo>
                      <a:pt x="190" y="1824"/>
                    </a:lnTo>
                    <a:lnTo>
                      <a:pt x="215" y="1781"/>
                    </a:lnTo>
                    <a:lnTo>
                      <a:pt x="240" y="1741"/>
                    </a:lnTo>
                    <a:lnTo>
                      <a:pt x="288" y="1665"/>
                    </a:lnTo>
                    <a:lnTo>
                      <a:pt x="331" y="1588"/>
                    </a:lnTo>
                    <a:lnTo>
                      <a:pt x="351" y="1550"/>
                    </a:lnTo>
                    <a:lnTo>
                      <a:pt x="370" y="1510"/>
                    </a:lnTo>
                    <a:lnTo>
                      <a:pt x="390" y="1467"/>
                    </a:lnTo>
                    <a:lnTo>
                      <a:pt x="409" y="1420"/>
                    </a:lnTo>
                    <a:lnTo>
                      <a:pt x="426" y="1369"/>
                    </a:lnTo>
                    <a:lnTo>
                      <a:pt x="442" y="1315"/>
                    </a:lnTo>
                    <a:lnTo>
                      <a:pt x="458" y="1255"/>
                    </a:lnTo>
                    <a:lnTo>
                      <a:pt x="473" y="1190"/>
                    </a:lnTo>
                    <a:lnTo>
                      <a:pt x="481" y="1143"/>
                    </a:lnTo>
                    <a:lnTo>
                      <a:pt x="487" y="1095"/>
                    </a:lnTo>
                    <a:lnTo>
                      <a:pt x="492" y="1045"/>
                    </a:lnTo>
                    <a:lnTo>
                      <a:pt x="495" y="993"/>
                    </a:lnTo>
                    <a:lnTo>
                      <a:pt x="495" y="939"/>
                    </a:lnTo>
                    <a:lnTo>
                      <a:pt x="492" y="882"/>
                    </a:lnTo>
                    <a:lnTo>
                      <a:pt x="490" y="824"/>
                    </a:lnTo>
                    <a:lnTo>
                      <a:pt x="484" y="765"/>
                    </a:lnTo>
                    <a:lnTo>
                      <a:pt x="476" y="704"/>
                    </a:lnTo>
                    <a:lnTo>
                      <a:pt x="468" y="641"/>
                    </a:lnTo>
                    <a:lnTo>
                      <a:pt x="457" y="577"/>
                    </a:lnTo>
                    <a:lnTo>
                      <a:pt x="444" y="511"/>
                    </a:lnTo>
                    <a:lnTo>
                      <a:pt x="431" y="443"/>
                    </a:lnTo>
                    <a:lnTo>
                      <a:pt x="416" y="374"/>
                    </a:lnTo>
                    <a:lnTo>
                      <a:pt x="399" y="303"/>
                    </a:lnTo>
                    <a:lnTo>
                      <a:pt x="380" y="230"/>
                    </a:lnTo>
                    <a:lnTo>
                      <a:pt x="370" y="189"/>
                    </a:lnTo>
                    <a:lnTo>
                      <a:pt x="364" y="149"/>
                    </a:lnTo>
                    <a:lnTo>
                      <a:pt x="359" y="115"/>
                    </a:lnTo>
                    <a:lnTo>
                      <a:pt x="356" y="84"/>
                    </a:lnTo>
                    <a:lnTo>
                      <a:pt x="355" y="58"/>
                    </a:lnTo>
                    <a:lnTo>
                      <a:pt x="355" y="37"/>
                    </a:lnTo>
                    <a:lnTo>
                      <a:pt x="356" y="21"/>
                    </a:lnTo>
                    <a:lnTo>
                      <a:pt x="358" y="9"/>
                    </a:lnTo>
                    <a:lnTo>
                      <a:pt x="359" y="5"/>
                    </a:lnTo>
                    <a:lnTo>
                      <a:pt x="362" y="3"/>
                    </a:lnTo>
                    <a:lnTo>
                      <a:pt x="363" y="0"/>
                    </a:lnTo>
                    <a:lnTo>
                      <a:pt x="366" y="0"/>
                    </a:lnTo>
                    <a:lnTo>
                      <a:pt x="368" y="2"/>
                    </a:lnTo>
                    <a:lnTo>
                      <a:pt x="370" y="4"/>
                    </a:lnTo>
                    <a:lnTo>
                      <a:pt x="373" y="8"/>
                    </a:lnTo>
                    <a:lnTo>
                      <a:pt x="375" y="13"/>
                    </a:lnTo>
                    <a:lnTo>
                      <a:pt x="379" y="27"/>
                    </a:lnTo>
                    <a:lnTo>
                      <a:pt x="384" y="47"/>
                    </a:lnTo>
                    <a:lnTo>
                      <a:pt x="388" y="72"/>
                    </a:lnTo>
                    <a:lnTo>
                      <a:pt x="391" y="104"/>
                    </a:lnTo>
                    <a:lnTo>
                      <a:pt x="394" y="127"/>
                    </a:lnTo>
                    <a:lnTo>
                      <a:pt x="398" y="153"/>
                    </a:lnTo>
                    <a:lnTo>
                      <a:pt x="405" y="181"/>
                    </a:lnTo>
                    <a:lnTo>
                      <a:pt x="414" y="214"/>
                    </a:lnTo>
                    <a:lnTo>
                      <a:pt x="427" y="255"/>
                    </a:lnTo>
                    <a:lnTo>
                      <a:pt x="442" y="304"/>
                    </a:lnTo>
                    <a:lnTo>
                      <a:pt x="462" y="363"/>
                    </a:lnTo>
                    <a:lnTo>
                      <a:pt x="484" y="435"/>
                    </a:lnTo>
                    <a:lnTo>
                      <a:pt x="490" y="455"/>
                    </a:lnTo>
                    <a:lnTo>
                      <a:pt x="496" y="478"/>
                    </a:lnTo>
                    <a:lnTo>
                      <a:pt x="502" y="501"/>
                    </a:lnTo>
                    <a:lnTo>
                      <a:pt x="507" y="527"/>
                    </a:lnTo>
                    <a:lnTo>
                      <a:pt x="518" y="581"/>
                    </a:lnTo>
                    <a:lnTo>
                      <a:pt x="527" y="640"/>
                    </a:lnTo>
                    <a:lnTo>
                      <a:pt x="535" y="700"/>
                    </a:lnTo>
                    <a:lnTo>
                      <a:pt x="543" y="763"/>
                    </a:lnTo>
                    <a:lnTo>
                      <a:pt x="550" y="826"/>
                    </a:lnTo>
                    <a:lnTo>
                      <a:pt x="555" y="887"/>
                    </a:lnTo>
                    <a:lnTo>
                      <a:pt x="565" y="1000"/>
                    </a:lnTo>
                    <a:lnTo>
                      <a:pt x="571" y="1094"/>
                    </a:lnTo>
                    <a:lnTo>
                      <a:pt x="575" y="1158"/>
                    </a:lnTo>
                    <a:lnTo>
                      <a:pt x="576" y="1181"/>
                    </a:lnTo>
                    <a:lnTo>
                      <a:pt x="578" y="1214"/>
                    </a:lnTo>
                    <a:lnTo>
                      <a:pt x="578" y="1246"/>
                    </a:lnTo>
                    <a:lnTo>
                      <a:pt x="578" y="1278"/>
                    </a:lnTo>
                    <a:lnTo>
                      <a:pt x="578" y="1310"/>
                    </a:lnTo>
                    <a:lnTo>
                      <a:pt x="576" y="1341"/>
                    </a:lnTo>
                    <a:lnTo>
                      <a:pt x="573" y="1372"/>
                    </a:lnTo>
                    <a:lnTo>
                      <a:pt x="570" y="1403"/>
                    </a:lnTo>
                    <a:lnTo>
                      <a:pt x="565" y="1432"/>
                    </a:lnTo>
                    <a:lnTo>
                      <a:pt x="560" y="1462"/>
                    </a:lnTo>
                    <a:lnTo>
                      <a:pt x="554" y="1491"/>
                    </a:lnTo>
                    <a:lnTo>
                      <a:pt x="548" y="1521"/>
                    </a:lnTo>
                    <a:lnTo>
                      <a:pt x="542" y="1549"/>
                    </a:lnTo>
                    <a:lnTo>
                      <a:pt x="527" y="1604"/>
                    </a:lnTo>
                    <a:lnTo>
                      <a:pt x="511" y="1657"/>
                    </a:lnTo>
                    <a:lnTo>
                      <a:pt x="494" y="1709"/>
                    </a:lnTo>
                    <a:lnTo>
                      <a:pt x="476" y="1758"/>
                    </a:lnTo>
                    <a:lnTo>
                      <a:pt x="460" y="1805"/>
                    </a:lnTo>
                    <a:lnTo>
                      <a:pt x="443" y="1848"/>
                    </a:lnTo>
                    <a:lnTo>
                      <a:pt x="428" y="1890"/>
                    </a:lnTo>
                    <a:lnTo>
                      <a:pt x="415" y="1928"/>
                    </a:lnTo>
                    <a:lnTo>
                      <a:pt x="404" y="1963"/>
                    </a:lnTo>
                    <a:lnTo>
                      <a:pt x="394" y="1997"/>
                    </a:lnTo>
                    <a:lnTo>
                      <a:pt x="390" y="2011"/>
                    </a:lnTo>
                    <a:lnTo>
                      <a:pt x="384" y="2027"/>
                    </a:lnTo>
                    <a:lnTo>
                      <a:pt x="379" y="2043"/>
                    </a:lnTo>
                    <a:lnTo>
                      <a:pt x="374" y="2058"/>
                    </a:lnTo>
                    <a:lnTo>
                      <a:pt x="369" y="2072"/>
                    </a:lnTo>
                    <a:lnTo>
                      <a:pt x="366" y="2082"/>
                    </a:lnTo>
                    <a:lnTo>
                      <a:pt x="362" y="2089"/>
                    </a:lnTo>
                    <a:lnTo>
                      <a:pt x="362" y="2091"/>
                    </a:lnTo>
                    <a:lnTo>
                      <a:pt x="350" y="2126"/>
                    </a:lnTo>
                    <a:lnTo>
                      <a:pt x="336" y="2158"/>
                    </a:lnTo>
                    <a:lnTo>
                      <a:pt x="320" y="2189"/>
                    </a:lnTo>
                    <a:lnTo>
                      <a:pt x="303" y="2217"/>
                    </a:lnTo>
                    <a:lnTo>
                      <a:pt x="286" y="2243"/>
                    </a:lnTo>
                    <a:lnTo>
                      <a:pt x="266" y="2267"/>
                    </a:lnTo>
                    <a:lnTo>
                      <a:pt x="246" y="2288"/>
                    </a:lnTo>
                    <a:lnTo>
                      <a:pt x="225" y="2308"/>
                    </a:lnTo>
                    <a:lnTo>
                      <a:pt x="204" y="2325"/>
                    </a:lnTo>
                    <a:lnTo>
                      <a:pt x="183" y="2340"/>
                    </a:lnTo>
                    <a:lnTo>
                      <a:pt x="163" y="2352"/>
                    </a:lnTo>
                    <a:lnTo>
                      <a:pt x="142" y="2361"/>
                    </a:lnTo>
                    <a:lnTo>
                      <a:pt x="122" y="2368"/>
                    </a:lnTo>
                    <a:lnTo>
                      <a:pt x="102" y="2373"/>
                    </a:lnTo>
                    <a:lnTo>
                      <a:pt x="85" y="2374"/>
                    </a:lnTo>
                    <a:lnTo>
                      <a:pt x="68" y="2373"/>
                    </a:lnTo>
                    <a:lnTo>
                      <a:pt x="52" y="2368"/>
                    </a:lnTo>
                    <a:lnTo>
                      <a:pt x="37" y="2362"/>
                    </a:lnTo>
                    <a:lnTo>
                      <a:pt x="26" y="2352"/>
                    </a:lnTo>
                    <a:lnTo>
                      <a:pt x="15" y="2339"/>
                    </a:lnTo>
                    <a:lnTo>
                      <a:pt x="8" y="2323"/>
                    </a:lnTo>
                    <a:lnTo>
                      <a:pt x="3" y="2303"/>
                    </a:lnTo>
                    <a:lnTo>
                      <a:pt x="0" y="2281"/>
                    </a:lnTo>
                    <a:lnTo>
                      <a:pt x="0" y="2254"/>
                    </a:lnTo>
                    <a:lnTo>
                      <a:pt x="4" y="2225"/>
                    </a:lnTo>
                    <a:lnTo>
                      <a:pt x="10" y="2192"/>
                    </a:lnTo>
                    <a:lnTo>
                      <a:pt x="21" y="2157"/>
                    </a:lnTo>
                    <a:lnTo>
                      <a:pt x="36" y="2116"/>
                    </a:lnTo>
                    <a:lnTo>
                      <a:pt x="54" y="2073"/>
                    </a:lnTo>
                    <a:lnTo>
                      <a:pt x="76" y="2026"/>
                    </a:lnTo>
                    <a:lnTo>
                      <a:pt x="104" y="1975"/>
                    </a:lnTo>
                    <a:lnTo>
                      <a:pt x="136" y="1920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067520" y="3457800"/>
                <a:ext cx="166680" cy="709560"/>
              </a:xfrm>
              <a:custGeom>
                <a:avLst/>
                <a:gdLst/>
                <a:ahLst/>
                <a:rect l="l" t="t" r="r" b="b"/>
                <a:pathLst>
                  <a:path w="527" h="2233">
                    <a:moveTo>
                      <a:pt x="525" y="1133"/>
                    </a:moveTo>
                    <a:lnTo>
                      <a:pt x="524" y="1110"/>
                    </a:lnTo>
                    <a:lnTo>
                      <a:pt x="520" y="1046"/>
                    </a:lnTo>
                    <a:lnTo>
                      <a:pt x="514" y="952"/>
                    </a:lnTo>
                    <a:lnTo>
                      <a:pt x="504" y="839"/>
                    </a:lnTo>
                    <a:lnTo>
                      <a:pt x="499" y="778"/>
                    </a:lnTo>
                    <a:lnTo>
                      <a:pt x="492" y="715"/>
                    </a:lnTo>
                    <a:lnTo>
                      <a:pt x="484" y="652"/>
                    </a:lnTo>
                    <a:lnTo>
                      <a:pt x="476" y="592"/>
                    </a:lnTo>
                    <a:lnTo>
                      <a:pt x="467" y="533"/>
                    </a:lnTo>
                    <a:lnTo>
                      <a:pt x="456" y="479"/>
                    </a:lnTo>
                    <a:lnTo>
                      <a:pt x="451" y="453"/>
                    </a:lnTo>
                    <a:lnTo>
                      <a:pt x="445" y="430"/>
                    </a:lnTo>
                    <a:lnTo>
                      <a:pt x="439" y="407"/>
                    </a:lnTo>
                    <a:lnTo>
                      <a:pt x="433" y="387"/>
                    </a:lnTo>
                    <a:lnTo>
                      <a:pt x="411" y="316"/>
                    </a:lnTo>
                    <a:lnTo>
                      <a:pt x="391" y="261"/>
                    </a:lnTo>
                    <a:lnTo>
                      <a:pt x="375" y="217"/>
                    </a:lnTo>
                    <a:lnTo>
                      <a:pt x="363" y="184"/>
                    </a:lnTo>
                    <a:lnTo>
                      <a:pt x="353" y="158"/>
                    </a:lnTo>
                    <a:lnTo>
                      <a:pt x="344" y="136"/>
                    </a:lnTo>
                    <a:lnTo>
                      <a:pt x="339" y="117"/>
                    </a:lnTo>
                    <a:lnTo>
                      <a:pt x="335" y="99"/>
                    </a:lnTo>
                    <a:lnTo>
                      <a:pt x="331" y="67"/>
                    </a:lnTo>
                    <a:lnTo>
                      <a:pt x="326" y="42"/>
                    </a:lnTo>
                    <a:lnTo>
                      <a:pt x="322" y="22"/>
                    </a:lnTo>
                    <a:lnTo>
                      <a:pt x="317" y="10"/>
                    </a:lnTo>
                    <a:lnTo>
                      <a:pt x="315" y="5"/>
                    </a:lnTo>
                    <a:lnTo>
                      <a:pt x="313" y="3"/>
                    </a:lnTo>
                    <a:lnTo>
                      <a:pt x="311" y="0"/>
                    </a:lnTo>
                    <a:lnTo>
                      <a:pt x="310" y="0"/>
                    </a:lnTo>
                    <a:lnTo>
                      <a:pt x="307" y="2"/>
                    </a:lnTo>
                    <a:lnTo>
                      <a:pt x="306" y="4"/>
                    </a:lnTo>
                    <a:lnTo>
                      <a:pt x="305" y="8"/>
                    </a:lnTo>
                    <a:lnTo>
                      <a:pt x="305" y="13"/>
                    </a:lnTo>
                    <a:lnTo>
                      <a:pt x="304" y="26"/>
                    </a:lnTo>
                    <a:lnTo>
                      <a:pt x="304" y="45"/>
                    </a:lnTo>
                    <a:lnTo>
                      <a:pt x="306" y="67"/>
                    </a:lnTo>
                    <a:lnTo>
                      <a:pt x="308" y="93"/>
                    </a:lnTo>
                    <a:lnTo>
                      <a:pt x="315" y="123"/>
                    </a:lnTo>
                    <a:lnTo>
                      <a:pt x="322" y="157"/>
                    </a:lnTo>
                    <a:lnTo>
                      <a:pt x="331" y="195"/>
                    </a:lnTo>
                    <a:lnTo>
                      <a:pt x="343" y="234"/>
                    </a:lnTo>
                    <a:lnTo>
                      <a:pt x="364" y="307"/>
                    </a:lnTo>
                    <a:lnTo>
                      <a:pt x="383" y="376"/>
                    </a:lnTo>
                    <a:lnTo>
                      <a:pt x="401" y="442"/>
                    </a:lnTo>
                    <a:lnTo>
                      <a:pt x="415" y="507"/>
                    </a:lnTo>
                    <a:lnTo>
                      <a:pt x="429" y="570"/>
                    </a:lnTo>
                    <a:lnTo>
                      <a:pt x="441" y="630"/>
                    </a:lnTo>
                    <a:lnTo>
                      <a:pt x="450" y="689"/>
                    </a:lnTo>
                    <a:lnTo>
                      <a:pt x="459" y="746"/>
                    </a:lnTo>
                    <a:lnTo>
                      <a:pt x="463" y="801"/>
                    </a:lnTo>
                    <a:lnTo>
                      <a:pt x="467" y="855"/>
                    </a:lnTo>
                    <a:lnTo>
                      <a:pt x="468" y="907"/>
                    </a:lnTo>
                    <a:lnTo>
                      <a:pt x="468" y="957"/>
                    </a:lnTo>
                    <a:lnTo>
                      <a:pt x="466" y="1006"/>
                    </a:lnTo>
                    <a:lnTo>
                      <a:pt x="461" y="1054"/>
                    </a:lnTo>
                    <a:lnTo>
                      <a:pt x="455" y="1101"/>
                    </a:lnTo>
                    <a:lnTo>
                      <a:pt x="446" y="1147"/>
                    </a:lnTo>
                    <a:lnTo>
                      <a:pt x="431" y="1213"/>
                    </a:lnTo>
                    <a:lnTo>
                      <a:pt x="418" y="1271"/>
                    </a:lnTo>
                    <a:lnTo>
                      <a:pt x="403" y="1324"/>
                    </a:lnTo>
                    <a:lnTo>
                      <a:pt x="390" y="1372"/>
                    </a:lnTo>
                    <a:lnTo>
                      <a:pt x="375" y="1416"/>
                    </a:lnTo>
                    <a:lnTo>
                      <a:pt x="360" y="1455"/>
                    </a:lnTo>
                    <a:lnTo>
                      <a:pt x="345" y="1492"/>
                    </a:lnTo>
                    <a:lnTo>
                      <a:pt x="329" y="1527"/>
                    </a:lnTo>
                    <a:lnTo>
                      <a:pt x="312" y="1559"/>
                    </a:lnTo>
                    <a:lnTo>
                      <a:pt x="295" y="1591"/>
                    </a:lnTo>
                    <a:lnTo>
                      <a:pt x="275" y="1623"/>
                    </a:lnTo>
                    <a:lnTo>
                      <a:pt x="256" y="1655"/>
                    </a:lnTo>
                    <a:lnTo>
                      <a:pt x="210" y="1724"/>
                    </a:lnTo>
                    <a:lnTo>
                      <a:pt x="158" y="1802"/>
                    </a:lnTo>
                    <a:lnTo>
                      <a:pt x="124" y="1855"/>
                    </a:lnTo>
                    <a:lnTo>
                      <a:pt x="94" y="1906"/>
                    </a:lnTo>
                    <a:lnTo>
                      <a:pt x="70" y="1951"/>
                    </a:lnTo>
                    <a:lnTo>
                      <a:pt x="49" y="1993"/>
                    </a:lnTo>
                    <a:lnTo>
                      <a:pt x="32" y="2031"/>
                    </a:lnTo>
                    <a:lnTo>
                      <a:pt x="18" y="2066"/>
                    </a:lnTo>
                    <a:lnTo>
                      <a:pt x="9" y="2096"/>
                    </a:lnTo>
                    <a:lnTo>
                      <a:pt x="3" y="2125"/>
                    </a:lnTo>
                    <a:lnTo>
                      <a:pt x="0" y="2148"/>
                    </a:lnTo>
                    <a:lnTo>
                      <a:pt x="0" y="2170"/>
                    </a:lnTo>
                    <a:lnTo>
                      <a:pt x="3" y="2187"/>
                    </a:lnTo>
                    <a:lnTo>
                      <a:pt x="8" y="2202"/>
                    </a:lnTo>
                    <a:lnTo>
                      <a:pt x="16" y="2213"/>
                    </a:lnTo>
                    <a:lnTo>
                      <a:pt x="25" y="2223"/>
                    </a:lnTo>
                    <a:lnTo>
                      <a:pt x="38" y="2229"/>
                    </a:lnTo>
                    <a:lnTo>
                      <a:pt x="51" y="2232"/>
                    </a:lnTo>
                    <a:lnTo>
                      <a:pt x="66" y="2233"/>
                    </a:lnTo>
                    <a:lnTo>
                      <a:pt x="82" y="2232"/>
                    </a:lnTo>
                    <a:lnTo>
                      <a:pt x="98" y="2227"/>
                    </a:lnTo>
                    <a:lnTo>
                      <a:pt x="117" y="2221"/>
                    </a:lnTo>
                    <a:lnTo>
                      <a:pt x="135" y="2212"/>
                    </a:lnTo>
                    <a:lnTo>
                      <a:pt x="153" y="2202"/>
                    </a:lnTo>
                    <a:lnTo>
                      <a:pt x="173" y="2189"/>
                    </a:lnTo>
                    <a:lnTo>
                      <a:pt x="192" y="2174"/>
                    </a:lnTo>
                    <a:lnTo>
                      <a:pt x="210" y="2158"/>
                    </a:lnTo>
                    <a:lnTo>
                      <a:pt x="228" y="2139"/>
                    </a:lnTo>
                    <a:lnTo>
                      <a:pt x="246" y="2120"/>
                    </a:lnTo>
                    <a:lnTo>
                      <a:pt x="263" y="2099"/>
                    </a:lnTo>
                    <a:lnTo>
                      <a:pt x="278" y="2077"/>
                    </a:lnTo>
                    <a:lnTo>
                      <a:pt x="292" y="2052"/>
                    </a:lnTo>
                    <a:lnTo>
                      <a:pt x="305" y="2026"/>
                    </a:lnTo>
                    <a:lnTo>
                      <a:pt x="316" y="2000"/>
                    </a:lnTo>
                    <a:lnTo>
                      <a:pt x="317" y="1999"/>
                    </a:lnTo>
                    <a:lnTo>
                      <a:pt x="319" y="1995"/>
                    </a:lnTo>
                    <a:lnTo>
                      <a:pt x="322" y="1990"/>
                    </a:lnTo>
                    <a:lnTo>
                      <a:pt x="327" y="1983"/>
                    </a:lnTo>
                    <a:lnTo>
                      <a:pt x="331" y="1976"/>
                    </a:lnTo>
                    <a:lnTo>
                      <a:pt x="335" y="1967"/>
                    </a:lnTo>
                    <a:lnTo>
                      <a:pt x="339" y="1957"/>
                    </a:lnTo>
                    <a:lnTo>
                      <a:pt x="343" y="1949"/>
                    </a:lnTo>
                    <a:lnTo>
                      <a:pt x="353" y="1915"/>
                    </a:lnTo>
                    <a:lnTo>
                      <a:pt x="364" y="1880"/>
                    </a:lnTo>
                    <a:lnTo>
                      <a:pt x="377" y="1842"/>
                    </a:lnTo>
                    <a:lnTo>
                      <a:pt x="392" y="1800"/>
                    </a:lnTo>
                    <a:lnTo>
                      <a:pt x="409" y="1757"/>
                    </a:lnTo>
                    <a:lnTo>
                      <a:pt x="425" y="1710"/>
                    </a:lnTo>
                    <a:lnTo>
                      <a:pt x="443" y="1661"/>
                    </a:lnTo>
                    <a:lnTo>
                      <a:pt x="460" y="1609"/>
                    </a:lnTo>
                    <a:lnTo>
                      <a:pt x="476" y="1556"/>
                    </a:lnTo>
                    <a:lnTo>
                      <a:pt x="491" y="1501"/>
                    </a:lnTo>
                    <a:lnTo>
                      <a:pt x="497" y="1473"/>
                    </a:lnTo>
                    <a:lnTo>
                      <a:pt x="503" y="1443"/>
                    </a:lnTo>
                    <a:lnTo>
                      <a:pt x="509" y="1414"/>
                    </a:lnTo>
                    <a:lnTo>
                      <a:pt x="514" y="1384"/>
                    </a:lnTo>
                    <a:lnTo>
                      <a:pt x="519" y="1355"/>
                    </a:lnTo>
                    <a:lnTo>
                      <a:pt x="522" y="1324"/>
                    </a:lnTo>
                    <a:lnTo>
                      <a:pt x="525" y="1293"/>
                    </a:lnTo>
                    <a:lnTo>
                      <a:pt x="527" y="1262"/>
                    </a:lnTo>
                    <a:lnTo>
                      <a:pt x="527" y="1230"/>
                    </a:lnTo>
                    <a:lnTo>
                      <a:pt x="527" y="1198"/>
                    </a:lnTo>
                    <a:lnTo>
                      <a:pt x="527" y="1166"/>
                    </a:lnTo>
                    <a:lnTo>
                      <a:pt x="525" y="1133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6916680" y="221616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81" h="75">
                    <a:moveTo>
                      <a:pt x="18" y="10"/>
                    </a:moveTo>
                    <a:lnTo>
                      <a:pt x="17" y="11"/>
                    </a:lnTo>
                    <a:lnTo>
                      <a:pt x="14" y="12"/>
                    </a:lnTo>
                    <a:lnTo>
                      <a:pt x="11" y="16"/>
                    </a:lnTo>
                    <a:lnTo>
                      <a:pt x="7" y="19"/>
                    </a:lnTo>
                    <a:lnTo>
                      <a:pt x="3" y="26"/>
                    </a:lnTo>
                    <a:lnTo>
                      <a:pt x="1" y="33"/>
                    </a:lnTo>
                    <a:lnTo>
                      <a:pt x="0" y="40"/>
                    </a:lnTo>
                    <a:lnTo>
                      <a:pt x="1" y="50"/>
                    </a:lnTo>
                    <a:lnTo>
                      <a:pt x="3" y="56"/>
                    </a:lnTo>
                    <a:lnTo>
                      <a:pt x="7" y="60"/>
                    </a:lnTo>
                    <a:lnTo>
                      <a:pt x="11" y="65"/>
                    </a:lnTo>
                    <a:lnTo>
                      <a:pt x="16" y="67"/>
                    </a:lnTo>
                    <a:lnTo>
                      <a:pt x="20" y="71"/>
                    </a:lnTo>
                    <a:lnTo>
                      <a:pt x="27" y="72"/>
                    </a:lnTo>
                    <a:lnTo>
                      <a:pt x="31" y="75"/>
                    </a:lnTo>
                    <a:lnTo>
                      <a:pt x="38" y="75"/>
                    </a:lnTo>
                    <a:lnTo>
                      <a:pt x="44" y="75"/>
                    </a:lnTo>
                    <a:lnTo>
                      <a:pt x="50" y="74"/>
                    </a:lnTo>
                    <a:lnTo>
                      <a:pt x="56" y="72"/>
                    </a:lnTo>
                    <a:lnTo>
                      <a:pt x="61" y="70"/>
                    </a:lnTo>
                    <a:lnTo>
                      <a:pt x="66" y="66"/>
                    </a:lnTo>
                    <a:lnTo>
                      <a:pt x="70" y="61"/>
                    </a:lnTo>
                    <a:lnTo>
                      <a:pt x="72" y="56"/>
                    </a:lnTo>
                    <a:lnTo>
                      <a:pt x="75" y="50"/>
                    </a:lnTo>
                    <a:lnTo>
                      <a:pt x="75" y="50"/>
                    </a:lnTo>
                    <a:lnTo>
                      <a:pt x="76" y="48"/>
                    </a:lnTo>
                    <a:lnTo>
                      <a:pt x="78" y="44"/>
                    </a:lnTo>
                    <a:lnTo>
                      <a:pt x="79" y="40"/>
                    </a:lnTo>
                    <a:lnTo>
                      <a:pt x="81" y="35"/>
                    </a:lnTo>
                    <a:lnTo>
                      <a:pt x="81" y="30"/>
                    </a:lnTo>
                    <a:lnTo>
                      <a:pt x="79" y="26"/>
                    </a:lnTo>
                    <a:lnTo>
                      <a:pt x="77" y="21"/>
                    </a:lnTo>
                    <a:lnTo>
                      <a:pt x="77" y="19"/>
                    </a:lnTo>
                    <a:lnTo>
                      <a:pt x="73" y="14"/>
                    </a:lnTo>
                    <a:lnTo>
                      <a:pt x="70" y="10"/>
                    </a:lnTo>
                    <a:lnTo>
                      <a:pt x="62" y="5"/>
                    </a:lnTo>
                    <a:lnTo>
                      <a:pt x="59" y="2"/>
                    </a:lnTo>
                    <a:lnTo>
                      <a:pt x="55" y="1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1"/>
                    </a:lnTo>
                    <a:lnTo>
                      <a:pt x="31" y="2"/>
                    </a:lnTo>
                    <a:lnTo>
                      <a:pt x="25" y="6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120f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6691320" y="3751200"/>
                <a:ext cx="254160" cy="730440"/>
              </a:xfrm>
              <a:custGeom>
                <a:avLst/>
                <a:gdLst/>
                <a:ahLst/>
                <a:rect l="l" t="t" r="r" b="b"/>
                <a:pathLst>
                  <a:path w="800" h="2297">
                    <a:moveTo>
                      <a:pt x="112" y="2281"/>
                    </a:moveTo>
                    <a:lnTo>
                      <a:pt x="128" y="2249"/>
                    </a:lnTo>
                    <a:lnTo>
                      <a:pt x="171" y="2160"/>
                    </a:lnTo>
                    <a:lnTo>
                      <a:pt x="236" y="2029"/>
                    </a:lnTo>
                    <a:lnTo>
                      <a:pt x="316" y="1865"/>
                    </a:lnTo>
                    <a:lnTo>
                      <a:pt x="406" y="1684"/>
                    </a:lnTo>
                    <a:lnTo>
                      <a:pt x="497" y="1496"/>
                    </a:lnTo>
                    <a:lnTo>
                      <a:pt x="583" y="1315"/>
                    </a:lnTo>
                    <a:lnTo>
                      <a:pt x="661" y="1154"/>
                    </a:lnTo>
                    <a:lnTo>
                      <a:pt x="677" y="1117"/>
                    </a:lnTo>
                    <a:lnTo>
                      <a:pt x="693" y="1079"/>
                    </a:lnTo>
                    <a:lnTo>
                      <a:pt x="708" y="1041"/>
                    </a:lnTo>
                    <a:lnTo>
                      <a:pt x="721" y="1002"/>
                    </a:lnTo>
                    <a:lnTo>
                      <a:pt x="733" y="963"/>
                    </a:lnTo>
                    <a:lnTo>
                      <a:pt x="746" y="925"/>
                    </a:lnTo>
                    <a:lnTo>
                      <a:pt x="757" y="887"/>
                    </a:lnTo>
                    <a:lnTo>
                      <a:pt x="765" y="849"/>
                    </a:lnTo>
                    <a:lnTo>
                      <a:pt x="774" y="812"/>
                    </a:lnTo>
                    <a:lnTo>
                      <a:pt x="781" y="776"/>
                    </a:lnTo>
                    <a:lnTo>
                      <a:pt x="787" y="741"/>
                    </a:lnTo>
                    <a:lnTo>
                      <a:pt x="792" y="708"/>
                    </a:lnTo>
                    <a:lnTo>
                      <a:pt x="796" y="674"/>
                    </a:lnTo>
                    <a:lnTo>
                      <a:pt x="799" y="644"/>
                    </a:lnTo>
                    <a:lnTo>
                      <a:pt x="800" y="614"/>
                    </a:lnTo>
                    <a:lnTo>
                      <a:pt x="800" y="587"/>
                    </a:lnTo>
                    <a:lnTo>
                      <a:pt x="799" y="561"/>
                    </a:lnTo>
                    <a:lnTo>
                      <a:pt x="796" y="538"/>
                    </a:lnTo>
                    <a:lnTo>
                      <a:pt x="792" y="517"/>
                    </a:lnTo>
                    <a:lnTo>
                      <a:pt x="787" y="500"/>
                    </a:lnTo>
                    <a:lnTo>
                      <a:pt x="780" y="484"/>
                    </a:lnTo>
                    <a:lnTo>
                      <a:pt x="773" y="471"/>
                    </a:lnTo>
                    <a:lnTo>
                      <a:pt x="763" y="463"/>
                    </a:lnTo>
                    <a:lnTo>
                      <a:pt x="752" y="457"/>
                    </a:lnTo>
                    <a:lnTo>
                      <a:pt x="738" y="454"/>
                    </a:lnTo>
                    <a:lnTo>
                      <a:pt x="725" y="455"/>
                    </a:lnTo>
                    <a:lnTo>
                      <a:pt x="709" y="462"/>
                    </a:lnTo>
                    <a:lnTo>
                      <a:pt x="692" y="470"/>
                    </a:lnTo>
                    <a:lnTo>
                      <a:pt x="673" y="484"/>
                    </a:lnTo>
                    <a:lnTo>
                      <a:pt x="652" y="501"/>
                    </a:lnTo>
                    <a:lnTo>
                      <a:pt x="630" y="524"/>
                    </a:lnTo>
                    <a:lnTo>
                      <a:pt x="607" y="551"/>
                    </a:lnTo>
                    <a:lnTo>
                      <a:pt x="582" y="580"/>
                    </a:lnTo>
                    <a:lnTo>
                      <a:pt x="560" y="605"/>
                    </a:lnTo>
                    <a:lnTo>
                      <a:pt x="538" y="630"/>
                    </a:lnTo>
                    <a:lnTo>
                      <a:pt x="517" y="652"/>
                    </a:lnTo>
                    <a:lnTo>
                      <a:pt x="496" y="672"/>
                    </a:lnTo>
                    <a:lnTo>
                      <a:pt x="476" y="690"/>
                    </a:lnTo>
                    <a:lnTo>
                      <a:pt x="458" y="706"/>
                    </a:lnTo>
                    <a:lnTo>
                      <a:pt x="441" y="721"/>
                    </a:lnTo>
                    <a:lnTo>
                      <a:pt x="425" y="733"/>
                    </a:lnTo>
                    <a:lnTo>
                      <a:pt x="409" y="743"/>
                    </a:lnTo>
                    <a:lnTo>
                      <a:pt x="393" y="753"/>
                    </a:lnTo>
                    <a:lnTo>
                      <a:pt x="379" y="759"/>
                    </a:lnTo>
                    <a:lnTo>
                      <a:pt x="365" y="764"/>
                    </a:lnTo>
                    <a:lnTo>
                      <a:pt x="353" y="768"/>
                    </a:lnTo>
                    <a:lnTo>
                      <a:pt x="341" y="770"/>
                    </a:lnTo>
                    <a:lnTo>
                      <a:pt x="331" y="770"/>
                    </a:lnTo>
                    <a:lnTo>
                      <a:pt x="321" y="768"/>
                    </a:lnTo>
                    <a:lnTo>
                      <a:pt x="311" y="765"/>
                    </a:lnTo>
                    <a:lnTo>
                      <a:pt x="303" y="760"/>
                    </a:lnTo>
                    <a:lnTo>
                      <a:pt x="295" y="754"/>
                    </a:lnTo>
                    <a:lnTo>
                      <a:pt x="289" y="747"/>
                    </a:lnTo>
                    <a:lnTo>
                      <a:pt x="283" y="738"/>
                    </a:lnTo>
                    <a:lnTo>
                      <a:pt x="278" y="727"/>
                    </a:lnTo>
                    <a:lnTo>
                      <a:pt x="274" y="716"/>
                    </a:lnTo>
                    <a:lnTo>
                      <a:pt x="271" y="703"/>
                    </a:lnTo>
                    <a:lnTo>
                      <a:pt x="268" y="688"/>
                    </a:lnTo>
                    <a:lnTo>
                      <a:pt x="266" y="672"/>
                    </a:lnTo>
                    <a:lnTo>
                      <a:pt x="266" y="655"/>
                    </a:lnTo>
                    <a:lnTo>
                      <a:pt x="265" y="637"/>
                    </a:lnTo>
                    <a:lnTo>
                      <a:pt x="266" y="618"/>
                    </a:lnTo>
                    <a:lnTo>
                      <a:pt x="267" y="597"/>
                    </a:lnTo>
                    <a:lnTo>
                      <a:pt x="270" y="576"/>
                    </a:lnTo>
                    <a:lnTo>
                      <a:pt x="274" y="532"/>
                    </a:lnTo>
                    <a:lnTo>
                      <a:pt x="278" y="489"/>
                    </a:lnTo>
                    <a:lnTo>
                      <a:pt x="281" y="446"/>
                    </a:lnTo>
                    <a:lnTo>
                      <a:pt x="283" y="405"/>
                    </a:lnTo>
                    <a:lnTo>
                      <a:pt x="283" y="364"/>
                    </a:lnTo>
                    <a:lnTo>
                      <a:pt x="283" y="326"/>
                    </a:lnTo>
                    <a:lnTo>
                      <a:pt x="281" y="289"/>
                    </a:lnTo>
                    <a:lnTo>
                      <a:pt x="277" y="254"/>
                    </a:lnTo>
                    <a:lnTo>
                      <a:pt x="271" y="220"/>
                    </a:lnTo>
                    <a:lnTo>
                      <a:pt x="262" y="190"/>
                    </a:lnTo>
                    <a:lnTo>
                      <a:pt x="257" y="175"/>
                    </a:lnTo>
                    <a:lnTo>
                      <a:pt x="252" y="160"/>
                    </a:lnTo>
                    <a:lnTo>
                      <a:pt x="246" y="147"/>
                    </a:lnTo>
                    <a:lnTo>
                      <a:pt x="240" y="133"/>
                    </a:lnTo>
                    <a:lnTo>
                      <a:pt x="233" y="121"/>
                    </a:lnTo>
                    <a:lnTo>
                      <a:pt x="225" y="109"/>
                    </a:lnTo>
                    <a:lnTo>
                      <a:pt x="217" y="97"/>
                    </a:lnTo>
                    <a:lnTo>
                      <a:pt x="207" y="86"/>
                    </a:lnTo>
                    <a:lnTo>
                      <a:pt x="197" y="77"/>
                    </a:lnTo>
                    <a:lnTo>
                      <a:pt x="187" y="68"/>
                    </a:lnTo>
                    <a:lnTo>
                      <a:pt x="175" y="59"/>
                    </a:lnTo>
                    <a:lnTo>
                      <a:pt x="164" y="51"/>
                    </a:lnTo>
                    <a:lnTo>
                      <a:pt x="122" y="21"/>
                    </a:lnTo>
                    <a:lnTo>
                      <a:pt x="95" y="2"/>
                    </a:lnTo>
                    <a:lnTo>
                      <a:pt x="90" y="0"/>
                    </a:lnTo>
                    <a:lnTo>
                      <a:pt x="85" y="0"/>
                    </a:lnTo>
                    <a:lnTo>
                      <a:pt x="81" y="2"/>
                    </a:lnTo>
                    <a:lnTo>
                      <a:pt x="79" y="5"/>
                    </a:lnTo>
                    <a:lnTo>
                      <a:pt x="75" y="13"/>
                    </a:lnTo>
                    <a:lnTo>
                      <a:pt x="73" y="21"/>
                    </a:lnTo>
                    <a:lnTo>
                      <a:pt x="70" y="34"/>
                    </a:lnTo>
                    <a:lnTo>
                      <a:pt x="69" y="48"/>
                    </a:lnTo>
                    <a:lnTo>
                      <a:pt x="65" y="88"/>
                    </a:lnTo>
                    <a:lnTo>
                      <a:pt x="63" y="143"/>
                    </a:lnTo>
                    <a:lnTo>
                      <a:pt x="59" y="216"/>
                    </a:lnTo>
                    <a:lnTo>
                      <a:pt x="57" y="305"/>
                    </a:lnTo>
                    <a:lnTo>
                      <a:pt x="48" y="550"/>
                    </a:lnTo>
                    <a:lnTo>
                      <a:pt x="33" y="891"/>
                    </a:lnTo>
                    <a:lnTo>
                      <a:pt x="23" y="1080"/>
                    </a:lnTo>
                    <a:lnTo>
                      <a:pt x="16" y="1256"/>
                    </a:lnTo>
                    <a:lnTo>
                      <a:pt x="10" y="1419"/>
                    </a:lnTo>
                    <a:lnTo>
                      <a:pt x="5" y="1566"/>
                    </a:lnTo>
                    <a:lnTo>
                      <a:pt x="3" y="1700"/>
                    </a:lnTo>
                    <a:lnTo>
                      <a:pt x="0" y="1821"/>
                    </a:lnTo>
                    <a:lnTo>
                      <a:pt x="1" y="1926"/>
                    </a:lnTo>
                    <a:lnTo>
                      <a:pt x="4" y="2020"/>
                    </a:lnTo>
                    <a:lnTo>
                      <a:pt x="6" y="2061"/>
                    </a:lnTo>
                    <a:lnTo>
                      <a:pt x="9" y="2099"/>
                    </a:lnTo>
                    <a:lnTo>
                      <a:pt x="12" y="2133"/>
                    </a:lnTo>
                    <a:lnTo>
                      <a:pt x="16" y="2165"/>
                    </a:lnTo>
                    <a:lnTo>
                      <a:pt x="20" y="2193"/>
                    </a:lnTo>
                    <a:lnTo>
                      <a:pt x="25" y="2217"/>
                    </a:lnTo>
                    <a:lnTo>
                      <a:pt x="31" y="2239"/>
                    </a:lnTo>
                    <a:lnTo>
                      <a:pt x="37" y="2256"/>
                    </a:lnTo>
                    <a:lnTo>
                      <a:pt x="44" y="2271"/>
                    </a:lnTo>
                    <a:lnTo>
                      <a:pt x="52" y="2282"/>
                    </a:lnTo>
                    <a:lnTo>
                      <a:pt x="59" y="2291"/>
                    </a:lnTo>
                    <a:lnTo>
                      <a:pt x="69" y="2295"/>
                    </a:lnTo>
                    <a:lnTo>
                      <a:pt x="79" y="2297"/>
                    </a:lnTo>
                    <a:lnTo>
                      <a:pt x="89" y="2294"/>
                    </a:lnTo>
                    <a:lnTo>
                      <a:pt x="100" y="2289"/>
                    </a:lnTo>
                    <a:lnTo>
                      <a:pt x="112" y="2281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6627960" y="4519800"/>
                <a:ext cx="479160" cy="474480"/>
              </a:xfrm>
              <a:custGeom>
                <a:avLst/>
                <a:gdLst/>
                <a:ahLst/>
                <a:rect l="l" t="t" r="r" b="b"/>
                <a:pathLst>
                  <a:path w="1509" h="1492">
                    <a:moveTo>
                      <a:pt x="206" y="937"/>
                    </a:moveTo>
                    <a:lnTo>
                      <a:pt x="230" y="921"/>
                    </a:lnTo>
                    <a:lnTo>
                      <a:pt x="296" y="874"/>
                    </a:lnTo>
                    <a:lnTo>
                      <a:pt x="342" y="842"/>
                    </a:lnTo>
                    <a:lnTo>
                      <a:pt x="393" y="804"/>
                    </a:lnTo>
                    <a:lnTo>
                      <a:pt x="451" y="761"/>
                    </a:lnTo>
                    <a:lnTo>
                      <a:pt x="513" y="714"/>
                    </a:lnTo>
                    <a:lnTo>
                      <a:pt x="578" y="663"/>
                    </a:lnTo>
                    <a:lnTo>
                      <a:pt x="645" y="610"/>
                    </a:lnTo>
                    <a:lnTo>
                      <a:pt x="713" y="553"/>
                    </a:lnTo>
                    <a:lnTo>
                      <a:pt x="780" y="494"/>
                    </a:lnTo>
                    <a:lnTo>
                      <a:pt x="813" y="465"/>
                    </a:lnTo>
                    <a:lnTo>
                      <a:pt x="845" y="435"/>
                    </a:lnTo>
                    <a:lnTo>
                      <a:pt x="877" y="404"/>
                    </a:lnTo>
                    <a:lnTo>
                      <a:pt x="908" y="375"/>
                    </a:lnTo>
                    <a:lnTo>
                      <a:pt x="937" y="344"/>
                    </a:lnTo>
                    <a:lnTo>
                      <a:pt x="965" y="315"/>
                    </a:lnTo>
                    <a:lnTo>
                      <a:pt x="992" y="285"/>
                    </a:lnTo>
                    <a:lnTo>
                      <a:pt x="1018" y="256"/>
                    </a:lnTo>
                    <a:lnTo>
                      <a:pt x="1043" y="226"/>
                    </a:lnTo>
                    <a:lnTo>
                      <a:pt x="1069" y="199"/>
                    </a:lnTo>
                    <a:lnTo>
                      <a:pt x="1096" y="172"/>
                    </a:lnTo>
                    <a:lnTo>
                      <a:pt x="1123" y="147"/>
                    </a:lnTo>
                    <a:lnTo>
                      <a:pt x="1150" y="125"/>
                    </a:lnTo>
                    <a:lnTo>
                      <a:pt x="1178" y="103"/>
                    </a:lnTo>
                    <a:lnTo>
                      <a:pt x="1205" y="83"/>
                    </a:lnTo>
                    <a:lnTo>
                      <a:pt x="1234" y="66"/>
                    </a:lnTo>
                    <a:lnTo>
                      <a:pt x="1261" y="50"/>
                    </a:lnTo>
                    <a:lnTo>
                      <a:pt x="1288" y="37"/>
                    </a:lnTo>
                    <a:lnTo>
                      <a:pt x="1314" y="24"/>
                    </a:lnTo>
                    <a:lnTo>
                      <a:pt x="1339" y="14"/>
                    </a:lnTo>
                    <a:lnTo>
                      <a:pt x="1363" y="7"/>
                    </a:lnTo>
                    <a:lnTo>
                      <a:pt x="1386" y="2"/>
                    </a:lnTo>
                    <a:lnTo>
                      <a:pt x="1408" y="0"/>
                    </a:lnTo>
                    <a:lnTo>
                      <a:pt x="1428" y="0"/>
                    </a:lnTo>
                    <a:lnTo>
                      <a:pt x="1446" y="2"/>
                    </a:lnTo>
                    <a:lnTo>
                      <a:pt x="1462" y="7"/>
                    </a:lnTo>
                    <a:lnTo>
                      <a:pt x="1476" y="16"/>
                    </a:lnTo>
                    <a:lnTo>
                      <a:pt x="1488" y="27"/>
                    </a:lnTo>
                    <a:lnTo>
                      <a:pt x="1497" y="40"/>
                    </a:lnTo>
                    <a:lnTo>
                      <a:pt x="1504" y="58"/>
                    </a:lnTo>
                    <a:lnTo>
                      <a:pt x="1508" y="77"/>
                    </a:lnTo>
                    <a:lnTo>
                      <a:pt x="1509" y="101"/>
                    </a:lnTo>
                    <a:lnTo>
                      <a:pt x="1507" y="128"/>
                    </a:lnTo>
                    <a:lnTo>
                      <a:pt x="1501" y="157"/>
                    </a:lnTo>
                    <a:lnTo>
                      <a:pt x="1491" y="190"/>
                    </a:lnTo>
                    <a:lnTo>
                      <a:pt x="1478" y="227"/>
                    </a:lnTo>
                    <a:lnTo>
                      <a:pt x="1461" y="268"/>
                    </a:lnTo>
                    <a:lnTo>
                      <a:pt x="1440" y="312"/>
                    </a:lnTo>
                    <a:lnTo>
                      <a:pt x="1414" y="360"/>
                    </a:lnTo>
                    <a:lnTo>
                      <a:pt x="1385" y="413"/>
                    </a:lnTo>
                    <a:lnTo>
                      <a:pt x="1352" y="466"/>
                    </a:lnTo>
                    <a:lnTo>
                      <a:pt x="1316" y="520"/>
                    </a:lnTo>
                    <a:lnTo>
                      <a:pt x="1278" y="572"/>
                    </a:lnTo>
                    <a:lnTo>
                      <a:pt x="1238" y="623"/>
                    </a:lnTo>
                    <a:lnTo>
                      <a:pt x="1198" y="673"/>
                    </a:lnTo>
                    <a:lnTo>
                      <a:pt x="1155" y="722"/>
                    </a:lnTo>
                    <a:lnTo>
                      <a:pt x="1111" y="771"/>
                    </a:lnTo>
                    <a:lnTo>
                      <a:pt x="1066" y="818"/>
                    </a:lnTo>
                    <a:lnTo>
                      <a:pt x="1019" y="863"/>
                    </a:lnTo>
                    <a:lnTo>
                      <a:pt x="973" y="909"/>
                    </a:lnTo>
                    <a:lnTo>
                      <a:pt x="926" y="952"/>
                    </a:lnTo>
                    <a:lnTo>
                      <a:pt x="878" y="994"/>
                    </a:lnTo>
                    <a:lnTo>
                      <a:pt x="830" y="1034"/>
                    </a:lnTo>
                    <a:lnTo>
                      <a:pt x="782" y="1074"/>
                    </a:lnTo>
                    <a:lnTo>
                      <a:pt x="734" y="1112"/>
                    </a:lnTo>
                    <a:lnTo>
                      <a:pt x="686" y="1149"/>
                    </a:lnTo>
                    <a:lnTo>
                      <a:pt x="639" y="1183"/>
                    </a:lnTo>
                    <a:lnTo>
                      <a:pt x="594" y="1216"/>
                    </a:lnTo>
                    <a:lnTo>
                      <a:pt x="548" y="1248"/>
                    </a:lnTo>
                    <a:lnTo>
                      <a:pt x="504" y="1278"/>
                    </a:lnTo>
                    <a:lnTo>
                      <a:pt x="461" y="1306"/>
                    </a:lnTo>
                    <a:lnTo>
                      <a:pt x="419" y="1333"/>
                    </a:lnTo>
                    <a:lnTo>
                      <a:pt x="380" y="1358"/>
                    </a:lnTo>
                    <a:lnTo>
                      <a:pt x="342" y="1380"/>
                    </a:lnTo>
                    <a:lnTo>
                      <a:pt x="306" y="1401"/>
                    </a:lnTo>
                    <a:lnTo>
                      <a:pt x="273" y="1419"/>
                    </a:lnTo>
                    <a:lnTo>
                      <a:pt x="241" y="1436"/>
                    </a:lnTo>
                    <a:lnTo>
                      <a:pt x="212" y="1451"/>
                    </a:lnTo>
                    <a:lnTo>
                      <a:pt x="187" y="1463"/>
                    </a:lnTo>
                    <a:lnTo>
                      <a:pt x="163" y="1474"/>
                    </a:lnTo>
                    <a:lnTo>
                      <a:pt x="144" y="1482"/>
                    </a:lnTo>
                    <a:lnTo>
                      <a:pt x="126" y="1488"/>
                    </a:lnTo>
                    <a:lnTo>
                      <a:pt x="113" y="1492"/>
                    </a:lnTo>
                    <a:lnTo>
                      <a:pt x="99" y="1492"/>
                    </a:lnTo>
                    <a:lnTo>
                      <a:pt x="86" y="1488"/>
                    </a:lnTo>
                    <a:lnTo>
                      <a:pt x="73" y="1482"/>
                    </a:lnTo>
                    <a:lnTo>
                      <a:pt x="61" y="1473"/>
                    </a:lnTo>
                    <a:lnTo>
                      <a:pt x="51" y="1462"/>
                    </a:lnTo>
                    <a:lnTo>
                      <a:pt x="41" y="1449"/>
                    </a:lnTo>
                    <a:lnTo>
                      <a:pt x="33" y="1433"/>
                    </a:lnTo>
                    <a:lnTo>
                      <a:pt x="24" y="1415"/>
                    </a:lnTo>
                    <a:lnTo>
                      <a:pt x="17" y="1396"/>
                    </a:lnTo>
                    <a:lnTo>
                      <a:pt x="12" y="1375"/>
                    </a:lnTo>
                    <a:lnTo>
                      <a:pt x="7" y="1351"/>
                    </a:lnTo>
                    <a:lnTo>
                      <a:pt x="3" y="1328"/>
                    </a:lnTo>
                    <a:lnTo>
                      <a:pt x="1" y="1304"/>
                    </a:lnTo>
                    <a:lnTo>
                      <a:pt x="0" y="1279"/>
                    </a:lnTo>
                    <a:lnTo>
                      <a:pt x="0" y="1253"/>
                    </a:lnTo>
                    <a:lnTo>
                      <a:pt x="1" y="1227"/>
                    </a:lnTo>
                    <a:lnTo>
                      <a:pt x="3" y="1201"/>
                    </a:lnTo>
                    <a:lnTo>
                      <a:pt x="7" y="1176"/>
                    </a:lnTo>
                    <a:lnTo>
                      <a:pt x="13" y="1150"/>
                    </a:lnTo>
                    <a:lnTo>
                      <a:pt x="19" y="1124"/>
                    </a:lnTo>
                    <a:lnTo>
                      <a:pt x="28" y="1099"/>
                    </a:lnTo>
                    <a:lnTo>
                      <a:pt x="38" y="1076"/>
                    </a:lnTo>
                    <a:lnTo>
                      <a:pt x="50" y="1054"/>
                    </a:lnTo>
                    <a:lnTo>
                      <a:pt x="64" y="1033"/>
                    </a:lnTo>
                    <a:lnTo>
                      <a:pt x="78" y="1012"/>
                    </a:lnTo>
                    <a:lnTo>
                      <a:pt x="94" y="995"/>
                    </a:lnTo>
                    <a:lnTo>
                      <a:pt x="113" y="979"/>
                    </a:lnTo>
                    <a:lnTo>
                      <a:pt x="134" y="964"/>
                    </a:lnTo>
                    <a:lnTo>
                      <a:pt x="156" y="953"/>
                    </a:lnTo>
                    <a:lnTo>
                      <a:pt x="179" y="943"/>
                    </a:lnTo>
                    <a:lnTo>
                      <a:pt x="206" y="937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6627960" y="4552920"/>
                <a:ext cx="447480" cy="435240"/>
              </a:xfrm>
              <a:custGeom>
                <a:avLst/>
                <a:gdLst/>
                <a:ahLst/>
                <a:rect l="l" t="t" r="r" b="b"/>
                <a:pathLst>
                  <a:path w="1408" h="1373">
                    <a:moveTo>
                      <a:pt x="958" y="233"/>
                    </a:moveTo>
                    <a:lnTo>
                      <a:pt x="981" y="206"/>
                    </a:lnTo>
                    <a:lnTo>
                      <a:pt x="1005" y="182"/>
                    </a:lnTo>
                    <a:lnTo>
                      <a:pt x="1029" y="157"/>
                    </a:lnTo>
                    <a:lnTo>
                      <a:pt x="1055" y="135"/>
                    </a:lnTo>
                    <a:lnTo>
                      <a:pt x="1080" y="114"/>
                    </a:lnTo>
                    <a:lnTo>
                      <a:pt x="1106" y="94"/>
                    </a:lnTo>
                    <a:lnTo>
                      <a:pt x="1131" y="76"/>
                    </a:lnTo>
                    <a:lnTo>
                      <a:pt x="1157" y="60"/>
                    </a:lnTo>
                    <a:lnTo>
                      <a:pt x="1182" y="45"/>
                    </a:lnTo>
                    <a:lnTo>
                      <a:pt x="1206" y="33"/>
                    </a:lnTo>
                    <a:lnTo>
                      <a:pt x="1230" y="22"/>
                    </a:lnTo>
                    <a:lnTo>
                      <a:pt x="1253" y="13"/>
                    </a:lnTo>
                    <a:lnTo>
                      <a:pt x="1275" y="6"/>
                    </a:lnTo>
                    <a:lnTo>
                      <a:pt x="1296" y="2"/>
                    </a:lnTo>
                    <a:lnTo>
                      <a:pt x="1316" y="0"/>
                    </a:lnTo>
                    <a:lnTo>
                      <a:pt x="1334" y="0"/>
                    </a:lnTo>
                    <a:lnTo>
                      <a:pt x="1352" y="2"/>
                    </a:lnTo>
                    <a:lnTo>
                      <a:pt x="1366" y="7"/>
                    </a:lnTo>
                    <a:lnTo>
                      <a:pt x="1379" y="14"/>
                    </a:lnTo>
                    <a:lnTo>
                      <a:pt x="1390" y="24"/>
                    </a:lnTo>
                    <a:lnTo>
                      <a:pt x="1398" y="36"/>
                    </a:lnTo>
                    <a:lnTo>
                      <a:pt x="1405" y="52"/>
                    </a:lnTo>
                    <a:lnTo>
                      <a:pt x="1407" y="70"/>
                    </a:lnTo>
                    <a:lnTo>
                      <a:pt x="1408" y="92"/>
                    </a:lnTo>
                    <a:lnTo>
                      <a:pt x="1406" y="116"/>
                    </a:lnTo>
                    <a:lnTo>
                      <a:pt x="1401" y="143"/>
                    </a:lnTo>
                    <a:lnTo>
                      <a:pt x="1392" y="174"/>
                    </a:lnTo>
                    <a:lnTo>
                      <a:pt x="1380" y="207"/>
                    </a:lnTo>
                    <a:lnTo>
                      <a:pt x="1365" y="244"/>
                    </a:lnTo>
                    <a:lnTo>
                      <a:pt x="1345" y="285"/>
                    </a:lnTo>
                    <a:lnTo>
                      <a:pt x="1322" y="329"/>
                    </a:lnTo>
                    <a:lnTo>
                      <a:pt x="1295" y="377"/>
                    </a:lnTo>
                    <a:lnTo>
                      <a:pt x="1264" y="426"/>
                    </a:lnTo>
                    <a:lnTo>
                      <a:pt x="1232" y="474"/>
                    </a:lnTo>
                    <a:lnTo>
                      <a:pt x="1198" y="522"/>
                    </a:lnTo>
                    <a:lnTo>
                      <a:pt x="1161" y="569"/>
                    </a:lnTo>
                    <a:lnTo>
                      <a:pt x="1123" y="615"/>
                    </a:lnTo>
                    <a:lnTo>
                      <a:pt x="1082" y="660"/>
                    </a:lnTo>
                    <a:lnTo>
                      <a:pt x="1042" y="704"/>
                    </a:lnTo>
                    <a:lnTo>
                      <a:pt x="1000" y="747"/>
                    </a:lnTo>
                    <a:lnTo>
                      <a:pt x="957" y="790"/>
                    </a:lnTo>
                    <a:lnTo>
                      <a:pt x="912" y="831"/>
                    </a:lnTo>
                    <a:lnTo>
                      <a:pt x="868" y="872"/>
                    </a:lnTo>
                    <a:lnTo>
                      <a:pt x="823" y="911"/>
                    </a:lnTo>
                    <a:lnTo>
                      <a:pt x="777" y="949"/>
                    </a:lnTo>
                    <a:lnTo>
                      <a:pt x="733" y="985"/>
                    </a:lnTo>
                    <a:lnTo>
                      <a:pt x="687" y="1020"/>
                    </a:lnTo>
                    <a:lnTo>
                      <a:pt x="643" y="1054"/>
                    </a:lnTo>
                    <a:lnTo>
                      <a:pt x="599" y="1087"/>
                    </a:lnTo>
                    <a:lnTo>
                      <a:pt x="554" y="1118"/>
                    </a:lnTo>
                    <a:lnTo>
                      <a:pt x="511" y="1147"/>
                    </a:lnTo>
                    <a:lnTo>
                      <a:pt x="470" y="1175"/>
                    </a:lnTo>
                    <a:lnTo>
                      <a:pt x="391" y="1226"/>
                    </a:lnTo>
                    <a:lnTo>
                      <a:pt x="317" y="1270"/>
                    </a:lnTo>
                    <a:lnTo>
                      <a:pt x="252" y="1307"/>
                    </a:lnTo>
                    <a:lnTo>
                      <a:pt x="195" y="1337"/>
                    </a:lnTo>
                    <a:lnTo>
                      <a:pt x="171" y="1349"/>
                    </a:lnTo>
                    <a:lnTo>
                      <a:pt x="150" y="1358"/>
                    </a:lnTo>
                    <a:lnTo>
                      <a:pt x="131" y="1366"/>
                    </a:lnTo>
                    <a:lnTo>
                      <a:pt x="116" y="1371"/>
                    </a:lnTo>
                    <a:lnTo>
                      <a:pt x="103" y="1373"/>
                    </a:lnTo>
                    <a:lnTo>
                      <a:pt x="91" y="1373"/>
                    </a:lnTo>
                    <a:lnTo>
                      <a:pt x="78" y="1371"/>
                    </a:lnTo>
                    <a:lnTo>
                      <a:pt x="67" y="1365"/>
                    </a:lnTo>
                    <a:lnTo>
                      <a:pt x="56" y="1358"/>
                    </a:lnTo>
                    <a:lnTo>
                      <a:pt x="46" y="1346"/>
                    </a:lnTo>
                    <a:lnTo>
                      <a:pt x="38" y="1334"/>
                    </a:lnTo>
                    <a:lnTo>
                      <a:pt x="29" y="1319"/>
                    </a:lnTo>
                    <a:lnTo>
                      <a:pt x="23" y="1303"/>
                    </a:lnTo>
                    <a:lnTo>
                      <a:pt x="16" y="1286"/>
                    </a:lnTo>
                    <a:lnTo>
                      <a:pt x="11" y="1266"/>
                    </a:lnTo>
                    <a:lnTo>
                      <a:pt x="7" y="1247"/>
                    </a:lnTo>
                    <a:lnTo>
                      <a:pt x="3" y="1225"/>
                    </a:lnTo>
                    <a:lnTo>
                      <a:pt x="1" y="1203"/>
                    </a:lnTo>
                    <a:lnTo>
                      <a:pt x="0" y="1180"/>
                    </a:lnTo>
                    <a:lnTo>
                      <a:pt x="0" y="1156"/>
                    </a:lnTo>
                    <a:lnTo>
                      <a:pt x="1" y="1132"/>
                    </a:lnTo>
                    <a:lnTo>
                      <a:pt x="3" y="1109"/>
                    </a:lnTo>
                    <a:lnTo>
                      <a:pt x="7" y="1086"/>
                    </a:lnTo>
                    <a:lnTo>
                      <a:pt x="12" y="1062"/>
                    </a:lnTo>
                    <a:lnTo>
                      <a:pt x="19" y="1039"/>
                    </a:lnTo>
                    <a:lnTo>
                      <a:pt x="27" y="1017"/>
                    </a:lnTo>
                    <a:lnTo>
                      <a:pt x="35" y="995"/>
                    </a:lnTo>
                    <a:lnTo>
                      <a:pt x="46" y="975"/>
                    </a:lnTo>
                    <a:lnTo>
                      <a:pt x="59" y="955"/>
                    </a:lnTo>
                    <a:lnTo>
                      <a:pt x="72" y="937"/>
                    </a:lnTo>
                    <a:lnTo>
                      <a:pt x="88" y="921"/>
                    </a:lnTo>
                    <a:lnTo>
                      <a:pt x="104" y="906"/>
                    </a:lnTo>
                    <a:lnTo>
                      <a:pt x="124" y="894"/>
                    </a:lnTo>
                    <a:lnTo>
                      <a:pt x="144" y="883"/>
                    </a:lnTo>
                    <a:lnTo>
                      <a:pt x="166" y="874"/>
                    </a:lnTo>
                    <a:lnTo>
                      <a:pt x="189" y="868"/>
                    </a:lnTo>
                    <a:lnTo>
                      <a:pt x="212" y="853"/>
                    </a:lnTo>
                    <a:lnTo>
                      <a:pt x="276" y="810"/>
                    </a:lnTo>
                    <a:lnTo>
                      <a:pt x="319" y="779"/>
                    </a:lnTo>
                    <a:lnTo>
                      <a:pt x="370" y="744"/>
                    </a:lnTo>
                    <a:lnTo>
                      <a:pt x="425" y="703"/>
                    </a:lnTo>
                    <a:lnTo>
                      <a:pt x="484" y="659"/>
                    </a:lnTo>
                    <a:lnTo>
                      <a:pt x="546" y="611"/>
                    </a:lnTo>
                    <a:lnTo>
                      <a:pt x="610" y="560"/>
                    </a:lnTo>
                    <a:lnTo>
                      <a:pt x="674" y="508"/>
                    </a:lnTo>
                    <a:lnTo>
                      <a:pt x="738" y="453"/>
                    </a:lnTo>
                    <a:lnTo>
                      <a:pt x="768" y="426"/>
                    </a:lnTo>
                    <a:lnTo>
                      <a:pt x="798" y="398"/>
                    </a:lnTo>
                    <a:lnTo>
                      <a:pt x="828" y="371"/>
                    </a:lnTo>
                    <a:lnTo>
                      <a:pt x="857" y="343"/>
                    </a:lnTo>
                    <a:lnTo>
                      <a:pt x="884" y="316"/>
                    </a:lnTo>
                    <a:lnTo>
                      <a:pt x="910" y="287"/>
                    </a:lnTo>
                    <a:lnTo>
                      <a:pt x="935" y="260"/>
                    </a:lnTo>
                    <a:lnTo>
                      <a:pt x="958" y="23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6627960" y="4583160"/>
                <a:ext cx="414360" cy="401760"/>
              </a:xfrm>
              <a:custGeom>
                <a:avLst/>
                <a:gdLst/>
                <a:ahLst/>
                <a:rect l="l" t="t" r="r" b="b"/>
                <a:pathLst>
                  <a:path w="1307" h="1261">
                    <a:moveTo>
                      <a:pt x="901" y="213"/>
                    </a:moveTo>
                    <a:lnTo>
                      <a:pt x="922" y="188"/>
                    </a:lnTo>
                    <a:lnTo>
                      <a:pt x="943" y="166"/>
                    </a:lnTo>
                    <a:lnTo>
                      <a:pt x="965" y="144"/>
                    </a:lnTo>
                    <a:lnTo>
                      <a:pt x="989" y="123"/>
                    </a:lnTo>
                    <a:lnTo>
                      <a:pt x="1011" y="105"/>
                    </a:lnTo>
                    <a:lnTo>
                      <a:pt x="1034" y="86"/>
                    </a:lnTo>
                    <a:lnTo>
                      <a:pt x="1058" y="70"/>
                    </a:lnTo>
                    <a:lnTo>
                      <a:pt x="1080" y="56"/>
                    </a:lnTo>
                    <a:lnTo>
                      <a:pt x="1103" y="42"/>
                    </a:lnTo>
                    <a:lnTo>
                      <a:pt x="1125" y="31"/>
                    </a:lnTo>
                    <a:lnTo>
                      <a:pt x="1146" y="21"/>
                    </a:lnTo>
                    <a:lnTo>
                      <a:pt x="1167" y="14"/>
                    </a:lnTo>
                    <a:lnTo>
                      <a:pt x="1188" y="8"/>
                    </a:lnTo>
                    <a:lnTo>
                      <a:pt x="1206" y="3"/>
                    </a:lnTo>
                    <a:lnTo>
                      <a:pt x="1224" y="0"/>
                    </a:lnTo>
                    <a:lnTo>
                      <a:pt x="1241" y="0"/>
                    </a:lnTo>
                    <a:lnTo>
                      <a:pt x="1256" y="3"/>
                    </a:lnTo>
                    <a:lnTo>
                      <a:pt x="1269" y="8"/>
                    </a:lnTo>
                    <a:lnTo>
                      <a:pt x="1282" y="14"/>
                    </a:lnTo>
                    <a:lnTo>
                      <a:pt x="1290" y="22"/>
                    </a:lnTo>
                    <a:lnTo>
                      <a:pt x="1299" y="35"/>
                    </a:lnTo>
                    <a:lnTo>
                      <a:pt x="1304" y="48"/>
                    </a:lnTo>
                    <a:lnTo>
                      <a:pt x="1307" y="65"/>
                    </a:lnTo>
                    <a:lnTo>
                      <a:pt x="1307" y="84"/>
                    </a:lnTo>
                    <a:lnTo>
                      <a:pt x="1306" y="106"/>
                    </a:lnTo>
                    <a:lnTo>
                      <a:pt x="1301" y="131"/>
                    </a:lnTo>
                    <a:lnTo>
                      <a:pt x="1294" y="159"/>
                    </a:lnTo>
                    <a:lnTo>
                      <a:pt x="1283" y="190"/>
                    </a:lnTo>
                    <a:lnTo>
                      <a:pt x="1268" y="223"/>
                    </a:lnTo>
                    <a:lnTo>
                      <a:pt x="1251" y="260"/>
                    </a:lnTo>
                    <a:lnTo>
                      <a:pt x="1230" y="300"/>
                    </a:lnTo>
                    <a:lnTo>
                      <a:pt x="1205" y="343"/>
                    </a:lnTo>
                    <a:lnTo>
                      <a:pt x="1178" y="388"/>
                    </a:lnTo>
                    <a:lnTo>
                      <a:pt x="1147" y="432"/>
                    </a:lnTo>
                    <a:lnTo>
                      <a:pt x="1117" y="475"/>
                    </a:lnTo>
                    <a:lnTo>
                      <a:pt x="1082" y="518"/>
                    </a:lnTo>
                    <a:lnTo>
                      <a:pt x="1047" y="560"/>
                    </a:lnTo>
                    <a:lnTo>
                      <a:pt x="1010" y="602"/>
                    </a:lnTo>
                    <a:lnTo>
                      <a:pt x="971" y="642"/>
                    </a:lnTo>
                    <a:lnTo>
                      <a:pt x="932" y="682"/>
                    </a:lnTo>
                    <a:lnTo>
                      <a:pt x="893" y="721"/>
                    </a:lnTo>
                    <a:lnTo>
                      <a:pt x="851" y="758"/>
                    </a:lnTo>
                    <a:lnTo>
                      <a:pt x="809" y="795"/>
                    </a:lnTo>
                    <a:lnTo>
                      <a:pt x="767" y="832"/>
                    </a:lnTo>
                    <a:lnTo>
                      <a:pt x="725" y="866"/>
                    </a:lnTo>
                    <a:lnTo>
                      <a:pt x="682" y="899"/>
                    </a:lnTo>
                    <a:lnTo>
                      <a:pt x="641" y="933"/>
                    </a:lnTo>
                    <a:lnTo>
                      <a:pt x="599" y="963"/>
                    </a:lnTo>
                    <a:lnTo>
                      <a:pt x="557" y="994"/>
                    </a:lnTo>
                    <a:lnTo>
                      <a:pt x="515" y="1022"/>
                    </a:lnTo>
                    <a:lnTo>
                      <a:pt x="476" y="1049"/>
                    </a:lnTo>
                    <a:lnTo>
                      <a:pt x="436" y="1075"/>
                    </a:lnTo>
                    <a:lnTo>
                      <a:pt x="361" y="1123"/>
                    </a:lnTo>
                    <a:lnTo>
                      <a:pt x="292" y="1164"/>
                    </a:lnTo>
                    <a:lnTo>
                      <a:pt x="231" y="1198"/>
                    </a:lnTo>
                    <a:lnTo>
                      <a:pt x="178" y="1227"/>
                    </a:lnTo>
                    <a:lnTo>
                      <a:pt x="156" y="1238"/>
                    </a:lnTo>
                    <a:lnTo>
                      <a:pt x="136" y="1246"/>
                    </a:lnTo>
                    <a:lnTo>
                      <a:pt x="119" y="1254"/>
                    </a:lnTo>
                    <a:lnTo>
                      <a:pt x="105" y="1259"/>
                    </a:lnTo>
                    <a:lnTo>
                      <a:pt x="93" y="1261"/>
                    </a:lnTo>
                    <a:lnTo>
                      <a:pt x="82" y="1261"/>
                    </a:lnTo>
                    <a:lnTo>
                      <a:pt x="71" y="1259"/>
                    </a:lnTo>
                    <a:lnTo>
                      <a:pt x="61" y="1254"/>
                    </a:lnTo>
                    <a:lnTo>
                      <a:pt x="51" y="1246"/>
                    </a:lnTo>
                    <a:lnTo>
                      <a:pt x="43" y="1236"/>
                    </a:lnTo>
                    <a:lnTo>
                      <a:pt x="34" y="1225"/>
                    </a:lnTo>
                    <a:lnTo>
                      <a:pt x="27" y="1212"/>
                    </a:lnTo>
                    <a:lnTo>
                      <a:pt x="20" y="1197"/>
                    </a:lnTo>
                    <a:lnTo>
                      <a:pt x="14" y="1181"/>
                    </a:lnTo>
                    <a:lnTo>
                      <a:pt x="9" y="1163"/>
                    </a:lnTo>
                    <a:lnTo>
                      <a:pt x="6" y="1144"/>
                    </a:lnTo>
                    <a:lnTo>
                      <a:pt x="2" y="1126"/>
                    </a:lnTo>
                    <a:lnTo>
                      <a:pt x="1" y="1105"/>
                    </a:lnTo>
                    <a:lnTo>
                      <a:pt x="0" y="1084"/>
                    </a:lnTo>
                    <a:lnTo>
                      <a:pt x="0" y="1063"/>
                    </a:lnTo>
                    <a:lnTo>
                      <a:pt x="1" y="1041"/>
                    </a:lnTo>
                    <a:lnTo>
                      <a:pt x="2" y="1020"/>
                    </a:lnTo>
                    <a:lnTo>
                      <a:pt x="6" y="998"/>
                    </a:lnTo>
                    <a:lnTo>
                      <a:pt x="11" y="977"/>
                    </a:lnTo>
                    <a:lnTo>
                      <a:pt x="16" y="956"/>
                    </a:lnTo>
                    <a:lnTo>
                      <a:pt x="23" y="936"/>
                    </a:lnTo>
                    <a:lnTo>
                      <a:pt x="32" y="917"/>
                    </a:lnTo>
                    <a:lnTo>
                      <a:pt x="41" y="898"/>
                    </a:lnTo>
                    <a:lnTo>
                      <a:pt x="52" y="881"/>
                    </a:lnTo>
                    <a:lnTo>
                      <a:pt x="65" y="864"/>
                    </a:lnTo>
                    <a:lnTo>
                      <a:pt x="78" y="849"/>
                    </a:lnTo>
                    <a:lnTo>
                      <a:pt x="93" y="835"/>
                    </a:lnTo>
                    <a:lnTo>
                      <a:pt x="110" y="824"/>
                    </a:lnTo>
                    <a:lnTo>
                      <a:pt x="129" y="814"/>
                    </a:lnTo>
                    <a:lnTo>
                      <a:pt x="148" y="807"/>
                    </a:lnTo>
                    <a:lnTo>
                      <a:pt x="171" y="802"/>
                    </a:lnTo>
                    <a:lnTo>
                      <a:pt x="193" y="787"/>
                    </a:lnTo>
                    <a:lnTo>
                      <a:pt x="254" y="747"/>
                    </a:lnTo>
                    <a:lnTo>
                      <a:pt x="344" y="684"/>
                    </a:lnTo>
                    <a:lnTo>
                      <a:pt x="455" y="605"/>
                    </a:lnTo>
                    <a:lnTo>
                      <a:pt x="514" y="561"/>
                    </a:lnTo>
                    <a:lnTo>
                      <a:pt x="574" y="513"/>
                    </a:lnTo>
                    <a:lnTo>
                      <a:pt x="636" y="465"/>
                    </a:lnTo>
                    <a:lnTo>
                      <a:pt x="696" y="415"/>
                    </a:lnTo>
                    <a:lnTo>
                      <a:pt x="752" y="364"/>
                    </a:lnTo>
                    <a:lnTo>
                      <a:pt x="808" y="313"/>
                    </a:lnTo>
                    <a:lnTo>
                      <a:pt x="832" y="288"/>
                    </a:lnTo>
                    <a:lnTo>
                      <a:pt x="857" y="262"/>
                    </a:lnTo>
                    <a:lnTo>
                      <a:pt x="880" y="238"/>
                    </a:lnTo>
                    <a:lnTo>
                      <a:pt x="901" y="213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6627960" y="4616640"/>
                <a:ext cx="384120" cy="361800"/>
              </a:xfrm>
              <a:custGeom>
                <a:avLst/>
                <a:gdLst/>
                <a:ahLst/>
                <a:rect l="l" t="t" r="r" b="b"/>
                <a:pathLst>
                  <a:path w="1208" h="1144">
                    <a:moveTo>
                      <a:pt x="844" y="191"/>
                    </a:moveTo>
                    <a:lnTo>
                      <a:pt x="862" y="169"/>
                    </a:lnTo>
                    <a:lnTo>
                      <a:pt x="882" y="149"/>
                    </a:lnTo>
                    <a:lnTo>
                      <a:pt x="901" y="129"/>
                    </a:lnTo>
                    <a:lnTo>
                      <a:pt x="921" y="111"/>
                    </a:lnTo>
                    <a:lnTo>
                      <a:pt x="942" y="94"/>
                    </a:lnTo>
                    <a:lnTo>
                      <a:pt x="963" y="78"/>
                    </a:lnTo>
                    <a:lnTo>
                      <a:pt x="983" y="63"/>
                    </a:lnTo>
                    <a:lnTo>
                      <a:pt x="1003" y="49"/>
                    </a:lnTo>
                    <a:lnTo>
                      <a:pt x="1023" y="38"/>
                    </a:lnTo>
                    <a:lnTo>
                      <a:pt x="1044" y="27"/>
                    </a:lnTo>
                    <a:lnTo>
                      <a:pt x="1063" y="19"/>
                    </a:lnTo>
                    <a:lnTo>
                      <a:pt x="1081" y="11"/>
                    </a:lnTo>
                    <a:lnTo>
                      <a:pt x="1099" y="6"/>
                    </a:lnTo>
                    <a:lnTo>
                      <a:pt x="1117" y="3"/>
                    </a:lnTo>
                    <a:lnTo>
                      <a:pt x="1133" y="0"/>
                    </a:lnTo>
                    <a:lnTo>
                      <a:pt x="1147" y="0"/>
                    </a:lnTo>
                    <a:lnTo>
                      <a:pt x="1161" y="3"/>
                    </a:lnTo>
                    <a:lnTo>
                      <a:pt x="1172" y="6"/>
                    </a:lnTo>
                    <a:lnTo>
                      <a:pt x="1183" y="12"/>
                    </a:lnTo>
                    <a:lnTo>
                      <a:pt x="1192" y="20"/>
                    </a:lnTo>
                    <a:lnTo>
                      <a:pt x="1199" y="31"/>
                    </a:lnTo>
                    <a:lnTo>
                      <a:pt x="1204" y="43"/>
                    </a:lnTo>
                    <a:lnTo>
                      <a:pt x="1206" y="58"/>
                    </a:lnTo>
                    <a:lnTo>
                      <a:pt x="1208" y="75"/>
                    </a:lnTo>
                    <a:lnTo>
                      <a:pt x="1205" y="95"/>
                    </a:lnTo>
                    <a:lnTo>
                      <a:pt x="1202" y="117"/>
                    </a:lnTo>
                    <a:lnTo>
                      <a:pt x="1194" y="142"/>
                    </a:lnTo>
                    <a:lnTo>
                      <a:pt x="1184" y="170"/>
                    </a:lnTo>
                    <a:lnTo>
                      <a:pt x="1172" y="199"/>
                    </a:lnTo>
                    <a:lnTo>
                      <a:pt x="1156" y="233"/>
                    </a:lnTo>
                    <a:lnTo>
                      <a:pt x="1138" y="268"/>
                    </a:lnTo>
                    <a:lnTo>
                      <a:pt x="1115" y="308"/>
                    </a:lnTo>
                    <a:lnTo>
                      <a:pt x="1091" y="347"/>
                    </a:lnTo>
                    <a:lnTo>
                      <a:pt x="1064" y="386"/>
                    </a:lnTo>
                    <a:lnTo>
                      <a:pt x="1035" y="426"/>
                    </a:lnTo>
                    <a:lnTo>
                      <a:pt x="1005" y="465"/>
                    </a:lnTo>
                    <a:lnTo>
                      <a:pt x="971" y="503"/>
                    </a:lnTo>
                    <a:lnTo>
                      <a:pt x="938" y="540"/>
                    </a:lnTo>
                    <a:lnTo>
                      <a:pt x="903" y="577"/>
                    </a:lnTo>
                    <a:lnTo>
                      <a:pt x="866" y="613"/>
                    </a:lnTo>
                    <a:lnTo>
                      <a:pt x="829" y="648"/>
                    </a:lnTo>
                    <a:lnTo>
                      <a:pt x="791" y="683"/>
                    </a:lnTo>
                    <a:lnTo>
                      <a:pt x="751" y="717"/>
                    </a:lnTo>
                    <a:lnTo>
                      <a:pt x="712" y="749"/>
                    </a:lnTo>
                    <a:lnTo>
                      <a:pt x="673" y="781"/>
                    </a:lnTo>
                    <a:lnTo>
                      <a:pt x="633" y="812"/>
                    </a:lnTo>
                    <a:lnTo>
                      <a:pt x="594" y="843"/>
                    </a:lnTo>
                    <a:lnTo>
                      <a:pt x="554" y="871"/>
                    </a:lnTo>
                    <a:lnTo>
                      <a:pt x="477" y="925"/>
                    </a:lnTo>
                    <a:lnTo>
                      <a:pt x="402" y="974"/>
                    </a:lnTo>
                    <a:lnTo>
                      <a:pt x="332" y="1017"/>
                    </a:lnTo>
                    <a:lnTo>
                      <a:pt x="268" y="1055"/>
                    </a:lnTo>
                    <a:lnTo>
                      <a:pt x="210" y="1087"/>
                    </a:lnTo>
                    <a:lnTo>
                      <a:pt x="161" y="1112"/>
                    </a:lnTo>
                    <a:lnTo>
                      <a:pt x="123" y="1130"/>
                    </a:lnTo>
                    <a:lnTo>
                      <a:pt x="94" y="1142"/>
                    </a:lnTo>
                    <a:lnTo>
                      <a:pt x="83" y="1144"/>
                    </a:lnTo>
                    <a:lnTo>
                      <a:pt x="73" y="1143"/>
                    </a:lnTo>
                    <a:lnTo>
                      <a:pt x="64" y="1140"/>
                    </a:lnTo>
                    <a:lnTo>
                      <a:pt x="55" y="1137"/>
                    </a:lnTo>
                    <a:lnTo>
                      <a:pt x="46" y="1129"/>
                    </a:lnTo>
                    <a:lnTo>
                      <a:pt x="38" y="1121"/>
                    </a:lnTo>
                    <a:lnTo>
                      <a:pt x="30" y="1111"/>
                    </a:lnTo>
                    <a:lnTo>
                      <a:pt x="24" y="1098"/>
                    </a:lnTo>
                    <a:lnTo>
                      <a:pt x="18" y="1086"/>
                    </a:lnTo>
                    <a:lnTo>
                      <a:pt x="13" y="1071"/>
                    </a:lnTo>
                    <a:lnTo>
                      <a:pt x="8" y="1055"/>
                    </a:lnTo>
                    <a:lnTo>
                      <a:pt x="6" y="1038"/>
                    </a:lnTo>
                    <a:lnTo>
                      <a:pt x="2" y="1021"/>
                    </a:lnTo>
                    <a:lnTo>
                      <a:pt x="1" y="1004"/>
                    </a:lnTo>
                    <a:lnTo>
                      <a:pt x="0" y="984"/>
                    </a:lnTo>
                    <a:lnTo>
                      <a:pt x="0" y="966"/>
                    </a:lnTo>
                    <a:lnTo>
                      <a:pt x="1" y="946"/>
                    </a:lnTo>
                    <a:lnTo>
                      <a:pt x="3" y="927"/>
                    </a:lnTo>
                    <a:lnTo>
                      <a:pt x="6" y="908"/>
                    </a:lnTo>
                    <a:lnTo>
                      <a:pt x="9" y="888"/>
                    </a:lnTo>
                    <a:lnTo>
                      <a:pt x="16" y="870"/>
                    </a:lnTo>
                    <a:lnTo>
                      <a:pt x="22" y="851"/>
                    </a:lnTo>
                    <a:lnTo>
                      <a:pt x="29" y="834"/>
                    </a:lnTo>
                    <a:lnTo>
                      <a:pt x="38" y="818"/>
                    </a:lnTo>
                    <a:lnTo>
                      <a:pt x="48" y="802"/>
                    </a:lnTo>
                    <a:lnTo>
                      <a:pt x="59" y="787"/>
                    </a:lnTo>
                    <a:lnTo>
                      <a:pt x="71" y="774"/>
                    </a:lnTo>
                    <a:lnTo>
                      <a:pt x="84" y="761"/>
                    </a:lnTo>
                    <a:lnTo>
                      <a:pt x="100" y="752"/>
                    </a:lnTo>
                    <a:lnTo>
                      <a:pt x="116" y="743"/>
                    </a:lnTo>
                    <a:lnTo>
                      <a:pt x="135" y="736"/>
                    </a:lnTo>
                    <a:lnTo>
                      <a:pt x="155" y="731"/>
                    </a:lnTo>
                    <a:lnTo>
                      <a:pt x="176" y="717"/>
                    </a:lnTo>
                    <a:lnTo>
                      <a:pt x="235" y="679"/>
                    </a:lnTo>
                    <a:lnTo>
                      <a:pt x="322" y="621"/>
                    </a:lnTo>
                    <a:lnTo>
                      <a:pt x="426" y="549"/>
                    </a:lnTo>
                    <a:lnTo>
                      <a:pt x="483" y="507"/>
                    </a:lnTo>
                    <a:lnTo>
                      <a:pt x="541" y="464"/>
                    </a:lnTo>
                    <a:lnTo>
                      <a:pt x="599" y="420"/>
                    </a:lnTo>
                    <a:lnTo>
                      <a:pt x="655" y="374"/>
                    </a:lnTo>
                    <a:lnTo>
                      <a:pt x="708" y="327"/>
                    </a:lnTo>
                    <a:lnTo>
                      <a:pt x="759" y="281"/>
                    </a:lnTo>
                    <a:lnTo>
                      <a:pt x="782" y="257"/>
                    </a:lnTo>
                    <a:lnTo>
                      <a:pt x="804" y="235"/>
                    </a:lnTo>
                    <a:lnTo>
                      <a:pt x="825" y="213"/>
                    </a:lnTo>
                    <a:lnTo>
                      <a:pt x="844" y="191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6627960" y="4648320"/>
                <a:ext cx="350640" cy="325440"/>
              </a:xfrm>
              <a:custGeom>
                <a:avLst/>
                <a:gdLst/>
                <a:ahLst/>
                <a:rect l="l" t="t" r="r" b="b"/>
                <a:pathLst>
                  <a:path w="1107" h="1026">
                    <a:moveTo>
                      <a:pt x="784" y="168"/>
                    </a:moveTo>
                    <a:lnTo>
                      <a:pt x="800" y="149"/>
                    </a:lnTo>
                    <a:lnTo>
                      <a:pt x="818" y="132"/>
                    </a:lnTo>
                    <a:lnTo>
                      <a:pt x="836" y="114"/>
                    </a:lnTo>
                    <a:lnTo>
                      <a:pt x="853" y="98"/>
                    </a:lnTo>
                    <a:lnTo>
                      <a:pt x="872" y="82"/>
                    </a:lnTo>
                    <a:lnTo>
                      <a:pt x="890" y="69"/>
                    </a:lnTo>
                    <a:lnTo>
                      <a:pt x="909" y="55"/>
                    </a:lnTo>
                    <a:lnTo>
                      <a:pt x="927" y="44"/>
                    </a:lnTo>
                    <a:lnTo>
                      <a:pt x="944" y="33"/>
                    </a:lnTo>
                    <a:lnTo>
                      <a:pt x="963" y="25"/>
                    </a:lnTo>
                    <a:lnTo>
                      <a:pt x="979" y="16"/>
                    </a:lnTo>
                    <a:lnTo>
                      <a:pt x="996" y="10"/>
                    </a:lnTo>
                    <a:lnTo>
                      <a:pt x="1012" y="5"/>
                    </a:lnTo>
                    <a:lnTo>
                      <a:pt x="1027" y="1"/>
                    </a:lnTo>
                    <a:lnTo>
                      <a:pt x="1040" y="0"/>
                    </a:lnTo>
                    <a:lnTo>
                      <a:pt x="1054" y="0"/>
                    </a:lnTo>
                    <a:lnTo>
                      <a:pt x="1066" y="1"/>
                    </a:lnTo>
                    <a:lnTo>
                      <a:pt x="1076" y="5"/>
                    </a:lnTo>
                    <a:lnTo>
                      <a:pt x="1086" y="10"/>
                    </a:lnTo>
                    <a:lnTo>
                      <a:pt x="1093" y="17"/>
                    </a:lnTo>
                    <a:lnTo>
                      <a:pt x="1099" y="26"/>
                    </a:lnTo>
                    <a:lnTo>
                      <a:pt x="1104" y="37"/>
                    </a:lnTo>
                    <a:lnTo>
                      <a:pt x="1107" y="50"/>
                    </a:lnTo>
                    <a:lnTo>
                      <a:pt x="1107" y="66"/>
                    </a:lnTo>
                    <a:lnTo>
                      <a:pt x="1106" y="84"/>
                    </a:lnTo>
                    <a:lnTo>
                      <a:pt x="1102" y="103"/>
                    </a:lnTo>
                    <a:lnTo>
                      <a:pt x="1096" y="125"/>
                    </a:lnTo>
                    <a:lnTo>
                      <a:pt x="1087" y="149"/>
                    </a:lnTo>
                    <a:lnTo>
                      <a:pt x="1076" y="176"/>
                    </a:lnTo>
                    <a:lnTo>
                      <a:pt x="1063" y="205"/>
                    </a:lnTo>
                    <a:lnTo>
                      <a:pt x="1045" y="237"/>
                    </a:lnTo>
                    <a:lnTo>
                      <a:pt x="1026" y="272"/>
                    </a:lnTo>
                    <a:lnTo>
                      <a:pt x="1003" y="307"/>
                    </a:lnTo>
                    <a:lnTo>
                      <a:pt x="980" y="342"/>
                    </a:lnTo>
                    <a:lnTo>
                      <a:pt x="953" y="378"/>
                    </a:lnTo>
                    <a:lnTo>
                      <a:pt x="925" y="412"/>
                    </a:lnTo>
                    <a:lnTo>
                      <a:pt x="895" y="445"/>
                    </a:lnTo>
                    <a:lnTo>
                      <a:pt x="864" y="480"/>
                    </a:lnTo>
                    <a:lnTo>
                      <a:pt x="832" y="513"/>
                    </a:lnTo>
                    <a:lnTo>
                      <a:pt x="798" y="545"/>
                    </a:lnTo>
                    <a:lnTo>
                      <a:pt x="764" y="577"/>
                    </a:lnTo>
                    <a:lnTo>
                      <a:pt x="729" y="608"/>
                    </a:lnTo>
                    <a:lnTo>
                      <a:pt x="693" y="638"/>
                    </a:lnTo>
                    <a:lnTo>
                      <a:pt x="657" y="668"/>
                    </a:lnTo>
                    <a:lnTo>
                      <a:pt x="620" y="697"/>
                    </a:lnTo>
                    <a:lnTo>
                      <a:pt x="583" y="724"/>
                    </a:lnTo>
                    <a:lnTo>
                      <a:pt x="547" y="751"/>
                    </a:lnTo>
                    <a:lnTo>
                      <a:pt x="510" y="779"/>
                    </a:lnTo>
                    <a:lnTo>
                      <a:pt x="438" y="826"/>
                    </a:lnTo>
                    <a:lnTo>
                      <a:pt x="369" y="872"/>
                    </a:lnTo>
                    <a:lnTo>
                      <a:pt x="303" y="911"/>
                    </a:lnTo>
                    <a:lnTo>
                      <a:pt x="243" y="946"/>
                    </a:lnTo>
                    <a:lnTo>
                      <a:pt x="190" y="975"/>
                    </a:lnTo>
                    <a:lnTo>
                      <a:pt x="145" y="997"/>
                    </a:lnTo>
                    <a:lnTo>
                      <a:pt x="109" y="1015"/>
                    </a:lnTo>
                    <a:lnTo>
                      <a:pt x="83" y="1023"/>
                    </a:lnTo>
                    <a:lnTo>
                      <a:pt x="73" y="1026"/>
                    </a:lnTo>
                    <a:lnTo>
                      <a:pt x="65" y="1026"/>
                    </a:lnTo>
                    <a:lnTo>
                      <a:pt x="56" y="1023"/>
                    </a:lnTo>
                    <a:lnTo>
                      <a:pt x="49" y="1020"/>
                    </a:lnTo>
                    <a:lnTo>
                      <a:pt x="40" y="1015"/>
                    </a:lnTo>
                    <a:lnTo>
                      <a:pt x="34" y="1006"/>
                    </a:lnTo>
                    <a:lnTo>
                      <a:pt x="28" y="997"/>
                    </a:lnTo>
                    <a:lnTo>
                      <a:pt x="22" y="988"/>
                    </a:lnTo>
                    <a:lnTo>
                      <a:pt x="17" y="975"/>
                    </a:lnTo>
                    <a:lnTo>
                      <a:pt x="12" y="963"/>
                    </a:lnTo>
                    <a:lnTo>
                      <a:pt x="8" y="949"/>
                    </a:lnTo>
                    <a:lnTo>
                      <a:pt x="4" y="935"/>
                    </a:lnTo>
                    <a:lnTo>
                      <a:pt x="2" y="919"/>
                    </a:lnTo>
                    <a:lnTo>
                      <a:pt x="1" y="903"/>
                    </a:lnTo>
                    <a:lnTo>
                      <a:pt x="0" y="887"/>
                    </a:lnTo>
                    <a:lnTo>
                      <a:pt x="1" y="870"/>
                    </a:lnTo>
                    <a:lnTo>
                      <a:pt x="1" y="852"/>
                    </a:lnTo>
                    <a:lnTo>
                      <a:pt x="3" y="835"/>
                    </a:lnTo>
                    <a:lnTo>
                      <a:pt x="6" y="819"/>
                    </a:lnTo>
                    <a:lnTo>
                      <a:pt x="9" y="802"/>
                    </a:lnTo>
                    <a:lnTo>
                      <a:pt x="13" y="785"/>
                    </a:lnTo>
                    <a:lnTo>
                      <a:pt x="19" y="769"/>
                    </a:lnTo>
                    <a:lnTo>
                      <a:pt x="25" y="754"/>
                    </a:lnTo>
                    <a:lnTo>
                      <a:pt x="33" y="739"/>
                    </a:lnTo>
                    <a:lnTo>
                      <a:pt x="41" y="724"/>
                    </a:lnTo>
                    <a:lnTo>
                      <a:pt x="51" y="712"/>
                    </a:lnTo>
                    <a:lnTo>
                      <a:pt x="62" y="700"/>
                    </a:lnTo>
                    <a:lnTo>
                      <a:pt x="75" y="690"/>
                    </a:lnTo>
                    <a:lnTo>
                      <a:pt x="88" y="680"/>
                    </a:lnTo>
                    <a:lnTo>
                      <a:pt x="103" y="673"/>
                    </a:lnTo>
                    <a:lnTo>
                      <a:pt x="118" y="667"/>
                    </a:lnTo>
                    <a:lnTo>
                      <a:pt x="135" y="663"/>
                    </a:lnTo>
                    <a:lnTo>
                      <a:pt x="156" y="649"/>
                    </a:lnTo>
                    <a:lnTo>
                      <a:pt x="212" y="615"/>
                    </a:lnTo>
                    <a:lnTo>
                      <a:pt x="296" y="561"/>
                    </a:lnTo>
                    <a:lnTo>
                      <a:pt x="397" y="493"/>
                    </a:lnTo>
                    <a:lnTo>
                      <a:pt x="450" y="455"/>
                    </a:lnTo>
                    <a:lnTo>
                      <a:pt x="505" y="416"/>
                    </a:lnTo>
                    <a:lnTo>
                      <a:pt x="559" y="374"/>
                    </a:lnTo>
                    <a:lnTo>
                      <a:pt x="612" y="332"/>
                    </a:lnTo>
                    <a:lnTo>
                      <a:pt x="661" y="290"/>
                    </a:lnTo>
                    <a:lnTo>
                      <a:pt x="708" y="248"/>
                    </a:lnTo>
                    <a:lnTo>
                      <a:pt x="729" y="227"/>
                    </a:lnTo>
                    <a:lnTo>
                      <a:pt x="749" y="208"/>
                    </a:lnTo>
                    <a:lnTo>
                      <a:pt x="767" y="188"/>
                    </a:lnTo>
                    <a:lnTo>
                      <a:pt x="784" y="168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6627960" y="4680000"/>
                <a:ext cx="318960" cy="289080"/>
              </a:xfrm>
              <a:custGeom>
                <a:avLst/>
                <a:gdLst/>
                <a:ahLst/>
                <a:rect l="l" t="t" r="r" b="b"/>
                <a:pathLst>
                  <a:path w="1007" h="911">
                    <a:moveTo>
                      <a:pt x="728" y="146"/>
                    </a:moveTo>
                    <a:lnTo>
                      <a:pt x="741" y="129"/>
                    </a:lnTo>
                    <a:lnTo>
                      <a:pt x="756" y="114"/>
                    </a:lnTo>
                    <a:lnTo>
                      <a:pt x="772" y="99"/>
                    </a:lnTo>
                    <a:lnTo>
                      <a:pt x="787" y="85"/>
                    </a:lnTo>
                    <a:lnTo>
                      <a:pt x="803" y="71"/>
                    </a:lnTo>
                    <a:lnTo>
                      <a:pt x="819" y="60"/>
                    </a:lnTo>
                    <a:lnTo>
                      <a:pt x="835" y="48"/>
                    </a:lnTo>
                    <a:lnTo>
                      <a:pt x="851" y="38"/>
                    </a:lnTo>
                    <a:lnTo>
                      <a:pt x="866" y="29"/>
                    </a:lnTo>
                    <a:lnTo>
                      <a:pt x="882" y="21"/>
                    </a:lnTo>
                    <a:lnTo>
                      <a:pt x="896" y="15"/>
                    </a:lnTo>
                    <a:lnTo>
                      <a:pt x="911" y="8"/>
                    </a:lnTo>
                    <a:lnTo>
                      <a:pt x="925" y="5"/>
                    </a:lnTo>
                    <a:lnTo>
                      <a:pt x="937" y="2"/>
                    </a:lnTo>
                    <a:lnTo>
                      <a:pt x="949" y="0"/>
                    </a:lnTo>
                    <a:lnTo>
                      <a:pt x="962" y="0"/>
                    </a:lnTo>
                    <a:lnTo>
                      <a:pt x="971" y="2"/>
                    </a:lnTo>
                    <a:lnTo>
                      <a:pt x="981" y="5"/>
                    </a:lnTo>
                    <a:lnTo>
                      <a:pt x="989" y="10"/>
                    </a:lnTo>
                    <a:lnTo>
                      <a:pt x="996" y="16"/>
                    </a:lnTo>
                    <a:lnTo>
                      <a:pt x="1001" y="23"/>
                    </a:lnTo>
                    <a:lnTo>
                      <a:pt x="1005" y="33"/>
                    </a:lnTo>
                    <a:lnTo>
                      <a:pt x="1007" y="44"/>
                    </a:lnTo>
                    <a:lnTo>
                      <a:pt x="1007" y="58"/>
                    </a:lnTo>
                    <a:lnTo>
                      <a:pt x="1006" y="72"/>
                    </a:lnTo>
                    <a:lnTo>
                      <a:pt x="1002" y="90"/>
                    </a:lnTo>
                    <a:lnTo>
                      <a:pt x="997" y="109"/>
                    </a:lnTo>
                    <a:lnTo>
                      <a:pt x="990" y="130"/>
                    </a:lnTo>
                    <a:lnTo>
                      <a:pt x="980" y="154"/>
                    </a:lnTo>
                    <a:lnTo>
                      <a:pt x="968" y="178"/>
                    </a:lnTo>
                    <a:lnTo>
                      <a:pt x="953" y="206"/>
                    </a:lnTo>
                    <a:lnTo>
                      <a:pt x="937" y="236"/>
                    </a:lnTo>
                    <a:lnTo>
                      <a:pt x="917" y="267"/>
                    </a:lnTo>
                    <a:lnTo>
                      <a:pt x="895" y="297"/>
                    </a:lnTo>
                    <a:lnTo>
                      <a:pt x="872" y="327"/>
                    </a:lnTo>
                    <a:lnTo>
                      <a:pt x="847" y="358"/>
                    </a:lnTo>
                    <a:lnTo>
                      <a:pt x="820" y="387"/>
                    </a:lnTo>
                    <a:lnTo>
                      <a:pt x="792" y="417"/>
                    </a:lnTo>
                    <a:lnTo>
                      <a:pt x="762" y="446"/>
                    </a:lnTo>
                    <a:lnTo>
                      <a:pt x="732" y="476"/>
                    </a:lnTo>
                    <a:lnTo>
                      <a:pt x="701" y="504"/>
                    </a:lnTo>
                    <a:lnTo>
                      <a:pt x="668" y="531"/>
                    </a:lnTo>
                    <a:lnTo>
                      <a:pt x="636" y="558"/>
                    </a:lnTo>
                    <a:lnTo>
                      <a:pt x="601" y="585"/>
                    </a:lnTo>
                    <a:lnTo>
                      <a:pt x="568" y="611"/>
                    </a:lnTo>
                    <a:lnTo>
                      <a:pt x="534" y="637"/>
                    </a:lnTo>
                    <a:lnTo>
                      <a:pt x="499" y="660"/>
                    </a:lnTo>
                    <a:lnTo>
                      <a:pt x="466" y="685"/>
                    </a:lnTo>
                    <a:lnTo>
                      <a:pt x="399" y="729"/>
                    </a:lnTo>
                    <a:lnTo>
                      <a:pt x="335" y="770"/>
                    </a:lnTo>
                    <a:lnTo>
                      <a:pt x="274" y="805"/>
                    </a:lnTo>
                    <a:lnTo>
                      <a:pt x="219" y="837"/>
                    </a:lnTo>
                    <a:lnTo>
                      <a:pt x="169" y="864"/>
                    </a:lnTo>
                    <a:lnTo>
                      <a:pt x="129" y="885"/>
                    </a:lnTo>
                    <a:lnTo>
                      <a:pt x="96" y="900"/>
                    </a:lnTo>
                    <a:lnTo>
                      <a:pt x="72" y="909"/>
                    </a:lnTo>
                    <a:lnTo>
                      <a:pt x="65" y="911"/>
                    </a:lnTo>
                    <a:lnTo>
                      <a:pt x="56" y="911"/>
                    </a:lnTo>
                    <a:lnTo>
                      <a:pt x="49" y="909"/>
                    </a:lnTo>
                    <a:lnTo>
                      <a:pt x="41" y="905"/>
                    </a:lnTo>
                    <a:lnTo>
                      <a:pt x="35" y="900"/>
                    </a:lnTo>
                    <a:lnTo>
                      <a:pt x="29" y="894"/>
                    </a:lnTo>
                    <a:lnTo>
                      <a:pt x="24" y="885"/>
                    </a:lnTo>
                    <a:lnTo>
                      <a:pt x="18" y="877"/>
                    </a:lnTo>
                    <a:lnTo>
                      <a:pt x="14" y="867"/>
                    </a:lnTo>
                    <a:lnTo>
                      <a:pt x="11" y="856"/>
                    </a:lnTo>
                    <a:lnTo>
                      <a:pt x="7" y="844"/>
                    </a:lnTo>
                    <a:lnTo>
                      <a:pt x="4" y="830"/>
                    </a:lnTo>
                    <a:lnTo>
                      <a:pt x="2" y="817"/>
                    </a:lnTo>
                    <a:lnTo>
                      <a:pt x="1" y="803"/>
                    </a:lnTo>
                    <a:lnTo>
                      <a:pt x="0" y="788"/>
                    </a:lnTo>
                    <a:lnTo>
                      <a:pt x="0" y="775"/>
                    </a:lnTo>
                    <a:lnTo>
                      <a:pt x="1" y="759"/>
                    </a:lnTo>
                    <a:lnTo>
                      <a:pt x="2" y="744"/>
                    </a:lnTo>
                    <a:lnTo>
                      <a:pt x="4" y="729"/>
                    </a:lnTo>
                    <a:lnTo>
                      <a:pt x="8" y="714"/>
                    </a:lnTo>
                    <a:lnTo>
                      <a:pt x="12" y="701"/>
                    </a:lnTo>
                    <a:lnTo>
                      <a:pt x="17" y="686"/>
                    </a:lnTo>
                    <a:lnTo>
                      <a:pt x="22" y="673"/>
                    </a:lnTo>
                    <a:lnTo>
                      <a:pt x="29" y="660"/>
                    </a:lnTo>
                    <a:lnTo>
                      <a:pt x="36" y="648"/>
                    </a:lnTo>
                    <a:lnTo>
                      <a:pt x="45" y="637"/>
                    </a:lnTo>
                    <a:lnTo>
                      <a:pt x="55" y="627"/>
                    </a:lnTo>
                    <a:lnTo>
                      <a:pt x="66" y="617"/>
                    </a:lnTo>
                    <a:lnTo>
                      <a:pt x="77" y="610"/>
                    </a:lnTo>
                    <a:lnTo>
                      <a:pt x="89" y="602"/>
                    </a:lnTo>
                    <a:lnTo>
                      <a:pt x="104" y="598"/>
                    </a:lnTo>
                    <a:lnTo>
                      <a:pt x="119" y="594"/>
                    </a:lnTo>
                    <a:lnTo>
                      <a:pt x="139" y="583"/>
                    </a:lnTo>
                    <a:lnTo>
                      <a:pt x="193" y="550"/>
                    </a:lnTo>
                    <a:lnTo>
                      <a:pt x="273" y="499"/>
                    </a:lnTo>
                    <a:lnTo>
                      <a:pt x="367" y="438"/>
                    </a:lnTo>
                    <a:lnTo>
                      <a:pt x="419" y="403"/>
                    </a:lnTo>
                    <a:lnTo>
                      <a:pt x="471" y="366"/>
                    </a:lnTo>
                    <a:lnTo>
                      <a:pt x="521" y="329"/>
                    </a:lnTo>
                    <a:lnTo>
                      <a:pt x="570" y="291"/>
                    </a:lnTo>
                    <a:lnTo>
                      <a:pt x="617" y="254"/>
                    </a:lnTo>
                    <a:lnTo>
                      <a:pt x="659" y="216"/>
                    </a:lnTo>
                    <a:lnTo>
                      <a:pt x="679" y="199"/>
                    </a:lnTo>
                    <a:lnTo>
                      <a:pt x="696" y="181"/>
                    </a:lnTo>
                    <a:lnTo>
                      <a:pt x="713" y="163"/>
                    </a:lnTo>
                    <a:lnTo>
                      <a:pt x="728" y="146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6627960" y="4711680"/>
                <a:ext cx="287280" cy="252360"/>
              </a:xfrm>
              <a:custGeom>
                <a:avLst/>
                <a:gdLst/>
                <a:ahLst/>
                <a:rect l="l" t="t" r="r" b="b"/>
                <a:pathLst>
                  <a:path w="905" h="793">
                    <a:moveTo>
                      <a:pt x="667" y="124"/>
                    </a:moveTo>
                    <a:lnTo>
                      <a:pt x="679" y="110"/>
                    </a:lnTo>
                    <a:lnTo>
                      <a:pt x="691" y="97"/>
                    </a:lnTo>
                    <a:lnTo>
                      <a:pt x="705" y="83"/>
                    </a:lnTo>
                    <a:lnTo>
                      <a:pt x="718" y="72"/>
                    </a:lnTo>
                    <a:lnTo>
                      <a:pt x="731" y="61"/>
                    </a:lnTo>
                    <a:lnTo>
                      <a:pt x="744" y="50"/>
                    </a:lnTo>
                    <a:lnTo>
                      <a:pt x="758" y="40"/>
                    </a:lnTo>
                    <a:lnTo>
                      <a:pt x="771" y="32"/>
                    </a:lnTo>
                    <a:lnTo>
                      <a:pt x="785" y="24"/>
                    </a:lnTo>
                    <a:lnTo>
                      <a:pt x="798" y="18"/>
                    </a:lnTo>
                    <a:lnTo>
                      <a:pt x="811" y="12"/>
                    </a:lnTo>
                    <a:lnTo>
                      <a:pt x="823" y="7"/>
                    </a:lnTo>
                    <a:lnTo>
                      <a:pt x="835" y="3"/>
                    </a:lnTo>
                    <a:lnTo>
                      <a:pt x="846" y="1"/>
                    </a:lnTo>
                    <a:lnTo>
                      <a:pt x="856" y="0"/>
                    </a:lnTo>
                    <a:lnTo>
                      <a:pt x="866" y="0"/>
                    </a:lnTo>
                    <a:lnTo>
                      <a:pt x="875" y="1"/>
                    </a:lnTo>
                    <a:lnTo>
                      <a:pt x="883" y="3"/>
                    </a:lnTo>
                    <a:lnTo>
                      <a:pt x="889" y="7"/>
                    </a:lnTo>
                    <a:lnTo>
                      <a:pt x="895" y="13"/>
                    </a:lnTo>
                    <a:lnTo>
                      <a:pt x="900" y="19"/>
                    </a:lnTo>
                    <a:lnTo>
                      <a:pt x="903" y="28"/>
                    </a:lnTo>
                    <a:lnTo>
                      <a:pt x="905" y="38"/>
                    </a:lnTo>
                    <a:lnTo>
                      <a:pt x="905" y="49"/>
                    </a:lnTo>
                    <a:lnTo>
                      <a:pt x="904" y="61"/>
                    </a:lnTo>
                    <a:lnTo>
                      <a:pt x="902" y="76"/>
                    </a:lnTo>
                    <a:lnTo>
                      <a:pt x="897" y="92"/>
                    </a:lnTo>
                    <a:lnTo>
                      <a:pt x="891" y="110"/>
                    </a:lnTo>
                    <a:lnTo>
                      <a:pt x="883" y="130"/>
                    </a:lnTo>
                    <a:lnTo>
                      <a:pt x="872" y="151"/>
                    </a:lnTo>
                    <a:lnTo>
                      <a:pt x="860" y="174"/>
                    </a:lnTo>
                    <a:lnTo>
                      <a:pt x="846" y="200"/>
                    </a:lnTo>
                    <a:lnTo>
                      <a:pt x="829" y="226"/>
                    </a:lnTo>
                    <a:lnTo>
                      <a:pt x="811" y="252"/>
                    </a:lnTo>
                    <a:lnTo>
                      <a:pt x="790" y="279"/>
                    </a:lnTo>
                    <a:lnTo>
                      <a:pt x="767" y="305"/>
                    </a:lnTo>
                    <a:lnTo>
                      <a:pt x="744" y="331"/>
                    </a:lnTo>
                    <a:lnTo>
                      <a:pt x="718" y="356"/>
                    </a:lnTo>
                    <a:lnTo>
                      <a:pt x="692" y="382"/>
                    </a:lnTo>
                    <a:lnTo>
                      <a:pt x="664" y="407"/>
                    </a:lnTo>
                    <a:lnTo>
                      <a:pt x="636" y="431"/>
                    </a:lnTo>
                    <a:lnTo>
                      <a:pt x="606" y="456"/>
                    </a:lnTo>
                    <a:lnTo>
                      <a:pt x="576" y="481"/>
                    </a:lnTo>
                    <a:lnTo>
                      <a:pt x="546" y="504"/>
                    </a:lnTo>
                    <a:lnTo>
                      <a:pt x="483" y="549"/>
                    </a:lnTo>
                    <a:lnTo>
                      <a:pt x="421" y="591"/>
                    </a:lnTo>
                    <a:lnTo>
                      <a:pt x="360" y="632"/>
                    </a:lnTo>
                    <a:lnTo>
                      <a:pt x="301" y="668"/>
                    </a:lnTo>
                    <a:lnTo>
                      <a:pt x="245" y="700"/>
                    </a:lnTo>
                    <a:lnTo>
                      <a:pt x="194" y="729"/>
                    </a:lnTo>
                    <a:lnTo>
                      <a:pt x="150" y="752"/>
                    </a:lnTo>
                    <a:lnTo>
                      <a:pt x="112" y="771"/>
                    </a:lnTo>
                    <a:lnTo>
                      <a:pt x="83" y="784"/>
                    </a:lnTo>
                    <a:lnTo>
                      <a:pt x="64" y="792"/>
                    </a:lnTo>
                    <a:lnTo>
                      <a:pt x="56" y="793"/>
                    </a:lnTo>
                    <a:lnTo>
                      <a:pt x="49" y="793"/>
                    </a:lnTo>
                    <a:lnTo>
                      <a:pt x="43" y="792"/>
                    </a:lnTo>
                    <a:lnTo>
                      <a:pt x="37" y="788"/>
                    </a:lnTo>
                    <a:lnTo>
                      <a:pt x="31" y="784"/>
                    </a:lnTo>
                    <a:lnTo>
                      <a:pt x="26" y="778"/>
                    </a:lnTo>
                    <a:lnTo>
                      <a:pt x="21" y="772"/>
                    </a:lnTo>
                    <a:lnTo>
                      <a:pt x="16" y="763"/>
                    </a:lnTo>
                    <a:lnTo>
                      <a:pt x="12" y="755"/>
                    </a:lnTo>
                    <a:lnTo>
                      <a:pt x="8" y="746"/>
                    </a:lnTo>
                    <a:lnTo>
                      <a:pt x="6" y="735"/>
                    </a:lnTo>
                    <a:lnTo>
                      <a:pt x="3" y="725"/>
                    </a:lnTo>
                    <a:lnTo>
                      <a:pt x="2" y="713"/>
                    </a:lnTo>
                    <a:lnTo>
                      <a:pt x="1" y="702"/>
                    </a:lnTo>
                    <a:lnTo>
                      <a:pt x="0" y="690"/>
                    </a:lnTo>
                    <a:lnTo>
                      <a:pt x="0" y="677"/>
                    </a:lnTo>
                    <a:lnTo>
                      <a:pt x="1" y="665"/>
                    </a:lnTo>
                    <a:lnTo>
                      <a:pt x="2" y="652"/>
                    </a:lnTo>
                    <a:lnTo>
                      <a:pt x="3" y="639"/>
                    </a:lnTo>
                    <a:lnTo>
                      <a:pt x="6" y="627"/>
                    </a:lnTo>
                    <a:lnTo>
                      <a:pt x="10" y="615"/>
                    </a:lnTo>
                    <a:lnTo>
                      <a:pt x="15" y="604"/>
                    </a:lnTo>
                    <a:lnTo>
                      <a:pt x="19" y="593"/>
                    </a:lnTo>
                    <a:lnTo>
                      <a:pt x="24" y="581"/>
                    </a:lnTo>
                    <a:lnTo>
                      <a:pt x="32" y="570"/>
                    </a:lnTo>
                    <a:lnTo>
                      <a:pt x="39" y="562"/>
                    </a:lnTo>
                    <a:lnTo>
                      <a:pt x="47" y="553"/>
                    </a:lnTo>
                    <a:lnTo>
                      <a:pt x="56" y="546"/>
                    </a:lnTo>
                    <a:lnTo>
                      <a:pt x="66" y="538"/>
                    </a:lnTo>
                    <a:lnTo>
                      <a:pt x="77" y="533"/>
                    </a:lnTo>
                    <a:lnTo>
                      <a:pt x="88" y="529"/>
                    </a:lnTo>
                    <a:lnTo>
                      <a:pt x="102" y="526"/>
                    </a:lnTo>
                    <a:lnTo>
                      <a:pt x="120" y="515"/>
                    </a:lnTo>
                    <a:lnTo>
                      <a:pt x="172" y="484"/>
                    </a:lnTo>
                    <a:lnTo>
                      <a:pt x="247" y="439"/>
                    </a:lnTo>
                    <a:lnTo>
                      <a:pt x="337" y="382"/>
                    </a:lnTo>
                    <a:lnTo>
                      <a:pt x="385" y="350"/>
                    </a:lnTo>
                    <a:lnTo>
                      <a:pt x="433" y="318"/>
                    </a:lnTo>
                    <a:lnTo>
                      <a:pt x="480" y="284"/>
                    </a:lnTo>
                    <a:lnTo>
                      <a:pt x="525" y="251"/>
                    </a:lnTo>
                    <a:lnTo>
                      <a:pt x="568" y="217"/>
                    </a:lnTo>
                    <a:lnTo>
                      <a:pt x="606" y="184"/>
                    </a:lnTo>
                    <a:lnTo>
                      <a:pt x="624" y="169"/>
                    </a:lnTo>
                    <a:lnTo>
                      <a:pt x="640" y="153"/>
                    </a:lnTo>
                    <a:lnTo>
                      <a:pt x="654" y="139"/>
                    </a:lnTo>
                    <a:lnTo>
                      <a:pt x="667" y="124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6627960" y="4743720"/>
                <a:ext cx="255600" cy="215640"/>
              </a:xfrm>
              <a:custGeom>
                <a:avLst/>
                <a:gdLst/>
                <a:ahLst/>
                <a:rect l="l" t="t" r="r" b="b"/>
                <a:pathLst>
                  <a:path w="806" h="676">
                    <a:moveTo>
                      <a:pt x="612" y="102"/>
                    </a:moveTo>
                    <a:lnTo>
                      <a:pt x="632" y="79"/>
                    </a:lnTo>
                    <a:lnTo>
                      <a:pt x="653" y="59"/>
                    </a:lnTo>
                    <a:lnTo>
                      <a:pt x="674" y="41"/>
                    </a:lnTo>
                    <a:lnTo>
                      <a:pt x="696" y="27"/>
                    </a:lnTo>
                    <a:lnTo>
                      <a:pt x="707" y="19"/>
                    </a:lnTo>
                    <a:lnTo>
                      <a:pt x="717" y="14"/>
                    </a:lnTo>
                    <a:lnTo>
                      <a:pt x="728" y="9"/>
                    </a:lnTo>
                    <a:lnTo>
                      <a:pt x="738" y="6"/>
                    </a:lnTo>
                    <a:lnTo>
                      <a:pt x="748" y="2"/>
                    </a:lnTo>
                    <a:lnTo>
                      <a:pt x="756" y="1"/>
                    </a:lnTo>
                    <a:lnTo>
                      <a:pt x="765" y="0"/>
                    </a:lnTo>
                    <a:lnTo>
                      <a:pt x="772" y="0"/>
                    </a:lnTo>
                    <a:lnTo>
                      <a:pt x="780" y="1"/>
                    </a:lnTo>
                    <a:lnTo>
                      <a:pt x="786" y="2"/>
                    </a:lnTo>
                    <a:lnTo>
                      <a:pt x="792" y="6"/>
                    </a:lnTo>
                    <a:lnTo>
                      <a:pt x="797" y="9"/>
                    </a:lnTo>
                    <a:lnTo>
                      <a:pt x="801" y="16"/>
                    </a:lnTo>
                    <a:lnTo>
                      <a:pt x="803" y="22"/>
                    </a:lnTo>
                    <a:lnTo>
                      <a:pt x="804" y="30"/>
                    </a:lnTo>
                    <a:lnTo>
                      <a:pt x="806" y="39"/>
                    </a:lnTo>
                    <a:lnTo>
                      <a:pt x="804" y="50"/>
                    </a:lnTo>
                    <a:lnTo>
                      <a:pt x="802" y="62"/>
                    </a:lnTo>
                    <a:lnTo>
                      <a:pt x="798" y="75"/>
                    </a:lnTo>
                    <a:lnTo>
                      <a:pt x="793" y="89"/>
                    </a:lnTo>
                    <a:lnTo>
                      <a:pt x="786" y="107"/>
                    </a:lnTo>
                    <a:lnTo>
                      <a:pt x="779" y="124"/>
                    </a:lnTo>
                    <a:lnTo>
                      <a:pt x="767" y="143"/>
                    </a:lnTo>
                    <a:lnTo>
                      <a:pt x="756" y="164"/>
                    </a:lnTo>
                    <a:lnTo>
                      <a:pt x="743" y="185"/>
                    </a:lnTo>
                    <a:lnTo>
                      <a:pt x="727" y="207"/>
                    </a:lnTo>
                    <a:lnTo>
                      <a:pt x="710" y="230"/>
                    </a:lnTo>
                    <a:lnTo>
                      <a:pt x="690" y="252"/>
                    </a:lnTo>
                    <a:lnTo>
                      <a:pt x="669" y="274"/>
                    </a:lnTo>
                    <a:lnTo>
                      <a:pt x="647" y="295"/>
                    </a:lnTo>
                    <a:lnTo>
                      <a:pt x="624" y="317"/>
                    </a:lnTo>
                    <a:lnTo>
                      <a:pt x="599" y="339"/>
                    </a:lnTo>
                    <a:lnTo>
                      <a:pt x="573" y="360"/>
                    </a:lnTo>
                    <a:lnTo>
                      <a:pt x="546" y="381"/>
                    </a:lnTo>
                    <a:lnTo>
                      <a:pt x="519" y="402"/>
                    </a:lnTo>
                    <a:lnTo>
                      <a:pt x="492" y="421"/>
                    </a:lnTo>
                    <a:lnTo>
                      <a:pt x="435" y="462"/>
                    </a:lnTo>
                    <a:lnTo>
                      <a:pt x="377" y="499"/>
                    </a:lnTo>
                    <a:lnTo>
                      <a:pt x="322" y="533"/>
                    </a:lnTo>
                    <a:lnTo>
                      <a:pt x="268" y="565"/>
                    </a:lnTo>
                    <a:lnTo>
                      <a:pt x="216" y="595"/>
                    </a:lnTo>
                    <a:lnTo>
                      <a:pt x="170" y="619"/>
                    </a:lnTo>
                    <a:lnTo>
                      <a:pt x="129" y="640"/>
                    </a:lnTo>
                    <a:lnTo>
                      <a:pt x="96" y="656"/>
                    </a:lnTo>
                    <a:lnTo>
                      <a:pt x="69" y="669"/>
                    </a:lnTo>
                    <a:lnTo>
                      <a:pt x="53" y="675"/>
                    </a:lnTo>
                    <a:lnTo>
                      <a:pt x="47" y="676"/>
                    </a:lnTo>
                    <a:lnTo>
                      <a:pt x="40" y="676"/>
                    </a:lnTo>
                    <a:lnTo>
                      <a:pt x="35" y="675"/>
                    </a:lnTo>
                    <a:lnTo>
                      <a:pt x="31" y="672"/>
                    </a:lnTo>
                    <a:lnTo>
                      <a:pt x="26" y="669"/>
                    </a:lnTo>
                    <a:lnTo>
                      <a:pt x="21" y="664"/>
                    </a:lnTo>
                    <a:lnTo>
                      <a:pt x="17" y="659"/>
                    </a:lnTo>
                    <a:lnTo>
                      <a:pt x="13" y="653"/>
                    </a:lnTo>
                    <a:lnTo>
                      <a:pt x="7" y="638"/>
                    </a:lnTo>
                    <a:lnTo>
                      <a:pt x="3" y="621"/>
                    </a:lnTo>
                    <a:lnTo>
                      <a:pt x="1" y="601"/>
                    </a:lnTo>
                    <a:lnTo>
                      <a:pt x="0" y="581"/>
                    </a:lnTo>
                    <a:lnTo>
                      <a:pt x="2" y="560"/>
                    </a:lnTo>
                    <a:lnTo>
                      <a:pt x="6" y="539"/>
                    </a:lnTo>
                    <a:lnTo>
                      <a:pt x="8" y="530"/>
                    </a:lnTo>
                    <a:lnTo>
                      <a:pt x="12" y="520"/>
                    </a:lnTo>
                    <a:lnTo>
                      <a:pt x="16" y="510"/>
                    </a:lnTo>
                    <a:lnTo>
                      <a:pt x="21" y="501"/>
                    </a:lnTo>
                    <a:lnTo>
                      <a:pt x="26" y="493"/>
                    </a:lnTo>
                    <a:lnTo>
                      <a:pt x="32" y="485"/>
                    </a:lnTo>
                    <a:lnTo>
                      <a:pt x="38" y="478"/>
                    </a:lnTo>
                    <a:lnTo>
                      <a:pt x="45" y="471"/>
                    </a:lnTo>
                    <a:lnTo>
                      <a:pt x="54" y="466"/>
                    </a:lnTo>
                    <a:lnTo>
                      <a:pt x="63" y="461"/>
                    </a:lnTo>
                    <a:lnTo>
                      <a:pt x="72" y="457"/>
                    </a:lnTo>
                    <a:lnTo>
                      <a:pt x="82" y="455"/>
                    </a:lnTo>
                    <a:lnTo>
                      <a:pt x="101" y="445"/>
                    </a:lnTo>
                    <a:lnTo>
                      <a:pt x="150" y="416"/>
                    </a:lnTo>
                    <a:lnTo>
                      <a:pt x="222" y="376"/>
                    </a:lnTo>
                    <a:lnTo>
                      <a:pt x="307" y="325"/>
                    </a:lnTo>
                    <a:lnTo>
                      <a:pt x="353" y="297"/>
                    </a:lnTo>
                    <a:lnTo>
                      <a:pt x="398" y="268"/>
                    </a:lnTo>
                    <a:lnTo>
                      <a:pt x="443" y="239"/>
                    </a:lnTo>
                    <a:lnTo>
                      <a:pt x="485" y="210"/>
                    </a:lnTo>
                    <a:lnTo>
                      <a:pt x="524" y="180"/>
                    </a:lnTo>
                    <a:lnTo>
                      <a:pt x="560" y="152"/>
                    </a:lnTo>
                    <a:lnTo>
                      <a:pt x="574" y="139"/>
                    </a:lnTo>
                    <a:lnTo>
                      <a:pt x="589" y="126"/>
                    </a:lnTo>
                    <a:lnTo>
                      <a:pt x="601" y="114"/>
                    </a:lnTo>
                    <a:lnTo>
                      <a:pt x="612" y="10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6627960" y="4775400"/>
                <a:ext cx="223560" cy="179280"/>
              </a:xfrm>
              <a:custGeom>
                <a:avLst/>
                <a:gdLst/>
                <a:ahLst/>
                <a:rect l="l" t="t" r="r" b="b"/>
                <a:pathLst>
                  <a:path w="705" h="563">
                    <a:moveTo>
                      <a:pt x="555" y="81"/>
                    </a:moveTo>
                    <a:lnTo>
                      <a:pt x="571" y="63"/>
                    </a:lnTo>
                    <a:lnTo>
                      <a:pt x="588" y="47"/>
                    </a:lnTo>
                    <a:lnTo>
                      <a:pt x="605" y="33"/>
                    </a:lnTo>
                    <a:lnTo>
                      <a:pt x="622" y="21"/>
                    </a:lnTo>
                    <a:lnTo>
                      <a:pt x="638" y="11"/>
                    </a:lnTo>
                    <a:lnTo>
                      <a:pt x="654" y="5"/>
                    </a:lnTo>
                    <a:lnTo>
                      <a:pt x="662" y="3"/>
                    </a:lnTo>
                    <a:lnTo>
                      <a:pt x="669" y="0"/>
                    </a:lnTo>
                    <a:lnTo>
                      <a:pt x="675" y="0"/>
                    </a:lnTo>
                    <a:lnTo>
                      <a:pt x="681" y="0"/>
                    </a:lnTo>
                    <a:lnTo>
                      <a:pt x="686" y="0"/>
                    </a:lnTo>
                    <a:lnTo>
                      <a:pt x="691" y="3"/>
                    </a:lnTo>
                    <a:lnTo>
                      <a:pt x="696" y="5"/>
                    </a:lnTo>
                    <a:lnTo>
                      <a:pt x="700" y="9"/>
                    </a:lnTo>
                    <a:lnTo>
                      <a:pt x="702" y="12"/>
                    </a:lnTo>
                    <a:lnTo>
                      <a:pt x="704" y="17"/>
                    </a:lnTo>
                    <a:lnTo>
                      <a:pt x="705" y="25"/>
                    </a:lnTo>
                    <a:lnTo>
                      <a:pt x="705" y="32"/>
                    </a:lnTo>
                    <a:lnTo>
                      <a:pt x="705" y="40"/>
                    </a:lnTo>
                    <a:lnTo>
                      <a:pt x="702" y="49"/>
                    </a:lnTo>
                    <a:lnTo>
                      <a:pt x="700" y="60"/>
                    </a:lnTo>
                    <a:lnTo>
                      <a:pt x="695" y="71"/>
                    </a:lnTo>
                    <a:lnTo>
                      <a:pt x="690" y="85"/>
                    </a:lnTo>
                    <a:lnTo>
                      <a:pt x="684" y="99"/>
                    </a:lnTo>
                    <a:lnTo>
                      <a:pt x="675" y="113"/>
                    </a:lnTo>
                    <a:lnTo>
                      <a:pt x="667" y="131"/>
                    </a:lnTo>
                    <a:lnTo>
                      <a:pt x="656" y="148"/>
                    </a:lnTo>
                    <a:lnTo>
                      <a:pt x="643" y="165"/>
                    </a:lnTo>
                    <a:lnTo>
                      <a:pt x="628" y="182"/>
                    </a:lnTo>
                    <a:lnTo>
                      <a:pt x="612" y="201"/>
                    </a:lnTo>
                    <a:lnTo>
                      <a:pt x="594" y="218"/>
                    </a:lnTo>
                    <a:lnTo>
                      <a:pt x="574" y="236"/>
                    </a:lnTo>
                    <a:lnTo>
                      <a:pt x="553" y="255"/>
                    </a:lnTo>
                    <a:lnTo>
                      <a:pt x="533" y="272"/>
                    </a:lnTo>
                    <a:lnTo>
                      <a:pt x="486" y="308"/>
                    </a:lnTo>
                    <a:lnTo>
                      <a:pt x="437" y="342"/>
                    </a:lnTo>
                    <a:lnTo>
                      <a:pt x="385" y="377"/>
                    </a:lnTo>
                    <a:lnTo>
                      <a:pt x="333" y="409"/>
                    </a:lnTo>
                    <a:lnTo>
                      <a:pt x="283" y="438"/>
                    </a:lnTo>
                    <a:lnTo>
                      <a:pt x="234" y="466"/>
                    </a:lnTo>
                    <a:lnTo>
                      <a:pt x="188" y="491"/>
                    </a:lnTo>
                    <a:lnTo>
                      <a:pt x="145" y="513"/>
                    </a:lnTo>
                    <a:lnTo>
                      <a:pt x="108" y="532"/>
                    </a:lnTo>
                    <a:lnTo>
                      <a:pt x="79" y="546"/>
                    </a:lnTo>
                    <a:lnTo>
                      <a:pt x="55" y="556"/>
                    </a:lnTo>
                    <a:lnTo>
                      <a:pt x="42" y="562"/>
                    </a:lnTo>
                    <a:lnTo>
                      <a:pt x="37" y="563"/>
                    </a:lnTo>
                    <a:lnTo>
                      <a:pt x="32" y="563"/>
                    </a:lnTo>
                    <a:lnTo>
                      <a:pt x="28" y="562"/>
                    </a:lnTo>
                    <a:lnTo>
                      <a:pt x="24" y="560"/>
                    </a:lnTo>
                    <a:lnTo>
                      <a:pt x="21" y="557"/>
                    </a:lnTo>
                    <a:lnTo>
                      <a:pt x="17" y="554"/>
                    </a:lnTo>
                    <a:lnTo>
                      <a:pt x="13" y="549"/>
                    </a:lnTo>
                    <a:lnTo>
                      <a:pt x="11" y="544"/>
                    </a:lnTo>
                    <a:lnTo>
                      <a:pt x="6" y="533"/>
                    </a:lnTo>
                    <a:lnTo>
                      <a:pt x="2" y="518"/>
                    </a:lnTo>
                    <a:lnTo>
                      <a:pt x="0" y="503"/>
                    </a:lnTo>
                    <a:lnTo>
                      <a:pt x="0" y="487"/>
                    </a:lnTo>
                    <a:lnTo>
                      <a:pt x="1" y="471"/>
                    </a:lnTo>
                    <a:lnTo>
                      <a:pt x="5" y="455"/>
                    </a:lnTo>
                    <a:lnTo>
                      <a:pt x="10" y="439"/>
                    </a:lnTo>
                    <a:lnTo>
                      <a:pt x="16" y="424"/>
                    </a:lnTo>
                    <a:lnTo>
                      <a:pt x="21" y="418"/>
                    </a:lnTo>
                    <a:lnTo>
                      <a:pt x="26" y="412"/>
                    </a:lnTo>
                    <a:lnTo>
                      <a:pt x="31" y="406"/>
                    </a:lnTo>
                    <a:lnTo>
                      <a:pt x="37" y="401"/>
                    </a:lnTo>
                    <a:lnTo>
                      <a:pt x="43" y="396"/>
                    </a:lnTo>
                    <a:lnTo>
                      <a:pt x="50" y="393"/>
                    </a:lnTo>
                    <a:lnTo>
                      <a:pt x="58" y="390"/>
                    </a:lnTo>
                    <a:lnTo>
                      <a:pt x="66" y="388"/>
                    </a:lnTo>
                    <a:lnTo>
                      <a:pt x="83" y="379"/>
                    </a:lnTo>
                    <a:lnTo>
                      <a:pt x="130" y="354"/>
                    </a:lnTo>
                    <a:lnTo>
                      <a:pt x="199" y="317"/>
                    </a:lnTo>
                    <a:lnTo>
                      <a:pt x="279" y="272"/>
                    </a:lnTo>
                    <a:lnTo>
                      <a:pt x="321" y="246"/>
                    </a:lnTo>
                    <a:lnTo>
                      <a:pt x="364" y="222"/>
                    </a:lnTo>
                    <a:lnTo>
                      <a:pt x="405" y="196"/>
                    </a:lnTo>
                    <a:lnTo>
                      <a:pt x="443" y="170"/>
                    </a:lnTo>
                    <a:lnTo>
                      <a:pt x="478" y="147"/>
                    </a:lnTo>
                    <a:lnTo>
                      <a:pt x="510" y="123"/>
                    </a:lnTo>
                    <a:lnTo>
                      <a:pt x="524" y="111"/>
                    </a:lnTo>
                    <a:lnTo>
                      <a:pt x="536" y="101"/>
                    </a:lnTo>
                    <a:lnTo>
                      <a:pt x="546" y="91"/>
                    </a:lnTo>
                    <a:lnTo>
                      <a:pt x="555" y="81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6627960" y="4807080"/>
                <a:ext cx="193680" cy="141120"/>
              </a:xfrm>
              <a:custGeom>
                <a:avLst/>
                <a:gdLst/>
                <a:ahLst/>
                <a:rect l="l" t="t" r="r" b="b"/>
                <a:pathLst>
                  <a:path w="608" h="445">
                    <a:moveTo>
                      <a:pt x="47" y="320"/>
                    </a:moveTo>
                    <a:lnTo>
                      <a:pt x="64" y="311"/>
                    </a:lnTo>
                    <a:lnTo>
                      <a:pt x="109" y="289"/>
                    </a:lnTo>
                    <a:lnTo>
                      <a:pt x="173" y="256"/>
                    </a:lnTo>
                    <a:lnTo>
                      <a:pt x="248" y="216"/>
                    </a:lnTo>
                    <a:lnTo>
                      <a:pt x="288" y="194"/>
                    </a:lnTo>
                    <a:lnTo>
                      <a:pt x="327" y="172"/>
                    </a:lnTo>
                    <a:lnTo>
                      <a:pt x="365" y="151"/>
                    </a:lnTo>
                    <a:lnTo>
                      <a:pt x="400" y="129"/>
                    </a:lnTo>
                    <a:lnTo>
                      <a:pt x="432" y="109"/>
                    </a:lnTo>
                    <a:lnTo>
                      <a:pt x="459" y="91"/>
                    </a:lnTo>
                    <a:lnTo>
                      <a:pt x="471" y="82"/>
                    </a:lnTo>
                    <a:lnTo>
                      <a:pt x="481" y="74"/>
                    </a:lnTo>
                    <a:lnTo>
                      <a:pt x="488" y="66"/>
                    </a:lnTo>
                    <a:lnTo>
                      <a:pt x="496" y="59"/>
                    </a:lnTo>
                    <a:lnTo>
                      <a:pt x="507" y="46"/>
                    </a:lnTo>
                    <a:lnTo>
                      <a:pt x="519" y="34"/>
                    </a:lnTo>
                    <a:lnTo>
                      <a:pt x="533" y="23"/>
                    </a:lnTo>
                    <a:lnTo>
                      <a:pt x="545" y="15"/>
                    </a:lnTo>
                    <a:lnTo>
                      <a:pt x="557" y="9"/>
                    </a:lnTo>
                    <a:lnTo>
                      <a:pt x="569" y="4"/>
                    </a:lnTo>
                    <a:lnTo>
                      <a:pt x="580" y="1"/>
                    </a:lnTo>
                    <a:lnTo>
                      <a:pt x="589" y="0"/>
                    </a:lnTo>
                    <a:lnTo>
                      <a:pt x="594" y="1"/>
                    </a:lnTo>
                    <a:lnTo>
                      <a:pt x="598" y="2"/>
                    </a:lnTo>
                    <a:lnTo>
                      <a:pt x="600" y="4"/>
                    </a:lnTo>
                    <a:lnTo>
                      <a:pt x="604" y="6"/>
                    </a:lnTo>
                    <a:lnTo>
                      <a:pt x="605" y="10"/>
                    </a:lnTo>
                    <a:lnTo>
                      <a:pt x="608" y="14"/>
                    </a:lnTo>
                    <a:lnTo>
                      <a:pt x="608" y="18"/>
                    </a:lnTo>
                    <a:lnTo>
                      <a:pt x="608" y="23"/>
                    </a:lnTo>
                    <a:lnTo>
                      <a:pt x="606" y="37"/>
                    </a:lnTo>
                    <a:lnTo>
                      <a:pt x="601" y="53"/>
                    </a:lnTo>
                    <a:lnTo>
                      <a:pt x="593" y="71"/>
                    </a:lnTo>
                    <a:lnTo>
                      <a:pt x="579" y="95"/>
                    </a:lnTo>
                    <a:lnTo>
                      <a:pt x="571" y="107"/>
                    </a:lnTo>
                    <a:lnTo>
                      <a:pt x="561" y="119"/>
                    </a:lnTo>
                    <a:lnTo>
                      <a:pt x="549" y="133"/>
                    </a:lnTo>
                    <a:lnTo>
                      <a:pt x="535" y="146"/>
                    </a:lnTo>
                    <a:lnTo>
                      <a:pt x="519" y="160"/>
                    </a:lnTo>
                    <a:lnTo>
                      <a:pt x="503" y="175"/>
                    </a:lnTo>
                    <a:lnTo>
                      <a:pt x="485" y="188"/>
                    </a:lnTo>
                    <a:lnTo>
                      <a:pt x="466" y="203"/>
                    </a:lnTo>
                    <a:lnTo>
                      <a:pt x="424" y="231"/>
                    </a:lnTo>
                    <a:lnTo>
                      <a:pt x="381" y="260"/>
                    </a:lnTo>
                    <a:lnTo>
                      <a:pt x="336" y="288"/>
                    </a:lnTo>
                    <a:lnTo>
                      <a:pt x="289" y="315"/>
                    </a:lnTo>
                    <a:lnTo>
                      <a:pt x="243" y="339"/>
                    </a:lnTo>
                    <a:lnTo>
                      <a:pt x="199" y="364"/>
                    </a:lnTo>
                    <a:lnTo>
                      <a:pt x="157" y="385"/>
                    </a:lnTo>
                    <a:lnTo>
                      <a:pt x="120" y="403"/>
                    </a:lnTo>
                    <a:lnTo>
                      <a:pt x="61" y="432"/>
                    </a:lnTo>
                    <a:lnTo>
                      <a:pt x="31" y="445"/>
                    </a:lnTo>
                    <a:lnTo>
                      <a:pt x="27" y="445"/>
                    </a:lnTo>
                    <a:lnTo>
                      <a:pt x="24" y="445"/>
                    </a:lnTo>
                    <a:lnTo>
                      <a:pt x="21" y="444"/>
                    </a:lnTo>
                    <a:lnTo>
                      <a:pt x="18" y="443"/>
                    </a:lnTo>
                    <a:lnTo>
                      <a:pt x="12" y="438"/>
                    </a:lnTo>
                    <a:lnTo>
                      <a:pt x="8" y="432"/>
                    </a:lnTo>
                    <a:lnTo>
                      <a:pt x="5" y="423"/>
                    </a:lnTo>
                    <a:lnTo>
                      <a:pt x="2" y="413"/>
                    </a:lnTo>
                    <a:lnTo>
                      <a:pt x="1" y="402"/>
                    </a:lnTo>
                    <a:lnTo>
                      <a:pt x="0" y="390"/>
                    </a:lnTo>
                    <a:lnTo>
                      <a:pt x="1" y="379"/>
                    </a:lnTo>
                    <a:lnTo>
                      <a:pt x="3" y="367"/>
                    </a:lnTo>
                    <a:lnTo>
                      <a:pt x="7" y="355"/>
                    </a:lnTo>
                    <a:lnTo>
                      <a:pt x="12" y="346"/>
                    </a:lnTo>
                    <a:lnTo>
                      <a:pt x="18" y="336"/>
                    </a:lnTo>
                    <a:lnTo>
                      <a:pt x="26" y="328"/>
                    </a:lnTo>
                    <a:lnTo>
                      <a:pt x="31" y="326"/>
                    </a:lnTo>
                    <a:lnTo>
                      <a:pt x="35" y="323"/>
                    </a:lnTo>
                    <a:lnTo>
                      <a:pt x="42" y="321"/>
                    </a:lnTo>
                    <a:lnTo>
                      <a:pt x="47" y="32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6689880" y="3768840"/>
                <a:ext cx="230040" cy="700200"/>
              </a:xfrm>
              <a:custGeom>
                <a:avLst/>
                <a:gdLst/>
                <a:ahLst/>
                <a:rect l="l" t="t" r="r" b="b"/>
                <a:pathLst>
                  <a:path w="727" h="2202">
                    <a:moveTo>
                      <a:pt x="562" y="1163"/>
                    </a:moveTo>
                    <a:lnTo>
                      <a:pt x="490" y="1319"/>
                    </a:lnTo>
                    <a:lnTo>
                      <a:pt x="414" y="1489"/>
                    </a:lnTo>
                    <a:lnTo>
                      <a:pt x="337" y="1660"/>
                    </a:lnTo>
                    <a:lnTo>
                      <a:pt x="265" y="1822"/>
                    </a:lnTo>
                    <a:lnTo>
                      <a:pt x="201" y="1966"/>
                    </a:lnTo>
                    <a:lnTo>
                      <a:pt x="149" y="2082"/>
                    </a:lnTo>
                    <a:lnTo>
                      <a:pt x="116" y="2159"/>
                    </a:lnTo>
                    <a:lnTo>
                      <a:pt x="104" y="2186"/>
                    </a:lnTo>
                    <a:lnTo>
                      <a:pt x="91" y="2195"/>
                    </a:lnTo>
                    <a:lnTo>
                      <a:pt x="80" y="2200"/>
                    </a:lnTo>
                    <a:lnTo>
                      <a:pt x="70" y="2202"/>
                    </a:lnTo>
                    <a:lnTo>
                      <a:pt x="60" y="2201"/>
                    </a:lnTo>
                    <a:lnTo>
                      <a:pt x="52" y="2197"/>
                    </a:lnTo>
                    <a:lnTo>
                      <a:pt x="44" y="2190"/>
                    </a:lnTo>
                    <a:lnTo>
                      <a:pt x="37" y="2180"/>
                    </a:lnTo>
                    <a:lnTo>
                      <a:pt x="31" y="2166"/>
                    </a:lnTo>
                    <a:lnTo>
                      <a:pt x="25" y="2150"/>
                    </a:lnTo>
                    <a:lnTo>
                      <a:pt x="20" y="2131"/>
                    </a:lnTo>
                    <a:lnTo>
                      <a:pt x="15" y="2107"/>
                    </a:lnTo>
                    <a:lnTo>
                      <a:pt x="11" y="2082"/>
                    </a:lnTo>
                    <a:lnTo>
                      <a:pt x="9" y="2052"/>
                    </a:lnTo>
                    <a:lnTo>
                      <a:pt x="5" y="2020"/>
                    </a:lnTo>
                    <a:lnTo>
                      <a:pt x="4" y="1983"/>
                    </a:lnTo>
                    <a:lnTo>
                      <a:pt x="3" y="1944"/>
                    </a:lnTo>
                    <a:lnTo>
                      <a:pt x="0" y="1855"/>
                    </a:lnTo>
                    <a:lnTo>
                      <a:pt x="1" y="1753"/>
                    </a:lnTo>
                    <a:lnTo>
                      <a:pt x="4" y="1636"/>
                    </a:lnTo>
                    <a:lnTo>
                      <a:pt x="8" y="1506"/>
                    </a:lnTo>
                    <a:lnTo>
                      <a:pt x="20" y="1201"/>
                    </a:lnTo>
                    <a:lnTo>
                      <a:pt x="38" y="837"/>
                    </a:lnTo>
                    <a:lnTo>
                      <a:pt x="46" y="655"/>
                    </a:lnTo>
                    <a:lnTo>
                      <a:pt x="53" y="500"/>
                    </a:lnTo>
                    <a:lnTo>
                      <a:pt x="57" y="369"/>
                    </a:lnTo>
                    <a:lnTo>
                      <a:pt x="60" y="264"/>
                    </a:lnTo>
                    <a:lnTo>
                      <a:pt x="63" y="179"/>
                    </a:lnTo>
                    <a:lnTo>
                      <a:pt x="65" y="112"/>
                    </a:lnTo>
                    <a:lnTo>
                      <a:pt x="67" y="64"/>
                    </a:lnTo>
                    <a:lnTo>
                      <a:pt x="69" y="31"/>
                    </a:lnTo>
                    <a:lnTo>
                      <a:pt x="72" y="19"/>
                    </a:lnTo>
                    <a:lnTo>
                      <a:pt x="73" y="10"/>
                    </a:lnTo>
                    <a:lnTo>
                      <a:pt x="75" y="5"/>
                    </a:lnTo>
                    <a:lnTo>
                      <a:pt x="78" y="2"/>
                    </a:lnTo>
                    <a:lnTo>
                      <a:pt x="80" y="0"/>
                    </a:lnTo>
                    <a:lnTo>
                      <a:pt x="84" y="2"/>
                    </a:lnTo>
                    <a:lnTo>
                      <a:pt x="89" y="5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20" y="37"/>
                    </a:lnTo>
                    <a:lnTo>
                      <a:pt x="128" y="46"/>
                    </a:lnTo>
                    <a:lnTo>
                      <a:pt x="138" y="55"/>
                    </a:lnTo>
                    <a:lnTo>
                      <a:pt x="148" y="63"/>
                    </a:lnTo>
                    <a:lnTo>
                      <a:pt x="160" y="71"/>
                    </a:lnTo>
                    <a:lnTo>
                      <a:pt x="172" y="78"/>
                    </a:lnTo>
                    <a:lnTo>
                      <a:pt x="183" y="87"/>
                    </a:lnTo>
                    <a:lnTo>
                      <a:pt x="193" y="96"/>
                    </a:lnTo>
                    <a:lnTo>
                      <a:pt x="203" y="106"/>
                    </a:lnTo>
                    <a:lnTo>
                      <a:pt x="212" y="117"/>
                    </a:lnTo>
                    <a:lnTo>
                      <a:pt x="219" y="128"/>
                    </a:lnTo>
                    <a:lnTo>
                      <a:pt x="227" y="141"/>
                    </a:lnTo>
                    <a:lnTo>
                      <a:pt x="233" y="153"/>
                    </a:lnTo>
                    <a:lnTo>
                      <a:pt x="238" y="166"/>
                    </a:lnTo>
                    <a:lnTo>
                      <a:pt x="243" y="180"/>
                    </a:lnTo>
                    <a:lnTo>
                      <a:pt x="247" y="195"/>
                    </a:lnTo>
                    <a:lnTo>
                      <a:pt x="251" y="210"/>
                    </a:lnTo>
                    <a:lnTo>
                      <a:pt x="256" y="242"/>
                    </a:lnTo>
                    <a:lnTo>
                      <a:pt x="260" y="275"/>
                    </a:lnTo>
                    <a:lnTo>
                      <a:pt x="261" y="310"/>
                    </a:lnTo>
                    <a:lnTo>
                      <a:pt x="261" y="347"/>
                    </a:lnTo>
                    <a:lnTo>
                      <a:pt x="260" y="387"/>
                    </a:lnTo>
                    <a:lnTo>
                      <a:pt x="257" y="426"/>
                    </a:lnTo>
                    <a:lnTo>
                      <a:pt x="249" y="510"/>
                    </a:lnTo>
                    <a:lnTo>
                      <a:pt x="239" y="597"/>
                    </a:lnTo>
                    <a:lnTo>
                      <a:pt x="235" y="640"/>
                    </a:lnTo>
                    <a:lnTo>
                      <a:pt x="235" y="678"/>
                    </a:lnTo>
                    <a:lnTo>
                      <a:pt x="235" y="697"/>
                    </a:lnTo>
                    <a:lnTo>
                      <a:pt x="236" y="713"/>
                    </a:lnTo>
                    <a:lnTo>
                      <a:pt x="239" y="729"/>
                    </a:lnTo>
                    <a:lnTo>
                      <a:pt x="241" y="742"/>
                    </a:lnTo>
                    <a:lnTo>
                      <a:pt x="245" y="756"/>
                    </a:lnTo>
                    <a:lnTo>
                      <a:pt x="249" y="768"/>
                    </a:lnTo>
                    <a:lnTo>
                      <a:pt x="254" y="778"/>
                    </a:lnTo>
                    <a:lnTo>
                      <a:pt x="260" y="786"/>
                    </a:lnTo>
                    <a:lnTo>
                      <a:pt x="266" y="795"/>
                    </a:lnTo>
                    <a:lnTo>
                      <a:pt x="273" y="801"/>
                    </a:lnTo>
                    <a:lnTo>
                      <a:pt x="282" y="805"/>
                    </a:lnTo>
                    <a:lnTo>
                      <a:pt x="291" y="809"/>
                    </a:lnTo>
                    <a:lnTo>
                      <a:pt x="300" y="810"/>
                    </a:lnTo>
                    <a:lnTo>
                      <a:pt x="310" y="810"/>
                    </a:lnTo>
                    <a:lnTo>
                      <a:pt x="323" y="807"/>
                    </a:lnTo>
                    <a:lnTo>
                      <a:pt x="335" y="804"/>
                    </a:lnTo>
                    <a:lnTo>
                      <a:pt x="347" y="799"/>
                    </a:lnTo>
                    <a:lnTo>
                      <a:pt x="362" y="791"/>
                    </a:lnTo>
                    <a:lnTo>
                      <a:pt x="377" y="781"/>
                    </a:lnTo>
                    <a:lnTo>
                      <a:pt x="393" y="770"/>
                    </a:lnTo>
                    <a:lnTo>
                      <a:pt x="410" y="757"/>
                    </a:lnTo>
                    <a:lnTo>
                      <a:pt x="427" y="742"/>
                    </a:lnTo>
                    <a:lnTo>
                      <a:pt x="446" y="725"/>
                    </a:lnTo>
                    <a:lnTo>
                      <a:pt x="465" y="705"/>
                    </a:lnTo>
                    <a:lnTo>
                      <a:pt x="486" y="684"/>
                    </a:lnTo>
                    <a:lnTo>
                      <a:pt x="508" y="660"/>
                    </a:lnTo>
                    <a:lnTo>
                      <a:pt x="530" y="634"/>
                    </a:lnTo>
                    <a:lnTo>
                      <a:pt x="554" y="606"/>
                    </a:lnTo>
                    <a:lnTo>
                      <a:pt x="577" y="579"/>
                    </a:lnTo>
                    <a:lnTo>
                      <a:pt x="599" y="555"/>
                    </a:lnTo>
                    <a:lnTo>
                      <a:pt x="619" y="537"/>
                    </a:lnTo>
                    <a:lnTo>
                      <a:pt x="637" y="523"/>
                    </a:lnTo>
                    <a:lnTo>
                      <a:pt x="653" y="512"/>
                    </a:lnTo>
                    <a:lnTo>
                      <a:pt x="668" y="506"/>
                    </a:lnTo>
                    <a:lnTo>
                      <a:pt x="682" y="504"/>
                    </a:lnTo>
                    <a:lnTo>
                      <a:pt x="693" y="505"/>
                    </a:lnTo>
                    <a:lnTo>
                      <a:pt x="701" y="508"/>
                    </a:lnTo>
                    <a:lnTo>
                      <a:pt x="710" y="516"/>
                    </a:lnTo>
                    <a:lnTo>
                      <a:pt x="716" y="526"/>
                    </a:lnTo>
                    <a:lnTo>
                      <a:pt x="721" y="539"/>
                    </a:lnTo>
                    <a:lnTo>
                      <a:pt x="725" y="555"/>
                    </a:lnTo>
                    <a:lnTo>
                      <a:pt x="726" y="574"/>
                    </a:lnTo>
                    <a:lnTo>
                      <a:pt x="727" y="595"/>
                    </a:lnTo>
                    <a:lnTo>
                      <a:pt x="726" y="618"/>
                    </a:lnTo>
                    <a:lnTo>
                      <a:pt x="724" y="644"/>
                    </a:lnTo>
                    <a:lnTo>
                      <a:pt x="721" y="671"/>
                    </a:lnTo>
                    <a:lnTo>
                      <a:pt x="716" y="699"/>
                    </a:lnTo>
                    <a:lnTo>
                      <a:pt x="710" y="730"/>
                    </a:lnTo>
                    <a:lnTo>
                      <a:pt x="704" y="762"/>
                    </a:lnTo>
                    <a:lnTo>
                      <a:pt x="695" y="795"/>
                    </a:lnTo>
                    <a:lnTo>
                      <a:pt x="687" y="829"/>
                    </a:lnTo>
                    <a:lnTo>
                      <a:pt x="676" y="865"/>
                    </a:lnTo>
                    <a:lnTo>
                      <a:pt x="665" y="901"/>
                    </a:lnTo>
                    <a:lnTo>
                      <a:pt x="652" y="938"/>
                    </a:lnTo>
                    <a:lnTo>
                      <a:pt x="640" y="975"/>
                    </a:lnTo>
                    <a:lnTo>
                      <a:pt x="625" y="1013"/>
                    </a:lnTo>
                    <a:lnTo>
                      <a:pt x="610" y="1050"/>
                    </a:lnTo>
                    <a:lnTo>
                      <a:pt x="596" y="1088"/>
                    </a:lnTo>
                    <a:lnTo>
                      <a:pt x="580" y="1126"/>
                    </a:lnTo>
                    <a:lnTo>
                      <a:pt x="562" y="116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6688080" y="3786120"/>
                <a:ext cx="208080" cy="668520"/>
              </a:xfrm>
              <a:custGeom>
                <a:avLst/>
                <a:gdLst/>
                <a:ahLst/>
                <a:rect l="l" t="t" r="r" b="b"/>
                <a:pathLst>
                  <a:path w="656" h="2108">
                    <a:moveTo>
                      <a:pt x="467" y="1172"/>
                    </a:moveTo>
                    <a:lnTo>
                      <a:pt x="432" y="1249"/>
                    </a:lnTo>
                    <a:lnTo>
                      <a:pt x="399" y="1326"/>
                    </a:lnTo>
                    <a:lnTo>
                      <a:pt x="364" y="1404"/>
                    </a:lnTo>
                    <a:lnTo>
                      <a:pt x="331" y="1482"/>
                    </a:lnTo>
                    <a:lnTo>
                      <a:pt x="268" y="1636"/>
                    </a:lnTo>
                    <a:lnTo>
                      <a:pt x="212" y="1780"/>
                    </a:lnTo>
                    <a:lnTo>
                      <a:pt x="164" y="1904"/>
                    </a:lnTo>
                    <a:lnTo>
                      <a:pt x="127" y="2003"/>
                    </a:lnTo>
                    <a:lnTo>
                      <a:pt x="102" y="2068"/>
                    </a:lnTo>
                    <a:lnTo>
                      <a:pt x="95" y="2091"/>
                    </a:lnTo>
                    <a:lnTo>
                      <a:pt x="83" y="2100"/>
                    </a:lnTo>
                    <a:lnTo>
                      <a:pt x="72" y="2106"/>
                    </a:lnTo>
                    <a:lnTo>
                      <a:pt x="62" y="2108"/>
                    </a:lnTo>
                    <a:lnTo>
                      <a:pt x="53" y="2108"/>
                    </a:lnTo>
                    <a:lnTo>
                      <a:pt x="45" y="2106"/>
                    </a:lnTo>
                    <a:lnTo>
                      <a:pt x="37" y="2100"/>
                    </a:lnTo>
                    <a:lnTo>
                      <a:pt x="30" y="2091"/>
                    </a:lnTo>
                    <a:lnTo>
                      <a:pt x="24" y="2079"/>
                    </a:lnTo>
                    <a:lnTo>
                      <a:pt x="19" y="2064"/>
                    </a:lnTo>
                    <a:lnTo>
                      <a:pt x="14" y="2047"/>
                    </a:lnTo>
                    <a:lnTo>
                      <a:pt x="10" y="2026"/>
                    </a:lnTo>
                    <a:lnTo>
                      <a:pt x="8" y="2001"/>
                    </a:lnTo>
                    <a:lnTo>
                      <a:pt x="5" y="1974"/>
                    </a:lnTo>
                    <a:lnTo>
                      <a:pt x="3" y="1943"/>
                    </a:lnTo>
                    <a:lnTo>
                      <a:pt x="1" y="1909"/>
                    </a:lnTo>
                    <a:lnTo>
                      <a:pt x="0" y="1872"/>
                    </a:lnTo>
                    <a:lnTo>
                      <a:pt x="0" y="1787"/>
                    </a:lnTo>
                    <a:lnTo>
                      <a:pt x="1" y="1688"/>
                    </a:lnTo>
                    <a:lnTo>
                      <a:pt x="5" y="1574"/>
                    </a:lnTo>
                    <a:lnTo>
                      <a:pt x="11" y="1447"/>
                    </a:lnTo>
                    <a:lnTo>
                      <a:pt x="25" y="1146"/>
                    </a:lnTo>
                    <a:lnTo>
                      <a:pt x="43" y="785"/>
                    </a:lnTo>
                    <a:lnTo>
                      <a:pt x="51" y="603"/>
                    </a:lnTo>
                    <a:lnTo>
                      <a:pt x="57" y="450"/>
                    </a:lnTo>
                    <a:lnTo>
                      <a:pt x="62" y="325"/>
                    </a:lnTo>
                    <a:lnTo>
                      <a:pt x="64" y="223"/>
                    </a:lnTo>
                    <a:lnTo>
                      <a:pt x="67" y="84"/>
                    </a:lnTo>
                    <a:lnTo>
                      <a:pt x="70" y="15"/>
                    </a:lnTo>
                    <a:lnTo>
                      <a:pt x="72" y="7"/>
                    </a:lnTo>
                    <a:lnTo>
                      <a:pt x="73" y="3"/>
                    </a:lnTo>
                    <a:lnTo>
                      <a:pt x="75" y="0"/>
                    </a:lnTo>
                    <a:lnTo>
                      <a:pt x="77" y="0"/>
                    </a:lnTo>
                    <a:lnTo>
                      <a:pt x="83" y="6"/>
                    </a:lnTo>
                    <a:lnTo>
                      <a:pt x="91" y="20"/>
                    </a:lnTo>
                    <a:lnTo>
                      <a:pt x="102" y="37"/>
                    </a:lnTo>
                    <a:lnTo>
                      <a:pt x="117" y="55"/>
                    </a:lnTo>
                    <a:lnTo>
                      <a:pt x="126" y="65"/>
                    </a:lnTo>
                    <a:lnTo>
                      <a:pt x="134" y="75"/>
                    </a:lnTo>
                    <a:lnTo>
                      <a:pt x="145" y="84"/>
                    </a:lnTo>
                    <a:lnTo>
                      <a:pt x="157" y="92"/>
                    </a:lnTo>
                    <a:lnTo>
                      <a:pt x="169" y="100"/>
                    </a:lnTo>
                    <a:lnTo>
                      <a:pt x="180" y="108"/>
                    </a:lnTo>
                    <a:lnTo>
                      <a:pt x="190" y="117"/>
                    </a:lnTo>
                    <a:lnTo>
                      <a:pt x="198" y="128"/>
                    </a:lnTo>
                    <a:lnTo>
                      <a:pt x="207" y="138"/>
                    </a:lnTo>
                    <a:lnTo>
                      <a:pt x="213" y="150"/>
                    </a:lnTo>
                    <a:lnTo>
                      <a:pt x="219" y="161"/>
                    </a:lnTo>
                    <a:lnTo>
                      <a:pt x="225" y="175"/>
                    </a:lnTo>
                    <a:lnTo>
                      <a:pt x="229" y="188"/>
                    </a:lnTo>
                    <a:lnTo>
                      <a:pt x="234" y="202"/>
                    </a:lnTo>
                    <a:lnTo>
                      <a:pt x="236" y="217"/>
                    </a:lnTo>
                    <a:lnTo>
                      <a:pt x="239" y="231"/>
                    </a:lnTo>
                    <a:lnTo>
                      <a:pt x="243" y="263"/>
                    </a:lnTo>
                    <a:lnTo>
                      <a:pt x="243" y="298"/>
                    </a:lnTo>
                    <a:lnTo>
                      <a:pt x="243" y="333"/>
                    </a:lnTo>
                    <a:lnTo>
                      <a:pt x="240" y="370"/>
                    </a:lnTo>
                    <a:lnTo>
                      <a:pt x="236" y="410"/>
                    </a:lnTo>
                    <a:lnTo>
                      <a:pt x="232" y="450"/>
                    </a:lnTo>
                    <a:lnTo>
                      <a:pt x="222" y="534"/>
                    </a:lnTo>
                    <a:lnTo>
                      <a:pt x="212" y="621"/>
                    </a:lnTo>
                    <a:lnTo>
                      <a:pt x="207" y="664"/>
                    </a:lnTo>
                    <a:lnTo>
                      <a:pt x="206" y="704"/>
                    </a:lnTo>
                    <a:lnTo>
                      <a:pt x="206" y="722"/>
                    </a:lnTo>
                    <a:lnTo>
                      <a:pt x="206" y="741"/>
                    </a:lnTo>
                    <a:lnTo>
                      <a:pt x="207" y="757"/>
                    </a:lnTo>
                    <a:lnTo>
                      <a:pt x="208" y="773"/>
                    </a:lnTo>
                    <a:lnTo>
                      <a:pt x="211" y="786"/>
                    </a:lnTo>
                    <a:lnTo>
                      <a:pt x="214" y="800"/>
                    </a:lnTo>
                    <a:lnTo>
                      <a:pt x="218" y="812"/>
                    </a:lnTo>
                    <a:lnTo>
                      <a:pt x="223" y="822"/>
                    </a:lnTo>
                    <a:lnTo>
                      <a:pt x="228" y="832"/>
                    </a:lnTo>
                    <a:lnTo>
                      <a:pt x="234" y="839"/>
                    </a:lnTo>
                    <a:lnTo>
                      <a:pt x="241" y="845"/>
                    </a:lnTo>
                    <a:lnTo>
                      <a:pt x="249" y="850"/>
                    </a:lnTo>
                    <a:lnTo>
                      <a:pt x="257" y="852"/>
                    </a:lnTo>
                    <a:lnTo>
                      <a:pt x="267" y="855"/>
                    </a:lnTo>
                    <a:lnTo>
                      <a:pt x="277" y="854"/>
                    </a:lnTo>
                    <a:lnTo>
                      <a:pt x="288" y="852"/>
                    </a:lnTo>
                    <a:lnTo>
                      <a:pt x="300" y="848"/>
                    </a:lnTo>
                    <a:lnTo>
                      <a:pt x="314" y="843"/>
                    </a:lnTo>
                    <a:lnTo>
                      <a:pt x="328" y="834"/>
                    </a:lnTo>
                    <a:lnTo>
                      <a:pt x="342" y="824"/>
                    </a:lnTo>
                    <a:lnTo>
                      <a:pt x="358" y="812"/>
                    </a:lnTo>
                    <a:lnTo>
                      <a:pt x="375" y="798"/>
                    </a:lnTo>
                    <a:lnTo>
                      <a:pt x="394" y="782"/>
                    </a:lnTo>
                    <a:lnTo>
                      <a:pt x="414" y="763"/>
                    </a:lnTo>
                    <a:lnTo>
                      <a:pt x="433" y="742"/>
                    </a:lnTo>
                    <a:lnTo>
                      <a:pt x="455" y="718"/>
                    </a:lnTo>
                    <a:lnTo>
                      <a:pt x="478" y="694"/>
                    </a:lnTo>
                    <a:lnTo>
                      <a:pt x="502" y="666"/>
                    </a:lnTo>
                    <a:lnTo>
                      <a:pt x="526" y="637"/>
                    </a:lnTo>
                    <a:lnTo>
                      <a:pt x="547" y="614"/>
                    </a:lnTo>
                    <a:lnTo>
                      <a:pt x="566" y="595"/>
                    </a:lnTo>
                    <a:lnTo>
                      <a:pt x="583" y="581"/>
                    </a:lnTo>
                    <a:lnTo>
                      <a:pt x="599" y="568"/>
                    </a:lnTo>
                    <a:lnTo>
                      <a:pt x="612" y="561"/>
                    </a:lnTo>
                    <a:lnTo>
                      <a:pt x="624" y="557"/>
                    </a:lnTo>
                    <a:lnTo>
                      <a:pt x="634" y="556"/>
                    </a:lnTo>
                    <a:lnTo>
                      <a:pt x="641" y="559"/>
                    </a:lnTo>
                    <a:lnTo>
                      <a:pt x="647" y="563"/>
                    </a:lnTo>
                    <a:lnTo>
                      <a:pt x="652" y="572"/>
                    </a:lnTo>
                    <a:lnTo>
                      <a:pt x="655" y="583"/>
                    </a:lnTo>
                    <a:lnTo>
                      <a:pt x="656" y="597"/>
                    </a:lnTo>
                    <a:lnTo>
                      <a:pt x="656" y="614"/>
                    </a:lnTo>
                    <a:lnTo>
                      <a:pt x="655" y="632"/>
                    </a:lnTo>
                    <a:lnTo>
                      <a:pt x="651" y="653"/>
                    </a:lnTo>
                    <a:lnTo>
                      <a:pt x="647" y="677"/>
                    </a:lnTo>
                    <a:lnTo>
                      <a:pt x="641" y="701"/>
                    </a:lnTo>
                    <a:lnTo>
                      <a:pt x="635" y="728"/>
                    </a:lnTo>
                    <a:lnTo>
                      <a:pt x="628" y="757"/>
                    </a:lnTo>
                    <a:lnTo>
                      <a:pt x="608" y="817"/>
                    </a:lnTo>
                    <a:lnTo>
                      <a:pt x="586" y="883"/>
                    </a:lnTo>
                    <a:lnTo>
                      <a:pt x="560" y="953"/>
                    </a:lnTo>
                    <a:lnTo>
                      <a:pt x="532" y="1025"/>
                    </a:lnTo>
                    <a:lnTo>
                      <a:pt x="500" y="1098"/>
                    </a:lnTo>
                    <a:lnTo>
                      <a:pt x="467" y="1172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6686640" y="3800520"/>
                <a:ext cx="185760" cy="641520"/>
              </a:xfrm>
              <a:custGeom>
                <a:avLst/>
                <a:gdLst/>
                <a:ahLst/>
                <a:rect l="l" t="t" r="r" b="b"/>
                <a:pathLst>
                  <a:path w="588" h="2023">
                    <a:moveTo>
                      <a:pt x="372" y="1189"/>
                    </a:moveTo>
                    <a:lnTo>
                      <a:pt x="338" y="1264"/>
                    </a:lnTo>
                    <a:lnTo>
                      <a:pt x="306" y="1338"/>
                    </a:lnTo>
                    <a:lnTo>
                      <a:pt x="277" y="1410"/>
                    </a:lnTo>
                    <a:lnTo>
                      <a:pt x="250" y="1483"/>
                    </a:lnTo>
                    <a:lnTo>
                      <a:pt x="224" y="1553"/>
                    </a:lnTo>
                    <a:lnTo>
                      <a:pt x="201" y="1621"/>
                    </a:lnTo>
                    <a:lnTo>
                      <a:pt x="180" y="1685"/>
                    </a:lnTo>
                    <a:lnTo>
                      <a:pt x="160" y="1745"/>
                    </a:lnTo>
                    <a:lnTo>
                      <a:pt x="128" y="1851"/>
                    </a:lnTo>
                    <a:lnTo>
                      <a:pt x="106" y="1932"/>
                    </a:lnTo>
                    <a:lnTo>
                      <a:pt x="91" y="1985"/>
                    </a:lnTo>
                    <a:lnTo>
                      <a:pt x="87" y="2005"/>
                    </a:lnTo>
                    <a:lnTo>
                      <a:pt x="75" y="2013"/>
                    </a:lnTo>
                    <a:lnTo>
                      <a:pt x="64" y="2019"/>
                    </a:lnTo>
                    <a:lnTo>
                      <a:pt x="54" y="2023"/>
                    </a:lnTo>
                    <a:lnTo>
                      <a:pt x="46" y="2023"/>
                    </a:lnTo>
                    <a:lnTo>
                      <a:pt x="38" y="2022"/>
                    </a:lnTo>
                    <a:lnTo>
                      <a:pt x="31" y="2017"/>
                    </a:lnTo>
                    <a:lnTo>
                      <a:pt x="25" y="2009"/>
                    </a:lnTo>
                    <a:lnTo>
                      <a:pt x="19" y="2000"/>
                    </a:lnTo>
                    <a:lnTo>
                      <a:pt x="14" y="1986"/>
                    </a:lnTo>
                    <a:lnTo>
                      <a:pt x="10" y="1969"/>
                    </a:lnTo>
                    <a:lnTo>
                      <a:pt x="6" y="1950"/>
                    </a:lnTo>
                    <a:lnTo>
                      <a:pt x="4" y="1927"/>
                    </a:lnTo>
                    <a:lnTo>
                      <a:pt x="1" y="1902"/>
                    </a:lnTo>
                    <a:lnTo>
                      <a:pt x="0" y="1873"/>
                    </a:lnTo>
                    <a:lnTo>
                      <a:pt x="0" y="1841"/>
                    </a:lnTo>
                    <a:lnTo>
                      <a:pt x="0" y="1805"/>
                    </a:lnTo>
                    <a:lnTo>
                      <a:pt x="1" y="1724"/>
                    </a:lnTo>
                    <a:lnTo>
                      <a:pt x="4" y="1629"/>
                    </a:lnTo>
                    <a:lnTo>
                      <a:pt x="9" y="1519"/>
                    </a:lnTo>
                    <a:lnTo>
                      <a:pt x="15" y="1394"/>
                    </a:lnTo>
                    <a:lnTo>
                      <a:pt x="31" y="1099"/>
                    </a:lnTo>
                    <a:lnTo>
                      <a:pt x="49" y="739"/>
                    </a:lnTo>
                    <a:lnTo>
                      <a:pt x="57" y="558"/>
                    </a:lnTo>
                    <a:lnTo>
                      <a:pt x="63" y="408"/>
                    </a:lnTo>
                    <a:lnTo>
                      <a:pt x="67" y="285"/>
                    </a:lnTo>
                    <a:lnTo>
                      <a:pt x="69" y="188"/>
                    </a:lnTo>
                    <a:lnTo>
                      <a:pt x="70" y="61"/>
                    </a:lnTo>
                    <a:lnTo>
                      <a:pt x="73" y="6"/>
                    </a:lnTo>
                    <a:lnTo>
                      <a:pt x="74" y="1"/>
                    </a:lnTo>
                    <a:lnTo>
                      <a:pt x="75" y="0"/>
                    </a:lnTo>
                    <a:lnTo>
                      <a:pt x="76" y="1"/>
                    </a:lnTo>
                    <a:lnTo>
                      <a:pt x="78" y="5"/>
                    </a:lnTo>
                    <a:lnTo>
                      <a:pt x="84" y="17"/>
                    </a:lnTo>
                    <a:lnTo>
                      <a:pt x="91" y="35"/>
                    </a:lnTo>
                    <a:lnTo>
                      <a:pt x="96" y="46"/>
                    </a:lnTo>
                    <a:lnTo>
                      <a:pt x="102" y="57"/>
                    </a:lnTo>
                    <a:lnTo>
                      <a:pt x="110" y="68"/>
                    </a:lnTo>
                    <a:lnTo>
                      <a:pt x="117" y="80"/>
                    </a:lnTo>
                    <a:lnTo>
                      <a:pt x="126" y="91"/>
                    </a:lnTo>
                    <a:lnTo>
                      <a:pt x="135" y="102"/>
                    </a:lnTo>
                    <a:lnTo>
                      <a:pt x="145" y="112"/>
                    </a:lnTo>
                    <a:lnTo>
                      <a:pt x="158" y="119"/>
                    </a:lnTo>
                    <a:lnTo>
                      <a:pt x="169" y="128"/>
                    </a:lnTo>
                    <a:lnTo>
                      <a:pt x="180" y="136"/>
                    </a:lnTo>
                    <a:lnTo>
                      <a:pt x="188" y="145"/>
                    </a:lnTo>
                    <a:lnTo>
                      <a:pt x="197" y="155"/>
                    </a:lnTo>
                    <a:lnTo>
                      <a:pt x="204" y="166"/>
                    </a:lnTo>
                    <a:lnTo>
                      <a:pt x="210" y="178"/>
                    </a:lnTo>
                    <a:lnTo>
                      <a:pt x="215" y="190"/>
                    </a:lnTo>
                    <a:lnTo>
                      <a:pt x="220" y="203"/>
                    </a:lnTo>
                    <a:lnTo>
                      <a:pt x="224" y="216"/>
                    </a:lnTo>
                    <a:lnTo>
                      <a:pt x="226" y="231"/>
                    </a:lnTo>
                    <a:lnTo>
                      <a:pt x="229" y="246"/>
                    </a:lnTo>
                    <a:lnTo>
                      <a:pt x="230" y="260"/>
                    </a:lnTo>
                    <a:lnTo>
                      <a:pt x="230" y="294"/>
                    </a:lnTo>
                    <a:lnTo>
                      <a:pt x="229" y="327"/>
                    </a:lnTo>
                    <a:lnTo>
                      <a:pt x="225" y="364"/>
                    </a:lnTo>
                    <a:lnTo>
                      <a:pt x="220" y="402"/>
                    </a:lnTo>
                    <a:lnTo>
                      <a:pt x="214" y="440"/>
                    </a:lnTo>
                    <a:lnTo>
                      <a:pt x="208" y="481"/>
                    </a:lnTo>
                    <a:lnTo>
                      <a:pt x="194" y="565"/>
                    </a:lnTo>
                    <a:lnTo>
                      <a:pt x="182" y="652"/>
                    </a:lnTo>
                    <a:lnTo>
                      <a:pt x="179" y="695"/>
                    </a:lnTo>
                    <a:lnTo>
                      <a:pt x="176" y="735"/>
                    </a:lnTo>
                    <a:lnTo>
                      <a:pt x="175" y="773"/>
                    </a:lnTo>
                    <a:lnTo>
                      <a:pt x="177" y="808"/>
                    </a:lnTo>
                    <a:lnTo>
                      <a:pt x="179" y="822"/>
                    </a:lnTo>
                    <a:lnTo>
                      <a:pt x="181" y="837"/>
                    </a:lnTo>
                    <a:lnTo>
                      <a:pt x="183" y="851"/>
                    </a:lnTo>
                    <a:lnTo>
                      <a:pt x="187" y="863"/>
                    </a:lnTo>
                    <a:lnTo>
                      <a:pt x="192" y="873"/>
                    </a:lnTo>
                    <a:lnTo>
                      <a:pt x="197" y="883"/>
                    </a:lnTo>
                    <a:lnTo>
                      <a:pt x="203" y="890"/>
                    </a:lnTo>
                    <a:lnTo>
                      <a:pt x="209" y="896"/>
                    </a:lnTo>
                    <a:lnTo>
                      <a:pt x="218" y="901"/>
                    </a:lnTo>
                    <a:lnTo>
                      <a:pt x="225" y="904"/>
                    </a:lnTo>
                    <a:lnTo>
                      <a:pt x="235" y="905"/>
                    </a:lnTo>
                    <a:lnTo>
                      <a:pt x="245" y="905"/>
                    </a:lnTo>
                    <a:lnTo>
                      <a:pt x="257" y="901"/>
                    </a:lnTo>
                    <a:lnTo>
                      <a:pt x="268" y="898"/>
                    </a:lnTo>
                    <a:lnTo>
                      <a:pt x="282" y="890"/>
                    </a:lnTo>
                    <a:lnTo>
                      <a:pt x="297" y="882"/>
                    </a:lnTo>
                    <a:lnTo>
                      <a:pt x="313" y="870"/>
                    </a:lnTo>
                    <a:lnTo>
                      <a:pt x="329" y="858"/>
                    </a:lnTo>
                    <a:lnTo>
                      <a:pt x="346" y="842"/>
                    </a:lnTo>
                    <a:lnTo>
                      <a:pt x="366" y="825"/>
                    </a:lnTo>
                    <a:lnTo>
                      <a:pt x="385" y="804"/>
                    </a:lnTo>
                    <a:lnTo>
                      <a:pt x="407" y="782"/>
                    </a:lnTo>
                    <a:lnTo>
                      <a:pt x="429" y="756"/>
                    </a:lnTo>
                    <a:lnTo>
                      <a:pt x="454" y="728"/>
                    </a:lnTo>
                    <a:lnTo>
                      <a:pt x="476" y="701"/>
                    </a:lnTo>
                    <a:lnTo>
                      <a:pt x="497" y="677"/>
                    </a:lnTo>
                    <a:lnTo>
                      <a:pt x="516" y="658"/>
                    </a:lnTo>
                    <a:lnTo>
                      <a:pt x="532" y="642"/>
                    </a:lnTo>
                    <a:lnTo>
                      <a:pt x="545" y="629"/>
                    </a:lnTo>
                    <a:lnTo>
                      <a:pt x="557" y="621"/>
                    </a:lnTo>
                    <a:lnTo>
                      <a:pt x="567" y="616"/>
                    </a:lnTo>
                    <a:lnTo>
                      <a:pt x="575" y="613"/>
                    </a:lnTo>
                    <a:lnTo>
                      <a:pt x="581" y="613"/>
                    </a:lnTo>
                    <a:lnTo>
                      <a:pt x="586" y="617"/>
                    </a:lnTo>
                    <a:lnTo>
                      <a:pt x="588" y="624"/>
                    </a:lnTo>
                    <a:lnTo>
                      <a:pt x="588" y="633"/>
                    </a:lnTo>
                    <a:lnTo>
                      <a:pt x="588" y="645"/>
                    </a:lnTo>
                    <a:lnTo>
                      <a:pt x="586" y="659"/>
                    </a:lnTo>
                    <a:lnTo>
                      <a:pt x="582" y="676"/>
                    </a:lnTo>
                    <a:lnTo>
                      <a:pt x="577" y="695"/>
                    </a:lnTo>
                    <a:lnTo>
                      <a:pt x="564" y="739"/>
                    </a:lnTo>
                    <a:lnTo>
                      <a:pt x="545" y="789"/>
                    </a:lnTo>
                    <a:lnTo>
                      <a:pt x="523" y="846"/>
                    </a:lnTo>
                    <a:lnTo>
                      <a:pt x="497" y="909"/>
                    </a:lnTo>
                    <a:lnTo>
                      <a:pt x="438" y="1044"/>
                    </a:lnTo>
                    <a:lnTo>
                      <a:pt x="372" y="1189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6683400" y="3813120"/>
                <a:ext cx="166680" cy="615960"/>
              </a:xfrm>
              <a:custGeom>
                <a:avLst/>
                <a:gdLst/>
                <a:ahLst/>
                <a:rect l="l" t="t" r="r" b="b"/>
                <a:pathLst>
                  <a:path w="525" h="1939">
                    <a:moveTo>
                      <a:pt x="275" y="1211"/>
                    </a:moveTo>
                    <a:lnTo>
                      <a:pt x="259" y="1248"/>
                    </a:lnTo>
                    <a:lnTo>
                      <a:pt x="243" y="1285"/>
                    </a:lnTo>
                    <a:lnTo>
                      <a:pt x="229" y="1319"/>
                    </a:lnTo>
                    <a:lnTo>
                      <a:pt x="215" y="1355"/>
                    </a:lnTo>
                    <a:lnTo>
                      <a:pt x="189" y="1423"/>
                    </a:lnTo>
                    <a:lnTo>
                      <a:pt x="168" y="1488"/>
                    </a:lnTo>
                    <a:lnTo>
                      <a:pt x="150" y="1549"/>
                    </a:lnTo>
                    <a:lnTo>
                      <a:pt x="134" y="1608"/>
                    </a:lnTo>
                    <a:lnTo>
                      <a:pt x="120" y="1663"/>
                    </a:lnTo>
                    <a:lnTo>
                      <a:pt x="110" y="1712"/>
                    </a:lnTo>
                    <a:lnTo>
                      <a:pt x="102" y="1757"/>
                    </a:lnTo>
                    <a:lnTo>
                      <a:pt x="96" y="1798"/>
                    </a:lnTo>
                    <a:lnTo>
                      <a:pt x="91" y="1834"/>
                    </a:lnTo>
                    <a:lnTo>
                      <a:pt x="87" y="1863"/>
                    </a:lnTo>
                    <a:lnTo>
                      <a:pt x="83" y="1904"/>
                    </a:lnTo>
                    <a:lnTo>
                      <a:pt x="83" y="1917"/>
                    </a:lnTo>
                    <a:lnTo>
                      <a:pt x="71" y="1927"/>
                    </a:lnTo>
                    <a:lnTo>
                      <a:pt x="60" y="1933"/>
                    </a:lnTo>
                    <a:lnTo>
                      <a:pt x="50" y="1937"/>
                    </a:lnTo>
                    <a:lnTo>
                      <a:pt x="42" y="1939"/>
                    </a:lnTo>
                    <a:lnTo>
                      <a:pt x="34" y="1938"/>
                    </a:lnTo>
                    <a:lnTo>
                      <a:pt x="27" y="1934"/>
                    </a:lnTo>
                    <a:lnTo>
                      <a:pt x="21" y="1928"/>
                    </a:lnTo>
                    <a:lnTo>
                      <a:pt x="16" y="1920"/>
                    </a:lnTo>
                    <a:lnTo>
                      <a:pt x="11" y="1907"/>
                    </a:lnTo>
                    <a:lnTo>
                      <a:pt x="7" y="1893"/>
                    </a:lnTo>
                    <a:lnTo>
                      <a:pt x="5" y="1875"/>
                    </a:lnTo>
                    <a:lnTo>
                      <a:pt x="2" y="1854"/>
                    </a:lnTo>
                    <a:lnTo>
                      <a:pt x="1" y="1831"/>
                    </a:lnTo>
                    <a:lnTo>
                      <a:pt x="0" y="1804"/>
                    </a:lnTo>
                    <a:lnTo>
                      <a:pt x="0" y="1775"/>
                    </a:lnTo>
                    <a:lnTo>
                      <a:pt x="0" y="1740"/>
                    </a:lnTo>
                    <a:lnTo>
                      <a:pt x="2" y="1664"/>
                    </a:lnTo>
                    <a:lnTo>
                      <a:pt x="7" y="1572"/>
                    </a:lnTo>
                    <a:lnTo>
                      <a:pt x="12" y="1466"/>
                    </a:lnTo>
                    <a:lnTo>
                      <a:pt x="19" y="1345"/>
                    </a:lnTo>
                    <a:lnTo>
                      <a:pt x="37" y="1054"/>
                    </a:lnTo>
                    <a:lnTo>
                      <a:pt x="56" y="696"/>
                    </a:lnTo>
                    <a:lnTo>
                      <a:pt x="64" y="516"/>
                    </a:lnTo>
                    <a:lnTo>
                      <a:pt x="70" y="367"/>
                    </a:lnTo>
                    <a:lnTo>
                      <a:pt x="72" y="249"/>
                    </a:lnTo>
                    <a:lnTo>
                      <a:pt x="75" y="157"/>
                    </a:lnTo>
                    <a:lnTo>
                      <a:pt x="75" y="41"/>
                    </a:lnTo>
                    <a:lnTo>
                      <a:pt x="76" y="0"/>
                    </a:lnTo>
                    <a:lnTo>
                      <a:pt x="80" y="11"/>
                    </a:lnTo>
                    <a:lnTo>
                      <a:pt x="92" y="54"/>
                    </a:lnTo>
                    <a:lnTo>
                      <a:pt x="97" y="67"/>
                    </a:lnTo>
                    <a:lnTo>
                      <a:pt x="102" y="81"/>
                    </a:lnTo>
                    <a:lnTo>
                      <a:pt x="108" y="94"/>
                    </a:lnTo>
                    <a:lnTo>
                      <a:pt x="115" y="108"/>
                    </a:lnTo>
                    <a:lnTo>
                      <a:pt x="124" y="120"/>
                    </a:lnTo>
                    <a:lnTo>
                      <a:pt x="134" y="131"/>
                    </a:lnTo>
                    <a:lnTo>
                      <a:pt x="145" y="141"/>
                    </a:lnTo>
                    <a:lnTo>
                      <a:pt x="156" y="150"/>
                    </a:lnTo>
                    <a:lnTo>
                      <a:pt x="168" y="157"/>
                    </a:lnTo>
                    <a:lnTo>
                      <a:pt x="178" y="166"/>
                    </a:lnTo>
                    <a:lnTo>
                      <a:pt x="187" y="176"/>
                    </a:lnTo>
                    <a:lnTo>
                      <a:pt x="195" y="185"/>
                    </a:lnTo>
                    <a:lnTo>
                      <a:pt x="201" y="196"/>
                    </a:lnTo>
                    <a:lnTo>
                      <a:pt x="206" y="208"/>
                    </a:lnTo>
                    <a:lnTo>
                      <a:pt x="211" y="221"/>
                    </a:lnTo>
                    <a:lnTo>
                      <a:pt x="215" y="233"/>
                    </a:lnTo>
                    <a:lnTo>
                      <a:pt x="217" y="247"/>
                    </a:lnTo>
                    <a:lnTo>
                      <a:pt x="219" y="262"/>
                    </a:lnTo>
                    <a:lnTo>
                      <a:pt x="220" y="276"/>
                    </a:lnTo>
                    <a:lnTo>
                      <a:pt x="220" y="292"/>
                    </a:lnTo>
                    <a:lnTo>
                      <a:pt x="219" y="324"/>
                    </a:lnTo>
                    <a:lnTo>
                      <a:pt x="215" y="359"/>
                    </a:lnTo>
                    <a:lnTo>
                      <a:pt x="201" y="434"/>
                    </a:lnTo>
                    <a:lnTo>
                      <a:pt x="186" y="514"/>
                    </a:lnTo>
                    <a:lnTo>
                      <a:pt x="177" y="556"/>
                    </a:lnTo>
                    <a:lnTo>
                      <a:pt x="168" y="597"/>
                    </a:lnTo>
                    <a:lnTo>
                      <a:pt x="162" y="640"/>
                    </a:lnTo>
                    <a:lnTo>
                      <a:pt x="156" y="685"/>
                    </a:lnTo>
                    <a:lnTo>
                      <a:pt x="152" y="728"/>
                    </a:lnTo>
                    <a:lnTo>
                      <a:pt x="149" y="770"/>
                    </a:lnTo>
                    <a:lnTo>
                      <a:pt x="146" y="810"/>
                    </a:lnTo>
                    <a:lnTo>
                      <a:pt x="146" y="846"/>
                    </a:lnTo>
                    <a:lnTo>
                      <a:pt x="147" y="863"/>
                    </a:lnTo>
                    <a:lnTo>
                      <a:pt x="149" y="879"/>
                    </a:lnTo>
                    <a:lnTo>
                      <a:pt x="150" y="894"/>
                    </a:lnTo>
                    <a:lnTo>
                      <a:pt x="154" y="906"/>
                    </a:lnTo>
                    <a:lnTo>
                      <a:pt x="156" y="918"/>
                    </a:lnTo>
                    <a:lnTo>
                      <a:pt x="160" y="930"/>
                    </a:lnTo>
                    <a:lnTo>
                      <a:pt x="165" y="939"/>
                    </a:lnTo>
                    <a:lnTo>
                      <a:pt x="171" y="947"/>
                    </a:lnTo>
                    <a:lnTo>
                      <a:pt x="177" y="953"/>
                    </a:lnTo>
                    <a:lnTo>
                      <a:pt x="184" y="958"/>
                    </a:lnTo>
                    <a:lnTo>
                      <a:pt x="193" y="960"/>
                    </a:lnTo>
                    <a:lnTo>
                      <a:pt x="201" y="962"/>
                    </a:lnTo>
                    <a:lnTo>
                      <a:pt x="211" y="960"/>
                    </a:lnTo>
                    <a:lnTo>
                      <a:pt x="224" y="958"/>
                    </a:lnTo>
                    <a:lnTo>
                      <a:pt x="236" y="952"/>
                    </a:lnTo>
                    <a:lnTo>
                      <a:pt x="248" y="944"/>
                    </a:lnTo>
                    <a:lnTo>
                      <a:pt x="263" y="934"/>
                    </a:lnTo>
                    <a:lnTo>
                      <a:pt x="279" y="923"/>
                    </a:lnTo>
                    <a:lnTo>
                      <a:pt x="296" y="909"/>
                    </a:lnTo>
                    <a:lnTo>
                      <a:pt x="315" y="891"/>
                    </a:lnTo>
                    <a:lnTo>
                      <a:pt x="334" y="872"/>
                    </a:lnTo>
                    <a:lnTo>
                      <a:pt x="355" y="850"/>
                    </a:lnTo>
                    <a:lnTo>
                      <a:pt x="377" y="824"/>
                    </a:lnTo>
                    <a:lnTo>
                      <a:pt x="401" y="795"/>
                    </a:lnTo>
                    <a:lnTo>
                      <a:pt x="445" y="744"/>
                    </a:lnTo>
                    <a:lnTo>
                      <a:pt x="478" y="707"/>
                    </a:lnTo>
                    <a:lnTo>
                      <a:pt x="491" y="693"/>
                    </a:lnTo>
                    <a:lnTo>
                      <a:pt x="502" y="684"/>
                    </a:lnTo>
                    <a:lnTo>
                      <a:pt x="510" y="676"/>
                    </a:lnTo>
                    <a:lnTo>
                      <a:pt x="518" y="672"/>
                    </a:lnTo>
                    <a:lnTo>
                      <a:pt x="521" y="671"/>
                    </a:lnTo>
                    <a:lnTo>
                      <a:pt x="525" y="674"/>
                    </a:lnTo>
                    <a:lnTo>
                      <a:pt x="525" y="677"/>
                    </a:lnTo>
                    <a:lnTo>
                      <a:pt x="525" y="685"/>
                    </a:lnTo>
                    <a:lnTo>
                      <a:pt x="518" y="707"/>
                    </a:lnTo>
                    <a:lnTo>
                      <a:pt x="505" y="738"/>
                    </a:lnTo>
                    <a:lnTo>
                      <a:pt x="466" y="824"/>
                    </a:lnTo>
                    <a:lnTo>
                      <a:pt x="411" y="936"/>
                    </a:lnTo>
                    <a:lnTo>
                      <a:pt x="345" y="1067"/>
                    </a:lnTo>
                    <a:lnTo>
                      <a:pt x="275" y="1211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6681960" y="3826080"/>
                <a:ext cx="147600" cy="590400"/>
              </a:xfrm>
              <a:custGeom>
                <a:avLst/>
                <a:gdLst/>
                <a:ahLst/>
                <a:rect l="l" t="t" r="r" b="b"/>
                <a:pathLst>
                  <a:path w="465" h="1863">
                    <a:moveTo>
                      <a:pt x="78" y="1840"/>
                    </a:moveTo>
                    <a:lnTo>
                      <a:pt x="74" y="1830"/>
                    </a:lnTo>
                    <a:lnTo>
                      <a:pt x="68" y="1802"/>
                    </a:lnTo>
                    <a:lnTo>
                      <a:pt x="64" y="1779"/>
                    </a:lnTo>
                    <a:lnTo>
                      <a:pt x="62" y="1754"/>
                    </a:lnTo>
                    <a:lnTo>
                      <a:pt x="61" y="1722"/>
                    </a:lnTo>
                    <a:lnTo>
                      <a:pt x="61" y="1686"/>
                    </a:lnTo>
                    <a:lnTo>
                      <a:pt x="63" y="1645"/>
                    </a:lnTo>
                    <a:lnTo>
                      <a:pt x="68" y="1601"/>
                    </a:lnTo>
                    <a:lnTo>
                      <a:pt x="72" y="1576"/>
                    </a:lnTo>
                    <a:lnTo>
                      <a:pt x="77" y="1552"/>
                    </a:lnTo>
                    <a:lnTo>
                      <a:pt x="82" y="1525"/>
                    </a:lnTo>
                    <a:lnTo>
                      <a:pt x="88" y="1498"/>
                    </a:lnTo>
                    <a:lnTo>
                      <a:pt x="95" y="1468"/>
                    </a:lnTo>
                    <a:lnTo>
                      <a:pt x="104" y="1439"/>
                    </a:lnTo>
                    <a:lnTo>
                      <a:pt x="114" y="1408"/>
                    </a:lnTo>
                    <a:lnTo>
                      <a:pt x="123" y="1376"/>
                    </a:lnTo>
                    <a:lnTo>
                      <a:pt x="136" y="1343"/>
                    </a:lnTo>
                    <a:lnTo>
                      <a:pt x="149" y="1308"/>
                    </a:lnTo>
                    <a:lnTo>
                      <a:pt x="164" y="1274"/>
                    </a:lnTo>
                    <a:lnTo>
                      <a:pt x="181" y="1237"/>
                    </a:lnTo>
                    <a:lnTo>
                      <a:pt x="216" y="1164"/>
                    </a:lnTo>
                    <a:lnTo>
                      <a:pt x="251" y="1095"/>
                    </a:lnTo>
                    <a:lnTo>
                      <a:pt x="287" y="1030"/>
                    </a:lnTo>
                    <a:lnTo>
                      <a:pt x="321" y="969"/>
                    </a:lnTo>
                    <a:lnTo>
                      <a:pt x="384" y="865"/>
                    </a:lnTo>
                    <a:lnTo>
                      <a:pt x="433" y="788"/>
                    </a:lnTo>
                    <a:lnTo>
                      <a:pt x="451" y="761"/>
                    </a:lnTo>
                    <a:lnTo>
                      <a:pt x="460" y="744"/>
                    </a:lnTo>
                    <a:lnTo>
                      <a:pt x="464" y="739"/>
                    </a:lnTo>
                    <a:lnTo>
                      <a:pt x="465" y="736"/>
                    </a:lnTo>
                    <a:lnTo>
                      <a:pt x="464" y="736"/>
                    </a:lnTo>
                    <a:lnTo>
                      <a:pt x="462" y="739"/>
                    </a:lnTo>
                    <a:lnTo>
                      <a:pt x="427" y="779"/>
                    </a:lnTo>
                    <a:lnTo>
                      <a:pt x="352" y="870"/>
                    </a:lnTo>
                    <a:lnTo>
                      <a:pt x="328" y="899"/>
                    </a:lnTo>
                    <a:lnTo>
                      <a:pt x="305" y="923"/>
                    </a:lnTo>
                    <a:lnTo>
                      <a:pt x="286" y="945"/>
                    </a:lnTo>
                    <a:lnTo>
                      <a:pt x="266" y="964"/>
                    </a:lnTo>
                    <a:lnTo>
                      <a:pt x="249" y="981"/>
                    </a:lnTo>
                    <a:lnTo>
                      <a:pt x="232" y="995"/>
                    </a:lnTo>
                    <a:lnTo>
                      <a:pt x="217" y="1004"/>
                    </a:lnTo>
                    <a:lnTo>
                      <a:pt x="203" y="1013"/>
                    </a:lnTo>
                    <a:lnTo>
                      <a:pt x="191" y="1019"/>
                    </a:lnTo>
                    <a:lnTo>
                      <a:pt x="179" y="1024"/>
                    </a:lnTo>
                    <a:lnTo>
                      <a:pt x="169" y="1025"/>
                    </a:lnTo>
                    <a:lnTo>
                      <a:pt x="159" y="1024"/>
                    </a:lnTo>
                    <a:lnTo>
                      <a:pt x="152" y="1022"/>
                    </a:lnTo>
                    <a:lnTo>
                      <a:pt x="144" y="1018"/>
                    </a:lnTo>
                    <a:lnTo>
                      <a:pt x="138" y="1012"/>
                    </a:lnTo>
                    <a:lnTo>
                      <a:pt x="132" y="1003"/>
                    </a:lnTo>
                    <a:lnTo>
                      <a:pt x="128" y="995"/>
                    </a:lnTo>
                    <a:lnTo>
                      <a:pt x="125" y="984"/>
                    </a:lnTo>
                    <a:lnTo>
                      <a:pt x="121" y="971"/>
                    </a:lnTo>
                    <a:lnTo>
                      <a:pt x="118" y="956"/>
                    </a:lnTo>
                    <a:lnTo>
                      <a:pt x="116" y="926"/>
                    </a:lnTo>
                    <a:lnTo>
                      <a:pt x="116" y="890"/>
                    </a:lnTo>
                    <a:lnTo>
                      <a:pt x="117" y="852"/>
                    </a:lnTo>
                    <a:lnTo>
                      <a:pt x="120" y="811"/>
                    </a:lnTo>
                    <a:lnTo>
                      <a:pt x="125" y="768"/>
                    </a:lnTo>
                    <a:lnTo>
                      <a:pt x="130" y="724"/>
                    </a:lnTo>
                    <a:lnTo>
                      <a:pt x="136" y="680"/>
                    </a:lnTo>
                    <a:lnTo>
                      <a:pt x="143" y="637"/>
                    </a:lnTo>
                    <a:lnTo>
                      <a:pt x="153" y="594"/>
                    </a:lnTo>
                    <a:lnTo>
                      <a:pt x="163" y="552"/>
                    </a:lnTo>
                    <a:lnTo>
                      <a:pt x="184" y="472"/>
                    </a:lnTo>
                    <a:lnTo>
                      <a:pt x="202" y="397"/>
                    </a:lnTo>
                    <a:lnTo>
                      <a:pt x="208" y="362"/>
                    </a:lnTo>
                    <a:lnTo>
                      <a:pt x="212" y="329"/>
                    </a:lnTo>
                    <a:lnTo>
                      <a:pt x="213" y="313"/>
                    </a:lnTo>
                    <a:lnTo>
                      <a:pt x="213" y="298"/>
                    </a:lnTo>
                    <a:lnTo>
                      <a:pt x="212" y="284"/>
                    </a:lnTo>
                    <a:lnTo>
                      <a:pt x="211" y="270"/>
                    </a:lnTo>
                    <a:lnTo>
                      <a:pt x="208" y="257"/>
                    </a:lnTo>
                    <a:lnTo>
                      <a:pt x="205" y="244"/>
                    </a:lnTo>
                    <a:lnTo>
                      <a:pt x="200" y="233"/>
                    </a:lnTo>
                    <a:lnTo>
                      <a:pt x="194" y="222"/>
                    </a:lnTo>
                    <a:lnTo>
                      <a:pt x="186" y="212"/>
                    </a:lnTo>
                    <a:lnTo>
                      <a:pt x="178" y="203"/>
                    </a:lnTo>
                    <a:lnTo>
                      <a:pt x="168" y="194"/>
                    </a:lnTo>
                    <a:lnTo>
                      <a:pt x="157" y="185"/>
                    </a:lnTo>
                    <a:lnTo>
                      <a:pt x="144" y="177"/>
                    </a:lnTo>
                    <a:lnTo>
                      <a:pt x="133" y="167"/>
                    </a:lnTo>
                    <a:lnTo>
                      <a:pt x="125" y="155"/>
                    </a:lnTo>
                    <a:lnTo>
                      <a:pt x="116" y="141"/>
                    </a:lnTo>
                    <a:lnTo>
                      <a:pt x="109" y="126"/>
                    </a:lnTo>
                    <a:lnTo>
                      <a:pt x="102" y="110"/>
                    </a:lnTo>
                    <a:lnTo>
                      <a:pt x="98" y="94"/>
                    </a:lnTo>
                    <a:lnTo>
                      <a:pt x="93" y="80"/>
                    </a:lnTo>
                    <a:lnTo>
                      <a:pt x="86" y="50"/>
                    </a:lnTo>
                    <a:lnTo>
                      <a:pt x="82" y="24"/>
                    </a:lnTo>
                    <a:lnTo>
                      <a:pt x="80" y="7"/>
                    </a:lnTo>
                    <a:lnTo>
                      <a:pt x="79" y="0"/>
                    </a:lnTo>
                    <a:lnTo>
                      <a:pt x="80" y="28"/>
                    </a:lnTo>
                    <a:lnTo>
                      <a:pt x="82" y="131"/>
                    </a:lnTo>
                    <a:lnTo>
                      <a:pt x="80" y="218"/>
                    </a:lnTo>
                    <a:lnTo>
                      <a:pt x="77" y="334"/>
                    </a:lnTo>
                    <a:lnTo>
                      <a:pt x="72" y="479"/>
                    </a:lnTo>
                    <a:lnTo>
                      <a:pt x="64" y="659"/>
                    </a:lnTo>
                    <a:lnTo>
                      <a:pt x="54" y="846"/>
                    </a:lnTo>
                    <a:lnTo>
                      <a:pt x="45" y="1016"/>
                    </a:lnTo>
                    <a:lnTo>
                      <a:pt x="35" y="1167"/>
                    </a:lnTo>
                    <a:lnTo>
                      <a:pt x="25" y="1301"/>
                    </a:lnTo>
                    <a:lnTo>
                      <a:pt x="10" y="1522"/>
                    </a:lnTo>
                    <a:lnTo>
                      <a:pt x="2" y="1683"/>
                    </a:lnTo>
                    <a:lnTo>
                      <a:pt x="0" y="1742"/>
                    </a:lnTo>
                    <a:lnTo>
                      <a:pt x="2" y="1790"/>
                    </a:lnTo>
                    <a:lnTo>
                      <a:pt x="3" y="1809"/>
                    </a:lnTo>
                    <a:lnTo>
                      <a:pt x="5" y="1825"/>
                    </a:lnTo>
                    <a:lnTo>
                      <a:pt x="8" y="1837"/>
                    </a:lnTo>
                    <a:lnTo>
                      <a:pt x="11" y="1848"/>
                    </a:lnTo>
                    <a:lnTo>
                      <a:pt x="16" y="1856"/>
                    </a:lnTo>
                    <a:lnTo>
                      <a:pt x="22" y="1861"/>
                    </a:lnTo>
                    <a:lnTo>
                      <a:pt x="29" y="1863"/>
                    </a:lnTo>
                    <a:lnTo>
                      <a:pt x="36" y="1863"/>
                    </a:lnTo>
                    <a:lnTo>
                      <a:pt x="45" y="1861"/>
                    </a:lnTo>
                    <a:lnTo>
                      <a:pt x="54" y="1856"/>
                    </a:lnTo>
                    <a:lnTo>
                      <a:pt x="66" y="1849"/>
                    </a:lnTo>
                    <a:lnTo>
                      <a:pt x="78" y="184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6589800" y="3718080"/>
                <a:ext cx="144360" cy="1295280"/>
              </a:xfrm>
              <a:custGeom>
                <a:avLst/>
                <a:gdLst/>
                <a:ahLst/>
                <a:rect l="l" t="t" r="r" b="b"/>
                <a:pathLst>
                  <a:path w="453" h="4080">
                    <a:moveTo>
                      <a:pt x="380" y="0"/>
                    </a:moveTo>
                    <a:lnTo>
                      <a:pt x="384" y="18"/>
                    </a:lnTo>
                    <a:lnTo>
                      <a:pt x="395" y="67"/>
                    </a:lnTo>
                    <a:lnTo>
                      <a:pt x="411" y="139"/>
                    </a:lnTo>
                    <a:lnTo>
                      <a:pt x="427" y="232"/>
                    </a:lnTo>
                    <a:lnTo>
                      <a:pt x="435" y="283"/>
                    </a:lnTo>
                    <a:lnTo>
                      <a:pt x="442" y="337"/>
                    </a:lnTo>
                    <a:lnTo>
                      <a:pt x="447" y="393"/>
                    </a:lnTo>
                    <a:lnTo>
                      <a:pt x="451" y="449"/>
                    </a:lnTo>
                    <a:lnTo>
                      <a:pt x="453" y="507"/>
                    </a:lnTo>
                    <a:lnTo>
                      <a:pt x="453" y="564"/>
                    </a:lnTo>
                    <a:lnTo>
                      <a:pt x="453" y="591"/>
                    </a:lnTo>
                    <a:lnTo>
                      <a:pt x="451" y="618"/>
                    </a:lnTo>
                    <a:lnTo>
                      <a:pt x="448" y="645"/>
                    </a:lnTo>
                    <a:lnTo>
                      <a:pt x="446" y="672"/>
                    </a:lnTo>
                    <a:lnTo>
                      <a:pt x="438" y="724"/>
                    </a:lnTo>
                    <a:lnTo>
                      <a:pt x="431" y="779"/>
                    </a:lnTo>
                    <a:lnTo>
                      <a:pt x="425" y="834"/>
                    </a:lnTo>
                    <a:lnTo>
                      <a:pt x="420" y="893"/>
                    </a:lnTo>
                    <a:lnTo>
                      <a:pt x="410" y="1013"/>
                    </a:lnTo>
                    <a:lnTo>
                      <a:pt x="403" y="1138"/>
                    </a:lnTo>
                    <a:lnTo>
                      <a:pt x="398" y="1266"/>
                    </a:lnTo>
                    <a:lnTo>
                      <a:pt x="394" y="1395"/>
                    </a:lnTo>
                    <a:lnTo>
                      <a:pt x="391" y="1526"/>
                    </a:lnTo>
                    <a:lnTo>
                      <a:pt x="391" y="1655"/>
                    </a:lnTo>
                    <a:lnTo>
                      <a:pt x="391" y="1785"/>
                    </a:lnTo>
                    <a:lnTo>
                      <a:pt x="393" y="1918"/>
                    </a:lnTo>
                    <a:lnTo>
                      <a:pt x="394" y="2053"/>
                    </a:lnTo>
                    <a:lnTo>
                      <a:pt x="395" y="2185"/>
                    </a:lnTo>
                    <a:lnTo>
                      <a:pt x="394" y="2313"/>
                    </a:lnTo>
                    <a:lnTo>
                      <a:pt x="391" y="2432"/>
                    </a:lnTo>
                    <a:lnTo>
                      <a:pt x="390" y="2489"/>
                    </a:lnTo>
                    <a:lnTo>
                      <a:pt x="388" y="2541"/>
                    </a:lnTo>
                    <a:lnTo>
                      <a:pt x="384" y="2592"/>
                    </a:lnTo>
                    <a:lnTo>
                      <a:pt x="380" y="2639"/>
                    </a:lnTo>
                    <a:lnTo>
                      <a:pt x="366" y="2762"/>
                    </a:lnTo>
                    <a:lnTo>
                      <a:pt x="346" y="2941"/>
                    </a:lnTo>
                    <a:lnTo>
                      <a:pt x="325" y="3156"/>
                    </a:lnTo>
                    <a:lnTo>
                      <a:pt x="303" y="3389"/>
                    </a:lnTo>
                    <a:lnTo>
                      <a:pt x="294" y="3505"/>
                    </a:lnTo>
                    <a:lnTo>
                      <a:pt x="286" y="3618"/>
                    </a:lnTo>
                    <a:lnTo>
                      <a:pt x="280" y="3724"/>
                    </a:lnTo>
                    <a:lnTo>
                      <a:pt x="276" y="3822"/>
                    </a:lnTo>
                    <a:lnTo>
                      <a:pt x="275" y="3867"/>
                    </a:lnTo>
                    <a:lnTo>
                      <a:pt x="273" y="3909"/>
                    </a:lnTo>
                    <a:lnTo>
                      <a:pt x="273" y="3947"/>
                    </a:lnTo>
                    <a:lnTo>
                      <a:pt x="275" y="3983"/>
                    </a:lnTo>
                    <a:lnTo>
                      <a:pt x="277" y="4014"/>
                    </a:lnTo>
                    <a:lnTo>
                      <a:pt x="280" y="4041"/>
                    </a:lnTo>
                    <a:lnTo>
                      <a:pt x="283" y="4063"/>
                    </a:lnTo>
                    <a:lnTo>
                      <a:pt x="288" y="4080"/>
                    </a:lnTo>
                    <a:lnTo>
                      <a:pt x="0" y="3977"/>
                    </a:lnTo>
                    <a:lnTo>
                      <a:pt x="37" y="593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6862680" y="3202200"/>
                <a:ext cx="284400" cy="131760"/>
              </a:xfrm>
              <a:custGeom>
                <a:avLst/>
                <a:gdLst/>
                <a:ahLst/>
                <a:rect l="l" t="t" r="r" b="b"/>
                <a:pathLst>
                  <a:path w="896" h="414">
                    <a:moveTo>
                      <a:pt x="453" y="358"/>
                    </a:moveTo>
                    <a:lnTo>
                      <a:pt x="864" y="414"/>
                    </a:lnTo>
                    <a:lnTo>
                      <a:pt x="896" y="396"/>
                    </a:lnTo>
                    <a:lnTo>
                      <a:pt x="864" y="140"/>
                    </a:lnTo>
                    <a:lnTo>
                      <a:pt x="35" y="0"/>
                    </a:lnTo>
                    <a:lnTo>
                      <a:pt x="3" y="18"/>
                    </a:lnTo>
                    <a:lnTo>
                      <a:pt x="0" y="295"/>
                    </a:lnTo>
                    <a:lnTo>
                      <a:pt x="453" y="358"/>
                    </a:lnTo>
                    <a:close/>
                  </a:path>
                </a:pathLst>
              </a:custGeom>
              <a:solidFill>
                <a:srgbClr val="094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6862680" y="3202200"/>
                <a:ext cx="284400" cy="131760"/>
              </a:xfrm>
              <a:custGeom>
                <a:avLst/>
                <a:gdLst/>
                <a:ahLst/>
                <a:rect l="l" t="t" r="r" b="b"/>
                <a:pathLst>
                  <a:path w="896" h="414">
                    <a:moveTo>
                      <a:pt x="453" y="358"/>
                    </a:moveTo>
                    <a:lnTo>
                      <a:pt x="864" y="414"/>
                    </a:lnTo>
                    <a:lnTo>
                      <a:pt x="896" y="396"/>
                    </a:lnTo>
                    <a:lnTo>
                      <a:pt x="864" y="140"/>
                    </a:lnTo>
                    <a:lnTo>
                      <a:pt x="35" y="0"/>
                    </a:lnTo>
                    <a:lnTo>
                      <a:pt x="3" y="18"/>
                    </a:lnTo>
                    <a:lnTo>
                      <a:pt x="0" y="295"/>
                    </a:lnTo>
                    <a:lnTo>
                      <a:pt x="453" y="358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6873840" y="3202200"/>
                <a:ext cx="274680" cy="126720"/>
              </a:xfrm>
              <a:custGeom>
                <a:avLst/>
                <a:gdLst/>
                <a:ahLst/>
                <a:rect l="l" t="t" r="r" b="b"/>
                <a:pathLst>
                  <a:path w="868" h="396">
                    <a:moveTo>
                      <a:pt x="454" y="339"/>
                    </a:moveTo>
                    <a:lnTo>
                      <a:pt x="864" y="396"/>
                    </a:lnTo>
                    <a:lnTo>
                      <a:pt x="868" y="119"/>
                    </a:lnTo>
                    <a:lnTo>
                      <a:pt x="3" y="0"/>
                    </a:lnTo>
                    <a:lnTo>
                      <a:pt x="0" y="276"/>
                    </a:lnTo>
                    <a:lnTo>
                      <a:pt x="454" y="339"/>
                    </a:lnTo>
                    <a:close/>
                  </a:path>
                </a:pathLst>
              </a:custGeom>
              <a:solidFill>
                <a:srgbClr val="075d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6873840" y="3202200"/>
                <a:ext cx="274680" cy="126720"/>
              </a:xfrm>
              <a:custGeom>
                <a:avLst/>
                <a:gdLst/>
                <a:ahLst/>
                <a:rect l="l" t="t" r="r" b="b"/>
                <a:pathLst>
                  <a:path w="868" h="396">
                    <a:moveTo>
                      <a:pt x="454" y="339"/>
                    </a:moveTo>
                    <a:lnTo>
                      <a:pt x="864" y="396"/>
                    </a:lnTo>
                    <a:lnTo>
                      <a:pt x="868" y="119"/>
                    </a:lnTo>
                    <a:lnTo>
                      <a:pt x="3" y="0"/>
                    </a:lnTo>
                    <a:lnTo>
                      <a:pt x="0" y="276"/>
                    </a:lnTo>
                    <a:lnTo>
                      <a:pt x="454" y="33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6886440" y="3214800"/>
                <a:ext cx="247680" cy="100080"/>
              </a:xfrm>
              <a:custGeom>
                <a:avLst/>
                <a:gdLst/>
                <a:ahLst/>
                <a:rect l="l" t="t" r="r" b="b"/>
                <a:pathLst>
                  <a:path w="782" h="313">
                    <a:moveTo>
                      <a:pt x="452" y="268"/>
                    </a:moveTo>
                    <a:lnTo>
                      <a:pt x="782" y="313"/>
                    </a:lnTo>
                    <a:lnTo>
                      <a:pt x="782" y="106"/>
                    </a:lnTo>
                    <a:lnTo>
                      <a:pt x="0" y="0"/>
                    </a:lnTo>
                    <a:lnTo>
                      <a:pt x="0" y="207"/>
                    </a:lnTo>
                    <a:lnTo>
                      <a:pt x="452" y="268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6940440" y="2963880"/>
                <a:ext cx="416160" cy="284400"/>
              </a:xfrm>
              <a:custGeom>
                <a:avLst/>
                <a:gdLst/>
                <a:ahLst/>
                <a:rect l="l" t="t" r="r" b="b"/>
                <a:pathLst>
                  <a:path w="1307" h="892">
                    <a:moveTo>
                      <a:pt x="180" y="9"/>
                    </a:moveTo>
                    <a:lnTo>
                      <a:pt x="222" y="25"/>
                    </a:lnTo>
                    <a:lnTo>
                      <a:pt x="331" y="71"/>
                    </a:lnTo>
                    <a:lnTo>
                      <a:pt x="405" y="101"/>
                    </a:lnTo>
                    <a:lnTo>
                      <a:pt x="488" y="136"/>
                    </a:lnTo>
                    <a:lnTo>
                      <a:pt x="577" y="175"/>
                    </a:lnTo>
                    <a:lnTo>
                      <a:pt x="671" y="217"/>
                    </a:lnTo>
                    <a:lnTo>
                      <a:pt x="766" y="261"/>
                    </a:lnTo>
                    <a:lnTo>
                      <a:pt x="859" y="307"/>
                    </a:lnTo>
                    <a:lnTo>
                      <a:pt x="905" y="330"/>
                    </a:lnTo>
                    <a:lnTo>
                      <a:pt x="950" y="352"/>
                    </a:lnTo>
                    <a:lnTo>
                      <a:pt x="992" y="374"/>
                    </a:lnTo>
                    <a:lnTo>
                      <a:pt x="1033" y="398"/>
                    </a:lnTo>
                    <a:lnTo>
                      <a:pt x="1072" y="419"/>
                    </a:lnTo>
                    <a:lnTo>
                      <a:pt x="1108" y="441"/>
                    </a:lnTo>
                    <a:lnTo>
                      <a:pt x="1141" y="462"/>
                    </a:lnTo>
                    <a:lnTo>
                      <a:pt x="1170" y="483"/>
                    </a:lnTo>
                    <a:lnTo>
                      <a:pt x="1196" y="502"/>
                    </a:lnTo>
                    <a:lnTo>
                      <a:pt x="1220" y="521"/>
                    </a:lnTo>
                    <a:lnTo>
                      <a:pt x="1237" y="538"/>
                    </a:lnTo>
                    <a:lnTo>
                      <a:pt x="1250" y="555"/>
                    </a:lnTo>
                    <a:lnTo>
                      <a:pt x="1262" y="570"/>
                    </a:lnTo>
                    <a:lnTo>
                      <a:pt x="1270" y="586"/>
                    </a:lnTo>
                    <a:lnTo>
                      <a:pt x="1279" y="601"/>
                    </a:lnTo>
                    <a:lnTo>
                      <a:pt x="1286" y="614"/>
                    </a:lnTo>
                    <a:lnTo>
                      <a:pt x="1292" y="629"/>
                    </a:lnTo>
                    <a:lnTo>
                      <a:pt x="1297" y="641"/>
                    </a:lnTo>
                    <a:lnTo>
                      <a:pt x="1301" y="654"/>
                    </a:lnTo>
                    <a:lnTo>
                      <a:pt x="1303" y="666"/>
                    </a:lnTo>
                    <a:lnTo>
                      <a:pt x="1306" y="677"/>
                    </a:lnTo>
                    <a:lnTo>
                      <a:pt x="1307" y="688"/>
                    </a:lnTo>
                    <a:lnTo>
                      <a:pt x="1307" y="697"/>
                    </a:lnTo>
                    <a:lnTo>
                      <a:pt x="1306" y="706"/>
                    </a:lnTo>
                    <a:lnTo>
                      <a:pt x="1305" y="715"/>
                    </a:lnTo>
                    <a:lnTo>
                      <a:pt x="1302" y="722"/>
                    </a:lnTo>
                    <a:lnTo>
                      <a:pt x="1298" y="729"/>
                    </a:lnTo>
                    <a:lnTo>
                      <a:pt x="1293" y="735"/>
                    </a:lnTo>
                    <a:lnTo>
                      <a:pt x="1289" y="740"/>
                    </a:lnTo>
                    <a:lnTo>
                      <a:pt x="1284" y="743"/>
                    </a:lnTo>
                    <a:lnTo>
                      <a:pt x="1276" y="747"/>
                    </a:lnTo>
                    <a:lnTo>
                      <a:pt x="1269" y="749"/>
                    </a:lnTo>
                    <a:lnTo>
                      <a:pt x="1262" y="751"/>
                    </a:lnTo>
                    <a:lnTo>
                      <a:pt x="1253" y="752"/>
                    </a:lnTo>
                    <a:lnTo>
                      <a:pt x="1243" y="751"/>
                    </a:lnTo>
                    <a:lnTo>
                      <a:pt x="1233" y="749"/>
                    </a:lnTo>
                    <a:lnTo>
                      <a:pt x="1222" y="747"/>
                    </a:lnTo>
                    <a:lnTo>
                      <a:pt x="1211" y="743"/>
                    </a:lnTo>
                    <a:lnTo>
                      <a:pt x="1199" y="738"/>
                    </a:lnTo>
                    <a:lnTo>
                      <a:pt x="1186" y="733"/>
                    </a:lnTo>
                    <a:lnTo>
                      <a:pt x="1173" y="726"/>
                    </a:lnTo>
                    <a:lnTo>
                      <a:pt x="1159" y="719"/>
                    </a:lnTo>
                    <a:lnTo>
                      <a:pt x="1146" y="709"/>
                    </a:lnTo>
                    <a:lnTo>
                      <a:pt x="1131" y="699"/>
                    </a:lnTo>
                    <a:lnTo>
                      <a:pt x="1124" y="692"/>
                    </a:lnTo>
                    <a:lnTo>
                      <a:pt x="1104" y="676"/>
                    </a:lnTo>
                    <a:lnTo>
                      <a:pt x="1089" y="666"/>
                    </a:lnTo>
                    <a:lnTo>
                      <a:pt x="1075" y="655"/>
                    </a:lnTo>
                    <a:lnTo>
                      <a:pt x="1056" y="645"/>
                    </a:lnTo>
                    <a:lnTo>
                      <a:pt x="1038" y="635"/>
                    </a:lnTo>
                    <a:lnTo>
                      <a:pt x="1018" y="626"/>
                    </a:lnTo>
                    <a:lnTo>
                      <a:pt x="997" y="620"/>
                    </a:lnTo>
                    <a:lnTo>
                      <a:pt x="987" y="618"/>
                    </a:lnTo>
                    <a:lnTo>
                      <a:pt x="976" y="617"/>
                    </a:lnTo>
                    <a:lnTo>
                      <a:pt x="966" y="615"/>
                    </a:lnTo>
                    <a:lnTo>
                      <a:pt x="956" y="617"/>
                    </a:lnTo>
                    <a:lnTo>
                      <a:pt x="947" y="618"/>
                    </a:lnTo>
                    <a:lnTo>
                      <a:pt x="937" y="620"/>
                    </a:lnTo>
                    <a:lnTo>
                      <a:pt x="927" y="623"/>
                    </a:lnTo>
                    <a:lnTo>
                      <a:pt x="917" y="628"/>
                    </a:lnTo>
                    <a:lnTo>
                      <a:pt x="908" y="634"/>
                    </a:lnTo>
                    <a:lnTo>
                      <a:pt x="900" y="641"/>
                    </a:lnTo>
                    <a:lnTo>
                      <a:pt x="891" y="650"/>
                    </a:lnTo>
                    <a:lnTo>
                      <a:pt x="884" y="661"/>
                    </a:lnTo>
                    <a:lnTo>
                      <a:pt x="869" y="684"/>
                    </a:lnTo>
                    <a:lnTo>
                      <a:pt x="856" y="709"/>
                    </a:lnTo>
                    <a:lnTo>
                      <a:pt x="842" y="735"/>
                    </a:lnTo>
                    <a:lnTo>
                      <a:pt x="827" y="762"/>
                    </a:lnTo>
                    <a:lnTo>
                      <a:pt x="814" y="788"/>
                    </a:lnTo>
                    <a:lnTo>
                      <a:pt x="799" y="813"/>
                    </a:lnTo>
                    <a:lnTo>
                      <a:pt x="784" y="836"/>
                    </a:lnTo>
                    <a:lnTo>
                      <a:pt x="768" y="856"/>
                    </a:lnTo>
                    <a:lnTo>
                      <a:pt x="760" y="865"/>
                    </a:lnTo>
                    <a:lnTo>
                      <a:pt x="752" y="872"/>
                    </a:lnTo>
                    <a:lnTo>
                      <a:pt x="742" y="879"/>
                    </a:lnTo>
                    <a:lnTo>
                      <a:pt x="734" y="885"/>
                    </a:lnTo>
                    <a:lnTo>
                      <a:pt x="724" y="888"/>
                    </a:lnTo>
                    <a:lnTo>
                      <a:pt x="715" y="891"/>
                    </a:lnTo>
                    <a:lnTo>
                      <a:pt x="704" y="892"/>
                    </a:lnTo>
                    <a:lnTo>
                      <a:pt x="694" y="891"/>
                    </a:lnTo>
                    <a:lnTo>
                      <a:pt x="683" y="888"/>
                    </a:lnTo>
                    <a:lnTo>
                      <a:pt x="672" y="885"/>
                    </a:lnTo>
                    <a:lnTo>
                      <a:pt x="660" y="879"/>
                    </a:lnTo>
                    <a:lnTo>
                      <a:pt x="648" y="870"/>
                    </a:lnTo>
                    <a:lnTo>
                      <a:pt x="635" y="860"/>
                    </a:lnTo>
                    <a:lnTo>
                      <a:pt x="622" y="848"/>
                    </a:lnTo>
                    <a:lnTo>
                      <a:pt x="608" y="833"/>
                    </a:lnTo>
                    <a:lnTo>
                      <a:pt x="593" y="816"/>
                    </a:lnTo>
                    <a:lnTo>
                      <a:pt x="539" y="746"/>
                    </a:lnTo>
                    <a:lnTo>
                      <a:pt x="494" y="684"/>
                    </a:lnTo>
                    <a:lnTo>
                      <a:pt x="474" y="657"/>
                    </a:lnTo>
                    <a:lnTo>
                      <a:pt x="456" y="631"/>
                    </a:lnTo>
                    <a:lnTo>
                      <a:pt x="437" y="609"/>
                    </a:lnTo>
                    <a:lnTo>
                      <a:pt x="420" y="588"/>
                    </a:lnTo>
                    <a:lnTo>
                      <a:pt x="403" y="571"/>
                    </a:lnTo>
                    <a:lnTo>
                      <a:pt x="387" y="556"/>
                    </a:lnTo>
                    <a:lnTo>
                      <a:pt x="378" y="550"/>
                    </a:lnTo>
                    <a:lnTo>
                      <a:pt x="370" y="544"/>
                    </a:lnTo>
                    <a:lnTo>
                      <a:pt x="360" y="539"/>
                    </a:lnTo>
                    <a:lnTo>
                      <a:pt x="351" y="534"/>
                    </a:lnTo>
                    <a:lnTo>
                      <a:pt x="342" y="531"/>
                    </a:lnTo>
                    <a:lnTo>
                      <a:pt x="333" y="528"/>
                    </a:lnTo>
                    <a:lnTo>
                      <a:pt x="323" y="526"/>
                    </a:lnTo>
                    <a:lnTo>
                      <a:pt x="313" y="524"/>
                    </a:lnTo>
                    <a:lnTo>
                      <a:pt x="302" y="524"/>
                    </a:lnTo>
                    <a:lnTo>
                      <a:pt x="291" y="524"/>
                    </a:lnTo>
                    <a:lnTo>
                      <a:pt x="280" y="526"/>
                    </a:lnTo>
                    <a:lnTo>
                      <a:pt x="267" y="528"/>
                    </a:lnTo>
                    <a:lnTo>
                      <a:pt x="255" y="529"/>
                    </a:lnTo>
                    <a:lnTo>
                      <a:pt x="243" y="531"/>
                    </a:lnTo>
                    <a:lnTo>
                      <a:pt x="231" y="532"/>
                    </a:lnTo>
                    <a:lnTo>
                      <a:pt x="219" y="532"/>
                    </a:lnTo>
                    <a:lnTo>
                      <a:pt x="207" y="531"/>
                    </a:lnTo>
                    <a:lnTo>
                      <a:pt x="196" y="529"/>
                    </a:lnTo>
                    <a:lnTo>
                      <a:pt x="185" y="527"/>
                    </a:lnTo>
                    <a:lnTo>
                      <a:pt x="174" y="524"/>
                    </a:lnTo>
                    <a:lnTo>
                      <a:pt x="163" y="521"/>
                    </a:lnTo>
                    <a:lnTo>
                      <a:pt x="153" y="516"/>
                    </a:lnTo>
                    <a:lnTo>
                      <a:pt x="142" y="511"/>
                    </a:lnTo>
                    <a:lnTo>
                      <a:pt x="132" y="506"/>
                    </a:lnTo>
                    <a:lnTo>
                      <a:pt x="124" y="500"/>
                    </a:lnTo>
                    <a:lnTo>
                      <a:pt x="114" y="492"/>
                    </a:lnTo>
                    <a:lnTo>
                      <a:pt x="105" y="485"/>
                    </a:lnTo>
                    <a:lnTo>
                      <a:pt x="96" y="476"/>
                    </a:lnTo>
                    <a:lnTo>
                      <a:pt x="79" y="459"/>
                    </a:lnTo>
                    <a:lnTo>
                      <a:pt x="64" y="440"/>
                    </a:lnTo>
                    <a:lnTo>
                      <a:pt x="50" y="417"/>
                    </a:lnTo>
                    <a:lnTo>
                      <a:pt x="37" y="393"/>
                    </a:lnTo>
                    <a:lnTo>
                      <a:pt x="26" y="367"/>
                    </a:lnTo>
                    <a:lnTo>
                      <a:pt x="18" y="339"/>
                    </a:lnTo>
                    <a:lnTo>
                      <a:pt x="10" y="309"/>
                    </a:lnTo>
                    <a:lnTo>
                      <a:pt x="4" y="277"/>
                    </a:lnTo>
                    <a:lnTo>
                      <a:pt x="2" y="262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6"/>
                    </a:lnTo>
                    <a:lnTo>
                      <a:pt x="2" y="201"/>
                    </a:lnTo>
                    <a:lnTo>
                      <a:pt x="3" y="186"/>
                    </a:lnTo>
                    <a:lnTo>
                      <a:pt x="5" y="173"/>
                    </a:lnTo>
                    <a:lnTo>
                      <a:pt x="8" y="158"/>
                    </a:lnTo>
                    <a:lnTo>
                      <a:pt x="12" y="146"/>
                    </a:lnTo>
                    <a:lnTo>
                      <a:pt x="15" y="132"/>
                    </a:lnTo>
                    <a:lnTo>
                      <a:pt x="20" y="120"/>
                    </a:lnTo>
                    <a:lnTo>
                      <a:pt x="25" y="107"/>
                    </a:lnTo>
                    <a:lnTo>
                      <a:pt x="31" y="95"/>
                    </a:lnTo>
                    <a:lnTo>
                      <a:pt x="37" y="84"/>
                    </a:lnTo>
                    <a:lnTo>
                      <a:pt x="44" y="74"/>
                    </a:lnTo>
                    <a:lnTo>
                      <a:pt x="51" y="63"/>
                    </a:lnTo>
                    <a:lnTo>
                      <a:pt x="57" y="55"/>
                    </a:lnTo>
                    <a:lnTo>
                      <a:pt x="64" y="46"/>
                    </a:lnTo>
                    <a:lnTo>
                      <a:pt x="73" y="37"/>
                    </a:lnTo>
                    <a:lnTo>
                      <a:pt x="80" y="30"/>
                    </a:lnTo>
                    <a:lnTo>
                      <a:pt x="89" y="24"/>
                    </a:lnTo>
                    <a:lnTo>
                      <a:pt x="96" y="18"/>
                    </a:lnTo>
                    <a:lnTo>
                      <a:pt x="105" y="13"/>
                    </a:lnTo>
                    <a:lnTo>
                      <a:pt x="114" y="9"/>
                    </a:lnTo>
                    <a:lnTo>
                      <a:pt x="122" y="5"/>
                    </a:lnTo>
                    <a:lnTo>
                      <a:pt x="131" y="3"/>
                    </a:lnTo>
                    <a:lnTo>
                      <a:pt x="140" y="2"/>
                    </a:lnTo>
                    <a:lnTo>
                      <a:pt x="148" y="0"/>
                    </a:lnTo>
                    <a:lnTo>
                      <a:pt x="155" y="2"/>
                    </a:lnTo>
                    <a:lnTo>
                      <a:pt x="164" y="3"/>
                    </a:lnTo>
                    <a:lnTo>
                      <a:pt x="173" y="5"/>
                    </a:lnTo>
                    <a:lnTo>
                      <a:pt x="180" y="9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6948360" y="2963880"/>
                <a:ext cx="406440" cy="266760"/>
              </a:xfrm>
              <a:custGeom>
                <a:avLst/>
                <a:gdLst/>
                <a:ahLst/>
                <a:rect l="l" t="t" r="r" b="b"/>
                <a:pathLst>
                  <a:path w="1277" h="838">
                    <a:moveTo>
                      <a:pt x="567" y="759"/>
                    </a:moveTo>
                    <a:lnTo>
                      <a:pt x="513" y="689"/>
                    </a:lnTo>
                    <a:lnTo>
                      <a:pt x="469" y="629"/>
                    </a:lnTo>
                    <a:lnTo>
                      <a:pt x="449" y="603"/>
                    </a:lnTo>
                    <a:lnTo>
                      <a:pt x="432" y="578"/>
                    </a:lnTo>
                    <a:lnTo>
                      <a:pt x="414" y="556"/>
                    </a:lnTo>
                    <a:lnTo>
                      <a:pt x="397" y="538"/>
                    </a:lnTo>
                    <a:lnTo>
                      <a:pt x="381" y="520"/>
                    </a:lnTo>
                    <a:lnTo>
                      <a:pt x="365" y="507"/>
                    </a:lnTo>
                    <a:lnTo>
                      <a:pt x="357" y="501"/>
                    </a:lnTo>
                    <a:lnTo>
                      <a:pt x="348" y="496"/>
                    </a:lnTo>
                    <a:lnTo>
                      <a:pt x="341" y="491"/>
                    </a:lnTo>
                    <a:lnTo>
                      <a:pt x="331" y="487"/>
                    </a:lnTo>
                    <a:lnTo>
                      <a:pt x="322" y="485"/>
                    </a:lnTo>
                    <a:lnTo>
                      <a:pt x="314" y="482"/>
                    </a:lnTo>
                    <a:lnTo>
                      <a:pt x="304" y="480"/>
                    </a:lnTo>
                    <a:lnTo>
                      <a:pt x="294" y="479"/>
                    </a:lnTo>
                    <a:lnTo>
                      <a:pt x="283" y="479"/>
                    </a:lnTo>
                    <a:lnTo>
                      <a:pt x="272" y="479"/>
                    </a:lnTo>
                    <a:lnTo>
                      <a:pt x="261" y="480"/>
                    </a:lnTo>
                    <a:lnTo>
                      <a:pt x="248" y="482"/>
                    </a:lnTo>
                    <a:lnTo>
                      <a:pt x="237" y="485"/>
                    </a:lnTo>
                    <a:lnTo>
                      <a:pt x="225" y="486"/>
                    </a:lnTo>
                    <a:lnTo>
                      <a:pt x="213" y="487"/>
                    </a:lnTo>
                    <a:lnTo>
                      <a:pt x="202" y="487"/>
                    </a:lnTo>
                    <a:lnTo>
                      <a:pt x="191" y="486"/>
                    </a:lnTo>
                    <a:lnTo>
                      <a:pt x="179" y="485"/>
                    </a:lnTo>
                    <a:lnTo>
                      <a:pt x="170" y="484"/>
                    </a:lnTo>
                    <a:lnTo>
                      <a:pt x="159" y="481"/>
                    </a:lnTo>
                    <a:lnTo>
                      <a:pt x="149" y="477"/>
                    </a:lnTo>
                    <a:lnTo>
                      <a:pt x="139" y="474"/>
                    </a:lnTo>
                    <a:lnTo>
                      <a:pt x="130" y="469"/>
                    </a:lnTo>
                    <a:lnTo>
                      <a:pt x="120" y="464"/>
                    </a:lnTo>
                    <a:lnTo>
                      <a:pt x="112" y="458"/>
                    </a:lnTo>
                    <a:lnTo>
                      <a:pt x="103" y="452"/>
                    </a:lnTo>
                    <a:lnTo>
                      <a:pt x="95" y="444"/>
                    </a:lnTo>
                    <a:lnTo>
                      <a:pt x="87" y="437"/>
                    </a:lnTo>
                    <a:lnTo>
                      <a:pt x="71" y="421"/>
                    </a:lnTo>
                    <a:lnTo>
                      <a:pt x="58" y="401"/>
                    </a:lnTo>
                    <a:lnTo>
                      <a:pt x="45" y="380"/>
                    </a:lnTo>
                    <a:lnTo>
                      <a:pt x="34" y="357"/>
                    </a:lnTo>
                    <a:lnTo>
                      <a:pt x="24" y="331"/>
                    </a:lnTo>
                    <a:lnTo>
                      <a:pt x="17" y="304"/>
                    </a:lnTo>
                    <a:lnTo>
                      <a:pt x="10" y="274"/>
                    </a:lnTo>
                    <a:lnTo>
                      <a:pt x="5" y="244"/>
                    </a:lnTo>
                    <a:lnTo>
                      <a:pt x="2" y="228"/>
                    </a:lnTo>
                    <a:lnTo>
                      <a:pt x="1" y="212"/>
                    </a:lnTo>
                    <a:lnTo>
                      <a:pt x="0" y="197"/>
                    </a:lnTo>
                    <a:lnTo>
                      <a:pt x="0" y="182"/>
                    </a:lnTo>
                    <a:lnTo>
                      <a:pt x="1" y="154"/>
                    </a:lnTo>
                    <a:lnTo>
                      <a:pt x="5" y="128"/>
                    </a:lnTo>
                    <a:lnTo>
                      <a:pt x="11" y="105"/>
                    </a:lnTo>
                    <a:lnTo>
                      <a:pt x="18" y="83"/>
                    </a:lnTo>
                    <a:lnTo>
                      <a:pt x="23" y="73"/>
                    </a:lnTo>
                    <a:lnTo>
                      <a:pt x="28" y="63"/>
                    </a:lnTo>
                    <a:lnTo>
                      <a:pt x="33" y="54"/>
                    </a:lnTo>
                    <a:lnTo>
                      <a:pt x="38" y="46"/>
                    </a:lnTo>
                    <a:lnTo>
                      <a:pt x="44" y="38"/>
                    </a:lnTo>
                    <a:lnTo>
                      <a:pt x="50" y="31"/>
                    </a:lnTo>
                    <a:lnTo>
                      <a:pt x="58" y="25"/>
                    </a:lnTo>
                    <a:lnTo>
                      <a:pt x="64" y="20"/>
                    </a:lnTo>
                    <a:lnTo>
                      <a:pt x="71" y="15"/>
                    </a:lnTo>
                    <a:lnTo>
                      <a:pt x="79" y="10"/>
                    </a:lnTo>
                    <a:lnTo>
                      <a:pt x="86" y="6"/>
                    </a:lnTo>
                    <a:lnTo>
                      <a:pt x="93" y="4"/>
                    </a:lnTo>
                    <a:lnTo>
                      <a:pt x="101" y="1"/>
                    </a:lnTo>
                    <a:lnTo>
                      <a:pt x="109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3" y="1"/>
                    </a:lnTo>
                    <a:lnTo>
                      <a:pt x="140" y="4"/>
                    </a:lnTo>
                    <a:lnTo>
                      <a:pt x="149" y="6"/>
                    </a:lnTo>
                    <a:lnTo>
                      <a:pt x="156" y="10"/>
                    </a:lnTo>
                    <a:lnTo>
                      <a:pt x="198" y="26"/>
                    </a:lnTo>
                    <a:lnTo>
                      <a:pt x="307" y="72"/>
                    </a:lnTo>
                    <a:lnTo>
                      <a:pt x="381" y="102"/>
                    </a:lnTo>
                    <a:lnTo>
                      <a:pt x="464" y="137"/>
                    </a:lnTo>
                    <a:lnTo>
                      <a:pt x="553" y="176"/>
                    </a:lnTo>
                    <a:lnTo>
                      <a:pt x="647" y="218"/>
                    </a:lnTo>
                    <a:lnTo>
                      <a:pt x="742" y="262"/>
                    </a:lnTo>
                    <a:lnTo>
                      <a:pt x="835" y="308"/>
                    </a:lnTo>
                    <a:lnTo>
                      <a:pt x="881" y="331"/>
                    </a:lnTo>
                    <a:lnTo>
                      <a:pt x="926" y="353"/>
                    </a:lnTo>
                    <a:lnTo>
                      <a:pt x="968" y="375"/>
                    </a:lnTo>
                    <a:lnTo>
                      <a:pt x="1009" y="399"/>
                    </a:lnTo>
                    <a:lnTo>
                      <a:pt x="1048" y="420"/>
                    </a:lnTo>
                    <a:lnTo>
                      <a:pt x="1084" y="442"/>
                    </a:lnTo>
                    <a:lnTo>
                      <a:pt x="1117" y="463"/>
                    </a:lnTo>
                    <a:lnTo>
                      <a:pt x="1146" y="484"/>
                    </a:lnTo>
                    <a:lnTo>
                      <a:pt x="1172" y="503"/>
                    </a:lnTo>
                    <a:lnTo>
                      <a:pt x="1196" y="522"/>
                    </a:lnTo>
                    <a:lnTo>
                      <a:pt x="1213" y="539"/>
                    </a:lnTo>
                    <a:lnTo>
                      <a:pt x="1226" y="556"/>
                    </a:lnTo>
                    <a:lnTo>
                      <a:pt x="1238" y="571"/>
                    </a:lnTo>
                    <a:lnTo>
                      <a:pt x="1246" y="586"/>
                    </a:lnTo>
                    <a:lnTo>
                      <a:pt x="1254" y="600"/>
                    </a:lnTo>
                    <a:lnTo>
                      <a:pt x="1261" y="613"/>
                    </a:lnTo>
                    <a:lnTo>
                      <a:pt x="1266" y="625"/>
                    </a:lnTo>
                    <a:lnTo>
                      <a:pt x="1271" y="636"/>
                    </a:lnTo>
                    <a:lnTo>
                      <a:pt x="1273" y="647"/>
                    </a:lnTo>
                    <a:lnTo>
                      <a:pt x="1276" y="657"/>
                    </a:lnTo>
                    <a:lnTo>
                      <a:pt x="1277" y="666"/>
                    </a:lnTo>
                    <a:lnTo>
                      <a:pt x="1277" y="673"/>
                    </a:lnTo>
                    <a:lnTo>
                      <a:pt x="1276" y="680"/>
                    </a:lnTo>
                    <a:lnTo>
                      <a:pt x="1273" y="687"/>
                    </a:lnTo>
                    <a:lnTo>
                      <a:pt x="1271" y="691"/>
                    </a:lnTo>
                    <a:lnTo>
                      <a:pt x="1267" y="696"/>
                    </a:lnTo>
                    <a:lnTo>
                      <a:pt x="1262" y="700"/>
                    </a:lnTo>
                    <a:lnTo>
                      <a:pt x="1256" y="703"/>
                    </a:lnTo>
                    <a:lnTo>
                      <a:pt x="1250" y="705"/>
                    </a:lnTo>
                    <a:lnTo>
                      <a:pt x="1242" y="706"/>
                    </a:lnTo>
                    <a:lnTo>
                      <a:pt x="1235" y="706"/>
                    </a:lnTo>
                    <a:lnTo>
                      <a:pt x="1226" y="706"/>
                    </a:lnTo>
                    <a:lnTo>
                      <a:pt x="1218" y="705"/>
                    </a:lnTo>
                    <a:lnTo>
                      <a:pt x="1208" y="703"/>
                    </a:lnTo>
                    <a:lnTo>
                      <a:pt x="1197" y="699"/>
                    </a:lnTo>
                    <a:lnTo>
                      <a:pt x="1186" y="695"/>
                    </a:lnTo>
                    <a:lnTo>
                      <a:pt x="1162" y="685"/>
                    </a:lnTo>
                    <a:lnTo>
                      <a:pt x="1137" y="672"/>
                    </a:lnTo>
                    <a:lnTo>
                      <a:pt x="1110" y="655"/>
                    </a:lnTo>
                    <a:lnTo>
                      <a:pt x="1080" y="635"/>
                    </a:lnTo>
                    <a:lnTo>
                      <a:pt x="1074" y="629"/>
                    </a:lnTo>
                    <a:lnTo>
                      <a:pt x="1055" y="616"/>
                    </a:lnTo>
                    <a:lnTo>
                      <a:pt x="1042" y="608"/>
                    </a:lnTo>
                    <a:lnTo>
                      <a:pt x="1028" y="599"/>
                    </a:lnTo>
                    <a:lnTo>
                      <a:pt x="1011" y="591"/>
                    </a:lnTo>
                    <a:lnTo>
                      <a:pt x="994" y="584"/>
                    </a:lnTo>
                    <a:lnTo>
                      <a:pt x="975" y="578"/>
                    </a:lnTo>
                    <a:lnTo>
                      <a:pt x="957" y="573"/>
                    </a:lnTo>
                    <a:lnTo>
                      <a:pt x="947" y="572"/>
                    </a:lnTo>
                    <a:lnTo>
                      <a:pt x="937" y="572"/>
                    </a:lnTo>
                    <a:lnTo>
                      <a:pt x="929" y="572"/>
                    </a:lnTo>
                    <a:lnTo>
                      <a:pt x="919" y="573"/>
                    </a:lnTo>
                    <a:lnTo>
                      <a:pt x="909" y="576"/>
                    </a:lnTo>
                    <a:lnTo>
                      <a:pt x="900" y="578"/>
                    </a:lnTo>
                    <a:lnTo>
                      <a:pt x="891" y="583"/>
                    </a:lnTo>
                    <a:lnTo>
                      <a:pt x="882" y="588"/>
                    </a:lnTo>
                    <a:lnTo>
                      <a:pt x="873" y="594"/>
                    </a:lnTo>
                    <a:lnTo>
                      <a:pt x="865" y="602"/>
                    </a:lnTo>
                    <a:lnTo>
                      <a:pt x="857" y="610"/>
                    </a:lnTo>
                    <a:lnTo>
                      <a:pt x="849" y="621"/>
                    </a:lnTo>
                    <a:lnTo>
                      <a:pt x="835" y="645"/>
                    </a:lnTo>
                    <a:lnTo>
                      <a:pt x="820" y="669"/>
                    </a:lnTo>
                    <a:lnTo>
                      <a:pt x="807" y="695"/>
                    </a:lnTo>
                    <a:lnTo>
                      <a:pt x="795" y="721"/>
                    </a:lnTo>
                    <a:lnTo>
                      <a:pt x="781" y="746"/>
                    </a:lnTo>
                    <a:lnTo>
                      <a:pt x="766" y="769"/>
                    </a:lnTo>
                    <a:lnTo>
                      <a:pt x="753" y="790"/>
                    </a:lnTo>
                    <a:lnTo>
                      <a:pt x="738" y="808"/>
                    </a:lnTo>
                    <a:lnTo>
                      <a:pt x="729" y="816"/>
                    </a:lnTo>
                    <a:lnTo>
                      <a:pt x="722" y="823"/>
                    </a:lnTo>
                    <a:lnTo>
                      <a:pt x="713" y="828"/>
                    </a:lnTo>
                    <a:lnTo>
                      <a:pt x="705" y="833"/>
                    </a:lnTo>
                    <a:lnTo>
                      <a:pt x="695" y="837"/>
                    </a:lnTo>
                    <a:lnTo>
                      <a:pt x="686" y="838"/>
                    </a:lnTo>
                    <a:lnTo>
                      <a:pt x="677" y="838"/>
                    </a:lnTo>
                    <a:lnTo>
                      <a:pt x="667" y="837"/>
                    </a:lnTo>
                    <a:lnTo>
                      <a:pt x="656" y="834"/>
                    </a:lnTo>
                    <a:lnTo>
                      <a:pt x="645" y="829"/>
                    </a:lnTo>
                    <a:lnTo>
                      <a:pt x="633" y="823"/>
                    </a:lnTo>
                    <a:lnTo>
                      <a:pt x="621" y="814"/>
                    </a:lnTo>
                    <a:lnTo>
                      <a:pt x="608" y="805"/>
                    </a:lnTo>
                    <a:lnTo>
                      <a:pt x="595" y="791"/>
                    </a:lnTo>
                    <a:lnTo>
                      <a:pt x="581" y="776"/>
                    </a:lnTo>
                    <a:lnTo>
                      <a:pt x="567" y="75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6954840" y="2963880"/>
                <a:ext cx="396720" cy="247680"/>
              </a:xfrm>
              <a:custGeom>
                <a:avLst/>
                <a:gdLst/>
                <a:ahLst/>
                <a:rect l="l" t="t" r="r" b="b"/>
                <a:pathLst>
                  <a:path w="1250" h="784">
                    <a:moveTo>
                      <a:pt x="544" y="702"/>
                    </a:moveTo>
                    <a:lnTo>
                      <a:pt x="489" y="633"/>
                    </a:lnTo>
                    <a:lnTo>
                      <a:pt x="446" y="574"/>
                    </a:lnTo>
                    <a:lnTo>
                      <a:pt x="428" y="550"/>
                    </a:lnTo>
                    <a:lnTo>
                      <a:pt x="411" y="526"/>
                    </a:lnTo>
                    <a:lnTo>
                      <a:pt x="395" y="505"/>
                    </a:lnTo>
                    <a:lnTo>
                      <a:pt x="379" y="487"/>
                    </a:lnTo>
                    <a:lnTo>
                      <a:pt x="364" y="472"/>
                    </a:lnTo>
                    <a:lnTo>
                      <a:pt x="349" y="460"/>
                    </a:lnTo>
                    <a:lnTo>
                      <a:pt x="341" y="454"/>
                    </a:lnTo>
                    <a:lnTo>
                      <a:pt x="333" y="449"/>
                    </a:lnTo>
                    <a:lnTo>
                      <a:pt x="325" y="445"/>
                    </a:lnTo>
                    <a:lnTo>
                      <a:pt x="317" y="441"/>
                    </a:lnTo>
                    <a:lnTo>
                      <a:pt x="309" y="439"/>
                    </a:lnTo>
                    <a:lnTo>
                      <a:pt x="299" y="436"/>
                    </a:lnTo>
                    <a:lnTo>
                      <a:pt x="290" y="435"/>
                    </a:lnTo>
                    <a:lnTo>
                      <a:pt x="280" y="434"/>
                    </a:lnTo>
                    <a:lnTo>
                      <a:pt x="270" y="434"/>
                    </a:lnTo>
                    <a:lnTo>
                      <a:pt x="259" y="435"/>
                    </a:lnTo>
                    <a:lnTo>
                      <a:pt x="248" y="436"/>
                    </a:lnTo>
                    <a:lnTo>
                      <a:pt x="236" y="438"/>
                    </a:lnTo>
                    <a:lnTo>
                      <a:pt x="211" y="443"/>
                    </a:lnTo>
                    <a:lnTo>
                      <a:pt x="189" y="444"/>
                    </a:lnTo>
                    <a:lnTo>
                      <a:pt x="178" y="443"/>
                    </a:lnTo>
                    <a:lnTo>
                      <a:pt x="167" y="441"/>
                    </a:lnTo>
                    <a:lnTo>
                      <a:pt x="157" y="440"/>
                    </a:lnTo>
                    <a:lnTo>
                      <a:pt x="147" y="438"/>
                    </a:lnTo>
                    <a:lnTo>
                      <a:pt x="138" y="435"/>
                    </a:lnTo>
                    <a:lnTo>
                      <a:pt x="129" y="431"/>
                    </a:lnTo>
                    <a:lnTo>
                      <a:pt x="120" y="428"/>
                    </a:lnTo>
                    <a:lnTo>
                      <a:pt x="112" y="423"/>
                    </a:lnTo>
                    <a:lnTo>
                      <a:pt x="103" y="418"/>
                    </a:lnTo>
                    <a:lnTo>
                      <a:pt x="96" y="412"/>
                    </a:lnTo>
                    <a:lnTo>
                      <a:pt x="88" y="406"/>
                    </a:lnTo>
                    <a:lnTo>
                      <a:pt x="81" y="398"/>
                    </a:lnTo>
                    <a:lnTo>
                      <a:pt x="67" y="382"/>
                    </a:lnTo>
                    <a:lnTo>
                      <a:pt x="55" y="365"/>
                    </a:lnTo>
                    <a:lnTo>
                      <a:pt x="44" y="344"/>
                    </a:lnTo>
                    <a:lnTo>
                      <a:pt x="34" y="322"/>
                    </a:lnTo>
                    <a:lnTo>
                      <a:pt x="26" y="297"/>
                    </a:lnTo>
                    <a:lnTo>
                      <a:pt x="17" y="270"/>
                    </a:lnTo>
                    <a:lnTo>
                      <a:pt x="11" y="241"/>
                    </a:lnTo>
                    <a:lnTo>
                      <a:pt x="5" y="210"/>
                    </a:lnTo>
                    <a:lnTo>
                      <a:pt x="1" y="179"/>
                    </a:lnTo>
                    <a:lnTo>
                      <a:pt x="0" y="151"/>
                    </a:lnTo>
                    <a:lnTo>
                      <a:pt x="0" y="124"/>
                    </a:lnTo>
                    <a:lnTo>
                      <a:pt x="2" y="101"/>
                    </a:lnTo>
                    <a:lnTo>
                      <a:pt x="6" y="80"/>
                    </a:lnTo>
                    <a:lnTo>
                      <a:pt x="12" y="60"/>
                    </a:lnTo>
                    <a:lnTo>
                      <a:pt x="16" y="53"/>
                    </a:lnTo>
                    <a:lnTo>
                      <a:pt x="19" y="44"/>
                    </a:lnTo>
                    <a:lnTo>
                      <a:pt x="24" y="37"/>
                    </a:lnTo>
                    <a:lnTo>
                      <a:pt x="28" y="30"/>
                    </a:lnTo>
                    <a:lnTo>
                      <a:pt x="33" y="24"/>
                    </a:lnTo>
                    <a:lnTo>
                      <a:pt x="39" y="19"/>
                    </a:lnTo>
                    <a:lnTo>
                      <a:pt x="44" y="14"/>
                    </a:lnTo>
                    <a:lnTo>
                      <a:pt x="50" y="11"/>
                    </a:lnTo>
                    <a:lnTo>
                      <a:pt x="56" y="7"/>
                    </a:lnTo>
                    <a:lnTo>
                      <a:pt x="63" y="3"/>
                    </a:lnTo>
                    <a:lnTo>
                      <a:pt x="69" y="2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4" y="1"/>
                    </a:lnTo>
                    <a:lnTo>
                      <a:pt x="120" y="5"/>
                    </a:lnTo>
                    <a:lnTo>
                      <a:pt x="135" y="12"/>
                    </a:lnTo>
                    <a:lnTo>
                      <a:pt x="177" y="28"/>
                    </a:lnTo>
                    <a:lnTo>
                      <a:pt x="286" y="74"/>
                    </a:lnTo>
                    <a:lnTo>
                      <a:pt x="360" y="104"/>
                    </a:lnTo>
                    <a:lnTo>
                      <a:pt x="443" y="139"/>
                    </a:lnTo>
                    <a:lnTo>
                      <a:pt x="532" y="178"/>
                    </a:lnTo>
                    <a:lnTo>
                      <a:pt x="626" y="220"/>
                    </a:lnTo>
                    <a:lnTo>
                      <a:pt x="721" y="264"/>
                    </a:lnTo>
                    <a:lnTo>
                      <a:pt x="814" y="310"/>
                    </a:lnTo>
                    <a:lnTo>
                      <a:pt x="860" y="333"/>
                    </a:lnTo>
                    <a:lnTo>
                      <a:pt x="905" y="355"/>
                    </a:lnTo>
                    <a:lnTo>
                      <a:pt x="947" y="377"/>
                    </a:lnTo>
                    <a:lnTo>
                      <a:pt x="988" y="401"/>
                    </a:lnTo>
                    <a:lnTo>
                      <a:pt x="1027" y="422"/>
                    </a:lnTo>
                    <a:lnTo>
                      <a:pt x="1063" y="444"/>
                    </a:lnTo>
                    <a:lnTo>
                      <a:pt x="1096" y="465"/>
                    </a:lnTo>
                    <a:lnTo>
                      <a:pt x="1125" y="486"/>
                    </a:lnTo>
                    <a:lnTo>
                      <a:pt x="1151" y="505"/>
                    </a:lnTo>
                    <a:lnTo>
                      <a:pt x="1175" y="524"/>
                    </a:lnTo>
                    <a:lnTo>
                      <a:pt x="1192" y="541"/>
                    </a:lnTo>
                    <a:lnTo>
                      <a:pt x="1205" y="558"/>
                    </a:lnTo>
                    <a:lnTo>
                      <a:pt x="1225" y="588"/>
                    </a:lnTo>
                    <a:lnTo>
                      <a:pt x="1239" y="612"/>
                    </a:lnTo>
                    <a:lnTo>
                      <a:pt x="1244" y="623"/>
                    </a:lnTo>
                    <a:lnTo>
                      <a:pt x="1246" y="632"/>
                    </a:lnTo>
                    <a:lnTo>
                      <a:pt x="1248" y="641"/>
                    </a:lnTo>
                    <a:lnTo>
                      <a:pt x="1250" y="648"/>
                    </a:lnTo>
                    <a:lnTo>
                      <a:pt x="1250" y="655"/>
                    </a:lnTo>
                    <a:lnTo>
                      <a:pt x="1248" y="660"/>
                    </a:lnTo>
                    <a:lnTo>
                      <a:pt x="1246" y="665"/>
                    </a:lnTo>
                    <a:lnTo>
                      <a:pt x="1242" y="668"/>
                    </a:lnTo>
                    <a:lnTo>
                      <a:pt x="1239" y="670"/>
                    </a:lnTo>
                    <a:lnTo>
                      <a:pt x="1234" y="673"/>
                    </a:lnTo>
                    <a:lnTo>
                      <a:pt x="1228" y="673"/>
                    </a:lnTo>
                    <a:lnTo>
                      <a:pt x="1220" y="673"/>
                    </a:lnTo>
                    <a:lnTo>
                      <a:pt x="1204" y="670"/>
                    </a:lnTo>
                    <a:lnTo>
                      <a:pt x="1186" y="664"/>
                    </a:lnTo>
                    <a:lnTo>
                      <a:pt x="1164" y="654"/>
                    </a:lnTo>
                    <a:lnTo>
                      <a:pt x="1140" y="643"/>
                    </a:lnTo>
                    <a:lnTo>
                      <a:pt x="1114" y="628"/>
                    </a:lnTo>
                    <a:lnTo>
                      <a:pt x="1087" y="611"/>
                    </a:lnTo>
                    <a:lnTo>
                      <a:pt x="1059" y="593"/>
                    </a:lnTo>
                    <a:lnTo>
                      <a:pt x="1030" y="572"/>
                    </a:lnTo>
                    <a:lnTo>
                      <a:pt x="1023" y="567"/>
                    </a:lnTo>
                    <a:lnTo>
                      <a:pt x="1007" y="557"/>
                    </a:lnTo>
                    <a:lnTo>
                      <a:pt x="996" y="551"/>
                    </a:lnTo>
                    <a:lnTo>
                      <a:pt x="983" y="545"/>
                    </a:lnTo>
                    <a:lnTo>
                      <a:pt x="968" y="538"/>
                    </a:lnTo>
                    <a:lnTo>
                      <a:pt x="953" y="534"/>
                    </a:lnTo>
                    <a:lnTo>
                      <a:pt x="936" y="530"/>
                    </a:lnTo>
                    <a:lnTo>
                      <a:pt x="919" y="529"/>
                    </a:lnTo>
                    <a:lnTo>
                      <a:pt x="910" y="529"/>
                    </a:lnTo>
                    <a:lnTo>
                      <a:pt x="902" y="529"/>
                    </a:lnTo>
                    <a:lnTo>
                      <a:pt x="893" y="530"/>
                    </a:lnTo>
                    <a:lnTo>
                      <a:pt x="884" y="532"/>
                    </a:lnTo>
                    <a:lnTo>
                      <a:pt x="874" y="535"/>
                    </a:lnTo>
                    <a:lnTo>
                      <a:pt x="866" y="540"/>
                    </a:lnTo>
                    <a:lnTo>
                      <a:pt x="857" y="545"/>
                    </a:lnTo>
                    <a:lnTo>
                      <a:pt x="849" y="550"/>
                    </a:lnTo>
                    <a:lnTo>
                      <a:pt x="841" y="557"/>
                    </a:lnTo>
                    <a:lnTo>
                      <a:pt x="833" y="566"/>
                    </a:lnTo>
                    <a:lnTo>
                      <a:pt x="825" y="574"/>
                    </a:lnTo>
                    <a:lnTo>
                      <a:pt x="818" y="585"/>
                    </a:lnTo>
                    <a:lnTo>
                      <a:pt x="803" y="607"/>
                    </a:lnTo>
                    <a:lnTo>
                      <a:pt x="790" y="632"/>
                    </a:lnTo>
                    <a:lnTo>
                      <a:pt x="776" y="655"/>
                    </a:lnTo>
                    <a:lnTo>
                      <a:pt x="764" y="680"/>
                    </a:lnTo>
                    <a:lnTo>
                      <a:pt x="750" y="703"/>
                    </a:lnTo>
                    <a:lnTo>
                      <a:pt x="738" y="724"/>
                    </a:lnTo>
                    <a:lnTo>
                      <a:pt x="724" y="744"/>
                    </a:lnTo>
                    <a:lnTo>
                      <a:pt x="710" y="760"/>
                    </a:lnTo>
                    <a:lnTo>
                      <a:pt x="702" y="767"/>
                    </a:lnTo>
                    <a:lnTo>
                      <a:pt x="695" y="773"/>
                    </a:lnTo>
                    <a:lnTo>
                      <a:pt x="686" y="778"/>
                    </a:lnTo>
                    <a:lnTo>
                      <a:pt x="679" y="782"/>
                    </a:lnTo>
                    <a:lnTo>
                      <a:pt x="669" y="783"/>
                    </a:lnTo>
                    <a:lnTo>
                      <a:pt x="660" y="784"/>
                    </a:lnTo>
                    <a:lnTo>
                      <a:pt x="651" y="784"/>
                    </a:lnTo>
                    <a:lnTo>
                      <a:pt x="641" y="782"/>
                    </a:lnTo>
                    <a:lnTo>
                      <a:pt x="631" y="778"/>
                    </a:lnTo>
                    <a:lnTo>
                      <a:pt x="620" y="773"/>
                    </a:lnTo>
                    <a:lnTo>
                      <a:pt x="609" y="766"/>
                    </a:lnTo>
                    <a:lnTo>
                      <a:pt x="596" y="757"/>
                    </a:lnTo>
                    <a:lnTo>
                      <a:pt x="584" y="746"/>
                    </a:lnTo>
                    <a:lnTo>
                      <a:pt x="571" y="734"/>
                    </a:lnTo>
                    <a:lnTo>
                      <a:pt x="557" y="719"/>
                    </a:lnTo>
                    <a:lnTo>
                      <a:pt x="544" y="70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6962760" y="2962440"/>
                <a:ext cx="387360" cy="233280"/>
              </a:xfrm>
              <a:custGeom>
                <a:avLst/>
                <a:gdLst/>
                <a:ahLst/>
                <a:rect l="l" t="t" r="r" b="b"/>
                <a:pathLst>
                  <a:path w="1224" h="737">
                    <a:moveTo>
                      <a:pt x="519" y="647"/>
                    </a:moveTo>
                    <a:lnTo>
                      <a:pt x="466" y="579"/>
                    </a:lnTo>
                    <a:lnTo>
                      <a:pt x="424" y="521"/>
                    </a:lnTo>
                    <a:lnTo>
                      <a:pt x="407" y="498"/>
                    </a:lnTo>
                    <a:lnTo>
                      <a:pt x="390" y="476"/>
                    </a:lnTo>
                    <a:lnTo>
                      <a:pt x="375" y="456"/>
                    </a:lnTo>
                    <a:lnTo>
                      <a:pt x="360" y="440"/>
                    </a:lnTo>
                    <a:lnTo>
                      <a:pt x="345" y="425"/>
                    </a:lnTo>
                    <a:lnTo>
                      <a:pt x="331" y="414"/>
                    </a:lnTo>
                    <a:lnTo>
                      <a:pt x="323" y="409"/>
                    </a:lnTo>
                    <a:lnTo>
                      <a:pt x="316" y="406"/>
                    </a:lnTo>
                    <a:lnTo>
                      <a:pt x="308" y="402"/>
                    </a:lnTo>
                    <a:lnTo>
                      <a:pt x="300" y="400"/>
                    </a:lnTo>
                    <a:lnTo>
                      <a:pt x="291" y="397"/>
                    </a:lnTo>
                    <a:lnTo>
                      <a:pt x="283" y="396"/>
                    </a:lnTo>
                    <a:lnTo>
                      <a:pt x="274" y="395"/>
                    </a:lnTo>
                    <a:lnTo>
                      <a:pt x="264" y="395"/>
                    </a:lnTo>
                    <a:lnTo>
                      <a:pt x="243" y="396"/>
                    </a:lnTo>
                    <a:lnTo>
                      <a:pt x="220" y="400"/>
                    </a:lnTo>
                    <a:lnTo>
                      <a:pt x="197" y="403"/>
                    </a:lnTo>
                    <a:lnTo>
                      <a:pt x="174" y="404"/>
                    </a:lnTo>
                    <a:lnTo>
                      <a:pt x="165" y="403"/>
                    </a:lnTo>
                    <a:lnTo>
                      <a:pt x="155" y="403"/>
                    </a:lnTo>
                    <a:lnTo>
                      <a:pt x="145" y="401"/>
                    </a:lnTo>
                    <a:lnTo>
                      <a:pt x="136" y="400"/>
                    </a:lnTo>
                    <a:lnTo>
                      <a:pt x="126" y="397"/>
                    </a:lnTo>
                    <a:lnTo>
                      <a:pt x="118" y="393"/>
                    </a:lnTo>
                    <a:lnTo>
                      <a:pt x="110" y="390"/>
                    </a:lnTo>
                    <a:lnTo>
                      <a:pt x="102" y="385"/>
                    </a:lnTo>
                    <a:lnTo>
                      <a:pt x="94" y="380"/>
                    </a:lnTo>
                    <a:lnTo>
                      <a:pt x="88" y="375"/>
                    </a:lnTo>
                    <a:lnTo>
                      <a:pt x="81" y="369"/>
                    </a:lnTo>
                    <a:lnTo>
                      <a:pt x="75" y="361"/>
                    </a:lnTo>
                    <a:lnTo>
                      <a:pt x="62" y="347"/>
                    </a:lnTo>
                    <a:lnTo>
                      <a:pt x="51" y="329"/>
                    </a:lnTo>
                    <a:lnTo>
                      <a:pt x="42" y="310"/>
                    </a:lnTo>
                    <a:lnTo>
                      <a:pt x="33" y="289"/>
                    </a:lnTo>
                    <a:lnTo>
                      <a:pt x="24" y="264"/>
                    </a:lnTo>
                    <a:lnTo>
                      <a:pt x="17" y="238"/>
                    </a:lnTo>
                    <a:lnTo>
                      <a:pt x="11" y="210"/>
                    </a:lnTo>
                    <a:lnTo>
                      <a:pt x="6" y="179"/>
                    </a:lnTo>
                    <a:lnTo>
                      <a:pt x="2" y="149"/>
                    </a:lnTo>
                    <a:lnTo>
                      <a:pt x="0" y="122"/>
                    </a:lnTo>
                    <a:lnTo>
                      <a:pt x="0" y="97"/>
                    </a:lnTo>
                    <a:lnTo>
                      <a:pt x="1" y="76"/>
                    </a:lnTo>
                    <a:lnTo>
                      <a:pt x="3" y="58"/>
                    </a:lnTo>
                    <a:lnTo>
                      <a:pt x="7" y="42"/>
                    </a:lnTo>
                    <a:lnTo>
                      <a:pt x="12" y="28"/>
                    </a:lnTo>
                    <a:lnTo>
                      <a:pt x="19" y="18"/>
                    </a:lnTo>
                    <a:lnTo>
                      <a:pt x="23" y="13"/>
                    </a:lnTo>
                    <a:lnTo>
                      <a:pt x="27" y="10"/>
                    </a:lnTo>
                    <a:lnTo>
                      <a:pt x="32" y="6"/>
                    </a:lnTo>
                    <a:lnTo>
                      <a:pt x="37" y="3"/>
                    </a:lnTo>
                    <a:lnTo>
                      <a:pt x="46" y="1"/>
                    </a:lnTo>
                    <a:lnTo>
                      <a:pt x="59" y="0"/>
                    </a:lnTo>
                    <a:lnTo>
                      <a:pt x="71" y="1"/>
                    </a:lnTo>
                    <a:lnTo>
                      <a:pt x="85" y="5"/>
                    </a:lnTo>
                    <a:lnTo>
                      <a:pt x="99" y="10"/>
                    </a:lnTo>
                    <a:lnTo>
                      <a:pt x="114" y="17"/>
                    </a:lnTo>
                    <a:lnTo>
                      <a:pt x="156" y="33"/>
                    </a:lnTo>
                    <a:lnTo>
                      <a:pt x="265" y="79"/>
                    </a:lnTo>
                    <a:lnTo>
                      <a:pt x="339" y="109"/>
                    </a:lnTo>
                    <a:lnTo>
                      <a:pt x="422" y="144"/>
                    </a:lnTo>
                    <a:lnTo>
                      <a:pt x="511" y="183"/>
                    </a:lnTo>
                    <a:lnTo>
                      <a:pt x="605" y="225"/>
                    </a:lnTo>
                    <a:lnTo>
                      <a:pt x="700" y="269"/>
                    </a:lnTo>
                    <a:lnTo>
                      <a:pt x="793" y="315"/>
                    </a:lnTo>
                    <a:lnTo>
                      <a:pt x="839" y="338"/>
                    </a:lnTo>
                    <a:lnTo>
                      <a:pt x="884" y="360"/>
                    </a:lnTo>
                    <a:lnTo>
                      <a:pt x="926" y="382"/>
                    </a:lnTo>
                    <a:lnTo>
                      <a:pt x="967" y="406"/>
                    </a:lnTo>
                    <a:lnTo>
                      <a:pt x="1006" y="427"/>
                    </a:lnTo>
                    <a:lnTo>
                      <a:pt x="1042" y="449"/>
                    </a:lnTo>
                    <a:lnTo>
                      <a:pt x="1075" y="470"/>
                    </a:lnTo>
                    <a:lnTo>
                      <a:pt x="1104" y="491"/>
                    </a:lnTo>
                    <a:lnTo>
                      <a:pt x="1130" y="510"/>
                    </a:lnTo>
                    <a:lnTo>
                      <a:pt x="1154" y="529"/>
                    </a:lnTo>
                    <a:lnTo>
                      <a:pt x="1171" y="546"/>
                    </a:lnTo>
                    <a:lnTo>
                      <a:pt x="1184" y="563"/>
                    </a:lnTo>
                    <a:lnTo>
                      <a:pt x="1204" y="591"/>
                    </a:lnTo>
                    <a:lnTo>
                      <a:pt x="1216" y="615"/>
                    </a:lnTo>
                    <a:lnTo>
                      <a:pt x="1220" y="623"/>
                    </a:lnTo>
                    <a:lnTo>
                      <a:pt x="1223" y="632"/>
                    </a:lnTo>
                    <a:lnTo>
                      <a:pt x="1224" y="638"/>
                    </a:lnTo>
                    <a:lnTo>
                      <a:pt x="1224" y="643"/>
                    </a:lnTo>
                    <a:lnTo>
                      <a:pt x="1223" y="647"/>
                    </a:lnTo>
                    <a:lnTo>
                      <a:pt x="1220" y="650"/>
                    </a:lnTo>
                    <a:lnTo>
                      <a:pt x="1216" y="652"/>
                    </a:lnTo>
                    <a:lnTo>
                      <a:pt x="1213" y="653"/>
                    </a:lnTo>
                    <a:lnTo>
                      <a:pt x="1207" y="652"/>
                    </a:lnTo>
                    <a:lnTo>
                      <a:pt x="1200" y="650"/>
                    </a:lnTo>
                    <a:lnTo>
                      <a:pt x="1193" y="648"/>
                    </a:lnTo>
                    <a:lnTo>
                      <a:pt x="1184" y="644"/>
                    </a:lnTo>
                    <a:lnTo>
                      <a:pt x="1166" y="636"/>
                    </a:lnTo>
                    <a:lnTo>
                      <a:pt x="1144" y="623"/>
                    </a:lnTo>
                    <a:lnTo>
                      <a:pt x="1119" y="609"/>
                    </a:lnTo>
                    <a:lnTo>
                      <a:pt x="1093" y="593"/>
                    </a:lnTo>
                    <a:lnTo>
                      <a:pt x="1037" y="553"/>
                    </a:lnTo>
                    <a:lnTo>
                      <a:pt x="979" y="511"/>
                    </a:lnTo>
                    <a:lnTo>
                      <a:pt x="974" y="508"/>
                    </a:lnTo>
                    <a:lnTo>
                      <a:pt x="959" y="500"/>
                    </a:lnTo>
                    <a:lnTo>
                      <a:pt x="951" y="497"/>
                    </a:lnTo>
                    <a:lnTo>
                      <a:pt x="940" y="492"/>
                    </a:lnTo>
                    <a:lnTo>
                      <a:pt x="926" y="489"/>
                    </a:lnTo>
                    <a:lnTo>
                      <a:pt x="913" y="486"/>
                    </a:lnTo>
                    <a:lnTo>
                      <a:pt x="898" y="486"/>
                    </a:lnTo>
                    <a:lnTo>
                      <a:pt x="883" y="486"/>
                    </a:lnTo>
                    <a:lnTo>
                      <a:pt x="867" y="488"/>
                    </a:lnTo>
                    <a:lnTo>
                      <a:pt x="851" y="494"/>
                    </a:lnTo>
                    <a:lnTo>
                      <a:pt x="844" y="498"/>
                    </a:lnTo>
                    <a:lnTo>
                      <a:pt x="835" y="502"/>
                    </a:lnTo>
                    <a:lnTo>
                      <a:pt x="826" y="508"/>
                    </a:lnTo>
                    <a:lnTo>
                      <a:pt x="819" y="514"/>
                    </a:lnTo>
                    <a:lnTo>
                      <a:pt x="812" y="521"/>
                    </a:lnTo>
                    <a:lnTo>
                      <a:pt x="803" y="530"/>
                    </a:lnTo>
                    <a:lnTo>
                      <a:pt x="796" y="539"/>
                    </a:lnTo>
                    <a:lnTo>
                      <a:pt x="788" y="550"/>
                    </a:lnTo>
                    <a:lnTo>
                      <a:pt x="760" y="595"/>
                    </a:lnTo>
                    <a:lnTo>
                      <a:pt x="735" y="643"/>
                    </a:lnTo>
                    <a:lnTo>
                      <a:pt x="723" y="665"/>
                    </a:lnTo>
                    <a:lnTo>
                      <a:pt x="710" y="685"/>
                    </a:lnTo>
                    <a:lnTo>
                      <a:pt x="703" y="694"/>
                    </a:lnTo>
                    <a:lnTo>
                      <a:pt x="697" y="702"/>
                    </a:lnTo>
                    <a:lnTo>
                      <a:pt x="690" y="711"/>
                    </a:lnTo>
                    <a:lnTo>
                      <a:pt x="684" y="717"/>
                    </a:lnTo>
                    <a:lnTo>
                      <a:pt x="676" y="723"/>
                    </a:lnTo>
                    <a:lnTo>
                      <a:pt x="669" y="728"/>
                    </a:lnTo>
                    <a:lnTo>
                      <a:pt x="660" y="732"/>
                    </a:lnTo>
                    <a:lnTo>
                      <a:pt x="653" y="734"/>
                    </a:lnTo>
                    <a:lnTo>
                      <a:pt x="644" y="737"/>
                    </a:lnTo>
                    <a:lnTo>
                      <a:pt x="636" y="737"/>
                    </a:lnTo>
                    <a:lnTo>
                      <a:pt x="626" y="735"/>
                    </a:lnTo>
                    <a:lnTo>
                      <a:pt x="617" y="732"/>
                    </a:lnTo>
                    <a:lnTo>
                      <a:pt x="606" y="728"/>
                    </a:lnTo>
                    <a:lnTo>
                      <a:pt x="596" y="722"/>
                    </a:lnTo>
                    <a:lnTo>
                      <a:pt x="584" y="714"/>
                    </a:lnTo>
                    <a:lnTo>
                      <a:pt x="573" y="705"/>
                    </a:lnTo>
                    <a:lnTo>
                      <a:pt x="561" y="694"/>
                    </a:lnTo>
                    <a:lnTo>
                      <a:pt x="547" y="680"/>
                    </a:lnTo>
                    <a:lnTo>
                      <a:pt x="534" y="664"/>
                    </a:lnTo>
                    <a:lnTo>
                      <a:pt x="519" y="647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6969240" y="2959200"/>
                <a:ext cx="380880" cy="219240"/>
              </a:xfrm>
              <a:custGeom>
                <a:avLst/>
                <a:gdLst/>
                <a:ahLst/>
                <a:rect l="l" t="t" r="r" b="b"/>
                <a:pathLst>
                  <a:path w="1199" h="690">
                    <a:moveTo>
                      <a:pt x="93" y="25"/>
                    </a:moveTo>
                    <a:lnTo>
                      <a:pt x="135" y="41"/>
                    </a:lnTo>
                    <a:lnTo>
                      <a:pt x="244" y="87"/>
                    </a:lnTo>
                    <a:lnTo>
                      <a:pt x="318" y="117"/>
                    </a:lnTo>
                    <a:lnTo>
                      <a:pt x="401" y="152"/>
                    </a:lnTo>
                    <a:lnTo>
                      <a:pt x="490" y="191"/>
                    </a:lnTo>
                    <a:lnTo>
                      <a:pt x="584" y="233"/>
                    </a:lnTo>
                    <a:lnTo>
                      <a:pt x="679" y="277"/>
                    </a:lnTo>
                    <a:lnTo>
                      <a:pt x="772" y="323"/>
                    </a:lnTo>
                    <a:lnTo>
                      <a:pt x="818" y="346"/>
                    </a:lnTo>
                    <a:lnTo>
                      <a:pt x="863" y="368"/>
                    </a:lnTo>
                    <a:lnTo>
                      <a:pt x="905" y="390"/>
                    </a:lnTo>
                    <a:lnTo>
                      <a:pt x="946" y="414"/>
                    </a:lnTo>
                    <a:lnTo>
                      <a:pt x="985" y="435"/>
                    </a:lnTo>
                    <a:lnTo>
                      <a:pt x="1021" y="457"/>
                    </a:lnTo>
                    <a:lnTo>
                      <a:pt x="1054" y="478"/>
                    </a:lnTo>
                    <a:lnTo>
                      <a:pt x="1083" y="499"/>
                    </a:lnTo>
                    <a:lnTo>
                      <a:pt x="1109" y="518"/>
                    </a:lnTo>
                    <a:lnTo>
                      <a:pt x="1133" y="537"/>
                    </a:lnTo>
                    <a:lnTo>
                      <a:pt x="1150" y="554"/>
                    </a:lnTo>
                    <a:lnTo>
                      <a:pt x="1163" y="571"/>
                    </a:lnTo>
                    <a:lnTo>
                      <a:pt x="1182" y="599"/>
                    </a:lnTo>
                    <a:lnTo>
                      <a:pt x="1194" y="619"/>
                    </a:lnTo>
                    <a:lnTo>
                      <a:pt x="1197" y="628"/>
                    </a:lnTo>
                    <a:lnTo>
                      <a:pt x="1199" y="634"/>
                    </a:lnTo>
                    <a:lnTo>
                      <a:pt x="1199" y="638"/>
                    </a:lnTo>
                    <a:lnTo>
                      <a:pt x="1198" y="641"/>
                    </a:lnTo>
                    <a:lnTo>
                      <a:pt x="1197" y="642"/>
                    </a:lnTo>
                    <a:lnTo>
                      <a:pt x="1193" y="642"/>
                    </a:lnTo>
                    <a:lnTo>
                      <a:pt x="1188" y="641"/>
                    </a:lnTo>
                    <a:lnTo>
                      <a:pt x="1182" y="640"/>
                    </a:lnTo>
                    <a:lnTo>
                      <a:pt x="1167" y="631"/>
                    </a:lnTo>
                    <a:lnTo>
                      <a:pt x="1149" y="620"/>
                    </a:lnTo>
                    <a:lnTo>
                      <a:pt x="1102" y="587"/>
                    </a:lnTo>
                    <a:lnTo>
                      <a:pt x="1048" y="544"/>
                    </a:lnTo>
                    <a:lnTo>
                      <a:pt x="988" y="497"/>
                    </a:lnTo>
                    <a:lnTo>
                      <a:pt x="927" y="451"/>
                    </a:lnTo>
                    <a:lnTo>
                      <a:pt x="924" y="449"/>
                    </a:lnTo>
                    <a:lnTo>
                      <a:pt x="912" y="444"/>
                    </a:lnTo>
                    <a:lnTo>
                      <a:pt x="904" y="443"/>
                    </a:lnTo>
                    <a:lnTo>
                      <a:pt x="894" y="441"/>
                    </a:lnTo>
                    <a:lnTo>
                      <a:pt x="883" y="441"/>
                    </a:lnTo>
                    <a:lnTo>
                      <a:pt x="872" y="441"/>
                    </a:lnTo>
                    <a:lnTo>
                      <a:pt x="858" y="442"/>
                    </a:lnTo>
                    <a:lnTo>
                      <a:pt x="845" y="444"/>
                    </a:lnTo>
                    <a:lnTo>
                      <a:pt x="831" y="451"/>
                    </a:lnTo>
                    <a:lnTo>
                      <a:pt x="816" y="458"/>
                    </a:lnTo>
                    <a:lnTo>
                      <a:pt x="802" y="468"/>
                    </a:lnTo>
                    <a:lnTo>
                      <a:pt x="786" y="481"/>
                    </a:lnTo>
                    <a:lnTo>
                      <a:pt x="771" y="499"/>
                    </a:lnTo>
                    <a:lnTo>
                      <a:pt x="756" y="519"/>
                    </a:lnTo>
                    <a:lnTo>
                      <a:pt x="729" y="564"/>
                    </a:lnTo>
                    <a:lnTo>
                      <a:pt x="705" y="608"/>
                    </a:lnTo>
                    <a:lnTo>
                      <a:pt x="692" y="629"/>
                    </a:lnTo>
                    <a:lnTo>
                      <a:pt x="681" y="647"/>
                    </a:lnTo>
                    <a:lnTo>
                      <a:pt x="675" y="655"/>
                    </a:lnTo>
                    <a:lnTo>
                      <a:pt x="669" y="662"/>
                    </a:lnTo>
                    <a:lnTo>
                      <a:pt x="661" y="670"/>
                    </a:lnTo>
                    <a:lnTo>
                      <a:pt x="655" y="676"/>
                    </a:lnTo>
                    <a:lnTo>
                      <a:pt x="649" y="681"/>
                    </a:lnTo>
                    <a:lnTo>
                      <a:pt x="642" y="684"/>
                    </a:lnTo>
                    <a:lnTo>
                      <a:pt x="634" y="688"/>
                    </a:lnTo>
                    <a:lnTo>
                      <a:pt x="627" y="689"/>
                    </a:lnTo>
                    <a:lnTo>
                      <a:pt x="618" y="690"/>
                    </a:lnTo>
                    <a:lnTo>
                      <a:pt x="610" y="689"/>
                    </a:lnTo>
                    <a:lnTo>
                      <a:pt x="601" y="688"/>
                    </a:lnTo>
                    <a:lnTo>
                      <a:pt x="591" y="684"/>
                    </a:lnTo>
                    <a:lnTo>
                      <a:pt x="582" y="679"/>
                    </a:lnTo>
                    <a:lnTo>
                      <a:pt x="572" y="673"/>
                    </a:lnTo>
                    <a:lnTo>
                      <a:pt x="561" y="665"/>
                    </a:lnTo>
                    <a:lnTo>
                      <a:pt x="548" y="655"/>
                    </a:lnTo>
                    <a:lnTo>
                      <a:pt x="536" y="644"/>
                    </a:lnTo>
                    <a:lnTo>
                      <a:pt x="524" y="630"/>
                    </a:lnTo>
                    <a:lnTo>
                      <a:pt x="510" y="615"/>
                    </a:lnTo>
                    <a:lnTo>
                      <a:pt x="495" y="598"/>
                    </a:lnTo>
                    <a:lnTo>
                      <a:pt x="444" y="529"/>
                    </a:lnTo>
                    <a:lnTo>
                      <a:pt x="402" y="474"/>
                    </a:lnTo>
                    <a:lnTo>
                      <a:pt x="385" y="449"/>
                    </a:lnTo>
                    <a:lnTo>
                      <a:pt x="370" y="428"/>
                    </a:lnTo>
                    <a:lnTo>
                      <a:pt x="355" y="410"/>
                    </a:lnTo>
                    <a:lnTo>
                      <a:pt x="342" y="395"/>
                    </a:lnTo>
                    <a:lnTo>
                      <a:pt x="327" y="382"/>
                    </a:lnTo>
                    <a:lnTo>
                      <a:pt x="313" y="372"/>
                    </a:lnTo>
                    <a:lnTo>
                      <a:pt x="307" y="368"/>
                    </a:lnTo>
                    <a:lnTo>
                      <a:pt x="300" y="364"/>
                    </a:lnTo>
                    <a:lnTo>
                      <a:pt x="292" y="361"/>
                    </a:lnTo>
                    <a:lnTo>
                      <a:pt x="284" y="360"/>
                    </a:lnTo>
                    <a:lnTo>
                      <a:pt x="276" y="357"/>
                    </a:lnTo>
                    <a:lnTo>
                      <a:pt x="268" y="356"/>
                    </a:lnTo>
                    <a:lnTo>
                      <a:pt x="259" y="356"/>
                    </a:lnTo>
                    <a:lnTo>
                      <a:pt x="249" y="356"/>
                    </a:lnTo>
                    <a:lnTo>
                      <a:pt x="228" y="357"/>
                    </a:lnTo>
                    <a:lnTo>
                      <a:pt x="205" y="362"/>
                    </a:lnTo>
                    <a:lnTo>
                      <a:pt x="182" y="364"/>
                    </a:lnTo>
                    <a:lnTo>
                      <a:pt x="160" y="367"/>
                    </a:lnTo>
                    <a:lnTo>
                      <a:pt x="141" y="366"/>
                    </a:lnTo>
                    <a:lnTo>
                      <a:pt x="123" y="363"/>
                    </a:lnTo>
                    <a:lnTo>
                      <a:pt x="115" y="361"/>
                    </a:lnTo>
                    <a:lnTo>
                      <a:pt x="107" y="357"/>
                    </a:lnTo>
                    <a:lnTo>
                      <a:pt x="99" y="355"/>
                    </a:lnTo>
                    <a:lnTo>
                      <a:pt x="93" y="350"/>
                    </a:lnTo>
                    <a:lnTo>
                      <a:pt x="86" y="346"/>
                    </a:lnTo>
                    <a:lnTo>
                      <a:pt x="80" y="341"/>
                    </a:lnTo>
                    <a:lnTo>
                      <a:pt x="73" y="335"/>
                    </a:lnTo>
                    <a:lnTo>
                      <a:pt x="68" y="329"/>
                    </a:lnTo>
                    <a:lnTo>
                      <a:pt x="57" y="315"/>
                    </a:lnTo>
                    <a:lnTo>
                      <a:pt x="49" y="298"/>
                    </a:lnTo>
                    <a:lnTo>
                      <a:pt x="40" y="280"/>
                    </a:lnTo>
                    <a:lnTo>
                      <a:pt x="33" y="259"/>
                    </a:lnTo>
                    <a:lnTo>
                      <a:pt x="27" y="235"/>
                    </a:lnTo>
                    <a:lnTo>
                      <a:pt x="21" y="208"/>
                    </a:lnTo>
                    <a:lnTo>
                      <a:pt x="14" y="180"/>
                    </a:lnTo>
                    <a:lnTo>
                      <a:pt x="9" y="149"/>
                    </a:lnTo>
                    <a:lnTo>
                      <a:pt x="5" y="120"/>
                    </a:lnTo>
                    <a:lnTo>
                      <a:pt x="2" y="94"/>
                    </a:lnTo>
                    <a:lnTo>
                      <a:pt x="0" y="72"/>
                    </a:lnTo>
                    <a:lnTo>
                      <a:pt x="0" y="53"/>
                    </a:lnTo>
                    <a:lnTo>
                      <a:pt x="0" y="37"/>
                    </a:lnTo>
                    <a:lnTo>
                      <a:pt x="2" y="25"/>
                    </a:lnTo>
                    <a:lnTo>
                      <a:pt x="5" y="15"/>
                    </a:lnTo>
                    <a:lnTo>
                      <a:pt x="9" y="8"/>
                    </a:lnTo>
                    <a:lnTo>
                      <a:pt x="12" y="5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41" y="2"/>
                    </a:lnTo>
                    <a:lnTo>
                      <a:pt x="53" y="5"/>
                    </a:lnTo>
                    <a:lnTo>
                      <a:pt x="65" y="10"/>
                    </a:lnTo>
                    <a:lnTo>
                      <a:pt x="78" y="18"/>
                    </a:lnTo>
                    <a:lnTo>
                      <a:pt x="93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7356600" y="2192400"/>
                <a:ext cx="409320" cy="1941480"/>
              </a:xfrm>
              <a:custGeom>
                <a:avLst/>
                <a:gdLst/>
                <a:ahLst/>
                <a:rect l="l" t="t" r="r" b="b"/>
                <a:pathLst>
                  <a:path w="1290" h="6115">
                    <a:moveTo>
                      <a:pt x="441" y="6068"/>
                    </a:moveTo>
                    <a:lnTo>
                      <a:pt x="435" y="6058"/>
                    </a:lnTo>
                    <a:lnTo>
                      <a:pt x="419" y="6032"/>
                    </a:lnTo>
                    <a:lnTo>
                      <a:pt x="394" y="5993"/>
                    </a:lnTo>
                    <a:lnTo>
                      <a:pt x="363" y="5941"/>
                    </a:lnTo>
                    <a:lnTo>
                      <a:pt x="329" y="5884"/>
                    </a:lnTo>
                    <a:lnTo>
                      <a:pt x="291" y="5820"/>
                    </a:lnTo>
                    <a:lnTo>
                      <a:pt x="254" y="5753"/>
                    </a:lnTo>
                    <a:lnTo>
                      <a:pt x="217" y="5688"/>
                    </a:lnTo>
                    <a:lnTo>
                      <a:pt x="184" y="5624"/>
                    </a:lnTo>
                    <a:lnTo>
                      <a:pt x="152" y="5556"/>
                    </a:lnTo>
                    <a:lnTo>
                      <a:pt x="137" y="5521"/>
                    </a:lnTo>
                    <a:lnTo>
                      <a:pt x="122" y="5484"/>
                    </a:lnTo>
                    <a:lnTo>
                      <a:pt x="110" y="5443"/>
                    </a:lnTo>
                    <a:lnTo>
                      <a:pt x="97" y="5400"/>
                    </a:lnTo>
                    <a:lnTo>
                      <a:pt x="88" y="5353"/>
                    </a:lnTo>
                    <a:lnTo>
                      <a:pt x="79" y="5303"/>
                    </a:lnTo>
                    <a:lnTo>
                      <a:pt x="75" y="5276"/>
                    </a:lnTo>
                    <a:lnTo>
                      <a:pt x="72" y="5248"/>
                    </a:lnTo>
                    <a:lnTo>
                      <a:pt x="69" y="5218"/>
                    </a:lnTo>
                    <a:lnTo>
                      <a:pt x="67" y="5187"/>
                    </a:lnTo>
                    <a:lnTo>
                      <a:pt x="65" y="5154"/>
                    </a:lnTo>
                    <a:lnTo>
                      <a:pt x="64" y="5121"/>
                    </a:lnTo>
                    <a:lnTo>
                      <a:pt x="64" y="5087"/>
                    </a:lnTo>
                    <a:lnTo>
                      <a:pt x="65" y="5050"/>
                    </a:lnTo>
                    <a:lnTo>
                      <a:pt x="65" y="5011"/>
                    </a:lnTo>
                    <a:lnTo>
                      <a:pt x="68" y="4971"/>
                    </a:lnTo>
                    <a:lnTo>
                      <a:pt x="70" y="4930"/>
                    </a:lnTo>
                    <a:lnTo>
                      <a:pt x="73" y="4886"/>
                    </a:lnTo>
                    <a:lnTo>
                      <a:pt x="80" y="4793"/>
                    </a:lnTo>
                    <a:lnTo>
                      <a:pt x="86" y="4689"/>
                    </a:lnTo>
                    <a:lnTo>
                      <a:pt x="91" y="4579"/>
                    </a:lnTo>
                    <a:lnTo>
                      <a:pt x="95" y="4462"/>
                    </a:lnTo>
                    <a:lnTo>
                      <a:pt x="97" y="4341"/>
                    </a:lnTo>
                    <a:lnTo>
                      <a:pt x="99" y="4216"/>
                    </a:lnTo>
                    <a:lnTo>
                      <a:pt x="100" y="4089"/>
                    </a:lnTo>
                    <a:lnTo>
                      <a:pt x="100" y="3962"/>
                    </a:lnTo>
                    <a:lnTo>
                      <a:pt x="100" y="3714"/>
                    </a:lnTo>
                    <a:lnTo>
                      <a:pt x="96" y="3483"/>
                    </a:lnTo>
                    <a:lnTo>
                      <a:pt x="91" y="3280"/>
                    </a:lnTo>
                    <a:lnTo>
                      <a:pt x="86" y="3119"/>
                    </a:lnTo>
                    <a:lnTo>
                      <a:pt x="83" y="2955"/>
                    </a:lnTo>
                    <a:lnTo>
                      <a:pt x="79" y="2751"/>
                    </a:lnTo>
                    <a:lnTo>
                      <a:pt x="78" y="2524"/>
                    </a:lnTo>
                    <a:lnTo>
                      <a:pt x="79" y="2294"/>
                    </a:lnTo>
                    <a:lnTo>
                      <a:pt x="79" y="2182"/>
                    </a:lnTo>
                    <a:lnTo>
                      <a:pt x="80" y="2075"/>
                    </a:lnTo>
                    <a:lnTo>
                      <a:pt x="83" y="1977"/>
                    </a:lnTo>
                    <a:lnTo>
                      <a:pt x="85" y="1889"/>
                    </a:lnTo>
                    <a:lnTo>
                      <a:pt x="88" y="1812"/>
                    </a:lnTo>
                    <a:lnTo>
                      <a:pt x="91" y="1750"/>
                    </a:lnTo>
                    <a:lnTo>
                      <a:pt x="94" y="1724"/>
                    </a:lnTo>
                    <a:lnTo>
                      <a:pt x="96" y="1703"/>
                    </a:lnTo>
                    <a:lnTo>
                      <a:pt x="97" y="1687"/>
                    </a:lnTo>
                    <a:lnTo>
                      <a:pt x="100" y="1676"/>
                    </a:lnTo>
                    <a:lnTo>
                      <a:pt x="93" y="1666"/>
                    </a:lnTo>
                    <a:lnTo>
                      <a:pt x="74" y="1635"/>
                    </a:lnTo>
                    <a:lnTo>
                      <a:pt x="62" y="1613"/>
                    </a:lnTo>
                    <a:lnTo>
                      <a:pt x="49" y="1585"/>
                    </a:lnTo>
                    <a:lnTo>
                      <a:pt x="42" y="1569"/>
                    </a:lnTo>
                    <a:lnTo>
                      <a:pt x="36" y="1551"/>
                    </a:lnTo>
                    <a:lnTo>
                      <a:pt x="31" y="1532"/>
                    </a:lnTo>
                    <a:lnTo>
                      <a:pt x="25" y="1512"/>
                    </a:lnTo>
                    <a:lnTo>
                      <a:pt x="20" y="1490"/>
                    </a:lnTo>
                    <a:lnTo>
                      <a:pt x="15" y="1468"/>
                    </a:lnTo>
                    <a:lnTo>
                      <a:pt x="10" y="1443"/>
                    </a:lnTo>
                    <a:lnTo>
                      <a:pt x="6" y="1417"/>
                    </a:lnTo>
                    <a:lnTo>
                      <a:pt x="4" y="1390"/>
                    </a:lnTo>
                    <a:lnTo>
                      <a:pt x="1" y="1362"/>
                    </a:lnTo>
                    <a:lnTo>
                      <a:pt x="0" y="1331"/>
                    </a:lnTo>
                    <a:lnTo>
                      <a:pt x="0" y="1299"/>
                    </a:lnTo>
                    <a:lnTo>
                      <a:pt x="1" y="1267"/>
                    </a:lnTo>
                    <a:lnTo>
                      <a:pt x="4" y="1233"/>
                    </a:lnTo>
                    <a:lnTo>
                      <a:pt x="8" y="1196"/>
                    </a:lnTo>
                    <a:lnTo>
                      <a:pt x="13" y="1159"/>
                    </a:lnTo>
                    <a:lnTo>
                      <a:pt x="20" y="1120"/>
                    </a:lnTo>
                    <a:lnTo>
                      <a:pt x="27" y="1079"/>
                    </a:lnTo>
                    <a:lnTo>
                      <a:pt x="37" y="1037"/>
                    </a:lnTo>
                    <a:lnTo>
                      <a:pt x="49" y="994"/>
                    </a:lnTo>
                    <a:lnTo>
                      <a:pt x="51" y="986"/>
                    </a:lnTo>
                    <a:lnTo>
                      <a:pt x="54" y="961"/>
                    </a:lnTo>
                    <a:lnTo>
                      <a:pt x="59" y="927"/>
                    </a:lnTo>
                    <a:lnTo>
                      <a:pt x="64" y="884"/>
                    </a:lnTo>
                    <a:lnTo>
                      <a:pt x="68" y="838"/>
                    </a:lnTo>
                    <a:lnTo>
                      <a:pt x="69" y="791"/>
                    </a:lnTo>
                    <a:lnTo>
                      <a:pt x="69" y="769"/>
                    </a:lnTo>
                    <a:lnTo>
                      <a:pt x="68" y="748"/>
                    </a:lnTo>
                    <a:lnTo>
                      <a:pt x="65" y="729"/>
                    </a:lnTo>
                    <a:lnTo>
                      <a:pt x="63" y="711"/>
                    </a:lnTo>
                    <a:lnTo>
                      <a:pt x="53" y="678"/>
                    </a:lnTo>
                    <a:lnTo>
                      <a:pt x="43" y="641"/>
                    </a:lnTo>
                    <a:lnTo>
                      <a:pt x="33" y="601"/>
                    </a:lnTo>
                    <a:lnTo>
                      <a:pt x="25" y="556"/>
                    </a:lnTo>
                    <a:lnTo>
                      <a:pt x="20" y="533"/>
                    </a:lnTo>
                    <a:lnTo>
                      <a:pt x="16" y="508"/>
                    </a:lnTo>
                    <a:lnTo>
                      <a:pt x="14" y="483"/>
                    </a:lnTo>
                    <a:lnTo>
                      <a:pt x="11" y="456"/>
                    </a:lnTo>
                    <a:lnTo>
                      <a:pt x="10" y="427"/>
                    </a:lnTo>
                    <a:lnTo>
                      <a:pt x="9" y="398"/>
                    </a:lnTo>
                    <a:lnTo>
                      <a:pt x="9" y="368"/>
                    </a:lnTo>
                    <a:lnTo>
                      <a:pt x="11" y="336"/>
                    </a:lnTo>
                    <a:lnTo>
                      <a:pt x="13" y="321"/>
                    </a:lnTo>
                    <a:lnTo>
                      <a:pt x="14" y="307"/>
                    </a:lnTo>
                    <a:lnTo>
                      <a:pt x="16" y="293"/>
                    </a:lnTo>
                    <a:lnTo>
                      <a:pt x="20" y="280"/>
                    </a:lnTo>
                    <a:lnTo>
                      <a:pt x="22" y="267"/>
                    </a:lnTo>
                    <a:lnTo>
                      <a:pt x="27" y="256"/>
                    </a:lnTo>
                    <a:lnTo>
                      <a:pt x="31" y="245"/>
                    </a:lnTo>
                    <a:lnTo>
                      <a:pt x="36" y="234"/>
                    </a:lnTo>
                    <a:lnTo>
                      <a:pt x="42" y="226"/>
                    </a:lnTo>
                    <a:lnTo>
                      <a:pt x="47" y="217"/>
                    </a:lnTo>
                    <a:lnTo>
                      <a:pt x="53" y="210"/>
                    </a:lnTo>
                    <a:lnTo>
                      <a:pt x="59" y="202"/>
                    </a:lnTo>
                    <a:lnTo>
                      <a:pt x="67" y="197"/>
                    </a:lnTo>
                    <a:lnTo>
                      <a:pt x="74" y="191"/>
                    </a:lnTo>
                    <a:lnTo>
                      <a:pt x="81" y="187"/>
                    </a:lnTo>
                    <a:lnTo>
                      <a:pt x="89" y="185"/>
                    </a:lnTo>
                    <a:lnTo>
                      <a:pt x="96" y="183"/>
                    </a:lnTo>
                    <a:lnTo>
                      <a:pt x="105" y="181"/>
                    </a:lnTo>
                    <a:lnTo>
                      <a:pt x="112" y="181"/>
                    </a:lnTo>
                    <a:lnTo>
                      <a:pt x="121" y="181"/>
                    </a:lnTo>
                    <a:lnTo>
                      <a:pt x="129" y="184"/>
                    </a:lnTo>
                    <a:lnTo>
                      <a:pt x="138" y="186"/>
                    </a:lnTo>
                    <a:lnTo>
                      <a:pt x="147" y="190"/>
                    </a:lnTo>
                    <a:lnTo>
                      <a:pt x="155" y="195"/>
                    </a:lnTo>
                    <a:lnTo>
                      <a:pt x="164" y="201"/>
                    </a:lnTo>
                    <a:lnTo>
                      <a:pt x="174" y="208"/>
                    </a:lnTo>
                    <a:lnTo>
                      <a:pt x="182" y="217"/>
                    </a:lnTo>
                    <a:lnTo>
                      <a:pt x="191" y="227"/>
                    </a:lnTo>
                    <a:lnTo>
                      <a:pt x="200" y="238"/>
                    </a:lnTo>
                    <a:lnTo>
                      <a:pt x="208" y="249"/>
                    </a:lnTo>
                    <a:lnTo>
                      <a:pt x="217" y="262"/>
                    </a:lnTo>
                    <a:lnTo>
                      <a:pt x="225" y="277"/>
                    </a:lnTo>
                    <a:lnTo>
                      <a:pt x="239" y="303"/>
                    </a:lnTo>
                    <a:lnTo>
                      <a:pt x="250" y="329"/>
                    </a:lnTo>
                    <a:lnTo>
                      <a:pt x="259" y="356"/>
                    </a:lnTo>
                    <a:lnTo>
                      <a:pt x="266" y="382"/>
                    </a:lnTo>
                    <a:lnTo>
                      <a:pt x="272" y="408"/>
                    </a:lnTo>
                    <a:lnTo>
                      <a:pt x="278" y="435"/>
                    </a:lnTo>
                    <a:lnTo>
                      <a:pt x="282" y="462"/>
                    </a:lnTo>
                    <a:lnTo>
                      <a:pt x="286" y="489"/>
                    </a:lnTo>
                    <a:lnTo>
                      <a:pt x="287" y="513"/>
                    </a:lnTo>
                    <a:lnTo>
                      <a:pt x="288" y="538"/>
                    </a:lnTo>
                    <a:lnTo>
                      <a:pt x="288" y="561"/>
                    </a:lnTo>
                    <a:lnTo>
                      <a:pt x="288" y="585"/>
                    </a:lnTo>
                    <a:lnTo>
                      <a:pt x="286" y="628"/>
                    </a:lnTo>
                    <a:lnTo>
                      <a:pt x="282" y="666"/>
                    </a:lnTo>
                    <a:lnTo>
                      <a:pt x="278" y="698"/>
                    </a:lnTo>
                    <a:lnTo>
                      <a:pt x="276" y="722"/>
                    </a:lnTo>
                    <a:lnTo>
                      <a:pt x="272" y="738"/>
                    </a:lnTo>
                    <a:lnTo>
                      <a:pt x="272" y="743"/>
                    </a:lnTo>
                    <a:lnTo>
                      <a:pt x="273" y="748"/>
                    </a:lnTo>
                    <a:lnTo>
                      <a:pt x="278" y="761"/>
                    </a:lnTo>
                    <a:lnTo>
                      <a:pt x="287" y="779"/>
                    </a:lnTo>
                    <a:lnTo>
                      <a:pt x="297" y="800"/>
                    </a:lnTo>
                    <a:lnTo>
                      <a:pt x="310" y="822"/>
                    </a:lnTo>
                    <a:lnTo>
                      <a:pt x="325" y="844"/>
                    </a:lnTo>
                    <a:lnTo>
                      <a:pt x="334" y="853"/>
                    </a:lnTo>
                    <a:lnTo>
                      <a:pt x="342" y="861"/>
                    </a:lnTo>
                    <a:lnTo>
                      <a:pt x="352" y="869"/>
                    </a:lnTo>
                    <a:lnTo>
                      <a:pt x="361" y="874"/>
                    </a:lnTo>
                    <a:lnTo>
                      <a:pt x="379" y="884"/>
                    </a:lnTo>
                    <a:lnTo>
                      <a:pt x="393" y="892"/>
                    </a:lnTo>
                    <a:lnTo>
                      <a:pt x="403" y="900"/>
                    </a:lnTo>
                    <a:lnTo>
                      <a:pt x="409" y="905"/>
                    </a:lnTo>
                    <a:lnTo>
                      <a:pt x="412" y="909"/>
                    </a:lnTo>
                    <a:lnTo>
                      <a:pt x="415" y="913"/>
                    </a:lnTo>
                    <a:lnTo>
                      <a:pt x="416" y="914"/>
                    </a:lnTo>
                    <a:lnTo>
                      <a:pt x="416" y="916"/>
                    </a:lnTo>
                    <a:lnTo>
                      <a:pt x="420" y="914"/>
                    </a:lnTo>
                    <a:lnTo>
                      <a:pt x="432" y="913"/>
                    </a:lnTo>
                    <a:lnTo>
                      <a:pt x="452" y="911"/>
                    </a:lnTo>
                    <a:lnTo>
                      <a:pt x="474" y="908"/>
                    </a:lnTo>
                    <a:lnTo>
                      <a:pt x="500" y="906"/>
                    </a:lnTo>
                    <a:lnTo>
                      <a:pt x="526" y="903"/>
                    </a:lnTo>
                    <a:lnTo>
                      <a:pt x="551" y="902"/>
                    </a:lnTo>
                    <a:lnTo>
                      <a:pt x="574" y="902"/>
                    </a:lnTo>
                    <a:lnTo>
                      <a:pt x="586" y="891"/>
                    </a:lnTo>
                    <a:lnTo>
                      <a:pt x="622" y="861"/>
                    </a:lnTo>
                    <a:lnTo>
                      <a:pt x="671" y="821"/>
                    </a:lnTo>
                    <a:lnTo>
                      <a:pt x="729" y="772"/>
                    </a:lnTo>
                    <a:lnTo>
                      <a:pt x="789" y="721"/>
                    </a:lnTo>
                    <a:lnTo>
                      <a:pt x="844" y="675"/>
                    </a:lnTo>
                    <a:lnTo>
                      <a:pt x="887" y="636"/>
                    </a:lnTo>
                    <a:lnTo>
                      <a:pt x="913" y="613"/>
                    </a:lnTo>
                    <a:lnTo>
                      <a:pt x="940" y="599"/>
                    </a:lnTo>
                    <a:lnTo>
                      <a:pt x="938" y="598"/>
                    </a:lnTo>
                    <a:lnTo>
                      <a:pt x="930" y="591"/>
                    </a:lnTo>
                    <a:lnTo>
                      <a:pt x="920" y="581"/>
                    </a:lnTo>
                    <a:lnTo>
                      <a:pt x="911" y="566"/>
                    </a:lnTo>
                    <a:lnTo>
                      <a:pt x="900" y="550"/>
                    </a:lnTo>
                    <a:lnTo>
                      <a:pt x="890" y="532"/>
                    </a:lnTo>
                    <a:lnTo>
                      <a:pt x="886" y="521"/>
                    </a:lnTo>
                    <a:lnTo>
                      <a:pt x="882" y="511"/>
                    </a:lnTo>
                    <a:lnTo>
                      <a:pt x="881" y="500"/>
                    </a:lnTo>
                    <a:lnTo>
                      <a:pt x="880" y="489"/>
                    </a:lnTo>
                    <a:lnTo>
                      <a:pt x="652" y="480"/>
                    </a:lnTo>
                    <a:lnTo>
                      <a:pt x="636" y="483"/>
                    </a:lnTo>
                    <a:lnTo>
                      <a:pt x="596" y="486"/>
                    </a:lnTo>
                    <a:lnTo>
                      <a:pt x="569" y="489"/>
                    </a:lnTo>
                    <a:lnTo>
                      <a:pt x="538" y="490"/>
                    </a:lnTo>
                    <a:lnTo>
                      <a:pt x="505" y="491"/>
                    </a:lnTo>
                    <a:lnTo>
                      <a:pt x="471" y="490"/>
                    </a:lnTo>
                    <a:lnTo>
                      <a:pt x="437" y="488"/>
                    </a:lnTo>
                    <a:lnTo>
                      <a:pt x="405" y="484"/>
                    </a:lnTo>
                    <a:lnTo>
                      <a:pt x="389" y="481"/>
                    </a:lnTo>
                    <a:lnTo>
                      <a:pt x="374" y="478"/>
                    </a:lnTo>
                    <a:lnTo>
                      <a:pt x="361" y="473"/>
                    </a:lnTo>
                    <a:lnTo>
                      <a:pt x="347" y="468"/>
                    </a:lnTo>
                    <a:lnTo>
                      <a:pt x="335" y="462"/>
                    </a:lnTo>
                    <a:lnTo>
                      <a:pt x="324" y="456"/>
                    </a:lnTo>
                    <a:lnTo>
                      <a:pt x="314" y="448"/>
                    </a:lnTo>
                    <a:lnTo>
                      <a:pt x="307" y="440"/>
                    </a:lnTo>
                    <a:lnTo>
                      <a:pt x="299" y="431"/>
                    </a:lnTo>
                    <a:lnTo>
                      <a:pt x="294" y="420"/>
                    </a:lnTo>
                    <a:lnTo>
                      <a:pt x="292" y="409"/>
                    </a:lnTo>
                    <a:lnTo>
                      <a:pt x="291" y="397"/>
                    </a:lnTo>
                    <a:lnTo>
                      <a:pt x="296" y="395"/>
                    </a:lnTo>
                    <a:lnTo>
                      <a:pt x="310" y="390"/>
                    </a:lnTo>
                    <a:lnTo>
                      <a:pt x="334" y="385"/>
                    </a:lnTo>
                    <a:lnTo>
                      <a:pt x="362" y="378"/>
                    </a:lnTo>
                    <a:lnTo>
                      <a:pt x="396" y="371"/>
                    </a:lnTo>
                    <a:lnTo>
                      <a:pt x="433" y="363"/>
                    </a:lnTo>
                    <a:lnTo>
                      <a:pt x="474" y="356"/>
                    </a:lnTo>
                    <a:lnTo>
                      <a:pt x="513" y="350"/>
                    </a:lnTo>
                    <a:lnTo>
                      <a:pt x="518" y="350"/>
                    </a:lnTo>
                    <a:lnTo>
                      <a:pt x="529" y="349"/>
                    </a:lnTo>
                    <a:lnTo>
                      <a:pt x="548" y="346"/>
                    </a:lnTo>
                    <a:lnTo>
                      <a:pt x="571" y="344"/>
                    </a:lnTo>
                    <a:lnTo>
                      <a:pt x="598" y="341"/>
                    </a:lnTo>
                    <a:lnTo>
                      <a:pt x="626" y="339"/>
                    </a:lnTo>
                    <a:lnTo>
                      <a:pt x="656" y="337"/>
                    </a:lnTo>
                    <a:lnTo>
                      <a:pt x="684" y="336"/>
                    </a:lnTo>
                    <a:lnTo>
                      <a:pt x="711" y="336"/>
                    </a:lnTo>
                    <a:lnTo>
                      <a:pt x="740" y="334"/>
                    </a:lnTo>
                    <a:lnTo>
                      <a:pt x="767" y="333"/>
                    </a:lnTo>
                    <a:lnTo>
                      <a:pt x="793" y="330"/>
                    </a:lnTo>
                    <a:lnTo>
                      <a:pt x="815" y="328"/>
                    </a:lnTo>
                    <a:lnTo>
                      <a:pt x="832" y="325"/>
                    </a:lnTo>
                    <a:lnTo>
                      <a:pt x="843" y="324"/>
                    </a:lnTo>
                    <a:lnTo>
                      <a:pt x="848" y="323"/>
                    </a:lnTo>
                    <a:lnTo>
                      <a:pt x="745" y="244"/>
                    </a:lnTo>
                    <a:lnTo>
                      <a:pt x="733" y="243"/>
                    </a:lnTo>
                    <a:lnTo>
                      <a:pt x="704" y="237"/>
                    </a:lnTo>
                    <a:lnTo>
                      <a:pt x="662" y="228"/>
                    </a:lnTo>
                    <a:lnTo>
                      <a:pt x="613" y="214"/>
                    </a:lnTo>
                    <a:lnTo>
                      <a:pt x="586" y="207"/>
                    </a:lnTo>
                    <a:lnTo>
                      <a:pt x="560" y="197"/>
                    </a:lnTo>
                    <a:lnTo>
                      <a:pt x="534" y="187"/>
                    </a:lnTo>
                    <a:lnTo>
                      <a:pt x="511" y="176"/>
                    </a:lnTo>
                    <a:lnTo>
                      <a:pt x="489" y="164"/>
                    </a:lnTo>
                    <a:lnTo>
                      <a:pt x="469" y="152"/>
                    </a:lnTo>
                    <a:lnTo>
                      <a:pt x="460" y="144"/>
                    </a:lnTo>
                    <a:lnTo>
                      <a:pt x="453" y="137"/>
                    </a:lnTo>
                    <a:lnTo>
                      <a:pt x="446" y="130"/>
                    </a:lnTo>
                    <a:lnTo>
                      <a:pt x="441" y="122"/>
                    </a:lnTo>
                    <a:lnTo>
                      <a:pt x="431" y="106"/>
                    </a:lnTo>
                    <a:lnTo>
                      <a:pt x="423" y="90"/>
                    </a:lnTo>
                    <a:lnTo>
                      <a:pt x="417" y="77"/>
                    </a:lnTo>
                    <a:lnTo>
                      <a:pt x="412" y="63"/>
                    </a:lnTo>
                    <a:lnTo>
                      <a:pt x="409" y="51"/>
                    </a:lnTo>
                    <a:lnTo>
                      <a:pt x="407" y="39"/>
                    </a:lnTo>
                    <a:lnTo>
                      <a:pt x="406" y="29"/>
                    </a:lnTo>
                    <a:lnTo>
                      <a:pt x="407" y="20"/>
                    </a:lnTo>
                    <a:lnTo>
                      <a:pt x="409" y="13"/>
                    </a:lnTo>
                    <a:lnTo>
                      <a:pt x="412" y="8"/>
                    </a:lnTo>
                    <a:lnTo>
                      <a:pt x="417" y="3"/>
                    </a:lnTo>
                    <a:lnTo>
                      <a:pt x="423" y="0"/>
                    </a:lnTo>
                    <a:lnTo>
                      <a:pt x="431" y="0"/>
                    </a:lnTo>
                    <a:lnTo>
                      <a:pt x="439" y="2"/>
                    </a:lnTo>
                    <a:lnTo>
                      <a:pt x="451" y="5"/>
                    </a:lnTo>
                    <a:lnTo>
                      <a:pt x="462" y="10"/>
                    </a:lnTo>
                    <a:lnTo>
                      <a:pt x="490" y="23"/>
                    </a:lnTo>
                    <a:lnTo>
                      <a:pt x="522" y="36"/>
                    </a:lnTo>
                    <a:lnTo>
                      <a:pt x="556" y="48"/>
                    </a:lnTo>
                    <a:lnTo>
                      <a:pt x="591" y="61"/>
                    </a:lnTo>
                    <a:lnTo>
                      <a:pt x="622" y="71"/>
                    </a:lnTo>
                    <a:lnTo>
                      <a:pt x="647" y="79"/>
                    </a:lnTo>
                    <a:lnTo>
                      <a:pt x="665" y="84"/>
                    </a:lnTo>
                    <a:lnTo>
                      <a:pt x="671" y="87"/>
                    </a:lnTo>
                    <a:lnTo>
                      <a:pt x="676" y="88"/>
                    </a:lnTo>
                    <a:lnTo>
                      <a:pt x="687" y="89"/>
                    </a:lnTo>
                    <a:lnTo>
                      <a:pt x="703" y="91"/>
                    </a:lnTo>
                    <a:lnTo>
                      <a:pt x="722" y="96"/>
                    </a:lnTo>
                    <a:lnTo>
                      <a:pt x="746" y="101"/>
                    </a:lnTo>
                    <a:lnTo>
                      <a:pt x="768" y="107"/>
                    </a:lnTo>
                    <a:lnTo>
                      <a:pt x="790" y="114"/>
                    </a:lnTo>
                    <a:lnTo>
                      <a:pt x="810" y="122"/>
                    </a:lnTo>
                    <a:lnTo>
                      <a:pt x="820" y="127"/>
                    </a:lnTo>
                    <a:lnTo>
                      <a:pt x="832" y="135"/>
                    </a:lnTo>
                    <a:lnTo>
                      <a:pt x="847" y="144"/>
                    </a:lnTo>
                    <a:lnTo>
                      <a:pt x="864" y="155"/>
                    </a:lnTo>
                    <a:lnTo>
                      <a:pt x="901" y="181"/>
                    </a:lnTo>
                    <a:lnTo>
                      <a:pt x="940" y="212"/>
                    </a:lnTo>
                    <a:lnTo>
                      <a:pt x="980" y="243"/>
                    </a:lnTo>
                    <a:lnTo>
                      <a:pt x="1016" y="271"/>
                    </a:lnTo>
                    <a:lnTo>
                      <a:pt x="1047" y="296"/>
                    </a:lnTo>
                    <a:lnTo>
                      <a:pt x="1071" y="312"/>
                    </a:lnTo>
                    <a:lnTo>
                      <a:pt x="1079" y="320"/>
                    </a:lnTo>
                    <a:lnTo>
                      <a:pt x="1088" y="331"/>
                    </a:lnTo>
                    <a:lnTo>
                      <a:pt x="1096" y="346"/>
                    </a:lnTo>
                    <a:lnTo>
                      <a:pt x="1104" y="363"/>
                    </a:lnTo>
                    <a:lnTo>
                      <a:pt x="1112" y="382"/>
                    </a:lnTo>
                    <a:lnTo>
                      <a:pt x="1120" y="401"/>
                    </a:lnTo>
                    <a:lnTo>
                      <a:pt x="1127" y="422"/>
                    </a:lnTo>
                    <a:lnTo>
                      <a:pt x="1133" y="442"/>
                    </a:lnTo>
                    <a:lnTo>
                      <a:pt x="1146" y="483"/>
                    </a:lnTo>
                    <a:lnTo>
                      <a:pt x="1154" y="516"/>
                    </a:lnTo>
                    <a:lnTo>
                      <a:pt x="1160" y="539"/>
                    </a:lnTo>
                    <a:lnTo>
                      <a:pt x="1163" y="548"/>
                    </a:lnTo>
                    <a:lnTo>
                      <a:pt x="1164" y="552"/>
                    </a:lnTo>
                    <a:lnTo>
                      <a:pt x="1167" y="558"/>
                    </a:lnTo>
                    <a:lnTo>
                      <a:pt x="1170" y="569"/>
                    </a:lnTo>
                    <a:lnTo>
                      <a:pt x="1175" y="581"/>
                    </a:lnTo>
                    <a:lnTo>
                      <a:pt x="1183" y="596"/>
                    </a:lnTo>
                    <a:lnTo>
                      <a:pt x="1190" y="611"/>
                    </a:lnTo>
                    <a:lnTo>
                      <a:pt x="1200" y="625"/>
                    </a:lnTo>
                    <a:lnTo>
                      <a:pt x="1208" y="638"/>
                    </a:lnTo>
                    <a:lnTo>
                      <a:pt x="1213" y="645"/>
                    </a:lnTo>
                    <a:lnTo>
                      <a:pt x="1217" y="652"/>
                    </a:lnTo>
                    <a:lnTo>
                      <a:pt x="1221" y="660"/>
                    </a:lnTo>
                    <a:lnTo>
                      <a:pt x="1223" y="668"/>
                    </a:lnTo>
                    <a:lnTo>
                      <a:pt x="1227" y="686"/>
                    </a:lnTo>
                    <a:lnTo>
                      <a:pt x="1228" y="703"/>
                    </a:lnTo>
                    <a:lnTo>
                      <a:pt x="1229" y="719"/>
                    </a:lnTo>
                    <a:lnTo>
                      <a:pt x="1229" y="732"/>
                    </a:lnTo>
                    <a:lnTo>
                      <a:pt x="1228" y="741"/>
                    </a:lnTo>
                    <a:lnTo>
                      <a:pt x="1228" y="743"/>
                    </a:lnTo>
                    <a:lnTo>
                      <a:pt x="1231" y="753"/>
                    </a:lnTo>
                    <a:lnTo>
                      <a:pt x="1237" y="779"/>
                    </a:lnTo>
                    <a:lnTo>
                      <a:pt x="1245" y="817"/>
                    </a:lnTo>
                    <a:lnTo>
                      <a:pt x="1256" y="861"/>
                    </a:lnTo>
                    <a:lnTo>
                      <a:pt x="1266" y="909"/>
                    </a:lnTo>
                    <a:lnTo>
                      <a:pt x="1276" y="954"/>
                    </a:lnTo>
                    <a:lnTo>
                      <a:pt x="1283" y="992"/>
                    </a:lnTo>
                    <a:lnTo>
                      <a:pt x="1288" y="1019"/>
                    </a:lnTo>
                    <a:lnTo>
                      <a:pt x="1290" y="1040"/>
                    </a:lnTo>
                    <a:lnTo>
                      <a:pt x="1290" y="1062"/>
                    </a:lnTo>
                    <a:lnTo>
                      <a:pt x="1290" y="1073"/>
                    </a:lnTo>
                    <a:lnTo>
                      <a:pt x="1288" y="1085"/>
                    </a:lnTo>
                    <a:lnTo>
                      <a:pt x="1286" y="1098"/>
                    </a:lnTo>
                    <a:lnTo>
                      <a:pt x="1283" y="1110"/>
                    </a:lnTo>
                    <a:lnTo>
                      <a:pt x="1280" y="1123"/>
                    </a:lnTo>
                    <a:lnTo>
                      <a:pt x="1276" y="1137"/>
                    </a:lnTo>
                    <a:lnTo>
                      <a:pt x="1270" y="1151"/>
                    </a:lnTo>
                    <a:lnTo>
                      <a:pt x="1264" y="1165"/>
                    </a:lnTo>
                    <a:lnTo>
                      <a:pt x="1255" y="1181"/>
                    </a:lnTo>
                    <a:lnTo>
                      <a:pt x="1245" y="1197"/>
                    </a:lnTo>
                    <a:lnTo>
                      <a:pt x="1235" y="1213"/>
                    </a:lnTo>
                    <a:lnTo>
                      <a:pt x="1223" y="1230"/>
                    </a:lnTo>
                    <a:lnTo>
                      <a:pt x="1195" y="1265"/>
                    </a:lnTo>
                    <a:lnTo>
                      <a:pt x="1167" y="1302"/>
                    </a:lnTo>
                    <a:lnTo>
                      <a:pt x="1138" y="1339"/>
                    </a:lnTo>
                    <a:lnTo>
                      <a:pt x="1110" y="1378"/>
                    </a:lnTo>
                    <a:lnTo>
                      <a:pt x="1082" y="1417"/>
                    </a:lnTo>
                    <a:lnTo>
                      <a:pt x="1055" y="1456"/>
                    </a:lnTo>
                    <a:lnTo>
                      <a:pt x="1026" y="1495"/>
                    </a:lnTo>
                    <a:lnTo>
                      <a:pt x="999" y="1532"/>
                    </a:lnTo>
                    <a:lnTo>
                      <a:pt x="984" y="1551"/>
                    </a:lnTo>
                    <a:lnTo>
                      <a:pt x="966" y="1572"/>
                    </a:lnTo>
                    <a:lnTo>
                      <a:pt x="945" y="1595"/>
                    </a:lnTo>
                    <a:lnTo>
                      <a:pt x="923" y="1619"/>
                    </a:lnTo>
                    <a:lnTo>
                      <a:pt x="873" y="1668"/>
                    </a:lnTo>
                    <a:lnTo>
                      <a:pt x="818" y="1718"/>
                    </a:lnTo>
                    <a:lnTo>
                      <a:pt x="765" y="1766"/>
                    </a:lnTo>
                    <a:lnTo>
                      <a:pt x="716" y="1807"/>
                    </a:lnTo>
                    <a:lnTo>
                      <a:pt x="674" y="1842"/>
                    </a:lnTo>
                    <a:lnTo>
                      <a:pt x="644" y="1866"/>
                    </a:lnTo>
                    <a:lnTo>
                      <a:pt x="638" y="1870"/>
                    </a:lnTo>
                    <a:lnTo>
                      <a:pt x="633" y="1876"/>
                    </a:lnTo>
                    <a:lnTo>
                      <a:pt x="626" y="1884"/>
                    </a:lnTo>
                    <a:lnTo>
                      <a:pt x="622" y="1891"/>
                    </a:lnTo>
                    <a:lnTo>
                      <a:pt x="612" y="1907"/>
                    </a:lnTo>
                    <a:lnTo>
                      <a:pt x="603" y="1927"/>
                    </a:lnTo>
                    <a:lnTo>
                      <a:pt x="596" y="1949"/>
                    </a:lnTo>
                    <a:lnTo>
                      <a:pt x="590" y="1972"/>
                    </a:lnTo>
                    <a:lnTo>
                      <a:pt x="583" y="1997"/>
                    </a:lnTo>
                    <a:lnTo>
                      <a:pt x="578" y="2023"/>
                    </a:lnTo>
                    <a:lnTo>
                      <a:pt x="575" y="2047"/>
                    </a:lnTo>
                    <a:lnTo>
                      <a:pt x="571" y="2073"/>
                    </a:lnTo>
                    <a:lnTo>
                      <a:pt x="569" y="2098"/>
                    </a:lnTo>
                    <a:lnTo>
                      <a:pt x="567" y="2121"/>
                    </a:lnTo>
                    <a:lnTo>
                      <a:pt x="565" y="2163"/>
                    </a:lnTo>
                    <a:lnTo>
                      <a:pt x="565" y="2195"/>
                    </a:lnTo>
                    <a:lnTo>
                      <a:pt x="567" y="2230"/>
                    </a:lnTo>
                    <a:lnTo>
                      <a:pt x="572" y="2280"/>
                    </a:lnTo>
                    <a:lnTo>
                      <a:pt x="578" y="2341"/>
                    </a:lnTo>
                    <a:lnTo>
                      <a:pt x="587" y="2412"/>
                    </a:lnTo>
                    <a:lnTo>
                      <a:pt x="608" y="2579"/>
                    </a:lnTo>
                    <a:lnTo>
                      <a:pt x="633" y="2766"/>
                    </a:lnTo>
                    <a:lnTo>
                      <a:pt x="646" y="2861"/>
                    </a:lnTo>
                    <a:lnTo>
                      <a:pt x="660" y="2956"/>
                    </a:lnTo>
                    <a:lnTo>
                      <a:pt x="674" y="3050"/>
                    </a:lnTo>
                    <a:lnTo>
                      <a:pt x="689" y="3139"/>
                    </a:lnTo>
                    <a:lnTo>
                      <a:pt x="703" y="3223"/>
                    </a:lnTo>
                    <a:lnTo>
                      <a:pt x="718" y="3298"/>
                    </a:lnTo>
                    <a:lnTo>
                      <a:pt x="731" y="3365"/>
                    </a:lnTo>
                    <a:lnTo>
                      <a:pt x="745" y="3420"/>
                    </a:lnTo>
                    <a:lnTo>
                      <a:pt x="772" y="3535"/>
                    </a:lnTo>
                    <a:lnTo>
                      <a:pt x="801" y="3679"/>
                    </a:lnTo>
                    <a:lnTo>
                      <a:pt x="836" y="3843"/>
                    </a:lnTo>
                    <a:lnTo>
                      <a:pt x="871" y="4014"/>
                    </a:lnTo>
                    <a:lnTo>
                      <a:pt x="890" y="4100"/>
                    </a:lnTo>
                    <a:lnTo>
                      <a:pt x="908" y="4185"/>
                    </a:lnTo>
                    <a:lnTo>
                      <a:pt x="928" y="4267"/>
                    </a:lnTo>
                    <a:lnTo>
                      <a:pt x="946" y="4346"/>
                    </a:lnTo>
                    <a:lnTo>
                      <a:pt x="965" y="4420"/>
                    </a:lnTo>
                    <a:lnTo>
                      <a:pt x="983" y="4486"/>
                    </a:lnTo>
                    <a:lnTo>
                      <a:pt x="1002" y="4547"/>
                    </a:lnTo>
                    <a:lnTo>
                      <a:pt x="1019" y="4598"/>
                    </a:lnTo>
                    <a:lnTo>
                      <a:pt x="1036" y="4647"/>
                    </a:lnTo>
                    <a:lnTo>
                      <a:pt x="1053" y="4703"/>
                    </a:lnTo>
                    <a:lnTo>
                      <a:pt x="1069" y="4761"/>
                    </a:lnTo>
                    <a:lnTo>
                      <a:pt x="1084" y="4822"/>
                    </a:lnTo>
                    <a:lnTo>
                      <a:pt x="1098" y="4886"/>
                    </a:lnTo>
                    <a:lnTo>
                      <a:pt x="1110" y="4952"/>
                    </a:lnTo>
                    <a:lnTo>
                      <a:pt x="1115" y="4987"/>
                    </a:lnTo>
                    <a:lnTo>
                      <a:pt x="1120" y="5020"/>
                    </a:lnTo>
                    <a:lnTo>
                      <a:pt x="1123" y="5055"/>
                    </a:lnTo>
                    <a:lnTo>
                      <a:pt x="1127" y="5089"/>
                    </a:lnTo>
                    <a:lnTo>
                      <a:pt x="1130" y="5122"/>
                    </a:lnTo>
                    <a:lnTo>
                      <a:pt x="1132" y="5157"/>
                    </a:lnTo>
                    <a:lnTo>
                      <a:pt x="1133" y="5190"/>
                    </a:lnTo>
                    <a:lnTo>
                      <a:pt x="1133" y="5223"/>
                    </a:lnTo>
                    <a:lnTo>
                      <a:pt x="1133" y="5256"/>
                    </a:lnTo>
                    <a:lnTo>
                      <a:pt x="1132" y="5289"/>
                    </a:lnTo>
                    <a:lnTo>
                      <a:pt x="1130" y="5320"/>
                    </a:lnTo>
                    <a:lnTo>
                      <a:pt x="1126" y="5352"/>
                    </a:lnTo>
                    <a:lnTo>
                      <a:pt x="1121" y="5383"/>
                    </a:lnTo>
                    <a:lnTo>
                      <a:pt x="1116" y="5412"/>
                    </a:lnTo>
                    <a:lnTo>
                      <a:pt x="1109" y="5441"/>
                    </a:lnTo>
                    <a:lnTo>
                      <a:pt x="1101" y="5469"/>
                    </a:lnTo>
                    <a:lnTo>
                      <a:pt x="1092" y="5496"/>
                    </a:lnTo>
                    <a:lnTo>
                      <a:pt x="1082" y="5521"/>
                    </a:lnTo>
                    <a:lnTo>
                      <a:pt x="1069" y="5545"/>
                    </a:lnTo>
                    <a:lnTo>
                      <a:pt x="1057" y="5569"/>
                    </a:lnTo>
                    <a:lnTo>
                      <a:pt x="1008" y="5650"/>
                    </a:lnTo>
                    <a:lnTo>
                      <a:pt x="968" y="5720"/>
                    </a:lnTo>
                    <a:lnTo>
                      <a:pt x="938" y="5780"/>
                    </a:lnTo>
                    <a:lnTo>
                      <a:pt x="912" y="5831"/>
                    </a:lnTo>
                    <a:lnTo>
                      <a:pt x="891" y="5875"/>
                    </a:lnTo>
                    <a:lnTo>
                      <a:pt x="871" y="5912"/>
                    </a:lnTo>
                    <a:lnTo>
                      <a:pt x="853" y="5945"/>
                    </a:lnTo>
                    <a:lnTo>
                      <a:pt x="834" y="5976"/>
                    </a:lnTo>
                    <a:lnTo>
                      <a:pt x="822" y="5991"/>
                    </a:lnTo>
                    <a:lnTo>
                      <a:pt x="806" y="6007"/>
                    </a:lnTo>
                    <a:lnTo>
                      <a:pt x="788" y="6024"/>
                    </a:lnTo>
                    <a:lnTo>
                      <a:pt x="765" y="6040"/>
                    </a:lnTo>
                    <a:lnTo>
                      <a:pt x="741" y="6056"/>
                    </a:lnTo>
                    <a:lnTo>
                      <a:pt x="715" y="6071"/>
                    </a:lnTo>
                    <a:lnTo>
                      <a:pt x="687" y="6084"/>
                    </a:lnTo>
                    <a:lnTo>
                      <a:pt x="657" y="6095"/>
                    </a:lnTo>
                    <a:lnTo>
                      <a:pt x="642" y="6100"/>
                    </a:lnTo>
                    <a:lnTo>
                      <a:pt x="628" y="6105"/>
                    </a:lnTo>
                    <a:lnTo>
                      <a:pt x="613" y="6107"/>
                    </a:lnTo>
                    <a:lnTo>
                      <a:pt x="598" y="6111"/>
                    </a:lnTo>
                    <a:lnTo>
                      <a:pt x="582" y="6112"/>
                    </a:lnTo>
                    <a:lnTo>
                      <a:pt x="567" y="6114"/>
                    </a:lnTo>
                    <a:lnTo>
                      <a:pt x="554" y="6115"/>
                    </a:lnTo>
                    <a:lnTo>
                      <a:pt x="539" y="6114"/>
                    </a:lnTo>
                    <a:lnTo>
                      <a:pt x="526" y="6112"/>
                    </a:lnTo>
                    <a:lnTo>
                      <a:pt x="511" y="6110"/>
                    </a:lnTo>
                    <a:lnTo>
                      <a:pt x="499" y="6106"/>
                    </a:lnTo>
                    <a:lnTo>
                      <a:pt x="485" y="6101"/>
                    </a:lnTo>
                    <a:lnTo>
                      <a:pt x="473" y="6095"/>
                    </a:lnTo>
                    <a:lnTo>
                      <a:pt x="462" y="6087"/>
                    </a:lnTo>
                    <a:lnTo>
                      <a:pt x="451" y="6078"/>
                    </a:lnTo>
                    <a:lnTo>
                      <a:pt x="441" y="6068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7383600" y="2457720"/>
                <a:ext cx="125280" cy="177480"/>
              </a:xfrm>
              <a:custGeom>
                <a:avLst/>
                <a:gdLst/>
                <a:ahLst/>
                <a:rect l="l" t="t" r="r" b="b"/>
                <a:pathLst>
                  <a:path w="397" h="560">
                    <a:moveTo>
                      <a:pt x="226" y="13"/>
                    </a:moveTo>
                    <a:lnTo>
                      <a:pt x="230" y="17"/>
                    </a:lnTo>
                    <a:lnTo>
                      <a:pt x="241" y="28"/>
                    </a:lnTo>
                    <a:lnTo>
                      <a:pt x="257" y="45"/>
                    </a:lnTo>
                    <a:lnTo>
                      <a:pt x="277" y="70"/>
                    </a:lnTo>
                    <a:lnTo>
                      <a:pt x="288" y="84"/>
                    </a:lnTo>
                    <a:lnTo>
                      <a:pt x="298" y="99"/>
                    </a:lnTo>
                    <a:lnTo>
                      <a:pt x="309" y="115"/>
                    </a:lnTo>
                    <a:lnTo>
                      <a:pt x="320" y="133"/>
                    </a:lnTo>
                    <a:lnTo>
                      <a:pt x="330" y="152"/>
                    </a:lnTo>
                    <a:lnTo>
                      <a:pt x="339" y="172"/>
                    </a:lnTo>
                    <a:lnTo>
                      <a:pt x="348" y="193"/>
                    </a:lnTo>
                    <a:lnTo>
                      <a:pt x="357" y="214"/>
                    </a:lnTo>
                    <a:lnTo>
                      <a:pt x="370" y="259"/>
                    </a:lnTo>
                    <a:lnTo>
                      <a:pt x="384" y="306"/>
                    </a:lnTo>
                    <a:lnTo>
                      <a:pt x="389" y="330"/>
                    </a:lnTo>
                    <a:lnTo>
                      <a:pt x="392" y="353"/>
                    </a:lnTo>
                    <a:lnTo>
                      <a:pt x="396" y="376"/>
                    </a:lnTo>
                    <a:lnTo>
                      <a:pt x="397" y="398"/>
                    </a:lnTo>
                    <a:lnTo>
                      <a:pt x="397" y="419"/>
                    </a:lnTo>
                    <a:lnTo>
                      <a:pt x="396" y="440"/>
                    </a:lnTo>
                    <a:lnTo>
                      <a:pt x="394" y="460"/>
                    </a:lnTo>
                    <a:lnTo>
                      <a:pt x="389" y="478"/>
                    </a:lnTo>
                    <a:lnTo>
                      <a:pt x="385" y="487"/>
                    </a:lnTo>
                    <a:lnTo>
                      <a:pt x="381" y="496"/>
                    </a:lnTo>
                    <a:lnTo>
                      <a:pt x="376" y="503"/>
                    </a:lnTo>
                    <a:lnTo>
                      <a:pt x="371" y="512"/>
                    </a:lnTo>
                    <a:lnTo>
                      <a:pt x="365" y="518"/>
                    </a:lnTo>
                    <a:lnTo>
                      <a:pt x="359" y="525"/>
                    </a:lnTo>
                    <a:lnTo>
                      <a:pt x="353" y="531"/>
                    </a:lnTo>
                    <a:lnTo>
                      <a:pt x="346" y="537"/>
                    </a:lnTo>
                    <a:lnTo>
                      <a:pt x="337" y="542"/>
                    </a:lnTo>
                    <a:lnTo>
                      <a:pt x="327" y="547"/>
                    </a:lnTo>
                    <a:lnTo>
                      <a:pt x="319" y="551"/>
                    </a:lnTo>
                    <a:lnTo>
                      <a:pt x="307" y="553"/>
                    </a:lnTo>
                    <a:lnTo>
                      <a:pt x="298" y="556"/>
                    </a:lnTo>
                    <a:lnTo>
                      <a:pt x="287" y="558"/>
                    </a:lnTo>
                    <a:lnTo>
                      <a:pt x="275" y="558"/>
                    </a:lnTo>
                    <a:lnTo>
                      <a:pt x="263" y="560"/>
                    </a:lnTo>
                    <a:lnTo>
                      <a:pt x="240" y="558"/>
                    </a:lnTo>
                    <a:lnTo>
                      <a:pt x="215" y="555"/>
                    </a:lnTo>
                    <a:lnTo>
                      <a:pt x="191" y="548"/>
                    </a:lnTo>
                    <a:lnTo>
                      <a:pt x="166" y="540"/>
                    </a:lnTo>
                    <a:lnTo>
                      <a:pt x="141" y="530"/>
                    </a:lnTo>
                    <a:lnTo>
                      <a:pt x="118" y="518"/>
                    </a:lnTo>
                    <a:lnTo>
                      <a:pt x="96" y="503"/>
                    </a:lnTo>
                    <a:lnTo>
                      <a:pt x="75" y="487"/>
                    </a:lnTo>
                    <a:lnTo>
                      <a:pt x="65" y="478"/>
                    </a:lnTo>
                    <a:lnTo>
                      <a:pt x="57" y="470"/>
                    </a:lnTo>
                    <a:lnTo>
                      <a:pt x="48" y="460"/>
                    </a:lnTo>
                    <a:lnTo>
                      <a:pt x="41" y="450"/>
                    </a:lnTo>
                    <a:lnTo>
                      <a:pt x="33" y="440"/>
                    </a:lnTo>
                    <a:lnTo>
                      <a:pt x="27" y="429"/>
                    </a:lnTo>
                    <a:lnTo>
                      <a:pt x="21" y="418"/>
                    </a:lnTo>
                    <a:lnTo>
                      <a:pt x="16" y="407"/>
                    </a:lnTo>
                    <a:lnTo>
                      <a:pt x="12" y="395"/>
                    </a:lnTo>
                    <a:lnTo>
                      <a:pt x="9" y="382"/>
                    </a:lnTo>
                    <a:lnTo>
                      <a:pt x="6" y="370"/>
                    </a:lnTo>
                    <a:lnTo>
                      <a:pt x="4" y="357"/>
                    </a:lnTo>
                    <a:lnTo>
                      <a:pt x="1" y="331"/>
                    </a:lnTo>
                    <a:lnTo>
                      <a:pt x="0" y="302"/>
                    </a:lnTo>
                    <a:lnTo>
                      <a:pt x="1" y="275"/>
                    </a:lnTo>
                    <a:lnTo>
                      <a:pt x="4" y="247"/>
                    </a:lnTo>
                    <a:lnTo>
                      <a:pt x="7" y="220"/>
                    </a:lnTo>
                    <a:lnTo>
                      <a:pt x="13" y="193"/>
                    </a:lnTo>
                    <a:lnTo>
                      <a:pt x="20" y="168"/>
                    </a:lnTo>
                    <a:lnTo>
                      <a:pt x="27" y="144"/>
                    </a:lnTo>
                    <a:lnTo>
                      <a:pt x="36" y="120"/>
                    </a:lnTo>
                    <a:lnTo>
                      <a:pt x="45" y="101"/>
                    </a:lnTo>
                    <a:lnTo>
                      <a:pt x="55" y="82"/>
                    </a:lnTo>
                    <a:lnTo>
                      <a:pt x="66" y="66"/>
                    </a:lnTo>
                    <a:lnTo>
                      <a:pt x="71" y="60"/>
                    </a:lnTo>
                    <a:lnTo>
                      <a:pt x="76" y="54"/>
                    </a:lnTo>
                    <a:lnTo>
                      <a:pt x="82" y="49"/>
                    </a:lnTo>
                    <a:lnTo>
                      <a:pt x="87" y="45"/>
                    </a:lnTo>
                    <a:lnTo>
                      <a:pt x="108" y="32"/>
                    </a:lnTo>
                    <a:lnTo>
                      <a:pt x="127" y="20"/>
                    </a:lnTo>
                    <a:lnTo>
                      <a:pt x="144" y="10"/>
                    </a:lnTo>
                    <a:lnTo>
                      <a:pt x="160" y="4"/>
                    </a:lnTo>
                    <a:lnTo>
                      <a:pt x="167" y="2"/>
                    </a:lnTo>
                    <a:lnTo>
                      <a:pt x="175" y="1"/>
                    </a:lnTo>
                    <a:lnTo>
                      <a:pt x="183" y="0"/>
                    </a:lnTo>
                    <a:lnTo>
                      <a:pt x="191" y="1"/>
                    </a:lnTo>
                    <a:lnTo>
                      <a:pt x="199" y="2"/>
                    </a:lnTo>
                    <a:lnTo>
                      <a:pt x="208" y="5"/>
                    </a:lnTo>
                    <a:lnTo>
                      <a:pt x="216" y="8"/>
                    </a:lnTo>
                    <a:lnTo>
                      <a:pt x="226" y="1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7389720" y="2462400"/>
                <a:ext cx="114480" cy="158760"/>
              </a:xfrm>
              <a:custGeom>
                <a:avLst/>
                <a:gdLst/>
                <a:ahLst/>
                <a:rect l="l" t="t" r="r" b="b"/>
                <a:pathLst>
                  <a:path w="356" h="500">
                    <a:moveTo>
                      <a:pt x="309" y="480"/>
                    </a:moveTo>
                    <a:lnTo>
                      <a:pt x="302" y="485"/>
                    </a:lnTo>
                    <a:lnTo>
                      <a:pt x="293" y="489"/>
                    </a:lnTo>
                    <a:lnTo>
                      <a:pt x="284" y="492"/>
                    </a:lnTo>
                    <a:lnTo>
                      <a:pt x="276" y="495"/>
                    </a:lnTo>
                    <a:lnTo>
                      <a:pt x="266" y="497"/>
                    </a:lnTo>
                    <a:lnTo>
                      <a:pt x="256" y="499"/>
                    </a:lnTo>
                    <a:lnTo>
                      <a:pt x="246" y="500"/>
                    </a:lnTo>
                    <a:lnTo>
                      <a:pt x="237" y="500"/>
                    </a:lnTo>
                    <a:lnTo>
                      <a:pt x="216" y="499"/>
                    </a:lnTo>
                    <a:lnTo>
                      <a:pt x="193" y="496"/>
                    </a:lnTo>
                    <a:lnTo>
                      <a:pt x="171" y="491"/>
                    </a:lnTo>
                    <a:lnTo>
                      <a:pt x="149" y="484"/>
                    </a:lnTo>
                    <a:lnTo>
                      <a:pt x="127" y="474"/>
                    </a:lnTo>
                    <a:lnTo>
                      <a:pt x="106" y="463"/>
                    </a:lnTo>
                    <a:lnTo>
                      <a:pt x="86" y="451"/>
                    </a:lnTo>
                    <a:lnTo>
                      <a:pt x="68" y="436"/>
                    </a:lnTo>
                    <a:lnTo>
                      <a:pt x="59" y="428"/>
                    </a:lnTo>
                    <a:lnTo>
                      <a:pt x="51" y="421"/>
                    </a:lnTo>
                    <a:lnTo>
                      <a:pt x="43" y="412"/>
                    </a:lnTo>
                    <a:lnTo>
                      <a:pt x="36" y="403"/>
                    </a:lnTo>
                    <a:lnTo>
                      <a:pt x="30" y="394"/>
                    </a:lnTo>
                    <a:lnTo>
                      <a:pt x="25" y="384"/>
                    </a:lnTo>
                    <a:lnTo>
                      <a:pt x="20" y="374"/>
                    </a:lnTo>
                    <a:lnTo>
                      <a:pt x="15" y="364"/>
                    </a:lnTo>
                    <a:lnTo>
                      <a:pt x="9" y="342"/>
                    </a:lnTo>
                    <a:lnTo>
                      <a:pt x="4" y="319"/>
                    </a:lnTo>
                    <a:lnTo>
                      <a:pt x="2" y="296"/>
                    </a:lnTo>
                    <a:lnTo>
                      <a:pt x="0" y="271"/>
                    </a:lnTo>
                    <a:lnTo>
                      <a:pt x="2" y="246"/>
                    </a:lnTo>
                    <a:lnTo>
                      <a:pt x="4" y="222"/>
                    </a:lnTo>
                    <a:lnTo>
                      <a:pt x="8" y="197"/>
                    </a:lnTo>
                    <a:lnTo>
                      <a:pt x="13" y="174"/>
                    </a:lnTo>
                    <a:lnTo>
                      <a:pt x="19" y="150"/>
                    </a:lnTo>
                    <a:lnTo>
                      <a:pt x="25" y="130"/>
                    </a:lnTo>
                    <a:lnTo>
                      <a:pt x="34" y="109"/>
                    </a:lnTo>
                    <a:lnTo>
                      <a:pt x="42" y="90"/>
                    </a:lnTo>
                    <a:lnTo>
                      <a:pt x="51" y="74"/>
                    </a:lnTo>
                    <a:lnTo>
                      <a:pt x="61" y="61"/>
                    </a:lnTo>
                    <a:lnTo>
                      <a:pt x="70" y="48"/>
                    </a:lnTo>
                    <a:lnTo>
                      <a:pt x="80" y="41"/>
                    </a:lnTo>
                    <a:lnTo>
                      <a:pt x="99" y="29"/>
                    </a:lnTo>
                    <a:lnTo>
                      <a:pt x="115" y="18"/>
                    </a:lnTo>
                    <a:lnTo>
                      <a:pt x="129" y="10"/>
                    </a:lnTo>
                    <a:lnTo>
                      <a:pt x="143" y="4"/>
                    </a:lnTo>
                    <a:lnTo>
                      <a:pt x="150" y="3"/>
                    </a:lnTo>
                    <a:lnTo>
                      <a:pt x="158" y="2"/>
                    </a:lnTo>
                    <a:lnTo>
                      <a:pt x="164" y="0"/>
                    </a:lnTo>
                    <a:lnTo>
                      <a:pt x="171" y="2"/>
                    </a:lnTo>
                    <a:lnTo>
                      <a:pt x="179" y="3"/>
                    </a:lnTo>
                    <a:lnTo>
                      <a:pt x="186" y="4"/>
                    </a:lnTo>
                    <a:lnTo>
                      <a:pt x="195" y="7"/>
                    </a:lnTo>
                    <a:lnTo>
                      <a:pt x="203" y="10"/>
                    </a:lnTo>
                    <a:lnTo>
                      <a:pt x="206" y="14"/>
                    </a:lnTo>
                    <a:lnTo>
                      <a:pt x="216" y="24"/>
                    </a:lnTo>
                    <a:lnTo>
                      <a:pt x="230" y="41"/>
                    </a:lnTo>
                    <a:lnTo>
                      <a:pt x="248" y="62"/>
                    </a:lnTo>
                    <a:lnTo>
                      <a:pt x="267" y="89"/>
                    </a:lnTo>
                    <a:lnTo>
                      <a:pt x="287" y="120"/>
                    </a:lnTo>
                    <a:lnTo>
                      <a:pt x="296" y="137"/>
                    </a:lnTo>
                    <a:lnTo>
                      <a:pt x="304" y="154"/>
                    </a:lnTo>
                    <a:lnTo>
                      <a:pt x="313" y="174"/>
                    </a:lnTo>
                    <a:lnTo>
                      <a:pt x="319" y="192"/>
                    </a:lnTo>
                    <a:lnTo>
                      <a:pt x="332" y="233"/>
                    </a:lnTo>
                    <a:lnTo>
                      <a:pt x="344" y="275"/>
                    </a:lnTo>
                    <a:lnTo>
                      <a:pt x="348" y="296"/>
                    </a:lnTo>
                    <a:lnTo>
                      <a:pt x="352" y="317"/>
                    </a:lnTo>
                    <a:lnTo>
                      <a:pt x="355" y="336"/>
                    </a:lnTo>
                    <a:lnTo>
                      <a:pt x="356" y="356"/>
                    </a:lnTo>
                    <a:lnTo>
                      <a:pt x="356" y="376"/>
                    </a:lnTo>
                    <a:lnTo>
                      <a:pt x="355" y="394"/>
                    </a:lnTo>
                    <a:lnTo>
                      <a:pt x="352" y="411"/>
                    </a:lnTo>
                    <a:lnTo>
                      <a:pt x="347" y="427"/>
                    </a:lnTo>
                    <a:lnTo>
                      <a:pt x="341" y="443"/>
                    </a:lnTo>
                    <a:lnTo>
                      <a:pt x="332" y="457"/>
                    </a:lnTo>
                    <a:lnTo>
                      <a:pt x="328" y="464"/>
                    </a:lnTo>
                    <a:lnTo>
                      <a:pt x="321" y="470"/>
                    </a:lnTo>
                    <a:lnTo>
                      <a:pt x="315" y="475"/>
                    </a:lnTo>
                    <a:lnTo>
                      <a:pt x="309" y="480"/>
                    </a:lnTo>
                    <a:close/>
                  </a:path>
                </a:pathLst>
              </a:custGeom>
              <a:solidFill>
                <a:srgbClr val="6f5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7397640" y="2465640"/>
                <a:ext cx="100080" cy="139680"/>
              </a:xfrm>
              <a:custGeom>
                <a:avLst/>
                <a:gdLst/>
                <a:ahLst/>
                <a:rect l="l" t="t" r="r" b="b"/>
                <a:pathLst>
                  <a:path w="314" h="440">
                    <a:moveTo>
                      <a:pt x="271" y="423"/>
                    </a:moveTo>
                    <a:lnTo>
                      <a:pt x="263" y="427"/>
                    </a:lnTo>
                    <a:lnTo>
                      <a:pt x="257" y="430"/>
                    </a:lnTo>
                    <a:lnTo>
                      <a:pt x="250" y="434"/>
                    </a:lnTo>
                    <a:lnTo>
                      <a:pt x="242" y="437"/>
                    </a:lnTo>
                    <a:lnTo>
                      <a:pt x="225" y="439"/>
                    </a:lnTo>
                    <a:lnTo>
                      <a:pt x="208" y="440"/>
                    </a:lnTo>
                    <a:lnTo>
                      <a:pt x="189" y="439"/>
                    </a:lnTo>
                    <a:lnTo>
                      <a:pt x="170" y="437"/>
                    </a:lnTo>
                    <a:lnTo>
                      <a:pt x="150" y="432"/>
                    </a:lnTo>
                    <a:lnTo>
                      <a:pt x="130" y="426"/>
                    </a:lnTo>
                    <a:lnTo>
                      <a:pt x="112" y="418"/>
                    </a:lnTo>
                    <a:lnTo>
                      <a:pt x="93" y="408"/>
                    </a:lnTo>
                    <a:lnTo>
                      <a:pt x="75" y="397"/>
                    </a:lnTo>
                    <a:lnTo>
                      <a:pt x="59" y="384"/>
                    </a:lnTo>
                    <a:lnTo>
                      <a:pt x="44" y="370"/>
                    </a:lnTo>
                    <a:lnTo>
                      <a:pt x="32" y="354"/>
                    </a:lnTo>
                    <a:lnTo>
                      <a:pt x="26" y="347"/>
                    </a:lnTo>
                    <a:lnTo>
                      <a:pt x="21" y="338"/>
                    </a:lnTo>
                    <a:lnTo>
                      <a:pt x="16" y="330"/>
                    </a:lnTo>
                    <a:lnTo>
                      <a:pt x="12" y="320"/>
                    </a:lnTo>
                    <a:lnTo>
                      <a:pt x="6" y="301"/>
                    </a:lnTo>
                    <a:lnTo>
                      <a:pt x="2" y="282"/>
                    </a:lnTo>
                    <a:lnTo>
                      <a:pt x="0" y="261"/>
                    </a:lnTo>
                    <a:lnTo>
                      <a:pt x="0" y="239"/>
                    </a:lnTo>
                    <a:lnTo>
                      <a:pt x="0" y="218"/>
                    </a:lnTo>
                    <a:lnTo>
                      <a:pt x="2" y="195"/>
                    </a:lnTo>
                    <a:lnTo>
                      <a:pt x="6" y="173"/>
                    </a:lnTo>
                    <a:lnTo>
                      <a:pt x="10" y="152"/>
                    </a:lnTo>
                    <a:lnTo>
                      <a:pt x="15" y="133"/>
                    </a:lnTo>
                    <a:lnTo>
                      <a:pt x="21" y="113"/>
                    </a:lnTo>
                    <a:lnTo>
                      <a:pt x="28" y="96"/>
                    </a:lnTo>
                    <a:lnTo>
                      <a:pt x="36" y="80"/>
                    </a:lnTo>
                    <a:lnTo>
                      <a:pt x="43" y="65"/>
                    </a:lnTo>
                    <a:lnTo>
                      <a:pt x="52" y="53"/>
                    </a:lnTo>
                    <a:lnTo>
                      <a:pt x="60" y="42"/>
                    </a:lnTo>
                    <a:lnTo>
                      <a:pt x="69" y="34"/>
                    </a:lnTo>
                    <a:lnTo>
                      <a:pt x="85" y="25"/>
                    </a:lnTo>
                    <a:lnTo>
                      <a:pt x="100" y="16"/>
                    </a:lnTo>
                    <a:lnTo>
                      <a:pt x="113" y="9"/>
                    </a:lnTo>
                    <a:lnTo>
                      <a:pt x="125" y="4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44" y="0"/>
                    </a:lnTo>
                    <a:lnTo>
                      <a:pt x="150" y="1"/>
                    </a:lnTo>
                    <a:lnTo>
                      <a:pt x="156" y="2"/>
                    </a:lnTo>
                    <a:lnTo>
                      <a:pt x="164" y="4"/>
                    </a:lnTo>
                    <a:lnTo>
                      <a:pt x="170" y="7"/>
                    </a:lnTo>
                    <a:lnTo>
                      <a:pt x="178" y="10"/>
                    </a:lnTo>
                    <a:lnTo>
                      <a:pt x="181" y="13"/>
                    </a:lnTo>
                    <a:lnTo>
                      <a:pt x="189" y="22"/>
                    </a:lnTo>
                    <a:lnTo>
                      <a:pt x="203" y="37"/>
                    </a:lnTo>
                    <a:lnTo>
                      <a:pt x="218" y="55"/>
                    </a:lnTo>
                    <a:lnTo>
                      <a:pt x="235" y="80"/>
                    </a:lnTo>
                    <a:lnTo>
                      <a:pt x="252" y="107"/>
                    </a:lnTo>
                    <a:lnTo>
                      <a:pt x="261" y="122"/>
                    </a:lnTo>
                    <a:lnTo>
                      <a:pt x="268" y="138"/>
                    </a:lnTo>
                    <a:lnTo>
                      <a:pt x="274" y="154"/>
                    </a:lnTo>
                    <a:lnTo>
                      <a:pt x="280" y="171"/>
                    </a:lnTo>
                    <a:lnTo>
                      <a:pt x="293" y="207"/>
                    </a:lnTo>
                    <a:lnTo>
                      <a:pt x="303" y="242"/>
                    </a:lnTo>
                    <a:lnTo>
                      <a:pt x="306" y="261"/>
                    </a:lnTo>
                    <a:lnTo>
                      <a:pt x="310" y="279"/>
                    </a:lnTo>
                    <a:lnTo>
                      <a:pt x="312" y="296"/>
                    </a:lnTo>
                    <a:lnTo>
                      <a:pt x="314" y="315"/>
                    </a:lnTo>
                    <a:lnTo>
                      <a:pt x="314" y="331"/>
                    </a:lnTo>
                    <a:lnTo>
                      <a:pt x="312" y="347"/>
                    </a:lnTo>
                    <a:lnTo>
                      <a:pt x="309" y="363"/>
                    </a:lnTo>
                    <a:lnTo>
                      <a:pt x="305" y="378"/>
                    </a:lnTo>
                    <a:lnTo>
                      <a:pt x="299" y="391"/>
                    </a:lnTo>
                    <a:lnTo>
                      <a:pt x="291" y="403"/>
                    </a:lnTo>
                    <a:lnTo>
                      <a:pt x="287" y="408"/>
                    </a:lnTo>
                    <a:lnTo>
                      <a:pt x="282" y="413"/>
                    </a:lnTo>
                    <a:lnTo>
                      <a:pt x="277" y="418"/>
                    </a:lnTo>
                    <a:lnTo>
                      <a:pt x="271" y="423"/>
                    </a:lnTo>
                    <a:close/>
                  </a:path>
                </a:pathLst>
              </a:custGeom>
              <a:solidFill>
                <a:srgbClr val="796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7405560" y="2471760"/>
                <a:ext cx="85680" cy="119160"/>
              </a:xfrm>
              <a:custGeom>
                <a:avLst/>
                <a:gdLst/>
                <a:ahLst/>
                <a:rect l="l" t="t" r="r" b="b"/>
                <a:pathLst>
                  <a:path w="270" h="379">
                    <a:moveTo>
                      <a:pt x="234" y="364"/>
                    </a:moveTo>
                    <a:lnTo>
                      <a:pt x="222" y="370"/>
                    </a:lnTo>
                    <a:lnTo>
                      <a:pt x="209" y="375"/>
                    </a:lnTo>
                    <a:lnTo>
                      <a:pt x="194" y="378"/>
                    </a:lnTo>
                    <a:lnTo>
                      <a:pt x="178" y="379"/>
                    </a:lnTo>
                    <a:lnTo>
                      <a:pt x="162" y="378"/>
                    </a:lnTo>
                    <a:lnTo>
                      <a:pt x="146" y="375"/>
                    </a:lnTo>
                    <a:lnTo>
                      <a:pt x="129" y="371"/>
                    </a:lnTo>
                    <a:lnTo>
                      <a:pt x="111" y="365"/>
                    </a:lnTo>
                    <a:lnTo>
                      <a:pt x="95" y="359"/>
                    </a:lnTo>
                    <a:lnTo>
                      <a:pt x="79" y="350"/>
                    </a:lnTo>
                    <a:lnTo>
                      <a:pt x="65" y="341"/>
                    </a:lnTo>
                    <a:lnTo>
                      <a:pt x="50" y="330"/>
                    </a:lnTo>
                    <a:lnTo>
                      <a:pt x="38" y="317"/>
                    </a:lnTo>
                    <a:lnTo>
                      <a:pt x="27" y="304"/>
                    </a:lnTo>
                    <a:lnTo>
                      <a:pt x="18" y="289"/>
                    </a:lnTo>
                    <a:lnTo>
                      <a:pt x="12" y="274"/>
                    </a:lnTo>
                    <a:lnTo>
                      <a:pt x="6" y="258"/>
                    </a:lnTo>
                    <a:lnTo>
                      <a:pt x="2" y="241"/>
                    </a:lnTo>
                    <a:lnTo>
                      <a:pt x="1" y="223"/>
                    </a:lnTo>
                    <a:lnTo>
                      <a:pt x="0" y="204"/>
                    </a:lnTo>
                    <a:lnTo>
                      <a:pt x="0" y="186"/>
                    </a:lnTo>
                    <a:lnTo>
                      <a:pt x="2" y="167"/>
                    </a:lnTo>
                    <a:lnTo>
                      <a:pt x="4" y="149"/>
                    </a:lnTo>
                    <a:lnTo>
                      <a:pt x="8" y="130"/>
                    </a:lnTo>
                    <a:lnTo>
                      <a:pt x="13" y="113"/>
                    </a:lnTo>
                    <a:lnTo>
                      <a:pt x="18" y="97"/>
                    </a:lnTo>
                    <a:lnTo>
                      <a:pt x="24" y="81"/>
                    </a:lnTo>
                    <a:lnTo>
                      <a:pt x="31" y="68"/>
                    </a:lnTo>
                    <a:lnTo>
                      <a:pt x="38" y="55"/>
                    </a:lnTo>
                    <a:lnTo>
                      <a:pt x="45" y="44"/>
                    </a:lnTo>
                    <a:lnTo>
                      <a:pt x="52" y="36"/>
                    </a:lnTo>
                    <a:lnTo>
                      <a:pt x="60" y="29"/>
                    </a:lnTo>
                    <a:lnTo>
                      <a:pt x="73" y="20"/>
                    </a:lnTo>
                    <a:lnTo>
                      <a:pt x="86" y="12"/>
                    </a:lnTo>
                    <a:lnTo>
                      <a:pt x="97" y="6"/>
                    </a:lnTo>
                    <a:lnTo>
                      <a:pt x="108" y="1"/>
                    </a:lnTo>
                    <a:lnTo>
                      <a:pt x="118" y="0"/>
                    </a:lnTo>
                    <a:lnTo>
                      <a:pt x="129" y="0"/>
                    </a:lnTo>
                    <a:lnTo>
                      <a:pt x="140" y="2"/>
                    </a:lnTo>
                    <a:lnTo>
                      <a:pt x="153" y="9"/>
                    </a:lnTo>
                    <a:lnTo>
                      <a:pt x="156" y="11"/>
                    </a:lnTo>
                    <a:lnTo>
                      <a:pt x="163" y="18"/>
                    </a:lnTo>
                    <a:lnTo>
                      <a:pt x="174" y="31"/>
                    </a:lnTo>
                    <a:lnTo>
                      <a:pt x="188" y="47"/>
                    </a:lnTo>
                    <a:lnTo>
                      <a:pt x="202" y="66"/>
                    </a:lnTo>
                    <a:lnTo>
                      <a:pt x="217" y="90"/>
                    </a:lnTo>
                    <a:lnTo>
                      <a:pt x="223" y="102"/>
                    </a:lnTo>
                    <a:lnTo>
                      <a:pt x="231" y="116"/>
                    </a:lnTo>
                    <a:lnTo>
                      <a:pt x="237" y="129"/>
                    </a:lnTo>
                    <a:lnTo>
                      <a:pt x="242" y="144"/>
                    </a:lnTo>
                    <a:lnTo>
                      <a:pt x="252" y="175"/>
                    </a:lnTo>
                    <a:lnTo>
                      <a:pt x="260" y="207"/>
                    </a:lnTo>
                    <a:lnTo>
                      <a:pt x="264" y="223"/>
                    </a:lnTo>
                    <a:lnTo>
                      <a:pt x="266" y="239"/>
                    </a:lnTo>
                    <a:lnTo>
                      <a:pt x="269" y="255"/>
                    </a:lnTo>
                    <a:lnTo>
                      <a:pt x="270" y="269"/>
                    </a:lnTo>
                    <a:lnTo>
                      <a:pt x="270" y="284"/>
                    </a:lnTo>
                    <a:lnTo>
                      <a:pt x="269" y="298"/>
                    </a:lnTo>
                    <a:lnTo>
                      <a:pt x="266" y="311"/>
                    </a:lnTo>
                    <a:lnTo>
                      <a:pt x="263" y="323"/>
                    </a:lnTo>
                    <a:lnTo>
                      <a:pt x="258" y="336"/>
                    </a:lnTo>
                    <a:lnTo>
                      <a:pt x="252" y="346"/>
                    </a:lnTo>
                    <a:lnTo>
                      <a:pt x="244" y="355"/>
                    </a:lnTo>
                    <a:lnTo>
                      <a:pt x="234" y="364"/>
                    </a:lnTo>
                    <a:close/>
                  </a:path>
                </a:pathLst>
              </a:custGeom>
              <a:solidFill>
                <a:srgbClr val="82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7413480" y="2475000"/>
                <a:ext cx="73080" cy="101520"/>
              </a:xfrm>
              <a:custGeom>
                <a:avLst/>
                <a:gdLst/>
                <a:ahLst/>
                <a:rect l="l" t="t" r="r" b="b"/>
                <a:pathLst>
                  <a:path w="229" h="320">
                    <a:moveTo>
                      <a:pt x="130" y="5"/>
                    </a:moveTo>
                    <a:lnTo>
                      <a:pt x="132" y="8"/>
                    </a:lnTo>
                    <a:lnTo>
                      <a:pt x="139" y="14"/>
                    </a:lnTo>
                    <a:lnTo>
                      <a:pt x="148" y="25"/>
                    </a:lnTo>
                    <a:lnTo>
                      <a:pt x="160" y="39"/>
                    </a:lnTo>
                    <a:lnTo>
                      <a:pt x="172" y="56"/>
                    </a:lnTo>
                    <a:lnTo>
                      <a:pt x="184" y="75"/>
                    </a:lnTo>
                    <a:lnTo>
                      <a:pt x="191" y="87"/>
                    </a:lnTo>
                    <a:lnTo>
                      <a:pt x="197" y="98"/>
                    </a:lnTo>
                    <a:lnTo>
                      <a:pt x="202" y="110"/>
                    </a:lnTo>
                    <a:lnTo>
                      <a:pt x="205" y="122"/>
                    </a:lnTo>
                    <a:lnTo>
                      <a:pt x="214" y="149"/>
                    </a:lnTo>
                    <a:lnTo>
                      <a:pt x="220" y="175"/>
                    </a:lnTo>
                    <a:lnTo>
                      <a:pt x="225" y="202"/>
                    </a:lnTo>
                    <a:lnTo>
                      <a:pt x="229" y="228"/>
                    </a:lnTo>
                    <a:lnTo>
                      <a:pt x="229" y="240"/>
                    </a:lnTo>
                    <a:lnTo>
                      <a:pt x="227" y="253"/>
                    </a:lnTo>
                    <a:lnTo>
                      <a:pt x="225" y="264"/>
                    </a:lnTo>
                    <a:lnTo>
                      <a:pt x="223" y="275"/>
                    </a:lnTo>
                    <a:lnTo>
                      <a:pt x="219" y="285"/>
                    </a:lnTo>
                    <a:lnTo>
                      <a:pt x="213" y="293"/>
                    </a:lnTo>
                    <a:lnTo>
                      <a:pt x="207" y="301"/>
                    </a:lnTo>
                    <a:lnTo>
                      <a:pt x="198" y="307"/>
                    </a:lnTo>
                    <a:lnTo>
                      <a:pt x="188" y="313"/>
                    </a:lnTo>
                    <a:lnTo>
                      <a:pt x="177" y="318"/>
                    </a:lnTo>
                    <a:lnTo>
                      <a:pt x="165" y="320"/>
                    </a:lnTo>
                    <a:lnTo>
                      <a:pt x="151" y="320"/>
                    </a:lnTo>
                    <a:lnTo>
                      <a:pt x="138" y="320"/>
                    </a:lnTo>
                    <a:lnTo>
                      <a:pt x="123" y="318"/>
                    </a:lnTo>
                    <a:lnTo>
                      <a:pt x="109" y="315"/>
                    </a:lnTo>
                    <a:lnTo>
                      <a:pt x="95" y="310"/>
                    </a:lnTo>
                    <a:lnTo>
                      <a:pt x="81" y="304"/>
                    </a:lnTo>
                    <a:lnTo>
                      <a:pt x="68" y="297"/>
                    </a:lnTo>
                    <a:lnTo>
                      <a:pt x="54" y="288"/>
                    </a:lnTo>
                    <a:lnTo>
                      <a:pt x="43" y="280"/>
                    </a:lnTo>
                    <a:lnTo>
                      <a:pt x="32" y="269"/>
                    </a:lnTo>
                    <a:lnTo>
                      <a:pt x="23" y="258"/>
                    </a:lnTo>
                    <a:lnTo>
                      <a:pt x="16" y="245"/>
                    </a:lnTo>
                    <a:lnTo>
                      <a:pt x="10" y="232"/>
                    </a:lnTo>
                    <a:lnTo>
                      <a:pt x="6" y="218"/>
                    </a:lnTo>
                    <a:lnTo>
                      <a:pt x="2" y="203"/>
                    </a:lnTo>
                    <a:lnTo>
                      <a:pt x="1" y="187"/>
                    </a:lnTo>
                    <a:lnTo>
                      <a:pt x="0" y="173"/>
                    </a:lnTo>
                    <a:lnTo>
                      <a:pt x="1" y="157"/>
                    </a:lnTo>
                    <a:lnTo>
                      <a:pt x="2" y="141"/>
                    </a:lnTo>
                    <a:lnTo>
                      <a:pt x="5" y="125"/>
                    </a:lnTo>
                    <a:lnTo>
                      <a:pt x="8" y="110"/>
                    </a:lnTo>
                    <a:lnTo>
                      <a:pt x="12" y="95"/>
                    </a:lnTo>
                    <a:lnTo>
                      <a:pt x="17" y="82"/>
                    </a:lnTo>
                    <a:lnTo>
                      <a:pt x="22" y="68"/>
                    </a:lnTo>
                    <a:lnTo>
                      <a:pt x="27" y="56"/>
                    </a:lnTo>
                    <a:lnTo>
                      <a:pt x="33" y="46"/>
                    </a:lnTo>
                    <a:lnTo>
                      <a:pt x="39" y="37"/>
                    </a:lnTo>
                    <a:lnTo>
                      <a:pt x="44" y="30"/>
                    </a:lnTo>
                    <a:lnTo>
                      <a:pt x="50" y="25"/>
                    </a:lnTo>
                    <a:lnTo>
                      <a:pt x="63" y="18"/>
                    </a:lnTo>
                    <a:lnTo>
                      <a:pt x="74" y="10"/>
                    </a:lnTo>
                    <a:lnTo>
                      <a:pt x="84" y="5"/>
                    </a:lnTo>
                    <a:lnTo>
                      <a:pt x="92" y="2"/>
                    </a:lnTo>
                    <a:lnTo>
                      <a:pt x="101" y="0"/>
                    </a:lnTo>
                    <a:lnTo>
                      <a:pt x="109" y="0"/>
                    </a:lnTo>
                    <a:lnTo>
                      <a:pt x="119" y="2"/>
                    </a:lnTo>
                    <a:lnTo>
                      <a:pt x="130" y="5"/>
                    </a:lnTo>
                    <a:close/>
                  </a:path>
                </a:pathLst>
              </a:custGeom>
              <a:solidFill>
                <a:srgbClr val="8c7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7356600" y="2578320"/>
                <a:ext cx="104760" cy="538200"/>
              </a:xfrm>
              <a:custGeom>
                <a:avLst/>
                <a:gdLst/>
                <a:ahLst/>
                <a:rect l="l" t="t" r="r" b="b"/>
                <a:pathLst>
                  <a:path w="328" h="1697">
                    <a:moveTo>
                      <a:pt x="5" y="0"/>
                    </a:moveTo>
                    <a:lnTo>
                      <a:pt x="3" y="28"/>
                    </a:lnTo>
                    <a:lnTo>
                      <a:pt x="1" y="57"/>
                    </a:lnTo>
                    <a:lnTo>
                      <a:pt x="0" y="84"/>
                    </a:lnTo>
                    <a:lnTo>
                      <a:pt x="1" y="109"/>
                    </a:lnTo>
                    <a:lnTo>
                      <a:pt x="1" y="135"/>
                    </a:lnTo>
                    <a:lnTo>
                      <a:pt x="3" y="159"/>
                    </a:lnTo>
                    <a:lnTo>
                      <a:pt x="5" y="182"/>
                    </a:lnTo>
                    <a:lnTo>
                      <a:pt x="8" y="204"/>
                    </a:lnTo>
                    <a:lnTo>
                      <a:pt x="14" y="246"/>
                    </a:lnTo>
                    <a:lnTo>
                      <a:pt x="22" y="283"/>
                    </a:lnTo>
                    <a:lnTo>
                      <a:pt x="32" y="317"/>
                    </a:lnTo>
                    <a:lnTo>
                      <a:pt x="42" y="347"/>
                    </a:lnTo>
                    <a:lnTo>
                      <a:pt x="52" y="374"/>
                    </a:lnTo>
                    <a:lnTo>
                      <a:pt x="63" y="396"/>
                    </a:lnTo>
                    <a:lnTo>
                      <a:pt x="73" y="416"/>
                    </a:lnTo>
                    <a:lnTo>
                      <a:pt x="81" y="432"/>
                    </a:lnTo>
                    <a:lnTo>
                      <a:pt x="95" y="451"/>
                    </a:lnTo>
                    <a:lnTo>
                      <a:pt x="100" y="459"/>
                    </a:lnTo>
                    <a:lnTo>
                      <a:pt x="96" y="481"/>
                    </a:lnTo>
                    <a:lnTo>
                      <a:pt x="93" y="517"/>
                    </a:lnTo>
                    <a:lnTo>
                      <a:pt x="90" y="565"/>
                    </a:lnTo>
                    <a:lnTo>
                      <a:pt x="88" y="624"/>
                    </a:lnTo>
                    <a:lnTo>
                      <a:pt x="83" y="769"/>
                    </a:lnTo>
                    <a:lnTo>
                      <a:pt x="80" y="942"/>
                    </a:lnTo>
                    <a:lnTo>
                      <a:pt x="78" y="1133"/>
                    </a:lnTo>
                    <a:lnTo>
                      <a:pt x="78" y="1330"/>
                    </a:lnTo>
                    <a:lnTo>
                      <a:pt x="79" y="1521"/>
                    </a:lnTo>
                    <a:lnTo>
                      <a:pt x="81" y="1697"/>
                    </a:lnTo>
                    <a:lnTo>
                      <a:pt x="84" y="1662"/>
                    </a:lnTo>
                    <a:lnTo>
                      <a:pt x="91" y="1566"/>
                    </a:lnTo>
                    <a:lnTo>
                      <a:pt x="102" y="1427"/>
                    </a:lnTo>
                    <a:lnTo>
                      <a:pt x="116" y="1262"/>
                    </a:lnTo>
                    <a:lnTo>
                      <a:pt x="132" y="1090"/>
                    </a:lnTo>
                    <a:lnTo>
                      <a:pt x="149" y="926"/>
                    </a:lnTo>
                    <a:lnTo>
                      <a:pt x="158" y="854"/>
                    </a:lnTo>
                    <a:lnTo>
                      <a:pt x="168" y="788"/>
                    </a:lnTo>
                    <a:lnTo>
                      <a:pt x="176" y="735"/>
                    </a:lnTo>
                    <a:lnTo>
                      <a:pt x="185" y="695"/>
                    </a:lnTo>
                    <a:lnTo>
                      <a:pt x="193" y="663"/>
                    </a:lnTo>
                    <a:lnTo>
                      <a:pt x="202" y="635"/>
                    </a:lnTo>
                    <a:lnTo>
                      <a:pt x="211" y="609"/>
                    </a:lnTo>
                    <a:lnTo>
                      <a:pt x="218" y="585"/>
                    </a:lnTo>
                    <a:lnTo>
                      <a:pt x="234" y="546"/>
                    </a:lnTo>
                    <a:lnTo>
                      <a:pt x="249" y="514"/>
                    </a:lnTo>
                    <a:lnTo>
                      <a:pt x="262" y="488"/>
                    </a:lnTo>
                    <a:lnTo>
                      <a:pt x="275" y="467"/>
                    </a:lnTo>
                    <a:lnTo>
                      <a:pt x="286" y="449"/>
                    </a:lnTo>
                    <a:lnTo>
                      <a:pt x="296" y="432"/>
                    </a:lnTo>
                    <a:lnTo>
                      <a:pt x="302" y="422"/>
                    </a:lnTo>
                    <a:lnTo>
                      <a:pt x="307" y="411"/>
                    </a:lnTo>
                    <a:lnTo>
                      <a:pt x="312" y="397"/>
                    </a:lnTo>
                    <a:lnTo>
                      <a:pt x="315" y="384"/>
                    </a:lnTo>
                    <a:lnTo>
                      <a:pt x="320" y="369"/>
                    </a:lnTo>
                    <a:lnTo>
                      <a:pt x="323" y="353"/>
                    </a:lnTo>
                    <a:lnTo>
                      <a:pt x="325" y="337"/>
                    </a:lnTo>
                    <a:lnTo>
                      <a:pt x="328" y="321"/>
                    </a:lnTo>
                    <a:lnTo>
                      <a:pt x="328" y="305"/>
                    </a:lnTo>
                    <a:lnTo>
                      <a:pt x="326" y="289"/>
                    </a:lnTo>
                    <a:lnTo>
                      <a:pt x="324" y="274"/>
                    </a:lnTo>
                    <a:lnTo>
                      <a:pt x="319" y="259"/>
                    </a:lnTo>
                    <a:lnTo>
                      <a:pt x="313" y="247"/>
                    </a:lnTo>
                    <a:lnTo>
                      <a:pt x="305" y="235"/>
                    </a:lnTo>
                    <a:lnTo>
                      <a:pt x="300" y="230"/>
                    </a:lnTo>
                    <a:lnTo>
                      <a:pt x="296" y="225"/>
                    </a:lnTo>
                    <a:lnTo>
                      <a:pt x="289" y="221"/>
                    </a:lnTo>
                    <a:lnTo>
                      <a:pt x="282" y="216"/>
                    </a:lnTo>
                    <a:lnTo>
                      <a:pt x="250" y="196"/>
                    </a:lnTo>
                    <a:lnTo>
                      <a:pt x="209" y="166"/>
                    </a:lnTo>
                    <a:lnTo>
                      <a:pt x="164" y="130"/>
                    </a:lnTo>
                    <a:lnTo>
                      <a:pt x="117" y="93"/>
                    </a:lnTo>
                    <a:lnTo>
                      <a:pt x="74" y="58"/>
                    </a:lnTo>
                    <a:lnTo>
                      <a:pt x="38" y="28"/>
                    </a:lnTo>
                    <a:lnTo>
                      <a:pt x="14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7356600" y="2578320"/>
                <a:ext cx="96840" cy="500040"/>
              </a:xfrm>
              <a:custGeom>
                <a:avLst/>
                <a:gdLst/>
                <a:ahLst/>
                <a:rect l="l" t="t" r="r" b="b"/>
                <a:pathLst>
                  <a:path w="305" h="1576">
                    <a:moveTo>
                      <a:pt x="174" y="663"/>
                    </a:moveTo>
                    <a:lnTo>
                      <a:pt x="165" y="702"/>
                    </a:lnTo>
                    <a:lnTo>
                      <a:pt x="157" y="753"/>
                    </a:lnTo>
                    <a:lnTo>
                      <a:pt x="148" y="812"/>
                    </a:lnTo>
                    <a:lnTo>
                      <a:pt x="141" y="879"/>
                    </a:lnTo>
                    <a:lnTo>
                      <a:pt x="126" y="1028"/>
                    </a:lnTo>
                    <a:lnTo>
                      <a:pt x="112" y="1184"/>
                    </a:lnTo>
                    <a:lnTo>
                      <a:pt x="100" y="1333"/>
                    </a:lnTo>
                    <a:lnTo>
                      <a:pt x="91" y="1457"/>
                    </a:lnTo>
                    <a:lnTo>
                      <a:pt x="86" y="1544"/>
                    </a:lnTo>
                    <a:lnTo>
                      <a:pt x="84" y="1576"/>
                    </a:lnTo>
                    <a:lnTo>
                      <a:pt x="81" y="1405"/>
                    </a:lnTo>
                    <a:lnTo>
                      <a:pt x="80" y="1226"/>
                    </a:lnTo>
                    <a:lnTo>
                      <a:pt x="80" y="1049"/>
                    </a:lnTo>
                    <a:lnTo>
                      <a:pt x="81" y="882"/>
                    </a:lnTo>
                    <a:lnTo>
                      <a:pt x="84" y="731"/>
                    </a:lnTo>
                    <a:lnTo>
                      <a:pt x="88" y="604"/>
                    </a:lnTo>
                    <a:lnTo>
                      <a:pt x="90" y="553"/>
                    </a:lnTo>
                    <a:lnTo>
                      <a:pt x="94" y="512"/>
                    </a:lnTo>
                    <a:lnTo>
                      <a:pt x="96" y="480"/>
                    </a:lnTo>
                    <a:lnTo>
                      <a:pt x="100" y="459"/>
                    </a:lnTo>
                    <a:lnTo>
                      <a:pt x="95" y="451"/>
                    </a:lnTo>
                    <a:lnTo>
                      <a:pt x="81" y="432"/>
                    </a:lnTo>
                    <a:lnTo>
                      <a:pt x="73" y="416"/>
                    </a:lnTo>
                    <a:lnTo>
                      <a:pt x="63" y="396"/>
                    </a:lnTo>
                    <a:lnTo>
                      <a:pt x="52" y="374"/>
                    </a:lnTo>
                    <a:lnTo>
                      <a:pt x="42" y="347"/>
                    </a:lnTo>
                    <a:lnTo>
                      <a:pt x="32" y="317"/>
                    </a:lnTo>
                    <a:lnTo>
                      <a:pt x="22" y="283"/>
                    </a:lnTo>
                    <a:lnTo>
                      <a:pt x="14" y="246"/>
                    </a:lnTo>
                    <a:lnTo>
                      <a:pt x="8" y="204"/>
                    </a:lnTo>
                    <a:lnTo>
                      <a:pt x="5" y="182"/>
                    </a:lnTo>
                    <a:lnTo>
                      <a:pt x="3" y="159"/>
                    </a:lnTo>
                    <a:lnTo>
                      <a:pt x="1" y="135"/>
                    </a:lnTo>
                    <a:lnTo>
                      <a:pt x="1" y="109"/>
                    </a:lnTo>
                    <a:lnTo>
                      <a:pt x="0" y="84"/>
                    </a:lnTo>
                    <a:lnTo>
                      <a:pt x="1" y="57"/>
                    </a:lnTo>
                    <a:lnTo>
                      <a:pt x="3" y="28"/>
                    </a:lnTo>
                    <a:lnTo>
                      <a:pt x="5" y="0"/>
                    </a:lnTo>
                    <a:lnTo>
                      <a:pt x="13" y="9"/>
                    </a:lnTo>
                    <a:lnTo>
                      <a:pt x="33" y="33"/>
                    </a:lnTo>
                    <a:lnTo>
                      <a:pt x="63" y="68"/>
                    </a:lnTo>
                    <a:lnTo>
                      <a:pt x="100" y="109"/>
                    </a:lnTo>
                    <a:lnTo>
                      <a:pt x="141" y="152"/>
                    </a:lnTo>
                    <a:lnTo>
                      <a:pt x="181" y="192"/>
                    </a:lnTo>
                    <a:lnTo>
                      <a:pt x="200" y="210"/>
                    </a:lnTo>
                    <a:lnTo>
                      <a:pt x="218" y="225"/>
                    </a:lnTo>
                    <a:lnTo>
                      <a:pt x="235" y="237"/>
                    </a:lnTo>
                    <a:lnTo>
                      <a:pt x="250" y="247"/>
                    </a:lnTo>
                    <a:lnTo>
                      <a:pt x="262" y="255"/>
                    </a:lnTo>
                    <a:lnTo>
                      <a:pt x="273" y="264"/>
                    </a:lnTo>
                    <a:lnTo>
                      <a:pt x="283" y="274"/>
                    </a:lnTo>
                    <a:lnTo>
                      <a:pt x="291" y="285"/>
                    </a:lnTo>
                    <a:lnTo>
                      <a:pt x="296" y="298"/>
                    </a:lnTo>
                    <a:lnTo>
                      <a:pt x="300" y="309"/>
                    </a:lnTo>
                    <a:lnTo>
                      <a:pt x="303" y="322"/>
                    </a:lnTo>
                    <a:lnTo>
                      <a:pt x="305" y="334"/>
                    </a:lnTo>
                    <a:lnTo>
                      <a:pt x="305" y="347"/>
                    </a:lnTo>
                    <a:lnTo>
                      <a:pt x="305" y="360"/>
                    </a:lnTo>
                    <a:lnTo>
                      <a:pt x="304" y="373"/>
                    </a:lnTo>
                    <a:lnTo>
                      <a:pt x="302" y="385"/>
                    </a:lnTo>
                    <a:lnTo>
                      <a:pt x="298" y="396"/>
                    </a:lnTo>
                    <a:lnTo>
                      <a:pt x="294" y="407"/>
                    </a:lnTo>
                    <a:lnTo>
                      <a:pt x="291" y="417"/>
                    </a:lnTo>
                    <a:lnTo>
                      <a:pt x="286" y="426"/>
                    </a:lnTo>
                    <a:lnTo>
                      <a:pt x="276" y="443"/>
                    </a:lnTo>
                    <a:lnTo>
                      <a:pt x="264" y="457"/>
                    </a:lnTo>
                    <a:lnTo>
                      <a:pt x="251" y="475"/>
                    </a:lnTo>
                    <a:lnTo>
                      <a:pt x="238" y="496"/>
                    </a:lnTo>
                    <a:lnTo>
                      <a:pt x="230" y="508"/>
                    </a:lnTo>
                    <a:lnTo>
                      <a:pt x="223" y="523"/>
                    </a:lnTo>
                    <a:lnTo>
                      <a:pt x="216" y="539"/>
                    </a:lnTo>
                    <a:lnTo>
                      <a:pt x="207" y="557"/>
                    </a:lnTo>
                    <a:lnTo>
                      <a:pt x="200" y="579"/>
                    </a:lnTo>
                    <a:lnTo>
                      <a:pt x="191" y="604"/>
                    </a:lnTo>
                    <a:lnTo>
                      <a:pt x="182" y="631"/>
                    </a:lnTo>
                    <a:lnTo>
                      <a:pt x="174" y="663"/>
                    </a:lnTo>
                    <a:close/>
                  </a:path>
                </a:pathLst>
              </a:custGeom>
              <a:solidFill>
                <a:srgbClr val="63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7356600" y="2578320"/>
                <a:ext cx="91800" cy="461880"/>
              </a:xfrm>
              <a:custGeom>
                <a:avLst/>
                <a:gdLst/>
                <a:ahLst/>
                <a:rect l="l" t="t" r="r" b="b"/>
                <a:pathLst>
                  <a:path w="288" h="1455">
                    <a:moveTo>
                      <a:pt x="163" y="630"/>
                    </a:moveTo>
                    <a:lnTo>
                      <a:pt x="154" y="668"/>
                    </a:lnTo>
                    <a:lnTo>
                      <a:pt x="147" y="716"/>
                    </a:lnTo>
                    <a:lnTo>
                      <a:pt x="138" y="771"/>
                    </a:lnTo>
                    <a:lnTo>
                      <a:pt x="131" y="834"/>
                    </a:lnTo>
                    <a:lnTo>
                      <a:pt x="117" y="969"/>
                    </a:lnTo>
                    <a:lnTo>
                      <a:pt x="106" y="1109"/>
                    </a:lnTo>
                    <a:lnTo>
                      <a:pt x="97" y="1241"/>
                    </a:lnTo>
                    <a:lnTo>
                      <a:pt x="90" y="1352"/>
                    </a:lnTo>
                    <a:lnTo>
                      <a:pt x="85" y="1427"/>
                    </a:lnTo>
                    <a:lnTo>
                      <a:pt x="84" y="1455"/>
                    </a:lnTo>
                    <a:lnTo>
                      <a:pt x="81" y="1289"/>
                    </a:lnTo>
                    <a:lnTo>
                      <a:pt x="80" y="1124"/>
                    </a:lnTo>
                    <a:lnTo>
                      <a:pt x="80" y="967"/>
                    </a:lnTo>
                    <a:lnTo>
                      <a:pt x="81" y="820"/>
                    </a:lnTo>
                    <a:lnTo>
                      <a:pt x="84" y="692"/>
                    </a:lnTo>
                    <a:lnTo>
                      <a:pt x="88" y="585"/>
                    </a:lnTo>
                    <a:lnTo>
                      <a:pt x="90" y="542"/>
                    </a:lnTo>
                    <a:lnTo>
                      <a:pt x="94" y="505"/>
                    </a:lnTo>
                    <a:lnTo>
                      <a:pt x="96" y="478"/>
                    </a:lnTo>
                    <a:lnTo>
                      <a:pt x="100" y="459"/>
                    </a:lnTo>
                    <a:lnTo>
                      <a:pt x="95" y="451"/>
                    </a:lnTo>
                    <a:lnTo>
                      <a:pt x="81" y="432"/>
                    </a:lnTo>
                    <a:lnTo>
                      <a:pt x="73" y="416"/>
                    </a:lnTo>
                    <a:lnTo>
                      <a:pt x="63" y="396"/>
                    </a:lnTo>
                    <a:lnTo>
                      <a:pt x="52" y="374"/>
                    </a:lnTo>
                    <a:lnTo>
                      <a:pt x="42" y="347"/>
                    </a:lnTo>
                    <a:lnTo>
                      <a:pt x="32" y="317"/>
                    </a:lnTo>
                    <a:lnTo>
                      <a:pt x="22" y="283"/>
                    </a:lnTo>
                    <a:lnTo>
                      <a:pt x="14" y="246"/>
                    </a:lnTo>
                    <a:lnTo>
                      <a:pt x="8" y="204"/>
                    </a:lnTo>
                    <a:lnTo>
                      <a:pt x="5" y="182"/>
                    </a:lnTo>
                    <a:lnTo>
                      <a:pt x="3" y="159"/>
                    </a:lnTo>
                    <a:lnTo>
                      <a:pt x="1" y="135"/>
                    </a:lnTo>
                    <a:lnTo>
                      <a:pt x="1" y="109"/>
                    </a:lnTo>
                    <a:lnTo>
                      <a:pt x="0" y="84"/>
                    </a:lnTo>
                    <a:lnTo>
                      <a:pt x="1" y="57"/>
                    </a:lnTo>
                    <a:lnTo>
                      <a:pt x="3" y="28"/>
                    </a:lnTo>
                    <a:lnTo>
                      <a:pt x="5" y="0"/>
                    </a:lnTo>
                    <a:lnTo>
                      <a:pt x="11" y="10"/>
                    </a:lnTo>
                    <a:lnTo>
                      <a:pt x="29" y="38"/>
                    </a:lnTo>
                    <a:lnTo>
                      <a:pt x="53" y="77"/>
                    </a:lnTo>
                    <a:lnTo>
                      <a:pt x="84" y="124"/>
                    </a:lnTo>
                    <a:lnTo>
                      <a:pt x="100" y="149"/>
                    </a:lnTo>
                    <a:lnTo>
                      <a:pt x="117" y="173"/>
                    </a:lnTo>
                    <a:lnTo>
                      <a:pt x="134" y="197"/>
                    </a:lnTo>
                    <a:lnTo>
                      <a:pt x="152" y="219"/>
                    </a:lnTo>
                    <a:lnTo>
                      <a:pt x="169" y="239"/>
                    </a:lnTo>
                    <a:lnTo>
                      <a:pt x="185" y="256"/>
                    </a:lnTo>
                    <a:lnTo>
                      <a:pt x="201" y="269"/>
                    </a:lnTo>
                    <a:lnTo>
                      <a:pt x="214" y="279"/>
                    </a:lnTo>
                    <a:lnTo>
                      <a:pt x="228" y="287"/>
                    </a:lnTo>
                    <a:lnTo>
                      <a:pt x="239" y="294"/>
                    </a:lnTo>
                    <a:lnTo>
                      <a:pt x="250" y="303"/>
                    </a:lnTo>
                    <a:lnTo>
                      <a:pt x="259" y="311"/>
                    </a:lnTo>
                    <a:lnTo>
                      <a:pt x="266" y="320"/>
                    </a:lnTo>
                    <a:lnTo>
                      <a:pt x="273" y="328"/>
                    </a:lnTo>
                    <a:lnTo>
                      <a:pt x="278" y="338"/>
                    </a:lnTo>
                    <a:lnTo>
                      <a:pt x="282" y="347"/>
                    </a:lnTo>
                    <a:lnTo>
                      <a:pt x="286" y="357"/>
                    </a:lnTo>
                    <a:lnTo>
                      <a:pt x="287" y="365"/>
                    </a:lnTo>
                    <a:lnTo>
                      <a:pt x="288" y="375"/>
                    </a:lnTo>
                    <a:lnTo>
                      <a:pt x="288" y="385"/>
                    </a:lnTo>
                    <a:lnTo>
                      <a:pt x="287" y="394"/>
                    </a:lnTo>
                    <a:lnTo>
                      <a:pt x="284" y="403"/>
                    </a:lnTo>
                    <a:lnTo>
                      <a:pt x="281" y="412"/>
                    </a:lnTo>
                    <a:lnTo>
                      <a:pt x="277" y="421"/>
                    </a:lnTo>
                    <a:lnTo>
                      <a:pt x="272" y="429"/>
                    </a:lnTo>
                    <a:lnTo>
                      <a:pt x="266" y="435"/>
                    </a:lnTo>
                    <a:lnTo>
                      <a:pt x="260" y="442"/>
                    </a:lnTo>
                    <a:lnTo>
                      <a:pt x="254" y="448"/>
                    </a:lnTo>
                    <a:lnTo>
                      <a:pt x="240" y="460"/>
                    </a:lnTo>
                    <a:lnTo>
                      <a:pt x="227" y="475"/>
                    </a:lnTo>
                    <a:lnTo>
                      <a:pt x="219" y="486"/>
                    </a:lnTo>
                    <a:lnTo>
                      <a:pt x="211" y="497"/>
                    </a:lnTo>
                    <a:lnTo>
                      <a:pt x="203" y="512"/>
                    </a:lnTo>
                    <a:lnTo>
                      <a:pt x="196" y="528"/>
                    </a:lnTo>
                    <a:lnTo>
                      <a:pt x="187" y="549"/>
                    </a:lnTo>
                    <a:lnTo>
                      <a:pt x="179" y="571"/>
                    </a:lnTo>
                    <a:lnTo>
                      <a:pt x="171" y="599"/>
                    </a:lnTo>
                    <a:lnTo>
                      <a:pt x="163" y="630"/>
                    </a:lnTo>
                    <a:close/>
                  </a:path>
                </a:pathLst>
              </a:custGeom>
              <a:solidFill>
                <a:srgbClr val="5f4d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7356600" y="2578320"/>
                <a:ext cx="87120" cy="423720"/>
              </a:xfrm>
              <a:custGeom>
                <a:avLst/>
                <a:gdLst/>
                <a:ahLst/>
                <a:rect l="l" t="t" r="r" b="b"/>
                <a:pathLst>
                  <a:path w="273" h="1333">
                    <a:moveTo>
                      <a:pt x="149" y="598"/>
                    </a:moveTo>
                    <a:lnTo>
                      <a:pt x="141" y="635"/>
                    </a:lnTo>
                    <a:lnTo>
                      <a:pt x="133" y="680"/>
                    </a:lnTo>
                    <a:lnTo>
                      <a:pt x="127" y="731"/>
                    </a:lnTo>
                    <a:lnTo>
                      <a:pt x="120" y="787"/>
                    </a:lnTo>
                    <a:lnTo>
                      <a:pt x="115" y="846"/>
                    </a:lnTo>
                    <a:lnTo>
                      <a:pt x="110" y="908"/>
                    </a:lnTo>
                    <a:lnTo>
                      <a:pt x="105" y="970"/>
                    </a:lnTo>
                    <a:lnTo>
                      <a:pt x="101" y="1032"/>
                    </a:lnTo>
                    <a:lnTo>
                      <a:pt x="95" y="1148"/>
                    </a:lnTo>
                    <a:lnTo>
                      <a:pt x="90" y="1243"/>
                    </a:lnTo>
                    <a:lnTo>
                      <a:pt x="88" y="1309"/>
                    </a:lnTo>
                    <a:lnTo>
                      <a:pt x="86" y="1333"/>
                    </a:lnTo>
                    <a:lnTo>
                      <a:pt x="84" y="1172"/>
                    </a:lnTo>
                    <a:lnTo>
                      <a:pt x="83" y="1021"/>
                    </a:lnTo>
                    <a:lnTo>
                      <a:pt x="81" y="883"/>
                    </a:lnTo>
                    <a:lnTo>
                      <a:pt x="83" y="760"/>
                    </a:lnTo>
                    <a:lnTo>
                      <a:pt x="84" y="653"/>
                    </a:lnTo>
                    <a:lnTo>
                      <a:pt x="88" y="566"/>
                    </a:lnTo>
                    <a:lnTo>
                      <a:pt x="90" y="531"/>
                    </a:lnTo>
                    <a:lnTo>
                      <a:pt x="94" y="501"/>
                    </a:lnTo>
                    <a:lnTo>
                      <a:pt x="96" y="477"/>
                    </a:lnTo>
                    <a:lnTo>
                      <a:pt x="100" y="459"/>
                    </a:lnTo>
                    <a:lnTo>
                      <a:pt x="95" y="451"/>
                    </a:lnTo>
                    <a:lnTo>
                      <a:pt x="81" y="432"/>
                    </a:lnTo>
                    <a:lnTo>
                      <a:pt x="73" y="416"/>
                    </a:lnTo>
                    <a:lnTo>
                      <a:pt x="63" y="396"/>
                    </a:lnTo>
                    <a:lnTo>
                      <a:pt x="52" y="374"/>
                    </a:lnTo>
                    <a:lnTo>
                      <a:pt x="42" y="347"/>
                    </a:lnTo>
                    <a:lnTo>
                      <a:pt x="32" y="317"/>
                    </a:lnTo>
                    <a:lnTo>
                      <a:pt x="22" y="283"/>
                    </a:lnTo>
                    <a:lnTo>
                      <a:pt x="14" y="246"/>
                    </a:lnTo>
                    <a:lnTo>
                      <a:pt x="8" y="204"/>
                    </a:lnTo>
                    <a:lnTo>
                      <a:pt x="5" y="182"/>
                    </a:lnTo>
                    <a:lnTo>
                      <a:pt x="3" y="159"/>
                    </a:lnTo>
                    <a:lnTo>
                      <a:pt x="1" y="135"/>
                    </a:lnTo>
                    <a:lnTo>
                      <a:pt x="1" y="109"/>
                    </a:lnTo>
                    <a:lnTo>
                      <a:pt x="0" y="84"/>
                    </a:lnTo>
                    <a:lnTo>
                      <a:pt x="1" y="57"/>
                    </a:lnTo>
                    <a:lnTo>
                      <a:pt x="3" y="28"/>
                    </a:lnTo>
                    <a:lnTo>
                      <a:pt x="5" y="0"/>
                    </a:lnTo>
                    <a:lnTo>
                      <a:pt x="10" y="11"/>
                    </a:lnTo>
                    <a:lnTo>
                      <a:pt x="22" y="43"/>
                    </a:lnTo>
                    <a:lnTo>
                      <a:pt x="42" y="87"/>
                    </a:lnTo>
                    <a:lnTo>
                      <a:pt x="67" y="140"/>
                    </a:lnTo>
                    <a:lnTo>
                      <a:pt x="80" y="167"/>
                    </a:lnTo>
                    <a:lnTo>
                      <a:pt x="94" y="194"/>
                    </a:lnTo>
                    <a:lnTo>
                      <a:pt x="109" y="220"/>
                    </a:lnTo>
                    <a:lnTo>
                      <a:pt x="123" y="245"/>
                    </a:lnTo>
                    <a:lnTo>
                      <a:pt x="138" y="267"/>
                    </a:lnTo>
                    <a:lnTo>
                      <a:pt x="153" y="285"/>
                    </a:lnTo>
                    <a:lnTo>
                      <a:pt x="160" y="293"/>
                    </a:lnTo>
                    <a:lnTo>
                      <a:pt x="168" y="300"/>
                    </a:lnTo>
                    <a:lnTo>
                      <a:pt x="175" y="305"/>
                    </a:lnTo>
                    <a:lnTo>
                      <a:pt x="182" y="309"/>
                    </a:lnTo>
                    <a:lnTo>
                      <a:pt x="207" y="323"/>
                    </a:lnTo>
                    <a:lnTo>
                      <a:pt x="228" y="337"/>
                    </a:lnTo>
                    <a:lnTo>
                      <a:pt x="246" y="349"/>
                    </a:lnTo>
                    <a:lnTo>
                      <a:pt x="260" y="362"/>
                    </a:lnTo>
                    <a:lnTo>
                      <a:pt x="265" y="368"/>
                    </a:lnTo>
                    <a:lnTo>
                      <a:pt x="268" y="374"/>
                    </a:lnTo>
                    <a:lnTo>
                      <a:pt x="272" y="380"/>
                    </a:lnTo>
                    <a:lnTo>
                      <a:pt x="273" y="386"/>
                    </a:lnTo>
                    <a:lnTo>
                      <a:pt x="273" y="392"/>
                    </a:lnTo>
                    <a:lnTo>
                      <a:pt x="272" y="400"/>
                    </a:lnTo>
                    <a:lnTo>
                      <a:pt x="270" y="407"/>
                    </a:lnTo>
                    <a:lnTo>
                      <a:pt x="266" y="416"/>
                    </a:lnTo>
                    <a:lnTo>
                      <a:pt x="261" y="423"/>
                    </a:lnTo>
                    <a:lnTo>
                      <a:pt x="255" y="429"/>
                    </a:lnTo>
                    <a:lnTo>
                      <a:pt x="249" y="434"/>
                    </a:lnTo>
                    <a:lnTo>
                      <a:pt x="243" y="438"/>
                    </a:lnTo>
                    <a:lnTo>
                      <a:pt x="229" y="446"/>
                    </a:lnTo>
                    <a:lnTo>
                      <a:pt x="214" y="456"/>
                    </a:lnTo>
                    <a:lnTo>
                      <a:pt x="207" y="464"/>
                    </a:lnTo>
                    <a:lnTo>
                      <a:pt x="200" y="473"/>
                    </a:lnTo>
                    <a:lnTo>
                      <a:pt x="191" y="485"/>
                    </a:lnTo>
                    <a:lnTo>
                      <a:pt x="184" y="499"/>
                    </a:lnTo>
                    <a:lnTo>
                      <a:pt x="175" y="518"/>
                    </a:lnTo>
                    <a:lnTo>
                      <a:pt x="166" y="540"/>
                    </a:lnTo>
                    <a:lnTo>
                      <a:pt x="158" y="566"/>
                    </a:lnTo>
                    <a:lnTo>
                      <a:pt x="149" y="598"/>
                    </a:lnTo>
                    <a:close/>
                  </a:path>
                </a:pathLst>
              </a:custGeom>
              <a:solidFill>
                <a:srgbClr val="5b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7356600" y="2578320"/>
                <a:ext cx="82440" cy="384120"/>
              </a:xfrm>
              <a:custGeom>
                <a:avLst/>
                <a:gdLst/>
                <a:ahLst/>
                <a:rect l="l" t="t" r="r" b="b"/>
                <a:pathLst>
                  <a:path w="261" h="1211">
                    <a:moveTo>
                      <a:pt x="138" y="565"/>
                    </a:moveTo>
                    <a:lnTo>
                      <a:pt x="131" y="601"/>
                    </a:lnTo>
                    <a:lnTo>
                      <a:pt x="123" y="643"/>
                    </a:lnTo>
                    <a:lnTo>
                      <a:pt x="117" y="690"/>
                    </a:lnTo>
                    <a:lnTo>
                      <a:pt x="111" y="740"/>
                    </a:lnTo>
                    <a:lnTo>
                      <a:pt x="106" y="793"/>
                    </a:lnTo>
                    <a:lnTo>
                      <a:pt x="102" y="846"/>
                    </a:lnTo>
                    <a:lnTo>
                      <a:pt x="99" y="900"/>
                    </a:lnTo>
                    <a:lnTo>
                      <a:pt x="95" y="954"/>
                    </a:lnTo>
                    <a:lnTo>
                      <a:pt x="91" y="1053"/>
                    </a:lnTo>
                    <a:lnTo>
                      <a:pt x="89" y="1135"/>
                    </a:lnTo>
                    <a:lnTo>
                      <a:pt x="88" y="1191"/>
                    </a:lnTo>
                    <a:lnTo>
                      <a:pt x="86" y="1211"/>
                    </a:lnTo>
                    <a:lnTo>
                      <a:pt x="84" y="1055"/>
                    </a:lnTo>
                    <a:lnTo>
                      <a:pt x="83" y="918"/>
                    </a:lnTo>
                    <a:lnTo>
                      <a:pt x="81" y="799"/>
                    </a:lnTo>
                    <a:lnTo>
                      <a:pt x="83" y="699"/>
                    </a:lnTo>
                    <a:lnTo>
                      <a:pt x="84" y="615"/>
                    </a:lnTo>
                    <a:lnTo>
                      <a:pt x="88" y="547"/>
                    </a:lnTo>
                    <a:lnTo>
                      <a:pt x="90" y="519"/>
                    </a:lnTo>
                    <a:lnTo>
                      <a:pt x="94" y="496"/>
                    </a:lnTo>
                    <a:lnTo>
                      <a:pt x="96" y="475"/>
                    </a:lnTo>
                    <a:lnTo>
                      <a:pt x="100" y="459"/>
                    </a:lnTo>
                    <a:lnTo>
                      <a:pt x="95" y="451"/>
                    </a:lnTo>
                    <a:lnTo>
                      <a:pt x="81" y="432"/>
                    </a:lnTo>
                    <a:lnTo>
                      <a:pt x="73" y="416"/>
                    </a:lnTo>
                    <a:lnTo>
                      <a:pt x="63" y="396"/>
                    </a:lnTo>
                    <a:lnTo>
                      <a:pt x="52" y="374"/>
                    </a:lnTo>
                    <a:lnTo>
                      <a:pt x="42" y="347"/>
                    </a:lnTo>
                    <a:lnTo>
                      <a:pt x="32" y="317"/>
                    </a:lnTo>
                    <a:lnTo>
                      <a:pt x="22" y="283"/>
                    </a:lnTo>
                    <a:lnTo>
                      <a:pt x="14" y="246"/>
                    </a:lnTo>
                    <a:lnTo>
                      <a:pt x="8" y="204"/>
                    </a:lnTo>
                    <a:lnTo>
                      <a:pt x="5" y="182"/>
                    </a:lnTo>
                    <a:lnTo>
                      <a:pt x="3" y="159"/>
                    </a:lnTo>
                    <a:lnTo>
                      <a:pt x="1" y="135"/>
                    </a:lnTo>
                    <a:lnTo>
                      <a:pt x="1" y="109"/>
                    </a:lnTo>
                    <a:lnTo>
                      <a:pt x="0" y="84"/>
                    </a:lnTo>
                    <a:lnTo>
                      <a:pt x="1" y="57"/>
                    </a:lnTo>
                    <a:lnTo>
                      <a:pt x="3" y="28"/>
                    </a:lnTo>
                    <a:lnTo>
                      <a:pt x="5" y="0"/>
                    </a:lnTo>
                    <a:lnTo>
                      <a:pt x="9" y="12"/>
                    </a:lnTo>
                    <a:lnTo>
                      <a:pt x="17" y="48"/>
                    </a:lnTo>
                    <a:lnTo>
                      <a:pt x="31" y="97"/>
                    </a:lnTo>
                    <a:lnTo>
                      <a:pt x="49" y="155"/>
                    </a:lnTo>
                    <a:lnTo>
                      <a:pt x="59" y="186"/>
                    </a:lnTo>
                    <a:lnTo>
                      <a:pt x="70" y="215"/>
                    </a:lnTo>
                    <a:lnTo>
                      <a:pt x="83" y="245"/>
                    </a:lnTo>
                    <a:lnTo>
                      <a:pt x="95" y="272"/>
                    </a:lnTo>
                    <a:lnTo>
                      <a:pt x="107" y="295"/>
                    </a:lnTo>
                    <a:lnTo>
                      <a:pt x="121" y="316"/>
                    </a:lnTo>
                    <a:lnTo>
                      <a:pt x="127" y="323"/>
                    </a:lnTo>
                    <a:lnTo>
                      <a:pt x="133" y="331"/>
                    </a:lnTo>
                    <a:lnTo>
                      <a:pt x="141" y="337"/>
                    </a:lnTo>
                    <a:lnTo>
                      <a:pt x="147" y="342"/>
                    </a:lnTo>
                    <a:lnTo>
                      <a:pt x="160" y="348"/>
                    </a:lnTo>
                    <a:lnTo>
                      <a:pt x="174" y="354"/>
                    </a:lnTo>
                    <a:lnTo>
                      <a:pt x="186" y="359"/>
                    </a:lnTo>
                    <a:lnTo>
                      <a:pt x="198" y="363"/>
                    </a:lnTo>
                    <a:lnTo>
                      <a:pt x="220" y="369"/>
                    </a:lnTo>
                    <a:lnTo>
                      <a:pt x="239" y="374"/>
                    </a:lnTo>
                    <a:lnTo>
                      <a:pt x="246" y="376"/>
                    </a:lnTo>
                    <a:lnTo>
                      <a:pt x="252" y="380"/>
                    </a:lnTo>
                    <a:lnTo>
                      <a:pt x="257" y="384"/>
                    </a:lnTo>
                    <a:lnTo>
                      <a:pt x="260" y="387"/>
                    </a:lnTo>
                    <a:lnTo>
                      <a:pt x="261" y="392"/>
                    </a:lnTo>
                    <a:lnTo>
                      <a:pt x="261" y="397"/>
                    </a:lnTo>
                    <a:lnTo>
                      <a:pt x="260" y="405"/>
                    </a:lnTo>
                    <a:lnTo>
                      <a:pt x="255" y="412"/>
                    </a:lnTo>
                    <a:lnTo>
                      <a:pt x="250" y="419"/>
                    </a:lnTo>
                    <a:lnTo>
                      <a:pt x="244" y="424"/>
                    </a:lnTo>
                    <a:lnTo>
                      <a:pt x="239" y="427"/>
                    </a:lnTo>
                    <a:lnTo>
                      <a:pt x="232" y="429"/>
                    </a:lnTo>
                    <a:lnTo>
                      <a:pt x="218" y="433"/>
                    </a:lnTo>
                    <a:lnTo>
                      <a:pt x="204" y="438"/>
                    </a:lnTo>
                    <a:lnTo>
                      <a:pt x="196" y="443"/>
                    </a:lnTo>
                    <a:lnTo>
                      <a:pt x="188" y="449"/>
                    </a:lnTo>
                    <a:lnTo>
                      <a:pt x="181" y="459"/>
                    </a:lnTo>
                    <a:lnTo>
                      <a:pt x="172" y="471"/>
                    </a:lnTo>
                    <a:lnTo>
                      <a:pt x="164" y="488"/>
                    </a:lnTo>
                    <a:lnTo>
                      <a:pt x="155" y="508"/>
                    </a:lnTo>
                    <a:lnTo>
                      <a:pt x="147" y="534"/>
                    </a:lnTo>
                    <a:lnTo>
                      <a:pt x="138" y="565"/>
                    </a:lnTo>
                    <a:close/>
                  </a:path>
                </a:pathLst>
              </a:custGeom>
              <a:solidFill>
                <a:srgbClr val="56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7356600" y="2578320"/>
                <a:ext cx="79200" cy="345960"/>
              </a:xfrm>
              <a:custGeom>
                <a:avLst/>
                <a:gdLst/>
                <a:ahLst/>
                <a:rect l="l" t="t" r="r" b="b"/>
                <a:pathLst>
                  <a:path w="250" h="1088">
                    <a:moveTo>
                      <a:pt x="5" y="0"/>
                    </a:moveTo>
                    <a:lnTo>
                      <a:pt x="3" y="28"/>
                    </a:lnTo>
                    <a:lnTo>
                      <a:pt x="1" y="57"/>
                    </a:lnTo>
                    <a:lnTo>
                      <a:pt x="0" y="84"/>
                    </a:lnTo>
                    <a:lnTo>
                      <a:pt x="1" y="109"/>
                    </a:lnTo>
                    <a:lnTo>
                      <a:pt x="1" y="135"/>
                    </a:lnTo>
                    <a:lnTo>
                      <a:pt x="3" y="159"/>
                    </a:lnTo>
                    <a:lnTo>
                      <a:pt x="5" y="182"/>
                    </a:lnTo>
                    <a:lnTo>
                      <a:pt x="8" y="204"/>
                    </a:lnTo>
                    <a:lnTo>
                      <a:pt x="14" y="246"/>
                    </a:lnTo>
                    <a:lnTo>
                      <a:pt x="22" y="283"/>
                    </a:lnTo>
                    <a:lnTo>
                      <a:pt x="32" y="317"/>
                    </a:lnTo>
                    <a:lnTo>
                      <a:pt x="42" y="347"/>
                    </a:lnTo>
                    <a:lnTo>
                      <a:pt x="52" y="374"/>
                    </a:lnTo>
                    <a:lnTo>
                      <a:pt x="63" y="396"/>
                    </a:lnTo>
                    <a:lnTo>
                      <a:pt x="73" y="416"/>
                    </a:lnTo>
                    <a:lnTo>
                      <a:pt x="81" y="432"/>
                    </a:lnTo>
                    <a:lnTo>
                      <a:pt x="95" y="451"/>
                    </a:lnTo>
                    <a:lnTo>
                      <a:pt x="100" y="459"/>
                    </a:lnTo>
                    <a:lnTo>
                      <a:pt x="96" y="473"/>
                    </a:lnTo>
                    <a:lnTo>
                      <a:pt x="94" y="491"/>
                    </a:lnTo>
                    <a:lnTo>
                      <a:pt x="91" y="508"/>
                    </a:lnTo>
                    <a:lnTo>
                      <a:pt x="89" y="529"/>
                    </a:lnTo>
                    <a:lnTo>
                      <a:pt x="85" y="577"/>
                    </a:lnTo>
                    <a:lnTo>
                      <a:pt x="84" y="638"/>
                    </a:lnTo>
                    <a:lnTo>
                      <a:pt x="84" y="717"/>
                    </a:lnTo>
                    <a:lnTo>
                      <a:pt x="85" y="815"/>
                    </a:lnTo>
                    <a:lnTo>
                      <a:pt x="86" y="938"/>
                    </a:lnTo>
                    <a:lnTo>
                      <a:pt x="90" y="1088"/>
                    </a:lnTo>
                    <a:lnTo>
                      <a:pt x="89" y="1072"/>
                    </a:lnTo>
                    <a:lnTo>
                      <a:pt x="89" y="1027"/>
                    </a:lnTo>
                    <a:lnTo>
                      <a:pt x="90" y="959"/>
                    </a:lnTo>
                    <a:lnTo>
                      <a:pt x="91" y="876"/>
                    </a:lnTo>
                    <a:lnTo>
                      <a:pt x="93" y="831"/>
                    </a:lnTo>
                    <a:lnTo>
                      <a:pt x="95" y="785"/>
                    </a:lnTo>
                    <a:lnTo>
                      <a:pt x="99" y="738"/>
                    </a:lnTo>
                    <a:lnTo>
                      <a:pt x="102" y="692"/>
                    </a:lnTo>
                    <a:lnTo>
                      <a:pt x="107" y="647"/>
                    </a:lnTo>
                    <a:lnTo>
                      <a:pt x="112" y="605"/>
                    </a:lnTo>
                    <a:lnTo>
                      <a:pt x="120" y="566"/>
                    </a:lnTo>
                    <a:lnTo>
                      <a:pt x="128" y="529"/>
                    </a:lnTo>
                    <a:lnTo>
                      <a:pt x="136" y="499"/>
                    </a:lnTo>
                    <a:lnTo>
                      <a:pt x="144" y="475"/>
                    </a:lnTo>
                    <a:lnTo>
                      <a:pt x="153" y="456"/>
                    </a:lnTo>
                    <a:lnTo>
                      <a:pt x="160" y="442"/>
                    </a:lnTo>
                    <a:lnTo>
                      <a:pt x="169" y="432"/>
                    </a:lnTo>
                    <a:lnTo>
                      <a:pt x="176" y="424"/>
                    </a:lnTo>
                    <a:lnTo>
                      <a:pt x="185" y="421"/>
                    </a:lnTo>
                    <a:lnTo>
                      <a:pt x="192" y="418"/>
                    </a:lnTo>
                    <a:lnTo>
                      <a:pt x="207" y="418"/>
                    </a:lnTo>
                    <a:lnTo>
                      <a:pt x="220" y="419"/>
                    </a:lnTo>
                    <a:lnTo>
                      <a:pt x="228" y="419"/>
                    </a:lnTo>
                    <a:lnTo>
                      <a:pt x="234" y="418"/>
                    </a:lnTo>
                    <a:lnTo>
                      <a:pt x="239" y="413"/>
                    </a:lnTo>
                    <a:lnTo>
                      <a:pt x="245" y="407"/>
                    </a:lnTo>
                    <a:lnTo>
                      <a:pt x="249" y="400"/>
                    </a:lnTo>
                    <a:lnTo>
                      <a:pt x="250" y="394"/>
                    </a:lnTo>
                    <a:lnTo>
                      <a:pt x="249" y="392"/>
                    </a:lnTo>
                    <a:lnTo>
                      <a:pt x="249" y="390"/>
                    </a:lnTo>
                    <a:lnTo>
                      <a:pt x="248" y="389"/>
                    </a:lnTo>
                    <a:lnTo>
                      <a:pt x="245" y="387"/>
                    </a:lnTo>
                    <a:lnTo>
                      <a:pt x="240" y="386"/>
                    </a:lnTo>
                    <a:lnTo>
                      <a:pt x="234" y="386"/>
                    </a:lnTo>
                    <a:lnTo>
                      <a:pt x="225" y="387"/>
                    </a:lnTo>
                    <a:lnTo>
                      <a:pt x="216" y="387"/>
                    </a:lnTo>
                    <a:lnTo>
                      <a:pt x="193" y="390"/>
                    </a:lnTo>
                    <a:lnTo>
                      <a:pt x="168" y="389"/>
                    </a:lnTo>
                    <a:lnTo>
                      <a:pt x="154" y="387"/>
                    </a:lnTo>
                    <a:lnTo>
                      <a:pt x="141" y="385"/>
                    </a:lnTo>
                    <a:lnTo>
                      <a:pt x="127" y="380"/>
                    </a:lnTo>
                    <a:lnTo>
                      <a:pt x="115" y="374"/>
                    </a:lnTo>
                    <a:lnTo>
                      <a:pt x="107" y="370"/>
                    </a:lnTo>
                    <a:lnTo>
                      <a:pt x="101" y="364"/>
                    </a:lnTo>
                    <a:lnTo>
                      <a:pt x="95" y="355"/>
                    </a:lnTo>
                    <a:lnTo>
                      <a:pt x="89" y="347"/>
                    </a:lnTo>
                    <a:lnTo>
                      <a:pt x="83" y="336"/>
                    </a:lnTo>
                    <a:lnTo>
                      <a:pt x="77" y="325"/>
                    </a:lnTo>
                    <a:lnTo>
                      <a:pt x="72" y="312"/>
                    </a:lnTo>
                    <a:lnTo>
                      <a:pt x="67" y="299"/>
                    </a:lnTo>
                    <a:lnTo>
                      <a:pt x="57" y="269"/>
                    </a:lnTo>
                    <a:lnTo>
                      <a:pt x="47" y="239"/>
                    </a:lnTo>
                    <a:lnTo>
                      <a:pt x="40" y="205"/>
                    </a:lnTo>
                    <a:lnTo>
                      <a:pt x="32" y="172"/>
                    </a:lnTo>
                    <a:lnTo>
                      <a:pt x="20" y="107"/>
                    </a:lnTo>
                    <a:lnTo>
                      <a:pt x="13" y="53"/>
                    </a:lnTo>
                    <a:lnTo>
                      <a:pt x="8" y="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6956280" y="2765520"/>
                <a:ext cx="190800" cy="254160"/>
              </a:xfrm>
              <a:custGeom>
                <a:avLst/>
                <a:gdLst/>
                <a:ahLst/>
                <a:rect l="l" t="t" r="r" b="b"/>
                <a:pathLst>
                  <a:path w="602" h="801">
                    <a:moveTo>
                      <a:pt x="22" y="801"/>
                    </a:moveTo>
                    <a:lnTo>
                      <a:pt x="37" y="798"/>
                    </a:lnTo>
                    <a:lnTo>
                      <a:pt x="79" y="787"/>
                    </a:lnTo>
                    <a:lnTo>
                      <a:pt x="108" y="780"/>
                    </a:lnTo>
                    <a:lnTo>
                      <a:pt x="142" y="770"/>
                    </a:lnTo>
                    <a:lnTo>
                      <a:pt x="177" y="758"/>
                    </a:lnTo>
                    <a:lnTo>
                      <a:pt x="217" y="745"/>
                    </a:lnTo>
                    <a:lnTo>
                      <a:pt x="259" y="729"/>
                    </a:lnTo>
                    <a:lnTo>
                      <a:pt x="302" y="712"/>
                    </a:lnTo>
                    <a:lnTo>
                      <a:pt x="345" y="694"/>
                    </a:lnTo>
                    <a:lnTo>
                      <a:pt x="388" y="673"/>
                    </a:lnTo>
                    <a:lnTo>
                      <a:pt x="409" y="662"/>
                    </a:lnTo>
                    <a:lnTo>
                      <a:pt x="430" y="651"/>
                    </a:lnTo>
                    <a:lnTo>
                      <a:pt x="449" y="638"/>
                    </a:lnTo>
                    <a:lnTo>
                      <a:pt x="469" y="626"/>
                    </a:lnTo>
                    <a:lnTo>
                      <a:pt x="489" y="613"/>
                    </a:lnTo>
                    <a:lnTo>
                      <a:pt x="507" y="599"/>
                    </a:lnTo>
                    <a:lnTo>
                      <a:pt x="524" y="586"/>
                    </a:lnTo>
                    <a:lnTo>
                      <a:pt x="542" y="571"/>
                    </a:lnTo>
                    <a:lnTo>
                      <a:pt x="556" y="556"/>
                    </a:lnTo>
                    <a:lnTo>
                      <a:pt x="569" y="541"/>
                    </a:lnTo>
                    <a:lnTo>
                      <a:pt x="578" y="527"/>
                    </a:lnTo>
                    <a:lnTo>
                      <a:pt x="587" y="512"/>
                    </a:lnTo>
                    <a:lnTo>
                      <a:pt x="593" y="497"/>
                    </a:lnTo>
                    <a:lnTo>
                      <a:pt x="598" y="483"/>
                    </a:lnTo>
                    <a:lnTo>
                      <a:pt x="601" y="469"/>
                    </a:lnTo>
                    <a:lnTo>
                      <a:pt x="602" y="455"/>
                    </a:lnTo>
                    <a:lnTo>
                      <a:pt x="602" y="442"/>
                    </a:lnTo>
                    <a:lnTo>
                      <a:pt x="599" y="428"/>
                    </a:lnTo>
                    <a:lnTo>
                      <a:pt x="597" y="415"/>
                    </a:lnTo>
                    <a:lnTo>
                      <a:pt x="593" y="401"/>
                    </a:lnTo>
                    <a:lnTo>
                      <a:pt x="588" y="389"/>
                    </a:lnTo>
                    <a:lnTo>
                      <a:pt x="582" y="376"/>
                    </a:lnTo>
                    <a:lnTo>
                      <a:pt x="576" y="365"/>
                    </a:lnTo>
                    <a:lnTo>
                      <a:pt x="569" y="354"/>
                    </a:lnTo>
                    <a:lnTo>
                      <a:pt x="553" y="332"/>
                    </a:lnTo>
                    <a:lnTo>
                      <a:pt x="535" y="314"/>
                    </a:lnTo>
                    <a:lnTo>
                      <a:pt x="519" y="297"/>
                    </a:lnTo>
                    <a:lnTo>
                      <a:pt x="503" y="283"/>
                    </a:lnTo>
                    <a:lnTo>
                      <a:pt x="478" y="262"/>
                    </a:lnTo>
                    <a:lnTo>
                      <a:pt x="468" y="256"/>
                    </a:lnTo>
                    <a:lnTo>
                      <a:pt x="463" y="246"/>
                    </a:lnTo>
                    <a:lnTo>
                      <a:pt x="451" y="219"/>
                    </a:lnTo>
                    <a:lnTo>
                      <a:pt x="433" y="182"/>
                    </a:lnTo>
                    <a:lnTo>
                      <a:pt x="412" y="138"/>
                    </a:lnTo>
                    <a:lnTo>
                      <a:pt x="389" y="92"/>
                    </a:lnTo>
                    <a:lnTo>
                      <a:pt x="367" y="52"/>
                    </a:lnTo>
                    <a:lnTo>
                      <a:pt x="357" y="33"/>
                    </a:lnTo>
                    <a:lnTo>
                      <a:pt x="347" y="19"/>
                    </a:lnTo>
                    <a:lnTo>
                      <a:pt x="339" y="7"/>
                    </a:lnTo>
                    <a:lnTo>
                      <a:pt x="331" y="0"/>
                    </a:lnTo>
                    <a:lnTo>
                      <a:pt x="327" y="0"/>
                    </a:lnTo>
                    <a:lnTo>
                      <a:pt x="323" y="3"/>
                    </a:lnTo>
                    <a:lnTo>
                      <a:pt x="315" y="9"/>
                    </a:lnTo>
                    <a:lnTo>
                      <a:pt x="308" y="17"/>
                    </a:lnTo>
                    <a:lnTo>
                      <a:pt x="288" y="43"/>
                    </a:lnTo>
                    <a:lnTo>
                      <a:pt x="265" y="79"/>
                    </a:lnTo>
                    <a:lnTo>
                      <a:pt x="238" y="123"/>
                    </a:lnTo>
                    <a:lnTo>
                      <a:pt x="209" y="175"/>
                    </a:lnTo>
                    <a:lnTo>
                      <a:pt x="180" y="231"/>
                    </a:lnTo>
                    <a:lnTo>
                      <a:pt x="150" y="293"/>
                    </a:lnTo>
                    <a:lnTo>
                      <a:pt x="120" y="357"/>
                    </a:lnTo>
                    <a:lnTo>
                      <a:pt x="91" y="422"/>
                    </a:lnTo>
                    <a:lnTo>
                      <a:pt x="65" y="487"/>
                    </a:lnTo>
                    <a:lnTo>
                      <a:pt x="43" y="550"/>
                    </a:lnTo>
                    <a:lnTo>
                      <a:pt x="33" y="581"/>
                    </a:lnTo>
                    <a:lnTo>
                      <a:pt x="24" y="610"/>
                    </a:lnTo>
                    <a:lnTo>
                      <a:pt x="16" y="640"/>
                    </a:lnTo>
                    <a:lnTo>
                      <a:pt x="10" y="667"/>
                    </a:lnTo>
                    <a:lnTo>
                      <a:pt x="5" y="693"/>
                    </a:lnTo>
                    <a:lnTo>
                      <a:pt x="1" y="717"/>
                    </a:lnTo>
                    <a:lnTo>
                      <a:pt x="0" y="741"/>
                    </a:lnTo>
                    <a:lnTo>
                      <a:pt x="0" y="760"/>
                    </a:lnTo>
                    <a:lnTo>
                      <a:pt x="22" y="801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7089840" y="2792520"/>
                <a:ext cx="307800" cy="171360"/>
              </a:xfrm>
              <a:custGeom>
                <a:avLst/>
                <a:gdLst/>
                <a:ahLst/>
                <a:rect l="l" t="t" r="r" b="b"/>
                <a:pathLst>
                  <a:path w="971" h="541">
                    <a:moveTo>
                      <a:pt x="60" y="540"/>
                    </a:moveTo>
                    <a:lnTo>
                      <a:pt x="75" y="529"/>
                    </a:lnTo>
                    <a:lnTo>
                      <a:pt x="116" y="502"/>
                    </a:lnTo>
                    <a:lnTo>
                      <a:pt x="176" y="462"/>
                    </a:lnTo>
                    <a:lnTo>
                      <a:pt x="246" y="417"/>
                    </a:lnTo>
                    <a:lnTo>
                      <a:pt x="284" y="394"/>
                    </a:lnTo>
                    <a:lnTo>
                      <a:pt x="322" y="371"/>
                    </a:lnTo>
                    <a:lnTo>
                      <a:pt x="359" y="351"/>
                    </a:lnTo>
                    <a:lnTo>
                      <a:pt x="395" y="331"/>
                    </a:lnTo>
                    <a:lnTo>
                      <a:pt x="428" y="315"/>
                    </a:lnTo>
                    <a:lnTo>
                      <a:pt x="459" y="303"/>
                    </a:lnTo>
                    <a:lnTo>
                      <a:pt x="472" y="298"/>
                    </a:lnTo>
                    <a:lnTo>
                      <a:pt x="485" y="294"/>
                    </a:lnTo>
                    <a:lnTo>
                      <a:pt x="496" y="291"/>
                    </a:lnTo>
                    <a:lnTo>
                      <a:pt x="506" y="290"/>
                    </a:lnTo>
                    <a:lnTo>
                      <a:pt x="545" y="287"/>
                    </a:lnTo>
                    <a:lnTo>
                      <a:pt x="586" y="284"/>
                    </a:lnTo>
                    <a:lnTo>
                      <a:pt x="629" y="282"/>
                    </a:lnTo>
                    <a:lnTo>
                      <a:pt x="673" y="278"/>
                    </a:lnTo>
                    <a:lnTo>
                      <a:pt x="718" y="272"/>
                    </a:lnTo>
                    <a:lnTo>
                      <a:pt x="764" y="263"/>
                    </a:lnTo>
                    <a:lnTo>
                      <a:pt x="786" y="258"/>
                    </a:lnTo>
                    <a:lnTo>
                      <a:pt x="810" y="252"/>
                    </a:lnTo>
                    <a:lnTo>
                      <a:pt x="832" y="246"/>
                    </a:lnTo>
                    <a:lnTo>
                      <a:pt x="854" y="239"/>
                    </a:lnTo>
                    <a:lnTo>
                      <a:pt x="875" y="230"/>
                    </a:lnTo>
                    <a:lnTo>
                      <a:pt x="894" y="220"/>
                    </a:lnTo>
                    <a:lnTo>
                      <a:pt x="912" y="212"/>
                    </a:lnTo>
                    <a:lnTo>
                      <a:pt x="926" y="202"/>
                    </a:lnTo>
                    <a:lnTo>
                      <a:pt x="939" y="192"/>
                    </a:lnTo>
                    <a:lnTo>
                      <a:pt x="950" y="181"/>
                    </a:lnTo>
                    <a:lnTo>
                      <a:pt x="958" y="171"/>
                    </a:lnTo>
                    <a:lnTo>
                      <a:pt x="965" y="161"/>
                    </a:lnTo>
                    <a:lnTo>
                      <a:pt x="968" y="150"/>
                    </a:lnTo>
                    <a:lnTo>
                      <a:pt x="971" y="139"/>
                    </a:lnTo>
                    <a:lnTo>
                      <a:pt x="971" y="128"/>
                    </a:lnTo>
                    <a:lnTo>
                      <a:pt x="969" y="117"/>
                    </a:lnTo>
                    <a:lnTo>
                      <a:pt x="965" y="106"/>
                    </a:lnTo>
                    <a:lnTo>
                      <a:pt x="958" y="95"/>
                    </a:lnTo>
                    <a:lnTo>
                      <a:pt x="951" y="84"/>
                    </a:lnTo>
                    <a:lnTo>
                      <a:pt x="940" y="73"/>
                    </a:lnTo>
                    <a:lnTo>
                      <a:pt x="934" y="68"/>
                    </a:lnTo>
                    <a:lnTo>
                      <a:pt x="926" y="61"/>
                    </a:lnTo>
                    <a:lnTo>
                      <a:pt x="917" y="57"/>
                    </a:lnTo>
                    <a:lnTo>
                      <a:pt x="905" y="50"/>
                    </a:lnTo>
                    <a:lnTo>
                      <a:pt x="881" y="41"/>
                    </a:lnTo>
                    <a:lnTo>
                      <a:pt x="851" y="31"/>
                    </a:lnTo>
                    <a:lnTo>
                      <a:pt x="818" y="22"/>
                    </a:lnTo>
                    <a:lnTo>
                      <a:pt x="782" y="15"/>
                    </a:lnTo>
                    <a:lnTo>
                      <a:pt x="746" y="9"/>
                    </a:lnTo>
                    <a:lnTo>
                      <a:pt x="707" y="4"/>
                    </a:lnTo>
                    <a:lnTo>
                      <a:pt x="668" y="0"/>
                    </a:lnTo>
                    <a:lnTo>
                      <a:pt x="629" y="0"/>
                    </a:lnTo>
                    <a:lnTo>
                      <a:pt x="610" y="0"/>
                    </a:lnTo>
                    <a:lnTo>
                      <a:pt x="592" y="1"/>
                    </a:lnTo>
                    <a:lnTo>
                      <a:pt x="573" y="2"/>
                    </a:lnTo>
                    <a:lnTo>
                      <a:pt x="556" y="5"/>
                    </a:lnTo>
                    <a:lnTo>
                      <a:pt x="539" y="7"/>
                    </a:lnTo>
                    <a:lnTo>
                      <a:pt x="523" y="11"/>
                    </a:lnTo>
                    <a:lnTo>
                      <a:pt x="508" y="15"/>
                    </a:lnTo>
                    <a:lnTo>
                      <a:pt x="493" y="20"/>
                    </a:lnTo>
                    <a:lnTo>
                      <a:pt x="481" y="26"/>
                    </a:lnTo>
                    <a:lnTo>
                      <a:pt x="469" y="32"/>
                    </a:lnTo>
                    <a:lnTo>
                      <a:pt x="458" y="39"/>
                    </a:lnTo>
                    <a:lnTo>
                      <a:pt x="449" y="48"/>
                    </a:lnTo>
                    <a:lnTo>
                      <a:pt x="432" y="64"/>
                    </a:lnTo>
                    <a:lnTo>
                      <a:pt x="415" y="79"/>
                    </a:lnTo>
                    <a:lnTo>
                      <a:pt x="396" y="92"/>
                    </a:lnTo>
                    <a:lnTo>
                      <a:pt x="379" y="103"/>
                    </a:lnTo>
                    <a:lnTo>
                      <a:pt x="362" y="113"/>
                    </a:lnTo>
                    <a:lnTo>
                      <a:pt x="344" y="123"/>
                    </a:lnTo>
                    <a:lnTo>
                      <a:pt x="326" y="130"/>
                    </a:lnTo>
                    <a:lnTo>
                      <a:pt x="309" y="137"/>
                    </a:lnTo>
                    <a:lnTo>
                      <a:pt x="290" y="141"/>
                    </a:lnTo>
                    <a:lnTo>
                      <a:pt x="273" y="146"/>
                    </a:lnTo>
                    <a:lnTo>
                      <a:pt x="255" y="149"/>
                    </a:lnTo>
                    <a:lnTo>
                      <a:pt x="236" y="151"/>
                    </a:lnTo>
                    <a:lnTo>
                      <a:pt x="218" y="152"/>
                    </a:lnTo>
                    <a:lnTo>
                      <a:pt x="199" y="152"/>
                    </a:lnTo>
                    <a:lnTo>
                      <a:pt x="180" y="152"/>
                    </a:lnTo>
                    <a:lnTo>
                      <a:pt x="161" y="151"/>
                    </a:lnTo>
                    <a:lnTo>
                      <a:pt x="138" y="149"/>
                    </a:lnTo>
                    <a:lnTo>
                      <a:pt x="113" y="145"/>
                    </a:lnTo>
                    <a:lnTo>
                      <a:pt x="87" y="140"/>
                    </a:lnTo>
                    <a:lnTo>
                      <a:pt x="63" y="134"/>
                    </a:lnTo>
                    <a:lnTo>
                      <a:pt x="42" y="128"/>
                    </a:lnTo>
                    <a:lnTo>
                      <a:pt x="25" y="123"/>
                    </a:lnTo>
                    <a:lnTo>
                      <a:pt x="12" y="121"/>
                    </a:lnTo>
                    <a:lnTo>
                      <a:pt x="9" y="119"/>
                    </a:lnTo>
                    <a:lnTo>
                      <a:pt x="7" y="138"/>
                    </a:lnTo>
                    <a:lnTo>
                      <a:pt x="4" y="188"/>
                    </a:lnTo>
                    <a:lnTo>
                      <a:pt x="2" y="221"/>
                    </a:lnTo>
                    <a:lnTo>
                      <a:pt x="0" y="258"/>
                    </a:lnTo>
                    <a:lnTo>
                      <a:pt x="0" y="298"/>
                    </a:lnTo>
                    <a:lnTo>
                      <a:pt x="0" y="338"/>
                    </a:lnTo>
                    <a:lnTo>
                      <a:pt x="1" y="379"/>
                    </a:lnTo>
                    <a:lnTo>
                      <a:pt x="4" y="417"/>
                    </a:lnTo>
                    <a:lnTo>
                      <a:pt x="5" y="435"/>
                    </a:lnTo>
                    <a:lnTo>
                      <a:pt x="7" y="453"/>
                    </a:lnTo>
                    <a:lnTo>
                      <a:pt x="10" y="470"/>
                    </a:lnTo>
                    <a:lnTo>
                      <a:pt x="14" y="485"/>
                    </a:lnTo>
                    <a:lnTo>
                      <a:pt x="17" y="498"/>
                    </a:lnTo>
                    <a:lnTo>
                      <a:pt x="21" y="510"/>
                    </a:lnTo>
                    <a:lnTo>
                      <a:pt x="26" y="520"/>
                    </a:lnTo>
                    <a:lnTo>
                      <a:pt x="32" y="529"/>
                    </a:lnTo>
                    <a:lnTo>
                      <a:pt x="38" y="535"/>
                    </a:lnTo>
                    <a:lnTo>
                      <a:pt x="44" y="539"/>
                    </a:lnTo>
                    <a:lnTo>
                      <a:pt x="52" y="541"/>
                    </a:lnTo>
                    <a:lnTo>
                      <a:pt x="60" y="540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7108920" y="282888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911" h="424">
                    <a:moveTo>
                      <a:pt x="277" y="125"/>
                    </a:moveTo>
                    <a:lnTo>
                      <a:pt x="278" y="116"/>
                    </a:lnTo>
                    <a:lnTo>
                      <a:pt x="280" y="109"/>
                    </a:lnTo>
                    <a:lnTo>
                      <a:pt x="282" y="103"/>
                    </a:lnTo>
                    <a:lnTo>
                      <a:pt x="284" y="97"/>
                    </a:lnTo>
                    <a:lnTo>
                      <a:pt x="288" y="92"/>
                    </a:lnTo>
                    <a:lnTo>
                      <a:pt x="292" y="87"/>
                    </a:lnTo>
                    <a:lnTo>
                      <a:pt x="296" y="83"/>
                    </a:lnTo>
                    <a:lnTo>
                      <a:pt x="302" y="80"/>
                    </a:lnTo>
                    <a:lnTo>
                      <a:pt x="308" y="77"/>
                    </a:lnTo>
                    <a:lnTo>
                      <a:pt x="315" y="75"/>
                    </a:lnTo>
                    <a:lnTo>
                      <a:pt x="323" y="72"/>
                    </a:lnTo>
                    <a:lnTo>
                      <a:pt x="332" y="71"/>
                    </a:lnTo>
                    <a:lnTo>
                      <a:pt x="353" y="67"/>
                    </a:lnTo>
                    <a:lnTo>
                      <a:pt x="380" y="65"/>
                    </a:lnTo>
                    <a:lnTo>
                      <a:pt x="395" y="65"/>
                    </a:lnTo>
                    <a:lnTo>
                      <a:pt x="411" y="64"/>
                    </a:lnTo>
                    <a:lnTo>
                      <a:pt x="427" y="65"/>
                    </a:lnTo>
                    <a:lnTo>
                      <a:pt x="444" y="66"/>
                    </a:lnTo>
                    <a:lnTo>
                      <a:pt x="480" y="71"/>
                    </a:lnTo>
                    <a:lnTo>
                      <a:pt x="518" y="76"/>
                    </a:lnTo>
                    <a:lnTo>
                      <a:pt x="560" y="83"/>
                    </a:lnTo>
                    <a:lnTo>
                      <a:pt x="603" y="89"/>
                    </a:lnTo>
                    <a:lnTo>
                      <a:pt x="647" y="94"/>
                    </a:lnTo>
                    <a:lnTo>
                      <a:pt x="695" y="98"/>
                    </a:lnTo>
                    <a:lnTo>
                      <a:pt x="720" y="98"/>
                    </a:lnTo>
                    <a:lnTo>
                      <a:pt x="743" y="96"/>
                    </a:lnTo>
                    <a:lnTo>
                      <a:pt x="764" y="92"/>
                    </a:lnTo>
                    <a:lnTo>
                      <a:pt x="785" y="86"/>
                    </a:lnTo>
                    <a:lnTo>
                      <a:pt x="804" y="78"/>
                    </a:lnTo>
                    <a:lnTo>
                      <a:pt x="821" y="71"/>
                    </a:lnTo>
                    <a:lnTo>
                      <a:pt x="837" y="61"/>
                    </a:lnTo>
                    <a:lnTo>
                      <a:pt x="852" y="52"/>
                    </a:lnTo>
                    <a:lnTo>
                      <a:pt x="864" y="43"/>
                    </a:lnTo>
                    <a:lnTo>
                      <a:pt x="876" y="33"/>
                    </a:lnTo>
                    <a:lnTo>
                      <a:pt x="885" y="24"/>
                    </a:lnTo>
                    <a:lnTo>
                      <a:pt x="893" y="17"/>
                    </a:lnTo>
                    <a:lnTo>
                      <a:pt x="905" y="5"/>
                    </a:lnTo>
                    <a:lnTo>
                      <a:pt x="908" y="0"/>
                    </a:lnTo>
                    <a:lnTo>
                      <a:pt x="909" y="8"/>
                    </a:lnTo>
                    <a:lnTo>
                      <a:pt x="911" y="17"/>
                    </a:lnTo>
                    <a:lnTo>
                      <a:pt x="909" y="24"/>
                    </a:lnTo>
                    <a:lnTo>
                      <a:pt x="908" y="33"/>
                    </a:lnTo>
                    <a:lnTo>
                      <a:pt x="906" y="40"/>
                    </a:lnTo>
                    <a:lnTo>
                      <a:pt x="901" y="49"/>
                    </a:lnTo>
                    <a:lnTo>
                      <a:pt x="896" y="56"/>
                    </a:lnTo>
                    <a:lnTo>
                      <a:pt x="890" y="65"/>
                    </a:lnTo>
                    <a:lnTo>
                      <a:pt x="881" y="72"/>
                    </a:lnTo>
                    <a:lnTo>
                      <a:pt x="873" y="80"/>
                    </a:lnTo>
                    <a:lnTo>
                      <a:pt x="863" y="87"/>
                    </a:lnTo>
                    <a:lnTo>
                      <a:pt x="852" y="94"/>
                    </a:lnTo>
                    <a:lnTo>
                      <a:pt x="838" y="102"/>
                    </a:lnTo>
                    <a:lnTo>
                      <a:pt x="825" y="109"/>
                    </a:lnTo>
                    <a:lnTo>
                      <a:pt x="810" y="115"/>
                    </a:lnTo>
                    <a:lnTo>
                      <a:pt x="794" y="123"/>
                    </a:lnTo>
                    <a:lnTo>
                      <a:pt x="772" y="130"/>
                    </a:lnTo>
                    <a:lnTo>
                      <a:pt x="750" y="136"/>
                    </a:lnTo>
                    <a:lnTo>
                      <a:pt x="726" y="142"/>
                    </a:lnTo>
                    <a:lnTo>
                      <a:pt x="704" y="147"/>
                    </a:lnTo>
                    <a:lnTo>
                      <a:pt x="658" y="156"/>
                    </a:lnTo>
                    <a:lnTo>
                      <a:pt x="613" y="162"/>
                    </a:lnTo>
                    <a:lnTo>
                      <a:pt x="569" y="166"/>
                    </a:lnTo>
                    <a:lnTo>
                      <a:pt x="526" y="168"/>
                    </a:lnTo>
                    <a:lnTo>
                      <a:pt x="485" y="171"/>
                    </a:lnTo>
                    <a:lnTo>
                      <a:pt x="446" y="174"/>
                    </a:lnTo>
                    <a:lnTo>
                      <a:pt x="436" y="175"/>
                    </a:lnTo>
                    <a:lnTo>
                      <a:pt x="425" y="178"/>
                    </a:lnTo>
                    <a:lnTo>
                      <a:pt x="412" y="182"/>
                    </a:lnTo>
                    <a:lnTo>
                      <a:pt x="399" y="187"/>
                    </a:lnTo>
                    <a:lnTo>
                      <a:pt x="368" y="199"/>
                    </a:lnTo>
                    <a:lnTo>
                      <a:pt x="335" y="215"/>
                    </a:lnTo>
                    <a:lnTo>
                      <a:pt x="299" y="235"/>
                    </a:lnTo>
                    <a:lnTo>
                      <a:pt x="262" y="255"/>
                    </a:lnTo>
                    <a:lnTo>
                      <a:pt x="224" y="278"/>
                    </a:lnTo>
                    <a:lnTo>
                      <a:pt x="186" y="301"/>
                    </a:lnTo>
                    <a:lnTo>
                      <a:pt x="116" y="346"/>
                    </a:lnTo>
                    <a:lnTo>
                      <a:pt x="56" y="386"/>
                    </a:lnTo>
                    <a:lnTo>
                      <a:pt x="15" y="413"/>
                    </a:lnTo>
                    <a:lnTo>
                      <a:pt x="0" y="424"/>
                    </a:lnTo>
                    <a:lnTo>
                      <a:pt x="1" y="413"/>
                    </a:lnTo>
                    <a:lnTo>
                      <a:pt x="4" y="386"/>
                    </a:lnTo>
                    <a:lnTo>
                      <a:pt x="9" y="348"/>
                    </a:lnTo>
                    <a:lnTo>
                      <a:pt x="16" y="306"/>
                    </a:lnTo>
                    <a:lnTo>
                      <a:pt x="21" y="285"/>
                    </a:lnTo>
                    <a:lnTo>
                      <a:pt x="27" y="265"/>
                    </a:lnTo>
                    <a:lnTo>
                      <a:pt x="33" y="248"/>
                    </a:lnTo>
                    <a:lnTo>
                      <a:pt x="41" y="235"/>
                    </a:lnTo>
                    <a:lnTo>
                      <a:pt x="45" y="230"/>
                    </a:lnTo>
                    <a:lnTo>
                      <a:pt x="48" y="225"/>
                    </a:lnTo>
                    <a:lnTo>
                      <a:pt x="52" y="221"/>
                    </a:lnTo>
                    <a:lnTo>
                      <a:pt x="57" y="220"/>
                    </a:lnTo>
                    <a:lnTo>
                      <a:pt x="62" y="219"/>
                    </a:lnTo>
                    <a:lnTo>
                      <a:pt x="65" y="220"/>
                    </a:lnTo>
                    <a:lnTo>
                      <a:pt x="72" y="221"/>
                    </a:lnTo>
                    <a:lnTo>
                      <a:pt x="77" y="226"/>
                    </a:lnTo>
                    <a:lnTo>
                      <a:pt x="83" y="230"/>
                    </a:lnTo>
                    <a:lnTo>
                      <a:pt x="89" y="233"/>
                    </a:lnTo>
                    <a:lnTo>
                      <a:pt x="95" y="236"/>
                    </a:lnTo>
                    <a:lnTo>
                      <a:pt x="101" y="238"/>
                    </a:lnTo>
                    <a:lnTo>
                      <a:pt x="109" y="239"/>
                    </a:lnTo>
                    <a:lnTo>
                      <a:pt x="116" y="239"/>
                    </a:lnTo>
                    <a:lnTo>
                      <a:pt x="125" y="239"/>
                    </a:lnTo>
                    <a:lnTo>
                      <a:pt x="132" y="238"/>
                    </a:lnTo>
                    <a:lnTo>
                      <a:pt x="148" y="235"/>
                    </a:lnTo>
                    <a:lnTo>
                      <a:pt x="164" y="228"/>
                    </a:lnTo>
                    <a:lnTo>
                      <a:pt x="180" y="221"/>
                    </a:lnTo>
                    <a:lnTo>
                      <a:pt x="196" y="212"/>
                    </a:lnTo>
                    <a:lnTo>
                      <a:pt x="212" y="201"/>
                    </a:lnTo>
                    <a:lnTo>
                      <a:pt x="225" y="190"/>
                    </a:lnTo>
                    <a:lnTo>
                      <a:pt x="239" y="179"/>
                    </a:lnTo>
                    <a:lnTo>
                      <a:pt x="251" y="167"/>
                    </a:lnTo>
                    <a:lnTo>
                      <a:pt x="261" y="156"/>
                    </a:lnTo>
                    <a:lnTo>
                      <a:pt x="268" y="145"/>
                    </a:lnTo>
                    <a:lnTo>
                      <a:pt x="275" y="135"/>
                    </a:lnTo>
                    <a:lnTo>
                      <a:pt x="277" y="125"/>
                    </a:lnTo>
                    <a:close/>
                  </a:path>
                </a:pathLst>
              </a:custGeom>
              <a:solidFill>
                <a:srgbClr val="63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7108920" y="282888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911" h="424">
                    <a:moveTo>
                      <a:pt x="297" y="144"/>
                    </a:moveTo>
                    <a:lnTo>
                      <a:pt x="299" y="129"/>
                    </a:lnTo>
                    <a:lnTo>
                      <a:pt x="303" y="119"/>
                    </a:lnTo>
                    <a:lnTo>
                      <a:pt x="305" y="114"/>
                    </a:lnTo>
                    <a:lnTo>
                      <a:pt x="309" y="112"/>
                    </a:lnTo>
                    <a:lnTo>
                      <a:pt x="313" y="109"/>
                    </a:lnTo>
                    <a:lnTo>
                      <a:pt x="318" y="107"/>
                    </a:lnTo>
                    <a:lnTo>
                      <a:pt x="330" y="104"/>
                    </a:lnTo>
                    <a:lnTo>
                      <a:pt x="346" y="102"/>
                    </a:lnTo>
                    <a:lnTo>
                      <a:pt x="368" y="100"/>
                    </a:lnTo>
                    <a:lnTo>
                      <a:pt x="394" y="98"/>
                    </a:lnTo>
                    <a:lnTo>
                      <a:pt x="425" y="97"/>
                    </a:lnTo>
                    <a:lnTo>
                      <a:pt x="457" y="99"/>
                    </a:lnTo>
                    <a:lnTo>
                      <a:pt x="490" y="102"/>
                    </a:lnTo>
                    <a:lnTo>
                      <a:pt x="526" y="107"/>
                    </a:lnTo>
                    <a:lnTo>
                      <a:pt x="564" y="110"/>
                    </a:lnTo>
                    <a:lnTo>
                      <a:pt x="604" y="115"/>
                    </a:lnTo>
                    <a:lnTo>
                      <a:pt x="649" y="119"/>
                    </a:lnTo>
                    <a:lnTo>
                      <a:pt x="695" y="123"/>
                    </a:lnTo>
                    <a:lnTo>
                      <a:pt x="708" y="123"/>
                    </a:lnTo>
                    <a:lnTo>
                      <a:pt x="720" y="123"/>
                    </a:lnTo>
                    <a:lnTo>
                      <a:pt x="732" y="121"/>
                    </a:lnTo>
                    <a:lnTo>
                      <a:pt x="743" y="119"/>
                    </a:lnTo>
                    <a:lnTo>
                      <a:pt x="764" y="114"/>
                    </a:lnTo>
                    <a:lnTo>
                      <a:pt x="785" y="107"/>
                    </a:lnTo>
                    <a:lnTo>
                      <a:pt x="804" y="98"/>
                    </a:lnTo>
                    <a:lnTo>
                      <a:pt x="821" y="87"/>
                    </a:lnTo>
                    <a:lnTo>
                      <a:pt x="837" y="76"/>
                    </a:lnTo>
                    <a:lnTo>
                      <a:pt x="852" y="65"/>
                    </a:lnTo>
                    <a:lnTo>
                      <a:pt x="864" y="52"/>
                    </a:lnTo>
                    <a:lnTo>
                      <a:pt x="876" y="41"/>
                    </a:lnTo>
                    <a:lnTo>
                      <a:pt x="885" y="30"/>
                    </a:lnTo>
                    <a:lnTo>
                      <a:pt x="893" y="21"/>
                    </a:lnTo>
                    <a:lnTo>
                      <a:pt x="905" y="6"/>
                    </a:lnTo>
                    <a:lnTo>
                      <a:pt x="908" y="0"/>
                    </a:lnTo>
                    <a:lnTo>
                      <a:pt x="909" y="8"/>
                    </a:lnTo>
                    <a:lnTo>
                      <a:pt x="911" y="17"/>
                    </a:lnTo>
                    <a:lnTo>
                      <a:pt x="909" y="24"/>
                    </a:lnTo>
                    <a:lnTo>
                      <a:pt x="908" y="33"/>
                    </a:lnTo>
                    <a:lnTo>
                      <a:pt x="906" y="40"/>
                    </a:lnTo>
                    <a:lnTo>
                      <a:pt x="901" y="49"/>
                    </a:lnTo>
                    <a:lnTo>
                      <a:pt x="896" y="56"/>
                    </a:lnTo>
                    <a:lnTo>
                      <a:pt x="890" y="65"/>
                    </a:lnTo>
                    <a:lnTo>
                      <a:pt x="881" y="72"/>
                    </a:lnTo>
                    <a:lnTo>
                      <a:pt x="873" y="80"/>
                    </a:lnTo>
                    <a:lnTo>
                      <a:pt x="863" y="87"/>
                    </a:lnTo>
                    <a:lnTo>
                      <a:pt x="852" y="94"/>
                    </a:lnTo>
                    <a:lnTo>
                      <a:pt x="838" y="102"/>
                    </a:lnTo>
                    <a:lnTo>
                      <a:pt x="825" y="109"/>
                    </a:lnTo>
                    <a:lnTo>
                      <a:pt x="810" y="115"/>
                    </a:lnTo>
                    <a:lnTo>
                      <a:pt x="794" y="123"/>
                    </a:lnTo>
                    <a:lnTo>
                      <a:pt x="772" y="130"/>
                    </a:lnTo>
                    <a:lnTo>
                      <a:pt x="750" y="136"/>
                    </a:lnTo>
                    <a:lnTo>
                      <a:pt x="726" y="142"/>
                    </a:lnTo>
                    <a:lnTo>
                      <a:pt x="704" y="147"/>
                    </a:lnTo>
                    <a:lnTo>
                      <a:pt x="658" y="156"/>
                    </a:lnTo>
                    <a:lnTo>
                      <a:pt x="613" y="162"/>
                    </a:lnTo>
                    <a:lnTo>
                      <a:pt x="569" y="166"/>
                    </a:lnTo>
                    <a:lnTo>
                      <a:pt x="526" y="168"/>
                    </a:lnTo>
                    <a:lnTo>
                      <a:pt x="485" y="171"/>
                    </a:lnTo>
                    <a:lnTo>
                      <a:pt x="446" y="174"/>
                    </a:lnTo>
                    <a:lnTo>
                      <a:pt x="436" y="175"/>
                    </a:lnTo>
                    <a:lnTo>
                      <a:pt x="425" y="178"/>
                    </a:lnTo>
                    <a:lnTo>
                      <a:pt x="412" y="182"/>
                    </a:lnTo>
                    <a:lnTo>
                      <a:pt x="399" y="187"/>
                    </a:lnTo>
                    <a:lnTo>
                      <a:pt x="368" y="199"/>
                    </a:lnTo>
                    <a:lnTo>
                      <a:pt x="335" y="215"/>
                    </a:lnTo>
                    <a:lnTo>
                      <a:pt x="299" y="235"/>
                    </a:lnTo>
                    <a:lnTo>
                      <a:pt x="262" y="255"/>
                    </a:lnTo>
                    <a:lnTo>
                      <a:pt x="224" y="278"/>
                    </a:lnTo>
                    <a:lnTo>
                      <a:pt x="186" y="301"/>
                    </a:lnTo>
                    <a:lnTo>
                      <a:pt x="116" y="346"/>
                    </a:lnTo>
                    <a:lnTo>
                      <a:pt x="56" y="386"/>
                    </a:lnTo>
                    <a:lnTo>
                      <a:pt x="15" y="413"/>
                    </a:lnTo>
                    <a:lnTo>
                      <a:pt x="0" y="424"/>
                    </a:lnTo>
                    <a:lnTo>
                      <a:pt x="1" y="415"/>
                    </a:lnTo>
                    <a:lnTo>
                      <a:pt x="5" y="392"/>
                    </a:lnTo>
                    <a:lnTo>
                      <a:pt x="13" y="360"/>
                    </a:lnTo>
                    <a:lnTo>
                      <a:pt x="22" y="324"/>
                    </a:lnTo>
                    <a:lnTo>
                      <a:pt x="29" y="308"/>
                    </a:lnTo>
                    <a:lnTo>
                      <a:pt x="35" y="292"/>
                    </a:lnTo>
                    <a:lnTo>
                      <a:pt x="42" y="279"/>
                    </a:lnTo>
                    <a:lnTo>
                      <a:pt x="49" y="268"/>
                    </a:lnTo>
                    <a:lnTo>
                      <a:pt x="53" y="264"/>
                    </a:lnTo>
                    <a:lnTo>
                      <a:pt x="58" y="260"/>
                    </a:lnTo>
                    <a:lnTo>
                      <a:pt x="62" y="258"/>
                    </a:lnTo>
                    <a:lnTo>
                      <a:pt x="67" y="258"/>
                    </a:lnTo>
                    <a:lnTo>
                      <a:pt x="72" y="258"/>
                    </a:lnTo>
                    <a:lnTo>
                      <a:pt x="77" y="259"/>
                    </a:lnTo>
                    <a:lnTo>
                      <a:pt x="81" y="262"/>
                    </a:lnTo>
                    <a:lnTo>
                      <a:pt x="88" y="267"/>
                    </a:lnTo>
                    <a:lnTo>
                      <a:pt x="93" y="270"/>
                    </a:lnTo>
                    <a:lnTo>
                      <a:pt x="99" y="274"/>
                    </a:lnTo>
                    <a:lnTo>
                      <a:pt x="106" y="276"/>
                    </a:lnTo>
                    <a:lnTo>
                      <a:pt x="113" y="278"/>
                    </a:lnTo>
                    <a:lnTo>
                      <a:pt x="121" y="278"/>
                    </a:lnTo>
                    <a:lnTo>
                      <a:pt x="128" y="278"/>
                    </a:lnTo>
                    <a:lnTo>
                      <a:pt x="136" y="276"/>
                    </a:lnTo>
                    <a:lnTo>
                      <a:pt x="144" y="275"/>
                    </a:lnTo>
                    <a:lnTo>
                      <a:pt x="161" y="269"/>
                    </a:lnTo>
                    <a:lnTo>
                      <a:pt x="179" y="262"/>
                    </a:lnTo>
                    <a:lnTo>
                      <a:pt x="196" y="252"/>
                    </a:lnTo>
                    <a:lnTo>
                      <a:pt x="212" y="241"/>
                    </a:lnTo>
                    <a:lnTo>
                      <a:pt x="228" y="228"/>
                    </a:lnTo>
                    <a:lnTo>
                      <a:pt x="244" y="215"/>
                    </a:lnTo>
                    <a:lnTo>
                      <a:pt x="257" y="203"/>
                    </a:lnTo>
                    <a:lnTo>
                      <a:pt x="270" y="189"/>
                    </a:lnTo>
                    <a:lnTo>
                      <a:pt x="280" y="175"/>
                    </a:lnTo>
                    <a:lnTo>
                      <a:pt x="288" y="164"/>
                    </a:lnTo>
                    <a:lnTo>
                      <a:pt x="294" y="153"/>
                    </a:lnTo>
                    <a:lnTo>
                      <a:pt x="297" y="144"/>
                    </a:lnTo>
                    <a:close/>
                  </a:path>
                </a:pathLst>
              </a:custGeom>
              <a:solidFill>
                <a:srgbClr val="604e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7108920" y="282888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911" h="424">
                    <a:moveTo>
                      <a:pt x="0" y="424"/>
                    </a:moveTo>
                    <a:lnTo>
                      <a:pt x="15" y="413"/>
                    </a:lnTo>
                    <a:lnTo>
                      <a:pt x="56" y="386"/>
                    </a:lnTo>
                    <a:lnTo>
                      <a:pt x="116" y="346"/>
                    </a:lnTo>
                    <a:lnTo>
                      <a:pt x="186" y="301"/>
                    </a:lnTo>
                    <a:lnTo>
                      <a:pt x="224" y="278"/>
                    </a:lnTo>
                    <a:lnTo>
                      <a:pt x="262" y="255"/>
                    </a:lnTo>
                    <a:lnTo>
                      <a:pt x="299" y="235"/>
                    </a:lnTo>
                    <a:lnTo>
                      <a:pt x="335" y="215"/>
                    </a:lnTo>
                    <a:lnTo>
                      <a:pt x="368" y="199"/>
                    </a:lnTo>
                    <a:lnTo>
                      <a:pt x="399" y="187"/>
                    </a:lnTo>
                    <a:lnTo>
                      <a:pt x="412" y="182"/>
                    </a:lnTo>
                    <a:lnTo>
                      <a:pt x="425" y="178"/>
                    </a:lnTo>
                    <a:lnTo>
                      <a:pt x="436" y="175"/>
                    </a:lnTo>
                    <a:lnTo>
                      <a:pt x="446" y="174"/>
                    </a:lnTo>
                    <a:lnTo>
                      <a:pt x="485" y="171"/>
                    </a:lnTo>
                    <a:lnTo>
                      <a:pt x="526" y="168"/>
                    </a:lnTo>
                    <a:lnTo>
                      <a:pt x="569" y="166"/>
                    </a:lnTo>
                    <a:lnTo>
                      <a:pt x="613" y="162"/>
                    </a:lnTo>
                    <a:lnTo>
                      <a:pt x="658" y="156"/>
                    </a:lnTo>
                    <a:lnTo>
                      <a:pt x="704" y="147"/>
                    </a:lnTo>
                    <a:lnTo>
                      <a:pt x="726" y="142"/>
                    </a:lnTo>
                    <a:lnTo>
                      <a:pt x="750" y="136"/>
                    </a:lnTo>
                    <a:lnTo>
                      <a:pt x="772" y="130"/>
                    </a:lnTo>
                    <a:lnTo>
                      <a:pt x="794" y="123"/>
                    </a:lnTo>
                    <a:lnTo>
                      <a:pt x="810" y="115"/>
                    </a:lnTo>
                    <a:lnTo>
                      <a:pt x="825" y="109"/>
                    </a:lnTo>
                    <a:lnTo>
                      <a:pt x="838" y="102"/>
                    </a:lnTo>
                    <a:lnTo>
                      <a:pt x="852" y="94"/>
                    </a:lnTo>
                    <a:lnTo>
                      <a:pt x="863" y="87"/>
                    </a:lnTo>
                    <a:lnTo>
                      <a:pt x="873" y="80"/>
                    </a:lnTo>
                    <a:lnTo>
                      <a:pt x="881" y="72"/>
                    </a:lnTo>
                    <a:lnTo>
                      <a:pt x="890" y="65"/>
                    </a:lnTo>
                    <a:lnTo>
                      <a:pt x="896" y="56"/>
                    </a:lnTo>
                    <a:lnTo>
                      <a:pt x="901" y="49"/>
                    </a:lnTo>
                    <a:lnTo>
                      <a:pt x="906" y="40"/>
                    </a:lnTo>
                    <a:lnTo>
                      <a:pt x="908" y="33"/>
                    </a:lnTo>
                    <a:lnTo>
                      <a:pt x="909" y="24"/>
                    </a:lnTo>
                    <a:lnTo>
                      <a:pt x="911" y="17"/>
                    </a:lnTo>
                    <a:lnTo>
                      <a:pt x="909" y="8"/>
                    </a:lnTo>
                    <a:lnTo>
                      <a:pt x="908" y="0"/>
                    </a:lnTo>
                    <a:lnTo>
                      <a:pt x="905" y="7"/>
                    </a:lnTo>
                    <a:lnTo>
                      <a:pt x="893" y="24"/>
                    </a:lnTo>
                    <a:lnTo>
                      <a:pt x="885" y="35"/>
                    </a:lnTo>
                    <a:lnTo>
                      <a:pt x="876" y="49"/>
                    </a:lnTo>
                    <a:lnTo>
                      <a:pt x="864" y="62"/>
                    </a:lnTo>
                    <a:lnTo>
                      <a:pt x="852" y="76"/>
                    </a:lnTo>
                    <a:lnTo>
                      <a:pt x="837" y="91"/>
                    </a:lnTo>
                    <a:lnTo>
                      <a:pt x="821" y="104"/>
                    </a:lnTo>
                    <a:lnTo>
                      <a:pt x="804" y="116"/>
                    </a:lnTo>
                    <a:lnTo>
                      <a:pt x="785" y="128"/>
                    </a:lnTo>
                    <a:lnTo>
                      <a:pt x="775" y="132"/>
                    </a:lnTo>
                    <a:lnTo>
                      <a:pt x="764" y="136"/>
                    </a:lnTo>
                    <a:lnTo>
                      <a:pt x="754" y="140"/>
                    </a:lnTo>
                    <a:lnTo>
                      <a:pt x="743" y="142"/>
                    </a:lnTo>
                    <a:lnTo>
                      <a:pt x="732" y="145"/>
                    </a:lnTo>
                    <a:lnTo>
                      <a:pt x="720" y="146"/>
                    </a:lnTo>
                    <a:lnTo>
                      <a:pt x="708" y="147"/>
                    </a:lnTo>
                    <a:lnTo>
                      <a:pt x="695" y="147"/>
                    </a:lnTo>
                    <a:lnTo>
                      <a:pt x="649" y="145"/>
                    </a:lnTo>
                    <a:lnTo>
                      <a:pt x="607" y="141"/>
                    </a:lnTo>
                    <a:lnTo>
                      <a:pt x="569" y="139"/>
                    </a:lnTo>
                    <a:lnTo>
                      <a:pt x="533" y="136"/>
                    </a:lnTo>
                    <a:lnTo>
                      <a:pt x="499" y="134"/>
                    </a:lnTo>
                    <a:lnTo>
                      <a:pt x="468" y="132"/>
                    </a:lnTo>
                    <a:lnTo>
                      <a:pt x="437" y="132"/>
                    </a:lnTo>
                    <a:lnTo>
                      <a:pt x="407" y="134"/>
                    </a:lnTo>
                    <a:lnTo>
                      <a:pt x="382" y="135"/>
                    </a:lnTo>
                    <a:lnTo>
                      <a:pt x="361" y="135"/>
                    </a:lnTo>
                    <a:lnTo>
                      <a:pt x="346" y="134"/>
                    </a:lnTo>
                    <a:lnTo>
                      <a:pt x="335" y="132"/>
                    </a:lnTo>
                    <a:lnTo>
                      <a:pt x="331" y="132"/>
                    </a:lnTo>
                    <a:lnTo>
                      <a:pt x="328" y="134"/>
                    </a:lnTo>
                    <a:lnTo>
                      <a:pt x="325" y="135"/>
                    </a:lnTo>
                    <a:lnTo>
                      <a:pt x="323" y="137"/>
                    </a:lnTo>
                    <a:lnTo>
                      <a:pt x="319" y="146"/>
                    </a:lnTo>
                    <a:lnTo>
                      <a:pt x="315" y="161"/>
                    </a:lnTo>
                    <a:lnTo>
                      <a:pt x="313" y="171"/>
                    </a:lnTo>
                    <a:lnTo>
                      <a:pt x="307" y="182"/>
                    </a:lnTo>
                    <a:lnTo>
                      <a:pt x="298" y="195"/>
                    </a:lnTo>
                    <a:lnTo>
                      <a:pt x="288" y="210"/>
                    </a:lnTo>
                    <a:lnTo>
                      <a:pt x="275" y="225"/>
                    </a:lnTo>
                    <a:lnTo>
                      <a:pt x="260" y="239"/>
                    </a:lnTo>
                    <a:lnTo>
                      <a:pt x="244" y="254"/>
                    </a:lnTo>
                    <a:lnTo>
                      <a:pt x="228" y="269"/>
                    </a:lnTo>
                    <a:lnTo>
                      <a:pt x="209" y="282"/>
                    </a:lnTo>
                    <a:lnTo>
                      <a:pt x="192" y="294"/>
                    </a:lnTo>
                    <a:lnTo>
                      <a:pt x="175" y="303"/>
                    </a:lnTo>
                    <a:lnTo>
                      <a:pt x="158" y="310"/>
                    </a:lnTo>
                    <a:lnTo>
                      <a:pt x="149" y="312"/>
                    </a:lnTo>
                    <a:lnTo>
                      <a:pt x="142" y="314"/>
                    </a:lnTo>
                    <a:lnTo>
                      <a:pt x="133" y="314"/>
                    </a:lnTo>
                    <a:lnTo>
                      <a:pt x="126" y="314"/>
                    </a:lnTo>
                    <a:lnTo>
                      <a:pt x="120" y="313"/>
                    </a:lnTo>
                    <a:lnTo>
                      <a:pt x="112" y="312"/>
                    </a:lnTo>
                    <a:lnTo>
                      <a:pt x="106" y="308"/>
                    </a:lnTo>
                    <a:lnTo>
                      <a:pt x="101" y="305"/>
                    </a:lnTo>
                    <a:lnTo>
                      <a:pt x="95" y="300"/>
                    </a:lnTo>
                    <a:lnTo>
                      <a:pt x="90" y="297"/>
                    </a:lnTo>
                    <a:lnTo>
                      <a:pt x="84" y="295"/>
                    </a:lnTo>
                    <a:lnTo>
                      <a:pt x="79" y="295"/>
                    </a:lnTo>
                    <a:lnTo>
                      <a:pt x="74" y="295"/>
                    </a:lnTo>
                    <a:lnTo>
                      <a:pt x="69" y="296"/>
                    </a:lnTo>
                    <a:lnTo>
                      <a:pt x="64" y="298"/>
                    </a:lnTo>
                    <a:lnTo>
                      <a:pt x="59" y="301"/>
                    </a:lnTo>
                    <a:lnTo>
                      <a:pt x="51" y="310"/>
                    </a:lnTo>
                    <a:lnTo>
                      <a:pt x="42" y="319"/>
                    </a:lnTo>
                    <a:lnTo>
                      <a:pt x="35" y="332"/>
                    </a:lnTo>
                    <a:lnTo>
                      <a:pt x="29" y="345"/>
                    </a:lnTo>
                    <a:lnTo>
                      <a:pt x="16" y="372"/>
                    </a:lnTo>
                    <a:lnTo>
                      <a:pt x="8" y="398"/>
                    </a:lnTo>
                    <a:lnTo>
                      <a:pt x="1" y="417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5c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6948360" y="2779920"/>
                <a:ext cx="112680" cy="237960"/>
              </a:xfrm>
              <a:custGeom>
                <a:avLst/>
                <a:gdLst/>
                <a:ahLst/>
                <a:rect l="l" t="t" r="r" b="b"/>
                <a:pathLst>
                  <a:path w="353" h="750">
                    <a:moveTo>
                      <a:pt x="353" y="0"/>
                    </a:moveTo>
                    <a:lnTo>
                      <a:pt x="353" y="5"/>
                    </a:lnTo>
                    <a:lnTo>
                      <a:pt x="352" y="17"/>
                    </a:lnTo>
                    <a:lnTo>
                      <a:pt x="348" y="37"/>
                    </a:lnTo>
                    <a:lnTo>
                      <a:pt x="345" y="66"/>
                    </a:lnTo>
                    <a:lnTo>
                      <a:pt x="340" y="103"/>
                    </a:lnTo>
                    <a:lnTo>
                      <a:pt x="335" y="148"/>
                    </a:lnTo>
                    <a:lnTo>
                      <a:pt x="329" y="201"/>
                    </a:lnTo>
                    <a:lnTo>
                      <a:pt x="321" y="264"/>
                    </a:lnTo>
                    <a:lnTo>
                      <a:pt x="315" y="327"/>
                    </a:lnTo>
                    <a:lnTo>
                      <a:pt x="310" y="382"/>
                    </a:lnTo>
                    <a:lnTo>
                      <a:pt x="308" y="408"/>
                    </a:lnTo>
                    <a:lnTo>
                      <a:pt x="305" y="433"/>
                    </a:lnTo>
                    <a:lnTo>
                      <a:pt x="303" y="456"/>
                    </a:lnTo>
                    <a:lnTo>
                      <a:pt x="299" y="478"/>
                    </a:lnTo>
                    <a:lnTo>
                      <a:pt x="294" y="500"/>
                    </a:lnTo>
                    <a:lnTo>
                      <a:pt x="288" y="520"/>
                    </a:lnTo>
                    <a:lnTo>
                      <a:pt x="281" y="540"/>
                    </a:lnTo>
                    <a:lnTo>
                      <a:pt x="271" y="559"/>
                    </a:lnTo>
                    <a:lnTo>
                      <a:pt x="260" y="578"/>
                    </a:lnTo>
                    <a:lnTo>
                      <a:pt x="246" y="595"/>
                    </a:lnTo>
                    <a:lnTo>
                      <a:pt x="229" y="613"/>
                    </a:lnTo>
                    <a:lnTo>
                      <a:pt x="209" y="631"/>
                    </a:lnTo>
                    <a:lnTo>
                      <a:pt x="172" y="663"/>
                    </a:lnTo>
                    <a:lnTo>
                      <a:pt x="144" y="690"/>
                    </a:lnTo>
                    <a:lnTo>
                      <a:pt x="121" y="712"/>
                    </a:lnTo>
                    <a:lnTo>
                      <a:pt x="101" y="729"/>
                    </a:lnTo>
                    <a:lnTo>
                      <a:pt x="92" y="735"/>
                    </a:lnTo>
                    <a:lnTo>
                      <a:pt x="83" y="740"/>
                    </a:lnTo>
                    <a:lnTo>
                      <a:pt x="74" y="745"/>
                    </a:lnTo>
                    <a:lnTo>
                      <a:pt x="64" y="747"/>
                    </a:lnTo>
                    <a:lnTo>
                      <a:pt x="53" y="750"/>
                    </a:lnTo>
                    <a:lnTo>
                      <a:pt x="41" y="750"/>
                    </a:lnTo>
                    <a:lnTo>
                      <a:pt x="27" y="749"/>
                    </a:lnTo>
                    <a:lnTo>
                      <a:pt x="11" y="747"/>
                    </a:lnTo>
                    <a:lnTo>
                      <a:pt x="5" y="744"/>
                    </a:lnTo>
                    <a:lnTo>
                      <a:pt x="1" y="738"/>
                    </a:lnTo>
                    <a:lnTo>
                      <a:pt x="0" y="727"/>
                    </a:lnTo>
                    <a:lnTo>
                      <a:pt x="3" y="712"/>
                    </a:lnTo>
                    <a:lnTo>
                      <a:pt x="6" y="695"/>
                    </a:lnTo>
                    <a:lnTo>
                      <a:pt x="11" y="674"/>
                    </a:lnTo>
                    <a:lnTo>
                      <a:pt x="20" y="652"/>
                    </a:lnTo>
                    <a:lnTo>
                      <a:pt x="30" y="626"/>
                    </a:lnTo>
                    <a:lnTo>
                      <a:pt x="53" y="569"/>
                    </a:lnTo>
                    <a:lnTo>
                      <a:pt x="83" y="506"/>
                    </a:lnTo>
                    <a:lnTo>
                      <a:pt x="116" y="439"/>
                    </a:lnTo>
                    <a:lnTo>
                      <a:pt x="151" y="370"/>
                    </a:lnTo>
                    <a:lnTo>
                      <a:pt x="223" y="233"/>
                    </a:lnTo>
                    <a:lnTo>
                      <a:pt x="288" y="115"/>
                    </a:lnTo>
                    <a:lnTo>
                      <a:pt x="336" y="32"/>
                    </a:lnTo>
                    <a:lnTo>
                      <a:pt x="353" y="0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6948360" y="2792520"/>
                <a:ext cx="108000" cy="219240"/>
              </a:xfrm>
              <a:custGeom>
                <a:avLst/>
                <a:gdLst/>
                <a:ahLst/>
                <a:rect l="l" t="t" r="r" b="b"/>
                <a:pathLst>
                  <a:path w="337" h="693">
                    <a:moveTo>
                      <a:pt x="204" y="573"/>
                    </a:moveTo>
                    <a:lnTo>
                      <a:pt x="170" y="607"/>
                    </a:lnTo>
                    <a:lnTo>
                      <a:pt x="143" y="634"/>
                    </a:lnTo>
                    <a:lnTo>
                      <a:pt x="121" y="657"/>
                    </a:lnTo>
                    <a:lnTo>
                      <a:pt x="102" y="674"/>
                    </a:lnTo>
                    <a:lnTo>
                      <a:pt x="92" y="680"/>
                    </a:lnTo>
                    <a:lnTo>
                      <a:pt x="84" y="685"/>
                    </a:lnTo>
                    <a:lnTo>
                      <a:pt x="74" y="689"/>
                    </a:lnTo>
                    <a:lnTo>
                      <a:pt x="64" y="691"/>
                    </a:lnTo>
                    <a:lnTo>
                      <a:pt x="53" y="693"/>
                    </a:lnTo>
                    <a:lnTo>
                      <a:pt x="41" y="693"/>
                    </a:lnTo>
                    <a:lnTo>
                      <a:pt x="27" y="692"/>
                    </a:lnTo>
                    <a:lnTo>
                      <a:pt x="11" y="690"/>
                    </a:lnTo>
                    <a:lnTo>
                      <a:pt x="5" y="687"/>
                    </a:lnTo>
                    <a:lnTo>
                      <a:pt x="1" y="680"/>
                    </a:lnTo>
                    <a:lnTo>
                      <a:pt x="0" y="670"/>
                    </a:lnTo>
                    <a:lnTo>
                      <a:pt x="1" y="657"/>
                    </a:lnTo>
                    <a:lnTo>
                      <a:pt x="5" y="641"/>
                    </a:lnTo>
                    <a:lnTo>
                      <a:pt x="10" y="621"/>
                    </a:lnTo>
                    <a:lnTo>
                      <a:pt x="17" y="600"/>
                    </a:lnTo>
                    <a:lnTo>
                      <a:pt x="27" y="577"/>
                    </a:lnTo>
                    <a:lnTo>
                      <a:pt x="49" y="524"/>
                    </a:lnTo>
                    <a:lnTo>
                      <a:pt x="78" y="466"/>
                    </a:lnTo>
                    <a:lnTo>
                      <a:pt x="110" y="404"/>
                    </a:lnTo>
                    <a:lnTo>
                      <a:pt x="143" y="340"/>
                    </a:lnTo>
                    <a:lnTo>
                      <a:pt x="212" y="215"/>
                    </a:lnTo>
                    <a:lnTo>
                      <a:pt x="274" y="107"/>
                    </a:lnTo>
                    <a:lnTo>
                      <a:pt x="320" y="29"/>
                    </a:lnTo>
                    <a:lnTo>
                      <a:pt x="337" y="0"/>
                    </a:lnTo>
                    <a:lnTo>
                      <a:pt x="337" y="2"/>
                    </a:lnTo>
                    <a:lnTo>
                      <a:pt x="336" y="10"/>
                    </a:lnTo>
                    <a:lnTo>
                      <a:pt x="333" y="23"/>
                    </a:lnTo>
                    <a:lnTo>
                      <a:pt x="330" y="44"/>
                    </a:lnTo>
                    <a:lnTo>
                      <a:pt x="325" y="74"/>
                    </a:lnTo>
                    <a:lnTo>
                      <a:pt x="320" y="112"/>
                    </a:lnTo>
                    <a:lnTo>
                      <a:pt x="314" y="160"/>
                    </a:lnTo>
                    <a:lnTo>
                      <a:pt x="308" y="220"/>
                    </a:lnTo>
                    <a:lnTo>
                      <a:pt x="302" y="283"/>
                    </a:lnTo>
                    <a:lnTo>
                      <a:pt x="297" y="337"/>
                    </a:lnTo>
                    <a:lnTo>
                      <a:pt x="294" y="363"/>
                    </a:lnTo>
                    <a:lnTo>
                      <a:pt x="292" y="386"/>
                    </a:lnTo>
                    <a:lnTo>
                      <a:pt x="288" y="408"/>
                    </a:lnTo>
                    <a:lnTo>
                      <a:pt x="284" y="429"/>
                    </a:lnTo>
                    <a:lnTo>
                      <a:pt x="279" y="450"/>
                    </a:lnTo>
                    <a:lnTo>
                      <a:pt x="273" y="468"/>
                    </a:lnTo>
                    <a:lnTo>
                      <a:pt x="267" y="487"/>
                    </a:lnTo>
                    <a:lnTo>
                      <a:pt x="258" y="505"/>
                    </a:lnTo>
                    <a:lnTo>
                      <a:pt x="247" y="522"/>
                    </a:lnTo>
                    <a:lnTo>
                      <a:pt x="235" y="540"/>
                    </a:lnTo>
                    <a:lnTo>
                      <a:pt x="222" y="557"/>
                    </a:lnTo>
                    <a:lnTo>
                      <a:pt x="204" y="573"/>
                    </a:lnTo>
                    <a:close/>
                  </a:path>
                </a:pathLst>
              </a:custGeom>
              <a:solidFill>
                <a:srgbClr val="4d3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6948360" y="2803680"/>
                <a:ext cx="103320" cy="203040"/>
              </a:xfrm>
              <a:custGeom>
                <a:avLst/>
                <a:gdLst/>
                <a:ahLst/>
                <a:rect l="l" t="t" r="r" b="b"/>
                <a:pathLst>
                  <a:path w="321" h="640">
                    <a:moveTo>
                      <a:pt x="199" y="517"/>
                    </a:moveTo>
                    <a:lnTo>
                      <a:pt x="167" y="554"/>
                    </a:lnTo>
                    <a:lnTo>
                      <a:pt x="142" y="583"/>
                    </a:lnTo>
                    <a:lnTo>
                      <a:pt x="130" y="596"/>
                    </a:lnTo>
                    <a:lnTo>
                      <a:pt x="121" y="606"/>
                    </a:lnTo>
                    <a:lnTo>
                      <a:pt x="111" y="615"/>
                    </a:lnTo>
                    <a:lnTo>
                      <a:pt x="102" y="623"/>
                    </a:lnTo>
                    <a:lnTo>
                      <a:pt x="94" y="628"/>
                    </a:lnTo>
                    <a:lnTo>
                      <a:pt x="84" y="633"/>
                    </a:lnTo>
                    <a:lnTo>
                      <a:pt x="74" y="636"/>
                    </a:lnTo>
                    <a:lnTo>
                      <a:pt x="64" y="639"/>
                    </a:lnTo>
                    <a:lnTo>
                      <a:pt x="53" y="640"/>
                    </a:lnTo>
                    <a:lnTo>
                      <a:pt x="41" y="640"/>
                    </a:lnTo>
                    <a:lnTo>
                      <a:pt x="27" y="639"/>
                    </a:lnTo>
                    <a:lnTo>
                      <a:pt x="11" y="636"/>
                    </a:lnTo>
                    <a:lnTo>
                      <a:pt x="5" y="633"/>
                    </a:lnTo>
                    <a:lnTo>
                      <a:pt x="1" y="626"/>
                    </a:lnTo>
                    <a:lnTo>
                      <a:pt x="0" y="618"/>
                    </a:lnTo>
                    <a:lnTo>
                      <a:pt x="0" y="606"/>
                    </a:lnTo>
                    <a:lnTo>
                      <a:pt x="4" y="590"/>
                    </a:lnTo>
                    <a:lnTo>
                      <a:pt x="9" y="572"/>
                    </a:lnTo>
                    <a:lnTo>
                      <a:pt x="16" y="553"/>
                    </a:lnTo>
                    <a:lnTo>
                      <a:pt x="25" y="531"/>
                    </a:lnTo>
                    <a:lnTo>
                      <a:pt x="46" y="483"/>
                    </a:lnTo>
                    <a:lnTo>
                      <a:pt x="73" y="430"/>
                    </a:lnTo>
                    <a:lnTo>
                      <a:pt x="102" y="372"/>
                    </a:lnTo>
                    <a:lnTo>
                      <a:pt x="134" y="313"/>
                    </a:lnTo>
                    <a:lnTo>
                      <a:pt x="201" y="198"/>
                    </a:lnTo>
                    <a:lnTo>
                      <a:pt x="261" y="98"/>
                    </a:lnTo>
                    <a:lnTo>
                      <a:pt x="304" y="27"/>
                    </a:lnTo>
                    <a:lnTo>
                      <a:pt x="321" y="0"/>
                    </a:lnTo>
                    <a:lnTo>
                      <a:pt x="321" y="2"/>
                    </a:lnTo>
                    <a:lnTo>
                      <a:pt x="320" y="4"/>
                    </a:lnTo>
                    <a:lnTo>
                      <a:pt x="317" y="10"/>
                    </a:lnTo>
                    <a:lnTo>
                      <a:pt x="315" y="24"/>
                    </a:lnTo>
                    <a:lnTo>
                      <a:pt x="311" y="46"/>
                    </a:lnTo>
                    <a:lnTo>
                      <a:pt x="306" y="78"/>
                    </a:lnTo>
                    <a:lnTo>
                      <a:pt x="300" y="121"/>
                    </a:lnTo>
                    <a:lnTo>
                      <a:pt x="294" y="180"/>
                    </a:lnTo>
                    <a:lnTo>
                      <a:pt x="288" y="243"/>
                    </a:lnTo>
                    <a:lnTo>
                      <a:pt x="282" y="297"/>
                    </a:lnTo>
                    <a:lnTo>
                      <a:pt x="277" y="344"/>
                    </a:lnTo>
                    <a:lnTo>
                      <a:pt x="268" y="385"/>
                    </a:lnTo>
                    <a:lnTo>
                      <a:pt x="265" y="404"/>
                    </a:lnTo>
                    <a:lnTo>
                      <a:pt x="258" y="421"/>
                    </a:lnTo>
                    <a:lnTo>
                      <a:pt x="252" y="438"/>
                    </a:lnTo>
                    <a:lnTo>
                      <a:pt x="245" y="454"/>
                    </a:lnTo>
                    <a:lnTo>
                      <a:pt x="235" y="470"/>
                    </a:lnTo>
                    <a:lnTo>
                      <a:pt x="225" y="486"/>
                    </a:lnTo>
                    <a:lnTo>
                      <a:pt x="213" y="501"/>
                    </a:lnTo>
                    <a:lnTo>
                      <a:pt x="199" y="517"/>
                    </a:lnTo>
                    <a:close/>
                  </a:path>
                </a:pathLst>
              </a:custGeom>
              <a:solidFill>
                <a:srgbClr val="48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6948360" y="2814840"/>
                <a:ext cx="98640" cy="185760"/>
              </a:xfrm>
              <a:custGeom>
                <a:avLst/>
                <a:gdLst/>
                <a:ahLst/>
                <a:rect l="l" t="t" r="r" b="b"/>
                <a:pathLst>
                  <a:path w="309" h="587">
                    <a:moveTo>
                      <a:pt x="309" y="4"/>
                    </a:moveTo>
                    <a:lnTo>
                      <a:pt x="309" y="2"/>
                    </a:lnTo>
                    <a:lnTo>
                      <a:pt x="307" y="0"/>
                    </a:lnTo>
                    <a:lnTo>
                      <a:pt x="306" y="0"/>
                    </a:lnTo>
                    <a:lnTo>
                      <a:pt x="305" y="1"/>
                    </a:lnTo>
                    <a:lnTo>
                      <a:pt x="304" y="4"/>
                    </a:lnTo>
                    <a:lnTo>
                      <a:pt x="303" y="7"/>
                    </a:lnTo>
                    <a:lnTo>
                      <a:pt x="299" y="21"/>
                    </a:lnTo>
                    <a:lnTo>
                      <a:pt x="294" y="47"/>
                    </a:lnTo>
                    <a:lnTo>
                      <a:pt x="288" y="86"/>
                    </a:lnTo>
                    <a:lnTo>
                      <a:pt x="282" y="143"/>
                    </a:lnTo>
                    <a:lnTo>
                      <a:pt x="274" y="203"/>
                    </a:lnTo>
                    <a:lnTo>
                      <a:pt x="268" y="256"/>
                    </a:lnTo>
                    <a:lnTo>
                      <a:pt x="262" y="300"/>
                    </a:lnTo>
                    <a:lnTo>
                      <a:pt x="255" y="339"/>
                    </a:lnTo>
                    <a:lnTo>
                      <a:pt x="250" y="357"/>
                    </a:lnTo>
                    <a:lnTo>
                      <a:pt x="245" y="374"/>
                    </a:lnTo>
                    <a:lnTo>
                      <a:pt x="240" y="389"/>
                    </a:lnTo>
                    <a:lnTo>
                      <a:pt x="232" y="405"/>
                    </a:lnTo>
                    <a:lnTo>
                      <a:pt x="225" y="419"/>
                    </a:lnTo>
                    <a:lnTo>
                      <a:pt x="218" y="434"/>
                    </a:lnTo>
                    <a:lnTo>
                      <a:pt x="208" y="448"/>
                    </a:lnTo>
                    <a:lnTo>
                      <a:pt x="197" y="462"/>
                    </a:lnTo>
                    <a:lnTo>
                      <a:pt x="168" y="502"/>
                    </a:lnTo>
                    <a:lnTo>
                      <a:pt x="144" y="532"/>
                    </a:lnTo>
                    <a:lnTo>
                      <a:pt x="133" y="545"/>
                    </a:lnTo>
                    <a:lnTo>
                      <a:pt x="123" y="556"/>
                    </a:lnTo>
                    <a:lnTo>
                      <a:pt x="114" y="564"/>
                    </a:lnTo>
                    <a:lnTo>
                      <a:pt x="104" y="572"/>
                    </a:lnTo>
                    <a:lnTo>
                      <a:pt x="96" y="577"/>
                    </a:lnTo>
                    <a:lnTo>
                      <a:pt x="86" y="582"/>
                    </a:lnTo>
                    <a:lnTo>
                      <a:pt x="76" y="584"/>
                    </a:lnTo>
                    <a:lnTo>
                      <a:pt x="66" y="585"/>
                    </a:lnTo>
                    <a:lnTo>
                      <a:pt x="54" y="587"/>
                    </a:lnTo>
                    <a:lnTo>
                      <a:pt x="42" y="585"/>
                    </a:lnTo>
                    <a:lnTo>
                      <a:pt x="28" y="584"/>
                    </a:lnTo>
                    <a:lnTo>
                      <a:pt x="12" y="582"/>
                    </a:lnTo>
                    <a:lnTo>
                      <a:pt x="6" y="579"/>
                    </a:lnTo>
                    <a:lnTo>
                      <a:pt x="2" y="573"/>
                    </a:lnTo>
                    <a:lnTo>
                      <a:pt x="0" y="564"/>
                    </a:lnTo>
                    <a:lnTo>
                      <a:pt x="1" y="553"/>
                    </a:lnTo>
                    <a:lnTo>
                      <a:pt x="4" y="540"/>
                    </a:lnTo>
                    <a:lnTo>
                      <a:pt x="8" y="524"/>
                    </a:lnTo>
                    <a:lnTo>
                      <a:pt x="15" y="505"/>
                    </a:lnTo>
                    <a:lnTo>
                      <a:pt x="23" y="486"/>
                    </a:lnTo>
                    <a:lnTo>
                      <a:pt x="44" y="441"/>
                    </a:lnTo>
                    <a:lnTo>
                      <a:pt x="69" y="393"/>
                    </a:lnTo>
                    <a:lnTo>
                      <a:pt x="98" y="342"/>
                    </a:lnTo>
                    <a:lnTo>
                      <a:pt x="129" y="288"/>
                    </a:lnTo>
                    <a:lnTo>
                      <a:pt x="193" y="183"/>
                    </a:lnTo>
                    <a:lnTo>
                      <a:pt x="251" y="92"/>
                    </a:lnTo>
                    <a:lnTo>
                      <a:pt x="293" y="28"/>
                    </a:lnTo>
                    <a:lnTo>
                      <a:pt x="309" y="4"/>
                    </a:lnTo>
                    <a:close/>
                  </a:path>
                </a:pathLst>
              </a:custGeom>
              <a:solidFill>
                <a:srgbClr val="423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6132600" y="3056040"/>
                <a:ext cx="536400" cy="939960"/>
              </a:xfrm>
              <a:custGeom>
                <a:avLst/>
                <a:gdLst/>
                <a:ahLst/>
                <a:rect l="l" t="t" r="r" b="b"/>
                <a:pathLst>
                  <a:path w="1688" h="2963">
                    <a:moveTo>
                      <a:pt x="215" y="45"/>
                    </a:moveTo>
                    <a:lnTo>
                      <a:pt x="257" y="104"/>
                    </a:lnTo>
                    <a:lnTo>
                      <a:pt x="370" y="261"/>
                    </a:lnTo>
                    <a:lnTo>
                      <a:pt x="533" y="491"/>
                    </a:lnTo>
                    <a:lnTo>
                      <a:pt x="725" y="764"/>
                    </a:lnTo>
                    <a:lnTo>
                      <a:pt x="924" y="1051"/>
                    </a:lnTo>
                    <a:lnTo>
                      <a:pt x="1112" y="1325"/>
                    </a:lnTo>
                    <a:lnTo>
                      <a:pt x="1196" y="1448"/>
                    </a:lnTo>
                    <a:lnTo>
                      <a:pt x="1267" y="1557"/>
                    </a:lnTo>
                    <a:lnTo>
                      <a:pt x="1326" y="1650"/>
                    </a:lnTo>
                    <a:lnTo>
                      <a:pt x="1369" y="1720"/>
                    </a:lnTo>
                    <a:lnTo>
                      <a:pt x="1405" y="1780"/>
                    </a:lnTo>
                    <a:lnTo>
                      <a:pt x="1439" y="1843"/>
                    </a:lnTo>
                    <a:lnTo>
                      <a:pt x="1474" y="1907"/>
                    </a:lnTo>
                    <a:lnTo>
                      <a:pt x="1507" y="1972"/>
                    </a:lnTo>
                    <a:lnTo>
                      <a:pt x="1540" y="2038"/>
                    </a:lnTo>
                    <a:lnTo>
                      <a:pt x="1570" y="2106"/>
                    </a:lnTo>
                    <a:lnTo>
                      <a:pt x="1585" y="2139"/>
                    </a:lnTo>
                    <a:lnTo>
                      <a:pt x="1598" y="2174"/>
                    </a:lnTo>
                    <a:lnTo>
                      <a:pt x="1610" y="2207"/>
                    </a:lnTo>
                    <a:lnTo>
                      <a:pt x="1623" y="2241"/>
                    </a:lnTo>
                    <a:lnTo>
                      <a:pt x="1634" y="2274"/>
                    </a:lnTo>
                    <a:lnTo>
                      <a:pt x="1645" y="2309"/>
                    </a:lnTo>
                    <a:lnTo>
                      <a:pt x="1654" y="2342"/>
                    </a:lnTo>
                    <a:lnTo>
                      <a:pt x="1662" y="2375"/>
                    </a:lnTo>
                    <a:lnTo>
                      <a:pt x="1670" y="2409"/>
                    </a:lnTo>
                    <a:lnTo>
                      <a:pt x="1676" y="2441"/>
                    </a:lnTo>
                    <a:lnTo>
                      <a:pt x="1681" y="2474"/>
                    </a:lnTo>
                    <a:lnTo>
                      <a:pt x="1684" y="2506"/>
                    </a:lnTo>
                    <a:lnTo>
                      <a:pt x="1687" y="2538"/>
                    </a:lnTo>
                    <a:lnTo>
                      <a:pt x="1688" y="2568"/>
                    </a:lnTo>
                    <a:lnTo>
                      <a:pt x="1687" y="2599"/>
                    </a:lnTo>
                    <a:lnTo>
                      <a:pt x="1686" y="2630"/>
                    </a:lnTo>
                    <a:lnTo>
                      <a:pt x="1682" y="2659"/>
                    </a:lnTo>
                    <a:lnTo>
                      <a:pt x="1676" y="2688"/>
                    </a:lnTo>
                    <a:lnTo>
                      <a:pt x="1670" y="2716"/>
                    </a:lnTo>
                    <a:lnTo>
                      <a:pt x="1661" y="2744"/>
                    </a:lnTo>
                    <a:lnTo>
                      <a:pt x="1650" y="2770"/>
                    </a:lnTo>
                    <a:lnTo>
                      <a:pt x="1636" y="2795"/>
                    </a:lnTo>
                    <a:lnTo>
                      <a:pt x="1620" y="2818"/>
                    </a:lnTo>
                    <a:lnTo>
                      <a:pt x="1603" y="2840"/>
                    </a:lnTo>
                    <a:lnTo>
                      <a:pt x="1585" y="2860"/>
                    </a:lnTo>
                    <a:lnTo>
                      <a:pt x="1564" y="2880"/>
                    </a:lnTo>
                    <a:lnTo>
                      <a:pt x="1543" y="2896"/>
                    </a:lnTo>
                    <a:lnTo>
                      <a:pt x="1519" y="2912"/>
                    </a:lnTo>
                    <a:lnTo>
                      <a:pt x="1495" y="2924"/>
                    </a:lnTo>
                    <a:lnTo>
                      <a:pt x="1469" y="2936"/>
                    </a:lnTo>
                    <a:lnTo>
                      <a:pt x="1442" y="2945"/>
                    </a:lnTo>
                    <a:lnTo>
                      <a:pt x="1415" y="2953"/>
                    </a:lnTo>
                    <a:lnTo>
                      <a:pt x="1388" y="2958"/>
                    </a:lnTo>
                    <a:lnTo>
                      <a:pt x="1359" y="2962"/>
                    </a:lnTo>
                    <a:lnTo>
                      <a:pt x="1330" y="2963"/>
                    </a:lnTo>
                    <a:lnTo>
                      <a:pt x="1302" y="2962"/>
                    </a:lnTo>
                    <a:lnTo>
                      <a:pt x="1272" y="2960"/>
                    </a:lnTo>
                    <a:lnTo>
                      <a:pt x="1244" y="2955"/>
                    </a:lnTo>
                    <a:lnTo>
                      <a:pt x="1214" y="2946"/>
                    </a:lnTo>
                    <a:lnTo>
                      <a:pt x="1186" y="2936"/>
                    </a:lnTo>
                    <a:lnTo>
                      <a:pt x="1159" y="2924"/>
                    </a:lnTo>
                    <a:lnTo>
                      <a:pt x="1132" y="2909"/>
                    </a:lnTo>
                    <a:lnTo>
                      <a:pt x="1105" y="2892"/>
                    </a:lnTo>
                    <a:lnTo>
                      <a:pt x="1079" y="2871"/>
                    </a:lnTo>
                    <a:lnTo>
                      <a:pt x="1054" y="2849"/>
                    </a:lnTo>
                    <a:lnTo>
                      <a:pt x="1031" y="2823"/>
                    </a:lnTo>
                    <a:lnTo>
                      <a:pt x="1009" y="2795"/>
                    </a:lnTo>
                    <a:lnTo>
                      <a:pt x="989" y="2764"/>
                    </a:lnTo>
                    <a:lnTo>
                      <a:pt x="970" y="2730"/>
                    </a:lnTo>
                    <a:lnTo>
                      <a:pt x="952" y="2694"/>
                    </a:lnTo>
                    <a:lnTo>
                      <a:pt x="938" y="2653"/>
                    </a:lnTo>
                    <a:lnTo>
                      <a:pt x="924" y="2610"/>
                    </a:lnTo>
                    <a:lnTo>
                      <a:pt x="877" y="2438"/>
                    </a:lnTo>
                    <a:lnTo>
                      <a:pt x="835" y="2274"/>
                    </a:lnTo>
                    <a:lnTo>
                      <a:pt x="796" y="2120"/>
                    </a:lnTo>
                    <a:lnTo>
                      <a:pt x="760" y="1977"/>
                    </a:lnTo>
                    <a:lnTo>
                      <a:pt x="727" y="1845"/>
                    </a:lnTo>
                    <a:lnTo>
                      <a:pt x="696" y="1727"/>
                    </a:lnTo>
                    <a:lnTo>
                      <a:pt x="680" y="1673"/>
                    </a:lnTo>
                    <a:lnTo>
                      <a:pt x="666" y="1623"/>
                    </a:lnTo>
                    <a:lnTo>
                      <a:pt x="651" y="1577"/>
                    </a:lnTo>
                    <a:lnTo>
                      <a:pt x="636" y="1535"/>
                    </a:lnTo>
                    <a:lnTo>
                      <a:pt x="627" y="1514"/>
                    </a:lnTo>
                    <a:lnTo>
                      <a:pt x="616" y="1490"/>
                    </a:lnTo>
                    <a:lnTo>
                      <a:pt x="603" y="1464"/>
                    </a:lnTo>
                    <a:lnTo>
                      <a:pt x="588" y="1436"/>
                    </a:lnTo>
                    <a:lnTo>
                      <a:pt x="551" y="1372"/>
                    </a:lnTo>
                    <a:lnTo>
                      <a:pt x="508" y="1300"/>
                    </a:lnTo>
                    <a:lnTo>
                      <a:pt x="410" y="1140"/>
                    </a:lnTo>
                    <a:lnTo>
                      <a:pt x="301" y="967"/>
                    </a:lnTo>
                    <a:lnTo>
                      <a:pt x="249" y="878"/>
                    </a:lnTo>
                    <a:lnTo>
                      <a:pt x="197" y="791"/>
                    </a:lnTo>
                    <a:lnTo>
                      <a:pt x="172" y="748"/>
                    </a:lnTo>
                    <a:lnTo>
                      <a:pt x="148" y="705"/>
                    </a:lnTo>
                    <a:lnTo>
                      <a:pt x="126" y="663"/>
                    </a:lnTo>
                    <a:lnTo>
                      <a:pt x="105" y="624"/>
                    </a:lnTo>
                    <a:lnTo>
                      <a:pt x="85" y="584"/>
                    </a:lnTo>
                    <a:lnTo>
                      <a:pt x="68" y="546"/>
                    </a:lnTo>
                    <a:lnTo>
                      <a:pt x="52" y="511"/>
                    </a:lnTo>
                    <a:lnTo>
                      <a:pt x="37" y="476"/>
                    </a:lnTo>
                    <a:lnTo>
                      <a:pt x="26" y="443"/>
                    </a:lnTo>
                    <a:lnTo>
                      <a:pt x="16" y="414"/>
                    </a:lnTo>
                    <a:lnTo>
                      <a:pt x="10" y="385"/>
                    </a:lnTo>
                    <a:lnTo>
                      <a:pt x="6" y="359"/>
                    </a:lnTo>
                    <a:lnTo>
                      <a:pt x="3" y="310"/>
                    </a:lnTo>
                    <a:lnTo>
                      <a:pt x="0" y="265"/>
                    </a:lnTo>
                    <a:lnTo>
                      <a:pt x="1" y="243"/>
                    </a:lnTo>
                    <a:lnTo>
                      <a:pt x="1" y="220"/>
                    </a:lnTo>
                    <a:lnTo>
                      <a:pt x="3" y="199"/>
                    </a:lnTo>
                    <a:lnTo>
                      <a:pt x="5" y="180"/>
                    </a:lnTo>
                    <a:lnTo>
                      <a:pt x="7" y="160"/>
                    </a:lnTo>
                    <a:lnTo>
                      <a:pt x="11" y="143"/>
                    </a:lnTo>
                    <a:lnTo>
                      <a:pt x="15" y="124"/>
                    </a:lnTo>
                    <a:lnTo>
                      <a:pt x="19" y="108"/>
                    </a:lnTo>
                    <a:lnTo>
                      <a:pt x="23" y="92"/>
                    </a:lnTo>
                    <a:lnTo>
                      <a:pt x="28" y="79"/>
                    </a:lnTo>
                    <a:lnTo>
                      <a:pt x="34" y="65"/>
                    </a:lnTo>
                    <a:lnTo>
                      <a:pt x="41" y="53"/>
                    </a:lnTo>
                    <a:lnTo>
                      <a:pt x="48" y="42"/>
                    </a:lnTo>
                    <a:lnTo>
                      <a:pt x="55" y="32"/>
                    </a:lnTo>
                    <a:lnTo>
                      <a:pt x="64" y="24"/>
                    </a:lnTo>
                    <a:lnTo>
                      <a:pt x="73" y="16"/>
                    </a:lnTo>
                    <a:lnTo>
                      <a:pt x="81" y="10"/>
                    </a:lnTo>
                    <a:lnTo>
                      <a:pt x="91" y="5"/>
                    </a:lnTo>
                    <a:lnTo>
                      <a:pt x="101" y="1"/>
                    </a:lnTo>
                    <a:lnTo>
                      <a:pt x="112" y="0"/>
                    </a:lnTo>
                    <a:lnTo>
                      <a:pt x="123" y="0"/>
                    </a:lnTo>
                    <a:lnTo>
                      <a:pt x="135" y="1"/>
                    </a:lnTo>
                    <a:lnTo>
                      <a:pt x="146" y="4"/>
                    </a:lnTo>
                    <a:lnTo>
                      <a:pt x="160" y="9"/>
                    </a:lnTo>
                    <a:lnTo>
                      <a:pt x="172" y="15"/>
                    </a:lnTo>
                    <a:lnTo>
                      <a:pt x="186" y="22"/>
                    </a:lnTo>
                    <a:lnTo>
                      <a:pt x="201" y="32"/>
                    </a:lnTo>
                    <a:lnTo>
                      <a:pt x="215" y="45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6181560" y="3132360"/>
                <a:ext cx="473400" cy="828720"/>
              </a:xfrm>
              <a:custGeom>
                <a:avLst/>
                <a:gdLst/>
                <a:ahLst/>
                <a:rect l="l" t="t" r="r" b="b"/>
                <a:pathLst>
                  <a:path w="1487" h="2610">
                    <a:moveTo>
                      <a:pt x="813" y="2300"/>
                    </a:moveTo>
                    <a:lnTo>
                      <a:pt x="772" y="2147"/>
                    </a:lnTo>
                    <a:lnTo>
                      <a:pt x="736" y="2002"/>
                    </a:lnTo>
                    <a:lnTo>
                      <a:pt x="701" y="1865"/>
                    </a:lnTo>
                    <a:lnTo>
                      <a:pt x="670" y="1739"/>
                    </a:lnTo>
                    <a:lnTo>
                      <a:pt x="641" y="1623"/>
                    </a:lnTo>
                    <a:lnTo>
                      <a:pt x="613" y="1520"/>
                    </a:lnTo>
                    <a:lnTo>
                      <a:pt x="600" y="1472"/>
                    </a:lnTo>
                    <a:lnTo>
                      <a:pt x="587" y="1429"/>
                    </a:lnTo>
                    <a:lnTo>
                      <a:pt x="573" y="1388"/>
                    </a:lnTo>
                    <a:lnTo>
                      <a:pt x="561" y="1351"/>
                    </a:lnTo>
                    <a:lnTo>
                      <a:pt x="553" y="1333"/>
                    </a:lnTo>
                    <a:lnTo>
                      <a:pt x="544" y="1312"/>
                    </a:lnTo>
                    <a:lnTo>
                      <a:pt x="531" y="1289"/>
                    </a:lnTo>
                    <a:lnTo>
                      <a:pt x="518" y="1264"/>
                    </a:lnTo>
                    <a:lnTo>
                      <a:pt x="486" y="1207"/>
                    </a:lnTo>
                    <a:lnTo>
                      <a:pt x="448" y="1145"/>
                    </a:lnTo>
                    <a:lnTo>
                      <a:pt x="360" y="1003"/>
                    </a:lnTo>
                    <a:lnTo>
                      <a:pt x="266" y="851"/>
                    </a:lnTo>
                    <a:lnTo>
                      <a:pt x="218" y="772"/>
                    </a:lnTo>
                    <a:lnTo>
                      <a:pt x="172" y="696"/>
                    </a:lnTo>
                    <a:lnTo>
                      <a:pt x="130" y="621"/>
                    </a:lnTo>
                    <a:lnTo>
                      <a:pt x="91" y="548"/>
                    </a:lnTo>
                    <a:lnTo>
                      <a:pt x="74" y="514"/>
                    </a:lnTo>
                    <a:lnTo>
                      <a:pt x="59" y="480"/>
                    </a:lnTo>
                    <a:lnTo>
                      <a:pt x="44" y="448"/>
                    </a:lnTo>
                    <a:lnTo>
                      <a:pt x="32" y="418"/>
                    </a:lnTo>
                    <a:lnTo>
                      <a:pt x="22" y="389"/>
                    </a:lnTo>
                    <a:lnTo>
                      <a:pt x="13" y="362"/>
                    </a:lnTo>
                    <a:lnTo>
                      <a:pt x="7" y="337"/>
                    </a:lnTo>
                    <a:lnTo>
                      <a:pt x="4" y="314"/>
                    </a:lnTo>
                    <a:lnTo>
                      <a:pt x="1" y="271"/>
                    </a:lnTo>
                    <a:lnTo>
                      <a:pt x="0" y="232"/>
                    </a:lnTo>
                    <a:lnTo>
                      <a:pt x="1" y="193"/>
                    </a:lnTo>
                    <a:lnTo>
                      <a:pt x="5" y="157"/>
                    </a:lnTo>
                    <a:lnTo>
                      <a:pt x="6" y="141"/>
                    </a:lnTo>
                    <a:lnTo>
                      <a:pt x="10" y="125"/>
                    </a:lnTo>
                    <a:lnTo>
                      <a:pt x="12" y="109"/>
                    </a:lnTo>
                    <a:lnTo>
                      <a:pt x="17" y="95"/>
                    </a:lnTo>
                    <a:lnTo>
                      <a:pt x="21" y="82"/>
                    </a:lnTo>
                    <a:lnTo>
                      <a:pt x="26" y="68"/>
                    </a:lnTo>
                    <a:lnTo>
                      <a:pt x="31" y="57"/>
                    </a:lnTo>
                    <a:lnTo>
                      <a:pt x="37" y="46"/>
                    </a:lnTo>
                    <a:lnTo>
                      <a:pt x="43" y="36"/>
                    </a:lnTo>
                    <a:lnTo>
                      <a:pt x="49" y="28"/>
                    </a:lnTo>
                    <a:lnTo>
                      <a:pt x="56" y="20"/>
                    </a:lnTo>
                    <a:lnTo>
                      <a:pt x="64" y="14"/>
                    </a:lnTo>
                    <a:lnTo>
                      <a:pt x="72" y="8"/>
                    </a:lnTo>
                    <a:lnTo>
                      <a:pt x="81" y="4"/>
                    </a:lnTo>
                    <a:lnTo>
                      <a:pt x="90" y="2"/>
                    </a:lnTo>
                    <a:lnTo>
                      <a:pt x="99" y="0"/>
                    </a:lnTo>
                    <a:lnTo>
                      <a:pt x="109" y="0"/>
                    </a:lnTo>
                    <a:lnTo>
                      <a:pt x="120" y="1"/>
                    </a:lnTo>
                    <a:lnTo>
                      <a:pt x="130" y="3"/>
                    </a:lnTo>
                    <a:lnTo>
                      <a:pt x="143" y="7"/>
                    </a:lnTo>
                    <a:lnTo>
                      <a:pt x="154" y="12"/>
                    </a:lnTo>
                    <a:lnTo>
                      <a:pt x="166" y="19"/>
                    </a:lnTo>
                    <a:lnTo>
                      <a:pt x="178" y="28"/>
                    </a:lnTo>
                    <a:lnTo>
                      <a:pt x="192" y="38"/>
                    </a:lnTo>
                    <a:lnTo>
                      <a:pt x="229" y="89"/>
                    </a:lnTo>
                    <a:lnTo>
                      <a:pt x="327" y="230"/>
                    </a:lnTo>
                    <a:lnTo>
                      <a:pt x="470" y="431"/>
                    </a:lnTo>
                    <a:lnTo>
                      <a:pt x="638" y="672"/>
                    </a:lnTo>
                    <a:lnTo>
                      <a:pt x="814" y="926"/>
                    </a:lnTo>
                    <a:lnTo>
                      <a:pt x="980" y="1167"/>
                    </a:lnTo>
                    <a:lnTo>
                      <a:pt x="1053" y="1276"/>
                    </a:lnTo>
                    <a:lnTo>
                      <a:pt x="1117" y="1372"/>
                    </a:lnTo>
                    <a:lnTo>
                      <a:pt x="1170" y="1452"/>
                    </a:lnTo>
                    <a:lnTo>
                      <a:pt x="1208" y="1515"/>
                    </a:lnTo>
                    <a:lnTo>
                      <a:pt x="1239" y="1568"/>
                    </a:lnTo>
                    <a:lnTo>
                      <a:pt x="1269" y="1623"/>
                    </a:lnTo>
                    <a:lnTo>
                      <a:pt x="1299" y="1680"/>
                    </a:lnTo>
                    <a:lnTo>
                      <a:pt x="1330" y="1736"/>
                    </a:lnTo>
                    <a:lnTo>
                      <a:pt x="1358" y="1795"/>
                    </a:lnTo>
                    <a:lnTo>
                      <a:pt x="1384" y="1854"/>
                    </a:lnTo>
                    <a:lnTo>
                      <a:pt x="1408" y="1915"/>
                    </a:lnTo>
                    <a:lnTo>
                      <a:pt x="1431" y="1974"/>
                    </a:lnTo>
                    <a:lnTo>
                      <a:pt x="1440" y="2003"/>
                    </a:lnTo>
                    <a:lnTo>
                      <a:pt x="1450" y="2034"/>
                    </a:lnTo>
                    <a:lnTo>
                      <a:pt x="1459" y="2063"/>
                    </a:lnTo>
                    <a:lnTo>
                      <a:pt x="1466" y="2092"/>
                    </a:lnTo>
                    <a:lnTo>
                      <a:pt x="1472" y="2121"/>
                    </a:lnTo>
                    <a:lnTo>
                      <a:pt x="1477" y="2151"/>
                    </a:lnTo>
                    <a:lnTo>
                      <a:pt x="1482" y="2179"/>
                    </a:lnTo>
                    <a:lnTo>
                      <a:pt x="1485" y="2207"/>
                    </a:lnTo>
                    <a:lnTo>
                      <a:pt x="1487" y="2234"/>
                    </a:lnTo>
                    <a:lnTo>
                      <a:pt x="1487" y="2263"/>
                    </a:lnTo>
                    <a:lnTo>
                      <a:pt x="1487" y="2290"/>
                    </a:lnTo>
                    <a:lnTo>
                      <a:pt x="1485" y="2316"/>
                    </a:lnTo>
                    <a:lnTo>
                      <a:pt x="1482" y="2343"/>
                    </a:lnTo>
                    <a:lnTo>
                      <a:pt x="1477" y="2367"/>
                    </a:lnTo>
                    <a:lnTo>
                      <a:pt x="1471" y="2392"/>
                    </a:lnTo>
                    <a:lnTo>
                      <a:pt x="1463" y="2416"/>
                    </a:lnTo>
                    <a:lnTo>
                      <a:pt x="1453" y="2440"/>
                    </a:lnTo>
                    <a:lnTo>
                      <a:pt x="1442" y="2462"/>
                    </a:lnTo>
                    <a:lnTo>
                      <a:pt x="1428" y="2482"/>
                    </a:lnTo>
                    <a:lnTo>
                      <a:pt x="1413" y="2501"/>
                    </a:lnTo>
                    <a:lnTo>
                      <a:pt x="1396" y="2519"/>
                    </a:lnTo>
                    <a:lnTo>
                      <a:pt x="1379" y="2536"/>
                    </a:lnTo>
                    <a:lnTo>
                      <a:pt x="1359" y="2551"/>
                    </a:lnTo>
                    <a:lnTo>
                      <a:pt x="1338" y="2564"/>
                    </a:lnTo>
                    <a:lnTo>
                      <a:pt x="1317" y="2575"/>
                    </a:lnTo>
                    <a:lnTo>
                      <a:pt x="1295" y="2585"/>
                    </a:lnTo>
                    <a:lnTo>
                      <a:pt x="1272" y="2594"/>
                    </a:lnTo>
                    <a:lnTo>
                      <a:pt x="1247" y="2601"/>
                    </a:lnTo>
                    <a:lnTo>
                      <a:pt x="1223" y="2606"/>
                    </a:lnTo>
                    <a:lnTo>
                      <a:pt x="1198" y="2608"/>
                    </a:lnTo>
                    <a:lnTo>
                      <a:pt x="1174" y="2610"/>
                    </a:lnTo>
                    <a:lnTo>
                      <a:pt x="1148" y="2608"/>
                    </a:lnTo>
                    <a:lnTo>
                      <a:pt x="1122" y="2606"/>
                    </a:lnTo>
                    <a:lnTo>
                      <a:pt x="1096" y="2602"/>
                    </a:lnTo>
                    <a:lnTo>
                      <a:pt x="1071" y="2595"/>
                    </a:lnTo>
                    <a:lnTo>
                      <a:pt x="1046" y="2586"/>
                    </a:lnTo>
                    <a:lnTo>
                      <a:pt x="1021" y="2575"/>
                    </a:lnTo>
                    <a:lnTo>
                      <a:pt x="998" y="2562"/>
                    </a:lnTo>
                    <a:lnTo>
                      <a:pt x="974" y="2547"/>
                    </a:lnTo>
                    <a:lnTo>
                      <a:pt x="951" y="2530"/>
                    </a:lnTo>
                    <a:lnTo>
                      <a:pt x="930" y="2509"/>
                    </a:lnTo>
                    <a:lnTo>
                      <a:pt x="909" y="2487"/>
                    </a:lnTo>
                    <a:lnTo>
                      <a:pt x="889" y="2462"/>
                    </a:lnTo>
                    <a:lnTo>
                      <a:pt x="871" y="2435"/>
                    </a:lnTo>
                    <a:lnTo>
                      <a:pt x="855" y="2405"/>
                    </a:lnTo>
                    <a:lnTo>
                      <a:pt x="839" y="2372"/>
                    </a:lnTo>
                    <a:lnTo>
                      <a:pt x="825" y="2338"/>
                    </a:lnTo>
                    <a:lnTo>
                      <a:pt x="813" y="230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6230880" y="3210120"/>
                <a:ext cx="407880" cy="716040"/>
              </a:xfrm>
              <a:custGeom>
                <a:avLst/>
                <a:gdLst/>
                <a:ahLst/>
                <a:rect l="l" t="t" r="r" b="b"/>
                <a:pathLst>
                  <a:path w="1284" h="2257">
                    <a:moveTo>
                      <a:pt x="702" y="1989"/>
                    </a:moveTo>
                    <a:lnTo>
                      <a:pt x="667" y="1856"/>
                    </a:lnTo>
                    <a:lnTo>
                      <a:pt x="635" y="1731"/>
                    </a:lnTo>
                    <a:lnTo>
                      <a:pt x="606" y="1613"/>
                    </a:lnTo>
                    <a:lnTo>
                      <a:pt x="579" y="1503"/>
                    </a:lnTo>
                    <a:lnTo>
                      <a:pt x="553" y="1404"/>
                    </a:lnTo>
                    <a:lnTo>
                      <a:pt x="529" y="1314"/>
                    </a:lnTo>
                    <a:lnTo>
                      <a:pt x="517" y="1273"/>
                    </a:lnTo>
                    <a:lnTo>
                      <a:pt x="505" y="1235"/>
                    </a:lnTo>
                    <a:lnTo>
                      <a:pt x="493" y="1201"/>
                    </a:lnTo>
                    <a:lnTo>
                      <a:pt x="482" y="1169"/>
                    </a:lnTo>
                    <a:lnTo>
                      <a:pt x="476" y="1153"/>
                    </a:lnTo>
                    <a:lnTo>
                      <a:pt x="467" y="1134"/>
                    </a:lnTo>
                    <a:lnTo>
                      <a:pt x="456" y="1114"/>
                    </a:lnTo>
                    <a:lnTo>
                      <a:pt x="445" y="1092"/>
                    </a:lnTo>
                    <a:lnTo>
                      <a:pt x="417" y="1043"/>
                    </a:lnTo>
                    <a:lnTo>
                      <a:pt x="385" y="989"/>
                    </a:lnTo>
                    <a:lnTo>
                      <a:pt x="310" y="867"/>
                    </a:lnTo>
                    <a:lnTo>
                      <a:pt x="227" y="736"/>
                    </a:lnTo>
                    <a:lnTo>
                      <a:pt x="187" y="669"/>
                    </a:lnTo>
                    <a:lnTo>
                      <a:pt x="147" y="602"/>
                    </a:lnTo>
                    <a:lnTo>
                      <a:pt x="111" y="538"/>
                    </a:lnTo>
                    <a:lnTo>
                      <a:pt x="79" y="475"/>
                    </a:lnTo>
                    <a:lnTo>
                      <a:pt x="64" y="445"/>
                    </a:lnTo>
                    <a:lnTo>
                      <a:pt x="50" y="416"/>
                    </a:lnTo>
                    <a:lnTo>
                      <a:pt x="38" y="389"/>
                    </a:lnTo>
                    <a:lnTo>
                      <a:pt x="27" y="362"/>
                    </a:lnTo>
                    <a:lnTo>
                      <a:pt x="18" y="337"/>
                    </a:lnTo>
                    <a:lnTo>
                      <a:pt x="12" y="314"/>
                    </a:lnTo>
                    <a:lnTo>
                      <a:pt x="7" y="292"/>
                    </a:lnTo>
                    <a:lnTo>
                      <a:pt x="4" y="272"/>
                    </a:lnTo>
                    <a:lnTo>
                      <a:pt x="1" y="235"/>
                    </a:lnTo>
                    <a:lnTo>
                      <a:pt x="0" y="201"/>
                    </a:lnTo>
                    <a:lnTo>
                      <a:pt x="0" y="167"/>
                    </a:lnTo>
                    <a:lnTo>
                      <a:pt x="2" y="137"/>
                    </a:lnTo>
                    <a:lnTo>
                      <a:pt x="7" y="107"/>
                    </a:lnTo>
                    <a:lnTo>
                      <a:pt x="13" y="81"/>
                    </a:lnTo>
                    <a:lnTo>
                      <a:pt x="17" y="70"/>
                    </a:lnTo>
                    <a:lnTo>
                      <a:pt x="22" y="59"/>
                    </a:lnTo>
                    <a:lnTo>
                      <a:pt x="26" y="49"/>
                    </a:lnTo>
                    <a:lnTo>
                      <a:pt x="31" y="39"/>
                    </a:lnTo>
                    <a:lnTo>
                      <a:pt x="37" y="31"/>
                    </a:lnTo>
                    <a:lnTo>
                      <a:pt x="42" y="23"/>
                    </a:lnTo>
                    <a:lnTo>
                      <a:pt x="49" y="17"/>
                    </a:lnTo>
                    <a:lnTo>
                      <a:pt x="55" y="11"/>
                    </a:lnTo>
                    <a:lnTo>
                      <a:pt x="63" y="7"/>
                    </a:lnTo>
                    <a:lnTo>
                      <a:pt x="70" y="4"/>
                    </a:lnTo>
                    <a:lnTo>
                      <a:pt x="77" y="1"/>
                    </a:lnTo>
                    <a:lnTo>
                      <a:pt x="86" y="0"/>
                    </a:lnTo>
                    <a:lnTo>
                      <a:pt x="95" y="0"/>
                    </a:lnTo>
                    <a:lnTo>
                      <a:pt x="103" y="1"/>
                    </a:lnTo>
                    <a:lnTo>
                      <a:pt x="112" y="3"/>
                    </a:lnTo>
                    <a:lnTo>
                      <a:pt x="122" y="6"/>
                    </a:lnTo>
                    <a:lnTo>
                      <a:pt x="131" y="11"/>
                    </a:lnTo>
                    <a:lnTo>
                      <a:pt x="143" y="17"/>
                    </a:lnTo>
                    <a:lnTo>
                      <a:pt x="154" y="25"/>
                    </a:lnTo>
                    <a:lnTo>
                      <a:pt x="165" y="33"/>
                    </a:lnTo>
                    <a:lnTo>
                      <a:pt x="197" y="79"/>
                    </a:lnTo>
                    <a:lnTo>
                      <a:pt x="282" y="199"/>
                    </a:lnTo>
                    <a:lnTo>
                      <a:pt x="406" y="374"/>
                    </a:lnTo>
                    <a:lnTo>
                      <a:pt x="551" y="581"/>
                    </a:lnTo>
                    <a:lnTo>
                      <a:pt x="704" y="800"/>
                    </a:lnTo>
                    <a:lnTo>
                      <a:pt x="846" y="1009"/>
                    </a:lnTo>
                    <a:lnTo>
                      <a:pt x="909" y="1102"/>
                    </a:lnTo>
                    <a:lnTo>
                      <a:pt x="964" y="1186"/>
                    </a:lnTo>
                    <a:lnTo>
                      <a:pt x="1009" y="1256"/>
                    </a:lnTo>
                    <a:lnTo>
                      <a:pt x="1042" y="1310"/>
                    </a:lnTo>
                    <a:lnTo>
                      <a:pt x="1069" y="1356"/>
                    </a:lnTo>
                    <a:lnTo>
                      <a:pt x="1095" y="1404"/>
                    </a:lnTo>
                    <a:lnTo>
                      <a:pt x="1122" y="1451"/>
                    </a:lnTo>
                    <a:lnTo>
                      <a:pt x="1148" y="1502"/>
                    </a:lnTo>
                    <a:lnTo>
                      <a:pt x="1172" y="1552"/>
                    </a:lnTo>
                    <a:lnTo>
                      <a:pt x="1194" y="1604"/>
                    </a:lnTo>
                    <a:lnTo>
                      <a:pt x="1217" y="1656"/>
                    </a:lnTo>
                    <a:lnTo>
                      <a:pt x="1235" y="1707"/>
                    </a:lnTo>
                    <a:lnTo>
                      <a:pt x="1244" y="1733"/>
                    </a:lnTo>
                    <a:lnTo>
                      <a:pt x="1252" y="1758"/>
                    </a:lnTo>
                    <a:lnTo>
                      <a:pt x="1258" y="1784"/>
                    </a:lnTo>
                    <a:lnTo>
                      <a:pt x="1266" y="1809"/>
                    </a:lnTo>
                    <a:lnTo>
                      <a:pt x="1271" y="1834"/>
                    </a:lnTo>
                    <a:lnTo>
                      <a:pt x="1276" y="1860"/>
                    </a:lnTo>
                    <a:lnTo>
                      <a:pt x="1279" y="1884"/>
                    </a:lnTo>
                    <a:lnTo>
                      <a:pt x="1282" y="1909"/>
                    </a:lnTo>
                    <a:lnTo>
                      <a:pt x="1283" y="1932"/>
                    </a:lnTo>
                    <a:lnTo>
                      <a:pt x="1284" y="1956"/>
                    </a:lnTo>
                    <a:lnTo>
                      <a:pt x="1283" y="1979"/>
                    </a:lnTo>
                    <a:lnTo>
                      <a:pt x="1282" y="2003"/>
                    </a:lnTo>
                    <a:lnTo>
                      <a:pt x="1278" y="2025"/>
                    </a:lnTo>
                    <a:lnTo>
                      <a:pt x="1274" y="2047"/>
                    </a:lnTo>
                    <a:lnTo>
                      <a:pt x="1268" y="2069"/>
                    </a:lnTo>
                    <a:lnTo>
                      <a:pt x="1262" y="2090"/>
                    </a:lnTo>
                    <a:lnTo>
                      <a:pt x="1253" y="2110"/>
                    </a:lnTo>
                    <a:lnTo>
                      <a:pt x="1244" y="2129"/>
                    </a:lnTo>
                    <a:lnTo>
                      <a:pt x="1233" y="2146"/>
                    </a:lnTo>
                    <a:lnTo>
                      <a:pt x="1219" y="2164"/>
                    </a:lnTo>
                    <a:lnTo>
                      <a:pt x="1206" y="2178"/>
                    </a:lnTo>
                    <a:lnTo>
                      <a:pt x="1190" y="2193"/>
                    </a:lnTo>
                    <a:lnTo>
                      <a:pt x="1172" y="2205"/>
                    </a:lnTo>
                    <a:lnTo>
                      <a:pt x="1155" y="2217"/>
                    </a:lnTo>
                    <a:lnTo>
                      <a:pt x="1137" y="2228"/>
                    </a:lnTo>
                    <a:lnTo>
                      <a:pt x="1117" y="2236"/>
                    </a:lnTo>
                    <a:lnTo>
                      <a:pt x="1097" y="2244"/>
                    </a:lnTo>
                    <a:lnTo>
                      <a:pt x="1076" y="2249"/>
                    </a:lnTo>
                    <a:lnTo>
                      <a:pt x="1055" y="2253"/>
                    </a:lnTo>
                    <a:lnTo>
                      <a:pt x="1033" y="2256"/>
                    </a:lnTo>
                    <a:lnTo>
                      <a:pt x="1012" y="2257"/>
                    </a:lnTo>
                    <a:lnTo>
                      <a:pt x="990" y="2256"/>
                    </a:lnTo>
                    <a:lnTo>
                      <a:pt x="968" y="2253"/>
                    </a:lnTo>
                    <a:lnTo>
                      <a:pt x="946" y="2250"/>
                    </a:lnTo>
                    <a:lnTo>
                      <a:pt x="924" y="2244"/>
                    </a:lnTo>
                    <a:lnTo>
                      <a:pt x="903" y="2236"/>
                    </a:lnTo>
                    <a:lnTo>
                      <a:pt x="881" y="2226"/>
                    </a:lnTo>
                    <a:lnTo>
                      <a:pt x="861" y="2215"/>
                    </a:lnTo>
                    <a:lnTo>
                      <a:pt x="840" y="2202"/>
                    </a:lnTo>
                    <a:lnTo>
                      <a:pt x="820" y="2187"/>
                    </a:lnTo>
                    <a:lnTo>
                      <a:pt x="802" y="2170"/>
                    </a:lnTo>
                    <a:lnTo>
                      <a:pt x="785" y="2150"/>
                    </a:lnTo>
                    <a:lnTo>
                      <a:pt x="768" y="2129"/>
                    </a:lnTo>
                    <a:lnTo>
                      <a:pt x="752" y="2106"/>
                    </a:lnTo>
                    <a:lnTo>
                      <a:pt x="737" y="2080"/>
                    </a:lnTo>
                    <a:lnTo>
                      <a:pt x="724" y="2052"/>
                    </a:lnTo>
                    <a:lnTo>
                      <a:pt x="712" y="2021"/>
                    </a:lnTo>
                    <a:lnTo>
                      <a:pt x="702" y="1989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6280200" y="3286080"/>
                <a:ext cx="342720" cy="604800"/>
              </a:xfrm>
              <a:custGeom>
                <a:avLst/>
                <a:gdLst/>
                <a:ahLst/>
                <a:rect l="l" t="t" r="r" b="b"/>
                <a:pathLst>
                  <a:path w="1082" h="1905">
                    <a:moveTo>
                      <a:pt x="591" y="1680"/>
                    </a:moveTo>
                    <a:lnTo>
                      <a:pt x="562" y="1568"/>
                    </a:lnTo>
                    <a:lnTo>
                      <a:pt x="535" y="1463"/>
                    </a:lnTo>
                    <a:lnTo>
                      <a:pt x="510" y="1363"/>
                    </a:lnTo>
                    <a:lnTo>
                      <a:pt x="487" y="1271"/>
                    </a:lnTo>
                    <a:lnTo>
                      <a:pt x="466" y="1186"/>
                    </a:lnTo>
                    <a:lnTo>
                      <a:pt x="446" y="1110"/>
                    </a:lnTo>
                    <a:lnTo>
                      <a:pt x="436" y="1075"/>
                    </a:lnTo>
                    <a:lnTo>
                      <a:pt x="427" y="1043"/>
                    </a:lnTo>
                    <a:lnTo>
                      <a:pt x="417" y="1014"/>
                    </a:lnTo>
                    <a:lnTo>
                      <a:pt x="407" y="988"/>
                    </a:lnTo>
                    <a:lnTo>
                      <a:pt x="402" y="974"/>
                    </a:lnTo>
                    <a:lnTo>
                      <a:pt x="395" y="958"/>
                    </a:lnTo>
                    <a:lnTo>
                      <a:pt x="386" y="941"/>
                    </a:lnTo>
                    <a:lnTo>
                      <a:pt x="376" y="923"/>
                    </a:lnTo>
                    <a:lnTo>
                      <a:pt x="353" y="882"/>
                    </a:lnTo>
                    <a:lnTo>
                      <a:pt x="326" y="835"/>
                    </a:lnTo>
                    <a:lnTo>
                      <a:pt x="262" y="733"/>
                    </a:lnTo>
                    <a:lnTo>
                      <a:pt x="193" y="623"/>
                    </a:lnTo>
                    <a:lnTo>
                      <a:pt x="157" y="566"/>
                    </a:lnTo>
                    <a:lnTo>
                      <a:pt x="124" y="509"/>
                    </a:lnTo>
                    <a:lnTo>
                      <a:pt x="93" y="455"/>
                    </a:lnTo>
                    <a:lnTo>
                      <a:pt x="65" y="402"/>
                    </a:lnTo>
                    <a:lnTo>
                      <a:pt x="53" y="377"/>
                    </a:lnTo>
                    <a:lnTo>
                      <a:pt x="41" y="353"/>
                    </a:lnTo>
                    <a:lnTo>
                      <a:pt x="30" y="330"/>
                    </a:lnTo>
                    <a:lnTo>
                      <a:pt x="22" y="308"/>
                    </a:lnTo>
                    <a:lnTo>
                      <a:pt x="14" y="287"/>
                    </a:lnTo>
                    <a:lnTo>
                      <a:pt x="8" y="267"/>
                    </a:lnTo>
                    <a:lnTo>
                      <a:pt x="5" y="249"/>
                    </a:lnTo>
                    <a:lnTo>
                      <a:pt x="2" y="233"/>
                    </a:lnTo>
                    <a:lnTo>
                      <a:pt x="0" y="201"/>
                    </a:lnTo>
                    <a:lnTo>
                      <a:pt x="0" y="171"/>
                    </a:lnTo>
                    <a:lnTo>
                      <a:pt x="0" y="143"/>
                    </a:lnTo>
                    <a:lnTo>
                      <a:pt x="2" y="117"/>
                    </a:lnTo>
                    <a:lnTo>
                      <a:pt x="6" y="92"/>
                    </a:lnTo>
                    <a:lnTo>
                      <a:pt x="11" y="70"/>
                    </a:lnTo>
                    <a:lnTo>
                      <a:pt x="18" y="51"/>
                    </a:lnTo>
                    <a:lnTo>
                      <a:pt x="27" y="35"/>
                    </a:lnTo>
                    <a:lnTo>
                      <a:pt x="30" y="27"/>
                    </a:lnTo>
                    <a:lnTo>
                      <a:pt x="35" y="21"/>
                    </a:lnTo>
                    <a:lnTo>
                      <a:pt x="40" y="16"/>
                    </a:lnTo>
                    <a:lnTo>
                      <a:pt x="46" y="11"/>
                    </a:lnTo>
                    <a:lnTo>
                      <a:pt x="53" y="8"/>
                    </a:lnTo>
                    <a:lnTo>
                      <a:pt x="59" y="4"/>
                    </a:lnTo>
                    <a:lnTo>
                      <a:pt x="65" y="1"/>
                    </a:lnTo>
                    <a:lnTo>
                      <a:pt x="72" y="1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4" y="4"/>
                    </a:lnTo>
                    <a:lnTo>
                      <a:pt x="103" y="6"/>
                    </a:lnTo>
                    <a:lnTo>
                      <a:pt x="110" y="10"/>
                    </a:lnTo>
                    <a:lnTo>
                      <a:pt x="119" y="15"/>
                    </a:lnTo>
                    <a:lnTo>
                      <a:pt x="129" y="21"/>
                    </a:lnTo>
                    <a:lnTo>
                      <a:pt x="137" y="28"/>
                    </a:lnTo>
                    <a:lnTo>
                      <a:pt x="164" y="67"/>
                    </a:lnTo>
                    <a:lnTo>
                      <a:pt x="237" y="169"/>
                    </a:lnTo>
                    <a:lnTo>
                      <a:pt x="342" y="316"/>
                    </a:lnTo>
                    <a:lnTo>
                      <a:pt x="465" y="491"/>
                    </a:lnTo>
                    <a:lnTo>
                      <a:pt x="594" y="675"/>
                    </a:lnTo>
                    <a:lnTo>
                      <a:pt x="714" y="851"/>
                    </a:lnTo>
                    <a:lnTo>
                      <a:pt x="767" y="930"/>
                    </a:lnTo>
                    <a:lnTo>
                      <a:pt x="814" y="1000"/>
                    </a:lnTo>
                    <a:lnTo>
                      <a:pt x="852" y="1059"/>
                    </a:lnTo>
                    <a:lnTo>
                      <a:pt x="879" y="1105"/>
                    </a:lnTo>
                    <a:lnTo>
                      <a:pt x="903" y="1143"/>
                    </a:lnTo>
                    <a:lnTo>
                      <a:pt x="925" y="1183"/>
                    </a:lnTo>
                    <a:lnTo>
                      <a:pt x="947" y="1225"/>
                    </a:lnTo>
                    <a:lnTo>
                      <a:pt x="968" y="1267"/>
                    </a:lnTo>
                    <a:lnTo>
                      <a:pt x="989" y="1310"/>
                    </a:lnTo>
                    <a:lnTo>
                      <a:pt x="1008" y="1353"/>
                    </a:lnTo>
                    <a:lnTo>
                      <a:pt x="1026" y="1396"/>
                    </a:lnTo>
                    <a:lnTo>
                      <a:pt x="1042" y="1440"/>
                    </a:lnTo>
                    <a:lnTo>
                      <a:pt x="1056" y="1484"/>
                    </a:lnTo>
                    <a:lnTo>
                      <a:pt x="1068" y="1527"/>
                    </a:lnTo>
                    <a:lnTo>
                      <a:pt x="1071" y="1549"/>
                    </a:lnTo>
                    <a:lnTo>
                      <a:pt x="1076" y="1570"/>
                    </a:lnTo>
                    <a:lnTo>
                      <a:pt x="1079" y="1591"/>
                    </a:lnTo>
                    <a:lnTo>
                      <a:pt x="1081" y="1610"/>
                    </a:lnTo>
                    <a:lnTo>
                      <a:pt x="1082" y="1631"/>
                    </a:lnTo>
                    <a:lnTo>
                      <a:pt x="1082" y="1651"/>
                    </a:lnTo>
                    <a:lnTo>
                      <a:pt x="1082" y="1670"/>
                    </a:lnTo>
                    <a:lnTo>
                      <a:pt x="1081" y="1690"/>
                    </a:lnTo>
                    <a:lnTo>
                      <a:pt x="1079" y="1710"/>
                    </a:lnTo>
                    <a:lnTo>
                      <a:pt x="1075" y="1728"/>
                    </a:lnTo>
                    <a:lnTo>
                      <a:pt x="1070" y="1747"/>
                    </a:lnTo>
                    <a:lnTo>
                      <a:pt x="1064" y="1764"/>
                    </a:lnTo>
                    <a:lnTo>
                      <a:pt x="1058" y="1781"/>
                    </a:lnTo>
                    <a:lnTo>
                      <a:pt x="1049" y="1797"/>
                    </a:lnTo>
                    <a:lnTo>
                      <a:pt x="1039" y="1812"/>
                    </a:lnTo>
                    <a:lnTo>
                      <a:pt x="1029" y="1827"/>
                    </a:lnTo>
                    <a:lnTo>
                      <a:pt x="1017" y="1839"/>
                    </a:lnTo>
                    <a:lnTo>
                      <a:pt x="1004" y="1851"/>
                    </a:lnTo>
                    <a:lnTo>
                      <a:pt x="990" y="1862"/>
                    </a:lnTo>
                    <a:lnTo>
                      <a:pt x="975" y="1871"/>
                    </a:lnTo>
                    <a:lnTo>
                      <a:pt x="959" y="1880"/>
                    </a:lnTo>
                    <a:lnTo>
                      <a:pt x="943" y="1887"/>
                    </a:lnTo>
                    <a:lnTo>
                      <a:pt x="926" y="1893"/>
                    </a:lnTo>
                    <a:lnTo>
                      <a:pt x="909" y="1898"/>
                    </a:lnTo>
                    <a:lnTo>
                      <a:pt x="892" y="1902"/>
                    </a:lnTo>
                    <a:lnTo>
                      <a:pt x="873" y="1904"/>
                    </a:lnTo>
                    <a:lnTo>
                      <a:pt x="855" y="1905"/>
                    </a:lnTo>
                    <a:lnTo>
                      <a:pt x="836" y="1904"/>
                    </a:lnTo>
                    <a:lnTo>
                      <a:pt x="818" y="1903"/>
                    </a:lnTo>
                    <a:lnTo>
                      <a:pt x="799" y="1899"/>
                    </a:lnTo>
                    <a:lnTo>
                      <a:pt x="781" y="1894"/>
                    </a:lnTo>
                    <a:lnTo>
                      <a:pt x="762" y="1888"/>
                    </a:lnTo>
                    <a:lnTo>
                      <a:pt x="744" y="1880"/>
                    </a:lnTo>
                    <a:lnTo>
                      <a:pt x="727" y="1871"/>
                    </a:lnTo>
                    <a:lnTo>
                      <a:pt x="709" y="1859"/>
                    </a:lnTo>
                    <a:lnTo>
                      <a:pt x="694" y="1846"/>
                    </a:lnTo>
                    <a:lnTo>
                      <a:pt x="678" y="1832"/>
                    </a:lnTo>
                    <a:lnTo>
                      <a:pt x="662" y="1816"/>
                    </a:lnTo>
                    <a:lnTo>
                      <a:pt x="648" y="1797"/>
                    </a:lnTo>
                    <a:lnTo>
                      <a:pt x="634" y="1778"/>
                    </a:lnTo>
                    <a:lnTo>
                      <a:pt x="622" y="1757"/>
                    </a:lnTo>
                    <a:lnTo>
                      <a:pt x="611" y="1733"/>
                    </a:lnTo>
                    <a:lnTo>
                      <a:pt x="600" y="1707"/>
                    </a:lnTo>
                    <a:lnTo>
                      <a:pt x="591" y="168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6327720" y="3363840"/>
                <a:ext cx="281160" cy="492120"/>
              </a:xfrm>
              <a:custGeom>
                <a:avLst/>
                <a:gdLst/>
                <a:ahLst/>
                <a:rect l="l" t="t" r="r" b="b"/>
                <a:pathLst>
                  <a:path w="884" h="1551">
                    <a:moveTo>
                      <a:pt x="486" y="1367"/>
                    </a:moveTo>
                    <a:lnTo>
                      <a:pt x="460" y="1277"/>
                    </a:lnTo>
                    <a:lnTo>
                      <a:pt x="438" y="1191"/>
                    </a:lnTo>
                    <a:lnTo>
                      <a:pt x="417" y="1110"/>
                    </a:lnTo>
                    <a:lnTo>
                      <a:pt x="399" y="1035"/>
                    </a:lnTo>
                    <a:lnTo>
                      <a:pt x="382" y="966"/>
                    </a:lnTo>
                    <a:lnTo>
                      <a:pt x="364" y="905"/>
                    </a:lnTo>
                    <a:lnTo>
                      <a:pt x="348" y="850"/>
                    </a:lnTo>
                    <a:lnTo>
                      <a:pt x="334" y="805"/>
                    </a:lnTo>
                    <a:lnTo>
                      <a:pt x="324" y="782"/>
                    </a:lnTo>
                    <a:lnTo>
                      <a:pt x="308" y="752"/>
                    </a:lnTo>
                    <a:lnTo>
                      <a:pt x="289" y="719"/>
                    </a:lnTo>
                    <a:lnTo>
                      <a:pt x="267" y="681"/>
                    </a:lnTo>
                    <a:lnTo>
                      <a:pt x="215" y="597"/>
                    </a:lnTo>
                    <a:lnTo>
                      <a:pt x="159" y="506"/>
                    </a:lnTo>
                    <a:lnTo>
                      <a:pt x="131" y="459"/>
                    </a:lnTo>
                    <a:lnTo>
                      <a:pt x="104" y="414"/>
                    </a:lnTo>
                    <a:lnTo>
                      <a:pt x="78" y="369"/>
                    </a:lnTo>
                    <a:lnTo>
                      <a:pt x="56" y="326"/>
                    </a:lnTo>
                    <a:lnTo>
                      <a:pt x="36" y="286"/>
                    </a:lnTo>
                    <a:lnTo>
                      <a:pt x="20" y="249"/>
                    </a:lnTo>
                    <a:lnTo>
                      <a:pt x="14" y="233"/>
                    </a:lnTo>
                    <a:lnTo>
                      <a:pt x="8" y="217"/>
                    </a:lnTo>
                    <a:lnTo>
                      <a:pt x="4" y="202"/>
                    </a:lnTo>
                    <a:lnTo>
                      <a:pt x="3" y="189"/>
                    </a:lnTo>
                    <a:lnTo>
                      <a:pt x="0" y="164"/>
                    </a:lnTo>
                    <a:lnTo>
                      <a:pt x="0" y="139"/>
                    </a:lnTo>
                    <a:lnTo>
                      <a:pt x="0" y="117"/>
                    </a:lnTo>
                    <a:lnTo>
                      <a:pt x="3" y="96"/>
                    </a:lnTo>
                    <a:lnTo>
                      <a:pt x="5" y="77"/>
                    </a:lnTo>
                    <a:lnTo>
                      <a:pt x="10" y="58"/>
                    </a:lnTo>
                    <a:lnTo>
                      <a:pt x="15" y="42"/>
                    </a:lnTo>
                    <a:lnTo>
                      <a:pt x="22" y="29"/>
                    </a:lnTo>
                    <a:lnTo>
                      <a:pt x="26" y="24"/>
                    </a:lnTo>
                    <a:lnTo>
                      <a:pt x="30" y="18"/>
                    </a:lnTo>
                    <a:lnTo>
                      <a:pt x="35" y="14"/>
                    </a:lnTo>
                    <a:lnTo>
                      <a:pt x="38" y="9"/>
                    </a:lnTo>
                    <a:lnTo>
                      <a:pt x="43" y="7"/>
                    </a:lnTo>
                    <a:lnTo>
                      <a:pt x="49" y="4"/>
                    </a:lnTo>
                    <a:lnTo>
                      <a:pt x="54" y="2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2" y="2"/>
                    </a:lnTo>
                    <a:lnTo>
                      <a:pt x="78" y="3"/>
                    </a:lnTo>
                    <a:lnTo>
                      <a:pt x="85" y="5"/>
                    </a:lnTo>
                    <a:lnTo>
                      <a:pt x="91" y="8"/>
                    </a:lnTo>
                    <a:lnTo>
                      <a:pt x="99" y="12"/>
                    </a:lnTo>
                    <a:lnTo>
                      <a:pt x="106" y="16"/>
                    </a:lnTo>
                    <a:lnTo>
                      <a:pt x="113" y="23"/>
                    </a:lnTo>
                    <a:lnTo>
                      <a:pt x="136" y="53"/>
                    </a:lnTo>
                    <a:lnTo>
                      <a:pt x="195" y="137"/>
                    </a:lnTo>
                    <a:lnTo>
                      <a:pt x="279" y="258"/>
                    </a:lnTo>
                    <a:lnTo>
                      <a:pt x="380" y="400"/>
                    </a:lnTo>
                    <a:lnTo>
                      <a:pt x="485" y="552"/>
                    </a:lnTo>
                    <a:lnTo>
                      <a:pt x="583" y="694"/>
                    </a:lnTo>
                    <a:lnTo>
                      <a:pt x="628" y="759"/>
                    </a:lnTo>
                    <a:lnTo>
                      <a:pt x="666" y="816"/>
                    </a:lnTo>
                    <a:lnTo>
                      <a:pt x="697" y="864"/>
                    </a:lnTo>
                    <a:lnTo>
                      <a:pt x="720" y="901"/>
                    </a:lnTo>
                    <a:lnTo>
                      <a:pt x="756" y="965"/>
                    </a:lnTo>
                    <a:lnTo>
                      <a:pt x="790" y="1032"/>
                    </a:lnTo>
                    <a:lnTo>
                      <a:pt x="807" y="1068"/>
                    </a:lnTo>
                    <a:lnTo>
                      <a:pt x="823" y="1103"/>
                    </a:lnTo>
                    <a:lnTo>
                      <a:pt x="837" y="1138"/>
                    </a:lnTo>
                    <a:lnTo>
                      <a:pt x="850" y="1174"/>
                    </a:lnTo>
                    <a:lnTo>
                      <a:pt x="861" y="1210"/>
                    </a:lnTo>
                    <a:lnTo>
                      <a:pt x="870" y="1245"/>
                    </a:lnTo>
                    <a:lnTo>
                      <a:pt x="877" y="1280"/>
                    </a:lnTo>
                    <a:lnTo>
                      <a:pt x="882" y="1313"/>
                    </a:lnTo>
                    <a:lnTo>
                      <a:pt x="884" y="1330"/>
                    </a:lnTo>
                    <a:lnTo>
                      <a:pt x="884" y="1346"/>
                    </a:lnTo>
                    <a:lnTo>
                      <a:pt x="884" y="1362"/>
                    </a:lnTo>
                    <a:lnTo>
                      <a:pt x="882" y="1378"/>
                    </a:lnTo>
                    <a:lnTo>
                      <a:pt x="880" y="1394"/>
                    </a:lnTo>
                    <a:lnTo>
                      <a:pt x="877" y="1409"/>
                    </a:lnTo>
                    <a:lnTo>
                      <a:pt x="874" y="1424"/>
                    </a:lnTo>
                    <a:lnTo>
                      <a:pt x="869" y="1438"/>
                    </a:lnTo>
                    <a:lnTo>
                      <a:pt x="863" y="1452"/>
                    </a:lnTo>
                    <a:lnTo>
                      <a:pt x="856" y="1464"/>
                    </a:lnTo>
                    <a:lnTo>
                      <a:pt x="848" y="1476"/>
                    </a:lnTo>
                    <a:lnTo>
                      <a:pt x="839" y="1488"/>
                    </a:lnTo>
                    <a:lnTo>
                      <a:pt x="829" y="1499"/>
                    </a:lnTo>
                    <a:lnTo>
                      <a:pt x="820" y="1508"/>
                    </a:lnTo>
                    <a:lnTo>
                      <a:pt x="807" y="1517"/>
                    </a:lnTo>
                    <a:lnTo>
                      <a:pt x="796" y="1524"/>
                    </a:lnTo>
                    <a:lnTo>
                      <a:pt x="783" y="1532"/>
                    </a:lnTo>
                    <a:lnTo>
                      <a:pt x="769" y="1538"/>
                    </a:lnTo>
                    <a:lnTo>
                      <a:pt x="756" y="1543"/>
                    </a:lnTo>
                    <a:lnTo>
                      <a:pt x="742" y="1547"/>
                    </a:lnTo>
                    <a:lnTo>
                      <a:pt x="727" y="1549"/>
                    </a:lnTo>
                    <a:lnTo>
                      <a:pt x="713" y="1551"/>
                    </a:lnTo>
                    <a:lnTo>
                      <a:pt x="698" y="1551"/>
                    </a:lnTo>
                    <a:lnTo>
                      <a:pt x="683" y="1551"/>
                    </a:lnTo>
                    <a:lnTo>
                      <a:pt x="667" y="1550"/>
                    </a:lnTo>
                    <a:lnTo>
                      <a:pt x="652" y="1547"/>
                    </a:lnTo>
                    <a:lnTo>
                      <a:pt x="637" y="1543"/>
                    </a:lnTo>
                    <a:lnTo>
                      <a:pt x="623" y="1538"/>
                    </a:lnTo>
                    <a:lnTo>
                      <a:pt x="608" y="1532"/>
                    </a:lnTo>
                    <a:lnTo>
                      <a:pt x="593" y="1523"/>
                    </a:lnTo>
                    <a:lnTo>
                      <a:pt x="580" y="1515"/>
                    </a:lnTo>
                    <a:lnTo>
                      <a:pt x="566" y="1504"/>
                    </a:lnTo>
                    <a:lnTo>
                      <a:pt x="554" y="1492"/>
                    </a:lnTo>
                    <a:lnTo>
                      <a:pt x="542" y="1479"/>
                    </a:lnTo>
                    <a:lnTo>
                      <a:pt x="530" y="1464"/>
                    </a:lnTo>
                    <a:lnTo>
                      <a:pt x="519" y="1448"/>
                    </a:lnTo>
                    <a:lnTo>
                      <a:pt x="510" y="1430"/>
                    </a:lnTo>
                    <a:lnTo>
                      <a:pt x="501" y="1410"/>
                    </a:lnTo>
                    <a:lnTo>
                      <a:pt x="492" y="1390"/>
                    </a:lnTo>
                    <a:lnTo>
                      <a:pt x="486" y="136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6377040" y="3440160"/>
                <a:ext cx="217440" cy="380880"/>
              </a:xfrm>
              <a:custGeom>
                <a:avLst/>
                <a:gdLst/>
                <a:ahLst/>
                <a:rect l="l" t="t" r="r" b="b"/>
                <a:pathLst>
                  <a:path w="682" h="1199">
                    <a:moveTo>
                      <a:pt x="374" y="1057"/>
                    </a:moveTo>
                    <a:lnTo>
                      <a:pt x="355" y="987"/>
                    </a:lnTo>
                    <a:lnTo>
                      <a:pt x="337" y="921"/>
                    </a:lnTo>
                    <a:lnTo>
                      <a:pt x="321" y="859"/>
                    </a:lnTo>
                    <a:lnTo>
                      <a:pt x="307" y="800"/>
                    </a:lnTo>
                    <a:lnTo>
                      <a:pt x="293" y="747"/>
                    </a:lnTo>
                    <a:lnTo>
                      <a:pt x="281" y="699"/>
                    </a:lnTo>
                    <a:lnTo>
                      <a:pt x="268" y="658"/>
                    </a:lnTo>
                    <a:lnTo>
                      <a:pt x="257" y="623"/>
                    </a:lnTo>
                    <a:lnTo>
                      <a:pt x="249" y="605"/>
                    </a:lnTo>
                    <a:lnTo>
                      <a:pt x="238" y="581"/>
                    </a:lnTo>
                    <a:lnTo>
                      <a:pt x="223" y="556"/>
                    </a:lnTo>
                    <a:lnTo>
                      <a:pt x="206" y="526"/>
                    </a:lnTo>
                    <a:lnTo>
                      <a:pt x="165" y="462"/>
                    </a:lnTo>
                    <a:lnTo>
                      <a:pt x="122" y="391"/>
                    </a:lnTo>
                    <a:lnTo>
                      <a:pt x="100" y="355"/>
                    </a:lnTo>
                    <a:lnTo>
                      <a:pt x="79" y="319"/>
                    </a:lnTo>
                    <a:lnTo>
                      <a:pt x="59" y="285"/>
                    </a:lnTo>
                    <a:lnTo>
                      <a:pt x="42" y="252"/>
                    </a:lnTo>
                    <a:lnTo>
                      <a:pt x="27" y="221"/>
                    </a:lnTo>
                    <a:lnTo>
                      <a:pt x="15" y="193"/>
                    </a:lnTo>
                    <a:lnTo>
                      <a:pt x="10" y="179"/>
                    </a:lnTo>
                    <a:lnTo>
                      <a:pt x="6" y="167"/>
                    </a:lnTo>
                    <a:lnTo>
                      <a:pt x="4" y="156"/>
                    </a:lnTo>
                    <a:lnTo>
                      <a:pt x="1" y="145"/>
                    </a:lnTo>
                    <a:lnTo>
                      <a:pt x="0" y="125"/>
                    </a:lnTo>
                    <a:lnTo>
                      <a:pt x="0" y="107"/>
                    </a:lnTo>
                    <a:lnTo>
                      <a:pt x="0" y="89"/>
                    </a:lnTo>
                    <a:lnTo>
                      <a:pt x="1" y="72"/>
                    </a:lnTo>
                    <a:lnTo>
                      <a:pt x="4" y="57"/>
                    </a:lnTo>
                    <a:lnTo>
                      <a:pt x="8" y="44"/>
                    </a:lnTo>
                    <a:lnTo>
                      <a:pt x="11" y="32"/>
                    </a:lnTo>
                    <a:lnTo>
                      <a:pt x="16" y="20"/>
                    </a:lnTo>
                    <a:lnTo>
                      <a:pt x="22" y="12"/>
                    </a:lnTo>
                    <a:lnTo>
                      <a:pt x="30" y="6"/>
                    </a:lnTo>
                    <a:lnTo>
                      <a:pt x="37" y="2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4" y="3"/>
                    </a:lnTo>
                    <a:lnTo>
                      <a:pt x="75" y="8"/>
                    </a:lnTo>
                    <a:lnTo>
                      <a:pt x="86" y="17"/>
                    </a:lnTo>
                    <a:lnTo>
                      <a:pt x="104" y="41"/>
                    </a:lnTo>
                    <a:lnTo>
                      <a:pt x="149" y="105"/>
                    </a:lnTo>
                    <a:lnTo>
                      <a:pt x="214" y="199"/>
                    </a:lnTo>
                    <a:lnTo>
                      <a:pt x="292" y="310"/>
                    </a:lnTo>
                    <a:lnTo>
                      <a:pt x="373" y="425"/>
                    </a:lnTo>
                    <a:lnTo>
                      <a:pt x="449" y="536"/>
                    </a:lnTo>
                    <a:lnTo>
                      <a:pt x="484" y="586"/>
                    </a:lnTo>
                    <a:lnTo>
                      <a:pt x="512" y="631"/>
                    </a:lnTo>
                    <a:lnTo>
                      <a:pt x="537" y="667"/>
                    </a:lnTo>
                    <a:lnTo>
                      <a:pt x="554" y="696"/>
                    </a:lnTo>
                    <a:lnTo>
                      <a:pt x="582" y="746"/>
                    </a:lnTo>
                    <a:lnTo>
                      <a:pt x="610" y="798"/>
                    </a:lnTo>
                    <a:lnTo>
                      <a:pt x="623" y="825"/>
                    </a:lnTo>
                    <a:lnTo>
                      <a:pt x="635" y="852"/>
                    </a:lnTo>
                    <a:lnTo>
                      <a:pt x="646" y="879"/>
                    </a:lnTo>
                    <a:lnTo>
                      <a:pt x="657" y="907"/>
                    </a:lnTo>
                    <a:lnTo>
                      <a:pt x="666" y="934"/>
                    </a:lnTo>
                    <a:lnTo>
                      <a:pt x="673" y="961"/>
                    </a:lnTo>
                    <a:lnTo>
                      <a:pt x="678" y="987"/>
                    </a:lnTo>
                    <a:lnTo>
                      <a:pt x="681" y="1013"/>
                    </a:lnTo>
                    <a:lnTo>
                      <a:pt x="682" y="1039"/>
                    </a:lnTo>
                    <a:lnTo>
                      <a:pt x="681" y="1063"/>
                    </a:lnTo>
                    <a:lnTo>
                      <a:pt x="679" y="1075"/>
                    </a:lnTo>
                    <a:lnTo>
                      <a:pt x="677" y="1087"/>
                    </a:lnTo>
                    <a:lnTo>
                      <a:pt x="674" y="1098"/>
                    </a:lnTo>
                    <a:lnTo>
                      <a:pt x="671" y="1109"/>
                    </a:lnTo>
                    <a:lnTo>
                      <a:pt x="666" y="1120"/>
                    </a:lnTo>
                    <a:lnTo>
                      <a:pt x="661" y="1130"/>
                    </a:lnTo>
                    <a:lnTo>
                      <a:pt x="655" y="1140"/>
                    </a:lnTo>
                    <a:lnTo>
                      <a:pt x="649" y="1148"/>
                    </a:lnTo>
                    <a:lnTo>
                      <a:pt x="640" y="1157"/>
                    </a:lnTo>
                    <a:lnTo>
                      <a:pt x="633" y="1164"/>
                    </a:lnTo>
                    <a:lnTo>
                      <a:pt x="624" y="1171"/>
                    </a:lnTo>
                    <a:lnTo>
                      <a:pt x="614" y="1177"/>
                    </a:lnTo>
                    <a:lnTo>
                      <a:pt x="604" y="1183"/>
                    </a:lnTo>
                    <a:lnTo>
                      <a:pt x="594" y="1188"/>
                    </a:lnTo>
                    <a:lnTo>
                      <a:pt x="583" y="1191"/>
                    </a:lnTo>
                    <a:lnTo>
                      <a:pt x="572" y="1194"/>
                    </a:lnTo>
                    <a:lnTo>
                      <a:pt x="561" y="1196"/>
                    </a:lnTo>
                    <a:lnTo>
                      <a:pt x="550" y="1198"/>
                    </a:lnTo>
                    <a:lnTo>
                      <a:pt x="538" y="1199"/>
                    </a:lnTo>
                    <a:lnTo>
                      <a:pt x="527" y="1199"/>
                    </a:lnTo>
                    <a:lnTo>
                      <a:pt x="514" y="1198"/>
                    </a:lnTo>
                    <a:lnTo>
                      <a:pt x="503" y="1195"/>
                    </a:lnTo>
                    <a:lnTo>
                      <a:pt x="491" y="1193"/>
                    </a:lnTo>
                    <a:lnTo>
                      <a:pt x="480" y="1188"/>
                    </a:lnTo>
                    <a:lnTo>
                      <a:pt x="469" y="1183"/>
                    </a:lnTo>
                    <a:lnTo>
                      <a:pt x="458" y="1178"/>
                    </a:lnTo>
                    <a:lnTo>
                      <a:pt x="447" y="1171"/>
                    </a:lnTo>
                    <a:lnTo>
                      <a:pt x="437" y="1162"/>
                    </a:lnTo>
                    <a:lnTo>
                      <a:pt x="427" y="1153"/>
                    </a:lnTo>
                    <a:lnTo>
                      <a:pt x="417" y="1143"/>
                    </a:lnTo>
                    <a:lnTo>
                      <a:pt x="409" y="1131"/>
                    </a:lnTo>
                    <a:lnTo>
                      <a:pt x="400" y="1119"/>
                    </a:lnTo>
                    <a:lnTo>
                      <a:pt x="393" y="1105"/>
                    </a:lnTo>
                    <a:lnTo>
                      <a:pt x="385" y="1091"/>
                    </a:lnTo>
                    <a:lnTo>
                      <a:pt x="379" y="1075"/>
                    </a:lnTo>
                    <a:lnTo>
                      <a:pt x="374" y="1057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6426360" y="3516480"/>
                <a:ext cx="152280" cy="269640"/>
              </a:xfrm>
              <a:custGeom>
                <a:avLst/>
                <a:gdLst/>
                <a:ahLst/>
                <a:rect l="l" t="t" r="r" b="b"/>
                <a:pathLst>
                  <a:path w="482" h="848">
                    <a:moveTo>
                      <a:pt x="61" y="13"/>
                    </a:moveTo>
                    <a:lnTo>
                      <a:pt x="72" y="29"/>
                    </a:lnTo>
                    <a:lnTo>
                      <a:pt x="106" y="75"/>
                    </a:lnTo>
                    <a:lnTo>
                      <a:pt x="151" y="141"/>
                    </a:lnTo>
                    <a:lnTo>
                      <a:pt x="206" y="220"/>
                    </a:lnTo>
                    <a:lnTo>
                      <a:pt x="263" y="302"/>
                    </a:lnTo>
                    <a:lnTo>
                      <a:pt x="317" y="381"/>
                    </a:lnTo>
                    <a:lnTo>
                      <a:pt x="363" y="447"/>
                    </a:lnTo>
                    <a:lnTo>
                      <a:pt x="392" y="493"/>
                    </a:lnTo>
                    <a:lnTo>
                      <a:pt x="412" y="529"/>
                    </a:lnTo>
                    <a:lnTo>
                      <a:pt x="432" y="565"/>
                    </a:lnTo>
                    <a:lnTo>
                      <a:pt x="440" y="584"/>
                    </a:lnTo>
                    <a:lnTo>
                      <a:pt x="449" y="604"/>
                    </a:lnTo>
                    <a:lnTo>
                      <a:pt x="456" y="622"/>
                    </a:lnTo>
                    <a:lnTo>
                      <a:pt x="464" y="642"/>
                    </a:lnTo>
                    <a:lnTo>
                      <a:pt x="470" y="661"/>
                    </a:lnTo>
                    <a:lnTo>
                      <a:pt x="475" y="680"/>
                    </a:lnTo>
                    <a:lnTo>
                      <a:pt x="478" y="698"/>
                    </a:lnTo>
                    <a:lnTo>
                      <a:pt x="481" y="717"/>
                    </a:lnTo>
                    <a:lnTo>
                      <a:pt x="482" y="735"/>
                    </a:lnTo>
                    <a:lnTo>
                      <a:pt x="481" y="752"/>
                    </a:lnTo>
                    <a:lnTo>
                      <a:pt x="478" y="768"/>
                    </a:lnTo>
                    <a:lnTo>
                      <a:pt x="473" y="784"/>
                    </a:lnTo>
                    <a:lnTo>
                      <a:pt x="471" y="792"/>
                    </a:lnTo>
                    <a:lnTo>
                      <a:pt x="467" y="799"/>
                    </a:lnTo>
                    <a:lnTo>
                      <a:pt x="462" y="805"/>
                    </a:lnTo>
                    <a:lnTo>
                      <a:pt x="457" y="813"/>
                    </a:lnTo>
                    <a:lnTo>
                      <a:pt x="452" y="818"/>
                    </a:lnTo>
                    <a:lnTo>
                      <a:pt x="446" y="824"/>
                    </a:lnTo>
                    <a:lnTo>
                      <a:pt x="440" y="829"/>
                    </a:lnTo>
                    <a:lnTo>
                      <a:pt x="434" y="832"/>
                    </a:lnTo>
                    <a:lnTo>
                      <a:pt x="419" y="840"/>
                    </a:lnTo>
                    <a:lnTo>
                      <a:pt x="405" y="845"/>
                    </a:lnTo>
                    <a:lnTo>
                      <a:pt x="397" y="847"/>
                    </a:lnTo>
                    <a:lnTo>
                      <a:pt x="389" y="847"/>
                    </a:lnTo>
                    <a:lnTo>
                      <a:pt x="381" y="848"/>
                    </a:lnTo>
                    <a:lnTo>
                      <a:pt x="373" y="848"/>
                    </a:lnTo>
                    <a:lnTo>
                      <a:pt x="364" y="847"/>
                    </a:lnTo>
                    <a:lnTo>
                      <a:pt x="357" y="846"/>
                    </a:lnTo>
                    <a:lnTo>
                      <a:pt x="348" y="843"/>
                    </a:lnTo>
                    <a:lnTo>
                      <a:pt x="339" y="841"/>
                    </a:lnTo>
                    <a:lnTo>
                      <a:pt x="332" y="837"/>
                    </a:lnTo>
                    <a:lnTo>
                      <a:pt x="325" y="832"/>
                    </a:lnTo>
                    <a:lnTo>
                      <a:pt x="316" y="827"/>
                    </a:lnTo>
                    <a:lnTo>
                      <a:pt x="310" y="822"/>
                    </a:lnTo>
                    <a:lnTo>
                      <a:pt x="302" y="816"/>
                    </a:lnTo>
                    <a:lnTo>
                      <a:pt x="295" y="809"/>
                    </a:lnTo>
                    <a:lnTo>
                      <a:pt x="289" y="800"/>
                    </a:lnTo>
                    <a:lnTo>
                      <a:pt x="284" y="792"/>
                    </a:lnTo>
                    <a:lnTo>
                      <a:pt x="278" y="782"/>
                    </a:lnTo>
                    <a:lnTo>
                      <a:pt x="273" y="772"/>
                    </a:lnTo>
                    <a:lnTo>
                      <a:pt x="268" y="761"/>
                    </a:lnTo>
                    <a:lnTo>
                      <a:pt x="264" y="749"/>
                    </a:lnTo>
                    <a:lnTo>
                      <a:pt x="251" y="699"/>
                    </a:lnTo>
                    <a:lnTo>
                      <a:pt x="238" y="652"/>
                    </a:lnTo>
                    <a:lnTo>
                      <a:pt x="227" y="607"/>
                    </a:lnTo>
                    <a:lnTo>
                      <a:pt x="218" y="567"/>
                    </a:lnTo>
                    <a:lnTo>
                      <a:pt x="208" y="530"/>
                    </a:lnTo>
                    <a:lnTo>
                      <a:pt x="199" y="495"/>
                    </a:lnTo>
                    <a:lnTo>
                      <a:pt x="189" y="467"/>
                    </a:lnTo>
                    <a:lnTo>
                      <a:pt x="181" y="441"/>
                    </a:lnTo>
                    <a:lnTo>
                      <a:pt x="174" y="429"/>
                    </a:lnTo>
                    <a:lnTo>
                      <a:pt x="167" y="413"/>
                    </a:lnTo>
                    <a:lnTo>
                      <a:pt x="156" y="393"/>
                    </a:lnTo>
                    <a:lnTo>
                      <a:pt x="145" y="374"/>
                    </a:lnTo>
                    <a:lnTo>
                      <a:pt x="117" y="327"/>
                    </a:lnTo>
                    <a:lnTo>
                      <a:pt x="86" y="278"/>
                    </a:lnTo>
                    <a:lnTo>
                      <a:pt x="56" y="227"/>
                    </a:lnTo>
                    <a:lnTo>
                      <a:pt x="29" y="178"/>
                    </a:lnTo>
                    <a:lnTo>
                      <a:pt x="19" y="156"/>
                    </a:lnTo>
                    <a:lnTo>
                      <a:pt x="11" y="136"/>
                    </a:lnTo>
                    <a:lnTo>
                      <a:pt x="5" y="118"/>
                    </a:lnTo>
                    <a:lnTo>
                      <a:pt x="1" y="102"/>
                    </a:lnTo>
                    <a:lnTo>
                      <a:pt x="0" y="88"/>
                    </a:lnTo>
                    <a:lnTo>
                      <a:pt x="0" y="76"/>
                    </a:lnTo>
                    <a:lnTo>
                      <a:pt x="0" y="64"/>
                    </a:lnTo>
                    <a:lnTo>
                      <a:pt x="1" y="51"/>
                    </a:lnTo>
                    <a:lnTo>
                      <a:pt x="2" y="41"/>
                    </a:lnTo>
                    <a:lnTo>
                      <a:pt x="5" y="32"/>
                    </a:lnTo>
                    <a:lnTo>
                      <a:pt x="8" y="23"/>
                    </a:lnTo>
                    <a:lnTo>
                      <a:pt x="12" y="16"/>
                    </a:lnTo>
                    <a:lnTo>
                      <a:pt x="16" y="9"/>
                    </a:lnTo>
                    <a:lnTo>
                      <a:pt x="21" y="5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9" y="1"/>
                    </a:lnTo>
                    <a:lnTo>
                      <a:pt x="45" y="2"/>
                    </a:lnTo>
                    <a:lnTo>
                      <a:pt x="53" y="7"/>
                    </a:lnTo>
                    <a:lnTo>
                      <a:pt x="61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7335720" y="2570400"/>
                <a:ext cx="87480" cy="233280"/>
              </a:xfrm>
              <a:custGeom>
                <a:avLst/>
                <a:gdLst/>
                <a:ahLst/>
                <a:rect l="l" t="t" r="r" b="b"/>
                <a:pathLst>
                  <a:path w="279" h="738">
                    <a:moveTo>
                      <a:pt x="279" y="27"/>
                    </a:moveTo>
                    <a:lnTo>
                      <a:pt x="162" y="738"/>
                    </a:lnTo>
                    <a:lnTo>
                      <a:pt x="0" y="706"/>
                    </a:lnTo>
                    <a:lnTo>
                      <a:pt x="121" y="0"/>
                    </a:lnTo>
                    <a:lnTo>
                      <a:pt x="279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7335720" y="2570400"/>
                <a:ext cx="87480" cy="233280"/>
              </a:xfrm>
              <a:custGeom>
                <a:avLst/>
                <a:gdLst/>
                <a:ahLst/>
                <a:rect l="l" t="t" r="r" b="b"/>
                <a:pathLst>
                  <a:path w="279" h="738">
                    <a:moveTo>
                      <a:pt x="279" y="27"/>
                    </a:moveTo>
                    <a:lnTo>
                      <a:pt x="162" y="738"/>
                    </a:lnTo>
                    <a:lnTo>
                      <a:pt x="0" y="706"/>
                    </a:lnTo>
                    <a:lnTo>
                      <a:pt x="121" y="0"/>
                    </a:lnTo>
                    <a:lnTo>
                      <a:pt x="279" y="2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7364520" y="25765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171" h="712">
                    <a:moveTo>
                      <a:pt x="171" y="0"/>
                    </a:moveTo>
                    <a:lnTo>
                      <a:pt x="54" y="712"/>
                    </a:lnTo>
                    <a:lnTo>
                      <a:pt x="0" y="701"/>
                    </a:lnTo>
                    <a:lnTo>
                      <a:pt x="120" y="6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7340760" y="2567160"/>
                <a:ext cx="54000" cy="230040"/>
              </a:xfrm>
              <a:custGeom>
                <a:avLst/>
                <a:gdLst/>
                <a:ahLst/>
                <a:rect l="l" t="t" r="r" b="b"/>
                <a:pathLst>
                  <a:path w="171" h="725">
                    <a:moveTo>
                      <a:pt x="171" y="0"/>
                    </a:moveTo>
                    <a:lnTo>
                      <a:pt x="51" y="725"/>
                    </a:lnTo>
                    <a:lnTo>
                      <a:pt x="0" y="714"/>
                    </a:lnTo>
                    <a:lnTo>
                      <a:pt x="119" y="8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7405560" y="2638440"/>
                <a:ext cx="39960" cy="33480"/>
              </a:xfrm>
              <a:custGeom>
                <a:avLst/>
                <a:gdLst/>
                <a:ahLst/>
                <a:rect l="l" t="t" r="r" b="b"/>
                <a:pathLst>
                  <a:path w="127" h="104">
                    <a:moveTo>
                      <a:pt x="5" y="0"/>
                    </a:moveTo>
                    <a:lnTo>
                      <a:pt x="0" y="34"/>
                    </a:lnTo>
                    <a:lnTo>
                      <a:pt x="54" y="99"/>
                    </a:lnTo>
                    <a:lnTo>
                      <a:pt x="117" y="104"/>
                    </a:lnTo>
                    <a:lnTo>
                      <a:pt x="127" y="72"/>
                    </a:lnTo>
                    <a:lnTo>
                      <a:pt x="79" y="2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7405560" y="2638440"/>
                <a:ext cx="39960" cy="33480"/>
              </a:xfrm>
              <a:custGeom>
                <a:avLst/>
                <a:gdLst/>
                <a:ahLst/>
                <a:rect l="l" t="t" r="r" b="b"/>
                <a:pathLst>
                  <a:path w="127" h="104">
                    <a:moveTo>
                      <a:pt x="5" y="0"/>
                    </a:moveTo>
                    <a:lnTo>
                      <a:pt x="0" y="34"/>
                    </a:lnTo>
                    <a:lnTo>
                      <a:pt x="54" y="99"/>
                    </a:lnTo>
                    <a:lnTo>
                      <a:pt x="117" y="104"/>
                    </a:lnTo>
                    <a:lnTo>
                      <a:pt x="127" y="72"/>
                    </a:lnTo>
                    <a:lnTo>
                      <a:pt x="79" y="27"/>
                    </a:lnTo>
                    <a:lnTo>
                      <a:pt x="5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7407360" y="26384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22" h="72">
                    <a:moveTo>
                      <a:pt x="0" y="0"/>
                    </a:moveTo>
                    <a:lnTo>
                      <a:pt x="52" y="63"/>
                    </a:lnTo>
                    <a:lnTo>
                      <a:pt x="122" y="72"/>
                    </a:lnTo>
                    <a:lnTo>
                      <a:pt x="7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7407360" y="26384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22" h="72">
                    <a:moveTo>
                      <a:pt x="0" y="0"/>
                    </a:moveTo>
                    <a:lnTo>
                      <a:pt x="52" y="63"/>
                    </a:lnTo>
                    <a:lnTo>
                      <a:pt x="122" y="72"/>
                    </a:lnTo>
                    <a:lnTo>
                      <a:pt x="74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6146640" y="2613240"/>
                <a:ext cx="520920" cy="927000"/>
              </a:xfrm>
              <a:custGeom>
                <a:avLst/>
                <a:gdLst/>
                <a:ahLst/>
                <a:rect l="l" t="t" r="r" b="b"/>
                <a:pathLst>
                  <a:path w="1643" h="2920">
                    <a:moveTo>
                      <a:pt x="514" y="68"/>
                    </a:moveTo>
                    <a:lnTo>
                      <a:pt x="479" y="76"/>
                    </a:lnTo>
                    <a:lnTo>
                      <a:pt x="447" y="85"/>
                    </a:lnTo>
                    <a:lnTo>
                      <a:pt x="419" y="96"/>
                    </a:lnTo>
                    <a:lnTo>
                      <a:pt x="393" y="107"/>
                    </a:lnTo>
                    <a:lnTo>
                      <a:pt x="370" y="118"/>
                    </a:lnTo>
                    <a:lnTo>
                      <a:pt x="349" y="131"/>
                    </a:lnTo>
                    <a:lnTo>
                      <a:pt x="331" y="144"/>
                    </a:lnTo>
                    <a:lnTo>
                      <a:pt x="315" y="158"/>
                    </a:lnTo>
                    <a:lnTo>
                      <a:pt x="301" y="171"/>
                    </a:lnTo>
                    <a:lnTo>
                      <a:pt x="290" y="185"/>
                    </a:lnTo>
                    <a:lnTo>
                      <a:pt x="283" y="198"/>
                    </a:lnTo>
                    <a:lnTo>
                      <a:pt x="276" y="213"/>
                    </a:lnTo>
                    <a:lnTo>
                      <a:pt x="273" y="226"/>
                    </a:lnTo>
                    <a:lnTo>
                      <a:pt x="270" y="240"/>
                    </a:lnTo>
                    <a:lnTo>
                      <a:pt x="272" y="254"/>
                    </a:lnTo>
                    <a:lnTo>
                      <a:pt x="274" y="266"/>
                    </a:lnTo>
                    <a:lnTo>
                      <a:pt x="279" y="279"/>
                    </a:lnTo>
                    <a:lnTo>
                      <a:pt x="285" y="292"/>
                    </a:lnTo>
                    <a:lnTo>
                      <a:pt x="292" y="305"/>
                    </a:lnTo>
                    <a:lnTo>
                      <a:pt x="301" y="319"/>
                    </a:lnTo>
                    <a:lnTo>
                      <a:pt x="320" y="345"/>
                    </a:lnTo>
                    <a:lnTo>
                      <a:pt x="340" y="368"/>
                    </a:lnTo>
                    <a:lnTo>
                      <a:pt x="359" y="390"/>
                    </a:lnTo>
                    <a:lnTo>
                      <a:pt x="376" y="406"/>
                    </a:lnTo>
                    <a:lnTo>
                      <a:pt x="387" y="417"/>
                    </a:lnTo>
                    <a:lnTo>
                      <a:pt x="391" y="421"/>
                    </a:lnTo>
                    <a:lnTo>
                      <a:pt x="406" y="441"/>
                    </a:lnTo>
                    <a:lnTo>
                      <a:pt x="443" y="491"/>
                    </a:lnTo>
                    <a:lnTo>
                      <a:pt x="497" y="567"/>
                    </a:lnTo>
                    <a:lnTo>
                      <a:pt x="563" y="659"/>
                    </a:lnTo>
                    <a:lnTo>
                      <a:pt x="636" y="762"/>
                    </a:lnTo>
                    <a:lnTo>
                      <a:pt x="707" y="865"/>
                    </a:lnTo>
                    <a:lnTo>
                      <a:pt x="740" y="915"/>
                    </a:lnTo>
                    <a:lnTo>
                      <a:pt x="771" y="962"/>
                    </a:lnTo>
                    <a:lnTo>
                      <a:pt x="799" y="1006"/>
                    </a:lnTo>
                    <a:lnTo>
                      <a:pt x="824" y="1046"/>
                    </a:lnTo>
                    <a:lnTo>
                      <a:pt x="850" y="1090"/>
                    </a:lnTo>
                    <a:lnTo>
                      <a:pt x="882" y="1148"/>
                    </a:lnTo>
                    <a:lnTo>
                      <a:pt x="919" y="1218"/>
                    </a:lnTo>
                    <a:lnTo>
                      <a:pt x="960" y="1299"/>
                    </a:lnTo>
                    <a:lnTo>
                      <a:pt x="1055" y="1482"/>
                    </a:lnTo>
                    <a:lnTo>
                      <a:pt x="1156" y="1683"/>
                    </a:lnTo>
                    <a:lnTo>
                      <a:pt x="1257" y="1888"/>
                    </a:lnTo>
                    <a:lnTo>
                      <a:pt x="1350" y="2081"/>
                    </a:lnTo>
                    <a:lnTo>
                      <a:pt x="1429" y="2247"/>
                    </a:lnTo>
                    <a:lnTo>
                      <a:pt x="1486" y="2372"/>
                    </a:lnTo>
                    <a:lnTo>
                      <a:pt x="1508" y="2421"/>
                    </a:lnTo>
                    <a:lnTo>
                      <a:pt x="1528" y="2469"/>
                    </a:lnTo>
                    <a:lnTo>
                      <a:pt x="1545" y="2518"/>
                    </a:lnTo>
                    <a:lnTo>
                      <a:pt x="1561" y="2566"/>
                    </a:lnTo>
                    <a:lnTo>
                      <a:pt x="1576" y="2613"/>
                    </a:lnTo>
                    <a:lnTo>
                      <a:pt x="1589" y="2658"/>
                    </a:lnTo>
                    <a:lnTo>
                      <a:pt x="1600" y="2702"/>
                    </a:lnTo>
                    <a:lnTo>
                      <a:pt x="1610" y="2743"/>
                    </a:lnTo>
                    <a:lnTo>
                      <a:pt x="1626" y="2814"/>
                    </a:lnTo>
                    <a:lnTo>
                      <a:pt x="1636" y="2871"/>
                    </a:lnTo>
                    <a:lnTo>
                      <a:pt x="1642" y="2908"/>
                    </a:lnTo>
                    <a:lnTo>
                      <a:pt x="1643" y="2920"/>
                    </a:lnTo>
                    <a:lnTo>
                      <a:pt x="1636" y="2907"/>
                    </a:lnTo>
                    <a:lnTo>
                      <a:pt x="1614" y="2869"/>
                    </a:lnTo>
                    <a:lnTo>
                      <a:pt x="1579" y="2812"/>
                    </a:lnTo>
                    <a:lnTo>
                      <a:pt x="1536" y="2743"/>
                    </a:lnTo>
                    <a:lnTo>
                      <a:pt x="1487" y="2667"/>
                    </a:lnTo>
                    <a:lnTo>
                      <a:pt x="1434" y="2589"/>
                    </a:lnTo>
                    <a:lnTo>
                      <a:pt x="1407" y="2551"/>
                    </a:lnTo>
                    <a:lnTo>
                      <a:pt x="1380" y="2516"/>
                    </a:lnTo>
                    <a:lnTo>
                      <a:pt x="1354" y="2481"/>
                    </a:lnTo>
                    <a:lnTo>
                      <a:pt x="1328" y="2450"/>
                    </a:lnTo>
                    <a:lnTo>
                      <a:pt x="1298" y="2415"/>
                    </a:lnTo>
                    <a:lnTo>
                      <a:pt x="1255" y="2367"/>
                    </a:lnTo>
                    <a:lnTo>
                      <a:pt x="1200" y="2309"/>
                    </a:lnTo>
                    <a:lnTo>
                      <a:pt x="1138" y="2244"/>
                    </a:lnTo>
                    <a:lnTo>
                      <a:pt x="994" y="2095"/>
                    </a:lnTo>
                    <a:lnTo>
                      <a:pt x="837" y="1936"/>
                    </a:lnTo>
                    <a:lnTo>
                      <a:pt x="685" y="1782"/>
                    </a:lnTo>
                    <a:lnTo>
                      <a:pt x="548" y="1647"/>
                    </a:lnTo>
                    <a:lnTo>
                      <a:pt x="491" y="1591"/>
                    </a:lnTo>
                    <a:lnTo>
                      <a:pt x="444" y="1545"/>
                    </a:lnTo>
                    <a:lnTo>
                      <a:pt x="408" y="1512"/>
                    </a:lnTo>
                    <a:lnTo>
                      <a:pt x="386" y="1491"/>
                    </a:lnTo>
                    <a:lnTo>
                      <a:pt x="392" y="1477"/>
                    </a:lnTo>
                    <a:lnTo>
                      <a:pt x="411" y="1437"/>
                    </a:lnTo>
                    <a:lnTo>
                      <a:pt x="422" y="1410"/>
                    </a:lnTo>
                    <a:lnTo>
                      <a:pt x="434" y="1378"/>
                    </a:lnTo>
                    <a:lnTo>
                      <a:pt x="447" y="1341"/>
                    </a:lnTo>
                    <a:lnTo>
                      <a:pt x="461" y="1303"/>
                    </a:lnTo>
                    <a:lnTo>
                      <a:pt x="475" y="1262"/>
                    </a:lnTo>
                    <a:lnTo>
                      <a:pt x="487" y="1219"/>
                    </a:lnTo>
                    <a:lnTo>
                      <a:pt x="498" y="1176"/>
                    </a:lnTo>
                    <a:lnTo>
                      <a:pt x="508" y="1132"/>
                    </a:lnTo>
                    <a:lnTo>
                      <a:pt x="511" y="1110"/>
                    </a:lnTo>
                    <a:lnTo>
                      <a:pt x="514" y="1089"/>
                    </a:lnTo>
                    <a:lnTo>
                      <a:pt x="516" y="1067"/>
                    </a:lnTo>
                    <a:lnTo>
                      <a:pt x="519" y="1046"/>
                    </a:lnTo>
                    <a:lnTo>
                      <a:pt x="519" y="1026"/>
                    </a:lnTo>
                    <a:lnTo>
                      <a:pt x="519" y="1005"/>
                    </a:lnTo>
                    <a:lnTo>
                      <a:pt x="519" y="985"/>
                    </a:lnTo>
                    <a:lnTo>
                      <a:pt x="516" y="967"/>
                    </a:lnTo>
                    <a:lnTo>
                      <a:pt x="502" y="973"/>
                    </a:lnTo>
                    <a:lnTo>
                      <a:pt x="465" y="992"/>
                    </a:lnTo>
                    <a:lnTo>
                      <a:pt x="411" y="1017"/>
                    </a:lnTo>
                    <a:lnTo>
                      <a:pt x="349" y="1049"/>
                    </a:lnTo>
                    <a:lnTo>
                      <a:pt x="317" y="1067"/>
                    </a:lnTo>
                    <a:lnTo>
                      <a:pt x="285" y="1085"/>
                    </a:lnTo>
                    <a:lnTo>
                      <a:pt x="256" y="1103"/>
                    </a:lnTo>
                    <a:lnTo>
                      <a:pt x="228" y="1122"/>
                    </a:lnTo>
                    <a:lnTo>
                      <a:pt x="205" y="1140"/>
                    </a:lnTo>
                    <a:lnTo>
                      <a:pt x="185" y="1158"/>
                    </a:lnTo>
                    <a:lnTo>
                      <a:pt x="178" y="1166"/>
                    </a:lnTo>
                    <a:lnTo>
                      <a:pt x="171" y="1175"/>
                    </a:lnTo>
                    <a:lnTo>
                      <a:pt x="166" y="1182"/>
                    </a:lnTo>
                    <a:lnTo>
                      <a:pt x="163" y="1190"/>
                    </a:lnTo>
                    <a:lnTo>
                      <a:pt x="158" y="1181"/>
                    </a:lnTo>
                    <a:lnTo>
                      <a:pt x="145" y="1154"/>
                    </a:lnTo>
                    <a:lnTo>
                      <a:pt x="125" y="1112"/>
                    </a:lnTo>
                    <a:lnTo>
                      <a:pt x="102" y="1060"/>
                    </a:lnTo>
                    <a:lnTo>
                      <a:pt x="89" y="1031"/>
                    </a:lnTo>
                    <a:lnTo>
                      <a:pt x="77" y="1000"/>
                    </a:lnTo>
                    <a:lnTo>
                      <a:pt x="65" y="967"/>
                    </a:lnTo>
                    <a:lnTo>
                      <a:pt x="53" y="934"/>
                    </a:lnTo>
                    <a:lnTo>
                      <a:pt x="43" y="899"/>
                    </a:lnTo>
                    <a:lnTo>
                      <a:pt x="33" y="865"/>
                    </a:lnTo>
                    <a:lnTo>
                      <a:pt x="25" y="830"/>
                    </a:lnTo>
                    <a:lnTo>
                      <a:pt x="19" y="796"/>
                    </a:lnTo>
                    <a:lnTo>
                      <a:pt x="18" y="792"/>
                    </a:lnTo>
                    <a:lnTo>
                      <a:pt x="16" y="780"/>
                    </a:lnTo>
                    <a:lnTo>
                      <a:pt x="12" y="763"/>
                    </a:lnTo>
                    <a:lnTo>
                      <a:pt x="7" y="741"/>
                    </a:lnTo>
                    <a:lnTo>
                      <a:pt x="3" y="718"/>
                    </a:lnTo>
                    <a:lnTo>
                      <a:pt x="1" y="695"/>
                    </a:lnTo>
                    <a:lnTo>
                      <a:pt x="0" y="674"/>
                    </a:lnTo>
                    <a:lnTo>
                      <a:pt x="0" y="658"/>
                    </a:lnTo>
                    <a:lnTo>
                      <a:pt x="3" y="643"/>
                    </a:lnTo>
                    <a:lnTo>
                      <a:pt x="6" y="629"/>
                    </a:lnTo>
                    <a:lnTo>
                      <a:pt x="9" y="613"/>
                    </a:lnTo>
                    <a:lnTo>
                      <a:pt x="12" y="594"/>
                    </a:lnTo>
                    <a:lnTo>
                      <a:pt x="16" y="576"/>
                    </a:lnTo>
                    <a:lnTo>
                      <a:pt x="19" y="554"/>
                    </a:lnTo>
                    <a:lnTo>
                      <a:pt x="24" y="530"/>
                    </a:lnTo>
                    <a:lnTo>
                      <a:pt x="30" y="506"/>
                    </a:lnTo>
                    <a:lnTo>
                      <a:pt x="37" y="475"/>
                    </a:lnTo>
                    <a:lnTo>
                      <a:pt x="45" y="441"/>
                    </a:lnTo>
                    <a:lnTo>
                      <a:pt x="53" y="404"/>
                    </a:lnTo>
                    <a:lnTo>
                      <a:pt x="61" y="367"/>
                    </a:lnTo>
                    <a:lnTo>
                      <a:pt x="69" y="334"/>
                    </a:lnTo>
                    <a:lnTo>
                      <a:pt x="76" y="304"/>
                    </a:lnTo>
                    <a:lnTo>
                      <a:pt x="81" y="282"/>
                    </a:lnTo>
                    <a:lnTo>
                      <a:pt x="85" y="270"/>
                    </a:lnTo>
                    <a:lnTo>
                      <a:pt x="86" y="258"/>
                    </a:lnTo>
                    <a:lnTo>
                      <a:pt x="89" y="245"/>
                    </a:lnTo>
                    <a:lnTo>
                      <a:pt x="96" y="230"/>
                    </a:lnTo>
                    <a:lnTo>
                      <a:pt x="103" y="213"/>
                    </a:lnTo>
                    <a:lnTo>
                      <a:pt x="112" y="195"/>
                    </a:lnTo>
                    <a:lnTo>
                      <a:pt x="123" y="177"/>
                    </a:lnTo>
                    <a:lnTo>
                      <a:pt x="129" y="170"/>
                    </a:lnTo>
                    <a:lnTo>
                      <a:pt x="135" y="163"/>
                    </a:lnTo>
                    <a:lnTo>
                      <a:pt x="142" y="155"/>
                    </a:lnTo>
                    <a:lnTo>
                      <a:pt x="150" y="150"/>
                    </a:lnTo>
                    <a:lnTo>
                      <a:pt x="167" y="137"/>
                    </a:lnTo>
                    <a:lnTo>
                      <a:pt x="189" y="119"/>
                    </a:lnTo>
                    <a:lnTo>
                      <a:pt x="204" y="110"/>
                    </a:lnTo>
                    <a:lnTo>
                      <a:pt x="220" y="100"/>
                    </a:lnTo>
                    <a:lnTo>
                      <a:pt x="238" y="90"/>
                    </a:lnTo>
                    <a:lnTo>
                      <a:pt x="258" y="79"/>
                    </a:lnTo>
                    <a:lnTo>
                      <a:pt x="281" y="68"/>
                    </a:lnTo>
                    <a:lnTo>
                      <a:pt x="307" y="58"/>
                    </a:lnTo>
                    <a:lnTo>
                      <a:pt x="334" y="47"/>
                    </a:lnTo>
                    <a:lnTo>
                      <a:pt x="366" y="37"/>
                    </a:lnTo>
                    <a:lnTo>
                      <a:pt x="399" y="27"/>
                    </a:lnTo>
                    <a:lnTo>
                      <a:pt x="438" y="17"/>
                    </a:lnTo>
                    <a:lnTo>
                      <a:pt x="478" y="9"/>
                    </a:lnTo>
                    <a:lnTo>
                      <a:pt x="521" y="0"/>
                    </a:lnTo>
                  </a:path>
                </a:pathLst>
              </a:custGeom>
              <a:noFill/>
              <a:ln w="3240">
                <a:solidFill>
                  <a:srgbClr val="6967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6664320" y="2795760"/>
                <a:ext cx="52560" cy="703080"/>
              </a:xfrm>
              <a:custGeom>
                <a:avLst/>
                <a:gdLst/>
                <a:ahLst/>
                <a:rect l="l" t="t" r="r" b="b"/>
                <a:pathLst>
                  <a:path w="167" h="2212">
                    <a:moveTo>
                      <a:pt x="47" y="0"/>
                    </a:moveTo>
                    <a:lnTo>
                      <a:pt x="53" y="17"/>
                    </a:lnTo>
                    <a:lnTo>
                      <a:pt x="67" y="64"/>
                    </a:lnTo>
                    <a:lnTo>
                      <a:pt x="77" y="99"/>
                    </a:lnTo>
                    <a:lnTo>
                      <a:pt x="88" y="140"/>
                    </a:lnTo>
                    <a:lnTo>
                      <a:pt x="99" y="188"/>
                    </a:lnTo>
                    <a:lnTo>
                      <a:pt x="112" y="241"/>
                    </a:lnTo>
                    <a:lnTo>
                      <a:pt x="123" y="302"/>
                    </a:lnTo>
                    <a:lnTo>
                      <a:pt x="134" y="368"/>
                    </a:lnTo>
                    <a:lnTo>
                      <a:pt x="144" y="438"/>
                    </a:lnTo>
                    <a:lnTo>
                      <a:pt x="154" y="514"/>
                    </a:lnTo>
                    <a:lnTo>
                      <a:pt x="157" y="554"/>
                    </a:lnTo>
                    <a:lnTo>
                      <a:pt x="160" y="594"/>
                    </a:lnTo>
                    <a:lnTo>
                      <a:pt x="162" y="637"/>
                    </a:lnTo>
                    <a:lnTo>
                      <a:pt x="165" y="680"/>
                    </a:lnTo>
                    <a:lnTo>
                      <a:pt x="166" y="724"/>
                    </a:lnTo>
                    <a:lnTo>
                      <a:pt x="167" y="769"/>
                    </a:lnTo>
                    <a:lnTo>
                      <a:pt x="167" y="815"/>
                    </a:lnTo>
                    <a:lnTo>
                      <a:pt x="166" y="863"/>
                    </a:lnTo>
                    <a:lnTo>
                      <a:pt x="162" y="965"/>
                    </a:lnTo>
                    <a:lnTo>
                      <a:pt x="156" y="1070"/>
                    </a:lnTo>
                    <a:lnTo>
                      <a:pt x="147" y="1177"/>
                    </a:lnTo>
                    <a:lnTo>
                      <a:pt x="138" y="1283"/>
                    </a:lnTo>
                    <a:lnTo>
                      <a:pt x="126" y="1389"/>
                    </a:lnTo>
                    <a:lnTo>
                      <a:pt x="113" y="1492"/>
                    </a:lnTo>
                    <a:lnTo>
                      <a:pt x="99" y="1593"/>
                    </a:lnTo>
                    <a:lnTo>
                      <a:pt x="86" y="1689"/>
                    </a:lnTo>
                    <a:lnTo>
                      <a:pt x="72" y="1780"/>
                    </a:lnTo>
                    <a:lnTo>
                      <a:pt x="59" y="1865"/>
                    </a:lnTo>
                    <a:lnTo>
                      <a:pt x="45" y="1942"/>
                    </a:lnTo>
                    <a:lnTo>
                      <a:pt x="33" y="2013"/>
                    </a:lnTo>
                    <a:lnTo>
                      <a:pt x="13" y="2121"/>
                    </a:lnTo>
                    <a:lnTo>
                      <a:pt x="0" y="2185"/>
                    </a:lnTo>
                    <a:lnTo>
                      <a:pt x="0" y="2185"/>
                    </a:lnTo>
                    <a:lnTo>
                      <a:pt x="0" y="2187"/>
                    </a:lnTo>
                    <a:lnTo>
                      <a:pt x="0" y="2190"/>
                    </a:lnTo>
                    <a:lnTo>
                      <a:pt x="0" y="2192"/>
                    </a:lnTo>
                    <a:lnTo>
                      <a:pt x="0" y="2196"/>
                    </a:lnTo>
                    <a:lnTo>
                      <a:pt x="0" y="2201"/>
                    </a:lnTo>
                    <a:lnTo>
                      <a:pt x="0" y="2206"/>
                    </a:lnTo>
                    <a:lnTo>
                      <a:pt x="0" y="2212"/>
                    </a:lnTo>
                  </a:path>
                </a:pathLst>
              </a:custGeom>
              <a:noFill/>
              <a:ln w="3240">
                <a:solidFill>
                  <a:srgbClr val="37333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6662880" y="2779920"/>
                <a:ext cx="195120" cy="755640"/>
              </a:xfrm>
              <a:custGeom>
                <a:avLst/>
                <a:gdLst/>
                <a:ahLst/>
                <a:rect l="l" t="t" r="r" b="b"/>
                <a:pathLst>
                  <a:path w="613" h="2378">
                    <a:moveTo>
                      <a:pt x="1" y="2263"/>
                    </a:moveTo>
                    <a:lnTo>
                      <a:pt x="1" y="2285"/>
                    </a:lnTo>
                    <a:lnTo>
                      <a:pt x="0" y="2311"/>
                    </a:lnTo>
                    <a:lnTo>
                      <a:pt x="0" y="2335"/>
                    </a:lnTo>
                    <a:lnTo>
                      <a:pt x="1" y="2356"/>
                    </a:lnTo>
                    <a:lnTo>
                      <a:pt x="2" y="2365"/>
                    </a:lnTo>
                    <a:lnTo>
                      <a:pt x="3" y="2372"/>
                    </a:lnTo>
                    <a:lnTo>
                      <a:pt x="6" y="2376"/>
                    </a:lnTo>
                    <a:lnTo>
                      <a:pt x="8" y="2378"/>
                    </a:lnTo>
                    <a:lnTo>
                      <a:pt x="11" y="2377"/>
                    </a:lnTo>
                    <a:lnTo>
                      <a:pt x="14" y="2372"/>
                    </a:lnTo>
                    <a:lnTo>
                      <a:pt x="18" y="2365"/>
                    </a:lnTo>
                    <a:lnTo>
                      <a:pt x="23" y="2353"/>
                    </a:lnTo>
                    <a:lnTo>
                      <a:pt x="39" y="2305"/>
                    </a:lnTo>
                    <a:lnTo>
                      <a:pt x="62" y="2237"/>
                    </a:lnTo>
                    <a:lnTo>
                      <a:pt x="91" y="2155"/>
                    </a:lnTo>
                    <a:lnTo>
                      <a:pt x="125" y="2062"/>
                    </a:lnTo>
                    <a:lnTo>
                      <a:pt x="163" y="1964"/>
                    </a:lnTo>
                    <a:lnTo>
                      <a:pt x="204" y="1864"/>
                    </a:lnTo>
                    <a:lnTo>
                      <a:pt x="226" y="1815"/>
                    </a:lnTo>
                    <a:lnTo>
                      <a:pt x="248" y="1768"/>
                    </a:lnTo>
                    <a:lnTo>
                      <a:pt x="270" y="1722"/>
                    </a:lnTo>
                    <a:lnTo>
                      <a:pt x="292" y="1679"/>
                    </a:lnTo>
                    <a:lnTo>
                      <a:pt x="337" y="1594"/>
                    </a:lnTo>
                    <a:lnTo>
                      <a:pt x="383" y="1508"/>
                    </a:lnTo>
                    <a:lnTo>
                      <a:pt x="430" y="1420"/>
                    </a:lnTo>
                    <a:lnTo>
                      <a:pt x="473" y="1332"/>
                    </a:lnTo>
                    <a:lnTo>
                      <a:pt x="494" y="1287"/>
                    </a:lnTo>
                    <a:lnTo>
                      <a:pt x="514" y="1243"/>
                    </a:lnTo>
                    <a:lnTo>
                      <a:pt x="532" y="1199"/>
                    </a:lnTo>
                    <a:lnTo>
                      <a:pt x="549" y="1155"/>
                    </a:lnTo>
                    <a:lnTo>
                      <a:pt x="564" y="1112"/>
                    </a:lnTo>
                    <a:lnTo>
                      <a:pt x="577" y="1068"/>
                    </a:lnTo>
                    <a:lnTo>
                      <a:pt x="588" y="1025"/>
                    </a:lnTo>
                    <a:lnTo>
                      <a:pt x="596" y="984"/>
                    </a:lnTo>
                    <a:lnTo>
                      <a:pt x="602" y="941"/>
                    </a:lnTo>
                    <a:lnTo>
                      <a:pt x="607" y="896"/>
                    </a:lnTo>
                    <a:lnTo>
                      <a:pt x="611" y="851"/>
                    </a:lnTo>
                    <a:lnTo>
                      <a:pt x="612" y="805"/>
                    </a:lnTo>
                    <a:lnTo>
                      <a:pt x="613" y="759"/>
                    </a:lnTo>
                    <a:lnTo>
                      <a:pt x="612" y="714"/>
                    </a:lnTo>
                    <a:lnTo>
                      <a:pt x="611" y="670"/>
                    </a:lnTo>
                    <a:lnTo>
                      <a:pt x="609" y="628"/>
                    </a:lnTo>
                    <a:lnTo>
                      <a:pt x="604" y="553"/>
                    </a:lnTo>
                    <a:lnTo>
                      <a:pt x="597" y="494"/>
                    </a:lnTo>
                    <a:lnTo>
                      <a:pt x="593" y="455"/>
                    </a:lnTo>
                    <a:lnTo>
                      <a:pt x="591" y="440"/>
                    </a:lnTo>
                    <a:lnTo>
                      <a:pt x="585" y="425"/>
                    </a:lnTo>
                    <a:lnTo>
                      <a:pt x="569" y="385"/>
                    </a:lnTo>
                    <a:lnTo>
                      <a:pt x="545" y="326"/>
                    </a:lnTo>
                    <a:lnTo>
                      <a:pt x="515" y="255"/>
                    </a:lnTo>
                    <a:lnTo>
                      <a:pt x="483" y="180"/>
                    </a:lnTo>
                    <a:lnTo>
                      <a:pt x="449" y="108"/>
                    </a:lnTo>
                    <a:lnTo>
                      <a:pt x="433" y="75"/>
                    </a:lnTo>
                    <a:lnTo>
                      <a:pt x="417" y="45"/>
                    </a:lnTo>
                    <a:lnTo>
                      <a:pt x="401" y="21"/>
                    </a:lnTo>
                    <a:lnTo>
                      <a:pt x="387" y="0"/>
                    </a:lnTo>
                  </a:path>
                </a:pathLst>
              </a:custGeom>
              <a:noFill/>
              <a:ln w="3240">
                <a:solidFill>
                  <a:srgbClr val="6967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6961320" y="2773440"/>
                <a:ext cx="436320" cy="246240"/>
              </a:xfrm>
              <a:custGeom>
                <a:avLst/>
                <a:gdLst/>
                <a:ahLst/>
                <a:rect l="l" t="t" r="r" b="b"/>
                <a:pathLst>
                  <a:path w="1377" h="774">
                    <a:moveTo>
                      <a:pt x="453" y="187"/>
                    </a:moveTo>
                    <a:lnTo>
                      <a:pt x="465" y="191"/>
                    </a:lnTo>
                    <a:lnTo>
                      <a:pt x="480" y="195"/>
                    </a:lnTo>
                    <a:lnTo>
                      <a:pt x="493" y="197"/>
                    </a:lnTo>
                    <a:lnTo>
                      <a:pt x="508" y="201"/>
                    </a:lnTo>
                    <a:lnTo>
                      <a:pt x="524" y="203"/>
                    </a:lnTo>
                    <a:lnTo>
                      <a:pt x="539" y="206"/>
                    </a:lnTo>
                    <a:lnTo>
                      <a:pt x="554" y="208"/>
                    </a:lnTo>
                    <a:lnTo>
                      <a:pt x="567" y="209"/>
                    </a:lnTo>
                    <a:lnTo>
                      <a:pt x="586" y="210"/>
                    </a:lnTo>
                    <a:lnTo>
                      <a:pt x="605" y="210"/>
                    </a:lnTo>
                    <a:lnTo>
                      <a:pt x="624" y="210"/>
                    </a:lnTo>
                    <a:lnTo>
                      <a:pt x="642" y="209"/>
                    </a:lnTo>
                    <a:lnTo>
                      <a:pt x="661" y="207"/>
                    </a:lnTo>
                    <a:lnTo>
                      <a:pt x="679" y="204"/>
                    </a:lnTo>
                    <a:lnTo>
                      <a:pt x="696" y="199"/>
                    </a:lnTo>
                    <a:lnTo>
                      <a:pt x="715" y="195"/>
                    </a:lnTo>
                    <a:lnTo>
                      <a:pt x="732" y="188"/>
                    </a:lnTo>
                    <a:lnTo>
                      <a:pt x="750" y="181"/>
                    </a:lnTo>
                    <a:lnTo>
                      <a:pt x="768" y="171"/>
                    </a:lnTo>
                    <a:lnTo>
                      <a:pt x="785" y="161"/>
                    </a:lnTo>
                    <a:lnTo>
                      <a:pt x="802" y="150"/>
                    </a:lnTo>
                    <a:lnTo>
                      <a:pt x="821" y="137"/>
                    </a:lnTo>
                    <a:lnTo>
                      <a:pt x="838" y="122"/>
                    </a:lnTo>
                    <a:lnTo>
                      <a:pt x="855" y="106"/>
                    </a:lnTo>
                    <a:lnTo>
                      <a:pt x="864" y="97"/>
                    </a:lnTo>
                    <a:lnTo>
                      <a:pt x="875" y="90"/>
                    </a:lnTo>
                    <a:lnTo>
                      <a:pt x="887" y="84"/>
                    </a:lnTo>
                    <a:lnTo>
                      <a:pt x="899" y="78"/>
                    </a:lnTo>
                    <a:lnTo>
                      <a:pt x="914" y="73"/>
                    </a:lnTo>
                    <a:lnTo>
                      <a:pt x="929" y="69"/>
                    </a:lnTo>
                    <a:lnTo>
                      <a:pt x="945" y="65"/>
                    </a:lnTo>
                    <a:lnTo>
                      <a:pt x="962" y="63"/>
                    </a:lnTo>
                    <a:lnTo>
                      <a:pt x="979" y="60"/>
                    </a:lnTo>
                    <a:lnTo>
                      <a:pt x="998" y="59"/>
                    </a:lnTo>
                    <a:lnTo>
                      <a:pt x="1016" y="58"/>
                    </a:lnTo>
                    <a:lnTo>
                      <a:pt x="1035" y="58"/>
                    </a:lnTo>
                    <a:lnTo>
                      <a:pt x="1074" y="58"/>
                    </a:lnTo>
                    <a:lnTo>
                      <a:pt x="1113" y="62"/>
                    </a:lnTo>
                    <a:lnTo>
                      <a:pt x="1152" y="67"/>
                    </a:lnTo>
                    <a:lnTo>
                      <a:pt x="1188" y="73"/>
                    </a:lnTo>
                    <a:lnTo>
                      <a:pt x="1224" y="80"/>
                    </a:lnTo>
                    <a:lnTo>
                      <a:pt x="1257" y="89"/>
                    </a:lnTo>
                    <a:lnTo>
                      <a:pt x="1287" y="99"/>
                    </a:lnTo>
                    <a:lnTo>
                      <a:pt x="1311" y="108"/>
                    </a:lnTo>
                    <a:lnTo>
                      <a:pt x="1323" y="115"/>
                    </a:lnTo>
                    <a:lnTo>
                      <a:pt x="1332" y="119"/>
                    </a:lnTo>
                    <a:lnTo>
                      <a:pt x="1340" y="126"/>
                    </a:lnTo>
                    <a:lnTo>
                      <a:pt x="1346" y="131"/>
                    </a:lnTo>
                    <a:lnTo>
                      <a:pt x="1357" y="142"/>
                    </a:lnTo>
                    <a:lnTo>
                      <a:pt x="1364" y="153"/>
                    </a:lnTo>
                    <a:lnTo>
                      <a:pt x="1371" y="164"/>
                    </a:lnTo>
                    <a:lnTo>
                      <a:pt x="1375" y="175"/>
                    </a:lnTo>
                    <a:lnTo>
                      <a:pt x="1377" y="186"/>
                    </a:lnTo>
                    <a:lnTo>
                      <a:pt x="1377" y="197"/>
                    </a:lnTo>
                    <a:lnTo>
                      <a:pt x="1374" y="208"/>
                    </a:lnTo>
                    <a:lnTo>
                      <a:pt x="1371" y="219"/>
                    </a:lnTo>
                    <a:lnTo>
                      <a:pt x="1364" y="229"/>
                    </a:lnTo>
                    <a:lnTo>
                      <a:pt x="1356" y="239"/>
                    </a:lnTo>
                    <a:lnTo>
                      <a:pt x="1345" y="250"/>
                    </a:lnTo>
                    <a:lnTo>
                      <a:pt x="1332" y="260"/>
                    </a:lnTo>
                    <a:lnTo>
                      <a:pt x="1318" y="270"/>
                    </a:lnTo>
                    <a:lnTo>
                      <a:pt x="1300" y="278"/>
                    </a:lnTo>
                    <a:lnTo>
                      <a:pt x="1281" y="288"/>
                    </a:lnTo>
                    <a:lnTo>
                      <a:pt x="1260" y="297"/>
                    </a:lnTo>
                    <a:lnTo>
                      <a:pt x="1238" y="304"/>
                    </a:lnTo>
                    <a:lnTo>
                      <a:pt x="1216" y="310"/>
                    </a:lnTo>
                    <a:lnTo>
                      <a:pt x="1192" y="316"/>
                    </a:lnTo>
                    <a:lnTo>
                      <a:pt x="1170" y="321"/>
                    </a:lnTo>
                    <a:lnTo>
                      <a:pt x="1124" y="330"/>
                    </a:lnTo>
                    <a:lnTo>
                      <a:pt x="1079" y="336"/>
                    </a:lnTo>
                    <a:lnTo>
                      <a:pt x="1035" y="340"/>
                    </a:lnTo>
                    <a:lnTo>
                      <a:pt x="992" y="342"/>
                    </a:lnTo>
                    <a:lnTo>
                      <a:pt x="951" y="345"/>
                    </a:lnTo>
                    <a:lnTo>
                      <a:pt x="912" y="348"/>
                    </a:lnTo>
                    <a:lnTo>
                      <a:pt x="902" y="349"/>
                    </a:lnTo>
                    <a:lnTo>
                      <a:pt x="891" y="352"/>
                    </a:lnTo>
                    <a:lnTo>
                      <a:pt x="878" y="356"/>
                    </a:lnTo>
                    <a:lnTo>
                      <a:pt x="865" y="361"/>
                    </a:lnTo>
                    <a:lnTo>
                      <a:pt x="834" y="373"/>
                    </a:lnTo>
                    <a:lnTo>
                      <a:pt x="801" y="389"/>
                    </a:lnTo>
                    <a:lnTo>
                      <a:pt x="765" y="409"/>
                    </a:lnTo>
                    <a:lnTo>
                      <a:pt x="728" y="429"/>
                    </a:lnTo>
                    <a:lnTo>
                      <a:pt x="690" y="452"/>
                    </a:lnTo>
                    <a:lnTo>
                      <a:pt x="652" y="475"/>
                    </a:lnTo>
                    <a:lnTo>
                      <a:pt x="582" y="520"/>
                    </a:lnTo>
                    <a:lnTo>
                      <a:pt x="522" y="560"/>
                    </a:lnTo>
                    <a:lnTo>
                      <a:pt x="481" y="587"/>
                    </a:lnTo>
                    <a:lnTo>
                      <a:pt x="466" y="598"/>
                    </a:lnTo>
                    <a:lnTo>
                      <a:pt x="461" y="595"/>
                    </a:lnTo>
                    <a:lnTo>
                      <a:pt x="448" y="604"/>
                    </a:lnTo>
                    <a:lnTo>
                      <a:pt x="433" y="614"/>
                    </a:lnTo>
                    <a:lnTo>
                      <a:pt x="418" y="624"/>
                    </a:lnTo>
                    <a:lnTo>
                      <a:pt x="402" y="632"/>
                    </a:lnTo>
                    <a:lnTo>
                      <a:pt x="368" y="650"/>
                    </a:lnTo>
                    <a:lnTo>
                      <a:pt x="332" y="667"/>
                    </a:lnTo>
                    <a:lnTo>
                      <a:pt x="295" y="683"/>
                    </a:lnTo>
                    <a:lnTo>
                      <a:pt x="257" y="698"/>
                    </a:lnTo>
                    <a:lnTo>
                      <a:pt x="220" y="711"/>
                    </a:lnTo>
                    <a:lnTo>
                      <a:pt x="183" y="723"/>
                    </a:lnTo>
                    <a:lnTo>
                      <a:pt x="114" y="744"/>
                    </a:lnTo>
                    <a:lnTo>
                      <a:pt x="59" y="760"/>
                    </a:lnTo>
                    <a:lnTo>
                      <a:pt x="21" y="771"/>
                    </a:lnTo>
                    <a:lnTo>
                      <a:pt x="7" y="774"/>
                    </a:lnTo>
                    <a:lnTo>
                      <a:pt x="2" y="770"/>
                    </a:lnTo>
                    <a:lnTo>
                      <a:pt x="0" y="762"/>
                    </a:lnTo>
                    <a:lnTo>
                      <a:pt x="0" y="749"/>
                    </a:lnTo>
                    <a:lnTo>
                      <a:pt x="2" y="733"/>
                    </a:lnTo>
                    <a:lnTo>
                      <a:pt x="7" y="715"/>
                    </a:lnTo>
                    <a:lnTo>
                      <a:pt x="14" y="693"/>
                    </a:lnTo>
                    <a:lnTo>
                      <a:pt x="21" y="668"/>
                    </a:lnTo>
                    <a:lnTo>
                      <a:pt x="31" y="642"/>
                    </a:lnTo>
                    <a:lnTo>
                      <a:pt x="54" y="583"/>
                    </a:lnTo>
                    <a:lnTo>
                      <a:pt x="82" y="518"/>
                    </a:lnTo>
                    <a:lnTo>
                      <a:pt x="113" y="448"/>
                    </a:lnTo>
                    <a:lnTo>
                      <a:pt x="146" y="377"/>
                    </a:lnTo>
                    <a:lnTo>
                      <a:pt x="214" y="238"/>
                    </a:lnTo>
                    <a:lnTo>
                      <a:pt x="276" y="117"/>
                    </a:lnTo>
                    <a:lnTo>
                      <a:pt x="319" y="32"/>
                    </a:lnTo>
                    <a:lnTo>
                      <a:pt x="336" y="0"/>
                    </a:lnTo>
                    <a:lnTo>
                      <a:pt x="338" y="4"/>
                    </a:lnTo>
                    <a:lnTo>
                      <a:pt x="346" y="15"/>
                    </a:lnTo>
                    <a:lnTo>
                      <a:pt x="356" y="32"/>
                    </a:lnTo>
                    <a:lnTo>
                      <a:pt x="369" y="54"/>
                    </a:lnTo>
                    <a:lnTo>
                      <a:pt x="385" y="81"/>
                    </a:lnTo>
                    <a:lnTo>
                      <a:pt x="404" y="112"/>
                    </a:lnTo>
                    <a:lnTo>
                      <a:pt x="422" y="147"/>
                    </a:lnTo>
                    <a:lnTo>
                      <a:pt x="442" y="182"/>
                    </a:lnTo>
                    <a:lnTo>
                      <a:pt x="444" y="185"/>
                    </a:lnTo>
                    <a:lnTo>
                      <a:pt x="453" y="187"/>
                    </a:lnTo>
                  </a:path>
                </a:pathLst>
              </a:custGeom>
              <a:noFill/>
              <a:ln w="3240">
                <a:solidFill>
                  <a:srgbClr val="392c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5456160" y="2516400"/>
                <a:ext cx="1998720" cy="1193760"/>
              </a:xfrm>
              <a:custGeom>
                <a:avLst/>
                <a:gdLst/>
                <a:ahLst/>
                <a:rect l="l" t="t" r="r" b="b"/>
                <a:pathLst>
                  <a:path w="6296" h="3757">
                    <a:moveTo>
                      <a:pt x="1" y="3379"/>
                    </a:moveTo>
                    <a:lnTo>
                      <a:pt x="0" y="3371"/>
                    </a:lnTo>
                    <a:lnTo>
                      <a:pt x="0" y="3350"/>
                    </a:lnTo>
                    <a:lnTo>
                      <a:pt x="0" y="3320"/>
                    </a:lnTo>
                    <a:lnTo>
                      <a:pt x="2" y="3280"/>
                    </a:lnTo>
                    <a:lnTo>
                      <a:pt x="5" y="3258"/>
                    </a:lnTo>
                    <a:lnTo>
                      <a:pt x="7" y="3236"/>
                    </a:lnTo>
                    <a:lnTo>
                      <a:pt x="11" y="3213"/>
                    </a:lnTo>
                    <a:lnTo>
                      <a:pt x="17" y="3189"/>
                    </a:lnTo>
                    <a:lnTo>
                      <a:pt x="23" y="3167"/>
                    </a:lnTo>
                    <a:lnTo>
                      <a:pt x="32" y="3144"/>
                    </a:lnTo>
                    <a:lnTo>
                      <a:pt x="40" y="3123"/>
                    </a:lnTo>
                    <a:lnTo>
                      <a:pt x="53" y="3102"/>
                    </a:lnTo>
                    <a:lnTo>
                      <a:pt x="64" y="3082"/>
                    </a:lnTo>
                    <a:lnTo>
                      <a:pt x="72" y="3063"/>
                    </a:lnTo>
                    <a:lnTo>
                      <a:pt x="79" y="3043"/>
                    </a:lnTo>
                    <a:lnTo>
                      <a:pt x="83" y="3024"/>
                    </a:lnTo>
                    <a:lnTo>
                      <a:pt x="91" y="2985"/>
                    </a:lnTo>
                    <a:lnTo>
                      <a:pt x="98" y="2944"/>
                    </a:lnTo>
                    <a:lnTo>
                      <a:pt x="102" y="2924"/>
                    </a:lnTo>
                    <a:lnTo>
                      <a:pt x="107" y="2903"/>
                    </a:lnTo>
                    <a:lnTo>
                      <a:pt x="114" y="2880"/>
                    </a:lnTo>
                    <a:lnTo>
                      <a:pt x="123" y="2857"/>
                    </a:lnTo>
                    <a:lnTo>
                      <a:pt x="133" y="2833"/>
                    </a:lnTo>
                    <a:lnTo>
                      <a:pt x="146" y="2807"/>
                    </a:lnTo>
                    <a:lnTo>
                      <a:pt x="162" y="2780"/>
                    </a:lnTo>
                    <a:lnTo>
                      <a:pt x="183" y="2751"/>
                    </a:lnTo>
                    <a:lnTo>
                      <a:pt x="194" y="2737"/>
                    </a:lnTo>
                    <a:lnTo>
                      <a:pt x="206" y="2722"/>
                    </a:lnTo>
                    <a:lnTo>
                      <a:pt x="220" y="2707"/>
                    </a:lnTo>
                    <a:lnTo>
                      <a:pt x="234" y="2694"/>
                    </a:lnTo>
                    <a:lnTo>
                      <a:pt x="248" y="2679"/>
                    </a:lnTo>
                    <a:lnTo>
                      <a:pt x="264" y="2664"/>
                    </a:lnTo>
                    <a:lnTo>
                      <a:pt x="281" y="2650"/>
                    </a:lnTo>
                    <a:lnTo>
                      <a:pt x="299" y="2637"/>
                    </a:lnTo>
                    <a:lnTo>
                      <a:pt x="318" y="2623"/>
                    </a:lnTo>
                    <a:lnTo>
                      <a:pt x="338" y="2610"/>
                    </a:lnTo>
                    <a:lnTo>
                      <a:pt x="359" y="2596"/>
                    </a:lnTo>
                    <a:lnTo>
                      <a:pt x="380" y="2583"/>
                    </a:lnTo>
                    <a:lnTo>
                      <a:pt x="403" y="2571"/>
                    </a:lnTo>
                    <a:lnTo>
                      <a:pt x="428" y="2558"/>
                    </a:lnTo>
                    <a:lnTo>
                      <a:pt x="453" y="2545"/>
                    </a:lnTo>
                    <a:lnTo>
                      <a:pt x="480" y="2534"/>
                    </a:lnTo>
                    <a:lnTo>
                      <a:pt x="507" y="2521"/>
                    </a:lnTo>
                    <a:lnTo>
                      <a:pt x="536" y="2509"/>
                    </a:lnTo>
                    <a:lnTo>
                      <a:pt x="567" y="2498"/>
                    </a:lnTo>
                    <a:lnTo>
                      <a:pt x="598" y="2487"/>
                    </a:lnTo>
                    <a:lnTo>
                      <a:pt x="631" y="2477"/>
                    </a:lnTo>
                    <a:lnTo>
                      <a:pt x="665" y="2466"/>
                    </a:lnTo>
                    <a:lnTo>
                      <a:pt x="701" y="2456"/>
                    </a:lnTo>
                    <a:lnTo>
                      <a:pt x="738" y="2446"/>
                    </a:lnTo>
                    <a:lnTo>
                      <a:pt x="777" y="2436"/>
                    </a:lnTo>
                    <a:lnTo>
                      <a:pt x="817" y="2428"/>
                    </a:lnTo>
                    <a:lnTo>
                      <a:pt x="858" y="2419"/>
                    </a:lnTo>
                    <a:lnTo>
                      <a:pt x="902" y="2411"/>
                    </a:lnTo>
                    <a:lnTo>
                      <a:pt x="946" y="2403"/>
                    </a:lnTo>
                    <a:lnTo>
                      <a:pt x="993" y="2396"/>
                    </a:lnTo>
                    <a:lnTo>
                      <a:pt x="1041" y="2388"/>
                    </a:lnTo>
                    <a:lnTo>
                      <a:pt x="1090" y="2382"/>
                    </a:lnTo>
                    <a:lnTo>
                      <a:pt x="1191" y="2370"/>
                    </a:lnTo>
                    <a:lnTo>
                      <a:pt x="1289" y="2357"/>
                    </a:lnTo>
                    <a:lnTo>
                      <a:pt x="1388" y="2343"/>
                    </a:lnTo>
                    <a:lnTo>
                      <a:pt x="1483" y="2329"/>
                    </a:lnTo>
                    <a:lnTo>
                      <a:pt x="1579" y="2315"/>
                    </a:lnTo>
                    <a:lnTo>
                      <a:pt x="1674" y="2300"/>
                    </a:lnTo>
                    <a:lnTo>
                      <a:pt x="1769" y="2283"/>
                    </a:lnTo>
                    <a:lnTo>
                      <a:pt x="1861" y="2265"/>
                    </a:lnTo>
                    <a:lnTo>
                      <a:pt x="1955" y="2247"/>
                    </a:lnTo>
                    <a:lnTo>
                      <a:pt x="2046" y="2227"/>
                    </a:lnTo>
                    <a:lnTo>
                      <a:pt x="2137" y="2208"/>
                    </a:lnTo>
                    <a:lnTo>
                      <a:pt x="2227" y="2184"/>
                    </a:lnTo>
                    <a:lnTo>
                      <a:pt x="2318" y="2161"/>
                    </a:lnTo>
                    <a:lnTo>
                      <a:pt x="2406" y="2136"/>
                    </a:lnTo>
                    <a:lnTo>
                      <a:pt x="2496" y="2109"/>
                    </a:lnTo>
                    <a:lnTo>
                      <a:pt x="2585" y="2081"/>
                    </a:lnTo>
                    <a:lnTo>
                      <a:pt x="2682" y="2047"/>
                    </a:lnTo>
                    <a:lnTo>
                      <a:pt x="2795" y="2005"/>
                    </a:lnTo>
                    <a:lnTo>
                      <a:pt x="2920" y="1956"/>
                    </a:lnTo>
                    <a:lnTo>
                      <a:pt x="3056" y="1900"/>
                    </a:lnTo>
                    <a:lnTo>
                      <a:pt x="3198" y="1841"/>
                    </a:lnTo>
                    <a:lnTo>
                      <a:pt x="3345" y="1780"/>
                    </a:lnTo>
                    <a:lnTo>
                      <a:pt x="3492" y="1717"/>
                    </a:lnTo>
                    <a:lnTo>
                      <a:pt x="3638" y="1653"/>
                    </a:lnTo>
                    <a:lnTo>
                      <a:pt x="3778" y="1591"/>
                    </a:lnTo>
                    <a:lnTo>
                      <a:pt x="3911" y="1531"/>
                    </a:lnTo>
                    <a:lnTo>
                      <a:pt x="4031" y="1475"/>
                    </a:lnTo>
                    <a:lnTo>
                      <a:pt x="4140" y="1423"/>
                    </a:lnTo>
                    <a:lnTo>
                      <a:pt x="4231" y="1379"/>
                    </a:lnTo>
                    <a:lnTo>
                      <a:pt x="4302" y="1342"/>
                    </a:lnTo>
                    <a:lnTo>
                      <a:pt x="4330" y="1326"/>
                    </a:lnTo>
                    <a:lnTo>
                      <a:pt x="4351" y="1313"/>
                    </a:lnTo>
                    <a:lnTo>
                      <a:pt x="4366" y="1302"/>
                    </a:lnTo>
                    <a:lnTo>
                      <a:pt x="4375" y="1295"/>
                    </a:lnTo>
                    <a:lnTo>
                      <a:pt x="4382" y="1275"/>
                    </a:lnTo>
                    <a:lnTo>
                      <a:pt x="4399" y="1221"/>
                    </a:lnTo>
                    <a:lnTo>
                      <a:pt x="4426" y="1142"/>
                    </a:lnTo>
                    <a:lnTo>
                      <a:pt x="4459" y="1047"/>
                    </a:lnTo>
                    <a:lnTo>
                      <a:pt x="4496" y="943"/>
                    </a:lnTo>
                    <a:lnTo>
                      <a:pt x="4535" y="841"/>
                    </a:lnTo>
                    <a:lnTo>
                      <a:pt x="4553" y="794"/>
                    </a:lnTo>
                    <a:lnTo>
                      <a:pt x="4570" y="750"/>
                    </a:lnTo>
                    <a:lnTo>
                      <a:pt x="4587" y="712"/>
                    </a:lnTo>
                    <a:lnTo>
                      <a:pt x="4603" y="679"/>
                    </a:lnTo>
                    <a:lnTo>
                      <a:pt x="4634" y="617"/>
                    </a:lnTo>
                    <a:lnTo>
                      <a:pt x="4666" y="552"/>
                    </a:lnTo>
                    <a:lnTo>
                      <a:pt x="4699" y="487"/>
                    </a:lnTo>
                    <a:lnTo>
                      <a:pt x="4733" y="422"/>
                    </a:lnTo>
                    <a:lnTo>
                      <a:pt x="4766" y="360"/>
                    </a:lnTo>
                    <a:lnTo>
                      <a:pt x="4799" y="305"/>
                    </a:lnTo>
                    <a:lnTo>
                      <a:pt x="4814" y="280"/>
                    </a:lnTo>
                    <a:lnTo>
                      <a:pt x="4830" y="257"/>
                    </a:lnTo>
                    <a:lnTo>
                      <a:pt x="4845" y="237"/>
                    </a:lnTo>
                    <a:lnTo>
                      <a:pt x="4858" y="220"/>
                    </a:lnTo>
                    <a:lnTo>
                      <a:pt x="4859" y="216"/>
                    </a:lnTo>
                    <a:lnTo>
                      <a:pt x="4861" y="211"/>
                    </a:lnTo>
                    <a:lnTo>
                      <a:pt x="4863" y="205"/>
                    </a:lnTo>
                    <a:lnTo>
                      <a:pt x="4869" y="195"/>
                    </a:lnTo>
                    <a:lnTo>
                      <a:pt x="4879" y="184"/>
                    </a:lnTo>
                    <a:lnTo>
                      <a:pt x="4895" y="170"/>
                    </a:lnTo>
                    <a:lnTo>
                      <a:pt x="4918" y="152"/>
                    </a:lnTo>
                    <a:lnTo>
                      <a:pt x="4950" y="133"/>
                    </a:lnTo>
                    <a:lnTo>
                      <a:pt x="4960" y="128"/>
                    </a:lnTo>
                    <a:lnTo>
                      <a:pt x="4970" y="124"/>
                    </a:lnTo>
                    <a:lnTo>
                      <a:pt x="4980" y="120"/>
                    </a:lnTo>
                    <a:lnTo>
                      <a:pt x="4990" y="118"/>
                    </a:lnTo>
                    <a:lnTo>
                      <a:pt x="5009" y="114"/>
                    </a:lnTo>
                    <a:lnTo>
                      <a:pt x="5029" y="112"/>
                    </a:lnTo>
                    <a:lnTo>
                      <a:pt x="5049" y="109"/>
                    </a:lnTo>
                    <a:lnTo>
                      <a:pt x="5067" y="108"/>
                    </a:lnTo>
                    <a:lnTo>
                      <a:pt x="5084" y="106"/>
                    </a:lnTo>
                    <a:lnTo>
                      <a:pt x="5100" y="101"/>
                    </a:lnTo>
                    <a:lnTo>
                      <a:pt x="5118" y="95"/>
                    </a:lnTo>
                    <a:lnTo>
                      <a:pt x="5135" y="88"/>
                    </a:lnTo>
                    <a:lnTo>
                      <a:pt x="5152" y="83"/>
                    </a:lnTo>
                    <a:lnTo>
                      <a:pt x="5169" y="79"/>
                    </a:lnTo>
                    <a:lnTo>
                      <a:pt x="5187" y="74"/>
                    </a:lnTo>
                    <a:lnTo>
                      <a:pt x="5203" y="70"/>
                    </a:lnTo>
                    <a:lnTo>
                      <a:pt x="5219" y="65"/>
                    </a:lnTo>
                    <a:lnTo>
                      <a:pt x="5233" y="63"/>
                    </a:lnTo>
                    <a:lnTo>
                      <a:pt x="5276" y="51"/>
                    </a:lnTo>
                    <a:lnTo>
                      <a:pt x="5321" y="39"/>
                    </a:lnTo>
                    <a:lnTo>
                      <a:pt x="5366" y="28"/>
                    </a:lnTo>
                    <a:lnTo>
                      <a:pt x="5413" y="17"/>
                    </a:lnTo>
                    <a:lnTo>
                      <a:pt x="5436" y="12"/>
                    </a:lnTo>
                    <a:lnTo>
                      <a:pt x="5460" y="8"/>
                    </a:lnTo>
                    <a:lnTo>
                      <a:pt x="5484" y="5"/>
                    </a:lnTo>
                    <a:lnTo>
                      <a:pt x="5510" y="2"/>
                    </a:lnTo>
                    <a:lnTo>
                      <a:pt x="5535" y="1"/>
                    </a:lnTo>
                    <a:lnTo>
                      <a:pt x="5561" y="0"/>
                    </a:lnTo>
                    <a:lnTo>
                      <a:pt x="5586" y="1"/>
                    </a:lnTo>
                    <a:lnTo>
                      <a:pt x="5613" y="2"/>
                    </a:lnTo>
                    <a:lnTo>
                      <a:pt x="5668" y="7"/>
                    </a:lnTo>
                    <a:lnTo>
                      <a:pt x="5721" y="12"/>
                    </a:lnTo>
                    <a:lnTo>
                      <a:pt x="5771" y="16"/>
                    </a:lnTo>
                    <a:lnTo>
                      <a:pt x="5820" y="20"/>
                    </a:lnTo>
                    <a:lnTo>
                      <a:pt x="5867" y="23"/>
                    </a:lnTo>
                    <a:lnTo>
                      <a:pt x="5911" y="24"/>
                    </a:lnTo>
                    <a:lnTo>
                      <a:pt x="5952" y="27"/>
                    </a:lnTo>
                    <a:lnTo>
                      <a:pt x="5989" y="27"/>
                    </a:lnTo>
                    <a:lnTo>
                      <a:pt x="5996" y="29"/>
                    </a:lnTo>
                    <a:lnTo>
                      <a:pt x="6015" y="34"/>
                    </a:lnTo>
                    <a:lnTo>
                      <a:pt x="6043" y="42"/>
                    </a:lnTo>
                    <a:lnTo>
                      <a:pt x="6076" y="50"/>
                    </a:lnTo>
                    <a:lnTo>
                      <a:pt x="6112" y="59"/>
                    </a:lnTo>
                    <a:lnTo>
                      <a:pt x="6146" y="66"/>
                    </a:lnTo>
                    <a:lnTo>
                      <a:pt x="6176" y="71"/>
                    </a:lnTo>
                    <a:lnTo>
                      <a:pt x="6198" y="74"/>
                    </a:lnTo>
                    <a:lnTo>
                      <a:pt x="6202" y="74"/>
                    </a:lnTo>
                    <a:lnTo>
                      <a:pt x="6205" y="74"/>
                    </a:lnTo>
                    <a:lnTo>
                      <a:pt x="6209" y="76"/>
                    </a:lnTo>
                    <a:lnTo>
                      <a:pt x="6211" y="77"/>
                    </a:lnTo>
                    <a:lnTo>
                      <a:pt x="6216" y="82"/>
                    </a:lnTo>
                    <a:lnTo>
                      <a:pt x="6219" y="88"/>
                    </a:lnTo>
                    <a:lnTo>
                      <a:pt x="6220" y="97"/>
                    </a:lnTo>
                    <a:lnTo>
                      <a:pt x="6219" y="106"/>
                    </a:lnTo>
                    <a:lnTo>
                      <a:pt x="6218" y="115"/>
                    </a:lnTo>
                    <a:lnTo>
                      <a:pt x="6215" y="125"/>
                    </a:lnTo>
                    <a:lnTo>
                      <a:pt x="6210" y="135"/>
                    </a:lnTo>
                    <a:lnTo>
                      <a:pt x="6205" y="145"/>
                    </a:lnTo>
                    <a:lnTo>
                      <a:pt x="6198" y="154"/>
                    </a:lnTo>
                    <a:lnTo>
                      <a:pt x="6190" y="162"/>
                    </a:lnTo>
                    <a:lnTo>
                      <a:pt x="6182" y="170"/>
                    </a:lnTo>
                    <a:lnTo>
                      <a:pt x="6173" y="177"/>
                    </a:lnTo>
                    <a:lnTo>
                      <a:pt x="6162" y="182"/>
                    </a:lnTo>
                    <a:lnTo>
                      <a:pt x="6151" y="184"/>
                    </a:lnTo>
                    <a:lnTo>
                      <a:pt x="6139" y="187"/>
                    </a:lnTo>
                    <a:lnTo>
                      <a:pt x="6123" y="189"/>
                    </a:lnTo>
                    <a:lnTo>
                      <a:pt x="6103" y="190"/>
                    </a:lnTo>
                    <a:lnTo>
                      <a:pt x="6083" y="192"/>
                    </a:lnTo>
                    <a:lnTo>
                      <a:pt x="6039" y="193"/>
                    </a:lnTo>
                    <a:lnTo>
                      <a:pt x="5996" y="193"/>
                    </a:lnTo>
                    <a:lnTo>
                      <a:pt x="5959" y="193"/>
                    </a:lnTo>
                    <a:lnTo>
                      <a:pt x="5933" y="192"/>
                    </a:lnTo>
                    <a:lnTo>
                      <a:pt x="5927" y="192"/>
                    </a:lnTo>
                    <a:lnTo>
                      <a:pt x="5925" y="190"/>
                    </a:lnTo>
                    <a:lnTo>
                      <a:pt x="5930" y="190"/>
                    </a:lnTo>
                    <a:lnTo>
                      <a:pt x="5940" y="190"/>
                    </a:lnTo>
                    <a:lnTo>
                      <a:pt x="5954" y="190"/>
                    </a:lnTo>
                    <a:lnTo>
                      <a:pt x="5970" y="192"/>
                    </a:lnTo>
                    <a:lnTo>
                      <a:pt x="5986" y="195"/>
                    </a:lnTo>
                    <a:lnTo>
                      <a:pt x="6003" y="199"/>
                    </a:lnTo>
                    <a:lnTo>
                      <a:pt x="6038" y="209"/>
                    </a:lnTo>
                    <a:lnTo>
                      <a:pt x="6074" y="220"/>
                    </a:lnTo>
                    <a:lnTo>
                      <a:pt x="6109" y="234"/>
                    </a:lnTo>
                    <a:lnTo>
                      <a:pt x="6143" y="247"/>
                    </a:lnTo>
                    <a:lnTo>
                      <a:pt x="6174" y="261"/>
                    </a:lnTo>
                    <a:lnTo>
                      <a:pt x="6203" y="272"/>
                    </a:lnTo>
                    <a:lnTo>
                      <a:pt x="6226" y="281"/>
                    </a:lnTo>
                    <a:lnTo>
                      <a:pt x="6246" y="289"/>
                    </a:lnTo>
                    <a:lnTo>
                      <a:pt x="6262" y="296"/>
                    </a:lnTo>
                    <a:lnTo>
                      <a:pt x="6275" y="302"/>
                    </a:lnTo>
                    <a:lnTo>
                      <a:pt x="6284" y="306"/>
                    </a:lnTo>
                    <a:lnTo>
                      <a:pt x="6291" y="310"/>
                    </a:lnTo>
                    <a:lnTo>
                      <a:pt x="6295" y="311"/>
                    </a:lnTo>
                    <a:lnTo>
                      <a:pt x="6296" y="312"/>
                    </a:lnTo>
                    <a:lnTo>
                      <a:pt x="6295" y="316"/>
                    </a:lnTo>
                    <a:lnTo>
                      <a:pt x="6294" y="326"/>
                    </a:lnTo>
                    <a:lnTo>
                      <a:pt x="6291" y="339"/>
                    </a:lnTo>
                    <a:lnTo>
                      <a:pt x="6285" y="357"/>
                    </a:lnTo>
                    <a:lnTo>
                      <a:pt x="6282" y="365"/>
                    </a:lnTo>
                    <a:lnTo>
                      <a:pt x="6278" y="374"/>
                    </a:lnTo>
                    <a:lnTo>
                      <a:pt x="6272" y="384"/>
                    </a:lnTo>
                    <a:lnTo>
                      <a:pt x="6264" y="391"/>
                    </a:lnTo>
                    <a:lnTo>
                      <a:pt x="6257" y="398"/>
                    </a:lnTo>
                    <a:lnTo>
                      <a:pt x="6247" y="406"/>
                    </a:lnTo>
                    <a:lnTo>
                      <a:pt x="6237" y="411"/>
                    </a:lnTo>
                    <a:lnTo>
                      <a:pt x="6225" y="416"/>
                    </a:lnTo>
                    <a:lnTo>
                      <a:pt x="6210" y="418"/>
                    </a:lnTo>
                    <a:lnTo>
                      <a:pt x="6194" y="419"/>
                    </a:lnTo>
                    <a:lnTo>
                      <a:pt x="6177" y="419"/>
                    </a:lnTo>
                    <a:lnTo>
                      <a:pt x="6157" y="417"/>
                    </a:lnTo>
                    <a:lnTo>
                      <a:pt x="6139" y="414"/>
                    </a:lnTo>
                    <a:lnTo>
                      <a:pt x="6118" y="411"/>
                    </a:lnTo>
                    <a:lnTo>
                      <a:pt x="6098" y="406"/>
                    </a:lnTo>
                    <a:lnTo>
                      <a:pt x="6079" y="401"/>
                    </a:lnTo>
                    <a:lnTo>
                      <a:pt x="6043" y="390"/>
                    </a:lnTo>
                    <a:lnTo>
                      <a:pt x="6013" y="380"/>
                    </a:lnTo>
                    <a:lnTo>
                      <a:pt x="5994" y="373"/>
                    </a:lnTo>
                    <a:lnTo>
                      <a:pt x="5986" y="369"/>
                    </a:lnTo>
                    <a:lnTo>
                      <a:pt x="5535" y="323"/>
                    </a:lnTo>
                    <a:lnTo>
                      <a:pt x="5547" y="329"/>
                    </a:lnTo>
                    <a:lnTo>
                      <a:pt x="5580" y="345"/>
                    </a:lnTo>
                    <a:lnTo>
                      <a:pt x="5628" y="370"/>
                    </a:lnTo>
                    <a:lnTo>
                      <a:pt x="5684" y="398"/>
                    </a:lnTo>
                    <a:lnTo>
                      <a:pt x="5740" y="428"/>
                    </a:lnTo>
                    <a:lnTo>
                      <a:pt x="5792" y="456"/>
                    </a:lnTo>
                    <a:lnTo>
                      <a:pt x="5832" y="480"/>
                    </a:lnTo>
                    <a:lnTo>
                      <a:pt x="5856" y="494"/>
                    </a:lnTo>
                    <a:lnTo>
                      <a:pt x="5872" y="508"/>
                    </a:lnTo>
                    <a:lnTo>
                      <a:pt x="5894" y="530"/>
                    </a:lnTo>
                    <a:lnTo>
                      <a:pt x="5921" y="556"/>
                    </a:lnTo>
                    <a:lnTo>
                      <a:pt x="5949" y="584"/>
                    </a:lnTo>
                    <a:lnTo>
                      <a:pt x="5979" y="614"/>
                    </a:lnTo>
                    <a:lnTo>
                      <a:pt x="6005" y="641"/>
                    </a:lnTo>
                    <a:lnTo>
                      <a:pt x="6026" y="665"/>
                    </a:lnTo>
                    <a:lnTo>
                      <a:pt x="6040" y="684"/>
                    </a:lnTo>
                    <a:lnTo>
                      <a:pt x="6044" y="691"/>
                    </a:lnTo>
                    <a:lnTo>
                      <a:pt x="6048" y="698"/>
                    </a:lnTo>
                    <a:lnTo>
                      <a:pt x="6049" y="706"/>
                    </a:lnTo>
                    <a:lnTo>
                      <a:pt x="6049" y="713"/>
                    </a:lnTo>
                    <a:lnTo>
                      <a:pt x="6048" y="719"/>
                    </a:lnTo>
                    <a:lnTo>
                      <a:pt x="6045" y="727"/>
                    </a:lnTo>
                    <a:lnTo>
                      <a:pt x="6043" y="733"/>
                    </a:lnTo>
                    <a:lnTo>
                      <a:pt x="6039" y="739"/>
                    </a:lnTo>
                    <a:lnTo>
                      <a:pt x="6034" y="744"/>
                    </a:lnTo>
                    <a:lnTo>
                      <a:pt x="6029" y="749"/>
                    </a:lnTo>
                    <a:lnTo>
                      <a:pt x="6023" y="754"/>
                    </a:lnTo>
                    <a:lnTo>
                      <a:pt x="6017" y="759"/>
                    </a:lnTo>
                    <a:lnTo>
                      <a:pt x="6010" y="762"/>
                    </a:lnTo>
                    <a:lnTo>
                      <a:pt x="6003" y="765"/>
                    </a:lnTo>
                    <a:lnTo>
                      <a:pt x="5996" y="767"/>
                    </a:lnTo>
                    <a:lnTo>
                      <a:pt x="5989" y="769"/>
                    </a:lnTo>
                    <a:lnTo>
                      <a:pt x="5981" y="770"/>
                    </a:lnTo>
                    <a:lnTo>
                      <a:pt x="5973" y="770"/>
                    </a:lnTo>
                    <a:lnTo>
                      <a:pt x="5964" y="770"/>
                    </a:lnTo>
                    <a:lnTo>
                      <a:pt x="5956" y="769"/>
                    </a:lnTo>
                    <a:lnTo>
                      <a:pt x="5940" y="765"/>
                    </a:lnTo>
                    <a:lnTo>
                      <a:pt x="5924" y="759"/>
                    </a:lnTo>
                    <a:lnTo>
                      <a:pt x="5909" y="754"/>
                    </a:lnTo>
                    <a:lnTo>
                      <a:pt x="5898" y="749"/>
                    </a:lnTo>
                    <a:lnTo>
                      <a:pt x="5890" y="745"/>
                    </a:lnTo>
                    <a:lnTo>
                      <a:pt x="5888" y="744"/>
                    </a:lnTo>
                    <a:lnTo>
                      <a:pt x="5887" y="749"/>
                    </a:lnTo>
                    <a:lnTo>
                      <a:pt x="5882" y="760"/>
                    </a:lnTo>
                    <a:lnTo>
                      <a:pt x="5876" y="767"/>
                    </a:lnTo>
                    <a:lnTo>
                      <a:pt x="5868" y="775"/>
                    </a:lnTo>
                    <a:lnTo>
                      <a:pt x="5858" y="781"/>
                    </a:lnTo>
                    <a:lnTo>
                      <a:pt x="5846" y="787"/>
                    </a:lnTo>
                    <a:lnTo>
                      <a:pt x="5839" y="789"/>
                    </a:lnTo>
                    <a:lnTo>
                      <a:pt x="5830" y="791"/>
                    </a:lnTo>
                    <a:lnTo>
                      <a:pt x="5821" y="792"/>
                    </a:lnTo>
                    <a:lnTo>
                      <a:pt x="5812" y="793"/>
                    </a:lnTo>
                    <a:lnTo>
                      <a:pt x="5800" y="793"/>
                    </a:lnTo>
                    <a:lnTo>
                      <a:pt x="5788" y="793"/>
                    </a:lnTo>
                    <a:lnTo>
                      <a:pt x="5776" y="792"/>
                    </a:lnTo>
                    <a:lnTo>
                      <a:pt x="5762" y="789"/>
                    </a:lnTo>
                    <a:lnTo>
                      <a:pt x="5748" y="787"/>
                    </a:lnTo>
                    <a:lnTo>
                      <a:pt x="5732" y="783"/>
                    </a:lnTo>
                    <a:lnTo>
                      <a:pt x="5713" y="778"/>
                    </a:lnTo>
                    <a:lnTo>
                      <a:pt x="5695" y="772"/>
                    </a:lnTo>
                    <a:lnTo>
                      <a:pt x="5675" y="765"/>
                    </a:lnTo>
                    <a:lnTo>
                      <a:pt x="5654" y="756"/>
                    </a:lnTo>
                    <a:lnTo>
                      <a:pt x="5632" y="746"/>
                    </a:lnTo>
                    <a:lnTo>
                      <a:pt x="5609" y="735"/>
                    </a:lnTo>
                    <a:lnTo>
                      <a:pt x="5599" y="735"/>
                    </a:lnTo>
                    <a:lnTo>
                      <a:pt x="5574" y="732"/>
                    </a:lnTo>
                    <a:lnTo>
                      <a:pt x="5538" y="727"/>
                    </a:lnTo>
                    <a:lnTo>
                      <a:pt x="5495" y="718"/>
                    </a:lnTo>
                    <a:lnTo>
                      <a:pt x="5473" y="713"/>
                    </a:lnTo>
                    <a:lnTo>
                      <a:pt x="5451" y="707"/>
                    </a:lnTo>
                    <a:lnTo>
                      <a:pt x="5429" y="700"/>
                    </a:lnTo>
                    <a:lnTo>
                      <a:pt x="5408" y="692"/>
                    </a:lnTo>
                    <a:lnTo>
                      <a:pt x="5388" y="684"/>
                    </a:lnTo>
                    <a:lnTo>
                      <a:pt x="5371" y="674"/>
                    </a:lnTo>
                    <a:lnTo>
                      <a:pt x="5364" y="669"/>
                    </a:lnTo>
                    <a:lnTo>
                      <a:pt x="5356" y="663"/>
                    </a:lnTo>
                    <a:lnTo>
                      <a:pt x="5350" y="658"/>
                    </a:lnTo>
                    <a:lnTo>
                      <a:pt x="5345" y="652"/>
                    </a:lnTo>
                    <a:lnTo>
                      <a:pt x="5337" y="654"/>
                    </a:lnTo>
                    <a:lnTo>
                      <a:pt x="5316" y="659"/>
                    </a:lnTo>
                    <a:lnTo>
                      <a:pt x="5284" y="666"/>
                    </a:lnTo>
                    <a:lnTo>
                      <a:pt x="5247" y="676"/>
                    </a:lnTo>
                    <a:lnTo>
                      <a:pt x="5207" y="686"/>
                    </a:lnTo>
                    <a:lnTo>
                      <a:pt x="5169" y="696"/>
                    </a:lnTo>
                    <a:lnTo>
                      <a:pt x="5137" y="705"/>
                    </a:lnTo>
                    <a:lnTo>
                      <a:pt x="5114" y="712"/>
                    </a:lnTo>
                    <a:lnTo>
                      <a:pt x="5113" y="714"/>
                    </a:lnTo>
                    <a:lnTo>
                      <a:pt x="5112" y="723"/>
                    </a:lnTo>
                    <a:lnTo>
                      <a:pt x="5109" y="735"/>
                    </a:lnTo>
                    <a:lnTo>
                      <a:pt x="5105" y="750"/>
                    </a:lnTo>
                    <a:lnTo>
                      <a:pt x="5099" y="766"/>
                    </a:lnTo>
                    <a:lnTo>
                      <a:pt x="5093" y="782"/>
                    </a:lnTo>
                    <a:lnTo>
                      <a:pt x="5089" y="791"/>
                    </a:lnTo>
                    <a:lnTo>
                      <a:pt x="5086" y="797"/>
                    </a:lnTo>
                    <a:lnTo>
                      <a:pt x="5081" y="804"/>
                    </a:lnTo>
                    <a:lnTo>
                      <a:pt x="5076" y="809"/>
                    </a:lnTo>
                    <a:lnTo>
                      <a:pt x="5071" y="815"/>
                    </a:lnTo>
                    <a:lnTo>
                      <a:pt x="5065" y="824"/>
                    </a:lnTo>
                    <a:lnTo>
                      <a:pt x="5060" y="835"/>
                    </a:lnTo>
                    <a:lnTo>
                      <a:pt x="5054" y="847"/>
                    </a:lnTo>
                    <a:lnTo>
                      <a:pt x="5041" y="877"/>
                    </a:lnTo>
                    <a:lnTo>
                      <a:pt x="5029" y="910"/>
                    </a:lnTo>
                    <a:lnTo>
                      <a:pt x="5017" y="946"/>
                    </a:lnTo>
                    <a:lnTo>
                      <a:pt x="5006" y="981"/>
                    </a:lnTo>
                    <a:lnTo>
                      <a:pt x="4995" y="1016"/>
                    </a:lnTo>
                    <a:lnTo>
                      <a:pt x="4984" y="1045"/>
                    </a:lnTo>
                    <a:lnTo>
                      <a:pt x="4974" y="1080"/>
                    </a:lnTo>
                    <a:lnTo>
                      <a:pt x="4961" y="1125"/>
                    </a:lnTo>
                    <a:lnTo>
                      <a:pt x="4949" y="1179"/>
                    </a:lnTo>
                    <a:lnTo>
                      <a:pt x="4934" y="1237"/>
                    </a:lnTo>
                    <a:lnTo>
                      <a:pt x="4926" y="1265"/>
                    </a:lnTo>
                    <a:lnTo>
                      <a:pt x="4918" y="1294"/>
                    </a:lnTo>
                    <a:lnTo>
                      <a:pt x="4909" y="1321"/>
                    </a:lnTo>
                    <a:lnTo>
                      <a:pt x="4900" y="1345"/>
                    </a:lnTo>
                    <a:lnTo>
                      <a:pt x="4890" y="1369"/>
                    </a:lnTo>
                    <a:lnTo>
                      <a:pt x="4880" y="1388"/>
                    </a:lnTo>
                    <a:lnTo>
                      <a:pt x="4875" y="1397"/>
                    </a:lnTo>
                    <a:lnTo>
                      <a:pt x="4869" y="1404"/>
                    </a:lnTo>
                    <a:lnTo>
                      <a:pt x="4864" y="1412"/>
                    </a:lnTo>
                    <a:lnTo>
                      <a:pt x="4858" y="1418"/>
                    </a:lnTo>
                    <a:lnTo>
                      <a:pt x="4848" y="1429"/>
                    </a:lnTo>
                    <a:lnTo>
                      <a:pt x="4837" y="1443"/>
                    </a:lnTo>
                    <a:lnTo>
                      <a:pt x="4827" y="1457"/>
                    </a:lnTo>
                    <a:lnTo>
                      <a:pt x="4818" y="1472"/>
                    </a:lnTo>
                    <a:lnTo>
                      <a:pt x="4798" y="1505"/>
                    </a:lnTo>
                    <a:lnTo>
                      <a:pt x="4777" y="1539"/>
                    </a:lnTo>
                    <a:lnTo>
                      <a:pt x="4766" y="1556"/>
                    </a:lnTo>
                    <a:lnTo>
                      <a:pt x="4754" y="1572"/>
                    </a:lnTo>
                    <a:lnTo>
                      <a:pt x="4741" y="1588"/>
                    </a:lnTo>
                    <a:lnTo>
                      <a:pt x="4729" y="1604"/>
                    </a:lnTo>
                    <a:lnTo>
                      <a:pt x="4715" y="1619"/>
                    </a:lnTo>
                    <a:lnTo>
                      <a:pt x="4701" y="1632"/>
                    </a:lnTo>
                    <a:lnTo>
                      <a:pt x="4685" y="1643"/>
                    </a:lnTo>
                    <a:lnTo>
                      <a:pt x="4669" y="1654"/>
                    </a:lnTo>
                    <a:lnTo>
                      <a:pt x="4644" y="1670"/>
                    </a:lnTo>
                    <a:lnTo>
                      <a:pt x="4606" y="1696"/>
                    </a:lnTo>
                    <a:lnTo>
                      <a:pt x="4555" y="1730"/>
                    </a:lnTo>
                    <a:lnTo>
                      <a:pt x="4496" y="1772"/>
                    </a:lnTo>
                    <a:lnTo>
                      <a:pt x="4354" y="1873"/>
                    </a:lnTo>
                    <a:lnTo>
                      <a:pt x="4194" y="1988"/>
                    </a:lnTo>
                    <a:lnTo>
                      <a:pt x="4030" y="2106"/>
                    </a:lnTo>
                    <a:lnTo>
                      <a:pt x="3878" y="2216"/>
                    </a:lnTo>
                    <a:lnTo>
                      <a:pt x="3748" y="2309"/>
                    </a:lnTo>
                    <a:lnTo>
                      <a:pt x="3660" y="2371"/>
                    </a:lnTo>
                    <a:lnTo>
                      <a:pt x="3613" y="2402"/>
                    </a:lnTo>
                    <a:lnTo>
                      <a:pt x="3534" y="2450"/>
                    </a:lnTo>
                    <a:lnTo>
                      <a:pt x="3431" y="2511"/>
                    </a:lnTo>
                    <a:lnTo>
                      <a:pt x="3303" y="2585"/>
                    </a:lnTo>
                    <a:lnTo>
                      <a:pt x="3154" y="2669"/>
                    </a:lnTo>
                    <a:lnTo>
                      <a:pt x="2991" y="2760"/>
                    </a:lnTo>
                    <a:lnTo>
                      <a:pt x="2812" y="2856"/>
                    </a:lnTo>
                    <a:lnTo>
                      <a:pt x="2623" y="2956"/>
                    </a:lnTo>
                    <a:lnTo>
                      <a:pt x="2526" y="3006"/>
                    </a:lnTo>
                    <a:lnTo>
                      <a:pt x="2427" y="3056"/>
                    </a:lnTo>
                    <a:lnTo>
                      <a:pt x="2329" y="3107"/>
                    </a:lnTo>
                    <a:lnTo>
                      <a:pt x="2229" y="3156"/>
                    </a:lnTo>
                    <a:lnTo>
                      <a:pt x="2128" y="3204"/>
                    </a:lnTo>
                    <a:lnTo>
                      <a:pt x="2028" y="3252"/>
                    </a:lnTo>
                    <a:lnTo>
                      <a:pt x="1930" y="3297"/>
                    </a:lnTo>
                    <a:lnTo>
                      <a:pt x="1833" y="3342"/>
                    </a:lnTo>
                    <a:lnTo>
                      <a:pt x="1737" y="3385"/>
                    </a:lnTo>
                    <a:lnTo>
                      <a:pt x="1642" y="3424"/>
                    </a:lnTo>
                    <a:lnTo>
                      <a:pt x="1550" y="3462"/>
                    </a:lnTo>
                    <a:lnTo>
                      <a:pt x="1461" y="3497"/>
                    </a:lnTo>
                    <a:lnTo>
                      <a:pt x="1375" y="3529"/>
                    </a:lnTo>
                    <a:lnTo>
                      <a:pt x="1294" y="3557"/>
                    </a:lnTo>
                    <a:lnTo>
                      <a:pt x="1215" y="3580"/>
                    </a:lnTo>
                    <a:lnTo>
                      <a:pt x="1141" y="3601"/>
                    </a:lnTo>
                    <a:lnTo>
                      <a:pt x="1127" y="3605"/>
                    </a:lnTo>
                    <a:lnTo>
                      <a:pt x="1085" y="3614"/>
                    </a:lnTo>
                    <a:lnTo>
                      <a:pt x="1022" y="3627"/>
                    </a:lnTo>
                    <a:lnTo>
                      <a:pt x="947" y="3642"/>
                    </a:lnTo>
                    <a:lnTo>
                      <a:pt x="865" y="3658"/>
                    </a:lnTo>
                    <a:lnTo>
                      <a:pt x="782" y="3673"/>
                    </a:lnTo>
                    <a:lnTo>
                      <a:pt x="743" y="3679"/>
                    </a:lnTo>
                    <a:lnTo>
                      <a:pt x="706" y="3684"/>
                    </a:lnTo>
                    <a:lnTo>
                      <a:pt x="671" y="3689"/>
                    </a:lnTo>
                    <a:lnTo>
                      <a:pt x="642" y="3691"/>
                    </a:lnTo>
                    <a:lnTo>
                      <a:pt x="589" y="3695"/>
                    </a:lnTo>
                    <a:lnTo>
                      <a:pt x="541" y="3697"/>
                    </a:lnTo>
                    <a:lnTo>
                      <a:pt x="494" y="3700"/>
                    </a:lnTo>
                    <a:lnTo>
                      <a:pt x="451" y="3703"/>
                    </a:lnTo>
                    <a:lnTo>
                      <a:pt x="430" y="3706"/>
                    </a:lnTo>
                    <a:lnTo>
                      <a:pt x="409" y="3708"/>
                    </a:lnTo>
                    <a:lnTo>
                      <a:pt x="389" y="3712"/>
                    </a:lnTo>
                    <a:lnTo>
                      <a:pt x="369" y="3716"/>
                    </a:lnTo>
                    <a:lnTo>
                      <a:pt x="348" y="3722"/>
                    </a:lnTo>
                    <a:lnTo>
                      <a:pt x="328" y="3728"/>
                    </a:lnTo>
                    <a:lnTo>
                      <a:pt x="309" y="3737"/>
                    </a:lnTo>
                    <a:lnTo>
                      <a:pt x="289" y="3745"/>
                    </a:lnTo>
                    <a:lnTo>
                      <a:pt x="279" y="3750"/>
                    </a:lnTo>
                    <a:lnTo>
                      <a:pt x="268" y="3754"/>
                    </a:lnTo>
                    <a:lnTo>
                      <a:pt x="257" y="3755"/>
                    </a:lnTo>
                    <a:lnTo>
                      <a:pt x="246" y="3757"/>
                    </a:lnTo>
                    <a:lnTo>
                      <a:pt x="234" y="3757"/>
                    </a:lnTo>
                    <a:lnTo>
                      <a:pt x="221" y="3756"/>
                    </a:lnTo>
                    <a:lnTo>
                      <a:pt x="209" y="3755"/>
                    </a:lnTo>
                    <a:lnTo>
                      <a:pt x="197" y="3753"/>
                    </a:lnTo>
                    <a:lnTo>
                      <a:pt x="184" y="3749"/>
                    </a:lnTo>
                    <a:lnTo>
                      <a:pt x="172" y="3744"/>
                    </a:lnTo>
                    <a:lnTo>
                      <a:pt x="160" y="3739"/>
                    </a:lnTo>
                    <a:lnTo>
                      <a:pt x="147" y="3732"/>
                    </a:lnTo>
                    <a:lnTo>
                      <a:pt x="135" y="3724"/>
                    </a:lnTo>
                    <a:lnTo>
                      <a:pt x="123" y="3716"/>
                    </a:lnTo>
                    <a:lnTo>
                      <a:pt x="112" y="3706"/>
                    </a:lnTo>
                    <a:lnTo>
                      <a:pt x="99" y="3695"/>
                    </a:lnTo>
                    <a:lnTo>
                      <a:pt x="88" y="3682"/>
                    </a:lnTo>
                    <a:lnTo>
                      <a:pt x="79" y="3670"/>
                    </a:lnTo>
                    <a:lnTo>
                      <a:pt x="67" y="3655"/>
                    </a:lnTo>
                    <a:lnTo>
                      <a:pt x="58" y="3641"/>
                    </a:lnTo>
                    <a:lnTo>
                      <a:pt x="49" y="3625"/>
                    </a:lnTo>
                    <a:lnTo>
                      <a:pt x="40" y="3607"/>
                    </a:lnTo>
                    <a:lnTo>
                      <a:pt x="32" y="3590"/>
                    </a:lnTo>
                    <a:lnTo>
                      <a:pt x="26" y="3571"/>
                    </a:lnTo>
                    <a:lnTo>
                      <a:pt x="18" y="3551"/>
                    </a:lnTo>
                    <a:lnTo>
                      <a:pt x="13" y="3529"/>
                    </a:lnTo>
                    <a:lnTo>
                      <a:pt x="8" y="3507"/>
                    </a:lnTo>
                    <a:lnTo>
                      <a:pt x="5" y="3483"/>
                    </a:lnTo>
                    <a:lnTo>
                      <a:pt x="2" y="3459"/>
                    </a:lnTo>
                    <a:lnTo>
                      <a:pt x="1" y="3433"/>
                    </a:lnTo>
                    <a:lnTo>
                      <a:pt x="0" y="3407"/>
                    </a:lnTo>
                    <a:lnTo>
                      <a:pt x="1" y="3379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5457960" y="2773440"/>
                <a:ext cx="1609560" cy="936720"/>
              </a:xfrm>
              <a:custGeom>
                <a:avLst/>
                <a:gdLst/>
                <a:ahLst/>
                <a:rect l="l" t="t" r="r" b="b"/>
                <a:pathLst>
                  <a:path w="5068" h="2948">
                    <a:moveTo>
                      <a:pt x="4910" y="484"/>
                    </a:moveTo>
                    <a:lnTo>
                      <a:pt x="4905" y="504"/>
                    </a:lnTo>
                    <a:lnTo>
                      <a:pt x="4899" y="524"/>
                    </a:lnTo>
                    <a:lnTo>
                      <a:pt x="4892" y="543"/>
                    </a:lnTo>
                    <a:lnTo>
                      <a:pt x="4885" y="560"/>
                    </a:lnTo>
                    <a:lnTo>
                      <a:pt x="4876" y="575"/>
                    </a:lnTo>
                    <a:lnTo>
                      <a:pt x="4867" y="588"/>
                    </a:lnTo>
                    <a:lnTo>
                      <a:pt x="4859" y="599"/>
                    </a:lnTo>
                    <a:lnTo>
                      <a:pt x="4850" y="609"/>
                    </a:lnTo>
                    <a:lnTo>
                      <a:pt x="4840" y="620"/>
                    </a:lnTo>
                    <a:lnTo>
                      <a:pt x="4829" y="634"/>
                    </a:lnTo>
                    <a:lnTo>
                      <a:pt x="4819" y="648"/>
                    </a:lnTo>
                    <a:lnTo>
                      <a:pt x="4810" y="663"/>
                    </a:lnTo>
                    <a:lnTo>
                      <a:pt x="4790" y="696"/>
                    </a:lnTo>
                    <a:lnTo>
                      <a:pt x="4769" y="730"/>
                    </a:lnTo>
                    <a:lnTo>
                      <a:pt x="4758" y="747"/>
                    </a:lnTo>
                    <a:lnTo>
                      <a:pt x="4746" y="763"/>
                    </a:lnTo>
                    <a:lnTo>
                      <a:pt x="4733" y="779"/>
                    </a:lnTo>
                    <a:lnTo>
                      <a:pt x="4721" y="795"/>
                    </a:lnTo>
                    <a:lnTo>
                      <a:pt x="4707" y="810"/>
                    </a:lnTo>
                    <a:lnTo>
                      <a:pt x="4693" y="823"/>
                    </a:lnTo>
                    <a:lnTo>
                      <a:pt x="4677" y="834"/>
                    </a:lnTo>
                    <a:lnTo>
                      <a:pt x="4661" y="845"/>
                    </a:lnTo>
                    <a:lnTo>
                      <a:pt x="4636" y="861"/>
                    </a:lnTo>
                    <a:lnTo>
                      <a:pt x="4598" y="887"/>
                    </a:lnTo>
                    <a:lnTo>
                      <a:pt x="4547" y="921"/>
                    </a:lnTo>
                    <a:lnTo>
                      <a:pt x="4488" y="963"/>
                    </a:lnTo>
                    <a:lnTo>
                      <a:pt x="4346" y="1064"/>
                    </a:lnTo>
                    <a:lnTo>
                      <a:pt x="4186" y="1179"/>
                    </a:lnTo>
                    <a:lnTo>
                      <a:pt x="4022" y="1297"/>
                    </a:lnTo>
                    <a:lnTo>
                      <a:pt x="3870" y="1407"/>
                    </a:lnTo>
                    <a:lnTo>
                      <a:pt x="3740" y="1500"/>
                    </a:lnTo>
                    <a:lnTo>
                      <a:pt x="3652" y="1562"/>
                    </a:lnTo>
                    <a:lnTo>
                      <a:pt x="3605" y="1593"/>
                    </a:lnTo>
                    <a:lnTo>
                      <a:pt x="3526" y="1641"/>
                    </a:lnTo>
                    <a:lnTo>
                      <a:pt x="3423" y="1702"/>
                    </a:lnTo>
                    <a:lnTo>
                      <a:pt x="3295" y="1776"/>
                    </a:lnTo>
                    <a:lnTo>
                      <a:pt x="3146" y="1860"/>
                    </a:lnTo>
                    <a:lnTo>
                      <a:pt x="2983" y="1951"/>
                    </a:lnTo>
                    <a:lnTo>
                      <a:pt x="2804" y="2047"/>
                    </a:lnTo>
                    <a:lnTo>
                      <a:pt x="2615" y="2147"/>
                    </a:lnTo>
                    <a:lnTo>
                      <a:pt x="2518" y="2197"/>
                    </a:lnTo>
                    <a:lnTo>
                      <a:pt x="2419" y="2247"/>
                    </a:lnTo>
                    <a:lnTo>
                      <a:pt x="2321" y="2298"/>
                    </a:lnTo>
                    <a:lnTo>
                      <a:pt x="2221" y="2347"/>
                    </a:lnTo>
                    <a:lnTo>
                      <a:pt x="2120" y="2395"/>
                    </a:lnTo>
                    <a:lnTo>
                      <a:pt x="2020" y="2443"/>
                    </a:lnTo>
                    <a:lnTo>
                      <a:pt x="1922" y="2488"/>
                    </a:lnTo>
                    <a:lnTo>
                      <a:pt x="1825" y="2533"/>
                    </a:lnTo>
                    <a:lnTo>
                      <a:pt x="1729" y="2576"/>
                    </a:lnTo>
                    <a:lnTo>
                      <a:pt x="1634" y="2615"/>
                    </a:lnTo>
                    <a:lnTo>
                      <a:pt x="1542" y="2653"/>
                    </a:lnTo>
                    <a:lnTo>
                      <a:pt x="1453" y="2688"/>
                    </a:lnTo>
                    <a:lnTo>
                      <a:pt x="1367" y="2720"/>
                    </a:lnTo>
                    <a:lnTo>
                      <a:pt x="1286" y="2748"/>
                    </a:lnTo>
                    <a:lnTo>
                      <a:pt x="1207" y="2771"/>
                    </a:lnTo>
                    <a:lnTo>
                      <a:pt x="1133" y="2792"/>
                    </a:lnTo>
                    <a:lnTo>
                      <a:pt x="1119" y="2796"/>
                    </a:lnTo>
                    <a:lnTo>
                      <a:pt x="1077" y="2805"/>
                    </a:lnTo>
                    <a:lnTo>
                      <a:pt x="1014" y="2818"/>
                    </a:lnTo>
                    <a:lnTo>
                      <a:pt x="939" y="2833"/>
                    </a:lnTo>
                    <a:lnTo>
                      <a:pt x="857" y="2849"/>
                    </a:lnTo>
                    <a:lnTo>
                      <a:pt x="774" y="2864"/>
                    </a:lnTo>
                    <a:lnTo>
                      <a:pt x="735" y="2870"/>
                    </a:lnTo>
                    <a:lnTo>
                      <a:pt x="698" y="2875"/>
                    </a:lnTo>
                    <a:lnTo>
                      <a:pt x="663" y="2880"/>
                    </a:lnTo>
                    <a:lnTo>
                      <a:pt x="634" y="2882"/>
                    </a:lnTo>
                    <a:lnTo>
                      <a:pt x="581" y="2886"/>
                    </a:lnTo>
                    <a:lnTo>
                      <a:pt x="533" y="2888"/>
                    </a:lnTo>
                    <a:lnTo>
                      <a:pt x="486" y="2891"/>
                    </a:lnTo>
                    <a:lnTo>
                      <a:pt x="443" y="2894"/>
                    </a:lnTo>
                    <a:lnTo>
                      <a:pt x="422" y="2897"/>
                    </a:lnTo>
                    <a:lnTo>
                      <a:pt x="401" y="2899"/>
                    </a:lnTo>
                    <a:lnTo>
                      <a:pt x="381" y="2903"/>
                    </a:lnTo>
                    <a:lnTo>
                      <a:pt x="361" y="2907"/>
                    </a:lnTo>
                    <a:lnTo>
                      <a:pt x="340" y="2913"/>
                    </a:lnTo>
                    <a:lnTo>
                      <a:pt x="320" y="2919"/>
                    </a:lnTo>
                    <a:lnTo>
                      <a:pt x="301" y="2928"/>
                    </a:lnTo>
                    <a:lnTo>
                      <a:pt x="281" y="2936"/>
                    </a:lnTo>
                    <a:lnTo>
                      <a:pt x="272" y="2940"/>
                    </a:lnTo>
                    <a:lnTo>
                      <a:pt x="264" y="2944"/>
                    </a:lnTo>
                    <a:lnTo>
                      <a:pt x="255" y="2946"/>
                    </a:lnTo>
                    <a:lnTo>
                      <a:pt x="245" y="2947"/>
                    </a:lnTo>
                    <a:lnTo>
                      <a:pt x="235" y="2948"/>
                    </a:lnTo>
                    <a:lnTo>
                      <a:pt x="226" y="2948"/>
                    </a:lnTo>
                    <a:lnTo>
                      <a:pt x="216" y="2947"/>
                    </a:lnTo>
                    <a:lnTo>
                      <a:pt x="206" y="2946"/>
                    </a:lnTo>
                    <a:lnTo>
                      <a:pt x="196" y="2945"/>
                    </a:lnTo>
                    <a:lnTo>
                      <a:pt x="185" y="2942"/>
                    </a:lnTo>
                    <a:lnTo>
                      <a:pt x="175" y="2939"/>
                    </a:lnTo>
                    <a:lnTo>
                      <a:pt x="165" y="2935"/>
                    </a:lnTo>
                    <a:lnTo>
                      <a:pt x="154" y="2930"/>
                    </a:lnTo>
                    <a:lnTo>
                      <a:pt x="144" y="2924"/>
                    </a:lnTo>
                    <a:lnTo>
                      <a:pt x="133" y="2918"/>
                    </a:lnTo>
                    <a:lnTo>
                      <a:pt x="123" y="2912"/>
                    </a:lnTo>
                    <a:lnTo>
                      <a:pt x="114" y="2903"/>
                    </a:lnTo>
                    <a:lnTo>
                      <a:pt x="104" y="2896"/>
                    </a:lnTo>
                    <a:lnTo>
                      <a:pt x="94" y="2886"/>
                    </a:lnTo>
                    <a:lnTo>
                      <a:pt x="84" y="2876"/>
                    </a:lnTo>
                    <a:lnTo>
                      <a:pt x="75" y="2865"/>
                    </a:lnTo>
                    <a:lnTo>
                      <a:pt x="67" y="2854"/>
                    </a:lnTo>
                    <a:lnTo>
                      <a:pt x="58" y="2841"/>
                    </a:lnTo>
                    <a:lnTo>
                      <a:pt x="50" y="2829"/>
                    </a:lnTo>
                    <a:lnTo>
                      <a:pt x="42" y="2816"/>
                    </a:lnTo>
                    <a:lnTo>
                      <a:pt x="35" y="2801"/>
                    </a:lnTo>
                    <a:lnTo>
                      <a:pt x="27" y="2786"/>
                    </a:lnTo>
                    <a:lnTo>
                      <a:pt x="21" y="2770"/>
                    </a:lnTo>
                    <a:lnTo>
                      <a:pt x="15" y="2754"/>
                    </a:lnTo>
                    <a:lnTo>
                      <a:pt x="10" y="2737"/>
                    </a:lnTo>
                    <a:lnTo>
                      <a:pt x="5" y="2718"/>
                    </a:lnTo>
                    <a:lnTo>
                      <a:pt x="0" y="2700"/>
                    </a:lnTo>
                    <a:lnTo>
                      <a:pt x="8" y="2706"/>
                    </a:lnTo>
                    <a:lnTo>
                      <a:pt x="29" y="2720"/>
                    </a:lnTo>
                    <a:lnTo>
                      <a:pt x="42" y="2728"/>
                    </a:lnTo>
                    <a:lnTo>
                      <a:pt x="58" y="2737"/>
                    </a:lnTo>
                    <a:lnTo>
                      <a:pt x="77" y="2747"/>
                    </a:lnTo>
                    <a:lnTo>
                      <a:pt x="96" y="2755"/>
                    </a:lnTo>
                    <a:lnTo>
                      <a:pt x="118" y="2764"/>
                    </a:lnTo>
                    <a:lnTo>
                      <a:pt x="141" y="2770"/>
                    </a:lnTo>
                    <a:lnTo>
                      <a:pt x="152" y="2773"/>
                    </a:lnTo>
                    <a:lnTo>
                      <a:pt x="164" y="2775"/>
                    </a:lnTo>
                    <a:lnTo>
                      <a:pt x="176" y="2776"/>
                    </a:lnTo>
                    <a:lnTo>
                      <a:pt x="187" y="2778"/>
                    </a:lnTo>
                    <a:lnTo>
                      <a:pt x="200" y="2778"/>
                    </a:lnTo>
                    <a:lnTo>
                      <a:pt x="212" y="2776"/>
                    </a:lnTo>
                    <a:lnTo>
                      <a:pt x="223" y="2775"/>
                    </a:lnTo>
                    <a:lnTo>
                      <a:pt x="235" y="2773"/>
                    </a:lnTo>
                    <a:lnTo>
                      <a:pt x="246" y="2769"/>
                    </a:lnTo>
                    <a:lnTo>
                      <a:pt x="259" y="2764"/>
                    </a:lnTo>
                    <a:lnTo>
                      <a:pt x="270" y="2759"/>
                    </a:lnTo>
                    <a:lnTo>
                      <a:pt x="281" y="2752"/>
                    </a:lnTo>
                    <a:lnTo>
                      <a:pt x="307" y="2733"/>
                    </a:lnTo>
                    <a:lnTo>
                      <a:pt x="341" y="2707"/>
                    </a:lnTo>
                    <a:lnTo>
                      <a:pt x="383" y="2674"/>
                    </a:lnTo>
                    <a:lnTo>
                      <a:pt x="431" y="2636"/>
                    </a:lnTo>
                    <a:lnTo>
                      <a:pt x="543" y="2545"/>
                    </a:lnTo>
                    <a:lnTo>
                      <a:pt x="673" y="2440"/>
                    </a:lnTo>
                    <a:lnTo>
                      <a:pt x="742" y="2386"/>
                    </a:lnTo>
                    <a:lnTo>
                      <a:pt x="814" y="2331"/>
                    </a:lnTo>
                    <a:lnTo>
                      <a:pt x="887" y="2276"/>
                    </a:lnTo>
                    <a:lnTo>
                      <a:pt x="961" y="2222"/>
                    </a:lnTo>
                    <a:lnTo>
                      <a:pt x="1035" y="2170"/>
                    </a:lnTo>
                    <a:lnTo>
                      <a:pt x="1109" y="2119"/>
                    </a:lnTo>
                    <a:lnTo>
                      <a:pt x="1145" y="2096"/>
                    </a:lnTo>
                    <a:lnTo>
                      <a:pt x="1180" y="2074"/>
                    </a:lnTo>
                    <a:lnTo>
                      <a:pt x="1216" y="2052"/>
                    </a:lnTo>
                    <a:lnTo>
                      <a:pt x="1250" y="2032"/>
                    </a:lnTo>
                    <a:lnTo>
                      <a:pt x="1286" y="2012"/>
                    </a:lnTo>
                    <a:lnTo>
                      <a:pt x="1323" y="1993"/>
                    </a:lnTo>
                    <a:lnTo>
                      <a:pt x="1361" y="1973"/>
                    </a:lnTo>
                    <a:lnTo>
                      <a:pt x="1400" y="1953"/>
                    </a:lnTo>
                    <a:lnTo>
                      <a:pt x="1484" y="1915"/>
                    </a:lnTo>
                    <a:lnTo>
                      <a:pt x="1571" y="1876"/>
                    </a:lnTo>
                    <a:lnTo>
                      <a:pt x="1661" y="1838"/>
                    </a:lnTo>
                    <a:lnTo>
                      <a:pt x="1755" y="1800"/>
                    </a:lnTo>
                    <a:lnTo>
                      <a:pt x="1851" y="1762"/>
                    </a:lnTo>
                    <a:lnTo>
                      <a:pt x="1947" y="1725"/>
                    </a:lnTo>
                    <a:lnTo>
                      <a:pt x="2142" y="1652"/>
                    </a:lnTo>
                    <a:lnTo>
                      <a:pt x="2333" y="1583"/>
                    </a:lnTo>
                    <a:lnTo>
                      <a:pt x="2515" y="1518"/>
                    </a:lnTo>
                    <a:lnTo>
                      <a:pt x="2682" y="1456"/>
                    </a:lnTo>
                    <a:lnTo>
                      <a:pt x="2841" y="1396"/>
                    </a:lnTo>
                    <a:lnTo>
                      <a:pt x="3016" y="1326"/>
                    </a:lnTo>
                    <a:lnTo>
                      <a:pt x="3108" y="1289"/>
                    </a:lnTo>
                    <a:lnTo>
                      <a:pt x="3200" y="1250"/>
                    </a:lnTo>
                    <a:lnTo>
                      <a:pt x="3294" y="1210"/>
                    </a:lnTo>
                    <a:lnTo>
                      <a:pt x="3385" y="1171"/>
                    </a:lnTo>
                    <a:lnTo>
                      <a:pt x="3476" y="1131"/>
                    </a:lnTo>
                    <a:lnTo>
                      <a:pt x="3562" y="1091"/>
                    </a:lnTo>
                    <a:lnTo>
                      <a:pt x="3646" y="1052"/>
                    </a:lnTo>
                    <a:lnTo>
                      <a:pt x="3723" y="1014"/>
                    </a:lnTo>
                    <a:lnTo>
                      <a:pt x="3795" y="977"/>
                    </a:lnTo>
                    <a:lnTo>
                      <a:pt x="3860" y="941"/>
                    </a:lnTo>
                    <a:lnTo>
                      <a:pt x="3888" y="925"/>
                    </a:lnTo>
                    <a:lnTo>
                      <a:pt x="3915" y="908"/>
                    </a:lnTo>
                    <a:lnTo>
                      <a:pt x="3940" y="893"/>
                    </a:lnTo>
                    <a:lnTo>
                      <a:pt x="3962" y="877"/>
                    </a:lnTo>
                    <a:lnTo>
                      <a:pt x="4002" y="850"/>
                    </a:lnTo>
                    <a:lnTo>
                      <a:pt x="4039" y="827"/>
                    </a:lnTo>
                    <a:lnTo>
                      <a:pt x="4073" y="806"/>
                    </a:lnTo>
                    <a:lnTo>
                      <a:pt x="4103" y="789"/>
                    </a:lnTo>
                    <a:lnTo>
                      <a:pt x="4156" y="760"/>
                    </a:lnTo>
                    <a:lnTo>
                      <a:pt x="4201" y="738"/>
                    </a:lnTo>
                    <a:lnTo>
                      <a:pt x="4219" y="728"/>
                    </a:lnTo>
                    <a:lnTo>
                      <a:pt x="4236" y="720"/>
                    </a:lnTo>
                    <a:lnTo>
                      <a:pt x="4251" y="710"/>
                    </a:lnTo>
                    <a:lnTo>
                      <a:pt x="4264" y="701"/>
                    </a:lnTo>
                    <a:lnTo>
                      <a:pt x="4278" y="691"/>
                    </a:lnTo>
                    <a:lnTo>
                      <a:pt x="4289" y="680"/>
                    </a:lnTo>
                    <a:lnTo>
                      <a:pt x="4300" y="668"/>
                    </a:lnTo>
                    <a:lnTo>
                      <a:pt x="4310" y="655"/>
                    </a:lnTo>
                    <a:lnTo>
                      <a:pt x="4319" y="641"/>
                    </a:lnTo>
                    <a:lnTo>
                      <a:pt x="4327" y="629"/>
                    </a:lnTo>
                    <a:lnTo>
                      <a:pt x="4335" y="619"/>
                    </a:lnTo>
                    <a:lnTo>
                      <a:pt x="4342" y="609"/>
                    </a:lnTo>
                    <a:lnTo>
                      <a:pt x="4349" y="603"/>
                    </a:lnTo>
                    <a:lnTo>
                      <a:pt x="4357" y="597"/>
                    </a:lnTo>
                    <a:lnTo>
                      <a:pt x="4364" y="593"/>
                    </a:lnTo>
                    <a:lnTo>
                      <a:pt x="4372" y="592"/>
                    </a:lnTo>
                    <a:lnTo>
                      <a:pt x="4380" y="591"/>
                    </a:lnTo>
                    <a:lnTo>
                      <a:pt x="4389" y="593"/>
                    </a:lnTo>
                    <a:lnTo>
                      <a:pt x="4397" y="595"/>
                    </a:lnTo>
                    <a:lnTo>
                      <a:pt x="4407" y="600"/>
                    </a:lnTo>
                    <a:lnTo>
                      <a:pt x="4418" y="607"/>
                    </a:lnTo>
                    <a:lnTo>
                      <a:pt x="4429" y="615"/>
                    </a:lnTo>
                    <a:lnTo>
                      <a:pt x="4443" y="625"/>
                    </a:lnTo>
                    <a:lnTo>
                      <a:pt x="4456" y="636"/>
                    </a:lnTo>
                    <a:lnTo>
                      <a:pt x="4464" y="641"/>
                    </a:lnTo>
                    <a:lnTo>
                      <a:pt x="4472" y="646"/>
                    </a:lnTo>
                    <a:lnTo>
                      <a:pt x="4480" y="650"/>
                    </a:lnTo>
                    <a:lnTo>
                      <a:pt x="4488" y="651"/>
                    </a:lnTo>
                    <a:lnTo>
                      <a:pt x="4497" y="652"/>
                    </a:lnTo>
                    <a:lnTo>
                      <a:pt x="4507" y="653"/>
                    </a:lnTo>
                    <a:lnTo>
                      <a:pt x="4515" y="652"/>
                    </a:lnTo>
                    <a:lnTo>
                      <a:pt x="4525" y="651"/>
                    </a:lnTo>
                    <a:lnTo>
                      <a:pt x="4535" y="648"/>
                    </a:lnTo>
                    <a:lnTo>
                      <a:pt x="4545" y="645"/>
                    </a:lnTo>
                    <a:lnTo>
                      <a:pt x="4555" y="641"/>
                    </a:lnTo>
                    <a:lnTo>
                      <a:pt x="4565" y="636"/>
                    </a:lnTo>
                    <a:lnTo>
                      <a:pt x="4586" y="624"/>
                    </a:lnTo>
                    <a:lnTo>
                      <a:pt x="4607" y="610"/>
                    </a:lnTo>
                    <a:lnTo>
                      <a:pt x="4627" y="594"/>
                    </a:lnTo>
                    <a:lnTo>
                      <a:pt x="4648" y="576"/>
                    </a:lnTo>
                    <a:lnTo>
                      <a:pt x="4669" y="556"/>
                    </a:lnTo>
                    <a:lnTo>
                      <a:pt x="4690" y="535"/>
                    </a:lnTo>
                    <a:lnTo>
                      <a:pt x="4710" y="513"/>
                    </a:lnTo>
                    <a:lnTo>
                      <a:pt x="4730" y="491"/>
                    </a:lnTo>
                    <a:lnTo>
                      <a:pt x="4748" y="469"/>
                    </a:lnTo>
                    <a:lnTo>
                      <a:pt x="4766" y="445"/>
                    </a:lnTo>
                    <a:lnTo>
                      <a:pt x="4806" y="393"/>
                    </a:lnTo>
                    <a:lnTo>
                      <a:pt x="4853" y="327"/>
                    </a:lnTo>
                    <a:lnTo>
                      <a:pt x="4902" y="254"/>
                    </a:lnTo>
                    <a:lnTo>
                      <a:pt x="4952" y="180"/>
                    </a:lnTo>
                    <a:lnTo>
                      <a:pt x="4997" y="111"/>
                    </a:lnTo>
                    <a:lnTo>
                      <a:pt x="5033" y="53"/>
                    </a:lnTo>
                    <a:lnTo>
                      <a:pt x="5058" y="15"/>
                    </a:lnTo>
                    <a:lnTo>
                      <a:pt x="5068" y="0"/>
                    </a:lnTo>
                    <a:lnTo>
                      <a:pt x="5062" y="16"/>
                    </a:lnTo>
                    <a:lnTo>
                      <a:pt x="5047" y="58"/>
                    </a:lnTo>
                    <a:lnTo>
                      <a:pt x="5025" y="118"/>
                    </a:lnTo>
                    <a:lnTo>
                      <a:pt x="4998" y="193"/>
                    </a:lnTo>
                    <a:lnTo>
                      <a:pt x="4971" y="273"/>
                    </a:lnTo>
                    <a:lnTo>
                      <a:pt x="4945" y="353"/>
                    </a:lnTo>
                    <a:lnTo>
                      <a:pt x="4934" y="391"/>
                    </a:lnTo>
                    <a:lnTo>
                      <a:pt x="4924" y="426"/>
                    </a:lnTo>
                    <a:lnTo>
                      <a:pt x="4917" y="456"/>
                    </a:lnTo>
                    <a:lnTo>
                      <a:pt x="4910" y="484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5486400" y="2944800"/>
                <a:ext cx="1327320" cy="536760"/>
              </a:xfrm>
              <a:custGeom>
                <a:avLst/>
                <a:gdLst/>
                <a:ahLst/>
                <a:rect l="l" t="t" r="r" b="b"/>
                <a:pathLst>
                  <a:path w="4179" h="1693">
                    <a:moveTo>
                      <a:pt x="4179" y="0"/>
                    </a:moveTo>
                    <a:lnTo>
                      <a:pt x="4171" y="7"/>
                    </a:lnTo>
                    <a:lnTo>
                      <a:pt x="4157" y="17"/>
                    </a:lnTo>
                    <a:lnTo>
                      <a:pt x="4136" y="29"/>
                    </a:lnTo>
                    <a:lnTo>
                      <a:pt x="4111" y="44"/>
                    </a:lnTo>
                    <a:lnTo>
                      <a:pt x="4044" y="78"/>
                    </a:lnTo>
                    <a:lnTo>
                      <a:pt x="3959" y="120"/>
                    </a:lnTo>
                    <a:lnTo>
                      <a:pt x="3858" y="167"/>
                    </a:lnTo>
                    <a:lnTo>
                      <a:pt x="3745" y="219"/>
                    </a:lnTo>
                    <a:lnTo>
                      <a:pt x="3622" y="274"/>
                    </a:lnTo>
                    <a:lnTo>
                      <a:pt x="3490" y="332"/>
                    </a:lnTo>
                    <a:lnTo>
                      <a:pt x="3354" y="391"/>
                    </a:lnTo>
                    <a:lnTo>
                      <a:pt x="3216" y="450"/>
                    </a:lnTo>
                    <a:lnTo>
                      <a:pt x="3078" y="506"/>
                    </a:lnTo>
                    <a:lnTo>
                      <a:pt x="2943" y="562"/>
                    </a:lnTo>
                    <a:lnTo>
                      <a:pt x="2814" y="613"/>
                    </a:lnTo>
                    <a:lnTo>
                      <a:pt x="2693" y="659"/>
                    </a:lnTo>
                    <a:lnTo>
                      <a:pt x="2583" y="700"/>
                    </a:lnTo>
                    <a:lnTo>
                      <a:pt x="2487" y="734"/>
                    </a:lnTo>
                    <a:lnTo>
                      <a:pt x="2398" y="762"/>
                    </a:lnTo>
                    <a:lnTo>
                      <a:pt x="2308" y="789"/>
                    </a:lnTo>
                    <a:lnTo>
                      <a:pt x="2220" y="814"/>
                    </a:lnTo>
                    <a:lnTo>
                      <a:pt x="2129" y="837"/>
                    </a:lnTo>
                    <a:lnTo>
                      <a:pt x="2039" y="861"/>
                    </a:lnTo>
                    <a:lnTo>
                      <a:pt x="1948" y="880"/>
                    </a:lnTo>
                    <a:lnTo>
                      <a:pt x="1857" y="900"/>
                    </a:lnTo>
                    <a:lnTo>
                      <a:pt x="1763" y="918"/>
                    </a:lnTo>
                    <a:lnTo>
                      <a:pt x="1671" y="936"/>
                    </a:lnTo>
                    <a:lnTo>
                      <a:pt x="1576" y="953"/>
                    </a:lnTo>
                    <a:lnTo>
                      <a:pt x="1481" y="968"/>
                    </a:lnTo>
                    <a:lnTo>
                      <a:pt x="1385" y="982"/>
                    </a:lnTo>
                    <a:lnTo>
                      <a:pt x="1290" y="996"/>
                    </a:lnTo>
                    <a:lnTo>
                      <a:pt x="1191" y="1010"/>
                    </a:lnTo>
                    <a:lnTo>
                      <a:pt x="1093" y="1023"/>
                    </a:lnTo>
                    <a:lnTo>
                      <a:pt x="992" y="1035"/>
                    </a:lnTo>
                    <a:lnTo>
                      <a:pt x="943" y="1041"/>
                    </a:lnTo>
                    <a:lnTo>
                      <a:pt x="895" y="1049"/>
                    </a:lnTo>
                    <a:lnTo>
                      <a:pt x="848" y="1056"/>
                    </a:lnTo>
                    <a:lnTo>
                      <a:pt x="804" y="1064"/>
                    </a:lnTo>
                    <a:lnTo>
                      <a:pt x="760" y="1072"/>
                    </a:lnTo>
                    <a:lnTo>
                      <a:pt x="719" y="1081"/>
                    </a:lnTo>
                    <a:lnTo>
                      <a:pt x="679" y="1089"/>
                    </a:lnTo>
                    <a:lnTo>
                      <a:pt x="640" y="1099"/>
                    </a:lnTo>
                    <a:lnTo>
                      <a:pt x="603" y="1109"/>
                    </a:lnTo>
                    <a:lnTo>
                      <a:pt x="567" y="1119"/>
                    </a:lnTo>
                    <a:lnTo>
                      <a:pt x="533" y="1130"/>
                    </a:lnTo>
                    <a:lnTo>
                      <a:pt x="500" y="1140"/>
                    </a:lnTo>
                    <a:lnTo>
                      <a:pt x="469" y="1151"/>
                    </a:lnTo>
                    <a:lnTo>
                      <a:pt x="438" y="1162"/>
                    </a:lnTo>
                    <a:lnTo>
                      <a:pt x="409" y="1174"/>
                    </a:lnTo>
                    <a:lnTo>
                      <a:pt x="382" y="1187"/>
                    </a:lnTo>
                    <a:lnTo>
                      <a:pt x="355" y="1198"/>
                    </a:lnTo>
                    <a:lnTo>
                      <a:pt x="330" y="1211"/>
                    </a:lnTo>
                    <a:lnTo>
                      <a:pt x="305" y="1224"/>
                    </a:lnTo>
                    <a:lnTo>
                      <a:pt x="282" y="1236"/>
                    </a:lnTo>
                    <a:lnTo>
                      <a:pt x="261" y="1249"/>
                    </a:lnTo>
                    <a:lnTo>
                      <a:pt x="240" y="1263"/>
                    </a:lnTo>
                    <a:lnTo>
                      <a:pt x="220" y="1276"/>
                    </a:lnTo>
                    <a:lnTo>
                      <a:pt x="201" y="1290"/>
                    </a:lnTo>
                    <a:lnTo>
                      <a:pt x="183" y="1303"/>
                    </a:lnTo>
                    <a:lnTo>
                      <a:pt x="166" y="1317"/>
                    </a:lnTo>
                    <a:lnTo>
                      <a:pt x="150" y="1332"/>
                    </a:lnTo>
                    <a:lnTo>
                      <a:pt x="136" y="1347"/>
                    </a:lnTo>
                    <a:lnTo>
                      <a:pt x="122" y="1360"/>
                    </a:lnTo>
                    <a:lnTo>
                      <a:pt x="108" y="1375"/>
                    </a:lnTo>
                    <a:lnTo>
                      <a:pt x="96" y="1390"/>
                    </a:lnTo>
                    <a:lnTo>
                      <a:pt x="85" y="1404"/>
                    </a:lnTo>
                    <a:lnTo>
                      <a:pt x="65" y="1433"/>
                    </a:lnTo>
                    <a:lnTo>
                      <a:pt x="49" y="1458"/>
                    </a:lnTo>
                    <a:lnTo>
                      <a:pt x="36" y="1483"/>
                    </a:lnTo>
                    <a:lnTo>
                      <a:pt x="25" y="1508"/>
                    </a:lnTo>
                    <a:lnTo>
                      <a:pt x="17" y="1531"/>
                    </a:lnTo>
                    <a:lnTo>
                      <a:pt x="10" y="1553"/>
                    </a:lnTo>
                    <a:lnTo>
                      <a:pt x="5" y="1574"/>
                    </a:lnTo>
                    <a:lnTo>
                      <a:pt x="0" y="1595"/>
                    </a:lnTo>
                    <a:lnTo>
                      <a:pt x="6" y="1604"/>
                    </a:lnTo>
                    <a:lnTo>
                      <a:pt x="27" y="1625"/>
                    </a:lnTo>
                    <a:lnTo>
                      <a:pt x="44" y="1638"/>
                    </a:lnTo>
                    <a:lnTo>
                      <a:pt x="65" y="1652"/>
                    </a:lnTo>
                    <a:lnTo>
                      <a:pt x="78" y="1658"/>
                    </a:lnTo>
                    <a:lnTo>
                      <a:pt x="92" y="1664"/>
                    </a:lnTo>
                    <a:lnTo>
                      <a:pt x="107" y="1670"/>
                    </a:lnTo>
                    <a:lnTo>
                      <a:pt x="123" y="1676"/>
                    </a:lnTo>
                    <a:lnTo>
                      <a:pt x="142" y="1681"/>
                    </a:lnTo>
                    <a:lnTo>
                      <a:pt x="161" y="1686"/>
                    </a:lnTo>
                    <a:lnTo>
                      <a:pt x="182" y="1688"/>
                    </a:lnTo>
                    <a:lnTo>
                      <a:pt x="204" y="1692"/>
                    </a:lnTo>
                    <a:lnTo>
                      <a:pt x="229" y="1693"/>
                    </a:lnTo>
                    <a:lnTo>
                      <a:pt x="255" y="1693"/>
                    </a:lnTo>
                    <a:lnTo>
                      <a:pt x="282" y="1693"/>
                    </a:lnTo>
                    <a:lnTo>
                      <a:pt x="311" y="1691"/>
                    </a:lnTo>
                    <a:lnTo>
                      <a:pt x="342" y="1687"/>
                    </a:lnTo>
                    <a:lnTo>
                      <a:pt x="374" y="1682"/>
                    </a:lnTo>
                    <a:lnTo>
                      <a:pt x="410" y="1675"/>
                    </a:lnTo>
                    <a:lnTo>
                      <a:pt x="446" y="1666"/>
                    </a:lnTo>
                    <a:lnTo>
                      <a:pt x="485" y="1655"/>
                    </a:lnTo>
                    <a:lnTo>
                      <a:pt x="524" y="1643"/>
                    </a:lnTo>
                    <a:lnTo>
                      <a:pt x="567" y="1628"/>
                    </a:lnTo>
                    <a:lnTo>
                      <a:pt x="612" y="1611"/>
                    </a:lnTo>
                    <a:lnTo>
                      <a:pt x="719" y="1569"/>
                    </a:lnTo>
                    <a:lnTo>
                      <a:pt x="855" y="1520"/>
                    </a:lnTo>
                    <a:lnTo>
                      <a:pt x="1016" y="1461"/>
                    </a:lnTo>
                    <a:lnTo>
                      <a:pt x="1200" y="1396"/>
                    </a:lnTo>
                    <a:lnTo>
                      <a:pt x="1612" y="1251"/>
                    </a:lnTo>
                    <a:lnTo>
                      <a:pt x="2062" y="1091"/>
                    </a:lnTo>
                    <a:lnTo>
                      <a:pt x="2290" y="1008"/>
                    </a:lnTo>
                    <a:lnTo>
                      <a:pt x="2514" y="926"/>
                    </a:lnTo>
                    <a:lnTo>
                      <a:pt x="2731" y="846"/>
                    </a:lnTo>
                    <a:lnTo>
                      <a:pt x="2937" y="767"/>
                    </a:lnTo>
                    <a:lnTo>
                      <a:pt x="3034" y="729"/>
                    </a:lnTo>
                    <a:lnTo>
                      <a:pt x="3126" y="691"/>
                    </a:lnTo>
                    <a:lnTo>
                      <a:pt x="3215" y="655"/>
                    </a:lnTo>
                    <a:lnTo>
                      <a:pt x="3297" y="621"/>
                    </a:lnTo>
                    <a:lnTo>
                      <a:pt x="3374" y="588"/>
                    </a:lnTo>
                    <a:lnTo>
                      <a:pt x="3444" y="556"/>
                    </a:lnTo>
                    <a:lnTo>
                      <a:pt x="3506" y="525"/>
                    </a:lnTo>
                    <a:lnTo>
                      <a:pt x="3562" y="497"/>
                    </a:lnTo>
                    <a:lnTo>
                      <a:pt x="3612" y="471"/>
                    </a:lnTo>
                    <a:lnTo>
                      <a:pt x="3660" y="444"/>
                    </a:lnTo>
                    <a:lnTo>
                      <a:pt x="3705" y="418"/>
                    </a:lnTo>
                    <a:lnTo>
                      <a:pt x="3748" y="393"/>
                    </a:lnTo>
                    <a:lnTo>
                      <a:pt x="3787" y="369"/>
                    </a:lnTo>
                    <a:lnTo>
                      <a:pt x="3824" y="344"/>
                    </a:lnTo>
                    <a:lnTo>
                      <a:pt x="3858" y="321"/>
                    </a:lnTo>
                    <a:lnTo>
                      <a:pt x="3892" y="299"/>
                    </a:lnTo>
                    <a:lnTo>
                      <a:pt x="3921" y="275"/>
                    </a:lnTo>
                    <a:lnTo>
                      <a:pt x="3949" y="254"/>
                    </a:lnTo>
                    <a:lnTo>
                      <a:pt x="3975" y="233"/>
                    </a:lnTo>
                    <a:lnTo>
                      <a:pt x="4000" y="214"/>
                    </a:lnTo>
                    <a:lnTo>
                      <a:pt x="4022" y="194"/>
                    </a:lnTo>
                    <a:lnTo>
                      <a:pt x="4042" y="176"/>
                    </a:lnTo>
                    <a:lnTo>
                      <a:pt x="4060" y="157"/>
                    </a:lnTo>
                    <a:lnTo>
                      <a:pt x="4077" y="141"/>
                    </a:lnTo>
                    <a:lnTo>
                      <a:pt x="4107" y="109"/>
                    </a:lnTo>
                    <a:lnTo>
                      <a:pt x="4129" y="81"/>
                    </a:lnTo>
                    <a:lnTo>
                      <a:pt x="4147" y="57"/>
                    </a:lnTo>
                    <a:lnTo>
                      <a:pt x="4160" y="38"/>
                    </a:lnTo>
                    <a:lnTo>
                      <a:pt x="4176" y="10"/>
                    </a:lnTo>
                    <a:lnTo>
                      <a:pt x="4179" y="0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5497560" y="2951280"/>
                <a:ext cx="1306440" cy="511200"/>
              </a:xfrm>
              <a:custGeom>
                <a:avLst/>
                <a:gdLst/>
                <a:ahLst/>
                <a:rect l="l" t="t" r="r" b="b"/>
                <a:pathLst>
                  <a:path w="4117" h="1613">
                    <a:moveTo>
                      <a:pt x="591" y="1529"/>
                    </a:moveTo>
                    <a:lnTo>
                      <a:pt x="550" y="1545"/>
                    </a:lnTo>
                    <a:lnTo>
                      <a:pt x="512" y="1559"/>
                    </a:lnTo>
                    <a:lnTo>
                      <a:pt x="475" y="1570"/>
                    </a:lnTo>
                    <a:lnTo>
                      <a:pt x="441" y="1581"/>
                    </a:lnTo>
                    <a:lnTo>
                      <a:pt x="407" y="1590"/>
                    </a:lnTo>
                    <a:lnTo>
                      <a:pt x="375" y="1596"/>
                    </a:lnTo>
                    <a:lnTo>
                      <a:pt x="345" y="1602"/>
                    </a:lnTo>
                    <a:lnTo>
                      <a:pt x="315" y="1607"/>
                    </a:lnTo>
                    <a:lnTo>
                      <a:pt x="288" y="1610"/>
                    </a:lnTo>
                    <a:lnTo>
                      <a:pt x="261" y="1612"/>
                    </a:lnTo>
                    <a:lnTo>
                      <a:pt x="236" y="1613"/>
                    </a:lnTo>
                    <a:lnTo>
                      <a:pt x="213" y="1613"/>
                    </a:lnTo>
                    <a:lnTo>
                      <a:pt x="191" y="1613"/>
                    </a:lnTo>
                    <a:lnTo>
                      <a:pt x="170" y="1612"/>
                    </a:lnTo>
                    <a:lnTo>
                      <a:pt x="151" y="1609"/>
                    </a:lnTo>
                    <a:lnTo>
                      <a:pt x="133" y="1607"/>
                    </a:lnTo>
                    <a:lnTo>
                      <a:pt x="116" y="1603"/>
                    </a:lnTo>
                    <a:lnTo>
                      <a:pt x="101" y="1601"/>
                    </a:lnTo>
                    <a:lnTo>
                      <a:pt x="86" y="1596"/>
                    </a:lnTo>
                    <a:lnTo>
                      <a:pt x="73" y="1592"/>
                    </a:lnTo>
                    <a:lnTo>
                      <a:pt x="51" y="1583"/>
                    </a:lnTo>
                    <a:lnTo>
                      <a:pt x="32" y="1575"/>
                    </a:lnTo>
                    <a:lnTo>
                      <a:pt x="9" y="1560"/>
                    </a:lnTo>
                    <a:lnTo>
                      <a:pt x="1" y="1554"/>
                    </a:lnTo>
                    <a:lnTo>
                      <a:pt x="0" y="1538"/>
                    </a:lnTo>
                    <a:lnTo>
                      <a:pt x="1" y="1522"/>
                    </a:lnTo>
                    <a:lnTo>
                      <a:pt x="3" y="1503"/>
                    </a:lnTo>
                    <a:lnTo>
                      <a:pt x="8" y="1484"/>
                    </a:lnTo>
                    <a:lnTo>
                      <a:pt x="14" y="1463"/>
                    </a:lnTo>
                    <a:lnTo>
                      <a:pt x="25" y="1441"/>
                    </a:lnTo>
                    <a:lnTo>
                      <a:pt x="31" y="1428"/>
                    </a:lnTo>
                    <a:lnTo>
                      <a:pt x="40" y="1415"/>
                    </a:lnTo>
                    <a:lnTo>
                      <a:pt x="48" y="1403"/>
                    </a:lnTo>
                    <a:lnTo>
                      <a:pt x="58" y="1388"/>
                    </a:lnTo>
                    <a:lnTo>
                      <a:pt x="70" y="1373"/>
                    </a:lnTo>
                    <a:lnTo>
                      <a:pt x="83" y="1358"/>
                    </a:lnTo>
                    <a:lnTo>
                      <a:pt x="95" y="1345"/>
                    </a:lnTo>
                    <a:lnTo>
                      <a:pt x="110" y="1330"/>
                    </a:lnTo>
                    <a:lnTo>
                      <a:pt x="124" y="1315"/>
                    </a:lnTo>
                    <a:lnTo>
                      <a:pt x="139" y="1302"/>
                    </a:lnTo>
                    <a:lnTo>
                      <a:pt x="156" y="1287"/>
                    </a:lnTo>
                    <a:lnTo>
                      <a:pt x="174" y="1273"/>
                    </a:lnTo>
                    <a:lnTo>
                      <a:pt x="192" y="1260"/>
                    </a:lnTo>
                    <a:lnTo>
                      <a:pt x="212" y="1245"/>
                    </a:lnTo>
                    <a:lnTo>
                      <a:pt x="233" y="1233"/>
                    </a:lnTo>
                    <a:lnTo>
                      <a:pt x="254" y="1219"/>
                    </a:lnTo>
                    <a:lnTo>
                      <a:pt x="277" y="1206"/>
                    </a:lnTo>
                    <a:lnTo>
                      <a:pt x="300" y="1193"/>
                    </a:lnTo>
                    <a:lnTo>
                      <a:pt x="326" y="1181"/>
                    </a:lnTo>
                    <a:lnTo>
                      <a:pt x="352" y="1169"/>
                    </a:lnTo>
                    <a:lnTo>
                      <a:pt x="379" y="1157"/>
                    </a:lnTo>
                    <a:lnTo>
                      <a:pt x="409" y="1144"/>
                    </a:lnTo>
                    <a:lnTo>
                      <a:pt x="438" y="1133"/>
                    </a:lnTo>
                    <a:lnTo>
                      <a:pt x="470" y="1122"/>
                    </a:lnTo>
                    <a:lnTo>
                      <a:pt x="502" y="1111"/>
                    </a:lnTo>
                    <a:lnTo>
                      <a:pt x="537" y="1101"/>
                    </a:lnTo>
                    <a:lnTo>
                      <a:pt x="572" y="1090"/>
                    </a:lnTo>
                    <a:lnTo>
                      <a:pt x="609" y="1080"/>
                    </a:lnTo>
                    <a:lnTo>
                      <a:pt x="647" y="1072"/>
                    </a:lnTo>
                    <a:lnTo>
                      <a:pt x="688" y="1062"/>
                    </a:lnTo>
                    <a:lnTo>
                      <a:pt x="728" y="1053"/>
                    </a:lnTo>
                    <a:lnTo>
                      <a:pt x="772" y="1045"/>
                    </a:lnTo>
                    <a:lnTo>
                      <a:pt x="816" y="1037"/>
                    </a:lnTo>
                    <a:lnTo>
                      <a:pt x="863" y="1030"/>
                    </a:lnTo>
                    <a:lnTo>
                      <a:pt x="911" y="1022"/>
                    </a:lnTo>
                    <a:lnTo>
                      <a:pt x="960" y="1016"/>
                    </a:lnTo>
                    <a:lnTo>
                      <a:pt x="1061" y="1004"/>
                    </a:lnTo>
                    <a:lnTo>
                      <a:pt x="1159" y="991"/>
                    </a:lnTo>
                    <a:lnTo>
                      <a:pt x="1258" y="977"/>
                    </a:lnTo>
                    <a:lnTo>
                      <a:pt x="1353" y="963"/>
                    </a:lnTo>
                    <a:lnTo>
                      <a:pt x="1449" y="949"/>
                    </a:lnTo>
                    <a:lnTo>
                      <a:pt x="1544" y="934"/>
                    </a:lnTo>
                    <a:lnTo>
                      <a:pt x="1639" y="917"/>
                    </a:lnTo>
                    <a:lnTo>
                      <a:pt x="1731" y="899"/>
                    </a:lnTo>
                    <a:lnTo>
                      <a:pt x="1825" y="881"/>
                    </a:lnTo>
                    <a:lnTo>
                      <a:pt x="1916" y="861"/>
                    </a:lnTo>
                    <a:lnTo>
                      <a:pt x="2007" y="842"/>
                    </a:lnTo>
                    <a:lnTo>
                      <a:pt x="2097" y="818"/>
                    </a:lnTo>
                    <a:lnTo>
                      <a:pt x="2188" y="795"/>
                    </a:lnTo>
                    <a:lnTo>
                      <a:pt x="2276" y="770"/>
                    </a:lnTo>
                    <a:lnTo>
                      <a:pt x="2366" y="743"/>
                    </a:lnTo>
                    <a:lnTo>
                      <a:pt x="2455" y="715"/>
                    </a:lnTo>
                    <a:lnTo>
                      <a:pt x="2551" y="682"/>
                    </a:lnTo>
                    <a:lnTo>
                      <a:pt x="2659" y="641"/>
                    </a:lnTo>
                    <a:lnTo>
                      <a:pt x="2778" y="596"/>
                    </a:lnTo>
                    <a:lnTo>
                      <a:pt x="2906" y="545"/>
                    </a:lnTo>
                    <a:lnTo>
                      <a:pt x="3039" y="492"/>
                    </a:lnTo>
                    <a:lnTo>
                      <a:pt x="3174" y="436"/>
                    </a:lnTo>
                    <a:lnTo>
                      <a:pt x="3310" y="379"/>
                    </a:lnTo>
                    <a:lnTo>
                      <a:pt x="3442" y="323"/>
                    </a:lnTo>
                    <a:lnTo>
                      <a:pt x="3570" y="267"/>
                    </a:lnTo>
                    <a:lnTo>
                      <a:pt x="3692" y="213"/>
                    </a:lnTo>
                    <a:lnTo>
                      <a:pt x="3803" y="163"/>
                    </a:lnTo>
                    <a:lnTo>
                      <a:pt x="3901" y="117"/>
                    </a:lnTo>
                    <a:lnTo>
                      <a:pt x="3984" y="77"/>
                    </a:lnTo>
                    <a:lnTo>
                      <a:pt x="4049" y="43"/>
                    </a:lnTo>
                    <a:lnTo>
                      <a:pt x="4075" y="29"/>
                    </a:lnTo>
                    <a:lnTo>
                      <a:pt x="4095" y="18"/>
                    </a:lnTo>
                    <a:lnTo>
                      <a:pt x="4109" y="8"/>
                    </a:lnTo>
                    <a:lnTo>
                      <a:pt x="4117" y="0"/>
                    </a:lnTo>
                    <a:lnTo>
                      <a:pt x="4112" y="9"/>
                    </a:lnTo>
                    <a:lnTo>
                      <a:pt x="4095" y="34"/>
                    </a:lnTo>
                    <a:lnTo>
                      <a:pt x="4080" y="52"/>
                    </a:lnTo>
                    <a:lnTo>
                      <a:pt x="4060" y="74"/>
                    </a:lnTo>
                    <a:lnTo>
                      <a:pt x="4035" y="100"/>
                    </a:lnTo>
                    <a:lnTo>
                      <a:pt x="4005" y="128"/>
                    </a:lnTo>
                    <a:lnTo>
                      <a:pt x="3968" y="161"/>
                    </a:lnTo>
                    <a:lnTo>
                      <a:pt x="3924" y="197"/>
                    </a:lnTo>
                    <a:lnTo>
                      <a:pt x="3871" y="237"/>
                    </a:lnTo>
                    <a:lnTo>
                      <a:pt x="3812" y="278"/>
                    </a:lnTo>
                    <a:lnTo>
                      <a:pt x="3778" y="300"/>
                    </a:lnTo>
                    <a:lnTo>
                      <a:pt x="3743" y="324"/>
                    </a:lnTo>
                    <a:lnTo>
                      <a:pt x="3705" y="347"/>
                    </a:lnTo>
                    <a:lnTo>
                      <a:pt x="3664" y="372"/>
                    </a:lnTo>
                    <a:lnTo>
                      <a:pt x="3622" y="396"/>
                    </a:lnTo>
                    <a:lnTo>
                      <a:pt x="3577" y="422"/>
                    </a:lnTo>
                    <a:lnTo>
                      <a:pt x="3529" y="448"/>
                    </a:lnTo>
                    <a:lnTo>
                      <a:pt x="3478" y="475"/>
                    </a:lnTo>
                    <a:lnTo>
                      <a:pt x="3422" y="505"/>
                    </a:lnTo>
                    <a:lnTo>
                      <a:pt x="3356" y="535"/>
                    </a:lnTo>
                    <a:lnTo>
                      <a:pt x="3286" y="567"/>
                    </a:lnTo>
                    <a:lnTo>
                      <a:pt x="3209" y="601"/>
                    </a:lnTo>
                    <a:lnTo>
                      <a:pt x="3128" y="635"/>
                    </a:lnTo>
                    <a:lnTo>
                      <a:pt x="3040" y="669"/>
                    </a:lnTo>
                    <a:lnTo>
                      <a:pt x="2948" y="706"/>
                    </a:lnTo>
                    <a:lnTo>
                      <a:pt x="2853" y="742"/>
                    </a:lnTo>
                    <a:lnTo>
                      <a:pt x="2651" y="817"/>
                    </a:lnTo>
                    <a:lnTo>
                      <a:pt x="2440" y="893"/>
                    </a:lnTo>
                    <a:lnTo>
                      <a:pt x="2222" y="971"/>
                    </a:lnTo>
                    <a:lnTo>
                      <a:pt x="2001" y="1047"/>
                    </a:lnTo>
                    <a:lnTo>
                      <a:pt x="1566" y="1195"/>
                    </a:lnTo>
                    <a:lnTo>
                      <a:pt x="1166" y="1330"/>
                    </a:lnTo>
                    <a:lnTo>
                      <a:pt x="988" y="1389"/>
                    </a:lnTo>
                    <a:lnTo>
                      <a:pt x="831" y="1443"/>
                    </a:lnTo>
                    <a:lnTo>
                      <a:pt x="697" y="1490"/>
                    </a:lnTo>
                    <a:lnTo>
                      <a:pt x="591" y="1529"/>
                    </a:lnTo>
                    <a:close/>
                  </a:path>
                </a:pathLst>
              </a:custGeom>
              <a:solidFill>
                <a:srgbClr val="6c5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5504040" y="2955960"/>
                <a:ext cx="1290600" cy="488880"/>
              </a:xfrm>
              <a:custGeom>
                <a:avLst/>
                <a:gdLst/>
                <a:ahLst/>
                <a:rect l="l" t="t" r="r" b="b"/>
                <a:pathLst>
                  <a:path w="4064" h="1539">
                    <a:moveTo>
                      <a:pt x="581" y="1454"/>
                    </a:moveTo>
                    <a:lnTo>
                      <a:pt x="545" y="1466"/>
                    </a:lnTo>
                    <a:lnTo>
                      <a:pt x="512" y="1478"/>
                    </a:lnTo>
                    <a:lnTo>
                      <a:pt x="479" y="1488"/>
                    </a:lnTo>
                    <a:lnTo>
                      <a:pt x="447" y="1498"/>
                    </a:lnTo>
                    <a:lnTo>
                      <a:pt x="416" y="1507"/>
                    </a:lnTo>
                    <a:lnTo>
                      <a:pt x="386" y="1513"/>
                    </a:lnTo>
                    <a:lnTo>
                      <a:pt x="358" y="1519"/>
                    </a:lnTo>
                    <a:lnTo>
                      <a:pt x="331" y="1525"/>
                    </a:lnTo>
                    <a:lnTo>
                      <a:pt x="305" y="1529"/>
                    </a:lnTo>
                    <a:lnTo>
                      <a:pt x="281" y="1532"/>
                    </a:lnTo>
                    <a:lnTo>
                      <a:pt x="256" y="1535"/>
                    </a:lnTo>
                    <a:lnTo>
                      <a:pt x="234" y="1536"/>
                    </a:lnTo>
                    <a:lnTo>
                      <a:pt x="192" y="1539"/>
                    </a:lnTo>
                    <a:lnTo>
                      <a:pt x="154" y="1539"/>
                    </a:lnTo>
                    <a:lnTo>
                      <a:pt x="121" y="1536"/>
                    </a:lnTo>
                    <a:lnTo>
                      <a:pt x="92" y="1532"/>
                    </a:lnTo>
                    <a:lnTo>
                      <a:pt x="68" y="1529"/>
                    </a:lnTo>
                    <a:lnTo>
                      <a:pt x="48" y="1524"/>
                    </a:lnTo>
                    <a:lnTo>
                      <a:pt x="21" y="1516"/>
                    </a:lnTo>
                    <a:lnTo>
                      <a:pt x="12" y="1513"/>
                    </a:lnTo>
                    <a:lnTo>
                      <a:pt x="7" y="1503"/>
                    </a:lnTo>
                    <a:lnTo>
                      <a:pt x="3" y="1491"/>
                    </a:lnTo>
                    <a:lnTo>
                      <a:pt x="1" y="1483"/>
                    </a:lnTo>
                    <a:lnTo>
                      <a:pt x="0" y="1477"/>
                    </a:lnTo>
                    <a:lnTo>
                      <a:pt x="0" y="1468"/>
                    </a:lnTo>
                    <a:lnTo>
                      <a:pt x="0" y="1461"/>
                    </a:lnTo>
                    <a:lnTo>
                      <a:pt x="1" y="1452"/>
                    </a:lnTo>
                    <a:lnTo>
                      <a:pt x="4" y="1443"/>
                    </a:lnTo>
                    <a:lnTo>
                      <a:pt x="7" y="1433"/>
                    </a:lnTo>
                    <a:lnTo>
                      <a:pt x="11" y="1422"/>
                    </a:lnTo>
                    <a:lnTo>
                      <a:pt x="17" y="1411"/>
                    </a:lnTo>
                    <a:lnTo>
                      <a:pt x="25" y="1398"/>
                    </a:lnTo>
                    <a:lnTo>
                      <a:pt x="32" y="1386"/>
                    </a:lnTo>
                    <a:lnTo>
                      <a:pt x="43" y="1371"/>
                    </a:lnTo>
                    <a:lnTo>
                      <a:pt x="54" y="1356"/>
                    </a:lnTo>
                    <a:lnTo>
                      <a:pt x="67" y="1343"/>
                    </a:lnTo>
                    <a:lnTo>
                      <a:pt x="80" y="1328"/>
                    </a:lnTo>
                    <a:lnTo>
                      <a:pt x="94" y="1313"/>
                    </a:lnTo>
                    <a:lnTo>
                      <a:pt x="108" y="1299"/>
                    </a:lnTo>
                    <a:lnTo>
                      <a:pt x="123" y="1284"/>
                    </a:lnTo>
                    <a:lnTo>
                      <a:pt x="140" y="1270"/>
                    </a:lnTo>
                    <a:lnTo>
                      <a:pt x="158" y="1257"/>
                    </a:lnTo>
                    <a:lnTo>
                      <a:pt x="176" y="1242"/>
                    </a:lnTo>
                    <a:lnTo>
                      <a:pt x="196" y="1229"/>
                    </a:lnTo>
                    <a:lnTo>
                      <a:pt x="215" y="1215"/>
                    </a:lnTo>
                    <a:lnTo>
                      <a:pt x="238" y="1202"/>
                    </a:lnTo>
                    <a:lnTo>
                      <a:pt x="260" y="1189"/>
                    </a:lnTo>
                    <a:lnTo>
                      <a:pt x="283" y="1176"/>
                    </a:lnTo>
                    <a:lnTo>
                      <a:pt x="308" y="1163"/>
                    </a:lnTo>
                    <a:lnTo>
                      <a:pt x="333" y="1151"/>
                    </a:lnTo>
                    <a:lnTo>
                      <a:pt x="361" y="1139"/>
                    </a:lnTo>
                    <a:lnTo>
                      <a:pt x="390" y="1126"/>
                    </a:lnTo>
                    <a:lnTo>
                      <a:pt x="420" y="1115"/>
                    </a:lnTo>
                    <a:lnTo>
                      <a:pt x="450" y="1104"/>
                    </a:lnTo>
                    <a:lnTo>
                      <a:pt x="484" y="1093"/>
                    </a:lnTo>
                    <a:lnTo>
                      <a:pt x="517" y="1082"/>
                    </a:lnTo>
                    <a:lnTo>
                      <a:pt x="552" y="1072"/>
                    </a:lnTo>
                    <a:lnTo>
                      <a:pt x="589" y="1063"/>
                    </a:lnTo>
                    <a:lnTo>
                      <a:pt x="628" y="1053"/>
                    </a:lnTo>
                    <a:lnTo>
                      <a:pt x="667" y="1043"/>
                    </a:lnTo>
                    <a:lnTo>
                      <a:pt x="709" y="1034"/>
                    </a:lnTo>
                    <a:lnTo>
                      <a:pt x="751" y="1026"/>
                    </a:lnTo>
                    <a:lnTo>
                      <a:pt x="796" y="1018"/>
                    </a:lnTo>
                    <a:lnTo>
                      <a:pt x="842" y="1011"/>
                    </a:lnTo>
                    <a:lnTo>
                      <a:pt x="890" y="1003"/>
                    </a:lnTo>
                    <a:lnTo>
                      <a:pt x="939" y="997"/>
                    </a:lnTo>
                    <a:lnTo>
                      <a:pt x="1040" y="985"/>
                    </a:lnTo>
                    <a:lnTo>
                      <a:pt x="1138" y="972"/>
                    </a:lnTo>
                    <a:lnTo>
                      <a:pt x="1237" y="958"/>
                    </a:lnTo>
                    <a:lnTo>
                      <a:pt x="1332" y="944"/>
                    </a:lnTo>
                    <a:lnTo>
                      <a:pt x="1428" y="930"/>
                    </a:lnTo>
                    <a:lnTo>
                      <a:pt x="1523" y="915"/>
                    </a:lnTo>
                    <a:lnTo>
                      <a:pt x="1618" y="898"/>
                    </a:lnTo>
                    <a:lnTo>
                      <a:pt x="1710" y="880"/>
                    </a:lnTo>
                    <a:lnTo>
                      <a:pt x="1804" y="862"/>
                    </a:lnTo>
                    <a:lnTo>
                      <a:pt x="1895" y="842"/>
                    </a:lnTo>
                    <a:lnTo>
                      <a:pt x="1986" y="823"/>
                    </a:lnTo>
                    <a:lnTo>
                      <a:pt x="2076" y="799"/>
                    </a:lnTo>
                    <a:lnTo>
                      <a:pt x="2167" y="776"/>
                    </a:lnTo>
                    <a:lnTo>
                      <a:pt x="2255" y="751"/>
                    </a:lnTo>
                    <a:lnTo>
                      <a:pt x="2345" y="724"/>
                    </a:lnTo>
                    <a:lnTo>
                      <a:pt x="2434" y="696"/>
                    </a:lnTo>
                    <a:lnTo>
                      <a:pt x="2530" y="663"/>
                    </a:lnTo>
                    <a:lnTo>
                      <a:pt x="2637" y="623"/>
                    </a:lnTo>
                    <a:lnTo>
                      <a:pt x="2755" y="578"/>
                    </a:lnTo>
                    <a:lnTo>
                      <a:pt x="2880" y="530"/>
                    </a:lnTo>
                    <a:lnTo>
                      <a:pt x="3011" y="477"/>
                    </a:lnTo>
                    <a:lnTo>
                      <a:pt x="3143" y="423"/>
                    </a:lnTo>
                    <a:lnTo>
                      <a:pt x="3276" y="369"/>
                    </a:lnTo>
                    <a:lnTo>
                      <a:pt x="3407" y="313"/>
                    </a:lnTo>
                    <a:lnTo>
                      <a:pt x="3532" y="259"/>
                    </a:lnTo>
                    <a:lnTo>
                      <a:pt x="3650" y="208"/>
                    </a:lnTo>
                    <a:lnTo>
                      <a:pt x="3757" y="158"/>
                    </a:lnTo>
                    <a:lnTo>
                      <a:pt x="3853" y="114"/>
                    </a:lnTo>
                    <a:lnTo>
                      <a:pt x="3934" y="75"/>
                    </a:lnTo>
                    <a:lnTo>
                      <a:pt x="3998" y="42"/>
                    </a:lnTo>
                    <a:lnTo>
                      <a:pt x="4023" y="28"/>
                    </a:lnTo>
                    <a:lnTo>
                      <a:pt x="4042" y="17"/>
                    </a:lnTo>
                    <a:lnTo>
                      <a:pt x="4055" y="7"/>
                    </a:lnTo>
                    <a:lnTo>
                      <a:pt x="4064" y="0"/>
                    </a:lnTo>
                    <a:lnTo>
                      <a:pt x="4058" y="7"/>
                    </a:lnTo>
                    <a:lnTo>
                      <a:pt x="4038" y="29"/>
                    </a:lnTo>
                    <a:lnTo>
                      <a:pt x="4022" y="47"/>
                    </a:lnTo>
                    <a:lnTo>
                      <a:pt x="4001" y="66"/>
                    </a:lnTo>
                    <a:lnTo>
                      <a:pt x="3975" y="90"/>
                    </a:lnTo>
                    <a:lnTo>
                      <a:pt x="3942" y="117"/>
                    </a:lnTo>
                    <a:lnTo>
                      <a:pt x="3903" y="147"/>
                    </a:lnTo>
                    <a:lnTo>
                      <a:pt x="3857" y="181"/>
                    </a:lnTo>
                    <a:lnTo>
                      <a:pt x="3804" y="218"/>
                    </a:lnTo>
                    <a:lnTo>
                      <a:pt x="3743" y="258"/>
                    </a:lnTo>
                    <a:lnTo>
                      <a:pt x="3672" y="301"/>
                    </a:lnTo>
                    <a:lnTo>
                      <a:pt x="3595" y="348"/>
                    </a:lnTo>
                    <a:lnTo>
                      <a:pt x="3506" y="398"/>
                    </a:lnTo>
                    <a:lnTo>
                      <a:pt x="3409" y="451"/>
                    </a:lnTo>
                    <a:lnTo>
                      <a:pt x="3349" y="482"/>
                    </a:lnTo>
                    <a:lnTo>
                      <a:pt x="3282" y="514"/>
                    </a:lnTo>
                    <a:lnTo>
                      <a:pt x="3211" y="546"/>
                    </a:lnTo>
                    <a:lnTo>
                      <a:pt x="3134" y="579"/>
                    </a:lnTo>
                    <a:lnTo>
                      <a:pt x="3051" y="614"/>
                    </a:lnTo>
                    <a:lnTo>
                      <a:pt x="2965" y="648"/>
                    </a:lnTo>
                    <a:lnTo>
                      <a:pt x="2874" y="682"/>
                    </a:lnTo>
                    <a:lnTo>
                      <a:pt x="2780" y="718"/>
                    </a:lnTo>
                    <a:lnTo>
                      <a:pt x="2683" y="754"/>
                    </a:lnTo>
                    <a:lnTo>
                      <a:pt x="2582" y="789"/>
                    </a:lnTo>
                    <a:lnTo>
                      <a:pt x="2480" y="826"/>
                    </a:lnTo>
                    <a:lnTo>
                      <a:pt x="2377" y="862"/>
                    </a:lnTo>
                    <a:lnTo>
                      <a:pt x="2165" y="935"/>
                    </a:lnTo>
                    <a:lnTo>
                      <a:pt x="1951" y="1005"/>
                    </a:lnTo>
                    <a:lnTo>
                      <a:pt x="1531" y="1141"/>
                    </a:lnTo>
                    <a:lnTo>
                      <a:pt x="1143" y="1265"/>
                    </a:lnTo>
                    <a:lnTo>
                      <a:pt x="971" y="1321"/>
                    </a:lnTo>
                    <a:lnTo>
                      <a:pt x="817" y="1371"/>
                    </a:lnTo>
                    <a:lnTo>
                      <a:pt x="687" y="1416"/>
                    </a:lnTo>
                    <a:lnTo>
                      <a:pt x="581" y="1454"/>
                    </a:lnTo>
                    <a:close/>
                  </a:path>
                </a:pathLst>
              </a:custGeom>
              <a:solidFill>
                <a:srgbClr val="6f5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5508720" y="2962440"/>
                <a:ext cx="1274760" cy="468360"/>
              </a:xfrm>
              <a:custGeom>
                <a:avLst/>
                <a:gdLst/>
                <a:ahLst/>
                <a:rect l="l" t="t" r="r" b="b"/>
                <a:pathLst>
                  <a:path w="4016" h="1477">
                    <a:moveTo>
                      <a:pt x="578" y="1375"/>
                    </a:moveTo>
                    <a:lnTo>
                      <a:pt x="518" y="1396"/>
                    </a:lnTo>
                    <a:lnTo>
                      <a:pt x="460" y="1414"/>
                    </a:lnTo>
                    <a:lnTo>
                      <a:pt x="404" y="1429"/>
                    </a:lnTo>
                    <a:lnTo>
                      <a:pt x="354" y="1443"/>
                    </a:lnTo>
                    <a:lnTo>
                      <a:pt x="305" y="1452"/>
                    </a:lnTo>
                    <a:lnTo>
                      <a:pt x="260" y="1460"/>
                    </a:lnTo>
                    <a:lnTo>
                      <a:pt x="219" y="1466"/>
                    </a:lnTo>
                    <a:lnTo>
                      <a:pt x="180" y="1471"/>
                    </a:lnTo>
                    <a:lnTo>
                      <a:pt x="147" y="1473"/>
                    </a:lnTo>
                    <a:lnTo>
                      <a:pt x="118" y="1476"/>
                    </a:lnTo>
                    <a:lnTo>
                      <a:pt x="92" y="1477"/>
                    </a:lnTo>
                    <a:lnTo>
                      <a:pt x="71" y="1477"/>
                    </a:lnTo>
                    <a:lnTo>
                      <a:pt x="41" y="1476"/>
                    </a:lnTo>
                    <a:lnTo>
                      <a:pt x="32" y="1476"/>
                    </a:lnTo>
                    <a:lnTo>
                      <a:pt x="21" y="1471"/>
                    </a:lnTo>
                    <a:lnTo>
                      <a:pt x="11" y="1463"/>
                    </a:lnTo>
                    <a:lnTo>
                      <a:pt x="7" y="1460"/>
                    </a:lnTo>
                    <a:lnTo>
                      <a:pt x="5" y="1455"/>
                    </a:lnTo>
                    <a:lnTo>
                      <a:pt x="2" y="1449"/>
                    </a:lnTo>
                    <a:lnTo>
                      <a:pt x="0" y="1443"/>
                    </a:lnTo>
                    <a:lnTo>
                      <a:pt x="0" y="1435"/>
                    </a:lnTo>
                    <a:lnTo>
                      <a:pt x="0" y="1428"/>
                    </a:lnTo>
                    <a:lnTo>
                      <a:pt x="2" y="1418"/>
                    </a:lnTo>
                    <a:lnTo>
                      <a:pt x="6" y="1408"/>
                    </a:lnTo>
                    <a:lnTo>
                      <a:pt x="9" y="1397"/>
                    </a:lnTo>
                    <a:lnTo>
                      <a:pt x="17" y="1386"/>
                    </a:lnTo>
                    <a:lnTo>
                      <a:pt x="24" y="1372"/>
                    </a:lnTo>
                    <a:lnTo>
                      <a:pt x="34" y="1359"/>
                    </a:lnTo>
                    <a:lnTo>
                      <a:pt x="57" y="1329"/>
                    </a:lnTo>
                    <a:lnTo>
                      <a:pt x="85" y="1300"/>
                    </a:lnTo>
                    <a:lnTo>
                      <a:pt x="99" y="1285"/>
                    </a:lnTo>
                    <a:lnTo>
                      <a:pt x="114" y="1272"/>
                    </a:lnTo>
                    <a:lnTo>
                      <a:pt x="131" y="1257"/>
                    </a:lnTo>
                    <a:lnTo>
                      <a:pt x="148" y="1242"/>
                    </a:lnTo>
                    <a:lnTo>
                      <a:pt x="166" y="1229"/>
                    </a:lnTo>
                    <a:lnTo>
                      <a:pt x="185" y="1215"/>
                    </a:lnTo>
                    <a:lnTo>
                      <a:pt x="205" y="1202"/>
                    </a:lnTo>
                    <a:lnTo>
                      <a:pt x="227" y="1188"/>
                    </a:lnTo>
                    <a:lnTo>
                      <a:pt x="249" y="1174"/>
                    </a:lnTo>
                    <a:lnTo>
                      <a:pt x="273" y="1161"/>
                    </a:lnTo>
                    <a:lnTo>
                      <a:pt x="297" y="1149"/>
                    </a:lnTo>
                    <a:lnTo>
                      <a:pt x="323" y="1136"/>
                    </a:lnTo>
                    <a:lnTo>
                      <a:pt x="350" y="1124"/>
                    </a:lnTo>
                    <a:lnTo>
                      <a:pt x="377" y="1112"/>
                    </a:lnTo>
                    <a:lnTo>
                      <a:pt x="407" y="1101"/>
                    </a:lnTo>
                    <a:lnTo>
                      <a:pt x="439" y="1088"/>
                    </a:lnTo>
                    <a:lnTo>
                      <a:pt x="471" y="1077"/>
                    </a:lnTo>
                    <a:lnTo>
                      <a:pt x="504" y="1067"/>
                    </a:lnTo>
                    <a:lnTo>
                      <a:pt x="540" y="1056"/>
                    </a:lnTo>
                    <a:lnTo>
                      <a:pt x="575" y="1047"/>
                    </a:lnTo>
                    <a:lnTo>
                      <a:pt x="614" y="1037"/>
                    </a:lnTo>
                    <a:lnTo>
                      <a:pt x="653" y="1028"/>
                    </a:lnTo>
                    <a:lnTo>
                      <a:pt x="695" y="1018"/>
                    </a:lnTo>
                    <a:lnTo>
                      <a:pt x="738" y="1010"/>
                    </a:lnTo>
                    <a:lnTo>
                      <a:pt x="782" y="1002"/>
                    </a:lnTo>
                    <a:lnTo>
                      <a:pt x="828" y="995"/>
                    </a:lnTo>
                    <a:lnTo>
                      <a:pt x="876" y="987"/>
                    </a:lnTo>
                    <a:lnTo>
                      <a:pt x="925" y="981"/>
                    </a:lnTo>
                    <a:lnTo>
                      <a:pt x="1026" y="969"/>
                    </a:lnTo>
                    <a:lnTo>
                      <a:pt x="1124" y="956"/>
                    </a:lnTo>
                    <a:lnTo>
                      <a:pt x="1223" y="942"/>
                    </a:lnTo>
                    <a:lnTo>
                      <a:pt x="1318" y="928"/>
                    </a:lnTo>
                    <a:lnTo>
                      <a:pt x="1414" y="914"/>
                    </a:lnTo>
                    <a:lnTo>
                      <a:pt x="1509" y="899"/>
                    </a:lnTo>
                    <a:lnTo>
                      <a:pt x="1604" y="882"/>
                    </a:lnTo>
                    <a:lnTo>
                      <a:pt x="1696" y="864"/>
                    </a:lnTo>
                    <a:lnTo>
                      <a:pt x="1790" y="846"/>
                    </a:lnTo>
                    <a:lnTo>
                      <a:pt x="1881" y="826"/>
                    </a:lnTo>
                    <a:lnTo>
                      <a:pt x="1972" y="807"/>
                    </a:lnTo>
                    <a:lnTo>
                      <a:pt x="2062" y="783"/>
                    </a:lnTo>
                    <a:lnTo>
                      <a:pt x="2153" y="760"/>
                    </a:lnTo>
                    <a:lnTo>
                      <a:pt x="2241" y="735"/>
                    </a:lnTo>
                    <a:lnTo>
                      <a:pt x="2331" y="708"/>
                    </a:lnTo>
                    <a:lnTo>
                      <a:pt x="2420" y="680"/>
                    </a:lnTo>
                    <a:lnTo>
                      <a:pt x="2514" y="647"/>
                    </a:lnTo>
                    <a:lnTo>
                      <a:pt x="2621" y="607"/>
                    </a:lnTo>
                    <a:lnTo>
                      <a:pt x="2738" y="564"/>
                    </a:lnTo>
                    <a:lnTo>
                      <a:pt x="2861" y="516"/>
                    </a:lnTo>
                    <a:lnTo>
                      <a:pt x="2989" y="466"/>
                    </a:lnTo>
                    <a:lnTo>
                      <a:pt x="3120" y="413"/>
                    </a:lnTo>
                    <a:lnTo>
                      <a:pt x="3249" y="360"/>
                    </a:lnTo>
                    <a:lnTo>
                      <a:pt x="3377" y="306"/>
                    </a:lnTo>
                    <a:lnTo>
                      <a:pt x="3499" y="254"/>
                    </a:lnTo>
                    <a:lnTo>
                      <a:pt x="3613" y="204"/>
                    </a:lnTo>
                    <a:lnTo>
                      <a:pt x="3719" y="156"/>
                    </a:lnTo>
                    <a:lnTo>
                      <a:pt x="3812" y="113"/>
                    </a:lnTo>
                    <a:lnTo>
                      <a:pt x="3891" y="75"/>
                    </a:lnTo>
                    <a:lnTo>
                      <a:pt x="3952" y="43"/>
                    </a:lnTo>
                    <a:lnTo>
                      <a:pt x="3977" y="29"/>
                    </a:lnTo>
                    <a:lnTo>
                      <a:pt x="3996" y="17"/>
                    </a:lnTo>
                    <a:lnTo>
                      <a:pt x="4009" y="8"/>
                    </a:lnTo>
                    <a:lnTo>
                      <a:pt x="4016" y="0"/>
                    </a:lnTo>
                    <a:lnTo>
                      <a:pt x="4010" y="7"/>
                    </a:lnTo>
                    <a:lnTo>
                      <a:pt x="3989" y="27"/>
                    </a:lnTo>
                    <a:lnTo>
                      <a:pt x="3971" y="42"/>
                    </a:lnTo>
                    <a:lnTo>
                      <a:pt x="3949" y="60"/>
                    </a:lnTo>
                    <a:lnTo>
                      <a:pt x="3920" y="81"/>
                    </a:lnTo>
                    <a:lnTo>
                      <a:pt x="3886" y="107"/>
                    </a:lnTo>
                    <a:lnTo>
                      <a:pt x="3845" y="135"/>
                    </a:lnTo>
                    <a:lnTo>
                      <a:pt x="3797" y="167"/>
                    </a:lnTo>
                    <a:lnTo>
                      <a:pt x="3742" y="202"/>
                    </a:lnTo>
                    <a:lnTo>
                      <a:pt x="3679" y="241"/>
                    </a:lnTo>
                    <a:lnTo>
                      <a:pt x="3609" y="284"/>
                    </a:lnTo>
                    <a:lnTo>
                      <a:pt x="3529" y="329"/>
                    </a:lnTo>
                    <a:lnTo>
                      <a:pt x="3441" y="379"/>
                    </a:lnTo>
                    <a:lnTo>
                      <a:pt x="3343" y="433"/>
                    </a:lnTo>
                    <a:lnTo>
                      <a:pt x="3281" y="465"/>
                    </a:lnTo>
                    <a:lnTo>
                      <a:pt x="3213" y="497"/>
                    </a:lnTo>
                    <a:lnTo>
                      <a:pt x="3140" y="529"/>
                    </a:lnTo>
                    <a:lnTo>
                      <a:pt x="3063" y="562"/>
                    </a:lnTo>
                    <a:lnTo>
                      <a:pt x="2981" y="596"/>
                    </a:lnTo>
                    <a:lnTo>
                      <a:pt x="2894" y="630"/>
                    </a:lnTo>
                    <a:lnTo>
                      <a:pt x="2806" y="663"/>
                    </a:lnTo>
                    <a:lnTo>
                      <a:pt x="2714" y="697"/>
                    </a:lnTo>
                    <a:lnTo>
                      <a:pt x="2618" y="732"/>
                    </a:lnTo>
                    <a:lnTo>
                      <a:pt x="2520" y="765"/>
                    </a:lnTo>
                    <a:lnTo>
                      <a:pt x="2421" y="799"/>
                    </a:lnTo>
                    <a:lnTo>
                      <a:pt x="2320" y="833"/>
                    </a:lnTo>
                    <a:lnTo>
                      <a:pt x="2114" y="899"/>
                    </a:lnTo>
                    <a:lnTo>
                      <a:pt x="1908" y="964"/>
                    </a:lnTo>
                    <a:lnTo>
                      <a:pt x="1502" y="1090"/>
                    </a:lnTo>
                    <a:lnTo>
                      <a:pt x="1128" y="1202"/>
                    </a:lnTo>
                    <a:lnTo>
                      <a:pt x="960" y="1252"/>
                    </a:lnTo>
                    <a:lnTo>
                      <a:pt x="812" y="1299"/>
                    </a:lnTo>
                    <a:lnTo>
                      <a:pt x="682" y="1339"/>
                    </a:lnTo>
                    <a:lnTo>
                      <a:pt x="578" y="1375"/>
                    </a:lnTo>
                    <a:close/>
                  </a:path>
                </a:pathLst>
              </a:custGeom>
              <a:solidFill>
                <a:srgbClr val="735f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5511960" y="2967120"/>
                <a:ext cx="1261800" cy="457200"/>
              </a:xfrm>
              <a:custGeom>
                <a:avLst/>
                <a:gdLst/>
                <a:ahLst/>
                <a:rect l="l" t="t" r="r" b="b"/>
                <a:pathLst>
                  <a:path w="3976" h="1437">
                    <a:moveTo>
                      <a:pt x="577" y="1296"/>
                    </a:moveTo>
                    <a:lnTo>
                      <a:pt x="526" y="1314"/>
                    </a:lnTo>
                    <a:lnTo>
                      <a:pt x="476" y="1331"/>
                    </a:lnTo>
                    <a:lnTo>
                      <a:pt x="427" y="1346"/>
                    </a:lnTo>
                    <a:lnTo>
                      <a:pt x="379" y="1361"/>
                    </a:lnTo>
                    <a:lnTo>
                      <a:pt x="290" y="1385"/>
                    </a:lnTo>
                    <a:lnTo>
                      <a:pt x="213" y="1404"/>
                    </a:lnTo>
                    <a:lnTo>
                      <a:pt x="147" y="1419"/>
                    </a:lnTo>
                    <a:lnTo>
                      <a:pt x="98" y="1430"/>
                    </a:lnTo>
                    <a:lnTo>
                      <a:pt x="66" y="1436"/>
                    </a:lnTo>
                    <a:lnTo>
                      <a:pt x="55" y="1437"/>
                    </a:lnTo>
                    <a:lnTo>
                      <a:pt x="39" y="1436"/>
                    </a:lnTo>
                    <a:lnTo>
                      <a:pt x="24" y="1433"/>
                    </a:lnTo>
                    <a:lnTo>
                      <a:pt x="17" y="1431"/>
                    </a:lnTo>
                    <a:lnTo>
                      <a:pt x="12" y="1429"/>
                    </a:lnTo>
                    <a:lnTo>
                      <a:pt x="7" y="1425"/>
                    </a:lnTo>
                    <a:lnTo>
                      <a:pt x="3" y="1420"/>
                    </a:lnTo>
                    <a:lnTo>
                      <a:pt x="1" y="1414"/>
                    </a:lnTo>
                    <a:lnTo>
                      <a:pt x="0" y="1408"/>
                    </a:lnTo>
                    <a:lnTo>
                      <a:pt x="0" y="1400"/>
                    </a:lnTo>
                    <a:lnTo>
                      <a:pt x="2" y="1392"/>
                    </a:lnTo>
                    <a:lnTo>
                      <a:pt x="6" y="1382"/>
                    </a:lnTo>
                    <a:lnTo>
                      <a:pt x="11" y="1371"/>
                    </a:lnTo>
                    <a:lnTo>
                      <a:pt x="19" y="1358"/>
                    </a:lnTo>
                    <a:lnTo>
                      <a:pt x="28" y="1345"/>
                    </a:lnTo>
                    <a:lnTo>
                      <a:pt x="53" y="1315"/>
                    </a:lnTo>
                    <a:lnTo>
                      <a:pt x="78" y="1286"/>
                    </a:lnTo>
                    <a:lnTo>
                      <a:pt x="93" y="1271"/>
                    </a:lnTo>
                    <a:lnTo>
                      <a:pt x="108" y="1258"/>
                    </a:lnTo>
                    <a:lnTo>
                      <a:pt x="124" y="1243"/>
                    </a:lnTo>
                    <a:lnTo>
                      <a:pt x="141" y="1228"/>
                    </a:lnTo>
                    <a:lnTo>
                      <a:pt x="160" y="1214"/>
                    </a:lnTo>
                    <a:lnTo>
                      <a:pt x="178" y="1200"/>
                    </a:lnTo>
                    <a:lnTo>
                      <a:pt x="199" y="1186"/>
                    </a:lnTo>
                    <a:lnTo>
                      <a:pt x="220" y="1173"/>
                    </a:lnTo>
                    <a:lnTo>
                      <a:pt x="241" y="1159"/>
                    </a:lnTo>
                    <a:lnTo>
                      <a:pt x="264" y="1146"/>
                    </a:lnTo>
                    <a:lnTo>
                      <a:pt x="289" y="1132"/>
                    </a:lnTo>
                    <a:lnTo>
                      <a:pt x="315" y="1120"/>
                    </a:lnTo>
                    <a:lnTo>
                      <a:pt x="340" y="1107"/>
                    </a:lnTo>
                    <a:lnTo>
                      <a:pt x="369" y="1095"/>
                    </a:lnTo>
                    <a:lnTo>
                      <a:pt x="398" y="1083"/>
                    </a:lnTo>
                    <a:lnTo>
                      <a:pt x="429" y="1072"/>
                    </a:lnTo>
                    <a:lnTo>
                      <a:pt x="461" y="1061"/>
                    </a:lnTo>
                    <a:lnTo>
                      <a:pt x="494" y="1050"/>
                    </a:lnTo>
                    <a:lnTo>
                      <a:pt x="529" y="1039"/>
                    </a:lnTo>
                    <a:lnTo>
                      <a:pt x="566" y="1029"/>
                    </a:lnTo>
                    <a:lnTo>
                      <a:pt x="604" y="1019"/>
                    </a:lnTo>
                    <a:lnTo>
                      <a:pt x="643" y="1009"/>
                    </a:lnTo>
                    <a:lnTo>
                      <a:pt x="684" y="1000"/>
                    </a:lnTo>
                    <a:lnTo>
                      <a:pt x="727" y="992"/>
                    </a:lnTo>
                    <a:lnTo>
                      <a:pt x="771" y="983"/>
                    </a:lnTo>
                    <a:lnTo>
                      <a:pt x="817" y="976"/>
                    </a:lnTo>
                    <a:lnTo>
                      <a:pt x="865" y="968"/>
                    </a:lnTo>
                    <a:lnTo>
                      <a:pt x="914" y="962"/>
                    </a:lnTo>
                    <a:lnTo>
                      <a:pt x="1015" y="950"/>
                    </a:lnTo>
                    <a:lnTo>
                      <a:pt x="1113" y="937"/>
                    </a:lnTo>
                    <a:lnTo>
                      <a:pt x="1212" y="923"/>
                    </a:lnTo>
                    <a:lnTo>
                      <a:pt x="1307" y="909"/>
                    </a:lnTo>
                    <a:lnTo>
                      <a:pt x="1403" y="895"/>
                    </a:lnTo>
                    <a:lnTo>
                      <a:pt x="1498" y="880"/>
                    </a:lnTo>
                    <a:lnTo>
                      <a:pt x="1593" y="863"/>
                    </a:lnTo>
                    <a:lnTo>
                      <a:pt x="1685" y="845"/>
                    </a:lnTo>
                    <a:lnTo>
                      <a:pt x="1779" y="827"/>
                    </a:lnTo>
                    <a:lnTo>
                      <a:pt x="1870" y="807"/>
                    </a:lnTo>
                    <a:lnTo>
                      <a:pt x="1961" y="788"/>
                    </a:lnTo>
                    <a:lnTo>
                      <a:pt x="2051" y="764"/>
                    </a:lnTo>
                    <a:lnTo>
                      <a:pt x="2142" y="741"/>
                    </a:lnTo>
                    <a:lnTo>
                      <a:pt x="2230" y="716"/>
                    </a:lnTo>
                    <a:lnTo>
                      <a:pt x="2320" y="689"/>
                    </a:lnTo>
                    <a:lnTo>
                      <a:pt x="2409" y="661"/>
                    </a:lnTo>
                    <a:lnTo>
                      <a:pt x="2503" y="628"/>
                    </a:lnTo>
                    <a:lnTo>
                      <a:pt x="2609" y="590"/>
                    </a:lnTo>
                    <a:lnTo>
                      <a:pt x="2724" y="547"/>
                    </a:lnTo>
                    <a:lnTo>
                      <a:pt x="2845" y="500"/>
                    </a:lnTo>
                    <a:lnTo>
                      <a:pt x="2971" y="451"/>
                    </a:lnTo>
                    <a:lnTo>
                      <a:pt x="3098" y="399"/>
                    </a:lnTo>
                    <a:lnTo>
                      <a:pt x="3224" y="347"/>
                    </a:lnTo>
                    <a:lnTo>
                      <a:pt x="3350" y="296"/>
                    </a:lnTo>
                    <a:lnTo>
                      <a:pt x="3469" y="245"/>
                    </a:lnTo>
                    <a:lnTo>
                      <a:pt x="3581" y="196"/>
                    </a:lnTo>
                    <a:lnTo>
                      <a:pt x="3683" y="151"/>
                    </a:lnTo>
                    <a:lnTo>
                      <a:pt x="3774" y="109"/>
                    </a:lnTo>
                    <a:lnTo>
                      <a:pt x="3852" y="72"/>
                    </a:lnTo>
                    <a:lnTo>
                      <a:pt x="3912" y="41"/>
                    </a:lnTo>
                    <a:lnTo>
                      <a:pt x="3937" y="28"/>
                    </a:lnTo>
                    <a:lnTo>
                      <a:pt x="3955" y="16"/>
                    </a:lnTo>
                    <a:lnTo>
                      <a:pt x="3969" y="8"/>
                    </a:lnTo>
                    <a:lnTo>
                      <a:pt x="3976" y="0"/>
                    </a:lnTo>
                    <a:lnTo>
                      <a:pt x="3969" y="5"/>
                    </a:lnTo>
                    <a:lnTo>
                      <a:pt x="3944" y="23"/>
                    </a:lnTo>
                    <a:lnTo>
                      <a:pt x="3901" y="52"/>
                    </a:lnTo>
                    <a:lnTo>
                      <a:pt x="3834" y="94"/>
                    </a:lnTo>
                    <a:lnTo>
                      <a:pt x="3742" y="151"/>
                    </a:lnTo>
                    <a:lnTo>
                      <a:pt x="3620" y="221"/>
                    </a:lnTo>
                    <a:lnTo>
                      <a:pt x="3549" y="261"/>
                    </a:lnTo>
                    <a:lnTo>
                      <a:pt x="3468" y="306"/>
                    </a:lnTo>
                    <a:lnTo>
                      <a:pt x="3379" y="355"/>
                    </a:lnTo>
                    <a:lnTo>
                      <a:pt x="3281" y="408"/>
                    </a:lnTo>
                    <a:lnTo>
                      <a:pt x="3216" y="441"/>
                    </a:lnTo>
                    <a:lnTo>
                      <a:pt x="3147" y="474"/>
                    </a:lnTo>
                    <a:lnTo>
                      <a:pt x="3073" y="507"/>
                    </a:lnTo>
                    <a:lnTo>
                      <a:pt x="2995" y="540"/>
                    </a:lnTo>
                    <a:lnTo>
                      <a:pt x="2913" y="574"/>
                    </a:lnTo>
                    <a:lnTo>
                      <a:pt x="2828" y="607"/>
                    </a:lnTo>
                    <a:lnTo>
                      <a:pt x="2740" y="639"/>
                    </a:lnTo>
                    <a:lnTo>
                      <a:pt x="2650" y="672"/>
                    </a:lnTo>
                    <a:lnTo>
                      <a:pt x="2556" y="704"/>
                    </a:lnTo>
                    <a:lnTo>
                      <a:pt x="2460" y="736"/>
                    </a:lnTo>
                    <a:lnTo>
                      <a:pt x="2363" y="768"/>
                    </a:lnTo>
                    <a:lnTo>
                      <a:pt x="2266" y="800"/>
                    </a:lnTo>
                    <a:lnTo>
                      <a:pt x="2067" y="861"/>
                    </a:lnTo>
                    <a:lnTo>
                      <a:pt x="1867" y="922"/>
                    </a:lnTo>
                    <a:lnTo>
                      <a:pt x="1476" y="1034"/>
                    </a:lnTo>
                    <a:lnTo>
                      <a:pt x="1116" y="1136"/>
                    </a:lnTo>
                    <a:lnTo>
                      <a:pt x="953" y="1181"/>
                    </a:lnTo>
                    <a:lnTo>
                      <a:pt x="808" y="1224"/>
                    </a:lnTo>
                    <a:lnTo>
                      <a:pt x="681" y="1262"/>
                    </a:lnTo>
                    <a:lnTo>
                      <a:pt x="577" y="1296"/>
                    </a:lnTo>
                    <a:close/>
                  </a:path>
                </a:pathLst>
              </a:custGeom>
              <a:solidFill>
                <a:srgbClr val="786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5514840" y="2973600"/>
                <a:ext cx="1249560" cy="446040"/>
              </a:xfrm>
              <a:custGeom>
                <a:avLst/>
                <a:gdLst/>
                <a:ahLst/>
                <a:rect l="l" t="t" r="r" b="b"/>
                <a:pathLst>
                  <a:path w="3934" h="1402">
                    <a:moveTo>
                      <a:pt x="578" y="1215"/>
                    </a:moveTo>
                    <a:lnTo>
                      <a:pt x="493" y="1245"/>
                    </a:lnTo>
                    <a:lnTo>
                      <a:pt x="406" y="1275"/>
                    </a:lnTo>
                    <a:lnTo>
                      <a:pt x="322" y="1306"/>
                    </a:lnTo>
                    <a:lnTo>
                      <a:pt x="244" y="1334"/>
                    </a:lnTo>
                    <a:lnTo>
                      <a:pt x="178" y="1359"/>
                    </a:lnTo>
                    <a:lnTo>
                      <a:pt x="125" y="1379"/>
                    </a:lnTo>
                    <a:lnTo>
                      <a:pt x="91" y="1392"/>
                    </a:lnTo>
                    <a:lnTo>
                      <a:pt x="78" y="1396"/>
                    </a:lnTo>
                    <a:lnTo>
                      <a:pt x="56" y="1401"/>
                    </a:lnTo>
                    <a:lnTo>
                      <a:pt x="36" y="1402"/>
                    </a:lnTo>
                    <a:lnTo>
                      <a:pt x="28" y="1402"/>
                    </a:lnTo>
                    <a:lnTo>
                      <a:pt x="19" y="1401"/>
                    </a:lnTo>
                    <a:lnTo>
                      <a:pt x="13" y="1400"/>
                    </a:lnTo>
                    <a:lnTo>
                      <a:pt x="7" y="1396"/>
                    </a:lnTo>
                    <a:lnTo>
                      <a:pt x="3" y="1392"/>
                    </a:lnTo>
                    <a:lnTo>
                      <a:pt x="1" y="1387"/>
                    </a:lnTo>
                    <a:lnTo>
                      <a:pt x="0" y="1381"/>
                    </a:lnTo>
                    <a:lnTo>
                      <a:pt x="0" y="1374"/>
                    </a:lnTo>
                    <a:lnTo>
                      <a:pt x="2" y="1364"/>
                    </a:lnTo>
                    <a:lnTo>
                      <a:pt x="7" y="1354"/>
                    </a:lnTo>
                    <a:lnTo>
                      <a:pt x="14" y="1342"/>
                    </a:lnTo>
                    <a:lnTo>
                      <a:pt x="24" y="1328"/>
                    </a:lnTo>
                    <a:lnTo>
                      <a:pt x="48" y="1299"/>
                    </a:lnTo>
                    <a:lnTo>
                      <a:pt x="73" y="1269"/>
                    </a:lnTo>
                    <a:lnTo>
                      <a:pt x="88" y="1255"/>
                    </a:lnTo>
                    <a:lnTo>
                      <a:pt x="103" y="1241"/>
                    </a:lnTo>
                    <a:lnTo>
                      <a:pt x="119" y="1226"/>
                    </a:lnTo>
                    <a:lnTo>
                      <a:pt x="136" y="1211"/>
                    </a:lnTo>
                    <a:lnTo>
                      <a:pt x="153" y="1197"/>
                    </a:lnTo>
                    <a:lnTo>
                      <a:pt x="173" y="1183"/>
                    </a:lnTo>
                    <a:lnTo>
                      <a:pt x="193" y="1170"/>
                    </a:lnTo>
                    <a:lnTo>
                      <a:pt x="214" y="1155"/>
                    </a:lnTo>
                    <a:lnTo>
                      <a:pt x="235" y="1141"/>
                    </a:lnTo>
                    <a:lnTo>
                      <a:pt x="258" y="1128"/>
                    </a:lnTo>
                    <a:lnTo>
                      <a:pt x="281" y="1116"/>
                    </a:lnTo>
                    <a:lnTo>
                      <a:pt x="307" y="1102"/>
                    </a:lnTo>
                    <a:lnTo>
                      <a:pt x="334" y="1090"/>
                    </a:lnTo>
                    <a:lnTo>
                      <a:pt x="361" y="1077"/>
                    </a:lnTo>
                    <a:lnTo>
                      <a:pt x="391" y="1065"/>
                    </a:lnTo>
                    <a:lnTo>
                      <a:pt x="420" y="1053"/>
                    </a:lnTo>
                    <a:lnTo>
                      <a:pt x="452" y="1042"/>
                    </a:lnTo>
                    <a:lnTo>
                      <a:pt x="485" y="1031"/>
                    </a:lnTo>
                    <a:lnTo>
                      <a:pt x="520" y="1020"/>
                    </a:lnTo>
                    <a:lnTo>
                      <a:pt x="557" y="1010"/>
                    </a:lnTo>
                    <a:lnTo>
                      <a:pt x="594" y="1000"/>
                    </a:lnTo>
                    <a:lnTo>
                      <a:pt x="633" y="990"/>
                    </a:lnTo>
                    <a:lnTo>
                      <a:pt x="674" y="981"/>
                    </a:lnTo>
                    <a:lnTo>
                      <a:pt x="717" y="973"/>
                    </a:lnTo>
                    <a:lnTo>
                      <a:pt x="761" y="964"/>
                    </a:lnTo>
                    <a:lnTo>
                      <a:pt x="807" y="957"/>
                    </a:lnTo>
                    <a:lnTo>
                      <a:pt x="855" y="949"/>
                    </a:lnTo>
                    <a:lnTo>
                      <a:pt x="904" y="943"/>
                    </a:lnTo>
                    <a:lnTo>
                      <a:pt x="1005" y="931"/>
                    </a:lnTo>
                    <a:lnTo>
                      <a:pt x="1103" y="918"/>
                    </a:lnTo>
                    <a:lnTo>
                      <a:pt x="1202" y="904"/>
                    </a:lnTo>
                    <a:lnTo>
                      <a:pt x="1297" y="890"/>
                    </a:lnTo>
                    <a:lnTo>
                      <a:pt x="1393" y="876"/>
                    </a:lnTo>
                    <a:lnTo>
                      <a:pt x="1488" y="861"/>
                    </a:lnTo>
                    <a:lnTo>
                      <a:pt x="1583" y="844"/>
                    </a:lnTo>
                    <a:lnTo>
                      <a:pt x="1675" y="826"/>
                    </a:lnTo>
                    <a:lnTo>
                      <a:pt x="1769" y="808"/>
                    </a:lnTo>
                    <a:lnTo>
                      <a:pt x="1860" y="788"/>
                    </a:lnTo>
                    <a:lnTo>
                      <a:pt x="1951" y="769"/>
                    </a:lnTo>
                    <a:lnTo>
                      <a:pt x="2041" y="745"/>
                    </a:lnTo>
                    <a:lnTo>
                      <a:pt x="2132" y="722"/>
                    </a:lnTo>
                    <a:lnTo>
                      <a:pt x="2220" y="697"/>
                    </a:lnTo>
                    <a:lnTo>
                      <a:pt x="2310" y="670"/>
                    </a:lnTo>
                    <a:lnTo>
                      <a:pt x="2399" y="642"/>
                    </a:lnTo>
                    <a:lnTo>
                      <a:pt x="2493" y="609"/>
                    </a:lnTo>
                    <a:lnTo>
                      <a:pt x="2598" y="572"/>
                    </a:lnTo>
                    <a:lnTo>
                      <a:pt x="2711" y="529"/>
                    </a:lnTo>
                    <a:lnTo>
                      <a:pt x="2830" y="485"/>
                    </a:lnTo>
                    <a:lnTo>
                      <a:pt x="2953" y="437"/>
                    </a:lnTo>
                    <a:lnTo>
                      <a:pt x="3078" y="386"/>
                    </a:lnTo>
                    <a:lnTo>
                      <a:pt x="3202" y="337"/>
                    </a:lnTo>
                    <a:lnTo>
                      <a:pt x="3324" y="287"/>
                    </a:lnTo>
                    <a:lnTo>
                      <a:pt x="3441" y="237"/>
                    </a:lnTo>
                    <a:lnTo>
                      <a:pt x="3550" y="191"/>
                    </a:lnTo>
                    <a:lnTo>
                      <a:pt x="3650" y="146"/>
                    </a:lnTo>
                    <a:lnTo>
                      <a:pt x="3738" y="106"/>
                    </a:lnTo>
                    <a:lnTo>
                      <a:pt x="3813" y="70"/>
                    </a:lnTo>
                    <a:lnTo>
                      <a:pt x="3872" y="41"/>
                    </a:lnTo>
                    <a:lnTo>
                      <a:pt x="3895" y="27"/>
                    </a:lnTo>
                    <a:lnTo>
                      <a:pt x="3913" y="17"/>
                    </a:lnTo>
                    <a:lnTo>
                      <a:pt x="3925" y="7"/>
                    </a:lnTo>
                    <a:lnTo>
                      <a:pt x="3934" y="0"/>
                    </a:lnTo>
                    <a:lnTo>
                      <a:pt x="3925" y="5"/>
                    </a:lnTo>
                    <a:lnTo>
                      <a:pt x="3898" y="20"/>
                    </a:lnTo>
                    <a:lnTo>
                      <a:pt x="3852" y="44"/>
                    </a:lnTo>
                    <a:lnTo>
                      <a:pt x="3781" y="82"/>
                    </a:lnTo>
                    <a:lnTo>
                      <a:pt x="3685" y="133"/>
                    </a:lnTo>
                    <a:lnTo>
                      <a:pt x="3561" y="200"/>
                    </a:lnTo>
                    <a:lnTo>
                      <a:pt x="3406" y="283"/>
                    </a:lnTo>
                    <a:lnTo>
                      <a:pt x="3219" y="384"/>
                    </a:lnTo>
                    <a:lnTo>
                      <a:pt x="3153" y="418"/>
                    </a:lnTo>
                    <a:lnTo>
                      <a:pt x="3081" y="453"/>
                    </a:lnTo>
                    <a:lnTo>
                      <a:pt x="3006" y="486"/>
                    </a:lnTo>
                    <a:lnTo>
                      <a:pt x="2929" y="519"/>
                    </a:lnTo>
                    <a:lnTo>
                      <a:pt x="2846" y="552"/>
                    </a:lnTo>
                    <a:lnTo>
                      <a:pt x="2763" y="584"/>
                    </a:lnTo>
                    <a:lnTo>
                      <a:pt x="2675" y="616"/>
                    </a:lnTo>
                    <a:lnTo>
                      <a:pt x="2587" y="648"/>
                    </a:lnTo>
                    <a:lnTo>
                      <a:pt x="2495" y="679"/>
                    </a:lnTo>
                    <a:lnTo>
                      <a:pt x="2402" y="708"/>
                    </a:lnTo>
                    <a:lnTo>
                      <a:pt x="2308" y="738"/>
                    </a:lnTo>
                    <a:lnTo>
                      <a:pt x="2213" y="767"/>
                    </a:lnTo>
                    <a:lnTo>
                      <a:pt x="2020" y="824"/>
                    </a:lnTo>
                    <a:lnTo>
                      <a:pt x="1828" y="878"/>
                    </a:lnTo>
                    <a:lnTo>
                      <a:pt x="1637" y="930"/>
                    </a:lnTo>
                    <a:lnTo>
                      <a:pt x="1451" y="979"/>
                    </a:lnTo>
                    <a:lnTo>
                      <a:pt x="1273" y="1026"/>
                    </a:lnTo>
                    <a:lnTo>
                      <a:pt x="1104" y="1070"/>
                    </a:lnTo>
                    <a:lnTo>
                      <a:pt x="948" y="1111"/>
                    </a:lnTo>
                    <a:lnTo>
                      <a:pt x="807" y="1149"/>
                    </a:lnTo>
                    <a:lnTo>
                      <a:pt x="741" y="1166"/>
                    </a:lnTo>
                    <a:lnTo>
                      <a:pt x="682" y="1183"/>
                    </a:lnTo>
                    <a:lnTo>
                      <a:pt x="627" y="1199"/>
                    </a:lnTo>
                    <a:lnTo>
                      <a:pt x="578" y="1215"/>
                    </a:lnTo>
                    <a:close/>
                  </a:path>
                </a:pathLst>
              </a:custGeom>
              <a:solidFill>
                <a:srgbClr val="7b6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5518080" y="2979720"/>
                <a:ext cx="1235160" cy="436680"/>
              </a:xfrm>
              <a:custGeom>
                <a:avLst/>
                <a:gdLst/>
                <a:ahLst/>
                <a:rect l="l" t="t" r="r" b="b"/>
                <a:pathLst>
                  <a:path w="3892" h="1374">
                    <a:moveTo>
                      <a:pt x="3892" y="0"/>
                    </a:moveTo>
                    <a:lnTo>
                      <a:pt x="3884" y="7"/>
                    </a:lnTo>
                    <a:lnTo>
                      <a:pt x="3872" y="16"/>
                    </a:lnTo>
                    <a:lnTo>
                      <a:pt x="3854" y="27"/>
                    </a:lnTo>
                    <a:lnTo>
                      <a:pt x="3831" y="39"/>
                    </a:lnTo>
                    <a:lnTo>
                      <a:pt x="3775" y="67"/>
                    </a:lnTo>
                    <a:lnTo>
                      <a:pt x="3702" y="102"/>
                    </a:lnTo>
                    <a:lnTo>
                      <a:pt x="3616" y="141"/>
                    </a:lnTo>
                    <a:lnTo>
                      <a:pt x="3519" y="183"/>
                    </a:lnTo>
                    <a:lnTo>
                      <a:pt x="3412" y="228"/>
                    </a:lnTo>
                    <a:lnTo>
                      <a:pt x="3299" y="276"/>
                    </a:lnTo>
                    <a:lnTo>
                      <a:pt x="3181" y="324"/>
                    </a:lnTo>
                    <a:lnTo>
                      <a:pt x="3059" y="372"/>
                    </a:lnTo>
                    <a:lnTo>
                      <a:pt x="2937" y="420"/>
                    </a:lnTo>
                    <a:lnTo>
                      <a:pt x="2816" y="467"/>
                    </a:lnTo>
                    <a:lnTo>
                      <a:pt x="2700" y="511"/>
                    </a:lnTo>
                    <a:lnTo>
                      <a:pt x="2588" y="552"/>
                    </a:lnTo>
                    <a:lnTo>
                      <a:pt x="2483" y="589"/>
                    </a:lnTo>
                    <a:lnTo>
                      <a:pt x="2390" y="622"/>
                    </a:lnTo>
                    <a:lnTo>
                      <a:pt x="2301" y="650"/>
                    </a:lnTo>
                    <a:lnTo>
                      <a:pt x="2211" y="677"/>
                    </a:lnTo>
                    <a:lnTo>
                      <a:pt x="2123" y="702"/>
                    </a:lnTo>
                    <a:lnTo>
                      <a:pt x="2032" y="725"/>
                    </a:lnTo>
                    <a:lnTo>
                      <a:pt x="1942" y="749"/>
                    </a:lnTo>
                    <a:lnTo>
                      <a:pt x="1851" y="768"/>
                    </a:lnTo>
                    <a:lnTo>
                      <a:pt x="1760" y="788"/>
                    </a:lnTo>
                    <a:lnTo>
                      <a:pt x="1666" y="806"/>
                    </a:lnTo>
                    <a:lnTo>
                      <a:pt x="1574" y="824"/>
                    </a:lnTo>
                    <a:lnTo>
                      <a:pt x="1479" y="841"/>
                    </a:lnTo>
                    <a:lnTo>
                      <a:pt x="1384" y="856"/>
                    </a:lnTo>
                    <a:lnTo>
                      <a:pt x="1288" y="870"/>
                    </a:lnTo>
                    <a:lnTo>
                      <a:pt x="1193" y="884"/>
                    </a:lnTo>
                    <a:lnTo>
                      <a:pt x="1094" y="898"/>
                    </a:lnTo>
                    <a:lnTo>
                      <a:pt x="996" y="911"/>
                    </a:lnTo>
                    <a:lnTo>
                      <a:pt x="895" y="923"/>
                    </a:lnTo>
                    <a:lnTo>
                      <a:pt x="846" y="929"/>
                    </a:lnTo>
                    <a:lnTo>
                      <a:pt x="798" y="937"/>
                    </a:lnTo>
                    <a:lnTo>
                      <a:pt x="752" y="944"/>
                    </a:lnTo>
                    <a:lnTo>
                      <a:pt x="708" y="953"/>
                    </a:lnTo>
                    <a:lnTo>
                      <a:pt x="666" y="961"/>
                    </a:lnTo>
                    <a:lnTo>
                      <a:pt x="625" y="970"/>
                    </a:lnTo>
                    <a:lnTo>
                      <a:pt x="586" y="980"/>
                    </a:lnTo>
                    <a:lnTo>
                      <a:pt x="548" y="990"/>
                    </a:lnTo>
                    <a:lnTo>
                      <a:pt x="512" y="1001"/>
                    </a:lnTo>
                    <a:lnTo>
                      <a:pt x="478" y="1012"/>
                    </a:lnTo>
                    <a:lnTo>
                      <a:pt x="445" y="1023"/>
                    </a:lnTo>
                    <a:lnTo>
                      <a:pt x="414" y="1034"/>
                    </a:lnTo>
                    <a:lnTo>
                      <a:pt x="383" y="1046"/>
                    </a:lnTo>
                    <a:lnTo>
                      <a:pt x="355" y="1059"/>
                    </a:lnTo>
                    <a:lnTo>
                      <a:pt x="328" y="1071"/>
                    </a:lnTo>
                    <a:lnTo>
                      <a:pt x="301" y="1083"/>
                    </a:lnTo>
                    <a:lnTo>
                      <a:pt x="276" y="1097"/>
                    </a:lnTo>
                    <a:lnTo>
                      <a:pt x="253" y="1110"/>
                    </a:lnTo>
                    <a:lnTo>
                      <a:pt x="230" y="1124"/>
                    </a:lnTo>
                    <a:lnTo>
                      <a:pt x="208" y="1137"/>
                    </a:lnTo>
                    <a:lnTo>
                      <a:pt x="189" y="1151"/>
                    </a:lnTo>
                    <a:lnTo>
                      <a:pt x="169" y="1166"/>
                    </a:lnTo>
                    <a:lnTo>
                      <a:pt x="150" y="1179"/>
                    </a:lnTo>
                    <a:lnTo>
                      <a:pt x="133" y="1194"/>
                    </a:lnTo>
                    <a:lnTo>
                      <a:pt x="116" y="1209"/>
                    </a:lnTo>
                    <a:lnTo>
                      <a:pt x="101" y="1223"/>
                    </a:lnTo>
                    <a:lnTo>
                      <a:pt x="86" y="1237"/>
                    </a:lnTo>
                    <a:lnTo>
                      <a:pt x="72" y="1252"/>
                    </a:lnTo>
                    <a:lnTo>
                      <a:pt x="46" y="1281"/>
                    </a:lnTo>
                    <a:lnTo>
                      <a:pt x="23" y="1311"/>
                    </a:lnTo>
                    <a:lnTo>
                      <a:pt x="13" y="1324"/>
                    </a:lnTo>
                    <a:lnTo>
                      <a:pt x="7" y="1337"/>
                    </a:lnTo>
                    <a:lnTo>
                      <a:pt x="2" y="1346"/>
                    </a:lnTo>
                    <a:lnTo>
                      <a:pt x="0" y="1354"/>
                    </a:lnTo>
                    <a:lnTo>
                      <a:pt x="0" y="1361"/>
                    </a:lnTo>
                    <a:lnTo>
                      <a:pt x="3" y="1366"/>
                    </a:lnTo>
                    <a:lnTo>
                      <a:pt x="7" y="1370"/>
                    </a:lnTo>
                    <a:lnTo>
                      <a:pt x="13" y="1372"/>
                    </a:lnTo>
                    <a:lnTo>
                      <a:pt x="20" y="1374"/>
                    </a:lnTo>
                    <a:lnTo>
                      <a:pt x="29" y="1374"/>
                    </a:lnTo>
                    <a:lnTo>
                      <a:pt x="39" y="1372"/>
                    </a:lnTo>
                    <a:lnTo>
                      <a:pt x="50" y="1370"/>
                    </a:lnTo>
                    <a:lnTo>
                      <a:pt x="75" y="1364"/>
                    </a:lnTo>
                    <a:lnTo>
                      <a:pt x="101" y="1355"/>
                    </a:lnTo>
                    <a:lnTo>
                      <a:pt x="115" y="1348"/>
                    </a:lnTo>
                    <a:lnTo>
                      <a:pt x="153" y="1328"/>
                    </a:lnTo>
                    <a:lnTo>
                      <a:pt x="208" y="1298"/>
                    </a:lnTo>
                    <a:lnTo>
                      <a:pt x="277" y="1264"/>
                    </a:lnTo>
                    <a:lnTo>
                      <a:pt x="353" y="1227"/>
                    </a:lnTo>
                    <a:lnTo>
                      <a:pt x="433" y="1191"/>
                    </a:lnTo>
                    <a:lnTo>
                      <a:pt x="473" y="1174"/>
                    </a:lnTo>
                    <a:lnTo>
                      <a:pt x="510" y="1159"/>
                    </a:lnTo>
                    <a:lnTo>
                      <a:pt x="547" y="1146"/>
                    </a:lnTo>
                    <a:lnTo>
                      <a:pt x="580" y="1135"/>
                    </a:lnTo>
                    <a:lnTo>
                      <a:pt x="629" y="1120"/>
                    </a:lnTo>
                    <a:lnTo>
                      <a:pt x="683" y="1105"/>
                    </a:lnTo>
                    <a:lnTo>
                      <a:pt x="742" y="1089"/>
                    </a:lnTo>
                    <a:lnTo>
                      <a:pt x="805" y="1073"/>
                    </a:lnTo>
                    <a:lnTo>
                      <a:pt x="943" y="1039"/>
                    </a:lnTo>
                    <a:lnTo>
                      <a:pt x="1093" y="1003"/>
                    </a:lnTo>
                    <a:lnTo>
                      <a:pt x="1255" y="964"/>
                    </a:lnTo>
                    <a:lnTo>
                      <a:pt x="1427" y="923"/>
                    </a:lnTo>
                    <a:lnTo>
                      <a:pt x="1606" y="880"/>
                    </a:lnTo>
                    <a:lnTo>
                      <a:pt x="1789" y="835"/>
                    </a:lnTo>
                    <a:lnTo>
                      <a:pt x="1881" y="810"/>
                    </a:lnTo>
                    <a:lnTo>
                      <a:pt x="1974" y="786"/>
                    </a:lnTo>
                    <a:lnTo>
                      <a:pt x="2067" y="761"/>
                    </a:lnTo>
                    <a:lnTo>
                      <a:pt x="2161" y="734"/>
                    </a:lnTo>
                    <a:lnTo>
                      <a:pt x="2253" y="708"/>
                    </a:lnTo>
                    <a:lnTo>
                      <a:pt x="2344" y="680"/>
                    </a:lnTo>
                    <a:lnTo>
                      <a:pt x="2435" y="652"/>
                    </a:lnTo>
                    <a:lnTo>
                      <a:pt x="2525" y="623"/>
                    </a:lnTo>
                    <a:lnTo>
                      <a:pt x="2612" y="592"/>
                    </a:lnTo>
                    <a:lnTo>
                      <a:pt x="2698" y="562"/>
                    </a:lnTo>
                    <a:lnTo>
                      <a:pt x="2782" y="531"/>
                    </a:lnTo>
                    <a:lnTo>
                      <a:pt x="2863" y="498"/>
                    </a:lnTo>
                    <a:lnTo>
                      <a:pt x="2942" y="466"/>
                    </a:lnTo>
                    <a:lnTo>
                      <a:pt x="3017" y="431"/>
                    </a:lnTo>
                    <a:lnTo>
                      <a:pt x="3090" y="397"/>
                    </a:lnTo>
                    <a:lnTo>
                      <a:pt x="3158" y="361"/>
                    </a:lnTo>
                    <a:lnTo>
                      <a:pt x="3257" y="308"/>
                    </a:lnTo>
                    <a:lnTo>
                      <a:pt x="3347" y="260"/>
                    </a:lnTo>
                    <a:lnTo>
                      <a:pt x="3429" y="217"/>
                    </a:lnTo>
                    <a:lnTo>
                      <a:pt x="3503" y="179"/>
                    </a:lnTo>
                    <a:lnTo>
                      <a:pt x="3631" y="116"/>
                    </a:lnTo>
                    <a:lnTo>
                      <a:pt x="3729" y="68"/>
                    </a:lnTo>
                    <a:lnTo>
                      <a:pt x="3803" y="35"/>
                    </a:lnTo>
                    <a:lnTo>
                      <a:pt x="3854" y="14"/>
                    </a:lnTo>
                    <a:lnTo>
                      <a:pt x="3883" y="3"/>
                    </a:lnTo>
                    <a:lnTo>
                      <a:pt x="3892" y="0"/>
                    </a:lnTo>
                    <a:close/>
                  </a:path>
                </a:pathLst>
              </a:custGeom>
              <a:solidFill>
                <a:srgbClr val="80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5469120" y="2791080"/>
                <a:ext cx="1591920" cy="919080"/>
              </a:xfrm>
              <a:custGeom>
                <a:avLst/>
                <a:gdLst/>
                <a:ahLst/>
                <a:rect l="l" t="t" r="r" b="b"/>
                <a:pathLst>
                  <a:path w="5017" h="2896">
                    <a:moveTo>
                      <a:pt x="1257" y="2010"/>
                    </a:moveTo>
                    <a:lnTo>
                      <a:pt x="1293" y="1992"/>
                    </a:lnTo>
                    <a:lnTo>
                      <a:pt x="1330" y="1972"/>
                    </a:lnTo>
                    <a:lnTo>
                      <a:pt x="1368" y="1952"/>
                    </a:lnTo>
                    <a:lnTo>
                      <a:pt x="1408" y="1934"/>
                    </a:lnTo>
                    <a:lnTo>
                      <a:pt x="1490" y="1896"/>
                    </a:lnTo>
                    <a:lnTo>
                      <a:pt x="1577" y="1859"/>
                    </a:lnTo>
                    <a:lnTo>
                      <a:pt x="1667" y="1821"/>
                    </a:lnTo>
                    <a:lnTo>
                      <a:pt x="1759" y="1784"/>
                    </a:lnTo>
                    <a:lnTo>
                      <a:pt x="1854" y="1748"/>
                    </a:lnTo>
                    <a:lnTo>
                      <a:pt x="1950" y="1712"/>
                    </a:lnTo>
                    <a:lnTo>
                      <a:pt x="2143" y="1642"/>
                    </a:lnTo>
                    <a:lnTo>
                      <a:pt x="2331" y="1575"/>
                    </a:lnTo>
                    <a:lnTo>
                      <a:pt x="2511" y="1509"/>
                    </a:lnTo>
                    <a:lnTo>
                      <a:pt x="2676" y="1448"/>
                    </a:lnTo>
                    <a:lnTo>
                      <a:pt x="2836" y="1385"/>
                    </a:lnTo>
                    <a:lnTo>
                      <a:pt x="3013" y="1313"/>
                    </a:lnTo>
                    <a:lnTo>
                      <a:pt x="3105" y="1273"/>
                    </a:lnTo>
                    <a:lnTo>
                      <a:pt x="3199" y="1234"/>
                    </a:lnTo>
                    <a:lnTo>
                      <a:pt x="3291" y="1193"/>
                    </a:lnTo>
                    <a:lnTo>
                      <a:pt x="3383" y="1152"/>
                    </a:lnTo>
                    <a:lnTo>
                      <a:pt x="3473" y="1111"/>
                    </a:lnTo>
                    <a:lnTo>
                      <a:pt x="3559" y="1070"/>
                    </a:lnTo>
                    <a:lnTo>
                      <a:pt x="3643" y="1030"/>
                    </a:lnTo>
                    <a:lnTo>
                      <a:pt x="3720" y="992"/>
                    </a:lnTo>
                    <a:lnTo>
                      <a:pt x="3792" y="954"/>
                    </a:lnTo>
                    <a:lnTo>
                      <a:pt x="3856" y="918"/>
                    </a:lnTo>
                    <a:lnTo>
                      <a:pt x="3884" y="901"/>
                    </a:lnTo>
                    <a:lnTo>
                      <a:pt x="3911" y="885"/>
                    </a:lnTo>
                    <a:lnTo>
                      <a:pt x="3936" y="869"/>
                    </a:lnTo>
                    <a:lnTo>
                      <a:pt x="3958" y="854"/>
                    </a:lnTo>
                    <a:lnTo>
                      <a:pt x="3999" y="826"/>
                    </a:lnTo>
                    <a:lnTo>
                      <a:pt x="4035" y="802"/>
                    </a:lnTo>
                    <a:lnTo>
                      <a:pt x="4069" y="781"/>
                    </a:lnTo>
                    <a:lnTo>
                      <a:pt x="4099" y="764"/>
                    </a:lnTo>
                    <a:lnTo>
                      <a:pt x="4151" y="736"/>
                    </a:lnTo>
                    <a:lnTo>
                      <a:pt x="4194" y="714"/>
                    </a:lnTo>
                    <a:lnTo>
                      <a:pt x="4211" y="705"/>
                    </a:lnTo>
                    <a:lnTo>
                      <a:pt x="4227" y="696"/>
                    </a:lnTo>
                    <a:lnTo>
                      <a:pt x="4242" y="688"/>
                    </a:lnTo>
                    <a:lnTo>
                      <a:pt x="4256" y="679"/>
                    </a:lnTo>
                    <a:lnTo>
                      <a:pt x="4268" y="669"/>
                    </a:lnTo>
                    <a:lnTo>
                      <a:pt x="4279" y="660"/>
                    </a:lnTo>
                    <a:lnTo>
                      <a:pt x="4290" y="647"/>
                    </a:lnTo>
                    <a:lnTo>
                      <a:pt x="4300" y="634"/>
                    </a:lnTo>
                    <a:lnTo>
                      <a:pt x="4310" y="620"/>
                    </a:lnTo>
                    <a:lnTo>
                      <a:pt x="4317" y="608"/>
                    </a:lnTo>
                    <a:lnTo>
                      <a:pt x="4325" y="598"/>
                    </a:lnTo>
                    <a:lnTo>
                      <a:pt x="4331" y="591"/>
                    </a:lnTo>
                    <a:lnTo>
                      <a:pt x="4338" y="585"/>
                    </a:lnTo>
                    <a:lnTo>
                      <a:pt x="4344" y="580"/>
                    </a:lnTo>
                    <a:lnTo>
                      <a:pt x="4350" y="577"/>
                    </a:lnTo>
                    <a:lnTo>
                      <a:pt x="4358" y="577"/>
                    </a:lnTo>
                    <a:lnTo>
                      <a:pt x="4364" y="578"/>
                    </a:lnTo>
                    <a:lnTo>
                      <a:pt x="4371" y="581"/>
                    </a:lnTo>
                    <a:lnTo>
                      <a:pt x="4380" y="586"/>
                    </a:lnTo>
                    <a:lnTo>
                      <a:pt x="4389" y="592"/>
                    </a:lnTo>
                    <a:lnTo>
                      <a:pt x="4409" y="608"/>
                    </a:lnTo>
                    <a:lnTo>
                      <a:pt x="4436" y="631"/>
                    </a:lnTo>
                    <a:lnTo>
                      <a:pt x="4444" y="636"/>
                    </a:lnTo>
                    <a:lnTo>
                      <a:pt x="4451" y="640"/>
                    </a:lnTo>
                    <a:lnTo>
                      <a:pt x="4460" y="644"/>
                    </a:lnTo>
                    <a:lnTo>
                      <a:pt x="4468" y="645"/>
                    </a:lnTo>
                    <a:lnTo>
                      <a:pt x="4477" y="646"/>
                    </a:lnTo>
                    <a:lnTo>
                      <a:pt x="4487" y="645"/>
                    </a:lnTo>
                    <a:lnTo>
                      <a:pt x="4497" y="644"/>
                    </a:lnTo>
                    <a:lnTo>
                      <a:pt x="4505" y="641"/>
                    </a:lnTo>
                    <a:lnTo>
                      <a:pt x="4515" y="639"/>
                    </a:lnTo>
                    <a:lnTo>
                      <a:pt x="4526" y="634"/>
                    </a:lnTo>
                    <a:lnTo>
                      <a:pt x="4536" y="629"/>
                    </a:lnTo>
                    <a:lnTo>
                      <a:pt x="4546" y="623"/>
                    </a:lnTo>
                    <a:lnTo>
                      <a:pt x="4567" y="609"/>
                    </a:lnTo>
                    <a:lnTo>
                      <a:pt x="4589" y="593"/>
                    </a:lnTo>
                    <a:lnTo>
                      <a:pt x="4610" y="575"/>
                    </a:lnTo>
                    <a:lnTo>
                      <a:pt x="4632" y="554"/>
                    </a:lnTo>
                    <a:lnTo>
                      <a:pt x="4653" y="532"/>
                    </a:lnTo>
                    <a:lnTo>
                      <a:pt x="4674" y="510"/>
                    </a:lnTo>
                    <a:lnTo>
                      <a:pt x="4715" y="463"/>
                    </a:lnTo>
                    <a:lnTo>
                      <a:pt x="4751" y="416"/>
                    </a:lnTo>
                    <a:lnTo>
                      <a:pt x="4770" y="393"/>
                    </a:lnTo>
                    <a:lnTo>
                      <a:pt x="4790" y="364"/>
                    </a:lnTo>
                    <a:lnTo>
                      <a:pt x="4810" y="335"/>
                    </a:lnTo>
                    <a:lnTo>
                      <a:pt x="4833" y="302"/>
                    </a:lnTo>
                    <a:lnTo>
                      <a:pt x="4877" y="233"/>
                    </a:lnTo>
                    <a:lnTo>
                      <a:pt x="4919" y="165"/>
                    </a:lnTo>
                    <a:lnTo>
                      <a:pt x="4958" y="101"/>
                    </a:lnTo>
                    <a:lnTo>
                      <a:pt x="4989" y="49"/>
                    </a:lnTo>
                    <a:lnTo>
                      <a:pt x="5010" y="14"/>
                    </a:lnTo>
                    <a:lnTo>
                      <a:pt x="5017" y="0"/>
                    </a:lnTo>
                    <a:lnTo>
                      <a:pt x="5012" y="14"/>
                    </a:lnTo>
                    <a:lnTo>
                      <a:pt x="5000" y="49"/>
                    </a:lnTo>
                    <a:lnTo>
                      <a:pt x="4980" y="102"/>
                    </a:lnTo>
                    <a:lnTo>
                      <a:pt x="4958" y="166"/>
                    </a:lnTo>
                    <a:lnTo>
                      <a:pt x="4934" y="236"/>
                    </a:lnTo>
                    <a:lnTo>
                      <a:pt x="4911" y="308"/>
                    </a:lnTo>
                    <a:lnTo>
                      <a:pt x="4902" y="342"/>
                    </a:lnTo>
                    <a:lnTo>
                      <a:pt x="4892" y="374"/>
                    </a:lnTo>
                    <a:lnTo>
                      <a:pt x="4884" y="404"/>
                    </a:lnTo>
                    <a:lnTo>
                      <a:pt x="4879" y="430"/>
                    </a:lnTo>
                    <a:lnTo>
                      <a:pt x="4874" y="450"/>
                    </a:lnTo>
                    <a:lnTo>
                      <a:pt x="4868" y="470"/>
                    </a:lnTo>
                    <a:lnTo>
                      <a:pt x="4861" y="489"/>
                    </a:lnTo>
                    <a:lnTo>
                      <a:pt x="4854" y="506"/>
                    </a:lnTo>
                    <a:lnTo>
                      <a:pt x="4845" y="521"/>
                    </a:lnTo>
                    <a:lnTo>
                      <a:pt x="4836" y="534"/>
                    </a:lnTo>
                    <a:lnTo>
                      <a:pt x="4828" y="545"/>
                    </a:lnTo>
                    <a:lnTo>
                      <a:pt x="4819" y="555"/>
                    </a:lnTo>
                    <a:lnTo>
                      <a:pt x="4809" y="566"/>
                    </a:lnTo>
                    <a:lnTo>
                      <a:pt x="4798" y="580"/>
                    </a:lnTo>
                    <a:lnTo>
                      <a:pt x="4788" y="594"/>
                    </a:lnTo>
                    <a:lnTo>
                      <a:pt x="4779" y="609"/>
                    </a:lnTo>
                    <a:lnTo>
                      <a:pt x="4759" y="642"/>
                    </a:lnTo>
                    <a:lnTo>
                      <a:pt x="4738" y="676"/>
                    </a:lnTo>
                    <a:lnTo>
                      <a:pt x="4727" y="693"/>
                    </a:lnTo>
                    <a:lnTo>
                      <a:pt x="4715" y="709"/>
                    </a:lnTo>
                    <a:lnTo>
                      <a:pt x="4702" y="725"/>
                    </a:lnTo>
                    <a:lnTo>
                      <a:pt x="4690" y="741"/>
                    </a:lnTo>
                    <a:lnTo>
                      <a:pt x="4676" y="756"/>
                    </a:lnTo>
                    <a:lnTo>
                      <a:pt x="4662" y="769"/>
                    </a:lnTo>
                    <a:lnTo>
                      <a:pt x="4646" y="780"/>
                    </a:lnTo>
                    <a:lnTo>
                      <a:pt x="4630" y="791"/>
                    </a:lnTo>
                    <a:lnTo>
                      <a:pt x="4605" y="807"/>
                    </a:lnTo>
                    <a:lnTo>
                      <a:pt x="4567" y="833"/>
                    </a:lnTo>
                    <a:lnTo>
                      <a:pt x="4516" y="867"/>
                    </a:lnTo>
                    <a:lnTo>
                      <a:pt x="4457" y="909"/>
                    </a:lnTo>
                    <a:lnTo>
                      <a:pt x="4315" y="1010"/>
                    </a:lnTo>
                    <a:lnTo>
                      <a:pt x="4155" y="1125"/>
                    </a:lnTo>
                    <a:lnTo>
                      <a:pt x="3991" y="1243"/>
                    </a:lnTo>
                    <a:lnTo>
                      <a:pt x="3839" y="1353"/>
                    </a:lnTo>
                    <a:lnTo>
                      <a:pt x="3709" y="1446"/>
                    </a:lnTo>
                    <a:lnTo>
                      <a:pt x="3621" y="1508"/>
                    </a:lnTo>
                    <a:lnTo>
                      <a:pt x="3574" y="1539"/>
                    </a:lnTo>
                    <a:lnTo>
                      <a:pt x="3495" y="1587"/>
                    </a:lnTo>
                    <a:lnTo>
                      <a:pt x="3392" y="1648"/>
                    </a:lnTo>
                    <a:lnTo>
                      <a:pt x="3264" y="1722"/>
                    </a:lnTo>
                    <a:lnTo>
                      <a:pt x="3115" y="1806"/>
                    </a:lnTo>
                    <a:lnTo>
                      <a:pt x="2952" y="1897"/>
                    </a:lnTo>
                    <a:lnTo>
                      <a:pt x="2773" y="1993"/>
                    </a:lnTo>
                    <a:lnTo>
                      <a:pt x="2584" y="2093"/>
                    </a:lnTo>
                    <a:lnTo>
                      <a:pt x="2487" y="2143"/>
                    </a:lnTo>
                    <a:lnTo>
                      <a:pt x="2388" y="2193"/>
                    </a:lnTo>
                    <a:lnTo>
                      <a:pt x="2290" y="2244"/>
                    </a:lnTo>
                    <a:lnTo>
                      <a:pt x="2190" y="2293"/>
                    </a:lnTo>
                    <a:lnTo>
                      <a:pt x="2089" y="2341"/>
                    </a:lnTo>
                    <a:lnTo>
                      <a:pt x="1989" y="2389"/>
                    </a:lnTo>
                    <a:lnTo>
                      <a:pt x="1891" y="2434"/>
                    </a:lnTo>
                    <a:lnTo>
                      <a:pt x="1794" y="2479"/>
                    </a:lnTo>
                    <a:lnTo>
                      <a:pt x="1698" y="2522"/>
                    </a:lnTo>
                    <a:lnTo>
                      <a:pt x="1603" y="2561"/>
                    </a:lnTo>
                    <a:lnTo>
                      <a:pt x="1511" y="2599"/>
                    </a:lnTo>
                    <a:lnTo>
                      <a:pt x="1422" y="2634"/>
                    </a:lnTo>
                    <a:lnTo>
                      <a:pt x="1336" y="2666"/>
                    </a:lnTo>
                    <a:lnTo>
                      <a:pt x="1255" y="2694"/>
                    </a:lnTo>
                    <a:lnTo>
                      <a:pt x="1176" y="2717"/>
                    </a:lnTo>
                    <a:lnTo>
                      <a:pt x="1102" y="2738"/>
                    </a:lnTo>
                    <a:lnTo>
                      <a:pt x="1088" y="2742"/>
                    </a:lnTo>
                    <a:lnTo>
                      <a:pt x="1046" y="2751"/>
                    </a:lnTo>
                    <a:lnTo>
                      <a:pt x="983" y="2764"/>
                    </a:lnTo>
                    <a:lnTo>
                      <a:pt x="908" y="2779"/>
                    </a:lnTo>
                    <a:lnTo>
                      <a:pt x="826" y="2795"/>
                    </a:lnTo>
                    <a:lnTo>
                      <a:pt x="743" y="2810"/>
                    </a:lnTo>
                    <a:lnTo>
                      <a:pt x="704" y="2816"/>
                    </a:lnTo>
                    <a:lnTo>
                      <a:pt x="667" y="2821"/>
                    </a:lnTo>
                    <a:lnTo>
                      <a:pt x="632" y="2826"/>
                    </a:lnTo>
                    <a:lnTo>
                      <a:pt x="603" y="2828"/>
                    </a:lnTo>
                    <a:lnTo>
                      <a:pt x="550" y="2832"/>
                    </a:lnTo>
                    <a:lnTo>
                      <a:pt x="502" y="2834"/>
                    </a:lnTo>
                    <a:lnTo>
                      <a:pt x="455" y="2837"/>
                    </a:lnTo>
                    <a:lnTo>
                      <a:pt x="412" y="2840"/>
                    </a:lnTo>
                    <a:lnTo>
                      <a:pt x="391" y="2843"/>
                    </a:lnTo>
                    <a:lnTo>
                      <a:pt x="370" y="2845"/>
                    </a:lnTo>
                    <a:lnTo>
                      <a:pt x="350" y="2849"/>
                    </a:lnTo>
                    <a:lnTo>
                      <a:pt x="330" y="2853"/>
                    </a:lnTo>
                    <a:lnTo>
                      <a:pt x="309" y="2859"/>
                    </a:lnTo>
                    <a:lnTo>
                      <a:pt x="289" y="2865"/>
                    </a:lnTo>
                    <a:lnTo>
                      <a:pt x="270" y="2874"/>
                    </a:lnTo>
                    <a:lnTo>
                      <a:pt x="250" y="2882"/>
                    </a:lnTo>
                    <a:lnTo>
                      <a:pt x="241" y="2886"/>
                    </a:lnTo>
                    <a:lnTo>
                      <a:pt x="233" y="2890"/>
                    </a:lnTo>
                    <a:lnTo>
                      <a:pt x="224" y="2892"/>
                    </a:lnTo>
                    <a:lnTo>
                      <a:pt x="215" y="2893"/>
                    </a:lnTo>
                    <a:lnTo>
                      <a:pt x="207" y="2894"/>
                    </a:lnTo>
                    <a:lnTo>
                      <a:pt x="198" y="2896"/>
                    </a:lnTo>
                    <a:lnTo>
                      <a:pt x="188" y="2894"/>
                    </a:lnTo>
                    <a:lnTo>
                      <a:pt x="180" y="2894"/>
                    </a:lnTo>
                    <a:lnTo>
                      <a:pt x="170" y="2892"/>
                    </a:lnTo>
                    <a:lnTo>
                      <a:pt x="161" y="2891"/>
                    </a:lnTo>
                    <a:lnTo>
                      <a:pt x="153" y="2888"/>
                    </a:lnTo>
                    <a:lnTo>
                      <a:pt x="143" y="2885"/>
                    </a:lnTo>
                    <a:lnTo>
                      <a:pt x="126" y="2876"/>
                    </a:lnTo>
                    <a:lnTo>
                      <a:pt x="107" y="2865"/>
                    </a:lnTo>
                    <a:lnTo>
                      <a:pt x="90" y="2851"/>
                    </a:lnTo>
                    <a:lnTo>
                      <a:pt x="74" y="2835"/>
                    </a:lnTo>
                    <a:lnTo>
                      <a:pt x="58" y="2817"/>
                    </a:lnTo>
                    <a:lnTo>
                      <a:pt x="43" y="2796"/>
                    </a:lnTo>
                    <a:lnTo>
                      <a:pt x="31" y="2773"/>
                    </a:lnTo>
                    <a:lnTo>
                      <a:pt x="19" y="2747"/>
                    </a:lnTo>
                    <a:lnTo>
                      <a:pt x="9" y="2720"/>
                    </a:lnTo>
                    <a:lnTo>
                      <a:pt x="0" y="2690"/>
                    </a:lnTo>
                    <a:lnTo>
                      <a:pt x="6" y="2694"/>
                    </a:lnTo>
                    <a:lnTo>
                      <a:pt x="24" y="2706"/>
                    </a:lnTo>
                    <a:lnTo>
                      <a:pt x="36" y="2714"/>
                    </a:lnTo>
                    <a:lnTo>
                      <a:pt x="51" y="2721"/>
                    </a:lnTo>
                    <a:lnTo>
                      <a:pt x="67" y="2730"/>
                    </a:lnTo>
                    <a:lnTo>
                      <a:pt x="85" y="2737"/>
                    </a:lnTo>
                    <a:lnTo>
                      <a:pt x="105" y="2743"/>
                    </a:lnTo>
                    <a:lnTo>
                      <a:pt x="126" y="2748"/>
                    </a:lnTo>
                    <a:lnTo>
                      <a:pt x="147" y="2752"/>
                    </a:lnTo>
                    <a:lnTo>
                      <a:pt x="170" y="2753"/>
                    </a:lnTo>
                    <a:lnTo>
                      <a:pt x="181" y="2752"/>
                    </a:lnTo>
                    <a:lnTo>
                      <a:pt x="192" y="2751"/>
                    </a:lnTo>
                    <a:lnTo>
                      <a:pt x="203" y="2749"/>
                    </a:lnTo>
                    <a:lnTo>
                      <a:pt x="215" y="2746"/>
                    </a:lnTo>
                    <a:lnTo>
                      <a:pt x="227" y="2742"/>
                    </a:lnTo>
                    <a:lnTo>
                      <a:pt x="238" y="2737"/>
                    </a:lnTo>
                    <a:lnTo>
                      <a:pt x="249" y="2732"/>
                    </a:lnTo>
                    <a:lnTo>
                      <a:pt x="261" y="2725"/>
                    </a:lnTo>
                    <a:lnTo>
                      <a:pt x="324" y="2679"/>
                    </a:lnTo>
                    <a:lnTo>
                      <a:pt x="416" y="2609"/>
                    </a:lnTo>
                    <a:lnTo>
                      <a:pt x="533" y="2519"/>
                    </a:lnTo>
                    <a:lnTo>
                      <a:pt x="667" y="2417"/>
                    </a:lnTo>
                    <a:lnTo>
                      <a:pt x="740" y="2363"/>
                    </a:lnTo>
                    <a:lnTo>
                      <a:pt x="813" y="2308"/>
                    </a:lnTo>
                    <a:lnTo>
                      <a:pt x="888" y="2254"/>
                    </a:lnTo>
                    <a:lnTo>
                      <a:pt x="965" y="2201"/>
                    </a:lnTo>
                    <a:lnTo>
                      <a:pt x="1040" y="2148"/>
                    </a:lnTo>
                    <a:lnTo>
                      <a:pt x="1115" y="2099"/>
                    </a:lnTo>
                    <a:lnTo>
                      <a:pt x="1187" y="2053"/>
                    </a:lnTo>
                    <a:lnTo>
                      <a:pt x="1257" y="2010"/>
                    </a:lnTo>
                    <a:close/>
                  </a:path>
                </a:pathLst>
              </a:custGeom>
              <a:solidFill>
                <a:srgbClr val="63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5477040" y="2806920"/>
                <a:ext cx="1577880" cy="903240"/>
              </a:xfrm>
              <a:custGeom>
                <a:avLst/>
                <a:gdLst/>
                <a:ahLst/>
                <a:rect l="l" t="t" r="r" b="b"/>
                <a:pathLst>
                  <a:path w="4972" h="2844">
                    <a:moveTo>
                      <a:pt x="1269" y="1994"/>
                    </a:moveTo>
                    <a:lnTo>
                      <a:pt x="1304" y="1974"/>
                    </a:lnTo>
                    <a:lnTo>
                      <a:pt x="1341" y="1956"/>
                    </a:lnTo>
                    <a:lnTo>
                      <a:pt x="1379" y="1936"/>
                    </a:lnTo>
                    <a:lnTo>
                      <a:pt x="1419" y="1916"/>
                    </a:lnTo>
                    <a:lnTo>
                      <a:pt x="1501" y="1879"/>
                    </a:lnTo>
                    <a:lnTo>
                      <a:pt x="1587" y="1842"/>
                    </a:lnTo>
                    <a:lnTo>
                      <a:pt x="1676" y="1807"/>
                    </a:lnTo>
                    <a:lnTo>
                      <a:pt x="1768" y="1771"/>
                    </a:lnTo>
                    <a:lnTo>
                      <a:pt x="1862" y="1735"/>
                    </a:lnTo>
                    <a:lnTo>
                      <a:pt x="1956" y="1701"/>
                    </a:lnTo>
                    <a:lnTo>
                      <a:pt x="2147" y="1635"/>
                    </a:lnTo>
                    <a:lnTo>
                      <a:pt x="2333" y="1569"/>
                    </a:lnTo>
                    <a:lnTo>
                      <a:pt x="2423" y="1537"/>
                    </a:lnTo>
                    <a:lnTo>
                      <a:pt x="2509" y="1507"/>
                    </a:lnTo>
                    <a:lnTo>
                      <a:pt x="2592" y="1476"/>
                    </a:lnTo>
                    <a:lnTo>
                      <a:pt x="2671" y="1445"/>
                    </a:lnTo>
                    <a:lnTo>
                      <a:pt x="2835" y="1378"/>
                    </a:lnTo>
                    <a:lnTo>
                      <a:pt x="3014" y="1301"/>
                    </a:lnTo>
                    <a:lnTo>
                      <a:pt x="3107" y="1261"/>
                    </a:lnTo>
                    <a:lnTo>
                      <a:pt x="3200" y="1219"/>
                    </a:lnTo>
                    <a:lnTo>
                      <a:pt x="3294" y="1177"/>
                    </a:lnTo>
                    <a:lnTo>
                      <a:pt x="3386" y="1134"/>
                    </a:lnTo>
                    <a:lnTo>
                      <a:pt x="3476" y="1091"/>
                    </a:lnTo>
                    <a:lnTo>
                      <a:pt x="3563" y="1049"/>
                    </a:lnTo>
                    <a:lnTo>
                      <a:pt x="3645" y="1009"/>
                    </a:lnTo>
                    <a:lnTo>
                      <a:pt x="3723" y="968"/>
                    </a:lnTo>
                    <a:lnTo>
                      <a:pt x="3794" y="930"/>
                    </a:lnTo>
                    <a:lnTo>
                      <a:pt x="3858" y="894"/>
                    </a:lnTo>
                    <a:lnTo>
                      <a:pt x="3888" y="877"/>
                    </a:lnTo>
                    <a:lnTo>
                      <a:pt x="3915" y="860"/>
                    </a:lnTo>
                    <a:lnTo>
                      <a:pt x="3940" y="844"/>
                    </a:lnTo>
                    <a:lnTo>
                      <a:pt x="3962" y="829"/>
                    </a:lnTo>
                    <a:lnTo>
                      <a:pt x="4001" y="801"/>
                    </a:lnTo>
                    <a:lnTo>
                      <a:pt x="4037" y="777"/>
                    </a:lnTo>
                    <a:lnTo>
                      <a:pt x="4070" y="758"/>
                    </a:lnTo>
                    <a:lnTo>
                      <a:pt x="4099" y="739"/>
                    </a:lnTo>
                    <a:lnTo>
                      <a:pt x="4150" y="712"/>
                    </a:lnTo>
                    <a:lnTo>
                      <a:pt x="4190" y="692"/>
                    </a:lnTo>
                    <a:lnTo>
                      <a:pt x="4224" y="675"/>
                    </a:lnTo>
                    <a:lnTo>
                      <a:pt x="4251" y="659"/>
                    </a:lnTo>
                    <a:lnTo>
                      <a:pt x="4262" y="651"/>
                    </a:lnTo>
                    <a:lnTo>
                      <a:pt x="4273" y="641"/>
                    </a:lnTo>
                    <a:lnTo>
                      <a:pt x="4283" y="630"/>
                    </a:lnTo>
                    <a:lnTo>
                      <a:pt x="4293" y="616"/>
                    </a:lnTo>
                    <a:lnTo>
                      <a:pt x="4310" y="592"/>
                    </a:lnTo>
                    <a:lnTo>
                      <a:pt x="4323" y="576"/>
                    </a:lnTo>
                    <a:lnTo>
                      <a:pt x="4330" y="571"/>
                    </a:lnTo>
                    <a:lnTo>
                      <a:pt x="4334" y="567"/>
                    </a:lnTo>
                    <a:lnTo>
                      <a:pt x="4341" y="566"/>
                    </a:lnTo>
                    <a:lnTo>
                      <a:pt x="4347" y="567"/>
                    </a:lnTo>
                    <a:lnTo>
                      <a:pt x="4352" y="569"/>
                    </a:lnTo>
                    <a:lnTo>
                      <a:pt x="4359" y="573"/>
                    </a:lnTo>
                    <a:lnTo>
                      <a:pt x="4366" y="578"/>
                    </a:lnTo>
                    <a:lnTo>
                      <a:pt x="4374" y="585"/>
                    </a:lnTo>
                    <a:lnTo>
                      <a:pt x="4395" y="603"/>
                    </a:lnTo>
                    <a:lnTo>
                      <a:pt x="4421" y="625"/>
                    </a:lnTo>
                    <a:lnTo>
                      <a:pt x="4428" y="630"/>
                    </a:lnTo>
                    <a:lnTo>
                      <a:pt x="4435" y="635"/>
                    </a:lnTo>
                    <a:lnTo>
                      <a:pt x="4444" y="637"/>
                    </a:lnTo>
                    <a:lnTo>
                      <a:pt x="4453" y="638"/>
                    </a:lnTo>
                    <a:lnTo>
                      <a:pt x="4462" y="638"/>
                    </a:lnTo>
                    <a:lnTo>
                      <a:pt x="4471" y="637"/>
                    </a:lnTo>
                    <a:lnTo>
                      <a:pt x="4481" y="636"/>
                    </a:lnTo>
                    <a:lnTo>
                      <a:pt x="4491" y="632"/>
                    </a:lnTo>
                    <a:lnTo>
                      <a:pt x="4501" y="628"/>
                    </a:lnTo>
                    <a:lnTo>
                      <a:pt x="4512" y="624"/>
                    </a:lnTo>
                    <a:lnTo>
                      <a:pt x="4521" y="617"/>
                    </a:lnTo>
                    <a:lnTo>
                      <a:pt x="4533" y="610"/>
                    </a:lnTo>
                    <a:lnTo>
                      <a:pt x="4555" y="594"/>
                    </a:lnTo>
                    <a:lnTo>
                      <a:pt x="4577" y="576"/>
                    </a:lnTo>
                    <a:lnTo>
                      <a:pt x="4599" y="556"/>
                    </a:lnTo>
                    <a:lnTo>
                      <a:pt x="4621" y="533"/>
                    </a:lnTo>
                    <a:lnTo>
                      <a:pt x="4642" y="509"/>
                    </a:lnTo>
                    <a:lnTo>
                      <a:pt x="4664" y="485"/>
                    </a:lnTo>
                    <a:lnTo>
                      <a:pt x="4705" y="435"/>
                    </a:lnTo>
                    <a:lnTo>
                      <a:pt x="4740" y="389"/>
                    </a:lnTo>
                    <a:lnTo>
                      <a:pt x="4759" y="365"/>
                    </a:lnTo>
                    <a:lnTo>
                      <a:pt x="4777" y="338"/>
                    </a:lnTo>
                    <a:lnTo>
                      <a:pt x="4797" y="310"/>
                    </a:lnTo>
                    <a:lnTo>
                      <a:pt x="4815" y="279"/>
                    </a:lnTo>
                    <a:lnTo>
                      <a:pt x="4855" y="214"/>
                    </a:lnTo>
                    <a:lnTo>
                      <a:pt x="4891" y="150"/>
                    </a:lnTo>
                    <a:lnTo>
                      <a:pt x="4923" y="92"/>
                    </a:lnTo>
                    <a:lnTo>
                      <a:pt x="4948" y="44"/>
                    </a:lnTo>
                    <a:lnTo>
                      <a:pt x="4966" y="12"/>
                    </a:lnTo>
                    <a:lnTo>
                      <a:pt x="4972" y="0"/>
                    </a:lnTo>
                    <a:lnTo>
                      <a:pt x="4968" y="11"/>
                    </a:lnTo>
                    <a:lnTo>
                      <a:pt x="4957" y="41"/>
                    </a:lnTo>
                    <a:lnTo>
                      <a:pt x="4941" y="85"/>
                    </a:lnTo>
                    <a:lnTo>
                      <a:pt x="4921" y="140"/>
                    </a:lnTo>
                    <a:lnTo>
                      <a:pt x="4900" y="200"/>
                    </a:lnTo>
                    <a:lnTo>
                      <a:pt x="4881" y="263"/>
                    </a:lnTo>
                    <a:lnTo>
                      <a:pt x="4872" y="294"/>
                    </a:lnTo>
                    <a:lnTo>
                      <a:pt x="4865" y="325"/>
                    </a:lnTo>
                    <a:lnTo>
                      <a:pt x="4857" y="352"/>
                    </a:lnTo>
                    <a:lnTo>
                      <a:pt x="4852" y="378"/>
                    </a:lnTo>
                    <a:lnTo>
                      <a:pt x="4847" y="398"/>
                    </a:lnTo>
                    <a:lnTo>
                      <a:pt x="4841" y="418"/>
                    </a:lnTo>
                    <a:lnTo>
                      <a:pt x="4834" y="437"/>
                    </a:lnTo>
                    <a:lnTo>
                      <a:pt x="4827" y="454"/>
                    </a:lnTo>
                    <a:lnTo>
                      <a:pt x="4818" y="469"/>
                    </a:lnTo>
                    <a:lnTo>
                      <a:pt x="4809" y="482"/>
                    </a:lnTo>
                    <a:lnTo>
                      <a:pt x="4801" y="493"/>
                    </a:lnTo>
                    <a:lnTo>
                      <a:pt x="4792" y="503"/>
                    </a:lnTo>
                    <a:lnTo>
                      <a:pt x="4782" y="514"/>
                    </a:lnTo>
                    <a:lnTo>
                      <a:pt x="4771" y="528"/>
                    </a:lnTo>
                    <a:lnTo>
                      <a:pt x="4761" y="542"/>
                    </a:lnTo>
                    <a:lnTo>
                      <a:pt x="4752" y="557"/>
                    </a:lnTo>
                    <a:lnTo>
                      <a:pt x="4732" y="590"/>
                    </a:lnTo>
                    <a:lnTo>
                      <a:pt x="4711" y="624"/>
                    </a:lnTo>
                    <a:lnTo>
                      <a:pt x="4700" y="641"/>
                    </a:lnTo>
                    <a:lnTo>
                      <a:pt x="4688" y="657"/>
                    </a:lnTo>
                    <a:lnTo>
                      <a:pt x="4675" y="673"/>
                    </a:lnTo>
                    <a:lnTo>
                      <a:pt x="4663" y="689"/>
                    </a:lnTo>
                    <a:lnTo>
                      <a:pt x="4649" y="704"/>
                    </a:lnTo>
                    <a:lnTo>
                      <a:pt x="4635" y="717"/>
                    </a:lnTo>
                    <a:lnTo>
                      <a:pt x="4619" y="728"/>
                    </a:lnTo>
                    <a:lnTo>
                      <a:pt x="4603" y="739"/>
                    </a:lnTo>
                    <a:lnTo>
                      <a:pt x="4578" y="755"/>
                    </a:lnTo>
                    <a:lnTo>
                      <a:pt x="4540" y="781"/>
                    </a:lnTo>
                    <a:lnTo>
                      <a:pt x="4489" y="815"/>
                    </a:lnTo>
                    <a:lnTo>
                      <a:pt x="4430" y="857"/>
                    </a:lnTo>
                    <a:lnTo>
                      <a:pt x="4288" y="958"/>
                    </a:lnTo>
                    <a:lnTo>
                      <a:pt x="4128" y="1073"/>
                    </a:lnTo>
                    <a:lnTo>
                      <a:pt x="3964" y="1191"/>
                    </a:lnTo>
                    <a:lnTo>
                      <a:pt x="3812" y="1301"/>
                    </a:lnTo>
                    <a:lnTo>
                      <a:pt x="3682" y="1394"/>
                    </a:lnTo>
                    <a:lnTo>
                      <a:pt x="3594" y="1456"/>
                    </a:lnTo>
                    <a:lnTo>
                      <a:pt x="3547" y="1487"/>
                    </a:lnTo>
                    <a:lnTo>
                      <a:pt x="3468" y="1535"/>
                    </a:lnTo>
                    <a:lnTo>
                      <a:pt x="3365" y="1596"/>
                    </a:lnTo>
                    <a:lnTo>
                      <a:pt x="3237" y="1670"/>
                    </a:lnTo>
                    <a:lnTo>
                      <a:pt x="3088" y="1754"/>
                    </a:lnTo>
                    <a:lnTo>
                      <a:pt x="2925" y="1845"/>
                    </a:lnTo>
                    <a:lnTo>
                      <a:pt x="2746" y="1941"/>
                    </a:lnTo>
                    <a:lnTo>
                      <a:pt x="2557" y="2041"/>
                    </a:lnTo>
                    <a:lnTo>
                      <a:pt x="2460" y="2091"/>
                    </a:lnTo>
                    <a:lnTo>
                      <a:pt x="2361" y="2141"/>
                    </a:lnTo>
                    <a:lnTo>
                      <a:pt x="2263" y="2192"/>
                    </a:lnTo>
                    <a:lnTo>
                      <a:pt x="2163" y="2241"/>
                    </a:lnTo>
                    <a:lnTo>
                      <a:pt x="2062" y="2289"/>
                    </a:lnTo>
                    <a:lnTo>
                      <a:pt x="1962" y="2337"/>
                    </a:lnTo>
                    <a:lnTo>
                      <a:pt x="1864" y="2382"/>
                    </a:lnTo>
                    <a:lnTo>
                      <a:pt x="1767" y="2427"/>
                    </a:lnTo>
                    <a:lnTo>
                      <a:pt x="1671" y="2470"/>
                    </a:lnTo>
                    <a:lnTo>
                      <a:pt x="1576" y="2509"/>
                    </a:lnTo>
                    <a:lnTo>
                      <a:pt x="1484" y="2547"/>
                    </a:lnTo>
                    <a:lnTo>
                      <a:pt x="1395" y="2582"/>
                    </a:lnTo>
                    <a:lnTo>
                      <a:pt x="1309" y="2614"/>
                    </a:lnTo>
                    <a:lnTo>
                      <a:pt x="1228" y="2642"/>
                    </a:lnTo>
                    <a:lnTo>
                      <a:pt x="1149" y="2665"/>
                    </a:lnTo>
                    <a:lnTo>
                      <a:pt x="1075" y="2686"/>
                    </a:lnTo>
                    <a:lnTo>
                      <a:pt x="1061" y="2690"/>
                    </a:lnTo>
                    <a:lnTo>
                      <a:pt x="1019" y="2699"/>
                    </a:lnTo>
                    <a:lnTo>
                      <a:pt x="956" y="2712"/>
                    </a:lnTo>
                    <a:lnTo>
                      <a:pt x="881" y="2727"/>
                    </a:lnTo>
                    <a:lnTo>
                      <a:pt x="799" y="2743"/>
                    </a:lnTo>
                    <a:lnTo>
                      <a:pt x="716" y="2758"/>
                    </a:lnTo>
                    <a:lnTo>
                      <a:pt x="677" y="2764"/>
                    </a:lnTo>
                    <a:lnTo>
                      <a:pt x="640" y="2769"/>
                    </a:lnTo>
                    <a:lnTo>
                      <a:pt x="605" y="2774"/>
                    </a:lnTo>
                    <a:lnTo>
                      <a:pt x="576" y="2776"/>
                    </a:lnTo>
                    <a:lnTo>
                      <a:pt x="523" y="2780"/>
                    </a:lnTo>
                    <a:lnTo>
                      <a:pt x="475" y="2782"/>
                    </a:lnTo>
                    <a:lnTo>
                      <a:pt x="428" y="2785"/>
                    </a:lnTo>
                    <a:lnTo>
                      <a:pt x="385" y="2788"/>
                    </a:lnTo>
                    <a:lnTo>
                      <a:pt x="364" y="2791"/>
                    </a:lnTo>
                    <a:lnTo>
                      <a:pt x="343" y="2793"/>
                    </a:lnTo>
                    <a:lnTo>
                      <a:pt x="323" y="2797"/>
                    </a:lnTo>
                    <a:lnTo>
                      <a:pt x="303" y="2801"/>
                    </a:lnTo>
                    <a:lnTo>
                      <a:pt x="282" y="2807"/>
                    </a:lnTo>
                    <a:lnTo>
                      <a:pt x="262" y="2813"/>
                    </a:lnTo>
                    <a:lnTo>
                      <a:pt x="243" y="2822"/>
                    </a:lnTo>
                    <a:lnTo>
                      <a:pt x="223" y="2830"/>
                    </a:lnTo>
                    <a:lnTo>
                      <a:pt x="207" y="2838"/>
                    </a:lnTo>
                    <a:lnTo>
                      <a:pt x="190" y="2841"/>
                    </a:lnTo>
                    <a:lnTo>
                      <a:pt x="174" y="2844"/>
                    </a:lnTo>
                    <a:lnTo>
                      <a:pt x="158" y="2844"/>
                    </a:lnTo>
                    <a:lnTo>
                      <a:pt x="142" y="2841"/>
                    </a:lnTo>
                    <a:lnTo>
                      <a:pt x="126" y="2836"/>
                    </a:lnTo>
                    <a:lnTo>
                      <a:pt x="111" y="2829"/>
                    </a:lnTo>
                    <a:lnTo>
                      <a:pt x="96" y="2819"/>
                    </a:lnTo>
                    <a:lnTo>
                      <a:pt x="81" y="2808"/>
                    </a:lnTo>
                    <a:lnTo>
                      <a:pt x="68" y="2796"/>
                    </a:lnTo>
                    <a:lnTo>
                      <a:pt x="54" y="2780"/>
                    </a:lnTo>
                    <a:lnTo>
                      <a:pt x="42" y="2764"/>
                    </a:lnTo>
                    <a:lnTo>
                      <a:pt x="30" y="2744"/>
                    </a:lnTo>
                    <a:lnTo>
                      <a:pt x="19" y="2724"/>
                    </a:lnTo>
                    <a:lnTo>
                      <a:pt x="9" y="2702"/>
                    </a:lnTo>
                    <a:lnTo>
                      <a:pt x="0" y="2679"/>
                    </a:lnTo>
                    <a:lnTo>
                      <a:pt x="5" y="2683"/>
                    </a:lnTo>
                    <a:lnTo>
                      <a:pt x="21" y="2692"/>
                    </a:lnTo>
                    <a:lnTo>
                      <a:pt x="32" y="2700"/>
                    </a:lnTo>
                    <a:lnTo>
                      <a:pt x="46" y="2706"/>
                    </a:lnTo>
                    <a:lnTo>
                      <a:pt x="60" y="2713"/>
                    </a:lnTo>
                    <a:lnTo>
                      <a:pt x="78" y="2718"/>
                    </a:lnTo>
                    <a:lnTo>
                      <a:pt x="95" y="2724"/>
                    </a:lnTo>
                    <a:lnTo>
                      <a:pt x="115" y="2728"/>
                    </a:lnTo>
                    <a:lnTo>
                      <a:pt x="134" y="2731"/>
                    </a:lnTo>
                    <a:lnTo>
                      <a:pt x="155" y="2731"/>
                    </a:lnTo>
                    <a:lnTo>
                      <a:pt x="166" y="2729"/>
                    </a:lnTo>
                    <a:lnTo>
                      <a:pt x="177" y="2727"/>
                    </a:lnTo>
                    <a:lnTo>
                      <a:pt x="188" y="2726"/>
                    </a:lnTo>
                    <a:lnTo>
                      <a:pt x="200" y="2722"/>
                    </a:lnTo>
                    <a:lnTo>
                      <a:pt x="211" y="2718"/>
                    </a:lnTo>
                    <a:lnTo>
                      <a:pt x="222" y="2713"/>
                    </a:lnTo>
                    <a:lnTo>
                      <a:pt x="233" y="2707"/>
                    </a:lnTo>
                    <a:lnTo>
                      <a:pt x="244" y="2700"/>
                    </a:lnTo>
                    <a:lnTo>
                      <a:pt x="309" y="2656"/>
                    </a:lnTo>
                    <a:lnTo>
                      <a:pt x="405" y="2585"/>
                    </a:lnTo>
                    <a:lnTo>
                      <a:pt x="526" y="2497"/>
                    </a:lnTo>
                    <a:lnTo>
                      <a:pt x="665" y="2396"/>
                    </a:lnTo>
                    <a:lnTo>
                      <a:pt x="738" y="2343"/>
                    </a:lnTo>
                    <a:lnTo>
                      <a:pt x="815" y="2289"/>
                    </a:lnTo>
                    <a:lnTo>
                      <a:pt x="892" y="2235"/>
                    </a:lnTo>
                    <a:lnTo>
                      <a:pt x="971" y="2182"/>
                    </a:lnTo>
                    <a:lnTo>
                      <a:pt x="1047" y="2130"/>
                    </a:lnTo>
                    <a:lnTo>
                      <a:pt x="1123" y="2082"/>
                    </a:lnTo>
                    <a:lnTo>
                      <a:pt x="1197" y="2036"/>
                    </a:lnTo>
                    <a:lnTo>
                      <a:pt x="1269" y="1994"/>
                    </a:lnTo>
                    <a:close/>
                  </a:path>
                </a:pathLst>
              </a:custGeom>
              <a:solidFill>
                <a:srgbClr val="5f4d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5486400" y="2824200"/>
                <a:ext cx="1563840" cy="885960"/>
              </a:xfrm>
              <a:custGeom>
                <a:avLst/>
                <a:gdLst/>
                <a:ahLst/>
                <a:rect l="l" t="t" r="r" b="b"/>
                <a:pathLst>
                  <a:path w="4926" h="2791">
                    <a:moveTo>
                      <a:pt x="1277" y="1973"/>
                    </a:moveTo>
                    <a:lnTo>
                      <a:pt x="1312" y="1953"/>
                    </a:lnTo>
                    <a:lnTo>
                      <a:pt x="1349" y="1935"/>
                    </a:lnTo>
                    <a:lnTo>
                      <a:pt x="1387" y="1915"/>
                    </a:lnTo>
                    <a:lnTo>
                      <a:pt x="1426" y="1897"/>
                    </a:lnTo>
                    <a:lnTo>
                      <a:pt x="1508" y="1861"/>
                    </a:lnTo>
                    <a:lnTo>
                      <a:pt x="1594" y="1824"/>
                    </a:lnTo>
                    <a:lnTo>
                      <a:pt x="1683" y="1790"/>
                    </a:lnTo>
                    <a:lnTo>
                      <a:pt x="1774" y="1755"/>
                    </a:lnTo>
                    <a:lnTo>
                      <a:pt x="1867" y="1722"/>
                    </a:lnTo>
                    <a:lnTo>
                      <a:pt x="1961" y="1689"/>
                    </a:lnTo>
                    <a:lnTo>
                      <a:pt x="2149" y="1624"/>
                    </a:lnTo>
                    <a:lnTo>
                      <a:pt x="2332" y="1561"/>
                    </a:lnTo>
                    <a:lnTo>
                      <a:pt x="2421" y="1530"/>
                    </a:lnTo>
                    <a:lnTo>
                      <a:pt x="2507" y="1498"/>
                    </a:lnTo>
                    <a:lnTo>
                      <a:pt x="2588" y="1467"/>
                    </a:lnTo>
                    <a:lnTo>
                      <a:pt x="2664" y="1438"/>
                    </a:lnTo>
                    <a:lnTo>
                      <a:pt x="2747" y="1403"/>
                    </a:lnTo>
                    <a:lnTo>
                      <a:pt x="2833" y="1368"/>
                    </a:lnTo>
                    <a:lnTo>
                      <a:pt x="2922" y="1328"/>
                    </a:lnTo>
                    <a:lnTo>
                      <a:pt x="3014" y="1288"/>
                    </a:lnTo>
                    <a:lnTo>
                      <a:pt x="3107" y="1246"/>
                    </a:lnTo>
                    <a:lnTo>
                      <a:pt x="3201" y="1203"/>
                    </a:lnTo>
                    <a:lnTo>
                      <a:pt x="3296" y="1159"/>
                    </a:lnTo>
                    <a:lnTo>
                      <a:pt x="3388" y="1114"/>
                    </a:lnTo>
                    <a:lnTo>
                      <a:pt x="3478" y="1070"/>
                    </a:lnTo>
                    <a:lnTo>
                      <a:pt x="3564" y="1027"/>
                    </a:lnTo>
                    <a:lnTo>
                      <a:pt x="3646" y="984"/>
                    </a:lnTo>
                    <a:lnTo>
                      <a:pt x="3724" y="943"/>
                    </a:lnTo>
                    <a:lnTo>
                      <a:pt x="3795" y="904"/>
                    </a:lnTo>
                    <a:lnTo>
                      <a:pt x="3859" y="867"/>
                    </a:lnTo>
                    <a:lnTo>
                      <a:pt x="3914" y="833"/>
                    </a:lnTo>
                    <a:lnTo>
                      <a:pt x="3961" y="802"/>
                    </a:lnTo>
                    <a:lnTo>
                      <a:pt x="4001" y="775"/>
                    </a:lnTo>
                    <a:lnTo>
                      <a:pt x="4036" y="750"/>
                    </a:lnTo>
                    <a:lnTo>
                      <a:pt x="4069" y="731"/>
                    </a:lnTo>
                    <a:lnTo>
                      <a:pt x="4098" y="715"/>
                    </a:lnTo>
                    <a:lnTo>
                      <a:pt x="4147" y="688"/>
                    </a:lnTo>
                    <a:lnTo>
                      <a:pt x="4186" y="669"/>
                    </a:lnTo>
                    <a:lnTo>
                      <a:pt x="4202" y="661"/>
                    </a:lnTo>
                    <a:lnTo>
                      <a:pt x="4217" y="653"/>
                    </a:lnTo>
                    <a:lnTo>
                      <a:pt x="4231" y="646"/>
                    </a:lnTo>
                    <a:lnTo>
                      <a:pt x="4242" y="638"/>
                    </a:lnTo>
                    <a:lnTo>
                      <a:pt x="4253" y="630"/>
                    </a:lnTo>
                    <a:lnTo>
                      <a:pt x="4263" y="620"/>
                    </a:lnTo>
                    <a:lnTo>
                      <a:pt x="4272" y="609"/>
                    </a:lnTo>
                    <a:lnTo>
                      <a:pt x="4281" y="595"/>
                    </a:lnTo>
                    <a:lnTo>
                      <a:pt x="4291" y="582"/>
                    </a:lnTo>
                    <a:lnTo>
                      <a:pt x="4298" y="571"/>
                    </a:lnTo>
                    <a:lnTo>
                      <a:pt x="4304" y="562"/>
                    </a:lnTo>
                    <a:lnTo>
                      <a:pt x="4311" y="556"/>
                    </a:lnTo>
                    <a:lnTo>
                      <a:pt x="4317" y="552"/>
                    </a:lnTo>
                    <a:lnTo>
                      <a:pt x="4322" y="550"/>
                    </a:lnTo>
                    <a:lnTo>
                      <a:pt x="4327" y="550"/>
                    </a:lnTo>
                    <a:lnTo>
                      <a:pt x="4332" y="552"/>
                    </a:lnTo>
                    <a:lnTo>
                      <a:pt x="4343" y="561"/>
                    </a:lnTo>
                    <a:lnTo>
                      <a:pt x="4356" y="576"/>
                    </a:lnTo>
                    <a:lnTo>
                      <a:pt x="4376" y="594"/>
                    </a:lnTo>
                    <a:lnTo>
                      <a:pt x="4402" y="618"/>
                    </a:lnTo>
                    <a:lnTo>
                      <a:pt x="4409" y="622"/>
                    </a:lnTo>
                    <a:lnTo>
                      <a:pt x="4416" y="626"/>
                    </a:lnTo>
                    <a:lnTo>
                      <a:pt x="4425" y="630"/>
                    </a:lnTo>
                    <a:lnTo>
                      <a:pt x="4434" y="630"/>
                    </a:lnTo>
                    <a:lnTo>
                      <a:pt x="4443" y="630"/>
                    </a:lnTo>
                    <a:lnTo>
                      <a:pt x="4453" y="629"/>
                    </a:lnTo>
                    <a:lnTo>
                      <a:pt x="4463" y="626"/>
                    </a:lnTo>
                    <a:lnTo>
                      <a:pt x="4473" y="622"/>
                    </a:lnTo>
                    <a:lnTo>
                      <a:pt x="4483" y="618"/>
                    </a:lnTo>
                    <a:lnTo>
                      <a:pt x="4494" y="611"/>
                    </a:lnTo>
                    <a:lnTo>
                      <a:pt x="4505" y="605"/>
                    </a:lnTo>
                    <a:lnTo>
                      <a:pt x="4515" y="597"/>
                    </a:lnTo>
                    <a:lnTo>
                      <a:pt x="4538" y="579"/>
                    </a:lnTo>
                    <a:lnTo>
                      <a:pt x="4560" y="558"/>
                    </a:lnTo>
                    <a:lnTo>
                      <a:pt x="4584" y="536"/>
                    </a:lnTo>
                    <a:lnTo>
                      <a:pt x="4606" y="512"/>
                    </a:lnTo>
                    <a:lnTo>
                      <a:pt x="4628" y="486"/>
                    </a:lnTo>
                    <a:lnTo>
                      <a:pt x="4650" y="460"/>
                    </a:lnTo>
                    <a:lnTo>
                      <a:pt x="4692" y="408"/>
                    </a:lnTo>
                    <a:lnTo>
                      <a:pt x="4730" y="362"/>
                    </a:lnTo>
                    <a:lnTo>
                      <a:pt x="4747" y="338"/>
                    </a:lnTo>
                    <a:lnTo>
                      <a:pt x="4765" y="312"/>
                    </a:lnTo>
                    <a:lnTo>
                      <a:pt x="4782" y="284"/>
                    </a:lnTo>
                    <a:lnTo>
                      <a:pt x="4799" y="255"/>
                    </a:lnTo>
                    <a:lnTo>
                      <a:pt x="4832" y="194"/>
                    </a:lnTo>
                    <a:lnTo>
                      <a:pt x="4862" y="137"/>
                    </a:lnTo>
                    <a:lnTo>
                      <a:pt x="4888" y="84"/>
                    </a:lnTo>
                    <a:lnTo>
                      <a:pt x="4909" y="41"/>
                    </a:lnTo>
                    <a:lnTo>
                      <a:pt x="4921" y="11"/>
                    </a:lnTo>
                    <a:lnTo>
                      <a:pt x="4926" y="0"/>
                    </a:lnTo>
                    <a:lnTo>
                      <a:pt x="4922" y="9"/>
                    </a:lnTo>
                    <a:lnTo>
                      <a:pt x="4912" y="32"/>
                    </a:lnTo>
                    <a:lnTo>
                      <a:pt x="4899" y="69"/>
                    </a:lnTo>
                    <a:lnTo>
                      <a:pt x="4883" y="113"/>
                    </a:lnTo>
                    <a:lnTo>
                      <a:pt x="4865" y="164"/>
                    </a:lnTo>
                    <a:lnTo>
                      <a:pt x="4848" y="218"/>
                    </a:lnTo>
                    <a:lnTo>
                      <a:pt x="4841" y="246"/>
                    </a:lnTo>
                    <a:lnTo>
                      <a:pt x="4833" y="272"/>
                    </a:lnTo>
                    <a:lnTo>
                      <a:pt x="4827" y="299"/>
                    </a:lnTo>
                    <a:lnTo>
                      <a:pt x="4822" y="324"/>
                    </a:lnTo>
                    <a:lnTo>
                      <a:pt x="4817" y="344"/>
                    </a:lnTo>
                    <a:lnTo>
                      <a:pt x="4811" y="364"/>
                    </a:lnTo>
                    <a:lnTo>
                      <a:pt x="4804" y="383"/>
                    </a:lnTo>
                    <a:lnTo>
                      <a:pt x="4797" y="400"/>
                    </a:lnTo>
                    <a:lnTo>
                      <a:pt x="4788" y="415"/>
                    </a:lnTo>
                    <a:lnTo>
                      <a:pt x="4779" y="428"/>
                    </a:lnTo>
                    <a:lnTo>
                      <a:pt x="4771" y="439"/>
                    </a:lnTo>
                    <a:lnTo>
                      <a:pt x="4762" y="449"/>
                    </a:lnTo>
                    <a:lnTo>
                      <a:pt x="4752" y="460"/>
                    </a:lnTo>
                    <a:lnTo>
                      <a:pt x="4741" y="474"/>
                    </a:lnTo>
                    <a:lnTo>
                      <a:pt x="4731" y="488"/>
                    </a:lnTo>
                    <a:lnTo>
                      <a:pt x="4722" y="503"/>
                    </a:lnTo>
                    <a:lnTo>
                      <a:pt x="4702" y="536"/>
                    </a:lnTo>
                    <a:lnTo>
                      <a:pt x="4681" y="570"/>
                    </a:lnTo>
                    <a:lnTo>
                      <a:pt x="4670" y="587"/>
                    </a:lnTo>
                    <a:lnTo>
                      <a:pt x="4658" y="603"/>
                    </a:lnTo>
                    <a:lnTo>
                      <a:pt x="4645" y="619"/>
                    </a:lnTo>
                    <a:lnTo>
                      <a:pt x="4633" y="635"/>
                    </a:lnTo>
                    <a:lnTo>
                      <a:pt x="4619" y="650"/>
                    </a:lnTo>
                    <a:lnTo>
                      <a:pt x="4605" y="663"/>
                    </a:lnTo>
                    <a:lnTo>
                      <a:pt x="4589" y="674"/>
                    </a:lnTo>
                    <a:lnTo>
                      <a:pt x="4573" y="685"/>
                    </a:lnTo>
                    <a:lnTo>
                      <a:pt x="4548" y="701"/>
                    </a:lnTo>
                    <a:lnTo>
                      <a:pt x="4510" y="727"/>
                    </a:lnTo>
                    <a:lnTo>
                      <a:pt x="4459" y="761"/>
                    </a:lnTo>
                    <a:lnTo>
                      <a:pt x="4400" y="803"/>
                    </a:lnTo>
                    <a:lnTo>
                      <a:pt x="4258" y="904"/>
                    </a:lnTo>
                    <a:lnTo>
                      <a:pt x="4098" y="1019"/>
                    </a:lnTo>
                    <a:lnTo>
                      <a:pt x="3934" y="1137"/>
                    </a:lnTo>
                    <a:lnTo>
                      <a:pt x="3782" y="1247"/>
                    </a:lnTo>
                    <a:lnTo>
                      <a:pt x="3652" y="1340"/>
                    </a:lnTo>
                    <a:lnTo>
                      <a:pt x="3564" y="1402"/>
                    </a:lnTo>
                    <a:lnTo>
                      <a:pt x="3517" y="1433"/>
                    </a:lnTo>
                    <a:lnTo>
                      <a:pt x="3438" y="1481"/>
                    </a:lnTo>
                    <a:lnTo>
                      <a:pt x="3335" y="1542"/>
                    </a:lnTo>
                    <a:lnTo>
                      <a:pt x="3207" y="1616"/>
                    </a:lnTo>
                    <a:lnTo>
                      <a:pt x="3058" y="1700"/>
                    </a:lnTo>
                    <a:lnTo>
                      <a:pt x="2895" y="1791"/>
                    </a:lnTo>
                    <a:lnTo>
                      <a:pt x="2716" y="1887"/>
                    </a:lnTo>
                    <a:lnTo>
                      <a:pt x="2527" y="1987"/>
                    </a:lnTo>
                    <a:lnTo>
                      <a:pt x="2430" y="2037"/>
                    </a:lnTo>
                    <a:lnTo>
                      <a:pt x="2331" y="2087"/>
                    </a:lnTo>
                    <a:lnTo>
                      <a:pt x="2233" y="2138"/>
                    </a:lnTo>
                    <a:lnTo>
                      <a:pt x="2133" y="2187"/>
                    </a:lnTo>
                    <a:lnTo>
                      <a:pt x="2032" y="2235"/>
                    </a:lnTo>
                    <a:lnTo>
                      <a:pt x="1932" y="2283"/>
                    </a:lnTo>
                    <a:lnTo>
                      <a:pt x="1834" y="2328"/>
                    </a:lnTo>
                    <a:lnTo>
                      <a:pt x="1737" y="2373"/>
                    </a:lnTo>
                    <a:lnTo>
                      <a:pt x="1641" y="2416"/>
                    </a:lnTo>
                    <a:lnTo>
                      <a:pt x="1546" y="2455"/>
                    </a:lnTo>
                    <a:lnTo>
                      <a:pt x="1454" y="2493"/>
                    </a:lnTo>
                    <a:lnTo>
                      <a:pt x="1365" y="2528"/>
                    </a:lnTo>
                    <a:lnTo>
                      <a:pt x="1279" y="2560"/>
                    </a:lnTo>
                    <a:lnTo>
                      <a:pt x="1198" y="2588"/>
                    </a:lnTo>
                    <a:lnTo>
                      <a:pt x="1119" y="2611"/>
                    </a:lnTo>
                    <a:lnTo>
                      <a:pt x="1045" y="2632"/>
                    </a:lnTo>
                    <a:lnTo>
                      <a:pt x="1031" y="2636"/>
                    </a:lnTo>
                    <a:lnTo>
                      <a:pt x="989" y="2645"/>
                    </a:lnTo>
                    <a:lnTo>
                      <a:pt x="926" y="2658"/>
                    </a:lnTo>
                    <a:lnTo>
                      <a:pt x="851" y="2673"/>
                    </a:lnTo>
                    <a:lnTo>
                      <a:pt x="769" y="2689"/>
                    </a:lnTo>
                    <a:lnTo>
                      <a:pt x="686" y="2704"/>
                    </a:lnTo>
                    <a:lnTo>
                      <a:pt x="647" y="2710"/>
                    </a:lnTo>
                    <a:lnTo>
                      <a:pt x="610" y="2715"/>
                    </a:lnTo>
                    <a:lnTo>
                      <a:pt x="575" y="2720"/>
                    </a:lnTo>
                    <a:lnTo>
                      <a:pt x="546" y="2722"/>
                    </a:lnTo>
                    <a:lnTo>
                      <a:pt x="493" y="2726"/>
                    </a:lnTo>
                    <a:lnTo>
                      <a:pt x="445" y="2728"/>
                    </a:lnTo>
                    <a:lnTo>
                      <a:pt x="398" y="2731"/>
                    </a:lnTo>
                    <a:lnTo>
                      <a:pt x="355" y="2734"/>
                    </a:lnTo>
                    <a:lnTo>
                      <a:pt x="334" y="2737"/>
                    </a:lnTo>
                    <a:lnTo>
                      <a:pt x="313" y="2739"/>
                    </a:lnTo>
                    <a:lnTo>
                      <a:pt x="293" y="2743"/>
                    </a:lnTo>
                    <a:lnTo>
                      <a:pt x="273" y="2747"/>
                    </a:lnTo>
                    <a:lnTo>
                      <a:pt x="252" y="2753"/>
                    </a:lnTo>
                    <a:lnTo>
                      <a:pt x="232" y="2759"/>
                    </a:lnTo>
                    <a:lnTo>
                      <a:pt x="213" y="2768"/>
                    </a:lnTo>
                    <a:lnTo>
                      <a:pt x="193" y="2776"/>
                    </a:lnTo>
                    <a:lnTo>
                      <a:pt x="177" y="2784"/>
                    </a:lnTo>
                    <a:lnTo>
                      <a:pt x="161" y="2788"/>
                    </a:lnTo>
                    <a:lnTo>
                      <a:pt x="146" y="2791"/>
                    </a:lnTo>
                    <a:lnTo>
                      <a:pt x="133" y="2791"/>
                    </a:lnTo>
                    <a:lnTo>
                      <a:pt x="119" y="2790"/>
                    </a:lnTo>
                    <a:lnTo>
                      <a:pt x="107" y="2786"/>
                    </a:lnTo>
                    <a:lnTo>
                      <a:pt x="94" y="2780"/>
                    </a:lnTo>
                    <a:lnTo>
                      <a:pt x="82" y="2772"/>
                    </a:lnTo>
                    <a:lnTo>
                      <a:pt x="70" y="2764"/>
                    </a:lnTo>
                    <a:lnTo>
                      <a:pt x="59" y="2754"/>
                    </a:lnTo>
                    <a:lnTo>
                      <a:pt x="49" y="2742"/>
                    </a:lnTo>
                    <a:lnTo>
                      <a:pt x="38" y="2728"/>
                    </a:lnTo>
                    <a:lnTo>
                      <a:pt x="28" y="2715"/>
                    </a:lnTo>
                    <a:lnTo>
                      <a:pt x="18" y="2699"/>
                    </a:lnTo>
                    <a:lnTo>
                      <a:pt x="10" y="2683"/>
                    </a:lnTo>
                    <a:lnTo>
                      <a:pt x="0" y="2665"/>
                    </a:lnTo>
                    <a:lnTo>
                      <a:pt x="5" y="2669"/>
                    </a:lnTo>
                    <a:lnTo>
                      <a:pt x="18" y="2678"/>
                    </a:lnTo>
                    <a:lnTo>
                      <a:pt x="28" y="2684"/>
                    </a:lnTo>
                    <a:lnTo>
                      <a:pt x="39" y="2689"/>
                    </a:lnTo>
                    <a:lnTo>
                      <a:pt x="53" y="2695"/>
                    </a:lnTo>
                    <a:lnTo>
                      <a:pt x="67" y="2700"/>
                    </a:lnTo>
                    <a:lnTo>
                      <a:pt x="83" y="2705"/>
                    </a:lnTo>
                    <a:lnTo>
                      <a:pt x="102" y="2707"/>
                    </a:lnTo>
                    <a:lnTo>
                      <a:pt x="120" y="2709"/>
                    </a:lnTo>
                    <a:lnTo>
                      <a:pt x="140" y="2707"/>
                    </a:lnTo>
                    <a:lnTo>
                      <a:pt x="150" y="2706"/>
                    </a:lnTo>
                    <a:lnTo>
                      <a:pt x="160" y="2705"/>
                    </a:lnTo>
                    <a:lnTo>
                      <a:pt x="171" y="2701"/>
                    </a:lnTo>
                    <a:lnTo>
                      <a:pt x="182" y="2699"/>
                    </a:lnTo>
                    <a:lnTo>
                      <a:pt x="192" y="2694"/>
                    </a:lnTo>
                    <a:lnTo>
                      <a:pt x="203" y="2689"/>
                    </a:lnTo>
                    <a:lnTo>
                      <a:pt x="214" y="2683"/>
                    </a:lnTo>
                    <a:lnTo>
                      <a:pt x="225" y="2677"/>
                    </a:lnTo>
                    <a:lnTo>
                      <a:pt x="293" y="2630"/>
                    </a:lnTo>
                    <a:lnTo>
                      <a:pt x="391" y="2560"/>
                    </a:lnTo>
                    <a:lnTo>
                      <a:pt x="516" y="2471"/>
                    </a:lnTo>
                    <a:lnTo>
                      <a:pt x="660" y="2372"/>
                    </a:lnTo>
                    <a:lnTo>
                      <a:pt x="815" y="2266"/>
                    </a:lnTo>
                    <a:lnTo>
                      <a:pt x="974" y="2160"/>
                    </a:lnTo>
                    <a:lnTo>
                      <a:pt x="1053" y="2108"/>
                    </a:lnTo>
                    <a:lnTo>
                      <a:pt x="1130" y="2060"/>
                    </a:lnTo>
                    <a:lnTo>
                      <a:pt x="1205" y="2015"/>
                    </a:lnTo>
                    <a:lnTo>
                      <a:pt x="1277" y="1973"/>
                    </a:lnTo>
                    <a:close/>
                  </a:path>
                </a:pathLst>
              </a:custGeom>
              <a:solidFill>
                <a:srgbClr val="5b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5495760" y="2841840"/>
                <a:ext cx="1548000" cy="869760"/>
              </a:xfrm>
              <a:custGeom>
                <a:avLst/>
                <a:gdLst/>
                <a:ahLst/>
                <a:rect l="l" t="t" r="r" b="b"/>
                <a:pathLst>
                  <a:path w="4877" h="2737">
                    <a:moveTo>
                      <a:pt x="1288" y="1952"/>
                    </a:moveTo>
                    <a:lnTo>
                      <a:pt x="1324" y="1934"/>
                    </a:lnTo>
                    <a:lnTo>
                      <a:pt x="1360" y="1914"/>
                    </a:lnTo>
                    <a:lnTo>
                      <a:pt x="1398" y="1896"/>
                    </a:lnTo>
                    <a:lnTo>
                      <a:pt x="1437" y="1877"/>
                    </a:lnTo>
                    <a:lnTo>
                      <a:pt x="1477" y="1859"/>
                    </a:lnTo>
                    <a:lnTo>
                      <a:pt x="1517" y="1840"/>
                    </a:lnTo>
                    <a:lnTo>
                      <a:pt x="1560" y="1823"/>
                    </a:lnTo>
                    <a:lnTo>
                      <a:pt x="1602" y="1806"/>
                    </a:lnTo>
                    <a:lnTo>
                      <a:pt x="1691" y="1772"/>
                    </a:lnTo>
                    <a:lnTo>
                      <a:pt x="1780" y="1738"/>
                    </a:lnTo>
                    <a:lnTo>
                      <a:pt x="1873" y="1706"/>
                    </a:lnTo>
                    <a:lnTo>
                      <a:pt x="1965" y="1674"/>
                    </a:lnTo>
                    <a:lnTo>
                      <a:pt x="2151" y="1613"/>
                    </a:lnTo>
                    <a:lnTo>
                      <a:pt x="2333" y="1553"/>
                    </a:lnTo>
                    <a:lnTo>
                      <a:pt x="2420" y="1522"/>
                    </a:lnTo>
                    <a:lnTo>
                      <a:pt x="2504" y="1492"/>
                    </a:lnTo>
                    <a:lnTo>
                      <a:pt x="2585" y="1462"/>
                    </a:lnTo>
                    <a:lnTo>
                      <a:pt x="2660" y="1431"/>
                    </a:lnTo>
                    <a:lnTo>
                      <a:pt x="2744" y="1395"/>
                    </a:lnTo>
                    <a:lnTo>
                      <a:pt x="2830" y="1357"/>
                    </a:lnTo>
                    <a:lnTo>
                      <a:pt x="2921" y="1317"/>
                    </a:lnTo>
                    <a:lnTo>
                      <a:pt x="3013" y="1273"/>
                    </a:lnTo>
                    <a:lnTo>
                      <a:pt x="3107" y="1230"/>
                    </a:lnTo>
                    <a:lnTo>
                      <a:pt x="3201" y="1185"/>
                    </a:lnTo>
                    <a:lnTo>
                      <a:pt x="3295" y="1139"/>
                    </a:lnTo>
                    <a:lnTo>
                      <a:pt x="3387" y="1094"/>
                    </a:lnTo>
                    <a:lnTo>
                      <a:pt x="3477" y="1048"/>
                    </a:lnTo>
                    <a:lnTo>
                      <a:pt x="3563" y="1003"/>
                    </a:lnTo>
                    <a:lnTo>
                      <a:pt x="3646" y="960"/>
                    </a:lnTo>
                    <a:lnTo>
                      <a:pt x="3723" y="918"/>
                    </a:lnTo>
                    <a:lnTo>
                      <a:pt x="3793" y="877"/>
                    </a:lnTo>
                    <a:lnTo>
                      <a:pt x="3857" y="841"/>
                    </a:lnTo>
                    <a:lnTo>
                      <a:pt x="3913" y="805"/>
                    </a:lnTo>
                    <a:lnTo>
                      <a:pt x="3959" y="774"/>
                    </a:lnTo>
                    <a:lnTo>
                      <a:pt x="3999" y="747"/>
                    </a:lnTo>
                    <a:lnTo>
                      <a:pt x="4034" y="724"/>
                    </a:lnTo>
                    <a:lnTo>
                      <a:pt x="4066" y="704"/>
                    </a:lnTo>
                    <a:lnTo>
                      <a:pt x="4095" y="687"/>
                    </a:lnTo>
                    <a:lnTo>
                      <a:pt x="4143" y="662"/>
                    </a:lnTo>
                    <a:lnTo>
                      <a:pt x="4181" y="644"/>
                    </a:lnTo>
                    <a:lnTo>
                      <a:pt x="4197" y="636"/>
                    </a:lnTo>
                    <a:lnTo>
                      <a:pt x="4210" y="630"/>
                    </a:lnTo>
                    <a:lnTo>
                      <a:pt x="4224" y="623"/>
                    </a:lnTo>
                    <a:lnTo>
                      <a:pt x="4235" y="615"/>
                    </a:lnTo>
                    <a:lnTo>
                      <a:pt x="4245" y="607"/>
                    </a:lnTo>
                    <a:lnTo>
                      <a:pt x="4255" y="598"/>
                    </a:lnTo>
                    <a:lnTo>
                      <a:pt x="4264" y="586"/>
                    </a:lnTo>
                    <a:lnTo>
                      <a:pt x="4274" y="572"/>
                    </a:lnTo>
                    <a:lnTo>
                      <a:pt x="4283" y="560"/>
                    </a:lnTo>
                    <a:lnTo>
                      <a:pt x="4290" y="549"/>
                    </a:lnTo>
                    <a:lnTo>
                      <a:pt x="4296" y="542"/>
                    </a:lnTo>
                    <a:lnTo>
                      <a:pt x="4303" y="537"/>
                    </a:lnTo>
                    <a:lnTo>
                      <a:pt x="4306" y="534"/>
                    </a:lnTo>
                    <a:lnTo>
                      <a:pt x="4311" y="533"/>
                    </a:lnTo>
                    <a:lnTo>
                      <a:pt x="4315" y="534"/>
                    </a:lnTo>
                    <a:lnTo>
                      <a:pt x="4318" y="538"/>
                    </a:lnTo>
                    <a:lnTo>
                      <a:pt x="4327" y="549"/>
                    </a:lnTo>
                    <a:lnTo>
                      <a:pt x="4339" y="566"/>
                    </a:lnTo>
                    <a:lnTo>
                      <a:pt x="4348" y="576"/>
                    </a:lnTo>
                    <a:lnTo>
                      <a:pt x="4358" y="587"/>
                    </a:lnTo>
                    <a:lnTo>
                      <a:pt x="4369" y="599"/>
                    </a:lnTo>
                    <a:lnTo>
                      <a:pt x="4382" y="610"/>
                    </a:lnTo>
                    <a:lnTo>
                      <a:pt x="4391" y="617"/>
                    </a:lnTo>
                    <a:lnTo>
                      <a:pt x="4398" y="620"/>
                    </a:lnTo>
                    <a:lnTo>
                      <a:pt x="4407" y="622"/>
                    </a:lnTo>
                    <a:lnTo>
                      <a:pt x="4416" y="623"/>
                    </a:lnTo>
                    <a:lnTo>
                      <a:pt x="4426" y="622"/>
                    </a:lnTo>
                    <a:lnTo>
                      <a:pt x="4435" y="619"/>
                    </a:lnTo>
                    <a:lnTo>
                      <a:pt x="4445" y="615"/>
                    </a:lnTo>
                    <a:lnTo>
                      <a:pt x="4455" y="612"/>
                    </a:lnTo>
                    <a:lnTo>
                      <a:pt x="4466" y="606"/>
                    </a:lnTo>
                    <a:lnTo>
                      <a:pt x="4477" y="598"/>
                    </a:lnTo>
                    <a:lnTo>
                      <a:pt x="4488" y="591"/>
                    </a:lnTo>
                    <a:lnTo>
                      <a:pt x="4499" y="582"/>
                    </a:lnTo>
                    <a:lnTo>
                      <a:pt x="4521" y="563"/>
                    </a:lnTo>
                    <a:lnTo>
                      <a:pt x="4545" y="539"/>
                    </a:lnTo>
                    <a:lnTo>
                      <a:pt x="4568" y="515"/>
                    </a:lnTo>
                    <a:lnTo>
                      <a:pt x="4592" y="489"/>
                    </a:lnTo>
                    <a:lnTo>
                      <a:pt x="4615" y="460"/>
                    </a:lnTo>
                    <a:lnTo>
                      <a:pt x="4637" y="433"/>
                    </a:lnTo>
                    <a:lnTo>
                      <a:pt x="4679" y="379"/>
                    </a:lnTo>
                    <a:lnTo>
                      <a:pt x="4717" y="331"/>
                    </a:lnTo>
                    <a:lnTo>
                      <a:pt x="4734" y="308"/>
                    </a:lnTo>
                    <a:lnTo>
                      <a:pt x="4750" y="282"/>
                    </a:lnTo>
                    <a:lnTo>
                      <a:pt x="4766" y="256"/>
                    </a:lnTo>
                    <a:lnTo>
                      <a:pt x="4781" y="229"/>
                    </a:lnTo>
                    <a:lnTo>
                      <a:pt x="4796" y="201"/>
                    </a:lnTo>
                    <a:lnTo>
                      <a:pt x="4808" y="174"/>
                    </a:lnTo>
                    <a:lnTo>
                      <a:pt x="4820" y="147"/>
                    </a:lnTo>
                    <a:lnTo>
                      <a:pt x="4832" y="121"/>
                    </a:lnTo>
                    <a:lnTo>
                      <a:pt x="4851" y="73"/>
                    </a:lnTo>
                    <a:lnTo>
                      <a:pt x="4866" y="35"/>
                    </a:lnTo>
                    <a:lnTo>
                      <a:pt x="4875" y="9"/>
                    </a:lnTo>
                    <a:lnTo>
                      <a:pt x="4877" y="0"/>
                    </a:lnTo>
                    <a:lnTo>
                      <a:pt x="4875" y="7"/>
                    </a:lnTo>
                    <a:lnTo>
                      <a:pt x="4867" y="24"/>
                    </a:lnTo>
                    <a:lnTo>
                      <a:pt x="4857" y="51"/>
                    </a:lnTo>
                    <a:lnTo>
                      <a:pt x="4845" y="85"/>
                    </a:lnTo>
                    <a:lnTo>
                      <a:pt x="4830" y="126"/>
                    </a:lnTo>
                    <a:lnTo>
                      <a:pt x="4817" y="171"/>
                    </a:lnTo>
                    <a:lnTo>
                      <a:pt x="4804" y="219"/>
                    </a:lnTo>
                    <a:lnTo>
                      <a:pt x="4793" y="269"/>
                    </a:lnTo>
                    <a:lnTo>
                      <a:pt x="4788" y="289"/>
                    </a:lnTo>
                    <a:lnTo>
                      <a:pt x="4782" y="309"/>
                    </a:lnTo>
                    <a:lnTo>
                      <a:pt x="4775" y="328"/>
                    </a:lnTo>
                    <a:lnTo>
                      <a:pt x="4768" y="345"/>
                    </a:lnTo>
                    <a:lnTo>
                      <a:pt x="4759" y="360"/>
                    </a:lnTo>
                    <a:lnTo>
                      <a:pt x="4750" y="373"/>
                    </a:lnTo>
                    <a:lnTo>
                      <a:pt x="4742" y="384"/>
                    </a:lnTo>
                    <a:lnTo>
                      <a:pt x="4733" y="394"/>
                    </a:lnTo>
                    <a:lnTo>
                      <a:pt x="4723" y="405"/>
                    </a:lnTo>
                    <a:lnTo>
                      <a:pt x="4712" y="419"/>
                    </a:lnTo>
                    <a:lnTo>
                      <a:pt x="4702" y="433"/>
                    </a:lnTo>
                    <a:lnTo>
                      <a:pt x="4693" y="448"/>
                    </a:lnTo>
                    <a:lnTo>
                      <a:pt x="4673" y="481"/>
                    </a:lnTo>
                    <a:lnTo>
                      <a:pt x="4652" y="515"/>
                    </a:lnTo>
                    <a:lnTo>
                      <a:pt x="4641" y="532"/>
                    </a:lnTo>
                    <a:lnTo>
                      <a:pt x="4629" y="548"/>
                    </a:lnTo>
                    <a:lnTo>
                      <a:pt x="4616" y="564"/>
                    </a:lnTo>
                    <a:lnTo>
                      <a:pt x="4604" y="580"/>
                    </a:lnTo>
                    <a:lnTo>
                      <a:pt x="4590" y="595"/>
                    </a:lnTo>
                    <a:lnTo>
                      <a:pt x="4576" y="608"/>
                    </a:lnTo>
                    <a:lnTo>
                      <a:pt x="4560" y="619"/>
                    </a:lnTo>
                    <a:lnTo>
                      <a:pt x="4544" y="630"/>
                    </a:lnTo>
                    <a:lnTo>
                      <a:pt x="4519" y="646"/>
                    </a:lnTo>
                    <a:lnTo>
                      <a:pt x="4481" y="672"/>
                    </a:lnTo>
                    <a:lnTo>
                      <a:pt x="4430" y="706"/>
                    </a:lnTo>
                    <a:lnTo>
                      <a:pt x="4371" y="748"/>
                    </a:lnTo>
                    <a:lnTo>
                      <a:pt x="4229" y="849"/>
                    </a:lnTo>
                    <a:lnTo>
                      <a:pt x="4069" y="964"/>
                    </a:lnTo>
                    <a:lnTo>
                      <a:pt x="3905" y="1082"/>
                    </a:lnTo>
                    <a:lnTo>
                      <a:pt x="3753" y="1192"/>
                    </a:lnTo>
                    <a:lnTo>
                      <a:pt x="3623" y="1285"/>
                    </a:lnTo>
                    <a:lnTo>
                      <a:pt x="3535" y="1347"/>
                    </a:lnTo>
                    <a:lnTo>
                      <a:pt x="3488" y="1378"/>
                    </a:lnTo>
                    <a:lnTo>
                      <a:pt x="3409" y="1426"/>
                    </a:lnTo>
                    <a:lnTo>
                      <a:pt x="3306" y="1487"/>
                    </a:lnTo>
                    <a:lnTo>
                      <a:pt x="3178" y="1561"/>
                    </a:lnTo>
                    <a:lnTo>
                      <a:pt x="3029" y="1645"/>
                    </a:lnTo>
                    <a:lnTo>
                      <a:pt x="2866" y="1736"/>
                    </a:lnTo>
                    <a:lnTo>
                      <a:pt x="2687" y="1832"/>
                    </a:lnTo>
                    <a:lnTo>
                      <a:pt x="2498" y="1932"/>
                    </a:lnTo>
                    <a:lnTo>
                      <a:pt x="2401" y="1982"/>
                    </a:lnTo>
                    <a:lnTo>
                      <a:pt x="2302" y="2032"/>
                    </a:lnTo>
                    <a:lnTo>
                      <a:pt x="2204" y="2083"/>
                    </a:lnTo>
                    <a:lnTo>
                      <a:pt x="2104" y="2132"/>
                    </a:lnTo>
                    <a:lnTo>
                      <a:pt x="2003" y="2180"/>
                    </a:lnTo>
                    <a:lnTo>
                      <a:pt x="1903" y="2228"/>
                    </a:lnTo>
                    <a:lnTo>
                      <a:pt x="1805" y="2273"/>
                    </a:lnTo>
                    <a:lnTo>
                      <a:pt x="1708" y="2318"/>
                    </a:lnTo>
                    <a:lnTo>
                      <a:pt x="1612" y="2361"/>
                    </a:lnTo>
                    <a:lnTo>
                      <a:pt x="1517" y="2400"/>
                    </a:lnTo>
                    <a:lnTo>
                      <a:pt x="1425" y="2438"/>
                    </a:lnTo>
                    <a:lnTo>
                      <a:pt x="1336" y="2473"/>
                    </a:lnTo>
                    <a:lnTo>
                      <a:pt x="1250" y="2505"/>
                    </a:lnTo>
                    <a:lnTo>
                      <a:pt x="1169" y="2533"/>
                    </a:lnTo>
                    <a:lnTo>
                      <a:pt x="1090" y="2556"/>
                    </a:lnTo>
                    <a:lnTo>
                      <a:pt x="1016" y="2577"/>
                    </a:lnTo>
                    <a:lnTo>
                      <a:pt x="1002" y="2581"/>
                    </a:lnTo>
                    <a:lnTo>
                      <a:pt x="960" y="2590"/>
                    </a:lnTo>
                    <a:lnTo>
                      <a:pt x="897" y="2603"/>
                    </a:lnTo>
                    <a:lnTo>
                      <a:pt x="822" y="2618"/>
                    </a:lnTo>
                    <a:lnTo>
                      <a:pt x="740" y="2634"/>
                    </a:lnTo>
                    <a:lnTo>
                      <a:pt x="657" y="2649"/>
                    </a:lnTo>
                    <a:lnTo>
                      <a:pt x="618" y="2655"/>
                    </a:lnTo>
                    <a:lnTo>
                      <a:pt x="581" y="2660"/>
                    </a:lnTo>
                    <a:lnTo>
                      <a:pt x="546" y="2665"/>
                    </a:lnTo>
                    <a:lnTo>
                      <a:pt x="517" y="2667"/>
                    </a:lnTo>
                    <a:lnTo>
                      <a:pt x="464" y="2671"/>
                    </a:lnTo>
                    <a:lnTo>
                      <a:pt x="416" y="2673"/>
                    </a:lnTo>
                    <a:lnTo>
                      <a:pt x="369" y="2676"/>
                    </a:lnTo>
                    <a:lnTo>
                      <a:pt x="326" y="2679"/>
                    </a:lnTo>
                    <a:lnTo>
                      <a:pt x="305" y="2682"/>
                    </a:lnTo>
                    <a:lnTo>
                      <a:pt x="284" y="2684"/>
                    </a:lnTo>
                    <a:lnTo>
                      <a:pt x="264" y="2688"/>
                    </a:lnTo>
                    <a:lnTo>
                      <a:pt x="244" y="2692"/>
                    </a:lnTo>
                    <a:lnTo>
                      <a:pt x="223" y="2698"/>
                    </a:lnTo>
                    <a:lnTo>
                      <a:pt x="203" y="2704"/>
                    </a:lnTo>
                    <a:lnTo>
                      <a:pt x="184" y="2713"/>
                    </a:lnTo>
                    <a:lnTo>
                      <a:pt x="164" y="2721"/>
                    </a:lnTo>
                    <a:lnTo>
                      <a:pt x="148" y="2729"/>
                    </a:lnTo>
                    <a:lnTo>
                      <a:pt x="134" y="2733"/>
                    </a:lnTo>
                    <a:lnTo>
                      <a:pt x="121" y="2736"/>
                    </a:lnTo>
                    <a:lnTo>
                      <a:pt x="109" y="2737"/>
                    </a:lnTo>
                    <a:lnTo>
                      <a:pt x="97" y="2736"/>
                    </a:lnTo>
                    <a:lnTo>
                      <a:pt x="88" y="2733"/>
                    </a:lnTo>
                    <a:lnTo>
                      <a:pt x="78" y="2730"/>
                    </a:lnTo>
                    <a:lnTo>
                      <a:pt x="69" y="2725"/>
                    </a:lnTo>
                    <a:lnTo>
                      <a:pt x="61" y="2717"/>
                    </a:lnTo>
                    <a:lnTo>
                      <a:pt x="52" y="2710"/>
                    </a:lnTo>
                    <a:lnTo>
                      <a:pt x="43" y="2703"/>
                    </a:lnTo>
                    <a:lnTo>
                      <a:pt x="36" y="2693"/>
                    </a:lnTo>
                    <a:lnTo>
                      <a:pt x="19" y="2674"/>
                    </a:lnTo>
                    <a:lnTo>
                      <a:pt x="0" y="2654"/>
                    </a:lnTo>
                    <a:lnTo>
                      <a:pt x="5" y="2657"/>
                    </a:lnTo>
                    <a:lnTo>
                      <a:pt x="16" y="2663"/>
                    </a:lnTo>
                    <a:lnTo>
                      <a:pt x="25" y="2668"/>
                    </a:lnTo>
                    <a:lnTo>
                      <a:pt x="35" y="2673"/>
                    </a:lnTo>
                    <a:lnTo>
                      <a:pt x="46" y="2677"/>
                    </a:lnTo>
                    <a:lnTo>
                      <a:pt x="59" y="2681"/>
                    </a:lnTo>
                    <a:lnTo>
                      <a:pt x="74" y="2683"/>
                    </a:lnTo>
                    <a:lnTo>
                      <a:pt x="89" y="2684"/>
                    </a:lnTo>
                    <a:lnTo>
                      <a:pt x="106" y="2684"/>
                    </a:lnTo>
                    <a:lnTo>
                      <a:pt x="125" y="2682"/>
                    </a:lnTo>
                    <a:lnTo>
                      <a:pt x="144" y="2678"/>
                    </a:lnTo>
                    <a:lnTo>
                      <a:pt x="164" y="2671"/>
                    </a:lnTo>
                    <a:lnTo>
                      <a:pt x="175" y="2667"/>
                    </a:lnTo>
                    <a:lnTo>
                      <a:pt x="185" y="2661"/>
                    </a:lnTo>
                    <a:lnTo>
                      <a:pt x="196" y="2655"/>
                    </a:lnTo>
                    <a:lnTo>
                      <a:pt x="207" y="2649"/>
                    </a:lnTo>
                    <a:lnTo>
                      <a:pt x="276" y="2602"/>
                    </a:lnTo>
                    <a:lnTo>
                      <a:pt x="379" y="2532"/>
                    </a:lnTo>
                    <a:lnTo>
                      <a:pt x="508" y="2444"/>
                    </a:lnTo>
                    <a:lnTo>
                      <a:pt x="657" y="2346"/>
                    </a:lnTo>
                    <a:lnTo>
                      <a:pt x="817" y="2243"/>
                    </a:lnTo>
                    <a:lnTo>
                      <a:pt x="980" y="2138"/>
                    </a:lnTo>
                    <a:lnTo>
                      <a:pt x="1061" y="2088"/>
                    </a:lnTo>
                    <a:lnTo>
                      <a:pt x="1139" y="2040"/>
                    </a:lnTo>
                    <a:lnTo>
                      <a:pt x="1216" y="1994"/>
                    </a:lnTo>
                    <a:lnTo>
                      <a:pt x="1288" y="1952"/>
                    </a:lnTo>
                    <a:close/>
                  </a:path>
                </a:pathLst>
              </a:custGeom>
              <a:solidFill>
                <a:srgbClr val="56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5504040" y="2859120"/>
                <a:ext cx="1535040" cy="852480"/>
              </a:xfrm>
              <a:custGeom>
                <a:avLst/>
                <a:gdLst/>
                <a:ahLst/>
                <a:rect l="l" t="t" r="r" b="b"/>
                <a:pathLst>
                  <a:path w="4832" h="2683">
                    <a:moveTo>
                      <a:pt x="4766" y="214"/>
                    </a:moveTo>
                    <a:lnTo>
                      <a:pt x="4761" y="234"/>
                    </a:lnTo>
                    <a:lnTo>
                      <a:pt x="4755" y="254"/>
                    </a:lnTo>
                    <a:lnTo>
                      <a:pt x="4748" y="273"/>
                    </a:lnTo>
                    <a:lnTo>
                      <a:pt x="4741" y="290"/>
                    </a:lnTo>
                    <a:lnTo>
                      <a:pt x="4732" y="305"/>
                    </a:lnTo>
                    <a:lnTo>
                      <a:pt x="4723" y="318"/>
                    </a:lnTo>
                    <a:lnTo>
                      <a:pt x="4715" y="329"/>
                    </a:lnTo>
                    <a:lnTo>
                      <a:pt x="4706" y="339"/>
                    </a:lnTo>
                    <a:lnTo>
                      <a:pt x="4696" y="350"/>
                    </a:lnTo>
                    <a:lnTo>
                      <a:pt x="4685" y="364"/>
                    </a:lnTo>
                    <a:lnTo>
                      <a:pt x="4675" y="378"/>
                    </a:lnTo>
                    <a:lnTo>
                      <a:pt x="4666" y="393"/>
                    </a:lnTo>
                    <a:lnTo>
                      <a:pt x="4646" y="426"/>
                    </a:lnTo>
                    <a:lnTo>
                      <a:pt x="4625" y="460"/>
                    </a:lnTo>
                    <a:lnTo>
                      <a:pt x="4614" y="477"/>
                    </a:lnTo>
                    <a:lnTo>
                      <a:pt x="4602" y="493"/>
                    </a:lnTo>
                    <a:lnTo>
                      <a:pt x="4589" y="509"/>
                    </a:lnTo>
                    <a:lnTo>
                      <a:pt x="4577" y="525"/>
                    </a:lnTo>
                    <a:lnTo>
                      <a:pt x="4563" y="540"/>
                    </a:lnTo>
                    <a:lnTo>
                      <a:pt x="4549" y="553"/>
                    </a:lnTo>
                    <a:lnTo>
                      <a:pt x="4533" y="564"/>
                    </a:lnTo>
                    <a:lnTo>
                      <a:pt x="4517" y="575"/>
                    </a:lnTo>
                    <a:lnTo>
                      <a:pt x="4492" y="591"/>
                    </a:lnTo>
                    <a:lnTo>
                      <a:pt x="4454" y="617"/>
                    </a:lnTo>
                    <a:lnTo>
                      <a:pt x="4403" y="651"/>
                    </a:lnTo>
                    <a:lnTo>
                      <a:pt x="4344" y="693"/>
                    </a:lnTo>
                    <a:lnTo>
                      <a:pt x="4202" y="794"/>
                    </a:lnTo>
                    <a:lnTo>
                      <a:pt x="4042" y="909"/>
                    </a:lnTo>
                    <a:lnTo>
                      <a:pt x="3878" y="1027"/>
                    </a:lnTo>
                    <a:lnTo>
                      <a:pt x="3726" y="1137"/>
                    </a:lnTo>
                    <a:lnTo>
                      <a:pt x="3596" y="1230"/>
                    </a:lnTo>
                    <a:lnTo>
                      <a:pt x="3508" y="1292"/>
                    </a:lnTo>
                    <a:lnTo>
                      <a:pt x="3461" y="1323"/>
                    </a:lnTo>
                    <a:lnTo>
                      <a:pt x="3382" y="1371"/>
                    </a:lnTo>
                    <a:lnTo>
                      <a:pt x="3279" y="1432"/>
                    </a:lnTo>
                    <a:lnTo>
                      <a:pt x="3151" y="1506"/>
                    </a:lnTo>
                    <a:lnTo>
                      <a:pt x="3002" y="1590"/>
                    </a:lnTo>
                    <a:lnTo>
                      <a:pt x="2839" y="1681"/>
                    </a:lnTo>
                    <a:lnTo>
                      <a:pt x="2660" y="1777"/>
                    </a:lnTo>
                    <a:lnTo>
                      <a:pt x="2471" y="1877"/>
                    </a:lnTo>
                    <a:lnTo>
                      <a:pt x="2374" y="1927"/>
                    </a:lnTo>
                    <a:lnTo>
                      <a:pt x="2275" y="1977"/>
                    </a:lnTo>
                    <a:lnTo>
                      <a:pt x="2177" y="2028"/>
                    </a:lnTo>
                    <a:lnTo>
                      <a:pt x="2077" y="2077"/>
                    </a:lnTo>
                    <a:lnTo>
                      <a:pt x="1976" y="2125"/>
                    </a:lnTo>
                    <a:lnTo>
                      <a:pt x="1876" y="2173"/>
                    </a:lnTo>
                    <a:lnTo>
                      <a:pt x="1778" y="2218"/>
                    </a:lnTo>
                    <a:lnTo>
                      <a:pt x="1681" y="2263"/>
                    </a:lnTo>
                    <a:lnTo>
                      <a:pt x="1585" y="2306"/>
                    </a:lnTo>
                    <a:lnTo>
                      <a:pt x="1490" y="2345"/>
                    </a:lnTo>
                    <a:lnTo>
                      <a:pt x="1398" y="2383"/>
                    </a:lnTo>
                    <a:lnTo>
                      <a:pt x="1309" y="2418"/>
                    </a:lnTo>
                    <a:lnTo>
                      <a:pt x="1223" y="2450"/>
                    </a:lnTo>
                    <a:lnTo>
                      <a:pt x="1142" y="2478"/>
                    </a:lnTo>
                    <a:lnTo>
                      <a:pt x="1063" y="2501"/>
                    </a:lnTo>
                    <a:lnTo>
                      <a:pt x="989" y="2522"/>
                    </a:lnTo>
                    <a:lnTo>
                      <a:pt x="975" y="2526"/>
                    </a:lnTo>
                    <a:lnTo>
                      <a:pt x="933" y="2535"/>
                    </a:lnTo>
                    <a:lnTo>
                      <a:pt x="870" y="2548"/>
                    </a:lnTo>
                    <a:lnTo>
                      <a:pt x="795" y="2563"/>
                    </a:lnTo>
                    <a:lnTo>
                      <a:pt x="713" y="2579"/>
                    </a:lnTo>
                    <a:lnTo>
                      <a:pt x="630" y="2594"/>
                    </a:lnTo>
                    <a:lnTo>
                      <a:pt x="591" y="2600"/>
                    </a:lnTo>
                    <a:lnTo>
                      <a:pt x="554" y="2605"/>
                    </a:lnTo>
                    <a:lnTo>
                      <a:pt x="519" y="2610"/>
                    </a:lnTo>
                    <a:lnTo>
                      <a:pt x="490" y="2612"/>
                    </a:lnTo>
                    <a:lnTo>
                      <a:pt x="437" y="2616"/>
                    </a:lnTo>
                    <a:lnTo>
                      <a:pt x="389" y="2618"/>
                    </a:lnTo>
                    <a:lnTo>
                      <a:pt x="342" y="2621"/>
                    </a:lnTo>
                    <a:lnTo>
                      <a:pt x="299" y="2624"/>
                    </a:lnTo>
                    <a:lnTo>
                      <a:pt x="278" y="2627"/>
                    </a:lnTo>
                    <a:lnTo>
                      <a:pt x="257" y="2629"/>
                    </a:lnTo>
                    <a:lnTo>
                      <a:pt x="237" y="2633"/>
                    </a:lnTo>
                    <a:lnTo>
                      <a:pt x="217" y="2637"/>
                    </a:lnTo>
                    <a:lnTo>
                      <a:pt x="196" y="2643"/>
                    </a:lnTo>
                    <a:lnTo>
                      <a:pt x="176" y="2649"/>
                    </a:lnTo>
                    <a:lnTo>
                      <a:pt x="157" y="2658"/>
                    </a:lnTo>
                    <a:lnTo>
                      <a:pt x="137" y="2666"/>
                    </a:lnTo>
                    <a:lnTo>
                      <a:pt x="121" y="2674"/>
                    </a:lnTo>
                    <a:lnTo>
                      <a:pt x="109" y="2678"/>
                    </a:lnTo>
                    <a:lnTo>
                      <a:pt x="96" y="2682"/>
                    </a:lnTo>
                    <a:lnTo>
                      <a:pt x="86" y="2683"/>
                    </a:lnTo>
                    <a:lnTo>
                      <a:pt x="78" y="2683"/>
                    </a:lnTo>
                    <a:lnTo>
                      <a:pt x="70" y="2682"/>
                    </a:lnTo>
                    <a:lnTo>
                      <a:pt x="64" y="2680"/>
                    </a:lnTo>
                    <a:lnTo>
                      <a:pt x="57" y="2676"/>
                    </a:lnTo>
                    <a:lnTo>
                      <a:pt x="46" y="2667"/>
                    </a:lnTo>
                    <a:lnTo>
                      <a:pt x="34" y="2658"/>
                    </a:lnTo>
                    <a:lnTo>
                      <a:pt x="27" y="2653"/>
                    </a:lnTo>
                    <a:lnTo>
                      <a:pt x="20" y="2648"/>
                    </a:lnTo>
                    <a:lnTo>
                      <a:pt x="11" y="2643"/>
                    </a:lnTo>
                    <a:lnTo>
                      <a:pt x="0" y="2639"/>
                    </a:lnTo>
                    <a:lnTo>
                      <a:pt x="4" y="2642"/>
                    </a:lnTo>
                    <a:lnTo>
                      <a:pt x="14" y="2648"/>
                    </a:lnTo>
                    <a:lnTo>
                      <a:pt x="21" y="2651"/>
                    </a:lnTo>
                    <a:lnTo>
                      <a:pt x="30" y="2654"/>
                    </a:lnTo>
                    <a:lnTo>
                      <a:pt x="40" y="2658"/>
                    </a:lnTo>
                    <a:lnTo>
                      <a:pt x="51" y="2660"/>
                    </a:lnTo>
                    <a:lnTo>
                      <a:pt x="63" y="2661"/>
                    </a:lnTo>
                    <a:lnTo>
                      <a:pt x="78" y="2661"/>
                    </a:lnTo>
                    <a:lnTo>
                      <a:pt x="93" y="2660"/>
                    </a:lnTo>
                    <a:lnTo>
                      <a:pt x="110" y="2656"/>
                    </a:lnTo>
                    <a:lnTo>
                      <a:pt x="127" y="2651"/>
                    </a:lnTo>
                    <a:lnTo>
                      <a:pt x="147" y="2644"/>
                    </a:lnTo>
                    <a:lnTo>
                      <a:pt x="166" y="2633"/>
                    </a:lnTo>
                    <a:lnTo>
                      <a:pt x="189" y="2621"/>
                    </a:lnTo>
                    <a:lnTo>
                      <a:pt x="260" y="2573"/>
                    </a:lnTo>
                    <a:lnTo>
                      <a:pt x="368" y="2504"/>
                    </a:lnTo>
                    <a:lnTo>
                      <a:pt x="502" y="2418"/>
                    </a:lnTo>
                    <a:lnTo>
                      <a:pt x="655" y="2322"/>
                    </a:lnTo>
                    <a:lnTo>
                      <a:pt x="820" y="2218"/>
                    </a:lnTo>
                    <a:lnTo>
                      <a:pt x="987" y="2116"/>
                    </a:lnTo>
                    <a:lnTo>
                      <a:pt x="1149" y="2018"/>
                    </a:lnTo>
                    <a:lnTo>
                      <a:pt x="1299" y="1931"/>
                    </a:lnTo>
                    <a:lnTo>
                      <a:pt x="1334" y="1911"/>
                    </a:lnTo>
                    <a:lnTo>
                      <a:pt x="1371" y="1893"/>
                    </a:lnTo>
                    <a:lnTo>
                      <a:pt x="1409" y="1874"/>
                    </a:lnTo>
                    <a:lnTo>
                      <a:pt x="1447" y="1856"/>
                    </a:lnTo>
                    <a:lnTo>
                      <a:pt x="1488" y="1838"/>
                    </a:lnTo>
                    <a:lnTo>
                      <a:pt x="1528" y="1821"/>
                    </a:lnTo>
                    <a:lnTo>
                      <a:pt x="1570" y="1804"/>
                    </a:lnTo>
                    <a:lnTo>
                      <a:pt x="1612" y="1787"/>
                    </a:lnTo>
                    <a:lnTo>
                      <a:pt x="1699" y="1755"/>
                    </a:lnTo>
                    <a:lnTo>
                      <a:pt x="1789" y="1723"/>
                    </a:lnTo>
                    <a:lnTo>
                      <a:pt x="1880" y="1692"/>
                    </a:lnTo>
                    <a:lnTo>
                      <a:pt x="1972" y="1661"/>
                    </a:lnTo>
                    <a:lnTo>
                      <a:pt x="2156" y="1601"/>
                    </a:lnTo>
                    <a:lnTo>
                      <a:pt x="2334" y="1543"/>
                    </a:lnTo>
                    <a:lnTo>
                      <a:pt x="2420" y="1514"/>
                    </a:lnTo>
                    <a:lnTo>
                      <a:pt x="2503" y="1483"/>
                    </a:lnTo>
                    <a:lnTo>
                      <a:pt x="2581" y="1453"/>
                    </a:lnTo>
                    <a:lnTo>
                      <a:pt x="2655" y="1423"/>
                    </a:lnTo>
                    <a:lnTo>
                      <a:pt x="2740" y="1386"/>
                    </a:lnTo>
                    <a:lnTo>
                      <a:pt x="2829" y="1345"/>
                    </a:lnTo>
                    <a:lnTo>
                      <a:pt x="2920" y="1303"/>
                    </a:lnTo>
                    <a:lnTo>
                      <a:pt x="3013" y="1259"/>
                    </a:lnTo>
                    <a:lnTo>
                      <a:pt x="3108" y="1214"/>
                    </a:lnTo>
                    <a:lnTo>
                      <a:pt x="3204" y="1167"/>
                    </a:lnTo>
                    <a:lnTo>
                      <a:pt x="3297" y="1119"/>
                    </a:lnTo>
                    <a:lnTo>
                      <a:pt x="3390" y="1072"/>
                    </a:lnTo>
                    <a:lnTo>
                      <a:pt x="3480" y="1025"/>
                    </a:lnTo>
                    <a:lnTo>
                      <a:pt x="3567" y="980"/>
                    </a:lnTo>
                    <a:lnTo>
                      <a:pt x="3649" y="934"/>
                    </a:lnTo>
                    <a:lnTo>
                      <a:pt x="3726" y="891"/>
                    </a:lnTo>
                    <a:lnTo>
                      <a:pt x="3797" y="851"/>
                    </a:lnTo>
                    <a:lnTo>
                      <a:pt x="3860" y="813"/>
                    </a:lnTo>
                    <a:lnTo>
                      <a:pt x="3915" y="778"/>
                    </a:lnTo>
                    <a:lnTo>
                      <a:pt x="3962" y="746"/>
                    </a:lnTo>
                    <a:lnTo>
                      <a:pt x="4001" y="719"/>
                    </a:lnTo>
                    <a:lnTo>
                      <a:pt x="4037" y="696"/>
                    </a:lnTo>
                    <a:lnTo>
                      <a:pt x="4069" y="676"/>
                    </a:lnTo>
                    <a:lnTo>
                      <a:pt x="4096" y="660"/>
                    </a:lnTo>
                    <a:lnTo>
                      <a:pt x="4143" y="635"/>
                    </a:lnTo>
                    <a:lnTo>
                      <a:pt x="4178" y="618"/>
                    </a:lnTo>
                    <a:lnTo>
                      <a:pt x="4193" y="612"/>
                    </a:lnTo>
                    <a:lnTo>
                      <a:pt x="4207" y="606"/>
                    </a:lnTo>
                    <a:lnTo>
                      <a:pt x="4218" y="599"/>
                    </a:lnTo>
                    <a:lnTo>
                      <a:pt x="4229" y="592"/>
                    </a:lnTo>
                    <a:lnTo>
                      <a:pt x="4239" y="584"/>
                    </a:lnTo>
                    <a:lnTo>
                      <a:pt x="4247" y="575"/>
                    </a:lnTo>
                    <a:lnTo>
                      <a:pt x="4257" y="564"/>
                    </a:lnTo>
                    <a:lnTo>
                      <a:pt x="4267" y="551"/>
                    </a:lnTo>
                    <a:lnTo>
                      <a:pt x="4276" y="537"/>
                    </a:lnTo>
                    <a:lnTo>
                      <a:pt x="4283" y="527"/>
                    </a:lnTo>
                    <a:lnTo>
                      <a:pt x="4289" y="521"/>
                    </a:lnTo>
                    <a:lnTo>
                      <a:pt x="4294" y="516"/>
                    </a:lnTo>
                    <a:lnTo>
                      <a:pt x="4298" y="515"/>
                    </a:lnTo>
                    <a:lnTo>
                      <a:pt x="4300" y="515"/>
                    </a:lnTo>
                    <a:lnTo>
                      <a:pt x="4304" y="517"/>
                    </a:lnTo>
                    <a:lnTo>
                      <a:pt x="4306" y="522"/>
                    </a:lnTo>
                    <a:lnTo>
                      <a:pt x="4312" y="536"/>
                    </a:lnTo>
                    <a:lnTo>
                      <a:pt x="4323" y="555"/>
                    </a:lnTo>
                    <a:lnTo>
                      <a:pt x="4331" y="567"/>
                    </a:lnTo>
                    <a:lnTo>
                      <a:pt x="4339" y="578"/>
                    </a:lnTo>
                    <a:lnTo>
                      <a:pt x="4351" y="590"/>
                    </a:lnTo>
                    <a:lnTo>
                      <a:pt x="4364" y="602"/>
                    </a:lnTo>
                    <a:lnTo>
                      <a:pt x="4371" y="607"/>
                    </a:lnTo>
                    <a:lnTo>
                      <a:pt x="4380" y="611"/>
                    </a:lnTo>
                    <a:lnTo>
                      <a:pt x="4389" y="612"/>
                    </a:lnTo>
                    <a:lnTo>
                      <a:pt x="4397" y="613"/>
                    </a:lnTo>
                    <a:lnTo>
                      <a:pt x="4407" y="611"/>
                    </a:lnTo>
                    <a:lnTo>
                      <a:pt x="4417" y="608"/>
                    </a:lnTo>
                    <a:lnTo>
                      <a:pt x="4427" y="605"/>
                    </a:lnTo>
                    <a:lnTo>
                      <a:pt x="4438" y="599"/>
                    </a:lnTo>
                    <a:lnTo>
                      <a:pt x="4449" y="592"/>
                    </a:lnTo>
                    <a:lnTo>
                      <a:pt x="4460" y="585"/>
                    </a:lnTo>
                    <a:lnTo>
                      <a:pt x="4471" y="576"/>
                    </a:lnTo>
                    <a:lnTo>
                      <a:pt x="4482" y="567"/>
                    </a:lnTo>
                    <a:lnTo>
                      <a:pt x="4507" y="544"/>
                    </a:lnTo>
                    <a:lnTo>
                      <a:pt x="4530" y="520"/>
                    </a:lnTo>
                    <a:lnTo>
                      <a:pt x="4555" y="493"/>
                    </a:lnTo>
                    <a:lnTo>
                      <a:pt x="4578" y="464"/>
                    </a:lnTo>
                    <a:lnTo>
                      <a:pt x="4602" y="435"/>
                    </a:lnTo>
                    <a:lnTo>
                      <a:pt x="4625" y="407"/>
                    </a:lnTo>
                    <a:lnTo>
                      <a:pt x="4668" y="350"/>
                    </a:lnTo>
                    <a:lnTo>
                      <a:pt x="4706" y="301"/>
                    </a:lnTo>
                    <a:lnTo>
                      <a:pt x="4723" y="278"/>
                    </a:lnTo>
                    <a:lnTo>
                      <a:pt x="4738" y="253"/>
                    </a:lnTo>
                    <a:lnTo>
                      <a:pt x="4753" y="228"/>
                    </a:lnTo>
                    <a:lnTo>
                      <a:pt x="4765" y="204"/>
                    </a:lnTo>
                    <a:lnTo>
                      <a:pt x="4776" y="178"/>
                    </a:lnTo>
                    <a:lnTo>
                      <a:pt x="4786" y="153"/>
                    </a:lnTo>
                    <a:lnTo>
                      <a:pt x="4796" y="129"/>
                    </a:lnTo>
                    <a:lnTo>
                      <a:pt x="4803" y="105"/>
                    </a:lnTo>
                    <a:lnTo>
                      <a:pt x="4817" y="63"/>
                    </a:lnTo>
                    <a:lnTo>
                      <a:pt x="4825" y="29"/>
                    </a:lnTo>
                    <a:lnTo>
                      <a:pt x="4830" y="7"/>
                    </a:lnTo>
                    <a:lnTo>
                      <a:pt x="4832" y="0"/>
                    </a:lnTo>
                    <a:lnTo>
                      <a:pt x="4829" y="3"/>
                    </a:lnTo>
                    <a:lnTo>
                      <a:pt x="4824" y="14"/>
                    </a:lnTo>
                    <a:lnTo>
                      <a:pt x="4817" y="33"/>
                    </a:lnTo>
                    <a:lnTo>
                      <a:pt x="4808" y="57"/>
                    </a:lnTo>
                    <a:lnTo>
                      <a:pt x="4797" y="88"/>
                    </a:lnTo>
                    <a:lnTo>
                      <a:pt x="4787" y="125"/>
                    </a:lnTo>
                    <a:lnTo>
                      <a:pt x="4776" y="167"/>
                    </a:lnTo>
                    <a:lnTo>
                      <a:pt x="4766" y="214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5703840" y="3270240"/>
                <a:ext cx="858960" cy="373320"/>
              </a:xfrm>
              <a:custGeom>
                <a:avLst/>
                <a:gdLst/>
                <a:ahLst/>
                <a:rect l="l" t="t" r="r" b="b"/>
                <a:pathLst>
                  <a:path w="2705" h="1175">
                    <a:moveTo>
                      <a:pt x="75" y="1073"/>
                    </a:moveTo>
                    <a:lnTo>
                      <a:pt x="116" y="1042"/>
                    </a:lnTo>
                    <a:lnTo>
                      <a:pt x="235" y="960"/>
                    </a:lnTo>
                    <a:lnTo>
                      <a:pt x="318" y="904"/>
                    </a:lnTo>
                    <a:lnTo>
                      <a:pt x="419" y="842"/>
                    </a:lnTo>
                    <a:lnTo>
                      <a:pt x="474" y="807"/>
                    </a:lnTo>
                    <a:lnTo>
                      <a:pt x="533" y="773"/>
                    </a:lnTo>
                    <a:lnTo>
                      <a:pt x="595" y="737"/>
                    </a:lnTo>
                    <a:lnTo>
                      <a:pt x="660" y="700"/>
                    </a:lnTo>
                    <a:lnTo>
                      <a:pt x="728" y="663"/>
                    </a:lnTo>
                    <a:lnTo>
                      <a:pt x="799" y="626"/>
                    </a:lnTo>
                    <a:lnTo>
                      <a:pt x="873" y="588"/>
                    </a:lnTo>
                    <a:lnTo>
                      <a:pt x="949" y="551"/>
                    </a:lnTo>
                    <a:lnTo>
                      <a:pt x="1028" y="516"/>
                    </a:lnTo>
                    <a:lnTo>
                      <a:pt x="1108" y="480"/>
                    </a:lnTo>
                    <a:lnTo>
                      <a:pt x="1192" y="444"/>
                    </a:lnTo>
                    <a:lnTo>
                      <a:pt x="1277" y="411"/>
                    </a:lnTo>
                    <a:lnTo>
                      <a:pt x="1363" y="378"/>
                    </a:lnTo>
                    <a:lnTo>
                      <a:pt x="1450" y="347"/>
                    </a:lnTo>
                    <a:lnTo>
                      <a:pt x="1540" y="319"/>
                    </a:lnTo>
                    <a:lnTo>
                      <a:pt x="1631" y="292"/>
                    </a:lnTo>
                    <a:lnTo>
                      <a:pt x="1723" y="267"/>
                    </a:lnTo>
                    <a:lnTo>
                      <a:pt x="1815" y="245"/>
                    </a:lnTo>
                    <a:lnTo>
                      <a:pt x="1909" y="225"/>
                    </a:lnTo>
                    <a:lnTo>
                      <a:pt x="2004" y="209"/>
                    </a:lnTo>
                    <a:lnTo>
                      <a:pt x="2071" y="184"/>
                    </a:lnTo>
                    <a:lnTo>
                      <a:pt x="2235" y="126"/>
                    </a:lnTo>
                    <a:lnTo>
                      <a:pt x="2335" y="91"/>
                    </a:lnTo>
                    <a:lnTo>
                      <a:pt x="2435" y="59"/>
                    </a:lnTo>
                    <a:lnTo>
                      <a:pt x="2483" y="45"/>
                    </a:lnTo>
                    <a:lnTo>
                      <a:pt x="2530" y="31"/>
                    </a:lnTo>
                    <a:lnTo>
                      <a:pt x="2572" y="20"/>
                    </a:lnTo>
                    <a:lnTo>
                      <a:pt x="2610" y="10"/>
                    </a:lnTo>
                    <a:lnTo>
                      <a:pt x="2643" y="4"/>
                    </a:lnTo>
                    <a:lnTo>
                      <a:pt x="2670" y="0"/>
                    </a:lnTo>
                    <a:lnTo>
                      <a:pt x="2690" y="1"/>
                    </a:lnTo>
                    <a:lnTo>
                      <a:pt x="2702" y="5"/>
                    </a:lnTo>
                    <a:lnTo>
                      <a:pt x="2705" y="14"/>
                    </a:lnTo>
                    <a:lnTo>
                      <a:pt x="2698" y="27"/>
                    </a:lnTo>
                    <a:lnTo>
                      <a:pt x="2679" y="46"/>
                    </a:lnTo>
                    <a:lnTo>
                      <a:pt x="2650" y="69"/>
                    </a:lnTo>
                    <a:lnTo>
                      <a:pt x="2606" y="100"/>
                    </a:lnTo>
                    <a:lnTo>
                      <a:pt x="2550" y="136"/>
                    </a:lnTo>
                    <a:lnTo>
                      <a:pt x="2479" y="179"/>
                    </a:lnTo>
                    <a:lnTo>
                      <a:pt x="2392" y="229"/>
                    </a:lnTo>
                    <a:lnTo>
                      <a:pt x="2289" y="286"/>
                    </a:lnTo>
                    <a:lnTo>
                      <a:pt x="2168" y="352"/>
                    </a:lnTo>
                    <a:lnTo>
                      <a:pt x="2029" y="426"/>
                    </a:lnTo>
                    <a:lnTo>
                      <a:pt x="1871" y="508"/>
                    </a:lnTo>
                    <a:lnTo>
                      <a:pt x="1788" y="549"/>
                    </a:lnTo>
                    <a:lnTo>
                      <a:pt x="1631" y="624"/>
                    </a:lnTo>
                    <a:lnTo>
                      <a:pt x="1531" y="672"/>
                    </a:lnTo>
                    <a:lnTo>
                      <a:pt x="1419" y="724"/>
                    </a:lnTo>
                    <a:lnTo>
                      <a:pt x="1299" y="778"/>
                    </a:lnTo>
                    <a:lnTo>
                      <a:pt x="1172" y="834"/>
                    </a:lnTo>
                    <a:lnTo>
                      <a:pt x="1042" y="891"/>
                    </a:lnTo>
                    <a:lnTo>
                      <a:pt x="909" y="945"/>
                    </a:lnTo>
                    <a:lnTo>
                      <a:pt x="843" y="972"/>
                    </a:lnTo>
                    <a:lnTo>
                      <a:pt x="778" y="998"/>
                    </a:lnTo>
                    <a:lnTo>
                      <a:pt x="714" y="1021"/>
                    </a:lnTo>
                    <a:lnTo>
                      <a:pt x="652" y="1045"/>
                    </a:lnTo>
                    <a:lnTo>
                      <a:pt x="590" y="1067"/>
                    </a:lnTo>
                    <a:lnTo>
                      <a:pt x="531" y="1086"/>
                    </a:lnTo>
                    <a:lnTo>
                      <a:pt x="474" y="1105"/>
                    </a:lnTo>
                    <a:lnTo>
                      <a:pt x="419" y="1121"/>
                    </a:lnTo>
                    <a:lnTo>
                      <a:pt x="367" y="1136"/>
                    </a:lnTo>
                    <a:lnTo>
                      <a:pt x="319" y="1147"/>
                    </a:lnTo>
                    <a:lnTo>
                      <a:pt x="274" y="1156"/>
                    </a:lnTo>
                    <a:lnTo>
                      <a:pt x="232" y="1163"/>
                    </a:lnTo>
                    <a:lnTo>
                      <a:pt x="196" y="1168"/>
                    </a:lnTo>
                    <a:lnTo>
                      <a:pt x="163" y="1171"/>
                    </a:lnTo>
                    <a:lnTo>
                      <a:pt x="135" y="1172"/>
                    </a:lnTo>
                    <a:lnTo>
                      <a:pt x="109" y="1175"/>
                    </a:lnTo>
                    <a:lnTo>
                      <a:pt x="86" y="1175"/>
                    </a:lnTo>
                    <a:lnTo>
                      <a:pt x="66" y="1175"/>
                    </a:lnTo>
                    <a:lnTo>
                      <a:pt x="50" y="1174"/>
                    </a:lnTo>
                    <a:lnTo>
                      <a:pt x="35" y="1171"/>
                    </a:lnTo>
                    <a:lnTo>
                      <a:pt x="24" y="1169"/>
                    </a:lnTo>
                    <a:lnTo>
                      <a:pt x="16" y="1166"/>
                    </a:lnTo>
                    <a:lnTo>
                      <a:pt x="8" y="1163"/>
                    </a:lnTo>
                    <a:lnTo>
                      <a:pt x="3" y="1158"/>
                    </a:lnTo>
                    <a:lnTo>
                      <a:pt x="1" y="1154"/>
                    </a:lnTo>
                    <a:lnTo>
                      <a:pt x="0" y="1149"/>
                    </a:lnTo>
                    <a:lnTo>
                      <a:pt x="0" y="1144"/>
                    </a:lnTo>
                    <a:lnTo>
                      <a:pt x="1" y="1138"/>
                    </a:lnTo>
                    <a:lnTo>
                      <a:pt x="3" y="1133"/>
                    </a:lnTo>
                    <a:lnTo>
                      <a:pt x="7" y="1127"/>
                    </a:lnTo>
                    <a:lnTo>
                      <a:pt x="12" y="1121"/>
                    </a:lnTo>
                    <a:lnTo>
                      <a:pt x="17" y="1116"/>
                    </a:lnTo>
                    <a:lnTo>
                      <a:pt x="29" y="1105"/>
                    </a:lnTo>
                    <a:lnTo>
                      <a:pt x="43" y="1095"/>
                    </a:lnTo>
                    <a:lnTo>
                      <a:pt x="65" y="1079"/>
                    </a:lnTo>
                    <a:lnTo>
                      <a:pt x="75" y="1073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5735520" y="3292560"/>
                <a:ext cx="773280" cy="333360"/>
              </a:xfrm>
              <a:custGeom>
                <a:avLst/>
                <a:gdLst/>
                <a:ahLst/>
                <a:rect l="l" t="t" r="r" b="b"/>
                <a:pathLst>
                  <a:path w="2432" h="1053">
                    <a:moveTo>
                      <a:pt x="1823" y="177"/>
                    </a:moveTo>
                    <a:lnTo>
                      <a:pt x="1882" y="155"/>
                    </a:lnTo>
                    <a:lnTo>
                      <a:pt x="2025" y="105"/>
                    </a:lnTo>
                    <a:lnTo>
                      <a:pt x="2111" y="77"/>
                    </a:lnTo>
                    <a:lnTo>
                      <a:pt x="2199" y="48"/>
                    </a:lnTo>
                    <a:lnTo>
                      <a:pt x="2240" y="36"/>
                    </a:lnTo>
                    <a:lnTo>
                      <a:pt x="2280" y="25"/>
                    </a:lnTo>
                    <a:lnTo>
                      <a:pt x="2318" y="15"/>
                    </a:lnTo>
                    <a:lnTo>
                      <a:pt x="2351" y="8"/>
                    </a:lnTo>
                    <a:lnTo>
                      <a:pt x="2379" y="3"/>
                    </a:lnTo>
                    <a:lnTo>
                      <a:pt x="2403" y="0"/>
                    </a:lnTo>
                    <a:lnTo>
                      <a:pt x="2420" y="0"/>
                    </a:lnTo>
                    <a:lnTo>
                      <a:pt x="2430" y="5"/>
                    </a:lnTo>
                    <a:lnTo>
                      <a:pt x="2432" y="13"/>
                    </a:lnTo>
                    <a:lnTo>
                      <a:pt x="2426" y="24"/>
                    </a:lnTo>
                    <a:lnTo>
                      <a:pt x="2411" y="41"/>
                    </a:lnTo>
                    <a:lnTo>
                      <a:pt x="2386" y="62"/>
                    </a:lnTo>
                    <a:lnTo>
                      <a:pt x="2349" y="88"/>
                    </a:lnTo>
                    <a:lnTo>
                      <a:pt x="2299" y="120"/>
                    </a:lnTo>
                    <a:lnTo>
                      <a:pt x="2238" y="157"/>
                    </a:lnTo>
                    <a:lnTo>
                      <a:pt x="2163" y="201"/>
                    </a:lnTo>
                    <a:lnTo>
                      <a:pt x="2074" y="250"/>
                    </a:lnTo>
                    <a:lnTo>
                      <a:pt x="1970" y="308"/>
                    </a:lnTo>
                    <a:lnTo>
                      <a:pt x="1849" y="372"/>
                    </a:lnTo>
                    <a:lnTo>
                      <a:pt x="1713" y="443"/>
                    </a:lnTo>
                    <a:lnTo>
                      <a:pt x="1634" y="483"/>
                    </a:lnTo>
                    <a:lnTo>
                      <a:pt x="1489" y="553"/>
                    </a:lnTo>
                    <a:lnTo>
                      <a:pt x="1396" y="596"/>
                    </a:lnTo>
                    <a:lnTo>
                      <a:pt x="1293" y="644"/>
                    </a:lnTo>
                    <a:lnTo>
                      <a:pt x="1182" y="693"/>
                    </a:lnTo>
                    <a:lnTo>
                      <a:pt x="1066" y="745"/>
                    </a:lnTo>
                    <a:lnTo>
                      <a:pt x="946" y="796"/>
                    </a:lnTo>
                    <a:lnTo>
                      <a:pt x="826" y="845"/>
                    </a:lnTo>
                    <a:lnTo>
                      <a:pt x="706" y="893"/>
                    </a:lnTo>
                    <a:lnTo>
                      <a:pt x="591" y="936"/>
                    </a:lnTo>
                    <a:lnTo>
                      <a:pt x="535" y="956"/>
                    </a:lnTo>
                    <a:lnTo>
                      <a:pt x="481" y="975"/>
                    </a:lnTo>
                    <a:lnTo>
                      <a:pt x="429" y="992"/>
                    </a:lnTo>
                    <a:lnTo>
                      <a:pt x="379" y="1007"/>
                    </a:lnTo>
                    <a:lnTo>
                      <a:pt x="332" y="1019"/>
                    </a:lnTo>
                    <a:lnTo>
                      <a:pt x="288" y="1030"/>
                    </a:lnTo>
                    <a:lnTo>
                      <a:pt x="247" y="1038"/>
                    </a:lnTo>
                    <a:lnTo>
                      <a:pt x="209" y="1043"/>
                    </a:lnTo>
                    <a:lnTo>
                      <a:pt x="177" y="1047"/>
                    </a:lnTo>
                    <a:lnTo>
                      <a:pt x="148" y="1051"/>
                    </a:lnTo>
                    <a:lnTo>
                      <a:pt x="122" y="1052"/>
                    </a:lnTo>
                    <a:lnTo>
                      <a:pt x="99" y="1053"/>
                    </a:lnTo>
                    <a:lnTo>
                      <a:pt x="78" y="1053"/>
                    </a:lnTo>
                    <a:lnTo>
                      <a:pt x="60" y="1053"/>
                    </a:lnTo>
                    <a:lnTo>
                      <a:pt x="46" y="1052"/>
                    </a:lnTo>
                    <a:lnTo>
                      <a:pt x="33" y="1050"/>
                    </a:lnTo>
                    <a:lnTo>
                      <a:pt x="22" y="1047"/>
                    </a:lnTo>
                    <a:lnTo>
                      <a:pt x="15" y="1045"/>
                    </a:lnTo>
                    <a:lnTo>
                      <a:pt x="9" y="1041"/>
                    </a:lnTo>
                    <a:lnTo>
                      <a:pt x="4" y="1037"/>
                    </a:lnTo>
                    <a:lnTo>
                      <a:pt x="1" y="1034"/>
                    </a:lnTo>
                    <a:lnTo>
                      <a:pt x="0" y="1029"/>
                    </a:lnTo>
                    <a:lnTo>
                      <a:pt x="0" y="1024"/>
                    </a:lnTo>
                    <a:lnTo>
                      <a:pt x="1" y="1019"/>
                    </a:lnTo>
                    <a:lnTo>
                      <a:pt x="4" y="1014"/>
                    </a:lnTo>
                    <a:lnTo>
                      <a:pt x="7" y="1009"/>
                    </a:lnTo>
                    <a:lnTo>
                      <a:pt x="11" y="1004"/>
                    </a:lnTo>
                    <a:lnTo>
                      <a:pt x="16" y="998"/>
                    </a:lnTo>
                    <a:lnTo>
                      <a:pt x="27" y="988"/>
                    </a:lnTo>
                    <a:lnTo>
                      <a:pt x="39" y="979"/>
                    </a:lnTo>
                    <a:lnTo>
                      <a:pt x="59" y="965"/>
                    </a:lnTo>
                    <a:lnTo>
                      <a:pt x="69" y="960"/>
                    </a:lnTo>
                    <a:lnTo>
                      <a:pt x="107" y="931"/>
                    </a:lnTo>
                    <a:lnTo>
                      <a:pt x="215" y="858"/>
                    </a:lnTo>
                    <a:lnTo>
                      <a:pt x="293" y="806"/>
                    </a:lnTo>
                    <a:lnTo>
                      <a:pt x="384" y="749"/>
                    </a:lnTo>
                    <a:lnTo>
                      <a:pt x="434" y="719"/>
                    </a:lnTo>
                    <a:lnTo>
                      <a:pt x="489" y="687"/>
                    </a:lnTo>
                    <a:lnTo>
                      <a:pt x="545" y="655"/>
                    </a:lnTo>
                    <a:lnTo>
                      <a:pt x="605" y="622"/>
                    </a:lnTo>
                    <a:lnTo>
                      <a:pt x="667" y="588"/>
                    </a:lnTo>
                    <a:lnTo>
                      <a:pt x="732" y="554"/>
                    </a:lnTo>
                    <a:lnTo>
                      <a:pt x="799" y="521"/>
                    </a:lnTo>
                    <a:lnTo>
                      <a:pt x="869" y="487"/>
                    </a:lnTo>
                    <a:lnTo>
                      <a:pt x="940" y="454"/>
                    </a:lnTo>
                    <a:lnTo>
                      <a:pt x="1014" y="421"/>
                    </a:lnTo>
                    <a:lnTo>
                      <a:pt x="1089" y="390"/>
                    </a:lnTo>
                    <a:lnTo>
                      <a:pt x="1165" y="360"/>
                    </a:lnTo>
                    <a:lnTo>
                      <a:pt x="1244" y="330"/>
                    </a:lnTo>
                    <a:lnTo>
                      <a:pt x="1324" y="302"/>
                    </a:lnTo>
                    <a:lnTo>
                      <a:pt x="1405" y="276"/>
                    </a:lnTo>
                    <a:lnTo>
                      <a:pt x="1487" y="251"/>
                    </a:lnTo>
                    <a:lnTo>
                      <a:pt x="1570" y="229"/>
                    </a:lnTo>
                    <a:lnTo>
                      <a:pt x="1654" y="209"/>
                    </a:lnTo>
                    <a:lnTo>
                      <a:pt x="1738" y="192"/>
                    </a:lnTo>
                    <a:lnTo>
                      <a:pt x="1823" y="177"/>
                    </a:lnTo>
                    <a:close/>
                  </a:path>
                </a:pathLst>
              </a:custGeom>
              <a:solidFill>
                <a:srgbClr val="564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5770440" y="3314880"/>
                <a:ext cx="684360" cy="295200"/>
              </a:xfrm>
              <a:custGeom>
                <a:avLst/>
                <a:gdLst/>
                <a:ahLst/>
                <a:rect l="l" t="t" r="r" b="b"/>
                <a:pathLst>
                  <a:path w="2157" h="932">
                    <a:moveTo>
                      <a:pt x="1640" y="146"/>
                    </a:moveTo>
                    <a:lnTo>
                      <a:pt x="1691" y="127"/>
                    </a:lnTo>
                    <a:lnTo>
                      <a:pt x="1811" y="85"/>
                    </a:lnTo>
                    <a:lnTo>
                      <a:pt x="1884" y="62"/>
                    </a:lnTo>
                    <a:lnTo>
                      <a:pt x="1957" y="40"/>
                    </a:lnTo>
                    <a:lnTo>
                      <a:pt x="1993" y="29"/>
                    </a:lnTo>
                    <a:lnTo>
                      <a:pt x="2026" y="20"/>
                    </a:lnTo>
                    <a:lnTo>
                      <a:pt x="2058" y="12"/>
                    </a:lnTo>
                    <a:lnTo>
                      <a:pt x="2087" y="7"/>
                    </a:lnTo>
                    <a:lnTo>
                      <a:pt x="2111" y="2"/>
                    </a:lnTo>
                    <a:lnTo>
                      <a:pt x="2131" y="0"/>
                    </a:lnTo>
                    <a:lnTo>
                      <a:pt x="2146" y="0"/>
                    </a:lnTo>
                    <a:lnTo>
                      <a:pt x="2154" y="4"/>
                    </a:lnTo>
                    <a:lnTo>
                      <a:pt x="2157" y="12"/>
                    </a:lnTo>
                    <a:lnTo>
                      <a:pt x="2151" y="21"/>
                    </a:lnTo>
                    <a:lnTo>
                      <a:pt x="2138" y="36"/>
                    </a:lnTo>
                    <a:lnTo>
                      <a:pt x="2116" y="53"/>
                    </a:lnTo>
                    <a:lnTo>
                      <a:pt x="2085" y="76"/>
                    </a:lnTo>
                    <a:lnTo>
                      <a:pt x="2044" y="103"/>
                    </a:lnTo>
                    <a:lnTo>
                      <a:pt x="1992" y="135"/>
                    </a:lnTo>
                    <a:lnTo>
                      <a:pt x="1929" y="171"/>
                    </a:lnTo>
                    <a:lnTo>
                      <a:pt x="1854" y="213"/>
                    </a:lnTo>
                    <a:lnTo>
                      <a:pt x="1766" y="261"/>
                    </a:lnTo>
                    <a:lnTo>
                      <a:pt x="1663" y="315"/>
                    </a:lnTo>
                    <a:lnTo>
                      <a:pt x="1548" y="376"/>
                    </a:lnTo>
                    <a:lnTo>
                      <a:pt x="1474" y="414"/>
                    </a:lnTo>
                    <a:lnTo>
                      <a:pt x="1340" y="478"/>
                    </a:lnTo>
                    <a:lnTo>
                      <a:pt x="1255" y="518"/>
                    </a:lnTo>
                    <a:lnTo>
                      <a:pt x="1162" y="561"/>
                    </a:lnTo>
                    <a:lnTo>
                      <a:pt x="1061" y="607"/>
                    </a:lnTo>
                    <a:lnTo>
                      <a:pt x="955" y="654"/>
                    </a:lnTo>
                    <a:lnTo>
                      <a:pt x="847" y="699"/>
                    </a:lnTo>
                    <a:lnTo>
                      <a:pt x="738" y="745"/>
                    </a:lnTo>
                    <a:lnTo>
                      <a:pt x="630" y="788"/>
                    </a:lnTo>
                    <a:lnTo>
                      <a:pt x="527" y="826"/>
                    </a:lnTo>
                    <a:lnTo>
                      <a:pt x="476" y="844"/>
                    </a:lnTo>
                    <a:lnTo>
                      <a:pt x="428" y="860"/>
                    </a:lnTo>
                    <a:lnTo>
                      <a:pt x="382" y="875"/>
                    </a:lnTo>
                    <a:lnTo>
                      <a:pt x="337" y="889"/>
                    </a:lnTo>
                    <a:lnTo>
                      <a:pt x="295" y="900"/>
                    </a:lnTo>
                    <a:lnTo>
                      <a:pt x="256" y="909"/>
                    </a:lnTo>
                    <a:lnTo>
                      <a:pt x="220" y="917"/>
                    </a:lnTo>
                    <a:lnTo>
                      <a:pt x="187" y="922"/>
                    </a:lnTo>
                    <a:lnTo>
                      <a:pt x="132" y="928"/>
                    </a:lnTo>
                    <a:lnTo>
                      <a:pt x="87" y="930"/>
                    </a:lnTo>
                    <a:lnTo>
                      <a:pt x="70" y="932"/>
                    </a:lnTo>
                    <a:lnTo>
                      <a:pt x="54" y="930"/>
                    </a:lnTo>
                    <a:lnTo>
                      <a:pt x="41" y="929"/>
                    </a:lnTo>
                    <a:lnTo>
                      <a:pt x="30" y="928"/>
                    </a:lnTo>
                    <a:lnTo>
                      <a:pt x="20" y="925"/>
                    </a:lnTo>
                    <a:lnTo>
                      <a:pt x="12" y="923"/>
                    </a:lnTo>
                    <a:lnTo>
                      <a:pt x="8" y="921"/>
                    </a:lnTo>
                    <a:lnTo>
                      <a:pt x="4" y="917"/>
                    </a:lnTo>
                    <a:lnTo>
                      <a:pt x="1" y="913"/>
                    </a:lnTo>
                    <a:lnTo>
                      <a:pt x="0" y="909"/>
                    </a:lnTo>
                    <a:lnTo>
                      <a:pt x="0" y="905"/>
                    </a:lnTo>
                    <a:lnTo>
                      <a:pt x="1" y="901"/>
                    </a:lnTo>
                    <a:lnTo>
                      <a:pt x="6" y="892"/>
                    </a:lnTo>
                    <a:lnTo>
                      <a:pt x="14" y="882"/>
                    </a:lnTo>
                    <a:lnTo>
                      <a:pt x="24" y="874"/>
                    </a:lnTo>
                    <a:lnTo>
                      <a:pt x="33" y="866"/>
                    </a:lnTo>
                    <a:lnTo>
                      <a:pt x="52" y="854"/>
                    </a:lnTo>
                    <a:lnTo>
                      <a:pt x="59" y="849"/>
                    </a:lnTo>
                    <a:lnTo>
                      <a:pt x="94" y="823"/>
                    </a:lnTo>
                    <a:lnTo>
                      <a:pt x="192" y="757"/>
                    </a:lnTo>
                    <a:lnTo>
                      <a:pt x="263" y="711"/>
                    </a:lnTo>
                    <a:lnTo>
                      <a:pt x="346" y="660"/>
                    </a:lnTo>
                    <a:lnTo>
                      <a:pt x="393" y="633"/>
                    </a:lnTo>
                    <a:lnTo>
                      <a:pt x="441" y="604"/>
                    </a:lnTo>
                    <a:lnTo>
                      <a:pt x="492" y="575"/>
                    </a:lnTo>
                    <a:lnTo>
                      <a:pt x="546" y="545"/>
                    </a:lnTo>
                    <a:lnTo>
                      <a:pt x="603" y="515"/>
                    </a:lnTo>
                    <a:lnTo>
                      <a:pt x="661" y="485"/>
                    </a:lnTo>
                    <a:lnTo>
                      <a:pt x="722" y="454"/>
                    </a:lnTo>
                    <a:lnTo>
                      <a:pt x="785" y="424"/>
                    </a:lnTo>
                    <a:lnTo>
                      <a:pt x="849" y="394"/>
                    </a:lnTo>
                    <a:lnTo>
                      <a:pt x="915" y="365"/>
                    </a:lnTo>
                    <a:lnTo>
                      <a:pt x="983" y="336"/>
                    </a:lnTo>
                    <a:lnTo>
                      <a:pt x="1052" y="309"/>
                    </a:lnTo>
                    <a:lnTo>
                      <a:pt x="1122" y="282"/>
                    </a:lnTo>
                    <a:lnTo>
                      <a:pt x="1193" y="258"/>
                    </a:lnTo>
                    <a:lnTo>
                      <a:pt x="1266" y="234"/>
                    </a:lnTo>
                    <a:lnTo>
                      <a:pt x="1340" y="212"/>
                    </a:lnTo>
                    <a:lnTo>
                      <a:pt x="1415" y="192"/>
                    </a:lnTo>
                    <a:lnTo>
                      <a:pt x="1490" y="174"/>
                    </a:lnTo>
                    <a:lnTo>
                      <a:pt x="1565" y="159"/>
                    </a:lnTo>
                    <a:lnTo>
                      <a:pt x="1640" y="146"/>
                    </a:lnTo>
                    <a:close/>
                  </a:path>
                </a:pathLst>
              </a:custGeom>
              <a:solidFill>
                <a:srgbClr val="574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5803920" y="3337200"/>
                <a:ext cx="596880" cy="255240"/>
              </a:xfrm>
              <a:custGeom>
                <a:avLst/>
                <a:gdLst/>
                <a:ahLst/>
                <a:rect l="l" t="t" r="r" b="b"/>
                <a:pathLst>
                  <a:path w="1882" h="808">
                    <a:moveTo>
                      <a:pt x="1460" y="115"/>
                    </a:moveTo>
                    <a:lnTo>
                      <a:pt x="1501" y="100"/>
                    </a:lnTo>
                    <a:lnTo>
                      <a:pt x="1599" y="67"/>
                    </a:lnTo>
                    <a:lnTo>
                      <a:pt x="1658" y="49"/>
                    </a:lnTo>
                    <a:lnTo>
                      <a:pt x="1718" y="30"/>
                    </a:lnTo>
                    <a:lnTo>
                      <a:pt x="1748" y="22"/>
                    </a:lnTo>
                    <a:lnTo>
                      <a:pt x="1775" y="14"/>
                    </a:lnTo>
                    <a:lnTo>
                      <a:pt x="1801" y="8"/>
                    </a:lnTo>
                    <a:lnTo>
                      <a:pt x="1824" y="5"/>
                    </a:lnTo>
                    <a:lnTo>
                      <a:pt x="1844" y="1"/>
                    </a:lnTo>
                    <a:lnTo>
                      <a:pt x="1861" y="0"/>
                    </a:lnTo>
                    <a:lnTo>
                      <a:pt x="1872" y="1"/>
                    </a:lnTo>
                    <a:lnTo>
                      <a:pt x="1880" y="5"/>
                    </a:lnTo>
                    <a:lnTo>
                      <a:pt x="1882" y="9"/>
                    </a:lnTo>
                    <a:lnTo>
                      <a:pt x="1877" y="18"/>
                    </a:lnTo>
                    <a:lnTo>
                      <a:pt x="1867" y="30"/>
                    </a:lnTo>
                    <a:lnTo>
                      <a:pt x="1849" y="45"/>
                    </a:lnTo>
                    <a:lnTo>
                      <a:pt x="1824" y="64"/>
                    </a:lnTo>
                    <a:lnTo>
                      <a:pt x="1791" y="86"/>
                    </a:lnTo>
                    <a:lnTo>
                      <a:pt x="1748" y="112"/>
                    </a:lnTo>
                    <a:lnTo>
                      <a:pt x="1696" y="142"/>
                    </a:lnTo>
                    <a:lnTo>
                      <a:pt x="1635" y="177"/>
                    </a:lnTo>
                    <a:lnTo>
                      <a:pt x="1563" y="216"/>
                    </a:lnTo>
                    <a:lnTo>
                      <a:pt x="1481" y="262"/>
                    </a:lnTo>
                    <a:lnTo>
                      <a:pt x="1386" y="311"/>
                    </a:lnTo>
                    <a:lnTo>
                      <a:pt x="1317" y="345"/>
                    </a:lnTo>
                    <a:lnTo>
                      <a:pt x="1194" y="404"/>
                    </a:lnTo>
                    <a:lnTo>
                      <a:pt x="1117" y="440"/>
                    </a:lnTo>
                    <a:lnTo>
                      <a:pt x="1033" y="479"/>
                    </a:lnTo>
                    <a:lnTo>
                      <a:pt x="942" y="520"/>
                    </a:lnTo>
                    <a:lnTo>
                      <a:pt x="847" y="562"/>
                    </a:lnTo>
                    <a:lnTo>
                      <a:pt x="750" y="602"/>
                    </a:lnTo>
                    <a:lnTo>
                      <a:pt x="653" y="643"/>
                    </a:lnTo>
                    <a:lnTo>
                      <a:pt x="557" y="680"/>
                    </a:lnTo>
                    <a:lnTo>
                      <a:pt x="465" y="714"/>
                    </a:lnTo>
                    <a:lnTo>
                      <a:pt x="419" y="730"/>
                    </a:lnTo>
                    <a:lnTo>
                      <a:pt x="376" y="745"/>
                    </a:lnTo>
                    <a:lnTo>
                      <a:pt x="336" y="759"/>
                    </a:lnTo>
                    <a:lnTo>
                      <a:pt x="296" y="770"/>
                    </a:lnTo>
                    <a:lnTo>
                      <a:pt x="259" y="779"/>
                    </a:lnTo>
                    <a:lnTo>
                      <a:pt x="225" y="788"/>
                    </a:lnTo>
                    <a:lnTo>
                      <a:pt x="193" y="795"/>
                    </a:lnTo>
                    <a:lnTo>
                      <a:pt x="163" y="799"/>
                    </a:lnTo>
                    <a:lnTo>
                      <a:pt x="115" y="805"/>
                    </a:lnTo>
                    <a:lnTo>
                      <a:pt x="77" y="806"/>
                    </a:lnTo>
                    <a:lnTo>
                      <a:pt x="61" y="808"/>
                    </a:lnTo>
                    <a:lnTo>
                      <a:pt x="48" y="806"/>
                    </a:lnTo>
                    <a:lnTo>
                      <a:pt x="35" y="805"/>
                    </a:lnTo>
                    <a:lnTo>
                      <a:pt x="26" y="804"/>
                    </a:lnTo>
                    <a:lnTo>
                      <a:pt x="18" y="803"/>
                    </a:lnTo>
                    <a:lnTo>
                      <a:pt x="11" y="800"/>
                    </a:lnTo>
                    <a:lnTo>
                      <a:pt x="6" y="798"/>
                    </a:lnTo>
                    <a:lnTo>
                      <a:pt x="3" y="794"/>
                    </a:lnTo>
                    <a:lnTo>
                      <a:pt x="1" y="792"/>
                    </a:lnTo>
                    <a:lnTo>
                      <a:pt x="0" y="788"/>
                    </a:lnTo>
                    <a:lnTo>
                      <a:pt x="0" y="784"/>
                    </a:lnTo>
                    <a:lnTo>
                      <a:pt x="1" y="781"/>
                    </a:lnTo>
                    <a:lnTo>
                      <a:pt x="6" y="772"/>
                    </a:lnTo>
                    <a:lnTo>
                      <a:pt x="12" y="765"/>
                    </a:lnTo>
                    <a:lnTo>
                      <a:pt x="21" y="756"/>
                    </a:lnTo>
                    <a:lnTo>
                      <a:pt x="29" y="750"/>
                    </a:lnTo>
                    <a:lnTo>
                      <a:pt x="45" y="739"/>
                    </a:lnTo>
                    <a:lnTo>
                      <a:pt x="53" y="734"/>
                    </a:lnTo>
                    <a:lnTo>
                      <a:pt x="83" y="712"/>
                    </a:lnTo>
                    <a:lnTo>
                      <a:pt x="172" y="653"/>
                    </a:lnTo>
                    <a:lnTo>
                      <a:pt x="236" y="612"/>
                    </a:lnTo>
                    <a:lnTo>
                      <a:pt x="311" y="567"/>
                    </a:lnTo>
                    <a:lnTo>
                      <a:pt x="396" y="517"/>
                    </a:lnTo>
                    <a:lnTo>
                      <a:pt x="489" y="466"/>
                    </a:lnTo>
                    <a:lnTo>
                      <a:pt x="540" y="439"/>
                    </a:lnTo>
                    <a:lnTo>
                      <a:pt x="593" y="412"/>
                    </a:lnTo>
                    <a:lnTo>
                      <a:pt x="647" y="386"/>
                    </a:lnTo>
                    <a:lnTo>
                      <a:pt x="702" y="359"/>
                    </a:lnTo>
                    <a:lnTo>
                      <a:pt x="760" y="333"/>
                    </a:lnTo>
                    <a:lnTo>
                      <a:pt x="819" y="307"/>
                    </a:lnTo>
                    <a:lnTo>
                      <a:pt x="879" y="281"/>
                    </a:lnTo>
                    <a:lnTo>
                      <a:pt x="941" y="258"/>
                    </a:lnTo>
                    <a:lnTo>
                      <a:pt x="1002" y="235"/>
                    </a:lnTo>
                    <a:lnTo>
                      <a:pt x="1066" y="212"/>
                    </a:lnTo>
                    <a:lnTo>
                      <a:pt x="1130" y="191"/>
                    </a:lnTo>
                    <a:lnTo>
                      <a:pt x="1196" y="173"/>
                    </a:lnTo>
                    <a:lnTo>
                      <a:pt x="1261" y="156"/>
                    </a:lnTo>
                    <a:lnTo>
                      <a:pt x="1327" y="140"/>
                    </a:lnTo>
                    <a:lnTo>
                      <a:pt x="1394" y="126"/>
                    </a:lnTo>
                    <a:lnTo>
                      <a:pt x="1460" y="115"/>
                    </a:lnTo>
                    <a:close/>
                  </a:path>
                </a:pathLst>
              </a:custGeom>
              <a:solidFill>
                <a:srgbClr val="5b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5837400" y="3359160"/>
                <a:ext cx="509400" cy="217440"/>
              </a:xfrm>
              <a:custGeom>
                <a:avLst/>
                <a:gdLst/>
                <a:ahLst/>
                <a:rect l="l" t="t" r="r" b="b"/>
                <a:pathLst>
                  <a:path w="1605" h="685">
                    <a:moveTo>
                      <a:pt x="1277" y="83"/>
                    </a:moveTo>
                    <a:lnTo>
                      <a:pt x="1308" y="72"/>
                    </a:lnTo>
                    <a:lnTo>
                      <a:pt x="1385" y="48"/>
                    </a:lnTo>
                    <a:lnTo>
                      <a:pt x="1431" y="34"/>
                    </a:lnTo>
                    <a:lnTo>
                      <a:pt x="1477" y="21"/>
                    </a:lnTo>
                    <a:lnTo>
                      <a:pt x="1523" y="10"/>
                    </a:lnTo>
                    <a:lnTo>
                      <a:pt x="1561" y="2"/>
                    </a:lnTo>
                    <a:lnTo>
                      <a:pt x="1576" y="1"/>
                    </a:lnTo>
                    <a:lnTo>
                      <a:pt x="1589" y="0"/>
                    </a:lnTo>
                    <a:lnTo>
                      <a:pt x="1598" y="1"/>
                    </a:lnTo>
                    <a:lnTo>
                      <a:pt x="1604" y="5"/>
                    </a:lnTo>
                    <a:lnTo>
                      <a:pt x="1605" y="10"/>
                    </a:lnTo>
                    <a:lnTo>
                      <a:pt x="1603" y="16"/>
                    </a:lnTo>
                    <a:lnTo>
                      <a:pt x="1595" y="26"/>
                    </a:lnTo>
                    <a:lnTo>
                      <a:pt x="1582" y="38"/>
                    </a:lnTo>
                    <a:lnTo>
                      <a:pt x="1562" y="51"/>
                    </a:lnTo>
                    <a:lnTo>
                      <a:pt x="1536" y="70"/>
                    </a:lnTo>
                    <a:lnTo>
                      <a:pt x="1504" y="89"/>
                    </a:lnTo>
                    <a:lnTo>
                      <a:pt x="1464" y="113"/>
                    </a:lnTo>
                    <a:lnTo>
                      <a:pt x="1417" y="140"/>
                    </a:lnTo>
                    <a:lnTo>
                      <a:pt x="1362" y="171"/>
                    </a:lnTo>
                    <a:lnTo>
                      <a:pt x="1298" y="205"/>
                    </a:lnTo>
                    <a:lnTo>
                      <a:pt x="1225" y="243"/>
                    </a:lnTo>
                    <a:lnTo>
                      <a:pt x="1199" y="257"/>
                    </a:lnTo>
                    <a:lnTo>
                      <a:pt x="1160" y="278"/>
                    </a:lnTo>
                    <a:lnTo>
                      <a:pt x="1109" y="302"/>
                    </a:lnTo>
                    <a:lnTo>
                      <a:pt x="1048" y="331"/>
                    </a:lnTo>
                    <a:lnTo>
                      <a:pt x="979" y="363"/>
                    </a:lnTo>
                    <a:lnTo>
                      <a:pt x="904" y="397"/>
                    </a:lnTo>
                    <a:lnTo>
                      <a:pt x="823" y="434"/>
                    </a:lnTo>
                    <a:lnTo>
                      <a:pt x="738" y="470"/>
                    </a:lnTo>
                    <a:lnTo>
                      <a:pt x="653" y="506"/>
                    </a:lnTo>
                    <a:lnTo>
                      <a:pt x="567" y="541"/>
                    </a:lnTo>
                    <a:lnTo>
                      <a:pt x="482" y="574"/>
                    </a:lnTo>
                    <a:lnTo>
                      <a:pt x="401" y="605"/>
                    </a:lnTo>
                    <a:lnTo>
                      <a:pt x="361" y="618"/>
                    </a:lnTo>
                    <a:lnTo>
                      <a:pt x="323" y="631"/>
                    </a:lnTo>
                    <a:lnTo>
                      <a:pt x="288" y="642"/>
                    </a:lnTo>
                    <a:lnTo>
                      <a:pt x="253" y="653"/>
                    </a:lnTo>
                    <a:lnTo>
                      <a:pt x="221" y="661"/>
                    </a:lnTo>
                    <a:lnTo>
                      <a:pt x="190" y="669"/>
                    </a:lnTo>
                    <a:lnTo>
                      <a:pt x="163" y="674"/>
                    </a:lnTo>
                    <a:lnTo>
                      <a:pt x="138" y="677"/>
                    </a:lnTo>
                    <a:lnTo>
                      <a:pt x="97" y="682"/>
                    </a:lnTo>
                    <a:lnTo>
                      <a:pt x="65" y="685"/>
                    </a:lnTo>
                    <a:lnTo>
                      <a:pt x="40" y="685"/>
                    </a:lnTo>
                    <a:lnTo>
                      <a:pt x="22" y="684"/>
                    </a:lnTo>
                    <a:lnTo>
                      <a:pt x="14" y="681"/>
                    </a:lnTo>
                    <a:lnTo>
                      <a:pt x="10" y="680"/>
                    </a:lnTo>
                    <a:lnTo>
                      <a:pt x="6" y="677"/>
                    </a:lnTo>
                    <a:lnTo>
                      <a:pt x="2" y="675"/>
                    </a:lnTo>
                    <a:lnTo>
                      <a:pt x="1" y="673"/>
                    </a:lnTo>
                    <a:lnTo>
                      <a:pt x="0" y="669"/>
                    </a:lnTo>
                    <a:lnTo>
                      <a:pt x="0" y="666"/>
                    </a:lnTo>
                    <a:lnTo>
                      <a:pt x="1" y="663"/>
                    </a:lnTo>
                    <a:lnTo>
                      <a:pt x="5" y="657"/>
                    </a:lnTo>
                    <a:lnTo>
                      <a:pt x="11" y="649"/>
                    </a:lnTo>
                    <a:lnTo>
                      <a:pt x="18" y="643"/>
                    </a:lnTo>
                    <a:lnTo>
                      <a:pt x="26" y="637"/>
                    </a:lnTo>
                    <a:lnTo>
                      <a:pt x="40" y="627"/>
                    </a:lnTo>
                    <a:lnTo>
                      <a:pt x="45" y="623"/>
                    </a:lnTo>
                    <a:lnTo>
                      <a:pt x="74" y="605"/>
                    </a:lnTo>
                    <a:lnTo>
                      <a:pt x="152" y="552"/>
                    </a:lnTo>
                    <a:lnTo>
                      <a:pt x="209" y="518"/>
                    </a:lnTo>
                    <a:lnTo>
                      <a:pt x="275" y="478"/>
                    </a:lnTo>
                    <a:lnTo>
                      <a:pt x="350" y="434"/>
                    </a:lnTo>
                    <a:lnTo>
                      <a:pt x="434" y="390"/>
                    </a:lnTo>
                    <a:lnTo>
                      <a:pt x="478" y="366"/>
                    </a:lnTo>
                    <a:lnTo>
                      <a:pt x="524" y="343"/>
                    </a:lnTo>
                    <a:lnTo>
                      <a:pt x="572" y="320"/>
                    </a:lnTo>
                    <a:lnTo>
                      <a:pt x="621" y="296"/>
                    </a:lnTo>
                    <a:lnTo>
                      <a:pt x="671" y="273"/>
                    </a:lnTo>
                    <a:lnTo>
                      <a:pt x="723" y="251"/>
                    </a:lnTo>
                    <a:lnTo>
                      <a:pt x="775" y="228"/>
                    </a:lnTo>
                    <a:lnTo>
                      <a:pt x="829" y="208"/>
                    </a:lnTo>
                    <a:lnTo>
                      <a:pt x="883" y="188"/>
                    </a:lnTo>
                    <a:lnTo>
                      <a:pt x="938" y="168"/>
                    </a:lnTo>
                    <a:lnTo>
                      <a:pt x="994" y="150"/>
                    </a:lnTo>
                    <a:lnTo>
                      <a:pt x="1049" y="134"/>
                    </a:lnTo>
                    <a:lnTo>
                      <a:pt x="1106" y="119"/>
                    </a:lnTo>
                    <a:lnTo>
                      <a:pt x="1162" y="104"/>
                    </a:lnTo>
                    <a:lnTo>
                      <a:pt x="1220" y="93"/>
                    </a:lnTo>
                    <a:lnTo>
                      <a:pt x="1277" y="83"/>
                    </a:lnTo>
                    <a:close/>
                  </a:path>
                </a:pathLst>
              </a:custGeom>
              <a:solidFill>
                <a:srgbClr val="5f4d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5870520" y="3381480"/>
                <a:ext cx="424080" cy="177840"/>
              </a:xfrm>
              <a:custGeom>
                <a:avLst/>
                <a:gdLst/>
                <a:ahLst/>
                <a:rect l="l" t="t" r="r" b="b"/>
                <a:pathLst>
                  <a:path w="1331" h="563">
                    <a:moveTo>
                      <a:pt x="1094" y="52"/>
                    </a:moveTo>
                    <a:lnTo>
                      <a:pt x="1117" y="45"/>
                    </a:lnTo>
                    <a:lnTo>
                      <a:pt x="1172" y="29"/>
                    </a:lnTo>
                    <a:lnTo>
                      <a:pt x="1204" y="20"/>
                    </a:lnTo>
                    <a:lnTo>
                      <a:pt x="1238" y="12"/>
                    </a:lnTo>
                    <a:lnTo>
                      <a:pt x="1269" y="5"/>
                    </a:lnTo>
                    <a:lnTo>
                      <a:pt x="1297" y="1"/>
                    </a:lnTo>
                    <a:lnTo>
                      <a:pt x="1309" y="0"/>
                    </a:lnTo>
                    <a:lnTo>
                      <a:pt x="1317" y="1"/>
                    </a:lnTo>
                    <a:lnTo>
                      <a:pt x="1325" y="2"/>
                    </a:lnTo>
                    <a:lnTo>
                      <a:pt x="1328" y="5"/>
                    </a:lnTo>
                    <a:lnTo>
                      <a:pt x="1331" y="8"/>
                    </a:lnTo>
                    <a:lnTo>
                      <a:pt x="1328" y="14"/>
                    </a:lnTo>
                    <a:lnTo>
                      <a:pt x="1322" y="22"/>
                    </a:lnTo>
                    <a:lnTo>
                      <a:pt x="1313" y="30"/>
                    </a:lnTo>
                    <a:lnTo>
                      <a:pt x="1300" y="41"/>
                    </a:lnTo>
                    <a:lnTo>
                      <a:pt x="1281" y="54"/>
                    </a:lnTo>
                    <a:lnTo>
                      <a:pt x="1259" y="68"/>
                    </a:lnTo>
                    <a:lnTo>
                      <a:pt x="1231" y="86"/>
                    </a:lnTo>
                    <a:lnTo>
                      <a:pt x="1198" y="105"/>
                    </a:lnTo>
                    <a:lnTo>
                      <a:pt x="1158" y="128"/>
                    </a:lnTo>
                    <a:lnTo>
                      <a:pt x="1113" y="152"/>
                    </a:lnTo>
                    <a:lnTo>
                      <a:pt x="1061" y="179"/>
                    </a:lnTo>
                    <a:lnTo>
                      <a:pt x="1037" y="193"/>
                    </a:lnTo>
                    <a:lnTo>
                      <a:pt x="1001" y="211"/>
                    </a:lnTo>
                    <a:lnTo>
                      <a:pt x="955" y="233"/>
                    </a:lnTo>
                    <a:lnTo>
                      <a:pt x="900" y="259"/>
                    </a:lnTo>
                    <a:lnTo>
                      <a:pt x="840" y="287"/>
                    </a:lnTo>
                    <a:lnTo>
                      <a:pt x="773" y="317"/>
                    </a:lnTo>
                    <a:lnTo>
                      <a:pt x="702" y="348"/>
                    </a:lnTo>
                    <a:lnTo>
                      <a:pt x="628" y="380"/>
                    </a:lnTo>
                    <a:lnTo>
                      <a:pt x="554" y="410"/>
                    </a:lnTo>
                    <a:lnTo>
                      <a:pt x="479" y="441"/>
                    </a:lnTo>
                    <a:lnTo>
                      <a:pt x="407" y="469"/>
                    </a:lnTo>
                    <a:lnTo>
                      <a:pt x="337" y="495"/>
                    </a:lnTo>
                    <a:lnTo>
                      <a:pt x="271" y="517"/>
                    </a:lnTo>
                    <a:lnTo>
                      <a:pt x="212" y="536"/>
                    </a:lnTo>
                    <a:lnTo>
                      <a:pt x="185" y="543"/>
                    </a:lnTo>
                    <a:lnTo>
                      <a:pt x="159" y="549"/>
                    </a:lnTo>
                    <a:lnTo>
                      <a:pt x="137" y="554"/>
                    </a:lnTo>
                    <a:lnTo>
                      <a:pt x="116" y="557"/>
                    </a:lnTo>
                    <a:lnTo>
                      <a:pt x="82" y="562"/>
                    </a:lnTo>
                    <a:lnTo>
                      <a:pt x="55" y="563"/>
                    </a:lnTo>
                    <a:lnTo>
                      <a:pt x="33" y="563"/>
                    </a:lnTo>
                    <a:lnTo>
                      <a:pt x="18" y="562"/>
                    </a:lnTo>
                    <a:lnTo>
                      <a:pt x="12" y="560"/>
                    </a:lnTo>
                    <a:lnTo>
                      <a:pt x="8" y="559"/>
                    </a:lnTo>
                    <a:lnTo>
                      <a:pt x="4" y="557"/>
                    </a:lnTo>
                    <a:lnTo>
                      <a:pt x="2" y="554"/>
                    </a:lnTo>
                    <a:lnTo>
                      <a:pt x="1" y="552"/>
                    </a:lnTo>
                    <a:lnTo>
                      <a:pt x="0" y="549"/>
                    </a:lnTo>
                    <a:lnTo>
                      <a:pt x="0" y="547"/>
                    </a:lnTo>
                    <a:lnTo>
                      <a:pt x="1" y="544"/>
                    </a:lnTo>
                    <a:lnTo>
                      <a:pt x="3" y="538"/>
                    </a:lnTo>
                    <a:lnTo>
                      <a:pt x="8" y="533"/>
                    </a:lnTo>
                    <a:lnTo>
                      <a:pt x="14" y="527"/>
                    </a:lnTo>
                    <a:lnTo>
                      <a:pt x="22" y="522"/>
                    </a:lnTo>
                    <a:lnTo>
                      <a:pt x="33" y="514"/>
                    </a:lnTo>
                    <a:lnTo>
                      <a:pt x="38" y="511"/>
                    </a:lnTo>
                    <a:lnTo>
                      <a:pt x="62" y="495"/>
                    </a:lnTo>
                    <a:lnTo>
                      <a:pt x="131" y="451"/>
                    </a:lnTo>
                    <a:lnTo>
                      <a:pt x="180" y="420"/>
                    </a:lnTo>
                    <a:lnTo>
                      <a:pt x="238" y="387"/>
                    </a:lnTo>
                    <a:lnTo>
                      <a:pt x="305" y="350"/>
                    </a:lnTo>
                    <a:lnTo>
                      <a:pt x="376" y="311"/>
                    </a:lnTo>
                    <a:lnTo>
                      <a:pt x="455" y="271"/>
                    </a:lnTo>
                    <a:lnTo>
                      <a:pt x="538" y="232"/>
                    </a:lnTo>
                    <a:lnTo>
                      <a:pt x="581" y="212"/>
                    </a:lnTo>
                    <a:lnTo>
                      <a:pt x="626" y="194"/>
                    </a:lnTo>
                    <a:lnTo>
                      <a:pt x="670" y="175"/>
                    </a:lnTo>
                    <a:lnTo>
                      <a:pt x="716" y="157"/>
                    </a:lnTo>
                    <a:lnTo>
                      <a:pt x="762" y="140"/>
                    </a:lnTo>
                    <a:lnTo>
                      <a:pt x="809" y="124"/>
                    </a:lnTo>
                    <a:lnTo>
                      <a:pt x="856" y="109"/>
                    </a:lnTo>
                    <a:lnTo>
                      <a:pt x="904" y="94"/>
                    </a:lnTo>
                    <a:lnTo>
                      <a:pt x="952" y="82"/>
                    </a:lnTo>
                    <a:lnTo>
                      <a:pt x="1000" y="70"/>
                    </a:lnTo>
                    <a:lnTo>
                      <a:pt x="1046" y="60"/>
                    </a:lnTo>
                    <a:lnTo>
                      <a:pt x="1094" y="52"/>
                    </a:lnTo>
                    <a:close/>
                  </a:path>
                </a:pathLst>
              </a:custGeom>
              <a:solidFill>
                <a:srgbClr val="624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5904000" y="3403800"/>
                <a:ext cx="336600" cy="139680"/>
              </a:xfrm>
              <a:custGeom>
                <a:avLst/>
                <a:gdLst/>
                <a:ahLst/>
                <a:rect l="l" t="t" r="r" b="b"/>
                <a:pathLst>
                  <a:path w="1057" h="440">
                    <a:moveTo>
                      <a:pt x="914" y="23"/>
                    </a:moveTo>
                    <a:lnTo>
                      <a:pt x="928" y="19"/>
                    </a:lnTo>
                    <a:lnTo>
                      <a:pt x="960" y="11"/>
                    </a:lnTo>
                    <a:lnTo>
                      <a:pt x="981" y="7"/>
                    </a:lnTo>
                    <a:lnTo>
                      <a:pt x="1000" y="3"/>
                    </a:lnTo>
                    <a:lnTo>
                      <a:pt x="1019" y="1"/>
                    </a:lnTo>
                    <a:lnTo>
                      <a:pt x="1036" y="0"/>
                    </a:lnTo>
                    <a:lnTo>
                      <a:pt x="1042" y="0"/>
                    </a:lnTo>
                    <a:lnTo>
                      <a:pt x="1048" y="1"/>
                    </a:lnTo>
                    <a:lnTo>
                      <a:pt x="1053" y="2"/>
                    </a:lnTo>
                    <a:lnTo>
                      <a:pt x="1056" y="5"/>
                    </a:lnTo>
                    <a:lnTo>
                      <a:pt x="1057" y="7"/>
                    </a:lnTo>
                    <a:lnTo>
                      <a:pt x="1056" y="11"/>
                    </a:lnTo>
                    <a:lnTo>
                      <a:pt x="1052" y="16"/>
                    </a:lnTo>
                    <a:lnTo>
                      <a:pt x="1047" y="22"/>
                    </a:lnTo>
                    <a:lnTo>
                      <a:pt x="1040" y="29"/>
                    </a:lnTo>
                    <a:lnTo>
                      <a:pt x="1029" y="37"/>
                    </a:lnTo>
                    <a:lnTo>
                      <a:pt x="1016" y="46"/>
                    </a:lnTo>
                    <a:lnTo>
                      <a:pt x="999" y="56"/>
                    </a:lnTo>
                    <a:lnTo>
                      <a:pt x="957" y="82"/>
                    </a:lnTo>
                    <a:lnTo>
                      <a:pt x="901" y="113"/>
                    </a:lnTo>
                    <a:lnTo>
                      <a:pt x="877" y="125"/>
                    </a:lnTo>
                    <a:lnTo>
                      <a:pt x="845" y="142"/>
                    </a:lnTo>
                    <a:lnTo>
                      <a:pt x="805" y="162"/>
                    </a:lnTo>
                    <a:lnTo>
                      <a:pt x="757" y="184"/>
                    </a:lnTo>
                    <a:lnTo>
                      <a:pt x="646" y="235"/>
                    </a:lnTo>
                    <a:lnTo>
                      <a:pt x="523" y="289"/>
                    </a:lnTo>
                    <a:lnTo>
                      <a:pt x="459" y="315"/>
                    </a:lnTo>
                    <a:lnTo>
                      <a:pt x="396" y="340"/>
                    </a:lnTo>
                    <a:lnTo>
                      <a:pt x="335" y="364"/>
                    </a:lnTo>
                    <a:lnTo>
                      <a:pt x="276" y="385"/>
                    </a:lnTo>
                    <a:lnTo>
                      <a:pt x="222" y="403"/>
                    </a:lnTo>
                    <a:lnTo>
                      <a:pt x="172" y="419"/>
                    </a:lnTo>
                    <a:lnTo>
                      <a:pt x="150" y="425"/>
                    </a:lnTo>
                    <a:lnTo>
                      <a:pt x="129" y="430"/>
                    </a:lnTo>
                    <a:lnTo>
                      <a:pt x="111" y="434"/>
                    </a:lnTo>
                    <a:lnTo>
                      <a:pt x="94" y="436"/>
                    </a:lnTo>
                    <a:lnTo>
                      <a:pt x="67" y="439"/>
                    </a:lnTo>
                    <a:lnTo>
                      <a:pt x="44" y="440"/>
                    </a:lnTo>
                    <a:lnTo>
                      <a:pt x="27" y="440"/>
                    </a:lnTo>
                    <a:lnTo>
                      <a:pt x="15" y="439"/>
                    </a:lnTo>
                    <a:lnTo>
                      <a:pt x="7" y="438"/>
                    </a:lnTo>
                    <a:lnTo>
                      <a:pt x="3" y="434"/>
                    </a:lnTo>
                    <a:lnTo>
                      <a:pt x="1" y="433"/>
                    </a:lnTo>
                    <a:lnTo>
                      <a:pt x="0" y="430"/>
                    </a:lnTo>
                    <a:lnTo>
                      <a:pt x="1" y="429"/>
                    </a:lnTo>
                    <a:lnTo>
                      <a:pt x="1" y="427"/>
                    </a:lnTo>
                    <a:lnTo>
                      <a:pt x="4" y="422"/>
                    </a:lnTo>
                    <a:lnTo>
                      <a:pt x="9" y="418"/>
                    </a:lnTo>
                    <a:lnTo>
                      <a:pt x="12" y="413"/>
                    </a:lnTo>
                    <a:lnTo>
                      <a:pt x="19" y="409"/>
                    </a:lnTo>
                    <a:lnTo>
                      <a:pt x="27" y="403"/>
                    </a:lnTo>
                    <a:lnTo>
                      <a:pt x="31" y="401"/>
                    </a:lnTo>
                    <a:lnTo>
                      <a:pt x="53" y="387"/>
                    </a:lnTo>
                    <a:lnTo>
                      <a:pt x="112" y="350"/>
                    </a:lnTo>
                    <a:lnTo>
                      <a:pt x="155" y="324"/>
                    </a:lnTo>
                    <a:lnTo>
                      <a:pt x="204" y="296"/>
                    </a:lnTo>
                    <a:lnTo>
                      <a:pt x="260" y="267"/>
                    </a:lnTo>
                    <a:lnTo>
                      <a:pt x="321" y="235"/>
                    </a:lnTo>
                    <a:lnTo>
                      <a:pt x="388" y="201"/>
                    </a:lnTo>
                    <a:lnTo>
                      <a:pt x="457" y="168"/>
                    </a:lnTo>
                    <a:lnTo>
                      <a:pt x="493" y="152"/>
                    </a:lnTo>
                    <a:lnTo>
                      <a:pt x="530" y="137"/>
                    </a:lnTo>
                    <a:lnTo>
                      <a:pt x="567" y="121"/>
                    </a:lnTo>
                    <a:lnTo>
                      <a:pt x="605" y="107"/>
                    </a:lnTo>
                    <a:lnTo>
                      <a:pt x="644" y="93"/>
                    </a:lnTo>
                    <a:lnTo>
                      <a:pt x="683" y="80"/>
                    </a:lnTo>
                    <a:lnTo>
                      <a:pt x="721" y="67"/>
                    </a:lnTo>
                    <a:lnTo>
                      <a:pt x="760" y="56"/>
                    </a:lnTo>
                    <a:lnTo>
                      <a:pt x="799" y="46"/>
                    </a:lnTo>
                    <a:lnTo>
                      <a:pt x="838" y="37"/>
                    </a:lnTo>
                    <a:lnTo>
                      <a:pt x="876" y="29"/>
                    </a:lnTo>
                    <a:lnTo>
                      <a:pt x="914" y="23"/>
                    </a:lnTo>
                    <a:close/>
                  </a:path>
                </a:pathLst>
              </a:custGeom>
              <a:solidFill>
                <a:srgbClr val="645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5938920" y="3422880"/>
                <a:ext cx="247680" cy="104760"/>
              </a:xfrm>
              <a:custGeom>
                <a:avLst/>
                <a:gdLst/>
                <a:ahLst/>
                <a:rect l="l" t="t" r="r" b="b"/>
                <a:pathLst>
                  <a:path w="781" h="329">
                    <a:moveTo>
                      <a:pt x="22" y="295"/>
                    </a:moveTo>
                    <a:lnTo>
                      <a:pt x="40" y="286"/>
                    </a:lnTo>
                    <a:lnTo>
                      <a:pt x="90" y="256"/>
                    </a:lnTo>
                    <a:lnTo>
                      <a:pt x="126" y="236"/>
                    </a:lnTo>
                    <a:lnTo>
                      <a:pt x="166" y="214"/>
                    </a:lnTo>
                    <a:lnTo>
                      <a:pt x="212" y="190"/>
                    </a:lnTo>
                    <a:lnTo>
                      <a:pt x="262" y="164"/>
                    </a:lnTo>
                    <a:lnTo>
                      <a:pt x="316" y="138"/>
                    </a:lnTo>
                    <a:lnTo>
                      <a:pt x="373" y="112"/>
                    </a:lnTo>
                    <a:lnTo>
                      <a:pt x="432" y="88"/>
                    </a:lnTo>
                    <a:lnTo>
                      <a:pt x="492" y="64"/>
                    </a:lnTo>
                    <a:lnTo>
                      <a:pt x="522" y="53"/>
                    </a:lnTo>
                    <a:lnTo>
                      <a:pt x="553" y="43"/>
                    </a:lnTo>
                    <a:lnTo>
                      <a:pt x="583" y="33"/>
                    </a:lnTo>
                    <a:lnTo>
                      <a:pt x="613" y="25"/>
                    </a:lnTo>
                    <a:lnTo>
                      <a:pt x="644" y="17"/>
                    </a:lnTo>
                    <a:lnTo>
                      <a:pt x="673" y="10"/>
                    </a:lnTo>
                    <a:lnTo>
                      <a:pt x="703" y="5"/>
                    </a:lnTo>
                    <a:lnTo>
                      <a:pt x="731" y="0"/>
                    </a:lnTo>
                    <a:lnTo>
                      <a:pt x="736" y="0"/>
                    </a:lnTo>
                    <a:lnTo>
                      <a:pt x="746" y="0"/>
                    </a:lnTo>
                    <a:lnTo>
                      <a:pt x="759" y="3"/>
                    </a:lnTo>
                    <a:lnTo>
                      <a:pt x="772" y="8"/>
                    </a:lnTo>
                    <a:lnTo>
                      <a:pt x="776" y="10"/>
                    </a:lnTo>
                    <a:lnTo>
                      <a:pt x="780" y="14"/>
                    </a:lnTo>
                    <a:lnTo>
                      <a:pt x="780" y="16"/>
                    </a:lnTo>
                    <a:lnTo>
                      <a:pt x="781" y="19"/>
                    </a:lnTo>
                    <a:lnTo>
                      <a:pt x="780" y="21"/>
                    </a:lnTo>
                    <a:lnTo>
                      <a:pt x="779" y="24"/>
                    </a:lnTo>
                    <a:lnTo>
                      <a:pt x="775" y="31"/>
                    </a:lnTo>
                    <a:lnTo>
                      <a:pt x="767" y="38"/>
                    </a:lnTo>
                    <a:lnTo>
                      <a:pt x="756" y="47"/>
                    </a:lnTo>
                    <a:lnTo>
                      <a:pt x="740" y="57"/>
                    </a:lnTo>
                    <a:lnTo>
                      <a:pt x="716" y="69"/>
                    </a:lnTo>
                    <a:lnTo>
                      <a:pt x="687" y="84"/>
                    </a:lnTo>
                    <a:lnTo>
                      <a:pt x="651" y="101"/>
                    </a:lnTo>
                    <a:lnTo>
                      <a:pt x="609" y="121"/>
                    </a:lnTo>
                    <a:lnTo>
                      <a:pt x="516" y="163"/>
                    </a:lnTo>
                    <a:lnTo>
                      <a:pt x="414" y="207"/>
                    </a:lnTo>
                    <a:lnTo>
                      <a:pt x="361" y="228"/>
                    </a:lnTo>
                    <a:lnTo>
                      <a:pt x="310" y="249"/>
                    </a:lnTo>
                    <a:lnTo>
                      <a:pt x="260" y="268"/>
                    </a:lnTo>
                    <a:lnTo>
                      <a:pt x="213" y="286"/>
                    </a:lnTo>
                    <a:lnTo>
                      <a:pt x="170" y="300"/>
                    </a:lnTo>
                    <a:lnTo>
                      <a:pt x="131" y="311"/>
                    </a:lnTo>
                    <a:lnTo>
                      <a:pt x="97" y="321"/>
                    </a:lnTo>
                    <a:lnTo>
                      <a:pt x="72" y="326"/>
                    </a:lnTo>
                    <a:lnTo>
                      <a:pt x="51" y="327"/>
                    </a:lnTo>
                    <a:lnTo>
                      <a:pt x="33" y="329"/>
                    </a:lnTo>
                    <a:lnTo>
                      <a:pt x="21" y="329"/>
                    </a:lnTo>
                    <a:lnTo>
                      <a:pt x="11" y="327"/>
                    </a:lnTo>
                    <a:lnTo>
                      <a:pt x="5" y="325"/>
                    </a:lnTo>
                    <a:lnTo>
                      <a:pt x="1" y="322"/>
                    </a:lnTo>
                    <a:lnTo>
                      <a:pt x="0" y="319"/>
                    </a:lnTo>
                    <a:lnTo>
                      <a:pt x="0" y="316"/>
                    </a:lnTo>
                    <a:lnTo>
                      <a:pt x="5" y="309"/>
                    </a:lnTo>
                    <a:lnTo>
                      <a:pt x="12" y="303"/>
                    </a:lnTo>
                    <a:lnTo>
                      <a:pt x="20" y="298"/>
                    </a:lnTo>
                    <a:lnTo>
                      <a:pt x="22" y="295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7043760" y="2809800"/>
                <a:ext cx="81000" cy="160560"/>
              </a:xfrm>
              <a:custGeom>
                <a:avLst/>
                <a:gdLst/>
                <a:ahLst/>
                <a:rect l="l" t="t" r="r" b="b"/>
                <a:pathLst>
                  <a:path w="254" h="504">
                    <a:moveTo>
                      <a:pt x="140" y="15"/>
                    </a:moveTo>
                    <a:lnTo>
                      <a:pt x="144" y="21"/>
                    </a:lnTo>
                    <a:lnTo>
                      <a:pt x="155" y="37"/>
                    </a:lnTo>
                    <a:lnTo>
                      <a:pt x="171" y="61"/>
                    </a:lnTo>
                    <a:lnTo>
                      <a:pt x="188" y="91"/>
                    </a:lnTo>
                    <a:lnTo>
                      <a:pt x="208" y="126"/>
                    </a:lnTo>
                    <a:lnTo>
                      <a:pt x="226" y="163"/>
                    </a:lnTo>
                    <a:lnTo>
                      <a:pt x="234" y="183"/>
                    </a:lnTo>
                    <a:lnTo>
                      <a:pt x="241" y="202"/>
                    </a:lnTo>
                    <a:lnTo>
                      <a:pt x="247" y="220"/>
                    </a:lnTo>
                    <a:lnTo>
                      <a:pt x="251" y="237"/>
                    </a:lnTo>
                    <a:lnTo>
                      <a:pt x="254" y="256"/>
                    </a:lnTo>
                    <a:lnTo>
                      <a:pt x="254" y="274"/>
                    </a:lnTo>
                    <a:lnTo>
                      <a:pt x="253" y="293"/>
                    </a:lnTo>
                    <a:lnTo>
                      <a:pt x="251" y="312"/>
                    </a:lnTo>
                    <a:lnTo>
                      <a:pt x="247" y="331"/>
                    </a:lnTo>
                    <a:lnTo>
                      <a:pt x="241" y="350"/>
                    </a:lnTo>
                    <a:lnTo>
                      <a:pt x="234" y="369"/>
                    </a:lnTo>
                    <a:lnTo>
                      <a:pt x="226" y="387"/>
                    </a:lnTo>
                    <a:lnTo>
                      <a:pt x="216" y="406"/>
                    </a:lnTo>
                    <a:lnTo>
                      <a:pt x="205" y="422"/>
                    </a:lnTo>
                    <a:lnTo>
                      <a:pt x="194" y="438"/>
                    </a:lnTo>
                    <a:lnTo>
                      <a:pt x="182" y="452"/>
                    </a:lnTo>
                    <a:lnTo>
                      <a:pt x="168" y="465"/>
                    </a:lnTo>
                    <a:lnTo>
                      <a:pt x="155" y="476"/>
                    </a:lnTo>
                    <a:lnTo>
                      <a:pt x="141" y="486"/>
                    </a:lnTo>
                    <a:lnTo>
                      <a:pt x="127" y="493"/>
                    </a:lnTo>
                    <a:lnTo>
                      <a:pt x="112" y="498"/>
                    </a:lnTo>
                    <a:lnTo>
                      <a:pt x="98" y="502"/>
                    </a:lnTo>
                    <a:lnTo>
                      <a:pt x="85" y="504"/>
                    </a:lnTo>
                    <a:lnTo>
                      <a:pt x="72" y="504"/>
                    </a:lnTo>
                    <a:lnTo>
                      <a:pt x="60" y="503"/>
                    </a:lnTo>
                    <a:lnTo>
                      <a:pt x="49" y="500"/>
                    </a:lnTo>
                    <a:lnTo>
                      <a:pt x="39" y="495"/>
                    </a:lnTo>
                    <a:lnTo>
                      <a:pt x="31" y="489"/>
                    </a:lnTo>
                    <a:lnTo>
                      <a:pt x="22" y="481"/>
                    </a:lnTo>
                    <a:lnTo>
                      <a:pt x="16" y="472"/>
                    </a:lnTo>
                    <a:lnTo>
                      <a:pt x="10" y="461"/>
                    </a:lnTo>
                    <a:lnTo>
                      <a:pt x="5" y="450"/>
                    </a:lnTo>
                    <a:lnTo>
                      <a:pt x="2" y="436"/>
                    </a:lnTo>
                    <a:lnTo>
                      <a:pt x="1" y="422"/>
                    </a:lnTo>
                    <a:lnTo>
                      <a:pt x="0" y="406"/>
                    </a:lnTo>
                    <a:lnTo>
                      <a:pt x="1" y="390"/>
                    </a:lnTo>
                    <a:lnTo>
                      <a:pt x="6" y="343"/>
                    </a:lnTo>
                    <a:lnTo>
                      <a:pt x="12" y="279"/>
                    </a:lnTo>
                    <a:lnTo>
                      <a:pt x="16" y="243"/>
                    </a:lnTo>
                    <a:lnTo>
                      <a:pt x="21" y="206"/>
                    </a:lnTo>
                    <a:lnTo>
                      <a:pt x="26" y="168"/>
                    </a:lnTo>
                    <a:lnTo>
                      <a:pt x="32" y="133"/>
                    </a:lnTo>
                    <a:lnTo>
                      <a:pt x="39" y="99"/>
                    </a:lnTo>
                    <a:lnTo>
                      <a:pt x="48" y="69"/>
                    </a:lnTo>
                    <a:lnTo>
                      <a:pt x="54" y="55"/>
                    </a:lnTo>
                    <a:lnTo>
                      <a:pt x="59" y="42"/>
                    </a:lnTo>
                    <a:lnTo>
                      <a:pt x="65" y="31"/>
                    </a:lnTo>
                    <a:lnTo>
                      <a:pt x="71" y="21"/>
                    </a:lnTo>
                    <a:lnTo>
                      <a:pt x="77" y="13"/>
                    </a:lnTo>
                    <a:lnTo>
                      <a:pt x="85" y="7"/>
                    </a:lnTo>
                    <a:lnTo>
                      <a:pt x="93" y="2"/>
                    </a:lnTo>
                    <a:lnTo>
                      <a:pt x="101" y="1"/>
                    </a:lnTo>
                    <a:lnTo>
                      <a:pt x="109" y="0"/>
                    </a:lnTo>
                    <a:lnTo>
                      <a:pt x="119" y="2"/>
                    </a:lnTo>
                    <a:lnTo>
                      <a:pt x="129" y="7"/>
                    </a:lnTo>
                    <a:lnTo>
                      <a:pt x="140" y="15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7054920" y="2820960"/>
                <a:ext cx="66600" cy="136800"/>
              </a:xfrm>
              <a:custGeom>
                <a:avLst/>
                <a:gdLst/>
                <a:ahLst/>
                <a:rect l="l" t="t" r="r" b="b"/>
                <a:pathLst>
                  <a:path w="210" h="431">
                    <a:moveTo>
                      <a:pt x="137" y="49"/>
                    </a:moveTo>
                    <a:lnTo>
                      <a:pt x="146" y="65"/>
                    </a:lnTo>
                    <a:lnTo>
                      <a:pt x="156" y="81"/>
                    </a:lnTo>
                    <a:lnTo>
                      <a:pt x="167" y="100"/>
                    </a:lnTo>
                    <a:lnTo>
                      <a:pt x="177" y="119"/>
                    </a:lnTo>
                    <a:lnTo>
                      <a:pt x="187" y="140"/>
                    </a:lnTo>
                    <a:lnTo>
                      <a:pt x="196" y="159"/>
                    </a:lnTo>
                    <a:lnTo>
                      <a:pt x="202" y="179"/>
                    </a:lnTo>
                    <a:lnTo>
                      <a:pt x="208" y="199"/>
                    </a:lnTo>
                    <a:lnTo>
                      <a:pt x="209" y="214"/>
                    </a:lnTo>
                    <a:lnTo>
                      <a:pt x="210" y="230"/>
                    </a:lnTo>
                    <a:lnTo>
                      <a:pt x="209" y="246"/>
                    </a:lnTo>
                    <a:lnTo>
                      <a:pt x="208" y="263"/>
                    </a:lnTo>
                    <a:lnTo>
                      <a:pt x="204" y="280"/>
                    </a:lnTo>
                    <a:lnTo>
                      <a:pt x="199" y="297"/>
                    </a:lnTo>
                    <a:lnTo>
                      <a:pt x="193" y="314"/>
                    </a:lnTo>
                    <a:lnTo>
                      <a:pt x="186" y="330"/>
                    </a:lnTo>
                    <a:lnTo>
                      <a:pt x="178" y="346"/>
                    </a:lnTo>
                    <a:lnTo>
                      <a:pt x="170" y="361"/>
                    </a:lnTo>
                    <a:lnTo>
                      <a:pt x="160" y="375"/>
                    </a:lnTo>
                    <a:lnTo>
                      <a:pt x="149" y="388"/>
                    </a:lnTo>
                    <a:lnTo>
                      <a:pt x="138" y="399"/>
                    </a:lnTo>
                    <a:lnTo>
                      <a:pt x="127" y="409"/>
                    </a:lnTo>
                    <a:lnTo>
                      <a:pt x="114" y="418"/>
                    </a:lnTo>
                    <a:lnTo>
                      <a:pt x="102" y="424"/>
                    </a:lnTo>
                    <a:lnTo>
                      <a:pt x="90" y="428"/>
                    </a:lnTo>
                    <a:lnTo>
                      <a:pt x="78" y="430"/>
                    </a:lnTo>
                    <a:lnTo>
                      <a:pt x="68" y="431"/>
                    </a:lnTo>
                    <a:lnTo>
                      <a:pt x="57" y="430"/>
                    </a:lnTo>
                    <a:lnTo>
                      <a:pt x="47" y="428"/>
                    </a:lnTo>
                    <a:lnTo>
                      <a:pt x="38" y="424"/>
                    </a:lnTo>
                    <a:lnTo>
                      <a:pt x="30" y="419"/>
                    </a:lnTo>
                    <a:lnTo>
                      <a:pt x="22" y="412"/>
                    </a:lnTo>
                    <a:lnTo>
                      <a:pt x="16" y="404"/>
                    </a:lnTo>
                    <a:lnTo>
                      <a:pt x="11" y="394"/>
                    </a:lnTo>
                    <a:lnTo>
                      <a:pt x="6" y="385"/>
                    </a:lnTo>
                    <a:lnTo>
                      <a:pt x="2" y="373"/>
                    </a:lnTo>
                    <a:lnTo>
                      <a:pt x="1" y="361"/>
                    </a:lnTo>
                    <a:lnTo>
                      <a:pt x="0" y="349"/>
                    </a:lnTo>
                    <a:lnTo>
                      <a:pt x="0" y="335"/>
                    </a:lnTo>
                    <a:lnTo>
                      <a:pt x="1" y="321"/>
                    </a:lnTo>
                    <a:lnTo>
                      <a:pt x="5" y="282"/>
                    </a:lnTo>
                    <a:lnTo>
                      <a:pt x="10" y="230"/>
                    </a:lnTo>
                    <a:lnTo>
                      <a:pt x="12" y="200"/>
                    </a:lnTo>
                    <a:lnTo>
                      <a:pt x="16" y="169"/>
                    </a:lnTo>
                    <a:lnTo>
                      <a:pt x="20" y="140"/>
                    </a:lnTo>
                    <a:lnTo>
                      <a:pt x="25" y="109"/>
                    </a:lnTo>
                    <a:lnTo>
                      <a:pt x="31" y="82"/>
                    </a:lnTo>
                    <a:lnTo>
                      <a:pt x="38" y="56"/>
                    </a:lnTo>
                    <a:lnTo>
                      <a:pt x="42" y="45"/>
                    </a:lnTo>
                    <a:lnTo>
                      <a:pt x="47" y="35"/>
                    </a:lnTo>
                    <a:lnTo>
                      <a:pt x="52" y="25"/>
                    </a:lnTo>
                    <a:lnTo>
                      <a:pt x="57" y="18"/>
                    </a:lnTo>
                    <a:lnTo>
                      <a:pt x="62" y="11"/>
                    </a:lnTo>
                    <a:lnTo>
                      <a:pt x="68" y="6"/>
                    </a:lnTo>
                    <a:lnTo>
                      <a:pt x="74" y="2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6" y="1"/>
                    </a:lnTo>
                    <a:lnTo>
                      <a:pt x="103" y="4"/>
                    </a:lnTo>
                    <a:lnTo>
                      <a:pt x="112" y="11"/>
                    </a:lnTo>
                    <a:lnTo>
                      <a:pt x="113" y="12"/>
                    </a:lnTo>
                    <a:lnTo>
                      <a:pt x="114" y="13"/>
                    </a:lnTo>
                    <a:lnTo>
                      <a:pt x="117" y="17"/>
                    </a:lnTo>
                    <a:lnTo>
                      <a:pt x="119" y="22"/>
                    </a:lnTo>
                    <a:lnTo>
                      <a:pt x="123" y="28"/>
                    </a:lnTo>
                    <a:lnTo>
                      <a:pt x="127" y="34"/>
                    </a:lnTo>
                    <a:lnTo>
                      <a:pt x="132" y="41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5d4b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7064280" y="2830680"/>
                <a:ext cx="52560" cy="112680"/>
              </a:xfrm>
              <a:custGeom>
                <a:avLst/>
                <a:gdLst/>
                <a:ahLst/>
                <a:rect l="l" t="t" r="r" b="b"/>
                <a:pathLst>
                  <a:path w="165" h="355">
                    <a:moveTo>
                      <a:pt x="89" y="8"/>
                    </a:moveTo>
                    <a:lnTo>
                      <a:pt x="91" y="13"/>
                    </a:lnTo>
                    <a:lnTo>
                      <a:pt x="98" y="24"/>
                    </a:lnTo>
                    <a:lnTo>
                      <a:pt x="110" y="40"/>
                    </a:lnTo>
                    <a:lnTo>
                      <a:pt x="121" y="61"/>
                    </a:lnTo>
                    <a:lnTo>
                      <a:pt x="134" y="86"/>
                    </a:lnTo>
                    <a:lnTo>
                      <a:pt x="146" y="110"/>
                    </a:lnTo>
                    <a:lnTo>
                      <a:pt x="151" y="124"/>
                    </a:lnTo>
                    <a:lnTo>
                      <a:pt x="156" y="136"/>
                    </a:lnTo>
                    <a:lnTo>
                      <a:pt x="159" y="148"/>
                    </a:lnTo>
                    <a:lnTo>
                      <a:pt x="162" y="161"/>
                    </a:lnTo>
                    <a:lnTo>
                      <a:pt x="164" y="173"/>
                    </a:lnTo>
                    <a:lnTo>
                      <a:pt x="165" y="186"/>
                    </a:lnTo>
                    <a:lnTo>
                      <a:pt x="164" y="200"/>
                    </a:lnTo>
                    <a:lnTo>
                      <a:pt x="162" y="214"/>
                    </a:lnTo>
                    <a:lnTo>
                      <a:pt x="160" y="228"/>
                    </a:lnTo>
                    <a:lnTo>
                      <a:pt x="155" y="243"/>
                    </a:lnTo>
                    <a:lnTo>
                      <a:pt x="151" y="257"/>
                    </a:lnTo>
                    <a:lnTo>
                      <a:pt x="145" y="271"/>
                    </a:lnTo>
                    <a:lnTo>
                      <a:pt x="139" y="285"/>
                    </a:lnTo>
                    <a:lnTo>
                      <a:pt x="132" y="297"/>
                    </a:lnTo>
                    <a:lnTo>
                      <a:pt x="124" y="309"/>
                    </a:lnTo>
                    <a:lnTo>
                      <a:pt x="116" y="321"/>
                    </a:lnTo>
                    <a:lnTo>
                      <a:pt x="107" y="330"/>
                    </a:lnTo>
                    <a:lnTo>
                      <a:pt x="97" y="339"/>
                    </a:lnTo>
                    <a:lnTo>
                      <a:pt x="87" y="346"/>
                    </a:lnTo>
                    <a:lnTo>
                      <a:pt x="78" y="351"/>
                    </a:lnTo>
                    <a:lnTo>
                      <a:pt x="68" y="354"/>
                    </a:lnTo>
                    <a:lnTo>
                      <a:pt x="59" y="355"/>
                    </a:lnTo>
                    <a:lnTo>
                      <a:pt x="50" y="355"/>
                    </a:lnTo>
                    <a:lnTo>
                      <a:pt x="43" y="354"/>
                    </a:lnTo>
                    <a:lnTo>
                      <a:pt x="34" y="350"/>
                    </a:lnTo>
                    <a:lnTo>
                      <a:pt x="28" y="345"/>
                    </a:lnTo>
                    <a:lnTo>
                      <a:pt x="22" y="339"/>
                    </a:lnTo>
                    <a:lnTo>
                      <a:pt x="16" y="332"/>
                    </a:lnTo>
                    <a:lnTo>
                      <a:pt x="11" y="324"/>
                    </a:lnTo>
                    <a:lnTo>
                      <a:pt x="7" y="316"/>
                    </a:lnTo>
                    <a:lnTo>
                      <a:pt x="4" y="306"/>
                    </a:lnTo>
                    <a:lnTo>
                      <a:pt x="1" y="296"/>
                    </a:lnTo>
                    <a:lnTo>
                      <a:pt x="0" y="285"/>
                    </a:lnTo>
                    <a:lnTo>
                      <a:pt x="0" y="274"/>
                    </a:lnTo>
                    <a:lnTo>
                      <a:pt x="0" y="262"/>
                    </a:lnTo>
                    <a:lnTo>
                      <a:pt x="1" y="250"/>
                    </a:lnTo>
                    <a:lnTo>
                      <a:pt x="5" y="220"/>
                    </a:lnTo>
                    <a:lnTo>
                      <a:pt x="7" y="178"/>
                    </a:lnTo>
                    <a:lnTo>
                      <a:pt x="12" y="131"/>
                    </a:lnTo>
                    <a:lnTo>
                      <a:pt x="20" y="83"/>
                    </a:lnTo>
                    <a:lnTo>
                      <a:pt x="25" y="62"/>
                    </a:lnTo>
                    <a:lnTo>
                      <a:pt x="30" y="43"/>
                    </a:lnTo>
                    <a:lnTo>
                      <a:pt x="33" y="34"/>
                    </a:lnTo>
                    <a:lnTo>
                      <a:pt x="37" y="25"/>
                    </a:lnTo>
                    <a:lnTo>
                      <a:pt x="41" y="18"/>
                    </a:lnTo>
                    <a:lnTo>
                      <a:pt x="44" y="12"/>
                    </a:lnTo>
                    <a:lnTo>
                      <a:pt x="48" y="7"/>
                    </a:lnTo>
                    <a:lnTo>
                      <a:pt x="53" y="3"/>
                    </a:lnTo>
                    <a:lnTo>
                      <a:pt x="58" y="1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5" y="1"/>
                    </a:lnTo>
                    <a:lnTo>
                      <a:pt x="81" y="4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6955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7074000" y="2840040"/>
                <a:ext cx="39600" cy="90720"/>
              </a:xfrm>
              <a:custGeom>
                <a:avLst/>
                <a:gdLst/>
                <a:ahLst/>
                <a:rect l="l" t="t" r="r" b="b"/>
                <a:pathLst>
                  <a:path w="122" h="286">
                    <a:moveTo>
                      <a:pt x="63" y="6"/>
                    </a:moveTo>
                    <a:lnTo>
                      <a:pt x="65" y="9"/>
                    </a:lnTo>
                    <a:lnTo>
                      <a:pt x="70" y="17"/>
                    </a:lnTo>
                    <a:lnTo>
                      <a:pt x="79" y="30"/>
                    </a:lnTo>
                    <a:lnTo>
                      <a:pt x="87" y="46"/>
                    </a:lnTo>
                    <a:lnTo>
                      <a:pt x="97" y="64"/>
                    </a:lnTo>
                    <a:lnTo>
                      <a:pt x="107" y="84"/>
                    </a:lnTo>
                    <a:lnTo>
                      <a:pt x="114" y="104"/>
                    </a:lnTo>
                    <a:lnTo>
                      <a:pt x="120" y="122"/>
                    </a:lnTo>
                    <a:lnTo>
                      <a:pt x="122" y="132"/>
                    </a:lnTo>
                    <a:lnTo>
                      <a:pt x="122" y="142"/>
                    </a:lnTo>
                    <a:lnTo>
                      <a:pt x="122" y="153"/>
                    </a:lnTo>
                    <a:lnTo>
                      <a:pt x="120" y="164"/>
                    </a:lnTo>
                    <a:lnTo>
                      <a:pt x="118" y="176"/>
                    </a:lnTo>
                    <a:lnTo>
                      <a:pt x="115" y="188"/>
                    </a:lnTo>
                    <a:lnTo>
                      <a:pt x="112" y="201"/>
                    </a:lnTo>
                    <a:lnTo>
                      <a:pt x="107" y="213"/>
                    </a:lnTo>
                    <a:lnTo>
                      <a:pt x="102" y="224"/>
                    </a:lnTo>
                    <a:lnTo>
                      <a:pt x="96" y="236"/>
                    </a:lnTo>
                    <a:lnTo>
                      <a:pt x="91" y="246"/>
                    </a:lnTo>
                    <a:lnTo>
                      <a:pt x="83" y="256"/>
                    </a:lnTo>
                    <a:lnTo>
                      <a:pt x="77" y="265"/>
                    </a:lnTo>
                    <a:lnTo>
                      <a:pt x="70" y="272"/>
                    </a:lnTo>
                    <a:lnTo>
                      <a:pt x="63" y="278"/>
                    </a:lnTo>
                    <a:lnTo>
                      <a:pt x="55" y="283"/>
                    </a:lnTo>
                    <a:lnTo>
                      <a:pt x="48" y="284"/>
                    </a:lnTo>
                    <a:lnTo>
                      <a:pt x="40" y="286"/>
                    </a:lnTo>
                    <a:lnTo>
                      <a:pt x="34" y="284"/>
                    </a:lnTo>
                    <a:lnTo>
                      <a:pt x="28" y="281"/>
                    </a:lnTo>
                    <a:lnTo>
                      <a:pt x="23" y="277"/>
                    </a:lnTo>
                    <a:lnTo>
                      <a:pt x="18" y="271"/>
                    </a:lnTo>
                    <a:lnTo>
                      <a:pt x="15" y="265"/>
                    </a:lnTo>
                    <a:lnTo>
                      <a:pt x="11" y="257"/>
                    </a:lnTo>
                    <a:lnTo>
                      <a:pt x="7" y="249"/>
                    </a:lnTo>
                    <a:lnTo>
                      <a:pt x="5" y="240"/>
                    </a:lnTo>
                    <a:lnTo>
                      <a:pt x="2" y="232"/>
                    </a:lnTo>
                    <a:lnTo>
                      <a:pt x="1" y="222"/>
                    </a:lnTo>
                    <a:lnTo>
                      <a:pt x="0" y="203"/>
                    </a:lnTo>
                    <a:lnTo>
                      <a:pt x="1" y="185"/>
                    </a:lnTo>
                    <a:lnTo>
                      <a:pt x="3" y="161"/>
                    </a:lnTo>
                    <a:lnTo>
                      <a:pt x="6" y="131"/>
                    </a:lnTo>
                    <a:lnTo>
                      <a:pt x="10" y="96"/>
                    </a:lnTo>
                    <a:lnTo>
                      <a:pt x="15" y="62"/>
                    </a:lnTo>
                    <a:lnTo>
                      <a:pt x="18" y="46"/>
                    </a:lnTo>
                    <a:lnTo>
                      <a:pt x="22" y="32"/>
                    </a:lnTo>
                    <a:lnTo>
                      <a:pt x="26" y="20"/>
                    </a:lnTo>
                    <a:lnTo>
                      <a:pt x="32" y="10"/>
                    </a:lnTo>
                    <a:lnTo>
                      <a:pt x="34" y="6"/>
                    </a:lnTo>
                    <a:lnTo>
                      <a:pt x="38" y="3"/>
                    </a:lnTo>
                    <a:lnTo>
                      <a:pt x="42" y="1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8" y="3"/>
                    </a:lnTo>
                    <a:lnTo>
                      <a:pt x="63" y="6"/>
                    </a:lnTo>
                    <a:close/>
                  </a:path>
                </a:pathLst>
              </a:custGeom>
              <a:solidFill>
                <a:srgbClr val="745e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7085160" y="2849760"/>
                <a:ext cx="23760" cy="68040"/>
              </a:xfrm>
              <a:custGeom>
                <a:avLst/>
                <a:gdLst/>
                <a:ahLst/>
                <a:rect l="l" t="t" r="r" b="b"/>
                <a:pathLst>
                  <a:path w="78" h="214">
                    <a:moveTo>
                      <a:pt x="37" y="3"/>
                    </a:moveTo>
                    <a:lnTo>
                      <a:pt x="38" y="5"/>
                    </a:lnTo>
                    <a:lnTo>
                      <a:pt x="42" y="11"/>
                    </a:lnTo>
                    <a:lnTo>
                      <a:pt x="48" y="21"/>
                    </a:lnTo>
                    <a:lnTo>
                      <a:pt x="54" y="32"/>
                    </a:lnTo>
                    <a:lnTo>
                      <a:pt x="61" y="44"/>
                    </a:lnTo>
                    <a:lnTo>
                      <a:pt x="67" y="58"/>
                    </a:lnTo>
                    <a:lnTo>
                      <a:pt x="74" y="71"/>
                    </a:lnTo>
                    <a:lnTo>
                      <a:pt x="77" y="85"/>
                    </a:lnTo>
                    <a:lnTo>
                      <a:pt x="78" y="99"/>
                    </a:lnTo>
                    <a:lnTo>
                      <a:pt x="76" y="117"/>
                    </a:lnTo>
                    <a:lnTo>
                      <a:pt x="72" y="136"/>
                    </a:lnTo>
                    <a:lnTo>
                      <a:pt x="67" y="156"/>
                    </a:lnTo>
                    <a:lnTo>
                      <a:pt x="60" y="176"/>
                    </a:lnTo>
                    <a:lnTo>
                      <a:pt x="51" y="192"/>
                    </a:lnTo>
                    <a:lnTo>
                      <a:pt x="47" y="199"/>
                    </a:lnTo>
                    <a:lnTo>
                      <a:pt x="42" y="205"/>
                    </a:lnTo>
                    <a:lnTo>
                      <a:pt x="37" y="209"/>
                    </a:lnTo>
                    <a:lnTo>
                      <a:pt x="31" y="213"/>
                    </a:lnTo>
                    <a:lnTo>
                      <a:pt x="26" y="214"/>
                    </a:lnTo>
                    <a:lnTo>
                      <a:pt x="22" y="213"/>
                    </a:lnTo>
                    <a:lnTo>
                      <a:pt x="18" y="210"/>
                    </a:lnTo>
                    <a:lnTo>
                      <a:pt x="15" y="206"/>
                    </a:lnTo>
                    <a:lnTo>
                      <a:pt x="11" y="202"/>
                    </a:lnTo>
                    <a:lnTo>
                      <a:pt x="8" y="195"/>
                    </a:lnTo>
                    <a:lnTo>
                      <a:pt x="6" y="188"/>
                    </a:lnTo>
                    <a:lnTo>
                      <a:pt x="3" y="181"/>
                    </a:lnTo>
                    <a:lnTo>
                      <a:pt x="1" y="165"/>
                    </a:lnTo>
                    <a:lnTo>
                      <a:pt x="0" y="147"/>
                    </a:lnTo>
                    <a:lnTo>
                      <a:pt x="0" y="131"/>
                    </a:lnTo>
                    <a:lnTo>
                      <a:pt x="1" y="117"/>
                    </a:lnTo>
                    <a:lnTo>
                      <a:pt x="3" y="102"/>
                    </a:lnTo>
                    <a:lnTo>
                      <a:pt x="5" y="82"/>
                    </a:lnTo>
                    <a:lnTo>
                      <a:pt x="7" y="60"/>
                    </a:lnTo>
                    <a:lnTo>
                      <a:pt x="10" y="39"/>
                    </a:lnTo>
                    <a:lnTo>
                      <a:pt x="11" y="29"/>
                    </a:lnTo>
                    <a:lnTo>
                      <a:pt x="13" y="19"/>
                    </a:lnTo>
                    <a:lnTo>
                      <a:pt x="16" y="12"/>
                    </a:lnTo>
                    <a:lnTo>
                      <a:pt x="19" y="6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7" y="3"/>
                    </a:lnTo>
                    <a:close/>
                  </a:path>
                </a:pathLst>
              </a:custGeom>
              <a:solidFill>
                <a:srgbClr val="80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7139160" y="2592360"/>
                <a:ext cx="314280" cy="57240"/>
              </a:xfrm>
              <a:custGeom>
                <a:avLst/>
                <a:gdLst/>
                <a:ahLst/>
                <a:rect l="l" t="t" r="r" b="b"/>
                <a:pathLst>
                  <a:path w="988" h="182">
                    <a:moveTo>
                      <a:pt x="982" y="121"/>
                    </a:moveTo>
                    <a:lnTo>
                      <a:pt x="986" y="121"/>
                    </a:lnTo>
                    <a:lnTo>
                      <a:pt x="987" y="121"/>
                    </a:lnTo>
                    <a:lnTo>
                      <a:pt x="988" y="123"/>
                    </a:lnTo>
                    <a:lnTo>
                      <a:pt x="987" y="126"/>
                    </a:lnTo>
                    <a:lnTo>
                      <a:pt x="982" y="133"/>
                    </a:lnTo>
                    <a:lnTo>
                      <a:pt x="974" y="143"/>
                    </a:lnTo>
                    <a:lnTo>
                      <a:pt x="961" y="154"/>
                    </a:lnTo>
                    <a:lnTo>
                      <a:pt x="949" y="164"/>
                    </a:lnTo>
                    <a:lnTo>
                      <a:pt x="935" y="172"/>
                    </a:lnTo>
                    <a:lnTo>
                      <a:pt x="922" y="179"/>
                    </a:lnTo>
                    <a:lnTo>
                      <a:pt x="907" y="181"/>
                    </a:lnTo>
                    <a:lnTo>
                      <a:pt x="891" y="182"/>
                    </a:lnTo>
                    <a:lnTo>
                      <a:pt x="874" y="182"/>
                    </a:lnTo>
                    <a:lnTo>
                      <a:pt x="854" y="180"/>
                    </a:lnTo>
                    <a:lnTo>
                      <a:pt x="836" y="177"/>
                    </a:lnTo>
                    <a:lnTo>
                      <a:pt x="815" y="174"/>
                    </a:lnTo>
                    <a:lnTo>
                      <a:pt x="795" y="169"/>
                    </a:lnTo>
                    <a:lnTo>
                      <a:pt x="776" y="164"/>
                    </a:lnTo>
                    <a:lnTo>
                      <a:pt x="740" y="153"/>
                    </a:lnTo>
                    <a:lnTo>
                      <a:pt x="710" y="143"/>
                    </a:lnTo>
                    <a:lnTo>
                      <a:pt x="691" y="136"/>
                    </a:lnTo>
                    <a:lnTo>
                      <a:pt x="683" y="132"/>
                    </a:lnTo>
                    <a:lnTo>
                      <a:pt x="232" y="86"/>
                    </a:lnTo>
                    <a:lnTo>
                      <a:pt x="231" y="85"/>
                    </a:lnTo>
                    <a:lnTo>
                      <a:pt x="228" y="83"/>
                    </a:lnTo>
                    <a:lnTo>
                      <a:pt x="224" y="79"/>
                    </a:lnTo>
                    <a:lnTo>
                      <a:pt x="218" y="75"/>
                    </a:lnTo>
                    <a:lnTo>
                      <a:pt x="211" y="69"/>
                    </a:lnTo>
                    <a:lnTo>
                      <a:pt x="202" y="64"/>
                    </a:lnTo>
                    <a:lnTo>
                      <a:pt x="192" y="59"/>
                    </a:lnTo>
                    <a:lnTo>
                      <a:pt x="180" y="53"/>
                    </a:lnTo>
                    <a:lnTo>
                      <a:pt x="167" y="48"/>
                    </a:lnTo>
                    <a:lnTo>
                      <a:pt x="149" y="43"/>
                    </a:lnTo>
                    <a:lnTo>
                      <a:pt x="130" y="38"/>
                    </a:lnTo>
                    <a:lnTo>
                      <a:pt x="107" y="35"/>
                    </a:lnTo>
                    <a:lnTo>
                      <a:pt x="83" y="31"/>
                    </a:lnTo>
                    <a:lnTo>
                      <a:pt x="58" y="29"/>
                    </a:lnTo>
                    <a:lnTo>
                      <a:pt x="34" y="27"/>
                    </a:lnTo>
                    <a:lnTo>
                      <a:pt x="9" y="26"/>
                    </a:lnTo>
                    <a:lnTo>
                      <a:pt x="4" y="26"/>
                    </a:lnTo>
                    <a:lnTo>
                      <a:pt x="2" y="26"/>
                    </a:lnTo>
                    <a:lnTo>
                      <a:pt x="0" y="25"/>
                    </a:lnTo>
                    <a:lnTo>
                      <a:pt x="3" y="24"/>
                    </a:lnTo>
                    <a:lnTo>
                      <a:pt x="12" y="22"/>
                    </a:lnTo>
                    <a:lnTo>
                      <a:pt x="26" y="19"/>
                    </a:lnTo>
                    <a:lnTo>
                      <a:pt x="76" y="13"/>
                    </a:lnTo>
                    <a:lnTo>
                      <a:pt x="141" y="5"/>
                    </a:lnTo>
                    <a:lnTo>
                      <a:pt x="179" y="3"/>
                    </a:lnTo>
                    <a:lnTo>
                      <a:pt x="219" y="1"/>
                    </a:lnTo>
                    <a:lnTo>
                      <a:pt x="260" y="0"/>
                    </a:lnTo>
                    <a:lnTo>
                      <a:pt x="302" y="0"/>
                    </a:lnTo>
                    <a:lnTo>
                      <a:pt x="342" y="1"/>
                    </a:lnTo>
                    <a:lnTo>
                      <a:pt x="382" y="4"/>
                    </a:lnTo>
                    <a:lnTo>
                      <a:pt x="420" y="9"/>
                    </a:lnTo>
                    <a:lnTo>
                      <a:pt x="454" y="15"/>
                    </a:lnTo>
                    <a:lnTo>
                      <a:pt x="486" y="21"/>
                    </a:lnTo>
                    <a:lnTo>
                      <a:pt x="516" y="26"/>
                    </a:lnTo>
                    <a:lnTo>
                      <a:pt x="543" y="30"/>
                    </a:lnTo>
                    <a:lnTo>
                      <a:pt x="569" y="32"/>
                    </a:lnTo>
                    <a:lnTo>
                      <a:pt x="591" y="33"/>
                    </a:lnTo>
                    <a:lnTo>
                      <a:pt x="612" y="33"/>
                    </a:lnTo>
                    <a:lnTo>
                      <a:pt x="629" y="33"/>
                    </a:lnTo>
                    <a:lnTo>
                      <a:pt x="646" y="32"/>
                    </a:lnTo>
                    <a:lnTo>
                      <a:pt x="672" y="29"/>
                    </a:lnTo>
                    <a:lnTo>
                      <a:pt x="691" y="25"/>
                    </a:lnTo>
                    <a:lnTo>
                      <a:pt x="702" y="22"/>
                    </a:lnTo>
                    <a:lnTo>
                      <a:pt x="704" y="21"/>
                    </a:lnTo>
                    <a:lnTo>
                      <a:pt x="713" y="26"/>
                    </a:lnTo>
                    <a:lnTo>
                      <a:pt x="735" y="41"/>
                    </a:lnTo>
                    <a:lnTo>
                      <a:pt x="767" y="59"/>
                    </a:lnTo>
                    <a:lnTo>
                      <a:pt x="808" y="81"/>
                    </a:lnTo>
                    <a:lnTo>
                      <a:pt x="830" y="91"/>
                    </a:lnTo>
                    <a:lnTo>
                      <a:pt x="852" y="101"/>
                    </a:lnTo>
                    <a:lnTo>
                      <a:pt x="875" y="110"/>
                    </a:lnTo>
                    <a:lnTo>
                      <a:pt x="899" y="117"/>
                    </a:lnTo>
                    <a:lnTo>
                      <a:pt x="921" y="122"/>
                    </a:lnTo>
                    <a:lnTo>
                      <a:pt x="943" y="124"/>
                    </a:lnTo>
                    <a:lnTo>
                      <a:pt x="953" y="126"/>
                    </a:lnTo>
                    <a:lnTo>
                      <a:pt x="963" y="124"/>
                    </a:lnTo>
                    <a:lnTo>
                      <a:pt x="972" y="123"/>
                    </a:lnTo>
                    <a:lnTo>
                      <a:pt x="982" y="121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7061040" y="2694240"/>
                <a:ext cx="263520" cy="80640"/>
              </a:xfrm>
              <a:custGeom>
                <a:avLst/>
                <a:gdLst/>
                <a:ahLst/>
                <a:rect l="l" t="t" r="r" b="b"/>
                <a:pathLst>
                  <a:path w="831" h="254">
                    <a:moveTo>
                      <a:pt x="57" y="153"/>
                    </a:moveTo>
                    <a:lnTo>
                      <a:pt x="80" y="146"/>
                    </a:lnTo>
                    <a:lnTo>
                      <a:pt x="112" y="137"/>
                    </a:lnTo>
                    <a:lnTo>
                      <a:pt x="150" y="127"/>
                    </a:lnTo>
                    <a:lnTo>
                      <a:pt x="190" y="117"/>
                    </a:lnTo>
                    <a:lnTo>
                      <a:pt x="227" y="107"/>
                    </a:lnTo>
                    <a:lnTo>
                      <a:pt x="259" y="100"/>
                    </a:lnTo>
                    <a:lnTo>
                      <a:pt x="280" y="95"/>
                    </a:lnTo>
                    <a:lnTo>
                      <a:pt x="288" y="93"/>
                    </a:lnTo>
                    <a:lnTo>
                      <a:pt x="293" y="99"/>
                    </a:lnTo>
                    <a:lnTo>
                      <a:pt x="299" y="104"/>
                    </a:lnTo>
                    <a:lnTo>
                      <a:pt x="307" y="110"/>
                    </a:lnTo>
                    <a:lnTo>
                      <a:pt x="314" y="115"/>
                    </a:lnTo>
                    <a:lnTo>
                      <a:pt x="331" y="125"/>
                    </a:lnTo>
                    <a:lnTo>
                      <a:pt x="351" y="133"/>
                    </a:lnTo>
                    <a:lnTo>
                      <a:pt x="372" y="141"/>
                    </a:lnTo>
                    <a:lnTo>
                      <a:pt x="394" y="148"/>
                    </a:lnTo>
                    <a:lnTo>
                      <a:pt x="416" y="154"/>
                    </a:lnTo>
                    <a:lnTo>
                      <a:pt x="438" y="159"/>
                    </a:lnTo>
                    <a:lnTo>
                      <a:pt x="481" y="168"/>
                    </a:lnTo>
                    <a:lnTo>
                      <a:pt x="517" y="173"/>
                    </a:lnTo>
                    <a:lnTo>
                      <a:pt x="542" y="176"/>
                    </a:lnTo>
                    <a:lnTo>
                      <a:pt x="552" y="176"/>
                    </a:lnTo>
                    <a:lnTo>
                      <a:pt x="575" y="187"/>
                    </a:lnTo>
                    <a:lnTo>
                      <a:pt x="597" y="197"/>
                    </a:lnTo>
                    <a:lnTo>
                      <a:pt x="618" y="206"/>
                    </a:lnTo>
                    <a:lnTo>
                      <a:pt x="638" y="213"/>
                    </a:lnTo>
                    <a:lnTo>
                      <a:pt x="656" y="219"/>
                    </a:lnTo>
                    <a:lnTo>
                      <a:pt x="675" y="224"/>
                    </a:lnTo>
                    <a:lnTo>
                      <a:pt x="691" y="228"/>
                    </a:lnTo>
                    <a:lnTo>
                      <a:pt x="705" y="230"/>
                    </a:lnTo>
                    <a:lnTo>
                      <a:pt x="719" y="233"/>
                    </a:lnTo>
                    <a:lnTo>
                      <a:pt x="731" y="234"/>
                    </a:lnTo>
                    <a:lnTo>
                      <a:pt x="743" y="234"/>
                    </a:lnTo>
                    <a:lnTo>
                      <a:pt x="755" y="234"/>
                    </a:lnTo>
                    <a:lnTo>
                      <a:pt x="764" y="233"/>
                    </a:lnTo>
                    <a:lnTo>
                      <a:pt x="773" y="232"/>
                    </a:lnTo>
                    <a:lnTo>
                      <a:pt x="782" y="230"/>
                    </a:lnTo>
                    <a:lnTo>
                      <a:pt x="789" y="228"/>
                    </a:lnTo>
                    <a:lnTo>
                      <a:pt x="801" y="222"/>
                    </a:lnTo>
                    <a:lnTo>
                      <a:pt x="811" y="216"/>
                    </a:lnTo>
                    <a:lnTo>
                      <a:pt x="819" y="208"/>
                    </a:lnTo>
                    <a:lnTo>
                      <a:pt x="825" y="201"/>
                    </a:lnTo>
                    <a:lnTo>
                      <a:pt x="830" y="190"/>
                    </a:lnTo>
                    <a:lnTo>
                      <a:pt x="831" y="185"/>
                    </a:lnTo>
                    <a:lnTo>
                      <a:pt x="825" y="185"/>
                    </a:lnTo>
                    <a:lnTo>
                      <a:pt x="806" y="183"/>
                    </a:lnTo>
                    <a:lnTo>
                      <a:pt x="777" y="178"/>
                    </a:lnTo>
                    <a:lnTo>
                      <a:pt x="741" y="170"/>
                    </a:lnTo>
                    <a:lnTo>
                      <a:pt x="720" y="165"/>
                    </a:lnTo>
                    <a:lnTo>
                      <a:pt x="698" y="159"/>
                    </a:lnTo>
                    <a:lnTo>
                      <a:pt x="676" y="152"/>
                    </a:lnTo>
                    <a:lnTo>
                      <a:pt x="652" y="143"/>
                    </a:lnTo>
                    <a:lnTo>
                      <a:pt x="629" y="132"/>
                    </a:lnTo>
                    <a:lnTo>
                      <a:pt x="604" y="121"/>
                    </a:lnTo>
                    <a:lnTo>
                      <a:pt x="580" y="107"/>
                    </a:lnTo>
                    <a:lnTo>
                      <a:pt x="556" y="93"/>
                    </a:lnTo>
                    <a:lnTo>
                      <a:pt x="547" y="90"/>
                    </a:lnTo>
                    <a:lnTo>
                      <a:pt x="521" y="85"/>
                    </a:lnTo>
                    <a:lnTo>
                      <a:pt x="484" y="76"/>
                    </a:lnTo>
                    <a:lnTo>
                      <a:pt x="441" y="63"/>
                    </a:lnTo>
                    <a:lnTo>
                      <a:pt x="417" y="57"/>
                    </a:lnTo>
                    <a:lnTo>
                      <a:pt x="394" y="50"/>
                    </a:lnTo>
                    <a:lnTo>
                      <a:pt x="372" y="42"/>
                    </a:lnTo>
                    <a:lnTo>
                      <a:pt x="351" y="34"/>
                    </a:lnTo>
                    <a:lnTo>
                      <a:pt x="333" y="26"/>
                    </a:lnTo>
                    <a:lnTo>
                      <a:pt x="317" y="18"/>
                    </a:lnTo>
                    <a:lnTo>
                      <a:pt x="303" y="9"/>
                    </a:lnTo>
                    <a:lnTo>
                      <a:pt x="293" y="0"/>
                    </a:lnTo>
                    <a:lnTo>
                      <a:pt x="283" y="3"/>
                    </a:lnTo>
                    <a:lnTo>
                      <a:pt x="259" y="8"/>
                    </a:lnTo>
                    <a:lnTo>
                      <a:pt x="223" y="16"/>
                    </a:lnTo>
                    <a:lnTo>
                      <a:pt x="181" y="25"/>
                    </a:lnTo>
                    <a:lnTo>
                      <a:pt x="137" y="34"/>
                    </a:lnTo>
                    <a:lnTo>
                      <a:pt x="95" y="41"/>
                    </a:lnTo>
                    <a:lnTo>
                      <a:pt x="77" y="45"/>
                    </a:lnTo>
                    <a:lnTo>
                      <a:pt x="61" y="46"/>
                    </a:lnTo>
                    <a:lnTo>
                      <a:pt x="47" y="47"/>
                    </a:lnTo>
                    <a:lnTo>
                      <a:pt x="37" y="46"/>
                    </a:lnTo>
                    <a:lnTo>
                      <a:pt x="35" y="47"/>
                    </a:lnTo>
                    <a:lnTo>
                      <a:pt x="31" y="48"/>
                    </a:lnTo>
                    <a:lnTo>
                      <a:pt x="27" y="51"/>
                    </a:lnTo>
                    <a:lnTo>
                      <a:pt x="25" y="56"/>
                    </a:lnTo>
                    <a:lnTo>
                      <a:pt x="19" y="67"/>
                    </a:lnTo>
                    <a:lnTo>
                      <a:pt x="14" y="82"/>
                    </a:lnTo>
                    <a:lnTo>
                      <a:pt x="10" y="99"/>
                    </a:lnTo>
                    <a:lnTo>
                      <a:pt x="7" y="119"/>
                    </a:lnTo>
                    <a:lnTo>
                      <a:pt x="4" y="139"/>
                    </a:lnTo>
                    <a:lnTo>
                      <a:pt x="2" y="160"/>
                    </a:lnTo>
                    <a:lnTo>
                      <a:pt x="0" y="181"/>
                    </a:lnTo>
                    <a:lnTo>
                      <a:pt x="0" y="201"/>
                    </a:lnTo>
                    <a:lnTo>
                      <a:pt x="2" y="218"/>
                    </a:lnTo>
                    <a:lnTo>
                      <a:pt x="3" y="234"/>
                    </a:lnTo>
                    <a:lnTo>
                      <a:pt x="5" y="245"/>
                    </a:lnTo>
                    <a:lnTo>
                      <a:pt x="9" y="253"/>
                    </a:lnTo>
                    <a:lnTo>
                      <a:pt x="10" y="254"/>
                    </a:lnTo>
                    <a:lnTo>
                      <a:pt x="13" y="254"/>
                    </a:lnTo>
                    <a:lnTo>
                      <a:pt x="16" y="253"/>
                    </a:lnTo>
                    <a:lnTo>
                      <a:pt x="19" y="250"/>
                    </a:lnTo>
                    <a:lnTo>
                      <a:pt x="30" y="234"/>
                    </a:lnTo>
                    <a:lnTo>
                      <a:pt x="39" y="218"/>
                    </a:lnTo>
                    <a:lnTo>
                      <a:pt x="45" y="201"/>
                    </a:lnTo>
                    <a:lnTo>
                      <a:pt x="50" y="186"/>
                    </a:lnTo>
                    <a:lnTo>
                      <a:pt x="53" y="173"/>
                    </a:lnTo>
                    <a:lnTo>
                      <a:pt x="56" y="162"/>
                    </a:lnTo>
                    <a:lnTo>
                      <a:pt x="57" y="155"/>
                    </a:lnTo>
                    <a:lnTo>
                      <a:pt x="57" y="15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6846840" y="2595600"/>
                <a:ext cx="166680" cy="327240"/>
              </a:xfrm>
              <a:custGeom>
                <a:avLst/>
                <a:gdLst/>
                <a:ahLst/>
                <a:rect l="l" t="t" r="r" b="b"/>
                <a:pathLst>
                  <a:path w="525" h="1031">
                    <a:moveTo>
                      <a:pt x="456" y="610"/>
                    </a:moveTo>
                    <a:lnTo>
                      <a:pt x="443" y="628"/>
                    </a:lnTo>
                    <a:lnTo>
                      <a:pt x="429" y="648"/>
                    </a:lnTo>
                    <a:lnTo>
                      <a:pt x="413" y="666"/>
                    </a:lnTo>
                    <a:lnTo>
                      <a:pt x="398" y="686"/>
                    </a:lnTo>
                    <a:lnTo>
                      <a:pt x="364" y="724"/>
                    </a:lnTo>
                    <a:lnTo>
                      <a:pt x="328" y="761"/>
                    </a:lnTo>
                    <a:lnTo>
                      <a:pt x="291" y="797"/>
                    </a:lnTo>
                    <a:lnTo>
                      <a:pt x="253" y="833"/>
                    </a:lnTo>
                    <a:lnTo>
                      <a:pt x="215" y="866"/>
                    </a:lnTo>
                    <a:lnTo>
                      <a:pt x="178" y="896"/>
                    </a:lnTo>
                    <a:lnTo>
                      <a:pt x="108" y="951"/>
                    </a:lnTo>
                    <a:lnTo>
                      <a:pt x="51" y="994"/>
                    </a:lnTo>
                    <a:lnTo>
                      <a:pt x="13" y="1021"/>
                    </a:lnTo>
                    <a:lnTo>
                      <a:pt x="0" y="1031"/>
                    </a:lnTo>
                    <a:lnTo>
                      <a:pt x="6" y="1011"/>
                    </a:lnTo>
                    <a:lnTo>
                      <a:pt x="23" y="959"/>
                    </a:lnTo>
                    <a:lnTo>
                      <a:pt x="49" y="883"/>
                    </a:lnTo>
                    <a:lnTo>
                      <a:pt x="81" y="791"/>
                    </a:lnTo>
                    <a:lnTo>
                      <a:pt x="117" y="691"/>
                    </a:lnTo>
                    <a:lnTo>
                      <a:pt x="154" y="593"/>
                    </a:lnTo>
                    <a:lnTo>
                      <a:pt x="172" y="546"/>
                    </a:lnTo>
                    <a:lnTo>
                      <a:pt x="190" y="504"/>
                    </a:lnTo>
                    <a:lnTo>
                      <a:pt x="206" y="466"/>
                    </a:lnTo>
                    <a:lnTo>
                      <a:pt x="222" y="433"/>
                    </a:lnTo>
                    <a:lnTo>
                      <a:pt x="252" y="371"/>
                    </a:lnTo>
                    <a:lnTo>
                      <a:pt x="281" y="307"/>
                    </a:lnTo>
                    <a:lnTo>
                      <a:pt x="311" y="243"/>
                    </a:lnTo>
                    <a:lnTo>
                      <a:pt x="341" y="182"/>
                    </a:lnTo>
                    <a:lnTo>
                      <a:pt x="355" y="152"/>
                    </a:lnTo>
                    <a:lnTo>
                      <a:pt x="370" y="125"/>
                    </a:lnTo>
                    <a:lnTo>
                      <a:pt x="385" y="99"/>
                    </a:lnTo>
                    <a:lnTo>
                      <a:pt x="401" y="75"/>
                    </a:lnTo>
                    <a:lnTo>
                      <a:pt x="416" y="54"/>
                    </a:lnTo>
                    <a:lnTo>
                      <a:pt x="430" y="34"/>
                    </a:lnTo>
                    <a:lnTo>
                      <a:pt x="438" y="27"/>
                    </a:lnTo>
                    <a:lnTo>
                      <a:pt x="446" y="18"/>
                    </a:lnTo>
                    <a:lnTo>
                      <a:pt x="454" y="12"/>
                    </a:lnTo>
                    <a:lnTo>
                      <a:pt x="461" y="6"/>
                    </a:lnTo>
                    <a:lnTo>
                      <a:pt x="468" y="2"/>
                    </a:lnTo>
                    <a:lnTo>
                      <a:pt x="476" y="0"/>
                    </a:lnTo>
                    <a:lnTo>
                      <a:pt x="482" y="0"/>
                    </a:lnTo>
                    <a:lnTo>
                      <a:pt x="487" y="2"/>
                    </a:lnTo>
                    <a:lnTo>
                      <a:pt x="492" y="6"/>
                    </a:lnTo>
                    <a:lnTo>
                      <a:pt x="497" y="11"/>
                    </a:lnTo>
                    <a:lnTo>
                      <a:pt x="500" y="18"/>
                    </a:lnTo>
                    <a:lnTo>
                      <a:pt x="504" y="26"/>
                    </a:lnTo>
                    <a:lnTo>
                      <a:pt x="507" y="33"/>
                    </a:lnTo>
                    <a:lnTo>
                      <a:pt x="508" y="42"/>
                    </a:lnTo>
                    <a:lnTo>
                      <a:pt x="509" y="50"/>
                    </a:lnTo>
                    <a:lnTo>
                      <a:pt x="509" y="59"/>
                    </a:lnTo>
                    <a:lnTo>
                      <a:pt x="509" y="69"/>
                    </a:lnTo>
                    <a:lnTo>
                      <a:pt x="508" y="76"/>
                    </a:lnTo>
                    <a:lnTo>
                      <a:pt x="505" y="83"/>
                    </a:lnTo>
                    <a:lnTo>
                      <a:pt x="502" y="91"/>
                    </a:lnTo>
                    <a:lnTo>
                      <a:pt x="494" y="104"/>
                    </a:lnTo>
                    <a:lnTo>
                      <a:pt x="486" y="118"/>
                    </a:lnTo>
                    <a:lnTo>
                      <a:pt x="478" y="131"/>
                    </a:lnTo>
                    <a:lnTo>
                      <a:pt x="473" y="145"/>
                    </a:lnTo>
                    <a:lnTo>
                      <a:pt x="471" y="151"/>
                    </a:lnTo>
                    <a:lnTo>
                      <a:pt x="470" y="158"/>
                    </a:lnTo>
                    <a:lnTo>
                      <a:pt x="468" y="165"/>
                    </a:lnTo>
                    <a:lnTo>
                      <a:pt x="470" y="171"/>
                    </a:lnTo>
                    <a:lnTo>
                      <a:pt x="471" y="178"/>
                    </a:lnTo>
                    <a:lnTo>
                      <a:pt x="473" y="184"/>
                    </a:lnTo>
                    <a:lnTo>
                      <a:pt x="477" y="190"/>
                    </a:lnTo>
                    <a:lnTo>
                      <a:pt x="483" y="197"/>
                    </a:lnTo>
                    <a:lnTo>
                      <a:pt x="494" y="208"/>
                    </a:lnTo>
                    <a:lnTo>
                      <a:pt x="505" y="218"/>
                    </a:lnTo>
                    <a:lnTo>
                      <a:pt x="514" y="227"/>
                    </a:lnTo>
                    <a:lnTo>
                      <a:pt x="520" y="236"/>
                    </a:lnTo>
                    <a:lnTo>
                      <a:pt x="523" y="241"/>
                    </a:lnTo>
                    <a:lnTo>
                      <a:pt x="525" y="246"/>
                    </a:lnTo>
                    <a:lnTo>
                      <a:pt x="525" y="251"/>
                    </a:lnTo>
                    <a:lnTo>
                      <a:pt x="525" y="256"/>
                    </a:lnTo>
                    <a:lnTo>
                      <a:pt x="524" y="262"/>
                    </a:lnTo>
                    <a:lnTo>
                      <a:pt x="523" y="268"/>
                    </a:lnTo>
                    <a:lnTo>
                      <a:pt x="519" y="275"/>
                    </a:lnTo>
                    <a:lnTo>
                      <a:pt x="515" y="284"/>
                    </a:lnTo>
                    <a:lnTo>
                      <a:pt x="510" y="293"/>
                    </a:lnTo>
                    <a:lnTo>
                      <a:pt x="507" y="302"/>
                    </a:lnTo>
                    <a:lnTo>
                      <a:pt x="503" y="312"/>
                    </a:lnTo>
                    <a:lnTo>
                      <a:pt x="499" y="322"/>
                    </a:lnTo>
                    <a:lnTo>
                      <a:pt x="496" y="344"/>
                    </a:lnTo>
                    <a:lnTo>
                      <a:pt x="493" y="365"/>
                    </a:lnTo>
                    <a:lnTo>
                      <a:pt x="493" y="376"/>
                    </a:lnTo>
                    <a:lnTo>
                      <a:pt x="494" y="386"/>
                    </a:lnTo>
                    <a:lnTo>
                      <a:pt x="496" y="396"/>
                    </a:lnTo>
                    <a:lnTo>
                      <a:pt x="497" y="404"/>
                    </a:lnTo>
                    <a:lnTo>
                      <a:pt x="499" y="413"/>
                    </a:lnTo>
                    <a:lnTo>
                      <a:pt x="502" y="420"/>
                    </a:lnTo>
                    <a:lnTo>
                      <a:pt x="505" y="427"/>
                    </a:lnTo>
                    <a:lnTo>
                      <a:pt x="510" y="433"/>
                    </a:lnTo>
                    <a:lnTo>
                      <a:pt x="515" y="438"/>
                    </a:lnTo>
                    <a:lnTo>
                      <a:pt x="519" y="443"/>
                    </a:lnTo>
                    <a:lnTo>
                      <a:pt x="521" y="449"/>
                    </a:lnTo>
                    <a:lnTo>
                      <a:pt x="524" y="455"/>
                    </a:lnTo>
                    <a:lnTo>
                      <a:pt x="525" y="461"/>
                    </a:lnTo>
                    <a:lnTo>
                      <a:pt x="525" y="468"/>
                    </a:lnTo>
                    <a:lnTo>
                      <a:pt x="525" y="477"/>
                    </a:lnTo>
                    <a:lnTo>
                      <a:pt x="523" y="486"/>
                    </a:lnTo>
                    <a:lnTo>
                      <a:pt x="519" y="496"/>
                    </a:lnTo>
                    <a:lnTo>
                      <a:pt x="515" y="507"/>
                    </a:lnTo>
                    <a:lnTo>
                      <a:pt x="509" y="520"/>
                    </a:lnTo>
                    <a:lnTo>
                      <a:pt x="502" y="534"/>
                    </a:lnTo>
                    <a:lnTo>
                      <a:pt x="482" y="568"/>
                    </a:lnTo>
                    <a:lnTo>
                      <a:pt x="456" y="610"/>
                    </a:lnTo>
                    <a:close/>
                  </a:path>
                </a:pathLst>
              </a:custGeom>
              <a:solidFill>
                <a:srgbClr val="63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6848640" y="2605320"/>
                <a:ext cx="160200" cy="312480"/>
              </a:xfrm>
              <a:custGeom>
                <a:avLst/>
                <a:gdLst/>
                <a:ahLst/>
                <a:rect l="l" t="t" r="r" b="b"/>
                <a:pathLst>
                  <a:path w="505" h="982">
                    <a:moveTo>
                      <a:pt x="402" y="590"/>
                    </a:moveTo>
                    <a:lnTo>
                      <a:pt x="374" y="626"/>
                    </a:lnTo>
                    <a:lnTo>
                      <a:pt x="344" y="663"/>
                    </a:lnTo>
                    <a:lnTo>
                      <a:pt x="312" y="699"/>
                    </a:lnTo>
                    <a:lnTo>
                      <a:pt x="279" y="733"/>
                    </a:lnTo>
                    <a:lnTo>
                      <a:pt x="246" y="768"/>
                    </a:lnTo>
                    <a:lnTo>
                      <a:pt x="213" y="800"/>
                    </a:lnTo>
                    <a:lnTo>
                      <a:pt x="179" y="830"/>
                    </a:lnTo>
                    <a:lnTo>
                      <a:pt x="147" y="859"/>
                    </a:lnTo>
                    <a:lnTo>
                      <a:pt x="89" y="909"/>
                    </a:lnTo>
                    <a:lnTo>
                      <a:pt x="43" y="947"/>
                    </a:lnTo>
                    <a:lnTo>
                      <a:pt x="11" y="972"/>
                    </a:lnTo>
                    <a:lnTo>
                      <a:pt x="0" y="982"/>
                    </a:lnTo>
                    <a:lnTo>
                      <a:pt x="6" y="963"/>
                    </a:lnTo>
                    <a:lnTo>
                      <a:pt x="23" y="913"/>
                    </a:lnTo>
                    <a:lnTo>
                      <a:pt x="48" y="839"/>
                    </a:lnTo>
                    <a:lnTo>
                      <a:pt x="78" y="749"/>
                    </a:lnTo>
                    <a:lnTo>
                      <a:pt x="114" y="653"/>
                    </a:lnTo>
                    <a:lnTo>
                      <a:pt x="150" y="557"/>
                    </a:lnTo>
                    <a:lnTo>
                      <a:pt x="168" y="512"/>
                    </a:lnTo>
                    <a:lnTo>
                      <a:pt x="185" y="470"/>
                    </a:lnTo>
                    <a:lnTo>
                      <a:pt x="201" y="432"/>
                    </a:lnTo>
                    <a:lnTo>
                      <a:pt x="217" y="400"/>
                    </a:lnTo>
                    <a:lnTo>
                      <a:pt x="246" y="340"/>
                    </a:lnTo>
                    <a:lnTo>
                      <a:pt x="274" y="279"/>
                    </a:lnTo>
                    <a:lnTo>
                      <a:pt x="302" y="220"/>
                    </a:lnTo>
                    <a:lnTo>
                      <a:pt x="329" y="165"/>
                    </a:lnTo>
                    <a:lnTo>
                      <a:pt x="343" y="138"/>
                    </a:lnTo>
                    <a:lnTo>
                      <a:pt x="356" y="113"/>
                    </a:lnTo>
                    <a:lnTo>
                      <a:pt x="370" y="91"/>
                    </a:lnTo>
                    <a:lnTo>
                      <a:pt x="382" y="69"/>
                    </a:lnTo>
                    <a:lnTo>
                      <a:pt x="396" y="50"/>
                    </a:lnTo>
                    <a:lnTo>
                      <a:pt x="409" y="33"/>
                    </a:lnTo>
                    <a:lnTo>
                      <a:pt x="423" y="20"/>
                    </a:lnTo>
                    <a:lnTo>
                      <a:pt x="438" y="9"/>
                    </a:lnTo>
                    <a:lnTo>
                      <a:pt x="445" y="4"/>
                    </a:lnTo>
                    <a:lnTo>
                      <a:pt x="451" y="1"/>
                    </a:lnTo>
                    <a:lnTo>
                      <a:pt x="457" y="0"/>
                    </a:lnTo>
                    <a:lnTo>
                      <a:pt x="463" y="0"/>
                    </a:lnTo>
                    <a:lnTo>
                      <a:pt x="470" y="2"/>
                    </a:lnTo>
                    <a:lnTo>
                      <a:pt x="473" y="6"/>
                    </a:lnTo>
                    <a:lnTo>
                      <a:pt x="478" y="11"/>
                    </a:lnTo>
                    <a:lnTo>
                      <a:pt x="481" y="17"/>
                    </a:lnTo>
                    <a:lnTo>
                      <a:pt x="484" y="23"/>
                    </a:lnTo>
                    <a:lnTo>
                      <a:pt x="486" y="31"/>
                    </a:lnTo>
                    <a:lnTo>
                      <a:pt x="487" y="38"/>
                    </a:lnTo>
                    <a:lnTo>
                      <a:pt x="488" y="46"/>
                    </a:lnTo>
                    <a:lnTo>
                      <a:pt x="487" y="53"/>
                    </a:lnTo>
                    <a:lnTo>
                      <a:pt x="486" y="60"/>
                    </a:lnTo>
                    <a:lnTo>
                      <a:pt x="483" y="68"/>
                    </a:lnTo>
                    <a:lnTo>
                      <a:pt x="481" y="74"/>
                    </a:lnTo>
                    <a:lnTo>
                      <a:pt x="473" y="86"/>
                    </a:lnTo>
                    <a:lnTo>
                      <a:pt x="465" y="100"/>
                    </a:lnTo>
                    <a:lnTo>
                      <a:pt x="457" y="112"/>
                    </a:lnTo>
                    <a:lnTo>
                      <a:pt x="451" y="125"/>
                    </a:lnTo>
                    <a:lnTo>
                      <a:pt x="450" y="132"/>
                    </a:lnTo>
                    <a:lnTo>
                      <a:pt x="449" y="139"/>
                    </a:lnTo>
                    <a:lnTo>
                      <a:pt x="447" y="145"/>
                    </a:lnTo>
                    <a:lnTo>
                      <a:pt x="449" y="151"/>
                    </a:lnTo>
                    <a:lnTo>
                      <a:pt x="450" y="159"/>
                    </a:lnTo>
                    <a:lnTo>
                      <a:pt x="452" y="165"/>
                    </a:lnTo>
                    <a:lnTo>
                      <a:pt x="456" y="171"/>
                    </a:lnTo>
                    <a:lnTo>
                      <a:pt x="461" y="177"/>
                    </a:lnTo>
                    <a:lnTo>
                      <a:pt x="473" y="188"/>
                    </a:lnTo>
                    <a:lnTo>
                      <a:pt x="484" y="197"/>
                    </a:lnTo>
                    <a:lnTo>
                      <a:pt x="493" y="204"/>
                    </a:lnTo>
                    <a:lnTo>
                      <a:pt x="500" y="212"/>
                    </a:lnTo>
                    <a:lnTo>
                      <a:pt x="503" y="215"/>
                    </a:lnTo>
                    <a:lnTo>
                      <a:pt x="504" y="219"/>
                    </a:lnTo>
                    <a:lnTo>
                      <a:pt x="505" y="224"/>
                    </a:lnTo>
                    <a:lnTo>
                      <a:pt x="505" y="229"/>
                    </a:lnTo>
                    <a:lnTo>
                      <a:pt x="504" y="234"/>
                    </a:lnTo>
                    <a:lnTo>
                      <a:pt x="502" y="241"/>
                    </a:lnTo>
                    <a:lnTo>
                      <a:pt x="499" y="247"/>
                    </a:lnTo>
                    <a:lnTo>
                      <a:pt x="494" y="256"/>
                    </a:lnTo>
                    <a:lnTo>
                      <a:pt x="489" y="264"/>
                    </a:lnTo>
                    <a:lnTo>
                      <a:pt x="484" y="274"/>
                    </a:lnTo>
                    <a:lnTo>
                      <a:pt x="481" y="284"/>
                    </a:lnTo>
                    <a:lnTo>
                      <a:pt x="477" y="295"/>
                    </a:lnTo>
                    <a:lnTo>
                      <a:pt x="472" y="317"/>
                    </a:lnTo>
                    <a:lnTo>
                      <a:pt x="470" y="340"/>
                    </a:lnTo>
                    <a:lnTo>
                      <a:pt x="470" y="349"/>
                    </a:lnTo>
                    <a:lnTo>
                      <a:pt x="470" y="360"/>
                    </a:lnTo>
                    <a:lnTo>
                      <a:pt x="471" y="370"/>
                    </a:lnTo>
                    <a:lnTo>
                      <a:pt x="472" y="379"/>
                    </a:lnTo>
                    <a:lnTo>
                      <a:pt x="475" y="387"/>
                    </a:lnTo>
                    <a:lnTo>
                      <a:pt x="477" y="396"/>
                    </a:lnTo>
                    <a:lnTo>
                      <a:pt x="482" y="402"/>
                    </a:lnTo>
                    <a:lnTo>
                      <a:pt x="486" y="408"/>
                    </a:lnTo>
                    <a:lnTo>
                      <a:pt x="491" y="413"/>
                    </a:lnTo>
                    <a:lnTo>
                      <a:pt x="493" y="419"/>
                    </a:lnTo>
                    <a:lnTo>
                      <a:pt x="495" y="426"/>
                    </a:lnTo>
                    <a:lnTo>
                      <a:pt x="495" y="432"/>
                    </a:lnTo>
                    <a:lnTo>
                      <a:pt x="494" y="439"/>
                    </a:lnTo>
                    <a:lnTo>
                      <a:pt x="492" y="448"/>
                    </a:lnTo>
                    <a:lnTo>
                      <a:pt x="488" y="456"/>
                    </a:lnTo>
                    <a:lnTo>
                      <a:pt x="483" y="466"/>
                    </a:lnTo>
                    <a:lnTo>
                      <a:pt x="470" y="490"/>
                    </a:lnTo>
                    <a:lnTo>
                      <a:pt x="452" y="517"/>
                    </a:lnTo>
                    <a:lnTo>
                      <a:pt x="429" y="551"/>
                    </a:lnTo>
                    <a:lnTo>
                      <a:pt x="402" y="590"/>
                    </a:lnTo>
                    <a:close/>
                  </a:path>
                </a:pathLst>
              </a:custGeom>
              <a:solidFill>
                <a:srgbClr val="5f4d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6851520" y="2614680"/>
                <a:ext cx="152640" cy="297000"/>
              </a:xfrm>
              <a:custGeom>
                <a:avLst/>
                <a:gdLst/>
                <a:ahLst/>
                <a:rect l="l" t="t" r="r" b="b"/>
                <a:pathLst>
                  <a:path w="481" h="933">
                    <a:moveTo>
                      <a:pt x="345" y="569"/>
                    </a:moveTo>
                    <a:lnTo>
                      <a:pt x="316" y="606"/>
                    </a:lnTo>
                    <a:lnTo>
                      <a:pt x="287" y="641"/>
                    </a:lnTo>
                    <a:lnTo>
                      <a:pt x="257" y="675"/>
                    </a:lnTo>
                    <a:lnTo>
                      <a:pt x="228" y="708"/>
                    </a:lnTo>
                    <a:lnTo>
                      <a:pt x="170" y="770"/>
                    </a:lnTo>
                    <a:lnTo>
                      <a:pt x="116" y="824"/>
                    </a:lnTo>
                    <a:lnTo>
                      <a:pt x="69" y="869"/>
                    </a:lnTo>
                    <a:lnTo>
                      <a:pt x="32" y="904"/>
                    </a:lnTo>
                    <a:lnTo>
                      <a:pt x="9" y="926"/>
                    </a:lnTo>
                    <a:lnTo>
                      <a:pt x="0" y="933"/>
                    </a:lnTo>
                    <a:lnTo>
                      <a:pt x="5" y="916"/>
                    </a:lnTo>
                    <a:lnTo>
                      <a:pt x="21" y="868"/>
                    </a:lnTo>
                    <a:lnTo>
                      <a:pt x="46" y="797"/>
                    </a:lnTo>
                    <a:lnTo>
                      <a:pt x="75" y="711"/>
                    </a:lnTo>
                    <a:lnTo>
                      <a:pt x="109" y="617"/>
                    </a:lnTo>
                    <a:lnTo>
                      <a:pt x="143" y="524"/>
                    </a:lnTo>
                    <a:lnTo>
                      <a:pt x="160" y="479"/>
                    </a:lnTo>
                    <a:lnTo>
                      <a:pt x="177" y="439"/>
                    </a:lnTo>
                    <a:lnTo>
                      <a:pt x="193" y="401"/>
                    </a:lnTo>
                    <a:lnTo>
                      <a:pt x="209" y="369"/>
                    </a:lnTo>
                    <a:lnTo>
                      <a:pt x="238" y="310"/>
                    </a:lnTo>
                    <a:lnTo>
                      <a:pt x="265" y="253"/>
                    </a:lnTo>
                    <a:lnTo>
                      <a:pt x="291" y="200"/>
                    </a:lnTo>
                    <a:lnTo>
                      <a:pt x="315" y="150"/>
                    </a:lnTo>
                    <a:lnTo>
                      <a:pt x="328" y="126"/>
                    </a:lnTo>
                    <a:lnTo>
                      <a:pt x="340" y="104"/>
                    </a:lnTo>
                    <a:lnTo>
                      <a:pt x="352" y="85"/>
                    </a:lnTo>
                    <a:lnTo>
                      <a:pt x="363" y="66"/>
                    </a:lnTo>
                    <a:lnTo>
                      <a:pt x="376" y="49"/>
                    </a:lnTo>
                    <a:lnTo>
                      <a:pt x="387" y="34"/>
                    </a:lnTo>
                    <a:lnTo>
                      <a:pt x="399" y="21"/>
                    </a:lnTo>
                    <a:lnTo>
                      <a:pt x="410" y="11"/>
                    </a:lnTo>
                    <a:lnTo>
                      <a:pt x="417" y="5"/>
                    </a:lnTo>
                    <a:lnTo>
                      <a:pt x="425" y="1"/>
                    </a:lnTo>
                    <a:lnTo>
                      <a:pt x="431" y="0"/>
                    </a:lnTo>
                    <a:lnTo>
                      <a:pt x="437" y="0"/>
                    </a:lnTo>
                    <a:lnTo>
                      <a:pt x="443" y="0"/>
                    </a:lnTo>
                    <a:lnTo>
                      <a:pt x="448" y="2"/>
                    </a:lnTo>
                    <a:lnTo>
                      <a:pt x="453" y="5"/>
                    </a:lnTo>
                    <a:lnTo>
                      <a:pt x="457" y="8"/>
                    </a:lnTo>
                    <a:lnTo>
                      <a:pt x="459" y="13"/>
                    </a:lnTo>
                    <a:lnTo>
                      <a:pt x="462" y="19"/>
                    </a:lnTo>
                    <a:lnTo>
                      <a:pt x="463" y="24"/>
                    </a:lnTo>
                    <a:lnTo>
                      <a:pt x="464" y="31"/>
                    </a:lnTo>
                    <a:lnTo>
                      <a:pt x="464" y="38"/>
                    </a:lnTo>
                    <a:lnTo>
                      <a:pt x="462" y="44"/>
                    </a:lnTo>
                    <a:lnTo>
                      <a:pt x="459" y="50"/>
                    </a:lnTo>
                    <a:lnTo>
                      <a:pt x="457" y="56"/>
                    </a:lnTo>
                    <a:lnTo>
                      <a:pt x="448" y="69"/>
                    </a:lnTo>
                    <a:lnTo>
                      <a:pt x="441" y="82"/>
                    </a:lnTo>
                    <a:lnTo>
                      <a:pt x="433" y="96"/>
                    </a:lnTo>
                    <a:lnTo>
                      <a:pt x="427" y="109"/>
                    </a:lnTo>
                    <a:lnTo>
                      <a:pt x="425" y="117"/>
                    </a:lnTo>
                    <a:lnTo>
                      <a:pt x="424" y="123"/>
                    </a:lnTo>
                    <a:lnTo>
                      <a:pt x="424" y="130"/>
                    </a:lnTo>
                    <a:lnTo>
                      <a:pt x="424" y="136"/>
                    </a:lnTo>
                    <a:lnTo>
                      <a:pt x="425" y="144"/>
                    </a:lnTo>
                    <a:lnTo>
                      <a:pt x="428" y="150"/>
                    </a:lnTo>
                    <a:lnTo>
                      <a:pt x="432" y="156"/>
                    </a:lnTo>
                    <a:lnTo>
                      <a:pt x="437" y="162"/>
                    </a:lnTo>
                    <a:lnTo>
                      <a:pt x="449" y="173"/>
                    </a:lnTo>
                    <a:lnTo>
                      <a:pt x="460" y="179"/>
                    </a:lnTo>
                    <a:lnTo>
                      <a:pt x="469" y="186"/>
                    </a:lnTo>
                    <a:lnTo>
                      <a:pt x="476" y="190"/>
                    </a:lnTo>
                    <a:lnTo>
                      <a:pt x="479" y="193"/>
                    </a:lnTo>
                    <a:lnTo>
                      <a:pt x="480" y="195"/>
                    </a:lnTo>
                    <a:lnTo>
                      <a:pt x="481" y="199"/>
                    </a:lnTo>
                    <a:lnTo>
                      <a:pt x="481" y="203"/>
                    </a:lnTo>
                    <a:lnTo>
                      <a:pt x="478" y="213"/>
                    </a:lnTo>
                    <a:lnTo>
                      <a:pt x="470" y="227"/>
                    </a:lnTo>
                    <a:lnTo>
                      <a:pt x="462" y="247"/>
                    </a:lnTo>
                    <a:lnTo>
                      <a:pt x="454" y="268"/>
                    </a:lnTo>
                    <a:lnTo>
                      <a:pt x="448" y="290"/>
                    </a:lnTo>
                    <a:lnTo>
                      <a:pt x="446" y="313"/>
                    </a:lnTo>
                    <a:lnTo>
                      <a:pt x="444" y="325"/>
                    </a:lnTo>
                    <a:lnTo>
                      <a:pt x="444" y="336"/>
                    </a:lnTo>
                    <a:lnTo>
                      <a:pt x="444" y="345"/>
                    </a:lnTo>
                    <a:lnTo>
                      <a:pt x="446" y="355"/>
                    </a:lnTo>
                    <a:lnTo>
                      <a:pt x="448" y="365"/>
                    </a:lnTo>
                    <a:lnTo>
                      <a:pt x="451" y="372"/>
                    </a:lnTo>
                    <a:lnTo>
                      <a:pt x="454" y="380"/>
                    </a:lnTo>
                    <a:lnTo>
                      <a:pt x="459" y="385"/>
                    </a:lnTo>
                    <a:lnTo>
                      <a:pt x="463" y="391"/>
                    </a:lnTo>
                    <a:lnTo>
                      <a:pt x="465" y="397"/>
                    </a:lnTo>
                    <a:lnTo>
                      <a:pt x="465" y="403"/>
                    </a:lnTo>
                    <a:lnTo>
                      <a:pt x="464" y="411"/>
                    </a:lnTo>
                    <a:lnTo>
                      <a:pt x="460" y="419"/>
                    </a:lnTo>
                    <a:lnTo>
                      <a:pt x="455" y="428"/>
                    </a:lnTo>
                    <a:lnTo>
                      <a:pt x="449" y="438"/>
                    </a:lnTo>
                    <a:lnTo>
                      <a:pt x="442" y="449"/>
                    </a:lnTo>
                    <a:lnTo>
                      <a:pt x="422" y="473"/>
                    </a:lnTo>
                    <a:lnTo>
                      <a:pt x="400" y="502"/>
                    </a:lnTo>
                    <a:lnTo>
                      <a:pt x="373" y="534"/>
                    </a:lnTo>
                    <a:lnTo>
                      <a:pt x="345" y="569"/>
                    </a:lnTo>
                    <a:close/>
                  </a:path>
                </a:pathLst>
              </a:custGeom>
              <a:solidFill>
                <a:srgbClr val="5b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6853320" y="2624400"/>
                <a:ext cx="144360" cy="280800"/>
              </a:xfrm>
              <a:custGeom>
                <a:avLst/>
                <a:gdLst/>
                <a:ahLst/>
                <a:rect l="l" t="t" r="r" b="b"/>
                <a:pathLst>
                  <a:path w="459" h="886">
                    <a:moveTo>
                      <a:pt x="291" y="554"/>
                    </a:moveTo>
                    <a:lnTo>
                      <a:pt x="234" y="623"/>
                    </a:lnTo>
                    <a:lnTo>
                      <a:pt x="180" y="685"/>
                    </a:lnTo>
                    <a:lnTo>
                      <a:pt x="131" y="742"/>
                    </a:lnTo>
                    <a:lnTo>
                      <a:pt x="88" y="790"/>
                    </a:lnTo>
                    <a:lnTo>
                      <a:pt x="52" y="831"/>
                    </a:lnTo>
                    <a:lnTo>
                      <a:pt x="24" y="860"/>
                    </a:lnTo>
                    <a:lnTo>
                      <a:pt x="6" y="880"/>
                    </a:lnTo>
                    <a:lnTo>
                      <a:pt x="0" y="886"/>
                    </a:lnTo>
                    <a:lnTo>
                      <a:pt x="6" y="869"/>
                    </a:lnTo>
                    <a:lnTo>
                      <a:pt x="21" y="823"/>
                    </a:lnTo>
                    <a:lnTo>
                      <a:pt x="44" y="754"/>
                    </a:lnTo>
                    <a:lnTo>
                      <a:pt x="73" y="672"/>
                    </a:lnTo>
                    <a:lnTo>
                      <a:pt x="105" y="582"/>
                    </a:lnTo>
                    <a:lnTo>
                      <a:pt x="139" y="491"/>
                    </a:lnTo>
                    <a:lnTo>
                      <a:pt x="156" y="449"/>
                    </a:lnTo>
                    <a:lnTo>
                      <a:pt x="172" y="409"/>
                    </a:lnTo>
                    <a:lnTo>
                      <a:pt x="188" y="372"/>
                    </a:lnTo>
                    <a:lnTo>
                      <a:pt x="204" y="340"/>
                    </a:lnTo>
                    <a:lnTo>
                      <a:pt x="233" y="283"/>
                    </a:lnTo>
                    <a:lnTo>
                      <a:pt x="259" y="230"/>
                    </a:lnTo>
                    <a:lnTo>
                      <a:pt x="282" y="181"/>
                    </a:lnTo>
                    <a:lnTo>
                      <a:pt x="304" y="138"/>
                    </a:lnTo>
                    <a:lnTo>
                      <a:pt x="325" y="99"/>
                    </a:lnTo>
                    <a:lnTo>
                      <a:pt x="346" y="65"/>
                    </a:lnTo>
                    <a:lnTo>
                      <a:pt x="356" y="51"/>
                    </a:lnTo>
                    <a:lnTo>
                      <a:pt x="366" y="38"/>
                    </a:lnTo>
                    <a:lnTo>
                      <a:pt x="375" y="26"/>
                    </a:lnTo>
                    <a:lnTo>
                      <a:pt x="387" y="16"/>
                    </a:lnTo>
                    <a:lnTo>
                      <a:pt x="393" y="10"/>
                    </a:lnTo>
                    <a:lnTo>
                      <a:pt x="400" y="6"/>
                    </a:lnTo>
                    <a:lnTo>
                      <a:pt x="406" y="3"/>
                    </a:lnTo>
                    <a:lnTo>
                      <a:pt x="412" y="2"/>
                    </a:lnTo>
                    <a:lnTo>
                      <a:pt x="419" y="0"/>
                    </a:lnTo>
                    <a:lnTo>
                      <a:pt x="425" y="0"/>
                    </a:lnTo>
                    <a:lnTo>
                      <a:pt x="430" y="2"/>
                    </a:lnTo>
                    <a:lnTo>
                      <a:pt x="433" y="3"/>
                    </a:lnTo>
                    <a:lnTo>
                      <a:pt x="437" y="6"/>
                    </a:lnTo>
                    <a:lnTo>
                      <a:pt x="439" y="10"/>
                    </a:lnTo>
                    <a:lnTo>
                      <a:pt x="442" y="14"/>
                    </a:lnTo>
                    <a:lnTo>
                      <a:pt x="443" y="19"/>
                    </a:lnTo>
                    <a:lnTo>
                      <a:pt x="443" y="24"/>
                    </a:lnTo>
                    <a:lnTo>
                      <a:pt x="443" y="29"/>
                    </a:lnTo>
                    <a:lnTo>
                      <a:pt x="441" y="35"/>
                    </a:lnTo>
                    <a:lnTo>
                      <a:pt x="438" y="41"/>
                    </a:lnTo>
                    <a:lnTo>
                      <a:pt x="430" y="53"/>
                    </a:lnTo>
                    <a:lnTo>
                      <a:pt x="421" y="67"/>
                    </a:lnTo>
                    <a:lnTo>
                      <a:pt x="412" y="80"/>
                    </a:lnTo>
                    <a:lnTo>
                      <a:pt x="406" y="94"/>
                    </a:lnTo>
                    <a:lnTo>
                      <a:pt x="404" y="101"/>
                    </a:lnTo>
                    <a:lnTo>
                      <a:pt x="403" y="107"/>
                    </a:lnTo>
                    <a:lnTo>
                      <a:pt x="403" y="115"/>
                    </a:lnTo>
                    <a:lnTo>
                      <a:pt x="403" y="121"/>
                    </a:lnTo>
                    <a:lnTo>
                      <a:pt x="404" y="128"/>
                    </a:lnTo>
                    <a:lnTo>
                      <a:pt x="406" y="134"/>
                    </a:lnTo>
                    <a:lnTo>
                      <a:pt x="411" y="141"/>
                    </a:lnTo>
                    <a:lnTo>
                      <a:pt x="416" y="147"/>
                    </a:lnTo>
                    <a:lnTo>
                      <a:pt x="428" y="157"/>
                    </a:lnTo>
                    <a:lnTo>
                      <a:pt x="438" y="163"/>
                    </a:lnTo>
                    <a:lnTo>
                      <a:pt x="448" y="168"/>
                    </a:lnTo>
                    <a:lnTo>
                      <a:pt x="454" y="170"/>
                    </a:lnTo>
                    <a:lnTo>
                      <a:pt x="457" y="173"/>
                    </a:lnTo>
                    <a:lnTo>
                      <a:pt x="459" y="174"/>
                    </a:lnTo>
                    <a:lnTo>
                      <a:pt x="459" y="177"/>
                    </a:lnTo>
                    <a:lnTo>
                      <a:pt x="459" y="180"/>
                    </a:lnTo>
                    <a:lnTo>
                      <a:pt x="457" y="190"/>
                    </a:lnTo>
                    <a:lnTo>
                      <a:pt x="448" y="204"/>
                    </a:lnTo>
                    <a:lnTo>
                      <a:pt x="439" y="223"/>
                    </a:lnTo>
                    <a:lnTo>
                      <a:pt x="432" y="245"/>
                    </a:lnTo>
                    <a:lnTo>
                      <a:pt x="426" y="268"/>
                    </a:lnTo>
                    <a:lnTo>
                      <a:pt x="422" y="292"/>
                    </a:lnTo>
                    <a:lnTo>
                      <a:pt x="421" y="303"/>
                    </a:lnTo>
                    <a:lnTo>
                      <a:pt x="421" y="314"/>
                    </a:lnTo>
                    <a:lnTo>
                      <a:pt x="421" y="324"/>
                    </a:lnTo>
                    <a:lnTo>
                      <a:pt x="422" y="335"/>
                    </a:lnTo>
                    <a:lnTo>
                      <a:pt x="425" y="343"/>
                    </a:lnTo>
                    <a:lnTo>
                      <a:pt x="427" y="352"/>
                    </a:lnTo>
                    <a:lnTo>
                      <a:pt x="431" y="358"/>
                    </a:lnTo>
                    <a:lnTo>
                      <a:pt x="434" y="364"/>
                    </a:lnTo>
                    <a:lnTo>
                      <a:pt x="437" y="367"/>
                    </a:lnTo>
                    <a:lnTo>
                      <a:pt x="438" y="369"/>
                    </a:lnTo>
                    <a:lnTo>
                      <a:pt x="439" y="372"/>
                    </a:lnTo>
                    <a:lnTo>
                      <a:pt x="439" y="375"/>
                    </a:lnTo>
                    <a:lnTo>
                      <a:pt x="437" y="383"/>
                    </a:lnTo>
                    <a:lnTo>
                      <a:pt x="434" y="391"/>
                    </a:lnTo>
                    <a:lnTo>
                      <a:pt x="428" y="400"/>
                    </a:lnTo>
                    <a:lnTo>
                      <a:pt x="421" y="410"/>
                    </a:lnTo>
                    <a:lnTo>
                      <a:pt x="412" y="421"/>
                    </a:lnTo>
                    <a:lnTo>
                      <a:pt x="401" y="433"/>
                    </a:lnTo>
                    <a:lnTo>
                      <a:pt x="378" y="459"/>
                    </a:lnTo>
                    <a:lnTo>
                      <a:pt x="350" y="489"/>
                    </a:lnTo>
                    <a:lnTo>
                      <a:pt x="321" y="519"/>
                    </a:lnTo>
                    <a:lnTo>
                      <a:pt x="291" y="554"/>
                    </a:lnTo>
                    <a:close/>
                  </a:path>
                </a:pathLst>
              </a:custGeom>
              <a:solidFill>
                <a:srgbClr val="56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6854760" y="2633760"/>
                <a:ext cx="138240" cy="266760"/>
              </a:xfrm>
              <a:custGeom>
                <a:avLst/>
                <a:gdLst/>
                <a:ahLst/>
                <a:rect l="l" t="t" r="r" b="b"/>
                <a:pathLst>
                  <a:path w="435" h="843">
                    <a:moveTo>
                      <a:pt x="358" y="23"/>
                    </a:moveTo>
                    <a:lnTo>
                      <a:pt x="342" y="41"/>
                    </a:lnTo>
                    <a:lnTo>
                      <a:pt x="326" y="64"/>
                    </a:lnTo>
                    <a:lnTo>
                      <a:pt x="309" y="93"/>
                    </a:lnTo>
                    <a:lnTo>
                      <a:pt x="290" y="126"/>
                    </a:lnTo>
                    <a:lnTo>
                      <a:pt x="269" y="164"/>
                    </a:lnTo>
                    <a:lnTo>
                      <a:pt x="247" y="207"/>
                    </a:lnTo>
                    <a:lnTo>
                      <a:pt x="222" y="257"/>
                    </a:lnTo>
                    <a:lnTo>
                      <a:pt x="195" y="313"/>
                    </a:lnTo>
                    <a:lnTo>
                      <a:pt x="179" y="345"/>
                    </a:lnTo>
                    <a:lnTo>
                      <a:pt x="163" y="380"/>
                    </a:lnTo>
                    <a:lnTo>
                      <a:pt x="147" y="420"/>
                    </a:lnTo>
                    <a:lnTo>
                      <a:pt x="131" y="462"/>
                    </a:lnTo>
                    <a:lnTo>
                      <a:pt x="98" y="550"/>
                    </a:lnTo>
                    <a:lnTo>
                      <a:pt x="67" y="636"/>
                    </a:lnTo>
                    <a:lnTo>
                      <a:pt x="40" y="716"/>
                    </a:lnTo>
                    <a:lnTo>
                      <a:pt x="20" y="781"/>
                    </a:lnTo>
                    <a:lnTo>
                      <a:pt x="5" y="826"/>
                    </a:lnTo>
                    <a:lnTo>
                      <a:pt x="0" y="843"/>
                    </a:lnTo>
                    <a:lnTo>
                      <a:pt x="2" y="837"/>
                    </a:lnTo>
                    <a:lnTo>
                      <a:pt x="13" y="821"/>
                    </a:lnTo>
                    <a:lnTo>
                      <a:pt x="31" y="795"/>
                    </a:lnTo>
                    <a:lnTo>
                      <a:pt x="55" y="759"/>
                    </a:lnTo>
                    <a:lnTo>
                      <a:pt x="88" y="715"/>
                    </a:lnTo>
                    <a:lnTo>
                      <a:pt x="129" y="663"/>
                    </a:lnTo>
                    <a:lnTo>
                      <a:pt x="152" y="635"/>
                    </a:lnTo>
                    <a:lnTo>
                      <a:pt x="178" y="606"/>
                    </a:lnTo>
                    <a:lnTo>
                      <a:pt x="205" y="574"/>
                    </a:lnTo>
                    <a:lnTo>
                      <a:pt x="236" y="542"/>
                    </a:lnTo>
                    <a:lnTo>
                      <a:pt x="267" y="510"/>
                    </a:lnTo>
                    <a:lnTo>
                      <a:pt x="299" y="479"/>
                    </a:lnTo>
                    <a:lnTo>
                      <a:pt x="331" y="448"/>
                    </a:lnTo>
                    <a:lnTo>
                      <a:pt x="360" y="421"/>
                    </a:lnTo>
                    <a:lnTo>
                      <a:pt x="373" y="407"/>
                    </a:lnTo>
                    <a:lnTo>
                      <a:pt x="384" y="396"/>
                    </a:lnTo>
                    <a:lnTo>
                      <a:pt x="394" y="384"/>
                    </a:lnTo>
                    <a:lnTo>
                      <a:pt x="401" y="374"/>
                    </a:lnTo>
                    <a:lnTo>
                      <a:pt x="406" y="366"/>
                    </a:lnTo>
                    <a:lnTo>
                      <a:pt x="408" y="357"/>
                    </a:lnTo>
                    <a:lnTo>
                      <a:pt x="408" y="353"/>
                    </a:lnTo>
                    <a:lnTo>
                      <a:pt x="408" y="351"/>
                    </a:lnTo>
                    <a:lnTo>
                      <a:pt x="406" y="348"/>
                    </a:lnTo>
                    <a:lnTo>
                      <a:pt x="405" y="346"/>
                    </a:lnTo>
                    <a:lnTo>
                      <a:pt x="400" y="340"/>
                    </a:lnTo>
                    <a:lnTo>
                      <a:pt x="397" y="332"/>
                    </a:lnTo>
                    <a:lnTo>
                      <a:pt x="395" y="324"/>
                    </a:lnTo>
                    <a:lnTo>
                      <a:pt x="394" y="314"/>
                    </a:lnTo>
                    <a:lnTo>
                      <a:pt x="394" y="304"/>
                    </a:lnTo>
                    <a:lnTo>
                      <a:pt x="394" y="293"/>
                    </a:lnTo>
                    <a:lnTo>
                      <a:pt x="395" y="282"/>
                    </a:lnTo>
                    <a:lnTo>
                      <a:pt x="396" y="270"/>
                    </a:lnTo>
                    <a:lnTo>
                      <a:pt x="401" y="245"/>
                    </a:lnTo>
                    <a:lnTo>
                      <a:pt x="408" y="222"/>
                    </a:lnTo>
                    <a:lnTo>
                      <a:pt x="416" y="198"/>
                    </a:lnTo>
                    <a:lnTo>
                      <a:pt x="425" y="180"/>
                    </a:lnTo>
                    <a:lnTo>
                      <a:pt x="433" y="166"/>
                    </a:lnTo>
                    <a:lnTo>
                      <a:pt x="435" y="158"/>
                    </a:lnTo>
                    <a:lnTo>
                      <a:pt x="435" y="155"/>
                    </a:lnTo>
                    <a:lnTo>
                      <a:pt x="435" y="153"/>
                    </a:lnTo>
                    <a:lnTo>
                      <a:pt x="433" y="153"/>
                    </a:lnTo>
                    <a:lnTo>
                      <a:pt x="432" y="152"/>
                    </a:lnTo>
                    <a:lnTo>
                      <a:pt x="424" y="150"/>
                    </a:lnTo>
                    <a:lnTo>
                      <a:pt x="416" y="148"/>
                    </a:lnTo>
                    <a:lnTo>
                      <a:pt x="411" y="146"/>
                    </a:lnTo>
                    <a:lnTo>
                      <a:pt x="405" y="143"/>
                    </a:lnTo>
                    <a:lnTo>
                      <a:pt x="400" y="139"/>
                    </a:lnTo>
                    <a:lnTo>
                      <a:pt x="394" y="133"/>
                    </a:lnTo>
                    <a:lnTo>
                      <a:pt x="387" y="127"/>
                    </a:lnTo>
                    <a:lnTo>
                      <a:pt x="384" y="121"/>
                    </a:lnTo>
                    <a:lnTo>
                      <a:pt x="380" y="115"/>
                    </a:lnTo>
                    <a:lnTo>
                      <a:pt x="379" y="109"/>
                    </a:lnTo>
                    <a:lnTo>
                      <a:pt x="379" y="101"/>
                    </a:lnTo>
                    <a:lnTo>
                      <a:pt x="379" y="95"/>
                    </a:lnTo>
                    <a:lnTo>
                      <a:pt x="380" y="89"/>
                    </a:lnTo>
                    <a:lnTo>
                      <a:pt x="382" y="82"/>
                    </a:lnTo>
                    <a:lnTo>
                      <a:pt x="389" y="69"/>
                    </a:lnTo>
                    <a:lnTo>
                      <a:pt x="396" y="56"/>
                    </a:lnTo>
                    <a:lnTo>
                      <a:pt x="405" y="43"/>
                    </a:lnTo>
                    <a:lnTo>
                      <a:pt x="412" y="30"/>
                    </a:lnTo>
                    <a:lnTo>
                      <a:pt x="416" y="25"/>
                    </a:lnTo>
                    <a:lnTo>
                      <a:pt x="417" y="19"/>
                    </a:lnTo>
                    <a:lnTo>
                      <a:pt x="418" y="14"/>
                    </a:lnTo>
                    <a:lnTo>
                      <a:pt x="417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11" y="2"/>
                    </a:lnTo>
                    <a:lnTo>
                      <a:pt x="407" y="0"/>
                    </a:lnTo>
                    <a:lnTo>
                      <a:pt x="402" y="0"/>
                    </a:lnTo>
                    <a:lnTo>
                      <a:pt x="397" y="0"/>
                    </a:lnTo>
                    <a:lnTo>
                      <a:pt x="391" y="2"/>
                    </a:lnTo>
                    <a:lnTo>
                      <a:pt x="385" y="4"/>
                    </a:lnTo>
                    <a:lnTo>
                      <a:pt x="379" y="7"/>
                    </a:lnTo>
                    <a:lnTo>
                      <a:pt x="373" y="11"/>
                    </a:lnTo>
                    <a:lnTo>
                      <a:pt x="365" y="16"/>
                    </a:lnTo>
                    <a:lnTo>
                      <a:pt x="358" y="23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7066080" y="2702160"/>
                <a:ext cx="252360" cy="66600"/>
              </a:xfrm>
              <a:custGeom>
                <a:avLst/>
                <a:gdLst/>
                <a:ahLst/>
                <a:rect l="l" t="t" r="r" b="b"/>
                <a:pathLst>
                  <a:path w="796" h="209">
                    <a:moveTo>
                      <a:pt x="279" y="0"/>
                    </a:moveTo>
                    <a:lnTo>
                      <a:pt x="289" y="9"/>
                    </a:lnTo>
                    <a:lnTo>
                      <a:pt x="303" y="17"/>
                    </a:lnTo>
                    <a:lnTo>
                      <a:pt x="319" y="25"/>
                    </a:lnTo>
                    <a:lnTo>
                      <a:pt x="337" y="33"/>
                    </a:lnTo>
                    <a:lnTo>
                      <a:pt x="358" y="41"/>
                    </a:lnTo>
                    <a:lnTo>
                      <a:pt x="380" y="48"/>
                    </a:lnTo>
                    <a:lnTo>
                      <a:pt x="402" y="54"/>
                    </a:lnTo>
                    <a:lnTo>
                      <a:pt x="424" y="60"/>
                    </a:lnTo>
                    <a:lnTo>
                      <a:pt x="469" y="71"/>
                    </a:lnTo>
                    <a:lnTo>
                      <a:pt x="506" y="80"/>
                    </a:lnTo>
                    <a:lnTo>
                      <a:pt x="530" y="85"/>
                    </a:lnTo>
                    <a:lnTo>
                      <a:pt x="540" y="86"/>
                    </a:lnTo>
                    <a:lnTo>
                      <a:pt x="563" y="102"/>
                    </a:lnTo>
                    <a:lnTo>
                      <a:pt x="587" y="116"/>
                    </a:lnTo>
                    <a:lnTo>
                      <a:pt x="610" y="127"/>
                    </a:lnTo>
                    <a:lnTo>
                      <a:pt x="632" y="137"/>
                    </a:lnTo>
                    <a:lnTo>
                      <a:pt x="654" y="145"/>
                    </a:lnTo>
                    <a:lnTo>
                      <a:pt x="675" y="153"/>
                    </a:lnTo>
                    <a:lnTo>
                      <a:pt x="696" y="159"/>
                    </a:lnTo>
                    <a:lnTo>
                      <a:pt x="715" y="162"/>
                    </a:lnTo>
                    <a:lnTo>
                      <a:pt x="748" y="169"/>
                    </a:lnTo>
                    <a:lnTo>
                      <a:pt x="773" y="172"/>
                    </a:lnTo>
                    <a:lnTo>
                      <a:pt x="790" y="174"/>
                    </a:lnTo>
                    <a:lnTo>
                      <a:pt x="796" y="174"/>
                    </a:lnTo>
                    <a:lnTo>
                      <a:pt x="793" y="177"/>
                    </a:lnTo>
                    <a:lnTo>
                      <a:pt x="789" y="185"/>
                    </a:lnTo>
                    <a:lnTo>
                      <a:pt x="784" y="189"/>
                    </a:lnTo>
                    <a:lnTo>
                      <a:pt x="776" y="194"/>
                    </a:lnTo>
                    <a:lnTo>
                      <a:pt x="766" y="199"/>
                    </a:lnTo>
                    <a:lnTo>
                      <a:pt x="755" y="203"/>
                    </a:lnTo>
                    <a:lnTo>
                      <a:pt x="741" y="204"/>
                    </a:lnTo>
                    <a:lnTo>
                      <a:pt x="723" y="205"/>
                    </a:lnTo>
                    <a:lnTo>
                      <a:pt x="702" y="204"/>
                    </a:lnTo>
                    <a:lnTo>
                      <a:pt x="678" y="201"/>
                    </a:lnTo>
                    <a:lnTo>
                      <a:pt x="648" y="193"/>
                    </a:lnTo>
                    <a:lnTo>
                      <a:pt x="616" y="183"/>
                    </a:lnTo>
                    <a:lnTo>
                      <a:pt x="579" y="170"/>
                    </a:lnTo>
                    <a:lnTo>
                      <a:pt x="538" y="151"/>
                    </a:lnTo>
                    <a:lnTo>
                      <a:pt x="528" y="151"/>
                    </a:lnTo>
                    <a:lnTo>
                      <a:pt x="503" y="148"/>
                    </a:lnTo>
                    <a:lnTo>
                      <a:pt x="467" y="143"/>
                    </a:lnTo>
                    <a:lnTo>
                      <a:pt x="424" y="134"/>
                    </a:lnTo>
                    <a:lnTo>
                      <a:pt x="402" y="129"/>
                    </a:lnTo>
                    <a:lnTo>
                      <a:pt x="380" y="123"/>
                    </a:lnTo>
                    <a:lnTo>
                      <a:pt x="358" y="116"/>
                    </a:lnTo>
                    <a:lnTo>
                      <a:pt x="337" y="108"/>
                    </a:lnTo>
                    <a:lnTo>
                      <a:pt x="317" y="100"/>
                    </a:lnTo>
                    <a:lnTo>
                      <a:pt x="300" y="90"/>
                    </a:lnTo>
                    <a:lnTo>
                      <a:pt x="293" y="85"/>
                    </a:lnTo>
                    <a:lnTo>
                      <a:pt x="285" y="79"/>
                    </a:lnTo>
                    <a:lnTo>
                      <a:pt x="279" y="74"/>
                    </a:lnTo>
                    <a:lnTo>
                      <a:pt x="274" y="68"/>
                    </a:lnTo>
                    <a:lnTo>
                      <a:pt x="266" y="70"/>
                    </a:lnTo>
                    <a:lnTo>
                      <a:pt x="245" y="75"/>
                    </a:lnTo>
                    <a:lnTo>
                      <a:pt x="213" y="82"/>
                    </a:lnTo>
                    <a:lnTo>
                      <a:pt x="176" y="92"/>
                    </a:lnTo>
                    <a:lnTo>
                      <a:pt x="136" y="102"/>
                    </a:lnTo>
                    <a:lnTo>
                      <a:pt x="98" y="112"/>
                    </a:lnTo>
                    <a:lnTo>
                      <a:pt x="66" y="121"/>
                    </a:lnTo>
                    <a:lnTo>
                      <a:pt x="43" y="128"/>
                    </a:lnTo>
                    <a:lnTo>
                      <a:pt x="43" y="129"/>
                    </a:lnTo>
                    <a:lnTo>
                      <a:pt x="42" y="134"/>
                    </a:lnTo>
                    <a:lnTo>
                      <a:pt x="41" y="142"/>
                    </a:lnTo>
                    <a:lnTo>
                      <a:pt x="38" y="151"/>
                    </a:lnTo>
                    <a:lnTo>
                      <a:pt x="34" y="162"/>
                    </a:lnTo>
                    <a:lnTo>
                      <a:pt x="31" y="176"/>
                    </a:lnTo>
                    <a:lnTo>
                      <a:pt x="23" y="189"/>
                    </a:lnTo>
                    <a:lnTo>
                      <a:pt x="16" y="203"/>
                    </a:lnTo>
                    <a:lnTo>
                      <a:pt x="13" y="207"/>
                    </a:lnTo>
                    <a:lnTo>
                      <a:pt x="11" y="209"/>
                    </a:lnTo>
                    <a:lnTo>
                      <a:pt x="10" y="209"/>
                    </a:lnTo>
                    <a:lnTo>
                      <a:pt x="7" y="209"/>
                    </a:lnTo>
                    <a:lnTo>
                      <a:pt x="5" y="204"/>
                    </a:lnTo>
                    <a:lnTo>
                      <a:pt x="2" y="197"/>
                    </a:lnTo>
                    <a:lnTo>
                      <a:pt x="1" y="186"/>
                    </a:lnTo>
                    <a:lnTo>
                      <a:pt x="0" y="171"/>
                    </a:lnTo>
                    <a:lnTo>
                      <a:pt x="0" y="156"/>
                    </a:lnTo>
                    <a:lnTo>
                      <a:pt x="0" y="139"/>
                    </a:lnTo>
                    <a:lnTo>
                      <a:pt x="1" y="122"/>
                    </a:lnTo>
                    <a:lnTo>
                      <a:pt x="4" y="106"/>
                    </a:lnTo>
                    <a:lnTo>
                      <a:pt x="6" y="90"/>
                    </a:lnTo>
                    <a:lnTo>
                      <a:pt x="10" y="75"/>
                    </a:lnTo>
                    <a:lnTo>
                      <a:pt x="15" y="64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6" y="49"/>
                    </a:lnTo>
                    <a:lnTo>
                      <a:pt x="28" y="48"/>
                    </a:lnTo>
                    <a:lnTo>
                      <a:pt x="32" y="48"/>
                    </a:lnTo>
                    <a:lnTo>
                      <a:pt x="42" y="49"/>
                    </a:lnTo>
                    <a:lnTo>
                      <a:pt x="54" y="48"/>
                    </a:lnTo>
                    <a:lnTo>
                      <a:pt x="70" y="46"/>
                    </a:lnTo>
                    <a:lnTo>
                      <a:pt x="87" y="43"/>
                    </a:lnTo>
                    <a:lnTo>
                      <a:pt x="128" y="36"/>
                    </a:lnTo>
                    <a:lnTo>
                      <a:pt x="171" y="26"/>
                    </a:lnTo>
                    <a:lnTo>
                      <a:pt x="212" y="16"/>
                    </a:lnTo>
                    <a:lnTo>
                      <a:pt x="246" y="9"/>
                    </a:lnTo>
                    <a:lnTo>
                      <a:pt x="271" y="3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5f4e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7070760" y="2710080"/>
                <a:ext cx="239760" cy="56880"/>
              </a:xfrm>
              <a:custGeom>
                <a:avLst/>
                <a:gdLst/>
                <a:ahLst/>
                <a:rect l="l" t="t" r="r" b="b"/>
                <a:pathLst>
                  <a:path w="758" h="178">
                    <a:moveTo>
                      <a:pt x="266" y="0"/>
                    </a:moveTo>
                    <a:lnTo>
                      <a:pt x="276" y="8"/>
                    </a:lnTo>
                    <a:lnTo>
                      <a:pt x="290" y="16"/>
                    </a:lnTo>
                    <a:lnTo>
                      <a:pt x="306" y="24"/>
                    </a:lnTo>
                    <a:lnTo>
                      <a:pt x="324" y="32"/>
                    </a:lnTo>
                    <a:lnTo>
                      <a:pt x="344" y="39"/>
                    </a:lnTo>
                    <a:lnTo>
                      <a:pt x="366" y="45"/>
                    </a:lnTo>
                    <a:lnTo>
                      <a:pt x="388" y="51"/>
                    </a:lnTo>
                    <a:lnTo>
                      <a:pt x="410" y="57"/>
                    </a:lnTo>
                    <a:lnTo>
                      <a:pt x="453" y="67"/>
                    </a:lnTo>
                    <a:lnTo>
                      <a:pt x="490" y="75"/>
                    </a:lnTo>
                    <a:lnTo>
                      <a:pt x="515" y="80"/>
                    </a:lnTo>
                    <a:lnTo>
                      <a:pt x="525" y="81"/>
                    </a:lnTo>
                    <a:lnTo>
                      <a:pt x="548" y="96"/>
                    </a:lnTo>
                    <a:lnTo>
                      <a:pt x="570" y="109"/>
                    </a:lnTo>
                    <a:lnTo>
                      <a:pt x="592" y="120"/>
                    </a:lnTo>
                    <a:lnTo>
                      <a:pt x="613" y="130"/>
                    </a:lnTo>
                    <a:lnTo>
                      <a:pt x="634" y="139"/>
                    </a:lnTo>
                    <a:lnTo>
                      <a:pt x="654" y="146"/>
                    </a:lnTo>
                    <a:lnTo>
                      <a:pt x="671" y="151"/>
                    </a:lnTo>
                    <a:lnTo>
                      <a:pt x="688" y="156"/>
                    </a:lnTo>
                    <a:lnTo>
                      <a:pt x="716" y="161"/>
                    </a:lnTo>
                    <a:lnTo>
                      <a:pt x="739" y="164"/>
                    </a:lnTo>
                    <a:lnTo>
                      <a:pt x="753" y="164"/>
                    </a:lnTo>
                    <a:lnTo>
                      <a:pt x="758" y="164"/>
                    </a:lnTo>
                    <a:lnTo>
                      <a:pt x="757" y="167"/>
                    </a:lnTo>
                    <a:lnTo>
                      <a:pt x="751" y="171"/>
                    </a:lnTo>
                    <a:lnTo>
                      <a:pt x="746" y="173"/>
                    </a:lnTo>
                    <a:lnTo>
                      <a:pt x="740" y="176"/>
                    </a:lnTo>
                    <a:lnTo>
                      <a:pt x="731" y="178"/>
                    </a:lnTo>
                    <a:lnTo>
                      <a:pt x="720" y="178"/>
                    </a:lnTo>
                    <a:lnTo>
                      <a:pt x="708" y="178"/>
                    </a:lnTo>
                    <a:lnTo>
                      <a:pt x="692" y="177"/>
                    </a:lnTo>
                    <a:lnTo>
                      <a:pt x="672" y="174"/>
                    </a:lnTo>
                    <a:lnTo>
                      <a:pt x="650" y="169"/>
                    </a:lnTo>
                    <a:lnTo>
                      <a:pt x="624" y="163"/>
                    </a:lnTo>
                    <a:lnTo>
                      <a:pt x="595" y="153"/>
                    </a:lnTo>
                    <a:lnTo>
                      <a:pt x="561" y="141"/>
                    </a:lnTo>
                    <a:lnTo>
                      <a:pt x="525" y="126"/>
                    </a:lnTo>
                    <a:lnTo>
                      <a:pt x="515" y="126"/>
                    </a:lnTo>
                    <a:lnTo>
                      <a:pt x="490" y="123"/>
                    </a:lnTo>
                    <a:lnTo>
                      <a:pt x="454" y="118"/>
                    </a:lnTo>
                    <a:lnTo>
                      <a:pt x="411" y="109"/>
                    </a:lnTo>
                    <a:lnTo>
                      <a:pt x="389" y="104"/>
                    </a:lnTo>
                    <a:lnTo>
                      <a:pt x="367" y="98"/>
                    </a:lnTo>
                    <a:lnTo>
                      <a:pt x="345" y="91"/>
                    </a:lnTo>
                    <a:lnTo>
                      <a:pt x="324" y="83"/>
                    </a:lnTo>
                    <a:lnTo>
                      <a:pt x="304" y="75"/>
                    </a:lnTo>
                    <a:lnTo>
                      <a:pt x="287" y="65"/>
                    </a:lnTo>
                    <a:lnTo>
                      <a:pt x="280" y="60"/>
                    </a:lnTo>
                    <a:lnTo>
                      <a:pt x="272" y="54"/>
                    </a:lnTo>
                    <a:lnTo>
                      <a:pt x="266" y="49"/>
                    </a:lnTo>
                    <a:lnTo>
                      <a:pt x="261" y="43"/>
                    </a:lnTo>
                    <a:lnTo>
                      <a:pt x="253" y="45"/>
                    </a:lnTo>
                    <a:lnTo>
                      <a:pt x="232" y="50"/>
                    </a:lnTo>
                    <a:lnTo>
                      <a:pt x="200" y="57"/>
                    </a:lnTo>
                    <a:lnTo>
                      <a:pt x="163" y="67"/>
                    </a:lnTo>
                    <a:lnTo>
                      <a:pt x="123" y="77"/>
                    </a:lnTo>
                    <a:lnTo>
                      <a:pt x="85" y="87"/>
                    </a:lnTo>
                    <a:lnTo>
                      <a:pt x="53" y="96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5"/>
                    </a:lnTo>
                    <a:lnTo>
                      <a:pt x="29" y="110"/>
                    </a:lnTo>
                    <a:lnTo>
                      <a:pt x="28" y="117"/>
                    </a:lnTo>
                    <a:lnTo>
                      <a:pt x="26" y="124"/>
                    </a:lnTo>
                    <a:lnTo>
                      <a:pt x="23" y="134"/>
                    </a:lnTo>
                    <a:lnTo>
                      <a:pt x="19" y="145"/>
                    </a:lnTo>
                    <a:lnTo>
                      <a:pt x="14" y="157"/>
                    </a:lnTo>
                    <a:lnTo>
                      <a:pt x="10" y="163"/>
                    </a:lnTo>
                    <a:lnTo>
                      <a:pt x="8" y="166"/>
                    </a:lnTo>
                    <a:lnTo>
                      <a:pt x="5" y="163"/>
                    </a:lnTo>
                    <a:lnTo>
                      <a:pt x="3" y="158"/>
                    </a:lnTo>
                    <a:lnTo>
                      <a:pt x="2" y="151"/>
                    </a:lnTo>
                    <a:lnTo>
                      <a:pt x="0" y="141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0" y="105"/>
                    </a:lnTo>
                    <a:lnTo>
                      <a:pt x="3" y="92"/>
                    </a:lnTo>
                    <a:lnTo>
                      <a:pt x="4" y="80"/>
                    </a:lnTo>
                    <a:lnTo>
                      <a:pt x="8" y="70"/>
                    </a:lnTo>
                    <a:lnTo>
                      <a:pt x="12" y="60"/>
                    </a:lnTo>
                    <a:lnTo>
                      <a:pt x="16" y="53"/>
                    </a:lnTo>
                    <a:lnTo>
                      <a:pt x="20" y="50"/>
                    </a:lnTo>
                    <a:lnTo>
                      <a:pt x="23" y="49"/>
                    </a:lnTo>
                    <a:lnTo>
                      <a:pt x="26" y="48"/>
                    </a:lnTo>
                    <a:lnTo>
                      <a:pt x="30" y="48"/>
                    </a:lnTo>
                    <a:lnTo>
                      <a:pt x="39" y="49"/>
                    </a:lnTo>
                    <a:lnTo>
                      <a:pt x="51" y="49"/>
                    </a:lnTo>
                    <a:lnTo>
                      <a:pt x="66" y="46"/>
                    </a:lnTo>
                    <a:lnTo>
                      <a:pt x="83" y="44"/>
                    </a:lnTo>
                    <a:lnTo>
                      <a:pt x="121" y="37"/>
                    </a:lnTo>
                    <a:lnTo>
                      <a:pt x="163" y="27"/>
                    </a:lnTo>
                    <a:lnTo>
                      <a:pt x="201" y="17"/>
                    </a:lnTo>
                    <a:lnTo>
                      <a:pt x="234" y="8"/>
                    </a:lnTo>
                    <a:lnTo>
                      <a:pt x="258" y="2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a4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7074000" y="2718000"/>
                <a:ext cx="228600" cy="50760"/>
              </a:xfrm>
              <a:custGeom>
                <a:avLst/>
                <a:gdLst/>
                <a:ahLst/>
                <a:rect l="l" t="t" r="r" b="b"/>
                <a:pathLst>
                  <a:path w="722" h="159">
                    <a:moveTo>
                      <a:pt x="18" y="80"/>
                    </a:moveTo>
                    <a:lnTo>
                      <a:pt x="41" y="73"/>
                    </a:lnTo>
                    <a:lnTo>
                      <a:pt x="73" y="64"/>
                    </a:lnTo>
                    <a:lnTo>
                      <a:pt x="111" y="54"/>
                    </a:lnTo>
                    <a:lnTo>
                      <a:pt x="151" y="44"/>
                    </a:lnTo>
                    <a:lnTo>
                      <a:pt x="188" y="34"/>
                    </a:lnTo>
                    <a:lnTo>
                      <a:pt x="220" y="27"/>
                    </a:lnTo>
                    <a:lnTo>
                      <a:pt x="241" y="22"/>
                    </a:lnTo>
                    <a:lnTo>
                      <a:pt x="249" y="20"/>
                    </a:lnTo>
                    <a:lnTo>
                      <a:pt x="254" y="26"/>
                    </a:lnTo>
                    <a:lnTo>
                      <a:pt x="260" y="31"/>
                    </a:lnTo>
                    <a:lnTo>
                      <a:pt x="268" y="37"/>
                    </a:lnTo>
                    <a:lnTo>
                      <a:pt x="275" y="42"/>
                    </a:lnTo>
                    <a:lnTo>
                      <a:pt x="292" y="52"/>
                    </a:lnTo>
                    <a:lnTo>
                      <a:pt x="312" y="60"/>
                    </a:lnTo>
                    <a:lnTo>
                      <a:pt x="333" y="68"/>
                    </a:lnTo>
                    <a:lnTo>
                      <a:pt x="355" y="75"/>
                    </a:lnTo>
                    <a:lnTo>
                      <a:pt x="377" y="81"/>
                    </a:lnTo>
                    <a:lnTo>
                      <a:pt x="399" y="86"/>
                    </a:lnTo>
                    <a:lnTo>
                      <a:pt x="442" y="95"/>
                    </a:lnTo>
                    <a:lnTo>
                      <a:pt x="478" y="100"/>
                    </a:lnTo>
                    <a:lnTo>
                      <a:pt x="503" y="103"/>
                    </a:lnTo>
                    <a:lnTo>
                      <a:pt x="513" y="103"/>
                    </a:lnTo>
                    <a:lnTo>
                      <a:pt x="575" y="126"/>
                    </a:lnTo>
                    <a:lnTo>
                      <a:pt x="626" y="140"/>
                    </a:lnTo>
                    <a:lnTo>
                      <a:pt x="663" y="150"/>
                    </a:lnTo>
                    <a:lnTo>
                      <a:pt x="688" y="155"/>
                    </a:lnTo>
                    <a:lnTo>
                      <a:pt x="706" y="159"/>
                    </a:lnTo>
                    <a:lnTo>
                      <a:pt x="716" y="159"/>
                    </a:lnTo>
                    <a:lnTo>
                      <a:pt x="720" y="159"/>
                    </a:lnTo>
                    <a:lnTo>
                      <a:pt x="722" y="159"/>
                    </a:lnTo>
                    <a:lnTo>
                      <a:pt x="718" y="159"/>
                    </a:lnTo>
                    <a:lnTo>
                      <a:pt x="706" y="157"/>
                    </a:lnTo>
                    <a:lnTo>
                      <a:pt x="687" y="155"/>
                    </a:lnTo>
                    <a:lnTo>
                      <a:pt x="663" y="150"/>
                    </a:lnTo>
                    <a:lnTo>
                      <a:pt x="648" y="146"/>
                    </a:lnTo>
                    <a:lnTo>
                      <a:pt x="632" y="141"/>
                    </a:lnTo>
                    <a:lnTo>
                      <a:pt x="615" y="135"/>
                    </a:lnTo>
                    <a:lnTo>
                      <a:pt x="596" y="127"/>
                    </a:lnTo>
                    <a:lnTo>
                      <a:pt x="577" y="118"/>
                    </a:lnTo>
                    <a:lnTo>
                      <a:pt x="557" y="107"/>
                    </a:lnTo>
                    <a:lnTo>
                      <a:pt x="535" y="95"/>
                    </a:lnTo>
                    <a:lnTo>
                      <a:pt x="513" y="80"/>
                    </a:lnTo>
                    <a:lnTo>
                      <a:pt x="503" y="78"/>
                    </a:lnTo>
                    <a:lnTo>
                      <a:pt x="478" y="74"/>
                    </a:lnTo>
                    <a:lnTo>
                      <a:pt x="441" y="66"/>
                    </a:lnTo>
                    <a:lnTo>
                      <a:pt x="398" y="58"/>
                    </a:lnTo>
                    <a:lnTo>
                      <a:pt x="376" y="52"/>
                    </a:lnTo>
                    <a:lnTo>
                      <a:pt x="354" y="46"/>
                    </a:lnTo>
                    <a:lnTo>
                      <a:pt x="332" y="39"/>
                    </a:lnTo>
                    <a:lnTo>
                      <a:pt x="312" y="32"/>
                    </a:lnTo>
                    <a:lnTo>
                      <a:pt x="294" y="25"/>
                    </a:lnTo>
                    <a:lnTo>
                      <a:pt x="278" y="17"/>
                    </a:lnTo>
                    <a:lnTo>
                      <a:pt x="264" y="9"/>
                    </a:lnTo>
                    <a:lnTo>
                      <a:pt x="254" y="0"/>
                    </a:lnTo>
                    <a:lnTo>
                      <a:pt x="246" y="3"/>
                    </a:lnTo>
                    <a:lnTo>
                      <a:pt x="223" y="10"/>
                    </a:lnTo>
                    <a:lnTo>
                      <a:pt x="191" y="18"/>
                    </a:lnTo>
                    <a:lnTo>
                      <a:pt x="155" y="28"/>
                    </a:lnTo>
                    <a:lnTo>
                      <a:pt x="115" y="38"/>
                    </a:lnTo>
                    <a:lnTo>
                      <a:pt x="78" y="47"/>
                    </a:lnTo>
                    <a:lnTo>
                      <a:pt x="61" y="49"/>
                    </a:lnTo>
                    <a:lnTo>
                      <a:pt x="46" y="52"/>
                    </a:lnTo>
                    <a:lnTo>
                      <a:pt x="35" y="53"/>
                    </a:lnTo>
                    <a:lnTo>
                      <a:pt x="25" y="52"/>
                    </a:lnTo>
                    <a:lnTo>
                      <a:pt x="23" y="52"/>
                    </a:lnTo>
                    <a:lnTo>
                      <a:pt x="19" y="53"/>
                    </a:lnTo>
                    <a:lnTo>
                      <a:pt x="16" y="54"/>
                    </a:lnTo>
                    <a:lnTo>
                      <a:pt x="13" y="55"/>
                    </a:lnTo>
                    <a:lnTo>
                      <a:pt x="8" y="60"/>
                    </a:lnTo>
                    <a:lnTo>
                      <a:pt x="6" y="66"/>
                    </a:lnTo>
                    <a:lnTo>
                      <a:pt x="2" y="74"/>
                    </a:lnTo>
                    <a:lnTo>
                      <a:pt x="1" y="81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1" y="106"/>
                    </a:lnTo>
                    <a:lnTo>
                      <a:pt x="1" y="113"/>
                    </a:lnTo>
                    <a:lnTo>
                      <a:pt x="2" y="119"/>
                    </a:lnTo>
                    <a:lnTo>
                      <a:pt x="4" y="123"/>
                    </a:lnTo>
                    <a:lnTo>
                      <a:pt x="6" y="124"/>
                    </a:lnTo>
                    <a:lnTo>
                      <a:pt x="6" y="124"/>
                    </a:lnTo>
                    <a:lnTo>
                      <a:pt x="7" y="124"/>
                    </a:lnTo>
                    <a:lnTo>
                      <a:pt x="8" y="123"/>
                    </a:lnTo>
                    <a:lnTo>
                      <a:pt x="11" y="119"/>
                    </a:lnTo>
                    <a:lnTo>
                      <a:pt x="12" y="112"/>
                    </a:lnTo>
                    <a:lnTo>
                      <a:pt x="14" y="101"/>
                    </a:lnTo>
                    <a:lnTo>
                      <a:pt x="16" y="94"/>
                    </a:lnTo>
                    <a:lnTo>
                      <a:pt x="17" y="87"/>
                    </a:lnTo>
                    <a:lnTo>
                      <a:pt x="17" y="84"/>
                    </a:lnTo>
                    <a:lnTo>
                      <a:pt x="18" y="81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18" y="80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7155000" y="2597400"/>
                <a:ext cx="291960" cy="52200"/>
              </a:xfrm>
              <a:custGeom>
                <a:avLst/>
                <a:gdLst/>
                <a:ahLst/>
                <a:rect l="l" t="t" r="r" b="b"/>
                <a:pathLst>
                  <a:path w="923" h="166">
                    <a:moveTo>
                      <a:pt x="406" y="21"/>
                    </a:moveTo>
                    <a:lnTo>
                      <a:pt x="438" y="28"/>
                    </a:lnTo>
                    <a:lnTo>
                      <a:pt x="467" y="33"/>
                    </a:lnTo>
                    <a:lnTo>
                      <a:pt x="495" y="37"/>
                    </a:lnTo>
                    <a:lnTo>
                      <a:pt x="519" y="40"/>
                    </a:lnTo>
                    <a:lnTo>
                      <a:pt x="541" y="41"/>
                    </a:lnTo>
                    <a:lnTo>
                      <a:pt x="561" y="42"/>
                    </a:lnTo>
                    <a:lnTo>
                      <a:pt x="578" y="41"/>
                    </a:lnTo>
                    <a:lnTo>
                      <a:pt x="594" y="41"/>
                    </a:lnTo>
                    <a:lnTo>
                      <a:pt x="620" y="37"/>
                    </a:lnTo>
                    <a:lnTo>
                      <a:pt x="637" y="33"/>
                    </a:lnTo>
                    <a:lnTo>
                      <a:pt x="647" y="31"/>
                    </a:lnTo>
                    <a:lnTo>
                      <a:pt x="651" y="30"/>
                    </a:lnTo>
                    <a:lnTo>
                      <a:pt x="658" y="35"/>
                    </a:lnTo>
                    <a:lnTo>
                      <a:pt x="678" y="47"/>
                    </a:lnTo>
                    <a:lnTo>
                      <a:pt x="709" y="65"/>
                    </a:lnTo>
                    <a:lnTo>
                      <a:pt x="747" y="84"/>
                    </a:lnTo>
                    <a:lnTo>
                      <a:pt x="768" y="94"/>
                    </a:lnTo>
                    <a:lnTo>
                      <a:pt x="789" y="102"/>
                    </a:lnTo>
                    <a:lnTo>
                      <a:pt x="811" y="110"/>
                    </a:lnTo>
                    <a:lnTo>
                      <a:pt x="833" y="116"/>
                    </a:lnTo>
                    <a:lnTo>
                      <a:pt x="855" y="121"/>
                    </a:lnTo>
                    <a:lnTo>
                      <a:pt x="876" y="123"/>
                    </a:lnTo>
                    <a:lnTo>
                      <a:pt x="886" y="123"/>
                    </a:lnTo>
                    <a:lnTo>
                      <a:pt x="896" y="122"/>
                    </a:lnTo>
                    <a:lnTo>
                      <a:pt x="905" y="121"/>
                    </a:lnTo>
                    <a:lnTo>
                      <a:pt x="914" y="118"/>
                    </a:lnTo>
                    <a:lnTo>
                      <a:pt x="918" y="118"/>
                    </a:lnTo>
                    <a:lnTo>
                      <a:pt x="920" y="118"/>
                    </a:lnTo>
                    <a:lnTo>
                      <a:pt x="923" y="120"/>
                    </a:lnTo>
                    <a:lnTo>
                      <a:pt x="923" y="122"/>
                    </a:lnTo>
                    <a:lnTo>
                      <a:pt x="921" y="127"/>
                    </a:lnTo>
                    <a:lnTo>
                      <a:pt x="917" y="134"/>
                    </a:lnTo>
                    <a:lnTo>
                      <a:pt x="909" y="143"/>
                    </a:lnTo>
                    <a:lnTo>
                      <a:pt x="899" y="150"/>
                    </a:lnTo>
                    <a:lnTo>
                      <a:pt x="888" y="158"/>
                    </a:lnTo>
                    <a:lnTo>
                      <a:pt x="876" y="163"/>
                    </a:lnTo>
                    <a:lnTo>
                      <a:pt x="861" y="165"/>
                    </a:lnTo>
                    <a:lnTo>
                      <a:pt x="845" y="166"/>
                    </a:lnTo>
                    <a:lnTo>
                      <a:pt x="828" y="166"/>
                    </a:lnTo>
                    <a:lnTo>
                      <a:pt x="808" y="164"/>
                    </a:lnTo>
                    <a:lnTo>
                      <a:pt x="790" y="161"/>
                    </a:lnTo>
                    <a:lnTo>
                      <a:pt x="769" y="158"/>
                    </a:lnTo>
                    <a:lnTo>
                      <a:pt x="749" y="153"/>
                    </a:lnTo>
                    <a:lnTo>
                      <a:pt x="730" y="148"/>
                    </a:lnTo>
                    <a:lnTo>
                      <a:pt x="694" y="137"/>
                    </a:lnTo>
                    <a:lnTo>
                      <a:pt x="664" y="127"/>
                    </a:lnTo>
                    <a:lnTo>
                      <a:pt x="645" y="120"/>
                    </a:lnTo>
                    <a:lnTo>
                      <a:pt x="637" y="116"/>
                    </a:lnTo>
                    <a:lnTo>
                      <a:pt x="186" y="70"/>
                    </a:lnTo>
                    <a:lnTo>
                      <a:pt x="185" y="69"/>
                    </a:lnTo>
                    <a:lnTo>
                      <a:pt x="182" y="67"/>
                    </a:lnTo>
                    <a:lnTo>
                      <a:pt x="178" y="63"/>
                    </a:lnTo>
                    <a:lnTo>
                      <a:pt x="172" y="59"/>
                    </a:lnTo>
                    <a:lnTo>
                      <a:pt x="165" y="53"/>
                    </a:lnTo>
                    <a:lnTo>
                      <a:pt x="156" y="48"/>
                    </a:lnTo>
                    <a:lnTo>
                      <a:pt x="146" y="43"/>
                    </a:lnTo>
                    <a:lnTo>
                      <a:pt x="134" y="37"/>
                    </a:lnTo>
                    <a:lnTo>
                      <a:pt x="122" y="32"/>
                    </a:lnTo>
                    <a:lnTo>
                      <a:pt x="108" y="27"/>
                    </a:lnTo>
                    <a:lnTo>
                      <a:pt x="93" y="24"/>
                    </a:lnTo>
                    <a:lnTo>
                      <a:pt x="77" y="20"/>
                    </a:lnTo>
                    <a:lnTo>
                      <a:pt x="61" y="16"/>
                    </a:lnTo>
                    <a:lnTo>
                      <a:pt x="44" y="14"/>
                    </a:lnTo>
                    <a:lnTo>
                      <a:pt x="26" y="11"/>
                    </a:lnTo>
                    <a:lnTo>
                      <a:pt x="6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9" y="8"/>
                    </a:lnTo>
                    <a:lnTo>
                      <a:pt x="22" y="5"/>
                    </a:lnTo>
                    <a:lnTo>
                      <a:pt x="63" y="3"/>
                    </a:lnTo>
                    <a:lnTo>
                      <a:pt x="119" y="0"/>
                    </a:lnTo>
                    <a:lnTo>
                      <a:pt x="153" y="0"/>
                    </a:lnTo>
                    <a:lnTo>
                      <a:pt x="187" y="0"/>
                    </a:lnTo>
                    <a:lnTo>
                      <a:pt x="224" y="1"/>
                    </a:lnTo>
                    <a:lnTo>
                      <a:pt x="261" y="3"/>
                    </a:lnTo>
                    <a:lnTo>
                      <a:pt x="298" y="6"/>
                    </a:lnTo>
                    <a:lnTo>
                      <a:pt x="336" y="10"/>
                    </a:lnTo>
                    <a:lnTo>
                      <a:pt x="372" y="15"/>
                    </a:lnTo>
                    <a:lnTo>
                      <a:pt x="406" y="21"/>
                    </a:lnTo>
                    <a:close/>
                  </a:path>
                </a:pathLst>
              </a:custGeom>
              <a:solidFill>
                <a:srgbClr val="5f4e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7169040" y="2598840"/>
                <a:ext cx="273240" cy="50760"/>
              </a:xfrm>
              <a:custGeom>
                <a:avLst/>
                <a:gdLst/>
                <a:ahLst/>
                <a:rect l="l" t="t" r="r" b="b"/>
                <a:pathLst>
                  <a:path w="860" h="160">
                    <a:moveTo>
                      <a:pt x="354" y="40"/>
                    </a:moveTo>
                    <a:lnTo>
                      <a:pt x="386" y="46"/>
                    </a:lnTo>
                    <a:lnTo>
                      <a:pt x="414" y="52"/>
                    </a:lnTo>
                    <a:lnTo>
                      <a:pt x="441" y="56"/>
                    </a:lnTo>
                    <a:lnTo>
                      <a:pt x="466" y="58"/>
                    </a:lnTo>
                    <a:lnTo>
                      <a:pt x="488" y="59"/>
                    </a:lnTo>
                    <a:lnTo>
                      <a:pt x="509" y="61"/>
                    </a:lnTo>
                    <a:lnTo>
                      <a:pt x="526" y="59"/>
                    </a:lnTo>
                    <a:lnTo>
                      <a:pt x="542" y="59"/>
                    </a:lnTo>
                    <a:lnTo>
                      <a:pt x="567" y="56"/>
                    </a:lnTo>
                    <a:lnTo>
                      <a:pt x="585" y="52"/>
                    </a:lnTo>
                    <a:lnTo>
                      <a:pt x="595" y="50"/>
                    </a:lnTo>
                    <a:lnTo>
                      <a:pt x="598" y="47"/>
                    </a:lnTo>
                    <a:lnTo>
                      <a:pt x="605" y="52"/>
                    </a:lnTo>
                    <a:lnTo>
                      <a:pt x="623" y="64"/>
                    </a:lnTo>
                    <a:lnTo>
                      <a:pt x="652" y="80"/>
                    </a:lnTo>
                    <a:lnTo>
                      <a:pt x="686" y="99"/>
                    </a:lnTo>
                    <a:lnTo>
                      <a:pt x="705" y="107"/>
                    </a:lnTo>
                    <a:lnTo>
                      <a:pt x="726" y="115"/>
                    </a:lnTo>
                    <a:lnTo>
                      <a:pt x="745" y="122"/>
                    </a:lnTo>
                    <a:lnTo>
                      <a:pt x="766" y="128"/>
                    </a:lnTo>
                    <a:lnTo>
                      <a:pt x="787" y="132"/>
                    </a:lnTo>
                    <a:lnTo>
                      <a:pt x="808" y="133"/>
                    </a:lnTo>
                    <a:lnTo>
                      <a:pt x="818" y="133"/>
                    </a:lnTo>
                    <a:lnTo>
                      <a:pt x="826" y="133"/>
                    </a:lnTo>
                    <a:lnTo>
                      <a:pt x="836" y="131"/>
                    </a:lnTo>
                    <a:lnTo>
                      <a:pt x="845" y="130"/>
                    </a:lnTo>
                    <a:lnTo>
                      <a:pt x="854" y="127"/>
                    </a:lnTo>
                    <a:lnTo>
                      <a:pt x="857" y="128"/>
                    </a:lnTo>
                    <a:lnTo>
                      <a:pt x="858" y="130"/>
                    </a:lnTo>
                    <a:lnTo>
                      <a:pt x="860" y="131"/>
                    </a:lnTo>
                    <a:lnTo>
                      <a:pt x="860" y="133"/>
                    </a:lnTo>
                    <a:lnTo>
                      <a:pt x="858" y="136"/>
                    </a:lnTo>
                    <a:lnTo>
                      <a:pt x="855" y="141"/>
                    </a:lnTo>
                    <a:lnTo>
                      <a:pt x="849" y="147"/>
                    </a:lnTo>
                    <a:lnTo>
                      <a:pt x="840" y="152"/>
                    </a:lnTo>
                    <a:lnTo>
                      <a:pt x="829" y="157"/>
                    </a:lnTo>
                    <a:lnTo>
                      <a:pt x="814" y="159"/>
                    </a:lnTo>
                    <a:lnTo>
                      <a:pt x="798" y="160"/>
                    </a:lnTo>
                    <a:lnTo>
                      <a:pt x="781" y="160"/>
                    </a:lnTo>
                    <a:lnTo>
                      <a:pt x="761" y="158"/>
                    </a:lnTo>
                    <a:lnTo>
                      <a:pt x="743" y="155"/>
                    </a:lnTo>
                    <a:lnTo>
                      <a:pt x="722" y="152"/>
                    </a:lnTo>
                    <a:lnTo>
                      <a:pt x="702" y="147"/>
                    </a:lnTo>
                    <a:lnTo>
                      <a:pt x="683" y="142"/>
                    </a:lnTo>
                    <a:lnTo>
                      <a:pt x="647" y="131"/>
                    </a:lnTo>
                    <a:lnTo>
                      <a:pt x="617" y="121"/>
                    </a:lnTo>
                    <a:lnTo>
                      <a:pt x="598" y="114"/>
                    </a:lnTo>
                    <a:lnTo>
                      <a:pt x="590" y="110"/>
                    </a:lnTo>
                    <a:lnTo>
                      <a:pt x="139" y="64"/>
                    </a:lnTo>
                    <a:lnTo>
                      <a:pt x="138" y="63"/>
                    </a:lnTo>
                    <a:lnTo>
                      <a:pt x="135" y="61"/>
                    </a:lnTo>
                    <a:lnTo>
                      <a:pt x="131" y="57"/>
                    </a:lnTo>
                    <a:lnTo>
                      <a:pt x="125" y="53"/>
                    </a:lnTo>
                    <a:lnTo>
                      <a:pt x="118" y="47"/>
                    </a:lnTo>
                    <a:lnTo>
                      <a:pt x="109" y="42"/>
                    </a:lnTo>
                    <a:lnTo>
                      <a:pt x="99" y="37"/>
                    </a:lnTo>
                    <a:lnTo>
                      <a:pt x="87" y="31"/>
                    </a:lnTo>
                    <a:lnTo>
                      <a:pt x="76" y="26"/>
                    </a:lnTo>
                    <a:lnTo>
                      <a:pt x="66" y="21"/>
                    </a:lnTo>
                    <a:lnTo>
                      <a:pt x="58" y="18"/>
                    </a:lnTo>
                    <a:lnTo>
                      <a:pt x="48" y="14"/>
                    </a:lnTo>
                    <a:lnTo>
                      <a:pt x="39" y="10"/>
                    </a:lnTo>
                    <a:lnTo>
                      <a:pt x="29" y="7"/>
                    </a:lnTo>
                    <a:lnTo>
                      <a:pt x="17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7" y="0"/>
                    </a:lnTo>
                    <a:lnTo>
                      <a:pt x="18" y="0"/>
                    </a:lnTo>
                    <a:lnTo>
                      <a:pt x="51" y="2"/>
                    </a:lnTo>
                    <a:lnTo>
                      <a:pt x="99" y="4"/>
                    </a:lnTo>
                    <a:lnTo>
                      <a:pt x="156" y="9"/>
                    </a:lnTo>
                    <a:lnTo>
                      <a:pt x="220" y="16"/>
                    </a:lnTo>
                    <a:lnTo>
                      <a:pt x="253" y="21"/>
                    </a:lnTo>
                    <a:lnTo>
                      <a:pt x="286" y="26"/>
                    </a:lnTo>
                    <a:lnTo>
                      <a:pt x="320" y="32"/>
                    </a:lnTo>
                    <a:lnTo>
                      <a:pt x="354" y="40"/>
                    </a:lnTo>
                    <a:close/>
                  </a:path>
                </a:pathLst>
              </a:custGeom>
              <a:solidFill>
                <a:srgbClr val="5a4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7183440" y="2598840"/>
                <a:ext cx="255600" cy="50760"/>
              </a:xfrm>
              <a:custGeom>
                <a:avLst/>
                <a:gdLst/>
                <a:ahLst/>
                <a:rect l="l" t="t" r="r" b="b"/>
                <a:pathLst>
                  <a:path w="803" h="162">
                    <a:moveTo>
                      <a:pt x="778" y="147"/>
                    </a:moveTo>
                    <a:lnTo>
                      <a:pt x="787" y="145"/>
                    </a:lnTo>
                    <a:lnTo>
                      <a:pt x="793" y="144"/>
                    </a:lnTo>
                    <a:lnTo>
                      <a:pt x="799" y="145"/>
                    </a:lnTo>
                    <a:lnTo>
                      <a:pt x="801" y="146"/>
                    </a:lnTo>
                    <a:lnTo>
                      <a:pt x="803" y="146"/>
                    </a:lnTo>
                    <a:lnTo>
                      <a:pt x="803" y="147"/>
                    </a:lnTo>
                    <a:lnTo>
                      <a:pt x="801" y="150"/>
                    </a:lnTo>
                    <a:lnTo>
                      <a:pt x="799" y="151"/>
                    </a:lnTo>
                    <a:lnTo>
                      <a:pt x="793" y="155"/>
                    </a:lnTo>
                    <a:lnTo>
                      <a:pt x="783" y="159"/>
                    </a:lnTo>
                    <a:lnTo>
                      <a:pt x="768" y="161"/>
                    </a:lnTo>
                    <a:lnTo>
                      <a:pt x="752" y="162"/>
                    </a:lnTo>
                    <a:lnTo>
                      <a:pt x="735" y="162"/>
                    </a:lnTo>
                    <a:lnTo>
                      <a:pt x="715" y="160"/>
                    </a:lnTo>
                    <a:lnTo>
                      <a:pt x="697" y="157"/>
                    </a:lnTo>
                    <a:lnTo>
                      <a:pt x="676" y="154"/>
                    </a:lnTo>
                    <a:lnTo>
                      <a:pt x="656" y="149"/>
                    </a:lnTo>
                    <a:lnTo>
                      <a:pt x="637" y="144"/>
                    </a:lnTo>
                    <a:lnTo>
                      <a:pt x="601" y="133"/>
                    </a:lnTo>
                    <a:lnTo>
                      <a:pt x="571" y="123"/>
                    </a:lnTo>
                    <a:lnTo>
                      <a:pt x="552" y="116"/>
                    </a:lnTo>
                    <a:lnTo>
                      <a:pt x="544" y="112"/>
                    </a:lnTo>
                    <a:lnTo>
                      <a:pt x="93" y="66"/>
                    </a:lnTo>
                    <a:lnTo>
                      <a:pt x="92" y="65"/>
                    </a:lnTo>
                    <a:lnTo>
                      <a:pt x="89" y="63"/>
                    </a:lnTo>
                    <a:lnTo>
                      <a:pt x="85" y="59"/>
                    </a:lnTo>
                    <a:lnTo>
                      <a:pt x="79" y="55"/>
                    </a:lnTo>
                    <a:lnTo>
                      <a:pt x="72" y="49"/>
                    </a:lnTo>
                    <a:lnTo>
                      <a:pt x="63" y="44"/>
                    </a:lnTo>
                    <a:lnTo>
                      <a:pt x="53" y="39"/>
                    </a:lnTo>
                    <a:lnTo>
                      <a:pt x="41" y="33"/>
                    </a:lnTo>
                    <a:lnTo>
                      <a:pt x="31" y="28"/>
                    </a:lnTo>
                    <a:lnTo>
                      <a:pt x="25" y="23"/>
                    </a:lnTo>
                    <a:lnTo>
                      <a:pt x="21" y="20"/>
                    </a:lnTo>
                    <a:lnTo>
                      <a:pt x="19" y="15"/>
                    </a:lnTo>
                    <a:lnTo>
                      <a:pt x="16" y="11"/>
                    </a:lnTo>
                    <a:lnTo>
                      <a:pt x="14" y="7"/>
                    </a:lnTo>
                    <a:lnTo>
                      <a:pt x="9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5" y="4"/>
                    </a:lnTo>
                    <a:lnTo>
                      <a:pt x="41" y="9"/>
                    </a:lnTo>
                    <a:lnTo>
                      <a:pt x="78" y="17"/>
                    </a:lnTo>
                    <a:lnTo>
                      <a:pt x="124" y="27"/>
                    </a:lnTo>
                    <a:lnTo>
                      <a:pt x="178" y="39"/>
                    </a:lnTo>
                    <a:lnTo>
                      <a:pt x="238" y="52"/>
                    </a:lnTo>
                    <a:lnTo>
                      <a:pt x="302" y="66"/>
                    </a:lnTo>
                    <a:lnTo>
                      <a:pt x="334" y="72"/>
                    </a:lnTo>
                    <a:lnTo>
                      <a:pt x="365" y="79"/>
                    </a:lnTo>
                    <a:lnTo>
                      <a:pt x="392" y="82"/>
                    </a:lnTo>
                    <a:lnTo>
                      <a:pt x="416" y="85"/>
                    </a:lnTo>
                    <a:lnTo>
                      <a:pt x="438" y="86"/>
                    </a:lnTo>
                    <a:lnTo>
                      <a:pt x="458" y="86"/>
                    </a:lnTo>
                    <a:lnTo>
                      <a:pt x="477" y="86"/>
                    </a:lnTo>
                    <a:lnTo>
                      <a:pt x="491" y="85"/>
                    </a:lnTo>
                    <a:lnTo>
                      <a:pt x="516" y="82"/>
                    </a:lnTo>
                    <a:lnTo>
                      <a:pt x="533" y="79"/>
                    </a:lnTo>
                    <a:lnTo>
                      <a:pt x="543" y="75"/>
                    </a:lnTo>
                    <a:lnTo>
                      <a:pt x="547" y="74"/>
                    </a:lnTo>
                    <a:lnTo>
                      <a:pt x="553" y="79"/>
                    </a:lnTo>
                    <a:lnTo>
                      <a:pt x="569" y="90"/>
                    </a:lnTo>
                    <a:lnTo>
                      <a:pt x="595" y="104"/>
                    </a:lnTo>
                    <a:lnTo>
                      <a:pt x="627" y="120"/>
                    </a:lnTo>
                    <a:lnTo>
                      <a:pt x="644" y="129"/>
                    </a:lnTo>
                    <a:lnTo>
                      <a:pt x="662" y="136"/>
                    </a:lnTo>
                    <a:lnTo>
                      <a:pt x="682" y="143"/>
                    </a:lnTo>
                    <a:lnTo>
                      <a:pt x="702" y="147"/>
                    </a:lnTo>
                    <a:lnTo>
                      <a:pt x="721" y="151"/>
                    </a:lnTo>
                    <a:lnTo>
                      <a:pt x="740" y="152"/>
                    </a:lnTo>
                    <a:lnTo>
                      <a:pt x="750" y="152"/>
                    </a:lnTo>
                    <a:lnTo>
                      <a:pt x="760" y="151"/>
                    </a:lnTo>
                    <a:lnTo>
                      <a:pt x="768" y="150"/>
                    </a:lnTo>
                    <a:lnTo>
                      <a:pt x="778" y="147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7116840" y="2844720"/>
                <a:ext cx="81000" cy="51120"/>
              </a:xfrm>
              <a:custGeom>
                <a:avLst/>
                <a:gdLst/>
                <a:ahLst/>
                <a:rect l="l" t="t" r="r" b="b"/>
                <a:pathLst>
                  <a:path w="255" h="163">
                    <a:moveTo>
                      <a:pt x="68" y="152"/>
                    </a:moveTo>
                    <a:lnTo>
                      <a:pt x="64" y="146"/>
                    </a:lnTo>
                    <a:lnTo>
                      <a:pt x="55" y="131"/>
                    </a:lnTo>
                    <a:lnTo>
                      <a:pt x="42" y="109"/>
                    </a:lnTo>
                    <a:lnTo>
                      <a:pt x="28" y="83"/>
                    </a:lnTo>
                    <a:lnTo>
                      <a:pt x="15" y="58"/>
                    </a:lnTo>
                    <a:lnTo>
                      <a:pt x="5" y="34"/>
                    </a:lnTo>
                    <a:lnTo>
                      <a:pt x="1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7" y="3"/>
                    </a:lnTo>
                    <a:lnTo>
                      <a:pt x="15" y="2"/>
                    </a:lnTo>
                    <a:lnTo>
                      <a:pt x="23" y="1"/>
                    </a:lnTo>
                    <a:lnTo>
                      <a:pt x="34" y="1"/>
                    </a:lnTo>
                    <a:lnTo>
                      <a:pt x="60" y="0"/>
                    </a:lnTo>
                    <a:lnTo>
                      <a:pt x="88" y="1"/>
                    </a:lnTo>
                    <a:lnTo>
                      <a:pt x="118" y="1"/>
                    </a:lnTo>
                    <a:lnTo>
                      <a:pt x="146" y="1"/>
                    </a:lnTo>
                    <a:lnTo>
                      <a:pt x="170" y="1"/>
                    </a:lnTo>
                    <a:lnTo>
                      <a:pt x="187" y="0"/>
                    </a:lnTo>
                    <a:lnTo>
                      <a:pt x="193" y="0"/>
                    </a:lnTo>
                    <a:lnTo>
                      <a:pt x="200" y="1"/>
                    </a:lnTo>
                    <a:lnTo>
                      <a:pt x="207" y="2"/>
                    </a:lnTo>
                    <a:lnTo>
                      <a:pt x="213" y="6"/>
                    </a:lnTo>
                    <a:lnTo>
                      <a:pt x="219" y="10"/>
                    </a:lnTo>
                    <a:lnTo>
                      <a:pt x="226" y="15"/>
                    </a:lnTo>
                    <a:lnTo>
                      <a:pt x="231" y="19"/>
                    </a:lnTo>
                    <a:lnTo>
                      <a:pt x="237" y="26"/>
                    </a:lnTo>
                    <a:lnTo>
                      <a:pt x="242" y="32"/>
                    </a:lnTo>
                    <a:lnTo>
                      <a:pt x="246" y="39"/>
                    </a:lnTo>
                    <a:lnTo>
                      <a:pt x="250" y="45"/>
                    </a:lnTo>
                    <a:lnTo>
                      <a:pt x="252" y="51"/>
                    </a:lnTo>
                    <a:lnTo>
                      <a:pt x="255" y="59"/>
                    </a:lnTo>
                    <a:lnTo>
                      <a:pt x="255" y="65"/>
                    </a:lnTo>
                    <a:lnTo>
                      <a:pt x="255" y="71"/>
                    </a:lnTo>
                    <a:lnTo>
                      <a:pt x="252" y="76"/>
                    </a:lnTo>
                    <a:lnTo>
                      <a:pt x="248" y="82"/>
                    </a:lnTo>
                    <a:lnTo>
                      <a:pt x="241" y="90"/>
                    </a:lnTo>
                    <a:lnTo>
                      <a:pt x="231" y="98"/>
                    </a:lnTo>
                    <a:lnTo>
                      <a:pt x="220" y="107"/>
                    </a:lnTo>
                    <a:lnTo>
                      <a:pt x="207" y="115"/>
                    </a:lnTo>
                    <a:lnTo>
                      <a:pt x="192" y="125"/>
                    </a:lnTo>
                    <a:lnTo>
                      <a:pt x="176" y="134"/>
                    </a:lnTo>
                    <a:lnTo>
                      <a:pt x="160" y="141"/>
                    </a:lnTo>
                    <a:lnTo>
                      <a:pt x="144" y="149"/>
                    </a:lnTo>
                    <a:lnTo>
                      <a:pt x="128" y="155"/>
                    </a:lnTo>
                    <a:lnTo>
                      <a:pt x="114" y="160"/>
                    </a:lnTo>
                    <a:lnTo>
                      <a:pt x="101" y="162"/>
                    </a:lnTo>
                    <a:lnTo>
                      <a:pt x="88" y="163"/>
                    </a:lnTo>
                    <a:lnTo>
                      <a:pt x="79" y="162"/>
                    </a:lnTo>
                    <a:lnTo>
                      <a:pt x="75" y="161"/>
                    </a:lnTo>
                    <a:lnTo>
                      <a:pt x="71" y="158"/>
                    </a:lnTo>
                    <a:lnTo>
                      <a:pt x="69" y="156"/>
                    </a:lnTo>
                    <a:lnTo>
                      <a:pt x="68" y="152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7232760" y="279720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491" h="198">
                    <a:moveTo>
                      <a:pt x="38" y="143"/>
                    </a:moveTo>
                    <a:lnTo>
                      <a:pt x="34" y="139"/>
                    </a:lnTo>
                    <a:lnTo>
                      <a:pt x="26" y="129"/>
                    </a:lnTo>
                    <a:lnTo>
                      <a:pt x="21" y="123"/>
                    </a:lnTo>
                    <a:lnTo>
                      <a:pt x="16" y="116"/>
                    </a:lnTo>
                    <a:lnTo>
                      <a:pt x="11" y="107"/>
                    </a:lnTo>
                    <a:lnTo>
                      <a:pt x="6" y="99"/>
                    </a:lnTo>
                    <a:lnTo>
                      <a:pt x="2" y="90"/>
                    </a:lnTo>
                    <a:lnTo>
                      <a:pt x="1" y="80"/>
                    </a:lnTo>
                    <a:lnTo>
                      <a:pt x="0" y="72"/>
                    </a:lnTo>
                    <a:lnTo>
                      <a:pt x="2" y="63"/>
                    </a:lnTo>
                    <a:lnTo>
                      <a:pt x="4" y="58"/>
                    </a:lnTo>
                    <a:lnTo>
                      <a:pt x="6" y="53"/>
                    </a:lnTo>
                    <a:lnTo>
                      <a:pt x="10" y="49"/>
                    </a:lnTo>
                    <a:lnTo>
                      <a:pt x="14" y="46"/>
                    </a:lnTo>
                    <a:lnTo>
                      <a:pt x="18" y="42"/>
                    </a:lnTo>
                    <a:lnTo>
                      <a:pt x="23" y="38"/>
                    </a:lnTo>
                    <a:lnTo>
                      <a:pt x="31" y="35"/>
                    </a:lnTo>
                    <a:lnTo>
                      <a:pt x="38" y="31"/>
                    </a:lnTo>
                    <a:lnTo>
                      <a:pt x="55" y="25"/>
                    </a:lnTo>
                    <a:lnTo>
                      <a:pt x="76" y="19"/>
                    </a:lnTo>
                    <a:lnTo>
                      <a:pt x="101" y="14"/>
                    </a:lnTo>
                    <a:lnTo>
                      <a:pt x="127" y="9"/>
                    </a:lnTo>
                    <a:lnTo>
                      <a:pt x="154" y="5"/>
                    </a:lnTo>
                    <a:lnTo>
                      <a:pt x="183" y="3"/>
                    </a:lnTo>
                    <a:lnTo>
                      <a:pt x="214" y="1"/>
                    </a:lnTo>
                    <a:lnTo>
                      <a:pt x="245" y="0"/>
                    </a:lnTo>
                    <a:lnTo>
                      <a:pt x="276" y="1"/>
                    </a:lnTo>
                    <a:lnTo>
                      <a:pt x="306" y="4"/>
                    </a:lnTo>
                    <a:lnTo>
                      <a:pt x="337" y="8"/>
                    </a:lnTo>
                    <a:lnTo>
                      <a:pt x="367" y="14"/>
                    </a:lnTo>
                    <a:lnTo>
                      <a:pt x="394" y="21"/>
                    </a:lnTo>
                    <a:lnTo>
                      <a:pt x="420" y="31"/>
                    </a:lnTo>
                    <a:lnTo>
                      <a:pt x="432" y="36"/>
                    </a:lnTo>
                    <a:lnTo>
                      <a:pt x="443" y="42"/>
                    </a:lnTo>
                    <a:lnTo>
                      <a:pt x="454" y="48"/>
                    </a:lnTo>
                    <a:lnTo>
                      <a:pt x="464" y="56"/>
                    </a:lnTo>
                    <a:lnTo>
                      <a:pt x="474" y="63"/>
                    </a:lnTo>
                    <a:lnTo>
                      <a:pt x="480" y="70"/>
                    </a:lnTo>
                    <a:lnTo>
                      <a:pt x="486" y="78"/>
                    </a:lnTo>
                    <a:lnTo>
                      <a:pt x="490" y="85"/>
                    </a:lnTo>
                    <a:lnTo>
                      <a:pt x="491" y="92"/>
                    </a:lnTo>
                    <a:lnTo>
                      <a:pt x="491" y="99"/>
                    </a:lnTo>
                    <a:lnTo>
                      <a:pt x="491" y="106"/>
                    </a:lnTo>
                    <a:lnTo>
                      <a:pt x="488" y="113"/>
                    </a:lnTo>
                    <a:lnTo>
                      <a:pt x="485" y="120"/>
                    </a:lnTo>
                    <a:lnTo>
                      <a:pt x="480" y="126"/>
                    </a:lnTo>
                    <a:lnTo>
                      <a:pt x="475" y="132"/>
                    </a:lnTo>
                    <a:lnTo>
                      <a:pt x="469" y="138"/>
                    </a:lnTo>
                    <a:lnTo>
                      <a:pt x="453" y="150"/>
                    </a:lnTo>
                    <a:lnTo>
                      <a:pt x="436" y="161"/>
                    </a:lnTo>
                    <a:lnTo>
                      <a:pt x="416" y="170"/>
                    </a:lnTo>
                    <a:lnTo>
                      <a:pt x="396" y="179"/>
                    </a:lnTo>
                    <a:lnTo>
                      <a:pt x="376" y="186"/>
                    </a:lnTo>
                    <a:lnTo>
                      <a:pt x="358" y="192"/>
                    </a:lnTo>
                    <a:lnTo>
                      <a:pt x="341" y="196"/>
                    </a:lnTo>
                    <a:lnTo>
                      <a:pt x="326" y="198"/>
                    </a:lnTo>
                    <a:lnTo>
                      <a:pt x="314" y="198"/>
                    </a:lnTo>
                    <a:lnTo>
                      <a:pt x="306" y="197"/>
                    </a:lnTo>
                    <a:lnTo>
                      <a:pt x="289" y="192"/>
                    </a:lnTo>
                    <a:lnTo>
                      <a:pt x="258" y="187"/>
                    </a:lnTo>
                    <a:lnTo>
                      <a:pt x="219" y="181"/>
                    </a:lnTo>
                    <a:lnTo>
                      <a:pt x="175" y="175"/>
                    </a:lnTo>
                    <a:lnTo>
                      <a:pt x="130" y="167"/>
                    </a:lnTo>
                    <a:lnTo>
                      <a:pt x="90" y="160"/>
                    </a:lnTo>
                    <a:lnTo>
                      <a:pt x="73" y="155"/>
                    </a:lnTo>
                    <a:lnTo>
                      <a:pt x="58" y="151"/>
                    </a:lnTo>
                    <a:lnTo>
                      <a:pt x="46" y="147"/>
                    </a:lnTo>
                    <a:lnTo>
                      <a:pt x="38" y="14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7242120" y="2800440"/>
                <a:ext cx="138240" cy="55440"/>
              </a:xfrm>
              <a:custGeom>
                <a:avLst/>
                <a:gdLst/>
                <a:ahLst/>
                <a:rect l="l" t="t" r="r" b="b"/>
                <a:pathLst>
                  <a:path w="437" h="177">
                    <a:moveTo>
                      <a:pt x="34" y="25"/>
                    </a:moveTo>
                    <a:lnTo>
                      <a:pt x="50" y="20"/>
                    </a:lnTo>
                    <a:lnTo>
                      <a:pt x="69" y="16"/>
                    </a:lnTo>
                    <a:lnTo>
                      <a:pt x="90" y="11"/>
                    </a:lnTo>
                    <a:lnTo>
                      <a:pt x="112" y="7"/>
                    </a:lnTo>
                    <a:lnTo>
                      <a:pt x="136" y="4"/>
                    </a:lnTo>
                    <a:lnTo>
                      <a:pt x="162" y="2"/>
                    </a:lnTo>
                    <a:lnTo>
                      <a:pt x="189" y="1"/>
                    </a:lnTo>
                    <a:lnTo>
                      <a:pt x="216" y="0"/>
                    </a:lnTo>
                    <a:lnTo>
                      <a:pt x="245" y="1"/>
                    </a:lnTo>
                    <a:lnTo>
                      <a:pt x="272" y="3"/>
                    </a:lnTo>
                    <a:lnTo>
                      <a:pt x="299" y="7"/>
                    </a:lnTo>
                    <a:lnTo>
                      <a:pt x="325" y="12"/>
                    </a:lnTo>
                    <a:lnTo>
                      <a:pt x="349" y="18"/>
                    </a:lnTo>
                    <a:lnTo>
                      <a:pt x="371" y="25"/>
                    </a:lnTo>
                    <a:lnTo>
                      <a:pt x="382" y="30"/>
                    </a:lnTo>
                    <a:lnTo>
                      <a:pt x="393" y="35"/>
                    </a:lnTo>
                    <a:lnTo>
                      <a:pt x="402" y="41"/>
                    </a:lnTo>
                    <a:lnTo>
                      <a:pt x="412" y="48"/>
                    </a:lnTo>
                    <a:lnTo>
                      <a:pt x="419" y="54"/>
                    </a:lnTo>
                    <a:lnTo>
                      <a:pt x="425" y="61"/>
                    </a:lnTo>
                    <a:lnTo>
                      <a:pt x="430" y="67"/>
                    </a:lnTo>
                    <a:lnTo>
                      <a:pt x="434" y="73"/>
                    </a:lnTo>
                    <a:lnTo>
                      <a:pt x="435" y="81"/>
                    </a:lnTo>
                    <a:lnTo>
                      <a:pt x="437" y="87"/>
                    </a:lnTo>
                    <a:lnTo>
                      <a:pt x="435" y="93"/>
                    </a:lnTo>
                    <a:lnTo>
                      <a:pt x="434" y="99"/>
                    </a:lnTo>
                    <a:lnTo>
                      <a:pt x="430" y="105"/>
                    </a:lnTo>
                    <a:lnTo>
                      <a:pt x="427" y="110"/>
                    </a:lnTo>
                    <a:lnTo>
                      <a:pt x="422" y="116"/>
                    </a:lnTo>
                    <a:lnTo>
                      <a:pt x="416" y="121"/>
                    </a:lnTo>
                    <a:lnTo>
                      <a:pt x="402" y="132"/>
                    </a:lnTo>
                    <a:lnTo>
                      <a:pt x="387" y="142"/>
                    </a:lnTo>
                    <a:lnTo>
                      <a:pt x="370" y="151"/>
                    </a:lnTo>
                    <a:lnTo>
                      <a:pt x="353" y="158"/>
                    </a:lnTo>
                    <a:lnTo>
                      <a:pt x="336" y="164"/>
                    </a:lnTo>
                    <a:lnTo>
                      <a:pt x="318" y="169"/>
                    </a:lnTo>
                    <a:lnTo>
                      <a:pt x="302" y="173"/>
                    </a:lnTo>
                    <a:lnTo>
                      <a:pt x="290" y="175"/>
                    </a:lnTo>
                    <a:lnTo>
                      <a:pt x="279" y="177"/>
                    </a:lnTo>
                    <a:lnTo>
                      <a:pt x="273" y="175"/>
                    </a:lnTo>
                    <a:lnTo>
                      <a:pt x="257" y="171"/>
                    </a:lnTo>
                    <a:lnTo>
                      <a:pt x="230" y="166"/>
                    </a:lnTo>
                    <a:lnTo>
                      <a:pt x="194" y="161"/>
                    </a:lnTo>
                    <a:lnTo>
                      <a:pt x="156" y="155"/>
                    </a:lnTo>
                    <a:lnTo>
                      <a:pt x="117" y="148"/>
                    </a:lnTo>
                    <a:lnTo>
                      <a:pt x="81" y="141"/>
                    </a:lnTo>
                    <a:lnTo>
                      <a:pt x="65" y="136"/>
                    </a:lnTo>
                    <a:lnTo>
                      <a:pt x="51" y="132"/>
                    </a:lnTo>
                    <a:lnTo>
                      <a:pt x="42" y="129"/>
                    </a:lnTo>
                    <a:lnTo>
                      <a:pt x="34" y="124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3" y="100"/>
                    </a:lnTo>
                    <a:lnTo>
                      <a:pt x="6" y="86"/>
                    </a:lnTo>
                    <a:lnTo>
                      <a:pt x="2" y="78"/>
                    </a:lnTo>
                    <a:lnTo>
                      <a:pt x="1" y="70"/>
                    </a:lnTo>
                    <a:lnTo>
                      <a:pt x="0" y="62"/>
                    </a:lnTo>
                    <a:lnTo>
                      <a:pt x="2" y="54"/>
                    </a:lnTo>
                    <a:lnTo>
                      <a:pt x="6" y="46"/>
                    </a:lnTo>
                    <a:lnTo>
                      <a:pt x="12" y="39"/>
                    </a:lnTo>
                    <a:lnTo>
                      <a:pt x="22" y="32"/>
                    </a:lnTo>
                    <a:lnTo>
                      <a:pt x="34" y="25"/>
                    </a:lnTo>
                    <a:close/>
                  </a:path>
                </a:pathLst>
              </a:custGeom>
              <a:solidFill>
                <a:srgbClr val="6f5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7251840" y="2801880"/>
                <a:ext cx="122040" cy="49320"/>
              </a:xfrm>
              <a:custGeom>
                <a:avLst/>
                <a:gdLst/>
                <a:ahLst/>
                <a:rect l="l" t="t" r="r" b="b"/>
                <a:pathLst>
                  <a:path w="384" h="154">
                    <a:moveTo>
                      <a:pt x="30" y="22"/>
                    </a:moveTo>
                    <a:lnTo>
                      <a:pt x="43" y="17"/>
                    </a:lnTo>
                    <a:lnTo>
                      <a:pt x="59" y="13"/>
                    </a:lnTo>
                    <a:lnTo>
                      <a:pt x="79" y="9"/>
                    </a:lnTo>
                    <a:lnTo>
                      <a:pt x="99" y="6"/>
                    </a:lnTo>
                    <a:lnTo>
                      <a:pt x="121" y="4"/>
                    </a:lnTo>
                    <a:lnTo>
                      <a:pt x="143" y="1"/>
                    </a:lnTo>
                    <a:lnTo>
                      <a:pt x="168" y="0"/>
                    </a:lnTo>
                    <a:lnTo>
                      <a:pt x="191" y="0"/>
                    </a:lnTo>
                    <a:lnTo>
                      <a:pt x="216" y="1"/>
                    </a:lnTo>
                    <a:lnTo>
                      <a:pt x="240" y="2"/>
                    </a:lnTo>
                    <a:lnTo>
                      <a:pt x="264" y="6"/>
                    </a:lnTo>
                    <a:lnTo>
                      <a:pt x="287" y="10"/>
                    </a:lnTo>
                    <a:lnTo>
                      <a:pt x="308" y="16"/>
                    </a:lnTo>
                    <a:lnTo>
                      <a:pt x="329" y="23"/>
                    </a:lnTo>
                    <a:lnTo>
                      <a:pt x="339" y="28"/>
                    </a:lnTo>
                    <a:lnTo>
                      <a:pt x="347" y="32"/>
                    </a:lnTo>
                    <a:lnTo>
                      <a:pt x="356" y="38"/>
                    </a:lnTo>
                    <a:lnTo>
                      <a:pt x="363" y="43"/>
                    </a:lnTo>
                    <a:lnTo>
                      <a:pt x="371" y="49"/>
                    </a:lnTo>
                    <a:lnTo>
                      <a:pt x="376" y="54"/>
                    </a:lnTo>
                    <a:lnTo>
                      <a:pt x="379" y="60"/>
                    </a:lnTo>
                    <a:lnTo>
                      <a:pt x="383" y="65"/>
                    </a:lnTo>
                    <a:lnTo>
                      <a:pt x="384" y="71"/>
                    </a:lnTo>
                    <a:lnTo>
                      <a:pt x="384" y="76"/>
                    </a:lnTo>
                    <a:lnTo>
                      <a:pt x="383" y="82"/>
                    </a:lnTo>
                    <a:lnTo>
                      <a:pt x="382" y="87"/>
                    </a:lnTo>
                    <a:lnTo>
                      <a:pt x="379" y="92"/>
                    </a:lnTo>
                    <a:lnTo>
                      <a:pt x="376" y="97"/>
                    </a:lnTo>
                    <a:lnTo>
                      <a:pt x="371" y="102"/>
                    </a:lnTo>
                    <a:lnTo>
                      <a:pt x="366" y="107"/>
                    </a:lnTo>
                    <a:lnTo>
                      <a:pt x="353" y="116"/>
                    </a:lnTo>
                    <a:lnTo>
                      <a:pt x="340" y="124"/>
                    </a:lnTo>
                    <a:lnTo>
                      <a:pt x="325" y="132"/>
                    </a:lnTo>
                    <a:lnTo>
                      <a:pt x="310" y="138"/>
                    </a:lnTo>
                    <a:lnTo>
                      <a:pt x="294" y="144"/>
                    </a:lnTo>
                    <a:lnTo>
                      <a:pt x="280" y="148"/>
                    </a:lnTo>
                    <a:lnTo>
                      <a:pt x="266" y="151"/>
                    </a:lnTo>
                    <a:lnTo>
                      <a:pt x="255" y="152"/>
                    </a:lnTo>
                    <a:lnTo>
                      <a:pt x="246" y="154"/>
                    </a:lnTo>
                    <a:lnTo>
                      <a:pt x="241" y="152"/>
                    </a:lnTo>
                    <a:lnTo>
                      <a:pt x="227" y="149"/>
                    </a:lnTo>
                    <a:lnTo>
                      <a:pt x="203" y="145"/>
                    </a:lnTo>
                    <a:lnTo>
                      <a:pt x="171" y="140"/>
                    </a:lnTo>
                    <a:lnTo>
                      <a:pt x="137" y="135"/>
                    </a:lnTo>
                    <a:lnTo>
                      <a:pt x="102" y="129"/>
                    </a:lnTo>
                    <a:lnTo>
                      <a:pt x="70" y="123"/>
                    </a:lnTo>
                    <a:lnTo>
                      <a:pt x="57" y="120"/>
                    </a:lnTo>
                    <a:lnTo>
                      <a:pt x="46" y="117"/>
                    </a:lnTo>
                    <a:lnTo>
                      <a:pt x="36" y="112"/>
                    </a:lnTo>
                    <a:lnTo>
                      <a:pt x="30" y="108"/>
                    </a:lnTo>
                    <a:lnTo>
                      <a:pt x="26" y="106"/>
                    </a:lnTo>
                    <a:lnTo>
                      <a:pt x="20" y="98"/>
                    </a:lnTo>
                    <a:lnTo>
                      <a:pt x="13" y="89"/>
                    </a:lnTo>
                    <a:lnTo>
                      <a:pt x="5" y="75"/>
                    </a:lnTo>
                    <a:lnTo>
                      <a:pt x="3" y="69"/>
                    </a:lnTo>
                    <a:lnTo>
                      <a:pt x="0" y="61"/>
                    </a:lnTo>
                    <a:lnTo>
                      <a:pt x="0" y="54"/>
                    </a:lnTo>
                    <a:lnTo>
                      <a:pt x="2" y="47"/>
                    </a:lnTo>
                    <a:lnTo>
                      <a:pt x="5" y="39"/>
                    </a:lnTo>
                    <a:lnTo>
                      <a:pt x="10" y="33"/>
                    </a:lnTo>
                    <a:lnTo>
                      <a:pt x="19" y="27"/>
                    </a:lnTo>
                    <a:lnTo>
                      <a:pt x="30" y="22"/>
                    </a:lnTo>
                    <a:close/>
                  </a:path>
                </a:pathLst>
              </a:custGeom>
              <a:solidFill>
                <a:srgbClr val="786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7261200" y="280368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329" h="133">
                    <a:moveTo>
                      <a:pt x="26" y="95"/>
                    </a:moveTo>
                    <a:lnTo>
                      <a:pt x="23" y="92"/>
                    </a:lnTo>
                    <a:lnTo>
                      <a:pt x="17" y="86"/>
                    </a:lnTo>
                    <a:lnTo>
                      <a:pt x="10" y="76"/>
                    </a:lnTo>
                    <a:lnTo>
                      <a:pt x="4" y="65"/>
                    </a:lnTo>
                    <a:lnTo>
                      <a:pt x="1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1" y="42"/>
                    </a:lnTo>
                    <a:lnTo>
                      <a:pt x="4" y="36"/>
                    </a:lnTo>
                    <a:lnTo>
                      <a:pt x="9" y="31"/>
                    </a:lnTo>
                    <a:lnTo>
                      <a:pt x="16" y="26"/>
                    </a:lnTo>
                    <a:lnTo>
                      <a:pt x="26" y="21"/>
                    </a:lnTo>
                    <a:lnTo>
                      <a:pt x="37" y="16"/>
                    </a:lnTo>
                    <a:lnTo>
                      <a:pt x="52" y="12"/>
                    </a:lnTo>
                    <a:lnTo>
                      <a:pt x="67" y="9"/>
                    </a:lnTo>
                    <a:lnTo>
                      <a:pt x="84" y="6"/>
                    </a:lnTo>
                    <a:lnTo>
                      <a:pt x="102" y="4"/>
                    </a:lnTo>
                    <a:lnTo>
                      <a:pt x="122" y="1"/>
                    </a:lnTo>
                    <a:lnTo>
                      <a:pt x="143" y="1"/>
                    </a:lnTo>
                    <a:lnTo>
                      <a:pt x="164" y="0"/>
                    </a:lnTo>
                    <a:lnTo>
                      <a:pt x="183" y="1"/>
                    </a:lnTo>
                    <a:lnTo>
                      <a:pt x="204" y="3"/>
                    </a:lnTo>
                    <a:lnTo>
                      <a:pt x="225" y="6"/>
                    </a:lnTo>
                    <a:lnTo>
                      <a:pt x="245" y="10"/>
                    </a:lnTo>
                    <a:lnTo>
                      <a:pt x="263" y="15"/>
                    </a:lnTo>
                    <a:lnTo>
                      <a:pt x="281" y="21"/>
                    </a:lnTo>
                    <a:lnTo>
                      <a:pt x="297" y="28"/>
                    </a:lnTo>
                    <a:lnTo>
                      <a:pt x="311" y="37"/>
                    </a:lnTo>
                    <a:lnTo>
                      <a:pt x="316" y="42"/>
                    </a:lnTo>
                    <a:lnTo>
                      <a:pt x="321" y="47"/>
                    </a:lnTo>
                    <a:lnTo>
                      <a:pt x="325" y="52"/>
                    </a:lnTo>
                    <a:lnTo>
                      <a:pt x="327" y="57"/>
                    </a:lnTo>
                    <a:lnTo>
                      <a:pt x="329" y="62"/>
                    </a:lnTo>
                    <a:lnTo>
                      <a:pt x="329" y="67"/>
                    </a:lnTo>
                    <a:lnTo>
                      <a:pt x="329" y="70"/>
                    </a:lnTo>
                    <a:lnTo>
                      <a:pt x="327" y="75"/>
                    </a:lnTo>
                    <a:lnTo>
                      <a:pt x="321" y="84"/>
                    </a:lnTo>
                    <a:lnTo>
                      <a:pt x="314" y="92"/>
                    </a:lnTo>
                    <a:lnTo>
                      <a:pt x="303" y="100"/>
                    </a:lnTo>
                    <a:lnTo>
                      <a:pt x="292" y="107"/>
                    </a:lnTo>
                    <a:lnTo>
                      <a:pt x="278" y="113"/>
                    </a:lnTo>
                    <a:lnTo>
                      <a:pt x="266" y="119"/>
                    </a:lnTo>
                    <a:lnTo>
                      <a:pt x="252" y="124"/>
                    </a:lnTo>
                    <a:lnTo>
                      <a:pt x="240" y="128"/>
                    </a:lnTo>
                    <a:lnTo>
                      <a:pt x="228" y="130"/>
                    </a:lnTo>
                    <a:lnTo>
                      <a:pt x="218" y="133"/>
                    </a:lnTo>
                    <a:lnTo>
                      <a:pt x="210" y="133"/>
                    </a:lnTo>
                    <a:lnTo>
                      <a:pt x="204" y="133"/>
                    </a:lnTo>
                    <a:lnTo>
                      <a:pt x="193" y="129"/>
                    </a:lnTo>
                    <a:lnTo>
                      <a:pt x="174" y="126"/>
                    </a:lnTo>
                    <a:lnTo>
                      <a:pt x="146" y="121"/>
                    </a:lnTo>
                    <a:lnTo>
                      <a:pt x="117" y="117"/>
                    </a:lnTo>
                    <a:lnTo>
                      <a:pt x="87" y="111"/>
                    </a:lnTo>
                    <a:lnTo>
                      <a:pt x="60" y="106"/>
                    </a:lnTo>
                    <a:lnTo>
                      <a:pt x="49" y="103"/>
                    </a:lnTo>
                    <a:lnTo>
                      <a:pt x="38" y="101"/>
                    </a:lnTo>
                    <a:lnTo>
                      <a:pt x="31" y="97"/>
                    </a:lnTo>
                    <a:lnTo>
                      <a:pt x="26" y="95"/>
                    </a:lnTo>
                    <a:close/>
                  </a:path>
                </a:pathLst>
              </a:custGeom>
              <a:solidFill>
                <a:srgbClr val="80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7121520" y="2846520"/>
                <a:ext cx="69840" cy="44280"/>
              </a:xfrm>
              <a:custGeom>
                <a:avLst/>
                <a:gdLst/>
                <a:ahLst/>
                <a:rect l="l" t="t" r="r" b="b"/>
                <a:pathLst>
                  <a:path w="219" h="140">
                    <a:moveTo>
                      <a:pt x="160" y="1"/>
                    </a:moveTo>
                    <a:lnTo>
                      <a:pt x="166" y="0"/>
                    </a:lnTo>
                    <a:lnTo>
                      <a:pt x="171" y="1"/>
                    </a:lnTo>
                    <a:lnTo>
                      <a:pt x="177" y="3"/>
                    </a:lnTo>
                    <a:lnTo>
                      <a:pt x="182" y="5"/>
                    </a:lnTo>
                    <a:lnTo>
                      <a:pt x="193" y="12"/>
                    </a:lnTo>
                    <a:lnTo>
                      <a:pt x="203" y="22"/>
                    </a:lnTo>
                    <a:lnTo>
                      <a:pt x="211" y="33"/>
                    </a:lnTo>
                    <a:lnTo>
                      <a:pt x="216" y="44"/>
                    </a:lnTo>
                    <a:lnTo>
                      <a:pt x="219" y="51"/>
                    </a:lnTo>
                    <a:lnTo>
                      <a:pt x="219" y="57"/>
                    </a:lnTo>
                    <a:lnTo>
                      <a:pt x="219" y="62"/>
                    </a:lnTo>
                    <a:lnTo>
                      <a:pt x="218" y="67"/>
                    </a:lnTo>
                    <a:lnTo>
                      <a:pt x="214" y="72"/>
                    </a:lnTo>
                    <a:lnTo>
                      <a:pt x="207" y="78"/>
                    </a:lnTo>
                    <a:lnTo>
                      <a:pt x="199" y="85"/>
                    </a:lnTo>
                    <a:lnTo>
                      <a:pt x="188" y="92"/>
                    </a:lnTo>
                    <a:lnTo>
                      <a:pt x="165" y="107"/>
                    </a:lnTo>
                    <a:lnTo>
                      <a:pt x="138" y="122"/>
                    </a:lnTo>
                    <a:lnTo>
                      <a:pt x="123" y="128"/>
                    </a:lnTo>
                    <a:lnTo>
                      <a:pt x="111" y="133"/>
                    </a:lnTo>
                    <a:lnTo>
                      <a:pt x="97" y="137"/>
                    </a:lnTo>
                    <a:lnTo>
                      <a:pt x="86" y="139"/>
                    </a:lnTo>
                    <a:lnTo>
                      <a:pt x="76" y="140"/>
                    </a:lnTo>
                    <a:lnTo>
                      <a:pt x="68" y="139"/>
                    </a:lnTo>
                    <a:lnTo>
                      <a:pt x="64" y="137"/>
                    </a:lnTo>
                    <a:lnTo>
                      <a:pt x="61" y="135"/>
                    </a:lnTo>
                    <a:lnTo>
                      <a:pt x="59" y="132"/>
                    </a:lnTo>
                    <a:lnTo>
                      <a:pt x="56" y="129"/>
                    </a:lnTo>
                    <a:lnTo>
                      <a:pt x="54" y="124"/>
                    </a:lnTo>
                    <a:lnTo>
                      <a:pt x="45" y="111"/>
                    </a:lnTo>
                    <a:lnTo>
                      <a:pt x="34" y="92"/>
                    </a:lnTo>
                    <a:lnTo>
                      <a:pt x="23" y="72"/>
                    </a:lnTo>
                    <a:lnTo>
                      <a:pt x="11" y="51"/>
                    </a:lnTo>
                    <a:lnTo>
                      <a:pt x="4" y="30"/>
                    </a:lnTo>
                    <a:lnTo>
                      <a:pt x="1" y="22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7" y="5"/>
                    </a:lnTo>
                    <a:lnTo>
                      <a:pt x="13" y="4"/>
                    </a:lnTo>
                    <a:lnTo>
                      <a:pt x="21" y="3"/>
                    </a:lnTo>
                    <a:lnTo>
                      <a:pt x="29" y="1"/>
                    </a:lnTo>
                    <a:lnTo>
                      <a:pt x="52" y="1"/>
                    </a:lnTo>
                    <a:lnTo>
                      <a:pt x="76" y="1"/>
                    </a:lnTo>
                    <a:lnTo>
                      <a:pt x="102" y="3"/>
                    </a:lnTo>
                    <a:lnTo>
                      <a:pt x="125" y="3"/>
                    </a:lnTo>
                    <a:lnTo>
                      <a:pt x="145" y="3"/>
                    </a:lnTo>
                    <a:lnTo>
                      <a:pt x="160" y="1"/>
                    </a:lnTo>
                    <a:close/>
                  </a:path>
                </a:pathLst>
              </a:custGeom>
              <a:solidFill>
                <a:srgbClr val="6f5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7126200" y="284796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184" h="120">
                    <a:moveTo>
                      <a:pt x="135" y="0"/>
                    </a:moveTo>
                    <a:lnTo>
                      <a:pt x="139" y="0"/>
                    </a:lnTo>
                    <a:lnTo>
                      <a:pt x="144" y="2"/>
                    </a:lnTo>
                    <a:lnTo>
                      <a:pt x="148" y="3"/>
                    </a:lnTo>
                    <a:lnTo>
                      <a:pt x="153" y="5"/>
                    </a:lnTo>
                    <a:lnTo>
                      <a:pt x="163" y="11"/>
                    </a:lnTo>
                    <a:lnTo>
                      <a:pt x="171" y="20"/>
                    </a:lnTo>
                    <a:lnTo>
                      <a:pt x="178" y="30"/>
                    </a:lnTo>
                    <a:lnTo>
                      <a:pt x="183" y="40"/>
                    </a:lnTo>
                    <a:lnTo>
                      <a:pt x="184" y="45"/>
                    </a:lnTo>
                    <a:lnTo>
                      <a:pt x="184" y="48"/>
                    </a:lnTo>
                    <a:lnTo>
                      <a:pt x="184" y="53"/>
                    </a:lnTo>
                    <a:lnTo>
                      <a:pt x="183" y="58"/>
                    </a:lnTo>
                    <a:lnTo>
                      <a:pt x="180" y="62"/>
                    </a:lnTo>
                    <a:lnTo>
                      <a:pt x="174" y="67"/>
                    </a:lnTo>
                    <a:lnTo>
                      <a:pt x="168" y="73"/>
                    </a:lnTo>
                    <a:lnTo>
                      <a:pt x="160" y="79"/>
                    </a:lnTo>
                    <a:lnTo>
                      <a:pt x="139" y="91"/>
                    </a:lnTo>
                    <a:lnTo>
                      <a:pt x="115" y="104"/>
                    </a:lnTo>
                    <a:lnTo>
                      <a:pt x="104" y="109"/>
                    </a:lnTo>
                    <a:lnTo>
                      <a:pt x="93" y="113"/>
                    </a:lnTo>
                    <a:lnTo>
                      <a:pt x="82" y="117"/>
                    </a:lnTo>
                    <a:lnTo>
                      <a:pt x="73" y="118"/>
                    </a:lnTo>
                    <a:lnTo>
                      <a:pt x="65" y="120"/>
                    </a:lnTo>
                    <a:lnTo>
                      <a:pt x="57" y="118"/>
                    </a:lnTo>
                    <a:lnTo>
                      <a:pt x="55" y="116"/>
                    </a:lnTo>
                    <a:lnTo>
                      <a:pt x="53" y="115"/>
                    </a:lnTo>
                    <a:lnTo>
                      <a:pt x="51" y="112"/>
                    </a:lnTo>
                    <a:lnTo>
                      <a:pt x="50" y="110"/>
                    </a:lnTo>
                    <a:lnTo>
                      <a:pt x="48" y="105"/>
                    </a:lnTo>
                    <a:lnTo>
                      <a:pt x="40" y="95"/>
                    </a:lnTo>
                    <a:lnTo>
                      <a:pt x="32" y="79"/>
                    </a:lnTo>
                    <a:lnTo>
                      <a:pt x="21" y="62"/>
                    </a:lnTo>
                    <a:lnTo>
                      <a:pt x="11" y="43"/>
                    </a:lnTo>
                    <a:lnTo>
                      <a:pt x="3" y="26"/>
                    </a:lnTo>
                    <a:lnTo>
                      <a:pt x="1" y="20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11" y="4"/>
                    </a:lnTo>
                    <a:lnTo>
                      <a:pt x="25" y="3"/>
                    </a:lnTo>
                    <a:lnTo>
                      <a:pt x="44" y="2"/>
                    </a:lnTo>
                    <a:lnTo>
                      <a:pt x="65" y="3"/>
                    </a:lnTo>
                    <a:lnTo>
                      <a:pt x="86" y="3"/>
                    </a:lnTo>
                    <a:lnTo>
                      <a:pt x="105" y="3"/>
                    </a:lnTo>
                    <a:lnTo>
                      <a:pt x="123" y="2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786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7130880" y="285120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48" h="95">
                    <a:moveTo>
                      <a:pt x="40" y="86"/>
                    </a:moveTo>
                    <a:lnTo>
                      <a:pt x="38" y="84"/>
                    </a:lnTo>
                    <a:lnTo>
                      <a:pt x="32" y="75"/>
                    </a:lnTo>
                    <a:lnTo>
                      <a:pt x="24" y="63"/>
                    </a:lnTo>
                    <a:lnTo>
                      <a:pt x="17" y="48"/>
                    </a:lnTo>
                    <a:lnTo>
                      <a:pt x="8" y="33"/>
                    </a:lnTo>
                    <a:lnTo>
                      <a:pt x="3" y="20"/>
                    </a:lnTo>
                    <a:lnTo>
                      <a:pt x="1" y="13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8" y="1"/>
                    </a:lnTo>
                    <a:lnTo>
                      <a:pt x="21" y="0"/>
                    </a:lnTo>
                    <a:lnTo>
                      <a:pt x="35" y="0"/>
                    </a:lnTo>
                    <a:lnTo>
                      <a:pt x="51" y="0"/>
                    </a:lnTo>
                    <a:lnTo>
                      <a:pt x="69" y="0"/>
                    </a:lnTo>
                    <a:lnTo>
                      <a:pt x="85" y="0"/>
                    </a:lnTo>
                    <a:lnTo>
                      <a:pt x="98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3" y="4"/>
                    </a:lnTo>
                    <a:lnTo>
                      <a:pt x="130" y="9"/>
                    </a:lnTo>
                    <a:lnTo>
                      <a:pt x="137" y="15"/>
                    </a:lnTo>
                    <a:lnTo>
                      <a:pt x="142" y="22"/>
                    </a:lnTo>
                    <a:lnTo>
                      <a:pt x="147" y="29"/>
                    </a:lnTo>
                    <a:lnTo>
                      <a:pt x="148" y="33"/>
                    </a:lnTo>
                    <a:lnTo>
                      <a:pt x="148" y="37"/>
                    </a:lnTo>
                    <a:lnTo>
                      <a:pt x="148" y="41"/>
                    </a:lnTo>
                    <a:lnTo>
                      <a:pt x="148" y="43"/>
                    </a:lnTo>
                    <a:lnTo>
                      <a:pt x="146" y="47"/>
                    </a:lnTo>
                    <a:lnTo>
                      <a:pt x="141" y="52"/>
                    </a:lnTo>
                    <a:lnTo>
                      <a:pt x="136" y="57"/>
                    </a:lnTo>
                    <a:lnTo>
                      <a:pt x="129" y="61"/>
                    </a:lnTo>
                    <a:lnTo>
                      <a:pt x="113" y="73"/>
                    </a:lnTo>
                    <a:lnTo>
                      <a:pt x="94" y="82"/>
                    </a:lnTo>
                    <a:lnTo>
                      <a:pt x="85" y="86"/>
                    </a:lnTo>
                    <a:lnTo>
                      <a:pt x="76" y="90"/>
                    </a:lnTo>
                    <a:lnTo>
                      <a:pt x="67" y="92"/>
                    </a:lnTo>
                    <a:lnTo>
                      <a:pt x="59" y="93"/>
                    </a:lnTo>
                    <a:lnTo>
                      <a:pt x="53" y="95"/>
                    </a:lnTo>
                    <a:lnTo>
                      <a:pt x="46" y="93"/>
                    </a:lnTo>
                    <a:lnTo>
                      <a:pt x="43" y="91"/>
                    </a:lnTo>
                    <a:lnTo>
                      <a:pt x="40" y="86"/>
                    </a:lnTo>
                    <a:close/>
                  </a:path>
                </a:pathLst>
              </a:custGeom>
              <a:solidFill>
                <a:srgbClr val="80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7077240" y="2533680"/>
                <a:ext cx="347400" cy="44640"/>
              </a:xfrm>
              <a:custGeom>
                <a:avLst/>
                <a:gdLst/>
                <a:ahLst/>
                <a:rect l="l" t="t" r="r" b="b"/>
                <a:pathLst>
                  <a:path w="1093" h="140">
                    <a:moveTo>
                      <a:pt x="833" y="136"/>
                    </a:moveTo>
                    <a:lnTo>
                      <a:pt x="820" y="134"/>
                    </a:lnTo>
                    <a:lnTo>
                      <a:pt x="786" y="129"/>
                    </a:lnTo>
                    <a:lnTo>
                      <a:pt x="737" y="122"/>
                    </a:lnTo>
                    <a:lnTo>
                      <a:pt x="679" y="113"/>
                    </a:lnTo>
                    <a:lnTo>
                      <a:pt x="618" y="104"/>
                    </a:lnTo>
                    <a:lnTo>
                      <a:pt x="563" y="97"/>
                    </a:lnTo>
                    <a:lnTo>
                      <a:pt x="520" y="91"/>
                    </a:lnTo>
                    <a:lnTo>
                      <a:pt x="493" y="87"/>
                    </a:lnTo>
                    <a:lnTo>
                      <a:pt x="474" y="85"/>
                    </a:lnTo>
                    <a:lnTo>
                      <a:pt x="447" y="84"/>
                    </a:lnTo>
                    <a:lnTo>
                      <a:pt x="415" y="84"/>
                    </a:lnTo>
                    <a:lnTo>
                      <a:pt x="381" y="85"/>
                    </a:lnTo>
                    <a:lnTo>
                      <a:pt x="344" y="87"/>
                    </a:lnTo>
                    <a:lnTo>
                      <a:pt x="308" y="91"/>
                    </a:lnTo>
                    <a:lnTo>
                      <a:pt x="278" y="93"/>
                    </a:lnTo>
                    <a:lnTo>
                      <a:pt x="252" y="98"/>
                    </a:lnTo>
                    <a:lnTo>
                      <a:pt x="227" y="103"/>
                    </a:lnTo>
                    <a:lnTo>
                      <a:pt x="200" y="108"/>
                    </a:lnTo>
                    <a:lnTo>
                      <a:pt x="171" y="113"/>
                    </a:lnTo>
                    <a:lnTo>
                      <a:pt x="140" y="118"/>
                    </a:lnTo>
                    <a:lnTo>
                      <a:pt x="109" y="123"/>
                    </a:lnTo>
                    <a:lnTo>
                      <a:pt x="77" y="128"/>
                    </a:lnTo>
                    <a:lnTo>
                      <a:pt x="45" y="134"/>
                    </a:lnTo>
                    <a:lnTo>
                      <a:pt x="14" y="139"/>
                    </a:lnTo>
                    <a:lnTo>
                      <a:pt x="8" y="139"/>
                    </a:lnTo>
                    <a:lnTo>
                      <a:pt x="5" y="140"/>
                    </a:lnTo>
                    <a:lnTo>
                      <a:pt x="1" y="139"/>
                    </a:lnTo>
                    <a:lnTo>
                      <a:pt x="0" y="138"/>
                    </a:lnTo>
                    <a:lnTo>
                      <a:pt x="1" y="136"/>
                    </a:lnTo>
                    <a:lnTo>
                      <a:pt x="2" y="134"/>
                    </a:lnTo>
                    <a:lnTo>
                      <a:pt x="6" y="130"/>
                    </a:lnTo>
                    <a:lnTo>
                      <a:pt x="11" y="128"/>
                    </a:lnTo>
                    <a:lnTo>
                      <a:pt x="23" y="119"/>
                    </a:lnTo>
                    <a:lnTo>
                      <a:pt x="41" y="109"/>
                    </a:lnTo>
                    <a:lnTo>
                      <a:pt x="62" y="100"/>
                    </a:lnTo>
                    <a:lnTo>
                      <a:pt x="87" y="87"/>
                    </a:lnTo>
                    <a:lnTo>
                      <a:pt x="142" y="64"/>
                    </a:lnTo>
                    <a:lnTo>
                      <a:pt x="201" y="41"/>
                    </a:lnTo>
                    <a:lnTo>
                      <a:pt x="231" y="31"/>
                    </a:lnTo>
                    <a:lnTo>
                      <a:pt x="259" y="21"/>
                    </a:lnTo>
                    <a:lnTo>
                      <a:pt x="286" y="13"/>
                    </a:lnTo>
                    <a:lnTo>
                      <a:pt x="311" y="9"/>
                    </a:lnTo>
                    <a:lnTo>
                      <a:pt x="335" y="4"/>
                    </a:lnTo>
                    <a:lnTo>
                      <a:pt x="360" y="1"/>
                    </a:lnTo>
                    <a:lnTo>
                      <a:pt x="387" y="0"/>
                    </a:lnTo>
                    <a:lnTo>
                      <a:pt x="414" y="0"/>
                    </a:lnTo>
                    <a:lnTo>
                      <a:pt x="444" y="1"/>
                    </a:lnTo>
                    <a:lnTo>
                      <a:pt x="473" y="2"/>
                    </a:lnTo>
                    <a:lnTo>
                      <a:pt x="503" y="5"/>
                    </a:lnTo>
                    <a:lnTo>
                      <a:pt x="534" y="9"/>
                    </a:lnTo>
                    <a:lnTo>
                      <a:pt x="594" y="16"/>
                    </a:lnTo>
                    <a:lnTo>
                      <a:pt x="654" y="23"/>
                    </a:lnTo>
                    <a:lnTo>
                      <a:pt x="711" y="29"/>
                    </a:lnTo>
                    <a:lnTo>
                      <a:pt x="762" y="33"/>
                    </a:lnTo>
                    <a:lnTo>
                      <a:pt x="787" y="34"/>
                    </a:lnTo>
                    <a:lnTo>
                      <a:pt x="814" y="38"/>
                    </a:lnTo>
                    <a:lnTo>
                      <a:pt x="841" y="42"/>
                    </a:lnTo>
                    <a:lnTo>
                      <a:pt x="868" y="45"/>
                    </a:lnTo>
                    <a:lnTo>
                      <a:pt x="924" y="55"/>
                    </a:lnTo>
                    <a:lnTo>
                      <a:pt x="975" y="65"/>
                    </a:lnTo>
                    <a:lnTo>
                      <a:pt x="1021" y="76"/>
                    </a:lnTo>
                    <a:lnTo>
                      <a:pt x="1058" y="85"/>
                    </a:lnTo>
                    <a:lnTo>
                      <a:pt x="1082" y="90"/>
                    </a:lnTo>
                    <a:lnTo>
                      <a:pt x="1091" y="92"/>
                    </a:lnTo>
                    <a:lnTo>
                      <a:pt x="1092" y="95"/>
                    </a:lnTo>
                    <a:lnTo>
                      <a:pt x="1093" y="102"/>
                    </a:lnTo>
                    <a:lnTo>
                      <a:pt x="1093" y="107"/>
                    </a:lnTo>
                    <a:lnTo>
                      <a:pt x="1090" y="111"/>
                    </a:lnTo>
                    <a:lnTo>
                      <a:pt x="1085" y="117"/>
                    </a:lnTo>
                    <a:lnTo>
                      <a:pt x="1077" y="122"/>
                    </a:lnTo>
                    <a:lnTo>
                      <a:pt x="1065" y="127"/>
                    </a:lnTo>
                    <a:lnTo>
                      <a:pt x="1049" y="130"/>
                    </a:lnTo>
                    <a:lnTo>
                      <a:pt x="1028" y="134"/>
                    </a:lnTo>
                    <a:lnTo>
                      <a:pt x="1002" y="138"/>
                    </a:lnTo>
                    <a:lnTo>
                      <a:pt x="970" y="139"/>
                    </a:lnTo>
                    <a:lnTo>
                      <a:pt x="932" y="139"/>
                    </a:lnTo>
                    <a:lnTo>
                      <a:pt x="887" y="139"/>
                    </a:lnTo>
                    <a:lnTo>
                      <a:pt x="833" y="136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7051680" y="2638440"/>
                <a:ext cx="317520" cy="123840"/>
              </a:xfrm>
              <a:custGeom>
                <a:avLst/>
                <a:gdLst/>
                <a:ahLst/>
                <a:rect l="l" t="t" r="r" b="b"/>
                <a:pathLst>
                  <a:path w="999" h="394">
                    <a:moveTo>
                      <a:pt x="860" y="363"/>
                    </a:moveTo>
                    <a:lnTo>
                      <a:pt x="873" y="336"/>
                    </a:lnTo>
                    <a:lnTo>
                      <a:pt x="866" y="331"/>
                    </a:lnTo>
                    <a:lnTo>
                      <a:pt x="844" y="319"/>
                    </a:lnTo>
                    <a:lnTo>
                      <a:pt x="811" y="299"/>
                    </a:lnTo>
                    <a:lnTo>
                      <a:pt x="772" y="278"/>
                    </a:lnTo>
                    <a:lnTo>
                      <a:pt x="732" y="255"/>
                    </a:lnTo>
                    <a:lnTo>
                      <a:pt x="694" y="234"/>
                    </a:lnTo>
                    <a:lnTo>
                      <a:pt x="661" y="217"/>
                    </a:lnTo>
                    <a:lnTo>
                      <a:pt x="637" y="206"/>
                    </a:lnTo>
                    <a:lnTo>
                      <a:pt x="614" y="194"/>
                    </a:lnTo>
                    <a:lnTo>
                      <a:pt x="582" y="178"/>
                    </a:lnTo>
                    <a:lnTo>
                      <a:pt x="541" y="159"/>
                    </a:lnTo>
                    <a:lnTo>
                      <a:pt x="497" y="138"/>
                    </a:lnTo>
                    <a:lnTo>
                      <a:pt x="450" y="117"/>
                    </a:lnTo>
                    <a:lnTo>
                      <a:pt x="403" y="100"/>
                    </a:lnTo>
                    <a:lnTo>
                      <a:pt x="381" y="92"/>
                    </a:lnTo>
                    <a:lnTo>
                      <a:pt x="360" y="86"/>
                    </a:lnTo>
                    <a:lnTo>
                      <a:pt x="341" y="83"/>
                    </a:lnTo>
                    <a:lnTo>
                      <a:pt x="322" y="80"/>
                    </a:lnTo>
                    <a:lnTo>
                      <a:pt x="304" y="79"/>
                    </a:lnTo>
                    <a:lnTo>
                      <a:pt x="283" y="79"/>
                    </a:lnTo>
                    <a:lnTo>
                      <a:pt x="259" y="79"/>
                    </a:lnTo>
                    <a:lnTo>
                      <a:pt x="235" y="80"/>
                    </a:lnTo>
                    <a:lnTo>
                      <a:pt x="182" y="83"/>
                    </a:lnTo>
                    <a:lnTo>
                      <a:pt x="128" y="87"/>
                    </a:lnTo>
                    <a:lnTo>
                      <a:pt x="80" y="91"/>
                    </a:lnTo>
                    <a:lnTo>
                      <a:pt x="39" y="95"/>
                    </a:lnTo>
                    <a:lnTo>
                      <a:pt x="12" y="99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0" y="97"/>
                    </a:lnTo>
                    <a:lnTo>
                      <a:pt x="0" y="95"/>
                    </a:lnTo>
                    <a:lnTo>
                      <a:pt x="1" y="92"/>
                    </a:lnTo>
                    <a:lnTo>
                      <a:pt x="4" y="90"/>
                    </a:lnTo>
                    <a:lnTo>
                      <a:pt x="7" y="87"/>
                    </a:lnTo>
                    <a:lnTo>
                      <a:pt x="21" y="79"/>
                    </a:lnTo>
                    <a:lnTo>
                      <a:pt x="43" y="69"/>
                    </a:lnTo>
                    <a:lnTo>
                      <a:pt x="77" y="55"/>
                    </a:lnTo>
                    <a:lnTo>
                      <a:pt x="127" y="39"/>
                    </a:lnTo>
                    <a:lnTo>
                      <a:pt x="181" y="25"/>
                    </a:lnTo>
                    <a:lnTo>
                      <a:pt x="227" y="12"/>
                    </a:lnTo>
                    <a:lnTo>
                      <a:pt x="250" y="8"/>
                    </a:lnTo>
                    <a:lnTo>
                      <a:pt x="272" y="4"/>
                    </a:lnTo>
                    <a:lnTo>
                      <a:pt x="291" y="1"/>
                    </a:lnTo>
                    <a:lnTo>
                      <a:pt x="311" y="0"/>
                    </a:lnTo>
                    <a:lnTo>
                      <a:pt x="330" y="0"/>
                    </a:lnTo>
                    <a:lnTo>
                      <a:pt x="348" y="1"/>
                    </a:lnTo>
                    <a:lnTo>
                      <a:pt x="366" y="4"/>
                    </a:lnTo>
                    <a:lnTo>
                      <a:pt x="385" y="8"/>
                    </a:lnTo>
                    <a:lnTo>
                      <a:pt x="403" y="11"/>
                    </a:lnTo>
                    <a:lnTo>
                      <a:pt x="422" y="17"/>
                    </a:lnTo>
                    <a:lnTo>
                      <a:pt x="442" y="26"/>
                    </a:lnTo>
                    <a:lnTo>
                      <a:pt x="461" y="35"/>
                    </a:lnTo>
                    <a:lnTo>
                      <a:pt x="502" y="54"/>
                    </a:lnTo>
                    <a:lnTo>
                      <a:pt x="544" y="74"/>
                    </a:lnTo>
                    <a:lnTo>
                      <a:pt x="587" y="94"/>
                    </a:lnTo>
                    <a:lnTo>
                      <a:pt x="627" y="113"/>
                    </a:lnTo>
                    <a:lnTo>
                      <a:pt x="665" y="132"/>
                    </a:lnTo>
                    <a:lnTo>
                      <a:pt x="699" y="149"/>
                    </a:lnTo>
                    <a:lnTo>
                      <a:pt x="727" y="165"/>
                    </a:lnTo>
                    <a:lnTo>
                      <a:pt x="749" y="178"/>
                    </a:lnTo>
                    <a:lnTo>
                      <a:pt x="771" y="196"/>
                    </a:lnTo>
                    <a:lnTo>
                      <a:pt x="803" y="220"/>
                    </a:lnTo>
                    <a:lnTo>
                      <a:pt x="839" y="249"/>
                    </a:lnTo>
                    <a:lnTo>
                      <a:pt x="878" y="279"/>
                    </a:lnTo>
                    <a:lnTo>
                      <a:pt x="918" y="310"/>
                    </a:lnTo>
                    <a:lnTo>
                      <a:pt x="952" y="336"/>
                    </a:lnTo>
                    <a:lnTo>
                      <a:pt x="967" y="346"/>
                    </a:lnTo>
                    <a:lnTo>
                      <a:pt x="980" y="354"/>
                    </a:lnTo>
                    <a:lnTo>
                      <a:pt x="991" y="361"/>
                    </a:lnTo>
                    <a:lnTo>
                      <a:pt x="999" y="363"/>
                    </a:lnTo>
                    <a:lnTo>
                      <a:pt x="996" y="365"/>
                    </a:lnTo>
                    <a:lnTo>
                      <a:pt x="991" y="373"/>
                    </a:lnTo>
                    <a:lnTo>
                      <a:pt x="988" y="377"/>
                    </a:lnTo>
                    <a:lnTo>
                      <a:pt x="982" y="381"/>
                    </a:lnTo>
                    <a:lnTo>
                      <a:pt x="975" y="385"/>
                    </a:lnTo>
                    <a:lnTo>
                      <a:pt x="968" y="389"/>
                    </a:lnTo>
                    <a:lnTo>
                      <a:pt x="959" y="391"/>
                    </a:lnTo>
                    <a:lnTo>
                      <a:pt x="950" y="392"/>
                    </a:lnTo>
                    <a:lnTo>
                      <a:pt x="939" y="394"/>
                    </a:lnTo>
                    <a:lnTo>
                      <a:pt x="925" y="391"/>
                    </a:lnTo>
                    <a:lnTo>
                      <a:pt x="912" y="389"/>
                    </a:lnTo>
                    <a:lnTo>
                      <a:pt x="896" y="383"/>
                    </a:lnTo>
                    <a:lnTo>
                      <a:pt x="878" y="374"/>
                    </a:lnTo>
                    <a:lnTo>
                      <a:pt x="860" y="36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7089840" y="2538360"/>
                <a:ext cx="317520" cy="39960"/>
              </a:xfrm>
              <a:custGeom>
                <a:avLst/>
                <a:gdLst/>
                <a:ahLst/>
                <a:rect l="l" t="t" r="r" b="b"/>
                <a:pathLst>
                  <a:path w="999" h="125">
                    <a:moveTo>
                      <a:pt x="270" y="9"/>
                    </a:moveTo>
                    <a:lnTo>
                      <a:pt x="294" y="4"/>
                    </a:lnTo>
                    <a:lnTo>
                      <a:pt x="319" y="2"/>
                    </a:lnTo>
                    <a:lnTo>
                      <a:pt x="346" y="0"/>
                    </a:lnTo>
                    <a:lnTo>
                      <a:pt x="373" y="0"/>
                    </a:lnTo>
                    <a:lnTo>
                      <a:pt x="400" y="2"/>
                    </a:lnTo>
                    <a:lnTo>
                      <a:pt x="430" y="4"/>
                    </a:lnTo>
                    <a:lnTo>
                      <a:pt x="458" y="7"/>
                    </a:lnTo>
                    <a:lnTo>
                      <a:pt x="488" y="10"/>
                    </a:lnTo>
                    <a:lnTo>
                      <a:pt x="545" y="18"/>
                    </a:lnTo>
                    <a:lnTo>
                      <a:pt x="603" y="25"/>
                    </a:lnTo>
                    <a:lnTo>
                      <a:pt x="659" y="32"/>
                    </a:lnTo>
                    <a:lnTo>
                      <a:pt x="710" y="36"/>
                    </a:lnTo>
                    <a:lnTo>
                      <a:pt x="735" y="37"/>
                    </a:lnTo>
                    <a:lnTo>
                      <a:pt x="760" y="40"/>
                    </a:lnTo>
                    <a:lnTo>
                      <a:pt x="784" y="42"/>
                    </a:lnTo>
                    <a:lnTo>
                      <a:pt x="809" y="46"/>
                    </a:lnTo>
                    <a:lnTo>
                      <a:pt x="855" y="53"/>
                    </a:lnTo>
                    <a:lnTo>
                      <a:pt x="899" y="62"/>
                    </a:lnTo>
                    <a:lnTo>
                      <a:pt x="935" y="71"/>
                    </a:lnTo>
                    <a:lnTo>
                      <a:pt x="965" y="78"/>
                    </a:lnTo>
                    <a:lnTo>
                      <a:pt x="983" y="83"/>
                    </a:lnTo>
                    <a:lnTo>
                      <a:pt x="990" y="85"/>
                    </a:lnTo>
                    <a:lnTo>
                      <a:pt x="993" y="87"/>
                    </a:lnTo>
                    <a:lnTo>
                      <a:pt x="997" y="93"/>
                    </a:lnTo>
                    <a:lnTo>
                      <a:pt x="999" y="96"/>
                    </a:lnTo>
                    <a:lnTo>
                      <a:pt x="999" y="100"/>
                    </a:lnTo>
                    <a:lnTo>
                      <a:pt x="997" y="105"/>
                    </a:lnTo>
                    <a:lnTo>
                      <a:pt x="993" y="109"/>
                    </a:lnTo>
                    <a:lnTo>
                      <a:pt x="985" y="114"/>
                    </a:lnTo>
                    <a:lnTo>
                      <a:pt x="974" y="117"/>
                    </a:lnTo>
                    <a:lnTo>
                      <a:pt x="958" y="120"/>
                    </a:lnTo>
                    <a:lnTo>
                      <a:pt x="938" y="122"/>
                    </a:lnTo>
                    <a:lnTo>
                      <a:pt x="911" y="125"/>
                    </a:lnTo>
                    <a:lnTo>
                      <a:pt x="879" y="125"/>
                    </a:lnTo>
                    <a:lnTo>
                      <a:pt x="838" y="125"/>
                    </a:lnTo>
                    <a:lnTo>
                      <a:pt x="792" y="123"/>
                    </a:lnTo>
                    <a:lnTo>
                      <a:pt x="779" y="121"/>
                    </a:lnTo>
                    <a:lnTo>
                      <a:pt x="745" y="116"/>
                    </a:lnTo>
                    <a:lnTo>
                      <a:pt x="696" y="109"/>
                    </a:lnTo>
                    <a:lnTo>
                      <a:pt x="638" y="100"/>
                    </a:lnTo>
                    <a:lnTo>
                      <a:pt x="577" y="91"/>
                    </a:lnTo>
                    <a:lnTo>
                      <a:pt x="522" y="84"/>
                    </a:lnTo>
                    <a:lnTo>
                      <a:pt x="479" y="78"/>
                    </a:lnTo>
                    <a:lnTo>
                      <a:pt x="452" y="74"/>
                    </a:lnTo>
                    <a:lnTo>
                      <a:pt x="433" y="72"/>
                    </a:lnTo>
                    <a:lnTo>
                      <a:pt x="406" y="71"/>
                    </a:lnTo>
                    <a:lnTo>
                      <a:pt x="374" y="71"/>
                    </a:lnTo>
                    <a:lnTo>
                      <a:pt x="340" y="72"/>
                    </a:lnTo>
                    <a:lnTo>
                      <a:pt x="303" y="74"/>
                    </a:lnTo>
                    <a:lnTo>
                      <a:pt x="267" y="78"/>
                    </a:lnTo>
                    <a:lnTo>
                      <a:pt x="237" y="80"/>
                    </a:lnTo>
                    <a:lnTo>
                      <a:pt x="211" y="85"/>
                    </a:lnTo>
                    <a:lnTo>
                      <a:pt x="191" y="89"/>
                    </a:lnTo>
                    <a:lnTo>
                      <a:pt x="168" y="93"/>
                    </a:lnTo>
                    <a:lnTo>
                      <a:pt x="144" y="98"/>
                    </a:lnTo>
                    <a:lnTo>
                      <a:pt x="119" y="101"/>
                    </a:lnTo>
                    <a:lnTo>
                      <a:pt x="93" y="105"/>
                    </a:lnTo>
                    <a:lnTo>
                      <a:pt x="67" y="110"/>
                    </a:lnTo>
                    <a:lnTo>
                      <a:pt x="42" y="114"/>
                    </a:lnTo>
                    <a:lnTo>
                      <a:pt x="18" y="117"/>
                    </a:lnTo>
                    <a:lnTo>
                      <a:pt x="10" y="119"/>
                    </a:lnTo>
                    <a:lnTo>
                      <a:pt x="5" y="117"/>
                    </a:lnTo>
                    <a:lnTo>
                      <a:pt x="3" y="117"/>
                    </a:lnTo>
                    <a:lnTo>
                      <a:pt x="0" y="116"/>
                    </a:lnTo>
                    <a:lnTo>
                      <a:pt x="0" y="115"/>
                    </a:lnTo>
                    <a:lnTo>
                      <a:pt x="0" y="112"/>
                    </a:lnTo>
                    <a:lnTo>
                      <a:pt x="3" y="110"/>
                    </a:lnTo>
                    <a:lnTo>
                      <a:pt x="7" y="107"/>
                    </a:lnTo>
                    <a:lnTo>
                      <a:pt x="16" y="101"/>
                    </a:lnTo>
                    <a:lnTo>
                      <a:pt x="30" y="94"/>
                    </a:lnTo>
                    <a:lnTo>
                      <a:pt x="47" y="85"/>
                    </a:lnTo>
                    <a:lnTo>
                      <a:pt x="67" y="77"/>
                    </a:lnTo>
                    <a:lnTo>
                      <a:pt x="115" y="57"/>
                    </a:lnTo>
                    <a:lnTo>
                      <a:pt x="167" y="39"/>
                    </a:lnTo>
                    <a:lnTo>
                      <a:pt x="194" y="30"/>
                    </a:lnTo>
                    <a:lnTo>
                      <a:pt x="221" y="21"/>
                    </a:lnTo>
                    <a:lnTo>
                      <a:pt x="245" y="14"/>
                    </a:lnTo>
                    <a:lnTo>
                      <a:pt x="270" y="9"/>
                    </a:lnTo>
                    <a:close/>
                  </a:path>
                </a:pathLst>
              </a:custGeom>
              <a:solidFill>
                <a:srgbClr val="625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104240" y="2543400"/>
                <a:ext cx="288720" cy="34920"/>
              </a:xfrm>
              <a:custGeom>
                <a:avLst/>
                <a:gdLst/>
                <a:ahLst/>
                <a:rect l="l" t="t" r="r" b="b"/>
                <a:pathLst>
                  <a:path w="907" h="110">
                    <a:moveTo>
                      <a:pt x="228" y="8"/>
                    </a:moveTo>
                    <a:lnTo>
                      <a:pt x="253" y="4"/>
                    </a:lnTo>
                    <a:lnTo>
                      <a:pt x="278" y="1"/>
                    </a:lnTo>
                    <a:lnTo>
                      <a:pt x="303" y="0"/>
                    </a:lnTo>
                    <a:lnTo>
                      <a:pt x="329" y="0"/>
                    </a:lnTo>
                    <a:lnTo>
                      <a:pt x="356" y="1"/>
                    </a:lnTo>
                    <a:lnTo>
                      <a:pt x="383" y="4"/>
                    </a:lnTo>
                    <a:lnTo>
                      <a:pt x="410" y="6"/>
                    </a:lnTo>
                    <a:lnTo>
                      <a:pt x="439" y="10"/>
                    </a:lnTo>
                    <a:lnTo>
                      <a:pt x="494" y="17"/>
                    </a:lnTo>
                    <a:lnTo>
                      <a:pt x="549" y="26"/>
                    </a:lnTo>
                    <a:lnTo>
                      <a:pt x="602" y="32"/>
                    </a:lnTo>
                    <a:lnTo>
                      <a:pt x="653" y="37"/>
                    </a:lnTo>
                    <a:lnTo>
                      <a:pt x="701" y="41"/>
                    </a:lnTo>
                    <a:lnTo>
                      <a:pt x="745" y="46"/>
                    </a:lnTo>
                    <a:lnTo>
                      <a:pt x="784" y="53"/>
                    </a:lnTo>
                    <a:lnTo>
                      <a:pt x="820" y="59"/>
                    </a:lnTo>
                    <a:lnTo>
                      <a:pt x="848" y="67"/>
                    </a:lnTo>
                    <a:lnTo>
                      <a:pt x="871" y="73"/>
                    </a:lnTo>
                    <a:lnTo>
                      <a:pt x="884" y="76"/>
                    </a:lnTo>
                    <a:lnTo>
                      <a:pt x="889" y="78"/>
                    </a:lnTo>
                    <a:lnTo>
                      <a:pt x="893" y="80"/>
                    </a:lnTo>
                    <a:lnTo>
                      <a:pt x="900" y="84"/>
                    </a:lnTo>
                    <a:lnTo>
                      <a:pt x="904" y="88"/>
                    </a:lnTo>
                    <a:lnTo>
                      <a:pt x="906" y="90"/>
                    </a:lnTo>
                    <a:lnTo>
                      <a:pt x="907" y="94"/>
                    </a:lnTo>
                    <a:lnTo>
                      <a:pt x="907" y="97"/>
                    </a:lnTo>
                    <a:lnTo>
                      <a:pt x="904" y="100"/>
                    </a:lnTo>
                    <a:lnTo>
                      <a:pt x="896" y="104"/>
                    </a:lnTo>
                    <a:lnTo>
                      <a:pt x="885" y="106"/>
                    </a:lnTo>
                    <a:lnTo>
                      <a:pt x="869" y="107"/>
                    </a:lnTo>
                    <a:lnTo>
                      <a:pt x="848" y="110"/>
                    </a:lnTo>
                    <a:lnTo>
                      <a:pt x="821" y="110"/>
                    </a:lnTo>
                    <a:lnTo>
                      <a:pt x="788" y="110"/>
                    </a:lnTo>
                    <a:lnTo>
                      <a:pt x="748" y="108"/>
                    </a:lnTo>
                    <a:lnTo>
                      <a:pt x="735" y="106"/>
                    </a:lnTo>
                    <a:lnTo>
                      <a:pt x="701" y="101"/>
                    </a:lnTo>
                    <a:lnTo>
                      <a:pt x="652" y="94"/>
                    </a:lnTo>
                    <a:lnTo>
                      <a:pt x="594" y="85"/>
                    </a:lnTo>
                    <a:lnTo>
                      <a:pt x="533" y="76"/>
                    </a:lnTo>
                    <a:lnTo>
                      <a:pt x="478" y="69"/>
                    </a:lnTo>
                    <a:lnTo>
                      <a:pt x="435" y="63"/>
                    </a:lnTo>
                    <a:lnTo>
                      <a:pt x="408" y="59"/>
                    </a:lnTo>
                    <a:lnTo>
                      <a:pt x="389" y="57"/>
                    </a:lnTo>
                    <a:lnTo>
                      <a:pt x="362" y="56"/>
                    </a:lnTo>
                    <a:lnTo>
                      <a:pt x="330" y="56"/>
                    </a:lnTo>
                    <a:lnTo>
                      <a:pt x="296" y="57"/>
                    </a:lnTo>
                    <a:lnTo>
                      <a:pt x="259" y="59"/>
                    </a:lnTo>
                    <a:lnTo>
                      <a:pt x="223" y="63"/>
                    </a:lnTo>
                    <a:lnTo>
                      <a:pt x="193" y="65"/>
                    </a:lnTo>
                    <a:lnTo>
                      <a:pt x="167" y="70"/>
                    </a:lnTo>
                    <a:lnTo>
                      <a:pt x="151" y="73"/>
                    </a:lnTo>
                    <a:lnTo>
                      <a:pt x="132" y="76"/>
                    </a:lnTo>
                    <a:lnTo>
                      <a:pt x="114" y="79"/>
                    </a:lnTo>
                    <a:lnTo>
                      <a:pt x="95" y="83"/>
                    </a:lnTo>
                    <a:lnTo>
                      <a:pt x="76" y="85"/>
                    </a:lnTo>
                    <a:lnTo>
                      <a:pt x="56" y="89"/>
                    </a:lnTo>
                    <a:lnTo>
                      <a:pt x="38" y="91"/>
                    </a:lnTo>
                    <a:lnTo>
                      <a:pt x="19" y="94"/>
                    </a:lnTo>
                    <a:lnTo>
                      <a:pt x="8" y="95"/>
                    </a:lnTo>
                    <a:lnTo>
                      <a:pt x="1" y="94"/>
                    </a:lnTo>
                    <a:lnTo>
                      <a:pt x="0" y="92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2" y="86"/>
                    </a:lnTo>
                    <a:lnTo>
                      <a:pt x="8" y="83"/>
                    </a:lnTo>
                    <a:lnTo>
                      <a:pt x="18" y="76"/>
                    </a:lnTo>
                    <a:lnTo>
                      <a:pt x="31" y="70"/>
                    </a:lnTo>
                    <a:lnTo>
                      <a:pt x="47" y="63"/>
                    </a:lnTo>
                    <a:lnTo>
                      <a:pt x="87" y="48"/>
                    </a:lnTo>
                    <a:lnTo>
                      <a:pt x="132" y="33"/>
                    </a:lnTo>
                    <a:lnTo>
                      <a:pt x="180" y="19"/>
                    </a:lnTo>
                    <a:lnTo>
                      <a:pt x="228" y="8"/>
                    </a:lnTo>
                    <a:close/>
                  </a:path>
                </a:pathLst>
              </a:custGeom>
              <a:solidFill>
                <a:srgbClr val="5c4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7116840" y="2548080"/>
                <a:ext cx="261720" cy="28440"/>
              </a:xfrm>
              <a:custGeom>
                <a:avLst/>
                <a:gdLst/>
                <a:ahLst/>
                <a:rect l="l" t="t" r="r" b="b"/>
                <a:pathLst>
                  <a:path w="827" h="92">
                    <a:moveTo>
                      <a:pt x="189" y="8"/>
                    </a:moveTo>
                    <a:lnTo>
                      <a:pt x="214" y="4"/>
                    </a:lnTo>
                    <a:lnTo>
                      <a:pt x="239" y="1"/>
                    </a:lnTo>
                    <a:lnTo>
                      <a:pt x="263" y="0"/>
                    </a:lnTo>
                    <a:lnTo>
                      <a:pt x="288" y="0"/>
                    </a:lnTo>
                    <a:lnTo>
                      <a:pt x="314" y="1"/>
                    </a:lnTo>
                    <a:lnTo>
                      <a:pt x="341" y="3"/>
                    </a:lnTo>
                    <a:lnTo>
                      <a:pt x="366" y="5"/>
                    </a:lnTo>
                    <a:lnTo>
                      <a:pt x="394" y="9"/>
                    </a:lnTo>
                    <a:lnTo>
                      <a:pt x="446" y="16"/>
                    </a:lnTo>
                    <a:lnTo>
                      <a:pt x="499" y="25"/>
                    </a:lnTo>
                    <a:lnTo>
                      <a:pt x="526" y="29"/>
                    </a:lnTo>
                    <a:lnTo>
                      <a:pt x="552" y="31"/>
                    </a:lnTo>
                    <a:lnTo>
                      <a:pt x="578" y="33"/>
                    </a:lnTo>
                    <a:lnTo>
                      <a:pt x="603" y="35"/>
                    </a:lnTo>
                    <a:lnTo>
                      <a:pt x="648" y="38"/>
                    </a:lnTo>
                    <a:lnTo>
                      <a:pt x="688" y="43"/>
                    </a:lnTo>
                    <a:lnTo>
                      <a:pt x="721" y="48"/>
                    </a:lnTo>
                    <a:lnTo>
                      <a:pt x="747" y="54"/>
                    </a:lnTo>
                    <a:lnTo>
                      <a:pt x="768" y="59"/>
                    </a:lnTo>
                    <a:lnTo>
                      <a:pt x="781" y="63"/>
                    </a:lnTo>
                    <a:lnTo>
                      <a:pt x="790" y="67"/>
                    </a:lnTo>
                    <a:lnTo>
                      <a:pt x="793" y="68"/>
                    </a:lnTo>
                    <a:lnTo>
                      <a:pt x="797" y="69"/>
                    </a:lnTo>
                    <a:lnTo>
                      <a:pt x="808" y="72"/>
                    </a:lnTo>
                    <a:lnTo>
                      <a:pt x="814" y="74"/>
                    </a:lnTo>
                    <a:lnTo>
                      <a:pt x="819" y="76"/>
                    </a:lnTo>
                    <a:lnTo>
                      <a:pt x="824" y="79"/>
                    </a:lnTo>
                    <a:lnTo>
                      <a:pt x="827" y="81"/>
                    </a:lnTo>
                    <a:lnTo>
                      <a:pt x="827" y="83"/>
                    </a:lnTo>
                    <a:lnTo>
                      <a:pt x="827" y="84"/>
                    </a:lnTo>
                    <a:lnTo>
                      <a:pt x="825" y="85"/>
                    </a:lnTo>
                    <a:lnTo>
                      <a:pt x="824" y="86"/>
                    </a:lnTo>
                    <a:lnTo>
                      <a:pt x="817" y="89"/>
                    </a:lnTo>
                    <a:lnTo>
                      <a:pt x="807" y="90"/>
                    </a:lnTo>
                    <a:lnTo>
                      <a:pt x="791" y="91"/>
                    </a:lnTo>
                    <a:lnTo>
                      <a:pt x="770" y="92"/>
                    </a:lnTo>
                    <a:lnTo>
                      <a:pt x="743" y="92"/>
                    </a:lnTo>
                    <a:lnTo>
                      <a:pt x="709" y="92"/>
                    </a:lnTo>
                    <a:lnTo>
                      <a:pt x="696" y="90"/>
                    </a:lnTo>
                    <a:lnTo>
                      <a:pt x="662" y="85"/>
                    </a:lnTo>
                    <a:lnTo>
                      <a:pt x="613" y="78"/>
                    </a:lnTo>
                    <a:lnTo>
                      <a:pt x="555" y="69"/>
                    </a:lnTo>
                    <a:lnTo>
                      <a:pt x="494" y="60"/>
                    </a:lnTo>
                    <a:lnTo>
                      <a:pt x="439" y="53"/>
                    </a:lnTo>
                    <a:lnTo>
                      <a:pt x="396" y="47"/>
                    </a:lnTo>
                    <a:lnTo>
                      <a:pt x="369" y="43"/>
                    </a:lnTo>
                    <a:lnTo>
                      <a:pt x="350" y="41"/>
                    </a:lnTo>
                    <a:lnTo>
                      <a:pt x="323" y="40"/>
                    </a:lnTo>
                    <a:lnTo>
                      <a:pt x="291" y="40"/>
                    </a:lnTo>
                    <a:lnTo>
                      <a:pt x="257" y="41"/>
                    </a:lnTo>
                    <a:lnTo>
                      <a:pt x="220" y="43"/>
                    </a:lnTo>
                    <a:lnTo>
                      <a:pt x="184" y="47"/>
                    </a:lnTo>
                    <a:lnTo>
                      <a:pt x="154" y="49"/>
                    </a:lnTo>
                    <a:lnTo>
                      <a:pt x="128" y="54"/>
                    </a:lnTo>
                    <a:lnTo>
                      <a:pt x="116" y="56"/>
                    </a:lnTo>
                    <a:lnTo>
                      <a:pt x="103" y="58"/>
                    </a:lnTo>
                    <a:lnTo>
                      <a:pt x="90" y="60"/>
                    </a:lnTo>
                    <a:lnTo>
                      <a:pt x="77" y="63"/>
                    </a:lnTo>
                    <a:lnTo>
                      <a:pt x="64" y="65"/>
                    </a:lnTo>
                    <a:lnTo>
                      <a:pt x="52" y="67"/>
                    </a:lnTo>
                    <a:lnTo>
                      <a:pt x="38" y="69"/>
                    </a:lnTo>
                    <a:lnTo>
                      <a:pt x="27" y="70"/>
                    </a:lnTo>
                    <a:lnTo>
                      <a:pt x="13" y="70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1" y="68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4" y="63"/>
                    </a:lnTo>
                    <a:lnTo>
                      <a:pt x="10" y="59"/>
                    </a:lnTo>
                    <a:lnTo>
                      <a:pt x="18" y="54"/>
                    </a:lnTo>
                    <a:lnTo>
                      <a:pt x="31" y="51"/>
                    </a:lnTo>
                    <a:lnTo>
                      <a:pt x="61" y="40"/>
                    </a:lnTo>
                    <a:lnTo>
                      <a:pt x="101" y="30"/>
                    </a:lnTo>
                    <a:lnTo>
                      <a:pt x="144" y="19"/>
                    </a:lnTo>
                    <a:lnTo>
                      <a:pt x="189" y="8"/>
                    </a:lnTo>
                    <a:close/>
                  </a:path>
                </a:pathLst>
              </a:custGeom>
              <a:solidFill>
                <a:srgbClr val="574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7129440" y="2552760"/>
                <a:ext cx="238320" cy="23760"/>
              </a:xfrm>
              <a:custGeom>
                <a:avLst/>
                <a:gdLst/>
                <a:ahLst/>
                <a:rect l="l" t="t" r="r" b="b"/>
                <a:pathLst>
                  <a:path w="752" h="77">
                    <a:moveTo>
                      <a:pt x="671" y="77"/>
                    </a:moveTo>
                    <a:lnTo>
                      <a:pt x="658" y="75"/>
                    </a:lnTo>
                    <a:lnTo>
                      <a:pt x="624" y="70"/>
                    </a:lnTo>
                    <a:lnTo>
                      <a:pt x="575" y="63"/>
                    </a:lnTo>
                    <a:lnTo>
                      <a:pt x="517" y="54"/>
                    </a:lnTo>
                    <a:lnTo>
                      <a:pt x="456" y="45"/>
                    </a:lnTo>
                    <a:lnTo>
                      <a:pt x="401" y="38"/>
                    </a:lnTo>
                    <a:lnTo>
                      <a:pt x="358" y="32"/>
                    </a:lnTo>
                    <a:lnTo>
                      <a:pt x="331" y="28"/>
                    </a:lnTo>
                    <a:lnTo>
                      <a:pt x="312" y="26"/>
                    </a:lnTo>
                    <a:lnTo>
                      <a:pt x="285" y="25"/>
                    </a:lnTo>
                    <a:lnTo>
                      <a:pt x="253" y="26"/>
                    </a:lnTo>
                    <a:lnTo>
                      <a:pt x="219" y="27"/>
                    </a:lnTo>
                    <a:lnTo>
                      <a:pt x="182" y="30"/>
                    </a:lnTo>
                    <a:lnTo>
                      <a:pt x="146" y="33"/>
                    </a:lnTo>
                    <a:lnTo>
                      <a:pt x="116" y="36"/>
                    </a:lnTo>
                    <a:lnTo>
                      <a:pt x="90" y="39"/>
                    </a:lnTo>
                    <a:lnTo>
                      <a:pt x="82" y="41"/>
                    </a:lnTo>
                    <a:lnTo>
                      <a:pt x="74" y="43"/>
                    </a:lnTo>
                    <a:lnTo>
                      <a:pt x="66" y="44"/>
                    </a:lnTo>
                    <a:lnTo>
                      <a:pt x="59" y="45"/>
                    </a:lnTo>
                    <a:lnTo>
                      <a:pt x="52" y="45"/>
                    </a:lnTo>
                    <a:lnTo>
                      <a:pt x="44" y="47"/>
                    </a:lnTo>
                    <a:lnTo>
                      <a:pt x="38" y="47"/>
                    </a:lnTo>
                    <a:lnTo>
                      <a:pt x="32" y="47"/>
                    </a:lnTo>
                    <a:lnTo>
                      <a:pt x="10" y="47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4" y="42"/>
                    </a:lnTo>
                    <a:lnTo>
                      <a:pt x="9" y="39"/>
                    </a:lnTo>
                    <a:lnTo>
                      <a:pt x="17" y="37"/>
                    </a:lnTo>
                    <a:lnTo>
                      <a:pt x="41" y="31"/>
                    </a:lnTo>
                    <a:lnTo>
                      <a:pt x="71" y="25"/>
                    </a:lnTo>
                    <a:lnTo>
                      <a:pt x="111" y="16"/>
                    </a:lnTo>
                    <a:lnTo>
                      <a:pt x="155" y="6"/>
                    </a:lnTo>
                    <a:lnTo>
                      <a:pt x="178" y="2"/>
                    </a:lnTo>
                    <a:lnTo>
                      <a:pt x="202" y="0"/>
                    </a:lnTo>
                    <a:lnTo>
                      <a:pt x="226" y="0"/>
                    </a:lnTo>
                    <a:lnTo>
                      <a:pt x="251" y="0"/>
                    </a:lnTo>
                    <a:lnTo>
                      <a:pt x="276" y="1"/>
                    </a:lnTo>
                    <a:lnTo>
                      <a:pt x="300" y="4"/>
                    </a:lnTo>
                    <a:lnTo>
                      <a:pt x="326" y="6"/>
                    </a:lnTo>
                    <a:lnTo>
                      <a:pt x="351" y="10"/>
                    </a:lnTo>
                    <a:lnTo>
                      <a:pt x="401" y="18"/>
                    </a:lnTo>
                    <a:lnTo>
                      <a:pt x="452" y="26"/>
                    </a:lnTo>
                    <a:lnTo>
                      <a:pt x="477" y="30"/>
                    </a:lnTo>
                    <a:lnTo>
                      <a:pt x="502" y="32"/>
                    </a:lnTo>
                    <a:lnTo>
                      <a:pt x="527" y="34"/>
                    </a:lnTo>
                    <a:lnTo>
                      <a:pt x="551" y="36"/>
                    </a:lnTo>
                    <a:lnTo>
                      <a:pt x="595" y="39"/>
                    </a:lnTo>
                    <a:lnTo>
                      <a:pt x="629" y="43"/>
                    </a:lnTo>
                    <a:lnTo>
                      <a:pt x="655" y="48"/>
                    </a:lnTo>
                    <a:lnTo>
                      <a:pt x="672" y="52"/>
                    </a:lnTo>
                    <a:lnTo>
                      <a:pt x="684" y="55"/>
                    </a:lnTo>
                    <a:lnTo>
                      <a:pt x="691" y="58"/>
                    </a:lnTo>
                    <a:lnTo>
                      <a:pt x="694" y="60"/>
                    </a:lnTo>
                    <a:lnTo>
                      <a:pt x="695" y="60"/>
                    </a:lnTo>
                    <a:lnTo>
                      <a:pt x="701" y="61"/>
                    </a:lnTo>
                    <a:lnTo>
                      <a:pt x="715" y="64"/>
                    </a:lnTo>
                    <a:lnTo>
                      <a:pt x="731" y="66"/>
                    </a:lnTo>
                    <a:lnTo>
                      <a:pt x="746" y="70"/>
                    </a:lnTo>
                    <a:lnTo>
                      <a:pt x="749" y="71"/>
                    </a:lnTo>
                    <a:lnTo>
                      <a:pt x="752" y="73"/>
                    </a:lnTo>
                    <a:lnTo>
                      <a:pt x="750" y="74"/>
                    </a:lnTo>
                    <a:lnTo>
                      <a:pt x="744" y="75"/>
                    </a:lnTo>
                    <a:lnTo>
                      <a:pt x="720" y="77"/>
                    </a:lnTo>
                    <a:lnTo>
                      <a:pt x="671" y="77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7072200" y="2644920"/>
                <a:ext cx="285840" cy="114120"/>
              </a:xfrm>
              <a:custGeom>
                <a:avLst/>
                <a:gdLst/>
                <a:ahLst/>
                <a:rect l="l" t="t" r="r" b="b"/>
                <a:pathLst>
                  <a:path w="899" h="361">
                    <a:moveTo>
                      <a:pt x="405" y="39"/>
                    </a:moveTo>
                    <a:lnTo>
                      <a:pt x="444" y="58"/>
                    </a:lnTo>
                    <a:lnTo>
                      <a:pt x="482" y="76"/>
                    </a:lnTo>
                    <a:lnTo>
                      <a:pt x="520" y="93"/>
                    </a:lnTo>
                    <a:lnTo>
                      <a:pt x="556" y="109"/>
                    </a:lnTo>
                    <a:lnTo>
                      <a:pt x="588" y="125"/>
                    </a:lnTo>
                    <a:lnTo>
                      <a:pt x="617" y="140"/>
                    </a:lnTo>
                    <a:lnTo>
                      <a:pt x="643" y="154"/>
                    </a:lnTo>
                    <a:lnTo>
                      <a:pt x="663" y="166"/>
                    </a:lnTo>
                    <a:lnTo>
                      <a:pt x="685" y="183"/>
                    </a:lnTo>
                    <a:lnTo>
                      <a:pt x="715" y="205"/>
                    </a:lnTo>
                    <a:lnTo>
                      <a:pt x="749" y="232"/>
                    </a:lnTo>
                    <a:lnTo>
                      <a:pt x="786" y="259"/>
                    </a:lnTo>
                    <a:lnTo>
                      <a:pt x="823" y="286"/>
                    </a:lnTo>
                    <a:lnTo>
                      <a:pt x="855" y="309"/>
                    </a:lnTo>
                    <a:lnTo>
                      <a:pt x="870" y="317"/>
                    </a:lnTo>
                    <a:lnTo>
                      <a:pt x="882" y="325"/>
                    </a:lnTo>
                    <a:lnTo>
                      <a:pt x="892" y="329"/>
                    </a:lnTo>
                    <a:lnTo>
                      <a:pt x="899" y="332"/>
                    </a:lnTo>
                    <a:lnTo>
                      <a:pt x="898" y="334"/>
                    </a:lnTo>
                    <a:lnTo>
                      <a:pt x="895" y="341"/>
                    </a:lnTo>
                    <a:lnTo>
                      <a:pt x="892" y="344"/>
                    </a:lnTo>
                    <a:lnTo>
                      <a:pt x="889" y="348"/>
                    </a:lnTo>
                    <a:lnTo>
                      <a:pt x="884" y="352"/>
                    </a:lnTo>
                    <a:lnTo>
                      <a:pt x="879" y="355"/>
                    </a:lnTo>
                    <a:lnTo>
                      <a:pt x="873" y="358"/>
                    </a:lnTo>
                    <a:lnTo>
                      <a:pt x="866" y="360"/>
                    </a:lnTo>
                    <a:lnTo>
                      <a:pt x="857" y="361"/>
                    </a:lnTo>
                    <a:lnTo>
                      <a:pt x="848" y="361"/>
                    </a:lnTo>
                    <a:lnTo>
                      <a:pt x="836" y="359"/>
                    </a:lnTo>
                    <a:lnTo>
                      <a:pt x="825" y="355"/>
                    </a:lnTo>
                    <a:lnTo>
                      <a:pt x="811" y="350"/>
                    </a:lnTo>
                    <a:lnTo>
                      <a:pt x="796" y="343"/>
                    </a:lnTo>
                    <a:lnTo>
                      <a:pt x="809" y="316"/>
                    </a:lnTo>
                    <a:lnTo>
                      <a:pt x="802" y="311"/>
                    </a:lnTo>
                    <a:lnTo>
                      <a:pt x="780" y="299"/>
                    </a:lnTo>
                    <a:lnTo>
                      <a:pt x="747" y="279"/>
                    </a:lnTo>
                    <a:lnTo>
                      <a:pt x="708" y="258"/>
                    </a:lnTo>
                    <a:lnTo>
                      <a:pt x="668" y="235"/>
                    </a:lnTo>
                    <a:lnTo>
                      <a:pt x="630" y="214"/>
                    </a:lnTo>
                    <a:lnTo>
                      <a:pt x="597" y="197"/>
                    </a:lnTo>
                    <a:lnTo>
                      <a:pt x="573" y="186"/>
                    </a:lnTo>
                    <a:lnTo>
                      <a:pt x="550" y="174"/>
                    </a:lnTo>
                    <a:lnTo>
                      <a:pt x="518" y="158"/>
                    </a:lnTo>
                    <a:lnTo>
                      <a:pt x="477" y="139"/>
                    </a:lnTo>
                    <a:lnTo>
                      <a:pt x="433" y="118"/>
                    </a:lnTo>
                    <a:lnTo>
                      <a:pt x="386" y="97"/>
                    </a:lnTo>
                    <a:lnTo>
                      <a:pt x="339" y="80"/>
                    </a:lnTo>
                    <a:lnTo>
                      <a:pt x="317" y="72"/>
                    </a:lnTo>
                    <a:lnTo>
                      <a:pt x="296" y="66"/>
                    </a:lnTo>
                    <a:lnTo>
                      <a:pt x="277" y="63"/>
                    </a:lnTo>
                    <a:lnTo>
                      <a:pt x="258" y="60"/>
                    </a:lnTo>
                    <a:lnTo>
                      <a:pt x="221" y="59"/>
                    </a:lnTo>
                    <a:lnTo>
                      <a:pt x="179" y="59"/>
                    </a:lnTo>
                    <a:lnTo>
                      <a:pt x="138" y="61"/>
                    </a:lnTo>
                    <a:lnTo>
                      <a:pt x="96" y="64"/>
                    </a:lnTo>
                    <a:lnTo>
                      <a:pt x="58" y="67"/>
                    </a:lnTo>
                    <a:lnTo>
                      <a:pt x="28" y="71"/>
                    </a:lnTo>
                    <a:lnTo>
                      <a:pt x="7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1" y="69"/>
                    </a:lnTo>
                    <a:lnTo>
                      <a:pt x="7" y="64"/>
                    </a:lnTo>
                    <a:lnTo>
                      <a:pt x="18" y="58"/>
                    </a:lnTo>
                    <a:lnTo>
                      <a:pt x="37" y="50"/>
                    </a:lnTo>
                    <a:lnTo>
                      <a:pt x="65" y="40"/>
                    </a:lnTo>
                    <a:lnTo>
                      <a:pt x="103" y="28"/>
                    </a:lnTo>
                    <a:lnTo>
                      <a:pt x="149" y="16"/>
                    </a:lnTo>
                    <a:lnTo>
                      <a:pt x="189" y="6"/>
                    </a:lnTo>
                    <a:lnTo>
                      <a:pt x="209" y="3"/>
                    </a:lnTo>
                    <a:lnTo>
                      <a:pt x="227" y="1"/>
                    </a:lnTo>
                    <a:lnTo>
                      <a:pt x="245" y="0"/>
                    </a:lnTo>
                    <a:lnTo>
                      <a:pt x="262" y="0"/>
                    </a:lnTo>
                    <a:lnTo>
                      <a:pt x="279" y="1"/>
                    </a:lnTo>
                    <a:lnTo>
                      <a:pt x="296" y="2"/>
                    </a:lnTo>
                    <a:lnTo>
                      <a:pt x="314" y="6"/>
                    </a:lnTo>
                    <a:lnTo>
                      <a:pt x="331" y="10"/>
                    </a:lnTo>
                    <a:lnTo>
                      <a:pt x="349" y="16"/>
                    </a:lnTo>
                    <a:lnTo>
                      <a:pt x="366" y="22"/>
                    </a:lnTo>
                    <a:lnTo>
                      <a:pt x="385" y="29"/>
                    </a:lnTo>
                    <a:lnTo>
                      <a:pt x="405" y="39"/>
                    </a:lnTo>
                    <a:close/>
                  </a:path>
                </a:pathLst>
              </a:custGeom>
              <a:solidFill>
                <a:srgbClr val="5f4e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7093080" y="2649600"/>
                <a:ext cx="253800" cy="106560"/>
              </a:xfrm>
              <a:custGeom>
                <a:avLst/>
                <a:gdLst/>
                <a:ahLst/>
                <a:rect l="l" t="t" r="r" b="b"/>
                <a:pathLst>
                  <a:path w="799" h="333">
                    <a:moveTo>
                      <a:pt x="346" y="47"/>
                    </a:moveTo>
                    <a:lnTo>
                      <a:pt x="384" y="64"/>
                    </a:lnTo>
                    <a:lnTo>
                      <a:pt x="420" y="81"/>
                    </a:lnTo>
                    <a:lnTo>
                      <a:pt x="453" y="96"/>
                    </a:lnTo>
                    <a:lnTo>
                      <a:pt x="484" y="109"/>
                    </a:lnTo>
                    <a:lnTo>
                      <a:pt x="511" y="122"/>
                    </a:lnTo>
                    <a:lnTo>
                      <a:pt x="535" y="135"/>
                    </a:lnTo>
                    <a:lnTo>
                      <a:pt x="557" y="148"/>
                    </a:lnTo>
                    <a:lnTo>
                      <a:pt x="576" y="160"/>
                    </a:lnTo>
                    <a:lnTo>
                      <a:pt x="598" y="176"/>
                    </a:lnTo>
                    <a:lnTo>
                      <a:pt x="626" y="197"/>
                    </a:lnTo>
                    <a:lnTo>
                      <a:pt x="658" y="220"/>
                    </a:lnTo>
                    <a:lnTo>
                      <a:pt x="693" y="244"/>
                    </a:lnTo>
                    <a:lnTo>
                      <a:pt x="726" y="267"/>
                    </a:lnTo>
                    <a:lnTo>
                      <a:pt x="757" y="287"/>
                    </a:lnTo>
                    <a:lnTo>
                      <a:pt x="770" y="294"/>
                    </a:lnTo>
                    <a:lnTo>
                      <a:pt x="783" y="300"/>
                    </a:lnTo>
                    <a:lnTo>
                      <a:pt x="791" y="305"/>
                    </a:lnTo>
                    <a:lnTo>
                      <a:pt x="799" y="308"/>
                    </a:lnTo>
                    <a:lnTo>
                      <a:pt x="799" y="309"/>
                    </a:lnTo>
                    <a:lnTo>
                      <a:pt x="797" y="314"/>
                    </a:lnTo>
                    <a:lnTo>
                      <a:pt x="795" y="320"/>
                    </a:lnTo>
                    <a:lnTo>
                      <a:pt x="790" y="326"/>
                    </a:lnTo>
                    <a:lnTo>
                      <a:pt x="786" y="328"/>
                    </a:lnTo>
                    <a:lnTo>
                      <a:pt x="781" y="331"/>
                    </a:lnTo>
                    <a:lnTo>
                      <a:pt x="776" y="332"/>
                    </a:lnTo>
                    <a:lnTo>
                      <a:pt x="769" y="333"/>
                    </a:lnTo>
                    <a:lnTo>
                      <a:pt x="762" y="333"/>
                    </a:lnTo>
                    <a:lnTo>
                      <a:pt x="753" y="332"/>
                    </a:lnTo>
                    <a:lnTo>
                      <a:pt x="743" y="330"/>
                    </a:lnTo>
                    <a:lnTo>
                      <a:pt x="731" y="326"/>
                    </a:lnTo>
                    <a:lnTo>
                      <a:pt x="744" y="299"/>
                    </a:lnTo>
                    <a:lnTo>
                      <a:pt x="737" y="294"/>
                    </a:lnTo>
                    <a:lnTo>
                      <a:pt x="715" y="282"/>
                    </a:lnTo>
                    <a:lnTo>
                      <a:pt x="682" y="262"/>
                    </a:lnTo>
                    <a:lnTo>
                      <a:pt x="643" y="241"/>
                    </a:lnTo>
                    <a:lnTo>
                      <a:pt x="603" y="218"/>
                    </a:lnTo>
                    <a:lnTo>
                      <a:pt x="565" y="197"/>
                    </a:lnTo>
                    <a:lnTo>
                      <a:pt x="532" y="180"/>
                    </a:lnTo>
                    <a:lnTo>
                      <a:pt x="508" y="169"/>
                    </a:lnTo>
                    <a:lnTo>
                      <a:pt x="485" y="157"/>
                    </a:lnTo>
                    <a:lnTo>
                      <a:pt x="453" y="141"/>
                    </a:lnTo>
                    <a:lnTo>
                      <a:pt x="412" y="122"/>
                    </a:lnTo>
                    <a:lnTo>
                      <a:pt x="368" y="101"/>
                    </a:lnTo>
                    <a:lnTo>
                      <a:pt x="321" y="80"/>
                    </a:lnTo>
                    <a:lnTo>
                      <a:pt x="274" y="63"/>
                    </a:lnTo>
                    <a:lnTo>
                      <a:pt x="252" y="55"/>
                    </a:lnTo>
                    <a:lnTo>
                      <a:pt x="231" y="49"/>
                    </a:lnTo>
                    <a:lnTo>
                      <a:pt x="212" y="46"/>
                    </a:lnTo>
                    <a:lnTo>
                      <a:pt x="193" y="43"/>
                    </a:lnTo>
                    <a:lnTo>
                      <a:pt x="159" y="42"/>
                    </a:lnTo>
                    <a:lnTo>
                      <a:pt x="126" y="41"/>
                    </a:lnTo>
                    <a:lnTo>
                      <a:pt x="92" y="42"/>
                    </a:lnTo>
                    <a:lnTo>
                      <a:pt x="63" y="43"/>
                    </a:lnTo>
                    <a:lnTo>
                      <a:pt x="38" y="46"/>
                    </a:lnTo>
                    <a:lnTo>
                      <a:pt x="17" y="47"/>
                    </a:lnTo>
                    <a:lnTo>
                      <a:pt x="5" y="48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8"/>
                    </a:lnTo>
                    <a:lnTo>
                      <a:pt x="1" y="46"/>
                    </a:lnTo>
                    <a:lnTo>
                      <a:pt x="6" y="43"/>
                    </a:lnTo>
                    <a:lnTo>
                      <a:pt x="15" y="38"/>
                    </a:lnTo>
                    <a:lnTo>
                      <a:pt x="30" y="33"/>
                    </a:lnTo>
                    <a:lnTo>
                      <a:pt x="52" y="26"/>
                    </a:lnTo>
                    <a:lnTo>
                      <a:pt x="81" y="16"/>
                    </a:lnTo>
                    <a:lnTo>
                      <a:pt x="118" y="7"/>
                    </a:lnTo>
                    <a:lnTo>
                      <a:pt x="150" y="2"/>
                    </a:lnTo>
                    <a:lnTo>
                      <a:pt x="166" y="0"/>
                    </a:lnTo>
                    <a:lnTo>
                      <a:pt x="181" y="0"/>
                    </a:lnTo>
                    <a:lnTo>
                      <a:pt x="197" y="0"/>
                    </a:lnTo>
                    <a:lnTo>
                      <a:pt x="212" y="1"/>
                    </a:lnTo>
                    <a:lnTo>
                      <a:pt x="226" y="2"/>
                    </a:lnTo>
                    <a:lnTo>
                      <a:pt x="242" y="6"/>
                    </a:lnTo>
                    <a:lnTo>
                      <a:pt x="257" y="10"/>
                    </a:lnTo>
                    <a:lnTo>
                      <a:pt x="273" y="15"/>
                    </a:lnTo>
                    <a:lnTo>
                      <a:pt x="290" y="21"/>
                    </a:lnTo>
                    <a:lnTo>
                      <a:pt x="308" y="28"/>
                    </a:lnTo>
                    <a:lnTo>
                      <a:pt x="326" y="37"/>
                    </a:lnTo>
                    <a:lnTo>
                      <a:pt x="346" y="47"/>
                    </a:lnTo>
                    <a:close/>
                  </a:path>
                </a:pathLst>
              </a:custGeom>
              <a:solidFill>
                <a:srgbClr val="5a4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7113600" y="2654280"/>
                <a:ext cx="222120" cy="98640"/>
              </a:xfrm>
              <a:custGeom>
                <a:avLst/>
                <a:gdLst/>
                <a:ahLst/>
                <a:rect l="l" t="t" r="r" b="b"/>
                <a:pathLst>
                  <a:path w="701" h="311">
                    <a:moveTo>
                      <a:pt x="668" y="311"/>
                    </a:moveTo>
                    <a:lnTo>
                      <a:pt x="681" y="284"/>
                    </a:lnTo>
                    <a:lnTo>
                      <a:pt x="674" y="279"/>
                    </a:lnTo>
                    <a:lnTo>
                      <a:pt x="652" y="267"/>
                    </a:lnTo>
                    <a:lnTo>
                      <a:pt x="619" y="247"/>
                    </a:lnTo>
                    <a:lnTo>
                      <a:pt x="580" y="226"/>
                    </a:lnTo>
                    <a:lnTo>
                      <a:pt x="540" y="203"/>
                    </a:lnTo>
                    <a:lnTo>
                      <a:pt x="502" y="182"/>
                    </a:lnTo>
                    <a:lnTo>
                      <a:pt x="469" y="165"/>
                    </a:lnTo>
                    <a:lnTo>
                      <a:pt x="445" y="154"/>
                    </a:lnTo>
                    <a:lnTo>
                      <a:pt x="422" y="142"/>
                    </a:lnTo>
                    <a:lnTo>
                      <a:pt x="390" y="126"/>
                    </a:lnTo>
                    <a:lnTo>
                      <a:pt x="349" y="107"/>
                    </a:lnTo>
                    <a:lnTo>
                      <a:pt x="305" y="86"/>
                    </a:lnTo>
                    <a:lnTo>
                      <a:pt x="258" y="65"/>
                    </a:lnTo>
                    <a:lnTo>
                      <a:pt x="211" y="48"/>
                    </a:lnTo>
                    <a:lnTo>
                      <a:pt x="189" y="40"/>
                    </a:lnTo>
                    <a:lnTo>
                      <a:pt x="168" y="34"/>
                    </a:lnTo>
                    <a:lnTo>
                      <a:pt x="149" y="31"/>
                    </a:lnTo>
                    <a:lnTo>
                      <a:pt x="130" y="28"/>
                    </a:lnTo>
                    <a:lnTo>
                      <a:pt x="99" y="26"/>
                    </a:lnTo>
                    <a:lnTo>
                      <a:pt x="72" y="26"/>
                    </a:lnTo>
                    <a:lnTo>
                      <a:pt x="49" y="24"/>
                    </a:lnTo>
                    <a:lnTo>
                      <a:pt x="32" y="26"/>
                    </a:lnTo>
                    <a:lnTo>
                      <a:pt x="17" y="27"/>
                    </a:lnTo>
                    <a:lnTo>
                      <a:pt x="7" y="27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3" y="26"/>
                    </a:lnTo>
                    <a:lnTo>
                      <a:pt x="7" y="24"/>
                    </a:lnTo>
                    <a:lnTo>
                      <a:pt x="15" y="22"/>
                    </a:lnTo>
                    <a:lnTo>
                      <a:pt x="24" y="18"/>
                    </a:lnTo>
                    <a:lnTo>
                      <a:pt x="40" y="15"/>
                    </a:lnTo>
                    <a:lnTo>
                      <a:pt x="60" y="10"/>
                    </a:lnTo>
                    <a:lnTo>
                      <a:pt x="74" y="6"/>
                    </a:lnTo>
                    <a:lnTo>
                      <a:pt x="87" y="3"/>
                    </a:lnTo>
                    <a:lnTo>
                      <a:pt x="101" y="1"/>
                    </a:lnTo>
                    <a:lnTo>
                      <a:pt x="114" y="0"/>
                    </a:lnTo>
                    <a:lnTo>
                      <a:pt x="127" y="0"/>
                    </a:lnTo>
                    <a:lnTo>
                      <a:pt x="139" y="0"/>
                    </a:lnTo>
                    <a:lnTo>
                      <a:pt x="152" y="2"/>
                    </a:lnTo>
                    <a:lnTo>
                      <a:pt x="165" y="3"/>
                    </a:lnTo>
                    <a:lnTo>
                      <a:pt x="177" y="7"/>
                    </a:lnTo>
                    <a:lnTo>
                      <a:pt x="190" y="12"/>
                    </a:lnTo>
                    <a:lnTo>
                      <a:pt x="205" y="17"/>
                    </a:lnTo>
                    <a:lnTo>
                      <a:pt x="220" y="22"/>
                    </a:lnTo>
                    <a:lnTo>
                      <a:pt x="252" y="37"/>
                    </a:lnTo>
                    <a:lnTo>
                      <a:pt x="288" y="55"/>
                    </a:lnTo>
                    <a:lnTo>
                      <a:pt x="325" y="74"/>
                    </a:lnTo>
                    <a:lnTo>
                      <a:pt x="358" y="88"/>
                    </a:lnTo>
                    <a:lnTo>
                      <a:pt x="386" y="101"/>
                    </a:lnTo>
                    <a:lnTo>
                      <a:pt x="412" y="112"/>
                    </a:lnTo>
                    <a:lnTo>
                      <a:pt x="435" y="122"/>
                    </a:lnTo>
                    <a:lnTo>
                      <a:pt x="455" y="131"/>
                    </a:lnTo>
                    <a:lnTo>
                      <a:pt x="473" y="142"/>
                    </a:lnTo>
                    <a:lnTo>
                      <a:pt x="492" y="154"/>
                    </a:lnTo>
                    <a:lnTo>
                      <a:pt x="513" y="168"/>
                    </a:lnTo>
                    <a:lnTo>
                      <a:pt x="539" y="187"/>
                    </a:lnTo>
                    <a:lnTo>
                      <a:pt x="568" y="208"/>
                    </a:lnTo>
                    <a:lnTo>
                      <a:pt x="600" y="229"/>
                    </a:lnTo>
                    <a:lnTo>
                      <a:pt x="631" y="248"/>
                    </a:lnTo>
                    <a:lnTo>
                      <a:pt x="658" y="265"/>
                    </a:lnTo>
                    <a:lnTo>
                      <a:pt x="670" y="273"/>
                    </a:lnTo>
                    <a:lnTo>
                      <a:pt x="681" y="278"/>
                    </a:lnTo>
                    <a:lnTo>
                      <a:pt x="691" y="281"/>
                    </a:lnTo>
                    <a:lnTo>
                      <a:pt x="699" y="284"/>
                    </a:lnTo>
                    <a:lnTo>
                      <a:pt x="699" y="285"/>
                    </a:lnTo>
                    <a:lnTo>
                      <a:pt x="700" y="289"/>
                    </a:lnTo>
                    <a:lnTo>
                      <a:pt x="701" y="294"/>
                    </a:lnTo>
                    <a:lnTo>
                      <a:pt x="700" y="299"/>
                    </a:lnTo>
                    <a:lnTo>
                      <a:pt x="700" y="301"/>
                    </a:lnTo>
                    <a:lnTo>
                      <a:pt x="697" y="304"/>
                    </a:lnTo>
                    <a:lnTo>
                      <a:pt x="696" y="306"/>
                    </a:lnTo>
                    <a:lnTo>
                      <a:pt x="692" y="309"/>
                    </a:lnTo>
                    <a:lnTo>
                      <a:pt x="688" y="310"/>
                    </a:lnTo>
                    <a:lnTo>
                      <a:pt x="683" y="311"/>
                    </a:lnTo>
                    <a:lnTo>
                      <a:pt x="676" y="311"/>
                    </a:lnTo>
                    <a:lnTo>
                      <a:pt x="668" y="311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7002360" y="2602080"/>
                <a:ext cx="184320" cy="61920"/>
              </a:xfrm>
              <a:custGeom>
                <a:avLst/>
                <a:gdLst/>
                <a:ahLst/>
                <a:rect l="l" t="t" r="r" b="b"/>
                <a:pathLst>
                  <a:path w="579" h="191">
                    <a:moveTo>
                      <a:pt x="13" y="105"/>
                    </a:moveTo>
                    <a:lnTo>
                      <a:pt x="14" y="104"/>
                    </a:lnTo>
                    <a:lnTo>
                      <a:pt x="17" y="103"/>
                    </a:lnTo>
                    <a:lnTo>
                      <a:pt x="24" y="100"/>
                    </a:lnTo>
                    <a:lnTo>
                      <a:pt x="37" y="95"/>
                    </a:lnTo>
                    <a:lnTo>
                      <a:pt x="54" y="90"/>
                    </a:lnTo>
                    <a:lnTo>
                      <a:pt x="80" y="83"/>
                    </a:lnTo>
                    <a:lnTo>
                      <a:pt x="115" y="74"/>
                    </a:lnTo>
                    <a:lnTo>
                      <a:pt x="161" y="64"/>
                    </a:lnTo>
                    <a:lnTo>
                      <a:pt x="210" y="53"/>
                    </a:lnTo>
                    <a:lnTo>
                      <a:pt x="257" y="42"/>
                    </a:lnTo>
                    <a:lnTo>
                      <a:pt x="300" y="31"/>
                    </a:lnTo>
                    <a:lnTo>
                      <a:pt x="339" y="23"/>
                    </a:lnTo>
                    <a:lnTo>
                      <a:pt x="374" y="14"/>
                    </a:lnTo>
                    <a:lnTo>
                      <a:pt x="406" y="8"/>
                    </a:lnTo>
                    <a:lnTo>
                      <a:pt x="433" y="4"/>
                    </a:lnTo>
                    <a:lnTo>
                      <a:pt x="456" y="2"/>
                    </a:lnTo>
                    <a:lnTo>
                      <a:pt x="477" y="0"/>
                    </a:lnTo>
                    <a:lnTo>
                      <a:pt x="499" y="0"/>
                    </a:lnTo>
                    <a:lnTo>
                      <a:pt x="520" y="3"/>
                    </a:lnTo>
                    <a:lnTo>
                      <a:pt x="538" y="5"/>
                    </a:lnTo>
                    <a:lnTo>
                      <a:pt x="547" y="8"/>
                    </a:lnTo>
                    <a:lnTo>
                      <a:pt x="556" y="11"/>
                    </a:lnTo>
                    <a:lnTo>
                      <a:pt x="563" y="15"/>
                    </a:lnTo>
                    <a:lnTo>
                      <a:pt x="568" y="19"/>
                    </a:lnTo>
                    <a:lnTo>
                      <a:pt x="573" y="25"/>
                    </a:lnTo>
                    <a:lnTo>
                      <a:pt x="577" y="30"/>
                    </a:lnTo>
                    <a:lnTo>
                      <a:pt x="578" y="37"/>
                    </a:lnTo>
                    <a:lnTo>
                      <a:pt x="579" y="45"/>
                    </a:lnTo>
                    <a:lnTo>
                      <a:pt x="577" y="52"/>
                    </a:lnTo>
                    <a:lnTo>
                      <a:pt x="573" y="59"/>
                    </a:lnTo>
                    <a:lnTo>
                      <a:pt x="567" y="66"/>
                    </a:lnTo>
                    <a:lnTo>
                      <a:pt x="558" y="73"/>
                    </a:lnTo>
                    <a:lnTo>
                      <a:pt x="548" y="79"/>
                    </a:lnTo>
                    <a:lnTo>
                      <a:pt x="538" y="84"/>
                    </a:lnTo>
                    <a:lnTo>
                      <a:pt x="526" y="90"/>
                    </a:lnTo>
                    <a:lnTo>
                      <a:pt x="513" y="95"/>
                    </a:lnTo>
                    <a:lnTo>
                      <a:pt x="482" y="105"/>
                    </a:lnTo>
                    <a:lnTo>
                      <a:pt x="450" y="115"/>
                    </a:lnTo>
                    <a:lnTo>
                      <a:pt x="415" y="123"/>
                    </a:lnTo>
                    <a:lnTo>
                      <a:pt x="380" y="132"/>
                    </a:lnTo>
                    <a:lnTo>
                      <a:pt x="344" y="141"/>
                    </a:lnTo>
                    <a:lnTo>
                      <a:pt x="306" y="150"/>
                    </a:lnTo>
                    <a:lnTo>
                      <a:pt x="267" y="160"/>
                    </a:lnTo>
                    <a:lnTo>
                      <a:pt x="227" y="170"/>
                    </a:lnTo>
                    <a:lnTo>
                      <a:pt x="189" y="178"/>
                    </a:lnTo>
                    <a:lnTo>
                      <a:pt x="153" y="185"/>
                    </a:lnTo>
                    <a:lnTo>
                      <a:pt x="120" y="189"/>
                    </a:lnTo>
                    <a:lnTo>
                      <a:pt x="92" y="191"/>
                    </a:lnTo>
                    <a:lnTo>
                      <a:pt x="80" y="191"/>
                    </a:lnTo>
                    <a:lnTo>
                      <a:pt x="67" y="190"/>
                    </a:lnTo>
                    <a:lnTo>
                      <a:pt x="56" y="187"/>
                    </a:lnTo>
                    <a:lnTo>
                      <a:pt x="45" y="184"/>
                    </a:lnTo>
                    <a:lnTo>
                      <a:pt x="35" y="180"/>
                    </a:lnTo>
                    <a:lnTo>
                      <a:pt x="27" y="175"/>
                    </a:lnTo>
                    <a:lnTo>
                      <a:pt x="19" y="169"/>
                    </a:lnTo>
                    <a:lnTo>
                      <a:pt x="12" y="163"/>
                    </a:lnTo>
                    <a:lnTo>
                      <a:pt x="7" y="155"/>
                    </a:lnTo>
                    <a:lnTo>
                      <a:pt x="3" y="148"/>
                    </a:lnTo>
                    <a:lnTo>
                      <a:pt x="0" y="141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2" y="119"/>
                    </a:lnTo>
                    <a:lnTo>
                      <a:pt x="7" y="111"/>
                    </a:lnTo>
                    <a:lnTo>
                      <a:pt x="13" y="105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7013520" y="2562480"/>
                <a:ext cx="184320" cy="56880"/>
              </a:xfrm>
              <a:custGeom>
                <a:avLst/>
                <a:gdLst/>
                <a:ahLst/>
                <a:rect l="l" t="t" r="r" b="b"/>
                <a:pathLst>
                  <a:path w="579" h="178">
                    <a:moveTo>
                      <a:pt x="14" y="93"/>
                    </a:moveTo>
                    <a:lnTo>
                      <a:pt x="15" y="93"/>
                    </a:lnTo>
                    <a:lnTo>
                      <a:pt x="18" y="91"/>
                    </a:lnTo>
                    <a:lnTo>
                      <a:pt x="25" y="89"/>
                    </a:lnTo>
                    <a:lnTo>
                      <a:pt x="37" y="84"/>
                    </a:lnTo>
                    <a:lnTo>
                      <a:pt x="56" y="77"/>
                    </a:lnTo>
                    <a:lnTo>
                      <a:pt x="82" y="70"/>
                    </a:lnTo>
                    <a:lnTo>
                      <a:pt x="117" y="60"/>
                    </a:lnTo>
                    <a:lnTo>
                      <a:pt x="164" y="50"/>
                    </a:lnTo>
                    <a:lnTo>
                      <a:pt x="213" y="39"/>
                    </a:lnTo>
                    <a:lnTo>
                      <a:pt x="261" y="31"/>
                    </a:lnTo>
                    <a:lnTo>
                      <a:pt x="305" y="23"/>
                    </a:lnTo>
                    <a:lnTo>
                      <a:pt x="347" y="17"/>
                    </a:lnTo>
                    <a:lnTo>
                      <a:pt x="385" y="12"/>
                    </a:lnTo>
                    <a:lnTo>
                      <a:pt x="419" y="9"/>
                    </a:lnTo>
                    <a:lnTo>
                      <a:pt x="447" y="6"/>
                    </a:lnTo>
                    <a:lnTo>
                      <a:pt x="470" y="4"/>
                    </a:lnTo>
                    <a:lnTo>
                      <a:pt x="491" y="2"/>
                    </a:lnTo>
                    <a:lnTo>
                      <a:pt x="512" y="1"/>
                    </a:lnTo>
                    <a:lnTo>
                      <a:pt x="531" y="0"/>
                    </a:lnTo>
                    <a:lnTo>
                      <a:pt x="547" y="0"/>
                    </a:lnTo>
                    <a:lnTo>
                      <a:pt x="554" y="1"/>
                    </a:lnTo>
                    <a:lnTo>
                      <a:pt x="561" y="2"/>
                    </a:lnTo>
                    <a:lnTo>
                      <a:pt x="566" y="5"/>
                    </a:lnTo>
                    <a:lnTo>
                      <a:pt x="571" y="9"/>
                    </a:lnTo>
                    <a:lnTo>
                      <a:pt x="575" y="12"/>
                    </a:lnTo>
                    <a:lnTo>
                      <a:pt x="577" y="17"/>
                    </a:lnTo>
                    <a:lnTo>
                      <a:pt x="579" y="23"/>
                    </a:lnTo>
                    <a:lnTo>
                      <a:pt x="579" y="31"/>
                    </a:lnTo>
                    <a:lnTo>
                      <a:pt x="577" y="39"/>
                    </a:lnTo>
                    <a:lnTo>
                      <a:pt x="574" y="47"/>
                    </a:lnTo>
                    <a:lnTo>
                      <a:pt x="567" y="54"/>
                    </a:lnTo>
                    <a:lnTo>
                      <a:pt x="560" y="60"/>
                    </a:lnTo>
                    <a:lnTo>
                      <a:pt x="550" y="66"/>
                    </a:lnTo>
                    <a:lnTo>
                      <a:pt x="539" y="73"/>
                    </a:lnTo>
                    <a:lnTo>
                      <a:pt x="527" y="77"/>
                    </a:lnTo>
                    <a:lnTo>
                      <a:pt x="513" y="82"/>
                    </a:lnTo>
                    <a:lnTo>
                      <a:pt x="484" y="92"/>
                    </a:lnTo>
                    <a:lnTo>
                      <a:pt x="451" y="102"/>
                    </a:lnTo>
                    <a:lnTo>
                      <a:pt x="416" y="111"/>
                    </a:lnTo>
                    <a:lnTo>
                      <a:pt x="380" y="118"/>
                    </a:lnTo>
                    <a:lnTo>
                      <a:pt x="346" y="128"/>
                    </a:lnTo>
                    <a:lnTo>
                      <a:pt x="308" y="138"/>
                    </a:lnTo>
                    <a:lnTo>
                      <a:pt x="269" y="148"/>
                    </a:lnTo>
                    <a:lnTo>
                      <a:pt x="229" y="156"/>
                    </a:lnTo>
                    <a:lnTo>
                      <a:pt x="191" y="165"/>
                    </a:lnTo>
                    <a:lnTo>
                      <a:pt x="155" y="171"/>
                    </a:lnTo>
                    <a:lnTo>
                      <a:pt x="122" y="176"/>
                    </a:lnTo>
                    <a:lnTo>
                      <a:pt x="93" y="178"/>
                    </a:lnTo>
                    <a:lnTo>
                      <a:pt x="80" y="178"/>
                    </a:lnTo>
                    <a:lnTo>
                      <a:pt x="68" y="177"/>
                    </a:lnTo>
                    <a:lnTo>
                      <a:pt x="57" y="175"/>
                    </a:lnTo>
                    <a:lnTo>
                      <a:pt x="46" y="171"/>
                    </a:lnTo>
                    <a:lnTo>
                      <a:pt x="37" y="166"/>
                    </a:lnTo>
                    <a:lnTo>
                      <a:pt x="27" y="161"/>
                    </a:lnTo>
                    <a:lnTo>
                      <a:pt x="20" y="155"/>
                    </a:lnTo>
                    <a:lnTo>
                      <a:pt x="14" y="149"/>
                    </a:lnTo>
                    <a:lnTo>
                      <a:pt x="8" y="143"/>
                    </a:lnTo>
                    <a:lnTo>
                      <a:pt x="4" y="135"/>
                    </a:lnTo>
                    <a:lnTo>
                      <a:pt x="2" y="128"/>
                    </a:lnTo>
                    <a:lnTo>
                      <a:pt x="0" y="121"/>
                    </a:lnTo>
                    <a:lnTo>
                      <a:pt x="2" y="114"/>
                    </a:lnTo>
                    <a:lnTo>
                      <a:pt x="4" y="107"/>
                    </a:lnTo>
                    <a:lnTo>
                      <a:pt x="8" y="100"/>
                    </a:lnTo>
                    <a:lnTo>
                      <a:pt x="14" y="9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7012080" y="2664000"/>
                <a:ext cx="160200" cy="46080"/>
              </a:xfrm>
              <a:custGeom>
                <a:avLst/>
                <a:gdLst/>
                <a:ahLst/>
                <a:rect l="l" t="t" r="r" b="b"/>
                <a:pathLst>
                  <a:path w="506" h="146">
                    <a:moveTo>
                      <a:pt x="18" y="49"/>
                    </a:moveTo>
                    <a:lnTo>
                      <a:pt x="18" y="49"/>
                    </a:lnTo>
                    <a:lnTo>
                      <a:pt x="22" y="48"/>
                    </a:lnTo>
                    <a:lnTo>
                      <a:pt x="29" y="45"/>
                    </a:lnTo>
                    <a:lnTo>
                      <a:pt x="42" y="43"/>
                    </a:lnTo>
                    <a:lnTo>
                      <a:pt x="60" y="39"/>
                    </a:lnTo>
                    <a:lnTo>
                      <a:pt x="87" y="34"/>
                    </a:lnTo>
                    <a:lnTo>
                      <a:pt x="123" y="29"/>
                    </a:lnTo>
                    <a:lnTo>
                      <a:pt x="171" y="24"/>
                    </a:lnTo>
                    <a:lnTo>
                      <a:pt x="218" y="20"/>
                    </a:lnTo>
                    <a:lnTo>
                      <a:pt x="256" y="16"/>
                    </a:lnTo>
                    <a:lnTo>
                      <a:pt x="287" y="12"/>
                    </a:lnTo>
                    <a:lnTo>
                      <a:pt x="311" y="7"/>
                    </a:lnTo>
                    <a:lnTo>
                      <a:pt x="332" y="4"/>
                    </a:lnTo>
                    <a:lnTo>
                      <a:pt x="351" y="2"/>
                    </a:lnTo>
                    <a:lnTo>
                      <a:pt x="369" y="0"/>
                    </a:lnTo>
                    <a:lnTo>
                      <a:pt x="387" y="1"/>
                    </a:lnTo>
                    <a:lnTo>
                      <a:pt x="410" y="2"/>
                    </a:lnTo>
                    <a:lnTo>
                      <a:pt x="432" y="6"/>
                    </a:lnTo>
                    <a:lnTo>
                      <a:pt x="451" y="11"/>
                    </a:lnTo>
                    <a:lnTo>
                      <a:pt x="471" y="16"/>
                    </a:lnTo>
                    <a:lnTo>
                      <a:pt x="479" y="19"/>
                    </a:lnTo>
                    <a:lnTo>
                      <a:pt x="486" y="23"/>
                    </a:lnTo>
                    <a:lnTo>
                      <a:pt x="492" y="28"/>
                    </a:lnTo>
                    <a:lnTo>
                      <a:pt x="498" y="33"/>
                    </a:lnTo>
                    <a:lnTo>
                      <a:pt x="502" y="39"/>
                    </a:lnTo>
                    <a:lnTo>
                      <a:pt x="504" y="45"/>
                    </a:lnTo>
                    <a:lnTo>
                      <a:pt x="506" y="52"/>
                    </a:lnTo>
                    <a:lnTo>
                      <a:pt x="504" y="60"/>
                    </a:lnTo>
                    <a:lnTo>
                      <a:pt x="502" y="67"/>
                    </a:lnTo>
                    <a:lnTo>
                      <a:pt x="497" y="73"/>
                    </a:lnTo>
                    <a:lnTo>
                      <a:pt x="491" y="79"/>
                    </a:lnTo>
                    <a:lnTo>
                      <a:pt x="482" y="86"/>
                    </a:lnTo>
                    <a:lnTo>
                      <a:pt x="471" y="91"/>
                    </a:lnTo>
                    <a:lnTo>
                      <a:pt x="460" y="94"/>
                    </a:lnTo>
                    <a:lnTo>
                      <a:pt x="447" y="99"/>
                    </a:lnTo>
                    <a:lnTo>
                      <a:pt x="433" y="103"/>
                    </a:lnTo>
                    <a:lnTo>
                      <a:pt x="402" y="109"/>
                    </a:lnTo>
                    <a:lnTo>
                      <a:pt x="368" y="114"/>
                    </a:lnTo>
                    <a:lnTo>
                      <a:pt x="333" y="119"/>
                    </a:lnTo>
                    <a:lnTo>
                      <a:pt x="298" y="123"/>
                    </a:lnTo>
                    <a:lnTo>
                      <a:pt x="264" y="126"/>
                    </a:lnTo>
                    <a:lnTo>
                      <a:pt x="235" y="131"/>
                    </a:lnTo>
                    <a:lnTo>
                      <a:pt x="207" y="136"/>
                    </a:lnTo>
                    <a:lnTo>
                      <a:pt x="182" y="140"/>
                    </a:lnTo>
                    <a:lnTo>
                      <a:pt x="157" y="142"/>
                    </a:lnTo>
                    <a:lnTo>
                      <a:pt x="134" y="145"/>
                    </a:lnTo>
                    <a:lnTo>
                      <a:pt x="111" y="146"/>
                    </a:lnTo>
                    <a:lnTo>
                      <a:pt x="86" y="145"/>
                    </a:lnTo>
                    <a:lnTo>
                      <a:pt x="74" y="142"/>
                    </a:lnTo>
                    <a:lnTo>
                      <a:pt x="61" y="140"/>
                    </a:lnTo>
                    <a:lnTo>
                      <a:pt x="50" y="136"/>
                    </a:lnTo>
                    <a:lnTo>
                      <a:pt x="39" y="131"/>
                    </a:lnTo>
                    <a:lnTo>
                      <a:pt x="31" y="125"/>
                    </a:lnTo>
                    <a:lnTo>
                      <a:pt x="22" y="119"/>
                    </a:lnTo>
                    <a:lnTo>
                      <a:pt x="15" y="111"/>
                    </a:lnTo>
                    <a:lnTo>
                      <a:pt x="10" y="105"/>
                    </a:lnTo>
                    <a:lnTo>
                      <a:pt x="5" y="98"/>
                    </a:lnTo>
                    <a:lnTo>
                      <a:pt x="2" y="89"/>
                    </a:lnTo>
                    <a:lnTo>
                      <a:pt x="0" y="82"/>
                    </a:lnTo>
                    <a:lnTo>
                      <a:pt x="1" y="75"/>
                    </a:lnTo>
                    <a:lnTo>
                      <a:pt x="2" y="67"/>
                    </a:lnTo>
                    <a:lnTo>
                      <a:pt x="6" y="61"/>
                    </a:lnTo>
                    <a:lnTo>
                      <a:pt x="11" y="55"/>
                    </a:lnTo>
                    <a:lnTo>
                      <a:pt x="18" y="49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7020000" y="2519280"/>
                <a:ext cx="182520" cy="61920"/>
              </a:xfrm>
              <a:custGeom>
                <a:avLst/>
                <a:gdLst/>
                <a:ahLst/>
                <a:rect l="l" t="t" r="r" b="b"/>
                <a:pathLst>
                  <a:path w="572" h="197">
                    <a:moveTo>
                      <a:pt x="14" y="134"/>
                    </a:moveTo>
                    <a:lnTo>
                      <a:pt x="14" y="133"/>
                    </a:lnTo>
                    <a:lnTo>
                      <a:pt x="17" y="131"/>
                    </a:lnTo>
                    <a:lnTo>
                      <a:pt x="23" y="127"/>
                    </a:lnTo>
                    <a:lnTo>
                      <a:pt x="34" y="121"/>
                    </a:lnTo>
                    <a:lnTo>
                      <a:pt x="53" y="113"/>
                    </a:lnTo>
                    <a:lnTo>
                      <a:pt x="79" y="105"/>
                    </a:lnTo>
                    <a:lnTo>
                      <a:pt x="112" y="92"/>
                    </a:lnTo>
                    <a:lnTo>
                      <a:pt x="157" y="80"/>
                    </a:lnTo>
                    <a:lnTo>
                      <a:pt x="207" y="65"/>
                    </a:lnTo>
                    <a:lnTo>
                      <a:pt x="255" y="53"/>
                    </a:lnTo>
                    <a:lnTo>
                      <a:pt x="299" y="42"/>
                    </a:lnTo>
                    <a:lnTo>
                      <a:pt x="340" y="32"/>
                    </a:lnTo>
                    <a:lnTo>
                      <a:pt x="376" y="25"/>
                    </a:lnTo>
                    <a:lnTo>
                      <a:pt x="410" y="17"/>
                    </a:lnTo>
                    <a:lnTo>
                      <a:pt x="438" y="13"/>
                    </a:lnTo>
                    <a:lnTo>
                      <a:pt x="461" y="9"/>
                    </a:lnTo>
                    <a:lnTo>
                      <a:pt x="482" y="6"/>
                    </a:lnTo>
                    <a:lnTo>
                      <a:pt x="503" y="4"/>
                    </a:lnTo>
                    <a:lnTo>
                      <a:pt x="522" y="1"/>
                    </a:lnTo>
                    <a:lnTo>
                      <a:pt x="539" y="0"/>
                    </a:lnTo>
                    <a:lnTo>
                      <a:pt x="546" y="0"/>
                    </a:lnTo>
                    <a:lnTo>
                      <a:pt x="552" y="1"/>
                    </a:lnTo>
                    <a:lnTo>
                      <a:pt x="559" y="4"/>
                    </a:lnTo>
                    <a:lnTo>
                      <a:pt x="563" y="6"/>
                    </a:lnTo>
                    <a:lnTo>
                      <a:pt x="567" y="10"/>
                    </a:lnTo>
                    <a:lnTo>
                      <a:pt x="570" y="15"/>
                    </a:lnTo>
                    <a:lnTo>
                      <a:pt x="572" y="21"/>
                    </a:lnTo>
                    <a:lnTo>
                      <a:pt x="572" y="28"/>
                    </a:lnTo>
                    <a:lnTo>
                      <a:pt x="571" y="36"/>
                    </a:lnTo>
                    <a:lnTo>
                      <a:pt x="568" y="42"/>
                    </a:lnTo>
                    <a:lnTo>
                      <a:pt x="562" y="48"/>
                    </a:lnTo>
                    <a:lnTo>
                      <a:pt x="555" y="54"/>
                    </a:lnTo>
                    <a:lnTo>
                      <a:pt x="545" y="59"/>
                    </a:lnTo>
                    <a:lnTo>
                      <a:pt x="534" y="63"/>
                    </a:lnTo>
                    <a:lnTo>
                      <a:pt x="522" y="68"/>
                    </a:lnTo>
                    <a:lnTo>
                      <a:pt x="508" y="72"/>
                    </a:lnTo>
                    <a:lnTo>
                      <a:pt x="479" y="79"/>
                    </a:lnTo>
                    <a:lnTo>
                      <a:pt x="445" y="86"/>
                    </a:lnTo>
                    <a:lnTo>
                      <a:pt x="411" y="94"/>
                    </a:lnTo>
                    <a:lnTo>
                      <a:pt x="376" y="104"/>
                    </a:lnTo>
                    <a:lnTo>
                      <a:pt x="342" y="116"/>
                    </a:lnTo>
                    <a:lnTo>
                      <a:pt x="304" y="131"/>
                    </a:lnTo>
                    <a:lnTo>
                      <a:pt x="263" y="144"/>
                    </a:lnTo>
                    <a:lnTo>
                      <a:pt x="224" y="159"/>
                    </a:lnTo>
                    <a:lnTo>
                      <a:pt x="185" y="171"/>
                    </a:lnTo>
                    <a:lnTo>
                      <a:pt x="148" y="182"/>
                    </a:lnTo>
                    <a:lnTo>
                      <a:pt x="114" y="191"/>
                    </a:lnTo>
                    <a:lnTo>
                      <a:pt x="86" y="197"/>
                    </a:lnTo>
                    <a:lnTo>
                      <a:pt x="74" y="197"/>
                    </a:lnTo>
                    <a:lnTo>
                      <a:pt x="63" y="197"/>
                    </a:lnTo>
                    <a:lnTo>
                      <a:pt x="52" y="197"/>
                    </a:lnTo>
                    <a:lnTo>
                      <a:pt x="42" y="195"/>
                    </a:lnTo>
                    <a:lnTo>
                      <a:pt x="32" y="193"/>
                    </a:lnTo>
                    <a:lnTo>
                      <a:pt x="23" y="190"/>
                    </a:lnTo>
                    <a:lnTo>
                      <a:pt x="17" y="186"/>
                    </a:lnTo>
                    <a:lnTo>
                      <a:pt x="11" y="181"/>
                    </a:lnTo>
                    <a:lnTo>
                      <a:pt x="6" y="177"/>
                    </a:lnTo>
                    <a:lnTo>
                      <a:pt x="2" y="171"/>
                    </a:lnTo>
                    <a:lnTo>
                      <a:pt x="1" y="166"/>
                    </a:lnTo>
                    <a:lnTo>
                      <a:pt x="0" y="160"/>
                    </a:lnTo>
                    <a:lnTo>
                      <a:pt x="1" y="154"/>
                    </a:lnTo>
                    <a:lnTo>
                      <a:pt x="4" y="147"/>
                    </a:lnTo>
                    <a:lnTo>
                      <a:pt x="7" y="140"/>
                    </a:lnTo>
                    <a:lnTo>
                      <a:pt x="14" y="134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7018200" y="266544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455" h="119">
                    <a:moveTo>
                      <a:pt x="259" y="101"/>
                    </a:moveTo>
                    <a:lnTo>
                      <a:pt x="231" y="103"/>
                    </a:lnTo>
                    <a:lnTo>
                      <a:pt x="204" y="107"/>
                    </a:lnTo>
                    <a:lnTo>
                      <a:pt x="179" y="110"/>
                    </a:lnTo>
                    <a:lnTo>
                      <a:pt x="156" y="114"/>
                    </a:lnTo>
                    <a:lnTo>
                      <a:pt x="134" y="117"/>
                    </a:lnTo>
                    <a:lnTo>
                      <a:pt x="112" y="119"/>
                    </a:lnTo>
                    <a:lnTo>
                      <a:pt x="91" y="119"/>
                    </a:lnTo>
                    <a:lnTo>
                      <a:pt x="69" y="119"/>
                    </a:lnTo>
                    <a:lnTo>
                      <a:pt x="59" y="118"/>
                    </a:lnTo>
                    <a:lnTo>
                      <a:pt x="49" y="115"/>
                    </a:lnTo>
                    <a:lnTo>
                      <a:pt x="40" y="112"/>
                    </a:lnTo>
                    <a:lnTo>
                      <a:pt x="32" y="108"/>
                    </a:lnTo>
                    <a:lnTo>
                      <a:pt x="24" y="103"/>
                    </a:lnTo>
                    <a:lnTo>
                      <a:pt x="17" y="98"/>
                    </a:lnTo>
                    <a:lnTo>
                      <a:pt x="12" y="93"/>
                    </a:lnTo>
                    <a:lnTo>
                      <a:pt x="7" y="87"/>
                    </a:lnTo>
                    <a:lnTo>
                      <a:pt x="3" y="81"/>
                    </a:lnTo>
                    <a:lnTo>
                      <a:pt x="1" y="75"/>
                    </a:lnTo>
                    <a:lnTo>
                      <a:pt x="0" y="69"/>
                    </a:lnTo>
                    <a:lnTo>
                      <a:pt x="0" y="62"/>
                    </a:lnTo>
                    <a:lnTo>
                      <a:pt x="2" y="56"/>
                    </a:lnTo>
                    <a:lnTo>
                      <a:pt x="5" y="50"/>
                    </a:lnTo>
                    <a:lnTo>
                      <a:pt x="8" y="45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21" y="39"/>
                    </a:lnTo>
                    <a:lnTo>
                      <a:pt x="28" y="37"/>
                    </a:lnTo>
                    <a:lnTo>
                      <a:pt x="41" y="34"/>
                    </a:lnTo>
                    <a:lnTo>
                      <a:pt x="59" y="30"/>
                    </a:lnTo>
                    <a:lnTo>
                      <a:pt x="83" y="28"/>
                    </a:lnTo>
                    <a:lnTo>
                      <a:pt x="114" y="24"/>
                    </a:lnTo>
                    <a:lnTo>
                      <a:pt x="153" y="22"/>
                    </a:lnTo>
                    <a:lnTo>
                      <a:pt x="194" y="17"/>
                    </a:lnTo>
                    <a:lnTo>
                      <a:pt x="228" y="13"/>
                    </a:lnTo>
                    <a:lnTo>
                      <a:pt x="258" y="10"/>
                    </a:lnTo>
                    <a:lnTo>
                      <a:pt x="284" y="6"/>
                    </a:lnTo>
                    <a:lnTo>
                      <a:pt x="306" y="2"/>
                    </a:lnTo>
                    <a:lnTo>
                      <a:pt x="326" y="1"/>
                    </a:lnTo>
                    <a:lnTo>
                      <a:pt x="343" y="0"/>
                    </a:lnTo>
                    <a:lnTo>
                      <a:pt x="360" y="0"/>
                    </a:lnTo>
                    <a:lnTo>
                      <a:pt x="377" y="1"/>
                    </a:lnTo>
                    <a:lnTo>
                      <a:pt x="395" y="3"/>
                    </a:lnTo>
                    <a:lnTo>
                      <a:pt x="412" y="7"/>
                    </a:lnTo>
                    <a:lnTo>
                      <a:pt x="427" y="12"/>
                    </a:lnTo>
                    <a:lnTo>
                      <a:pt x="433" y="14"/>
                    </a:lnTo>
                    <a:lnTo>
                      <a:pt x="439" y="18"/>
                    </a:lnTo>
                    <a:lnTo>
                      <a:pt x="444" y="22"/>
                    </a:lnTo>
                    <a:lnTo>
                      <a:pt x="449" y="26"/>
                    </a:lnTo>
                    <a:lnTo>
                      <a:pt x="452" y="29"/>
                    </a:lnTo>
                    <a:lnTo>
                      <a:pt x="454" y="34"/>
                    </a:lnTo>
                    <a:lnTo>
                      <a:pt x="455" y="40"/>
                    </a:lnTo>
                    <a:lnTo>
                      <a:pt x="455" y="46"/>
                    </a:lnTo>
                    <a:lnTo>
                      <a:pt x="452" y="53"/>
                    </a:lnTo>
                    <a:lnTo>
                      <a:pt x="447" y="57"/>
                    </a:lnTo>
                    <a:lnTo>
                      <a:pt x="440" y="64"/>
                    </a:lnTo>
                    <a:lnTo>
                      <a:pt x="431" y="67"/>
                    </a:lnTo>
                    <a:lnTo>
                      <a:pt x="422" y="72"/>
                    </a:lnTo>
                    <a:lnTo>
                      <a:pt x="409" y="76"/>
                    </a:lnTo>
                    <a:lnTo>
                      <a:pt x="396" y="80"/>
                    </a:lnTo>
                    <a:lnTo>
                      <a:pt x="382" y="82"/>
                    </a:lnTo>
                    <a:lnTo>
                      <a:pt x="353" y="87"/>
                    </a:lnTo>
                    <a:lnTo>
                      <a:pt x="321" y="92"/>
                    </a:lnTo>
                    <a:lnTo>
                      <a:pt x="289" y="96"/>
                    </a:lnTo>
                    <a:lnTo>
                      <a:pt x="259" y="101"/>
                    </a:lnTo>
                    <a:close/>
                  </a:path>
                </a:pathLst>
              </a:custGeom>
              <a:solidFill>
                <a:srgbClr val="6f5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7024680" y="2667240"/>
                <a:ext cx="128520" cy="31680"/>
              </a:xfrm>
              <a:custGeom>
                <a:avLst/>
                <a:gdLst/>
                <a:ahLst/>
                <a:rect l="l" t="t" r="r" b="b"/>
                <a:pathLst>
                  <a:path w="406" h="99">
                    <a:moveTo>
                      <a:pt x="221" y="79"/>
                    </a:moveTo>
                    <a:lnTo>
                      <a:pt x="198" y="83"/>
                    </a:lnTo>
                    <a:lnTo>
                      <a:pt x="175" y="86"/>
                    </a:lnTo>
                    <a:lnTo>
                      <a:pt x="153" y="90"/>
                    </a:lnTo>
                    <a:lnTo>
                      <a:pt x="131" y="92"/>
                    </a:lnTo>
                    <a:lnTo>
                      <a:pt x="110" y="96"/>
                    </a:lnTo>
                    <a:lnTo>
                      <a:pt x="89" y="97"/>
                    </a:lnTo>
                    <a:lnTo>
                      <a:pt x="70" y="99"/>
                    </a:lnTo>
                    <a:lnTo>
                      <a:pt x="52" y="99"/>
                    </a:lnTo>
                    <a:lnTo>
                      <a:pt x="45" y="97"/>
                    </a:lnTo>
                    <a:lnTo>
                      <a:pt x="37" y="95"/>
                    </a:lnTo>
                    <a:lnTo>
                      <a:pt x="30" y="92"/>
                    </a:lnTo>
                    <a:lnTo>
                      <a:pt x="24" y="89"/>
                    </a:lnTo>
                    <a:lnTo>
                      <a:pt x="19" y="85"/>
                    </a:lnTo>
                    <a:lnTo>
                      <a:pt x="14" y="81"/>
                    </a:lnTo>
                    <a:lnTo>
                      <a:pt x="9" y="76"/>
                    </a:lnTo>
                    <a:lnTo>
                      <a:pt x="5" y="73"/>
                    </a:lnTo>
                    <a:lnTo>
                      <a:pt x="3" y="68"/>
                    </a:lnTo>
                    <a:lnTo>
                      <a:pt x="2" y="63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2" y="49"/>
                    </a:lnTo>
                    <a:lnTo>
                      <a:pt x="4" y="46"/>
                    </a:lnTo>
                    <a:lnTo>
                      <a:pt x="8" y="42"/>
                    </a:lnTo>
                    <a:lnTo>
                      <a:pt x="11" y="38"/>
                    </a:lnTo>
                    <a:lnTo>
                      <a:pt x="14" y="38"/>
                    </a:lnTo>
                    <a:lnTo>
                      <a:pt x="19" y="37"/>
                    </a:lnTo>
                    <a:lnTo>
                      <a:pt x="29" y="35"/>
                    </a:lnTo>
                    <a:lnTo>
                      <a:pt x="42" y="32"/>
                    </a:lnTo>
                    <a:lnTo>
                      <a:pt x="59" y="28"/>
                    </a:lnTo>
                    <a:lnTo>
                      <a:pt x="81" y="26"/>
                    </a:lnTo>
                    <a:lnTo>
                      <a:pt x="109" y="22"/>
                    </a:lnTo>
                    <a:lnTo>
                      <a:pt x="139" y="20"/>
                    </a:lnTo>
                    <a:lnTo>
                      <a:pt x="173" y="16"/>
                    </a:lnTo>
                    <a:lnTo>
                      <a:pt x="202" y="12"/>
                    </a:lnTo>
                    <a:lnTo>
                      <a:pt x="230" y="9"/>
                    </a:lnTo>
                    <a:lnTo>
                      <a:pt x="256" y="6"/>
                    </a:lnTo>
                    <a:lnTo>
                      <a:pt x="280" y="3"/>
                    </a:lnTo>
                    <a:lnTo>
                      <a:pt x="300" y="1"/>
                    </a:lnTo>
                    <a:lnTo>
                      <a:pt x="318" y="0"/>
                    </a:lnTo>
                    <a:lnTo>
                      <a:pt x="332" y="0"/>
                    </a:lnTo>
                    <a:lnTo>
                      <a:pt x="346" y="1"/>
                    </a:lnTo>
                    <a:lnTo>
                      <a:pt x="360" y="4"/>
                    </a:lnTo>
                    <a:lnTo>
                      <a:pt x="373" y="6"/>
                    </a:lnTo>
                    <a:lnTo>
                      <a:pt x="384" y="10"/>
                    </a:lnTo>
                    <a:lnTo>
                      <a:pt x="394" y="15"/>
                    </a:lnTo>
                    <a:lnTo>
                      <a:pt x="401" y="20"/>
                    </a:lnTo>
                    <a:lnTo>
                      <a:pt x="404" y="24"/>
                    </a:lnTo>
                    <a:lnTo>
                      <a:pt x="405" y="27"/>
                    </a:lnTo>
                    <a:lnTo>
                      <a:pt x="406" y="31"/>
                    </a:lnTo>
                    <a:lnTo>
                      <a:pt x="406" y="36"/>
                    </a:lnTo>
                    <a:lnTo>
                      <a:pt x="404" y="41"/>
                    </a:lnTo>
                    <a:lnTo>
                      <a:pt x="399" y="46"/>
                    </a:lnTo>
                    <a:lnTo>
                      <a:pt x="392" y="49"/>
                    </a:lnTo>
                    <a:lnTo>
                      <a:pt x="383" y="53"/>
                    </a:lnTo>
                    <a:lnTo>
                      <a:pt x="360" y="60"/>
                    </a:lnTo>
                    <a:lnTo>
                      <a:pt x="332" y="65"/>
                    </a:lnTo>
                    <a:lnTo>
                      <a:pt x="303" y="70"/>
                    </a:lnTo>
                    <a:lnTo>
                      <a:pt x="273" y="74"/>
                    </a:lnTo>
                    <a:lnTo>
                      <a:pt x="245" y="76"/>
                    </a:lnTo>
                    <a:lnTo>
                      <a:pt x="221" y="79"/>
                    </a:lnTo>
                    <a:close/>
                  </a:path>
                </a:pathLst>
              </a:custGeom>
              <a:solidFill>
                <a:srgbClr val="796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7031160" y="2667240"/>
                <a:ext cx="112680" cy="23760"/>
              </a:xfrm>
              <a:custGeom>
                <a:avLst/>
                <a:gdLst/>
                <a:ahLst/>
                <a:rect l="l" t="t" r="r" b="b"/>
                <a:pathLst>
                  <a:path w="356" h="73">
                    <a:moveTo>
                      <a:pt x="180" y="60"/>
                    </a:moveTo>
                    <a:lnTo>
                      <a:pt x="162" y="62"/>
                    </a:lnTo>
                    <a:lnTo>
                      <a:pt x="144" y="65"/>
                    </a:lnTo>
                    <a:lnTo>
                      <a:pt x="124" y="67"/>
                    </a:lnTo>
                    <a:lnTo>
                      <a:pt x="105" y="70"/>
                    </a:lnTo>
                    <a:lnTo>
                      <a:pt x="85" y="72"/>
                    </a:lnTo>
                    <a:lnTo>
                      <a:pt x="66" y="73"/>
                    </a:lnTo>
                    <a:lnTo>
                      <a:pt x="50" y="73"/>
                    </a:lnTo>
                    <a:lnTo>
                      <a:pt x="38" y="73"/>
                    </a:lnTo>
                    <a:lnTo>
                      <a:pt x="32" y="73"/>
                    </a:lnTo>
                    <a:lnTo>
                      <a:pt x="27" y="72"/>
                    </a:lnTo>
                    <a:lnTo>
                      <a:pt x="21" y="71"/>
                    </a:lnTo>
                    <a:lnTo>
                      <a:pt x="17" y="68"/>
                    </a:lnTo>
                    <a:lnTo>
                      <a:pt x="9" y="64"/>
                    </a:lnTo>
                    <a:lnTo>
                      <a:pt x="4" y="57"/>
                    </a:lnTo>
                    <a:lnTo>
                      <a:pt x="2" y="54"/>
                    </a:lnTo>
                    <a:lnTo>
                      <a:pt x="1" y="50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1" y="40"/>
                    </a:lnTo>
                    <a:lnTo>
                      <a:pt x="2" y="38"/>
                    </a:lnTo>
                    <a:lnTo>
                      <a:pt x="5" y="35"/>
                    </a:lnTo>
                    <a:lnTo>
                      <a:pt x="9" y="33"/>
                    </a:lnTo>
                    <a:lnTo>
                      <a:pt x="11" y="33"/>
                    </a:lnTo>
                    <a:lnTo>
                      <a:pt x="17" y="30"/>
                    </a:lnTo>
                    <a:lnTo>
                      <a:pt x="28" y="29"/>
                    </a:lnTo>
                    <a:lnTo>
                      <a:pt x="43" y="27"/>
                    </a:lnTo>
                    <a:lnTo>
                      <a:pt x="60" y="24"/>
                    </a:lnTo>
                    <a:lnTo>
                      <a:pt x="80" y="22"/>
                    </a:lnTo>
                    <a:lnTo>
                      <a:pt x="102" y="19"/>
                    </a:lnTo>
                    <a:lnTo>
                      <a:pt x="125" y="17"/>
                    </a:lnTo>
                    <a:lnTo>
                      <a:pt x="150" y="14"/>
                    </a:lnTo>
                    <a:lnTo>
                      <a:pt x="176" y="12"/>
                    </a:lnTo>
                    <a:lnTo>
                      <a:pt x="203" y="9"/>
                    </a:lnTo>
                    <a:lnTo>
                      <a:pt x="229" y="6"/>
                    </a:lnTo>
                    <a:lnTo>
                      <a:pt x="253" y="3"/>
                    </a:lnTo>
                    <a:lnTo>
                      <a:pt x="274" y="2"/>
                    </a:lnTo>
                    <a:lnTo>
                      <a:pt x="292" y="1"/>
                    </a:lnTo>
                    <a:lnTo>
                      <a:pt x="304" y="0"/>
                    </a:lnTo>
                    <a:lnTo>
                      <a:pt x="314" y="1"/>
                    </a:lnTo>
                    <a:lnTo>
                      <a:pt x="324" y="3"/>
                    </a:lnTo>
                    <a:lnTo>
                      <a:pt x="332" y="5"/>
                    </a:lnTo>
                    <a:lnTo>
                      <a:pt x="341" y="7"/>
                    </a:lnTo>
                    <a:lnTo>
                      <a:pt x="347" y="11"/>
                    </a:lnTo>
                    <a:lnTo>
                      <a:pt x="352" y="16"/>
                    </a:lnTo>
                    <a:lnTo>
                      <a:pt x="354" y="18"/>
                    </a:lnTo>
                    <a:lnTo>
                      <a:pt x="356" y="21"/>
                    </a:lnTo>
                    <a:lnTo>
                      <a:pt x="356" y="24"/>
                    </a:lnTo>
                    <a:lnTo>
                      <a:pt x="356" y="27"/>
                    </a:lnTo>
                    <a:lnTo>
                      <a:pt x="354" y="30"/>
                    </a:lnTo>
                    <a:lnTo>
                      <a:pt x="349" y="34"/>
                    </a:lnTo>
                    <a:lnTo>
                      <a:pt x="342" y="37"/>
                    </a:lnTo>
                    <a:lnTo>
                      <a:pt x="333" y="40"/>
                    </a:lnTo>
                    <a:lnTo>
                      <a:pt x="310" y="45"/>
                    </a:lnTo>
                    <a:lnTo>
                      <a:pt x="283" y="49"/>
                    </a:lnTo>
                    <a:lnTo>
                      <a:pt x="253" y="52"/>
                    </a:lnTo>
                    <a:lnTo>
                      <a:pt x="225" y="55"/>
                    </a:lnTo>
                    <a:lnTo>
                      <a:pt x="199" y="57"/>
                    </a:lnTo>
                    <a:lnTo>
                      <a:pt x="180" y="60"/>
                    </a:lnTo>
                    <a:close/>
                  </a:path>
                </a:pathLst>
              </a:custGeom>
              <a:solidFill>
                <a:srgbClr val="82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7035840" y="2668680"/>
                <a:ext cx="98280" cy="15840"/>
              </a:xfrm>
              <a:custGeom>
                <a:avLst/>
                <a:gdLst/>
                <a:ahLst/>
                <a:rect l="l" t="t" r="r" b="b"/>
                <a:pathLst>
                  <a:path w="309" h="50">
                    <a:moveTo>
                      <a:pt x="5" y="25"/>
                    </a:moveTo>
                    <a:lnTo>
                      <a:pt x="8" y="24"/>
                    </a:lnTo>
                    <a:lnTo>
                      <a:pt x="16" y="24"/>
                    </a:lnTo>
                    <a:lnTo>
                      <a:pt x="29" y="22"/>
                    </a:lnTo>
                    <a:lnTo>
                      <a:pt x="44" y="20"/>
                    </a:lnTo>
                    <a:lnTo>
                      <a:pt x="62" y="18"/>
                    </a:lnTo>
                    <a:lnTo>
                      <a:pt x="79" y="16"/>
                    </a:lnTo>
                    <a:lnTo>
                      <a:pt x="96" y="13"/>
                    </a:lnTo>
                    <a:lnTo>
                      <a:pt x="111" y="12"/>
                    </a:lnTo>
                    <a:lnTo>
                      <a:pt x="128" y="11"/>
                    </a:lnTo>
                    <a:lnTo>
                      <a:pt x="152" y="8"/>
                    </a:lnTo>
                    <a:lnTo>
                      <a:pt x="177" y="6"/>
                    </a:lnTo>
                    <a:lnTo>
                      <a:pt x="204" y="4"/>
                    </a:lnTo>
                    <a:lnTo>
                      <a:pt x="230" y="2"/>
                    </a:lnTo>
                    <a:lnTo>
                      <a:pt x="252" y="1"/>
                    </a:lnTo>
                    <a:lnTo>
                      <a:pt x="270" y="0"/>
                    </a:lnTo>
                    <a:lnTo>
                      <a:pt x="279" y="1"/>
                    </a:lnTo>
                    <a:lnTo>
                      <a:pt x="284" y="1"/>
                    </a:lnTo>
                    <a:lnTo>
                      <a:pt x="289" y="1"/>
                    </a:lnTo>
                    <a:lnTo>
                      <a:pt x="295" y="2"/>
                    </a:lnTo>
                    <a:lnTo>
                      <a:pt x="300" y="3"/>
                    </a:lnTo>
                    <a:lnTo>
                      <a:pt x="304" y="6"/>
                    </a:lnTo>
                    <a:lnTo>
                      <a:pt x="308" y="7"/>
                    </a:lnTo>
                    <a:lnTo>
                      <a:pt x="309" y="11"/>
                    </a:lnTo>
                    <a:lnTo>
                      <a:pt x="309" y="14"/>
                    </a:lnTo>
                    <a:lnTo>
                      <a:pt x="307" y="17"/>
                    </a:lnTo>
                    <a:lnTo>
                      <a:pt x="302" y="18"/>
                    </a:lnTo>
                    <a:lnTo>
                      <a:pt x="294" y="20"/>
                    </a:lnTo>
                    <a:lnTo>
                      <a:pt x="286" y="22"/>
                    </a:lnTo>
                    <a:lnTo>
                      <a:pt x="262" y="25"/>
                    </a:lnTo>
                    <a:lnTo>
                      <a:pt x="234" y="29"/>
                    </a:lnTo>
                    <a:lnTo>
                      <a:pt x="206" y="33"/>
                    </a:lnTo>
                    <a:lnTo>
                      <a:pt x="179" y="35"/>
                    </a:lnTo>
                    <a:lnTo>
                      <a:pt x="158" y="38"/>
                    </a:lnTo>
                    <a:lnTo>
                      <a:pt x="143" y="39"/>
                    </a:lnTo>
                    <a:lnTo>
                      <a:pt x="132" y="40"/>
                    </a:lnTo>
                    <a:lnTo>
                      <a:pt x="117" y="41"/>
                    </a:lnTo>
                    <a:lnTo>
                      <a:pt x="100" y="44"/>
                    </a:lnTo>
                    <a:lnTo>
                      <a:pt x="81" y="46"/>
                    </a:lnTo>
                    <a:lnTo>
                      <a:pt x="63" y="47"/>
                    </a:lnTo>
                    <a:lnTo>
                      <a:pt x="47" y="49"/>
                    </a:lnTo>
                    <a:lnTo>
                      <a:pt x="33" y="50"/>
                    </a:lnTo>
                    <a:lnTo>
                      <a:pt x="24" y="50"/>
                    </a:lnTo>
                    <a:lnTo>
                      <a:pt x="17" y="49"/>
                    </a:lnTo>
                    <a:lnTo>
                      <a:pt x="11" y="46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5" y="25"/>
                    </a:lnTo>
                    <a:close/>
                  </a:path>
                </a:pathLst>
              </a:custGeom>
              <a:solidFill>
                <a:srgbClr val="8c7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9" name=""/>
            <p:cNvSpPr/>
            <p:nvPr/>
          </p:nvSpPr>
          <p:spPr>
            <a:xfrm>
              <a:off x="7008840" y="2605320"/>
              <a:ext cx="171360" cy="54000"/>
            </a:xfrm>
            <a:custGeom>
              <a:avLst/>
              <a:gdLst/>
              <a:ahLst/>
              <a:rect l="l" t="t" r="r" b="b"/>
              <a:pathLst>
                <a:path w="538" h="169">
                  <a:moveTo>
                    <a:pt x="77" y="169"/>
                  </a:moveTo>
                  <a:lnTo>
                    <a:pt x="66" y="169"/>
                  </a:lnTo>
                  <a:lnTo>
                    <a:pt x="56" y="167"/>
                  </a:lnTo>
                  <a:lnTo>
                    <a:pt x="46" y="166"/>
                  </a:lnTo>
                  <a:lnTo>
                    <a:pt x="37" y="162"/>
                  </a:lnTo>
                  <a:lnTo>
                    <a:pt x="30" y="159"/>
                  </a:lnTo>
                  <a:lnTo>
                    <a:pt x="22" y="155"/>
                  </a:lnTo>
                  <a:lnTo>
                    <a:pt x="16" y="150"/>
                  </a:lnTo>
                  <a:lnTo>
                    <a:pt x="11" y="145"/>
                  </a:lnTo>
                  <a:lnTo>
                    <a:pt x="6" y="139"/>
                  </a:lnTo>
                  <a:lnTo>
                    <a:pt x="3" y="133"/>
                  </a:lnTo>
                  <a:lnTo>
                    <a:pt x="2" y="127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3" y="110"/>
                  </a:lnTo>
                  <a:lnTo>
                    <a:pt x="6" y="103"/>
                  </a:lnTo>
                  <a:lnTo>
                    <a:pt x="11" y="98"/>
                  </a:lnTo>
                  <a:lnTo>
                    <a:pt x="13" y="97"/>
                  </a:lnTo>
                  <a:lnTo>
                    <a:pt x="16" y="96"/>
                  </a:lnTo>
                  <a:lnTo>
                    <a:pt x="25" y="92"/>
                  </a:lnTo>
                  <a:lnTo>
                    <a:pt x="37" y="89"/>
                  </a:lnTo>
                  <a:lnTo>
                    <a:pt x="56" y="84"/>
                  </a:lnTo>
                  <a:lnTo>
                    <a:pt x="80" y="76"/>
                  </a:lnTo>
                  <a:lnTo>
                    <a:pt x="111" y="69"/>
                  </a:lnTo>
                  <a:lnTo>
                    <a:pt x="149" y="60"/>
                  </a:lnTo>
                  <a:lnTo>
                    <a:pt x="192" y="50"/>
                  </a:lnTo>
                  <a:lnTo>
                    <a:pt x="235" y="41"/>
                  </a:lnTo>
                  <a:lnTo>
                    <a:pt x="278" y="31"/>
                  </a:lnTo>
                  <a:lnTo>
                    <a:pt x="319" y="21"/>
                  </a:lnTo>
                  <a:lnTo>
                    <a:pt x="357" y="14"/>
                  </a:lnTo>
                  <a:lnTo>
                    <a:pt x="392" y="6"/>
                  </a:lnTo>
                  <a:lnTo>
                    <a:pt x="419" y="2"/>
                  </a:lnTo>
                  <a:lnTo>
                    <a:pt x="441" y="0"/>
                  </a:lnTo>
                  <a:lnTo>
                    <a:pt x="457" y="0"/>
                  </a:lnTo>
                  <a:lnTo>
                    <a:pt x="474" y="0"/>
                  </a:lnTo>
                  <a:lnTo>
                    <a:pt x="491" y="1"/>
                  </a:lnTo>
                  <a:lnTo>
                    <a:pt x="506" y="4"/>
                  </a:lnTo>
                  <a:lnTo>
                    <a:pt x="513" y="5"/>
                  </a:lnTo>
                  <a:lnTo>
                    <a:pt x="519" y="7"/>
                  </a:lnTo>
                  <a:lnTo>
                    <a:pt x="526" y="11"/>
                  </a:lnTo>
                  <a:lnTo>
                    <a:pt x="531" y="14"/>
                  </a:lnTo>
                  <a:lnTo>
                    <a:pt x="534" y="17"/>
                  </a:lnTo>
                  <a:lnTo>
                    <a:pt x="537" y="22"/>
                  </a:lnTo>
                  <a:lnTo>
                    <a:pt x="538" y="27"/>
                  </a:lnTo>
                  <a:lnTo>
                    <a:pt x="538" y="33"/>
                  </a:lnTo>
                  <a:lnTo>
                    <a:pt x="538" y="37"/>
                  </a:lnTo>
                  <a:lnTo>
                    <a:pt x="535" y="39"/>
                  </a:lnTo>
                  <a:lnTo>
                    <a:pt x="534" y="43"/>
                  </a:lnTo>
                  <a:lnTo>
                    <a:pt x="531" y="46"/>
                  </a:lnTo>
                  <a:lnTo>
                    <a:pt x="523" y="53"/>
                  </a:lnTo>
                  <a:lnTo>
                    <a:pt x="513" y="59"/>
                  </a:lnTo>
                  <a:lnTo>
                    <a:pt x="502" y="64"/>
                  </a:lnTo>
                  <a:lnTo>
                    <a:pt x="489" y="70"/>
                  </a:lnTo>
                  <a:lnTo>
                    <a:pt x="473" y="76"/>
                  </a:lnTo>
                  <a:lnTo>
                    <a:pt x="457" y="81"/>
                  </a:lnTo>
                  <a:lnTo>
                    <a:pt x="422" y="91"/>
                  </a:lnTo>
                  <a:lnTo>
                    <a:pt x="388" y="101"/>
                  </a:lnTo>
                  <a:lnTo>
                    <a:pt x="353" y="110"/>
                  </a:lnTo>
                  <a:lnTo>
                    <a:pt x="324" y="117"/>
                  </a:lnTo>
                  <a:lnTo>
                    <a:pt x="293" y="125"/>
                  </a:lnTo>
                  <a:lnTo>
                    <a:pt x="261" y="133"/>
                  </a:lnTo>
                  <a:lnTo>
                    <a:pt x="227" y="141"/>
                  </a:lnTo>
                  <a:lnTo>
                    <a:pt x="192" y="149"/>
                  </a:lnTo>
                  <a:lnTo>
                    <a:pt x="159" y="156"/>
                  </a:lnTo>
                  <a:lnTo>
                    <a:pt x="128" y="162"/>
                  </a:lnTo>
                  <a:lnTo>
                    <a:pt x="100" y="167"/>
                  </a:lnTo>
                  <a:lnTo>
                    <a:pt x="77" y="169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7015320" y="2606760"/>
              <a:ext cx="156960" cy="47520"/>
            </a:xfrm>
            <a:custGeom>
              <a:avLst/>
              <a:gdLst/>
              <a:ahLst/>
              <a:rect l="l" t="t" r="r" b="b"/>
              <a:pathLst>
                <a:path w="495" h="147">
                  <a:moveTo>
                    <a:pt x="58" y="147"/>
                  </a:moveTo>
                  <a:lnTo>
                    <a:pt x="49" y="147"/>
                  </a:lnTo>
                  <a:lnTo>
                    <a:pt x="42" y="147"/>
                  </a:lnTo>
                  <a:lnTo>
                    <a:pt x="35" y="144"/>
                  </a:lnTo>
                  <a:lnTo>
                    <a:pt x="29" y="143"/>
                  </a:lnTo>
                  <a:lnTo>
                    <a:pt x="22" y="139"/>
                  </a:lnTo>
                  <a:lnTo>
                    <a:pt x="16" y="137"/>
                  </a:lnTo>
                  <a:lnTo>
                    <a:pt x="13" y="133"/>
                  </a:lnTo>
                  <a:lnTo>
                    <a:pt x="8" y="128"/>
                  </a:lnTo>
                  <a:lnTo>
                    <a:pt x="5" y="124"/>
                  </a:lnTo>
                  <a:lnTo>
                    <a:pt x="3" y="119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3" y="101"/>
                  </a:lnTo>
                  <a:lnTo>
                    <a:pt x="5" y="96"/>
                  </a:lnTo>
                  <a:lnTo>
                    <a:pt x="9" y="92"/>
                  </a:lnTo>
                  <a:lnTo>
                    <a:pt x="11" y="91"/>
                  </a:lnTo>
                  <a:lnTo>
                    <a:pt x="16" y="90"/>
                  </a:lnTo>
                  <a:lnTo>
                    <a:pt x="26" y="88"/>
                  </a:lnTo>
                  <a:lnTo>
                    <a:pt x="38" y="84"/>
                  </a:lnTo>
                  <a:lnTo>
                    <a:pt x="56" y="79"/>
                  </a:lnTo>
                  <a:lnTo>
                    <a:pt x="78" y="74"/>
                  </a:lnTo>
                  <a:lnTo>
                    <a:pt x="104" y="68"/>
                  </a:lnTo>
                  <a:lnTo>
                    <a:pt x="134" y="63"/>
                  </a:lnTo>
                  <a:lnTo>
                    <a:pt x="170" y="54"/>
                  </a:lnTo>
                  <a:lnTo>
                    <a:pt x="211" y="44"/>
                  </a:lnTo>
                  <a:lnTo>
                    <a:pt x="254" y="35"/>
                  </a:lnTo>
                  <a:lnTo>
                    <a:pt x="295" y="25"/>
                  </a:lnTo>
                  <a:lnTo>
                    <a:pt x="336" y="16"/>
                  </a:lnTo>
                  <a:lnTo>
                    <a:pt x="372" y="9"/>
                  </a:lnTo>
                  <a:lnTo>
                    <a:pt x="400" y="3"/>
                  </a:lnTo>
                  <a:lnTo>
                    <a:pt x="420" y="0"/>
                  </a:lnTo>
                  <a:lnTo>
                    <a:pt x="433" y="0"/>
                  </a:lnTo>
                  <a:lnTo>
                    <a:pt x="447" y="0"/>
                  </a:lnTo>
                  <a:lnTo>
                    <a:pt x="459" y="1"/>
                  </a:lnTo>
                  <a:lnTo>
                    <a:pt x="471" y="4"/>
                  </a:lnTo>
                  <a:lnTo>
                    <a:pt x="481" y="6"/>
                  </a:lnTo>
                  <a:lnTo>
                    <a:pt x="490" y="11"/>
                  </a:lnTo>
                  <a:lnTo>
                    <a:pt x="492" y="15"/>
                  </a:lnTo>
                  <a:lnTo>
                    <a:pt x="495" y="19"/>
                  </a:lnTo>
                  <a:lnTo>
                    <a:pt x="495" y="22"/>
                  </a:lnTo>
                  <a:lnTo>
                    <a:pt x="495" y="27"/>
                  </a:lnTo>
                  <a:lnTo>
                    <a:pt x="495" y="30"/>
                  </a:lnTo>
                  <a:lnTo>
                    <a:pt x="494" y="32"/>
                  </a:lnTo>
                  <a:lnTo>
                    <a:pt x="491" y="35"/>
                  </a:lnTo>
                  <a:lnTo>
                    <a:pt x="487" y="38"/>
                  </a:lnTo>
                  <a:lnTo>
                    <a:pt x="479" y="43"/>
                  </a:lnTo>
                  <a:lnTo>
                    <a:pt x="467" y="49"/>
                  </a:lnTo>
                  <a:lnTo>
                    <a:pt x="437" y="60"/>
                  </a:lnTo>
                  <a:lnTo>
                    <a:pt x="400" y="72"/>
                  </a:lnTo>
                  <a:lnTo>
                    <a:pt x="361" y="83"/>
                  </a:lnTo>
                  <a:lnTo>
                    <a:pt x="323" y="91"/>
                  </a:lnTo>
                  <a:lnTo>
                    <a:pt x="288" y="100"/>
                  </a:lnTo>
                  <a:lnTo>
                    <a:pt x="261" y="106"/>
                  </a:lnTo>
                  <a:lnTo>
                    <a:pt x="238" y="112"/>
                  </a:lnTo>
                  <a:lnTo>
                    <a:pt x="212" y="118"/>
                  </a:lnTo>
                  <a:lnTo>
                    <a:pt x="184" y="124"/>
                  </a:lnTo>
                  <a:lnTo>
                    <a:pt x="154" y="132"/>
                  </a:lnTo>
                  <a:lnTo>
                    <a:pt x="127" y="138"/>
                  </a:lnTo>
                  <a:lnTo>
                    <a:pt x="100" y="142"/>
                  </a:lnTo>
                  <a:lnTo>
                    <a:pt x="77" y="145"/>
                  </a:lnTo>
                  <a:lnTo>
                    <a:pt x="58" y="147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7021440" y="2610000"/>
              <a:ext cx="144720" cy="39600"/>
            </a:xfrm>
            <a:custGeom>
              <a:avLst/>
              <a:gdLst/>
              <a:ahLst/>
              <a:rect l="l" t="t" r="r" b="b"/>
              <a:pathLst>
                <a:path w="456" h="125">
                  <a:moveTo>
                    <a:pt x="41" y="125"/>
                  </a:moveTo>
                  <a:lnTo>
                    <a:pt x="29" y="124"/>
                  </a:lnTo>
                  <a:lnTo>
                    <a:pt x="20" y="121"/>
                  </a:lnTo>
                  <a:lnTo>
                    <a:pt x="12" y="116"/>
                  </a:lnTo>
                  <a:lnTo>
                    <a:pt x="6" y="111"/>
                  </a:lnTo>
                  <a:lnTo>
                    <a:pt x="1" y="105"/>
                  </a:lnTo>
                  <a:lnTo>
                    <a:pt x="0" y="99"/>
                  </a:lnTo>
                  <a:lnTo>
                    <a:pt x="0" y="96"/>
                  </a:lnTo>
                  <a:lnTo>
                    <a:pt x="1" y="93"/>
                  </a:lnTo>
                  <a:lnTo>
                    <a:pt x="2" y="89"/>
                  </a:lnTo>
                  <a:lnTo>
                    <a:pt x="5" y="87"/>
                  </a:lnTo>
                  <a:lnTo>
                    <a:pt x="7" y="87"/>
                  </a:lnTo>
                  <a:lnTo>
                    <a:pt x="15" y="84"/>
                  </a:lnTo>
                  <a:lnTo>
                    <a:pt x="26" y="81"/>
                  </a:lnTo>
                  <a:lnTo>
                    <a:pt x="41" y="77"/>
                  </a:lnTo>
                  <a:lnTo>
                    <a:pt x="58" y="73"/>
                  </a:lnTo>
                  <a:lnTo>
                    <a:pt x="77" y="68"/>
                  </a:lnTo>
                  <a:lnTo>
                    <a:pt x="100" y="65"/>
                  </a:lnTo>
                  <a:lnTo>
                    <a:pt x="122" y="60"/>
                  </a:lnTo>
                  <a:lnTo>
                    <a:pt x="150" y="54"/>
                  </a:lnTo>
                  <a:lnTo>
                    <a:pt x="188" y="46"/>
                  </a:lnTo>
                  <a:lnTo>
                    <a:pt x="230" y="36"/>
                  </a:lnTo>
                  <a:lnTo>
                    <a:pt x="275" y="25"/>
                  </a:lnTo>
                  <a:lnTo>
                    <a:pt x="319" y="16"/>
                  </a:lnTo>
                  <a:lnTo>
                    <a:pt x="357" y="8"/>
                  </a:lnTo>
                  <a:lnTo>
                    <a:pt x="385" y="2"/>
                  </a:lnTo>
                  <a:lnTo>
                    <a:pt x="402" y="0"/>
                  </a:lnTo>
                  <a:lnTo>
                    <a:pt x="411" y="0"/>
                  </a:lnTo>
                  <a:lnTo>
                    <a:pt x="421" y="0"/>
                  </a:lnTo>
                  <a:lnTo>
                    <a:pt x="429" y="0"/>
                  </a:lnTo>
                  <a:lnTo>
                    <a:pt x="438" y="2"/>
                  </a:lnTo>
                  <a:lnTo>
                    <a:pt x="445" y="4"/>
                  </a:lnTo>
                  <a:lnTo>
                    <a:pt x="451" y="8"/>
                  </a:lnTo>
                  <a:lnTo>
                    <a:pt x="454" y="11"/>
                  </a:lnTo>
                  <a:lnTo>
                    <a:pt x="455" y="13"/>
                  </a:lnTo>
                  <a:lnTo>
                    <a:pt x="456" y="16"/>
                  </a:lnTo>
                  <a:lnTo>
                    <a:pt x="456" y="19"/>
                  </a:lnTo>
                  <a:lnTo>
                    <a:pt x="454" y="23"/>
                  </a:lnTo>
                  <a:lnTo>
                    <a:pt x="447" y="28"/>
                  </a:lnTo>
                  <a:lnTo>
                    <a:pt x="435" y="33"/>
                  </a:lnTo>
                  <a:lnTo>
                    <a:pt x="422" y="38"/>
                  </a:lnTo>
                  <a:lnTo>
                    <a:pt x="386" y="49"/>
                  </a:lnTo>
                  <a:lnTo>
                    <a:pt x="344" y="60"/>
                  </a:lnTo>
                  <a:lnTo>
                    <a:pt x="300" y="71"/>
                  </a:lnTo>
                  <a:lnTo>
                    <a:pt x="258" y="81"/>
                  </a:lnTo>
                  <a:lnTo>
                    <a:pt x="224" y="88"/>
                  </a:lnTo>
                  <a:lnTo>
                    <a:pt x="200" y="93"/>
                  </a:lnTo>
                  <a:lnTo>
                    <a:pt x="183" y="97"/>
                  </a:lnTo>
                  <a:lnTo>
                    <a:pt x="162" y="102"/>
                  </a:lnTo>
                  <a:lnTo>
                    <a:pt x="140" y="108"/>
                  </a:lnTo>
                  <a:lnTo>
                    <a:pt x="117" y="113"/>
                  </a:lnTo>
                  <a:lnTo>
                    <a:pt x="93" y="118"/>
                  </a:lnTo>
                  <a:lnTo>
                    <a:pt x="73" y="121"/>
                  </a:lnTo>
                  <a:lnTo>
                    <a:pt x="54" y="124"/>
                  </a:lnTo>
                  <a:lnTo>
                    <a:pt x="41" y="125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7027920" y="2611440"/>
              <a:ext cx="131760" cy="33480"/>
            </a:xfrm>
            <a:custGeom>
              <a:avLst/>
              <a:gdLst/>
              <a:ahLst/>
              <a:rect l="l" t="t" r="r" b="b"/>
              <a:pathLst>
                <a:path w="414" h="104">
                  <a:moveTo>
                    <a:pt x="5" y="80"/>
                  </a:moveTo>
                  <a:lnTo>
                    <a:pt x="7" y="80"/>
                  </a:lnTo>
                  <a:lnTo>
                    <a:pt x="16" y="77"/>
                  </a:lnTo>
                  <a:lnTo>
                    <a:pt x="28" y="75"/>
                  </a:lnTo>
                  <a:lnTo>
                    <a:pt x="43" y="73"/>
                  </a:lnTo>
                  <a:lnTo>
                    <a:pt x="60" y="69"/>
                  </a:lnTo>
                  <a:lnTo>
                    <a:pt x="76" y="65"/>
                  </a:lnTo>
                  <a:lnTo>
                    <a:pt x="93" y="61"/>
                  </a:lnTo>
                  <a:lnTo>
                    <a:pt x="108" y="58"/>
                  </a:lnTo>
                  <a:lnTo>
                    <a:pt x="129" y="54"/>
                  </a:lnTo>
                  <a:lnTo>
                    <a:pt x="163" y="47"/>
                  </a:lnTo>
                  <a:lnTo>
                    <a:pt x="206" y="38"/>
                  </a:lnTo>
                  <a:lnTo>
                    <a:pt x="253" y="28"/>
                  </a:lnTo>
                  <a:lnTo>
                    <a:pt x="299" y="18"/>
                  </a:lnTo>
                  <a:lnTo>
                    <a:pt x="339" y="10"/>
                  </a:lnTo>
                  <a:lnTo>
                    <a:pt x="370" y="4"/>
                  </a:lnTo>
                  <a:lnTo>
                    <a:pt x="385" y="1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1" y="1"/>
                  </a:lnTo>
                  <a:lnTo>
                    <a:pt x="406" y="1"/>
                  </a:lnTo>
                  <a:lnTo>
                    <a:pt x="409" y="4"/>
                  </a:lnTo>
                  <a:lnTo>
                    <a:pt x="413" y="5"/>
                  </a:lnTo>
                  <a:lnTo>
                    <a:pt x="414" y="9"/>
                  </a:lnTo>
                  <a:lnTo>
                    <a:pt x="414" y="12"/>
                  </a:lnTo>
                  <a:lnTo>
                    <a:pt x="412" y="15"/>
                  </a:lnTo>
                  <a:lnTo>
                    <a:pt x="404" y="18"/>
                  </a:lnTo>
                  <a:lnTo>
                    <a:pt x="392" y="22"/>
                  </a:lnTo>
                  <a:lnTo>
                    <a:pt x="376" y="27"/>
                  </a:lnTo>
                  <a:lnTo>
                    <a:pt x="335" y="38"/>
                  </a:lnTo>
                  <a:lnTo>
                    <a:pt x="287" y="49"/>
                  </a:lnTo>
                  <a:lnTo>
                    <a:pt x="240" y="61"/>
                  </a:lnTo>
                  <a:lnTo>
                    <a:pt x="195" y="71"/>
                  </a:lnTo>
                  <a:lnTo>
                    <a:pt x="162" y="79"/>
                  </a:lnTo>
                  <a:lnTo>
                    <a:pt x="142" y="82"/>
                  </a:lnTo>
                  <a:lnTo>
                    <a:pt x="131" y="85"/>
                  </a:lnTo>
                  <a:lnTo>
                    <a:pt x="116" y="87"/>
                  </a:lnTo>
                  <a:lnTo>
                    <a:pt x="99" y="91"/>
                  </a:lnTo>
                  <a:lnTo>
                    <a:pt x="81" y="95"/>
                  </a:lnTo>
                  <a:lnTo>
                    <a:pt x="64" y="98"/>
                  </a:lnTo>
                  <a:lnTo>
                    <a:pt x="46" y="102"/>
                  </a:lnTo>
                  <a:lnTo>
                    <a:pt x="33" y="103"/>
                  </a:lnTo>
                  <a:lnTo>
                    <a:pt x="23" y="104"/>
                  </a:lnTo>
                  <a:lnTo>
                    <a:pt x="17" y="103"/>
                  </a:lnTo>
                  <a:lnTo>
                    <a:pt x="11" y="102"/>
                  </a:lnTo>
                  <a:lnTo>
                    <a:pt x="6" y="98"/>
                  </a:lnTo>
                  <a:lnTo>
                    <a:pt x="2" y="96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7018200" y="2565360"/>
              <a:ext cx="168480" cy="47880"/>
            </a:xfrm>
            <a:custGeom>
              <a:avLst/>
              <a:gdLst/>
              <a:ahLst/>
              <a:rect l="l" t="t" r="r" b="b"/>
              <a:pathLst>
                <a:path w="528" h="150">
                  <a:moveTo>
                    <a:pt x="70" y="150"/>
                  </a:moveTo>
                  <a:lnTo>
                    <a:pt x="61" y="150"/>
                  </a:lnTo>
                  <a:lnTo>
                    <a:pt x="52" y="149"/>
                  </a:lnTo>
                  <a:lnTo>
                    <a:pt x="43" y="148"/>
                  </a:lnTo>
                  <a:lnTo>
                    <a:pt x="36" y="145"/>
                  </a:lnTo>
                  <a:lnTo>
                    <a:pt x="28" y="142"/>
                  </a:lnTo>
                  <a:lnTo>
                    <a:pt x="21" y="138"/>
                  </a:lnTo>
                  <a:lnTo>
                    <a:pt x="15" y="134"/>
                  </a:lnTo>
                  <a:lnTo>
                    <a:pt x="10" y="129"/>
                  </a:lnTo>
                  <a:lnTo>
                    <a:pt x="6" y="124"/>
                  </a:lnTo>
                  <a:lnTo>
                    <a:pt x="4" y="119"/>
                  </a:lnTo>
                  <a:lnTo>
                    <a:pt x="1" y="113"/>
                  </a:lnTo>
                  <a:lnTo>
                    <a:pt x="0" y="108"/>
                  </a:lnTo>
                  <a:lnTo>
                    <a:pt x="1" y="103"/>
                  </a:lnTo>
                  <a:lnTo>
                    <a:pt x="2" y="97"/>
                  </a:lnTo>
                  <a:lnTo>
                    <a:pt x="6" y="92"/>
                  </a:lnTo>
                  <a:lnTo>
                    <a:pt x="11" y="87"/>
                  </a:lnTo>
                  <a:lnTo>
                    <a:pt x="12" y="87"/>
                  </a:lnTo>
                  <a:lnTo>
                    <a:pt x="17" y="85"/>
                  </a:lnTo>
                  <a:lnTo>
                    <a:pt x="26" y="83"/>
                  </a:lnTo>
                  <a:lnTo>
                    <a:pt x="39" y="79"/>
                  </a:lnTo>
                  <a:lnTo>
                    <a:pt x="56" y="73"/>
                  </a:lnTo>
                  <a:lnTo>
                    <a:pt x="80" y="68"/>
                  </a:lnTo>
                  <a:lnTo>
                    <a:pt x="108" y="60"/>
                  </a:lnTo>
                  <a:lnTo>
                    <a:pt x="144" y="53"/>
                  </a:lnTo>
                  <a:lnTo>
                    <a:pt x="186" y="44"/>
                  </a:lnTo>
                  <a:lnTo>
                    <a:pt x="230" y="36"/>
                  </a:lnTo>
                  <a:lnTo>
                    <a:pt x="274" y="28"/>
                  </a:lnTo>
                  <a:lnTo>
                    <a:pt x="317" y="21"/>
                  </a:lnTo>
                  <a:lnTo>
                    <a:pt x="358" y="15"/>
                  </a:lnTo>
                  <a:lnTo>
                    <a:pt x="394" y="9"/>
                  </a:lnTo>
                  <a:lnTo>
                    <a:pt x="423" y="5"/>
                  </a:lnTo>
                  <a:lnTo>
                    <a:pt x="443" y="4"/>
                  </a:lnTo>
                  <a:lnTo>
                    <a:pt x="459" y="3"/>
                  </a:lnTo>
                  <a:lnTo>
                    <a:pt x="475" y="1"/>
                  </a:lnTo>
                  <a:lnTo>
                    <a:pt x="489" y="0"/>
                  </a:lnTo>
                  <a:lnTo>
                    <a:pt x="502" y="1"/>
                  </a:lnTo>
                  <a:lnTo>
                    <a:pt x="508" y="3"/>
                  </a:lnTo>
                  <a:lnTo>
                    <a:pt x="513" y="4"/>
                  </a:lnTo>
                  <a:lnTo>
                    <a:pt x="518" y="5"/>
                  </a:lnTo>
                  <a:lnTo>
                    <a:pt x="521" y="7"/>
                  </a:lnTo>
                  <a:lnTo>
                    <a:pt x="524" y="11"/>
                  </a:lnTo>
                  <a:lnTo>
                    <a:pt x="526" y="15"/>
                  </a:lnTo>
                  <a:lnTo>
                    <a:pt x="526" y="20"/>
                  </a:lnTo>
                  <a:lnTo>
                    <a:pt x="528" y="25"/>
                  </a:lnTo>
                  <a:lnTo>
                    <a:pt x="526" y="28"/>
                  </a:lnTo>
                  <a:lnTo>
                    <a:pt x="525" y="31"/>
                  </a:lnTo>
                  <a:lnTo>
                    <a:pt x="523" y="35"/>
                  </a:lnTo>
                  <a:lnTo>
                    <a:pt x="519" y="37"/>
                  </a:lnTo>
                  <a:lnTo>
                    <a:pt x="512" y="43"/>
                  </a:lnTo>
                  <a:lnTo>
                    <a:pt x="501" y="49"/>
                  </a:lnTo>
                  <a:lnTo>
                    <a:pt x="488" y="55"/>
                  </a:lnTo>
                  <a:lnTo>
                    <a:pt x="473" y="60"/>
                  </a:lnTo>
                  <a:lnTo>
                    <a:pt x="458" y="65"/>
                  </a:lnTo>
                  <a:lnTo>
                    <a:pt x="440" y="71"/>
                  </a:lnTo>
                  <a:lnTo>
                    <a:pt x="403" y="81"/>
                  </a:lnTo>
                  <a:lnTo>
                    <a:pt x="368" y="91"/>
                  </a:lnTo>
                  <a:lnTo>
                    <a:pt x="333" y="100"/>
                  </a:lnTo>
                  <a:lnTo>
                    <a:pt x="304" y="107"/>
                  </a:lnTo>
                  <a:lnTo>
                    <a:pt x="275" y="113"/>
                  </a:lnTo>
                  <a:lnTo>
                    <a:pt x="245" y="121"/>
                  </a:lnTo>
                  <a:lnTo>
                    <a:pt x="213" y="128"/>
                  </a:lnTo>
                  <a:lnTo>
                    <a:pt x="181" y="134"/>
                  </a:lnTo>
                  <a:lnTo>
                    <a:pt x="149" y="140"/>
                  </a:lnTo>
                  <a:lnTo>
                    <a:pt x="119" y="145"/>
                  </a:lnTo>
                  <a:lnTo>
                    <a:pt x="92" y="149"/>
                  </a:lnTo>
                  <a:lnTo>
                    <a:pt x="70" y="150"/>
                  </a:lnTo>
                  <a:close/>
                </a:path>
              </a:pathLst>
            </a:custGeom>
            <a:solidFill>
              <a:srgbClr val="735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7023240" y="2567160"/>
              <a:ext cx="149040" cy="39600"/>
            </a:xfrm>
            <a:custGeom>
              <a:avLst/>
              <a:gdLst/>
              <a:ahLst/>
              <a:rect l="l" t="t" r="r" b="b"/>
              <a:pathLst>
                <a:path w="470" h="123">
                  <a:moveTo>
                    <a:pt x="47" y="123"/>
                  </a:moveTo>
                  <a:lnTo>
                    <a:pt x="40" y="121"/>
                  </a:lnTo>
                  <a:lnTo>
                    <a:pt x="34" y="121"/>
                  </a:lnTo>
                  <a:lnTo>
                    <a:pt x="28" y="119"/>
                  </a:lnTo>
                  <a:lnTo>
                    <a:pt x="22" y="118"/>
                  </a:lnTo>
                  <a:lnTo>
                    <a:pt x="13" y="112"/>
                  </a:lnTo>
                  <a:lnTo>
                    <a:pt x="6" y="106"/>
                  </a:lnTo>
                  <a:lnTo>
                    <a:pt x="4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1" y="86"/>
                  </a:lnTo>
                  <a:lnTo>
                    <a:pt x="2" y="83"/>
                  </a:lnTo>
                  <a:lnTo>
                    <a:pt x="5" y="80"/>
                  </a:lnTo>
                  <a:lnTo>
                    <a:pt x="8" y="76"/>
                  </a:lnTo>
                  <a:lnTo>
                    <a:pt x="11" y="76"/>
                  </a:lnTo>
                  <a:lnTo>
                    <a:pt x="17" y="74"/>
                  </a:lnTo>
                  <a:lnTo>
                    <a:pt x="27" y="71"/>
                  </a:lnTo>
                  <a:lnTo>
                    <a:pt x="42" y="67"/>
                  </a:lnTo>
                  <a:lnTo>
                    <a:pt x="59" y="64"/>
                  </a:lnTo>
                  <a:lnTo>
                    <a:pt x="79" y="60"/>
                  </a:lnTo>
                  <a:lnTo>
                    <a:pt x="101" y="56"/>
                  </a:lnTo>
                  <a:lnTo>
                    <a:pt x="125" y="51"/>
                  </a:lnTo>
                  <a:lnTo>
                    <a:pt x="157" y="45"/>
                  </a:lnTo>
                  <a:lnTo>
                    <a:pt x="197" y="38"/>
                  </a:lnTo>
                  <a:lnTo>
                    <a:pt x="240" y="30"/>
                  </a:lnTo>
                  <a:lnTo>
                    <a:pt x="285" y="22"/>
                  </a:lnTo>
                  <a:lnTo>
                    <a:pt x="328" y="14"/>
                  </a:lnTo>
                  <a:lnTo>
                    <a:pt x="366" y="7"/>
                  </a:lnTo>
                  <a:lnTo>
                    <a:pt x="396" y="2"/>
                  </a:lnTo>
                  <a:lnTo>
                    <a:pt x="413" y="0"/>
                  </a:lnTo>
                  <a:lnTo>
                    <a:pt x="424" y="0"/>
                  </a:lnTo>
                  <a:lnTo>
                    <a:pt x="435" y="0"/>
                  </a:lnTo>
                  <a:lnTo>
                    <a:pt x="445" y="0"/>
                  </a:lnTo>
                  <a:lnTo>
                    <a:pt x="454" y="1"/>
                  </a:lnTo>
                  <a:lnTo>
                    <a:pt x="461" y="3"/>
                  </a:lnTo>
                  <a:lnTo>
                    <a:pt x="466" y="7"/>
                  </a:lnTo>
                  <a:lnTo>
                    <a:pt x="469" y="10"/>
                  </a:lnTo>
                  <a:lnTo>
                    <a:pt x="470" y="12"/>
                  </a:lnTo>
                  <a:lnTo>
                    <a:pt x="470" y="16"/>
                  </a:lnTo>
                  <a:lnTo>
                    <a:pt x="470" y="19"/>
                  </a:lnTo>
                  <a:lnTo>
                    <a:pt x="470" y="21"/>
                  </a:lnTo>
                  <a:lnTo>
                    <a:pt x="467" y="23"/>
                  </a:lnTo>
                  <a:lnTo>
                    <a:pt x="465" y="26"/>
                  </a:lnTo>
                  <a:lnTo>
                    <a:pt x="461" y="28"/>
                  </a:lnTo>
                  <a:lnTo>
                    <a:pt x="450" y="33"/>
                  </a:lnTo>
                  <a:lnTo>
                    <a:pt x="437" y="38"/>
                  </a:lnTo>
                  <a:lnTo>
                    <a:pt x="403" y="48"/>
                  </a:lnTo>
                  <a:lnTo>
                    <a:pt x="363" y="59"/>
                  </a:lnTo>
                  <a:lnTo>
                    <a:pt x="321" y="69"/>
                  </a:lnTo>
                  <a:lnTo>
                    <a:pt x="280" y="77"/>
                  </a:lnTo>
                  <a:lnTo>
                    <a:pt x="247" y="85"/>
                  </a:lnTo>
                  <a:lnTo>
                    <a:pt x="223" y="90"/>
                  </a:lnTo>
                  <a:lnTo>
                    <a:pt x="204" y="94"/>
                  </a:lnTo>
                  <a:lnTo>
                    <a:pt x="181" y="99"/>
                  </a:lnTo>
                  <a:lnTo>
                    <a:pt x="156" y="104"/>
                  </a:lnTo>
                  <a:lnTo>
                    <a:pt x="130" y="109"/>
                  </a:lnTo>
                  <a:lnTo>
                    <a:pt x="106" y="114"/>
                  </a:lnTo>
                  <a:lnTo>
                    <a:pt x="82" y="118"/>
                  </a:lnTo>
                  <a:lnTo>
                    <a:pt x="63" y="120"/>
                  </a:lnTo>
                  <a:lnTo>
                    <a:pt x="47" y="123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7027920" y="2570400"/>
              <a:ext cx="133200" cy="29880"/>
            </a:xfrm>
            <a:custGeom>
              <a:avLst/>
              <a:gdLst/>
              <a:ahLst/>
              <a:rect l="l" t="t" r="r" b="b"/>
              <a:pathLst>
                <a:path w="417" h="95">
                  <a:moveTo>
                    <a:pt x="5" y="70"/>
                  </a:moveTo>
                  <a:lnTo>
                    <a:pt x="7" y="70"/>
                  </a:lnTo>
                  <a:lnTo>
                    <a:pt x="16" y="68"/>
                  </a:lnTo>
                  <a:lnTo>
                    <a:pt x="28" y="65"/>
                  </a:lnTo>
                  <a:lnTo>
                    <a:pt x="43" y="63"/>
                  </a:lnTo>
                  <a:lnTo>
                    <a:pt x="60" y="59"/>
                  </a:lnTo>
                  <a:lnTo>
                    <a:pt x="76" y="56"/>
                  </a:lnTo>
                  <a:lnTo>
                    <a:pt x="93" y="54"/>
                  </a:lnTo>
                  <a:lnTo>
                    <a:pt x="108" y="52"/>
                  </a:lnTo>
                  <a:lnTo>
                    <a:pt x="130" y="48"/>
                  </a:lnTo>
                  <a:lnTo>
                    <a:pt x="164" y="42"/>
                  </a:lnTo>
                  <a:lnTo>
                    <a:pt x="209" y="33"/>
                  </a:lnTo>
                  <a:lnTo>
                    <a:pt x="255" y="24"/>
                  </a:lnTo>
                  <a:lnTo>
                    <a:pt x="301" y="15"/>
                  </a:lnTo>
                  <a:lnTo>
                    <a:pt x="340" y="7"/>
                  </a:lnTo>
                  <a:lnTo>
                    <a:pt x="370" y="1"/>
                  </a:lnTo>
                  <a:lnTo>
                    <a:pt x="385" y="0"/>
                  </a:lnTo>
                  <a:lnTo>
                    <a:pt x="391" y="0"/>
                  </a:lnTo>
                  <a:lnTo>
                    <a:pt x="397" y="0"/>
                  </a:lnTo>
                  <a:lnTo>
                    <a:pt x="402" y="1"/>
                  </a:lnTo>
                  <a:lnTo>
                    <a:pt x="407" y="2"/>
                  </a:lnTo>
                  <a:lnTo>
                    <a:pt x="412" y="4"/>
                  </a:lnTo>
                  <a:lnTo>
                    <a:pt x="414" y="6"/>
                  </a:lnTo>
                  <a:lnTo>
                    <a:pt x="417" y="10"/>
                  </a:lnTo>
                  <a:lnTo>
                    <a:pt x="417" y="13"/>
                  </a:lnTo>
                  <a:lnTo>
                    <a:pt x="414" y="16"/>
                  </a:lnTo>
                  <a:lnTo>
                    <a:pt x="406" y="18"/>
                  </a:lnTo>
                  <a:lnTo>
                    <a:pt x="393" y="22"/>
                  </a:lnTo>
                  <a:lnTo>
                    <a:pt x="376" y="27"/>
                  </a:lnTo>
                  <a:lnTo>
                    <a:pt x="335" y="37"/>
                  </a:lnTo>
                  <a:lnTo>
                    <a:pt x="289" y="47"/>
                  </a:lnTo>
                  <a:lnTo>
                    <a:pt x="240" y="56"/>
                  </a:lnTo>
                  <a:lnTo>
                    <a:pt x="195" y="65"/>
                  </a:lnTo>
                  <a:lnTo>
                    <a:pt x="162" y="71"/>
                  </a:lnTo>
                  <a:lnTo>
                    <a:pt x="142" y="75"/>
                  </a:lnTo>
                  <a:lnTo>
                    <a:pt x="131" y="77"/>
                  </a:lnTo>
                  <a:lnTo>
                    <a:pt x="116" y="80"/>
                  </a:lnTo>
                  <a:lnTo>
                    <a:pt x="98" y="82"/>
                  </a:lnTo>
                  <a:lnTo>
                    <a:pt x="80" y="86"/>
                  </a:lnTo>
                  <a:lnTo>
                    <a:pt x="62" y="90"/>
                  </a:lnTo>
                  <a:lnTo>
                    <a:pt x="45" y="92"/>
                  </a:lnTo>
                  <a:lnTo>
                    <a:pt x="32" y="93"/>
                  </a:lnTo>
                  <a:lnTo>
                    <a:pt x="23" y="95"/>
                  </a:lnTo>
                  <a:lnTo>
                    <a:pt x="17" y="93"/>
                  </a:lnTo>
                  <a:lnTo>
                    <a:pt x="11" y="92"/>
                  </a:lnTo>
                  <a:lnTo>
                    <a:pt x="6" y="88"/>
                  </a:lnTo>
                  <a:lnTo>
                    <a:pt x="2" y="85"/>
                  </a:lnTo>
                  <a:lnTo>
                    <a:pt x="1" y="81"/>
                  </a:lnTo>
                  <a:lnTo>
                    <a:pt x="0" y="77"/>
                  </a:lnTo>
                  <a:lnTo>
                    <a:pt x="1" y="74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7024680" y="2522520"/>
              <a:ext cx="166680" cy="54000"/>
            </a:xfrm>
            <a:custGeom>
              <a:avLst/>
              <a:gdLst/>
              <a:ahLst/>
              <a:rect l="l" t="t" r="r" b="b"/>
              <a:pathLst>
                <a:path w="522" h="168">
                  <a:moveTo>
                    <a:pt x="522" y="22"/>
                  </a:moveTo>
                  <a:lnTo>
                    <a:pt x="520" y="26"/>
                  </a:lnTo>
                  <a:lnTo>
                    <a:pt x="519" y="29"/>
                  </a:lnTo>
                  <a:lnTo>
                    <a:pt x="517" y="31"/>
                  </a:lnTo>
                  <a:lnTo>
                    <a:pt x="514" y="35"/>
                  </a:lnTo>
                  <a:lnTo>
                    <a:pt x="506" y="40"/>
                  </a:lnTo>
                  <a:lnTo>
                    <a:pt x="495" y="45"/>
                  </a:lnTo>
                  <a:lnTo>
                    <a:pt x="467" y="56"/>
                  </a:lnTo>
                  <a:lnTo>
                    <a:pt x="434" y="64"/>
                  </a:lnTo>
                  <a:lnTo>
                    <a:pt x="399" y="74"/>
                  </a:lnTo>
                  <a:lnTo>
                    <a:pt x="362" y="83"/>
                  </a:lnTo>
                  <a:lnTo>
                    <a:pt x="327" y="90"/>
                  </a:lnTo>
                  <a:lnTo>
                    <a:pt x="299" y="99"/>
                  </a:lnTo>
                  <a:lnTo>
                    <a:pt x="271" y="107"/>
                  </a:lnTo>
                  <a:lnTo>
                    <a:pt x="241" y="117"/>
                  </a:lnTo>
                  <a:lnTo>
                    <a:pt x="208" y="128"/>
                  </a:lnTo>
                  <a:lnTo>
                    <a:pt x="176" y="138"/>
                  </a:lnTo>
                  <a:lnTo>
                    <a:pt x="144" y="148"/>
                  </a:lnTo>
                  <a:lnTo>
                    <a:pt x="113" y="156"/>
                  </a:lnTo>
                  <a:lnTo>
                    <a:pt x="87" y="163"/>
                  </a:lnTo>
                  <a:lnTo>
                    <a:pt x="65" y="166"/>
                  </a:lnTo>
                  <a:lnTo>
                    <a:pt x="55" y="168"/>
                  </a:lnTo>
                  <a:lnTo>
                    <a:pt x="47" y="168"/>
                  </a:lnTo>
                  <a:lnTo>
                    <a:pt x="38" y="166"/>
                  </a:lnTo>
                  <a:lnTo>
                    <a:pt x="31" y="165"/>
                  </a:lnTo>
                  <a:lnTo>
                    <a:pt x="23" y="163"/>
                  </a:lnTo>
                  <a:lnTo>
                    <a:pt x="18" y="160"/>
                  </a:lnTo>
                  <a:lnTo>
                    <a:pt x="12" y="158"/>
                  </a:lnTo>
                  <a:lnTo>
                    <a:pt x="9" y="154"/>
                  </a:lnTo>
                  <a:lnTo>
                    <a:pt x="5" y="150"/>
                  </a:lnTo>
                  <a:lnTo>
                    <a:pt x="2" y="147"/>
                  </a:lnTo>
                  <a:lnTo>
                    <a:pt x="1" y="142"/>
                  </a:lnTo>
                  <a:lnTo>
                    <a:pt x="0" y="138"/>
                  </a:lnTo>
                  <a:lnTo>
                    <a:pt x="1" y="133"/>
                  </a:lnTo>
                  <a:lnTo>
                    <a:pt x="2" y="128"/>
                  </a:lnTo>
                  <a:lnTo>
                    <a:pt x="6" y="122"/>
                  </a:lnTo>
                  <a:lnTo>
                    <a:pt x="11" y="117"/>
                  </a:lnTo>
                  <a:lnTo>
                    <a:pt x="12" y="117"/>
                  </a:lnTo>
                  <a:lnTo>
                    <a:pt x="17" y="115"/>
                  </a:lnTo>
                  <a:lnTo>
                    <a:pt x="26" y="112"/>
                  </a:lnTo>
                  <a:lnTo>
                    <a:pt x="38" y="107"/>
                  </a:lnTo>
                  <a:lnTo>
                    <a:pt x="55" y="101"/>
                  </a:lnTo>
                  <a:lnTo>
                    <a:pt x="79" y="94"/>
                  </a:lnTo>
                  <a:lnTo>
                    <a:pt x="107" y="85"/>
                  </a:lnTo>
                  <a:lnTo>
                    <a:pt x="141" y="74"/>
                  </a:lnTo>
                  <a:lnTo>
                    <a:pt x="182" y="63"/>
                  </a:lnTo>
                  <a:lnTo>
                    <a:pt x="225" y="52"/>
                  </a:lnTo>
                  <a:lnTo>
                    <a:pt x="268" y="41"/>
                  </a:lnTo>
                  <a:lnTo>
                    <a:pt x="311" y="31"/>
                  </a:lnTo>
                  <a:lnTo>
                    <a:pt x="352" y="22"/>
                  </a:lnTo>
                  <a:lnTo>
                    <a:pt x="388" y="15"/>
                  </a:lnTo>
                  <a:lnTo>
                    <a:pt x="416" y="9"/>
                  </a:lnTo>
                  <a:lnTo>
                    <a:pt x="437" y="6"/>
                  </a:lnTo>
                  <a:lnTo>
                    <a:pt x="453" y="4"/>
                  </a:lnTo>
                  <a:lnTo>
                    <a:pt x="467" y="2"/>
                  </a:lnTo>
                  <a:lnTo>
                    <a:pt x="482" y="0"/>
                  </a:lnTo>
                  <a:lnTo>
                    <a:pt x="495" y="0"/>
                  </a:lnTo>
                  <a:lnTo>
                    <a:pt x="501" y="0"/>
                  </a:lnTo>
                  <a:lnTo>
                    <a:pt x="506" y="2"/>
                  </a:lnTo>
                  <a:lnTo>
                    <a:pt x="511" y="3"/>
                  </a:lnTo>
                  <a:lnTo>
                    <a:pt x="514" y="5"/>
                  </a:lnTo>
                  <a:lnTo>
                    <a:pt x="517" y="9"/>
                  </a:lnTo>
                  <a:lnTo>
                    <a:pt x="519" y="13"/>
                  </a:lnTo>
                  <a:lnTo>
                    <a:pt x="520" y="17"/>
                  </a:lnTo>
                  <a:lnTo>
                    <a:pt x="522" y="22"/>
                  </a:lnTo>
                  <a:close/>
                </a:path>
              </a:pathLst>
            </a:custGeom>
            <a:solidFill>
              <a:srgbClr val="735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7031160" y="2525760"/>
              <a:ext cx="147600" cy="44640"/>
            </a:xfrm>
            <a:custGeom>
              <a:avLst/>
              <a:gdLst/>
              <a:ahLst/>
              <a:rect l="l" t="t" r="r" b="b"/>
              <a:pathLst>
                <a:path w="466" h="139">
                  <a:moveTo>
                    <a:pt x="466" y="16"/>
                  </a:moveTo>
                  <a:lnTo>
                    <a:pt x="465" y="19"/>
                  </a:lnTo>
                  <a:lnTo>
                    <a:pt x="464" y="21"/>
                  </a:lnTo>
                  <a:lnTo>
                    <a:pt x="462" y="24"/>
                  </a:lnTo>
                  <a:lnTo>
                    <a:pt x="458" y="26"/>
                  </a:lnTo>
                  <a:lnTo>
                    <a:pt x="448" y="31"/>
                  </a:lnTo>
                  <a:lnTo>
                    <a:pt x="434" y="36"/>
                  </a:lnTo>
                  <a:lnTo>
                    <a:pt x="401" y="47"/>
                  </a:lnTo>
                  <a:lnTo>
                    <a:pt x="362" y="58"/>
                  </a:lnTo>
                  <a:lnTo>
                    <a:pt x="319" y="69"/>
                  </a:lnTo>
                  <a:lnTo>
                    <a:pt x="279" y="78"/>
                  </a:lnTo>
                  <a:lnTo>
                    <a:pt x="245" y="86"/>
                  </a:lnTo>
                  <a:lnTo>
                    <a:pt x="222" y="93"/>
                  </a:lnTo>
                  <a:lnTo>
                    <a:pt x="202" y="99"/>
                  </a:lnTo>
                  <a:lnTo>
                    <a:pt x="180" y="106"/>
                  </a:lnTo>
                  <a:lnTo>
                    <a:pt x="155" y="112"/>
                  </a:lnTo>
                  <a:lnTo>
                    <a:pt x="129" y="120"/>
                  </a:lnTo>
                  <a:lnTo>
                    <a:pt x="105" y="127"/>
                  </a:lnTo>
                  <a:lnTo>
                    <a:pt x="81" y="133"/>
                  </a:lnTo>
                  <a:lnTo>
                    <a:pt x="60" y="137"/>
                  </a:lnTo>
                  <a:lnTo>
                    <a:pt x="46" y="139"/>
                  </a:lnTo>
                  <a:lnTo>
                    <a:pt x="32" y="139"/>
                  </a:lnTo>
                  <a:lnTo>
                    <a:pt x="21" y="137"/>
                  </a:lnTo>
                  <a:lnTo>
                    <a:pt x="13" y="133"/>
                  </a:lnTo>
                  <a:lnTo>
                    <a:pt x="6" y="128"/>
                  </a:lnTo>
                  <a:lnTo>
                    <a:pt x="3" y="126"/>
                  </a:lnTo>
                  <a:lnTo>
                    <a:pt x="1" y="123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0" y="114"/>
                  </a:lnTo>
                  <a:lnTo>
                    <a:pt x="1" y="110"/>
                  </a:lnTo>
                  <a:lnTo>
                    <a:pt x="4" y="107"/>
                  </a:lnTo>
                  <a:lnTo>
                    <a:pt x="8" y="104"/>
                  </a:lnTo>
                  <a:lnTo>
                    <a:pt x="9" y="104"/>
                  </a:lnTo>
                  <a:lnTo>
                    <a:pt x="16" y="101"/>
                  </a:lnTo>
                  <a:lnTo>
                    <a:pt x="26" y="98"/>
                  </a:lnTo>
                  <a:lnTo>
                    <a:pt x="40" y="94"/>
                  </a:lnTo>
                  <a:lnTo>
                    <a:pt x="57" y="88"/>
                  </a:lnTo>
                  <a:lnTo>
                    <a:pt x="76" y="82"/>
                  </a:lnTo>
                  <a:lnTo>
                    <a:pt x="100" y="75"/>
                  </a:lnTo>
                  <a:lnTo>
                    <a:pt x="124" y="68"/>
                  </a:lnTo>
                  <a:lnTo>
                    <a:pt x="155" y="61"/>
                  </a:lnTo>
                  <a:lnTo>
                    <a:pt x="195" y="52"/>
                  </a:lnTo>
                  <a:lnTo>
                    <a:pt x="238" y="41"/>
                  </a:lnTo>
                  <a:lnTo>
                    <a:pt x="283" y="31"/>
                  </a:lnTo>
                  <a:lnTo>
                    <a:pt x="326" y="21"/>
                  </a:lnTo>
                  <a:lnTo>
                    <a:pt x="363" y="13"/>
                  </a:lnTo>
                  <a:lnTo>
                    <a:pt x="393" y="6"/>
                  </a:lnTo>
                  <a:lnTo>
                    <a:pt x="409" y="3"/>
                  </a:lnTo>
                  <a:lnTo>
                    <a:pt x="420" y="3"/>
                  </a:lnTo>
                  <a:lnTo>
                    <a:pt x="430" y="2"/>
                  </a:lnTo>
                  <a:lnTo>
                    <a:pt x="439" y="0"/>
                  </a:lnTo>
                  <a:lnTo>
                    <a:pt x="448" y="2"/>
                  </a:lnTo>
                  <a:lnTo>
                    <a:pt x="455" y="3"/>
                  </a:lnTo>
                  <a:lnTo>
                    <a:pt x="462" y="5"/>
                  </a:lnTo>
                  <a:lnTo>
                    <a:pt x="463" y="8"/>
                  </a:lnTo>
                  <a:lnTo>
                    <a:pt x="465" y="10"/>
                  </a:lnTo>
                  <a:lnTo>
                    <a:pt x="466" y="13"/>
                  </a:lnTo>
                  <a:lnTo>
                    <a:pt x="466" y="16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7035840" y="2529000"/>
              <a:ext cx="131760" cy="36360"/>
            </a:xfrm>
            <a:custGeom>
              <a:avLst/>
              <a:gdLst/>
              <a:ahLst/>
              <a:rect l="l" t="t" r="r" b="b"/>
              <a:pathLst>
                <a:path w="414" h="114">
                  <a:moveTo>
                    <a:pt x="4" y="90"/>
                  </a:moveTo>
                  <a:lnTo>
                    <a:pt x="7" y="89"/>
                  </a:lnTo>
                  <a:lnTo>
                    <a:pt x="15" y="87"/>
                  </a:lnTo>
                  <a:lnTo>
                    <a:pt x="28" y="84"/>
                  </a:lnTo>
                  <a:lnTo>
                    <a:pt x="42" y="81"/>
                  </a:lnTo>
                  <a:lnTo>
                    <a:pt x="58" y="77"/>
                  </a:lnTo>
                  <a:lnTo>
                    <a:pt x="75" y="74"/>
                  </a:lnTo>
                  <a:lnTo>
                    <a:pt x="93" y="70"/>
                  </a:lnTo>
                  <a:lnTo>
                    <a:pt x="107" y="68"/>
                  </a:lnTo>
                  <a:lnTo>
                    <a:pt x="128" y="63"/>
                  </a:lnTo>
                  <a:lnTo>
                    <a:pt x="163" y="54"/>
                  </a:lnTo>
                  <a:lnTo>
                    <a:pt x="206" y="43"/>
                  </a:lnTo>
                  <a:lnTo>
                    <a:pt x="253" y="31"/>
                  </a:lnTo>
                  <a:lnTo>
                    <a:pt x="298" y="20"/>
                  </a:lnTo>
                  <a:lnTo>
                    <a:pt x="338" y="10"/>
                  </a:lnTo>
                  <a:lnTo>
                    <a:pt x="367" y="2"/>
                  </a:lnTo>
                  <a:lnTo>
                    <a:pt x="382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399" y="1"/>
                  </a:lnTo>
                  <a:lnTo>
                    <a:pt x="404" y="2"/>
                  </a:lnTo>
                  <a:lnTo>
                    <a:pt x="408" y="5"/>
                  </a:lnTo>
                  <a:lnTo>
                    <a:pt x="411" y="6"/>
                  </a:lnTo>
                  <a:lnTo>
                    <a:pt x="414" y="10"/>
                  </a:lnTo>
                  <a:lnTo>
                    <a:pt x="414" y="13"/>
                  </a:lnTo>
                  <a:lnTo>
                    <a:pt x="410" y="16"/>
                  </a:lnTo>
                  <a:lnTo>
                    <a:pt x="403" y="20"/>
                  </a:lnTo>
                  <a:lnTo>
                    <a:pt x="390" y="23"/>
                  </a:lnTo>
                  <a:lnTo>
                    <a:pt x="373" y="28"/>
                  </a:lnTo>
                  <a:lnTo>
                    <a:pt x="334" y="39"/>
                  </a:lnTo>
                  <a:lnTo>
                    <a:pt x="286" y="52"/>
                  </a:lnTo>
                  <a:lnTo>
                    <a:pt x="238" y="64"/>
                  </a:lnTo>
                  <a:lnTo>
                    <a:pt x="195" y="75"/>
                  </a:lnTo>
                  <a:lnTo>
                    <a:pt x="160" y="82"/>
                  </a:lnTo>
                  <a:lnTo>
                    <a:pt x="142" y="87"/>
                  </a:lnTo>
                  <a:lnTo>
                    <a:pt x="131" y="90"/>
                  </a:lnTo>
                  <a:lnTo>
                    <a:pt x="116" y="95"/>
                  </a:lnTo>
                  <a:lnTo>
                    <a:pt x="99" y="98"/>
                  </a:lnTo>
                  <a:lnTo>
                    <a:pt x="80" y="103"/>
                  </a:lnTo>
                  <a:lnTo>
                    <a:pt x="63" y="107"/>
                  </a:lnTo>
                  <a:lnTo>
                    <a:pt x="47" y="111"/>
                  </a:lnTo>
                  <a:lnTo>
                    <a:pt x="34" y="113"/>
                  </a:lnTo>
                  <a:lnTo>
                    <a:pt x="25" y="114"/>
                  </a:lnTo>
                  <a:lnTo>
                    <a:pt x="19" y="113"/>
                  </a:lnTo>
                  <a:lnTo>
                    <a:pt x="13" y="111"/>
                  </a:lnTo>
                  <a:lnTo>
                    <a:pt x="8" y="108"/>
                  </a:lnTo>
                  <a:lnTo>
                    <a:pt x="3" y="105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6886440" y="2730600"/>
              <a:ext cx="166680" cy="225360"/>
            </a:xfrm>
            <a:custGeom>
              <a:avLst/>
              <a:gdLst/>
              <a:ahLst/>
              <a:rect l="l" t="t" r="r" b="b"/>
              <a:pathLst>
                <a:path w="524" h="710">
                  <a:moveTo>
                    <a:pt x="399" y="22"/>
                  </a:moveTo>
                  <a:lnTo>
                    <a:pt x="388" y="39"/>
                  </a:lnTo>
                  <a:lnTo>
                    <a:pt x="357" y="83"/>
                  </a:lnTo>
                  <a:lnTo>
                    <a:pt x="313" y="146"/>
                  </a:lnTo>
                  <a:lnTo>
                    <a:pt x="259" y="223"/>
                  </a:lnTo>
                  <a:lnTo>
                    <a:pt x="200" y="303"/>
                  </a:lnTo>
                  <a:lnTo>
                    <a:pt x="142" y="381"/>
                  </a:lnTo>
                  <a:lnTo>
                    <a:pt x="115" y="417"/>
                  </a:lnTo>
                  <a:lnTo>
                    <a:pt x="89" y="450"/>
                  </a:lnTo>
                  <a:lnTo>
                    <a:pt x="65" y="479"/>
                  </a:lnTo>
                  <a:lnTo>
                    <a:pt x="46" y="501"/>
                  </a:lnTo>
                  <a:lnTo>
                    <a:pt x="37" y="511"/>
                  </a:lnTo>
                  <a:lnTo>
                    <a:pt x="29" y="522"/>
                  </a:lnTo>
                  <a:lnTo>
                    <a:pt x="22" y="531"/>
                  </a:lnTo>
                  <a:lnTo>
                    <a:pt x="16" y="541"/>
                  </a:lnTo>
                  <a:lnTo>
                    <a:pt x="11" y="551"/>
                  </a:lnTo>
                  <a:lnTo>
                    <a:pt x="8" y="562"/>
                  </a:lnTo>
                  <a:lnTo>
                    <a:pt x="5" y="572"/>
                  </a:lnTo>
                  <a:lnTo>
                    <a:pt x="3" y="582"/>
                  </a:lnTo>
                  <a:lnTo>
                    <a:pt x="1" y="592"/>
                  </a:lnTo>
                  <a:lnTo>
                    <a:pt x="0" y="602"/>
                  </a:lnTo>
                  <a:lnTo>
                    <a:pt x="0" y="611"/>
                  </a:lnTo>
                  <a:lnTo>
                    <a:pt x="0" y="620"/>
                  </a:lnTo>
                  <a:lnTo>
                    <a:pt x="1" y="630"/>
                  </a:lnTo>
                  <a:lnTo>
                    <a:pt x="4" y="638"/>
                  </a:lnTo>
                  <a:lnTo>
                    <a:pt x="6" y="647"/>
                  </a:lnTo>
                  <a:lnTo>
                    <a:pt x="9" y="654"/>
                  </a:lnTo>
                  <a:lnTo>
                    <a:pt x="13" y="662"/>
                  </a:lnTo>
                  <a:lnTo>
                    <a:pt x="16" y="669"/>
                  </a:lnTo>
                  <a:lnTo>
                    <a:pt x="21" y="677"/>
                  </a:lnTo>
                  <a:lnTo>
                    <a:pt x="26" y="683"/>
                  </a:lnTo>
                  <a:lnTo>
                    <a:pt x="31" y="688"/>
                  </a:lnTo>
                  <a:lnTo>
                    <a:pt x="37" y="693"/>
                  </a:lnTo>
                  <a:lnTo>
                    <a:pt x="42" y="698"/>
                  </a:lnTo>
                  <a:lnTo>
                    <a:pt x="49" y="701"/>
                  </a:lnTo>
                  <a:lnTo>
                    <a:pt x="56" y="705"/>
                  </a:lnTo>
                  <a:lnTo>
                    <a:pt x="62" y="707"/>
                  </a:lnTo>
                  <a:lnTo>
                    <a:pt x="69" y="709"/>
                  </a:lnTo>
                  <a:lnTo>
                    <a:pt x="77" y="710"/>
                  </a:lnTo>
                  <a:lnTo>
                    <a:pt x="83" y="710"/>
                  </a:lnTo>
                  <a:lnTo>
                    <a:pt x="90" y="709"/>
                  </a:lnTo>
                  <a:lnTo>
                    <a:pt x="97" y="707"/>
                  </a:lnTo>
                  <a:lnTo>
                    <a:pt x="105" y="705"/>
                  </a:lnTo>
                  <a:lnTo>
                    <a:pt x="112" y="701"/>
                  </a:lnTo>
                  <a:lnTo>
                    <a:pt x="121" y="695"/>
                  </a:lnTo>
                  <a:lnTo>
                    <a:pt x="131" y="688"/>
                  </a:lnTo>
                  <a:lnTo>
                    <a:pt x="140" y="679"/>
                  </a:lnTo>
                  <a:lnTo>
                    <a:pt x="161" y="658"/>
                  </a:lnTo>
                  <a:lnTo>
                    <a:pt x="185" y="632"/>
                  </a:lnTo>
                  <a:lnTo>
                    <a:pt x="211" y="602"/>
                  </a:lnTo>
                  <a:lnTo>
                    <a:pt x="236" y="568"/>
                  </a:lnTo>
                  <a:lnTo>
                    <a:pt x="265" y="533"/>
                  </a:lnTo>
                  <a:lnTo>
                    <a:pt x="292" y="495"/>
                  </a:lnTo>
                  <a:lnTo>
                    <a:pt x="346" y="418"/>
                  </a:lnTo>
                  <a:lnTo>
                    <a:pt x="394" y="343"/>
                  </a:lnTo>
                  <a:lnTo>
                    <a:pt x="416" y="309"/>
                  </a:lnTo>
                  <a:lnTo>
                    <a:pt x="436" y="278"/>
                  </a:lnTo>
                  <a:lnTo>
                    <a:pt x="452" y="250"/>
                  </a:lnTo>
                  <a:lnTo>
                    <a:pt x="464" y="226"/>
                  </a:lnTo>
                  <a:lnTo>
                    <a:pt x="484" y="187"/>
                  </a:lnTo>
                  <a:lnTo>
                    <a:pt x="501" y="153"/>
                  </a:lnTo>
                  <a:lnTo>
                    <a:pt x="507" y="137"/>
                  </a:lnTo>
                  <a:lnTo>
                    <a:pt x="513" y="122"/>
                  </a:lnTo>
                  <a:lnTo>
                    <a:pt x="517" y="107"/>
                  </a:lnTo>
                  <a:lnTo>
                    <a:pt x="521" y="94"/>
                  </a:lnTo>
                  <a:lnTo>
                    <a:pt x="523" y="81"/>
                  </a:lnTo>
                  <a:lnTo>
                    <a:pt x="524" y="70"/>
                  </a:lnTo>
                  <a:lnTo>
                    <a:pt x="524" y="59"/>
                  </a:lnTo>
                  <a:lnTo>
                    <a:pt x="523" y="49"/>
                  </a:lnTo>
                  <a:lnTo>
                    <a:pt x="521" y="39"/>
                  </a:lnTo>
                  <a:lnTo>
                    <a:pt x="516" y="31"/>
                  </a:lnTo>
                  <a:lnTo>
                    <a:pt x="511" y="22"/>
                  </a:lnTo>
                  <a:lnTo>
                    <a:pt x="505" y="15"/>
                  </a:lnTo>
                  <a:lnTo>
                    <a:pt x="497" y="9"/>
                  </a:lnTo>
                  <a:lnTo>
                    <a:pt x="489" y="4"/>
                  </a:lnTo>
                  <a:lnTo>
                    <a:pt x="480" y="1"/>
                  </a:lnTo>
                  <a:lnTo>
                    <a:pt x="471" y="0"/>
                  </a:lnTo>
                  <a:lnTo>
                    <a:pt x="462" y="0"/>
                  </a:lnTo>
                  <a:lnTo>
                    <a:pt x="453" y="0"/>
                  </a:lnTo>
                  <a:lnTo>
                    <a:pt x="444" y="3"/>
                  </a:lnTo>
                  <a:lnTo>
                    <a:pt x="436" y="5"/>
                  </a:lnTo>
                  <a:lnTo>
                    <a:pt x="421" y="10"/>
                  </a:lnTo>
                  <a:lnTo>
                    <a:pt x="410" y="16"/>
                  </a:lnTo>
                  <a:lnTo>
                    <a:pt x="401" y="21"/>
                  </a:lnTo>
                  <a:lnTo>
                    <a:pt x="399" y="2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6892920" y="2747880"/>
              <a:ext cx="147600" cy="200160"/>
            </a:xfrm>
            <a:custGeom>
              <a:avLst/>
              <a:gdLst/>
              <a:ahLst/>
              <a:rect l="l" t="t" r="r" b="b"/>
              <a:pathLst>
                <a:path w="467" h="630">
                  <a:moveTo>
                    <a:pt x="450" y="14"/>
                  </a:moveTo>
                  <a:lnTo>
                    <a:pt x="456" y="21"/>
                  </a:lnTo>
                  <a:lnTo>
                    <a:pt x="460" y="28"/>
                  </a:lnTo>
                  <a:lnTo>
                    <a:pt x="464" y="36"/>
                  </a:lnTo>
                  <a:lnTo>
                    <a:pt x="466" y="43"/>
                  </a:lnTo>
                  <a:lnTo>
                    <a:pt x="467" y="52"/>
                  </a:lnTo>
                  <a:lnTo>
                    <a:pt x="467" y="61"/>
                  </a:lnTo>
                  <a:lnTo>
                    <a:pt x="466" y="71"/>
                  </a:lnTo>
                  <a:lnTo>
                    <a:pt x="465" y="82"/>
                  </a:lnTo>
                  <a:lnTo>
                    <a:pt x="461" y="93"/>
                  </a:lnTo>
                  <a:lnTo>
                    <a:pt x="457" y="104"/>
                  </a:lnTo>
                  <a:lnTo>
                    <a:pt x="452" y="117"/>
                  </a:lnTo>
                  <a:lnTo>
                    <a:pt x="446" y="130"/>
                  </a:lnTo>
                  <a:lnTo>
                    <a:pt x="433" y="160"/>
                  </a:lnTo>
                  <a:lnTo>
                    <a:pt x="416" y="194"/>
                  </a:lnTo>
                  <a:lnTo>
                    <a:pt x="404" y="213"/>
                  </a:lnTo>
                  <a:lnTo>
                    <a:pt x="390" y="238"/>
                  </a:lnTo>
                  <a:lnTo>
                    <a:pt x="372" y="266"/>
                  </a:lnTo>
                  <a:lnTo>
                    <a:pt x="353" y="297"/>
                  </a:lnTo>
                  <a:lnTo>
                    <a:pt x="308" y="365"/>
                  </a:lnTo>
                  <a:lnTo>
                    <a:pt x="259" y="435"/>
                  </a:lnTo>
                  <a:lnTo>
                    <a:pt x="233" y="469"/>
                  </a:lnTo>
                  <a:lnTo>
                    <a:pt x="209" y="502"/>
                  </a:lnTo>
                  <a:lnTo>
                    <a:pt x="184" y="532"/>
                  </a:lnTo>
                  <a:lnTo>
                    <a:pt x="162" y="560"/>
                  </a:lnTo>
                  <a:lnTo>
                    <a:pt x="140" y="583"/>
                  </a:lnTo>
                  <a:lnTo>
                    <a:pt x="120" y="603"/>
                  </a:lnTo>
                  <a:lnTo>
                    <a:pt x="112" y="611"/>
                  </a:lnTo>
                  <a:lnTo>
                    <a:pt x="103" y="617"/>
                  </a:lnTo>
                  <a:lnTo>
                    <a:pt x="96" y="622"/>
                  </a:lnTo>
                  <a:lnTo>
                    <a:pt x="90" y="625"/>
                  </a:lnTo>
                  <a:lnTo>
                    <a:pt x="82" y="628"/>
                  </a:lnTo>
                  <a:lnTo>
                    <a:pt x="76" y="629"/>
                  </a:lnTo>
                  <a:lnTo>
                    <a:pt x="70" y="630"/>
                  </a:lnTo>
                  <a:lnTo>
                    <a:pt x="64" y="630"/>
                  </a:lnTo>
                  <a:lnTo>
                    <a:pt x="58" y="629"/>
                  </a:lnTo>
                  <a:lnTo>
                    <a:pt x="51" y="628"/>
                  </a:lnTo>
                  <a:lnTo>
                    <a:pt x="46" y="627"/>
                  </a:lnTo>
                  <a:lnTo>
                    <a:pt x="40" y="623"/>
                  </a:lnTo>
                  <a:lnTo>
                    <a:pt x="30" y="617"/>
                  </a:lnTo>
                  <a:lnTo>
                    <a:pt x="22" y="607"/>
                  </a:lnTo>
                  <a:lnTo>
                    <a:pt x="13" y="596"/>
                  </a:lnTo>
                  <a:lnTo>
                    <a:pt x="7" y="583"/>
                  </a:lnTo>
                  <a:lnTo>
                    <a:pt x="2" y="570"/>
                  </a:lnTo>
                  <a:lnTo>
                    <a:pt x="0" y="554"/>
                  </a:lnTo>
                  <a:lnTo>
                    <a:pt x="0" y="538"/>
                  </a:lnTo>
                  <a:lnTo>
                    <a:pt x="1" y="522"/>
                  </a:lnTo>
                  <a:lnTo>
                    <a:pt x="3" y="513"/>
                  </a:lnTo>
                  <a:lnTo>
                    <a:pt x="6" y="505"/>
                  </a:lnTo>
                  <a:lnTo>
                    <a:pt x="10" y="496"/>
                  </a:lnTo>
                  <a:lnTo>
                    <a:pt x="13" y="488"/>
                  </a:lnTo>
                  <a:lnTo>
                    <a:pt x="18" y="479"/>
                  </a:lnTo>
                  <a:lnTo>
                    <a:pt x="24" y="470"/>
                  </a:lnTo>
                  <a:lnTo>
                    <a:pt x="30" y="462"/>
                  </a:lnTo>
                  <a:lnTo>
                    <a:pt x="38" y="454"/>
                  </a:lnTo>
                  <a:lnTo>
                    <a:pt x="55" y="435"/>
                  </a:lnTo>
                  <a:lnTo>
                    <a:pt x="76" y="410"/>
                  </a:lnTo>
                  <a:lnTo>
                    <a:pt x="98" y="381"/>
                  </a:lnTo>
                  <a:lnTo>
                    <a:pt x="124" y="349"/>
                  </a:lnTo>
                  <a:lnTo>
                    <a:pt x="177" y="277"/>
                  </a:lnTo>
                  <a:lnTo>
                    <a:pt x="231" y="203"/>
                  </a:lnTo>
                  <a:lnTo>
                    <a:pt x="280" y="133"/>
                  </a:lnTo>
                  <a:lnTo>
                    <a:pt x="322" y="74"/>
                  </a:lnTo>
                  <a:lnTo>
                    <a:pt x="350" y="35"/>
                  </a:lnTo>
                  <a:lnTo>
                    <a:pt x="360" y="19"/>
                  </a:lnTo>
                  <a:lnTo>
                    <a:pt x="363" y="18"/>
                  </a:lnTo>
                  <a:lnTo>
                    <a:pt x="370" y="14"/>
                  </a:lnTo>
                  <a:lnTo>
                    <a:pt x="380" y="9"/>
                  </a:lnTo>
                  <a:lnTo>
                    <a:pt x="392" y="4"/>
                  </a:lnTo>
                  <a:lnTo>
                    <a:pt x="400" y="3"/>
                  </a:lnTo>
                  <a:lnTo>
                    <a:pt x="407" y="2"/>
                  </a:lnTo>
                  <a:lnTo>
                    <a:pt x="414" y="0"/>
                  </a:lnTo>
                  <a:lnTo>
                    <a:pt x="422" y="2"/>
                  </a:lnTo>
                  <a:lnTo>
                    <a:pt x="429" y="3"/>
                  </a:lnTo>
                  <a:lnTo>
                    <a:pt x="436" y="5"/>
                  </a:lnTo>
                  <a:lnTo>
                    <a:pt x="444" y="9"/>
                  </a:lnTo>
                  <a:lnTo>
                    <a:pt x="450" y="14"/>
                  </a:lnTo>
                  <a:close/>
                </a:path>
              </a:pathLst>
            </a:custGeom>
            <a:solidFill>
              <a:srgbClr val="6c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6899400" y="2766960"/>
              <a:ext cx="128520" cy="174600"/>
            </a:xfrm>
            <a:custGeom>
              <a:avLst/>
              <a:gdLst/>
              <a:ahLst/>
              <a:rect l="l" t="t" r="r" b="b"/>
              <a:pathLst>
                <a:path w="408" h="549">
                  <a:moveTo>
                    <a:pt x="393" y="10"/>
                  </a:moveTo>
                  <a:lnTo>
                    <a:pt x="398" y="16"/>
                  </a:lnTo>
                  <a:lnTo>
                    <a:pt x="401" y="22"/>
                  </a:lnTo>
                  <a:lnTo>
                    <a:pt x="404" y="29"/>
                  </a:lnTo>
                  <a:lnTo>
                    <a:pt x="406" y="35"/>
                  </a:lnTo>
                  <a:lnTo>
                    <a:pt x="408" y="42"/>
                  </a:lnTo>
                  <a:lnTo>
                    <a:pt x="408" y="49"/>
                  </a:lnTo>
                  <a:lnTo>
                    <a:pt x="406" y="58"/>
                  </a:lnTo>
                  <a:lnTo>
                    <a:pt x="405" y="67"/>
                  </a:lnTo>
                  <a:lnTo>
                    <a:pt x="400" y="86"/>
                  </a:lnTo>
                  <a:lnTo>
                    <a:pt x="392" y="107"/>
                  </a:lnTo>
                  <a:lnTo>
                    <a:pt x="381" y="132"/>
                  </a:lnTo>
                  <a:lnTo>
                    <a:pt x="366" y="160"/>
                  </a:lnTo>
                  <a:lnTo>
                    <a:pt x="344" y="197"/>
                  </a:lnTo>
                  <a:lnTo>
                    <a:pt x="312" y="249"/>
                  </a:lnTo>
                  <a:lnTo>
                    <a:pt x="270" y="309"/>
                  </a:lnTo>
                  <a:lnTo>
                    <a:pt x="226" y="372"/>
                  </a:lnTo>
                  <a:lnTo>
                    <a:pt x="202" y="402"/>
                  </a:lnTo>
                  <a:lnTo>
                    <a:pt x="180" y="433"/>
                  </a:lnTo>
                  <a:lnTo>
                    <a:pt x="158" y="460"/>
                  </a:lnTo>
                  <a:lnTo>
                    <a:pt x="137" y="486"/>
                  </a:lnTo>
                  <a:lnTo>
                    <a:pt x="117" y="507"/>
                  </a:lnTo>
                  <a:lnTo>
                    <a:pt x="100" y="525"/>
                  </a:lnTo>
                  <a:lnTo>
                    <a:pt x="93" y="532"/>
                  </a:lnTo>
                  <a:lnTo>
                    <a:pt x="85" y="538"/>
                  </a:lnTo>
                  <a:lnTo>
                    <a:pt x="78" y="543"/>
                  </a:lnTo>
                  <a:lnTo>
                    <a:pt x="73" y="545"/>
                  </a:lnTo>
                  <a:lnTo>
                    <a:pt x="62" y="549"/>
                  </a:lnTo>
                  <a:lnTo>
                    <a:pt x="52" y="549"/>
                  </a:lnTo>
                  <a:lnTo>
                    <a:pt x="43" y="546"/>
                  </a:lnTo>
                  <a:lnTo>
                    <a:pt x="34" y="543"/>
                  </a:lnTo>
                  <a:lnTo>
                    <a:pt x="25" y="537"/>
                  </a:lnTo>
                  <a:lnTo>
                    <a:pt x="18" y="529"/>
                  </a:lnTo>
                  <a:lnTo>
                    <a:pt x="11" y="519"/>
                  </a:lnTo>
                  <a:lnTo>
                    <a:pt x="7" y="509"/>
                  </a:lnTo>
                  <a:lnTo>
                    <a:pt x="3" y="497"/>
                  </a:lnTo>
                  <a:lnTo>
                    <a:pt x="0" y="485"/>
                  </a:lnTo>
                  <a:lnTo>
                    <a:pt x="0" y="471"/>
                  </a:lnTo>
                  <a:lnTo>
                    <a:pt x="2" y="458"/>
                  </a:lnTo>
                  <a:lnTo>
                    <a:pt x="5" y="444"/>
                  </a:lnTo>
                  <a:lnTo>
                    <a:pt x="11" y="430"/>
                  </a:lnTo>
                  <a:lnTo>
                    <a:pt x="20" y="416"/>
                  </a:lnTo>
                  <a:lnTo>
                    <a:pt x="32" y="401"/>
                  </a:lnTo>
                  <a:lnTo>
                    <a:pt x="47" y="385"/>
                  </a:lnTo>
                  <a:lnTo>
                    <a:pt x="64" y="364"/>
                  </a:lnTo>
                  <a:lnTo>
                    <a:pt x="85" y="339"/>
                  </a:lnTo>
                  <a:lnTo>
                    <a:pt x="106" y="310"/>
                  </a:lnTo>
                  <a:lnTo>
                    <a:pt x="154" y="247"/>
                  </a:lnTo>
                  <a:lnTo>
                    <a:pt x="202" y="181"/>
                  </a:lnTo>
                  <a:lnTo>
                    <a:pt x="248" y="118"/>
                  </a:lnTo>
                  <a:lnTo>
                    <a:pt x="285" y="65"/>
                  </a:lnTo>
                  <a:lnTo>
                    <a:pt x="310" y="30"/>
                  </a:lnTo>
                  <a:lnTo>
                    <a:pt x="320" y="16"/>
                  </a:lnTo>
                  <a:lnTo>
                    <a:pt x="321" y="15"/>
                  </a:lnTo>
                  <a:lnTo>
                    <a:pt x="328" y="11"/>
                  </a:lnTo>
                  <a:lnTo>
                    <a:pt x="336" y="6"/>
                  </a:lnTo>
                  <a:lnTo>
                    <a:pt x="346" y="3"/>
                  </a:lnTo>
                  <a:lnTo>
                    <a:pt x="358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3"/>
                  </a:lnTo>
                  <a:lnTo>
                    <a:pt x="388" y="6"/>
                  </a:lnTo>
                  <a:lnTo>
                    <a:pt x="393" y="10"/>
                  </a:lnTo>
                  <a:close/>
                </a:path>
              </a:pathLst>
            </a:custGeom>
            <a:solidFill>
              <a:srgbClr val="715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6905520" y="2784600"/>
              <a:ext cx="109800" cy="149040"/>
            </a:xfrm>
            <a:custGeom>
              <a:avLst/>
              <a:gdLst/>
              <a:ahLst/>
              <a:rect l="l" t="t" r="r" b="b"/>
              <a:pathLst>
                <a:path w="349" h="467">
                  <a:moveTo>
                    <a:pt x="338" y="7"/>
                  </a:moveTo>
                  <a:lnTo>
                    <a:pt x="342" y="12"/>
                  </a:lnTo>
                  <a:lnTo>
                    <a:pt x="345" y="16"/>
                  </a:lnTo>
                  <a:lnTo>
                    <a:pt x="347" y="21"/>
                  </a:lnTo>
                  <a:lnTo>
                    <a:pt x="348" y="27"/>
                  </a:lnTo>
                  <a:lnTo>
                    <a:pt x="349" y="32"/>
                  </a:lnTo>
                  <a:lnTo>
                    <a:pt x="349" y="38"/>
                  </a:lnTo>
                  <a:lnTo>
                    <a:pt x="348" y="44"/>
                  </a:lnTo>
                  <a:lnTo>
                    <a:pt x="347" y="50"/>
                  </a:lnTo>
                  <a:lnTo>
                    <a:pt x="343" y="66"/>
                  </a:lnTo>
                  <a:lnTo>
                    <a:pt x="336" y="83"/>
                  </a:lnTo>
                  <a:lnTo>
                    <a:pt x="327" y="102"/>
                  </a:lnTo>
                  <a:lnTo>
                    <a:pt x="316" y="124"/>
                  </a:lnTo>
                  <a:lnTo>
                    <a:pt x="298" y="156"/>
                  </a:lnTo>
                  <a:lnTo>
                    <a:pt x="268" y="202"/>
                  </a:lnTo>
                  <a:lnTo>
                    <a:pt x="231" y="254"/>
                  </a:lnTo>
                  <a:lnTo>
                    <a:pt x="191" y="311"/>
                  </a:lnTo>
                  <a:lnTo>
                    <a:pt x="150" y="365"/>
                  </a:lnTo>
                  <a:lnTo>
                    <a:pt x="112" y="412"/>
                  </a:lnTo>
                  <a:lnTo>
                    <a:pt x="95" y="432"/>
                  </a:lnTo>
                  <a:lnTo>
                    <a:pt x="80" y="446"/>
                  </a:lnTo>
                  <a:lnTo>
                    <a:pt x="68" y="457"/>
                  </a:lnTo>
                  <a:lnTo>
                    <a:pt x="58" y="464"/>
                  </a:lnTo>
                  <a:lnTo>
                    <a:pt x="51" y="466"/>
                  </a:lnTo>
                  <a:lnTo>
                    <a:pt x="42" y="467"/>
                  </a:lnTo>
                  <a:lnTo>
                    <a:pt x="35" y="466"/>
                  </a:lnTo>
                  <a:lnTo>
                    <a:pt x="27" y="462"/>
                  </a:lnTo>
                  <a:lnTo>
                    <a:pt x="20" y="459"/>
                  </a:lnTo>
                  <a:lnTo>
                    <a:pt x="15" y="452"/>
                  </a:lnTo>
                  <a:lnTo>
                    <a:pt x="9" y="445"/>
                  </a:lnTo>
                  <a:lnTo>
                    <a:pt x="5" y="436"/>
                  </a:lnTo>
                  <a:lnTo>
                    <a:pt x="3" y="428"/>
                  </a:lnTo>
                  <a:lnTo>
                    <a:pt x="0" y="418"/>
                  </a:lnTo>
                  <a:lnTo>
                    <a:pt x="0" y="408"/>
                  </a:lnTo>
                  <a:lnTo>
                    <a:pt x="1" y="397"/>
                  </a:lnTo>
                  <a:lnTo>
                    <a:pt x="5" y="386"/>
                  </a:lnTo>
                  <a:lnTo>
                    <a:pt x="10" y="375"/>
                  </a:lnTo>
                  <a:lnTo>
                    <a:pt x="16" y="364"/>
                  </a:lnTo>
                  <a:lnTo>
                    <a:pt x="26" y="353"/>
                  </a:lnTo>
                  <a:lnTo>
                    <a:pt x="52" y="321"/>
                  </a:lnTo>
                  <a:lnTo>
                    <a:pt x="89" y="274"/>
                  </a:lnTo>
                  <a:lnTo>
                    <a:pt x="130" y="219"/>
                  </a:lnTo>
                  <a:lnTo>
                    <a:pt x="174" y="161"/>
                  </a:lnTo>
                  <a:lnTo>
                    <a:pt x="214" y="104"/>
                  </a:lnTo>
                  <a:lnTo>
                    <a:pt x="249" y="58"/>
                  </a:lnTo>
                  <a:lnTo>
                    <a:pt x="272" y="26"/>
                  </a:lnTo>
                  <a:lnTo>
                    <a:pt x="281" y="13"/>
                  </a:lnTo>
                  <a:lnTo>
                    <a:pt x="283" y="12"/>
                  </a:lnTo>
                  <a:lnTo>
                    <a:pt x="287" y="10"/>
                  </a:lnTo>
                  <a:lnTo>
                    <a:pt x="293" y="6"/>
                  </a:lnTo>
                  <a:lnTo>
                    <a:pt x="301" y="2"/>
                  </a:lnTo>
                  <a:lnTo>
                    <a:pt x="310" y="0"/>
                  </a:lnTo>
                  <a:lnTo>
                    <a:pt x="320" y="0"/>
                  </a:lnTo>
                  <a:lnTo>
                    <a:pt x="325" y="0"/>
                  </a:lnTo>
                  <a:lnTo>
                    <a:pt x="330" y="1"/>
                  </a:lnTo>
                  <a:lnTo>
                    <a:pt x="333" y="5"/>
                  </a:lnTo>
                  <a:lnTo>
                    <a:pt x="338" y="7"/>
                  </a:lnTo>
                  <a:close/>
                </a:path>
              </a:pathLst>
            </a:custGeom>
            <a:solidFill>
              <a:srgbClr val="76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6912000" y="2803680"/>
              <a:ext cx="92160" cy="122040"/>
            </a:xfrm>
            <a:custGeom>
              <a:avLst/>
              <a:gdLst/>
              <a:ahLst/>
              <a:rect l="l" t="t" r="r" b="b"/>
              <a:pathLst>
                <a:path w="291" h="385">
                  <a:moveTo>
                    <a:pt x="283" y="7"/>
                  </a:moveTo>
                  <a:lnTo>
                    <a:pt x="288" y="13"/>
                  </a:lnTo>
                  <a:lnTo>
                    <a:pt x="290" y="20"/>
                  </a:lnTo>
                  <a:lnTo>
                    <a:pt x="291" y="29"/>
                  </a:lnTo>
                  <a:lnTo>
                    <a:pt x="290" y="39"/>
                  </a:lnTo>
                  <a:lnTo>
                    <a:pt x="286" y="50"/>
                  </a:lnTo>
                  <a:lnTo>
                    <a:pt x="281" y="62"/>
                  </a:lnTo>
                  <a:lnTo>
                    <a:pt x="274" y="77"/>
                  </a:lnTo>
                  <a:lnTo>
                    <a:pt x="267" y="93"/>
                  </a:lnTo>
                  <a:lnTo>
                    <a:pt x="251" y="117"/>
                  </a:lnTo>
                  <a:lnTo>
                    <a:pt x="225" y="155"/>
                  </a:lnTo>
                  <a:lnTo>
                    <a:pt x="193" y="201"/>
                  </a:lnTo>
                  <a:lnTo>
                    <a:pt x="156" y="250"/>
                  </a:lnTo>
                  <a:lnTo>
                    <a:pt x="120" y="298"/>
                  </a:lnTo>
                  <a:lnTo>
                    <a:pt x="86" y="340"/>
                  </a:lnTo>
                  <a:lnTo>
                    <a:pt x="71" y="356"/>
                  </a:lnTo>
                  <a:lnTo>
                    <a:pt x="59" y="369"/>
                  </a:lnTo>
                  <a:lnTo>
                    <a:pt x="49" y="379"/>
                  </a:lnTo>
                  <a:lnTo>
                    <a:pt x="40" y="384"/>
                  </a:lnTo>
                  <a:lnTo>
                    <a:pt x="35" y="385"/>
                  </a:lnTo>
                  <a:lnTo>
                    <a:pt x="29" y="385"/>
                  </a:lnTo>
                  <a:lnTo>
                    <a:pt x="24" y="385"/>
                  </a:lnTo>
                  <a:lnTo>
                    <a:pt x="19" y="383"/>
                  </a:lnTo>
                  <a:lnTo>
                    <a:pt x="15" y="379"/>
                  </a:lnTo>
                  <a:lnTo>
                    <a:pt x="10" y="376"/>
                  </a:lnTo>
                  <a:lnTo>
                    <a:pt x="6" y="371"/>
                  </a:lnTo>
                  <a:lnTo>
                    <a:pt x="3" y="364"/>
                  </a:lnTo>
                  <a:lnTo>
                    <a:pt x="1" y="357"/>
                  </a:lnTo>
                  <a:lnTo>
                    <a:pt x="0" y="351"/>
                  </a:lnTo>
                  <a:lnTo>
                    <a:pt x="0" y="344"/>
                  </a:lnTo>
                  <a:lnTo>
                    <a:pt x="1" y="335"/>
                  </a:lnTo>
                  <a:lnTo>
                    <a:pt x="3" y="326"/>
                  </a:lnTo>
                  <a:lnTo>
                    <a:pt x="7" y="319"/>
                  </a:lnTo>
                  <a:lnTo>
                    <a:pt x="12" y="310"/>
                  </a:lnTo>
                  <a:lnTo>
                    <a:pt x="19" y="302"/>
                  </a:lnTo>
                  <a:lnTo>
                    <a:pt x="39" y="278"/>
                  </a:lnTo>
                  <a:lnTo>
                    <a:pt x="70" y="239"/>
                  </a:lnTo>
                  <a:lnTo>
                    <a:pt x="106" y="191"/>
                  </a:lnTo>
                  <a:lnTo>
                    <a:pt x="144" y="141"/>
                  </a:lnTo>
                  <a:lnTo>
                    <a:pt x="179" y="90"/>
                  </a:lnTo>
                  <a:lnTo>
                    <a:pt x="210" y="48"/>
                  </a:lnTo>
                  <a:lnTo>
                    <a:pt x="231" y="20"/>
                  </a:lnTo>
                  <a:lnTo>
                    <a:pt x="240" y="9"/>
                  </a:lnTo>
                  <a:lnTo>
                    <a:pt x="241" y="8"/>
                  </a:lnTo>
                  <a:lnTo>
                    <a:pt x="243" y="7"/>
                  </a:lnTo>
                  <a:lnTo>
                    <a:pt x="248" y="4"/>
                  </a:lnTo>
                  <a:lnTo>
                    <a:pt x="254" y="3"/>
                  </a:lnTo>
                  <a:lnTo>
                    <a:pt x="262" y="0"/>
                  </a:lnTo>
                  <a:lnTo>
                    <a:pt x="269" y="0"/>
                  </a:lnTo>
                  <a:lnTo>
                    <a:pt x="277" y="2"/>
                  </a:lnTo>
                  <a:lnTo>
                    <a:pt x="283" y="7"/>
                  </a:lnTo>
                  <a:close/>
                </a:path>
              </a:pathLst>
            </a:custGeom>
            <a:solidFill>
              <a:srgbClr val="7b6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916680" y="2820960"/>
              <a:ext cx="74520" cy="96840"/>
            </a:xfrm>
            <a:custGeom>
              <a:avLst/>
              <a:gdLst/>
              <a:ahLst/>
              <a:rect l="l" t="t" r="r" b="b"/>
              <a:pathLst>
                <a:path w="233" h="306">
                  <a:moveTo>
                    <a:pt x="202" y="6"/>
                  </a:moveTo>
                  <a:lnTo>
                    <a:pt x="195" y="16"/>
                  </a:lnTo>
                  <a:lnTo>
                    <a:pt x="176" y="41"/>
                  </a:lnTo>
                  <a:lnTo>
                    <a:pt x="148" y="77"/>
                  </a:lnTo>
                  <a:lnTo>
                    <a:pt x="116" y="119"/>
                  </a:lnTo>
                  <a:lnTo>
                    <a:pt x="83" y="164"/>
                  </a:lnTo>
                  <a:lnTo>
                    <a:pt x="52" y="203"/>
                  </a:lnTo>
                  <a:lnTo>
                    <a:pt x="27" y="235"/>
                  </a:lnTo>
                  <a:lnTo>
                    <a:pt x="13" y="253"/>
                  </a:lnTo>
                  <a:lnTo>
                    <a:pt x="8" y="258"/>
                  </a:lnTo>
                  <a:lnTo>
                    <a:pt x="5" y="263"/>
                  </a:lnTo>
                  <a:lnTo>
                    <a:pt x="3" y="269"/>
                  </a:lnTo>
                  <a:lnTo>
                    <a:pt x="1" y="274"/>
                  </a:lnTo>
                  <a:lnTo>
                    <a:pt x="0" y="279"/>
                  </a:lnTo>
                  <a:lnTo>
                    <a:pt x="0" y="284"/>
                  </a:lnTo>
                  <a:lnTo>
                    <a:pt x="1" y="288"/>
                  </a:lnTo>
                  <a:lnTo>
                    <a:pt x="3" y="293"/>
                  </a:lnTo>
                  <a:lnTo>
                    <a:pt x="5" y="296"/>
                  </a:lnTo>
                  <a:lnTo>
                    <a:pt x="8" y="299"/>
                  </a:lnTo>
                  <a:lnTo>
                    <a:pt x="10" y="303"/>
                  </a:lnTo>
                  <a:lnTo>
                    <a:pt x="13" y="304"/>
                  </a:lnTo>
                  <a:lnTo>
                    <a:pt x="16" y="305"/>
                  </a:lnTo>
                  <a:lnTo>
                    <a:pt x="20" y="306"/>
                  </a:lnTo>
                  <a:lnTo>
                    <a:pt x="24" y="306"/>
                  </a:lnTo>
                  <a:lnTo>
                    <a:pt x="28" y="305"/>
                  </a:lnTo>
                  <a:lnTo>
                    <a:pt x="33" y="301"/>
                  </a:lnTo>
                  <a:lnTo>
                    <a:pt x="41" y="293"/>
                  </a:lnTo>
                  <a:lnTo>
                    <a:pt x="52" y="282"/>
                  </a:lnTo>
                  <a:lnTo>
                    <a:pt x="64" y="267"/>
                  </a:lnTo>
                  <a:lnTo>
                    <a:pt x="92" y="230"/>
                  </a:lnTo>
                  <a:lnTo>
                    <a:pt x="124" y="188"/>
                  </a:lnTo>
                  <a:lnTo>
                    <a:pt x="156" y="145"/>
                  </a:lnTo>
                  <a:lnTo>
                    <a:pt x="185" y="107"/>
                  </a:lnTo>
                  <a:lnTo>
                    <a:pt x="207" y="76"/>
                  </a:lnTo>
                  <a:lnTo>
                    <a:pt x="218" y="58"/>
                  </a:lnTo>
                  <a:lnTo>
                    <a:pt x="223" y="48"/>
                  </a:lnTo>
                  <a:lnTo>
                    <a:pt x="227" y="39"/>
                  </a:lnTo>
                  <a:lnTo>
                    <a:pt x="230" y="32"/>
                  </a:lnTo>
                  <a:lnTo>
                    <a:pt x="231" y="25"/>
                  </a:lnTo>
                  <a:lnTo>
                    <a:pt x="233" y="18"/>
                  </a:lnTo>
                  <a:lnTo>
                    <a:pt x="231" y="12"/>
                  </a:lnTo>
                  <a:lnTo>
                    <a:pt x="230" y="7"/>
                  </a:lnTo>
                  <a:lnTo>
                    <a:pt x="227" y="4"/>
                  </a:lnTo>
                  <a:lnTo>
                    <a:pt x="223" y="1"/>
                  </a:lnTo>
                  <a:lnTo>
                    <a:pt x="219" y="0"/>
                  </a:lnTo>
                  <a:lnTo>
                    <a:pt x="216" y="1"/>
                  </a:lnTo>
                  <a:lnTo>
                    <a:pt x="212" y="1"/>
                  </a:lnTo>
                  <a:lnTo>
                    <a:pt x="208" y="2"/>
                  </a:lnTo>
                  <a:lnTo>
                    <a:pt x="204" y="5"/>
                  </a:lnTo>
                  <a:lnTo>
                    <a:pt x="203" y="6"/>
                  </a:lnTo>
                  <a:lnTo>
                    <a:pt x="202" y="6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207200" y="2517840"/>
              <a:ext cx="187560" cy="34920"/>
            </a:xfrm>
            <a:custGeom>
              <a:avLst/>
              <a:gdLst/>
              <a:ahLst/>
              <a:rect l="l" t="t" r="r" b="b"/>
              <a:pathLst>
                <a:path w="591" h="108">
                  <a:moveTo>
                    <a:pt x="22" y="6"/>
                  </a:moveTo>
                  <a:lnTo>
                    <a:pt x="21" y="7"/>
                  </a:lnTo>
                  <a:lnTo>
                    <a:pt x="16" y="11"/>
                  </a:lnTo>
                  <a:lnTo>
                    <a:pt x="9" y="16"/>
                  </a:lnTo>
                  <a:lnTo>
                    <a:pt x="4" y="22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3" y="39"/>
                  </a:lnTo>
                  <a:lnTo>
                    <a:pt x="5" y="43"/>
                  </a:lnTo>
                  <a:lnTo>
                    <a:pt x="10" y="48"/>
                  </a:lnTo>
                  <a:lnTo>
                    <a:pt x="16" y="53"/>
                  </a:lnTo>
                  <a:lnTo>
                    <a:pt x="26" y="58"/>
                  </a:lnTo>
                  <a:lnTo>
                    <a:pt x="39" y="61"/>
                  </a:lnTo>
                  <a:lnTo>
                    <a:pt x="58" y="66"/>
                  </a:lnTo>
                  <a:lnTo>
                    <a:pt x="80" y="70"/>
                  </a:lnTo>
                  <a:lnTo>
                    <a:pt x="107" y="74"/>
                  </a:lnTo>
                  <a:lnTo>
                    <a:pt x="167" y="82"/>
                  </a:lnTo>
                  <a:lnTo>
                    <a:pt x="234" y="90"/>
                  </a:lnTo>
                  <a:lnTo>
                    <a:pt x="300" y="97"/>
                  </a:lnTo>
                  <a:lnTo>
                    <a:pt x="362" y="102"/>
                  </a:lnTo>
                  <a:lnTo>
                    <a:pt x="410" y="106"/>
                  </a:lnTo>
                  <a:lnTo>
                    <a:pt x="441" y="106"/>
                  </a:lnTo>
                  <a:lnTo>
                    <a:pt x="463" y="107"/>
                  </a:lnTo>
                  <a:lnTo>
                    <a:pt x="486" y="107"/>
                  </a:lnTo>
                  <a:lnTo>
                    <a:pt x="509" y="108"/>
                  </a:lnTo>
                  <a:lnTo>
                    <a:pt x="533" y="108"/>
                  </a:lnTo>
                  <a:lnTo>
                    <a:pt x="555" y="108"/>
                  </a:lnTo>
                  <a:lnTo>
                    <a:pt x="572" y="106"/>
                  </a:lnTo>
                  <a:lnTo>
                    <a:pt x="580" y="104"/>
                  </a:lnTo>
                  <a:lnTo>
                    <a:pt x="584" y="103"/>
                  </a:lnTo>
                  <a:lnTo>
                    <a:pt x="588" y="101"/>
                  </a:lnTo>
                  <a:lnTo>
                    <a:pt x="591" y="98"/>
                  </a:lnTo>
                  <a:lnTo>
                    <a:pt x="591" y="94"/>
                  </a:lnTo>
                  <a:lnTo>
                    <a:pt x="589" y="91"/>
                  </a:lnTo>
                  <a:lnTo>
                    <a:pt x="587" y="86"/>
                  </a:lnTo>
                  <a:lnTo>
                    <a:pt x="582" y="81"/>
                  </a:lnTo>
                  <a:lnTo>
                    <a:pt x="568" y="71"/>
                  </a:lnTo>
                  <a:lnTo>
                    <a:pt x="550" y="60"/>
                  </a:lnTo>
                  <a:lnTo>
                    <a:pt x="527" y="50"/>
                  </a:lnTo>
                  <a:lnTo>
                    <a:pt x="502" y="40"/>
                  </a:lnTo>
                  <a:lnTo>
                    <a:pt x="490" y="37"/>
                  </a:lnTo>
                  <a:lnTo>
                    <a:pt x="476" y="34"/>
                  </a:lnTo>
                  <a:lnTo>
                    <a:pt x="463" y="32"/>
                  </a:lnTo>
                  <a:lnTo>
                    <a:pt x="449" y="30"/>
                  </a:lnTo>
                  <a:lnTo>
                    <a:pt x="412" y="26"/>
                  </a:lnTo>
                  <a:lnTo>
                    <a:pt x="357" y="21"/>
                  </a:lnTo>
                  <a:lnTo>
                    <a:pt x="290" y="13"/>
                  </a:lnTo>
                  <a:lnTo>
                    <a:pt x="219" y="7"/>
                  </a:lnTo>
                  <a:lnTo>
                    <a:pt x="150" y="3"/>
                  </a:lnTo>
                  <a:lnTo>
                    <a:pt x="90" y="0"/>
                  </a:lnTo>
                  <a:lnTo>
                    <a:pt x="65" y="0"/>
                  </a:lnTo>
                  <a:lnTo>
                    <a:pt x="46" y="1"/>
                  </a:lnTo>
                  <a:lnTo>
                    <a:pt x="31" y="2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7203960" y="2565360"/>
              <a:ext cx="211320" cy="41400"/>
            </a:xfrm>
            <a:custGeom>
              <a:avLst/>
              <a:gdLst/>
              <a:ahLst/>
              <a:rect l="l" t="t" r="r" b="b"/>
              <a:pathLst>
                <a:path w="665" h="133">
                  <a:moveTo>
                    <a:pt x="24" y="5"/>
                  </a:moveTo>
                  <a:lnTo>
                    <a:pt x="21" y="6"/>
                  </a:lnTo>
                  <a:lnTo>
                    <a:pt x="16" y="9"/>
                  </a:lnTo>
                  <a:lnTo>
                    <a:pt x="9" y="14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5" y="41"/>
                  </a:lnTo>
                  <a:lnTo>
                    <a:pt x="10" y="45"/>
                  </a:lnTo>
                  <a:lnTo>
                    <a:pt x="16" y="50"/>
                  </a:lnTo>
                  <a:lnTo>
                    <a:pt x="26" y="54"/>
                  </a:lnTo>
                  <a:lnTo>
                    <a:pt x="40" y="58"/>
                  </a:lnTo>
                  <a:lnTo>
                    <a:pt x="58" y="63"/>
                  </a:lnTo>
                  <a:lnTo>
                    <a:pt x="80" y="68"/>
                  </a:lnTo>
                  <a:lnTo>
                    <a:pt x="107" y="74"/>
                  </a:lnTo>
                  <a:lnTo>
                    <a:pt x="170" y="85"/>
                  </a:lnTo>
                  <a:lnTo>
                    <a:pt x="238" y="96"/>
                  </a:lnTo>
                  <a:lnTo>
                    <a:pt x="307" y="106"/>
                  </a:lnTo>
                  <a:lnTo>
                    <a:pt x="368" y="115"/>
                  </a:lnTo>
                  <a:lnTo>
                    <a:pt x="419" y="120"/>
                  </a:lnTo>
                  <a:lnTo>
                    <a:pt x="450" y="122"/>
                  </a:lnTo>
                  <a:lnTo>
                    <a:pt x="474" y="123"/>
                  </a:lnTo>
                  <a:lnTo>
                    <a:pt x="505" y="126"/>
                  </a:lnTo>
                  <a:lnTo>
                    <a:pt x="539" y="128"/>
                  </a:lnTo>
                  <a:lnTo>
                    <a:pt x="575" y="131"/>
                  </a:lnTo>
                  <a:lnTo>
                    <a:pt x="608" y="133"/>
                  </a:lnTo>
                  <a:lnTo>
                    <a:pt x="637" y="133"/>
                  </a:lnTo>
                  <a:lnTo>
                    <a:pt x="648" y="133"/>
                  </a:lnTo>
                  <a:lnTo>
                    <a:pt x="656" y="132"/>
                  </a:lnTo>
                  <a:lnTo>
                    <a:pt x="662" y="131"/>
                  </a:lnTo>
                  <a:lnTo>
                    <a:pt x="665" y="127"/>
                  </a:lnTo>
                  <a:lnTo>
                    <a:pt x="665" y="126"/>
                  </a:lnTo>
                  <a:lnTo>
                    <a:pt x="665" y="125"/>
                  </a:lnTo>
                  <a:lnTo>
                    <a:pt x="662" y="122"/>
                  </a:lnTo>
                  <a:lnTo>
                    <a:pt x="661" y="120"/>
                  </a:lnTo>
                  <a:lnTo>
                    <a:pt x="654" y="115"/>
                  </a:lnTo>
                  <a:lnTo>
                    <a:pt x="644" y="109"/>
                  </a:lnTo>
                  <a:lnTo>
                    <a:pt x="618" y="95"/>
                  </a:lnTo>
                  <a:lnTo>
                    <a:pt x="586" y="82"/>
                  </a:lnTo>
                  <a:lnTo>
                    <a:pt x="550" y="68"/>
                  </a:lnTo>
                  <a:lnTo>
                    <a:pt x="513" y="57"/>
                  </a:lnTo>
                  <a:lnTo>
                    <a:pt x="496" y="52"/>
                  </a:lnTo>
                  <a:lnTo>
                    <a:pt x="479" y="48"/>
                  </a:lnTo>
                  <a:lnTo>
                    <a:pt x="464" y="45"/>
                  </a:lnTo>
                  <a:lnTo>
                    <a:pt x="450" y="43"/>
                  </a:lnTo>
                  <a:lnTo>
                    <a:pt x="413" y="40"/>
                  </a:lnTo>
                  <a:lnTo>
                    <a:pt x="357" y="32"/>
                  </a:lnTo>
                  <a:lnTo>
                    <a:pt x="290" y="24"/>
                  </a:lnTo>
                  <a:lnTo>
                    <a:pt x="218" y="14"/>
                  </a:lnTo>
                  <a:lnTo>
                    <a:pt x="149" y="6"/>
                  </a:lnTo>
                  <a:lnTo>
                    <a:pt x="89" y="2"/>
                  </a:lnTo>
                  <a:lnTo>
                    <a:pt x="64" y="0"/>
                  </a:lnTo>
                  <a:lnTo>
                    <a:pt x="45" y="0"/>
                  </a:lnTo>
                  <a:lnTo>
                    <a:pt x="37" y="2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7210440" y="2565360"/>
              <a:ext cx="198360" cy="38160"/>
            </a:xfrm>
            <a:custGeom>
              <a:avLst/>
              <a:gdLst/>
              <a:ahLst/>
              <a:rect l="l" t="t" r="r" b="b"/>
              <a:pathLst>
                <a:path w="622" h="122">
                  <a:moveTo>
                    <a:pt x="21" y="47"/>
                  </a:moveTo>
                  <a:lnTo>
                    <a:pt x="14" y="43"/>
                  </a:lnTo>
                  <a:lnTo>
                    <a:pt x="8" y="39"/>
                  </a:lnTo>
                  <a:lnTo>
                    <a:pt x="4" y="36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8" y="12"/>
                  </a:lnTo>
                  <a:lnTo>
                    <a:pt x="13" y="7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6" y="1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9" y="1"/>
                  </a:lnTo>
                  <a:lnTo>
                    <a:pt x="134" y="7"/>
                  </a:lnTo>
                  <a:lnTo>
                    <a:pt x="197" y="15"/>
                  </a:lnTo>
                  <a:lnTo>
                    <a:pt x="262" y="23"/>
                  </a:lnTo>
                  <a:lnTo>
                    <a:pt x="323" y="31"/>
                  </a:lnTo>
                  <a:lnTo>
                    <a:pt x="372" y="38"/>
                  </a:lnTo>
                  <a:lnTo>
                    <a:pt x="405" y="42"/>
                  </a:lnTo>
                  <a:lnTo>
                    <a:pt x="431" y="46"/>
                  </a:lnTo>
                  <a:lnTo>
                    <a:pt x="464" y="54"/>
                  </a:lnTo>
                  <a:lnTo>
                    <a:pt x="501" y="64"/>
                  </a:lnTo>
                  <a:lnTo>
                    <a:pt x="538" y="76"/>
                  </a:lnTo>
                  <a:lnTo>
                    <a:pt x="571" y="89"/>
                  </a:lnTo>
                  <a:lnTo>
                    <a:pt x="598" y="101"/>
                  </a:lnTo>
                  <a:lnTo>
                    <a:pt x="609" y="106"/>
                  </a:lnTo>
                  <a:lnTo>
                    <a:pt x="617" y="111"/>
                  </a:lnTo>
                  <a:lnTo>
                    <a:pt x="622" y="115"/>
                  </a:lnTo>
                  <a:lnTo>
                    <a:pt x="622" y="118"/>
                  </a:lnTo>
                  <a:lnTo>
                    <a:pt x="619" y="119"/>
                  </a:lnTo>
                  <a:lnTo>
                    <a:pt x="613" y="121"/>
                  </a:lnTo>
                  <a:lnTo>
                    <a:pt x="603" y="122"/>
                  </a:lnTo>
                  <a:lnTo>
                    <a:pt x="592" y="122"/>
                  </a:lnTo>
                  <a:lnTo>
                    <a:pt x="563" y="121"/>
                  </a:lnTo>
                  <a:lnTo>
                    <a:pt x="528" y="117"/>
                  </a:lnTo>
                  <a:lnTo>
                    <a:pt x="491" y="113"/>
                  </a:lnTo>
                  <a:lnTo>
                    <a:pt x="456" y="111"/>
                  </a:lnTo>
                  <a:lnTo>
                    <a:pt x="426" y="108"/>
                  </a:lnTo>
                  <a:lnTo>
                    <a:pt x="405" y="107"/>
                  </a:lnTo>
                  <a:lnTo>
                    <a:pt x="378" y="105"/>
                  </a:lnTo>
                  <a:lnTo>
                    <a:pt x="333" y="100"/>
                  </a:lnTo>
                  <a:lnTo>
                    <a:pt x="276" y="92"/>
                  </a:lnTo>
                  <a:lnTo>
                    <a:pt x="214" y="84"/>
                  </a:lnTo>
                  <a:lnTo>
                    <a:pt x="152" y="74"/>
                  </a:lnTo>
                  <a:lnTo>
                    <a:pt x="95" y="64"/>
                  </a:lnTo>
                  <a:lnTo>
                    <a:pt x="70" y="59"/>
                  </a:lnTo>
                  <a:lnTo>
                    <a:pt x="50" y="55"/>
                  </a:lnTo>
                  <a:lnTo>
                    <a:pt x="32" y="51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7216920" y="2565360"/>
              <a:ext cx="183960" cy="34920"/>
            </a:xfrm>
            <a:custGeom>
              <a:avLst/>
              <a:gdLst/>
              <a:ahLst/>
              <a:rect l="l" t="t" r="r" b="b"/>
              <a:pathLst>
                <a:path w="581" h="109">
                  <a:moveTo>
                    <a:pt x="17" y="35"/>
                  </a:moveTo>
                  <a:lnTo>
                    <a:pt x="11" y="32"/>
                  </a:lnTo>
                  <a:lnTo>
                    <a:pt x="6" y="30"/>
                  </a:lnTo>
                  <a:lnTo>
                    <a:pt x="4" y="27"/>
                  </a:lnTo>
                  <a:lnTo>
                    <a:pt x="1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21" y="2"/>
                  </a:lnTo>
                  <a:lnTo>
                    <a:pt x="33" y="0"/>
                  </a:lnTo>
                  <a:lnTo>
                    <a:pt x="49" y="2"/>
                  </a:lnTo>
                  <a:lnTo>
                    <a:pt x="70" y="3"/>
                  </a:lnTo>
                  <a:lnTo>
                    <a:pt x="121" y="8"/>
                  </a:lnTo>
                  <a:lnTo>
                    <a:pt x="177" y="14"/>
                  </a:lnTo>
                  <a:lnTo>
                    <a:pt x="236" y="21"/>
                  </a:lnTo>
                  <a:lnTo>
                    <a:pt x="292" y="29"/>
                  </a:lnTo>
                  <a:lnTo>
                    <a:pt x="336" y="35"/>
                  </a:lnTo>
                  <a:lnTo>
                    <a:pt x="363" y="38"/>
                  </a:lnTo>
                  <a:lnTo>
                    <a:pt x="385" y="42"/>
                  </a:lnTo>
                  <a:lnTo>
                    <a:pt x="417" y="50"/>
                  </a:lnTo>
                  <a:lnTo>
                    <a:pt x="453" y="59"/>
                  </a:lnTo>
                  <a:lnTo>
                    <a:pt x="491" y="69"/>
                  </a:lnTo>
                  <a:lnTo>
                    <a:pt x="527" y="82"/>
                  </a:lnTo>
                  <a:lnTo>
                    <a:pt x="555" y="91"/>
                  </a:lnTo>
                  <a:lnTo>
                    <a:pt x="566" y="96"/>
                  </a:lnTo>
                  <a:lnTo>
                    <a:pt x="575" y="100"/>
                  </a:lnTo>
                  <a:lnTo>
                    <a:pt x="580" y="104"/>
                  </a:lnTo>
                  <a:lnTo>
                    <a:pt x="581" y="106"/>
                  </a:lnTo>
                  <a:lnTo>
                    <a:pt x="578" y="107"/>
                  </a:lnTo>
                  <a:lnTo>
                    <a:pt x="572" y="109"/>
                  </a:lnTo>
                  <a:lnTo>
                    <a:pt x="562" y="109"/>
                  </a:lnTo>
                  <a:lnTo>
                    <a:pt x="550" y="107"/>
                  </a:lnTo>
                  <a:lnTo>
                    <a:pt x="519" y="105"/>
                  </a:lnTo>
                  <a:lnTo>
                    <a:pt x="484" y="101"/>
                  </a:lnTo>
                  <a:lnTo>
                    <a:pt x="447" y="98"/>
                  </a:lnTo>
                  <a:lnTo>
                    <a:pt x="411" y="94"/>
                  </a:lnTo>
                  <a:lnTo>
                    <a:pt x="383" y="90"/>
                  </a:lnTo>
                  <a:lnTo>
                    <a:pt x="363" y="89"/>
                  </a:lnTo>
                  <a:lnTo>
                    <a:pt x="340" y="88"/>
                  </a:lnTo>
                  <a:lnTo>
                    <a:pt x="299" y="83"/>
                  </a:lnTo>
                  <a:lnTo>
                    <a:pt x="249" y="77"/>
                  </a:lnTo>
                  <a:lnTo>
                    <a:pt x="192" y="68"/>
                  </a:lnTo>
                  <a:lnTo>
                    <a:pt x="134" y="59"/>
                  </a:lnTo>
                  <a:lnTo>
                    <a:pt x="82" y="51"/>
                  </a:lnTo>
                  <a:lnTo>
                    <a:pt x="60" y="46"/>
                  </a:lnTo>
                  <a:lnTo>
                    <a:pt x="42" y="42"/>
                  </a:lnTo>
                  <a:lnTo>
                    <a:pt x="27" y="38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7223040" y="2565360"/>
              <a:ext cx="171720" cy="30240"/>
            </a:xfrm>
            <a:custGeom>
              <a:avLst/>
              <a:gdLst/>
              <a:ahLst/>
              <a:rect l="l" t="t" r="r" b="b"/>
              <a:pathLst>
                <a:path w="538" h="94">
                  <a:moveTo>
                    <a:pt x="13" y="25"/>
                  </a:moveTo>
                  <a:lnTo>
                    <a:pt x="5" y="20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4" y="6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42" y="1"/>
                  </a:lnTo>
                  <a:lnTo>
                    <a:pt x="60" y="2"/>
                  </a:lnTo>
                  <a:lnTo>
                    <a:pt x="106" y="7"/>
                  </a:lnTo>
                  <a:lnTo>
                    <a:pt x="159" y="13"/>
                  </a:lnTo>
                  <a:lnTo>
                    <a:pt x="212" y="19"/>
                  </a:lnTo>
                  <a:lnTo>
                    <a:pt x="260" y="25"/>
                  </a:lnTo>
                  <a:lnTo>
                    <a:pt x="298" y="30"/>
                  </a:lnTo>
                  <a:lnTo>
                    <a:pt x="320" y="33"/>
                  </a:lnTo>
                  <a:lnTo>
                    <a:pt x="340" y="36"/>
                  </a:lnTo>
                  <a:lnTo>
                    <a:pt x="369" y="43"/>
                  </a:lnTo>
                  <a:lnTo>
                    <a:pt x="405" y="51"/>
                  </a:lnTo>
                  <a:lnTo>
                    <a:pt x="443" y="61"/>
                  </a:lnTo>
                  <a:lnTo>
                    <a:pt x="480" y="71"/>
                  </a:lnTo>
                  <a:lnTo>
                    <a:pt x="509" y="81"/>
                  </a:lnTo>
                  <a:lnTo>
                    <a:pt x="522" y="84"/>
                  </a:lnTo>
                  <a:lnTo>
                    <a:pt x="530" y="88"/>
                  </a:lnTo>
                  <a:lnTo>
                    <a:pt x="536" y="91"/>
                  </a:lnTo>
                  <a:lnTo>
                    <a:pt x="538" y="93"/>
                  </a:lnTo>
                  <a:lnTo>
                    <a:pt x="535" y="94"/>
                  </a:lnTo>
                  <a:lnTo>
                    <a:pt x="529" y="94"/>
                  </a:lnTo>
                  <a:lnTo>
                    <a:pt x="519" y="94"/>
                  </a:lnTo>
                  <a:lnTo>
                    <a:pt x="506" y="93"/>
                  </a:lnTo>
                  <a:lnTo>
                    <a:pt x="475" y="89"/>
                  </a:lnTo>
                  <a:lnTo>
                    <a:pt x="438" y="86"/>
                  </a:lnTo>
                  <a:lnTo>
                    <a:pt x="400" y="81"/>
                  </a:lnTo>
                  <a:lnTo>
                    <a:pt x="365" y="76"/>
                  </a:lnTo>
                  <a:lnTo>
                    <a:pt x="337" y="72"/>
                  </a:lnTo>
                  <a:lnTo>
                    <a:pt x="320" y="71"/>
                  </a:lnTo>
                  <a:lnTo>
                    <a:pt x="301" y="70"/>
                  </a:lnTo>
                  <a:lnTo>
                    <a:pt x="266" y="66"/>
                  </a:lnTo>
                  <a:lnTo>
                    <a:pt x="219" y="60"/>
                  </a:lnTo>
                  <a:lnTo>
                    <a:pt x="167" y="52"/>
                  </a:lnTo>
                  <a:lnTo>
                    <a:pt x="116" y="44"/>
                  </a:lnTo>
                  <a:lnTo>
                    <a:pt x="69" y="36"/>
                  </a:lnTo>
                  <a:lnTo>
                    <a:pt x="33" y="30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7230960" y="2565360"/>
              <a:ext cx="155520" cy="27000"/>
            </a:xfrm>
            <a:custGeom>
              <a:avLst/>
              <a:gdLst/>
              <a:ahLst/>
              <a:rect l="l" t="t" r="r" b="b"/>
              <a:pathLst>
                <a:path w="494" h="81">
                  <a:moveTo>
                    <a:pt x="8" y="0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4" y="13"/>
                  </a:lnTo>
                  <a:lnTo>
                    <a:pt x="8" y="16"/>
                  </a:lnTo>
                  <a:lnTo>
                    <a:pt x="24" y="19"/>
                  </a:lnTo>
                  <a:lnTo>
                    <a:pt x="56" y="26"/>
                  </a:lnTo>
                  <a:lnTo>
                    <a:pt x="97" y="32"/>
                  </a:lnTo>
                  <a:lnTo>
                    <a:pt x="144" y="38"/>
                  </a:lnTo>
                  <a:lnTo>
                    <a:pt x="191" y="44"/>
                  </a:lnTo>
                  <a:lnTo>
                    <a:pt x="231" y="49"/>
                  </a:lnTo>
                  <a:lnTo>
                    <a:pt x="262" y="53"/>
                  </a:lnTo>
                  <a:lnTo>
                    <a:pt x="278" y="54"/>
                  </a:lnTo>
                  <a:lnTo>
                    <a:pt x="291" y="55"/>
                  </a:lnTo>
                  <a:lnTo>
                    <a:pt x="317" y="59"/>
                  </a:lnTo>
                  <a:lnTo>
                    <a:pt x="353" y="64"/>
                  </a:lnTo>
                  <a:lnTo>
                    <a:pt x="391" y="70"/>
                  </a:lnTo>
                  <a:lnTo>
                    <a:pt x="429" y="75"/>
                  </a:lnTo>
                  <a:lnTo>
                    <a:pt x="462" y="79"/>
                  </a:lnTo>
                  <a:lnTo>
                    <a:pt x="486" y="81"/>
                  </a:lnTo>
                  <a:lnTo>
                    <a:pt x="494" y="81"/>
                  </a:lnTo>
                  <a:lnTo>
                    <a:pt x="487" y="77"/>
                  </a:lnTo>
                  <a:lnTo>
                    <a:pt x="465" y="71"/>
                  </a:lnTo>
                  <a:lnTo>
                    <a:pt x="433" y="63"/>
                  </a:lnTo>
                  <a:lnTo>
                    <a:pt x="395" y="54"/>
                  </a:lnTo>
                  <a:lnTo>
                    <a:pt x="357" y="45"/>
                  </a:lnTo>
                  <a:lnTo>
                    <a:pt x="321" y="38"/>
                  </a:lnTo>
                  <a:lnTo>
                    <a:pt x="293" y="32"/>
                  </a:lnTo>
                  <a:lnTo>
                    <a:pt x="278" y="29"/>
                  </a:lnTo>
                  <a:lnTo>
                    <a:pt x="259" y="27"/>
                  </a:lnTo>
                  <a:lnTo>
                    <a:pt x="227" y="23"/>
                  </a:lnTo>
                  <a:lnTo>
                    <a:pt x="184" y="17"/>
                  </a:lnTo>
                  <a:lnTo>
                    <a:pt x="136" y="11"/>
                  </a:lnTo>
                  <a:lnTo>
                    <a:pt x="90" y="6"/>
                  </a:lnTo>
                  <a:lnTo>
                    <a:pt x="49" y="1"/>
                  </a:lnTo>
                  <a:lnTo>
                    <a:pt x="2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7215120" y="2519280"/>
              <a:ext cx="171360" cy="28800"/>
            </a:xfrm>
            <a:custGeom>
              <a:avLst/>
              <a:gdLst/>
              <a:ahLst/>
              <a:rect l="l" t="t" r="r" b="b"/>
              <a:pathLst>
                <a:path w="537" h="92">
                  <a:moveTo>
                    <a:pt x="20" y="42"/>
                  </a:moveTo>
                  <a:lnTo>
                    <a:pt x="12" y="38"/>
                  </a:lnTo>
                  <a:lnTo>
                    <a:pt x="8" y="36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3" y="16"/>
                  </a:lnTo>
                  <a:lnTo>
                    <a:pt x="6" y="11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24" y="1"/>
                  </a:lnTo>
                  <a:lnTo>
                    <a:pt x="37" y="0"/>
                  </a:lnTo>
                  <a:lnTo>
                    <a:pt x="57" y="0"/>
                  </a:lnTo>
                  <a:lnTo>
                    <a:pt x="81" y="1"/>
                  </a:lnTo>
                  <a:lnTo>
                    <a:pt x="140" y="5"/>
                  </a:lnTo>
                  <a:lnTo>
                    <a:pt x="208" y="10"/>
                  </a:lnTo>
                  <a:lnTo>
                    <a:pt x="278" y="16"/>
                  </a:lnTo>
                  <a:lnTo>
                    <a:pt x="343" y="22"/>
                  </a:lnTo>
                  <a:lnTo>
                    <a:pt x="395" y="27"/>
                  </a:lnTo>
                  <a:lnTo>
                    <a:pt x="428" y="31"/>
                  </a:lnTo>
                  <a:lnTo>
                    <a:pt x="448" y="35"/>
                  </a:lnTo>
                  <a:lnTo>
                    <a:pt x="469" y="40"/>
                  </a:lnTo>
                  <a:lnTo>
                    <a:pt x="487" y="47"/>
                  </a:lnTo>
                  <a:lnTo>
                    <a:pt x="505" y="54"/>
                  </a:lnTo>
                  <a:lnTo>
                    <a:pt x="518" y="63"/>
                  </a:lnTo>
                  <a:lnTo>
                    <a:pt x="529" y="72"/>
                  </a:lnTo>
                  <a:lnTo>
                    <a:pt x="533" y="75"/>
                  </a:lnTo>
                  <a:lnTo>
                    <a:pt x="535" y="79"/>
                  </a:lnTo>
                  <a:lnTo>
                    <a:pt x="537" y="83"/>
                  </a:lnTo>
                  <a:lnTo>
                    <a:pt x="537" y="85"/>
                  </a:lnTo>
                  <a:lnTo>
                    <a:pt x="534" y="88"/>
                  </a:lnTo>
                  <a:lnTo>
                    <a:pt x="532" y="89"/>
                  </a:lnTo>
                  <a:lnTo>
                    <a:pt x="527" y="90"/>
                  </a:lnTo>
                  <a:lnTo>
                    <a:pt x="522" y="90"/>
                  </a:lnTo>
                  <a:lnTo>
                    <a:pt x="508" y="91"/>
                  </a:lnTo>
                  <a:lnTo>
                    <a:pt x="491" y="92"/>
                  </a:lnTo>
                  <a:lnTo>
                    <a:pt x="473" y="91"/>
                  </a:lnTo>
                  <a:lnTo>
                    <a:pt x="454" y="91"/>
                  </a:lnTo>
                  <a:lnTo>
                    <a:pt x="436" y="91"/>
                  </a:lnTo>
                  <a:lnTo>
                    <a:pt x="420" y="90"/>
                  </a:lnTo>
                  <a:lnTo>
                    <a:pt x="393" y="89"/>
                  </a:lnTo>
                  <a:lnTo>
                    <a:pt x="346" y="85"/>
                  </a:lnTo>
                  <a:lnTo>
                    <a:pt x="286" y="80"/>
                  </a:lnTo>
                  <a:lnTo>
                    <a:pt x="220" y="73"/>
                  </a:lnTo>
                  <a:lnTo>
                    <a:pt x="154" y="65"/>
                  </a:lnTo>
                  <a:lnTo>
                    <a:pt x="94" y="57"/>
                  </a:lnTo>
                  <a:lnTo>
                    <a:pt x="69" y="53"/>
                  </a:lnTo>
                  <a:lnTo>
                    <a:pt x="47" y="49"/>
                  </a:lnTo>
                  <a:lnTo>
                    <a:pt x="31" y="46"/>
                  </a:lnTo>
                  <a:lnTo>
                    <a:pt x="20" y="42"/>
                  </a:lnTo>
                  <a:close/>
                </a:path>
              </a:pathLst>
            </a:custGeom>
            <a:solidFill>
              <a:srgbClr val="735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7223040" y="2519280"/>
              <a:ext cx="154080" cy="24120"/>
            </a:xfrm>
            <a:custGeom>
              <a:avLst/>
              <a:gdLst/>
              <a:ahLst/>
              <a:rect l="l" t="t" r="r" b="b"/>
              <a:pathLst>
                <a:path w="484" h="75">
                  <a:moveTo>
                    <a:pt x="14" y="30"/>
                  </a:moveTo>
                  <a:lnTo>
                    <a:pt x="10" y="27"/>
                  </a:lnTo>
                  <a:lnTo>
                    <a:pt x="6" y="25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5" y="8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50" y="2"/>
                  </a:lnTo>
                  <a:lnTo>
                    <a:pt x="74" y="3"/>
                  </a:lnTo>
                  <a:lnTo>
                    <a:pt x="133" y="7"/>
                  </a:lnTo>
                  <a:lnTo>
                    <a:pt x="200" y="13"/>
                  </a:lnTo>
                  <a:lnTo>
                    <a:pt x="269" y="19"/>
                  </a:lnTo>
                  <a:lnTo>
                    <a:pt x="332" y="25"/>
                  </a:lnTo>
                  <a:lnTo>
                    <a:pt x="381" y="30"/>
                  </a:lnTo>
                  <a:lnTo>
                    <a:pt x="408" y="32"/>
                  </a:lnTo>
                  <a:lnTo>
                    <a:pt x="423" y="35"/>
                  </a:lnTo>
                  <a:lnTo>
                    <a:pt x="436" y="40"/>
                  </a:lnTo>
                  <a:lnTo>
                    <a:pt x="450" y="45"/>
                  </a:lnTo>
                  <a:lnTo>
                    <a:pt x="461" y="51"/>
                  </a:lnTo>
                  <a:lnTo>
                    <a:pt x="471" y="56"/>
                  </a:lnTo>
                  <a:lnTo>
                    <a:pt x="478" y="62"/>
                  </a:lnTo>
                  <a:lnTo>
                    <a:pt x="483" y="67"/>
                  </a:lnTo>
                  <a:lnTo>
                    <a:pt x="484" y="71"/>
                  </a:lnTo>
                  <a:lnTo>
                    <a:pt x="481" y="73"/>
                  </a:lnTo>
                  <a:lnTo>
                    <a:pt x="475" y="74"/>
                  </a:lnTo>
                  <a:lnTo>
                    <a:pt x="465" y="75"/>
                  </a:lnTo>
                  <a:lnTo>
                    <a:pt x="452" y="75"/>
                  </a:lnTo>
                  <a:lnTo>
                    <a:pt x="440" y="74"/>
                  </a:lnTo>
                  <a:lnTo>
                    <a:pt x="427" y="74"/>
                  </a:lnTo>
                  <a:lnTo>
                    <a:pt x="414" y="73"/>
                  </a:lnTo>
                  <a:lnTo>
                    <a:pt x="403" y="73"/>
                  </a:lnTo>
                  <a:lnTo>
                    <a:pt x="379" y="72"/>
                  </a:lnTo>
                  <a:lnTo>
                    <a:pt x="333" y="68"/>
                  </a:lnTo>
                  <a:lnTo>
                    <a:pt x="274" y="63"/>
                  </a:lnTo>
                  <a:lnTo>
                    <a:pt x="209" y="57"/>
                  </a:lnTo>
                  <a:lnTo>
                    <a:pt x="142" y="50"/>
                  </a:lnTo>
                  <a:lnTo>
                    <a:pt x="83" y="42"/>
                  </a:lnTo>
                  <a:lnTo>
                    <a:pt x="59" y="39"/>
                  </a:lnTo>
                  <a:lnTo>
                    <a:pt x="38" y="36"/>
                  </a:lnTo>
                  <a:lnTo>
                    <a:pt x="23" y="32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7230960" y="2521080"/>
              <a:ext cx="138240" cy="17280"/>
            </a:xfrm>
            <a:custGeom>
              <a:avLst/>
              <a:gdLst/>
              <a:ahLst/>
              <a:rect l="l" t="t" r="r" b="b"/>
              <a:pathLst>
                <a:path w="433" h="59">
                  <a:moveTo>
                    <a:pt x="9" y="0"/>
                  </a:moveTo>
                  <a:lnTo>
                    <a:pt x="9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9" y="16"/>
                  </a:lnTo>
                  <a:lnTo>
                    <a:pt x="30" y="20"/>
                  </a:lnTo>
                  <a:lnTo>
                    <a:pt x="73" y="26"/>
                  </a:lnTo>
                  <a:lnTo>
                    <a:pt x="131" y="32"/>
                  </a:lnTo>
                  <a:lnTo>
                    <a:pt x="197" y="39"/>
                  </a:lnTo>
                  <a:lnTo>
                    <a:pt x="264" y="45"/>
                  </a:lnTo>
                  <a:lnTo>
                    <a:pt x="321" y="52"/>
                  </a:lnTo>
                  <a:lnTo>
                    <a:pt x="366" y="55"/>
                  </a:lnTo>
                  <a:lnTo>
                    <a:pt x="387" y="56"/>
                  </a:lnTo>
                  <a:lnTo>
                    <a:pt x="393" y="56"/>
                  </a:lnTo>
                  <a:lnTo>
                    <a:pt x="400" y="58"/>
                  </a:lnTo>
                  <a:lnTo>
                    <a:pt x="408" y="58"/>
                  </a:lnTo>
                  <a:lnTo>
                    <a:pt x="415" y="59"/>
                  </a:lnTo>
                  <a:lnTo>
                    <a:pt x="421" y="59"/>
                  </a:lnTo>
                  <a:lnTo>
                    <a:pt x="427" y="59"/>
                  </a:lnTo>
                  <a:lnTo>
                    <a:pt x="431" y="58"/>
                  </a:lnTo>
                  <a:lnTo>
                    <a:pt x="433" y="56"/>
                  </a:lnTo>
                  <a:lnTo>
                    <a:pt x="433" y="54"/>
                  </a:lnTo>
                  <a:lnTo>
                    <a:pt x="431" y="52"/>
                  </a:lnTo>
                  <a:lnTo>
                    <a:pt x="426" y="48"/>
                  </a:lnTo>
                  <a:lnTo>
                    <a:pt x="420" y="44"/>
                  </a:lnTo>
                  <a:lnTo>
                    <a:pt x="414" y="40"/>
                  </a:lnTo>
                  <a:lnTo>
                    <a:pt x="406" y="38"/>
                  </a:lnTo>
                  <a:lnTo>
                    <a:pt x="398" y="36"/>
                  </a:lnTo>
                  <a:lnTo>
                    <a:pt x="389" y="34"/>
                  </a:lnTo>
                  <a:lnTo>
                    <a:pt x="367" y="32"/>
                  </a:lnTo>
                  <a:lnTo>
                    <a:pt x="321" y="27"/>
                  </a:lnTo>
                  <a:lnTo>
                    <a:pt x="261" y="21"/>
                  </a:lnTo>
                  <a:lnTo>
                    <a:pt x="193" y="15"/>
                  </a:lnTo>
                  <a:lnTo>
                    <a:pt x="126" y="7"/>
                  </a:lnTo>
                  <a:lnTo>
                    <a:pt x="68" y="2"/>
                  </a:lnTo>
                  <a:lnTo>
                    <a:pt x="2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7281720" y="2722680"/>
              <a:ext cx="47880" cy="30240"/>
            </a:xfrm>
            <a:custGeom>
              <a:avLst/>
              <a:gdLst/>
              <a:ahLst/>
              <a:rect l="l" t="t" r="r" b="b"/>
              <a:pathLst>
                <a:path w="150" h="95">
                  <a:moveTo>
                    <a:pt x="40" y="5"/>
                  </a:moveTo>
                  <a:lnTo>
                    <a:pt x="150" y="68"/>
                  </a:lnTo>
                  <a:lnTo>
                    <a:pt x="118" y="95"/>
                  </a:lnTo>
                  <a:lnTo>
                    <a:pt x="116" y="94"/>
                  </a:lnTo>
                  <a:lnTo>
                    <a:pt x="110" y="91"/>
                  </a:lnTo>
                  <a:lnTo>
                    <a:pt x="100" y="86"/>
                  </a:lnTo>
                  <a:lnTo>
                    <a:pt x="88" y="80"/>
                  </a:lnTo>
                  <a:lnTo>
                    <a:pt x="73" y="74"/>
                  </a:lnTo>
                  <a:lnTo>
                    <a:pt x="57" y="67"/>
                  </a:lnTo>
                  <a:lnTo>
                    <a:pt x="41" y="59"/>
                  </a:lnTo>
                  <a:lnTo>
                    <a:pt x="26" y="52"/>
                  </a:lnTo>
                  <a:lnTo>
                    <a:pt x="19" y="48"/>
                  </a:lnTo>
                  <a:lnTo>
                    <a:pt x="14" y="43"/>
                  </a:lnTo>
                  <a:lnTo>
                    <a:pt x="9" y="38"/>
                  </a:lnTo>
                  <a:lnTo>
                    <a:pt x="5" y="33"/>
                  </a:lnTo>
                  <a:lnTo>
                    <a:pt x="3" y="29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9"/>
                  </a:lnTo>
                  <a:lnTo>
                    <a:pt x="5" y="5"/>
                  </a:lnTo>
                  <a:lnTo>
                    <a:pt x="8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1" y="3"/>
                  </a:lnTo>
                  <a:lnTo>
                    <a:pt x="40" y="5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7335720" y="2705040"/>
              <a:ext cx="41400" cy="41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9" y="111"/>
                  </a:moveTo>
                  <a:lnTo>
                    <a:pt x="127" y="112"/>
                  </a:lnTo>
                  <a:lnTo>
                    <a:pt x="122" y="115"/>
                  </a:lnTo>
                  <a:lnTo>
                    <a:pt x="116" y="117"/>
                  </a:lnTo>
                  <a:lnTo>
                    <a:pt x="107" y="121"/>
                  </a:lnTo>
                  <a:lnTo>
                    <a:pt x="97" y="124"/>
                  </a:lnTo>
                  <a:lnTo>
                    <a:pt x="89" y="126"/>
                  </a:lnTo>
                  <a:lnTo>
                    <a:pt x="81" y="127"/>
                  </a:lnTo>
                  <a:lnTo>
                    <a:pt x="75" y="124"/>
                  </a:lnTo>
                  <a:lnTo>
                    <a:pt x="69" y="121"/>
                  </a:lnTo>
                  <a:lnTo>
                    <a:pt x="61" y="113"/>
                  </a:lnTo>
                  <a:lnTo>
                    <a:pt x="52" y="103"/>
                  </a:lnTo>
                  <a:lnTo>
                    <a:pt x="42" y="91"/>
                  </a:lnTo>
                  <a:lnTo>
                    <a:pt x="32" y="79"/>
                  </a:lnTo>
                  <a:lnTo>
                    <a:pt x="22" y="67"/>
                  </a:lnTo>
                  <a:lnTo>
                    <a:pt x="14" y="55"/>
                  </a:lnTo>
                  <a:lnTo>
                    <a:pt x="6" y="46"/>
                  </a:lnTo>
                  <a:lnTo>
                    <a:pt x="4" y="42"/>
                  </a:lnTo>
                  <a:lnTo>
                    <a:pt x="3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5" y="8"/>
                  </a:lnTo>
                  <a:lnTo>
                    <a:pt x="9" y="4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4"/>
                  </a:lnTo>
                  <a:lnTo>
                    <a:pt x="37" y="8"/>
                  </a:lnTo>
                  <a:lnTo>
                    <a:pt x="49" y="17"/>
                  </a:lnTo>
                  <a:lnTo>
                    <a:pt x="63" y="30"/>
                  </a:lnTo>
                  <a:lnTo>
                    <a:pt x="78" y="44"/>
                  </a:lnTo>
                  <a:lnTo>
                    <a:pt x="91" y="59"/>
                  </a:lnTo>
                  <a:lnTo>
                    <a:pt x="104" y="74"/>
                  </a:lnTo>
                  <a:lnTo>
                    <a:pt x="115" y="89"/>
                  </a:lnTo>
                  <a:lnTo>
                    <a:pt x="123" y="101"/>
                  </a:lnTo>
                  <a:lnTo>
                    <a:pt x="129" y="111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7373880" y="2532240"/>
              <a:ext cx="55800" cy="20520"/>
            </a:xfrm>
            <a:custGeom>
              <a:avLst/>
              <a:gdLst/>
              <a:ahLst/>
              <a:rect l="l" t="t" r="r" b="b"/>
              <a:pathLst>
                <a:path w="174" h="65">
                  <a:moveTo>
                    <a:pt x="23" y="0"/>
                  </a:moveTo>
                  <a:lnTo>
                    <a:pt x="174" y="32"/>
                  </a:lnTo>
                  <a:lnTo>
                    <a:pt x="163" y="65"/>
                  </a:lnTo>
                  <a:lnTo>
                    <a:pt x="159" y="64"/>
                  </a:lnTo>
                  <a:lnTo>
                    <a:pt x="147" y="63"/>
                  </a:lnTo>
                  <a:lnTo>
                    <a:pt x="130" y="60"/>
                  </a:lnTo>
                  <a:lnTo>
                    <a:pt x="107" y="57"/>
                  </a:lnTo>
                  <a:lnTo>
                    <a:pt x="85" y="52"/>
                  </a:lnTo>
                  <a:lnTo>
                    <a:pt x="63" y="48"/>
                  </a:lnTo>
                  <a:lnTo>
                    <a:pt x="45" y="43"/>
                  </a:lnTo>
                  <a:lnTo>
                    <a:pt x="30" y="38"/>
                  </a:lnTo>
                  <a:lnTo>
                    <a:pt x="20" y="32"/>
                  </a:lnTo>
                  <a:lnTo>
                    <a:pt x="11" y="26"/>
                  </a:lnTo>
                  <a:lnTo>
                    <a:pt x="5" y="18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281720" y="2722680"/>
              <a:ext cx="47880" cy="30240"/>
            </a:xfrm>
            <a:custGeom>
              <a:avLst/>
              <a:gdLst/>
              <a:ahLst/>
              <a:rect l="l" t="t" r="r" b="b"/>
              <a:pathLst>
                <a:path w="150" h="96">
                  <a:moveTo>
                    <a:pt x="150" y="69"/>
                  </a:moveTo>
                  <a:lnTo>
                    <a:pt x="118" y="96"/>
                  </a:lnTo>
                  <a:lnTo>
                    <a:pt x="116" y="95"/>
                  </a:lnTo>
                  <a:lnTo>
                    <a:pt x="110" y="92"/>
                  </a:lnTo>
                  <a:lnTo>
                    <a:pt x="100" y="87"/>
                  </a:lnTo>
                  <a:lnTo>
                    <a:pt x="88" y="81"/>
                  </a:lnTo>
                  <a:lnTo>
                    <a:pt x="73" y="75"/>
                  </a:lnTo>
                  <a:lnTo>
                    <a:pt x="57" y="68"/>
                  </a:lnTo>
                  <a:lnTo>
                    <a:pt x="41" y="60"/>
                  </a:lnTo>
                  <a:lnTo>
                    <a:pt x="26" y="53"/>
                  </a:lnTo>
                  <a:lnTo>
                    <a:pt x="20" y="49"/>
                  </a:lnTo>
                  <a:lnTo>
                    <a:pt x="14" y="46"/>
                  </a:lnTo>
                  <a:lnTo>
                    <a:pt x="10" y="41"/>
                  </a:lnTo>
                  <a:lnTo>
                    <a:pt x="6" y="37"/>
                  </a:lnTo>
                  <a:lnTo>
                    <a:pt x="4" y="32"/>
                  </a:lnTo>
                  <a:lnTo>
                    <a:pt x="2" y="27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1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7335720" y="2705040"/>
              <a:ext cx="41400" cy="41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9" y="111"/>
                  </a:moveTo>
                  <a:lnTo>
                    <a:pt x="127" y="112"/>
                  </a:lnTo>
                  <a:lnTo>
                    <a:pt x="122" y="115"/>
                  </a:lnTo>
                  <a:lnTo>
                    <a:pt x="116" y="117"/>
                  </a:lnTo>
                  <a:lnTo>
                    <a:pt x="107" y="121"/>
                  </a:lnTo>
                  <a:lnTo>
                    <a:pt x="97" y="124"/>
                  </a:lnTo>
                  <a:lnTo>
                    <a:pt x="89" y="126"/>
                  </a:lnTo>
                  <a:lnTo>
                    <a:pt x="81" y="127"/>
                  </a:lnTo>
                  <a:lnTo>
                    <a:pt x="75" y="124"/>
                  </a:lnTo>
                  <a:lnTo>
                    <a:pt x="69" y="121"/>
                  </a:lnTo>
                  <a:lnTo>
                    <a:pt x="61" y="113"/>
                  </a:lnTo>
                  <a:lnTo>
                    <a:pt x="52" y="103"/>
                  </a:lnTo>
                  <a:lnTo>
                    <a:pt x="42" y="91"/>
                  </a:lnTo>
                  <a:lnTo>
                    <a:pt x="32" y="79"/>
                  </a:lnTo>
                  <a:lnTo>
                    <a:pt x="22" y="67"/>
                  </a:lnTo>
                  <a:lnTo>
                    <a:pt x="14" y="55"/>
                  </a:lnTo>
                  <a:lnTo>
                    <a:pt x="6" y="46"/>
                  </a:lnTo>
                  <a:lnTo>
                    <a:pt x="4" y="42"/>
                  </a:lnTo>
                  <a:lnTo>
                    <a:pt x="3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5" y="8"/>
                  </a:lnTo>
                  <a:lnTo>
                    <a:pt x="9" y="4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4"/>
                  </a:lnTo>
                  <a:lnTo>
                    <a:pt x="37" y="8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7373880" y="2532240"/>
              <a:ext cx="55800" cy="20520"/>
            </a:xfrm>
            <a:custGeom>
              <a:avLst/>
              <a:gdLst/>
              <a:ahLst/>
              <a:rect l="l" t="t" r="r" b="b"/>
              <a:pathLst>
                <a:path w="174" h="65">
                  <a:moveTo>
                    <a:pt x="174" y="32"/>
                  </a:moveTo>
                  <a:lnTo>
                    <a:pt x="163" y="65"/>
                  </a:lnTo>
                  <a:lnTo>
                    <a:pt x="159" y="64"/>
                  </a:lnTo>
                  <a:lnTo>
                    <a:pt x="147" y="63"/>
                  </a:lnTo>
                  <a:lnTo>
                    <a:pt x="130" y="60"/>
                  </a:lnTo>
                  <a:lnTo>
                    <a:pt x="107" y="57"/>
                  </a:lnTo>
                  <a:lnTo>
                    <a:pt x="85" y="52"/>
                  </a:lnTo>
                  <a:lnTo>
                    <a:pt x="63" y="48"/>
                  </a:lnTo>
                  <a:lnTo>
                    <a:pt x="45" y="43"/>
                  </a:lnTo>
                  <a:lnTo>
                    <a:pt x="30" y="38"/>
                  </a:lnTo>
                  <a:lnTo>
                    <a:pt x="20" y="32"/>
                  </a:lnTo>
                  <a:lnTo>
                    <a:pt x="11" y="26"/>
                  </a:lnTo>
                  <a:lnTo>
                    <a:pt x="5" y="18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7378560" y="2524320"/>
              <a:ext cx="385920" cy="1609560"/>
            </a:xfrm>
            <a:custGeom>
              <a:avLst/>
              <a:gdLst/>
              <a:ahLst/>
              <a:rect l="l" t="t" r="r" b="b"/>
              <a:pathLst>
                <a:path w="1211" h="5069">
                  <a:moveTo>
                    <a:pt x="385" y="654"/>
                  </a:moveTo>
                  <a:lnTo>
                    <a:pt x="395" y="643"/>
                  </a:lnTo>
                  <a:lnTo>
                    <a:pt x="407" y="632"/>
                  </a:lnTo>
                  <a:lnTo>
                    <a:pt x="419" y="620"/>
                  </a:lnTo>
                  <a:lnTo>
                    <a:pt x="433" y="609"/>
                  </a:lnTo>
                  <a:lnTo>
                    <a:pt x="463" y="585"/>
                  </a:lnTo>
                  <a:lnTo>
                    <a:pt x="497" y="563"/>
                  </a:lnTo>
                  <a:lnTo>
                    <a:pt x="532" y="540"/>
                  </a:lnTo>
                  <a:lnTo>
                    <a:pt x="570" y="518"/>
                  </a:lnTo>
                  <a:lnTo>
                    <a:pt x="610" y="494"/>
                  </a:lnTo>
                  <a:lnTo>
                    <a:pt x="650" y="472"/>
                  </a:lnTo>
                  <a:lnTo>
                    <a:pt x="732" y="430"/>
                  </a:lnTo>
                  <a:lnTo>
                    <a:pt x="808" y="390"/>
                  </a:lnTo>
                  <a:lnTo>
                    <a:pt x="845" y="371"/>
                  </a:lnTo>
                  <a:lnTo>
                    <a:pt x="877" y="353"/>
                  </a:lnTo>
                  <a:lnTo>
                    <a:pt x="908" y="336"/>
                  </a:lnTo>
                  <a:lnTo>
                    <a:pt x="933" y="320"/>
                  </a:lnTo>
                  <a:lnTo>
                    <a:pt x="957" y="304"/>
                  </a:lnTo>
                  <a:lnTo>
                    <a:pt x="981" y="284"/>
                  </a:lnTo>
                  <a:lnTo>
                    <a:pt x="1005" y="261"/>
                  </a:lnTo>
                  <a:lnTo>
                    <a:pt x="1029" y="236"/>
                  </a:lnTo>
                  <a:lnTo>
                    <a:pt x="1053" y="210"/>
                  </a:lnTo>
                  <a:lnTo>
                    <a:pt x="1075" y="184"/>
                  </a:lnTo>
                  <a:lnTo>
                    <a:pt x="1097" y="157"/>
                  </a:lnTo>
                  <a:lnTo>
                    <a:pt x="1117" y="130"/>
                  </a:lnTo>
                  <a:lnTo>
                    <a:pt x="1154" y="80"/>
                  </a:lnTo>
                  <a:lnTo>
                    <a:pt x="1182" y="38"/>
                  </a:lnTo>
                  <a:lnTo>
                    <a:pt x="1200" y="10"/>
                  </a:lnTo>
                  <a:lnTo>
                    <a:pt x="1208" y="0"/>
                  </a:lnTo>
                  <a:lnTo>
                    <a:pt x="1210" y="18"/>
                  </a:lnTo>
                  <a:lnTo>
                    <a:pt x="1211" y="37"/>
                  </a:lnTo>
                  <a:lnTo>
                    <a:pt x="1211" y="47"/>
                  </a:lnTo>
                  <a:lnTo>
                    <a:pt x="1210" y="57"/>
                  </a:lnTo>
                  <a:lnTo>
                    <a:pt x="1209" y="66"/>
                  </a:lnTo>
                  <a:lnTo>
                    <a:pt x="1208" y="76"/>
                  </a:lnTo>
                  <a:lnTo>
                    <a:pt x="1205" y="87"/>
                  </a:lnTo>
                  <a:lnTo>
                    <a:pt x="1202" y="98"/>
                  </a:lnTo>
                  <a:lnTo>
                    <a:pt x="1197" y="111"/>
                  </a:lnTo>
                  <a:lnTo>
                    <a:pt x="1191" y="124"/>
                  </a:lnTo>
                  <a:lnTo>
                    <a:pt x="1182" y="138"/>
                  </a:lnTo>
                  <a:lnTo>
                    <a:pt x="1173" y="152"/>
                  </a:lnTo>
                  <a:lnTo>
                    <a:pt x="1163" y="167"/>
                  </a:lnTo>
                  <a:lnTo>
                    <a:pt x="1151" y="184"/>
                  </a:lnTo>
                  <a:lnTo>
                    <a:pt x="1123" y="219"/>
                  </a:lnTo>
                  <a:lnTo>
                    <a:pt x="1095" y="256"/>
                  </a:lnTo>
                  <a:lnTo>
                    <a:pt x="1066" y="293"/>
                  </a:lnTo>
                  <a:lnTo>
                    <a:pt x="1038" y="332"/>
                  </a:lnTo>
                  <a:lnTo>
                    <a:pt x="1010" y="371"/>
                  </a:lnTo>
                  <a:lnTo>
                    <a:pt x="983" y="410"/>
                  </a:lnTo>
                  <a:lnTo>
                    <a:pt x="954" y="449"/>
                  </a:lnTo>
                  <a:lnTo>
                    <a:pt x="927" y="486"/>
                  </a:lnTo>
                  <a:lnTo>
                    <a:pt x="912" y="505"/>
                  </a:lnTo>
                  <a:lnTo>
                    <a:pt x="894" y="526"/>
                  </a:lnTo>
                  <a:lnTo>
                    <a:pt x="873" y="549"/>
                  </a:lnTo>
                  <a:lnTo>
                    <a:pt x="851" y="573"/>
                  </a:lnTo>
                  <a:lnTo>
                    <a:pt x="801" y="622"/>
                  </a:lnTo>
                  <a:lnTo>
                    <a:pt x="746" y="672"/>
                  </a:lnTo>
                  <a:lnTo>
                    <a:pt x="693" y="720"/>
                  </a:lnTo>
                  <a:lnTo>
                    <a:pt x="644" y="761"/>
                  </a:lnTo>
                  <a:lnTo>
                    <a:pt x="602" y="796"/>
                  </a:lnTo>
                  <a:lnTo>
                    <a:pt x="572" y="820"/>
                  </a:lnTo>
                  <a:lnTo>
                    <a:pt x="566" y="824"/>
                  </a:lnTo>
                  <a:lnTo>
                    <a:pt x="561" y="830"/>
                  </a:lnTo>
                  <a:lnTo>
                    <a:pt x="554" y="838"/>
                  </a:lnTo>
                  <a:lnTo>
                    <a:pt x="550" y="845"/>
                  </a:lnTo>
                  <a:lnTo>
                    <a:pt x="540" y="861"/>
                  </a:lnTo>
                  <a:lnTo>
                    <a:pt x="531" y="881"/>
                  </a:lnTo>
                  <a:lnTo>
                    <a:pt x="524" y="903"/>
                  </a:lnTo>
                  <a:lnTo>
                    <a:pt x="518" y="926"/>
                  </a:lnTo>
                  <a:lnTo>
                    <a:pt x="511" y="951"/>
                  </a:lnTo>
                  <a:lnTo>
                    <a:pt x="506" y="977"/>
                  </a:lnTo>
                  <a:lnTo>
                    <a:pt x="503" y="1001"/>
                  </a:lnTo>
                  <a:lnTo>
                    <a:pt x="499" y="1027"/>
                  </a:lnTo>
                  <a:lnTo>
                    <a:pt x="497" y="1052"/>
                  </a:lnTo>
                  <a:lnTo>
                    <a:pt x="495" y="1075"/>
                  </a:lnTo>
                  <a:lnTo>
                    <a:pt x="493" y="1117"/>
                  </a:lnTo>
                  <a:lnTo>
                    <a:pt x="493" y="1149"/>
                  </a:lnTo>
                  <a:lnTo>
                    <a:pt x="495" y="1184"/>
                  </a:lnTo>
                  <a:lnTo>
                    <a:pt x="500" y="1234"/>
                  </a:lnTo>
                  <a:lnTo>
                    <a:pt x="506" y="1295"/>
                  </a:lnTo>
                  <a:lnTo>
                    <a:pt x="515" y="1366"/>
                  </a:lnTo>
                  <a:lnTo>
                    <a:pt x="536" y="1533"/>
                  </a:lnTo>
                  <a:lnTo>
                    <a:pt x="561" y="1720"/>
                  </a:lnTo>
                  <a:lnTo>
                    <a:pt x="574" y="1815"/>
                  </a:lnTo>
                  <a:lnTo>
                    <a:pt x="588" y="1910"/>
                  </a:lnTo>
                  <a:lnTo>
                    <a:pt x="602" y="2004"/>
                  </a:lnTo>
                  <a:lnTo>
                    <a:pt x="617" y="2093"/>
                  </a:lnTo>
                  <a:lnTo>
                    <a:pt x="631" y="2177"/>
                  </a:lnTo>
                  <a:lnTo>
                    <a:pt x="646" y="2252"/>
                  </a:lnTo>
                  <a:lnTo>
                    <a:pt x="659" y="2319"/>
                  </a:lnTo>
                  <a:lnTo>
                    <a:pt x="673" y="2374"/>
                  </a:lnTo>
                  <a:lnTo>
                    <a:pt x="700" y="2489"/>
                  </a:lnTo>
                  <a:lnTo>
                    <a:pt x="729" y="2633"/>
                  </a:lnTo>
                  <a:lnTo>
                    <a:pt x="764" y="2797"/>
                  </a:lnTo>
                  <a:lnTo>
                    <a:pt x="799" y="2968"/>
                  </a:lnTo>
                  <a:lnTo>
                    <a:pt x="818" y="3054"/>
                  </a:lnTo>
                  <a:lnTo>
                    <a:pt x="836" y="3139"/>
                  </a:lnTo>
                  <a:lnTo>
                    <a:pt x="856" y="3221"/>
                  </a:lnTo>
                  <a:lnTo>
                    <a:pt x="874" y="3300"/>
                  </a:lnTo>
                  <a:lnTo>
                    <a:pt x="893" y="3374"/>
                  </a:lnTo>
                  <a:lnTo>
                    <a:pt x="911" y="3440"/>
                  </a:lnTo>
                  <a:lnTo>
                    <a:pt x="930" y="3501"/>
                  </a:lnTo>
                  <a:lnTo>
                    <a:pt x="947" y="3552"/>
                  </a:lnTo>
                  <a:lnTo>
                    <a:pt x="964" y="3601"/>
                  </a:lnTo>
                  <a:lnTo>
                    <a:pt x="981" y="3657"/>
                  </a:lnTo>
                  <a:lnTo>
                    <a:pt x="997" y="3715"/>
                  </a:lnTo>
                  <a:lnTo>
                    <a:pt x="1012" y="3776"/>
                  </a:lnTo>
                  <a:lnTo>
                    <a:pt x="1026" y="3840"/>
                  </a:lnTo>
                  <a:lnTo>
                    <a:pt x="1038" y="3906"/>
                  </a:lnTo>
                  <a:lnTo>
                    <a:pt x="1043" y="3941"/>
                  </a:lnTo>
                  <a:lnTo>
                    <a:pt x="1048" y="3974"/>
                  </a:lnTo>
                  <a:lnTo>
                    <a:pt x="1051" y="4009"/>
                  </a:lnTo>
                  <a:lnTo>
                    <a:pt x="1055" y="4043"/>
                  </a:lnTo>
                  <a:lnTo>
                    <a:pt x="1058" y="4076"/>
                  </a:lnTo>
                  <a:lnTo>
                    <a:pt x="1060" y="4111"/>
                  </a:lnTo>
                  <a:lnTo>
                    <a:pt x="1061" y="4144"/>
                  </a:lnTo>
                  <a:lnTo>
                    <a:pt x="1061" y="4177"/>
                  </a:lnTo>
                  <a:lnTo>
                    <a:pt x="1061" y="4210"/>
                  </a:lnTo>
                  <a:lnTo>
                    <a:pt x="1060" y="4243"/>
                  </a:lnTo>
                  <a:lnTo>
                    <a:pt x="1058" y="4274"/>
                  </a:lnTo>
                  <a:lnTo>
                    <a:pt x="1054" y="4306"/>
                  </a:lnTo>
                  <a:lnTo>
                    <a:pt x="1049" y="4337"/>
                  </a:lnTo>
                  <a:lnTo>
                    <a:pt x="1044" y="4366"/>
                  </a:lnTo>
                  <a:lnTo>
                    <a:pt x="1037" y="4395"/>
                  </a:lnTo>
                  <a:lnTo>
                    <a:pt x="1029" y="4423"/>
                  </a:lnTo>
                  <a:lnTo>
                    <a:pt x="1020" y="4450"/>
                  </a:lnTo>
                  <a:lnTo>
                    <a:pt x="1010" y="4475"/>
                  </a:lnTo>
                  <a:lnTo>
                    <a:pt x="997" y="4499"/>
                  </a:lnTo>
                  <a:lnTo>
                    <a:pt x="985" y="4523"/>
                  </a:lnTo>
                  <a:lnTo>
                    <a:pt x="936" y="4604"/>
                  </a:lnTo>
                  <a:lnTo>
                    <a:pt x="896" y="4674"/>
                  </a:lnTo>
                  <a:lnTo>
                    <a:pt x="866" y="4734"/>
                  </a:lnTo>
                  <a:lnTo>
                    <a:pt x="840" y="4785"/>
                  </a:lnTo>
                  <a:lnTo>
                    <a:pt x="819" y="4829"/>
                  </a:lnTo>
                  <a:lnTo>
                    <a:pt x="799" y="4866"/>
                  </a:lnTo>
                  <a:lnTo>
                    <a:pt x="781" y="4899"/>
                  </a:lnTo>
                  <a:lnTo>
                    <a:pt x="762" y="4930"/>
                  </a:lnTo>
                  <a:lnTo>
                    <a:pt x="750" y="4945"/>
                  </a:lnTo>
                  <a:lnTo>
                    <a:pt x="734" y="4961"/>
                  </a:lnTo>
                  <a:lnTo>
                    <a:pt x="716" y="4978"/>
                  </a:lnTo>
                  <a:lnTo>
                    <a:pt x="693" y="4994"/>
                  </a:lnTo>
                  <a:lnTo>
                    <a:pt x="669" y="5010"/>
                  </a:lnTo>
                  <a:lnTo>
                    <a:pt x="643" y="5025"/>
                  </a:lnTo>
                  <a:lnTo>
                    <a:pt x="615" y="5038"/>
                  </a:lnTo>
                  <a:lnTo>
                    <a:pt x="585" y="5049"/>
                  </a:lnTo>
                  <a:lnTo>
                    <a:pt x="570" y="5054"/>
                  </a:lnTo>
                  <a:lnTo>
                    <a:pt x="556" y="5059"/>
                  </a:lnTo>
                  <a:lnTo>
                    <a:pt x="541" y="5061"/>
                  </a:lnTo>
                  <a:lnTo>
                    <a:pt x="526" y="5065"/>
                  </a:lnTo>
                  <a:lnTo>
                    <a:pt x="510" y="5066"/>
                  </a:lnTo>
                  <a:lnTo>
                    <a:pt x="495" y="5068"/>
                  </a:lnTo>
                  <a:lnTo>
                    <a:pt x="482" y="5069"/>
                  </a:lnTo>
                  <a:lnTo>
                    <a:pt x="467" y="5068"/>
                  </a:lnTo>
                  <a:lnTo>
                    <a:pt x="454" y="5066"/>
                  </a:lnTo>
                  <a:lnTo>
                    <a:pt x="439" y="5064"/>
                  </a:lnTo>
                  <a:lnTo>
                    <a:pt x="427" y="5060"/>
                  </a:lnTo>
                  <a:lnTo>
                    <a:pt x="413" y="5055"/>
                  </a:lnTo>
                  <a:lnTo>
                    <a:pt x="401" y="5049"/>
                  </a:lnTo>
                  <a:lnTo>
                    <a:pt x="390" y="5041"/>
                  </a:lnTo>
                  <a:lnTo>
                    <a:pt x="379" y="5032"/>
                  </a:lnTo>
                  <a:lnTo>
                    <a:pt x="369" y="5022"/>
                  </a:lnTo>
                  <a:lnTo>
                    <a:pt x="363" y="5012"/>
                  </a:lnTo>
                  <a:lnTo>
                    <a:pt x="347" y="4986"/>
                  </a:lnTo>
                  <a:lnTo>
                    <a:pt x="322" y="4947"/>
                  </a:lnTo>
                  <a:lnTo>
                    <a:pt x="291" y="4895"/>
                  </a:lnTo>
                  <a:lnTo>
                    <a:pt x="257" y="4838"/>
                  </a:lnTo>
                  <a:lnTo>
                    <a:pt x="219" y="4774"/>
                  </a:lnTo>
                  <a:lnTo>
                    <a:pt x="182" y="4707"/>
                  </a:lnTo>
                  <a:lnTo>
                    <a:pt x="145" y="4642"/>
                  </a:lnTo>
                  <a:lnTo>
                    <a:pt x="113" y="4578"/>
                  </a:lnTo>
                  <a:lnTo>
                    <a:pt x="81" y="4513"/>
                  </a:lnTo>
                  <a:lnTo>
                    <a:pt x="67" y="4480"/>
                  </a:lnTo>
                  <a:lnTo>
                    <a:pt x="54" y="4444"/>
                  </a:lnTo>
                  <a:lnTo>
                    <a:pt x="41" y="4406"/>
                  </a:lnTo>
                  <a:lnTo>
                    <a:pt x="30" y="4366"/>
                  </a:lnTo>
                  <a:lnTo>
                    <a:pt x="21" y="4323"/>
                  </a:lnTo>
                  <a:lnTo>
                    <a:pt x="13" y="4277"/>
                  </a:lnTo>
                  <a:lnTo>
                    <a:pt x="6" y="4227"/>
                  </a:lnTo>
                  <a:lnTo>
                    <a:pt x="2" y="4173"/>
                  </a:lnTo>
                  <a:lnTo>
                    <a:pt x="0" y="4114"/>
                  </a:lnTo>
                  <a:lnTo>
                    <a:pt x="0" y="4050"/>
                  </a:lnTo>
                  <a:lnTo>
                    <a:pt x="2" y="3981"/>
                  </a:lnTo>
                  <a:lnTo>
                    <a:pt x="7" y="3905"/>
                  </a:lnTo>
                  <a:lnTo>
                    <a:pt x="126" y="4128"/>
                  </a:lnTo>
                  <a:lnTo>
                    <a:pt x="144" y="4170"/>
                  </a:lnTo>
                  <a:lnTo>
                    <a:pt x="163" y="4207"/>
                  </a:lnTo>
                  <a:lnTo>
                    <a:pt x="182" y="4239"/>
                  </a:lnTo>
                  <a:lnTo>
                    <a:pt x="203" y="4264"/>
                  </a:lnTo>
                  <a:lnTo>
                    <a:pt x="224" y="4288"/>
                  </a:lnTo>
                  <a:lnTo>
                    <a:pt x="244" y="4306"/>
                  </a:lnTo>
                  <a:lnTo>
                    <a:pt x="267" y="4320"/>
                  </a:lnTo>
                  <a:lnTo>
                    <a:pt x="289" y="4331"/>
                  </a:lnTo>
                  <a:lnTo>
                    <a:pt x="311" y="4338"/>
                  </a:lnTo>
                  <a:lnTo>
                    <a:pt x="333" y="4343"/>
                  </a:lnTo>
                  <a:lnTo>
                    <a:pt x="355" y="4344"/>
                  </a:lnTo>
                  <a:lnTo>
                    <a:pt x="377" y="4343"/>
                  </a:lnTo>
                  <a:lnTo>
                    <a:pt x="399" y="4339"/>
                  </a:lnTo>
                  <a:lnTo>
                    <a:pt x="422" y="4333"/>
                  </a:lnTo>
                  <a:lnTo>
                    <a:pt x="444" y="4326"/>
                  </a:lnTo>
                  <a:lnTo>
                    <a:pt x="465" y="4316"/>
                  </a:lnTo>
                  <a:lnTo>
                    <a:pt x="486" y="4306"/>
                  </a:lnTo>
                  <a:lnTo>
                    <a:pt x="505" y="4294"/>
                  </a:lnTo>
                  <a:lnTo>
                    <a:pt x="524" y="4282"/>
                  </a:lnTo>
                  <a:lnTo>
                    <a:pt x="542" y="4268"/>
                  </a:lnTo>
                  <a:lnTo>
                    <a:pt x="561" y="4255"/>
                  </a:lnTo>
                  <a:lnTo>
                    <a:pt x="577" y="4240"/>
                  </a:lnTo>
                  <a:lnTo>
                    <a:pt x="593" y="4226"/>
                  </a:lnTo>
                  <a:lnTo>
                    <a:pt x="606" y="4213"/>
                  </a:lnTo>
                  <a:lnTo>
                    <a:pt x="649" y="4168"/>
                  </a:lnTo>
                  <a:lnTo>
                    <a:pt x="664" y="4150"/>
                  </a:lnTo>
                  <a:lnTo>
                    <a:pt x="677" y="4125"/>
                  </a:lnTo>
                  <a:lnTo>
                    <a:pt x="689" y="4100"/>
                  </a:lnTo>
                  <a:lnTo>
                    <a:pt x="700" y="4072"/>
                  </a:lnTo>
                  <a:lnTo>
                    <a:pt x="708" y="4044"/>
                  </a:lnTo>
                  <a:lnTo>
                    <a:pt x="717" y="4017"/>
                  </a:lnTo>
                  <a:lnTo>
                    <a:pt x="723" y="3988"/>
                  </a:lnTo>
                  <a:lnTo>
                    <a:pt x="729" y="3958"/>
                  </a:lnTo>
                  <a:lnTo>
                    <a:pt x="735" y="3929"/>
                  </a:lnTo>
                  <a:lnTo>
                    <a:pt x="739" y="3898"/>
                  </a:lnTo>
                  <a:lnTo>
                    <a:pt x="743" y="3867"/>
                  </a:lnTo>
                  <a:lnTo>
                    <a:pt x="745" y="3836"/>
                  </a:lnTo>
                  <a:lnTo>
                    <a:pt x="746" y="3804"/>
                  </a:lnTo>
                  <a:lnTo>
                    <a:pt x="748" y="3772"/>
                  </a:lnTo>
                  <a:lnTo>
                    <a:pt x="748" y="3740"/>
                  </a:lnTo>
                  <a:lnTo>
                    <a:pt x="746" y="3707"/>
                  </a:lnTo>
                  <a:lnTo>
                    <a:pt x="745" y="3675"/>
                  </a:lnTo>
                  <a:lnTo>
                    <a:pt x="741" y="3609"/>
                  </a:lnTo>
                  <a:lnTo>
                    <a:pt x="737" y="3544"/>
                  </a:lnTo>
                  <a:lnTo>
                    <a:pt x="729" y="3477"/>
                  </a:lnTo>
                  <a:lnTo>
                    <a:pt x="721" y="3412"/>
                  </a:lnTo>
                  <a:lnTo>
                    <a:pt x="701" y="3283"/>
                  </a:lnTo>
                  <a:lnTo>
                    <a:pt x="680" y="3161"/>
                  </a:lnTo>
                  <a:lnTo>
                    <a:pt x="654" y="2996"/>
                  </a:lnTo>
                  <a:lnTo>
                    <a:pt x="615" y="2754"/>
                  </a:lnTo>
                  <a:lnTo>
                    <a:pt x="569" y="2461"/>
                  </a:lnTo>
                  <a:lnTo>
                    <a:pt x="521" y="2146"/>
                  </a:lnTo>
                  <a:lnTo>
                    <a:pt x="498" y="1990"/>
                  </a:lnTo>
                  <a:lnTo>
                    <a:pt x="477" y="1839"/>
                  </a:lnTo>
                  <a:lnTo>
                    <a:pt x="456" y="1696"/>
                  </a:lnTo>
                  <a:lnTo>
                    <a:pt x="440" y="1565"/>
                  </a:lnTo>
                  <a:lnTo>
                    <a:pt x="425" y="1449"/>
                  </a:lnTo>
                  <a:lnTo>
                    <a:pt x="415" y="1353"/>
                  </a:lnTo>
                  <a:lnTo>
                    <a:pt x="412" y="1312"/>
                  </a:lnTo>
                  <a:lnTo>
                    <a:pt x="409" y="1278"/>
                  </a:lnTo>
                  <a:lnTo>
                    <a:pt x="408" y="1251"/>
                  </a:lnTo>
                  <a:lnTo>
                    <a:pt x="409" y="1230"/>
                  </a:lnTo>
                  <a:lnTo>
                    <a:pt x="411" y="1197"/>
                  </a:lnTo>
                  <a:lnTo>
                    <a:pt x="409" y="1167"/>
                  </a:lnTo>
                  <a:lnTo>
                    <a:pt x="407" y="1139"/>
                  </a:lnTo>
                  <a:lnTo>
                    <a:pt x="404" y="1113"/>
                  </a:lnTo>
                  <a:lnTo>
                    <a:pt x="399" y="1090"/>
                  </a:lnTo>
                  <a:lnTo>
                    <a:pt x="393" y="1069"/>
                  </a:lnTo>
                  <a:lnTo>
                    <a:pt x="387" y="1049"/>
                  </a:lnTo>
                  <a:lnTo>
                    <a:pt x="380" y="1032"/>
                  </a:lnTo>
                  <a:lnTo>
                    <a:pt x="371" y="1016"/>
                  </a:lnTo>
                  <a:lnTo>
                    <a:pt x="364" y="1001"/>
                  </a:lnTo>
                  <a:lnTo>
                    <a:pt x="355" y="988"/>
                  </a:lnTo>
                  <a:lnTo>
                    <a:pt x="347" y="977"/>
                  </a:lnTo>
                  <a:lnTo>
                    <a:pt x="329" y="956"/>
                  </a:lnTo>
                  <a:lnTo>
                    <a:pt x="313" y="940"/>
                  </a:lnTo>
                  <a:lnTo>
                    <a:pt x="307" y="931"/>
                  </a:lnTo>
                  <a:lnTo>
                    <a:pt x="301" y="921"/>
                  </a:lnTo>
                  <a:lnTo>
                    <a:pt x="296" y="909"/>
                  </a:lnTo>
                  <a:lnTo>
                    <a:pt x="292" y="895"/>
                  </a:lnTo>
                  <a:lnTo>
                    <a:pt x="291" y="879"/>
                  </a:lnTo>
                  <a:lnTo>
                    <a:pt x="290" y="863"/>
                  </a:lnTo>
                  <a:lnTo>
                    <a:pt x="291" y="845"/>
                  </a:lnTo>
                  <a:lnTo>
                    <a:pt x="294" y="827"/>
                  </a:lnTo>
                  <a:lnTo>
                    <a:pt x="299" y="807"/>
                  </a:lnTo>
                  <a:lnTo>
                    <a:pt x="305" y="786"/>
                  </a:lnTo>
                  <a:lnTo>
                    <a:pt x="313" y="764"/>
                  </a:lnTo>
                  <a:lnTo>
                    <a:pt x="323" y="743"/>
                  </a:lnTo>
                  <a:lnTo>
                    <a:pt x="335" y="721"/>
                  </a:lnTo>
                  <a:lnTo>
                    <a:pt x="349" y="699"/>
                  </a:lnTo>
                  <a:lnTo>
                    <a:pt x="366" y="676"/>
                  </a:lnTo>
                  <a:lnTo>
                    <a:pt x="385" y="654"/>
                  </a:lnTo>
                  <a:close/>
                </a:path>
              </a:pathLst>
            </a:custGeom>
            <a:solidFill>
              <a:srgbClr val="64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380360" y="2532240"/>
              <a:ext cx="380880" cy="1601640"/>
            </a:xfrm>
            <a:custGeom>
              <a:avLst/>
              <a:gdLst/>
              <a:ahLst/>
              <a:rect l="l" t="t" r="r" b="b"/>
              <a:pathLst>
                <a:path w="1200" h="5042">
                  <a:moveTo>
                    <a:pt x="407" y="638"/>
                  </a:moveTo>
                  <a:lnTo>
                    <a:pt x="417" y="627"/>
                  </a:lnTo>
                  <a:lnTo>
                    <a:pt x="429" y="616"/>
                  </a:lnTo>
                  <a:lnTo>
                    <a:pt x="441" y="605"/>
                  </a:lnTo>
                  <a:lnTo>
                    <a:pt x="455" y="594"/>
                  </a:lnTo>
                  <a:lnTo>
                    <a:pt x="483" y="572"/>
                  </a:lnTo>
                  <a:lnTo>
                    <a:pt x="515" y="550"/>
                  </a:lnTo>
                  <a:lnTo>
                    <a:pt x="549" y="528"/>
                  </a:lnTo>
                  <a:lnTo>
                    <a:pt x="585" y="507"/>
                  </a:lnTo>
                  <a:lnTo>
                    <a:pt x="622" y="485"/>
                  </a:lnTo>
                  <a:lnTo>
                    <a:pt x="660" y="464"/>
                  </a:lnTo>
                  <a:lnTo>
                    <a:pt x="736" y="423"/>
                  </a:lnTo>
                  <a:lnTo>
                    <a:pt x="809" y="384"/>
                  </a:lnTo>
                  <a:lnTo>
                    <a:pt x="842" y="364"/>
                  </a:lnTo>
                  <a:lnTo>
                    <a:pt x="874" y="346"/>
                  </a:lnTo>
                  <a:lnTo>
                    <a:pt x="903" y="328"/>
                  </a:lnTo>
                  <a:lnTo>
                    <a:pt x="928" y="312"/>
                  </a:lnTo>
                  <a:lnTo>
                    <a:pt x="951" y="296"/>
                  </a:lnTo>
                  <a:lnTo>
                    <a:pt x="973" y="277"/>
                  </a:lnTo>
                  <a:lnTo>
                    <a:pt x="996" y="255"/>
                  </a:lnTo>
                  <a:lnTo>
                    <a:pt x="1019" y="231"/>
                  </a:lnTo>
                  <a:lnTo>
                    <a:pt x="1042" y="205"/>
                  </a:lnTo>
                  <a:lnTo>
                    <a:pt x="1064" y="180"/>
                  </a:lnTo>
                  <a:lnTo>
                    <a:pt x="1085" y="154"/>
                  </a:lnTo>
                  <a:lnTo>
                    <a:pt x="1106" y="127"/>
                  </a:lnTo>
                  <a:lnTo>
                    <a:pt x="1141" y="79"/>
                  </a:lnTo>
                  <a:lnTo>
                    <a:pt x="1170" y="38"/>
                  </a:lnTo>
                  <a:lnTo>
                    <a:pt x="1188" y="10"/>
                  </a:lnTo>
                  <a:lnTo>
                    <a:pt x="1194" y="0"/>
                  </a:lnTo>
                  <a:lnTo>
                    <a:pt x="1197" y="17"/>
                  </a:lnTo>
                  <a:lnTo>
                    <a:pt x="1199" y="33"/>
                  </a:lnTo>
                  <a:lnTo>
                    <a:pt x="1200" y="48"/>
                  </a:lnTo>
                  <a:lnTo>
                    <a:pt x="1199" y="63"/>
                  </a:lnTo>
                  <a:lnTo>
                    <a:pt x="1197" y="71"/>
                  </a:lnTo>
                  <a:lnTo>
                    <a:pt x="1193" y="80"/>
                  </a:lnTo>
                  <a:lnTo>
                    <a:pt x="1189" y="90"/>
                  </a:lnTo>
                  <a:lnTo>
                    <a:pt x="1184" y="101"/>
                  </a:lnTo>
                  <a:lnTo>
                    <a:pt x="1168" y="125"/>
                  </a:lnTo>
                  <a:lnTo>
                    <a:pt x="1146" y="157"/>
                  </a:lnTo>
                  <a:lnTo>
                    <a:pt x="1118" y="192"/>
                  </a:lnTo>
                  <a:lnTo>
                    <a:pt x="1090" y="229"/>
                  </a:lnTo>
                  <a:lnTo>
                    <a:pt x="1061" y="266"/>
                  </a:lnTo>
                  <a:lnTo>
                    <a:pt x="1033" y="305"/>
                  </a:lnTo>
                  <a:lnTo>
                    <a:pt x="1005" y="344"/>
                  </a:lnTo>
                  <a:lnTo>
                    <a:pt x="978" y="383"/>
                  </a:lnTo>
                  <a:lnTo>
                    <a:pt x="949" y="422"/>
                  </a:lnTo>
                  <a:lnTo>
                    <a:pt x="922" y="459"/>
                  </a:lnTo>
                  <a:lnTo>
                    <a:pt x="907" y="478"/>
                  </a:lnTo>
                  <a:lnTo>
                    <a:pt x="889" y="499"/>
                  </a:lnTo>
                  <a:lnTo>
                    <a:pt x="868" y="522"/>
                  </a:lnTo>
                  <a:lnTo>
                    <a:pt x="846" y="546"/>
                  </a:lnTo>
                  <a:lnTo>
                    <a:pt x="796" y="595"/>
                  </a:lnTo>
                  <a:lnTo>
                    <a:pt x="741" y="645"/>
                  </a:lnTo>
                  <a:lnTo>
                    <a:pt x="688" y="693"/>
                  </a:lnTo>
                  <a:lnTo>
                    <a:pt x="639" y="734"/>
                  </a:lnTo>
                  <a:lnTo>
                    <a:pt x="597" y="769"/>
                  </a:lnTo>
                  <a:lnTo>
                    <a:pt x="567" y="793"/>
                  </a:lnTo>
                  <a:lnTo>
                    <a:pt x="561" y="797"/>
                  </a:lnTo>
                  <a:lnTo>
                    <a:pt x="556" y="803"/>
                  </a:lnTo>
                  <a:lnTo>
                    <a:pt x="549" y="811"/>
                  </a:lnTo>
                  <a:lnTo>
                    <a:pt x="545" y="818"/>
                  </a:lnTo>
                  <a:lnTo>
                    <a:pt x="535" y="834"/>
                  </a:lnTo>
                  <a:lnTo>
                    <a:pt x="526" y="854"/>
                  </a:lnTo>
                  <a:lnTo>
                    <a:pt x="519" y="876"/>
                  </a:lnTo>
                  <a:lnTo>
                    <a:pt x="513" y="899"/>
                  </a:lnTo>
                  <a:lnTo>
                    <a:pt x="506" y="924"/>
                  </a:lnTo>
                  <a:lnTo>
                    <a:pt x="501" y="950"/>
                  </a:lnTo>
                  <a:lnTo>
                    <a:pt x="498" y="974"/>
                  </a:lnTo>
                  <a:lnTo>
                    <a:pt x="494" y="1000"/>
                  </a:lnTo>
                  <a:lnTo>
                    <a:pt x="492" y="1025"/>
                  </a:lnTo>
                  <a:lnTo>
                    <a:pt x="490" y="1048"/>
                  </a:lnTo>
                  <a:lnTo>
                    <a:pt x="488" y="1090"/>
                  </a:lnTo>
                  <a:lnTo>
                    <a:pt x="488" y="1122"/>
                  </a:lnTo>
                  <a:lnTo>
                    <a:pt x="490" y="1157"/>
                  </a:lnTo>
                  <a:lnTo>
                    <a:pt x="495" y="1207"/>
                  </a:lnTo>
                  <a:lnTo>
                    <a:pt x="501" y="1268"/>
                  </a:lnTo>
                  <a:lnTo>
                    <a:pt x="510" y="1339"/>
                  </a:lnTo>
                  <a:lnTo>
                    <a:pt x="531" y="1506"/>
                  </a:lnTo>
                  <a:lnTo>
                    <a:pt x="556" y="1693"/>
                  </a:lnTo>
                  <a:lnTo>
                    <a:pt x="569" y="1788"/>
                  </a:lnTo>
                  <a:lnTo>
                    <a:pt x="583" y="1883"/>
                  </a:lnTo>
                  <a:lnTo>
                    <a:pt x="597" y="1977"/>
                  </a:lnTo>
                  <a:lnTo>
                    <a:pt x="612" y="2066"/>
                  </a:lnTo>
                  <a:lnTo>
                    <a:pt x="626" y="2150"/>
                  </a:lnTo>
                  <a:lnTo>
                    <a:pt x="641" y="2225"/>
                  </a:lnTo>
                  <a:lnTo>
                    <a:pt x="654" y="2292"/>
                  </a:lnTo>
                  <a:lnTo>
                    <a:pt x="668" y="2347"/>
                  </a:lnTo>
                  <a:lnTo>
                    <a:pt x="695" y="2462"/>
                  </a:lnTo>
                  <a:lnTo>
                    <a:pt x="724" y="2606"/>
                  </a:lnTo>
                  <a:lnTo>
                    <a:pt x="759" y="2770"/>
                  </a:lnTo>
                  <a:lnTo>
                    <a:pt x="794" y="2941"/>
                  </a:lnTo>
                  <a:lnTo>
                    <a:pt x="813" y="3027"/>
                  </a:lnTo>
                  <a:lnTo>
                    <a:pt x="831" y="3112"/>
                  </a:lnTo>
                  <a:lnTo>
                    <a:pt x="851" y="3194"/>
                  </a:lnTo>
                  <a:lnTo>
                    <a:pt x="869" y="3273"/>
                  </a:lnTo>
                  <a:lnTo>
                    <a:pt x="888" y="3347"/>
                  </a:lnTo>
                  <a:lnTo>
                    <a:pt x="906" y="3413"/>
                  </a:lnTo>
                  <a:lnTo>
                    <a:pt x="925" y="3474"/>
                  </a:lnTo>
                  <a:lnTo>
                    <a:pt x="942" y="3525"/>
                  </a:lnTo>
                  <a:lnTo>
                    <a:pt x="959" y="3574"/>
                  </a:lnTo>
                  <a:lnTo>
                    <a:pt x="976" y="3630"/>
                  </a:lnTo>
                  <a:lnTo>
                    <a:pt x="992" y="3688"/>
                  </a:lnTo>
                  <a:lnTo>
                    <a:pt x="1007" y="3749"/>
                  </a:lnTo>
                  <a:lnTo>
                    <a:pt x="1021" y="3813"/>
                  </a:lnTo>
                  <a:lnTo>
                    <a:pt x="1033" y="3879"/>
                  </a:lnTo>
                  <a:lnTo>
                    <a:pt x="1038" y="3914"/>
                  </a:lnTo>
                  <a:lnTo>
                    <a:pt x="1043" y="3947"/>
                  </a:lnTo>
                  <a:lnTo>
                    <a:pt x="1046" y="3982"/>
                  </a:lnTo>
                  <a:lnTo>
                    <a:pt x="1050" y="4016"/>
                  </a:lnTo>
                  <a:lnTo>
                    <a:pt x="1053" y="4049"/>
                  </a:lnTo>
                  <a:lnTo>
                    <a:pt x="1055" y="4084"/>
                  </a:lnTo>
                  <a:lnTo>
                    <a:pt x="1056" y="4117"/>
                  </a:lnTo>
                  <a:lnTo>
                    <a:pt x="1056" y="4150"/>
                  </a:lnTo>
                  <a:lnTo>
                    <a:pt x="1056" y="4183"/>
                  </a:lnTo>
                  <a:lnTo>
                    <a:pt x="1055" y="4216"/>
                  </a:lnTo>
                  <a:lnTo>
                    <a:pt x="1053" y="4247"/>
                  </a:lnTo>
                  <a:lnTo>
                    <a:pt x="1049" y="4279"/>
                  </a:lnTo>
                  <a:lnTo>
                    <a:pt x="1044" y="4310"/>
                  </a:lnTo>
                  <a:lnTo>
                    <a:pt x="1039" y="4339"/>
                  </a:lnTo>
                  <a:lnTo>
                    <a:pt x="1032" y="4368"/>
                  </a:lnTo>
                  <a:lnTo>
                    <a:pt x="1024" y="4396"/>
                  </a:lnTo>
                  <a:lnTo>
                    <a:pt x="1015" y="4423"/>
                  </a:lnTo>
                  <a:lnTo>
                    <a:pt x="1005" y="4448"/>
                  </a:lnTo>
                  <a:lnTo>
                    <a:pt x="992" y="4472"/>
                  </a:lnTo>
                  <a:lnTo>
                    <a:pt x="980" y="4496"/>
                  </a:lnTo>
                  <a:lnTo>
                    <a:pt x="931" y="4577"/>
                  </a:lnTo>
                  <a:lnTo>
                    <a:pt x="891" y="4647"/>
                  </a:lnTo>
                  <a:lnTo>
                    <a:pt x="861" y="4707"/>
                  </a:lnTo>
                  <a:lnTo>
                    <a:pt x="835" y="4758"/>
                  </a:lnTo>
                  <a:lnTo>
                    <a:pt x="814" y="4802"/>
                  </a:lnTo>
                  <a:lnTo>
                    <a:pt x="794" y="4839"/>
                  </a:lnTo>
                  <a:lnTo>
                    <a:pt x="776" y="4872"/>
                  </a:lnTo>
                  <a:lnTo>
                    <a:pt x="757" y="4903"/>
                  </a:lnTo>
                  <a:lnTo>
                    <a:pt x="745" y="4918"/>
                  </a:lnTo>
                  <a:lnTo>
                    <a:pt x="729" y="4934"/>
                  </a:lnTo>
                  <a:lnTo>
                    <a:pt x="711" y="4951"/>
                  </a:lnTo>
                  <a:lnTo>
                    <a:pt x="688" y="4967"/>
                  </a:lnTo>
                  <a:lnTo>
                    <a:pt x="664" y="4983"/>
                  </a:lnTo>
                  <a:lnTo>
                    <a:pt x="638" y="4998"/>
                  </a:lnTo>
                  <a:lnTo>
                    <a:pt x="610" y="5011"/>
                  </a:lnTo>
                  <a:lnTo>
                    <a:pt x="580" y="5022"/>
                  </a:lnTo>
                  <a:lnTo>
                    <a:pt x="565" y="5027"/>
                  </a:lnTo>
                  <a:lnTo>
                    <a:pt x="551" y="5032"/>
                  </a:lnTo>
                  <a:lnTo>
                    <a:pt x="536" y="5034"/>
                  </a:lnTo>
                  <a:lnTo>
                    <a:pt x="521" y="5038"/>
                  </a:lnTo>
                  <a:lnTo>
                    <a:pt x="505" y="5039"/>
                  </a:lnTo>
                  <a:lnTo>
                    <a:pt x="490" y="5041"/>
                  </a:lnTo>
                  <a:lnTo>
                    <a:pt x="477" y="5042"/>
                  </a:lnTo>
                  <a:lnTo>
                    <a:pt x="462" y="5041"/>
                  </a:lnTo>
                  <a:lnTo>
                    <a:pt x="449" y="5039"/>
                  </a:lnTo>
                  <a:lnTo>
                    <a:pt x="434" y="5037"/>
                  </a:lnTo>
                  <a:lnTo>
                    <a:pt x="422" y="5033"/>
                  </a:lnTo>
                  <a:lnTo>
                    <a:pt x="408" y="5028"/>
                  </a:lnTo>
                  <a:lnTo>
                    <a:pt x="396" y="5022"/>
                  </a:lnTo>
                  <a:lnTo>
                    <a:pt x="385" y="5014"/>
                  </a:lnTo>
                  <a:lnTo>
                    <a:pt x="374" y="5005"/>
                  </a:lnTo>
                  <a:lnTo>
                    <a:pt x="364" y="4995"/>
                  </a:lnTo>
                  <a:lnTo>
                    <a:pt x="358" y="4985"/>
                  </a:lnTo>
                  <a:lnTo>
                    <a:pt x="342" y="4959"/>
                  </a:lnTo>
                  <a:lnTo>
                    <a:pt x="317" y="4920"/>
                  </a:lnTo>
                  <a:lnTo>
                    <a:pt x="286" y="4868"/>
                  </a:lnTo>
                  <a:lnTo>
                    <a:pt x="252" y="4811"/>
                  </a:lnTo>
                  <a:lnTo>
                    <a:pt x="214" y="4747"/>
                  </a:lnTo>
                  <a:lnTo>
                    <a:pt x="177" y="4680"/>
                  </a:lnTo>
                  <a:lnTo>
                    <a:pt x="140" y="4615"/>
                  </a:lnTo>
                  <a:lnTo>
                    <a:pt x="108" y="4551"/>
                  </a:lnTo>
                  <a:lnTo>
                    <a:pt x="78" y="4488"/>
                  </a:lnTo>
                  <a:lnTo>
                    <a:pt x="65" y="4456"/>
                  </a:lnTo>
                  <a:lnTo>
                    <a:pt x="51" y="4422"/>
                  </a:lnTo>
                  <a:lnTo>
                    <a:pt x="40" y="4387"/>
                  </a:lnTo>
                  <a:lnTo>
                    <a:pt x="29" y="4351"/>
                  </a:lnTo>
                  <a:lnTo>
                    <a:pt x="20" y="4311"/>
                  </a:lnTo>
                  <a:lnTo>
                    <a:pt x="13" y="4269"/>
                  </a:lnTo>
                  <a:lnTo>
                    <a:pt x="7" y="4224"/>
                  </a:lnTo>
                  <a:lnTo>
                    <a:pt x="3" y="4176"/>
                  </a:lnTo>
                  <a:lnTo>
                    <a:pt x="1" y="4124"/>
                  </a:lnTo>
                  <a:lnTo>
                    <a:pt x="0" y="4068"/>
                  </a:lnTo>
                  <a:lnTo>
                    <a:pt x="1" y="4006"/>
                  </a:lnTo>
                  <a:lnTo>
                    <a:pt x="4" y="3941"/>
                  </a:lnTo>
                  <a:lnTo>
                    <a:pt x="126" y="4170"/>
                  </a:lnTo>
                  <a:lnTo>
                    <a:pt x="147" y="4218"/>
                  </a:lnTo>
                  <a:lnTo>
                    <a:pt x="168" y="4260"/>
                  </a:lnTo>
                  <a:lnTo>
                    <a:pt x="189" y="4296"/>
                  </a:lnTo>
                  <a:lnTo>
                    <a:pt x="211" y="4327"/>
                  </a:lnTo>
                  <a:lnTo>
                    <a:pt x="233" y="4352"/>
                  </a:lnTo>
                  <a:lnTo>
                    <a:pt x="257" y="4373"/>
                  </a:lnTo>
                  <a:lnTo>
                    <a:pt x="279" y="4389"/>
                  </a:lnTo>
                  <a:lnTo>
                    <a:pt x="302" y="4401"/>
                  </a:lnTo>
                  <a:lnTo>
                    <a:pt x="326" y="4408"/>
                  </a:lnTo>
                  <a:lnTo>
                    <a:pt x="349" y="4412"/>
                  </a:lnTo>
                  <a:lnTo>
                    <a:pt x="371" y="4413"/>
                  </a:lnTo>
                  <a:lnTo>
                    <a:pt x="394" y="4411"/>
                  </a:lnTo>
                  <a:lnTo>
                    <a:pt x="417" y="4405"/>
                  </a:lnTo>
                  <a:lnTo>
                    <a:pt x="439" y="4397"/>
                  </a:lnTo>
                  <a:lnTo>
                    <a:pt x="461" y="4387"/>
                  </a:lnTo>
                  <a:lnTo>
                    <a:pt x="482" y="4375"/>
                  </a:lnTo>
                  <a:lnTo>
                    <a:pt x="503" y="4362"/>
                  </a:lnTo>
                  <a:lnTo>
                    <a:pt x="522" y="4347"/>
                  </a:lnTo>
                  <a:lnTo>
                    <a:pt x="541" y="4331"/>
                  </a:lnTo>
                  <a:lnTo>
                    <a:pt x="559" y="4314"/>
                  </a:lnTo>
                  <a:lnTo>
                    <a:pt x="577" y="4296"/>
                  </a:lnTo>
                  <a:lnTo>
                    <a:pt x="593" y="4279"/>
                  </a:lnTo>
                  <a:lnTo>
                    <a:pt x="609" y="4263"/>
                  </a:lnTo>
                  <a:lnTo>
                    <a:pt x="622" y="4246"/>
                  </a:lnTo>
                  <a:lnTo>
                    <a:pt x="663" y="4192"/>
                  </a:lnTo>
                  <a:lnTo>
                    <a:pt x="679" y="4170"/>
                  </a:lnTo>
                  <a:lnTo>
                    <a:pt x="691" y="4144"/>
                  </a:lnTo>
                  <a:lnTo>
                    <a:pt x="703" y="4118"/>
                  </a:lnTo>
                  <a:lnTo>
                    <a:pt x="713" y="4091"/>
                  </a:lnTo>
                  <a:lnTo>
                    <a:pt x="723" y="4063"/>
                  </a:lnTo>
                  <a:lnTo>
                    <a:pt x="730" y="4033"/>
                  </a:lnTo>
                  <a:lnTo>
                    <a:pt x="738" y="4004"/>
                  </a:lnTo>
                  <a:lnTo>
                    <a:pt x="744" y="3973"/>
                  </a:lnTo>
                  <a:lnTo>
                    <a:pt x="750" y="3942"/>
                  </a:lnTo>
                  <a:lnTo>
                    <a:pt x="754" y="3910"/>
                  </a:lnTo>
                  <a:lnTo>
                    <a:pt x="757" y="3877"/>
                  </a:lnTo>
                  <a:lnTo>
                    <a:pt x="760" y="3844"/>
                  </a:lnTo>
                  <a:lnTo>
                    <a:pt x="762" y="3811"/>
                  </a:lnTo>
                  <a:lnTo>
                    <a:pt x="764" y="3776"/>
                  </a:lnTo>
                  <a:lnTo>
                    <a:pt x="764" y="3742"/>
                  </a:lnTo>
                  <a:lnTo>
                    <a:pt x="764" y="3707"/>
                  </a:lnTo>
                  <a:lnTo>
                    <a:pt x="762" y="3672"/>
                  </a:lnTo>
                  <a:lnTo>
                    <a:pt x="759" y="3601"/>
                  </a:lnTo>
                  <a:lnTo>
                    <a:pt x="754" y="3531"/>
                  </a:lnTo>
                  <a:lnTo>
                    <a:pt x="746" y="3461"/>
                  </a:lnTo>
                  <a:lnTo>
                    <a:pt x="738" y="3392"/>
                  </a:lnTo>
                  <a:lnTo>
                    <a:pt x="728" y="3325"/>
                  </a:lnTo>
                  <a:lnTo>
                    <a:pt x="718" y="3258"/>
                  </a:lnTo>
                  <a:lnTo>
                    <a:pt x="708" y="3196"/>
                  </a:lnTo>
                  <a:lnTo>
                    <a:pt x="697" y="3134"/>
                  </a:lnTo>
                  <a:lnTo>
                    <a:pt x="670" y="2969"/>
                  </a:lnTo>
                  <a:lnTo>
                    <a:pt x="631" y="2726"/>
                  </a:lnTo>
                  <a:lnTo>
                    <a:pt x="583" y="2433"/>
                  </a:lnTo>
                  <a:lnTo>
                    <a:pt x="533" y="2119"/>
                  </a:lnTo>
                  <a:lnTo>
                    <a:pt x="510" y="1962"/>
                  </a:lnTo>
                  <a:lnTo>
                    <a:pt x="488" y="1811"/>
                  </a:lnTo>
                  <a:lnTo>
                    <a:pt x="467" y="1668"/>
                  </a:lnTo>
                  <a:lnTo>
                    <a:pt x="450" y="1536"/>
                  </a:lnTo>
                  <a:lnTo>
                    <a:pt x="435" y="1421"/>
                  </a:lnTo>
                  <a:lnTo>
                    <a:pt x="424" y="1325"/>
                  </a:lnTo>
                  <a:lnTo>
                    <a:pt x="420" y="1284"/>
                  </a:lnTo>
                  <a:lnTo>
                    <a:pt x="418" y="1251"/>
                  </a:lnTo>
                  <a:lnTo>
                    <a:pt x="417" y="1224"/>
                  </a:lnTo>
                  <a:lnTo>
                    <a:pt x="418" y="1203"/>
                  </a:lnTo>
                  <a:lnTo>
                    <a:pt x="418" y="1170"/>
                  </a:lnTo>
                  <a:lnTo>
                    <a:pt x="418" y="1139"/>
                  </a:lnTo>
                  <a:lnTo>
                    <a:pt x="415" y="1111"/>
                  </a:lnTo>
                  <a:lnTo>
                    <a:pt x="413" y="1085"/>
                  </a:lnTo>
                  <a:lnTo>
                    <a:pt x="409" y="1062"/>
                  </a:lnTo>
                  <a:lnTo>
                    <a:pt x="404" y="1039"/>
                  </a:lnTo>
                  <a:lnTo>
                    <a:pt x="398" y="1020"/>
                  </a:lnTo>
                  <a:lnTo>
                    <a:pt x="392" y="1002"/>
                  </a:lnTo>
                  <a:lnTo>
                    <a:pt x="386" y="986"/>
                  </a:lnTo>
                  <a:lnTo>
                    <a:pt x="378" y="972"/>
                  </a:lnTo>
                  <a:lnTo>
                    <a:pt x="370" y="958"/>
                  </a:lnTo>
                  <a:lnTo>
                    <a:pt x="362" y="947"/>
                  </a:lnTo>
                  <a:lnTo>
                    <a:pt x="346" y="926"/>
                  </a:lnTo>
                  <a:lnTo>
                    <a:pt x="330" y="910"/>
                  </a:lnTo>
                  <a:lnTo>
                    <a:pt x="324" y="902"/>
                  </a:lnTo>
                  <a:lnTo>
                    <a:pt x="318" y="892"/>
                  </a:lnTo>
                  <a:lnTo>
                    <a:pt x="314" y="881"/>
                  </a:lnTo>
                  <a:lnTo>
                    <a:pt x="312" y="867"/>
                  </a:lnTo>
                  <a:lnTo>
                    <a:pt x="311" y="854"/>
                  </a:lnTo>
                  <a:lnTo>
                    <a:pt x="311" y="838"/>
                  </a:lnTo>
                  <a:lnTo>
                    <a:pt x="312" y="822"/>
                  </a:lnTo>
                  <a:lnTo>
                    <a:pt x="316" y="803"/>
                  </a:lnTo>
                  <a:lnTo>
                    <a:pt x="321" y="785"/>
                  </a:lnTo>
                  <a:lnTo>
                    <a:pt x="327" y="765"/>
                  </a:lnTo>
                  <a:lnTo>
                    <a:pt x="335" y="745"/>
                  </a:lnTo>
                  <a:lnTo>
                    <a:pt x="345" y="724"/>
                  </a:lnTo>
                  <a:lnTo>
                    <a:pt x="358" y="704"/>
                  </a:lnTo>
                  <a:lnTo>
                    <a:pt x="372" y="681"/>
                  </a:lnTo>
                  <a:lnTo>
                    <a:pt x="388" y="659"/>
                  </a:lnTo>
                  <a:lnTo>
                    <a:pt x="407" y="638"/>
                  </a:lnTo>
                  <a:close/>
                </a:path>
              </a:pathLst>
            </a:custGeom>
            <a:solidFill>
              <a:srgbClr val="624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381800" y="2540160"/>
              <a:ext cx="378000" cy="1593720"/>
            </a:xfrm>
            <a:custGeom>
              <a:avLst/>
              <a:gdLst/>
              <a:ahLst/>
              <a:rect l="l" t="t" r="r" b="b"/>
              <a:pathLst>
                <a:path w="1190" h="5017">
                  <a:moveTo>
                    <a:pt x="432" y="623"/>
                  </a:moveTo>
                  <a:lnTo>
                    <a:pt x="453" y="602"/>
                  </a:lnTo>
                  <a:lnTo>
                    <a:pt x="478" y="580"/>
                  </a:lnTo>
                  <a:lnTo>
                    <a:pt x="506" y="559"/>
                  </a:lnTo>
                  <a:lnTo>
                    <a:pt x="536" y="537"/>
                  </a:lnTo>
                  <a:lnTo>
                    <a:pt x="568" y="516"/>
                  </a:lnTo>
                  <a:lnTo>
                    <a:pt x="601" y="495"/>
                  </a:lnTo>
                  <a:lnTo>
                    <a:pt x="635" y="476"/>
                  </a:lnTo>
                  <a:lnTo>
                    <a:pt x="671" y="455"/>
                  </a:lnTo>
                  <a:lnTo>
                    <a:pt x="742" y="415"/>
                  </a:lnTo>
                  <a:lnTo>
                    <a:pt x="810" y="377"/>
                  </a:lnTo>
                  <a:lnTo>
                    <a:pt x="842" y="359"/>
                  </a:lnTo>
                  <a:lnTo>
                    <a:pt x="873" y="340"/>
                  </a:lnTo>
                  <a:lnTo>
                    <a:pt x="900" y="323"/>
                  </a:lnTo>
                  <a:lnTo>
                    <a:pt x="924" y="306"/>
                  </a:lnTo>
                  <a:lnTo>
                    <a:pt x="945" y="290"/>
                  </a:lnTo>
                  <a:lnTo>
                    <a:pt x="966" y="271"/>
                  </a:lnTo>
                  <a:lnTo>
                    <a:pt x="988" y="249"/>
                  </a:lnTo>
                  <a:lnTo>
                    <a:pt x="1011" y="226"/>
                  </a:lnTo>
                  <a:lnTo>
                    <a:pt x="1033" y="201"/>
                  </a:lnTo>
                  <a:lnTo>
                    <a:pt x="1054" y="176"/>
                  </a:lnTo>
                  <a:lnTo>
                    <a:pt x="1074" y="150"/>
                  </a:lnTo>
                  <a:lnTo>
                    <a:pt x="1094" y="124"/>
                  </a:lnTo>
                  <a:lnTo>
                    <a:pt x="1130" y="76"/>
                  </a:lnTo>
                  <a:lnTo>
                    <a:pt x="1157" y="37"/>
                  </a:lnTo>
                  <a:lnTo>
                    <a:pt x="1175" y="9"/>
                  </a:lnTo>
                  <a:lnTo>
                    <a:pt x="1183" y="0"/>
                  </a:lnTo>
                  <a:lnTo>
                    <a:pt x="1185" y="17"/>
                  </a:lnTo>
                  <a:lnTo>
                    <a:pt x="1188" y="30"/>
                  </a:lnTo>
                  <a:lnTo>
                    <a:pt x="1190" y="40"/>
                  </a:lnTo>
                  <a:lnTo>
                    <a:pt x="1190" y="51"/>
                  </a:lnTo>
                  <a:lnTo>
                    <a:pt x="1189" y="57"/>
                  </a:lnTo>
                  <a:lnTo>
                    <a:pt x="1186" y="64"/>
                  </a:lnTo>
                  <a:lnTo>
                    <a:pt x="1184" y="71"/>
                  </a:lnTo>
                  <a:lnTo>
                    <a:pt x="1179" y="80"/>
                  </a:lnTo>
                  <a:lnTo>
                    <a:pt x="1164" y="102"/>
                  </a:lnTo>
                  <a:lnTo>
                    <a:pt x="1142" y="132"/>
                  </a:lnTo>
                  <a:lnTo>
                    <a:pt x="1114" y="167"/>
                  </a:lnTo>
                  <a:lnTo>
                    <a:pt x="1086" y="204"/>
                  </a:lnTo>
                  <a:lnTo>
                    <a:pt x="1057" y="241"/>
                  </a:lnTo>
                  <a:lnTo>
                    <a:pt x="1029" y="280"/>
                  </a:lnTo>
                  <a:lnTo>
                    <a:pt x="1001" y="319"/>
                  </a:lnTo>
                  <a:lnTo>
                    <a:pt x="974" y="358"/>
                  </a:lnTo>
                  <a:lnTo>
                    <a:pt x="945" y="397"/>
                  </a:lnTo>
                  <a:lnTo>
                    <a:pt x="918" y="434"/>
                  </a:lnTo>
                  <a:lnTo>
                    <a:pt x="903" y="453"/>
                  </a:lnTo>
                  <a:lnTo>
                    <a:pt x="885" y="474"/>
                  </a:lnTo>
                  <a:lnTo>
                    <a:pt x="864" y="497"/>
                  </a:lnTo>
                  <a:lnTo>
                    <a:pt x="842" y="521"/>
                  </a:lnTo>
                  <a:lnTo>
                    <a:pt x="792" y="570"/>
                  </a:lnTo>
                  <a:lnTo>
                    <a:pt x="737" y="620"/>
                  </a:lnTo>
                  <a:lnTo>
                    <a:pt x="684" y="668"/>
                  </a:lnTo>
                  <a:lnTo>
                    <a:pt x="635" y="709"/>
                  </a:lnTo>
                  <a:lnTo>
                    <a:pt x="593" y="744"/>
                  </a:lnTo>
                  <a:lnTo>
                    <a:pt x="563" y="768"/>
                  </a:lnTo>
                  <a:lnTo>
                    <a:pt x="557" y="772"/>
                  </a:lnTo>
                  <a:lnTo>
                    <a:pt x="552" y="778"/>
                  </a:lnTo>
                  <a:lnTo>
                    <a:pt x="545" y="786"/>
                  </a:lnTo>
                  <a:lnTo>
                    <a:pt x="541" y="793"/>
                  </a:lnTo>
                  <a:lnTo>
                    <a:pt x="531" y="809"/>
                  </a:lnTo>
                  <a:lnTo>
                    <a:pt x="522" y="829"/>
                  </a:lnTo>
                  <a:lnTo>
                    <a:pt x="515" y="851"/>
                  </a:lnTo>
                  <a:lnTo>
                    <a:pt x="509" y="874"/>
                  </a:lnTo>
                  <a:lnTo>
                    <a:pt x="502" y="899"/>
                  </a:lnTo>
                  <a:lnTo>
                    <a:pt x="497" y="925"/>
                  </a:lnTo>
                  <a:lnTo>
                    <a:pt x="494" y="949"/>
                  </a:lnTo>
                  <a:lnTo>
                    <a:pt x="490" y="975"/>
                  </a:lnTo>
                  <a:lnTo>
                    <a:pt x="488" y="1000"/>
                  </a:lnTo>
                  <a:lnTo>
                    <a:pt x="486" y="1023"/>
                  </a:lnTo>
                  <a:lnTo>
                    <a:pt x="484" y="1065"/>
                  </a:lnTo>
                  <a:lnTo>
                    <a:pt x="484" y="1097"/>
                  </a:lnTo>
                  <a:lnTo>
                    <a:pt x="486" y="1132"/>
                  </a:lnTo>
                  <a:lnTo>
                    <a:pt x="491" y="1182"/>
                  </a:lnTo>
                  <a:lnTo>
                    <a:pt x="497" y="1243"/>
                  </a:lnTo>
                  <a:lnTo>
                    <a:pt x="506" y="1314"/>
                  </a:lnTo>
                  <a:lnTo>
                    <a:pt x="527" y="1481"/>
                  </a:lnTo>
                  <a:lnTo>
                    <a:pt x="552" y="1668"/>
                  </a:lnTo>
                  <a:lnTo>
                    <a:pt x="565" y="1763"/>
                  </a:lnTo>
                  <a:lnTo>
                    <a:pt x="579" y="1858"/>
                  </a:lnTo>
                  <a:lnTo>
                    <a:pt x="593" y="1952"/>
                  </a:lnTo>
                  <a:lnTo>
                    <a:pt x="608" y="2041"/>
                  </a:lnTo>
                  <a:lnTo>
                    <a:pt x="622" y="2125"/>
                  </a:lnTo>
                  <a:lnTo>
                    <a:pt x="637" y="2200"/>
                  </a:lnTo>
                  <a:lnTo>
                    <a:pt x="650" y="2267"/>
                  </a:lnTo>
                  <a:lnTo>
                    <a:pt x="664" y="2322"/>
                  </a:lnTo>
                  <a:lnTo>
                    <a:pt x="691" y="2437"/>
                  </a:lnTo>
                  <a:lnTo>
                    <a:pt x="720" y="2581"/>
                  </a:lnTo>
                  <a:lnTo>
                    <a:pt x="755" y="2745"/>
                  </a:lnTo>
                  <a:lnTo>
                    <a:pt x="790" y="2916"/>
                  </a:lnTo>
                  <a:lnTo>
                    <a:pt x="809" y="3002"/>
                  </a:lnTo>
                  <a:lnTo>
                    <a:pt x="827" y="3087"/>
                  </a:lnTo>
                  <a:lnTo>
                    <a:pt x="847" y="3169"/>
                  </a:lnTo>
                  <a:lnTo>
                    <a:pt x="865" y="3248"/>
                  </a:lnTo>
                  <a:lnTo>
                    <a:pt x="884" y="3322"/>
                  </a:lnTo>
                  <a:lnTo>
                    <a:pt x="902" y="3388"/>
                  </a:lnTo>
                  <a:lnTo>
                    <a:pt x="921" y="3449"/>
                  </a:lnTo>
                  <a:lnTo>
                    <a:pt x="938" y="3500"/>
                  </a:lnTo>
                  <a:lnTo>
                    <a:pt x="955" y="3549"/>
                  </a:lnTo>
                  <a:lnTo>
                    <a:pt x="972" y="3605"/>
                  </a:lnTo>
                  <a:lnTo>
                    <a:pt x="988" y="3663"/>
                  </a:lnTo>
                  <a:lnTo>
                    <a:pt x="1003" y="3724"/>
                  </a:lnTo>
                  <a:lnTo>
                    <a:pt x="1017" y="3788"/>
                  </a:lnTo>
                  <a:lnTo>
                    <a:pt x="1029" y="3854"/>
                  </a:lnTo>
                  <a:lnTo>
                    <a:pt x="1034" y="3889"/>
                  </a:lnTo>
                  <a:lnTo>
                    <a:pt x="1039" y="3922"/>
                  </a:lnTo>
                  <a:lnTo>
                    <a:pt x="1042" y="3957"/>
                  </a:lnTo>
                  <a:lnTo>
                    <a:pt x="1046" y="3991"/>
                  </a:lnTo>
                  <a:lnTo>
                    <a:pt x="1049" y="4024"/>
                  </a:lnTo>
                  <a:lnTo>
                    <a:pt x="1051" y="4059"/>
                  </a:lnTo>
                  <a:lnTo>
                    <a:pt x="1052" y="4092"/>
                  </a:lnTo>
                  <a:lnTo>
                    <a:pt x="1052" y="4125"/>
                  </a:lnTo>
                  <a:lnTo>
                    <a:pt x="1052" y="4158"/>
                  </a:lnTo>
                  <a:lnTo>
                    <a:pt x="1051" y="4191"/>
                  </a:lnTo>
                  <a:lnTo>
                    <a:pt x="1049" y="4222"/>
                  </a:lnTo>
                  <a:lnTo>
                    <a:pt x="1045" y="4254"/>
                  </a:lnTo>
                  <a:lnTo>
                    <a:pt x="1040" y="4285"/>
                  </a:lnTo>
                  <a:lnTo>
                    <a:pt x="1035" y="4314"/>
                  </a:lnTo>
                  <a:lnTo>
                    <a:pt x="1028" y="4343"/>
                  </a:lnTo>
                  <a:lnTo>
                    <a:pt x="1020" y="4371"/>
                  </a:lnTo>
                  <a:lnTo>
                    <a:pt x="1011" y="4398"/>
                  </a:lnTo>
                  <a:lnTo>
                    <a:pt x="1001" y="4423"/>
                  </a:lnTo>
                  <a:lnTo>
                    <a:pt x="988" y="4447"/>
                  </a:lnTo>
                  <a:lnTo>
                    <a:pt x="976" y="4471"/>
                  </a:lnTo>
                  <a:lnTo>
                    <a:pt x="927" y="4552"/>
                  </a:lnTo>
                  <a:lnTo>
                    <a:pt x="887" y="4622"/>
                  </a:lnTo>
                  <a:lnTo>
                    <a:pt x="857" y="4682"/>
                  </a:lnTo>
                  <a:lnTo>
                    <a:pt x="831" y="4733"/>
                  </a:lnTo>
                  <a:lnTo>
                    <a:pt x="810" y="4777"/>
                  </a:lnTo>
                  <a:lnTo>
                    <a:pt x="790" y="4814"/>
                  </a:lnTo>
                  <a:lnTo>
                    <a:pt x="772" y="4847"/>
                  </a:lnTo>
                  <a:lnTo>
                    <a:pt x="753" y="4878"/>
                  </a:lnTo>
                  <a:lnTo>
                    <a:pt x="741" y="4893"/>
                  </a:lnTo>
                  <a:lnTo>
                    <a:pt x="725" y="4909"/>
                  </a:lnTo>
                  <a:lnTo>
                    <a:pt x="707" y="4926"/>
                  </a:lnTo>
                  <a:lnTo>
                    <a:pt x="684" y="4942"/>
                  </a:lnTo>
                  <a:lnTo>
                    <a:pt x="660" y="4958"/>
                  </a:lnTo>
                  <a:lnTo>
                    <a:pt x="634" y="4973"/>
                  </a:lnTo>
                  <a:lnTo>
                    <a:pt x="606" y="4986"/>
                  </a:lnTo>
                  <a:lnTo>
                    <a:pt x="576" y="4997"/>
                  </a:lnTo>
                  <a:lnTo>
                    <a:pt x="561" y="5002"/>
                  </a:lnTo>
                  <a:lnTo>
                    <a:pt x="547" y="5007"/>
                  </a:lnTo>
                  <a:lnTo>
                    <a:pt x="532" y="5009"/>
                  </a:lnTo>
                  <a:lnTo>
                    <a:pt x="517" y="5013"/>
                  </a:lnTo>
                  <a:lnTo>
                    <a:pt x="501" y="5014"/>
                  </a:lnTo>
                  <a:lnTo>
                    <a:pt x="486" y="5016"/>
                  </a:lnTo>
                  <a:lnTo>
                    <a:pt x="473" y="5017"/>
                  </a:lnTo>
                  <a:lnTo>
                    <a:pt x="458" y="5016"/>
                  </a:lnTo>
                  <a:lnTo>
                    <a:pt x="445" y="5014"/>
                  </a:lnTo>
                  <a:lnTo>
                    <a:pt x="430" y="5012"/>
                  </a:lnTo>
                  <a:lnTo>
                    <a:pt x="418" y="5008"/>
                  </a:lnTo>
                  <a:lnTo>
                    <a:pt x="404" y="5003"/>
                  </a:lnTo>
                  <a:lnTo>
                    <a:pt x="392" y="4997"/>
                  </a:lnTo>
                  <a:lnTo>
                    <a:pt x="381" y="4989"/>
                  </a:lnTo>
                  <a:lnTo>
                    <a:pt x="370" y="4980"/>
                  </a:lnTo>
                  <a:lnTo>
                    <a:pt x="360" y="4970"/>
                  </a:lnTo>
                  <a:lnTo>
                    <a:pt x="354" y="4960"/>
                  </a:lnTo>
                  <a:lnTo>
                    <a:pt x="338" y="4934"/>
                  </a:lnTo>
                  <a:lnTo>
                    <a:pt x="313" y="4895"/>
                  </a:lnTo>
                  <a:lnTo>
                    <a:pt x="282" y="4843"/>
                  </a:lnTo>
                  <a:lnTo>
                    <a:pt x="248" y="4786"/>
                  </a:lnTo>
                  <a:lnTo>
                    <a:pt x="210" y="4722"/>
                  </a:lnTo>
                  <a:lnTo>
                    <a:pt x="173" y="4655"/>
                  </a:lnTo>
                  <a:lnTo>
                    <a:pt x="136" y="4590"/>
                  </a:lnTo>
                  <a:lnTo>
                    <a:pt x="104" y="4527"/>
                  </a:lnTo>
                  <a:lnTo>
                    <a:pt x="76" y="4466"/>
                  </a:lnTo>
                  <a:lnTo>
                    <a:pt x="62" y="4435"/>
                  </a:lnTo>
                  <a:lnTo>
                    <a:pt x="51" y="4403"/>
                  </a:lnTo>
                  <a:lnTo>
                    <a:pt x="40" y="4370"/>
                  </a:lnTo>
                  <a:lnTo>
                    <a:pt x="30" y="4337"/>
                  </a:lnTo>
                  <a:lnTo>
                    <a:pt x="21" y="4301"/>
                  </a:lnTo>
                  <a:lnTo>
                    <a:pt x="14" y="4264"/>
                  </a:lnTo>
                  <a:lnTo>
                    <a:pt x="9" y="4223"/>
                  </a:lnTo>
                  <a:lnTo>
                    <a:pt x="4" y="4182"/>
                  </a:lnTo>
                  <a:lnTo>
                    <a:pt x="2" y="4136"/>
                  </a:lnTo>
                  <a:lnTo>
                    <a:pt x="0" y="4088"/>
                  </a:lnTo>
                  <a:lnTo>
                    <a:pt x="0" y="4036"/>
                  </a:lnTo>
                  <a:lnTo>
                    <a:pt x="3" y="3981"/>
                  </a:lnTo>
                  <a:lnTo>
                    <a:pt x="128" y="4210"/>
                  </a:lnTo>
                  <a:lnTo>
                    <a:pt x="151" y="4265"/>
                  </a:lnTo>
                  <a:lnTo>
                    <a:pt x="174" y="4313"/>
                  </a:lnTo>
                  <a:lnTo>
                    <a:pt x="199" y="4355"/>
                  </a:lnTo>
                  <a:lnTo>
                    <a:pt x="222" y="4389"/>
                  </a:lnTo>
                  <a:lnTo>
                    <a:pt x="247" y="4419"/>
                  </a:lnTo>
                  <a:lnTo>
                    <a:pt x="270" y="4442"/>
                  </a:lnTo>
                  <a:lnTo>
                    <a:pt x="294" y="4460"/>
                  </a:lnTo>
                  <a:lnTo>
                    <a:pt x="318" y="4473"/>
                  </a:lnTo>
                  <a:lnTo>
                    <a:pt x="342" y="4481"/>
                  </a:lnTo>
                  <a:lnTo>
                    <a:pt x="366" y="4485"/>
                  </a:lnTo>
                  <a:lnTo>
                    <a:pt x="390" y="4485"/>
                  </a:lnTo>
                  <a:lnTo>
                    <a:pt x="414" y="4482"/>
                  </a:lnTo>
                  <a:lnTo>
                    <a:pt x="436" y="4474"/>
                  </a:lnTo>
                  <a:lnTo>
                    <a:pt x="458" y="4465"/>
                  </a:lnTo>
                  <a:lnTo>
                    <a:pt x="480" y="4452"/>
                  </a:lnTo>
                  <a:lnTo>
                    <a:pt x="501" y="4437"/>
                  </a:lnTo>
                  <a:lnTo>
                    <a:pt x="522" y="4421"/>
                  </a:lnTo>
                  <a:lnTo>
                    <a:pt x="542" y="4403"/>
                  </a:lnTo>
                  <a:lnTo>
                    <a:pt x="560" y="4385"/>
                  </a:lnTo>
                  <a:lnTo>
                    <a:pt x="579" y="4365"/>
                  </a:lnTo>
                  <a:lnTo>
                    <a:pt x="595" y="4344"/>
                  </a:lnTo>
                  <a:lnTo>
                    <a:pt x="611" y="4324"/>
                  </a:lnTo>
                  <a:lnTo>
                    <a:pt x="625" y="4303"/>
                  </a:lnTo>
                  <a:lnTo>
                    <a:pt x="639" y="4284"/>
                  </a:lnTo>
                  <a:lnTo>
                    <a:pt x="662" y="4248"/>
                  </a:lnTo>
                  <a:lnTo>
                    <a:pt x="678" y="4220"/>
                  </a:lnTo>
                  <a:lnTo>
                    <a:pt x="689" y="4200"/>
                  </a:lnTo>
                  <a:lnTo>
                    <a:pt x="693" y="4193"/>
                  </a:lnTo>
                  <a:lnTo>
                    <a:pt x="707" y="4168"/>
                  </a:lnTo>
                  <a:lnTo>
                    <a:pt x="718" y="4141"/>
                  </a:lnTo>
                  <a:lnTo>
                    <a:pt x="729" y="4113"/>
                  </a:lnTo>
                  <a:lnTo>
                    <a:pt x="737" y="4084"/>
                  </a:lnTo>
                  <a:lnTo>
                    <a:pt x="746" y="4054"/>
                  </a:lnTo>
                  <a:lnTo>
                    <a:pt x="753" y="4023"/>
                  </a:lnTo>
                  <a:lnTo>
                    <a:pt x="760" y="3990"/>
                  </a:lnTo>
                  <a:lnTo>
                    <a:pt x="766" y="3958"/>
                  </a:lnTo>
                  <a:lnTo>
                    <a:pt x="769" y="3923"/>
                  </a:lnTo>
                  <a:lnTo>
                    <a:pt x="773" y="3889"/>
                  </a:lnTo>
                  <a:lnTo>
                    <a:pt x="776" y="3854"/>
                  </a:lnTo>
                  <a:lnTo>
                    <a:pt x="778" y="3819"/>
                  </a:lnTo>
                  <a:lnTo>
                    <a:pt x="779" y="3782"/>
                  </a:lnTo>
                  <a:lnTo>
                    <a:pt x="779" y="3746"/>
                  </a:lnTo>
                  <a:lnTo>
                    <a:pt x="779" y="3709"/>
                  </a:lnTo>
                  <a:lnTo>
                    <a:pt x="779" y="3672"/>
                  </a:lnTo>
                  <a:lnTo>
                    <a:pt x="776" y="3597"/>
                  </a:lnTo>
                  <a:lnTo>
                    <a:pt x="771" y="3524"/>
                  </a:lnTo>
                  <a:lnTo>
                    <a:pt x="764" y="3450"/>
                  </a:lnTo>
                  <a:lnTo>
                    <a:pt x="756" y="3377"/>
                  </a:lnTo>
                  <a:lnTo>
                    <a:pt x="747" y="3306"/>
                  </a:lnTo>
                  <a:lnTo>
                    <a:pt x="737" y="3238"/>
                  </a:lnTo>
                  <a:lnTo>
                    <a:pt x="728" y="3173"/>
                  </a:lnTo>
                  <a:lnTo>
                    <a:pt x="718" y="3112"/>
                  </a:lnTo>
                  <a:lnTo>
                    <a:pt x="689" y="2945"/>
                  </a:lnTo>
                  <a:lnTo>
                    <a:pt x="649" y="2702"/>
                  </a:lnTo>
                  <a:lnTo>
                    <a:pt x="600" y="2408"/>
                  </a:lnTo>
                  <a:lnTo>
                    <a:pt x="549" y="2093"/>
                  </a:lnTo>
                  <a:lnTo>
                    <a:pt x="525" y="1936"/>
                  </a:lnTo>
                  <a:lnTo>
                    <a:pt x="501" y="1784"/>
                  </a:lnTo>
                  <a:lnTo>
                    <a:pt x="480" y="1640"/>
                  </a:lnTo>
                  <a:lnTo>
                    <a:pt x="462" y="1509"/>
                  </a:lnTo>
                  <a:lnTo>
                    <a:pt x="446" y="1393"/>
                  </a:lnTo>
                  <a:lnTo>
                    <a:pt x="435" y="1297"/>
                  </a:lnTo>
                  <a:lnTo>
                    <a:pt x="431" y="1257"/>
                  </a:lnTo>
                  <a:lnTo>
                    <a:pt x="429" y="1223"/>
                  </a:lnTo>
                  <a:lnTo>
                    <a:pt x="427" y="1195"/>
                  </a:lnTo>
                  <a:lnTo>
                    <a:pt x="427" y="1176"/>
                  </a:lnTo>
                  <a:lnTo>
                    <a:pt x="427" y="1142"/>
                  </a:lnTo>
                  <a:lnTo>
                    <a:pt x="427" y="1112"/>
                  </a:lnTo>
                  <a:lnTo>
                    <a:pt x="425" y="1083"/>
                  </a:lnTo>
                  <a:lnTo>
                    <a:pt x="422" y="1057"/>
                  </a:lnTo>
                  <a:lnTo>
                    <a:pt x="419" y="1033"/>
                  </a:lnTo>
                  <a:lnTo>
                    <a:pt x="415" y="1012"/>
                  </a:lnTo>
                  <a:lnTo>
                    <a:pt x="410" y="991"/>
                  </a:lnTo>
                  <a:lnTo>
                    <a:pt x="405" y="974"/>
                  </a:lnTo>
                  <a:lnTo>
                    <a:pt x="399" y="958"/>
                  </a:lnTo>
                  <a:lnTo>
                    <a:pt x="393" y="943"/>
                  </a:lnTo>
                  <a:lnTo>
                    <a:pt x="386" y="930"/>
                  </a:lnTo>
                  <a:lnTo>
                    <a:pt x="378" y="917"/>
                  </a:lnTo>
                  <a:lnTo>
                    <a:pt x="371" y="907"/>
                  </a:lnTo>
                  <a:lnTo>
                    <a:pt x="363" y="898"/>
                  </a:lnTo>
                  <a:lnTo>
                    <a:pt x="356" y="889"/>
                  </a:lnTo>
                  <a:lnTo>
                    <a:pt x="349" y="882"/>
                  </a:lnTo>
                  <a:lnTo>
                    <a:pt x="341" y="874"/>
                  </a:lnTo>
                  <a:lnTo>
                    <a:pt x="336" y="864"/>
                  </a:lnTo>
                  <a:lnTo>
                    <a:pt x="333" y="853"/>
                  </a:lnTo>
                  <a:lnTo>
                    <a:pt x="330" y="841"/>
                  </a:lnTo>
                  <a:lnTo>
                    <a:pt x="329" y="829"/>
                  </a:lnTo>
                  <a:lnTo>
                    <a:pt x="330" y="814"/>
                  </a:lnTo>
                  <a:lnTo>
                    <a:pt x="333" y="799"/>
                  </a:lnTo>
                  <a:lnTo>
                    <a:pt x="336" y="782"/>
                  </a:lnTo>
                  <a:lnTo>
                    <a:pt x="342" y="765"/>
                  </a:lnTo>
                  <a:lnTo>
                    <a:pt x="349" y="747"/>
                  </a:lnTo>
                  <a:lnTo>
                    <a:pt x="358" y="729"/>
                  </a:lnTo>
                  <a:lnTo>
                    <a:pt x="370" y="709"/>
                  </a:lnTo>
                  <a:lnTo>
                    <a:pt x="382" y="688"/>
                  </a:lnTo>
                  <a:lnTo>
                    <a:pt x="397" y="668"/>
                  </a:lnTo>
                  <a:lnTo>
                    <a:pt x="414" y="647"/>
                  </a:lnTo>
                  <a:lnTo>
                    <a:pt x="432" y="623"/>
                  </a:lnTo>
                  <a:close/>
                </a:path>
              </a:pathLst>
            </a:custGeom>
            <a:solidFill>
              <a:srgbClr val="5f4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385040" y="2549520"/>
              <a:ext cx="372960" cy="1584360"/>
            </a:xfrm>
            <a:custGeom>
              <a:avLst/>
              <a:gdLst/>
              <a:ahLst/>
              <a:rect l="l" t="t" r="r" b="b"/>
              <a:pathLst>
                <a:path w="1178" h="4990">
                  <a:moveTo>
                    <a:pt x="451" y="607"/>
                  </a:moveTo>
                  <a:lnTo>
                    <a:pt x="473" y="586"/>
                  </a:lnTo>
                  <a:lnTo>
                    <a:pt x="497" y="564"/>
                  </a:lnTo>
                  <a:lnTo>
                    <a:pt x="524" y="543"/>
                  </a:lnTo>
                  <a:lnTo>
                    <a:pt x="552" y="522"/>
                  </a:lnTo>
                  <a:lnTo>
                    <a:pt x="582" y="503"/>
                  </a:lnTo>
                  <a:lnTo>
                    <a:pt x="614" y="483"/>
                  </a:lnTo>
                  <a:lnTo>
                    <a:pt x="646" y="463"/>
                  </a:lnTo>
                  <a:lnTo>
                    <a:pt x="679" y="444"/>
                  </a:lnTo>
                  <a:lnTo>
                    <a:pt x="744" y="406"/>
                  </a:lnTo>
                  <a:lnTo>
                    <a:pt x="808" y="369"/>
                  </a:lnTo>
                  <a:lnTo>
                    <a:pt x="838" y="351"/>
                  </a:lnTo>
                  <a:lnTo>
                    <a:pt x="866" y="333"/>
                  </a:lnTo>
                  <a:lnTo>
                    <a:pt x="893" y="316"/>
                  </a:lnTo>
                  <a:lnTo>
                    <a:pt x="916" y="299"/>
                  </a:lnTo>
                  <a:lnTo>
                    <a:pt x="936" y="283"/>
                  </a:lnTo>
                  <a:lnTo>
                    <a:pt x="956" y="263"/>
                  </a:lnTo>
                  <a:lnTo>
                    <a:pt x="977" y="242"/>
                  </a:lnTo>
                  <a:lnTo>
                    <a:pt x="998" y="220"/>
                  </a:lnTo>
                  <a:lnTo>
                    <a:pt x="1039" y="171"/>
                  </a:lnTo>
                  <a:lnTo>
                    <a:pt x="1079" y="120"/>
                  </a:lnTo>
                  <a:lnTo>
                    <a:pt x="1113" y="73"/>
                  </a:lnTo>
                  <a:lnTo>
                    <a:pt x="1142" y="35"/>
                  </a:lnTo>
                  <a:lnTo>
                    <a:pt x="1160" y="10"/>
                  </a:lnTo>
                  <a:lnTo>
                    <a:pt x="1166" y="0"/>
                  </a:lnTo>
                  <a:lnTo>
                    <a:pt x="1167" y="8"/>
                  </a:lnTo>
                  <a:lnTo>
                    <a:pt x="1169" y="14"/>
                  </a:lnTo>
                  <a:lnTo>
                    <a:pt x="1171" y="21"/>
                  </a:lnTo>
                  <a:lnTo>
                    <a:pt x="1174" y="24"/>
                  </a:lnTo>
                  <a:lnTo>
                    <a:pt x="1177" y="32"/>
                  </a:lnTo>
                  <a:lnTo>
                    <a:pt x="1178" y="37"/>
                  </a:lnTo>
                  <a:lnTo>
                    <a:pt x="1178" y="40"/>
                  </a:lnTo>
                  <a:lnTo>
                    <a:pt x="1176" y="45"/>
                  </a:lnTo>
                  <a:lnTo>
                    <a:pt x="1174" y="50"/>
                  </a:lnTo>
                  <a:lnTo>
                    <a:pt x="1169" y="57"/>
                  </a:lnTo>
                  <a:lnTo>
                    <a:pt x="1155" y="76"/>
                  </a:lnTo>
                  <a:lnTo>
                    <a:pt x="1134" y="105"/>
                  </a:lnTo>
                  <a:lnTo>
                    <a:pt x="1106" y="140"/>
                  </a:lnTo>
                  <a:lnTo>
                    <a:pt x="1078" y="177"/>
                  </a:lnTo>
                  <a:lnTo>
                    <a:pt x="1049" y="214"/>
                  </a:lnTo>
                  <a:lnTo>
                    <a:pt x="1021" y="253"/>
                  </a:lnTo>
                  <a:lnTo>
                    <a:pt x="993" y="292"/>
                  </a:lnTo>
                  <a:lnTo>
                    <a:pt x="966" y="331"/>
                  </a:lnTo>
                  <a:lnTo>
                    <a:pt x="937" y="370"/>
                  </a:lnTo>
                  <a:lnTo>
                    <a:pt x="910" y="407"/>
                  </a:lnTo>
                  <a:lnTo>
                    <a:pt x="895" y="426"/>
                  </a:lnTo>
                  <a:lnTo>
                    <a:pt x="877" y="447"/>
                  </a:lnTo>
                  <a:lnTo>
                    <a:pt x="856" y="470"/>
                  </a:lnTo>
                  <a:lnTo>
                    <a:pt x="834" y="494"/>
                  </a:lnTo>
                  <a:lnTo>
                    <a:pt x="784" y="543"/>
                  </a:lnTo>
                  <a:lnTo>
                    <a:pt x="729" y="593"/>
                  </a:lnTo>
                  <a:lnTo>
                    <a:pt x="676" y="641"/>
                  </a:lnTo>
                  <a:lnTo>
                    <a:pt x="627" y="682"/>
                  </a:lnTo>
                  <a:lnTo>
                    <a:pt x="585" y="717"/>
                  </a:lnTo>
                  <a:lnTo>
                    <a:pt x="555" y="741"/>
                  </a:lnTo>
                  <a:lnTo>
                    <a:pt x="549" y="745"/>
                  </a:lnTo>
                  <a:lnTo>
                    <a:pt x="544" y="751"/>
                  </a:lnTo>
                  <a:lnTo>
                    <a:pt x="537" y="759"/>
                  </a:lnTo>
                  <a:lnTo>
                    <a:pt x="533" y="766"/>
                  </a:lnTo>
                  <a:lnTo>
                    <a:pt x="523" y="782"/>
                  </a:lnTo>
                  <a:lnTo>
                    <a:pt x="514" y="802"/>
                  </a:lnTo>
                  <a:lnTo>
                    <a:pt x="507" y="824"/>
                  </a:lnTo>
                  <a:lnTo>
                    <a:pt x="501" y="847"/>
                  </a:lnTo>
                  <a:lnTo>
                    <a:pt x="494" y="872"/>
                  </a:lnTo>
                  <a:lnTo>
                    <a:pt x="489" y="898"/>
                  </a:lnTo>
                  <a:lnTo>
                    <a:pt x="486" y="922"/>
                  </a:lnTo>
                  <a:lnTo>
                    <a:pt x="482" y="948"/>
                  </a:lnTo>
                  <a:lnTo>
                    <a:pt x="480" y="973"/>
                  </a:lnTo>
                  <a:lnTo>
                    <a:pt x="478" y="996"/>
                  </a:lnTo>
                  <a:lnTo>
                    <a:pt x="476" y="1038"/>
                  </a:lnTo>
                  <a:lnTo>
                    <a:pt x="476" y="1070"/>
                  </a:lnTo>
                  <a:lnTo>
                    <a:pt x="478" y="1105"/>
                  </a:lnTo>
                  <a:lnTo>
                    <a:pt x="483" y="1155"/>
                  </a:lnTo>
                  <a:lnTo>
                    <a:pt x="489" y="1216"/>
                  </a:lnTo>
                  <a:lnTo>
                    <a:pt x="498" y="1287"/>
                  </a:lnTo>
                  <a:lnTo>
                    <a:pt x="519" y="1454"/>
                  </a:lnTo>
                  <a:lnTo>
                    <a:pt x="544" y="1641"/>
                  </a:lnTo>
                  <a:lnTo>
                    <a:pt x="557" y="1736"/>
                  </a:lnTo>
                  <a:lnTo>
                    <a:pt x="571" y="1831"/>
                  </a:lnTo>
                  <a:lnTo>
                    <a:pt x="585" y="1925"/>
                  </a:lnTo>
                  <a:lnTo>
                    <a:pt x="600" y="2014"/>
                  </a:lnTo>
                  <a:lnTo>
                    <a:pt x="614" y="2098"/>
                  </a:lnTo>
                  <a:lnTo>
                    <a:pt x="629" y="2173"/>
                  </a:lnTo>
                  <a:lnTo>
                    <a:pt x="642" y="2240"/>
                  </a:lnTo>
                  <a:lnTo>
                    <a:pt x="656" y="2295"/>
                  </a:lnTo>
                  <a:lnTo>
                    <a:pt x="683" y="2410"/>
                  </a:lnTo>
                  <a:lnTo>
                    <a:pt x="712" y="2554"/>
                  </a:lnTo>
                  <a:lnTo>
                    <a:pt x="747" y="2718"/>
                  </a:lnTo>
                  <a:lnTo>
                    <a:pt x="782" y="2889"/>
                  </a:lnTo>
                  <a:lnTo>
                    <a:pt x="801" y="2975"/>
                  </a:lnTo>
                  <a:lnTo>
                    <a:pt x="819" y="3060"/>
                  </a:lnTo>
                  <a:lnTo>
                    <a:pt x="839" y="3142"/>
                  </a:lnTo>
                  <a:lnTo>
                    <a:pt x="857" y="3221"/>
                  </a:lnTo>
                  <a:lnTo>
                    <a:pt x="876" y="3295"/>
                  </a:lnTo>
                  <a:lnTo>
                    <a:pt x="894" y="3361"/>
                  </a:lnTo>
                  <a:lnTo>
                    <a:pt x="913" y="3422"/>
                  </a:lnTo>
                  <a:lnTo>
                    <a:pt x="930" y="3473"/>
                  </a:lnTo>
                  <a:lnTo>
                    <a:pt x="947" y="3522"/>
                  </a:lnTo>
                  <a:lnTo>
                    <a:pt x="964" y="3578"/>
                  </a:lnTo>
                  <a:lnTo>
                    <a:pt x="980" y="3636"/>
                  </a:lnTo>
                  <a:lnTo>
                    <a:pt x="995" y="3697"/>
                  </a:lnTo>
                  <a:lnTo>
                    <a:pt x="1009" y="3761"/>
                  </a:lnTo>
                  <a:lnTo>
                    <a:pt x="1021" y="3827"/>
                  </a:lnTo>
                  <a:lnTo>
                    <a:pt x="1026" y="3862"/>
                  </a:lnTo>
                  <a:lnTo>
                    <a:pt x="1031" y="3895"/>
                  </a:lnTo>
                  <a:lnTo>
                    <a:pt x="1034" y="3930"/>
                  </a:lnTo>
                  <a:lnTo>
                    <a:pt x="1038" y="3964"/>
                  </a:lnTo>
                  <a:lnTo>
                    <a:pt x="1041" y="3997"/>
                  </a:lnTo>
                  <a:lnTo>
                    <a:pt x="1043" y="4032"/>
                  </a:lnTo>
                  <a:lnTo>
                    <a:pt x="1044" y="4065"/>
                  </a:lnTo>
                  <a:lnTo>
                    <a:pt x="1044" y="4098"/>
                  </a:lnTo>
                  <a:lnTo>
                    <a:pt x="1044" y="4131"/>
                  </a:lnTo>
                  <a:lnTo>
                    <a:pt x="1043" y="4164"/>
                  </a:lnTo>
                  <a:lnTo>
                    <a:pt x="1041" y="4195"/>
                  </a:lnTo>
                  <a:lnTo>
                    <a:pt x="1037" y="4227"/>
                  </a:lnTo>
                  <a:lnTo>
                    <a:pt x="1032" y="4258"/>
                  </a:lnTo>
                  <a:lnTo>
                    <a:pt x="1027" y="4287"/>
                  </a:lnTo>
                  <a:lnTo>
                    <a:pt x="1020" y="4316"/>
                  </a:lnTo>
                  <a:lnTo>
                    <a:pt x="1012" y="4344"/>
                  </a:lnTo>
                  <a:lnTo>
                    <a:pt x="1003" y="4371"/>
                  </a:lnTo>
                  <a:lnTo>
                    <a:pt x="993" y="4396"/>
                  </a:lnTo>
                  <a:lnTo>
                    <a:pt x="980" y="4420"/>
                  </a:lnTo>
                  <a:lnTo>
                    <a:pt x="968" y="4444"/>
                  </a:lnTo>
                  <a:lnTo>
                    <a:pt x="919" y="4525"/>
                  </a:lnTo>
                  <a:lnTo>
                    <a:pt x="879" y="4595"/>
                  </a:lnTo>
                  <a:lnTo>
                    <a:pt x="849" y="4655"/>
                  </a:lnTo>
                  <a:lnTo>
                    <a:pt x="823" y="4706"/>
                  </a:lnTo>
                  <a:lnTo>
                    <a:pt x="802" y="4750"/>
                  </a:lnTo>
                  <a:lnTo>
                    <a:pt x="782" y="4787"/>
                  </a:lnTo>
                  <a:lnTo>
                    <a:pt x="764" y="4820"/>
                  </a:lnTo>
                  <a:lnTo>
                    <a:pt x="745" y="4851"/>
                  </a:lnTo>
                  <a:lnTo>
                    <a:pt x="733" y="4866"/>
                  </a:lnTo>
                  <a:lnTo>
                    <a:pt x="717" y="4882"/>
                  </a:lnTo>
                  <a:lnTo>
                    <a:pt x="699" y="4899"/>
                  </a:lnTo>
                  <a:lnTo>
                    <a:pt x="676" y="4915"/>
                  </a:lnTo>
                  <a:lnTo>
                    <a:pt x="652" y="4931"/>
                  </a:lnTo>
                  <a:lnTo>
                    <a:pt x="626" y="4946"/>
                  </a:lnTo>
                  <a:lnTo>
                    <a:pt x="598" y="4959"/>
                  </a:lnTo>
                  <a:lnTo>
                    <a:pt x="568" y="4970"/>
                  </a:lnTo>
                  <a:lnTo>
                    <a:pt x="553" y="4975"/>
                  </a:lnTo>
                  <a:lnTo>
                    <a:pt x="539" y="4980"/>
                  </a:lnTo>
                  <a:lnTo>
                    <a:pt x="524" y="4982"/>
                  </a:lnTo>
                  <a:lnTo>
                    <a:pt x="509" y="4986"/>
                  </a:lnTo>
                  <a:lnTo>
                    <a:pt x="493" y="4987"/>
                  </a:lnTo>
                  <a:lnTo>
                    <a:pt x="478" y="4989"/>
                  </a:lnTo>
                  <a:lnTo>
                    <a:pt x="465" y="4990"/>
                  </a:lnTo>
                  <a:lnTo>
                    <a:pt x="450" y="4989"/>
                  </a:lnTo>
                  <a:lnTo>
                    <a:pt x="437" y="4987"/>
                  </a:lnTo>
                  <a:lnTo>
                    <a:pt x="422" y="4985"/>
                  </a:lnTo>
                  <a:lnTo>
                    <a:pt x="410" y="4981"/>
                  </a:lnTo>
                  <a:lnTo>
                    <a:pt x="396" y="4976"/>
                  </a:lnTo>
                  <a:lnTo>
                    <a:pt x="384" y="4970"/>
                  </a:lnTo>
                  <a:lnTo>
                    <a:pt x="373" y="4962"/>
                  </a:lnTo>
                  <a:lnTo>
                    <a:pt x="362" y="4953"/>
                  </a:lnTo>
                  <a:lnTo>
                    <a:pt x="352" y="4943"/>
                  </a:lnTo>
                  <a:lnTo>
                    <a:pt x="346" y="4933"/>
                  </a:lnTo>
                  <a:lnTo>
                    <a:pt x="330" y="4907"/>
                  </a:lnTo>
                  <a:lnTo>
                    <a:pt x="305" y="4868"/>
                  </a:lnTo>
                  <a:lnTo>
                    <a:pt x="274" y="4816"/>
                  </a:lnTo>
                  <a:lnTo>
                    <a:pt x="240" y="4759"/>
                  </a:lnTo>
                  <a:lnTo>
                    <a:pt x="202" y="4695"/>
                  </a:lnTo>
                  <a:lnTo>
                    <a:pt x="165" y="4628"/>
                  </a:lnTo>
                  <a:lnTo>
                    <a:pt x="128" y="4563"/>
                  </a:lnTo>
                  <a:lnTo>
                    <a:pt x="112" y="4531"/>
                  </a:lnTo>
                  <a:lnTo>
                    <a:pt x="97" y="4500"/>
                  </a:lnTo>
                  <a:lnTo>
                    <a:pt x="82" y="4471"/>
                  </a:lnTo>
                  <a:lnTo>
                    <a:pt x="69" y="4441"/>
                  </a:lnTo>
                  <a:lnTo>
                    <a:pt x="56" y="4412"/>
                  </a:lnTo>
                  <a:lnTo>
                    <a:pt x="45" y="4382"/>
                  </a:lnTo>
                  <a:lnTo>
                    <a:pt x="36" y="4351"/>
                  </a:lnTo>
                  <a:lnTo>
                    <a:pt x="27" y="4321"/>
                  </a:lnTo>
                  <a:lnTo>
                    <a:pt x="20" y="4290"/>
                  </a:lnTo>
                  <a:lnTo>
                    <a:pt x="12" y="4257"/>
                  </a:lnTo>
                  <a:lnTo>
                    <a:pt x="7" y="4222"/>
                  </a:lnTo>
                  <a:lnTo>
                    <a:pt x="4" y="4185"/>
                  </a:lnTo>
                  <a:lnTo>
                    <a:pt x="1" y="4147"/>
                  </a:lnTo>
                  <a:lnTo>
                    <a:pt x="0" y="4107"/>
                  </a:lnTo>
                  <a:lnTo>
                    <a:pt x="0" y="4064"/>
                  </a:lnTo>
                  <a:lnTo>
                    <a:pt x="1" y="4017"/>
                  </a:lnTo>
                  <a:lnTo>
                    <a:pt x="125" y="4248"/>
                  </a:lnTo>
                  <a:lnTo>
                    <a:pt x="151" y="4310"/>
                  </a:lnTo>
                  <a:lnTo>
                    <a:pt x="176" y="4364"/>
                  </a:lnTo>
                  <a:lnTo>
                    <a:pt x="202" y="4410"/>
                  </a:lnTo>
                  <a:lnTo>
                    <a:pt x="227" y="4450"/>
                  </a:lnTo>
                  <a:lnTo>
                    <a:pt x="253" y="4482"/>
                  </a:lnTo>
                  <a:lnTo>
                    <a:pt x="279" y="4508"/>
                  </a:lnTo>
                  <a:lnTo>
                    <a:pt x="304" y="4527"/>
                  </a:lnTo>
                  <a:lnTo>
                    <a:pt x="330" y="4541"/>
                  </a:lnTo>
                  <a:lnTo>
                    <a:pt x="354" y="4549"/>
                  </a:lnTo>
                  <a:lnTo>
                    <a:pt x="379" y="4553"/>
                  </a:lnTo>
                  <a:lnTo>
                    <a:pt x="402" y="4553"/>
                  </a:lnTo>
                  <a:lnTo>
                    <a:pt x="426" y="4548"/>
                  </a:lnTo>
                  <a:lnTo>
                    <a:pt x="449" y="4540"/>
                  </a:lnTo>
                  <a:lnTo>
                    <a:pt x="471" y="4527"/>
                  </a:lnTo>
                  <a:lnTo>
                    <a:pt x="493" y="4513"/>
                  </a:lnTo>
                  <a:lnTo>
                    <a:pt x="514" y="4495"/>
                  </a:lnTo>
                  <a:lnTo>
                    <a:pt x="535" y="4477"/>
                  </a:lnTo>
                  <a:lnTo>
                    <a:pt x="555" y="4456"/>
                  </a:lnTo>
                  <a:lnTo>
                    <a:pt x="573" y="4434"/>
                  </a:lnTo>
                  <a:lnTo>
                    <a:pt x="590" y="4410"/>
                  </a:lnTo>
                  <a:lnTo>
                    <a:pt x="606" y="4387"/>
                  </a:lnTo>
                  <a:lnTo>
                    <a:pt x="622" y="4364"/>
                  </a:lnTo>
                  <a:lnTo>
                    <a:pt x="636" y="4340"/>
                  </a:lnTo>
                  <a:lnTo>
                    <a:pt x="649" y="4317"/>
                  </a:lnTo>
                  <a:lnTo>
                    <a:pt x="672" y="4276"/>
                  </a:lnTo>
                  <a:lnTo>
                    <a:pt x="688" y="4243"/>
                  </a:lnTo>
                  <a:lnTo>
                    <a:pt x="699" y="4221"/>
                  </a:lnTo>
                  <a:lnTo>
                    <a:pt x="701" y="4212"/>
                  </a:lnTo>
                  <a:lnTo>
                    <a:pt x="715" y="4187"/>
                  </a:lnTo>
                  <a:lnTo>
                    <a:pt x="727" y="4160"/>
                  </a:lnTo>
                  <a:lnTo>
                    <a:pt x="738" y="4131"/>
                  </a:lnTo>
                  <a:lnTo>
                    <a:pt x="747" y="4102"/>
                  </a:lnTo>
                  <a:lnTo>
                    <a:pt x="755" y="4070"/>
                  </a:lnTo>
                  <a:lnTo>
                    <a:pt x="764" y="4038"/>
                  </a:lnTo>
                  <a:lnTo>
                    <a:pt x="770" y="4005"/>
                  </a:lnTo>
                  <a:lnTo>
                    <a:pt x="775" y="3970"/>
                  </a:lnTo>
                  <a:lnTo>
                    <a:pt x="780" y="3934"/>
                  </a:lnTo>
                  <a:lnTo>
                    <a:pt x="784" y="3898"/>
                  </a:lnTo>
                  <a:lnTo>
                    <a:pt x="787" y="3862"/>
                  </a:lnTo>
                  <a:lnTo>
                    <a:pt x="790" y="3824"/>
                  </a:lnTo>
                  <a:lnTo>
                    <a:pt x="791" y="3786"/>
                  </a:lnTo>
                  <a:lnTo>
                    <a:pt x="791" y="3747"/>
                  </a:lnTo>
                  <a:lnTo>
                    <a:pt x="791" y="3708"/>
                  </a:lnTo>
                  <a:lnTo>
                    <a:pt x="791" y="3669"/>
                  </a:lnTo>
                  <a:lnTo>
                    <a:pt x="788" y="3591"/>
                  </a:lnTo>
                  <a:lnTo>
                    <a:pt x="784" y="3513"/>
                  </a:lnTo>
                  <a:lnTo>
                    <a:pt x="777" y="3435"/>
                  </a:lnTo>
                  <a:lnTo>
                    <a:pt x="769" y="3359"/>
                  </a:lnTo>
                  <a:lnTo>
                    <a:pt x="760" y="3286"/>
                  </a:lnTo>
                  <a:lnTo>
                    <a:pt x="752" y="3216"/>
                  </a:lnTo>
                  <a:lnTo>
                    <a:pt x="742" y="3150"/>
                  </a:lnTo>
                  <a:lnTo>
                    <a:pt x="732" y="3088"/>
                  </a:lnTo>
                  <a:lnTo>
                    <a:pt x="704" y="2921"/>
                  </a:lnTo>
                  <a:lnTo>
                    <a:pt x="662" y="2676"/>
                  </a:lnTo>
                  <a:lnTo>
                    <a:pt x="613" y="2381"/>
                  </a:lnTo>
                  <a:lnTo>
                    <a:pt x="560" y="2065"/>
                  </a:lnTo>
                  <a:lnTo>
                    <a:pt x="534" y="1907"/>
                  </a:lnTo>
                  <a:lnTo>
                    <a:pt x="509" y="1755"/>
                  </a:lnTo>
                  <a:lnTo>
                    <a:pt x="487" y="1611"/>
                  </a:lnTo>
                  <a:lnTo>
                    <a:pt x="467" y="1479"/>
                  </a:lnTo>
                  <a:lnTo>
                    <a:pt x="451" y="1364"/>
                  </a:lnTo>
                  <a:lnTo>
                    <a:pt x="439" y="1267"/>
                  </a:lnTo>
                  <a:lnTo>
                    <a:pt x="435" y="1227"/>
                  </a:lnTo>
                  <a:lnTo>
                    <a:pt x="432" y="1193"/>
                  </a:lnTo>
                  <a:lnTo>
                    <a:pt x="430" y="1166"/>
                  </a:lnTo>
                  <a:lnTo>
                    <a:pt x="430" y="1146"/>
                  </a:lnTo>
                  <a:lnTo>
                    <a:pt x="430" y="1113"/>
                  </a:lnTo>
                  <a:lnTo>
                    <a:pt x="430" y="1082"/>
                  </a:lnTo>
                  <a:lnTo>
                    <a:pt x="430" y="1054"/>
                  </a:lnTo>
                  <a:lnTo>
                    <a:pt x="428" y="1028"/>
                  </a:lnTo>
                  <a:lnTo>
                    <a:pt x="426" y="1005"/>
                  </a:lnTo>
                  <a:lnTo>
                    <a:pt x="423" y="982"/>
                  </a:lnTo>
                  <a:lnTo>
                    <a:pt x="419" y="963"/>
                  </a:lnTo>
                  <a:lnTo>
                    <a:pt x="414" y="944"/>
                  </a:lnTo>
                  <a:lnTo>
                    <a:pt x="410" y="928"/>
                  </a:lnTo>
                  <a:lnTo>
                    <a:pt x="405" y="914"/>
                  </a:lnTo>
                  <a:lnTo>
                    <a:pt x="398" y="900"/>
                  </a:lnTo>
                  <a:lnTo>
                    <a:pt x="392" y="888"/>
                  </a:lnTo>
                  <a:lnTo>
                    <a:pt x="385" y="877"/>
                  </a:lnTo>
                  <a:lnTo>
                    <a:pt x="379" y="867"/>
                  </a:lnTo>
                  <a:lnTo>
                    <a:pt x="371" y="857"/>
                  </a:lnTo>
                  <a:lnTo>
                    <a:pt x="365" y="850"/>
                  </a:lnTo>
                  <a:lnTo>
                    <a:pt x="358" y="842"/>
                  </a:lnTo>
                  <a:lnTo>
                    <a:pt x="353" y="834"/>
                  </a:lnTo>
                  <a:lnTo>
                    <a:pt x="348" y="824"/>
                  </a:lnTo>
                  <a:lnTo>
                    <a:pt x="346" y="813"/>
                  </a:lnTo>
                  <a:lnTo>
                    <a:pt x="346" y="800"/>
                  </a:lnTo>
                  <a:lnTo>
                    <a:pt x="347" y="788"/>
                  </a:lnTo>
                  <a:lnTo>
                    <a:pt x="349" y="773"/>
                  </a:lnTo>
                  <a:lnTo>
                    <a:pt x="353" y="759"/>
                  </a:lnTo>
                  <a:lnTo>
                    <a:pt x="359" y="744"/>
                  </a:lnTo>
                  <a:lnTo>
                    <a:pt x="366" y="727"/>
                  </a:lnTo>
                  <a:lnTo>
                    <a:pt x="376" y="709"/>
                  </a:lnTo>
                  <a:lnTo>
                    <a:pt x="387" y="691"/>
                  </a:lnTo>
                  <a:lnTo>
                    <a:pt x="401" y="671"/>
                  </a:lnTo>
                  <a:lnTo>
                    <a:pt x="416" y="650"/>
                  </a:lnTo>
                  <a:lnTo>
                    <a:pt x="433" y="629"/>
                  </a:lnTo>
                  <a:lnTo>
                    <a:pt x="451" y="607"/>
                  </a:lnTo>
                  <a:close/>
                </a:path>
              </a:pathLst>
            </a:custGeom>
            <a:solidFill>
              <a:srgbClr val="5b4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7386480" y="2557440"/>
              <a:ext cx="371520" cy="1576440"/>
            </a:xfrm>
            <a:custGeom>
              <a:avLst/>
              <a:gdLst/>
              <a:ahLst/>
              <a:rect l="l" t="t" r="r" b="b"/>
              <a:pathLst>
                <a:path w="1170" h="4963">
                  <a:moveTo>
                    <a:pt x="474" y="591"/>
                  </a:moveTo>
                  <a:lnTo>
                    <a:pt x="495" y="570"/>
                  </a:lnTo>
                  <a:lnTo>
                    <a:pt x="519" y="550"/>
                  </a:lnTo>
                  <a:lnTo>
                    <a:pt x="545" y="529"/>
                  </a:lnTo>
                  <a:lnTo>
                    <a:pt x="572" y="509"/>
                  </a:lnTo>
                  <a:lnTo>
                    <a:pt x="600" y="489"/>
                  </a:lnTo>
                  <a:lnTo>
                    <a:pt x="629" y="470"/>
                  </a:lnTo>
                  <a:lnTo>
                    <a:pt x="659" y="451"/>
                  </a:lnTo>
                  <a:lnTo>
                    <a:pt x="690" y="433"/>
                  </a:lnTo>
                  <a:lnTo>
                    <a:pt x="750" y="397"/>
                  </a:lnTo>
                  <a:lnTo>
                    <a:pt x="809" y="361"/>
                  </a:lnTo>
                  <a:lnTo>
                    <a:pt x="837" y="343"/>
                  </a:lnTo>
                  <a:lnTo>
                    <a:pt x="864" y="326"/>
                  </a:lnTo>
                  <a:lnTo>
                    <a:pt x="889" y="307"/>
                  </a:lnTo>
                  <a:lnTo>
                    <a:pt x="912" y="290"/>
                  </a:lnTo>
                  <a:lnTo>
                    <a:pt x="931" y="274"/>
                  </a:lnTo>
                  <a:lnTo>
                    <a:pt x="949" y="256"/>
                  </a:lnTo>
                  <a:lnTo>
                    <a:pt x="969" y="235"/>
                  </a:lnTo>
                  <a:lnTo>
                    <a:pt x="990" y="213"/>
                  </a:lnTo>
                  <a:lnTo>
                    <a:pt x="1029" y="165"/>
                  </a:lnTo>
                  <a:lnTo>
                    <a:pt x="1067" y="117"/>
                  </a:lnTo>
                  <a:lnTo>
                    <a:pt x="1101" y="71"/>
                  </a:lnTo>
                  <a:lnTo>
                    <a:pt x="1128" y="34"/>
                  </a:lnTo>
                  <a:lnTo>
                    <a:pt x="1145" y="8"/>
                  </a:lnTo>
                  <a:lnTo>
                    <a:pt x="1151" y="0"/>
                  </a:lnTo>
                  <a:lnTo>
                    <a:pt x="1154" y="8"/>
                  </a:lnTo>
                  <a:lnTo>
                    <a:pt x="1156" y="13"/>
                  </a:lnTo>
                  <a:lnTo>
                    <a:pt x="1158" y="18"/>
                  </a:lnTo>
                  <a:lnTo>
                    <a:pt x="1161" y="21"/>
                  </a:lnTo>
                  <a:lnTo>
                    <a:pt x="1167" y="23"/>
                  </a:lnTo>
                  <a:lnTo>
                    <a:pt x="1170" y="23"/>
                  </a:lnTo>
                  <a:lnTo>
                    <a:pt x="1170" y="27"/>
                  </a:lnTo>
                  <a:lnTo>
                    <a:pt x="1163" y="34"/>
                  </a:lnTo>
                  <a:lnTo>
                    <a:pt x="1151" y="50"/>
                  </a:lnTo>
                  <a:lnTo>
                    <a:pt x="1130" y="78"/>
                  </a:lnTo>
                  <a:lnTo>
                    <a:pt x="1102" y="113"/>
                  </a:lnTo>
                  <a:lnTo>
                    <a:pt x="1074" y="150"/>
                  </a:lnTo>
                  <a:lnTo>
                    <a:pt x="1045" y="187"/>
                  </a:lnTo>
                  <a:lnTo>
                    <a:pt x="1017" y="226"/>
                  </a:lnTo>
                  <a:lnTo>
                    <a:pt x="989" y="265"/>
                  </a:lnTo>
                  <a:lnTo>
                    <a:pt x="962" y="304"/>
                  </a:lnTo>
                  <a:lnTo>
                    <a:pt x="933" y="343"/>
                  </a:lnTo>
                  <a:lnTo>
                    <a:pt x="906" y="380"/>
                  </a:lnTo>
                  <a:lnTo>
                    <a:pt x="891" y="399"/>
                  </a:lnTo>
                  <a:lnTo>
                    <a:pt x="873" y="420"/>
                  </a:lnTo>
                  <a:lnTo>
                    <a:pt x="852" y="443"/>
                  </a:lnTo>
                  <a:lnTo>
                    <a:pt x="830" y="467"/>
                  </a:lnTo>
                  <a:lnTo>
                    <a:pt x="780" y="516"/>
                  </a:lnTo>
                  <a:lnTo>
                    <a:pt x="725" y="566"/>
                  </a:lnTo>
                  <a:lnTo>
                    <a:pt x="672" y="614"/>
                  </a:lnTo>
                  <a:lnTo>
                    <a:pt x="623" y="655"/>
                  </a:lnTo>
                  <a:lnTo>
                    <a:pt x="581" y="690"/>
                  </a:lnTo>
                  <a:lnTo>
                    <a:pt x="551" y="714"/>
                  </a:lnTo>
                  <a:lnTo>
                    <a:pt x="545" y="718"/>
                  </a:lnTo>
                  <a:lnTo>
                    <a:pt x="540" y="724"/>
                  </a:lnTo>
                  <a:lnTo>
                    <a:pt x="533" y="732"/>
                  </a:lnTo>
                  <a:lnTo>
                    <a:pt x="529" y="739"/>
                  </a:lnTo>
                  <a:lnTo>
                    <a:pt x="519" y="755"/>
                  </a:lnTo>
                  <a:lnTo>
                    <a:pt x="510" y="775"/>
                  </a:lnTo>
                  <a:lnTo>
                    <a:pt x="503" y="797"/>
                  </a:lnTo>
                  <a:lnTo>
                    <a:pt x="497" y="820"/>
                  </a:lnTo>
                  <a:lnTo>
                    <a:pt x="490" y="845"/>
                  </a:lnTo>
                  <a:lnTo>
                    <a:pt x="485" y="871"/>
                  </a:lnTo>
                  <a:lnTo>
                    <a:pt x="482" y="895"/>
                  </a:lnTo>
                  <a:lnTo>
                    <a:pt x="478" y="921"/>
                  </a:lnTo>
                  <a:lnTo>
                    <a:pt x="476" y="946"/>
                  </a:lnTo>
                  <a:lnTo>
                    <a:pt x="474" y="969"/>
                  </a:lnTo>
                  <a:lnTo>
                    <a:pt x="472" y="1011"/>
                  </a:lnTo>
                  <a:lnTo>
                    <a:pt x="472" y="1043"/>
                  </a:lnTo>
                  <a:lnTo>
                    <a:pt x="474" y="1078"/>
                  </a:lnTo>
                  <a:lnTo>
                    <a:pt x="479" y="1128"/>
                  </a:lnTo>
                  <a:lnTo>
                    <a:pt x="485" y="1189"/>
                  </a:lnTo>
                  <a:lnTo>
                    <a:pt x="494" y="1260"/>
                  </a:lnTo>
                  <a:lnTo>
                    <a:pt x="515" y="1427"/>
                  </a:lnTo>
                  <a:lnTo>
                    <a:pt x="540" y="1614"/>
                  </a:lnTo>
                  <a:lnTo>
                    <a:pt x="553" y="1709"/>
                  </a:lnTo>
                  <a:lnTo>
                    <a:pt x="567" y="1804"/>
                  </a:lnTo>
                  <a:lnTo>
                    <a:pt x="581" y="1898"/>
                  </a:lnTo>
                  <a:lnTo>
                    <a:pt x="596" y="1987"/>
                  </a:lnTo>
                  <a:lnTo>
                    <a:pt x="610" y="2071"/>
                  </a:lnTo>
                  <a:lnTo>
                    <a:pt x="625" y="2146"/>
                  </a:lnTo>
                  <a:lnTo>
                    <a:pt x="638" y="2213"/>
                  </a:lnTo>
                  <a:lnTo>
                    <a:pt x="652" y="2268"/>
                  </a:lnTo>
                  <a:lnTo>
                    <a:pt x="679" y="2383"/>
                  </a:lnTo>
                  <a:lnTo>
                    <a:pt x="708" y="2527"/>
                  </a:lnTo>
                  <a:lnTo>
                    <a:pt x="743" y="2691"/>
                  </a:lnTo>
                  <a:lnTo>
                    <a:pt x="778" y="2862"/>
                  </a:lnTo>
                  <a:lnTo>
                    <a:pt x="797" y="2948"/>
                  </a:lnTo>
                  <a:lnTo>
                    <a:pt x="815" y="3033"/>
                  </a:lnTo>
                  <a:lnTo>
                    <a:pt x="835" y="3115"/>
                  </a:lnTo>
                  <a:lnTo>
                    <a:pt x="853" y="3194"/>
                  </a:lnTo>
                  <a:lnTo>
                    <a:pt x="872" y="3268"/>
                  </a:lnTo>
                  <a:lnTo>
                    <a:pt x="890" y="3334"/>
                  </a:lnTo>
                  <a:lnTo>
                    <a:pt x="909" y="3395"/>
                  </a:lnTo>
                  <a:lnTo>
                    <a:pt x="926" y="3446"/>
                  </a:lnTo>
                  <a:lnTo>
                    <a:pt x="943" y="3495"/>
                  </a:lnTo>
                  <a:lnTo>
                    <a:pt x="960" y="3551"/>
                  </a:lnTo>
                  <a:lnTo>
                    <a:pt x="976" y="3609"/>
                  </a:lnTo>
                  <a:lnTo>
                    <a:pt x="991" y="3670"/>
                  </a:lnTo>
                  <a:lnTo>
                    <a:pt x="1005" y="3734"/>
                  </a:lnTo>
                  <a:lnTo>
                    <a:pt x="1017" y="3800"/>
                  </a:lnTo>
                  <a:lnTo>
                    <a:pt x="1022" y="3835"/>
                  </a:lnTo>
                  <a:lnTo>
                    <a:pt x="1027" y="3868"/>
                  </a:lnTo>
                  <a:lnTo>
                    <a:pt x="1030" y="3903"/>
                  </a:lnTo>
                  <a:lnTo>
                    <a:pt x="1034" y="3937"/>
                  </a:lnTo>
                  <a:lnTo>
                    <a:pt x="1037" y="3970"/>
                  </a:lnTo>
                  <a:lnTo>
                    <a:pt x="1039" y="4005"/>
                  </a:lnTo>
                  <a:lnTo>
                    <a:pt x="1040" y="4038"/>
                  </a:lnTo>
                  <a:lnTo>
                    <a:pt x="1040" y="4071"/>
                  </a:lnTo>
                  <a:lnTo>
                    <a:pt x="1040" y="4104"/>
                  </a:lnTo>
                  <a:lnTo>
                    <a:pt x="1039" y="4137"/>
                  </a:lnTo>
                  <a:lnTo>
                    <a:pt x="1037" y="4168"/>
                  </a:lnTo>
                  <a:lnTo>
                    <a:pt x="1033" y="4200"/>
                  </a:lnTo>
                  <a:lnTo>
                    <a:pt x="1028" y="4231"/>
                  </a:lnTo>
                  <a:lnTo>
                    <a:pt x="1023" y="4260"/>
                  </a:lnTo>
                  <a:lnTo>
                    <a:pt x="1016" y="4289"/>
                  </a:lnTo>
                  <a:lnTo>
                    <a:pt x="1008" y="4317"/>
                  </a:lnTo>
                  <a:lnTo>
                    <a:pt x="999" y="4344"/>
                  </a:lnTo>
                  <a:lnTo>
                    <a:pt x="989" y="4369"/>
                  </a:lnTo>
                  <a:lnTo>
                    <a:pt x="976" y="4393"/>
                  </a:lnTo>
                  <a:lnTo>
                    <a:pt x="964" y="4417"/>
                  </a:lnTo>
                  <a:lnTo>
                    <a:pt x="915" y="4498"/>
                  </a:lnTo>
                  <a:lnTo>
                    <a:pt x="875" y="4568"/>
                  </a:lnTo>
                  <a:lnTo>
                    <a:pt x="845" y="4628"/>
                  </a:lnTo>
                  <a:lnTo>
                    <a:pt x="819" y="4679"/>
                  </a:lnTo>
                  <a:lnTo>
                    <a:pt x="798" y="4723"/>
                  </a:lnTo>
                  <a:lnTo>
                    <a:pt x="778" y="4760"/>
                  </a:lnTo>
                  <a:lnTo>
                    <a:pt x="760" y="4793"/>
                  </a:lnTo>
                  <a:lnTo>
                    <a:pt x="741" y="4824"/>
                  </a:lnTo>
                  <a:lnTo>
                    <a:pt x="729" y="4839"/>
                  </a:lnTo>
                  <a:lnTo>
                    <a:pt x="713" y="4855"/>
                  </a:lnTo>
                  <a:lnTo>
                    <a:pt x="695" y="4872"/>
                  </a:lnTo>
                  <a:lnTo>
                    <a:pt x="672" y="4888"/>
                  </a:lnTo>
                  <a:lnTo>
                    <a:pt x="648" y="4904"/>
                  </a:lnTo>
                  <a:lnTo>
                    <a:pt x="622" y="4919"/>
                  </a:lnTo>
                  <a:lnTo>
                    <a:pt x="594" y="4932"/>
                  </a:lnTo>
                  <a:lnTo>
                    <a:pt x="564" y="4943"/>
                  </a:lnTo>
                  <a:lnTo>
                    <a:pt x="549" y="4948"/>
                  </a:lnTo>
                  <a:lnTo>
                    <a:pt x="535" y="4953"/>
                  </a:lnTo>
                  <a:lnTo>
                    <a:pt x="520" y="4955"/>
                  </a:lnTo>
                  <a:lnTo>
                    <a:pt x="505" y="4959"/>
                  </a:lnTo>
                  <a:lnTo>
                    <a:pt x="489" y="4960"/>
                  </a:lnTo>
                  <a:lnTo>
                    <a:pt x="474" y="4962"/>
                  </a:lnTo>
                  <a:lnTo>
                    <a:pt x="461" y="4963"/>
                  </a:lnTo>
                  <a:lnTo>
                    <a:pt x="446" y="4962"/>
                  </a:lnTo>
                  <a:lnTo>
                    <a:pt x="433" y="4960"/>
                  </a:lnTo>
                  <a:lnTo>
                    <a:pt x="418" y="4958"/>
                  </a:lnTo>
                  <a:lnTo>
                    <a:pt x="406" y="4954"/>
                  </a:lnTo>
                  <a:lnTo>
                    <a:pt x="392" y="4949"/>
                  </a:lnTo>
                  <a:lnTo>
                    <a:pt x="380" y="4943"/>
                  </a:lnTo>
                  <a:lnTo>
                    <a:pt x="369" y="4935"/>
                  </a:lnTo>
                  <a:lnTo>
                    <a:pt x="358" y="4926"/>
                  </a:lnTo>
                  <a:lnTo>
                    <a:pt x="348" y="4916"/>
                  </a:lnTo>
                  <a:lnTo>
                    <a:pt x="342" y="4906"/>
                  </a:lnTo>
                  <a:lnTo>
                    <a:pt x="326" y="4880"/>
                  </a:lnTo>
                  <a:lnTo>
                    <a:pt x="301" y="4841"/>
                  </a:lnTo>
                  <a:lnTo>
                    <a:pt x="270" y="4789"/>
                  </a:lnTo>
                  <a:lnTo>
                    <a:pt x="236" y="4732"/>
                  </a:lnTo>
                  <a:lnTo>
                    <a:pt x="198" y="4668"/>
                  </a:lnTo>
                  <a:lnTo>
                    <a:pt x="161" y="4601"/>
                  </a:lnTo>
                  <a:lnTo>
                    <a:pt x="124" y="4536"/>
                  </a:lnTo>
                  <a:lnTo>
                    <a:pt x="108" y="4504"/>
                  </a:lnTo>
                  <a:lnTo>
                    <a:pt x="93" y="4474"/>
                  </a:lnTo>
                  <a:lnTo>
                    <a:pt x="79" y="4445"/>
                  </a:lnTo>
                  <a:lnTo>
                    <a:pt x="66" y="4417"/>
                  </a:lnTo>
                  <a:lnTo>
                    <a:pt x="55" y="4388"/>
                  </a:lnTo>
                  <a:lnTo>
                    <a:pt x="45" y="4360"/>
                  </a:lnTo>
                  <a:lnTo>
                    <a:pt x="35" y="4333"/>
                  </a:lnTo>
                  <a:lnTo>
                    <a:pt x="27" y="4306"/>
                  </a:lnTo>
                  <a:lnTo>
                    <a:pt x="20" y="4278"/>
                  </a:lnTo>
                  <a:lnTo>
                    <a:pt x="14" y="4249"/>
                  </a:lnTo>
                  <a:lnTo>
                    <a:pt x="9" y="4220"/>
                  </a:lnTo>
                  <a:lnTo>
                    <a:pt x="6" y="4189"/>
                  </a:lnTo>
                  <a:lnTo>
                    <a:pt x="2" y="4158"/>
                  </a:lnTo>
                  <a:lnTo>
                    <a:pt x="1" y="4125"/>
                  </a:lnTo>
                  <a:lnTo>
                    <a:pt x="0" y="4091"/>
                  </a:lnTo>
                  <a:lnTo>
                    <a:pt x="0" y="4055"/>
                  </a:lnTo>
                  <a:lnTo>
                    <a:pt x="127" y="4286"/>
                  </a:lnTo>
                  <a:lnTo>
                    <a:pt x="155" y="4355"/>
                  </a:lnTo>
                  <a:lnTo>
                    <a:pt x="183" y="4415"/>
                  </a:lnTo>
                  <a:lnTo>
                    <a:pt x="211" y="4466"/>
                  </a:lnTo>
                  <a:lnTo>
                    <a:pt x="238" y="4510"/>
                  </a:lnTo>
                  <a:lnTo>
                    <a:pt x="265" y="4545"/>
                  </a:lnTo>
                  <a:lnTo>
                    <a:pt x="292" y="4573"/>
                  </a:lnTo>
                  <a:lnTo>
                    <a:pt x="319" y="4595"/>
                  </a:lnTo>
                  <a:lnTo>
                    <a:pt x="345" y="4610"/>
                  </a:lnTo>
                  <a:lnTo>
                    <a:pt x="371" y="4618"/>
                  </a:lnTo>
                  <a:lnTo>
                    <a:pt x="396" y="4622"/>
                  </a:lnTo>
                  <a:lnTo>
                    <a:pt x="420" y="4621"/>
                  </a:lnTo>
                  <a:lnTo>
                    <a:pt x="445" y="4615"/>
                  </a:lnTo>
                  <a:lnTo>
                    <a:pt x="468" y="4605"/>
                  </a:lnTo>
                  <a:lnTo>
                    <a:pt x="490" y="4591"/>
                  </a:lnTo>
                  <a:lnTo>
                    <a:pt x="513" y="4574"/>
                  </a:lnTo>
                  <a:lnTo>
                    <a:pt x="533" y="4554"/>
                  </a:lnTo>
                  <a:lnTo>
                    <a:pt x="554" y="4532"/>
                  </a:lnTo>
                  <a:lnTo>
                    <a:pt x="573" y="4508"/>
                  </a:lnTo>
                  <a:lnTo>
                    <a:pt x="591" y="4483"/>
                  </a:lnTo>
                  <a:lnTo>
                    <a:pt x="609" y="4456"/>
                  </a:lnTo>
                  <a:lnTo>
                    <a:pt x="625" y="4429"/>
                  </a:lnTo>
                  <a:lnTo>
                    <a:pt x="640" y="4403"/>
                  </a:lnTo>
                  <a:lnTo>
                    <a:pt x="654" y="4376"/>
                  </a:lnTo>
                  <a:lnTo>
                    <a:pt x="666" y="4350"/>
                  </a:lnTo>
                  <a:lnTo>
                    <a:pt x="687" y="4304"/>
                  </a:lnTo>
                  <a:lnTo>
                    <a:pt x="703" y="4267"/>
                  </a:lnTo>
                  <a:lnTo>
                    <a:pt x="713" y="4241"/>
                  </a:lnTo>
                  <a:lnTo>
                    <a:pt x="717" y="4231"/>
                  </a:lnTo>
                  <a:lnTo>
                    <a:pt x="730" y="4206"/>
                  </a:lnTo>
                  <a:lnTo>
                    <a:pt x="741" y="4178"/>
                  </a:lnTo>
                  <a:lnTo>
                    <a:pt x="752" y="4150"/>
                  </a:lnTo>
                  <a:lnTo>
                    <a:pt x="762" y="4119"/>
                  </a:lnTo>
                  <a:lnTo>
                    <a:pt x="771" y="4086"/>
                  </a:lnTo>
                  <a:lnTo>
                    <a:pt x="778" y="4053"/>
                  </a:lnTo>
                  <a:lnTo>
                    <a:pt x="786" y="4018"/>
                  </a:lnTo>
                  <a:lnTo>
                    <a:pt x="791" y="3981"/>
                  </a:lnTo>
                  <a:lnTo>
                    <a:pt x="796" y="3944"/>
                  </a:lnTo>
                  <a:lnTo>
                    <a:pt x="799" y="3906"/>
                  </a:lnTo>
                  <a:lnTo>
                    <a:pt x="803" y="3868"/>
                  </a:lnTo>
                  <a:lnTo>
                    <a:pt x="805" y="3829"/>
                  </a:lnTo>
                  <a:lnTo>
                    <a:pt x="807" y="3788"/>
                  </a:lnTo>
                  <a:lnTo>
                    <a:pt x="808" y="3748"/>
                  </a:lnTo>
                  <a:lnTo>
                    <a:pt x="808" y="3707"/>
                  </a:lnTo>
                  <a:lnTo>
                    <a:pt x="808" y="3666"/>
                  </a:lnTo>
                  <a:lnTo>
                    <a:pt x="805" y="3583"/>
                  </a:lnTo>
                  <a:lnTo>
                    <a:pt x="800" y="3500"/>
                  </a:lnTo>
                  <a:lnTo>
                    <a:pt x="794" y="3419"/>
                  </a:lnTo>
                  <a:lnTo>
                    <a:pt x="787" y="3340"/>
                  </a:lnTo>
                  <a:lnTo>
                    <a:pt x="778" y="3264"/>
                  </a:lnTo>
                  <a:lnTo>
                    <a:pt x="768" y="3193"/>
                  </a:lnTo>
                  <a:lnTo>
                    <a:pt x="759" y="3125"/>
                  </a:lnTo>
                  <a:lnTo>
                    <a:pt x="749" y="3064"/>
                  </a:lnTo>
                  <a:lnTo>
                    <a:pt x="720" y="2896"/>
                  </a:lnTo>
                  <a:lnTo>
                    <a:pt x="679" y="2652"/>
                  </a:lnTo>
                  <a:lnTo>
                    <a:pt x="628" y="2355"/>
                  </a:lnTo>
                  <a:lnTo>
                    <a:pt x="574" y="2038"/>
                  </a:lnTo>
                  <a:lnTo>
                    <a:pt x="522" y="1727"/>
                  </a:lnTo>
                  <a:lnTo>
                    <a:pt x="479" y="1451"/>
                  </a:lnTo>
                  <a:lnTo>
                    <a:pt x="462" y="1336"/>
                  </a:lnTo>
                  <a:lnTo>
                    <a:pt x="450" y="1240"/>
                  </a:lnTo>
                  <a:lnTo>
                    <a:pt x="445" y="1199"/>
                  </a:lnTo>
                  <a:lnTo>
                    <a:pt x="442" y="1166"/>
                  </a:lnTo>
                  <a:lnTo>
                    <a:pt x="440" y="1139"/>
                  </a:lnTo>
                  <a:lnTo>
                    <a:pt x="440" y="1119"/>
                  </a:lnTo>
                  <a:lnTo>
                    <a:pt x="440" y="1085"/>
                  </a:lnTo>
                  <a:lnTo>
                    <a:pt x="440" y="1054"/>
                  </a:lnTo>
                  <a:lnTo>
                    <a:pt x="440" y="1026"/>
                  </a:lnTo>
                  <a:lnTo>
                    <a:pt x="439" y="1000"/>
                  </a:lnTo>
                  <a:lnTo>
                    <a:pt x="436" y="975"/>
                  </a:lnTo>
                  <a:lnTo>
                    <a:pt x="434" y="953"/>
                  </a:lnTo>
                  <a:lnTo>
                    <a:pt x="431" y="932"/>
                  </a:lnTo>
                  <a:lnTo>
                    <a:pt x="428" y="914"/>
                  </a:lnTo>
                  <a:lnTo>
                    <a:pt x="423" y="898"/>
                  </a:lnTo>
                  <a:lnTo>
                    <a:pt x="419" y="883"/>
                  </a:lnTo>
                  <a:lnTo>
                    <a:pt x="414" y="868"/>
                  </a:lnTo>
                  <a:lnTo>
                    <a:pt x="408" y="857"/>
                  </a:lnTo>
                  <a:lnTo>
                    <a:pt x="402" y="846"/>
                  </a:lnTo>
                  <a:lnTo>
                    <a:pt x="396" y="836"/>
                  </a:lnTo>
                  <a:lnTo>
                    <a:pt x="390" y="828"/>
                  </a:lnTo>
                  <a:lnTo>
                    <a:pt x="382" y="820"/>
                  </a:lnTo>
                  <a:lnTo>
                    <a:pt x="376" y="812"/>
                  </a:lnTo>
                  <a:lnTo>
                    <a:pt x="370" y="803"/>
                  </a:lnTo>
                  <a:lnTo>
                    <a:pt x="367" y="794"/>
                  </a:lnTo>
                  <a:lnTo>
                    <a:pt x="365" y="783"/>
                  </a:lnTo>
                  <a:lnTo>
                    <a:pt x="365" y="773"/>
                  </a:lnTo>
                  <a:lnTo>
                    <a:pt x="366" y="761"/>
                  </a:lnTo>
                  <a:lnTo>
                    <a:pt x="370" y="749"/>
                  </a:lnTo>
                  <a:lnTo>
                    <a:pt x="375" y="735"/>
                  </a:lnTo>
                  <a:lnTo>
                    <a:pt x="381" y="721"/>
                  </a:lnTo>
                  <a:lnTo>
                    <a:pt x="390" y="706"/>
                  </a:lnTo>
                  <a:lnTo>
                    <a:pt x="399" y="690"/>
                  </a:lnTo>
                  <a:lnTo>
                    <a:pt x="412" y="671"/>
                  </a:lnTo>
                  <a:lnTo>
                    <a:pt x="424" y="654"/>
                  </a:lnTo>
                  <a:lnTo>
                    <a:pt x="440" y="634"/>
                  </a:lnTo>
                  <a:lnTo>
                    <a:pt x="456" y="614"/>
                  </a:lnTo>
                  <a:lnTo>
                    <a:pt x="474" y="591"/>
                  </a:lnTo>
                  <a:close/>
                </a:path>
              </a:pathLst>
            </a:custGeom>
            <a:solidFill>
              <a:srgbClr val="57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7386480" y="2565360"/>
              <a:ext cx="370080" cy="1568520"/>
            </a:xfrm>
            <a:custGeom>
              <a:avLst/>
              <a:gdLst/>
              <a:ahLst/>
              <a:rect l="l" t="t" r="r" b="b"/>
              <a:pathLst>
                <a:path w="1163" h="4939">
                  <a:moveTo>
                    <a:pt x="501" y="581"/>
                  </a:moveTo>
                  <a:lnTo>
                    <a:pt x="521" y="559"/>
                  </a:lnTo>
                  <a:lnTo>
                    <a:pt x="543" y="538"/>
                  </a:lnTo>
                  <a:lnTo>
                    <a:pt x="566" y="518"/>
                  </a:lnTo>
                  <a:lnTo>
                    <a:pt x="592" y="498"/>
                  </a:lnTo>
                  <a:lnTo>
                    <a:pt x="618" y="479"/>
                  </a:lnTo>
                  <a:lnTo>
                    <a:pt x="645" y="460"/>
                  </a:lnTo>
                  <a:lnTo>
                    <a:pt x="672" y="443"/>
                  </a:lnTo>
                  <a:lnTo>
                    <a:pt x="700" y="425"/>
                  </a:lnTo>
                  <a:lnTo>
                    <a:pt x="756" y="390"/>
                  </a:lnTo>
                  <a:lnTo>
                    <a:pt x="811" y="356"/>
                  </a:lnTo>
                  <a:lnTo>
                    <a:pt x="837" y="339"/>
                  </a:lnTo>
                  <a:lnTo>
                    <a:pt x="862" y="321"/>
                  </a:lnTo>
                  <a:lnTo>
                    <a:pt x="886" y="303"/>
                  </a:lnTo>
                  <a:lnTo>
                    <a:pt x="908" y="284"/>
                  </a:lnTo>
                  <a:lnTo>
                    <a:pt x="926" y="270"/>
                  </a:lnTo>
                  <a:lnTo>
                    <a:pt x="943" y="251"/>
                  </a:lnTo>
                  <a:lnTo>
                    <a:pt x="961" y="232"/>
                  </a:lnTo>
                  <a:lnTo>
                    <a:pt x="981" y="209"/>
                  </a:lnTo>
                  <a:lnTo>
                    <a:pt x="1019" y="163"/>
                  </a:lnTo>
                  <a:lnTo>
                    <a:pt x="1056" y="115"/>
                  </a:lnTo>
                  <a:lnTo>
                    <a:pt x="1089" y="70"/>
                  </a:lnTo>
                  <a:lnTo>
                    <a:pt x="1115" y="34"/>
                  </a:lnTo>
                  <a:lnTo>
                    <a:pt x="1132" y="9"/>
                  </a:lnTo>
                  <a:lnTo>
                    <a:pt x="1140" y="0"/>
                  </a:lnTo>
                  <a:lnTo>
                    <a:pt x="1141" y="9"/>
                  </a:lnTo>
                  <a:lnTo>
                    <a:pt x="1143" y="14"/>
                  </a:lnTo>
                  <a:lnTo>
                    <a:pt x="1147" y="18"/>
                  </a:lnTo>
                  <a:lnTo>
                    <a:pt x="1151" y="19"/>
                  </a:lnTo>
                  <a:lnTo>
                    <a:pt x="1153" y="18"/>
                  </a:lnTo>
                  <a:lnTo>
                    <a:pt x="1157" y="16"/>
                  </a:lnTo>
                  <a:lnTo>
                    <a:pt x="1159" y="15"/>
                  </a:lnTo>
                  <a:lnTo>
                    <a:pt x="1162" y="13"/>
                  </a:lnTo>
                  <a:lnTo>
                    <a:pt x="1163" y="11"/>
                  </a:lnTo>
                  <a:lnTo>
                    <a:pt x="1163" y="10"/>
                  </a:lnTo>
                  <a:lnTo>
                    <a:pt x="1162" y="11"/>
                  </a:lnTo>
                  <a:lnTo>
                    <a:pt x="1158" y="14"/>
                  </a:lnTo>
                  <a:lnTo>
                    <a:pt x="1147" y="27"/>
                  </a:lnTo>
                  <a:lnTo>
                    <a:pt x="1126" y="54"/>
                  </a:lnTo>
                  <a:lnTo>
                    <a:pt x="1098" y="89"/>
                  </a:lnTo>
                  <a:lnTo>
                    <a:pt x="1070" y="126"/>
                  </a:lnTo>
                  <a:lnTo>
                    <a:pt x="1041" y="163"/>
                  </a:lnTo>
                  <a:lnTo>
                    <a:pt x="1013" y="202"/>
                  </a:lnTo>
                  <a:lnTo>
                    <a:pt x="985" y="241"/>
                  </a:lnTo>
                  <a:lnTo>
                    <a:pt x="958" y="280"/>
                  </a:lnTo>
                  <a:lnTo>
                    <a:pt x="929" y="319"/>
                  </a:lnTo>
                  <a:lnTo>
                    <a:pt x="902" y="356"/>
                  </a:lnTo>
                  <a:lnTo>
                    <a:pt x="887" y="375"/>
                  </a:lnTo>
                  <a:lnTo>
                    <a:pt x="869" y="396"/>
                  </a:lnTo>
                  <a:lnTo>
                    <a:pt x="848" y="419"/>
                  </a:lnTo>
                  <a:lnTo>
                    <a:pt x="826" y="443"/>
                  </a:lnTo>
                  <a:lnTo>
                    <a:pt x="776" y="492"/>
                  </a:lnTo>
                  <a:lnTo>
                    <a:pt x="721" y="542"/>
                  </a:lnTo>
                  <a:lnTo>
                    <a:pt x="668" y="590"/>
                  </a:lnTo>
                  <a:lnTo>
                    <a:pt x="619" y="631"/>
                  </a:lnTo>
                  <a:lnTo>
                    <a:pt x="577" y="666"/>
                  </a:lnTo>
                  <a:lnTo>
                    <a:pt x="547" y="690"/>
                  </a:lnTo>
                  <a:lnTo>
                    <a:pt x="541" y="694"/>
                  </a:lnTo>
                  <a:lnTo>
                    <a:pt x="536" y="700"/>
                  </a:lnTo>
                  <a:lnTo>
                    <a:pt x="529" y="708"/>
                  </a:lnTo>
                  <a:lnTo>
                    <a:pt x="525" y="715"/>
                  </a:lnTo>
                  <a:lnTo>
                    <a:pt x="515" y="731"/>
                  </a:lnTo>
                  <a:lnTo>
                    <a:pt x="506" y="751"/>
                  </a:lnTo>
                  <a:lnTo>
                    <a:pt x="499" y="773"/>
                  </a:lnTo>
                  <a:lnTo>
                    <a:pt x="493" y="796"/>
                  </a:lnTo>
                  <a:lnTo>
                    <a:pt x="486" y="821"/>
                  </a:lnTo>
                  <a:lnTo>
                    <a:pt x="481" y="847"/>
                  </a:lnTo>
                  <a:lnTo>
                    <a:pt x="478" y="871"/>
                  </a:lnTo>
                  <a:lnTo>
                    <a:pt x="474" y="897"/>
                  </a:lnTo>
                  <a:lnTo>
                    <a:pt x="472" y="922"/>
                  </a:lnTo>
                  <a:lnTo>
                    <a:pt x="470" y="945"/>
                  </a:lnTo>
                  <a:lnTo>
                    <a:pt x="468" y="987"/>
                  </a:lnTo>
                  <a:lnTo>
                    <a:pt x="468" y="1019"/>
                  </a:lnTo>
                  <a:lnTo>
                    <a:pt x="470" y="1054"/>
                  </a:lnTo>
                  <a:lnTo>
                    <a:pt x="475" y="1104"/>
                  </a:lnTo>
                  <a:lnTo>
                    <a:pt x="481" y="1165"/>
                  </a:lnTo>
                  <a:lnTo>
                    <a:pt x="490" y="1236"/>
                  </a:lnTo>
                  <a:lnTo>
                    <a:pt x="511" y="1403"/>
                  </a:lnTo>
                  <a:lnTo>
                    <a:pt x="536" y="1590"/>
                  </a:lnTo>
                  <a:lnTo>
                    <a:pt x="549" y="1685"/>
                  </a:lnTo>
                  <a:lnTo>
                    <a:pt x="563" y="1780"/>
                  </a:lnTo>
                  <a:lnTo>
                    <a:pt x="577" y="1874"/>
                  </a:lnTo>
                  <a:lnTo>
                    <a:pt x="592" y="1963"/>
                  </a:lnTo>
                  <a:lnTo>
                    <a:pt x="606" y="2047"/>
                  </a:lnTo>
                  <a:lnTo>
                    <a:pt x="621" y="2122"/>
                  </a:lnTo>
                  <a:lnTo>
                    <a:pt x="634" y="2189"/>
                  </a:lnTo>
                  <a:lnTo>
                    <a:pt x="648" y="2244"/>
                  </a:lnTo>
                  <a:lnTo>
                    <a:pt x="675" y="2359"/>
                  </a:lnTo>
                  <a:lnTo>
                    <a:pt x="704" y="2503"/>
                  </a:lnTo>
                  <a:lnTo>
                    <a:pt x="739" y="2667"/>
                  </a:lnTo>
                  <a:lnTo>
                    <a:pt x="774" y="2838"/>
                  </a:lnTo>
                  <a:lnTo>
                    <a:pt x="793" y="2924"/>
                  </a:lnTo>
                  <a:lnTo>
                    <a:pt x="811" y="3009"/>
                  </a:lnTo>
                  <a:lnTo>
                    <a:pt x="831" y="3091"/>
                  </a:lnTo>
                  <a:lnTo>
                    <a:pt x="849" y="3170"/>
                  </a:lnTo>
                  <a:lnTo>
                    <a:pt x="868" y="3244"/>
                  </a:lnTo>
                  <a:lnTo>
                    <a:pt x="886" y="3310"/>
                  </a:lnTo>
                  <a:lnTo>
                    <a:pt x="905" y="3371"/>
                  </a:lnTo>
                  <a:lnTo>
                    <a:pt x="922" y="3422"/>
                  </a:lnTo>
                  <a:lnTo>
                    <a:pt x="939" y="3471"/>
                  </a:lnTo>
                  <a:lnTo>
                    <a:pt x="956" y="3527"/>
                  </a:lnTo>
                  <a:lnTo>
                    <a:pt x="972" y="3585"/>
                  </a:lnTo>
                  <a:lnTo>
                    <a:pt x="987" y="3646"/>
                  </a:lnTo>
                  <a:lnTo>
                    <a:pt x="1001" y="3710"/>
                  </a:lnTo>
                  <a:lnTo>
                    <a:pt x="1013" y="3776"/>
                  </a:lnTo>
                  <a:lnTo>
                    <a:pt x="1018" y="3811"/>
                  </a:lnTo>
                  <a:lnTo>
                    <a:pt x="1023" y="3844"/>
                  </a:lnTo>
                  <a:lnTo>
                    <a:pt x="1026" y="3879"/>
                  </a:lnTo>
                  <a:lnTo>
                    <a:pt x="1030" y="3913"/>
                  </a:lnTo>
                  <a:lnTo>
                    <a:pt x="1033" y="3946"/>
                  </a:lnTo>
                  <a:lnTo>
                    <a:pt x="1035" y="3981"/>
                  </a:lnTo>
                  <a:lnTo>
                    <a:pt x="1036" y="4014"/>
                  </a:lnTo>
                  <a:lnTo>
                    <a:pt x="1036" y="4047"/>
                  </a:lnTo>
                  <a:lnTo>
                    <a:pt x="1036" y="4080"/>
                  </a:lnTo>
                  <a:lnTo>
                    <a:pt x="1035" y="4113"/>
                  </a:lnTo>
                  <a:lnTo>
                    <a:pt x="1033" y="4144"/>
                  </a:lnTo>
                  <a:lnTo>
                    <a:pt x="1029" y="4176"/>
                  </a:lnTo>
                  <a:lnTo>
                    <a:pt x="1024" y="4207"/>
                  </a:lnTo>
                  <a:lnTo>
                    <a:pt x="1019" y="4236"/>
                  </a:lnTo>
                  <a:lnTo>
                    <a:pt x="1012" y="4265"/>
                  </a:lnTo>
                  <a:lnTo>
                    <a:pt x="1004" y="4293"/>
                  </a:lnTo>
                  <a:lnTo>
                    <a:pt x="995" y="4320"/>
                  </a:lnTo>
                  <a:lnTo>
                    <a:pt x="985" y="4345"/>
                  </a:lnTo>
                  <a:lnTo>
                    <a:pt x="972" y="4369"/>
                  </a:lnTo>
                  <a:lnTo>
                    <a:pt x="960" y="4393"/>
                  </a:lnTo>
                  <a:lnTo>
                    <a:pt x="911" y="4474"/>
                  </a:lnTo>
                  <a:lnTo>
                    <a:pt x="871" y="4544"/>
                  </a:lnTo>
                  <a:lnTo>
                    <a:pt x="841" y="4604"/>
                  </a:lnTo>
                  <a:lnTo>
                    <a:pt x="815" y="4655"/>
                  </a:lnTo>
                  <a:lnTo>
                    <a:pt x="794" y="4699"/>
                  </a:lnTo>
                  <a:lnTo>
                    <a:pt x="774" y="4736"/>
                  </a:lnTo>
                  <a:lnTo>
                    <a:pt x="756" y="4769"/>
                  </a:lnTo>
                  <a:lnTo>
                    <a:pt x="737" y="4800"/>
                  </a:lnTo>
                  <a:lnTo>
                    <a:pt x="725" y="4815"/>
                  </a:lnTo>
                  <a:lnTo>
                    <a:pt x="709" y="4831"/>
                  </a:lnTo>
                  <a:lnTo>
                    <a:pt x="691" y="4848"/>
                  </a:lnTo>
                  <a:lnTo>
                    <a:pt x="668" y="4864"/>
                  </a:lnTo>
                  <a:lnTo>
                    <a:pt x="644" y="4880"/>
                  </a:lnTo>
                  <a:lnTo>
                    <a:pt x="618" y="4895"/>
                  </a:lnTo>
                  <a:lnTo>
                    <a:pt x="590" y="4908"/>
                  </a:lnTo>
                  <a:lnTo>
                    <a:pt x="560" y="4919"/>
                  </a:lnTo>
                  <a:lnTo>
                    <a:pt x="545" y="4924"/>
                  </a:lnTo>
                  <a:lnTo>
                    <a:pt x="531" y="4929"/>
                  </a:lnTo>
                  <a:lnTo>
                    <a:pt x="516" y="4931"/>
                  </a:lnTo>
                  <a:lnTo>
                    <a:pt x="501" y="4935"/>
                  </a:lnTo>
                  <a:lnTo>
                    <a:pt x="485" y="4936"/>
                  </a:lnTo>
                  <a:lnTo>
                    <a:pt x="470" y="4938"/>
                  </a:lnTo>
                  <a:lnTo>
                    <a:pt x="457" y="4939"/>
                  </a:lnTo>
                  <a:lnTo>
                    <a:pt x="442" y="4938"/>
                  </a:lnTo>
                  <a:lnTo>
                    <a:pt x="429" y="4936"/>
                  </a:lnTo>
                  <a:lnTo>
                    <a:pt x="414" y="4934"/>
                  </a:lnTo>
                  <a:lnTo>
                    <a:pt x="402" y="4930"/>
                  </a:lnTo>
                  <a:lnTo>
                    <a:pt x="388" y="4925"/>
                  </a:lnTo>
                  <a:lnTo>
                    <a:pt x="376" y="4919"/>
                  </a:lnTo>
                  <a:lnTo>
                    <a:pt x="365" y="4911"/>
                  </a:lnTo>
                  <a:lnTo>
                    <a:pt x="354" y="4902"/>
                  </a:lnTo>
                  <a:lnTo>
                    <a:pt x="344" y="4892"/>
                  </a:lnTo>
                  <a:lnTo>
                    <a:pt x="338" y="4882"/>
                  </a:lnTo>
                  <a:lnTo>
                    <a:pt x="322" y="4856"/>
                  </a:lnTo>
                  <a:lnTo>
                    <a:pt x="297" y="4817"/>
                  </a:lnTo>
                  <a:lnTo>
                    <a:pt x="266" y="4765"/>
                  </a:lnTo>
                  <a:lnTo>
                    <a:pt x="232" y="4708"/>
                  </a:lnTo>
                  <a:lnTo>
                    <a:pt x="194" y="4644"/>
                  </a:lnTo>
                  <a:lnTo>
                    <a:pt x="157" y="4577"/>
                  </a:lnTo>
                  <a:lnTo>
                    <a:pt x="120" y="4512"/>
                  </a:lnTo>
                  <a:lnTo>
                    <a:pt x="104" y="4480"/>
                  </a:lnTo>
                  <a:lnTo>
                    <a:pt x="90" y="4450"/>
                  </a:lnTo>
                  <a:lnTo>
                    <a:pt x="77" y="4422"/>
                  </a:lnTo>
                  <a:lnTo>
                    <a:pt x="64" y="4395"/>
                  </a:lnTo>
                  <a:lnTo>
                    <a:pt x="53" y="4368"/>
                  </a:lnTo>
                  <a:lnTo>
                    <a:pt x="45" y="4342"/>
                  </a:lnTo>
                  <a:lnTo>
                    <a:pt x="36" y="4318"/>
                  </a:lnTo>
                  <a:lnTo>
                    <a:pt x="29" y="4293"/>
                  </a:lnTo>
                  <a:lnTo>
                    <a:pt x="23" y="4270"/>
                  </a:lnTo>
                  <a:lnTo>
                    <a:pt x="18" y="4245"/>
                  </a:lnTo>
                  <a:lnTo>
                    <a:pt x="13" y="4220"/>
                  </a:lnTo>
                  <a:lnTo>
                    <a:pt x="9" y="4197"/>
                  </a:lnTo>
                  <a:lnTo>
                    <a:pt x="7" y="4171"/>
                  </a:lnTo>
                  <a:lnTo>
                    <a:pt x="4" y="4147"/>
                  </a:lnTo>
                  <a:lnTo>
                    <a:pt x="2" y="4121"/>
                  </a:lnTo>
                  <a:lnTo>
                    <a:pt x="0" y="4094"/>
                  </a:lnTo>
                  <a:lnTo>
                    <a:pt x="128" y="4327"/>
                  </a:lnTo>
                  <a:lnTo>
                    <a:pt x="159" y="4403"/>
                  </a:lnTo>
                  <a:lnTo>
                    <a:pt x="189" y="4469"/>
                  </a:lnTo>
                  <a:lnTo>
                    <a:pt x="218" y="4526"/>
                  </a:lnTo>
                  <a:lnTo>
                    <a:pt x="248" y="4572"/>
                  </a:lnTo>
                  <a:lnTo>
                    <a:pt x="277" y="4612"/>
                  </a:lnTo>
                  <a:lnTo>
                    <a:pt x="306" y="4642"/>
                  </a:lnTo>
                  <a:lnTo>
                    <a:pt x="333" y="4665"/>
                  </a:lnTo>
                  <a:lnTo>
                    <a:pt x="360" y="4680"/>
                  </a:lnTo>
                  <a:lnTo>
                    <a:pt x="387" y="4690"/>
                  </a:lnTo>
                  <a:lnTo>
                    <a:pt x="413" y="4694"/>
                  </a:lnTo>
                  <a:lnTo>
                    <a:pt x="438" y="4692"/>
                  </a:lnTo>
                  <a:lnTo>
                    <a:pt x="463" y="4684"/>
                  </a:lnTo>
                  <a:lnTo>
                    <a:pt x="486" y="4673"/>
                  </a:lnTo>
                  <a:lnTo>
                    <a:pt x="510" y="4657"/>
                  </a:lnTo>
                  <a:lnTo>
                    <a:pt x="531" y="4637"/>
                  </a:lnTo>
                  <a:lnTo>
                    <a:pt x="553" y="4615"/>
                  </a:lnTo>
                  <a:lnTo>
                    <a:pt x="573" y="4591"/>
                  </a:lnTo>
                  <a:lnTo>
                    <a:pt x="591" y="4564"/>
                  </a:lnTo>
                  <a:lnTo>
                    <a:pt x="609" y="4535"/>
                  </a:lnTo>
                  <a:lnTo>
                    <a:pt x="627" y="4506"/>
                  </a:lnTo>
                  <a:lnTo>
                    <a:pt x="643" y="4475"/>
                  </a:lnTo>
                  <a:lnTo>
                    <a:pt x="657" y="4446"/>
                  </a:lnTo>
                  <a:lnTo>
                    <a:pt x="671" y="4416"/>
                  </a:lnTo>
                  <a:lnTo>
                    <a:pt x="683" y="4387"/>
                  </a:lnTo>
                  <a:lnTo>
                    <a:pt x="704" y="4335"/>
                  </a:lnTo>
                  <a:lnTo>
                    <a:pt x="719" y="4292"/>
                  </a:lnTo>
                  <a:lnTo>
                    <a:pt x="729" y="4264"/>
                  </a:lnTo>
                  <a:lnTo>
                    <a:pt x="731" y="4254"/>
                  </a:lnTo>
                  <a:lnTo>
                    <a:pt x="745" y="4228"/>
                  </a:lnTo>
                  <a:lnTo>
                    <a:pt x="756" y="4201"/>
                  </a:lnTo>
                  <a:lnTo>
                    <a:pt x="767" y="4171"/>
                  </a:lnTo>
                  <a:lnTo>
                    <a:pt x="777" y="4139"/>
                  </a:lnTo>
                  <a:lnTo>
                    <a:pt x="785" y="4106"/>
                  </a:lnTo>
                  <a:lnTo>
                    <a:pt x="793" y="4072"/>
                  </a:lnTo>
                  <a:lnTo>
                    <a:pt x="800" y="4036"/>
                  </a:lnTo>
                  <a:lnTo>
                    <a:pt x="805" y="3998"/>
                  </a:lnTo>
                  <a:lnTo>
                    <a:pt x="810" y="3960"/>
                  </a:lnTo>
                  <a:lnTo>
                    <a:pt x="815" y="3920"/>
                  </a:lnTo>
                  <a:lnTo>
                    <a:pt x="817" y="3880"/>
                  </a:lnTo>
                  <a:lnTo>
                    <a:pt x="820" y="3838"/>
                  </a:lnTo>
                  <a:lnTo>
                    <a:pt x="822" y="3796"/>
                  </a:lnTo>
                  <a:lnTo>
                    <a:pt x="823" y="3753"/>
                  </a:lnTo>
                  <a:lnTo>
                    <a:pt x="823" y="3710"/>
                  </a:lnTo>
                  <a:lnTo>
                    <a:pt x="823" y="3667"/>
                  </a:lnTo>
                  <a:lnTo>
                    <a:pt x="821" y="3580"/>
                  </a:lnTo>
                  <a:lnTo>
                    <a:pt x="817" y="3494"/>
                  </a:lnTo>
                  <a:lnTo>
                    <a:pt x="811" y="3409"/>
                  </a:lnTo>
                  <a:lnTo>
                    <a:pt x="805" y="3325"/>
                  </a:lnTo>
                  <a:lnTo>
                    <a:pt x="796" y="3246"/>
                  </a:lnTo>
                  <a:lnTo>
                    <a:pt x="787" y="3171"/>
                  </a:lnTo>
                  <a:lnTo>
                    <a:pt x="777" y="3102"/>
                  </a:lnTo>
                  <a:lnTo>
                    <a:pt x="767" y="3040"/>
                  </a:lnTo>
                  <a:lnTo>
                    <a:pt x="739" y="2872"/>
                  </a:lnTo>
                  <a:lnTo>
                    <a:pt x="696" y="2626"/>
                  </a:lnTo>
                  <a:lnTo>
                    <a:pt x="643" y="2330"/>
                  </a:lnTo>
                  <a:lnTo>
                    <a:pt x="587" y="2011"/>
                  </a:lnTo>
                  <a:lnTo>
                    <a:pt x="534" y="1700"/>
                  </a:lnTo>
                  <a:lnTo>
                    <a:pt x="490" y="1423"/>
                  </a:lnTo>
                  <a:lnTo>
                    <a:pt x="473" y="1308"/>
                  </a:lnTo>
                  <a:lnTo>
                    <a:pt x="459" y="1212"/>
                  </a:lnTo>
                  <a:lnTo>
                    <a:pt x="454" y="1173"/>
                  </a:lnTo>
                  <a:lnTo>
                    <a:pt x="452" y="1138"/>
                  </a:lnTo>
                  <a:lnTo>
                    <a:pt x="449" y="1111"/>
                  </a:lnTo>
                  <a:lnTo>
                    <a:pt x="449" y="1091"/>
                  </a:lnTo>
                  <a:lnTo>
                    <a:pt x="449" y="1027"/>
                  </a:lnTo>
                  <a:lnTo>
                    <a:pt x="448" y="972"/>
                  </a:lnTo>
                  <a:lnTo>
                    <a:pt x="447" y="949"/>
                  </a:lnTo>
                  <a:lnTo>
                    <a:pt x="446" y="927"/>
                  </a:lnTo>
                  <a:lnTo>
                    <a:pt x="443" y="906"/>
                  </a:lnTo>
                  <a:lnTo>
                    <a:pt x="441" y="887"/>
                  </a:lnTo>
                  <a:lnTo>
                    <a:pt x="438" y="871"/>
                  </a:lnTo>
                  <a:lnTo>
                    <a:pt x="435" y="855"/>
                  </a:lnTo>
                  <a:lnTo>
                    <a:pt x="430" y="842"/>
                  </a:lnTo>
                  <a:lnTo>
                    <a:pt x="425" y="829"/>
                  </a:lnTo>
                  <a:lnTo>
                    <a:pt x="420" y="820"/>
                  </a:lnTo>
                  <a:lnTo>
                    <a:pt x="414" y="810"/>
                  </a:lnTo>
                  <a:lnTo>
                    <a:pt x="408" y="801"/>
                  </a:lnTo>
                  <a:lnTo>
                    <a:pt x="400" y="792"/>
                  </a:lnTo>
                  <a:lnTo>
                    <a:pt x="394" y="785"/>
                  </a:lnTo>
                  <a:lnTo>
                    <a:pt x="389" y="776"/>
                  </a:lnTo>
                  <a:lnTo>
                    <a:pt x="387" y="768"/>
                  </a:lnTo>
                  <a:lnTo>
                    <a:pt x="384" y="759"/>
                  </a:lnTo>
                  <a:lnTo>
                    <a:pt x="386" y="749"/>
                  </a:lnTo>
                  <a:lnTo>
                    <a:pt x="387" y="738"/>
                  </a:lnTo>
                  <a:lnTo>
                    <a:pt x="390" y="727"/>
                  </a:lnTo>
                  <a:lnTo>
                    <a:pt x="397" y="716"/>
                  </a:lnTo>
                  <a:lnTo>
                    <a:pt x="404" y="703"/>
                  </a:lnTo>
                  <a:lnTo>
                    <a:pt x="413" y="689"/>
                  </a:lnTo>
                  <a:lnTo>
                    <a:pt x="422" y="674"/>
                  </a:lnTo>
                  <a:lnTo>
                    <a:pt x="435" y="658"/>
                  </a:lnTo>
                  <a:lnTo>
                    <a:pt x="464" y="623"/>
                  </a:lnTo>
                  <a:lnTo>
                    <a:pt x="501" y="581"/>
                  </a:lnTo>
                  <a:close/>
                </a:path>
              </a:pathLst>
            </a:custGeom>
            <a:solidFill>
              <a:srgbClr val="564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7388280" y="2573280"/>
              <a:ext cx="360360" cy="1560600"/>
            </a:xfrm>
            <a:custGeom>
              <a:avLst/>
              <a:gdLst/>
              <a:ahLst/>
              <a:rect l="l" t="t" r="r" b="b"/>
              <a:pathLst>
                <a:path w="1137" h="4913">
                  <a:moveTo>
                    <a:pt x="0" y="4129"/>
                  </a:moveTo>
                  <a:lnTo>
                    <a:pt x="6" y="4165"/>
                  </a:lnTo>
                  <a:lnTo>
                    <a:pt x="12" y="4201"/>
                  </a:lnTo>
                  <a:lnTo>
                    <a:pt x="20" y="4238"/>
                  </a:lnTo>
                  <a:lnTo>
                    <a:pt x="31" y="4278"/>
                  </a:lnTo>
                  <a:lnTo>
                    <a:pt x="37" y="4300"/>
                  </a:lnTo>
                  <a:lnTo>
                    <a:pt x="44" y="4322"/>
                  </a:lnTo>
                  <a:lnTo>
                    <a:pt x="53" y="4346"/>
                  </a:lnTo>
                  <a:lnTo>
                    <a:pt x="63" y="4370"/>
                  </a:lnTo>
                  <a:lnTo>
                    <a:pt x="75" y="4397"/>
                  </a:lnTo>
                  <a:lnTo>
                    <a:pt x="87" y="4424"/>
                  </a:lnTo>
                  <a:lnTo>
                    <a:pt x="101" y="4454"/>
                  </a:lnTo>
                  <a:lnTo>
                    <a:pt x="117" y="4486"/>
                  </a:lnTo>
                  <a:lnTo>
                    <a:pt x="154" y="4551"/>
                  </a:lnTo>
                  <a:lnTo>
                    <a:pt x="191" y="4618"/>
                  </a:lnTo>
                  <a:lnTo>
                    <a:pt x="229" y="4682"/>
                  </a:lnTo>
                  <a:lnTo>
                    <a:pt x="263" y="4739"/>
                  </a:lnTo>
                  <a:lnTo>
                    <a:pt x="294" y="4791"/>
                  </a:lnTo>
                  <a:lnTo>
                    <a:pt x="319" y="4830"/>
                  </a:lnTo>
                  <a:lnTo>
                    <a:pt x="335" y="4856"/>
                  </a:lnTo>
                  <a:lnTo>
                    <a:pt x="341" y="4866"/>
                  </a:lnTo>
                  <a:lnTo>
                    <a:pt x="351" y="4876"/>
                  </a:lnTo>
                  <a:lnTo>
                    <a:pt x="362" y="4885"/>
                  </a:lnTo>
                  <a:lnTo>
                    <a:pt x="373" y="4893"/>
                  </a:lnTo>
                  <a:lnTo>
                    <a:pt x="385" y="4899"/>
                  </a:lnTo>
                  <a:lnTo>
                    <a:pt x="399" y="4904"/>
                  </a:lnTo>
                  <a:lnTo>
                    <a:pt x="411" y="4908"/>
                  </a:lnTo>
                  <a:lnTo>
                    <a:pt x="426" y="4910"/>
                  </a:lnTo>
                  <a:lnTo>
                    <a:pt x="439" y="4912"/>
                  </a:lnTo>
                  <a:lnTo>
                    <a:pt x="454" y="4913"/>
                  </a:lnTo>
                  <a:lnTo>
                    <a:pt x="467" y="4912"/>
                  </a:lnTo>
                  <a:lnTo>
                    <a:pt x="482" y="4910"/>
                  </a:lnTo>
                  <a:lnTo>
                    <a:pt x="498" y="4909"/>
                  </a:lnTo>
                  <a:lnTo>
                    <a:pt x="513" y="4905"/>
                  </a:lnTo>
                  <a:lnTo>
                    <a:pt x="528" y="4903"/>
                  </a:lnTo>
                  <a:lnTo>
                    <a:pt x="542" y="4898"/>
                  </a:lnTo>
                  <a:lnTo>
                    <a:pt x="557" y="4893"/>
                  </a:lnTo>
                  <a:lnTo>
                    <a:pt x="587" y="4882"/>
                  </a:lnTo>
                  <a:lnTo>
                    <a:pt x="615" y="4869"/>
                  </a:lnTo>
                  <a:lnTo>
                    <a:pt x="641" y="4854"/>
                  </a:lnTo>
                  <a:lnTo>
                    <a:pt x="665" y="4838"/>
                  </a:lnTo>
                  <a:lnTo>
                    <a:pt x="688" y="4822"/>
                  </a:lnTo>
                  <a:lnTo>
                    <a:pt x="706" y="4805"/>
                  </a:lnTo>
                  <a:lnTo>
                    <a:pt x="722" y="4789"/>
                  </a:lnTo>
                  <a:lnTo>
                    <a:pt x="734" y="4774"/>
                  </a:lnTo>
                  <a:lnTo>
                    <a:pt x="753" y="4743"/>
                  </a:lnTo>
                  <a:lnTo>
                    <a:pt x="771" y="4710"/>
                  </a:lnTo>
                  <a:lnTo>
                    <a:pt x="791" y="4673"/>
                  </a:lnTo>
                  <a:lnTo>
                    <a:pt x="812" y="4629"/>
                  </a:lnTo>
                  <a:lnTo>
                    <a:pt x="838" y="4578"/>
                  </a:lnTo>
                  <a:lnTo>
                    <a:pt x="868" y="4518"/>
                  </a:lnTo>
                  <a:lnTo>
                    <a:pt x="908" y="4448"/>
                  </a:lnTo>
                  <a:lnTo>
                    <a:pt x="957" y="4367"/>
                  </a:lnTo>
                  <a:lnTo>
                    <a:pt x="969" y="4343"/>
                  </a:lnTo>
                  <a:lnTo>
                    <a:pt x="982" y="4319"/>
                  </a:lnTo>
                  <a:lnTo>
                    <a:pt x="992" y="4294"/>
                  </a:lnTo>
                  <a:lnTo>
                    <a:pt x="1001" y="4267"/>
                  </a:lnTo>
                  <a:lnTo>
                    <a:pt x="1009" y="4239"/>
                  </a:lnTo>
                  <a:lnTo>
                    <a:pt x="1016" y="4210"/>
                  </a:lnTo>
                  <a:lnTo>
                    <a:pt x="1021" y="4181"/>
                  </a:lnTo>
                  <a:lnTo>
                    <a:pt x="1026" y="4150"/>
                  </a:lnTo>
                  <a:lnTo>
                    <a:pt x="1030" y="4118"/>
                  </a:lnTo>
                  <a:lnTo>
                    <a:pt x="1032" y="4087"/>
                  </a:lnTo>
                  <a:lnTo>
                    <a:pt x="1033" y="4054"/>
                  </a:lnTo>
                  <a:lnTo>
                    <a:pt x="1033" y="4021"/>
                  </a:lnTo>
                  <a:lnTo>
                    <a:pt x="1033" y="3988"/>
                  </a:lnTo>
                  <a:lnTo>
                    <a:pt x="1032" y="3955"/>
                  </a:lnTo>
                  <a:lnTo>
                    <a:pt x="1030" y="3920"/>
                  </a:lnTo>
                  <a:lnTo>
                    <a:pt x="1027" y="3887"/>
                  </a:lnTo>
                  <a:lnTo>
                    <a:pt x="1023" y="3853"/>
                  </a:lnTo>
                  <a:lnTo>
                    <a:pt x="1020" y="3818"/>
                  </a:lnTo>
                  <a:lnTo>
                    <a:pt x="1015" y="3785"/>
                  </a:lnTo>
                  <a:lnTo>
                    <a:pt x="1010" y="3750"/>
                  </a:lnTo>
                  <a:lnTo>
                    <a:pt x="998" y="3684"/>
                  </a:lnTo>
                  <a:lnTo>
                    <a:pt x="984" y="3620"/>
                  </a:lnTo>
                  <a:lnTo>
                    <a:pt x="969" y="3559"/>
                  </a:lnTo>
                  <a:lnTo>
                    <a:pt x="953" y="3501"/>
                  </a:lnTo>
                  <a:lnTo>
                    <a:pt x="936" y="3445"/>
                  </a:lnTo>
                  <a:lnTo>
                    <a:pt x="919" y="3396"/>
                  </a:lnTo>
                  <a:lnTo>
                    <a:pt x="902" y="3345"/>
                  </a:lnTo>
                  <a:lnTo>
                    <a:pt x="883" y="3284"/>
                  </a:lnTo>
                  <a:lnTo>
                    <a:pt x="865" y="3218"/>
                  </a:lnTo>
                  <a:lnTo>
                    <a:pt x="846" y="3144"/>
                  </a:lnTo>
                  <a:lnTo>
                    <a:pt x="828" y="3065"/>
                  </a:lnTo>
                  <a:lnTo>
                    <a:pt x="808" y="2983"/>
                  </a:lnTo>
                  <a:lnTo>
                    <a:pt x="790" y="2898"/>
                  </a:lnTo>
                  <a:lnTo>
                    <a:pt x="771" y="2812"/>
                  </a:lnTo>
                  <a:lnTo>
                    <a:pt x="736" y="2641"/>
                  </a:lnTo>
                  <a:lnTo>
                    <a:pt x="701" y="2477"/>
                  </a:lnTo>
                  <a:lnTo>
                    <a:pt x="672" y="2333"/>
                  </a:lnTo>
                  <a:lnTo>
                    <a:pt x="645" y="2218"/>
                  </a:lnTo>
                  <a:lnTo>
                    <a:pt x="631" y="2163"/>
                  </a:lnTo>
                  <a:lnTo>
                    <a:pt x="618" y="2096"/>
                  </a:lnTo>
                  <a:lnTo>
                    <a:pt x="603" y="2021"/>
                  </a:lnTo>
                  <a:lnTo>
                    <a:pt x="589" y="1937"/>
                  </a:lnTo>
                  <a:lnTo>
                    <a:pt x="574" y="1848"/>
                  </a:lnTo>
                  <a:lnTo>
                    <a:pt x="560" y="1754"/>
                  </a:lnTo>
                  <a:lnTo>
                    <a:pt x="546" y="1659"/>
                  </a:lnTo>
                  <a:lnTo>
                    <a:pt x="533" y="1564"/>
                  </a:lnTo>
                  <a:lnTo>
                    <a:pt x="508" y="1377"/>
                  </a:lnTo>
                  <a:lnTo>
                    <a:pt x="487" y="1210"/>
                  </a:lnTo>
                  <a:lnTo>
                    <a:pt x="478" y="1139"/>
                  </a:lnTo>
                  <a:lnTo>
                    <a:pt x="472" y="1078"/>
                  </a:lnTo>
                  <a:lnTo>
                    <a:pt x="467" y="1028"/>
                  </a:lnTo>
                  <a:lnTo>
                    <a:pt x="465" y="993"/>
                  </a:lnTo>
                  <a:lnTo>
                    <a:pt x="465" y="961"/>
                  </a:lnTo>
                  <a:lnTo>
                    <a:pt x="467" y="919"/>
                  </a:lnTo>
                  <a:lnTo>
                    <a:pt x="469" y="896"/>
                  </a:lnTo>
                  <a:lnTo>
                    <a:pt x="471" y="871"/>
                  </a:lnTo>
                  <a:lnTo>
                    <a:pt x="475" y="845"/>
                  </a:lnTo>
                  <a:lnTo>
                    <a:pt x="478" y="821"/>
                  </a:lnTo>
                  <a:lnTo>
                    <a:pt x="483" y="795"/>
                  </a:lnTo>
                  <a:lnTo>
                    <a:pt x="490" y="770"/>
                  </a:lnTo>
                  <a:lnTo>
                    <a:pt x="496" y="747"/>
                  </a:lnTo>
                  <a:lnTo>
                    <a:pt x="503" y="725"/>
                  </a:lnTo>
                  <a:lnTo>
                    <a:pt x="512" y="705"/>
                  </a:lnTo>
                  <a:lnTo>
                    <a:pt x="522" y="689"/>
                  </a:lnTo>
                  <a:lnTo>
                    <a:pt x="526" y="682"/>
                  </a:lnTo>
                  <a:lnTo>
                    <a:pt x="533" y="674"/>
                  </a:lnTo>
                  <a:lnTo>
                    <a:pt x="538" y="668"/>
                  </a:lnTo>
                  <a:lnTo>
                    <a:pt x="544" y="664"/>
                  </a:lnTo>
                  <a:lnTo>
                    <a:pt x="574" y="640"/>
                  </a:lnTo>
                  <a:lnTo>
                    <a:pt x="616" y="605"/>
                  </a:lnTo>
                  <a:lnTo>
                    <a:pt x="665" y="564"/>
                  </a:lnTo>
                  <a:lnTo>
                    <a:pt x="718" y="516"/>
                  </a:lnTo>
                  <a:lnTo>
                    <a:pt x="773" y="466"/>
                  </a:lnTo>
                  <a:lnTo>
                    <a:pt x="823" y="417"/>
                  </a:lnTo>
                  <a:lnTo>
                    <a:pt x="845" y="393"/>
                  </a:lnTo>
                  <a:lnTo>
                    <a:pt x="866" y="370"/>
                  </a:lnTo>
                  <a:lnTo>
                    <a:pt x="884" y="349"/>
                  </a:lnTo>
                  <a:lnTo>
                    <a:pt x="899" y="330"/>
                  </a:lnTo>
                  <a:lnTo>
                    <a:pt x="924" y="297"/>
                  </a:lnTo>
                  <a:lnTo>
                    <a:pt x="950" y="261"/>
                  </a:lnTo>
                  <a:lnTo>
                    <a:pt x="977" y="224"/>
                  </a:lnTo>
                  <a:lnTo>
                    <a:pt x="1005" y="186"/>
                  </a:lnTo>
                  <a:lnTo>
                    <a:pt x="1033" y="148"/>
                  </a:lnTo>
                  <a:lnTo>
                    <a:pt x="1063" y="107"/>
                  </a:lnTo>
                  <a:lnTo>
                    <a:pt x="1092" y="68"/>
                  </a:lnTo>
                  <a:lnTo>
                    <a:pt x="1123" y="28"/>
                  </a:lnTo>
                  <a:lnTo>
                    <a:pt x="1128" y="20"/>
                  </a:lnTo>
                  <a:lnTo>
                    <a:pt x="1132" y="14"/>
                  </a:lnTo>
                  <a:lnTo>
                    <a:pt x="1135" y="8"/>
                  </a:lnTo>
                  <a:lnTo>
                    <a:pt x="1137" y="4"/>
                  </a:lnTo>
                  <a:lnTo>
                    <a:pt x="1137" y="1"/>
                  </a:lnTo>
                  <a:lnTo>
                    <a:pt x="1135" y="0"/>
                  </a:lnTo>
                  <a:lnTo>
                    <a:pt x="1132" y="0"/>
                  </a:lnTo>
                  <a:lnTo>
                    <a:pt x="1128" y="1"/>
                  </a:lnTo>
                  <a:lnTo>
                    <a:pt x="1122" y="10"/>
                  </a:lnTo>
                  <a:lnTo>
                    <a:pt x="1105" y="33"/>
                  </a:lnTo>
                  <a:lnTo>
                    <a:pt x="1079" y="69"/>
                  </a:lnTo>
                  <a:lnTo>
                    <a:pt x="1046" y="112"/>
                  </a:lnTo>
                  <a:lnTo>
                    <a:pt x="1010" y="158"/>
                  </a:lnTo>
                  <a:lnTo>
                    <a:pt x="973" y="203"/>
                  </a:lnTo>
                  <a:lnTo>
                    <a:pt x="955" y="224"/>
                  </a:lnTo>
                  <a:lnTo>
                    <a:pt x="937" y="244"/>
                  </a:lnTo>
                  <a:lnTo>
                    <a:pt x="920" y="261"/>
                  </a:lnTo>
                  <a:lnTo>
                    <a:pt x="905" y="276"/>
                  </a:lnTo>
                  <a:lnTo>
                    <a:pt x="883" y="295"/>
                  </a:lnTo>
                  <a:lnTo>
                    <a:pt x="861" y="314"/>
                  </a:lnTo>
                  <a:lnTo>
                    <a:pt x="838" y="331"/>
                  </a:lnTo>
                  <a:lnTo>
                    <a:pt x="813" y="348"/>
                  </a:lnTo>
                  <a:lnTo>
                    <a:pt x="764" y="383"/>
                  </a:lnTo>
                  <a:lnTo>
                    <a:pt x="713" y="416"/>
                  </a:lnTo>
                  <a:lnTo>
                    <a:pt x="662" y="449"/>
                  </a:lnTo>
                  <a:lnTo>
                    <a:pt x="614" y="485"/>
                  </a:lnTo>
                  <a:lnTo>
                    <a:pt x="589" y="504"/>
                  </a:lnTo>
                  <a:lnTo>
                    <a:pt x="567" y="524"/>
                  </a:lnTo>
                  <a:lnTo>
                    <a:pt x="545" y="544"/>
                  </a:lnTo>
                  <a:lnTo>
                    <a:pt x="525" y="566"/>
                  </a:lnTo>
                  <a:lnTo>
                    <a:pt x="488" y="607"/>
                  </a:lnTo>
                  <a:lnTo>
                    <a:pt x="459" y="641"/>
                  </a:lnTo>
                  <a:lnTo>
                    <a:pt x="445" y="656"/>
                  </a:lnTo>
                  <a:lnTo>
                    <a:pt x="434" y="669"/>
                  </a:lnTo>
                  <a:lnTo>
                    <a:pt x="426" y="682"/>
                  </a:lnTo>
                  <a:lnTo>
                    <a:pt x="418" y="694"/>
                  </a:lnTo>
                  <a:lnTo>
                    <a:pt x="412" y="704"/>
                  </a:lnTo>
                  <a:lnTo>
                    <a:pt x="407" y="714"/>
                  </a:lnTo>
                  <a:lnTo>
                    <a:pt x="405" y="723"/>
                  </a:lnTo>
                  <a:lnTo>
                    <a:pt x="405" y="732"/>
                  </a:lnTo>
                  <a:lnTo>
                    <a:pt x="406" y="739"/>
                  </a:lnTo>
                  <a:lnTo>
                    <a:pt x="408" y="747"/>
                  </a:lnTo>
                  <a:lnTo>
                    <a:pt x="412" y="754"/>
                  </a:lnTo>
                  <a:lnTo>
                    <a:pt x="419" y="762"/>
                  </a:lnTo>
                  <a:lnTo>
                    <a:pt x="426" y="770"/>
                  </a:lnTo>
                  <a:lnTo>
                    <a:pt x="432" y="779"/>
                  </a:lnTo>
                  <a:lnTo>
                    <a:pt x="438" y="789"/>
                  </a:lnTo>
                  <a:lnTo>
                    <a:pt x="443" y="800"/>
                  </a:lnTo>
                  <a:lnTo>
                    <a:pt x="446" y="812"/>
                  </a:lnTo>
                  <a:lnTo>
                    <a:pt x="450" y="827"/>
                  </a:lnTo>
                  <a:lnTo>
                    <a:pt x="453" y="841"/>
                  </a:lnTo>
                  <a:lnTo>
                    <a:pt x="455" y="859"/>
                  </a:lnTo>
                  <a:lnTo>
                    <a:pt x="458" y="897"/>
                  </a:lnTo>
                  <a:lnTo>
                    <a:pt x="459" y="944"/>
                  </a:lnTo>
                  <a:lnTo>
                    <a:pt x="460" y="999"/>
                  </a:lnTo>
                  <a:lnTo>
                    <a:pt x="460" y="1063"/>
                  </a:lnTo>
                  <a:lnTo>
                    <a:pt x="460" y="1083"/>
                  </a:lnTo>
                  <a:lnTo>
                    <a:pt x="462" y="1110"/>
                  </a:lnTo>
                  <a:lnTo>
                    <a:pt x="466" y="1143"/>
                  </a:lnTo>
                  <a:lnTo>
                    <a:pt x="471" y="1183"/>
                  </a:lnTo>
                  <a:lnTo>
                    <a:pt x="486" y="1279"/>
                  </a:lnTo>
                  <a:lnTo>
                    <a:pt x="503" y="1396"/>
                  </a:lnTo>
                  <a:lnTo>
                    <a:pt x="550" y="1673"/>
                  </a:lnTo>
                  <a:lnTo>
                    <a:pt x="604" y="1985"/>
                  </a:lnTo>
                  <a:lnTo>
                    <a:pt x="661" y="2305"/>
                  </a:lnTo>
                  <a:lnTo>
                    <a:pt x="715" y="2602"/>
                  </a:lnTo>
                  <a:lnTo>
                    <a:pt x="759" y="2849"/>
                  </a:lnTo>
                  <a:lnTo>
                    <a:pt x="789" y="3016"/>
                  </a:lnTo>
                  <a:lnTo>
                    <a:pt x="798" y="3079"/>
                  </a:lnTo>
                  <a:lnTo>
                    <a:pt x="807" y="3150"/>
                  </a:lnTo>
                  <a:lnTo>
                    <a:pt x="816" y="3226"/>
                  </a:lnTo>
                  <a:lnTo>
                    <a:pt x="824" y="3309"/>
                  </a:lnTo>
                  <a:lnTo>
                    <a:pt x="830" y="3395"/>
                  </a:lnTo>
                  <a:lnTo>
                    <a:pt x="836" y="3484"/>
                  </a:lnTo>
                  <a:lnTo>
                    <a:pt x="840" y="3575"/>
                  </a:lnTo>
                  <a:lnTo>
                    <a:pt x="841" y="3666"/>
                  </a:lnTo>
                  <a:lnTo>
                    <a:pt x="841" y="3711"/>
                  </a:lnTo>
                  <a:lnTo>
                    <a:pt x="840" y="3757"/>
                  </a:lnTo>
                  <a:lnTo>
                    <a:pt x="839" y="3801"/>
                  </a:lnTo>
                  <a:lnTo>
                    <a:pt x="838" y="3845"/>
                  </a:lnTo>
                  <a:lnTo>
                    <a:pt x="835" y="3888"/>
                  </a:lnTo>
                  <a:lnTo>
                    <a:pt x="832" y="3931"/>
                  </a:lnTo>
                  <a:lnTo>
                    <a:pt x="827" y="3972"/>
                  </a:lnTo>
                  <a:lnTo>
                    <a:pt x="822" y="4012"/>
                  </a:lnTo>
                  <a:lnTo>
                    <a:pt x="816" y="4052"/>
                  </a:lnTo>
                  <a:lnTo>
                    <a:pt x="809" y="4090"/>
                  </a:lnTo>
                  <a:lnTo>
                    <a:pt x="802" y="4126"/>
                  </a:lnTo>
                  <a:lnTo>
                    <a:pt x="793" y="4160"/>
                  </a:lnTo>
                  <a:lnTo>
                    <a:pt x="784" y="4192"/>
                  </a:lnTo>
                  <a:lnTo>
                    <a:pt x="773" y="4223"/>
                  </a:lnTo>
                  <a:lnTo>
                    <a:pt x="760" y="4251"/>
                  </a:lnTo>
                  <a:lnTo>
                    <a:pt x="748" y="4277"/>
                  </a:lnTo>
                  <a:lnTo>
                    <a:pt x="744" y="4288"/>
                  </a:lnTo>
                  <a:lnTo>
                    <a:pt x="736" y="4319"/>
                  </a:lnTo>
                  <a:lnTo>
                    <a:pt x="721" y="4365"/>
                  </a:lnTo>
                  <a:lnTo>
                    <a:pt x="701" y="4423"/>
                  </a:lnTo>
                  <a:lnTo>
                    <a:pt x="689" y="4455"/>
                  </a:lnTo>
                  <a:lnTo>
                    <a:pt x="677" y="4487"/>
                  </a:lnTo>
                  <a:lnTo>
                    <a:pt x="662" y="4520"/>
                  </a:lnTo>
                  <a:lnTo>
                    <a:pt x="646" y="4554"/>
                  </a:lnTo>
                  <a:lnTo>
                    <a:pt x="630" y="4587"/>
                  </a:lnTo>
                  <a:lnTo>
                    <a:pt x="611" y="4619"/>
                  </a:lnTo>
                  <a:lnTo>
                    <a:pt x="593" y="4648"/>
                  </a:lnTo>
                  <a:lnTo>
                    <a:pt x="573" y="4675"/>
                  </a:lnTo>
                  <a:lnTo>
                    <a:pt x="551" y="4701"/>
                  </a:lnTo>
                  <a:lnTo>
                    <a:pt x="529" y="4722"/>
                  </a:lnTo>
                  <a:lnTo>
                    <a:pt x="507" y="4739"/>
                  </a:lnTo>
                  <a:lnTo>
                    <a:pt x="482" y="4753"/>
                  </a:lnTo>
                  <a:lnTo>
                    <a:pt x="458" y="4762"/>
                  </a:lnTo>
                  <a:lnTo>
                    <a:pt x="432" y="4764"/>
                  </a:lnTo>
                  <a:lnTo>
                    <a:pt x="405" y="4762"/>
                  </a:lnTo>
                  <a:lnTo>
                    <a:pt x="378" y="4750"/>
                  </a:lnTo>
                  <a:lnTo>
                    <a:pt x="349" y="4733"/>
                  </a:lnTo>
                  <a:lnTo>
                    <a:pt x="320" y="4709"/>
                  </a:lnTo>
                  <a:lnTo>
                    <a:pt x="290" y="4675"/>
                  </a:lnTo>
                  <a:lnTo>
                    <a:pt x="259" y="4634"/>
                  </a:lnTo>
                  <a:lnTo>
                    <a:pt x="229" y="4582"/>
                  </a:lnTo>
                  <a:lnTo>
                    <a:pt x="197" y="4520"/>
                  </a:lnTo>
                  <a:lnTo>
                    <a:pt x="164" y="4449"/>
                  </a:lnTo>
                  <a:lnTo>
                    <a:pt x="130" y="4367"/>
                  </a:lnTo>
                  <a:lnTo>
                    <a:pt x="0" y="4129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7545240" y="2463840"/>
              <a:ext cx="185760" cy="171360"/>
            </a:xfrm>
            <a:custGeom>
              <a:avLst/>
              <a:gdLst/>
              <a:ahLst/>
              <a:rect l="l" t="t" r="r" b="b"/>
              <a:pathLst>
                <a:path w="586" h="538">
                  <a:moveTo>
                    <a:pt x="86" y="536"/>
                  </a:moveTo>
                  <a:lnTo>
                    <a:pt x="79" y="538"/>
                  </a:lnTo>
                  <a:lnTo>
                    <a:pt x="72" y="535"/>
                  </a:lnTo>
                  <a:lnTo>
                    <a:pt x="64" y="531"/>
                  </a:lnTo>
                  <a:lnTo>
                    <a:pt x="58" y="526"/>
                  </a:lnTo>
                  <a:lnTo>
                    <a:pt x="52" y="520"/>
                  </a:lnTo>
                  <a:lnTo>
                    <a:pt x="46" y="513"/>
                  </a:lnTo>
                  <a:lnTo>
                    <a:pt x="40" y="503"/>
                  </a:lnTo>
                  <a:lnTo>
                    <a:pt x="35" y="493"/>
                  </a:lnTo>
                  <a:lnTo>
                    <a:pt x="30" y="481"/>
                  </a:lnTo>
                  <a:lnTo>
                    <a:pt x="25" y="469"/>
                  </a:lnTo>
                  <a:lnTo>
                    <a:pt x="21" y="455"/>
                  </a:lnTo>
                  <a:lnTo>
                    <a:pt x="16" y="440"/>
                  </a:lnTo>
                  <a:lnTo>
                    <a:pt x="10" y="408"/>
                  </a:lnTo>
                  <a:lnTo>
                    <a:pt x="5" y="375"/>
                  </a:lnTo>
                  <a:lnTo>
                    <a:pt x="3" y="339"/>
                  </a:lnTo>
                  <a:lnTo>
                    <a:pt x="0" y="303"/>
                  </a:lnTo>
                  <a:lnTo>
                    <a:pt x="1" y="266"/>
                  </a:lnTo>
                  <a:lnTo>
                    <a:pt x="4" y="229"/>
                  </a:lnTo>
                  <a:lnTo>
                    <a:pt x="8" y="194"/>
                  </a:lnTo>
                  <a:lnTo>
                    <a:pt x="15" y="160"/>
                  </a:lnTo>
                  <a:lnTo>
                    <a:pt x="19" y="145"/>
                  </a:lnTo>
                  <a:lnTo>
                    <a:pt x="24" y="129"/>
                  </a:lnTo>
                  <a:lnTo>
                    <a:pt x="29" y="116"/>
                  </a:lnTo>
                  <a:lnTo>
                    <a:pt x="35" y="102"/>
                  </a:lnTo>
                  <a:lnTo>
                    <a:pt x="41" y="90"/>
                  </a:lnTo>
                  <a:lnTo>
                    <a:pt x="49" y="79"/>
                  </a:lnTo>
                  <a:lnTo>
                    <a:pt x="58" y="69"/>
                  </a:lnTo>
                  <a:lnTo>
                    <a:pt x="68" y="59"/>
                  </a:lnTo>
                  <a:lnTo>
                    <a:pt x="78" y="50"/>
                  </a:lnTo>
                  <a:lnTo>
                    <a:pt x="89" y="42"/>
                  </a:lnTo>
                  <a:lnTo>
                    <a:pt x="101" y="34"/>
                  </a:lnTo>
                  <a:lnTo>
                    <a:pt x="115" y="28"/>
                  </a:lnTo>
                  <a:lnTo>
                    <a:pt x="127" y="23"/>
                  </a:lnTo>
                  <a:lnTo>
                    <a:pt x="142" y="18"/>
                  </a:lnTo>
                  <a:lnTo>
                    <a:pt x="155" y="14"/>
                  </a:lnTo>
                  <a:lnTo>
                    <a:pt x="170" y="10"/>
                  </a:lnTo>
                  <a:lnTo>
                    <a:pt x="200" y="5"/>
                  </a:lnTo>
                  <a:lnTo>
                    <a:pt x="230" y="1"/>
                  </a:lnTo>
                  <a:lnTo>
                    <a:pt x="260" y="0"/>
                  </a:lnTo>
                  <a:lnTo>
                    <a:pt x="289" y="1"/>
                  </a:lnTo>
                  <a:lnTo>
                    <a:pt x="316" y="2"/>
                  </a:lnTo>
                  <a:lnTo>
                    <a:pt x="343" y="6"/>
                  </a:lnTo>
                  <a:lnTo>
                    <a:pt x="366" y="11"/>
                  </a:lnTo>
                  <a:lnTo>
                    <a:pt x="387" y="16"/>
                  </a:lnTo>
                  <a:lnTo>
                    <a:pt x="403" y="22"/>
                  </a:lnTo>
                  <a:lnTo>
                    <a:pt x="415" y="30"/>
                  </a:lnTo>
                  <a:lnTo>
                    <a:pt x="426" y="38"/>
                  </a:lnTo>
                  <a:lnTo>
                    <a:pt x="438" y="50"/>
                  </a:lnTo>
                  <a:lnTo>
                    <a:pt x="451" y="65"/>
                  </a:lnTo>
                  <a:lnTo>
                    <a:pt x="464" y="84"/>
                  </a:lnTo>
                  <a:lnTo>
                    <a:pt x="492" y="125"/>
                  </a:lnTo>
                  <a:lnTo>
                    <a:pt x="521" y="170"/>
                  </a:lnTo>
                  <a:lnTo>
                    <a:pt x="546" y="213"/>
                  </a:lnTo>
                  <a:lnTo>
                    <a:pt x="567" y="250"/>
                  </a:lnTo>
                  <a:lnTo>
                    <a:pt x="581" y="274"/>
                  </a:lnTo>
                  <a:lnTo>
                    <a:pt x="586" y="284"/>
                  </a:lnTo>
                  <a:lnTo>
                    <a:pt x="580" y="288"/>
                  </a:lnTo>
                  <a:lnTo>
                    <a:pt x="564" y="299"/>
                  </a:lnTo>
                  <a:lnTo>
                    <a:pt x="539" y="315"/>
                  </a:lnTo>
                  <a:lnTo>
                    <a:pt x="507" y="336"/>
                  </a:lnTo>
                  <a:lnTo>
                    <a:pt x="471" y="358"/>
                  </a:lnTo>
                  <a:lnTo>
                    <a:pt x="435" y="381"/>
                  </a:lnTo>
                  <a:lnTo>
                    <a:pt x="398" y="405"/>
                  </a:lnTo>
                  <a:lnTo>
                    <a:pt x="363" y="426"/>
                  </a:lnTo>
                  <a:lnTo>
                    <a:pt x="329" y="445"/>
                  </a:lnTo>
                  <a:lnTo>
                    <a:pt x="293" y="464"/>
                  </a:lnTo>
                  <a:lnTo>
                    <a:pt x="257" y="482"/>
                  </a:lnTo>
                  <a:lnTo>
                    <a:pt x="222" y="497"/>
                  </a:lnTo>
                  <a:lnTo>
                    <a:pt x="186" y="512"/>
                  </a:lnTo>
                  <a:lnTo>
                    <a:pt x="152" y="523"/>
                  </a:lnTo>
                  <a:lnTo>
                    <a:pt x="134" y="528"/>
                  </a:lnTo>
                  <a:lnTo>
                    <a:pt x="118" y="531"/>
                  </a:lnTo>
                  <a:lnTo>
                    <a:pt x="101" y="535"/>
                  </a:lnTo>
                  <a:lnTo>
                    <a:pt x="86" y="536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7556400" y="2479680"/>
              <a:ext cx="173160" cy="144720"/>
            </a:xfrm>
            <a:custGeom>
              <a:avLst/>
              <a:gdLst/>
              <a:ahLst/>
              <a:rect l="l" t="t" r="r" b="b"/>
              <a:pathLst>
                <a:path w="546" h="454">
                  <a:moveTo>
                    <a:pt x="105" y="454"/>
                  </a:moveTo>
                  <a:lnTo>
                    <a:pt x="98" y="454"/>
                  </a:lnTo>
                  <a:lnTo>
                    <a:pt x="92" y="453"/>
                  </a:lnTo>
                  <a:lnTo>
                    <a:pt x="85" y="450"/>
                  </a:lnTo>
                  <a:lnTo>
                    <a:pt x="78" y="445"/>
                  </a:lnTo>
                  <a:lnTo>
                    <a:pt x="72" y="440"/>
                  </a:lnTo>
                  <a:lnTo>
                    <a:pt x="66" y="433"/>
                  </a:lnTo>
                  <a:lnTo>
                    <a:pt x="60" y="426"/>
                  </a:lnTo>
                  <a:lnTo>
                    <a:pt x="54" y="417"/>
                  </a:lnTo>
                  <a:lnTo>
                    <a:pt x="42" y="396"/>
                  </a:lnTo>
                  <a:lnTo>
                    <a:pt x="32" y="373"/>
                  </a:lnTo>
                  <a:lnTo>
                    <a:pt x="22" y="346"/>
                  </a:lnTo>
                  <a:lnTo>
                    <a:pt x="14" y="316"/>
                  </a:lnTo>
                  <a:lnTo>
                    <a:pt x="8" y="287"/>
                  </a:lnTo>
                  <a:lnTo>
                    <a:pt x="3" y="255"/>
                  </a:lnTo>
                  <a:lnTo>
                    <a:pt x="1" y="223"/>
                  </a:lnTo>
                  <a:lnTo>
                    <a:pt x="0" y="192"/>
                  </a:lnTo>
                  <a:lnTo>
                    <a:pt x="1" y="176"/>
                  </a:lnTo>
                  <a:lnTo>
                    <a:pt x="2" y="161"/>
                  </a:lnTo>
                  <a:lnTo>
                    <a:pt x="3" y="146"/>
                  </a:lnTo>
                  <a:lnTo>
                    <a:pt x="6" y="133"/>
                  </a:lnTo>
                  <a:lnTo>
                    <a:pt x="8" y="118"/>
                  </a:lnTo>
                  <a:lnTo>
                    <a:pt x="12" y="106"/>
                  </a:lnTo>
                  <a:lnTo>
                    <a:pt x="16" y="93"/>
                  </a:lnTo>
                  <a:lnTo>
                    <a:pt x="22" y="81"/>
                  </a:lnTo>
                  <a:lnTo>
                    <a:pt x="27" y="71"/>
                  </a:lnTo>
                  <a:lnTo>
                    <a:pt x="34" y="60"/>
                  </a:lnTo>
                  <a:lnTo>
                    <a:pt x="43" y="52"/>
                  </a:lnTo>
                  <a:lnTo>
                    <a:pt x="53" y="44"/>
                  </a:lnTo>
                  <a:lnTo>
                    <a:pt x="62" y="37"/>
                  </a:lnTo>
                  <a:lnTo>
                    <a:pt x="75" y="29"/>
                  </a:lnTo>
                  <a:lnTo>
                    <a:pt x="87" y="23"/>
                  </a:lnTo>
                  <a:lnTo>
                    <a:pt x="99" y="18"/>
                  </a:lnTo>
                  <a:lnTo>
                    <a:pt x="113" y="15"/>
                  </a:lnTo>
                  <a:lnTo>
                    <a:pt x="128" y="11"/>
                  </a:lnTo>
                  <a:lnTo>
                    <a:pt x="142" y="7"/>
                  </a:lnTo>
                  <a:lnTo>
                    <a:pt x="157" y="5"/>
                  </a:lnTo>
                  <a:lnTo>
                    <a:pt x="188" y="1"/>
                  </a:lnTo>
                  <a:lnTo>
                    <a:pt x="220" y="0"/>
                  </a:lnTo>
                  <a:lnTo>
                    <a:pt x="251" y="0"/>
                  </a:lnTo>
                  <a:lnTo>
                    <a:pt x="281" y="1"/>
                  </a:lnTo>
                  <a:lnTo>
                    <a:pt x="311" y="5"/>
                  </a:lnTo>
                  <a:lnTo>
                    <a:pt x="338" y="9"/>
                  </a:lnTo>
                  <a:lnTo>
                    <a:pt x="361" y="14"/>
                  </a:lnTo>
                  <a:lnTo>
                    <a:pt x="382" y="18"/>
                  </a:lnTo>
                  <a:lnTo>
                    <a:pt x="398" y="25"/>
                  </a:lnTo>
                  <a:lnTo>
                    <a:pt x="409" y="29"/>
                  </a:lnTo>
                  <a:lnTo>
                    <a:pt x="419" y="37"/>
                  </a:lnTo>
                  <a:lnTo>
                    <a:pt x="429" y="48"/>
                  </a:lnTo>
                  <a:lnTo>
                    <a:pt x="439" y="60"/>
                  </a:lnTo>
                  <a:lnTo>
                    <a:pt x="450" y="75"/>
                  </a:lnTo>
                  <a:lnTo>
                    <a:pt x="473" y="108"/>
                  </a:lnTo>
                  <a:lnTo>
                    <a:pt x="495" y="143"/>
                  </a:lnTo>
                  <a:lnTo>
                    <a:pt x="515" y="176"/>
                  </a:lnTo>
                  <a:lnTo>
                    <a:pt x="531" y="204"/>
                  </a:lnTo>
                  <a:lnTo>
                    <a:pt x="542" y="224"/>
                  </a:lnTo>
                  <a:lnTo>
                    <a:pt x="546" y="231"/>
                  </a:lnTo>
                  <a:lnTo>
                    <a:pt x="540" y="234"/>
                  </a:lnTo>
                  <a:lnTo>
                    <a:pt x="526" y="244"/>
                  </a:lnTo>
                  <a:lnTo>
                    <a:pt x="504" y="257"/>
                  </a:lnTo>
                  <a:lnTo>
                    <a:pt x="476" y="275"/>
                  </a:lnTo>
                  <a:lnTo>
                    <a:pt x="445" y="295"/>
                  </a:lnTo>
                  <a:lnTo>
                    <a:pt x="413" y="316"/>
                  </a:lnTo>
                  <a:lnTo>
                    <a:pt x="380" y="337"/>
                  </a:lnTo>
                  <a:lnTo>
                    <a:pt x="350" y="355"/>
                  </a:lnTo>
                  <a:lnTo>
                    <a:pt x="320" y="373"/>
                  </a:lnTo>
                  <a:lnTo>
                    <a:pt x="289" y="389"/>
                  </a:lnTo>
                  <a:lnTo>
                    <a:pt x="257" y="405"/>
                  </a:lnTo>
                  <a:lnTo>
                    <a:pt x="226" y="418"/>
                  </a:lnTo>
                  <a:lnTo>
                    <a:pt x="194" y="430"/>
                  </a:lnTo>
                  <a:lnTo>
                    <a:pt x="163" y="440"/>
                  </a:lnTo>
                  <a:lnTo>
                    <a:pt x="134" y="448"/>
                  </a:lnTo>
                  <a:lnTo>
                    <a:pt x="105" y="454"/>
                  </a:lnTo>
                  <a:close/>
                </a:path>
              </a:pathLst>
            </a:custGeom>
            <a:solidFill>
              <a:srgbClr val="5c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566120" y="2494080"/>
              <a:ext cx="162000" cy="117360"/>
            </a:xfrm>
            <a:custGeom>
              <a:avLst/>
              <a:gdLst/>
              <a:ahLst/>
              <a:rect l="l" t="t" r="r" b="b"/>
              <a:pathLst>
                <a:path w="507" h="371">
                  <a:moveTo>
                    <a:pt x="127" y="371"/>
                  </a:moveTo>
                  <a:lnTo>
                    <a:pt x="120" y="371"/>
                  </a:lnTo>
                  <a:lnTo>
                    <a:pt x="114" y="369"/>
                  </a:lnTo>
                  <a:lnTo>
                    <a:pt x="108" y="368"/>
                  </a:lnTo>
                  <a:lnTo>
                    <a:pt x="102" y="365"/>
                  </a:lnTo>
                  <a:lnTo>
                    <a:pt x="96" y="361"/>
                  </a:lnTo>
                  <a:lnTo>
                    <a:pt x="88" y="355"/>
                  </a:lnTo>
                  <a:lnTo>
                    <a:pt x="82" y="349"/>
                  </a:lnTo>
                  <a:lnTo>
                    <a:pt x="76" y="341"/>
                  </a:lnTo>
                  <a:lnTo>
                    <a:pt x="63" y="325"/>
                  </a:lnTo>
                  <a:lnTo>
                    <a:pt x="50" y="306"/>
                  </a:lnTo>
                  <a:lnTo>
                    <a:pt x="39" y="283"/>
                  </a:lnTo>
                  <a:lnTo>
                    <a:pt x="28" y="260"/>
                  </a:lnTo>
                  <a:lnTo>
                    <a:pt x="18" y="235"/>
                  </a:lnTo>
                  <a:lnTo>
                    <a:pt x="11" y="208"/>
                  </a:lnTo>
                  <a:lnTo>
                    <a:pt x="5" y="183"/>
                  </a:lnTo>
                  <a:lnTo>
                    <a:pt x="1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9"/>
                  </a:lnTo>
                  <a:lnTo>
                    <a:pt x="1" y="107"/>
                  </a:lnTo>
                  <a:lnTo>
                    <a:pt x="2" y="95"/>
                  </a:lnTo>
                  <a:lnTo>
                    <a:pt x="5" y="84"/>
                  </a:lnTo>
                  <a:lnTo>
                    <a:pt x="9" y="73"/>
                  </a:lnTo>
                  <a:lnTo>
                    <a:pt x="12" y="63"/>
                  </a:lnTo>
                  <a:lnTo>
                    <a:pt x="18" y="55"/>
                  </a:lnTo>
                  <a:lnTo>
                    <a:pt x="25" y="46"/>
                  </a:lnTo>
                  <a:lnTo>
                    <a:pt x="33" y="39"/>
                  </a:lnTo>
                  <a:lnTo>
                    <a:pt x="42" y="31"/>
                  </a:lnTo>
                  <a:lnTo>
                    <a:pt x="53" y="26"/>
                  </a:lnTo>
                  <a:lnTo>
                    <a:pt x="64" y="20"/>
                  </a:lnTo>
                  <a:lnTo>
                    <a:pt x="76" y="16"/>
                  </a:lnTo>
                  <a:lnTo>
                    <a:pt x="90" y="12"/>
                  </a:lnTo>
                  <a:lnTo>
                    <a:pt x="103" y="9"/>
                  </a:lnTo>
                  <a:lnTo>
                    <a:pt x="118" y="7"/>
                  </a:lnTo>
                  <a:lnTo>
                    <a:pt x="133" y="4"/>
                  </a:lnTo>
                  <a:lnTo>
                    <a:pt x="148" y="3"/>
                  </a:lnTo>
                  <a:lnTo>
                    <a:pt x="180" y="0"/>
                  </a:lnTo>
                  <a:lnTo>
                    <a:pt x="213" y="2"/>
                  </a:lnTo>
                  <a:lnTo>
                    <a:pt x="245" y="3"/>
                  </a:lnTo>
                  <a:lnTo>
                    <a:pt x="277" y="5"/>
                  </a:lnTo>
                  <a:lnTo>
                    <a:pt x="307" y="10"/>
                  </a:lnTo>
                  <a:lnTo>
                    <a:pt x="335" y="15"/>
                  </a:lnTo>
                  <a:lnTo>
                    <a:pt x="359" y="20"/>
                  </a:lnTo>
                  <a:lnTo>
                    <a:pt x="380" y="25"/>
                  </a:lnTo>
                  <a:lnTo>
                    <a:pt x="396" y="31"/>
                  </a:lnTo>
                  <a:lnTo>
                    <a:pt x="407" y="36"/>
                  </a:lnTo>
                  <a:lnTo>
                    <a:pt x="415" y="42"/>
                  </a:lnTo>
                  <a:lnTo>
                    <a:pt x="423" y="51"/>
                  </a:lnTo>
                  <a:lnTo>
                    <a:pt x="431" y="60"/>
                  </a:lnTo>
                  <a:lnTo>
                    <a:pt x="439" y="71"/>
                  </a:lnTo>
                  <a:lnTo>
                    <a:pt x="456" y="93"/>
                  </a:lnTo>
                  <a:lnTo>
                    <a:pt x="472" y="117"/>
                  </a:lnTo>
                  <a:lnTo>
                    <a:pt x="486" y="141"/>
                  </a:lnTo>
                  <a:lnTo>
                    <a:pt x="497" y="159"/>
                  </a:lnTo>
                  <a:lnTo>
                    <a:pt x="504" y="173"/>
                  </a:lnTo>
                  <a:lnTo>
                    <a:pt x="507" y="178"/>
                  </a:lnTo>
                  <a:lnTo>
                    <a:pt x="503" y="181"/>
                  </a:lnTo>
                  <a:lnTo>
                    <a:pt x="490" y="189"/>
                  </a:lnTo>
                  <a:lnTo>
                    <a:pt x="471" y="201"/>
                  </a:lnTo>
                  <a:lnTo>
                    <a:pt x="448" y="217"/>
                  </a:lnTo>
                  <a:lnTo>
                    <a:pt x="421" y="234"/>
                  </a:lnTo>
                  <a:lnTo>
                    <a:pt x="392" y="253"/>
                  </a:lnTo>
                  <a:lnTo>
                    <a:pt x="365" y="270"/>
                  </a:lnTo>
                  <a:lnTo>
                    <a:pt x="338" y="286"/>
                  </a:lnTo>
                  <a:lnTo>
                    <a:pt x="312" y="302"/>
                  </a:lnTo>
                  <a:lnTo>
                    <a:pt x="285" y="315"/>
                  </a:lnTo>
                  <a:lnTo>
                    <a:pt x="258" y="329"/>
                  </a:lnTo>
                  <a:lnTo>
                    <a:pt x="231" y="341"/>
                  </a:lnTo>
                  <a:lnTo>
                    <a:pt x="203" y="351"/>
                  </a:lnTo>
                  <a:lnTo>
                    <a:pt x="177" y="360"/>
                  </a:lnTo>
                  <a:lnTo>
                    <a:pt x="151" y="366"/>
                  </a:lnTo>
                  <a:lnTo>
                    <a:pt x="127" y="371"/>
                  </a:lnTo>
                  <a:close/>
                </a:path>
              </a:pathLst>
            </a:custGeom>
            <a:solidFill>
              <a:srgbClr val="57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575480" y="2508480"/>
              <a:ext cx="150840" cy="91800"/>
            </a:xfrm>
            <a:custGeom>
              <a:avLst/>
              <a:gdLst/>
              <a:ahLst/>
              <a:rect l="l" t="t" r="r" b="b"/>
              <a:pathLst>
                <a:path w="477" h="289">
                  <a:moveTo>
                    <a:pt x="477" y="127"/>
                  </a:moveTo>
                  <a:lnTo>
                    <a:pt x="474" y="129"/>
                  </a:lnTo>
                  <a:lnTo>
                    <a:pt x="463" y="135"/>
                  </a:lnTo>
                  <a:lnTo>
                    <a:pt x="447" y="146"/>
                  </a:lnTo>
                  <a:lnTo>
                    <a:pt x="427" y="159"/>
                  </a:lnTo>
                  <a:lnTo>
                    <a:pt x="405" y="173"/>
                  </a:lnTo>
                  <a:lnTo>
                    <a:pt x="380" y="188"/>
                  </a:lnTo>
                  <a:lnTo>
                    <a:pt x="356" y="203"/>
                  </a:lnTo>
                  <a:lnTo>
                    <a:pt x="333" y="216"/>
                  </a:lnTo>
                  <a:lnTo>
                    <a:pt x="311" y="229"/>
                  </a:lnTo>
                  <a:lnTo>
                    <a:pt x="289" y="241"/>
                  </a:lnTo>
                  <a:lnTo>
                    <a:pt x="266" y="252"/>
                  </a:lnTo>
                  <a:lnTo>
                    <a:pt x="242" y="263"/>
                  </a:lnTo>
                  <a:lnTo>
                    <a:pt x="219" y="272"/>
                  </a:lnTo>
                  <a:lnTo>
                    <a:pt x="196" y="279"/>
                  </a:lnTo>
                  <a:lnTo>
                    <a:pt x="175" y="285"/>
                  </a:lnTo>
                  <a:lnTo>
                    <a:pt x="154" y="289"/>
                  </a:lnTo>
                  <a:lnTo>
                    <a:pt x="149" y="289"/>
                  </a:lnTo>
                  <a:lnTo>
                    <a:pt x="143" y="289"/>
                  </a:lnTo>
                  <a:lnTo>
                    <a:pt x="137" y="288"/>
                  </a:lnTo>
                  <a:lnTo>
                    <a:pt x="130" y="285"/>
                  </a:lnTo>
                  <a:lnTo>
                    <a:pt x="117" y="278"/>
                  </a:lnTo>
                  <a:lnTo>
                    <a:pt x="102" y="267"/>
                  </a:lnTo>
                  <a:lnTo>
                    <a:pt x="87" y="255"/>
                  </a:lnTo>
                  <a:lnTo>
                    <a:pt x="73" y="239"/>
                  </a:lnTo>
                  <a:lnTo>
                    <a:pt x="59" y="223"/>
                  </a:lnTo>
                  <a:lnTo>
                    <a:pt x="45" y="204"/>
                  </a:lnTo>
                  <a:lnTo>
                    <a:pt x="33" y="184"/>
                  </a:lnTo>
                  <a:lnTo>
                    <a:pt x="22" y="164"/>
                  </a:lnTo>
                  <a:lnTo>
                    <a:pt x="12" y="143"/>
                  </a:lnTo>
                  <a:lnTo>
                    <a:pt x="6" y="122"/>
                  </a:lnTo>
                  <a:lnTo>
                    <a:pt x="2" y="112"/>
                  </a:lnTo>
                  <a:lnTo>
                    <a:pt x="1" y="101"/>
                  </a:lnTo>
                  <a:lnTo>
                    <a:pt x="0" y="91"/>
                  </a:lnTo>
                  <a:lnTo>
                    <a:pt x="0" y="81"/>
                  </a:lnTo>
                  <a:lnTo>
                    <a:pt x="0" y="71"/>
                  </a:lnTo>
                  <a:lnTo>
                    <a:pt x="1" y="63"/>
                  </a:lnTo>
                  <a:lnTo>
                    <a:pt x="4" y="53"/>
                  </a:lnTo>
                  <a:lnTo>
                    <a:pt x="7" y="44"/>
                  </a:lnTo>
                  <a:lnTo>
                    <a:pt x="12" y="37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6" y="18"/>
                  </a:lnTo>
                  <a:lnTo>
                    <a:pt x="47" y="15"/>
                  </a:lnTo>
                  <a:lnTo>
                    <a:pt x="58" y="10"/>
                  </a:lnTo>
                  <a:lnTo>
                    <a:pt x="70" y="7"/>
                  </a:lnTo>
                  <a:lnTo>
                    <a:pt x="84" y="5"/>
                  </a:lnTo>
                  <a:lnTo>
                    <a:pt x="113" y="1"/>
                  </a:lnTo>
                  <a:lnTo>
                    <a:pt x="144" y="0"/>
                  </a:lnTo>
                  <a:lnTo>
                    <a:pt x="177" y="0"/>
                  </a:lnTo>
                  <a:lnTo>
                    <a:pt x="212" y="2"/>
                  </a:lnTo>
                  <a:lnTo>
                    <a:pt x="245" y="6"/>
                  </a:lnTo>
                  <a:lnTo>
                    <a:pt x="278" y="11"/>
                  </a:lnTo>
                  <a:lnTo>
                    <a:pt x="310" y="16"/>
                  </a:lnTo>
                  <a:lnTo>
                    <a:pt x="338" y="21"/>
                  </a:lnTo>
                  <a:lnTo>
                    <a:pt x="363" y="27"/>
                  </a:lnTo>
                  <a:lnTo>
                    <a:pt x="384" y="32"/>
                  </a:lnTo>
                  <a:lnTo>
                    <a:pt x="400" y="38"/>
                  </a:lnTo>
                  <a:lnTo>
                    <a:pt x="410" y="42"/>
                  </a:lnTo>
                  <a:lnTo>
                    <a:pt x="422" y="52"/>
                  </a:lnTo>
                  <a:lnTo>
                    <a:pt x="434" y="64"/>
                  </a:lnTo>
                  <a:lnTo>
                    <a:pt x="445" y="79"/>
                  </a:lnTo>
                  <a:lnTo>
                    <a:pt x="455" y="92"/>
                  </a:lnTo>
                  <a:lnTo>
                    <a:pt x="465" y="106"/>
                  </a:lnTo>
                  <a:lnTo>
                    <a:pt x="471" y="116"/>
                  </a:lnTo>
                  <a:lnTo>
                    <a:pt x="476" y="123"/>
                  </a:lnTo>
                  <a:lnTo>
                    <a:pt x="477" y="127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7599240" y="2332080"/>
              <a:ext cx="115920" cy="98640"/>
            </a:xfrm>
            <a:custGeom>
              <a:avLst/>
              <a:gdLst/>
              <a:ahLst/>
              <a:rect l="l" t="t" r="r" b="b"/>
              <a:pathLst>
                <a:path w="367" h="308">
                  <a:moveTo>
                    <a:pt x="0" y="38"/>
                  </a:moveTo>
                  <a:lnTo>
                    <a:pt x="196" y="0"/>
                  </a:lnTo>
                  <a:lnTo>
                    <a:pt x="199" y="1"/>
                  </a:lnTo>
                  <a:lnTo>
                    <a:pt x="209" y="5"/>
                  </a:lnTo>
                  <a:lnTo>
                    <a:pt x="223" y="12"/>
                  </a:lnTo>
                  <a:lnTo>
                    <a:pt x="240" y="23"/>
                  </a:lnTo>
                  <a:lnTo>
                    <a:pt x="250" y="32"/>
                  </a:lnTo>
                  <a:lnTo>
                    <a:pt x="260" y="41"/>
                  </a:lnTo>
                  <a:lnTo>
                    <a:pt x="269" y="52"/>
                  </a:lnTo>
                  <a:lnTo>
                    <a:pt x="279" y="64"/>
                  </a:lnTo>
                  <a:lnTo>
                    <a:pt x="289" y="78"/>
                  </a:lnTo>
                  <a:lnTo>
                    <a:pt x="299" y="94"/>
                  </a:lnTo>
                  <a:lnTo>
                    <a:pt x="308" y="111"/>
                  </a:lnTo>
                  <a:lnTo>
                    <a:pt x="315" y="130"/>
                  </a:lnTo>
                  <a:lnTo>
                    <a:pt x="330" y="171"/>
                  </a:lnTo>
                  <a:lnTo>
                    <a:pt x="343" y="205"/>
                  </a:lnTo>
                  <a:lnTo>
                    <a:pt x="354" y="236"/>
                  </a:lnTo>
                  <a:lnTo>
                    <a:pt x="363" y="261"/>
                  </a:lnTo>
                  <a:lnTo>
                    <a:pt x="365" y="272"/>
                  </a:lnTo>
                  <a:lnTo>
                    <a:pt x="367" y="280"/>
                  </a:lnTo>
                  <a:lnTo>
                    <a:pt x="367" y="289"/>
                  </a:lnTo>
                  <a:lnTo>
                    <a:pt x="364" y="295"/>
                  </a:lnTo>
                  <a:lnTo>
                    <a:pt x="362" y="300"/>
                  </a:lnTo>
                  <a:lnTo>
                    <a:pt x="356" y="304"/>
                  </a:lnTo>
                  <a:lnTo>
                    <a:pt x="349" y="306"/>
                  </a:lnTo>
                  <a:lnTo>
                    <a:pt x="340" y="308"/>
                  </a:lnTo>
                  <a:lnTo>
                    <a:pt x="321" y="306"/>
                  </a:lnTo>
                  <a:lnTo>
                    <a:pt x="305" y="304"/>
                  </a:lnTo>
                  <a:lnTo>
                    <a:pt x="290" y="300"/>
                  </a:lnTo>
                  <a:lnTo>
                    <a:pt x="278" y="295"/>
                  </a:lnTo>
                  <a:lnTo>
                    <a:pt x="268" y="290"/>
                  </a:lnTo>
                  <a:lnTo>
                    <a:pt x="262" y="287"/>
                  </a:lnTo>
                  <a:lnTo>
                    <a:pt x="257" y="284"/>
                  </a:lnTo>
                  <a:lnTo>
                    <a:pt x="256" y="283"/>
                  </a:lnTo>
                  <a:lnTo>
                    <a:pt x="250" y="276"/>
                  </a:lnTo>
                  <a:lnTo>
                    <a:pt x="235" y="256"/>
                  </a:lnTo>
                  <a:lnTo>
                    <a:pt x="214" y="226"/>
                  </a:lnTo>
                  <a:lnTo>
                    <a:pt x="189" y="191"/>
                  </a:lnTo>
                  <a:lnTo>
                    <a:pt x="165" y="153"/>
                  </a:lnTo>
                  <a:lnTo>
                    <a:pt x="143" y="113"/>
                  </a:lnTo>
                  <a:lnTo>
                    <a:pt x="133" y="95"/>
                  </a:lnTo>
                  <a:lnTo>
                    <a:pt x="126" y="78"/>
                  </a:lnTo>
                  <a:lnTo>
                    <a:pt x="121" y="62"/>
                  </a:lnTo>
                  <a:lnTo>
                    <a:pt x="117" y="47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7599240" y="2336760"/>
              <a:ext cx="114480" cy="93960"/>
            </a:xfrm>
            <a:custGeom>
              <a:avLst/>
              <a:gdLst/>
              <a:ahLst/>
              <a:rect l="l" t="t" r="r" b="b"/>
              <a:pathLst>
                <a:path w="360" h="294">
                  <a:moveTo>
                    <a:pt x="285" y="130"/>
                  </a:moveTo>
                  <a:lnTo>
                    <a:pt x="294" y="151"/>
                  </a:lnTo>
                  <a:lnTo>
                    <a:pt x="301" y="169"/>
                  </a:lnTo>
                  <a:lnTo>
                    <a:pt x="310" y="187"/>
                  </a:lnTo>
                  <a:lnTo>
                    <a:pt x="319" y="203"/>
                  </a:lnTo>
                  <a:lnTo>
                    <a:pt x="335" y="231"/>
                  </a:lnTo>
                  <a:lnTo>
                    <a:pt x="348" y="254"/>
                  </a:lnTo>
                  <a:lnTo>
                    <a:pt x="353" y="263"/>
                  </a:lnTo>
                  <a:lnTo>
                    <a:pt x="358" y="271"/>
                  </a:lnTo>
                  <a:lnTo>
                    <a:pt x="359" y="278"/>
                  </a:lnTo>
                  <a:lnTo>
                    <a:pt x="360" y="284"/>
                  </a:lnTo>
                  <a:lnTo>
                    <a:pt x="359" y="286"/>
                  </a:lnTo>
                  <a:lnTo>
                    <a:pt x="359" y="287"/>
                  </a:lnTo>
                  <a:lnTo>
                    <a:pt x="357" y="290"/>
                  </a:lnTo>
                  <a:lnTo>
                    <a:pt x="354" y="291"/>
                  </a:lnTo>
                  <a:lnTo>
                    <a:pt x="348" y="292"/>
                  </a:lnTo>
                  <a:lnTo>
                    <a:pt x="340" y="294"/>
                  </a:lnTo>
                  <a:lnTo>
                    <a:pt x="321" y="292"/>
                  </a:lnTo>
                  <a:lnTo>
                    <a:pt x="305" y="290"/>
                  </a:lnTo>
                  <a:lnTo>
                    <a:pt x="290" y="286"/>
                  </a:lnTo>
                  <a:lnTo>
                    <a:pt x="278" y="281"/>
                  </a:lnTo>
                  <a:lnTo>
                    <a:pt x="268" y="276"/>
                  </a:lnTo>
                  <a:lnTo>
                    <a:pt x="262" y="273"/>
                  </a:lnTo>
                  <a:lnTo>
                    <a:pt x="257" y="270"/>
                  </a:lnTo>
                  <a:lnTo>
                    <a:pt x="256" y="269"/>
                  </a:lnTo>
                  <a:lnTo>
                    <a:pt x="250" y="262"/>
                  </a:lnTo>
                  <a:lnTo>
                    <a:pt x="235" y="242"/>
                  </a:lnTo>
                  <a:lnTo>
                    <a:pt x="214" y="212"/>
                  </a:lnTo>
                  <a:lnTo>
                    <a:pt x="189" y="177"/>
                  </a:lnTo>
                  <a:lnTo>
                    <a:pt x="165" y="139"/>
                  </a:lnTo>
                  <a:lnTo>
                    <a:pt x="143" y="99"/>
                  </a:lnTo>
                  <a:lnTo>
                    <a:pt x="133" y="81"/>
                  </a:lnTo>
                  <a:lnTo>
                    <a:pt x="126" y="64"/>
                  </a:lnTo>
                  <a:lnTo>
                    <a:pt x="121" y="48"/>
                  </a:lnTo>
                  <a:lnTo>
                    <a:pt x="117" y="33"/>
                  </a:lnTo>
                  <a:lnTo>
                    <a:pt x="0" y="24"/>
                  </a:lnTo>
                  <a:lnTo>
                    <a:pt x="177" y="0"/>
                  </a:lnTo>
                  <a:lnTo>
                    <a:pt x="180" y="1"/>
                  </a:lnTo>
                  <a:lnTo>
                    <a:pt x="188" y="4"/>
                  </a:lnTo>
                  <a:lnTo>
                    <a:pt x="202" y="12"/>
                  </a:lnTo>
                  <a:lnTo>
                    <a:pt x="217" y="23"/>
                  </a:lnTo>
                  <a:lnTo>
                    <a:pt x="225" y="32"/>
                  </a:lnTo>
                  <a:lnTo>
                    <a:pt x="235" y="40"/>
                  </a:lnTo>
                  <a:lnTo>
                    <a:pt x="244" y="51"/>
                  </a:lnTo>
                  <a:lnTo>
                    <a:pt x="252" y="64"/>
                  </a:lnTo>
                  <a:lnTo>
                    <a:pt x="262" y="77"/>
                  </a:lnTo>
                  <a:lnTo>
                    <a:pt x="271" y="93"/>
                  </a:lnTo>
                  <a:lnTo>
                    <a:pt x="278" y="110"/>
                  </a:lnTo>
                  <a:lnTo>
                    <a:pt x="285" y="130"/>
                  </a:lnTo>
                  <a:close/>
                </a:path>
              </a:pathLst>
            </a:custGeom>
            <a:solidFill>
              <a:srgbClr val="5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7599240" y="2340000"/>
              <a:ext cx="112680" cy="90720"/>
            </a:xfrm>
            <a:custGeom>
              <a:avLst/>
              <a:gdLst/>
              <a:ahLst/>
              <a:rect l="l" t="t" r="r" b="b"/>
              <a:pathLst>
                <a:path w="356" h="281">
                  <a:moveTo>
                    <a:pt x="258" y="130"/>
                  </a:moveTo>
                  <a:lnTo>
                    <a:pt x="266" y="151"/>
                  </a:lnTo>
                  <a:lnTo>
                    <a:pt x="276" y="170"/>
                  </a:lnTo>
                  <a:lnTo>
                    <a:pt x="284" y="186"/>
                  </a:lnTo>
                  <a:lnTo>
                    <a:pt x="295" y="202"/>
                  </a:lnTo>
                  <a:lnTo>
                    <a:pt x="315" y="228"/>
                  </a:lnTo>
                  <a:lnTo>
                    <a:pt x="333" y="247"/>
                  </a:lnTo>
                  <a:lnTo>
                    <a:pt x="348" y="262"/>
                  </a:lnTo>
                  <a:lnTo>
                    <a:pt x="356" y="273"/>
                  </a:lnTo>
                  <a:lnTo>
                    <a:pt x="356" y="274"/>
                  </a:lnTo>
                  <a:lnTo>
                    <a:pt x="356" y="276"/>
                  </a:lnTo>
                  <a:lnTo>
                    <a:pt x="356" y="278"/>
                  </a:lnTo>
                  <a:lnTo>
                    <a:pt x="353" y="278"/>
                  </a:lnTo>
                  <a:lnTo>
                    <a:pt x="348" y="281"/>
                  </a:lnTo>
                  <a:lnTo>
                    <a:pt x="340" y="281"/>
                  </a:lnTo>
                  <a:lnTo>
                    <a:pt x="321" y="279"/>
                  </a:lnTo>
                  <a:lnTo>
                    <a:pt x="305" y="277"/>
                  </a:lnTo>
                  <a:lnTo>
                    <a:pt x="290" y="273"/>
                  </a:lnTo>
                  <a:lnTo>
                    <a:pt x="278" y="268"/>
                  </a:lnTo>
                  <a:lnTo>
                    <a:pt x="268" y="263"/>
                  </a:lnTo>
                  <a:lnTo>
                    <a:pt x="262" y="260"/>
                  </a:lnTo>
                  <a:lnTo>
                    <a:pt x="257" y="257"/>
                  </a:lnTo>
                  <a:lnTo>
                    <a:pt x="256" y="256"/>
                  </a:lnTo>
                  <a:lnTo>
                    <a:pt x="250" y="249"/>
                  </a:lnTo>
                  <a:lnTo>
                    <a:pt x="235" y="229"/>
                  </a:lnTo>
                  <a:lnTo>
                    <a:pt x="214" y="199"/>
                  </a:lnTo>
                  <a:lnTo>
                    <a:pt x="189" y="164"/>
                  </a:lnTo>
                  <a:lnTo>
                    <a:pt x="165" y="126"/>
                  </a:lnTo>
                  <a:lnTo>
                    <a:pt x="143" y="86"/>
                  </a:lnTo>
                  <a:lnTo>
                    <a:pt x="133" y="68"/>
                  </a:lnTo>
                  <a:lnTo>
                    <a:pt x="126" y="51"/>
                  </a:lnTo>
                  <a:lnTo>
                    <a:pt x="121" y="35"/>
                  </a:lnTo>
                  <a:lnTo>
                    <a:pt x="117" y="20"/>
                  </a:lnTo>
                  <a:lnTo>
                    <a:pt x="0" y="11"/>
                  </a:lnTo>
                  <a:lnTo>
                    <a:pt x="157" y="0"/>
                  </a:lnTo>
                  <a:lnTo>
                    <a:pt x="161" y="1"/>
                  </a:lnTo>
                  <a:lnTo>
                    <a:pt x="167" y="5"/>
                  </a:lnTo>
                  <a:lnTo>
                    <a:pt x="178" y="12"/>
                  </a:lnTo>
                  <a:lnTo>
                    <a:pt x="193" y="23"/>
                  </a:lnTo>
                  <a:lnTo>
                    <a:pt x="201" y="32"/>
                  </a:lnTo>
                  <a:lnTo>
                    <a:pt x="209" y="41"/>
                  </a:lnTo>
                  <a:lnTo>
                    <a:pt x="217" y="52"/>
                  </a:lnTo>
                  <a:lnTo>
                    <a:pt x="225" y="64"/>
                  </a:lnTo>
                  <a:lnTo>
                    <a:pt x="234" y="78"/>
                  </a:lnTo>
                  <a:lnTo>
                    <a:pt x="242" y="94"/>
                  </a:lnTo>
                  <a:lnTo>
                    <a:pt x="251" y="111"/>
                  </a:lnTo>
                  <a:lnTo>
                    <a:pt x="258" y="130"/>
                  </a:lnTo>
                  <a:close/>
                </a:path>
              </a:pathLst>
            </a:custGeom>
            <a:solidFill>
              <a:srgbClr val="5a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7599240" y="2344680"/>
              <a:ext cx="111240" cy="86040"/>
            </a:xfrm>
            <a:custGeom>
              <a:avLst/>
              <a:gdLst/>
              <a:ahLst/>
              <a:rect l="l" t="t" r="r" b="b"/>
              <a:pathLst>
                <a:path w="353" h="270">
                  <a:moveTo>
                    <a:pt x="0" y="0"/>
                  </a:moveTo>
                  <a:lnTo>
                    <a:pt x="139" y="0"/>
                  </a:lnTo>
                  <a:lnTo>
                    <a:pt x="142" y="1"/>
                  </a:lnTo>
                  <a:lnTo>
                    <a:pt x="148" y="5"/>
                  </a:lnTo>
                  <a:lnTo>
                    <a:pt x="157" y="14"/>
                  </a:lnTo>
                  <a:lnTo>
                    <a:pt x="170" y="25"/>
                  </a:lnTo>
                  <a:lnTo>
                    <a:pt x="176" y="33"/>
                  </a:lnTo>
                  <a:lnTo>
                    <a:pt x="183" y="42"/>
                  </a:lnTo>
                  <a:lnTo>
                    <a:pt x="191" y="53"/>
                  </a:lnTo>
                  <a:lnTo>
                    <a:pt x="198" y="65"/>
                  </a:lnTo>
                  <a:lnTo>
                    <a:pt x="207" y="80"/>
                  </a:lnTo>
                  <a:lnTo>
                    <a:pt x="214" y="96"/>
                  </a:lnTo>
                  <a:lnTo>
                    <a:pt x="221" y="113"/>
                  </a:lnTo>
                  <a:lnTo>
                    <a:pt x="229" y="133"/>
                  </a:lnTo>
                  <a:lnTo>
                    <a:pt x="237" y="154"/>
                  </a:lnTo>
                  <a:lnTo>
                    <a:pt x="247" y="171"/>
                  </a:lnTo>
                  <a:lnTo>
                    <a:pt x="258" y="187"/>
                  </a:lnTo>
                  <a:lnTo>
                    <a:pt x="271" y="202"/>
                  </a:lnTo>
                  <a:lnTo>
                    <a:pt x="283" y="214"/>
                  </a:lnTo>
                  <a:lnTo>
                    <a:pt x="297" y="225"/>
                  </a:lnTo>
                  <a:lnTo>
                    <a:pt x="309" y="235"/>
                  </a:lnTo>
                  <a:lnTo>
                    <a:pt x="320" y="244"/>
                  </a:lnTo>
                  <a:lnTo>
                    <a:pt x="340" y="256"/>
                  </a:lnTo>
                  <a:lnTo>
                    <a:pt x="351" y="263"/>
                  </a:lnTo>
                  <a:lnTo>
                    <a:pt x="353" y="266"/>
                  </a:lnTo>
                  <a:lnTo>
                    <a:pt x="353" y="266"/>
                  </a:lnTo>
                  <a:lnTo>
                    <a:pt x="353" y="267"/>
                  </a:lnTo>
                  <a:lnTo>
                    <a:pt x="352" y="268"/>
                  </a:lnTo>
                  <a:lnTo>
                    <a:pt x="348" y="270"/>
                  </a:lnTo>
                  <a:lnTo>
                    <a:pt x="340" y="270"/>
                  </a:lnTo>
                  <a:lnTo>
                    <a:pt x="321" y="268"/>
                  </a:lnTo>
                  <a:lnTo>
                    <a:pt x="305" y="266"/>
                  </a:lnTo>
                  <a:lnTo>
                    <a:pt x="290" y="262"/>
                  </a:lnTo>
                  <a:lnTo>
                    <a:pt x="278" y="257"/>
                  </a:lnTo>
                  <a:lnTo>
                    <a:pt x="268" y="252"/>
                  </a:lnTo>
                  <a:lnTo>
                    <a:pt x="262" y="249"/>
                  </a:lnTo>
                  <a:lnTo>
                    <a:pt x="257" y="246"/>
                  </a:lnTo>
                  <a:lnTo>
                    <a:pt x="256" y="245"/>
                  </a:lnTo>
                  <a:lnTo>
                    <a:pt x="250" y="238"/>
                  </a:lnTo>
                  <a:lnTo>
                    <a:pt x="235" y="218"/>
                  </a:lnTo>
                  <a:lnTo>
                    <a:pt x="214" y="188"/>
                  </a:lnTo>
                  <a:lnTo>
                    <a:pt x="189" y="153"/>
                  </a:lnTo>
                  <a:lnTo>
                    <a:pt x="165" y="115"/>
                  </a:lnTo>
                  <a:lnTo>
                    <a:pt x="143" y="75"/>
                  </a:lnTo>
                  <a:lnTo>
                    <a:pt x="133" y="57"/>
                  </a:lnTo>
                  <a:lnTo>
                    <a:pt x="126" y="40"/>
                  </a:lnTo>
                  <a:lnTo>
                    <a:pt x="121" y="24"/>
                  </a:lnTo>
                  <a:lnTo>
                    <a:pt x="117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675560" y="2305080"/>
              <a:ext cx="69840" cy="136440"/>
            </a:xfrm>
            <a:custGeom>
              <a:avLst/>
              <a:gdLst/>
              <a:ahLst/>
              <a:rect l="l" t="t" r="r" b="b"/>
              <a:pathLst>
                <a:path w="218" h="427">
                  <a:moveTo>
                    <a:pt x="82" y="259"/>
                  </a:moveTo>
                  <a:lnTo>
                    <a:pt x="69" y="233"/>
                  </a:lnTo>
                  <a:lnTo>
                    <a:pt x="57" y="209"/>
                  </a:lnTo>
                  <a:lnTo>
                    <a:pt x="45" y="186"/>
                  </a:lnTo>
                  <a:lnTo>
                    <a:pt x="34" y="165"/>
                  </a:lnTo>
                  <a:lnTo>
                    <a:pt x="25" y="144"/>
                  </a:lnTo>
                  <a:lnTo>
                    <a:pt x="16" y="125"/>
                  </a:lnTo>
                  <a:lnTo>
                    <a:pt x="9" y="105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2" y="46"/>
                  </a:lnTo>
                  <a:lnTo>
                    <a:pt x="3" y="37"/>
                  </a:lnTo>
                  <a:lnTo>
                    <a:pt x="5" y="30"/>
                  </a:lnTo>
                  <a:lnTo>
                    <a:pt x="9" y="23"/>
                  </a:lnTo>
                  <a:lnTo>
                    <a:pt x="13" y="16"/>
                  </a:lnTo>
                  <a:lnTo>
                    <a:pt x="18" y="10"/>
                  </a:lnTo>
                  <a:lnTo>
                    <a:pt x="23" y="7"/>
                  </a:lnTo>
                  <a:lnTo>
                    <a:pt x="27" y="3"/>
                  </a:lnTo>
                  <a:lnTo>
                    <a:pt x="34" y="2"/>
                  </a:lnTo>
                  <a:lnTo>
                    <a:pt x="39" y="0"/>
                  </a:lnTo>
                  <a:lnTo>
                    <a:pt x="45" y="2"/>
                  </a:lnTo>
                  <a:lnTo>
                    <a:pt x="51" y="4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61" y="13"/>
                  </a:lnTo>
                  <a:lnTo>
                    <a:pt x="66" y="20"/>
                  </a:lnTo>
                  <a:lnTo>
                    <a:pt x="73" y="31"/>
                  </a:lnTo>
                  <a:lnTo>
                    <a:pt x="82" y="47"/>
                  </a:lnTo>
                  <a:lnTo>
                    <a:pt x="93" y="69"/>
                  </a:lnTo>
                  <a:lnTo>
                    <a:pt x="106" y="98"/>
                  </a:lnTo>
                  <a:lnTo>
                    <a:pt x="122" y="133"/>
                  </a:lnTo>
                  <a:lnTo>
                    <a:pt x="139" y="170"/>
                  </a:lnTo>
                  <a:lnTo>
                    <a:pt x="154" y="201"/>
                  </a:lnTo>
                  <a:lnTo>
                    <a:pt x="166" y="228"/>
                  </a:lnTo>
                  <a:lnTo>
                    <a:pt x="178" y="251"/>
                  </a:lnTo>
                  <a:lnTo>
                    <a:pt x="189" y="271"/>
                  </a:lnTo>
                  <a:lnTo>
                    <a:pt x="196" y="289"/>
                  </a:lnTo>
                  <a:lnTo>
                    <a:pt x="203" y="307"/>
                  </a:lnTo>
                  <a:lnTo>
                    <a:pt x="210" y="324"/>
                  </a:lnTo>
                  <a:lnTo>
                    <a:pt x="213" y="340"/>
                  </a:lnTo>
                  <a:lnTo>
                    <a:pt x="217" y="357"/>
                  </a:lnTo>
                  <a:lnTo>
                    <a:pt x="218" y="374"/>
                  </a:lnTo>
                  <a:lnTo>
                    <a:pt x="218" y="389"/>
                  </a:lnTo>
                  <a:lnTo>
                    <a:pt x="218" y="396"/>
                  </a:lnTo>
                  <a:lnTo>
                    <a:pt x="217" y="403"/>
                  </a:lnTo>
                  <a:lnTo>
                    <a:pt x="214" y="409"/>
                  </a:lnTo>
                  <a:lnTo>
                    <a:pt x="212" y="415"/>
                  </a:lnTo>
                  <a:lnTo>
                    <a:pt x="208" y="419"/>
                  </a:lnTo>
                  <a:lnTo>
                    <a:pt x="205" y="422"/>
                  </a:lnTo>
                  <a:lnTo>
                    <a:pt x="200" y="425"/>
                  </a:lnTo>
                  <a:lnTo>
                    <a:pt x="194" y="427"/>
                  </a:lnTo>
                  <a:lnTo>
                    <a:pt x="186" y="426"/>
                  </a:lnTo>
                  <a:lnTo>
                    <a:pt x="180" y="424"/>
                  </a:lnTo>
                  <a:lnTo>
                    <a:pt x="173" y="419"/>
                  </a:lnTo>
                  <a:lnTo>
                    <a:pt x="165" y="411"/>
                  </a:lnTo>
                  <a:lnTo>
                    <a:pt x="158" y="403"/>
                  </a:lnTo>
                  <a:lnTo>
                    <a:pt x="150" y="393"/>
                  </a:lnTo>
                  <a:lnTo>
                    <a:pt x="143" y="382"/>
                  </a:lnTo>
                  <a:lnTo>
                    <a:pt x="137" y="369"/>
                  </a:lnTo>
                  <a:lnTo>
                    <a:pt x="122" y="342"/>
                  </a:lnTo>
                  <a:lnTo>
                    <a:pt x="107" y="314"/>
                  </a:lnTo>
                  <a:lnTo>
                    <a:pt x="94" y="286"/>
                  </a:lnTo>
                  <a:lnTo>
                    <a:pt x="82" y="259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7682040" y="2309760"/>
              <a:ext cx="60120" cy="120960"/>
            </a:xfrm>
            <a:custGeom>
              <a:avLst/>
              <a:gdLst/>
              <a:ahLst/>
              <a:rect l="l" t="t" r="r" b="b"/>
              <a:pathLst>
                <a:path w="190" h="380">
                  <a:moveTo>
                    <a:pt x="70" y="218"/>
                  </a:moveTo>
                  <a:lnTo>
                    <a:pt x="60" y="197"/>
                  </a:lnTo>
                  <a:lnTo>
                    <a:pt x="51" y="178"/>
                  </a:lnTo>
                  <a:lnTo>
                    <a:pt x="41" y="157"/>
                  </a:lnTo>
                  <a:lnTo>
                    <a:pt x="31" y="137"/>
                  </a:lnTo>
                  <a:lnTo>
                    <a:pt x="22" y="117"/>
                  </a:lnTo>
                  <a:lnTo>
                    <a:pt x="14" y="99"/>
                  </a:lnTo>
                  <a:lnTo>
                    <a:pt x="7" y="82"/>
                  </a:lnTo>
                  <a:lnTo>
                    <a:pt x="3" y="66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4" y="23"/>
                  </a:lnTo>
                  <a:lnTo>
                    <a:pt x="6" y="18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6" y="2"/>
                  </a:lnTo>
                  <a:lnTo>
                    <a:pt x="31" y="0"/>
                  </a:lnTo>
                  <a:lnTo>
                    <a:pt x="36" y="2"/>
                  </a:lnTo>
                  <a:lnTo>
                    <a:pt x="41" y="3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9" y="13"/>
                  </a:lnTo>
                  <a:lnTo>
                    <a:pt x="54" y="21"/>
                  </a:lnTo>
                  <a:lnTo>
                    <a:pt x="60" y="34"/>
                  </a:lnTo>
                  <a:lnTo>
                    <a:pt x="69" y="50"/>
                  </a:lnTo>
                  <a:lnTo>
                    <a:pt x="79" y="70"/>
                  </a:lnTo>
                  <a:lnTo>
                    <a:pt x="90" y="94"/>
                  </a:lnTo>
                  <a:lnTo>
                    <a:pt x="102" y="123"/>
                  </a:lnTo>
                  <a:lnTo>
                    <a:pt x="116" y="153"/>
                  </a:lnTo>
                  <a:lnTo>
                    <a:pt x="128" y="180"/>
                  </a:lnTo>
                  <a:lnTo>
                    <a:pt x="140" y="206"/>
                  </a:lnTo>
                  <a:lnTo>
                    <a:pt x="153" y="229"/>
                  </a:lnTo>
                  <a:lnTo>
                    <a:pt x="162" y="250"/>
                  </a:lnTo>
                  <a:lnTo>
                    <a:pt x="170" y="270"/>
                  </a:lnTo>
                  <a:lnTo>
                    <a:pt x="177" y="286"/>
                  </a:lnTo>
                  <a:lnTo>
                    <a:pt x="181" y="299"/>
                  </a:lnTo>
                  <a:lnTo>
                    <a:pt x="185" y="313"/>
                  </a:lnTo>
                  <a:lnTo>
                    <a:pt x="188" y="326"/>
                  </a:lnTo>
                  <a:lnTo>
                    <a:pt x="190" y="340"/>
                  </a:lnTo>
                  <a:lnTo>
                    <a:pt x="190" y="352"/>
                  </a:lnTo>
                  <a:lnTo>
                    <a:pt x="190" y="358"/>
                  </a:lnTo>
                  <a:lnTo>
                    <a:pt x="188" y="363"/>
                  </a:lnTo>
                  <a:lnTo>
                    <a:pt x="187" y="368"/>
                  </a:lnTo>
                  <a:lnTo>
                    <a:pt x="185" y="372"/>
                  </a:lnTo>
                  <a:lnTo>
                    <a:pt x="182" y="376"/>
                  </a:lnTo>
                  <a:lnTo>
                    <a:pt x="180" y="378"/>
                  </a:lnTo>
                  <a:lnTo>
                    <a:pt x="175" y="380"/>
                  </a:lnTo>
                  <a:lnTo>
                    <a:pt x="170" y="380"/>
                  </a:lnTo>
                  <a:lnTo>
                    <a:pt x="165" y="380"/>
                  </a:lnTo>
                  <a:lnTo>
                    <a:pt x="159" y="377"/>
                  </a:lnTo>
                  <a:lnTo>
                    <a:pt x="154" y="372"/>
                  </a:lnTo>
                  <a:lnTo>
                    <a:pt x="146" y="364"/>
                  </a:lnTo>
                  <a:lnTo>
                    <a:pt x="134" y="345"/>
                  </a:lnTo>
                  <a:lnTo>
                    <a:pt x="121" y="320"/>
                  </a:lnTo>
                  <a:lnTo>
                    <a:pt x="106" y="294"/>
                  </a:lnTo>
                  <a:lnTo>
                    <a:pt x="94" y="266"/>
                  </a:lnTo>
                  <a:lnTo>
                    <a:pt x="81" y="240"/>
                  </a:lnTo>
                  <a:lnTo>
                    <a:pt x="70" y="218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7688160" y="2316240"/>
              <a:ext cx="50760" cy="106560"/>
            </a:xfrm>
            <a:custGeom>
              <a:avLst/>
              <a:gdLst/>
              <a:ahLst/>
              <a:rect l="l" t="t" r="r" b="b"/>
              <a:pathLst>
                <a:path w="161" h="335">
                  <a:moveTo>
                    <a:pt x="61" y="177"/>
                  </a:moveTo>
                  <a:lnTo>
                    <a:pt x="53" y="163"/>
                  </a:lnTo>
                  <a:lnTo>
                    <a:pt x="44" y="146"/>
                  </a:lnTo>
                  <a:lnTo>
                    <a:pt x="35" y="127"/>
                  </a:lnTo>
                  <a:lnTo>
                    <a:pt x="27" y="109"/>
                  </a:lnTo>
                  <a:lnTo>
                    <a:pt x="18" y="91"/>
                  </a:lnTo>
                  <a:lnTo>
                    <a:pt x="11" y="74"/>
                  </a:lnTo>
                  <a:lnTo>
                    <a:pt x="5" y="59"/>
                  </a:lnTo>
                  <a:lnTo>
                    <a:pt x="1" y="47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7" y="9"/>
                  </a:lnTo>
                  <a:lnTo>
                    <a:pt x="12" y="4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5" y="13"/>
                  </a:lnTo>
                  <a:lnTo>
                    <a:pt x="40" y="23"/>
                  </a:lnTo>
                  <a:lnTo>
                    <a:pt x="48" y="35"/>
                  </a:lnTo>
                  <a:lnTo>
                    <a:pt x="55" y="51"/>
                  </a:lnTo>
                  <a:lnTo>
                    <a:pt x="64" y="69"/>
                  </a:lnTo>
                  <a:lnTo>
                    <a:pt x="74" y="89"/>
                  </a:lnTo>
                  <a:lnTo>
                    <a:pt x="82" y="110"/>
                  </a:lnTo>
                  <a:lnTo>
                    <a:pt x="93" y="133"/>
                  </a:lnTo>
                  <a:lnTo>
                    <a:pt x="104" y="158"/>
                  </a:lnTo>
                  <a:lnTo>
                    <a:pt x="117" y="182"/>
                  </a:lnTo>
                  <a:lnTo>
                    <a:pt x="128" y="207"/>
                  </a:lnTo>
                  <a:lnTo>
                    <a:pt x="138" y="229"/>
                  </a:lnTo>
                  <a:lnTo>
                    <a:pt x="146" y="250"/>
                  </a:lnTo>
                  <a:lnTo>
                    <a:pt x="152" y="266"/>
                  </a:lnTo>
                  <a:lnTo>
                    <a:pt x="156" y="278"/>
                  </a:lnTo>
                  <a:lnTo>
                    <a:pt x="157" y="287"/>
                  </a:lnTo>
                  <a:lnTo>
                    <a:pt x="160" y="297"/>
                  </a:lnTo>
                  <a:lnTo>
                    <a:pt x="161" y="305"/>
                  </a:lnTo>
                  <a:lnTo>
                    <a:pt x="161" y="314"/>
                  </a:lnTo>
                  <a:lnTo>
                    <a:pt x="160" y="323"/>
                  </a:lnTo>
                  <a:lnTo>
                    <a:pt x="157" y="329"/>
                  </a:lnTo>
                  <a:lnTo>
                    <a:pt x="156" y="331"/>
                  </a:lnTo>
                  <a:lnTo>
                    <a:pt x="154" y="332"/>
                  </a:lnTo>
                  <a:lnTo>
                    <a:pt x="151" y="334"/>
                  </a:lnTo>
                  <a:lnTo>
                    <a:pt x="147" y="335"/>
                  </a:lnTo>
                  <a:lnTo>
                    <a:pt x="144" y="334"/>
                  </a:lnTo>
                  <a:lnTo>
                    <a:pt x="139" y="330"/>
                  </a:lnTo>
                  <a:lnTo>
                    <a:pt x="134" y="324"/>
                  </a:lnTo>
                  <a:lnTo>
                    <a:pt x="129" y="315"/>
                  </a:lnTo>
                  <a:lnTo>
                    <a:pt x="117" y="296"/>
                  </a:lnTo>
                  <a:lnTo>
                    <a:pt x="104" y="271"/>
                  </a:lnTo>
                  <a:lnTo>
                    <a:pt x="92" y="244"/>
                  </a:lnTo>
                  <a:lnTo>
                    <a:pt x="80" y="218"/>
                  </a:lnTo>
                  <a:lnTo>
                    <a:pt x="69" y="195"/>
                  </a:lnTo>
                  <a:lnTo>
                    <a:pt x="61" y="177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694640" y="2320920"/>
              <a:ext cx="41400" cy="90720"/>
            </a:xfrm>
            <a:custGeom>
              <a:avLst/>
              <a:gdLst/>
              <a:ahLst/>
              <a:rect l="l" t="t" r="r" b="b"/>
              <a:pathLst>
                <a:path w="133" h="285">
                  <a:moveTo>
                    <a:pt x="20" y="2"/>
                  </a:moveTo>
                  <a:lnTo>
                    <a:pt x="21" y="5"/>
                  </a:lnTo>
                  <a:lnTo>
                    <a:pt x="25" y="12"/>
                  </a:lnTo>
                  <a:lnTo>
                    <a:pt x="30" y="23"/>
                  </a:lnTo>
                  <a:lnTo>
                    <a:pt x="37" y="38"/>
                  </a:lnTo>
                  <a:lnTo>
                    <a:pt x="45" y="52"/>
                  </a:lnTo>
                  <a:lnTo>
                    <a:pt x="52" y="68"/>
                  </a:lnTo>
                  <a:lnTo>
                    <a:pt x="59" y="83"/>
                  </a:lnTo>
                  <a:lnTo>
                    <a:pt x="66" y="97"/>
                  </a:lnTo>
                  <a:lnTo>
                    <a:pt x="73" y="113"/>
                  </a:lnTo>
                  <a:lnTo>
                    <a:pt x="82" y="132"/>
                  </a:lnTo>
                  <a:lnTo>
                    <a:pt x="91" y="157"/>
                  </a:lnTo>
                  <a:lnTo>
                    <a:pt x="103" y="182"/>
                  </a:lnTo>
                  <a:lnTo>
                    <a:pt x="114" y="205"/>
                  </a:lnTo>
                  <a:lnTo>
                    <a:pt x="122" y="226"/>
                  </a:lnTo>
                  <a:lnTo>
                    <a:pt x="128" y="243"/>
                  </a:lnTo>
                  <a:lnTo>
                    <a:pt x="131" y="252"/>
                  </a:lnTo>
                  <a:lnTo>
                    <a:pt x="132" y="257"/>
                  </a:lnTo>
                  <a:lnTo>
                    <a:pt x="133" y="263"/>
                  </a:lnTo>
                  <a:lnTo>
                    <a:pt x="133" y="268"/>
                  </a:lnTo>
                  <a:lnTo>
                    <a:pt x="133" y="273"/>
                  </a:lnTo>
                  <a:lnTo>
                    <a:pt x="133" y="278"/>
                  </a:lnTo>
                  <a:lnTo>
                    <a:pt x="132" y="281"/>
                  </a:lnTo>
                  <a:lnTo>
                    <a:pt x="130" y="284"/>
                  </a:lnTo>
                  <a:lnTo>
                    <a:pt x="126" y="285"/>
                  </a:lnTo>
                  <a:lnTo>
                    <a:pt x="123" y="284"/>
                  </a:lnTo>
                  <a:lnTo>
                    <a:pt x="120" y="280"/>
                  </a:lnTo>
                  <a:lnTo>
                    <a:pt x="116" y="274"/>
                  </a:lnTo>
                  <a:lnTo>
                    <a:pt x="111" y="265"/>
                  </a:lnTo>
                  <a:lnTo>
                    <a:pt x="101" y="244"/>
                  </a:lnTo>
                  <a:lnTo>
                    <a:pt x="89" y="220"/>
                  </a:lnTo>
                  <a:lnTo>
                    <a:pt x="78" y="194"/>
                  </a:lnTo>
                  <a:lnTo>
                    <a:pt x="67" y="169"/>
                  </a:lnTo>
                  <a:lnTo>
                    <a:pt x="58" y="148"/>
                  </a:lnTo>
                  <a:lnTo>
                    <a:pt x="52" y="135"/>
                  </a:lnTo>
                  <a:lnTo>
                    <a:pt x="47" y="125"/>
                  </a:lnTo>
                  <a:lnTo>
                    <a:pt x="41" y="112"/>
                  </a:lnTo>
                  <a:lnTo>
                    <a:pt x="32" y="96"/>
                  </a:lnTo>
                  <a:lnTo>
                    <a:pt x="25" y="78"/>
                  </a:lnTo>
                  <a:lnTo>
                    <a:pt x="16" y="62"/>
                  </a:lnTo>
                  <a:lnTo>
                    <a:pt x="10" y="48"/>
                  </a:lnTo>
                  <a:lnTo>
                    <a:pt x="4" y="35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3" y="8"/>
                  </a:lnTo>
                  <a:lnTo>
                    <a:pt x="5" y="5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7574040" y="2397240"/>
              <a:ext cx="196920" cy="185760"/>
            </a:xfrm>
            <a:custGeom>
              <a:avLst/>
              <a:gdLst/>
              <a:ahLst/>
              <a:rect l="l" t="t" r="r" b="b"/>
              <a:pathLst>
                <a:path w="624" h="587">
                  <a:moveTo>
                    <a:pt x="428" y="534"/>
                  </a:moveTo>
                  <a:lnTo>
                    <a:pt x="434" y="535"/>
                  </a:lnTo>
                  <a:lnTo>
                    <a:pt x="442" y="537"/>
                  </a:lnTo>
                  <a:lnTo>
                    <a:pt x="448" y="535"/>
                  </a:lnTo>
                  <a:lnTo>
                    <a:pt x="454" y="533"/>
                  </a:lnTo>
                  <a:lnTo>
                    <a:pt x="466" y="526"/>
                  </a:lnTo>
                  <a:lnTo>
                    <a:pt x="477" y="517"/>
                  </a:lnTo>
                  <a:lnTo>
                    <a:pt x="488" y="506"/>
                  </a:lnTo>
                  <a:lnTo>
                    <a:pt x="497" y="496"/>
                  </a:lnTo>
                  <a:lnTo>
                    <a:pt x="506" y="488"/>
                  </a:lnTo>
                  <a:lnTo>
                    <a:pt x="512" y="483"/>
                  </a:lnTo>
                  <a:lnTo>
                    <a:pt x="517" y="483"/>
                  </a:lnTo>
                  <a:lnTo>
                    <a:pt x="527" y="481"/>
                  </a:lnTo>
                  <a:lnTo>
                    <a:pt x="543" y="479"/>
                  </a:lnTo>
                  <a:lnTo>
                    <a:pt x="560" y="474"/>
                  </a:lnTo>
                  <a:lnTo>
                    <a:pt x="570" y="472"/>
                  </a:lnTo>
                  <a:lnTo>
                    <a:pt x="578" y="467"/>
                  </a:lnTo>
                  <a:lnTo>
                    <a:pt x="588" y="462"/>
                  </a:lnTo>
                  <a:lnTo>
                    <a:pt x="596" y="456"/>
                  </a:lnTo>
                  <a:lnTo>
                    <a:pt x="604" y="448"/>
                  </a:lnTo>
                  <a:lnTo>
                    <a:pt x="610" y="440"/>
                  </a:lnTo>
                  <a:lnTo>
                    <a:pt x="615" y="428"/>
                  </a:lnTo>
                  <a:lnTo>
                    <a:pt x="619" y="417"/>
                  </a:lnTo>
                  <a:lnTo>
                    <a:pt x="623" y="395"/>
                  </a:lnTo>
                  <a:lnTo>
                    <a:pt x="624" y="377"/>
                  </a:lnTo>
                  <a:lnTo>
                    <a:pt x="624" y="361"/>
                  </a:lnTo>
                  <a:lnTo>
                    <a:pt x="621" y="349"/>
                  </a:lnTo>
                  <a:lnTo>
                    <a:pt x="618" y="339"/>
                  </a:lnTo>
                  <a:lnTo>
                    <a:pt x="613" y="329"/>
                  </a:lnTo>
                  <a:lnTo>
                    <a:pt x="607" y="321"/>
                  </a:lnTo>
                  <a:lnTo>
                    <a:pt x="599" y="314"/>
                  </a:lnTo>
                  <a:lnTo>
                    <a:pt x="596" y="310"/>
                  </a:lnTo>
                  <a:lnTo>
                    <a:pt x="593" y="307"/>
                  </a:lnTo>
                  <a:lnTo>
                    <a:pt x="592" y="302"/>
                  </a:lnTo>
                  <a:lnTo>
                    <a:pt x="592" y="298"/>
                  </a:lnTo>
                  <a:lnTo>
                    <a:pt x="593" y="291"/>
                  </a:lnTo>
                  <a:lnTo>
                    <a:pt x="597" y="282"/>
                  </a:lnTo>
                  <a:lnTo>
                    <a:pt x="600" y="272"/>
                  </a:lnTo>
                  <a:lnTo>
                    <a:pt x="604" y="264"/>
                  </a:lnTo>
                  <a:lnTo>
                    <a:pt x="607" y="253"/>
                  </a:lnTo>
                  <a:lnTo>
                    <a:pt x="608" y="242"/>
                  </a:lnTo>
                  <a:lnTo>
                    <a:pt x="607" y="228"/>
                  </a:lnTo>
                  <a:lnTo>
                    <a:pt x="604" y="213"/>
                  </a:lnTo>
                  <a:lnTo>
                    <a:pt x="602" y="206"/>
                  </a:lnTo>
                  <a:lnTo>
                    <a:pt x="599" y="198"/>
                  </a:lnTo>
                  <a:lnTo>
                    <a:pt x="596" y="190"/>
                  </a:lnTo>
                  <a:lnTo>
                    <a:pt x="589" y="181"/>
                  </a:lnTo>
                  <a:lnTo>
                    <a:pt x="583" y="174"/>
                  </a:lnTo>
                  <a:lnTo>
                    <a:pt x="575" y="164"/>
                  </a:lnTo>
                  <a:lnTo>
                    <a:pt x="564" y="155"/>
                  </a:lnTo>
                  <a:lnTo>
                    <a:pt x="551" y="146"/>
                  </a:lnTo>
                  <a:lnTo>
                    <a:pt x="535" y="136"/>
                  </a:lnTo>
                  <a:lnTo>
                    <a:pt x="518" y="125"/>
                  </a:lnTo>
                  <a:lnTo>
                    <a:pt x="498" y="114"/>
                  </a:lnTo>
                  <a:lnTo>
                    <a:pt x="475" y="103"/>
                  </a:lnTo>
                  <a:lnTo>
                    <a:pt x="433" y="84"/>
                  </a:lnTo>
                  <a:lnTo>
                    <a:pt x="393" y="68"/>
                  </a:lnTo>
                  <a:lnTo>
                    <a:pt x="353" y="52"/>
                  </a:lnTo>
                  <a:lnTo>
                    <a:pt x="316" y="39"/>
                  </a:lnTo>
                  <a:lnTo>
                    <a:pt x="283" y="26"/>
                  </a:lnTo>
                  <a:lnTo>
                    <a:pt x="253" y="16"/>
                  </a:lnTo>
                  <a:lnTo>
                    <a:pt x="228" y="8"/>
                  </a:lnTo>
                  <a:lnTo>
                    <a:pt x="208" y="2"/>
                  </a:lnTo>
                  <a:lnTo>
                    <a:pt x="199" y="0"/>
                  </a:lnTo>
                  <a:lnTo>
                    <a:pt x="190" y="0"/>
                  </a:lnTo>
                  <a:lnTo>
                    <a:pt x="178" y="3"/>
                  </a:lnTo>
                  <a:lnTo>
                    <a:pt x="167" y="8"/>
                  </a:lnTo>
                  <a:lnTo>
                    <a:pt x="156" y="13"/>
                  </a:lnTo>
                  <a:lnTo>
                    <a:pt x="144" y="20"/>
                  </a:lnTo>
                  <a:lnTo>
                    <a:pt x="133" y="30"/>
                  </a:lnTo>
                  <a:lnTo>
                    <a:pt x="122" y="40"/>
                  </a:lnTo>
                  <a:lnTo>
                    <a:pt x="111" y="51"/>
                  </a:lnTo>
                  <a:lnTo>
                    <a:pt x="101" y="63"/>
                  </a:lnTo>
                  <a:lnTo>
                    <a:pt x="91" y="77"/>
                  </a:lnTo>
                  <a:lnTo>
                    <a:pt x="82" y="91"/>
                  </a:lnTo>
                  <a:lnTo>
                    <a:pt x="75" y="107"/>
                  </a:lnTo>
                  <a:lnTo>
                    <a:pt x="69" y="123"/>
                  </a:lnTo>
                  <a:lnTo>
                    <a:pt x="64" y="139"/>
                  </a:lnTo>
                  <a:lnTo>
                    <a:pt x="62" y="157"/>
                  </a:lnTo>
                  <a:lnTo>
                    <a:pt x="54" y="195"/>
                  </a:lnTo>
                  <a:lnTo>
                    <a:pt x="44" y="237"/>
                  </a:lnTo>
                  <a:lnTo>
                    <a:pt x="33" y="280"/>
                  </a:lnTo>
                  <a:lnTo>
                    <a:pt x="21" y="323"/>
                  </a:lnTo>
                  <a:lnTo>
                    <a:pt x="11" y="363"/>
                  </a:lnTo>
                  <a:lnTo>
                    <a:pt x="4" y="399"/>
                  </a:lnTo>
                  <a:lnTo>
                    <a:pt x="1" y="414"/>
                  </a:lnTo>
                  <a:lnTo>
                    <a:pt x="0" y="427"/>
                  </a:lnTo>
                  <a:lnTo>
                    <a:pt x="0" y="437"/>
                  </a:lnTo>
                  <a:lnTo>
                    <a:pt x="1" y="444"/>
                  </a:lnTo>
                  <a:lnTo>
                    <a:pt x="5" y="452"/>
                  </a:lnTo>
                  <a:lnTo>
                    <a:pt x="11" y="460"/>
                  </a:lnTo>
                  <a:lnTo>
                    <a:pt x="17" y="470"/>
                  </a:lnTo>
                  <a:lnTo>
                    <a:pt x="27" y="481"/>
                  </a:lnTo>
                  <a:lnTo>
                    <a:pt x="37" y="494"/>
                  </a:lnTo>
                  <a:lnTo>
                    <a:pt x="48" y="506"/>
                  </a:lnTo>
                  <a:lnTo>
                    <a:pt x="60" y="518"/>
                  </a:lnTo>
                  <a:lnTo>
                    <a:pt x="74" y="531"/>
                  </a:lnTo>
                  <a:lnTo>
                    <a:pt x="87" y="542"/>
                  </a:lnTo>
                  <a:lnTo>
                    <a:pt x="101" y="551"/>
                  </a:lnTo>
                  <a:lnTo>
                    <a:pt x="116" y="561"/>
                  </a:lnTo>
                  <a:lnTo>
                    <a:pt x="129" y="569"/>
                  </a:lnTo>
                  <a:lnTo>
                    <a:pt x="144" y="574"/>
                  </a:lnTo>
                  <a:lnTo>
                    <a:pt x="158" y="577"/>
                  </a:lnTo>
                  <a:lnTo>
                    <a:pt x="165" y="577"/>
                  </a:lnTo>
                  <a:lnTo>
                    <a:pt x="171" y="577"/>
                  </a:lnTo>
                  <a:lnTo>
                    <a:pt x="177" y="576"/>
                  </a:lnTo>
                  <a:lnTo>
                    <a:pt x="183" y="575"/>
                  </a:lnTo>
                  <a:lnTo>
                    <a:pt x="230" y="570"/>
                  </a:lnTo>
                  <a:lnTo>
                    <a:pt x="231" y="570"/>
                  </a:lnTo>
                  <a:lnTo>
                    <a:pt x="236" y="571"/>
                  </a:lnTo>
                  <a:lnTo>
                    <a:pt x="245" y="572"/>
                  </a:lnTo>
                  <a:lnTo>
                    <a:pt x="256" y="575"/>
                  </a:lnTo>
                  <a:lnTo>
                    <a:pt x="269" y="577"/>
                  </a:lnTo>
                  <a:lnTo>
                    <a:pt x="284" y="580"/>
                  </a:lnTo>
                  <a:lnTo>
                    <a:pt x="303" y="583"/>
                  </a:lnTo>
                  <a:lnTo>
                    <a:pt x="322" y="586"/>
                  </a:lnTo>
                  <a:lnTo>
                    <a:pt x="331" y="587"/>
                  </a:lnTo>
                  <a:lnTo>
                    <a:pt x="340" y="586"/>
                  </a:lnTo>
                  <a:lnTo>
                    <a:pt x="347" y="586"/>
                  </a:lnTo>
                  <a:lnTo>
                    <a:pt x="354" y="585"/>
                  </a:lnTo>
                  <a:lnTo>
                    <a:pt x="365" y="581"/>
                  </a:lnTo>
                  <a:lnTo>
                    <a:pt x="374" y="576"/>
                  </a:lnTo>
                  <a:lnTo>
                    <a:pt x="380" y="571"/>
                  </a:lnTo>
                  <a:lnTo>
                    <a:pt x="384" y="566"/>
                  </a:lnTo>
                  <a:lnTo>
                    <a:pt x="386" y="563"/>
                  </a:lnTo>
                  <a:lnTo>
                    <a:pt x="388" y="561"/>
                  </a:lnTo>
                  <a:lnTo>
                    <a:pt x="386" y="563"/>
                  </a:lnTo>
                  <a:lnTo>
                    <a:pt x="385" y="566"/>
                  </a:lnTo>
                  <a:lnTo>
                    <a:pt x="383" y="570"/>
                  </a:lnTo>
                  <a:lnTo>
                    <a:pt x="381" y="572"/>
                  </a:lnTo>
                  <a:lnTo>
                    <a:pt x="381" y="572"/>
                  </a:lnTo>
                  <a:lnTo>
                    <a:pt x="383" y="569"/>
                  </a:lnTo>
                  <a:lnTo>
                    <a:pt x="388" y="559"/>
                  </a:lnTo>
                  <a:lnTo>
                    <a:pt x="395" y="543"/>
                  </a:lnTo>
                  <a:lnTo>
                    <a:pt x="397" y="537"/>
                  </a:lnTo>
                  <a:lnTo>
                    <a:pt x="397" y="528"/>
                  </a:lnTo>
                  <a:lnTo>
                    <a:pt x="395" y="520"/>
                  </a:lnTo>
                  <a:lnTo>
                    <a:pt x="393" y="511"/>
                  </a:lnTo>
                  <a:lnTo>
                    <a:pt x="383" y="490"/>
                  </a:lnTo>
                  <a:lnTo>
                    <a:pt x="370" y="469"/>
                  </a:lnTo>
                  <a:lnTo>
                    <a:pt x="358" y="449"/>
                  </a:lnTo>
                  <a:lnTo>
                    <a:pt x="347" y="433"/>
                  </a:lnTo>
                  <a:lnTo>
                    <a:pt x="338" y="421"/>
                  </a:lnTo>
                  <a:lnTo>
                    <a:pt x="336" y="417"/>
                  </a:lnTo>
                  <a:lnTo>
                    <a:pt x="338" y="422"/>
                  </a:lnTo>
                  <a:lnTo>
                    <a:pt x="345" y="433"/>
                  </a:lnTo>
                  <a:lnTo>
                    <a:pt x="353" y="449"/>
                  </a:lnTo>
                  <a:lnTo>
                    <a:pt x="365" y="469"/>
                  </a:lnTo>
                  <a:lnTo>
                    <a:pt x="380" y="489"/>
                  </a:lnTo>
                  <a:lnTo>
                    <a:pt x="395" y="508"/>
                  </a:lnTo>
                  <a:lnTo>
                    <a:pt x="404" y="517"/>
                  </a:lnTo>
                  <a:lnTo>
                    <a:pt x="412" y="524"/>
                  </a:lnTo>
                  <a:lnTo>
                    <a:pt x="420" y="529"/>
                  </a:lnTo>
                  <a:lnTo>
                    <a:pt x="428" y="534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7581960" y="2436840"/>
              <a:ext cx="185760" cy="141480"/>
            </a:xfrm>
            <a:custGeom>
              <a:avLst/>
              <a:gdLst/>
              <a:ahLst/>
              <a:rect l="l" t="t" r="r" b="b"/>
              <a:pathLst>
                <a:path w="584" h="443">
                  <a:moveTo>
                    <a:pt x="313" y="16"/>
                  </a:moveTo>
                  <a:lnTo>
                    <a:pt x="369" y="30"/>
                  </a:lnTo>
                  <a:lnTo>
                    <a:pt x="420" y="42"/>
                  </a:lnTo>
                  <a:lnTo>
                    <a:pt x="463" y="54"/>
                  </a:lnTo>
                  <a:lnTo>
                    <a:pt x="500" y="64"/>
                  </a:lnTo>
                  <a:lnTo>
                    <a:pt x="529" y="74"/>
                  </a:lnTo>
                  <a:lnTo>
                    <a:pt x="550" y="81"/>
                  </a:lnTo>
                  <a:lnTo>
                    <a:pt x="564" y="85"/>
                  </a:lnTo>
                  <a:lnTo>
                    <a:pt x="569" y="86"/>
                  </a:lnTo>
                  <a:lnTo>
                    <a:pt x="575" y="95"/>
                  </a:lnTo>
                  <a:lnTo>
                    <a:pt x="579" y="102"/>
                  </a:lnTo>
                  <a:lnTo>
                    <a:pt x="581" y="111"/>
                  </a:lnTo>
                  <a:lnTo>
                    <a:pt x="582" y="119"/>
                  </a:lnTo>
                  <a:lnTo>
                    <a:pt x="584" y="128"/>
                  </a:lnTo>
                  <a:lnTo>
                    <a:pt x="582" y="137"/>
                  </a:lnTo>
                  <a:lnTo>
                    <a:pt x="581" y="144"/>
                  </a:lnTo>
                  <a:lnTo>
                    <a:pt x="579" y="153"/>
                  </a:lnTo>
                  <a:lnTo>
                    <a:pt x="574" y="166"/>
                  </a:lnTo>
                  <a:lnTo>
                    <a:pt x="569" y="177"/>
                  </a:lnTo>
                  <a:lnTo>
                    <a:pt x="565" y="185"/>
                  </a:lnTo>
                  <a:lnTo>
                    <a:pt x="563" y="187"/>
                  </a:lnTo>
                  <a:lnTo>
                    <a:pt x="554" y="183"/>
                  </a:lnTo>
                  <a:lnTo>
                    <a:pt x="528" y="171"/>
                  </a:lnTo>
                  <a:lnTo>
                    <a:pt x="490" y="154"/>
                  </a:lnTo>
                  <a:lnTo>
                    <a:pt x="444" y="134"/>
                  </a:lnTo>
                  <a:lnTo>
                    <a:pt x="395" y="112"/>
                  </a:lnTo>
                  <a:lnTo>
                    <a:pt x="346" y="92"/>
                  </a:lnTo>
                  <a:lnTo>
                    <a:pt x="302" y="75"/>
                  </a:lnTo>
                  <a:lnTo>
                    <a:pt x="267" y="63"/>
                  </a:lnTo>
                  <a:lnTo>
                    <a:pt x="253" y="58"/>
                  </a:lnTo>
                  <a:lnTo>
                    <a:pt x="238" y="54"/>
                  </a:lnTo>
                  <a:lnTo>
                    <a:pt x="224" y="51"/>
                  </a:lnTo>
                  <a:lnTo>
                    <a:pt x="209" y="49"/>
                  </a:lnTo>
                  <a:lnTo>
                    <a:pt x="195" y="48"/>
                  </a:lnTo>
                  <a:lnTo>
                    <a:pt x="181" y="47"/>
                  </a:lnTo>
                  <a:lnTo>
                    <a:pt x="169" y="48"/>
                  </a:lnTo>
                  <a:lnTo>
                    <a:pt x="157" y="49"/>
                  </a:lnTo>
                  <a:lnTo>
                    <a:pt x="144" y="53"/>
                  </a:lnTo>
                  <a:lnTo>
                    <a:pt x="134" y="57"/>
                  </a:lnTo>
                  <a:lnTo>
                    <a:pt x="125" y="60"/>
                  </a:lnTo>
                  <a:lnTo>
                    <a:pt x="116" y="67"/>
                  </a:lnTo>
                  <a:lnTo>
                    <a:pt x="110" y="74"/>
                  </a:lnTo>
                  <a:lnTo>
                    <a:pt x="104" y="81"/>
                  </a:lnTo>
                  <a:lnTo>
                    <a:pt x="100" y="90"/>
                  </a:lnTo>
                  <a:lnTo>
                    <a:pt x="99" y="100"/>
                  </a:lnTo>
                  <a:lnTo>
                    <a:pt x="95" y="126"/>
                  </a:lnTo>
                  <a:lnTo>
                    <a:pt x="91" y="154"/>
                  </a:lnTo>
                  <a:lnTo>
                    <a:pt x="89" y="186"/>
                  </a:lnTo>
                  <a:lnTo>
                    <a:pt x="85" y="220"/>
                  </a:lnTo>
                  <a:lnTo>
                    <a:pt x="84" y="255"/>
                  </a:lnTo>
                  <a:lnTo>
                    <a:pt x="83" y="289"/>
                  </a:lnTo>
                  <a:lnTo>
                    <a:pt x="83" y="321"/>
                  </a:lnTo>
                  <a:lnTo>
                    <a:pt x="85" y="351"/>
                  </a:lnTo>
                  <a:lnTo>
                    <a:pt x="88" y="363"/>
                  </a:lnTo>
                  <a:lnTo>
                    <a:pt x="91" y="375"/>
                  </a:lnTo>
                  <a:lnTo>
                    <a:pt x="98" y="386"/>
                  </a:lnTo>
                  <a:lnTo>
                    <a:pt x="105" y="396"/>
                  </a:lnTo>
                  <a:lnTo>
                    <a:pt x="114" y="405"/>
                  </a:lnTo>
                  <a:lnTo>
                    <a:pt x="122" y="412"/>
                  </a:lnTo>
                  <a:lnTo>
                    <a:pt x="132" y="418"/>
                  </a:lnTo>
                  <a:lnTo>
                    <a:pt x="143" y="424"/>
                  </a:lnTo>
                  <a:lnTo>
                    <a:pt x="163" y="433"/>
                  </a:lnTo>
                  <a:lnTo>
                    <a:pt x="180" y="438"/>
                  </a:lnTo>
                  <a:lnTo>
                    <a:pt x="192" y="442"/>
                  </a:lnTo>
                  <a:lnTo>
                    <a:pt x="196" y="443"/>
                  </a:lnTo>
                  <a:lnTo>
                    <a:pt x="112" y="443"/>
                  </a:lnTo>
                  <a:lnTo>
                    <a:pt x="95" y="436"/>
                  </a:lnTo>
                  <a:lnTo>
                    <a:pt x="80" y="428"/>
                  </a:lnTo>
                  <a:lnTo>
                    <a:pt x="67" y="420"/>
                  </a:lnTo>
                  <a:lnTo>
                    <a:pt x="54" y="410"/>
                  </a:lnTo>
                  <a:lnTo>
                    <a:pt x="43" y="400"/>
                  </a:lnTo>
                  <a:lnTo>
                    <a:pt x="34" y="388"/>
                  </a:lnTo>
                  <a:lnTo>
                    <a:pt x="25" y="377"/>
                  </a:lnTo>
                  <a:lnTo>
                    <a:pt x="18" y="363"/>
                  </a:lnTo>
                  <a:lnTo>
                    <a:pt x="13" y="351"/>
                  </a:lnTo>
                  <a:lnTo>
                    <a:pt x="8" y="337"/>
                  </a:lnTo>
                  <a:lnTo>
                    <a:pt x="4" y="322"/>
                  </a:lnTo>
                  <a:lnTo>
                    <a:pt x="2" y="309"/>
                  </a:lnTo>
                  <a:lnTo>
                    <a:pt x="0" y="294"/>
                  </a:lnTo>
                  <a:lnTo>
                    <a:pt x="0" y="279"/>
                  </a:lnTo>
                  <a:lnTo>
                    <a:pt x="2" y="265"/>
                  </a:lnTo>
                  <a:lnTo>
                    <a:pt x="4" y="250"/>
                  </a:lnTo>
                  <a:lnTo>
                    <a:pt x="9" y="220"/>
                  </a:lnTo>
                  <a:lnTo>
                    <a:pt x="15" y="193"/>
                  </a:lnTo>
                  <a:lnTo>
                    <a:pt x="21" y="166"/>
                  </a:lnTo>
                  <a:lnTo>
                    <a:pt x="29" y="142"/>
                  </a:lnTo>
                  <a:lnTo>
                    <a:pt x="37" y="117"/>
                  </a:lnTo>
                  <a:lnTo>
                    <a:pt x="47" y="95"/>
                  </a:lnTo>
                  <a:lnTo>
                    <a:pt x="57" y="75"/>
                  </a:lnTo>
                  <a:lnTo>
                    <a:pt x="69" y="57"/>
                  </a:lnTo>
                  <a:lnTo>
                    <a:pt x="75" y="48"/>
                  </a:lnTo>
                  <a:lnTo>
                    <a:pt x="83" y="41"/>
                  </a:lnTo>
                  <a:lnTo>
                    <a:pt x="90" y="33"/>
                  </a:lnTo>
                  <a:lnTo>
                    <a:pt x="99" y="26"/>
                  </a:lnTo>
                  <a:lnTo>
                    <a:pt x="109" y="20"/>
                  </a:lnTo>
                  <a:lnTo>
                    <a:pt x="120" y="15"/>
                  </a:lnTo>
                  <a:lnTo>
                    <a:pt x="132" y="10"/>
                  </a:lnTo>
                  <a:lnTo>
                    <a:pt x="146" y="6"/>
                  </a:lnTo>
                  <a:lnTo>
                    <a:pt x="160" y="3"/>
                  </a:lnTo>
                  <a:lnTo>
                    <a:pt x="176" y="1"/>
                  </a:lnTo>
                  <a:lnTo>
                    <a:pt x="195" y="0"/>
                  </a:lnTo>
                  <a:lnTo>
                    <a:pt x="214" y="1"/>
                  </a:lnTo>
                  <a:lnTo>
                    <a:pt x="235" y="3"/>
                  </a:lnTo>
                  <a:lnTo>
                    <a:pt x="260" y="6"/>
                  </a:lnTo>
                  <a:lnTo>
                    <a:pt x="286" y="10"/>
                  </a:lnTo>
                  <a:lnTo>
                    <a:pt x="313" y="16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7588080" y="2441520"/>
              <a:ext cx="176400" cy="136800"/>
            </a:xfrm>
            <a:custGeom>
              <a:avLst/>
              <a:gdLst/>
              <a:ahLst/>
              <a:rect l="l" t="t" r="r" b="b"/>
              <a:pathLst>
                <a:path w="555" h="431">
                  <a:moveTo>
                    <a:pt x="289" y="18"/>
                  </a:moveTo>
                  <a:lnTo>
                    <a:pt x="346" y="32"/>
                  </a:lnTo>
                  <a:lnTo>
                    <a:pt x="396" y="47"/>
                  </a:lnTo>
                  <a:lnTo>
                    <a:pt x="439" y="62"/>
                  </a:lnTo>
                  <a:lnTo>
                    <a:pt x="476" y="74"/>
                  </a:lnTo>
                  <a:lnTo>
                    <a:pt x="506" y="84"/>
                  </a:lnTo>
                  <a:lnTo>
                    <a:pt x="527" y="93"/>
                  </a:lnTo>
                  <a:lnTo>
                    <a:pt x="540" y="98"/>
                  </a:lnTo>
                  <a:lnTo>
                    <a:pt x="545" y="99"/>
                  </a:lnTo>
                  <a:lnTo>
                    <a:pt x="549" y="106"/>
                  </a:lnTo>
                  <a:lnTo>
                    <a:pt x="551" y="112"/>
                  </a:lnTo>
                  <a:lnTo>
                    <a:pt x="554" y="120"/>
                  </a:lnTo>
                  <a:lnTo>
                    <a:pt x="555" y="126"/>
                  </a:lnTo>
                  <a:lnTo>
                    <a:pt x="555" y="139"/>
                  </a:lnTo>
                  <a:lnTo>
                    <a:pt x="553" y="150"/>
                  </a:lnTo>
                  <a:lnTo>
                    <a:pt x="549" y="160"/>
                  </a:lnTo>
                  <a:lnTo>
                    <a:pt x="547" y="169"/>
                  </a:lnTo>
                  <a:lnTo>
                    <a:pt x="543" y="174"/>
                  </a:lnTo>
                  <a:lnTo>
                    <a:pt x="542" y="175"/>
                  </a:lnTo>
                  <a:lnTo>
                    <a:pt x="533" y="171"/>
                  </a:lnTo>
                  <a:lnTo>
                    <a:pt x="507" y="159"/>
                  </a:lnTo>
                  <a:lnTo>
                    <a:pt x="469" y="142"/>
                  </a:lnTo>
                  <a:lnTo>
                    <a:pt x="423" y="122"/>
                  </a:lnTo>
                  <a:lnTo>
                    <a:pt x="374" y="100"/>
                  </a:lnTo>
                  <a:lnTo>
                    <a:pt x="325" y="80"/>
                  </a:lnTo>
                  <a:lnTo>
                    <a:pt x="281" y="63"/>
                  </a:lnTo>
                  <a:lnTo>
                    <a:pt x="246" y="51"/>
                  </a:lnTo>
                  <a:lnTo>
                    <a:pt x="232" y="46"/>
                  </a:lnTo>
                  <a:lnTo>
                    <a:pt x="217" y="42"/>
                  </a:lnTo>
                  <a:lnTo>
                    <a:pt x="203" y="39"/>
                  </a:lnTo>
                  <a:lnTo>
                    <a:pt x="188" y="37"/>
                  </a:lnTo>
                  <a:lnTo>
                    <a:pt x="174" y="36"/>
                  </a:lnTo>
                  <a:lnTo>
                    <a:pt x="160" y="35"/>
                  </a:lnTo>
                  <a:lnTo>
                    <a:pt x="148" y="36"/>
                  </a:lnTo>
                  <a:lnTo>
                    <a:pt x="136" y="37"/>
                  </a:lnTo>
                  <a:lnTo>
                    <a:pt x="123" y="41"/>
                  </a:lnTo>
                  <a:lnTo>
                    <a:pt x="113" y="45"/>
                  </a:lnTo>
                  <a:lnTo>
                    <a:pt x="104" y="48"/>
                  </a:lnTo>
                  <a:lnTo>
                    <a:pt x="95" y="55"/>
                  </a:lnTo>
                  <a:lnTo>
                    <a:pt x="89" y="62"/>
                  </a:lnTo>
                  <a:lnTo>
                    <a:pt x="83" y="69"/>
                  </a:lnTo>
                  <a:lnTo>
                    <a:pt x="79" y="78"/>
                  </a:lnTo>
                  <a:lnTo>
                    <a:pt x="78" y="88"/>
                  </a:lnTo>
                  <a:lnTo>
                    <a:pt x="74" y="114"/>
                  </a:lnTo>
                  <a:lnTo>
                    <a:pt x="70" y="142"/>
                  </a:lnTo>
                  <a:lnTo>
                    <a:pt x="68" y="174"/>
                  </a:lnTo>
                  <a:lnTo>
                    <a:pt x="64" y="208"/>
                  </a:lnTo>
                  <a:lnTo>
                    <a:pt x="63" y="243"/>
                  </a:lnTo>
                  <a:lnTo>
                    <a:pt x="62" y="277"/>
                  </a:lnTo>
                  <a:lnTo>
                    <a:pt x="62" y="309"/>
                  </a:lnTo>
                  <a:lnTo>
                    <a:pt x="64" y="339"/>
                  </a:lnTo>
                  <a:lnTo>
                    <a:pt x="67" y="351"/>
                  </a:lnTo>
                  <a:lnTo>
                    <a:pt x="70" y="363"/>
                  </a:lnTo>
                  <a:lnTo>
                    <a:pt x="77" y="374"/>
                  </a:lnTo>
                  <a:lnTo>
                    <a:pt x="84" y="384"/>
                  </a:lnTo>
                  <a:lnTo>
                    <a:pt x="93" y="393"/>
                  </a:lnTo>
                  <a:lnTo>
                    <a:pt x="101" y="400"/>
                  </a:lnTo>
                  <a:lnTo>
                    <a:pt x="111" y="406"/>
                  </a:lnTo>
                  <a:lnTo>
                    <a:pt x="122" y="412"/>
                  </a:lnTo>
                  <a:lnTo>
                    <a:pt x="142" y="421"/>
                  </a:lnTo>
                  <a:lnTo>
                    <a:pt x="159" y="426"/>
                  </a:lnTo>
                  <a:lnTo>
                    <a:pt x="171" y="430"/>
                  </a:lnTo>
                  <a:lnTo>
                    <a:pt x="175" y="431"/>
                  </a:lnTo>
                  <a:lnTo>
                    <a:pt x="94" y="428"/>
                  </a:lnTo>
                  <a:lnTo>
                    <a:pt x="80" y="421"/>
                  </a:lnTo>
                  <a:lnTo>
                    <a:pt x="67" y="414"/>
                  </a:lnTo>
                  <a:lnTo>
                    <a:pt x="56" y="405"/>
                  </a:lnTo>
                  <a:lnTo>
                    <a:pt x="45" y="395"/>
                  </a:lnTo>
                  <a:lnTo>
                    <a:pt x="36" y="384"/>
                  </a:lnTo>
                  <a:lnTo>
                    <a:pt x="27" y="372"/>
                  </a:lnTo>
                  <a:lnTo>
                    <a:pt x="20" y="361"/>
                  </a:lnTo>
                  <a:lnTo>
                    <a:pt x="14" y="347"/>
                  </a:lnTo>
                  <a:lnTo>
                    <a:pt x="10" y="334"/>
                  </a:lnTo>
                  <a:lnTo>
                    <a:pt x="6" y="320"/>
                  </a:lnTo>
                  <a:lnTo>
                    <a:pt x="3" y="305"/>
                  </a:lnTo>
                  <a:lnTo>
                    <a:pt x="1" y="292"/>
                  </a:lnTo>
                  <a:lnTo>
                    <a:pt x="0" y="277"/>
                  </a:lnTo>
                  <a:lnTo>
                    <a:pt x="1" y="262"/>
                  </a:lnTo>
                  <a:lnTo>
                    <a:pt x="3" y="248"/>
                  </a:lnTo>
                  <a:lnTo>
                    <a:pt x="4" y="233"/>
                  </a:lnTo>
                  <a:lnTo>
                    <a:pt x="9" y="205"/>
                  </a:lnTo>
                  <a:lnTo>
                    <a:pt x="14" y="179"/>
                  </a:lnTo>
                  <a:lnTo>
                    <a:pt x="17" y="155"/>
                  </a:lnTo>
                  <a:lnTo>
                    <a:pt x="22" y="133"/>
                  </a:lnTo>
                  <a:lnTo>
                    <a:pt x="29" y="114"/>
                  </a:lnTo>
                  <a:lnTo>
                    <a:pt x="36" y="94"/>
                  </a:lnTo>
                  <a:lnTo>
                    <a:pt x="45" y="75"/>
                  </a:lnTo>
                  <a:lnTo>
                    <a:pt x="56" y="58"/>
                  </a:lnTo>
                  <a:lnTo>
                    <a:pt x="63" y="51"/>
                  </a:lnTo>
                  <a:lnTo>
                    <a:pt x="70" y="42"/>
                  </a:lnTo>
                  <a:lnTo>
                    <a:pt x="78" y="35"/>
                  </a:lnTo>
                  <a:lnTo>
                    <a:pt x="86" y="27"/>
                  </a:lnTo>
                  <a:lnTo>
                    <a:pt x="95" y="21"/>
                  </a:lnTo>
                  <a:lnTo>
                    <a:pt x="105" y="15"/>
                  </a:lnTo>
                  <a:lnTo>
                    <a:pt x="116" y="10"/>
                  </a:lnTo>
                  <a:lnTo>
                    <a:pt x="129" y="7"/>
                  </a:lnTo>
                  <a:lnTo>
                    <a:pt x="143" y="3"/>
                  </a:lnTo>
                  <a:lnTo>
                    <a:pt x="158" y="2"/>
                  </a:lnTo>
                  <a:lnTo>
                    <a:pt x="175" y="0"/>
                  </a:lnTo>
                  <a:lnTo>
                    <a:pt x="193" y="0"/>
                  </a:lnTo>
                  <a:lnTo>
                    <a:pt x="214" y="3"/>
                  </a:lnTo>
                  <a:lnTo>
                    <a:pt x="238" y="7"/>
                  </a:lnTo>
                  <a:lnTo>
                    <a:pt x="262" y="12"/>
                  </a:lnTo>
                  <a:lnTo>
                    <a:pt x="289" y="18"/>
                  </a:lnTo>
                  <a:close/>
                </a:path>
              </a:pathLst>
            </a:custGeom>
            <a:solidFill>
              <a:srgbClr val="5c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7596360" y="2444760"/>
              <a:ext cx="166680" cy="133560"/>
            </a:xfrm>
            <a:custGeom>
              <a:avLst/>
              <a:gdLst/>
              <a:ahLst/>
              <a:rect l="l" t="t" r="r" b="b"/>
              <a:pathLst>
                <a:path w="525" h="421">
                  <a:moveTo>
                    <a:pt x="265" y="21"/>
                  </a:moveTo>
                  <a:lnTo>
                    <a:pt x="322" y="40"/>
                  </a:lnTo>
                  <a:lnTo>
                    <a:pt x="372" y="57"/>
                  </a:lnTo>
                  <a:lnTo>
                    <a:pt x="415" y="72"/>
                  </a:lnTo>
                  <a:lnTo>
                    <a:pt x="452" y="86"/>
                  </a:lnTo>
                  <a:lnTo>
                    <a:pt x="482" y="97"/>
                  </a:lnTo>
                  <a:lnTo>
                    <a:pt x="503" y="106"/>
                  </a:lnTo>
                  <a:lnTo>
                    <a:pt x="516" y="112"/>
                  </a:lnTo>
                  <a:lnTo>
                    <a:pt x="521" y="113"/>
                  </a:lnTo>
                  <a:lnTo>
                    <a:pt x="524" y="125"/>
                  </a:lnTo>
                  <a:lnTo>
                    <a:pt x="525" y="134"/>
                  </a:lnTo>
                  <a:lnTo>
                    <a:pt x="525" y="143"/>
                  </a:lnTo>
                  <a:lnTo>
                    <a:pt x="524" y="150"/>
                  </a:lnTo>
                  <a:lnTo>
                    <a:pt x="523" y="156"/>
                  </a:lnTo>
                  <a:lnTo>
                    <a:pt x="520" y="161"/>
                  </a:lnTo>
                  <a:lnTo>
                    <a:pt x="519" y="164"/>
                  </a:lnTo>
                  <a:lnTo>
                    <a:pt x="518" y="165"/>
                  </a:lnTo>
                  <a:lnTo>
                    <a:pt x="509" y="161"/>
                  </a:lnTo>
                  <a:lnTo>
                    <a:pt x="483" y="149"/>
                  </a:lnTo>
                  <a:lnTo>
                    <a:pt x="445" y="132"/>
                  </a:lnTo>
                  <a:lnTo>
                    <a:pt x="399" y="112"/>
                  </a:lnTo>
                  <a:lnTo>
                    <a:pt x="350" y="90"/>
                  </a:lnTo>
                  <a:lnTo>
                    <a:pt x="301" y="70"/>
                  </a:lnTo>
                  <a:lnTo>
                    <a:pt x="257" y="53"/>
                  </a:lnTo>
                  <a:lnTo>
                    <a:pt x="222" y="41"/>
                  </a:lnTo>
                  <a:lnTo>
                    <a:pt x="208" y="36"/>
                  </a:lnTo>
                  <a:lnTo>
                    <a:pt x="193" y="32"/>
                  </a:lnTo>
                  <a:lnTo>
                    <a:pt x="179" y="29"/>
                  </a:lnTo>
                  <a:lnTo>
                    <a:pt x="164" y="27"/>
                  </a:lnTo>
                  <a:lnTo>
                    <a:pt x="150" y="26"/>
                  </a:lnTo>
                  <a:lnTo>
                    <a:pt x="136" y="25"/>
                  </a:lnTo>
                  <a:lnTo>
                    <a:pt x="124" y="26"/>
                  </a:lnTo>
                  <a:lnTo>
                    <a:pt x="112" y="27"/>
                  </a:lnTo>
                  <a:lnTo>
                    <a:pt x="99" y="31"/>
                  </a:lnTo>
                  <a:lnTo>
                    <a:pt x="89" y="35"/>
                  </a:lnTo>
                  <a:lnTo>
                    <a:pt x="80" y="38"/>
                  </a:lnTo>
                  <a:lnTo>
                    <a:pt x="71" y="45"/>
                  </a:lnTo>
                  <a:lnTo>
                    <a:pt x="65" y="52"/>
                  </a:lnTo>
                  <a:lnTo>
                    <a:pt x="59" y="59"/>
                  </a:lnTo>
                  <a:lnTo>
                    <a:pt x="55" y="68"/>
                  </a:lnTo>
                  <a:lnTo>
                    <a:pt x="54" y="78"/>
                  </a:lnTo>
                  <a:lnTo>
                    <a:pt x="50" y="104"/>
                  </a:lnTo>
                  <a:lnTo>
                    <a:pt x="46" y="132"/>
                  </a:lnTo>
                  <a:lnTo>
                    <a:pt x="44" y="164"/>
                  </a:lnTo>
                  <a:lnTo>
                    <a:pt x="40" y="198"/>
                  </a:lnTo>
                  <a:lnTo>
                    <a:pt x="39" y="233"/>
                  </a:lnTo>
                  <a:lnTo>
                    <a:pt x="38" y="267"/>
                  </a:lnTo>
                  <a:lnTo>
                    <a:pt x="38" y="299"/>
                  </a:lnTo>
                  <a:lnTo>
                    <a:pt x="40" y="329"/>
                  </a:lnTo>
                  <a:lnTo>
                    <a:pt x="43" y="341"/>
                  </a:lnTo>
                  <a:lnTo>
                    <a:pt x="46" y="353"/>
                  </a:lnTo>
                  <a:lnTo>
                    <a:pt x="53" y="364"/>
                  </a:lnTo>
                  <a:lnTo>
                    <a:pt x="60" y="374"/>
                  </a:lnTo>
                  <a:lnTo>
                    <a:pt x="69" y="383"/>
                  </a:lnTo>
                  <a:lnTo>
                    <a:pt x="77" y="390"/>
                  </a:lnTo>
                  <a:lnTo>
                    <a:pt x="87" y="396"/>
                  </a:lnTo>
                  <a:lnTo>
                    <a:pt x="98" y="402"/>
                  </a:lnTo>
                  <a:lnTo>
                    <a:pt x="118" y="411"/>
                  </a:lnTo>
                  <a:lnTo>
                    <a:pt x="135" y="416"/>
                  </a:lnTo>
                  <a:lnTo>
                    <a:pt x="147" y="420"/>
                  </a:lnTo>
                  <a:lnTo>
                    <a:pt x="151" y="421"/>
                  </a:lnTo>
                  <a:lnTo>
                    <a:pt x="70" y="412"/>
                  </a:lnTo>
                  <a:lnTo>
                    <a:pt x="59" y="406"/>
                  </a:lnTo>
                  <a:lnTo>
                    <a:pt x="48" y="398"/>
                  </a:lnTo>
                  <a:lnTo>
                    <a:pt x="39" y="389"/>
                  </a:lnTo>
                  <a:lnTo>
                    <a:pt x="30" y="379"/>
                  </a:lnTo>
                  <a:lnTo>
                    <a:pt x="23" y="369"/>
                  </a:lnTo>
                  <a:lnTo>
                    <a:pt x="17" y="358"/>
                  </a:lnTo>
                  <a:lnTo>
                    <a:pt x="12" y="346"/>
                  </a:lnTo>
                  <a:lnTo>
                    <a:pt x="8" y="334"/>
                  </a:lnTo>
                  <a:lnTo>
                    <a:pt x="5" y="320"/>
                  </a:lnTo>
                  <a:lnTo>
                    <a:pt x="2" y="307"/>
                  </a:lnTo>
                  <a:lnTo>
                    <a:pt x="1" y="293"/>
                  </a:lnTo>
                  <a:lnTo>
                    <a:pt x="0" y="278"/>
                  </a:lnTo>
                  <a:lnTo>
                    <a:pt x="0" y="263"/>
                  </a:lnTo>
                  <a:lnTo>
                    <a:pt x="1" y="249"/>
                  </a:lnTo>
                  <a:lnTo>
                    <a:pt x="2" y="234"/>
                  </a:lnTo>
                  <a:lnTo>
                    <a:pt x="5" y="219"/>
                  </a:lnTo>
                  <a:lnTo>
                    <a:pt x="8" y="192"/>
                  </a:lnTo>
                  <a:lnTo>
                    <a:pt x="11" y="169"/>
                  </a:lnTo>
                  <a:lnTo>
                    <a:pt x="13" y="148"/>
                  </a:lnTo>
                  <a:lnTo>
                    <a:pt x="16" y="129"/>
                  </a:lnTo>
                  <a:lnTo>
                    <a:pt x="19" y="113"/>
                  </a:lnTo>
                  <a:lnTo>
                    <a:pt x="24" y="97"/>
                  </a:lnTo>
                  <a:lnTo>
                    <a:pt x="32" y="81"/>
                  </a:lnTo>
                  <a:lnTo>
                    <a:pt x="43" y="64"/>
                  </a:lnTo>
                  <a:lnTo>
                    <a:pt x="55" y="48"/>
                  </a:lnTo>
                  <a:lnTo>
                    <a:pt x="70" y="31"/>
                  </a:lnTo>
                  <a:lnTo>
                    <a:pt x="78" y="25"/>
                  </a:lnTo>
                  <a:lnTo>
                    <a:pt x="87" y="17"/>
                  </a:lnTo>
                  <a:lnTo>
                    <a:pt x="98" y="13"/>
                  </a:lnTo>
                  <a:lnTo>
                    <a:pt x="109" y="8"/>
                  </a:lnTo>
                  <a:lnTo>
                    <a:pt x="123" y="4"/>
                  </a:lnTo>
                  <a:lnTo>
                    <a:pt x="136" y="2"/>
                  </a:lnTo>
                  <a:lnTo>
                    <a:pt x="153" y="0"/>
                  </a:lnTo>
                  <a:lnTo>
                    <a:pt x="171" y="2"/>
                  </a:lnTo>
                  <a:lnTo>
                    <a:pt x="192" y="3"/>
                  </a:lnTo>
                  <a:lnTo>
                    <a:pt x="214" y="8"/>
                  </a:lnTo>
                  <a:lnTo>
                    <a:pt x="238" y="14"/>
                  </a:lnTo>
                  <a:lnTo>
                    <a:pt x="265" y="21"/>
                  </a:lnTo>
                  <a:close/>
                </a:path>
              </a:pathLst>
            </a:custGeom>
            <a:solidFill>
              <a:srgbClr val="57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7602480" y="2448000"/>
              <a:ext cx="158760" cy="130320"/>
            </a:xfrm>
            <a:custGeom>
              <a:avLst/>
              <a:gdLst/>
              <a:ahLst/>
              <a:rect l="l" t="t" r="r" b="b"/>
              <a:pathLst>
                <a:path w="497" h="411">
                  <a:moveTo>
                    <a:pt x="130" y="411"/>
                  </a:moveTo>
                  <a:lnTo>
                    <a:pt x="126" y="410"/>
                  </a:lnTo>
                  <a:lnTo>
                    <a:pt x="114" y="406"/>
                  </a:lnTo>
                  <a:lnTo>
                    <a:pt x="97" y="401"/>
                  </a:lnTo>
                  <a:lnTo>
                    <a:pt x="77" y="392"/>
                  </a:lnTo>
                  <a:lnTo>
                    <a:pt x="66" y="386"/>
                  </a:lnTo>
                  <a:lnTo>
                    <a:pt x="56" y="380"/>
                  </a:lnTo>
                  <a:lnTo>
                    <a:pt x="48" y="373"/>
                  </a:lnTo>
                  <a:lnTo>
                    <a:pt x="39" y="364"/>
                  </a:lnTo>
                  <a:lnTo>
                    <a:pt x="32" y="354"/>
                  </a:lnTo>
                  <a:lnTo>
                    <a:pt x="25" y="343"/>
                  </a:lnTo>
                  <a:lnTo>
                    <a:pt x="22" y="331"/>
                  </a:lnTo>
                  <a:lnTo>
                    <a:pt x="19" y="319"/>
                  </a:lnTo>
                  <a:lnTo>
                    <a:pt x="17" y="289"/>
                  </a:lnTo>
                  <a:lnTo>
                    <a:pt x="17" y="257"/>
                  </a:lnTo>
                  <a:lnTo>
                    <a:pt x="18" y="223"/>
                  </a:lnTo>
                  <a:lnTo>
                    <a:pt x="19" y="188"/>
                  </a:lnTo>
                  <a:lnTo>
                    <a:pt x="23" y="154"/>
                  </a:lnTo>
                  <a:lnTo>
                    <a:pt x="25" y="122"/>
                  </a:lnTo>
                  <a:lnTo>
                    <a:pt x="29" y="94"/>
                  </a:lnTo>
                  <a:lnTo>
                    <a:pt x="33" y="68"/>
                  </a:lnTo>
                  <a:lnTo>
                    <a:pt x="34" y="58"/>
                  </a:lnTo>
                  <a:lnTo>
                    <a:pt x="38" y="49"/>
                  </a:lnTo>
                  <a:lnTo>
                    <a:pt x="44" y="42"/>
                  </a:lnTo>
                  <a:lnTo>
                    <a:pt x="50" y="35"/>
                  </a:lnTo>
                  <a:lnTo>
                    <a:pt x="59" y="28"/>
                  </a:lnTo>
                  <a:lnTo>
                    <a:pt x="68" y="25"/>
                  </a:lnTo>
                  <a:lnTo>
                    <a:pt x="78" y="21"/>
                  </a:lnTo>
                  <a:lnTo>
                    <a:pt x="91" y="17"/>
                  </a:lnTo>
                  <a:lnTo>
                    <a:pt x="103" y="16"/>
                  </a:lnTo>
                  <a:lnTo>
                    <a:pt x="115" y="15"/>
                  </a:lnTo>
                  <a:lnTo>
                    <a:pt x="129" y="16"/>
                  </a:lnTo>
                  <a:lnTo>
                    <a:pt x="143" y="17"/>
                  </a:lnTo>
                  <a:lnTo>
                    <a:pt x="158" y="19"/>
                  </a:lnTo>
                  <a:lnTo>
                    <a:pt x="172" y="22"/>
                  </a:lnTo>
                  <a:lnTo>
                    <a:pt x="187" y="26"/>
                  </a:lnTo>
                  <a:lnTo>
                    <a:pt x="201" y="31"/>
                  </a:lnTo>
                  <a:lnTo>
                    <a:pt x="236" y="43"/>
                  </a:lnTo>
                  <a:lnTo>
                    <a:pt x="280" y="60"/>
                  </a:lnTo>
                  <a:lnTo>
                    <a:pt x="329" y="80"/>
                  </a:lnTo>
                  <a:lnTo>
                    <a:pt x="378" y="102"/>
                  </a:lnTo>
                  <a:lnTo>
                    <a:pt x="424" y="122"/>
                  </a:lnTo>
                  <a:lnTo>
                    <a:pt x="462" y="139"/>
                  </a:lnTo>
                  <a:lnTo>
                    <a:pt x="488" y="151"/>
                  </a:lnTo>
                  <a:lnTo>
                    <a:pt x="497" y="155"/>
                  </a:lnTo>
                  <a:lnTo>
                    <a:pt x="497" y="155"/>
                  </a:lnTo>
                  <a:lnTo>
                    <a:pt x="497" y="155"/>
                  </a:lnTo>
                  <a:lnTo>
                    <a:pt x="497" y="154"/>
                  </a:lnTo>
                  <a:lnTo>
                    <a:pt x="497" y="151"/>
                  </a:lnTo>
                  <a:lnTo>
                    <a:pt x="497" y="149"/>
                  </a:lnTo>
                  <a:lnTo>
                    <a:pt x="497" y="144"/>
                  </a:lnTo>
                  <a:lnTo>
                    <a:pt x="497" y="137"/>
                  </a:lnTo>
                  <a:lnTo>
                    <a:pt x="497" y="128"/>
                  </a:lnTo>
                  <a:lnTo>
                    <a:pt x="493" y="126"/>
                  </a:lnTo>
                  <a:lnTo>
                    <a:pt x="479" y="119"/>
                  </a:lnTo>
                  <a:lnTo>
                    <a:pt x="458" y="111"/>
                  </a:lnTo>
                  <a:lnTo>
                    <a:pt x="429" y="97"/>
                  </a:lnTo>
                  <a:lnTo>
                    <a:pt x="392" y="83"/>
                  </a:lnTo>
                  <a:lnTo>
                    <a:pt x="348" y="64"/>
                  </a:lnTo>
                  <a:lnTo>
                    <a:pt x="299" y="44"/>
                  </a:lnTo>
                  <a:lnTo>
                    <a:pt x="242" y="22"/>
                  </a:lnTo>
                  <a:lnTo>
                    <a:pt x="215" y="14"/>
                  </a:lnTo>
                  <a:lnTo>
                    <a:pt x="191" y="6"/>
                  </a:lnTo>
                  <a:lnTo>
                    <a:pt x="169" y="3"/>
                  </a:lnTo>
                  <a:lnTo>
                    <a:pt x="151" y="0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5" y="4"/>
                  </a:lnTo>
                  <a:lnTo>
                    <a:pt x="93" y="7"/>
                  </a:lnTo>
                  <a:lnTo>
                    <a:pt x="83" y="12"/>
                  </a:lnTo>
                  <a:lnTo>
                    <a:pt x="73" y="19"/>
                  </a:lnTo>
                  <a:lnTo>
                    <a:pt x="66" y="26"/>
                  </a:lnTo>
                  <a:lnTo>
                    <a:pt x="59" y="35"/>
                  </a:lnTo>
                  <a:lnTo>
                    <a:pt x="45" y="51"/>
                  </a:lnTo>
                  <a:lnTo>
                    <a:pt x="33" y="68"/>
                  </a:lnTo>
                  <a:lnTo>
                    <a:pt x="27" y="76"/>
                  </a:lnTo>
                  <a:lnTo>
                    <a:pt x="23" y="84"/>
                  </a:lnTo>
                  <a:lnTo>
                    <a:pt x="19" y="91"/>
                  </a:lnTo>
                  <a:lnTo>
                    <a:pt x="17" y="99"/>
                  </a:lnTo>
                  <a:lnTo>
                    <a:pt x="13" y="112"/>
                  </a:lnTo>
                  <a:lnTo>
                    <a:pt x="12" y="126"/>
                  </a:lnTo>
                  <a:lnTo>
                    <a:pt x="12" y="140"/>
                  </a:lnTo>
                  <a:lnTo>
                    <a:pt x="11" y="159"/>
                  </a:lnTo>
                  <a:lnTo>
                    <a:pt x="9" y="180"/>
                  </a:lnTo>
                  <a:lnTo>
                    <a:pt x="6" y="207"/>
                  </a:lnTo>
                  <a:lnTo>
                    <a:pt x="1" y="236"/>
                  </a:lnTo>
                  <a:lnTo>
                    <a:pt x="0" y="266"/>
                  </a:lnTo>
                  <a:lnTo>
                    <a:pt x="0" y="279"/>
                  </a:lnTo>
                  <a:lnTo>
                    <a:pt x="1" y="293"/>
                  </a:lnTo>
                  <a:lnTo>
                    <a:pt x="2" y="306"/>
                  </a:lnTo>
                  <a:lnTo>
                    <a:pt x="4" y="319"/>
                  </a:lnTo>
                  <a:lnTo>
                    <a:pt x="7" y="332"/>
                  </a:lnTo>
                  <a:lnTo>
                    <a:pt x="11" y="343"/>
                  </a:lnTo>
                  <a:lnTo>
                    <a:pt x="16" y="354"/>
                  </a:lnTo>
                  <a:lnTo>
                    <a:pt x="20" y="364"/>
                  </a:lnTo>
                  <a:lnTo>
                    <a:pt x="27" y="374"/>
                  </a:lnTo>
                  <a:lnTo>
                    <a:pt x="34" y="383"/>
                  </a:lnTo>
                  <a:lnTo>
                    <a:pt x="43" y="390"/>
                  </a:lnTo>
                  <a:lnTo>
                    <a:pt x="51" y="397"/>
                  </a:lnTo>
                  <a:lnTo>
                    <a:pt x="130" y="411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7634160" y="2497320"/>
              <a:ext cx="79560" cy="81000"/>
            </a:xfrm>
            <a:custGeom>
              <a:avLst/>
              <a:gdLst/>
              <a:ahLst/>
              <a:rect l="l" t="t" r="r" b="b"/>
              <a:pathLst>
                <a:path w="248" h="255">
                  <a:moveTo>
                    <a:pt x="90" y="105"/>
                  </a:moveTo>
                  <a:lnTo>
                    <a:pt x="90" y="107"/>
                  </a:lnTo>
                  <a:lnTo>
                    <a:pt x="93" y="108"/>
                  </a:lnTo>
                  <a:lnTo>
                    <a:pt x="95" y="110"/>
                  </a:lnTo>
                  <a:lnTo>
                    <a:pt x="100" y="114"/>
                  </a:lnTo>
                  <a:lnTo>
                    <a:pt x="107" y="119"/>
                  </a:lnTo>
                  <a:lnTo>
                    <a:pt x="115" y="126"/>
                  </a:lnTo>
                  <a:lnTo>
                    <a:pt x="126" y="136"/>
                  </a:lnTo>
                  <a:lnTo>
                    <a:pt x="139" y="147"/>
                  </a:lnTo>
                  <a:lnTo>
                    <a:pt x="146" y="153"/>
                  </a:lnTo>
                  <a:lnTo>
                    <a:pt x="152" y="161"/>
                  </a:lnTo>
                  <a:lnTo>
                    <a:pt x="157" y="169"/>
                  </a:lnTo>
                  <a:lnTo>
                    <a:pt x="162" y="178"/>
                  </a:lnTo>
                  <a:lnTo>
                    <a:pt x="170" y="195"/>
                  </a:lnTo>
                  <a:lnTo>
                    <a:pt x="176" y="214"/>
                  </a:lnTo>
                  <a:lnTo>
                    <a:pt x="181" y="230"/>
                  </a:lnTo>
                  <a:lnTo>
                    <a:pt x="185" y="243"/>
                  </a:lnTo>
                  <a:lnTo>
                    <a:pt x="187" y="252"/>
                  </a:lnTo>
                  <a:lnTo>
                    <a:pt x="187" y="255"/>
                  </a:lnTo>
                  <a:lnTo>
                    <a:pt x="192" y="252"/>
                  </a:lnTo>
                  <a:lnTo>
                    <a:pt x="195" y="248"/>
                  </a:lnTo>
                  <a:lnTo>
                    <a:pt x="197" y="243"/>
                  </a:lnTo>
                  <a:lnTo>
                    <a:pt x="200" y="238"/>
                  </a:lnTo>
                  <a:lnTo>
                    <a:pt x="201" y="227"/>
                  </a:lnTo>
                  <a:lnTo>
                    <a:pt x="201" y="216"/>
                  </a:lnTo>
                  <a:lnTo>
                    <a:pt x="199" y="205"/>
                  </a:lnTo>
                  <a:lnTo>
                    <a:pt x="195" y="193"/>
                  </a:lnTo>
                  <a:lnTo>
                    <a:pt x="191" y="180"/>
                  </a:lnTo>
                  <a:lnTo>
                    <a:pt x="185" y="168"/>
                  </a:lnTo>
                  <a:lnTo>
                    <a:pt x="173" y="145"/>
                  </a:lnTo>
                  <a:lnTo>
                    <a:pt x="160" y="126"/>
                  </a:lnTo>
                  <a:lnTo>
                    <a:pt x="151" y="114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8" y="109"/>
                  </a:lnTo>
                  <a:lnTo>
                    <a:pt x="148" y="108"/>
                  </a:lnTo>
                  <a:lnTo>
                    <a:pt x="149" y="108"/>
                  </a:lnTo>
                  <a:lnTo>
                    <a:pt x="152" y="107"/>
                  </a:lnTo>
                  <a:lnTo>
                    <a:pt x="154" y="105"/>
                  </a:lnTo>
                  <a:lnTo>
                    <a:pt x="158" y="103"/>
                  </a:lnTo>
                  <a:lnTo>
                    <a:pt x="164" y="100"/>
                  </a:lnTo>
                  <a:lnTo>
                    <a:pt x="170" y="99"/>
                  </a:lnTo>
                  <a:lnTo>
                    <a:pt x="176" y="97"/>
                  </a:lnTo>
                  <a:lnTo>
                    <a:pt x="184" y="95"/>
                  </a:lnTo>
                  <a:lnTo>
                    <a:pt x="191" y="94"/>
                  </a:lnTo>
                  <a:lnTo>
                    <a:pt x="197" y="94"/>
                  </a:lnTo>
                  <a:lnTo>
                    <a:pt x="205" y="94"/>
                  </a:lnTo>
                  <a:lnTo>
                    <a:pt x="212" y="94"/>
                  </a:lnTo>
                  <a:lnTo>
                    <a:pt x="218" y="95"/>
                  </a:lnTo>
                  <a:lnTo>
                    <a:pt x="224" y="97"/>
                  </a:lnTo>
                  <a:lnTo>
                    <a:pt x="229" y="98"/>
                  </a:lnTo>
                  <a:lnTo>
                    <a:pt x="234" y="99"/>
                  </a:lnTo>
                  <a:lnTo>
                    <a:pt x="239" y="102"/>
                  </a:lnTo>
                  <a:lnTo>
                    <a:pt x="243" y="103"/>
                  </a:lnTo>
                  <a:lnTo>
                    <a:pt x="245" y="104"/>
                  </a:lnTo>
                  <a:lnTo>
                    <a:pt x="248" y="105"/>
                  </a:lnTo>
                  <a:lnTo>
                    <a:pt x="248" y="105"/>
                  </a:lnTo>
                  <a:lnTo>
                    <a:pt x="248" y="105"/>
                  </a:lnTo>
                  <a:lnTo>
                    <a:pt x="248" y="105"/>
                  </a:lnTo>
                  <a:lnTo>
                    <a:pt x="248" y="105"/>
                  </a:lnTo>
                  <a:lnTo>
                    <a:pt x="248" y="104"/>
                  </a:lnTo>
                  <a:lnTo>
                    <a:pt x="248" y="103"/>
                  </a:lnTo>
                  <a:lnTo>
                    <a:pt x="248" y="102"/>
                  </a:lnTo>
                  <a:lnTo>
                    <a:pt x="248" y="99"/>
                  </a:lnTo>
                  <a:lnTo>
                    <a:pt x="248" y="98"/>
                  </a:lnTo>
                  <a:lnTo>
                    <a:pt x="245" y="94"/>
                  </a:lnTo>
                  <a:lnTo>
                    <a:pt x="243" y="91"/>
                  </a:lnTo>
                  <a:lnTo>
                    <a:pt x="238" y="86"/>
                  </a:lnTo>
                  <a:lnTo>
                    <a:pt x="233" y="82"/>
                  </a:lnTo>
                  <a:lnTo>
                    <a:pt x="227" y="80"/>
                  </a:lnTo>
                  <a:lnTo>
                    <a:pt x="221" y="77"/>
                  </a:lnTo>
                  <a:lnTo>
                    <a:pt x="216" y="77"/>
                  </a:lnTo>
                  <a:lnTo>
                    <a:pt x="210" y="78"/>
                  </a:lnTo>
                  <a:lnTo>
                    <a:pt x="202" y="82"/>
                  </a:lnTo>
                  <a:lnTo>
                    <a:pt x="191" y="86"/>
                  </a:lnTo>
                  <a:lnTo>
                    <a:pt x="179" y="88"/>
                  </a:lnTo>
                  <a:lnTo>
                    <a:pt x="167" y="92"/>
                  </a:lnTo>
                  <a:lnTo>
                    <a:pt x="155" y="94"/>
                  </a:lnTo>
                  <a:lnTo>
                    <a:pt x="146" y="95"/>
                  </a:lnTo>
                  <a:lnTo>
                    <a:pt x="138" y="97"/>
                  </a:lnTo>
                  <a:lnTo>
                    <a:pt x="136" y="98"/>
                  </a:lnTo>
                  <a:lnTo>
                    <a:pt x="132" y="97"/>
                  </a:lnTo>
                  <a:lnTo>
                    <a:pt x="127" y="95"/>
                  </a:lnTo>
                  <a:lnTo>
                    <a:pt x="122" y="93"/>
                  </a:lnTo>
                  <a:lnTo>
                    <a:pt x="117" y="89"/>
                  </a:lnTo>
                  <a:lnTo>
                    <a:pt x="114" y="87"/>
                  </a:lnTo>
                  <a:lnTo>
                    <a:pt x="110" y="84"/>
                  </a:lnTo>
                  <a:lnTo>
                    <a:pt x="107" y="82"/>
                  </a:lnTo>
                  <a:lnTo>
                    <a:pt x="106" y="82"/>
                  </a:lnTo>
                  <a:lnTo>
                    <a:pt x="100" y="80"/>
                  </a:lnTo>
                  <a:lnTo>
                    <a:pt x="95" y="76"/>
                  </a:lnTo>
                  <a:lnTo>
                    <a:pt x="90" y="71"/>
                  </a:lnTo>
                  <a:lnTo>
                    <a:pt x="87" y="66"/>
                  </a:lnTo>
                  <a:lnTo>
                    <a:pt x="84" y="60"/>
                  </a:lnTo>
                  <a:lnTo>
                    <a:pt x="82" y="56"/>
                  </a:lnTo>
                  <a:lnTo>
                    <a:pt x="80" y="52"/>
                  </a:lnTo>
                  <a:lnTo>
                    <a:pt x="79" y="51"/>
                  </a:lnTo>
                  <a:lnTo>
                    <a:pt x="61" y="0"/>
                  </a:lnTo>
                  <a:lnTo>
                    <a:pt x="63" y="24"/>
                  </a:lnTo>
                  <a:lnTo>
                    <a:pt x="67" y="45"/>
                  </a:lnTo>
                  <a:lnTo>
                    <a:pt x="69" y="61"/>
                  </a:lnTo>
                  <a:lnTo>
                    <a:pt x="73" y="75"/>
                  </a:lnTo>
                  <a:lnTo>
                    <a:pt x="75" y="83"/>
                  </a:lnTo>
                  <a:lnTo>
                    <a:pt x="78" y="91"/>
                  </a:lnTo>
                  <a:lnTo>
                    <a:pt x="79" y="94"/>
                  </a:lnTo>
                  <a:lnTo>
                    <a:pt x="79" y="95"/>
                  </a:lnTo>
                  <a:lnTo>
                    <a:pt x="78" y="97"/>
                  </a:lnTo>
                  <a:lnTo>
                    <a:pt x="75" y="103"/>
                  </a:lnTo>
                  <a:lnTo>
                    <a:pt x="71" y="113"/>
                  </a:lnTo>
                  <a:lnTo>
                    <a:pt x="64" y="123"/>
                  </a:lnTo>
                  <a:lnTo>
                    <a:pt x="57" y="134"/>
                  </a:lnTo>
                  <a:lnTo>
                    <a:pt x="48" y="145"/>
                  </a:lnTo>
                  <a:lnTo>
                    <a:pt x="43" y="150"/>
                  </a:lnTo>
                  <a:lnTo>
                    <a:pt x="39" y="153"/>
                  </a:lnTo>
                  <a:lnTo>
                    <a:pt x="34" y="157"/>
                  </a:lnTo>
                  <a:lnTo>
                    <a:pt x="28" y="161"/>
                  </a:lnTo>
                  <a:lnTo>
                    <a:pt x="18" y="164"/>
                  </a:lnTo>
                  <a:lnTo>
                    <a:pt x="10" y="168"/>
                  </a:lnTo>
                  <a:lnTo>
                    <a:pt x="5" y="171"/>
                  </a:lnTo>
                  <a:lnTo>
                    <a:pt x="3" y="172"/>
                  </a:lnTo>
                  <a:lnTo>
                    <a:pt x="2" y="173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3" y="174"/>
                  </a:lnTo>
                  <a:lnTo>
                    <a:pt x="9" y="173"/>
                  </a:lnTo>
                  <a:lnTo>
                    <a:pt x="19" y="171"/>
                  </a:lnTo>
                  <a:lnTo>
                    <a:pt x="31" y="167"/>
                  </a:lnTo>
                  <a:lnTo>
                    <a:pt x="37" y="164"/>
                  </a:lnTo>
                  <a:lnTo>
                    <a:pt x="45" y="161"/>
                  </a:lnTo>
                  <a:lnTo>
                    <a:pt x="51" y="156"/>
                  </a:lnTo>
                  <a:lnTo>
                    <a:pt x="58" y="151"/>
                  </a:lnTo>
                  <a:lnTo>
                    <a:pt x="64" y="145"/>
                  </a:lnTo>
                  <a:lnTo>
                    <a:pt x="71" y="137"/>
                  </a:lnTo>
                  <a:lnTo>
                    <a:pt x="77" y="129"/>
                  </a:lnTo>
                  <a:lnTo>
                    <a:pt x="82" y="120"/>
                  </a:lnTo>
                  <a:lnTo>
                    <a:pt x="90" y="105"/>
                  </a:lnTo>
                  <a:close/>
                </a:path>
              </a:pathLst>
            </a:custGeom>
            <a:solidFill>
              <a:srgbClr val="423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7628040" y="2400480"/>
              <a:ext cx="133200" cy="66600"/>
            </a:xfrm>
            <a:custGeom>
              <a:avLst/>
              <a:gdLst/>
              <a:ahLst/>
              <a:rect l="l" t="t" r="r" b="b"/>
              <a:pathLst>
                <a:path w="422" h="211">
                  <a:moveTo>
                    <a:pt x="217" y="162"/>
                  </a:moveTo>
                  <a:lnTo>
                    <a:pt x="191" y="152"/>
                  </a:lnTo>
                  <a:lnTo>
                    <a:pt x="166" y="144"/>
                  </a:lnTo>
                  <a:lnTo>
                    <a:pt x="143" y="136"/>
                  </a:lnTo>
                  <a:lnTo>
                    <a:pt x="119" y="128"/>
                  </a:lnTo>
                  <a:lnTo>
                    <a:pt x="98" y="120"/>
                  </a:lnTo>
                  <a:lnTo>
                    <a:pt x="78" y="112"/>
                  </a:lnTo>
                  <a:lnTo>
                    <a:pt x="59" y="102"/>
                  </a:lnTo>
                  <a:lnTo>
                    <a:pt x="39" y="92"/>
                  </a:lnTo>
                  <a:lnTo>
                    <a:pt x="32" y="86"/>
                  </a:lnTo>
                  <a:lnTo>
                    <a:pt x="25" y="80"/>
                  </a:lnTo>
                  <a:lnTo>
                    <a:pt x="17" y="72"/>
                  </a:lnTo>
                  <a:lnTo>
                    <a:pt x="12" y="65"/>
                  </a:lnTo>
                  <a:lnTo>
                    <a:pt x="7" y="58"/>
                  </a:lnTo>
                  <a:lnTo>
                    <a:pt x="5" y="50"/>
                  </a:lnTo>
                  <a:lnTo>
                    <a:pt x="3" y="43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1" y="1"/>
                  </a:lnTo>
                  <a:lnTo>
                    <a:pt x="53" y="5"/>
                  </a:lnTo>
                  <a:lnTo>
                    <a:pt x="71" y="10"/>
                  </a:lnTo>
                  <a:lnTo>
                    <a:pt x="95" y="18"/>
                  </a:lnTo>
                  <a:lnTo>
                    <a:pt x="126" y="28"/>
                  </a:lnTo>
                  <a:lnTo>
                    <a:pt x="162" y="43"/>
                  </a:lnTo>
                  <a:lnTo>
                    <a:pt x="199" y="59"/>
                  </a:lnTo>
                  <a:lnTo>
                    <a:pt x="231" y="71"/>
                  </a:lnTo>
                  <a:lnTo>
                    <a:pt x="258" y="81"/>
                  </a:lnTo>
                  <a:lnTo>
                    <a:pt x="283" y="88"/>
                  </a:lnTo>
                  <a:lnTo>
                    <a:pt x="304" y="96"/>
                  </a:lnTo>
                  <a:lnTo>
                    <a:pt x="322" y="103"/>
                  </a:lnTo>
                  <a:lnTo>
                    <a:pt x="340" y="111"/>
                  </a:lnTo>
                  <a:lnTo>
                    <a:pt x="354" y="119"/>
                  </a:lnTo>
                  <a:lnTo>
                    <a:pt x="369" y="129"/>
                  </a:lnTo>
                  <a:lnTo>
                    <a:pt x="384" y="139"/>
                  </a:lnTo>
                  <a:lnTo>
                    <a:pt x="397" y="149"/>
                  </a:lnTo>
                  <a:lnTo>
                    <a:pt x="409" y="160"/>
                  </a:lnTo>
                  <a:lnTo>
                    <a:pt x="413" y="166"/>
                  </a:lnTo>
                  <a:lnTo>
                    <a:pt x="417" y="171"/>
                  </a:lnTo>
                  <a:lnTo>
                    <a:pt x="420" y="177"/>
                  </a:lnTo>
                  <a:lnTo>
                    <a:pt x="421" y="182"/>
                  </a:lnTo>
                  <a:lnTo>
                    <a:pt x="422" y="187"/>
                  </a:lnTo>
                  <a:lnTo>
                    <a:pt x="421" y="193"/>
                  </a:lnTo>
                  <a:lnTo>
                    <a:pt x="418" y="198"/>
                  </a:lnTo>
                  <a:lnTo>
                    <a:pt x="415" y="203"/>
                  </a:lnTo>
                  <a:lnTo>
                    <a:pt x="410" y="208"/>
                  </a:lnTo>
                  <a:lnTo>
                    <a:pt x="404" y="210"/>
                  </a:lnTo>
                  <a:lnTo>
                    <a:pt x="395" y="211"/>
                  </a:lnTo>
                  <a:lnTo>
                    <a:pt x="385" y="211"/>
                  </a:lnTo>
                  <a:lnTo>
                    <a:pt x="374" y="210"/>
                  </a:lnTo>
                  <a:lnTo>
                    <a:pt x="362" y="209"/>
                  </a:lnTo>
                  <a:lnTo>
                    <a:pt x="348" y="205"/>
                  </a:lnTo>
                  <a:lnTo>
                    <a:pt x="335" y="202"/>
                  </a:lnTo>
                  <a:lnTo>
                    <a:pt x="305" y="193"/>
                  </a:lnTo>
                  <a:lnTo>
                    <a:pt x="276" y="183"/>
                  </a:lnTo>
                  <a:lnTo>
                    <a:pt x="245" y="172"/>
                  </a:lnTo>
                  <a:lnTo>
                    <a:pt x="217" y="162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7634160" y="2401920"/>
              <a:ext cx="119160" cy="57240"/>
            </a:xfrm>
            <a:custGeom>
              <a:avLst/>
              <a:gdLst/>
              <a:ahLst/>
              <a:rect l="l" t="t" r="r" b="b"/>
              <a:pathLst>
                <a:path w="376" h="184">
                  <a:moveTo>
                    <a:pt x="187" y="133"/>
                  </a:moveTo>
                  <a:lnTo>
                    <a:pt x="166" y="125"/>
                  </a:lnTo>
                  <a:lnTo>
                    <a:pt x="144" y="118"/>
                  </a:lnTo>
                  <a:lnTo>
                    <a:pt x="123" y="110"/>
                  </a:lnTo>
                  <a:lnTo>
                    <a:pt x="102" y="103"/>
                  </a:lnTo>
                  <a:lnTo>
                    <a:pt x="82" y="96"/>
                  </a:lnTo>
                  <a:lnTo>
                    <a:pt x="64" y="87"/>
                  </a:lnTo>
                  <a:lnTo>
                    <a:pt x="47" y="80"/>
                  </a:lnTo>
                  <a:lnTo>
                    <a:pt x="32" y="70"/>
                  </a:lnTo>
                  <a:lnTo>
                    <a:pt x="26" y="66"/>
                  </a:lnTo>
                  <a:lnTo>
                    <a:pt x="20" y="61"/>
                  </a:lnTo>
                  <a:lnTo>
                    <a:pt x="15" y="56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2" y="13"/>
                  </a:lnTo>
                  <a:lnTo>
                    <a:pt x="4" y="8"/>
                  </a:lnTo>
                  <a:lnTo>
                    <a:pt x="7" y="6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8" y="5"/>
                  </a:lnTo>
                  <a:lnTo>
                    <a:pt x="52" y="8"/>
                  </a:lnTo>
                  <a:lnTo>
                    <a:pt x="69" y="13"/>
                  </a:lnTo>
                  <a:lnTo>
                    <a:pt x="90" y="21"/>
                  </a:lnTo>
                  <a:lnTo>
                    <a:pt x="116" y="29"/>
                  </a:lnTo>
                  <a:lnTo>
                    <a:pt x="144" y="40"/>
                  </a:lnTo>
                  <a:lnTo>
                    <a:pt x="173" y="53"/>
                  </a:lnTo>
                  <a:lnTo>
                    <a:pt x="202" y="64"/>
                  </a:lnTo>
                  <a:lnTo>
                    <a:pt x="229" y="75"/>
                  </a:lnTo>
                  <a:lnTo>
                    <a:pt x="252" y="83"/>
                  </a:lnTo>
                  <a:lnTo>
                    <a:pt x="274" y="92"/>
                  </a:lnTo>
                  <a:lnTo>
                    <a:pt x="294" y="99"/>
                  </a:lnTo>
                  <a:lnTo>
                    <a:pt x="310" y="107"/>
                  </a:lnTo>
                  <a:lnTo>
                    <a:pt x="324" y="114"/>
                  </a:lnTo>
                  <a:lnTo>
                    <a:pt x="335" y="122"/>
                  </a:lnTo>
                  <a:lnTo>
                    <a:pt x="346" y="129"/>
                  </a:lnTo>
                  <a:lnTo>
                    <a:pt x="356" y="138"/>
                  </a:lnTo>
                  <a:lnTo>
                    <a:pt x="365" y="145"/>
                  </a:lnTo>
                  <a:lnTo>
                    <a:pt x="372" y="153"/>
                  </a:lnTo>
                  <a:lnTo>
                    <a:pt x="375" y="162"/>
                  </a:lnTo>
                  <a:lnTo>
                    <a:pt x="376" y="167"/>
                  </a:lnTo>
                  <a:lnTo>
                    <a:pt x="375" y="171"/>
                  </a:lnTo>
                  <a:lnTo>
                    <a:pt x="374" y="174"/>
                  </a:lnTo>
                  <a:lnTo>
                    <a:pt x="372" y="179"/>
                  </a:lnTo>
                  <a:lnTo>
                    <a:pt x="368" y="182"/>
                  </a:lnTo>
                  <a:lnTo>
                    <a:pt x="362" y="184"/>
                  </a:lnTo>
                  <a:lnTo>
                    <a:pt x="353" y="184"/>
                  </a:lnTo>
                  <a:lnTo>
                    <a:pt x="344" y="184"/>
                  </a:lnTo>
                  <a:lnTo>
                    <a:pt x="321" y="179"/>
                  </a:lnTo>
                  <a:lnTo>
                    <a:pt x="294" y="171"/>
                  </a:lnTo>
                  <a:lnTo>
                    <a:pt x="266" y="162"/>
                  </a:lnTo>
                  <a:lnTo>
                    <a:pt x="236" y="151"/>
                  </a:lnTo>
                  <a:lnTo>
                    <a:pt x="210" y="141"/>
                  </a:lnTo>
                  <a:lnTo>
                    <a:pt x="187" y="133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7640640" y="2403720"/>
              <a:ext cx="104760" cy="48960"/>
            </a:xfrm>
            <a:custGeom>
              <a:avLst/>
              <a:gdLst/>
              <a:ahLst/>
              <a:rect l="l" t="t" r="r" b="b"/>
              <a:pathLst>
                <a:path w="331" h="157">
                  <a:moveTo>
                    <a:pt x="155" y="103"/>
                  </a:moveTo>
                  <a:lnTo>
                    <a:pt x="140" y="97"/>
                  </a:lnTo>
                  <a:lnTo>
                    <a:pt x="123" y="91"/>
                  </a:lnTo>
                  <a:lnTo>
                    <a:pt x="103" y="85"/>
                  </a:lnTo>
                  <a:lnTo>
                    <a:pt x="85" y="77"/>
                  </a:lnTo>
                  <a:lnTo>
                    <a:pt x="66" y="71"/>
                  </a:lnTo>
                  <a:lnTo>
                    <a:pt x="49" y="65"/>
                  </a:lnTo>
                  <a:lnTo>
                    <a:pt x="34" y="57"/>
                  </a:lnTo>
                  <a:lnTo>
                    <a:pt x="22" y="51"/>
                  </a:lnTo>
                  <a:lnTo>
                    <a:pt x="13" y="45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3" y="3"/>
                  </a:lnTo>
                  <a:lnTo>
                    <a:pt x="34" y="7"/>
                  </a:lnTo>
                  <a:lnTo>
                    <a:pt x="48" y="11"/>
                  </a:lnTo>
                  <a:lnTo>
                    <a:pt x="65" y="17"/>
                  </a:lnTo>
                  <a:lnTo>
                    <a:pt x="84" y="23"/>
                  </a:lnTo>
                  <a:lnTo>
                    <a:pt x="104" y="30"/>
                  </a:lnTo>
                  <a:lnTo>
                    <a:pt x="125" y="38"/>
                  </a:lnTo>
                  <a:lnTo>
                    <a:pt x="149" y="48"/>
                  </a:lnTo>
                  <a:lnTo>
                    <a:pt x="173" y="57"/>
                  </a:lnTo>
                  <a:lnTo>
                    <a:pt x="198" y="67"/>
                  </a:lnTo>
                  <a:lnTo>
                    <a:pt x="223" y="77"/>
                  </a:lnTo>
                  <a:lnTo>
                    <a:pt x="246" y="87"/>
                  </a:lnTo>
                  <a:lnTo>
                    <a:pt x="267" y="96"/>
                  </a:lnTo>
                  <a:lnTo>
                    <a:pt x="283" y="103"/>
                  </a:lnTo>
                  <a:lnTo>
                    <a:pt x="294" y="109"/>
                  </a:lnTo>
                  <a:lnTo>
                    <a:pt x="303" y="113"/>
                  </a:lnTo>
                  <a:lnTo>
                    <a:pt x="310" y="119"/>
                  </a:lnTo>
                  <a:lnTo>
                    <a:pt x="317" y="124"/>
                  </a:lnTo>
                  <a:lnTo>
                    <a:pt x="323" y="130"/>
                  </a:lnTo>
                  <a:lnTo>
                    <a:pt x="328" y="136"/>
                  </a:lnTo>
                  <a:lnTo>
                    <a:pt x="331" y="142"/>
                  </a:lnTo>
                  <a:lnTo>
                    <a:pt x="331" y="146"/>
                  </a:lnTo>
                  <a:lnTo>
                    <a:pt x="330" y="148"/>
                  </a:lnTo>
                  <a:lnTo>
                    <a:pt x="328" y="152"/>
                  </a:lnTo>
                  <a:lnTo>
                    <a:pt x="327" y="155"/>
                  </a:lnTo>
                  <a:lnTo>
                    <a:pt x="323" y="157"/>
                  </a:lnTo>
                  <a:lnTo>
                    <a:pt x="317" y="157"/>
                  </a:lnTo>
                  <a:lnTo>
                    <a:pt x="310" y="156"/>
                  </a:lnTo>
                  <a:lnTo>
                    <a:pt x="301" y="155"/>
                  </a:lnTo>
                  <a:lnTo>
                    <a:pt x="278" y="148"/>
                  </a:lnTo>
                  <a:lnTo>
                    <a:pt x="252" y="140"/>
                  </a:lnTo>
                  <a:lnTo>
                    <a:pt x="225" y="129"/>
                  </a:lnTo>
                  <a:lnTo>
                    <a:pt x="198" y="119"/>
                  </a:lnTo>
                  <a:lnTo>
                    <a:pt x="175" y="110"/>
                  </a:lnTo>
                  <a:lnTo>
                    <a:pt x="155" y="103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7648560" y="2405160"/>
              <a:ext cx="88920" cy="41400"/>
            </a:xfrm>
            <a:custGeom>
              <a:avLst/>
              <a:gdLst/>
              <a:ahLst/>
              <a:rect l="l" t="t" r="r" b="b"/>
              <a:pathLst>
                <a:path w="284" h="129">
                  <a:moveTo>
                    <a:pt x="9" y="0"/>
                  </a:moveTo>
                  <a:lnTo>
                    <a:pt x="11" y="1"/>
                  </a:lnTo>
                  <a:lnTo>
                    <a:pt x="20" y="4"/>
                  </a:lnTo>
                  <a:lnTo>
                    <a:pt x="31" y="7"/>
                  </a:lnTo>
                  <a:lnTo>
                    <a:pt x="46" y="12"/>
                  </a:lnTo>
                  <a:lnTo>
                    <a:pt x="62" y="18"/>
                  </a:lnTo>
                  <a:lnTo>
                    <a:pt x="78" y="23"/>
                  </a:lnTo>
                  <a:lnTo>
                    <a:pt x="92" y="29"/>
                  </a:lnTo>
                  <a:lnTo>
                    <a:pt x="106" y="35"/>
                  </a:lnTo>
                  <a:lnTo>
                    <a:pt x="123" y="42"/>
                  </a:lnTo>
                  <a:lnTo>
                    <a:pt x="144" y="50"/>
                  </a:lnTo>
                  <a:lnTo>
                    <a:pt x="169" y="60"/>
                  </a:lnTo>
                  <a:lnTo>
                    <a:pt x="193" y="71"/>
                  </a:lnTo>
                  <a:lnTo>
                    <a:pt x="218" y="81"/>
                  </a:lnTo>
                  <a:lnTo>
                    <a:pt x="239" y="90"/>
                  </a:lnTo>
                  <a:lnTo>
                    <a:pt x="255" y="96"/>
                  </a:lnTo>
                  <a:lnTo>
                    <a:pt x="263" y="101"/>
                  </a:lnTo>
                  <a:lnTo>
                    <a:pt x="268" y="103"/>
                  </a:lnTo>
                  <a:lnTo>
                    <a:pt x="272" y="107"/>
                  </a:lnTo>
                  <a:lnTo>
                    <a:pt x="277" y="111"/>
                  </a:lnTo>
                  <a:lnTo>
                    <a:pt x="281" y="114"/>
                  </a:lnTo>
                  <a:lnTo>
                    <a:pt x="283" y="118"/>
                  </a:lnTo>
                  <a:lnTo>
                    <a:pt x="284" y="120"/>
                  </a:lnTo>
                  <a:lnTo>
                    <a:pt x="284" y="124"/>
                  </a:lnTo>
                  <a:lnTo>
                    <a:pt x="283" y="128"/>
                  </a:lnTo>
                  <a:lnTo>
                    <a:pt x="281" y="129"/>
                  </a:lnTo>
                  <a:lnTo>
                    <a:pt x="274" y="129"/>
                  </a:lnTo>
                  <a:lnTo>
                    <a:pt x="267" y="127"/>
                  </a:lnTo>
                  <a:lnTo>
                    <a:pt x="258" y="124"/>
                  </a:lnTo>
                  <a:lnTo>
                    <a:pt x="236" y="117"/>
                  </a:lnTo>
                  <a:lnTo>
                    <a:pt x="210" y="107"/>
                  </a:lnTo>
                  <a:lnTo>
                    <a:pt x="183" y="97"/>
                  </a:lnTo>
                  <a:lnTo>
                    <a:pt x="159" y="86"/>
                  </a:lnTo>
                  <a:lnTo>
                    <a:pt x="139" y="79"/>
                  </a:lnTo>
                  <a:lnTo>
                    <a:pt x="126" y="72"/>
                  </a:lnTo>
                  <a:lnTo>
                    <a:pt x="114" y="69"/>
                  </a:lnTo>
                  <a:lnTo>
                    <a:pt x="101" y="64"/>
                  </a:lnTo>
                  <a:lnTo>
                    <a:pt x="84" y="58"/>
                  </a:lnTo>
                  <a:lnTo>
                    <a:pt x="66" y="51"/>
                  </a:lnTo>
                  <a:lnTo>
                    <a:pt x="49" y="45"/>
                  </a:lnTo>
                  <a:lnTo>
                    <a:pt x="33" y="39"/>
                  </a:lnTo>
                  <a:lnTo>
                    <a:pt x="20" y="33"/>
                  </a:lnTo>
                  <a:lnTo>
                    <a:pt x="11" y="29"/>
                  </a:lnTo>
                  <a:lnTo>
                    <a:pt x="6" y="26"/>
                  </a:lnTo>
                  <a:lnTo>
                    <a:pt x="2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2"/>
                  </a:lnTo>
                  <a:lnTo>
                    <a:pt x="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7634160" y="2452680"/>
              <a:ext cx="133560" cy="68400"/>
            </a:xfrm>
            <a:custGeom>
              <a:avLst/>
              <a:gdLst/>
              <a:ahLst/>
              <a:rect l="l" t="t" r="r" b="b"/>
              <a:pathLst>
                <a:path w="423" h="215">
                  <a:moveTo>
                    <a:pt x="220" y="163"/>
                  </a:moveTo>
                  <a:lnTo>
                    <a:pt x="193" y="153"/>
                  </a:lnTo>
                  <a:lnTo>
                    <a:pt x="167" y="145"/>
                  </a:lnTo>
                  <a:lnTo>
                    <a:pt x="143" y="137"/>
                  </a:lnTo>
                  <a:lnTo>
                    <a:pt x="120" y="130"/>
                  </a:lnTo>
                  <a:lnTo>
                    <a:pt x="99" y="123"/>
                  </a:lnTo>
                  <a:lnTo>
                    <a:pt x="78" y="114"/>
                  </a:lnTo>
                  <a:lnTo>
                    <a:pt x="59" y="105"/>
                  </a:lnTo>
                  <a:lnTo>
                    <a:pt x="40" y="96"/>
                  </a:lnTo>
                  <a:lnTo>
                    <a:pt x="32" y="89"/>
                  </a:lnTo>
                  <a:lnTo>
                    <a:pt x="24" y="83"/>
                  </a:lnTo>
                  <a:lnTo>
                    <a:pt x="18" y="76"/>
                  </a:lnTo>
                  <a:lnTo>
                    <a:pt x="13" y="69"/>
                  </a:lnTo>
                  <a:lnTo>
                    <a:pt x="8" y="61"/>
                  </a:lnTo>
                  <a:lnTo>
                    <a:pt x="4" y="54"/>
                  </a:lnTo>
                  <a:lnTo>
                    <a:pt x="2" y="46"/>
                  </a:lnTo>
                  <a:lnTo>
                    <a:pt x="1" y="39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8" y="8"/>
                  </a:lnTo>
                  <a:lnTo>
                    <a:pt x="13" y="5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3" y="1"/>
                  </a:lnTo>
                  <a:lnTo>
                    <a:pt x="41" y="3"/>
                  </a:lnTo>
                  <a:lnTo>
                    <a:pt x="55" y="7"/>
                  </a:lnTo>
                  <a:lnTo>
                    <a:pt x="72" y="12"/>
                  </a:lnTo>
                  <a:lnTo>
                    <a:pt x="97" y="21"/>
                  </a:lnTo>
                  <a:lnTo>
                    <a:pt x="126" y="32"/>
                  </a:lnTo>
                  <a:lnTo>
                    <a:pt x="162" y="46"/>
                  </a:lnTo>
                  <a:lnTo>
                    <a:pt x="199" y="61"/>
                  </a:lnTo>
                  <a:lnTo>
                    <a:pt x="232" y="73"/>
                  </a:lnTo>
                  <a:lnTo>
                    <a:pt x="259" y="83"/>
                  </a:lnTo>
                  <a:lnTo>
                    <a:pt x="284" y="92"/>
                  </a:lnTo>
                  <a:lnTo>
                    <a:pt x="305" y="99"/>
                  </a:lnTo>
                  <a:lnTo>
                    <a:pt x="323" y="107"/>
                  </a:lnTo>
                  <a:lnTo>
                    <a:pt x="340" y="114"/>
                  </a:lnTo>
                  <a:lnTo>
                    <a:pt x="355" y="123"/>
                  </a:lnTo>
                  <a:lnTo>
                    <a:pt x="370" y="131"/>
                  </a:lnTo>
                  <a:lnTo>
                    <a:pt x="383" y="141"/>
                  </a:lnTo>
                  <a:lnTo>
                    <a:pt x="397" y="151"/>
                  </a:lnTo>
                  <a:lnTo>
                    <a:pt x="409" y="162"/>
                  </a:lnTo>
                  <a:lnTo>
                    <a:pt x="413" y="168"/>
                  </a:lnTo>
                  <a:lnTo>
                    <a:pt x="418" y="173"/>
                  </a:lnTo>
                  <a:lnTo>
                    <a:pt x="420" y="179"/>
                  </a:lnTo>
                  <a:lnTo>
                    <a:pt x="423" y="185"/>
                  </a:lnTo>
                  <a:lnTo>
                    <a:pt x="423" y="190"/>
                  </a:lnTo>
                  <a:lnTo>
                    <a:pt x="423" y="196"/>
                  </a:lnTo>
                  <a:lnTo>
                    <a:pt x="420" y="201"/>
                  </a:lnTo>
                  <a:lnTo>
                    <a:pt x="418" y="206"/>
                  </a:lnTo>
                  <a:lnTo>
                    <a:pt x="413" y="211"/>
                  </a:lnTo>
                  <a:lnTo>
                    <a:pt x="406" y="214"/>
                  </a:lnTo>
                  <a:lnTo>
                    <a:pt x="397" y="215"/>
                  </a:lnTo>
                  <a:lnTo>
                    <a:pt x="387" y="215"/>
                  </a:lnTo>
                  <a:lnTo>
                    <a:pt x="376" y="214"/>
                  </a:lnTo>
                  <a:lnTo>
                    <a:pt x="364" y="212"/>
                  </a:lnTo>
                  <a:lnTo>
                    <a:pt x="350" y="209"/>
                  </a:lnTo>
                  <a:lnTo>
                    <a:pt x="337" y="205"/>
                  </a:lnTo>
                  <a:lnTo>
                    <a:pt x="307" y="196"/>
                  </a:lnTo>
                  <a:lnTo>
                    <a:pt x="276" y="185"/>
                  </a:lnTo>
                  <a:lnTo>
                    <a:pt x="247" y="174"/>
                  </a:lnTo>
                  <a:lnTo>
                    <a:pt x="220" y="163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7640640" y="2454480"/>
              <a:ext cx="119160" cy="5868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187" y="133"/>
                  </a:moveTo>
                  <a:lnTo>
                    <a:pt x="166" y="125"/>
                  </a:lnTo>
                  <a:lnTo>
                    <a:pt x="144" y="118"/>
                  </a:lnTo>
                  <a:lnTo>
                    <a:pt x="123" y="110"/>
                  </a:lnTo>
                  <a:lnTo>
                    <a:pt x="102" y="103"/>
                  </a:lnTo>
                  <a:lnTo>
                    <a:pt x="82" y="96"/>
                  </a:lnTo>
                  <a:lnTo>
                    <a:pt x="62" y="88"/>
                  </a:lnTo>
                  <a:lnTo>
                    <a:pt x="46" y="81"/>
                  </a:lnTo>
                  <a:lnTo>
                    <a:pt x="32" y="72"/>
                  </a:lnTo>
                  <a:lnTo>
                    <a:pt x="24" y="69"/>
                  </a:lnTo>
                  <a:lnTo>
                    <a:pt x="18" y="64"/>
                  </a:lnTo>
                  <a:lnTo>
                    <a:pt x="13" y="58"/>
                  </a:lnTo>
                  <a:lnTo>
                    <a:pt x="10" y="53"/>
                  </a:lnTo>
                  <a:lnTo>
                    <a:pt x="6" y="47"/>
                  </a:lnTo>
                  <a:lnTo>
                    <a:pt x="2" y="40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38" y="5"/>
                  </a:lnTo>
                  <a:lnTo>
                    <a:pt x="51" y="8"/>
                  </a:lnTo>
                  <a:lnTo>
                    <a:pt x="69" y="15"/>
                  </a:lnTo>
                  <a:lnTo>
                    <a:pt x="89" y="22"/>
                  </a:lnTo>
                  <a:lnTo>
                    <a:pt x="114" y="32"/>
                  </a:lnTo>
                  <a:lnTo>
                    <a:pt x="142" y="43"/>
                  </a:lnTo>
                  <a:lnTo>
                    <a:pt x="173" y="55"/>
                  </a:lnTo>
                  <a:lnTo>
                    <a:pt x="201" y="65"/>
                  </a:lnTo>
                  <a:lnTo>
                    <a:pt x="228" y="75"/>
                  </a:lnTo>
                  <a:lnTo>
                    <a:pt x="253" y="85"/>
                  </a:lnTo>
                  <a:lnTo>
                    <a:pt x="275" y="92"/>
                  </a:lnTo>
                  <a:lnTo>
                    <a:pt x="295" y="101"/>
                  </a:lnTo>
                  <a:lnTo>
                    <a:pt x="312" y="107"/>
                  </a:lnTo>
                  <a:lnTo>
                    <a:pt x="324" y="113"/>
                  </a:lnTo>
                  <a:lnTo>
                    <a:pt x="336" y="122"/>
                  </a:lnTo>
                  <a:lnTo>
                    <a:pt x="347" y="129"/>
                  </a:lnTo>
                  <a:lnTo>
                    <a:pt x="356" y="138"/>
                  </a:lnTo>
                  <a:lnTo>
                    <a:pt x="365" y="146"/>
                  </a:lnTo>
                  <a:lnTo>
                    <a:pt x="371" y="155"/>
                  </a:lnTo>
                  <a:lnTo>
                    <a:pt x="375" y="163"/>
                  </a:lnTo>
                  <a:lnTo>
                    <a:pt x="375" y="167"/>
                  </a:lnTo>
                  <a:lnTo>
                    <a:pt x="375" y="171"/>
                  </a:lnTo>
                  <a:lnTo>
                    <a:pt x="374" y="176"/>
                  </a:lnTo>
                  <a:lnTo>
                    <a:pt x="371" y="178"/>
                  </a:lnTo>
                  <a:lnTo>
                    <a:pt x="366" y="182"/>
                  </a:lnTo>
                  <a:lnTo>
                    <a:pt x="360" y="184"/>
                  </a:lnTo>
                  <a:lnTo>
                    <a:pt x="353" y="184"/>
                  </a:lnTo>
                  <a:lnTo>
                    <a:pt x="343" y="184"/>
                  </a:lnTo>
                  <a:lnTo>
                    <a:pt x="321" y="179"/>
                  </a:lnTo>
                  <a:lnTo>
                    <a:pt x="294" y="172"/>
                  </a:lnTo>
                  <a:lnTo>
                    <a:pt x="265" y="162"/>
                  </a:lnTo>
                  <a:lnTo>
                    <a:pt x="237" y="152"/>
                  </a:lnTo>
                  <a:lnTo>
                    <a:pt x="210" y="141"/>
                  </a:lnTo>
                  <a:lnTo>
                    <a:pt x="187" y="133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7647120" y="2455920"/>
              <a:ext cx="104760" cy="49320"/>
            </a:xfrm>
            <a:custGeom>
              <a:avLst/>
              <a:gdLst/>
              <a:ahLst/>
              <a:rect l="l" t="t" r="r" b="b"/>
              <a:pathLst>
                <a:path w="331" h="158">
                  <a:moveTo>
                    <a:pt x="157" y="103"/>
                  </a:moveTo>
                  <a:lnTo>
                    <a:pt x="141" y="98"/>
                  </a:lnTo>
                  <a:lnTo>
                    <a:pt x="123" y="92"/>
                  </a:lnTo>
                  <a:lnTo>
                    <a:pt x="103" y="85"/>
                  </a:lnTo>
                  <a:lnTo>
                    <a:pt x="84" y="78"/>
                  </a:lnTo>
                  <a:lnTo>
                    <a:pt x="66" y="71"/>
                  </a:lnTo>
                  <a:lnTo>
                    <a:pt x="49" y="65"/>
                  </a:lnTo>
                  <a:lnTo>
                    <a:pt x="33" y="58"/>
                  </a:lnTo>
                  <a:lnTo>
                    <a:pt x="22" y="51"/>
                  </a:lnTo>
                  <a:lnTo>
                    <a:pt x="13" y="45"/>
                  </a:lnTo>
                  <a:lnTo>
                    <a:pt x="7" y="37"/>
                  </a:lnTo>
                  <a:lnTo>
                    <a:pt x="2" y="29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6" y="5"/>
                  </a:lnTo>
                  <a:lnTo>
                    <a:pt x="8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5" y="3"/>
                  </a:lnTo>
                  <a:lnTo>
                    <a:pt x="35" y="6"/>
                  </a:lnTo>
                  <a:lnTo>
                    <a:pt x="49" y="11"/>
                  </a:lnTo>
                  <a:lnTo>
                    <a:pt x="65" y="17"/>
                  </a:lnTo>
                  <a:lnTo>
                    <a:pt x="83" y="24"/>
                  </a:lnTo>
                  <a:lnTo>
                    <a:pt x="103" y="32"/>
                  </a:lnTo>
                  <a:lnTo>
                    <a:pt x="125" y="40"/>
                  </a:lnTo>
                  <a:lnTo>
                    <a:pt x="148" y="50"/>
                  </a:lnTo>
                  <a:lnTo>
                    <a:pt x="173" y="60"/>
                  </a:lnTo>
                  <a:lnTo>
                    <a:pt x="199" y="70"/>
                  </a:lnTo>
                  <a:lnTo>
                    <a:pt x="223" y="78"/>
                  </a:lnTo>
                  <a:lnTo>
                    <a:pt x="246" y="87"/>
                  </a:lnTo>
                  <a:lnTo>
                    <a:pt x="265" y="96"/>
                  </a:lnTo>
                  <a:lnTo>
                    <a:pt x="283" y="103"/>
                  </a:lnTo>
                  <a:lnTo>
                    <a:pt x="292" y="108"/>
                  </a:lnTo>
                  <a:lnTo>
                    <a:pt x="301" y="114"/>
                  </a:lnTo>
                  <a:lnTo>
                    <a:pt x="310" y="119"/>
                  </a:lnTo>
                  <a:lnTo>
                    <a:pt x="317" y="125"/>
                  </a:lnTo>
                  <a:lnTo>
                    <a:pt x="323" y="131"/>
                  </a:lnTo>
                  <a:lnTo>
                    <a:pt x="328" y="137"/>
                  </a:lnTo>
                  <a:lnTo>
                    <a:pt x="331" y="144"/>
                  </a:lnTo>
                  <a:lnTo>
                    <a:pt x="331" y="146"/>
                  </a:lnTo>
                  <a:lnTo>
                    <a:pt x="331" y="150"/>
                  </a:lnTo>
                  <a:lnTo>
                    <a:pt x="331" y="152"/>
                  </a:lnTo>
                  <a:lnTo>
                    <a:pt x="328" y="155"/>
                  </a:lnTo>
                  <a:lnTo>
                    <a:pt x="324" y="157"/>
                  </a:lnTo>
                  <a:lnTo>
                    <a:pt x="318" y="158"/>
                  </a:lnTo>
                  <a:lnTo>
                    <a:pt x="311" y="157"/>
                  </a:lnTo>
                  <a:lnTo>
                    <a:pt x="301" y="156"/>
                  </a:lnTo>
                  <a:lnTo>
                    <a:pt x="278" y="150"/>
                  </a:lnTo>
                  <a:lnTo>
                    <a:pt x="252" y="141"/>
                  </a:lnTo>
                  <a:lnTo>
                    <a:pt x="225" y="131"/>
                  </a:lnTo>
                  <a:lnTo>
                    <a:pt x="198" y="120"/>
                  </a:lnTo>
                  <a:lnTo>
                    <a:pt x="174" y="110"/>
                  </a:lnTo>
                  <a:lnTo>
                    <a:pt x="157" y="103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7653240" y="2457720"/>
              <a:ext cx="90720" cy="41040"/>
            </a:xfrm>
            <a:custGeom>
              <a:avLst/>
              <a:gdLst/>
              <a:ahLst/>
              <a:rect l="l" t="t" r="r" b="b"/>
              <a:pathLst>
                <a:path w="286" h="130">
                  <a:moveTo>
                    <a:pt x="9" y="0"/>
                  </a:moveTo>
                  <a:lnTo>
                    <a:pt x="13" y="0"/>
                  </a:lnTo>
                  <a:lnTo>
                    <a:pt x="20" y="4"/>
                  </a:lnTo>
                  <a:lnTo>
                    <a:pt x="32" y="7"/>
                  </a:lnTo>
                  <a:lnTo>
                    <a:pt x="46" y="13"/>
                  </a:lnTo>
                  <a:lnTo>
                    <a:pt x="62" y="20"/>
                  </a:lnTo>
                  <a:lnTo>
                    <a:pt x="79" y="26"/>
                  </a:lnTo>
                  <a:lnTo>
                    <a:pt x="95" y="32"/>
                  </a:lnTo>
                  <a:lnTo>
                    <a:pt x="110" y="37"/>
                  </a:lnTo>
                  <a:lnTo>
                    <a:pt x="126" y="44"/>
                  </a:lnTo>
                  <a:lnTo>
                    <a:pt x="146" y="52"/>
                  </a:lnTo>
                  <a:lnTo>
                    <a:pt x="170" y="61"/>
                  </a:lnTo>
                  <a:lnTo>
                    <a:pt x="195" y="72"/>
                  </a:lnTo>
                  <a:lnTo>
                    <a:pt x="218" y="82"/>
                  </a:lnTo>
                  <a:lnTo>
                    <a:pt x="239" y="91"/>
                  </a:lnTo>
                  <a:lnTo>
                    <a:pt x="255" y="98"/>
                  </a:lnTo>
                  <a:lnTo>
                    <a:pt x="265" y="102"/>
                  </a:lnTo>
                  <a:lnTo>
                    <a:pt x="270" y="106"/>
                  </a:lnTo>
                  <a:lnTo>
                    <a:pt x="275" y="109"/>
                  </a:lnTo>
                  <a:lnTo>
                    <a:pt x="279" y="113"/>
                  </a:lnTo>
                  <a:lnTo>
                    <a:pt x="282" y="117"/>
                  </a:lnTo>
                  <a:lnTo>
                    <a:pt x="285" y="119"/>
                  </a:lnTo>
                  <a:lnTo>
                    <a:pt x="286" y="123"/>
                  </a:lnTo>
                  <a:lnTo>
                    <a:pt x="286" y="127"/>
                  </a:lnTo>
                  <a:lnTo>
                    <a:pt x="283" y="130"/>
                  </a:lnTo>
                  <a:lnTo>
                    <a:pt x="281" y="130"/>
                  </a:lnTo>
                  <a:lnTo>
                    <a:pt x="276" y="130"/>
                  </a:lnTo>
                  <a:lnTo>
                    <a:pt x="270" y="129"/>
                  </a:lnTo>
                  <a:lnTo>
                    <a:pt x="260" y="125"/>
                  </a:lnTo>
                  <a:lnTo>
                    <a:pt x="238" y="118"/>
                  </a:lnTo>
                  <a:lnTo>
                    <a:pt x="212" y="108"/>
                  </a:lnTo>
                  <a:lnTo>
                    <a:pt x="185" y="98"/>
                  </a:lnTo>
                  <a:lnTo>
                    <a:pt x="160" y="88"/>
                  </a:lnTo>
                  <a:lnTo>
                    <a:pt x="140" y="80"/>
                  </a:lnTo>
                  <a:lnTo>
                    <a:pt x="126" y="75"/>
                  </a:lnTo>
                  <a:lnTo>
                    <a:pt x="116" y="71"/>
                  </a:lnTo>
                  <a:lnTo>
                    <a:pt x="101" y="65"/>
                  </a:lnTo>
                  <a:lnTo>
                    <a:pt x="85" y="59"/>
                  </a:lnTo>
                  <a:lnTo>
                    <a:pt x="67" y="53"/>
                  </a:lnTo>
                  <a:lnTo>
                    <a:pt x="51" y="45"/>
                  </a:lnTo>
                  <a:lnTo>
                    <a:pt x="35" y="39"/>
                  </a:lnTo>
                  <a:lnTo>
                    <a:pt x="23" y="34"/>
                  </a:lnTo>
                  <a:lnTo>
                    <a:pt x="15" y="29"/>
                  </a:lnTo>
                  <a:lnTo>
                    <a:pt x="9" y="26"/>
                  </a:lnTo>
                  <a:lnTo>
                    <a:pt x="5" y="22"/>
                  </a:lnTo>
                  <a:lnTo>
                    <a:pt x="3" y="17"/>
                  </a:lnTo>
                  <a:lnTo>
                    <a:pt x="0" y="12"/>
                  </a:lnTo>
                  <a:lnTo>
                    <a:pt x="0" y="7"/>
                  </a:lnTo>
                  <a:lnTo>
                    <a:pt x="2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7493040" y="2584440"/>
              <a:ext cx="181080" cy="98640"/>
            </a:xfrm>
            <a:custGeom>
              <a:avLst/>
              <a:gdLst/>
              <a:ahLst/>
              <a:rect l="l" t="t" r="r" b="b"/>
              <a:pathLst>
                <a:path w="569" h="307">
                  <a:moveTo>
                    <a:pt x="569" y="0"/>
                  </a:moveTo>
                  <a:lnTo>
                    <a:pt x="562" y="5"/>
                  </a:lnTo>
                  <a:lnTo>
                    <a:pt x="542" y="15"/>
                  </a:lnTo>
                  <a:lnTo>
                    <a:pt x="511" y="29"/>
                  </a:lnTo>
                  <a:lnTo>
                    <a:pt x="475" y="48"/>
                  </a:lnTo>
                  <a:lnTo>
                    <a:pt x="434" y="66"/>
                  </a:lnTo>
                  <a:lnTo>
                    <a:pt x="392" y="83"/>
                  </a:lnTo>
                  <a:lnTo>
                    <a:pt x="372" y="92"/>
                  </a:lnTo>
                  <a:lnTo>
                    <a:pt x="353" y="99"/>
                  </a:lnTo>
                  <a:lnTo>
                    <a:pt x="335" y="104"/>
                  </a:lnTo>
                  <a:lnTo>
                    <a:pt x="319" y="109"/>
                  </a:lnTo>
                  <a:lnTo>
                    <a:pt x="285" y="118"/>
                  </a:lnTo>
                  <a:lnTo>
                    <a:pt x="243" y="129"/>
                  </a:lnTo>
                  <a:lnTo>
                    <a:pt x="221" y="136"/>
                  </a:lnTo>
                  <a:lnTo>
                    <a:pt x="198" y="145"/>
                  </a:lnTo>
                  <a:lnTo>
                    <a:pt x="173" y="155"/>
                  </a:lnTo>
                  <a:lnTo>
                    <a:pt x="150" y="166"/>
                  </a:lnTo>
                  <a:lnTo>
                    <a:pt x="125" y="177"/>
                  </a:lnTo>
                  <a:lnTo>
                    <a:pt x="103" y="190"/>
                  </a:lnTo>
                  <a:lnTo>
                    <a:pt x="81" y="206"/>
                  </a:lnTo>
                  <a:lnTo>
                    <a:pt x="60" y="222"/>
                  </a:lnTo>
                  <a:lnTo>
                    <a:pt x="50" y="232"/>
                  </a:lnTo>
                  <a:lnTo>
                    <a:pt x="41" y="241"/>
                  </a:lnTo>
                  <a:lnTo>
                    <a:pt x="33" y="251"/>
                  </a:lnTo>
                  <a:lnTo>
                    <a:pt x="24" y="262"/>
                  </a:lnTo>
                  <a:lnTo>
                    <a:pt x="17" y="272"/>
                  </a:lnTo>
                  <a:lnTo>
                    <a:pt x="11" y="283"/>
                  </a:lnTo>
                  <a:lnTo>
                    <a:pt x="5" y="295"/>
                  </a:lnTo>
                  <a:lnTo>
                    <a:pt x="0" y="307"/>
                  </a:lnTo>
                </a:path>
              </a:pathLst>
            </a:custGeom>
            <a:noFill/>
            <a:ln w="3240">
              <a:solidFill>
                <a:srgbClr val="4535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7570800" y="2430720"/>
              <a:ext cx="128520" cy="153720"/>
            </a:xfrm>
            <a:custGeom>
              <a:avLst/>
              <a:gdLst/>
              <a:ahLst/>
              <a:rect l="l" t="t" r="r" b="b"/>
              <a:pathLst>
                <a:path w="406" h="483">
                  <a:moveTo>
                    <a:pt x="384" y="443"/>
                  </a:moveTo>
                  <a:lnTo>
                    <a:pt x="384" y="446"/>
                  </a:lnTo>
                  <a:lnTo>
                    <a:pt x="382" y="449"/>
                  </a:lnTo>
                  <a:lnTo>
                    <a:pt x="378" y="454"/>
                  </a:lnTo>
                  <a:lnTo>
                    <a:pt x="371" y="460"/>
                  </a:lnTo>
                  <a:lnTo>
                    <a:pt x="364" y="462"/>
                  </a:lnTo>
                  <a:lnTo>
                    <a:pt x="358" y="464"/>
                  </a:lnTo>
                  <a:lnTo>
                    <a:pt x="350" y="465"/>
                  </a:lnTo>
                  <a:lnTo>
                    <a:pt x="339" y="467"/>
                  </a:lnTo>
                  <a:lnTo>
                    <a:pt x="327" y="467"/>
                  </a:lnTo>
                  <a:lnTo>
                    <a:pt x="313" y="465"/>
                  </a:lnTo>
                  <a:lnTo>
                    <a:pt x="297" y="463"/>
                  </a:lnTo>
                  <a:lnTo>
                    <a:pt x="278" y="460"/>
                  </a:lnTo>
                  <a:lnTo>
                    <a:pt x="241" y="453"/>
                  </a:lnTo>
                  <a:lnTo>
                    <a:pt x="211" y="444"/>
                  </a:lnTo>
                  <a:lnTo>
                    <a:pt x="187" y="437"/>
                  </a:lnTo>
                  <a:lnTo>
                    <a:pt x="170" y="430"/>
                  </a:lnTo>
                  <a:lnTo>
                    <a:pt x="156" y="422"/>
                  </a:lnTo>
                  <a:lnTo>
                    <a:pt x="148" y="415"/>
                  </a:lnTo>
                  <a:lnTo>
                    <a:pt x="143" y="409"/>
                  </a:lnTo>
                  <a:lnTo>
                    <a:pt x="139" y="403"/>
                  </a:lnTo>
                  <a:lnTo>
                    <a:pt x="137" y="397"/>
                  </a:lnTo>
                  <a:lnTo>
                    <a:pt x="133" y="388"/>
                  </a:lnTo>
                  <a:lnTo>
                    <a:pt x="131" y="378"/>
                  </a:lnTo>
                  <a:lnTo>
                    <a:pt x="128" y="366"/>
                  </a:lnTo>
                  <a:lnTo>
                    <a:pt x="127" y="351"/>
                  </a:lnTo>
                  <a:lnTo>
                    <a:pt x="126" y="335"/>
                  </a:lnTo>
                  <a:lnTo>
                    <a:pt x="126" y="317"/>
                  </a:lnTo>
                  <a:lnTo>
                    <a:pt x="126" y="297"/>
                  </a:lnTo>
                  <a:lnTo>
                    <a:pt x="127" y="280"/>
                  </a:lnTo>
                  <a:lnTo>
                    <a:pt x="127" y="265"/>
                  </a:lnTo>
                  <a:lnTo>
                    <a:pt x="128" y="253"/>
                  </a:lnTo>
                  <a:lnTo>
                    <a:pt x="128" y="244"/>
                  </a:lnTo>
                  <a:lnTo>
                    <a:pt x="128" y="237"/>
                  </a:lnTo>
                  <a:lnTo>
                    <a:pt x="128" y="233"/>
                  </a:lnTo>
                  <a:lnTo>
                    <a:pt x="128" y="229"/>
                  </a:lnTo>
                  <a:lnTo>
                    <a:pt x="128" y="229"/>
                  </a:lnTo>
                  <a:lnTo>
                    <a:pt x="127" y="235"/>
                  </a:lnTo>
                  <a:lnTo>
                    <a:pt x="121" y="251"/>
                  </a:lnTo>
                  <a:lnTo>
                    <a:pt x="115" y="275"/>
                  </a:lnTo>
                  <a:lnTo>
                    <a:pt x="110" y="303"/>
                  </a:lnTo>
                  <a:lnTo>
                    <a:pt x="108" y="319"/>
                  </a:lnTo>
                  <a:lnTo>
                    <a:pt x="107" y="335"/>
                  </a:lnTo>
                  <a:lnTo>
                    <a:pt x="108" y="350"/>
                  </a:lnTo>
                  <a:lnTo>
                    <a:pt x="110" y="366"/>
                  </a:lnTo>
                  <a:lnTo>
                    <a:pt x="113" y="381"/>
                  </a:lnTo>
                  <a:lnTo>
                    <a:pt x="120" y="394"/>
                  </a:lnTo>
                  <a:lnTo>
                    <a:pt x="122" y="400"/>
                  </a:lnTo>
                  <a:lnTo>
                    <a:pt x="127" y="406"/>
                  </a:lnTo>
                  <a:lnTo>
                    <a:pt x="132" y="411"/>
                  </a:lnTo>
                  <a:lnTo>
                    <a:pt x="137" y="416"/>
                  </a:lnTo>
                  <a:lnTo>
                    <a:pt x="218" y="463"/>
                  </a:lnTo>
                  <a:lnTo>
                    <a:pt x="217" y="463"/>
                  </a:lnTo>
                  <a:lnTo>
                    <a:pt x="214" y="464"/>
                  </a:lnTo>
                  <a:lnTo>
                    <a:pt x="211" y="467"/>
                  </a:lnTo>
                  <a:lnTo>
                    <a:pt x="204" y="469"/>
                  </a:lnTo>
                  <a:lnTo>
                    <a:pt x="197" y="470"/>
                  </a:lnTo>
                  <a:lnTo>
                    <a:pt x="188" y="472"/>
                  </a:lnTo>
                  <a:lnTo>
                    <a:pt x="179" y="472"/>
                  </a:lnTo>
                  <a:lnTo>
                    <a:pt x="166" y="470"/>
                  </a:lnTo>
                  <a:lnTo>
                    <a:pt x="160" y="470"/>
                  </a:lnTo>
                  <a:lnTo>
                    <a:pt x="153" y="468"/>
                  </a:lnTo>
                  <a:lnTo>
                    <a:pt x="145" y="465"/>
                  </a:lnTo>
                  <a:lnTo>
                    <a:pt x="138" y="462"/>
                  </a:lnTo>
                  <a:lnTo>
                    <a:pt x="122" y="452"/>
                  </a:lnTo>
                  <a:lnTo>
                    <a:pt x="107" y="441"/>
                  </a:lnTo>
                  <a:lnTo>
                    <a:pt x="91" y="427"/>
                  </a:lnTo>
                  <a:lnTo>
                    <a:pt x="78" y="414"/>
                  </a:lnTo>
                  <a:lnTo>
                    <a:pt x="65" y="401"/>
                  </a:lnTo>
                  <a:lnTo>
                    <a:pt x="56" y="389"/>
                  </a:lnTo>
                  <a:lnTo>
                    <a:pt x="45" y="379"/>
                  </a:lnTo>
                  <a:lnTo>
                    <a:pt x="36" y="369"/>
                  </a:lnTo>
                  <a:lnTo>
                    <a:pt x="27" y="360"/>
                  </a:lnTo>
                  <a:lnTo>
                    <a:pt x="20" y="347"/>
                  </a:lnTo>
                  <a:lnTo>
                    <a:pt x="17" y="341"/>
                  </a:lnTo>
                  <a:lnTo>
                    <a:pt x="15" y="334"/>
                  </a:lnTo>
                  <a:lnTo>
                    <a:pt x="14" y="325"/>
                  </a:lnTo>
                  <a:lnTo>
                    <a:pt x="14" y="315"/>
                  </a:lnTo>
                  <a:lnTo>
                    <a:pt x="14" y="304"/>
                  </a:lnTo>
                  <a:lnTo>
                    <a:pt x="15" y="292"/>
                  </a:lnTo>
                  <a:lnTo>
                    <a:pt x="16" y="277"/>
                  </a:lnTo>
                  <a:lnTo>
                    <a:pt x="20" y="261"/>
                  </a:lnTo>
                  <a:lnTo>
                    <a:pt x="29" y="227"/>
                  </a:lnTo>
                  <a:lnTo>
                    <a:pt x="37" y="187"/>
                  </a:lnTo>
                  <a:lnTo>
                    <a:pt x="47" y="147"/>
                  </a:lnTo>
                  <a:lnTo>
                    <a:pt x="56" y="107"/>
                  </a:lnTo>
                  <a:lnTo>
                    <a:pt x="64" y="72"/>
                  </a:lnTo>
                  <a:lnTo>
                    <a:pt x="73" y="40"/>
                  </a:lnTo>
                  <a:lnTo>
                    <a:pt x="81" y="15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5" y="2"/>
                  </a:lnTo>
                  <a:lnTo>
                    <a:pt x="83" y="4"/>
                  </a:lnTo>
                  <a:lnTo>
                    <a:pt x="79" y="10"/>
                  </a:lnTo>
                  <a:lnTo>
                    <a:pt x="75" y="20"/>
                  </a:lnTo>
                  <a:lnTo>
                    <a:pt x="69" y="36"/>
                  </a:lnTo>
                  <a:lnTo>
                    <a:pt x="63" y="59"/>
                  </a:lnTo>
                  <a:lnTo>
                    <a:pt x="56" y="90"/>
                  </a:lnTo>
                  <a:lnTo>
                    <a:pt x="46" y="126"/>
                  </a:lnTo>
                  <a:lnTo>
                    <a:pt x="36" y="163"/>
                  </a:lnTo>
                  <a:lnTo>
                    <a:pt x="27" y="197"/>
                  </a:lnTo>
                  <a:lnTo>
                    <a:pt x="19" y="229"/>
                  </a:lnTo>
                  <a:lnTo>
                    <a:pt x="11" y="259"/>
                  </a:lnTo>
                  <a:lnTo>
                    <a:pt x="6" y="283"/>
                  </a:lnTo>
                  <a:lnTo>
                    <a:pt x="3" y="303"/>
                  </a:lnTo>
                  <a:lnTo>
                    <a:pt x="0" y="315"/>
                  </a:lnTo>
                  <a:lnTo>
                    <a:pt x="1" y="324"/>
                  </a:lnTo>
                  <a:lnTo>
                    <a:pt x="3" y="334"/>
                  </a:lnTo>
                  <a:lnTo>
                    <a:pt x="6" y="345"/>
                  </a:lnTo>
                  <a:lnTo>
                    <a:pt x="13" y="356"/>
                  </a:lnTo>
                  <a:lnTo>
                    <a:pt x="20" y="368"/>
                  </a:lnTo>
                  <a:lnTo>
                    <a:pt x="31" y="382"/>
                  </a:lnTo>
                  <a:lnTo>
                    <a:pt x="45" y="398"/>
                  </a:lnTo>
                  <a:lnTo>
                    <a:pt x="60" y="414"/>
                  </a:lnTo>
                  <a:lnTo>
                    <a:pt x="78" y="430"/>
                  </a:lnTo>
                  <a:lnTo>
                    <a:pt x="95" y="444"/>
                  </a:lnTo>
                  <a:lnTo>
                    <a:pt x="111" y="458"/>
                  </a:lnTo>
                  <a:lnTo>
                    <a:pt x="126" y="468"/>
                  </a:lnTo>
                  <a:lnTo>
                    <a:pt x="133" y="473"/>
                  </a:lnTo>
                  <a:lnTo>
                    <a:pt x="140" y="476"/>
                  </a:lnTo>
                  <a:lnTo>
                    <a:pt x="149" y="479"/>
                  </a:lnTo>
                  <a:lnTo>
                    <a:pt x="156" y="481"/>
                  </a:lnTo>
                  <a:lnTo>
                    <a:pt x="165" y="483"/>
                  </a:lnTo>
                  <a:lnTo>
                    <a:pt x="174" y="483"/>
                  </a:lnTo>
                  <a:lnTo>
                    <a:pt x="182" y="483"/>
                  </a:lnTo>
                  <a:lnTo>
                    <a:pt x="191" y="481"/>
                  </a:lnTo>
                  <a:lnTo>
                    <a:pt x="207" y="480"/>
                  </a:lnTo>
                  <a:lnTo>
                    <a:pt x="220" y="478"/>
                  </a:lnTo>
                  <a:lnTo>
                    <a:pt x="230" y="475"/>
                  </a:lnTo>
                  <a:lnTo>
                    <a:pt x="238" y="474"/>
                  </a:lnTo>
                  <a:lnTo>
                    <a:pt x="243" y="473"/>
                  </a:lnTo>
                  <a:lnTo>
                    <a:pt x="246" y="472"/>
                  </a:lnTo>
                  <a:lnTo>
                    <a:pt x="247" y="472"/>
                  </a:lnTo>
                  <a:lnTo>
                    <a:pt x="247" y="470"/>
                  </a:lnTo>
                  <a:lnTo>
                    <a:pt x="250" y="472"/>
                  </a:lnTo>
                  <a:lnTo>
                    <a:pt x="257" y="472"/>
                  </a:lnTo>
                  <a:lnTo>
                    <a:pt x="267" y="474"/>
                  </a:lnTo>
                  <a:lnTo>
                    <a:pt x="281" y="475"/>
                  </a:lnTo>
                  <a:lnTo>
                    <a:pt x="294" y="476"/>
                  </a:lnTo>
                  <a:lnTo>
                    <a:pt x="309" y="479"/>
                  </a:lnTo>
                  <a:lnTo>
                    <a:pt x="323" y="480"/>
                  </a:lnTo>
                  <a:lnTo>
                    <a:pt x="335" y="481"/>
                  </a:lnTo>
                  <a:lnTo>
                    <a:pt x="347" y="483"/>
                  </a:lnTo>
                  <a:lnTo>
                    <a:pt x="359" y="483"/>
                  </a:lnTo>
                  <a:lnTo>
                    <a:pt x="372" y="481"/>
                  </a:lnTo>
                  <a:lnTo>
                    <a:pt x="384" y="478"/>
                  </a:lnTo>
                  <a:lnTo>
                    <a:pt x="389" y="475"/>
                  </a:lnTo>
                  <a:lnTo>
                    <a:pt x="394" y="473"/>
                  </a:lnTo>
                  <a:lnTo>
                    <a:pt x="398" y="468"/>
                  </a:lnTo>
                  <a:lnTo>
                    <a:pt x="401" y="464"/>
                  </a:lnTo>
                  <a:lnTo>
                    <a:pt x="404" y="458"/>
                  </a:lnTo>
                  <a:lnTo>
                    <a:pt x="405" y="452"/>
                  </a:lnTo>
                  <a:lnTo>
                    <a:pt x="406" y="444"/>
                  </a:lnTo>
                  <a:lnTo>
                    <a:pt x="405" y="436"/>
                  </a:lnTo>
                  <a:lnTo>
                    <a:pt x="384" y="443"/>
                  </a:lnTo>
                  <a:close/>
                </a:path>
              </a:pathLst>
            </a:custGeom>
            <a:solidFill>
              <a:srgbClr val="423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7494480" y="2600280"/>
              <a:ext cx="184320" cy="112680"/>
            </a:xfrm>
            <a:custGeom>
              <a:avLst/>
              <a:gdLst/>
              <a:ahLst/>
              <a:rect l="l" t="t" r="r" b="b"/>
              <a:pathLst>
                <a:path w="578" h="355">
                  <a:moveTo>
                    <a:pt x="0" y="293"/>
                  </a:moveTo>
                  <a:lnTo>
                    <a:pt x="2" y="279"/>
                  </a:lnTo>
                  <a:lnTo>
                    <a:pt x="6" y="266"/>
                  </a:lnTo>
                  <a:lnTo>
                    <a:pt x="12" y="254"/>
                  </a:lnTo>
                  <a:lnTo>
                    <a:pt x="20" y="240"/>
                  </a:lnTo>
                  <a:lnTo>
                    <a:pt x="28" y="227"/>
                  </a:lnTo>
                  <a:lnTo>
                    <a:pt x="39" y="214"/>
                  </a:lnTo>
                  <a:lnTo>
                    <a:pt x="50" y="201"/>
                  </a:lnTo>
                  <a:lnTo>
                    <a:pt x="64" y="188"/>
                  </a:lnTo>
                  <a:lnTo>
                    <a:pt x="78" y="177"/>
                  </a:lnTo>
                  <a:lnTo>
                    <a:pt x="92" y="166"/>
                  </a:lnTo>
                  <a:lnTo>
                    <a:pt x="108" y="156"/>
                  </a:lnTo>
                  <a:lnTo>
                    <a:pt x="124" y="148"/>
                  </a:lnTo>
                  <a:lnTo>
                    <a:pt x="140" y="140"/>
                  </a:lnTo>
                  <a:lnTo>
                    <a:pt x="156" y="133"/>
                  </a:lnTo>
                  <a:lnTo>
                    <a:pt x="173" y="128"/>
                  </a:lnTo>
                  <a:lnTo>
                    <a:pt x="191" y="125"/>
                  </a:lnTo>
                  <a:lnTo>
                    <a:pt x="209" y="120"/>
                  </a:lnTo>
                  <a:lnTo>
                    <a:pt x="231" y="115"/>
                  </a:lnTo>
                  <a:lnTo>
                    <a:pt x="256" y="107"/>
                  </a:lnTo>
                  <a:lnTo>
                    <a:pt x="282" y="99"/>
                  </a:lnTo>
                  <a:lnTo>
                    <a:pt x="340" y="79"/>
                  </a:lnTo>
                  <a:lnTo>
                    <a:pt x="396" y="58"/>
                  </a:lnTo>
                  <a:lnTo>
                    <a:pt x="450" y="38"/>
                  </a:lnTo>
                  <a:lnTo>
                    <a:pt x="495" y="21"/>
                  </a:lnTo>
                  <a:lnTo>
                    <a:pt x="524" y="9"/>
                  </a:lnTo>
                  <a:lnTo>
                    <a:pt x="535" y="5"/>
                  </a:lnTo>
                  <a:lnTo>
                    <a:pt x="547" y="2"/>
                  </a:lnTo>
                  <a:lnTo>
                    <a:pt x="557" y="0"/>
                  </a:lnTo>
                  <a:lnTo>
                    <a:pt x="565" y="2"/>
                  </a:lnTo>
                  <a:lnTo>
                    <a:pt x="571" y="4"/>
                  </a:lnTo>
                  <a:lnTo>
                    <a:pt x="576" y="8"/>
                  </a:lnTo>
                  <a:lnTo>
                    <a:pt x="578" y="14"/>
                  </a:lnTo>
                  <a:lnTo>
                    <a:pt x="578" y="20"/>
                  </a:lnTo>
                  <a:lnTo>
                    <a:pt x="578" y="29"/>
                  </a:lnTo>
                  <a:lnTo>
                    <a:pt x="575" y="37"/>
                  </a:lnTo>
                  <a:lnTo>
                    <a:pt x="570" y="47"/>
                  </a:lnTo>
                  <a:lnTo>
                    <a:pt x="563" y="58"/>
                  </a:lnTo>
                  <a:lnTo>
                    <a:pt x="555" y="69"/>
                  </a:lnTo>
                  <a:lnTo>
                    <a:pt x="545" y="81"/>
                  </a:lnTo>
                  <a:lnTo>
                    <a:pt x="534" y="94"/>
                  </a:lnTo>
                  <a:lnTo>
                    <a:pt x="520" y="106"/>
                  </a:lnTo>
                  <a:lnTo>
                    <a:pt x="506" y="118"/>
                  </a:lnTo>
                  <a:lnTo>
                    <a:pt x="471" y="144"/>
                  </a:lnTo>
                  <a:lnTo>
                    <a:pt x="431" y="171"/>
                  </a:lnTo>
                  <a:lnTo>
                    <a:pt x="388" y="198"/>
                  </a:lnTo>
                  <a:lnTo>
                    <a:pt x="343" y="224"/>
                  </a:lnTo>
                  <a:lnTo>
                    <a:pt x="299" y="250"/>
                  </a:lnTo>
                  <a:lnTo>
                    <a:pt x="257" y="275"/>
                  </a:lnTo>
                  <a:lnTo>
                    <a:pt x="218" y="298"/>
                  </a:lnTo>
                  <a:lnTo>
                    <a:pt x="185" y="320"/>
                  </a:lnTo>
                  <a:lnTo>
                    <a:pt x="170" y="330"/>
                  </a:lnTo>
                  <a:lnTo>
                    <a:pt x="154" y="337"/>
                  </a:lnTo>
                  <a:lnTo>
                    <a:pt x="138" y="345"/>
                  </a:lnTo>
                  <a:lnTo>
                    <a:pt x="122" y="350"/>
                  </a:lnTo>
                  <a:lnTo>
                    <a:pt x="106" y="352"/>
                  </a:lnTo>
                  <a:lnTo>
                    <a:pt x="91" y="355"/>
                  </a:lnTo>
                  <a:lnTo>
                    <a:pt x="75" y="355"/>
                  </a:lnTo>
                  <a:lnTo>
                    <a:pt x="62" y="353"/>
                  </a:lnTo>
                  <a:lnTo>
                    <a:pt x="48" y="351"/>
                  </a:lnTo>
                  <a:lnTo>
                    <a:pt x="36" y="346"/>
                  </a:lnTo>
                  <a:lnTo>
                    <a:pt x="25" y="341"/>
                  </a:lnTo>
                  <a:lnTo>
                    <a:pt x="16" y="334"/>
                  </a:lnTo>
                  <a:lnTo>
                    <a:pt x="12" y="330"/>
                  </a:lnTo>
                  <a:lnTo>
                    <a:pt x="9" y="325"/>
                  </a:lnTo>
                  <a:lnTo>
                    <a:pt x="6" y="320"/>
                  </a:lnTo>
                  <a:lnTo>
                    <a:pt x="4" y="315"/>
                  </a:lnTo>
                  <a:lnTo>
                    <a:pt x="1" y="310"/>
                  </a:lnTo>
                  <a:lnTo>
                    <a:pt x="1" y="305"/>
                  </a:lnTo>
                  <a:lnTo>
                    <a:pt x="0" y="299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6d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7504200" y="2611440"/>
              <a:ext cx="152280" cy="93600"/>
            </a:xfrm>
            <a:custGeom>
              <a:avLst/>
              <a:gdLst/>
              <a:ahLst/>
              <a:rect l="l" t="t" r="r" b="b"/>
              <a:pathLst>
                <a:path w="480" h="294">
                  <a:moveTo>
                    <a:pt x="0" y="241"/>
                  </a:moveTo>
                  <a:lnTo>
                    <a:pt x="3" y="231"/>
                  </a:lnTo>
                  <a:lnTo>
                    <a:pt x="6" y="220"/>
                  </a:lnTo>
                  <a:lnTo>
                    <a:pt x="11" y="210"/>
                  </a:lnTo>
                  <a:lnTo>
                    <a:pt x="17" y="199"/>
                  </a:lnTo>
                  <a:lnTo>
                    <a:pt x="25" y="188"/>
                  </a:lnTo>
                  <a:lnTo>
                    <a:pt x="33" y="177"/>
                  </a:lnTo>
                  <a:lnTo>
                    <a:pt x="43" y="167"/>
                  </a:lnTo>
                  <a:lnTo>
                    <a:pt x="54" y="157"/>
                  </a:lnTo>
                  <a:lnTo>
                    <a:pt x="65" y="147"/>
                  </a:lnTo>
                  <a:lnTo>
                    <a:pt x="78" y="139"/>
                  </a:lnTo>
                  <a:lnTo>
                    <a:pt x="90" y="130"/>
                  </a:lnTo>
                  <a:lnTo>
                    <a:pt x="103" y="123"/>
                  </a:lnTo>
                  <a:lnTo>
                    <a:pt x="117" y="117"/>
                  </a:lnTo>
                  <a:lnTo>
                    <a:pt x="130" y="110"/>
                  </a:lnTo>
                  <a:lnTo>
                    <a:pt x="144" y="105"/>
                  </a:lnTo>
                  <a:lnTo>
                    <a:pt x="158" y="103"/>
                  </a:lnTo>
                  <a:lnTo>
                    <a:pt x="192" y="94"/>
                  </a:lnTo>
                  <a:lnTo>
                    <a:pt x="234" y="81"/>
                  </a:lnTo>
                  <a:lnTo>
                    <a:pt x="281" y="65"/>
                  </a:lnTo>
                  <a:lnTo>
                    <a:pt x="329" y="48"/>
                  </a:lnTo>
                  <a:lnTo>
                    <a:pt x="373" y="30"/>
                  </a:lnTo>
                  <a:lnTo>
                    <a:pt x="410" y="16"/>
                  </a:lnTo>
                  <a:lnTo>
                    <a:pt x="434" y="6"/>
                  </a:lnTo>
                  <a:lnTo>
                    <a:pt x="443" y="2"/>
                  </a:lnTo>
                  <a:lnTo>
                    <a:pt x="453" y="0"/>
                  </a:lnTo>
                  <a:lnTo>
                    <a:pt x="461" y="0"/>
                  </a:lnTo>
                  <a:lnTo>
                    <a:pt x="469" y="1"/>
                  </a:lnTo>
                  <a:lnTo>
                    <a:pt x="474" y="2"/>
                  </a:lnTo>
                  <a:lnTo>
                    <a:pt x="477" y="6"/>
                  </a:lnTo>
                  <a:lnTo>
                    <a:pt x="480" y="11"/>
                  </a:lnTo>
                  <a:lnTo>
                    <a:pt x="480" y="17"/>
                  </a:lnTo>
                  <a:lnTo>
                    <a:pt x="479" y="23"/>
                  </a:lnTo>
                  <a:lnTo>
                    <a:pt x="476" y="30"/>
                  </a:lnTo>
                  <a:lnTo>
                    <a:pt x="472" y="39"/>
                  </a:lnTo>
                  <a:lnTo>
                    <a:pt x="468" y="48"/>
                  </a:lnTo>
                  <a:lnTo>
                    <a:pt x="460" y="58"/>
                  </a:lnTo>
                  <a:lnTo>
                    <a:pt x="453" y="67"/>
                  </a:lnTo>
                  <a:lnTo>
                    <a:pt x="443" y="77"/>
                  </a:lnTo>
                  <a:lnTo>
                    <a:pt x="432" y="87"/>
                  </a:lnTo>
                  <a:lnTo>
                    <a:pt x="418" y="97"/>
                  </a:lnTo>
                  <a:lnTo>
                    <a:pt x="390" y="119"/>
                  </a:lnTo>
                  <a:lnTo>
                    <a:pt x="357" y="141"/>
                  </a:lnTo>
                  <a:lnTo>
                    <a:pt x="321" y="163"/>
                  </a:lnTo>
                  <a:lnTo>
                    <a:pt x="284" y="185"/>
                  </a:lnTo>
                  <a:lnTo>
                    <a:pt x="247" y="208"/>
                  </a:lnTo>
                  <a:lnTo>
                    <a:pt x="212" y="228"/>
                  </a:lnTo>
                  <a:lnTo>
                    <a:pt x="180" y="248"/>
                  </a:lnTo>
                  <a:lnTo>
                    <a:pt x="153" y="265"/>
                  </a:lnTo>
                  <a:lnTo>
                    <a:pt x="140" y="274"/>
                  </a:lnTo>
                  <a:lnTo>
                    <a:pt x="127" y="280"/>
                  </a:lnTo>
                  <a:lnTo>
                    <a:pt x="114" y="285"/>
                  </a:lnTo>
                  <a:lnTo>
                    <a:pt x="101" y="290"/>
                  </a:lnTo>
                  <a:lnTo>
                    <a:pt x="87" y="292"/>
                  </a:lnTo>
                  <a:lnTo>
                    <a:pt x="74" y="294"/>
                  </a:lnTo>
                  <a:lnTo>
                    <a:pt x="62" y="294"/>
                  </a:lnTo>
                  <a:lnTo>
                    <a:pt x="51" y="292"/>
                  </a:lnTo>
                  <a:lnTo>
                    <a:pt x="39" y="290"/>
                  </a:lnTo>
                  <a:lnTo>
                    <a:pt x="30" y="286"/>
                  </a:lnTo>
                  <a:lnTo>
                    <a:pt x="20" y="281"/>
                  </a:lnTo>
                  <a:lnTo>
                    <a:pt x="12" y="275"/>
                  </a:lnTo>
                  <a:lnTo>
                    <a:pt x="7" y="269"/>
                  </a:lnTo>
                  <a:lnTo>
                    <a:pt x="3" y="260"/>
                  </a:lnTo>
                  <a:lnTo>
                    <a:pt x="0" y="252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7512120" y="2622600"/>
              <a:ext cx="120600" cy="74520"/>
            </a:xfrm>
            <a:custGeom>
              <a:avLst/>
              <a:gdLst/>
              <a:ahLst/>
              <a:rect l="l" t="t" r="r" b="b"/>
              <a:pathLst>
                <a:path w="382" h="234">
                  <a:moveTo>
                    <a:pt x="0" y="192"/>
                  </a:moveTo>
                  <a:lnTo>
                    <a:pt x="2" y="183"/>
                  </a:lnTo>
                  <a:lnTo>
                    <a:pt x="5" y="176"/>
                  </a:lnTo>
                  <a:lnTo>
                    <a:pt x="8" y="167"/>
                  </a:lnTo>
                  <a:lnTo>
                    <a:pt x="14" y="159"/>
                  </a:lnTo>
                  <a:lnTo>
                    <a:pt x="19" y="150"/>
                  </a:lnTo>
                  <a:lnTo>
                    <a:pt x="27" y="141"/>
                  </a:lnTo>
                  <a:lnTo>
                    <a:pt x="35" y="133"/>
                  </a:lnTo>
                  <a:lnTo>
                    <a:pt x="44" y="125"/>
                  </a:lnTo>
                  <a:lnTo>
                    <a:pt x="53" y="118"/>
                  </a:lnTo>
                  <a:lnTo>
                    <a:pt x="62" y="111"/>
                  </a:lnTo>
                  <a:lnTo>
                    <a:pt x="72" y="104"/>
                  </a:lnTo>
                  <a:lnTo>
                    <a:pt x="83" y="98"/>
                  </a:lnTo>
                  <a:lnTo>
                    <a:pt x="94" y="93"/>
                  </a:lnTo>
                  <a:lnTo>
                    <a:pt x="105" y="90"/>
                  </a:lnTo>
                  <a:lnTo>
                    <a:pt x="117" y="86"/>
                  </a:lnTo>
                  <a:lnTo>
                    <a:pt x="128" y="84"/>
                  </a:lnTo>
                  <a:lnTo>
                    <a:pt x="155" y="76"/>
                  </a:lnTo>
                  <a:lnTo>
                    <a:pt x="188" y="66"/>
                  </a:lnTo>
                  <a:lnTo>
                    <a:pt x="225" y="53"/>
                  </a:lnTo>
                  <a:lnTo>
                    <a:pt x="263" y="38"/>
                  </a:lnTo>
                  <a:lnTo>
                    <a:pt x="297" y="25"/>
                  </a:lnTo>
                  <a:lnTo>
                    <a:pt x="327" y="13"/>
                  </a:lnTo>
                  <a:lnTo>
                    <a:pt x="345" y="5"/>
                  </a:lnTo>
                  <a:lnTo>
                    <a:pt x="353" y="2"/>
                  </a:lnTo>
                  <a:lnTo>
                    <a:pt x="361" y="0"/>
                  </a:lnTo>
                  <a:lnTo>
                    <a:pt x="368" y="0"/>
                  </a:lnTo>
                  <a:lnTo>
                    <a:pt x="374" y="0"/>
                  </a:lnTo>
                  <a:lnTo>
                    <a:pt x="377" y="2"/>
                  </a:lnTo>
                  <a:lnTo>
                    <a:pt x="380" y="5"/>
                  </a:lnTo>
                  <a:lnTo>
                    <a:pt x="382" y="9"/>
                  </a:lnTo>
                  <a:lnTo>
                    <a:pt x="382" y="13"/>
                  </a:lnTo>
                  <a:lnTo>
                    <a:pt x="381" y="18"/>
                  </a:lnTo>
                  <a:lnTo>
                    <a:pt x="380" y="25"/>
                  </a:lnTo>
                  <a:lnTo>
                    <a:pt x="376" y="31"/>
                  </a:lnTo>
                  <a:lnTo>
                    <a:pt x="372" y="38"/>
                  </a:lnTo>
                  <a:lnTo>
                    <a:pt x="366" y="45"/>
                  </a:lnTo>
                  <a:lnTo>
                    <a:pt x="360" y="54"/>
                  </a:lnTo>
                  <a:lnTo>
                    <a:pt x="353" y="61"/>
                  </a:lnTo>
                  <a:lnTo>
                    <a:pt x="344" y="70"/>
                  </a:lnTo>
                  <a:lnTo>
                    <a:pt x="334" y="77"/>
                  </a:lnTo>
                  <a:lnTo>
                    <a:pt x="312" y="96"/>
                  </a:lnTo>
                  <a:lnTo>
                    <a:pt x="285" y="113"/>
                  </a:lnTo>
                  <a:lnTo>
                    <a:pt x="257" y="132"/>
                  </a:lnTo>
                  <a:lnTo>
                    <a:pt x="227" y="149"/>
                  </a:lnTo>
                  <a:lnTo>
                    <a:pt x="198" y="166"/>
                  </a:lnTo>
                  <a:lnTo>
                    <a:pt x="169" y="182"/>
                  </a:lnTo>
                  <a:lnTo>
                    <a:pt x="144" y="197"/>
                  </a:lnTo>
                  <a:lnTo>
                    <a:pt x="123" y="211"/>
                  </a:lnTo>
                  <a:lnTo>
                    <a:pt x="113" y="218"/>
                  </a:lnTo>
                  <a:lnTo>
                    <a:pt x="102" y="223"/>
                  </a:lnTo>
                  <a:lnTo>
                    <a:pt x="92" y="227"/>
                  </a:lnTo>
                  <a:lnTo>
                    <a:pt x="81" y="231"/>
                  </a:lnTo>
                  <a:lnTo>
                    <a:pt x="71" y="232"/>
                  </a:lnTo>
                  <a:lnTo>
                    <a:pt x="60" y="234"/>
                  </a:lnTo>
                  <a:lnTo>
                    <a:pt x="50" y="234"/>
                  </a:lnTo>
                  <a:lnTo>
                    <a:pt x="40" y="234"/>
                  </a:lnTo>
                  <a:lnTo>
                    <a:pt x="32" y="231"/>
                  </a:lnTo>
                  <a:lnTo>
                    <a:pt x="24" y="229"/>
                  </a:lnTo>
                  <a:lnTo>
                    <a:pt x="17" y="225"/>
                  </a:lnTo>
                  <a:lnTo>
                    <a:pt x="11" y="220"/>
                  </a:lnTo>
                  <a:lnTo>
                    <a:pt x="6" y="214"/>
                  </a:lnTo>
                  <a:lnTo>
                    <a:pt x="2" y="208"/>
                  </a:lnTo>
                  <a:lnTo>
                    <a:pt x="1" y="20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7a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7520040" y="2633760"/>
              <a:ext cx="90360" cy="54000"/>
            </a:xfrm>
            <a:custGeom>
              <a:avLst/>
              <a:gdLst/>
              <a:ahLst/>
              <a:rect l="l" t="t" r="r" b="b"/>
              <a:pathLst>
                <a:path w="283" h="172">
                  <a:moveTo>
                    <a:pt x="261" y="1"/>
                  </a:moveTo>
                  <a:lnTo>
                    <a:pt x="256" y="3"/>
                  </a:lnTo>
                  <a:lnTo>
                    <a:pt x="241" y="9"/>
                  </a:lnTo>
                  <a:lnTo>
                    <a:pt x="220" y="17"/>
                  </a:lnTo>
                  <a:lnTo>
                    <a:pt x="194" y="27"/>
                  </a:lnTo>
                  <a:lnTo>
                    <a:pt x="166" y="36"/>
                  </a:lnTo>
                  <a:lnTo>
                    <a:pt x="139" y="46"/>
                  </a:lnTo>
                  <a:lnTo>
                    <a:pt x="113" y="54"/>
                  </a:lnTo>
                  <a:lnTo>
                    <a:pt x="92" y="59"/>
                  </a:lnTo>
                  <a:lnTo>
                    <a:pt x="85" y="60"/>
                  </a:lnTo>
                  <a:lnTo>
                    <a:pt x="76" y="62"/>
                  </a:lnTo>
                  <a:lnTo>
                    <a:pt x="69" y="66"/>
                  </a:lnTo>
                  <a:lnTo>
                    <a:pt x="60" y="70"/>
                  </a:lnTo>
                  <a:lnTo>
                    <a:pt x="45" y="80"/>
                  </a:lnTo>
                  <a:lnTo>
                    <a:pt x="30" y="91"/>
                  </a:lnTo>
                  <a:lnTo>
                    <a:pt x="19" y="104"/>
                  </a:lnTo>
                  <a:lnTo>
                    <a:pt x="10" y="116"/>
                  </a:lnTo>
                  <a:lnTo>
                    <a:pt x="6" y="124"/>
                  </a:lnTo>
                  <a:lnTo>
                    <a:pt x="3" y="130"/>
                  </a:lnTo>
                  <a:lnTo>
                    <a:pt x="1" y="136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2" y="153"/>
                  </a:lnTo>
                  <a:lnTo>
                    <a:pt x="5" y="158"/>
                  </a:lnTo>
                  <a:lnTo>
                    <a:pt x="7" y="162"/>
                  </a:lnTo>
                  <a:lnTo>
                    <a:pt x="12" y="166"/>
                  </a:lnTo>
                  <a:lnTo>
                    <a:pt x="17" y="168"/>
                  </a:lnTo>
                  <a:lnTo>
                    <a:pt x="23" y="171"/>
                  </a:lnTo>
                  <a:lnTo>
                    <a:pt x="29" y="172"/>
                  </a:lnTo>
                  <a:lnTo>
                    <a:pt x="37" y="172"/>
                  </a:lnTo>
                  <a:lnTo>
                    <a:pt x="44" y="172"/>
                  </a:lnTo>
                  <a:lnTo>
                    <a:pt x="51" y="172"/>
                  </a:lnTo>
                  <a:lnTo>
                    <a:pt x="59" y="169"/>
                  </a:lnTo>
                  <a:lnTo>
                    <a:pt x="67" y="168"/>
                  </a:lnTo>
                  <a:lnTo>
                    <a:pt x="75" y="164"/>
                  </a:lnTo>
                  <a:lnTo>
                    <a:pt x="82" y="161"/>
                  </a:lnTo>
                  <a:lnTo>
                    <a:pt x="90" y="156"/>
                  </a:lnTo>
                  <a:lnTo>
                    <a:pt x="107" y="145"/>
                  </a:lnTo>
                  <a:lnTo>
                    <a:pt x="126" y="134"/>
                  </a:lnTo>
                  <a:lnTo>
                    <a:pt x="147" y="121"/>
                  </a:lnTo>
                  <a:lnTo>
                    <a:pt x="168" y="108"/>
                  </a:lnTo>
                  <a:lnTo>
                    <a:pt x="190" y="94"/>
                  </a:lnTo>
                  <a:lnTo>
                    <a:pt x="211" y="81"/>
                  </a:lnTo>
                  <a:lnTo>
                    <a:pt x="231" y="68"/>
                  </a:lnTo>
                  <a:lnTo>
                    <a:pt x="247" y="55"/>
                  </a:lnTo>
                  <a:lnTo>
                    <a:pt x="261" y="44"/>
                  </a:lnTo>
                  <a:lnTo>
                    <a:pt x="272" y="32"/>
                  </a:lnTo>
                  <a:lnTo>
                    <a:pt x="279" y="22"/>
                  </a:lnTo>
                  <a:lnTo>
                    <a:pt x="283" y="12"/>
                  </a:lnTo>
                  <a:lnTo>
                    <a:pt x="283" y="8"/>
                  </a:lnTo>
                  <a:lnTo>
                    <a:pt x="283" y="5"/>
                  </a:lnTo>
                  <a:lnTo>
                    <a:pt x="281" y="2"/>
                  </a:lnTo>
                  <a:lnTo>
                    <a:pt x="279" y="1"/>
                  </a:lnTo>
                  <a:lnTo>
                    <a:pt x="277" y="0"/>
                  </a:lnTo>
                  <a:lnTo>
                    <a:pt x="272" y="0"/>
                  </a:lnTo>
                  <a:lnTo>
                    <a:pt x="267" y="0"/>
                  </a:lnTo>
                  <a:lnTo>
                    <a:pt x="261" y="1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7491240" y="2195640"/>
              <a:ext cx="179640" cy="90360"/>
            </a:xfrm>
            <a:custGeom>
              <a:avLst/>
              <a:gdLst/>
              <a:ahLst/>
              <a:rect l="l" t="t" r="r" b="b"/>
              <a:pathLst>
                <a:path w="564" h="283">
                  <a:moveTo>
                    <a:pt x="203" y="185"/>
                  </a:moveTo>
                  <a:lnTo>
                    <a:pt x="177" y="172"/>
                  </a:lnTo>
                  <a:lnTo>
                    <a:pt x="152" y="161"/>
                  </a:lnTo>
                  <a:lnTo>
                    <a:pt x="130" y="150"/>
                  </a:lnTo>
                  <a:lnTo>
                    <a:pt x="108" y="140"/>
                  </a:lnTo>
                  <a:lnTo>
                    <a:pt x="88" y="130"/>
                  </a:lnTo>
                  <a:lnTo>
                    <a:pt x="69" y="119"/>
                  </a:lnTo>
                  <a:lnTo>
                    <a:pt x="51" y="108"/>
                  </a:lnTo>
                  <a:lnTo>
                    <a:pt x="34" y="96"/>
                  </a:lnTo>
                  <a:lnTo>
                    <a:pt x="26" y="88"/>
                  </a:lnTo>
                  <a:lnTo>
                    <a:pt x="19" y="81"/>
                  </a:lnTo>
                  <a:lnTo>
                    <a:pt x="13" y="74"/>
                  </a:lnTo>
                  <a:lnTo>
                    <a:pt x="8" y="66"/>
                  </a:lnTo>
                  <a:lnTo>
                    <a:pt x="5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3" y="16"/>
                  </a:lnTo>
                  <a:lnTo>
                    <a:pt x="7" y="10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4" y="1"/>
                  </a:lnTo>
                  <a:lnTo>
                    <a:pt x="32" y="0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44" y="3"/>
                  </a:lnTo>
                  <a:lnTo>
                    <a:pt x="55" y="7"/>
                  </a:lnTo>
                  <a:lnTo>
                    <a:pt x="70" y="15"/>
                  </a:lnTo>
                  <a:lnTo>
                    <a:pt x="91" y="23"/>
                  </a:lnTo>
                  <a:lnTo>
                    <a:pt x="118" y="35"/>
                  </a:lnTo>
                  <a:lnTo>
                    <a:pt x="151" y="51"/>
                  </a:lnTo>
                  <a:lnTo>
                    <a:pt x="171" y="61"/>
                  </a:lnTo>
                  <a:lnTo>
                    <a:pt x="189" y="69"/>
                  </a:lnTo>
                  <a:lnTo>
                    <a:pt x="209" y="76"/>
                  </a:lnTo>
                  <a:lnTo>
                    <a:pt x="227" y="82"/>
                  </a:lnTo>
                  <a:lnTo>
                    <a:pt x="264" y="92"/>
                  </a:lnTo>
                  <a:lnTo>
                    <a:pt x="297" y="99"/>
                  </a:lnTo>
                  <a:lnTo>
                    <a:pt x="328" y="106"/>
                  </a:lnTo>
                  <a:lnTo>
                    <a:pt x="355" y="112"/>
                  </a:lnTo>
                  <a:lnTo>
                    <a:pt x="368" y="115"/>
                  </a:lnTo>
                  <a:lnTo>
                    <a:pt x="379" y="119"/>
                  </a:lnTo>
                  <a:lnTo>
                    <a:pt x="387" y="123"/>
                  </a:lnTo>
                  <a:lnTo>
                    <a:pt x="396" y="128"/>
                  </a:lnTo>
                  <a:lnTo>
                    <a:pt x="408" y="136"/>
                  </a:lnTo>
                  <a:lnTo>
                    <a:pt x="430" y="152"/>
                  </a:lnTo>
                  <a:lnTo>
                    <a:pt x="457" y="172"/>
                  </a:lnTo>
                  <a:lnTo>
                    <a:pt x="487" y="194"/>
                  </a:lnTo>
                  <a:lnTo>
                    <a:pt x="515" y="216"/>
                  </a:lnTo>
                  <a:lnTo>
                    <a:pt x="540" y="238"/>
                  </a:lnTo>
                  <a:lnTo>
                    <a:pt x="550" y="248"/>
                  </a:lnTo>
                  <a:lnTo>
                    <a:pt x="557" y="258"/>
                  </a:lnTo>
                  <a:lnTo>
                    <a:pt x="562" y="265"/>
                  </a:lnTo>
                  <a:lnTo>
                    <a:pt x="564" y="272"/>
                  </a:lnTo>
                  <a:lnTo>
                    <a:pt x="563" y="274"/>
                  </a:lnTo>
                  <a:lnTo>
                    <a:pt x="562" y="277"/>
                  </a:lnTo>
                  <a:lnTo>
                    <a:pt x="561" y="279"/>
                  </a:lnTo>
                  <a:lnTo>
                    <a:pt x="557" y="280"/>
                  </a:lnTo>
                  <a:lnTo>
                    <a:pt x="550" y="283"/>
                  </a:lnTo>
                  <a:lnTo>
                    <a:pt x="541" y="283"/>
                  </a:lnTo>
                  <a:lnTo>
                    <a:pt x="529" y="283"/>
                  </a:lnTo>
                  <a:lnTo>
                    <a:pt x="516" y="281"/>
                  </a:lnTo>
                  <a:lnTo>
                    <a:pt x="503" y="280"/>
                  </a:lnTo>
                  <a:lnTo>
                    <a:pt x="488" y="277"/>
                  </a:lnTo>
                  <a:lnTo>
                    <a:pt x="459" y="270"/>
                  </a:lnTo>
                  <a:lnTo>
                    <a:pt x="432" y="263"/>
                  </a:lnTo>
                  <a:lnTo>
                    <a:pt x="409" y="254"/>
                  </a:lnTo>
                  <a:lnTo>
                    <a:pt x="396" y="247"/>
                  </a:lnTo>
                  <a:lnTo>
                    <a:pt x="381" y="241"/>
                  </a:lnTo>
                  <a:lnTo>
                    <a:pt x="363" y="235"/>
                  </a:lnTo>
                  <a:lnTo>
                    <a:pt x="339" y="229"/>
                  </a:lnTo>
                  <a:lnTo>
                    <a:pt x="313" y="222"/>
                  </a:lnTo>
                  <a:lnTo>
                    <a:pt x="285" y="215"/>
                  </a:lnTo>
                  <a:lnTo>
                    <a:pt x="257" y="206"/>
                  </a:lnTo>
                  <a:lnTo>
                    <a:pt x="243" y="203"/>
                  </a:lnTo>
                  <a:lnTo>
                    <a:pt x="229" y="197"/>
                  </a:lnTo>
                  <a:lnTo>
                    <a:pt x="215" y="192"/>
                  </a:lnTo>
                  <a:lnTo>
                    <a:pt x="203" y="185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7496280" y="2197080"/>
              <a:ext cx="166680" cy="81000"/>
            </a:xfrm>
            <a:custGeom>
              <a:avLst/>
              <a:gdLst/>
              <a:ahLst/>
              <a:rect l="l" t="t" r="r" b="b"/>
              <a:pathLst>
                <a:path w="524" h="255">
                  <a:moveTo>
                    <a:pt x="524" y="247"/>
                  </a:moveTo>
                  <a:lnTo>
                    <a:pt x="523" y="250"/>
                  </a:lnTo>
                  <a:lnTo>
                    <a:pt x="521" y="251"/>
                  </a:lnTo>
                  <a:lnTo>
                    <a:pt x="520" y="252"/>
                  </a:lnTo>
                  <a:lnTo>
                    <a:pt x="518" y="253"/>
                  </a:lnTo>
                  <a:lnTo>
                    <a:pt x="510" y="255"/>
                  </a:lnTo>
                  <a:lnTo>
                    <a:pt x="502" y="255"/>
                  </a:lnTo>
                  <a:lnTo>
                    <a:pt x="478" y="252"/>
                  </a:lnTo>
                  <a:lnTo>
                    <a:pt x="451" y="247"/>
                  </a:lnTo>
                  <a:lnTo>
                    <a:pt x="424" y="241"/>
                  </a:lnTo>
                  <a:lnTo>
                    <a:pt x="398" y="234"/>
                  </a:lnTo>
                  <a:lnTo>
                    <a:pt x="379" y="226"/>
                  </a:lnTo>
                  <a:lnTo>
                    <a:pt x="366" y="220"/>
                  </a:lnTo>
                  <a:lnTo>
                    <a:pt x="353" y="214"/>
                  </a:lnTo>
                  <a:lnTo>
                    <a:pt x="333" y="207"/>
                  </a:lnTo>
                  <a:lnTo>
                    <a:pt x="310" y="199"/>
                  </a:lnTo>
                  <a:lnTo>
                    <a:pt x="283" y="192"/>
                  </a:lnTo>
                  <a:lnTo>
                    <a:pt x="254" y="183"/>
                  </a:lnTo>
                  <a:lnTo>
                    <a:pt x="227" y="175"/>
                  </a:lnTo>
                  <a:lnTo>
                    <a:pt x="203" y="166"/>
                  </a:lnTo>
                  <a:lnTo>
                    <a:pt x="181" y="157"/>
                  </a:lnTo>
                  <a:lnTo>
                    <a:pt x="160" y="146"/>
                  </a:lnTo>
                  <a:lnTo>
                    <a:pt x="139" y="136"/>
                  </a:lnTo>
                  <a:lnTo>
                    <a:pt x="117" y="127"/>
                  </a:lnTo>
                  <a:lnTo>
                    <a:pt x="97" y="118"/>
                  </a:lnTo>
                  <a:lnTo>
                    <a:pt x="77" y="108"/>
                  </a:lnTo>
                  <a:lnTo>
                    <a:pt x="59" y="100"/>
                  </a:lnTo>
                  <a:lnTo>
                    <a:pt x="42" y="90"/>
                  </a:lnTo>
                  <a:lnTo>
                    <a:pt x="27" y="79"/>
                  </a:lnTo>
                  <a:lnTo>
                    <a:pt x="21" y="74"/>
                  </a:lnTo>
                  <a:lnTo>
                    <a:pt x="14" y="68"/>
                  </a:lnTo>
                  <a:lnTo>
                    <a:pt x="10" y="61"/>
                  </a:lnTo>
                  <a:lnTo>
                    <a:pt x="6" y="55"/>
                  </a:lnTo>
                  <a:lnTo>
                    <a:pt x="3" y="48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2"/>
                  </a:lnTo>
                  <a:lnTo>
                    <a:pt x="6" y="9"/>
                  </a:lnTo>
                  <a:lnTo>
                    <a:pt x="8" y="5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8" y="5"/>
                  </a:lnTo>
                  <a:lnTo>
                    <a:pt x="50" y="10"/>
                  </a:lnTo>
                  <a:lnTo>
                    <a:pt x="66" y="17"/>
                  </a:lnTo>
                  <a:lnTo>
                    <a:pt x="87" y="26"/>
                  </a:lnTo>
                  <a:lnTo>
                    <a:pt x="112" y="37"/>
                  </a:lnTo>
                  <a:lnTo>
                    <a:pt x="140" y="52"/>
                  </a:lnTo>
                  <a:lnTo>
                    <a:pt x="156" y="59"/>
                  </a:lnTo>
                  <a:lnTo>
                    <a:pt x="173" y="65"/>
                  </a:lnTo>
                  <a:lnTo>
                    <a:pt x="190" y="71"/>
                  </a:lnTo>
                  <a:lnTo>
                    <a:pt x="206" y="76"/>
                  </a:lnTo>
                  <a:lnTo>
                    <a:pt x="241" y="85"/>
                  </a:lnTo>
                  <a:lnTo>
                    <a:pt x="274" y="92"/>
                  </a:lnTo>
                  <a:lnTo>
                    <a:pt x="304" y="100"/>
                  </a:lnTo>
                  <a:lnTo>
                    <a:pt x="329" y="107"/>
                  </a:lnTo>
                  <a:lnTo>
                    <a:pt x="342" y="109"/>
                  </a:lnTo>
                  <a:lnTo>
                    <a:pt x="352" y="113"/>
                  </a:lnTo>
                  <a:lnTo>
                    <a:pt x="359" y="118"/>
                  </a:lnTo>
                  <a:lnTo>
                    <a:pt x="366" y="122"/>
                  </a:lnTo>
                  <a:lnTo>
                    <a:pt x="377" y="129"/>
                  </a:lnTo>
                  <a:lnTo>
                    <a:pt x="397" y="143"/>
                  </a:lnTo>
                  <a:lnTo>
                    <a:pt x="422" y="159"/>
                  </a:lnTo>
                  <a:lnTo>
                    <a:pt x="450" y="178"/>
                  </a:lnTo>
                  <a:lnTo>
                    <a:pt x="477" y="198"/>
                  </a:lnTo>
                  <a:lnTo>
                    <a:pt x="500" y="218"/>
                  </a:lnTo>
                  <a:lnTo>
                    <a:pt x="509" y="226"/>
                  </a:lnTo>
                  <a:lnTo>
                    <a:pt x="516" y="234"/>
                  </a:lnTo>
                  <a:lnTo>
                    <a:pt x="521" y="241"/>
                  </a:lnTo>
                  <a:lnTo>
                    <a:pt x="524" y="247"/>
                  </a:lnTo>
                  <a:close/>
                </a:path>
              </a:pathLst>
            </a:custGeom>
            <a:solidFill>
              <a:srgbClr val="75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7500960" y="2198880"/>
              <a:ext cx="154080" cy="73080"/>
            </a:xfrm>
            <a:custGeom>
              <a:avLst/>
              <a:gdLst/>
              <a:ahLst/>
              <a:rect l="l" t="t" r="r" b="b"/>
              <a:pathLst>
                <a:path w="483" h="227">
                  <a:moveTo>
                    <a:pt x="483" y="222"/>
                  </a:moveTo>
                  <a:lnTo>
                    <a:pt x="481" y="225"/>
                  </a:lnTo>
                  <a:lnTo>
                    <a:pt x="480" y="226"/>
                  </a:lnTo>
                  <a:lnTo>
                    <a:pt x="479" y="226"/>
                  </a:lnTo>
                  <a:lnTo>
                    <a:pt x="477" y="227"/>
                  </a:lnTo>
                  <a:lnTo>
                    <a:pt x="470" y="227"/>
                  </a:lnTo>
                  <a:lnTo>
                    <a:pt x="462" y="227"/>
                  </a:lnTo>
                  <a:lnTo>
                    <a:pt x="441" y="224"/>
                  </a:lnTo>
                  <a:lnTo>
                    <a:pt x="415" y="218"/>
                  </a:lnTo>
                  <a:lnTo>
                    <a:pt x="389" y="211"/>
                  </a:lnTo>
                  <a:lnTo>
                    <a:pt x="367" y="204"/>
                  </a:lnTo>
                  <a:lnTo>
                    <a:pt x="349" y="198"/>
                  </a:lnTo>
                  <a:lnTo>
                    <a:pt x="339" y="193"/>
                  </a:lnTo>
                  <a:lnTo>
                    <a:pt x="326" y="187"/>
                  </a:lnTo>
                  <a:lnTo>
                    <a:pt x="307" y="179"/>
                  </a:lnTo>
                  <a:lnTo>
                    <a:pt x="282" y="171"/>
                  </a:lnTo>
                  <a:lnTo>
                    <a:pt x="254" y="162"/>
                  </a:lnTo>
                  <a:lnTo>
                    <a:pt x="227" y="152"/>
                  </a:lnTo>
                  <a:lnTo>
                    <a:pt x="200" y="144"/>
                  </a:lnTo>
                  <a:lnTo>
                    <a:pt x="179" y="136"/>
                  </a:lnTo>
                  <a:lnTo>
                    <a:pt x="164" y="130"/>
                  </a:lnTo>
                  <a:lnTo>
                    <a:pt x="146" y="123"/>
                  </a:lnTo>
                  <a:lnTo>
                    <a:pt x="127" y="114"/>
                  </a:lnTo>
                  <a:lnTo>
                    <a:pt x="106" y="106"/>
                  </a:lnTo>
                  <a:lnTo>
                    <a:pt x="87" y="97"/>
                  </a:lnTo>
                  <a:lnTo>
                    <a:pt x="68" y="90"/>
                  </a:lnTo>
                  <a:lnTo>
                    <a:pt x="50" y="81"/>
                  </a:lnTo>
                  <a:lnTo>
                    <a:pt x="35" y="71"/>
                  </a:lnTo>
                  <a:lnTo>
                    <a:pt x="23" y="63"/>
                  </a:lnTo>
                  <a:lnTo>
                    <a:pt x="18" y="59"/>
                  </a:lnTo>
                  <a:lnTo>
                    <a:pt x="13" y="54"/>
                  </a:lnTo>
                  <a:lnTo>
                    <a:pt x="9" y="49"/>
                  </a:lnTo>
                  <a:lnTo>
                    <a:pt x="7" y="44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9" y="4"/>
                  </a:lnTo>
                  <a:lnTo>
                    <a:pt x="37" y="7"/>
                  </a:lnTo>
                  <a:lnTo>
                    <a:pt x="51" y="12"/>
                  </a:lnTo>
                  <a:lnTo>
                    <a:pt x="66" y="20"/>
                  </a:lnTo>
                  <a:lnTo>
                    <a:pt x="84" y="28"/>
                  </a:lnTo>
                  <a:lnTo>
                    <a:pt x="106" y="38"/>
                  </a:lnTo>
                  <a:lnTo>
                    <a:pt x="130" y="49"/>
                  </a:lnTo>
                  <a:lnTo>
                    <a:pt x="142" y="55"/>
                  </a:lnTo>
                  <a:lnTo>
                    <a:pt x="157" y="61"/>
                  </a:lnTo>
                  <a:lnTo>
                    <a:pt x="171" y="66"/>
                  </a:lnTo>
                  <a:lnTo>
                    <a:pt x="187" y="71"/>
                  </a:lnTo>
                  <a:lnTo>
                    <a:pt x="219" y="80"/>
                  </a:lnTo>
                  <a:lnTo>
                    <a:pt x="251" y="87"/>
                  </a:lnTo>
                  <a:lnTo>
                    <a:pt x="281" y="95"/>
                  </a:lnTo>
                  <a:lnTo>
                    <a:pt x="307" y="101"/>
                  </a:lnTo>
                  <a:lnTo>
                    <a:pt x="318" y="104"/>
                  </a:lnTo>
                  <a:lnTo>
                    <a:pt x="328" y="107"/>
                  </a:lnTo>
                  <a:lnTo>
                    <a:pt x="335" y="111"/>
                  </a:lnTo>
                  <a:lnTo>
                    <a:pt x="341" y="114"/>
                  </a:lnTo>
                  <a:lnTo>
                    <a:pt x="350" y="122"/>
                  </a:lnTo>
                  <a:lnTo>
                    <a:pt x="367" y="133"/>
                  </a:lnTo>
                  <a:lnTo>
                    <a:pt x="390" y="147"/>
                  </a:lnTo>
                  <a:lnTo>
                    <a:pt x="416" y="165"/>
                  </a:lnTo>
                  <a:lnTo>
                    <a:pt x="441" y="182"/>
                  </a:lnTo>
                  <a:lnTo>
                    <a:pt x="462" y="198"/>
                  </a:lnTo>
                  <a:lnTo>
                    <a:pt x="470" y="205"/>
                  </a:lnTo>
                  <a:lnTo>
                    <a:pt x="477" y="213"/>
                  </a:lnTo>
                  <a:lnTo>
                    <a:pt x="480" y="219"/>
                  </a:lnTo>
                  <a:lnTo>
                    <a:pt x="483" y="222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7505640" y="2202120"/>
              <a:ext cx="141480" cy="61920"/>
            </a:xfrm>
            <a:custGeom>
              <a:avLst/>
              <a:gdLst/>
              <a:ahLst/>
              <a:rect l="l" t="t" r="r" b="b"/>
              <a:pathLst>
                <a:path w="443" h="199">
                  <a:moveTo>
                    <a:pt x="443" y="196"/>
                  </a:moveTo>
                  <a:lnTo>
                    <a:pt x="441" y="198"/>
                  </a:lnTo>
                  <a:lnTo>
                    <a:pt x="437" y="199"/>
                  </a:lnTo>
                  <a:lnTo>
                    <a:pt x="431" y="199"/>
                  </a:lnTo>
                  <a:lnTo>
                    <a:pt x="422" y="198"/>
                  </a:lnTo>
                  <a:lnTo>
                    <a:pt x="403" y="194"/>
                  </a:lnTo>
                  <a:lnTo>
                    <a:pt x="379" y="188"/>
                  </a:lnTo>
                  <a:lnTo>
                    <a:pt x="356" y="182"/>
                  </a:lnTo>
                  <a:lnTo>
                    <a:pt x="335" y="175"/>
                  </a:lnTo>
                  <a:lnTo>
                    <a:pt x="319" y="168"/>
                  </a:lnTo>
                  <a:lnTo>
                    <a:pt x="310" y="165"/>
                  </a:lnTo>
                  <a:lnTo>
                    <a:pt x="299" y="160"/>
                  </a:lnTo>
                  <a:lnTo>
                    <a:pt x="279" y="151"/>
                  </a:lnTo>
                  <a:lnTo>
                    <a:pt x="254" y="143"/>
                  </a:lnTo>
                  <a:lnTo>
                    <a:pt x="225" y="132"/>
                  </a:lnTo>
                  <a:lnTo>
                    <a:pt x="196" y="122"/>
                  </a:lnTo>
                  <a:lnTo>
                    <a:pt x="171" y="113"/>
                  </a:lnTo>
                  <a:lnTo>
                    <a:pt x="153" y="107"/>
                  </a:lnTo>
                  <a:lnTo>
                    <a:pt x="144" y="103"/>
                  </a:lnTo>
                  <a:lnTo>
                    <a:pt x="129" y="96"/>
                  </a:lnTo>
                  <a:lnTo>
                    <a:pt x="113" y="90"/>
                  </a:lnTo>
                  <a:lnTo>
                    <a:pt x="95" y="82"/>
                  </a:lnTo>
                  <a:lnTo>
                    <a:pt x="76" y="75"/>
                  </a:lnTo>
                  <a:lnTo>
                    <a:pt x="58" y="68"/>
                  </a:lnTo>
                  <a:lnTo>
                    <a:pt x="41" y="60"/>
                  </a:lnTo>
                  <a:lnTo>
                    <a:pt x="26" y="53"/>
                  </a:lnTo>
                  <a:lnTo>
                    <a:pt x="16" y="45"/>
                  </a:lnTo>
                  <a:lnTo>
                    <a:pt x="9" y="39"/>
                  </a:lnTo>
                  <a:lnTo>
                    <a:pt x="4" y="32"/>
                  </a:lnTo>
                  <a:lnTo>
                    <a:pt x="1" y="25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5" y="4"/>
                  </a:lnTo>
                  <a:lnTo>
                    <a:pt x="35" y="9"/>
                  </a:lnTo>
                  <a:lnTo>
                    <a:pt x="48" y="15"/>
                  </a:lnTo>
                  <a:lnTo>
                    <a:pt x="63" y="22"/>
                  </a:lnTo>
                  <a:lnTo>
                    <a:pt x="80" y="31"/>
                  </a:lnTo>
                  <a:lnTo>
                    <a:pt x="99" y="39"/>
                  </a:lnTo>
                  <a:lnTo>
                    <a:pt x="117" y="48"/>
                  </a:lnTo>
                  <a:lnTo>
                    <a:pt x="127" y="53"/>
                  </a:lnTo>
                  <a:lnTo>
                    <a:pt x="138" y="58"/>
                  </a:lnTo>
                  <a:lnTo>
                    <a:pt x="152" y="63"/>
                  </a:lnTo>
                  <a:lnTo>
                    <a:pt x="166" y="68"/>
                  </a:lnTo>
                  <a:lnTo>
                    <a:pt x="196" y="76"/>
                  </a:lnTo>
                  <a:lnTo>
                    <a:pt x="227" y="84"/>
                  </a:lnTo>
                  <a:lnTo>
                    <a:pt x="256" y="91"/>
                  </a:lnTo>
                  <a:lnTo>
                    <a:pt x="282" y="97"/>
                  </a:lnTo>
                  <a:lnTo>
                    <a:pt x="302" y="103"/>
                  </a:lnTo>
                  <a:lnTo>
                    <a:pt x="313" y="108"/>
                  </a:lnTo>
                  <a:lnTo>
                    <a:pt x="320" y="113"/>
                  </a:lnTo>
                  <a:lnTo>
                    <a:pt x="336" y="122"/>
                  </a:lnTo>
                  <a:lnTo>
                    <a:pt x="357" y="134"/>
                  </a:lnTo>
                  <a:lnTo>
                    <a:pt x="380" y="148"/>
                  </a:lnTo>
                  <a:lnTo>
                    <a:pt x="404" y="162"/>
                  </a:lnTo>
                  <a:lnTo>
                    <a:pt x="423" y="176"/>
                  </a:lnTo>
                  <a:lnTo>
                    <a:pt x="432" y="182"/>
                  </a:lnTo>
                  <a:lnTo>
                    <a:pt x="437" y="187"/>
                  </a:lnTo>
                  <a:lnTo>
                    <a:pt x="442" y="192"/>
                  </a:lnTo>
                  <a:lnTo>
                    <a:pt x="443" y="196"/>
                  </a:lnTo>
                  <a:close/>
                </a:path>
              </a:pathLst>
            </a:custGeom>
            <a:solidFill>
              <a:srgbClr val="85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7510320" y="2203560"/>
              <a:ext cx="127080" cy="54000"/>
            </a:xfrm>
            <a:custGeom>
              <a:avLst/>
              <a:gdLst/>
              <a:ahLst/>
              <a:rect l="l" t="t" r="r" b="b"/>
              <a:pathLst>
                <a:path w="401" h="173">
                  <a:moveTo>
                    <a:pt x="10" y="0"/>
                  </a:moveTo>
                  <a:lnTo>
                    <a:pt x="12" y="1"/>
                  </a:lnTo>
                  <a:lnTo>
                    <a:pt x="20" y="5"/>
                  </a:lnTo>
                  <a:lnTo>
                    <a:pt x="31" y="11"/>
                  </a:lnTo>
                  <a:lnTo>
                    <a:pt x="44" y="17"/>
                  </a:lnTo>
                  <a:lnTo>
                    <a:pt x="60" y="25"/>
                  </a:lnTo>
                  <a:lnTo>
                    <a:pt x="76" y="33"/>
                  </a:lnTo>
                  <a:lnTo>
                    <a:pt x="91" y="42"/>
                  </a:lnTo>
                  <a:lnTo>
                    <a:pt x="105" y="49"/>
                  </a:lnTo>
                  <a:lnTo>
                    <a:pt x="121" y="55"/>
                  </a:lnTo>
                  <a:lnTo>
                    <a:pt x="145" y="63"/>
                  </a:lnTo>
                  <a:lnTo>
                    <a:pt x="172" y="70"/>
                  </a:lnTo>
                  <a:lnTo>
                    <a:pt x="202" y="77"/>
                  </a:lnTo>
                  <a:lnTo>
                    <a:pt x="231" y="85"/>
                  </a:lnTo>
                  <a:lnTo>
                    <a:pt x="256" y="91"/>
                  </a:lnTo>
                  <a:lnTo>
                    <a:pt x="274" y="97"/>
                  </a:lnTo>
                  <a:lnTo>
                    <a:pt x="284" y="101"/>
                  </a:lnTo>
                  <a:lnTo>
                    <a:pt x="292" y="104"/>
                  </a:lnTo>
                  <a:lnTo>
                    <a:pt x="306" y="112"/>
                  </a:lnTo>
                  <a:lnTo>
                    <a:pt x="325" y="123"/>
                  </a:lnTo>
                  <a:lnTo>
                    <a:pt x="347" y="134"/>
                  </a:lnTo>
                  <a:lnTo>
                    <a:pt x="367" y="145"/>
                  </a:lnTo>
                  <a:lnTo>
                    <a:pt x="385" y="156"/>
                  </a:lnTo>
                  <a:lnTo>
                    <a:pt x="391" y="161"/>
                  </a:lnTo>
                  <a:lnTo>
                    <a:pt x="397" y="165"/>
                  </a:lnTo>
                  <a:lnTo>
                    <a:pt x="400" y="168"/>
                  </a:lnTo>
                  <a:lnTo>
                    <a:pt x="401" y="171"/>
                  </a:lnTo>
                  <a:lnTo>
                    <a:pt x="399" y="173"/>
                  </a:lnTo>
                  <a:lnTo>
                    <a:pt x="395" y="173"/>
                  </a:lnTo>
                  <a:lnTo>
                    <a:pt x="389" y="173"/>
                  </a:lnTo>
                  <a:lnTo>
                    <a:pt x="381" y="172"/>
                  </a:lnTo>
                  <a:lnTo>
                    <a:pt x="363" y="167"/>
                  </a:lnTo>
                  <a:lnTo>
                    <a:pt x="342" y="160"/>
                  </a:lnTo>
                  <a:lnTo>
                    <a:pt x="321" y="151"/>
                  </a:lnTo>
                  <a:lnTo>
                    <a:pt x="301" y="144"/>
                  </a:lnTo>
                  <a:lnTo>
                    <a:pt x="288" y="139"/>
                  </a:lnTo>
                  <a:lnTo>
                    <a:pt x="282" y="136"/>
                  </a:lnTo>
                  <a:lnTo>
                    <a:pt x="272" y="133"/>
                  </a:lnTo>
                  <a:lnTo>
                    <a:pt x="251" y="124"/>
                  </a:lnTo>
                  <a:lnTo>
                    <a:pt x="225" y="114"/>
                  </a:lnTo>
                  <a:lnTo>
                    <a:pt x="196" y="103"/>
                  </a:lnTo>
                  <a:lnTo>
                    <a:pt x="167" y="92"/>
                  </a:lnTo>
                  <a:lnTo>
                    <a:pt x="144" y="84"/>
                  </a:lnTo>
                  <a:lnTo>
                    <a:pt x="129" y="79"/>
                  </a:lnTo>
                  <a:lnTo>
                    <a:pt x="127" y="79"/>
                  </a:lnTo>
                  <a:lnTo>
                    <a:pt x="116" y="74"/>
                  </a:lnTo>
                  <a:lnTo>
                    <a:pt x="101" y="68"/>
                  </a:lnTo>
                  <a:lnTo>
                    <a:pt x="84" y="61"/>
                  </a:lnTo>
                  <a:lnTo>
                    <a:pt x="66" y="54"/>
                  </a:lnTo>
                  <a:lnTo>
                    <a:pt x="48" y="48"/>
                  </a:lnTo>
                  <a:lnTo>
                    <a:pt x="33" y="40"/>
                  </a:lnTo>
                  <a:lnTo>
                    <a:pt x="20" y="34"/>
                  </a:lnTo>
                  <a:lnTo>
                    <a:pt x="12" y="29"/>
                  </a:lnTo>
                  <a:lnTo>
                    <a:pt x="7" y="26"/>
                  </a:lnTo>
                  <a:lnTo>
                    <a:pt x="4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7526520" y="2297160"/>
              <a:ext cx="145800" cy="31680"/>
            </a:xfrm>
            <a:custGeom>
              <a:avLst/>
              <a:gdLst/>
              <a:ahLst/>
              <a:rect l="l" t="t" r="r" b="b"/>
              <a:pathLst>
                <a:path w="456" h="102">
                  <a:moveTo>
                    <a:pt x="253" y="95"/>
                  </a:moveTo>
                  <a:lnTo>
                    <a:pt x="226" y="96"/>
                  </a:lnTo>
                  <a:lnTo>
                    <a:pt x="200" y="99"/>
                  </a:lnTo>
                  <a:lnTo>
                    <a:pt x="176" y="100"/>
                  </a:lnTo>
                  <a:lnTo>
                    <a:pt x="152" y="101"/>
                  </a:lnTo>
                  <a:lnTo>
                    <a:pt x="129" y="102"/>
                  </a:lnTo>
                  <a:lnTo>
                    <a:pt x="108" y="102"/>
                  </a:lnTo>
                  <a:lnTo>
                    <a:pt x="87" y="101"/>
                  </a:lnTo>
                  <a:lnTo>
                    <a:pt x="66" y="98"/>
                  </a:lnTo>
                  <a:lnTo>
                    <a:pt x="56" y="96"/>
                  </a:lnTo>
                  <a:lnTo>
                    <a:pt x="46" y="93"/>
                  </a:lnTo>
                  <a:lnTo>
                    <a:pt x="37" y="89"/>
                  </a:lnTo>
                  <a:lnTo>
                    <a:pt x="29" y="85"/>
                  </a:lnTo>
                  <a:lnTo>
                    <a:pt x="22" y="80"/>
                  </a:lnTo>
                  <a:lnTo>
                    <a:pt x="16" y="74"/>
                  </a:lnTo>
                  <a:lnTo>
                    <a:pt x="11" y="69"/>
                  </a:lnTo>
                  <a:lnTo>
                    <a:pt x="6" y="63"/>
                  </a:lnTo>
                  <a:lnTo>
                    <a:pt x="3" y="57"/>
                  </a:lnTo>
                  <a:lnTo>
                    <a:pt x="1" y="51"/>
                  </a:lnTo>
                  <a:lnTo>
                    <a:pt x="0" y="45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6" y="27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3" y="18"/>
                  </a:lnTo>
                  <a:lnTo>
                    <a:pt x="32" y="15"/>
                  </a:lnTo>
                  <a:lnTo>
                    <a:pt x="44" y="14"/>
                  </a:lnTo>
                  <a:lnTo>
                    <a:pt x="62" y="11"/>
                  </a:lnTo>
                  <a:lnTo>
                    <a:pt x="87" y="10"/>
                  </a:lnTo>
                  <a:lnTo>
                    <a:pt x="119" y="9"/>
                  </a:lnTo>
                  <a:lnTo>
                    <a:pt x="158" y="8"/>
                  </a:lnTo>
                  <a:lnTo>
                    <a:pt x="198" y="8"/>
                  </a:lnTo>
                  <a:lnTo>
                    <a:pt x="232" y="6"/>
                  </a:lnTo>
                  <a:lnTo>
                    <a:pt x="262" y="4"/>
                  </a:lnTo>
                  <a:lnTo>
                    <a:pt x="288" y="3"/>
                  </a:lnTo>
                  <a:lnTo>
                    <a:pt x="310" y="2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65" y="3"/>
                  </a:lnTo>
                  <a:lnTo>
                    <a:pt x="382" y="5"/>
                  </a:lnTo>
                  <a:lnTo>
                    <a:pt x="398" y="9"/>
                  </a:lnTo>
                  <a:lnTo>
                    <a:pt x="415" y="13"/>
                  </a:lnTo>
                  <a:lnTo>
                    <a:pt x="430" y="19"/>
                  </a:lnTo>
                  <a:lnTo>
                    <a:pt x="436" y="22"/>
                  </a:lnTo>
                  <a:lnTo>
                    <a:pt x="443" y="26"/>
                  </a:lnTo>
                  <a:lnTo>
                    <a:pt x="447" y="30"/>
                  </a:lnTo>
                  <a:lnTo>
                    <a:pt x="451" y="35"/>
                  </a:lnTo>
                  <a:lnTo>
                    <a:pt x="454" y="40"/>
                  </a:lnTo>
                  <a:lnTo>
                    <a:pt x="456" y="45"/>
                  </a:lnTo>
                  <a:lnTo>
                    <a:pt x="456" y="51"/>
                  </a:lnTo>
                  <a:lnTo>
                    <a:pt x="455" y="57"/>
                  </a:lnTo>
                  <a:lnTo>
                    <a:pt x="451" y="63"/>
                  </a:lnTo>
                  <a:lnTo>
                    <a:pt x="446" y="68"/>
                  </a:lnTo>
                  <a:lnTo>
                    <a:pt x="439" y="73"/>
                  </a:lnTo>
                  <a:lnTo>
                    <a:pt x="430" y="77"/>
                  </a:lnTo>
                  <a:lnTo>
                    <a:pt x="419" y="79"/>
                  </a:lnTo>
                  <a:lnTo>
                    <a:pt x="407" y="82"/>
                  </a:lnTo>
                  <a:lnTo>
                    <a:pt x="393" y="84"/>
                  </a:lnTo>
                  <a:lnTo>
                    <a:pt x="380" y="86"/>
                  </a:lnTo>
                  <a:lnTo>
                    <a:pt x="349" y="89"/>
                  </a:lnTo>
                  <a:lnTo>
                    <a:pt x="317" y="91"/>
                  </a:lnTo>
                  <a:lnTo>
                    <a:pt x="284" y="94"/>
                  </a:lnTo>
                  <a:lnTo>
                    <a:pt x="253" y="95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7532640" y="2298960"/>
              <a:ext cx="128520" cy="23760"/>
            </a:xfrm>
            <a:custGeom>
              <a:avLst/>
              <a:gdLst/>
              <a:ahLst/>
              <a:rect l="l" t="t" r="r" b="b"/>
              <a:pathLst>
                <a:path w="406" h="79">
                  <a:moveTo>
                    <a:pt x="218" y="73"/>
                  </a:moveTo>
                  <a:lnTo>
                    <a:pt x="196" y="74"/>
                  </a:lnTo>
                  <a:lnTo>
                    <a:pt x="173" y="75"/>
                  </a:lnTo>
                  <a:lnTo>
                    <a:pt x="150" y="76"/>
                  </a:lnTo>
                  <a:lnTo>
                    <a:pt x="128" y="78"/>
                  </a:lnTo>
                  <a:lnTo>
                    <a:pt x="106" y="79"/>
                  </a:lnTo>
                  <a:lnTo>
                    <a:pt x="86" y="79"/>
                  </a:lnTo>
                  <a:lnTo>
                    <a:pt x="67" y="78"/>
                  </a:lnTo>
                  <a:lnTo>
                    <a:pt x="50" y="75"/>
                  </a:lnTo>
                  <a:lnTo>
                    <a:pt x="42" y="74"/>
                  </a:lnTo>
                  <a:lnTo>
                    <a:pt x="35" y="71"/>
                  </a:lnTo>
                  <a:lnTo>
                    <a:pt x="29" y="69"/>
                  </a:lnTo>
                  <a:lnTo>
                    <a:pt x="22" y="65"/>
                  </a:lnTo>
                  <a:lnTo>
                    <a:pt x="18" y="62"/>
                  </a:lnTo>
                  <a:lnTo>
                    <a:pt x="13" y="57"/>
                  </a:lnTo>
                  <a:lnTo>
                    <a:pt x="9" y="53"/>
                  </a:lnTo>
                  <a:lnTo>
                    <a:pt x="5" y="48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8" y="16"/>
                  </a:lnTo>
                  <a:lnTo>
                    <a:pt x="11" y="12"/>
                  </a:lnTo>
                  <a:lnTo>
                    <a:pt x="14" y="12"/>
                  </a:lnTo>
                  <a:lnTo>
                    <a:pt x="20" y="11"/>
                  </a:lnTo>
                  <a:lnTo>
                    <a:pt x="30" y="11"/>
                  </a:lnTo>
                  <a:lnTo>
                    <a:pt x="43" y="10"/>
                  </a:lnTo>
                  <a:lnTo>
                    <a:pt x="62" y="9"/>
                  </a:lnTo>
                  <a:lnTo>
                    <a:pt x="84" y="6"/>
                  </a:lnTo>
                  <a:lnTo>
                    <a:pt x="111" y="5"/>
                  </a:lnTo>
                  <a:lnTo>
                    <a:pt x="142" y="4"/>
                  </a:lnTo>
                  <a:lnTo>
                    <a:pt x="175" y="4"/>
                  </a:lnTo>
                  <a:lnTo>
                    <a:pt x="206" y="2"/>
                  </a:lnTo>
                  <a:lnTo>
                    <a:pt x="234" y="2"/>
                  </a:lnTo>
                  <a:lnTo>
                    <a:pt x="260" y="1"/>
                  </a:lnTo>
                  <a:lnTo>
                    <a:pt x="285" y="0"/>
                  </a:lnTo>
                  <a:lnTo>
                    <a:pt x="305" y="0"/>
                  </a:lnTo>
                  <a:lnTo>
                    <a:pt x="323" y="0"/>
                  </a:lnTo>
                  <a:lnTo>
                    <a:pt x="337" y="1"/>
                  </a:lnTo>
                  <a:lnTo>
                    <a:pt x="351" y="4"/>
                  </a:lnTo>
                  <a:lnTo>
                    <a:pt x="364" y="6"/>
                  </a:lnTo>
                  <a:lnTo>
                    <a:pt x="377" y="10"/>
                  </a:lnTo>
                  <a:lnTo>
                    <a:pt x="388" y="15"/>
                  </a:lnTo>
                  <a:lnTo>
                    <a:pt x="398" y="20"/>
                  </a:lnTo>
                  <a:lnTo>
                    <a:pt x="404" y="26"/>
                  </a:lnTo>
                  <a:lnTo>
                    <a:pt x="405" y="30"/>
                  </a:lnTo>
                  <a:lnTo>
                    <a:pt x="406" y="33"/>
                  </a:lnTo>
                  <a:lnTo>
                    <a:pt x="406" y="38"/>
                  </a:lnTo>
                  <a:lnTo>
                    <a:pt x="406" y="42"/>
                  </a:lnTo>
                  <a:lnTo>
                    <a:pt x="404" y="47"/>
                  </a:lnTo>
                  <a:lnTo>
                    <a:pt x="399" y="52"/>
                  </a:lnTo>
                  <a:lnTo>
                    <a:pt x="392" y="55"/>
                  </a:lnTo>
                  <a:lnTo>
                    <a:pt x="383" y="58"/>
                  </a:lnTo>
                  <a:lnTo>
                    <a:pt x="360" y="63"/>
                  </a:lnTo>
                  <a:lnTo>
                    <a:pt x="333" y="66"/>
                  </a:lnTo>
                  <a:lnTo>
                    <a:pt x="303" y="69"/>
                  </a:lnTo>
                  <a:lnTo>
                    <a:pt x="272" y="70"/>
                  </a:lnTo>
                  <a:lnTo>
                    <a:pt x="243" y="71"/>
                  </a:lnTo>
                  <a:lnTo>
                    <a:pt x="218" y="73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7539120" y="2298960"/>
              <a:ext cx="114120" cy="17280"/>
            </a:xfrm>
            <a:custGeom>
              <a:avLst/>
              <a:gdLst/>
              <a:ahLst/>
              <a:rect l="l" t="t" r="r" b="b"/>
              <a:pathLst>
                <a:path w="359" h="54">
                  <a:moveTo>
                    <a:pt x="180" y="49"/>
                  </a:moveTo>
                  <a:lnTo>
                    <a:pt x="162" y="50"/>
                  </a:lnTo>
                  <a:lnTo>
                    <a:pt x="144" y="51"/>
                  </a:lnTo>
                  <a:lnTo>
                    <a:pt x="123" y="53"/>
                  </a:lnTo>
                  <a:lnTo>
                    <a:pt x="103" y="54"/>
                  </a:lnTo>
                  <a:lnTo>
                    <a:pt x="84" y="54"/>
                  </a:lnTo>
                  <a:lnTo>
                    <a:pt x="65" y="54"/>
                  </a:lnTo>
                  <a:lnTo>
                    <a:pt x="48" y="54"/>
                  </a:lnTo>
                  <a:lnTo>
                    <a:pt x="36" y="51"/>
                  </a:lnTo>
                  <a:lnTo>
                    <a:pt x="25" y="50"/>
                  </a:lnTo>
                  <a:lnTo>
                    <a:pt x="16" y="45"/>
                  </a:lnTo>
                  <a:lnTo>
                    <a:pt x="9" y="40"/>
                  </a:lnTo>
                  <a:lnTo>
                    <a:pt x="4" y="33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5" y="11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4" y="6"/>
                  </a:lnTo>
                  <a:lnTo>
                    <a:pt x="63" y="5"/>
                  </a:lnTo>
                  <a:lnTo>
                    <a:pt x="82" y="3"/>
                  </a:lnTo>
                  <a:lnTo>
                    <a:pt x="105" y="3"/>
                  </a:lnTo>
                  <a:lnTo>
                    <a:pt x="128" y="3"/>
                  </a:lnTo>
                  <a:lnTo>
                    <a:pt x="153" y="2"/>
                  </a:lnTo>
                  <a:lnTo>
                    <a:pt x="178" y="1"/>
                  </a:lnTo>
                  <a:lnTo>
                    <a:pt x="207" y="0"/>
                  </a:lnTo>
                  <a:lnTo>
                    <a:pt x="233" y="0"/>
                  </a:lnTo>
                  <a:lnTo>
                    <a:pt x="258" y="0"/>
                  </a:lnTo>
                  <a:lnTo>
                    <a:pt x="279" y="0"/>
                  </a:lnTo>
                  <a:lnTo>
                    <a:pt x="298" y="0"/>
                  </a:lnTo>
                  <a:lnTo>
                    <a:pt x="310" y="0"/>
                  </a:lnTo>
                  <a:lnTo>
                    <a:pt x="319" y="1"/>
                  </a:lnTo>
                  <a:lnTo>
                    <a:pt x="329" y="3"/>
                  </a:lnTo>
                  <a:lnTo>
                    <a:pt x="337" y="6"/>
                  </a:lnTo>
                  <a:lnTo>
                    <a:pt x="346" y="10"/>
                  </a:lnTo>
                  <a:lnTo>
                    <a:pt x="352" y="13"/>
                  </a:lnTo>
                  <a:lnTo>
                    <a:pt x="357" y="18"/>
                  </a:lnTo>
                  <a:lnTo>
                    <a:pt x="358" y="21"/>
                  </a:lnTo>
                  <a:lnTo>
                    <a:pt x="359" y="23"/>
                  </a:lnTo>
                  <a:lnTo>
                    <a:pt x="359" y="27"/>
                  </a:lnTo>
                  <a:lnTo>
                    <a:pt x="358" y="30"/>
                  </a:lnTo>
                  <a:lnTo>
                    <a:pt x="356" y="33"/>
                  </a:lnTo>
                  <a:lnTo>
                    <a:pt x="351" y="37"/>
                  </a:lnTo>
                  <a:lnTo>
                    <a:pt x="343" y="39"/>
                  </a:lnTo>
                  <a:lnTo>
                    <a:pt x="335" y="40"/>
                  </a:lnTo>
                  <a:lnTo>
                    <a:pt x="311" y="44"/>
                  </a:lnTo>
                  <a:lnTo>
                    <a:pt x="283" y="45"/>
                  </a:lnTo>
                  <a:lnTo>
                    <a:pt x="253" y="46"/>
                  </a:lnTo>
                  <a:lnTo>
                    <a:pt x="225" y="48"/>
                  </a:lnTo>
                  <a:lnTo>
                    <a:pt x="199" y="49"/>
                  </a:lnTo>
                  <a:lnTo>
                    <a:pt x="180" y="49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7545240" y="2300400"/>
              <a:ext cx="98640" cy="9360"/>
            </a:xfrm>
            <a:custGeom>
              <a:avLst/>
              <a:gdLst/>
              <a:ahLst/>
              <a:rect l="l" t="t" r="r" b="b"/>
              <a:pathLst>
                <a:path w="309" h="32">
                  <a:moveTo>
                    <a:pt x="5" y="6"/>
                  </a:moveTo>
                  <a:lnTo>
                    <a:pt x="7" y="6"/>
                  </a:lnTo>
                  <a:lnTo>
                    <a:pt x="16" y="5"/>
                  </a:lnTo>
                  <a:lnTo>
                    <a:pt x="28" y="5"/>
                  </a:lnTo>
                  <a:lnTo>
                    <a:pt x="44" y="4"/>
                  </a:lnTo>
                  <a:lnTo>
                    <a:pt x="61" y="3"/>
                  </a:lnTo>
                  <a:lnTo>
                    <a:pt x="78" y="1"/>
                  </a:lnTo>
                  <a:lnTo>
                    <a:pt x="96" y="1"/>
                  </a:lnTo>
                  <a:lnTo>
                    <a:pt x="110" y="1"/>
                  </a:lnTo>
                  <a:lnTo>
                    <a:pt x="128" y="1"/>
                  </a:lnTo>
                  <a:lnTo>
                    <a:pt x="151" y="0"/>
                  </a:lnTo>
                  <a:lnTo>
                    <a:pt x="177" y="0"/>
                  </a:lnTo>
                  <a:lnTo>
                    <a:pt x="204" y="0"/>
                  </a:lnTo>
                  <a:lnTo>
                    <a:pt x="230" y="0"/>
                  </a:lnTo>
                  <a:lnTo>
                    <a:pt x="252" y="0"/>
                  </a:lnTo>
                  <a:lnTo>
                    <a:pt x="269" y="0"/>
                  </a:lnTo>
                  <a:lnTo>
                    <a:pt x="279" y="1"/>
                  </a:lnTo>
                  <a:lnTo>
                    <a:pt x="285" y="1"/>
                  </a:lnTo>
                  <a:lnTo>
                    <a:pt x="291" y="3"/>
                  </a:lnTo>
                  <a:lnTo>
                    <a:pt x="296" y="4"/>
                  </a:lnTo>
                  <a:lnTo>
                    <a:pt x="301" y="6"/>
                  </a:lnTo>
                  <a:lnTo>
                    <a:pt x="305" y="8"/>
                  </a:lnTo>
                  <a:lnTo>
                    <a:pt x="307" y="10"/>
                  </a:lnTo>
                  <a:lnTo>
                    <a:pt x="309" y="14"/>
                  </a:lnTo>
                  <a:lnTo>
                    <a:pt x="309" y="17"/>
                  </a:lnTo>
                  <a:lnTo>
                    <a:pt x="306" y="19"/>
                  </a:lnTo>
                  <a:lnTo>
                    <a:pt x="302" y="21"/>
                  </a:lnTo>
                  <a:lnTo>
                    <a:pt x="295" y="22"/>
                  </a:lnTo>
                  <a:lnTo>
                    <a:pt x="285" y="24"/>
                  </a:lnTo>
                  <a:lnTo>
                    <a:pt x="262" y="26"/>
                  </a:lnTo>
                  <a:lnTo>
                    <a:pt x="233" y="27"/>
                  </a:lnTo>
                  <a:lnTo>
                    <a:pt x="205" y="27"/>
                  </a:lnTo>
                  <a:lnTo>
                    <a:pt x="179" y="28"/>
                  </a:lnTo>
                  <a:lnTo>
                    <a:pt x="157" y="28"/>
                  </a:lnTo>
                  <a:lnTo>
                    <a:pt x="142" y="28"/>
                  </a:lnTo>
                  <a:lnTo>
                    <a:pt x="131" y="30"/>
                  </a:lnTo>
                  <a:lnTo>
                    <a:pt x="117" y="30"/>
                  </a:lnTo>
                  <a:lnTo>
                    <a:pt x="98" y="31"/>
                  </a:lnTo>
                  <a:lnTo>
                    <a:pt x="80" y="31"/>
                  </a:lnTo>
                  <a:lnTo>
                    <a:pt x="61" y="32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21" y="31"/>
                  </a:lnTo>
                  <a:lnTo>
                    <a:pt x="14" y="30"/>
                  </a:lnTo>
                  <a:lnTo>
                    <a:pt x="10" y="27"/>
                  </a:lnTo>
                  <a:lnTo>
                    <a:pt x="6" y="24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7359480" y="2298960"/>
              <a:ext cx="46080" cy="152280"/>
            </a:xfrm>
            <a:custGeom>
              <a:avLst/>
              <a:gdLst/>
              <a:ahLst/>
              <a:rect l="l" t="t" r="r" b="b"/>
              <a:pathLst>
                <a:path w="145" h="481">
                  <a:moveTo>
                    <a:pt x="45" y="481"/>
                  </a:moveTo>
                  <a:lnTo>
                    <a:pt x="49" y="468"/>
                  </a:lnTo>
                  <a:lnTo>
                    <a:pt x="53" y="454"/>
                  </a:lnTo>
                  <a:lnTo>
                    <a:pt x="55" y="441"/>
                  </a:lnTo>
                  <a:lnTo>
                    <a:pt x="56" y="426"/>
                  </a:lnTo>
                  <a:lnTo>
                    <a:pt x="58" y="412"/>
                  </a:lnTo>
                  <a:lnTo>
                    <a:pt x="58" y="400"/>
                  </a:lnTo>
                  <a:lnTo>
                    <a:pt x="56" y="386"/>
                  </a:lnTo>
                  <a:lnTo>
                    <a:pt x="54" y="375"/>
                  </a:lnTo>
                  <a:lnTo>
                    <a:pt x="44" y="342"/>
                  </a:lnTo>
                  <a:lnTo>
                    <a:pt x="34" y="305"/>
                  </a:lnTo>
                  <a:lnTo>
                    <a:pt x="24" y="265"/>
                  </a:lnTo>
                  <a:lnTo>
                    <a:pt x="16" y="220"/>
                  </a:lnTo>
                  <a:lnTo>
                    <a:pt x="11" y="197"/>
                  </a:lnTo>
                  <a:lnTo>
                    <a:pt x="7" y="172"/>
                  </a:lnTo>
                  <a:lnTo>
                    <a:pt x="5" y="147"/>
                  </a:lnTo>
                  <a:lnTo>
                    <a:pt x="2" y="120"/>
                  </a:lnTo>
                  <a:lnTo>
                    <a:pt x="1" y="91"/>
                  </a:lnTo>
                  <a:lnTo>
                    <a:pt x="0" y="62"/>
                  </a:lnTo>
                  <a:lnTo>
                    <a:pt x="0" y="32"/>
                  </a:lnTo>
                  <a:lnTo>
                    <a:pt x="2" y="0"/>
                  </a:lnTo>
                  <a:lnTo>
                    <a:pt x="5" y="10"/>
                  </a:lnTo>
                  <a:lnTo>
                    <a:pt x="12" y="36"/>
                  </a:lnTo>
                  <a:lnTo>
                    <a:pt x="24" y="74"/>
                  </a:lnTo>
                  <a:lnTo>
                    <a:pt x="39" y="120"/>
                  </a:lnTo>
                  <a:lnTo>
                    <a:pt x="49" y="144"/>
                  </a:lnTo>
                  <a:lnTo>
                    <a:pt x="59" y="168"/>
                  </a:lnTo>
                  <a:lnTo>
                    <a:pt x="69" y="192"/>
                  </a:lnTo>
                  <a:lnTo>
                    <a:pt x="80" y="214"/>
                  </a:lnTo>
                  <a:lnTo>
                    <a:pt x="91" y="236"/>
                  </a:lnTo>
                  <a:lnTo>
                    <a:pt x="103" y="256"/>
                  </a:lnTo>
                  <a:lnTo>
                    <a:pt x="114" y="272"/>
                  </a:lnTo>
                  <a:lnTo>
                    <a:pt x="127" y="286"/>
                  </a:lnTo>
                  <a:lnTo>
                    <a:pt x="133" y="292"/>
                  </a:lnTo>
                  <a:lnTo>
                    <a:pt x="138" y="298"/>
                  </a:lnTo>
                  <a:lnTo>
                    <a:pt x="140" y="304"/>
                  </a:lnTo>
                  <a:lnTo>
                    <a:pt x="143" y="311"/>
                  </a:lnTo>
                  <a:lnTo>
                    <a:pt x="144" y="319"/>
                  </a:lnTo>
                  <a:lnTo>
                    <a:pt x="145" y="326"/>
                  </a:lnTo>
                  <a:lnTo>
                    <a:pt x="144" y="334"/>
                  </a:lnTo>
                  <a:lnTo>
                    <a:pt x="143" y="341"/>
                  </a:lnTo>
                  <a:lnTo>
                    <a:pt x="138" y="358"/>
                  </a:lnTo>
                  <a:lnTo>
                    <a:pt x="130" y="374"/>
                  </a:lnTo>
                  <a:lnTo>
                    <a:pt x="122" y="390"/>
                  </a:lnTo>
                  <a:lnTo>
                    <a:pt x="112" y="406"/>
                  </a:lnTo>
                  <a:lnTo>
                    <a:pt x="101" y="421"/>
                  </a:lnTo>
                  <a:lnTo>
                    <a:pt x="88" y="436"/>
                  </a:lnTo>
                  <a:lnTo>
                    <a:pt x="77" y="448"/>
                  </a:lnTo>
                  <a:lnTo>
                    <a:pt x="68" y="459"/>
                  </a:lnTo>
                  <a:lnTo>
                    <a:pt x="52" y="475"/>
                  </a:lnTo>
                  <a:lnTo>
                    <a:pt x="45" y="481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7359480" y="2306880"/>
              <a:ext cx="41400" cy="139680"/>
            </a:xfrm>
            <a:custGeom>
              <a:avLst/>
              <a:gdLst/>
              <a:ahLst/>
              <a:rect l="l" t="t" r="r" b="b"/>
              <a:pathLst>
                <a:path w="128" h="438">
                  <a:moveTo>
                    <a:pt x="110" y="270"/>
                  </a:moveTo>
                  <a:lnTo>
                    <a:pt x="115" y="276"/>
                  </a:lnTo>
                  <a:lnTo>
                    <a:pt x="119" y="282"/>
                  </a:lnTo>
                  <a:lnTo>
                    <a:pt x="123" y="288"/>
                  </a:lnTo>
                  <a:lnTo>
                    <a:pt x="126" y="294"/>
                  </a:lnTo>
                  <a:lnTo>
                    <a:pt x="128" y="302"/>
                  </a:lnTo>
                  <a:lnTo>
                    <a:pt x="128" y="308"/>
                  </a:lnTo>
                  <a:lnTo>
                    <a:pt x="128" y="315"/>
                  </a:lnTo>
                  <a:lnTo>
                    <a:pt x="128" y="323"/>
                  </a:lnTo>
                  <a:lnTo>
                    <a:pt x="126" y="336"/>
                  </a:lnTo>
                  <a:lnTo>
                    <a:pt x="121" y="351"/>
                  </a:lnTo>
                  <a:lnTo>
                    <a:pt x="113" y="364"/>
                  </a:lnTo>
                  <a:lnTo>
                    <a:pt x="106" y="377"/>
                  </a:lnTo>
                  <a:lnTo>
                    <a:pt x="97" y="390"/>
                  </a:lnTo>
                  <a:lnTo>
                    <a:pt x="87" y="401"/>
                  </a:lnTo>
                  <a:lnTo>
                    <a:pt x="79" y="411"/>
                  </a:lnTo>
                  <a:lnTo>
                    <a:pt x="70" y="421"/>
                  </a:lnTo>
                  <a:lnTo>
                    <a:pt x="58" y="433"/>
                  </a:lnTo>
                  <a:lnTo>
                    <a:pt x="53" y="438"/>
                  </a:lnTo>
                  <a:lnTo>
                    <a:pt x="55" y="425"/>
                  </a:lnTo>
                  <a:lnTo>
                    <a:pt x="58" y="414"/>
                  </a:lnTo>
                  <a:lnTo>
                    <a:pt x="59" y="403"/>
                  </a:lnTo>
                  <a:lnTo>
                    <a:pt x="59" y="391"/>
                  </a:lnTo>
                  <a:lnTo>
                    <a:pt x="59" y="380"/>
                  </a:lnTo>
                  <a:lnTo>
                    <a:pt x="58" y="371"/>
                  </a:lnTo>
                  <a:lnTo>
                    <a:pt x="55" y="359"/>
                  </a:lnTo>
                  <a:lnTo>
                    <a:pt x="53" y="348"/>
                  </a:lnTo>
                  <a:lnTo>
                    <a:pt x="43" y="316"/>
                  </a:lnTo>
                  <a:lnTo>
                    <a:pt x="35" y="282"/>
                  </a:lnTo>
                  <a:lnTo>
                    <a:pt x="25" y="244"/>
                  </a:lnTo>
                  <a:lnTo>
                    <a:pt x="16" y="204"/>
                  </a:lnTo>
                  <a:lnTo>
                    <a:pt x="12" y="182"/>
                  </a:lnTo>
                  <a:lnTo>
                    <a:pt x="9" y="160"/>
                  </a:lnTo>
                  <a:lnTo>
                    <a:pt x="6" y="137"/>
                  </a:lnTo>
                  <a:lnTo>
                    <a:pt x="4" y="112"/>
                  </a:lnTo>
                  <a:lnTo>
                    <a:pt x="1" y="86"/>
                  </a:lnTo>
                  <a:lnTo>
                    <a:pt x="0" y="59"/>
                  </a:lnTo>
                  <a:lnTo>
                    <a:pt x="0" y="31"/>
                  </a:lnTo>
                  <a:lnTo>
                    <a:pt x="1" y="0"/>
                  </a:lnTo>
                  <a:lnTo>
                    <a:pt x="3" y="10"/>
                  </a:lnTo>
                  <a:lnTo>
                    <a:pt x="9" y="34"/>
                  </a:lnTo>
                  <a:lnTo>
                    <a:pt x="17" y="69"/>
                  </a:lnTo>
                  <a:lnTo>
                    <a:pt x="30" y="112"/>
                  </a:lnTo>
                  <a:lnTo>
                    <a:pt x="37" y="134"/>
                  </a:lnTo>
                  <a:lnTo>
                    <a:pt x="46" y="157"/>
                  </a:lnTo>
                  <a:lnTo>
                    <a:pt x="54" y="180"/>
                  </a:lnTo>
                  <a:lnTo>
                    <a:pt x="64" y="201"/>
                  </a:lnTo>
                  <a:lnTo>
                    <a:pt x="74" y="222"/>
                  </a:lnTo>
                  <a:lnTo>
                    <a:pt x="85" y="240"/>
                  </a:lnTo>
                  <a:lnTo>
                    <a:pt x="97" y="256"/>
                  </a:lnTo>
                  <a:lnTo>
                    <a:pt x="110" y="270"/>
                  </a:lnTo>
                  <a:close/>
                </a:path>
              </a:pathLst>
            </a:custGeom>
            <a:solidFill>
              <a:srgbClr val="5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7361280" y="2316240"/>
              <a:ext cx="34920" cy="125280"/>
            </a:xfrm>
            <a:custGeom>
              <a:avLst/>
              <a:gdLst/>
              <a:ahLst/>
              <a:rect l="l" t="t" r="r" b="b"/>
              <a:pathLst>
                <a:path w="111" h="398">
                  <a:moveTo>
                    <a:pt x="86" y="254"/>
                  </a:moveTo>
                  <a:lnTo>
                    <a:pt x="92" y="260"/>
                  </a:lnTo>
                  <a:lnTo>
                    <a:pt x="97" y="265"/>
                  </a:lnTo>
                  <a:lnTo>
                    <a:pt x="102" y="271"/>
                  </a:lnTo>
                  <a:lnTo>
                    <a:pt x="104" y="277"/>
                  </a:lnTo>
                  <a:lnTo>
                    <a:pt x="107" y="283"/>
                  </a:lnTo>
                  <a:lnTo>
                    <a:pt x="109" y="289"/>
                  </a:lnTo>
                  <a:lnTo>
                    <a:pt x="111" y="296"/>
                  </a:lnTo>
                  <a:lnTo>
                    <a:pt x="111" y="302"/>
                  </a:lnTo>
                  <a:lnTo>
                    <a:pt x="111" y="314"/>
                  </a:lnTo>
                  <a:lnTo>
                    <a:pt x="108" y="326"/>
                  </a:lnTo>
                  <a:lnTo>
                    <a:pt x="103" y="337"/>
                  </a:lnTo>
                  <a:lnTo>
                    <a:pt x="98" y="348"/>
                  </a:lnTo>
                  <a:lnTo>
                    <a:pt x="92" y="360"/>
                  </a:lnTo>
                  <a:lnTo>
                    <a:pt x="86" y="368"/>
                  </a:lnTo>
                  <a:lnTo>
                    <a:pt x="80" y="377"/>
                  </a:lnTo>
                  <a:lnTo>
                    <a:pt x="74" y="384"/>
                  </a:lnTo>
                  <a:lnTo>
                    <a:pt x="64" y="394"/>
                  </a:lnTo>
                  <a:lnTo>
                    <a:pt x="59" y="398"/>
                  </a:lnTo>
                  <a:lnTo>
                    <a:pt x="63" y="384"/>
                  </a:lnTo>
                  <a:lnTo>
                    <a:pt x="64" y="374"/>
                  </a:lnTo>
                  <a:lnTo>
                    <a:pt x="63" y="364"/>
                  </a:lnTo>
                  <a:lnTo>
                    <a:pt x="61" y="356"/>
                  </a:lnTo>
                  <a:lnTo>
                    <a:pt x="59" y="348"/>
                  </a:lnTo>
                  <a:lnTo>
                    <a:pt x="55" y="341"/>
                  </a:lnTo>
                  <a:lnTo>
                    <a:pt x="51" y="331"/>
                  </a:lnTo>
                  <a:lnTo>
                    <a:pt x="49" y="321"/>
                  </a:lnTo>
                  <a:lnTo>
                    <a:pt x="40" y="289"/>
                  </a:lnTo>
                  <a:lnTo>
                    <a:pt x="32" y="257"/>
                  </a:lnTo>
                  <a:lnTo>
                    <a:pt x="23" y="223"/>
                  </a:lnTo>
                  <a:lnTo>
                    <a:pt x="15" y="186"/>
                  </a:lnTo>
                  <a:lnTo>
                    <a:pt x="8" y="147"/>
                  </a:lnTo>
                  <a:lnTo>
                    <a:pt x="3" y="104"/>
                  </a:lnTo>
                  <a:lnTo>
                    <a:pt x="1" y="80"/>
                  </a:lnTo>
                  <a:lnTo>
                    <a:pt x="0" y="54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" y="9"/>
                  </a:lnTo>
                  <a:lnTo>
                    <a:pt x="3" y="31"/>
                  </a:lnTo>
                  <a:lnTo>
                    <a:pt x="10" y="64"/>
                  </a:lnTo>
                  <a:lnTo>
                    <a:pt x="17" y="104"/>
                  </a:lnTo>
                  <a:lnTo>
                    <a:pt x="23" y="125"/>
                  </a:lnTo>
                  <a:lnTo>
                    <a:pt x="29" y="146"/>
                  </a:lnTo>
                  <a:lnTo>
                    <a:pt x="37" y="168"/>
                  </a:lnTo>
                  <a:lnTo>
                    <a:pt x="44" y="187"/>
                  </a:lnTo>
                  <a:lnTo>
                    <a:pt x="53" y="207"/>
                  </a:lnTo>
                  <a:lnTo>
                    <a:pt x="64" y="224"/>
                  </a:lnTo>
                  <a:lnTo>
                    <a:pt x="75" y="240"/>
                  </a:lnTo>
                  <a:lnTo>
                    <a:pt x="86" y="254"/>
                  </a:lnTo>
                  <a:close/>
                </a:path>
              </a:pathLst>
            </a:custGeom>
            <a:solidFill>
              <a:srgbClr val="5a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7361280" y="2324160"/>
              <a:ext cx="30240" cy="112680"/>
            </a:xfrm>
            <a:custGeom>
              <a:avLst/>
              <a:gdLst/>
              <a:ahLst/>
              <a:rect l="l" t="t" r="r" b="b"/>
              <a:pathLst>
                <a:path w="98" h="355">
                  <a:moveTo>
                    <a:pt x="70" y="355"/>
                  </a:moveTo>
                  <a:lnTo>
                    <a:pt x="72" y="342"/>
                  </a:lnTo>
                  <a:lnTo>
                    <a:pt x="72" y="333"/>
                  </a:lnTo>
                  <a:lnTo>
                    <a:pt x="70" y="326"/>
                  </a:lnTo>
                  <a:lnTo>
                    <a:pt x="66" y="321"/>
                  </a:lnTo>
                  <a:lnTo>
                    <a:pt x="61" y="317"/>
                  </a:lnTo>
                  <a:lnTo>
                    <a:pt x="56" y="310"/>
                  </a:lnTo>
                  <a:lnTo>
                    <a:pt x="53" y="304"/>
                  </a:lnTo>
                  <a:lnTo>
                    <a:pt x="49" y="294"/>
                  </a:lnTo>
                  <a:lnTo>
                    <a:pt x="40" y="264"/>
                  </a:lnTo>
                  <a:lnTo>
                    <a:pt x="32" y="233"/>
                  </a:lnTo>
                  <a:lnTo>
                    <a:pt x="24" y="202"/>
                  </a:lnTo>
                  <a:lnTo>
                    <a:pt x="17" y="169"/>
                  </a:lnTo>
                  <a:lnTo>
                    <a:pt x="11" y="133"/>
                  </a:lnTo>
                  <a:lnTo>
                    <a:pt x="5" y="95"/>
                  </a:lnTo>
                  <a:lnTo>
                    <a:pt x="1" y="51"/>
                  </a:lnTo>
                  <a:lnTo>
                    <a:pt x="0" y="0"/>
                  </a:lnTo>
                  <a:lnTo>
                    <a:pt x="0" y="9"/>
                  </a:lnTo>
                  <a:lnTo>
                    <a:pt x="1" y="30"/>
                  </a:lnTo>
                  <a:lnTo>
                    <a:pt x="3" y="59"/>
                  </a:lnTo>
                  <a:lnTo>
                    <a:pt x="10" y="96"/>
                  </a:lnTo>
                  <a:lnTo>
                    <a:pt x="13" y="116"/>
                  </a:lnTo>
                  <a:lnTo>
                    <a:pt x="17" y="136"/>
                  </a:lnTo>
                  <a:lnTo>
                    <a:pt x="23" y="157"/>
                  </a:lnTo>
                  <a:lnTo>
                    <a:pt x="29" y="175"/>
                  </a:lnTo>
                  <a:lnTo>
                    <a:pt x="37" y="194"/>
                  </a:lnTo>
                  <a:lnTo>
                    <a:pt x="45" y="210"/>
                  </a:lnTo>
                  <a:lnTo>
                    <a:pt x="50" y="218"/>
                  </a:lnTo>
                  <a:lnTo>
                    <a:pt x="56" y="224"/>
                  </a:lnTo>
                  <a:lnTo>
                    <a:pt x="61" y="232"/>
                  </a:lnTo>
                  <a:lnTo>
                    <a:pt x="67" y="238"/>
                  </a:lnTo>
                  <a:lnTo>
                    <a:pt x="79" y="249"/>
                  </a:lnTo>
                  <a:lnTo>
                    <a:pt x="87" y="260"/>
                  </a:lnTo>
                  <a:lnTo>
                    <a:pt x="93" y="271"/>
                  </a:lnTo>
                  <a:lnTo>
                    <a:pt x="97" y="282"/>
                  </a:lnTo>
                  <a:lnTo>
                    <a:pt x="98" y="292"/>
                  </a:lnTo>
                  <a:lnTo>
                    <a:pt x="98" y="302"/>
                  </a:lnTo>
                  <a:lnTo>
                    <a:pt x="97" y="310"/>
                  </a:lnTo>
                  <a:lnTo>
                    <a:pt x="95" y="319"/>
                  </a:lnTo>
                  <a:lnTo>
                    <a:pt x="91" y="326"/>
                  </a:lnTo>
                  <a:lnTo>
                    <a:pt x="87" y="334"/>
                  </a:lnTo>
                  <a:lnTo>
                    <a:pt x="83" y="340"/>
                  </a:lnTo>
                  <a:lnTo>
                    <a:pt x="80" y="345"/>
                  </a:lnTo>
                  <a:lnTo>
                    <a:pt x="72" y="352"/>
                  </a:lnTo>
                  <a:lnTo>
                    <a:pt x="70" y="355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7367760" y="2255760"/>
              <a:ext cx="74520" cy="127080"/>
            </a:xfrm>
            <a:custGeom>
              <a:avLst/>
              <a:gdLst/>
              <a:ahLst/>
              <a:rect l="l" t="t" r="r" b="b"/>
              <a:pathLst>
                <a:path w="232" h="402">
                  <a:moveTo>
                    <a:pt x="84" y="348"/>
                  </a:moveTo>
                  <a:lnTo>
                    <a:pt x="80" y="343"/>
                  </a:lnTo>
                  <a:lnTo>
                    <a:pt x="69" y="329"/>
                  </a:lnTo>
                  <a:lnTo>
                    <a:pt x="53" y="307"/>
                  </a:lnTo>
                  <a:lnTo>
                    <a:pt x="37" y="278"/>
                  </a:lnTo>
                  <a:lnTo>
                    <a:pt x="28" y="260"/>
                  </a:lnTo>
                  <a:lnTo>
                    <a:pt x="21" y="242"/>
                  </a:lnTo>
                  <a:lnTo>
                    <a:pt x="13" y="222"/>
                  </a:lnTo>
                  <a:lnTo>
                    <a:pt x="7" y="201"/>
                  </a:lnTo>
                  <a:lnTo>
                    <a:pt x="4" y="179"/>
                  </a:lnTo>
                  <a:lnTo>
                    <a:pt x="1" y="157"/>
                  </a:lnTo>
                  <a:lnTo>
                    <a:pt x="0" y="134"/>
                  </a:lnTo>
                  <a:lnTo>
                    <a:pt x="2" y="109"/>
                  </a:lnTo>
                  <a:lnTo>
                    <a:pt x="5" y="86"/>
                  </a:lnTo>
                  <a:lnTo>
                    <a:pt x="10" y="66"/>
                  </a:lnTo>
                  <a:lnTo>
                    <a:pt x="16" y="48"/>
                  </a:lnTo>
                  <a:lnTo>
                    <a:pt x="25" y="33"/>
                  </a:lnTo>
                  <a:lnTo>
                    <a:pt x="28" y="27"/>
                  </a:lnTo>
                  <a:lnTo>
                    <a:pt x="33" y="21"/>
                  </a:lnTo>
                  <a:lnTo>
                    <a:pt x="38" y="16"/>
                  </a:lnTo>
                  <a:lnTo>
                    <a:pt x="43" y="12"/>
                  </a:lnTo>
                  <a:lnTo>
                    <a:pt x="48" y="8"/>
                  </a:lnTo>
                  <a:lnTo>
                    <a:pt x="53" y="5"/>
                  </a:lnTo>
                  <a:lnTo>
                    <a:pt x="59" y="2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4" y="1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3" y="7"/>
                  </a:lnTo>
                  <a:lnTo>
                    <a:pt x="109" y="10"/>
                  </a:lnTo>
                  <a:lnTo>
                    <a:pt x="117" y="14"/>
                  </a:lnTo>
                  <a:lnTo>
                    <a:pt x="130" y="24"/>
                  </a:lnTo>
                  <a:lnTo>
                    <a:pt x="144" y="38"/>
                  </a:lnTo>
                  <a:lnTo>
                    <a:pt x="157" y="55"/>
                  </a:lnTo>
                  <a:lnTo>
                    <a:pt x="171" y="74"/>
                  </a:lnTo>
                  <a:lnTo>
                    <a:pt x="183" y="94"/>
                  </a:lnTo>
                  <a:lnTo>
                    <a:pt x="194" y="115"/>
                  </a:lnTo>
                  <a:lnTo>
                    <a:pt x="204" y="136"/>
                  </a:lnTo>
                  <a:lnTo>
                    <a:pt x="212" y="156"/>
                  </a:lnTo>
                  <a:lnTo>
                    <a:pt x="219" y="177"/>
                  </a:lnTo>
                  <a:lnTo>
                    <a:pt x="224" y="197"/>
                  </a:lnTo>
                  <a:lnTo>
                    <a:pt x="229" y="216"/>
                  </a:lnTo>
                  <a:lnTo>
                    <a:pt x="231" y="236"/>
                  </a:lnTo>
                  <a:lnTo>
                    <a:pt x="232" y="256"/>
                  </a:lnTo>
                  <a:lnTo>
                    <a:pt x="232" y="274"/>
                  </a:lnTo>
                  <a:lnTo>
                    <a:pt x="231" y="292"/>
                  </a:lnTo>
                  <a:lnTo>
                    <a:pt x="229" y="310"/>
                  </a:lnTo>
                  <a:lnTo>
                    <a:pt x="225" y="326"/>
                  </a:lnTo>
                  <a:lnTo>
                    <a:pt x="220" y="342"/>
                  </a:lnTo>
                  <a:lnTo>
                    <a:pt x="213" y="356"/>
                  </a:lnTo>
                  <a:lnTo>
                    <a:pt x="205" y="370"/>
                  </a:lnTo>
                  <a:lnTo>
                    <a:pt x="197" y="382"/>
                  </a:lnTo>
                  <a:lnTo>
                    <a:pt x="188" y="391"/>
                  </a:lnTo>
                  <a:lnTo>
                    <a:pt x="180" y="397"/>
                  </a:lnTo>
                  <a:lnTo>
                    <a:pt x="170" y="399"/>
                  </a:lnTo>
                  <a:lnTo>
                    <a:pt x="161" y="402"/>
                  </a:lnTo>
                  <a:lnTo>
                    <a:pt x="151" y="401"/>
                  </a:lnTo>
                  <a:lnTo>
                    <a:pt x="143" y="398"/>
                  </a:lnTo>
                  <a:lnTo>
                    <a:pt x="133" y="395"/>
                  </a:lnTo>
                  <a:lnTo>
                    <a:pt x="125" y="390"/>
                  </a:lnTo>
                  <a:lnTo>
                    <a:pt x="117" y="385"/>
                  </a:lnTo>
                  <a:lnTo>
                    <a:pt x="109" y="379"/>
                  </a:lnTo>
                  <a:lnTo>
                    <a:pt x="102" y="372"/>
                  </a:lnTo>
                  <a:lnTo>
                    <a:pt x="91" y="359"/>
                  </a:lnTo>
                  <a:lnTo>
                    <a:pt x="84" y="348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7370640" y="2259000"/>
              <a:ext cx="65160" cy="112680"/>
            </a:xfrm>
            <a:custGeom>
              <a:avLst/>
              <a:gdLst/>
              <a:ahLst/>
              <a:rect l="l" t="t" r="r" b="b"/>
              <a:pathLst>
                <a:path w="205" h="352">
                  <a:moveTo>
                    <a:pt x="183" y="325"/>
                  </a:moveTo>
                  <a:lnTo>
                    <a:pt x="176" y="335"/>
                  </a:lnTo>
                  <a:lnTo>
                    <a:pt x="169" y="342"/>
                  </a:lnTo>
                  <a:lnTo>
                    <a:pt x="161" y="348"/>
                  </a:lnTo>
                  <a:lnTo>
                    <a:pt x="153" y="351"/>
                  </a:lnTo>
                  <a:lnTo>
                    <a:pt x="144" y="352"/>
                  </a:lnTo>
                  <a:lnTo>
                    <a:pt x="135" y="352"/>
                  </a:lnTo>
                  <a:lnTo>
                    <a:pt x="128" y="350"/>
                  </a:lnTo>
                  <a:lnTo>
                    <a:pt x="119" y="347"/>
                  </a:lnTo>
                  <a:lnTo>
                    <a:pt x="112" y="343"/>
                  </a:lnTo>
                  <a:lnTo>
                    <a:pt x="105" y="339"/>
                  </a:lnTo>
                  <a:lnTo>
                    <a:pt x="97" y="334"/>
                  </a:lnTo>
                  <a:lnTo>
                    <a:pt x="91" y="327"/>
                  </a:lnTo>
                  <a:lnTo>
                    <a:pt x="81" y="316"/>
                  </a:lnTo>
                  <a:lnTo>
                    <a:pt x="75" y="308"/>
                  </a:lnTo>
                  <a:lnTo>
                    <a:pt x="71" y="304"/>
                  </a:lnTo>
                  <a:lnTo>
                    <a:pt x="62" y="292"/>
                  </a:lnTo>
                  <a:lnTo>
                    <a:pt x="48" y="271"/>
                  </a:lnTo>
                  <a:lnTo>
                    <a:pt x="33" y="245"/>
                  </a:lnTo>
                  <a:lnTo>
                    <a:pt x="26" y="230"/>
                  </a:lnTo>
                  <a:lnTo>
                    <a:pt x="20" y="213"/>
                  </a:lnTo>
                  <a:lnTo>
                    <a:pt x="12" y="196"/>
                  </a:lnTo>
                  <a:lnTo>
                    <a:pt x="7" y="177"/>
                  </a:lnTo>
                  <a:lnTo>
                    <a:pt x="4" y="158"/>
                  </a:lnTo>
                  <a:lnTo>
                    <a:pt x="1" y="138"/>
                  </a:lnTo>
                  <a:lnTo>
                    <a:pt x="0" y="117"/>
                  </a:lnTo>
                  <a:lnTo>
                    <a:pt x="2" y="96"/>
                  </a:lnTo>
                  <a:lnTo>
                    <a:pt x="5" y="75"/>
                  </a:lnTo>
                  <a:lnTo>
                    <a:pt x="10" y="58"/>
                  </a:lnTo>
                  <a:lnTo>
                    <a:pt x="15" y="42"/>
                  </a:lnTo>
                  <a:lnTo>
                    <a:pt x="22" y="29"/>
                  </a:lnTo>
                  <a:lnTo>
                    <a:pt x="30" y="17"/>
                  </a:lnTo>
                  <a:lnTo>
                    <a:pt x="38" y="10"/>
                  </a:lnTo>
                  <a:lnTo>
                    <a:pt x="43" y="6"/>
                  </a:lnTo>
                  <a:lnTo>
                    <a:pt x="48" y="4"/>
                  </a:lnTo>
                  <a:lnTo>
                    <a:pt x="53" y="1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3"/>
                  </a:lnTo>
                  <a:lnTo>
                    <a:pt x="116" y="21"/>
                  </a:lnTo>
                  <a:lnTo>
                    <a:pt x="128" y="33"/>
                  </a:lnTo>
                  <a:lnTo>
                    <a:pt x="139" y="47"/>
                  </a:lnTo>
                  <a:lnTo>
                    <a:pt x="151" y="64"/>
                  </a:lnTo>
                  <a:lnTo>
                    <a:pt x="162" y="83"/>
                  </a:lnTo>
                  <a:lnTo>
                    <a:pt x="172" y="100"/>
                  </a:lnTo>
                  <a:lnTo>
                    <a:pt x="181" y="118"/>
                  </a:lnTo>
                  <a:lnTo>
                    <a:pt x="188" y="137"/>
                  </a:lnTo>
                  <a:lnTo>
                    <a:pt x="193" y="155"/>
                  </a:lnTo>
                  <a:lnTo>
                    <a:pt x="198" y="172"/>
                  </a:lnTo>
                  <a:lnTo>
                    <a:pt x="202" y="190"/>
                  </a:lnTo>
                  <a:lnTo>
                    <a:pt x="204" y="207"/>
                  </a:lnTo>
                  <a:lnTo>
                    <a:pt x="205" y="224"/>
                  </a:lnTo>
                  <a:lnTo>
                    <a:pt x="205" y="240"/>
                  </a:lnTo>
                  <a:lnTo>
                    <a:pt x="204" y="256"/>
                  </a:lnTo>
                  <a:lnTo>
                    <a:pt x="203" y="271"/>
                  </a:lnTo>
                  <a:lnTo>
                    <a:pt x="199" y="286"/>
                  </a:lnTo>
                  <a:lnTo>
                    <a:pt x="196" y="299"/>
                  </a:lnTo>
                  <a:lnTo>
                    <a:pt x="189" y="313"/>
                  </a:lnTo>
                  <a:lnTo>
                    <a:pt x="183" y="325"/>
                  </a:lnTo>
                  <a:close/>
                </a:path>
              </a:pathLst>
            </a:custGeom>
            <a:solidFill>
              <a:srgbClr val="735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7375680" y="2264040"/>
              <a:ext cx="56880" cy="96840"/>
            </a:xfrm>
            <a:custGeom>
              <a:avLst/>
              <a:gdLst/>
              <a:ahLst/>
              <a:rect l="l" t="t" r="r" b="b"/>
              <a:pathLst>
                <a:path w="177" h="306">
                  <a:moveTo>
                    <a:pt x="156" y="281"/>
                  </a:moveTo>
                  <a:lnTo>
                    <a:pt x="150" y="291"/>
                  </a:lnTo>
                  <a:lnTo>
                    <a:pt x="143" y="297"/>
                  </a:lnTo>
                  <a:lnTo>
                    <a:pt x="136" y="302"/>
                  </a:lnTo>
                  <a:lnTo>
                    <a:pt x="130" y="305"/>
                  </a:lnTo>
                  <a:lnTo>
                    <a:pt x="123" y="306"/>
                  </a:lnTo>
                  <a:lnTo>
                    <a:pt x="115" y="305"/>
                  </a:lnTo>
                  <a:lnTo>
                    <a:pt x="109" y="303"/>
                  </a:lnTo>
                  <a:lnTo>
                    <a:pt x="102" y="300"/>
                  </a:lnTo>
                  <a:lnTo>
                    <a:pt x="89" y="292"/>
                  </a:lnTo>
                  <a:lnTo>
                    <a:pt x="78" y="282"/>
                  </a:lnTo>
                  <a:lnTo>
                    <a:pt x="70" y="273"/>
                  </a:lnTo>
                  <a:lnTo>
                    <a:pt x="64" y="265"/>
                  </a:lnTo>
                  <a:lnTo>
                    <a:pt x="61" y="262"/>
                  </a:lnTo>
                  <a:lnTo>
                    <a:pt x="52" y="250"/>
                  </a:lnTo>
                  <a:lnTo>
                    <a:pt x="40" y="233"/>
                  </a:lnTo>
                  <a:lnTo>
                    <a:pt x="28" y="211"/>
                  </a:lnTo>
                  <a:lnTo>
                    <a:pt x="22" y="198"/>
                  </a:lnTo>
                  <a:lnTo>
                    <a:pt x="16" y="184"/>
                  </a:lnTo>
                  <a:lnTo>
                    <a:pt x="9" y="169"/>
                  </a:lnTo>
                  <a:lnTo>
                    <a:pt x="6" y="153"/>
                  </a:lnTo>
                  <a:lnTo>
                    <a:pt x="2" y="136"/>
                  </a:lnTo>
                  <a:lnTo>
                    <a:pt x="1" y="119"/>
                  </a:lnTo>
                  <a:lnTo>
                    <a:pt x="0" y="102"/>
                  </a:lnTo>
                  <a:lnTo>
                    <a:pt x="2" y="83"/>
                  </a:lnTo>
                  <a:lnTo>
                    <a:pt x="4" y="66"/>
                  </a:lnTo>
                  <a:lnTo>
                    <a:pt x="8" y="50"/>
                  </a:lnTo>
                  <a:lnTo>
                    <a:pt x="13" y="36"/>
                  </a:lnTo>
                  <a:lnTo>
                    <a:pt x="18" y="25"/>
                  </a:lnTo>
                  <a:lnTo>
                    <a:pt x="25" y="16"/>
                  </a:lnTo>
                  <a:lnTo>
                    <a:pt x="33" y="8"/>
                  </a:lnTo>
                  <a:lnTo>
                    <a:pt x="40" y="3"/>
                  </a:lnTo>
                  <a:lnTo>
                    <a:pt x="49" y="1"/>
                  </a:lnTo>
                  <a:lnTo>
                    <a:pt x="59" y="0"/>
                  </a:lnTo>
                  <a:lnTo>
                    <a:pt x="67" y="1"/>
                  </a:lnTo>
                  <a:lnTo>
                    <a:pt x="77" y="4"/>
                  </a:lnTo>
                  <a:lnTo>
                    <a:pt x="88" y="9"/>
                  </a:lnTo>
                  <a:lnTo>
                    <a:pt x="98" y="17"/>
                  </a:lnTo>
                  <a:lnTo>
                    <a:pt x="109" y="28"/>
                  </a:lnTo>
                  <a:lnTo>
                    <a:pt x="119" y="39"/>
                  </a:lnTo>
                  <a:lnTo>
                    <a:pt x="129" y="54"/>
                  </a:lnTo>
                  <a:lnTo>
                    <a:pt x="139" y="70"/>
                  </a:lnTo>
                  <a:lnTo>
                    <a:pt x="147" y="86"/>
                  </a:lnTo>
                  <a:lnTo>
                    <a:pt x="155" y="102"/>
                  </a:lnTo>
                  <a:lnTo>
                    <a:pt x="161" y="118"/>
                  </a:lnTo>
                  <a:lnTo>
                    <a:pt x="166" y="132"/>
                  </a:lnTo>
                  <a:lnTo>
                    <a:pt x="171" y="148"/>
                  </a:lnTo>
                  <a:lnTo>
                    <a:pt x="173" y="163"/>
                  </a:lnTo>
                  <a:lnTo>
                    <a:pt x="175" y="179"/>
                  </a:lnTo>
                  <a:lnTo>
                    <a:pt x="177" y="194"/>
                  </a:lnTo>
                  <a:lnTo>
                    <a:pt x="177" y="207"/>
                  </a:lnTo>
                  <a:lnTo>
                    <a:pt x="175" y="222"/>
                  </a:lnTo>
                  <a:lnTo>
                    <a:pt x="173" y="234"/>
                  </a:lnTo>
                  <a:lnTo>
                    <a:pt x="171" y="248"/>
                  </a:lnTo>
                  <a:lnTo>
                    <a:pt x="167" y="260"/>
                  </a:lnTo>
                  <a:lnTo>
                    <a:pt x="162" y="271"/>
                  </a:lnTo>
                  <a:lnTo>
                    <a:pt x="156" y="281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7378560" y="2266920"/>
              <a:ext cx="47880" cy="82800"/>
            </a:xfrm>
            <a:custGeom>
              <a:avLst/>
              <a:gdLst/>
              <a:ahLst/>
              <a:rect l="l" t="t" r="r" b="b"/>
              <a:pathLst>
                <a:path w="150" h="258">
                  <a:moveTo>
                    <a:pt x="53" y="224"/>
                  </a:moveTo>
                  <a:lnTo>
                    <a:pt x="50" y="220"/>
                  </a:lnTo>
                  <a:lnTo>
                    <a:pt x="44" y="211"/>
                  </a:lnTo>
                  <a:lnTo>
                    <a:pt x="34" y="197"/>
                  </a:lnTo>
                  <a:lnTo>
                    <a:pt x="23" y="178"/>
                  </a:lnTo>
                  <a:lnTo>
                    <a:pt x="18" y="167"/>
                  </a:lnTo>
                  <a:lnTo>
                    <a:pt x="13" y="155"/>
                  </a:lnTo>
                  <a:lnTo>
                    <a:pt x="8" y="143"/>
                  </a:lnTo>
                  <a:lnTo>
                    <a:pt x="5" y="129"/>
                  </a:lnTo>
                  <a:lnTo>
                    <a:pt x="2" y="115"/>
                  </a:lnTo>
                  <a:lnTo>
                    <a:pt x="1" y="101"/>
                  </a:lnTo>
                  <a:lnTo>
                    <a:pt x="0" y="86"/>
                  </a:lnTo>
                  <a:lnTo>
                    <a:pt x="1" y="71"/>
                  </a:lnTo>
                  <a:lnTo>
                    <a:pt x="3" y="56"/>
                  </a:lnTo>
                  <a:lnTo>
                    <a:pt x="7" y="43"/>
                  </a:lnTo>
                  <a:lnTo>
                    <a:pt x="12" y="32"/>
                  </a:lnTo>
                  <a:lnTo>
                    <a:pt x="17" y="22"/>
                  </a:lnTo>
                  <a:lnTo>
                    <a:pt x="23" y="15"/>
                  </a:lnTo>
                  <a:lnTo>
                    <a:pt x="29" y="8"/>
                  </a:lnTo>
                  <a:lnTo>
                    <a:pt x="37" y="4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76" y="10"/>
                  </a:lnTo>
                  <a:lnTo>
                    <a:pt x="85" y="16"/>
                  </a:lnTo>
                  <a:lnTo>
                    <a:pt x="93" y="24"/>
                  </a:lnTo>
                  <a:lnTo>
                    <a:pt x="102" y="34"/>
                  </a:lnTo>
                  <a:lnTo>
                    <a:pt x="110" y="47"/>
                  </a:lnTo>
                  <a:lnTo>
                    <a:pt x="118" y="60"/>
                  </a:lnTo>
                  <a:lnTo>
                    <a:pt x="125" y="74"/>
                  </a:lnTo>
                  <a:lnTo>
                    <a:pt x="131" y="87"/>
                  </a:lnTo>
                  <a:lnTo>
                    <a:pt x="137" y="99"/>
                  </a:lnTo>
                  <a:lnTo>
                    <a:pt x="141" y="113"/>
                  </a:lnTo>
                  <a:lnTo>
                    <a:pt x="145" y="127"/>
                  </a:lnTo>
                  <a:lnTo>
                    <a:pt x="147" y="139"/>
                  </a:lnTo>
                  <a:lnTo>
                    <a:pt x="150" y="151"/>
                  </a:lnTo>
                  <a:lnTo>
                    <a:pt x="150" y="163"/>
                  </a:lnTo>
                  <a:lnTo>
                    <a:pt x="150" y="176"/>
                  </a:lnTo>
                  <a:lnTo>
                    <a:pt x="150" y="187"/>
                  </a:lnTo>
                  <a:lnTo>
                    <a:pt x="147" y="198"/>
                  </a:lnTo>
                  <a:lnTo>
                    <a:pt x="145" y="209"/>
                  </a:lnTo>
                  <a:lnTo>
                    <a:pt x="141" y="219"/>
                  </a:lnTo>
                  <a:lnTo>
                    <a:pt x="137" y="229"/>
                  </a:lnTo>
                  <a:lnTo>
                    <a:pt x="131" y="237"/>
                  </a:lnTo>
                  <a:lnTo>
                    <a:pt x="126" y="245"/>
                  </a:lnTo>
                  <a:lnTo>
                    <a:pt x="121" y="251"/>
                  </a:lnTo>
                  <a:lnTo>
                    <a:pt x="115" y="254"/>
                  </a:lnTo>
                  <a:lnTo>
                    <a:pt x="109" y="257"/>
                  </a:lnTo>
                  <a:lnTo>
                    <a:pt x="104" y="258"/>
                  </a:lnTo>
                  <a:lnTo>
                    <a:pt x="98" y="257"/>
                  </a:lnTo>
                  <a:lnTo>
                    <a:pt x="92" y="256"/>
                  </a:lnTo>
                  <a:lnTo>
                    <a:pt x="86" y="253"/>
                  </a:lnTo>
                  <a:lnTo>
                    <a:pt x="76" y="247"/>
                  </a:lnTo>
                  <a:lnTo>
                    <a:pt x="66" y="238"/>
                  </a:lnTo>
                  <a:lnTo>
                    <a:pt x="59" y="231"/>
                  </a:lnTo>
                  <a:lnTo>
                    <a:pt x="53" y="224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7499520" y="2484360"/>
              <a:ext cx="44280" cy="133560"/>
            </a:xfrm>
            <a:custGeom>
              <a:avLst/>
              <a:gdLst/>
              <a:ahLst/>
              <a:rect l="l" t="t" r="r" b="b"/>
              <a:pathLst>
                <a:path w="138" h="418">
                  <a:moveTo>
                    <a:pt x="59" y="1"/>
                  </a:moveTo>
                  <a:lnTo>
                    <a:pt x="80" y="0"/>
                  </a:lnTo>
                  <a:lnTo>
                    <a:pt x="97" y="0"/>
                  </a:lnTo>
                  <a:lnTo>
                    <a:pt x="104" y="1"/>
                  </a:lnTo>
                  <a:lnTo>
                    <a:pt x="112" y="4"/>
                  </a:lnTo>
                  <a:lnTo>
                    <a:pt x="117" y="6"/>
                  </a:lnTo>
                  <a:lnTo>
                    <a:pt x="122" y="11"/>
                  </a:lnTo>
                  <a:lnTo>
                    <a:pt x="125" y="17"/>
                  </a:lnTo>
                  <a:lnTo>
                    <a:pt x="129" y="24"/>
                  </a:lnTo>
                  <a:lnTo>
                    <a:pt x="131" y="33"/>
                  </a:lnTo>
                  <a:lnTo>
                    <a:pt x="134" y="43"/>
                  </a:lnTo>
                  <a:lnTo>
                    <a:pt x="136" y="72"/>
                  </a:lnTo>
                  <a:lnTo>
                    <a:pt x="138" y="108"/>
                  </a:lnTo>
                  <a:lnTo>
                    <a:pt x="136" y="147"/>
                  </a:lnTo>
                  <a:lnTo>
                    <a:pt x="134" y="180"/>
                  </a:lnTo>
                  <a:lnTo>
                    <a:pt x="131" y="209"/>
                  </a:lnTo>
                  <a:lnTo>
                    <a:pt x="129" y="235"/>
                  </a:lnTo>
                  <a:lnTo>
                    <a:pt x="126" y="258"/>
                  </a:lnTo>
                  <a:lnTo>
                    <a:pt x="126" y="279"/>
                  </a:lnTo>
                  <a:lnTo>
                    <a:pt x="126" y="289"/>
                  </a:lnTo>
                  <a:lnTo>
                    <a:pt x="128" y="299"/>
                  </a:lnTo>
                  <a:lnTo>
                    <a:pt x="129" y="308"/>
                  </a:lnTo>
                  <a:lnTo>
                    <a:pt x="133" y="318"/>
                  </a:lnTo>
                  <a:lnTo>
                    <a:pt x="135" y="327"/>
                  </a:lnTo>
                  <a:lnTo>
                    <a:pt x="136" y="338"/>
                  </a:lnTo>
                  <a:lnTo>
                    <a:pt x="136" y="350"/>
                  </a:lnTo>
                  <a:lnTo>
                    <a:pt x="135" y="361"/>
                  </a:lnTo>
                  <a:lnTo>
                    <a:pt x="133" y="373"/>
                  </a:lnTo>
                  <a:lnTo>
                    <a:pt x="130" y="383"/>
                  </a:lnTo>
                  <a:lnTo>
                    <a:pt x="126" y="393"/>
                  </a:lnTo>
                  <a:lnTo>
                    <a:pt x="123" y="401"/>
                  </a:lnTo>
                  <a:lnTo>
                    <a:pt x="117" y="409"/>
                  </a:lnTo>
                  <a:lnTo>
                    <a:pt x="112" y="415"/>
                  </a:lnTo>
                  <a:lnTo>
                    <a:pt x="108" y="416"/>
                  </a:lnTo>
                  <a:lnTo>
                    <a:pt x="106" y="417"/>
                  </a:lnTo>
                  <a:lnTo>
                    <a:pt x="102" y="418"/>
                  </a:lnTo>
                  <a:lnTo>
                    <a:pt x="99" y="418"/>
                  </a:lnTo>
                  <a:lnTo>
                    <a:pt x="96" y="417"/>
                  </a:lnTo>
                  <a:lnTo>
                    <a:pt x="92" y="416"/>
                  </a:lnTo>
                  <a:lnTo>
                    <a:pt x="88" y="415"/>
                  </a:lnTo>
                  <a:lnTo>
                    <a:pt x="85" y="411"/>
                  </a:lnTo>
                  <a:lnTo>
                    <a:pt x="77" y="402"/>
                  </a:lnTo>
                  <a:lnTo>
                    <a:pt x="70" y="390"/>
                  </a:lnTo>
                  <a:lnTo>
                    <a:pt x="61" y="368"/>
                  </a:lnTo>
                  <a:lnTo>
                    <a:pt x="53" y="335"/>
                  </a:lnTo>
                  <a:lnTo>
                    <a:pt x="44" y="294"/>
                  </a:lnTo>
                  <a:lnTo>
                    <a:pt x="34" y="249"/>
                  </a:lnTo>
                  <a:lnTo>
                    <a:pt x="24" y="203"/>
                  </a:lnTo>
                  <a:lnTo>
                    <a:pt x="17" y="160"/>
                  </a:lnTo>
                  <a:lnTo>
                    <a:pt x="10" y="123"/>
                  </a:lnTo>
                  <a:lnTo>
                    <a:pt x="5" y="97"/>
                  </a:lnTo>
                  <a:lnTo>
                    <a:pt x="1" y="7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2" y="36"/>
                  </a:lnTo>
                  <a:lnTo>
                    <a:pt x="5" y="30"/>
                  </a:lnTo>
                  <a:lnTo>
                    <a:pt x="8" y="25"/>
                  </a:lnTo>
                  <a:lnTo>
                    <a:pt x="12" y="20"/>
                  </a:lnTo>
                  <a:lnTo>
                    <a:pt x="17" y="15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9" y="5"/>
                  </a:lnTo>
                  <a:lnTo>
                    <a:pt x="48" y="4"/>
                  </a:lnTo>
                  <a:lnTo>
                    <a:pt x="59" y="1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7502400" y="2489400"/>
              <a:ext cx="36720" cy="108000"/>
            </a:xfrm>
            <a:custGeom>
              <a:avLst/>
              <a:gdLst/>
              <a:ahLst/>
              <a:rect l="l" t="t" r="r" b="b"/>
              <a:pathLst>
                <a:path w="112" h="342">
                  <a:moveTo>
                    <a:pt x="49" y="1"/>
                  </a:moveTo>
                  <a:lnTo>
                    <a:pt x="66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9" y="3"/>
                  </a:lnTo>
                  <a:lnTo>
                    <a:pt x="94" y="5"/>
                  </a:lnTo>
                  <a:lnTo>
                    <a:pt x="98" y="9"/>
                  </a:lnTo>
                  <a:lnTo>
                    <a:pt x="102" y="14"/>
                  </a:lnTo>
                  <a:lnTo>
                    <a:pt x="104" y="19"/>
                  </a:lnTo>
                  <a:lnTo>
                    <a:pt x="107" y="26"/>
                  </a:lnTo>
                  <a:lnTo>
                    <a:pt x="108" y="36"/>
                  </a:lnTo>
                  <a:lnTo>
                    <a:pt x="110" y="58"/>
                  </a:lnTo>
                  <a:lnTo>
                    <a:pt x="112" y="89"/>
                  </a:lnTo>
                  <a:lnTo>
                    <a:pt x="110" y="120"/>
                  </a:lnTo>
                  <a:lnTo>
                    <a:pt x="108" y="148"/>
                  </a:lnTo>
                  <a:lnTo>
                    <a:pt x="105" y="171"/>
                  </a:lnTo>
                  <a:lnTo>
                    <a:pt x="103" y="192"/>
                  </a:lnTo>
                  <a:lnTo>
                    <a:pt x="102" y="212"/>
                  </a:lnTo>
                  <a:lnTo>
                    <a:pt x="100" y="229"/>
                  </a:lnTo>
                  <a:lnTo>
                    <a:pt x="102" y="236"/>
                  </a:lnTo>
                  <a:lnTo>
                    <a:pt x="102" y="245"/>
                  </a:lnTo>
                  <a:lnTo>
                    <a:pt x="104" y="252"/>
                  </a:lnTo>
                  <a:lnTo>
                    <a:pt x="105" y="260"/>
                  </a:lnTo>
                  <a:lnTo>
                    <a:pt x="108" y="268"/>
                  </a:lnTo>
                  <a:lnTo>
                    <a:pt x="109" y="277"/>
                  </a:lnTo>
                  <a:lnTo>
                    <a:pt x="109" y="286"/>
                  </a:lnTo>
                  <a:lnTo>
                    <a:pt x="108" y="295"/>
                  </a:lnTo>
                  <a:lnTo>
                    <a:pt x="107" y="304"/>
                  </a:lnTo>
                  <a:lnTo>
                    <a:pt x="105" y="313"/>
                  </a:lnTo>
                  <a:lnTo>
                    <a:pt x="102" y="321"/>
                  </a:lnTo>
                  <a:lnTo>
                    <a:pt x="99" y="329"/>
                  </a:lnTo>
                  <a:lnTo>
                    <a:pt x="94" y="335"/>
                  </a:lnTo>
                  <a:lnTo>
                    <a:pt x="91" y="339"/>
                  </a:lnTo>
                  <a:lnTo>
                    <a:pt x="86" y="342"/>
                  </a:lnTo>
                  <a:lnTo>
                    <a:pt x="80" y="342"/>
                  </a:lnTo>
                  <a:lnTo>
                    <a:pt x="75" y="341"/>
                  </a:lnTo>
                  <a:lnTo>
                    <a:pt x="69" y="337"/>
                  </a:lnTo>
                  <a:lnTo>
                    <a:pt x="62" y="330"/>
                  </a:lnTo>
                  <a:lnTo>
                    <a:pt x="57" y="320"/>
                  </a:lnTo>
                  <a:lnTo>
                    <a:pt x="50" y="302"/>
                  </a:lnTo>
                  <a:lnTo>
                    <a:pt x="43" y="275"/>
                  </a:lnTo>
                  <a:lnTo>
                    <a:pt x="34" y="241"/>
                  </a:lnTo>
                  <a:lnTo>
                    <a:pt x="27" y="204"/>
                  </a:lnTo>
                  <a:lnTo>
                    <a:pt x="19" y="166"/>
                  </a:lnTo>
                  <a:lnTo>
                    <a:pt x="12" y="131"/>
                  </a:lnTo>
                  <a:lnTo>
                    <a:pt x="7" y="100"/>
                  </a:lnTo>
                  <a:lnTo>
                    <a:pt x="2" y="78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3" y="13"/>
                  </a:lnTo>
                  <a:lnTo>
                    <a:pt x="18" y="10"/>
                  </a:lnTo>
                  <a:lnTo>
                    <a:pt x="24" y="8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7505640" y="2492640"/>
              <a:ext cx="27000" cy="83880"/>
            </a:xfrm>
            <a:custGeom>
              <a:avLst/>
              <a:gdLst/>
              <a:ahLst/>
              <a:rect l="l" t="t" r="r" b="b"/>
              <a:pathLst>
                <a:path w="87" h="267">
                  <a:moveTo>
                    <a:pt x="39" y="2"/>
                  </a:moveTo>
                  <a:lnTo>
                    <a:pt x="52" y="0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1" y="3"/>
                  </a:lnTo>
                  <a:lnTo>
                    <a:pt x="75" y="5"/>
                  </a:lnTo>
                  <a:lnTo>
                    <a:pt x="77" y="8"/>
                  </a:lnTo>
                  <a:lnTo>
                    <a:pt x="80" y="11"/>
                  </a:lnTo>
                  <a:lnTo>
                    <a:pt x="82" y="16"/>
                  </a:lnTo>
                  <a:lnTo>
                    <a:pt x="84" y="22"/>
                  </a:lnTo>
                  <a:lnTo>
                    <a:pt x="86" y="29"/>
                  </a:lnTo>
                  <a:lnTo>
                    <a:pt x="87" y="46"/>
                  </a:lnTo>
                  <a:lnTo>
                    <a:pt x="87" y="69"/>
                  </a:lnTo>
                  <a:lnTo>
                    <a:pt x="87" y="94"/>
                  </a:lnTo>
                  <a:lnTo>
                    <a:pt x="86" y="116"/>
                  </a:lnTo>
                  <a:lnTo>
                    <a:pt x="84" y="134"/>
                  </a:lnTo>
                  <a:lnTo>
                    <a:pt x="82" y="150"/>
                  </a:lnTo>
                  <a:lnTo>
                    <a:pt x="81" y="165"/>
                  </a:lnTo>
                  <a:lnTo>
                    <a:pt x="81" y="179"/>
                  </a:lnTo>
                  <a:lnTo>
                    <a:pt x="82" y="191"/>
                  </a:lnTo>
                  <a:lnTo>
                    <a:pt x="85" y="203"/>
                  </a:lnTo>
                  <a:lnTo>
                    <a:pt x="86" y="209"/>
                  </a:lnTo>
                  <a:lnTo>
                    <a:pt x="87" y="216"/>
                  </a:lnTo>
                  <a:lnTo>
                    <a:pt x="86" y="223"/>
                  </a:lnTo>
                  <a:lnTo>
                    <a:pt x="86" y="230"/>
                  </a:lnTo>
                  <a:lnTo>
                    <a:pt x="85" y="238"/>
                  </a:lnTo>
                  <a:lnTo>
                    <a:pt x="82" y="245"/>
                  </a:lnTo>
                  <a:lnTo>
                    <a:pt x="80" y="251"/>
                  </a:lnTo>
                  <a:lnTo>
                    <a:pt x="77" y="256"/>
                  </a:lnTo>
                  <a:lnTo>
                    <a:pt x="74" y="261"/>
                  </a:lnTo>
                  <a:lnTo>
                    <a:pt x="70" y="265"/>
                  </a:lnTo>
                  <a:lnTo>
                    <a:pt x="66" y="266"/>
                  </a:lnTo>
                  <a:lnTo>
                    <a:pt x="63" y="267"/>
                  </a:lnTo>
                  <a:lnTo>
                    <a:pt x="58" y="266"/>
                  </a:lnTo>
                  <a:lnTo>
                    <a:pt x="54" y="262"/>
                  </a:lnTo>
                  <a:lnTo>
                    <a:pt x="49" y="257"/>
                  </a:lnTo>
                  <a:lnTo>
                    <a:pt x="44" y="249"/>
                  </a:lnTo>
                  <a:lnTo>
                    <a:pt x="39" y="234"/>
                  </a:lnTo>
                  <a:lnTo>
                    <a:pt x="34" y="213"/>
                  </a:lnTo>
                  <a:lnTo>
                    <a:pt x="28" y="187"/>
                  </a:lnTo>
                  <a:lnTo>
                    <a:pt x="22" y="158"/>
                  </a:lnTo>
                  <a:lnTo>
                    <a:pt x="16" y="129"/>
                  </a:lnTo>
                  <a:lnTo>
                    <a:pt x="11" y="102"/>
                  </a:lnTo>
                  <a:lnTo>
                    <a:pt x="6" y="79"/>
                  </a:lnTo>
                  <a:lnTo>
                    <a:pt x="4" y="62"/>
                  </a:lnTo>
                  <a:lnTo>
                    <a:pt x="1" y="48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26" y="4"/>
                  </a:lnTo>
                  <a:lnTo>
                    <a:pt x="39" y="2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7508880" y="2495520"/>
              <a:ext cx="19080" cy="60480"/>
            </a:xfrm>
            <a:custGeom>
              <a:avLst/>
              <a:gdLst/>
              <a:ahLst/>
              <a:rect l="l" t="t" r="r" b="b"/>
              <a:pathLst>
                <a:path w="61" h="191">
                  <a:moveTo>
                    <a:pt x="32" y="178"/>
                  </a:moveTo>
                  <a:lnTo>
                    <a:pt x="28" y="168"/>
                  </a:lnTo>
                  <a:lnTo>
                    <a:pt x="24" y="153"/>
                  </a:lnTo>
                  <a:lnTo>
                    <a:pt x="20" y="134"/>
                  </a:lnTo>
                  <a:lnTo>
                    <a:pt x="16" y="114"/>
                  </a:lnTo>
                  <a:lnTo>
                    <a:pt x="12" y="93"/>
                  </a:lnTo>
                  <a:lnTo>
                    <a:pt x="7" y="73"/>
                  </a:lnTo>
                  <a:lnTo>
                    <a:pt x="5" y="57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10"/>
                  </a:lnTo>
                  <a:lnTo>
                    <a:pt x="10" y="7"/>
                  </a:lnTo>
                  <a:lnTo>
                    <a:pt x="17" y="3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9" y="3"/>
                  </a:lnTo>
                  <a:lnTo>
                    <a:pt x="54" y="5"/>
                  </a:lnTo>
                  <a:lnTo>
                    <a:pt x="58" y="11"/>
                  </a:lnTo>
                  <a:lnTo>
                    <a:pt x="60" y="20"/>
                  </a:lnTo>
                  <a:lnTo>
                    <a:pt x="61" y="34"/>
                  </a:lnTo>
                  <a:lnTo>
                    <a:pt x="61" y="51"/>
                  </a:lnTo>
                  <a:lnTo>
                    <a:pt x="61" y="68"/>
                  </a:lnTo>
                  <a:lnTo>
                    <a:pt x="60" y="83"/>
                  </a:lnTo>
                  <a:lnTo>
                    <a:pt x="59" y="95"/>
                  </a:lnTo>
                  <a:lnTo>
                    <a:pt x="58" y="107"/>
                  </a:lnTo>
                  <a:lnTo>
                    <a:pt x="56" y="117"/>
                  </a:lnTo>
                  <a:lnTo>
                    <a:pt x="56" y="127"/>
                  </a:lnTo>
                  <a:lnTo>
                    <a:pt x="56" y="137"/>
                  </a:lnTo>
                  <a:lnTo>
                    <a:pt x="59" y="146"/>
                  </a:lnTo>
                  <a:lnTo>
                    <a:pt x="61" y="154"/>
                  </a:lnTo>
                  <a:lnTo>
                    <a:pt x="60" y="165"/>
                  </a:lnTo>
                  <a:lnTo>
                    <a:pt x="58" y="175"/>
                  </a:lnTo>
                  <a:lnTo>
                    <a:pt x="54" y="184"/>
                  </a:lnTo>
                  <a:lnTo>
                    <a:pt x="53" y="186"/>
                  </a:lnTo>
                  <a:lnTo>
                    <a:pt x="49" y="189"/>
                  </a:lnTo>
                  <a:lnTo>
                    <a:pt x="47" y="191"/>
                  </a:lnTo>
                  <a:lnTo>
                    <a:pt x="44" y="191"/>
                  </a:lnTo>
                  <a:lnTo>
                    <a:pt x="40" y="190"/>
                  </a:lnTo>
                  <a:lnTo>
                    <a:pt x="38" y="187"/>
                  </a:lnTo>
                  <a:lnTo>
                    <a:pt x="34" y="184"/>
                  </a:lnTo>
                  <a:lnTo>
                    <a:pt x="32" y="178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7488360" y="2190960"/>
              <a:ext cx="50760" cy="20520"/>
            </a:xfrm>
            <a:custGeom>
              <a:avLst/>
              <a:gdLst/>
              <a:ahLst/>
              <a:rect l="l" t="t" r="r" b="b"/>
              <a:pathLst>
                <a:path w="158" h="64">
                  <a:moveTo>
                    <a:pt x="158" y="58"/>
                  </a:moveTo>
                  <a:lnTo>
                    <a:pt x="155" y="58"/>
                  </a:lnTo>
                  <a:lnTo>
                    <a:pt x="149" y="59"/>
                  </a:lnTo>
                  <a:lnTo>
                    <a:pt x="139" y="61"/>
                  </a:lnTo>
                  <a:lnTo>
                    <a:pt x="128" y="63"/>
                  </a:lnTo>
                  <a:lnTo>
                    <a:pt x="113" y="64"/>
                  </a:lnTo>
                  <a:lnTo>
                    <a:pt x="99" y="63"/>
                  </a:lnTo>
                  <a:lnTo>
                    <a:pt x="91" y="61"/>
                  </a:lnTo>
                  <a:lnTo>
                    <a:pt x="83" y="60"/>
                  </a:lnTo>
                  <a:lnTo>
                    <a:pt x="75" y="58"/>
                  </a:lnTo>
                  <a:lnTo>
                    <a:pt x="68" y="54"/>
                  </a:lnTo>
                  <a:lnTo>
                    <a:pt x="54" y="48"/>
                  </a:lnTo>
                  <a:lnTo>
                    <a:pt x="41" y="42"/>
                  </a:lnTo>
                  <a:lnTo>
                    <a:pt x="30" y="35"/>
                  </a:lnTo>
                  <a:lnTo>
                    <a:pt x="20" y="31"/>
                  </a:lnTo>
                  <a:lnTo>
                    <a:pt x="11" y="27"/>
                  </a:lnTo>
                  <a:lnTo>
                    <a:pt x="5" y="24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7" y="0"/>
                  </a:lnTo>
                  <a:lnTo>
                    <a:pt x="158" y="58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7488360" y="2190960"/>
              <a:ext cx="50760" cy="20520"/>
            </a:xfrm>
            <a:custGeom>
              <a:avLst/>
              <a:gdLst/>
              <a:ahLst/>
              <a:rect l="l" t="t" r="r" b="b"/>
              <a:pathLst>
                <a:path w="158" h="64">
                  <a:moveTo>
                    <a:pt x="158" y="58"/>
                  </a:moveTo>
                  <a:lnTo>
                    <a:pt x="155" y="58"/>
                  </a:lnTo>
                  <a:lnTo>
                    <a:pt x="149" y="59"/>
                  </a:lnTo>
                  <a:lnTo>
                    <a:pt x="139" y="61"/>
                  </a:lnTo>
                  <a:lnTo>
                    <a:pt x="128" y="63"/>
                  </a:lnTo>
                  <a:lnTo>
                    <a:pt x="113" y="64"/>
                  </a:lnTo>
                  <a:lnTo>
                    <a:pt x="99" y="63"/>
                  </a:lnTo>
                  <a:lnTo>
                    <a:pt x="91" y="61"/>
                  </a:lnTo>
                  <a:lnTo>
                    <a:pt x="83" y="60"/>
                  </a:lnTo>
                  <a:lnTo>
                    <a:pt x="75" y="58"/>
                  </a:lnTo>
                  <a:lnTo>
                    <a:pt x="68" y="54"/>
                  </a:lnTo>
                  <a:lnTo>
                    <a:pt x="54" y="48"/>
                  </a:lnTo>
                  <a:lnTo>
                    <a:pt x="41" y="42"/>
                  </a:lnTo>
                  <a:lnTo>
                    <a:pt x="30" y="35"/>
                  </a:lnTo>
                  <a:lnTo>
                    <a:pt x="20" y="31"/>
                  </a:lnTo>
                  <a:lnTo>
                    <a:pt x="11" y="27"/>
                  </a:lnTo>
                  <a:lnTo>
                    <a:pt x="5" y="24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7386480" y="3025800"/>
              <a:ext cx="131760" cy="839880"/>
            </a:xfrm>
            <a:custGeom>
              <a:avLst/>
              <a:gdLst/>
              <a:ahLst/>
              <a:rect l="l" t="t" r="r" b="b"/>
              <a:pathLst>
                <a:path w="416" h="2644">
                  <a:moveTo>
                    <a:pt x="6" y="295"/>
                  </a:moveTo>
                  <a:lnTo>
                    <a:pt x="8" y="353"/>
                  </a:lnTo>
                  <a:lnTo>
                    <a:pt x="11" y="508"/>
                  </a:lnTo>
                  <a:lnTo>
                    <a:pt x="16" y="730"/>
                  </a:lnTo>
                  <a:lnTo>
                    <a:pt x="19" y="994"/>
                  </a:lnTo>
                  <a:lnTo>
                    <a:pt x="22" y="1267"/>
                  </a:lnTo>
                  <a:lnTo>
                    <a:pt x="23" y="1520"/>
                  </a:lnTo>
                  <a:lnTo>
                    <a:pt x="22" y="1632"/>
                  </a:lnTo>
                  <a:lnTo>
                    <a:pt x="19" y="1728"/>
                  </a:lnTo>
                  <a:lnTo>
                    <a:pt x="18" y="1768"/>
                  </a:lnTo>
                  <a:lnTo>
                    <a:pt x="16" y="1805"/>
                  </a:lnTo>
                  <a:lnTo>
                    <a:pt x="15" y="1835"/>
                  </a:lnTo>
                  <a:lnTo>
                    <a:pt x="12" y="1860"/>
                  </a:lnTo>
                  <a:lnTo>
                    <a:pt x="7" y="1903"/>
                  </a:lnTo>
                  <a:lnTo>
                    <a:pt x="3" y="1948"/>
                  </a:lnTo>
                  <a:lnTo>
                    <a:pt x="1" y="1996"/>
                  </a:lnTo>
                  <a:lnTo>
                    <a:pt x="0" y="2045"/>
                  </a:lnTo>
                  <a:lnTo>
                    <a:pt x="0" y="2096"/>
                  </a:lnTo>
                  <a:lnTo>
                    <a:pt x="1" y="2146"/>
                  </a:lnTo>
                  <a:lnTo>
                    <a:pt x="5" y="2198"/>
                  </a:lnTo>
                  <a:lnTo>
                    <a:pt x="11" y="2249"/>
                  </a:lnTo>
                  <a:lnTo>
                    <a:pt x="16" y="2275"/>
                  </a:lnTo>
                  <a:lnTo>
                    <a:pt x="19" y="2300"/>
                  </a:lnTo>
                  <a:lnTo>
                    <a:pt x="26" y="2324"/>
                  </a:lnTo>
                  <a:lnTo>
                    <a:pt x="32" y="2349"/>
                  </a:lnTo>
                  <a:lnTo>
                    <a:pt x="39" y="2374"/>
                  </a:lnTo>
                  <a:lnTo>
                    <a:pt x="47" y="2398"/>
                  </a:lnTo>
                  <a:lnTo>
                    <a:pt x="55" y="2422"/>
                  </a:lnTo>
                  <a:lnTo>
                    <a:pt x="65" y="2444"/>
                  </a:lnTo>
                  <a:lnTo>
                    <a:pt x="75" y="2466"/>
                  </a:lnTo>
                  <a:lnTo>
                    <a:pt x="87" y="2488"/>
                  </a:lnTo>
                  <a:lnTo>
                    <a:pt x="99" y="2509"/>
                  </a:lnTo>
                  <a:lnTo>
                    <a:pt x="113" y="2529"/>
                  </a:lnTo>
                  <a:lnTo>
                    <a:pt x="128" y="2548"/>
                  </a:lnTo>
                  <a:lnTo>
                    <a:pt x="142" y="2567"/>
                  </a:lnTo>
                  <a:lnTo>
                    <a:pt x="160" y="2584"/>
                  </a:lnTo>
                  <a:lnTo>
                    <a:pt x="178" y="2601"/>
                  </a:lnTo>
                  <a:lnTo>
                    <a:pt x="195" y="2615"/>
                  </a:lnTo>
                  <a:lnTo>
                    <a:pt x="214" y="2627"/>
                  </a:lnTo>
                  <a:lnTo>
                    <a:pt x="230" y="2636"/>
                  </a:lnTo>
                  <a:lnTo>
                    <a:pt x="247" y="2641"/>
                  </a:lnTo>
                  <a:lnTo>
                    <a:pt x="262" y="2644"/>
                  </a:lnTo>
                  <a:lnTo>
                    <a:pt x="278" y="2643"/>
                  </a:lnTo>
                  <a:lnTo>
                    <a:pt x="291" y="2639"/>
                  </a:lnTo>
                  <a:lnTo>
                    <a:pt x="306" y="2633"/>
                  </a:lnTo>
                  <a:lnTo>
                    <a:pt x="318" y="2623"/>
                  </a:lnTo>
                  <a:lnTo>
                    <a:pt x="331" y="2610"/>
                  </a:lnTo>
                  <a:lnTo>
                    <a:pt x="343" y="2594"/>
                  </a:lnTo>
                  <a:lnTo>
                    <a:pt x="353" y="2574"/>
                  </a:lnTo>
                  <a:lnTo>
                    <a:pt x="364" y="2551"/>
                  </a:lnTo>
                  <a:lnTo>
                    <a:pt x="373" y="2525"/>
                  </a:lnTo>
                  <a:lnTo>
                    <a:pt x="381" y="2495"/>
                  </a:lnTo>
                  <a:lnTo>
                    <a:pt x="389" y="2463"/>
                  </a:lnTo>
                  <a:lnTo>
                    <a:pt x="395" y="2427"/>
                  </a:lnTo>
                  <a:lnTo>
                    <a:pt x="401" y="2387"/>
                  </a:lnTo>
                  <a:lnTo>
                    <a:pt x="406" y="2344"/>
                  </a:lnTo>
                  <a:lnTo>
                    <a:pt x="409" y="2297"/>
                  </a:lnTo>
                  <a:lnTo>
                    <a:pt x="412" y="2248"/>
                  </a:lnTo>
                  <a:lnTo>
                    <a:pt x="414" y="2194"/>
                  </a:lnTo>
                  <a:lnTo>
                    <a:pt x="416" y="2137"/>
                  </a:lnTo>
                  <a:lnTo>
                    <a:pt x="414" y="2077"/>
                  </a:lnTo>
                  <a:lnTo>
                    <a:pt x="413" y="2013"/>
                  </a:lnTo>
                  <a:lnTo>
                    <a:pt x="412" y="1944"/>
                  </a:lnTo>
                  <a:lnTo>
                    <a:pt x="408" y="1873"/>
                  </a:lnTo>
                  <a:lnTo>
                    <a:pt x="403" y="1798"/>
                  </a:lnTo>
                  <a:lnTo>
                    <a:pt x="397" y="1719"/>
                  </a:lnTo>
                  <a:lnTo>
                    <a:pt x="391" y="1637"/>
                  </a:lnTo>
                  <a:lnTo>
                    <a:pt x="382" y="1550"/>
                  </a:lnTo>
                  <a:lnTo>
                    <a:pt x="374" y="1460"/>
                  </a:lnTo>
                  <a:lnTo>
                    <a:pt x="354" y="1283"/>
                  </a:lnTo>
                  <a:lnTo>
                    <a:pt x="334" y="1122"/>
                  </a:lnTo>
                  <a:lnTo>
                    <a:pt x="316" y="973"/>
                  </a:lnTo>
                  <a:lnTo>
                    <a:pt x="299" y="839"/>
                  </a:lnTo>
                  <a:lnTo>
                    <a:pt x="281" y="717"/>
                  </a:lnTo>
                  <a:lnTo>
                    <a:pt x="264" y="607"/>
                  </a:lnTo>
                  <a:lnTo>
                    <a:pt x="248" y="509"/>
                  </a:lnTo>
                  <a:lnTo>
                    <a:pt x="234" y="422"/>
                  </a:lnTo>
                  <a:lnTo>
                    <a:pt x="218" y="344"/>
                  </a:lnTo>
                  <a:lnTo>
                    <a:pt x="203" y="276"/>
                  </a:lnTo>
                  <a:lnTo>
                    <a:pt x="189" y="217"/>
                  </a:lnTo>
                  <a:lnTo>
                    <a:pt x="174" y="166"/>
                  </a:lnTo>
                  <a:lnTo>
                    <a:pt x="161" y="123"/>
                  </a:lnTo>
                  <a:lnTo>
                    <a:pt x="149" y="86"/>
                  </a:lnTo>
                  <a:lnTo>
                    <a:pt x="135" y="56"/>
                  </a:lnTo>
                  <a:lnTo>
                    <a:pt x="123" y="30"/>
                  </a:lnTo>
                  <a:lnTo>
                    <a:pt x="118" y="21"/>
                  </a:lnTo>
                  <a:lnTo>
                    <a:pt x="112" y="13"/>
                  </a:lnTo>
                  <a:lnTo>
                    <a:pt x="106" y="7"/>
                  </a:lnTo>
                  <a:lnTo>
                    <a:pt x="101" y="3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85" y="1"/>
                  </a:lnTo>
                  <a:lnTo>
                    <a:pt x="80" y="2"/>
                  </a:lnTo>
                  <a:lnTo>
                    <a:pt x="75" y="6"/>
                  </a:lnTo>
                  <a:lnTo>
                    <a:pt x="70" y="11"/>
                  </a:lnTo>
                  <a:lnTo>
                    <a:pt x="65" y="18"/>
                  </a:lnTo>
                  <a:lnTo>
                    <a:pt x="61" y="26"/>
                  </a:lnTo>
                  <a:lnTo>
                    <a:pt x="53" y="43"/>
                  </a:lnTo>
                  <a:lnTo>
                    <a:pt x="45" y="65"/>
                  </a:lnTo>
                  <a:lnTo>
                    <a:pt x="39" y="90"/>
                  </a:lnTo>
                  <a:lnTo>
                    <a:pt x="32" y="117"/>
                  </a:lnTo>
                  <a:lnTo>
                    <a:pt x="27" y="146"/>
                  </a:lnTo>
                  <a:lnTo>
                    <a:pt x="22" y="176"/>
                  </a:lnTo>
                  <a:lnTo>
                    <a:pt x="13" y="237"/>
                  </a:lnTo>
                  <a:lnTo>
                    <a:pt x="6" y="295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7389720" y="3062520"/>
              <a:ext cx="115920" cy="766800"/>
            </a:xfrm>
            <a:custGeom>
              <a:avLst/>
              <a:gdLst/>
              <a:ahLst/>
              <a:rect l="l" t="t" r="r" b="b"/>
              <a:pathLst>
                <a:path w="367" h="2418">
                  <a:moveTo>
                    <a:pt x="331" y="1333"/>
                  </a:moveTo>
                  <a:lnTo>
                    <a:pt x="339" y="1416"/>
                  </a:lnTo>
                  <a:lnTo>
                    <a:pt x="345" y="1496"/>
                  </a:lnTo>
                  <a:lnTo>
                    <a:pt x="351" y="1571"/>
                  </a:lnTo>
                  <a:lnTo>
                    <a:pt x="356" y="1643"/>
                  </a:lnTo>
                  <a:lnTo>
                    <a:pt x="361" y="1712"/>
                  </a:lnTo>
                  <a:lnTo>
                    <a:pt x="364" y="1777"/>
                  </a:lnTo>
                  <a:lnTo>
                    <a:pt x="366" y="1840"/>
                  </a:lnTo>
                  <a:lnTo>
                    <a:pt x="367" y="1899"/>
                  </a:lnTo>
                  <a:lnTo>
                    <a:pt x="367" y="1954"/>
                  </a:lnTo>
                  <a:lnTo>
                    <a:pt x="366" y="2006"/>
                  </a:lnTo>
                  <a:lnTo>
                    <a:pt x="365" y="2055"/>
                  </a:lnTo>
                  <a:lnTo>
                    <a:pt x="363" y="2101"/>
                  </a:lnTo>
                  <a:lnTo>
                    <a:pt x="359" y="2144"/>
                  </a:lnTo>
                  <a:lnTo>
                    <a:pt x="354" y="2183"/>
                  </a:lnTo>
                  <a:lnTo>
                    <a:pt x="349" y="2219"/>
                  </a:lnTo>
                  <a:lnTo>
                    <a:pt x="344" y="2252"/>
                  </a:lnTo>
                  <a:lnTo>
                    <a:pt x="337" y="2283"/>
                  </a:lnTo>
                  <a:lnTo>
                    <a:pt x="329" y="2309"/>
                  </a:lnTo>
                  <a:lnTo>
                    <a:pt x="322" y="2333"/>
                  </a:lnTo>
                  <a:lnTo>
                    <a:pt x="312" y="2354"/>
                  </a:lnTo>
                  <a:lnTo>
                    <a:pt x="303" y="2371"/>
                  </a:lnTo>
                  <a:lnTo>
                    <a:pt x="292" y="2386"/>
                  </a:lnTo>
                  <a:lnTo>
                    <a:pt x="281" y="2398"/>
                  </a:lnTo>
                  <a:lnTo>
                    <a:pt x="270" y="2408"/>
                  </a:lnTo>
                  <a:lnTo>
                    <a:pt x="258" y="2414"/>
                  </a:lnTo>
                  <a:lnTo>
                    <a:pt x="246" y="2417"/>
                  </a:lnTo>
                  <a:lnTo>
                    <a:pt x="232" y="2418"/>
                  </a:lnTo>
                  <a:lnTo>
                    <a:pt x="217" y="2416"/>
                  </a:lnTo>
                  <a:lnTo>
                    <a:pt x="204" y="2411"/>
                  </a:lnTo>
                  <a:lnTo>
                    <a:pt x="188" y="2402"/>
                  </a:lnTo>
                  <a:lnTo>
                    <a:pt x="173" y="2392"/>
                  </a:lnTo>
                  <a:lnTo>
                    <a:pt x="157" y="2379"/>
                  </a:lnTo>
                  <a:lnTo>
                    <a:pt x="141" y="2364"/>
                  </a:lnTo>
                  <a:lnTo>
                    <a:pt x="126" y="2348"/>
                  </a:lnTo>
                  <a:lnTo>
                    <a:pt x="112" y="2331"/>
                  </a:lnTo>
                  <a:lnTo>
                    <a:pt x="99" y="2312"/>
                  </a:lnTo>
                  <a:lnTo>
                    <a:pt x="87" y="2294"/>
                  </a:lnTo>
                  <a:lnTo>
                    <a:pt x="76" y="2275"/>
                  </a:lnTo>
                  <a:lnTo>
                    <a:pt x="66" y="2256"/>
                  </a:lnTo>
                  <a:lnTo>
                    <a:pt x="56" y="2235"/>
                  </a:lnTo>
                  <a:lnTo>
                    <a:pt x="48" y="2214"/>
                  </a:lnTo>
                  <a:lnTo>
                    <a:pt x="40" y="2193"/>
                  </a:lnTo>
                  <a:lnTo>
                    <a:pt x="33" y="2171"/>
                  </a:lnTo>
                  <a:lnTo>
                    <a:pt x="27" y="2149"/>
                  </a:lnTo>
                  <a:lnTo>
                    <a:pt x="22" y="2127"/>
                  </a:lnTo>
                  <a:lnTo>
                    <a:pt x="17" y="2103"/>
                  </a:lnTo>
                  <a:lnTo>
                    <a:pt x="13" y="2080"/>
                  </a:lnTo>
                  <a:lnTo>
                    <a:pt x="9" y="2056"/>
                  </a:lnTo>
                  <a:lnTo>
                    <a:pt x="5" y="2010"/>
                  </a:lnTo>
                  <a:lnTo>
                    <a:pt x="1" y="1963"/>
                  </a:lnTo>
                  <a:lnTo>
                    <a:pt x="0" y="1916"/>
                  </a:lnTo>
                  <a:lnTo>
                    <a:pt x="0" y="1870"/>
                  </a:lnTo>
                  <a:lnTo>
                    <a:pt x="2" y="1825"/>
                  </a:lnTo>
                  <a:lnTo>
                    <a:pt x="5" y="1781"/>
                  </a:lnTo>
                  <a:lnTo>
                    <a:pt x="8" y="1739"/>
                  </a:lnTo>
                  <a:lnTo>
                    <a:pt x="13" y="1700"/>
                  </a:lnTo>
                  <a:lnTo>
                    <a:pt x="17" y="1651"/>
                  </a:lnTo>
                  <a:lnTo>
                    <a:pt x="19" y="1580"/>
                  </a:lnTo>
                  <a:lnTo>
                    <a:pt x="21" y="1492"/>
                  </a:lnTo>
                  <a:lnTo>
                    <a:pt x="21" y="1390"/>
                  </a:lnTo>
                  <a:lnTo>
                    <a:pt x="21" y="1157"/>
                  </a:lnTo>
                  <a:lnTo>
                    <a:pt x="18" y="908"/>
                  </a:lnTo>
                  <a:lnTo>
                    <a:pt x="14" y="668"/>
                  </a:lnTo>
                  <a:lnTo>
                    <a:pt x="11" y="464"/>
                  </a:lnTo>
                  <a:lnTo>
                    <a:pt x="8" y="321"/>
                  </a:lnTo>
                  <a:lnTo>
                    <a:pt x="7" y="268"/>
                  </a:lnTo>
                  <a:lnTo>
                    <a:pt x="12" y="215"/>
                  </a:lnTo>
                  <a:lnTo>
                    <a:pt x="19" y="160"/>
                  </a:lnTo>
                  <a:lnTo>
                    <a:pt x="24" y="132"/>
                  </a:lnTo>
                  <a:lnTo>
                    <a:pt x="29" y="106"/>
                  </a:lnTo>
                  <a:lnTo>
                    <a:pt x="34" y="81"/>
                  </a:lnTo>
                  <a:lnTo>
                    <a:pt x="40" y="58"/>
                  </a:lnTo>
                  <a:lnTo>
                    <a:pt x="48" y="38"/>
                  </a:lnTo>
                  <a:lnTo>
                    <a:pt x="55" y="22"/>
                  </a:lnTo>
                  <a:lnTo>
                    <a:pt x="59" y="16"/>
                  </a:lnTo>
                  <a:lnTo>
                    <a:pt x="62" y="10"/>
                  </a:lnTo>
                  <a:lnTo>
                    <a:pt x="66" y="5"/>
                  </a:lnTo>
                  <a:lnTo>
                    <a:pt x="71" y="2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9" y="2"/>
                  </a:lnTo>
                  <a:lnTo>
                    <a:pt x="94" y="7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10" y="29"/>
                  </a:lnTo>
                  <a:lnTo>
                    <a:pt x="121" y="52"/>
                  </a:lnTo>
                  <a:lnTo>
                    <a:pt x="132" y="79"/>
                  </a:lnTo>
                  <a:lnTo>
                    <a:pt x="145" y="112"/>
                  </a:lnTo>
                  <a:lnTo>
                    <a:pt x="156" y="151"/>
                  </a:lnTo>
                  <a:lnTo>
                    <a:pt x="168" y="198"/>
                  </a:lnTo>
                  <a:lnTo>
                    <a:pt x="180" y="252"/>
                  </a:lnTo>
                  <a:lnTo>
                    <a:pt x="194" y="314"/>
                  </a:lnTo>
                  <a:lnTo>
                    <a:pt x="208" y="385"/>
                  </a:lnTo>
                  <a:lnTo>
                    <a:pt x="221" y="465"/>
                  </a:lnTo>
                  <a:lnTo>
                    <a:pt x="236" y="555"/>
                  </a:lnTo>
                  <a:lnTo>
                    <a:pt x="251" y="655"/>
                  </a:lnTo>
                  <a:lnTo>
                    <a:pt x="265" y="766"/>
                  </a:lnTo>
                  <a:lnTo>
                    <a:pt x="281" y="889"/>
                  </a:lnTo>
                  <a:lnTo>
                    <a:pt x="297" y="1024"/>
                  </a:lnTo>
                  <a:lnTo>
                    <a:pt x="313" y="1172"/>
                  </a:lnTo>
                  <a:lnTo>
                    <a:pt x="331" y="1333"/>
                  </a:lnTo>
                  <a:close/>
                </a:path>
              </a:pathLst>
            </a:custGeom>
            <a:solidFill>
              <a:srgbClr val="6c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7392960" y="3097440"/>
              <a:ext cx="101520" cy="696960"/>
            </a:xfrm>
            <a:custGeom>
              <a:avLst/>
              <a:gdLst/>
              <a:ahLst/>
              <a:rect l="l" t="t" r="r" b="b"/>
              <a:pathLst>
                <a:path w="320" h="2194">
                  <a:moveTo>
                    <a:pt x="290" y="1210"/>
                  </a:moveTo>
                  <a:lnTo>
                    <a:pt x="296" y="1285"/>
                  </a:lnTo>
                  <a:lnTo>
                    <a:pt x="302" y="1357"/>
                  </a:lnTo>
                  <a:lnTo>
                    <a:pt x="307" y="1425"/>
                  </a:lnTo>
                  <a:lnTo>
                    <a:pt x="312" y="1491"/>
                  </a:lnTo>
                  <a:lnTo>
                    <a:pt x="314" y="1553"/>
                  </a:lnTo>
                  <a:lnTo>
                    <a:pt x="318" y="1612"/>
                  </a:lnTo>
                  <a:lnTo>
                    <a:pt x="319" y="1669"/>
                  </a:lnTo>
                  <a:lnTo>
                    <a:pt x="320" y="1722"/>
                  </a:lnTo>
                  <a:lnTo>
                    <a:pt x="320" y="1772"/>
                  </a:lnTo>
                  <a:lnTo>
                    <a:pt x="319" y="1820"/>
                  </a:lnTo>
                  <a:lnTo>
                    <a:pt x="318" y="1865"/>
                  </a:lnTo>
                  <a:lnTo>
                    <a:pt x="315" y="1905"/>
                  </a:lnTo>
                  <a:lnTo>
                    <a:pt x="313" y="1944"/>
                  </a:lnTo>
                  <a:lnTo>
                    <a:pt x="309" y="1980"/>
                  </a:lnTo>
                  <a:lnTo>
                    <a:pt x="304" y="2013"/>
                  </a:lnTo>
                  <a:lnTo>
                    <a:pt x="299" y="2043"/>
                  </a:lnTo>
                  <a:lnTo>
                    <a:pt x="293" y="2070"/>
                  </a:lnTo>
                  <a:lnTo>
                    <a:pt x="287" y="2095"/>
                  </a:lnTo>
                  <a:lnTo>
                    <a:pt x="281" y="2117"/>
                  </a:lnTo>
                  <a:lnTo>
                    <a:pt x="272" y="2135"/>
                  </a:lnTo>
                  <a:lnTo>
                    <a:pt x="265" y="2151"/>
                  </a:lnTo>
                  <a:lnTo>
                    <a:pt x="255" y="2165"/>
                  </a:lnTo>
                  <a:lnTo>
                    <a:pt x="246" y="2176"/>
                  </a:lnTo>
                  <a:lnTo>
                    <a:pt x="235" y="2184"/>
                  </a:lnTo>
                  <a:lnTo>
                    <a:pt x="226" y="2190"/>
                  </a:lnTo>
                  <a:lnTo>
                    <a:pt x="215" y="2193"/>
                  </a:lnTo>
                  <a:lnTo>
                    <a:pt x="202" y="2194"/>
                  </a:lnTo>
                  <a:lnTo>
                    <a:pt x="190" y="2192"/>
                  </a:lnTo>
                  <a:lnTo>
                    <a:pt x="178" y="2187"/>
                  </a:lnTo>
                  <a:lnTo>
                    <a:pt x="164" y="2179"/>
                  </a:lnTo>
                  <a:lnTo>
                    <a:pt x="151" y="2171"/>
                  </a:lnTo>
                  <a:lnTo>
                    <a:pt x="137" y="2158"/>
                  </a:lnTo>
                  <a:lnTo>
                    <a:pt x="123" y="2145"/>
                  </a:lnTo>
                  <a:lnTo>
                    <a:pt x="110" y="2130"/>
                  </a:lnTo>
                  <a:lnTo>
                    <a:pt x="98" y="2114"/>
                  </a:lnTo>
                  <a:lnTo>
                    <a:pt x="87" y="2098"/>
                  </a:lnTo>
                  <a:lnTo>
                    <a:pt x="77" y="2081"/>
                  </a:lnTo>
                  <a:lnTo>
                    <a:pt x="67" y="2064"/>
                  </a:lnTo>
                  <a:lnTo>
                    <a:pt x="58" y="2047"/>
                  </a:lnTo>
                  <a:lnTo>
                    <a:pt x="50" y="2028"/>
                  </a:lnTo>
                  <a:lnTo>
                    <a:pt x="42" y="2008"/>
                  </a:lnTo>
                  <a:lnTo>
                    <a:pt x="36" y="1989"/>
                  </a:lnTo>
                  <a:lnTo>
                    <a:pt x="30" y="1969"/>
                  </a:lnTo>
                  <a:lnTo>
                    <a:pt x="25" y="1949"/>
                  </a:lnTo>
                  <a:lnTo>
                    <a:pt x="16" y="1909"/>
                  </a:lnTo>
                  <a:lnTo>
                    <a:pt x="9" y="1866"/>
                  </a:lnTo>
                  <a:lnTo>
                    <a:pt x="4" y="1824"/>
                  </a:lnTo>
                  <a:lnTo>
                    <a:pt x="2" y="1781"/>
                  </a:lnTo>
                  <a:lnTo>
                    <a:pt x="0" y="1739"/>
                  </a:lnTo>
                  <a:lnTo>
                    <a:pt x="0" y="1697"/>
                  </a:lnTo>
                  <a:lnTo>
                    <a:pt x="3" y="1655"/>
                  </a:lnTo>
                  <a:lnTo>
                    <a:pt x="5" y="1616"/>
                  </a:lnTo>
                  <a:lnTo>
                    <a:pt x="8" y="1578"/>
                  </a:lnTo>
                  <a:lnTo>
                    <a:pt x="12" y="1542"/>
                  </a:lnTo>
                  <a:lnTo>
                    <a:pt x="15" y="1497"/>
                  </a:lnTo>
                  <a:lnTo>
                    <a:pt x="18" y="1433"/>
                  </a:lnTo>
                  <a:lnTo>
                    <a:pt x="19" y="1353"/>
                  </a:lnTo>
                  <a:lnTo>
                    <a:pt x="19" y="1261"/>
                  </a:lnTo>
                  <a:lnTo>
                    <a:pt x="19" y="1049"/>
                  </a:lnTo>
                  <a:lnTo>
                    <a:pt x="16" y="821"/>
                  </a:lnTo>
                  <a:lnTo>
                    <a:pt x="13" y="604"/>
                  </a:lnTo>
                  <a:lnTo>
                    <a:pt x="10" y="418"/>
                  </a:lnTo>
                  <a:lnTo>
                    <a:pt x="8" y="289"/>
                  </a:lnTo>
                  <a:lnTo>
                    <a:pt x="7" y="241"/>
                  </a:lnTo>
                  <a:lnTo>
                    <a:pt x="12" y="193"/>
                  </a:lnTo>
                  <a:lnTo>
                    <a:pt x="18" y="143"/>
                  </a:lnTo>
                  <a:lnTo>
                    <a:pt x="21" y="118"/>
                  </a:lnTo>
                  <a:lnTo>
                    <a:pt x="26" y="95"/>
                  </a:lnTo>
                  <a:lnTo>
                    <a:pt x="31" y="72"/>
                  </a:lnTo>
                  <a:lnTo>
                    <a:pt x="36" y="51"/>
                  </a:lnTo>
                  <a:lnTo>
                    <a:pt x="42" y="34"/>
                  </a:lnTo>
                  <a:lnTo>
                    <a:pt x="48" y="20"/>
                  </a:lnTo>
                  <a:lnTo>
                    <a:pt x="51" y="13"/>
                  </a:lnTo>
                  <a:lnTo>
                    <a:pt x="55" y="8"/>
                  </a:lnTo>
                  <a:lnTo>
                    <a:pt x="58" y="5"/>
                  </a:lnTo>
                  <a:lnTo>
                    <a:pt x="62" y="1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3" y="6"/>
                  </a:lnTo>
                  <a:lnTo>
                    <a:pt x="87" y="11"/>
                  </a:lnTo>
                  <a:lnTo>
                    <a:pt x="91" y="18"/>
                  </a:lnTo>
                  <a:lnTo>
                    <a:pt x="96" y="26"/>
                  </a:lnTo>
                  <a:lnTo>
                    <a:pt x="105" y="47"/>
                  </a:lnTo>
                  <a:lnTo>
                    <a:pt x="115" y="71"/>
                  </a:lnTo>
                  <a:lnTo>
                    <a:pt x="125" y="102"/>
                  </a:lnTo>
                  <a:lnTo>
                    <a:pt x="136" y="138"/>
                  </a:lnTo>
                  <a:lnTo>
                    <a:pt x="146" y="179"/>
                  </a:lnTo>
                  <a:lnTo>
                    <a:pt x="157" y="229"/>
                  </a:lnTo>
                  <a:lnTo>
                    <a:pt x="169" y="285"/>
                  </a:lnTo>
                  <a:lnTo>
                    <a:pt x="180" y="349"/>
                  </a:lnTo>
                  <a:lnTo>
                    <a:pt x="192" y="422"/>
                  </a:lnTo>
                  <a:lnTo>
                    <a:pt x="205" y="503"/>
                  </a:lnTo>
                  <a:lnTo>
                    <a:pt x="218" y="594"/>
                  </a:lnTo>
                  <a:lnTo>
                    <a:pt x="232" y="695"/>
                  </a:lnTo>
                  <a:lnTo>
                    <a:pt x="245" y="807"/>
                  </a:lnTo>
                  <a:lnTo>
                    <a:pt x="259" y="930"/>
                  </a:lnTo>
                  <a:lnTo>
                    <a:pt x="274" y="1064"/>
                  </a:lnTo>
                  <a:lnTo>
                    <a:pt x="290" y="1210"/>
                  </a:lnTo>
                  <a:close/>
                </a:path>
              </a:pathLst>
            </a:custGeom>
            <a:solidFill>
              <a:srgbClr val="6f5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7396200" y="3133800"/>
              <a:ext cx="85680" cy="623880"/>
            </a:xfrm>
            <a:custGeom>
              <a:avLst/>
              <a:gdLst/>
              <a:ahLst/>
              <a:rect l="l" t="t" r="r" b="b"/>
              <a:pathLst>
                <a:path w="270" h="1966">
                  <a:moveTo>
                    <a:pt x="242" y="1086"/>
                  </a:moveTo>
                  <a:lnTo>
                    <a:pt x="253" y="1218"/>
                  </a:lnTo>
                  <a:lnTo>
                    <a:pt x="262" y="1338"/>
                  </a:lnTo>
                  <a:lnTo>
                    <a:pt x="265" y="1394"/>
                  </a:lnTo>
                  <a:lnTo>
                    <a:pt x="268" y="1446"/>
                  </a:lnTo>
                  <a:lnTo>
                    <a:pt x="269" y="1497"/>
                  </a:lnTo>
                  <a:lnTo>
                    <a:pt x="269" y="1545"/>
                  </a:lnTo>
                  <a:lnTo>
                    <a:pt x="270" y="1590"/>
                  </a:lnTo>
                  <a:lnTo>
                    <a:pt x="269" y="1632"/>
                  </a:lnTo>
                  <a:lnTo>
                    <a:pt x="268" y="1673"/>
                  </a:lnTo>
                  <a:lnTo>
                    <a:pt x="266" y="1710"/>
                  </a:lnTo>
                  <a:lnTo>
                    <a:pt x="264" y="1744"/>
                  </a:lnTo>
                  <a:lnTo>
                    <a:pt x="260" y="1776"/>
                  </a:lnTo>
                  <a:lnTo>
                    <a:pt x="257" y="1806"/>
                  </a:lnTo>
                  <a:lnTo>
                    <a:pt x="252" y="1831"/>
                  </a:lnTo>
                  <a:lnTo>
                    <a:pt x="247" y="1856"/>
                  </a:lnTo>
                  <a:lnTo>
                    <a:pt x="242" y="1878"/>
                  </a:lnTo>
                  <a:lnTo>
                    <a:pt x="236" y="1898"/>
                  </a:lnTo>
                  <a:lnTo>
                    <a:pt x="230" y="1915"/>
                  </a:lnTo>
                  <a:lnTo>
                    <a:pt x="222" y="1929"/>
                  </a:lnTo>
                  <a:lnTo>
                    <a:pt x="215" y="1941"/>
                  </a:lnTo>
                  <a:lnTo>
                    <a:pt x="206" y="1951"/>
                  </a:lnTo>
                  <a:lnTo>
                    <a:pt x="198" y="1958"/>
                  </a:lnTo>
                  <a:lnTo>
                    <a:pt x="189" y="1963"/>
                  </a:lnTo>
                  <a:lnTo>
                    <a:pt x="179" y="1966"/>
                  </a:lnTo>
                  <a:lnTo>
                    <a:pt x="169" y="1966"/>
                  </a:lnTo>
                  <a:lnTo>
                    <a:pt x="159" y="1964"/>
                  </a:lnTo>
                  <a:lnTo>
                    <a:pt x="148" y="1959"/>
                  </a:lnTo>
                  <a:lnTo>
                    <a:pt x="137" y="1953"/>
                  </a:lnTo>
                  <a:lnTo>
                    <a:pt x="126" y="1945"/>
                  </a:lnTo>
                  <a:lnTo>
                    <a:pt x="114" y="1934"/>
                  </a:lnTo>
                  <a:lnTo>
                    <a:pt x="102" y="1921"/>
                  </a:lnTo>
                  <a:lnTo>
                    <a:pt x="92" y="1909"/>
                  </a:lnTo>
                  <a:lnTo>
                    <a:pt x="81" y="1895"/>
                  </a:lnTo>
                  <a:lnTo>
                    <a:pt x="71" y="1881"/>
                  </a:lnTo>
                  <a:lnTo>
                    <a:pt x="62" y="1866"/>
                  </a:lnTo>
                  <a:lnTo>
                    <a:pt x="55" y="1851"/>
                  </a:lnTo>
                  <a:lnTo>
                    <a:pt x="47" y="1835"/>
                  </a:lnTo>
                  <a:lnTo>
                    <a:pt x="40" y="1819"/>
                  </a:lnTo>
                  <a:lnTo>
                    <a:pt x="34" y="1802"/>
                  </a:lnTo>
                  <a:lnTo>
                    <a:pt x="28" y="1785"/>
                  </a:lnTo>
                  <a:lnTo>
                    <a:pt x="23" y="1768"/>
                  </a:lnTo>
                  <a:lnTo>
                    <a:pt x="19" y="1749"/>
                  </a:lnTo>
                  <a:lnTo>
                    <a:pt x="12" y="1712"/>
                  </a:lnTo>
                  <a:lnTo>
                    <a:pt x="6" y="1675"/>
                  </a:lnTo>
                  <a:lnTo>
                    <a:pt x="2" y="1637"/>
                  </a:lnTo>
                  <a:lnTo>
                    <a:pt x="0" y="1599"/>
                  </a:lnTo>
                  <a:lnTo>
                    <a:pt x="0" y="1561"/>
                  </a:lnTo>
                  <a:lnTo>
                    <a:pt x="0" y="1523"/>
                  </a:lnTo>
                  <a:lnTo>
                    <a:pt x="1" y="1487"/>
                  </a:lnTo>
                  <a:lnTo>
                    <a:pt x="3" y="1451"/>
                  </a:lnTo>
                  <a:lnTo>
                    <a:pt x="6" y="1417"/>
                  </a:lnTo>
                  <a:lnTo>
                    <a:pt x="8" y="1385"/>
                  </a:lnTo>
                  <a:lnTo>
                    <a:pt x="11" y="1344"/>
                  </a:lnTo>
                  <a:lnTo>
                    <a:pt x="13" y="1288"/>
                  </a:lnTo>
                  <a:lnTo>
                    <a:pt x="14" y="1215"/>
                  </a:lnTo>
                  <a:lnTo>
                    <a:pt x="14" y="1133"/>
                  </a:lnTo>
                  <a:lnTo>
                    <a:pt x="14" y="942"/>
                  </a:lnTo>
                  <a:lnTo>
                    <a:pt x="13" y="738"/>
                  </a:lnTo>
                  <a:lnTo>
                    <a:pt x="11" y="541"/>
                  </a:lnTo>
                  <a:lnTo>
                    <a:pt x="8" y="374"/>
                  </a:lnTo>
                  <a:lnTo>
                    <a:pt x="6" y="258"/>
                  </a:lnTo>
                  <a:lnTo>
                    <a:pt x="6" y="214"/>
                  </a:lnTo>
                  <a:lnTo>
                    <a:pt x="9" y="172"/>
                  </a:lnTo>
                  <a:lnTo>
                    <a:pt x="14" y="128"/>
                  </a:lnTo>
                  <a:lnTo>
                    <a:pt x="17" y="106"/>
                  </a:lnTo>
                  <a:lnTo>
                    <a:pt x="20" y="84"/>
                  </a:lnTo>
                  <a:lnTo>
                    <a:pt x="24" y="64"/>
                  </a:lnTo>
                  <a:lnTo>
                    <a:pt x="29" y="46"/>
                  </a:lnTo>
                  <a:lnTo>
                    <a:pt x="34" y="31"/>
                  </a:lnTo>
                  <a:lnTo>
                    <a:pt x="39" y="17"/>
                  </a:lnTo>
                  <a:lnTo>
                    <a:pt x="41" y="12"/>
                  </a:lnTo>
                  <a:lnTo>
                    <a:pt x="44" y="7"/>
                  </a:lnTo>
                  <a:lnTo>
                    <a:pt x="47" y="4"/>
                  </a:lnTo>
                  <a:lnTo>
                    <a:pt x="50" y="1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67" y="6"/>
                  </a:lnTo>
                  <a:lnTo>
                    <a:pt x="71" y="11"/>
                  </a:lnTo>
                  <a:lnTo>
                    <a:pt x="75" y="17"/>
                  </a:lnTo>
                  <a:lnTo>
                    <a:pt x="78" y="25"/>
                  </a:lnTo>
                  <a:lnTo>
                    <a:pt x="87" y="43"/>
                  </a:lnTo>
                  <a:lnTo>
                    <a:pt x="95" y="65"/>
                  </a:lnTo>
                  <a:lnTo>
                    <a:pt x="104" y="92"/>
                  </a:lnTo>
                  <a:lnTo>
                    <a:pt x="113" y="124"/>
                  </a:lnTo>
                  <a:lnTo>
                    <a:pt x="123" y="162"/>
                  </a:lnTo>
                  <a:lnTo>
                    <a:pt x="131" y="205"/>
                  </a:lnTo>
                  <a:lnTo>
                    <a:pt x="141" y="256"/>
                  </a:lnTo>
                  <a:lnTo>
                    <a:pt x="151" y="314"/>
                  </a:lnTo>
                  <a:lnTo>
                    <a:pt x="161" y="379"/>
                  </a:lnTo>
                  <a:lnTo>
                    <a:pt x="172" y="453"/>
                  </a:lnTo>
                  <a:lnTo>
                    <a:pt x="183" y="534"/>
                  </a:lnTo>
                  <a:lnTo>
                    <a:pt x="194" y="625"/>
                  </a:lnTo>
                  <a:lnTo>
                    <a:pt x="205" y="724"/>
                  </a:lnTo>
                  <a:lnTo>
                    <a:pt x="217" y="835"/>
                  </a:lnTo>
                  <a:lnTo>
                    <a:pt x="230" y="954"/>
                  </a:lnTo>
                  <a:lnTo>
                    <a:pt x="242" y="1086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7399440" y="3168720"/>
              <a:ext cx="69840" cy="554040"/>
            </a:xfrm>
            <a:custGeom>
              <a:avLst/>
              <a:gdLst/>
              <a:ahLst/>
              <a:rect l="l" t="t" r="r" b="b"/>
              <a:pathLst>
                <a:path w="224" h="1743">
                  <a:moveTo>
                    <a:pt x="201" y="962"/>
                  </a:moveTo>
                  <a:lnTo>
                    <a:pt x="211" y="1078"/>
                  </a:lnTo>
                  <a:lnTo>
                    <a:pt x="218" y="1185"/>
                  </a:lnTo>
                  <a:lnTo>
                    <a:pt x="222" y="1283"/>
                  </a:lnTo>
                  <a:lnTo>
                    <a:pt x="224" y="1370"/>
                  </a:lnTo>
                  <a:lnTo>
                    <a:pt x="223" y="1447"/>
                  </a:lnTo>
                  <a:lnTo>
                    <a:pt x="220" y="1515"/>
                  </a:lnTo>
                  <a:lnTo>
                    <a:pt x="219" y="1546"/>
                  </a:lnTo>
                  <a:lnTo>
                    <a:pt x="215" y="1574"/>
                  </a:lnTo>
                  <a:lnTo>
                    <a:pt x="213" y="1600"/>
                  </a:lnTo>
                  <a:lnTo>
                    <a:pt x="209" y="1625"/>
                  </a:lnTo>
                  <a:lnTo>
                    <a:pt x="206" y="1645"/>
                  </a:lnTo>
                  <a:lnTo>
                    <a:pt x="201" y="1665"/>
                  </a:lnTo>
                  <a:lnTo>
                    <a:pt x="196" y="1682"/>
                  </a:lnTo>
                  <a:lnTo>
                    <a:pt x="191" y="1697"/>
                  </a:lnTo>
                  <a:lnTo>
                    <a:pt x="185" y="1711"/>
                  </a:lnTo>
                  <a:lnTo>
                    <a:pt x="179" y="1722"/>
                  </a:lnTo>
                  <a:lnTo>
                    <a:pt x="171" y="1729"/>
                  </a:lnTo>
                  <a:lnTo>
                    <a:pt x="165" y="1736"/>
                  </a:lnTo>
                  <a:lnTo>
                    <a:pt x="158" y="1740"/>
                  </a:lnTo>
                  <a:lnTo>
                    <a:pt x="149" y="1743"/>
                  </a:lnTo>
                  <a:lnTo>
                    <a:pt x="142" y="1743"/>
                  </a:lnTo>
                  <a:lnTo>
                    <a:pt x="133" y="1741"/>
                  </a:lnTo>
                  <a:lnTo>
                    <a:pt x="123" y="1738"/>
                  </a:lnTo>
                  <a:lnTo>
                    <a:pt x="115" y="1732"/>
                  </a:lnTo>
                  <a:lnTo>
                    <a:pt x="105" y="1724"/>
                  </a:lnTo>
                  <a:lnTo>
                    <a:pt x="95" y="1714"/>
                  </a:lnTo>
                  <a:lnTo>
                    <a:pt x="85" y="1703"/>
                  </a:lnTo>
                  <a:lnTo>
                    <a:pt x="76" y="1692"/>
                  </a:lnTo>
                  <a:lnTo>
                    <a:pt x="68" y="1680"/>
                  </a:lnTo>
                  <a:lnTo>
                    <a:pt x="59" y="1668"/>
                  </a:lnTo>
                  <a:lnTo>
                    <a:pt x="52" y="1654"/>
                  </a:lnTo>
                  <a:lnTo>
                    <a:pt x="46" y="1641"/>
                  </a:lnTo>
                  <a:lnTo>
                    <a:pt x="39" y="1627"/>
                  </a:lnTo>
                  <a:lnTo>
                    <a:pt x="33" y="1612"/>
                  </a:lnTo>
                  <a:lnTo>
                    <a:pt x="24" y="1581"/>
                  </a:lnTo>
                  <a:lnTo>
                    <a:pt x="16" y="1551"/>
                  </a:lnTo>
                  <a:lnTo>
                    <a:pt x="10" y="1518"/>
                  </a:lnTo>
                  <a:lnTo>
                    <a:pt x="6" y="1484"/>
                  </a:lnTo>
                  <a:lnTo>
                    <a:pt x="3" y="1451"/>
                  </a:lnTo>
                  <a:lnTo>
                    <a:pt x="1" y="1417"/>
                  </a:lnTo>
                  <a:lnTo>
                    <a:pt x="0" y="1383"/>
                  </a:lnTo>
                  <a:lnTo>
                    <a:pt x="1" y="1350"/>
                  </a:lnTo>
                  <a:lnTo>
                    <a:pt x="4" y="1286"/>
                  </a:lnTo>
                  <a:lnTo>
                    <a:pt x="9" y="1228"/>
                  </a:lnTo>
                  <a:lnTo>
                    <a:pt x="10" y="1193"/>
                  </a:lnTo>
                  <a:lnTo>
                    <a:pt x="12" y="1141"/>
                  </a:lnTo>
                  <a:lnTo>
                    <a:pt x="12" y="1078"/>
                  </a:lnTo>
                  <a:lnTo>
                    <a:pt x="14" y="1005"/>
                  </a:lnTo>
                  <a:lnTo>
                    <a:pt x="14" y="835"/>
                  </a:lnTo>
                  <a:lnTo>
                    <a:pt x="12" y="654"/>
                  </a:lnTo>
                  <a:lnTo>
                    <a:pt x="10" y="481"/>
                  </a:lnTo>
                  <a:lnTo>
                    <a:pt x="8" y="332"/>
                  </a:lnTo>
                  <a:lnTo>
                    <a:pt x="6" y="228"/>
                  </a:lnTo>
                  <a:lnTo>
                    <a:pt x="5" y="190"/>
                  </a:lnTo>
                  <a:lnTo>
                    <a:pt x="9" y="152"/>
                  </a:lnTo>
                  <a:lnTo>
                    <a:pt x="14" y="113"/>
                  </a:lnTo>
                  <a:lnTo>
                    <a:pt x="19" y="75"/>
                  </a:lnTo>
                  <a:lnTo>
                    <a:pt x="25" y="42"/>
                  </a:lnTo>
                  <a:lnTo>
                    <a:pt x="28" y="27"/>
                  </a:lnTo>
                  <a:lnTo>
                    <a:pt x="33" y="16"/>
                  </a:lnTo>
                  <a:lnTo>
                    <a:pt x="37" y="7"/>
                  </a:lnTo>
                  <a:lnTo>
                    <a:pt x="42" y="2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3" y="2"/>
                  </a:lnTo>
                  <a:lnTo>
                    <a:pt x="59" y="10"/>
                  </a:lnTo>
                  <a:lnTo>
                    <a:pt x="65" y="22"/>
                  </a:lnTo>
                  <a:lnTo>
                    <a:pt x="71" y="39"/>
                  </a:lnTo>
                  <a:lnTo>
                    <a:pt x="79" y="59"/>
                  </a:lnTo>
                  <a:lnTo>
                    <a:pt x="86" y="82"/>
                  </a:lnTo>
                  <a:lnTo>
                    <a:pt x="94" y="112"/>
                  </a:lnTo>
                  <a:lnTo>
                    <a:pt x="101" y="145"/>
                  </a:lnTo>
                  <a:lnTo>
                    <a:pt x="108" y="183"/>
                  </a:lnTo>
                  <a:lnTo>
                    <a:pt x="117" y="228"/>
                  </a:lnTo>
                  <a:lnTo>
                    <a:pt x="126" y="279"/>
                  </a:lnTo>
                  <a:lnTo>
                    <a:pt x="133" y="337"/>
                  </a:lnTo>
                  <a:lnTo>
                    <a:pt x="143" y="401"/>
                  </a:lnTo>
                  <a:lnTo>
                    <a:pt x="151" y="473"/>
                  </a:lnTo>
                  <a:lnTo>
                    <a:pt x="161" y="553"/>
                  </a:lnTo>
                  <a:lnTo>
                    <a:pt x="180" y="739"/>
                  </a:lnTo>
                  <a:lnTo>
                    <a:pt x="201" y="962"/>
                  </a:lnTo>
                  <a:close/>
                </a:path>
              </a:pathLst>
            </a:custGeom>
            <a:solidFill>
              <a:srgbClr val="786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7402680" y="3205080"/>
              <a:ext cx="55440" cy="481320"/>
            </a:xfrm>
            <a:custGeom>
              <a:avLst/>
              <a:gdLst/>
              <a:ahLst/>
              <a:rect l="l" t="t" r="r" b="b"/>
              <a:pathLst>
                <a:path w="176" h="1518">
                  <a:moveTo>
                    <a:pt x="159" y="837"/>
                  </a:moveTo>
                  <a:lnTo>
                    <a:pt x="166" y="940"/>
                  </a:lnTo>
                  <a:lnTo>
                    <a:pt x="171" y="1032"/>
                  </a:lnTo>
                  <a:lnTo>
                    <a:pt x="175" y="1117"/>
                  </a:lnTo>
                  <a:lnTo>
                    <a:pt x="176" y="1193"/>
                  </a:lnTo>
                  <a:lnTo>
                    <a:pt x="175" y="1259"/>
                  </a:lnTo>
                  <a:lnTo>
                    <a:pt x="173" y="1320"/>
                  </a:lnTo>
                  <a:lnTo>
                    <a:pt x="170" y="1370"/>
                  </a:lnTo>
                  <a:lnTo>
                    <a:pt x="164" y="1414"/>
                  </a:lnTo>
                  <a:lnTo>
                    <a:pt x="161" y="1433"/>
                  </a:lnTo>
                  <a:lnTo>
                    <a:pt x="157" y="1450"/>
                  </a:lnTo>
                  <a:lnTo>
                    <a:pt x="153" y="1465"/>
                  </a:lnTo>
                  <a:lnTo>
                    <a:pt x="149" y="1477"/>
                  </a:lnTo>
                  <a:lnTo>
                    <a:pt x="144" y="1488"/>
                  </a:lnTo>
                  <a:lnTo>
                    <a:pt x="139" y="1498"/>
                  </a:lnTo>
                  <a:lnTo>
                    <a:pt x="134" y="1505"/>
                  </a:lnTo>
                  <a:lnTo>
                    <a:pt x="128" y="1512"/>
                  </a:lnTo>
                  <a:lnTo>
                    <a:pt x="122" y="1515"/>
                  </a:lnTo>
                  <a:lnTo>
                    <a:pt x="116" y="1516"/>
                  </a:lnTo>
                  <a:lnTo>
                    <a:pt x="109" y="1518"/>
                  </a:lnTo>
                  <a:lnTo>
                    <a:pt x="102" y="1515"/>
                  </a:lnTo>
                  <a:lnTo>
                    <a:pt x="95" y="1513"/>
                  </a:lnTo>
                  <a:lnTo>
                    <a:pt x="87" y="1508"/>
                  </a:lnTo>
                  <a:lnTo>
                    <a:pt x="80" y="1500"/>
                  </a:lnTo>
                  <a:lnTo>
                    <a:pt x="71" y="1493"/>
                  </a:lnTo>
                  <a:lnTo>
                    <a:pt x="64" y="1483"/>
                  </a:lnTo>
                  <a:lnTo>
                    <a:pt x="57" y="1473"/>
                  </a:lnTo>
                  <a:lnTo>
                    <a:pt x="50" y="1462"/>
                  </a:lnTo>
                  <a:lnTo>
                    <a:pt x="44" y="1451"/>
                  </a:lnTo>
                  <a:lnTo>
                    <a:pt x="33" y="1428"/>
                  </a:lnTo>
                  <a:lnTo>
                    <a:pt x="25" y="1403"/>
                  </a:lnTo>
                  <a:lnTo>
                    <a:pt x="17" y="1376"/>
                  </a:lnTo>
                  <a:lnTo>
                    <a:pt x="11" y="1349"/>
                  </a:lnTo>
                  <a:lnTo>
                    <a:pt x="6" y="1321"/>
                  </a:lnTo>
                  <a:lnTo>
                    <a:pt x="4" y="1291"/>
                  </a:lnTo>
                  <a:lnTo>
                    <a:pt x="1" y="1263"/>
                  </a:lnTo>
                  <a:lnTo>
                    <a:pt x="0" y="1234"/>
                  </a:lnTo>
                  <a:lnTo>
                    <a:pt x="0" y="1204"/>
                  </a:lnTo>
                  <a:lnTo>
                    <a:pt x="0" y="1176"/>
                  </a:lnTo>
                  <a:lnTo>
                    <a:pt x="2" y="1119"/>
                  </a:lnTo>
                  <a:lnTo>
                    <a:pt x="6" y="1069"/>
                  </a:lnTo>
                  <a:lnTo>
                    <a:pt x="9" y="1038"/>
                  </a:lnTo>
                  <a:lnTo>
                    <a:pt x="10" y="994"/>
                  </a:lnTo>
                  <a:lnTo>
                    <a:pt x="11" y="938"/>
                  </a:lnTo>
                  <a:lnTo>
                    <a:pt x="12" y="873"/>
                  </a:lnTo>
                  <a:lnTo>
                    <a:pt x="12" y="727"/>
                  </a:lnTo>
                  <a:lnTo>
                    <a:pt x="11" y="569"/>
                  </a:lnTo>
                  <a:lnTo>
                    <a:pt x="10" y="417"/>
                  </a:lnTo>
                  <a:lnTo>
                    <a:pt x="9" y="288"/>
                  </a:lnTo>
                  <a:lnTo>
                    <a:pt x="7" y="198"/>
                  </a:lnTo>
                  <a:lnTo>
                    <a:pt x="6" y="165"/>
                  </a:lnTo>
                  <a:lnTo>
                    <a:pt x="9" y="131"/>
                  </a:lnTo>
                  <a:lnTo>
                    <a:pt x="11" y="97"/>
                  </a:lnTo>
                  <a:lnTo>
                    <a:pt x="16" y="64"/>
                  </a:lnTo>
                  <a:lnTo>
                    <a:pt x="20" y="36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28" y="6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1" y="2"/>
                  </a:lnTo>
                  <a:lnTo>
                    <a:pt x="45" y="7"/>
                  </a:lnTo>
                  <a:lnTo>
                    <a:pt x="50" y="17"/>
                  </a:lnTo>
                  <a:lnTo>
                    <a:pt x="55" y="32"/>
                  </a:lnTo>
                  <a:lnTo>
                    <a:pt x="61" y="49"/>
                  </a:lnTo>
                  <a:lnTo>
                    <a:pt x="66" y="70"/>
                  </a:lnTo>
                  <a:lnTo>
                    <a:pt x="73" y="96"/>
                  </a:lnTo>
                  <a:lnTo>
                    <a:pt x="79" y="125"/>
                  </a:lnTo>
                  <a:lnTo>
                    <a:pt x="85" y="159"/>
                  </a:lnTo>
                  <a:lnTo>
                    <a:pt x="91" y="198"/>
                  </a:lnTo>
                  <a:lnTo>
                    <a:pt x="98" y="242"/>
                  </a:lnTo>
                  <a:lnTo>
                    <a:pt x="112" y="349"/>
                  </a:lnTo>
                  <a:lnTo>
                    <a:pt x="127" y="482"/>
                  </a:lnTo>
                  <a:lnTo>
                    <a:pt x="141" y="644"/>
                  </a:lnTo>
                  <a:lnTo>
                    <a:pt x="159" y="837"/>
                  </a:lnTo>
                  <a:close/>
                </a:path>
              </a:pathLst>
            </a:custGeom>
            <a:solidFill>
              <a:srgbClr val="7b6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7405560" y="3240360"/>
              <a:ext cx="39960" cy="411120"/>
            </a:xfrm>
            <a:custGeom>
              <a:avLst/>
              <a:gdLst/>
              <a:ahLst/>
              <a:rect l="l" t="t" r="r" b="b"/>
              <a:pathLst>
                <a:path w="126" h="1293">
                  <a:moveTo>
                    <a:pt x="6" y="138"/>
                  </a:moveTo>
                  <a:lnTo>
                    <a:pt x="6" y="167"/>
                  </a:lnTo>
                  <a:lnTo>
                    <a:pt x="7" y="244"/>
                  </a:lnTo>
                  <a:lnTo>
                    <a:pt x="9" y="354"/>
                  </a:lnTo>
                  <a:lnTo>
                    <a:pt x="10" y="483"/>
                  </a:lnTo>
                  <a:lnTo>
                    <a:pt x="10" y="619"/>
                  </a:lnTo>
                  <a:lnTo>
                    <a:pt x="10" y="744"/>
                  </a:lnTo>
                  <a:lnTo>
                    <a:pt x="9" y="847"/>
                  </a:lnTo>
                  <a:lnTo>
                    <a:pt x="6" y="913"/>
                  </a:lnTo>
                  <a:lnTo>
                    <a:pt x="4" y="956"/>
                  </a:lnTo>
                  <a:lnTo>
                    <a:pt x="1" y="1002"/>
                  </a:lnTo>
                  <a:lnTo>
                    <a:pt x="0" y="1052"/>
                  </a:lnTo>
                  <a:lnTo>
                    <a:pt x="3" y="1101"/>
                  </a:lnTo>
                  <a:lnTo>
                    <a:pt x="5" y="1125"/>
                  </a:lnTo>
                  <a:lnTo>
                    <a:pt x="7" y="1149"/>
                  </a:lnTo>
                  <a:lnTo>
                    <a:pt x="11" y="1172"/>
                  </a:lnTo>
                  <a:lnTo>
                    <a:pt x="16" y="1194"/>
                  </a:lnTo>
                  <a:lnTo>
                    <a:pt x="22" y="1216"/>
                  </a:lnTo>
                  <a:lnTo>
                    <a:pt x="31" y="1236"/>
                  </a:lnTo>
                  <a:lnTo>
                    <a:pt x="39" y="1255"/>
                  </a:lnTo>
                  <a:lnTo>
                    <a:pt x="49" y="1271"/>
                  </a:lnTo>
                  <a:lnTo>
                    <a:pt x="55" y="1278"/>
                  </a:lnTo>
                  <a:lnTo>
                    <a:pt x="62" y="1284"/>
                  </a:lnTo>
                  <a:lnTo>
                    <a:pt x="66" y="1288"/>
                  </a:lnTo>
                  <a:lnTo>
                    <a:pt x="71" y="1292"/>
                  </a:lnTo>
                  <a:lnTo>
                    <a:pt x="76" y="1293"/>
                  </a:lnTo>
                  <a:lnTo>
                    <a:pt x="81" y="1292"/>
                  </a:lnTo>
                  <a:lnTo>
                    <a:pt x="86" y="1290"/>
                  </a:lnTo>
                  <a:lnTo>
                    <a:pt x="91" y="1287"/>
                  </a:lnTo>
                  <a:lnTo>
                    <a:pt x="95" y="1282"/>
                  </a:lnTo>
                  <a:lnTo>
                    <a:pt x="98" y="1276"/>
                  </a:lnTo>
                  <a:lnTo>
                    <a:pt x="102" y="1268"/>
                  </a:lnTo>
                  <a:lnTo>
                    <a:pt x="106" y="1258"/>
                  </a:lnTo>
                  <a:lnTo>
                    <a:pt x="112" y="1235"/>
                  </a:lnTo>
                  <a:lnTo>
                    <a:pt x="118" y="1204"/>
                  </a:lnTo>
                  <a:lnTo>
                    <a:pt x="122" y="1167"/>
                  </a:lnTo>
                  <a:lnTo>
                    <a:pt x="124" y="1123"/>
                  </a:lnTo>
                  <a:lnTo>
                    <a:pt x="126" y="1073"/>
                  </a:lnTo>
                  <a:lnTo>
                    <a:pt x="126" y="1015"/>
                  </a:lnTo>
                  <a:lnTo>
                    <a:pt x="124" y="950"/>
                  </a:lnTo>
                  <a:lnTo>
                    <a:pt x="122" y="878"/>
                  </a:lnTo>
                  <a:lnTo>
                    <a:pt x="118" y="798"/>
                  </a:lnTo>
                  <a:lnTo>
                    <a:pt x="112" y="711"/>
                  </a:lnTo>
                  <a:lnTo>
                    <a:pt x="101" y="546"/>
                  </a:lnTo>
                  <a:lnTo>
                    <a:pt x="89" y="410"/>
                  </a:lnTo>
                  <a:lnTo>
                    <a:pt x="79" y="296"/>
                  </a:lnTo>
                  <a:lnTo>
                    <a:pt x="69" y="205"/>
                  </a:lnTo>
                  <a:lnTo>
                    <a:pt x="59" y="135"/>
                  </a:lnTo>
                  <a:lnTo>
                    <a:pt x="50" y="81"/>
                  </a:lnTo>
                  <a:lnTo>
                    <a:pt x="46" y="60"/>
                  </a:lnTo>
                  <a:lnTo>
                    <a:pt x="42" y="43"/>
                  </a:lnTo>
                  <a:lnTo>
                    <a:pt x="37" y="28"/>
                  </a:lnTo>
                  <a:lnTo>
                    <a:pt x="33" y="16"/>
                  </a:lnTo>
                  <a:lnTo>
                    <a:pt x="30" y="7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0" y="5"/>
                  </a:lnTo>
                  <a:lnTo>
                    <a:pt x="17" y="11"/>
                  </a:lnTo>
                  <a:lnTo>
                    <a:pt x="15" y="20"/>
                  </a:lnTo>
                  <a:lnTo>
                    <a:pt x="14" y="30"/>
                  </a:lnTo>
                  <a:lnTo>
                    <a:pt x="11" y="54"/>
                  </a:lnTo>
                  <a:lnTo>
                    <a:pt x="9" y="81"/>
                  </a:lnTo>
                  <a:lnTo>
                    <a:pt x="7" y="111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5475240" y="2854440"/>
              <a:ext cx="695520" cy="474480"/>
            </a:xfrm>
            <a:custGeom>
              <a:avLst/>
              <a:gdLst/>
              <a:ahLst/>
              <a:rect l="l" t="t" r="r" b="b"/>
              <a:pathLst>
                <a:path w="2188" h="1492">
                  <a:moveTo>
                    <a:pt x="1000" y="321"/>
                  </a:moveTo>
                  <a:lnTo>
                    <a:pt x="1005" y="317"/>
                  </a:lnTo>
                  <a:lnTo>
                    <a:pt x="1019" y="306"/>
                  </a:lnTo>
                  <a:lnTo>
                    <a:pt x="1030" y="299"/>
                  </a:lnTo>
                  <a:lnTo>
                    <a:pt x="1044" y="290"/>
                  </a:lnTo>
                  <a:lnTo>
                    <a:pt x="1061" y="280"/>
                  </a:lnTo>
                  <a:lnTo>
                    <a:pt x="1082" y="269"/>
                  </a:lnTo>
                  <a:lnTo>
                    <a:pt x="1106" y="258"/>
                  </a:lnTo>
                  <a:lnTo>
                    <a:pt x="1134" y="247"/>
                  </a:lnTo>
                  <a:lnTo>
                    <a:pt x="1165" y="235"/>
                  </a:lnTo>
                  <a:lnTo>
                    <a:pt x="1199" y="222"/>
                  </a:lnTo>
                  <a:lnTo>
                    <a:pt x="1238" y="210"/>
                  </a:lnTo>
                  <a:lnTo>
                    <a:pt x="1281" y="199"/>
                  </a:lnTo>
                  <a:lnTo>
                    <a:pt x="1328" y="188"/>
                  </a:lnTo>
                  <a:lnTo>
                    <a:pt x="1380" y="177"/>
                  </a:lnTo>
                  <a:lnTo>
                    <a:pt x="1434" y="166"/>
                  </a:lnTo>
                  <a:lnTo>
                    <a:pt x="1488" y="154"/>
                  </a:lnTo>
                  <a:lnTo>
                    <a:pt x="1541" y="139"/>
                  </a:lnTo>
                  <a:lnTo>
                    <a:pt x="1593" y="123"/>
                  </a:lnTo>
                  <a:lnTo>
                    <a:pt x="1692" y="91"/>
                  </a:lnTo>
                  <a:lnTo>
                    <a:pt x="1785" y="58"/>
                  </a:lnTo>
                  <a:lnTo>
                    <a:pt x="1826" y="43"/>
                  </a:lnTo>
                  <a:lnTo>
                    <a:pt x="1865" y="29"/>
                  </a:lnTo>
                  <a:lnTo>
                    <a:pt x="1899" y="18"/>
                  </a:lnTo>
                  <a:lnTo>
                    <a:pt x="1931" y="10"/>
                  </a:lnTo>
                  <a:lnTo>
                    <a:pt x="1958" y="3"/>
                  </a:lnTo>
                  <a:lnTo>
                    <a:pt x="1980" y="0"/>
                  </a:lnTo>
                  <a:lnTo>
                    <a:pt x="1990" y="0"/>
                  </a:lnTo>
                  <a:lnTo>
                    <a:pt x="1999" y="1"/>
                  </a:lnTo>
                  <a:lnTo>
                    <a:pt x="2005" y="3"/>
                  </a:lnTo>
                  <a:lnTo>
                    <a:pt x="2011" y="6"/>
                  </a:lnTo>
                  <a:lnTo>
                    <a:pt x="2021" y="16"/>
                  </a:lnTo>
                  <a:lnTo>
                    <a:pt x="2031" y="28"/>
                  </a:lnTo>
                  <a:lnTo>
                    <a:pt x="2041" y="43"/>
                  </a:lnTo>
                  <a:lnTo>
                    <a:pt x="2052" y="61"/>
                  </a:lnTo>
                  <a:lnTo>
                    <a:pt x="2061" y="82"/>
                  </a:lnTo>
                  <a:lnTo>
                    <a:pt x="2073" y="107"/>
                  </a:lnTo>
                  <a:lnTo>
                    <a:pt x="2084" y="133"/>
                  </a:lnTo>
                  <a:lnTo>
                    <a:pt x="2093" y="160"/>
                  </a:lnTo>
                  <a:lnTo>
                    <a:pt x="2103" y="190"/>
                  </a:lnTo>
                  <a:lnTo>
                    <a:pt x="2114" y="222"/>
                  </a:lnTo>
                  <a:lnTo>
                    <a:pt x="2124" y="256"/>
                  </a:lnTo>
                  <a:lnTo>
                    <a:pt x="2134" y="290"/>
                  </a:lnTo>
                  <a:lnTo>
                    <a:pt x="2143" y="326"/>
                  </a:lnTo>
                  <a:lnTo>
                    <a:pt x="2151" y="364"/>
                  </a:lnTo>
                  <a:lnTo>
                    <a:pt x="2160" y="402"/>
                  </a:lnTo>
                  <a:lnTo>
                    <a:pt x="2168" y="440"/>
                  </a:lnTo>
                  <a:lnTo>
                    <a:pt x="2175" y="481"/>
                  </a:lnTo>
                  <a:lnTo>
                    <a:pt x="2181" y="523"/>
                  </a:lnTo>
                  <a:lnTo>
                    <a:pt x="2184" y="564"/>
                  </a:lnTo>
                  <a:lnTo>
                    <a:pt x="2187" y="606"/>
                  </a:lnTo>
                  <a:lnTo>
                    <a:pt x="2188" y="648"/>
                  </a:lnTo>
                  <a:lnTo>
                    <a:pt x="2187" y="687"/>
                  </a:lnTo>
                  <a:lnTo>
                    <a:pt x="2186" y="706"/>
                  </a:lnTo>
                  <a:lnTo>
                    <a:pt x="2184" y="724"/>
                  </a:lnTo>
                  <a:lnTo>
                    <a:pt x="2182" y="741"/>
                  </a:lnTo>
                  <a:lnTo>
                    <a:pt x="2178" y="757"/>
                  </a:lnTo>
                  <a:lnTo>
                    <a:pt x="2175" y="773"/>
                  </a:lnTo>
                  <a:lnTo>
                    <a:pt x="2171" y="788"/>
                  </a:lnTo>
                  <a:lnTo>
                    <a:pt x="2166" y="801"/>
                  </a:lnTo>
                  <a:lnTo>
                    <a:pt x="2160" y="813"/>
                  </a:lnTo>
                  <a:lnTo>
                    <a:pt x="2154" y="824"/>
                  </a:lnTo>
                  <a:lnTo>
                    <a:pt x="2146" y="832"/>
                  </a:lnTo>
                  <a:lnTo>
                    <a:pt x="2138" y="840"/>
                  </a:lnTo>
                  <a:lnTo>
                    <a:pt x="2129" y="846"/>
                  </a:lnTo>
                  <a:lnTo>
                    <a:pt x="2119" y="850"/>
                  </a:lnTo>
                  <a:lnTo>
                    <a:pt x="2108" y="852"/>
                  </a:lnTo>
                  <a:lnTo>
                    <a:pt x="2097" y="852"/>
                  </a:lnTo>
                  <a:lnTo>
                    <a:pt x="2085" y="851"/>
                  </a:lnTo>
                  <a:lnTo>
                    <a:pt x="2071" y="846"/>
                  </a:lnTo>
                  <a:lnTo>
                    <a:pt x="2057" y="840"/>
                  </a:lnTo>
                  <a:lnTo>
                    <a:pt x="2041" y="831"/>
                  </a:lnTo>
                  <a:lnTo>
                    <a:pt x="2025" y="821"/>
                  </a:lnTo>
                  <a:lnTo>
                    <a:pt x="1951" y="769"/>
                  </a:lnTo>
                  <a:lnTo>
                    <a:pt x="1872" y="712"/>
                  </a:lnTo>
                  <a:lnTo>
                    <a:pt x="1791" y="655"/>
                  </a:lnTo>
                  <a:lnTo>
                    <a:pt x="1708" y="601"/>
                  </a:lnTo>
                  <a:lnTo>
                    <a:pt x="1669" y="575"/>
                  </a:lnTo>
                  <a:lnTo>
                    <a:pt x="1630" y="552"/>
                  </a:lnTo>
                  <a:lnTo>
                    <a:pt x="1591" y="532"/>
                  </a:lnTo>
                  <a:lnTo>
                    <a:pt x="1555" y="514"/>
                  </a:lnTo>
                  <a:lnTo>
                    <a:pt x="1537" y="507"/>
                  </a:lnTo>
                  <a:lnTo>
                    <a:pt x="1520" y="499"/>
                  </a:lnTo>
                  <a:lnTo>
                    <a:pt x="1504" y="493"/>
                  </a:lnTo>
                  <a:lnTo>
                    <a:pt x="1488" y="488"/>
                  </a:lnTo>
                  <a:lnTo>
                    <a:pt x="1473" y="484"/>
                  </a:lnTo>
                  <a:lnTo>
                    <a:pt x="1459" y="481"/>
                  </a:lnTo>
                  <a:lnTo>
                    <a:pt x="1445" y="479"/>
                  </a:lnTo>
                  <a:lnTo>
                    <a:pt x="1432" y="478"/>
                  </a:lnTo>
                  <a:lnTo>
                    <a:pt x="1411" y="479"/>
                  </a:lnTo>
                  <a:lnTo>
                    <a:pt x="1395" y="482"/>
                  </a:lnTo>
                  <a:lnTo>
                    <a:pt x="1388" y="483"/>
                  </a:lnTo>
                  <a:lnTo>
                    <a:pt x="1384" y="484"/>
                  </a:lnTo>
                  <a:lnTo>
                    <a:pt x="1379" y="487"/>
                  </a:lnTo>
                  <a:lnTo>
                    <a:pt x="1376" y="489"/>
                  </a:lnTo>
                  <a:lnTo>
                    <a:pt x="1375" y="493"/>
                  </a:lnTo>
                  <a:lnTo>
                    <a:pt x="1374" y="495"/>
                  </a:lnTo>
                  <a:lnTo>
                    <a:pt x="1374" y="499"/>
                  </a:lnTo>
                  <a:lnTo>
                    <a:pt x="1375" y="503"/>
                  </a:lnTo>
                  <a:lnTo>
                    <a:pt x="1379" y="511"/>
                  </a:lnTo>
                  <a:lnTo>
                    <a:pt x="1385" y="520"/>
                  </a:lnTo>
                  <a:lnTo>
                    <a:pt x="1404" y="541"/>
                  </a:lnTo>
                  <a:lnTo>
                    <a:pt x="1428" y="566"/>
                  </a:lnTo>
                  <a:lnTo>
                    <a:pt x="1440" y="579"/>
                  </a:lnTo>
                  <a:lnTo>
                    <a:pt x="1451" y="593"/>
                  </a:lnTo>
                  <a:lnTo>
                    <a:pt x="1462" y="607"/>
                  </a:lnTo>
                  <a:lnTo>
                    <a:pt x="1472" y="622"/>
                  </a:lnTo>
                  <a:lnTo>
                    <a:pt x="1489" y="652"/>
                  </a:lnTo>
                  <a:lnTo>
                    <a:pt x="1503" y="675"/>
                  </a:lnTo>
                  <a:lnTo>
                    <a:pt x="1508" y="686"/>
                  </a:lnTo>
                  <a:lnTo>
                    <a:pt x="1509" y="695"/>
                  </a:lnTo>
                  <a:lnTo>
                    <a:pt x="1510" y="698"/>
                  </a:lnTo>
                  <a:lnTo>
                    <a:pt x="1509" y="702"/>
                  </a:lnTo>
                  <a:lnTo>
                    <a:pt x="1508" y="706"/>
                  </a:lnTo>
                  <a:lnTo>
                    <a:pt x="1507" y="708"/>
                  </a:lnTo>
                  <a:lnTo>
                    <a:pt x="1504" y="711"/>
                  </a:lnTo>
                  <a:lnTo>
                    <a:pt x="1500" y="713"/>
                  </a:lnTo>
                  <a:lnTo>
                    <a:pt x="1496" y="716"/>
                  </a:lnTo>
                  <a:lnTo>
                    <a:pt x="1491" y="718"/>
                  </a:lnTo>
                  <a:lnTo>
                    <a:pt x="1477" y="721"/>
                  </a:lnTo>
                  <a:lnTo>
                    <a:pt x="1460" y="722"/>
                  </a:lnTo>
                  <a:lnTo>
                    <a:pt x="1438" y="722"/>
                  </a:lnTo>
                  <a:lnTo>
                    <a:pt x="1412" y="721"/>
                  </a:lnTo>
                  <a:lnTo>
                    <a:pt x="1380" y="718"/>
                  </a:lnTo>
                  <a:lnTo>
                    <a:pt x="1342" y="714"/>
                  </a:lnTo>
                  <a:lnTo>
                    <a:pt x="1304" y="711"/>
                  </a:lnTo>
                  <a:lnTo>
                    <a:pt x="1267" y="706"/>
                  </a:lnTo>
                  <a:lnTo>
                    <a:pt x="1233" y="701"/>
                  </a:lnTo>
                  <a:lnTo>
                    <a:pt x="1203" y="695"/>
                  </a:lnTo>
                  <a:lnTo>
                    <a:pt x="1149" y="684"/>
                  </a:lnTo>
                  <a:lnTo>
                    <a:pt x="1103" y="671"/>
                  </a:lnTo>
                  <a:lnTo>
                    <a:pt x="1066" y="663"/>
                  </a:lnTo>
                  <a:lnTo>
                    <a:pt x="1034" y="658"/>
                  </a:lnTo>
                  <a:lnTo>
                    <a:pt x="1021" y="657"/>
                  </a:lnTo>
                  <a:lnTo>
                    <a:pt x="1008" y="657"/>
                  </a:lnTo>
                  <a:lnTo>
                    <a:pt x="997" y="659"/>
                  </a:lnTo>
                  <a:lnTo>
                    <a:pt x="986" y="663"/>
                  </a:lnTo>
                  <a:lnTo>
                    <a:pt x="978" y="668"/>
                  </a:lnTo>
                  <a:lnTo>
                    <a:pt x="973" y="673"/>
                  </a:lnTo>
                  <a:lnTo>
                    <a:pt x="969" y="678"/>
                  </a:lnTo>
                  <a:lnTo>
                    <a:pt x="968" y="681"/>
                  </a:lnTo>
                  <a:lnTo>
                    <a:pt x="969" y="685"/>
                  </a:lnTo>
                  <a:lnTo>
                    <a:pt x="973" y="690"/>
                  </a:lnTo>
                  <a:lnTo>
                    <a:pt x="978" y="693"/>
                  </a:lnTo>
                  <a:lnTo>
                    <a:pt x="984" y="697"/>
                  </a:lnTo>
                  <a:lnTo>
                    <a:pt x="1001" y="707"/>
                  </a:lnTo>
                  <a:lnTo>
                    <a:pt x="1024" y="717"/>
                  </a:lnTo>
                  <a:lnTo>
                    <a:pt x="1050" y="728"/>
                  </a:lnTo>
                  <a:lnTo>
                    <a:pt x="1078" y="743"/>
                  </a:lnTo>
                  <a:lnTo>
                    <a:pt x="1113" y="760"/>
                  </a:lnTo>
                  <a:lnTo>
                    <a:pt x="1156" y="785"/>
                  </a:lnTo>
                  <a:lnTo>
                    <a:pt x="1203" y="813"/>
                  </a:lnTo>
                  <a:lnTo>
                    <a:pt x="1251" y="845"/>
                  </a:lnTo>
                  <a:lnTo>
                    <a:pt x="1274" y="862"/>
                  </a:lnTo>
                  <a:lnTo>
                    <a:pt x="1297" y="879"/>
                  </a:lnTo>
                  <a:lnTo>
                    <a:pt x="1318" y="896"/>
                  </a:lnTo>
                  <a:lnTo>
                    <a:pt x="1338" y="914"/>
                  </a:lnTo>
                  <a:lnTo>
                    <a:pt x="1356" y="931"/>
                  </a:lnTo>
                  <a:lnTo>
                    <a:pt x="1372" y="947"/>
                  </a:lnTo>
                  <a:lnTo>
                    <a:pt x="1385" y="963"/>
                  </a:lnTo>
                  <a:lnTo>
                    <a:pt x="1393" y="979"/>
                  </a:lnTo>
                  <a:lnTo>
                    <a:pt x="1400" y="992"/>
                  </a:lnTo>
                  <a:lnTo>
                    <a:pt x="1404" y="1003"/>
                  </a:lnTo>
                  <a:lnTo>
                    <a:pt x="1407" y="1013"/>
                  </a:lnTo>
                  <a:lnTo>
                    <a:pt x="1406" y="1021"/>
                  </a:lnTo>
                  <a:lnTo>
                    <a:pt x="1406" y="1024"/>
                  </a:lnTo>
                  <a:lnTo>
                    <a:pt x="1403" y="1027"/>
                  </a:lnTo>
                  <a:lnTo>
                    <a:pt x="1401" y="1028"/>
                  </a:lnTo>
                  <a:lnTo>
                    <a:pt x="1398" y="1031"/>
                  </a:lnTo>
                  <a:lnTo>
                    <a:pt x="1390" y="1032"/>
                  </a:lnTo>
                  <a:lnTo>
                    <a:pt x="1379" y="1033"/>
                  </a:lnTo>
                  <a:lnTo>
                    <a:pt x="1364" y="1031"/>
                  </a:lnTo>
                  <a:lnTo>
                    <a:pt x="1347" y="1028"/>
                  </a:lnTo>
                  <a:lnTo>
                    <a:pt x="1325" y="1023"/>
                  </a:lnTo>
                  <a:lnTo>
                    <a:pt x="1300" y="1017"/>
                  </a:lnTo>
                  <a:lnTo>
                    <a:pt x="1237" y="1001"/>
                  </a:lnTo>
                  <a:lnTo>
                    <a:pt x="1157" y="979"/>
                  </a:lnTo>
                  <a:lnTo>
                    <a:pt x="1135" y="973"/>
                  </a:lnTo>
                  <a:lnTo>
                    <a:pt x="1114" y="968"/>
                  </a:lnTo>
                  <a:lnTo>
                    <a:pt x="1093" y="964"/>
                  </a:lnTo>
                  <a:lnTo>
                    <a:pt x="1074" y="962"/>
                  </a:lnTo>
                  <a:lnTo>
                    <a:pt x="1054" y="959"/>
                  </a:lnTo>
                  <a:lnTo>
                    <a:pt x="1034" y="958"/>
                  </a:lnTo>
                  <a:lnTo>
                    <a:pt x="1016" y="957"/>
                  </a:lnTo>
                  <a:lnTo>
                    <a:pt x="998" y="957"/>
                  </a:lnTo>
                  <a:lnTo>
                    <a:pt x="964" y="958"/>
                  </a:lnTo>
                  <a:lnTo>
                    <a:pt x="933" y="962"/>
                  </a:lnTo>
                  <a:lnTo>
                    <a:pt x="905" y="967"/>
                  </a:lnTo>
                  <a:lnTo>
                    <a:pt x="879" y="973"/>
                  </a:lnTo>
                  <a:lnTo>
                    <a:pt x="856" y="980"/>
                  </a:lnTo>
                  <a:lnTo>
                    <a:pt x="835" y="987"/>
                  </a:lnTo>
                  <a:lnTo>
                    <a:pt x="818" y="995"/>
                  </a:lnTo>
                  <a:lnTo>
                    <a:pt x="803" y="1001"/>
                  </a:lnTo>
                  <a:lnTo>
                    <a:pt x="784" y="1012"/>
                  </a:lnTo>
                  <a:lnTo>
                    <a:pt x="777" y="1017"/>
                  </a:lnTo>
                  <a:lnTo>
                    <a:pt x="782" y="1017"/>
                  </a:lnTo>
                  <a:lnTo>
                    <a:pt x="794" y="1018"/>
                  </a:lnTo>
                  <a:lnTo>
                    <a:pt x="813" y="1021"/>
                  </a:lnTo>
                  <a:lnTo>
                    <a:pt x="835" y="1027"/>
                  </a:lnTo>
                  <a:lnTo>
                    <a:pt x="847" y="1031"/>
                  </a:lnTo>
                  <a:lnTo>
                    <a:pt x="859" y="1035"/>
                  </a:lnTo>
                  <a:lnTo>
                    <a:pt x="871" y="1042"/>
                  </a:lnTo>
                  <a:lnTo>
                    <a:pt x="883" y="1050"/>
                  </a:lnTo>
                  <a:lnTo>
                    <a:pt x="894" y="1059"/>
                  </a:lnTo>
                  <a:lnTo>
                    <a:pt x="904" y="1069"/>
                  </a:lnTo>
                  <a:lnTo>
                    <a:pt x="914" y="1081"/>
                  </a:lnTo>
                  <a:lnTo>
                    <a:pt x="921" y="1096"/>
                  </a:lnTo>
                  <a:lnTo>
                    <a:pt x="925" y="1103"/>
                  </a:lnTo>
                  <a:lnTo>
                    <a:pt x="927" y="1110"/>
                  </a:lnTo>
                  <a:lnTo>
                    <a:pt x="930" y="1118"/>
                  </a:lnTo>
                  <a:lnTo>
                    <a:pt x="931" y="1126"/>
                  </a:lnTo>
                  <a:lnTo>
                    <a:pt x="932" y="1134"/>
                  </a:lnTo>
                  <a:lnTo>
                    <a:pt x="932" y="1142"/>
                  </a:lnTo>
                  <a:lnTo>
                    <a:pt x="931" y="1151"/>
                  </a:lnTo>
                  <a:lnTo>
                    <a:pt x="930" y="1158"/>
                  </a:lnTo>
                  <a:lnTo>
                    <a:pt x="927" y="1167"/>
                  </a:lnTo>
                  <a:lnTo>
                    <a:pt x="925" y="1176"/>
                  </a:lnTo>
                  <a:lnTo>
                    <a:pt x="921" y="1183"/>
                  </a:lnTo>
                  <a:lnTo>
                    <a:pt x="917" y="1192"/>
                  </a:lnTo>
                  <a:lnTo>
                    <a:pt x="912" y="1199"/>
                  </a:lnTo>
                  <a:lnTo>
                    <a:pt x="907" y="1206"/>
                  </a:lnTo>
                  <a:lnTo>
                    <a:pt x="901" y="1214"/>
                  </a:lnTo>
                  <a:lnTo>
                    <a:pt x="894" y="1220"/>
                  </a:lnTo>
                  <a:lnTo>
                    <a:pt x="887" y="1227"/>
                  </a:lnTo>
                  <a:lnTo>
                    <a:pt x="879" y="1233"/>
                  </a:lnTo>
                  <a:lnTo>
                    <a:pt x="871" y="1240"/>
                  </a:lnTo>
                  <a:lnTo>
                    <a:pt x="861" y="1245"/>
                  </a:lnTo>
                  <a:lnTo>
                    <a:pt x="851" y="1249"/>
                  </a:lnTo>
                  <a:lnTo>
                    <a:pt x="840" y="1254"/>
                  </a:lnTo>
                  <a:lnTo>
                    <a:pt x="829" y="1258"/>
                  </a:lnTo>
                  <a:lnTo>
                    <a:pt x="816" y="1262"/>
                  </a:lnTo>
                  <a:lnTo>
                    <a:pt x="804" y="1265"/>
                  </a:lnTo>
                  <a:lnTo>
                    <a:pt x="791" y="1268"/>
                  </a:lnTo>
                  <a:lnTo>
                    <a:pt x="777" y="1269"/>
                  </a:lnTo>
                  <a:lnTo>
                    <a:pt x="762" y="1270"/>
                  </a:lnTo>
                  <a:lnTo>
                    <a:pt x="748" y="1270"/>
                  </a:lnTo>
                  <a:lnTo>
                    <a:pt x="732" y="1270"/>
                  </a:lnTo>
                  <a:lnTo>
                    <a:pt x="716" y="1268"/>
                  </a:lnTo>
                  <a:lnTo>
                    <a:pt x="698" y="1267"/>
                  </a:lnTo>
                  <a:lnTo>
                    <a:pt x="681" y="1264"/>
                  </a:lnTo>
                  <a:lnTo>
                    <a:pt x="663" y="1263"/>
                  </a:lnTo>
                  <a:lnTo>
                    <a:pt x="643" y="1263"/>
                  </a:lnTo>
                  <a:lnTo>
                    <a:pt x="622" y="1264"/>
                  </a:lnTo>
                  <a:lnTo>
                    <a:pt x="602" y="1265"/>
                  </a:lnTo>
                  <a:lnTo>
                    <a:pt x="580" y="1268"/>
                  </a:lnTo>
                  <a:lnTo>
                    <a:pt x="559" y="1272"/>
                  </a:lnTo>
                  <a:lnTo>
                    <a:pt x="536" y="1275"/>
                  </a:lnTo>
                  <a:lnTo>
                    <a:pt x="490" y="1285"/>
                  </a:lnTo>
                  <a:lnTo>
                    <a:pt x="445" y="1297"/>
                  </a:lnTo>
                  <a:lnTo>
                    <a:pt x="397" y="1311"/>
                  </a:lnTo>
                  <a:lnTo>
                    <a:pt x="350" y="1327"/>
                  </a:lnTo>
                  <a:lnTo>
                    <a:pt x="303" y="1344"/>
                  </a:lnTo>
                  <a:lnTo>
                    <a:pt x="259" y="1363"/>
                  </a:lnTo>
                  <a:lnTo>
                    <a:pt x="215" y="1382"/>
                  </a:lnTo>
                  <a:lnTo>
                    <a:pt x="174" y="1401"/>
                  </a:lnTo>
                  <a:lnTo>
                    <a:pt x="135" y="1420"/>
                  </a:lnTo>
                  <a:lnTo>
                    <a:pt x="100" y="1440"/>
                  </a:lnTo>
                  <a:lnTo>
                    <a:pt x="68" y="1459"/>
                  </a:lnTo>
                  <a:lnTo>
                    <a:pt x="41" y="1476"/>
                  </a:lnTo>
                  <a:lnTo>
                    <a:pt x="29" y="1483"/>
                  </a:lnTo>
                  <a:lnTo>
                    <a:pt x="20" y="1488"/>
                  </a:lnTo>
                  <a:lnTo>
                    <a:pt x="13" y="1491"/>
                  </a:lnTo>
                  <a:lnTo>
                    <a:pt x="7" y="1492"/>
                  </a:lnTo>
                  <a:lnTo>
                    <a:pt x="3" y="1491"/>
                  </a:lnTo>
                  <a:lnTo>
                    <a:pt x="1" y="1487"/>
                  </a:lnTo>
                  <a:lnTo>
                    <a:pt x="0" y="1482"/>
                  </a:lnTo>
                  <a:lnTo>
                    <a:pt x="1" y="1476"/>
                  </a:lnTo>
                  <a:lnTo>
                    <a:pt x="2" y="1468"/>
                  </a:lnTo>
                  <a:lnTo>
                    <a:pt x="6" y="1459"/>
                  </a:lnTo>
                  <a:lnTo>
                    <a:pt x="11" y="1447"/>
                  </a:lnTo>
                  <a:lnTo>
                    <a:pt x="18" y="1436"/>
                  </a:lnTo>
                  <a:lnTo>
                    <a:pt x="34" y="1409"/>
                  </a:lnTo>
                  <a:lnTo>
                    <a:pt x="56" y="1379"/>
                  </a:lnTo>
                  <a:lnTo>
                    <a:pt x="81" y="1347"/>
                  </a:lnTo>
                  <a:lnTo>
                    <a:pt x="110" y="1313"/>
                  </a:lnTo>
                  <a:lnTo>
                    <a:pt x="126" y="1296"/>
                  </a:lnTo>
                  <a:lnTo>
                    <a:pt x="143" y="1279"/>
                  </a:lnTo>
                  <a:lnTo>
                    <a:pt x="161" y="1262"/>
                  </a:lnTo>
                  <a:lnTo>
                    <a:pt x="179" y="1246"/>
                  </a:lnTo>
                  <a:lnTo>
                    <a:pt x="199" y="1230"/>
                  </a:lnTo>
                  <a:lnTo>
                    <a:pt x="218" y="1214"/>
                  </a:lnTo>
                  <a:lnTo>
                    <a:pt x="238" y="1199"/>
                  </a:lnTo>
                  <a:lnTo>
                    <a:pt x="259" y="1184"/>
                  </a:lnTo>
                  <a:lnTo>
                    <a:pt x="280" y="1171"/>
                  </a:lnTo>
                  <a:lnTo>
                    <a:pt x="301" y="1157"/>
                  </a:lnTo>
                  <a:lnTo>
                    <a:pt x="323" y="1146"/>
                  </a:lnTo>
                  <a:lnTo>
                    <a:pt x="345" y="1136"/>
                  </a:lnTo>
                  <a:lnTo>
                    <a:pt x="414" y="1104"/>
                  </a:lnTo>
                  <a:lnTo>
                    <a:pt x="451" y="1086"/>
                  </a:lnTo>
                  <a:lnTo>
                    <a:pt x="461" y="1081"/>
                  </a:lnTo>
                  <a:lnTo>
                    <a:pt x="463" y="1077"/>
                  </a:lnTo>
                  <a:lnTo>
                    <a:pt x="462" y="1076"/>
                  </a:lnTo>
                  <a:lnTo>
                    <a:pt x="457" y="1075"/>
                  </a:lnTo>
                  <a:lnTo>
                    <a:pt x="439" y="1074"/>
                  </a:lnTo>
                  <a:lnTo>
                    <a:pt x="415" y="1071"/>
                  </a:lnTo>
                  <a:lnTo>
                    <a:pt x="404" y="1067"/>
                  </a:lnTo>
                  <a:lnTo>
                    <a:pt x="396" y="1062"/>
                  </a:lnTo>
                  <a:lnTo>
                    <a:pt x="391" y="1059"/>
                  </a:lnTo>
                  <a:lnTo>
                    <a:pt x="387" y="1054"/>
                  </a:lnTo>
                  <a:lnTo>
                    <a:pt x="385" y="1049"/>
                  </a:lnTo>
                  <a:lnTo>
                    <a:pt x="383" y="1044"/>
                  </a:lnTo>
                  <a:lnTo>
                    <a:pt x="381" y="1031"/>
                  </a:lnTo>
                  <a:lnTo>
                    <a:pt x="381" y="1017"/>
                  </a:lnTo>
                  <a:lnTo>
                    <a:pt x="382" y="1002"/>
                  </a:lnTo>
                  <a:lnTo>
                    <a:pt x="385" y="986"/>
                  </a:lnTo>
                  <a:lnTo>
                    <a:pt x="390" y="970"/>
                  </a:lnTo>
                  <a:lnTo>
                    <a:pt x="396" y="953"/>
                  </a:lnTo>
                  <a:lnTo>
                    <a:pt x="404" y="936"/>
                  </a:lnTo>
                  <a:lnTo>
                    <a:pt x="414" y="919"/>
                  </a:lnTo>
                  <a:lnTo>
                    <a:pt x="428" y="901"/>
                  </a:lnTo>
                  <a:lnTo>
                    <a:pt x="442" y="884"/>
                  </a:lnTo>
                  <a:lnTo>
                    <a:pt x="461" y="867"/>
                  </a:lnTo>
                  <a:lnTo>
                    <a:pt x="481" y="851"/>
                  </a:lnTo>
                  <a:lnTo>
                    <a:pt x="504" y="835"/>
                  </a:lnTo>
                  <a:lnTo>
                    <a:pt x="531" y="820"/>
                  </a:lnTo>
                  <a:lnTo>
                    <a:pt x="561" y="807"/>
                  </a:lnTo>
                  <a:lnTo>
                    <a:pt x="592" y="793"/>
                  </a:lnTo>
                  <a:lnTo>
                    <a:pt x="597" y="792"/>
                  </a:lnTo>
                  <a:lnTo>
                    <a:pt x="608" y="787"/>
                  </a:lnTo>
                  <a:lnTo>
                    <a:pt x="626" y="780"/>
                  </a:lnTo>
                  <a:lnTo>
                    <a:pt x="644" y="770"/>
                  </a:lnTo>
                  <a:lnTo>
                    <a:pt x="653" y="764"/>
                  </a:lnTo>
                  <a:lnTo>
                    <a:pt x="661" y="757"/>
                  </a:lnTo>
                  <a:lnTo>
                    <a:pt x="669" y="751"/>
                  </a:lnTo>
                  <a:lnTo>
                    <a:pt x="676" y="744"/>
                  </a:lnTo>
                  <a:lnTo>
                    <a:pt x="681" y="738"/>
                  </a:lnTo>
                  <a:lnTo>
                    <a:pt x="685" y="730"/>
                  </a:lnTo>
                  <a:lnTo>
                    <a:pt x="686" y="727"/>
                  </a:lnTo>
                  <a:lnTo>
                    <a:pt x="686" y="723"/>
                  </a:lnTo>
                  <a:lnTo>
                    <a:pt x="686" y="719"/>
                  </a:lnTo>
                  <a:lnTo>
                    <a:pt x="685" y="714"/>
                  </a:lnTo>
                  <a:lnTo>
                    <a:pt x="684" y="707"/>
                  </a:lnTo>
                  <a:lnTo>
                    <a:pt x="682" y="696"/>
                  </a:lnTo>
                  <a:lnTo>
                    <a:pt x="685" y="685"/>
                  </a:lnTo>
                  <a:lnTo>
                    <a:pt x="687" y="671"/>
                  </a:lnTo>
                  <a:lnTo>
                    <a:pt x="691" y="657"/>
                  </a:lnTo>
                  <a:lnTo>
                    <a:pt x="697" y="641"/>
                  </a:lnTo>
                  <a:lnTo>
                    <a:pt x="704" y="625"/>
                  </a:lnTo>
                  <a:lnTo>
                    <a:pt x="713" y="607"/>
                  </a:lnTo>
                  <a:lnTo>
                    <a:pt x="723" y="589"/>
                  </a:lnTo>
                  <a:lnTo>
                    <a:pt x="734" y="572"/>
                  </a:lnTo>
                  <a:lnTo>
                    <a:pt x="748" y="555"/>
                  </a:lnTo>
                  <a:lnTo>
                    <a:pt x="761" y="537"/>
                  </a:lnTo>
                  <a:lnTo>
                    <a:pt x="776" y="521"/>
                  </a:lnTo>
                  <a:lnTo>
                    <a:pt x="792" y="507"/>
                  </a:lnTo>
                  <a:lnTo>
                    <a:pt x="810" y="492"/>
                  </a:lnTo>
                  <a:lnTo>
                    <a:pt x="829" y="478"/>
                  </a:lnTo>
                  <a:lnTo>
                    <a:pt x="866" y="456"/>
                  </a:lnTo>
                  <a:lnTo>
                    <a:pt x="895" y="438"/>
                  </a:lnTo>
                  <a:lnTo>
                    <a:pt x="920" y="420"/>
                  </a:lnTo>
                  <a:lnTo>
                    <a:pt x="939" y="404"/>
                  </a:lnTo>
                  <a:lnTo>
                    <a:pt x="949" y="397"/>
                  </a:lnTo>
                  <a:lnTo>
                    <a:pt x="957" y="388"/>
                  </a:lnTo>
                  <a:lnTo>
                    <a:pt x="965" y="380"/>
                  </a:lnTo>
                  <a:lnTo>
                    <a:pt x="973" y="370"/>
                  </a:lnTo>
                  <a:lnTo>
                    <a:pt x="986" y="348"/>
                  </a:lnTo>
                  <a:lnTo>
                    <a:pt x="1000" y="321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5491080" y="2860920"/>
              <a:ext cx="666720" cy="455400"/>
            </a:xfrm>
            <a:custGeom>
              <a:avLst/>
              <a:gdLst/>
              <a:ahLst/>
              <a:rect l="l" t="t" r="r" b="b"/>
              <a:pathLst>
                <a:path w="2103" h="1437">
                  <a:moveTo>
                    <a:pt x="1902" y="714"/>
                  </a:moveTo>
                  <a:lnTo>
                    <a:pt x="1832" y="664"/>
                  </a:lnTo>
                  <a:lnTo>
                    <a:pt x="1760" y="615"/>
                  </a:lnTo>
                  <a:lnTo>
                    <a:pt x="1724" y="593"/>
                  </a:lnTo>
                  <a:lnTo>
                    <a:pt x="1687" y="570"/>
                  </a:lnTo>
                  <a:lnTo>
                    <a:pt x="1651" y="549"/>
                  </a:lnTo>
                  <a:lnTo>
                    <a:pt x="1617" y="529"/>
                  </a:lnTo>
                  <a:lnTo>
                    <a:pt x="1582" y="509"/>
                  </a:lnTo>
                  <a:lnTo>
                    <a:pt x="1548" y="493"/>
                  </a:lnTo>
                  <a:lnTo>
                    <a:pt x="1515" y="479"/>
                  </a:lnTo>
                  <a:lnTo>
                    <a:pt x="1483" y="465"/>
                  </a:lnTo>
                  <a:lnTo>
                    <a:pt x="1452" y="455"/>
                  </a:lnTo>
                  <a:lnTo>
                    <a:pt x="1424" y="448"/>
                  </a:lnTo>
                  <a:lnTo>
                    <a:pt x="1409" y="445"/>
                  </a:lnTo>
                  <a:lnTo>
                    <a:pt x="1395" y="443"/>
                  </a:lnTo>
                  <a:lnTo>
                    <a:pt x="1382" y="442"/>
                  </a:lnTo>
                  <a:lnTo>
                    <a:pt x="1370" y="442"/>
                  </a:lnTo>
                  <a:lnTo>
                    <a:pt x="1347" y="442"/>
                  </a:lnTo>
                  <a:lnTo>
                    <a:pt x="1330" y="444"/>
                  </a:lnTo>
                  <a:lnTo>
                    <a:pt x="1324" y="447"/>
                  </a:lnTo>
                  <a:lnTo>
                    <a:pt x="1318" y="448"/>
                  </a:lnTo>
                  <a:lnTo>
                    <a:pt x="1313" y="450"/>
                  </a:lnTo>
                  <a:lnTo>
                    <a:pt x="1309" y="453"/>
                  </a:lnTo>
                  <a:lnTo>
                    <a:pt x="1307" y="457"/>
                  </a:lnTo>
                  <a:lnTo>
                    <a:pt x="1304" y="459"/>
                  </a:lnTo>
                  <a:lnTo>
                    <a:pt x="1303" y="463"/>
                  </a:lnTo>
                  <a:lnTo>
                    <a:pt x="1303" y="466"/>
                  </a:lnTo>
                  <a:lnTo>
                    <a:pt x="1304" y="475"/>
                  </a:lnTo>
                  <a:lnTo>
                    <a:pt x="1308" y="485"/>
                  </a:lnTo>
                  <a:lnTo>
                    <a:pt x="1314" y="495"/>
                  </a:lnTo>
                  <a:lnTo>
                    <a:pt x="1322" y="506"/>
                  </a:lnTo>
                  <a:lnTo>
                    <a:pt x="1330" y="518"/>
                  </a:lnTo>
                  <a:lnTo>
                    <a:pt x="1340" y="532"/>
                  </a:lnTo>
                  <a:lnTo>
                    <a:pt x="1361" y="559"/>
                  </a:lnTo>
                  <a:lnTo>
                    <a:pt x="1381" y="588"/>
                  </a:lnTo>
                  <a:lnTo>
                    <a:pt x="1398" y="616"/>
                  </a:lnTo>
                  <a:lnTo>
                    <a:pt x="1413" y="640"/>
                  </a:lnTo>
                  <a:lnTo>
                    <a:pt x="1419" y="650"/>
                  </a:lnTo>
                  <a:lnTo>
                    <a:pt x="1421" y="658"/>
                  </a:lnTo>
                  <a:lnTo>
                    <a:pt x="1422" y="662"/>
                  </a:lnTo>
                  <a:lnTo>
                    <a:pt x="1422" y="664"/>
                  </a:lnTo>
                  <a:lnTo>
                    <a:pt x="1422" y="668"/>
                  </a:lnTo>
                  <a:lnTo>
                    <a:pt x="1421" y="671"/>
                  </a:lnTo>
                  <a:lnTo>
                    <a:pt x="1419" y="673"/>
                  </a:lnTo>
                  <a:lnTo>
                    <a:pt x="1416" y="675"/>
                  </a:lnTo>
                  <a:lnTo>
                    <a:pt x="1413" y="677"/>
                  </a:lnTo>
                  <a:lnTo>
                    <a:pt x="1408" y="678"/>
                  </a:lnTo>
                  <a:lnTo>
                    <a:pt x="1395" y="680"/>
                  </a:lnTo>
                  <a:lnTo>
                    <a:pt x="1379" y="682"/>
                  </a:lnTo>
                  <a:lnTo>
                    <a:pt x="1358" y="682"/>
                  </a:lnTo>
                  <a:lnTo>
                    <a:pt x="1333" y="680"/>
                  </a:lnTo>
                  <a:lnTo>
                    <a:pt x="1301" y="678"/>
                  </a:lnTo>
                  <a:lnTo>
                    <a:pt x="1264" y="675"/>
                  </a:lnTo>
                  <a:lnTo>
                    <a:pt x="1224" y="672"/>
                  </a:lnTo>
                  <a:lnTo>
                    <a:pt x="1189" y="667"/>
                  </a:lnTo>
                  <a:lnTo>
                    <a:pt x="1157" y="663"/>
                  </a:lnTo>
                  <a:lnTo>
                    <a:pt x="1127" y="658"/>
                  </a:lnTo>
                  <a:lnTo>
                    <a:pt x="1076" y="650"/>
                  </a:lnTo>
                  <a:lnTo>
                    <a:pt x="1034" y="641"/>
                  </a:lnTo>
                  <a:lnTo>
                    <a:pt x="1000" y="636"/>
                  </a:lnTo>
                  <a:lnTo>
                    <a:pt x="972" y="634"/>
                  </a:lnTo>
                  <a:lnTo>
                    <a:pt x="960" y="634"/>
                  </a:lnTo>
                  <a:lnTo>
                    <a:pt x="948" y="635"/>
                  </a:lnTo>
                  <a:lnTo>
                    <a:pt x="938" y="639"/>
                  </a:lnTo>
                  <a:lnTo>
                    <a:pt x="927" y="642"/>
                  </a:lnTo>
                  <a:lnTo>
                    <a:pt x="918" y="647"/>
                  </a:lnTo>
                  <a:lnTo>
                    <a:pt x="912" y="652"/>
                  </a:lnTo>
                  <a:lnTo>
                    <a:pt x="907" y="656"/>
                  </a:lnTo>
                  <a:lnTo>
                    <a:pt x="903" y="661"/>
                  </a:lnTo>
                  <a:lnTo>
                    <a:pt x="902" y="666"/>
                  </a:lnTo>
                  <a:lnTo>
                    <a:pt x="902" y="671"/>
                  </a:lnTo>
                  <a:lnTo>
                    <a:pt x="905" y="674"/>
                  </a:lnTo>
                  <a:lnTo>
                    <a:pt x="908" y="679"/>
                  </a:lnTo>
                  <a:lnTo>
                    <a:pt x="913" y="684"/>
                  </a:lnTo>
                  <a:lnTo>
                    <a:pt x="919" y="690"/>
                  </a:lnTo>
                  <a:lnTo>
                    <a:pt x="928" y="695"/>
                  </a:lnTo>
                  <a:lnTo>
                    <a:pt x="936" y="701"/>
                  </a:lnTo>
                  <a:lnTo>
                    <a:pt x="959" y="714"/>
                  </a:lnTo>
                  <a:lnTo>
                    <a:pt x="987" y="727"/>
                  </a:lnTo>
                  <a:lnTo>
                    <a:pt x="1020" y="744"/>
                  </a:lnTo>
                  <a:lnTo>
                    <a:pt x="1060" y="767"/>
                  </a:lnTo>
                  <a:lnTo>
                    <a:pt x="1104" y="792"/>
                  </a:lnTo>
                  <a:lnTo>
                    <a:pt x="1148" y="821"/>
                  </a:lnTo>
                  <a:lnTo>
                    <a:pt x="1191" y="849"/>
                  </a:lnTo>
                  <a:lnTo>
                    <a:pt x="1231" y="878"/>
                  </a:lnTo>
                  <a:lnTo>
                    <a:pt x="1248" y="892"/>
                  </a:lnTo>
                  <a:lnTo>
                    <a:pt x="1263" y="906"/>
                  </a:lnTo>
                  <a:lnTo>
                    <a:pt x="1275" y="918"/>
                  </a:lnTo>
                  <a:lnTo>
                    <a:pt x="1286" y="930"/>
                  </a:lnTo>
                  <a:lnTo>
                    <a:pt x="1295" y="941"/>
                  </a:lnTo>
                  <a:lnTo>
                    <a:pt x="1301" y="951"/>
                  </a:lnTo>
                  <a:lnTo>
                    <a:pt x="1306" y="960"/>
                  </a:lnTo>
                  <a:lnTo>
                    <a:pt x="1308" y="966"/>
                  </a:lnTo>
                  <a:lnTo>
                    <a:pt x="1308" y="969"/>
                  </a:lnTo>
                  <a:lnTo>
                    <a:pt x="1308" y="972"/>
                  </a:lnTo>
                  <a:lnTo>
                    <a:pt x="1307" y="973"/>
                  </a:lnTo>
                  <a:lnTo>
                    <a:pt x="1306" y="976"/>
                  </a:lnTo>
                  <a:lnTo>
                    <a:pt x="1299" y="978"/>
                  </a:lnTo>
                  <a:lnTo>
                    <a:pt x="1290" y="978"/>
                  </a:lnTo>
                  <a:lnTo>
                    <a:pt x="1277" y="978"/>
                  </a:lnTo>
                  <a:lnTo>
                    <a:pt x="1261" y="976"/>
                  </a:lnTo>
                  <a:lnTo>
                    <a:pt x="1242" y="972"/>
                  </a:lnTo>
                  <a:lnTo>
                    <a:pt x="1218" y="967"/>
                  </a:lnTo>
                  <a:lnTo>
                    <a:pt x="1158" y="952"/>
                  </a:lnTo>
                  <a:lnTo>
                    <a:pt x="1079" y="930"/>
                  </a:lnTo>
                  <a:lnTo>
                    <a:pt x="1057" y="925"/>
                  </a:lnTo>
                  <a:lnTo>
                    <a:pt x="1036" y="920"/>
                  </a:lnTo>
                  <a:lnTo>
                    <a:pt x="1015" y="918"/>
                  </a:lnTo>
                  <a:lnTo>
                    <a:pt x="994" y="915"/>
                  </a:lnTo>
                  <a:lnTo>
                    <a:pt x="976" y="914"/>
                  </a:lnTo>
                  <a:lnTo>
                    <a:pt x="956" y="913"/>
                  </a:lnTo>
                  <a:lnTo>
                    <a:pt x="938" y="913"/>
                  </a:lnTo>
                  <a:lnTo>
                    <a:pt x="920" y="914"/>
                  </a:lnTo>
                  <a:lnTo>
                    <a:pt x="903" y="917"/>
                  </a:lnTo>
                  <a:lnTo>
                    <a:pt x="886" y="919"/>
                  </a:lnTo>
                  <a:lnTo>
                    <a:pt x="871" y="921"/>
                  </a:lnTo>
                  <a:lnTo>
                    <a:pt x="855" y="925"/>
                  </a:lnTo>
                  <a:lnTo>
                    <a:pt x="827" y="934"/>
                  </a:lnTo>
                  <a:lnTo>
                    <a:pt x="801" y="942"/>
                  </a:lnTo>
                  <a:lnTo>
                    <a:pt x="779" y="953"/>
                  </a:lnTo>
                  <a:lnTo>
                    <a:pt x="758" y="963"/>
                  </a:lnTo>
                  <a:lnTo>
                    <a:pt x="741" y="973"/>
                  </a:lnTo>
                  <a:lnTo>
                    <a:pt x="727" y="983"/>
                  </a:lnTo>
                  <a:lnTo>
                    <a:pt x="708" y="998"/>
                  </a:lnTo>
                  <a:lnTo>
                    <a:pt x="702" y="1004"/>
                  </a:lnTo>
                  <a:lnTo>
                    <a:pt x="705" y="1004"/>
                  </a:lnTo>
                  <a:lnTo>
                    <a:pt x="718" y="1006"/>
                  </a:lnTo>
                  <a:lnTo>
                    <a:pt x="733" y="1010"/>
                  </a:lnTo>
                  <a:lnTo>
                    <a:pt x="754" y="1016"/>
                  </a:lnTo>
                  <a:lnTo>
                    <a:pt x="767" y="1021"/>
                  </a:lnTo>
                  <a:lnTo>
                    <a:pt x="778" y="1027"/>
                  </a:lnTo>
                  <a:lnTo>
                    <a:pt x="790" y="1033"/>
                  </a:lnTo>
                  <a:lnTo>
                    <a:pt x="802" y="1041"/>
                  </a:lnTo>
                  <a:lnTo>
                    <a:pt x="813" y="1049"/>
                  </a:lnTo>
                  <a:lnTo>
                    <a:pt x="825" y="1059"/>
                  </a:lnTo>
                  <a:lnTo>
                    <a:pt x="836" y="1070"/>
                  </a:lnTo>
                  <a:lnTo>
                    <a:pt x="845" y="1083"/>
                  </a:lnTo>
                  <a:lnTo>
                    <a:pt x="853" y="1095"/>
                  </a:lnTo>
                  <a:lnTo>
                    <a:pt x="857" y="1107"/>
                  </a:lnTo>
                  <a:lnTo>
                    <a:pt x="859" y="1121"/>
                  </a:lnTo>
                  <a:lnTo>
                    <a:pt x="859" y="1133"/>
                  </a:lnTo>
                  <a:lnTo>
                    <a:pt x="858" y="1139"/>
                  </a:lnTo>
                  <a:lnTo>
                    <a:pt x="855" y="1145"/>
                  </a:lnTo>
                  <a:lnTo>
                    <a:pt x="854" y="1152"/>
                  </a:lnTo>
                  <a:lnTo>
                    <a:pt x="850" y="1158"/>
                  </a:lnTo>
                  <a:lnTo>
                    <a:pt x="847" y="1164"/>
                  </a:lnTo>
                  <a:lnTo>
                    <a:pt x="843" y="1170"/>
                  </a:lnTo>
                  <a:lnTo>
                    <a:pt x="838" y="1175"/>
                  </a:lnTo>
                  <a:lnTo>
                    <a:pt x="832" y="1180"/>
                  </a:lnTo>
                  <a:lnTo>
                    <a:pt x="818" y="1190"/>
                  </a:lnTo>
                  <a:lnTo>
                    <a:pt x="802" y="1198"/>
                  </a:lnTo>
                  <a:lnTo>
                    <a:pt x="784" y="1206"/>
                  </a:lnTo>
                  <a:lnTo>
                    <a:pt x="763" y="1212"/>
                  </a:lnTo>
                  <a:lnTo>
                    <a:pt x="738" y="1217"/>
                  </a:lnTo>
                  <a:lnTo>
                    <a:pt x="713" y="1219"/>
                  </a:lnTo>
                  <a:lnTo>
                    <a:pt x="682" y="1220"/>
                  </a:lnTo>
                  <a:lnTo>
                    <a:pt x="650" y="1218"/>
                  </a:lnTo>
                  <a:lnTo>
                    <a:pt x="633" y="1218"/>
                  </a:lnTo>
                  <a:lnTo>
                    <a:pt x="614" y="1218"/>
                  </a:lnTo>
                  <a:lnTo>
                    <a:pt x="596" y="1218"/>
                  </a:lnTo>
                  <a:lnTo>
                    <a:pt x="577" y="1219"/>
                  </a:lnTo>
                  <a:lnTo>
                    <a:pt x="538" y="1224"/>
                  </a:lnTo>
                  <a:lnTo>
                    <a:pt x="496" y="1231"/>
                  </a:lnTo>
                  <a:lnTo>
                    <a:pt x="454" y="1240"/>
                  </a:lnTo>
                  <a:lnTo>
                    <a:pt x="412" y="1252"/>
                  </a:lnTo>
                  <a:lnTo>
                    <a:pt x="369" y="1265"/>
                  </a:lnTo>
                  <a:lnTo>
                    <a:pt x="328" y="1279"/>
                  </a:lnTo>
                  <a:lnTo>
                    <a:pt x="286" y="1295"/>
                  </a:lnTo>
                  <a:lnTo>
                    <a:pt x="244" y="1311"/>
                  </a:lnTo>
                  <a:lnTo>
                    <a:pt x="204" y="1329"/>
                  </a:lnTo>
                  <a:lnTo>
                    <a:pt x="166" y="1347"/>
                  </a:lnTo>
                  <a:lnTo>
                    <a:pt x="131" y="1366"/>
                  </a:lnTo>
                  <a:lnTo>
                    <a:pt x="97" y="1384"/>
                  </a:lnTo>
                  <a:lnTo>
                    <a:pt x="68" y="1402"/>
                  </a:lnTo>
                  <a:lnTo>
                    <a:pt x="41" y="1420"/>
                  </a:lnTo>
                  <a:lnTo>
                    <a:pt x="30" y="1427"/>
                  </a:lnTo>
                  <a:lnTo>
                    <a:pt x="20" y="1432"/>
                  </a:lnTo>
                  <a:lnTo>
                    <a:pt x="13" y="1436"/>
                  </a:lnTo>
                  <a:lnTo>
                    <a:pt x="8" y="1437"/>
                  </a:lnTo>
                  <a:lnTo>
                    <a:pt x="3" y="1437"/>
                  </a:lnTo>
                  <a:lnTo>
                    <a:pt x="0" y="1434"/>
                  </a:lnTo>
                  <a:lnTo>
                    <a:pt x="0" y="1431"/>
                  </a:lnTo>
                  <a:lnTo>
                    <a:pt x="0" y="1426"/>
                  </a:lnTo>
                  <a:lnTo>
                    <a:pt x="3" y="1418"/>
                  </a:lnTo>
                  <a:lnTo>
                    <a:pt x="6" y="1411"/>
                  </a:lnTo>
                  <a:lnTo>
                    <a:pt x="13" y="1401"/>
                  </a:lnTo>
                  <a:lnTo>
                    <a:pt x="19" y="1391"/>
                  </a:lnTo>
                  <a:lnTo>
                    <a:pt x="36" y="1368"/>
                  </a:lnTo>
                  <a:lnTo>
                    <a:pt x="57" y="1341"/>
                  </a:lnTo>
                  <a:lnTo>
                    <a:pt x="83" y="1311"/>
                  </a:lnTo>
                  <a:lnTo>
                    <a:pt x="112" y="1281"/>
                  </a:lnTo>
                  <a:lnTo>
                    <a:pt x="145" y="1250"/>
                  </a:lnTo>
                  <a:lnTo>
                    <a:pt x="182" y="1219"/>
                  </a:lnTo>
                  <a:lnTo>
                    <a:pt x="201" y="1204"/>
                  </a:lnTo>
                  <a:lnTo>
                    <a:pt x="220" y="1190"/>
                  </a:lnTo>
                  <a:lnTo>
                    <a:pt x="241" y="1175"/>
                  </a:lnTo>
                  <a:lnTo>
                    <a:pt x="262" y="1161"/>
                  </a:lnTo>
                  <a:lnTo>
                    <a:pt x="283" y="1149"/>
                  </a:lnTo>
                  <a:lnTo>
                    <a:pt x="304" y="1137"/>
                  </a:lnTo>
                  <a:lnTo>
                    <a:pt x="326" y="1126"/>
                  </a:lnTo>
                  <a:lnTo>
                    <a:pt x="348" y="1116"/>
                  </a:lnTo>
                  <a:lnTo>
                    <a:pt x="388" y="1097"/>
                  </a:lnTo>
                  <a:lnTo>
                    <a:pt x="417" y="1084"/>
                  </a:lnTo>
                  <a:lnTo>
                    <a:pt x="438" y="1073"/>
                  </a:lnTo>
                  <a:lnTo>
                    <a:pt x="452" y="1065"/>
                  </a:lnTo>
                  <a:lnTo>
                    <a:pt x="455" y="1063"/>
                  </a:lnTo>
                  <a:lnTo>
                    <a:pt x="458" y="1060"/>
                  </a:lnTo>
                  <a:lnTo>
                    <a:pt x="459" y="1058"/>
                  </a:lnTo>
                  <a:lnTo>
                    <a:pt x="459" y="1057"/>
                  </a:lnTo>
                  <a:lnTo>
                    <a:pt x="455" y="1054"/>
                  </a:lnTo>
                  <a:lnTo>
                    <a:pt x="447" y="1054"/>
                  </a:lnTo>
                  <a:lnTo>
                    <a:pt x="423" y="1053"/>
                  </a:lnTo>
                  <a:lnTo>
                    <a:pt x="396" y="1049"/>
                  </a:lnTo>
                  <a:lnTo>
                    <a:pt x="383" y="1047"/>
                  </a:lnTo>
                  <a:lnTo>
                    <a:pt x="372" y="1041"/>
                  </a:lnTo>
                  <a:lnTo>
                    <a:pt x="367" y="1037"/>
                  </a:lnTo>
                  <a:lnTo>
                    <a:pt x="363" y="1033"/>
                  </a:lnTo>
                  <a:lnTo>
                    <a:pt x="361" y="1029"/>
                  </a:lnTo>
                  <a:lnTo>
                    <a:pt x="359" y="1022"/>
                  </a:lnTo>
                  <a:lnTo>
                    <a:pt x="357" y="1010"/>
                  </a:lnTo>
                  <a:lnTo>
                    <a:pt x="357" y="997"/>
                  </a:lnTo>
                  <a:lnTo>
                    <a:pt x="358" y="983"/>
                  </a:lnTo>
                  <a:lnTo>
                    <a:pt x="361" y="968"/>
                  </a:lnTo>
                  <a:lnTo>
                    <a:pt x="366" y="953"/>
                  </a:lnTo>
                  <a:lnTo>
                    <a:pt x="372" y="937"/>
                  </a:lnTo>
                  <a:lnTo>
                    <a:pt x="380" y="921"/>
                  </a:lnTo>
                  <a:lnTo>
                    <a:pt x="390" y="906"/>
                  </a:lnTo>
                  <a:lnTo>
                    <a:pt x="403" y="891"/>
                  </a:lnTo>
                  <a:lnTo>
                    <a:pt x="417" y="875"/>
                  </a:lnTo>
                  <a:lnTo>
                    <a:pt x="436" y="859"/>
                  </a:lnTo>
                  <a:lnTo>
                    <a:pt x="455" y="844"/>
                  </a:lnTo>
                  <a:lnTo>
                    <a:pt x="479" y="829"/>
                  </a:lnTo>
                  <a:lnTo>
                    <a:pt x="506" y="816"/>
                  </a:lnTo>
                  <a:lnTo>
                    <a:pt x="535" y="802"/>
                  </a:lnTo>
                  <a:lnTo>
                    <a:pt x="569" y="790"/>
                  </a:lnTo>
                  <a:lnTo>
                    <a:pt x="575" y="787"/>
                  </a:lnTo>
                  <a:lnTo>
                    <a:pt x="590" y="783"/>
                  </a:lnTo>
                  <a:lnTo>
                    <a:pt x="610" y="775"/>
                  </a:lnTo>
                  <a:lnTo>
                    <a:pt x="634" y="765"/>
                  </a:lnTo>
                  <a:lnTo>
                    <a:pt x="644" y="760"/>
                  </a:lnTo>
                  <a:lnTo>
                    <a:pt x="654" y="754"/>
                  </a:lnTo>
                  <a:lnTo>
                    <a:pt x="661" y="747"/>
                  </a:lnTo>
                  <a:lnTo>
                    <a:pt x="667" y="739"/>
                  </a:lnTo>
                  <a:lnTo>
                    <a:pt x="668" y="736"/>
                  </a:lnTo>
                  <a:lnTo>
                    <a:pt x="670" y="732"/>
                  </a:lnTo>
                  <a:lnTo>
                    <a:pt x="670" y="728"/>
                  </a:lnTo>
                  <a:lnTo>
                    <a:pt x="670" y="725"/>
                  </a:lnTo>
                  <a:lnTo>
                    <a:pt x="668" y="721"/>
                  </a:lnTo>
                  <a:lnTo>
                    <a:pt x="666" y="716"/>
                  </a:lnTo>
                  <a:lnTo>
                    <a:pt x="662" y="712"/>
                  </a:lnTo>
                  <a:lnTo>
                    <a:pt x="657" y="707"/>
                  </a:lnTo>
                  <a:lnTo>
                    <a:pt x="655" y="700"/>
                  </a:lnTo>
                  <a:lnTo>
                    <a:pt x="655" y="691"/>
                  </a:lnTo>
                  <a:lnTo>
                    <a:pt x="655" y="679"/>
                  </a:lnTo>
                  <a:lnTo>
                    <a:pt x="657" y="667"/>
                  </a:lnTo>
                  <a:lnTo>
                    <a:pt x="662" y="652"/>
                  </a:lnTo>
                  <a:lnTo>
                    <a:pt x="668" y="637"/>
                  </a:lnTo>
                  <a:lnTo>
                    <a:pt x="676" y="620"/>
                  </a:lnTo>
                  <a:lnTo>
                    <a:pt x="684" y="603"/>
                  </a:lnTo>
                  <a:lnTo>
                    <a:pt x="694" y="586"/>
                  </a:lnTo>
                  <a:lnTo>
                    <a:pt x="706" y="568"/>
                  </a:lnTo>
                  <a:lnTo>
                    <a:pt x="719" y="551"/>
                  </a:lnTo>
                  <a:lnTo>
                    <a:pt x="733" y="534"/>
                  </a:lnTo>
                  <a:lnTo>
                    <a:pt x="748" y="517"/>
                  </a:lnTo>
                  <a:lnTo>
                    <a:pt x="765" y="502"/>
                  </a:lnTo>
                  <a:lnTo>
                    <a:pt x="783" y="487"/>
                  </a:lnTo>
                  <a:lnTo>
                    <a:pt x="802" y="474"/>
                  </a:lnTo>
                  <a:lnTo>
                    <a:pt x="838" y="452"/>
                  </a:lnTo>
                  <a:lnTo>
                    <a:pt x="868" y="433"/>
                  </a:lnTo>
                  <a:lnTo>
                    <a:pt x="892" y="417"/>
                  </a:lnTo>
                  <a:lnTo>
                    <a:pt x="913" y="402"/>
                  </a:lnTo>
                  <a:lnTo>
                    <a:pt x="922" y="394"/>
                  </a:lnTo>
                  <a:lnTo>
                    <a:pt x="930" y="385"/>
                  </a:lnTo>
                  <a:lnTo>
                    <a:pt x="938" y="377"/>
                  </a:lnTo>
                  <a:lnTo>
                    <a:pt x="945" y="368"/>
                  </a:lnTo>
                  <a:lnTo>
                    <a:pt x="952" y="357"/>
                  </a:lnTo>
                  <a:lnTo>
                    <a:pt x="959" y="346"/>
                  </a:lnTo>
                  <a:lnTo>
                    <a:pt x="966" y="334"/>
                  </a:lnTo>
                  <a:lnTo>
                    <a:pt x="973" y="319"/>
                  </a:lnTo>
                  <a:lnTo>
                    <a:pt x="977" y="315"/>
                  </a:lnTo>
                  <a:lnTo>
                    <a:pt x="989" y="302"/>
                  </a:lnTo>
                  <a:lnTo>
                    <a:pt x="999" y="293"/>
                  </a:lnTo>
                  <a:lnTo>
                    <a:pt x="1012" y="283"/>
                  </a:lnTo>
                  <a:lnTo>
                    <a:pt x="1028" y="272"/>
                  </a:lnTo>
                  <a:lnTo>
                    <a:pt x="1046" y="260"/>
                  </a:lnTo>
                  <a:lnTo>
                    <a:pt x="1068" y="247"/>
                  </a:lnTo>
                  <a:lnTo>
                    <a:pt x="1094" y="234"/>
                  </a:lnTo>
                  <a:lnTo>
                    <a:pt x="1123" y="220"/>
                  </a:lnTo>
                  <a:lnTo>
                    <a:pt x="1157" y="207"/>
                  </a:lnTo>
                  <a:lnTo>
                    <a:pt x="1194" y="195"/>
                  </a:lnTo>
                  <a:lnTo>
                    <a:pt x="1237" y="181"/>
                  </a:lnTo>
                  <a:lnTo>
                    <a:pt x="1282" y="170"/>
                  </a:lnTo>
                  <a:lnTo>
                    <a:pt x="1334" y="159"/>
                  </a:lnTo>
                  <a:lnTo>
                    <a:pt x="1388" y="149"/>
                  </a:lnTo>
                  <a:lnTo>
                    <a:pt x="1441" y="136"/>
                  </a:lnTo>
                  <a:lnTo>
                    <a:pt x="1493" y="122"/>
                  </a:lnTo>
                  <a:lnTo>
                    <a:pt x="1542" y="107"/>
                  </a:lnTo>
                  <a:lnTo>
                    <a:pt x="1637" y="78"/>
                  </a:lnTo>
                  <a:lnTo>
                    <a:pt x="1721" y="48"/>
                  </a:lnTo>
                  <a:lnTo>
                    <a:pt x="1761" y="36"/>
                  </a:lnTo>
                  <a:lnTo>
                    <a:pt x="1796" y="24"/>
                  </a:lnTo>
                  <a:lnTo>
                    <a:pt x="1828" y="14"/>
                  </a:lnTo>
                  <a:lnTo>
                    <a:pt x="1858" y="6"/>
                  </a:lnTo>
                  <a:lnTo>
                    <a:pt x="1883" y="1"/>
                  </a:lnTo>
                  <a:lnTo>
                    <a:pt x="1903" y="0"/>
                  </a:lnTo>
                  <a:lnTo>
                    <a:pt x="1912" y="0"/>
                  </a:lnTo>
                  <a:lnTo>
                    <a:pt x="1919" y="1"/>
                  </a:lnTo>
                  <a:lnTo>
                    <a:pt x="1927" y="4"/>
                  </a:lnTo>
                  <a:lnTo>
                    <a:pt x="1932" y="8"/>
                  </a:lnTo>
                  <a:lnTo>
                    <a:pt x="1942" y="15"/>
                  </a:lnTo>
                  <a:lnTo>
                    <a:pt x="1951" y="27"/>
                  </a:lnTo>
                  <a:lnTo>
                    <a:pt x="1963" y="41"/>
                  </a:lnTo>
                  <a:lnTo>
                    <a:pt x="1972" y="58"/>
                  </a:lnTo>
                  <a:lnTo>
                    <a:pt x="1983" y="76"/>
                  </a:lnTo>
                  <a:lnTo>
                    <a:pt x="1993" y="99"/>
                  </a:lnTo>
                  <a:lnTo>
                    <a:pt x="2004" y="122"/>
                  </a:lnTo>
                  <a:lnTo>
                    <a:pt x="2015" y="148"/>
                  </a:lnTo>
                  <a:lnTo>
                    <a:pt x="2025" y="176"/>
                  </a:lnTo>
                  <a:lnTo>
                    <a:pt x="2035" y="206"/>
                  </a:lnTo>
                  <a:lnTo>
                    <a:pt x="2045" y="238"/>
                  </a:lnTo>
                  <a:lnTo>
                    <a:pt x="2055" y="271"/>
                  </a:lnTo>
                  <a:lnTo>
                    <a:pt x="2065" y="306"/>
                  </a:lnTo>
                  <a:lnTo>
                    <a:pt x="2073" y="343"/>
                  </a:lnTo>
                  <a:lnTo>
                    <a:pt x="2082" y="380"/>
                  </a:lnTo>
                  <a:lnTo>
                    <a:pt x="2089" y="420"/>
                  </a:lnTo>
                  <a:lnTo>
                    <a:pt x="2095" y="459"/>
                  </a:lnTo>
                  <a:lnTo>
                    <a:pt x="2100" y="498"/>
                  </a:lnTo>
                  <a:lnTo>
                    <a:pt x="2103" y="537"/>
                  </a:lnTo>
                  <a:lnTo>
                    <a:pt x="2103" y="572"/>
                  </a:lnTo>
                  <a:lnTo>
                    <a:pt x="2102" y="591"/>
                  </a:lnTo>
                  <a:lnTo>
                    <a:pt x="2100" y="608"/>
                  </a:lnTo>
                  <a:lnTo>
                    <a:pt x="2098" y="624"/>
                  </a:lnTo>
                  <a:lnTo>
                    <a:pt x="2095" y="640"/>
                  </a:lnTo>
                  <a:lnTo>
                    <a:pt x="2093" y="655"/>
                  </a:lnTo>
                  <a:lnTo>
                    <a:pt x="2089" y="669"/>
                  </a:lnTo>
                  <a:lnTo>
                    <a:pt x="2084" y="683"/>
                  </a:lnTo>
                  <a:lnTo>
                    <a:pt x="2079" y="695"/>
                  </a:lnTo>
                  <a:lnTo>
                    <a:pt x="2073" y="706"/>
                  </a:lnTo>
                  <a:lnTo>
                    <a:pt x="2067" y="717"/>
                  </a:lnTo>
                  <a:lnTo>
                    <a:pt x="2061" y="726"/>
                  </a:lnTo>
                  <a:lnTo>
                    <a:pt x="2052" y="735"/>
                  </a:lnTo>
                  <a:lnTo>
                    <a:pt x="2044" y="741"/>
                  </a:lnTo>
                  <a:lnTo>
                    <a:pt x="2035" y="747"/>
                  </a:lnTo>
                  <a:lnTo>
                    <a:pt x="2025" y="751"/>
                  </a:lnTo>
                  <a:lnTo>
                    <a:pt x="2014" y="753"/>
                  </a:lnTo>
                  <a:lnTo>
                    <a:pt x="2003" y="754"/>
                  </a:lnTo>
                  <a:lnTo>
                    <a:pt x="1991" y="753"/>
                  </a:lnTo>
                  <a:lnTo>
                    <a:pt x="1979" y="752"/>
                  </a:lnTo>
                  <a:lnTo>
                    <a:pt x="1965" y="747"/>
                  </a:lnTo>
                  <a:lnTo>
                    <a:pt x="1950" y="742"/>
                  </a:lnTo>
                  <a:lnTo>
                    <a:pt x="1935" y="735"/>
                  </a:lnTo>
                  <a:lnTo>
                    <a:pt x="1919" y="725"/>
                  </a:lnTo>
                  <a:lnTo>
                    <a:pt x="1902" y="714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5505480" y="2865600"/>
              <a:ext cx="641160" cy="439560"/>
            </a:xfrm>
            <a:custGeom>
              <a:avLst/>
              <a:gdLst/>
              <a:ahLst/>
              <a:rect l="l" t="t" r="r" b="b"/>
              <a:pathLst>
                <a:path w="2019" h="1384">
                  <a:moveTo>
                    <a:pt x="1779" y="611"/>
                  </a:moveTo>
                  <a:lnTo>
                    <a:pt x="1746" y="587"/>
                  </a:lnTo>
                  <a:lnTo>
                    <a:pt x="1713" y="565"/>
                  </a:lnTo>
                  <a:lnTo>
                    <a:pt x="1679" y="544"/>
                  </a:lnTo>
                  <a:lnTo>
                    <a:pt x="1647" y="523"/>
                  </a:lnTo>
                  <a:lnTo>
                    <a:pt x="1615" y="506"/>
                  </a:lnTo>
                  <a:lnTo>
                    <a:pt x="1585" y="488"/>
                  </a:lnTo>
                  <a:lnTo>
                    <a:pt x="1554" y="474"/>
                  </a:lnTo>
                  <a:lnTo>
                    <a:pt x="1524" y="460"/>
                  </a:lnTo>
                  <a:lnTo>
                    <a:pt x="1495" y="448"/>
                  </a:lnTo>
                  <a:lnTo>
                    <a:pt x="1466" y="437"/>
                  </a:lnTo>
                  <a:lnTo>
                    <a:pt x="1438" y="428"/>
                  </a:lnTo>
                  <a:lnTo>
                    <a:pt x="1411" y="421"/>
                  </a:lnTo>
                  <a:lnTo>
                    <a:pt x="1384" y="414"/>
                  </a:lnTo>
                  <a:lnTo>
                    <a:pt x="1357" y="411"/>
                  </a:lnTo>
                  <a:lnTo>
                    <a:pt x="1331" y="408"/>
                  </a:lnTo>
                  <a:lnTo>
                    <a:pt x="1307" y="407"/>
                  </a:lnTo>
                  <a:lnTo>
                    <a:pt x="1284" y="408"/>
                  </a:lnTo>
                  <a:lnTo>
                    <a:pt x="1266" y="411"/>
                  </a:lnTo>
                  <a:lnTo>
                    <a:pt x="1259" y="412"/>
                  </a:lnTo>
                  <a:lnTo>
                    <a:pt x="1252" y="414"/>
                  </a:lnTo>
                  <a:lnTo>
                    <a:pt x="1246" y="417"/>
                  </a:lnTo>
                  <a:lnTo>
                    <a:pt x="1241" y="419"/>
                  </a:lnTo>
                  <a:lnTo>
                    <a:pt x="1238" y="423"/>
                  </a:lnTo>
                  <a:lnTo>
                    <a:pt x="1234" y="426"/>
                  </a:lnTo>
                  <a:lnTo>
                    <a:pt x="1232" y="429"/>
                  </a:lnTo>
                  <a:lnTo>
                    <a:pt x="1230" y="433"/>
                  </a:lnTo>
                  <a:lnTo>
                    <a:pt x="1229" y="442"/>
                  </a:lnTo>
                  <a:lnTo>
                    <a:pt x="1229" y="451"/>
                  </a:lnTo>
                  <a:lnTo>
                    <a:pt x="1233" y="462"/>
                  </a:lnTo>
                  <a:lnTo>
                    <a:pt x="1238" y="474"/>
                  </a:lnTo>
                  <a:lnTo>
                    <a:pt x="1244" y="486"/>
                  </a:lnTo>
                  <a:lnTo>
                    <a:pt x="1251" y="499"/>
                  </a:lnTo>
                  <a:lnTo>
                    <a:pt x="1268" y="528"/>
                  </a:lnTo>
                  <a:lnTo>
                    <a:pt x="1287" y="557"/>
                  </a:lnTo>
                  <a:lnTo>
                    <a:pt x="1305" y="585"/>
                  </a:lnTo>
                  <a:lnTo>
                    <a:pt x="1323" y="608"/>
                  </a:lnTo>
                  <a:lnTo>
                    <a:pt x="1329" y="617"/>
                  </a:lnTo>
                  <a:lnTo>
                    <a:pt x="1332" y="625"/>
                  </a:lnTo>
                  <a:lnTo>
                    <a:pt x="1334" y="629"/>
                  </a:lnTo>
                  <a:lnTo>
                    <a:pt x="1335" y="631"/>
                  </a:lnTo>
                  <a:lnTo>
                    <a:pt x="1335" y="633"/>
                  </a:lnTo>
                  <a:lnTo>
                    <a:pt x="1334" y="636"/>
                  </a:lnTo>
                  <a:lnTo>
                    <a:pt x="1332" y="638"/>
                  </a:lnTo>
                  <a:lnTo>
                    <a:pt x="1330" y="640"/>
                  </a:lnTo>
                  <a:lnTo>
                    <a:pt x="1327" y="642"/>
                  </a:lnTo>
                  <a:lnTo>
                    <a:pt x="1324" y="642"/>
                  </a:lnTo>
                  <a:lnTo>
                    <a:pt x="1311" y="645"/>
                  </a:lnTo>
                  <a:lnTo>
                    <a:pt x="1297" y="645"/>
                  </a:lnTo>
                  <a:lnTo>
                    <a:pt x="1250" y="642"/>
                  </a:lnTo>
                  <a:lnTo>
                    <a:pt x="1181" y="636"/>
                  </a:lnTo>
                  <a:lnTo>
                    <a:pt x="1108" y="629"/>
                  </a:lnTo>
                  <a:lnTo>
                    <a:pt x="1049" y="622"/>
                  </a:lnTo>
                  <a:lnTo>
                    <a:pt x="1001" y="616"/>
                  </a:lnTo>
                  <a:lnTo>
                    <a:pt x="965" y="613"/>
                  </a:lnTo>
                  <a:lnTo>
                    <a:pt x="949" y="611"/>
                  </a:lnTo>
                  <a:lnTo>
                    <a:pt x="934" y="611"/>
                  </a:lnTo>
                  <a:lnTo>
                    <a:pt x="921" y="611"/>
                  </a:lnTo>
                  <a:lnTo>
                    <a:pt x="909" y="613"/>
                  </a:lnTo>
                  <a:lnTo>
                    <a:pt x="898" y="614"/>
                  </a:lnTo>
                  <a:lnTo>
                    <a:pt x="888" y="616"/>
                  </a:lnTo>
                  <a:lnTo>
                    <a:pt x="878" y="620"/>
                  </a:lnTo>
                  <a:lnTo>
                    <a:pt x="869" y="625"/>
                  </a:lnTo>
                  <a:lnTo>
                    <a:pt x="860" y="630"/>
                  </a:lnTo>
                  <a:lnTo>
                    <a:pt x="851" y="635"/>
                  </a:lnTo>
                  <a:lnTo>
                    <a:pt x="844" y="640"/>
                  </a:lnTo>
                  <a:lnTo>
                    <a:pt x="839" y="643"/>
                  </a:lnTo>
                  <a:lnTo>
                    <a:pt x="834" y="649"/>
                  </a:lnTo>
                  <a:lnTo>
                    <a:pt x="832" y="654"/>
                  </a:lnTo>
                  <a:lnTo>
                    <a:pt x="830" y="659"/>
                  </a:lnTo>
                  <a:lnTo>
                    <a:pt x="832" y="664"/>
                  </a:lnTo>
                  <a:lnTo>
                    <a:pt x="833" y="670"/>
                  </a:lnTo>
                  <a:lnTo>
                    <a:pt x="837" y="676"/>
                  </a:lnTo>
                  <a:lnTo>
                    <a:pt x="842" y="681"/>
                  </a:lnTo>
                  <a:lnTo>
                    <a:pt x="849" y="688"/>
                  </a:lnTo>
                  <a:lnTo>
                    <a:pt x="858" y="694"/>
                  </a:lnTo>
                  <a:lnTo>
                    <a:pt x="867" y="701"/>
                  </a:lnTo>
                  <a:lnTo>
                    <a:pt x="880" y="707"/>
                  </a:lnTo>
                  <a:lnTo>
                    <a:pt x="893" y="715"/>
                  </a:lnTo>
                  <a:lnTo>
                    <a:pt x="926" y="732"/>
                  </a:lnTo>
                  <a:lnTo>
                    <a:pt x="963" y="752"/>
                  </a:lnTo>
                  <a:lnTo>
                    <a:pt x="1004" y="775"/>
                  </a:lnTo>
                  <a:lnTo>
                    <a:pt x="1045" y="798"/>
                  </a:lnTo>
                  <a:lnTo>
                    <a:pt x="1085" y="822"/>
                  </a:lnTo>
                  <a:lnTo>
                    <a:pt x="1121" y="845"/>
                  </a:lnTo>
                  <a:lnTo>
                    <a:pt x="1153" y="867"/>
                  </a:lnTo>
                  <a:lnTo>
                    <a:pt x="1176" y="886"/>
                  </a:lnTo>
                  <a:lnTo>
                    <a:pt x="1187" y="894"/>
                  </a:lnTo>
                  <a:lnTo>
                    <a:pt x="1196" y="903"/>
                  </a:lnTo>
                  <a:lnTo>
                    <a:pt x="1203" y="909"/>
                  </a:lnTo>
                  <a:lnTo>
                    <a:pt x="1208" y="915"/>
                  </a:lnTo>
                  <a:lnTo>
                    <a:pt x="1211" y="920"/>
                  </a:lnTo>
                  <a:lnTo>
                    <a:pt x="1209" y="925"/>
                  </a:lnTo>
                  <a:lnTo>
                    <a:pt x="1207" y="927"/>
                  </a:lnTo>
                  <a:lnTo>
                    <a:pt x="1200" y="929"/>
                  </a:lnTo>
                  <a:lnTo>
                    <a:pt x="1190" y="929"/>
                  </a:lnTo>
                  <a:lnTo>
                    <a:pt x="1176" y="927"/>
                  </a:lnTo>
                  <a:lnTo>
                    <a:pt x="1158" y="925"/>
                  </a:lnTo>
                  <a:lnTo>
                    <a:pt x="1136" y="920"/>
                  </a:lnTo>
                  <a:lnTo>
                    <a:pt x="1078" y="906"/>
                  </a:lnTo>
                  <a:lnTo>
                    <a:pt x="999" y="886"/>
                  </a:lnTo>
                  <a:lnTo>
                    <a:pt x="978" y="881"/>
                  </a:lnTo>
                  <a:lnTo>
                    <a:pt x="956" y="876"/>
                  </a:lnTo>
                  <a:lnTo>
                    <a:pt x="935" y="873"/>
                  </a:lnTo>
                  <a:lnTo>
                    <a:pt x="915" y="872"/>
                  </a:lnTo>
                  <a:lnTo>
                    <a:pt x="896" y="871"/>
                  </a:lnTo>
                  <a:lnTo>
                    <a:pt x="877" y="871"/>
                  </a:lnTo>
                  <a:lnTo>
                    <a:pt x="859" y="872"/>
                  </a:lnTo>
                  <a:lnTo>
                    <a:pt x="842" y="875"/>
                  </a:lnTo>
                  <a:lnTo>
                    <a:pt x="824" y="878"/>
                  </a:lnTo>
                  <a:lnTo>
                    <a:pt x="807" y="882"/>
                  </a:lnTo>
                  <a:lnTo>
                    <a:pt x="792" y="886"/>
                  </a:lnTo>
                  <a:lnTo>
                    <a:pt x="776" y="891"/>
                  </a:lnTo>
                  <a:lnTo>
                    <a:pt x="749" y="902"/>
                  </a:lnTo>
                  <a:lnTo>
                    <a:pt x="723" y="914"/>
                  </a:lnTo>
                  <a:lnTo>
                    <a:pt x="700" y="927"/>
                  </a:lnTo>
                  <a:lnTo>
                    <a:pt x="680" y="941"/>
                  </a:lnTo>
                  <a:lnTo>
                    <a:pt x="664" y="954"/>
                  </a:lnTo>
                  <a:lnTo>
                    <a:pt x="650" y="966"/>
                  </a:lnTo>
                  <a:lnTo>
                    <a:pt x="631" y="984"/>
                  </a:lnTo>
                  <a:lnTo>
                    <a:pt x="625" y="991"/>
                  </a:lnTo>
                  <a:lnTo>
                    <a:pt x="629" y="993"/>
                  </a:lnTo>
                  <a:lnTo>
                    <a:pt x="639" y="995"/>
                  </a:lnTo>
                  <a:lnTo>
                    <a:pt x="655" y="1001"/>
                  </a:lnTo>
                  <a:lnTo>
                    <a:pt x="675" y="1009"/>
                  </a:lnTo>
                  <a:lnTo>
                    <a:pt x="698" y="1020"/>
                  </a:lnTo>
                  <a:lnTo>
                    <a:pt x="722" y="1033"/>
                  </a:lnTo>
                  <a:lnTo>
                    <a:pt x="734" y="1041"/>
                  </a:lnTo>
                  <a:lnTo>
                    <a:pt x="746" y="1050"/>
                  </a:lnTo>
                  <a:lnTo>
                    <a:pt x="758" y="1060"/>
                  </a:lnTo>
                  <a:lnTo>
                    <a:pt x="769" y="1070"/>
                  </a:lnTo>
                  <a:lnTo>
                    <a:pt x="776" y="1080"/>
                  </a:lnTo>
                  <a:lnTo>
                    <a:pt x="782" y="1090"/>
                  </a:lnTo>
                  <a:lnTo>
                    <a:pt x="786" y="1100"/>
                  </a:lnTo>
                  <a:lnTo>
                    <a:pt x="787" y="1108"/>
                  </a:lnTo>
                  <a:lnTo>
                    <a:pt x="786" y="1117"/>
                  </a:lnTo>
                  <a:lnTo>
                    <a:pt x="784" y="1125"/>
                  </a:lnTo>
                  <a:lnTo>
                    <a:pt x="778" y="1134"/>
                  </a:lnTo>
                  <a:lnTo>
                    <a:pt x="770" y="1141"/>
                  </a:lnTo>
                  <a:lnTo>
                    <a:pt x="759" y="1149"/>
                  </a:lnTo>
                  <a:lnTo>
                    <a:pt x="746" y="1155"/>
                  </a:lnTo>
                  <a:lnTo>
                    <a:pt x="730" y="1160"/>
                  </a:lnTo>
                  <a:lnTo>
                    <a:pt x="710" y="1165"/>
                  </a:lnTo>
                  <a:lnTo>
                    <a:pt x="686" y="1168"/>
                  </a:lnTo>
                  <a:lnTo>
                    <a:pt x="662" y="1171"/>
                  </a:lnTo>
                  <a:lnTo>
                    <a:pt x="632" y="1173"/>
                  </a:lnTo>
                  <a:lnTo>
                    <a:pt x="600" y="1173"/>
                  </a:lnTo>
                  <a:lnTo>
                    <a:pt x="566" y="1175"/>
                  </a:lnTo>
                  <a:lnTo>
                    <a:pt x="530" y="1178"/>
                  </a:lnTo>
                  <a:lnTo>
                    <a:pt x="493" y="1183"/>
                  </a:lnTo>
                  <a:lnTo>
                    <a:pt x="455" y="1191"/>
                  </a:lnTo>
                  <a:lnTo>
                    <a:pt x="417" y="1199"/>
                  </a:lnTo>
                  <a:lnTo>
                    <a:pt x="379" y="1210"/>
                  </a:lnTo>
                  <a:lnTo>
                    <a:pt x="341" y="1223"/>
                  </a:lnTo>
                  <a:lnTo>
                    <a:pt x="303" y="1235"/>
                  </a:lnTo>
                  <a:lnTo>
                    <a:pt x="266" y="1250"/>
                  </a:lnTo>
                  <a:lnTo>
                    <a:pt x="229" y="1264"/>
                  </a:lnTo>
                  <a:lnTo>
                    <a:pt x="193" y="1280"/>
                  </a:lnTo>
                  <a:lnTo>
                    <a:pt x="159" y="1296"/>
                  </a:lnTo>
                  <a:lnTo>
                    <a:pt x="125" y="1312"/>
                  </a:lnTo>
                  <a:lnTo>
                    <a:pt x="95" y="1330"/>
                  </a:lnTo>
                  <a:lnTo>
                    <a:pt x="66" y="1347"/>
                  </a:lnTo>
                  <a:lnTo>
                    <a:pt x="41" y="1364"/>
                  </a:lnTo>
                  <a:lnTo>
                    <a:pt x="30" y="1371"/>
                  </a:lnTo>
                  <a:lnTo>
                    <a:pt x="20" y="1378"/>
                  </a:lnTo>
                  <a:lnTo>
                    <a:pt x="12" y="1381"/>
                  </a:lnTo>
                  <a:lnTo>
                    <a:pt x="6" y="1383"/>
                  </a:lnTo>
                  <a:lnTo>
                    <a:pt x="2" y="1384"/>
                  </a:lnTo>
                  <a:lnTo>
                    <a:pt x="0" y="1383"/>
                  </a:lnTo>
                  <a:lnTo>
                    <a:pt x="0" y="1380"/>
                  </a:lnTo>
                  <a:lnTo>
                    <a:pt x="0" y="1375"/>
                  </a:lnTo>
                  <a:lnTo>
                    <a:pt x="6" y="1364"/>
                  </a:lnTo>
                  <a:lnTo>
                    <a:pt x="18" y="1347"/>
                  </a:lnTo>
                  <a:lnTo>
                    <a:pt x="36" y="1327"/>
                  </a:lnTo>
                  <a:lnTo>
                    <a:pt x="58" y="1304"/>
                  </a:lnTo>
                  <a:lnTo>
                    <a:pt x="84" y="1278"/>
                  </a:lnTo>
                  <a:lnTo>
                    <a:pt x="113" y="1251"/>
                  </a:lnTo>
                  <a:lnTo>
                    <a:pt x="148" y="1223"/>
                  </a:lnTo>
                  <a:lnTo>
                    <a:pt x="183" y="1194"/>
                  </a:lnTo>
                  <a:lnTo>
                    <a:pt x="223" y="1167"/>
                  </a:lnTo>
                  <a:lnTo>
                    <a:pt x="263" y="1140"/>
                  </a:lnTo>
                  <a:lnTo>
                    <a:pt x="284" y="1128"/>
                  </a:lnTo>
                  <a:lnTo>
                    <a:pt x="306" y="1117"/>
                  </a:lnTo>
                  <a:lnTo>
                    <a:pt x="328" y="1106"/>
                  </a:lnTo>
                  <a:lnTo>
                    <a:pt x="349" y="1095"/>
                  </a:lnTo>
                  <a:lnTo>
                    <a:pt x="389" y="1077"/>
                  </a:lnTo>
                  <a:lnTo>
                    <a:pt x="418" y="1064"/>
                  </a:lnTo>
                  <a:lnTo>
                    <a:pt x="438" y="1054"/>
                  </a:lnTo>
                  <a:lnTo>
                    <a:pt x="449" y="1047"/>
                  </a:lnTo>
                  <a:lnTo>
                    <a:pt x="453" y="1044"/>
                  </a:lnTo>
                  <a:lnTo>
                    <a:pt x="454" y="1042"/>
                  </a:lnTo>
                  <a:lnTo>
                    <a:pt x="454" y="1039"/>
                  </a:lnTo>
                  <a:lnTo>
                    <a:pt x="453" y="1038"/>
                  </a:lnTo>
                  <a:lnTo>
                    <a:pt x="447" y="1037"/>
                  </a:lnTo>
                  <a:lnTo>
                    <a:pt x="437" y="1036"/>
                  </a:lnTo>
                  <a:lnTo>
                    <a:pt x="408" y="1034"/>
                  </a:lnTo>
                  <a:lnTo>
                    <a:pt x="378" y="1032"/>
                  </a:lnTo>
                  <a:lnTo>
                    <a:pt x="370" y="1031"/>
                  </a:lnTo>
                  <a:lnTo>
                    <a:pt x="363" y="1028"/>
                  </a:lnTo>
                  <a:lnTo>
                    <a:pt x="357" y="1027"/>
                  </a:lnTo>
                  <a:lnTo>
                    <a:pt x="351" y="1023"/>
                  </a:lnTo>
                  <a:lnTo>
                    <a:pt x="346" y="1020"/>
                  </a:lnTo>
                  <a:lnTo>
                    <a:pt x="341" y="1016"/>
                  </a:lnTo>
                  <a:lnTo>
                    <a:pt x="338" y="1011"/>
                  </a:lnTo>
                  <a:lnTo>
                    <a:pt x="336" y="1005"/>
                  </a:lnTo>
                  <a:lnTo>
                    <a:pt x="335" y="993"/>
                  </a:lnTo>
                  <a:lnTo>
                    <a:pt x="333" y="979"/>
                  </a:lnTo>
                  <a:lnTo>
                    <a:pt x="335" y="966"/>
                  </a:lnTo>
                  <a:lnTo>
                    <a:pt x="337" y="952"/>
                  </a:lnTo>
                  <a:lnTo>
                    <a:pt x="341" y="937"/>
                  </a:lnTo>
                  <a:lnTo>
                    <a:pt x="346" y="924"/>
                  </a:lnTo>
                  <a:lnTo>
                    <a:pt x="354" y="910"/>
                  </a:lnTo>
                  <a:lnTo>
                    <a:pt x="364" y="895"/>
                  </a:lnTo>
                  <a:lnTo>
                    <a:pt x="376" y="882"/>
                  </a:lnTo>
                  <a:lnTo>
                    <a:pt x="391" y="867"/>
                  </a:lnTo>
                  <a:lnTo>
                    <a:pt x="408" y="854"/>
                  </a:lnTo>
                  <a:lnTo>
                    <a:pt x="428" y="840"/>
                  </a:lnTo>
                  <a:lnTo>
                    <a:pt x="452" y="827"/>
                  </a:lnTo>
                  <a:lnTo>
                    <a:pt x="477" y="813"/>
                  </a:lnTo>
                  <a:lnTo>
                    <a:pt x="507" y="801"/>
                  </a:lnTo>
                  <a:lnTo>
                    <a:pt x="540" y="788"/>
                  </a:lnTo>
                  <a:lnTo>
                    <a:pt x="547" y="786"/>
                  </a:lnTo>
                  <a:lnTo>
                    <a:pt x="567" y="782"/>
                  </a:lnTo>
                  <a:lnTo>
                    <a:pt x="593" y="775"/>
                  </a:lnTo>
                  <a:lnTo>
                    <a:pt x="620" y="765"/>
                  </a:lnTo>
                  <a:lnTo>
                    <a:pt x="632" y="759"/>
                  </a:lnTo>
                  <a:lnTo>
                    <a:pt x="642" y="753"/>
                  </a:lnTo>
                  <a:lnTo>
                    <a:pt x="647" y="749"/>
                  </a:lnTo>
                  <a:lnTo>
                    <a:pt x="651" y="747"/>
                  </a:lnTo>
                  <a:lnTo>
                    <a:pt x="653" y="743"/>
                  </a:lnTo>
                  <a:lnTo>
                    <a:pt x="656" y="739"/>
                  </a:lnTo>
                  <a:lnTo>
                    <a:pt x="657" y="734"/>
                  </a:lnTo>
                  <a:lnTo>
                    <a:pt x="657" y="731"/>
                  </a:lnTo>
                  <a:lnTo>
                    <a:pt x="657" y="727"/>
                  </a:lnTo>
                  <a:lnTo>
                    <a:pt x="655" y="722"/>
                  </a:lnTo>
                  <a:lnTo>
                    <a:pt x="651" y="717"/>
                  </a:lnTo>
                  <a:lnTo>
                    <a:pt x="646" y="713"/>
                  </a:lnTo>
                  <a:lnTo>
                    <a:pt x="640" y="708"/>
                  </a:lnTo>
                  <a:lnTo>
                    <a:pt x="632" y="704"/>
                  </a:lnTo>
                  <a:lnTo>
                    <a:pt x="630" y="701"/>
                  </a:lnTo>
                  <a:lnTo>
                    <a:pt x="629" y="697"/>
                  </a:lnTo>
                  <a:lnTo>
                    <a:pt x="627" y="694"/>
                  </a:lnTo>
                  <a:lnTo>
                    <a:pt x="626" y="689"/>
                  </a:lnTo>
                  <a:lnTo>
                    <a:pt x="626" y="678"/>
                  </a:lnTo>
                  <a:lnTo>
                    <a:pt x="629" y="665"/>
                  </a:lnTo>
                  <a:lnTo>
                    <a:pt x="632" y="651"/>
                  </a:lnTo>
                  <a:lnTo>
                    <a:pt x="639" y="636"/>
                  </a:lnTo>
                  <a:lnTo>
                    <a:pt x="646" y="620"/>
                  </a:lnTo>
                  <a:lnTo>
                    <a:pt x="655" y="603"/>
                  </a:lnTo>
                  <a:lnTo>
                    <a:pt x="666" y="585"/>
                  </a:lnTo>
                  <a:lnTo>
                    <a:pt x="677" y="567"/>
                  </a:lnTo>
                  <a:lnTo>
                    <a:pt x="690" y="550"/>
                  </a:lnTo>
                  <a:lnTo>
                    <a:pt x="705" y="533"/>
                  </a:lnTo>
                  <a:lnTo>
                    <a:pt x="722" y="517"/>
                  </a:lnTo>
                  <a:lnTo>
                    <a:pt x="739" y="501"/>
                  </a:lnTo>
                  <a:lnTo>
                    <a:pt x="757" y="486"/>
                  </a:lnTo>
                  <a:lnTo>
                    <a:pt x="776" y="472"/>
                  </a:lnTo>
                  <a:lnTo>
                    <a:pt x="812" y="450"/>
                  </a:lnTo>
                  <a:lnTo>
                    <a:pt x="842" y="433"/>
                  </a:lnTo>
                  <a:lnTo>
                    <a:pt x="865" y="417"/>
                  </a:lnTo>
                  <a:lnTo>
                    <a:pt x="886" y="402"/>
                  </a:lnTo>
                  <a:lnTo>
                    <a:pt x="894" y="395"/>
                  </a:lnTo>
                  <a:lnTo>
                    <a:pt x="903" y="386"/>
                  </a:lnTo>
                  <a:lnTo>
                    <a:pt x="910" y="378"/>
                  </a:lnTo>
                  <a:lnTo>
                    <a:pt x="918" y="369"/>
                  </a:lnTo>
                  <a:lnTo>
                    <a:pt x="925" y="358"/>
                  </a:lnTo>
                  <a:lnTo>
                    <a:pt x="933" y="347"/>
                  </a:lnTo>
                  <a:lnTo>
                    <a:pt x="940" y="335"/>
                  </a:lnTo>
                  <a:lnTo>
                    <a:pt x="947" y="321"/>
                  </a:lnTo>
                  <a:lnTo>
                    <a:pt x="951" y="315"/>
                  </a:lnTo>
                  <a:lnTo>
                    <a:pt x="961" y="301"/>
                  </a:lnTo>
                  <a:lnTo>
                    <a:pt x="968" y="290"/>
                  </a:lnTo>
                  <a:lnTo>
                    <a:pt x="979" y="279"/>
                  </a:lnTo>
                  <a:lnTo>
                    <a:pt x="993" y="267"/>
                  </a:lnTo>
                  <a:lnTo>
                    <a:pt x="1010" y="253"/>
                  </a:lnTo>
                  <a:lnTo>
                    <a:pt x="1030" y="239"/>
                  </a:lnTo>
                  <a:lnTo>
                    <a:pt x="1053" y="224"/>
                  </a:lnTo>
                  <a:lnTo>
                    <a:pt x="1081" y="209"/>
                  </a:lnTo>
                  <a:lnTo>
                    <a:pt x="1112" y="194"/>
                  </a:lnTo>
                  <a:lnTo>
                    <a:pt x="1149" y="181"/>
                  </a:lnTo>
                  <a:lnTo>
                    <a:pt x="1190" y="167"/>
                  </a:lnTo>
                  <a:lnTo>
                    <a:pt x="1212" y="161"/>
                  </a:lnTo>
                  <a:lnTo>
                    <a:pt x="1236" y="155"/>
                  </a:lnTo>
                  <a:lnTo>
                    <a:pt x="1261" y="149"/>
                  </a:lnTo>
                  <a:lnTo>
                    <a:pt x="1287" y="144"/>
                  </a:lnTo>
                  <a:lnTo>
                    <a:pt x="1341" y="134"/>
                  </a:lnTo>
                  <a:lnTo>
                    <a:pt x="1393" y="122"/>
                  </a:lnTo>
                  <a:lnTo>
                    <a:pt x="1442" y="109"/>
                  </a:lnTo>
                  <a:lnTo>
                    <a:pt x="1490" y="96"/>
                  </a:lnTo>
                  <a:lnTo>
                    <a:pt x="1578" y="68"/>
                  </a:lnTo>
                  <a:lnTo>
                    <a:pt x="1657" y="42"/>
                  </a:lnTo>
                  <a:lnTo>
                    <a:pt x="1693" y="30"/>
                  </a:lnTo>
                  <a:lnTo>
                    <a:pt x="1726" y="20"/>
                  </a:lnTo>
                  <a:lnTo>
                    <a:pt x="1756" y="11"/>
                  </a:lnTo>
                  <a:lnTo>
                    <a:pt x="1781" y="5"/>
                  </a:lnTo>
                  <a:lnTo>
                    <a:pt x="1805" y="1"/>
                  </a:lnTo>
                  <a:lnTo>
                    <a:pt x="1824" y="0"/>
                  </a:lnTo>
                  <a:lnTo>
                    <a:pt x="1833" y="1"/>
                  </a:lnTo>
                  <a:lnTo>
                    <a:pt x="1840" y="2"/>
                  </a:lnTo>
                  <a:lnTo>
                    <a:pt x="1847" y="5"/>
                  </a:lnTo>
                  <a:lnTo>
                    <a:pt x="1853" y="9"/>
                  </a:lnTo>
                  <a:lnTo>
                    <a:pt x="1863" y="17"/>
                  </a:lnTo>
                  <a:lnTo>
                    <a:pt x="1872" y="27"/>
                  </a:lnTo>
                  <a:lnTo>
                    <a:pt x="1882" y="41"/>
                  </a:lnTo>
                  <a:lnTo>
                    <a:pt x="1893" y="57"/>
                  </a:lnTo>
                  <a:lnTo>
                    <a:pt x="1903" y="74"/>
                  </a:lnTo>
                  <a:lnTo>
                    <a:pt x="1914" y="93"/>
                  </a:lnTo>
                  <a:lnTo>
                    <a:pt x="1925" y="116"/>
                  </a:lnTo>
                  <a:lnTo>
                    <a:pt x="1935" y="140"/>
                  </a:lnTo>
                  <a:lnTo>
                    <a:pt x="1945" y="166"/>
                  </a:lnTo>
                  <a:lnTo>
                    <a:pt x="1956" y="194"/>
                  </a:lnTo>
                  <a:lnTo>
                    <a:pt x="1966" y="224"/>
                  </a:lnTo>
                  <a:lnTo>
                    <a:pt x="1976" y="256"/>
                  </a:lnTo>
                  <a:lnTo>
                    <a:pt x="1984" y="289"/>
                  </a:lnTo>
                  <a:lnTo>
                    <a:pt x="1993" y="325"/>
                  </a:lnTo>
                  <a:lnTo>
                    <a:pt x="2002" y="362"/>
                  </a:lnTo>
                  <a:lnTo>
                    <a:pt x="2010" y="400"/>
                  </a:lnTo>
                  <a:lnTo>
                    <a:pt x="2013" y="419"/>
                  </a:lnTo>
                  <a:lnTo>
                    <a:pt x="2015" y="438"/>
                  </a:lnTo>
                  <a:lnTo>
                    <a:pt x="2018" y="456"/>
                  </a:lnTo>
                  <a:lnTo>
                    <a:pt x="2019" y="475"/>
                  </a:lnTo>
                  <a:lnTo>
                    <a:pt x="2019" y="492"/>
                  </a:lnTo>
                  <a:lnTo>
                    <a:pt x="2019" y="509"/>
                  </a:lnTo>
                  <a:lnTo>
                    <a:pt x="2018" y="525"/>
                  </a:lnTo>
                  <a:lnTo>
                    <a:pt x="2016" y="540"/>
                  </a:lnTo>
                  <a:lnTo>
                    <a:pt x="2014" y="555"/>
                  </a:lnTo>
                  <a:lnTo>
                    <a:pt x="2010" y="568"/>
                  </a:lnTo>
                  <a:lnTo>
                    <a:pt x="2007" y="582"/>
                  </a:lnTo>
                  <a:lnTo>
                    <a:pt x="2003" y="594"/>
                  </a:lnTo>
                  <a:lnTo>
                    <a:pt x="1997" y="605"/>
                  </a:lnTo>
                  <a:lnTo>
                    <a:pt x="1992" y="616"/>
                  </a:lnTo>
                  <a:lnTo>
                    <a:pt x="1986" y="625"/>
                  </a:lnTo>
                  <a:lnTo>
                    <a:pt x="1978" y="633"/>
                  </a:lnTo>
                  <a:lnTo>
                    <a:pt x="1971" y="641"/>
                  </a:lnTo>
                  <a:lnTo>
                    <a:pt x="1962" y="648"/>
                  </a:lnTo>
                  <a:lnTo>
                    <a:pt x="1952" y="653"/>
                  </a:lnTo>
                  <a:lnTo>
                    <a:pt x="1944" y="658"/>
                  </a:lnTo>
                  <a:lnTo>
                    <a:pt x="1933" y="660"/>
                  </a:lnTo>
                  <a:lnTo>
                    <a:pt x="1922" y="663"/>
                  </a:lnTo>
                  <a:lnTo>
                    <a:pt x="1911" y="663"/>
                  </a:lnTo>
                  <a:lnTo>
                    <a:pt x="1898" y="663"/>
                  </a:lnTo>
                  <a:lnTo>
                    <a:pt x="1886" y="662"/>
                  </a:lnTo>
                  <a:lnTo>
                    <a:pt x="1872" y="658"/>
                  </a:lnTo>
                  <a:lnTo>
                    <a:pt x="1858" y="654"/>
                  </a:lnTo>
                  <a:lnTo>
                    <a:pt x="1844" y="648"/>
                  </a:lnTo>
                  <a:lnTo>
                    <a:pt x="1828" y="641"/>
                  </a:lnTo>
                  <a:lnTo>
                    <a:pt x="1812" y="632"/>
                  </a:lnTo>
                  <a:lnTo>
                    <a:pt x="1796" y="622"/>
                  </a:lnTo>
                  <a:lnTo>
                    <a:pt x="1779" y="611"/>
                  </a:lnTo>
                  <a:close/>
                </a:path>
              </a:pathLst>
            </a:custGeom>
            <a:solidFill>
              <a:srgbClr val="e8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5519880" y="2870280"/>
              <a:ext cx="615960" cy="422280"/>
            </a:xfrm>
            <a:custGeom>
              <a:avLst/>
              <a:gdLst/>
              <a:ahLst/>
              <a:rect l="l" t="t" r="r" b="b"/>
              <a:pathLst>
                <a:path w="1938" h="1332">
                  <a:moveTo>
                    <a:pt x="1657" y="506"/>
                  </a:moveTo>
                  <a:lnTo>
                    <a:pt x="1623" y="482"/>
                  </a:lnTo>
                  <a:lnTo>
                    <a:pt x="1593" y="462"/>
                  </a:lnTo>
                  <a:lnTo>
                    <a:pt x="1563" y="445"/>
                  </a:lnTo>
                  <a:lnTo>
                    <a:pt x="1535" y="430"/>
                  </a:lnTo>
                  <a:lnTo>
                    <a:pt x="1508" y="417"/>
                  </a:lnTo>
                  <a:lnTo>
                    <a:pt x="1482" y="406"/>
                  </a:lnTo>
                  <a:lnTo>
                    <a:pt x="1456" y="397"/>
                  </a:lnTo>
                  <a:lnTo>
                    <a:pt x="1433" y="390"/>
                  </a:lnTo>
                  <a:lnTo>
                    <a:pt x="1408" y="385"/>
                  </a:lnTo>
                  <a:lnTo>
                    <a:pt x="1385" y="380"/>
                  </a:lnTo>
                  <a:lnTo>
                    <a:pt x="1363" y="378"/>
                  </a:lnTo>
                  <a:lnTo>
                    <a:pt x="1339" y="375"/>
                  </a:lnTo>
                  <a:lnTo>
                    <a:pt x="1293" y="373"/>
                  </a:lnTo>
                  <a:lnTo>
                    <a:pt x="1245" y="373"/>
                  </a:lnTo>
                  <a:lnTo>
                    <a:pt x="1221" y="374"/>
                  </a:lnTo>
                  <a:lnTo>
                    <a:pt x="1203" y="376"/>
                  </a:lnTo>
                  <a:lnTo>
                    <a:pt x="1187" y="380"/>
                  </a:lnTo>
                  <a:lnTo>
                    <a:pt x="1174" y="385"/>
                  </a:lnTo>
                  <a:lnTo>
                    <a:pt x="1170" y="387"/>
                  </a:lnTo>
                  <a:lnTo>
                    <a:pt x="1165" y="391"/>
                  </a:lnTo>
                  <a:lnTo>
                    <a:pt x="1161" y="395"/>
                  </a:lnTo>
                  <a:lnTo>
                    <a:pt x="1158" y="400"/>
                  </a:lnTo>
                  <a:lnTo>
                    <a:pt x="1156" y="403"/>
                  </a:lnTo>
                  <a:lnTo>
                    <a:pt x="1155" y="408"/>
                  </a:lnTo>
                  <a:lnTo>
                    <a:pt x="1154" y="413"/>
                  </a:lnTo>
                  <a:lnTo>
                    <a:pt x="1152" y="418"/>
                  </a:lnTo>
                  <a:lnTo>
                    <a:pt x="1152" y="429"/>
                  </a:lnTo>
                  <a:lnTo>
                    <a:pt x="1155" y="440"/>
                  </a:lnTo>
                  <a:lnTo>
                    <a:pt x="1158" y="454"/>
                  </a:lnTo>
                  <a:lnTo>
                    <a:pt x="1163" y="466"/>
                  </a:lnTo>
                  <a:lnTo>
                    <a:pt x="1178" y="494"/>
                  </a:lnTo>
                  <a:lnTo>
                    <a:pt x="1195" y="525"/>
                  </a:lnTo>
                  <a:lnTo>
                    <a:pt x="1204" y="540"/>
                  </a:lnTo>
                  <a:lnTo>
                    <a:pt x="1214" y="552"/>
                  </a:lnTo>
                  <a:lnTo>
                    <a:pt x="1224" y="565"/>
                  </a:lnTo>
                  <a:lnTo>
                    <a:pt x="1232" y="574"/>
                  </a:lnTo>
                  <a:lnTo>
                    <a:pt x="1240" y="583"/>
                  </a:lnTo>
                  <a:lnTo>
                    <a:pt x="1245" y="590"/>
                  </a:lnTo>
                  <a:lnTo>
                    <a:pt x="1248" y="595"/>
                  </a:lnTo>
                  <a:lnTo>
                    <a:pt x="1248" y="600"/>
                  </a:lnTo>
                  <a:lnTo>
                    <a:pt x="1248" y="601"/>
                  </a:lnTo>
                  <a:lnTo>
                    <a:pt x="1246" y="604"/>
                  </a:lnTo>
                  <a:lnTo>
                    <a:pt x="1243" y="604"/>
                  </a:lnTo>
                  <a:lnTo>
                    <a:pt x="1241" y="605"/>
                  </a:lnTo>
                  <a:lnTo>
                    <a:pt x="1230" y="606"/>
                  </a:lnTo>
                  <a:lnTo>
                    <a:pt x="1216" y="606"/>
                  </a:lnTo>
                  <a:lnTo>
                    <a:pt x="1171" y="604"/>
                  </a:lnTo>
                  <a:lnTo>
                    <a:pt x="1103" y="598"/>
                  </a:lnTo>
                  <a:lnTo>
                    <a:pt x="1030" y="592"/>
                  </a:lnTo>
                  <a:lnTo>
                    <a:pt x="974" y="588"/>
                  </a:lnTo>
                  <a:lnTo>
                    <a:pt x="930" y="585"/>
                  </a:lnTo>
                  <a:lnTo>
                    <a:pt x="895" y="584"/>
                  </a:lnTo>
                  <a:lnTo>
                    <a:pt x="880" y="585"/>
                  </a:lnTo>
                  <a:lnTo>
                    <a:pt x="868" y="585"/>
                  </a:lnTo>
                  <a:lnTo>
                    <a:pt x="857" y="588"/>
                  </a:lnTo>
                  <a:lnTo>
                    <a:pt x="847" y="589"/>
                  </a:lnTo>
                  <a:lnTo>
                    <a:pt x="827" y="595"/>
                  </a:lnTo>
                  <a:lnTo>
                    <a:pt x="809" y="604"/>
                  </a:lnTo>
                  <a:lnTo>
                    <a:pt x="791" y="614"/>
                  </a:lnTo>
                  <a:lnTo>
                    <a:pt x="775" y="625"/>
                  </a:lnTo>
                  <a:lnTo>
                    <a:pt x="767" y="631"/>
                  </a:lnTo>
                  <a:lnTo>
                    <a:pt x="762" y="636"/>
                  </a:lnTo>
                  <a:lnTo>
                    <a:pt x="759" y="642"/>
                  </a:lnTo>
                  <a:lnTo>
                    <a:pt x="755" y="648"/>
                  </a:lnTo>
                  <a:lnTo>
                    <a:pt x="754" y="656"/>
                  </a:lnTo>
                  <a:lnTo>
                    <a:pt x="755" y="662"/>
                  </a:lnTo>
                  <a:lnTo>
                    <a:pt x="757" y="668"/>
                  </a:lnTo>
                  <a:lnTo>
                    <a:pt x="761" y="675"/>
                  </a:lnTo>
                  <a:lnTo>
                    <a:pt x="768" y="681"/>
                  </a:lnTo>
                  <a:lnTo>
                    <a:pt x="777" y="689"/>
                  </a:lnTo>
                  <a:lnTo>
                    <a:pt x="788" y="696"/>
                  </a:lnTo>
                  <a:lnTo>
                    <a:pt x="802" y="704"/>
                  </a:lnTo>
                  <a:lnTo>
                    <a:pt x="832" y="720"/>
                  </a:lnTo>
                  <a:lnTo>
                    <a:pt x="868" y="737"/>
                  </a:lnTo>
                  <a:lnTo>
                    <a:pt x="904" y="755"/>
                  </a:lnTo>
                  <a:lnTo>
                    <a:pt x="942" y="775"/>
                  </a:lnTo>
                  <a:lnTo>
                    <a:pt x="978" y="793"/>
                  </a:lnTo>
                  <a:lnTo>
                    <a:pt x="1012" y="812"/>
                  </a:lnTo>
                  <a:lnTo>
                    <a:pt x="1042" y="827"/>
                  </a:lnTo>
                  <a:lnTo>
                    <a:pt x="1067" y="840"/>
                  </a:lnTo>
                  <a:lnTo>
                    <a:pt x="1081" y="846"/>
                  </a:lnTo>
                  <a:lnTo>
                    <a:pt x="1093" y="852"/>
                  </a:lnTo>
                  <a:lnTo>
                    <a:pt x="1102" y="857"/>
                  </a:lnTo>
                  <a:lnTo>
                    <a:pt x="1110" y="862"/>
                  </a:lnTo>
                  <a:lnTo>
                    <a:pt x="1114" y="867"/>
                  </a:lnTo>
                  <a:lnTo>
                    <a:pt x="1117" y="871"/>
                  </a:lnTo>
                  <a:lnTo>
                    <a:pt x="1117" y="873"/>
                  </a:lnTo>
                  <a:lnTo>
                    <a:pt x="1115" y="875"/>
                  </a:lnTo>
                  <a:lnTo>
                    <a:pt x="1114" y="876"/>
                  </a:lnTo>
                  <a:lnTo>
                    <a:pt x="1112" y="877"/>
                  </a:lnTo>
                  <a:lnTo>
                    <a:pt x="1103" y="877"/>
                  </a:lnTo>
                  <a:lnTo>
                    <a:pt x="1091" y="877"/>
                  </a:lnTo>
                  <a:lnTo>
                    <a:pt x="1075" y="876"/>
                  </a:lnTo>
                  <a:lnTo>
                    <a:pt x="1054" y="872"/>
                  </a:lnTo>
                  <a:lnTo>
                    <a:pt x="1028" y="867"/>
                  </a:lnTo>
                  <a:lnTo>
                    <a:pt x="999" y="860"/>
                  </a:lnTo>
                  <a:lnTo>
                    <a:pt x="962" y="851"/>
                  </a:lnTo>
                  <a:lnTo>
                    <a:pt x="921" y="840"/>
                  </a:lnTo>
                  <a:lnTo>
                    <a:pt x="899" y="834"/>
                  </a:lnTo>
                  <a:lnTo>
                    <a:pt x="878" y="830"/>
                  </a:lnTo>
                  <a:lnTo>
                    <a:pt x="857" y="828"/>
                  </a:lnTo>
                  <a:lnTo>
                    <a:pt x="837" y="827"/>
                  </a:lnTo>
                  <a:lnTo>
                    <a:pt x="818" y="827"/>
                  </a:lnTo>
                  <a:lnTo>
                    <a:pt x="799" y="828"/>
                  </a:lnTo>
                  <a:lnTo>
                    <a:pt x="781" y="830"/>
                  </a:lnTo>
                  <a:lnTo>
                    <a:pt x="762" y="834"/>
                  </a:lnTo>
                  <a:lnTo>
                    <a:pt x="746" y="838"/>
                  </a:lnTo>
                  <a:lnTo>
                    <a:pt x="729" y="843"/>
                  </a:lnTo>
                  <a:lnTo>
                    <a:pt x="714" y="849"/>
                  </a:lnTo>
                  <a:lnTo>
                    <a:pt x="700" y="855"/>
                  </a:lnTo>
                  <a:lnTo>
                    <a:pt x="685" y="862"/>
                  </a:lnTo>
                  <a:lnTo>
                    <a:pt x="671" y="870"/>
                  </a:lnTo>
                  <a:lnTo>
                    <a:pt x="658" y="877"/>
                  </a:lnTo>
                  <a:lnTo>
                    <a:pt x="645" y="884"/>
                  </a:lnTo>
                  <a:lnTo>
                    <a:pt x="623" y="900"/>
                  </a:lnTo>
                  <a:lnTo>
                    <a:pt x="604" y="918"/>
                  </a:lnTo>
                  <a:lnTo>
                    <a:pt x="588" y="934"/>
                  </a:lnTo>
                  <a:lnTo>
                    <a:pt x="573" y="947"/>
                  </a:lnTo>
                  <a:lnTo>
                    <a:pt x="554" y="969"/>
                  </a:lnTo>
                  <a:lnTo>
                    <a:pt x="548" y="978"/>
                  </a:lnTo>
                  <a:lnTo>
                    <a:pt x="552" y="980"/>
                  </a:lnTo>
                  <a:lnTo>
                    <a:pt x="562" y="984"/>
                  </a:lnTo>
                  <a:lnTo>
                    <a:pt x="577" y="990"/>
                  </a:lnTo>
                  <a:lnTo>
                    <a:pt x="595" y="1000"/>
                  </a:lnTo>
                  <a:lnTo>
                    <a:pt x="617" y="1011"/>
                  </a:lnTo>
                  <a:lnTo>
                    <a:pt x="642" y="1025"/>
                  </a:lnTo>
                  <a:lnTo>
                    <a:pt x="666" y="1039"/>
                  </a:lnTo>
                  <a:lnTo>
                    <a:pt x="692" y="1057"/>
                  </a:lnTo>
                  <a:lnTo>
                    <a:pt x="702" y="1064"/>
                  </a:lnTo>
                  <a:lnTo>
                    <a:pt x="708" y="1070"/>
                  </a:lnTo>
                  <a:lnTo>
                    <a:pt x="714" y="1076"/>
                  </a:lnTo>
                  <a:lnTo>
                    <a:pt x="718" y="1082"/>
                  </a:lnTo>
                  <a:lnTo>
                    <a:pt x="719" y="1087"/>
                  </a:lnTo>
                  <a:lnTo>
                    <a:pt x="718" y="1092"/>
                  </a:lnTo>
                  <a:lnTo>
                    <a:pt x="716" y="1097"/>
                  </a:lnTo>
                  <a:lnTo>
                    <a:pt x="709" y="1102"/>
                  </a:lnTo>
                  <a:lnTo>
                    <a:pt x="701" y="1106"/>
                  </a:lnTo>
                  <a:lnTo>
                    <a:pt x="688" y="1111"/>
                  </a:lnTo>
                  <a:lnTo>
                    <a:pt x="674" y="1114"/>
                  </a:lnTo>
                  <a:lnTo>
                    <a:pt x="656" y="1118"/>
                  </a:lnTo>
                  <a:lnTo>
                    <a:pt x="610" y="1124"/>
                  </a:lnTo>
                  <a:lnTo>
                    <a:pt x="548" y="1130"/>
                  </a:lnTo>
                  <a:lnTo>
                    <a:pt x="515" y="1133"/>
                  </a:lnTo>
                  <a:lnTo>
                    <a:pt x="482" y="1138"/>
                  </a:lnTo>
                  <a:lnTo>
                    <a:pt x="449" y="1143"/>
                  </a:lnTo>
                  <a:lnTo>
                    <a:pt x="414" y="1150"/>
                  </a:lnTo>
                  <a:lnTo>
                    <a:pt x="380" y="1159"/>
                  </a:lnTo>
                  <a:lnTo>
                    <a:pt x="345" y="1167"/>
                  </a:lnTo>
                  <a:lnTo>
                    <a:pt x="312" y="1178"/>
                  </a:lnTo>
                  <a:lnTo>
                    <a:pt x="279" y="1189"/>
                  </a:lnTo>
                  <a:lnTo>
                    <a:pt x="246" y="1202"/>
                  </a:lnTo>
                  <a:lnTo>
                    <a:pt x="212" y="1215"/>
                  </a:lnTo>
                  <a:lnTo>
                    <a:pt x="182" y="1230"/>
                  </a:lnTo>
                  <a:lnTo>
                    <a:pt x="151" y="1245"/>
                  </a:lnTo>
                  <a:lnTo>
                    <a:pt x="121" y="1259"/>
                  </a:lnTo>
                  <a:lnTo>
                    <a:pt x="93" y="1275"/>
                  </a:lnTo>
                  <a:lnTo>
                    <a:pt x="66" y="1293"/>
                  </a:lnTo>
                  <a:lnTo>
                    <a:pt x="40" y="1310"/>
                  </a:lnTo>
                  <a:lnTo>
                    <a:pt x="20" y="1323"/>
                  </a:lnTo>
                  <a:lnTo>
                    <a:pt x="7" y="1331"/>
                  </a:lnTo>
                  <a:lnTo>
                    <a:pt x="3" y="1332"/>
                  </a:lnTo>
                  <a:lnTo>
                    <a:pt x="1" y="1332"/>
                  </a:lnTo>
                  <a:lnTo>
                    <a:pt x="0" y="1330"/>
                  </a:lnTo>
                  <a:lnTo>
                    <a:pt x="1" y="1327"/>
                  </a:lnTo>
                  <a:lnTo>
                    <a:pt x="7" y="1317"/>
                  </a:lnTo>
                  <a:lnTo>
                    <a:pt x="19" y="1304"/>
                  </a:lnTo>
                  <a:lnTo>
                    <a:pt x="36" y="1288"/>
                  </a:lnTo>
                  <a:lnTo>
                    <a:pt x="59" y="1267"/>
                  </a:lnTo>
                  <a:lnTo>
                    <a:pt x="86" y="1245"/>
                  </a:lnTo>
                  <a:lnTo>
                    <a:pt x="115" y="1221"/>
                  </a:lnTo>
                  <a:lnTo>
                    <a:pt x="150" y="1196"/>
                  </a:lnTo>
                  <a:lnTo>
                    <a:pt x="187" y="1170"/>
                  </a:lnTo>
                  <a:lnTo>
                    <a:pt x="225" y="1145"/>
                  </a:lnTo>
                  <a:lnTo>
                    <a:pt x="266" y="1121"/>
                  </a:lnTo>
                  <a:lnTo>
                    <a:pt x="310" y="1097"/>
                  </a:lnTo>
                  <a:lnTo>
                    <a:pt x="353" y="1076"/>
                  </a:lnTo>
                  <a:lnTo>
                    <a:pt x="392" y="1059"/>
                  </a:lnTo>
                  <a:lnTo>
                    <a:pt x="419" y="1045"/>
                  </a:lnTo>
                  <a:lnTo>
                    <a:pt x="438" y="1036"/>
                  </a:lnTo>
                  <a:lnTo>
                    <a:pt x="449" y="1028"/>
                  </a:lnTo>
                  <a:lnTo>
                    <a:pt x="450" y="1025"/>
                  </a:lnTo>
                  <a:lnTo>
                    <a:pt x="451" y="1022"/>
                  </a:lnTo>
                  <a:lnTo>
                    <a:pt x="450" y="1021"/>
                  </a:lnTo>
                  <a:lnTo>
                    <a:pt x="447" y="1020"/>
                  </a:lnTo>
                  <a:lnTo>
                    <a:pt x="439" y="1017"/>
                  </a:lnTo>
                  <a:lnTo>
                    <a:pt x="426" y="1017"/>
                  </a:lnTo>
                  <a:lnTo>
                    <a:pt x="393" y="1016"/>
                  </a:lnTo>
                  <a:lnTo>
                    <a:pt x="358" y="1012"/>
                  </a:lnTo>
                  <a:lnTo>
                    <a:pt x="349" y="1011"/>
                  </a:lnTo>
                  <a:lnTo>
                    <a:pt x="342" y="1009"/>
                  </a:lnTo>
                  <a:lnTo>
                    <a:pt x="334" y="1006"/>
                  </a:lnTo>
                  <a:lnTo>
                    <a:pt x="328" y="1002"/>
                  </a:lnTo>
                  <a:lnTo>
                    <a:pt x="322" y="999"/>
                  </a:lnTo>
                  <a:lnTo>
                    <a:pt x="317" y="995"/>
                  </a:lnTo>
                  <a:lnTo>
                    <a:pt x="314" y="990"/>
                  </a:lnTo>
                  <a:lnTo>
                    <a:pt x="312" y="984"/>
                  </a:lnTo>
                  <a:lnTo>
                    <a:pt x="311" y="972"/>
                  </a:lnTo>
                  <a:lnTo>
                    <a:pt x="310" y="959"/>
                  </a:lnTo>
                  <a:lnTo>
                    <a:pt x="311" y="947"/>
                  </a:lnTo>
                  <a:lnTo>
                    <a:pt x="313" y="935"/>
                  </a:lnTo>
                  <a:lnTo>
                    <a:pt x="317" y="922"/>
                  </a:lnTo>
                  <a:lnTo>
                    <a:pt x="322" y="910"/>
                  </a:lnTo>
                  <a:lnTo>
                    <a:pt x="329" y="897"/>
                  </a:lnTo>
                  <a:lnTo>
                    <a:pt x="339" y="884"/>
                  </a:lnTo>
                  <a:lnTo>
                    <a:pt x="351" y="872"/>
                  </a:lnTo>
                  <a:lnTo>
                    <a:pt x="365" y="860"/>
                  </a:lnTo>
                  <a:lnTo>
                    <a:pt x="382" y="847"/>
                  </a:lnTo>
                  <a:lnTo>
                    <a:pt x="402" y="835"/>
                  </a:lnTo>
                  <a:lnTo>
                    <a:pt x="425" y="823"/>
                  </a:lnTo>
                  <a:lnTo>
                    <a:pt x="451" y="811"/>
                  </a:lnTo>
                  <a:lnTo>
                    <a:pt x="481" y="798"/>
                  </a:lnTo>
                  <a:lnTo>
                    <a:pt x="514" y="786"/>
                  </a:lnTo>
                  <a:lnTo>
                    <a:pt x="522" y="783"/>
                  </a:lnTo>
                  <a:lnTo>
                    <a:pt x="546" y="780"/>
                  </a:lnTo>
                  <a:lnTo>
                    <a:pt x="561" y="777"/>
                  </a:lnTo>
                  <a:lnTo>
                    <a:pt x="577" y="772"/>
                  </a:lnTo>
                  <a:lnTo>
                    <a:pt x="593" y="769"/>
                  </a:lnTo>
                  <a:lnTo>
                    <a:pt x="609" y="763"/>
                  </a:lnTo>
                  <a:lnTo>
                    <a:pt x="622" y="758"/>
                  </a:lnTo>
                  <a:lnTo>
                    <a:pt x="633" y="750"/>
                  </a:lnTo>
                  <a:lnTo>
                    <a:pt x="638" y="747"/>
                  </a:lnTo>
                  <a:lnTo>
                    <a:pt x="642" y="743"/>
                  </a:lnTo>
                  <a:lnTo>
                    <a:pt x="644" y="739"/>
                  </a:lnTo>
                  <a:lnTo>
                    <a:pt x="647" y="736"/>
                  </a:lnTo>
                  <a:lnTo>
                    <a:pt x="647" y="731"/>
                  </a:lnTo>
                  <a:lnTo>
                    <a:pt x="645" y="727"/>
                  </a:lnTo>
                  <a:lnTo>
                    <a:pt x="643" y="722"/>
                  </a:lnTo>
                  <a:lnTo>
                    <a:pt x="639" y="717"/>
                  </a:lnTo>
                  <a:lnTo>
                    <a:pt x="633" y="712"/>
                  </a:lnTo>
                  <a:lnTo>
                    <a:pt x="626" y="707"/>
                  </a:lnTo>
                  <a:lnTo>
                    <a:pt x="617" y="701"/>
                  </a:lnTo>
                  <a:lnTo>
                    <a:pt x="606" y="696"/>
                  </a:lnTo>
                  <a:lnTo>
                    <a:pt x="602" y="694"/>
                  </a:lnTo>
                  <a:lnTo>
                    <a:pt x="601" y="690"/>
                  </a:lnTo>
                  <a:lnTo>
                    <a:pt x="599" y="686"/>
                  </a:lnTo>
                  <a:lnTo>
                    <a:pt x="597" y="683"/>
                  </a:lnTo>
                  <a:lnTo>
                    <a:pt x="597" y="673"/>
                  </a:lnTo>
                  <a:lnTo>
                    <a:pt x="600" y="660"/>
                  </a:lnTo>
                  <a:lnTo>
                    <a:pt x="604" y="647"/>
                  </a:lnTo>
                  <a:lnTo>
                    <a:pt x="609" y="632"/>
                  </a:lnTo>
                  <a:lnTo>
                    <a:pt x="616" y="616"/>
                  </a:lnTo>
                  <a:lnTo>
                    <a:pt x="626" y="599"/>
                  </a:lnTo>
                  <a:lnTo>
                    <a:pt x="637" y="582"/>
                  </a:lnTo>
                  <a:lnTo>
                    <a:pt x="649" y="565"/>
                  </a:lnTo>
                  <a:lnTo>
                    <a:pt x="663" y="547"/>
                  </a:lnTo>
                  <a:lnTo>
                    <a:pt x="677" y="530"/>
                  </a:lnTo>
                  <a:lnTo>
                    <a:pt x="695" y="514"/>
                  </a:lnTo>
                  <a:lnTo>
                    <a:pt x="712" y="498"/>
                  </a:lnTo>
                  <a:lnTo>
                    <a:pt x="730" y="483"/>
                  </a:lnTo>
                  <a:lnTo>
                    <a:pt x="750" y="470"/>
                  </a:lnTo>
                  <a:lnTo>
                    <a:pt x="786" y="449"/>
                  </a:lnTo>
                  <a:lnTo>
                    <a:pt x="815" y="430"/>
                  </a:lnTo>
                  <a:lnTo>
                    <a:pt x="840" y="416"/>
                  </a:lnTo>
                  <a:lnTo>
                    <a:pt x="859" y="401"/>
                  </a:lnTo>
                  <a:lnTo>
                    <a:pt x="868" y="394"/>
                  </a:lnTo>
                  <a:lnTo>
                    <a:pt x="877" y="386"/>
                  </a:lnTo>
                  <a:lnTo>
                    <a:pt x="884" y="378"/>
                  </a:lnTo>
                  <a:lnTo>
                    <a:pt x="891" y="369"/>
                  </a:lnTo>
                  <a:lnTo>
                    <a:pt x="906" y="347"/>
                  </a:lnTo>
                  <a:lnTo>
                    <a:pt x="921" y="321"/>
                  </a:lnTo>
                  <a:lnTo>
                    <a:pt x="922" y="315"/>
                  </a:lnTo>
                  <a:lnTo>
                    <a:pt x="931" y="299"/>
                  </a:lnTo>
                  <a:lnTo>
                    <a:pt x="937" y="288"/>
                  </a:lnTo>
                  <a:lnTo>
                    <a:pt x="947" y="274"/>
                  </a:lnTo>
                  <a:lnTo>
                    <a:pt x="958" y="260"/>
                  </a:lnTo>
                  <a:lnTo>
                    <a:pt x="973" y="245"/>
                  </a:lnTo>
                  <a:lnTo>
                    <a:pt x="991" y="229"/>
                  </a:lnTo>
                  <a:lnTo>
                    <a:pt x="1013" y="213"/>
                  </a:lnTo>
                  <a:lnTo>
                    <a:pt x="1039" y="197"/>
                  </a:lnTo>
                  <a:lnTo>
                    <a:pt x="1070" y="181"/>
                  </a:lnTo>
                  <a:lnTo>
                    <a:pt x="1087" y="173"/>
                  </a:lnTo>
                  <a:lnTo>
                    <a:pt x="1104" y="166"/>
                  </a:lnTo>
                  <a:lnTo>
                    <a:pt x="1124" y="159"/>
                  </a:lnTo>
                  <a:lnTo>
                    <a:pt x="1145" y="152"/>
                  </a:lnTo>
                  <a:lnTo>
                    <a:pt x="1167" y="145"/>
                  </a:lnTo>
                  <a:lnTo>
                    <a:pt x="1190" y="139"/>
                  </a:lnTo>
                  <a:lnTo>
                    <a:pt x="1215" y="134"/>
                  </a:lnTo>
                  <a:lnTo>
                    <a:pt x="1241" y="128"/>
                  </a:lnTo>
                  <a:lnTo>
                    <a:pt x="1294" y="118"/>
                  </a:lnTo>
                  <a:lnTo>
                    <a:pt x="1344" y="107"/>
                  </a:lnTo>
                  <a:lnTo>
                    <a:pt x="1392" y="95"/>
                  </a:lnTo>
                  <a:lnTo>
                    <a:pt x="1439" y="82"/>
                  </a:lnTo>
                  <a:lnTo>
                    <a:pt x="1523" y="57"/>
                  </a:lnTo>
                  <a:lnTo>
                    <a:pt x="1595" y="33"/>
                  </a:lnTo>
                  <a:lnTo>
                    <a:pt x="1627" y="23"/>
                  </a:lnTo>
                  <a:lnTo>
                    <a:pt x="1658" y="15"/>
                  </a:lnTo>
                  <a:lnTo>
                    <a:pt x="1684" y="7"/>
                  </a:lnTo>
                  <a:lnTo>
                    <a:pt x="1708" y="2"/>
                  </a:lnTo>
                  <a:lnTo>
                    <a:pt x="1729" y="0"/>
                  </a:lnTo>
                  <a:lnTo>
                    <a:pt x="1748" y="0"/>
                  </a:lnTo>
                  <a:lnTo>
                    <a:pt x="1755" y="1"/>
                  </a:lnTo>
                  <a:lnTo>
                    <a:pt x="1763" y="2"/>
                  </a:lnTo>
                  <a:lnTo>
                    <a:pt x="1769" y="5"/>
                  </a:lnTo>
                  <a:lnTo>
                    <a:pt x="1774" y="9"/>
                  </a:lnTo>
                  <a:lnTo>
                    <a:pt x="1783" y="17"/>
                  </a:lnTo>
                  <a:lnTo>
                    <a:pt x="1793" y="27"/>
                  </a:lnTo>
                  <a:lnTo>
                    <a:pt x="1804" y="39"/>
                  </a:lnTo>
                  <a:lnTo>
                    <a:pt x="1814" y="53"/>
                  </a:lnTo>
                  <a:lnTo>
                    <a:pt x="1825" y="70"/>
                  </a:lnTo>
                  <a:lnTo>
                    <a:pt x="1835" y="87"/>
                  </a:lnTo>
                  <a:lnTo>
                    <a:pt x="1846" y="108"/>
                  </a:lnTo>
                  <a:lnTo>
                    <a:pt x="1857" y="130"/>
                  </a:lnTo>
                  <a:lnTo>
                    <a:pt x="1867" y="155"/>
                  </a:lnTo>
                  <a:lnTo>
                    <a:pt x="1877" y="181"/>
                  </a:lnTo>
                  <a:lnTo>
                    <a:pt x="1887" y="209"/>
                  </a:lnTo>
                  <a:lnTo>
                    <a:pt x="1897" y="240"/>
                  </a:lnTo>
                  <a:lnTo>
                    <a:pt x="1906" y="272"/>
                  </a:lnTo>
                  <a:lnTo>
                    <a:pt x="1915" y="306"/>
                  </a:lnTo>
                  <a:lnTo>
                    <a:pt x="1924" y="342"/>
                  </a:lnTo>
                  <a:lnTo>
                    <a:pt x="1931" y="381"/>
                  </a:lnTo>
                  <a:lnTo>
                    <a:pt x="1935" y="400"/>
                  </a:lnTo>
                  <a:lnTo>
                    <a:pt x="1937" y="418"/>
                  </a:lnTo>
                  <a:lnTo>
                    <a:pt x="1938" y="435"/>
                  </a:lnTo>
                  <a:lnTo>
                    <a:pt x="1938" y="453"/>
                  </a:lnTo>
                  <a:lnTo>
                    <a:pt x="1937" y="467"/>
                  </a:lnTo>
                  <a:lnTo>
                    <a:pt x="1936" y="482"/>
                  </a:lnTo>
                  <a:lnTo>
                    <a:pt x="1934" y="496"/>
                  </a:lnTo>
                  <a:lnTo>
                    <a:pt x="1931" y="508"/>
                  </a:lnTo>
                  <a:lnTo>
                    <a:pt x="1926" y="519"/>
                  </a:lnTo>
                  <a:lnTo>
                    <a:pt x="1921" y="530"/>
                  </a:lnTo>
                  <a:lnTo>
                    <a:pt x="1916" y="539"/>
                  </a:lnTo>
                  <a:lnTo>
                    <a:pt x="1910" y="547"/>
                  </a:lnTo>
                  <a:lnTo>
                    <a:pt x="1903" y="555"/>
                  </a:lnTo>
                  <a:lnTo>
                    <a:pt x="1895" y="562"/>
                  </a:lnTo>
                  <a:lnTo>
                    <a:pt x="1887" y="567"/>
                  </a:lnTo>
                  <a:lnTo>
                    <a:pt x="1878" y="572"/>
                  </a:lnTo>
                  <a:lnTo>
                    <a:pt x="1868" y="576"/>
                  </a:lnTo>
                  <a:lnTo>
                    <a:pt x="1857" y="577"/>
                  </a:lnTo>
                  <a:lnTo>
                    <a:pt x="1846" y="579"/>
                  </a:lnTo>
                  <a:lnTo>
                    <a:pt x="1835" y="579"/>
                  </a:lnTo>
                  <a:lnTo>
                    <a:pt x="1823" y="579"/>
                  </a:lnTo>
                  <a:lnTo>
                    <a:pt x="1810" y="577"/>
                  </a:lnTo>
                  <a:lnTo>
                    <a:pt x="1797" y="574"/>
                  </a:lnTo>
                  <a:lnTo>
                    <a:pt x="1783" y="571"/>
                  </a:lnTo>
                  <a:lnTo>
                    <a:pt x="1769" y="566"/>
                  </a:lnTo>
                  <a:lnTo>
                    <a:pt x="1754" y="561"/>
                  </a:lnTo>
                  <a:lnTo>
                    <a:pt x="1739" y="555"/>
                  </a:lnTo>
                  <a:lnTo>
                    <a:pt x="1723" y="546"/>
                  </a:lnTo>
                  <a:lnTo>
                    <a:pt x="1707" y="537"/>
                  </a:lnTo>
                  <a:lnTo>
                    <a:pt x="1691" y="528"/>
                  </a:lnTo>
                  <a:lnTo>
                    <a:pt x="1674" y="518"/>
                  </a:lnTo>
                  <a:lnTo>
                    <a:pt x="1657" y="506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5533920" y="2874960"/>
              <a:ext cx="590760" cy="406440"/>
            </a:xfrm>
            <a:custGeom>
              <a:avLst/>
              <a:gdLst/>
              <a:ahLst/>
              <a:rect l="l" t="t" r="r" b="b"/>
              <a:pathLst>
                <a:path w="1858" h="1279">
                  <a:moveTo>
                    <a:pt x="893" y="324"/>
                  </a:moveTo>
                  <a:lnTo>
                    <a:pt x="895" y="318"/>
                  </a:lnTo>
                  <a:lnTo>
                    <a:pt x="901" y="300"/>
                  </a:lnTo>
                  <a:lnTo>
                    <a:pt x="906" y="286"/>
                  </a:lnTo>
                  <a:lnTo>
                    <a:pt x="913" y="273"/>
                  </a:lnTo>
                  <a:lnTo>
                    <a:pt x="923" y="257"/>
                  </a:lnTo>
                  <a:lnTo>
                    <a:pt x="937" y="240"/>
                  </a:lnTo>
                  <a:lnTo>
                    <a:pt x="953" y="222"/>
                  </a:lnTo>
                  <a:lnTo>
                    <a:pt x="973" y="204"/>
                  </a:lnTo>
                  <a:lnTo>
                    <a:pt x="984" y="195"/>
                  </a:lnTo>
                  <a:lnTo>
                    <a:pt x="998" y="187"/>
                  </a:lnTo>
                  <a:lnTo>
                    <a:pt x="1012" y="178"/>
                  </a:lnTo>
                  <a:lnTo>
                    <a:pt x="1026" y="169"/>
                  </a:lnTo>
                  <a:lnTo>
                    <a:pt x="1044" y="161"/>
                  </a:lnTo>
                  <a:lnTo>
                    <a:pt x="1061" y="152"/>
                  </a:lnTo>
                  <a:lnTo>
                    <a:pt x="1079" y="145"/>
                  </a:lnTo>
                  <a:lnTo>
                    <a:pt x="1100" y="137"/>
                  </a:lnTo>
                  <a:lnTo>
                    <a:pt x="1121" y="131"/>
                  </a:lnTo>
                  <a:lnTo>
                    <a:pt x="1144" y="124"/>
                  </a:lnTo>
                  <a:lnTo>
                    <a:pt x="1169" y="119"/>
                  </a:lnTo>
                  <a:lnTo>
                    <a:pt x="1195" y="113"/>
                  </a:lnTo>
                  <a:lnTo>
                    <a:pt x="1248" y="103"/>
                  </a:lnTo>
                  <a:lnTo>
                    <a:pt x="1297" y="92"/>
                  </a:lnTo>
                  <a:lnTo>
                    <a:pt x="1344" y="81"/>
                  </a:lnTo>
                  <a:lnTo>
                    <a:pt x="1387" y="70"/>
                  </a:lnTo>
                  <a:lnTo>
                    <a:pt x="1466" y="46"/>
                  </a:lnTo>
                  <a:lnTo>
                    <a:pt x="1533" y="27"/>
                  </a:lnTo>
                  <a:lnTo>
                    <a:pt x="1563" y="18"/>
                  </a:lnTo>
                  <a:lnTo>
                    <a:pt x="1589" y="11"/>
                  </a:lnTo>
                  <a:lnTo>
                    <a:pt x="1613" y="6"/>
                  </a:lnTo>
                  <a:lnTo>
                    <a:pt x="1635" y="1"/>
                  </a:lnTo>
                  <a:lnTo>
                    <a:pt x="1654" y="0"/>
                  </a:lnTo>
                  <a:lnTo>
                    <a:pt x="1670" y="1"/>
                  </a:lnTo>
                  <a:lnTo>
                    <a:pt x="1677" y="2"/>
                  </a:lnTo>
                  <a:lnTo>
                    <a:pt x="1683" y="3"/>
                  </a:lnTo>
                  <a:lnTo>
                    <a:pt x="1689" y="6"/>
                  </a:lnTo>
                  <a:lnTo>
                    <a:pt x="1696" y="10"/>
                  </a:lnTo>
                  <a:lnTo>
                    <a:pt x="1705" y="18"/>
                  </a:lnTo>
                  <a:lnTo>
                    <a:pt x="1715" y="27"/>
                  </a:lnTo>
                  <a:lnTo>
                    <a:pt x="1725" y="39"/>
                  </a:lnTo>
                  <a:lnTo>
                    <a:pt x="1736" y="51"/>
                  </a:lnTo>
                  <a:lnTo>
                    <a:pt x="1746" y="66"/>
                  </a:lnTo>
                  <a:lnTo>
                    <a:pt x="1757" y="83"/>
                  </a:lnTo>
                  <a:lnTo>
                    <a:pt x="1768" y="102"/>
                  </a:lnTo>
                  <a:lnTo>
                    <a:pt x="1778" y="123"/>
                  </a:lnTo>
                  <a:lnTo>
                    <a:pt x="1788" y="145"/>
                  </a:lnTo>
                  <a:lnTo>
                    <a:pt x="1799" y="169"/>
                  </a:lnTo>
                  <a:lnTo>
                    <a:pt x="1809" y="197"/>
                  </a:lnTo>
                  <a:lnTo>
                    <a:pt x="1819" y="225"/>
                  </a:lnTo>
                  <a:lnTo>
                    <a:pt x="1827" y="256"/>
                  </a:lnTo>
                  <a:lnTo>
                    <a:pt x="1836" y="289"/>
                  </a:lnTo>
                  <a:lnTo>
                    <a:pt x="1844" y="324"/>
                  </a:lnTo>
                  <a:lnTo>
                    <a:pt x="1853" y="363"/>
                  </a:lnTo>
                  <a:lnTo>
                    <a:pt x="1856" y="382"/>
                  </a:lnTo>
                  <a:lnTo>
                    <a:pt x="1858" y="399"/>
                  </a:lnTo>
                  <a:lnTo>
                    <a:pt x="1858" y="415"/>
                  </a:lnTo>
                  <a:lnTo>
                    <a:pt x="1858" y="430"/>
                  </a:lnTo>
                  <a:lnTo>
                    <a:pt x="1856" y="444"/>
                  </a:lnTo>
                  <a:lnTo>
                    <a:pt x="1853" y="456"/>
                  </a:lnTo>
                  <a:lnTo>
                    <a:pt x="1849" y="466"/>
                  </a:lnTo>
                  <a:lnTo>
                    <a:pt x="1846" y="476"/>
                  </a:lnTo>
                  <a:lnTo>
                    <a:pt x="1840" y="484"/>
                  </a:lnTo>
                  <a:lnTo>
                    <a:pt x="1833" y="492"/>
                  </a:lnTo>
                  <a:lnTo>
                    <a:pt x="1826" y="498"/>
                  </a:lnTo>
                  <a:lnTo>
                    <a:pt x="1817" y="503"/>
                  </a:lnTo>
                  <a:lnTo>
                    <a:pt x="1809" y="506"/>
                  </a:lnTo>
                  <a:lnTo>
                    <a:pt x="1799" y="509"/>
                  </a:lnTo>
                  <a:lnTo>
                    <a:pt x="1789" y="510"/>
                  </a:lnTo>
                  <a:lnTo>
                    <a:pt x="1778" y="510"/>
                  </a:lnTo>
                  <a:lnTo>
                    <a:pt x="1766" y="510"/>
                  </a:lnTo>
                  <a:lnTo>
                    <a:pt x="1753" y="509"/>
                  </a:lnTo>
                  <a:lnTo>
                    <a:pt x="1741" y="506"/>
                  </a:lnTo>
                  <a:lnTo>
                    <a:pt x="1728" y="503"/>
                  </a:lnTo>
                  <a:lnTo>
                    <a:pt x="1714" y="499"/>
                  </a:lnTo>
                  <a:lnTo>
                    <a:pt x="1699" y="494"/>
                  </a:lnTo>
                  <a:lnTo>
                    <a:pt x="1685" y="488"/>
                  </a:lnTo>
                  <a:lnTo>
                    <a:pt x="1669" y="482"/>
                  </a:lnTo>
                  <a:lnTo>
                    <a:pt x="1638" y="466"/>
                  </a:lnTo>
                  <a:lnTo>
                    <a:pt x="1605" y="447"/>
                  </a:lnTo>
                  <a:lnTo>
                    <a:pt x="1571" y="427"/>
                  </a:lnTo>
                  <a:lnTo>
                    <a:pt x="1538" y="403"/>
                  </a:lnTo>
                  <a:lnTo>
                    <a:pt x="1505" y="381"/>
                  </a:lnTo>
                  <a:lnTo>
                    <a:pt x="1475" y="363"/>
                  </a:lnTo>
                  <a:lnTo>
                    <a:pt x="1447" y="348"/>
                  </a:lnTo>
                  <a:lnTo>
                    <a:pt x="1422" y="337"/>
                  </a:lnTo>
                  <a:lnTo>
                    <a:pt x="1400" y="329"/>
                  </a:lnTo>
                  <a:lnTo>
                    <a:pt x="1379" y="323"/>
                  </a:lnTo>
                  <a:lnTo>
                    <a:pt x="1360" y="321"/>
                  </a:lnTo>
                  <a:lnTo>
                    <a:pt x="1340" y="320"/>
                  </a:lnTo>
                  <a:lnTo>
                    <a:pt x="1322" y="321"/>
                  </a:lnTo>
                  <a:lnTo>
                    <a:pt x="1304" y="322"/>
                  </a:lnTo>
                  <a:lnTo>
                    <a:pt x="1286" y="324"/>
                  </a:lnTo>
                  <a:lnTo>
                    <a:pt x="1267" y="328"/>
                  </a:lnTo>
                  <a:lnTo>
                    <a:pt x="1248" y="331"/>
                  </a:lnTo>
                  <a:lnTo>
                    <a:pt x="1228" y="333"/>
                  </a:lnTo>
                  <a:lnTo>
                    <a:pt x="1206" y="336"/>
                  </a:lnTo>
                  <a:lnTo>
                    <a:pt x="1181" y="336"/>
                  </a:lnTo>
                  <a:lnTo>
                    <a:pt x="1159" y="337"/>
                  </a:lnTo>
                  <a:lnTo>
                    <a:pt x="1140" y="339"/>
                  </a:lnTo>
                  <a:lnTo>
                    <a:pt x="1122" y="343"/>
                  </a:lnTo>
                  <a:lnTo>
                    <a:pt x="1108" y="349"/>
                  </a:lnTo>
                  <a:lnTo>
                    <a:pt x="1101" y="353"/>
                  </a:lnTo>
                  <a:lnTo>
                    <a:pt x="1096" y="356"/>
                  </a:lnTo>
                  <a:lnTo>
                    <a:pt x="1092" y="360"/>
                  </a:lnTo>
                  <a:lnTo>
                    <a:pt x="1088" y="364"/>
                  </a:lnTo>
                  <a:lnTo>
                    <a:pt x="1080" y="374"/>
                  </a:lnTo>
                  <a:lnTo>
                    <a:pt x="1076" y="383"/>
                  </a:lnTo>
                  <a:lnTo>
                    <a:pt x="1073" y="396"/>
                  </a:lnTo>
                  <a:lnTo>
                    <a:pt x="1073" y="408"/>
                  </a:lnTo>
                  <a:lnTo>
                    <a:pt x="1074" y="420"/>
                  </a:lnTo>
                  <a:lnTo>
                    <a:pt x="1078" y="434"/>
                  </a:lnTo>
                  <a:lnTo>
                    <a:pt x="1082" y="449"/>
                  </a:lnTo>
                  <a:lnTo>
                    <a:pt x="1088" y="463"/>
                  </a:lnTo>
                  <a:lnTo>
                    <a:pt x="1095" y="478"/>
                  </a:lnTo>
                  <a:lnTo>
                    <a:pt x="1103" y="493"/>
                  </a:lnTo>
                  <a:lnTo>
                    <a:pt x="1112" y="508"/>
                  </a:lnTo>
                  <a:lnTo>
                    <a:pt x="1122" y="521"/>
                  </a:lnTo>
                  <a:lnTo>
                    <a:pt x="1132" y="532"/>
                  </a:lnTo>
                  <a:lnTo>
                    <a:pt x="1142" y="542"/>
                  </a:lnTo>
                  <a:lnTo>
                    <a:pt x="1157" y="557"/>
                  </a:lnTo>
                  <a:lnTo>
                    <a:pt x="1163" y="566"/>
                  </a:lnTo>
                  <a:lnTo>
                    <a:pt x="1163" y="567"/>
                  </a:lnTo>
                  <a:lnTo>
                    <a:pt x="1162" y="568"/>
                  </a:lnTo>
                  <a:lnTo>
                    <a:pt x="1160" y="569"/>
                  </a:lnTo>
                  <a:lnTo>
                    <a:pt x="1158" y="569"/>
                  </a:lnTo>
                  <a:lnTo>
                    <a:pt x="1148" y="570"/>
                  </a:lnTo>
                  <a:lnTo>
                    <a:pt x="1135" y="569"/>
                  </a:lnTo>
                  <a:lnTo>
                    <a:pt x="1092" y="566"/>
                  </a:lnTo>
                  <a:lnTo>
                    <a:pt x="1024" y="558"/>
                  </a:lnTo>
                  <a:lnTo>
                    <a:pt x="953" y="553"/>
                  </a:lnTo>
                  <a:lnTo>
                    <a:pt x="898" y="551"/>
                  </a:lnTo>
                  <a:lnTo>
                    <a:pt x="876" y="551"/>
                  </a:lnTo>
                  <a:lnTo>
                    <a:pt x="857" y="552"/>
                  </a:lnTo>
                  <a:lnTo>
                    <a:pt x="841" y="553"/>
                  </a:lnTo>
                  <a:lnTo>
                    <a:pt x="826" y="554"/>
                  </a:lnTo>
                  <a:lnTo>
                    <a:pt x="813" y="557"/>
                  </a:lnTo>
                  <a:lnTo>
                    <a:pt x="802" y="561"/>
                  </a:lnTo>
                  <a:lnTo>
                    <a:pt x="793" y="563"/>
                  </a:lnTo>
                  <a:lnTo>
                    <a:pt x="784" y="567"/>
                  </a:lnTo>
                  <a:lnTo>
                    <a:pt x="768" y="577"/>
                  </a:lnTo>
                  <a:lnTo>
                    <a:pt x="750" y="585"/>
                  </a:lnTo>
                  <a:lnTo>
                    <a:pt x="730" y="596"/>
                  </a:lnTo>
                  <a:lnTo>
                    <a:pt x="710" y="609"/>
                  </a:lnTo>
                  <a:lnTo>
                    <a:pt x="702" y="615"/>
                  </a:lnTo>
                  <a:lnTo>
                    <a:pt x="693" y="621"/>
                  </a:lnTo>
                  <a:lnTo>
                    <a:pt x="687" y="627"/>
                  </a:lnTo>
                  <a:lnTo>
                    <a:pt x="681" y="633"/>
                  </a:lnTo>
                  <a:lnTo>
                    <a:pt x="676" y="641"/>
                  </a:lnTo>
                  <a:lnTo>
                    <a:pt x="673" y="648"/>
                  </a:lnTo>
                  <a:lnTo>
                    <a:pt x="673" y="654"/>
                  </a:lnTo>
                  <a:lnTo>
                    <a:pt x="674" y="661"/>
                  </a:lnTo>
                  <a:lnTo>
                    <a:pt x="679" y="669"/>
                  </a:lnTo>
                  <a:lnTo>
                    <a:pt x="686" y="676"/>
                  </a:lnTo>
                  <a:lnTo>
                    <a:pt x="695" y="684"/>
                  </a:lnTo>
                  <a:lnTo>
                    <a:pt x="709" y="692"/>
                  </a:lnTo>
                  <a:lnTo>
                    <a:pt x="740" y="707"/>
                  </a:lnTo>
                  <a:lnTo>
                    <a:pt x="772" y="722"/>
                  </a:lnTo>
                  <a:lnTo>
                    <a:pt x="806" y="738"/>
                  </a:lnTo>
                  <a:lnTo>
                    <a:pt x="839" y="754"/>
                  </a:lnTo>
                  <a:lnTo>
                    <a:pt x="873" y="767"/>
                  </a:lnTo>
                  <a:lnTo>
                    <a:pt x="903" y="780"/>
                  </a:lnTo>
                  <a:lnTo>
                    <a:pt x="933" y="789"/>
                  </a:lnTo>
                  <a:lnTo>
                    <a:pt x="959" y="794"/>
                  </a:lnTo>
                  <a:lnTo>
                    <a:pt x="975" y="799"/>
                  </a:lnTo>
                  <a:lnTo>
                    <a:pt x="988" y="803"/>
                  </a:lnTo>
                  <a:lnTo>
                    <a:pt x="1000" y="808"/>
                  </a:lnTo>
                  <a:lnTo>
                    <a:pt x="1010" y="813"/>
                  </a:lnTo>
                  <a:lnTo>
                    <a:pt x="1018" y="816"/>
                  </a:lnTo>
                  <a:lnTo>
                    <a:pt x="1023" y="821"/>
                  </a:lnTo>
                  <a:lnTo>
                    <a:pt x="1024" y="823"/>
                  </a:lnTo>
                  <a:lnTo>
                    <a:pt x="1024" y="825"/>
                  </a:lnTo>
                  <a:lnTo>
                    <a:pt x="1024" y="826"/>
                  </a:lnTo>
                  <a:lnTo>
                    <a:pt x="1021" y="828"/>
                  </a:lnTo>
                  <a:lnTo>
                    <a:pt x="1016" y="829"/>
                  </a:lnTo>
                  <a:lnTo>
                    <a:pt x="1005" y="830"/>
                  </a:lnTo>
                  <a:lnTo>
                    <a:pt x="992" y="829"/>
                  </a:lnTo>
                  <a:lnTo>
                    <a:pt x="972" y="826"/>
                  </a:lnTo>
                  <a:lnTo>
                    <a:pt x="948" y="821"/>
                  </a:lnTo>
                  <a:lnTo>
                    <a:pt x="918" y="815"/>
                  </a:lnTo>
                  <a:lnTo>
                    <a:pt x="884" y="807"/>
                  </a:lnTo>
                  <a:lnTo>
                    <a:pt x="842" y="794"/>
                  </a:lnTo>
                  <a:lnTo>
                    <a:pt x="821" y="789"/>
                  </a:lnTo>
                  <a:lnTo>
                    <a:pt x="799" y="786"/>
                  </a:lnTo>
                  <a:lnTo>
                    <a:pt x="778" y="784"/>
                  </a:lnTo>
                  <a:lnTo>
                    <a:pt x="758" y="783"/>
                  </a:lnTo>
                  <a:lnTo>
                    <a:pt x="738" y="784"/>
                  </a:lnTo>
                  <a:lnTo>
                    <a:pt x="720" y="787"/>
                  </a:lnTo>
                  <a:lnTo>
                    <a:pt x="702" y="789"/>
                  </a:lnTo>
                  <a:lnTo>
                    <a:pt x="684" y="794"/>
                  </a:lnTo>
                  <a:lnTo>
                    <a:pt x="668" y="799"/>
                  </a:lnTo>
                  <a:lnTo>
                    <a:pt x="651" y="805"/>
                  </a:lnTo>
                  <a:lnTo>
                    <a:pt x="636" y="813"/>
                  </a:lnTo>
                  <a:lnTo>
                    <a:pt x="622" y="820"/>
                  </a:lnTo>
                  <a:lnTo>
                    <a:pt x="607" y="829"/>
                  </a:lnTo>
                  <a:lnTo>
                    <a:pt x="593" y="837"/>
                  </a:lnTo>
                  <a:lnTo>
                    <a:pt x="581" y="846"/>
                  </a:lnTo>
                  <a:lnTo>
                    <a:pt x="569" y="856"/>
                  </a:lnTo>
                  <a:lnTo>
                    <a:pt x="547" y="875"/>
                  </a:lnTo>
                  <a:lnTo>
                    <a:pt x="527" y="895"/>
                  </a:lnTo>
                  <a:lnTo>
                    <a:pt x="511" y="914"/>
                  </a:lnTo>
                  <a:lnTo>
                    <a:pt x="497" y="930"/>
                  </a:lnTo>
                  <a:lnTo>
                    <a:pt x="479" y="955"/>
                  </a:lnTo>
                  <a:lnTo>
                    <a:pt x="473" y="967"/>
                  </a:lnTo>
                  <a:lnTo>
                    <a:pt x="475" y="968"/>
                  </a:lnTo>
                  <a:lnTo>
                    <a:pt x="485" y="973"/>
                  </a:lnTo>
                  <a:lnTo>
                    <a:pt x="499" y="981"/>
                  </a:lnTo>
                  <a:lnTo>
                    <a:pt x="517" y="991"/>
                  </a:lnTo>
                  <a:lnTo>
                    <a:pt x="538" y="1003"/>
                  </a:lnTo>
                  <a:lnTo>
                    <a:pt x="564" y="1017"/>
                  </a:lnTo>
                  <a:lnTo>
                    <a:pt x="591" y="1030"/>
                  </a:lnTo>
                  <a:lnTo>
                    <a:pt x="619" y="1045"/>
                  </a:lnTo>
                  <a:lnTo>
                    <a:pt x="636" y="1053"/>
                  </a:lnTo>
                  <a:lnTo>
                    <a:pt x="649" y="1059"/>
                  </a:lnTo>
                  <a:lnTo>
                    <a:pt x="651" y="1060"/>
                  </a:lnTo>
                  <a:lnTo>
                    <a:pt x="652" y="1061"/>
                  </a:lnTo>
                  <a:lnTo>
                    <a:pt x="652" y="1062"/>
                  </a:lnTo>
                  <a:lnTo>
                    <a:pt x="649" y="1064"/>
                  </a:lnTo>
                  <a:lnTo>
                    <a:pt x="633" y="1066"/>
                  </a:lnTo>
                  <a:lnTo>
                    <a:pt x="603" y="1070"/>
                  </a:lnTo>
                  <a:lnTo>
                    <a:pt x="560" y="1076"/>
                  </a:lnTo>
                  <a:lnTo>
                    <a:pt x="500" y="1086"/>
                  </a:lnTo>
                  <a:lnTo>
                    <a:pt x="468" y="1091"/>
                  </a:lnTo>
                  <a:lnTo>
                    <a:pt x="436" y="1096"/>
                  </a:lnTo>
                  <a:lnTo>
                    <a:pt x="405" y="1103"/>
                  </a:lnTo>
                  <a:lnTo>
                    <a:pt x="374" y="1109"/>
                  </a:lnTo>
                  <a:lnTo>
                    <a:pt x="344" y="1118"/>
                  </a:lnTo>
                  <a:lnTo>
                    <a:pt x="314" y="1126"/>
                  </a:lnTo>
                  <a:lnTo>
                    <a:pt x="284" y="1135"/>
                  </a:lnTo>
                  <a:lnTo>
                    <a:pt x="255" y="1145"/>
                  </a:lnTo>
                  <a:lnTo>
                    <a:pt x="227" y="1156"/>
                  </a:lnTo>
                  <a:lnTo>
                    <a:pt x="198" y="1168"/>
                  </a:lnTo>
                  <a:lnTo>
                    <a:pt x="170" y="1181"/>
                  </a:lnTo>
                  <a:lnTo>
                    <a:pt x="143" y="1193"/>
                  </a:lnTo>
                  <a:lnTo>
                    <a:pt x="117" y="1208"/>
                  </a:lnTo>
                  <a:lnTo>
                    <a:pt x="91" y="1222"/>
                  </a:lnTo>
                  <a:lnTo>
                    <a:pt x="65" y="1237"/>
                  </a:lnTo>
                  <a:lnTo>
                    <a:pt x="41" y="1254"/>
                  </a:lnTo>
                  <a:lnTo>
                    <a:pt x="20" y="1268"/>
                  </a:lnTo>
                  <a:lnTo>
                    <a:pt x="8" y="1276"/>
                  </a:lnTo>
                  <a:lnTo>
                    <a:pt x="3" y="1279"/>
                  </a:lnTo>
                  <a:lnTo>
                    <a:pt x="2" y="1279"/>
                  </a:lnTo>
                  <a:lnTo>
                    <a:pt x="0" y="1279"/>
                  </a:lnTo>
                  <a:lnTo>
                    <a:pt x="2" y="1278"/>
                  </a:lnTo>
                  <a:lnTo>
                    <a:pt x="21" y="1260"/>
                  </a:lnTo>
                  <a:lnTo>
                    <a:pt x="61" y="1231"/>
                  </a:lnTo>
                  <a:lnTo>
                    <a:pt x="88" y="1211"/>
                  </a:lnTo>
                  <a:lnTo>
                    <a:pt x="118" y="1192"/>
                  </a:lnTo>
                  <a:lnTo>
                    <a:pt x="152" y="1169"/>
                  </a:lnTo>
                  <a:lnTo>
                    <a:pt x="189" y="1146"/>
                  </a:lnTo>
                  <a:lnTo>
                    <a:pt x="228" y="1124"/>
                  </a:lnTo>
                  <a:lnTo>
                    <a:pt x="268" y="1101"/>
                  </a:lnTo>
                  <a:lnTo>
                    <a:pt x="312" y="1078"/>
                  </a:lnTo>
                  <a:lnTo>
                    <a:pt x="356" y="1059"/>
                  </a:lnTo>
                  <a:lnTo>
                    <a:pt x="394" y="1040"/>
                  </a:lnTo>
                  <a:lnTo>
                    <a:pt x="421" y="1027"/>
                  </a:lnTo>
                  <a:lnTo>
                    <a:pt x="431" y="1021"/>
                  </a:lnTo>
                  <a:lnTo>
                    <a:pt x="438" y="1016"/>
                  </a:lnTo>
                  <a:lnTo>
                    <a:pt x="444" y="1012"/>
                  </a:lnTo>
                  <a:lnTo>
                    <a:pt x="447" y="1008"/>
                  </a:lnTo>
                  <a:lnTo>
                    <a:pt x="448" y="1006"/>
                  </a:lnTo>
                  <a:lnTo>
                    <a:pt x="448" y="1003"/>
                  </a:lnTo>
                  <a:lnTo>
                    <a:pt x="446" y="1001"/>
                  </a:lnTo>
                  <a:lnTo>
                    <a:pt x="443" y="1000"/>
                  </a:lnTo>
                  <a:lnTo>
                    <a:pt x="432" y="998"/>
                  </a:lnTo>
                  <a:lnTo>
                    <a:pt x="417" y="997"/>
                  </a:lnTo>
                  <a:lnTo>
                    <a:pt x="379" y="996"/>
                  </a:lnTo>
                  <a:lnTo>
                    <a:pt x="340" y="994"/>
                  </a:lnTo>
                  <a:lnTo>
                    <a:pt x="330" y="991"/>
                  </a:lnTo>
                  <a:lnTo>
                    <a:pt x="321" y="990"/>
                  </a:lnTo>
                  <a:lnTo>
                    <a:pt x="314" y="987"/>
                  </a:lnTo>
                  <a:lnTo>
                    <a:pt x="307" y="985"/>
                  </a:lnTo>
                  <a:lnTo>
                    <a:pt x="300" y="981"/>
                  </a:lnTo>
                  <a:lnTo>
                    <a:pt x="297" y="976"/>
                  </a:lnTo>
                  <a:lnTo>
                    <a:pt x="293" y="971"/>
                  </a:lnTo>
                  <a:lnTo>
                    <a:pt x="291" y="967"/>
                  </a:lnTo>
                  <a:lnTo>
                    <a:pt x="288" y="954"/>
                  </a:lnTo>
                  <a:lnTo>
                    <a:pt x="288" y="942"/>
                  </a:lnTo>
                  <a:lnTo>
                    <a:pt x="288" y="931"/>
                  </a:lnTo>
                  <a:lnTo>
                    <a:pt x="289" y="920"/>
                  </a:lnTo>
                  <a:lnTo>
                    <a:pt x="293" y="909"/>
                  </a:lnTo>
                  <a:lnTo>
                    <a:pt x="298" y="896"/>
                  </a:lnTo>
                  <a:lnTo>
                    <a:pt x="305" y="887"/>
                  </a:lnTo>
                  <a:lnTo>
                    <a:pt x="315" y="875"/>
                  </a:lnTo>
                  <a:lnTo>
                    <a:pt x="326" y="864"/>
                  </a:lnTo>
                  <a:lnTo>
                    <a:pt x="341" y="853"/>
                  </a:lnTo>
                  <a:lnTo>
                    <a:pt x="357" y="842"/>
                  </a:lnTo>
                  <a:lnTo>
                    <a:pt x="377" y="831"/>
                  </a:lnTo>
                  <a:lnTo>
                    <a:pt x="399" y="819"/>
                  </a:lnTo>
                  <a:lnTo>
                    <a:pt x="425" y="808"/>
                  </a:lnTo>
                  <a:lnTo>
                    <a:pt x="454" y="796"/>
                  </a:lnTo>
                  <a:lnTo>
                    <a:pt x="486" y="784"/>
                  </a:lnTo>
                  <a:lnTo>
                    <a:pt x="497" y="783"/>
                  </a:lnTo>
                  <a:lnTo>
                    <a:pt x="524" y="778"/>
                  </a:lnTo>
                  <a:lnTo>
                    <a:pt x="542" y="776"/>
                  </a:lnTo>
                  <a:lnTo>
                    <a:pt x="560" y="772"/>
                  </a:lnTo>
                  <a:lnTo>
                    <a:pt x="579" y="767"/>
                  </a:lnTo>
                  <a:lnTo>
                    <a:pt x="597" y="762"/>
                  </a:lnTo>
                  <a:lnTo>
                    <a:pt x="612" y="756"/>
                  </a:lnTo>
                  <a:lnTo>
                    <a:pt x="624" y="750"/>
                  </a:lnTo>
                  <a:lnTo>
                    <a:pt x="629" y="746"/>
                  </a:lnTo>
                  <a:lnTo>
                    <a:pt x="633" y="741"/>
                  </a:lnTo>
                  <a:lnTo>
                    <a:pt x="635" y="738"/>
                  </a:lnTo>
                  <a:lnTo>
                    <a:pt x="636" y="734"/>
                  </a:lnTo>
                  <a:lnTo>
                    <a:pt x="636" y="729"/>
                  </a:lnTo>
                  <a:lnTo>
                    <a:pt x="634" y="724"/>
                  </a:lnTo>
                  <a:lnTo>
                    <a:pt x="630" y="719"/>
                  </a:lnTo>
                  <a:lnTo>
                    <a:pt x="624" y="714"/>
                  </a:lnTo>
                  <a:lnTo>
                    <a:pt x="615" y="709"/>
                  </a:lnTo>
                  <a:lnTo>
                    <a:pt x="606" y="703"/>
                  </a:lnTo>
                  <a:lnTo>
                    <a:pt x="593" y="697"/>
                  </a:lnTo>
                  <a:lnTo>
                    <a:pt x="579" y="692"/>
                  </a:lnTo>
                  <a:lnTo>
                    <a:pt x="575" y="690"/>
                  </a:lnTo>
                  <a:lnTo>
                    <a:pt x="572" y="687"/>
                  </a:lnTo>
                  <a:lnTo>
                    <a:pt x="571" y="684"/>
                  </a:lnTo>
                  <a:lnTo>
                    <a:pt x="570" y="680"/>
                  </a:lnTo>
                  <a:lnTo>
                    <a:pt x="569" y="670"/>
                  </a:lnTo>
                  <a:lnTo>
                    <a:pt x="571" y="659"/>
                  </a:lnTo>
                  <a:lnTo>
                    <a:pt x="575" y="645"/>
                  </a:lnTo>
                  <a:lnTo>
                    <a:pt x="580" y="631"/>
                  </a:lnTo>
                  <a:lnTo>
                    <a:pt x="588" y="616"/>
                  </a:lnTo>
                  <a:lnTo>
                    <a:pt x="598" y="599"/>
                  </a:lnTo>
                  <a:lnTo>
                    <a:pt x="609" y="582"/>
                  </a:lnTo>
                  <a:lnTo>
                    <a:pt x="622" y="564"/>
                  </a:lnTo>
                  <a:lnTo>
                    <a:pt x="636" y="546"/>
                  </a:lnTo>
                  <a:lnTo>
                    <a:pt x="651" y="529"/>
                  </a:lnTo>
                  <a:lnTo>
                    <a:pt x="667" y="513"/>
                  </a:lnTo>
                  <a:lnTo>
                    <a:pt x="686" y="497"/>
                  </a:lnTo>
                  <a:lnTo>
                    <a:pt x="704" y="482"/>
                  </a:lnTo>
                  <a:lnTo>
                    <a:pt x="722" y="468"/>
                  </a:lnTo>
                  <a:lnTo>
                    <a:pt x="759" y="447"/>
                  </a:lnTo>
                  <a:lnTo>
                    <a:pt x="789" y="430"/>
                  </a:lnTo>
                  <a:lnTo>
                    <a:pt x="813" y="415"/>
                  </a:lnTo>
                  <a:lnTo>
                    <a:pt x="833" y="402"/>
                  </a:lnTo>
                  <a:lnTo>
                    <a:pt x="843" y="396"/>
                  </a:lnTo>
                  <a:lnTo>
                    <a:pt x="850" y="388"/>
                  </a:lnTo>
                  <a:lnTo>
                    <a:pt x="859" y="380"/>
                  </a:lnTo>
                  <a:lnTo>
                    <a:pt x="866" y="371"/>
                  </a:lnTo>
                  <a:lnTo>
                    <a:pt x="873" y="361"/>
                  </a:lnTo>
                  <a:lnTo>
                    <a:pt x="880" y="352"/>
                  </a:lnTo>
                  <a:lnTo>
                    <a:pt x="887" y="339"/>
                  </a:lnTo>
                  <a:lnTo>
                    <a:pt x="893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6259680" y="2786040"/>
              <a:ext cx="203040" cy="320760"/>
            </a:xfrm>
            <a:custGeom>
              <a:avLst/>
              <a:gdLst/>
              <a:ahLst/>
              <a:rect l="l" t="t" r="r" b="b"/>
              <a:pathLst>
                <a:path w="639" h="1011">
                  <a:moveTo>
                    <a:pt x="302" y="657"/>
                  </a:moveTo>
                  <a:lnTo>
                    <a:pt x="297" y="650"/>
                  </a:lnTo>
                  <a:lnTo>
                    <a:pt x="284" y="628"/>
                  </a:lnTo>
                  <a:lnTo>
                    <a:pt x="262" y="593"/>
                  </a:lnTo>
                  <a:lnTo>
                    <a:pt x="233" y="549"/>
                  </a:lnTo>
                  <a:lnTo>
                    <a:pt x="198" y="496"/>
                  </a:lnTo>
                  <a:lnTo>
                    <a:pt x="158" y="436"/>
                  </a:lnTo>
                  <a:lnTo>
                    <a:pt x="114" y="371"/>
                  </a:lnTo>
                  <a:lnTo>
                    <a:pt x="66" y="302"/>
                  </a:lnTo>
                  <a:lnTo>
                    <a:pt x="54" y="284"/>
                  </a:lnTo>
                  <a:lnTo>
                    <a:pt x="44" y="267"/>
                  </a:lnTo>
                  <a:lnTo>
                    <a:pt x="34" y="250"/>
                  </a:lnTo>
                  <a:lnTo>
                    <a:pt x="27" y="232"/>
                  </a:lnTo>
                  <a:lnTo>
                    <a:pt x="19" y="214"/>
                  </a:lnTo>
                  <a:lnTo>
                    <a:pt x="13" y="197"/>
                  </a:lnTo>
                  <a:lnTo>
                    <a:pt x="8" y="180"/>
                  </a:lnTo>
                  <a:lnTo>
                    <a:pt x="5" y="163"/>
                  </a:lnTo>
                  <a:lnTo>
                    <a:pt x="2" y="147"/>
                  </a:lnTo>
                  <a:lnTo>
                    <a:pt x="0" y="131"/>
                  </a:lnTo>
                  <a:lnTo>
                    <a:pt x="0" y="115"/>
                  </a:lnTo>
                  <a:lnTo>
                    <a:pt x="0" y="100"/>
                  </a:lnTo>
                  <a:lnTo>
                    <a:pt x="0" y="86"/>
                  </a:lnTo>
                  <a:lnTo>
                    <a:pt x="2" y="73"/>
                  </a:lnTo>
                  <a:lnTo>
                    <a:pt x="5" y="61"/>
                  </a:lnTo>
                  <a:lnTo>
                    <a:pt x="7" y="48"/>
                  </a:lnTo>
                  <a:lnTo>
                    <a:pt x="12" y="38"/>
                  </a:lnTo>
                  <a:lnTo>
                    <a:pt x="17" y="29"/>
                  </a:lnTo>
                  <a:lnTo>
                    <a:pt x="22" y="20"/>
                  </a:lnTo>
                  <a:lnTo>
                    <a:pt x="28" y="14"/>
                  </a:lnTo>
                  <a:lnTo>
                    <a:pt x="35" y="8"/>
                  </a:lnTo>
                  <a:lnTo>
                    <a:pt x="43" y="4"/>
                  </a:lnTo>
                  <a:lnTo>
                    <a:pt x="50" y="2"/>
                  </a:lnTo>
                  <a:lnTo>
                    <a:pt x="59" y="0"/>
                  </a:lnTo>
                  <a:lnTo>
                    <a:pt x="69" y="0"/>
                  </a:lnTo>
                  <a:lnTo>
                    <a:pt x="78" y="3"/>
                  </a:lnTo>
                  <a:lnTo>
                    <a:pt x="88" y="8"/>
                  </a:lnTo>
                  <a:lnTo>
                    <a:pt x="98" y="14"/>
                  </a:lnTo>
                  <a:lnTo>
                    <a:pt x="109" y="22"/>
                  </a:lnTo>
                  <a:lnTo>
                    <a:pt x="121" y="32"/>
                  </a:lnTo>
                  <a:lnTo>
                    <a:pt x="133" y="45"/>
                  </a:lnTo>
                  <a:lnTo>
                    <a:pt x="145" y="61"/>
                  </a:lnTo>
                  <a:lnTo>
                    <a:pt x="171" y="95"/>
                  </a:lnTo>
                  <a:lnTo>
                    <a:pt x="199" y="133"/>
                  </a:lnTo>
                  <a:lnTo>
                    <a:pt x="228" y="176"/>
                  </a:lnTo>
                  <a:lnTo>
                    <a:pt x="260" y="222"/>
                  </a:lnTo>
                  <a:lnTo>
                    <a:pt x="294" y="271"/>
                  </a:lnTo>
                  <a:lnTo>
                    <a:pt x="327" y="323"/>
                  </a:lnTo>
                  <a:lnTo>
                    <a:pt x="361" y="377"/>
                  </a:lnTo>
                  <a:lnTo>
                    <a:pt x="396" y="432"/>
                  </a:lnTo>
                  <a:lnTo>
                    <a:pt x="429" y="489"/>
                  </a:lnTo>
                  <a:lnTo>
                    <a:pt x="462" y="545"/>
                  </a:lnTo>
                  <a:lnTo>
                    <a:pt x="493" y="603"/>
                  </a:lnTo>
                  <a:lnTo>
                    <a:pt x="523" y="661"/>
                  </a:lnTo>
                  <a:lnTo>
                    <a:pt x="551" y="717"/>
                  </a:lnTo>
                  <a:lnTo>
                    <a:pt x="577" y="773"/>
                  </a:lnTo>
                  <a:lnTo>
                    <a:pt x="599" y="828"/>
                  </a:lnTo>
                  <a:lnTo>
                    <a:pt x="617" y="880"/>
                  </a:lnTo>
                  <a:lnTo>
                    <a:pt x="626" y="904"/>
                  </a:lnTo>
                  <a:lnTo>
                    <a:pt x="631" y="926"/>
                  </a:lnTo>
                  <a:lnTo>
                    <a:pt x="636" y="945"/>
                  </a:lnTo>
                  <a:lnTo>
                    <a:pt x="638" y="962"/>
                  </a:lnTo>
                  <a:lnTo>
                    <a:pt x="639" y="976"/>
                  </a:lnTo>
                  <a:lnTo>
                    <a:pt x="638" y="988"/>
                  </a:lnTo>
                  <a:lnTo>
                    <a:pt x="637" y="997"/>
                  </a:lnTo>
                  <a:lnTo>
                    <a:pt x="633" y="1004"/>
                  </a:lnTo>
                  <a:lnTo>
                    <a:pt x="628" y="1009"/>
                  </a:lnTo>
                  <a:lnTo>
                    <a:pt x="622" y="1011"/>
                  </a:lnTo>
                  <a:lnTo>
                    <a:pt x="615" y="1011"/>
                  </a:lnTo>
                  <a:lnTo>
                    <a:pt x="607" y="1010"/>
                  </a:lnTo>
                  <a:lnTo>
                    <a:pt x="598" y="1006"/>
                  </a:lnTo>
                  <a:lnTo>
                    <a:pt x="588" y="1002"/>
                  </a:lnTo>
                  <a:lnTo>
                    <a:pt x="577" y="994"/>
                  </a:lnTo>
                  <a:lnTo>
                    <a:pt x="564" y="986"/>
                  </a:lnTo>
                  <a:lnTo>
                    <a:pt x="551" y="974"/>
                  </a:lnTo>
                  <a:lnTo>
                    <a:pt x="537" y="962"/>
                  </a:lnTo>
                  <a:lnTo>
                    <a:pt x="523" y="949"/>
                  </a:lnTo>
                  <a:lnTo>
                    <a:pt x="508" y="933"/>
                  </a:lnTo>
                  <a:lnTo>
                    <a:pt x="476" y="898"/>
                  </a:lnTo>
                  <a:lnTo>
                    <a:pt x="443" y="858"/>
                  </a:lnTo>
                  <a:lnTo>
                    <a:pt x="408" y="813"/>
                  </a:lnTo>
                  <a:lnTo>
                    <a:pt x="372" y="765"/>
                  </a:lnTo>
                  <a:lnTo>
                    <a:pt x="337" y="712"/>
                  </a:lnTo>
                  <a:lnTo>
                    <a:pt x="302" y="657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6280200" y="2811600"/>
              <a:ext cx="164880" cy="261720"/>
            </a:xfrm>
            <a:custGeom>
              <a:avLst/>
              <a:gdLst/>
              <a:ahLst/>
              <a:rect l="l" t="t" r="r" b="b"/>
              <a:pathLst>
                <a:path w="521" h="825">
                  <a:moveTo>
                    <a:pt x="55" y="247"/>
                  </a:moveTo>
                  <a:lnTo>
                    <a:pt x="45" y="234"/>
                  </a:lnTo>
                  <a:lnTo>
                    <a:pt x="37" y="219"/>
                  </a:lnTo>
                  <a:lnTo>
                    <a:pt x="29" y="204"/>
                  </a:lnTo>
                  <a:lnTo>
                    <a:pt x="22" y="191"/>
                  </a:lnTo>
                  <a:lnTo>
                    <a:pt x="17" y="176"/>
                  </a:lnTo>
                  <a:lnTo>
                    <a:pt x="12" y="161"/>
                  </a:lnTo>
                  <a:lnTo>
                    <a:pt x="7" y="148"/>
                  </a:lnTo>
                  <a:lnTo>
                    <a:pt x="5" y="134"/>
                  </a:lnTo>
                  <a:lnTo>
                    <a:pt x="2" y="121"/>
                  </a:lnTo>
                  <a:lnTo>
                    <a:pt x="0" y="107"/>
                  </a:lnTo>
                  <a:lnTo>
                    <a:pt x="0" y="95"/>
                  </a:lnTo>
                  <a:lnTo>
                    <a:pt x="0" y="82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4" y="49"/>
                  </a:lnTo>
                  <a:lnTo>
                    <a:pt x="6" y="41"/>
                  </a:lnTo>
                  <a:lnTo>
                    <a:pt x="10" y="32"/>
                  </a:lnTo>
                  <a:lnTo>
                    <a:pt x="13" y="23"/>
                  </a:lnTo>
                  <a:lnTo>
                    <a:pt x="18" y="17"/>
                  </a:lnTo>
                  <a:lnTo>
                    <a:pt x="23" y="11"/>
                  </a:lnTo>
                  <a:lnTo>
                    <a:pt x="28" y="7"/>
                  </a:lnTo>
                  <a:lnTo>
                    <a:pt x="34" y="4"/>
                  </a:lnTo>
                  <a:lnTo>
                    <a:pt x="40" y="1"/>
                  </a:lnTo>
                  <a:lnTo>
                    <a:pt x="48" y="0"/>
                  </a:lnTo>
                  <a:lnTo>
                    <a:pt x="55" y="1"/>
                  </a:lnTo>
                  <a:lnTo>
                    <a:pt x="64" y="2"/>
                  </a:lnTo>
                  <a:lnTo>
                    <a:pt x="71" y="6"/>
                  </a:lnTo>
                  <a:lnTo>
                    <a:pt x="80" y="11"/>
                  </a:lnTo>
                  <a:lnTo>
                    <a:pt x="90" y="18"/>
                  </a:lnTo>
                  <a:lnTo>
                    <a:pt x="98" y="27"/>
                  </a:lnTo>
                  <a:lnTo>
                    <a:pt x="108" y="37"/>
                  </a:lnTo>
                  <a:lnTo>
                    <a:pt x="118" y="49"/>
                  </a:lnTo>
                  <a:lnTo>
                    <a:pt x="162" y="108"/>
                  </a:lnTo>
                  <a:lnTo>
                    <a:pt x="214" y="181"/>
                  </a:lnTo>
                  <a:lnTo>
                    <a:pt x="241" y="220"/>
                  </a:lnTo>
                  <a:lnTo>
                    <a:pt x="268" y="262"/>
                  </a:lnTo>
                  <a:lnTo>
                    <a:pt x="296" y="306"/>
                  </a:lnTo>
                  <a:lnTo>
                    <a:pt x="323" y="352"/>
                  </a:lnTo>
                  <a:lnTo>
                    <a:pt x="352" y="397"/>
                  </a:lnTo>
                  <a:lnTo>
                    <a:pt x="378" y="444"/>
                  </a:lnTo>
                  <a:lnTo>
                    <a:pt x="403" y="491"/>
                  </a:lnTo>
                  <a:lnTo>
                    <a:pt x="428" y="539"/>
                  </a:lnTo>
                  <a:lnTo>
                    <a:pt x="450" y="584"/>
                  </a:lnTo>
                  <a:lnTo>
                    <a:pt x="470" y="630"/>
                  </a:lnTo>
                  <a:lnTo>
                    <a:pt x="488" y="674"/>
                  </a:lnTo>
                  <a:lnTo>
                    <a:pt x="503" y="717"/>
                  </a:lnTo>
                  <a:lnTo>
                    <a:pt x="510" y="737"/>
                  </a:lnTo>
                  <a:lnTo>
                    <a:pt x="515" y="755"/>
                  </a:lnTo>
                  <a:lnTo>
                    <a:pt x="519" y="771"/>
                  </a:lnTo>
                  <a:lnTo>
                    <a:pt x="520" y="785"/>
                  </a:lnTo>
                  <a:lnTo>
                    <a:pt x="521" y="796"/>
                  </a:lnTo>
                  <a:lnTo>
                    <a:pt x="521" y="806"/>
                  </a:lnTo>
                  <a:lnTo>
                    <a:pt x="519" y="813"/>
                  </a:lnTo>
                  <a:lnTo>
                    <a:pt x="517" y="818"/>
                  </a:lnTo>
                  <a:lnTo>
                    <a:pt x="513" y="823"/>
                  </a:lnTo>
                  <a:lnTo>
                    <a:pt x="508" y="824"/>
                  </a:lnTo>
                  <a:lnTo>
                    <a:pt x="502" y="825"/>
                  </a:lnTo>
                  <a:lnTo>
                    <a:pt x="496" y="824"/>
                  </a:lnTo>
                  <a:lnTo>
                    <a:pt x="488" y="820"/>
                  </a:lnTo>
                  <a:lnTo>
                    <a:pt x="480" y="817"/>
                  </a:lnTo>
                  <a:lnTo>
                    <a:pt x="470" y="811"/>
                  </a:lnTo>
                  <a:lnTo>
                    <a:pt x="460" y="803"/>
                  </a:lnTo>
                  <a:lnTo>
                    <a:pt x="439" y="785"/>
                  </a:lnTo>
                  <a:lnTo>
                    <a:pt x="414" y="761"/>
                  </a:lnTo>
                  <a:lnTo>
                    <a:pt x="389" y="732"/>
                  </a:lnTo>
                  <a:lnTo>
                    <a:pt x="362" y="700"/>
                  </a:lnTo>
                  <a:lnTo>
                    <a:pt x="333" y="663"/>
                  </a:lnTo>
                  <a:lnTo>
                    <a:pt x="305" y="624"/>
                  </a:lnTo>
                  <a:lnTo>
                    <a:pt x="277" y="581"/>
                  </a:lnTo>
                  <a:lnTo>
                    <a:pt x="248" y="535"/>
                  </a:lnTo>
                  <a:lnTo>
                    <a:pt x="245" y="529"/>
                  </a:lnTo>
                  <a:lnTo>
                    <a:pt x="232" y="512"/>
                  </a:lnTo>
                  <a:lnTo>
                    <a:pt x="215" y="483"/>
                  </a:lnTo>
                  <a:lnTo>
                    <a:pt x="192" y="448"/>
                  </a:lnTo>
                  <a:lnTo>
                    <a:pt x="163" y="403"/>
                  </a:lnTo>
                  <a:lnTo>
                    <a:pt x="130" y="355"/>
                  </a:lnTo>
                  <a:lnTo>
                    <a:pt x="95" y="303"/>
                  </a:lnTo>
                  <a:lnTo>
                    <a:pt x="55" y="247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6300720" y="2835360"/>
              <a:ext cx="128520" cy="203040"/>
            </a:xfrm>
            <a:custGeom>
              <a:avLst/>
              <a:gdLst/>
              <a:ahLst/>
              <a:rect l="l" t="t" r="r" b="b"/>
              <a:pathLst>
                <a:path w="404" h="639">
                  <a:moveTo>
                    <a:pt x="42" y="193"/>
                  </a:moveTo>
                  <a:lnTo>
                    <a:pt x="35" y="182"/>
                  </a:lnTo>
                  <a:lnTo>
                    <a:pt x="28" y="171"/>
                  </a:lnTo>
                  <a:lnTo>
                    <a:pt x="22" y="160"/>
                  </a:lnTo>
                  <a:lnTo>
                    <a:pt x="17" y="149"/>
                  </a:lnTo>
                  <a:lnTo>
                    <a:pt x="9" y="125"/>
                  </a:lnTo>
                  <a:lnTo>
                    <a:pt x="4" y="104"/>
                  </a:lnTo>
                  <a:lnTo>
                    <a:pt x="1" y="83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5" y="30"/>
                  </a:lnTo>
                  <a:lnTo>
                    <a:pt x="7" y="24"/>
                  </a:lnTo>
                  <a:lnTo>
                    <a:pt x="11" y="18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9" y="2"/>
                  </a:lnTo>
                  <a:lnTo>
                    <a:pt x="55" y="5"/>
                  </a:lnTo>
                  <a:lnTo>
                    <a:pt x="62" y="8"/>
                  </a:lnTo>
                  <a:lnTo>
                    <a:pt x="69" y="13"/>
                  </a:lnTo>
                  <a:lnTo>
                    <a:pt x="76" y="21"/>
                  </a:lnTo>
                  <a:lnTo>
                    <a:pt x="84" y="28"/>
                  </a:lnTo>
                  <a:lnTo>
                    <a:pt x="91" y="38"/>
                  </a:lnTo>
                  <a:lnTo>
                    <a:pt x="126" y="85"/>
                  </a:lnTo>
                  <a:lnTo>
                    <a:pt x="165" y="140"/>
                  </a:lnTo>
                  <a:lnTo>
                    <a:pt x="208" y="204"/>
                  </a:lnTo>
                  <a:lnTo>
                    <a:pt x="251" y="273"/>
                  </a:lnTo>
                  <a:lnTo>
                    <a:pt x="272" y="308"/>
                  </a:lnTo>
                  <a:lnTo>
                    <a:pt x="293" y="344"/>
                  </a:lnTo>
                  <a:lnTo>
                    <a:pt x="313" y="381"/>
                  </a:lnTo>
                  <a:lnTo>
                    <a:pt x="331" y="418"/>
                  </a:lnTo>
                  <a:lnTo>
                    <a:pt x="348" y="454"/>
                  </a:lnTo>
                  <a:lnTo>
                    <a:pt x="364" y="489"/>
                  </a:lnTo>
                  <a:lnTo>
                    <a:pt x="378" y="524"/>
                  </a:lnTo>
                  <a:lnTo>
                    <a:pt x="390" y="557"/>
                  </a:lnTo>
                  <a:lnTo>
                    <a:pt x="395" y="572"/>
                  </a:lnTo>
                  <a:lnTo>
                    <a:pt x="399" y="585"/>
                  </a:lnTo>
                  <a:lnTo>
                    <a:pt x="401" y="598"/>
                  </a:lnTo>
                  <a:lnTo>
                    <a:pt x="404" y="609"/>
                  </a:lnTo>
                  <a:lnTo>
                    <a:pt x="404" y="617"/>
                  </a:lnTo>
                  <a:lnTo>
                    <a:pt x="404" y="625"/>
                  </a:lnTo>
                  <a:lnTo>
                    <a:pt x="402" y="631"/>
                  </a:lnTo>
                  <a:lnTo>
                    <a:pt x="400" y="634"/>
                  </a:lnTo>
                  <a:lnTo>
                    <a:pt x="397" y="638"/>
                  </a:lnTo>
                  <a:lnTo>
                    <a:pt x="394" y="639"/>
                  </a:lnTo>
                  <a:lnTo>
                    <a:pt x="389" y="639"/>
                  </a:lnTo>
                  <a:lnTo>
                    <a:pt x="384" y="638"/>
                  </a:lnTo>
                  <a:lnTo>
                    <a:pt x="378" y="636"/>
                  </a:lnTo>
                  <a:lnTo>
                    <a:pt x="372" y="633"/>
                  </a:lnTo>
                  <a:lnTo>
                    <a:pt x="364" y="628"/>
                  </a:lnTo>
                  <a:lnTo>
                    <a:pt x="357" y="622"/>
                  </a:lnTo>
                  <a:lnTo>
                    <a:pt x="340" y="607"/>
                  </a:lnTo>
                  <a:lnTo>
                    <a:pt x="321" y="589"/>
                  </a:lnTo>
                  <a:lnTo>
                    <a:pt x="301" y="568"/>
                  </a:lnTo>
                  <a:lnTo>
                    <a:pt x="281" y="542"/>
                  </a:lnTo>
                  <a:lnTo>
                    <a:pt x="258" y="514"/>
                  </a:lnTo>
                  <a:lnTo>
                    <a:pt x="236" y="483"/>
                  </a:lnTo>
                  <a:lnTo>
                    <a:pt x="213" y="450"/>
                  </a:lnTo>
                  <a:lnTo>
                    <a:pt x="192" y="415"/>
                  </a:lnTo>
                  <a:lnTo>
                    <a:pt x="188" y="411"/>
                  </a:lnTo>
                  <a:lnTo>
                    <a:pt x="180" y="397"/>
                  </a:lnTo>
                  <a:lnTo>
                    <a:pt x="166" y="375"/>
                  </a:lnTo>
                  <a:lnTo>
                    <a:pt x="148" y="347"/>
                  </a:lnTo>
                  <a:lnTo>
                    <a:pt x="127" y="313"/>
                  </a:lnTo>
                  <a:lnTo>
                    <a:pt x="101" y="275"/>
                  </a:lnTo>
                  <a:lnTo>
                    <a:pt x="73" y="235"/>
                  </a:lnTo>
                  <a:lnTo>
                    <a:pt x="42" y="19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6321600" y="2860920"/>
              <a:ext cx="91800" cy="144360"/>
            </a:xfrm>
            <a:custGeom>
              <a:avLst/>
              <a:gdLst/>
              <a:ahLst/>
              <a:rect l="l" t="t" r="r" b="b"/>
              <a:pathLst>
                <a:path w="288" h="452">
                  <a:moveTo>
                    <a:pt x="137" y="295"/>
                  </a:moveTo>
                  <a:lnTo>
                    <a:pt x="136" y="291"/>
                  </a:lnTo>
                  <a:lnTo>
                    <a:pt x="128" y="281"/>
                  </a:lnTo>
                  <a:lnTo>
                    <a:pt x="118" y="265"/>
                  </a:lnTo>
                  <a:lnTo>
                    <a:pt x="106" y="246"/>
                  </a:lnTo>
                  <a:lnTo>
                    <a:pt x="90" y="221"/>
                  </a:lnTo>
                  <a:lnTo>
                    <a:pt x="72" y="194"/>
                  </a:lnTo>
                  <a:lnTo>
                    <a:pt x="52" y="165"/>
                  </a:lnTo>
                  <a:lnTo>
                    <a:pt x="31" y="135"/>
                  </a:lnTo>
                  <a:lnTo>
                    <a:pt x="21" y="119"/>
                  </a:lnTo>
                  <a:lnTo>
                    <a:pt x="14" y="103"/>
                  </a:lnTo>
                  <a:lnTo>
                    <a:pt x="8" y="87"/>
                  </a:lnTo>
                  <a:lnTo>
                    <a:pt x="3" y="72"/>
                  </a:lnTo>
                  <a:lnTo>
                    <a:pt x="2" y="57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4" y="21"/>
                  </a:lnTo>
                  <a:lnTo>
                    <a:pt x="8" y="12"/>
                  </a:lnTo>
                  <a:lnTo>
                    <a:pt x="14" y="5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1" y="2"/>
                  </a:lnTo>
                  <a:lnTo>
                    <a:pt x="46" y="5"/>
                  </a:lnTo>
                  <a:lnTo>
                    <a:pt x="56" y="13"/>
                  </a:lnTo>
                  <a:lnTo>
                    <a:pt x="67" y="26"/>
                  </a:lnTo>
                  <a:lnTo>
                    <a:pt x="90" y="59"/>
                  </a:lnTo>
                  <a:lnTo>
                    <a:pt x="117" y="98"/>
                  </a:lnTo>
                  <a:lnTo>
                    <a:pt x="147" y="142"/>
                  </a:lnTo>
                  <a:lnTo>
                    <a:pt x="177" y="192"/>
                  </a:lnTo>
                  <a:lnTo>
                    <a:pt x="207" y="243"/>
                  </a:lnTo>
                  <a:lnTo>
                    <a:pt x="235" y="294"/>
                  </a:lnTo>
                  <a:lnTo>
                    <a:pt x="248" y="319"/>
                  </a:lnTo>
                  <a:lnTo>
                    <a:pt x="260" y="345"/>
                  </a:lnTo>
                  <a:lnTo>
                    <a:pt x="270" y="369"/>
                  </a:lnTo>
                  <a:lnTo>
                    <a:pt x="278" y="392"/>
                  </a:lnTo>
                  <a:lnTo>
                    <a:pt x="284" y="413"/>
                  </a:lnTo>
                  <a:lnTo>
                    <a:pt x="287" y="430"/>
                  </a:lnTo>
                  <a:lnTo>
                    <a:pt x="288" y="436"/>
                  </a:lnTo>
                  <a:lnTo>
                    <a:pt x="288" y="441"/>
                  </a:lnTo>
                  <a:lnTo>
                    <a:pt x="287" y="445"/>
                  </a:lnTo>
                  <a:lnTo>
                    <a:pt x="286" y="449"/>
                  </a:lnTo>
                  <a:lnTo>
                    <a:pt x="283" y="451"/>
                  </a:lnTo>
                  <a:lnTo>
                    <a:pt x="281" y="452"/>
                  </a:lnTo>
                  <a:lnTo>
                    <a:pt x="277" y="452"/>
                  </a:lnTo>
                  <a:lnTo>
                    <a:pt x="273" y="451"/>
                  </a:lnTo>
                  <a:lnTo>
                    <a:pt x="265" y="447"/>
                  </a:lnTo>
                  <a:lnTo>
                    <a:pt x="254" y="440"/>
                  </a:lnTo>
                  <a:lnTo>
                    <a:pt x="241" y="430"/>
                  </a:lnTo>
                  <a:lnTo>
                    <a:pt x="229" y="417"/>
                  </a:lnTo>
                  <a:lnTo>
                    <a:pt x="214" y="402"/>
                  </a:lnTo>
                  <a:lnTo>
                    <a:pt x="200" y="383"/>
                  </a:lnTo>
                  <a:lnTo>
                    <a:pt x="184" y="364"/>
                  </a:lnTo>
                  <a:lnTo>
                    <a:pt x="169" y="342"/>
                  </a:lnTo>
                  <a:lnTo>
                    <a:pt x="153" y="319"/>
                  </a:lnTo>
                  <a:lnTo>
                    <a:pt x="137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7356600" y="2167200"/>
              <a:ext cx="142920" cy="439560"/>
            </a:xfrm>
            <a:custGeom>
              <a:avLst/>
              <a:gdLst/>
              <a:ahLst/>
              <a:rect l="l" t="t" r="r" b="b"/>
              <a:pathLst>
                <a:path w="450" h="1385">
                  <a:moveTo>
                    <a:pt x="450" y="163"/>
                  </a:moveTo>
                  <a:lnTo>
                    <a:pt x="250" y="1385"/>
                  </a:lnTo>
                  <a:lnTo>
                    <a:pt x="246" y="1384"/>
                  </a:lnTo>
                  <a:lnTo>
                    <a:pt x="237" y="1379"/>
                  </a:lnTo>
                  <a:lnTo>
                    <a:pt x="224" y="1374"/>
                  </a:lnTo>
                  <a:lnTo>
                    <a:pt x="206" y="1367"/>
                  </a:lnTo>
                  <a:lnTo>
                    <a:pt x="188" y="1358"/>
                  </a:lnTo>
                  <a:lnTo>
                    <a:pt x="167" y="1351"/>
                  </a:lnTo>
                  <a:lnTo>
                    <a:pt x="145" y="1343"/>
                  </a:lnTo>
                  <a:lnTo>
                    <a:pt x="124" y="1336"/>
                  </a:lnTo>
                  <a:lnTo>
                    <a:pt x="104" y="1330"/>
                  </a:lnTo>
                  <a:lnTo>
                    <a:pt x="83" y="1322"/>
                  </a:lnTo>
                  <a:lnTo>
                    <a:pt x="63" y="1315"/>
                  </a:lnTo>
                  <a:lnTo>
                    <a:pt x="43" y="1308"/>
                  </a:lnTo>
                  <a:lnTo>
                    <a:pt x="26" y="1302"/>
                  </a:lnTo>
                  <a:lnTo>
                    <a:pt x="12" y="1297"/>
                  </a:lnTo>
                  <a:lnTo>
                    <a:pt x="2" y="1294"/>
                  </a:lnTo>
                  <a:lnTo>
                    <a:pt x="0" y="1293"/>
                  </a:lnTo>
                  <a:lnTo>
                    <a:pt x="195" y="120"/>
                  </a:lnTo>
                  <a:lnTo>
                    <a:pt x="279" y="92"/>
                  </a:lnTo>
                  <a:lnTo>
                    <a:pt x="328" y="0"/>
                  </a:lnTo>
                  <a:lnTo>
                    <a:pt x="363" y="5"/>
                  </a:lnTo>
                  <a:lnTo>
                    <a:pt x="380" y="108"/>
                  </a:lnTo>
                  <a:lnTo>
                    <a:pt x="450" y="163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7362720" y="2433600"/>
              <a:ext cx="93600" cy="169920"/>
            </a:xfrm>
            <a:custGeom>
              <a:avLst/>
              <a:gdLst/>
              <a:ahLst/>
              <a:rect l="l" t="t" r="r" b="b"/>
              <a:pathLst>
                <a:path w="296" h="537">
                  <a:moveTo>
                    <a:pt x="150" y="7"/>
                  </a:moveTo>
                  <a:lnTo>
                    <a:pt x="81" y="483"/>
                  </a:lnTo>
                  <a:lnTo>
                    <a:pt x="128" y="499"/>
                  </a:lnTo>
                  <a:lnTo>
                    <a:pt x="231" y="18"/>
                  </a:lnTo>
                  <a:lnTo>
                    <a:pt x="296" y="27"/>
                  </a:lnTo>
                  <a:lnTo>
                    <a:pt x="211" y="537"/>
                  </a:lnTo>
                  <a:lnTo>
                    <a:pt x="188" y="527"/>
                  </a:lnTo>
                  <a:lnTo>
                    <a:pt x="157" y="516"/>
                  </a:lnTo>
                  <a:lnTo>
                    <a:pt x="123" y="503"/>
                  </a:lnTo>
                  <a:lnTo>
                    <a:pt x="87" y="489"/>
                  </a:lnTo>
                  <a:lnTo>
                    <a:pt x="54" y="478"/>
                  </a:lnTo>
                  <a:lnTo>
                    <a:pt x="26" y="467"/>
                  </a:lnTo>
                  <a:lnTo>
                    <a:pt x="7" y="461"/>
                  </a:lnTo>
                  <a:lnTo>
                    <a:pt x="0" y="458"/>
                  </a:lnTo>
                  <a:lnTo>
                    <a:pt x="76" y="0"/>
                  </a:lnTo>
                  <a:lnTo>
                    <a:pt x="150" y="7"/>
                  </a:lnTo>
                  <a:close/>
                </a:path>
              </a:pathLst>
            </a:custGeom>
            <a:solidFill>
              <a:srgbClr val="e0f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7364520" y="2433600"/>
              <a:ext cx="91800" cy="169920"/>
            </a:xfrm>
            <a:custGeom>
              <a:avLst/>
              <a:gdLst/>
              <a:ahLst/>
              <a:rect l="l" t="t" r="r" b="b"/>
              <a:pathLst>
                <a:path w="288" h="535">
                  <a:moveTo>
                    <a:pt x="77" y="0"/>
                  </a:moveTo>
                  <a:lnTo>
                    <a:pt x="142" y="5"/>
                  </a:lnTo>
                  <a:lnTo>
                    <a:pt x="73" y="481"/>
                  </a:lnTo>
                  <a:lnTo>
                    <a:pt x="136" y="506"/>
                  </a:lnTo>
                  <a:lnTo>
                    <a:pt x="237" y="22"/>
                  </a:lnTo>
                  <a:lnTo>
                    <a:pt x="288" y="25"/>
                  </a:lnTo>
                  <a:lnTo>
                    <a:pt x="203" y="535"/>
                  </a:lnTo>
                  <a:lnTo>
                    <a:pt x="180" y="525"/>
                  </a:lnTo>
                  <a:lnTo>
                    <a:pt x="150" y="514"/>
                  </a:lnTo>
                  <a:lnTo>
                    <a:pt x="117" y="502"/>
                  </a:lnTo>
                  <a:lnTo>
                    <a:pt x="83" y="488"/>
                  </a:lnTo>
                  <a:lnTo>
                    <a:pt x="51" y="477"/>
                  </a:lnTo>
                  <a:lnTo>
                    <a:pt x="25" y="467"/>
                  </a:lnTo>
                  <a:lnTo>
                    <a:pt x="6" y="461"/>
                  </a:lnTo>
                  <a:lnTo>
                    <a:pt x="0" y="459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dc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7367760" y="2433600"/>
              <a:ext cx="88560" cy="169920"/>
            </a:xfrm>
            <a:custGeom>
              <a:avLst/>
              <a:gdLst/>
              <a:ahLst/>
              <a:rect l="l" t="t" r="r" b="b"/>
              <a:pathLst>
                <a:path w="280" h="535">
                  <a:moveTo>
                    <a:pt x="80" y="0"/>
                  </a:moveTo>
                  <a:lnTo>
                    <a:pt x="134" y="5"/>
                  </a:lnTo>
                  <a:lnTo>
                    <a:pt x="65" y="481"/>
                  </a:lnTo>
                  <a:lnTo>
                    <a:pt x="145" y="513"/>
                  </a:lnTo>
                  <a:lnTo>
                    <a:pt x="240" y="25"/>
                  </a:lnTo>
                  <a:lnTo>
                    <a:pt x="280" y="25"/>
                  </a:lnTo>
                  <a:lnTo>
                    <a:pt x="195" y="535"/>
                  </a:lnTo>
                  <a:lnTo>
                    <a:pt x="173" y="525"/>
                  </a:lnTo>
                  <a:lnTo>
                    <a:pt x="144" y="514"/>
                  </a:lnTo>
                  <a:lnTo>
                    <a:pt x="112" y="502"/>
                  </a:lnTo>
                  <a:lnTo>
                    <a:pt x="78" y="491"/>
                  </a:lnTo>
                  <a:lnTo>
                    <a:pt x="49" y="480"/>
                  </a:lnTo>
                  <a:lnTo>
                    <a:pt x="23" y="470"/>
                  </a:lnTo>
                  <a:lnTo>
                    <a:pt x="7" y="464"/>
                  </a:lnTo>
                  <a:lnTo>
                    <a:pt x="0" y="46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bcb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7370640" y="2435400"/>
              <a:ext cx="85680" cy="168120"/>
            </a:xfrm>
            <a:custGeom>
              <a:avLst/>
              <a:gdLst/>
              <a:ahLst/>
              <a:rect l="l" t="t" r="r" b="b"/>
              <a:pathLst>
                <a:path w="269" h="532">
                  <a:moveTo>
                    <a:pt x="76" y="0"/>
                  </a:moveTo>
                  <a:lnTo>
                    <a:pt x="123" y="2"/>
                  </a:lnTo>
                  <a:lnTo>
                    <a:pt x="54" y="478"/>
                  </a:lnTo>
                  <a:lnTo>
                    <a:pt x="152" y="516"/>
                  </a:lnTo>
                  <a:lnTo>
                    <a:pt x="242" y="27"/>
                  </a:lnTo>
                  <a:lnTo>
                    <a:pt x="269" y="22"/>
                  </a:lnTo>
                  <a:lnTo>
                    <a:pt x="184" y="532"/>
                  </a:lnTo>
                  <a:lnTo>
                    <a:pt x="162" y="522"/>
                  </a:lnTo>
                  <a:lnTo>
                    <a:pt x="134" y="511"/>
                  </a:lnTo>
                  <a:lnTo>
                    <a:pt x="104" y="499"/>
                  </a:lnTo>
                  <a:lnTo>
                    <a:pt x="74" y="488"/>
                  </a:lnTo>
                  <a:lnTo>
                    <a:pt x="45" y="477"/>
                  </a:lnTo>
                  <a:lnTo>
                    <a:pt x="22" y="467"/>
                  </a:lnTo>
                  <a:lnTo>
                    <a:pt x="6" y="461"/>
                  </a:lnTo>
                  <a:lnTo>
                    <a:pt x="0" y="458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f9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7373880" y="2435400"/>
              <a:ext cx="82440" cy="168120"/>
            </a:xfrm>
            <a:custGeom>
              <a:avLst/>
              <a:gdLst/>
              <a:ahLst/>
              <a:rect l="l" t="t" r="r" b="b"/>
              <a:pathLst>
                <a:path w="261" h="530">
                  <a:moveTo>
                    <a:pt x="79" y="0"/>
                  </a:moveTo>
                  <a:lnTo>
                    <a:pt x="115" y="0"/>
                  </a:lnTo>
                  <a:lnTo>
                    <a:pt x="46" y="476"/>
                  </a:lnTo>
                  <a:lnTo>
                    <a:pt x="160" y="522"/>
                  </a:lnTo>
                  <a:lnTo>
                    <a:pt x="248" y="27"/>
                  </a:lnTo>
                  <a:lnTo>
                    <a:pt x="261" y="20"/>
                  </a:lnTo>
                  <a:lnTo>
                    <a:pt x="176" y="530"/>
                  </a:lnTo>
                  <a:lnTo>
                    <a:pt x="154" y="520"/>
                  </a:lnTo>
                  <a:lnTo>
                    <a:pt x="127" y="510"/>
                  </a:lnTo>
                  <a:lnTo>
                    <a:pt x="99" y="498"/>
                  </a:lnTo>
                  <a:lnTo>
                    <a:pt x="69" y="487"/>
                  </a:lnTo>
                  <a:lnTo>
                    <a:pt x="42" y="476"/>
                  </a:lnTo>
                  <a:lnTo>
                    <a:pt x="20" y="467"/>
                  </a:lnTo>
                  <a:lnTo>
                    <a:pt x="5" y="461"/>
                  </a:lnTo>
                  <a:lnTo>
                    <a:pt x="0" y="46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a28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7377120" y="2435400"/>
              <a:ext cx="79200" cy="168120"/>
            </a:xfrm>
            <a:custGeom>
              <a:avLst/>
              <a:gdLst/>
              <a:ahLst/>
              <a:rect l="l" t="t" r="r" b="b"/>
              <a:pathLst>
                <a:path w="250" h="530">
                  <a:moveTo>
                    <a:pt x="104" y="0"/>
                  </a:moveTo>
                  <a:lnTo>
                    <a:pt x="35" y="476"/>
                  </a:lnTo>
                  <a:lnTo>
                    <a:pt x="165" y="530"/>
                  </a:lnTo>
                  <a:lnTo>
                    <a:pt x="250" y="31"/>
                  </a:lnTo>
                  <a:lnTo>
                    <a:pt x="250" y="20"/>
                  </a:lnTo>
                  <a:lnTo>
                    <a:pt x="165" y="530"/>
                  </a:lnTo>
                  <a:lnTo>
                    <a:pt x="144" y="522"/>
                  </a:lnTo>
                  <a:lnTo>
                    <a:pt x="119" y="510"/>
                  </a:lnTo>
                  <a:lnTo>
                    <a:pt x="90" y="499"/>
                  </a:lnTo>
                  <a:lnTo>
                    <a:pt x="63" y="488"/>
                  </a:lnTo>
                  <a:lnTo>
                    <a:pt x="39" y="478"/>
                  </a:lnTo>
                  <a:lnTo>
                    <a:pt x="19" y="470"/>
                  </a:lnTo>
                  <a:lnTo>
                    <a:pt x="5" y="464"/>
                  </a:lnTo>
                  <a:lnTo>
                    <a:pt x="0" y="462"/>
                  </a:lnTo>
                  <a:lnTo>
                    <a:pt x="79" y="4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9779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7373880" y="2436840"/>
              <a:ext cx="41400" cy="150840"/>
            </a:xfrm>
            <a:custGeom>
              <a:avLst/>
              <a:gdLst/>
              <a:ahLst/>
              <a:rect l="l" t="t" r="r" b="b"/>
              <a:pathLst>
                <a:path w="128" h="472">
                  <a:moveTo>
                    <a:pt x="52" y="472"/>
                  </a:moveTo>
                  <a:lnTo>
                    <a:pt x="128" y="0"/>
                  </a:lnTo>
                  <a:lnTo>
                    <a:pt x="79" y="0"/>
                  </a:lnTo>
                  <a:lnTo>
                    <a:pt x="0" y="456"/>
                  </a:lnTo>
                  <a:lnTo>
                    <a:pt x="52" y="472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7400880" y="2440080"/>
              <a:ext cx="41400" cy="158760"/>
            </a:xfrm>
            <a:custGeom>
              <a:avLst/>
              <a:gdLst/>
              <a:ahLst/>
              <a:rect l="l" t="t" r="r" b="b"/>
              <a:pathLst>
                <a:path w="130" h="498">
                  <a:moveTo>
                    <a:pt x="49" y="498"/>
                  </a:moveTo>
                  <a:lnTo>
                    <a:pt x="130" y="17"/>
                  </a:lnTo>
                  <a:lnTo>
                    <a:pt x="82" y="0"/>
                  </a:lnTo>
                  <a:lnTo>
                    <a:pt x="0" y="478"/>
                  </a:lnTo>
                  <a:lnTo>
                    <a:pt x="49" y="498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7391520" y="2208240"/>
              <a:ext cx="99720" cy="201600"/>
            </a:xfrm>
            <a:custGeom>
              <a:avLst/>
              <a:gdLst/>
              <a:ahLst/>
              <a:rect l="l" t="t" r="r" b="b"/>
              <a:pathLst>
                <a:path w="315" h="637">
                  <a:moveTo>
                    <a:pt x="0" y="594"/>
                  </a:moveTo>
                  <a:lnTo>
                    <a:pt x="98" y="5"/>
                  </a:lnTo>
                  <a:lnTo>
                    <a:pt x="102" y="3"/>
                  </a:lnTo>
                  <a:lnTo>
                    <a:pt x="116" y="1"/>
                  </a:lnTo>
                  <a:lnTo>
                    <a:pt x="135" y="0"/>
                  </a:lnTo>
                  <a:lnTo>
                    <a:pt x="162" y="0"/>
                  </a:lnTo>
                  <a:lnTo>
                    <a:pt x="177" y="1"/>
                  </a:lnTo>
                  <a:lnTo>
                    <a:pt x="194" y="2"/>
                  </a:lnTo>
                  <a:lnTo>
                    <a:pt x="212" y="6"/>
                  </a:lnTo>
                  <a:lnTo>
                    <a:pt x="231" y="10"/>
                  </a:lnTo>
                  <a:lnTo>
                    <a:pt x="251" y="16"/>
                  </a:lnTo>
                  <a:lnTo>
                    <a:pt x="272" y="23"/>
                  </a:lnTo>
                  <a:lnTo>
                    <a:pt x="293" y="32"/>
                  </a:lnTo>
                  <a:lnTo>
                    <a:pt x="315" y="41"/>
                  </a:lnTo>
                  <a:lnTo>
                    <a:pt x="218" y="637"/>
                  </a:lnTo>
                  <a:lnTo>
                    <a:pt x="4" y="601"/>
                  </a:lnTo>
                  <a:lnTo>
                    <a:pt x="0" y="594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7391520" y="2208240"/>
              <a:ext cx="44280" cy="192240"/>
            </a:xfrm>
            <a:custGeom>
              <a:avLst/>
              <a:gdLst/>
              <a:ahLst/>
              <a:rect l="l" t="t" r="r" b="b"/>
              <a:pathLst>
                <a:path w="137" h="606">
                  <a:moveTo>
                    <a:pt x="38" y="606"/>
                  </a:moveTo>
                  <a:lnTo>
                    <a:pt x="4" y="600"/>
                  </a:lnTo>
                  <a:lnTo>
                    <a:pt x="0" y="593"/>
                  </a:lnTo>
                  <a:lnTo>
                    <a:pt x="98" y="4"/>
                  </a:lnTo>
                  <a:lnTo>
                    <a:pt x="98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1"/>
                  </a:lnTo>
                  <a:lnTo>
                    <a:pt x="119" y="1"/>
                  </a:lnTo>
                  <a:lnTo>
                    <a:pt x="128" y="0"/>
                  </a:lnTo>
                  <a:lnTo>
                    <a:pt x="137" y="0"/>
                  </a:lnTo>
                  <a:lnTo>
                    <a:pt x="38" y="606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7391520" y="2208240"/>
              <a:ext cx="41040" cy="192240"/>
            </a:xfrm>
            <a:custGeom>
              <a:avLst/>
              <a:gdLst/>
              <a:ahLst/>
              <a:rect l="l" t="t" r="r" b="b"/>
              <a:pathLst>
                <a:path w="128" h="606">
                  <a:moveTo>
                    <a:pt x="128" y="0"/>
                  </a:moveTo>
                  <a:lnTo>
                    <a:pt x="31" y="606"/>
                  </a:lnTo>
                  <a:lnTo>
                    <a:pt x="4" y="600"/>
                  </a:lnTo>
                  <a:lnTo>
                    <a:pt x="0" y="593"/>
                  </a:lnTo>
                  <a:lnTo>
                    <a:pt x="98" y="4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4" y="1"/>
                  </a:lnTo>
                  <a:lnTo>
                    <a:pt x="121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c99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7391520" y="2210040"/>
              <a:ext cx="38160" cy="190440"/>
            </a:xfrm>
            <a:custGeom>
              <a:avLst/>
              <a:gdLst/>
              <a:ahLst/>
              <a:rect l="l" t="t" r="r" b="b"/>
              <a:pathLst>
                <a:path w="117" h="600">
                  <a:moveTo>
                    <a:pt x="117" y="0"/>
                  </a:moveTo>
                  <a:lnTo>
                    <a:pt x="20" y="600"/>
                  </a:lnTo>
                  <a:lnTo>
                    <a:pt x="4" y="596"/>
                  </a:lnTo>
                  <a:lnTo>
                    <a:pt x="0" y="589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29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7391520" y="2210040"/>
              <a:ext cx="33120" cy="188640"/>
            </a:xfrm>
            <a:custGeom>
              <a:avLst/>
              <a:gdLst/>
              <a:ahLst/>
              <a:rect l="l" t="t" r="r" b="b"/>
              <a:pathLst>
                <a:path w="106" h="596">
                  <a:moveTo>
                    <a:pt x="76" y="198"/>
                  </a:moveTo>
                  <a:lnTo>
                    <a:pt x="11" y="596"/>
                  </a:lnTo>
                  <a:lnTo>
                    <a:pt x="4" y="596"/>
                  </a:lnTo>
                  <a:lnTo>
                    <a:pt x="0" y="589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3" y="1"/>
                  </a:lnTo>
                  <a:lnTo>
                    <a:pt x="106" y="2"/>
                  </a:lnTo>
                  <a:lnTo>
                    <a:pt x="76" y="198"/>
                  </a:lnTo>
                  <a:close/>
                </a:path>
              </a:pathLst>
            </a:custGeom>
            <a:solidFill>
              <a:srgbClr val="b9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7450200" y="2216160"/>
              <a:ext cx="41040" cy="193680"/>
            </a:xfrm>
            <a:custGeom>
              <a:avLst/>
              <a:gdLst/>
              <a:ahLst/>
              <a:rect l="l" t="t" r="r" b="b"/>
              <a:pathLst>
                <a:path w="133" h="609">
                  <a:moveTo>
                    <a:pt x="101" y="0"/>
                  </a:moveTo>
                  <a:lnTo>
                    <a:pt x="105" y="1"/>
                  </a:lnTo>
                  <a:lnTo>
                    <a:pt x="110" y="2"/>
                  </a:lnTo>
                  <a:lnTo>
                    <a:pt x="113" y="5"/>
                  </a:lnTo>
                  <a:lnTo>
                    <a:pt x="117" y="6"/>
                  </a:lnTo>
                  <a:lnTo>
                    <a:pt x="122" y="9"/>
                  </a:lnTo>
                  <a:lnTo>
                    <a:pt x="126" y="10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36" y="609"/>
                  </a:lnTo>
                  <a:lnTo>
                    <a:pt x="0" y="60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7451640" y="2217960"/>
              <a:ext cx="39600" cy="191880"/>
            </a:xfrm>
            <a:custGeom>
              <a:avLst/>
              <a:gdLst/>
              <a:ahLst/>
              <a:rect l="l" t="t" r="r" b="b"/>
              <a:pathLst>
                <a:path w="124" h="603">
                  <a:moveTo>
                    <a:pt x="101" y="0"/>
                  </a:moveTo>
                  <a:lnTo>
                    <a:pt x="104" y="1"/>
                  </a:lnTo>
                  <a:lnTo>
                    <a:pt x="107" y="3"/>
                  </a:lnTo>
                  <a:lnTo>
                    <a:pt x="110" y="4"/>
                  </a:lnTo>
                  <a:lnTo>
                    <a:pt x="113" y="5"/>
                  </a:lnTo>
                  <a:lnTo>
                    <a:pt x="117" y="6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4" y="7"/>
                  </a:lnTo>
                  <a:lnTo>
                    <a:pt x="27" y="603"/>
                  </a:lnTo>
                  <a:lnTo>
                    <a:pt x="0" y="598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c99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7456320" y="2219400"/>
              <a:ext cx="34920" cy="190440"/>
            </a:xfrm>
            <a:custGeom>
              <a:avLst/>
              <a:gdLst/>
              <a:ahLst/>
              <a:rect l="l" t="t" r="r" b="b"/>
              <a:pathLst>
                <a:path w="113" h="598">
                  <a:moveTo>
                    <a:pt x="97" y="0"/>
                  </a:moveTo>
                  <a:lnTo>
                    <a:pt x="101" y="2"/>
                  </a:lnTo>
                  <a:lnTo>
                    <a:pt x="103" y="4"/>
                  </a:lnTo>
                  <a:lnTo>
                    <a:pt x="106" y="5"/>
                  </a:lnTo>
                  <a:lnTo>
                    <a:pt x="107" y="5"/>
                  </a:lnTo>
                  <a:lnTo>
                    <a:pt x="109" y="5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3" y="2"/>
                  </a:lnTo>
                  <a:lnTo>
                    <a:pt x="16" y="598"/>
                  </a:lnTo>
                  <a:lnTo>
                    <a:pt x="0" y="595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c29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7458120" y="2220840"/>
              <a:ext cx="33120" cy="189000"/>
            </a:xfrm>
            <a:custGeom>
              <a:avLst/>
              <a:gdLst/>
              <a:ahLst/>
              <a:rect l="l" t="t" r="r" b="b"/>
              <a:pathLst>
                <a:path w="106" h="596">
                  <a:moveTo>
                    <a:pt x="99" y="4"/>
                  </a:moveTo>
                  <a:lnTo>
                    <a:pt x="100" y="7"/>
                  </a:lnTo>
                  <a:lnTo>
                    <a:pt x="102" y="8"/>
                  </a:lnTo>
                  <a:lnTo>
                    <a:pt x="103" y="8"/>
                  </a:lnTo>
                  <a:lnTo>
                    <a:pt x="105" y="7"/>
                  </a:lnTo>
                  <a:lnTo>
                    <a:pt x="106" y="4"/>
                  </a:lnTo>
                  <a:lnTo>
                    <a:pt x="106" y="3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9" y="596"/>
                  </a:lnTo>
                  <a:lnTo>
                    <a:pt x="0" y="593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b9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7386480" y="2394000"/>
              <a:ext cx="76320" cy="54000"/>
            </a:xfrm>
            <a:custGeom>
              <a:avLst/>
              <a:gdLst/>
              <a:ahLst/>
              <a:rect l="l" t="t" r="r" b="b"/>
              <a:pathLst>
                <a:path w="244" h="171">
                  <a:moveTo>
                    <a:pt x="0" y="125"/>
                  </a:moveTo>
                  <a:lnTo>
                    <a:pt x="1" y="126"/>
                  </a:lnTo>
                  <a:lnTo>
                    <a:pt x="4" y="130"/>
                  </a:lnTo>
                  <a:lnTo>
                    <a:pt x="12" y="135"/>
                  </a:lnTo>
                  <a:lnTo>
                    <a:pt x="23" y="140"/>
                  </a:lnTo>
                  <a:lnTo>
                    <a:pt x="36" y="147"/>
                  </a:lnTo>
                  <a:lnTo>
                    <a:pt x="55" y="153"/>
                  </a:lnTo>
                  <a:lnTo>
                    <a:pt x="76" y="160"/>
                  </a:lnTo>
                  <a:lnTo>
                    <a:pt x="103" y="166"/>
                  </a:lnTo>
                  <a:lnTo>
                    <a:pt x="130" y="169"/>
                  </a:lnTo>
                  <a:lnTo>
                    <a:pt x="153" y="171"/>
                  </a:lnTo>
                  <a:lnTo>
                    <a:pt x="174" y="171"/>
                  </a:lnTo>
                  <a:lnTo>
                    <a:pt x="191" y="169"/>
                  </a:lnTo>
                  <a:lnTo>
                    <a:pt x="204" y="167"/>
                  </a:lnTo>
                  <a:lnTo>
                    <a:pt x="214" y="166"/>
                  </a:lnTo>
                  <a:lnTo>
                    <a:pt x="220" y="163"/>
                  </a:lnTo>
                  <a:lnTo>
                    <a:pt x="222" y="163"/>
                  </a:lnTo>
                  <a:lnTo>
                    <a:pt x="227" y="139"/>
                  </a:lnTo>
                  <a:lnTo>
                    <a:pt x="214" y="128"/>
                  </a:lnTo>
                  <a:lnTo>
                    <a:pt x="231" y="120"/>
                  </a:lnTo>
                  <a:lnTo>
                    <a:pt x="236" y="78"/>
                  </a:lnTo>
                  <a:lnTo>
                    <a:pt x="227" y="65"/>
                  </a:lnTo>
                  <a:lnTo>
                    <a:pt x="241" y="60"/>
                  </a:lnTo>
                  <a:lnTo>
                    <a:pt x="244" y="46"/>
                  </a:lnTo>
                  <a:lnTo>
                    <a:pt x="242" y="45"/>
                  </a:lnTo>
                  <a:lnTo>
                    <a:pt x="237" y="41"/>
                  </a:lnTo>
                  <a:lnTo>
                    <a:pt x="230" y="37"/>
                  </a:lnTo>
                  <a:lnTo>
                    <a:pt x="219" y="30"/>
                  </a:lnTo>
                  <a:lnTo>
                    <a:pt x="203" y="23"/>
                  </a:lnTo>
                  <a:lnTo>
                    <a:pt x="184" y="17"/>
                  </a:lnTo>
                  <a:lnTo>
                    <a:pt x="162" y="11"/>
                  </a:lnTo>
                  <a:lnTo>
                    <a:pt x="135" y="6"/>
                  </a:lnTo>
                  <a:lnTo>
                    <a:pt x="108" y="2"/>
                  </a:lnTo>
                  <a:lnTo>
                    <a:pt x="84" y="0"/>
                  </a:lnTo>
                  <a:lnTo>
                    <a:pt x="65" y="0"/>
                  </a:lnTo>
                  <a:lnTo>
                    <a:pt x="49" y="1"/>
                  </a:lnTo>
                  <a:lnTo>
                    <a:pt x="35" y="2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6" y="19"/>
                  </a:lnTo>
                  <a:lnTo>
                    <a:pt x="27" y="30"/>
                  </a:lnTo>
                  <a:lnTo>
                    <a:pt x="13" y="35"/>
                  </a:lnTo>
                  <a:lnTo>
                    <a:pt x="4" y="82"/>
                  </a:lnTo>
                  <a:lnTo>
                    <a:pt x="16" y="96"/>
                  </a:lnTo>
                  <a:lnTo>
                    <a:pt x="2" y="98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433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7435800" y="2219400"/>
              <a:ext cx="41400" cy="163440"/>
            </a:xfrm>
            <a:custGeom>
              <a:avLst/>
              <a:gdLst/>
              <a:ahLst/>
              <a:rect l="l" t="t" r="r" b="b"/>
              <a:pathLst>
                <a:path w="132" h="514">
                  <a:moveTo>
                    <a:pt x="83" y="8"/>
                  </a:moveTo>
                  <a:lnTo>
                    <a:pt x="92" y="3"/>
                  </a:lnTo>
                  <a:lnTo>
                    <a:pt x="99" y="1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19" y="2"/>
                  </a:lnTo>
                  <a:lnTo>
                    <a:pt x="123" y="4"/>
                  </a:lnTo>
                  <a:lnTo>
                    <a:pt x="125" y="7"/>
                  </a:lnTo>
                  <a:lnTo>
                    <a:pt x="129" y="13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27"/>
                  </a:lnTo>
                  <a:lnTo>
                    <a:pt x="129" y="46"/>
                  </a:lnTo>
                  <a:lnTo>
                    <a:pt x="121" y="96"/>
                  </a:lnTo>
                  <a:lnTo>
                    <a:pt x="109" y="167"/>
                  </a:lnTo>
                  <a:lnTo>
                    <a:pt x="96" y="249"/>
                  </a:lnTo>
                  <a:lnTo>
                    <a:pt x="82" y="332"/>
                  </a:lnTo>
                  <a:lnTo>
                    <a:pt x="70" y="405"/>
                  </a:lnTo>
                  <a:lnTo>
                    <a:pt x="60" y="458"/>
                  </a:lnTo>
                  <a:lnTo>
                    <a:pt x="56" y="483"/>
                  </a:lnTo>
                  <a:lnTo>
                    <a:pt x="55" y="490"/>
                  </a:lnTo>
                  <a:lnTo>
                    <a:pt x="52" y="496"/>
                  </a:lnTo>
                  <a:lnTo>
                    <a:pt x="50" y="503"/>
                  </a:lnTo>
                  <a:lnTo>
                    <a:pt x="45" y="508"/>
                  </a:lnTo>
                  <a:lnTo>
                    <a:pt x="40" y="511"/>
                  </a:lnTo>
                  <a:lnTo>
                    <a:pt x="34" y="514"/>
                  </a:lnTo>
                  <a:lnTo>
                    <a:pt x="27" y="512"/>
                  </a:lnTo>
                  <a:lnTo>
                    <a:pt x="18" y="510"/>
                  </a:lnTo>
                  <a:lnTo>
                    <a:pt x="13" y="509"/>
                  </a:lnTo>
                  <a:lnTo>
                    <a:pt x="9" y="506"/>
                  </a:lnTo>
                  <a:lnTo>
                    <a:pt x="7" y="504"/>
                  </a:lnTo>
                  <a:lnTo>
                    <a:pt x="4" y="500"/>
                  </a:lnTo>
                  <a:lnTo>
                    <a:pt x="1" y="494"/>
                  </a:lnTo>
                  <a:lnTo>
                    <a:pt x="0" y="487"/>
                  </a:lnTo>
                  <a:lnTo>
                    <a:pt x="0" y="480"/>
                  </a:lnTo>
                  <a:lnTo>
                    <a:pt x="1" y="474"/>
                  </a:lnTo>
                  <a:lnTo>
                    <a:pt x="2" y="471"/>
                  </a:lnTo>
                  <a:lnTo>
                    <a:pt x="2" y="469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dbb2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7439040" y="2220840"/>
              <a:ext cx="38160" cy="146160"/>
            </a:xfrm>
            <a:custGeom>
              <a:avLst/>
              <a:gdLst/>
              <a:ahLst/>
              <a:rect l="l" t="t" r="r" b="b"/>
              <a:pathLst>
                <a:path w="119" h="460">
                  <a:moveTo>
                    <a:pt x="72" y="7"/>
                  </a:moveTo>
                  <a:lnTo>
                    <a:pt x="80" y="3"/>
                  </a:lnTo>
                  <a:lnTo>
                    <a:pt x="87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3" y="1"/>
                  </a:lnTo>
                  <a:lnTo>
                    <a:pt x="107" y="2"/>
                  </a:lnTo>
                  <a:lnTo>
                    <a:pt x="109" y="5"/>
                  </a:lnTo>
                  <a:lnTo>
                    <a:pt x="112" y="7"/>
                  </a:lnTo>
                  <a:lnTo>
                    <a:pt x="115" y="13"/>
                  </a:lnTo>
                  <a:lnTo>
                    <a:pt x="118" y="19"/>
                  </a:lnTo>
                  <a:lnTo>
                    <a:pt x="119" y="24"/>
                  </a:lnTo>
                  <a:lnTo>
                    <a:pt x="119" y="27"/>
                  </a:lnTo>
                  <a:lnTo>
                    <a:pt x="115" y="43"/>
                  </a:lnTo>
                  <a:lnTo>
                    <a:pt x="108" y="87"/>
                  </a:lnTo>
                  <a:lnTo>
                    <a:pt x="98" y="151"/>
                  </a:lnTo>
                  <a:lnTo>
                    <a:pt x="86" y="224"/>
                  </a:lnTo>
                  <a:lnTo>
                    <a:pt x="73" y="297"/>
                  </a:lnTo>
                  <a:lnTo>
                    <a:pt x="62" y="363"/>
                  </a:lnTo>
                  <a:lnTo>
                    <a:pt x="55" y="412"/>
                  </a:lnTo>
                  <a:lnTo>
                    <a:pt x="51" y="434"/>
                  </a:lnTo>
                  <a:lnTo>
                    <a:pt x="49" y="440"/>
                  </a:lnTo>
                  <a:lnTo>
                    <a:pt x="48" y="445"/>
                  </a:lnTo>
                  <a:lnTo>
                    <a:pt x="45" y="451"/>
                  </a:lnTo>
                  <a:lnTo>
                    <a:pt x="41" y="455"/>
                  </a:lnTo>
                  <a:lnTo>
                    <a:pt x="37" y="459"/>
                  </a:lnTo>
                  <a:lnTo>
                    <a:pt x="30" y="460"/>
                  </a:lnTo>
                  <a:lnTo>
                    <a:pt x="24" y="460"/>
                  </a:lnTo>
                  <a:lnTo>
                    <a:pt x="16" y="459"/>
                  </a:lnTo>
                  <a:lnTo>
                    <a:pt x="11" y="456"/>
                  </a:lnTo>
                  <a:lnTo>
                    <a:pt x="8" y="454"/>
                  </a:lnTo>
                  <a:lnTo>
                    <a:pt x="5" y="451"/>
                  </a:lnTo>
                  <a:lnTo>
                    <a:pt x="3" y="449"/>
                  </a:lnTo>
                  <a:lnTo>
                    <a:pt x="1" y="443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1" y="425"/>
                  </a:lnTo>
                  <a:lnTo>
                    <a:pt x="1" y="422"/>
                  </a:lnTo>
                  <a:lnTo>
                    <a:pt x="2" y="420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e2bc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7442280" y="2222640"/>
              <a:ext cx="33120" cy="129960"/>
            </a:xfrm>
            <a:custGeom>
              <a:avLst/>
              <a:gdLst/>
              <a:ahLst/>
              <a:rect l="l" t="t" r="r" b="b"/>
              <a:pathLst>
                <a:path w="105" h="406">
                  <a:moveTo>
                    <a:pt x="64" y="7"/>
                  </a:moveTo>
                  <a:lnTo>
                    <a:pt x="71" y="4"/>
                  </a:lnTo>
                  <a:lnTo>
                    <a:pt x="77" y="1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1" y="1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9" y="7"/>
                  </a:lnTo>
                  <a:lnTo>
                    <a:pt x="102" y="12"/>
                  </a:lnTo>
                  <a:lnTo>
                    <a:pt x="104" y="17"/>
                  </a:lnTo>
                  <a:lnTo>
                    <a:pt x="104" y="21"/>
                  </a:lnTo>
                  <a:lnTo>
                    <a:pt x="105" y="23"/>
                  </a:lnTo>
                  <a:lnTo>
                    <a:pt x="102" y="38"/>
                  </a:lnTo>
                  <a:lnTo>
                    <a:pt x="96" y="77"/>
                  </a:lnTo>
                  <a:lnTo>
                    <a:pt x="86" y="134"/>
                  </a:lnTo>
                  <a:lnTo>
                    <a:pt x="75" y="198"/>
                  </a:lnTo>
                  <a:lnTo>
                    <a:pt x="64" y="264"/>
                  </a:lnTo>
                  <a:lnTo>
                    <a:pt x="54" y="322"/>
                  </a:lnTo>
                  <a:lnTo>
                    <a:pt x="46" y="365"/>
                  </a:lnTo>
                  <a:lnTo>
                    <a:pt x="43" y="384"/>
                  </a:lnTo>
                  <a:lnTo>
                    <a:pt x="42" y="390"/>
                  </a:lnTo>
                  <a:lnTo>
                    <a:pt x="40" y="393"/>
                  </a:lnTo>
                  <a:lnTo>
                    <a:pt x="39" y="398"/>
                  </a:lnTo>
                  <a:lnTo>
                    <a:pt x="35" y="402"/>
                  </a:lnTo>
                  <a:lnTo>
                    <a:pt x="32" y="405"/>
                  </a:lnTo>
                  <a:lnTo>
                    <a:pt x="27" y="406"/>
                  </a:lnTo>
                  <a:lnTo>
                    <a:pt x="21" y="406"/>
                  </a:lnTo>
                  <a:lnTo>
                    <a:pt x="12" y="403"/>
                  </a:lnTo>
                  <a:lnTo>
                    <a:pt x="10" y="402"/>
                  </a:lnTo>
                  <a:lnTo>
                    <a:pt x="7" y="401"/>
                  </a:lnTo>
                  <a:lnTo>
                    <a:pt x="5" y="398"/>
                  </a:lnTo>
                  <a:lnTo>
                    <a:pt x="3" y="396"/>
                  </a:lnTo>
                  <a:lnTo>
                    <a:pt x="1" y="391"/>
                  </a:lnTo>
                  <a:lnTo>
                    <a:pt x="0" y="385"/>
                  </a:lnTo>
                  <a:lnTo>
                    <a:pt x="0" y="380"/>
                  </a:lnTo>
                  <a:lnTo>
                    <a:pt x="1" y="375"/>
                  </a:lnTo>
                  <a:lnTo>
                    <a:pt x="1" y="371"/>
                  </a:lnTo>
                  <a:lnTo>
                    <a:pt x="2" y="37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ecc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7445520" y="2225880"/>
              <a:ext cx="28440" cy="110880"/>
            </a:xfrm>
            <a:custGeom>
              <a:avLst/>
              <a:gdLst/>
              <a:ahLst/>
              <a:rect l="l" t="t" r="r" b="b"/>
              <a:pathLst>
                <a:path w="91" h="351">
                  <a:moveTo>
                    <a:pt x="56" y="5"/>
                  </a:moveTo>
                  <a:lnTo>
                    <a:pt x="61" y="3"/>
                  </a:lnTo>
                  <a:lnTo>
                    <a:pt x="66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1" y="3"/>
                  </a:lnTo>
                  <a:lnTo>
                    <a:pt x="86" y="5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1" y="17"/>
                  </a:lnTo>
                  <a:lnTo>
                    <a:pt x="91" y="19"/>
                  </a:lnTo>
                  <a:lnTo>
                    <a:pt x="88" y="32"/>
                  </a:lnTo>
                  <a:lnTo>
                    <a:pt x="83" y="65"/>
                  </a:lnTo>
                  <a:lnTo>
                    <a:pt x="75" y="115"/>
                  </a:lnTo>
                  <a:lnTo>
                    <a:pt x="65" y="171"/>
                  </a:lnTo>
                  <a:lnTo>
                    <a:pt x="55" y="228"/>
                  </a:lnTo>
                  <a:lnTo>
                    <a:pt x="47" y="278"/>
                  </a:lnTo>
                  <a:lnTo>
                    <a:pt x="40" y="314"/>
                  </a:lnTo>
                  <a:lnTo>
                    <a:pt x="37" y="331"/>
                  </a:lnTo>
                  <a:lnTo>
                    <a:pt x="37" y="336"/>
                  </a:lnTo>
                  <a:lnTo>
                    <a:pt x="35" y="341"/>
                  </a:lnTo>
                  <a:lnTo>
                    <a:pt x="33" y="345"/>
                  </a:lnTo>
                  <a:lnTo>
                    <a:pt x="31" y="347"/>
                  </a:lnTo>
                  <a:lnTo>
                    <a:pt x="27" y="350"/>
                  </a:lnTo>
                  <a:lnTo>
                    <a:pt x="23" y="351"/>
                  </a:lnTo>
                  <a:lnTo>
                    <a:pt x="18" y="351"/>
                  </a:lnTo>
                  <a:lnTo>
                    <a:pt x="12" y="350"/>
                  </a:lnTo>
                  <a:lnTo>
                    <a:pt x="6" y="347"/>
                  </a:lnTo>
                  <a:lnTo>
                    <a:pt x="2" y="343"/>
                  </a:lnTo>
                  <a:lnTo>
                    <a:pt x="1" y="338"/>
                  </a:lnTo>
                  <a:lnTo>
                    <a:pt x="0" y="335"/>
                  </a:lnTo>
                  <a:lnTo>
                    <a:pt x="0" y="330"/>
                  </a:lnTo>
                  <a:lnTo>
                    <a:pt x="1" y="326"/>
                  </a:lnTo>
                  <a:lnTo>
                    <a:pt x="1" y="324"/>
                  </a:lnTo>
                  <a:lnTo>
                    <a:pt x="1" y="323"/>
                  </a:lnTo>
                  <a:lnTo>
                    <a:pt x="56" y="5"/>
                  </a:lnTo>
                  <a:close/>
                </a:path>
              </a:pathLst>
            </a:custGeom>
            <a:solidFill>
              <a:srgbClr val="f2c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7448400" y="2227320"/>
              <a:ext cx="25560" cy="95400"/>
            </a:xfrm>
            <a:custGeom>
              <a:avLst/>
              <a:gdLst/>
              <a:ahLst/>
              <a:rect l="l" t="t" r="r" b="b"/>
              <a:pathLst>
                <a:path w="77" h="298">
                  <a:moveTo>
                    <a:pt x="48" y="4"/>
                  </a:moveTo>
                  <a:lnTo>
                    <a:pt x="1" y="273"/>
                  </a:lnTo>
                  <a:lnTo>
                    <a:pt x="1" y="275"/>
                  </a:lnTo>
                  <a:lnTo>
                    <a:pt x="0" y="276"/>
                  </a:lnTo>
                  <a:lnTo>
                    <a:pt x="0" y="280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1" y="292"/>
                  </a:lnTo>
                  <a:lnTo>
                    <a:pt x="5" y="296"/>
                  </a:lnTo>
                  <a:lnTo>
                    <a:pt x="10" y="298"/>
                  </a:lnTo>
                  <a:lnTo>
                    <a:pt x="15" y="298"/>
                  </a:lnTo>
                  <a:lnTo>
                    <a:pt x="20" y="298"/>
                  </a:lnTo>
                  <a:lnTo>
                    <a:pt x="23" y="297"/>
                  </a:lnTo>
                  <a:lnTo>
                    <a:pt x="27" y="294"/>
                  </a:lnTo>
                  <a:lnTo>
                    <a:pt x="28" y="292"/>
                  </a:lnTo>
                  <a:lnTo>
                    <a:pt x="31" y="289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67"/>
                  </a:lnTo>
                  <a:lnTo>
                    <a:pt x="39" y="235"/>
                  </a:lnTo>
                  <a:lnTo>
                    <a:pt x="47" y="194"/>
                  </a:lnTo>
                  <a:lnTo>
                    <a:pt x="55" y="146"/>
                  </a:lnTo>
                  <a:lnTo>
                    <a:pt x="64" y="99"/>
                  </a:lnTo>
                  <a:lnTo>
                    <a:pt x="71" y="58"/>
                  </a:lnTo>
                  <a:lnTo>
                    <a:pt x="76" y="29"/>
                  </a:lnTo>
                  <a:lnTo>
                    <a:pt x="77" y="18"/>
                  </a:lnTo>
                  <a:lnTo>
                    <a:pt x="77" y="16"/>
                  </a:lnTo>
                  <a:lnTo>
                    <a:pt x="76" y="14"/>
                  </a:lnTo>
                  <a:lnTo>
                    <a:pt x="75" y="10"/>
                  </a:lnTo>
                  <a:lnTo>
                    <a:pt x="72" y="7"/>
                  </a:lnTo>
                  <a:lnTo>
                    <a:pt x="69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2"/>
                  </a:lnTo>
                  <a:lnTo>
                    <a:pt x="53" y="3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f9d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 flipH="1">
              <a:off x="7373520" y="2441520"/>
              <a:ext cx="25560" cy="141480"/>
            </a:xfrm>
            <a:prstGeom prst="line">
              <a:avLst/>
            </a:prstGeom>
            <a:ln w="1440">
              <a:solidFill>
                <a:srgbClr val="555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 flipV="1">
              <a:off x="7415280" y="2449080"/>
              <a:ext cx="25200" cy="149400"/>
            </a:xfrm>
            <a:prstGeom prst="line">
              <a:avLst/>
            </a:prstGeom>
            <a:ln w="1440">
              <a:solidFill>
                <a:srgbClr val="555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7391520" y="2394000"/>
              <a:ext cx="71280" cy="15840"/>
            </a:xfrm>
            <a:custGeom>
              <a:avLst/>
              <a:gdLst/>
              <a:ahLst/>
              <a:rect l="l" t="t" r="r" b="b"/>
              <a:pathLst>
                <a:path w="226" h="50">
                  <a:moveTo>
                    <a:pt x="226" y="46"/>
                  </a:moveTo>
                  <a:lnTo>
                    <a:pt x="224" y="45"/>
                  </a:lnTo>
                  <a:lnTo>
                    <a:pt x="219" y="41"/>
                  </a:lnTo>
                  <a:lnTo>
                    <a:pt x="212" y="37"/>
                  </a:lnTo>
                  <a:lnTo>
                    <a:pt x="201" y="30"/>
                  </a:lnTo>
                  <a:lnTo>
                    <a:pt x="185" y="23"/>
                  </a:lnTo>
                  <a:lnTo>
                    <a:pt x="166" y="17"/>
                  </a:lnTo>
                  <a:lnTo>
                    <a:pt x="144" y="11"/>
                  </a:lnTo>
                  <a:lnTo>
                    <a:pt x="117" y="6"/>
                  </a:lnTo>
                  <a:lnTo>
                    <a:pt x="90" y="2"/>
                  </a:lnTo>
                  <a:lnTo>
                    <a:pt x="66" y="0"/>
                  </a:lnTo>
                  <a:lnTo>
                    <a:pt x="47" y="0"/>
                  </a:lnTo>
                  <a:lnTo>
                    <a:pt x="31" y="1"/>
                  </a:lnTo>
                  <a:lnTo>
                    <a:pt x="17" y="2"/>
                  </a:lnTo>
                  <a:lnTo>
                    <a:pt x="7" y="3"/>
                  </a:lnTo>
                  <a:lnTo>
                    <a:pt x="2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6" y="9"/>
                  </a:lnTo>
                  <a:lnTo>
                    <a:pt x="12" y="14"/>
                  </a:lnTo>
                  <a:lnTo>
                    <a:pt x="23" y="21"/>
                  </a:lnTo>
                  <a:lnTo>
                    <a:pt x="38" y="27"/>
                  </a:lnTo>
                  <a:lnTo>
                    <a:pt x="58" y="33"/>
                  </a:lnTo>
                  <a:lnTo>
                    <a:pt x="82" y="39"/>
                  </a:lnTo>
                  <a:lnTo>
                    <a:pt x="112" y="44"/>
                  </a:lnTo>
                  <a:lnTo>
                    <a:pt x="143" y="48"/>
                  </a:lnTo>
                  <a:lnTo>
                    <a:pt x="167" y="50"/>
                  </a:lnTo>
                  <a:lnTo>
                    <a:pt x="187" y="50"/>
                  </a:lnTo>
                  <a:lnTo>
                    <a:pt x="203" y="50"/>
                  </a:lnTo>
                  <a:lnTo>
                    <a:pt x="213" y="49"/>
                  </a:lnTo>
                  <a:lnTo>
                    <a:pt x="220" y="48"/>
                  </a:lnTo>
                  <a:lnTo>
                    <a:pt x="225" y="46"/>
                  </a:lnTo>
                  <a:lnTo>
                    <a:pt x="226" y="46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7423200" y="2194200"/>
              <a:ext cx="68040" cy="2664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46"/>
                  </a:moveTo>
                  <a:lnTo>
                    <a:pt x="79" y="2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8" y="1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9" y="1"/>
                  </a:lnTo>
                  <a:lnTo>
                    <a:pt x="128" y="3"/>
                  </a:lnTo>
                  <a:lnTo>
                    <a:pt x="138" y="5"/>
                  </a:lnTo>
                  <a:lnTo>
                    <a:pt x="149" y="10"/>
                  </a:lnTo>
                  <a:lnTo>
                    <a:pt x="152" y="28"/>
                  </a:lnTo>
                  <a:lnTo>
                    <a:pt x="217" y="82"/>
                  </a:lnTo>
                  <a:lnTo>
                    <a:pt x="212" y="84"/>
                  </a:lnTo>
                  <a:lnTo>
                    <a:pt x="197" y="85"/>
                  </a:lnTo>
                  <a:lnTo>
                    <a:pt x="174" y="85"/>
                  </a:lnTo>
                  <a:lnTo>
                    <a:pt x="144" y="85"/>
                  </a:lnTo>
                  <a:lnTo>
                    <a:pt x="128" y="82"/>
                  </a:lnTo>
                  <a:lnTo>
                    <a:pt x="111" y="81"/>
                  </a:lnTo>
                  <a:lnTo>
                    <a:pt x="93" y="78"/>
                  </a:lnTo>
                  <a:lnTo>
                    <a:pt x="74" y="74"/>
                  </a:lnTo>
                  <a:lnTo>
                    <a:pt x="56" y="69"/>
                  </a:lnTo>
                  <a:lnTo>
                    <a:pt x="37" y="63"/>
                  </a:lnTo>
                  <a:lnTo>
                    <a:pt x="19" y="5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9d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7356600" y="2167200"/>
              <a:ext cx="142920" cy="439560"/>
            </a:xfrm>
            <a:custGeom>
              <a:avLst/>
              <a:gdLst/>
              <a:ahLst/>
              <a:rect l="l" t="t" r="r" b="b"/>
              <a:pathLst>
                <a:path w="450" h="1385">
                  <a:moveTo>
                    <a:pt x="450" y="163"/>
                  </a:moveTo>
                  <a:lnTo>
                    <a:pt x="250" y="1385"/>
                  </a:lnTo>
                  <a:lnTo>
                    <a:pt x="246" y="1384"/>
                  </a:lnTo>
                  <a:lnTo>
                    <a:pt x="237" y="1379"/>
                  </a:lnTo>
                  <a:lnTo>
                    <a:pt x="224" y="1374"/>
                  </a:lnTo>
                  <a:lnTo>
                    <a:pt x="206" y="1367"/>
                  </a:lnTo>
                  <a:lnTo>
                    <a:pt x="188" y="1358"/>
                  </a:lnTo>
                  <a:lnTo>
                    <a:pt x="167" y="1351"/>
                  </a:lnTo>
                  <a:lnTo>
                    <a:pt x="145" y="1343"/>
                  </a:lnTo>
                  <a:lnTo>
                    <a:pt x="124" y="1336"/>
                  </a:lnTo>
                  <a:lnTo>
                    <a:pt x="104" y="1330"/>
                  </a:lnTo>
                  <a:lnTo>
                    <a:pt x="83" y="1322"/>
                  </a:lnTo>
                  <a:lnTo>
                    <a:pt x="63" y="1315"/>
                  </a:lnTo>
                  <a:lnTo>
                    <a:pt x="43" y="1308"/>
                  </a:lnTo>
                  <a:lnTo>
                    <a:pt x="26" y="1302"/>
                  </a:lnTo>
                  <a:lnTo>
                    <a:pt x="12" y="1297"/>
                  </a:lnTo>
                  <a:lnTo>
                    <a:pt x="2" y="1294"/>
                  </a:lnTo>
                  <a:lnTo>
                    <a:pt x="0" y="1293"/>
                  </a:lnTo>
                  <a:lnTo>
                    <a:pt x="195" y="120"/>
                  </a:lnTo>
                  <a:lnTo>
                    <a:pt x="279" y="92"/>
                  </a:lnTo>
                  <a:lnTo>
                    <a:pt x="328" y="0"/>
                  </a:lnTo>
                  <a:lnTo>
                    <a:pt x="363" y="5"/>
                  </a:lnTo>
                  <a:lnTo>
                    <a:pt x="380" y="108"/>
                  </a:lnTo>
                  <a:lnTo>
                    <a:pt x="450" y="16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7399440" y="2597400"/>
              <a:ext cx="55440" cy="27000"/>
            </a:xfrm>
            <a:custGeom>
              <a:avLst/>
              <a:gdLst/>
              <a:ahLst/>
              <a:rect l="l" t="t" r="r" b="b"/>
              <a:pathLst>
                <a:path w="177" h="87">
                  <a:moveTo>
                    <a:pt x="30" y="0"/>
                  </a:moveTo>
                  <a:lnTo>
                    <a:pt x="27" y="1"/>
                  </a:lnTo>
                  <a:lnTo>
                    <a:pt x="22" y="4"/>
                  </a:lnTo>
                  <a:lnTo>
                    <a:pt x="14" y="6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5" y="31"/>
                  </a:lnTo>
                  <a:lnTo>
                    <a:pt x="10" y="34"/>
                  </a:lnTo>
                  <a:lnTo>
                    <a:pt x="16" y="38"/>
                  </a:lnTo>
                  <a:lnTo>
                    <a:pt x="35" y="48"/>
                  </a:lnTo>
                  <a:lnTo>
                    <a:pt x="57" y="57"/>
                  </a:lnTo>
                  <a:lnTo>
                    <a:pt x="79" y="65"/>
                  </a:lnTo>
                  <a:lnTo>
                    <a:pt x="102" y="73"/>
                  </a:lnTo>
                  <a:lnTo>
                    <a:pt x="123" y="79"/>
                  </a:lnTo>
                  <a:lnTo>
                    <a:pt x="139" y="84"/>
                  </a:lnTo>
                  <a:lnTo>
                    <a:pt x="150" y="86"/>
                  </a:lnTo>
                  <a:lnTo>
                    <a:pt x="155" y="87"/>
                  </a:lnTo>
                  <a:lnTo>
                    <a:pt x="177" y="60"/>
                  </a:lnTo>
                  <a:lnTo>
                    <a:pt x="171" y="58"/>
                  </a:lnTo>
                  <a:lnTo>
                    <a:pt x="158" y="52"/>
                  </a:lnTo>
                  <a:lnTo>
                    <a:pt x="138" y="42"/>
                  </a:lnTo>
                  <a:lnTo>
                    <a:pt x="115" y="31"/>
                  </a:lnTo>
                  <a:lnTo>
                    <a:pt x="90" y="21"/>
                  </a:lnTo>
                  <a:lnTo>
                    <a:pt x="65" y="11"/>
                  </a:lnTo>
                  <a:lnTo>
                    <a:pt x="44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7399440" y="2597400"/>
              <a:ext cx="55440" cy="27000"/>
            </a:xfrm>
            <a:custGeom>
              <a:avLst/>
              <a:gdLst/>
              <a:ahLst/>
              <a:rect l="l" t="t" r="r" b="b"/>
              <a:pathLst>
                <a:path w="177" h="87">
                  <a:moveTo>
                    <a:pt x="30" y="0"/>
                  </a:moveTo>
                  <a:lnTo>
                    <a:pt x="27" y="1"/>
                  </a:lnTo>
                  <a:lnTo>
                    <a:pt x="22" y="4"/>
                  </a:lnTo>
                  <a:lnTo>
                    <a:pt x="14" y="6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5" y="31"/>
                  </a:lnTo>
                  <a:lnTo>
                    <a:pt x="10" y="34"/>
                  </a:lnTo>
                  <a:lnTo>
                    <a:pt x="16" y="38"/>
                  </a:lnTo>
                  <a:lnTo>
                    <a:pt x="35" y="48"/>
                  </a:lnTo>
                  <a:lnTo>
                    <a:pt x="57" y="57"/>
                  </a:lnTo>
                  <a:lnTo>
                    <a:pt x="79" y="65"/>
                  </a:lnTo>
                  <a:lnTo>
                    <a:pt x="102" y="73"/>
                  </a:lnTo>
                  <a:lnTo>
                    <a:pt x="123" y="79"/>
                  </a:lnTo>
                  <a:lnTo>
                    <a:pt x="139" y="84"/>
                  </a:lnTo>
                  <a:lnTo>
                    <a:pt x="150" y="86"/>
                  </a:lnTo>
                  <a:lnTo>
                    <a:pt x="155" y="87"/>
                  </a:lnTo>
                  <a:lnTo>
                    <a:pt x="177" y="60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7448400" y="2303640"/>
              <a:ext cx="93960" cy="44280"/>
            </a:xfrm>
            <a:custGeom>
              <a:avLst/>
              <a:gdLst/>
              <a:ahLst/>
              <a:rect l="l" t="t" r="r" b="b"/>
              <a:pathLst>
                <a:path w="296" h="141">
                  <a:moveTo>
                    <a:pt x="296" y="139"/>
                  </a:moveTo>
                  <a:lnTo>
                    <a:pt x="253" y="141"/>
                  </a:lnTo>
                  <a:lnTo>
                    <a:pt x="205" y="141"/>
                  </a:lnTo>
                  <a:lnTo>
                    <a:pt x="180" y="141"/>
                  </a:lnTo>
                  <a:lnTo>
                    <a:pt x="156" y="140"/>
                  </a:lnTo>
                  <a:lnTo>
                    <a:pt x="131" y="138"/>
                  </a:lnTo>
                  <a:lnTo>
                    <a:pt x="108" y="133"/>
                  </a:lnTo>
                  <a:lnTo>
                    <a:pt x="86" y="128"/>
                  </a:lnTo>
                  <a:lnTo>
                    <a:pt x="65" y="122"/>
                  </a:lnTo>
                  <a:lnTo>
                    <a:pt x="56" y="118"/>
                  </a:lnTo>
                  <a:lnTo>
                    <a:pt x="48" y="114"/>
                  </a:lnTo>
                  <a:lnTo>
                    <a:pt x="39" y="109"/>
                  </a:lnTo>
                  <a:lnTo>
                    <a:pt x="32" y="104"/>
                  </a:lnTo>
                  <a:lnTo>
                    <a:pt x="24" y="99"/>
                  </a:lnTo>
                  <a:lnTo>
                    <a:pt x="18" y="93"/>
                  </a:lnTo>
                  <a:lnTo>
                    <a:pt x="13" y="86"/>
                  </a:lnTo>
                  <a:lnTo>
                    <a:pt x="8" y="80"/>
                  </a:lnTo>
                  <a:lnTo>
                    <a:pt x="5" y="72"/>
                  </a:lnTo>
                  <a:lnTo>
                    <a:pt x="2" y="64"/>
                  </a:lnTo>
                  <a:lnTo>
                    <a:pt x="0" y="55"/>
                  </a:lnTo>
                  <a:lnTo>
                    <a:pt x="0" y="47"/>
                  </a:lnTo>
                  <a:lnTo>
                    <a:pt x="5" y="45"/>
                  </a:lnTo>
                  <a:lnTo>
                    <a:pt x="19" y="40"/>
                  </a:lnTo>
                  <a:lnTo>
                    <a:pt x="43" y="35"/>
                  </a:lnTo>
                  <a:lnTo>
                    <a:pt x="71" y="28"/>
                  </a:lnTo>
                  <a:lnTo>
                    <a:pt x="105" y="21"/>
                  </a:lnTo>
                  <a:lnTo>
                    <a:pt x="142" y="13"/>
                  </a:lnTo>
                  <a:lnTo>
                    <a:pt x="183" y="6"/>
                  </a:lnTo>
                  <a:lnTo>
                    <a:pt x="222" y="0"/>
                  </a:lnTo>
                  <a:lnTo>
                    <a:pt x="296" y="139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7448400" y="2308320"/>
              <a:ext cx="65160" cy="25560"/>
            </a:xfrm>
            <a:custGeom>
              <a:avLst/>
              <a:gdLst/>
              <a:ahLst/>
              <a:rect l="l" t="t" r="r" b="b"/>
              <a:pathLst>
                <a:path w="206" h="79">
                  <a:moveTo>
                    <a:pt x="3" y="28"/>
                  </a:moveTo>
                  <a:lnTo>
                    <a:pt x="9" y="26"/>
                  </a:lnTo>
                  <a:lnTo>
                    <a:pt x="24" y="23"/>
                  </a:lnTo>
                  <a:lnTo>
                    <a:pt x="46" y="18"/>
                  </a:lnTo>
                  <a:lnTo>
                    <a:pt x="71" y="13"/>
                  </a:lnTo>
                  <a:lnTo>
                    <a:pt x="100" y="8"/>
                  </a:lnTo>
                  <a:lnTo>
                    <a:pt x="127" y="3"/>
                  </a:lnTo>
                  <a:lnTo>
                    <a:pt x="149" y="0"/>
                  </a:lnTo>
                  <a:lnTo>
                    <a:pt x="166" y="0"/>
                  </a:lnTo>
                  <a:lnTo>
                    <a:pt x="171" y="2"/>
                  </a:lnTo>
                  <a:lnTo>
                    <a:pt x="177" y="4"/>
                  </a:lnTo>
                  <a:lnTo>
                    <a:pt x="183" y="8"/>
                  </a:lnTo>
                  <a:lnTo>
                    <a:pt x="188" y="12"/>
                  </a:lnTo>
                  <a:lnTo>
                    <a:pt x="193" y="16"/>
                  </a:lnTo>
                  <a:lnTo>
                    <a:pt x="197" y="21"/>
                  </a:lnTo>
                  <a:lnTo>
                    <a:pt x="201" y="26"/>
                  </a:lnTo>
                  <a:lnTo>
                    <a:pt x="203" y="31"/>
                  </a:lnTo>
                  <a:lnTo>
                    <a:pt x="206" y="37"/>
                  </a:lnTo>
                  <a:lnTo>
                    <a:pt x="206" y="42"/>
                  </a:lnTo>
                  <a:lnTo>
                    <a:pt x="206" y="47"/>
                  </a:lnTo>
                  <a:lnTo>
                    <a:pt x="203" y="52"/>
                  </a:lnTo>
                  <a:lnTo>
                    <a:pt x="201" y="57"/>
                  </a:lnTo>
                  <a:lnTo>
                    <a:pt x="196" y="61"/>
                  </a:lnTo>
                  <a:lnTo>
                    <a:pt x="190" y="63"/>
                  </a:lnTo>
                  <a:lnTo>
                    <a:pt x="182" y="66"/>
                  </a:lnTo>
                  <a:lnTo>
                    <a:pt x="163" y="69"/>
                  </a:lnTo>
                  <a:lnTo>
                    <a:pt x="142" y="72"/>
                  </a:lnTo>
                  <a:lnTo>
                    <a:pt x="118" y="74"/>
                  </a:lnTo>
                  <a:lnTo>
                    <a:pt x="97" y="77"/>
                  </a:lnTo>
                  <a:lnTo>
                    <a:pt x="76" y="78"/>
                  </a:lnTo>
                  <a:lnTo>
                    <a:pt x="60" y="78"/>
                  </a:lnTo>
                  <a:lnTo>
                    <a:pt x="51" y="79"/>
                  </a:lnTo>
                  <a:lnTo>
                    <a:pt x="46" y="79"/>
                  </a:lnTo>
                  <a:lnTo>
                    <a:pt x="43" y="79"/>
                  </a:lnTo>
                  <a:lnTo>
                    <a:pt x="37" y="78"/>
                  </a:lnTo>
                  <a:lnTo>
                    <a:pt x="28" y="75"/>
                  </a:lnTo>
                  <a:lnTo>
                    <a:pt x="19" y="72"/>
                  </a:lnTo>
                  <a:lnTo>
                    <a:pt x="14" y="68"/>
                  </a:lnTo>
                  <a:lnTo>
                    <a:pt x="9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3" y="28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7453440" y="2308320"/>
              <a:ext cx="60120" cy="25560"/>
            </a:xfrm>
            <a:custGeom>
              <a:avLst/>
              <a:gdLst/>
              <a:ahLst/>
              <a:rect l="l" t="t" r="r" b="b"/>
              <a:pathLst>
                <a:path w="190" h="79">
                  <a:moveTo>
                    <a:pt x="150" y="0"/>
                  </a:moveTo>
                  <a:lnTo>
                    <a:pt x="155" y="2"/>
                  </a:lnTo>
                  <a:lnTo>
                    <a:pt x="161" y="4"/>
                  </a:lnTo>
                  <a:lnTo>
                    <a:pt x="167" y="8"/>
                  </a:lnTo>
                  <a:lnTo>
                    <a:pt x="172" y="12"/>
                  </a:lnTo>
                  <a:lnTo>
                    <a:pt x="177" y="16"/>
                  </a:lnTo>
                  <a:lnTo>
                    <a:pt x="181" y="21"/>
                  </a:lnTo>
                  <a:lnTo>
                    <a:pt x="185" y="26"/>
                  </a:lnTo>
                  <a:lnTo>
                    <a:pt x="187" y="31"/>
                  </a:lnTo>
                  <a:lnTo>
                    <a:pt x="190" y="37"/>
                  </a:lnTo>
                  <a:lnTo>
                    <a:pt x="190" y="42"/>
                  </a:lnTo>
                  <a:lnTo>
                    <a:pt x="190" y="47"/>
                  </a:lnTo>
                  <a:lnTo>
                    <a:pt x="187" y="52"/>
                  </a:lnTo>
                  <a:lnTo>
                    <a:pt x="185" y="57"/>
                  </a:lnTo>
                  <a:lnTo>
                    <a:pt x="180" y="61"/>
                  </a:lnTo>
                  <a:lnTo>
                    <a:pt x="174" y="63"/>
                  </a:lnTo>
                  <a:lnTo>
                    <a:pt x="166" y="66"/>
                  </a:lnTo>
                  <a:lnTo>
                    <a:pt x="147" y="69"/>
                  </a:lnTo>
                  <a:lnTo>
                    <a:pt x="126" y="72"/>
                  </a:lnTo>
                  <a:lnTo>
                    <a:pt x="102" y="74"/>
                  </a:lnTo>
                  <a:lnTo>
                    <a:pt x="81" y="77"/>
                  </a:lnTo>
                  <a:lnTo>
                    <a:pt x="60" y="78"/>
                  </a:lnTo>
                  <a:lnTo>
                    <a:pt x="44" y="78"/>
                  </a:lnTo>
                  <a:lnTo>
                    <a:pt x="35" y="79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27" y="79"/>
                  </a:lnTo>
                  <a:lnTo>
                    <a:pt x="25" y="78"/>
                  </a:lnTo>
                  <a:lnTo>
                    <a:pt x="20" y="78"/>
                  </a:lnTo>
                  <a:lnTo>
                    <a:pt x="16" y="77"/>
                  </a:lnTo>
                  <a:lnTo>
                    <a:pt x="11" y="75"/>
                  </a:lnTo>
                  <a:lnTo>
                    <a:pt x="5" y="73"/>
                  </a:lnTo>
                  <a:lnTo>
                    <a:pt x="0" y="71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7451640" y="2313000"/>
              <a:ext cx="57240" cy="11160"/>
            </a:xfrm>
            <a:custGeom>
              <a:avLst/>
              <a:gdLst/>
              <a:ahLst/>
              <a:rect l="l" t="t" r="r" b="b"/>
              <a:pathLst>
                <a:path w="180" h="34">
                  <a:moveTo>
                    <a:pt x="4" y="23"/>
                  </a:moveTo>
                  <a:lnTo>
                    <a:pt x="10" y="22"/>
                  </a:lnTo>
                  <a:lnTo>
                    <a:pt x="26" y="19"/>
                  </a:lnTo>
                  <a:lnTo>
                    <a:pt x="48" y="16"/>
                  </a:lnTo>
                  <a:lnTo>
                    <a:pt x="75" y="11"/>
                  </a:lnTo>
                  <a:lnTo>
                    <a:pt x="102" y="6"/>
                  </a:lnTo>
                  <a:lnTo>
                    <a:pt x="127" y="2"/>
                  </a:lnTo>
                  <a:lnTo>
                    <a:pt x="145" y="0"/>
                  </a:lnTo>
                  <a:lnTo>
                    <a:pt x="156" y="0"/>
                  </a:lnTo>
                  <a:lnTo>
                    <a:pt x="160" y="1"/>
                  </a:lnTo>
                  <a:lnTo>
                    <a:pt x="164" y="3"/>
                  </a:lnTo>
                  <a:lnTo>
                    <a:pt x="169" y="6"/>
                  </a:lnTo>
                  <a:lnTo>
                    <a:pt x="172" y="8"/>
                  </a:lnTo>
                  <a:lnTo>
                    <a:pt x="175" y="11"/>
                  </a:lnTo>
                  <a:lnTo>
                    <a:pt x="178" y="13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22" y="34"/>
                  </a:lnTo>
                  <a:lnTo>
                    <a:pt x="21" y="34"/>
                  </a:lnTo>
                  <a:lnTo>
                    <a:pt x="17" y="34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4" y="33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c3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7356600" y="2787840"/>
              <a:ext cx="9360" cy="1728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10" y="0"/>
                  </a:moveTo>
                  <a:lnTo>
                    <a:pt x="0" y="49"/>
                  </a:lnTo>
                  <a:lnTo>
                    <a:pt x="27" y="56"/>
                  </a:lnTo>
                  <a:lnTo>
                    <a:pt x="34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7316640" y="2784600"/>
              <a:ext cx="86040" cy="36360"/>
            </a:xfrm>
            <a:custGeom>
              <a:avLst/>
              <a:gdLst/>
              <a:ahLst/>
              <a:rect l="l" t="t" r="r" b="b"/>
              <a:pathLst>
                <a:path w="272" h="112">
                  <a:moveTo>
                    <a:pt x="269" y="83"/>
                  </a:moveTo>
                  <a:lnTo>
                    <a:pt x="268" y="88"/>
                  </a:lnTo>
                  <a:lnTo>
                    <a:pt x="266" y="92"/>
                  </a:lnTo>
                  <a:lnTo>
                    <a:pt x="261" y="96"/>
                  </a:lnTo>
                  <a:lnTo>
                    <a:pt x="256" y="99"/>
                  </a:lnTo>
                  <a:lnTo>
                    <a:pt x="250" y="102"/>
                  </a:lnTo>
                  <a:lnTo>
                    <a:pt x="242" y="104"/>
                  </a:lnTo>
                  <a:lnTo>
                    <a:pt x="234" y="107"/>
                  </a:lnTo>
                  <a:lnTo>
                    <a:pt x="225" y="109"/>
                  </a:lnTo>
                  <a:lnTo>
                    <a:pt x="204" y="111"/>
                  </a:lnTo>
                  <a:lnTo>
                    <a:pt x="181" y="112"/>
                  </a:lnTo>
                  <a:lnTo>
                    <a:pt x="155" y="109"/>
                  </a:lnTo>
                  <a:lnTo>
                    <a:pt x="128" y="106"/>
                  </a:lnTo>
                  <a:lnTo>
                    <a:pt x="101" y="101"/>
                  </a:lnTo>
                  <a:lnTo>
                    <a:pt x="75" y="93"/>
                  </a:lnTo>
                  <a:lnTo>
                    <a:pt x="53" y="86"/>
                  </a:lnTo>
                  <a:lnTo>
                    <a:pt x="33" y="76"/>
                  </a:lnTo>
                  <a:lnTo>
                    <a:pt x="26" y="72"/>
                  </a:lnTo>
                  <a:lnTo>
                    <a:pt x="18" y="67"/>
                  </a:lnTo>
                  <a:lnTo>
                    <a:pt x="12" y="63"/>
                  </a:lnTo>
                  <a:lnTo>
                    <a:pt x="7" y="56"/>
                  </a:lnTo>
                  <a:lnTo>
                    <a:pt x="3" y="51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5" y="12"/>
                  </a:lnTo>
                  <a:lnTo>
                    <a:pt x="22" y="8"/>
                  </a:lnTo>
                  <a:lnTo>
                    <a:pt x="31" y="5"/>
                  </a:lnTo>
                  <a:lnTo>
                    <a:pt x="40" y="2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58" y="27"/>
                  </a:lnTo>
                  <a:lnTo>
                    <a:pt x="125" y="43"/>
                  </a:lnTo>
                  <a:lnTo>
                    <a:pt x="123" y="56"/>
                  </a:lnTo>
                  <a:lnTo>
                    <a:pt x="150" y="63"/>
                  </a:lnTo>
                  <a:lnTo>
                    <a:pt x="152" y="45"/>
                  </a:lnTo>
                  <a:lnTo>
                    <a:pt x="220" y="59"/>
                  </a:lnTo>
                  <a:lnTo>
                    <a:pt x="225" y="27"/>
                  </a:lnTo>
                  <a:lnTo>
                    <a:pt x="236" y="32"/>
                  </a:lnTo>
                  <a:lnTo>
                    <a:pt x="246" y="37"/>
                  </a:lnTo>
                  <a:lnTo>
                    <a:pt x="254" y="43"/>
                  </a:lnTo>
                  <a:lnTo>
                    <a:pt x="261" y="49"/>
                  </a:lnTo>
                  <a:lnTo>
                    <a:pt x="266" y="55"/>
                  </a:lnTo>
                  <a:lnTo>
                    <a:pt x="269" y="60"/>
                  </a:lnTo>
                  <a:lnTo>
                    <a:pt x="272" y="66"/>
                  </a:lnTo>
                  <a:lnTo>
                    <a:pt x="272" y="72"/>
                  </a:lnTo>
                  <a:lnTo>
                    <a:pt x="269" y="83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7316640" y="2784600"/>
              <a:ext cx="86040" cy="36360"/>
            </a:xfrm>
            <a:custGeom>
              <a:avLst/>
              <a:gdLst/>
              <a:ahLst/>
              <a:rect l="l" t="t" r="r" b="b"/>
              <a:pathLst>
                <a:path w="272" h="112">
                  <a:moveTo>
                    <a:pt x="269" y="83"/>
                  </a:moveTo>
                  <a:lnTo>
                    <a:pt x="268" y="88"/>
                  </a:lnTo>
                  <a:lnTo>
                    <a:pt x="266" y="92"/>
                  </a:lnTo>
                  <a:lnTo>
                    <a:pt x="261" y="96"/>
                  </a:lnTo>
                  <a:lnTo>
                    <a:pt x="256" y="99"/>
                  </a:lnTo>
                  <a:lnTo>
                    <a:pt x="250" y="102"/>
                  </a:lnTo>
                  <a:lnTo>
                    <a:pt x="242" y="104"/>
                  </a:lnTo>
                  <a:lnTo>
                    <a:pt x="234" y="107"/>
                  </a:lnTo>
                  <a:lnTo>
                    <a:pt x="225" y="109"/>
                  </a:lnTo>
                  <a:lnTo>
                    <a:pt x="204" y="111"/>
                  </a:lnTo>
                  <a:lnTo>
                    <a:pt x="181" y="112"/>
                  </a:lnTo>
                  <a:lnTo>
                    <a:pt x="155" y="109"/>
                  </a:lnTo>
                  <a:lnTo>
                    <a:pt x="128" y="106"/>
                  </a:lnTo>
                  <a:lnTo>
                    <a:pt x="101" y="101"/>
                  </a:lnTo>
                  <a:lnTo>
                    <a:pt x="75" y="93"/>
                  </a:lnTo>
                  <a:lnTo>
                    <a:pt x="53" y="86"/>
                  </a:lnTo>
                  <a:lnTo>
                    <a:pt x="33" y="76"/>
                  </a:lnTo>
                  <a:lnTo>
                    <a:pt x="26" y="72"/>
                  </a:lnTo>
                  <a:lnTo>
                    <a:pt x="18" y="67"/>
                  </a:lnTo>
                  <a:lnTo>
                    <a:pt x="12" y="63"/>
                  </a:lnTo>
                  <a:lnTo>
                    <a:pt x="7" y="56"/>
                  </a:lnTo>
                  <a:lnTo>
                    <a:pt x="3" y="51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5" y="12"/>
                  </a:lnTo>
                  <a:lnTo>
                    <a:pt x="22" y="8"/>
                  </a:lnTo>
                  <a:lnTo>
                    <a:pt x="31" y="5"/>
                  </a:lnTo>
                  <a:lnTo>
                    <a:pt x="40" y="2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58" y="27"/>
                  </a:lnTo>
                  <a:lnTo>
                    <a:pt x="125" y="43"/>
                  </a:lnTo>
                  <a:lnTo>
                    <a:pt x="123" y="56"/>
                  </a:lnTo>
                  <a:lnTo>
                    <a:pt x="150" y="63"/>
                  </a:lnTo>
                  <a:lnTo>
                    <a:pt x="152" y="45"/>
                  </a:lnTo>
                  <a:lnTo>
                    <a:pt x="220" y="59"/>
                  </a:lnTo>
                  <a:lnTo>
                    <a:pt x="225" y="27"/>
                  </a:lnTo>
                  <a:lnTo>
                    <a:pt x="236" y="32"/>
                  </a:lnTo>
                  <a:lnTo>
                    <a:pt x="246" y="37"/>
                  </a:lnTo>
                  <a:lnTo>
                    <a:pt x="254" y="43"/>
                  </a:lnTo>
                  <a:lnTo>
                    <a:pt x="261" y="49"/>
                  </a:lnTo>
                  <a:lnTo>
                    <a:pt x="266" y="55"/>
                  </a:lnTo>
                  <a:lnTo>
                    <a:pt x="269" y="60"/>
                  </a:lnTo>
                  <a:lnTo>
                    <a:pt x="272" y="66"/>
                  </a:lnTo>
                  <a:lnTo>
                    <a:pt x="272" y="72"/>
                  </a:lnTo>
                  <a:lnTo>
                    <a:pt x="269" y="8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7316640" y="2784600"/>
              <a:ext cx="86040" cy="33480"/>
            </a:xfrm>
            <a:custGeom>
              <a:avLst/>
              <a:gdLst/>
              <a:ahLst/>
              <a:rect l="l" t="t" r="r" b="b"/>
              <a:pathLst>
                <a:path w="270" h="101">
                  <a:moveTo>
                    <a:pt x="223" y="27"/>
                  </a:moveTo>
                  <a:lnTo>
                    <a:pt x="234" y="32"/>
                  </a:lnTo>
                  <a:lnTo>
                    <a:pt x="244" y="37"/>
                  </a:lnTo>
                  <a:lnTo>
                    <a:pt x="252" y="43"/>
                  </a:lnTo>
                  <a:lnTo>
                    <a:pt x="259" y="49"/>
                  </a:lnTo>
                  <a:lnTo>
                    <a:pt x="264" y="55"/>
                  </a:lnTo>
                  <a:lnTo>
                    <a:pt x="267" y="60"/>
                  </a:lnTo>
                  <a:lnTo>
                    <a:pt x="270" y="66"/>
                  </a:lnTo>
                  <a:lnTo>
                    <a:pt x="270" y="72"/>
                  </a:lnTo>
                  <a:lnTo>
                    <a:pt x="268" y="77"/>
                  </a:lnTo>
                  <a:lnTo>
                    <a:pt x="265" y="81"/>
                  </a:lnTo>
                  <a:lnTo>
                    <a:pt x="261" y="85"/>
                  </a:lnTo>
                  <a:lnTo>
                    <a:pt x="256" y="88"/>
                  </a:lnTo>
                  <a:lnTo>
                    <a:pt x="249" y="92"/>
                  </a:lnTo>
                  <a:lnTo>
                    <a:pt x="241" y="95"/>
                  </a:lnTo>
                  <a:lnTo>
                    <a:pt x="234" y="96"/>
                  </a:lnTo>
                  <a:lnTo>
                    <a:pt x="224" y="98"/>
                  </a:lnTo>
                  <a:lnTo>
                    <a:pt x="203" y="101"/>
                  </a:lnTo>
                  <a:lnTo>
                    <a:pt x="180" y="101"/>
                  </a:lnTo>
                  <a:lnTo>
                    <a:pt x="154" y="98"/>
                  </a:lnTo>
                  <a:lnTo>
                    <a:pt x="126" y="95"/>
                  </a:lnTo>
                  <a:lnTo>
                    <a:pt x="99" y="88"/>
                  </a:lnTo>
                  <a:lnTo>
                    <a:pt x="74" y="82"/>
                  </a:lnTo>
                  <a:lnTo>
                    <a:pt x="52" y="74"/>
                  </a:lnTo>
                  <a:lnTo>
                    <a:pt x="33" y="65"/>
                  </a:lnTo>
                  <a:lnTo>
                    <a:pt x="26" y="60"/>
                  </a:lnTo>
                  <a:lnTo>
                    <a:pt x="19" y="55"/>
                  </a:lnTo>
                  <a:lnTo>
                    <a:pt x="13" y="50"/>
                  </a:lnTo>
                  <a:lnTo>
                    <a:pt x="8" y="45"/>
                  </a:lnTo>
                  <a:lnTo>
                    <a:pt x="4" y="40"/>
                  </a:lnTo>
                  <a:lnTo>
                    <a:pt x="1" y="36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3" y="21"/>
                  </a:lnTo>
                  <a:lnTo>
                    <a:pt x="6" y="16"/>
                  </a:lnTo>
                  <a:lnTo>
                    <a:pt x="13" y="12"/>
                  </a:lnTo>
                  <a:lnTo>
                    <a:pt x="20" y="8"/>
                  </a:lnTo>
                  <a:lnTo>
                    <a:pt x="29" y="5"/>
                  </a:lnTo>
                  <a:lnTo>
                    <a:pt x="38" y="2"/>
                  </a:lnTo>
                  <a:lnTo>
                    <a:pt x="51" y="1"/>
                  </a:lnTo>
                  <a:lnTo>
                    <a:pt x="63" y="0"/>
                  </a:lnTo>
                  <a:lnTo>
                    <a:pt x="56" y="27"/>
                  </a:lnTo>
                  <a:lnTo>
                    <a:pt x="123" y="43"/>
                  </a:lnTo>
                  <a:lnTo>
                    <a:pt x="121" y="56"/>
                  </a:lnTo>
                  <a:lnTo>
                    <a:pt x="148" y="63"/>
                  </a:lnTo>
                  <a:lnTo>
                    <a:pt x="150" y="45"/>
                  </a:lnTo>
                  <a:lnTo>
                    <a:pt x="218" y="59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7316640" y="2784600"/>
              <a:ext cx="86040" cy="33480"/>
            </a:xfrm>
            <a:custGeom>
              <a:avLst/>
              <a:gdLst/>
              <a:ahLst/>
              <a:rect l="l" t="t" r="r" b="b"/>
              <a:pathLst>
                <a:path w="270" h="101">
                  <a:moveTo>
                    <a:pt x="223" y="27"/>
                  </a:moveTo>
                  <a:lnTo>
                    <a:pt x="234" y="32"/>
                  </a:lnTo>
                  <a:lnTo>
                    <a:pt x="244" y="37"/>
                  </a:lnTo>
                  <a:lnTo>
                    <a:pt x="252" y="43"/>
                  </a:lnTo>
                  <a:lnTo>
                    <a:pt x="259" y="49"/>
                  </a:lnTo>
                  <a:lnTo>
                    <a:pt x="264" y="55"/>
                  </a:lnTo>
                  <a:lnTo>
                    <a:pt x="267" y="60"/>
                  </a:lnTo>
                  <a:lnTo>
                    <a:pt x="270" y="66"/>
                  </a:lnTo>
                  <a:lnTo>
                    <a:pt x="270" y="72"/>
                  </a:lnTo>
                  <a:lnTo>
                    <a:pt x="268" y="77"/>
                  </a:lnTo>
                  <a:lnTo>
                    <a:pt x="265" y="81"/>
                  </a:lnTo>
                  <a:lnTo>
                    <a:pt x="261" y="85"/>
                  </a:lnTo>
                  <a:lnTo>
                    <a:pt x="256" y="88"/>
                  </a:lnTo>
                  <a:lnTo>
                    <a:pt x="249" y="92"/>
                  </a:lnTo>
                  <a:lnTo>
                    <a:pt x="241" y="95"/>
                  </a:lnTo>
                  <a:lnTo>
                    <a:pt x="234" y="96"/>
                  </a:lnTo>
                  <a:lnTo>
                    <a:pt x="224" y="98"/>
                  </a:lnTo>
                  <a:lnTo>
                    <a:pt x="203" y="101"/>
                  </a:lnTo>
                  <a:lnTo>
                    <a:pt x="180" y="101"/>
                  </a:lnTo>
                  <a:lnTo>
                    <a:pt x="154" y="98"/>
                  </a:lnTo>
                  <a:lnTo>
                    <a:pt x="126" y="95"/>
                  </a:lnTo>
                  <a:lnTo>
                    <a:pt x="99" y="88"/>
                  </a:lnTo>
                  <a:lnTo>
                    <a:pt x="74" y="82"/>
                  </a:lnTo>
                  <a:lnTo>
                    <a:pt x="52" y="74"/>
                  </a:lnTo>
                  <a:lnTo>
                    <a:pt x="33" y="65"/>
                  </a:lnTo>
                  <a:lnTo>
                    <a:pt x="26" y="60"/>
                  </a:lnTo>
                  <a:lnTo>
                    <a:pt x="19" y="55"/>
                  </a:lnTo>
                  <a:lnTo>
                    <a:pt x="13" y="50"/>
                  </a:lnTo>
                  <a:lnTo>
                    <a:pt x="8" y="45"/>
                  </a:lnTo>
                  <a:lnTo>
                    <a:pt x="4" y="40"/>
                  </a:lnTo>
                  <a:lnTo>
                    <a:pt x="1" y="36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3" y="21"/>
                  </a:lnTo>
                  <a:lnTo>
                    <a:pt x="6" y="16"/>
                  </a:lnTo>
                  <a:lnTo>
                    <a:pt x="13" y="12"/>
                  </a:lnTo>
                  <a:lnTo>
                    <a:pt x="20" y="8"/>
                  </a:lnTo>
                  <a:lnTo>
                    <a:pt x="29" y="5"/>
                  </a:lnTo>
                  <a:lnTo>
                    <a:pt x="38" y="2"/>
                  </a:lnTo>
                  <a:lnTo>
                    <a:pt x="51" y="1"/>
                  </a:lnTo>
                  <a:lnTo>
                    <a:pt x="63" y="0"/>
                  </a:lnTo>
                  <a:lnTo>
                    <a:pt x="56" y="27"/>
                  </a:lnTo>
                  <a:lnTo>
                    <a:pt x="123" y="43"/>
                  </a:lnTo>
                  <a:lnTo>
                    <a:pt x="121" y="56"/>
                  </a:lnTo>
                  <a:lnTo>
                    <a:pt x="148" y="63"/>
                  </a:lnTo>
                  <a:lnTo>
                    <a:pt x="150" y="45"/>
                  </a:lnTo>
                  <a:lnTo>
                    <a:pt x="218" y="59"/>
                  </a:lnTo>
                  <a:lnTo>
                    <a:pt x="223" y="27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 flipH="1">
              <a:off x="7423200" y="2657520"/>
              <a:ext cx="1440" cy="12600"/>
            </a:xfrm>
            <a:prstGeom prst="line">
              <a:avLst/>
            </a:prstGeom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7337520" y="2576520"/>
              <a:ext cx="15840" cy="1800"/>
            </a:xfrm>
            <a:custGeom>
              <a:avLst/>
              <a:gdLst/>
              <a:ahLst/>
              <a:rect l="l" t="t" r="r" b="b"/>
              <a:pathLst>
                <a:path w="53" h="5">
                  <a:moveTo>
                    <a:pt x="53" y="5"/>
                  </a:moveTo>
                  <a:lnTo>
                    <a:pt x="37" y="4"/>
                  </a:lnTo>
                  <a:lnTo>
                    <a:pt x="23" y="4"/>
                  </a:lnTo>
                  <a:lnTo>
                    <a:pt x="12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2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5456160" y="2516400"/>
              <a:ext cx="1998720" cy="1193760"/>
            </a:xfrm>
            <a:custGeom>
              <a:avLst/>
              <a:gdLst/>
              <a:ahLst/>
              <a:rect l="l" t="t" r="r" b="b"/>
              <a:pathLst>
                <a:path w="6296" h="3757">
                  <a:moveTo>
                    <a:pt x="6011" y="35"/>
                  </a:moveTo>
                  <a:lnTo>
                    <a:pt x="6006" y="33"/>
                  </a:lnTo>
                  <a:lnTo>
                    <a:pt x="6001" y="32"/>
                  </a:lnTo>
                  <a:lnTo>
                    <a:pt x="5997" y="31"/>
                  </a:lnTo>
                  <a:lnTo>
                    <a:pt x="5995" y="29"/>
                  </a:lnTo>
                  <a:lnTo>
                    <a:pt x="5992" y="28"/>
                  </a:lnTo>
                  <a:lnTo>
                    <a:pt x="5990" y="27"/>
                  </a:lnTo>
                  <a:lnTo>
                    <a:pt x="5989" y="27"/>
                  </a:lnTo>
                  <a:lnTo>
                    <a:pt x="5989" y="27"/>
                  </a:lnTo>
                  <a:lnTo>
                    <a:pt x="5952" y="27"/>
                  </a:lnTo>
                  <a:lnTo>
                    <a:pt x="5911" y="24"/>
                  </a:lnTo>
                  <a:lnTo>
                    <a:pt x="5867" y="23"/>
                  </a:lnTo>
                  <a:lnTo>
                    <a:pt x="5820" y="20"/>
                  </a:lnTo>
                  <a:lnTo>
                    <a:pt x="5771" y="16"/>
                  </a:lnTo>
                  <a:lnTo>
                    <a:pt x="5721" y="12"/>
                  </a:lnTo>
                  <a:lnTo>
                    <a:pt x="5668" y="7"/>
                  </a:lnTo>
                  <a:lnTo>
                    <a:pt x="5613" y="2"/>
                  </a:lnTo>
                  <a:lnTo>
                    <a:pt x="5586" y="1"/>
                  </a:lnTo>
                  <a:lnTo>
                    <a:pt x="5561" y="0"/>
                  </a:lnTo>
                  <a:lnTo>
                    <a:pt x="5535" y="0"/>
                  </a:lnTo>
                  <a:lnTo>
                    <a:pt x="5510" y="0"/>
                  </a:lnTo>
                  <a:lnTo>
                    <a:pt x="5484" y="2"/>
                  </a:lnTo>
                  <a:lnTo>
                    <a:pt x="5460" y="4"/>
                  </a:lnTo>
                  <a:lnTo>
                    <a:pt x="5436" y="7"/>
                  </a:lnTo>
                  <a:lnTo>
                    <a:pt x="5413" y="11"/>
                  </a:lnTo>
                  <a:lnTo>
                    <a:pt x="5366" y="18"/>
                  </a:lnTo>
                  <a:lnTo>
                    <a:pt x="5321" y="28"/>
                  </a:lnTo>
                  <a:lnTo>
                    <a:pt x="5276" y="38"/>
                  </a:lnTo>
                  <a:lnTo>
                    <a:pt x="5233" y="49"/>
                  </a:lnTo>
                  <a:lnTo>
                    <a:pt x="5219" y="51"/>
                  </a:lnTo>
                  <a:lnTo>
                    <a:pt x="5203" y="55"/>
                  </a:lnTo>
                  <a:lnTo>
                    <a:pt x="5187" y="59"/>
                  </a:lnTo>
                  <a:lnTo>
                    <a:pt x="5169" y="64"/>
                  </a:lnTo>
                  <a:lnTo>
                    <a:pt x="5152" y="67"/>
                  </a:lnTo>
                  <a:lnTo>
                    <a:pt x="5135" y="72"/>
                  </a:lnTo>
                  <a:lnTo>
                    <a:pt x="5118" y="79"/>
                  </a:lnTo>
                  <a:lnTo>
                    <a:pt x="5100" y="83"/>
                  </a:lnTo>
                  <a:lnTo>
                    <a:pt x="5084" y="90"/>
                  </a:lnTo>
                  <a:lnTo>
                    <a:pt x="5067" y="95"/>
                  </a:lnTo>
                  <a:lnTo>
                    <a:pt x="5049" y="98"/>
                  </a:lnTo>
                  <a:lnTo>
                    <a:pt x="5029" y="103"/>
                  </a:lnTo>
                  <a:lnTo>
                    <a:pt x="5009" y="108"/>
                  </a:lnTo>
                  <a:lnTo>
                    <a:pt x="4990" y="115"/>
                  </a:lnTo>
                  <a:lnTo>
                    <a:pt x="4970" y="123"/>
                  </a:lnTo>
                  <a:lnTo>
                    <a:pt x="4950" y="133"/>
                  </a:lnTo>
                  <a:lnTo>
                    <a:pt x="4918" y="152"/>
                  </a:lnTo>
                  <a:lnTo>
                    <a:pt x="4895" y="170"/>
                  </a:lnTo>
                  <a:lnTo>
                    <a:pt x="4879" y="184"/>
                  </a:lnTo>
                  <a:lnTo>
                    <a:pt x="4869" y="195"/>
                  </a:lnTo>
                  <a:lnTo>
                    <a:pt x="4863" y="205"/>
                  </a:lnTo>
                  <a:lnTo>
                    <a:pt x="4861" y="211"/>
                  </a:lnTo>
                  <a:lnTo>
                    <a:pt x="4859" y="216"/>
                  </a:lnTo>
                  <a:lnTo>
                    <a:pt x="4858" y="220"/>
                  </a:lnTo>
                  <a:lnTo>
                    <a:pt x="4845" y="237"/>
                  </a:lnTo>
                  <a:lnTo>
                    <a:pt x="4830" y="257"/>
                  </a:lnTo>
                  <a:lnTo>
                    <a:pt x="4814" y="280"/>
                  </a:lnTo>
                  <a:lnTo>
                    <a:pt x="4799" y="305"/>
                  </a:lnTo>
                  <a:lnTo>
                    <a:pt x="4766" y="360"/>
                  </a:lnTo>
                  <a:lnTo>
                    <a:pt x="4733" y="422"/>
                  </a:lnTo>
                  <a:lnTo>
                    <a:pt x="4699" y="487"/>
                  </a:lnTo>
                  <a:lnTo>
                    <a:pt x="4666" y="552"/>
                  </a:lnTo>
                  <a:lnTo>
                    <a:pt x="4634" y="617"/>
                  </a:lnTo>
                  <a:lnTo>
                    <a:pt x="4603" y="679"/>
                  </a:lnTo>
                  <a:lnTo>
                    <a:pt x="4587" y="712"/>
                  </a:lnTo>
                  <a:lnTo>
                    <a:pt x="4570" y="750"/>
                  </a:lnTo>
                  <a:lnTo>
                    <a:pt x="4553" y="794"/>
                  </a:lnTo>
                  <a:lnTo>
                    <a:pt x="4535" y="841"/>
                  </a:lnTo>
                  <a:lnTo>
                    <a:pt x="4496" y="943"/>
                  </a:lnTo>
                  <a:lnTo>
                    <a:pt x="4459" y="1047"/>
                  </a:lnTo>
                  <a:lnTo>
                    <a:pt x="4426" y="1142"/>
                  </a:lnTo>
                  <a:lnTo>
                    <a:pt x="4399" y="1221"/>
                  </a:lnTo>
                  <a:lnTo>
                    <a:pt x="4382" y="1275"/>
                  </a:lnTo>
                  <a:lnTo>
                    <a:pt x="4375" y="1295"/>
                  </a:lnTo>
                  <a:lnTo>
                    <a:pt x="4366" y="1302"/>
                  </a:lnTo>
                  <a:lnTo>
                    <a:pt x="4351" y="1313"/>
                  </a:lnTo>
                  <a:lnTo>
                    <a:pt x="4330" y="1326"/>
                  </a:lnTo>
                  <a:lnTo>
                    <a:pt x="4302" y="1342"/>
                  </a:lnTo>
                  <a:lnTo>
                    <a:pt x="4231" y="1379"/>
                  </a:lnTo>
                  <a:lnTo>
                    <a:pt x="4140" y="1423"/>
                  </a:lnTo>
                  <a:lnTo>
                    <a:pt x="4031" y="1475"/>
                  </a:lnTo>
                  <a:lnTo>
                    <a:pt x="3911" y="1531"/>
                  </a:lnTo>
                  <a:lnTo>
                    <a:pt x="3778" y="1591"/>
                  </a:lnTo>
                  <a:lnTo>
                    <a:pt x="3638" y="1653"/>
                  </a:lnTo>
                  <a:lnTo>
                    <a:pt x="3492" y="1717"/>
                  </a:lnTo>
                  <a:lnTo>
                    <a:pt x="3345" y="1780"/>
                  </a:lnTo>
                  <a:lnTo>
                    <a:pt x="3198" y="1841"/>
                  </a:lnTo>
                  <a:lnTo>
                    <a:pt x="3056" y="1900"/>
                  </a:lnTo>
                  <a:lnTo>
                    <a:pt x="2920" y="1956"/>
                  </a:lnTo>
                  <a:lnTo>
                    <a:pt x="2795" y="2005"/>
                  </a:lnTo>
                  <a:lnTo>
                    <a:pt x="2682" y="2047"/>
                  </a:lnTo>
                  <a:lnTo>
                    <a:pt x="2585" y="2081"/>
                  </a:lnTo>
                  <a:lnTo>
                    <a:pt x="2496" y="2109"/>
                  </a:lnTo>
                  <a:lnTo>
                    <a:pt x="2406" y="2136"/>
                  </a:lnTo>
                  <a:lnTo>
                    <a:pt x="2318" y="2161"/>
                  </a:lnTo>
                  <a:lnTo>
                    <a:pt x="2227" y="2184"/>
                  </a:lnTo>
                  <a:lnTo>
                    <a:pt x="2137" y="2208"/>
                  </a:lnTo>
                  <a:lnTo>
                    <a:pt x="2046" y="2227"/>
                  </a:lnTo>
                  <a:lnTo>
                    <a:pt x="1955" y="2247"/>
                  </a:lnTo>
                  <a:lnTo>
                    <a:pt x="1861" y="2265"/>
                  </a:lnTo>
                  <a:lnTo>
                    <a:pt x="1769" y="2283"/>
                  </a:lnTo>
                  <a:lnTo>
                    <a:pt x="1674" y="2300"/>
                  </a:lnTo>
                  <a:lnTo>
                    <a:pt x="1579" y="2315"/>
                  </a:lnTo>
                  <a:lnTo>
                    <a:pt x="1483" y="2329"/>
                  </a:lnTo>
                  <a:lnTo>
                    <a:pt x="1388" y="2343"/>
                  </a:lnTo>
                  <a:lnTo>
                    <a:pt x="1289" y="2357"/>
                  </a:lnTo>
                  <a:lnTo>
                    <a:pt x="1191" y="2370"/>
                  </a:lnTo>
                  <a:lnTo>
                    <a:pt x="1090" y="2382"/>
                  </a:lnTo>
                  <a:lnTo>
                    <a:pt x="1041" y="2388"/>
                  </a:lnTo>
                  <a:lnTo>
                    <a:pt x="993" y="2396"/>
                  </a:lnTo>
                  <a:lnTo>
                    <a:pt x="946" y="2403"/>
                  </a:lnTo>
                  <a:lnTo>
                    <a:pt x="902" y="2411"/>
                  </a:lnTo>
                  <a:lnTo>
                    <a:pt x="858" y="2419"/>
                  </a:lnTo>
                  <a:lnTo>
                    <a:pt x="817" y="2428"/>
                  </a:lnTo>
                  <a:lnTo>
                    <a:pt x="777" y="2436"/>
                  </a:lnTo>
                  <a:lnTo>
                    <a:pt x="738" y="2446"/>
                  </a:lnTo>
                  <a:lnTo>
                    <a:pt x="701" y="2456"/>
                  </a:lnTo>
                  <a:lnTo>
                    <a:pt x="665" y="2466"/>
                  </a:lnTo>
                  <a:lnTo>
                    <a:pt x="631" y="2477"/>
                  </a:lnTo>
                  <a:lnTo>
                    <a:pt x="598" y="2487"/>
                  </a:lnTo>
                  <a:lnTo>
                    <a:pt x="567" y="2498"/>
                  </a:lnTo>
                  <a:lnTo>
                    <a:pt x="536" y="2509"/>
                  </a:lnTo>
                  <a:lnTo>
                    <a:pt x="507" y="2521"/>
                  </a:lnTo>
                  <a:lnTo>
                    <a:pt x="480" y="2534"/>
                  </a:lnTo>
                  <a:lnTo>
                    <a:pt x="453" y="2545"/>
                  </a:lnTo>
                  <a:lnTo>
                    <a:pt x="428" y="2558"/>
                  </a:lnTo>
                  <a:lnTo>
                    <a:pt x="403" y="2571"/>
                  </a:lnTo>
                  <a:lnTo>
                    <a:pt x="380" y="2583"/>
                  </a:lnTo>
                  <a:lnTo>
                    <a:pt x="359" y="2596"/>
                  </a:lnTo>
                  <a:lnTo>
                    <a:pt x="338" y="2610"/>
                  </a:lnTo>
                  <a:lnTo>
                    <a:pt x="318" y="2623"/>
                  </a:lnTo>
                  <a:lnTo>
                    <a:pt x="299" y="2637"/>
                  </a:lnTo>
                  <a:lnTo>
                    <a:pt x="281" y="2650"/>
                  </a:lnTo>
                  <a:lnTo>
                    <a:pt x="264" y="2664"/>
                  </a:lnTo>
                  <a:lnTo>
                    <a:pt x="248" y="2679"/>
                  </a:lnTo>
                  <a:lnTo>
                    <a:pt x="234" y="2694"/>
                  </a:lnTo>
                  <a:lnTo>
                    <a:pt x="220" y="2707"/>
                  </a:lnTo>
                  <a:lnTo>
                    <a:pt x="206" y="2722"/>
                  </a:lnTo>
                  <a:lnTo>
                    <a:pt x="194" y="2737"/>
                  </a:lnTo>
                  <a:lnTo>
                    <a:pt x="183" y="2751"/>
                  </a:lnTo>
                  <a:lnTo>
                    <a:pt x="162" y="2780"/>
                  </a:lnTo>
                  <a:lnTo>
                    <a:pt x="146" y="2807"/>
                  </a:lnTo>
                  <a:lnTo>
                    <a:pt x="133" y="2833"/>
                  </a:lnTo>
                  <a:lnTo>
                    <a:pt x="123" y="2857"/>
                  </a:lnTo>
                  <a:lnTo>
                    <a:pt x="114" y="2880"/>
                  </a:lnTo>
                  <a:lnTo>
                    <a:pt x="107" y="2903"/>
                  </a:lnTo>
                  <a:lnTo>
                    <a:pt x="102" y="2924"/>
                  </a:lnTo>
                  <a:lnTo>
                    <a:pt x="98" y="2944"/>
                  </a:lnTo>
                  <a:lnTo>
                    <a:pt x="91" y="2985"/>
                  </a:lnTo>
                  <a:lnTo>
                    <a:pt x="83" y="3024"/>
                  </a:lnTo>
                  <a:lnTo>
                    <a:pt x="79" y="3043"/>
                  </a:lnTo>
                  <a:lnTo>
                    <a:pt x="72" y="3063"/>
                  </a:lnTo>
                  <a:lnTo>
                    <a:pt x="64" y="3082"/>
                  </a:lnTo>
                  <a:lnTo>
                    <a:pt x="53" y="3102"/>
                  </a:lnTo>
                  <a:lnTo>
                    <a:pt x="40" y="3123"/>
                  </a:lnTo>
                  <a:lnTo>
                    <a:pt x="32" y="3144"/>
                  </a:lnTo>
                  <a:lnTo>
                    <a:pt x="23" y="3167"/>
                  </a:lnTo>
                  <a:lnTo>
                    <a:pt x="17" y="3189"/>
                  </a:lnTo>
                  <a:lnTo>
                    <a:pt x="11" y="3213"/>
                  </a:lnTo>
                  <a:lnTo>
                    <a:pt x="7" y="3236"/>
                  </a:lnTo>
                  <a:lnTo>
                    <a:pt x="5" y="3258"/>
                  </a:lnTo>
                  <a:lnTo>
                    <a:pt x="2" y="3280"/>
                  </a:lnTo>
                  <a:lnTo>
                    <a:pt x="0" y="3320"/>
                  </a:lnTo>
                  <a:lnTo>
                    <a:pt x="0" y="3350"/>
                  </a:lnTo>
                  <a:lnTo>
                    <a:pt x="0" y="3371"/>
                  </a:lnTo>
                  <a:lnTo>
                    <a:pt x="1" y="3379"/>
                  </a:lnTo>
                  <a:lnTo>
                    <a:pt x="0" y="3407"/>
                  </a:lnTo>
                  <a:lnTo>
                    <a:pt x="1" y="3433"/>
                  </a:lnTo>
                  <a:lnTo>
                    <a:pt x="2" y="3459"/>
                  </a:lnTo>
                  <a:lnTo>
                    <a:pt x="5" y="3483"/>
                  </a:lnTo>
                  <a:lnTo>
                    <a:pt x="8" y="3507"/>
                  </a:lnTo>
                  <a:lnTo>
                    <a:pt x="13" y="3529"/>
                  </a:lnTo>
                  <a:lnTo>
                    <a:pt x="18" y="3551"/>
                  </a:lnTo>
                  <a:lnTo>
                    <a:pt x="26" y="3571"/>
                  </a:lnTo>
                  <a:lnTo>
                    <a:pt x="32" y="3590"/>
                  </a:lnTo>
                  <a:lnTo>
                    <a:pt x="40" y="3607"/>
                  </a:lnTo>
                  <a:lnTo>
                    <a:pt x="49" y="3625"/>
                  </a:lnTo>
                  <a:lnTo>
                    <a:pt x="58" y="3641"/>
                  </a:lnTo>
                  <a:lnTo>
                    <a:pt x="67" y="3655"/>
                  </a:lnTo>
                  <a:lnTo>
                    <a:pt x="79" y="3670"/>
                  </a:lnTo>
                  <a:lnTo>
                    <a:pt x="88" y="3682"/>
                  </a:lnTo>
                  <a:lnTo>
                    <a:pt x="99" y="3695"/>
                  </a:lnTo>
                  <a:lnTo>
                    <a:pt x="112" y="3706"/>
                  </a:lnTo>
                  <a:lnTo>
                    <a:pt x="123" y="3716"/>
                  </a:lnTo>
                  <a:lnTo>
                    <a:pt x="135" y="3724"/>
                  </a:lnTo>
                  <a:lnTo>
                    <a:pt x="147" y="3732"/>
                  </a:lnTo>
                  <a:lnTo>
                    <a:pt x="160" y="3739"/>
                  </a:lnTo>
                  <a:lnTo>
                    <a:pt x="172" y="3744"/>
                  </a:lnTo>
                  <a:lnTo>
                    <a:pt x="184" y="3749"/>
                  </a:lnTo>
                  <a:lnTo>
                    <a:pt x="197" y="3753"/>
                  </a:lnTo>
                  <a:lnTo>
                    <a:pt x="209" y="3755"/>
                  </a:lnTo>
                  <a:lnTo>
                    <a:pt x="221" y="3756"/>
                  </a:lnTo>
                  <a:lnTo>
                    <a:pt x="234" y="3757"/>
                  </a:lnTo>
                  <a:lnTo>
                    <a:pt x="246" y="3757"/>
                  </a:lnTo>
                  <a:lnTo>
                    <a:pt x="257" y="3755"/>
                  </a:lnTo>
                  <a:lnTo>
                    <a:pt x="268" y="3754"/>
                  </a:lnTo>
                  <a:lnTo>
                    <a:pt x="279" y="3750"/>
                  </a:lnTo>
                  <a:lnTo>
                    <a:pt x="289" y="3745"/>
                  </a:lnTo>
                  <a:lnTo>
                    <a:pt x="309" y="3737"/>
                  </a:lnTo>
                  <a:lnTo>
                    <a:pt x="328" y="3728"/>
                  </a:lnTo>
                  <a:lnTo>
                    <a:pt x="348" y="3722"/>
                  </a:lnTo>
                  <a:lnTo>
                    <a:pt x="369" y="3716"/>
                  </a:lnTo>
                  <a:lnTo>
                    <a:pt x="389" y="3712"/>
                  </a:lnTo>
                  <a:lnTo>
                    <a:pt x="409" y="3708"/>
                  </a:lnTo>
                  <a:lnTo>
                    <a:pt x="430" y="3706"/>
                  </a:lnTo>
                  <a:lnTo>
                    <a:pt x="451" y="3703"/>
                  </a:lnTo>
                  <a:lnTo>
                    <a:pt x="494" y="3700"/>
                  </a:lnTo>
                  <a:lnTo>
                    <a:pt x="541" y="3697"/>
                  </a:lnTo>
                  <a:lnTo>
                    <a:pt x="589" y="3695"/>
                  </a:lnTo>
                  <a:lnTo>
                    <a:pt x="642" y="3691"/>
                  </a:lnTo>
                  <a:lnTo>
                    <a:pt x="671" y="3689"/>
                  </a:lnTo>
                  <a:lnTo>
                    <a:pt x="706" y="3684"/>
                  </a:lnTo>
                  <a:lnTo>
                    <a:pt x="743" y="3679"/>
                  </a:lnTo>
                  <a:lnTo>
                    <a:pt x="782" y="3673"/>
                  </a:lnTo>
                  <a:lnTo>
                    <a:pt x="865" y="3658"/>
                  </a:lnTo>
                  <a:lnTo>
                    <a:pt x="947" y="3642"/>
                  </a:lnTo>
                  <a:lnTo>
                    <a:pt x="1022" y="3627"/>
                  </a:lnTo>
                  <a:lnTo>
                    <a:pt x="1085" y="3614"/>
                  </a:lnTo>
                  <a:lnTo>
                    <a:pt x="1127" y="3605"/>
                  </a:lnTo>
                  <a:lnTo>
                    <a:pt x="1141" y="3601"/>
                  </a:lnTo>
                  <a:lnTo>
                    <a:pt x="1215" y="3580"/>
                  </a:lnTo>
                  <a:lnTo>
                    <a:pt x="1294" y="3557"/>
                  </a:lnTo>
                  <a:lnTo>
                    <a:pt x="1375" y="3529"/>
                  </a:lnTo>
                  <a:lnTo>
                    <a:pt x="1461" y="3497"/>
                  </a:lnTo>
                  <a:lnTo>
                    <a:pt x="1550" y="3462"/>
                  </a:lnTo>
                  <a:lnTo>
                    <a:pt x="1642" y="3424"/>
                  </a:lnTo>
                  <a:lnTo>
                    <a:pt x="1737" y="3385"/>
                  </a:lnTo>
                  <a:lnTo>
                    <a:pt x="1833" y="3342"/>
                  </a:lnTo>
                  <a:lnTo>
                    <a:pt x="1930" y="3297"/>
                  </a:lnTo>
                  <a:lnTo>
                    <a:pt x="2028" y="3252"/>
                  </a:lnTo>
                  <a:lnTo>
                    <a:pt x="2128" y="3204"/>
                  </a:lnTo>
                  <a:lnTo>
                    <a:pt x="2229" y="3156"/>
                  </a:lnTo>
                  <a:lnTo>
                    <a:pt x="2329" y="3107"/>
                  </a:lnTo>
                  <a:lnTo>
                    <a:pt x="2427" y="3056"/>
                  </a:lnTo>
                  <a:lnTo>
                    <a:pt x="2526" y="3006"/>
                  </a:lnTo>
                  <a:lnTo>
                    <a:pt x="2623" y="2956"/>
                  </a:lnTo>
                  <a:lnTo>
                    <a:pt x="2812" y="2856"/>
                  </a:lnTo>
                  <a:lnTo>
                    <a:pt x="2991" y="2760"/>
                  </a:lnTo>
                  <a:lnTo>
                    <a:pt x="3154" y="2669"/>
                  </a:lnTo>
                  <a:lnTo>
                    <a:pt x="3303" y="2585"/>
                  </a:lnTo>
                  <a:lnTo>
                    <a:pt x="3431" y="2511"/>
                  </a:lnTo>
                  <a:lnTo>
                    <a:pt x="3534" y="2450"/>
                  </a:lnTo>
                  <a:lnTo>
                    <a:pt x="3613" y="2402"/>
                  </a:lnTo>
                  <a:lnTo>
                    <a:pt x="3660" y="2371"/>
                  </a:lnTo>
                  <a:lnTo>
                    <a:pt x="3748" y="2309"/>
                  </a:lnTo>
                  <a:lnTo>
                    <a:pt x="3878" y="2216"/>
                  </a:lnTo>
                  <a:lnTo>
                    <a:pt x="4030" y="2106"/>
                  </a:lnTo>
                  <a:lnTo>
                    <a:pt x="4194" y="1988"/>
                  </a:lnTo>
                  <a:lnTo>
                    <a:pt x="4354" y="1873"/>
                  </a:lnTo>
                  <a:lnTo>
                    <a:pt x="4496" y="1772"/>
                  </a:lnTo>
                  <a:lnTo>
                    <a:pt x="4555" y="1730"/>
                  </a:lnTo>
                  <a:lnTo>
                    <a:pt x="4606" y="1696"/>
                  </a:lnTo>
                  <a:lnTo>
                    <a:pt x="4644" y="1670"/>
                  </a:lnTo>
                  <a:lnTo>
                    <a:pt x="4669" y="1654"/>
                  </a:lnTo>
                  <a:lnTo>
                    <a:pt x="4685" y="1643"/>
                  </a:lnTo>
                  <a:lnTo>
                    <a:pt x="4701" y="1632"/>
                  </a:lnTo>
                  <a:lnTo>
                    <a:pt x="4715" y="1619"/>
                  </a:lnTo>
                  <a:lnTo>
                    <a:pt x="4729" y="1604"/>
                  </a:lnTo>
                  <a:lnTo>
                    <a:pt x="4741" y="1588"/>
                  </a:lnTo>
                  <a:lnTo>
                    <a:pt x="4754" y="1572"/>
                  </a:lnTo>
                  <a:lnTo>
                    <a:pt x="4766" y="1556"/>
                  </a:lnTo>
                  <a:lnTo>
                    <a:pt x="4777" y="1539"/>
                  </a:lnTo>
                  <a:lnTo>
                    <a:pt x="4798" y="1505"/>
                  </a:lnTo>
                  <a:lnTo>
                    <a:pt x="4818" y="1472"/>
                  </a:lnTo>
                  <a:lnTo>
                    <a:pt x="4827" y="1457"/>
                  </a:lnTo>
                  <a:lnTo>
                    <a:pt x="4837" y="1443"/>
                  </a:lnTo>
                  <a:lnTo>
                    <a:pt x="4848" y="1429"/>
                  </a:lnTo>
                  <a:lnTo>
                    <a:pt x="4858" y="1418"/>
                  </a:lnTo>
                  <a:lnTo>
                    <a:pt x="4864" y="1412"/>
                  </a:lnTo>
                  <a:lnTo>
                    <a:pt x="4869" y="1404"/>
                  </a:lnTo>
                  <a:lnTo>
                    <a:pt x="4875" y="1397"/>
                  </a:lnTo>
                  <a:lnTo>
                    <a:pt x="4880" y="1388"/>
                  </a:lnTo>
                  <a:lnTo>
                    <a:pt x="4890" y="1369"/>
                  </a:lnTo>
                  <a:lnTo>
                    <a:pt x="4900" y="1345"/>
                  </a:lnTo>
                  <a:lnTo>
                    <a:pt x="4909" y="1321"/>
                  </a:lnTo>
                  <a:lnTo>
                    <a:pt x="4918" y="1294"/>
                  </a:lnTo>
                  <a:lnTo>
                    <a:pt x="4926" y="1265"/>
                  </a:lnTo>
                  <a:lnTo>
                    <a:pt x="4934" y="1237"/>
                  </a:lnTo>
                  <a:lnTo>
                    <a:pt x="4949" y="1179"/>
                  </a:lnTo>
                  <a:lnTo>
                    <a:pt x="4961" y="1125"/>
                  </a:lnTo>
                  <a:lnTo>
                    <a:pt x="4974" y="1080"/>
                  </a:lnTo>
                  <a:lnTo>
                    <a:pt x="4984" y="1045"/>
                  </a:lnTo>
                  <a:lnTo>
                    <a:pt x="4995" y="1016"/>
                  </a:lnTo>
                  <a:lnTo>
                    <a:pt x="5006" y="981"/>
                  </a:lnTo>
                  <a:lnTo>
                    <a:pt x="5017" y="946"/>
                  </a:lnTo>
                  <a:lnTo>
                    <a:pt x="5029" y="910"/>
                  </a:lnTo>
                  <a:lnTo>
                    <a:pt x="5041" y="877"/>
                  </a:lnTo>
                  <a:lnTo>
                    <a:pt x="5054" y="847"/>
                  </a:lnTo>
                  <a:lnTo>
                    <a:pt x="5060" y="835"/>
                  </a:lnTo>
                  <a:lnTo>
                    <a:pt x="5065" y="824"/>
                  </a:lnTo>
                  <a:lnTo>
                    <a:pt x="5071" y="815"/>
                  </a:lnTo>
                  <a:lnTo>
                    <a:pt x="5076" y="809"/>
                  </a:lnTo>
                  <a:lnTo>
                    <a:pt x="5081" y="804"/>
                  </a:lnTo>
                  <a:lnTo>
                    <a:pt x="5086" y="797"/>
                  </a:lnTo>
                  <a:lnTo>
                    <a:pt x="5089" y="791"/>
                  </a:lnTo>
                  <a:lnTo>
                    <a:pt x="5093" y="782"/>
                  </a:lnTo>
                  <a:lnTo>
                    <a:pt x="5099" y="766"/>
                  </a:lnTo>
                  <a:lnTo>
                    <a:pt x="5105" y="750"/>
                  </a:lnTo>
                  <a:lnTo>
                    <a:pt x="5109" y="735"/>
                  </a:lnTo>
                  <a:lnTo>
                    <a:pt x="5112" y="723"/>
                  </a:lnTo>
                  <a:lnTo>
                    <a:pt x="5113" y="714"/>
                  </a:lnTo>
                  <a:lnTo>
                    <a:pt x="5114" y="712"/>
                  </a:lnTo>
                  <a:lnTo>
                    <a:pt x="5137" y="705"/>
                  </a:lnTo>
                  <a:lnTo>
                    <a:pt x="5169" y="696"/>
                  </a:lnTo>
                  <a:lnTo>
                    <a:pt x="5207" y="686"/>
                  </a:lnTo>
                  <a:lnTo>
                    <a:pt x="5247" y="676"/>
                  </a:lnTo>
                  <a:lnTo>
                    <a:pt x="5284" y="666"/>
                  </a:lnTo>
                  <a:lnTo>
                    <a:pt x="5316" y="659"/>
                  </a:lnTo>
                  <a:lnTo>
                    <a:pt x="5337" y="654"/>
                  </a:lnTo>
                  <a:lnTo>
                    <a:pt x="5345" y="652"/>
                  </a:lnTo>
                  <a:lnTo>
                    <a:pt x="5350" y="658"/>
                  </a:lnTo>
                  <a:lnTo>
                    <a:pt x="5356" y="663"/>
                  </a:lnTo>
                  <a:lnTo>
                    <a:pt x="5364" y="669"/>
                  </a:lnTo>
                  <a:lnTo>
                    <a:pt x="5371" y="674"/>
                  </a:lnTo>
                  <a:lnTo>
                    <a:pt x="5388" y="684"/>
                  </a:lnTo>
                  <a:lnTo>
                    <a:pt x="5408" y="692"/>
                  </a:lnTo>
                  <a:lnTo>
                    <a:pt x="5429" y="700"/>
                  </a:lnTo>
                  <a:lnTo>
                    <a:pt x="5451" y="707"/>
                  </a:lnTo>
                  <a:lnTo>
                    <a:pt x="5473" y="713"/>
                  </a:lnTo>
                  <a:lnTo>
                    <a:pt x="5495" y="718"/>
                  </a:lnTo>
                  <a:lnTo>
                    <a:pt x="5538" y="727"/>
                  </a:lnTo>
                  <a:lnTo>
                    <a:pt x="5574" y="732"/>
                  </a:lnTo>
                  <a:lnTo>
                    <a:pt x="5599" y="735"/>
                  </a:lnTo>
                  <a:lnTo>
                    <a:pt x="5609" y="735"/>
                  </a:lnTo>
                  <a:lnTo>
                    <a:pt x="5632" y="746"/>
                  </a:lnTo>
                  <a:lnTo>
                    <a:pt x="5654" y="756"/>
                  </a:lnTo>
                  <a:lnTo>
                    <a:pt x="5675" y="765"/>
                  </a:lnTo>
                  <a:lnTo>
                    <a:pt x="5695" y="772"/>
                  </a:lnTo>
                  <a:lnTo>
                    <a:pt x="5713" y="778"/>
                  </a:lnTo>
                  <a:lnTo>
                    <a:pt x="5732" y="783"/>
                  </a:lnTo>
                  <a:lnTo>
                    <a:pt x="5748" y="787"/>
                  </a:lnTo>
                  <a:lnTo>
                    <a:pt x="5762" y="789"/>
                  </a:lnTo>
                  <a:lnTo>
                    <a:pt x="5776" y="792"/>
                  </a:lnTo>
                  <a:lnTo>
                    <a:pt x="5788" y="793"/>
                  </a:lnTo>
                  <a:lnTo>
                    <a:pt x="5800" y="793"/>
                  </a:lnTo>
                  <a:lnTo>
                    <a:pt x="5812" y="793"/>
                  </a:lnTo>
                  <a:lnTo>
                    <a:pt x="5821" y="792"/>
                  </a:lnTo>
                  <a:lnTo>
                    <a:pt x="5830" y="791"/>
                  </a:lnTo>
                  <a:lnTo>
                    <a:pt x="5839" y="789"/>
                  </a:lnTo>
                  <a:lnTo>
                    <a:pt x="5846" y="787"/>
                  </a:lnTo>
                  <a:lnTo>
                    <a:pt x="5858" y="781"/>
                  </a:lnTo>
                  <a:lnTo>
                    <a:pt x="5868" y="775"/>
                  </a:lnTo>
                  <a:lnTo>
                    <a:pt x="5876" y="767"/>
                  </a:lnTo>
                  <a:lnTo>
                    <a:pt x="5882" y="760"/>
                  </a:lnTo>
                  <a:lnTo>
                    <a:pt x="5887" y="749"/>
                  </a:lnTo>
                  <a:lnTo>
                    <a:pt x="5888" y="744"/>
                  </a:lnTo>
                  <a:lnTo>
                    <a:pt x="5890" y="745"/>
                  </a:lnTo>
                  <a:lnTo>
                    <a:pt x="5898" y="749"/>
                  </a:lnTo>
                  <a:lnTo>
                    <a:pt x="5909" y="754"/>
                  </a:lnTo>
                  <a:lnTo>
                    <a:pt x="5924" y="759"/>
                  </a:lnTo>
                  <a:lnTo>
                    <a:pt x="5940" y="765"/>
                  </a:lnTo>
                  <a:lnTo>
                    <a:pt x="5956" y="769"/>
                  </a:lnTo>
                  <a:lnTo>
                    <a:pt x="5964" y="770"/>
                  </a:lnTo>
                  <a:lnTo>
                    <a:pt x="5973" y="770"/>
                  </a:lnTo>
                  <a:lnTo>
                    <a:pt x="5981" y="770"/>
                  </a:lnTo>
                  <a:lnTo>
                    <a:pt x="5989" y="769"/>
                  </a:lnTo>
                  <a:lnTo>
                    <a:pt x="5996" y="767"/>
                  </a:lnTo>
                  <a:lnTo>
                    <a:pt x="6003" y="765"/>
                  </a:lnTo>
                  <a:lnTo>
                    <a:pt x="6010" y="762"/>
                  </a:lnTo>
                  <a:lnTo>
                    <a:pt x="6017" y="759"/>
                  </a:lnTo>
                  <a:lnTo>
                    <a:pt x="6023" y="754"/>
                  </a:lnTo>
                  <a:lnTo>
                    <a:pt x="6029" y="749"/>
                  </a:lnTo>
                  <a:lnTo>
                    <a:pt x="6034" y="744"/>
                  </a:lnTo>
                  <a:lnTo>
                    <a:pt x="6039" y="739"/>
                  </a:lnTo>
                  <a:lnTo>
                    <a:pt x="6043" y="733"/>
                  </a:lnTo>
                  <a:lnTo>
                    <a:pt x="6045" y="727"/>
                  </a:lnTo>
                  <a:lnTo>
                    <a:pt x="6048" y="719"/>
                  </a:lnTo>
                  <a:lnTo>
                    <a:pt x="6049" y="713"/>
                  </a:lnTo>
                  <a:lnTo>
                    <a:pt x="6049" y="706"/>
                  </a:lnTo>
                  <a:lnTo>
                    <a:pt x="6048" y="698"/>
                  </a:lnTo>
                  <a:lnTo>
                    <a:pt x="6044" y="691"/>
                  </a:lnTo>
                  <a:lnTo>
                    <a:pt x="6040" y="684"/>
                  </a:lnTo>
                  <a:lnTo>
                    <a:pt x="6026" y="665"/>
                  </a:lnTo>
                  <a:lnTo>
                    <a:pt x="6005" y="641"/>
                  </a:lnTo>
                  <a:lnTo>
                    <a:pt x="5979" y="614"/>
                  </a:lnTo>
                  <a:lnTo>
                    <a:pt x="5949" y="584"/>
                  </a:lnTo>
                  <a:lnTo>
                    <a:pt x="5921" y="556"/>
                  </a:lnTo>
                  <a:lnTo>
                    <a:pt x="5894" y="530"/>
                  </a:lnTo>
                  <a:lnTo>
                    <a:pt x="5872" y="508"/>
                  </a:lnTo>
                  <a:lnTo>
                    <a:pt x="5856" y="494"/>
                  </a:lnTo>
                  <a:lnTo>
                    <a:pt x="5832" y="480"/>
                  </a:lnTo>
                  <a:lnTo>
                    <a:pt x="5792" y="456"/>
                  </a:lnTo>
                  <a:lnTo>
                    <a:pt x="5740" y="428"/>
                  </a:lnTo>
                  <a:lnTo>
                    <a:pt x="5684" y="398"/>
                  </a:lnTo>
                  <a:lnTo>
                    <a:pt x="5628" y="370"/>
                  </a:lnTo>
                  <a:lnTo>
                    <a:pt x="5580" y="345"/>
                  </a:lnTo>
                  <a:lnTo>
                    <a:pt x="5547" y="329"/>
                  </a:lnTo>
                  <a:lnTo>
                    <a:pt x="5535" y="323"/>
                  </a:lnTo>
                  <a:lnTo>
                    <a:pt x="5986" y="369"/>
                  </a:lnTo>
                  <a:lnTo>
                    <a:pt x="5994" y="373"/>
                  </a:lnTo>
                  <a:lnTo>
                    <a:pt x="6013" y="380"/>
                  </a:lnTo>
                  <a:lnTo>
                    <a:pt x="6043" y="390"/>
                  </a:lnTo>
                  <a:lnTo>
                    <a:pt x="6079" y="401"/>
                  </a:lnTo>
                  <a:lnTo>
                    <a:pt x="6098" y="406"/>
                  </a:lnTo>
                  <a:lnTo>
                    <a:pt x="6118" y="411"/>
                  </a:lnTo>
                  <a:lnTo>
                    <a:pt x="6139" y="414"/>
                  </a:lnTo>
                  <a:lnTo>
                    <a:pt x="6157" y="417"/>
                  </a:lnTo>
                  <a:lnTo>
                    <a:pt x="6177" y="419"/>
                  </a:lnTo>
                  <a:lnTo>
                    <a:pt x="6194" y="419"/>
                  </a:lnTo>
                  <a:lnTo>
                    <a:pt x="6210" y="418"/>
                  </a:lnTo>
                  <a:lnTo>
                    <a:pt x="6225" y="416"/>
                  </a:lnTo>
                  <a:lnTo>
                    <a:pt x="6237" y="411"/>
                  </a:lnTo>
                  <a:lnTo>
                    <a:pt x="6247" y="406"/>
                  </a:lnTo>
                  <a:lnTo>
                    <a:pt x="6257" y="398"/>
                  </a:lnTo>
                  <a:lnTo>
                    <a:pt x="6264" y="391"/>
                  </a:lnTo>
                  <a:lnTo>
                    <a:pt x="6272" y="384"/>
                  </a:lnTo>
                  <a:lnTo>
                    <a:pt x="6278" y="374"/>
                  </a:lnTo>
                  <a:lnTo>
                    <a:pt x="6282" y="365"/>
                  </a:lnTo>
                  <a:lnTo>
                    <a:pt x="6285" y="357"/>
                  </a:lnTo>
                  <a:lnTo>
                    <a:pt x="6291" y="339"/>
                  </a:lnTo>
                  <a:lnTo>
                    <a:pt x="6294" y="326"/>
                  </a:lnTo>
                  <a:lnTo>
                    <a:pt x="6295" y="316"/>
                  </a:lnTo>
                  <a:lnTo>
                    <a:pt x="6296" y="312"/>
                  </a:lnTo>
                  <a:lnTo>
                    <a:pt x="6295" y="311"/>
                  </a:lnTo>
                  <a:lnTo>
                    <a:pt x="6291" y="310"/>
                  </a:lnTo>
                  <a:lnTo>
                    <a:pt x="6284" y="306"/>
                  </a:lnTo>
                  <a:lnTo>
                    <a:pt x="6275" y="302"/>
                  </a:lnTo>
                  <a:lnTo>
                    <a:pt x="6262" y="296"/>
                  </a:lnTo>
                  <a:lnTo>
                    <a:pt x="6246" y="289"/>
                  </a:lnTo>
                  <a:lnTo>
                    <a:pt x="6226" y="281"/>
                  </a:lnTo>
                  <a:lnTo>
                    <a:pt x="6203" y="272"/>
                  </a:lnTo>
                  <a:lnTo>
                    <a:pt x="6174" y="261"/>
                  </a:lnTo>
                  <a:lnTo>
                    <a:pt x="6143" y="248"/>
                  </a:lnTo>
                  <a:lnTo>
                    <a:pt x="6109" y="236"/>
                  </a:lnTo>
                  <a:lnTo>
                    <a:pt x="6074" y="225"/>
                  </a:lnTo>
                  <a:lnTo>
                    <a:pt x="6038" y="214"/>
                  </a:lnTo>
                  <a:lnTo>
                    <a:pt x="6003" y="204"/>
                  </a:lnTo>
                  <a:lnTo>
                    <a:pt x="5970" y="195"/>
                  </a:lnTo>
                  <a:lnTo>
                    <a:pt x="5940" y="190"/>
                  </a:lnTo>
                  <a:lnTo>
                    <a:pt x="5927" y="188"/>
                  </a:lnTo>
                  <a:lnTo>
                    <a:pt x="5896" y="183"/>
                  </a:lnTo>
                  <a:lnTo>
                    <a:pt x="5851" y="177"/>
                  </a:lnTo>
                  <a:lnTo>
                    <a:pt x="5798" y="168"/>
                  </a:lnTo>
                  <a:lnTo>
                    <a:pt x="5744" y="161"/>
                  </a:lnTo>
                  <a:lnTo>
                    <a:pt x="5695" y="154"/>
                  </a:lnTo>
                  <a:lnTo>
                    <a:pt x="5657" y="147"/>
                  </a:lnTo>
                  <a:lnTo>
                    <a:pt x="5636" y="144"/>
                  </a:lnTo>
                  <a:lnTo>
                    <a:pt x="5623" y="143"/>
                  </a:lnTo>
                  <a:lnTo>
                    <a:pt x="5606" y="141"/>
                  </a:lnTo>
                  <a:lnTo>
                    <a:pt x="5585" y="140"/>
                  </a:lnTo>
                  <a:lnTo>
                    <a:pt x="5559" y="139"/>
                  </a:lnTo>
                  <a:lnTo>
                    <a:pt x="5532" y="138"/>
                  </a:lnTo>
                  <a:lnTo>
                    <a:pt x="5504" y="138"/>
                  </a:lnTo>
                  <a:lnTo>
                    <a:pt x="5474" y="139"/>
                  </a:lnTo>
                  <a:lnTo>
                    <a:pt x="5445" y="141"/>
                  </a:lnTo>
                  <a:lnTo>
                    <a:pt x="5410" y="146"/>
                  </a:lnTo>
                  <a:lnTo>
                    <a:pt x="5363" y="154"/>
                  </a:lnTo>
                  <a:lnTo>
                    <a:pt x="5308" y="161"/>
                  </a:lnTo>
                  <a:lnTo>
                    <a:pt x="5252" y="170"/>
                  </a:lnTo>
                  <a:lnTo>
                    <a:pt x="5199" y="177"/>
                  </a:lnTo>
                  <a:lnTo>
                    <a:pt x="5156" y="184"/>
                  </a:lnTo>
                  <a:lnTo>
                    <a:pt x="5125" y="188"/>
                  </a:lnTo>
                  <a:lnTo>
                    <a:pt x="5114" y="190"/>
                  </a:lnTo>
                  <a:lnTo>
                    <a:pt x="5033" y="206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7045200" y="2602080"/>
              <a:ext cx="168480" cy="23760"/>
            </a:xfrm>
            <a:custGeom>
              <a:avLst/>
              <a:gdLst/>
              <a:ahLst/>
              <a:rect l="l" t="t" r="r" b="b"/>
              <a:pathLst>
                <a:path w="527" h="74">
                  <a:moveTo>
                    <a:pt x="527" y="55"/>
                  </a:moveTo>
                  <a:lnTo>
                    <a:pt x="523" y="53"/>
                  </a:lnTo>
                  <a:lnTo>
                    <a:pt x="514" y="47"/>
                  </a:lnTo>
                  <a:lnTo>
                    <a:pt x="500" y="38"/>
                  </a:lnTo>
                  <a:lnTo>
                    <a:pt x="481" y="28"/>
                  </a:lnTo>
                  <a:lnTo>
                    <a:pt x="459" y="20"/>
                  </a:lnTo>
                  <a:lnTo>
                    <a:pt x="434" y="10"/>
                  </a:lnTo>
                  <a:lnTo>
                    <a:pt x="421" y="6"/>
                  </a:lnTo>
                  <a:lnTo>
                    <a:pt x="407" y="4"/>
                  </a:lnTo>
                  <a:lnTo>
                    <a:pt x="394" y="1"/>
                  </a:lnTo>
                  <a:lnTo>
                    <a:pt x="380" y="1"/>
                  </a:lnTo>
                  <a:lnTo>
                    <a:pt x="352" y="0"/>
                  </a:lnTo>
                  <a:lnTo>
                    <a:pt x="325" y="1"/>
                  </a:lnTo>
                  <a:lnTo>
                    <a:pt x="299" y="4"/>
                  </a:lnTo>
                  <a:lnTo>
                    <a:pt x="275" y="7"/>
                  </a:lnTo>
                  <a:lnTo>
                    <a:pt x="252" y="12"/>
                  </a:lnTo>
                  <a:lnTo>
                    <a:pt x="231" y="17"/>
                  </a:lnTo>
                  <a:lnTo>
                    <a:pt x="214" y="22"/>
                  </a:lnTo>
                  <a:lnTo>
                    <a:pt x="198" y="25"/>
                  </a:lnTo>
                  <a:lnTo>
                    <a:pt x="186" y="29"/>
                  </a:lnTo>
                  <a:lnTo>
                    <a:pt x="166" y="34"/>
                  </a:lnTo>
                  <a:lnTo>
                    <a:pt x="143" y="39"/>
                  </a:lnTo>
                  <a:lnTo>
                    <a:pt x="116" y="47"/>
                  </a:lnTo>
                  <a:lnTo>
                    <a:pt x="88" y="54"/>
                  </a:lnTo>
                  <a:lnTo>
                    <a:pt x="57" y="60"/>
                  </a:lnTo>
                  <a:lnTo>
                    <a:pt x="27" y="68"/>
                  </a:lnTo>
                  <a:lnTo>
                    <a:pt x="0" y="74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7037280" y="2664000"/>
              <a:ext cx="292320" cy="88920"/>
            </a:xfrm>
            <a:custGeom>
              <a:avLst/>
              <a:gdLst/>
              <a:ahLst/>
              <a:rect l="l" t="t" r="r" b="b"/>
              <a:pathLst>
                <a:path w="920" h="283">
                  <a:moveTo>
                    <a:pt x="0" y="36"/>
                  </a:moveTo>
                  <a:lnTo>
                    <a:pt x="21" y="33"/>
                  </a:lnTo>
                  <a:lnTo>
                    <a:pt x="46" y="31"/>
                  </a:lnTo>
                  <a:lnTo>
                    <a:pt x="71" y="28"/>
                  </a:lnTo>
                  <a:lnTo>
                    <a:pt x="100" y="26"/>
                  </a:lnTo>
                  <a:lnTo>
                    <a:pt x="127" y="22"/>
                  </a:lnTo>
                  <a:lnTo>
                    <a:pt x="151" y="20"/>
                  </a:lnTo>
                  <a:lnTo>
                    <a:pt x="172" y="19"/>
                  </a:lnTo>
                  <a:lnTo>
                    <a:pt x="187" y="17"/>
                  </a:lnTo>
                  <a:lnTo>
                    <a:pt x="206" y="14"/>
                  </a:lnTo>
                  <a:lnTo>
                    <a:pt x="231" y="10"/>
                  </a:lnTo>
                  <a:lnTo>
                    <a:pt x="263" y="5"/>
                  </a:lnTo>
                  <a:lnTo>
                    <a:pt x="300" y="1"/>
                  </a:lnTo>
                  <a:lnTo>
                    <a:pt x="321" y="0"/>
                  </a:lnTo>
                  <a:lnTo>
                    <a:pt x="342" y="0"/>
                  </a:lnTo>
                  <a:lnTo>
                    <a:pt x="366" y="3"/>
                  </a:lnTo>
                  <a:lnTo>
                    <a:pt x="389" y="5"/>
                  </a:lnTo>
                  <a:lnTo>
                    <a:pt x="413" y="10"/>
                  </a:lnTo>
                  <a:lnTo>
                    <a:pt x="438" y="16"/>
                  </a:lnTo>
                  <a:lnTo>
                    <a:pt x="465" y="25"/>
                  </a:lnTo>
                  <a:lnTo>
                    <a:pt x="491" y="36"/>
                  </a:lnTo>
                  <a:lnTo>
                    <a:pt x="541" y="59"/>
                  </a:lnTo>
                  <a:lnTo>
                    <a:pt x="583" y="78"/>
                  </a:lnTo>
                  <a:lnTo>
                    <a:pt x="620" y="96"/>
                  </a:lnTo>
                  <a:lnTo>
                    <a:pt x="653" y="111"/>
                  </a:lnTo>
                  <a:lnTo>
                    <a:pt x="683" y="127"/>
                  </a:lnTo>
                  <a:lnTo>
                    <a:pt x="712" y="142"/>
                  </a:lnTo>
                  <a:lnTo>
                    <a:pt x="742" y="158"/>
                  </a:lnTo>
                  <a:lnTo>
                    <a:pt x="774" y="175"/>
                  </a:lnTo>
                  <a:lnTo>
                    <a:pt x="778" y="177"/>
                  </a:lnTo>
                  <a:lnTo>
                    <a:pt x="786" y="183"/>
                  </a:lnTo>
                  <a:lnTo>
                    <a:pt x="799" y="192"/>
                  </a:lnTo>
                  <a:lnTo>
                    <a:pt x="815" y="203"/>
                  </a:lnTo>
                  <a:lnTo>
                    <a:pt x="833" y="215"/>
                  </a:lnTo>
                  <a:lnTo>
                    <a:pt x="853" y="226"/>
                  </a:lnTo>
                  <a:lnTo>
                    <a:pt x="872" y="235"/>
                  </a:lnTo>
                  <a:lnTo>
                    <a:pt x="891" y="242"/>
                  </a:lnTo>
                  <a:lnTo>
                    <a:pt x="906" y="247"/>
                  </a:lnTo>
                  <a:lnTo>
                    <a:pt x="914" y="252"/>
                  </a:lnTo>
                  <a:lnTo>
                    <a:pt x="917" y="255"/>
                  </a:lnTo>
                  <a:lnTo>
                    <a:pt x="919" y="257"/>
                  </a:lnTo>
                  <a:lnTo>
                    <a:pt x="920" y="260"/>
                  </a:lnTo>
                  <a:lnTo>
                    <a:pt x="920" y="262"/>
                  </a:lnTo>
                  <a:lnTo>
                    <a:pt x="919" y="267"/>
                  </a:lnTo>
                  <a:lnTo>
                    <a:pt x="915" y="272"/>
                  </a:lnTo>
                  <a:lnTo>
                    <a:pt x="912" y="277"/>
                  </a:lnTo>
                  <a:lnTo>
                    <a:pt x="907" y="283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7639200" y="2397240"/>
              <a:ext cx="107640" cy="42840"/>
            </a:xfrm>
            <a:custGeom>
              <a:avLst/>
              <a:gdLst/>
              <a:ahLst/>
              <a:rect l="l" t="t" r="r" b="b"/>
              <a:pathLst>
                <a:path w="340" h="133">
                  <a:moveTo>
                    <a:pt x="340" y="133"/>
                  </a:moveTo>
                  <a:lnTo>
                    <a:pt x="332" y="130"/>
                  </a:lnTo>
                  <a:lnTo>
                    <a:pt x="312" y="121"/>
                  </a:lnTo>
                  <a:lnTo>
                    <a:pt x="284" y="109"/>
                  </a:lnTo>
                  <a:lnTo>
                    <a:pt x="251" y="94"/>
                  </a:lnTo>
                  <a:lnTo>
                    <a:pt x="214" y="78"/>
                  </a:lnTo>
                  <a:lnTo>
                    <a:pt x="180" y="65"/>
                  </a:lnTo>
                  <a:lnTo>
                    <a:pt x="149" y="51"/>
                  </a:lnTo>
                  <a:lnTo>
                    <a:pt x="125" y="44"/>
                  </a:lnTo>
                  <a:lnTo>
                    <a:pt x="107" y="37"/>
                  </a:lnTo>
                  <a:lnTo>
                    <a:pt x="90" y="30"/>
                  </a:lnTo>
                  <a:lnTo>
                    <a:pt x="74" y="23"/>
                  </a:lnTo>
                  <a:lnTo>
                    <a:pt x="58" y="17"/>
                  </a:lnTo>
                  <a:lnTo>
                    <a:pt x="42" y="11"/>
                  </a:lnTo>
                  <a:lnTo>
                    <a:pt x="27" y="6"/>
                  </a:lnTo>
                  <a:lnTo>
                    <a:pt x="14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7607160" y="2452680"/>
              <a:ext cx="152640" cy="71640"/>
            </a:xfrm>
            <a:custGeom>
              <a:avLst/>
              <a:gdLst/>
              <a:ahLst/>
              <a:rect l="l" t="t" r="r" b="b"/>
              <a:pathLst>
                <a:path w="483" h="223">
                  <a:moveTo>
                    <a:pt x="0" y="223"/>
                  </a:moveTo>
                  <a:lnTo>
                    <a:pt x="0" y="214"/>
                  </a:lnTo>
                  <a:lnTo>
                    <a:pt x="0" y="195"/>
                  </a:lnTo>
                  <a:lnTo>
                    <a:pt x="1" y="165"/>
                  </a:lnTo>
                  <a:lnTo>
                    <a:pt x="5" y="131"/>
                  </a:lnTo>
                  <a:lnTo>
                    <a:pt x="7" y="113"/>
                  </a:lnTo>
                  <a:lnTo>
                    <a:pt x="9" y="95"/>
                  </a:lnTo>
                  <a:lnTo>
                    <a:pt x="13" y="78"/>
                  </a:lnTo>
                  <a:lnTo>
                    <a:pt x="17" y="62"/>
                  </a:lnTo>
                  <a:lnTo>
                    <a:pt x="22" y="47"/>
                  </a:lnTo>
                  <a:lnTo>
                    <a:pt x="28" y="35"/>
                  </a:lnTo>
                  <a:lnTo>
                    <a:pt x="32" y="30"/>
                  </a:lnTo>
                  <a:lnTo>
                    <a:pt x="35" y="25"/>
                  </a:lnTo>
                  <a:lnTo>
                    <a:pt x="39" y="21"/>
                  </a:lnTo>
                  <a:lnTo>
                    <a:pt x="44" y="19"/>
                  </a:lnTo>
                  <a:lnTo>
                    <a:pt x="60" y="10"/>
                  </a:lnTo>
                  <a:lnTo>
                    <a:pt x="76" y="4"/>
                  </a:lnTo>
                  <a:lnTo>
                    <a:pt x="83" y="3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1" y="2"/>
                  </a:lnTo>
                  <a:lnTo>
                    <a:pt x="144" y="4"/>
                  </a:lnTo>
                  <a:lnTo>
                    <a:pt x="157" y="8"/>
                  </a:lnTo>
                  <a:lnTo>
                    <a:pt x="189" y="16"/>
                  </a:lnTo>
                  <a:lnTo>
                    <a:pt x="228" y="30"/>
                  </a:lnTo>
                  <a:lnTo>
                    <a:pt x="272" y="45"/>
                  </a:lnTo>
                  <a:lnTo>
                    <a:pt x="316" y="62"/>
                  </a:lnTo>
                  <a:lnTo>
                    <a:pt x="359" y="79"/>
                  </a:lnTo>
                  <a:lnTo>
                    <a:pt x="398" y="95"/>
                  </a:lnTo>
                  <a:lnTo>
                    <a:pt x="433" y="110"/>
                  </a:lnTo>
                  <a:lnTo>
                    <a:pt x="460" y="122"/>
                  </a:lnTo>
                  <a:lnTo>
                    <a:pt x="477" y="129"/>
                  </a:lnTo>
                  <a:lnTo>
                    <a:pt x="483" y="133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7488360" y="2482920"/>
              <a:ext cx="11160" cy="41400"/>
            </a:xfrm>
            <a:custGeom>
              <a:avLst/>
              <a:gdLst/>
              <a:ahLst/>
              <a:rect l="l" t="t" r="r" b="b"/>
              <a:pathLst>
                <a:path w="35" h="132">
                  <a:moveTo>
                    <a:pt x="0" y="0"/>
                  </a:moveTo>
                  <a:lnTo>
                    <a:pt x="0" y="2"/>
                  </a:lnTo>
                  <a:lnTo>
                    <a:pt x="3" y="9"/>
                  </a:lnTo>
                  <a:lnTo>
                    <a:pt x="6" y="22"/>
                  </a:lnTo>
                  <a:lnTo>
                    <a:pt x="11" y="38"/>
                  </a:lnTo>
                  <a:lnTo>
                    <a:pt x="16" y="56"/>
                  </a:lnTo>
                  <a:lnTo>
                    <a:pt x="22" y="80"/>
                  </a:lnTo>
                  <a:lnTo>
                    <a:pt x="28" y="104"/>
                  </a:lnTo>
                  <a:lnTo>
                    <a:pt x="35" y="132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7499520" y="2524320"/>
              <a:ext cx="7920" cy="34920"/>
            </a:xfrm>
            <a:custGeom>
              <a:avLst/>
              <a:gdLst/>
              <a:ahLst/>
              <a:rect l="l" t="t" r="r" b="b"/>
              <a:pathLst>
                <a:path w="22" h="109">
                  <a:moveTo>
                    <a:pt x="0" y="0"/>
                  </a:moveTo>
                  <a:lnTo>
                    <a:pt x="3" y="14"/>
                  </a:lnTo>
                  <a:lnTo>
                    <a:pt x="6" y="26"/>
                  </a:lnTo>
                  <a:lnTo>
                    <a:pt x="9" y="40"/>
                  </a:lnTo>
                  <a:lnTo>
                    <a:pt x="12" y="53"/>
                  </a:lnTo>
                  <a:lnTo>
                    <a:pt x="14" y="67"/>
                  </a:lnTo>
                  <a:lnTo>
                    <a:pt x="17" y="80"/>
                  </a:lnTo>
                  <a:lnTo>
                    <a:pt x="19" y="95"/>
                  </a:lnTo>
                  <a:lnTo>
                    <a:pt x="22" y="109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7507440" y="2559240"/>
              <a:ext cx="2880" cy="25200"/>
            </a:xfrm>
            <a:custGeom>
              <a:avLst/>
              <a:gdLst/>
              <a:ahLst/>
              <a:rect l="l" t="t" r="r" b="b"/>
              <a:pathLst>
                <a:path w="11" h="78">
                  <a:moveTo>
                    <a:pt x="0" y="0"/>
                  </a:moveTo>
                  <a:lnTo>
                    <a:pt x="2" y="10"/>
                  </a:lnTo>
                  <a:lnTo>
                    <a:pt x="3" y="21"/>
                  </a:lnTo>
                  <a:lnTo>
                    <a:pt x="5" y="30"/>
                  </a:lnTo>
                  <a:lnTo>
                    <a:pt x="6" y="40"/>
                  </a:lnTo>
                  <a:lnTo>
                    <a:pt x="7" y="50"/>
                  </a:lnTo>
                  <a:lnTo>
                    <a:pt x="8" y="60"/>
                  </a:lnTo>
                  <a:lnTo>
                    <a:pt x="10" y="70"/>
                  </a:lnTo>
                  <a:lnTo>
                    <a:pt x="11" y="78"/>
                  </a:lnTo>
                </a:path>
              </a:pathLst>
            </a:custGeom>
            <a:noFill/>
            <a:ln w="14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7539120" y="2478240"/>
              <a:ext cx="9360" cy="44280"/>
            </a:xfrm>
            <a:custGeom>
              <a:avLst/>
              <a:gdLst/>
              <a:ahLst/>
              <a:rect l="l" t="t" r="r" b="b"/>
              <a:pathLst>
                <a:path w="29" h="140">
                  <a:moveTo>
                    <a:pt x="0" y="0"/>
                  </a:moveTo>
                  <a:lnTo>
                    <a:pt x="1" y="1"/>
                  </a:lnTo>
                  <a:lnTo>
                    <a:pt x="3" y="7"/>
                  </a:lnTo>
                  <a:lnTo>
                    <a:pt x="8" y="17"/>
                  </a:lnTo>
                  <a:lnTo>
                    <a:pt x="13" y="32"/>
                  </a:lnTo>
                  <a:lnTo>
                    <a:pt x="18" y="52"/>
                  </a:lnTo>
                  <a:lnTo>
                    <a:pt x="23" y="76"/>
                  </a:lnTo>
                  <a:lnTo>
                    <a:pt x="27" y="106"/>
                  </a:lnTo>
                  <a:lnTo>
                    <a:pt x="29" y="140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7547040" y="2522520"/>
              <a:ext cx="1440" cy="44640"/>
            </a:xfrm>
            <a:custGeom>
              <a:avLst/>
              <a:gdLst/>
              <a:ahLst/>
              <a:rect l="l" t="t" r="r" b="b"/>
              <a:pathLst>
                <a:path w="5" h="142">
                  <a:moveTo>
                    <a:pt x="5" y="0"/>
                  </a:moveTo>
                  <a:lnTo>
                    <a:pt x="5" y="5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4" y="53"/>
                  </a:lnTo>
                  <a:lnTo>
                    <a:pt x="3" y="68"/>
                  </a:lnTo>
                  <a:lnTo>
                    <a:pt x="3" y="81"/>
                  </a:lnTo>
                  <a:lnTo>
                    <a:pt x="1" y="95"/>
                  </a:lnTo>
                  <a:lnTo>
                    <a:pt x="0" y="107"/>
                  </a:lnTo>
                  <a:lnTo>
                    <a:pt x="0" y="120"/>
                  </a:lnTo>
                  <a:lnTo>
                    <a:pt x="0" y="131"/>
                  </a:lnTo>
                  <a:lnTo>
                    <a:pt x="0" y="142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7547040" y="2567160"/>
              <a:ext cx="1440" cy="3312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0"/>
                  </a:moveTo>
                  <a:lnTo>
                    <a:pt x="0" y="23"/>
                  </a:lnTo>
                  <a:lnTo>
                    <a:pt x="0" y="44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0" y="103"/>
                  </a:lnTo>
                </a:path>
              </a:pathLst>
            </a:custGeom>
            <a:noFill/>
            <a:ln w="14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7359480" y="2249640"/>
              <a:ext cx="49320" cy="176040"/>
            </a:xfrm>
            <a:custGeom>
              <a:avLst/>
              <a:gdLst/>
              <a:ahLst/>
              <a:rect l="l" t="t" r="r" b="b"/>
              <a:pathLst>
                <a:path w="154" h="553">
                  <a:moveTo>
                    <a:pt x="56" y="553"/>
                  </a:moveTo>
                  <a:lnTo>
                    <a:pt x="56" y="549"/>
                  </a:lnTo>
                  <a:lnTo>
                    <a:pt x="56" y="547"/>
                  </a:lnTo>
                  <a:lnTo>
                    <a:pt x="56" y="543"/>
                  </a:lnTo>
                  <a:lnTo>
                    <a:pt x="55" y="541"/>
                  </a:lnTo>
                  <a:lnTo>
                    <a:pt x="55" y="537"/>
                  </a:lnTo>
                  <a:lnTo>
                    <a:pt x="55" y="535"/>
                  </a:lnTo>
                  <a:lnTo>
                    <a:pt x="54" y="531"/>
                  </a:lnTo>
                  <a:lnTo>
                    <a:pt x="54" y="528"/>
                  </a:lnTo>
                  <a:lnTo>
                    <a:pt x="44" y="495"/>
                  </a:lnTo>
                  <a:lnTo>
                    <a:pt x="34" y="458"/>
                  </a:lnTo>
                  <a:lnTo>
                    <a:pt x="24" y="418"/>
                  </a:lnTo>
                  <a:lnTo>
                    <a:pt x="16" y="373"/>
                  </a:lnTo>
                  <a:lnTo>
                    <a:pt x="11" y="350"/>
                  </a:lnTo>
                  <a:lnTo>
                    <a:pt x="7" y="325"/>
                  </a:lnTo>
                  <a:lnTo>
                    <a:pt x="5" y="300"/>
                  </a:lnTo>
                  <a:lnTo>
                    <a:pt x="2" y="273"/>
                  </a:lnTo>
                  <a:lnTo>
                    <a:pt x="1" y="244"/>
                  </a:lnTo>
                  <a:lnTo>
                    <a:pt x="0" y="215"/>
                  </a:lnTo>
                  <a:lnTo>
                    <a:pt x="0" y="185"/>
                  </a:lnTo>
                  <a:lnTo>
                    <a:pt x="2" y="153"/>
                  </a:lnTo>
                  <a:lnTo>
                    <a:pt x="4" y="130"/>
                  </a:lnTo>
                  <a:lnTo>
                    <a:pt x="7" y="109"/>
                  </a:lnTo>
                  <a:lnTo>
                    <a:pt x="12" y="89"/>
                  </a:lnTo>
                  <a:lnTo>
                    <a:pt x="18" y="71"/>
                  </a:lnTo>
                  <a:lnTo>
                    <a:pt x="26" y="55"/>
                  </a:lnTo>
                  <a:lnTo>
                    <a:pt x="34" y="41"/>
                  </a:lnTo>
                  <a:lnTo>
                    <a:pt x="43" y="29"/>
                  </a:lnTo>
                  <a:lnTo>
                    <a:pt x="54" y="18"/>
                  </a:lnTo>
                  <a:lnTo>
                    <a:pt x="64" y="11"/>
                  </a:lnTo>
                  <a:lnTo>
                    <a:pt x="76" y="4"/>
                  </a:lnTo>
                  <a:lnTo>
                    <a:pt x="87" y="1"/>
                  </a:lnTo>
                  <a:lnTo>
                    <a:pt x="101" y="0"/>
                  </a:lnTo>
                  <a:lnTo>
                    <a:pt x="113" y="1"/>
                  </a:lnTo>
                  <a:lnTo>
                    <a:pt x="127" y="3"/>
                  </a:lnTo>
                  <a:lnTo>
                    <a:pt x="140" y="9"/>
                  </a:lnTo>
                  <a:lnTo>
                    <a:pt x="154" y="18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7448400" y="2232000"/>
              <a:ext cx="206640" cy="250920"/>
            </a:xfrm>
            <a:custGeom>
              <a:avLst/>
              <a:gdLst/>
              <a:ahLst/>
              <a:rect l="l" t="t" r="r" b="b"/>
              <a:pathLst>
                <a:path w="649" h="791">
                  <a:moveTo>
                    <a:pt x="35" y="719"/>
                  </a:moveTo>
                  <a:lnTo>
                    <a:pt x="39" y="724"/>
                  </a:lnTo>
                  <a:lnTo>
                    <a:pt x="44" y="729"/>
                  </a:lnTo>
                  <a:lnTo>
                    <a:pt x="48" y="734"/>
                  </a:lnTo>
                  <a:lnTo>
                    <a:pt x="53" y="738"/>
                  </a:lnTo>
                  <a:lnTo>
                    <a:pt x="57" y="741"/>
                  </a:lnTo>
                  <a:lnTo>
                    <a:pt x="61" y="744"/>
                  </a:lnTo>
                  <a:lnTo>
                    <a:pt x="66" y="748"/>
                  </a:lnTo>
                  <a:lnTo>
                    <a:pt x="70" y="749"/>
                  </a:lnTo>
                  <a:lnTo>
                    <a:pt x="88" y="759"/>
                  </a:lnTo>
                  <a:lnTo>
                    <a:pt x="102" y="767"/>
                  </a:lnTo>
                  <a:lnTo>
                    <a:pt x="112" y="775"/>
                  </a:lnTo>
                  <a:lnTo>
                    <a:pt x="118" y="780"/>
                  </a:lnTo>
                  <a:lnTo>
                    <a:pt x="121" y="784"/>
                  </a:lnTo>
                  <a:lnTo>
                    <a:pt x="124" y="788"/>
                  </a:lnTo>
                  <a:lnTo>
                    <a:pt x="125" y="789"/>
                  </a:lnTo>
                  <a:lnTo>
                    <a:pt x="125" y="791"/>
                  </a:lnTo>
                  <a:lnTo>
                    <a:pt x="129" y="789"/>
                  </a:lnTo>
                  <a:lnTo>
                    <a:pt x="141" y="788"/>
                  </a:lnTo>
                  <a:lnTo>
                    <a:pt x="161" y="786"/>
                  </a:lnTo>
                  <a:lnTo>
                    <a:pt x="183" y="783"/>
                  </a:lnTo>
                  <a:lnTo>
                    <a:pt x="209" y="781"/>
                  </a:lnTo>
                  <a:lnTo>
                    <a:pt x="235" y="778"/>
                  </a:lnTo>
                  <a:lnTo>
                    <a:pt x="260" y="777"/>
                  </a:lnTo>
                  <a:lnTo>
                    <a:pt x="283" y="777"/>
                  </a:lnTo>
                  <a:lnTo>
                    <a:pt x="286" y="773"/>
                  </a:lnTo>
                  <a:lnTo>
                    <a:pt x="299" y="764"/>
                  </a:lnTo>
                  <a:lnTo>
                    <a:pt x="317" y="748"/>
                  </a:lnTo>
                  <a:lnTo>
                    <a:pt x="340" y="728"/>
                  </a:lnTo>
                  <a:lnTo>
                    <a:pt x="369" y="704"/>
                  </a:lnTo>
                  <a:lnTo>
                    <a:pt x="401" y="677"/>
                  </a:lnTo>
                  <a:lnTo>
                    <a:pt x="434" y="650"/>
                  </a:lnTo>
                  <a:lnTo>
                    <a:pt x="467" y="622"/>
                  </a:lnTo>
                  <a:lnTo>
                    <a:pt x="474" y="615"/>
                  </a:lnTo>
                  <a:lnTo>
                    <a:pt x="481" y="609"/>
                  </a:lnTo>
                  <a:lnTo>
                    <a:pt x="484" y="601"/>
                  </a:lnTo>
                  <a:lnTo>
                    <a:pt x="488" y="594"/>
                  </a:lnTo>
                  <a:lnTo>
                    <a:pt x="493" y="585"/>
                  </a:lnTo>
                  <a:lnTo>
                    <a:pt x="499" y="577"/>
                  </a:lnTo>
                  <a:lnTo>
                    <a:pt x="508" y="565"/>
                  </a:lnTo>
                  <a:lnTo>
                    <a:pt x="521" y="553"/>
                  </a:lnTo>
                  <a:lnTo>
                    <a:pt x="536" y="543"/>
                  </a:lnTo>
                  <a:lnTo>
                    <a:pt x="547" y="537"/>
                  </a:lnTo>
                  <a:lnTo>
                    <a:pt x="557" y="532"/>
                  </a:lnTo>
                  <a:lnTo>
                    <a:pt x="564" y="530"/>
                  </a:lnTo>
                  <a:lnTo>
                    <a:pt x="569" y="529"/>
                  </a:lnTo>
                  <a:lnTo>
                    <a:pt x="574" y="527"/>
                  </a:lnTo>
                  <a:lnTo>
                    <a:pt x="579" y="525"/>
                  </a:lnTo>
                  <a:lnTo>
                    <a:pt x="584" y="521"/>
                  </a:lnTo>
                  <a:lnTo>
                    <a:pt x="590" y="516"/>
                  </a:lnTo>
                  <a:lnTo>
                    <a:pt x="598" y="511"/>
                  </a:lnTo>
                  <a:lnTo>
                    <a:pt x="602" y="506"/>
                  </a:lnTo>
                  <a:lnTo>
                    <a:pt x="607" y="502"/>
                  </a:lnTo>
                  <a:lnTo>
                    <a:pt x="612" y="498"/>
                  </a:lnTo>
                  <a:lnTo>
                    <a:pt x="616" y="494"/>
                  </a:lnTo>
                  <a:lnTo>
                    <a:pt x="620" y="490"/>
                  </a:lnTo>
                  <a:lnTo>
                    <a:pt x="622" y="488"/>
                  </a:lnTo>
                  <a:lnTo>
                    <a:pt x="649" y="474"/>
                  </a:lnTo>
                  <a:lnTo>
                    <a:pt x="647" y="473"/>
                  </a:lnTo>
                  <a:lnTo>
                    <a:pt x="639" y="466"/>
                  </a:lnTo>
                  <a:lnTo>
                    <a:pt x="629" y="456"/>
                  </a:lnTo>
                  <a:lnTo>
                    <a:pt x="620" y="441"/>
                  </a:lnTo>
                  <a:lnTo>
                    <a:pt x="609" y="425"/>
                  </a:lnTo>
                  <a:lnTo>
                    <a:pt x="599" y="407"/>
                  </a:lnTo>
                  <a:lnTo>
                    <a:pt x="595" y="396"/>
                  </a:lnTo>
                  <a:lnTo>
                    <a:pt x="591" y="386"/>
                  </a:lnTo>
                  <a:lnTo>
                    <a:pt x="590" y="375"/>
                  </a:lnTo>
                  <a:lnTo>
                    <a:pt x="589" y="364"/>
                  </a:lnTo>
                  <a:lnTo>
                    <a:pt x="361" y="355"/>
                  </a:lnTo>
                  <a:lnTo>
                    <a:pt x="345" y="358"/>
                  </a:lnTo>
                  <a:lnTo>
                    <a:pt x="305" y="361"/>
                  </a:lnTo>
                  <a:lnTo>
                    <a:pt x="278" y="364"/>
                  </a:lnTo>
                  <a:lnTo>
                    <a:pt x="247" y="365"/>
                  </a:lnTo>
                  <a:lnTo>
                    <a:pt x="214" y="366"/>
                  </a:lnTo>
                  <a:lnTo>
                    <a:pt x="180" y="365"/>
                  </a:lnTo>
                  <a:lnTo>
                    <a:pt x="146" y="363"/>
                  </a:lnTo>
                  <a:lnTo>
                    <a:pt x="114" y="359"/>
                  </a:lnTo>
                  <a:lnTo>
                    <a:pt x="98" y="356"/>
                  </a:lnTo>
                  <a:lnTo>
                    <a:pt x="83" y="353"/>
                  </a:lnTo>
                  <a:lnTo>
                    <a:pt x="70" y="348"/>
                  </a:lnTo>
                  <a:lnTo>
                    <a:pt x="56" y="343"/>
                  </a:lnTo>
                  <a:lnTo>
                    <a:pt x="44" y="337"/>
                  </a:lnTo>
                  <a:lnTo>
                    <a:pt x="33" y="331"/>
                  </a:lnTo>
                  <a:lnTo>
                    <a:pt x="23" y="323"/>
                  </a:lnTo>
                  <a:lnTo>
                    <a:pt x="16" y="315"/>
                  </a:lnTo>
                  <a:lnTo>
                    <a:pt x="8" y="306"/>
                  </a:lnTo>
                  <a:lnTo>
                    <a:pt x="3" y="295"/>
                  </a:lnTo>
                  <a:lnTo>
                    <a:pt x="1" y="284"/>
                  </a:lnTo>
                  <a:lnTo>
                    <a:pt x="0" y="272"/>
                  </a:lnTo>
                  <a:lnTo>
                    <a:pt x="5" y="270"/>
                  </a:lnTo>
                  <a:lnTo>
                    <a:pt x="19" y="265"/>
                  </a:lnTo>
                  <a:lnTo>
                    <a:pt x="43" y="260"/>
                  </a:lnTo>
                  <a:lnTo>
                    <a:pt x="71" y="253"/>
                  </a:lnTo>
                  <a:lnTo>
                    <a:pt x="105" y="246"/>
                  </a:lnTo>
                  <a:lnTo>
                    <a:pt x="142" y="238"/>
                  </a:lnTo>
                  <a:lnTo>
                    <a:pt x="183" y="231"/>
                  </a:lnTo>
                  <a:lnTo>
                    <a:pt x="222" y="225"/>
                  </a:lnTo>
                  <a:lnTo>
                    <a:pt x="227" y="225"/>
                  </a:lnTo>
                  <a:lnTo>
                    <a:pt x="238" y="224"/>
                  </a:lnTo>
                  <a:lnTo>
                    <a:pt x="257" y="221"/>
                  </a:lnTo>
                  <a:lnTo>
                    <a:pt x="280" y="219"/>
                  </a:lnTo>
                  <a:lnTo>
                    <a:pt x="307" y="216"/>
                  </a:lnTo>
                  <a:lnTo>
                    <a:pt x="335" y="214"/>
                  </a:lnTo>
                  <a:lnTo>
                    <a:pt x="365" y="212"/>
                  </a:lnTo>
                  <a:lnTo>
                    <a:pt x="393" y="211"/>
                  </a:lnTo>
                  <a:lnTo>
                    <a:pt x="420" y="211"/>
                  </a:lnTo>
                  <a:lnTo>
                    <a:pt x="449" y="209"/>
                  </a:lnTo>
                  <a:lnTo>
                    <a:pt x="476" y="208"/>
                  </a:lnTo>
                  <a:lnTo>
                    <a:pt x="502" y="205"/>
                  </a:lnTo>
                  <a:lnTo>
                    <a:pt x="524" y="203"/>
                  </a:lnTo>
                  <a:lnTo>
                    <a:pt x="541" y="200"/>
                  </a:lnTo>
                  <a:lnTo>
                    <a:pt x="552" y="199"/>
                  </a:lnTo>
                  <a:lnTo>
                    <a:pt x="557" y="198"/>
                  </a:lnTo>
                  <a:lnTo>
                    <a:pt x="454" y="119"/>
                  </a:lnTo>
                  <a:lnTo>
                    <a:pt x="442" y="118"/>
                  </a:lnTo>
                  <a:lnTo>
                    <a:pt x="414" y="113"/>
                  </a:lnTo>
                  <a:lnTo>
                    <a:pt x="374" y="103"/>
                  </a:lnTo>
                  <a:lnTo>
                    <a:pt x="326" y="91"/>
                  </a:lnTo>
                  <a:lnTo>
                    <a:pt x="300" y="83"/>
                  </a:lnTo>
                  <a:lnTo>
                    <a:pt x="274" y="75"/>
                  </a:lnTo>
                  <a:lnTo>
                    <a:pt x="249" y="65"/>
                  </a:lnTo>
                  <a:lnTo>
                    <a:pt x="225" y="54"/>
                  </a:lnTo>
                  <a:lnTo>
                    <a:pt x="204" y="42"/>
                  </a:lnTo>
                  <a:lnTo>
                    <a:pt x="184" y="29"/>
                  </a:lnTo>
                  <a:lnTo>
                    <a:pt x="176" y="22"/>
                  </a:lnTo>
                  <a:lnTo>
                    <a:pt x="167" y="14"/>
                  </a:lnTo>
                  <a:lnTo>
                    <a:pt x="161" y="7"/>
                  </a:lnTo>
                  <a:lnTo>
                    <a:pt x="155" y="0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7485120" y="2192400"/>
              <a:ext cx="264960" cy="249120"/>
            </a:xfrm>
            <a:custGeom>
              <a:avLst/>
              <a:gdLst/>
              <a:ahLst/>
              <a:rect l="l" t="t" r="r" b="b"/>
              <a:pathLst>
                <a:path w="833" h="785">
                  <a:moveTo>
                    <a:pt x="4" y="57"/>
                  </a:moveTo>
                  <a:lnTo>
                    <a:pt x="1" y="48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0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2" y="2"/>
                  </a:lnTo>
                  <a:lnTo>
                    <a:pt x="40" y="4"/>
                  </a:lnTo>
                  <a:lnTo>
                    <a:pt x="47" y="7"/>
                  </a:lnTo>
                  <a:lnTo>
                    <a:pt x="56" y="10"/>
                  </a:lnTo>
                  <a:lnTo>
                    <a:pt x="84" y="23"/>
                  </a:lnTo>
                  <a:lnTo>
                    <a:pt x="116" y="36"/>
                  </a:lnTo>
                  <a:lnTo>
                    <a:pt x="150" y="48"/>
                  </a:lnTo>
                  <a:lnTo>
                    <a:pt x="185" y="61"/>
                  </a:lnTo>
                  <a:lnTo>
                    <a:pt x="216" y="71"/>
                  </a:lnTo>
                  <a:lnTo>
                    <a:pt x="241" y="79"/>
                  </a:lnTo>
                  <a:lnTo>
                    <a:pt x="259" y="84"/>
                  </a:lnTo>
                  <a:lnTo>
                    <a:pt x="265" y="87"/>
                  </a:lnTo>
                  <a:lnTo>
                    <a:pt x="270" y="88"/>
                  </a:lnTo>
                  <a:lnTo>
                    <a:pt x="281" y="89"/>
                  </a:lnTo>
                  <a:lnTo>
                    <a:pt x="297" y="91"/>
                  </a:lnTo>
                  <a:lnTo>
                    <a:pt x="316" y="96"/>
                  </a:lnTo>
                  <a:lnTo>
                    <a:pt x="340" y="101"/>
                  </a:lnTo>
                  <a:lnTo>
                    <a:pt x="362" y="107"/>
                  </a:lnTo>
                  <a:lnTo>
                    <a:pt x="384" y="114"/>
                  </a:lnTo>
                  <a:lnTo>
                    <a:pt x="404" y="122"/>
                  </a:lnTo>
                  <a:lnTo>
                    <a:pt x="414" y="127"/>
                  </a:lnTo>
                  <a:lnTo>
                    <a:pt x="426" y="135"/>
                  </a:lnTo>
                  <a:lnTo>
                    <a:pt x="441" y="144"/>
                  </a:lnTo>
                  <a:lnTo>
                    <a:pt x="458" y="155"/>
                  </a:lnTo>
                  <a:lnTo>
                    <a:pt x="495" y="181"/>
                  </a:lnTo>
                  <a:lnTo>
                    <a:pt x="534" y="212"/>
                  </a:lnTo>
                  <a:lnTo>
                    <a:pt x="574" y="243"/>
                  </a:lnTo>
                  <a:lnTo>
                    <a:pt x="610" y="271"/>
                  </a:lnTo>
                  <a:lnTo>
                    <a:pt x="641" y="296"/>
                  </a:lnTo>
                  <a:lnTo>
                    <a:pt x="665" y="312"/>
                  </a:lnTo>
                  <a:lnTo>
                    <a:pt x="673" y="320"/>
                  </a:lnTo>
                  <a:lnTo>
                    <a:pt x="682" y="331"/>
                  </a:lnTo>
                  <a:lnTo>
                    <a:pt x="690" y="346"/>
                  </a:lnTo>
                  <a:lnTo>
                    <a:pt x="698" y="363"/>
                  </a:lnTo>
                  <a:lnTo>
                    <a:pt x="706" y="382"/>
                  </a:lnTo>
                  <a:lnTo>
                    <a:pt x="714" y="401"/>
                  </a:lnTo>
                  <a:lnTo>
                    <a:pt x="721" y="422"/>
                  </a:lnTo>
                  <a:lnTo>
                    <a:pt x="727" y="442"/>
                  </a:lnTo>
                  <a:lnTo>
                    <a:pt x="740" y="483"/>
                  </a:lnTo>
                  <a:lnTo>
                    <a:pt x="748" y="516"/>
                  </a:lnTo>
                  <a:lnTo>
                    <a:pt x="754" y="539"/>
                  </a:lnTo>
                  <a:lnTo>
                    <a:pt x="757" y="548"/>
                  </a:lnTo>
                  <a:lnTo>
                    <a:pt x="758" y="552"/>
                  </a:lnTo>
                  <a:lnTo>
                    <a:pt x="761" y="558"/>
                  </a:lnTo>
                  <a:lnTo>
                    <a:pt x="764" y="569"/>
                  </a:lnTo>
                  <a:lnTo>
                    <a:pt x="769" y="581"/>
                  </a:lnTo>
                  <a:lnTo>
                    <a:pt x="777" y="596"/>
                  </a:lnTo>
                  <a:lnTo>
                    <a:pt x="784" y="611"/>
                  </a:lnTo>
                  <a:lnTo>
                    <a:pt x="794" y="625"/>
                  </a:lnTo>
                  <a:lnTo>
                    <a:pt x="802" y="638"/>
                  </a:lnTo>
                  <a:lnTo>
                    <a:pt x="807" y="645"/>
                  </a:lnTo>
                  <a:lnTo>
                    <a:pt x="811" y="652"/>
                  </a:lnTo>
                  <a:lnTo>
                    <a:pt x="815" y="660"/>
                  </a:lnTo>
                  <a:lnTo>
                    <a:pt x="817" y="668"/>
                  </a:lnTo>
                  <a:lnTo>
                    <a:pt x="821" y="686"/>
                  </a:lnTo>
                  <a:lnTo>
                    <a:pt x="822" y="703"/>
                  </a:lnTo>
                  <a:lnTo>
                    <a:pt x="823" y="719"/>
                  </a:lnTo>
                  <a:lnTo>
                    <a:pt x="823" y="732"/>
                  </a:lnTo>
                  <a:lnTo>
                    <a:pt x="822" y="741"/>
                  </a:lnTo>
                  <a:lnTo>
                    <a:pt x="822" y="743"/>
                  </a:lnTo>
                  <a:lnTo>
                    <a:pt x="822" y="745"/>
                  </a:lnTo>
                  <a:lnTo>
                    <a:pt x="823" y="747"/>
                  </a:lnTo>
                  <a:lnTo>
                    <a:pt x="825" y="751"/>
                  </a:lnTo>
                  <a:lnTo>
                    <a:pt x="826" y="756"/>
                  </a:lnTo>
                  <a:lnTo>
                    <a:pt x="827" y="761"/>
                  </a:lnTo>
                  <a:lnTo>
                    <a:pt x="829" y="768"/>
                  </a:lnTo>
                  <a:lnTo>
                    <a:pt x="831" y="775"/>
                  </a:lnTo>
                  <a:lnTo>
                    <a:pt x="833" y="785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7377120" y="2440080"/>
              <a:ext cx="395280" cy="1693800"/>
            </a:xfrm>
            <a:custGeom>
              <a:avLst/>
              <a:gdLst/>
              <a:ahLst/>
              <a:rect l="l" t="t" r="r" b="b"/>
              <a:pathLst>
                <a:path w="1244" h="5333">
                  <a:moveTo>
                    <a:pt x="17" y="1317"/>
                  </a:moveTo>
                  <a:lnTo>
                    <a:pt x="16" y="1451"/>
                  </a:lnTo>
                  <a:lnTo>
                    <a:pt x="15" y="1590"/>
                  </a:lnTo>
                  <a:lnTo>
                    <a:pt x="15" y="1731"/>
                  </a:lnTo>
                  <a:lnTo>
                    <a:pt x="15" y="1872"/>
                  </a:lnTo>
                  <a:lnTo>
                    <a:pt x="16" y="2006"/>
                  </a:lnTo>
                  <a:lnTo>
                    <a:pt x="17" y="2131"/>
                  </a:lnTo>
                  <a:lnTo>
                    <a:pt x="20" y="2242"/>
                  </a:lnTo>
                  <a:lnTo>
                    <a:pt x="22" y="2337"/>
                  </a:lnTo>
                  <a:lnTo>
                    <a:pt x="27" y="2498"/>
                  </a:lnTo>
                  <a:lnTo>
                    <a:pt x="32" y="2701"/>
                  </a:lnTo>
                  <a:lnTo>
                    <a:pt x="36" y="2932"/>
                  </a:lnTo>
                  <a:lnTo>
                    <a:pt x="36" y="3180"/>
                  </a:lnTo>
                  <a:lnTo>
                    <a:pt x="36" y="3307"/>
                  </a:lnTo>
                  <a:lnTo>
                    <a:pt x="35" y="3434"/>
                  </a:lnTo>
                  <a:lnTo>
                    <a:pt x="33" y="3559"/>
                  </a:lnTo>
                  <a:lnTo>
                    <a:pt x="31" y="3680"/>
                  </a:lnTo>
                  <a:lnTo>
                    <a:pt x="27" y="3797"/>
                  </a:lnTo>
                  <a:lnTo>
                    <a:pt x="22" y="3907"/>
                  </a:lnTo>
                  <a:lnTo>
                    <a:pt x="16" y="4011"/>
                  </a:lnTo>
                  <a:lnTo>
                    <a:pt x="9" y="4104"/>
                  </a:lnTo>
                  <a:lnTo>
                    <a:pt x="6" y="4148"/>
                  </a:lnTo>
                  <a:lnTo>
                    <a:pt x="4" y="4189"/>
                  </a:lnTo>
                  <a:lnTo>
                    <a:pt x="1" y="4229"/>
                  </a:lnTo>
                  <a:lnTo>
                    <a:pt x="1" y="4268"/>
                  </a:lnTo>
                  <a:lnTo>
                    <a:pt x="0" y="4305"/>
                  </a:lnTo>
                  <a:lnTo>
                    <a:pt x="0" y="4339"/>
                  </a:lnTo>
                  <a:lnTo>
                    <a:pt x="1" y="4372"/>
                  </a:lnTo>
                  <a:lnTo>
                    <a:pt x="3" y="4405"/>
                  </a:lnTo>
                  <a:lnTo>
                    <a:pt x="5" y="4436"/>
                  </a:lnTo>
                  <a:lnTo>
                    <a:pt x="8" y="4466"/>
                  </a:lnTo>
                  <a:lnTo>
                    <a:pt x="11" y="4494"/>
                  </a:lnTo>
                  <a:lnTo>
                    <a:pt x="15" y="4521"/>
                  </a:lnTo>
                  <a:lnTo>
                    <a:pt x="24" y="4571"/>
                  </a:lnTo>
                  <a:lnTo>
                    <a:pt x="33" y="4618"/>
                  </a:lnTo>
                  <a:lnTo>
                    <a:pt x="46" y="4661"/>
                  </a:lnTo>
                  <a:lnTo>
                    <a:pt x="58" y="4702"/>
                  </a:lnTo>
                  <a:lnTo>
                    <a:pt x="73" y="4739"/>
                  </a:lnTo>
                  <a:lnTo>
                    <a:pt x="88" y="4774"/>
                  </a:lnTo>
                  <a:lnTo>
                    <a:pt x="120" y="4842"/>
                  </a:lnTo>
                  <a:lnTo>
                    <a:pt x="153" y="4906"/>
                  </a:lnTo>
                  <a:lnTo>
                    <a:pt x="190" y="4971"/>
                  </a:lnTo>
                  <a:lnTo>
                    <a:pt x="227" y="5038"/>
                  </a:lnTo>
                  <a:lnTo>
                    <a:pt x="265" y="5102"/>
                  </a:lnTo>
                  <a:lnTo>
                    <a:pt x="299" y="5159"/>
                  </a:lnTo>
                  <a:lnTo>
                    <a:pt x="330" y="5211"/>
                  </a:lnTo>
                  <a:lnTo>
                    <a:pt x="355" y="5250"/>
                  </a:lnTo>
                  <a:lnTo>
                    <a:pt x="371" y="5276"/>
                  </a:lnTo>
                  <a:lnTo>
                    <a:pt x="377" y="5286"/>
                  </a:lnTo>
                  <a:lnTo>
                    <a:pt x="387" y="5296"/>
                  </a:lnTo>
                  <a:lnTo>
                    <a:pt x="398" y="5305"/>
                  </a:lnTo>
                  <a:lnTo>
                    <a:pt x="409" y="5313"/>
                  </a:lnTo>
                  <a:lnTo>
                    <a:pt x="421" y="5319"/>
                  </a:lnTo>
                  <a:lnTo>
                    <a:pt x="435" y="5324"/>
                  </a:lnTo>
                  <a:lnTo>
                    <a:pt x="447" y="5328"/>
                  </a:lnTo>
                  <a:lnTo>
                    <a:pt x="462" y="5330"/>
                  </a:lnTo>
                  <a:lnTo>
                    <a:pt x="475" y="5332"/>
                  </a:lnTo>
                  <a:lnTo>
                    <a:pt x="490" y="5333"/>
                  </a:lnTo>
                  <a:lnTo>
                    <a:pt x="503" y="5332"/>
                  </a:lnTo>
                  <a:lnTo>
                    <a:pt x="518" y="5330"/>
                  </a:lnTo>
                  <a:lnTo>
                    <a:pt x="534" y="5329"/>
                  </a:lnTo>
                  <a:lnTo>
                    <a:pt x="549" y="5325"/>
                  </a:lnTo>
                  <a:lnTo>
                    <a:pt x="564" y="5323"/>
                  </a:lnTo>
                  <a:lnTo>
                    <a:pt x="578" y="5318"/>
                  </a:lnTo>
                  <a:lnTo>
                    <a:pt x="593" y="5313"/>
                  </a:lnTo>
                  <a:lnTo>
                    <a:pt x="623" y="5302"/>
                  </a:lnTo>
                  <a:lnTo>
                    <a:pt x="651" y="5289"/>
                  </a:lnTo>
                  <a:lnTo>
                    <a:pt x="677" y="5274"/>
                  </a:lnTo>
                  <a:lnTo>
                    <a:pt x="701" y="5258"/>
                  </a:lnTo>
                  <a:lnTo>
                    <a:pt x="724" y="5242"/>
                  </a:lnTo>
                  <a:lnTo>
                    <a:pt x="742" y="5225"/>
                  </a:lnTo>
                  <a:lnTo>
                    <a:pt x="758" y="5209"/>
                  </a:lnTo>
                  <a:lnTo>
                    <a:pt x="770" y="5194"/>
                  </a:lnTo>
                  <a:lnTo>
                    <a:pt x="789" y="5163"/>
                  </a:lnTo>
                  <a:lnTo>
                    <a:pt x="807" y="5130"/>
                  </a:lnTo>
                  <a:lnTo>
                    <a:pt x="827" y="5093"/>
                  </a:lnTo>
                  <a:lnTo>
                    <a:pt x="848" y="5049"/>
                  </a:lnTo>
                  <a:lnTo>
                    <a:pt x="874" y="4998"/>
                  </a:lnTo>
                  <a:lnTo>
                    <a:pt x="904" y="4938"/>
                  </a:lnTo>
                  <a:lnTo>
                    <a:pt x="944" y="4868"/>
                  </a:lnTo>
                  <a:lnTo>
                    <a:pt x="993" y="4787"/>
                  </a:lnTo>
                  <a:lnTo>
                    <a:pt x="1005" y="4763"/>
                  </a:lnTo>
                  <a:lnTo>
                    <a:pt x="1018" y="4739"/>
                  </a:lnTo>
                  <a:lnTo>
                    <a:pt x="1028" y="4714"/>
                  </a:lnTo>
                  <a:lnTo>
                    <a:pt x="1037" y="4687"/>
                  </a:lnTo>
                  <a:lnTo>
                    <a:pt x="1045" y="4659"/>
                  </a:lnTo>
                  <a:lnTo>
                    <a:pt x="1052" y="4630"/>
                  </a:lnTo>
                  <a:lnTo>
                    <a:pt x="1057" y="4601"/>
                  </a:lnTo>
                  <a:lnTo>
                    <a:pt x="1062" y="4570"/>
                  </a:lnTo>
                  <a:lnTo>
                    <a:pt x="1066" y="4538"/>
                  </a:lnTo>
                  <a:lnTo>
                    <a:pt x="1068" y="4507"/>
                  </a:lnTo>
                  <a:lnTo>
                    <a:pt x="1069" y="4474"/>
                  </a:lnTo>
                  <a:lnTo>
                    <a:pt x="1069" y="4441"/>
                  </a:lnTo>
                  <a:lnTo>
                    <a:pt x="1069" y="4408"/>
                  </a:lnTo>
                  <a:lnTo>
                    <a:pt x="1068" y="4375"/>
                  </a:lnTo>
                  <a:lnTo>
                    <a:pt x="1066" y="4340"/>
                  </a:lnTo>
                  <a:lnTo>
                    <a:pt x="1063" y="4307"/>
                  </a:lnTo>
                  <a:lnTo>
                    <a:pt x="1059" y="4273"/>
                  </a:lnTo>
                  <a:lnTo>
                    <a:pt x="1056" y="4238"/>
                  </a:lnTo>
                  <a:lnTo>
                    <a:pt x="1051" y="4205"/>
                  </a:lnTo>
                  <a:lnTo>
                    <a:pt x="1046" y="4170"/>
                  </a:lnTo>
                  <a:lnTo>
                    <a:pt x="1034" y="4104"/>
                  </a:lnTo>
                  <a:lnTo>
                    <a:pt x="1020" y="4040"/>
                  </a:lnTo>
                  <a:lnTo>
                    <a:pt x="1005" y="3979"/>
                  </a:lnTo>
                  <a:lnTo>
                    <a:pt x="989" y="3921"/>
                  </a:lnTo>
                  <a:lnTo>
                    <a:pt x="972" y="3865"/>
                  </a:lnTo>
                  <a:lnTo>
                    <a:pt x="955" y="3816"/>
                  </a:lnTo>
                  <a:lnTo>
                    <a:pt x="938" y="3765"/>
                  </a:lnTo>
                  <a:lnTo>
                    <a:pt x="919" y="3704"/>
                  </a:lnTo>
                  <a:lnTo>
                    <a:pt x="901" y="3638"/>
                  </a:lnTo>
                  <a:lnTo>
                    <a:pt x="882" y="3564"/>
                  </a:lnTo>
                  <a:lnTo>
                    <a:pt x="864" y="3485"/>
                  </a:lnTo>
                  <a:lnTo>
                    <a:pt x="844" y="3403"/>
                  </a:lnTo>
                  <a:lnTo>
                    <a:pt x="826" y="3318"/>
                  </a:lnTo>
                  <a:lnTo>
                    <a:pt x="807" y="3232"/>
                  </a:lnTo>
                  <a:lnTo>
                    <a:pt x="772" y="3061"/>
                  </a:lnTo>
                  <a:lnTo>
                    <a:pt x="737" y="2897"/>
                  </a:lnTo>
                  <a:lnTo>
                    <a:pt x="708" y="2753"/>
                  </a:lnTo>
                  <a:lnTo>
                    <a:pt x="681" y="2638"/>
                  </a:lnTo>
                  <a:lnTo>
                    <a:pt x="667" y="2583"/>
                  </a:lnTo>
                  <a:lnTo>
                    <a:pt x="654" y="2516"/>
                  </a:lnTo>
                  <a:lnTo>
                    <a:pt x="639" y="2441"/>
                  </a:lnTo>
                  <a:lnTo>
                    <a:pt x="625" y="2357"/>
                  </a:lnTo>
                  <a:lnTo>
                    <a:pt x="610" y="2268"/>
                  </a:lnTo>
                  <a:lnTo>
                    <a:pt x="596" y="2174"/>
                  </a:lnTo>
                  <a:lnTo>
                    <a:pt x="582" y="2079"/>
                  </a:lnTo>
                  <a:lnTo>
                    <a:pt x="569" y="1984"/>
                  </a:lnTo>
                  <a:lnTo>
                    <a:pt x="544" y="1797"/>
                  </a:lnTo>
                  <a:lnTo>
                    <a:pt x="523" y="1630"/>
                  </a:lnTo>
                  <a:lnTo>
                    <a:pt x="514" y="1559"/>
                  </a:lnTo>
                  <a:lnTo>
                    <a:pt x="508" y="1498"/>
                  </a:lnTo>
                  <a:lnTo>
                    <a:pt x="503" y="1448"/>
                  </a:lnTo>
                  <a:lnTo>
                    <a:pt x="501" y="1413"/>
                  </a:lnTo>
                  <a:lnTo>
                    <a:pt x="501" y="1381"/>
                  </a:lnTo>
                  <a:lnTo>
                    <a:pt x="503" y="1339"/>
                  </a:lnTo>
                  <a:lnTo>
                    <a:pt x="505" y="1316"/>
                  </a:lnTo>
                  <a:lnTo>
                    <a:pt x="507" y="1291"/>
                  </a:lnTo>
                  <a:lnTo>
                    <a:pt x="511" y="1265"/>
                  </a:lnTo>
                  <a:lnTo>
                    <a:pt x="514" y="1241"/>
                  </a:lnTo>
                  <a:lnTo>
                    <a:pt x="519" y="1215"/>
                  </a:lnTo>
                  <a:lnTo>
                    <a:pt x="526" y="1190"/>
                  </a:lnTo>
                  <a:lnTo>
                    <a:pt x="532" y="1167"/>
                  </a:lnTo>
                  <a:lnTo>
                    <a:pt x="539" y="1145"/>
                  </a:lnTo>
                  <a:lnTo>
                    <a:pt x="548" y="1125"/>
                  </a:lnTo>
                  <a:lnTo>
                    <a:pt x="558" y="1109"/>
                  </a:lnTo>
                  <a:lnTo>
                    <a:pt x="562" y="1102"/>
                  </a:lnTo>
                  <a:lnTo>
                    <a:pt x="569" y="1094"/>
                  </a:lnTo>
                  <a:lnTo>
                    <a:pt x="574" y="1088"/>
                  </a:lnTo>
                  <a:lnTo>
                    <a:pt x="580" y="1084"/>
                  </a:lnTo>
                  <a:lnTo>
                    <a:pt x="610" y="1060"/>
                  </a:lnTo>
                  <a:lnTo>
                    <a:pt x="652" y="1025"/>
                  </a:lnTo>
                  <a:lnTo>
                    <a:pt x="701" y="984"/>
                  </a:lnTo>
                  <a:lnTo>
                    <a:pt x="754" y="936"/>
                  </a:lnTo>
                  <a:lnTo>
                    <a:pt x="809" y="886"/>
                  </a:lnTo>
                  <a:lnTo>
                    <a:pt x="859" y="837"/>
                  </a:lnTo>
                  <a:lnTo>
                    <a:pt x="881" y="813"/>
                  </a:lnTo>
                  <a:lnTo>
                    <a:pt x="902" y="790"/>
                  </a:lnTo>
                  <a:lnTo>
                    <a:pt x="920" y="769"/>
                  </a:lnTo>
                  <a:lnTo>
                    <a:pt x="935" y="750"/>
                  </a:lnTo>
                  <a:lnTo>
                    <a:pt x="962" y="713"/>
                  </a:lnTo>
                  <a:lnTo>
                    <a:pt x="991" y="674"/>
                  </a:lnTo>
                  <a:lnTo>
                    <a:pt x="1018" y="635"/>
                  </a:lnTo>
                  <a:lnTo>
                    <a:pt x="1046" y="596"/>
                  </a:lnTo>
                  <a:lnTo>
                    <a:pt x="1074" y="557"/>
                  </a:lnTo>
                  <a:lnTo>
                    <a:pt x="1103" y="520"/>
                  </a:lnTo>
                  <a:lnTo>
                    <a:pt x="1131" y="483"/>
                  </a:lnTo>
                  <a:lnTo>
                    <a:pt x="1159" y="448"/>
                  </a:lnTo>
                  <a:lnTo>
                    <a:pt x="1170" y="432"/>
                  </a:lnTo>
                  <a:lnTo>
                    <a:pt x="1180" y="416"/>
                  </a:lnTo>
                  <a:lnTo>
                    <a:pt x="1190" y="402"/>
                  </a:lnTo>
                  <a:lnTo>
                    <a:pt x="1197" y="387"/>
                  </a:lnTo>
                  <a:lnTo>
                    <a:pt x="1205" y="373"/>
                  </a:lnTo>
                  <a:lnTo>
                    <a:pt x="1210" y="360"/>
                  </a:lnTo>
                  <a:lnTo>
                    <a:pt x="1215" y="346"/>
                  </a:lnTo>
                  <a:lnTo>
                    <a:pt x="1218" y="334"/>
                  </a:lnTo>
                  <a:lnTo>
                    <a:pt x="1221" y="330"/>
                  </a:lnTo>
                  <a:lnTo>
                    <a:pt x="1227" y="319"/>
                  </a:lnTo>
                  <a:lnTo>
                    <a:pt x="1231" y="312"/>
                  </a:lnTo>
                  <a:lnTo>
                    <a:pt x="1234" y="303"/>
                  </a:lnTo>
                  <a:lnTo>
                    <a:pt x="1238" y="293"/>
                  </a:lnTo>
                  <a:lnTo>
                    <a:pt x="1240" y="282"/>
                  </a:lnTo>
                  <a:lnTo>
                    <a:pt x="1243" y="270"/>
                  </a:lnTo>
                  <a:lnTo>
                    <a:pt x="1244" y="258"/>
                  </a:lnTo>
                  <a:lnTo>
                    <a:pt x="1243" y="246"/>
                  </a:lnTo>
                  <a:lnTo>
                    <a:pt x="1242" y="232"/>
                  </a:lnTo>
                  <a:lnTo>
                    <a:pt x="1237" y="218"/>
                  </a:lnTo>
                  <a:lnTo>
                    <a:pt x="1231" y="205"/>
                  </a:lnTo>
                  <a:lnTo>
                    <a:pt x="1222" y="193"/>
                  </a:lnTo>
                  <a:lnTo>
                    <a:pt x="1210" y="179"/>
                  </a:lnTo>
                  <a:lnTo>
                    <a:pt x="1212" y="175"/>
                  </a:lnTo>
                  <a:lnTo>
                    <a:pt x="1217" y="164"/>
                  </a:lnTo>
                  <a:lnTo>
                    <a:pt x="1222" y="147"/>
                  </a:lnTo>
                  <a:lnTo>
                    <a:pt x="1226" y="126"/>
                  </a:lnTo>
                  <a:lnTo>
                    <a:pt x="1227" y="114"/>
                  </a:lnTo>
                  <a:lnTo>
                    <a:pt x="1227" y="102"/>
                  </a:lnTo>
                  <a:lnTo>
                    <a:pt x="1226" y="89"/>
                  </a:lnTo>
                  <a:lnTo>
                    <a:pt x="1223" y="76"/>
                  </a:lnTo>
                  <a:lnTo>
                    <a:pt x="1218" y="63"/>
                  </a:lnTo>
                  <a:lnTo>
                    <a:pt x="1212" y="50"/>
                  </a:lnTo>
                  <a:lnTo>
                    <a:pt x="1202" y="36"/>
                  </a:lnTo>
                  <a:lnTo>
                    <a:pt x="1191" y="24"/>
                  </a:lnTo>
                  <a:lnTo>
                    <a:pt x="1167" y="0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7626240" y="2293920"/>
              <a:ext cx="101880" cy="82800"/>
            </a:xfrm>
            <a:custGeom>
              <a:avLst/>
              <a:gdLst/>
              <a:ahLst/>
              <a:rect l="l" t="t" r="r" b="b"/>
              <a:pathLst>
                <a:path w="323" h="258">
                  <a:moveTo>
                    <a:pt x="0" y="0"/>
                  </a:moveTo>
                  <a:lnTo>
                    <a:pt x="5" y="0"/>
                  </a:lnTo>
                  <a:lnTo>
                    <a:pt x="21" y="1"/>
                  </a:lnTo>
                  <a:lnTo>
                    <a:pt x="43" y="3"/>
                  </a:lnTo>
                  <a:lnTo>
                    <a:pt x="69" y="5"/>
                  </a:lnTo>
                  <a:lnTo>
                    <a:pt x="96" y="7"/>
                  </a:lnTo>
                  <a:lnTo>
                    <a:pt x="122" y="10"/>
                  </a:lnTo>
                  <a:lnTo>
                    <a:pt x="144" y="11"/>
                  </a:lnTo>
                  <a:lnTo>
                    <a:pt x="160" y="13"/>
                  </a:lnTo>
                  <a:lnTo>
                    <a:pt x="170" y="17"/>
                  </a:lnTo>
                  <a:lnTo>
                    <a:pt x="180" y="19"/>
                  </a:lnTo>
                  <a:lnTo>
                    <a:pt x="187" y="23"/>
                  </a:lnTo>
                  <a:lnTo>
                    <a:pt x="194" y="27"/>
                  </a:lnTo>
                  <a:lnTo>
                    <a:pt x="200" y="32"/>
                  </a:lnTo>
                  <a:lnTo>
                    <a:pt x="208" y="39"/>
                  </a:lnTo>
                  <a:lnTo>
                    <a:pt x="215" y="46"/>
                  </a:lnTo>
                  <a:lnTo>
                    <a:pt x="223" y="58"/>
                  </a:lnTo>
                  <a:lnTo>
                    <a:pt x="232" y="72"/>
                  </a:lnTo>
                  <a:lnTo>
                    <a:pt x="245" y="96"/>
                  </a:lnTo>
                  <a:lnTo>
                    <a:pt x="258" y="124"/>
                  </a:lnTo>
                  <a:lnTo>
                    <a:pt x="273" y="155"/>
                  </a:lnTo>
                  <a:lnTo>
                    <a:pt x="288" y="185"/>
                  </a:lnTo>
                  <a:lnTo>
                    <a:pt x="301" y="215"/>
                  </a:lnTo>
                  <a:lnTo>
                    <a:pt x="314" y="240"/>
                  </a:lnTo>
                  <a:lnTo>
                    <a:pt x="323" y="258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7696080" y="2557440"/>
              <a:ext cx="38160" cy="2556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14" y="5"/>
                  </a:moveTo>
                  <a:lnTo>
                    <a:pt x="15" y="8"/>
                  </a:lnTo>
                  <a:lnTo>
                    <a:pt x="21" y="15"/>
                  </a:lnTo>
                  <a:lnTo>
                    <a:pt x="28" y="24"/>
                  </a:lnTo>
                  <a:lnTo>
                    <a:pt x="40" y="35"/>
                  </a:lnTo>
                  <a:lnTo>
                    <a:pt x="51" y="46"/>
                  </a:lnTo>
                  <a:lnTo>
                    <a:pt x="64" y="56"/>
                  </a:lnTo>
                  <a:lnTo>
                    <a:pt x="70" y="60"/>
                  </a:lnTo>
                  <a:lnTo>
                    <a:pt x="76" y="64"/>
                  </a:lnTo>
                  <a:lnTo>
                    <a:pt x="83" y="67"/>
                  </a:lnTo>
                  <a:lnTo>
                    <a:pt x="90" y="68"/>
                  </a:lnTo>
                  <a:lnTo>
                    <a:pt x="100" y="70"/>
                  </a:lnTo>
                  <a:lnTo>
                    <a:pt x="108" y="73"/>
                  </a:lnTo>
                  <a:lnTo>
                    <a:pt x="115" y="74"/>
                  </a:lnTo>
                  <a:lnTo>
                    <a:pt x="119" y="75"/>
                  </a:lnTo>
                  <a:lnTo>
                    <a:pt x="122" y="75"/>
                  </a:lnTo>
                  <a:lnTo>
                    <a:pt x="123" y="7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2" y="76"/>
                  </a:lnTo>
                  <a:lnTo>
                    <a:pt x="115" y="76"/>
                  </a:lnTo>
                  <a:lnTo>
                    <a:pt x="103" y="74"/>
                  </a:lnTo>
                  <a:lnTo>
                    <a:pt x="90" y="72"/>
                  </a:lnTo>
                  <a:lnTo>
                    <a:pt x="73" y="67"/>
                  </a:lnTo>
                  <a:lnTo>
                    <a:pt x="53" y="58"/>
                  </a:lnTo>
                  <a:lnTo>
                    <a:pt x="43" y="52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9" y="24"/>
                  </a:lnTo>
                  <a:lnTo>
                    <a:pt x="5" y="17"/>
                  </a:lnTo>
                  <a:lnTo>
                    <a:pt x="3" y="11"/>
                  </a:lnTo>
                  <a:lnTo>
                    <a:pt x="0" y="5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423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7459560" y="2168640"/>
              <a:ext cx="12960" cy="324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18" y="13"/>
                  </a:moveTo>
                  <a:lnTo>
                    <a:pt x="23" y="13"/>
                  </a:lnTo>
                  <a:lnTo>
                    <a:pt x="27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4" y="5"/>
                  </a:lnTo>
                  <a:lnTo>
                    <a:pt x="31" y="4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7458120" y="2173320"/>
              <a:ext cx="7920" cy="30240"/>
            </a:xfrm>
            <a:custGeom>
              <a:avLst/>
              <a:gdLst/>
              <a:ahLst/>
              <a:rect l="l" t="t" r="r" b="b"/>
              <a:pathLst>
                <a:path w="27" h="92">
                  <a:moveTo>
                    <a:pt x="17" y="0"/>
                  </a:moveTo>
                  <a:lnTo>
                    <a:pt x="0" y="87"/>
                  </a:lnTo>
                  <a:lnTo>
                    <a:pt x="6" y="92"/>
                  </a:lnTo>
                  <a:lnTo>
                    <a:pt x="14" y="89"/>
                  </a:lnTo>
                  <a:lnTo>
                    <a:pt x="2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65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7497720" y="1994040"/>
              <a:ext cx="9720" cy="2052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18" y="62"/>
                  </a:moveTo>
                  <a:lnTo>
                    <a:pt x="14" y="63"/>
                  </a:lnTo>
                  <a:lnTo>
                    <a:pt x="9" y="62"/>
                  </a:lnTo>
                  <a:lnTo>
                    <a:pt x="7" y="58"/>
                  </a:lnTo>
                  <a:lnTo>
                    <a:pt x="5" y="53"/>
                  </a:lnTo>
                  <a:lnTo>
                    <a:pt x="2" y="47"/>
                  </a:lnTo>
                  <a:lnTo>
                    <a:pt x="1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10"/>
                  </a:lnTo>
                  <a:lnTo>
                    <a:pt x="3" y="6"/>
                  </a:lnTo>
                  <a:lnTo>
                    <a:pt x="5" y="4"/>
                  </a:lnTo>
                  <a:lnTo>
                    <a:pt x="6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7" y="6"/>
                  </a:lnTo>
                  <a:lnTo>
                    <a:pt x="19" y="11"/>
                  </a:lnTo>
                  <a:lnTo>
                    <a:pt x="22" y="16"/>
                  </a:lnTo>
                  <a:lnTo>
                    <a:pt x="23" y="22"/>
                  </a:lnTo>
                  <a:lnTo>
                    <a:pt x="25" y="28"/>
                  </a:lnTo>
                  <a:lnTo>
                    <a:pt x="27" y="36"/>
                  </a:lnTo>
                  <a:lnTo>
                    <a:pt x="27" y="43"/>
                  </a:lnTo>
                  <a:lnTo>
                    <a:pt x="27" y="51"/>
                  </a:lnTo>
                  <a:lnTo>
                    <a:pt x="25" y="55"/>
                  </a:lnTo>
                  <a:lnTo>
                    <a:pt x="24" y="58"/>
                  </a:lnTo>
                  <a:lnTo>
                    <a:pt x="23" y="60"/>
                  </a:lnTo>
                  <a:lnTo>
                    <a:pt x="21" y="62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e2b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7499520" y="1997280"/>
              <a:ext cx="6120" cy="1404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3" y="45"/>
                  </a:moveTo>
                  <a:lnTo>
                    <a:pt x="11" y="45"/>
                  </a:lnTo>
                  <a:lnTo>
                    <a:pt x="8" y="44"/>
                  </a:lnTo>
                  <a:lnTo>
                    <a:pt x="6" y="41"/>
                  </a:lnTo>
                  <a:lnTo>
                    <a:pt x="3" y="37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5"/>
                  </a:lnTo>
                  <a:lnTo>
                    <a:pt x="14" y="8"/>
                  </a:lnTo>
                  <a:lnTo>
                    <a:pt x="17" y="12"/>
                  </a:lnTo>
                  <a:lnTo>
                    <a:pt x="17" y="16"/>
                  </a:lnTo>
                  <a:lnTo>
                    <a:pt x="18" y="21"/>
                  </a:lnTo>
                  <a:lnTo>
                    <a:pt x="19" y="26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8" y="40"/>
                  </a:lnTo>
                  <a:lnTo>
                    <a:pt x="16" y="42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f0d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7500960" y="1998720"/>
              <a:ext cx="4680" cy="792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7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1" y="17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3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7462800" y="1971720"/>
              <a:ext cx="36720" cy="198360"/>
            </a:xfrm>
            <a:custGeom>
              <a:avLst/>
              <a:gdLst/>
              <a:ahLst/>
              <a:rect l="l" t="t" r="r" b="b"/>
              <a:pathLst>
                <a:path w="114" h="627">
                  <a:moveTo>
                    <a:pt x="0" y="625"/>
                  </a:moveTo>
                  <a:lnTo>
                    <a:pt x="109" y="0"/>
                  </a:lnTo>
                  <a:lnTo>
                    <a:pt x="114" y="33"/>
                  </a:lnTo>
                  <a:lnTo>
                    <a:pt x="14" y="627"/>
                  </a:lnTo>
                  <a:lnTo>
                    <a:pt x="0" y="625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7396200" y="2276640"/>
              <a:ext cx="41400" cy="117360"/>
            </a:xfrm>
            <a:custGeom>
              <a:avLst/>
              <a:gdLst/>
              <a:ahLst/>
              <a:rect l="l" t="t" r="r" b="b"/>
              <a:pathLst>
                <a:path w="131" h="372">
                  <a:moveTo>
                    <a:pt x="62" y="0"/>
                  </a:moveTo>
                  <a:lnTo>
                    <a:pt x="65" y="3"/>
                  </a:lnTo>
                  <a:lnTo>
                    <a:pt x="71" y="11"/>
                  </a:lnTo>
                  <a:lnTo>
                    <a:pt x="79" y="24"/>
                  </a:lnTo>
                  <a:lnTo>
                    <a:pt x="89" y="42"/>
                  </a:lnTo>
                  <a:lnTo>
                    <a:pt x="100" y="63"/>
                  </a:lnTo>
                  <a:lnTo>
                    <a:pt x="110" y="89"/>
                  </a:lnTo>
                  <a:lnTo>
                    <a:pt x="115" y="102"/>
                  </a:lnTo>
                  <a:lnTo>
                    <a:pt x="119" y="116"/>
                  </a:lnTo>
                  <a:lnTo>
                    <a:pt x="123" y="131"/>
                  </a:lnTo>
                  <a:lnTo>
                    <a:pt x="125" y="147"/>
                  </a:lnTo>
                  <a:lnTo>
                    <a:pt x="127" y="178"/>
                  </a:lnTo>
                  <a:lnTo>
                    <a:pt x="130" y="210"/>
                  </a:lnTo>
                  <a:lnTo>
                    <a:pt x="131" y="242"/>
                  </a:lnTo>
                  <a:lnTo>
                    <a:pt x="131" y="272"/>
                  </a:lnTo>
                  <a:lnTo>
                    <a:pt x="131" y="299"/>
                  </a:lnTo>
                  <a:lnTo>
                    <a:pt x="130" y="322"/>
                  </a:lnTo>
                  <a:lnTo>
                    <a:pt x="127" y="342"/>
                  </a:lnTo>
                  <a:lnTo>
                    <a:pt x="125" y="356"/>
                  </a:lnTo>
                  <a:lnTo>
                    <a:pt x="123" y="372"/>
                  </a:lnTo>
                  <a:lnTo>
                    <a:pt x="119" y="372"/>
                  </a:lnTo>
                  <a:lnTo>
                    <a:pt x="111" y="369"/>
                  </a:lnTo>
                  <a:lnTo>
                    <a:pt x="98" y="368"/>
                  </a:lnTo>
                  <a:lnTo>
                    <a:pt x="82" y="365"/>
                  </a:lnTo>
                  <a:lnTo>
                    <a:pt x="63" y="363"/>
                  </a:lnTo>
                  <a:lnTo>
                    <a:pt x="43" y="363"/>
                  </a:lnTo>
                  <a:lnTo>
                    <a:pt x="22" y="364"/>
                  </a:lnTo>
                  <a:lnTo>
                    <a:pt x="0" y="367"/>
                  </a:lnTo>
                  <a:lnTo>
                    <a:pt x="57" y="14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b9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6664320" y="3502080"/>
              <a:ext cx="63360" cy="1511280"/>
            </a:xfrm>
            <a:custGeom>
              <a:avLst/>
              <a:gdLst/>
              <a:ahLst/>
              <a:rect l="l" t="t" r="r" b="b"/>
              <a:pathLst>
                <a:path w="204" h="4761">
                  <a:moveTo>
                    <a:pt x="0" y="0"/>
                  </a:moveTo>
                  <a:lnTo>
                    <a:pt x="6" y="24"/>
                  </a:lnTo>
                  <a:lnTo>
                    <a:pt x="19" y="90"/>
                  </a:lnTo>
                  <a:lnTo>
                    <a:pt x="40" y="186"/>
                  </a:lnTo>
                  <a:lnTo>
                    <a:pt x="65" y="301"/>
                  </a:lnTo>
                  <a:lnTo>
                    <a:pt x="91" y="428"/>
                  </a:lnTo>
                  <a:lnTo>
                    <a:pt x="117" y="553"/>
                  </a:lnTo>
                  <a:lnTo>
                    <a:pt x="140" y="668"/>
                  </a:lnTo>
                  <a:lnTo>
                    <a:pt x="158" y="760"/>
                  </a:lnTo>
                  <a:lnTo>
                    <a:pt x="165" y="802"/>
                  </a:lnTo>
                  <a:lnTo>
                    <a:pt x="172" y="847"/>
                  </a:lnTo>
                  <a:lnTo>
                    <a:pt x="178" y="895"/>
                  </a:lnTo>
                  <a:lnTo>
                    <a:pt x="183" y="946"/>
                  </a:lnTo>
                  <a:lnTo>
                    <a:pt x="188" y="997"/>
                  </a:lnTo>
                  <a:lnTo>
                    <a:pt x="192" y="1052"/>
                  </a:lnTo>
                  <a:lnTo>
                    <a:pt x="195" y="1106"/>
                  </a:lnTo>
                  <a:lnTo>
                    <a:pt x="199" y="1160"/>
                  </a:lnTo>
                  <a:lnTo>
                    <a:pt x="203" y="1269"/>
                  </a:lnTo>
                  <a:lnTo>
                    <a:pt x="204" y="1373"/>
                  </a:lnTo>
                  <a:lnTo>
                    <a:pt x="204" y="1421"/>
                  </a:lnTo>
                  <a:lnTo>
                    <a:pt x="203" y="1467"/>
                  </a:lnTo>
                  <a:lnTo>
                    <a:pt x="200" y="1509"/>
                  </a:lnTo>
                  <a:lnTo>
                    <a:pt x="199" y="1548"/>
                  </a:lnTo>
                  <a:lnTo>
                    <a:pt x="192" y="1647"/>
                  </a:lnTo>
                  <a:lnTo>
                    <a:pt x="183" y="1787"/>
                  </a:lnTo>
                  <a:lnTo>
                    <a:pt x="172" y="1959"/>
                  </a:lnTo>
                  <a:lnTo>
                    <a:pt x="161" y="2149"/>
                  </a:lnTo>
                  <a:lnTo>
                    <a:pt x="150" y="2347"/>
                  </a:lnTo>
                  <a:lnTo>
                    <a:pt x="141" y="2539"/>
                  </a:lnTo>
                  <a:lnTo>
                    <a:pt x="139" y="2628"/>
                  </a:lnTo>
                  <a:lnTo>
                    <a:pt x="135" y="2713"/>
                  </a:lnTo>
                  <a:lnTo>
                    <a:pt x="134" y="2791"/>
                  </a:lnTo>
                  <a:lnTo>
                    <a:pt x="134" y="2860"/>
                  </a:lnTo>
                  <a:lnTo>
                    <a:pt x="134" y="2989"/>
                  </a:lnTo>
                  <a:lnTo>
                    <a:pt x="133" y="3118"/>
                  </a:lnTo>
                  <a:lnTo>
                    <a:pt x="131" y="3245"/>
                  </a:lnTo>
                  <a:lnTo>
                    <a:pt x="130" y="3368"/>
                  </a:lnTo>
                  <a:lnTo>
                    <a:pt x="126" y="3483"/>
                  </a:lnTo>
                  <a:lnTo>
                    <a:pt x="122" y="3589"/>
                  </a:lnTo>
                  <a:lnTo>
                    <a:pt x="119" y="3638"/>
                  </a:lnTo>
                  <a:lnTo>
                    <a:pt x="115" y="3684"/>
                  </a:lnTo>
                  <a:lnTo>
                    <a:pt x="110" y="3726"/>
                  </a:lnTo>
                  <a:lnTo>
                    <a:pt x="107" y="3765"/>
                  </a:lnTo>
                  <a:lnTo>
                    <a:pt x="101" y="3807"/>
                  </a:lnTo>
                  <a:lnTo>
                    <a:pt x="96" y="3857"/>
                  </a:lnTo>
                  <a:lnTo>
                    <a:pt x="91" y="3916"/>
                  </a:lnTo>
                  <a:lnTo>
                    <a:pt x="85" y="3980"/>
                  </a:lnTo>
                  <a:lnTo>
                    <a:pt x="75" y="4123"/>
                  </a:lnTo>
                  <a:lnTo>
                    <a:pt x="65" y="4274"/>
                  </a:lnTo>
                  <a:lnTo>
                    <a:pt x="58" y="4424"/>
                  </a:lnTo>
                  <a:lnTo>
                    <a:pt x="53" y="4562"/>
                  </a:lnTo>
                  <a:lnTo>
                    <a:pt x="51" y="4623"/>
                  </a:lnTo>
                  <a:lnTo>
                    <a:pt x="51" y="4679"/>
                  </a:lnTo>
                  <a:lnTo>
                    <a:pt x="53" y="4724"/>
                  </a:lnTo>
                  <a:lnTo>
                    <a:pt x="55" y="4761"/>
                  </a:lnTo>
                </a:path>
              </a:pathLst>
            </a:custGeom>
            <a:noFill/>
            <a:ln w="4680">
              <a:solidFill>
                <a:srgbClr val="6967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6218280" y="1795680"/>
              <a:ext cx="787320" cy="985680"/>
            </a:xfrm>
            <a:custGeom>
              <a:avLst/>
              <a:gdLst/>
              <a:ahLst/>
              <a:rect l="l" t="t" r="r" b="b"/>
              <a:pathLst>
                <a:path w="2480" h="3104">
                  <a:moveTo>
                    <a:pt x="1994" y="76"/>
                  </a:moveTo>
                  <a:lnTo>
                    <a:pt x="2008" y="84"/>
                  </a:lnTo>
                  <a:lnTo>
                    <a:pt x="2045" y="110"/>
                  </a:lnTo>
                  <a:lnTo>
                    <a:pt x="2069" y="128"/>
                  </a:lnTo>
                  <a:lnTo>
                    <a:pt x="2098" y="151"/>
                  </a:lnTo>
                  <a:lnTo>
                    <a:pt x="2128" y="175"/>
                  </a:lnTo>
                  <a:lnTo>
                    <a:pt x="2162" y="203"/>
                  </a:lnTo>
                  <a:lnTo>
                    <a:pt x="2195" y="235"/>
                  </a:lnTo>
                  <a:lnTo>
                    <a:pt x="2228" y="270"/>
                  </a:lnTo>
                  <a:lnTo>
                    <a:pt x="2245" y="288"/>
                  </a:lnTo>
                  <a:lnTo>
                    <a:pt x="2261" y="307"/>
                  </a:lnTo>
                  <a:lnTo>
                    <a:pt x="2277" y="325"/>
                  </a:lnTo>
                  <a:lnTo>
                    <a:pt x="2293" y="345"/>
                  </a:lnTo>
                  <a:lnTo>
                    <a:pt x="2308" y="366"/>
                  </a:lnTo>
                  <a:lnTo>
                    <a:pt x="2323" y="387"/>
                  </a:lnTo>
                  <a:lnTo>
                    <a:pt x="2335" y="408"/>
                  </a:lnTo>
                  <a:lnTo>
                    <a:pt x="2349" y="430"/>
                  </a:lnTo>
                  <a:lnTo>
                    <a:pt x="2360" y="452"/>
                  </a:lnTo>
                  <a:lnTo>
                    <a:pt x="2371" y="474"/>
                  </a:lnTo>
                  <a:lnTo>
                    <a:pt x="2379" y="497"/>
                  </a:lnTo>
                  <a:lnTo>
                    <a:pt x="2388" y="521"/>
                  </a:lnTo>
                  <a:lnTo>
                    <a:pt x="2402" y="568"/>
                  </a:lnTo>
                  <a:lnTo>
                    <a:pt x="2413" y="613"/>
                  </a:lnTo>
                  <a:lnTo>
                    <a:pt x="2421" y="659"/>
                  </a:lnTo>
                  <a:lnTo>
                    <a:pt x="2429" y="704"/>
                  </a:lnTo>
                  <a:lnTo>
                    <a:pt x="2433" y="748"/>
                  </a:lnTo>
                  <a:lnTo>
                    <a:pt x="2437" y="791"/>
                  </a:lnTo>
                  <a:lnTo>
                    <a:pt x="2440" y="833"/>
                  </a:lnTo>
                  <a:lnTo>
                    <a:pt x="2440" y="874"/>
                  </a:lnTo>
                  <a:lnTo>
                    <a:pt x="2440" y="913"/>
                  </a:lnTo>
                  <a:lnTo>
                    <a:pt x="2437" y="950"/>
                  </a:lnTo>
                  <a:lnTo>
                    <a:pt x="2435" y="987"/>
                  </a:lnTo>
                  <a:lnTo>
                    <a:pt x="2431" y="1021"/>
                  </a:lnTo>
                  <a:lnTo>
                    <a:pt x="2427" y="1053"/>
                  </a:lnTo>
                  <a:lnTo>
                    <a:pt x="2422" y="1083"/>
                  </a:lnTo>
                  <a:lnTo>
                    <a:pt x="2418" y="1111"/>
                  </a:lnTo>
                  <a:lnTo>
                    <a:pt x="2413" y="1137"/>
                  </a:lnTo>
                  <a:lnTo>
                    <a:pt x="2403" y="1181"/>
                  </a:lnTo>
                  <a:lnTo>
                    <a:pt x="2394" y="1219"/>
                  </a:lnTo>
                  <a:lnTo>
                    <a:pt x="2386" y="1249"/>
                  </a:lnTo>
                  <a:lnTo>
                    <a:pt x="2377" y="1271"/>
                  </a:lnTo>
                  <a:lnTo>
                    <a:pt x="2371" y="1288"/>
                  </a:lnTo>
                  <a:lnTo>
                    <a:pt x="2366" y="1299"/>
                  </a:lnTo>
                  <a:lnTo>
                    <a:pt x="2362" y="1307"/>
                  </a:lnTo>
                  <a:lnTo>
                    <a:pt x="2361" y="1308"/>
                  </a:lnTo>
                  <a:lnTo>
                    <a:pt x="2363" y="1314"/>
                  </a:lnTo>
                  <a:lnTo>
                    <a:pt x="2370" y="1334"/>
                  </a:lnTo>
                  <a:lnTo>
                    <a:pt x="2379" y="1363"/>
                  </a:lnTo>
                  <a:lnTo>
                    <a:pt x="2392" y="1401"/>
                  </a:lnTo>
                  <a:lnTo>
                    <a:pt x="2406" y="1448"/>
                  </a:lnTo>
                  <a:lnTo>
                    <a:pt x="2421" y="1502"/>
                  </a:lnTo>
                  <a:lnTo>
                    <a:pt x="2437" y="1560"/>
                  </a:lnTo>
                  <a:lnTo>
                    <a:pt x="2453" y="1623"/>
                  </a:lnTo>
                  <a:lnTo>
                    <a:pt x="2459" y="1656"/>
                  </a:lnTo>
                  <a:lnTo>
                    <a:pt x="2465" y="1692"/>
                  </a:lnTo>
                  <a:lnTo>
                    <a:pt x="2472" y="1729"/>
                  </a:lnTo>
                  <a:lnTo>
                    <a:pt x="2475" y="1767"/>
                  </a:lnTo>
                  <a:lnTo>
                    <a:pt x="2478" y="1806"/>
                  </a:lnTo>
                  <a:lnTo>
                    <a:pt x="2480" y="1848"/>
                  </a:lnTo>
                  <a:lnTo>
                    <a:pt x="2480" y="1890"/>
                  </a:lnTo>
                  <a:lnTo>
                    <a:pt x="2479" y="1933"/>
                  </a:lnTo>
                  <a:lnTo>
                    <a:pt x="2475" y="1977"/>
                  </a:lnTo>
                  <a:lnTo>
                    <a:pt x="2470" y="2021"/>
                  </a:lnTo>
                  <a:lnTo>
                    <a:pt x="2462" y="2067"/>
                  </a:lnTo>
                  <a:lnTo>
                    <a:pt x="2453" y="2111"/>
                  </a:lnTo>
                  <a:lnTo>
                    <a:pt x="2447" y="2135"/>
                  </a:lnTo>
                  <a:lnTo>
                    <a:pt x="2441" y="2157"/>
                  </a:lnTo>
                  <a:lnTo>
                    <a:pt x="2433" y="2179"/>
                  </a:lnTo>
                  <a:lnTo>
                    <a:pt x="2426" y="2202"/>
                  </a:lnTo>
                  <a:lnTo>
                    <a:pt x="2418" y="2224"/>
                  </a:lnTo>
                  <a:lnTo>
                    <a:pt x="2408" y="2246"/>
                  </a:lnTo>
                  <a:lnTo>
                    <a:pt x="2398" y="2270"/>
                  </a:lnTo>
                  <a:lnTo>
                    <a:pt x="2388" y="2292"/>
                  </a:lnTo>
                  <a:lnTo>
                    <a:pt x="2344" y="2377"/>
                  </a:lnTo>
                  <a:lnTo>
                    <a:pt x="2299" y="2458"/>
                  </a:lnTo>
                  <a:lnTo>
                    <a:pt x="2258" y="2533"/>
                  </a:lnTo>
                  <a:lnTo>
                    <a:pt x="2217" y="2606"/>
                  </a:lnTo>
                  <a:lnTo>
                    <a:pt x="2179" y="2674"/>
                  </a:lnTo>
                  <a:lnTo>
                    <a:pt x="2144" y="2741"/>
                  </a:lnTo>
                  <a:lnTo>
                    <a:pt x="2128" y="2773"/>
                  </a:lnTo>
                  <a:lnTo>
                    <a:pt x="2112" y="2806"/>
                  </a:lnTo>
                  <a:lnTo>
                    <a:pt x="2099" y="2838"/>
                  </a:lnTo>
                  <a:lnTo>
                    <a:pt x="2087" y="2870"/>
                  </a:lnTo>
                  <a:lnTo>
                    <a:pt x="2079" y="2886"/>
                  </a:lnTo>
                  <a:lnTo>
                    <a:pt x="2072" y="2901"/>
                  </a:lnTo>
                  <a:lnTo>
                    <a:pt x="2063" y="2917"/>
                  </a:lnTo>
                  <a:lnTo>
                    <a:pt x="2053" y="2932"/>
                  </a:lnTo>
                  <a:lnTo>
                    <a:pt x="2043" y="2946"/>
                  </a:lnTo>
                  <a:lnTo>
                    <a:pt x="2032" y="2961"/>
                  </a:lnTo>
                  <a:lnTo>
                    <a:pt x="2020" y="2975"/>
                  </a:lnTo>
                  <a:lnTo>
                    <a:pt x="2007" y="2988"/>
                  </a:lnTo>
                  <a:lnTo>
                    <a:pt x="1993" y="3002"/>
                  </a:lnTo>
                  <a:lnTo>
                    <a:pt x="1978" y="3014"/>
                  </a:lnTo>
                  <a:lnTo>
                    <a:pt x="1964" y="3025"/>
                  </a:lnTo>
                  <a:lnTo>
                    <a:pt x="1946" y="3037"/>
                  </a:lnTo>
                  <a:lnTo>
                    <a:pt x="1929" y="3047"/>
                  </a:lnTo>
                  <a:lnTo>
                    <a:pt x="1912" y="3057"/>
                  </a:lnTo>
                  <a:lnTo>
                    <a:pt x="1892" y="3066"/>
                  </a:lnTo>
                  <a:lnTo>
                    <a:pt x="1872" y="3074"/>
                  </a:lnTo>
                  <a:lnTo>
                    <a:pt x="1852" y="3082"/>
                  </a:lnTo>
                  <a:lnTo>
                    <a:pt x="1831" y="3088"/>
                  </a:lnTo>
                  <a:lnTo>
                    <a:pt x="1809" y="3093"/>
                  </a:lnTo>
                  <a:lnTo>
                    <a:pt x="1785" y="3098"/>
                  </a:lnTo>
                  <a:lnTo>
                    <a:pt x="1762" y="3100"/>
                  </a:lnTo>
                  <a:lnTo>
                    <a:pt x="1737" y="3103"/>
                  </a:lnTo>
                  <a:lnTo>
                    <a:pt x="1711" y="3104"/>
                  </a:lnTo>
                  <a:lnTo>
                    <a:pt x="1684" y="3104"/>
                  </a:lnTo>
                  <a:lnTo>
                    <a:pt x="1657" y="3103"/>
                  </a:lnTo>
                  <a:lnTo>
                    <a:pt x="1630" y="3099"/>
                  </a:lnTo>
                  <a:lnTo>
                    <a:pt x="1601" y="3095"/>
                  </a:lnTo>
                  <a:lnTo>
                    <a:pt x="1571" y="3089"/>
                  </a:lnTo>
                  <a:lnTo>
                    <a:pt x="1540" y="3083"/>
                  </a:lnTo>
                  <a:lnTo>
                    <a:pt x="1510" y="3074"/>
                  </a:lnTo>
                  <a:lnTo>
                    <a:pt x="1478" y="3063"/>
                  </a:lnTo>
                  <a:lnTo>
                    <a:pt x="1446" y="3052"/>
                  </a:lnTo>
                  <a:lnTo>
                    <a:pt x="1311" y="3005"/>
                  </a:lnTo>
                  <a:lnTo>
                    <a:pt x="1177" y="2962"/>
                  </a:lnTo>
                  <a:lnTo>
                    <a:pt x="1112" y="2939"/>
                  </a:lnTo>
                  <a:lnTo>
                    <a:pt x="1047" y="2914"/>
                  </a:lnTo>
                  <a:lnTo>
                    <a:pt x="1014" y="2901"/>
                  </a:lnTo>
                  <a:lnTo>
                    <a:pt x="983" y="2887"/>
                  </a:lnTo>
                  <a:lnTo>
                    <a:pt x="951" y="2873"/>
                  </a:lnTo>
                  <a:lnTo>
                    <a:pt x="920" y="2858"/>
                  </a:lnTo>
                  <a:lnTo>
                    <a:pt x="890" y="2842"/>
                  </a:lnTo>
                  <a:lnTo>
                    <a:pt x="859" y="2825"/>
                  </a:lnTo>
                  <a:lnTo>
                    <a:pt x="829" y="2806"/>
                  </a:lnTo>
                  <a:lnTo>
                    <a:pt x="801" y="2788"/>
                  </a:lnTo>
                  <a:lnTo>
                    <a:pt x="773" y="2767"/>
                  </a:lnTo>
                  <a:lnTo>
                    <a:pt x="744" y="2745"/>
                  </a:lnTo>
                  <a:lnTo>
                    <a:pt x="717" y="2721"/>
                  </a:lnTo>
                  <a:lnTo>
                    <a:pt x="691" y="2697"/>
                  </a:lnTo>
                  <a:lnTo>
                    <a:pt x="666" y="2671"/>
                  </a:lnTo>
                  <a:lnTo>
                    <a:pt x="641" y="2643"/>
                  </a:lnTo>
                  <a:lnTo>
                    <a:pt x="618" y="2613"/>
                  </a:lnTo>
                  <a:lnTo>
                    <a:pt x="595" y="2581"/>
                  </a:lnTo>
                  <a:lnTo>
                    <a:pt x="573" y="2548"/>
                  </a:lnTo>
                  <a:lnTo>
                    <a:pt x="552" y="2512"/>
                  </a:lnTo>
                  <a:lnTo>
                    <a:pt x="531" y="2475"/>
                  </a:lnTo>
                  <a:lnTo>
                    <a:pt x="513" y="2436"/>
                  </a:lnTo>
                  <a:lnTo>
                    <a:pt x="449" y="2293"/>
                  </a:lnTo>
                  <a:lnTo>
                    <a:pt x="400" y="2187"/>
                  </a:lnTo>
                  <a:lnTo>
                    <a:pt x="365" y="2114"/>
                  </a:lnTo>
                  <a:lnTo>
                    <a:pt x="342" y="2064"/>
                  </a:lnTo>
                  <a:lnTo>
                    <a:pt x="327" y="2036"/>
                  </a:lnTo>
                  <a:lnTo>
                    <a:pt x="321" y="2021"/>
                  </a:lnTo>
                  <a:lnTo>
                    <a:pt x="317" y="2018"/>
                  </a:lnTo>
                  <a:lnTo>
                    <a:pt x="317" y="2018"/>
                  </a:lnTo>
                  <a:lnTo>
                    <a:pt x="314" y="2020"/>
                  </a:lnTo>
                  <a:lnTo>
                    <a:pt x="301" y="2029"/>
                  </a:lnTo>
                  <a:lnTo>
                    <a:pt x="294" y="2034"/>
                  </a:lnTo>
                  <a:lnTo>
                    <a:pt x="284" y="2037"/>
                  </a:lnTo>
                  <a:lnTo>
                    <a:pt x="273" y="2040"/>
                  </a:lnTo>
                  <a:lnTo>
                    <a:pt x="262" y="2042"/>
                  </a:lnTo>
                  <a:lnTo>
                    <a:pt x="249" y="2042"/>
                  </a:lnTo>
                  <a:lnTo>
                    <a:pt x="235" y="2040"/>
                  </a:lnTo>
                  <a:lnTo>
                    <a:pt x="228" y="2037"/>
                  </a:lnTo>
                  <a:lnTo>
                    <a:pt x="221" y="2035"/>
                  </a:lnTo>
                  <a:lnTo>
                    <a:pt x="214" y="2031"/>
                  </a:lnTo>
                  <a:lnTo>
                    <a:pt x="207" y="2026"/>
                  </a:lnTo>
                  <a:lnTo>
                    <a:pt x="199" y="2020"/>
                  </a:lnTo>
                  <a:lnTo>
                    <a:pt x="192" y="2014"/>
                  </a:lnTo>
                  <a:lnTo>
                    <a:pt x="183" y="2007"/>
                  </a:lnTo>
                  <a:lnTo>
                    <a:pt x="176" y="1998"/>
                  </a:lnTo>
                  <a:lnTo>
                    <a:pt x="169" y="1987"/>
                  </a:lnTo>
                  <a:lnTo>
                    <a:pt x="161" y="1976"/>
                  </a:lnTo>
                  <a:lnTo>
                    <a:pt x="154" y="1964"/>
                  </a:lnTo>
                  <a:lnTo>
                    <a:pt x="146" y="1949"/>
                  </a:lnTo>
                  <a:lnTo>
                    <a:pt x="114" y="1886"/>
                  </a:lnTo>
                  <a:lnTo>
                    <a:pt x="79" y="1816"/>
                  </a:lnTo>
                  <a:lnTo>
                    <a:pt x="62" y="1778"/>
                  </a:lnTo>
                  <a:lnTo>
                    <a:pt x="46" y="1740"/>
                  </a:lnTo>
                  <a:lnTo>
                    <a:pt x="31" y="1699"/>
                  </a:lnTo>
                  <a:lnTo>
                    <a:pt x="18" y="1659"/>
                  </a:lnTo>
                  <a:lnTo>
                    <a:pt x="14" y="1639"/>
                  </a:lnTo>
                  <a:lnTo>
                    <a:pt x="9" y="1618"/>
                  </a:lnTo>
                  <a:lnTo>
                    <a:pt x="5" y="1598"/>
                  </a:lnTo>
                  <a:lnTo>
                    <a:pt x="2" y="1577"/>
                  </a:lnTo>
                  <a:lnTo>
                    <a:pt x="1" y="1556"/>
                  </a:lnTo>
                  <a:lnTo>
                    <a:pt x="0" y="1537"/>
                  </a:lnTo>
                  <a:lnTo>
                    <a:pt x="1" y="1517"/>
                  </a:lnTo>
                  <a:lnTo>
                    <a:pt x="2" y="1496"/>
                  </a:lnTo>
                  <a:lnTo>
                    <a:pt x="5" y="1476"/>
                  </a:lnTo>
                  <a:lnTo>
                    <a:pt x="10" y="1457"/>
                  </a:lnTo>
                  <a:lnTo>
                    <a:pt x="15" y="1438"/>
                  </a:lnTo>
                  <a:lnTo>
                    <a:pt x="22" y="1419"/>
                  </a:lnTo>
                  <a:lnTo>
                    <a:pt x="31" y="1400"/>
                  </a:lnTo>
                  <a:lnTo>
                    <a:pt x="42" y="1382"/>
                  </a:lnTo>
                  <a:lnTo>
                    <a:pt x="54" y="1363"/>
                  </a:lnTo>
                  <a:lnTo>
                    <a:pt x="68" y="1346"/>
                  </a:lnTo>
                  <a:lnTo>
                    <a:pt x="82" y="1330"/>
                  </a:lnTo>
                  <a:lnTo>
                    <a:pt x="96" y="1318"/>
                  </a:lnTo>
                  <a:lnTo>
                    <a:pt x="111" y="1308"/>
                  </a:lnTo>
                  <a:lnTo>
                    <a:pt x="123" y="1299"/>
                  </a:lnTo>
                  <a:lnTo>
                    <a:pt x="137" y="1294"/>
                  </a:lnTo>
                  <a:lnTo>
                    <a:pt x="149" y="1291"/>
                  </a:lnTo>
                  <a:lnTo>
                    <a:pt x="161" y="1290"/>
                  </a:lnTo>
                  <a:lnTo>
                    <a:pt x="173" y="1291"/>
                  </a:lnTo>
                  <a:lnTo>
                    <a:pt x="185" y="1292"/>
                  </a:lnTo>
                  <a:lnTo>
                    <a:pt x="196" y="1297"/>
                  </a:lnTo>
                  <a:lnTo>
                    <a:pt x="205" y="1302"/>
                  </a:lnTo>
                  <a:lnTo>
                    <a:pt x="215" y="1308"/>
                  </a:lnTo>
                  <a:lnTo>
                    <a:pt x="225" y="1317"/>
                  </a:lnTo>
                  <a:lnTo>
                    <a:pt x="235" y="1325"/>
                  </a:lnTo>
                  <a:lnTo>
                    <a:pt x="244" y="1334"/>
                  </a:lnTo>
                  <a:lnTo>
                    <a:pt x="252" y="1345"/>
                  </a:lnTo>
                  <a:lnTo>
                    <a:pt x="267" y="1367"/>
                  </a:lnTo>
                  <a:lnTo>
                    <a:pt x="281" y="1389"/>
                  </a:lnTo>
                  <a:lnTo>
                    <a:pt x="292" y="1411"/>
                  </a:lnTo>
                  <a:lnTo>
                    <a:pt x="300" y="1433"/>
                  </a:lnTo>
                  <a:lnTo>
                    <a:pt x="314" y="1467"/>
                  </a:lnTo>
                  <a:lnTo>
                    <a:pt x="317" y="1479"/>
                  </a:lnTo>
                  <a:lnTo>
                    <a:pt x="319" y="1468"/>
                  </a:lnTo>
                  <a:lnTo>
                    <a:pt x="320" y="1436"/>
                  </a:lnTo>
                  <a:lnTo>
                    <a:pt x="325" y="1384"/>
                  </a:lnTo>
                  <a:lnTo>
                    <a:pt x="333" y="1317"/>
                  </a:lnTo>
                  <a:lnTo>
                    <a:pt x="338" y="1278"/>
                  </a:lnTo>
                  <a:lnTo>
                    <a:pt x="346" y="1237"/>
                  </a:lnTo>
                  <a:lnTo>
                    <a:pt x="353" y="1192"/>
                  </a:lnTo>
                  <a:lnTo>
                    <a:pt x="362" y="1144"/>
                  </a:lnTo>
                  <a:lnTo>
                    <a:pt x="373" y="1096"/>
                  </a:lnTo>
                  <a:lnTo>
                    <a:pt x="385" y="1045"/>
                  </a:lnTo>
                  <a:lnTo>
                    <a:pt x="399" y="993"/>
                  </a:lnTo>
                  <a:lnTo>
                    <a:pt x="413" y="939"/>
                  </a:lnTo>
                  <a:lnTo>
                    <a:pt x="431" y="885"/>
                  </a:lnTo>
                  <a:lnTo>
                    <a:pt x="450" y="831"/>
                  </a:lnTo>
                  <a:lnTo>
                    <a:pt x="471" y="775"/>
                  </a:lnTo>
                  <a:lnTo>
                    <a:pt x="495" y="721"/>
                  </a:lnTo>
                  <a:lnTo>
                    <a:pt x="519" y="667"/>
                  </a:lnTo>
                  <a:lnTo>
                    <a:pt x="547" y="613"/>
                  </a:lnTo>
                  <a:lnTo>
                    <a:pt x="577" y="561"/>
                  </a:lnTo>
                  <a:lnTo>
                    <a:pt x="610" y="510"/>
                  </a:lnTo>
                  <a:lnTo>
                    <a:pt x="645" y="460"/>
                  </a:lnTo>
                  <a:lnTo>
                    <a:pt x="683" y="414"/>
                  </a:lnTo>
                  <a:lnTo>
                    <a:pt x="723" y="368"/>
                  </a:lnTo>
                  <a:lnTo>
                    <a:pt x="768" y="326"/>
                  </a:lnTo>
                  <a:lnTo>
                    <a:pt x="813" y="287"/>
                  </a:lnTo>
                  <a:lnTo>
                    <a:pt x="864" y="251"/>
                  </a:lnTo>
                  <a:lnTo>
                    <a:pt x="917" y="219"/>
                  </a:lnTo>
                  <a:lnTo>
                    <a:pt x="972" y="192"/>
                  </a:lnTo>
                  <a:lnTo>
                    <a:pt x="1029" y="167"/>
                  </a:lnTo>
                  <a:lnTo>
                    <a:pt x="1084" y="144"/>
                  </a:lnTo>
                  <a:lnTo>
                    <a:pt x="1136" y="123"/>
                  </a:lnTo>
                  <a:lnTo>
                    <a:pt x="1186" y="105"/>
                  </a:lnTo>
                  <a:lnTo>
                    <a:pt x="1234" y="88"/>
                  </a:lnTo>
                  <a:lnTo>
                    <a:pt x="1280" y="72"/>
                  </a:lnTo>
                  <a:lnTo>
                    <a:pt x="1324" y="58"/>
                  </a:lnTo>
                  <a:lnTo>
                    <a:pt x="1367" y="47"/>
                  </a:lnTo>
                  <a:lnTo>
                    <a:pt x="1407" y="36"/>
                  </a:lnTo>
                  <a:lnTo>
                    <a:pt x="1446" y="28"/>
                  </a:lnTo>
                  <a:lnTo>
                    <a:pt x="1482" y="20"/>
                  </a:lnTo>
                  <a:lnTo>
                    <a:pt x="1518" y="14"/>
                  </a:lnTo>
                  <a:lnTo>
                    <a:pt x="1553" y="9"/>
                  </a:lnTo>
                  <a:lnTo>
                    <a:pt x="1585" y="5"/>
                  </a:lnTo>
                  <a:lnTo>
                    <a:pt x="1617" y="3"/>
                  </a:lnTo>
                  <a:lnTo>
                    <a:pt x="1646" y="0"/>
                  </a:lnTo>
                  <a:lnTo>
                    <a:pt x="1674" y="0"/>
                  </a:lnTo>
                  <a:lnTo>
                    <a:pt x="1701" y="2"/>
                  </a:lnTo>
                  <a:lnTo>
                    <a:pt x="1729" y="3"/>
                  </a:lnTo>
                  <a:lnTo>
                    <a:pt x="1753" y="5"/>
                  </a:lnTo>
                  <a:lnTo>
                    <a:pt x="1778" y="8"/>
                  </a:lnTo>
                  <a:lnTo>
                    <a:pt x="1800" y="12"/>
                  </a:lnTo>
                  <a:lnTo>
                    <a:pt x="1823" y="16"/>
                  </a:lnTo>
                  <a:lnTo>
                    <a:pt x="1844" y="21"/>
                  </a:lnTo>
                  <a:lnTo>
                    <a:pt x="1885" y="32"/>
                  </a:lnTo>
                  <a:lnTo>
                    <a:pt x="1923" y="46"/>
                  </a:lnTo>
                  <a:lnTo>
                    <a:pt x="1959" y="61"/>
                  </a:lnTo>
                  <a:lnTo>
                    <a:pt x="1994" y="76"/>
                  </a:lnTo>
                </a:path>
              </a:pathLst>
            </a:custGeom>
            <a:noFill/>
            <a:ln w="3240">
              <a:solidFill>
                <a:srgbClr val="3529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6170760" y="1676520"/>
              <a:ext cx="861840" cy="590400"/>
            </a:xfrm>
            <a:custGeom>
              <a:avLst/>
              <a:gdLst/>
              <a:ahLst/>
              <a:rect l="l" t="t" r="r" b="b"/>
              <a:pathLst>
                <a:path w="2719" h="1856">
                  <a:moveTo>
                    <a:pt x="509" y="1829"/>
                  </a:moveTo>
                  <a:lnTo>
                    <a:pt x="510" y="1826"/>
                  </a:lnTo>
                  <a:lnTo>
                    <a:pt x="513" y="1822"/>
                  </a:lnTo>
                  <a:lnTo>
                    <a:pt x="516" y="1819"/>
                  </a:lnTo>
                  <a:lnTo>
                    <a:pt x="519" y="1817"/>
                  </a:lnTo>
                  <a:lnTo>
                    <a:pt x="527" y="1815"/>
                  </a:lnTo>
                  <a:lnTo>
                    <a:pt x="537" y="1813"/>
                  </a:lnTo>
                  <a:lnTo>
                    <a:pt x="547" y="1812"/>
                  </a:lnTo>
                  <a:lnTo>
                    <a:pt x="556" y="1810"/>
                  </a:lnTo>
                  <a:lnTo>
                    <a:pt x="559" y="1808"/>
                  </a:lnTo>
                  <a:lnTo>
                    <a:pt x="563" y="1806"/>
                  </a:lnTo>
                  <a:lnTo>
                    <a:pt x="567" y="1802"/>
                  </a:lnTo>
                  <a:lnTo>
                    <a:pt x="569" y="1797"/>
                  </a:lnTo>
                  <a:lnTo>
                    <a:pt x="572" y="1788"/>
                  </a:lnTo>
                  <a:lnTo>
                    <a:pt x="574" y="1778"/>
                  </a:lnTo>
                  <a:lnTo>
                    <a:pt x="574" y="1769"/>
                  </a:lnTo>
                  <a:lnTo>
                    <a:pt x="573" y="1760"/>
                  </a:lnTo>
                  <a:lnTo>
                    <a:pt x="569" y="1752"/>
                  </a:lnTo>
                  <a:lnTo>
                    <a:pt x="566" y="1743"/>
                  </a:lnTo>
                  <a:lnTo>
                    <a:pt x="561" y="1735"/>
                  </a:lnTo>
                  <a:lnTo>
                    <a:pt x="556" y="1727"/>
                  </a:lnTo>
                  <a:lnTo>
                    <a:pt x="559" y="1727"/>
                  </a:lnTo>
                  <a:lnTo>
                    <a:pt x="562" y="1725"/>
                  </a:lnTo>
                  <a:lnTo>
                    <a:pt x="563" y="1722"/>
                  </a:lnTo>
                  <a:lnTo>
                    <a:pt x="563" y="1720"/>
                  </a:lnTo>
                  <a:lnTo>
                    <a:pt x="563" y="1717"/>
                  </a:lnTo>
                  <a:lnTo>
                    <a:pt x="564" y="1715"/>
                  </a:lnTo>
                  <a:lnTo>
                    <a:pt x="566" y="1712"/>
                  </a:lnTo>
                  <a:lnTo>
                    <a:pt x="569" y="1712"/>
                  </a:lnTo>
                  <a:lnTo>
                    <a:pt x="569" y="1706"/>
                  </a:lnTo>
                  <a:lnTo>
                    <a:pt x="569" y="1699"/>
                  </a:lnTo>
                  <a:lnTo>
                    <a:pt x="568" y="1693"/>
                  </a:lnTo>
                  <a:lnTo>
                    <a:pt x="567" y="1685"/>
                  </a:lnTo>
                  <a:lnTo>
                    <a:pt x="564" y="1681"/>
                  </a:lnTo>
                  <a:lnTo>
                    <a:pt x="561" y="1674"/>
                  </a:lnTo>
                  <a:lnTo>
                    <a:pt x="556" y="1671"/>
                  </a:lnTo>
                  <a:lnTo>
                    <a:pt x="550" y="1667"/>
                  </a:lnTo>
                  <a:lnTo>
                    <a:pt x="562" y="1662"/>
                  </a:lnTo>
                  <a:lnTo>
                    <a:pt x="572" y="1657"/>
                  </a:lnTo>
                  <a:lnTo>
                    <a:pt x="580" y="1651"/>
                  </a:lnTo>
                  <a:lnTo>
                    <a:pt x="589" y="1644"/>
                  </a:lnTo>
                  <a:lnTo>
                    <a:pt x="595" y="1635"/>
                  </a:lnTo>
                  <a:lnTo>
                    <a:pt x="601" y="1626"/>
                  </a:lnTo>
                  <a:lnTo>
                    <a:pt x="607" y="1617"/>
                  </a:lnTo>
                  <a:lnTo>
                    <a:pt x="612" y="1607"/>
                  </a:lnTo>
                  <a:lnTo>
                    <a:pt x="615" y="1603"/>
                  </a:lnTo>
                  <a:lnTo>
                    <a:pt x="615" y="1598"/>
                  </a:lnTo>
                  <a:lnTo>
                    <a:pt x="615" y="1593"/>
                  </a:lnTo>
                  <a:lnTo>
                    <a:pt x="615" y="1588"/>
                  </a:lnTo>
                  <a:lnTo>
                    <a:pt x="611" y="1578"/>
                  </a:lnTo>
                  <a:lnTo>
                    <a:pt x="607" y="1569"/>
                  </a:lnTo>
                  <a:lnTo>
                    <a:pt x="604" y="1560"/>
                  </a:lnTo>
                  <a:lnTo>
                    <a:pt x="601" y="1553"/>
                  </a:lnTo>
                  <a:lnTo>
                    <a:pt x="600" y="1549"/>
                  </a:lnTo>
                  <a:lnTo>
                    <a:pt x="600" y="1545"/>
                  </a:lnTo>
                  <a:lnTo>
                    <a:pt x="603" y="1542"/>
                  </a:lnTo>
                  <a:lnTo>
                    <a:pt x="605" y="1539"/>
                  </a:lnTo>
                  <a:lnTo>
                    <a:pt x="615" y="1529"/>
                  </a:lnTo>
                  <a:lnTo>
                    <a:pt x="625" y="1519"/>
                  </a:lnTo>
                  <a:lnTo>
                    <a:pt x="633" y="1508"/>
                  </a:lnTo>
                  <a:lnTo>
                    <a:pt x="639" y="1496"/>
                  </a:lnTo>
                  <a:lnTo>
                    <a:pt x="647" y="1484"/>
                  </a:lnTo>
                  <a:lnTo>
                    <a:pt x="652" y="1471"/>
                  </a:lnTo>
                  <a:lnTo>
                    <a:pt x="657" y="1459"/>
                  </a:lnTo>
                  <a:lnTo>
                    <a:pt x="662" y="1447"/>
                  </a:lnTo>
                  <a:lnTo>
                    <a:pt x="667" y="1436"/>
                  </a:lnTo>
                  <a:lnTo>
                    <a:pt x="674" y="1423"/>
                  </a:lnTo>
                  <a:lnTo>
                    <a:pt x="682" y="1410"/>
                  </a:lnTo>
                  <a:lnTo>
                    <a:pt x="690" y="1396"/>
                  </a:lnTo>
                  <a:lnTo>
                    <a:pt x="694" y="1390"/>
                  </a:lnTo>
                  <a:lnTo>
                    <a:pt x="696" y="1383"/>
                  </a:lnTo>
                  <a:lnTo>
                    <a:pt x="698" y="1375"/>
                  </a:lnTo>
                  <a:lnTo>
                    <a:pt x="700" y="1368"/>
                  </a:lnTo>
                  <a:lnTo>
                    <a:pt x="700" y="1361"/>
                  </a:lnTo>
                  <a:lnTo>
                    <a:pt x="700" y="1353"/>
                  </a:lnTo>
                  <a:lnTo>
                    <a:pt x="697" y="1346"/>
                  </a:lnTo>
                  <a:lnTo>
                    <a:pt x="694" y="1339"/>
                  </a:lnTo>
                  <a:lnTo>
                    <a:pt x="701" y="1335"/>
                  </a:lnTo>
                  <a:lnTo>
                    <a:pt x="706" y="1332"/>
                  </a:lnTo>
                  <a:lnTo>
                    <a:pt x="711" y="1327"/>
                  </a:lnTo>
                  <a:lnTo>
                    <a:pt x="714" y="1323"/>
                  </a:lnTo>
                  <a:lnTo>
                    <a:pt x="717" y="1318"/>
                  </a:lnTo>
                  <a:lnTo>
                    <a:pt x="718" y="1313"/>
                  </a:lnTo>
                  <a:lnTo>
                    <a:pt x="719" y="1307"/>
                  </a:lnTo>
                  <a:lnTo>
                    <a:pt x="721" y="1302"/>
                  </a:lnTo>
                  <a:lnTo>
                    <a:pt x="722" y="1289"/>
                  </a:lnTo>
                  <a:lnTo>
                    <a:pt x="721" y="1277"/>
                  </a:lnTo>
                  <a:lnTo>
                    <a:pt x="721" y="1265"/>
                  </a:lnTo>
                  <a:lnTo>
                    <a:pt x="721" y="1254"/>
                  </a:lnTo>
                  <a:lnTo>
                    <a:pt x="722" y="1244"/>
                  </a:lnTo>
                  <a:lnTo>
                    <a:pt x="724" y="1234"/>
                  </a:lnTo>
                  <a:lnTo>
                    <a:pt x="728" y="1225"/>
                  </a:lnTo>
                  <a:lnTo>
                    <a:pt x="732" y="1217"/>
                  </a:lnTo>
                  <a:lnTo>
                    <a:pt x="742" y="1202"/>
                  </a:lnTo>
                  <a:lnTo>
                    <a:pt x="751" y="1189"/>
                  </a:lnTo>
                  <a:lnTo>
                    <a:pt x="756" y="1181"/>
                  </a:lnTo>
                  <a:lnTo>
                    <a:pt x="760" y="1175"/>
                  </a:lnTo>
                  <a:lnTo>
                    <a:pt x="762" y="1169"/>
                  </a:lnTo>
                  <a:lnTo>
                    <a:pt x="765" y="1163"/>
                  </a:lnTo>
                  <a:lnTo>
                    <a:pt x="766" y="1155"/>
                  </a:lnTo>
                  <a:lnTo>
                    <a:pt x="765" y="1149"/>
                  </a:lnTo>
                  <a:lnTo>
                    <a:pt x="764" y="1142"/>
                  </a:lnTo>
                  <a:lnTo>
                    <a:pt x="759" y="1134"/>
                  </a:lnTo>
                  <a:lnTo>
                    <a:pt x="770" y="1131"/>
                  </a:lnTo>
                  <a:lnTo>
                    <a:pt x="780" y="1127"/>
                  </a:lnTo>
                  <a:lnTo>
                    <a:pt x="788" y="1121"/>
                  </a:lnTo>
                  <a:lnTo>
                    <a:pt x="797" y="1115"/>
                  </a:lnTo>
                  <a:lnTo>
                    <a:pt x="804" y="1107"/>
                  </a:lnTo>
                  <a:lnTo>
                    <a:pt x="810" y="1099"/>
                  </a:lnTo>
                  <a:lnTo>
                    <a:pt x="817" y="1090"/>
                  </a:lnTo>
                  <a:lnTo>
                    <a:pt x="822" y="1080"/>
                  </a:lnTo>
                  <a:lnTo>
                    <a:pt x="825" y="1070"/>
                  </a:lnTo>
                  <a:lnTo>
                    <a:pt x="829" y="1061"/>
                  </a:lnTo>
                  <a:lnTo>
                    <a:pt x="830" y="1050"/>
                  </a:lnTo>
                  <a:lnTo>
                    <a:pt x="831" y="1038"/>
                  </a:lnTo>
                  <a:lnTo>
                    <a:pt x="831" y="1027"/>
                  </a:lnTo>
                  <a:lnTo>
                    <a:pt x="830" y="1018"/>
                  </a:lnTo>
                  <a:lnTo>
                    <a:pt x="828" y="1006"/>
                  </a:lnTo>
                  <a:lnTo>
                    <a:pt x="824" y="995"/>
                  </a:lnTo>
                  <a:lnTo>
                    <a:pt x="834" y="998"/>
                  </a:lnTo>
                  <a:lnTo>
                    <a:pt x="844" y="999"/>
                  </a:lnTo>
                  <a:lnTo>
                    <a:pt x="854" y="999"/>
                  </a:lnTo>
                  <a:lnTo>
                    <a:pt x="863" y="998"/>
                  </a:lnTo>
                  <a:lnTo>
                    <a:pt x="872" y="997"/>
                  </a:lnTo>
                  <a:lnTo>
                    <a:pt x="881" y="993"/>
                  </a:lnTo>
                  <a:lnTo>
                    <a:pt x="889" y="989"/>
                  </a:lnTo>
                  <a:lnTo>
                    <a:pt x="897" y="986"/>
                  </a:lnTo>
                  <a:lnTo>
                    <a:pt x="904" y="979"/>
                  </a:lnTo>
                  <a:lnTo>
                    <a:pt x="910" y="973"/>
                  </a:lnTo>
                  <a:lnTo>
                    <a:pt x="915" y="966"/>
                  </a:lnTo>
                  <a:lnTo>
                    <a:pt x="919" y="957"/>
                  </a:lnTo>
                  <a:lnTo>
                    <a:pt x="921" y="949"/>
                  </a:lnTo>
                  <a:lnTo>
                    <a:pt x="924" y="939"/>
                  </a:lnTo>
                  <a:lnTo>
                    <a:pt x="924" y="929"/>
                  </a:lnTo>
                  <a:lnTo>
                    <a:pt x="922" y="917"/>
                  </a:lnTo>
                  <a:lnTo>
                    <a:pt x="931" y="918"/>
                  </a:lnTo>
                  <a:lnTo>
                    <a:pt x="941" y="918"/>
                  </a:lnTo>
                  <a:lnTo>
                    <a:pt x="949" y="917"/>
                  </a:lnTo>
                  <a:lnTo>
                    <a:pt x="957" y="914"/>
                  </a:lnTo>
                  <a:lnTo>
                    <a:pt x="965" y="911"/>
                  </a:lnTo>
                  <a:lnTo>
                    <a:pt x="973" y="907"/>
                  </a:lnTo>
                  <a:lnTo>
                    <a:pt x="980" y="901"/>
                  </a:lnTo>
                  <a:lnTo>
                    <a:pt x="986" y="895"/>
                  </a:lnTo>
                  <a:lnTo>
                    <a:pt x="991" y="888"/>
                  </a:lnTo>
                  <a:lnTo>
                    <a:pt x="997" y="880"/>
                  </a:lnTo>
                  <a:lnTo>
                    <a:pt x="1001" y="872"/>
                  </a:lnTo>
                  <a:lnTo>
                    <a:pt x="1005" y="864"/>
                  </a:lnTo>
                  <a:lnTo>
                    <a:pt x="1007" y="855"/>
                  </a:lnTo>
                  <a:lnTo>
                    <a:pt x="1009" y="845"/>
                  </a:lnTo>
                  <a:lnTo>
                    <a:pt x="1010" y="837"/>
                  </a:lnTo>
                  <a:lnTo>
                    <a:pt x="1010" y="828"/>
                  </a:lnTo>
                  <a:lnTo>
                    <a:pt x="1015" y="829"/>
                  </a:lnTo>
                  <a:lnTo>
                    <a:pt x="1020" y="831"/>
                  </a:lnTo>
                  <a:lnTo>
                    <a:pt x="1025" y="832"/>
                  </a:lnTo>
                  <a:lnTo>
                    <a:pt x="1029" y="833"/>
                  </a:lnTo>
                  <a:lnTo>
                    <a:pt x="1034" y="834"/>
                  </a:lnTo>
                  <a:lnTo>
                    <a:pt x="1038" y="834"/>
                  </a:lnTo>
                  <a:lnTo>
                    <a:pt x="1043" y="834"/>
                  </a:lnTo>
                  <a:lnTo>
                    <a:pt x="1047" y="833"/>
                  </a:lnTo>
                  <a:lnTo>
                    <a:pt x="1055" y="829"/>
                  </a:lnTo>
                  <a:lnTo>
                    <a:pt x="1063" y="824"/>
                  </a:lnTo>
                  <a:lnTo>
                    <a:pt x="1069" y="820"/>
                  </a:lnTo>
                  <a:lnTo>
                    <a:pt x="1075" y="813"/>
                  </a:lnTo>
                  <a:lnTo>
                    <a:pt x="1081" y="807"/>
                  </a:lnTo>
                  <a:lnTo>
                    <a:pt x="1086" y="801"/>
                  </a:lnTo>
                  <a:lnTo>
                    <a:pt x="1090" y="794"/>
                  </a:lnTo>
                  <a:lnTo>
                    <a:pt x="1093" y="786"/>
                  </a:lnTo>
                  <a:lnTo>
                    <a:pt x="1097" y="779"/>
                  </a:lnTo>
                  <a:lnTo>
                    <a:pt x="1100" y="772"/>
                  </a:lnTo>
                  <a:lnTo>
                    <a:pt x="1101" y="763"/>
                  </a:lnTo>
                  <a:lnTo>
                    <a:pt x="1103" y="754"/>
                  </a:lnTo>
                  <a:lnTo>
                    <a:pt x="1103" y="747"/>
                  </a:lnTo>
                  <a:lnTo>
                    <a:pt x="1103" y="738"/>
                  </a:lnTo>
                  <a:lnTo>
                    <a:pt x="1103" y="730"/>
                  </a:lnTo>
                  <a:lnTo>
                    <a:pt x="1102" y="721"/>
                  </a:lnTo>
                  <a:lnTo>
                    <a:pt x="1108" y="724"/>
                  </a:lnTo>
                  <a:lnTo>
                    <a:pt x="1113" y="724"/>
                  </a:lnTo>
                  <a:lnTo>
                    <a:pt x="1119" y="725"/>
                  </a:lnTo>
                  <a:lnTo>
                    <a:pt x="1124" y="724"/>
                  </a:lnTo>
                  <a:lnTo>
                    <a:pt x="1134" y="721"/>
                  </a:lnTo>
                  <a:lnTo>
                    <a:pt x="1143" y="716"/>
                  </a:lnTo>
                  <a:lnTo>
                    <a:pt x="1151" y="710"/>
                  </a:lnTo>
                  <a:lnTo>
                    <a:pt x="1157" y="703"/>
                  </a:lnTo>
                  <a:lnTo>
                    <a:pt x="1164" y="694"/>
                  </a:lnTo>
                  <a:lnTo>
                    <a:pt x="1170" y="687"/>
                  </a:lnTo>
                  <a:lnTo>
                    <a:pt x="1173" y="681"/>
                  </a:lnTo>
                  <a:lnTo>
                    <a:pt x="1177" y="676"/>
                  </a:lnTo>
                  <a:lnTo>
                    <a:pt x="1180" y="669"/>
                  </a:lnTo>
                  <a:lnTo>
                    <a:pt x="1182" y="663"/>
                  </a:lnTo>
                  <a:lnTo>
                    <a:pt x="1183" y="656"/>
                  </a:lnTo>
                  <a:lnTo>
                    <a:pt x="1184" y="650"/>
                  </a:lnTo>
                  <a:lnTo>
                    <a:pt x="1186" y="644"/>
                  </a:lnTo>
                  <a:lnTo>
                    <a:pt x="1186" y="637"/>
                  </a:lnTo>
                  <a:lnTo>
                    <a:pt x="1196" y="642"/>
                  </a:lnTo>
                  <a:lnTo>
                    <a:pt x="1205" y="647"/>
                  </a:lnTo>
                  <a:lnTo>
                    <a:pt x="1215" y="650"/>
                  </a:lnTo>
                  <a:lnTo>
                    <a:pt x="1225" y="652"/>
                  </a:lnTo>
                  <a:lnTo>
                    <a:pt x="1235" y="652"/>
                  </a:lnTo>
                  <a:lnTo>
                    <a:pt x="1246" y="651"/>
                  </a:lnTo>
                  <a:lnTo>
                    <a:pt x="1255" y="649"/>
                  </a:lnTo>
                  <a:lnTo>
                    <a:pt x="1264" y="646"/>
                  </a:lnTo>
                  <a:lnTo>
                    <a:pt x="1271" y="644"/>
                  </a:lnTo>
                  <a:lnTo>
                    <a:pt x="1278" y="640"/>
                  </a:lnTo>
                  <a:lnTo>
                    <a:pt x="1284" y="636"/>
                  </a:lnTo>
                  <a:lnTo>
                    <a:pt x="1290" y="631"/>
                  </a:lnTo>
                  <a:lnTo>
                    <a:pt x="1295" y="626"/>
                  </a:lnTo>
                  <a:lnTo>
                    <a:pt x="1298" y="619"/>
                  </a:lnTo>
                  <a:lnTo>
                    <a:pt x="1299" y="617"/>
                  </a:lnTo>
                  <a:lnTo>
                    <a:pt x="1299" y="613"/>
                  </a:lnTo>
                  <a:lnTo>
                    <a:pt x="1299" y="609"/>
                  </a:lnTo>
                  <a:lnTo>
                    <a:pt x="1298" y="604"/>
                  </a:lnTo>
                  <a:lnTo>
                    <a:pt x="1299" y="607"/>
                  </a:lnTo>
                  <a:lnTo>
                    <a:pt x="1303" y="608"/>
                  </a:lnTo>
                  <a:lnTo>
                    <a:pt x="1306" y="607"/>
                  </a:lnTo>
                  <a:lnTo>
                    <a:pt x="1312" y="607"/>
                  </a:lnTo>
                  <a:lnTo>
                    <a:pt x="1326" y="602"/>
                  </a:lnTo>
                  <a:lnTo>
                    <a:pt x="1342" y="594"/>
                  </a:lnTo>
                  <a:lnTo>
                    <a:pt x="1360" y="587"/>
                  </a:lnTo>
                  <a:lnTo>
                    <a:pt x="1378" y="580"/>
                  </a:lnTo>
                  <a:lnTo>
                    <a:pt x="1396" y="572"/>
                  </a:lnTo>
                  <a:lnTo>
                    <a:pt x="1411" y="567"/>
                  </a:lnTo>
                  <a:lnTo>
                    <a:pt x="1415" y="566"/>
                  </a:lnTo>
                  <a:lnTo>
                    <a:pt x="1418" y="567"/>
                  </a:lnTo>
                  <a:lnTo>
                    <a:pt x="1423" y="570"/>
                  </a:lnTo>
                  <a:lnTo>
                    <a:pt x="1427" y="572"/>
                  </a:lnTo>
                  <a:lnTo>
                    <a:pt x="1432" y="575"/>
                  </a:lnTo>
                  <a:lnTo>
                    <a:pt x="1438" y="577"/>
                  </a:lnTo>
                  <a:lnTo>
                    <a:pt x="1443" y="578"/>
                  </a:lnTo>
                  <a:lnTo>
                    <a:pt x="1449" y="577"/>
                  </a:lnTo>
                  <a:lnTo>
                    <a:pt x="1454" y="576"/>
                  </a:lnTo>
                  <a:lnTo>
                    <a:pt x="1459" y="574"/>
                  </a:lnTo>
                  <a:lnTo>
                    <a:pt x="1462" y="571"/>
                  </a:lnTo>
                  <a:lnTo>
                    <a:pt x="1466" y="569"/>
                  </a:lnTo>
                  <a:lnTo>
                    <a:pt x="1471" y="561"/>
                  </a:lnTo>
                  <a:lnTo>
                    <a:pt x="1476" y="553"/>
                  </a:lnTo>
                  <a:lnTo>
                    <a:pt x="1480" y="546"/>
                  </a:lnTo>
                  <a:lnTo>
                    <a:pt x="1485" y="540"/>
                  </a:lnTo>
                  <a:lnTo>
                    <a:pt x="1486" y="538"/>
                  </a:lnTo>
                  <a:lnTo>
                    <a:pt x="1488" y="537"/>
                  </a:lnTo>
                  <a:lnTo>
                    <a:pt x="1491" y="537"/>
                  </a:lnTo>
                  <a:lnTo>
                    <a:pt x="1493" y="537"/>
                  </a:lnTo>
                  <a:lnTo>
                    <a:pt x="1504" y="542"/>
                  </a:lnTo>
                  <a:lnTo>
                    <a:pt x="1515" y="546"/>
                  </a:lnTo>
                  <a:lnTo>
                    <a:pt x="1526" y="553"/>
                  </a:lnTo>
                  <a:lnTo>
                    <a:pt x="1538" y="558"/>
                  </a:lnTo>
                  <a:lnTo>
                    <a:pt x="1550" y="561"/>
                  </a:lnTo>
                  <a:lnTo>
                    <a:pt x="1561" y="564"/>
                  </a:lnTo>
                  <a:lnTo>
                    <a:pt x="1567" y="564"/>
                  </a:lnTo>
                  <a:lnTo>
                    <a:pt x="1573" y="564"/>
                  </a:lnTo>
                  <a:lnTo>
                    <a:pt x="1579" y="562"/>
                  </a:lnTo>
                  <a:lnTo>
                    <a:pt x="1586" y="561"/>
                  </a:lnTo>
                  <a:lnTo>
                    <a:pt x="1590" y="559"/>
                  </a:lnTo>
                  <a:lnTo>
                    <a:pt x="1595" y="555"/>
                  </a:lnTo>
                  <a:lnTo>
                    <a:pt x="1599" y="549"/>
                  </a:lnTo>
                  <a:lnTo>
                    <a:pt x="1602" y="543"/>
                  </a:lnTo>
                  <a:lnTo>
                    <a:pt x="1604" y="537"/>
                  </a:lnTo>
                  <a:lnTo>
                    <a:pt x="1605" y="533"/>
                  </a:lnTo>
                  <a:lnTo>
                    <a:pt x="1608" y="529"/>
                  </a:lnTo>
                  <a:lnTo>
                    <a:pt x="1610" y="529"/>
                  </a:lnTo>
                  <a:lnTo>
                    <a:pt x="1625" y="533"/>
                  </a:lnTo>
                  <a:lnTo>
                    <a:pt x="1640" y="537"/>
                  </a:lnTo>
                  <a:lnTo>
                    <a:pt x="1654" y="540"/>
                  </a:lnTo>
                  <a:lnTo>
                    <a:pt x="1670" y="542"/>
                  </a:lnTo>
                  <a:lnTo>
                    <a:pt x="1678" y="542"/>
                  </a:lnTo>
                  <a:lnTo>
                    <a:pt x="1684" y="540"/>
                  </a:lnTo>
                  <a:lnTo>
                    <a:pt x="1691" y="539"/>
                  </a:lnTo>
                  <a:lnTo>
                    <a:pt x="1697" y="537"/>
                  </a:lnTo>
                  <a:lnTo>
                    <a:pt x="1704" y="534"/>
                  </a:lnTo>
                  <a:lnTo>
                    <a:pt x="1709" y="529"/>
                  </a:lnTo>
                  <a:lnTo>
                    <a:pt x="1713" y="524"/>
                  </a:lnTo>
                  <a:lnTo>
                    <a:pt x="1718" y="518"/>
                  </a:lnTo>
                  <a:lnTo>
                    <a:pt x="1721" y="523"/>
                  </a:lnTo>
                  <a:lnTo>
                    <a:pt x="1723" y="529"/>
                  </a:lnTo>
                  <a:lnTo>
                    <a:pt x="1727" y="533"/>
                  </a:lnTo>
                  <a:lnTo>
                    <a:pt x="1732" y="537"/>
                  </a:lnTo>
                  <a:lnTo>
                    <a:pt x="1736" y="539"/>
                  </a:lnTo>
                  <a:lnTo>
                    <a:pt x="1741" y="542"/>
                  </a:lnTo>
                  <a:lnTo>
                    <a:pt x="1745" y="544"/>
                  </a:lnTo>
                  <a:lnTo>
                    <a:pt x="1752" y="545"/>
                  </a:lnTo>
                  <a:lnTo>
                    <a:pt x="1763" y="546"/>
                  </a:lnTo>
                  <a:lnTo>
                    <a:pt x="1774" y="546"/>
                  </a:lnTo>
                  <a:lnTo>
                    <a:pt x="1785" y="545"/>
                  </a:lnTo>
                  <a:lnTo>
                    <a:pt x="1795" y="543"/>
                  </a:lnTo>
                  <a:lnTo>
                    <a:pt x="1797" y="540"/>
                  </a:lnTo>
                  <a:lnTo>
                    <a:pt x="1801" y="538"/>
                  </a:lnTo>
                  <a:lnTo>
                    <a:pt x="1805" y="535"/>
                  </a:lnTo>
                  <a:lnTo>
                    <a:pt x="1807" y="532"/>
                  </a:lnTo>
                  <a:lnTo>
                    <a:pt x="1809" y="528"/>
                  </a:lnTo>
                  <a:lnTo>
                    <a:pt x="1811" y="523"/>
                  </a:lnTo>
                  <a:lnTo>
                    <a:pt x="1811" y="518"/>
                  </a:lnTo>
                  <a:lnTo>
                    <a:pt x="1808" y="512"/>
                  </a:lnTo>
                  <a:lnTo>
                    <a:pt x="1816" y="518"/>
                  </a:lnTo>
                  <a:lnTo>
                    <a:pt x="1823" y="524"/>
                  </a:lnTo>
                  <a:lnTo>
                    <a:pt x="1830" y="528"/>
                  </a:lnTo>
                  <a:lnTo>
                    <a:pt x="1839" y="532"/>
                  </a:lnTo>
                  <a:lnTo>
                    <a:pt x="1846" y="534"/>
                  </a:lnTo>
                  <a:lnTo>
                    <a:pt x="1855" y="537"/>
                  </a:lnTo>
                  <a:lnTo>
                    <a:pt x="1864" y="538"/>
                  </a:lnTo>
                  <a:lnTo>
                    <a:pt x="1872" y="538"/>
                  </a:lnTo>
                  <a:lnTo>
                    <a:pt x="1881" y="538"/>
                  </a:lnTo>
                  <a:lnTo>
                    <a:pt x="1889" y="537"/>
                  </a:lnTo>
                  <a:lnTo>
                    <a:pt x="1898" y="534"/>
                  </a:lnTo>
                  <a:lnTo>
                    <a:pt x="1908" y="533"/>
                  </a:lnTo>
                  <a:lnTo>
                    <a:pt x="1924" y="526"/>
                  </a:lnTo>
                  <a:lnTo>
                    <a:pt x="1941" y="518"/>
                  </a:lnTo>
                  <a:lnTo>
                    <a:pt x="1944" y="523"/>
                  </a:lnTo>
                  <a:lnTo>
                    <a:pt x="1947" y="528"/>
                  </a:lnTo>
                  <a:lnTo>
                    <a:pt x="1951" y="532"/>
                  </a:lnTo>
                  <a:lnTo>
                    <a:pt x="1956" y="534"/>
                  </a:lnTo>
                  <a:lnTo>
                    <a:pt x="1960" y="537"/>
                  </a:lnTo>
                  <a:lnTo>
                    <a:pt x="1964" y="539"/>
                  </a:lnTo>
                  <a:lnTo>
                    <a:pt x="1969" y="540"/>
                  </a:lnTo>
                  <a:lnTo>
                    <a:pt x="1974" y="543"/>
                  </a:lnTo>
                  <a:lnTo>
                    <a:pt x="1984" y="545"/>
                  </a:lnTo>
                  <a:lnTo>
                    <a:pt x="1994" y="546"/>
                  </a:lnTo>
                  <a:lnTo>
                    <a:pt x="2005" y="548"/>
                  </a:lnTo>
                  <a:lnTo>
                    <a:pt x="2016" y="548"/>
                  </a:lnTo>
                  <a:lnTo>
                    <a:pt x="2026" y="546"/>
                  </a:lnTo>
                  <a:lnTo>
                    <a:pt x="2037" y="545"/>
                  </a:lnTo>
                  <a:lnTo>
                    <a:pt x="2048" y="542"/>
                  </a:lnTo>
                  <a:lnTo>
                    <a:pt x="2058" y="537"/>
                  </a:lnTo>
                  <a:lnTo>
                    <a:pt x="2058" y="543"/>
                  </a:lnTo>
                  <a:lnTo>
                    <a:pt x="2059" y="548"/>
                  </a:lnTo>
                  <a:lnTo>
                    <a:pt x="2062" y="551"/>
                  </a:lnTo>
                  <a:lnTo>
                    <a:pt x="2063" y="555"/>
                  </a:lnTo>
                  <a:lnTo>
                    <a:pt x="2069" y="560"/>
                  </a:lnTo>
                  <a:lnTo>
                    <a:pt x="2076" y="562"/>
                  </a:lnTo>
                  <a:lnTo>
                    <a:pt x="2084" y="566"/>
                  </a:lnTo>
                  <a:lnTo>
                    <a:pt x="2092" y="567"/>
                  </a:lnTo>
                  <a:lnTo>
                    <a:pt x="2100" y="571"/>
                  </a:lnTo>
                  <a:lnTo>
                    <a:pt x="2107" y="575"/>
                  </a:lnTo>
                  <a:lnTo>
                    <a:pt x="2112" y="578"/>
                  </a:lnTo>
                  <a:lnTo>
                    <a:pt x="2119" y="580"/>
                  </a:lnTo>
                  <a:lnTo>
                    <a:pt x="2127" y="581"/>
                  </a:lnTo>
                  <a:lnTo>
                    <a:pt x="2134" y="580"/>
                  </a:lnTo>
                  <a:lnTo>
                    <a:pt x="2143" y="577"/>
                  </a:lnTo>
                  <a:lnTo>
                    <a:pt x="2151" y="575"/>
                  </a:lnTo>
                  <a:lnTo>
                    <a:pt x="2159" y="570"/>
                  </a:lnTo>
                  <a:lnTo>
                    <a:pt x="2166" y="564"/>
                  </a:lnTo>
                  <a:lnTo>
                    <a:pt x="2170" y="564"/>
                  </a:lnTo>
                  <a:lnTo>
                    <a:pt x="2172" y="564"/>
                  </a:lnTo>
                  <a:lnTo>
                    <a:pt x="2176" y="565"/>
                  </a:lnTo>
                  <a:lnTo>
                    <a:pt x="2179" y="567"/>
                  </a:lnTo>
                  <a:lnTo>
                    <a:pt x="2187" y="575"/>
                  </a:lnTo>
                  <a:lnTo>
                    <a:pt x="2196" y="583"/>
                  </a:lnTo>
                  <a:lnTo>
                    <a:pt x="2204" y="592"/>
                  </a:lnTo>
                  <a:lnTo>
                    <a:pt x="2213" y="601"/>
                  </a:lnTo>
                  <a:lnTo>
                    <a:pt x="2218" y="604"/>
                  </a:lnTo>
                  <a:lnTo>
                    <a:pt x="2223" y="607"/>
                  </a:lnTo>
                  <a:lnTo>
                    <a:pt x="2228" y="609"/>
                  </a:lnTo>
                  <a:lnTo>
                    <a:pt x="2231" y="610"/>
                  </a:lnTo>
                  <a:lnTo>
                    <a:pt x="2241" y="612"/>
                  </a:lnTo>
                  <a:lnTo>
                    <a:pt x="2250" y="613"/>
                  </a:lnTo>
                  <a:lnTo>
                    <a:pt x="2257" y="614"/>
                  </a:lnTo>
                  <a:lnTo>
                    <a:pt x="2266" y="617"/>
                  </a:lnTo>
                  <a:lnTo>
                    <a:pt x="2274" y="617"/>
                  </a:lnTo>
                  <a:lnTo>
                    <a:pt x="2282" y="618"/>
                  </a:lnTo>
                  <a:lnTo>
                    <a:pt x="2290" y="617"/>
                  </a:lnTo>
                  <a:lnTo>
                    <a:pt x="2300" y="615"/>
                  </a:lnTo>
                  <a:lnTo>
                    <a:pt x="2299" y="621"/>
                  </a:lnTo>
                  <a:lnTo>
                    <a:pt x="2299" y="626"/>
                  </a:lnTo>
                  <a:lnTo>
                    <a:pt x="2298" y="631"/>
                  </a:lnTo>
                  <a:lnTo>
                    <a:pt x="2298" y="636"/>
                  </a:lnTo>
                  <a:lnTo>
                    <a:pt x="2298" y="641"/>
                  </a:lnTo>
                  <a:lnTo>
                    <a:pt x="2298" y="646"/>
                  </a:lnTo>
                  <a:lnTo>
                    <a:pt x="2298" y="650"/>
                  </a:lnTo>
                  <a:lnTo>
                    <a:pt x="2300" y="653"/>
                  </a:lnTo>
                  <a:lnTo>
                    <a:pt x="2304" y="658"/>
                  </a:lnTo>
                  <a:lnTo>
                    <a:pt x="2308" y="662"/>
                  </a:lnTo>
                  <a:lnTo>
                    <a:pt x="2313" y="666"/>
                  </a:lnTo>
                  <a:lnTo>
                    <a:pt x="2318" y="668"/>
                  </a:lnTo>
                  <a:lnTo>
                    <a:pt x="2329" y="673"/>
                  </a:lnTo>
                  <a:lnTo>
                    <a:pt x="2340" y="676"/>
                  </a:lnTo>
                  <a:lnTo>
                    <a:pt x="2351" y="678"/>
                  </a:lnTo>
                  <a:lnTo>
                    <a:pt x="2359" y="682"/>
                  </a:lnTo>
                  <a:lnTo>
                    <a:pt x="2363" y="683"/>
                  </a:lnTo>
                  <a:lnTo>
                    <a:pt x="2367" y="685"/>
                  </a:lnTo>
                  <a:lnTo>
                    <a:pt x="2369" y="688"/>
                  </a:lnTo>
                  <a:lnTo>
                    <a:pt x="2370" y="692"/>
                  </a:lnTo>
                  <a:lnTo>
                    <a:pt x="2374" y="700"/>
                  </a:lnTo>
                  <a:lnTo>
                    <a:pt x="2378" y="708"/>
                  </a:lnTo>
                  <a:lnTo>
                    <a:pt x="2383" y="715"/>
                  </a:lnTo>
                  <a:lnTo>
                    <a:pt x="2388" y="722"/>
                  </a:lnTo>
                  <a:lnTo>
                    <a:pt x="2399" y="735"/>
                  </a:lnTo>
                  <a:lnTo>
                    <a:pt x="2411" y="747"/>
                  </a:lnTo>
                  <a:lnTo>
                    <a:pt x="2425" y="757"/>
                  </a:lnTo>
                  <a:lnTo>
                    <a:pt x="2438" y="767"/>
                  </a:lnTo>
                  <a:lnTo>
                    <a:pt x="2450" y="776"/>
                  </a:lnTo>
                  <a:lnTo>
                    <a:pt x="2463" y="786"/>
                  </a:lnTo>
                  <a:lnTo>
                    <a:pt x="2471" y="796"/>
                  </a:lnTo>
                  <a:lnTo>
                    <a:pt x="2479" y="805"/>
                  </a:lnTo>
                  <a:lnTo>
                    <a:pt x="2486" y="816"/>
                  </a:lnTo>
                  <a:lnTo>
                    <a:pt x="2492" y="827"/>
                  </a:lnTo>
                  <a:lnTo>
                    <a:pt x="2498" y="839"/>
                  </a:lnTo>
                  <a:lnTo>
                    <a:pt x="2505" y="850"/>
                  </a:lnTo>
                  <a:lnTo>
                    <a:pt x="2509" y="863"/>
                  </a:lnTo>
                  <a:lnTo>
                    <a:pt x="2514" y="874"/>
                  </a:lnTo>
                  <a:lnTo>
                    <a:pt x="2519" y="888"/>
                  </a:lnTo>
                  <a:lnTo>
                    <a:pt x="2525" y="903"/>
                  </a:lnTo>
                  <a:lnTo>
                    <a:pt x="2532" y="918"/>
                  </a:lnTo>
                  <a:lnTo>
                    <a:pt x="2538" y="933"/>
                  </a:lnTo>
                  <a:lnTo>
                    <a:pt x="2545" y="947"/>
                  </a:lnTo>
                  <a:lnTo>
                    <a:pt x="2550" y="962"/>
                  </a:lnTo>
                  <a:lnTo>
                    <a:pt x="2555" y="978"/>
                  </a:lnTo>
                  <a:lnTo>
                    <a:pt x="2557" y="993"/>
                  </a:lnTo>
                  <a:lnTo>
                    <a:pt x="2566" y="1022"/>
                  </a:lnTo>
                  <a:lnTo>
                    <a:pt x="2572" y="1052"/>
                  </a:lnTo>
                  <a:lnTo>
                    <a:pt x="2578" y="1083"/>
                  </a:lnTo>
                  <a:lnTo>
                    <a:pt x="2582" y="1113"/>
                  </a:lnTo>
                  <a:lnTo>
                    <a:pt x="2586" y="1144"/>
                  </a:lnTo>
                  <a:lnTo>
                    <a:pt x="2588" y="1175"/>
                  </a:lnTo>
                  <a:lnTo>
                    <a:pt x="2589" y="1207"/>
                  </a:lnTo>
                  <a:lnTo>
                    <a:pt x="2591" y="1238"/>
                  </a:lnTo>
                  <a:lnTo>
                    <a:pt x="2589" y="1270"/>
                  </a:lnTo>
                  <a:lnTo>
                    <a:pt x="2589" y="1299"/>
                  </a:lnTo>
                  <a:lnTo>
                    <a:pt x="2587" y="1330"/>
                  </a:lnTo>
                  <a:lnTo>
                    <a:pt x="2584" y="1359"/>
                  </a:lnTo>
                  <a:lnTo>
                    <a:pt x="2578" y="1416"/>
                  </a:lnTo>
                  <a:lnTo>
                    <a:pt x="2571" y="1469"/>
                  </a:lnTo>
                  <a:lnTo>
                    <a:pt x="2580" y="1468"/>
                  </a:lnTo>
                  <a:lnTo>
                    <a:pt x="2587" y="1465"/>
                  </a:lnTo>
                  <a:lnTo>
                    <a:pt x="2594" y="1462"/>
                  </a:lnTo>
                  <a:lnTo>
                    <a:pt x="2602" y="1458"/>
                  </a:lnTo>
                  <a:lnTo>
                    <a:pt x="2608" y="1452"/>
                  </a:lnTo>
                  <a:lnTo>
                    <a:pt x="2614" y="1447"/>
                  </a:lnTo>
                  <a:lnTo>
                    <a:pt x="2620" y="1442"/>
                  </a:lnTo>
                  <a:lnTo>
                    <a:pt x="2626" y="1436"/>
                  </a:lnTo>
                  <a:lnTo>
                    <a:pt x="2629" y="1432"/>
                  </a:lnTo>
                  <a:lnTo>
                    <a:pt x="2631" y="1427"/>
                  </a:lnTo>
                  <a:lnTo>
                    <a:pt x="2631" y="1421"/>
                  </a:lnTo>
                  <a:lnTo>
                    <a:pt x="2631" y="1416"/>
                  </a:lnTo>
                  <a:lnTo>
                    <a:pt x="2631" y="1411"/>
                  </a:lnTo>
                  <a:lnTo>
                    <a:pt x="2631" y="1407"/>
                  </a:lnTo>
                  <a:lnTo>
                    <a:pt x="2632" y="1404"/>
                  </a:lnTo>
                  <a:lnTo>
                    <a:pt x="2634" y="1400"/>
                  </a:lnTo>
                  <a:lnTo>
                    <a:pt x="2645" y="1394"/>
                  </a:lnTo>
                  <a:lnTo>
                    <a:pt x="2653" y="1385"/>
                  </a:lnTo>
                  <a:lnTo>
                    <a:pt x="2660" y="1377"/>
                  </a:lnTo>
                  <a:lnTo>
                    <a:pt x="2664" y="1369"/>
                  </a:lnTo>
                  <a:lnTo>
                    <a:pt x="2668" y="1359"/>
                  </a:lnTo>
                  <a:lnTo>
                    <a:pt x="2671" y="1351"/>
                  </a:lnTo>
                  <a:lnTo>
                    <a:pt x="2671" y="1342"/>
                  </a:lnTo>
                  <a:lnTo>
                    <a:pt x="2669" y="1332"/>
                  </a:lnTo>
                  <a:lnTo>
                    <a:pt x="2667" y="1321"/>
                  </a:lnTo>
                  <a:lnTo>
                    <a:pt x="2667" y="1312"/>
                  </a:lnTo>
                  <a:lnTo>
                    <a:pt x="2669" y="1302"/>
                  </a:lnTo>
                  <a:lnTo>
                    <a:pt x="2672" y="1293"/>
                  </a:lnTo>
                  <a:lnTo>
                    <a:pt x="2676" y="1284"/>
                  </a:lnTo>
                  <a:lnTo>
                    <a:pt x="2680" y="1276"/>
                  </a:lnTo>
                  <a:lnTo>
                    <a:pt x="2685" y="1267"/>
                  </a:lnTo>
                  <a:lnTo>
                    <a:pt x="2692" y="1260"/>
                  </a:lnTo>
                  <a:lnTo>
                    <a:pt x="2693" y="1254"/>
                  </a:lnTo>
                  <a:lnTo>
                    <a:pt x="2693" y="1249"/>
                  </a:lnTo>
                  <a:lnTo>
                    <a:pt x="2693" y="1243"/>
                  </a:lnTo>
                  <a:lnTo>
                    <a:pt x="2692" y="1236"/>
                  </a:lnTo>
                  <a:lnTo>
                    <a:pt x="2690" y="1230"/>
                  </a:lnTo>
                  <a:lnTo>
                    <a:pt x="2687" y="1224"/>
                  </a:lnTo>
                  <a:lnTo>
                    <a:pt x="2684" y="1218"/>
                  </a:lnTo>
                  <a:lnTo>
                    <a:pt x="2680" y="1213"/>
                  </a:lnTo>
                  <a:lnTo>
                    <a:pt x="2679" y="1211"/>
                  </a:lnTo>
                  <a:lnTo>
                    <a:pt x="2679" y="1208"/>
                  </a:lnTo>
                  <a:lnTo>
                    <a:pt x="2679" y="1204"/>
                  </a:lnTo>
                  <a:lnTo>
                    <a:pt x="2680" y="1202"/>
                  </a:lnTo>
                  <a:lnTo>
                    <a:pt x="2683" y="1196"/>
                  </a:lnTo>
                  <a:lnTo>
                    <a:pt x="2688" y="1190"/>
                  </a:lnTo>
                  <a:lnTo>
                    <a:pt x="2694" y="1182"/>
                  </a:lnTo>
                  <a:lnTo>
                    <a:pt x="2699" y="1177"/>
                  </a:lnTo>
                  <a:lnTo>
                    <a:pt x="2703" y="1171"/>
                  </a:lnTo>
                  <a:lnTo>
                    <a:pt x="2705" y="1168"/>
                  </a:lnTo>
                  <a:lnTo>
                    <a:pt x="2706" y="1160"/>
                  </a:lnTo>
                  <a:lnTo>
                    <a:pt x="2708" y="1154"/>
                  </a:lnTo>
                  <a:lnTo>
                    <a:pt x="2708" y="1147"/>
                  </a:lnTo>
                  <a:lnTo>
                    <a:pt x="2706" y="1142"/>
                  </a:lnTo>
                  <a:lnTo>
                    <a:pt x="2705" y="1129"/>
                  </a:lnTo>
                  <a:lnTo>
                    <a:pt x="2701" y="1120"/>
                  </a:lnTo>
                  <a:lnTo>
                    <a:pt x="2698" y="1109"/>
                  </a:lnTo>
                  <a:lnTo>
                    <a:pt x="2695" y="1099"/>
                  </a:lnTo>
                  <a:lnTo>
                    <a:pt x="2695" y="1089"/>
                  </a:lnTo>
                  <a:lnTo>
                    <a:pt x="2696" y="1078"/>
                  </a:lnTo>
                  <a:lnTo>
                    <a:pt x="2699" y="1066"/>
                  </a:lnTo>
                  <a:lnTo>
                    <a:pt x="2703" y="1053"/>
                  </a:lnTo>
                  <a:lnTo>
                    <a:pt x="2706" y="1041"/>
                  </a:lnTo>
                  <a:lnTo>
                    <a:pt x="2710" y="1027"/>
                  </a:lnTo>
                  <a:lnTo>
                    <a:pt x="2714" y="1014"/>
                  </a:lnTo>
                  <a:lnTo>
                    <a:pt x="2716" y="1000"/>
                  </a:lnTo>
                  <a:lnTo>
                    <a:pt x="2719" y="986"/>
                  </a:lnTo>
                  <a:lnTo>
                    <a:pt x="2719" y="972"/>
                  </a:lnTo>
                  <a:lnTo>
                    <a:pt x="2716" y="967"/>
                  </a:lnTo>
                  <a:lnTo>
                    <a:pt x="2714" y="963"/>
                  </a:lnTo>
                  <a:lnTo>
                    <a:pt x="2710" y="962"/>
                  </a:lnTo>
                  <a:lnTo>
                    <a:pt x="2708" y="960"/>
                  </a:lnTo>
                  <a:lnTo>
                    <a:pt x="2704" y="958"/>
                  </a:lnTo>
                  <a:lnTo>
                    <a:pt x="2701" y="957"/>
                  </a:lnTo>
                  <a:lnTo>
                    <a:pt x="2701" y="955"/>
                  </a:lnTo>
                  <a:lnTo>
                    <a:pt x="2701" y="952"/>
                  </a:lnTo>
                  <a:lnTo>
                    <a:pt x="2706" y="945"/>
                  </a:lnTo>
                  <a:lnTo>
                    <a:pt x="2710" y="938"/>
                  </a:lnTo>
                  <a:lnTo>
                    <a:pt x="2712" y="930"/>
                  </a:lnTo>
                  <a:lnTo>
                    <a:pt x="2714" y="924"/>
                  </a:lnTo>
                  <a:lnTo>
                    <a:pt x="2714" y="917"/>
                  </a:lnTo>
                  <a:lnTo>
                    <a:pt x="2712" y="911"/>
                  </a:lnTo>
                  <a:lnTo>
                    <a:pt x="2711" y="906"/>
                  </a:lnTo>
                  <a:lnTo>
                    <a:pt x="2708" y="901"/>
                  </a:lnTo>
                  <a:lnTo>
                    <a:pt x="2704" y="896"/>
                  </a:lnTo>
                  <a:lnTo>
                    <a:pt x="2700" y="891"/>
                  </a:lnTo>
                  <a:lnTo>
                    <a:pt x="2699" y="886"/>
                  </a:lnTo>
                  <a:lnTo>
                    <a:pt x="2698" y="881"/>
                  </a:lnTo>
                  <a:lnTo>
                    <a:pt x="2698" y="871"/>
                  </a:lnTo>
                  <a:lnTo>
                    <a:pt x="2699" y="860"/>
                  </a:lnTo>
                  <a:lnTo>
                    <a:pt x="2700" y="850"/>
                  </a:lnTo>
                  <a:lnTo>
                    <a:pt x="2701" y="840"/>
                  </a:lnTo>
                  <a:lnTo>
                    <a:pt x="2701" y="835"/>
                  </a:lnTo>
                  <a:lnTo>
                    <a:pt x="2700" y="831"/>
                  </a:lnTo>
                  <a:lnTo>
                    <a:pt x="2699" y="827"/>
                  </a:lnTo>
                  <a:lnTo>
                    <a:pt x="2696" y="822"/>
                  </a:lnTo>
                  <a:lnTo>
                    <a:pt x="2692" y="817"/>
                  </a:lnTo>
                  <a:lnTo>
                    <a:pt x="2687" y="813"/>
                  </a:lnTo>
                  <a:lnTo>
                    <a:pt x="2682" y="808"/>
                  </a:lnTo>
                  <a:lnTo>
                    <a:pt x="2676" y="805"/>
                  </a:lnTo>
                  <a:lnTo>
                    <a:pt x="2671" y="802"/>
                  </a:lnTo>
                  <a:lnTo>
                    <a:pt x="2664" y="799"/>
                  </a:lnTo>
                  <a:lnTo>
                    <a:pt x="2660" y="795"/>
                  </a:lnTo>
                  <a:lnTo>
                    <a:pt x="2656" y="792"/>
                  </a:lnTo>
                  <a:lnTo>
                    <a:pt x="2653" y="790"/>
                  </a:lnTo>
                  <a:lnTo>
                    <a:pt x="2652" y="786"/>
                  </a:lnTo>
                  <a:lnTo>
                    <a:pt x="2651" y="784"/>
                  </a:lnTo>
                  <a:lnTo>
                    <a:pt x="2651" y="780"/>
                  </a:lnTo>
                  <a:lnTo>
                    <a:pt x="2652" y="773"/>
                  </a:lnTo>
                  <a:lnTo>
                    <a:pt x="2653" y="764"/>
                  </a:lnTo>
                  <a:lnTo>
                    <a:pt x="2655" y="757"/>
                  </a:lnTo>
                  <a:lnTo>
                    <a:pt x="2655" y="749"/>
                  </a:lnTo>
                  <a:lnTo>
                    <a:pt x="2655" y="746"/>
                  </a:lnTo>
                  <a:lnTo>
                    <a:pt x="2652" y="742"/>
                  </a:lnTo>
                  <a:lnTo>
                    <a:pt x="2651" y="738"/>
                  </a:lnTo>
                  <a:lnTo>
                    <a:pt x="2647" y="735"/>
                  </a:lnTo>
                  <a:lnTo>
                    <a:pt x="2646" y="733"/>
                  </a:lnTo>
                  <a:lnTo>
                    <a:pt x="2644" y="731"/>
                  </a:lnTo>
                  <a:lnTo>
                    <a:pt x="2641" y="727"/>
                  </a:lnTo>
                  <a:lnTo>
                    <a:pt x="2639" y="724"/>
                  </a:lnTo>
                  <a:lnTo>
                    <a:pt x="2636" y="720"/>
                  </a:lnTo>
                  <a:lnTo>
                    <a:pt x="2631" y="717"/>
                  </a:lnTo>
                  <a:lnTo>
                    <a:pt x="2626" y="716"/>
                  </a:lnTo>
                  <a:lnTo>
                    <a:pt x="2620" y="716"/>
                  </a:lnTo>
                  <a:lnTo>
                    <a:pt x="2620" y="703"/>
                  </a:lnTo>
                  <a:lnTo>
                    <a:pt x="2620" y="690"/>
                  </a:lnTo>
                  <a:lnTo>
                    <a:pt x="2620" y="678"/>
                  </a:lnTo>
                  <a:lnTo>
                    <a:pt x="2618" y="666"/>
                  </a:lnTo>
                  <a:lnTo>
                    <a:pt x="2615" y="653"/>
                  </a:lnTo>
                  <a:lnTo>
                    <a:pt x="2612" y="642"/>
                  </a:lnTo>
                  <a:lnTo>
                    <a:pt x="2604" y="631"/>
                  </a:lnTo>
                  <a:lnTo>
                    <a:pt x="2596" y="621"/>
                  </a:lnTo>
                  <a:lnTo>
                    <a:pt x="2593" y="618"/>
                  </a:lnTo>
                  <a:lnTo>
                    <a:pt x="2592" y="614"/>
                  </a:lnTo>
                  <a:lnTo>
                    <a:pt x="2593" y="609"/>
                  </a:lnTo>
                  <a:lnTo>
                    <a:pt x="2594" y="604"/>
                  </a:lnTo>
                  <a:lnTo>
                    <a:pt x="2597" y="599"/>
                  </a:lnTo>
                  <a:lnTo>
                    <a:pt x="2599" y="593"/>
                  </a:lnTo>
                  <a:lnTo>
                    <a:pt x="2600" y="588"/>
                  </a:lnTo>
                  <a:lnTo>
                    <a:pt x="2602" y="583"/>
                  </a:lnTo>
                  <a:lnTo>
                    <a:pt x="2598" y="575"/>
                  </a:lnTo>
                  <a:lnTo>
                    <a:pt x="2594" y="569"/>
                  </a:lnTo>
                  <a:lnTo>
                    <a:pt x="2589" y="562"/>
                  </a:lnTo>
                  <a:lnTo>
                    <a:pt x="2582" y="558"/>
                  </a:lnTo>
                  <a:lnTo>
                    <a:pt x="2575" y="554"/>
                  </a:lnTo>
                  <a:lnTo>
                    <a:pt x="2566" y="551"/>
                  </a:lnTo>
                  <a:lnTo>
                    <a:pt x="2557" y="548"/>
                  </a:lnTo>
                  <a:lnTo>
                    <a:pt x="2546" y="545"/>
                  </a:lnTo>
                  <a:lnTo>
                    <a:pt x="2545" y="542"/>
                  </a:lnTo>
                  <a:lnTo>
                    <a:pt x="2543" y="534"/>
                  </a:lnTo>
                  <a:lnTo>
                    <a:pt x="2541" y="524"/>
                  </a:lnTo>
                  <a:lnTo>
                    <a:pt x="2539" y="514"/>
                  </a:lnTo>
                  <a:lnTo>
                    <a:pt x="2538" y="510"/>
                  </a:lnTo>
                  <a:lnTo>
                    <a:pt x="2535" y="505"/>
                  </a:lnTo>
                  <a:lnTo>
                    <a:pt x="2533" y="500"/>
                  </a:lnTo>
                  <a:lnTo>
                    <a:pt x="2530" y="496"/>
                  </a:lnTo>
                  <a:lnTo>
                    <a:pt x="2525" y="494"/>
                  </a:lnTo>
                  <a:lnTo>
                    <a:pt x="2521" y="492"/>
                  </a:lnTo>
                  <a:lnTo>
                    <a:pt x="2516" y="492"/>
                  </a:lnTo>
                  <a:lnTo>
                    <a:pt x="2509" y="494"/>
                  </a:lnTo>
                  <a:lnTo>
                    <a:pt x="2512" y="489"/>
                  </a:lnTo>
                  <a:lnTo>
                    <a:pt x="2514" y="484"/>
                  </a:lnTo>
                  <a:lnTo>
                    <a:pt x="2516" y="478"/>
                  </a:lnTo>
                  <a:lnTo>
                    <a:pt x="2517" y="473"/>
                  </a:lnTo>
                  <a:lnTo>
                    <a:pt x="2517" y="468"/>
                  </a:lnTo>
                  <a:lnTo>
                    <a:pt x="2517" y="463"/>
                  </a:lnTo>
                  <a:lnTo>
                    <a:pt x="2516" y="458"/>
                  </a:lnTo>
                  <a:lnTo>
                    <a:pt x="2514" y="453"/>
                  </a:lnTo>
                  <a:lnTo>
                    <a:pt x="2511" y="447"/>
                  </a:lnTo>
                  <a:lnTo>
                    <a:pt x="2508" y="441"/>
                  </a:lnTo>
                  <a:lnTo>
                    <a:pt x="2503" y="435"/>
                  </a:lnTo>
                  <a:lnTo>
                    <a:pt x="2500" y="430"/>
                  </a:lnTo>
                  <a:lnTo>
                    <a:pt x="2495" y="425"/>
                  </a:lnTo>
                  <a:lnTo>
                    <a:pt x="2489" y="421"/>
                  </a:lnTo>
                  <a:lnTo>
                    <a:pt x="2484" y="417"/>
                  </a:lnTo>
                  <a:lnTo>
                    <a:pt x="2476" y="415"/>
                  </a:lnTo>
                  <a:lnTo>
                    <a:pt x="2474" y="414"/>
                  </a:lnTo>
                  <a:lnTo>
                    <a:pt x="2470" y="414"/>
                  </a:lnTo>
                  <a:lnTo>
                    <a:pt x="2468" y="414"/>
                  </a:lnTo>
                  <a:lnTo>
                    <a:pt x="2466" y="414"/>
                  </a:lnTo>
                  <a:lnTo>
                    <a:pt x="2464" y="414"/>
                  </a:lnTo>
                  <a:lnTo>
                    <a:pt x="2461" y="415"/>
                  </a:lnTo>
                  <a:lnTo>
                    <a:pt x="2459" y="415"/>
                  </a:lnTo>
                  <a:lnTo>
                    <a:pt x="2458" y="415"/>
                  </a:lnTo>
                  <a:lnTo>
                    <a:pt x="2461" y="409"/>
                  </a:lnTo>
                  <a:lnTo>
                    <a:pt x="2464" y="403"/>
                  </a:lnTo>
                  <a:lnTo>
                    <a:pt x="2465" y="395"/>
                  </a:lnTo>
                  <a:lnTo>
                    <a:pt x="2464" y="389"/>
                  </a:lnTo>
                  <a:lnTo>
                    <a:pt x="2461" y="384"/>
                  </a:lnTo>
                  <a:lnTo>
                    <a:pt x="2459" y="378"/>
                  </a:lnTo>
                  <a:lnTo>
                    <a:pt x="2455" y="373"/>
                  </a:lnTo>
                  <a:lnTo>
                    <a:pt x="2452" y="368"/>
                  </a:lnTo>
                  <a:lnTo>
                    <a:pt x="2444" y="359"/>
                  </a:lnTo>
                  <a:lnTo>
                    <a:pt x="2436" y="352"/>
                  </a:lnTo>
                  <a:lnTo>
                    <a:pt x="2427" y="346"/>
                  </a:lnTo>
                  <a:lnTo>
                    <a:pt x="2418" y="340"/>
                  </a:lnTo>
                  <a:lnTo>
                    <a:pt x="2410" y="335"/>
                  </a:lnTo>
                  <a:lnTo>
                    <a:pt x="2400" y="328"/>
                  </a:lnTo>
                  <a:lnTo>
                    <a:pt x="2390" y="320"/>
                  </a:lnTo>
                  <a:lnTo>
                    <a:pt x="2381" y="312"/>
                  </a:lnTo>
                  <a:lnTo>
                    <a:pt x="2378" y="308"/>
                  </a:lnTo>
                  <a:lnTo>
                    <a:pt x="2373" y="305"/>
                  </a:lnTo>
                  <a:lnTo>
                    <a:pt x="2367" y="303"/>
                  </a:lnTo>
                  <a:lnTo>
                    <a:pt x="2361" y="300"/>
                  </a:lnTo>
                  <a:lnTo>
                    <a:pt x="2354" y="299"/>
                  </a:lnTo>
                  <a:lnTo>
                    <a:pt x="2350" y="297"/>
                  </a:lnTo>
                  <a:lnTo>
                    <a:pt x="2345" y="296"/>
                  </a:lnTo>
                  <a:lnTo>
                    <a:pt x="2341" y="292"/>
                  </a:lnTo>
                  <a:lnTo>
                    <a:pt x="2335" y="286"/>
                  </a:lnTo>
                  <a:lnTo>
                    <a:pt x="2330" y="278"/>
                  </a:lnTo>
                  <a:lnTo>
                    <a:pt x="2324" y="272"/>
                  </a:lnTo>
                  <a:lnTo>
                    <a:pt x="2318" y="266"/>
                  </a:lnTo>
                  <a:lnTo>
                    <a:pt x="2310" y="260"/>
                  </a:lnTo>
                  <a:lnTo>
                    <a:pt x="2304" y="254"/>
                  </a:lnTo>
                  <a:lnTo>
                    <a:pt x="2298" y="249"/>
                  </a:lnTo>
                  <a:lnTo>
                    <a:pt x="2292" y="244"/>
                  </a:lnTo>
                  <a:lnTo>
                    <a:pt x="2279" y="245"/>
                  </a:lnTo>
                  <a:lnTo>
                    <a:pt x="2268" y="245"/>
                  </a:lnTo>
                  <a:lnTo>
                    <a:pt x="2261" y="243"/>
                  </a:lnTo>
                  <a:lnTo>
                    <a:pt x="2255" y="240"/>
                  </a:lnTo>
                  <a:lnTo>
                    <a:pt x="2249" y="235"/>
                  </a:lnTo>
                  <a:lnTo>
                    <a:pt x="2242" y="229"/>
                  </a:lnTo>
                  <a:lnTo>
                    <a:pt x="2236" y="222"/>
                  </a:lnTo>
                  <a:lnTo>
                    <a:pt x="2229" y="213"/>
                  </a:lnTo>
                  <a:lnTo>
                    <a:pt x="2224" y="209"/>
                  </a:lnTo>
                  <a:lnTo>
                    <a:pt x="2218" y="207"/>
                  </a:lnTo>
                  <a:lnTo>
                    <a:pt x="2210" y="205"/>
                  </a:lnTo>
                  <a:lnTo>
                    <a:pt x="2202" y="203"/>
                  </a:lnTo>
                  <a:lnTo>
                    <a:pt x="2193" y="203"/>
                  </a:lnTo>
                  <a:lnTo>
                    <a:pt x="2183" y="205"/>
                  </a:lnTo>
                  <a:lnTo>
                    <a:pt x="2175" y="207"/>
                  </a:lnTo>
                  <a:lnTo>
                    <a:pt x="2166" y="211"/>
                  </a:lnTo>
                  <a:lnTo>
                    <a:pt x="2170" y="205"/>
                  </a:lnTo>
                  <a:lnTo>
                    <a:pt x="2172" y="197"/>
                  </a:lnTo>
                  <a:lnTo>
                    <a:pt x="2174" y="191"/>
                  </a:lnTo>
                  <a:lnTo>
                    <a:pt x="2174" y="186"/>
                  </a:lnTo>
                  <a:lnTo>
                    <a:pt x="2171" y="180"/>
                  </a:lnTo>
                  <a:lnTo>
                    <a:pt x="2169" y="175"/>
                  </a:lnTo>
                  <a:lnTo>
                    <a:pt x="2166" y="170"/>
                  </a:lnTo>
                  <a:lnTo>
                    <a:pt x="2161" y="165"/>
                  </a:lnTo>
                  <a:lnTo>
                    <a:pt x="2155" y="160"/>
                  </a:lnTo>
                  <a:lnTo>
                    <a:pt x="2149" y="157"/>
                  </a:lnTo>
                  <a:lnTo>
                    <a:pt x="2143" y="154"/>
                  </a:lnTo>
                  <a:lnTo>
                    <a:pt x="2137" y="152"/>
                  </a:lnTo>
                  <a:lnTo>
                    <a:pt x="2124" y="150"/>
                  </a:lnTo>
                  <a:lnTo>
                    <a:pt x="2111" y="150"/>
                  </a:lnTo>
                  <a:lnTo>
                    <a:pt x="2099" y="150"/>
                  </a:lnTo>
                  <a:lnTo>
                    <a:pt x="2089" y="149"/>
                  </a:lnTo>
                  <a:lnTo>
                    <a:pt x="2084" y="149"/>
                  </a:lnTo>
                  <a:lnTo>
                    <a:pt x="2079" y="148"/>
                  </a:lnTo>
                  <a:lnTo>
                    <a:pt x="2075" y="145"/>
                  </a:lnTo>
                  <a:lnTo>
                    <a:pt x="2071" y="143"/>
                  </a:lnTo>
                  <a:lnTo>
                    <a:pt x="2062" y="134"/>
                  </a:lnTo>
                  <a:lnTo>
                    <a:pt x="2052" y="125"/>
                  </a:lnTo>
                  <a:lnTo>
                    <a:pt x="2041" y="116"/>
                  </a:lnTo>
                  <a:lnTo>
                    <a:pt x="2030" y="107"/>
                  </a:lnTo>
                  <a:lnTo>
                    <a:pt x="2023" y="104"/>
                  </a:lnTo>
                  <a:lnTo>
                    <a:pt x="2019" y="101"/>
                  </a:lnTo>
                  <a:lnTo>
                    <a:pt x="2012" y="99"/>
                  </a:lnTo>
                  <a:lnTo>
                    <a:pt x="2006" y="97"/>
                  </a:lnTo>
                  <a:lnTo>
                    <a:pt x="2000" y="97"/>
                  </a:lnTo>
                  <a:lnTo>
                    <a:pt x="1994" y="97"/>
                  </a:lnTo>
                  <a:lnTo>
                    <a:pt x="1988" y="100"/>
                  </a:lnTo>
                  <a:lnTo>
                    <a:pt x="1982" y="102"/>
                  </a:lnTo>
                  <a:lnTo>
                    <a:pt x="1979" y="104"/>
                  </a:lnTo>
                  <a:lnTo>
                    <a:pt x="1977" y="105"/>
                  </a:lnTo>
                  <a:lnTo>
                    <a:pt x="1973" y="106"/>
                  </a:lnTo>
                  <a:lnTo>
                    <a:pt x="1969" y="107"/>
                  </a:lnTo>
                  <a:lnTo>
                    <a:pt x="1967" y="110"/>
                  </a:lnTo>
                  <a:lnTo>
                    <a:pt x="1964" y="112"/>
                  </a:lnTo>
                  <a:lnTo>
                    <a:pt x="1962" y="115"/>
                  </a:lnTo>
                  <a:lnTo>
                    <a:pt x="1960" y="118"/>
                  </a:lnTo>
                  <a:lnTo>
                    <a:pt x="1960" y="117"/>
                  </a:lnTo>
                  <a:lnTo>
                    <a:pt x="1960" y="115"/>
                  </a:lnTo>
                  <a:lnTo>
                    <a:pt x="1957" y="113"/>
                  </a:lnTo>
                  <a:lnTo>
                    <a:pt x="1955" y="113"/>
                  </a:lnTo>
                  <a:lnTo>
                    <a:pt x="1947" y="112"/>
                  </a:lnTo>
                  <a:lnTo>
                    <a:pt x="1937" y="111"/>
                  </a:lnTo>
                  <a:lnTo>
                    <a:pt x="1928" y="111"/>
                  </a:lnTo>
                  <a:lnTo>
                    <a:pt x="1915" y="111"/>
                  </a:lnTo>
                  <a:lnTo>
                    <a:pt x="1905" y="111"/>
                  </a:lnTo>
                  <a:lnTo>
                    <a:pt x="1894" y="111"/>
                  </a:lnTo>
                  <a:lnTo>
                    <a:pt x="1896" y="105"/>
                  </a:lnTo>
                  <a:lnTo>
                    <a:pt x="1896" y="101"/>
                  </a:lnTo>
                  <a:lnTo>
                    <a:pt x="1894" y="96"/>
                  </a:lnTo>
                  <a:lnTo>
                    <a:pt x="1892" y="93"/>
                  </a:lnTo>
                  <a:lnTo>
                    <a:pt x="1889" y="89"/>
                  </a:lnTo>
                  <a:lnTo>
                    <a:pt x="1887" y="85"/>
                  </a:lnTo>
                  <a:lnTo>
                    <a:pt x="1884" y="83"/>
                  </a:lnTo>
                  <a:lnTo>
                    <a:pt x="1881" y="80"/>
                  </a:lnTo>
                  <a:lnTo>
                    <a:pt x="1871" y="74"/>
                  </a:lnTo>
                  <a:lnTo>
                    <a:pt x="1859" y="69"/>
                  </a:lnTo>
                  <a:lnTo>
                    <a:pt x="1846" y="66"/>
                  </a:lnTo>
                  <a:lnTo>
                    <a:pt x="1834" y="64"/>
                  </a:lnTo>
                  <a:lnTo>
                    <a:pt x="1828" y="64"/>
                  </a:lnTo>
                  <a:lnTo>
                    <a:pt x="1822" y="66"/>
                  </a:lnTo>
                  <a:lnTo>
                    <a:pt x="1816" y="67"/>
                  </a:lnTo>
                  <a:lnTo>
                    <a:pt x="1809" y="69"/>
                  </a:lnTo>
                  <a:lnTo>
                    <a:pt x="1805" y="72"/>
                  </a:lnTo>
                  <a:lnTo>
                    <a:pt x="1798" y="75"/>
                  </a:lnTo>
                  <a:lnTo>
                    <a:pt x="1793" y="80"/>
                  </a:lnTo>
                  <a:lnTo>
                    <a:pt x="1789" y="86"/>
                  </a:lnTo>
                  <a:lnTo>
                    <a:pt x="1789" y="79"/>
                  </a:lnTo>
                  <a:lnTo>
                    <a:pt x="1789" y="74"/>
                  </a:lnTo>
                  <a:lnTo>
                    <a:pt x="1786" y="68"/>
                  </a:lnTo>
                  <a:lnTo>
                    <a:pt x="1784" y="63"/>
                  </a:lnTo>
                  <a:lnTo>
                    <a:pt x="1780" y="59"/>
                  </a:lnTo>
                  <a:lnTo>
                    <a:pt x="1776" y="56"/>
                  </a:lnTo>
                  <a:lnTo>
                    <a:pt x="1771" y="52"/>
                  </a:lnTo>
                  <a:lnTo>
                    <a:pt x="1766" y="50"/>
                  </a:lnTo>
                  <a:lnTo>
                    <a:pt x="1754" y="45"/>
                  </a:lnTo>
                  <a:lnTo>
                    <a:pt x="1742" y="42"/>
                  </a:lnTo>
                  <a:lnTo>
                    <a:pt x="1729" y="41"/>
                  </a:lnTo>
                  <a:lnTo>
                    <a:pt x="1718" y="42"/>
                  </a:lnTo>
                  <a:lnTo>
                    <a:pt x="1712" y="43"/>
                  </a:lnTo>
                  <a:lnTo>
                    <a:pt x="1707" y="45"/>
                  </a:lnTo>
                  <a:lnTo>
                    <a:pt x="1702" y="48"/>
                  </a:lnTo>
                  <a:lnTo>
                    <a:pt x="1697" y="51"/>
                  </a:lnTo>
                  <a:lnTo>
                    <a:pt x="1694" y="56"/>
                  </a:lnTo>
                  <a:lnTo>
                    <a:pt x="1691" y="61"/>
                  </a:lnTo>
                  <a:lnTo>
                    <a:pt x="1688" y="67"/>
                  </a:lnTo>
                  <a:lnTo>
                    <a:pt x="1685" y="73"/>
                  </a:lnTo>
                  <a:lnTo>
                    <a:pt x="1683" y="70"/>
                  </a:lnTo>
                  <a:lnTo>
                    <a:pt x="1680" y="67"/>
                  </a:lnTo>
                  <a:lnTo>
                    <a:pt x="1679" y="63"/>
                  </a:lnTo>
                  <a:lnTo>
                    <a:pt x="1679" y="59"/>
                  </a:lnTo>
                  <a:lnTo>
                    <a:pt x="1679" y="56"/>
                  </a:lnTo>
                  <a:lnTo>
                    <a:pt x="1679" y="52"/>
                  </a:lnTo>
                  <a:lnTo>
                    <a:pt x="1678" y="50"/>
                  </a:lnTo>
                  <a:lnTo>
                    <a:pt x="1678" y="48"/>
                  </a:lnTo>
                  <a:lnTo>
                    <a:pt x="1668" y="45"/>
                  </a:lnTo>
                  <a:lnTo>
                    <a:pt x="1658" y="38"/>
                  </a:lnTo>
                  <a:lnTo>
                    <a:pt x="1647" y="34"/>
                  </a:lnTo>
                  <a:lnTo>
                    <a:pt x="1637" y="30"/>
                  </a:lnTo>
                  <a:lnTo>
                    <a:pt x="1632" y="29"/>
                  </a:lnTo>
                  <a:lnTo>
                    <a:pt x="1627" y="27"/>
                  </a:lnTo>
                  <a:lnTo>
                    <a:pt x="1621" y="27"/>
                  </a:lnTo>
                  <a:lnTo>
                    <a:pt x="1616" y="27"/>
                  </a:lnTo>
                  <a:lnTo>
                    <a:pt x="1613" y="29"/>
                  </a:lnTo>
                  <a:lnTo>
                    <a:pt x="1608" y="31"/>
                  </a:lnTo>
                  <a:lnTo>
                    <a:pt x="1603" y="35"/>
                  </a:lnTo>
                  <a:lnTo>
                    <a:pt x="1599" y="40"/>
                  </a:lnTo>
                  <a:lnTo>
                    <a:pt x="1598" y="34"/>
                  </a:lnTo>
                  <a:lnTo>
                    <a:pt x="1595" y="27"/>
                  </a:lnTo>
                  <a:lnTo>
                    <a:pt x="1593" y="24"/>
                  </a:lnTo>
                  <a:lnTo>
                    <a:pt x="1588" y="20"/>
                  </a:lnTo>
                  <a:lnTo>
                    <a:pt x="1584" y="16"/>
                  </a:lnTo>
                  <a:lnTo>
                    <a:pt x="1579" y="14"/>
                  </a:lnTo>
                  <a:lnTo>
                    <a:pt x="1576" y="11"/>
                  </a:lnTo>
                  <a:lnTo>
                    <a:pt x="1572" y="10"/>
                  </a:lnTo>
                  <a:lnTo>
                    <a:pt x="1566" y="6"/>
                  </a:lnTo>
                  <a:lnTo>
                    <a:pt x="1560" y="4"/>
                  </a:lnTo>
                  <a:lnTo>
                    <a:pt x="1554" y="2"/>
                  </a:lnTo>
                  <a:lnTo>
                    <a:pt x="1546" y="0"/>
                  </a:lnTo>
                  <a:lnTo>
                    <a:pt x="1533" y="0"/>
                  </a:lnTo>
                  <a:lnTo>
                    <a:pt x="1519" y="2"/>
                  </a:lnTo>
                  <a:lnTo>
                    <a:pt x="1512" y="3"/>
                  </a:lnTo>
                  <a:lnTo>
                    <a:pt x="1506" y="5"/>
                  </a:lnTo>
                  <a:lnTo>
                    <a:pt x="1499" y="9"/>
                  </a:lnTo>
                  <a:lnTo>
                    <a:pt x="1493" y="11"/>
                  </a:lnTo>
                  <a:lnTo>
                    <a:pt x="1487" y="16"/>
                  </a:lnTo>
                  <a:lnTo>
                    <a:pt x="1482" y="20"/>
                  </a:lnTo>
                  <a:lnTo>
                    <a:pt x="1477" y="26"/>
                  </a:lnTo>
                  <a:lnTo>
                    <a:pt x="1474" y="31"/>
                  </a:lnTo>
                  <a:lnTo>
                    <a:pt x="1475" y="30"/>
                  </a:lnTo>
                  <a:lnTo>
                    <a:pt x="1474" y="29"/>
                  </a:lnTo>
                  <a:lnTo>
                    <a:pt x="1472" y="26"/>
                  </a:lnTo>
                  <a:lnTo>
                    <a:pt x="1470" y="25"/>
                  </a:lnTo>
                  <a:lnTo>
                    <a:pt x="1462" y="21"/>
                  </a:lnTo>
                  <a:lnTo>
                    <a:pt x="1453" y="18"/>
                  </a:lnTo>
                  <a:lnTo>
                    <a:pt x="1442" y="14"/>
                  </a:lnTo>
                  <a:lnTo>
                    <a:pt x="1429" y="13"/>
                  </a:lnTo>
                  <a:lnTo>
                    <a:pt x="1416" y="11"/>
                  </a:lnTo>
                  <a:lnTo>
                    <a:pt x="1403" y="13"/>
                  </a:lnTo>
                  <a:lnTo>
                    <a:pt x="1392" y="15"/>
                  </a:lnTo>
                  <a:lnTo>
                    <a:pt x="1384" y="20"/>
                  </a:lnTo>
                  <a:lnTo>
                    <a:pt x="1378" y="25"/>
                  </a:lnTo>
                  <a:lnTo>
                    <a:pt x="1371" y="31"/>
                  </a:lnTo>
                  <a:lnTo>
                    <a:pt x="1367" y="38"/>
                  </a:lnTo>
                  <a:lnTo>
                    <a:pt x="1362" y="46"/>
                  </a:lnTo>
                  <a:lnTo>
                    <a:pt x="1355" y="52"/>
                  </a:lnTo>
                  <a:lnTo>
                    <a:pt x="1349" y="59"/>
                  </a:lnTo>
                  <a:lnTo>
                    <a:pt x="1343" y="51"/>
                  </a:lnTo>
                  <a:lnTo>
                    <a:pt x="1337" y="43"/>
                  </a:lnTo>
                  <a:lnTo>
                    <a:pt x="1330" y="37"/>
                  </a:lnTo>
                  <a:lnTo>
                    <a:pt x="1322" y="32"/>
                  </a:lnTo>
                  <a:lnTo>
                    <a:pt x="1314" y="29"/>
                  </a:lnTo>
                  <a:lnTo>
                    <a:pt x="1305" y="26"/>
                  </a:lnTo>
                  <a:lnTo>
                    <a:pt x="1294" y="25"/>
                  </a:lnTo>
                  <a:lnTo>
                    <a:pt x="1284" y="26"/>
                  </a:lnTo>
                  <a:lnTo>
                    <a:pt x="1279" y="27"/>
                  </a:lnTo>
                  <a:lnTo>
                    <a:pt x="1274" y="31"/>
                  </a:lnTo>
                  <a:lnTo>
                    <a:pt x="1271" y="35"/>
                  </a:lnTo>
                  <a:lnTo>
                    <a:pt x="1267" y="38"/>
                  </a:lnTo>
                  <a:lnTo>
                    <a:pt x="1263" y="42"/>
                  </a:lnTo>
                  <a:lnTo>
                    <a:pt x="1259" y="46"/>
                  </a:lnTo>
                  <a:lnTo>
                    <a:pt x="1256" y="50"/>
                  </a:lnTo>
                  <a:lnTo>
                    <a:pt x="1251" y="51"/>
                  </a:lnTo>
                  <a:lnTo>
                    <a:pt x="1245" y="52"/>
                  </a:lnTo>
                  <a:lnTo>
                    <a:pt x="1237" y="52"/>
                  </a:lnTo>
                  <a:lnTo>
                    <a:pt x="1231" y="51"/>
                  </a:lnTo>
                  <a:lnTo>
                    <a:pt x="1225" y="50"/>
                  </a:lnTo>
                  <a:lnTo>
                    <a:pt x="1213" y="45"/>
                  </a:lnTo>
                  <a:lnTo>
                    <a:pt x="1199" y="40"/>
                  </a:lnTo>
                  <a:lnTo>
                    <a:pt x="1187" y="36"/>
                  </a:lnTo>
                  <a:lnTo>
                    <a:pt x="1173" y="34"/>
                  </a:lnTo>
                  <a:lnTo>
                    <a:pt x="1167" y="34"/>
                  </a:lnTo>
                  <a:lnTo>
                    <a:pt x="1161" y="35"/>
                  </a:lnTo>
                  <a:lnTo>
                    <a:pt x="1155" y="36"/>
                  </a:lnTo>
                  <a:lnTo>
                    <a:pt x="1148" y="40"/>
                  </a:lnTo>
                  <a:lnTo>
                    <a:pt x="1144" y="42"/>
                  </a:lnTo>
                  <a:lnTo>
                    <a:pt x="1140" y="46"/>
                  </a:lnTo>
                  <a:lnTo>
                    <a:pt x="1138" y="50"/>
                  </a:lnTo>
                  <a:lnTo>
                    <a:pt x="1135" y="53"/>
                  </a:lnTo>
                  <a:lnTo>
                    <a:pt x="1133" y="62"/>
                  </a:lnTo>
                  <a:lnTo>
                    <a:pt x="1132" y="72"/>
                  </a:lnTo>
                  <a:lnTo>
                    <a:pt x="1130" y="79"/>
                  </a:lnTo>
                  <a:lnTo>
                    <a:pt x="1128" y="86"/>
                  </a:lnTo>
                  <a:lnTo>
                    <a:pt x="1127" y="89"/>
                  </a:lnTo>
                  <a:lnTo>
                    <a:pt x="1125" y="91"/>
                  </a:lnTo>
                  <a:lnTo>
                    <a:pt x="1123" y="94"/>
                  </a:lnTo>
                  <a:lnTo>
                    <a:pt x="1120" y="94"/>
                  </a:lnTo>
                  <a:lnTo>
                    <a:pt x="1114" y="94"/>
                  </a:lnTo>
                  <a:lnTo>
                    <a:pt x="1107" y="91"/>
                  </a:lnTo>
                  <a:lnTo>
                    <a:pt x="1100" y="88"/>
                  </a:lnTo>
                  <a:lnTo>
                    <a:pt x="1092" y="85"/>
                  </a:lnTo>
                  <a:lnTo>
                    <a:pt x="1085" y="82"/>
                  </a:lnTo>
                  <a:lnTo>
                    <a:pt x="1077" y="80"/>
                  </a:lnTo>
                  <a:lnTo>
                    <a:pt x="1074" y="80"/>
                  </a:lnTo>
                  <a:lnTo>
                    <a:pt x="1070" y="80"/>
                  </a:lnTo>
                  <a:lnTo>
                    <a:pt x="1066" y="82"/>
                  </a:lnTo>
                  <a:lnTo>
                    <a:pt x="1064" y="83"/>
                  </a:lnTo>
                  <a:lnTo>
                    <a:pt x="1060" y="85"/>
                  </a:lnTo>
                  <a:lnTo>
                    <a:pt x="1056" y="89"/>
                  </a:lnTo>
                  <a:lnTo>
                    <a:pt x="1052" y="91"/>
                  </a:lnTo>
                  <a:lnTo>
                    <a:pt x="1048" y="96"/>
                  </a:lnTo>
                  <a:lnTo>
                    <a:pt x="1044" y="100"/>
                  </a:lnTo>
                  <a:lnTo>
                    <a:pt x="1042" y="106"/>
                  </a:lnTo>
                  <a:lnTo>
                    <a:pt x="1041" y="112"/>
                  </a:lnTo>
                  <a:lnTo>
                    <a:pt x="1042" y="118"/>
                  </a:lnTo>
                  <a:lnTo>
                    <a:pt x="1033" y="113"/>
                  </a:lnTo>
                  <a:lnTo>
                    <a:pt x="1025" y="109"/>
                  </a:lnTo>
                  <a:lnTo>
                    <a:pt x="1016" y="106"/>
                  </a:lnTo>
                  <a:lnTo>
                    <a:pt x="1006" y="102"/>
                  </a:lnTo>
                  <a:lnTo>
                    <a:pt x="997" y="101"/>
                  </a:lnTo>
                  <a:lnTo>
                    <a:pt x="989" y="100"/>
                  </a:lnTo>
                  <a:lnTo>
                    <a:pt x="980" y="100"/>
                  </a:lnTo>
                  <a:lnTo>
                    <a:pt x="972" y="101"/>
                  </a:lnTo>
                  <a:lnTo>
                    <a:pt x="964" y="104"/>
                  </a:lnTo>
                  <a:lnTo>
                    <a:pt x="956" y="106"/>
                  </a:lnTo>
                  <a:lnTo>
                    <a:pt x="948" y="111"/>
                  </a:lnTo>
                  <a:lnTo>
                    <a:pt x="941" y="116"/>
                  </a:lnTo>
                  <a:lnTo>
                    <a:pt x="935" y="122"/>
                  </a:lnTo>
                  <a:lnTo>
                    <a:pt x="929" y="128"/>
                  </a:lnTo>
                  <a:lnTo>
                    <a:pt x="922" y="137"/>
                  </a:lnTo>
                  <a:lnTo>
                    <a:pt x="916" y="145"/>
                  </a:lnTo>
                  <a:lnTo>
                    <a:pt x="913" y="142"/>
                  </a:lnTo>
                  <a:lnTo>
                    <a:pt x="909" y="138"/>
                  </a:lnTo>
                  <a:lnTo>
                    <a:pt x="905" y="136"/>
                  </a:lnTo>
                  <a:lnTo>
                    <a:pt x="900" y="133"/>
                  </a:lnTo>
                  <a:lnTo>
                    <a:pt x="892" y="131"/>
                  </a:lnTo>
                  <a:lnTo>
                    <a:pt x="883" y="129"/>
                  </a:lnTo>
                  <a:lnTo>
                    <a:pt x="873" y="129"/>
                  </a:lnTo>
                  <a:lnTo>
                    <a:pt x="863" y="131"/>
                  </a:lnTo>
                  <a:lnTo>
                    <a:pt x="855" y="133"/>
                  </a:lnTo>
                  <a:lnTo>
                    <a:pt x="846" y="134"/>
                  </a:lnTo>
                  <a:lnTo>
                    <a:pt x="839" y="137"/>
                  </a:lnTo>
                  <a:lnTo>
                    <a:pt x="833" y="141"/>
                  </a:lnTo>
                  <a:lnTo>
                    <a:pt x="826" y="145"/>
                  </a:lnTo>
                  <a:lnTo>
                    <a:pt x="823" y="152"/>
                  </a:lnTo>
                  <a:lnTo>
                    <a:pt x="819" y="159"/>
                  </a:lnTo>
                  <a:lnTo>
                    <a:pt x="815" y="168"/>
                  </a:lnTo>
                  <a:lnTo>
                    <a:pt x="813" y="175"/>
                  </a:lnTo>
                  <a:lnTo>
                    <a:pt x="810" y="184"/>
                  </a:lnTo>
                  <a:lnTo>
                    <a:pt x="804" y="179"/>
                  </a:lnTo>
                  <a:lnTo>
                    <a:pt x="797" y="175"/>
                  </a:lnTo>
                  <a:lnTo>
                    <a:pt x="788" y="173"/>
                  </a:lnTo>
                  <a:lnTo>
                    <a:pt x="781" y="171"/>
                  </a:lnTo>
                  <a:lnTo>
                    <a:pt x="772" y="171"/>
                  </a:lnTo>
                  <a:lnTo>
                    <a:pt x="765" y="173"/>
                  </a:lnTo>
                  <a:lnTo>
                    <a:pt x="756" y="175"/>
                  </a:lnTo>
                  <a:lnTo>
                    <a:pt x="749" y="177"/>
                  </a:lnTo>
                  <a:lnTo>
                    <a:pt x="742" y="181"/>
                  </a:lnTo>
                  <a:lnTo>
                    <a:pt x="734" y="186"/>
                  </a:lnTo>
                  <a:lnTo>
                    <a:pt x="728" y="191"/>
                  </a:lnTo>
                  <a:lnTo>
                    <a:pt x="723" y="198"/>
                  </a:lnTo>
                  <a:lnTo>
                    <a:pt x="719" y="205"/>
                  </a:lnTo>
                  <a:lnTo>
                    <a:pt x="716" y="213"/>
                  </a:lnTo>
                  <a:lnTo>
                    <a:pt x="713" y="220"/>
                  </a:lnTo>
                  <a:lnTo>
                    <a:pt x="713" y="230"/>
                  </a:lnTo>
                  <a:lnTo>
                    <a:pt x="695" y="225"/>
                  </a:lnTo>
                  <a:lnTo>
                    <a:pt x="675" y="223"/>
                  </a:lnTo>
                  <a:lnTo>
                    <a:pt x="667" y="223"/>
                  </a:lnTo>
                  <a:lnTo>
                    <a:pt x="657" y="223"/>
                  </a:lnTo>
                  <a:lnTo>
                    <a:pt x="647" y="224"/>
                  </a:lnTo>
                  <a:lnTo>
                    <a:pt x="638" y="227"/>
                  </a:lnTo>
                  <a:lnTo>
                    <a:pt x="630" y="229"/>
                  </a:lnTo>
                  <a:lnTo>
                    <a:pt x="622" y="233"/>
                  </a:lnTo>
                  <a:lnTo>
                    <a:pt x="615" y="238"/>
                  </a:lnTo>
                  <a:lnTo>
                    <a:pt x="609" y="244"/>
                  </a:lnTo>
                  <a:lnTo>
                    <a:pt x="604" y="251"/>
                  </a:lnTo>
                  <a:lnTo>
                    <a:pt x="600" y="260"/>
                  </a:lnTo>
                  <a:lnTo>
                    <a:pt x="598" y="270"/>
                  </a:lnTo>
                  <a:lnTo>
                    <a:pt x="596" y="282"/>
                  </a:lnTo>
                  <a:lnTo>
                    <a:pt x="596" y="278"/>
                  </a:lnTo>
                  <a:lnTo>
                    <a:pt x="595" y="275"/>
                  </a:lnTo>
                  <a:lnTo>
                    <a:pt x="594" y="272"/>
                  </a:lnTo>
                  <a:lnTo>
                    <a:pt x="591" y="271"/>
                  </a:lnTo>
                  <a:lnTo>
                    <a:pt x="587" y="268"/>
                  </a:lnTo>
                  <a:lnTo>
                    <a:pt x="580" y="268"/>
                  </a:lnTo>
                  <a:lnTo>
                    <a:pt x="572" y="270"/>
                  </a:lnTo>
                  <a:lnTo>
                    <a:pt x="563" y="272"/>
                  </a:lnTo>
                  <a:lnTo>
                    <a:pt x="555" y="277"/>
                  </a:lnTo>
                  <a:lnTo>
                    <a:pt x="545" y="282"/>
                  </a:lnTo>
                  <a:lnTo>
                    <a:pt x="536" y="289"/>
                  </a:lnTo>
                  <a:lnTo>
                    <a:pt x="527" y="297"/>
                  </a:lnTo>
                  <a:lnTo>
                    <a:pt x="519" y="307"/>
                  </a:lnTo>
                  <a:lnTo>
                    <a:pt x="513" y="316"/>
                  </a:lnTo>
                  <a:lnTo>
                    <a:pt x="508" y="326"/>
                  </a:lnTo>
                  <a:lnTo>
                    <a:pt x="504" y="337"/>
                  </a:lnTo>
                  <a:lnTo>
                    <a:pt x="503" y="343"/>
                  </a:lnTo>
                  <a:lnTo>
                    <a:pt x="503" y="348"/>
                  </a:lnTo>
                  <a:lnTo>
                    <a:pt x="503" y="355"/>
                  </a:lnTo>
                  <a:lnTo>
                    <a:pt x="504" y="361"/>
                  </a:lnTo>
                  <a:lnTo>
                    <a:pt x="495" y="359"/>
                  </a:lnTo>
                  <a:lnTo>
                    <a:pt x="488" y="359"/>
                  </a:lnTo>
                  <a:lnTo>
                    <a:pt x="480" y="361"/>
                  </a:lnTo>
                  <a:lnTo>
                    <a:pt x="472" y="362"/>
                  </a:lnTo>
                  <a:lnTo>
                    <a:pt x="464" y="363"/>
                  </a:lnTo>
                  <a:lnTo>
                    <a:pt x="456" y="367"/>
                  </a:lnTo>
                  <a:lnTo>
                    <a:pt x="449" y="369"/>
                  </a:lnTo>
                  <a:lnTo>
                    <a:pt x="441" y="373"/>
                  </a:lnTo>
                  <a:lnTo>
                    <a:pt x="435" y="378"/>
                  </a:lnTo>
                  <a:lnTo>
                    <a:pt x="429" y="383"/>
                  </a:lnTo>
                  <a:lnTo>
                    <a:pt x="423" y="389"/>
                  </a:lnTo>
                  <a:lnTo>
                    <a:pt x="419" y="395"/>
                  </a:lnTo>
                  <a:lnTo>
                    <a:pt x="416" y="401"/>
                  </a:lnTo>
                  <a:lnTo>
                    <a:pt x="413" y="409"/>
                  </a:lnTo>
                  <a:lnTo>
                    <a:pt x="412" y="417"/>
                  </a:lnTo>
                  <a:lnTo>
                    <a:pt x="412" y="426"/>
                  </a:lnTo>
                  <a:lnTo>
                    <a:pt x="403" y="425"/>
                  </a:lnTo>
                  <a:lnTo>
                    <a:pt x="396" y="425"/>
                  </a:lnTo>
                  <a:lnTo>
                    <a:pt x="388" y="426"/>
                  </a:lnTo>
                  <a:lnTo>
                    <a:pt x="380" y="427"/>
                  </a:lnTo>
                  <a:lnTo>
                    <a:pt x="366" y="432"/>
                  </a:lnTo>
                  <a:lnTo>
                    <a:pt x="353" y="439"/>
                  </a:lnTo>
                  <a:lnTo>
                    <a:pt x="340" y="448"/>
                  </a:lnTo>
                  <a:lnTo>
                    <a:pt x="328" y="458"/>
                  </a:lnTo>
                  <a:lnTo>
                    <a:pt x="318" y="469"/>
                  </a:lnTo>
                  <a:lnTo>
                    <a:pt x="308" y="480"/>
                  </a:lnTo>
                  <a:lnTo>
                    <a:pt x="306" y="484"/>
                  </a:lnTo>
                  <a:lnTo>
                    <a:pt x="306" y="490"/>
                  </a:lnTo>
                  <a:lnTo>
                    <a:pt x="305" y="495"/>
                  </a:lnTo>
                  <a:lnTo>
                    <a:pt x="305" y="501"/>
                  </a:lnTo>
                  <a:lnTo>
                    <a:pt x="305" y="507"/>
                  </a:lnTo>
                  <a:lnTo>
                    <a:pt x="305" y="513"/>
                  </a:lnTo>
                  <a:lnTo>
                    <a:pt x="306" y="519"/>
                  </a:lnTo>
                  <a:lnTo>
                    <a:pt x="306" y="526"/>
                  </a:lnTo>
                  <a:lnTo>
                    <a:pt x="297" y="526"/>
                  </a:lnTo>
                  <a:lnTo>
                    <a:pt x="289" y="527"/>
                  </a:lnTo>
                  <a:lnTo>
                    <a:pt x="281" y="529"/>
                  </a:lnTo>
                  <a:lnTo>
                    <a:pt x="274" y="533"/>
                  </a:lnTo>
                  <a:lnTo>
                    <a:pt x="268" y="537"/>
                  </a:lnTo>
                  <a:lnTo>
                    <a:pt x="262" y="540"/>
                  </a:lnTo>
                  <a:lnTo>
                    <a:pt x="257" y="546"/>
                  </a:lnTo>
                  <a:lnTo>
                    <a:pt x="253" y="551"/>
                  </a:lnTo>
                  <a:lnTo>
                    <a:pt x="249" y="559"/>
                  </a:lnTo>
                  <a:lnTo>
                    <a:pt x="246" y="565"/>
                  </a:lnTo>
                  <a:lnTo>
                    <a:pt x="245" y="572"/>
                  </a:lnTo>
                  <a:lnTo>
                    <a:pt x="243" y="580"/>
                  </a:lnTo>
                  <a:lnTo>
                    <a:pt x="243" y="587"/>
                  </a:lnTo>
                  <a:lnTo>
                    <a:pt x="243" y="594"/>
                  </a:lnTo>
                  <a:lnTo>
                    <a:pt x="246" y="603"/>
                  </a:lnTo>
                  <a:lnTo>
                    <a:pt x="248" y="610"/>
                  </a:lnTo>
                  <a:lnTo>
                    <a:pt x="236" y="613"/>
                  </a:lnTo>
                  <a:lnTo>
                    <a:pt x="225" y="618"/>
                  </a:lnTo>
                  <a:lnTo>
                    <a:pt x="216" y="624"/>
                  </a:lnTo>
                  <a:lnTo>
                    <a:pt x="208" y="631"/>
                  </a:lnTo>
                  <a:lnTo>
                    <a:pt x="199" y="639"/>
                  </a:lnTo>
                  <a:lnTo>
                    <a:pt x="192" y="647"/>
                  </a:lnTo>
                  <a:lnTo>
                    <a:pt x="185" y="656"/>
                  </a:lnTo>
                  <a:lnTo>
                    <a:pt x="178" y="665"/>
                  </a:lnTo>
                  <a:lnTo>
                    <a:pt x="174" y="669"/>
                  </a:lnTo>
                  <a:lnTo>
                    <a:pt x="173" y="674"/>
                  </a:lnTo>
                  <a:lnTo>
                    <a:pt x="173" y="679"/>
                  </a:lnTo>
                  <a:lnTo>
                    <a:pt x="174" y="685"/>
                  </a:lnTo>
                  <a:lnTo>
                    <a:pt x="177" y="692"/>
                  </a:lnTo>
                  <a:lnTo>
                    <a:pt x="178" y="697"/>
                  </a:lnTo>
                  <a:lnTo>
                    <a:pt x="181" y="703"/>
                  </a:lnTo>
                  <a:lnTo>
                    <a:pt x="183" y="708"/>
                  </a:lnTo>
                  <a:lnTo>
                    <a:pt x="176" y="709"/>
                  </a:lnTo>
                  <a:lnTo>
                    <a:pt x="169" y="710"/>
                  </a:lnTo>
                  <a:lnTo>
                    <a:pt x="162" y="712"/>
                  </a:lnTo>
                  <a:lnTo>
                    <a:pt x="155" y="716"/>
                  </a:lnTo>
                  <a:lnTo>
                    <a:pt x="149" y="720"/>
                  </a:lnTo>
                  <a:lnTo>
                    <a:pt x="142" y="724"/>
                  </a:lnTo>
                  <a:lnTo>
                    <a:pt x="137" y="728"/>
                  </a:lnTo>
                  <a:lnTo>
                    <a:pt x="133" y="735"/>
                  </a:lnTo>
                  <a:lnTo>
                    <a:pt x="128" y="740"/>
                  </a:lnTo>
                  <a:lnTo>
                    <a:pt x="124" y="746"/>
                  </a:lnTo>
                  <a:lnTo>
                    <a:pt x="121" y="752"/>
                  </a:lnTo>
                  <a:lnTo>
                    <a:pt x="119" y="759"/>
                  </a:lnTo>
                  <a:lnTo>
                    <a:pt x="119" y="765"/>
                  </a:lnTo>
                  <a:lnTo>
                    <a:pt x="119" y="773"/>
                  </a:lnTo>
                  <a:lnTo>
                    <a:pt x="120" y="780"/>
                  </a:lnTo>
                  <a:lnTo>
                    <a:pt x="124" y="786"/>
                  </a:lnTo>
                  <a:lnTo>
                    <a:pt x="117" y="788"/>
                  </a:lnTo>
                  <a:lnTo>
                    <a:pt x="109" y="790"/>
                  </a:lnTo>
                  <a:lnTo>
                    <a:pt x="104" y="792"/>
                  </a:lnTo>
                  <a:lnTo>
                    <a:pt x="99" y="796"/>
                  </a:lnTo>
                  <a:lnTo>
                    <a:pt x="94" y="800"/>
                  </a:lnTo>
                  <a:lnTo>
                    <a:pt x="90" y="805"/>
                  </a:lnTo>
                  <a:lnTo>
                    <a:pt x="86" y="810"/>
                  </a:lnTo>
                  <a:lnTo>
                    <a:pt x="83" y="816"/>
                  </a:lnTo>
                  <a:lnTo>
                    <a:pt x="77" y="828"/>
                  </a:lnTo>
                  <a:lnTo>
                    <a:pt x="72" y="840"/>
                  </a:lnTo>
                  <a:lnTo>
                    <a:pt x="66" y="851"/>
                  </a:lnTo>
                  <a:lnTo>
                    <a:pt x="61" y="863"/>
                  </a:lnTo>
                  <a:lnTo>
                    <a:pt x="59" y="865"/>
                  </a:lnTo>
                  <a:lnTo>
                    <a:pt x="59" y="869"/>
                  </a:lnTo>
                  <a:lnTo>
                    <a:pt x="58" y="871"/>
                  </a:lnTo>
                  <a:lnTo>
                    <a:pt x="58" y="875"/>
                  </a:lnTo>
                  <a:lnTo>
                    <a:pt x="60" y="882"/>
                  </a:lnTo>
                  <a:lnTo>
                    <a:pt x="61" y="888"/>
                  </a:lnTo>
                  <a:lnTo>
                    <a:pt x="64" y="897"/>
                  </a:lnTo>
                  <a:lnTo>
                    <a:pt x="66" y="903"/>
                  </a:lnTo>
                  <a:lnTo>
                    <a:pt x="67" y="911"/>
                  </a:lnTo>
                  <a:lnTo>
                    <a:pt x="66" y="917"/>
                  </a:lnTo>
                  <a:lnTo>
                    <a:pt x="65" y="922"/>
                  </a:lnTo>
                  <a:lnTo>
                    <a:pt x="62" y="925"/>
                  </a:lnTo>
                  <a:lnTo>
                    <a:pt x="60" y="930"/>
                  </a:lnTo>
                  <a:lnTo>
                    <a:pt x="56" y="935"/>
                  </a:lnTo>
                  <a:lnTo>
                    <a:pt x="51" y="939"/>
                  </a:lnTo>
                  <a:lnTo>
                    <a:pt x="48" y="944"/>
                  </a:lnTo>
                  <a:lnTo>
                    <a:pt x="44" y="949"/>
                  </a:lnTo>
                  <a:lnTo>
                    <a:pt x="39" y="952"/>
                  </a:lnTo>
                  <a:lnTo>
                    <a:pt x="35" y="957"/>
                  </a:lnTo>
                  <a:lnTo>
                    <a:pt x="32" y="963"/>
                  </a:lnTo>
                  <a:lnTo>
                    <a:pt x="30" y="971"/>
                  </a:lnTo>
                  <a:lnTo>
                    <a:pt x="32" y="977"/>
                  </a:lnTo>
                  <a:lnTo>
                    <a:pt x="34" y="984"/>
                  </a:lnTo>
                  <a:lnTo>
                    <a:pt x="38" y="989"/>
                  </a:lnTo>
                  <a:lnTo>
                    <a:pt x="40" y="992"/>
                  </a:lnTo>
                  <a:lnTo>
                    <a:pt x="43" y="994"/>
                  </a:lnTo>
                  <a:lnTo>
                    <a:pt x="46" y="995"/>
                  </a:lnTo>
                  <a:lnTo>
                    <a:pt x="50" y="995"/>
                  </a:lnTo>
                  <a:lnTo>
                    <a:pt x="48" y="1004"/>
                  </a:lnTo>
                  <a:lnTo>
                    <a:pt x="43" y="1011"/>
                  </a:lnTo>
                  <a:lnTo>
                    <a:pt x="39" y="1019"/>
                  </a:lnTo>
                  <a:lnTo>
                    <a:pt x="34" y="1025"/>
                  </a:lnTo>
                  <a:lnTo>
                    <a:pt x="29" y="1031"/>
                  </a:lnTo>
                  <a:lnTo>
                    <a:pt x="27" y="1038"/>
                  </a:lnTo>
                  <a:lnTo>
                    <a:pt x="26" y="1046"/>
                  </a:lnTo>
                  <a:lnTo>
                    <a:pt x="26" y="1056"/>
                  </a:lnTo>
                  <a:lnTo>
                    <a:pt x="28" y="1068"/>
                  </a:lnTo>
                  <a:lnTo>
                    <a:pt x="30" y="1079"/>
                  </a:lnTo>
                  <a:lnTo>
                    <a:pt x="32" y="1089"/>
                  </a:lnTo>
                  <a:lnTo>
                    <a:pt x="35" y="1099"/>
                  </a:lnTo>
                  <a:lnTo>
                    <a:pt x="38" y="1109"/>
                  </a:lnTo>
                  <a:lnTo>
                    <a:pt x="42" y="1117"/>
                  </a:lnTo>
                  <a:lnTo>
                    <a:pt x="45" y="1126"/>
                  </a:lnTo>
                  <a:lnTo>
                    <a:pt x="50" y="1134"/>
                  </a:lnTo>
                  <a:lnTo>
                    <a:pt x="45" y="1133"/>
                  </a:lnTo>
                  <a:lnTo>
                    <a:pt x="42" y="1134"/>
                  </a:lnTo>
                  <a:lnTo>
                    <a:pt x="38" y="1136"/>
                  </a:lnTo>
                  <a:lnTo>
                    <a:pt x="34" y="1138"/>
                  </a:lnTo>
                  <a:lnTo>
                    <a:pt x="32" y="1142"/>
                  </a:lnTo>
                  <a:lnTo>
                    <a:pt x="30" y="1144"/>
                  </a:lnTo>
                  <a:lnTo>
                    <a:pt x="29" y="1147"/>
                  </a:lnTo>
                  <a:lnTo>
                    <a:pt x="28" y="1148"/>
                  </a:lnTo>
                  <a:lnTo>
                    <a:pt x="26" y="1161"/>
                  </a:lnTo>
                  <a:lnTo>
                    <a:pt x="23" y="1175"/>
                  </a:lnTo>
                  <a:lnTo>
                    <a:pt x="22" y="1189"/>
                  </a:lnTo>
                  <a:lnTo>
                    <a:pt x="22" y="1202"/>
                  </a:lnTo>
                  <a:lnTo>
                    <a:pt x="22" y="1216"/>
                  </a:lnTo>
                  <a:lnTo>
                    <a:pt x="26" y="1229"/>
                  </a:lnTo>
                  <a:lnTo>
                    <a:pt x="29" y="1241"/>
                  </a:lnTo>
                  <a:lnTo>
                    <a:pt x="37" y="1254"/>
                  </a:lnTo>
                  <a:lnTo>
                    <a:pt x="28" y="1260"/>
                  </a:lnTo>
                  <a:lnTo>
                    <a:pt x="21" y="1267"/>
                  </a:lnTo>
                  <a:lnTo>
                    <a:pt x="14" y="1275"/>
                  </a:lnTo>
                  <a:lnTo>
                    <a:pt x="11" y="1284"/>
                  </a:lnTo>
                  <a:lnTo>
                    <a:pt x="7" y="1294"/>
                  </a:lnTo>
                  <a:lnTo>
                    <a:pt x="5" y="1304"/>
                  </a:lnTo>
                  <a:lnTo>
                    <a:pt x="3" y="1314"/>
                  </a:lnTo>
                  <a:lnTo>
                    <a:pt x="1" y="1325"/>
                  </a:lnTo>
                  <a:lnTo>
                    <a:pt x="0" y="1332"/>
                  </a:lnTo>
                  <a:lnTo>
                    <a:pt x="0" y="1340"/>
                  </a:lnTo>
                  <a:lnTo>
                    <a:pt x="2" y="1348"/>
                  </a:lnTo>
                  <a:lnTo>
                    <a:pt x="5" y="1355"/>
                  </a:lnTo>
                  <a:lnTo>
                    <a:pt x="8" y="1362"/>
                  </a:lnTo>
                  <a:lnTo>
                    <a:pt x="13" y="1368"/>
                  </a:lnTo>
                  <a:lnTo>
                    <a:pt x="19" y="1373"/>
                  </a:lnTo>
                  <a:lnTo>
                    <a:pt x="26" y="1379"/>
                  </a:lnTo>
                  <a:lnTo>
                    <a:pt x="18" y="1379"/>
                  </a:lnTo>
                  <a:lnTo>
                    <a:pt x="13" y="1380"/>
                  </a:lnTo>
                  <a:lnTo>
                    <a:pt x="10" y="1383"/>
                  </a:lnTo>
                  <a:lnTo>
                    <a:pt x="6" y="1387"/>
                  </a:lnTo>
                  <a:lnTo>
                    <a:pt x="5" y="1391"/>
                  </a:lnTo>
                  <a:lnTo>
                    <a:pt x="3" y="1396"/>
                  </a:lnTo>
                  <a:lnTo>
                    <a:pt x="2" y="1400"/>
                  </a:lnTo>
                  <a:lnTo>
                    <a:pt x="1" y="1404"/>
                  </a:lnTo>
                  <a:lnTo>
                    <a:pt x="0" y="1414"/>
                  </a:lnTo>
                  <a:lnTo>
                    <a:pt x="0" y="1425"/>
                  </a:lnTo>
                  <a:lnTo>
                    <a:pt x="1" y="1437"/>
                  </a:lnTo>
                  <a:lnTo>
                    <a:pt x="5" y="1447"/>
                  </a:lnTo>
                  <a:lnTo>
                    <a:pt x="10" y="1457"/>
                  </a:lnTo>
                  <a:lnTo>
                    <a:pt x="17" y="1465"/>
                  </a:lnTo>
                  <a:lnTo>
                    <a:pt x="21" y="1469"/>
                  </a:lnTo>
                  <a:lnTo>
                    <a:pt x="26" y="1473"/>
                  </a:lnTo>
                  <a:lnTo>
                    <a:pt x="30" y="1475"/>
                  </a:lnTo>
                  <a:lnTo>
                    <a:pt x="37" y="1476"/>
                  </a:lnTo>
                  <a:lnTo>
                    <a:pt x="30" y="1491"/>
                  </a:lnTo>
                  <a:lnTo>
                    <a:pt x="27" y="1505"/>
                  </a:lnTo>
                  <a:lnTo>
                    <a:pt x="24" y="1518"/>
                  </a:lnTo>
                  <a:lnTo>
                    <a:pt x="24" y="1532"/>
                  </a:lnTo>
                  <a:lnTo>
                    <a:pt x="24" y="1545"/>
                  </a:lnTo>
                  <a:lnTo>
                    <a:pt x="26" y="1559"/>
                  </a:lnTo>
                  <a:lnTo>
                    <a:pt x="27" y="1573"/>
                  </a:lnTo>
                  <a:lnTo>
                    <a:pt x="28" y="1588"/>
                  </a:lnTo>
                  <a:lnTo>
                    <a:pt x="29" y="1599"/>
                  </a:lnTo>
                  <a:lnTo>
                    <a:pt x="30" y="1613"/>
                  </a:lnTo>
                  <a:lnTo>
                    <a:pt x="30" y="1625"/>
                  </a:lnTo>
                  <a:lnTo>
                    <a:pt x="32" y="1639"/>
                  </a:lnTo>
                  <a:lnTo>
                    <a:pt x="33" y="1653"/>
                  </a:lnTo>
                  <a:lnTo>
                    <a:pt x="34" y="1667"/>
                  </a:lnTo>
                  <a:lnTo>
                    <a:pt x="37" y="1681"/>
                  </a:lnTo>
                  <a:lnTo>
                    <a:pt x="39" y="1694"/>
                  </a:lnTo>
                  <a:lnTo>
                    <a:pt x="40" y="1700"/>
                  </a:lnTo>
                  <a:lnTo>
                    <a:pt x="40" y="1706"/>
                  </a:lnTo>
                  <a:lnTo>
                    <a:pt x="40" y="1712"/>
                  </a:lnTo>
                  <a:lnTo>
                    <a:pt x="39" y="1721"/>
                  </a:lnTo>
                  <a:lnTo>
                    <a:pt x="39" y="1728"/>
                  </a:lnTo>
                  <a:lnTo>
                    <a:pt x="39" y="1736"/>
                  </a:lnTo>
                  <a:lnTo>
                    <a:pt x="39" y="1743"/>
                  </a:lnTo>
                  <a:lnTo>
                    <a:pt x="39" y="1751"/>
                  </a:lnTo>
                  <a:lnTo>
                    <a:pt x="40" y="1754"/>
                  </a:lnTo>
                  <a:lnTo>
                    <a:pt x="43" y="1757"/>
                  </a:lnTo>
                  <a:lnTo>
                    <a:pt x="44" y="1760"/>
                  </a:lnTo>
                  <a:lnTo>
                    <a:pt x="46" y="1763"/>
                  </a:lnTo>
                  <a:lnTo>
                    <a:pt x="48" y="1767"/>
                  </a:lnTo>
                  <a:lnTo>
                    <a:pt x="50" y="1769"/>
                  </a:lnTo>
                  <a:lnTo>
                    <a:pt x="51" y="1773"/>
                  </a:lnTo>
                  <a:lnTo>
                    <a:pt x="53" y="1775"/>
                  </a:lnTo>
                  <a:lnTo>
                    <a:pt x="59" y="1784"/>
                  </a:lnTo>
                  <a:lnTo>
                    <a:pt x="64" y="1792"/>
                  </a:lnTo>
                  <a:lnTo>
                    <a:pt x="70" y="1801"/>
                  </a:lnTo>
                  <a:lnTo>
                    <a:pt x="76" y="1808"/>
                  </a:lnTo>
                  <a:lnTo>
                    <a:pt x="82" y="1816"/>
                  </a:lnTo>
                  <a:lnTo>
                    <a:pt x="88" y="1823"/>
                  </a:lnTo>
                  <a:lnTo>
                    <a:pt x="93" y="1832"/>
                  </a:lnTo>
                  <a:lnTo>
                    <a:pt x="99" y="1840"/>
                  </a:lnTo>
                  <a:lnTo>
                    <a:pt x="101" y="1842"/>
                  </a:lnTo>
                  <a:lnTo>
                    <a:pt x="104" y="1845"/>
                  </a:lnTo>
                  <a:lnTo>
                    <a:pt x="110" y="1849"/>
                  </a:lnTo>
                  <a:lnTo>
                    <a:pt x="118" y="1853"/>
                  </a:lnTo>
                  <a:lnTo>
                    <a:pt x="126" y="1856"/>
                  </a:lnTo>
                  <a:lnTo>
                    <a:pt x="136" y="1856"/>
                  </a:lnTo>
                  <a:lnTo>
                    <a:pt x="141" y="1856"/>
                  </a:lnTo>
                  <a:lnTo>
                    <a:pt x="146" y="1855"/>
                  </a:lnTo>
                  <a:lnTo>
                    <a:pt x="151" y="1853"/>
                  </a:lnTo>
                  <a:lnTo>
                    <a:pt x="156" y="1849"/>
                  </a:lnTo>
                  <a:lnTo>
                    <a:pt x="157" y="1844"/>
                  </a:lnTo>
                  <a:lnTo>
                    <a:pt x="161" y="1832"/>
                  </a:lnTo>
                  <a:lnTo>
                    <a:pt x="166" y="1813"/>
                  </a:lnTo>
                  <a:lnTo>
                    <a:pt x="173" y="1791"/>
                  </a:lnTo>
                  <a:lnTo>
                    <a:pt x="178" y="1779"/>
                  </a:lnTo>
                  <a:lnTo>
                    <a:pt x="184" y="1767"/>
                  </a:lnTo>
                  <a:lnTo>
                    <a:pt x="190" y="1754"/>
                  </a:lnTo>
                  <a:lnTo>
                    <a:pt x="198" y="1742"/>
                  </a:lnTo>
                  <a:lnTo>
                    <a:pt x="205" y="1731"/>
                  </a:lnTo>
                  <a:lnTo>
                    <a:pt x="214" y="1720"/>
                  </a:lnTo>
                  <a:lnTo>
                    <a:pt x="222" y="1710"/>
                  </a:lnTo>
                  <a:lnTo>
                    <a:pt x="232" y="1703"/>
                  </a:lnTo>
                  <a:lnTo>
                    <a:pt x="252" y="1689"/>
                  </a:lnTo>
                  <a:lnTo>
                    <a:pt x="270" y="1678"/>
                  </a:lnTo>
                  <a:lnTo>
                    <a:pt x="280" y="1673"/>
                  </a:lnTo>
                  <a:lnTo>
                    <a:pt x="290" y="1669"/>
                  </a:lnTo>
                  <a:lnTo>
                    <a:pt x="300" y="1667"/>
                  </a:lnTo>
                  <a:lnTo>
                    <a:pt x="310" y="1666"/>
                  </a:lnTo>
                  <a:lnTo>
                    <a:pt x="320" y="1666"/>
                  </a:lnTo>
                  <a:lnTo>
                    <a:pt x="329" y="1667"/>
                  </a:lnTo>
                  <a:lnTo>
                    <a:pt x="339" y="1669"/>
                  </a:lnTo>
                  <a:lnTo>
                    <a:pt x="349" y="1674"/>
                  </a:lnTo>
                  <a:lnTo>
                    <a:pt x="359" y="1679"/>
                  </a:lnTo>
                  <a:lnTo>
                    <a:pt x="370" y="1687"/>
                  </a:lnTo>
                  <a:lnTo>
                    <a:pt x="380" y="1696"/>
                  </a:lnTo>
                  <a:lnTo>
                    <a:pt x="390" y="1708"/>
                  </a:lnTo>
                  <a:lnTo>
                    <a:pt x="407" y="1731"/>
                  </a:lnTo>
                  <a:lnTo>
                    <a:pt x="420" y="1752"/>
                  </a:lnTo>
                  <a:lnTo>
                    <a:pt x="432" y="1769"/>
                  </a:lnTo>
                  <a:lnTo>
                    <a:pt x="439" y="1784"/>
                  </a:lnTo>
                  <a:lnTo>
                    <a:pt x="446" y="1799"/>
                  </a:lnTo>
                  <a:lnTo>
                    <a:pt x="451" y="1812"/>
                  </a:lnTo>
                  <a:lnTo>
                    <a:pt x="456" y="1826"/>
                  </a:lnTo>
                  <a:lnTo>
                    <a:pt x="460" y="1840"/>
                  </a:lnTo>
                  <a:lnTo>
                    <a:pt x="462" y="1842"/>
                  </a:lnTo>
                  <a:lnTo>
                    <a:pt x="467" y="1843"/>
                  </a:lnTo>
                  <a:lnTo>
                    <a:pt x="475" y="1844"/>
                  </a:lnTo>
                  <a:lnTo>
                    <a:pt x="484" y="1845"/>
                  </a:lnTo>
                  <a:lnTo>
                    <a:pt x="493" y="1845"/>
                  </a:lnTo>
                  <a:lnTo>
                    <a:pt x="500" y="1843"/>
                  </a:lnTo>
                  <a:lnTo>
                    <a:pt x="504" y="1840"/>
                  </a:lnTo>
                  <a:lnTo>
                    <a:pt x="507" y="1838"/>
                  </a:lnTo>
                  <a:lnTo>
                    <a:pt x="508" y="1834"/>
                  </a:lnTo>
                  <a:lnTo>
                    <a:pt x="509" y="18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410080" y="2611440"/>
              <a:ext cx="903240" cy="924120"/>
            </a:xfrm>
            <a:custGeom>
              <a:avLst/>
              <a:gdLst/>
              <a:ahLst/>
              <a:rect l="l" t="t" r="r" b="b"/>
              <a:pathLst>
                <a:path w="2841" h="2909">
                  <a:moveTo>
                    <a:pt x="2841" y="0"/>
                  </a:moveTo>
                  <a:lnTo>
                    <a:pt x="2820" y="3"/>
                  </a:lnTo>
                  <a:lnTo>
                    <a:pt x="2793" y="10"/>
                  </a:lnTo>
                  <a:lnTo>
                    <a:pt x="2759" y="18"/>
                  </a:lnTo>
                  <a:lnTo>
                    <a:pt x="2719" y="28"/>
                  </a:lnTo>
                  <a:lnTo>
                    <a:pt x="2676" y="42"/>
                  </a:lnTo>
                  <a:lnTo>
                    <a:pt x="2632" y="56"/>
                  </a:lnTo>
                  <a:lnTo>
                    <a:pt x="2610" y="66"/>
                  </a:lnTo>
                  <a:lnTo>
                    <a:pt x="2588" y="76"/>
                  </a:lnTo>
                  <a:lnTo>
                    <a:pt x="2565" y="86"/>
                  </a:lnTo>
                  <a:lnTo>
                    <a:pt x="2544" y="97"/>
                  </a:lnTo>
                  <a:lnTo>
                    <a:pt x="2521" y="110"/>
                  </a:lnTo>
                  <a:lnTo>
                    <a:pt x="2500" y="123"/>
                  </a:lnTo>
                  <a:lnTo>
                    <a:pt x="2483" y="135"/>
                  </a:lnTo>
                  <a:lnTo>
                    <a:pt x="2467" y="147"/>
                  </a:lnTo>
                  <a:lnTo>
                    <a:pt x="2453" y="160"/>
                  </a:lnTo>
                  <a:lnTo>
                    <a:pt x="2442" y="173"/>
                  </a:lnTo>
                  <a:lnTo>
                    <a:pt x="2433" y="185"/>
                  </a:lnTo>
                  <a:lnTo>
                    <a:pt x="2424" y="199"/>
                  </a:lnTo>
                  <a:lnTo>
                    <a:pt x="2417" y="214"/>
                  </a:lnTo>
                  <a:lnTo>
                    <a:pt x="2410" y="230"/>
                  </a:lnTo>
                  <a:lnTo>
                    <a:pt x="2404" y="246"/>
                  </a:lnTo>
                  <a:lnTo>
                    <a:pt x="2399" y="264"/>
                  </a:lnTo>
                  <a:lnTo>
                    <a:pt x="2389" y="305"/>
                  </a:lnTo>
                  <a:lnTo>
                    <a:pt x="2378" y="353"/>
                  </a:lnTo>
                  <a:lnTo>
                    <a:pt x="2366" y="408"/>
                  </a:lnTo>
                  <a:lnTo>
                    <a:pt x="2353" y="467"/>
                  </a:lnTo>
                  <a:lnTo>
                    <a:pt x="2339" y="527"/>
                  </a:lnTo>
                  <a:lnTo>
                    <a:pt x="2327" y="585"/>
                  </a:lnTo>
                  <a:lnTo>
                    <a:pt x="2316" y="636"/>
                  </a:lnTo>
                  <a:lnTo>
                    <a:pt x="2307" y="677"/>
                  </a:lnTo>
                  <a:lnTo>
                    <a:pt x="2302" y="705"/>
                  </a:lnTo>
                  <a:lnTo>
                    <a:pt x="2300" y="714"/>
                  </a:lnTo>
                  <a:lnTo>
                    <a:pt x="2282" y="719"/>
                  </a:lnTo>
                  <a:lnTo>
                    <a:pt x="2237" y="734"/>
                  </a:lnTo>
                  <a:lnTo>
                    <a:pt x="2167" y="755"/>
                  </a:lnTo>
                  <a:lnTo>
                    <a:pt x="2082" y="781"/>
                  </a:lnTo>
                  <a:lnTo>
                    <a:pt x="1987" y="809"/>
                  </a:lnTo>
                  <a:lnTo>
                    <a:pt x="1891" y="835"/>
                  </a:lnTo>
                  <a:lnTo>
                    <a:pt x="1843" y="847"/>
                  </a:lnTo>
                  <a:lnTo>
                    <a:pt x="1798" y="859"/>
                  </a:lnTo>
                  <a:lnTo>
                    <a:pt x="1755" y="869"/>
                  </a:lnTo>
                  <a:lnTo>
                    <a:pt x="1715" y="877"/>
                  </a:lnTo>
                  <a:lnTo>
                    <a:pt x="1639" y="893"/>
                  </a:lnTo>
                  <a:lnTo>
                    <a:pt x="1557" y="910"/>
                  </a:lnTo>
                  <a:lnTo>
                    <a:pt x="1515" y="920"/>
                  </a:lnTo>
                  <a:lnTo>
                    <a:pt x="1473" y="931"/>
                  </a:lnTo>
                  <a:lnTo>
                    <a:pt x="1431" y="941"/>
                  </a:lnTo>
                  <a:lnTo>
                    <a:pt x="1390" y="953"/>
                  </a:lnTo>
                  <a:lnTo>
                    <a:pt x="1351" y="965"/>
                  </a:lnTo>
                  <a:lnTo>
                    <a:pt x="1314" y="979"/>
                  </a:lnTo>
                  <a:lnTo>
                    <a:pt x="1280" y="994"/>
                  </a:lnTo>
                  <a:lnTo>
                    <a:pt x="1247" y="1010"/>
                  </a:lnTo>
                  <a:lnTo>
                    <a:pt x="1232" y="1018"/>
                  </a:lnTo>
                  <a:lnTo>
                    <a:pt x="1218" y="1027"/>
                  </a:lnTo>
                  <a:lnTo>
                    <a:pt x="1205" y="1035"/>
                  </a:lnTo>
                  <a:lnTo>
                    <a:pt x="1192" y="1045"/>
                  </a:lnTo>
                  <a:lnTo>
                    <a:pt x="1181" y="1055"/>
                  </a:lnTo>
                  <a:lnTo>
                    <a:pt x="1170" y="1065"/>
                  </a:lnTo>
                  <a:lnTo>
                    <a:pt x="1162" y="1075"/>
                  </a:lnTo>
                  <a:lnTo>
                    <a:pt x="1153" y="1086"/>
                  </a:lnTo>
                  <a:lnTo>
                    <a:pt x="1126" y="1126"/>
                  </a:lnTo>
                  <a:lnTo>
                    <a:pt x="1100" y="1160"/>
                  </a:lnTo>
                  <a:lnTo>
                    <a:pt x="1088" y="1174"/>
                  </a:lnTo>
                  <a:lnTo>
                    <a:pt x="1077" y="1187"/>
                  </a:lnTo>
                  <a:lnTo>
                    <a:pt x="1066" y="1199"/>
                  </a:lnTo>
                  <a:lnTo>
                    <a:pt x="1055" y="1209"/>
                  </a:lnTo>
                  <a:lnTo>
                    <a:pt x="1042" y="1219"/>
                  </a:lnTo>
                  <a:lnTo>
                    <a:pt x="1031" y="1227"/>
                  </a:lnTo>
                  <a:lnTo>
                    <a:pt x="1020" y="1235"/>
                  </a:lnTo>
                  <a:lnTo>
                    <a:pt x="1008" y="1243"/>
                  </a:lnTo>
                  <a:lnTo>
                    <a:pt x="983" y="1257"/>
                  </a:lnTo>
                  <a:lnTo>
                    <a:pt x="955" y="1270"/>
                  </a:lnTo>
                  <a:lnTo>
                    <a:pt x="940" y="1279"/>
                  </a:lnTo>
                  <a:lnTo>
                    <a:pt x="927" y="1290"/>
                  </a:lnTo>
                  <a:lnTo>
                    <a:pt x="914" y="1302"/>
                  </a:lnTo>
                  <a:lnTo>
                    <a:pt x="902" y="1317"/>
                  </a:lnTo>
                  <a:lnTo>
                    <a:pt x="890" y="1332"/>
                  </a:lnTo>
                  <a:lnTo>
                    <a:pt x="880" y="1349"/>
                  </a:lnTo>
                  <a:lnTo>
                    <a:pt x="870" y="1366"/>
                  </a:lnTo>
                  <a:lnTo>
                    <a:pt x="861" y="1383"/>
                  </a:lnTo>
                  <a:lnTo>
                    <a:pt x="854" y="1402"/>
                  </a:lnTo>
                  <a:lnTo>
                    <a:pt x="848" y="1419"/>
                  </a:lnTo>
                  <a:lnTo>
                    <a:pt x="843" y="1438"/>
                  </a:lnTo>
                  <a:lnTo>
                    <a:pt x="839" y="1454"/>
                  </a:lnTo>
                  <a:lnTo>
                    <a:pt x="837" y="1470"/>
                  </a:lnTo>
                  <a:lnTo>
                    <a:pt x="836" y="1483"/>
                  </a:lnTo>
                  <a:lnTo>
                    <a:pt x="837" y="1497"/>
                  </a:lnTo>
                  <a:lnTo>
                    <a:pt x="838" y="1508"/>
                  </a:lnTo>
                  <a:lnTo>
                    <a:pt x="829" y="1510"/>
                  </a:lnTo>
                  <a:lnTo>
                    <a:pt x="806" y="1519"/>
                  </a:lnTo>
                  <a:lnTo>
                    <a:pt x="772" y="1532"/>
                  </a:lnTo>
                  <a:lnTo>
                    <a:pt x="731" y="1550"/>
                  </a:lnTo>
                  <a:lnTo>
                    <a:pt x="709" y="1559"/>
                  </a:lnTo>
                  <a:lnTo>
                    <a:pt x="687" y="1570"/>
                  </a:lnTo>
                  <a:lnTo>
                    <a:pt x="665" y="1583"/>
                  </a:lnTo>
                  <a:lnTo>
                    <a:pt x="644" y="1595"/>
                  </a:lnTo>
                  <a:lnTo>
                    <a:pt x="623" y="1609"/>
                  </a:lnTo>
                  <a:lnTo>
                    <a:pt x="604" y="1622"/>
                  </a:lnTo>
                  <a:lnTo>
                    <a:pt x="588" y="1637"/>
                  </a:lnTo>
                  <a:lnTo>
                    <a:pt x="575" y="1652"/>
                  </a:lnTo>
                  <a:lnTo>
                    <a:pt x="564" y="1666"/>
                  </a:lnTo>
                  <a:lnTo>
                    <a:pt x="554" y="1682"/>
                  </a:lnTo>
                  <a:lnTo>
                    <a:pt x="547" y="1700"/>
                  </a:lnTo>
                  <a:lnTo>
                    <a:pt x="542" y="1717"/>
                  </a:lnTo>
                  <a:lnTo>
                    <a:pt x="537" y="1734"/>
                  </a:lnTo>
                  <a:lnTo>
                    <a:pt x="534" y="1752"/>
                  </a:lnTo>
                  <a:lnTo>
                    <a:pt x="532" y="1768"/>
                  </a:lnTo>
                  <a:lnTo>
                    <a:pt x="532" y="1786"/>
                  </a:lnTo>
                  <a:lnTo>
                    <a:pt x="532" y="1815"/>
                  </a:lnTo>
                  <a:lnTo>
                    <a:pt x="533" y="1839"/>
                  </a:lnTo>
                  <a:lnTo>
                    <a:pt x="535" y="1855"/>
                  </a:lnTo>
                  <a:lnTo>
                    <a:pt x="537" y="1861"/>
                  </a:lnTo>
                  <a:lnTo>
                    <a:pt x="519" y="1874"/>
                  </a:lnTo>
                  <a:lnTo>
                    <a:pt x="474" y="1911"/>
                  </a:lnTo>
                  <a:lnTo>
                    <a:pt x="442" y="1937"/>
                  </a:lnTo>
                  <a:lnTo>
                    <a:pt x="406" y="1968"/>
                  </a:lnTo>
                  <a:lnTo>
                    <a:pt x="367" y="2002"/>
                  </a:lnTo>
                  <a:lnTo>
                    <a:pt x="326" y="2040"/>
                  </a:lnTo>
                  <a:lnTo>
                    <a:pt x="284" y="2081"/>
                  </a:lnTo>
                  <a:lnTo>
                    <a:pt x="241" y="2124"/>
                  </a:lnTo>
                  <a:lnTo>
                    <a:pt x="200" y="2168"/>
                  </a:lnTo>
                  <a:lnTo>
                    <a:pt x="159" y="2214"/>
                  </a:lnTo>
                  <a:lnTo>
                    <a:pt x="141" y="2237"/>
                  </a:lnTo>
                  <a:lnTo>
                    <a:pt x="122" y="2260"/>
                  </a:lnTo>
                  <a:lnTo>
                    <a:pt x="105" y="2284"/>
                  </a:lnTo>
                  <a:lnTo>
                    <a:pt x="89" y="2307"/>
                  </a:lnTo>
                  <a:lnTo>
                    <a:pt x="74" y="2331"/>
                  </a:lnTo>
                  <a:lnTo>
                    <a:pt x="59" y="2353"/>
                  </a:lnTo>
                  <a:lnTo>
                    <a:pt x="47" y="2376"/>
                  </a:lnTo>
                  <a:lnTo>
                    <a:pt x="37" y="2398"/>
                  </a:lnTo>
                  <a:lnTo>
                    <a:pt x="27" y="2420"/>
                  </a:lnTo>
                  <a:lnTo>
                    <a:pt x="20" y="2441"/>
                  </a:lnTo>
                  <a:lnTo>
                    <a:pt x="14" y="2463"/>
                  </a:lnTo>
                  <a:lnTo>
                    <a:pt x="9" y="2484"/>
                  </a:lnTo>
                  <a:lnTo>
                    <a:pt x="5" y="2505"/>
                  </a:lnTo>
                  <a:lnTo>
                    <a:pt x="3" y="2526"/>
                  </a:lnTo>
                  <a:lnTo>
                    <a:pt x="2" y="2547"/>
                  </a:lnTo>
                  <a:lnTo>
                    <a:pt x="0" y="2567"/>
                  </a:lnTo>
                  <a:lnTo>
                    <a:pt x="2" y="2588"/>
                  </a:lnTo>
                  <a:lnTo>
                    <a:pt x="3" y="2607"/>
                  </a:lnTo>
                  <a:lnTo>
                    <a:pt x="5" y="2626"/>
                  </a:lnTo>
                  <a:lnTo>
                    <a:pt x="8" y="2645"/>
                  </a:lnTo>
                  <a:lnTo>
                    <a:pt x="11" y="2664"/>
                  </a:lnTo>
                  <a:lnTo>
                    <a:pt x="16" y="2681"/>
                  </a:lnTo>
                  <a:lnTo>
                    <a:pt x="21" y="2700"/>
                  </a:lnTo>
                  <a:lnTo>
                    <a:pt x="26" y="2717"/>
                  </a:lnTo>
                  <a:lnTo>
                    <a:pt x="40" y="2750"/>
                  </a:lnTo>
                  <a:lnTo>
                    <a:pt x="53" y="2780"/>
                  </a:lnTo>
                  <a:lnTo>
                    <a:pt x="68" y="2809"/>
                  </a:lnTo>
                  <a:lnTo>
                    <a:pt x="84" y="2835"/>
                  </a:lnTo>
                  <a:lnTo>
                    <a:pt x="100" y="2857"/>
                  </a:lnTo>
                  <a:lnTo>
                    <a:pt x="115" y="2878"/>
                  </a:lnTo>
                  <a:lnTo>
                    <a:pt x="129" y="2895"/>
                  </a:lnTo>
                  <a:lnTo>
                    <a:pt x="143" y="2909"/>
                  </a:lnTo>
                  <a:lnTo>
                    <a:pt x="144" y="2903"/>
                  </a:lnTo>
                  <a:lnTo>
                    <a:pt x="147" y="2887"/>
                  </a:lnTo>
                  <a:lnTo>
                    <a:pt x="150" y="2861"/>
                  </a:lnTo>
                  <a:lnTo>
                    <a:pt x="154" y="2829"/>
                  </a:lnTo>
                  <a:lnTo>
                    <a:pt x="157" y="2793"/>
                  </a:lnTo>
                  <a:lnTo>
                    <a:pt x="159" y="2752"/>
                  </a:lnTo>
                  <a:lnTo>
                    <a:pt x="159" y="2733"/>
                  </a:lnTo>
                  <a:lnTo>
                    <a:pt x="159" y="2712"/>
                  </a:lnTo>
                  <a:lnTo>
                    <a:pt x="158" y="2692"/>
                  </a:lnTo>
                  <a:lnTo>
                    <a:pt x="157" y="2673"/>
                  </a:lnTo>
                  <a:lnTo>
                    <a:pt x="154" y="2653"/>
                  </a:lnTo>
                  <a:lnTo>
                    <a:pt x="153" y="2632"/>
                  </a:lnTo>
                  <a:lnTo>
                    <a:pt x="153" y="2611"/>
                  </a:lnTo>
                  <a:lnTo>
                    <a:pt x="154" y="2589"/>
                  </a:lnTo>
                  <a:lnTo>
                    <a:pt x="158" y="2565"/>
                  </a:lnTo>
                  <a:lnTo>
                    <a:pt x="161" y="2542"/>
                  </a:lnTo>
                  <a:lnTo>
                    <a:pt x="168" y="2519"/>
                  </a:lnTo>
                  <a:lnTo>
                    <a:pt x="176" y="2495"/>
                  </a:lnTo>
                  <a:lnTo>
                    <a:pt x="186" y="2472"/>
                  </a:lnTo>
                  <a:lnTo>
                    <a:pt x="198" y="2447"/>
                  </a:lnTo>
                  <a:lnTo>
                    <a:pt x="213" y="2424"/>
                  </a:lnTo>
                  <a:lnTo>
                    <a:pt x="230" y="2399"/>
                  </a:lnTo>
                  <a:lnTo>
                    <a:pt x="250" y="2376"/>
                  </a:lnTo>
                  <a:lnTo>
                    <a:pt x="272" y="2354"/>
                  </a:lnTo>
                  <a:lnTo>
                    <a:pt x="297" y="2331"/>
                  </a:lnTo>
                  <a:lnTo>
                    <a:pt x="325" y="2308"/>
                  </a:lnTo>
                  <a:lnTo>
                    <a:pt x="379" y="2264"/>
                  </a:lnTo>
                  <a:lnTo>
                    <a:pt x="436" y="2219"/>
                  </a:lnTo>
                  <a:lnTo>
                    <a:pt x="465" y="2196"/>
                  </a:lnTo>
                  <a:lnTo>
                    <a:pt x="497" y="2174"/>
                  </a:lnTo>
                  <a:lnTo>
                    <a:pt x="513" y="2165"/>
                  </a:lnTo>
                  <a:lnTo>
                    <a:pt x="529" y="2155"/>
                  </a:lnTo>
                  <a:lnTo>
                    <a:pt x="547" y="2145"/>
                  </a:lnTo>
                  <a:lnTo>
                    <a:pt x="565" y="2136"/>
                  </a:lnTo>
                  <a:lnTo>
                    <a:pt x="583" y="2128"/>
                  </a:lnTo>
                  <a:lnTo>
                    <a:pt x="602" y="2120"/>
                  </a:lnTo>
                  <a:lnTo>
                    <a:pt x="623" y="2114"/>
                  </a:lnTo>
                  <a:lnTo>
                    <a:pt x="642" y="2108"/>
                  </a:lnTo>
                  <a:lnTo>
                    <a:pt x="665" y="2103"/>
                  </a:lnTo>
                  <a:lnTo>
                    <a:pt x="687" y="2099"/>
                  </a:lnTo>
                  <a:lnTo>
                    <a:pt x="710" y="2096"/>
                  </a:lnTo>
                  <a:lnTo>
                    <a:pt x="734" y="2093"/>
                  </a:lnTo>
                  <a:lnTo>
                    <a:pt x="759" y="2092"/>
                  </a:lnTo>
                  <a:lnTo>
                    <a:pt x="785" y="2092"/>
                  </a:lnTo>
                  <a:lnTo>
                    <a:pt x="812" y="2093"/>
                  </a:lnTo>
                  <a:lnTo>
                    <a:pt x="841" y="2097"/>
                  </a:lnTo>
                  <a:lnTo>
                    <a:pt x="870" y="2101"/>
                  </a:lnTo>
                  <a:lnTo>
                    <a:pt x="901" y="2105"/>
                  </a:lnTo>
                  <a:lnTo>
                    <a:pt x="933" y="2113"/>
                  </a:lnTo>
                  <a:lnTo>
                    <a:pt x="966" y="2121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5848200" y="3648240"/>
              <a:ext cx="24120" cy="1220760"/>
            </a:xfrm>
            <a:custGeom>
              <a:avLst/>
              <a:gdLst/>
              <a:ahLst/>
              <a:rect l="l" t="t" r="r" b="b"/>
              <a:pathLst>
                <a:path w="75" h="3844">
                  <a:moveTo>
                    <a:pt x="50" y="0"/>
                  </a:moveTo>
                  <a:lnTo>
                    <a:pt x="47" y="176"/>
                  </a:lnTo>
                  <a:lnTo>
                    <a:pt x="42" y="432"/>
                  </a:lnTo>
                  <a:lnTo>
                    <a:pt x="37" y="744"/>
                  </a:lnTo>
                  <a:lnTo>
                    <a:pt x="33" y="1086"/>
                  </a:lnTo>
                  <a:lnTo>
                    <a:pt x="29" y="1433"/>
                  </a:lnTo>
                  <a:lnTo>
                    <a:pt x="29" y="1758"/>
                  </a:lnTo>
                  <a:lnTo>
                    <a:pt x="29" y="1904"/>
                  </a:lnTo>
                  <a:lnTo>
                    <a:pt x="31" y="2036"/>
                  </a:lnTo>
                  <a:lnTo>
                    <a:pt x="33" y="2149"/>
                  </a:lnTo>
                  <a:lnTo>
                    <a:pt x="37" y="2241"/>
                  </a:lnTo>
                  <a:lnTo>
                    <a:pt x="47" y="2399"/>
                  </a:lnTo>
                  <a:lnTo>
                    <a:pt x="57" y="2513"/>
                  </a:lnTo>
                  <a:lnTo>
                    <a:pt x="65" y="2600"/>
                  </a:lnTo>
                  <a:lnTo>
                    <a:pt x="71" y="2673"/>
                  </a:lnTo>
                  <a:lnTo>
                    <a:pt x="74" y="2709"/>
                  </a:lnTo>
                  <a:lnTo>
                    <a:pt x="75" y="2745"/>
                  </a:lnTo>
                  <a:lnTo>
                    <a:pt x="75" y="2785"/>
                  </a:lnTo>
                  <a:lnTo>
                    <a:pt x="75" y="2830"/>
                  </a:lnTo>
                  <a:lnTo>
                    <a:pt x="74" y="2882"/>
                  </a:lnTo>
                  <a:lnTo>
                    <a:pt x="73" y="2942"/>
                  </a:lnTo>
                  <a:lnTo>
                    <a:pt x="69" y="3012"/>
                  </a:lnTo>
                  <a:lnTo>
                    <a:pt x="64" y="3095"/>
                  </a:lnTo>
                  <a:lnTo>
                    <a:pt x="60" y="3162"/>
                  </a:lnTo>
                  <a:lnTo>
                    <a:pt x="54" y="3226"/>
                  </a:lnTo>
                  <a:lnTo>
                    <a:pt x="48" y="3288"/>
                  </a:lnTo>
                  <a:lnTo>
                    <a:pt x="42" y="3347"/>
                  </a:lnTo>
                  <a:lnTo>
                    <a:pt x="28" y="3455"/>
                  </a:lnTo>
                  <a:lnTo>
                    <a:pt x="16" y="3552"/>
                  </a:lnTo>
                  <a:lnTo>
                    <a:pt x="10" y="3598"/>
                  </a:lnTo>
                  <a:lnTo>
                    <a:pt x="6" y="3640"/>
                  </a:lnTo>
                  <a:lnTo>
                    <a:pt x="2" y="3680"/>
                  </a:lnTo>
                  <a:lnTo>
                    <a:pt x="0" y="3717"/>
                  </a:lnTo>
                  <a:lnTo>
                    <a:pt x="0" y="3752"/>
                  </a:lnTo>
                  <a:lnTo>
                    <a:pt x="1" y="3785"/>
                  </a:lnTo>
                  <a:lnTo>
                    <a:pt x="2" y="3801"/>
                  </a:lnTo>
                  <a:lnTo>
                    <a:pt x="5" y="3816"/>
                  </a:lnTo>
                  <a:lnTo>
                    <a:pt x="7" y="3830"/>
                  </a:lnTo>
                  <a:lnTo>
                    <a:pt x="10" y="3844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7134120" y="3818160"/>
              <a:ext cx="243000" cy="1074600"/>
            </a:xfrm>
            <a:custGeom>
              <a:avLst/>
              <a:gdLst/>
              <a:ahLst/>
              <a:rect l="l" t="t" r="r" b="b"/>
              <a:pathLst>
                <a:path w="764" h="3385">
                  <a:moveTo>
                    <a:pt x="0" y="3385"/>
                  </a:moveTo>
                  <a:lnTo>
                    <a:pt x="1" y="3306"/>
                  </a:lnTo>
                  <a:lnTo>
                    <a:pt x="4" y="3191"/>
                  </a:lnTo>
                  <a:lnTo>
                    <a:pt x="9" y="3044"/>
                  </a:lnTo>
                  <a:lnTo>
                    <a:pt x="14" y="2873"/>
                  </a:lnTo>
                  <a:lnTo>
                    <a:pt x="18" y="2683"/>
                  </a:lnTo>
                  <a:lnTo>
                    <a:pt x="23" y="2479"/>
                  </a:lnTo>
                  <a:lnTo>
                    <a:pt x="26" y="2265"/>
                  </a:lnTo>
                  <a:lnTo>
                    <a:pt x="27" y="2049"/>
                  </a:lnTo>
                  <a:lnTo>
                    <a:pt x="28" y="1941"/>
                  </a:lnTo>
                  <a:lnTo>
                    <a:pt x="30" y="1837"/>
                  </a:lnTo>
                  <a:lnTo>
                    <a:pt x="32" y="1736"/>
                  </a:lnTo>
                  <a:lnTo>
                    <a:pt x="37" y="1636"/>
                  </a:lnTo>
                  <a:lnTo>
                    <a:pt x="42" y="1540"/>
                  </a:lnTo>
                  <a:lnTo>
                    <a:pt x="48" y="1448"/>
                  </a:lnTo>
                  <a:lnTo>
                    <a:pt x="55" y="1359"/>
                  </a:lnTo>
                  <a:lnTo>
                    <a:pt x="63" y="1273"/>
                  </a:lnTo>
                  <a:lnTo>
                    <a:pt x="71" y="1192"/>
                  </a:lnTo>
                  <a:lnTo>
                    <a:pt x="81" y="1115"/>
                  </a:lnTo>
                  <a:lnTo>
                    <a:pt x="92" y="1040"/>
                  </a:lnTo>
                  <a:lnTo>
                    <a:pt x="103" y="971"/>
                  </a:lnTo>
                  <a:lnTo>
                    <a:pt x="117" y="905"/>
                  </a:lnTo>
                  <a:lnTo>
                    <a:pt x="129" y="844"/>
                  </a:lnTo>
                  <a:lnTo>
                    <a:pt x="143" y="789"/>
                  </a:lnTo>
                  <a:lnTo>
                    <a:pt x="157" y="737"/>
                  </a:lnTo>
                  <a:lnTo>
                    <a:pt x="189" y="637"/>
                  </a:lnTo>
                  <a:lnTo>
                    <a:pt x="223" y="536"/>
                  </a:lnTo>
                  <a:lnTo>
                    <a:pt x="240" y="486"/>
                  </a:lnTo>
                  <a:lnTo>
                    <a:pt x="256" y="437"/>
                  </a:lnTo>
                  <a:lnTo>
                    <a:pt x="271" y="388"/>
                  </a:lnTo>
                  <a:lnTo>
                    <a:pt x="285" y="340"/>
                  </a:lnTo>
                  <a:lnTo>
                    <a:pt x="298" y="292"/>
                  </a:lnTo>
                  <a:lnTo>
                    <a:pt x="309" y="245"/>
                  </a:lnTo>
                  <a:lnTo>
                    <a:pt x="317" y="201"/>
                  </a:lnTo>
                  <a:lnTo>
                    <a:pt x="324" y="156"/>
                  </a:lnTo>
                  <a:lnTo>
                    <a:pt x="325" y="135"/>
                  </a:lnTo>
                  <a:lnTo>
                    <a:pt x="326" y="115"/>
                  </a:lnTo>
                  <a:lnTo>
                    <a:pt x="327" y="95"/>
                  </a:lnTo>
                  <a:lnTo>
                    <a:pt x="326" y="74"/>
                  </a:lnTo>
                  <a:lnTo>
                    <a:pt x="325" y="56"/>
                  </a:lnTo>
                  <a:lnTo>
                    <a:pt x="322" y="37"/>
                  </a:lnTo>
                  <a:lnTo>
                    <a:pt x="320" y="19"/>
                  </a:lnTo>
                  <a:lnTo>
                    <a:pt x="315" y="0"/>
                  </a:lnTo>
                  <a:lnTo>
                    <a:pt x="320" y="16"/>
                  </a:lnTo>
                  <a:lnTo>
                    <a:pt x="333" y="57"/>
                  </a:lnTo>
                  <a:lnTo>
                    <a:pt x="343" y="84"/>
                  </a:lnTo>
                  <a:lnTo>
                    <a:pt x="354" y="112"/>
                  </a:lnTo>
                  <a:lnTo>
                    <a:pt x="367" y="143"/>
                  </a:lnTo>
                  <a:lnTo>
                    <a:pt x="381" y="174"/>
                  </a:lnTo>
                  <a:lnTo>
                    <a:pt x="396" y="204"/>
                  </a:lnTo>
                  <a:lnTo>
                    <a:pt x="413" y="233"/>
                  </a:lnTo>
                  <a:lnTo>
                    <a:pt x="421" y="245"/>
                  </a:lnTo>
                  <a:lnTo>
                    <a:pt x="431" y="257"/>
                  </a:lnTo>
                  <a:lnTo>
                    <a:pt x="439" y="267"/>
                  </a:lnTo>
                  <a:lnTo>
                    <a:pt x="448" y="277"/>
                  </a:lnTo>
                  <a:lnTo>
                    <a:pt x="458" y="284"/>
                  </a:lnTo>
                  <a:lnTo>
                    <a:pt x="466" y="292"/>
                  </a:lnTo>
                  <a:lnTo>
                    <a:pt x="476" y="297"/>
                  </a:lnTo>
                  <a:lnTo>
                    <a:pt x="486" y="299"/>
                  </a:lnTo>
                  <a:lnTo>
                    <a:pt x="496" y="300"/>
                  </a:lnTo>
                  <a:lnTo>
                    <a:pt x="504" y="298"/>
                  </a:lnTo>
                  <a:lnTo>
                    <a:pt x="514" y="294"/>
                  </a:lnTo>
                  <a:lnTo>
                    <a:pt x="524" y="288"/>
                  </a:lnTo>
                  <a:lnTo>
                    <a:pt x="545" y="272"/>
                  </a:lnTo>
                  <a:lnTo>
                    <a:pt x="570" y="251"/>
                  </a:lnTo>
                  <a:lnTo>
                    <a:pt x="597" y="225"/>
                  </a:lnTo>
                  <a:lnTo>
                    <a:pt x="627" y="195"/>
                  </a:lnTo>
                  <a:lnTo>
                    <a:pt x="661" y="161"/>
                  </a:lnTo>
                  <a:lnTo>
                    <a:pt x="694" y="127"/>
                  </a:lnTo>
                  <a:lnTo>
                    <a:pt x="728" y="90"/>
                  </a:lnTo>
                  <a:lnTo>
                    <a:pt x="764" y="52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7061040" y="2989440"/>
              <a:ext cx="320760" cy="203040"/>
            </a:xfrm>
            <a:custGeom>
              <a:avLst/>
              <a:gdLst/>
              <a:ahLst/>
              <a:rect l="l" t="t" r="r" b="b"/>
              <a:pathLst>
                <a:path w="1011" h="643">
                  <a:moveTo>
                    <a:pt x="1011" y="643"/>
                  </a:moveTo>
                  <a:lnTo>
                    <a:pt x="992" y="607"/>
                  </a:lnTo>
                  <a:lnTo>
                    <a:pt x="970" y="570"/>
                  </a:lnTo>
                  <a:lnTo>
                    <a:pt x="947" y="536"/>
                  </a:lnTo>
                  <a:lnTo>
                    <a:pt x="924" y="503"/>
                  </a:lnTo>
                  <a:lnTo>
                    <a:pt x="912" y="487"/>
                  </a:lnTo>
                  <a:lnTo>
                    <a:pt x="901" y="472"/>
                  </a:lnTo>
                  <a:lnTo>
                    <a:pt x="888" y="458"/>
                  </a:lnTo>
                  <a:lnTo>
                    <a:pt x="877" y="446"/>
                  </a:lnTo>
                  <a:lnTo>
                    <a:pt x="865" y="436"/>
                  </a:lnTo>
                  <a:lnTo>
                    <a:pt x="854" y="426"/>
                  </a:lnTo>
                  <a:lnTo>
                    <a:pt x="843" y="419"/>
                  </a:lnTo>
                  <a:lnTo>
                    <a:pt x="832" y="413"/>
                  </a:lnTo>
                  <a:lnTo>
                    <a:pt x="789" y="388"/>
                  </a:lnTo>
                  <a:lnTo>
                    <a:pt x="740" y="360"/>
                  </a:lnTo>
                  <a:lnTo>
                    <a:pt x="683" y="327"/>
                  </a:lnTo>
                  <a:lnTo>
                    <a:pt x="623" y="291"/>
                  </a:lnTo>
                  <a:lnTo>
                    <a:pt x="560" y="256"/>
                  </a:lnTo>
                  <a:lnTo>
                    <a:pt x="497" y="221"/>
                  </a:lnTo>
                  <a:lnTo>
                    <a:pt x="465" y="205"/>
                  </a:lnTo>
                  <a:lnTo>
                    <a:pt x="433" y="190"/>
                  </a:lnTo>
                  <a:lnTo>
                    <a:pt x="402" y="176"/>
                  </a:lnTo>
                  <a:lnTo>
                    <a:pt x="373" y="162"/>
                  </a:lnTo>
                  <a:lnTo>
                    <a:pt x="350" y="152"/>
                  </a:lnTo>
                  <a:lnTo>
                    <a:pt x="318" y="139"/>
                  </a:lnTo>
                  <a:lnTo>
                    <a:pt x="278" y="121"/>
                  </a:lnTo>
                  <a:lnTo>
                    <a:pt x="231" y="102"/>
                  </a:lnTo>
                  <a:lnTo>
                    <a:pt x="180" y="78"/>
                  </a:lnTo>
                  <a:lnTo>
                    <a:pt x="124" y="54"/>
                  </a:lnTo>
                  <a:lnTo>
                    <a:pt x="64" y="2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6840720" y="2890800"/>
              <a:ext cx="14040" cy="50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3" y="19"/>
                  </a:moveTo>
                  <a:lnTo>
                    <a:pt x="38" y="16"/>
                  </a:lnTo>
                  <a:lnTo>
                    <a:pt x="32" y="13"/>
                  </a:lnTo>
                  <a:lnTo>
                    <a:pt x="26" y="11"/>
                  </a:lnTo>
                  <a:lnTo>
                    <a:pt x="21" y="8"/>
                  </a:lnTo>
                  <a:lnTo>
                    <a:pt x="16" y="6"/>
                  </a:lnTo>
                  <a:lnTo>
                    <a:pt x="10" y="5"/>
                  </a:lnTo>
                  <a:lnTo>
                    <a:pt x="5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6637320" y="4418280"/>
              <a:ext cx="50760" cy="4896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55"/>
                  </a:moveTo>
                  <a:lnTo>
                    <a:pt x="86" y="155"/>
                  </a:lnTo>
                  <a:lnTo>
                    <a:pt x="93" y="153"/>
                  </a:lnTo>
                  <a:lnTo>
                    <a:pt x="99" y="152"/>
                  </a:lnTo>
                  <a:lnTo>
                    <a:pt x="107" y="150"/>
                  </a:lnTo>
                  <a:lnTo>
                    <a:pt x="113" y="147"/>
                  </a:lnTo>
                  <a:lnTo>
                    <a:pt x="119" y="144"/>
                  </a:lnTo>
                  <a:lnTo>
                    <a:pt x="125" y="140"/>
                  </a:lnTo>
                  <a:lnTo>
                    <a:pt x="130" y="136"/>
                  </a:lnTo>
                  <a:lnTo>
                    <a:pt x="136" y="130"/>
                  </a:lnTo>
                  <a:lnTo>
                    <a:pt x="141" y="124"/>
                  </a:lnTo>
                  <a:lnTo>
                    <a:pt x="146" y="118"/>
                  </a:lnTo>
                  <a:lnTo>
                    <a:pt x="150" y="110"/>
                  </a:lnTo>
                  <a:lnTo>
                    <a:pt x="153" y="102"/>
                  </a:lnTo>
                  <a:lnTo>
                    <a:pt x="156" y="94"/>
                  </a:lnTo>
                  <a:lnTo>
                    <a:pt x="157" y="86"/>
                  </a:lnTo>
                  <a:lnTo>
                    <a:pt x="157" y="76"/>
                  </a:lnTo>
                  <a:lnTo>
                    <a:pt x="157" y="69"/>
                  </a:lnTo>
                  <a:lnTo>
                    <a:pt x="156" y="61"/>
                  </a:lnTo>
                  <a:lnTo>
                    <a:pt x="153" y="54"/>
                  </a:lnTo>
                  <a:lnTo>
                    <a:pt x="151" y="48"/>
                  </a:lnTo>
                  <a:lnTo>
                    <a:pt x="148" y="40"/>
                  </a:lnTo>
                  <a:lnTo>
                    <a:pt x="144" y="34"/>
                  </a:lnTo>
                  <a:lnTo>
                    <a:pt x="140" y="28"/>
                  </a:lnTo>
                  <a:lnTo>
                    <a:pt x="134" y="23"/>
                  </a:lnTo>
                  <a:lnTo>
                    <a:pt x="129" y="18"/>
                  </a:lnTo>
                  <a:lnTo>
                    <a:pt x="123" y="13"/>
                  </a:lnTo>
                  <a:lnTo>
                    <a:pt x="116" y="10"/>
                  </a:lnTo>
                  <a:lnTo>
                    <a:pt x="109" y="6"/>
                  </a:lnTo>
                  <a:lnTo>
                    <a:pt x="102" y="3"/>
                  </a:lnTo>
                  <a:lnTo>
                    <a:pt x="94" y="2"/>
                  </a:lnTo>
                  <a:lnTo>
                    <a:pt x="87" y="1"/>
                  </a:lnTo>
                  <a:lnTo>
                    <a:pt x="78" y="0"/>
                  </a:lnTo>
                  <a:lnTo>
                    <a:pt x="71" y="1"/>
                  </a:lnTo>
                  <a:lnTo>
                    <a:pt x="62" y="2"/>
                  </a:lnTo>
                  <a:lnTo>
                    <a:pt x="55" y="3"/>
                  </a:lnTo>
                  <a:lnTo>
                    <a:pt x="48" y="6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28" y="18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3" y="34"/>
                  </a:lnTo>
                  <a:lnTo>
                    <a:pt x="9" y="40"/>
                  </a:lnTo>
                  <a:lnTo>
                    <a:pt x="6" y="48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1" y="92"/>
                  </a:lnTo>
                  <a:lnTo>
                    <a:pt x="3" y="99"/>
                  </a:lnTo>
                  <a:lnTo>
                    <a:pt x="6" y="107"/>
                  </a:lnTo>
                  <a:lnTo>
                    <a:pt x="9" y="114"/>
                  </a:lnTo>
                  <a:lnTo>
                    <a:pt x="13" y="120"/>
                  </a:lnTo>
                  <a:lnTo>
                    <a:pt x="18" y="126"/>
                  </a:lnTo>
                  <a:lnTo>
                    <a:pt x="23" y="133"/>
                  </a:lnTo>
                  <a:lnTo>
                    <a:pt x="28" y="137"/>
                  </a:lnTo>
                  <a:lnTo>
                    <a:pt x="34" y="141"/>
                  </a:lnTo>
                  <a:lnTo>
                    <a:pt x="41" y="146"/>
                  </a:lnTo>
                  <a:lnTo>
                    <a:pt x="48" y="149"/>
                  </a:lnTo>
                  <a:lnTo>
                    <a:pt x="55" y="151"/>
                  </a:lnTo>
                  <a:lnTo>
                    <a:pt x="62" y="153"/>
                  </a:lnTo>
                  <a:lnTo>
                    <a:pt x="71" y="155"/>
                  </a:lnTo>
                  <a:lnTo>
                    <a:pt x="78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6637320" y="4418280"/>
              <a:ext cx="50760" cy="4896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55"/>
                  </a:moveTo>
                  <a:lnTo>
                    <a:pt x="86" y="155"/>
                  </a:lnTo>
                  <a:lnTo>
                    <a:pt x="93" y="153"/>
                  </a:lnTo>
                  <a:lnTo>
                    <a:pt x="99" y="152"/>
                  </a:lnTo>
                  <a:lnTo>
                    <a:pt x="107" y="150"/>
                  </a:lnTo>
                  <a:lnTo>
                    <a:pt x="113" y="147"/>
                  </a:lnTo>
                  <a:lnTo>
                    <a:pt x="119" y="144"/>
                  </a:lnTo>
                  <a:lnTo>
                    <a:pt x="125" y="140"/>
                  </a:lnTo>
                  <a:lnTo>
                    <a:pt x="130" y="136"/>
                  </a:lnTo>
                  <a:lnTo>
                    <a:pt x="136" y="130"/>
                  </a:lnTo>
                  <a:lnTo>
                    <a:pt x="141" y="124"/>
                  </a:lnTo>
                  <a:lnTo>
                    <a:pt x="146" y="118"/>
                  </a:lnTo>
                  <a:lnTo>
                    <a:pt x="150" y="110"/>
                  </a:lnTo>
                  <a:lnTo>
                    <a:pt x="153" y="102"/>
                  </a:lnTo>
                  <a:lnTo>
                    <a:pt x="156" y="94"/>
                  </a:lnTo>
                  <a:lnTo>
                    <a:pt x="157" y="86"/>
                  </a:lnTo>
                  <a:lnTo>
                    <a:pt x="157" y="76"/>
                  </a:lnTo>
                  <a:lnTo>
                    <a:pt x="157" y="69"/>
                  </a:lnTo>
                  <a:lnTo>
                    <a:pt x="156" y="61"/>
                  </a:lnTo>
                  <a:lnTo>
                    <a:pt x="153" y="54"/>
                  </a:lnTo>
                  <a:lnTo>
                    <a:pt x="151" y="48"/>
                  </a:lnTo>
                  <a:lnTo>
                    <a:pt x="148" y="40"/>
                  </a:lnTo>
                  <a:lnTo>
                    <a:pt x="144" y="34"/>
                  </a:lnTo>
                  <a:lnTo>
                    <a:pt x="140" y="28"/>
                  </a:lnTo>
                  <a:lnTo>
                    <a:pt x="134" y="23"/>
                  </a:lnTo>
                  <a:lnTo>
                    <a:pt x="129" y="18"/>
                  </a:lnTo>
                  <a:lnTo>
                    <a:pt x="123" y="13"/>
                  </a:lnTo>
                  <a:lnTo>
                    <a:pt x="116" y="10"/>
                  </a:lnTo>
                  <a:lnTo>
                    <a:pt x="109" y="6"/>
                  </a:lnTo>
                  <a:lnTo>
                    <a:pt x="102" y="3"/>
                  </a:lnTo>
                  <a:lnTo>
                    <a:pt x="94" y="2"/>
                  </a:lnTo>
                  <a:lnTo>
                    <a:pt x="87" y="1"/>
                  </a:lnTo>
                  <a:lnTo>
                    <a:pt x="78" y="0"/>
                  </a:lnTo>
                  <a:lnTo>
                    <a:pt x="71" y="1"/>
                  </a:lnTo>
                  <a:lnTo>
                    <a:pt x="62" y="2"/>
                  </a:lnTo>
                  <a:lnTo>
                    <a:pt x="55" y="3"/>
                  </a:lnTo>
                  <a:lnTo>
                    <a:pt x="48" y="6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28" y="18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3" y="34"/>
                  </a:lnTo>
                  <a:lnTo>
                    <a:pt x="9" y="40"/>
                  </a:lnTo>
                  <a:lnTo>
                    <a:pt x="6" y="48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1" y="92"/>
                  </a:lnTo>
                  <a:lnTo>
                    <a:pt x="3" y="99"/>
                  </a:lnTo>
                  <a:lnTo>
                    <a:pt x="6" y="107"/>
                  </a:lnTo>
                  <a:lnTo>
                    <a:pt x="9" y="114"/>
                  </a:lnTo>
                  <a:lnTo>
                    <a:pt x="13" y="120"/>
                  </a:lnTo>
                  <a:lnTo>
                    <a:pt x="18" y="126"/>
                  </a:lnTo>
                  <a:lnTo>
                    <a:pt x="23" y="133"/>
                  </a:lnTo>
                  <a:lnTo>
                    <a:pt x="28" y="137"/>
                  </a:lnTo>
                  <a:lnTo>
                    <a:pt x="34" y="141"/>
                  </a:lnTo>
                  <a:lnTo>
                    <a:pt x="41" y="146"/>
                  </a:lnTo>
                  <a:lnTo>
                    <a:pt x="48" y="149"/>
                  </a:lnTo>
                  <a:lnTo>
                    <a:pt x="55" y="151"/>
                  </a:lnTo>
                  <a:lnTo>
                    <a:pt x="62" y="153"/>
                  </a:lnTo>
                  <a:lnTo>
                    <a:pt x="71" y="155"/>
                  </a:lnTo>
                  <a:lnTo>
                    <a:pt x="78" y="15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6645240" y="4426200"/>
              <a:ext cx="34920" cy="29880"/>
            </a:xfrm>
            <a:custGeom>
              <a:avLst/>
              <a:gdLst/>
              <a:ahLst/>
              <a:rect l="l" t="t" r="r" b="b"/>
              <a:pathLst>
                <a:path w="108" h="98">
                  <a:moveTo>
                    <a:pt x="90" y="98"/>
                  </a:moveTo>
                  <a:lnTo>
                    <a:pt x="95" y="93"/>
                  </a:lnTo>
                  <a:lnTo>
                    <a:pt x="99" y="88"/>
                  </a:lnTo>
                  <a:lnTo>
                    <a:pt x="102" y="83"/>
                  </a:lnTo>
                  <a:lnTo>
                    <a:pt x="105" y="79"/>
                  </a:lnTo>
                  <a:lnTo>
                    <a:pt x="106" y="72"/>
                  </a:lnTo>
                  <a:lnTo>
                    <a:pt x="108" y="66"/>
                  </a:lnTo>
                  <a:lnTo>
                    <a:pt x="108" y="60"/>
                  </a:lnTo>
                  <a:lnTo>
                    <a:pt x="108" y="54"/>
                  </a:lnTo>
                  <a:lnTo>
                    <a:pt x="107" y="43"/>
                  </a:lnTo>
                  <a:lnTo>
                    <a:pt x="105" y="33"/>
                  </a:lnTo>
                  <a:lnTo>
                    <a:pt x="100" y="24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5"/>
                  </a:lnTo>
                  <a:lnTo>
                    <a:pt x="65" y="1"/>
                  </a:lnTo>
                  <a:lnTo>
                    <a:pt x="54" y="0"/>
                  </a:lnTo>
                  <a:lnTo>
                    <a:pt x="44" y="1"/>
                  </a:lnTo>
                  <a:lnTo>
                    <a:pt x="35" y="4"/>
                  </a:lnTo>
                  <a:lnTo>
                    <a:pt x="26" y="7"/>
                  </a:lnTo>
                  <a:lnTo>
                    <a:pt x="19" y="13"/>
                  </a:lnTo>
                  <a:lnTo>
                    <a:pt x="11" y="20"/>
                  </a:lnTo>
                  <a:lnTo>
                    <a:pt x="6" y="27"/>
                  </a:lnTo>
                  <a:lnTo>
                    <a:pt x="3" y="37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11" y="37"/>
                  </a:lnTo>
                  <a:lnTo>
                    <a:pt x="20" y="32"/>
                  </a:lnTo>
                  <a:lnTo>
                    <a:pt x="27" y="28"/>
                  </a:lnTo>
                  <a:lnTo>
                    <a:pt x="37" y="24"/>
                  </a:lnTo>
                  <a:lnTo>
                    <a:pt x="42" y="23"/>
                  </a:lnTo>
                  <a:lnTo>
                    <a:pt x="46" y="23"/>
                  </a:lnTo>
                  <a:lnTo>
                    <a:pt x="51" y="23"/>
                  </a:lnTo>
                  <a:lnTo>
                    <a:pt x="54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5" y="37"/>
                  </a:lnTo>
                  <a:lnTo>
                    <a:pt x="80" y="42"/>
                  </a:lnTo>
                  <a:lnTo>
                    <a:pt x="84" y="47"/>
                  </a:lnTo>
                  <a:lnTo>
                    <a:pt x="86" y="51"/>
                  </a:lnTo>
                  <a:lnTo>
                    <a:pt x="89" y="58"/>
                  </a:lnTo>
                  <a:lnTo>
                    <a:pt x="90" y="63"/>
                  </a:lnTo>
                  <a:lnTo>
                    <a:pt x="91" y="67"/>
                  </a:lnTo>
                  <a:lnTo>
                    <a:pt x="91" y="74"/>
                  </a:lnTo>
                  <a:lnTo>
                    <a:pt x="91" y="80"/>
                  </a:lnTo>
                  <a:lnTo>
                    <a:pt x="91" y="85"/>
                  </a:lnTo>
                  <a:lnTo>
                    <a:pt x="91" y="90"/>
                  </a:lnTo>
                  <a:lnTo>
                    <a:pt x="90" y="95"/>
                  </a:lnTo>
                  <a:lnTo>
                    <a:pt x="90" y="97"/>
                  </a:lnTo>
                  <a:lnTo>
                    <a:pt x="90" y="98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6649920" y="401796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6" y="155"/>
                  </a:moveTo>
                  <a:lnTo>
                    <a:pt x="85" y="154"/>
                  </a:lnTo>
                  <a:lnTo>
                    <a:pt x="92" y="154"/>
                  </a:lnTo>
                  <a:lnTo>
                    <a:pt x="99" y="153"/>
                  </a:lnTo>
                  <a:lnTo>
                    <a:pt x="106" y="150"/>
                  </a:lnTo>
                  <a:lnTo>
                    <a:pt x="112" y="148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5"/>
                  </a:lnTo>
                  <a:lnTo>
                    <a:pt x="134" y="131"/>
                  </a:lnTo>
                  <a:lnTo>
                    <a:pt x="139" y="124"/>
                  </a:lnTo>
                  <a:lnTo>
                    <a:pt x="144" y="117"/>
                  </a:lnTo>
                  <a:lnTo>
                    <a:pt x="148" y="110"/>
                  </a:lnTo>
                  <a:lnTo>
                    <a:pt x="151" y="102"/>
                  </a:lnTo>
                  <a:lnTo>
                    <a:pt x="154" y="95"/>
                  </a:lnTo>
                  <a:lnTo>
                    <a:pt x="155" y="86"/>
                  </a:lnTo>
                  <a:lnTo>
                    <a:pt x="155" y="79"/>
                  </a:lnTo>
                  <a:lnTo>
                    <a:pt x="155" y="70"/>
                  </a:lnTo>
                  <a:lnTo>
                    <a:pt x="154" y="63"/>
                  </a:lnTo>
                  <a:lnTo>
                    <a:pt x="151" y="56"/>
                  </a:lnTo>
                  <a:lnTo>
                    <a:pt x="149" y="48"/>
                  </a:lnTo>
                  <a:lnTo>
                    <a:pt x="145" y="41"/>
                  </a:lnTo>
                  <a:lnTo>
                    <a:pt x="142" y="35"/>
                  </a:lnTo>
                  <a:lnTo>
                    <a:pt x="138" y="28"/>
                  </a:lnTo>
                  <a:lnTo>
                    <a:pt x="132" y="24"/>
                  </a:lnTo>
                  <a:lnTo>
                    <a:pt x="127" y="17"/>
                  </a:lnTo>
                  <a:lnTo>
                    <a:pt x="121" y="14"/>
                  </a:lnTo>
                  <a:lnTo>
                    <a:pt x="115" y="9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9"/>
                  </a:lnTo>
                  <a:lnTo>
                    <a:pt x="35" y="14"/>
                  </a:lnTo>
                  <a:lnTo>
                    <a:pt x="28" y="17"/>
                  </a:lnTo>
                  <a:lnTo>
                    <a:pt x="24" y="24"/>
                  </a:lnTo>
                  <a:lnTo>
                    <a:pt x="19" y="28"/>
                  </a:lnTo>
                  <a:lnTo>
                    <a:pt x="14" y="35"/>
                  </a:lnTo>
                  <a:lnTo>
                    <a:pt x="10" y="41"/>
                  </a:lnTo>
                  <a:lnTo>
                    <a:pt x="6" y="48"/>
                  </a:lnTo>
                  <a:lnTo>
                    <a:pt x="4" y="56"/>
                  </a:lnTo>
                  <a:lnTo>
                    <a:pt x="3" y="63"/>
                  </a:lnTo>
                  <a:lnTo>
                    <a:pt x="1" y="70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3" y="94"/>
                  </a:lnTo>
                  <a:lnTo>
                    <a:pt x="4" y="101"/>
                  </a:lnTo>
                  <a:lnTo>
                    <a:pt x="6" y="107"/>
                  </a:lnTo>
                  <a:lnTo>
                    <a:pt x="10" y="115"/>
                  </a:lnTo>
                  <a:lnTo>
                    <a:pt x="14" y="121"/>
                  </a:lnTo>
                  <a:lnTo>
                    <a:pt x="19" y="127"/>
                  </a:lnTo>
                  <a:lnTo>
                    <a:pt x="24" y="132"/>
                  </a:lnTo>
                  <a:lnTo>
                    <a:pt x="28" y="137"/>
                  </a:lnTo>
                  <a:lnTo>
                    <a:pt x="35" y="142"/>
                  </a:lnTo>
                  <a:lnTo>
                    <a:pt x="41" y="145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2" y="153"/>
                  </a:lnTo>
                  <a:lnTo>
                    <a:pt x="69" y="154"/>
                  </a:lnTo>
                  <a:lnTo>
                    <a:pt x="76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6649920" y="401796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6" y="155"/>
                  </a:moveTo>
                  <a:lnTo>
                    <a:pt x="85" y="154"/>
                  </a:lnTo>
                  <a:lnTo>
                    <a:pt x="92" y="154"/>
                  </a:lnTo>
                  <a:lnTo>
                    <a:pt x="99" y="153"/>
                  </a:lnTo>
                  <a:lnTo>
                    <a:pt x="106" y="150"/>
                  </a:lnTo>
                  <a:lnTo>
                    <a:pt x="112" y="148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5"/>
                  </a:lnTo>
                  <a:lnTo>
                    <a:pt x="134" y="131"/>
                  </a:lnTo>
                  <a:lnTo>
                    <a:pt x="139" y="124"/>
                  </a:lnTo>
                  <a:lnTo>
                    <a:pt x="144" y="117"/>
                  </a:lnTo>
                  <a:lnTo>
                    <a:pt x="148" y="110"/>
                  </a:lnTo>
                  <a:lnTo>
                    <a:pt x="151" y="102"/>
                  </a:lnTo>
                  <a:lnTo>
                    <a:pt x="154" y="95"/>
                  </a:lnTo>
                  <a:lnTo>
                    <a:pt x="155" y="86"/>
                  </a:lnTo>
                  <a:lnTo>
                    <a:pt x="155" y="79"/>
                  </a:lnTo>
                  <a:lnTo>
                    <a:pt x="155" y="70"/>
                  </a:lnTo>
                  <a:lnTo>
                    <a:pt x="154" y="63"/>
                  </a:lnTo>
                  <a:lnTo>
                    <a:pt x="151" y="56"/>
                  </a:lnTo>
                  <a:lnTo>
                    <a:pt x="149" y="48"/>
                  </a:lnTo>
                  <a:lnTo>
                    <a:pt x="145" y="41"/>
                  </a:lnTo>
                  <a:lnTo>
                    <a:pt x="142" y="35"/>
                  </a:lnTo>
                  <a:lnTo>
                    <a:pt x="138" y="28"/>
                  </a:lnTo>
                  <a:lnTo>
                    <a:pt x="132" y="24"/>
                  </a:lnTo>
                  <a:lnTo>
                    <a:pt x="127" y="17"/>
                  </a:lnTo>
                  <a:lnTo>
                    <a:pt x="121" y="14"/>
                  </a:lnTo>
                  <a:lnTo>
                    <a:pt x="115" y="9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9"/>
                  </a:lnTo>
                  <a:lnTo>
                    <a:pt x="35" y="14"/>
                  </a:lnTo>
                  <a:lnTo>
                    <a:pt x="28" y="17"/>
                  </a:lnTo>
                  <a:lnTo>
                    <a:pt x="24" y="24"/>
                  </a:lnTo>
                  <a:lnTo>
                    <a:pt x="19" y="28"/>
                  </a:lnTo>
                  <a:lnTo>
                    <a:pt x="14" y="35"/>
                  </a:lnTo>
                  <a:lnTo>
                    <a:pt x="10" y="41"/>
                  </a:lnTo>
                  <a:lnTo>
                    <a:pt x="6" y="48"/>
                  </a:lnTo>
                  <a:lnTo>
                    <a:pt x="4" y="56"/>
                  </a:lnTo>
                  <a:lnTo>
                    <a:pt x="3" y="63"/>
                  </a:lnTo>
                  <a:lnTo>
                    <a:pt x="1" y="70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3" y="94"/>
                  </a:lnTo>
                  <a:lnTo>
                    <a:pt x="4" y="101"/>
                  </a:lnTo>
                  <a:lnTo>
                    <a:pt x="6" y="107"/>
                  </a:lnTo>
                  <a:lnTo>
                    <a:pt x="10" y="115"/>
                  </a:lnTo>
                  <a:lnTo>
                    <a:pt x="14" y="121"/>
                  </a:lnTo>
                  <a:lnTo>
                    <a:pt x="19" y="127"/>
                  </a:lnTo>
                  <a:lnTo>
                    <a:pt x="24" y="132"/>
                  </a:lnTo>
                  <a:lnTo>
                    <a:pt x="28" y="137"/>
                  </a:lnTo>
                  <a:lnTo>
                    <a:pt x="35" y="142"/>
                  </a:lnTo>
                  <a:lnTo>
                    <a:pt x="41" y="145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2" y="153"/>
                  </a:lnTo>
                  <a:lnTo>
                    <a:pt x="69" y="154"/>
                  </a:lnTo>
                  <a:lnTo>
                    <a:pt x="76" y="15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6657840" y="4024440"/>
              <a:ext cx="34920" cy="31680"/>
            </a:xfrm>
            <a:custGeom>
              <a:avLst/>
              <a:gdLst/>
              <a:ahLst/>
              <a:rect l="l" t="t" r="r" b="b"/>
              <a:pathLst>
                <a:path w="112" h="98">
                  <a:moveTo>
                    <a:pt x="93" y="98"/>
                  </a:moveTo>
                  <a:lnTo>
                    <a:pt x="96" y="95"/>
                  </a:lnTo>
                  <a:lnTo>
                    <a:pt x="100" y="90"/>
                  </a:lnTo>
                  <a:lnTo>
                    <a:pt x="104" y="85"/>
                  </a:lnTo>
                  <a:lnTo>
                    <a:pt x="106" y="80"/>
                  </a:lnTo>
                  <a:lnTo>
                    <a:pt x="109" y="75"/>
                  </a:lnTo>
                  <a:lnTo>
                    <a:pt x="110" y="69"/>
                  </a:lnTo>
                  <a:lnTo>
                    <a:pt x="111" y="64"/>
                  </a:lnTo>
                  <a:lnTo>
                    <a:pt x="112" y="58"/>
                  </a:lnTo>
                  <a:lnTo>
                    <a:pt x="111" y="46"/>
                  </a:lnTo>
                  <a:lnTo>
                    <a:pt x="107" y="35"/>
                  </a:lnTo>
                  <a:lnTo>
                    <a:pt x="102" y="25"/>
                  </a:lnTo>
                  <a:lnTo>
                    <a:pt x="95" y="17"/>
                  </a:lnTo>
                  <a:lnTo>
                    <a:pt x="86" y="10"/>
                  </a:lnTo>
                  <a:lnTo>
                    <a:pt x="78" y="5"/>
                  </a:lnTo>
                  <a:lnTo>
                    <a:pt x="67" y="1"/>
                  </a:lnTo>
                  <a:lnTo>
                    <a:pt x="54" y="0"/>
                  </a:lnTo>
                  <a:lnTo>
                    <a:pt x="45" y="1"/>
                  </a:lnTo>
                  <a:lnTo>
                    <a:pt x="36" y="4"/>
                  </a:lnTo>
                  <a:lnTo>
                    <a:pt x="27" y="9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8" y="30"/>
                  </a:lnTo>
                  <a:lnTo>
                    <a:pt x="3" y="38"/>
                  </a:lnTo>
                  <a:lnTo>
                    <a:pt x="0" y="47"/>
                  </a:lnTo>
                  <a:lnTo>
                    <a:pt x="2" y="46"/>
                  </a:lnTo>
                  <a:lnTo>
                    <a:pt x="5" y="42"/>
                  </a:lnTo>
                  <a:lnTo>
                    <a:pt x="11" y="38"/>
                  </a:lnTo>
                  <a:lnTo>
                    <a:pt x="20" y="33"/>
                  </a:lnTo>
                  <a:lnTo>
                    <a:pt x="29" y="28"/>
                  </a:lnTo>
                  <a:lnTo>
                    <a:pt x="38" y="25"/>
                  </a:lnTo>
                  <a:lnTo>
                    <a:pt x="43" y="23"/>
                  </a:lnTo>
                  <a:lnTo>
                    <a:pt x="48" y="23"/>
                  </a:lnTo>
                  <a:lnTo>
                    <a:pt x="53" y="23"/>
                  </a:lnTo>
                  <a:lnTo>
                    <a:pt x="57" y="25"/>
                  </a:lnTo>
                  <a:lnTo>
                    <a:pt x="66" y="28"/>
                  </a:lnTo>
                  <a:lnTo>
                    <a:pt x="72" y="32"/>
                  </a:lnTo>
                  <a:lnTo>
                    <a:pt x="78" y="37"/>
                  </a:lnTo>
                  <a:lnTo>
                    <a:pt x="82" y="42"/>
                  </a:lnTo>
                  <a:lnTo>
                    <a:pt x="85" y="47"/>
                  </a:lnTo>
                  <a:lnTo>
                    <a:pt x="88" y="53"/>
                  </a:lnTo>
                  <a:lnTo>
                    <a:pt x="89" y="58"/>
                  </a:lnTo>
                  <a:lnTo>
                    <a:pt x="90" y="63"/>
                  </a:lnTo>
                  <a:lnTo>
                    <a:pt x="91" y="69"/>
                  </a:lnTo>
                  <a:lnTo>
                    <a:pt x="91" y="75"/>
                  </a:lnTo>
                  <a:lnTo>
                    <a:pt x="93" y="81"/>
                  </a:lnTo>
                  <a:lnTo>
                    <a:pt x="93" y="87"/>
                  </a:lnTo>
                  <a:lnTo>
                    <a:pt x="93" y="91"/>
                  </a:lnTo>
                  <a:lnTo>
                    <a:pt x="93" y="95"/>
                  </a:lnTo>
                  <a:lnTo>
                    <a:pt x="93" y="97"/>
                  </a:lnTo>
                  <a:lnTo>
                    <a:pt x="93" y="98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6629400" y="358452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6" y="155"/>
                  </a:moveTo>
                  <a:lnTo>
                    <a:pt x="85" y="155"/>
                  </a:lnTo>
                  <a:lnTo>
                    <a:pt x="92" y="154"/>
                  </a:lnTo>
                  <a:lnTo>
                    <a:pt x="98" y="151"/>
                  </a:lnTo>
                  <a:lnTo>
                    <a:pt x="106" y="150"/>
                  </a:lnTo>
                  <a:lnTo>
                    <a:pt x="112" y="146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7"/>
                  </a:lnTo>
                  <a:lnTo>
                    <a:pt x="134" y="130"/>
                  </a:lnTo>
                  <a:lnTo>
                    <a:pt x="139" y="124"/>
                  </a:lnTo>
                  <a:lnTo>
                    <a:pt x="144" y="118"/>
                  </a:lnTo>
                  <a:lnTo>
                    <a:pt x="148" y="111"/>
                  </a:lnTo>
                  <a:lnTo>
                    <a:pt x="151" y="102"/>
                  </a:lnTo>
                  <a:lnTo>
                    <a:pt x="154" y="94"/>
                  </a:lnTo>
                  <a:lnTo>
                    <a:pt x="155" y="85"/>
                  </a:lnTo>
                  <a:lnTo>
                    <a:pt x="155" y="76"/>
                  </a:lnTo>
                  <a:lnTo>
                    <a:pt x="155" y="69"/>
                  </a:lnTo>
                  <a:lnTo>
                    <a:pt x="154" y="62"/>
                  </a:lnTo>
                  <a:lnTo>
                    <a:pt x="151" y="54"/>
                  </a:lnTo>
                  <a:lnTo>
                    <a:pt x="149" y="47"/>
                  </a:lnTo>
                  <a:lnTo>
                    <a:pt x="145" y="41"/>
                  </a:lnTo>
                  <a:lnTo>
                    <a:pt x="141" y="35"/>
                  </a:lnTo>
                  <a:lnTo>
                    <a:pt x="138" y="28"/>
                  </a:lnTo>
                  <a:lnTo>
                    <a:pt x="132" y="23"/>
                  </a:lnTo>
                  <a:lnTo>
                    <a:pt x="127" y="19"/>
                  </a:lnTo>
                  <a:lnTo>
                    <a:pt x="121" y="14"/>
                  </a:lnTo>
                  <a:lnTo>
                    <a:pt x="114" y="10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10"/>
                  </a:lnTo>
                  <a:lnTo>
                    <a:pt x="34" y="14"/>
                  </a:lnTo>
                  <a:lnTo>
                    <a:pt x="28" y="19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3" y="35"/>
                  </a:lnTo>
                  <a:lnTo>
                    <a:pt x="10" y="41"/>
                  </a:lnTo>
                  <a:lnTo>
                    <a:pt x="6" y="47"/>
                  </a:lnTo>
                  <a:lnTo>
                    <a:pt x="4" y="54"/>
                  </a:lnTo>
                  <a:lnTo>
                    <a:pt x="2" y="62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2" y="92"/>
                  </a:lnTo>
                  <a:lnTo>
                    <a:pt x="4" y="100"/>
                  </a:lnTo>
                  <a:lnTo>
                    <a:pt x="6" y="107"/>
                  </a:lnTo>
                  <a:lnTo>
                    <a:pt x="10" y="113"/>
                  </a:lnTo>
                  <a:lnTo>
                    <a:pt x="13" y="121"/>
                  </a:lnTo>
                  <a:lnTo>
                    <a:pt x="18" y="127"/>
                  </a:lnTo>
                  <a:lnTo>
                    <a:pt x="23" y="132"/>
                  </a:lnTo>
                  <a:lnTo>
                    <a:pt x="28" y="137"/>
                  </a:lnTo>
                  <a:lnTo>
                    <a:pt x="34" y="142"/>
                  </a:lnTo>
                  <a:lnTo>
                    <a:pt x="41" y="145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1" y="154"/>
                  </a:lnTo>
                  <a:lnTo>
                    <a:pt x="69" y="155"/>
                  </a:lnTo>
                  <a:lnTo>
                    <a:pt x="76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6629400" y="358452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6" y="155"/>
                  </a:moveTo>
                  <a:lnTo>
                    <a:pt x="85" y="155"/>
                  </a:lnTo>
                  <a:lnTo>
                    <a:pt x="92" y="154"/>
                  </a:lnTo>
                  <a:lnTo>
                    <a:pt x="98" y="151"/>
                  </a:lnTo>
                  <a:lnTo>
                    <a:pt x="106" y="150"/>
                  </a:lnTo>
                  <a:lnTo>
                    <a:pt x="112" y="146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7"/>
                  </a:lnTo>
                  <a:lnTo>
                    <a:pt x="134" y="130"/>
                  </a:lnTo>
                  <a:lnTo>
                    <a:pt x="139" y="124"/>
                  </a:lnTo>
                  <a:lnTo>
                    <a:pt x="144" y="118"/>
                  </a:lnTo>
                  <a:lnTo>
                    <a:pt x="148" y="111"/>
                  </a:lnTo>
                  <a:lnTo>
                    <a:pt x="151" y="102"/>
                  </a:lnTo>
                  <a:lnTo>
                    <a:pt x="154" y="94"/>
                  </a:lnTo>
                  <a:lnTo>
                    <a:pt x="155" y="85"/>
                  </a:lnTo>
                  <a:lnTo>
                    <a:pt x="155" y="76"/>
                  </a:lnTo>
                  <a:lnTo>
                    <a:pt x="155" y="69"/>
                  </a:lnTo>
                  <a:lnTo>
                    <a:pt x="154" y="62"/>
                  </a:lnTo>
                  <a:lnTo>
                    <a:pt x="151" y="54"/>
                  </a:lnTo>
                  <a:lnTo>
                    <a:pt x="149" y="47"/>
                  </a:lnTo>
                  <a:lnTo>
                    <a:pt x="145" y="41"/>
                  </a:lnTo>
                  <a:lnTo>
                    <a:pt x="141" y="35"/>
                  </a:lnTo>
                  <a:lnTo>
                    <a:pt x="138" y="28"/>
                  </a:lnTo>
                  <a:lnTo>
                    <a:pt x="132" y="23"/>
                  </a:lnTo>
                  <a:lnTo>
                    <a:pt x="127" y="19"/>
                  </a:lnTo>
                  <a:lnTo>
                    <a:pt x="121" y="14"/>
                  </a:lnTo>
                  <a:lnTo>
                    <a:pt x="114" y="10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10"/>
                  </a:lnTo>
                  <a:lnTo>
                    <a:pt x="34" y="14"/>
                  </a:lnTo>
                  <a:lnTo>
                    <a:pt x="28" y="19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3" y="35"/>
                  </a:lnTo>
                  <a:lnTo>
                    <a:pt x="10" y="41"/>
                  </a:lnTo>
                  <a:lnTo>
                    <a:pt x="6" y="47"/>
                  </a:lnTo>
                  <a:lnTo>
                    <a:pt x="4" y="54"/>
                  </a:lnTo>
                  <a:lnTo>
                    <a:pt x="2" y="62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2" y="92"/>
                  </a:lnTo>
                  <a:lnTo>
                    <a:pt x="4" y="100"/>
                  </a:lnTo>
                  <a:lnTo>
                    <a:pt x="6" y="107"/>
                  </a:lnTo>
                  <a:lnTo>
                    <a:pt x="10" y="113"/>
                  </a:lnTo>
                  <a:lnTo>
                    <a:pt x="13" y="121"/>
                  </a:lnTo>
                  <a:lnTo>
                    <a:pt x="18" y="127"/>
                  </a:lnTo>
                  <a:lnTo>
                    <a:pt x="23" y="132"/>
                  </a:lnTo>
                  <a:lnTo>
                    <a:pt x="28" y="137"/>
                  </a:lnTo>
                  <a:lnTo>
                    <a:pt x="34" y="142"/>
                  </a:lnTo>
                  <a:lnTo>
                    <a:pt x="41" y="145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1" y="154"/>
                  </a:lnTo>
                  <a:lnTo>
                    <a:pt x="69" y="155"/>
                  </a:lnTo>
                  <a:lnTo>
                    <a:pt x="76" y="15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6637320" y="3592440"/>
              <a:ext cx="34920" cy="30240"/>
            </a:xfrm>
            <a:custGeom>
              <a:avLst/>
              <a:gdLst/>
              <a:ahLst/>
              <a:rect l="l" t="t" r="r" b="b"/>
              <a:pathLst>
                <a:path w="112" h="97">
                  <a:moveTo>
                    <a:pt x="92" y="97"/>
                  </a:moveTo>
                  <a:lnTo>
                    <a:pt x="96" y="94"/>
                  </a:lnTo>
                  <a:lnTo>
                    <a:pt x="100" y="89"/>
                  </a:lnTo>
                  <a:lnTo>
                    <a:pt x="103" y="84"/>
                  </a:lnTo>
                  <a:lnTo>
                    <a:pt x="106" y="78"/>
                  </a:lnTo>
                  <a:lnTo>
                    <a:pt x="108" y="73"/>
                  </a:lnTo>
                  <a:lnTo>
                    <a:pt x="110" y="67"/>
                  </a:lnTo>
                  <a:lnTo>
                    <a:pt x="111" y="61"/>
                  </a:lnTo>
                  <a:lnTo>
                    <a:pt x="112" y="54"/>
                  </a:lnTo>
                  <a:lnTo>
                    <a:pt x="111" y="43"/>
                  </a:lnTo>
                  <a:lnTo>
                    <a:pt x="107" y="33"/>
                  </a:lnTo>
                  <a:lnTo>
                    <a:pt x="102" y="24"/>
                  </a:lnTo>
                  <a:lnTo>
                    <a:pt x="95" y="16"/>
                  </a:lnTo>
                  <a:lnTo>
                    <a:pt x="86" y="9"/>
                  </a:lnTo>
                  <a:lnTo>
                    <a:pt x="78" y="4"/>
                  </a:lnTo>
                  <a:lnTo>
                    <a:pt x="67" y="1"/>
                  </a:lnTo>
                  <a:lnTo>
                    <a:pt x="54" y="0"/>
                  </a:lnTo>
                  <a:lnTo>
                    <a:pt x="44" y="1"/>
                  </a:lnTo>
                  <a:lnTo>
                    <a:pt x="36" y="4"/>
                  </a:lnTo>
                  <a:lnTo>
                    <a:pt x="27" y="8"/>
                  </a:lnTo>
                  <a:lnTo>
                    <a:pt x="19" y="13"/>
                  </a:lnTo>
                  <a:lnTo>
                    <a:pt x="12" y="20"/>
                  </a:lnTo>
                  <a:lnTo>
                    <a:pt x="7" y="27"/>
                  </a:lnTo>
                  <a:lnTo>
                    <a:pt x="3" y="36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11" y="37"/>
                  </a:lnTo>
                  <a:lnTo>
                    <a:pt x="20" y="32"/>
                  </a:lnTo>
                  <a:lnTo>
                    <a:pt x="28" y="27"/>
                  </a:lnTo>
                  <a:lnTo>
                    <a:pt x="38" y="25"/>
                  </a:lnTo>
                  <a:lnTo>
                    <a:pt x="43" y="24"/>
                  </a:lnTo>
                  <a:lnTo>
                    <a:pt x="48" y="24"/>
                  </a:lnTo>
                  <a:lnTo>
                    <a:pt x="53" y="24"/>
                  </a:lnTo>
                  <a:lnTo>
                    <a:pt x="57" y="25"/>
                  </a:lnTo>
                  <a:lnTo>
                    <a:pt x="65" y="27"/>
                  </a:lnTo>
                  <a:lnTo>
                    <a:pt x="71" y="32"/>
                  </a:lnTo>
                  <a:lnTo>
                    <a:pt x="78" y="36"/>
                  </a:lnTo>
                  <a:lnTo>
                    <a:pt x="81" y="41"/>
                  </a:lnTo>
                  <a:lnTo>
                    <a:pt x="85" y="47"/>
                  </a:lnTo>
                  <a:lnTo>
                    <a:pt x="87" y="52"/>
                  </a:lnTo>
                  <a:lnTo>
                    <a:pt x="89" y="57"/>
                  </a:lnTo>
                  <a:lnTo>
                    <a:pt x="90" y="63"/>
                  </a:lnTo>
                  <a:lnTo>
                    <a:pt x="91" y="69"/>
                  </a:lnTo>
                  <a:lnTo>
                    <a:pt x="91" y="75"/>
                  </a:lnTo>
                  <a:lnTo>
                    <a:pt x="92" y="81"/>
                  </a:lnTo>
                  <a:lnTo>
                    <a:pt x="92" y="86"/>
                  </a:lnTo>
                  <a:lnTo>
                    <a:pt x="92" y="91"/>
                  </a:lnTo>
                  <a:lnTo>
                    <a:pt x="92" y="95"/>
                  </a:lnTo>
                  <a:lnTo>
                    <a:pt x="92" y="97"/>
                  </a:lnTo>
                  <a:lnTo>
                    <a:pt x="92" y="9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6626160" y="480528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7" y="155"/>
                  </a:moveTo>
                  <a:lnTo>
                    <a:pt x="85" y="155"/>
                  </a:lnTo>
                  <a:lnTo>
                    <a:pt x="93" y="154"/>
                  </a:lnTo>
                  <a:lnTo>
                    <a:pt x="99" y="151"/>
                  </a:lnTo>
                  <a:lnTo>
                    <a:pt x="106" y="149"/>
                  </a:lnTo>
                  <a:lnTo>
                    <a:pt x="112" y="146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5"/>
                  </a:lnTo>
                  <a:lnTo>
                    <a:pt x="135" y="130"/>
                  </a:lnTo>
                  <a:lnTo>
                    <a:pt x="139" y="124"/>
                  </a:lnTo>
                  <a:lnTo>
                    <a:pt x="144" y="118"/>
                  </a:lnTo>
                  <a:lnTo>
                    <a:pt x="148" y="111"/>
                  </a:lnTo>
                  <a:lnTo>
                    <a:pt x="152" y="103"/>
                  </a:lnTo>
                  <a:lnTo>
                    <a:pt x="154" y="95"/>
                  </a:lnTo>
                  <a:lnTo>
                    <a:pt x="155" y="87"/>
                  </a:lnTo>
                  <a:lnTo>
                    <a:pt x="155" y="79"/>
                  </a:lnTo>
                  <a:lnTo>
                    <a:pt x="155" y="70"/>
                  </a:lnTo>
                  <a:lnTo>
                    <a:pt x="154" y="63"/>
                  </a:lnTo>
                  <a:lnTo>
                    <a:pt x="152" y="55"/>
                  </a:lnTo>
                  <a:lnTo>
                    <a:pt x="149" y="48"/>
                  </a:lnTo>
                  <a:lnTo>
                    <a:pt x="146" y="42"/>
                  </a:lnTo>
                  <a:lnTo>
                    <a:pt x="142" y="34"/>
                  </a:lnTo>
                  <a:lnTo>
                    <a:pt x="138" y="28"/>
                  </a:lnTo>
                  <a:lnTo>
                    <a:pt x="132" y="23"/>
                  </a:lnTo>
                  <a:lnTo>
                    <a:pt x="127" y="18"/>
                  </a:lnTo>
                  <a:lnTo>
                    <a:pt x="121" y="13"/>
                  </a:lnTo>
                  <a:lnTo>
                    <a:pt x="115" y="10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3" y="1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41" y="10"/>
                  </a:lnTo>
                  <a:lnTo>
                    <a:pt x="35" y="13"/>
                  </a:lnTo>
                  <a:lnTo>
                    <a:pt x="29" y="18"/>
                  </a:lnTo>
                  <a:lnTo>
                    <a:pt x="24" y="23"/>
                  </a:lnTo>
                  <a:lnTo>
                    <a:pt x="19" y="28"/>
                  </a:lnTo>
                  <a:lnTo>
                    <a:pt x="14" y="34"/>
                  </a:lnTo>
                  <a:lnTo>
                    <a:pt x="10" y="42"/>
                  </a:lnTo>
                  <a:lnTo>
                    <a:pt x="7" y="48"/>
                  </a:lnTo>
                  <a:lnTo>
                    <a:pt x="4" y="55"/>
                  </a:lnTo>
                  <a:lnTo>
                    <a:pt x="3" y="63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3" y="93"/>
                  </a:lnTo>
                  <a:lnTo>
                    <a:pt x="4" y="101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4" y="120"/>
                  </a:lnTo>
                  <a:lnTo>
                    <a:pt x="19" y="127"/>
                  </a:lnTo>
                  <a:lnTo>
                    <a:pt x="24" y="131"/>
                  </a:lnTo>
                  <a:lnTo>
                    <a:pt x="29" y="136"/>
                  </a:lnTo>
                  <a:lnTo>
                    <a:pt x="35" y="141"/>
                  </a:lnTo>
                  <a:lnTo>
                    <a:pt x="41" y="145"/>
                  </a:lnTo>
                  <a:lnTo>
                    <a:pt x="47" y="149"/>
                  </a:lnTo>
                  <a:lnTo>
                    <a:pt x="55" y="151"/>
                  </a:lnTo>
                  <a:lnTo>
                    <a:pt x="62" y="154"/>
                  </a:lnTo>
                  <a:lnTo>
                    <a:pt x="69" y="155"/>
                  </a:lnTo>
                  <a:lnTo>
                    <a:pt x="77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6626160" y="480528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7" y="155"/>
                  </a:moveTo>
                  <a:lnTo>
                    <a:pt x="85" y="155"/>
                  </a:lnTo>
                  <a:lnTo>
                    <a:pt x="93" y="154"/>
                  </a:lnTo>
                  <a:lnTo>
                    <a:pt x="99" y="151"/>
                  </a:lnTo>
                  <a:lnTo>
                    <a:pt x="106" y="149"/>
                  </a:lnTo>
                  <a:lnTo>
                    <a:pt x="112" y="146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5"/>
                  </a:lnTo>
                  <a:lnTo>
                    <a:pt x="135" y="130"/>
                  </a:lnTo>
                  <a:lnTo>
                    <a:pt x="139" y="124"/>
                  </a:lnTo>
                  <a:lnTo>
                    <a:pt x="144" y="118"/>
                  </a:lnTo>
                  <a:lnTo>
                    <a:pt x="148" y="111"/>
                  </a:lnTo>
                  <a:lnTo>
                    <a:pt x="152" y="103"/>
                  </a:lnTo>
                  <a:lnTo>
                    <a:pt x="154" y="95"/>
                  </a:lnTo>
                  <a:lnTo>
                    <a:pt x="155" y="87"/>
                  </a:lnTo>
                  <a:lnTo>
                    <a:pt x="155" y="79"/>
                  </a:lnTo>
                  <a:lnTo>
                    <a:pt x="155" y="70"/>
                  </a:lnTo>
                  <a:lnTo>
                    <a:pt x="154" y="63"/>
                  </a:lnTo>
                  <a:lnTo>
                    <a:pt x="152" y="55"/>
                  </a:lnTo>
                  <a:lnTo>
                    <a:pt x="149" y="48"/>
                  </a:lnTo>
                  <a:lnTo>
                    <a:pt x="146" y="42"/>
                  </a:lnTo>
                  <a:lnTo>
                    <a:pt x="142" y="34"/>
                  </a:lnTo>
                  <a:lnTo>
                    <a:pt x="138" y="28"/>
                  </a:lnTo>
                  <a:lnTo>
                    <a:pt x="132" y="23"/>
                  </a:lnTo>
                  <a:lnTo>
                    <a:pt x="127" y="18"/>
                  </a:lnTo>
                  <a:lnTo>
                    <a:pt x="121" y="13"/>
                  </a:lnTo>
                  <a:lnTo>
                    <a:pt x="115" y="10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3" y="1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41" y="10"/>
                  </a:lnTo>
                  <a:lnTo>
                    <a:pt x="35" y="13"/>
                  </a:lnTo>
                  <a:lnTo>
                    <a:pt x="29" y="18"/>
                  </a:lnTo>
                  <a:lnTo>
                    <a:pt x="24" y="23"/>
                  </a:lnTo>
                  <a:lnTo>
                    <a:pt x="19" y="28"/>
                  </a:lnTo>
                  <a:lnTo>
                    <a:pt x="14" y="34"/>
                  </a:lnTo>
                  <a:lnTo>
                    <a:pt x="10" y="42"/>
                  </a:lnTo>
                  <a:lnTo>
                    <a:pt x="7" y="48"/>
                  </a:lnTo>
                  <a:lnTo>
                    <a:pt x="4" y="55"/>
                  </a:lnTo>
                  <a:lnTo>
                    <a:pt x="3" y="63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3" y="93"/>
                  </a:lnTo>
                  <a:lnTo>
                    <a:pt x="4" y="101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4" y="120"/>
                  </a:lnTo>
                  <a:lnTo>
                    <a:pt x="19" y="127"/>
                  </a:lnTo>
                  <a:lnTo>
                    <a:pt x="24" y="131"/>
                  </a:lnTo>
                  <a:lnTo>
                    <a:pt x="29" y="136"/>
                  </a:lnTo>
                  <a:lnTo>
                    <a:pt x="35" y="141"/>
                  </a:lnTo>
                  <a:lnTo>
                    <a:pt x="41" y="145"/>
                  </a:lnTo>
                  <a:lnTo>
                    <a:pt x="47" y="149"/>
                  </a:lnTo>
                  <a:lnTo>
                    <a:pt x="55" y="151"/>
                  </a:lnTo>
                  <a:lnTo>
                    <a:pt x="62" y="154"/>
                  </a:lnTo>
                  <a:lnTo>
                    <a:pt x="69" y="155"/>
                  </a:lnTo>
                  <a:lnTo>
                    <a:pt x="77" y="15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6632640" y="4813560"/>
              <a:ext cx="34920" cy="29880"/>
            </a:xfrm>
            <a:custGeom>
              <a:avLst/>
              <a:gdLst/>
              <a:ahLst/>
              <a:rect l="l" t="t" r="r" b="b"/>
              <a:pathLst>
                <a:path w="110" h="97">
                  <a:moveTo>
                    <a:pt x="92" y="97"/>
                  </a:moveTo>
                  <a:lnTo>
                    <a:pt x="96" y="93"/>
                  </a:lnTo>
                  <a:lnTo>
                    <a:pt x="99" y="89"/>
                  </a:lnTo>
                  <a:lnTo>
                    <a:pt x="103" y="84"/>
                  </a:lnTo>
                  <a:lnTo>
                    <a:pt x="105" y="79"/>
                  </a:lnTo>
                  <a:lnTo>
                    <a:pt x="108" y="74"/>
                  </a:lnTo>
                  <a:lnTo>
                    <a:pt x="109" y="69"/>
                  </a:lnTo>
                  <a:lnTo>
                    <a:pt x="110" y="63"/>
                  </a:lnTo>
                  <a:lnTo>
                    <a:pt x="110" y="57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86" y="9"/>
                  </a:lnTo>
                  <a:lnTo>
                    <a:pt x="77" y="4"/>
                  </a:lnTo>
                  <a:lnTo>
                    <a:pt x="66" y="1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35" y="2"/>
                  </a:lnTo>
                  <a:lnTo>
                    <a:pt x="27" y="7"/>
                  </a:lnTo>
                  <a:lnTo>
                    <a:pt x="18" y="12"/>
                  </a:lnTo>
                  <a:lnTo>
                    <a:pt x="12" y="20"/>
                  </a:lnTo>
                  <a:lnTo>
                    <a:pt x="7" y="27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1" y="44"/>
                  </a:lnTo>
                  <a:lnTo>
                    <a:pt x="4" y="42"/>
                  </a:lnTo>
                  <a:lnTo>
                    <a:pt x="11" y="37"/>
                  </a:lnTo>
                  <a:lnTo>
                    <a:pt x="19" y="32"/>
                  </a:lnTo>
                  <a:lnTo>
                    <a:pt x="28" y="27"/>
                  </a:lnTo>
                  <a:lnTo>
                    <a:pt x="38" y="25"/>
                  </a:lnTo>
                  <a:lnTo>
                    <a:pt x="43" y="23"/>
                  </a:lnTo>
                  <a:lnTo>
                    <a:pt x="48" y="22"/>
                  </a:lnTo>
                  <a:lnTo>
                    <a:pt x="52" y="23"/>
                  </a:lnTo>
                  <a:lnTo>
                    <a:pt x="56" y="25"/>
                  </a:lnTo>
                  <a:lnTo>
                    <a:pt x="65" y="27"/>
                  </a:lnTo>
                  <a:lnTo>
                    <a:pt x="71" y="32"/>
                  </a:lnTo>
                  <a:lnTo>
                    <a:pt x="76" y="36"/>
                  </a:lnTo>
                  <a:lnTo>
                    <a:pt x="81" y="41"/>
                  </a:lnTo>
                  <a:lnTo>
                    <a:pt x="84" y="47"/>
                  </a:lnTo>
                  <a:lnTo>
                    <a:pt x="87" y="52"/>
                  </a:lnTo>
                  <a:lnTo>
                    <a:pt x="88" y="57"/>
                  </a:lnTo>
                  <a:lnTo>
                    <a:pt x="89" y="61"/>
                  </a:lnTo>
                  <a:lnTo>
                    <a:pt x="91" y="68"/>
                  </a:lnTo>
                  <a:lnTo>
                    <a:pt x="91" y="75"/>
                  </a:lnTo>
                  <a:lnTo>
                    <a:pt x="91" y="80"/>
                  </a:lnTo>
                  <a:lnTo>
                    <a:pt x="92" y="86"/>
                  </a:lnTo>
                  <a:lnTo>
                    <a:pt x="92" y="91"/>
                  </a:lnTo>
                  <a:lnTo>
                    <a:pt x="92" y="95"/>
                  </a:lnTo>
                  <a:lnTo>
                    <a:pt x="92" y="96"/>
                  </a:lnTo>
                  <a:lnTo>
                    <a:pt x="92" y="9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6980400" y="4710240"/>
              <a:ext cx="199800" cy="146160"/>
            </a:xfrm>
            <a:custGeom>
              <a:avLst/>
              <a:gdLst/>
              <a:ahLst/>
              <a:rect l="l" t="t" r="r" b="b"/>
              <a:pathLst>
                <a:path w="627" h="458">
                  <a:moveTo>
                    <a:pt x="0" y="92"/>
                  </a:moveTo>
                  <a:lnTo>
                    <a:pt x="222" y="458"/>
                  </a:lnTo>
                  <a:lnTo>
                    <a:pt x="627" y="380"/>
                  </a:lnTo>
                  <a:lnTo>
                    <a:pt x="458" y="0"/>
                  </a:lnTo>
                  <a:lnTo>
                    <a:pt x="449" y="3"/>
                  </a:lnTo>
                  <a:lnTo>
                    <a:pt x="420" y="14"/>
                  </a:lnTo>
                  <a:lnTo>
                    <a:pt x="375" y="29"/>
                  </a:lnTo>
                  <a:lnTo>
                    <a:pt x="317" y="45"/>
                  </a:lnTo>
                  <a:lnTo>
                    <a:pt x="284" y="54"/>
                  </a:lnTo>
                  <a:lnTo>
                    <a:pt x="247" y="62"/>
                  </a:lnTo>
                  <a:lnTo>
                    <a:pt x="210" y="71"/>
                  </a:lnTo>
                  <a:lnTo>
                    <a:pt x="169" y="77"/>
                  </a:lnTo>
                  <a:lnTo>
                    <a:pt x="129" y="83"/>
                  </a:lnTo>
                  <a:lnTo>
                    <a:pt x="86" y="88"/>
                  </a:lnTo>
                  <a:lnTo>
                    <a:pt x="43" y="91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6980400" y="4710240"/>
              <a:ext cx="199800" cy="146160"/>
            </a:xfrm>
            <a:custGeom>
              <a:avLst/>
              <a:gdLst/>
              <a:ahLst/>
              <a:rect l="l" t="t" r="r" b="b"/>
              <a:pathLst>
                <a:path w="627" h="458">
                  <a:moveTo>
                    <a:pt x="0" y="92"/>
                  </a:moveTo>
                  <a:lnTo>
                    <a:pt x="222" y="458"/>
                  </a:lnTo>
                  <a:lnTo>
                    <a:pt x="627" y="380"/>
                  </a:lnTo>
                  <a:lnTo>
                    <a:pt x="458" y="0"/>
                  </a:lnTo>
                  <a:lnTo>
                    <a:pt x="449" y="3"/>
                  </a:lnTo>
                  <a:lnTo>
                    <a:pt x="420" y="14"/>
                  </a:lnTo>
                  <a:lnTo>
                    <a:pt x="375" y="29"/>
                  </a:lnTo>
                  <a:lnTo>
                    <a:pt x="317" y="45"/>
                  </a:lnTo>
                  <a:lnTo>
                    <a:pt x="284" y="54"/>
                  </a:lnTo>
                  <a:lnTo>
                    <a:pt x="247" y="62"/>
                  </a:lnTo>
                  <a:lnTo>
                    <a:pt x="210" y="71"/>
                  </a:lnTo>
                  <a:lnTo>
                    <a:pt x="169" y="77"/>
                  </a:lnTo>
                  <a:lnTo>
                    <a:pt x="129" y="83"/>
                  </a:lnTo>
                  <a:lnTo>
                    <a:pt x="86" y="88"/>
                  </a:lnTo>
                  <a:lnTo>
                    <a:pt x="43" y="91"/>
                  </a:lnTo>
                  <a:lnTo>
                    <a:pt x="0" y="92"/>
                  </a:lnTo>
                </a:path>
              </a:pathLst>
            </a:custGeom>
            <a:noFill/>
            <a:ln w="3240">
              <a:solidFill>
                <a:srgbClr val="6967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5905440" y="4659480"/>
              <a:ext cx="609840" cy="225360"/>
            </a:xfrm>
            <a:custGeom>
              <a:avLst/>
              <a:gdLst/>
              <a:ahLst/>
              <a:rect l="l" t="t" r="r" b="b"/>
              <a:pathLst>
                <a:path w="1918" h="709">
                  <a:moveTo>
                    <a:pt x="171" y="0"/>
                  </a:moveTo>
                  <a:lnTo>
                    <a:pt x="220" y="10"/>
                  </a:lnTo>
                  <a:lnTo>
                    <a:pt x="354" y="37"/>
                  </a:lnTo>
                  <a:lnTo>
                    <a:pt x="446" y="54"/>
                  </a:lnTo>
                  <a:lnTo>
                    <a:pt x="555" y="75"/>
                  </a:lnTo>
                  <a:lnTo>
                    <a:pt x="674" y="96"/>
                  </a:lnTo>
                  <a:lnTo>
                    <a:pt x="803" y="118"/>
                  </a:lnTo>
                  <a:lnTo>
                    <a:pt x="940" y="140"/>
                  </a:lnTo>
                  <a:lnTo>
                    <a:pt x="1082" y="161"/>
                  </a:lnTo>
                  <a:lnTo>
                    <a:pt x="1228" y="181"/>
                  </a:lnTo>
                  <a:lnTo>
                    <a:pt x="1374" y="199"/>
                  </a:lnTo>
                  <a:lnTo>
                    <a:pt x="1447" y="207"/>
                  </a:lnTo>
                  <a:lnTo>
                    <a:pt x="1518" y="214"/>
                  </a:lnTo>
                  <a:lnTo>
                    <a:pt x="1589" y="220"/>
                  </a:lnTo>
                  <a:lnTo>
                    <a:pt x="1658" y="226"/>
                  </a:lnTo>
                  <a:lnTo>
                    <a:pt x="1726" y="230"/>
                  </a:lnTo>
                  <a:lnTo>
                    <a:pt x="1792" y="234"/>
                  </a:lnTo>
                  <a:lnTo>
                    <a:pt x="1856" y="235"/>
                  </a:lnTo>
                  <a:lnTo>
                    <a:pt x="1918" y="236"/>
                  </a:lnTo>
                  <a:lnTo>
                    <a:pt x="1812" y="709"/>
                  </a:lnTo>
                  <a:lnTo>
                    <a:pt x="1755" y="709"/>
                  </a:lnTo>
                  <a:lnTo>
                    <a:pt x="1599" y="705"/>
                  </a:lnTo>
                  <a:lnTo>
                    <a:pt x="1492" y="701"/>
                  </a:lnTo>
                  <a:lnTo>
                    <a:pt x="1370" y="695"/>
                  </a:lnTo>
                  <a:lnTo>
                    <a:pt x="1236" y="688"/>
                  </a:lnTo>
                  <a:lnTo>
                    <a:pt x="1094" y="678"/>
                  </a:lnTo>
                  <a:lnTo>
                    <a:pt x="1020" y="672"/>
                  </a:lnTo>
                  <a:lnTo>
                    <a:pt x="945" y="664"/>
                  </a:lnTo>
                  <a:lnTo>
                    <a:pt x="870" y="657"/>
                  </a:lnTo>
                  <a:lnTo>
                    <a:pt x="793" y="648"/>
                  </a:lnTo>
                  <a:lnTo>
                    <a:pt x="717" y="638"/>
                  </a:lnTo>
                  <a:lnTo>
                    <a:pt x="642" y="627"/>
                  </a:lnTo>
                  <a:lnTo>
                    <a:pt x="567" y="616"/>
                  </a:lnTo>
                  <a:lnTo>
                    <a:pt x="494" y="603"/>
                  </a:lnTo>
                  <a:lnTo>
                    <a:pt x="423" y="589"/>
                  </a:lnTo>
                  <a:lnTo>
                    <a:pt x="353" y="574"/>
                  </a:lnTo>
                  <a:lnTo>
                    <a:pt x="286" y="558"/>
                  </a:lnTo>
                  <a:lnTo>
                    <a:pt x="221" y="541"/>
                  </a:lnTo>
                  <a:lnTo>
                    <a:pt x="161" y="523"/>
                  </a:lnTo>
                  <a:lnTo>
                    <a:pt x="103" y="503"/>
                  </a:lnTo>
                  <a:lnTo>
                    <a:pt x="49" y="481"/>
                  </a:lnTo>
                  <a:lnTo>
                    <a:pt x="0" y="459"/>
                  </a:lnTo>
                  <a:lnTo>
                    <a:pt x="3" y="443"/>
                  </a:lnTo>
                  <a:lnTo>
                    <a:pt x="13" y="399"/>
                  </a:lnTo>
                  <a:lnTo>
                    <a:pt x="31" y="335"/>
                  </a:lnTo>
                  <a:lnTo>
                    <a:pt x="51" y="258"/>
                  </a:lnTo>
                  <a:lnTo>
                    <a:pt x="64" y="219"/>
                  </a:lnTo>
                  <a:lnTo>
                    <a:pt x="76" y="180"/>
                  </a:lnTo>
                  <a:lnTo>
                    <a:pt x="91" y="142"/>
                  </a:lnTo>
                  <a:lnTo>
                    <a:pt x="106" y="105"/>
                  </a:lnTo>
                  <a:lnTo>
                    <a:pt x="122" y="71"/>
                  </a:lnTo>
                  <a:lnTo>
                    <a:pt x="138" y="42"/>
                  </a:lnTo>
                  <a:lnTo>
                    <a:pt x="146" y="30"/>
                  </a:lnTo>
                  <a:lnTo>
                    <a:pt x="154" y="19"/>
                  </a:lnTo>
                  <a:lnTo>
                    <a:pt x="162" y="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5905440" y="4659480"/>
              <a:ext cx="609840" cy="225360"/>
            </a:xfrm>
            <a:custGeom>
              <a:avLst/>
              <a:gdLst/>
              <a:ahLst/>
              <a:rect l="l" t="t" r="r" b="b"/>
              <a:pathLst>
                <a:path w="1918" h="709">
                  <a:moveTo>
                    <a:pt x="171" y="0"/>
                  </a:moveTo>
                  <a:lnTo>
                    <a:pt x="220" y="10"/>
                  </a:lnTo>
                  <a:lnTo>
                    <a:pt x="354" y="37"/>
                  </a:lnTo>
                  <a:lnTo>
                    <a:pt x="446" y="54"/>
                  </a:lnTo>
                  <a:lnTo>
                    <a:pt x="555" y="75"/>
                  </a:lnTo>
                  <a:lnTo>
                    <a:pt x="674" y="96"/>
                  </a:lnTo>
                  <a:lnTo>
                    <a:pt x="803" y="118"/>
                  </a:lnTo>
                  <a:lnTo>
                    <a:pt x="940" y="140"/>
                  </a:lnTo>
                  <a:lnTo>
                    <a:pt x="1082" y="161"/>
                  </a:lnTo>
                  <a:lnTo>
                    <a:pt x="1228" y="181"/>
                  </a:lnTo>
                  <a:lnTo>
                    <a:pt x="1374" y="199"/>
                  </a:lnTo>
                  <a:lnTo>
                    <a:pt x="1447" y="207"/>
                  </a:lnTo>
                  <a:lnTo>
                    <a:pt x="1518" y="214"/>
                  </a:lnTo>
                  <a:lnTo>
                    <a:pt x="1589" y="220"/>
                  </a:lnTo>
                  <a:lnTo>
                    <a:pt x="1658" y="226"/>
                  </a:lnTo>
                  <a:lnTo>
                    <a:pt x="1726" y="230"/>
                  </a:lnTo>
                  <a:lnTo>
                    <a:pt x="1792" y="234"/>
                  </a:lnTo>
                  <a:lnTo>
                    <a:pt x="1856" y="235"/>
                  </a:lnTo>
                  <a:lnTo>
                    <a:pt x="1918" y="236"/>
                  </a:lnTo>
                  <a:lnTo>
                    <a:pt x="1812" y="709"/>
                  </a:lnTo>
                  <a:lnTo>
                    <a:pt x="1755" y="709"/>
                  </a:lnTo>
                  <a:lnTo>
                    <a:pt x="1599" y="705"/>
                  </a:lnTo>
                  <a:lnTo>
                    <a:pt x="1492" y="701"/>
                  </a:lnTo>
                  <a:lnTo>
                    <a:pt x="1370" y="695"/>
                  </a:lnTo>
                  <a:lnTo>
                    <a:pt x="1236" y="688"/>
                  </a:lnTo>
                  <a:lnTo>
                    <a:pt x="1094" y="678"/>
                  </a:lnTo>
                  <a:lnTo>
                    <a:pt x="1020" y="672"/>
                  </a:lnTo>
                  <a:lnTo>
                    <a:pt x="945" y="664"/>
                  </a:lnTo>
                  <a:lnTo>
                    <a:pt x="870" y="657"/>
                  </a:lnTo>
                  <a:lnTo>
                    <a:pt x="793" y="648"/>
                  </a:lnTo>
                  <a:lnTo>
                    <a:pt x="717" y="638"/>
                  </a:lnTo>
                  <a:lnTo>
                    <a:pt x="642" y="627"/>
                  </a:lnTo>
                  <a:lnTo>
                    <a:pt x="567" y="616"/>
                  </a:lnTo>
                  <a:lnTo>
                    <a:pt x="494" y="603"/>
                  </a:lnTo>
                  <a:lnTo>
                    <a:pt x="423" y="589"/>
                  </a:lnTo>
                  <a:lnTo>
                    <a:pt x="353" y="574"/>
                  </a:lnTo>
                  <a:lnTo>
                    <a:pt x="286" y="558"/>
                  </a:lnTo>
                  <a:lnTo>
                    <a:pt x="221" y="541"/>
                  </a:lnTo>
                  <a:lnTo>
                    <a:pt x="161" y="523"/>
                  </a:lnTo>
                  <a:lnTo>
                    <a:pt x="103" y="503"/>
                  </a:lnTo>
                  <a:lnTo>
                    <a:pt x="49" y="481"/>
                  </a:lnTo>
                  <a:lnTo>
                    <a:pt x="0" y="459"/>
                  </a:lnTo>
                  <a:lnTo>
                    <a:pt x="3" y="443"/>
                  </a:lnTo>
                  <a:lnTo>
                    <a:pt x="13" y="399"/>
                  </a:lnTo>
                  <a:lnTo>
                    <a:pt x="31" y="335"/>
                  </a:lnTo>
                  <a:lnTo>
                    <a:pt x="51" y="258"/>
                  </a:lnTo>
                  <a:lnTo>
                    <a:pt x="64" y="219"/>
                  </a:lnTo>
                  <a:lnTo>
                    <a:pt x="76" y="180"/>
                  </a:lnTo>
                  <a:lnTo>
                    <a:pt x="91" y="142"/>
                  </a:lnTo>
                  <a:lnTo>
                    <a:pt x="106" y="105"/>
                  </a:lnTo>
                  <a:lnTo>
                    <a:pt x="122" y="71"/>
                  </a:lnTo>
                  <a:lnTo>
                    <a:pt x="138" y="42"/>
                  </a:lnTo>
                  <a:lnTo>
                    <a:pt x="146" y="30"/>
                  </a:lnTo>
                  <a:lnTo>
                    <a:pt x="154" y="19"/>
                  </a:lnTo>
                  <a:lnTo>
                    <a:pt x="162" y="7"/>
                  </a:lnTo>
                  <a:lnTo>
                    <a:pt x="171" y="0"/>
                  </a:lnTo>
                </a:path>
              </a:pathLst>
            </a:custGeom>
            <a:noFill/>
            <a:ln w="3240">
              <a:solidFill>
                <a:srgbClr val="6967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4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8" name=""/>
          <p:cNvGrpSpPr/>
          <p:nvPr/>
        </p:nvGrpSpPr>
        <p:grpSpPr>
          <a:xfrm>
            <a:off x="2665440" y="3398760"/>
            <a:ext cx="1717560" cy="1339920"/>
            <a:chOff x="2665440" y="3398760"/>
            <a:chExt cx="1717560" cy="1339920"/>
          </a:xfrm>
        </p:grpSpPr>
        <p:grpSp>
          <p:nvGrpSpPr>
            <p:cNvPr id="4859" name=""/>
            <p:cNvGrpSpPr/>
            <p:nvPr/>
          </p:nvGrpSpPr>
          <p:grpSpPr>
            <a:xfrm>
              <a:off x="2665440" y="3398760"/>
              <a:ext cx="1717560" cy="1339920"/>
              <a:chOff x="2665440" y="3398760"/>
              <a:chExt cx="1717560" cy="1339920"/>
            </a:xfrm>
          </p:grpSpPr>
          <p:sp>
            <p:nvSpPr>
              <p:cNvPr id="4860" name=""/>
              <p:cNvSpPr/>
              <p:nvPr/>
            </p:nvSpPr>
            <p:spPr>
              <a:xfrm>
                <a:off x="3063960" y="37591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74" h="108">
                    <a:moveTo>
                      <a:pt x="0" y="0"/>
                    </a:moveTo>
                    <a:lnTo>
                      <a:pt x="74" y="108"/>
                    </a:lnTo>
                    <a:lnTo>
                      <a:pt x="63" y="96"/>
                    </a:lnTo>
                    <a:lnTo>
                      <a:pt x="54" y="83"/>
                    </a:lnTo>
                    <a:lnTo>
                      <a:pt x="44" y="69"/>
                    </a:lnTo>
                    <a:lnTo>
                      <a:pt x="36" y="56"/>
                    </a:lnTo>
                    <a:lnTo>
                      <a:pt x="27" y="42"/>
                    </a:lnTo>
                    <a:lnTo>
                      <a:pt x="17" y="28"/>
                    </a:lnTo>
                    <a:lnTo>
                      <a:pt x="9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040200" y="3711600"/>
                <a:ext cx="82440" cy="122040"/>
              </a:xfrm>
              <a:custGeom>
                <a:avLst/>
                <a:gdLst/>
                <a:ahLst/>
                <a:rect l="l" t="t" r="r" b="b"/>
                <a:pathLst>
                  <a:path w="259" h="383">
                    <a:moveTo>
                      <a:pt x="0" y="0"/>
                    </a:moveTo>
                    <a:lnTo>
                      <a:pt x="259" y="383"/>
                    </a:lnTo>
                    <a:lnTo>
                      <a:pt x="240" y="364"/>
                    </a:lnTo>
                    <a:lnTo>
                      <a:pt x="221" y="344"/>
                    </a:lnTo>
                    <a:lnTo>
                      <a:pt x="202" y="323"/>
                    </a:lnTo>
                    <a:lnTo>
                      <a:pt x="184" y="302"/>
                    </a:lnTo>
                    <a:lnTo>
                      <a:pt x="167" y="280"/>
                    </a:lnTo>
                    <a:lnTo>
                      <a:pt x="149" y="258"/>
                    </a:lnTo>
                    <a:lnTo>
                      <a:pt x="132" y="235"/>
                    </a:lnTo>
                    <a:lnTo>
                      <a:pt x="115" y="212"/>
                    </a:lnTo>
                    <a:lnTo>
                      <a:pt x="99" y="188"/>
                    </a:lnTo>
                    <a:lnTo>
                      <a:pt x="84" y="163"/>
                    </a:lnTo>
                    <a:lnTo>
                      <a:pt x="68" y="137"/>
                    </a:lnTo>
                    <a:lnTo>
                      <a:pt x="53" y="111"/>
                    </a:lnTo>
                    <a:lnTo>
                      <a:pt x="39" y="84"/>
                    </a:lnTo>
                    <a:lnTo>
                      <a:pt x="25" y="57"/>
                    </a:lnTo>
                    <a:lnTo>
                      <a:pt x="12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029040" y="3683160"/>
                <a:ext cx="114120" cy="169560"/>
              </a:xfrm>
              <a:custGeom>
                <a:avLst/>
                <a:gdLst/>
                <a:ahLst/>
                <a:rect l="l" t="t" r="r" b="b"/>
                <a:pathLst>
                  <a:path w="361" h="534">
                    <a:moveTo>
                      <a:pt x="186" y="349"/>
                    </a:moveTo>
                    <a:lnTo>
                      <a:pt x="112" y="241"/>
                    </a:lnTo>
                    <a:lnTo>
                      <a:pt x="97" y="214"/>
                    </a:lnTo>
                    <a:lnTo>
                      <a:pt x="81" y="185"/>
                    </a:lnTo>
                    <a:lnTo>
                      <a:pt x="66" y="157"/>
                    </a:lnTo>
                    <a:lnTo>
                      <a:pt x="51" y="127"/>
                    </a:lnTo>
                    <a:lnTo>
                      <a:pt x="38" y="96"/>
                    </a:lnTo>
                    <a:lnTo>
                      <a:pt x="24" y="65"/>
                    </a:lnTo>
                    <a:lnTo>
                      <a:pt x="11" y="33"/>
                    </a:lnTo>
                    <a:lnTo>
                      <a:pt x="0" y="0"/>
                    </a:lnTo>
                    <a:lnTo>
                      <a:pt x="361" y="534"/>
                    </a:lnTo>
                    <a:lnTo>
                      <a:pt x="337" y="513"/>
                    </a:lnTo>
                    <a:lnTo>
                      <a:pt x="314" y="492"/>
                    </a:lnTo>
                    <a:lnTo>
                      <a:pt x="292" y="470"/>
                    </a:lnTo>
                    <a:lnTo>
                      <a:pt x="269" y="447"/>
                    </a:lnTo>
                    <a:lnTo>
                      <a:pt x="248" y="424"/>
                    </a:lnTo>
                    <a:lnTo>
                      <a:pt x="227" y="400"/>
                    </a:lnTo>
                    <a:lnTo>
                      <a:pt x="206" y="375"/>
                    </a:lnTo>
                    <a:lnTo>
                      <a:pt x="186" y="349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021120" y="3660840"/>
                <a:ext cx="139680" cy="206280"/>
              </a:xfrm>
              <a:custGeom>
                <a:avLst/>
                <a:gdLst/>
                <a:ahLst/>
                <a:rect l="l" t="t" r="r" b="b"/>
                <a:pathLst>
                  <a:path w="440" h="650">
                    <a:moveTo>
                      <a:pt x="317" y="544"/>
                    </a:moveTo>
                    <a:lnTo>
                      <a:pt x="58" y="161"/>
                    </a:lnTo>
                    <a:lnTo>
                      <a:pt x="49" y="142"/>
                    </a:lnTo>
                    <a:lnTo>
                      <a:pt x="42" y="122"/>
                    </a:lnTo>
                    <a:lnTo>
                      <a:pt x="33" y="103"/>
                    </a:lnTo>
                    <a:lnTo>
                      <a:pt x="26" y="83"/>
                    </a:lnTo>
                    <a:lnTo>
                      <a:pt x="20" y="63"/>
                    </a:lnTo>
                    <a:lnTo>
                      <a:pt x="12" y="42"/>
                    </a:lnTo>
                    <a:lnTo>
                      <a:pt x="6" y="21"/>
                    </a:lnTo>
                    <a:lnTo>
                      <a:pt x="0" y="0"/>
                    </a:lnTo>
                    <a:lnTo>
                      <a:pt x="440" y="650"/>
                    </a:lnTo>
                    <a:lnTo>
                      <a:pt x="423" y="638"/>
                    </a:lnTo>
                    <a:lnTo>
                      <a:pt x="408" y="626"/>
                    </a:lnTo>
                    <a:lnTo>
                      <a:pt x="393" y="612"/>
                    </a:lnTo>
                    <a:lnTo>
                      <a:pt x="377" y="600"/>
                    </a:lnTo>
                    <a:lnTo>
                      <a:pt x="361" y="586"/>
                    </a:lnTo>
                    <a:lnTo>
                      <a:pt x="346" y="572"/>
                    </a:lnTo>
                    <a:lnTo>
                      <a:pt x="332" y="559"/>
                    </a:lnTo>
                    <a:lnTo>
                      <a:pt x="317" y="544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016080" y="3641760"/>
                <a:ext cx="160560" cy="236520"/>
              </a:xfrm>
              <a:custGeom>
                <a:avLst/>
                <a:gdLst/>
                <a:ahLst/>
                <a:rect l="l" t="t" r="r" b="b"/>
                <a:pathLst>
                  <a:path w="506" h="747">
                    <a:moveTo>
                      <a:pt x="401" y="666"/>
                    </a:moveTo>
                    <a:lnTo>
                      <a:pt x="40" y="132"/>
                    </a:lnTo>
                    <a:lnTo>
                      <a:pt x="34" y="116"/>
                    </a:lnTo>
                    <a:lnTo>
                      <a:pt x="28" y="100"/>
                    </a:lnTo>
                    <a:lnTo>
                      <a:pt x="23" y="84"/>
                    </a:lnTo>
                    <a:lnTo>
                      <a:pt x="19" y="69"/>
                    </a:lnTo>
                    <a:lnTo>
                      <a:pt x="14" y="52"/>
                    </a:lnTo>
                    <a:lnTo>
                      <a:pt x="9" y="35"/>
                    </a:lnTo>
                    <a:lnTo>
                      <a:pt x="4" y="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506" y="747"/>
                    </a:lnTo>
                    <a:lnTo>
                      <a:pt x="493" y="737"/>
                    </a:lnTo>
                    <a:lnTo>
                      <a:pt x="480" y="728"/>
                    </a:lnTo>
                    <a:lnTo>
                      <a:pt x="466" y="717"/>
                    </a:lnTo>
                    <a:lnTo>
                      <a:pt x="453" y="708"/>
                    </a:lnTo>
                    <a:lnTo>
                      <a:pt x="440" y="698"/>
                    </a:lnTo>
                    <a:lnTo>
                      <a:pt x="426" y="687"/>
                    </a:lnTo>
                    <a:lnTo>
                      <a:pt x="414" y="677"/>
                    </a:lnTo>
                    <a:lnTo>
                      <a:pt x="401" y="66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016080" y="3638520"/>
                <a:ext cx="174960" cy="249120"/>
              </a:xfrm>
              <a:custGeom>
                <a:avLst/>
                <a:gdLst/>
                <a:ahLst/>
                <a:rect l="l" t="t" r="r" b="b"/>
                <a:pathLst>
                  <a:path w="553" h="785">
                    <a:moveTo>
                      <a:pt x="457" y="717"/>
                    </a:moveTo>
                    <a:lnTo>
                      <a:pt x="17" y="67"/>
                    </a:lnTo>
                    <a:lnTo>
                      <a:pt x="15" y="60"/>
                    </a:lnTo>
                    <a:lnTo>
                      <a:pt x="13" y="52"/>
                    </a:lnTo>
                    <a:lnTo>
                      <a:pt x="9" y="45"/>
                    </a:lnTo>
                    <a:lnTo>
                      <a:pt x="8" y="38"/>
                    </a:lnTo>
                    <a:lnTo>
                      <a:pt x="6" y="30"/>
                    </a:lnTo>
                    <a:lnTo>
                      <a:pt x="4" y="23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1" y="0"/>
                    </a:lnTo>
                    <a:lnTo>
                      <a:pt x="553" y="785"/>
                    </a:lnTo>
                    <a:lnTo>
                      <a:pt x="541" y="777"/>
                    </a:lnTo>
                    <a:lnTo>
                      <a:pt x="528" y="769"/>
                    </a:lnTo>
                    <a:lnTo>
                      <a:pt x="516" y="760"/>
                    </a:lnTo>
                    <a:lnTo>
                      <a:pt x="504" y="752"/>
                    </a:lnTo>
                    <a:lnTo>
                      <a:pt x="492" y="743"/>
                    </a:lnTo>
                    <a:lnTo>
                      <a:pt x="480" y="735"/>
                    </a:lnTo>
                    <a:lnTo>
                      <a:pt x="469" y="727"/>
                    </a:lnTo>
                    <a:lnTo>
                      <a:pt x="457" y="717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016080" y="3637080"/>
                <a:ext cx="189000" cy="260280"/>
              </a:xfrm>
              <a:custGeom>
                <a:avLst/>
                <a:gdLst/>
                <a:ahLst/>
                <a:rect l="l" t="t" r="r" b="b"/>
                <a:pathLst>
                  <a:path w="596" h="821">
                    <a:moveTo>
                      <a:pt x="505" y="762"/>
                    </a:moveTo>
                    <a:lnTo>
                      <a:pt x="0" y="15"/>
                    </a:lnTo>
                    <a:lnTo>
                      <a:pt x="5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596" y="821"/>
                    </a:lnTo>
                    <a:lnTo>
                      <a:pt x="584" y="813"/>
                    </a:lnTo>
                    <a:lnTo>
                      <a:pt x="573" y="806"/>
                    </a:lnTo>
                    <a:lnTo>
                      <a:pt x="561" y="800"/>
                    </a:lnTo>
                    <a:lnTo>
                      <a:pt x="551" y="792"/>
                    </a:lnTo>
                    <a:lnTo>
                      <a:pt x="539" y="785"/>
                    </a:lnTo>
                    <a:lnTo>
                      <a:pt x="527" y="778"/>
                    </a:lnTo>
                    <a:lnTo>
                      <a:pt x="517" y="769"/>
                    </a:lnTo>
                    <a:lnTo>
                      <a:pt x="505" y="762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022560" y="3633840"/>
                <a:ext cx="196920" cy="271440"/>
              </a:xfrm>
              <a:custGeom>
                <a:avLst/>
                <a:gdLst/>
                <a:ahLst/>
                <a:rect l="l" t="t" r="r" b="b"/>
                <a:pathLst>
                  <a:path w="618" h="854">
                    <a:moveTo>
                      <a:pt x="532" y="802"/>
                    </a:moveTo>
                    <a:lnTo>
                      <a:pt x="0" y="17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618" y="854"/>
                    </a:lnTo>
                    <a:lnTo>
                      <a:pt x="607" y="848"/>
                    </a:lnTo>
                    <a:lnTo>
                      <a:pt x="596" y="841"/>
                    </a:lnTo>
                    <a:lnTo>
                      <a:pt x="585" y="835"/>
                    </a:lnTo>
                    <a:lnTo>
                      <a:pt x="575" y="829"/>
                    </a:lnTo>
                    <a:lnTo>
                      <a:pt x="564" y="822"/>
                    </a:lnTo>
                    <a:lnTo>
                      <a:pt x="554" y="816"/>
                    </a:lnTo>
                    <a:lnTo>
                      <a:pt x="542" y="809"/>
                    </a:lnTo>
                    <a:lnTo>
                      <a:pt x="532" y="802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029040" y="3630600"/>
                <a:ext cx="203040" cy="281160"/>
              </a:xfrm>
              <a:custGeom>
                <a:avLst/>
                <a:gdLst/>
                <a:ahLst/>
                <a:rect l="l" t="t" r="r" b="b"/>
                <a:pathLst>
                  <a:path w="638" h="884">
                    <a:moveTo>
                      <a:pt x="556" y="838"/>
                    </a:moveTo>
                    <a:lnTo>
                      <a:pt x="0" y="17"/>
                    </a:lnTo>
                    <a:lnTo>
                      <a:pt x="4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39" y="0"/>
                    </a:lnTo>
                    <a:lnTo>
                      <a:pt x="638" y="884"/>
                    </a:lnTo>
                    <a:lnTo>
                      <a:pt x="628" y="879"/>
                    </a:lnTo>
                    <a:lnTo>
                      <a:pt x="618" y="872"/>
                    </a:lnTo>
                    <a:lnTo>
                      <a:pt x="607" y="867"/>
                    </a:lnTo>
                    <a:lnTo>
                      <a:pt x="597" y="861"/>
                    </a:lnTo>
                    <a:lnTo>
                      <a:pt x="586" y="856"/>
                    </a:lnTo>
                    <a:lnTo>
                      <a:pt x="576" y="849"/>
                    </a:lnTo>
                    <a:lnTo>
                      <a:pt x="566" y="844"/>
                    </a:lnTo>
                    <a:lnTo>
                      <a:pt x="556" y="838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035160" y="3629160"/>
                <a:ext cx="209520" cy="288720"/>
              </a:xfrm>
              <a:custGeom>
                <a:avLst/>
                <a:gdLst/>
                <a:ahLst/>
                <a:rect l="l" t="t" r="r" b="b"/>
                <a:pathLst>
                  <a:path w="658" h="914">
                    <a:moveTo>
                      <a:pt x="578" y="871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9"/>
                    </a:lnTo>
                    <a:lnTo>
                      <a:pt x="24" y="7"/>
                    </a:lnTo>
                    <a:lnTo>
                      <a:pt x="29" y="5"/>
                    </a:lnTo>
                    <a:lnTo>
                      <a:pt x="33" y="2"/>
                    </a:lnTo>
                    <a:lnTo>
                      <a:pt x="39" y="0"/>
                    </a:lnTo>
                    <a:lnTo>
                      <a:pt x="658" y="914"/>
                    </a:lnTo>
                    <a:lnTo>
                      <a:pt x="647" y="909"/>
                    </a:lnTo>
                    <a:lnTo>
                      <a:pt x="638" y="903"/>
                    </a:lnTo>
                    <a:lnTo>
                      <a:pt x="627" y="898"/>
                    </a:lnTo>
                    <a:lnTo>
                      <a:pt x="618" y="893"/>
                    </a:lnTo>
                    <a:lnTo>
                      <a:pt x="607" y="888"/>
                    </a:lnTo>
                    <a:lnTo>
                      <a:pt x="598" y="882"/>
                    </a:lnTo>
                    <a:lnTo>
                      <a:pt x="587" y="876"/>
                    </a:lnTo>
                    <a:lnTo>
                      <a:pt x="578" y="871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041640" y="3625920"/>
                <a:ext cx="214200" cy="298440"/>
              </a:xfrm>
              <a:custGeom>
                <a:avLst/>
                <a:gdLst/>
                <a:ahLst/>
                <a:rect l="l" t="t" r="r" b="b"/>
                <a:pathLst>
                  <a:path w="676" h="941">
                    <a:moveTo>
                      <a:pt x="599" y="901"/>
                    </a:moveTo>
                    <a:lnTo>
                      <a:pt x="0" y="17"/>
                    </a:lnTo>
                    <a:lnTo>
                      <a:pt x="5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676" y="941"/>
                    </a:lnTo>
                    <a:lnTo>
                      <a:pt x="667" y="936"/>
                    </a:lnTo>
                    <a:lnTo>
                      <a:pt x="656" y="931"/>
                    </a:lnTo>
                    <a:lnTo>
                      <a:pt x="647" y="926"/>
                    </a:lnTo>
                    <a:lnTo>
                      <a:pt x="638" y="921"/>
                    </a:lnTo>
                    <a:lnTo>
                      <a:pt x="628" y="917"/>
                    </a:lnTo>
                    <a:lnTo>
                      <a:pt x="619" y="911"/>
                    </a:lnTo>
                    <a:lnTo>
                      <a:pt x="609" y="906"/>
                    </a:lnTo>
                    <a:lnTo>
                      <a:pt x="599" y="901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048120" y="3624120"/>
                <a:ext cx="220680" cy="306360"/>
              </a:xfrm>
              <a:custGeom>
                <a:avLst/>
                <a:gdLst/>
                <a:ahLst/>
                <a:rect l="l" t="t" r="r" b="b"/>
                <a:pathLst>
                  <a:path w="694" h="966">
                    <a:moveTo>
                      <a:pt x="619" y="929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9" y="11"/>
                    </a:lnTo>
                    <a:lnTo>
                      <a:pt x="14" y="9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694" y="966"/>
                    </a:lnTo>
                    <a:lnTo>
                      <a:pt x="685" y="961"/>
                    </a:lnTo>
                    <a:lnTo>
                      <a:pt x="675" y="956"/>
                    </a:lnTo>
                    <a:lnTo>
                      <a:pt x="666" y="952"/>
                    </a:lnTo>
                    <a:lnTo>
                      <a:pt x="656" y="948"/>
                    </a:lnTo>
                    <a:lnTo>
                      <a:pt x="646" y="943"/>
                    </a:lnTo>
                    <a:lnTo>
                      <a:pt x="637" y="938"/>
                    </a:lnTo>
                    <a:lnTo>
                      <a:pt x="628" y="933"/>
                    </a:lnTo>
                    <a:lnTo>
                      <a:pt x="619" y="929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054240" y="3621240"/>
                <a:ext cx="225360" cy="314280"/>
              </a:xfrm>
              <a:custGeom>
                <a:avLst/>
                <a:gdLst/>
                <a:ahLst/>
                <a:rect l="l" t="t" r="r" b="b"/>
                <a:pathLst>
                  <a:path w="711" h="991">
                    <a:moveTo>
                      <a:pt x="636" y="957"/>
                    </a:moveTo>
                    <a:lnTo>
                      <a:pt x="0" y="16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711" y="991"/>
                    </a:lnTo>
                    <a:lnTo>
                      <a:pt x="702" y="987"/>
                    </a:lnTo>
                    <a:lnTo>
                      <a:pt x="692" y="983"/>
                    </a:lnTo>
                    <a:lnTo>
                      <a:pt x="683" y="979"/>
                    </a:lnTo>
                    <a:lnTo>
                      <a:pt x="673" y="975"/>
                    </a:lnTo>
                    <a:lnTo>
                      <a:pt x="664" y="970"/>
                    </a:lnTo>
                    <a:lnTo>
                      <a:pt x="655" y="965"/>
                    </a:lnTo>
                    <a:lnTo>
                      <a:pt x="646" y="961"/>
                    </a:lnTo>
                    <a:lnTo>
                      <a:pt x="636" y="957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060720" y="3618000"/>
                <a:ext cx="230040" cy="322200"/>
              </a:xfrm>
              <a:custGeom>
                <a:avLst/>
                <a:gdLst/>
                <a:ahLst/>
                <a:rect l="l" t="t" r="r" b="b"/>
                <a:pathLst>
                  <a:path w="727" h="1015">
                    <a:moveTo>
                      <a:pt x="654" y="983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9" y="12"/>
                    </a:lnTo>
                    <a:lnTo>
                      <a:pt x="14" y="10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39" y="0"/>
                    </a:lnTo>
                    <a:lnTo>
                      <a:pt x="727" y="1015"/>
                    </a:lnTo>
                    <a:lnTo>
                      <a:pt x="717" y="1011"/>
                    </a:lnTo>
                    <a:lnTo>
                      <a:pt x="709" y="1008"/>
                    </a:lnTo>
                    <a:lnTo>
                      <a:pt x="699" y="1004"/>
                    </a:lnTo>
                    <a:lnTo>
                      <a:pt x="690" y="999"/>
                    </a:lnTo>
                    <a:lnTo>
                      <a:pt x="682" y="995"/>
                    </a:lnTo>
                    <a:lnTo>
                      <a:pt x="672" y="991"/>
                    </a:lnTo>
                    <a:lnTo>
                      <a:pt x="663" y="987"/>
                    </a:lnTo>
                    <a:lnTo>
                      <a:pt x="654" y="983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067200" y="3614760"/>
                <a:ext cx="234720" cy="330120"/>
              </a:xfrm>
              <a:custGeom>
                <a:avLst/>
                <a:gdLst/>
                <a:ahLst/>
                <a:rect l="l" t="t" r="r" b="b"/>
                <a:pathLst>
                  <a:path w="742" h="1040">
                    <a:moveTo>
                      <a:pt x="671" y="1008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9"/>
                    </a:lnTo>
                    <a:lnTo>
                      <a:pt x="24" y="7"/>
                    </a:lnTo>
                    <a:lnTo>
                      <a:pt x="29" y="5"/>
                    </a:lnTo>
                    <a:lnTo>
                      <a:pt x="33" y="3"/>
                    </a:lnTo>
                    <a:lnTo>
                      <a:pt x="38" y="0"/>
                    </a:lnTo>
                    <a:lnTo>
                      <a:pt x="742" y="1040"/>
                    </a:lnTo>
                    <a:lnTo>
                      <a:pt x="733" y="1036"/>
                    </a:lnTo>
                    <a:lnTo>
                      <a:pt x="725" y="1032"/>
                    </a:lnTo>
                    <a:lnTo>
                      <a:pt x="715" y="1028"/>
                    </a:lnTo>
                    <a:lnTo>
                      <a:pt x="707" y="1024"/>
                    </a:lnTo>
                    <a:lnTo>
                      <a:pt x="697" y="1020"/>
                    </a:lnTo>
                    <a:lnTo>
                      <a:pt x="689" y="1017"/>
                    </a:lnTo>
                    <a:lnTo>
                      <a:pt x="679" y="1013"/>
                    </a:lnTo>
                    <a:lnTo>
                      <a:pt x="671" y="1008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073320" y="3613320"/>
                <a:ext cx="239760" cy="336240"/>
              </a:xfrm>
              <a:custGeom>
                <a:avLst/>
                <a:gdLst/>
                <a:ahLst/>
                <a:rect l="l" t="t" r="r" b="b"/>
                <a:pathLst>
                  <a:path w="759" h="1062">
                    <a:moveTo>
                      <a:pt x="688" y="1031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10" y="12"/>
                    </a:lnTo>
                    <a:lnTo>
                      <a:pt x="14" y="10"/>
                    </a:lnTo>
                    <a:lnTo>
                      <a:pt x="19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39" y="0"/>
                    </a:lnTo>
                    <a:lnTo>
                      <a:pt x="759" y="1062"/>
                    </a:lnTo>
                    <a:lnTo>
                      <a:pt x="750" y="1057"/>
                    </a:lnTo>
                    <a:lnTo>
                      <a:pt x="741" y="1054"/>
                    </a:lnTo>
                    <a:lnTo>
                      <a:pt x="732" y="1050"/>
                    </a:lnTo>
                    <a:lnTo>
                      <a:pt x="723" y="1047"/>
                    </a:lnTo>
                    <a:lnTo>
                      <a:pt x="714" y="1043"/>
                    </a:lnTo>
                    <a:lnTo>
                      <a:pt x="706" y="1039"/>
                    </a:lnTo>
                    <a:lnTo>
                      <a:pt x="696" y="1035"/>
                    </a:lnTo>
                    <a:lnTo>
                      <a:pt x="688" y="1031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078000" y="3610080"/>
                <a:ext cx="246240" cy="344520"/>
              </a:xfrm>
              <a:custGeom>
                <a:avLst/>
                <a:gdLst/>
                <a:ahLst/>
                <a:rect l="l" t="t" r="r" b="b"/>
                <a:pathLst>
                  <a:path w="775" h="1083">
                    <a:moveTo>
                      <a:pt x="704" y="1055"/>
                    </a:moveTo>
                    <a:lnTo>
                      <a:pt x="0" y="15"/>
                    </a:lnTo>
                    <a:lnTo>
                      <a:pt x="6" y="14"/>
                    </a:lnTo>
                    <a:lnTo>
                      <a:pt x="11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6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775" y="1083"/>
                    </a:lnTo>
                    <a:lnTo>
                      <a:pt x="765" y="1080"/>
                    </a:lnTo>
                    <a:lnTo>
                      <a:pt x="757" y="1076"/>
                    </a:lnTo>
                    <a:lnTo>
                      <a:pt x="749" y="1073"/>
                    </a:lnTo>
                    <a:lnTo>
                      <a:pt x="739" y="1069"/>
                    </a:lnTo>
                    <a:lnTo>
                      <a:pt x="731" y="1065"/>
                    </a:lnTo>
                    <a:lnTo>
                      <a:pt x="722" y="1062"/>
                    </a:lnTo>
                    <a:lnTo>
                      <a:pt x="713" y="1058"/>
                    </a:lnTo>
                    <a:lnTo>
                      <a:pt x="704" y="1055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084480" y="3608280"/>
                <a:ext cx="250920" cy="351000"/>
              </a:xfrm>
              <a:custGeom>
                <a:avLst/>
                <a:gdLst/>
                <a:ahLst/>
                <a:rect l="l" t="t" r="r" b="b"/>
                <a:pathLst>
                  <a:path w="790" h="1106">
                    <a:moveTo>
                      <a:pt x="720" y="1079"/>
                    </a:moveTo>
                    <a:lnTo>
                      <a:pt x="0" y="17"/>
                    </a:lnTo>
                    <a:lnTo>
                      <a:pt x="6" y="15"/>
                    </a:lnTo>
                    <a:lnTo>
                      <a:pt x="10" y="13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6" y="7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790" y="1106"/>
                    </a:lnTo>
                    <a:lnTo>
                      <a:pt x="780" y="1103"/>
                    </a:lnTo>
                    <a:lnTo>
                      <a:pt x="772" y="1100"/>
                    </a:lnTo>
                    <a:lnTo>
                      <a:pt x="763" y="1095"/>
                    </a:lnTo>
                    <a:lnTo>
                      <a:pt x="754" y="1092"/>
                    </a:lnTo>
                    <a:lnTo>
                      <a:pt x="745" y="1089"/>
                    </a:lnTo>
                    <a:lnTo>
                      <a:pt x="737" y="1085"/>
                    </a:lnTo>
                    <a:lnTo>
                      <a:pt x="729" y="1082"/>
                    </a:lnTo>
                    <a:lnTo>
                      <a:pt x="720" y="1079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090960" y="3605040"/>
                <a:ext cx="255600" cy="358920"/>
              </a:xfrm>
              <a:custGeom>
                <a:avLst/>
                <a:gdLst/>
                <a:ahLst/>
                <a:rect l="l" t="t" r="r" b="b"/>
                <a:pathLst>
                  <a:path w="803" h="1127">
                    <a:moveTo>
                      <a:pt x="735" y="1099"/>
                    </a:moveTo>
                    <a:lnTo>
                      <a:pt x="0" y="16"/>
                    </a:lnTo>
                    <a:lnTo>
                      <a:pt x="6" y="14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03" y="1127"/>
                    </a:lnTo>
                    <a:lnTo>
                      <a:pt x="795" y="1123"/>
                    </a:lnTo>
                    <a:lnTo>
                      <a:pt x="786" y="1120"/>
                    </a:lnTo>
                    <a:lnTo>
                      <a:pt x="778" y="1116"/>
                    </a:lnTo>
                    <a:lnTo>
                      <a:pt x="768" y="1113"/>
                    </a:lnTo>
                    <a:lnTo>
                      <a:pt x="760" y="1110"/>
                    </a:lnTo>
                    <a:lnTo>
                      <a:pt x="752" y="1107"/>
                    </a:lnTo>
                    <a:lnTo>
                      <a:pt x="743" y="1102"/>
                    </a:lnTo>
                    <a:lnTo>
                      <a:pt x="735" y="1099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097080" y="3603600"/>
                <a:ext cx="260640" cy="363600"/>
              </a:xfrm>
              <a:custGeom>
                <a:avLst/>
                <a:gdLst/>
                <a:ahLst/>
                <a:rect l="l" t="t" r="r" b="b"/>
                <a:pathLst>
                  <a:path w="818" h="1147">
                    <a:moveTo>
                      <a:pt x="750" y="1121"/>
                    </a:moveTo>
                    <a:lnTo>
                      <a:pt x="0" y="15"/>
                    </a:lnTo>
                    <a:lnTo>
                      <a:pt x="6" y="14"/>
                    </a:lnTo>
                    <a:lnTo>
                      <a:pt x="10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18" y="1147"/>
                    </a:lnTo>
                    <a:lnTo>
                      <a:pt x="809" y="1144"/>
                    </a:lnTo>
                    <a:lnTo>
                      <a:pt x="800" y="1141"/>
                    </a:lnTo>
                    <a:lnTo>
                      <a:pt x="792" y="1138"/>
                    </a:lnTo>
                    <a:lnTo>
                      <a:pt x="783" y="1135"/>
                    </a:lnTo>
                    <a:lnTo>
                      <a:pt x="775" y="1131"/>
                    </a:lnTo>
                    <a:lnTo>
                      <a:pt x="766" y="1128"/>
                    </a:lnTo>
                    <a:lnTo>
                      <a:pt x="758" y="1124"/>
                    </a:lnTo>
                    <a:lnTo>
                      <a:pt x="750" y="1121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103560" y="3600360"/>
                <a:ext cx="264960" cy="371520"/>
              </a:xfrm>
              <a:custGeom>
                <a:avLst/>
                <a:gdLst/>
                <a:ahLst/>
                <a:rect l="l" t="t" r="r" b="b"/>
                <a:pathLst>
                  <a:path w="831" h="1168">
                    <a:moveTo>
                      <a:pt x="763" y="1143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10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831" y="1168"/>
                    </a:lnTo>
                    <a:lnTo>
                      <a:pt x="823" y="1165"/>
                    </a:lnTo>
                    <a:lnTo>
                      <a:pt x="815" y="1161"/>
                    </a:lnTo>
                    <a:lnTo>
                      <a:pt x="806" y="1158"/>
                    </a:lnTo>
                    <a:lnTo>
                      <a:pt x="798" y="1155"/>
                    </a:lnTo>
                    <a:lnTo>
                      <a:pt x="789" y="1152"/>
                    </a:lnTo>
                    <a:lnTo>
                      <a:pt x="780" y="1149"/>
                    </a:lnTo>
                    <a:lnTo>
                      <a:pt x="772" y="1146"/>
                    </a:lnTo>
                    <a:lnTo>
                      <a:pt x="763" y="1143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110040" y="3597120"/>
                <a:ext cx="268200" cy="378000"/>
              </a:xfrm>
              <a:custGeom>
                <a:avLst/>
                <a:gdLst/>
                <a:ahLst/>
                <a:rect l="l" t="t" r="r" b="b"/>
                <a:pathLst>
                  <a:path w="845" h="1188">
                    <a:moveTo>
                      <a:pt x="778" y="1163"/>
                    </a:moveTo>
                    <a:lnTo>
                      <a:pt x="0" y="16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45" y="1188"/>
                    </a:lnTo>
                    <a:lnTo>
                      <a:pt x="837" y="1186"/>
                    </a:lnTo>
                    <a:lnTo>
                      <a:pt x="828" y="1183"/>
                    </a:lnTo>
                    <a:lnTo>
                      <a:pt x="820" y="1180"/>
                    </a:lnTo>
                    <a:lnTo>
                      <a:pt x="811" y="1176"/>
                    </a:lnTo>
                    <a:lnTo>
                      <a:pt x="803" y="1173"/>
                    </a:lnTo>
                    <a:lnTo>
                      <a:pt x="795" y="1169"/>
                    </a:lnTo>
                    <a:lnTo>
                      <a:pt x="786" y="1166"/>
                    </a:lnTo>
                    <a:lnTo>
                      <a:pt x="778" y="1163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116160" y="3595680"/>
                <a:ext cx="273240" cy="384120"/>
              </a:xfrm>
              <a:custGeom>
                <a:avLst/>
                <a:gdLst/>
                <a:ahLst/>
                <a:rect l="l" t="t" r="r" b="b"/>
                <a:pathLst>
                  <a:path w="860" h="1210">
                    <a:moveTo>
                      <a:pt x="791" y="1185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10" y="13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30" y="5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60" y="1210"/>
                    </a:lnTo>
                    <a:lnTo>
                      <a:pt x="850" y="1208"/>
                    </a:lnTo>
                    <a:lnTo>
                      <a:pt x="842" y="1205"/>
                    </a:lnTo>
                    <a:lnTo>
                      <a:pt x="833" y="1202"/>
                    </a:lnTo>
                    <a:lnTo>
                      <a:pt x="825" y="1198"/>
                    </a:lnTo>
                    <a:lnTo>
                      <a:pt x="817" y="1195"/>
                    </a:lnTo>
                    <a:lnTo>
                      <a:pt x="808" y="1192"/>
                    </a:lnTo>
                    <a:lnTo>
                      <a:pt x="800" y="1188"/>
                    </a:lnTo>
                    <a:lnTo>
                      <a:pt x="791" y="118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122640" y="3592440"/>
                <a:ext cx="277920" cy="390600"/>
              </a:xfrm>
              <a:custGeom>
                <a:avLst/>
                <a:gdLst/>
                <a:ahLst/>
                <a:rect l="l" t="t" r="r" b="b"/>
                <a:pathLst>
                  <a:path w="873" h="1230">
                    <a:moveTo>
                      <a:pt x="805" y="1204"/>
                    </a:moveTo>
                    <a:lnTo>
                      <a:pt x="0" y="16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5" y="9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73" y="1230"/>
                    </a:lnTo>
                    <a:lnTo>
                      <a:pt x="865" y="1226"/>
                    </a:lnTo>
                    <a:lnTo>
                      <a:pt x="857" y="1223"/>
                    </a:lnTo>
                    <a:lnTo>
                      <a:pt x="848" y="1221"/>
                    </a:lnTo>
                    <a:lnTo>
                      <a:pt x="840" y="1217"/>
                    </a:lnTo>
                    <a:lnTo>
                      <a:pt x="830" y="1215"/>
                    </a:lnTo>
                    <a:lnTo>
                      <a:pt x="822" y="1211"/>
                    </a:lnTo>
                    <a:lnTo>
                      <a:pt x="813" y="1209"/>
                    </a:lnTo>
                    <a:lnTo>
                      <a:pt x="805" y="120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129120" y="3591000"/>
                <a:ext cx="282240" cy="396720"/>
              </a:xfrm>
              <a:custGeom>
                <a:avLst/>
                <a:gdLst/>
                <a:ahLst/>
                <a:rect l="l" t="t" r="r" b="b"/>
                <a:pathLst>
                  <a:path w="887" h="1250">
                    <a:moveTo>
                      <a:pt x="820" y="1225"/>
                    </a:moveTo>
                    <a:lnTo>
                      <a:pt x="0" y="15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87" y="1250"/>
                    </a:lnTo>
                    <a:lnTo>
                      <a:pt x="879" y="1247"/>
                    </a:lnTo>
                    <a:lnTo>
                      <a:pt x="870" y="1244"/>
                    </a:lnTo>
                    <a:lnTo>
                      <a:pt x="862" y="1241"/>
                    </a:lnTo>
                    <a:lnTo>
                      <a:pt x="853" y="1238"/>
                    </a:lnTo>
                    <a:lnTo>
                      <a:pt x="845" y="1234"/>
                    </a:lnTo>
                    <a:lnTo>
                      <a:pt x="837" y="1231"/>
                    </a:lnTo>
                    <a:lnTo>
                      <a:pt x="828" y="1229"/>
                    </a:lnTo>
                    <a:lnTo>
                      <a:pt x="820" y="122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135240" y="3587760"/>
                <a:ext cx="287280" cy="403200"/>
              </a:xfrm>
              <a:custGeom>
                <a:avLst/>
                <a:gdLst/>
                <a:ahLst/>
                <a:rect l="l" t="t" r="r" b="b"/>
                <a:pathLst>
                  <a:path w="901" h="1271">
                    <a:moveTo>
                      <a:pt x="833" y="1246"/>
                    </a:moveTo>
                    <a:lnTo>
                      <a:pt x="0" y="16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5" y="10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01" y="1271"/>
                    </a:lnTo>
                    <a:lnTo>
                      <a:pt x="892" y="1268"/>
                    </a:lnTo>
                    <a:lnTo>
                      <a:pt x="884" y="1264"/>
                    </a:lnTo>
                    <a:lnTo>
                      <a:pt x="875" y="1261"/>
                    </a:lnTo>
                    <a:lnTo>
                      <a:pt x="867" y="1258"/>
                    </a:lnTo>
                    <a:lnTo>
                      <a:pt x="859" y="1255"/>
                    </a:lnTo>
                    <a:lnTo>
                      <a:pt x="850" y="1252"/>
                    </a:lnTo>
                    <a:lnTo>
                      <a:pt x="842" y="1249"/>
                    </a:lnTo>
                    <a:lnTo>
                      <a:pt x="833" y="124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141720" y="3586320"/>
                <a:ext cx="290520" cy="409320"/>
              </a:xfrm>
              <a:custGeom>
                <a:avLst/>
                <a:gdLst/>
                <a:ahLst/>
                <a:rect l="l" t="t" r="r" b="b"/>
                <a:pathLst>
                  <a:path w="914" h="1290">
                    <a:moveTo>
                      <a:pt x="847" y="1265"/>
                    </a:moveTo>
                    <a:lnTo>
                      <a:pt x="0" y="15"/>
                    </a:lnTo>
                    <a:lnTo>
                      <a:pt x="4" y="14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4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14" y="1290"/>
                    </a:lnTo>
                    <a:lnTo>
                      <a:pt x="906" y="1287"/>
                    </a:lnTo>
                    <a:lnTo>
                      <a:pt x="897" y="1284"/>
                    </a:lnTo>
                    <a:lnTo>
                      <a:pt x="889" y="1281"/>
                    </a:lnTo>
                    <a:lnTo>
                      <a:pt x="881" y="1278"/>
                    </a:lnTo>
                    <a:lnTo>
                      <a:pt x="872" y="1275"/>
                    </a:lnTo>
                    <a:lnTo>
                      <a:pt x="864" y="1271"/>
                    </a:lnTo>
                    <a:lnTo>
                      <a:pt x="855" y="1268"/>
                    </a:lnTo>
                    <a:lnTo>
                      <a:pt x="847" y="126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147840" y="3583080"/>
                <a:ext cx="295560" cy="415800"/>
              </a:xfrm>
              <a:custGeom>
                <a:avLst/>
                <a:gdLst/>
                <a:ahLst/>
                <a:rect l="l" t="t" r="r" b="b"/>
                <a:pathLst>
                  <a:path w="928" h="1311">
                    <a:moveTo>
                      <a:pt x="861" y="1286"/>
                    </a:moveTo>
                    <a:lnTo>
                      <a:pt x="0" y="15"/>
                    </a:lnTo>
                    <a:lnTo>
                      <a:pt x="4" y="13"/>
                    </a:lnTo>
                    <a:lnTo>
                      <a:pt x="10" y="11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28" y="1311"/>
                    </a:lnTo>
                    <a:lnTo>
                      <a:pt x="919" y="1308"/>
                    </a:lnTo>
                    <a:lnTo>
                      <a:pt x="911" y="1305"/>
                    </a:lnTo>
                    <a:lnTo>
                      <a:pt x="903" y="1302"/>
                    </a:lnTo>
                    <a:lnTo>
                      <a:pt x="894" y="1298"/>
                    </a:lnTo>
                    <a:lnTo>
                      <a:pt x="886" y="1295"/>
                    </a:lnTo>
                    <a:lnTo>
                      <a:pt x="877" y="1292"/>
                    </a:lnTo>
                    <a:lnTo>
                      <a:pt x="869" y="1289"/>
                    </a:lnTo>
                    <a:lnTo>
                      <a:pt x="861" y="128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154320" y="3579840"/>
                <a:ext cx="300240" cy="423720"/>
              </a:xfrm>
              <a:custGeom>
                <a:avLst/>
                <a:gdLst/>
                <a:ahLst/>
                <a:rect l="l" t="t" r="r" b="b"/>
                <a:pathLst>
                  <a:path w="942" h="1332">
                    <a:moveTo>
                      <a:pt x="874" y="1306"/>
                    </a:moveTo>
                    <a:lnTo>
                      <a:pt x="0" y="16"/>
                    </a:lnTo>
                    <a:lnTo>
                      <a:pt x="4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42" y="1332"/>
                    </a:lnTo>
                    <a:lnTo>
                      <a:pt x="934" y="1328"/>
                    </a:lnTo>
                    <a:lnTo>
                      <a:pt x="926" y="1325"/>
                    </a:lnTo>
                    <a:lnTo>
                      <a:pt x="916" y="1322"/>
                    </a:lnTo>
                    <a:lnTo>
                      <a:pt x="908" y="1319"/>
                    </a:lnTo>
                    <a:lnTo>
                      <a:pt x="899" y="1316"/>
                    </a:lnTo>
                    <a:lnTo>
                      <a:pt x="891" y="1313"/>
                    </a:lnTo>
                    <a:lnTo>
                      <a:pt x="883" y="1310"/>
                    </a:lnTo>
                    <a:lnTo>
                      <a:pt x="874" y="1306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160800" y="3578400"/>
                <a:ext cx="304560" cy="428400"/>
              </a:xfrm>
              <a:custGeom>
                <a:avLst/>
                <a:gdLst/>
                <a:ahLst/>
                <a:rect l="l" t="t" r="r" b="b"/>
                <a:pathLst>
                  <a:path w="956" h="1353">
                    <a:moveTo>
                      <a:pt x="888" y="1327"/>
                    </a:moveTo>
                    <a:lnTo>
                      <a:pt x="0" y="16"/>
                    </a:lnTo>
                    <a:lnTo>
                      <a:pt x="5" y="13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56" y="1353"/>
                    </a:lnTo>
                    <a:lnTo>
                      <a:pt x="948" y="1350"/>
                    </a:lnTo>
                    <a:lnTo>
                      <a:pt x="939" y="1347"/>
                    </a:lnTo>
                    <a:lnTo>
                      <a:pt x="931" y="1343"/>
                    </a:lnTo>
                    <a:lnTo>
                      <a:pt x="922" y="1340"/>
                    </a:lnTo>
                    <a:lnTo>
                      <a:pt x="914" y="1336"/>
                    </a:lnTo>
                    <a:lnTo>
                      <a:pt x="906" y="1333"/>
                    </a:lnTo>
                    <a:lnTo>
                      <a:pt x="896" y="1330"/>
                    </a:lnTo>
                    <a:lnTo>
                      <a:pt x="888" y="1327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166920" y="3575160"/>
                <a:ext cx="309600" cy="436320"/>
              </a:xfrm>
              <a:custGeom>
                <a:avLst/>
                <a:gdLst/>
                <a:ahLst/>
                <a:rect l="l" t="t" r="r" b="b"/>
                <a:pathLst>
                  <a:path w="971" h="1375">
                    <a:moveTo>
                      <a:pt x="902" y="1348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7"/>
                    </a:lnTo>
                    <a:lnTo>
                      <a:pt x="29" y="5"/>
                    </a:lnTo>
                    <a:lnTo>
                      <a:pt x="35" y="3"/>
                    </a:lnTo>
                    <a:lnTo>
                      <a:pt x="40" y="0"/>
                    </a:lnTo>
                    <a:lnTo>
                      <a:pt x="971" y="1375"/>
                    </a:lnTo>
                    <a:lnTo>
                      <a:pt x="962" y="1371"/>
                    </a:lnTo>
                    <a:lnTo>
                      <a:pt x="954" y="1368"/>
                    </a:lnTo>
                    <a:lnTo>
                      <a:pt x="945" y="1364"/>
                    </a:lnTo>
                    <a:lnTo>
                      <a:pt x="936" y="1361"/>
                    </a:lnTo>
                    <a:lnTo>
                      <a:pt x="928" y="1358"/>
                    </a:lnTo>
                    <a:lnTo>
                      <a:pt x="919" y="1355"/>
                    </a:lnTo>
                    <a:lnTo>
                      <a:pt x="911" y="1351"/>
                    </a:lnTo>
                    <a:lnTo>
                      <a:pt x="902" y="1348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173400" y="3573360"/>
                <a:ext cx="312840" cy="443160"/>
              </a:xfrm>
              <a:custGeom>
                <a:avLst/>
                <a:gdLst/>
                <a:ahLst/>
                <a:rect l="l" t="t" r="r" b="b"/>
                <a:pathLst>
                  <a:path w="985" h="1396">
                    <a:moveTo>
                      <a:pt x="916" y="1368"/>
                    </a:moveTo>
                    <a:lnTo>
                      <a:pt x="0" y="15"/>
                    </a:lnTo>
                    <a:lnTo>
                      <a:pt x="5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85" y="1396"/>
                    </a:lnTo>
                    <a:lnTo>
                      <a:pt x="977" y="1391"/>
                    </a:lnTo>
                    <a:lnTo>
                      <a:pt x="968" y="1388"/>
                    </a:lnTo>
                    <a:lnTo>
                      <a:pt x="959" y="1385"/>
                    </a:lnTo>
                    <a:lnTo>
                      <a:pt x="951" y="1382"/>
                    </a:lnTo>
                    <a:lnTo>
                      <a:pt x="942" y="1378"/>
                    </a:lnTo>
                    <a:lnTo>
                      <a:pt x="934" y="1375"/>
                    </a:lnTo>
                    <a:lnTo>
                      <a:pt x="925" y="1371"/>
                    </a:lnTo>
                    <a:lnTo>
                      <a:pt x="916" y="1368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179880" y="3570120"/>
                <a:ext cx="317520" cy="451080"/>
              </a:xfrm>
              <a:custGeom>
                <a:avLst/>
                <a:gdLst/>
                <a:ahLst/>
                <a:rect l="l" t="t" r="r" b="b"/>
                <a:pathLst>
                  <a:path w="1000" h="1416">
                    <a:moveTo>
                      <a:pt x="931" y="1389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6" y="1"/>
                    </a:lnTo>
                    <a:lnTo>
                      <a:pt x="40" y="0"/>
                    </a:lnTo>
                    <a:lnTo>
                      <a:pt x="1000" y="1416"/>
                    </a:lnTo>
                    <a:lnTo>
                      <a:pt x="992" y="1413"/>
                    </a:lnTo>
                    <a:lnTo>
                      <a:pt x="983" y="1409"/>
                    </a:lnTo>
                    <a:lnTo>
                      <a:pt x="974" y="1406"/>
                    </a:lnTo>
                    <a:lnTo>
                      <a:pt x="965" y="1403"/>
                    </a:lnTo>
                    <a:lnTo>
                      <a:pt x="957" y="1398"/>
                    </a:lnTo>
                    <a:lnTo>
                      <a:pt x="949" y="1395"/>
                    </a:lnTo>
                    <a:lnTo>
                      <a:pt x="939" y="1392"/>
                    </a:lnTo>
                    <a:lnTo>
                      <a:pt x="931" y="1389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186000" y="3568680"/>
                <a:ext cx="324000" cy="457200"/>
              </a:xfrm>
              <a:custGeom>
                <a:avLst/>
                <a:gdLst/>
                <a:ahLst/>
                <a:rect l="l" t="t" r="r" b="b"/>
                <a:pathLst>
                  <a:path w="1016" h="1440">
                    <a:moveTo>
                      <a:pt x="945" y="1412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10" y="12"/>
                    </a:lnTo>
                    <a:lnTo>
                      <a:pt x="16" y="10"/>
                    </a:lnTo>
                    <a:lnTo>
                      <a:pt x="20" y="9"/>
                    </a:lnTo>
                    <a:lnTo>
                      <a:pt x="25" y="7"/>
                    </a:lnTo>
                    <a:lnTo>
                      <a:pt x="30" y="5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1016" y="1440"/>
                    </a:lnTo>
                    <a:lnTo>
                      <a:pt x="1006" y="1437"/>
                    </a:lnTo>
                    <a:lnTo>
                      <a:pt x="998" y="1433"/>
                    </a:lnTo>
                    <a:lnTo>
                      <a:pt x="990" y="1429"/>
                    </a:lnTo>
                    <a:lnTo>
                      <a:pt x="980" y="1425"/>
                    </a:lnTo>
                    <a:lnTo>
                      <a:pt x="972" y="1422"/>
                    </a:lnTo>
                    <a:lnTo>
                      <a:pt x="963" y="1418"/>
                    </a:lnTo>
                    <a:lnTo>
                      <a:pt x="954" y="1415"/>
                    </a:lnTo>
                    <a:lnTo>
                      <a:pt x="945" y="1412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192480" y="3565440"/>
                <a:ext cx="328680" cy="465120"/>
              </a:xfrm>
              <a:custGeom>
                <a:avLst/>
                <a:gdLst/>
                <a:ahLst/>
                <a:rect l="l" t="t" r="r" b="b"/>
                <a:pathLst>
                  <a:path w="1032" h="1463">
                    <a:moveTo>
                      <a:pt x="960" y="1432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10" y="12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1032" y="1463"/>
                    </a:lnTo>
                    <a:lnTo>
                      <a:pt x="1022" y="1458"/>
                    </a:lnTo>
                    <a:lnTo>
                      <a:pt x="1014" y="1455"/>
                    </a:lnTo>
                    <a:lnTo>
                      <a:pt x="1004" y="1451"/>
                    </a:lnTo>
                    <a:lnTo>
                      <a:pt x="996" y="1447"/>
                    </a:lnTo>
                    <a:lnTo>
                      <a:pt x="986" y="1444"/>
                    </a:lnTo>
                    <a:lnTo>
                      <a:pt x="978" y="1440"/>
                    </a:lnTo>
                    <a:lnTo>
                      <a:pt x="970" y="1436"/>
                    </a:lnTo>
                    <a:lnTo>
                      <a:pt x="960" y="1432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200400" y="3564000"/>
                <a:ext cx="331920" cy="471600"/>
              </a:xfrm>
              <a:custGeom>
                <a:avLst/>
                <a:gdLst/>
                <a:ahLst/>
                <a:rect l="l" t="t" r="r" b="b"/>
                <a:pathLst>
                  <a:path w="1046" h="1485">
                    <a:moveTo>
                      <a:pt x="975" y="1454"/>
                    </a:moveTo>
                    <a:lnTo>
                      <a:pt x="0" y="14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1046" y="1485"/>
                    </a:lnTo>
                    <a:lnTo>
                      <a:pt x="1038" y="1481"/>
                    </a:lnTo>
                    <a:lnTo>
                      <a:pt x="1028" y="1478"/>
                    </a:lnTo>
                    <a:lnTo>
                      <a:pt x="1020" y="1474"/>
                    </a:lnTo>
                    <a:lnTo>
                      <a:pt x="1011" y="1470"/>
                    </a:lnTo>
                    <a:lnTo>
                      <a:pt x="1001" y="1465"/>
                    </a:lnTo>
                    <a:lnTo>
                      <a:pt x="993" y="1462"/>
                    </a:lnTo>
                    <a:lnTo>
                      <a:pt x="983" y="1458"/>
                    </a:lnTo>
                    <a:lnTo>
                      <a:pt x="975" y="1454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206880" y="3560760"/>
                <a:ext cx="336600" cy="479520"/>
              </a:xfrm>
              <a:custGeom>
                <a:avLst/>
                <a:gdLst/>
                <a:ahLst/>
                <a:rect l="l" t="t" r="r" b="b"/>
                <a:pathLst>
                  <a:path w="1063" h="1510">
                    <a:moveTo>
                      <a:pt x="991" y="1478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1063" y="1510"/>
                    </a:lnTo>
                    <a:lnTo>
                      <a:pt x="1055" y="1506"/>
                    </a:lnTo>
                    <a:lnTo>
                      <a:pt x="1045" y="1502"/>
                    </a:lnTo>
                    <a:lnTo>
                      <a:pt x="1036" y="1498"/>
                    </a:lnTo>
                    <a:lnTo>
                      <a:pt x="1027" y="1493"/>
                    </a:lnTo>
                    <a:lnTo>
                      <a:pt x="1018" y="1490"/>
                    </a:lnTo>
                    <a:lnTo>
                      <a:pt x="1008" y="1486"/>
                    </a:lnTo>
                    <a:lnTo>
                      <a:pt x="999" y="1482"/>
                    </a:lnTo>
                    <a:lnTo>
                      <a:pt x="991" y="147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213000" y="3559320"/>
                <a:ext cx="343080" cy="487080"/>
              </a:xfrm>
              <a:custGeom>
                <a:avLst/>
                <a:gdLst/>
                <a:ahLst/>
                <a:rect l="l" t="t" r="r" b="b"/>
                <a:pathLst>
                  <a:path w="1081" h="1536">
                    <a:moveTo>
                      <a:pt x="1006" y="1500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081" y="1536"/>
                    </a:lnTo>
                    <a:lnTo>
                      <a:pt x="1071" y="1531"/>
                    </a:lnTo>
                    <a:lnTo>
                      <a:pt x="1062" y="1527"/>
                    </a:lnTo>
                    <a:lnTo>
                      <a:pt x="1054" y="1522"/>
                    </a:lnTo>
                    <a:lnTo>
                      <a:pt x="1044" y="1518"/>
                    </a:lnTo>
                    <a:lnTo>
                      <a:pt x="1035" y="1514"/>
                    </a:lnTo>
                    <a:lnTo>
                      <a:pt x="1025" y="1509"/>
                    </a:lnTo>
                    <a:lnTo>
                      <a:pt x="1016" y="1505"/>
                    </a:lnTo>
                    <a:lnTo>
                      <a:pt x="1006" y="1500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219480" y="3556080"/>
                <a:ext cx="349200" cy="496800"/>
              </a:xfrm>
              <a:custGeom>
                <a:avLst/>
                <a:gdLst/>
                <a:ahLst/>
                <a:rect l="l" t="t" r="r" b="b"/>
                <a:pathLst>
                  <a:path w="1100" h="1562">
                    <a:moveTo>
                      <a:pt x="1023" y="1524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100" y="1562"/>
                    </a:lnTo>
                    <a:lnTo>
                      <a:pt x="1090" y="1558"/>
                    </a:lnTo>
                    <a:lnTo>
                      <a:pt x="1081" y="1553"/>
                    </a:lnTo>
                    <a:lnTo>
                      <a:pt x="1071" y="1547"/>
                    </a:lnTo>
                    <a:lnTo>
                      <a:pt x="1062" y="1543"/>
                    </a:lnTo>
                    <a:lnTo>
                      <a:pt x="1051" y="1539"/>
                    </a:lnTo>
                    <a:lnTo>
                      <a:pt x="1042" y="1534"/>
                    </a:lnTo>
                    <a:lnTo>
                      <a:pt x="1033" y="1529"/>
                    </a:lnTo>
                    <a:lnTo>
                      <a:pt x="1023" y="152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225960" y="3554280"/>
                <a:ext cx="353880" cy="505080"/>
              </a:xfrm>
              <a:custGeom>
                <a:avLst/>
                <a:gdLst/>
                <a:ahLst/>
                <a:rect l="l" t="t" r="r" b="b"/>
                <a:pathLst>
                  <a:path w="1118" h="1591">
                    <a:moveTo>
                      <a:pt x="1040" y="1551"/>
                    </a:moveTo>
                    <a:lnTo>
                      <a:pt x="0" y="15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4" y="10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1118" y="1591"/>
                    </a:lnTo>
                    <a:lnTo>
                      <a:pt x="1108" y="1586"/>
                    </a:lnTo>
                    <a:lnTo>
                      <a:pt x="1099" y="1580"/>
                    </a:lnTo>
                    <a:lnTo>
                      <a:pt x="1088" y="1575"/>
                    </a:lnTo>
                    <a:lnTo>
                      <a:pt x="1079" y="1570"/>
                    </a:lnTo>
                    <a:lnTo>
                      <a:pt x="1069" y="1566"/>
                    </a:lnTo>
                    <a:lnTo>
                      <a:pt x="1060" y="1561"/>
                    </a:lnTo>
                    <a:lnTo>
                      <a:pt x="1049" y="1555"/>
                    </a:lnTo>
                    <a:lnTo>
                      <a:pt x="1040" y="1551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232080" y="3551400"/>
                <a:ext cx="362160" cy="515880"/>
              </a:xfrm>
              <a:custGeom>
                <a:avLst/>
                <a:gdLst/>
                <a:ahLst/>
                <a:rect l="l" t="t" r="r" b="b"/>
                <a:pathLst>
                  <a:path w="1139" h="1621">
                    <a:moveTo>
                      <a:pt x="1059" y="1577"/>
                    </a:moveTo>
                    <a:lnTo>
                      <a:pt x="0" y="15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139" y="1621"/>
                    </a:lnTo>
                    <a:lnTo>
                      <a:pt x="1128" y="1615"/>
                    </a:lnTo>
                    <a:lnTo>
                      <a:pt x="1119" y="1610"/>
                    </a:lnTo>
                    <a:lnTo>
                      <a:pt x="1108" y="1604"/>
                    </a:lnTo>
                    <a:lnTo>
                      <a:pt x="1099" y="1598"/>
                    </a:lnTo>
                    <a:lnTo>
                      <a:pt x="1088" y="1593"/>
                    </a:lnTo>
                    <a:lnTo>
                      <a:pt x="1079" y="1587"/>
                    </a:lnTo>
                    <a:lnTo>
                      <a:pt x="1068" y="1582"/>
                    </a:lnTo>
                    <a:lnTo>
                      <a:pt x="1059" y="157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238560" y="3549600"/>
                <a:ext cx="368280" cy="523800"/>
              </a:xfrm>
              <a:custGeom>
                <a:avLst/>
                <a:gdLst/>
                <a:ahLst/>
                <a:rect l="l" t="t" r="r" b="b"/>
                <a:pathLst>
                  <a:path w="1161" h="1652">
                    <a:moveTo>
                      <a:pt x="1078" y="1605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161" y="1652"/>
                    </a:lnTo>
                    <a:lnTo>
                      <a:pt x="1150" y="1646"/>
                    </a:lnTo>
                    <a:lnTo>
                      <a:pt x="1140" y="1641"/>
                    </a:lnTo>
                    <a:lnTo>
                      <a:pt x="1130" y="1634"/>
                    </a:lnTo>
                    <a:lnTo>
                      <a:pt x="1120" y="1628"/>
                    </a:lnTo>
                    <a:lnTo>
                      <a:pt x="1109" y="1623"/>
                    </a:lnTo>
                    <a:lnTo>
                      <a:pt x="1099" y="1617"/>
                    </a:lnTo>
                    <a:lnTo>
                      <a:pt x="1088" y="1610"/>
                    </a:lnTo>
                    <a:lnTo>
                      <a:pt x="1078" y="160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244680" y="3546360"/>
                <a:ext cx="376560" cy="536760"/>
              </a:xfrm>
              <a:custGeom>
                <a:avLst/>
                <a:gdLst/>
                <a:ahLst/>
                <a:rect l="l" t="t" r="r" b="b"/>
                <a:pathLst>
                  <a:path w="1184" h="1689">
                    <a:moveTo>
                      <a:pt x="1098" y="1636"/>
                    </a:moveTo>
                    <a:lnTo>
                      <a:pt x="0" y="15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4" y="10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1184" y="1689"/>
                    </a:lnTo>
                    <a:lnTo>
                      <a:pt x="1173" y="1681"/>
                    </a:lnTo>
                    <a:lnTo>
                      <a:pt x="1163" y="1675"/>
                    </a:lnTo>
                    <a:lnTo>
                      <a:pt x="1152" y="1669"/>
                    </a:lnTo>
                    <a:lnTo>
                      <a:pt x="1141" y="1661"/>
                    </a:lnTo>
                    <a:lnTo>
                      <a:pt x="1130" y="1655"/>
                    </a:lnTo>
                    <a:lnTo>
                      <a:pt x="1120" y="1649"/>
                    </a:lnTo>
                    <a:lnTo>
                      <a:pt x="1108" y="1642"/>
                    </a:lnTo>
                    <a:lnTo>
                      <a:pt x="1098" y="163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251160" y="3544920"/>
                <a:ext cx="542880" cy="784080"/>
              </a:xfrm>
              <a:custGeom>
                <a:avLst/>
                <a:gdLst/>
                <a:ahLst/>
                <a:rect l="l" t="t" r="r" b="b"/>
                <a:pathLst>
                  <a:path w="1710" h="2468">
                    <a:moveTo>
                      <a:pt x="1120" y="1667"/>
                    </a:moveTo>
                    <a:lnTo>
                      <a:pt x="0" y="15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211" y="1728"/>
                    </a:lnTo>
                    <a:lnTo>
                      <a:pt x="1199" y="1720"/>
                    </a:lnTo>
                    <a:lnTo>
                      <a:pt x="1189" y="1712"/>
                    </a:lnTo>
                    <a:lnTo>
                      <a:pt x="1177" y="1704"/>
                    </a:lnTo>
                    <a:lnTo>
                      <a:pt x="1166" y="1697"/>
                    </a:lnTo>
                    <a:lnTo>
                      <a:pt x="1154" y="1689"/>
                    </a:lnTo>
                    <a:lnTo>
                      <a:pt x="1143" y="1682"/>
                    </a:lnTo>
                    <a:lnTo>
                      <a:pt x="1131" y="1675"/>
                    </a:lnTo>
                    <a:lnTo>
                      <a:pt x="1120" y="1667"/>
                    </a:lnTo>
                    <a:close/>
                    <a:moveTo>
                      <a:pt x="1707" y="2460"/>
                    </a:moveTo>
                    <a:lnTo>
                      <a:pt x="1710" y="2464"/>
                    </a:lnTo>
                    <a:lnTo>
                      <a:pt x="1710" y="2465"/>
                    </a:lnTo>
                    <a:lnTo>
                      <a:pt x="1710" y="2465"/>
                    </a:lnTo>
                    <a:lnTo>
                      <a:pt x="1710" y="2466"/>
                    </a:lnTo>
                    <a:lnTo>
                      <a:pt x="1710" y="2466"/>
                    </a:lnTo>
                    <a:lnTo>
                      <a:pt x="1710" y="2466"/>
                    </a:lnTo>
                    <a:lnTo>
                      <a:pt x="1709" y="2467"/>
                    </a:lnTo>
                    <a:lnTo>
                      <a:pt x="1709" y="2467"/>
                    </a:lnTo>
                    <a:lnTo>
                      <a:pt x="1709" y="2468"/>
                    </a:lnTo>
                    <a:lnTo>
                      <a:pt x="1709" y="2467"/>
                    </a:lnTo>
                    <a:lnTo>
                      <a:pt x="1709" y="2466"/>
                    </a:lnTo>
                    <a:lnTo>
                      <a:pt x="1708" y="2465"/>
                    </a:lnTo>
                    <a:lnTo>
                      <a:pt x="1708" y="2464"/>
                    </a:lnTo>
                    <a:lnTo>
                      <a:pt x="1708" y="2463"/>
                    </a:lnTo>
                    <a:lnTo>
                      <a:pt x="1708" y="2462"/>
                    </a:lnTo>
                    <a:lnTo>
                      <a:pt x="1707" y="2461"/>
                    </a:lnTo>
                    <a:lnTo>
                      <a:pt x="1707" y="2460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257640" y="3541680"/>
                <a:ext cx="538200" cy="787320"/>
              </a:xfrm>
              <a:custGeom>
                <a:avLst/>
                <a:gdLst/>
                <a:ahLst/>
                <a:rect l="l" t="t" r="r" b="b"/>
                <a:pathLst>
                  <a:path w="1696" h="2476">
                    <a:moveTo>
                      <a:pt x="1144" y="1704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5" y="10"/>
                    </a:lnTo>
                    <a:lnTo>
                      <a:pt x="21" y="8"/>
                    </a:lnTo>
                    <a:lnTo>
                      <a:pt x="26" y="6"/>
                    </a:lnTo>
                    <a:lnTo>
                      <a:pt x="30" y="5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1241" y="1773"/>
                    </a:lnTo>
                    <a:lnTo>
                      <a:pt x="1230" y="1764"/>
                    </a:lnTo>
                    <a:lnTo>
                      <a:pt x="1217" y="1755"/>
                    </a:lnTo>
                    <a:lnTo>
                      <a:pt x="1206" y="1747"/>
                    </a:lnTo>
                    <a:lnTo>
                      <a:pt x="1193" y="1737"/>
                    </a:lnTo>
                    <a:lnTo>
                      <a:pt x="1182" y="1729"/>
                    </a:lnTo>
                    <a:lnTo>
                      <a:pt x="1169" y="1720"/>
                    </a:lnTo>
                    <a:lnTo>
                      <a:pt x="1156" y="1712"/>
                    </a:lnTo>
                    <a:lnTo>
                      <a:pt x="1144" y="1704"/>
                    </a:lnTo>
                    <a:close/>
                    <a:moveTo>
                      <a:pt x="1669" y="2404"/>
                    </a:moveTo>
                    <a:lnTo>
                      <a:pt x="1696" y="2445"/>
                    </a:lnTo>
                    <a:lnTo>
                      <a:pt x="1695" y="2449"/>
                    </a:lnTo>
                    <a:lnTo>
                      <a:pt x="1695" y="2452"/>
                    </a:lnTo>
                    <a:lnTo>
                      <a:pt x="1694" y="2456"/>
                    </a:lnTo>
                    <a:lnTo>
                      <a:pt x="1693" y="2461"/>
                    </a:lnTo>
                    <a:lnTo>
                      <a:pt x="1692" y="2465"/>
                    </a:lnTo>
                    <a:lnTo>
                      <a:pt x="1691" y="2468"/>
                    </a:lnTo>
                    <a:lnTo>
                      <a:pt x="1690" y="2472"/>
                    </a:lnTo>
                    <a:lnTo>
                      <a:pt x="1689" y="2476"/>
                    </a:lnTo>
                    <a:lnTo>
                      <a:pt x="1687" y="2467"/>
                    </a:lnTo>
                    <a:lnTo>
                      <a:pt x="1685" y="2457"/>
                    </a:lnTo>
                    <a:lnTo>
                      <a:pt x="1682" y="2449"/>
                    </a:lnTo>
                    <a:lnTo>
                      <a:pt x="1680" y="2440"/>
                    </a:lnTo>
                    <a:lnTo>
                      <a:pt x="1676" y="2431"/>
                    </a:lnTo>
                    <a:lnTo>
                      <a:pt x="1674" y="2422"/>
                    </a:lnTo>
                    <a:lnTo>
                      <a:pt x="1671" y="2413"/>
                    </a:lnTo>
                    <a:lnTo>
                      <a:pt x="1669" y="240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263760" y="3540240"/>
                <a:ext cx="534960" cy="787320"/>
              </a:xfrm>
              <a:custGeom>
                <a:avLst/>
                <a:gdLst/>
                <a:ahLst/>
                <a:rect l="l" t="t" r="r" b="b"/>
                <a:pathLst>
                  <a:path w="1683" h="2479">
                    <a:moveTo>
                      <a:pt x="1669" y="2479"/>
                    </a:moveTo>
                    <a:lnTo>
                      <a:pt x="1666" y="2475"/>
                    </a:lnTo>
                    <a:lnTo>
                      <a:pt x="1662" y="2457"/>
                    </a:lnTo>
                    <a:lnTo>
                      <a:pt x="1657" y="2439"/>
                    </a:lnTo>
                    <a:lnTo>
                      <a:pt x="1651" y="2421"/>
                    </a:lnTo>
                    <a:lnTo>
                      <a:pt x="1646" y="2405"/>
                    </a:lnTo>
                    <a:lnTo>
                      <a:pt x="1641" y="2387"/>
                    </a:lnTo>
                    <a:lnTo>
                      <a:pt x="1634" y="2370"/>
                    </a:lnTo>
                    <a:lnTo>
                      <a:pt x="1629" y="2353"/>
                    </a:lnTo>
                    <a:lnTo>
                      <a:pt x="1623" y="2336"/>
                    </a:lnTo>
                    <a:lnTo>
                      <a:pt x="1683" y="2425"/>
                    </a:lnTo>
                    <a:lnTo>
                      <a:pt x="1681" y="2431"/>
                    </a:lnTo>
                    <a:lnTo>
                      <a:pt x="1679" y="2438"/>
                    </a:lnTo>
                    <a:lnTo>
                      <a:pt x="1678" y="2446"/>
                    </a:lnTo>
                    <a:lnTo>
                      <a:pt x="1675" y="2452"/>
                    </a:lnTo>
                    <a:lnTo>
                      <a:pt x="1674" y="2459"/>
                    </a:lnTo>
                    <a:lnTo>
                      <a:pt x="1672" y="2466"/>
                    </a:lnTo>
                    <a:lnTo>
                      <a:pt x="1671" y="2473"/>
                    </a:lnTo>
                    <a:lnTo>
                      <a:pt x="1669" y="2479"/>
                    </a:lnTo>
                    <a:close/>
                    <a:moveTo>
                      <a:pt x="1170" y="1743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9" y="12"/>
                    </a:lnTo>
                    <a:lnTo>
                      <a:pt x="14" y="10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278" y="1828"/>
                    </a:lnTo>
                    <a:lnTo>
                      <a:pt x="1265" y="1817"/>
                    </a:lnTo>
                    <a:lnTo>
                      <a:pt x="1252" y="1805"/>
                    </a:lnTo>
                    <a:lnTo>
                      <a:pt x="1238" y="1795"/>
                    </a:lnTo>
                    <a:lnTo>
                      <a:pt x="1225" y="1784"/>
                    </a:lnTo>
                    <a:lnTo>
                      <a:pt x="1211" y="1774"/>
                    </a:lnTo>
                    <a:lnTo>
                      <a:pt x="1197" y="1763"/>
                    </a:lnTo>
                    <a:lnTo>
                      <a:pt x="1184" y="1753"/>
                    </a:lnTo>
                    <a:lnTo>
                      <a:pt x="1170" y="1743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270240" y="3538440"/>
                <a:ext cx="530280" cy="779400"/>
              </a:xfrm>
              <a:custGeom>
                <a:avLst/>
                <a:gdLst/>
                <a:ahLst/>
                <a:rect l="l" t="t" r="r" b="b"/>
                <a:pathLst>
                  <a:path w="1669" h="2459">
                    <a:moveTo>
                      <a:pt x="1655" y="2459"/>
                    </a:moveTo>
                    <a:lnTo>
                      <a:pt x="1628" y="2418"/>
                    </a:lnTo>
                    <a:lnTo>
                      <a:pt x="1621" y="2396"/>
                    </a:lnTo>
                    <a:lnTo>
                      <a:pt x="1614" y="2375"/>
                    </a:lnTo>
                    <a:lnTo>
                      <a:pt x="1607" y="2354"/>
                    </a:lnTo>
                    <a:lnTo>
                      <a:pt x="1599" y="2333"/>
                    </a:lnTo>
                    <a:lnTo>
                      <a:pt x="1591" y="2312"/>
                    </a:lnTo>
                    <a:lnTo>
                      <a:pt x="1583" y="2292"/>
                    </a:lnTo>
                    <a:lnTo>
                      <a:pt x="1575" y="2272"/>
                    </a:lnTo>
                    <a:lnTo>
                      <a:pt x="1566" y="2252"/>
                    </a:lnTo>
                    <a:lnTo>
                      <a:pt x="1669" y="2404"/>
                    </a:lnTo>
                    <a:lnTo>
                      <a:pt x="1667" y="2411"/>
                    </a:lnTo>
                    <a:lnTo>
                      <a:pt x="1666" y="2418"/>
                    </a:lnTo>
                    <a:lnTo>
                      <a:pt x="1664" y="2424"/>
                    </a:lnTo>
                    <a:lnTo>
                      <a:pt x="1663" y="2432"/>
                    </a:lnTo>
                    <a:lnTo>
                      <a:pt x="1661" y="2438"/>
                    </a:lnTo>
                    <a:lnTo>
                      <a:pt x="1659" y="2445"/>
                    </a:lnTo>
                    <a:lnTo>
                      <a:pt x="1658" y="2453"/>
                    </a:lnTo>
                    <a:lnTo>
                      <a:pt x="1655" y="2459"/>
                    </a:lnTo>
                    <a:close/>
                    <a:moveTo>
                      <a:pt x="1200" y="1787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329" y="1901"/>
                    </a:lnTo>
                    <a:lnTo>
                      <a:pt x="1313" y="1886"/>
                    </a:lnTo>
                    <a:lnTo>
                      <a:pt x="1297" y="1871"/>
                    </a:lnTo>
                    <a:lnTo>
                      <a:pt x="1281" y="1856"/>
                    </a:lnTo>
                    <a:lnTo>
                      <a:pt x="1266" y="1841"/>
                    </a:lnTo>
                    <a:lnTo>
                      <a:pt x="1250" y="1828"/>
                    </a:lnTo>
                    <a:lnTo>
                      <a:pt x="1234" y="1814"/>
                    </a:lnTo>
                    <a:lnTo>
                      <a:pt x="1217" y="1801"/>
                    </a:lnTo>
                    <a:lnTo>
                      <a:pt x="1200" y="1787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276720" y="3535200"/>
                <a:ext cx="525240" cy="774720"/>
              </a:xfrm>
              <a:custGeom>
                <a:avLst/>
                <a:gdLst/>
                <a:ahLst/>
                <a:rect l="l" t="t" r="r" b="b"/>
                <a:pathLst>
                  <a:path w="1654" h="2439">
                    <a:moveTo>
                      <a:pt x="1642" y="2439"/>
                    </a:moveTo>
                    <a:lnTo>
                      <a:pt x="1582" y="2350"/>
                    </a:lnTo>
                    <a:lnTo>
                      <a:pt x="1566" y="2310"/>
                    </a:lnTo>
                    <a:lnTo>
                      <a:pt x="1550" y="2271"/>
                    </a:lnTo>
                    <a:lnTo>
                      <a:pt x="1533" y="2233"/>
                    </a:lnTo>
                    <a:lnTo>
                      <a:pt x="1515" y="2196"/>
                    </a:lnTo>
                    <a:lnTo>
                      <a:pt x="1496" y="2160"/>
                    </a:lnTo>
                    <a:lnTo>
                      <a:pt x="1476" y="2127"/>
                    </a:lnTo>
                    <a:lnTo>
                      <a:pt x="1455" y="2093"/>
                    </a:lnTo>
                    <a:lnTo>
                      <a:pt x="1434" y="2062"/>
                    </a:lnTo>
                    <a:lnTo>
                      <a:pt x="1412" y="2030"/>
                    </a:lnTo>
                    <a:lnTo>
                      <a:pt x="1389" y="2001"/>
                    </a:lnTo>
                    <a:lnTo>
                      <a:pt x="1365" y="1971"/>
                    </a:lnTo>
                    <a:lnTo>
                      <a:pt x="1341" y="1944"/>
                    </a:lnTo>
                    <a:lnTo>
                      <a:pt x="1316" y="1917"/>
                    </a:lnTo>
                    <a:lnTo>
                      <a:pt x="1290" y="1890"/>
                    </a:lnTo>
                    <a:lnTo>
                      <a:pt x="1264" y="1866"/>
                    </a:lnTo>
                    <a:lnTo>
                      <a:pt x="1237" y="1842"/>
                    </a:lnTo>
                    <a:lnTo>
                      <a:pt x="0" y="14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654" y="2383"/>
                    </a:lnTo>
                    <a:lnTo>
                      <a:pt x="1653" y="2390"/>
                    </a:lnTo>
                    <a:lnTo>
                      <a:pt x="1651" y="2397"/>
                    </a:lnTo>
                    <a:lnTo>
                      <a:pt x="1649" y="2404"/>
                    </a:lnTo>
                    <a:lnTo>
                      <a:pt x="1648" y="2410"/>
                    </a:lnTo>
                    <a:lnTo>
                      <a:pt x="1646" y="2418"/>
                    </a:lnTo>
                    <a:lnTo>
                      <a:pt x="1645" y="2425"/>
                    </a:lnTo>
                    <a:lnTo>
                      <a:pt x="1643" y="2431"/>
                    </a:lnTo>
                    <a:lnTo>
                      <a:pt x="1642" y="2439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3282840" y="3533760"/>
                <a:ext cx="522360" cy="766800"/>
              </a:xfrm>
              <a:custGeom>
                <a:avLst/>
                <a:gdLst/>
                <a:ahLst/>
                <a:rect l="l" t="t" r="r" b="b"/>
                <a:pathLst>
                  <a:path w="1641" h="2418">
                    <a:moveTo>
                      <a:pt x="1628" y="2418"/>
                    </a:moveTo>
                    <a:lnTo>
                      <a:pt x="1525" y="2266"/>
                    </a:lnTo>
                    <a:lnTo>
                      <a:pt x="1514" y="2241"/>
                    </a:lnTo>
                    <a:lnTo>
                      <a:pt x="1501" y="2215"/>
                    </a:lnTo>
                    <a:lnTo>
                      <a:pt x="1488" y="2190"/>
                    </a:lnTo>
                    <a:lnTo>
                      <a:pt x="1475" y="2165"/>
                    </a:lnTo>
                    <a:lnTo>
                      <a:pt x="1461" y="2142"/>
                    </a:lnTo>
                    <a:lnTo>
                      <a:pt x="1447" y="2119"/>
                    </a:lnTo>
                    <a:lnTo>
                      <a:pt x="1433" y="2096"/>
                    </a:lnTo>
                    <a:lnTo>
                      <a:pt x="1418" y="2074"/>
                    </a:lnTo>
                    <a:lnTo>
                      <a:pt x="1403" y="2052"/>
                    </a:lnTo>
                    <a:lnTo>
                      <a:pt x="1387" y="2031"/>
                    </a:lnTo>
                    <a:lnTo>
                      <a:pt x="1372" y="2011"/>
                    </a:lnTo>
                    <a:lnTo>
                      <a:pt x="1355" y="1991"/>
                    </a:lnTo>
                    <a:lnTo>
                      <a:pt x="1322" y="1952"/>
                    </a:lnTo>
                    <a:lnTo>
                      <a:pt x="1288" y="1915"/>
                    </a:lnTo>
                    <a:lnTo>
                      <a:pt x="0" y="14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641" y="2363"/>
                    </a:lnTo>
                    <a:lnTo>
                      <a:pt x="1640" y="2369"/>
                    </a:lnTo>
                    <a:lnTo>
                      <a:pt x="1638" y="2376"/>
                    </a:lnTo>
                    <a:lnTo>
                      <a:pt x="1636" y="2384"/>
                    </a:lnTo>
                    <a:lnTo>
                      <a:pt x="1634" y="2390"/>
                    </a:lnTo>
                    <a:lnTo>
                      <a:pt x="1633" y="2397"/>
                    </a:lnTo>
                    <a:lnTo>
                      <a:pt x="1631" y="2404"/>
                    </a:lnTo>
                    <a:lnTo>
                      <a:pt x="1629" y="2411"/>
                    </a:lnTo>
                    <a:lnTo>
                      <a:pt x="1628" y="2418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290760" y="3530520"/>
                <a:ext cx="516240" cy="762120"/>
              </a:xfrm>
              <a:custGeom>
                <a:avLst/>
                <a:gdLst/>
                <a:ahLst/>
                <a:rect l="l" t="t" r="r" b="b"/>
                <a:pathLst>
                  <a:path w="1627" h="2397">
                    <a:moveTo>
                      <a:pt x="1613" y="2397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627" y="2342"/>
                    </a:lnTo>
                    <a:lnTo>
                      <a:pt x="1625" y="2349"/>
                    </a:lnTo>
                    <a:lnTo>
                      <a:pt x="1624" y="2356"/>
                    </a:lnTo>
                    <a:lnTo>
                      <a:pt x="1622" y="2362"/>
                    </a:lnTo>
                    <a:lnTo>
                      <a:pt x="1620" y="2370"/>
                    </a:lnTo>
                    <a:lnTo>
                      <a:pt x="1619" y="2376"/>
                    </a:lnTo>
                    <a:lnTo>
                      <a:pt x="1617" y="2383"/>
                    </a:lnTo>
                    <a:lnTo>
                      <a:pt x="1615" y="2391"/>
                    </a:lnTo>
                    <a:lnTo>
                      <a:pt x="1613" y="2397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297240" y="3529080"/>
                <a:ext cx="511200" cy="753840"/>
              </a:xfrm>
              <a:custGeom>
                <a:avLst/>
                <a:gdLst/>
                <a:ahLst/>
                <a:rect l="l" t="t" r="r" b="b"/>
                <a:pathLst>
                  <a:path w="1613" h="2377">
                    <a:moveTo>
                      <a:pt x="1600" y="2377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1613" y="2321"/>
                    </a:lnTo>
                    <a:lnTo>
                      <a:pt x="1611" y="2328"/>
                    </a:lnTo>
                    <a:lnTo>
                      <a:pt x="1610" y="2335"/>
                    </a:lnTo>
                    <a:lnTo>
                      <a:pt x="1608" y="2342"/>
                    </a:lnTo>
                    <a:lnTo>
                      <a:pt x="1607" y="2349"/>
                    </a:lnTo>
                    <a:lnTo>
                      <a:pt x="1605" y="2356"/>
                    </a:lnTo>
                    <a:lnTo>
                      <a:pt x="1604" y="2363"/>
                    </a:lnTo>
                    <a:lnTo>
                      <a:pt x="1602" y="2369"/>
                    </a:lnTo>
                    <a:lnTo>
                      <a:pt x="1600" y="237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3303720" y="3527280"/>
                <a:ext cx="507960" cy="747720"/>
              </a:xfrm>
              <a:custGeom>
                <a:avLst/>
                <a:gdLst/>
                <a:ahLst/>
                <a:rect l="l" t="t" r="r" b="b"/>
                <a:pathLst>
                  <a:path w="1599" h="2356">
                    <a:moveTo>
                      <a:pt x="1586" y="2356"/>
                    </a:moveTo>
                    <a:lnTo>
                      <a:pt x="0" y="14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4" y="9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599" y="2301"/>
                    </a:lnTo>
                    <a:lnTo>
                      <a:pt x="1598" y="2308"/>
                    </a:lnTo>
                    <a:lnTo>
                      <a:pt x="1595" y="2314"/>
                    </a:lnTo>
                    <a:lnTo>
                      <a:pt x="1594" y="2322"/>
                    </a:lnTo>
                    <a:lnTo>
                      <a:pt x="1592" y="2328"/>
                    </a:lnTo>
                    <a:lnTo>
                      <a:pt x="1590" y="2335"/>
                    </a:lnTo>
                    <a:lnTo>
                      <a:pt x="1589" y="2342"/>
                    </a:lnTo>
                    <a:lnTo>
                      <a:pt x="1587" y="2349"/>
                    </a:lnTo>
                    <a:lnTo>
                      <a:pt x="1586" y="235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3309840" y="3524400"/>
                <a:ext cx="503280" cy="741240"/>
              </a:xfrm>
              <a:custGeom>
                <a:avLst/>
                <a:gdLst/>
                <a:ahLst/>
                <a:rect l="l" t="t" r="r" b="b"/>
                <a:pathLst>
                  <a:path w="1587" h="2335">
                    <a:moveTo>
                      <a:pt x="1573" y="2335"/>
                    </a:moveTo>
                    <a:lnTo>
                      <a:pt x="0" y="14"/>
                    </a:lnTo>
                    <a:lnTo>
                      <a:pt x="6" y="12"/>
                    </a:lnTo>
                    <a:lnTo>
                      <a:pt x="11" y="10"/>
                    </a:lnTo>
                    <a:lnTo>
                      <a:pt x="16" y="9"/>
                    </a:lnTo>
                    <a:lnTo>
                      <a:pt x="22" y="7"/>
                    </a:lnTo>
                    <a:lnTo>
                      <a:pt x="27" y="5"/>
                    </a:lnTo>
                    <a:lnTo>
                      <a:pt x="32" y="4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1587" y="2280"/>
                    </a:lnTo>
                    <a:lnTo>
                      <a:pt x="1585" y="2287"/>
                    </a:lnTo>
                    <a:lnTo>
                      <a:pt x="1583" y="2294"/>
                    </a:lnTo>
                    <a:lnTo>
                      <a:pt x="1582" y="2300"/>
                    </a:lnTo>
                    <a:lnTo>
                      <a:pt x="1580" y="2308"/>
                    </a:lnTo>
                    <a:lnTo>
                      <a:pt x="1579" y="2315"/>
                    </a:lnTo>
                    <a:lnTo>
                      <a:pt x="1576" y="2321"/>
                    </a:lnTo>
                    <a:lnTo>
                      <a:pt x="1575" y="2329"/>
                    </a:lnTo>
                    <a:lnTo>
                      <a:pt x="1573" y="2335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3316320" y="3522600"/>
                <a:ext cx="498600" cy="735120"/>
              </a:xfrm>
              <a:custGeom>
                <a:avLst/>
                <a:gdLst/>
                <a:ahLst/>
                <a:rect l="l" t="t" r="r" b="b"/>
                <a:pathLst>
                  <a:path w="1571" h="2315">
                    <a:moveTo>
                      <a:pt x="1558" y="2315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8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3"/>
                    </a:lnTo>
                    <a:lnTo>
                      <a:pt x="40" y="0"/>
                    </a:lnTo>
                    <a:lnTo>
                      <a:pt x="1571" y="2259"/>
                    </a:lnTo>
                    <a:lnTo>
                      <a:pt x="1569" y="2266"/>
                    </a:lnTo>
                    <a:lnTo>
                      <a:pt x="1568" y="2274"/>
                    </a:lnTo>
                    <a:lnTo>
                      <a:pt x="1566" y="2280"/>
                    </a:lnTo>
                    <a:lnTo>
                      <a:pt x="1565" y="2287"/>
                    </a:lnTo>
                    <a:lnTo>
                      <a:pt x="1563" y="2294"/>
                    </a:lnTo>
                    <a:lnTo>
                      <a:pt x="1561" y="2301"/>
                    </a:lnTo>
                    <a:lnTo>
                      <a:pt x="1560" y="2307"/>
                    </a:lnTo>
                    <a:lnTo>
                      <a:pt x="1558" y="23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3322800" y="3519360"/>
                <a:ext cx="495000" cy="728640"/>
              </a:xfrm>
              <a:custGeom>
                <a:avLst/>
                <a:gdLst/>
                <a:ahLst/>
                <a:rect l="l" t="t" r="r" b="b"/>
                <a:pathLst>
                  <a:path w="1557" h="2294">
                    <a:moveTo>
                      <a:pt x="1544" y="2294"/>
                    </a:moveTo>
                    <a:lnTo>
                      <a:pt x="0" y="14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4" y="10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557" y="2239"/>
                    </a:lnTo>
                    <a:lnTo>
                      <a:pt x="1556" y="2246"/>
                    </a:lnTo>
                    <a:lnTo>
                      <a:pt x="1553" y="2252"/>
                    </a:lnTo>
                    <a:lnTo>
                      <a:pt x="1551" y="2260"/>
                    </a:lnTo>
                    <a:lnTo>
                      <a:pt x="1550" y="2266"/>
                    </a:lnTo>
                    <a:lnTo>
                      <a:pt x="1548" y="2273"/>
                    </a:lnTo>
                    <a:lnTo>
                      <a:pt x="1547" y="2281"/>
                    </a:lnTo>
                    <a:lnTo>
                      <a:pt x="1545" y="2287"/>
                    </a:lnTo>
                    <a:lnTo>
                      <a:pt x="1544" y="2294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3328920" y="3517920"/>
                <a:ext cx="490680" cy="722160"/>
              </a:xfrm>
              <a:custGeom>
                <a:avLst/>
                <a:gdLst/>
                <a:ahLst/>
                <a:rect l="l" t="t" r="r" b="b"/>
                <a:pathLst>
                  <a:path w="1544" h="2272">
                    <a:moveTo>
                      <a:pt x="1531" y="2272"/>
                    </a:moveTo>
                    <a:lnTo>
                      <a:pt x="0" y="13"/>
                    </a:lnTo>
                    <a:lnTo>
                      <a:pt x="6" y="11"/>
                    </a:lnTo>
                    <a:lnTo>
                      <a:pt x="11" y="10"/>
                    </a:lnTo>
                    <a:lnTo>
                      <a:pt x="16" y="8"/>
                    </a:lnTo>
                    <a:lnTo>
                      <a:pt x="22" y="7"/>
                    </a:lnTo>
                    <a:lnTo>
                      <a:pt x="27" y="5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1544" y="2217"/>
                    </a:lnTo>
                    <a:lnTo>
                      <a:pt x="1543" y="2224"/>
                    </a:lnTo>
                    <a:lnTo>
                      <a:pt x="1541" y="2231"/>
                    </a:lnTo>
                    <a:lnTo>
                      <a:pt x="1540" y="2238"/>
                    </a:lnTo>
                    <a:lnTo>
                      <a:pt x="1538" y="2245"/>
                    </a:lnTo>
                    <a:lnTo>
                      <a:pt x="1537" y="2252"/>
                    </a:lnTo>
                    <a:lnTo>
                      <a:pt x="1534" y="2258"/>
                    </a:lnTo>
                    <a:lnTo>
                      <a:pt x="1532" y="2266"/>
                    </a:lnTo>
                    <a:lnTo>
                      <a:pt x="1531" y="2272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3335400" y="3516480"/>
                <a:ext cx="485640" cy="714240"/>
              </a:xfrm>
              <a:custGeom>
                <a:avLst/>
                <a:gdLst/>
                <a:ahLst/>
                <a:rect l="l" t="t" r="r" b="b"/>
                <a:pathLst>
                  <a:path w="1529" h="2251">
                    <a:moveTo>
                      <a:pt x="1516" y="2251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1529" y="2196"/>
                    </a:lnTo>
                    <a:lnTo>
                      <a:pt x="1527" y="2202"/>
                    </a:lnTo>
                    <a:lnTo>
                      <a:pt x="1526" y="2210"/>
                    </a:lnTo>
                    <a:lnTo>
                      <a:pt x="1524" y="2216"/>
                    </a:lnTo>
                    <a:lnTo>
                      <a:pt x="1522" y="2223"/>
                    </a:lnTo>
                    <a:lnTo>
                      <a:pt x="1521" y="2230"/>
                    </a:lnTo>
                    <a:lnTo>
                      <a:pt x="1519" y="2237"/>
                    </a:lnTo>
                    <a:lnTo>
                      <a:pt x="1518" y="2244"/>
                    </a:lnTo>
                    <a:lnTo>
                      <a:pt x="1516" y="2251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3343320" y="3513240"/>
                <a:ext cx="480960" cy="709560"/>
              </a:xfrm>
              <a:custGeom>
                <a:avLst/>
                <a:gdLst/>
                <a:ahLst/>
                <a:rect l="l" t="t" r="r" b="b"/>
                <a:pathLst>
                  <a:path w="1515" h="2231">
                    <a:moveTo>
                      <a:pt x="1501" y="2231"/>
                    </a:moveTo>
                    <a:lnTo>
                      <a:pt x="0" y="14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4" y="9"/>
                    </a:lnTo>
                    <a:lnTo>
                      <a:pt x="19" y="8"/>
                    </a:lnTo>
                    <a:lnTo>
                      <a:pt x="25" y="5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1515" y="2176"/>
                    </a:lnTo>
                    <a:lnTo>
                      <a:pt x="1514" y="2183"/>
                    </a:lnTo>
                    <a:lnTo>
                      <a:pt x="1511" y="2190"/>
                    </a:lnTo>
                    <a:lnTo>
                      <a:pt x="1509" y="2197"/>
                    </a:lnTo>
                    <a:lnTo>
                      <a:pt x="1508" y="2204"/>
                    </a:lnTo>
                    <a:lnTo>
                      <a:pt x="1506" y="2210"/>
                    </a:lnTo>
                    <a:lnTo>
                      <a:pt x="1505" y="2218"/>
                    </a:lnTo>
                    <a:lnTo>
                      <a:pt x="1503" y="2224"/>
                    </a:lnTo>
                    <a:lnTo>
                      <a:pt x="1501" y="2231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3348000" y="3511440"/>
                <a:ext cx="477720" cy="701640"/>
              </a:xfrm>
              <a:custGeom>
                <a:avLst/>
                <a:gdLst/>
                <a:ahLst/>
                <a:rect l="l" t="t" r="r" b="b"/>
                <a:pathLst>
                  <a:path w="1502" h="2210">
                    <a:moveTo>
                      <a:pt x="1489" y="2210"/>
                    </a:moveTo>
                    <a:lnTo>
                      <a:pt x="0" y="14"/>
                    </a:lnTo>
                    <a:lnTo>
                      <a:pt x="6" y="11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7" y="5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1502" y="2154"/>
                    </a:lnTo>
                    <a:lnTo>
                      <a:pt x="1501" y="2162"/>
                    </a:lnTo>
                    <a:lnTo>
                      <a:pt x="1499" y="2168"/>
                    </a:lnTo>
                    <a:lnTo>
                      <a:pt x="1498" y="2175"/>
                    </a:lnTo>
                    <a:lnTo>
                      <a:pt x="1496" y="2182"/>
                    </a:lnTo>
                    <a:lnTo>
                      <a:pt x="1495" y="2189"/>
                    </a:lnTo>
                    <a:lnTo>
                      <a:pt x="1492" y="2196"/>
                    </a:lnTo>
                    <a:lnTo>
                      <a:pt x="1490" y="2203"/>
                    </a:lnTo>
                    <a:lnTo>
                      <a:pt x="1489" y="2210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3355920" y="3510000"/>
                <a:ext cx="471600" cy="695160"/>
              </a:xfrm>
              <a:custGeom>
                <a:avLst/>
                <a:gdLst/>
                <a:ahLst/>
                <a:rect l="l" t="t" r="r" b="b"/>
                <a:pathLst>
                  <a:path w="1488" h="2188">
                    <a:moveTo>
                      <a:pt x="1475" y="2188"/>
                    </a:moveTo>
                    <a:lnTo>
                      <a:pt x="0" y="12"/>
                    </a:lnTo>
                    <a:lnTo>
                      <a:pt x="6" y="11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7" y="4"/>
                    </a:lnTo>
                    <a:lnTo>
                      <a:pt x="32" y="3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1488" y="2133"/>
                    </a:lnTo>
                    <a:lnTo>
                      <a:pt x="1486" y="2141"/>
                    </a:lnTo>
                    <a:lnTo>
                      <a:pt x="1485" y="2147"/>
                    </a:lnTo>
                    <a:lnTo>
                      <a:pt x="1483" y="2154"/>
                    </a:lnTo>
                    <a:lnTo>
                      <a:pt x="1481" y="2160"/>
                    </a:lnTo>
                    <a:lnTo>
                      <a:pt x="1480" y="2168"/>
                    </a:lnTo>
                    <a:lnTo>
                      <a:pt x="1478" y="2174"/>
                    </a:lnTo>
                    <a:lnTo>
                      <a:pt x="1477" y="2181"/>
                    </a:lnTo>
                    <a:lnTo>
                      <a:pt x="1475" y="2188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3362400" y="3506760"/>
                <a:ext cx="468360" cy="689040"/>
              </a:xfrm>
              <a:custGeom>
                <a:avLst/>
                <a:gdLst/>
                <a:ahLst/>
                <a:rect l="l" t="t" r="r" b="b"/>
                <a:pathLst>
                  <a:path w="1473" h="2168">
                    <a:moveTo>
                      <a:pt x="1459" y="2168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8"/>
                    </a:lnTo>
                    <a:lnTo>
                      <a:pt x="26" y="5"/>
                    </a:lnTo>
                    <a:lnTo>
                      <a:pt x="31" y="4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473" y="2114"/>
                    </a:lnTo>
                    <a:lnTo>
                      <a:pt x="1471" y="2120"/>
                    </a:lnTo>
                    <a:lnTo>
                      <a:pt x="1469" y="2128"/>
                    </a:lnTo>
                    <a:lnTo>
                      <a:pt x="1467" y="2135"/>
                    </a:lnTo>
                    <a:lnTo>
                      <a:pt x="1466" y="2141"/>
                    </a:lnTo>
                    <a:lnTo>
                      <a:pt x="1464" y="2149"/>
                    </a:lnTo>
                    <a:lnTo>
                      <a:pt x="1463" y="2155"/>
                    </a:lnTo>
                    <a:lnTo>
                      <a:pt x="1461" y="2162"/>
                    </a:lnTo>
                    <a:lnTo>
                      <a:pt x="1459" y="2168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3368520" y="3505320"/>
                <a:ext cx="463680" cy="682560"/>
              </a:xfrm>
              <a:custGeom>
                <a:avLst/>
                <a:gdLst/>
                <a:ahLst/>
                <a:rect l="l" t="t" r="r" b="b"/>
                <a:pathLst>
                  <a:path w="1459" h="2147">
                    <a:moveTo>
                      <a:pt x="1445" y="2147"/>
                    </a:moveTo>
                    <a:lnTo>
                      <a:pt x="0" y="14"/>
                    </a:lnTo>
                    <a:lnTo>
                      <a:pt x="5" y="11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459" y="2093"/>
                    </a:lnTo>
                    <a:lnTo>
                      <a:pt x="1457" y="2099"/>
                    </a:lnTo>
                    <a:lnTo>
                      <a:pt x="1455" y="2106"/>
                    </a:lnTo>
                    <a:lnTo>
                      <a:pt x="1454" y="2113"/>
                    </a:lnTo>
                    <a:lnTo>
                      <a:pt x="1452" y="2120"/>
                    </a:lnTo>
                    <a:lnTo>
                      <a:pt x="1450" y="2127"/>
                    </a:lnTo>
                    <a:lnTo>
                      <a:pt x="1448" y="2134"/>
                    </a:lnTo>
                    <a:lnTo>
                      <a:pt x="1446" y="2141"/>
                    </a:lnTo>
                    <a:lnTo>
                      <a:pt x="1445" y="2147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3375000" y="3503520"/>
                <a:ext cx="458640" cy="674640"/>
              </a:xfrm>
              <a:custGeom>
                <a:avLst/>
                <a:gdLst/>
                <a:ahLst/>
                <a:rect l="l" t="t" r="r" b="b"/>
                <a:pathLst>
                  <a:path w="1444" h="2126">
                    <a:moveTo>
                      <a:pt x="1431" y="2126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444" y="2071"/>
                    </a:lnTo>
                    <a:lnTo>
                      <a:pt x="1442" y="2078"/>
                    </a:lnTo>
                    <a:lnTo>
                      <a:pt x="1441" y="2085"/>
                    </a:lnTo>
                    <a:lnTo>
                      <a:pt x="1439" y="2091"/>
                    </a:lnTo>
                    <a:lnTo>
                      <a:pt x="1438" y="2099"/>
                    </a:lnTo>
                    <a:lnTo>
                      <a:pt x="1436" y="2105"/>
                    </a:lnTo>
                    <a:lnTo>
                      <a:pt x="1434" y="2112"/>
                    </a:lnTo>
                    <a:lnTo>
                      <a:pt x="1433" y="2119"/>
                    </a:lnTo>
                    <a:lnTo>
                      <a:pt x="1431" y="212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3382920" y="3502080"/>
                <a:ext cx="453960" cy="668160"/>
              </a:xfrm>
              <a:custGeom>
                <a:avLst/>
                <a:gdLst/>
                <a:ahLst/>
                <a:rect l="l" t="t" r="r" b="b"/>
                <a:pathLst>
                  <a:path w="1431" h="2106">
                    <a:moveTo>
                      <a:pt x="1417" y="2106"/>
                    </a:moveTo>
                    <a:lnTo>
                      <a:pt x="0" y="13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431" y="2051"/>
                    </a:lnTo>
                    <a:lnTo>
                      <a:pt x="1428" y="2057"/>
                    </a:lnTo>
                    <a:lnTo>
                      <a:pt x="1426" y="2065"/>
                    </a:lnTo>
                    <a:lnTo>
                      <a:pt x="1425" y="2071"/>
                    </a:lnTo>
                    <a:lnTo>
                      <a:pt x="1423" y="2078"/>
                    </a:lnTo>
                    <a:lnTo>
                      <a:pt x="1421" y="2085"/>
                    </a:lnTo>
                    <a:lnTo>
                      <a:pt x="1420" y="2092"/>
                    </a:lnTo>
                    <a:lnTo>
                      <a:pt x="1418" y="2098"/>
                    </a:lnTo>
                    <a:lnTo>
                      <a:pt x="1417" y="2106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3389400" y="3498840"/>
                <a:ext cx="449280" cy="662040"/>
              </a:xfrm>
              <a:custGeom>
                <a:avLst/>
                <a:gdLst/>
                <a:ahLst/>
                <a:rect l="l" t="t" r="r" b="b"/>
                <a:pathLst>
                  <a:path w="1416" h="2084">
                    <a:moveTo>
                      <a:pt x="1402" y="2084"/>
                    </a:moveTo>
                    <a:lnTo>
                      <a:pt x="0" y="13"/>
                    </a:lnTo>
                    <a:lnTo>
                      <a:pt x="4" y="12"/>
                    </a:lnTo>
                    <a:lnTo>
                      <a:pt x="9" y="9"/>
                    </a:lnTo>
                    <a:lnTo>
                      <a:pt x="14" y="8"/>
                    </a:lnTo>
                    <a:lnTo>
                      <a:pt x="20" y="6"/>
                    </a:lnTo>
                    <a:lnTo>
                      <a:pt x="25" y="4"/>
                    </a:lnTo>
                    <a:lnTo>
                      <a:pt x="30" y="3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1416" y="2030"/>
                    </a:lnTo>
                    <a:lnTo>
                      <a:pt x="1414" y="2036"/>
                    </a:lnTo>
                    <a:lnTo>
                      <a:pt x="1413" y="2043"/>
                    </a:lnTo>
                    <a:lnTo>
                      <a:pt x="1411" y="2050"/>
                    </a:lnTo>
                    <a:lnTo>
                      <a:pt x="1410" y="2057"/>
                    </a:lnTo>
                    <a:lnTo>
                      <a:pt x="1407" y="2063"/>
                    </a:lnTo>
                    <a:lnTo>
                      <a:pt x="1405" y="2071"/>
                    </a:lnTo>
                    <a:lnTo>
                      <a:pt x="1404" y="2077"/>
                    </a:lnTo>
                    <a:lnTo>
                      <a:pt x="1402" y="208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3395520" y="3497400"/>
                <a:ext cx="444600" cy="655560"/>
              </a:xfrm>
              <a:custGeom>
                <a:avLst/>
                <a:gdLst/>
                <a:ahLst/>
                <a:rect l="l" t="t" r="r" b="b"/>
                <a:pathLst>
                  <a:path w="1403" h="2063">
                    <a:moveTo>
                      <a:pt x="1390" y="2063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5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1403" y="2008"/>
                    </a:lnTo>
                    <a:lnTo>
                      <a:pt x="1401" y="2015"/>
                    </a:lnTo>
                    <a:lnTo>
                      <a:pt x="1399" y="2022"/>
                    </a:lnTo>
                    <a:lnTo>
                      <a:pt x="1398" y="2028"/>
                    </a:lnTo>
                    <a:lnTo>
                      <a:pt x="1396" y="2036"/>
                    </a:lnTo>
                    <a:lnTo>
                      <a:pt x="1394" y="2042"/>
                    </a:lnTo>
                    <a:lnTo>
                      <a:pt x="1393" y="2049"/>
                    </a:lnTo>
                    <a:lnTo>
                      <a:pt x="1391" y="2056"/>
                    </a:lnTo>
                    <a:lnTo>
                      <a:pt x="1390" y="2063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3402000" y="3495600"/>
                <a:ext cx="441360" cy="647640"/>
              </a:xfrm>
              <a:custGeom>
                <a:avLst/>
                <a:gdLst/>
                <a:ahLst/>
                <a:rect l="l" t="t" r="r" b="b"/>
                <a:pathLst>
                  <a:path w="1389" h="2043">
                    <a:moveTo>
                      <a:pt x="1375" y="2043"/>
                    </a:moveTo>
                    <a:lnTo>
                      <a:pt x="0" y="13"/>
                    </a:lnTo>
                    <a:lnTo>
                      <a:pt x="5" y="11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21" y="7"/>
                    </a:lnTo>
                    <a:lnTo>
                      <a:pt x="26" y="5"/>
                    </a:lnTo>
                    <a:lnTo>
                      <a:pt x="31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1389" y="1988"/>
                    </a:lnTo>
                    <a:lnTo>
                      <a:pt x="1386" y="1994"/>
                    </a:lnTo>
                    <a:lnTo>
                      <a:pt x="1385" y="2002"/>
                    </a:lnTo>
                    <a:lnTo>
                      <a:pt x="1383" y="2008"/>
                    </a:lnTo>
                    <a:lnTo>
                      <a:pt x="1382" y="2015"/>
                    </a:lnTo>
                    <a:lnTo>
                      <a:pt x="1380" y="2022"/>
                    </a:lnTo>
                    <a:lnTo>
                      <a:pt x="1378" y="2029"/>
                    </a:lnTo>
                    <a:lnTo>
                      <a:pt x="1377" y="2035"/>
                    </a:lnTo>
                    <a:lnTo>
                      <a:pt x="1375" y="2043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3408480" y="3494160"/>
                <a:ext cx="436320" cy="641160"/>
              </a:xfrm>
              <a:custGeom>
                <a:avLst/>
                <a:gdLst/>
                <a:ahLst/>
                <a:rect l="l" t="t" r="r" b="b"/>
                <a:pathLst>
                  <a:path w="1375" h="2021">
                    <a:moveTo>
                      <a:pt x="1361" y="2021"/>
                    </a:moveTo>
                    <a:lnTo>
                      <a:pt x="0" y="13"/>
                    </a:lnTo>
                    <a:lnTo>
                      <a:pt x="5" y="11"/>
                    </a:lnTo>
                    <a:lnTo>
                      <a:pt x="10" y="10"/>
                    </a:lnTo>
                    <a:lnTo>
                      <a:pt x="15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1375" y="1967"/>
                    </a:lnTo>
                    <a:lnTo>
                      <a:pt x="1373" y="1973"/>
                    </a:lnTo>
                    <a:lnTo>
                      <a:pt x="1371" y="1980"/>
                    </a:lnTo>
                    <a:lnTo>
                      <a:pt x="1370" y="1987"/>
                    </a:lnTo>
                    <a:lnTo>
                      <a:pt x="1368" y="1994"/>
                    </a:lnTo>
                    <a:lnTo>
                      <a:pt x="1365" y="2000"/>
                    </a:lnTo>
                    <a:lnTo>
                      <a:pt x="1364" y="2008"/>
                    </a:lnTo>
                    <a:lnTo>
                      <a:pt x="1362" y="2014"/>
                    </a:lnTo>
                    <a:lnTo>
                      <a:pt x="1361" y="2021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3414600" y="3490920"/>
                <a:ext cx="432000" cy="635040"/>
              </a:xfrm>
              <a:custGeom>
                <a:avLst/>
                <a:gdLst/>
                <a:ahLst/>
                <a:rect l="l" t="t" r="r" b="b"/>
                <a:pathLst>
                  <a:path w="1360" h="2000">
                    <a:moveTo>
                      <a:pt x="1347" y="2000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1360" y="1945"/>
                    </a:lnTo>
                    <a:lnTo>
                      <a:pt x="1358" y="1953"/>
                    </a:lnTo>
                    <a:lnTo>
                      <a:pt x="1357" y="1959"/>
                    </a:lnTo>
                    <a:lnTo>
                      <a:pt x="1355" y="1965"/>
                    </a:lnTo>
                    <a:lnTo>
                      <a:pt x="1354" y="1973"/>
                    </a:lnTo>
                    <a:lnTo>
                      <a:pt x="1352" y="1979"/>
                    </a:lnTo>
                    <a:lnTo>
                      <a:pt x="1350" y="1986"/>
                    </a:lnTo>
                    <a:lnTo>
                      <a:pt x="1349" y="1993"/>
                    </a:lnTo>
                    <a:lnTo>
                      <a:pt x="1347" y="200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3422520" y="3489480"/>
                <a:ext cx="427320" cy="628560"/>
              </a:xfrm>
              <a:custGeom>
                <a:avLst/>
                <a:gdLst/>
                <a:ahLst/>
                <a:rect l="l" t="t" r="r" b="b"/>
                <a:pathLst>
                  <a:path w="1346" h="1979">
                    <a:moveTo>
                      <a:pt x="1332" y="1979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346" y="1924"/>
                    </a:lnTo>
                    <a:lnTo>
                      <a:pt x="1343" y="1932"/>
                    </a:lnTo>
                    <a:lnTo>
                      <a:pt x="1342" y="1938"/>
                    </a:lnTo>
                    <a:lnTo>
                      <a:pt x="1340" y="1945"/>
                    </a:lnTo>
                    <a:lnTo>
                      <a:pt x="1338" y="1951"/>
                    </a:lnTo>
                    <a:lnTo>
                      <a:pt x="1336" y="1959"/>
                    </a:lnTo>
                    <a:lnTo>
                      <a:pt x="1335" y="1965"/>
                    </a:lnTo>
                    <a:lnTo>
                      <a:pt x="1333" y="1972"/>
                    </a:lnTo>
                    <a:lnTo>
                      <a:pt x="1332" y="1979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3429000" y="3487680"/>
                <a:ext cx="422280" cy="620640"/>
              </a:xfrm>
              <a:custGeom>
                <a:avLst/>
                <a:gdLst/>
                <a:ahLst/>
                <a:rect l="l" t="t" r="r" b="b"/>
                <a:pathLst>
                  <a:path w="1332" h="1958">
                    <a:moveTo>
                      <a:pt x="1317" y="1958"/>
                    </a:moveTo>
                    <a:lnTo>
                      <a:pt x="0" y="13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332" y="1905"/>
                    </a:lnTo>
                    <a:lnTo>
                      <a:pt x="1330" y="1911"/>
                    </a:lnTo>
                    <a:lnTo>
                      <a:pt x="1328" y="1919"/>
                    </a:lnTo>
                    <a:lnTo>
                      <a:pt x="1326" y="1925"/>
                    </a:lnTo>
                    <a:lnTo>
                      <a:pt x="1325" y="1931"/>
                    </a:lnTo>
                    <a:lnTo>
                      <a:pt x="1322" y="1939"/>
                    </a:lnTo>
                    <a:lnTo>
                      <a:pt x="1320" y="1945"/>
                    </a:lnTo>
                    <a:lnTo>
                      <a:pt x="1319" y="1952"/>
                    </a:lnTo>
                    <a:lnTo>
                      <a:pt x="1317" y="1958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3435480" y="3486240"/>
                <a:ext cx="419040" cy="614160"/>
              </a:xfrm>
              <a:custGeom>
                <a:avLst/>
                <a:gdLst/>
                <a:ahLst/>
                <a:rect l="l" t="t" r="r" b="b"/>
                <a:pathLst>
                  <a:path w="1317" h="1936">
                    <a:moveTo>
                      <a:pt x="1304" y="1936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1317" y="1883"/>
                    </a:lnTo>
                    <a:lnTo>
                      <a:pt x="1316" y="1889"/>
                    </a:lnTo>
                    <a:lnTo>
                      <a:pt x="1314" y="1896"/>
                    </a:lnTo>
                    <a:lnTo>
                      <a:pt x="1312" y="1903"/>
                    </a:lnTo>
                    <a:lnTo>
                      <a:pt x="1311" y="1910"/>
                    </a:lnTo>
                    <a:lnTo>
                      <a:pt x="1309" y="1916"/>
                    </a:lnTo>
                    <a:lnTo>
                      <a:pt x="1307" y="1924"/>
                    </a:lnTo>
                    <a:lnTo>
                      <a:pt x="1305" y="1930"/>
                    </a:lnTo>
                    <a:lnTo>
                      <a:pt x="1304" y="193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3441600" y="3484440"/>
                <a:ext cx="414360" cy="608040"/>
              </a:xfrm>
              <a:custGeom>
                <a:avLst/>
                <a:gdLst/>
                <a:ahLst/>
                <a:rect l="l" t="t" r="r" b="b"/>
                <a:pathLst>
                  <a:path w="1304" h="1916">
                    <a:moveTo>
                      <a:pt x="1290" y="1916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5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1304" y="1861"/>
                    </a:lnTo>
                    <a:lnTo>
                      <a:pt x="1301" y="1869"/>
                    </a:lnTo>
                    <a:lnTo>
                      <a:pt x="1300" y="1875"/>
                    </a:lnTo>
                    <a:lnTo>
                      <a:pt x="1298" y="1882"/>
                    </a:lnTo>
                    <a:lnTo>
                      <a:pt x="1296" y="1889"/>
                    </a:lnTo>
                    <a:lnTo>
                      <a:pt x="1295" y="1895"/>
                    </a:lnTo>
                    <a:lnTo>
                      <a:pt x="1293" y="1902"/>
                    </a:lnTo>
                    <a:lnTo>
                      <a:pt x="1291" y="1909"/>
                    </a:lnTo>
                    <a:lnTo>
                      <a:pt x="1290" y="19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3449520" y="3481560"/>
                <a:ext cx="409680" cy="601560"/>
              </a:xfrm>
              <a:custGeom>
                <a:avLst/>
                <a:gdLst/>
                <a:ahLst/>
                <a:rect l="l" t="t" r="r" b="b"/>
                <a:pathLst>
                  <a:path w="1290" h="1896">
                    <a:moveTo>
                      <a:pt x="1275" y="1896"/>
                    </a:moveTo>
                    <a:lnTo>
                      <a:pt x="0" y="13"/>
                    </a:lnTo>
                    <a:lnTo>
                      <a:pt x="5" y="11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1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1290" y="1842"/>
                    </a:lnTo>
                    <a:lnTo>
                      <a:pt x="1288" y="1848"/>
                    </a:lnTo>
                    <a:lnTo>
                      <a:pt x="1286" y="1856"/>
                    </a:lnTo>
                    <a:lnTo>
                      <a:pt x="1285" y="1862"/>
                    </a:lnTo>
                    <a:lnTo>
                      <a:pt x="1283" y="1868"/>
                    </a:lnTo>
                    <a:lnTo>
                      <a:pt x="1280" y="1876"/>
                    </a:lnTo>
                    <a:lnTo>
                      <a:pt x="1279" y="1882"/>
                    </a:lnTo>
                    <a:lnTo>
                      <a:pt x="1277" y="1889"/>
                    </a:lnTo>
                    <a:lnTo>
                      <a:pt x="1275" y="1896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3456000" y="3479760"/>
                <a:ext cx="404640" cy="595440"/>
              </a:xfrm>
              <a:custGeom>
                <a:avLst/>
                <a:gdLst/>
                <a:ahLst/>
                <a:rect l="l" t="t" r="r" b="b"/>
                <a:pathLst>
                  <a:path w="1276" h="1873">
                    <a:moveTo>
                      <a:pt x="1262" y="1873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5" y="7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2" y="3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1276" y="1821"/>
                    </a:lnTo>
                    <a:lnTo>
                      <a:pt x="1274" y="1827"/>
                    </a:lnTo>
                    <a:lnTo>
                      <a:pt x="1272" y="1833"/>
                    </a:lnTo>
                    <a:lnTo>
                      <a:pt x="1271" y="1841"/>
                    </a:lnTo>
                    <a:lnTo>
                      <a:pt x="1269" y="1847"/>
                    </a:lnTo>
                    <a:lnTo>
                      <a:pt x="1267" y="1853"/>
                    </a:lnTo>
                    <a:lnTo>
                      <a:pt x="1265" y="1861"/>
                    </a:lnTo>
                    <a:lnTo>
                      <a:pt x="1264" y="1867"/>
                    </a:lnTo>
                    <a:lnTo>
                      <a:pt x="1262" y="1873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3462480" y="3478320"/>
                <a:ext cx="401400" cy="588960"/>
              </a:xfrm>
              <a:custGeom>
                <a:avLst/>
                <a:gdLst/>
                <a:ahLst/>
                <a:rect l="l" t="t" r="r" b="b"/>
                <a:pathLst>
                  <a:path w="1262" h="1853">
                    <a:moveTo>
                      <a:pt x="1247" y="1853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6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7" y="2"/>
                    </a:lnTo>
                    <a:lnTo>
                      <a:pt x="42" y="0"/>
                    </a:lnTo>
                    <a:lnTo>
                      <a:pt x="1262" y="1800"/>
                    </a:lnTo>
                    <a:lnTo>
                      <a:pt x="1259" y="1806"/>
                    </a:lnTo>
                    <a:lnTo>
                      <a:pt x="1257" y="1813"/>
                    </a:lnTo>
                    <a:lnTo>
                      <a:pt x="1255" y="1819"/>
                    </a:lnTo>
                    <a:lnTo>
                      <a:pt x="1254" y="1826"/>
                    </a:lnTo>
                    <a:lnTo>
                      <a:pt x="1252" y="1833"/>
                    </a:lnTo>
                    <a:lnTo>
                      <a:pt x="1250" y="1839"/>
                    </a:lnTo>
                    <a:lnTo>
                      <a:pt x="1248" y="1847"/>
                    </a:lnTo>
                    <a:lnTo>
                      <a:pt x="1247" y="1853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3468600" y="3476520"/>
                <a:ext cx="397080" cy="581040"/>
              </a:xfrm>
              <a:custGeom>
                <a:avLst/>
                <a:gdLst/>
                <a:ahLst/>
                <a:rect l="l" t="t" r="r" b="b"/>
                <a:pathLst>
                  <a:path w="1248" h="1832">
                    <a:moveTo>
                      <a:pt x="1233" y="1832"/>
                    </a:moveTo>
                    <a:lnTo>
                      <a:pt x="0" y="11"/>
                    </a:lnTo>
                    <a:lnTo>
                      <a:pt x="5" y="9"/>
                    </a:lnTo>
                    <a:lnTo>
                      <a:pt x="10" y="8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1" y="2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1248" y="1778"/>
                    </a:lnTo>
                    <a:lnTo>
                      <a:pt x="1246" y="1785"/>
                    </a:lnTo>
                    <a:lnTo>
                      <a:pt x="1244" y="1791"/>
                    </a:lnTo>
                    <a:lnTo>
                      <a:pt x="1242" y="1798"/>
                    </a:lnTo>
                    <a:lnTo>
                      <a:pt x="1241" y="1805"/>
                    </a:lnTo>
                    <a:lnTo>
                      <a:pt x="1238" y="1812"/>
                    </a:lnTo>
                    <a:lnTo>
                      <a:pt x="1236" y="1818"/>
                    </a:lnTo>
                    <a:lnTo>
                      <a:pt x="1234" y="1824"/>
                    </a:lnTo>
                    <a:lnTo>
                      <a:pt x="1233" y="1832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3476520" y="3475080"/>
                <a:ext cx="390600" cy="574560"/>
              </a:xfrm>
              <a:custGeom>
                <a:avLst/>
                <a:gdLst/>
                <a:ahLst/>
                <a:rect l="l" t="t" r="r" b="b"/>
                <a:pathLst>
                  <a:path w="1234" h="1812">
                    <a:moveTo>
                      <a:pt x="1220" y="1812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6" y="8"/>
                    </a:lnTo>
                    <a:lnTo>
                      <a:pt x="21" y="7"/>
                    </a:lnTo>
                    <a:lnTo>
                      <a:pt x="27" y="4"/>
                    </a:lnTo>
                    <a:lnTo>
                      <a:pt x="32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234" y="1759"/>
                    </a:lnTo>
                    <a:lnTo>
                      <a:pt x="1232" y="1765"/>
                    </a:lnTo>
                    <a:lnTo>
                      <a:pt x="1230" y="1772"/>
                    </a:lnTo>
                    <a:lnTo>
                      <a:pt x="1228" y="1778"/>
                    </a:lnTo>
                    <a:lnTo>
                      <a:pt x="1227" y="1785"/>
                    </a:lnTo>
                    <a:lnTo>
                      <a:pt x="1225" y="1792"/>
                    </a:lnTo>
                    <a:lnTo>
                      <a:pt x="1223" y="1798"/>
                    </a:lnTo>
                    <a:lnTo>
                      <a:pt x="1221" y="1805"/>
                    </a:lnTo>
                    <a:lnTo>
                      <a:pt x="1220" y="1812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3483000" y="3473280"/>
                <a:ext cx="387360" cy="568440"/>
              </a:xfrm>
              <a:custGeom>
                <a:avLst/>
                <a:gdLst/>
                <a:ahLst/>
                <a:rect l="l" t="t" r="r" b="b"/>
                <a:pathLst>
                  <a:path w="1220" h="1790">
                    <a:moveTo>
                      <a:pt x="1205" y="1790"/>
                    </a:moveTo>
                    <a:lnTo>
                      <a:pt x="0" y="12"/>
                    </a:lnTo>
                    <a:lnTo>
                      <a:pt x="5" y="9"/>
                    </a:lnTo>
                    <a:lnTo>
                      <a:pt x="10" y="8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1" y="2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1220" y="1738"/>
                    </a:lnTo>
                    <a:lnTo>
                      <a:pt x="1218" y="1744"/>
                    </a:lnTo>
                    <a:lnTo>
                      <a:pt x="1215" y="1750"/>
                    </a:lnTo>
                    <a:lnTo>
                      <a:pt x="1213" y="1757"/>
                    </a:lnTo>
                    <a:lnTo>
                      <a:pt x="1212" y="1764"/>
                    </a:lnTo>
                    <a:lnTo>
                      <a:pt x="1210" y="1770"/>
                    </a:lnTo>
                    <a:lnTo>
                      <a:pt x="1208" y="1777"/>
                    </a:lnTo>
                    <a:lnTo>
                      <a:pt x="1206" y="1784"/>
                    </a:lnTo>
                    <a:lnTo>
                      <a:pt x="1205" y="179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3489480" y="3470400"/>
                <a:ext cx="382320" cy="561960"/>
              </a:xfrm>
              <a:custGeom>
                <a:avLst/>
                <a:gdLst/>
                <a:ahLst/>
                <a:rect l="l" t="t" r="r" b="b"/>
                <a:pathLst>
                  <a:path w="1206" h="1770">
                    <a:moveTo>
                      <a:pt x="1191" y="1770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0" y="8"/>
                    </a:lnTo>
                    <a:lnTo>
                      <a:pt x="16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2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206" y="1718"/>
                    </a:lnTo>
                    <a:lnTo>
                      <a:pt x="1204" y="1724"/>
                    </a:lnTo>
                    <a:lnTo>
                      <a:pt x="1202" y="1730"/>
                    </a:lnTo>
                    <a:lnTo>
                      <a:pt x="1200" y="1736"/>
                    </a:lnTo>
                    <a:lnTo>
                      <a:pt x="1199" y="1743"/>
                    </a:lnTo>
                    <a:lnTo>
                      <a:pt x="1197" y="1750"/>
                    </a:lnTo>
                    <a:lnTo>
                      <a:pt x="1194" y="1756"/>
                    </a:lnTo>
                    <a:lnTo>
                      <a:pt x="1192" y="1763"/>
                    </a:lnTo>
                    <a:lnTo>
                      <a:pt x="1191" y="177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3495600" y="3468600"/>
                <a:ext cx="379440" cy="555840"/>
              </a:xfrm>
              <a:custGeom>
                <a:avLst/>
                <a:gdLst/>
                <a:ahLst/>
                <a:rect l="l" t="t" r="r" b="b"/>
                <a:pathLst>
                  <a:path w="1192" h="1750">
                    <a:moveTo>
                      <a:pt x="1178" y="1750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5"/>
                    </a:lnTo>
                    <a:lnTo>
                      <a:pt x="32" y="4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192" y="1697"/>
                    </a:lnTo>
                    <a:lnTo>
                      <a:pt x="1190" y="1704"/>
                    </a:lnTo>
                    <a:lnTo>
                      <a:pt x="1188" y="1710"/>
                    </a:lnTo>
                    <a:lnTo>
                      <a:pt x="1187" y="1716"/>
                    </a:lnTo>
                    <a:lnTo>
                      <a:pt x="1185" y="1722"/>
                    </a:lnTo>
                    <a:lnTo>
                      <a:pt x="1183" y="1730"/>
                    </a:lnTo>
                    <a:lnTo>
                      <a:pt x="1181" y="1736"/>
                    </a:lnTo>
                    <a:lnTo>
                      <a:pt x="1179" y="1742"/>
                    </a:lnTo>
                    <a:lnTo>
                      <a:pt x="1178" y="175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3503520" y="3467160"/>
                <a:ext cx="373320" cy="549360"/>
              </a:xfrm>
              <a:custGeom>
                <a:avLst/>
                <a:gdLst/>
                <a:ahLst/>
                <a:rect l="l" t="t" r="r" b="b"/>
                <a:pathLst>
                  <a:path w="1178" h="1729">
                    <a:moveTo>
                      <a:pt x="1163" y="1729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1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1178" y="1676"/>
                    </a:lnTo>
                    <a:lnTo>
                      <a:pt x="1176" y="1682"/>
                    </a:lnTo>
                    <a:lnTo>
                      <a:pt x="1175" y="1689"/>
                    </a:lnTo>
                    <a:lnTo>
                      <a:pt x="1172" y="1695"/>
                    </a:lnTo>
                    <a:lnTo>
                      <a:pt x="1170" y="1702"/>
                    </a:lnTo>
                    <a:lnTo>
                      <a:pt x="1168" y="1709"/>
                    </a:lnTo>
                    <a:lnTo>
                      <a:pt x="1166" y="1715"/>
                    </a:lnTo>
                    <a:lnTo>
                      <a:pt x="1165" y="1721"/>
                    </a:lnTo>
                    <a:lnTo>
                      <a:pt x="1163" y="1729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3510000" y="3465360"/>
                <a:ext cx="369720" cy="543240"/>
              </a:xfrm>
              <a:custGeom>
                <a:avLst/>
                <a:gdLst/>
                <a:ahLst/>
                <a:rect l="l" t="t" r="r" b="b"/>
                <a:pathLst>
                  <a:path w="1165" h="1707">
                    <a:moveTo>
                      <a:pt x="1149" y="1707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0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1165" y="1655"/>
                    </a:lnTo>
                    <a:lnTo>
                      <a:pt x="1163" y="1661"/>
                    </a:lnTo>
                    <a:lnTo>
                      <a:pt x="1161" y="1667"/>
                    </a:lnTo>
                    <a:lnTo>
                      <a:pt x="1159" y="1675"/>
                    </a:lnTo>
                    <a:lnTo>
                      <a:pt x="1157" y="1681"/>
                    </a:lnTo>
                    <a:lnTo>
                      <a:pt x="1156" y="1687"/>
                    </a:lnTo>
                    <a:lnTo>
                      <a:pt x="1154" y="1694"/>
                    </a:lnTo>
                    <a:lnTo>
                      <a:pt x="1151" y="1700"/>
                    </a:lnTo>
                    <a:lnTo>
                      <a:pt x="1149" y="1707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3516480" y="3463920"/>
                <a:ext cx="365040" cy="534960"/>
              </a:xfrm>
              <a:custGeom>
                <a:avLst/>
                <a:gdLst/>
                <a:ahLst/>
                <a:rect l="l" t="t" r="r" b="b"/>
                <a:pathLst>
                  <a:path w="1150" h="1687">
                    <a:moveTo>
                      <a:pt x="1135" y="1687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1" y="8"/>
                    </a:lnTo>
                    <a:lnTo>
                      <a:pt x="16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3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150" y="1636"/>
                    </a:lnTo>
                    <a:lnTo>
                      <a:pt x="1148" y="1642"/>
                    </a:lnTo>
                    <a:lnTo>
                      <a:pt x="1146" y="1648"/>
                    </a:lnTo>
                    <a:lnTo>
                      <a:pt x="1145" y="1654"/>
                    </a:lnTo>
                    <a:lnTo>
                      <a:pt x="1143" y="1661"/>
                    </a:lnTo>
                    <a:lnTo>
                      <a:pt x="1141" y="1667"/>
                    </a:lnTo>
                    <a:lnTo>
                      <a:pt x="1139" y="1673"/>
                    </a:lnTo>
                    <a:lnTo>
                      <a:pt x="1137" y="1681"/>
                    </a:lnTo>
                    <a:lnTo>
                      <a:pt x="1135" y="1687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3524400" y="3462480"/>
                <a:ext cx="360360" cy="528480"/>
              </a:xfrm>
              <a:custGeom>
                <a:avLst/>
                <a:gdLst/>
                <a:ahLst/>
                <a:rect l="l" t="t" r="r" b="b"/>
                <a:pathLst>
                  <a:path w="1138" h="1667">
                    <a:moveTo>
                      <a:pt x="1122" y="1667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2" y="9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5"/>
                    </a:lnTo>
                    <a:lnTo>
                      <a:pt x="33" y="4"/>
                    </a:lnTo>
                    <a:lnTo>
                      <a:pt x="38" y="3"/>
                    </a:lnTo>
                    <a:lnTo>
                      <a:pt x="44" y="0"/>
                    </a:lnTo>
                    <a:lnTo>
                      <a:pt x="1138" y="1615"/>
                    </a:lnTo>
                    <a:lnTo>
                      <a:pt x="1136" y="1622"/>
                    </a:lnTo>
                    <a:lnTo>
                      <a:pt x="1134" y="1628"/>
                    </a:lnTo>
                    <a:lnTo>
                      <a:pt x="1132" y="1634"/>
                    </a:lnTo>
                    <a:lnTo>
                      <a:pt x="1129" y="1641"/>
                    </a:lnTo>
                    <a:lnTo>
                      <a:pt x="1127" y="1648"/>
                    </a:lnTo>
                    <a:lnTo>
                      <a:pt x="1125" y="1654"/>
                    </a:lnTo>
                    <a:lnTo>
                      <a:pt x="1123" y="1660"/>
                    </a:lnTo>
                    <a:lnTo>
                      <a:pt x="1122" y="166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3530520" y="3460680"/>
                <a:ext cx="357120" cy="522360"/>
              </a:xfrm>
              <a:custGeom>
                <a:avLst/>
                <a:gdLst/>
                <a:ahLst/>
                <a:rect l="l" t="t" r="r" b="b"/>
                <a:pathLst>
                  <a:path w="1123" h="1647">
                    <a:moveTo>
                      <a:pt x="1107" y="1647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1" y="5"/>
                    </a:lnTo>
                    <a:lnTo>
                      <a:pt x="27" y="4"/>
                    </a:lnTo>
                    <a:lnTo>
                      <a:pt x="33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123" y="1595"/>
                    </a:lnTo>
                    <a:lnTo>
                      <a:pt x="1121" y="1601"/>
                    </a:lnTo>
                    <a:lnTo>
                      <a:pt x="1119" y="1608"/>
                    </a:lnTo>
                    <a:lnTo>
                      <a:pt x="1117" y="1614"/>
                    </a:lnTo>
                    <a:lnTo>
                      <a:pt x="1116" y="1620"/>
                    </a:lnTo>
                    <a:lnTo>
                      <a:pt x="1114" y="1627"/>
                    </a:lnTo>
                    <a:lnTo>
                      <a:pt x="1112" y="1633"/>
                    </a:lnTo>
                    <a:lnTo>
                      <a:pt x="1110" y="1639"/>
                    </a:lnTo>
                    <a:lnTo>
                      <a:pt x="1107" y="164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3537000" y="3459240"/>
                <a:ext cx="352440" cy="515880"/>
              </a:xfrm>
              <a:custGeom>
                <a:avLst/>
                <a:gdLst/>
                <a:ahLst/>
                <a:rect l="l" t="t" r="r" b="b"/>
                <a:pathLst>
                  <a:path w="1110" h="1625">
                    <a:moveTo>
                      <a:pt x="1094" y="1625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1" y="8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2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110" y="1574"/>
                    </a:lnTo>
                    <a:lnTo>
                      <a:pt x="1108" y="1581"/>
                    </a:lnTo>
                    <a:lnTo>
                      <a:pt x="1105" y="1588"/>
                    </a:lnTo>
                    <a:lnTo>
                      <a:pt x="1103" y="1594"/>
                    </a:lnTo>
                    <a:lnTo>
                      <a:pt x="1101" y="1600"/>
                    </a:lnTo>
                    <a:lnTo>
                      <a:pt x="1099" y="1606"/>
                    </a:lnTo>
                    <a:lnTo>
                      <a:pt x="1097" y="1613"/>
                    </a:lnTo>
                    <a:lnTo>
                      <a:pt x="1095" y="1619"/>
                    </a:lnTo>
                    <a:lnTo>
                      <a:pt x="1094" y="1625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3544920" y="3457440"/>
                <a:ext cx="347760" cy="509760"/>
              </a:xfrm>
              <a:custGeom>
                <a:avLst/>
                <a:gdLst/>
                <a:ahLst/>
                <a:rect l="l" t="t" r="r" b="b"/>
                <a:pathLst>
                  <a:path w="1097" h="1605">
                    <a:moveTo>
                      <a:pt x="1080" y="1605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1" y="8"/>
                    </a:lnTo>
                    <a:lnTo>
                      <a:pt x="17" y="7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3" y="3"/>
                    </a:lnTo>
                    <a:lnTo>
                      <a:pt x="38" y="2"/>
                    </a:lnTo>
                    <a:lnTo>
                      <a:pt x="44" y="0"/>
                    </a:lnTo>
                    <a:lnTo>
                      <a:pt x="1097" y="1554"/>
                    </a:lnTo>
                    <a:lnTo>
                      <a:pt x="1095" y="1560"/>
                    </a:lnTo>
                    <a:lnTo>
                      <a:pt x="1093" y="1566"/>
                    </a:lnTo>
                    <a:lnTo>
                      <a:pt x="1091" y="1573"/>
                    </a:lnTo>
                    <a:lnTo>
                      <a:pt x="1089" y="1579"/>
                    </a:lnTo>
                    <a:lnTo>
                      <a:pt x="1087" y="1585"/>
                    </a:lnTo>
                    <a:lnTo>
                      <a:pt x="1084" y="1593"/>
                    </a:lnTo>
                    <a:lnTo>
                      <a:pt x="1082" y="1599"/>
                    </a:lnTo>
                    <a:lnTo>
                      <a:pt x="1080" y="1605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3551400" y="3456000"/>
                <a:ext cx="344160" cy="503280"/>
              </a:xfrm>
              <a:custGeom>
                <a:avLst/>
                <a:gdLst/>
                <a:ahLst/>
                <a:rect l="l" t="t" r="r" b="b"/>
                <a:pathLst>
                  <a:path w="1083" h="1585">
                    <a:moveTo>
                      <a:pt x="1067" y="1585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8" y="5"/>
                    </a:lnTo>
                    <a:lnTo>
                      <a:pt x="33" y="4"/>
                    </a:lnTo>
                    <a:lnTo>
                      <a:pt x="38" y="3"/>
                    </a:lnTo>
                    <a:lnTo>
                      <a:pt x="43" y="0"/>
                    </a:lnTo>
                    <a:lnTo>
                      <a:pt x="1083" y="1534"/>
                    </a:lnTo>
                    <a:lnTo>
                      <a:pt x="1080" y="1541"/>
                    </a:lnTo>
                    <a:lnTo>
                      <a:pt x="1079" y="1547"/>
                    </a:lnTo>
                    <a:lnTo>
                      <a:pt x="1077" y="1553"/>
                    </a:lnTo>
                    <a:lnTo>
                      <a:pt x="1075" y="1560"/>
                    </a:lnTo>
                    <a:lnTo>
                      <a:pt x="1073" y="1566"/>
                    </a:lnTo>
                    <a:lnTo>
                      <a:pt x="1071" y="1572"/>
                    </a:lnTo>
                    <a:lnTo>
                      <a:pt x="1069" y="1579"/>
                    </a:lnTo>
                    <a:lnTo>
                      <a:pt x="1067" y="1585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3557520" y="3454560"/>
                <a:ext cx="339840" cy="496800"/>
              </a:xfrm>
              <a:custGeom>
                <a:avLst/>
                <a:gdLst/>
                <a:ahLst/>
                <a:rect l="l" t="t" r="r" b="b"/>
                <a:pathLst>
                  <a:path w="1069" h="1564">
                    <a:moveTo>
                      <a:pt x="1053" y="1564"/>
                    </a:moveTo>
                    <a:lnTo>
                      <a:pt x="0" y="10"/>
                    </a:lnTo>
                    <a:lnTo>
                      <a:pt x="6" y="9"/>
                    </a:lnTo>
                    <a:lnTo>
                      <a:pt x="11" y="8"/>
                    </a:lnTo>
                    <a:lnTo>
                      <a:pt x="16" y="7"/>
                    </a:lnTo>
                    <a:lnTo>
                      <a:pt x="21" y="4"/>
                    </a:lnTo>
                    <a:lnTo>
                      <a:pt x="28" y="3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1069" y="1514"/>
                    </a:lnTo>
                    <a:lnTo>
                      <a:pt x="1067" y="1521"/>
                    </a:lnTo>
                    <a:lnTo>
                      <a:pt x="1065" y="1526"/>
                    </a:lnTo>
                    <a:lnTo>
                      <a:pt x="1063" y="1532"/>
                    </a:lnTo>
                    <a:lnTo>
                      <a:pt x="1061" y="1538"/>
                    </a:lnTo>
                    <a:lnTo>
                      <a:pt x="1058" y="1545"/>
                    </a:lnTo>
                    <a:lnTo>
                      <a:pt x="1057" y="1551"/>
                    </a:lnTo>
                    <a:lnTo>
                      <a:pt x="1055" y="1557"/>
                    </a:lnTo>
                    <a:lnTo>
                      <a:pt x="1053" y="1564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3565440" y="3452760"/>
                <a:ext cx="335160" cy="488880"/>
              </a:xfrm>
              <a:custGeom>
                <a:avLst/>
                <a:gdLst/>
                <a:ahLst/>
                <a:rect l="l" t="t" r="r" b="b"/>
                <a:pathLst>
                  <a:path w="1057" h="1543">
                    <a:moveTo>
                      <a:pt x="1040" y="1543"/>
                    </a:moveTo>
                    <a:lnTo>
                      <a:pt x="0" y="9"/>
                    </a:lnTo>
                    <a:lnTo>
                      <a:pt x="7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1057" y="1494"/>
                    </a:lnTo>
                    <a:lnTo>
                      <a:pt x="1054" y="1500"/>
                    </a:lnTo>
                    <a:lnTo>
                      <a:pt x="1052" y="1507"/>
                    </a:lnTo>
                    <a:lnTo>
                      <a:pt x="1050" y="1513"/>
                    </a:lnTo>
                    <a:lnTo>
                      <a:pt x="1048" y="1519"/>
                    </a:lnTo>
                    <a:lnTo>
                      <a:pt x="1046" y="1526"/>
                    </a:lnTo>
                    <a:lnTo>
                      <a:pt x="1044" y="1532"/>
                    </a:lnTo>
                    <a:lnTo>
                      <a:pt x="1042" y="1537"/>
                    </a:lnTo>
                    <a:lnTo>
                      <a:pt x="1040" y="1543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3571920" y="3451320"/>
                <a:ext cx="331920" cy="484200"/>
              </a:xfrm>
              <a:custGeom>
                <a:avLst/>
                <a:gdLst/>
                <a:ahLst/>
                <a:rect l="l" t="t" r="r" b="b"/>
                <a:pathLst>
                  <a:path w="1044" h="1524">
                    <a:moveTo>
                      <a:pt x="1026" y="1524"/>
                    </a:moveTo>
                    <a:lnTo>
                      <a:pt x="0" y="10"/>
                    </a:lnTo>
                    <a:lnTo>
                      <a:pt x="6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3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1044" y="1474"/>
                    </a:lnTo>
                    <a:lnTo>
                      <a:pt x="1042" y="1480"/>
                    </a:lnTo>
                    <a:lnTo>
                      <a:pt x="1039" y="1487"/>
                    </a:lnTo>
                    <a:lnTo>
                      <a:pt x="1037" y="1493"/>
                    </a:lnTo>
                    <a:lnTo>
                      <a:pt x="1035" y="1499"/>
                    </a:lnTo>
                    <a:lnTo>
                      <a:pt x="1032" y="1505"/>
                    </a:lnTo>
                    <a:lnTo>
                      <a:pt x="1030" y="1512"/>
                    </a:lnTo>
                    <a:lnTo>
                      <a:pt x="1028" y="1518"/>
                    </a:lnTo>
                    <a:lnTo>
                      <a:pt x="1026" y="1524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3578400" y="3449520"/>
                <a:ext cx="326880" cy="478080"/>
              </a:xfrm>
              <a:custGeom>
                <a:avLst/>
                <a:gdLst/>
                <a:ahLst/>
                <a:rect l="l" t="t" r="r" b="b"/>
                <a:pathLst>
                  <a:path w="1030" h="1505">
                    <a:moveTo>
                      <a:pt x="1013" y="1505"/>
                    </a:moveTo>
                    <a:lnTo>
                      <a:pt x="0" y="11"/>
                    </a:lnTo>
                    <a:lnTo>
                      <a:pt x="6" y="10"/>
                    </a:lnTo>
                    <a:lnTo>
                      <a:pt x="11" y="8"/>
                    </a:lnTo>
                    <a:lnTo>
                      <a:pt x="17" y="7"/>
                    </a:lnTo>
                    <a:lnTo>
                      <a:pt x="22" y="6"/>
                    </a:lnTo>
                    <a:lnTo>
                      <a:pt x="28" y="5"/>
                    </a:lnTo>
                    <a:lnTo>
                      <a:pt x="33" y="4"/>
                    </a:lnTo>
                    <a:lnTo>
                      <a:pt x="39" y="3"/>
                    </a:lnTo>
                    <a:lnTo>
                      <a:pt x="45" y="0"/>
                    </a:lnTo>
                    <a:lnTo>
                      <a:pt x="1030" y="1456"/>
                    </a:lnTo>
                    <a:lnTo>
                      <a:pt x="1028" y="1462"/>
                    </a:lnTo>
                    <a:lnTo>
                      <a:pt x="1026" y="1468"/>
                    </a:lnTo>
                    <a:lnTo>
                      <a:pt x="1024" y="1475"/>
                    </a:lnTo>
                    <a:lnTo>
                      <a:pt x="1022" y="1480"/>
                    </a:lnTo>
                    <a:lnTo>
                      <a:pt x="1020" y="1486"/>
                    </a:lnTo>
                    <a:lnTo>
                      <a:pt x="1017" y="1493"/>
                    </a:lnTo>
                    <a:lnTo>
                      <a:pt x="1015" y="1499"/>
                    </a:lnTo>
                    <a:lnTo>
                      <a:pt x="1013" y="150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3586320" y="3448080"/>
                <a:ext cx="322200" cy="471600"/>
              </a:xfrm>
              <a:custGeom>
                <a:avLst/>
                <a:gdLst/>
                <a:ahLst/>
                <a:rect l="l" t="t" r="r" b="b"/>
                <a:pathLst>
                  <a:path w="1016" h="1484">
                    <a:moveTo>
                      <a:pt x="1000" y="1484"/>
                    </a:moveTo>
                    <a:lnTo>
                      <a:pt x="0" y="10"/>
                    </a:lnTo>
                    <a:lnTo>
                      <a:pt x="6" y="9"/>
                    </a:lnTo>
                    <a:lnTo>
                      <a:pt x="11" y="8"/>
                    </a:lnTo>
                    <a:lnTo>
                      <a:pt x="17" y="7"/>
                    </a:lnTo>
                    <a:lnTo>
                      <a:pt x="23" y="4"/>
                    </a:lnTo>
                    <a:lnTo>
                      <a:pt x="28" y="3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5" y="0"/>
                    </a:lnTo>
                    <a:lnTo>
                      <a:pt x="1016" y="1436"/>
                    </a:lnTo>
                    <a:lnTo>
                      <a:pt x="1014" y="1442"/>
                    </a:lnTo>
                    <a:lnTo>
                      <a:pt x="1012" y="1447"/>
                    </a:lnTo>
                    <a:lnTo>
                      <a:pt x="1010" y="1453"/>
                    </a:lnTo>
                    <a:lnTo>
                      <a:pt x="1008" y="1460"/>
                    </a:lnTo>
                    <a:lnTo>
                      <a:pt x="1006" y="1466"/>
                    </a:lnTo>
                    <a:lnTo>
                      <a:pt x="1004" y="1472"/>
                    </a:lnTo>
                    <a:lnTo>
                      <a:pt x="1002" y="1479"/>
                    </a:lnTo>
                    <a:lnTo>
                      <a:pt x="1000" y="1484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3592440" y="3446640"/>
                <a:ext cx="319320" cy="465120"/>
              </a:xfrm>
              <a:custGeom>
                <a:avLst/>
                <a:gdLst/>
                <a:ahLst/>
                <a:rect l="l" t="t" r="r" b="b"/>
                <a:pathLst>
                  <a:path w="1003" h="1465">
                    <a:moveTo>
                      <a:pt x="985" y="1465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0" y="7"/>
                    </a:lnTo>
                    <a:lnTo>
                      <a:pt x="16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2" y="2"/>
                    </a:lnTo>
                    <a:lnTo>
                      <a:pt x="37" y="1"/>
                    </a:lnTo>
                    <a:lnTo>
                      <a:pt x="44" y="0"/>
                    </a:lnTo>
                    <a:lnTo>
                      <a:pt x="1003" y="1416"/>
                    </a:lnTo>
                    <a:lnTo>
                      <a:pt x="1001" y="1423"/>
                    </a:lnTo>
                    <a:lnTo>
                      <a:pt x="999" y="1428"/>
                    </a:lnTo>
                    <a:lnTo>
                      <a:pt x="996" y="1434"/>
                    </a:lnTo>
                    <a:lnTo>
                      <a:pt x="993" y="1441"/>
                    </a:lnTo>
                    <a:lnTo>
                      <a:pt x="991" y="1447"/>
                    </a:lnTo>
                    <a:lnTo>
                      <a:pt x="989" y="1452"/>
                    </a:lnTo>
                    <a:lnTo>
                      <a:pt x="987" y="1458"/>
                    </a:lnTo>
                    <a:lnTo>
                      <a:pt x="985" y="146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3600360" y="3444840"/>
                <a:ext cx="314280" cy="459000"/>
              </a:xfrm>
              <a:custGeom>
                <a:avLst/>
                <a:gdLst/>
                <a:ahLst/>
                <a:rect l="l" t="t" r="r" b="b"/>
                <a:pathLst>
                  <a:path w="989" h="1445">
                    <a:moveTo>
                      <a:pt x="971" y="1445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0" y="6"/>
                    </a:lnTo>
                    <a:lnTo>
                      <a:pt x="15" y="5"/>
                    </a:lnTo>
                    <a:lnTo>
                      <a:pt x="22" y="4"/>
                    </a:lnTo>
                    <a:lnTo>
                      <a:pt x="27" y="3"/>
                    </a:lnTo>
                    <a:lnTo>
                      <a:pt x="32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89" y="1396"/>
                    </a:lnTo>
                    <a:lnTo>
                      <a:pt x="987" y="1403"/>
                    </a:lnTo>
                    <a:lnTo>
                      <a:pt x="985" y="1408"/>
                    </a:lnTo>
                    <a:lnTo>
                      <a:pt x="983" y="1414"/>
                    </a:lnTo>
                    <a:lnTo>
                      <a:pt x="981" y="1420"/>
                    </a:lnTo>
                    <a:lnTo>
                      <a:pt x="979" y="1427"/>
                    </a:lnTo>
                    <a:lnTo>
                      <a:pt x="977" y="1432"/>
                    </a:lnTo>
                    <a:lnTo>
                      <a:pt x="974" y="1438"/>
                    </a:lnTo>
                    <a:lnTo>
                      <a:pt x="971" y="144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3606840" y="3443400"/>
                <a:ext cx="311040" cy="452160"/>
              </a:xfrm>
              <a:custGeom>
                <a:avLst/>
                <a:gdLst/>
                <a:ahLst/>
                <a:rect l="l" t="t" r="r" b="b"/>
                <a:pathLst>
                  <a:path w="977" h="1425">
                    <a:moveTo>
                      <a:pt x="959" y="1425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0" y="7"/>
                    </a:lnTo>
                    <a:lnTo>
                      <a:pt x="15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2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77" y="1377"/>
                    </a:lnTo>
                    <a:lnTo>
                      <a:pt x="975" y="1383"/>
                    </a:lnTo>
                    <a:lnTo>
                      <a:pt x="973" y="1390"/>
                    </a:lnTo>
                    <a:lnTo>
                      <a:pt x="971" y="1395"/>
                    </a:lnTo>
                    <a:lnTo>
                      <a:pt x="967" y="1401"/>
                    </a:lnTo>
                    <a:lnTo>
                      <a:pt x="965" y="1408"/>
                    </a:lnTo>
                    <a:lnTo>
                      <a:pt x="963" y="1413"/>
                    </a:lnTo>
                    <a:lnTo>
                      <a:pt x="961" y="1419"/>
                    </a:lnTo>
                    <a:lnTo>
                      <a:pt x="959" y="1425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3614760" y="3441600"/>
                <a:ext cx="304920" cy="446040"/>
              </a:xfrm>
              <a:custGeom>
                <a:avLst/>
                <a:gdLst/>
                <a:ahLst/>
                <a:rect l="l" t="t" r="r" b="b"/>
                <a:pathLst>
                  <a:path w="964" h="1406">
                    <a:moveTo>
                      <a:pt x="945" y="1406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0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2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64" y="1359"/>
                    </a:lnTo>
                    <a:lnTo>
                      <a:pt x="962" y="1364"/>
                    </a:lnTo>
                    <a:lnTo>
                      <a:pt x="960" y="1371"/>
                    </a:lnTo>
                    <a:lnTo>
                      <a:pt x="957" y="1377"/>
                    </a:lnTo>
                    <a:lnTo>
                      <a:pt x="955" y="1382"/>
                    </a:lnTo>
                    <a:lnTo>
                      <a:pt x="953" y="1388"/>
                    </a:lnTo>
                    <a:lnTo>
                      <a:pt x="951" y="1395"/>
                    </a:lnTo>
                    <a:lnTo>
                      <a:pt x="949" y="1400"/>
                    </a:lnTo>
                    <a:lnTo>
                      <a:pt x="945" y="140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3621240" y="3440160"/>
                <a:ext cx="301320" cy="439560"/>
              </a:xfrm>
              <a:custGeom>
                <a:avLst/>
                <a:gdLst/>
                <a:ahLst/>
                <a:rect l="l" t="t" r="r" b="b"/>
                <a:pathLst>
                  <a:path w="952" h="1387">
                    <a:moveTo>
                      <a:pt x="933" y="1387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0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3" y="3"/>
                    </a:lnTo>
                    <a:lnTo>
                      <a:pt x="39" y="2"/>
                    </a:lnTo>
                    <a:lnTo>
                      <a:pt x="44" y="0"/>
                    </a:lnTo>
                    <a:lnTo>
                      <a:pt x="952" y="1340"/>
                    </a:lnTo>
                    <a:lnTo>
                      <a:pt x="950" y="1346"/>
                    </a:lnTo>
                    <a:lnTo>
                      <a:pt x="948" y="1353"/>
                    </a:lnTo>
                    <a:lnTo>
                      <a:pt x="944" y="1358"/>
                    </a:lnTo>
                    <a:lnTo>
                      <a:pt x="942" y="1364"/>
                    </a:lnTo>
                    <a:lnTo>
                      <a:pt x="940" y="1369"/>
                    </a:lnTo>
                    <a:lnTo>
                      <a:pt x="938" y="1376"/>
                    </a:lnTo>
                    <a:lnTo>
                      <a:pt x="935" y="1382"/>
                    </a:lnTo>
                    <a:lnTo>
                      <a:pt x="933" y="1387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3627360" y="3438360"/>
                <a:ext cx="298440" cy="435240"/>
              </a:xfrm>
              <a:custGeom>
                <a:avLst/>
                <a:gdLst/>
                <a:ahLst/>
                <a:rect l="l" t="t" r="r" b="b"/>
                <a:pathLst>
                  <a:path w="939" h="1368">
                    <a:moveTo>
                      <a:pt x="920" y="1368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1" y="7"/>
                    </a:lnTo>
                    <a:lnTo>
                      <a:pt x="17" y="6"/>
                    </a:lnTo>
                    <a:lnTo>
                      <a:pt x="22" y="4"/>
                    </a:lnTo>
                    <a:lnTo>
                      <a:pt x="27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39" y="1321"/>
                    </a:lnTo>
                    <a:lnTo>
                      <a:pt x="937" y="1327"/>
                    </a:lnTo>
                    <a:lnTo>
                      <a:pt x="935" y="1332"/>
                    </a:lnTo>
                    <a:lnTo>
                      <a:pt x="932" y="1339"/>
                    </a:lnTo>
                    <a:lnTo>
                      <a:pt x="930" y="1344"/>
                    </a:lnTo>
                    <a:lnTo>
                      <a:pt x="928" y="1350"/>
                    </a:lnTo>
                    <a:lnTo>
                      <a:pt x="926" y="1357"/>
                    </a:lnTo>
                    <a:lnTo>
                      <a:pt x="922" y="1362"/>
                    </a:lnTo>
                    <a:lnTo>
                      <a:pt x="920" y="1368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3635280" y="3436920"/>
                <a:ext cx="293760" cy="428760"/>
              </a:xfrm>
              <a:custGeom>
                <a:avLst/>
                <a:gdLst/>
                <a:ahLst/>
                <a:rect l="l" t="t" r="r" b="b"/>
                <a:pathLst>
                  <a:path w="927" h="1348">
                    <a:moveTo>
                      <a:pt x="908" y="1348"/>
                    </a:moveTo>
                    <a:lnTo>
                      <a:pt x="0" y="8"/>
                    </a:lnTo>
                    <a:lnTo>
                      <a:pt x="5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927" y="1302"/>
                    </a:lnTo>
                    <a:lnTo>
                      <a:pt x="925" y="1308"/>
                    </a:lnTo>
                    <a:lnTo>
                      <a:pt x="922" y="1313"/>
                    </a:lnTo>
                    <a:lnTo>
                      <a:pt x="919" y="1320"/>
                    </a:lnTo>
                    <a:lnTo>
                      <a:pt x="917" y="1325"/>
                    </a:lnTo>
                    <a:lnTo>
                      <a:pt x="915" y="1331"/>
                    </a:lnTo>
                    <a:lnTo>
                      <a:pt x="913" y="1336"/>
                    </a:lnTo>
                    <a:lnTo>
                      <a:pt x="910" y="1343"/>
                    </a:lnTo>
                    <a:lnTo>
                      <a:pt x="908" y="1348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3641760" y="3436920"/>
                <a:ext cx="290520" cy="420840"/>
              </a:xfrm>
              <a:custGeom>
                <a:avLst/>
                <a:gdLst/>
                <a:ahLst/>
                <a:rect l="l" t="t" r="r" b="b"/>
                <a:pathLst>
                  <a:path w="915" h="1329">
                    <a:moveTo>
                      <a:pt x="895" y="1329"/>
                    </a:moveTo>
                    <a:lnTo>
                      <a:pt x="0" y="8"/>
                    </a:lnTo>
                    <a:lnTo>
                      <a:pt x="6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915" y="1284"/>
                    </a:lnTo>
                    <a:lnTo>
                      <a:pt x="912" y="1289"/>
                    </a:lnTo>
                    <a:lnTo>
                      <a:pt x="910" y="1294"/>
                    </a:lnTo>
                    <a:lnTo>
                      <a:pt x="908" y="1300"/>
                    </a:lnTo>
                    <a:lnTo>
                      <a:pt x="905" y="1306"/>
                    </a:lnTo>
                    <a:lnTo>
                      <a:pt x="903" y="1312"/>
                    </a:lnTo>
                    <a:lnTo>
                      <a:pt x="900" y="1317"/>
                    </a:lnTo>
                    <a:lnTo>
                      <a:pt x="897" y="1324"/>
                    </a:lnTo>
                    <a:lnTo>
                      <a:pt x="895" y="1329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3649680" y="3435480"/>
                <a:ext cx="285840" cy="415800"/>
              </a:xfrm>
              <a:custGeom>
                <a:avLst/>
                <a:gdLst/>
                <a:ahLst/>
                <a:rect l="l" t="t" r="r" b="b"/>
                <a:pathLst>
                  <a:path w="902" h="1311">
                    <a:moveTo>
                      <a:pt x="882" y="1311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1" y="7"/>
                    </a:lnTo>
                    <a:lnTo>
                      <a:pt x="16" y="6"/>
                    </a:lnTo>
                    <a:lnTo>
                      <a:pt x="22" y="5"/>
                    </a:lnTo>
                    <a:lnTo>
                      <a:pt x="27" y="3"/>
                    </a:lnTo>
                    <a:lnTo>
                      <a:pt x="33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02" y="1266"/>
                    </a:lnTo>
                    <a:lnTo>
                      <a:pt x="899" y="1271"/>
                    </a:lnTo>
                    <a:lnTo>
                      <a:pt x="896" y="1277"/>
                    </a:lnTo>
                    <a:lnTo>
                      <a:pt x="894" y="1282"/>
                    </a:lnTo>
                    <a:lnTo>
                      <a:pt x="892" y="1289"/>
                    </a:lnTo>
                    <a:lnTo>
                      <a:pt x="889" y="1294"/>
                    </a:lnTo>
                    <a:lnTo>
                      <a:pt x="887" y="1300"/>
                    </a:lnTo>
                    <a:lnTo>
                      <a:pt x="885" y="1305"/>
                    </a:lnTo>
                    <a:lnTo>
                      <a:pt x="882" y="1311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3656160" y="3433680"/>
                <a:ext cx="282600" cy="409680"/>
              </a:xfrm>
              <a:custGeom>
                <a:avLst/>
                <a:gdLst/>
                <a:ahLst/>
                <a:rect l="l" t="t" r="r" b="b"/>
                <a:pathLst>
                  <a:path w="890" h="1293">
                    <a:moveTo>
                      <a:pt x="870" y="1293"/>
                    </a:moveTo>
                    <a:lnTo>
                      <a:pt x="0" y="9"/>
                    </a:lnTo>
                    <a:lnTo>
                      <a:pt x="5" y="7"/>
                    </a:lnTo>
                    <a:lnTo>
                      <a:pt x="11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890" y="1248"/>
                    </a:lnTo>
                    <a:lnTo>
                      <a:pt x="887" y="1253"/>
                    </a:lnTo>
                    <a:lnTo>
                      <a:pt x="885" y="1258"/>
                    </a:lnTo>
                    <a:lnTo>
                      <a:pt x="882" y="1264"/>
                    </a:lnTo>
                    <a:lnTo>
                      <a:pt x="880" y="1270"/>
                    </a:lnTo>
                    <a:lnTo>
                      <a:pt x="877" y="1275"/>
                    </a:lnTo>
                    <a:lnTo>
                      <a:pt x="874" y="1281"/>
                    </a:lnTo>
                    <a:lnTo>
                      <a:pt x="872" y="1286"/>
                    </a:lnTo>
                    <a:lnTo>
                      <a:pt x="870" y="1293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3664080" y="3432240"/>
                <a:ext cx="277560" cy="404640"/>
              </a:xfrm>
              <a:custGeom>
                <a:avLst/>
                <a:gdLst/>
                <a:ahLst/>
                <a:rect l="l" t="t" r="r" b="b"/>
                <a:pathLst>
                  <a:path w="879" h="1274">
                    <a:moveTo>
                      <a:pt x="858" y="1274"/>
                    </a:moveTo>
                    <a:lnTo>
                      <a:pt x="0" y="8"/>
                    </a:lnTo>
                    <a:lnTo>
                      <a:pt x="6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879" y="1229"/>
                    </a:lnTo>
                    <a:lnTo>
                      <a:pt x="875" y="1235"/>
                    </a:lnTo>
                    <a:lnTo>
                      <a:pt x="873" y="1240"/>
                    </a:lnTo>
                    <a:lnTo>
                      <a:pt x="870" y="1245"/>
                    </a:lnTo>
                    <a:lnTo>
                      <a:pt x="868" y="1252"/>
                    </a:lnTo>
                    <a:lnTo>
                      <a:pt x="865" y="1257"/>
                    </a:lnTo>
                    <a:lnTo>
                      <a:pt x="863" y="1262"/>
                    </a:lnTo>
                    <a:lnTo>
                      <a:pt x="861" y="1268"/>
                    </a:lnTo>
                    <a:lnTo>
                      <a:pt x="858" y="127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3670200" y="3430440"/>
                <a:ext cx="274680" cy="398520"/>
              </a:xfrm>
              <a:custGeom>
                <a:avLst/>
                <a:gdLst/>
                <a:ahLst/>
                <a:rect l="l" t="t" r="r" b="b"/>
                <a:pathLst>
                  <a:path w="866" h="1256">
                    <a:moveTo>
                      <a:pt x="846" y="1256"/>
                    </a:moveTo>
                    <a:lnTo>
                      <a:pt x="0" y="8"/>
                    </a:lnTo>
                    <a:lnTo>
                      <a:pt x="7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35" y="2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866" y="1211"/>
                    </a:lnTo>
                    <a:lnTo>
                      <a:pt x="864" y="1217"/>
                    </a:lnTo>
                    <a:lnTo>
                      <a:pt x="861" y="1222"/>
                    </a:lnTo>
                    <a:lnTo>
                      <a:pt x="859" y="1227"/>
                    </a:lnTo>
                    <a:lnTo>
                      <a:pt x="857" y="1233"/>
                    </a:lnTo>
                    <a:lnTo>
                      <a:pt x="853" y="1239"/>
                    </a:lnTo>
                    <a:lnTo>
                      <a:pt x="851" y="1244"/>
                    </a:lnTo>
                    <a:lnTo>
                      <a:pt x="848" y="1249"/>
                    </a:lnTo>
                    <a:lnTo>
                      <a:pt x="846" y="1256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3678120" y="3429000"/>
                <a:ext cx="271440" cy="393840"/>
              </a:xfrm>
              <a:custGeom>
                <a:avLst/>
                <a:gdLst/>
                <a:ahLst/>
                <a:rect l="l" t="t" r="r" b="b"/>
                <a:pathLst>
                  <a:path w="855" h="1237">
                    <a:moveTo>
                      <a:pt x="834" y="1237"/>
                    </a:moveTo>
                    <a:lnTo>
                      <a:pt x="0" y="8"/>
                    </a:lnTo>
                    <a:lnTo>
                      <a:pt x="6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6" y="0"/>
                    </a:lnTo>
                    <a:lnTo>
                      <a:pt x="855" y="1193"/>
                    </a:lnTo>
                    <a:lnTo>
                      <a:pt x="851" y="1199"/>
                    </a:lnTo>
                    <a:lnTo>
                      <a:pt x="848" y="1204"/>
                    </a:lnTo>
                    <a:lnTo>
                      <a:pt x="846" y="1210"/>
                    </a:lnTo>
                    <a:lnTo>
                      <a:pt x="843" y="1215"/>
                    </a:lnTo>
                    <a:lnTo>
                      <a:pt x="841" y="1221"/>
                    </a:lnTo>
                    <a:lnTo>
                      <a:pt x="838" y="1226"/>
                    </a:lnTo>
                    <a:lnTo>
                      <a:pt x="836" y="1231"/>
                    </a:lnTo>
                    <a:lnTo>
                      <a:pt x="834" y="123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3684600" y="3427560"/>
                <a:ext cx="268200" cy="387360"/>
              </a:xfrm>
              <a:custGeom>
                <a:avLst/>
                <a:gdLst/>
                <a:ahLst/>
                <a:rect l="l" t="t" r="r" b="b"/>
                <a:pathLst>
                  <a:path w="843" h="1220">
                    <a:moveTo>
                      <a:pt x="821" y="1220"/>
                    </a:moveTo>
                    <a:lnTo>
                      <a:pt x="0" y="9"/>
                    </a:lnTo>
                    <a:lnTo>
                      <a:pt x="7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4" y="5"/>
                    </a:lnTo>
                    <a:lnTo>
                      <a:pt x="29" y="3"/>
                    </a:lnTo>
                    <a:lnTo>
                      <a:pt x="35" y="2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843" y="1176"/>
                    </a:lnTo>
                    <a:lnTo>
                      <a:pt x="840" y="1183"/>
                    </a:lnTo>
                    <a:lnTo>
                      <a:pt x="838" y="1188"/>
                    </a:lnTo>
                    <a:lnTo>
                      <a:pt x="835" y="1193"/>
                    </a:lnTo>
                    <a:lnTo>
                      <a:pt x="833" y="1198"/>
                    </a:lnTo>
                    <a:lnTo>
                      <a:pt x="829" y="1204"/>
                    </a:lnTo>
                    <a:lnTo>
                      <a:pt x="826" y="1209"/>
                    </a:lnTo>
                    <a:lnTo>
                      <a:pt x="824" y="1214"/>
                    </a:lnTo>
                    <a:lnTo>
                      <a:pt x="821" y="1220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3692520" y="3427560"/>
                <a:ext cx="263520" cy="380880"/>
              </a:xfrm>
              <a:custGeom>
                <a:avLst/>
                <a:gdLst/>
                <a:ahLst/>
                <a:rect l="l" t="t" r="r" b="b"/>
                <a:pathLst>
                  <a:path w="830" h="1201">
                    <a:moveTo>
                      <a:pt x="809" y="1201"/>
                    </a:moveTo>
                    <a:lnTo>
                      <a:pt x="0" y="8"/>
                    </a:lnTo>
                    <a:lnTo>
                      <a:pt x="5" y="6"/>
                    </a:lnTo>
                    <a:lnTo>
                      <a:pt x="11" y="5"/>
                    </a:lnTo>
                    <a:lnTo>
                      <a:pt x="16" y="4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1"/>
                    </a:lnTo>
                    <a:lnTo>
                      <a:pt x="45" y="0"/>
                    </a:lnTo>
                    <a:lnTo>
                      <a:pt x="830" y="1158"/>
                    </a:lnTo>
                    <a:lnTo>
                      <a:pt x="826" y="1164"/>
                    </a:lnTo>
                    <a:lnTo>
                      <a:pt x="824" y="1169"/>
                    </a:lnTo>
                    <a:lnTo>
                      <a:pt x="821" y="1174"/>
                    </a:lnTo>
                    <a:lnTo>
                      <a:pt x="819" y="1179"/>
                    </a:lnTo>
                    <a:lnTo>
                      <a:pt x="816" y="1186"/>
                    </a:lnTo>
                    <a:lnTo>
                      <a:pt x="814" y="1191"/>
                    </a:lnTo>
                    <a:lnTo>
                      <a:pt x="811" y="1196"/>
                    </a:lnTo>
                    <a:lnTo>
                      <a:pt x="809" y="1201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3699000" y="3425760"/>
                <a:ext cx="260280" cy="376200"/>
              </a:xfrm>
              <a:custGeom>
                <a:avLst/>
                <a:gdLst/>
                <a:ahLst/>
                <a:rect l="l" t="t" r="r" b="b"/>
                <a:pathLst>
                  <a:path w="819" h="1183">
                    <a:moveTo>
                      <a:pt x="797" y="1183"/>
                    </a:moveTo>
                    <a:lnTo>
                      <a:pt x="0" y="7"/>
                    </a:lnTo>
                    <a:lnTo>
                      <a:pt x="6" y="6"/>
                    </a:lnTo>
                    <a:lnTo>
                      <a:pt x="11" y="5"/>
                    </a:lnTo>
                    <a:lnTo>
                      <a:pt x="18" y="5"/>
                    </a:lnTo>
                    <a:lnTo>
                      <a:pt x="23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819" y="1141"/>
                    </a:lnTo>
                    <a:lnTo>
                      <a:pt x="816" y="1147"/>
                    </a:lnTo>
                    <a:lnTo>
                      <a:pt x="813" y="1152"/>
                    </a:lnTo>
                    <a:lnTo>
                      <a:pt x="811" y="1157"/>
                    </a:lnTo>
                    <a:lnTo>
                      <a:pt x="808" y="1162"/>
                    </a:lnTo>
                    <a:lnTo>
                      <a:pt x="804" y="1168"/>
                    </a:lnTo>
                    <a:lnTo>
                      <a:pt x="802" y="1173"/>
                    </a:lnTo>
                    <a:lnTo>
                      <a:pt x="799" y="1178"/>
                    </a:lnTo>
                    <a:lnTo>
                      <a:pt x="797" y="1183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3706920" y="3424320"/>
                <a:ext cx="255600" cy="369720"/>
              </a:xfrm>
              <a:custGeom>
                <a:avLst/>
                <a:gdLst/>
                <a:ahLst/>
                <a:rect l="l" t="t" r="r" b="b"/>
                <a:pathLst>
                  <a:path w="807" h="1166">
                    <a:moveTo>
                      <a:pt x="785" y="1166"/>
                    </a:moveTo>
                    <a:lnTo>
                      <a:pt x="0" y="8"/>
                    </a:lnTo>
                    <a:lnTo>
                      <a:pt x="5" y="7"/>
                    </a:lnTo>
                    <a:lnTo>
                      <a:pt x="11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8" y="3"/>
                    </a:lnTo>
                    <a:lnTo>
                      <a:pt x="33" y="2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807" y="1124"/>
                    </a:lnTo>
                    <a:lnTo>
                      <a:pt x="805" y="1130"/>
                    </a:lnTo>
                    <a:lnTo>
                      <a:pt x="801" y="1135"/>
                    </a:lnTo>
                    <a:lnTo>
                      <a:pt x="798" y="1140"/>
                    </a:lnTo>
                    <a:lnTo>
                      <a:pt x="796" y="1145"/>
                    </a:lnTo>
                    <a:lnTo>
                      <a:pt x="793" y="1151"/>
                    </a:lnTo>
                    <a:lnTo>
                      <a:pt x="790" y="1156"/>
                    </a:lnTo>
                    <a:lnTo>
                      <a:pt x="788" y="1161"/>
                    </a:lnTo>
                    <a:lnTo>
                      <a:pt x="785" y="1166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3713040" y="3424320"/>
                <a:ext cx="252360" cy="363600"/>
              </a:xfrm>
              <a:custGeom>
                <a:avLst/>
                <a:gdLst/>
                <a:ahLst/>
                <a:rect l="l" t="t" r="r" b="b"/>
                <a:pathLst>
                  <a:path w="795" h="1148">
                    <a:moveTo>
                      <a:pt x="773" y="1148"/>
                    </a:moveTo>
                    <a:lnTo>
                      <a:pt x="0" y="7"/>
                    </a:lnTo>
                    <a:lnTo>
                      <a:pt x="5" y="6"/>
                    </a:lnTo>
                    <a:lnTo>
                      <a:pt x="10" y="5"/>
                    </a:lnTo>
                    <a:lnTo>
                      <a:pt x="17" y="4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795" y="1107"/>
                    </a:lnTo>
                    <a:lnTo>
                      <a:pt x="792" y="1113"/>
                    </a:lnTo>
                    <a:lnTo>
                      <a:pt x="790" y="1117"/>
                    </a:lnTo>
                    <a:lnTo>
                      <a:pt x="787" y="1122"/>
                    </a:lnTo>
                    <a:lnTo>
                      <a:pt x="784" y="1127"/>
                    </a:lnTo>
                    <a:lnTo>
                      <a:pt x="781" y="1133"/>
                    </a:lnTo>
                    <a:lnTo>
                      <a:pt x="778" y="1138"/>
                    </a:lnTo>
                    <a:lnTo>
                      <a:pt x="775" y="1143"/>
                    </a:lnTo>
                    <a:lnTo>
                      <a:pt x="773" y="1148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3720960" y="3422520"/>
                <a:ext cx="249480" cy="358920"/>
              </a:xfrm>
              <a:custGeom>
                <a:avLst/>
                <a:gdLst/>
                <a:ahLst/>
                <a:rect l="l" t="t" r="r" b="b"/>
                <a:pathLst>
                  <a:path w="785" h="1132">
                    <a:moveTo>
                      <a:pt x="762" y="1132"/>
                    </a:moveTo>
                    <a:lnTo>
                      <a:pt x="0" y="8"/>
                    </a:lnTo>
                    <a:lnTo>
                      <a:pt x="6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3" y="5"/>
                    </a:lnTo>
                    <a:lnTo>
                      <a:pt x="28" y="4"/>
                    </a:lnTo>
                    <a:lnTo>
                      <a:pt x="35" y="3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785" y="1091"/>
                    </a:lnTo>
                    <a:lnTo>
                      <a:pt x="782" y="1097"/>
                    </a:lnTo>
                    <a:lnTo>
                      <a:pt x="779" y="1102"/>
                    </a:lnTo>
                    <a:lnTo>
                      <a:pt x="776" y="1107"/>
                    </a:lnTo>
                    <a:lnTo>
                      <a:pt x="773" y="1112"/>
                    </a:lnTo>
                    <a:lnTo>
                      <a:pt x="770" y="1118"/>
                    </a:lnTo>
                    <a:lnTo>
                      <a:pt x="768" y="1122"/>
                    </a:lnTo>
                    <a:lnTo>
                      <a:pt x="765" y="1127"/>
                    </a:lnTo>
                    <a:lnTo>
                      <a:pt x="762" y="1132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3727440" y="3421080"/>
                <a:ext cx="246240" cy="353880"/>
              </a:xfrm>
              <a:custGeom>
                <a:avLst/>
                <a:gdLst/>
                <a:ahLst/>
                <a:rect l="l" t="t" r="r" b="b"/>
                <a:pathLst>
                  <a:path w="773" h="1115">
                    <a:moveTo>
                      <a:pt x="750" y="1115"/>
                    </a:moveTo>
                    <a:lnTo>
                      <a:pt x="0" y="8"/>
                    </a:lnTo>
                    <a:lnTo>
                      <a:pt x="5" y="7"/>
                    </a:lnTo>
                    <a:lnTo>
                      <a:pt x="12" y="6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28" y="3"/>
                    </a:lnTo>
                    <a:lnTo>
                      <a:pt x="35" y="2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773" y="1074"/>
                    </a:lnTo>
                    <a:lnTo>
                      <a:pt x="770" y="1080"/>
                    </a:lnTo>
                    <a:lnTo>
                      <a:pt x="767" y="1085"/>
                    </a:lnTo>
                    <a:lnTo>
                      <a:pt x="765" y="1089"/>
                    </a:lnTo>
                    <a:lnTo>
                      <a:pt x="762" y="1094"/>
                    </a:lnTo>
                    <a:lnTo>
                      <a:pt x="759" y="1100"/>
                    </a:lnTo>
                    <a:lnTo>
                      <a:pt x="756" y="1105"/>
                    </a:lnTo>
                    <a:lnTo>
                      <a:pt x="753" y="1110"/>
                    </a:lnTo>
                    <a:lnTo>
                      <a:pt x="750" y="1115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3735360" y="3419640"/>
                <a:ext cx="241200" cy="349200"/>
              </a:xfrm>
              <a:custGeom>
                <a:avLst/>
                <a:gdLst/>
                <a:ahLst/>
                <a:rect l="l" t="t" r="r" b="b"/>
                <a:pathLst>
                  <a:path w="762" h="1097">
                    <a:moveTo>
                      <a:pt x="739" y="1097"/>
                    </a:moveTo>
                    <a:lnTo>
                      <a:pt x="0" y="6"/>
                    </a:lnTo>
                    <a:lnTo>
                      <a:pt x="5" y="6"/>
                    </a:lnTo>
                    <a:lnTo>
                      <a:pt x="12" y="5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29" y="2"/>
                    </a:lnTo>
                    <a:lnTo>
                      <a:pt x="34" y="1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762" y="1057"/>
                    </a:lnTo>
                    <a:lnTo>
                      <a:pt x="759" y="1063"/>
                    </a:lnTo>
                    <a:lnTo>
                      <a:pt x="757" y="1068"/>
                    </a:lnTo>
                    <a:lnTo>
                      <a:pt x="754" y="1072"/>
                    </a:lnTo>
                    <a:lnTo>
                      <a:pt x="750" y="1077"/>
                    </a:lnTo>
                    <a:lnTo>
                      <a:pt x="747" y="1083"/>
                    </a:lnTo>
                    <a:lnTo>
                      <a:pt x="744" y="1088"/>
                    </a:lnTo>
                    <a:lnTo>
                      <a:pt x="742" y="1092"/>
                    </a:lnTo>
                    <a:lnTo>
                      <a:pt x="739" y="1097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3743280" y="3419640"/>
                <a:ext cx="238320" cy="342720"/>
              </a:xfrm>
              <a:custGeom>
                <a:avLst/>
                <a:gdLst/>
                <a:ahLst/>
                <a:rect l="l" t="t" r="r" b="b"/>
                <a:pathLst>
                  <a:path w="752" h="1080">
                    <a:moveTo>
                      <a:pt x="727" y="1080"/>
                    </a:moveTo>
                    <a:lnTo>
                      <a:pt x="0" y="6"/>
                    </a:lnTo>
                    <a:lnTo>
                      <a:pt x="6" y="5"/>
                    </a:lnTo>
                    <a:lnTo>
                      <a:pt x="11" y="4"/>
                    </a:lnTo>
                    <a:lnTo>
                      <a:pt x="17" y="4"/>
                    </a:lnTo>
                    <a:lnTo>
                      <a:pt x="22" y="3"/>
                    </a:lnTo>
                    <a:lnTo>
                      <a:pt x="29" y="2"/>
                    </a:lnTo>
                    <a:lnTo>
                      <a:pt x="34" y="1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752" y="1041"/>
                    </a:lnTo>
                    <a:lnTo>
                      <a:pt x="748" y="1046"/>
                    </a:lnTo>
                    <a:lnTo>
                      <a:pt x="745" y="1051"/>
                    </a:lnTo>
                    <a:lnTo>
                      <a:pt x="742" y="1055"/>
                    </a:lnTo>
                    <a:lnTo>
                      <a:pt x="739" y="1060"/>
                    </a:lnTo>
                    <a:lnTo>
                      <a:pt x="736" y="1066"/>
                    </a:lnTo>
                    <a:lnTo>
                      <a:pt x="734" y="1070"/>
                    </a:lnTo>
                    <a:lnTo>
                      <a:pt x="731" y="1075"/>
                    </a:lnTo>
                    <a:lnTo>
                      <a:pt x="727" y="108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3749760" y="3417840"/>
                <a:ext cx="234720" cy="338040"/>
              </a:xfrm>
              <a:custGeom>
                <a:avLst/>
                <a:gdLst/>
                <a:ahLst/>
                <a:rect l="l" t="t" r="r" b="b"/>
                <a:pathLst>
                  <a:path w="741" h="1064">
                    <a:moveTo>
                      <a:pt x="717" y="1064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2" y="5"/>
                    </a:lnTo>
                    <a:lnTo>
                      <a:pt x="18" y="4"/>
                    </a:lnTo>
                    <a:lnTo>
                      <a:pt x="23" y="4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741" y="1026"/>
                    </a:lnTo>
                    <a:lnTo>
                      <a:pt x="738" y="1030"/>
                    </a:lnTo>
                    <a:lnTo>
                      <a:pt x="735" y="1035"/>
                    </a:lnTo>
                    <a:lnTo>
                      <a:pt x="733" y="1040"/>
                    </a:lnTo>
                    <a:lnTo>
                      <a:pt x="730" y="1045"/>
                    </a:lnTo>
                    <a:lnTo>
                      <a:pt x="726" y="1050"/>
                    </a:lnTo>
                    <a:lnTo>
                      <a:pt x="723" y="1055"/>
                    </a:lnTo>
                    <a:lnTo>
                      <a:pt x="720" y="1059"/>
                    </a:lnTo>
                    <a:lnTo>
                      <a:pt x="717" y="106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3757680" y="3416400"/>
                <a:ext cx="231840" cy="333360"/>
              </a:xfrm>
              <a:custGeom>
                <a:avLst/>
                <a:gdLst/>
                <a:ahLst/>
                <a:rect l="l" t="t" r="r" b="b"/>
                <a:pathLst>
                  <a:path w="731" h="1048">
                    <a:moveTo>
                      <a:pt x="707" y="1048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2" y="5"/>
                    </a:lnTo>
                    <a:lnTo>
                      <a:pt x="18" y="4"/>
                    </a:lnTo>
                    <a:lnTo>
                      <a:pt x="24" y="3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731" y="1009"/>
                    </a:lnTo>
                    <a:lnTo>
                      <a:pt x="728" y="1014"/>
                    </a:lnTo>
                    <a:lnTo>
                      <a:pt x="724" y="1019"/>
                    </a:lnTo>
                    <a:lnTo>
                      <a:pt x="721" y="1023"/>
                    </a:lnTo>
                    <a:lnTo>
                      <a:pt x="718" y="1029"/>
                    </a:lnTo>
                    <a:lnTo>
                      <a:pt x="715" y="1033"/>
                    </a:lnTo>
                    <a:lnTo>
                      <a:pt x="712" y="1038"/>
                    </a:lnTo>
                    <a:lnTo>
                      <a:pt x="709" y="1043"/>
                    </a:lnTo>
                    <a:lnTo>
                      <a:pt x="707" y="1048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3763800" y="3416400"/>
                <a:ext cx="228600" cy="326880"/>
              </a:xfrm>
              <a:custGeom>
                <a:avLst/>
                <a:gdLst/>
                <a:ahLst/>
                <a:rect l="l" t="t" r="r" b="b"/>
                <a:pathLst>
                  <a:path w="719" h="1033">
                    <a:moveTo>
                      <a:pt x="694" y="1033"/>
                    </a:moveTo>
                    <a:lnTo>
                      <a:pt x="0" y="7"/>
                    </a:lnTo>
                    <a:lnTo>
                      <a:pt x="6" y="7"/>
                    </a:lnTo>
                    <a:lnTo>
                      <a:pt x="11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41" y="2"/>
                    </a:lnTo>
                    <a:lnTo>
                      <a:pt x="46" y="0"/>
                    </a:lnTo>
                    <a:lnTo>
                      <a:pt x="719" y="994"/>
                    </a:lnTo>
                    <a:lnTo>
                      <a:pt x="716" y="999"/>
                    </a:lnTo>
                    <a:lnTo>
                      <a:pt x="713" y="1003"/>
                    </a:lnTo>
                    <a:lnTo>
                      <a:pt x="710" y="1008"/>
                    </a:lnTo>
                    <a:lnTo>
                      <a:pt x="707" y="1014"/>
                    </a:lnTo>
                    <a:lnTo>
                      <a:pt x="704" y="1018"/>
                    </a:lnTo>
                    <a:lnTo>
                      <a:pt x="700" y="1023"/>
                    </a:lnTo>
                    <a:lnTo>
                      <a:pt x="697" y="1027"/>
                    </a:lnTo>
                    <a:lnTo>
                      <a:pt x="694" y="1033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3772080" y="3414600"/>
                <a:ext cx="225360" cy="322200"/>
              </a:xfrm>
              <a:custGeom>
                <a:avLst/>
                <a:gdLst/>
                <a:ahLst/>
                <a:rect l="l" t="t" r="r" b="b"/>
                <a:pathLst>
                  <a:path w="709" h="1016">
                    <a:moveTo>
                      <a:pt x="684" y="1016"/>
                    </a:moveTo>
                    <a:lnTo>
                      <a:pt x="0" y="7"/>
                    </a:lnTo>
                    <a:lnTo>
                      <a:pt x="6" y="7"/>
                    </a:lnTo>
                    <a:lnTo>
                      <a:pt x="11" y="6"/>
                    </a:lnTo>
                    <a:lnTo>
                      <a:pt x="18" y="5"/>
                    </a:lnTo>
                    <a:lnTo>
                      <a:pt x="23" y="3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709" y="978"/>
                    </a:lnTo>
                    <a:lnTo>
                      <a:pt x="706" y="983"/>
                    </a:lnTo>
                    <a:lnTo>
                      <a:pt x="703" y="987"/>
                    </a:lnTo>
                    <a:lnTo>
                      <a:pt x="699" y="993"/>
                    </a:lnTo>
                    <a:lnTo>
                      <a:pt x="696" y="997"/>
                    </a:lnTo>
                    <a:lnTo>
                      <a:pt x="693" y="1002"/>
                    </a:lnTo>
                    <a:lnTo>
                      <a:pt x="690" y="1006"/>
                    </a:lnTo>
                    <a:lnTo>
                      <a:pt x="687" y="1011"/>
                    </a:lnTo>
                    <a:lnTo>
                      <a:pt x="684" y="1016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3780000" y="3414600"/>
                <a:ext cx="220680" cy="316080"/>
              </a:xfrm>
              <a:custGeom>
                <a:avLst/>
                <a:gdLst/>
                <a:ahLst/>
                <a:rect l="l" t="t" r="r" b="b"/>
                <a:pathLst>
                  <a:path w="699" h="999">
                    <a:moveTo>
                      <a:pt x="673" y="999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11" y="4"/>
                    </a:lnTo>
                    <a:lnTo>
                      <a:pt x="18" y="3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699" y="962"/>
                    </a:lnTo>
                    <a:lnTo>
                      <a:pt x="695" y="966"/>
                    </a:lnTo>
                    <a:lnTo>
                      <a:pt x="692" y="971"/>
                    </a:lnTo>
                    <a:lnTo>
                      <a:pt x="689" y="976"/>
                    </a:lnTo>
                    <a:lnTo>
                      <a:pt x="686" y="981"/>
                    </a:lnTo>
                    <a:lnTo>
                      <a:pt x="683" y="985"/>
                    </a:lnTo>
                    <a:lnTo>
                      <a:pt x="680" y="990"/>
                    </a:lnTo>
                    <a:lnTo>
                      <a:pt x="676" y="995"/>
                    </a:lnTo>
                    <a:lnTo>
                      <a:pt x="673" y="999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3786120" y="3413160"/>
                <a:ext cx="219240" cy="312840"/>
              </a:xfrm>
              <a:custGeom>
                <a:avLst/>
                <a:gdLst/>
                <a:ahLst/>
                <a:rect l="l" t="t" r="r" b="b"/>
                <a:pathLst>
                  <a:path w="688" h="983">
                    <a:moveTo>
                      <a:pt x="663" y="983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3" y="3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688" y="946"/>
                    </a:lnTo>
                    <a:lnTo>
                      <a:pt x="685" y="951"/>
                    </a:lnTo>
                    <a:lnTo>
                      <a:pt x="682" y="956"/>
                    </a:lnTo>
                    <a:lnTo>
                      <a:pt x="679" y="961"/>
                    </a:lnTo>
                    <a:lnTo>
                      <a:pt x="676" y="965"/>
                    </a:lnTo>
                    <a:lnTo>
                      <a:pt x="672" y="969"/>
                    </a:lnTo>
                    <a:lnTo>
                      <a:pt x="669" y="974"/>
                    </a:lnTo>
                    <a:lnTo>
                      <a:pt x="666" y="979"/>
                    </a:lnTo>
                    <a:lnTo>
                      <a:pt x="663" y="983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3794040" y="3411360"/>
                <a:ext cx="216000" cy="308160"/>
              </a:xfrm>
              <a:custGeom>
                <a:avLst/>
                <a:gdLst/>
                <a:ahLst/>
                <a:rect l="l" t="t" r="r" b="b"/>
                <a:pathLst>
                  <a:path w="678" h="968">
                    <a:moveTo>
                      <a:pt x="652" y="968"/>
                    </a:moveTo>
                    <a:lnTo>
                      <a:pt x="0" y="6"/>
                    </a:lnTo>
                    <a:lnTo>
                      <a:pt x="5" y="5"/>
                    </a:lnTo>
                    <a:lnTo>
                      <a:pt x="12" y="4"/>
                    </a:lnTo>
                    <a:lnTo>
                      <a:pt x="17" y="3"/>
                    </a:lnTo>
                    <a:lnTo>
                      <a:pt x="23" y="3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678" y="931"/>
                    </a:lnTo>
                    <a:lnTo>
                      <a:pt x="675" y="937"/>
                    </a:lnTo>
                    <a:lnTo>
                      <a:pt x="670" y="941"/>
                    </a:lnTo>
                    <a:lnTo>
                      <a:pt x="667" y="945"/>
                    </a:lnTo>
                    <a:lnTo>
                      <a:pt x="664" y="950"/>
                    </a:lnTo>
                    <a:lnTo>
                      <a:pt x="661" y="954"/>
                    </a:lnTo>
                    <a:lnTo>
                      <a:pt x="658" y="959"/>
                    </a:lnTo>
                    <a:lnTo>
                      <a:pt x="655" y="964"/>
                    </a:lnTo>
                    <a:lnTo>
                      <a:pt x="652" y="968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3801960" y="3411360"/>
                <a:ext cx="211320" cy="301680"/>
              </a:xfrm>
              <a:custGeom>
                <a:avLst/>
                <a:gdLst/>
                <a:ahLst/>
                <a:rect l="l" t="t" r="r" b="b"/>
                <a:pathLst>
                  <a:path w="667" h="952">
                    <a:moveTo>
                      <a:pt x="641" y="952"/>
                    </a:moveTo>
                    <a:lnTo>
                      <a:pt x="0" y="6"/>
                    </a:lnTo>
                    <a:lnTo>
                      <a:pt x="5" y="5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667" y="916"/>
                    </a:lnTo>
                    <a:lnTo>
                      <a:pt x="664" y="922"/>
                    </a:lnTo>
                    <a:lnTo>
                      <a:pt x="661" y="926"/>
                    </a:lnTo>
                    <a:lnTo>
                      <a:pt x="658" y="930"/>
                    </a:lnTo>
                    <a:lnTo>
                      <a:pt x="655" y="934"/>
                    </a:lnTo>
                    <a:lnTo>
                      <a:pt x="651" y="940"/>
                    </a:lnTo>
                    <a:lnTo>
                      <a:pt x="647" y="944"/>
                    </a:lnTo>
                    <a:lnTo>
                      <a:pt x="644" y="948"/>
                    </a:lnTo>
                    <a:lnTo>
                      <a:pt x="641" y="952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3808440" y="3409920"/>
                <a:ext cx="209520" cy="298440"/>
              </a:xfrm>
              <a:custGeom>
                <a:avLst/>
                <a:gdLst/>
                <a:ahLst/>
                <a:rect l="l" t="t" r="r" b="b"/>
                <a:pathLst>
                  <a:path w="658" h="936">
                    <a:moveTo>
                      <a:pt x="632" y="936"/>
                    </a:moveTo>
                    <a:lnTo>
                      <a:pt x="0" y="5"/>
                    </a:lnTo>
                    <a:lnTo>
                      <a:pt x="6" y="4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3" y="2"/>
                    </a:lnTo>
                    <a:lnTo>
                      <a:pt x="30" y="2"/>
                    </a:lnTo>
                    <a:lnTo>
                      <a:pt x="35" y="1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658" y="902"/>
                    </a:lnTo>
                    <a:lnTo>
                      <a:pt x="655" y="906"/>
                    </a:lnTo>
                    <a:lnTo>
                      <a:pt x="652" y="910"/>
                    </a:lnTo>
                    <a:lnTo>
                      <a:pt x="648" y="914"/>
                    </a:lnTo>
                    <a:lnTo>
                      <a:pt x="644" y="918"/>
                    </a:lnTo>
                    <a:lnTo>
                      <a:pt x="641" y="924"/>
                    </a:lnTo>
                    <a:lnTo>
                      <a:pt x="638" y="928"/>
                    </a:lnTo>
                    <a:lnTo>
                      <a:pt x="635" y="932"/>
                    </a:lnTo>
                    <a:lnTo>
                      <a:pt x="632" y="93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3816360" y="3409920"/>
                <a:ext cx="206280" cy="291960"/>
              </a:xfrm>
              <a:custGeom>
                <a:avLst/>
                <a:gdLst/>
                <a:ahLst/>
                <a:rect l="l" t="t" r="r" b="b"/>
                <a:pathLst>
                  <a:path w="649" h="921">
                    <a:moveTo>
                      <a:pt x="621" y="921"/>
                    </a:moveTo>
                    <a:lnTo>
                      <a:pt x="0" y="5"/>
                    </a:lnTo>
                    <a:lnTo>
                      <a:pt x="7" y="5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25" y="3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649" y="887"/>
                    </a:lnTo>
                    <a:lnTo>
                      <a:pt x="646" y="891"/>
                    </a:lnTo>
                    <a:lnTo>
                      <a:pt x="641" y="895"/>
                    </a:lnTo>
                    <a:lnTo>
                      <a:pt x="638" y="900"/>
                    </a:lnTo>
                    <a:lnTo>
                      <a:pt x="635" y="905"/>
                    </a:lnTo>
                    <a:lnTo>
                      <a:pt x="632" y="909"/>
                    </a:lnTo>
                    <a:lnTo>
                      <a:pt x="629" y="913"/>
                    </a:lnTo>
                    <a:lnTo>
                      <a:pt x="625" y="917"/>
                    </a:lnTo>
                    <a:lnTo>
                      <a:pt x="621" y="921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3824280" y="3408480"/>
                <a:ext cx="201600" cy="288720"/>
              </a:xfrm>
              <a:custGeom>
                <a:avLst/>
                <a:gdLst/>
                <a:ahLst/>
                <a:rect l="l" t="t" r="r" b="b"/>
                <a:pathLst>
                  <a:path w="637" h="908">
                    <a:moveTo>
                      <a:pt x="610" y="908"/>
                    </a:moveTo>
                    <a:lnTo>
                      <a:pt x="0" y="6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6" y="4"/>
                    </a:lnTo>
                    <a:lnTo>
                      <a:pt x="23" y="3"/>
                    </a:lnTo>
                    <a:lnTo>
                      <a:pt x="29" y="3"/>
                    </a:lnTo>
                    <a:lnTo>
                      <a:pt x="34" y="1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637" y="873"/>
                    </a:lnTo>
                    <a:lnTo>
                      <a:pt x="634" y="877"/>
                    </a:lnTo>
                    <a:lnTo>
                      <a:pt x="630" y="881"/>
                    </a:lnTo>
                    <a:lnTo>
                      <a:pt x="627" y="886"/>
                    </a:lnTo>
                    <a:lnTo>
                      <a:pt x="624" y="890"/>
                    </a:lnTo>
                    <a:lnTo>
                      <a:pt x="621" y="894"/>
                    </a:lnTo>
                    <a:lnTo>
                      <a:pt x="616" y="898"/>
                    </a:lnTo>
                    <a:lnTo>
                      <a:pt x="613" y="903"/>
                    </a:lnTo>
                    <a:lnTo>
                      <a:pt x="610" y="908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3830760" y="3408480"/>
                <a:ext cx="199800" cy="282600"/>
              </a:xfrm>
              <a:custGeom>
                <a:avLst/>
                <a:gdLst/>
                <a:ahLst/>
                <a:rect l="l" t="t" r="r" b="b"/>
                <a:pathLst>
                  <a:path w="628" h="892">
                    <a:moveTo>
                      <a:pt x="601" y="892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11" y="3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29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628" y="858"/>
                    </a:lnTo>
                    <a:lnTo>
                      <a:pt x="625" y="862"/>
                    </a:lnTo>
                    <a:lnTo>
                      <a:pt x="621" y="867"/>
                    </a:lnTo>
                    <a:lnTo>
                      <a:pt x="618" y="871"/>
                    </a:lnTo>
                    <a:lnTo>
                      <a:pt x="614" y="875"/>
                    </a:lnTo>
                    <a:lnTo>
                      <a:pt x="611" y="879"/>
                    </a:lnTo>
                    <a:lnTo>
                      <a:pt x="607" y="883"/>
                    </a:lnTo>
                    <a:lnTo>
                      <a:pt x="604" y="888"/>
                    </a:lnTo>
                    <a:lnTo>
                      <a:pt x="601" y="892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3838680" y="3406680"/>
                <a:ext cx="196920" cy="279360"/>
              </a:xfrm>
              <a:custGeom>
                <a:avLst/>
                <a:gdLst/>
                <a:ahLst/>
                <a:rect l="l" t="t" r="r" b="b"/>
                <a:pathLst>
                  <a:path w="620" h="878">
                    <a:moveTo>
                      <a:pt x="591" y="878"/>
                    </a:moveTo>
                    <a:lnTo>
                      <a:pt x="0" y="5"/>
                    </a:lnTo>
                    <a:lnTo>
                      <a:pt x="6" y="4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4" y="3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48" y="0"/>
                    </a:lnTo>
                    <a:lnTo>
                      <a:pt x="620" y="844"/>
                    </a:lnTo>
                    <a:lnTo>
                      <a:pt x="616" y="849"/>
                    </a:lnTo>
                    <a:lnTo>
                      <a:pt x="612" y="853"/>
                    </a:lnTo>
                    <a:lnTo>
                      <a:pt x="608" y="857"/>
                    </a:lnTo>
                    <a:lnTo>
                      <a:pt x="605" y="861"/>
                    </a:lnTo>
                    <a:lnTo>
                      <a:pt x="602" y="865"/>
                    </a:lnTo>
                    <a:lnTo>
                      <a:pt x="599" y="870"/>
                    </a:lnTo>
                    <a:lnTo>
                      <a:pt x="595" y="874"/>
                    </a:lnTo>
                    <a:lnTo>
                      <a:pt x="591" y="878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3846600" y="3406680"/>
                <a:ext cx="193680" cy="273240"/>
              </a:xfrm>
              <a:custGeom>
                <a:avLst/>
                <a:gdLst/>
                <a:ahLst/>
                <a:rect l="l" t="t" r="r" b="b"/>
                <a:pathLst>
                  <a:path w="609" h="863">
                    <a:moveTo>
                      <a:pt x="581" y="863"/>
                    </a:moveTo>
                    <a:lnTo>
                      <a:pt x="0" y="5"/>
                    </a:lnTo>
                    <a:lnTo>
                      <a:pt x="6" y="4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47" y="0"/>
                    </a:lnTo>
                    <a:lnTo>
                      <a:pt x="609" y="830"/>
                    </a:lnTo>
                    <a:lnTo>
                      <a:pt x="605" y="834"/>
                    </a:lnTo>
                    <a:lnTo>
                      <a:pt x="602" y="838"/>
                    </a:lnTo>
                    <a:lnTo>
                      <a:pt x="599" y="842"/>
                    </a:lnTo>
                    <a:lnTo>
                      <a:pt x="595" y="846"/>
                    </a:lnTo>
                    <a:lnTo>
                      <a:pt x="592" y="851"/>
                    </a:lnTo>
                    <a:lnTo>
                      <a:pt x="588" y="855"/>
                    </a:lnTo>
                    <a:lnTo>
                      <a:pt x="584" y="859"/>
                    </a:lnTo>
                    <a:lnTo>
                      <a:pt x="581" y="863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3854520" y="3405240"/>
                <a:ext cx="190440" cy="270000"/>
              </a:xfrm>
              <a:custGeom>
                <a:avLst/>
                <a:gdLst/>
                <a:ahLst/>
                <a:rect l="l" t="t" r="r" b="b"/>
                <a:pathLst>
                  <a:path w="600" h="848">
                    <a:moveTo>
                      <a:pt x="572" y="848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12" y="3"/>
                    </a:lnTo>
                    <a:lnTo>
                      <a:pt x="18" y="3"/>
                    </a:lnTo>
                    <a:lnTo>
                      <a:pt x="23" y="2"/>
                    </a:lnTo>
                    <a:lnTo>
                      <a:pt x="30" y="2"/>
                    </a:lnTo>
                    <a:lnTo>
                      <a:pt x="36" y="1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600" y="816"/>
                    </a:lnTo>
                    <a:lnTo>
                      <a:pt x="596" y="820"/>
                    </a:lnTo>
                    <a:lnTo>
                      <a:pt x="593" y="824"/>
                    </a:lnTo>
                    <a:lnTo>
                      <a:pt x="589" y="827"/>
                    </a:lnTo>
                    <a:lnTo>
                      <a:pt x="585" y="832"/>
                    </a:lnTo>
                    <a:lnTo>
                      <a:pt x="582" y="836"/>
                    </a:lnTo>
                    <a:lnTo>
                      <a:pt x="578" y="840"/>
                    </a:lnTo>
                    <a:lnTo>
                      <a:pt x="575" y="844"/>
                    </a:lnTo>
                    <a:lnTo>
                      <a:pt x="572" y="848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3860640" y="3405240"/>
                <a:ext cx="187560" cy="264960"/>
              </a:xfrm>
              <a:custGeom>
                <a:avLst/>
                <a:gdLst/>
                <a:ahLst/>
                <a:rect l="l" t="t" r="r" b="b"/>
                <a:pathLst>
                  <a:path w="591" h="834">
                    <a:moveTo>
                      <a:pt x="562" y="834"/>
                    </a:moveTo>
                    <a:lnTo>
                      <a:pt x="0" y="4"/>
                    </a:lnTo>
                    <a:lnTo>
                      <a:pt x="7" y="4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31" y="2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49" y="0"/>
                    </a:lnTo>
                    <a:lnTo>
                      <a:pt x="591" y="801"/>
                    </a:lnTo>
                    <a:lnTo>
                      <a:pt x="588" y="805"/>
                    </a:lnTo>
                    <a:lnTo>
                      <a:pt x="583" y="809"/>
                    </a:lnTo>
                    <a:lnTo>
                      <a:pt x="580" y="814"/>
                    </a:lnTo>
                    <a:lnTo>
                      <a:pt x="577" y="818"/>
                    </a:lnTo>
                    <a:lnTo>
                      <a:pt x="573" y="822"/>
                    </a:lnTo>
                    <a:lnTo>
                      <a:pt x="570" y="825"/>
                    </a:lnTo>
                    <a:lnTo>
                      <a:pt x="566" y="829"/>
                    </a:lnTo>
                    <a:lnTo>
                      <a:pt x="562" y="834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3868560" y="3405240"/>
                <a:ext cx="184320" cy="260280"/>
              </a:xfrm>
              <a:custGeom>
                <a:avLst/>
                <a:gdLst/>
                <a:ahLst/>
                <a:rect l="l" t="t" r="r" b="b"/>
                <a:pathLst>
                  <a:path w="581" h="820">
                    <a:moveTo>
                      <a:pt x="553" y="820"/>
                    </a:moveTo>
                    <a:lnTo>
                      <a:pt x="0" y="4"/>
                    </a:lnTo>
                    <a:lnTo>
                      <a:pt x="7" y="4"/>
                    </a:lnTo>
                    <a:lnTo>
                      <a:pt x="12" y="3"/>
                    </a:lnTo>
                    <a:lnTo>
                      <a:pt x="18" y="3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48" y="0"/>
                    </a:lnTo>
                    <a:lnTo>
                      <a:pt x="581" y="787"/>
                    </a:lnTo>
                    <a:lnTo>
                      <a:pt x="578" y="791"/>
                    </a:lnTo>
                    <a:lnTo>
                      <a:pt x="574" y="796"/>
                    </a:lnTo>
                    <a:lnTo>
                      <a:pt x="571" y="800"/>
                    </a:lnTo>
                    <a:lnTo>
                      <a:pt x="567" y="803"/>
                    </a:lnTo>
                    <a:lnTo>
                      <a:pt x="564" y="807"/>
                    </a:lnTo>
                    <a:lnTo>
                      <a:pt x="559" y="811"/>
                    </a:lnTo>
                    <a:lnTo>
                      <a:pt x="556" y="816"/>
                    </a:lnTo>
                    <a:lnTo>
                      <a:pt x="553" y="82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3876840" y="3403440"/>
                <a:ext cx="180720" cy="255600"/>
              </a:xfrm>
              <a:custGeom>
                <a:avLst/>
                <a:gdLst/>
                <a:ahLst/>
                <a:rect l="l" t="t" r="r" b="b"/>
                <a:pathLst>
                  <a:path w="571" h="804">
                    <a:moveTo>
                      <a:pt x="542" y="804"/>
                    </a:moveTo>
                    <a:lnTo>
                      <a:pt x="0" y="3"/>
                    </a:lnTo>
                    <a:lnTo>
                      <a:pt x="5" y="3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1"/>
                    </a:lnTo>
                    <a:lnTo>
                      <a:pt x="29" y="1"/>
                    </a:lnTo>
                    <a:lnTo>
                      <a:pt x="35" y="1"/>
                    </a:lnTo>
                    <a:lnTo>
                      <a:pt x="42" y="0"/>
                    </a:lnTo>
                    <a:lnTo>
                      <a:pt x="47" y="0"/>
                    </a:lnTo>
                    <a:lnTo>
                      <a:pt x="571" y="773"/>
                    </a:lnTo>
                    <a:lnTo>
                      <a:pt x="568" y="777"/>
                    </a:lnTo>
                    <a:lnTo>
                      <a:pt x="564" y="781"/>
                    </a:lnTo>
                    <a:lnTo>
                      <a:pt x="561" y="785"/>
                    </a:lnTo>
                    <a:lnTo>
                      <a:pt x="556" y="788"/>
                    </a:lnTo>
                    <a:lnTo>
                      <a:pt x="553" y="792"/>
                    </a:lnTo>
                    <a:lnTo>
                      <a:pt x="549" y="797"/>
                    </a:lnTo>
                    <a:lnTo>
                      <a:pt x="546" y="801"/>
                    </a:lnTo>
                    <a:lnTo>
                      <a:pt x="542" y="80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3884760" y="3403440"/>
                <a:ext cx="177480" cy="250920"/>
              </a:xfrm>
              <a:custGeom>
                <a:avLst/>
                <a:gdLst/>
                <a:ahLst/>
                <a:rect l="l" t="t" r="r" b="b"/>
                <a:pathLst>
                  <a:path w="563" h="790">
                    <a:moveTo>
                      <a:pt x="533" y="790"/>
                    </a:moveTo>
                    <a:lnTo>
                      <a:pt x="0" y="3"/>
                    </a:lnTo>
                    <a:lnTo>
                      <a:pt x="6" y="3"/>
                    </a:lnTo>
                    <a:lnTo>
                      <a:pt x="12" y="3"/>
                    </a:lnTo>
                    <a:lnTo>
                      <a:pt x="19" y="2"/>
                    </a:lnTo>
                    <a:lnTo>
                      <a:pt x="24" y="2"/>
                    </a:lnTo>
                    <a:lnTo>
                      <a:pt x="30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63" y="760"/>
                    </a:lnTo>
                    <a:lnTo>
                      <a:pt x="560" y="763"/>
                    </a:lnTo>
                    <a:lnTo>
                      <a:pt x="556" y="767"/>
                    </a:lnTo>
                    <a:lnTo>
                      <a:pt x="552" y="771"/>
                    </a:lnTo>
                    <a:lnTo>
                      <a:pt x="548" y="775"/>
                    </a:lnTo>
                    <a:lnTo>
                      <a:pt x="545" y="779"/>
                    </a:lnTo>
                    <a:lnTo>
                      <a:pt x="541" y="783"/>
                    </a:lnTo>
                    <a:lnTo>
                      <a:pt x="538" y="787"/>
                    </a:lnTo>
                    <a:lnTo>
                      <a:pt x="533" y="79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3890880" y="3403440"/>
                <a:ext cx="176400" cy="246240"/>
              </a:xfrm>
              <a:custGeom>
                <a:avLst/>
                <a:gdLst/>
                <a:ahLst/>
                <a:rect l="l" t="t" r="r" b="b"/>
                <a:pathLst>
                  <a:path w="555" h="777">
                    <a:moveTo>
                      <a:pt x="524" y="777"/>
                    </a:moveTo>
                    <a:lnTo>
                      <a:pt x="0" y="4"/>
                    </a:lnTo>
                    <a:lnTo>
                      <a:pt x="6" y="3"/>
                    </a:lnTo>
                    <a:lnTo>
                      <a:pt x="13" y="3"/>
                    </a:lnTo>
                    <a:lnTo>
                      <a:pt x="18" y="2"/>
                    </a:lnTo>
                    <a:lnTo>
                      <a:pt x="24" y="2"/>
                    </a:lnTo>
                    <a:lnTo>
                      <a:pt x="30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0"/>
                    </a:lnTo>
                    <a:lnTo>
                      <a:pt x="555" y="746"/>
                    </a:lnTo>
                    <a:lnTo>
                      <a:pt x="550" y="750"/>
                    </a:lnTo>
                    <a:lnTo>
                      <a:pt x="546" y="754"/>
                    </a:lnTo>
                    <a:lnTo>
                      <a:pt x="543" y="758"/>
                    </a:lnTo>
                    <a:lnTo>
                      <a:pt x="539" y="762"/>
                    </a:lnTo>
                    <a:lnTo>
                      <a:pt x="536" y="765"/>
                    </a:lnTo>
                    <a:lnTo>
                      <a:pt x="532" y="769"/>
                    </a:lnTo>
                    <a:lnTo>
                      <a:pt x="528" y="773"/>
                    </a:lnTo>
                    <a:lnTo>
                      <a:pt x="524" y="777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3898800" y="3402000"/>
                <a:ext cx="173160" cy="243000"/>
              </a:xfrm>
              <a:custGeom>
                <a:avLst/>
                <a:gdLst/>
                <a:ahLst/>
                <a:rect l="l" t="t" r="r" b="b"/>
                <a:pathLst>
                  <a:path w="545" h="764">
                    <a:moveTo>
                      <a:pt x="515" y="764"/>
                    </a:moveTo>
                    <a:lnTo>
                      <a:pt x="0" y="4"/>
                    </a:lnTo>
                    <a:lnTo>
                      <a:pt x="6" y="4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31" y="2"/>
                    </a:lnTo>
                    <a:lnTo>
                      <a:pt x="37" y="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5" y="733"/>
                    </a:lnTo>
                    <a:lnTo>
                      <a:pt x="541" y="738"/>
                    </a:lnTo>
                    <a:lnTo>
                      <a:pt x="538" y="741"/>
                    </a:lnTo>
                    <a:lnTo>
                      <a:pt x="534" y="745"/>
                    </a:lnTo>
                    <a:lnTo>
                      <a:pt x="531" y="748"/>
                    </a:lnTo>
                    <a:lnTo>
                      <a:pt x="526" y="752"/>
                    </a:lnTo>
                    <a:lnTo>
                      <a:pt x="522" y="756"/>
                    </a:lnTo>
                    <a:lnTo>
                      <a:pt x="519" y="760"/>
                    </a:lnTo>
                    <a:lnTo>
                      <a:pt x="515" y="764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3906720" y="3402000"/>
                <a:ext cx="169920" cy="237960"/>
              </a:xfrm>
              <a:custGeom>
                <a:avLst/>
                <a:gdLst/>
                <a:ahLst/>
                <a:rect l="l" t="t" r="r" b="b"/>
                <a:pathLst>
                  <a:path w="537" h="750">
                    <a:moveTo>
                      <a:pt x="507" y="750"/>
                    </a:moveTo>
                    <a:lnTo>
                      <a:pt x="0" y="4"/>
                    </a:lnTo>
                    <a:lnTo>
                      <a:pt x="7" y="4"/>
                    </a:lnTo>
                    <a:lnTo>
                      <a:pt x="13" y="2"/>
                    </a:lnTo>
                    <a:lnTo>
                      <a:pt x="18" y="2"/>
                    </a:lnTo>
                    <a:lnTo>
                      <a:pt x="24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37" y="721"/>
                    </a:lnTo>
                    <a:lnTo>
                      <a:pt x="533" y="724"/>
                    </a:lnTo>
                    <a:lnTo>
                      <a:pt x="529" y="728"/>
                    </a:lnTo>
                    <a:lnTo>
                      <a:pt x="526" y="731"/>
                    </a:lnTo>
                    <a:lnTo>
                      <a:pt x="521" y="735"/>
                    </a:lnTo>
                    <a:lnTo>
                      <a:pt x="517" y="740"/>
                    </a:lnTo>
                    <a:lnTo>
                      <a:pt x="514" y="743"/>
                    </a:lnTo>
                    <a:lnTo>
                      <a:pt x="510" y="747"/>
                    </a:lnTo>
                    <a:lnTo>
                      <a:pt x="507" y="75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3914640" y="3402000"/>
                <a:ext cx="166680" cy="233280"/>
              </a:xfrm>
              <a:custGeom>
                <a:avLst/>
                <a:gdLst/>
                <a:ahLst/>
                <a:rect l="l" t="t" r="r" b="b"/>
                <a:pathLst>
                  <a:path w="528" h="736">
                    <a:moveTo>
                      <a:pt x="497" y="736"/>
                    </a:moveTo>
                    <a:lnTo>
                      <a:pt x="0" y="3"/>
                    </a:lnTo>
                    <a:lnTo>
                      <a:pt x="7" y="2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28" y="707"/>
                    </a:lnTo>
                    <a:lnTo>
                      <a:pt x="524" y="710"/>
                    </a:lnTo>
                    <a:lnTo>
                      <a:pt x="520" y="714"/>
                    </a:lnTo>
                    <a:lnTo>
                      <a:pt x="516" y="717"/>
                    </a:lnTo>
                    <a:lnTo>
                      <a:pt x="512" y="722"/>
                    </a:lnTo>
                    <a:lnTo>
                      <a:pt x="509" y="725"/>
                    </a:lnTo>
                    <a:lnTo>
                      <a:pt x="505" y="729"/>
                    </a:lnTo>
                    <a:lnTo>
                      <a:pt x="502" y="732"/>
                    </a:lnTo>
                    <a:lnTo>
                      <a:pt x="497" y="73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3922560" y="3400560"/>
                <a:ext cx="165240" cy="230040"/>
              </a:xfrm>
              <a:custGeom>
                <a:avLst/>
                <a:gdLst/>
                <a:ahLst/>
                <a:rect l="l" t="t" r="r" b="b"/>
                <a:pathLst>
                  <a:path w="519" h="723">
                    <a:moveTo>
                      <a:pt x="488" y="723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30" y="1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19" y="693"/>
                    </a:lnTo>
                    <a:lnTo>
                      <a:pt x="514" y="697"/>
                    </a:lnTo>
                    <a:lnTo>
                      <a:pt x="510" y="701"/>
                    </a:lnTo>
                    <a:lnTo>
                      <a:pt x="507" y="704"/>
                    </a:lnTo>
                    <a:lnTo>
                      <a:pt x="503" y="708"/>
                    </a:lnTo>
                    <a:lnTo>
                      <a:pt x="499" y="711"/>
                    </a:lnTo>
                    <a:lnTo>
                      <a:pt x="495" y="715"/>
                    </a:lnTo>
                    <a:lnTo>
                      <a:pt x="491" y="718"/>
                    </a:lnTo>
                    <a:lnTo>
                      <a:pt x="488" y="723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3930480" y="3400560"/>
                <a:ext cx="162000" cy="225360"/>
              </a:xfrm>
              <a:custGeom>
                <a:avLst/>
                <a:gdLst/>
                <a:ahLst/>
                <a:rect l="l" t="t" r="r" b="b"/>
                <a:pathLst>
                  <a:path w="509" h="709">
                    <a:moveTo>
                      <a:pt x="478" y="709"/>
                    </a:moveTo>
                    <a:lnTo>
                      <a:pt x="0" y="2"/>
                    </a:lnTo>
                    <a:lnTo>
                      <a:pt x="5" y="2"/>
                    </a:lnTo>
                    <a:lnTo>
                      <a:pt x="11" y="1"/>
                    </a:lnTo>
                    <a:lnTo>
                      <a:pt x="18" y="1"/>
                    </a:lnTo>
                    <a:lnTo>
                      <a:pt x="24" y="1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09" y="680"/>
                    </a:lnTo>
                    <a:lnTo>
                      <a:pt x="505" y="684"/>
                    </a:lnTo>
                    <a:lnTo>
                      <a:pt x="501" y="687"/>
                    </a:lnTo>
                    <a:lnTo>
                      <a:pt x="497" y="691"/>
                    </a:lnTo>
                    <a:lnTo>
                      <a:pt x="494" y="694"/>
                    </a:lnTo>
                    <a:lnTo>
                      <a:pt x="489" y="698"/>
                    </a:lnTo>
                    <a:lnTo>
                      <a:pt x="485" y="702"/>
                    </a:lnTo>
                    <a:lnTo>
                      <a:pt x="482" y="705"/>
                    </a:lnTo>
                    <a:lnTo>
                      <a:pt x="478" y="709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3938760" y="3400560"/>
                <a:ext cx="158400" cy="220680"/>
              </a:xfrm>
              <a:custGeom>
                <a:avLst/>
                <a:gdLst/>
                <a:ahLst/>
                <a:rect l="l" t="t" r="r" b="b"/>
                <a:pathLst>
                  <a:path w="501" h="696">
                    <a:moveTo>
                      <a:pt x="470" y="696"/>
                    </a:moveTo>
                    <a:lnTo>
                      <a:pt x="0" y="3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1"/>
                    </a:lnTo>
                    <a:lnTo>
                      <a:pt x="30" y="1"/>
                    </a:lnTo>
                    <a:lnTo>
                      <a:pt x="37" y="1"/>
                    </a:lnTo>
                    <a:lnTo>
                      <a:pt x="43" y="1"/>
                    </a:lnTo>
                    <a:lnTo>
                      <a:pt x="48" y="0"/>
                    </a:lnTo>
                    <a:lnTo>
                      <a:pt x="501" y="668"/>
                    </a:lnTo>
                    <a:lnTo>
                      <a:pt x="497" y="671"/>
                    </a:lnTo>
                    <a:lnTo>
                      <a:pt x="493" y="675"/>
                    </a:lnTo>
                    <a:lnTo>
                      <a:pt x="489" y="678"/>
                    </a:lnTo>
                    <a:lnTo>
                      <a:pt x="485" y="683"/>
                    </a:lnTo>
                    <a:lnTo>
                      <a:pt x="481" y="686"/>
                    </a:lnTo>
                    <a:lnTo>
                      <a:pt x="477" y="689"/>
                    </a:lnTo>
                    <a:lnTo>
                      <a:pt x="474" y="693"/>
                    </a:lnTo>
                    <a:lnTo>
                      <a:pt x="470" y="696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3944880" y="3400560"/>
                <a:ext cx="157320" cy="215640"/>
              </a:xfrm>
              <a:custGeom>
                <a:avLst/>
                <a:gdLst/>
                <a:ahLst/>
                <a:rect l="l" t="t" r="r" b="b"/>
                <a:pathLst>
                  <a:path w="493" h="683">
                    <a:moveTo>
                      <a:pt x="461" y="683"/>
                    </a:moveTo>
                    <a:lnTo>
                      <a:pt x="0" y="3"/>
                    </a:lnTo>
                    <a:lnTo>
                      <a:pt x="6" y="2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4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493" y="655"/>
                    </a:lnTo>
                    <a:lnTo>
                      <a:pt x="489" y="658"/>
                    </a:lnTo>
                    <a:lnTo>
                      <a:pt x="484" y="662"/>
                    </a:lnTo>
                    <a:lnTo>
                      <a:pt x="480" y="666"/>
                    </a:lnTo>
                    <a:lnTo>
                      <a:pt x="477" y="669"/>
                    </a:lnTo>
                    <a:lnTo>
                      <a:pt x="473" y="672"/>
                    </a:lnTo>
                    <a:lnTo>
                      <a:pt x="469" y="676"/>
                    </a:lnTo>
                    <a:lnTo>
                      <a:pt x="465" y="679"/>
                    </a:lnTo>
                    <a:lnTo>
                      <a:pt x="461" y="683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3952800" y="3400560"/>
                <a:ext cx="154080" cy="210960"/>
              </a:xfrm>
              <a:custGeom>
                <a:avLst/>
                <a:gdLst/>
                <a:ahLst/>
                <a:rect l="l" t="t" r="r" b="b"/>
                <a:pathLst>
                  <a:path w="485" h="669">
                    <a:moveTo>
                      <a:pt x="453" y="669"/>
                    </a:moveTo>
                    <a:lnTo>
                      <a:pt x="0" y="1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85" y="642"/>
                    </a:lnTo>
                    <a:lnTo>
                      <a:pt x="480" y="645"/>
                    </a:lnTo>
                    <a:lnTo>
                      <a:pt x="476" y="648"/>
                    </a:lnTo>
                    <a:lnTo>
                      <a:pt x="473" y="652"/>
                    </a:lnTo>
                    <a:lnTo>
                      <a:pt x="469" y="655"/>
                    </a:lnTo>
                    <a:lnTo>
                      <a:pt x="465" y="658"/>
                    </a:lnTo>
                    <a:lnTo>
                      <a:pt x="460" y="662"/>
                    </a:lnTo>
                    <a:lnTo>
                      <a:pt x="457" y="666"/>
                    </a:lnTo>
                    <a:lnTo>
                      <a:pt x="453" y="669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3960720" y="3398760"/>
                <a:ext cx="150840" cy="209520"/>
              </a:xfrm>
              <a:custGeom>
                <a:avLst/>
                <a:gdLst/>
                <a:ahLst/>
                <a:rect l="l" t="t" r="r" b="b"/>
                <a:pathLst>
                  <a:path w="475" h="656">
                    <a:moveTo>
                      <a:pt x="444" y="656"/>
                    </a:moveTo>
                    <a:lnTo>
                      <a:pt x="0" y="1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75" y="629"/>
                    </a:lnTo>
                    <a:lnTo>
                      <a:pt x="472" y="632"/>
                    </a:lnTo>
                    <a:lnTo>
                      <a:pt x="468" y="635"/>
                    </a:lnTo>
                    <a:lnTo>
                      <a:pt x="464" y="638"/>
                    </a:lnTo>
                    <a:lnTo>
                      <a:pt x="460" y="643"/>
                    </a:lnTo>
                    <a:lnTo>
                      <a:pt x="455" y="646"/>
                    </a:lnTo>
                    <a:lnTo>
                      <a:pt x="451" y="649"/>
                    </a:lnTo>
                    <a:lnTo>
                      <a:pt x="448" y="652"/>
                    </a:lnTo>
                    <a:lnTo>
                      <a:pt x="444" y="65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3968640" y="3398760"/>
                <a:ext cx="149400" cy="204840"/>
              </a:xfrm>
              <a:custGeom>
                <a:avLst/>
                <a:gdLst/>
                <a:ahLst/>
                <a:rect l="l" t="t" r="r" b="b"/>
                <a:pathLst>
                  <a:path w="467" h="644">
                    <a:moveTo>
                      <a:pt x="435" y="644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12" y="1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67" y="616"/>
                    </a:lnTo>
                    <a:lnTo>
                      <a:pt x="463" y="619"/>
                    </a:lnTo>
                    <a:lnTo>
                      <a:pt x="459" y="623"/>
                    </a:lnTo>
                    <a:lnTo>
                      <a:pt x="455" y="627"/>
                    </a:lnTo>
                    <a:lnTo>
                      <a:pt x="450" y="630"/>
                    </a:lnTo>
                    <a:lnTo>
                      <a:pt x="446" y="633"/>
                    </a:lnTo>
                    <a:lnTo>
                      <a:pt x="443" y="636"/>
                    </a:lnTo>
                    <a:lnTo>
                      <a:pt x="439" y="640"/>
                    </a:lnTo>
                    <a:lnTo>
                      <a:pt x="435" y="64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3976560" y="3398760"/>
                <a:ext cx="146160" cy="200160"/>
              </a:xfrm>
              <a:custGeom>
                <a:avLst/>
                <a:gdLst/>
                <a:ahLst/>
                <a:rect l="l" t="t" r="r" b="b"/>
                <a:pathLst>
                  <a:path w="458" h="630">
                    <a:moveTo>
                      <a:pt x="425" y="630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58" y="603"/>
                    </a:lnTo>
                    <a:lnTo>
                      <a:pt x="454" y="607"/>
                    </a:lnTo>
                    <a:lnTo>
                      <a:pt x="451" y="610"/>
                    </a:lnTo>
                    <a:lnTo>
                      <a:pt x="446" y="613"/>
                    </a:lnTo>
                    <a:lnTo>
                      <a:pt x="442" y="616"/>
                    </a:lnTo>
                    <a:lnTo>
                      <a:pt x="438" y="619"/>
                    </a:lnTo>
                    <a:lnTo>
                      <a:pt x="434" y="623"/>
                    </a:lnTo>
                    <a:lnTo>
                      <a:pt x="430" y="627"/>
                    </a:lnTo>
                    <a:lnTo>
                      <a:pt x="425" y="63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3984480" y="3398760"/>
                <a:ext cx="142920" cy="195480"/>
              </a:xfrm>
              <a:custGeom>
                <a:avLst/>
                <a:gdLst/>
                <a:ahLst/>
                <a:rect l="l" t="t" r="r" b="b"/>
                <a:pathLst>
                  <a:path w="450" h="617">
                    <a:moveTo>
                      <a:pt x="417" y="617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4" y="1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50" y="591"/>
                    </a:lnTo>
                    <a:lnTo>
                      <a:pt x="446" y="594"/>
                    </a:lnTo>
                    <a:lnTo>
                      <a:pt x="441" y="597"/>
                    </a:lnTo>
                    <a:lnTo>
                      <a:pt x="437" y="601"/>
                    </a:lnTo>
                    <a:lnTo>
                      <a:pt x="433" y="604"/>
                    </a:lnTo>
                    <a:lnTo>
                      <a:pt x="429" y="607"/>
                    </a:lnTo>
                    <a:lnTo>
                      <a:pt x="425" y="611"/>
                    </a:lnTo>
                    <a:lnTo>
                      <a:pt x="421" y="614"/>
                    </a:lnTo>
                    <a:lnTo>
                      <a:pt x="417" y="617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3992400" y="3398760"/>
                <a:ext cx="141480" cy="192240"/>
              </a:xfrm>
              <a:custGeom>
                <a:avLst/>
                <a:gdLst/>
                <a:ahLst/>
                <a:rect l="l" t="t" r="r" b="b"/>
                <a:pathLst>
                  <a:path w="443" h="604">
                    <a:moveTo>
                      <a:pt x="409" y="604"/>
                    </a:moveTo>
                    <a:lnTo>
                      <a:pt x="0" y="1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443" y="577"/>
                    </a:lnTo>
                    <a:lnTo>
                      <a:pt x="438" y="582"/>
                    </a:lnTo>
                    <a:lnTo>
                      <a:pt x="434" y="585"/>
                    </a:lnTo>
                    <a:lnTo>
                      <a:pt x="430" y="588"/>
                    </a:lnTo>
                    <a:lnTo>
                      <a:pt x="426" y="591"/>
                    </a:lnTo>
                    <a:lnTo>
                      <a:pt x="422" y="594"/>
                    </a:lnTo>
                    <a:lnTo>
                      <a:pt x="417" y="597"/>
                    </a:lnTo>
                    <a:lnTo>
                      <a:pt x="413" y="601"/>
                    </a:lnTo>
                    <a:lnTo>
                      <a:pt x="409" y="604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4000680" y="3398760"/>
                <a:ext cx="137880" cy="187560"/>
              </a:xfrm>
              <a:custGeom>
                <a:avLst/>
                <a:gdLst/>
                <a:ahLst/>
                <a:rect l="l" t="t" r="r" b="b"/>
                <a:pathLst>
                  <a:path w="434" h="591">
                    <a:moveTo>
                      <a:pt x="401" y="591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434" y="565"/>
                    </a:lnTo>
                    <a:lnTo>
                      <a:pt x="429" y="568"/>
                    </a:lnTo>
                    <a:lnTo>
                      <a:pt x="426" y="571"/>
                    </a:lnTo>
                    <a:lnTo>
                      <a:pt x="422" y="574"/>
                    </a:lnTo>
                    <a:lnTo>
                      <a:pt x="418" y="577"/>
                    </a:lnTo>
                    <a:lnTo>
                      <a:pt x="413" y="582"/>
                    </a:lnTo>
                    <a:lnTo>
                      <a:pt x="409" y="585"/>
                    </a:lnTo>
                    <a:lnTo>
                      <a:pt x="405" y="588"/>
                    </a:lnTo>
                    <a:lnTo>
                      <a:pt x="401" y="591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4008600" y="3398760"/>
                <a:ext cx="134640" cy="182520"/>
              </a:xfrm>
              <a:custGeom>
                <a:avLst/>
                <a:gdLst/>
                <a:ahLst/>
                <a:rect l="l" t="t" r="r" b="b"/>
                <a:pathLst>
                  <a:path w="424" h="578">
                    <a:moveTo>
                      <a:pt x="392" y="578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12" y="1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24" y="553"/>
                    </a:lnTo>
                    <a:lnTo>
                      <a:pt x="420" y="556"/>
                    </a:lnTo>
                    <a:lnTo>
                      <a:pt x="416" y="560"/>
                    </a:lnTo>
                    <a:lnTo>
                      <a:pt x="412" y="563"/>
                    </a:lnTo>
                    <a:lnTo>
                      <a:pt x="407" y="566"/>
                    </a:lnTo>
                    <a:lnTo>
                      <a:pt x="403" y="569"/>
                    </a:lnTo>
                    <a:lnTo>
                      <a:pt x="400" y="572"/>
                    </a:lnTo>
                    <a:lnTo>
                      <a:pt x="396" y="576"/>
                    </a:lnTo>
                    <a:lnTo>
                      <a:pt x="392" y="57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4016520" y="3398760"/>
                <a:ext cx="131760" cy="179640"/>
              </a:xfrm>
              <a:custGeom>
                <a:avLst/>
                <a:gdLst/>
                <a:ahLst/>
                <a:rect l="l" t="t" r="r" b="b"/>
                <a:pathLst>
                  <a:path w="416" h="566">
                    <a:moveTo>
                      <a:pt x="383" y="566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16" y="541"/>
                    </a:lnTo>
                    <a:lnTo>
                      <a:pt x="412" y="544"/>
                    </a:lnTo>
                    <a:lnTo>
                      <a:pt x="408" y="547"/>
                    </a:lnTo>
                    <a:lnTo>
                      <a:pt x="403" y="550"/>
                    </a:lnTo>
                    <a:lnTo>
                      <a:pt x="399" y="553"/>
                    </a:lnTo>
                    <a:lnTo>
                      <a:pt x="395" y="556"/>
                    </a:lnTo>
                    <a:lnTo>
                      <a:pt x="391" y="560"/>
                    </a:lnTo>
                    <a:lnTo>
                      <a:pt x="387" y="563"/>
                    </a:lnTo>
                    <a:lnTo>
                      <a:pt x="383" y="566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4024440" y="3398760"/>
                <a:ext cx="129960" cy="174600"/>
              </a:xfrm>
              <a:custGeom>
                <a:avLst/>
                <a:gdLst/>
                <a:ahLst/>
                <a:rect l="l" t="t" r="r" b="b"/>
                <a:pathLst>
                  <a:path w="409" h="553">
                    <a:moveTo>
                      <a:pt x="374" y="55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409" y="528"/>
                    </a:lnTo>
                    <a:lnTo>
                      <a:pt x="404" y="531"/>
                    </a:lnTo>
                    <a:lnTo>
                      <a:pt x="399" y="534"/>
                    </a:lnTo>
                    <a:lnTo>
                      <a:pt x="395" y="537"/>
                    </a:lnTo>
                    <a:lnTo>
                      <a:pt x="391" y="541"/>
                    </a:lnTo>
                    <a:lnTo>
                      <a:pt x="387" y="544"/>
                    </a:lnTo>
                    <a:lnTo>
                      <a:pt x="383" y="547"/>
                    </a:lnTo>
                    <a:lnTo>
                      <a:pt x="378" y="550"/>
                    </a:lnTo>
                    <a:lnTo>
                      <a:pt x="374" y="553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4032360" y="3398760"/>
                <a:ext cx="126720" cy="171360"/>
              </a:xfrm>
              <a:custGeom>
                <a:avLst/>
                <a:gdLst/>
                <a:ahLst/>
                <a:rect l="l" t="t" r="r" b="b"/>
                <a:pathLst>
                  <a:path w="401" h="541">
                    <a:moveTo>
                      <a:pt x="366" y="541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1"/>
                    </a:lnTo>
                    <a:lnTo>
                      <a:pt x="38" y="1"/>
                    </a:lnTo>
                    <a:lnTo>
                      <a:pt x="44" y="1"/>
                    </a:lnTo>
                    <a:lnTo>
                      <a:pt x="51" y="1"/>
                    </a:lnTo>
                    <a:lnTo>
                      <a:pt x="401" y="516"/>
                    </a:lnTo>
                    <a:lnTo>
                      <a:pt x="396" y="520"/>
                    </a:lnTo>
                    <a:lnTo>
                      <a:pt x="392" y="523"/>
                    </a:lnTo>
                    <a:lnTo>
                      <a:pt x="388" y="526"/>
                    </a:lnTo>
                    <a:lnTo>
                      <a:pt x="383" y="529"/>
                    </a:lnTo>
                    <a:lnTo>
                      <a:pt x="379" y="532"/>
                    </a:lnTo>
                    <a:lnTo>
                      <a:pt x="374" y="534"/>
                    </a:lnTo>
                    <a:lnTo>
                      <a:pt x="370" y="537"/>
                    </a:lnTo>
                    <a:lnTo>
                      <a:pt x="366" y="541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4040280" y="3398760"/>
                <a:ext cx="125280" cy="166680"/>
              </a:xfrm>
              <a:custGeom>
                <a:avLst/>
                <a:gdLst/>
                <a:ahLst/>
                <a:rect l="l" t="t" r="r" b="b"/>
                <a:pathLst>
                  <a:path w="391" h="528">
                    <a:moveTo>
                      <a:pt x="358" y="528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4" y="1"/>
                    </a:lnTo>
                    <a:lnTo>
                      <a:pt x="50" y="1"/>
                    </a:lnTo>
                    <a:lnTo>
                      <a:pt x="391" y="504"/>
                    </a:lnTo>
                    <a:lnTo>
                      <a:pt x="387" y="507"/>
                    </a:lnTo>
                    <a:lnTo>
                      <a:pt x="383" y="510"/>
                    </a:lnTo>
                    <a:lnTo>
                      <a:pt x="379" y="513"/>
                    </a:lnTo>
                    <a:lnTo>
                      <a:pt x="375" y="516"/>
                    </a:lnTo>
                    <a:lnTo>
                      <a:pt x="370" y="520"/>
                    </a:lnTo>
                    <a:lnTo>
                      <a:pt x="366" y="523"/>
                    </a:lnTo>
                    <a:lnTo>
                      <a:pt x="361" y="526"/>
                    </a:lnTo>
                    <a:lnTo>
                      <a:pt x="358" y="528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4048200" y="3398760"/>
                <a:ext cx="122040" cy="163440"/>
              </a:xfrm>
              <a:custGeom>
                <a:avLst/>
                <a:gdLst/>
                <a:ahLst/>
                <a:rect l="l" t="t" r="r" b="b"/>
                <a:pathLst>
                  <a:path w="383" h="515">
                    <a:moveTo>
                      <a:pt x="350" y="515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383" y="491"/>
                    </a:lnTo>
                    <a:lnTo>
                      <a:pt x="379" y="494"/>
                    </a:lnTo>
                    <a:lnTo>
                      <a:pt x="375" y="498"/>
                    </a:lnTo>
                    <a:lnTo>
                      <a:pt x="371" y="501"/>
                    </a:lnTo>
                    <a:lnTo>
                      <a:pt x="366" y="503"/>
                    </a:lnTo>
                    <a:lnTo>
                      <a:pt x="362" y="506"/>
                    </a:lnTo>
                    <a:lnTo>
                      <a:pt x="358" y="509"/>
                    </a:lnTo>
                    <a:lnTo>
                      <a:pt x="354" y="512"/>
                    </a:lnTo>
                    <a:lnTo>
                      <a:pt x="350" y="5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4056120" y="3398760"/>
                <a:ext cx="120600" cy="160560"/>
              </a:xfrm>
              <a:custGeom>
                <a:avLst/>
                <a:gdLst/>
                <a:ahLst/>
                <a:rect l="l" t="t" r="r" b="b"/>
                <a:pathLst>
                  <a:path w="376" h="503">
                    <a:moveTo>
                      <a:pt x="341" y="503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3" y="1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1" y="1"/>
                    </a:lnTo>
                    <a:lnTo>
                      <a:pt x="376" y="480"/>
                    </a:lnTo>
                    <a:lnTo>
                      <a:pt x="372" y="482"/>
                    </a:lnTo>
                    <a:lnTo>
                      <a:pt x="368" y="485"/>
                    </a:lnTo>
                    <a:lnTo>
                      <a:pt x="362" y="488"/>
                    </a:lnTo>
                    <a:lnTo>
                      <a:pt x="358" y="491"/>
                    </a:lnTo>
                    <a:lnTo>
                      <a:pt x="354" y="494"/>
                    </a:lnTo>
                    <a:lnTo>
                      <a:pt x="350" y="498"/>
                    </a:lnTo>
                    <a:lnTo>
                      <a:pt x="346" y="500"/>
                    </a:lnTo>
                    <a:lnTo>
                      <a:pt x="341" y="503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4065480" y="3398760"/>
                <a:ext cx="115920" cy="155520"/>
              </a:xfrm>
              <a:custGeom>
                <a:avLst/>
                <a:gdLst/>
                <a:ahLst/>
                <a:rect l="l" t="t" r="r" b="b"/>
                <a:pathLst>
                  <a:path w="367" h="491">
                    <a:moveTo>
                      <a:pt x="332" y="491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2" y="1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2" y="2"/>
                    </a:lnTo>
                    <a:lnTo>
                      <a:pt x="367" y="467"/>
                    </a:lnTo>
                    <a:lnTo>
                      <a:pt x="363" y="470"/>
                    </a:lnTo>
                    <a:lnTo>
                      <a:pt x="359" y="473"/>
                    </a:lnTo>
                    <a:lnTo>
                      <a:pt x="354" y="477"/>
                    </a:lnTo>
                    <a:lnTo>
                      <a:pt x="350" y="480"/>
                    </a:lnTo>
                    <a:lnTo>
                      <a:pt x="346" y="483"/>
                    </a:lnTo>
                    <a:lnTo>
                      <a:pt x="342" y="485"/>
                    </a:lnTo>
                    <a:lnTo>
                      <a:pt x="336" y="488"/>
                    </a:lnTo>
                    <a:lnTo>
                      <a:pt x="332" y="491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4073400" y="3398760"/>
                <a:ext cx="114480" cy="152640"/>
              </a:xfrm>
              <a:custGeom>
                <a:avLst/>
                <a:gdLst/>
                <a:ahLst/>
                <a:rect l="l" t="t" r="r" b="b"/>
                <a:pathLst>
                  <a:path w="360" h="479">
                    <a:moveTo>
                      <a:pt x="325" y="479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0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9" y="1"/>
                    </a:lnTo>
                    <a:lnTo>
                      <a:pt x="46" y="1"/>
                    </a:lnTo>
                    <a:lnTo>
                      <a:pt x="53" y="1"/>
                    </a:lnTo>
                    <a:lnTo>
                      <a:pt x="360" y="455"/>
                    </a:lnTo>
                    <a:lnTo>
                      <a:pt x="356" y="458"/>
                    </a:lnTo>
                    <a:lnTo>
                      <a:pt x="351" y="461"/>
                    </a:lnTo>
                    <a:lnTo>
                      <a:pt x="346" y="464"/>
                    </a:lnTo>
                    <a:lnTo>
                      <a:pt x="342" y="467"/>
                    </a:lnTo>
                    <a:lnTo>
                      <a:pt x="338" y="469"/>
                    </a:lnTo>
                    <a:lnTo>
                      <a:pt x="334" y="472"/>
                    </a:lnTo>
                    <a:lnTo>
                      <a:pt x="329" y="476"/>
                    </a:lnTo>
                    <a:lnTo>
                      <a:pt x="325" y="479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4081320" y="3398760"/>
                <a:ext cx="111240" cy="147600"/>
              </a:xfrm>
              <a:custGeom>
                <a:avLst/>
                <a:gdLst/>
                <a:ahLst/>
                <a:rect l="l" t="t" r="r" b="b"/>
                <a:pathLst>
                  <a:path w="351" h="465">
                    <a:moveTo>
                      <a:pt x="315" y="465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1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1" y="1"/>
                    </a:lnTo>
                    <a:lnTo>
                      <a:pt x="351" y="442"/>
                    </a:lnTo>
                    <a:lnTo>
                      <a:pt x="345" y="445"/>
                    </a:lnTo>
                    <a:lnTo>
                      <a:pt x="341" y="448"/>
                    </a:lnTo>
                    <a:lnTo>
                      <a:pt x="337" y="452"/>
                    </a:lnTo>
                    <a:lnTo>
                      <a:pt x="333" y="454"/>
                    </a:lnTo>
                    <a:lnTo>
                      <a:pt x="329" y="457"/>
                    </a:lnTo>
                    <a:lnTo>
                      <a:pt x="324" y="460"/>
                    </a:lnTo>
                    <a:lnTo>
                      <a:pt x="319" y="463"/>
                    </a:lnTo>
                    <a:lnTo>
                      <a:pt x="315" y="46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4089240" y="3398760"/>
                <a:ext cx="108000" cy="14472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307" y="454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2" y="2"/>
                    </a:lnTo>
                    <a:lnTo>
                      <a:pt x="39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341" y="432"/>
                    </a:lnTo>
                    <a:lnTo>
                      <a:pt x="337" y="434"/>
                    </a:lnTo>
                    <a:lnTo>
                      <a:pt x="333" y="437"/>
                    </a:lnTo>
                    <a:lnTo>
                      <a:pt x="329" y="440"/>
                    </a:lnTo>
                    <a:lnTo>
                      <a:pt x="325" y="443"/>
                    </a:lnTo>
                    <a:lnTo>
                      <a:pt x="319" y="445"/>
                    </a:lnTo>
                    <a:lnTo>
                      <a:pt x="315" y="448"/>
                    </a:lnTo>
                    <a:lnTo>
                      <a:pt x="311" y="452"/>
                    </a:lnTo>
                    <a:lnTo>
                      <a:pt x="307" y="45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4097160" y="3400560"/>
                <a:ext cx="106560" cy="139680"/>
              </a:xfrm>
              <a:custGeom>
                <a:avLst/>
                <a:gdLst/>
                <a:ahLst/>
                <a:rect l="l" t="t" r="r" b="b"/>
                <a:pathLst>
                  <a:path w="334" h="441">
                    <a:moveTo>
                      <a:pt x="300" y="441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33" y="2"/>
                    </a:lnTo>
                    <a:lnTo>
                      <a:pt x="39" y="2"/>
                    </a:lnTo>
                    <a:lnTo>
                      <a:pt x="46" y="2"/>
                    </a:lnTo>
                    <a:lnTo>
                      <a:pt x="53" y="3"/>
                    </a:lnTo>
                    <a:lnTo>
                      <a:pt x="334" y="419"/>
                    </a:lnTo>
                    <a:lnTo>
                      <a:pt x="330" y="422"/>
                    </a:lnTo>
                    <a:lnTo>
                      <a:pt x="326" y="424"/>
                    </a:lnTo>
                    <a:lnTo>
                      <a:pt x="321" y="427"/>
                    </a:lnTo>
                    <a:lnTo>
                      <a:pt x="316" y="431"/>
                    </a:lnTo>
                    <a:lnTo>
                      <a:pt x="312" y="433"/>
                    </a:lnTo>
                    <a:lnTo>
                      <a:pt x="308" y="436"/>
                    </a:lnTo>
                    <a:lnTo>
                      <a:pt x="304" y="439"/>
                    </a:lnTo>
                    <a:lnTo>
                      <a:pt x="300" y="441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4105440" y="3400560"/>
                <a:ext cx="104760" cy="136440"/>
              </a:xfrm>
              <a:custGeom>
                <a:avLst/>
                <a:gdLst/>
                <a:ahLst/>
                <a:rect l="l" t="t" r="r" b="b"/>
                <a:pathLst>
                  <a:path w="326" h="430">
                    <a:moveTo>
                      <a:pt x="290" y="430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7" y="2"/>
                    </a:lnTo>
                    <a:lnTo>
                      <a:pt x="33" y="2"/>
                    </a:lnTo>
                    <a:lnTo>
                      <a:pt x="39" y="2"/>
                    </a:lnTo>
                    <a:lnTo>
                      <a:pt x="47" y="3"/>
                    </a:lnTo>
                    <a:lnTo>
                      <a:pt x="53" y="3"/>
                    </a:lnTo>
                    <a:lnTo>
                      <a:pt x="326" y="406"/>
                    </a:lnTo>
                    <a:lnTo>
                      <a:pt x="322" y="410"/>
                    </a:lnTo>
                    <a:lnTo>
                      <a:pt x="318" y="413"/>
                    </a:lnTo>
                    <a:lnTo>
                      <a:pt x="313" y="415"/>
                    </a:lnTo>
                    <a:lnTo>
                      <a:pt x="308" y="418"/>
                    </a:lnTo>
                    <a:lnTo>
                      <a:pt x="304" y="421"/>
                    </a:lnTo>
                    <a:lnTo>
                      <a:pt x="300" y="423"/>
                    </a:lnTo>
                    <a:lnTo>
                      <a:pt x="296" y="426"/>
                    </a:lnTo>
                    <a:lnTo>
                      <a:pt x="290" y="43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4114800" y="3400560"/>
                <a:ext cx="100080" cy="131760"/>
              </a:xfrm>
              <a:custGeom>
                <a:avLst/>
                <a:gdLst/>
                <a:ahLst/>
                <a:rect l="l" t="t" r="r" b="b"/>
                <a:pathLst>
                  <a:path w="317" h="416">
                    <a:moveTo>
                      <a:pt x="281" y="41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32" y="1"/>
                    </a:lnTo>
                    <a:lnTo>
                      <a:pt x="39" y="2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317" y="394"/>
                    </a:lnTo>
                    <a:lnTo>
                      <a:pt x="313" y="396"/>
                    </a:lnTo>
                    <a:lnTo>
                      <a:pt x="309" y="399"/>
                    </a:lnTo>
                    <a:lnTo>
                      <a:pt x="303" y="402"/>
                    </a:lnTo>
                    <a:lnTo>
                      <a:pt x="299" y="404"/>
                    </a:lnTo>
                    <a:lnTo>
                      <a:pt x="295" y="408"/>
                    </a:lnTo>
                    <a:lnTo>
                      <a:pt x="291" y="411"/>
                    </a:lnTo>
                    <a:lnTo>
                      <a:pt x="286" y="413"/>
                    </a:lnTo>
                    <a:lnTo>
                      <a:pt x="281" y="4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4122720" y="3400560"/>
                <a:ext cx="98280" cy="128520"/>
              </a:xfrm>
              <a:custGeom>
                <a:avLst/>
                <a:gdLst/>
                <a:ahLst/>
                <a:rect l="l" t="t" r="r" b="b"/>
                <a:pathLst>
                  <a:path w="309" h="403">
                    <a:moveTo>
                      <a:pt x="273" y="40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33" y="2"/>
                    </a:lnTo>
                    <a:lnTo>
                      <a:pt x="39" y="2"/>
                    </a:lnTo>
                    <a:lnTo>
                      <a:pt x="46" y="3"/>
                    </a:lnTo>
                    <a:lnTo>
                      <a:pt x="53" y="3"/>
                    </a:lnTo>
                    <a:lnTo>
                      <a:pt x="309" y="381"/>
                    </a:lnTo>
                    <a:lnTo>
                      <a:pt x="305" y="385"/>
                    </a:lnTo>
                    <a:lnTo>
                      <a:pt x="301" y="388"/>
                    </a:lnTo>
                    <a:lnTo>
                      <a:pt x="295" y="390"/>
                    </a:lnTo>
                    <a:lnTo>
                      <a:pt x="291" y="393"/>
                    </a:lnTo>
                    <a:lnTo>
                      <a:pt x="287" y="395"/>
                    </a:lnTo>
                    <a:lnTo>
                      <a:pt x="282" y="398"/>
                    </a:lnTo>
                    <a:lnTo>
                      <a:pt x="277" y="401"/>
                    </a:lnTo>
                    <a:lnTo>
                      <a:pt x="273" y="403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4130640" y="3402000"/>
                <a:ext cx="95400" cy="123840"/>
              </a:xfrm>
              <a:custGeom>
                <a:avLst/>
                <a:gdLst/>
                <a:ahLst/>
                <a:rect l="l" t="t" r="r" b="b"/>
                <a:pathLst>
                  <a:path w="301" h="392">
                    <a:moveTo>
                      <a:pt x="265" y="392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7" y="2"/>
                    </a:lnTo>
                    <a:lnTo>
                      <a:pt x="33" y="2"/>
                    </a:lnTo>
                    <a:lnTo>
                      <a:pt x="40" y="3"/>
                    </a:lnTo>
                    <a:lnTo>
                      <a:pt x="47" y="3"/>
                    </a:lnTo>
                    <a:lnTo>
                      <a:pt x="53" y="5"/>
                    </a:lnTo>
                    <a:lnTo>
                      <a:pt x="301" y="370"/>
                    </a:lnTo>
                    <a:lnTo>
                      <a:pt x="297" y="373"/>
                    </a:lnTo>
                    <a:lnTo>
                      <a:pt x="292" y="375"/>
                    </a:lnTo>
                    <a:lnTo>
                      <a:pt x="287" y="378"/>
                    </a:lnTo>
                    <a:lnTo>
                      <a:pt x="283" y="380"/>
                    </a:lnTo>
                    <a:lnTo>
                      <a:pt x="279" y="384"/>
                    </a:lnTo>
                    <a:lnTo>
                      <a:pt x="275" y="387"/>
                    </a:lnTo>
                    <a:lnTo>
                      <a:pt x="269" y="389"/>
                    </a:lnTo>
                    <a:lnTo>
                      <a:pt x="265" y="392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4140360" y="3402000"/>
                <a:ext cx="91800" cy="120600"/>
              </a:xfrm>
              <a:custGeom>
                <a:avLst/>
                <a:gdLst/>
                <a:ahLst/>
                <a:rect l="l" t="t" r="r" b="b"/>
                <a:pathLst>
                  <a:path w="292" h="378">
                    <a:moveTo>
                      <a:pt x="256" y="37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6" y="3"/>
                    </a:lnTo>
                    <a:lnTo>
                      <a:pt x="33" y="3"/>
                    </a:lnTo>
                    <a:lnTo>
                      <a:pt x="39" y="3"/>
                    </a:lnTo>
                    <a:lnTo>
                      <a:pt x="46" y="4"/>
                    </a:lnTo>
                    <a:lnTo>
                      <a:pt x="53" y="4"/>
                    </a:lnTo>
                    <a:lnTo>
                      <a:pt x="292" y="357"/>
                    </a:lnTo>
                    <a:lnTo>
                      <a:pt x="287" y="361"/>
                    </a:lnTo>
                    <a:lnTo>
                      <a:pt x="283" y="363"/>
                    </a:lnTo>
                    <a:lnTo>
                      <a:pt x="278" y="366"/>
                    </a:lnTo>
                    <a:lnTo>
                      <a:pt x="274" y="368"/>
                    </a:lnTo>
                    <a:lnTo>
                      <a:pt x="270" y="371"/>
                    </a:lnTo>
                    <a:lnTo>
                      <a:pt x="265" y="373"/>
                    </a:lnTo>
                    <a:lnTo>
                      <a:pt x="260" y="376"/>
                    </a:lnTo>
                    <a:lnTo>
                      <a:pt x="256" y="378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4148280" y="340344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285" h="365">
                    <a:moveTo>
                      <a:pt x="248" y="365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7" y="1"/>
                    </a:lnTo>
                    <a:lnTo>
                      <a:pt x="33" y="2"/>
                    </a:lnTo>
                    <a:lnTo>
                      <a:pt x="40" y="2"/>
                    </a:lnTo>
                    <a:lnTo>
                      <a:pt x="47" y="3"/>
                    </a:lnTo>
                    <a:lnTo>
                      <a:pt x="53" y="3"/>
                    </a:lnTo>
                    <a:lnTo>
                      <a:pt x="285" y="344"/>
                    </a:lnTo>
                    <a:lnTo>
                      <a:pt x="279" y="346"/>
                    </a:lnTo>
                    <a:lnTo>
                      <a:pt x="275" y="349"/>
                    </a:lnTo>
                    <a:lnTo>
                      <a:pt x="271" y="351"/>
                    </a:lnTo>
                    <a:lnTo>
                      <a:pt x="266" y="354"/>
                    </a:lnTo>
                    <a:lnTo>
                      <a:pt x="261" y="357"/>
                    </a:lnTo>
                    <a:lnTo>
                      <a:pt x="257" y="360"/>
                    </a:lnTo>
                    <a:lnTo>
                      <a:pt x="252" y="363"/>
                    </a:lnTo>
                    <a:lnTo>
                      <a:pt x="248" y="36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4156200" y="3403440"/>
                <a:ext cx="87120" cy="111240"/>
              </a:xfrm>
              <a:custGeom>
                <a:avLst/>
                <a:gdLst/>
                <a:ahLst/>
                <a:rect l="l" t="t" r="r" b="b"/>
                <a:pathLst>
                  <a:path w="275" h="353">
                    <a:moveTo>
                      <a:pt x="239" y="353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6" y="2"/>
                    </a:lnTo>
                    <a:lnTo>
                      <a:pt x="33" y="3"/>
                    </a:lnTo>
                    <a:lnTo>
                      <a:pt x="40" y="4"/>
                    </a:lnTo>
                    <a:lnTo>
                      <a:pt x="46" y="4"/>
                    </a:lnTo>
                    <a:lnTo>
                      <a:pt x="54" y="5"/>
                    </a:lnTo>
                    <a:lnTo>
                      <a:pt x="275" y="332"/>
                    </a:lnTo>
                    <a:lnTo>
                      <a:pt x="271" y="335"/>
                    </a:lnTo>
                    <a:lnTo>
                      <a:pt x="266" y="338"/>
                    </a:lnTo>
                    <a:lnTo>
                      <a:pt x="262" y="340"/>
                    </a:lnTo>
                    <a:lnTo>
                      <a:pt x="258" y="343"/>
                    </a:lnTo>
                    <a:lnTo>
                      <a:pt x="252" y="345"/>
                    </a:lnTo>
                    <a:lnTo>
                      <a:pt x="248" y="348"/>
                    </a:lnTo>
                    <a:lnTo>
                      <a:pt x="244" y="350"/>
                    </a:lnTo>
                    <a:lnTo>
                      <a:pt x="239" y="353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4164120" y="3403440"/>
                <a:ext cx="85680" cy="108000"/>
              </a:xfrm>
              <a:custGeom>
                <a:avLst/>
                <a:gdLst/>
                <a:ahLst/>
                <a:rect l="l" t="t" r="r" b="b"/>
                <a:pathLst>
                  <a:path w="267" h="341">
                    <a:moveTo>
                      <a:pt x="232" y="341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8" y="3"/>
                    </a:lnTo>
                    <a:lnTo>
                      <a:pt x="34" y="3"/>
                    </a:lnTo>
                    <a:lnTo>
                      <a:pt x="40" y="4"/>
                    </a:lnTo>
                    <a:lnTo>
                      <a:pt x="48" y="4"/>
                    </a:lnTo>
                    <a:lnTo>
                      <a:pt x="54" y="5"/>
                    </a:lnTo>
                    <a:lnTo>
                      <a:pt x="267" y="320"/>
                    </a:lnTo>
                    <a:lnTo>
                      <a:pt x="263" y="322"/>
                    </a:lnTo>
                    <a:lnTo>
                      <a:pt x="259" y="325"/>
                    </a:lnTo>
                    <a:lnTo>
                      <a:pt x="254" y="327"/>
                    </a:lnTo>
                    <a:lnTo>
                      <a:pt x="249" y="330"/>
                    </a:lnTo>
                    <a:lnTo>
                      <a:pt x="244" y="333"/>
                    </a:lnTo>
                    <a:lnTo>
                      <a:pt x="240" y="336"/>
                    </a:lnTo>
                    <a:lnTo>
                      <a:pt x="236" y="338"/>
                    </a:lnTo>
                    <a:lnTo>
                      <a:pt x="232" y="341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4173480" y="3405240"/>
                <a:ext cx="82440" cy="102960"/>
              </a:xfrm>
              <a:custGeom>
                <a:avLst/>
                <a:gdLst/>
                <a:ahLst/>
                <a:rect l="l" t="t" r="r" b="b"/>
                <a:pathLst>
                  <a:path w="258" h="327">
                    <a:moveTo>
                      <a:pt x="221" y="32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1"/>
                    </a:lnTo>
                    <a:lnTo>
                      <a:pt x="20" y="1"/>
                    </a:lnTo>
                    <a:lnTo>
                      <a:pt x="26" y="2"/>
                    </a:lnTo>
                    <a:lnTo>
                      <a:pt x="33" y="3"/>
                    </a:lnTo>
                    <a:lnTo>
                      <a:pt x="40" y="3"/>
                    </a:lnTo>
                    <a:lnTo>
                      <a:pt x="47" y="4"/>
                    </a:lnTo>
                    <a:lnTo>
                      <a:pt x="53" y="4"/>
                    </a:lnTo>
                    <a:lnTo>
                      <a:pt x="258" y="306"/>
                    </a:lnTo>
                    <a:lnTo>
                      <a:pt x="253" y="309"/>
                    </a:lnTo>
                    <a:lnTo>
                      <a:pt x="249" y="312"/>
                    </a:lnTo>
                    <a:lnTo>
                      <a:pt x="243" y="314"/>
                    </a:lnTo>
                    <a:lnTo>
                      <a:pt x="239" y="317"/>
                    </a:lnTo>
                    <a:lnTo>
                      <a:pt x="235" y="319"/>
                    </a:lnTo>
                    <a:lnTo>
                      <a:pt x="231" y="322"/>
                    </a:lnTo>
                    <a:lnTo>
                      <a:pt x="226" y="324"/>
                    </a:lnTo>
                    <a:lnTo>
                      <a:pt x="221" y="32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4181400" y="3405240"/>
                <a:ext cx="79560" cy="100080"/>
              </a:xfrm>
              <a:custGeom>
                <a:avLst/>
                <a:gdLst/>
                <a:ahLst/>
                <a:rect l="l" t="t" r="r" b="b"/>
                <a:pathLst>
                  <a:path w="250" h="315">
                    <a:moveTo>
                      <a:pt x="213" y="315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7" y="2"/>
                    </a:lnTo>
                    <a:lnTo>
                      <a:pt x="34" y="3"/>
                    </a:lnTo>
                    <a:lnTo>
                      <a:pt x="41" y="4"/>
                    </a:lnTo>
                    <a:lnTo>
                      <a:pt x="47" y="4"/>
                    </a:lnTo>
                    <a:lnTo>
                      <a:pt x="55" y="5"/>
                    </a:lnTo>
                    <a:lnTo>
                      <a:pt x="250" y="294"/>
                    </a:lnTo>
                    <a:lnTo>
                      <a:pt x="246" y="297"/>
                    </a:lnTo>
                    <a:lnTo>
                      <a:pt x="241" y="299"/>
                    </a:lnTo>
                    <a:lnTo>
                      <a:pt x="236" y="302"/>
                    </a:lnTo>
                    <a:lnTo>
                      <a:pt x="232" y="304"/>
                    </a:lnTo>
                    <a:lnTo>
                      <a:pt x="227" y="307"/>
                    </a:lnTo>
                    <a:lnTo>
                      <a:pt x="223" y="310"/>
                    </a:lnTo>
                    <a:lnTo>
                      <a:pt x="219" y="312"/>
                    </a:lnTo>
                    <a:lnTo>
                      <a:pt x="213" y="3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4191120" y="3406680"/>
                <a:ext cx="75960" cy="95400"/>
              </a:xfrm>
              <a:custGeom>
                <a:avLst/>
                <a:gdLst/>
                <a:ahLst/>
                <a:rect l="l" t="t" r="r" b="b"/>
                <a:pathLst>
                  <a:path w="242" h="302">
                    <a:moveTo>
                      <a:pt x="205" y="302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8" y="3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5"/>
                    </a:lnTo>
                    <a:lnTo>
                      <a:pt x="55" y="6"/>
                    </a:lnTo>
                    <a:lnTo>
                      <a:pt x="242" y="281"/>
                    </a:lnTo>
                    <a:lnTo>
                      <a:pt x="237" y="285"/>
                    </a:lnTo>
                    <a:lnTo>
                      <a:pt x="232" y="287"/>
                    </a:lnTo>
                    <a:lnTo>
                      <a:pt x="227" y="290"/>
                    </a:lnTo>
                    <a:lnTo>
                      <a:pt x="223" y="292"/>
                    </a:lnTo>
                    <a:lnTo>
                      <a:pt x="219" y="295"/>
                    </a:lnTo>
                    <a:lnTo>
                      <a:pt x="214" y="297"/>
                    </a:lnTo>
                    <a:lnTo>
                      <a:pt x="209" y="299"/>
                    </a:lnTo>
                    <a:lnTo>
                      <a:pt x="205" y="302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4199040" y="3406680"/>
                <a:ext cx="74520" cy="92160"/>
              </a:xfrm>
              <a:custGeom>
                <a:avLst/>
                <a:gdLst/>
                <a:ahLst/>
                <a:rect l="l" t="t" r="r" b="b"/>
                <a:pathLst>
                  <a:path w="232" h="289">
                    <a:moveTo>
                      <a:pt x="195" y="289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7" y="3"/>
                    </a:lnTo>
                    <a:lnTo>
                      <a:pt x="33" y="3"/>
                    </a:lnTo>
                    <a:lnTo>
                      <a:pt x="41" y="4"/>
                    </a:lnTo>
                    <a:lnTo>
                      <a:pt x="47" y="5"/>
                    </a:lnTo>
                    <a:lnTo>
                      <a:pt x="54" y="6"/>
                    </a:lnTo>
                    <a:lnTo>
                      <a:pt x="232" y="269"/>
                    </a:lnTo>
                    <a:lnTo>
                      <a:pt x="228" y="271"/>
                    </a:lnTo>
                    <a:lnTo>
                      <a:pt x="222" y="274"/>
                    </a:lnTo>
                    <a:lnTo>
                      <a:pt x="218" y="276"/>
                    </a:lnTo>
                    <a:lnTo>
                      <a:pt x="214" y="278"/>
                    </a:lnTo>
                    <a:lnTo>
                      <a:pt x="209" y="282"/>
                    </a:lnTo>
                    <a:lnTo>
                      <a:pt x="204" y="284"/>
                    </a:lnTo>
                    <a:lnTo>
                      <a:pt x="199" y="287"/>
                    </a:lnTo>
                    <a:lnTo>
                      <a:pt x="195" y="289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4208400" y="3408480"/>
                <a:ext cx="69840" cy="87120"/>
              </a:xfrm>
              <a:custGeom>
                <a:avLst/>
                <a:gdLst/>
                <a:ahLst/>
                <a:rect l="l" t="t" r="r" b="b"/>
                <a:pathLst>
                  <a:path w="224" h="275">
                    <a:moveTo>
                      <a:pt x="187" y="275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7" y="3"/>
                    </a:lnTo>
                    <a:lnTo>
                      <a:pt x="34" y="3"/>
                    </a:lnTo>
                    <a:lnTo>
                      <a:pt x="41" y="5"/>
                    </a:lnTo>
                    <a:lnTo>
                      <a:pt x="47" y="6"/>
                    </a:lnTo>
                    <a:lnTo>
                      <a:pt x="55" y="7"/>
                    </a:lnTo>
                    <a:lnTo>
                      <a:pt x="224" y="255"/>
                    </a:lnTo>
                    <a:lnTo>
                      <a:pt x="218" y="259"/>
                    </a:lnTo>
                    <a:lnTo>
                      <a:pt x="214" y="261"/>
                    </a:lnTo>
                    <a:lnTo>
                      <a:pt x="209" y="264"/>
                    </a:lnTo>
                    <a:lnTo>
                      <a:pt x="205" y="266"/>
                    </a:lnTo>
                    <a:lnTo>
                      <a:pt x="201" y="268"/>
                    </a:lnTo>
                    <a:lnTo>
                      <a:pt x="195" y="271"/>
                    </a:lnTo>
                    <a:lnTo>
                      <a:pt x="191" y="273"/>
                    </a:lnTo>
                    <a:lnTo>
                      <a:pt x="187" y="275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4216320" y="3408480"/>
                <a:ext cx="68400" cy="83880"/>
              </a:xfrm>
              <a:custGeom>
                <a:avLst/>
                <a:gdLst/>
                <a:ahLst/>
                <a:rect l="l" t="t" r="r" b="b"/>
                <a:pathLst>
                  <a:path w="215" h="263">
                    <a:moveTo>
                      <a:pt x="178" y="263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5"/>
                    </a:lnTo>
                    <a:lnTo>
                      <a:pt x="49" y="6"/>
                    </a:lnTo>
                    <a:lnTo>
                      <a:pt x="55" y="7"/>
                    </a:lnTo>
                    <a:lnTo>
                      <a:pt x="215" y="243"/>
                    </a:lnTo>
                    <a:lnTo>
                      <a:pt x="210" y="245"/>
                    </a:lnTo>
                    <a:lnTo>
                      <a:pt x="206" y="248"/>
                    </a:lnTo>
                    <a:lnTo>
                      <a:pt x="201" y="250"/>
                    </a:lnTo>
                    <a:lnTo>
                      <a:pt x="197" y="252"/>
                    </a:lnTo>
                    <a:lnTo>
                      <a:pt x="191" y="256"/>
                    </a:lnTo>
                    <a:lnTo>
                      <a:pt x="187" y="258"/>
                    </a:lnTo>
                    <a:lnTo>
                      <a:pt x="183" y="260"/>
                    </a:lnTo>
                    <a:lnTo>
                      <a:pt x="178" y="263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4226040" y="3409920"/>
                <a:ext cx="64800" cy="79560"/>
              </a:xfrm>
              <a:custGeom>
                <a:avLst/>
                <a:gdLst/>
                <a:ahLst/>
                <a:rect l="l" t="t" r="r" b="b"/>
                <a:pathLst>
                  <a:path w="205" h="248">
                    <a:moveTo>
                      <a:pt x="169" y="24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21" y="2"/>
                    </a:lnTo>
                    <a:lnTo>
                      <a:pt x="27" y="3"/>
                    </a:lnTo>
                    <a:lnTo>
                      <a:pt x="34" y="4"/>
                    </a:lnTo>
                    <a:lnTo>
                      <a:pt x="41" y="5"/>
                    </a:lnTo>
                    <a:lnTo>
                      <a:pt x="48" y="5"/>
                    </a:lnTo>
                    <a:lnTo>
                      <a:pt x="55" y="6"/>
                    </a:lnTo>
                    <a:lnTo>
                      <a:pt x="205" y="229"/>
                    </a:lnTo>
                    <a:lnTo>
                      <a:pt x="201" y="232"/>
                    </a:lnTo>
                    <a:lnTo>
                      <a:pt x="196" y="234"/>
                    </a:lnTo>
                    <a:lnTo>
                      <a:pt x="192" y="236"/>
                    </a:lnTo>
                    <a:lnTo>
                      <a:pt x="187" y="239"/>
                    </a:lnTo>
                    <a:lnTo>
                      <a:pt x="182" y="241"/>
                    </a:lnTo>
                    <a:lnTo>
                      <a:pt x="178" y="244"/>
                    </a:lnTo>
                    <a:lnTo>
                      <a:pt x="173" y="246"/>
                    </a:lnTo>
                    <a:lnTo>
                      <a:pt x="169" y="24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4233960" y="3411360"/>
                <a:ext cx="61920" cy="74880"/>
              </a:xfrm>
              <a:custGeom>
                <a:avLst/>
                <a:gdLst/>
                <a:ahLst/>
                <a:rect l="l" t="t" r="r" b="b"/>
                <a:pathLst>
                  <a:path w="197" h="236">
                    <a:moveTo>
                      <a:pt x="160" y="236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8" y="3"/>
                    </a:lnTo>
                    <a:lnTo>
                      <a:pt x="35" y="4"/>
                    </a:lnTo>
                    <a:lnTo>
                      <a:pt x="42" y="5"/>
                    </a:lnTo>
                    <a:lnTo>
                      <a:pt x="48" y="6"/>
                    </a:lnTo>
                    <a:lnTo>
                      <a:pt x="56" y="7"/>
                    </a:lnTo>
                    <a:lnTo>
                      <a:pt x="197" y="216"/>
                    </a:lnTo>
                    <a:lnTo>
                      <a:pt x="193" y="218"/>
                    </a:lnTo>
                    <a:lnTo>
                      <a:pt x="188" y="221"/>
                    </a:lnTo>
                    <a:lnTo>
                      <a:pt x="184" y="223"/>
                    </a:lnTo>
                    <a:lnTo>
                      <a:pt x="178" y="226"/>
                    </a:lnTo>
                    <a:lnTo>
                      <a:pt x="174" y="229"/>
                    </a:lnTo>
                    <a:lnTo>
                      <a:pt x="169" y="231"/>
                    </a:lnTo>
                    <a:lnTo>
                      <a:pt x="165" y="233"/>
                    </a:lnTo>
                    <a:lnTo>
                      <a:pt x="160" y="23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4243320" y="3411360"/>
                <a:ext cx="58680" cy="71640"/>
              </a:xfrm>
              <a:custGeom>
                <a:avLst/>
                <a:gdLst/>
                <a:ahLst/>
                <a:rect l="l" t="t" r="r" b="b"/>
                <a:pathLst>
                  <a:path w="188" h="223">
                    <a:moveTo>
                      <a:pt x="150" y="223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8" y="4"/>
                    </a:lnTo>
                    <a:lnTo>
                      <a:pt x="35" y="5"/>
                    </a:lnTo>
                    <a:lnTo>
                      <a:pt x="41" y="6"/>
                    </a:lnTo>
                    <a:lnTo>
                      <a:pt x="49" y="7"/>
                    </a:lnTo>
                    <a:lnTo>
                      <a:pt x="56" y="7"/>
                    </a:lnTo>
                    <a:lnTo>
                      <a:pt x="188" y="204"/>
                    </a:lnTo>
                    <a:lnTo>
                      <a:pt x="183" y="206"/>
                    </a:lnTo>
                    <a:lnTo>
                      <a:pt x="179" y="208"/>
                    </a:lnTo>
                    <a:lnTo>
                      <a:pt x="174" y="211"/>
                    </a:lnTo>
                    <a:lnTo>
                      <a:pt x="169" y="213"/>
                    </a:lnTo>
                    <a:lnTo>
                      <a:pt x="164" y="215"/>
                    </a:lnTo>
                    <a:lnTo>
                      <a:pt x="160" y="218"/>
                    </a:lnTo>
                    <a:lnTo>
                      <a:pt x="156" y="220"/>
                    </a:lnTo>
                    <a:lnTo>
                      <a:pt x="150" y="223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4251240" y="341316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179" h="209">
                    <a:moveTo>
                      <a:pt x="141" y="209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2"/>
                    </a:lnTo>
                    <a:lnTo>
                      <a:pt x="21" y="3"/>
                    </a:lnTo>
                    <a:lnTo>
                      <a:pt x="28" y="3"/>
                    </a:lnTo>
                    <a:lnTo>
                      <a:pt x="34" y="5"/>
                    </a:lnTo>
                    <a:lnTo>
                      <a:pt x="42" y="5"/>
                    </a:lnTo>
                    <a:lnTo>
                      <a:pt x="49" y="7"/>
                    </a:lnTo>
                    <a:lnTo>
                      <a:pt x="55" y="7"/>
                    </a:lnTo>
                    <a:lnTo>
                      <a:pt x="179" y="190"/>
                    </a:lnTo>
                    <a:lnTo>
                      <a:pt x="174" y="192"/>
                    </a:lnTo>
                    <a:lnTo>
                      <a:pt x="170" y="194"/>
                    </a:lnTo>
                    <a:lnTo>
                      <a:pt x="165" y="198"/>
                    </a:lnTo>
                    <a:lnTo>
                      <a:pt x="160" y="200"/>
                    </a:lnTo>
                    <a:lnTo>
                      <a:pt x="155" y="202"/>
                    </a:lnTo>
                    <a:lnTo>
                      <a:pt x="151" y="204"/>
                    </a:lnTo>
                    <a:lnTo>
                      <a:pt x="146" y="207"/>
                    </a:lnTo>
                    <a:lnTo>
                      <a:pt x="141" y="209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4260960" y="3414600"/>
                <a:ext cx="54000" cy="61920"/>
              </a:xfrm>
              <a:custGeom>
                <a:avLst/>
                <a:gdLst/>
                <a:ahLst/>
                <a:rect l="l" t="t" r="r" b="b"/>
                <a:pathLst>
                  <a:path w="170" h="197">
                    <a:moveTo>
                      <a:pt x="132" y="197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5" y="6"/>
                    </a:lnTo>
                    <a:lnTo>
                      <a:pt x="42" y="7"/>
                    </a:lnTo>
                    <a:lnTo>
                      <a:pt x="49" y="8"/>
                    </a:lnTo>
                    <a:lnTo>
                      <a:pt x="56" y="9"/>
                    </a:lnTo>
                    <a:lnTo>
                      <a:pt x="170" y="177"/>
                    </a:lnTo>
                    <a:lnTo>
                      <a:pt x="165" y="180"/>
                    </a:lnTo>
                    <a:lnTo>
                      <a:pt x="161" y="182"/>
                    </a:lnTo>
                    <a:lnTo>
                      <a:pt x="155" y="184"/>
                    </a:lnTo>
                    <a:lnTo>
                      <a:pt x="151" y="187"/>
                    </a:lnTo>
                    <a:lnTo>
                      <a:pt x="146" y="189"/>
                    </a:lnTo>
                    <a:lnTo>
                      <a:pt x="142" y="191"/>
                    </a:lnTo>
                    <a:lnTo>
                      <a:pt x="137" y="195"/>
                    </a:lnTo>
                    <a:lnTo>
                      <a:pt x="132" y="197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4268880" y="3416400"/>
                <a:ext cx="52200" cy="56880"/>
              </a:xfrm>
              <a:custGeom>
                <a:avLst/>
                <a:gdLst/>
                <a:ahLst/>
                <a:rect l="l" t="t" r="r" b="b"/>
                <a:pathLst>
                  <a:path w="162" h="183">
                    <a:moveTo>
                      <a:pt x="124" y="183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15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8"/>
                    </a:lnTo>
                    <a:lnTo>
                      <a:pt x="50" y="9"/>
                    </a:lnTo>
                    <a:lnTo>
                      <a:pt x="57" y="10"/>
                    </a:lnTo>
                    <a:lnTo>
                      <a:pt x="162" y="163"/>
                    </a:lnTo>
                    <a:lnTo>
                      <a:pt x="157" y="166"/>
                    </a:lnTo>
                    <a:lnTo>
                      <a:pt x="152" y="168"/>
                    </a:lnTo>
                    <a:lnTo>
                      <a:pt x="147" y="171"/>
                    </a:lnTo>
                    <a:lnTo>
                      <a:pt x="142" y="174"/>
                    </a:lnTo>
                    <a:lnTo>
                      <a:pt x="138" y="176"/>
                    </a:lnTo>
                    <a:lnTo>
                      <a:pt x="134" y="178"/>
                    </a:lnTo>
                    <a:lnTo>
                      <a:pt x="128" y="180"/>
                    </a:lnTo>
                    <a:lnTo>
                      <a:pt x="124" y="183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4278240" y="341784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151" h="168">
                    <a:moveTo>
                      <a:pt x="114" y="168"/>
                    </a:moveTo>
                    <a:lnTo>
                      <a:pt x="0" y="0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1" y="4"/>
                    </a:lnTo>
                    <a:lnTo>
                      <a:pt x="28" y="5"/>
                    </a:lnTo>
                    <a:lnTo>
                      <a:pt x="35" y="6"/>
                    </a:lnTo>
                    <a:lnTo>
                      <a:pt x="43" y="7"/>
                    </a:lnTo>
                    <a:lnTo>
                      <a:pt x="50" y="8"/>
                    </a:lnTo>
                    <a:lnTo>
                      <a:pt x="56" y="9"/>
                    </a:lnTo>
                    <a:lnTo>
                      <a:pt x="151" y="149"/>
                    </a:lnTo>
                    <a:lnTo>
                      <a:pt x="147" y="152"/>
                    </a:lnTo>
                    <a:lnTo>
                      <a:pt x="141" y="154"/>
                    </a:lnTo>
                    <a:lnTo>
                      <a:pt x="137" y="156"/>
                    </a:lnTo>
                    <a:lnTo>
                      <a:pt x="132" y="158"/>
                    </a:lnTo>
                    <a:lnTo>
                      <a:pt x="128" y="161"/>
                    </a:lnTo>
                    <a:lnTo>
                      <a:pt x="123" y="163"/>
                    </a:lnTo>
                    <a:lnTo>
                      <a:pt x="118" y="166"/>
                    </a:lnTo>
                    <a:lnTo>
                      <a:pt x="114" y="168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4287960" y="3419640"/>
                <a:ext cx="44280" cy="47520"/>
              </a:xfrm>
              <a:custGeom>
                <a:avLst/>
                <a:gdLst/>
                <a:ahLst/>
                <a:rect l="l" t="t" r="r" b="b"/>
                <a:pathLst>
                  <a:path w="143" h="153">
                    <a:moveTo>
                      <a:pt x="105" y="153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2" y="3"/>
                    </a:lnTo>
                    <a:lnTo>
                      <a:pt x="28" y="4"/>
                    </a:lnTo>
                    <a:lnTo>
                      <a:pt x="36" y="5"/>
                    </a:lnTo>
                    <a:lnTo>
                      <a:pt x="43" y="6"/>
                    </a:lnTo>
                    <a:lnTo>
                      <a:pt x="50" y="8"/>
                    </a:lnTo>
                    <a:lnTo>
                      <a:pt x="57" y="9"/>
                    </a:lnTo>
                    <a:lnTo>
                      <a:pt x="143" y="134"/>
                    </a:lnTo>
                    <a:lnTo>
                      <a:pt x="138" y="137"/>
                    </a:lnTo>
                    <a:lnTo>
                      <a:pt x="132" y="140"/>
                    </a:lnTo>
                    <a:lnTo>
                      <a:pt x="128" y="142"/>
                    </a:lnTo>
                    <a:lnTo>
                      <a:pt x="123" y="144"/>
                    </a:lnTo>
                    <a:lnTo>
                      <a:pt x="119" y="147"/>
                    </a:lnTo>
                    <a:lnTo>
                      <a:pt x="113" y="149"/>
                    </a:lnTo>
                    <a:lnTo>
                      <a:pt x="109" y="151"/>
                    </a:lnTo>
                    <a:lnTo>
                      <a:pt x="105" y="153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4295880" y="3419640"/>
                <a:ext cx="42840" cy="44280"/>
              </a:xfrm>
              <a:custGeom>
                <a:avLst/>
                <a:gdLst/>
                <a:ahLst/>
                <a:rect l="l" t="t" r="r" b="b"/>
                <a:pathLst>
                  <a:path w="134" h="140">
                    <a:moveTo>
                      <a:pt x="95" y="140"/>
                    </a:moveTo>
                    <a:lnTo>
                      <a:pt x="0" y="0"/>
                    </a:lnTo>
                    <a:lnTo>
                      <a:pt x="8" y="1"/>
                    </a:lnTo>
                    <a:lnTo>
                      <a:pt x="15" y="3"/>
                    </a:lnTo>
                    <a:lnTo>
                      <a:pt x="22" y="4"/>
                    </a:lnTo>
                    <a:lnTo>
                      <a:pt x="30" y="5"/>
                    </a:lnTo>
                    <a:lnTo>
                      <a:pt x="36" y="6"/>
                    </a:lnTo>
                    <a:lnTo>
                      <a:pt x="43" y="7"/>
                    </a:lnTo>
                    <a:lnTo>
                      <a:pt x="51" y="10"/>
                    </a:lnTo>
                    <a:lnTo>
                      <a:pt x="58" y="11"/>
                    </a:lnTo>
                    <a:lnTo>
                      <a:pt x="134" y="122"/>
                    </a:lnTo>
                    <a:lnTo>
                      <a:pt x="129" y="124"/>
                    </a:lnTo>
                    <a:lnTo>
                      <a:pt x="123" y="126"/>
                    </a:lnTo>
                    <a:lnTo>
                      <a:pt x="119" y="128"/>
                    </a:lnTo>
                    <a:lnTo>
                      <a:pt x="114" y="131"/>
                    </a:lnTo>
                    <a:lnTo>
                      <a:pt x="110" y="133"/>
                    </a:lnTo>
                    <a:lnTo>
                      <a:pt x="104" y="136"/>
                    </a:lnTo>
                    <a:lnTo>
                      <a:pt x="100" y="138"/>
                    </a:lnTo>
                    <a:lnTo>
                      <a:pt x="95" y="14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4305240" y="342108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124" h="125">
                    <a:moveTo>
                      <a:pt x="86" y="125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2" y="4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4" y="8"/>
                    </a:lnTo>
                    <a:lnTo>
                      <a:pt x="51" y="10"/>
                    </a:lnTo>
                    <a:lnTo>
                      <a:pt x="58" y="11"/>
                    </a:lnTo>
                    <a:lnTo>
                      <a:pt x="124" y="107"/>
                    </a:lnTo>
                    <a:lnTo>
                      <a:pt x="118" y="110"/>
                    </a:lnTo>
                    <a:lnTo>
                      <a:pt x="114" y="112"/>
                    </a:lnTo>
                    <a:lnTo>
                      <a:pt x="109" y="114"/>
                    </a:lnTo>
                    <a:lnTo>
                      <a:pt x="105" y="117"/>
                    </a:lnTo>
                    <a:lnTo>
                      <a:pt x="100" y="119"/>
                    </a:lnTo>
                    <a:lnTo>
                      <a:pt x="94" y="121"/>
                    </a:lnTo>
                    <a:lnTo>
                      <a:pt x="90" y="123"/>
                    </a:lnTo>
                    <a:lnTo>
                      <a:pt x="86" y="12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4314960" y="342432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114" h="111">
                    <a:moveTo>
                      <a:pt x="76" y="111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7"/>
                    </a:lnTo>
                    <a:lnTo>
                      <a:pt x="51" y="9"/>
                    </a:lnTo>
                    <a:lnTo>
                      <a:pt x="58" y="10"/>
                    </a:lnTo>
                    <a:lnTo>
                      <a:pt x="114" y="92"/>
                    </a:lnTo>
                    <a:lnTo>
                      <a:pt x="108" y="94"/>
                    </a:lnTo>
                    <a:lnTo>
                      <a:pt x="104" y="96"/>
                    </a:lnTo>
                    <a:lnTo>
                      <a:pt x="99" y="99"/>
                    </a:lnTo>
                    <a:lnTo>
                      <a:pt x="95" y="101"/>
                    </a:lnTo>
                    <a:lnTo>
                      <a:pt x="89" y="104"/>
                    </a:lnTo>
                    <a:lnTo>
                      <a:pt x="85" y="106"/>
                    </a:lnTo>
                    <a:lnTo>
                      <a:pt x="80" y="108"/>
                    </a:lnTo>
                    <a:lnTo>
                      <a:pt x="76" y="111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4324320" y="34257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66" y="96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7"/>
                    </a:lnTo>
                    <a:lnTo>
                      <a:pt x="44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104" y="78"/>
                    </a:lnTo>
                    <a:lnTo>
                      <a:pt x="98" y="81"/>
                    </a:lnTo>
                    <a:lnTo>
                      <a:pt x="94" y="83"/>
                    </a:lnTo>
                    <a:lnTo>
                      <a:pt x="89" y="85"/>
                    </a:lnTo>
                    <a:lnTo>
                      <a:pt x="85" y="87"/>
                    </a:lnTo>
                    <a:lnTo>
                      <a:pt x="79" y="89"/>
                    </a:lnTo>
                    <a:lnTo>
                      <a:pt x="75" y="91"/>
                    </a:lnTo>
                    <a:lnTo>
                      <a:pt x="70" y="94"/>
                    </a:lnTo>
                    <a:lnTo>
                      <a:pt x="66" y="96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4332240" y="342756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93" h="82">
                    <a:moveTo>
                      <a:pt x="56" y="82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5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7" y="7"/>
                    </a:lnTo>
                    <a:lnTo>
                      <a:pt x="44" y="9"/>
                    </a:lnTo>
                    <a:lnTo>
                      <a:pt x="51" y="11"/>
                    </a:lnTo>
                    <a:lnTo>
                      <a:pt x="59" y="12"/>
                    </a:lnTo>
                    <a:lnTo>
                      <a:pt x="93" y="64"/>
                    </a:lnTo>
                    <a:lnTo>
                      <a:pt x="89" y="66"/>
                    </a:lnTo>
                    <a:lnTo>
                      <a:pt x="84" y="68"/>
                    </a:lnTo>
                    <a:lnTo>
                      <a:pt x="80" y="70"/>
                    </a:lnTo>
                    <a:lnTo>
                      <a:pt x="75" y="73"/>
                    </a:lnTo>
                    <a:lnTo>
                      <a:pt x="69" y="76"/>
                    </a:lnTo>
                    <a:lnTo>
                      <a:pt x="65" y="78"/>
                    </a:lnTo>
                    <a:lnTo>
                      <a:pt x="60" y="80"/>
                    </a:lnTo>
                    <a:lnTo>
                      <a:pt x="56" y="82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4341960" y="34290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46" y="67"/>
                    </a:moveTo>
                    <a:lnTo>
                      <a:pt x="0" y="0"/>
                    </a:lnTo>
                    <a:lnTo>
                      <a:pt x="8" y="1"/>
                    </a:lnTo>
                    <a:lnTo>
                      <a:pt x="15" y="3"/>
                    </a:lnTo>
                    <a:lnTo>
                      <a:pt x="22" y="5"/>
                    </a:lnTo>
                    <a:lnTo>
                      <a:pt x="30" y="6"/>
                    </a:lnTo>
                    <a:lnTo>
                      <a:pt x="37" y="8"/>
                    </a:lnTo>
                    <a:lnTo>
                      <a:pt x="44" y="9"/>
                    </a:lnTo>
                    <a:lnTo>
                      <a:pt x="52" y="11"/>
                    </a:lnTo>
                    <a:lnTo>
                      <a:pt x="59" y="12"/>
                    </a:lnTo>
                    <a:lnTo>
                      <a:pt x="84" y="49"/>
                    </a:lnTo>
                    <a:lnTo>
                      <a:pt x="79" y="51"/>
                    </a:lnTo>
                    <a:lnTo>
                      <a:pt x="74" y="53"/>
                    </a:lnTo>
                    <a:lnTo>
                      <a:pt x="70" y="56"/>
                    </a:lnTo>
                    <a:lnTo>
                      <a:pt x="64" y="58"/>
                    </a:lnTo>
                    <a:lnTo>
                      <a:pt x="60" y="60"/>
                    </a:lnTo>
                    <a:lnTo>
                      <a:pt x="55" y="62"/>
                    </a:lnTo>
                    <a:lnTo>
                      <a:pt x="51" y="64"/>
                    </a:lnTo>
                    <a:lnTo>
                      <a:pt x="46" y="67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4351320" y="3430440"/>
                <a:ext cx="23760" cy="16200"/>
              </a:xfrm>
              <a:custGeom>
                <a:avLst/>
                <a:gdLst/>
                <a:ahLst/>
                <a:rect l="l" t="t" r="r" b="b"/>
                <a:pathLst>
                  <a:path w="73" h="52">
                    <a:moveTo>
                      <a:pt x="34" y="52"/>
                    </a:moveTo>
                    <a:lnTo>
                      <a:pt x="0" y="0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7" y="8"/>
                    </a:lnTo>
                    <a:lnTo>
                      <a:pt x="44" y="9"/>
                    </a:lnTo>
                    <a:lnTo>
                      <a:pt x="51" y="11"/>
                    </a:lnTo>
                    <a:lnTo>
                      <a:pt x="59" y="12"/>
                    </a:lnTo>
                    <a:lnTo>
                      <a:pt x="73" y="34"/>
                    </a:lnTo>
                    <a:lnTo>
                      <a:pt x="68" y="36"/>
                    </a:lnTo>
                    <a:lnTo>
                      <a:pt x="64" y="39"/>
                    </a:lnTo>
                    <a:lnTo>
                      <a:pt x="59" y="41"/>
                    </a:lnTo>
                    <a:lnTo>
                      <a:pt x="53" y="43"/>
                    </a:lnTo>
                    <a:lnTo>
                      <a:pt x="49" y="45"/>
                    </a:lnTo>
                    <a:lnTo>
                      <a:pt x="44" y="47"/>
                    </a:lnTo>
                    <a:lnTo>
                      <a:pt x="40" y="49"/>
                    </a:lnTo>
                    <a:lnTo>
                      <a:pt x="34" y="52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4361040" y="343224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63" h="37">
                    <a:moveTo>
                      <a:pt x="25" y="37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15" y="3"/>
                    </a:lnTo>
                    <a:lnTo>
                      <a:pt x="22" y="5"/>
                    </a:lnTo>
                    <a:lnTo>
                      <a:pt x="30" y="6"/>
                    </a:lnTo>
                    <a:lnTo>
                      <a:pt x="37" y="8"/>
                    </a:lnTo>
                    <a:lnTo>
                      <a:pt x="44" y="9"/>
                    </a:lnTo>
                    <a:lnTo>
                      <a:pt x="52" y="12"/>
                    </a:lnTo>
                    <a:lnTo>
                      <a:pt x="59" y="14"/>
                    </a:lnTo>
                    <a:lnTo>
                      <a:pt x="63" y="19"/>
                    </a:lnTo>
                    <a:lnTo>
                      <a:pt x="59" y="21"/>
                    </a:lnTo>
                    <a:lnTo>
                      <a:pt x="54" y="23"/>
                    </a:lnTo>
                    <a:lnTo>
                      <a:pt x="49" y="25"/>
                    </a:lnTo>
                    <a:lnTo>
                      <a:pt x="44" y="28"/>
                    </a:lnTo>
                    <a:lnTo>
                      <a:pt x="39" y="30"/>
                    </a:lnTo>
                    <a:lnTo>
                      <a:pt x="35" y="33"/>
                    </a:lnTo>
                    <a:lnTo>
                      <a:pt x="30" y="35"/>
                    </a:lnTo>
                    <a:lnTo>
                      <a:pt x="25" y="37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4370400" y="34336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41" h="22">
                    <a:moveTo>
                      <a:pt x="14" y="22"/>
                    </a:moveTo>
                    <a:lnTo>
                      <a:pt x="0" y="0"/>
                    </a:lnTo>
                    <a:lnTo>
                      <a:pt x="5" y="1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1" y="6"/>
                    </a:lnTo>
                    <a:lnTo>
                      <a:pt x="25" y="7"/>
                    </a:lnTo>
                    <a:lnTo>
                      <a:pt x="30" y="8"/>
                    </a:lnTo>
                    <a:lnTo>
                      <a:pt x="35" y="9"/>
                    </a:lnTo>
                    <a:lnTo>
                      <a:pt x="41" y="10"/>
                    </a:lnTo>
                    <a:lnTo>
                      <a:pt x="37" y="11"/>
                    </a:lnTo>
                    <a:lnTo>
                      <a:pt x="34" y="13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17" y="20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4379760" y="3436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4" y="5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2665440" y="3591000"/>
                <a:ext cx="1149480" cy="1147680"/>
              </a:xfrm>
              <a:custGeom>
                <a:avLst/>
                <a:gdLst/>
                <a:ahLst/>
                <a:rect l="l" t="t" r="r" b="b"/>
                <a:pathLst>
                  <a:path w="3617" h="3615">
                    <a:moveTo>
                      <a:pt x="30" y="1477"/>
                    </a:moveTo>
                    <a:lnTo>
                      <a:pt x="49" y="1387"/>
                    </a:lnTo>
                    <a:lnTo>
                      <a:pt x="73" y="1297"/>
                    </a:lnTo>
                    <a:lnTo>
                      <a:pt x="101" y="1211"/>
                    </a:lnTo>
                    <a:lnTo>
                      <a:pt x="132" y="1126"/>
                    </a:lnTo>
                    <a:lnTo>
                      <a:pt x="169" y="1044"/>
                    </a:lnTo>
                    <a:lnTo>
                      <a:pt x="208" y="965"/>
                    </a:lnTo>
                    <a:lnTo>
                      <a:pt x="251" y="888"/>
                    </a:lnTo>
                    <a:lnTo>
                      <a:pt x="298" y="812"/>
                    </a:lnTo>
                    <a:lnTo>
                      <a:pt x="349" y="741"/>
                    </a:lnTo>
                    <a:lnTo>
                      <a:pt x="402" y="672"/>
                    </a:lnTo>
                    <a:lnTo>
                      <a:pt x="459" y="604"/>
                    </a:lnTo>
                    <a:lnTo>
                      <a:pt x="519" y="541"/>
                    </a:lnTo>
                    <a:lnTo>
                      <a:pt x="581" y="481"/>
                    </a:lnTo>
                    <a:lnTo>
                      <a:pt x="647" y="424"/>
                    </a:lnTo>
                    <a:lnTo>
                      <a:pt x="714" y="369"/>
                    </a:lnTo>
                    <a:lnTo>
                      <a:pt x="785" y="319"/>
                    </a:lnTo>
                    <a:lnTo>
                      <a:pt x="857" y="271"/>
                    </a:lnTo>
                    <a:lnTo>
                      <a:pt x="933" y="226"/>
                    </a:lnTo>
                    <a:lnTo>
                      <a:pt x="1009" y="187"/>
                    </a:lnTo>
                    <a:lnTo>
                      <a:pt x="1088" y="150"/>
                    </a:lnTo>
                    <a:lnTo>
                      <a:pt x="1169" y="117"/>
                    </a:lnTo>
                    <a:lnTo>
                      <a:pt x="1252" y="88"/>
                    </a:lnTo>
                    <a:lnTo>
                      <a:pt x="1335" y="63"/>
                    </a:lnTo>
                    <a:lnTo>
                      <a:pt x="1421" y="42"/>
                    </a:lnTo>
                    <a:lnTo>
                      <a:pt x="1507" y="25"/>
                    </a:lnTo>
                    <a:lnTo>
                      <a:pt x="1596" y="12"/>
                    </a:lnTo>
                    <a:lnTo>
                      <a:pt x="1684" y="4"/>
                    </a:lnTo>
                    <a:lnTo>
                      <a:pt x="1774" y="0"/>
                    </a:lnTo>
                    <a:lnTo>
                      <a:pt x="1864" y="0"/>
                    </a:lnTo>
                    <a:lnTo>
                      <a:pt x="1955" y="5"/>
                    </a:lnTo>
                    <a:lnTo>
                      <a:pt x="2046" y="15"/>
                    </a:lnTo>
                    <a:lnTo>
                      <a:pt x="2138" y="29"/>
                    </a:lnTo>
                    <a:lnTo>
                      <a:pt x="2229" y="49"/>
                    </a:lnTo>
                    <a:lnTo>
                      <a:pt x="2317" y="72"/>
                    </a:lnTo>
                    <a:lnTo>
                      <a:pt x="2405" y="100"/>
                    </a:lnTo>
                    <a:lnTo>
                      <a:pt x="2489" y="132"/>
                    </a:lnTo>
                    <a:lnTo>
                      <a:pt x="2572" y="168"/>
                    </a:lnTo>
                    <a:lnTo>
                      <a:pt x="2652" y="208"/>
                    </a:lnTo>
                    <a:lnTo>
                      <a:pt x="2728" y="251"/>
                    </a:lnTo>
                    <a:lnTo>
                      <a:pt x="2803" y="298"/>
                    </a:lnTo>
                    <a:lnTo>
                      <a:pt x="2875" y="348"/>
                    </a:lnTo>
                    <a:lnTo>
                      <a:pt x="2945" y="402"/>
                    </a:lnTo>
                    <a:lnTo>
                      <a:pt x="3011" y="459"/>
                    </a:lnTo>
                    <a:lnTo>
                      <a:pt x="3075" y="517"/>
                    </a:lnTo>
                    <a:lnTo>
                      <a:pt x="3136" y="580"/>
                    </a:lnTo>
                    <a:lnTo>
                      <a:pt x="3193" y="645"/>
                    </a:lnTo>
                    <a:lnTo>
                      <a:pt x="3247" y="714"/>
                    </a:lnTo>
                    <a:lnTo>
                      <a:pt x="3298" y="784"/>
                    </a:lnTo>
                    <a:lnTo>
                      <a:pt x="3345" y="856"/>
                    </a:lnTo>
                    <a:lnTo>
                      <a:pt x="3389" y="931"/>
                    </a:lnTo>
                    <a:lnTo>
                      <a:pt x="3430" y="1009"/>
                    </a:lnTo>
                    <a:lnTo>
                      <a:pt x="3467" y="1087"/>
                    </a:lnTo>
                    <a:lnTo>
                      <a:pt x="3499" y="1168"/>
                    </a:lnTo>
                    <a:lnTo>
                      <a:pt x="3529" y="1250"/>
                    </a:lnTo>
                    <a:lnTo>
                      <a:pt x="3554" y="1334"/>
                    </a:lnTo>
                    <a:lnTo>
                      <a:pt x="3575" y="1419"/>
                    </a:lnTo>
                    <a:lnTo>
                      <a:pt x="3592" y="1506"/>
                    </a:lnTo>
                    <a:lnTo>
                      <a:pt x="3605" y="1594"/>
                    </a:lnTo>
                    <a:lnTo>
                      <a:pt x="3613" y="1683"/>
                    </a:lnTo>
                    <a:lnTo>
                      <a:pt x="3617" y="1772"/>
                    </a:lnTo>
                    <a:lnTo>
                      <a:pt x="3616" y="1862"/>
                    </a:lnTo>
                    <a:lnTo>
                      <a:pt x="3612" y="1954"/>
                    </a:lnTo>
                    <a:lnTo>
                      <a:pt x="3601" y="2045"/>
                    </a:lnTo>
                    <a:lnTo>
                      <a:pt x="3587" y="2136"/>
                    </a:lnTo>
                    <a:lnTo>
                      <a:pt x="3568" y="2227"/>
                    </a:lnTo>
                    <a:lnTo>
                      <a:pt x="3545" y="2316"/>
                    </a:lnTo>
                    <a:lnTo>
                      <a:pt x="3516" y="2403"/>
                    </a:lnTo>
                    <a:lnTo>
                      <a:pt x="3485" y="2487"/>
                    </a:lnTo>
                    <a:lnTo>
                      <a:pt x="3449" y="2569"/>
                    </a:lnTo>
                    <a:lnTo>
                      <a:pt x="3409" y="2649"/>
                    </a:lnTo>
                    <a:lnTo>
                      <a:pt x="3366" y="2727"/>
                    </a:lnTo>
                    <a:lnTo>
                      <a:pt x="3319" y="2801"/>
                    </a:lnTo>
                    <a:lnTo>
                      <a:pt x="3268" y="2874"/>
                    </a:lnTo>
                    <a:lnTo>
                      <a:pt x="3215" y="2943"/>
                    </a:lnTo>
                    <a:lnTo>
                      <a:pt x="3158" y="3009"/>
                    </a:lnTo>
                    <a:lnTo>
                      <a:pt x="3098" y="3073"/>
                    </a:lnTo>
                    <a:lnTo>
                      <a:pt x="3036" y="3133"/>
                    </a:lnTo>
                    <a:lnTo>
                      <a:pt x="2971" y="3191"/>
                    </a:lnTo>
                    <a:lnTo>
                      <a:pt x="2903" y="3245"/>
                    </a:lnTo>
                    <a:lnTo>
                      <a:pt x="2832" y="3296"/>
                    </a:lnTo>
                    <a:lnTo>
                      <a:pt x="2760" y="3343"/>
                    </a:lnTo>
                    <a:lnTo>
                      <a:pt x="2684" y="3387"/>
                    </a:lnTo>
                    <a:lnTo>
                      <a:pt x="2607" y="3428"/>
                    </a:lnTo>
                    <a:lnTo>
                      <a:pt x="2529" y="3464"/>
                    </a:lnTo>
                    <a:lnTo>
                      <a:pt x="2448" y="3497"/>
                    </a:lnTo>
                    <a:lnTo>
                      <a:pt x="2366" y="3527"/>
                    </a:lnTo>
                    <a:lnTo>
                      <a:pt x="2282" y="3552"/>
                    </a:lnTo>
                    <a:lnTo>
                      <a:pt x="2196" y="3573"/>
                    </a:lnTo>
                    <a:lnTo>
                      <a:pt x="2109" y="3590"/>
                    </a:lnTo>
                    <a:lnTo>
                      <a:pt x="2021" y="3602"/>
                    </a:lnTo>
                    <a:lnTo>
                      <a:pt x="1933" y="3611"/>
                    </a:lnTo>
                    <a:lnTo>
                      <a:pt x="1844" y="3615"/>
                    </a:lnTo>
                    <a:lnTo>
                      <a:pt x="1753" y="3614"/>
                    </a:lnTo>
                    <a:lnTo>
                      <a:pt x="1662" y="3609"/>
                    </a:lnTo>
                    <a:lnTo>
                      <a:pt x="1570" y="3599"/>
                    </a:lnTo>
                    <a:lnTo>
                      <a:pt x="1479" y="3584"/>
                    </a:lnTo>
                    <a:lnTo>
                      <a:pt x="1388" y="3565"/>
                    </a:lnTo>
                    <a:lnTo>
                      <a:pt x="1299" y="3541"/>
                    </a:lnTo>
                    <a:lnTo>
                      <a:pt x="1212" y="3514"/>
                    </a:lnTo>
                    <a:lnTo>
                      <a:pt x="1128" y="3481"/>
                    </a:lnTo>
                    <a:lnTo>
                      <a:pt x="1045" y="3446"/>
                    </a:lnTo>
                    <a:lnTo>
                      <a:pt x="966" y="3407"/>
                    </a:lnTo>
                    <a:lnTo>
                      <a:pt x="889" y="3363"/>
                    </a:lnTo>
                    <a:lnTo>
                      <a:pt x="814" y="3317"/>
                    </a:lnTo>
                    <a:lnTo>
                      <a:pt x="741" y="3266"/>
                    </a:lnTo>
                    <a:lnTo>
                      <a:pt x="672" y="3213"/>
                    </a:lnTo>
                    <a:lnTo>
                      <a:pt x="606" y="3156"/>
                    </a:lnTo>
                    <a:lnTo>
                      <a:pt x="542" y="3096"/>
                    </a:lnTo>
                    <a:lnTo>
                      <a:pt x="482" y="3034"/>
                    </a:lnTo>
                    <a:lnTo>
                      <a:pt x="424" y="2968"/>
                    </a:lnTo>
                    <a:lnTo>
                      <a:pt x="370" y="2901"/>
                    </a:lnTo>
                    <a:lnTo>
                      <a:pt x="319" y="2830"/>
                    </a:lnTo>
                    <a:lnTo>
                      <a:pt x="272" y="2757"/>
                    </a:lnTo>
                    <a:lnTo>
                      <a:pt x="228" y="2682"/>
                    </a:lnTo>
                    <a:lnTo>
                      <a:pt x="187" y="2606"/>
                    </a:lnTo>
                    <a:lnTo>
                      <a:pt x="150" y="2527"/>
                    </a:lnTo>
                    <a:lnTo>
                      <a:pt x="117" y="2446"/>
                    </a:lnTo>
                    <a:lnTo>
                      <a:pt x="88" y="2363"/>
                    </a:lnTo>
                    <a:lnTo>
                      <a:pt x="63" y="2279"/>
                    </a:lnTo>
                    <a:lnTo>
                      <a:pt x="42" y="2194"/>
                    </a:lnTo>
                    <a:lnTo>
                      <a:pt x="25" y="2108"/>
                    </a:lnTo>
                    <a:lnTo>
                      <a:pt x="12" y="2020"/>
                    </a:lnTo>
                    <a:lnTo>
                      <a:pt x="4" y="1932"/>
                    </a:lnTo>
                    <a:lnTo>
                      <a:pt x="0" y="1841"/>
                    </a:lnTo>
                    <a:lnTo>
                      <a:pt x="1" y="1751"/>
                    </a:lnTo>
                    <a:lnTo>
                      <a:pt x="6" y="1661"/>
                    </a:lnTo>
                    <a:lnTo>
                      <a:pt x="15" y="1569"/>
                    </a:lnTo>
                    <a:lnTo>
                      <a:pt x="30" y="147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2722680" y="4398840"/>
                <a:ext cx="106200" cy="34920"/>
              </a:xfrm>
              <a:custGeom>
                <a:avLst/>
                <a:gdLst/>
                <a:ahLst/>
                <a:rect l="l" t="t" r="r" b="b"/>
                <a:pathLst>
                  <a:path w="333" h="108">
                    <a:moveTo>
                      <a:pt x="117" y="100"/>
                    </a:moveTo>
                    <a:lnTo>
                      <a:pt x="106" y="96"/>
                    </a:lnTo>
                    <a:lnTo>
                      <a:pt x="31" y="99"/>
                    </a:lnTo>
                    <a:lnTo>
                      <a:pt x="29" y="101"/>
                    </a:lnTo>
                    <a:lnTo>
                      <a:pt x="26" y="93"/>
                    </a:lnTo>
                    <a:lnTo>
                      <a:pt x="21" y="86"/>
                    </a:lnTo>
                    <a:lnTo>
                      <a:pt x="18" y="79"/>
                    </a:lnTo>
                    <a:lnTo>
                      <a:pt x="14" y="72"/>
                    </a:lnTo>
                    <a:lnTo>
                      <a:pt x="11" y="65"/>
                    </a:lnTo>
                    <a:lnTo>
                      <a:pt x="7" y="58"/>
                    </a:lnTo>
                    <a:lnTo>
                      <a:pt x="4" y="50"/>
                    </a:lnTo>
                    <a:lnTo>
                      <a:pt x="0" y="43"/>
                    </a:lnTo>
                    <a:lnTo>
                      <a:pt x="121" y="43"/>
                    </a:lnTo>
                    <a:lnTo>
                      <a:pt x="128" y="45"/>
                    </a:lnTo>
                    <a:lnTo>
                      <a:pt x="130" y="46"/>
                    </a:lnTo>
                    <a:lnTo>
                      <a:pt x="161" y="46"/>
                    </a:lnTo>
                    <a:lnTo>
                      <a:pt x="160" y="33"/>
                    </a:lnTo>
                    <a:lnTo>
                      <a:pt x="156" y="33"/>
                    </a:lnTo>
                    <a:lnTo>
                      <a:pt x="156" y="17"/>
                    </a:lnTo>
                    <a:lnTo>
                      <a:pt x="146" y="17"/>
                    </a:lnTo>
                    <a:lnTo>
                      <a:pt x="127" y="42"/>
                    </a:lnTo>
                    <a:lnTo>
                      <a:pt x="127" y="45"/>
                    </a:lnTo>
                    <a:lnTo>
                      <a:pt x="128" y="45"/>
                    </a:lnTo>
                    <a:lnTo>
                      <a:pt x="121" y="43"/>
                    </a:lnTo>
                    <a:lnTo>
                      <a:pt x="151" y="3"/>
                    </a:lnTo>
                    <a:lnTo>
                      <a:pt x="156" y="0"/>
                    </a:lnTo>
                    <a:lnTo>
                      <a:pt x="161" y="3"/>
                    </a:lnTo>
                    <a:lnTo>
                      <a:pt x="166" y="7"/>
                    </a:lnTo>
                    <a:lnTo>
                      <a:pt x="169" y="56"/>
                    </a:lnTo>
                    <a:lnTo>
                      <a:pt x="248" y="56"/>
                    </a:lnTo>
                    <a:lnTo>
                      <a:pt x="257" y="51"/>
                    </a:lnTo>
                    <a:lnTo>
                      <a:pt x="314" y="50"/>
                    </a:lnTo>
                    <a:lnTo>
                      <a:pt x="319" y="42"/>
                    </a:lnTo>
                    <a:lnTo>
                      <a:pt x="329" y="42"/>
                    </a:lnTo>
                    <a:lnTo>
                      <a:pt x="329" y="50"/>
                    </a:lnTo>
                    <a:lnTo>
                      <a:pt x="333" y="50"/>
                    </a:lnTo>
                    <a:lnTo>
                      <a:pt x="333" y="75"/>
                    </a:lnTo>
                    <a:lnTo>
                      <a:pt x="318" y="75"/>
                    </a:lnTo>
                    <a:lnTo>
                      <a:pt x="310" y="70"/>
                    </a:lnTo>
                    <a:lnTo>
                      <a:pt x="169" y="70"/>
                    </a:lnTo>
                    <a:lnTo>
                      <a:pt x="169" y="77"/>
                    </a:lnTo>
                    <a:lnTo>
                      <a:pt x="156" y="77"/>
                    </a:lnTo>
                    <a:lnTo>
                      <a:pt x="156" y="75"/>
                    </a:lnTo>
                    <a:lnTo>
                      <a:pt x="132" y="75"/>
                    </a:lnTo>
                    <a:lnTo>
                      <a:pt x="132" y="87"/>
                    </a:lnTo>
                    <a:lnTo>
                      <a:pt x="123" y="87"/>
                    </a:lnTo>
                    <a:lnTo>
                      <a:pt x="117" y="100"/>
                    </a:lnTo>
                    <a:close/>
                    <a:moveTo>
                      <a:pt x="30" y="103"/>
                    </a:moveTo>
                    <a:lnTo>
                      <a:pt x="109" y="105"/>
                    </a:lnTo>
                    <a:lnTo>
                      <a:pt x="102" y="108"/>
                    </a:lnTo>
                    <a:lnTo>
                      <a:pt x="33" y="108"/>
                    </a:lnTo>
                    <a:lnTo>
                      <a:pt x="33" y="107"/>
                    </a:lnTo>
                    <a:lnTo>
                      <a:pt x="32" y="107"/>
                    </a:lnTo>
                    <a:lnTo>
                      <a:pt x="32" y="106"/>
                    </a:lnTo>
                    <a:lnTo>
                      <a:pt x="32" y="105"/>
                    </a:lnTo>
                    <a:lnTo>
                      <a:pt x="31" y="105"/>
                    </a:lnTo>
                    <a:lnTo>
                      <a:pt x="31" y="104"/>
                    </a:lnTo>
                    <a:lnTo>
                      <a:pt x="30" y="103"/>
                    </a:lnTo>
                    <a:lnTo>
                      <a:pt x="30" y="10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2800440" y="366696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924" h="916">
                    <a:moveTo>
                      <a:pt x="489" y="369"/>
                    </a:moveTo>
                    <a:lnTo>
                      <a:pt x="506" y="356"/>
                    </a:lnTo>
                    <a:lnTo>
                      <a:pt x="520" y="347"/>
                    </a:lnTo>
                    <a:lnTo>
                      <a:pt x="536" y="338"/>
                    </a:lnTo>
                    <a:lnTo>
                      <a:pt x="553" y="331"/>
                    </a:lnTo>
                    <a:lnTo>
                      <a:pt x="522" y="311"/>
                    </a:lnTo>
                    <a:lnTo>
                      <a:pt x="508" y="301"/>
                    </a:lnTo>
                    <a:lnTo>
                      <a:pt x="493" y="290"/>
                    </a:lnTo>
                    <a:lnTo>
                      <a:pt x="494" y="310"/>
                    </a:lnTo>
                    <a:lnTo>
                      <a:pt x="491" y="328"/>
                    </a:lnTo>
                    <a:lnTo>
                      <a:pt x="489" y="369"/>
                    </a:lnTo>
                    <a:close/>
                    <a:moveTo>
                      <a:pt x="29" y="374"/>
                    </a:moveTo>
                    <a:lnTo>
                      <a:pt x="32" y="370"/>
                    </a:lnTo>
                    <a:lnTo>
                      <a:pt x="35" y="367"/>
                    </a:lnTo>
                    <a:lnTo>
                      <a:pt x="38" y="362"/>
                    </a:lnTo>
                    <a:lnTo>
                      <a:pt x="41" y="359"/>
                    </a:lnTo>
                    <a:lnTo>
                      <a:pt x="44" y="356"/>
                    </a:lnTo>
                    <a:lnTo>
                      <a:pt x="47" y="352"/>
                    </a:lnTo>
                    <a:lnTo>
                      <a:pt x="51" y="349"/>
                    </a:lnTo>
                    <a:lnTo>
                      <a:pt x="54" y="344"/>
                    </a:lnTo>
                    <a:lnTo>
                      <a:pt x="63" y="344"/>
                    </a:lnTo>
                    <a:lnTo>
                      <a:pt x="63" y="351"/>
                    </a:lnTo>
                    <a:lnTo>
                      <a:pt x="66" y="351"/>
                    </a:lnTo>
                    <a:lnTo>
                      <a:pt x="68" y="353"/>
                    </a:lnTo>
                    <a:lnTo>
                      <a:pt x="70" y="359"/>
                    </a:lnTo>
                    <a:lnTo>
                      <a:pt x="72" y="368"/>
                    </a:lnTo>
                    <a:lnTo>
                      <a:pt x="72" y="376"/>
                    </a:lnTo>
                    <a:lnTo>
                      <a:pt x="70" y="381"/>
                    </a:lnTo>
                    <a:lnTo>
                      <a:pt x="67" y="384"/>
                    </a:lnTo>
                    <a:lnTo>
                      <a:pt x="72" y="386"/>
                    </a:lnTo>
                    <a:lnTo>
                      <a:pt x="77" y="386"/>
                    </a:lnTo>
                    <a:lnTo>
                      <a:pt x="81" y="384"/>
                    </a:lnTo>
                    <a:lnTo>
                      <a:pt x="84" y="380"/>
                    </a:lnTo>
                    <a:lnTo>
                      <a:pt x="82" y="374"/>
                    </a:lnTo>
                    <a:lnTo>
                      <a:pt x="72" y="376"/>
                    </a:lnTo>
                    <a:lnTo>
                      <a:pt x="72" y="368"/>
                    </a:lnTo>
                    <a:lnTo>
                      <a:pt x="85" y="365"/>
                    </a:lnTo>
                    <a:lnTo>
                      <a:pt x="89" y="368"/>
                    </a:lnTo>
                    <a:lnTo>
                      <a:pt x="94" y="369"/>
                    </a:lnTo>
                    <a:lnTo>
                      <a:pt x="98" y="372"/>
                    </a:lnTo>
                    <a:lnTo>
                      <a:pt x="95" y="355"/>
                    </a:lnTo>
                    <a:lnTo>
                      <a:pt x="91" y="338"/>
                    </a:lnTo>
                    <a:lnTo>
                      <a:pt x="101" y="296"/>
                    </a:lnTo>
                    <a:lnTo>
                      <a:pt x="144" y="254"/>
                    </a:lnTo>
                    <a:lnTo>
                      <a:pt x="189" y="212"/>
                    </a:lnTo>
                    <a:lnTo>
                      <a:pt x="237" y="173"/>
                    </a:lnTo>
                    <a:lnTo>
                      <a:pt x="284" y="136"/>
                    </a:lnTo>
                    <a:lnTo>
                      <a:pt x="333" y="99"/>
                    </a:lnTo>
                    <a:lnTo>
                      <a:pt x="384" y="64"/>
                    </a:lnTo>
                    <a:lnTo>
                      <a:pt x="435" y="32"/>
                    </a:lnTo>
                    <a:lnTo>
                      <a:pt x="488" y="0"/>
                    </a:lnTo>
                    <a:lnTo>
                      <a:pt x="489" y="10"/>
                    </a:lnTo>
                    <a:lnTo>
                      <a:pt x="489" y="22"/>
                    </a:lnTo>
                    <a:lnTo>
                      <a:pt x="498" y="23"/>
                    </a:lnTo>
                    <a:lnTo>
                      <a:pt x="511" y="47"/>
                    </a:lnTo>
                    <a:lnTo>
                      <a:pt x="606" y="148"/>
                    </a:lnTo>
                    <a:lnTo>
                      <a:pt x="611" y="155"/>
                    </a:lnTo>
                    <a:lnTo>
                      <a:pt x="612" y="163"/>
                    </a:lnTo>
                    <a:lnTo>
                      <a:pt x="611" y="169"/>
                    </a:lnTo>
                    <a:lnTo>
                      <a:pt x="606" y="173"/>
                    </a:lnTo>
                    <a:lnTo>
                      <a:pt x="602" y="175"/>
                    </a:lnTo>
                    <a:lnTo>
                      <a:pt x="602" y="182"/>
                    </a:lnTo>
                    <a:lnTo>
                      <a:pt x="599" y="189"/>
                    </a:lnTo>
                    <a:lnTo>
                      <a:pt x="595" y="193"/>
                    </a:lnTo>
                    <a:lnTo>
                      <a:pt x="599" y="197"/>
                    </a:lnTo>
                    <a:lnTo>
                      <a:pt x="602" y="203"/>
                    </a:lnTo>
                    <a:lnTo>
                      <a:pt x="607" y="211"/>
                    </a:lnTo>
                    <a:lnTo>
                      <a:pt x="619" y="218"/>
                    </a:lnTo>
                    <a:lnTo>
                      <a:pt x="627" y="224"/>
                    </a:lnTo>
                    <a:lnTo>
                      <a:pt x="636" y="231"/>
                    </a:lnTo>
                    <a:lnTo>
                      <a:pt x="644" y="236"/>
                    </a:lnTo>
                    <a:lnTo>
                      <a:pt x="666" y="230"/>
                    </a:lnTo>
                    <a:lnTo>
                      <a:pt x="679" y="227"/>
                    </a:lnTo>
                    <a:lnTo>
                      <a:pt x="692" y="224"/>
                    </a:lnTo>
                    <a:lnTo>
                      <a:pt x="700" y="222"/>
                    </a:lnTo>
                    <a:lnTo>
                      <a:pt x="736" y="197"/>
                    </a:lnTo>
                    <a:lnTo>
                      <a:pt x="781" y="148"/>
                    </a:lnTo>
                    <a:lnTo>
                      <a:pt x="786" y="149"/>
                    </a:lnTo>
                    <a:lnTo>
                      <a:pt x="811" y="122"/>
                    </a:lnTo>
                    <a:lnTo>
                      <a:pt x="812" y="115"/>
                    </a:lnTo>
                    <a:lnTo>
                      <a:pt x="817" y="107"/>
                    </a:lnTo>
                    <a:lnTo>
                      <a:pt x="824" y="99"/>
                    </a:lnTo>
                    <a:lnTo>
                      <a:pt x="924" y="97"/>
                    </a:lnTo>
                    <a:lnTo>
                      <a:pt x="858" y="134"/>
                    </a:lnTo>
                    <a:lnTo>
                      <a:pt x="845" y="148"/>
                    </a:lnTo>
                    <a:lnTo>
                      <a:pt x="825" y="181"/>
                    </a:lnTo>
                    <a:lnTo>
                      <a:pt x="828" y="189"/>
                    </a:lnTo>
                    <a:lnTo>
                      <a:pt x="778" y="275"/>
                    </a:lnTo>
                    <a:lnTo>
                      <a:pt x="762" y="319"/>
                    </a:lnTo>
                    <a:lnTo>
                      <a:pt x="743" y="335"/>
                    </a:lnTo>
                    <a:lnTo>
                      <a:pt x="723" y="348"/>
                    </a:lnTo>
                    <a:lnTo>
                      <a:pt x="698" y="359"/>
                    </a:lnTo>
                    <a:lnTo>
                      <a:pt x="681" y="361"/>
                    </a:lnTo>
                    <a:lnTo>
                      <a:pt x="665" y="363"/>
                    </a:lnTo>
                    <a:lnTo>
                      <a:pt x="668" y="405"/>
                    </a:lnTo>
                    <a:lnTo>
                      <a:pt x="668" y="455"/>
                    </a:lnTo>
                    <a:lnTo>
                      <a:pt x="663" y="511"/>
                    </a:lnTo>
                    <a:lnTo>
                      <a:pt x="653" y="567"/>
                    </a:lnTo>
                    <a:lnTo>
                      <a:pt x="640" y="621"/>
                    </a:lnTo>
                    <a:lnTo>
                      <a:pt x="628" y="659"/>
                    </a:lnTo>
                    <a:lnTo>
                      <a:pt x="619" y="666"/>
                    </a:lnTo>
                    <a:lnTo>
                      <a:pt x="607" y="674"/>
                    </a:lnTo>
                    <a:lnTo>
                      <a:pt x="599" y="714"/>
                    </a:lnTo>
                    <a:lnTo>
                      <a:pt x="599" y="721"/>
                    </a:lnTo>
                    <a:lnTo>
                      <a:pt x="603" y="728"/>
                    </a:lnTo>
                    <a:lnTo>
                      <a:pt x="603" y="735"/>
                    </a:lnTo>
                    <a:lnTo>
                      <a:pt x="598" y="743"/>
                    </a:lnTo>
                    <a:lnTo>
                      <a:pt x="606" y="751"/>
                    </a:lnTo>
                    <a:lnTo>
                      <a:pt x="612" y="757"/>
                    </a:lnTo>
                    <a:lnTo>
                      <a:pt x="616" y="769"/>
                    </a:lnTo>
                    <a:lnTo>
                      <a:pt x="624" y="771"/>
                    </a:lnTo>
                    <a:lnTo>
                      <a:pt x="628" y="775"/>
                    </a:lnTo>
                    <a:lnTo>
                      <a:pt x="633" y="782"/>
                    </a:lnTo>
                    <a:lnTo>
                      <a:pt x="637" y="790"/>
                    </a:lnTo>
                    <a:lnTo>
                      <a:pt x="641" y="797"/>
                    </a:lnTo>
                    <a:lnTo>
                      <a:pt x="665" y="809"/>
                    </a:lnTo>
                    <a:lnTo>
                      <a:pt x="681" y="816"/>
                    </a:lnTo>
                    <a:lnTo>
                      <a:pt x="687" y="822"/>
                    </a:lnTo>
                    <a:lnTo>
                      <a:pt x="690" y="830"/>
                    </a:lnTo>
                    <a:lnTo>
                      <a:pt x="690" y="841"/>
                    </a:lnTo>
                    <a:lnTo>
                      <a:pt x="678" y="844"/>
                    </a:lnTo>
                    <a:lnTo>
                      <a:pt x="661" y="847"/>
                    </a:lnTo>
                    <a:lnTo>
                      <a:pt x="635" y="845"/>
                    </a:lnTo>
                    <a:lnTo>
                      <a:pt x="611" y="841"/>
                    </a:lnTo>
                    <a:lnTo>
                      <a:pt x="584" y="833"/>
                    </a:lnTo>
                    <a:lnTo>
                      <a:pt x="564" y="823"/>
                    </a:lnTo>
                    <a:lnTo>
                      <a:pt x="549" y="814"/>
                    </a:lnTo>
                    <a:lnTo>
                      <a:pt x="533" y="812"/>
                    </a:lnTo>
                    <a:lnTo>
                      <a:pt x="520" y="811"/>
                    </a:lnTo>
                    <a:lnTo>
                      <a:pt x="509" y="806"/>
                    </a:lnTo>
                    <a:lnTo>
                      <a:pt x="497" y="802"/>
                    </a:lnTo>
                    <a:lnTo>
                      <a:pt x="494" y="789"/>
                    </a:lnTo>
                    <a:lnTo>
                      <a:pt x="495" y="777"/>
                    </a:lnTo>
                    <a:lnTo>
                      <a:pt x="497" y="766"/>
                    </a:lnTo>
                    <a:lnTo>
                      <a:pt x="499" y="756"/>
                    </a:lnTo>
                    <a:lnTo>
                      <a:pt x="503" y="747"/>
                    </a:lnTo>
                    <a:lnTo>
                      <a:pt x="509" y="736"/>
                    </a:lnTo>
                    <a:lnTo>
                      <a:pt x="514" y="728"/>
                    </a:lnTo>
                    <a:lnTo>
                      <a:pt x="514" y="718"/>
                    </a:lnTo>
                    <a:lnTo>
                      <a:pt x="514" y="708"/>
                    </a:lnTo>
                    <a:lnTo>
                      <a:pt x="516" y="701"/>
                    </a:lnTo>
                    <a:lnTo>
                      <a:pt x="520" y="694"/>
                    </a:lnTo>
                    <a:lnTo>
                      <a:pt x="520" y="661"/>
                    </a:lnTo>
                    <a:lnTo>
                      <a:pt x="509" y="655"/>
                    </a:lnTo>
                    <a:lnTo>
                      <a:pt x="510" y="647"/>
                    </a:lnTo>
                    <a:lnTo>
                      <a:pt x="513" y="638"/>
                    </a:lnTo>
                    <a:lnTo>
                      <a:pt x="513" y="627"/>
                    </a:lnTo>
                    <a:lnTo>
                      <a:pt x="510" y="614"/>
                    </a:lnTo>
                    <a:lnTo>
                      <a:pt x="513" y="595"/>
                    </a:lnTo>
                    <a:lnTo>
                      <a:pt x="516" y="571"/>
                    </a:lnTo>
                    <a:lnTo>
                      <a:pt x="523" y="545"/>
                    </a:lnTo>
                    <a:lnTo>
                      <a:pt x="533" y="519"/>
                    </a:lnTo>
                    <a:lnTo>
                      <a:pt x="516" y="539"/>
                    </a:lnTo>
                    <a:lnTo>
                      <a:pt x="498" y="558"/>
                    </a:lnTo>
                    <a:lnTo>
                      <a:pt x="482" y="573"/>
                    </a:lnTo>
                    <a:lnTo>
                      <a:pt x="465" y="590"/>
                    </a:lnTo>
                    <a:lnTo>
                      <a:pt x="449" y="603"/>
                    </a:lnTo>
                    <a:lnTo>
                      <a:pt x="430" y="619"/>
                    </a:lnTo>
                    <a:lnTo>
                      <a:pt x="411" y="632"/>
                    </a:lnTo>
                    <a:lnTo>
                      <a:pt x="389" y="645"/>
                    </a:lnTo>
                    <a:lnTo>
                      <a:pt x="368" y="657"/>
                    </a:lnTo>
                    <a:lnTo>
                      <a:pt x="348" y="665"/>
                    </a:lnTo>
                    <a:lnTo>
                      <a:pt x="328" y="673"/>
                    </a:lnTo>
                    <a:lnTo>
                      <a:pt x="310" y="679"/>
                    </a:lnTo>
                    <a:lnTo>
                      <a:pt x="293" y="745"/>
                    </a:lnTo>
                    <a:lnTo>
                      <a:pt x="292" y="763"/>
                    </a:lnTo>
                    <a:lnTo>
                      <a:pt x="289" y="782"/>
                    </a:lnTo>
                    <a:lnTo>
                      <a:pt x="286" y="798"/>
                    </a:lnTo>
                    <a:lnTo>
                      <a:pt x="282" y="814"/>
                    </a:lnTo>
                    <a:lnTo>
                      <a:pt x="277" y="830"/>
                    </a:lnTo>
                    <a:lnTo>
                      <a:pt x="268" y="845"/>
                    </a:lnTo>
                    <a:lnTo>
                      <a:pt x="260" y="859"/>
                    </a:lnTo>
                    <a:lnTo>
                      <a:pt x="250" y="869"/>
                    </a:lnTo>
                    <a:lnTo>
                      <a:pt x="247" y="881"/>
                    </a:lnTo>
                    <a:lnTo>
                      <a:pt x="240" y="893"/>
                    </a:lnTo>
                    <a:lnTo>
                      <a:pt x="228" y="902"/>
                    </a:lnTo>
                    <a:lnTo>
                      <a:pt x="212" y="910"/>
                    </a:lnTo>
                    <a:lnTo>
                      <a:pt x="188" y="916"/>
                    </a:lnTo>
                    <a:lnTo>
                      <a:pt x="166" y="916"/>
                    </a:lnTo>
                    <a:lnTo>
                      <a:pt x="146" y="911"/>
                    </a:lnTo>
                    <a:lnTo>
                      <a:pt x="130" y="906"/>
                    </a:lnTo>
                    <a:lnTo>
                      <a:pt x="118" y="897"/>
                    </a:lnTo>
                    <a:lnTo>
                      <a:pt x="109" y="888"/>
                    </a:lnTo>
                    <a:lnTo>
                      <a:pt x="99" y="885"/>
                    </a:lnTo>
                    <a:lnTo>
                      <a:pt x="88" y="867"/>
                    </a:lnTo>
                    <a:lnTo>
                      <a:pt x="81" y="845"/>
                    </a:lnTo>
                    <a:lnTo>
                      <a:pt x="76" y="827"/>
                    </a:lnTo>
                    <a:lnTo>
                      <a:pt x="72" y="805"/>
                    </a:lnTo>
                    <a:lnTo>
                      <a:pt x="72" y="784"/>
                    </a:lnTo>
                    <a:lnTo>
                      <a:pt x="68" y="748"/>
                    </a:lnTo>
                    <a:lnTo>
                      <a:pt x="80" y="727"/>
                    </a:lnTo>
                    <a:lnTo>
                      <a:pt x="84" y="699"/>
                    </a:lnTo>
                    <a:lnTo>
                      <a:pt x="93" y="689"/>
                    </a:lnTo>
                    <a:lnTo>
                      <a:pt x="89" y="673"/>
                    </a:lnTo>
                    <a:lnTo>
                      <a:pt x="86" y="659"/>
                    </a:lnTo>
                    <a:lnTo>
                      <a:pt x="63" y="641"/>
                    </a:lnTo>
                    <a:lnTo>
                      <a:pt x="74" y="625"/>
                    </a:lnTo>
                    <a:lnTo>
                      <a:pt x="86" y="590"/>
                    </a:lnTo>
                    <a:lnTo>
                      <a:pt x="77" y="591"/>
                    </a:lnTo>
                    <a:lnTo>
                      <a:pt x="68" y="589"/>
                    </a:lnTo>
                    <a:lnTo>
                      <a:pt x="63" y="586"/>
                    </a:lnTo>
                    <a:lnTo>
                      <a:pt x="59" y="579"/>
                    </a:lnTo>
                    <a:lnTo>
                      <a:pt x="57" y="573"/>
                    </a:lnTo>
                    <a:lnTo>
                      <a:pt x="51" y="575"/>
                    </a:lnTo>
                    <a:lnTo>
                      <a:pt x="42" y="573"/>
                    </a:lnTo>
                    <a:lnTo>
                      <a:pt x="35" y="569"/>
                    </a:lnTo>
                    <a:lnTo>
                      <a:pt x="28" y="564"/>
                    </a:lnTo>
                    <a:lnTo>
                      <a:pt x="22" y="553"/>
                    </a:lnTo>
                    <a:lnTo>
                      <a:pt x="17" y="545"/>
                    </a:lnTo>
                    <a:lnTo>
                      <a:pt x="14" y="536"/>
                    </a:lnTo>
                    <a:lnTo>
                      <a:pt x="8" y="532"/>
                    </a:lnTo>
                    <a:lnTo>
                      <a:pt x="1" y="477"/>
                    </a:lnTo>
                    <a:lnTo>
                      <a:pt x="6" y="475"/>
                    </a:lnTo>
                    <a:lnTo>
                      <a:pt x="6" y="452"/>
                    </a:lnTo>
                    <a:lnTo>
                      <a:pt x="0" y="451"/>
                    </a:lnTo>
                    <a:lnTo>
                      <a:pt x="1" y="436"/>
                    </a:lnTo>
                    <a:lnTo>
                      <a:pt x="5" y="425"/>
                    </a:lnTo>
                    <a:lnTo>
                      <a:pt x="6" y="418"/>
                    </a:lnTo>
                    <a:lnTo>
                      <a:pt x="11" y="413"/>
                    </a:lnTo>
                    <a:lnTo>
                      <a:pt x="14" y="402"/>
                    </a:lnTo>
                    <a:lnTo>
                      <a:pt x="15" y="397"/>
                    </a:lnTo>
                    <a:lnTo>
                      <a:pt x="18" y="391"/>
                    </a:lnTo>
                    <a:lnTo>
                      <a:pt x="34" y="386"/>
                    </a:lnTo>
                    <a:lnTo>
                      <a:pt x="28" y="376"/>
                    </a:lnTo>
                    <a:lnTo>
                      <a:pt x="29" y="374"/>
                    </a:lnTo>
                    <a:close/>
                    <a:moveTo>
                      <a:pt x="97" y="388"/>
                    </a:moveTo>
                    <a:lnTo>
                      <a:pt x="89" y="394"/>
                    </a:lnTo>
                    <a:lnTo>
                      <a:pt x="93" y="398"/>
                    </a:lnTo>
                    <a:lnTo>
                      <a:pt x="95" y="403"/>
                    </a:lnTo>
                    <a:lnTo>
                      <a:pt x="97" y="398"/>
                    </a:lnTo>
                    <a:lnTo>
                      <a:pt x="98" y="393"/>
                    </a:lnTo>
                    <a:lnTo>
                      <a:pt x="97" y="38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2800440" y="3781440"/>
                <a:ext cx="218880" cy="176040"/>
              </a:xfrm>
              <a:custGeom>
                <a:avLst/>
                <a:gdLst/>
                <a:ahLst/>
                <a:rect l="l" t="t" r="r" b="b"/>
                <a:pathLst>
                  <a:path w="690" h="553">
                    <a:moveTo>
                      <a:pt x="665" y="0"/>
                    </a:moveTo>
                    <a:lnTo>
                      <a:pt x="668" y="42"/>
                    </a:lnTo>
                    <a:lnTo>
                      <a:pt x="668" y="92"/>
                    </a:lnTo>
                    <a:lnTo>
                      <a:pt x="663" y="148"/>
                    </a:lnTo>
                    <a:lnTo>
                      <a:pt x="653" y="204"/>
                    </a:lnTo>
                    <a:lnTo>
                      <a:pt x="640" y="258"/>
                    </a:lnTo>
                    <a:lnTo>
                      <a:pt x="628" y="296"/>
                    </a:lnTo>
                    <a:lnTo>
                      <a:pt x="619" y="303"/>
                    </a:lnTo>
                    <a:lnTo>
                      <a:pt x="607" y="311"/>
                    </a:lnTo>
                    <a:lnTo>
                      <a:pt x="599" y="351"/>
                    </a:lnTo>
                    <a:lnTo>
                      <a:pt x="599" y="358"/>
                    </a:lnTo>
                    <a:lnTo>
                      <a:pt x="603" y="365"/>
                    </a:lnTo>
                    <a:lnTo>
                      <a:pt x="603" y="372"/>
                    </a:lnTo>
                    <a:lnTo>
                      <a:pt x="598" y="380"/>
                    </a:lnTo>
                    <a:lnTo>
                      <a:pt x="606" y="388"/>
                    </a:lnTo>
                    <a:lnTo>
                      <a:pt x="612" y="394"/>
                    </a:lnTo>
                    <a:lnTo>
                      <a:pt x="616" y="406"/>
                    </a:lnTo>
                    <a:lnTo>
                      <a:pt x="624" y="408"/>
                    </a:lnTo>
                    <a:lnTo>
                      <a:pt x="628" y="412"/>
                    </a:lnTo>
                    <a:lnTo>
                      <a:pt x="633" y="419"/>
                    </a:lnTo>
                    <a:lnTo>
                      <a:pt x="637" y="427"/>
                    </a:lnTo>
                    <a:lnTo>
                      <a:pt x="641" y="434"/>
                    </a:lnTo>
                    <a:lnTo>
                      <a:pt x="665" y="446"/>
                    </a:lnTo>
                    <a:lnTo>
                      <a:pt x="681" y="453"/>
                    </a:lnTo>
                    <a:lnTo>
                      <a:pt x="687" y="459"/>
                    </a:lnTo>
                    <a:lnTo>
                      <a:pt x="690" y="467"/>
                    </a:lnTo>
                    <a:lnTo>
                      <a:pt x="690" y="478"/>
                    </a:lnTo>
                    <a:lnTo>
                      <a:pt x="678" y="481"/>
                    </a:lnTo>
                    <a:lnTo>
                      <a:pt x="661" y="484"/>
                    </a:lnTo>
                    <a:lnTo>
                      <a:pt x="635" y="482"/>
                    </a:lnTo>
                    <a:lnTo>
                      <a:pt x="611" y="478"/>
                    </a:lnTo>
                    <a:lnTo>
                      <a:pt x="584" y="470"/>
                    </a:lnTo>
                    <a:lnTo>
                      <a:pt x="564" y="460"/>
                    </a:lnTo>
                    <a:lnTo>
                      <a:pt x="549" y="451"/>
                    </a:lnTo>
                    <a:lnTo>
                      <a:pt x="533" y="449"/>
                    </a:lnTo>
                    <a:lnTo>
                      <a:pt x="520" y="448"/>
                    </a:lnTo>
                    <a:lnTo>
                      <a:pt x="509" y="443"/>
                    </a:lnTo>
                    <a:lnTo>
                      <a:pt x="497" y="439"/>
                    </a:lnTo>
                    <a:lnTo>
                      <a:pt x="494" y="426"/>
                    </a:lnTo>
                    <a:lnTo>
                      <a:pt x="495" y="414"/>
                    </a:lnTo>
                    <a:lnTo>
                      <a:pt x="497" y="403"/>
                    </a:lnTo>
                    <a:lnTo>
                      <a:pt x="499" y="393"/>
                    </a:lnTo>
                    <a:lnTo>
                      <a:pt x="503" y="384"/>
                    </a:lnTo>
                    <a:lnTo>
                      <a:pt x="509" y="373"/>
                    </a:lnTo>
                    <a:lnTo>
                      <a:pt x="514" y="365"/>
                    </a:lnTo>
                    <a:lnTo>
                      <a:pt x="514" y="355"/>
                    </a:lnTo>
                    <a:lnTo>
                      <a:pt x="514" y="345"/>
                    </a:lnTo>
                    <a:lnTo>
                      <a:pt x="516" y="338"/>
                    </a:lnTo>
                    <a:lnTo>
                      <a:pt x="520" y="331"/>
                    </a:lnTo>
                    <a:lnTo>
                      <a:pt x="520" y="298"/>
                    </a:lnTo>
                    <a:lnTo>
                      <a:pt x="509" y="292"/>
                    </a:lnTo>
                    <a:lnTo>
                      <a:pt x="510" y="284"/>
                    </a:lnTo>
                    <a:lnTo>
                      <a:pt x="513" y="275"/>
                    </a:lnTo>
                    <a:lnTo>
                      <a:pt x="513" y="264"/>
                    </a:lnTo>
                    <a:lnTo>
                      <a:pt x="510" y="251"/>
                    </a:lnTo>
                    <a:lnTo>
                      <a:pt x="513" y="232"/>
                    </a:lnTo>
                    <a:lnTo>
                      <a:pt x="516" y="208"/>
                    </a:lnTo>
                    <a:lnTo>
                      <a:pt x="523" y="182"/>
                    </a:lnTo>
                    <a:lnTo>
                      <a:pt x="533" y="156"/>
                    </a:lnTo>
                    <a:lnTo>
                      <a:pt x="516" y="176"/>
                    </a:lnTo>
                    <a:lnTo>
                      <a:pt x="498" y="195"/>
                    </a:lnTo>
                    <a:lnTo>
                      <a:pt x="482" y="210"/>
                    </a:lnTo>
                    <a:lnTo>
                      <a:pt x="465" y="227"/>
                    </a:lnTo>
                    <a:lnTo>
                      <a:pt x="449" y="240"/>
                    </a:lnTo>
                    <a:lnTo>
                      <a:pt x="430" y="256"/>
                    </a:lnTo>
                    <a:lnTo>
                      <a:pt x="411" y="269"/>
                    </a:lnTo>
                    <a:lnTo>
                      <a:pt x="389" y="282"/>
                    </a:lnTo>
                    <a:lnTo>
                      <a:pt x="368" y="294"/>
                    </a:lnTo>
                    <a:lnTo>
                      <a:pt x="348" y="302"/>
                    </a:lnTo>
                    <a:lnTo>
                      <a:pt x="328" y="310"/>
                    </a:lnTo>
                    <a:lnTo>
                      <a:pt x="310" y="316"/>
                    </a:lnTo>
                    <a:lnTo>
                      <a:pt x="293" y="382"/>
                    </a:lnTo>
                    <a:lnTo>
                      <a:pt x="292" y="400"/>
                    </a:lnTo>
                    <a:lnTo>
                      <a:pt x="289" y="419"/>
                    </a:lnTo>
                    <a:lnTo>
                      <a:pt x="286" y="435"/>
                    </a:lnTo>
                    <a:lnTo>
                      <a:pt x="282" y="451"/>
                    </a:lnTo>
                    <a:lnTo>
                      <a:pt x="277" y="467"/>
                    </a:lnTo>
                    <a:lnTo>
                      <a:pt x="268" y="482"/>
                    </a:lnTo>
                    <a:lnTo>
                      <a:pt x="260" y="496"/>
                    </a:lnTo>
                    <a:lnTo>
                      <a:pt x="250" y="506"/>
                    </a:lnTo>
                    <a:lnTo>
                      <a:pt x="247" y="518"/>
                    </a:lnTo>
                    <a:lnTo>
                      <a:pt x="240" y="530"/>
                    </a:lnTo>
                    <a:lnTo>
                      <a:pt x="228" y="539"/>
                    </a:lnTo>
                    <a:lnTo>
                      <a:pt x="212" y="547"/>
                    </a:lnTo>
                    <a:lnTo>
                      <a:pt x="188" y="553"/>
                    </a:lnTo>
                    <a:lnTo>
                      <a:pt x="166" y="553"/>
                    </a:lnTo>
                    <a:lnTo>
                      <a:pt x="146" y="548"/>
                    </a:lnTo>
                    <a:lnTo>
                      <a:pt x="130" y="543"/>
                    </a:lnTo>
                    <a:lnTo>
                      <a:pt x="118" y="534"/>
                    </a:lnTo>
                    <a:lnTo>
                      <a:pt x="109" y="525"/>
                    </a:lnTo>
                    <a:lnTo>
                      <a:pt x="99" y="522"/>
                    </a:lnTo>
                    <a:lnTo>
                      <a:pt x="88" y="504"/>
                    </a:lnTo>
                    <a:lnTo>
                      <a:pt x="81" y="482"/>
                    </a:lnTo>
                    <a:lnTo>
                      <a:pt x="76" y="464"/>
                    </a:lnTo>
                    <a:lnTo>
                      <a:pt x="72" y="442"/>
                    </a:lnTo>
                    <a:lnTo>
                      <a:pt x="72" y="421"/>
                    </a:lnTo>
                    <a:lnTo>
                      <a:pt x="68" y="385"/>
                    </a:lnTo>
                    <a:lnTo>
                      <a:pt x="80" y="364"/>
                    </a:lnTo>
                    <a:lnTo>
                      <a:pt x="84" y="336"/>
                    </a:lnTo>
                    <a:lnTo>
                      <a:pt x="93" y="326"/>
                    </a:lnTo>
                    <a:lnTo>
                      <a:pt x="89" y="310"/>
                    </a:lnTo>
                    <a:lnTo>
                      <a:pt x="86" y="296"/>
                    </a:lnTo>
                    <a:lnTo>
                      <a:pt x="63" y="278"/>
                    </a:lnTo>
                    <a:lnTo>
                      <a:pt x="74" y="262"/>
                    </a:lnTo>
                    <a:lnTo>
                      <a:pt x="86" y="227"/>
                    </a:lnTo>
                    <a:lnTo>
                      <a:pt x="77" y="228"/>
                    </a:lnTo>
                    <a:lnTo>
                      <a:pt x="68" y="226"/>
                    </a:lnTo>
                    <a:lnTo>
                      <a:pt x="63" y="223"/>
                    </a:lnTo>
                    <a:lnTo>
                      <a:pt x="59" y="216"/>
                    </a:lnTo>
                    <a:lnTo>
                      <a:pt x="57" y="210"/>
                    </a:lnTo>
                    <a:lnTo>
                      <a:pt x="51" y="212"/>
                    </a:lnTo>
                    <a:lnTo>
                      <a:pt x="42" y="210"/>
                    </a:lnTo>
                    <a:lnTo>
                      <a:pt x="35" y="206"/>
                    </a:lnTo>
                    <a:lnTo>
                      <a:pt x="28" y="201"/>
                    </a:lnTo>
                    <a:lnTo>
                      <a:pt x="22" y="190"/>
                    </a:lnTo>
                    <a:lnTo>
                      <a:pt x="17" y="182"/>
                    </a:lnTo>
                    <a:lnTo>
                      <a:pt x="14" y="173"/>
                    </a:lnTo>
                    <a:lnTo>
                      <a:pt x="8" y="169"/>
                    </a:lnTo>
                    <a:lnTo>
                      <a:pt x="1" y="114"/>
                    </a:lnTo>
                    <a:lnTo>
                      <a:pt x="6" y="112"/>
                    </a:lnTo>
                    <a:lnTo>
                      <a:pt x="6" y="89"/>
                    </a:lnTo>
                    <a:lnTo>
                      <a:pt x="0" y="88"/>
                    </a:lnTo>
                    <a:lnTo>
                      <a:pt x="1" y="73"/>
                    </a:lnTo>
                    <a:lnTo>
                      <a:pt x="5" y="62"/>
                    </a:lnTo>
                    <a:lnTo>
                      <a:pt x="6" y="55"/>
                    </a:lnTo>
                    <a:lnTo>
                      <a:pt x="11" y="50"/>
                    </a:lnTo>
                    <a:lnTo>
                      <a:pt x="14" y="39"/>
                    </a:lnTo>
                    <a:lnTo>
                      <a:pt x="15" y="34"/>
                    </a:lnTo>
                    <a:lnTo>
                      <a:pt x="18" y="28"/>
                    </a:lnTo>
                    <a:lnTo>
                      <a:pt x="34" y="23"/>
                    </a:lnTo>
                    <a:lnTo>
                      <a:pt x="28" y="13"/>
                    </a:lnTo>
                    <a:lnTo>
                      <a:pt x="29" y="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2955960" y="3666960"/>
                <a:ext cx="138240" cy="114480"/>
              </a:xfrm>
              <a:custGeom>
                <a:avLst/>
                <a:gdLst/>
                <a:ahLst/>
                <a:rect l="l" t="t" r="r" b="b"/>
                <a:pathLst>
                  <a:path w="436" h="363">
                    <a:moveTo>
                      <a:pt x="0" y="0"/>
                    </a:moveTo>
                    <a:lnTo>
                      <a:pt x="1" y="10"/>
                    </a:lnTo>
                    <a:lnTo>
                      <a:pt x="1" y="22"/>
                    </a:lnTo>
                    <a:lnTo>
                      <a:pt x="10" y="23"/>
                    </a:lnTo>
                    <a:lnTo>
                      <a:pt x="23" y="47"/>
                    </a:lnTo>
                    <a:lnTo>
                      <a:pt x="118" y="148"/>
                    </a:lnTo>
                    <a:lnTo>
                      <a:pt x="123" y="155"/>
                    </a:lnTo>
                    <a:lnTo>
                      <a:pt x="124" y="163"/>
                    </a:lnTo>
                    <a:lnTo>
                      <a:pt x="123" y="169"/>
                    </a:lnTo>
                    <a:lnTo>
                      <a:pt x="118" y="173"/>
                    </a:lnTo>
                    <a:lnTo>
                      <a:pt x="114" y="175"/>
                    </a:lnTo>
                    <a:lnTo>
                      <a:pt x="114" y="182"/>
                    </a:lnTo>
                    <a:lnTo>
                      <a:pt x="111" y="189"/>
                    </a:lnTo>
                    <a:lnTo>
                      <a:pt x="107" y="193"/>
                    </a:lnTo>
                    <a:lnTo>
                      <a:pt x="111" y="197"/>
                    </a:lnTo>
                    <a:lnTo>
                      <a:pt x="114" y="203"/>
                    </a:lnTo>
                    <a:lnTo>
                      <a:pt x="119" y="211"/>
                    </a:lnTo>
                    <a:lnTo>
                      <a:pt x="131" y="218"/>
                    </a:lnTo>
                    <a:lnTo>
                      <a:pt x="139" y="224"/>
                    </a:lnTo>
                    <a:lnTo>
                      <a:pt x="148" y="231"/>
                    </a:lnTo>
                    <a:lnTo>
                      <a:pt x="156" y="236"/>
                    </a:lnTo>
                    <a:lnTo>
                      <a:pt x="178" y="230"/>
                    </a:lnTo>
                    <a:lnTo>
                      <a:pt x="191" y="227"/>
                    </a:lnTo>
                    <a:lnTo>
                      <a:pt x="204" y="224"/>
                    </a:lnTo>
                    <a:lnTo>
                      <a:pt x="212" y="222"/>
                    </a:lnTo>
                    <a:lnTo>
                      <a:pt x="248" y="197"/>
                    </a:lnTo>
                    <a:lnTo>
                      <a:pt x="293" y="148"/>
                    </a:lnTo>
                    <a:lnTo>
                      <a:pt x="298" y="149"/>
                    </a:lnTo>
                    <a:lnTo>
                      <a:pt x="323" y="122"/>
                    </a:lnTo>
                    <a:lnTo>
                      <a:pt x="324" y="115"/>
                    </a:lnTo>
                    <a:lnTo>
                      <a:pt x="329" y="107"/>
                    </a:lnTo>
                    <a:lnTo>
                      <a:pt x="336" y="99"/>
                    </a:lnTo>
                    <a:lnTo>
                      <a:pt x="436" y="97"/>
                    </a:lnTo>
                    <a:lnTo>
                      <a:pt x="370" y="134"/>
                    </a:lnTo>
                    <a:lnTo>
                      <a:pt x="357" y="148"/>
                    </a:lnTo>
                    <a:lnTo>
                      <a:pt x="337" y="181"/>
                    </a:lnTo>
                    <a:lnTo>
                      <a:pt x="340" y="189"/>
                    </a:lnTo>
                    <a:lnTo>
                      <a:pt x="290" y="275"/>
                    </a:lnTo>
                    <a:lnTo>
                      <a:pt x="274" y="319"/>
                    </a:lnTo>
                    <a:lnTo>
                      <a:pt x="255" y="335"/>
                    </a:lnTo>
                    <a:lnTo>
                      <a:pt x="235" y="348"/>
                    </a:lnTo>
                    <a:lnTo>
                      <a:pt x="210" y="359"/>
                    </a:lnTo>
                    <a:lnTo>
                      <a:pt x="193" y="361"/>
                    </a:lnTo>
                    <a:lnTo>
                      <a:pt x="177" y="3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2962440" y="3664080"/>
                <a:ext cx="231480" cy="64800"/>
              </a:xfrm>
              <a:custGeom>
                <a:avLst/>
                <a:gdLst/>
                <a:ahLst/>
                <a:rect l="l" t="t" r="r" b="b"/>
                <a:pathLst>
                  <a:path w="727" h="205">
                    <a:moveTo>
                      <a:pt x="510" y="99"/>
                    </a:moveTo>
                    <a:lnTo>
                      <a:pt x="500" y="95"/>
                    </a:lnTo>
                    <a:lnTo>
                      <a:pt x="425" y="97"/>
                    </a:lnTo>
                    <a:lnTo>
                      <a:pt x="421" y="101"/>
                    </a:lnTo>
                    <a:lnTo>
                      <a:pt x="502" y="105"/>
                    </a:lnTo>
                    <a:lnTo>
                      <a:pt x="497" y="108"/>
                    </a:lnTo>
                    <a:lnTo>
                      <a:pt x="413" y="108"/>
                    </a:lnTo>
                    <a:lnTo>
                      <a:pt x="313" y="110"/>
                    </a:lnTo>
                    <a:lnTo>
                      <a:pt x="289" y="110"/>
                    </a:lnTo>
                    <a:lnTo>
                      <a:pt x="206" y="143"/>
                    </a:lnTo>
                    <a:lnTo>
                      <a:pt x="206" y="193"/>
                    </a:lnTo>
                    <a:lnTo>
                      <a:pt x="149" y="205"/>
                    </a:lnTo>
                    <a:lnTo>
                      <a:pt x="149" y="159"/>
                    </a:lnTo>
                    <a:lnTo>
                      <a:pt x="145" y="147"/>
                    </a:lnTo>
                    <a:lnTo>
                      <a:pt x="145" y="136"/>
                    </a:lnTo>
                    <a:lnTo>
                      <a:pt x="143" y="132"/>
                    </a:lnTo>
                    <a:lnTo>
                      <a:pt x="141" y="129"/>
                    </a:lnTo>
                    <a:lnTo>
                      <a:pt x="137" y="127"/>
                    </a:lnTo>
                    <a:lnTo>
                      <a:pt x="134" y="127"/>
                    </a:lnTo>
                    <a:lnTo>
                      <a:pt x="113" y="126"/>
                    </a:lnTo>
                    <a:lnTo>
                      <a:pt x="121" y="137"/>
                    </a:lnTo>
                    <a:lnTo>
                      <a:pt x="122" y="142"/>
                    </a:lnTo>
                    <a:lnTo>
                      <a:pt x="122" y="147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38" y="153"/>
                    </a:lnTo>
                    <a:lnTo>
                      <a:pt x="142" y="153"/>
                    </a:lnTo>
                    <a:lnTo>
                      <a:pt x="143" y="150"/>
                    </a:lnTo>
                    <a:lnTo>
                      <a:pt x="145" y="147"/>
                    </a:lnTo>
                    <a:lnTo>
                      <a:pt x="149" y="159"/>
                    </a:lnTo>
                    <a:lnTo>
                      <a:pt x="95" y="159"/>
                    </a:lnTo>
                    <a:lnTo>
                      <a:pt x="0" y="58"/>
                    </a:lnTo>
                    <a:lnTo>
                      <a:pt x="37" y="58"/>
                    </a:lnTo>
                    <a:lnTo>
                      <a:pt x="37" y="46"/>
                    </a:lnTo>
                    <a:lnTo>
                      <a:pt x="49" y="46"/>
                    </a:lnTo>
                    <a:lnTo>
                      <a:pt x="55" y="21"/>
                    </a:lnTo>
                    <a:lnTo>
                      <a:pt x="60" y="21"/>
                    </a:lnTo>
                    <a:lnTo>
                      <a:pt x="63" y="11"/>
                    </a:lnTo>
                    <a:lnTo>
                      <a:pt x="68" y="5"/>
                    </a:lnTo>
                    <a:lnTo>
                      <a:pt x="77" y="4"/>
                    </a:lnTo>
                    <a:lnTo>
                      <a:pt x="209" y="15"/>
                    </a:lnTo>
                    <a:lnTo>
                      <a:pt x="214" y="17"/>
                    </a:lnTo>
                    <a:lnTo>
                      <a:pt x="220" y="22"/>
                    </a:lnTo>
                    <a:lnTo>
                      <a:pt x="223" y="28"/>
                    </a:lnTo>
                    <a:lnTo>
                      <a:pt x="223" y="34"/>
                    </a:lnTo>
                    <a:lnTo>
                      <a:pt x="222" y="41"/>
                    </a:lnTo>
                    <a:lnTo>
                      <a:pt x="220" y="43"/>
                    </a:lnTo>
                    <a:lnTo>
                      <a:pt x="212" y="43"/>
                    </a:lnTo>
                    <a:lnTo>
                      <a:pt x="213" y="38"/>
                    </a:lnTo>
                    <a:lnTo>
                      <a:pt x="216" y="33"/>
                    </a:lnTo>
                    <a:lnTo>
                      <a:pt x="216" y="28"/>
                    </a:lnTo>
                    <a:lnTo>
                      <a:pt x="212" y="24"/>
                    </a:lnTo>
                    <a:lnTo>
                      <a:pt x="206" y="21"/>
                    </a:lnTo>
                    <a:lnTo>
                      <a:pt x="107" y="21"/>
                    </a:lnTo>
                    <a:lnTo>
                      <a:pt x="102" y="26"/>
                    </a:lnTo>
                    <a:lnTo>
                      <a:pt x="100" y="32"/>
                    </a:lnTo>
                    <a:lnTo>
                      <a:pt x="98" y="37"/>
                    </a:lnTo>
                    <a:lnTo>
                      <a:pt x="98" y="42"/>
                    </a:lnTo>
                    <a:lnTo>
                      <a:pt x="100" y="45"/>
                    </a:lnTo>
                    <a:lnTo>
                      <a:pt x="104" y="46"/>
                    </a:lnTo>
                    <a:lnTo>
                      <a:pt x="206" y="46"/>
                    </a:lnTo>
                    <a:lnTo>
                      <a:pt x="212" y="43"/>
                    </a:lnTo>
                    <a:lnTo>
                      <a:pt x="220" y="43"/>
                    </a:lnTo>
                    <a:lnTo>
                      <a:pt x="515" y="43"/>
                    </a:lnTo>
                    <a:lnTo>
                      <a:pt x="522" y="45"/>
                    </a:lnTo>
                    <a:lnTo>
                      <a:pt x="524" y="46"/>
                    </a:lnTo>
                    <a:lnTo>
                      <a:pt x="556" y="46"/>
                    </a:lnTo>
                    <a:lnTo>
                      <a:pt x="555" y="32"/>
                    </a:lnTo>
                    <a:lnTo>
                      <a:pt x="550" y="32"/>
                    </a:lnTo>
                    <a:lnTo>
                      <a:pt x="550" y="16"/>
                    </a:lnTo>
                    <a:lnTo>
                      <a:pt x="541" y="16"/>
                    </a:lnTo>
                    <a:lnTo>
                      <a:pt x="521" y="42"/>
                    </a:lnTo>
                    <a:lnTo>
                      <a:pt x="521" y="45"/>
                    </a:lnTo>
                    <a:lnTo>
                      <a:pt x="522" y="45"/>
                    </a:lnTo>
                    <a:lnTo>
                      <a:pt x="515" y="43"/>
                    </a:lnTo>
                    <a:lnTo>
                      <a:pt x="545" y="2"/>
                    </a:lnTo>
                    <a:lnTo>
                      <a:pt x="550" y="0"/>
                    </a:lnTo>
                    <a:lnTo>
                      <a:pt x="556" y="2"/>
                    </a:lnTo>
                    <a:lnTo>
                      <a:pt x="560" y="7"/>
                    </a:lnTo>
                    <a:lnTo>
                      <a:pt x="563" y="55"/>
                    </a:lnTo>
                    <a:lnTo>
                      <a:pt x="643" y="55"/>
                    </a:lnTo>
                    <a:lnTo>
                      <a:pt x="651" y="51"/>
                    </a:lnTo>
                    <a:lnTo>
                      <a:pt x="708" y="50"/>
                    </a:lnTo>
                    <a:lnTo>
                      <a:pt x="713" y="42"/>
                    </a:lnTo>
                    <a:lnTo>
                      <a:pt x="723" y="42"/>
                    </a:lnTo>
                    <a:lnTo>
                      <a:pt x="723" y="50"/>
                    </a:lnTo>
                    <a:lnTo>
                      <a:pt x="727" y="50"/>
                    </a:lnTo>
                    <a:lnTo>
                      <a:pt x="727" y="74"/>
                    </a:lnTo>
                    <a:lnTo>
                      <a:pt x="712" y="74"/>
                    </a:lnTo>
                    <a:lnTo>
                      <a:pt x="705" y="70"/>
                    </a:lnTo>
                    <a:lnTo>
                      <a:pt x="563" y="70"/>
                    </a:lnTo>
                    <a:lnTo>
                      <a:pt x="563" y="76"/>
                    </a:lnTo>
                    <a:lnTo>
                      <a:pt x="550" y="76"/>
                    </a:lnTo>
                    <a:lnTo>
                      <a:pt x="550" y="74"/>
                    </a:lnTo>
                    <a:lnTo>
                      <a:pt x="526" y="74"/>
                    </a:lnTo>
                    <a:lnTo>
                      <a:pt x="526" y="87"/>
                    </a:lnTo>
                    <a:lnTo>
                      <a:pt x="518" y="87"/>
                    </a:lnTo>
                    <a:lnTo>
                      <a:pt x="510" y="9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0" name=""/>
            <p:cNvSpPr/>
            <p:nvPr/>
          </p:nvSpPr>
          <p:spPr>
            <a:xfrm>
              <a:off x="2665440" y="3984480"/>
              <a:ext cx="204840" cy="319320"/>
            </a:xfrm>
            <a:custGeom>
              <a:avLst/>
              <a:gdLst/>
              <a:ahLst/>
              <a:rect l="l" t="t" r="r" b="b"/>
              <a:pathLst>
                <a:path w="643" h="1006">
                  <a:moveTo>
                    <a:pt x="208" y="527"/>
                  </a:moveTo>
                  <a:lnTo>
                    <a:pt x="225" y="514"/>
                  </a:lnTo>
                  <a:lnTo>
                    <a:pt x="240" y="505"/>
                  </a:lnTo>
                  <a:lnTo>
                    <a:pt x="255" y="496"/>
                  </a:lnTo>
                  <a:lnTo>
                    <a:pt x="272" y="489"/>
                  </a:lnTo>
                  <a:lnTo>
                    <a:pt x="241" y="469"/>
                  </a:lnTo>
                  <a:lnTo>
                    <a:pt x="228" y="460"/>
                  </a:lnTo>
                  <a:lnTo>
                    <a:pt x="212" y="448"/>
                  </a:lnTo>
                  <a:lnTo>
                    <a:pt x="213" y="468"/>
                  </a:lnTo>
                  <a:lnTo>
                    <a:pt x="211" y="486"/>
                  </a:lnTo>
                  <a:lnTo>
                    <a:pt x="208" y="527"/>
                  </a:lnTo>
                  <a:close/>
                  <a:moveTo>
                    <a:pt x="30" y="237"/>
                  </a:moveTo>
                  <a:lnTo>
                    <a:pt x="35" y="208"/>
                  </a:lnTo>
                  <a:lnTo>
                    <a:pt x="42" y="178"/>
                  </a:lnTo>
                  <a:lnTo>
                    <a:pt x="49" y="148"/>
                  </a:lnTo>
                  <a:lnTo>
                    <a:pt x="56" y="118"/>
                  </a:lnTo>
                  <a:lnTo>
                    <a:pt x="64" y="90"/>
                  </a:lnTo>
                  <a:lnTo>
                    <a:pt x="72" y="61"/>
                  </a:lnTo>
                  <a:lnTo>
                    <a:pt x="81" y="32"/>
                  </a:lnTo>
                  <a:lnTo>
                    <a:pt x="90" y="4"/>
                  </a:lnTo>
                  <a:lnTo>
                    <a:pt x="95" y="2"/>
                  </a:lnTo>
                  <a:lnTo>
                    <a:pt x="116" y="0"/>
                  </a:lnTo>
                  <a:lnTo>
                    <a:pt x="132" y="0"/>
                  </a:lnTo>
                  <a:lnTo>
                    <a:pt x="149" y="2"/>
                  </a:lnTo>
                  <a:lnTo>
                    <a:pt x="162" y="6"/>
                  </a:lnTo>
                  <a:lnTo>
                    <a:pt x="172" y="12"/>
                  </a:lnTo>
                  <a:lnTo>
                    <a:pt x="184" y="23"/>
                  </a:lnTo>
                  <a:lnTo>
                    <a:pt x="194" y="38"/>
                  </a:lnTo>
                  <a:lnTo>
                    <a:pt x="208" y="65"/>
                  </a:lnTo>
                  <a:lnTo>
                    <a:pt x="224" y="99"/>
                  </a:lnTo>
                  <a:lnTo>
                    <a:pt x="230" y="107"/>
                  </a:lnTo>
                  <a:lnTo>
                    <a:pt x="233" y="114"/>
                  </a:lnTo>
                  <a:lnTo>
                    <a:pt x="232" y="120"/>
                  </a:lnTo>
                  <a:lnTo>
                    <a:pt x="225" y="126"/>
                  </a:lnTo>
                  <a:lnTo>
                    <a:pt x="204" y="133"/>
                  </a:lnTo>
                  <a:lnTo>
                    <a:pt x="206" y="151"/>
                  </a:lnTo>
                  <a:lnTo>
                    <a:pt x="208" y="168"/>
                  </a:lnTo>
                  <a:lnTo>
                    <a:pt x="208" y="180"/>
                  </a:lnTo>
                  <a:lnTo>
                    <a:pt x="217" y="181"/>
                  </a:lnTo>
                  <a:lnTo>
                    <a:pt x="230" y="206"/>
                  </a:lnTo>
                  <a:lnTo>
                    <a:pt x="325" y="306"/>
                  </a:lnTo>
                  <a:lnTo>
                    <a:pt x="330" y="314"/>
                  </a:lnTo>
                  <a:lnTo>
                    <a:pt x="331" y="321"/>
                  </a:lnTo>
                  <a:lnTo>
                    <a:pt x="330" y="327"/>
                  </a:lnTo>
                  <a:lnTo>
                    <a:pt x="325" y="332"/>
                  </a:lnTo>
                  <a:lnTo>
                    <a:pt x="321" y="334"/>
                  </a:lnTo>
                  <a:lnTo>
                    <a:pt x="321" y="340"/>
                  </a:lnTo>
                  <a:lnTo>
                    <a:pt x="318" y="347"/>
                  </a:lnTo>
                  <a:lnTo>
                    <a:pt x="314" y="351"/>
                  </a:lnTo>
                  <a:lnTo>
                    <a:pt x="318" y="356"/>
                  </a:lnTo>
                  <a:lnTo>
                    <a:pt x="321" y="361"/>
                  </a:lnTo>
                  <a:lnTo>
                    <a:pt x="328" y="370"/>
                  </a:lnTo>
                  <a:lnTo>
                    <a:pt x="338" y="377"/>
                  </a:lnTo>
                  <a:lnTo>
                    <a:pt x="346" y="382"/>
                  </a:lnTo>
                  <a:lnTo>
                    <a:pt x="355" y="389"/>
                  </a:lnTo>
                  <a:lnTo>
                    <a:pt x="363" y="396"/>
                  </a:lnTo>
                  <a:lnTo>
                    <a:pt x="386" y="388"/>
                  </a:lnTo>
                  <a:lnTo>
                    <a:pt x="399" y="385"/>
                  </a:lnTo>
                  <a:lnTo>
                    <a:pt x="412" y="382"/>
                  </a:lnTo>
                  <a:lnTo>
                    <a:pt x="420" y="380"/>
                  </a:lnTo>
                  <a:lnTo>
                    <a:pt x="455" y="356"/>
                  </a:lnTo>
                  <a:lnTo>
                    <a:pt x="500" y="306"/>
                  </a:lnTo>
                  <a:lnTo>
                    <a:pt x="505" y="308"/>
                  </a:lnTo>
                  <a:lnTo>
                    <a:pt x="530" y="280"/>
                  </a:lnTo>
                  <a:lnTo>
                    <a:pt x="532" y="273"/>
                  </a:lnTo>
                  <a:lnTo>
                    <a:pt x="537" y="266"/>
                  </a:lnTo>
                  <a:lnTo>
                    <a:pt x="543" y="257"/>
                  </a:lnTo>
                  <a:lnTo>
                    <a:pt x="643" y="255"/>
                  </a:lnTo>
                  <a:lnTo>
                    <a:pt x="577" y="293"/>
                  </a:lnTo>
                  <a:lnTo>
                    <a:pt x="564" y="306"/>
                  </a:lnTo>
                  <a:lnTo>
                    <a:pt x="545" y="339"/>
                  </a:lnTo>
                  <a:lnTo>
                    <a:pt x="547" y="347"/>
                  </a:lnTo>
                  <a:lnTo>
                    <a:pt x="497" y="433"/>
                  </a:lnTo>
                  <a:lnTo>
                    <a:pt x="481" y="477"/>
                  </a:lnTo>
                  <a:lnTo>
                    <a:pt x="462" y="493"/>
                  </a:lnTo>
                  <a:lnTo>
                    <a:pt x="442" y="506"/>
                  </a:lnTo>
                  <a:lnTo>
                    <a:pt x="417" y="517"/>
                  </a:lnTo>
                  <a:lnTo>
                    <a:pt x="400" y="521"/>
                  </a:lnTo>
                  <a:lnTo>
                    <a:pt x="385" y="522"/>
                  </a:lnTo>
                  <a:lnTo>
                    <a:pt x="387" y="564"/>
                  </a:lnTo>
                  <a:lnTo>
                    <a:pt x="387" y="613"/>
                  </a:lnTo>
                  <a:lnTo>
                    <a:pt x="382" y="670"/>
                  </a:lnTo>
                  <a:lnTo>
                    <a:pt x="372" y="725"/>
                  </a:lnTo>
                  <a:lnTo>
                    <a:pt x="359" y="780"/>
                  </a:lnTo>
                  <a:lnTo>
                    <a:pt x="349" y="818"/>
                  </a:lnTo>
                  <a:lnTo>
                    <a:pt x="338" y="824"/>
                  </a:lnTo>
                  <a:lnTo>
                    <a:pt x="328" y="832"/>
                  </a:lnTo>
                  <a:lnTo>
                    <a:pt x="319" y="872"/>
                  </a:lnTo>
                  <a:lnTo>
                    <a:pt x="319" y="880"/>
                  </a:lnTo>
                  <a:lnTo>
                    <a:pt x="323" y="886"/>
                  </a:lnTo>
                  <a:lnTo>
                    <a:pt x="323" y="893"/>
                  </a:lnTo>
                  <a:lnTo>
                    <a:pt x="317" y="902"/>
                  </a:lnTo>
                  <a:lnTo>
                    <a:pt x="325" y="909"/>
                  </a:lnTo>
                  <a:lnTo>
                    <a:pt x="331" y="915"/>
                  </a:lnTo>
                  <a:lnTo>
                    <a:pt x="335" y="927"/>
                  </a:lnTo>
                  <a:lnTo>
                    <a:pt x="344" y="930"/>
                  </a:lnTo>
                  <a:lnTo>
                    <a:pt x="349" y="933"/>
                  </a:lnTo>
                  <a:lnTo>
                    <a:pt x="353" y="941"/>
                  </a:lnTo>
                  <a:lnTo>
                    <a:pt x="357" y="948"/>
                  </a:lnTo>
                  <a:lnTo>
                    <a:pt x="361" y="955"/>
                  </a:lnTo>
                  <a:lnTo>
                    <a:pt x="385" y="968"/>
                  </a:lnTo>
                  <a:lnTo>
                    <a:pt x="400" y="974"/>
                  </a:lnTo>
                  <a:lnTo>
                    <a:pt x="407" y="980"/>
                  </a:lnTo>
                  <a:lnTo>
                    <a:pt x="409" y="988"/>
                  </a:lnTo>
                  <a:lnTo>
                    <a:pt x="409" y="999"/>
                  </a:lnTo>
                  <a:lnTo>
                    <a:pt x="397" y="1002"/>
                  </a:lnTo>
                  <a:lnTo>
                    <a:pt x="380" y="1006"/>
                  </a:lnTo>
                  <a:lnTo>
                    <a:pt x="354" y="1004"/>
                  </a:lnTo>
                  <a:lnTo>
                    <a:pt x="330" y="999"/>
                  </a:lnTo>
                  <a:lnTo>
                    <a:pt x="303" y="992"/>
                  </a:lnTo>
                  <a:lnTo>
                    <a:pt x="283" y="981"/>
                  </a:lnTo>
                  <a:lnTo>
                    <a:pt x="268" y="972"/>
                  </a:lnTo>
                  <a:lnTo>
                    <a:pt x="253" y="970"/>
                  </a:lnTo>
                  <a:lnTo>
                    <a:pt x="240" y="969"/>
                  </a:lnTo>
                  <a:lnTo>
                    <a:pt x="228" y="965"/>
                  </a:lnTo>
                  <a:lnTo>
                    <a:pt x="216" y="960"/>
                  </a:lnTo>
                  <a:lnTo>
                    <a:pt x="213" y="947"/>
                  </a:lnTo>
                  <a:lnTo>
                    <a:pt x="215" y="935"/>
                  </a:lnTo>
                  <a:lnTo>
                    <a:pt x="216" y="924"/>
                  </a:lnTo>
                  <a:lnTo>
                    <a:pt x="219" y="914"/>
                  </a:lnTo>
                  <a:lnTo>
                    <a:pt x="224" y="905"/>
                  </a:lnTo>
                  <a:lnTo>
                    <a:pt x="228" y="894"/>
                  </a:lnTo>
                  <a:lnTo>
                    <a:pt x="233" y="886"/>
                  </a:lnTo>
                  <a:lnTo>
                    <a:pt x="233" y="876"/>
                  </a:lnTo>
                  <a:lnTo>
                    <a:pt x="233" y="866"/>
                  </a:lnTo>
                  <a:lnTo>
                    <a:pt x="236" y="860"/>
                  </a:lnTo>
                  <a:lnTo>
                    <a:pt x="240" y="852"/>
                  </a:lnTo>
                  <a:lnTo>
                    <a:pt x="240" y="819"/>
                  </a:lnTo>
                  <a:lnTo>
                    <a:pt x="228" y="813"/>
                  </a:lnTo>
                  <a:lnTo>
                    <a:pt x="229" y="805"/>
                  </a:lnTo>
                  <a:lnTo>
                    <a:pt x="232" y="797"/>
                  </a:lnTo>
                  <a:lnTo>
                    <a:pt x="232" y="785"/>
                  </a:lnTo>
                  <a:lnTo>
                    <a:pt x="229" y="773"/>
                  </a:lnTo>
                  <a:lnTo>
                    <a:pt x="232" y="754"/>
                  </a:lnTo>
                  <a:lnTo>
                    <a:pt x="236" y="729"/>
                  </a:lnTo>
                  <a:lnTo>
                    <a:pt x="243" y="703"/>
                  </a:lnTo>
                  <a:lnTo>
                    <a:pt x="253" y="677"/>
                  </a:lnTo>
                  <a:lnTo>
                    <a:pt x="236" y="697"/>
                  </a:lnTo>
                  <a:lnTo>
                    <a:pt x="217" y="716"/>
                  </a:lnTo>
                  <a:lnTo>
                    <a:pt x="203" y="732"/>
                  </a:lnTo>
                  <a:lnTo>
                    <a:pt x="184" y="748"/>
                  </a:lnTo>
                  <a:lnTo>
                    <a:pt x="169" y="761"/>
                  </a:lnTo>
                  <a:lnTo>
                    <a:pt x="149" y="777"/>
                  </a:lnTo>
                  <a:lnTo>
                    <a:pt x="131" y="790"/>
                  </a:lnTo>
                  <a:lnTo>
                    <a:pt x="108" y="804"/>
                  </a:lnTo>
                  <a:lnTo>
                    <a:pt x="87" y="816"/>
                  </a:lnTo>
                  <a:lnTo>
                    <a:pt x="67" y="823"/>
                  </a:lnTo>
                  <a:lnTo>
                    <a:pt x="48" y="831"/>
                  </a:lnTo>
                  <a:lnTo>
                    <a:pt x="29" y="838"/>
                  </a:lnTo>
                  <a:lnTo>
                    <a:pt x="24" y="859"/>
                  </a:lnTo>
                  <a:lnTo>
                    <a:pt x="18" y="821"/>
                  </a:lnTo>
                  <a:lnTo>
                    <a:pt x="13" y="783"/>
                  </a:lnTo>
                  <a:lnTo>
                    <a:pt x="9" y="745"/>
                  </a:lnTo>
                  <a:lnTo>
                    <a:pt x="5" y="706"/>
                  </a:lnTo>
                  <a:lnTo>
                    <a:pt x="3" y="669"/>
                  </a:lnTo>
                  <a:lnTo>
                    <a:pt x="1" y="630"/>
                  </a:lnTo>
                  <a:lnTo>
                    <a:pt x="0" y="591"/>
                  </a:lnTo>
                  <a:lnTo>
                    <a:pt x="0" y="552"/>
                  </a:lnTo>
                  <a:lnTo>
                    <a:pt x="1" y="513"/>
                  </a:lnTo>
                  <a:lnTo>
                    <a:pt x="2" y="474"/>
                  </a:lnTo>
                  <a:lnTo>
                    <a:pt x="5" y="434"/>
                  </a:lnTo>
                  <a:lnTo>
                    <a:pt x="8" y="396"/>
                  </a:lnTo>
                  <a:lnTo>
                    <a:pt x="12" y="356"/>
                  </a:lnTo>
                  <a:lnTo>
                    <a:pt x="18" y="317"/>
                  </a:lnTo>
                  <a:lnTo>
                    <a:pt x="23" y="277"/>
                  </a:lnTo>
                  <a:lnTo>
                    <a:pt x="30" y="2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2673360" y="4149720"/>
              <a:ext cx="122400" cy="154080"/>
            </a:xfrm>
            <a:custGeom>
              <a:avLst/>
              <a:gdLst/>
              <a:ahLst/>
              <a:rect l="l" t="t" r="r" b="b"/>
              <a:pathLst>
                <a:path w="385" h="484">
                  <a:moveTo>
                    <a:pt x="361" y="0"/>
                  </a:moveTo>
                  <a:lnTo>
                    <a:pt x="363" y="42"/>
                  </a:lnTo>
                  <a:lnTo>
                    <a:pt x="363" y="91"/>
                  </a:lnTo>
                  <a:lnTo>
                    <a:pt x="358" y="148"/>
                  </a:lnTo>
                  <a:lnTo>
                    <a:pt x="348" y="203"/>
                  </a:lnTo>
                  <a:lnTo>
                    <a:pt x="335" y="258"/>
                  </a:lnTo>
                  <a:lnTo>
                    <a:pt x="325" y="296"/>
                  </a:lnTo>
                  <a:lnTo>
                    <a:pt x="314" y="302"/>
                  </a:lnTo>
                  <a:lnTo>
                    <a:pt x="304" y="310"/>
                  </a:lnTo>
                  <a:lnTo>
                    <a:pt x="295" y="350"/>
                  </a:lnTo>
                  <a:lnTo>
                    <a:pt x="295" y="358"/>
                  </a:lnTo>
                  <a:lnTo>
                    <a:pt x="299" y="364"/>
                  </a:lnTo>
                  <a:lnTo>
                    <a:pt x="299" y="371"/>
                  </a:lnTo>
                  <a:lnTo>
                    <a:pt x="293" y="380"/>
                  </a:lnTo>
                  <a:lnTo>
                    <a:pt x="301" y="387"/>
                  </a:lnTo>
                  <a:lnTo>
                    <a:pt x="307" y="393"/>
                  </a:lnTo>
                  <a:lnTo>
                    <a:pt x="311" y="405"/>
                  </a:lnTo>
                  <a:lnTo>
                    <a:pt x="320" y="408"/>
                  </a:lnTo>
                  <a:lnTo>
                    <a:pt x="325" y="411"/>
                  </a:lnTo>
                  <a:lnTo>
                    <a:pt x="329" y="419"/>
                  </a:lnTo>
                  <a:lnTo>
                    <a:pt x="333" y="426"/>
                  </a:lnTo>
                  <a:lnTo>
                    <a:pt x="337" y="433"/>
                  </a:lnTo>
                  <a:lnTo>
                    <a:pt x="361" y="446"/>
                  </a:lnTo>
                  <a:lnTo>
                    <a:pt x="376" y="452"/>
                  </a:lnTo>
                  <a:lnTo>
                    <a:pt x="383" y="458"/>
                  </a:lnTo>
                  <a:lnTo>
                    <a:pt x="385" y="466"/>
                  </a:lnTo>
                  <a:lnTo>
                    <a:pt x="385" y="477"/>
                  </a:lnTo>
                  <a:lnTo>
                    <a:pt x="373" y="480"/>
                  </a:lnTo>
                  <a:lnTo>
                    <a:pt x="356" y="484"/>
                  </a:lnTo>
                  <a:lnTo>
                    <a:pt x="330" y="482"/>
                  </a:lnTo>
                  <a:lnTo>
                    <a:pt x="306" y="477"/>
                  </a:lnTo>
                  <a:lnTo>
                    <a:pt x="279" y="470"/>
                  </a:lnTo>
                  <a:lnTo>
                    <a:pt x="259" y="459"/>
                  </a:lnTo>
                  <a:lnTo>
                    <a:pt x="244" y="450"/>
                  </a:lnTo>
                  <a:lnTo>
                    <a:pt x="229" y="448"/>
                  </a:lnTo>
                  <a:lnTo>
                    <a:pt x="216" y="447"/>
                  </a:lnTo>
                  <a:lnTo>
                    <a:pt x="204" y="443"/>
                  </a:lnTo>
                  <a:lnTo>
                    <a:pt x="192" y="438"/>
                  </a:lnTo>
                  <a:lnTo>
                    <a:pt x="189" y="425"/>
                  </a:lnTo>
                  <a:lnTo>
                    <a:pt x="191" y="413"/>
                  </a:lnTo>
                  <a:lnTo>
                    <a:pt x="192" y="402"/>
                  </a:lnTo>
                  <a:lnTo>
                    <a:pt x="195" y="392"/>
                  </a:lnTo>
                  <a:lnTo>
                    <a:pt x="200" y="383"/>
                  </a:lnTo>
                  <a:lnTo>
                    <a:pt x="204" y="372"/>
                  </a:lnTo>
                  <a:lnTo>
                    <a:pt x="209" y="364"/>
                  </a:lnTo>
                  <a:lnTo>
                    <a:pt x="209" y="354"/>
                  </a:lnTo>
                  <a:lnTo>
                    <a:pt x="209" y="344"/>
                  </a:lnTo>
                  <a:lnTo>
                    <a:pt x="212" y="338"/>
                  </a:lnTo>
                  <a:lnTo>
                    <a:pt x="216" y="330"/>
                  </a:lnTo>
                  <a:lnTo>
                    <a:pt x="216" y="297"/>
                  </a:lnTo>
                  <a:lnTo>
                    <a:pt x="204" y="291"/>
                  </a:lnTo>
                  <a:lnTo>
                    <a:pt x="205" y="283"/>
                  </a:lnTo>
                  <a:lnTo>
                    <a:pt x="208" y="275"/>
                  </a:lnTo>
                  <a:lnTo>
                    <a:pt x="208" y="263"/>
                  </a:lnTo>
                  <a:lnTo>
                    <a:pt x="205" y="251"/>
                  </a:lnTo>
                  <a:lnTo>
                    <a:pt x="208" y="232"/>
                  </a:lnTo>
                  <a:lnTo>
                    <a:pt x="212" y="207"/>
                  </a:lnTo>
                  <a:lnTo>
                    <a:pt x="219" y="181"/>
                  </a:lnTo>
                  <a:lnTo>
                    <a:pt x="229" y="155"/>
                  </a:lnTo>
                  <a:lnTo>
                    <a:pt x="212" y="175"/>
                  </a:lnTo>
                  <a:lnTo>
                    <a:pt x="193" y="194"/>
                  </a:lnTo>
                  <a:lnTo>
                    <a:pt x="179" y="210"/>
                  </a:lnTo>
                  <a:lnTo>
                    <a:pt x="160" y="226"/>
                  </a:lnTo>
                  <a:lnTo>
                    <a:pt x="145" y="239"/>
                  </a:lnTo>
                  <a:lnTo>
                    <a:pt x="125" y="255"/>
                  </a:lnTo>
                  <a:lnTo>
                    <a:pt x="107" y="268"/>
                  </a:lnTo>
                  <a:lnTo>
                    <a:pt x="84" y="282"/>
                  </a:lnTo>
                  <a:lnTo>
                    <a:pt x="63" y="294"/>
                  </a:lnTo>
                  <a:lnTo>
                    <a:pt x="43" y="301"/>
                  </a:lnTo>
                  <a:lnTo>
                    <a:pt x="24" y="309"/>
                  </a:lnTo>
                  <a:lnTo>
                    <a:pt x="5" y="316"/>
                  </a:lnTo>
                  <a:lnTo>
                    <a:pt x="0" y="33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2693880" y="3984480"/>
              <a:ext cx="176400" cy="165240"/>
            </a:xfrm>
            <a:custGeom>
              <a:avLst/>
              <a:gdLst/>
              <a:ahLst/>
              <a:rect l="l" t="t" r="r" b="b"/>
              <a:pathLst>
                <a:path w="553" h="522">
                  <a:moveTo>
                    <a:pt x="0" y="4"/>
                  </a:moveTo>
                  <a:lnTo>
                    <a:pt x="5" y="2"/>
                  </a:lnTo>
                  <a:lnTo>
                    <a:pt x="26" y="0"/>
                  </a:lnTo>
                  <a:lnTo>
                    <a:pt x="42" y="0"/>
                  </a:lnTo>
                  <a:lnTo>
                    <a:pt x="59" y="2"/>
                  </a:lnTo>
                  <a:lnTo>
                    <a:pt x="72" y="6"/>
                  </a:lnTo>
                  <a:lnTo>
                    <a:pt x="82" y="12"/>
                  </a:lnTo>
                  <a:lnTo>
                    <a:pt x="94" y="23"/>
                  </a:lnTo>
                  <a:lnTo>
                    <a:pt x="104" y="38"/>
                  </a:lnTo>
                  <a:lnTo>
                    <a:pt x="118" y="65"/>
                  </a:lnTo>
                  <a:lnTo>
                    <a:pt x="134" y="99"/>
                  </a:lnTo>
                  <a:lnTo>
                    <a:pt x="140" y="107"/>
                  </a:lnTo>
                  <a:lnTo>
                    <a:pt x="143" y="114"/>
                  </a:lnTo>
                  <a:lnTo>
                    <a:pt x="142" y="120"/>
                  </a:lnTo>
                  <a:lnTo>
                    <a:pt x="135" y="126"/>
                  </a:lnTo>
                  <a:lnTo>
                    <a:pt x="114" y="133"/>
                  </a:lnTo>
                  <a:lnTo>
                    <a:pt x="116" y="151"/>
                  </a:lnTo>
                  <a:lnTo>
                    <a:pt x="118" y="168"/>
                  </a:lnTo>
                  <a:lnTo>
                    <a:pt x="118" y="180"/>
                  </a:lnTo>
                  <a:lnTo>
                    <a:pt x="127" y="181"/>
                  </a:lnTo>
                  <a:lnTo>
                    <a:pt x="140" y="206"/>
                  </a:lnTo>
                  <a:lnTo>
                    <a:pt x="235" y="306"/>
                  </a:lnTo>
                  <a:lnTo>
                    <a:pt x="240" y="314"/>
                  </a:lnTo>
                  <a:lnTo>
                    <a:pt x="241" y="321"/>
                  </a:lnTo>
                  <a:lnTo>
                    <a:pt x="240" y="327"/>
                  </a:lnTo>
                  <a:lnTo>
                    <a:pt x="235" y="332"/>
                  </a:lnTo>
                  <a:lnTo>
                    <a:pt x="231" y="334"/>
                  </a:lnTo>
                  <a:lnTo>
                    <a:pt x="231" y="340"/>
                  </a:lnTo>
                  <a:lnTo>
                    <a:pt x="228" y="347"/>
                  </a:lnTo>
                  <a:lnTo>
                    <a:pt x="224" y="351"/>
                  </a:lnTo>
                  <a:lnTo>
                    <a:pt x="228" y="356"/>
                  </a:lnTo>
                  <a:lnTo>
                    <a:pt x="231" y="361"/>
                  </a:lnTo>
                  <a:lnTo>
                    <a:pt x="238" y="370"/>
                  </a:lnTo>
                  <a:lnTo>
                    <a:pt x="248" y="377"/>
                  </a:lnTo>
                  <a:lnTo>
                    <a:pt x="256" y="382"/>
                  </a:lnTo>
                  <a:lnTo>
                    <a:pt x="265" y="389"/>
                  </a:lnTo>
                  <a:lnTo>
                    <a:pt x="273" y="396"/>
                  </a:lnTo>
                  <a:lnTo>
                    <a:pt x="296" y="388"/>
                  </a:lnTo>
                  <a:lnTo>
                    <a:pt x="309" y="385"/>
                  </a:lnTo>
                  <a:lnTo>
                    <a:pt x="322" y="382"/>
                  </a:lnTo>
                  <a:lnTo>
                    <a:pt x="330" y="380"/>
                  </a:lnTo>
                  <a:lnTo>
                    <a:pt x="365" y="356"/>
                  </a:lnTo>
                  <a:lnTo>
                    <a:pt x="410" y="306"/>
                  </a:lnTo>
                  <a:lnTo>
                    <a:pt x="415" y="308"/>
                  </a:lnTo>
                  <a:lnTo>
                    <a:pt x="440" y="280"/>
                  </a:lnTo>
                  <a:lnTo>
                    <a:pt x="442" y="273"/>
                  </a:lnTo>
                  <a:lnTo>
                    <a:pt x="447" y="266"/>
                  </a:lnTo>
                  <a:lnTo>
                    <a:pt x="453" y="257"/>
                  </a:lnTo>
                  <a:lnTo>
                    <a:pt x="553" y="255"/>
                  </a:lnTo>
                  <a:lnTo>
                    <a:pt x="487" y="293"/>
                  </a:lnTo>
                  <a:lnTo>
                    <a:pt x="474" y="306"/>
                  </a:lnTo>
                  <a:lnTo>
                    <a:pt x="455" y="339"/>
                  </a:lnTo>
                  <a:lnTo>
                    <a:pt x="457" y="347"/>
                  </a:lnTo>
                  <a:lnTo>
                    <a:pt x="407" y="433"/>
                  </a:lnTo>
                  <a:lnTo>
                    <a:pt x="391" y="477"/>
                  </a:lnTo>
                  <a:lnTo>
                    <a:pt x="372" y="493"/>
                  </a:lnTo>
                  <a:lnTo>
                    <a:pt x="352" y="506"/>
                  </a:lnTo>
                  <a:lnTo>
                    <a:pt x="327" y="517"/>
                  </a:lnTo>
                  <a:lnTo>
                    <a:pt x="310" y="521"/>
                  </a:lnTo>
                  <a:lnTo>
                    <a:pt x="295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2738520" y="4030560"/>
              <a:ext cx="231840" cy="66600"/>
            </a:xfrm>
            <a:custGeom>
              <a:avLst/>
              <a:gdLst/>
              <a:ahLst/>
              <a:rect l="l" t="t" r="r" b="b"/>
              <a:pathLst>
                <a:path w="728" h="206">
                  <a:moveTo>
                    <a:pt x="511" y="100"/>
                  </a:moveTo>
                  <a:lnTo>
                    <a:pt x="500" y="95"/>
                  </a:lnTo>
                  <a:lnTo>
                    <a:pt x="425" y="98"/>
                  </a:lnTo>
                  <a:lnTo>
                    <a:pt x="421" y="102"/>
                  </a:lnTo>
                  <a:lnTo>
                    <a:pt x="503" y="105"/>
                  </a:lnTo>
                  <a:lnTo>
                    <a:pt x="497" y="108"/>
                  </a:lnTo>
                  <a:lnTo>
                    <a:pt x="413" y="108"/>
                  </a:lnTo>
                  <a:lnTo>
                    <a:pt x="313" y="110"/>
                  </a:lnTo>
                  <a:lnTo>
                    <a:pt x="290" y="110"/>
                  </a:lnTo>
                  <a:lnTo>
                    <a:pt x="207" y="145"/>
                  </a:lnTo>
                  <a:lnTo>
                    <a:pt x="207" y="193"/>
                  </a:lnTo>
                  <a:lnTo>
                    <a:pt x="149" y="206"/>
                  </a:lnTo>
                  <a:lnTo>
                    <a:pt x="149" y="159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4" y="132"/>
                  </a:lnTo>
                  <a:lnTo>
                    <a:pt x="141" y="129"/>
                  </a:lnTo>
                  <a:lnTo>
                    <a:pt x="137" y="127"/>
                  </a:lnTo>
                  <a:lnTo>
                    <a:pt x="135" y="127"/>
                  </a:lnTo>
                  <a:lnTo>
                    <a:pt x="114" y="126"/>
                  </a:lnTo>
                  <a:lnTo>
                    <a:pt x="121" y="137"/>
                  </a:lnTo>
                  <a:lnTo>
                    <a:pt x="123" y="143"/>
                  </a:lnTo>
                  <a:lnTo>
                    <a:pt x="123" y="147"/>
                  </a:lnTo>
                  <a:lnTo>
                    <a:pt x="120" y="150"/>
                  </a:lnTo>
                  <a:lnTo>
                    <a:pt x="115" y="153"/>
                  </a:lnTo>
                  <a:lnTo>
                    <a:pt x="140" y="153"/>
                  </a:lnTo>
                  <a:lnTo>
                    <a:pt x="142" y="153"/>
                  </a:lnTo>
                  <a:lnTo>
                    <a:pt x="144" y="150"/>
                  </a:lnTo>
                  <a:lnTo>
                    <a:pt x="145" y="147"/>
                  </a:lnTo>
                  <a:lnTo>
                    <a:pt x="149" y="159"/>
                  </a:lnTo>
                  <a:lnTo>
                    <a:pt x="95" y="159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49" y="46"/>
                  </a:lnTo>
                  <a:lnTo>
                    <a:pt x="57" y="21"/>
                  </a:lnTo>
                  <a:lnTo>
                    <a:pt x="61" y="21"/>
                  </a:lnTo>
                  <a:lnTo>
                    <a:pt x="63" y="11"/>
                  </a:lnTo>
                  <a:lnTo>
                    <a:pt x="69" y="5"/>
                  </a:lnTo>
                  <a:lnTo>
                    <a:pt x="78" y="4"/>
                  </a:lnTo>
                  <a:lnTo>
                    <a:pt x="209" y="16"/>
                  </a:lnTo>
                  <a:lnTo>
                    <a:pt x="215" y="18"/>
                  </a:lnTo>
                  <a:lnTo>
                    <a:pt x="220" y="22"/>
                  </a:lnTo>
                  <a:lnTo>
                    <a:pt x="224" y="28"/>
                  </a:lnTo>
                  <a:lnTo>
                    <a:pt x="224" y="34"/>
                  </a:lnTo>
                  <a:lnTo>
                    <a:pt x="223" y="41"/>
                  </a:lnTo>
                  <a:lnTo>
                    <a:pt x="220" y="43"/>
                  </a:lnTo>
                  <a:lnTo>
                    <a:pt x="212" y="43"/>
                  </a:lnTo>
                  <a:lnTo>
                    <a:pt x="213" y="39"/>
                  </a:lnTo>
                  <a:lnTo>
                    <a:pt x="216" y="33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7" y="21"/>
                  </a:lnTo>
                  <a:lnTo>
                    <a:pt x="107" y="21"/>
                  </a:lnTo>
                  <a:lnTo>
                    <a:pt x="103" y="26"/>
                  </a:lnTo>
                  <a:lnTo>
                    <a:pt x="100" y="32"/>
                  </a:lnTo>
                  <a:lnTo>
                    <a:pt x="99" y="38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7" y="46"/>
                  </a:lnTo>
                  <a:lnTo>
                    <a:pt x="212" y="43"/>
                  </a:lnTo>
                  <a:lnTo>
                    <a:pt x="220" y="43"/>
                  </a:lnTo>
                  <a:lnTo>
                    <a:pt x="516" y="43"/>
                  </a:lnTo>
                  <a:lnTo>
                    <a:pt x="522" y="45"/>
                  </a:lnTo>
                  <a:lnTo>
                    <a:pt x="524" y="46"/>
                  </a:lnTo>
                  <a:lnTo>
                    <a:pt x="557" y="46"/>
                  </a:lnTo>
                  <a:lnTo>
                    <a:pt x="555" y="32"/>
                  </a:lnTo>
                  <a:lnTo>
                    <a:pt x="550" y="32"/>
                  </a:lnTo>
                  <a:lnTo>
                    <a:pt x="550" y="17"/>
                  </a:lnTo>
                  <a:lnTo>
                    <a:pt x="541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2" y="45"/>
                  </a:lnTo>
                  <a:lnTo>
                    <a:pt x="516" y="43"/>
                  </a:lnTo>
                  <a:lnTo>
                    <a:pt x="545" y="3"/>
                  </a:lnTo>
                  <a:lnTo>
                    <a:pt x="550" y="0"/>
                  </a:lnTo>
                  <a:lnTo>
                    <a:pt x="557" y="3"/>
                  </a:lnTo>
                  <a:lnTo>
                    <a:pt x="561" y="7"/>
                  </a:lnTo>
                  <a:lnTo>
                    <a:pt x="563" y="55"/>
                  </a:lnTo>
                  <a:lnTo>
                    <a:pt x="643" y="55"/>
                  </a:lnTo>
                  <a:lnTo>
                    <a:pt x="651" y="51"/>
                  </a:lnTo>
                  <a:lnTo>
                    <a:pt x="708" y="50"/>
                  </a:lnTo>
                  <a:lnTo>
                    <a:pt x="713" y="42"/>
                  </a:lnTo>
                  <a:lnTo>
                    <a:pt x="724" y="42"/>
                  </a:lnTo>
                  <a:lnTo>
                    <a:pt x="724" y="50"/>
                  </a:lnTo>
                  <a:lnTo>
                    <a:pt x="728" y="50"/>
                  </a:lnTo>
                  <a:lnTo>
                    <a:pt x="728" y="74"/>
                  </a:lnTo>
                  <a:lnTo>
                    <a:pt x="712" y="74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6"/>
                  </a:lnTo>
                  <a:lnTo>
                    <a:pt x="550" y="76"/>
                  </a:lnTo>
                  <a:lnTo>
                    <a:pt x="550" y="74"/>
                  </a:lnTo>
                  <a:lnTo>
                    <a:pt x="527" y="74"/>
                  </a:lnTo>
                  <a:lnTo>
                    <a:pt x="527" y="87"/>
                  </a:lnTo>
                  <a:lnTo>
                    <a:pt x="518" y="87"/>
                  </a:lnTo>
                  <a:lnTo>
                    <a:pt x="511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2801880" y="4352760"/>
              <a:ext cx="292320" cy="319320"/>
            </a:xfrm>
            <a:custGeom>
              <a:avLst/>
              <a:gdLst/>
              <a:ahLst/>
              <a:rect l="l" t="t" r="r" b="b"/>
              <a:pathLst>
                <a:path w="918" h="1006">
                  <a:moveTo>
                    <a:pt x="483" y="527"/>
                  </a:moveTo>
                  <a:lnTo>
                    <a:pt x="500" y="514"/>
                  </a:lnTo>
                  <a:lnTo>
                    <a:pt x="514" y="505"/>
                  </a:lnTo>
                  <a:lnTo>
                    <a:pt x="530" y="497"/>
                  </a:lnTo>
                  <a:lnTo>
                    <a:pt x="547" y="489"/>
                  </a:lnTo>
                  <a:lnTo>
                    <a:pt x="516" y="470"/>
                  </a:lnTo>
                  <a:lnTo>
                    <a:pt x="502" y="460"/>
                  </a:lnTo>
                  <a:lnTo>
                    <a:pt x="487" y="448"/>
                  </a:lnTo>
                  <a:lnTo>
                    <a:pt x="488" y="468"/>
                  </a:lnTo>
                  <a:lnTo>
                    <a:pt x="485" y="487"/>
                  </a:lnTo>
                  <a:lnTo>
                    <a:pt x="483" y="527"/>
                  </a:lnTo>
                  <a:close/>
                  <a:moveTo>
                    <a:pt x="299" y="858"/>
                  </a:moveTo>
                  <a:lnTo>
                    <a:pt x="258" y="826"/>
                  </a:lnTo>
                  <a:lnTo>
                    <a:pt x="218" y="794"/>
                  </a:lnTo>
                  <a:lnTo>
                    <a:pt x="179" y="760"/>
                  </a:lnTo>
                  <a:lnTo>
                    <a:pt x="141" y="725"/>
                  </a:lnTo>
                  <a:lnTo>
                    <a:pt x="105" y="690"/>
                  </a:lnTo>
                  <a:lnTo>
                    <a:pt x="69" y="653"/>
                  </a:lnTo>
                  <a:lnTo>
                    <a:pt x="34" y="615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5" y="571"/>
                  </a:lnTo>
                  <a:lnTo>
                    <a:pt x="8" y="561"/>
                  </a:lnTo>
                  <a:lnTo>
                    <a:pt x="9" y="555"/>
                  </a:lnTo>
                  <a:lnTo>
                    <a:pt x="12" y="550"/>
                  </a:lnTo>
                  <a:lnTo>
                    <a:pt x="28" y="546"/>
                  </a:lnTo>
                  <a:lnTo>
                    <a:pt x="22" y="534"/>
                  </a:lnTo>
                  <a:lnTo>
                    <a:pt x="26" y="515"/>
                  </a:lnTo>
                  <a:lnTo>
                    <a:pt x="28" y="512"/>
                  </a:lnTo>
                  <a:lnTo>
                    <a:pt x="29" y="509"/>
                  </a:lnTo>
                  <a:lnTo>
                    <a:pt x="33" y="509"/>
                  </a:lnTo>
                  <a:lnTo>
                    <a:pt x="33" y="504"/>
                  </a:lnTo>
                  <a:lnTo>
                    <a:pt x="57" y="504"/>
                  </a:lnTo>
                  <a:lnTo>
                    <a:pt x="57" y="509"/>
                  </a:lnTo>
                  <a:lnTo>
                    <a:pt x="60" y="509"/>
                  </a:lnTo>
                  <a:lnTo>
                    <a:pt x="62" y="512"/>
                  </a:lnTo>
                  <a:lnTo>
                    <a:pt x="64" y="518"/>
                  </a:lnTo>
                  <a:lnTo>
                    <a:pt x="66" y="526"/>
                  </a:lnTo>
                  <a:lnTo>
                    <a:pt x="66" y="534"/>
                  </a:lnTo>
                  <a:lnTo>
                    <a:pt x="64" y="540"/>
                  </a:lnTo>
                  <a:lnTo>
                    <a:pt x="61" y="543"/>
                  </a:lnTo>
                  <a:lnTo>
                    <a:pt x="66" y="546"/>
                  </a:lnTo>
                  <a:lnTo>
                    <a:pt x="71" y="546"/>
                  </a:lnTo>
                  <a:lnTo>
                    <a:pt x="75" y="543"/>
                  </a:lnTo>
                  <a:lnTo>
                    <a:pt x="78" y="539"/>
                  </a:lnTo>
                  <a:lnTo>
                    <a:pt x="76" y="532"/>
                  </a:lnTo>
                  <a:lnTo>
                    <a:pt x="66" y="534"/>
                  </a:lnTo>
                  <a:lnTo>
                    <a:pt x="66" y="526"/>
                  </a:lnTo>
                  <a:lnTo>
                    <a:pt x="79" y="524"/>
                  </a:lnTo>
                  <a:lnTo>
                    <a:pt x="83" y="526"/>
                  </a:lnTo>
                  <a:lnTo>
                    <a:pt x="88" y="527"/>
                  </a:lnTo>
                  <a:lnTo>
                    <a:pt x="92" y="530"/>
                  </a:lnTo>
                  <a:lnTo>
                    <a:pt x="89" y="513"/>
                  </a:lnTo>
                  <a:lnTo>
                    <a:pt x="85" y="497"/>
                  </a:lnTo>
                  <a:lnTo>
                    <a:pt x="110" y="389"/>
                  </a:lnTo>
                  <a:lnTo>
                    <a:pt x="116" y="372"/>
                  </a:lnTo>
                  <a:lnTo>
                    <a:pt x="121" y="359"/>
                  </a:lnTo>
                  <a:lnTo>
                    <a:pt x="130" y="347"/>
                  </a:lnTo>
                  <a:lnTo>
                    <a:pt x="122" y="322"/>
                  </a:lnTo>
                  <a:lnTo>
                    <a:pt x="120" y="305"/>
                  </a:lnTo>
                  <a:lnTo>
                    <a:pt x="121" y="290"/>
                  </a:lnTo>
                  <a:lnTo>
                    <a:pt x="127" y="272"/>
                  </a:lnTo>
                  <a:lnTo>
                    <a:pt x="139" y="250"/>
                  </a:lnTo>
                  <a:lnTo>
                    <a:pt x="152" y="231"/>
                  </a:lnTo>
                  <a:lnTo>
                    <a:pt x="171" y="214"/>
                  </a:lnTo>
                  <a:lnTo>
                    <a:pt x="189" y="203"/>
                  </a:lnTo>
                  <a:lnTo>
                    <a:pt x="200" y="192"/>
                  </a:lnTo>
                  <a:lnTo>
                    <a:pt x="211" y="185"/>
                  </a:lnTo>
                  <a:lnTo>
                    <a:pt x="222" y="182"/>
                  </a:lnTo>
                  <a:lnTo>
                    <a:pt x="234" y="182"/>
                  </a:lnTo>
                  <a:lnTo>
                    <a:pt x="246" y="185"/>
                  </a:lnTo>
                  <a:lnTo>
                    <a:pt x="275" y="179"/>
                  </a:lnTo>
                  <a:lnTo>
                    <a:pt x="277" y="169"/>
                  </a:lnTo>
                  <a:lnTo>
                    <a:pt x="274" y="152"/>
                  </a:lnTo>
                  <a:lnTo>
                    <a:pt x="276" y="151"/>
                  </a:lnTo>
                  <a:lnTo>
                    <a:pt x="274" y="133"/>
                  </a:lnTo>
                  <a:lnTo>
                    <a:pt x="272" y="114"/>
                  </a:lnTo>
                  <a:lnTo>
                    <a:pt x="272" y="95"/>
                  </a:lnTo>
                  <a:lnTo>
                    <a:pt x="276" y="76"/>
                  </a:lnTo>
                  <a:lnTo>
                    <a:pt x="283" y="55"/>
                  </a:lnTo>
                  <a:lnTo>
                    <a:pt x="294" y="39"/>
                  </a:lnTo>
                  <a:lnTo>
                    <a:pt x="304" y="29"/>
                  </a:lnTo>
                  <a:lnTo>
                    <a:pt x="330" y="15"/>
                  </a:lnTo>
                  <a:lnTo>
                    <a:pt x="350" y="8"/>
                  </a:lnTo>
                  <a:lnTo>
                    <a:pt x="370" y="2"/>
                  </a:lnTo>
                  <a:lnTo>
                    <a:pt x="391" y="0"/>
                  </a:lnTo>
                  <a:lnTo>
                    <a:pt x="406" y="0"/>
                  </a:lnTo>
                  <a:lnTo>
                    <a:pt x="424" y="2"/>
                  </a:lnTo>
                  <a:lnTo>
                    <a:pt x="437" y="6"/>
                  </a:lnTo>
                  <a:lnTo>
                    <a:pt x="447" y="13"/>
                  </a:lnTo>
                  <a:lnTo>
                    <a:pt x="459" y="23"/>
                  </a:lnTo>
                  <a:lnTo>
                    <a:pt x="468" y="38"/>
                  </a:lnTo>
                  <a:lnTo>
                    <a:pt x="483" y="66"/>
                  </a:lnTo>
                  <a:lnTo>
                    <a:pt x="497" y="100"/>
                  </a:lnTo>
                  <a:lnTo>
                    <a:pt x="505" y="107"/>
                  </a:lnTo>
                  <a:lnTo>
                    <a:pt x="508" y="114"/>
                  </a:lnTo>
                  <a:lnTo>
                    <a:pt x="506" y="121"/>
                  </a:lnTo>
                  <a:lnTo>
                    <a:pt x="500" y="126"/>
                  </a:lnTo>
                  <a:lnTo>
                    <a:pt x="479" y="133"/>
                  </a:lnTo>
                  <a:lnTo>
                    <a:pt x="481" y="151"/>
                  </a:lnTo>
                  <a:lnTo>
                    <a:pt x="483" y="168"/>
                  </a:lnTo>
                  <a:lnTo>
                    <a:pt x="483" y="181"/>
                  </a:lnTo>
                  <a:lnTo>
                    <a:pt x="492" y="182"/>
                  </a:lnTo>
                  <a:lnTo>
                    <a:pt x="505" y="206"/>
                  </a:lnTo>
                  <a:lnTo>
                    <a:pt x="600" y="307"/>
                  </a:lnTo>
                  <a:lnTo>
                    <a:pt x="605" y="314"/>
                  </a:lnTo>
                  <a:lnTo>
                    <a:pt x="606" y="321"/>
                  </a:lnTo>
                  <a:lnTo>
                    <a:pt x="605" y="328"/>
                  </a:lnTo>
                  <a:lnTo>
                    <a:pt x="600" y="332"/>
                  </a:lnTo>
                  <a:lnTo>
                    <a:pt x="596" y="334"/>
                  </a:lnTo>
                  <a:lnTo>
                    <a:pt x="596" y="341"/>
                  </a:lnTo>
                  <a:lnTo>
                    <a:pt x="593" y="347"/>
                  </a:lnTo>
                  <a:lnTo>
                    <a:pt x="589" y="352"/>
                  </a:lnTo>
                  <a:lnTo>
                    <a:pt x="593" y="356"/>
                  </a:lnTo>
                  <a:lnTo>
                    <a:pt x="596" y="362"/>
                  </a:lnTo>
                  <a:lnTo>
                    <a:pt x="601" y="371"/>
                  </a:lnTo>
                  <a:lnTo>
                    <a:pt x="613" y="377"/>
                  </a:lnTo>
                  <a:lnTo>
                    <a:pt x="621" y="383"/>
                  </a:lnTo>
                  <a:lnTo>
                    <a:pt x="630" y="389"/>
                  </a:lnTo>
                  <a:lnTo>
                    <a:pt x="638" y="396"/>
                  </a:lnTo>
                  <a:lnTo>
                    <a:pt x="660" y="388"/>
                  </a:lnTo>
                  <a:lnTo>
                    <a:pt x="673" y="385"/>
                  </a:lnTo>
                  <a:lnTo>
                    <a:pt x="686" y="383"/>
                  </a:lnTo>
                  <a:lnTo>
                    <a:pt x="694" y="380"/>
                  </a:lnTo>
                  <a:lnTo>
                    <a:pt x="730" y="356"/>
                  </a:lnTo>
                  <a:lnTo>
                    <a:pt x="775" y="307"/>
                  </a:lnTo>
                  <a:lnTo>
                    <a:pt x="780" y="309"/>
                  </a:lnTo>
                  <a:lnTo>
                    <a:pt x="805" y="280"/>
                  </a:lnTo>
                  <a:lnTo>
                    <a:pt x="806" y="273"/>
                  </a:lnTo>
                  <a:lnTo>
                    <a:pt x="811" y="267"/>
                  </a:lnTo>
                  <a:lnTo>
                    <a:pt x="818" y="257"/>
                  </a:lnTo>
                  <a:lnTo>
                    <a:pt x="918" y="255"/>
                  </a:lnTo>
                  <a:lnTo>
                    <a:pt x="852" y="293"/>
                  </a:lnTo>
                  <a:lnTo>
                    <a:pt x="839" y="307"/>
                  </a:lnTo>
                  <a:lnTo>
                    <a:pt x="819" y="339"/>
                  </a:lnTo>
                  <a:lnTo>
                    <a:pt x="822" y="347"/>
                  </a:lnTo>
                  <a:lnTo>
                    <a:pt x="772" y="434"/>
                  </a:lnTo>
                  <a:lnTo>
                    <a:pt x="756" y="478"/>
                  </a:lnTo>
                  <a:lnTo>
                    <a:pt x="737" y="493"/>
                  </a:lnTo>
                  <a:lnTo>
                    <a:pt x="717" y="506"/>
                  </a:lnTo>
                  <a:lnTo>
                    <a:pt x="692" y="518"/>
                  </a:lnTo>
                  <a:lnTo>
                    <a:pt x="675" y="521"/>
                  </a:lnTo>
                  <a:lnTo>
                    <a:pt x="659" y="522"/>
                  </a:lnTo>
                  <a:lnTo>
                    <a:pt x="662" y="564"/>
                  </a:lnTo>
                  <a:lnTo>
                    <a:pt x="662" y="613"/>
                  </a:lnTo>
                  <a:lnTo>
                    <a:pt x="657" y="670"/>
                  </a:lnTo>
                  <a:lnTo>
                    <a:pt x="647" y="725"/>
                  </a:lnTo>
                  <a:lnTo>
                    <a:pt x="634" y="780"/>
                  </a:lnTo>
                  <a:lnTo>
                    <a:pt x="622" y="818"/>
                  </a:lnTo>
                  <a:lnTo>
                    <a:pt x="613" y="824"/>
                  </a:lnTo>
                  <a:lnTo>
                    <a:pt x="601" y="833"/>
                  </a:lnTo>
                  <a:lnTo>
                    <a:pt x="593" y="872"/>
                  </a:lnTo>
                  <a:lnTo>
                    <a:pt x="593" y="880"/>
                  </a:lnTo>
                  <a:lnTo>
                    <a:pt x="597" y="886"/>
                  </a:lnTo>
                  <a:lnTo>
                    <a:pt x="597" y="893"/>
                  </a:lnTo>
                  <a:lnTo>
                    <a:pt x="592" y="902"/>
                  </a:lnTo>
                  <a:lnTo>
                    <a:pt x="600" y="909"/>
                  </a:lnTo>
                  <a:lnTo>
                    <a:pt x="606" y="917"/>
                  </a:lnTo>
                  <a:lnTo>
                    <a:pt x="610" y="927"/>
                  </a:lnTo>
                  <a:lnTo>
                    <a:pt x="618" y="930"/>
                  </a:lnTo>
                  <a:lnTo>
                    <a:pt x="622" y="934"/>
                  </a:lnTo>
                  <a:lnTo>
                    <a:pt x="627" y="941"/>
                  </a:lnTo>
                  <a:lnTo>
                    <a:pt x="631" y="948"/>
                  </a:lnTo>
                  <a:lnTo>
                    <a:pt x="635" y="955"/>
                  </a:lnTo>
                  <a:lnTo>
                    <a:pt x="659" y="968"/>
                  </a:lnTo>
                  <a:lnTo>
                    <a:pt x="675" y="974"/>
                  </a:lnTo>
                  <a:lnTo>
                    <a:pt x="681" y="981"/>
                  </a:lnTo>
                  <a:lnTo>
                    <a:pt x="684" y="988"/>
                  </a:lnTo>
                  <a:lnTo>
                    <a:pt x="684" y="1001"/>
                  </a:lnTo>
                  <a:lnTo>
                    <a:pt x="672" y="1003"/>
                  </a:lnTo>
                  <a:lnTo>
                    <a:pt x="655" y="1006"/>
                  </a:lnTo>
                  <a:lnTo>
                    <a:pt x="629" y="1005"/>
                  </a:lnTo>
                  <a:lnTo>
                    <a:pt x="605" y="1001"/>
                  </a:lnTo>
                  <a:lnTo>
                    <a:pt x="578" y="992"/>
                  </a:lnTo>
                  <a:lnTo>
                    <a:pt x="558" y="982"/>
                  </a:lnTo>
                  <a:lnTo>
                    <a:pt x="543" y="972"/>
                  </a:lnTo>
                  <a:lnTo>
                    <a:pt x="527" y="970"/>
                  </a:lnTo>
                  <a:lnTo>
                    <a:pt x="514" y="969"/>
                  </a:lnTo>
                  <a:lnTo>
                    <a:pt x="503" y="965"/>
                  </a:lnTo>
                  <a:lnTo>
                    <a:pt x="491" y="961"/>
                  </a:lnTo>
                  <a:lnTo>
                    <a:pt x="488" y="947"/>
                  </a:lnTo>
                  <a:lnTo>
                    <a:pt x="489" y="935"/>
                  </a:lnTo>
                  <a:lnTo>
                    <a:pt x="491" y="924"/>
                  </a:lnTo>
                  <a:lnTo>
                    <a:pt x="493" y="914"/>
                  </a:lnTo>
                  <a:lnTo>
                    <a:pt x="497" y="905"/>
                  </a:lnTo>
                  <a:lnTo>
                    <a:pt x="503" y="895"/>
                  </a:lnTo>
                  <a:lnTo>
                    <a:pt x="508" y="886"/>
                  </a:lnTo>
                  <a:lnTo>
                    <a:pt x="508" y="877"/>
                  </a:lnTo>
                  <a:lnTo>
                    <a:pt x="508" y="866"/>
                  </a:lnTo>
                  <a:lnTo>
                    <a:pt x="510" y="860"/>
                  </a:lnTo>
                  <a:lnTo>
                    <a:pt x="514" y="853"/>
                  </a:lnTo>
                  <a:lnTo>
                    <a:pt x="514" y="819"/>
                  </a:lnTo>
                  <a:lnTo>
                    <a:pt x="503" y="814"/>
                  </a:lnTo>
                  <a:lnTo>
                    <a:pt x="504" y="805"/>
                  </a:lnTo>
                  <a:lnTo>
                    <a:pt x="507" y="797"/>
                  </a:lnTo>
                  <a:lnTo>
                    <a:pt x="507" y="785"/>
                  </a:lnTo>
                  <a:lnTo>
                    <a:pt x="504" y="773"/>
                  </a:lnTo>
                  <a:lnTo>
                    <a:pt x="507" y="754"/>
                  </a:lnTo>
                  <a:lnTo>
                    <a:pt x="510" y="730"/>
                  </a:lnTo>
                  <a:lnTo>
                    <a:pt x="517" y="704"/>
                  </a:lnTo>
                  <a:lnTo>
                    <a:pt x="527" y="677"/>
                  </a:lnTo>
                  <a:lnTo>
                    <a:pt x="510" y="697"/>
                  </a:lnTo>
                  <a:lnTo>
                    <a:pt x="492" y="716"/>
                  </a:lnTo>
                  <a:lnTo>
                    <a:pt x="476" y="732"/>
                  </a:lnTo>
                  <a:lnTo>
                    <a:pt x="459" y="749"/>
                  </a:lnTo>
                  <a:lnTo>
                    <a:pt x="443" y="761"/>
                  </a:lnTo>
                  <a:lnTo>
                    <a:pt x="424" y="777"/>
                  </a:lnTo>
                  <a:lnTo>
                    <a:pt x="405" y="791"/>
                  </a:lnTo>
                  <a:lnTo>
                    <a:pt x="383" y="804"/>
                  </a:lnTo>
                  <a:lnTo>
                    <a:pt x="362" y="816"/>
                  </a:lnTo>
                  <a:lnTo>
                    <a:pt x="342" y="823"/>
                  </a:lnTo>
                  <a:lnTo>
                    <a:pt x="322" y="832"/>
                  </a:lnTo>
                  <a:lnTo>
                    <a:pt x="304" y="838"/>
                  </a:lnTo>
                  <a:lnTo>
                    <a:pt x="299" y="858"/>
                  </a:lnTo>
                  <a:close/>
                  <a:moveTo>
                    <a:pt x="91" y="546"/>
                  </a:moveTo>
                  <a:lnTo>
                    <a:pt x="83" y="552"/>
                  </a:lnTo>
                  <a:lnTo>
                    <a:pt x="87" y="556"/>
                  </a:lnTo>
                  <a:lnTo>
                    <a:pt x="89" y="562"/>
                  </a:lnTo>
                  <a:lnTo>
                    <a:pt x="91" y="556"/>
                  </a:lnTo>
                  <a:lnTo>
                    <a:pt x="92" y="551"/>
                  </a:lnTo>
                  <a:lnTo>
                    <a:pt x="91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2897280" y="4518000"/>
              <a:ext cx="122040" cy="154080"/>
            </a:xfrm>
            <a:custGeom>
              <a:avLst/>
              <a:gdLst/>
              <a:ahLst/>
              <a:rect l="l" t="t" r="r" b="b"/>
              <a:pathLst>
                <a:path w="385" h="484">
                  <a:moveTo>
                    <a:pt x="360" y="0"/>
                  </a:moveTo>
                  <a:lnTo>
                    <a:pt x="363" y="42"/>
                  </a:lnTo>
                  <a:lnTo>
                    <a:pt x="363" y="91"/>
                  </a:lnTo>
                  <a:lnTo>
                    <a:pt x="358" y="148"/>
                  </a:lnTo>
                  <a:lnTo>
                    <a:pt x="348" y="203"/>
                  </a:lnTo>
                  <a:lnTo>
                    <a:pt x="335" y="258"/>
                  </a:lnTo>
                  <a:lnTo>
                    <a:pt x="323" y="296"/>
                  </a:lnTo>
                  <a:lnTo>
                    <a:pt x="314" y="302"/>
                  </a:lnTo>
                  <a:lnTo>
                    <a:pt x="302" y="311"/>
                  </a:lnTo>
                  <a:lnTo>
                    <a:pt x="294" y="350"/>
                  </a:lnTo>
                  <a:lnTo>
                    <a:pt x="294" y="358"/>
                  </a:lnTo>
                  <a:lnTo>
                    <a:pt x="298" y="364"/>
                  </a:lnTo>
                  <a:lnTo>
                    <a:pt x="298" y="371"/>
                  </a:lnTo>
                  <a:lnTo>
                    <a:pt x="293" y="380"/>
                  </a:lnTo>
                  <a:lnTo>
                    <a:pt x="301" y="387"/>
                  </a:lnTo>
                  <a:lnTo>
                    <a:pt x="307" y="395"/>
                  </a:lnTo>
                  <a:lnTo>
                    <a:pt x="311" y="405"/>
                  </a:lnTo>
                  <a:lnTo>
                    <a:pt x="319" y="408"/>
                  </a:lnTo>
                  <a:lnTo>
                    <a:pt x="323" y="412"/>
                  </a:lnTo>
                  <a:lnTo>
                    <a:pt x="328" y="419"/>
                  </a:lnTo>
                  <a:lnTo>
                    <a:pt x="332" y="426"/>
                  </a:lnTo>
                  <a:lnTo>
                    <a:pt x="336" y="433"/>
                  </a:lnTo>
                  <a:lnTo>
                    <a:pt x="360" y="446"/>
                  </a:lnTo>
                  <a:lnTo>
                    <a:pt x="376" y="452"/>
                  </a:lnTo>
                  <a:lnTo>
                    <a:pt x="382" y="459"/>
                  </a:lnTo>
                  <a:lnTo>
                    <a:pt x="385" y="466"/>
                  </a:lnTo>
                  <a:lnTo>
                    <a:pt x="385" y="479"/>
                  </a:lnTo>
                  <a:lnTo>
                    <a:pt x="373" y="481"/>
                  </a:lnTo>
                  <a:lnTo>
                    <a:pt x="356" y="484"/>
                  </a:lnTo>
                  <a:lnTo>
                    <a:pt x="330" y="483"/>
                  </a:lnTo>
                  <a:lnTo>
                    <a:pt x="306" y="479"/>
                  </a:lnTo>
                  <a:lnTo>
                    <a:pt x="279" y="470"/>
                  </a:lnTo>
                  <a:lnTo>
                    <a:pt x="259" y="460"/>
                  </a:lnTo>
                  <a:lnTo>
                    <a:pt x="244" y="450"/>
                  </a:lnTo>
                  <a:lnTo>
                    <a:pt x="228" y="448"/>
                  </a:lnTo>
                  <a:lnTo>
                    <a:pt x="215" y="447"/>
                  </a:lnTo>
                  <a:lnTo>
                    <a:pt x="204" y="443"/>
                  </a:lnTo>
                  <a:lnTo>
                    <a:pt x="192" y="439"/>
                  </a:lnTo>
                  <a:lnTo>
                    <a:pt x="189" y="425"/>
                  </a:lnTo>
                  <a:lnTo>
                    <a:pt x="190" y="413"/>
                  </a:lnTo>
                  <a:lnTo>
                    <a:pt x="192" y="402"/>
                  </a:lnTo>
                  <a:lnTo>
                    <a:pt x="194" y="392"/>
                  </a:lnTo>
                  <a:lnTo>
                    <a:pt x="198" y="383"/>
                  </a:lnTo>
                  <a:lnTo>
                    <a:pt x="204" y="373"/>
                  </a:lnTo>
                  <a:lnTo>
                    <a:pt x="209" y="364"/>
                  </a:lnTo>
                  <a:lnTo>
                    <a:pt x="209" y="355"/>
                  </a:lnTo>
                  <a:lnTo>
                    <a:pt x="209" y="344"/>
                  </a:lnTo>
                  <a:lnTo>
                    <a:pt x="211" y="338"/>
                  </a:lnTo>
                  <a:lnTo>
                    <a:pt x="215" y="331"/>
                  </a:lnTo>
                  <a:lnTo>
                    <a:pt x="215" y="297"/>
                  </a:lnTo>
                  <a:lnTo>
                    <a:pt x="204" y="292"/>
                  </a:lnTo>
                  <a:lnTo>
                    <a:pt x="205" y="283"/>
                  </a:lnTo>
                  <a:lnTo>
                    <a:pt x="208" y="275"/>
                  </a:lnTo>
                  <a:lnTo>
                    <a:pt x="208" y="263"/>
                  </a:lnTo>
                  <a:lnTo>
                    <a:pt x="205" y="251"/>
                  </a:lnTo>
                  <a:lnTo>
                    <a:pt x="208" y="232"/>
                  </a:lnTo>
                  <a:lnTo>
                    <a:pt x="211" y="208"/>
                  </a:lnTo>
                  <a:lnTo>
                    <a:pt x="218" y="182"/>
                  </a:lnTo>
                  <a:lnTo>
                    <a:pt x="228" y="155"/>
                  </a:lnTo>
                  <a:lnTo>
                    <a:pt x="211" y="175"/>
                  </a:lnTo>
                  <a:lnTo>
                    <a:pt x="193" y="194"/>
                  </a:lnTo>
                  <a:lnTo>
                    <a:pt x="177" y="210"/>
                  </a:lnTo>
                  <a:lnTo>
                    <a:pt x="160" y="227"/>
                  </a:lnTo>
                  <a:lnTo>
                    <a:pt x="144" y="239"/>
                  </a:lnTo>
                  <a:lnTo>
                    <a:pt x="125" y="255"/>
                  </a:lnTo>
                  <a:lnTo>
                    <a:pt x="106" y="269"/>
                  </a:lnTo>
                  <a:lnTo>
                    <a:pt x="84" y="282"/>
                  </a:lnTo>
                  <a:lnTo>
                    <a:pt x="63" y="294"/>
                  </a:lnTo>
                  <a:lnTo>
                    <a:pt x="43" y="301"/>
                  </a:lnTo>
                  <a:lnTo>
                    <a:pt x="23" y="310"/>
                  </a:lnTo>
                  <a:lnTo>
                    <a:pt x="5" y="316"/>
                  </a:lnTo>
                  <a:lnTo>
                    <a:pt x="0" y="33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2801880" y="4352760"/>
              <a:ext cx="292320" cy="182880"/>
            </a:xfrm>
            <a:custGeom>
              <a:avLst/>
              <a:gdLst/>
              <a:ahLst/>
              <a:rect l="l" t="t" r="r" b="b"/>
              <a:pathLst>
                <a:path w="918" h="576">
                  <a:moveTo>
                    <a:pt x="0" y="576"/>
                  </a:moveTo>
                  <a:lnTo>
                    <a:pt x="0" y="576"/>
                  </a:lnTo>
                  <a:lnTo>
                    <a:pt x="5" y="571"/>
                  </a:lnTo>
                  <a:lnTo>
                    <a:pt x="8" y="561"/>
                  </a:lnTo>
                  <a:lnTo>
                    <a:pt x="9" y="555"/>
                  </a:lnTo>
                  <a:lnTo>
                    <a:pt x="12" y="550"/>
                  </a:lnTo>
                  <a:lnTo>
                    <a:pt x="28" y="546"/>
                  </a:lnTo>
                  <a:lnTo>
                    <a:pt x="22" y="534"/>
                  </a:lnTo>
                  <a:lnTo>
                    <a:pt x="26" y="515"/>
                  </a:lnTo>
                  <a:lnTo>
                    <a:pt x="28" y="512"/>
                  </a:lnTo>
                  <a:lnTo>
                    <a:pt x="29" y="509"/>
                  </a:lnTo>
                  <a:lnTo>
                    <a:pt x="33" y="509"/>
                  </a:lnTo>
                  <a:lnTo>
                    <a:pt x="33" y="504"/>
                  </a:lnTo>
                  <a:lnTo>
                    <a:pt x="57" y="504"/>
                  </a:lnTo>
                  <a:lnTo>
                    <a:pt x="57" y="509"/>
                  </a:lnTo>
                  <a:lnTo>
                    <a:pt x="60" y="509"/>
                  </a:lnTo>
                  <a:lnTo>
                    <a:pt x="62" y="512"/>
                  </a:lnTo>
                  <a:lnTo>
                    <a:pt x="64" y="518"/>
                  </a:lnTo>
                  <a:lnTo>
                    <a:pt x="66" y="526"/>
                  </a:lnTo>
                  <a:lnTo>
                    <a:pt x="66" y="534"/>
                  </a:lnTo>
                  <a:lnTo>
                    <a:pt x="64" y="540"/>
                  </a:lnTo>
                  <a:lnTo>
                    <a:pt x="61" y="543"/>
                  </a:lnTo>
                  <a:lnTo>
                    <a:pt x="66" y="546"/>
                  </a:lnTo>
                  <a:lnTo>
                    <a:pt x="71" y="546"/>
                  </a:lnTo>
                  <a:lnTo>
                    <a:pt x="75" y="543"/>
                  </a:lnTo>
                  <a:lnTo>
                    <a:pt x="78" y="539"/>
                  </a:lnTo>
                  <a:lnTo>
                    <a:pt x="76" y="532"/>
                  </a:lnTo>
                  <a:lnTo>
                    <a:pt x="66" y="534"/>
                  </a:lnTo>
                  <a:lnTo>
                    <a:pt x="66" y="526"/>
                  </a:lnTo>
                  <a:lnTo>
                    <a:pt x="79" y="524"/>
                  </a:lnTo>
                  <a:lnTo>
                    <a:pt x="83" y="526"/>
                  </a:lnTo>
                  <a:lnTo>
                    <a:pt x="88" y="527"/>
                  </a:lnTo>
                  <a:lnTo>
                    <a:pt x="92" y="530"/>
                  </a:lnTo>
                  <a:lnTo>
                    <a:pt x="89" y="513"/>
                  </a:lnTo>
                  <a:lnTo>
                    <a:pt x="85" y="497"/>
                  </a:lnTo>
                  <a:lnTo>
                    <a:pt x="110" y="389"/>
                  </a:lnTo>
                  <a:lnTo>
                    <a:pt x="116" y="372"/>
                  </a:lnTo>
                  <a:lnTo>
                    <a:pt x="121" y="359"/>
                  </a:lnTo>
                  <a:lnTo>
                    <a:pt x="130" y="347"/>
                  </a:lnTo>
                  <a:lnTo>
                    <a:pt x="122" y="322"/>
                  </a:lnTo>
                  <a:lnTo>
                    <a:pt x="120" y="305"/>
                  </a:lnTo>
                  <a:lnTo>
                    <a:pt x="121" y="290"/>
                  </a:lnTo>
                  <a:lnTo>
                    <a:pt x="127" y="272"/>
                  </a:lnTo>
                  <a:lnTo>
                    <a:pt x="139" y="250"/>
                  </a:lnTo>
                  <a:lnTo>
                    <a:pt x="152" y="231"/>
                  </a:lnTo>
                  <a:lnTo>
                    <a:pt x="171" y="214"/>
                  </a:lnTo>
                  <a:lnTo>
                    <a:pt x="189" y="203"/>
                  </a:lnTo>
                  <a:lnTo>
                    <a:pt x="200" y="192"/>
                  </a:lnTo>
                  <a:lnTo>
                    <a:pt x="211" y="185"/>
                  </a:lnTo>
                  <a:lnTo>
                    <a:pt x="222" y="182"/>
                  </a:lnTo>
                  <a:lnTo>
                    <a:pt x="234" y="182"/>
                  </a:lnTo>
                  <a:lnTo>
                    <a:pt x="246" y="185"/>
                  </a:lnTo>
                  <a:lnTo>
                    <a:pt x="275" y="179"/>
                  </a:lnTo>
                  <a:lnTo>
                    <a:pt x="277" y="169"/>
                  </a:lnTo>
                  <a:lnTo>
                    <a:pt x="274" y="152"/>
                  </a:lnTo>
                  <a:lnTo>
                    <a:pt x="276" y="151"/>
                  </a:lnTo>
                  <a:lnTo>
                    <a:pt x="274" y="133"/>
                  </a:lnTo>
                  <a:lnTo>
                    <a:pt x="272" y="114"/>
                  </a:lnTo>
                  <a:lnTo>
                    <a:pt x="272" y="95"/>
                  </a:lnTo>
                  <a:lnTo>
                    <a:pt x="276" y="76"/>
                  </a:lnTo>
                  <a:lnTo>
                    <a:pt x="283" y="55"/>
                  </a:lnTo>
                  <a:lnTo>
                    <a:pt x="294" y="39"/>
                  </a:lnTo>
                  <a:lnTo>
                    <a:pt x="304" y="29"/>
                  </a:lnTo>
                  <a:lnTo>
                    <a:pt x="330" y="15"/>
                  </a:lnTo>
                  <a:lnTo>
                    <a:pt x="350" y="8"/>
                  </a:lnTo>
                  <a:lnTo>
                    <a:pt x="370" y="2"/>
                  </a:lnTo>
                  <a:lnTo>
                    <a:pt x="391" y="0"/>
                  </a:lnTo>
                  <a:lnTo>
                    <a:pt x="406" y="0"/>
                  </a:lnTo>
                  <a:lnTo>
                    <a:pt x="424" y="2"/>
                  </a:lnTo>
                  <a:lnTo>
                    <a:pt x="437" y="6"/>
                  </a:lnTo>
                  <a:lnTo>
                    <a:pt x="447" y="13"/>
                  </a:lnTo>
                  <a:lnTo>
                    <a:pt x="459" y="23"/>
                  </a:lnTo>
                  <a:lnTo>
                    <a:pt x="468" y="38"/>
                  </a:lnTo>
                  <a:lnTo>
                    <a:pt x="483" y="66"/>
                  </a:lnTo>
                  <a:lnTo>
                    <a:pt x="497" y="100"/>
                  </a:lnTo>
                  <a:lnTo>
                    <a:pt x="505" y="107"/>
                  </a:lnTo>
                  <a:lnTo>
                    <a:pt x="508" y="114"/>
                  </a:lnTo>
                  <a:lnTo>
                    <a:pt x="506" y="121"/>
                  </a:lnTo>
                  <a:lnTo>
                    <a:pt x="500" y="126"/>
                  </a:lnTo>
                  <a:lnTo>
                    <a:pt x="479" y="133"/>
                  </a:lnTo>
                  <a:lnTo>
                    <a:pt x="481" y="151"/>
                  </a:lnTo>
                  <a:lnTo>
                    <a:pt x="483" y="168"/>
                  </a:lnTo>
                  <a:lnTo>
                    <a:pt x="483" y="181"/>
                  </a:lnTo>
                  <a:lnTo>
                    <a:pt x="492" y="182"/>
                  </a:lnTo>
                  <a:lnTo>
                    <a:pt x="505" y="206"/>
                  </a:lnTo>
                  <a:lnTo>
                    <a:pt x="600" y="307"/>
                  </a:lnTo>
                  <a:lnTo>
                    <a:pt x="605" y="314"/>
                  </a:lnTo>
                  <a:lnTo>
                    <a:pt x="606" y="321"/>
                  </a:lnTo>
                  <a:lnTo>
                    <a:pt x="605" y="328"/>
                  </a:lnTo>
                  <a:lnTo>
                    <a:pt x="600" y="332"/>
                  </a:lnTo>
                  <a:lnTo>
                    <a:pt x="596" y="334"/>
                  </a:lnTo>
                  <a:lnTo>
                    <a:pt x="596" y="341"/>
                  </a:lnTo>
                  <a:lnTo>
                    <a:pt x="593" y="347"/>
                  </a:lnTo>
                  <a:lnTo>
                    <a:pt x="589" y="352"/>
                  </a:lnTo>
                  <a:lnTo>
                    <a:pt x="593" y="356"/>
                  </a:lnTo>
                  <a:lnTo>
                    <a:pt x="596" y="362"/>
                  </a:lnTo>
                  <a:lnTo>
                    <a:pt x="601" y="371"/>
                  </a:lnTo>
                  <a:lnTo>
                    <a:pt x="613" y="377"/>
                  </a:lnTo>
                  <a:lnTo>
                    <a:pt x="621" y="383"/>
                  </a:lnTo>
                  <a:lnTo>
                    <a:pt x="630" y="389"/>
                  </a:lnTo>
                  <a:lnTo>
                    <a:pt x="638" y="396"/>
                  </a:lnTo>
                  <a:lnTo>
                    <a:pt x="660" y="388"/>
                  </a:lnTo>
                  <a:lnTo>
                    <a:pt x="673" y="385"/>
                  </a:lnTo>
                  <a:lnTo>
                    <a:pt x="686" y="383"/>
                  </a:lnTo>
                  <a:lnTo>
                    <a:pt x="694" y="380"/>
                  </a:lnTo>
                  <a:lnTo>
                    <a:pt x="730" y="356"/>
                  </a:lnTo>
                  <a:lnTo>
                    <a:pt x="775" y="307"/>
                  </a:lnTo>
                  <a:lnTo>
                    <a:pt x="780" y="309"/>
                  </a:lnTo>
                  <a:lnTo>
                    <a:pt x="805" y="280"/>
                  </a:lnTo>
                  <a:lnTo>
                    <a:pt x="806" y="273"/>
                  </a:lnTo>
                  <a:lnTo>
                    <a:pt x="811" y="267"/>
                  </a:lnTo>
                  <a:lnTo>
                    <a:pt x="818" y="257"/>
                  </a:lnTo>
                  <a:lnTo>
                    <a:pt x="918" y="255"/>
                  </a:lnTo>
                  <a:lnTo>
                    <a:pt x="852" y="293"/>
                  </a:lnTo>
                  <a:lnTo>
                    <a:pt x="839" y="307"/>
                  </a:lnTo>
                  <a:lnTo>
                    <a:pt x="819" y="339"/>
                  </a:lnTo>
                  <a:lnTo>
                    <a:pt x="822" y="347"/>
                  </a:lnTo>
                  <a:lnTo>
                    <a:pt x="772" y="434"/>
                  </a:lnTo>
                  <a:lnTo>
                    <a:pt x="756" y="478"/>
                  </a:lnTo>
                  <a:lnTo>
                    <a:pt x="737" y="493"/>
                  </a:lnTo>
                  <a:lnTo>
                    <a:pt x="717" y="506"/>
                  </a:lnTo>
                  <a:lnTo>
                    <a:pt x="692" y="518"/>
                  </a:lnTo>
                  <a:lnTo>
                    <a:pt x="675" y="521"/>
                  </a:lnTo>
                  <a:lnTo>
                    <a:pt x="659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2962440" y="4398840"/>
              <a:ext cx="231480" cy="66960"/>
            </a:xfrm>
            <a:custGeom>
              <a:avLst/>
              <a:gdLst/>
              <a:ahLst/>
              <a:rect l="l" t="t" r="r" b="b"/>
              <a:pathLst>
                <a:path w="727" h="207">
                  <a:moveTo>
                    <a:pt x="510" y="100"/>
                  </a:moveTo>
                  <a:lnTo>
                    <a:pt x="500" y="96"/>
                  </a:lnTo>
                  <a:lnTo>
                    <a:pt x="425" y="99"/>
                  </a:lnTo>
                  <a:lnTo>
                    <a:pt x="421" y="103"/>
                  </a:lnTo>
                  <a:lnTo>
                    <a:pt x="502" y="105"/>
                  </a:lnTo>
                  <a:lnTo>
                    <a:pt x="497" y="108"/>
                  </a:lnTo>
                  <a:lnTo>
                    <a:pt x="413" y="108"/>
                  </a:lnTo>
                  <a:lnTo>
                    <a:pt x="313" y="111"/>
                  </a:lnTo>
                  <a:lnTo>
                    <a:pt x="289" y="111"/>
                  </a:lnTo>
                  <a:lnTo>
                    <a:pt x="206" y="145"/>
                  </a:lnTo>
                  <a:lnTo>
                    <a:pt x="206" y="193"/>
                  </a:lnTo>
                  <a:lnTo>
                    <a:pt x="149" y="207"/>
                  </a:lnTo>
                  <a:lnTo>
                    <a:pt x="149" y="160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3" y="132"/>
                  </a:lnTo>
                  <a:lnTo>
                    <a:pt x="141" y="129"/>
                  </a:lnTo>
                  <a:lnTo>
                    <a:pt x="137" y="128"/>
                  </a:lnTo>
                  <a:lnTo>
                    <a:pt x="134" y="128"/>
                  </a:lnTo>
                  <a:lnTo>
                    <a:pt x="113" y="126"/>
                  </a:lnTo>
                  <a:lnTo>
                    <a:pt x="121" y="138"/>
                  </a:lnTo>
                  <a:lnTo>
                    <a:pt x="122" y="143"/>
                  </a:lnTo>
                  <a:lnTo>
                    <a:pt x="122" y="147"/>
                  </a:lnTo>
                  <a:lnTo>
                    <a:pt x="120" y="150"/>
                  </a:lnTo>
                  <a:lnTo>
                    <a:pt x="115" y="153"/>
                  </a:lnTo>
                  <a:lnTo>
                    <a:pt x="138" y="153"/>
                  </a:lnTo>
                  <a:lnTo>
                    <a:pt x="142" y="153"/>
                  </a:lnTo>
                  <a:lnTo>
                    <a:pt x="143" y="150"/>
                  </a:lnTo>
                  <a:lnTo>
                    <a:pt x="145" y="147"/>
                  </a:lnTo>
                  <a:lnTo>
                    <a:pt x="149" y="160"/>
                  </a:lnTo>
                  <a:lnTo>
                    <a:pt x="95" y="160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49" y="46"/>
                  </a:lnTo>
                  <a:lnTo>
                    <a:pt x="55" y="21"/>
                  </a:lnTo>
                  <a:lnTo>
                    <a:pt x="60" y="21"/>
                  </a:lnTo>
                  <a:lnTo>
                    <a:pt x="63" y="12"/>
                  </a:lnTo>
                  <a:lnTo>
                    <a:pt x="68" y="5"/>
                  </a:lnTo>
                  <a:lnTo>
                    <a:pt x="77" y="4"/>
                  </a:lnTo>
                  <a:lnTo>
                    <a:pt x="209" y="16"/>
                  </a:lnTo>
                  <a:lnTo>
                    <a:pt x="214" y="18"/>
                  </a:lnTo>
                  <a:lnTo>
                    <a:pt x="220" y="22"/>
                  </a:lnTo>
                  <a:lnTo>
                    <a:pt x="223" y="28"/>
                  </a:lnTo>
                  <a:lnTo>
                    <a:pt x="223" y="35"/>
                  </a:lnTo>
                  <a:lnTo>
                    <a:pt x="222" y="41"/>
                  </a:lnTo>
                  <a:lnTo>
                    <a:pt x="220" y="43"/>
                  </a:lnTo>
                  <a:lnTo>
                    <a:pt x="212" y="43"/>
                  </a:lnTo>
                  <a:lnTo>
                    <a:pt x="213" y="39"/>
                  </a:lnTo>
                  <a:lnTo>
                    <a:pt x="216" y="34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6" y="21"/>
                  </a:lnTo>
                  <a:lnTo>
                    <a:pt x="107" y="21"/>
                  </a:lnTo>
                  <a:lnTo>
                    <a:pt x="102" y="26"/>
                  </a:lnTo>
                  <a:lnTo>
                    <a:pt x="100" y="33"/>
                  </a:lnTo>
                  <a:lnTo>
                    <a:pt x="98" y="38"/>
                  </a:lnTo>
                  <a:lnTo>
                    <a:pt x="98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6" y="46"/>
                  </a:lnTo>
                  <a:lnTo>
                    <a:pt x="212" y="43"/>
                  </a:lnTo>
                  <a:lnTo>
                    <a:pt x="220" y="43"/>
                  </a:lnTo>
                  <a:lnTo>
                    <a:pt x="515" y="43"/>
                  </a:lnTo>
                  <a:lnTo>
                    <a:pt x="522" y="45"/>
                  </a:lnTo>
                  <a:lnTo>
                    <a:pt x="524" y="46"/>
                  </a:lnTo>
                  <a:lnTo>
                    <a:pt x="556" y="46"/>
                  </a:lnTo>
                  <a:lnTo>
                    <a:pt x="555" y="33"/>
                  </a:lnTo>
                  <a:lnTo>
                    <a:pt x="550" y="33"/>
                  </a:lnTo>
                  <a:lnTo>
                    <a:pt x="550" y="17"/>
                  </a:lnTo>
                  <a:lnTo>
                    <a:pt x="541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2" y="45"/>
                  </a:lnTo>
                  <a:lnTo>
                    <a:pt x="515" y="43"/>
                  </a:lnTo>
                  <a:lnTo>
                    <a:pt x="545" y="3"/>
                  </a:lnTo>
                  <a:lnTo>
                    <a:pt x="550" y="0"/>
                  </a:lnTo>
                  <a:lnTo>
                    <a:pt x="556" y="3"/>
                  </a:lnTo>
                  <a:lnTo>
                    <a:pt x="560" y="7"/>
                  </a:lnTo>
                  <a:lnTo>
                    <a:pt x="563" y="56"/>
                  </a:lnTo>
                  <a:lnTo>
                    <a:pt x="643" y="56"/>
                  </a:lnTo>
                  <a:lnTo>
                    <a:pt x="651" y="51"/>
                  </a:lnTo>
                  <a:lnTo>
                    <a:pt x="708" y="50"/>
                  </a:lnTo>
                  <a:lnTo>
                    <a:pt x="713" y="42"/>
                  </a:lnTo>
                  <a:lnTo>
                    <a:pt x="723" y="42"/>
                  </a:lnTo>
                  <a:lnTo>
                    <a:pt x="723" y="50"/>
                  </a:lnTo>
                  <a:lnTo>
                    <a:pt x="727" y="50"/>
                  </a:lnTo>
                  <a:lnTo>
                    <a:pt x="727" y="75"/>
                  </a:lnTo>
                  <a:lnTo>
                    <a:pt x="712" y="75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7"/>
                  </a:lnTo>
                  <a:lnTo>
                    <a:pt x="550" y="77"/>
                  </a:lnTo>
                  <a:lnTo>
                    <a:pt x="550" y="75"/>
                  </a:lnTo>
                  <a:lnTo>
                    <a:pt x="526" y="75"/>
                  </a:lnTo>
                  <a:lnTo>
                    <a:pt x="526" y="87"/>
                  </a:lnTo>
                  <a:lnTo>
                    <a:pt x="518" y="87"/>
                  </a:lnTo>
                  <a:lnTo>
                    <a:pt x="510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3165480" y="3616200"/>
              <a:ext cx="293760" cy="341280"/>
            </a:xfrm>
            <a:custGeom>
              <a:avLst/>
              <a:gdLst/>
              <a:ahLst/>
              <a:rect l="l" t="t" r="r" b="b"/>
              <a:pathLst>
                <a:path w="923" h="1074">
                  <a:moveTo>
                    <a:pt x="488" y="527"/>
                  </a:moveTo>
                  <a:lnTo>
                    <a:pt x="505" y="514"/>
                  </a:lnTo>
                  <a:lnTo>
                    <a:pt x="521" y="505"/>
                  </a:lnTo>
                  <a:lnTo>
                    <a:pt x="537" y="496"/>
                  </a:lnTo>
                  <a:lnTo>
                    <a:pt x="552" y="489"/>
                  </a:lnTo>
                  <a:lnTo>
                    <a:pt x="522" y="469"/>
                  </a:lnTo>
                  <a:lnTo>
                    <a:pt x="508" y="459"/>
                  </a:lnTo>
                  <a:lnTo>
                    <a:pt x="492" y="448"/>
                  </a:lnTo>
                  <a:lnTo>
                    <a:pt x="493" y="468"/>
                  </a:lnTo>
                  <a:lnTo>
                    <a:pt x="491" y="486"/>
                  </a:lnTo>
                  <a:lnTo>
                    <a:pt x="488" y="527"/>
                  </a:lnTo>
                  <a:close/>
                  <a:moveTo>
                    <a:pt x="666" y="521"/>
                  </a:moveTo>
                  <a:lnTo>
                    <a:pt x="668" y="563"/>
                  </a:lnTo>
                  <a:lnTo>
                    <a:pt x="668" y="613"/>
                  </a:lnTo>
                  <a:lnTo>
                    <a:pt x="663" y="669"/>
                  </a:lnTo>
                  <a:lnTo>
                    <a:pt x="652" y="725"/>
                  </a:lnTo>
                  <a:lnTo>
                    <a:pt x="641" y="779"/>
                  </a:lnTo>
                  <a:lnTo>
                    <a:pt x="629" y="817"/>
                  </a:lnTo>
                  <a:lnTo>
                    <a:pt x="619" y="824"/>
                  </a:lnTo>
                  <a:lnTo>
                    <a:pt x="608" y="832"/>
                  </a:lnTo>
                  <a:lnTo>
                    <a:pt x="600" y="872"/>
                  </a:lnTo>
                  <a:lnTo>
                    <a:pt x="600" y="879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1"/>
                  </a:lnTo>
                  <a:lnTo>
                    <a:pt x="606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29"/>
                  </a:lnTo>
                  <a:lnTo>
                    <a:pt x="629" y="933"/>
                  </a:lnTo>
                  <a:lnTo>
                    <a:pt x="633" y="940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7"/>
                  </a:lnTo>
                  <a:lnTo>
                    <a:pt x="680" y="974"/>
                  </a:lnTo>
                  <a:lnTo>
                    <a:pt x="688" y="980"/>
                  </a:lnTo>
                  <a:lnTo>
                    <a:pt x="690" y="988"/>
                  </a:lnTo>
                  <a:lnTo>
                    <a:pt x="690" y="999"/>
                  </a:lnTo>
                  <a:lnTo>
                    <a:pt x="678" y="1002"/>
                  </a:lnTo>
                  <a:lnTo>
                    <a:pt x="661" y="1005"/>
                  </a:lnTo>
                  <a:lnTo>
                    <a:pt x="634" y="1003"/>
                  </a:lnTo>
                  <a:lnTo>
                    <a:pt x="610" y="999"/>
                  </a:lnTo>
                  <a:lnTo>
                    <a:pt x="584" y="991"/>
                  </a:lnTo>
                  <a:lnTo>
                    <a:pt x="564" y="981"/>
                  </a:lnTo>
                  <a:lnTo>
                    <a:pt x="548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4"/>
                  </a:lnTo>
                  <a:lnTo>
                    <a:pt x="497" y="960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7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4"/>
                  </a:lnTo>
                  <a:lnTo>
                    <a:pt x="513" y="886"/>
                  </a:lnTo>
                  <a:lnTo>
                    <a:pt x="513" y="876"/>
                  </a:lnTo>
                  <a:lnTo>
                    <a:pt x="513" y="866"/>
                  </a:lnTo>
                  <a:lnTo>
                    <a:pt x="517" y="859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8" y="813"/>
                  </a:lnTo>
                  <a:lnTo>
                    <a:pt x="509" y="805"/>
                  </a:lnTo>
                  <a:lnTo>
                    <a:pt x="512" y="796"/>
                  </a:lnTo>
                  <a:lnTo>
                    <a:pt x="512" y="785"/>
                  </a:lnTo>
                  <a:lnTo>
                    <a:pt x="509" y="772"/>
                  </a:lnTo>
                  <a:lnTo>
                    <a:pt x="512" y="753"/>
                  </a:lnTo>
                  <a:lnTo>
                    <a:pt x="517" y="729"/>
                  </a:lnTo>
                  <a:lnTo>
                    <a:pt x="524" y="703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1"/>
                  </a:lnTo>
                  <a:lnTo>
                    <a:pt x="464" y="748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0"/>
                  </a:lnTo>
                  <a:lnTo>
                    <a:pt x="388" y="803"/>
                  </a:lnTo>
                  <a:lnTo>
                    <a:pt x="367" y="815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0" y="837"/>
                  </a:lnTo>
                  <a:lnTo>
                    <a:pt x="293" y="903"/>
                  </a:lnTo>
                  <a:lnTo>
                    <a:pt x="292" y="921"/>
                  </a:lnTo>
                  <a:lnTo>
                    <a:pt x="289" y="940"/>
                  </a:lnTo>
                  <a:lnTo>
                    <a:pt x="286" y="956"/>
                  </a:lnTo>
                  <a:lnTo>
                    <a:pt x="282" y="972"/>
                  </a:lnTo>
                  <a:lnTo>
                    <a:pt x="276" y="988"/>
                  </a:lnTo>
                  <a:lnTo>
                    <a:pt x="268" y="1003"/>
                  </a:lnTo>
                  <a:lnTo>
                    <a:pt x="259" y="1017"/>
                  </a:lnTo>
                  <a:lnTo>
                    <a:pt x="250" y="1027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8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69"/>
                  </a:lnTo>
                  <a:lnTo>
                    <a:pt x="130" y="1064"/>
                  </a:lnTo>
                  <a:lnTo>
                    <a:pt x="117" y="1055"/>
                  </a:lnTo>
                  <a:lnTo>
                    <a:pt x="109" y="1046"/>
                  </a:lnTo>
                  <a:lnTo>
                    <a:pt x="99" y="1043"/>
                  </a:lnTo>
                  <a:lnTo>
                    <a:pt x="88" y="1025"/>
                  </a:lnTo>
                  <a:lnTo>
                    <a:pt x="82" y="1003"/>
                  </a:lnTo>
                  <a:lnTo>
                    <a:pt x="75" y="985"/>
                  </a:lnTo>
                  <a:lnTo>
                    <a:pt x="71" y="963"/>
                  </a:lnTo>
                  <a:lnTo>
                    <a:pt x="71" y="942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7"/>
                  </a:lnTo>
                  <a:lnTo>
                    <a:pt x="92" y="847"/>
                  </a:lnTo>
                  <a:lnTo>
                    <a:pt x="90" y="831"/>
                  </a:lnTo>
                  <a:lnTo>
                    <a:pt x="87" y="817"/>
                  </a:lnTo>
                  <a:lnTo>
                    <a:pt x="63" y="799"/>
                  </a:lnTo>
                  <a:lnTo>
                    <a:pt x="74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8" y="747"/>
                  </a:lnTo>
                  <a:lnTo>
                    <a:pt x="63" y="744"/>
                  </a:lnTo>
                  <a:lnTo>
                    <a:pt x="59" y="737"/>
                  </a:lnTo>
                  <a:lnTo>
                    <a:pt x="57" y="731"/>
                  </a:lnTo>
                  <a:lnTo>
                    <a:pt x="50" y="733"/>
                  </a:lnTo>
                  <a:lnTo>
                    <a:pt x="42" y="731"/>
                  </a:lnTo>
                  <a:lnTo>
                    <a:pt x="34" y="727"/>
                  </a:lnTo>
                  <a:lnTo>
                    <a:pt x="28" y="722"/>
                  </a:lnTo>
                  <a:lnTo>
                    <a:pt x="22" y="711"/>
                  </a:lnTo>
                  <a:lnTo>
                    <a:pt x="16" y="703"/>
                  </a:lnTo>
                  <a:lnTo>
                    <a:pt x="13" y="694"/>
                  </a:lnTo>
                  <a:lnTo>
                    <a:pt x="8" y="690"/>
                  </a:lnTo>
                  <a:lnTo>
                    <a:pt x="1" y="635"/>
                  </a:lnTo>
                  <a:lnTo>
                    <a:pt x="7" y="633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3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3" y="560"/>
                  </a:lnTo>
                  <a:lnTo>
                    <a:pt x="15" y="555"/>
                  </a:lnTo>
                  <a:lnTo>
                    <a:pt x="18" y="549"/>
                  </a:lnTo>
                  <a:lnTo>
                    <a:pt x="33" y="544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1"/>
                  </a:lnTo>
                  <a:lnTo>
                    <a:pt x="34" y="509"/>
                  </a:lnTo>
                  <a:lnTo>
                    <a:pt x="40" y="509"/>
                  </a:lnTo>
                  <a:lnTo>
                    <a:pt x="40" y="502"/>
                  </a:lnTo>
                  <a:lnTo>
                    <a:pt x="63" y="502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1"/>
                  </a:lnTo>
                  <a:lnTo>
                    <a:pt x="70" y="517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39"/>
                  </a:lnTo>
                  <a:lnTo>
                    <a:pt x="67" y="542"/>
                  </a:lnTo>
                  <a:lnTo>
                    <a:pt x="71" y="544"/>
                  </a:lnTo>
                  <a:lnTo>
                    <a:pt x="77" y="544"/>
                  </a:lnTo>
                  <a:lnTo>
                    <a:pt x="82" y="542"/>
                  </a:lnTo>
                  <a:lnTo>
                    <a:pt x="84" y="538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3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7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2" y="371"/>
                  </a:lnTo>
                  <a:lnTo>
                    <a:pt x="128" y="359"/>
                  </a:lnTo>
                  <a:lnTo>
                    <a:pt x="135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89"/>
                  </a:lnTo>
                  <a:lnTo>
                    <a:pt x="133" y="271"/>
                  </a:lnTo>
                  <a:lnTo>
                    <a:pt x="146" y="248"/>
                  </a:lnTo>
                  <a:lnTo>
                    <a:pt x="158" y="231"/>
                  </a:lnTo>
                  <a:lnTo>
                    <a:pt x="176" y="214"/>
                  </a:lnTo>
                  <a:lnTo>
                    <a:pt x="195" y="202"/>
                  </a:lnTo>
                  <a:lnTo>
                    <a:pt x="206" y="192"/>
                  </a:lnTo>
                  <a:lnTo>
                    <a:pt x="217" y="184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3" y="184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4"/>
                  </a:lnTo>
                  <a:lnTo>
                    <a:pt x="282" y="75"/>
                  </a:lnTo>
                  <a:lnTo>
                    <a:pt x="289" y="54"/>
                  </a:lnTo>
                  <a:lnTo>
                    <a:pt x="300" y="38"/>
                  </a:lnTo>
                  <a:lnTo>
                    <a:pt x="310" y="29"/>
                  </a:lnTo>
                  <a:lnTo>
                    <a:pt x="337" y="14"/>
                  </a:lnTo>
                  <a:lnTo>
                    <a:pt x="356" y="7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2"/>
                  </a:lnTo>
                  <a:lnTo>
                    <a:pt x="464" y="23"/>
                  </a:lnTo>
                  <a:lnTo>
                    <a:pt x="475" y="37"/>
                  </a:lnTo>
                  <a:lnTo>
                    <a:pt x="488" y="65"/>
                  </a:lnTo>
                  <a:lnTo>
                    <a:pt x="504" y="98"/>
                  </a:lnTo>
                  <a:lnTo>
                    <a:pt x="510" y="107"/>
                  </a:lnTo>
                  <a:lnTo>
                    <a:pt x="513" y="114"/>
                  </a:lnTo>
                  <a:lnTo>
                    <a:pt x="512" y="119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0"/>
                  </a:lnTo>
                  <a:lnTo>
                    <a:pt x="498" y="181"/>
                  </a:lnTo>
                  <a:lnTo>
                    <a:pt x="510" y="205"/>
                  </a:lnTo>
                  <a:lnTo>
                    <a:pt x="606" y="306"/>
                  </a:lnTo>
                  <a:lnTo>
                    <a:pt x="610" y="313"/>
                  </a:lnTo>
                  <a:lnTo>
                    <a:pt x="612" y="321"/>
                  </a:lnTo>
                  <a:lnTo>
                    <a:pt x="610" y="327"/>
                  </a:lnTo>
                  <a:lnTo>
                    <a:pt x="606" y="331"/>
                  </a:lnTo>
                  <a:lnTo>
                    <a:pt x="602" y="333"/>
                  </a:lnTo>
                  <a:lnTo>
                    <a:pt x="602" y="340"/>
                  </a:lnTo>
                  <a:lnTo>
                    <a:pt x="600" y="347"/>
                  </a:lnTo>
                  <a:lnTo>
                    <a:pt x="595" y="351"/>
                  </a:lnTo>
                  <a:lnTo>
                    <a:pt x="600" y="355"/>
                  </a:lnTo>
                  <a:lnTo>
                    <a:pt x="602" y="361"/>
                  </a:lnTo>
                  <a:lnTo>
                    <a:pt x="608" y="369"/>
                  </a:lnTo>
                  <a:lnTo>
                    <a:pt x="619" y="376"/>
                  </a:lnTo>
                  <a:lnTo>
                    <a:pt x="627" y="382"/>
                  </a:lnTo>
                  <a:lnTo>
                    <a:pt x="635" y="389"/>
                  </a:lnTo>
                  <a:lnTo>
                    <a:pt x="644" y="394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2"/>
                  </a:lnTo>
                  <a:lnTo>
                    <a:pt x="700" y="380"/>
                  </a:lnTo>
                  <a:lnTo>
                    <a:pt x="735" y="355"/>
                  </a:lnTo>
                  <a:lnTo>
                    <a:pt x="780" y="306"/>
                  </a:lnTo>
                  <a:lnTo>
                    <a:pt x="786" y="307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7" y="265"/>
                  </a:lnTo>
                  <a:lnTo>
                    <a:pt x="823" y="257"/>
                  </a:lnTo>
                  <a:lnTo>
                    <a:pt x="923" y="255"/>
                  </a:lnTo>
                  <a:lnTo>
                    <a:pt x="858" y="292"/>
                  </a:lnTo>
                  <a:lnTo>
                    <a:pt x="844" y="306"/>
                  </a:lnTo>
                  <a:lnTo>
                    <a:pt x="825" y="339"/>
                  </a:lnTo>
                  <a:lnTo>
                    <a:pt x="828" y="347"/>
                  </a:lnTo>
                  <a:lnTo>
                    <a:pt x="777" y="433"/>
                  </a:lnTo>
                  <a:lnTo>
                    <a:pt x="762" y="477"/>
                  </a:lnTo>
                  <a:lnTo>
                    <a:pt x="742" y="493"/>
                  </a:lnTo>
                  <a:lnTo>
                    <a:pt x="723" y="506"/>
                  </a:lnTo>
                  <a:lnTo>
                    <a:pt x="697" y="517"/>
                  </a:lnTo>
                  <a:lnTo>
                    <a:pt x="680" y="519"/>
                  </a:lnTo>
                  <a:lnTo>
                    <a:pt x="666" y="521"/>
                  </a:lnTo>
                  <a:close/>
                  <a:moveTo>
                    <a:pt x="96" y="546"/>
                  </a:moveTo>
                  <a:lnTo>
                    <a:pt x="90" y="552"/>
                  </a:lnTo>
                  <a:lnTo>
                    <a:pt x="92" y="556"/>
                  </a:lnTo>
                  <a:lnTo>
                    <a:pt x="95" y="561"/>
                  </a:lnTo>
                  <a:lnTo>
                    <a:pt x="96" y="556"/>
                  </a:lnTo>
                  <a:lnTo>
                    <a:pt x="97" y="551"/>
                  </a:lnTo>
                  <a:lnTo>
                    <a:pt x="96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3165480" y="3616200"/>
              <a:ext cx="293760" cy="341280"/>
            </a:xfrm>
            <a:custGeom>
              <a:avLst/>
              <a:gdLst/>
              <a:ahLst/>
              <a:rect l="l" t="t" r="r" b="b"/>
              <a:pathLst>
                <a:path w="923" h="1074">
                  <a:moveTo>
                    <a:pt x="666" y="521"/>
                  </a:moveTo>
                  <a:lnTo>
                    <a:pt x="668" y="563"/>
                  </a:lnTo>
                  <a:lnTo>
                    <a:pt x="668" y="613"/>
                  </a:lnTo>
                  <a:lnTo>
                    <a:pt x="663" y="669"/>
                  </a:lnTo>
                  <a:lnTo>
                    <a:pt x="652" y="725"/>
                  </a:lnTo>
                  <a:lnTo>
                    <a:pt x="641" y="779"/>
                  </a:lnTo>
                  <a:lnTo>
                    <a:pt x="629" y="817"/>
                  </a:lnTo>
                  <a:lnTo>
                    <a:pt x="619" y="824"/>
                  </a:lnTo>
                  <a:lnTo>
                    <a:pt x="608" y="832"/>
                  </a:lnTo>
                  <a:lnTo>
                    <a:pt x="600" y="872"/>
                  </a:lnTo>
                  <a:lnTo>
                    <a:pt x="600" y="879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1"/>
                  </a:lnTo>
                  <a:lnTo>
                    <a:pt x="606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29"/>
                  </a:lnTo>
                  <a:lnTo>
                    <a:pt x="629" y="933"/>
                  </a:lnTo>
                  <a:lnTo>
                    <a:pt x="633" y="940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7"/>
                  </a:lnTo>
                  <a:lnTo>
                    <a:pt x="680" y="974"/>
                  </a:lnTo>
                  <a:lnTo>
                    <a:pt x="688" y="980"/>
                  </a:lnTo>
                  <a:lnTo>
                    <a:pt x="690" y="988"/>
                  </a:lnTo>
                  <a:lnTo>
                    <a:pt x="690" y="999"/>
                  </a:lnTo>
                  <a:lnTo>
                    <a:pt x="678" y="1002"/>
                  </a:lnTo>
                  <a:lnTo>
                    <a:pt x="661" y="1005"/>
                  </a:lnTo>
                  <a:lnTo>
                    <a:pt x="634" y="1003"/>
                  </a:lnTo>
                  <a:lnTo>
                    <a:pt x="610" y="999"/>
                  </a:lnTo>
                  <a:lnTo>
                    <a:pt x="584" y="991"/>
                  </a:lnTo>
                  <a:lnTo>
                    <a:pt x="564" y="981"/>
                  </a:lnTo>
                  <a:lnTo>
                    <a:pt x="548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4"/>
                  </a:lnTo>
                  <a:lnTo>
                    <a:pt x="497" y="960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7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4"/>
                  </a:lnTo>
                  <a:lnTo>
                    <a:pt x="513" y="886"/>
                  </a:lnTo>
                  <a:lnTo>
                    <a:pt x="513" y="876"/>
                  </a:lnTo>
                  <a:lnTo>
                    <a:pt x="513" y="866"/>
                  </a:lnTo>
                  <a:lnTo>
                    <a:pt x="517" y="859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8" y="813"/>
                  </a:lnTo>
                  <a:lnTo>
                    <a:pt x="509" y="805"/>
                  </a:lnTo>
                  <a:lnTo>
                    <a:pt x="512" y="796"/>
                  </a:lnTo>
                  <a:lnTo>
                    <a:pt x="512" y="785"/>
                  </a:lnTo>
                  <a:lnTo>
                    <a:pt x="509" y="772"/>
                  </a:lnTo>
                  <a:lnTo>
                    <a:pt x="512" y="753"/>
                  </a:lnTo>
                  <a:lnTo>
                    <a:pt x="517" y="729"/>
                  </a:lnTo>
                  <a:lnTo>
                    <a:pt x="524" y="703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1"/>
                  </a:lnTo>
                  <a:lnTo>
                    <a:pt x="464" y="748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0"/>
                  </a:lnTo>
                  <a:lnTo>
                    <a:pt x="388" y="803"/>
                  </a:lnTo>
                  <a:lnTo>
                    <a:pt x="367" y="815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0" y="837"/>
                  </a:lnTo>
                  <a:lnTo>
                    <a:pt x="293" y="903"/>
                  </a:lnTo>
                  <a:lnTo>
                    <a:pt x="292" y="921"/>
                  </a:lnTo>
                  <a:lnTo>
                    <a:pt x="289" y="940"/>
                  </a:lnTo>
                  <a:lnTo>
                    <a:pt x="286" y="956"/>
                  </a:lnTo>
                  <a:lnTo>
                    <a:pt x="282" y="972"/>
                  </a:lnTo>
                  <a:lnTo>
                    <a:pt x="276" y="988"/>
                  </a:lnTo>
                  <a:lnTo>
                    <a:pt x="268" y="1003"/>
                  </a:lnTo>
                  <a:lnTo>
                    <a:pt x="259" y="1017"/>
                  </a:lnTo>
                  <a:lnTo>
                    <a:pt x="250" y="1027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8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69"/>
                  </a:lnTo>
                  <a:lnTo>
                    <a:pt x="130" y="1064"/>
                  </a:lnTo>
                  <a:lnTo>
                    <a:pt x="117" y="1055"/>
                  </a:lnTo>
                  <a:lnTo>
                    <a:pt x="109" y="1046"/>
                  </a:lnTo>
                  <a:lnTo>
                    <a:pt x="99" y="1043"/>
                  </a:lnTo>
                  <a:lnTo>
                    <a:pt x="88" y="1025"/>
                  </a:lnTo>
                  <a:lnTo>
                    <a:pt x="82" y="1003"/>
                  </a:lnTo>
                  <a:lnTo>
                    <a:pt x="75" y="985"/>
                  </a:lnTo>
                  <a:lnTo>
                    <a:pt x="71" y="963"/>
                  </a:lnTo>
                  <a:lnTo>
                    <a:pt x="71" y="942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7"/>
                  </a:lnTo>
                  <a:lnTo>
                    <a:pt x="92" y="847"/>
                  </a:lnTo>
                  <a:lnTo>
                    <a:pt x="90" y="831"/>
                  </a:lnTo>
                  <a:lnTo>
                    <a:pt x="87" y="817"/>
                  </a:lnTo>
                  <a:lnTo>
                    <a:pt x="63" y="799"/>
                  </a:lnTo>
                  <a:lnTo>
                    <a:pt x="74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8" y="747"/>
                  </a:lnTo>
                  <a:lnTo>
                    <a:pt x="63" y="744"/>
                  </a:lnTo>
                  <a:lnTo>
                    <a:pt x="59" y="737"/>
                  </a:lnTo>
                  <a:lnTo>
                    <a:pt x="57" y="731"/>
                  </a:lnTo>
                  <a:lnTo>
                    <a:pt x="50" y="733"/>
                  </a:lnTo>
                  <a:lnTo>
                    <a:pt x="42" y="731"/>
                  </a:lnTo>
                  <a:lnTo>
                    <a:pt x="34" y="727"/>
                  </a:lnTo>
                  <a:lnTo>
                    <a:pt x="28" y="722"/>
                  </a:lnTo>
                  <a:lnTo>
                    <a:pt x="22" y="711"/>
                  </a:lnTo>
                  <a:lnTo>
                    <a:pt x="16" y="703"/>
                  </a:lnTo>
                  <a:lnTo>
                    <a:pt x="13" y="694"/>
                  </a:lnTo>
                  <a:lnTo>
                    <a:pt x="8" y="690"/>
                  </a:lnTo>
                  <a:lnTo>
                    <a:pt x="1" y="635"/>
                  </a:lnTo>
                  <a:lnTo>
                    <a:pt x="7" y="633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3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3" y="560"/>
                  </a:lnTo>
                  <a:lnTo>
                    <a:pt x="15" y="555"/>
                  </a:lnTo>
                  <a:lnTo>
                    <a:pt x="18" y="549"/>
                  </a:lnTo>
                  <a:lnTo>
                    <a:pt x="33" y="544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1"/>
                  </a:lnTo>
                  <a:lnTo>
                    <a:pt x="34" y="509"/>
                  </a:lnTo>
                  <a:lnTo>
                    <a:pt x="40" y="509"/>
                  </a:lnTo>
                  <a:lnTo>
                    <a:pt x="40" y="502"/>
                  </a:lnTo>
                  <a:lnTo>
                    <a:pt x="63" y="502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1"/>
                  </a:lnTo>
                  <a:lnTo>
                    <a:pt x="70" y="517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39"/>
                  </a:lnTo>
                  <a:lnTo>
                    <a:pt x="67" y="542"/>
                  </a:lnTo>
                  <a:lnTo>
                    <a:pt x="71" y="544"/>
                  </a:lnTo>
                  <a:lnTo>
                    <a:pt x="77" y="544"/>
                  </a:lnTo>
                  <a:lnTo>
                    <a:pt x="82" y="542"/>
                  </a:lnTo>
                  <a:lnTo>
                    <a:pt x="84" y="538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3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7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2" y="371"/>
                  </a:lnTo>
                  <a:lnTo>
                    <a:pt x="128" y="359"/>
                  </a:lnTo>
                  <a:lnTo>
                    <a:pt x="135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89"/>
                  </a:lnTo>
                  <a:lnTo>
                    <a:pt x="133" y="271"/>
                  </a:lnTo>
                  <a:lnTo>
                    <a:pt x="146" y="248"/>
                  </a:lnTo>
                  <a:lnTo>
                    <a:pt x="158" y="231"/>
                  </a:lnTo>
                  <a:lnTo>
                    <a:pt x="176" y="214"/>
                  </a:lnTo>
                  <a:lnTo>
                    <a:pt x="195" y="202"/>
                  </a:lnTo>
                  <a:lnTo>
                    <a:pt x="206" y="192"/>
                  </a:lnTo>
                  <a:lnTo>
                    <a:pt x="217" y="184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3" y="184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4"/>
                  </a:lnTo>
                  <a:lnTo>
                    <a:pt x="282" y="75"/>
                  </a:lnTo>
                  <a:lnTo>
                    <a:pt x="289" y="54"/>
                  </a:lnTo>
                  <a:lnTo>
                    <a:pt x="300" y="38"/>
                  </a:lnTo>
                  <a:lnTo>
                    <a:pt x="310" y="29"/>
                  </a:lnTo>
                  <a:lnTo>
                    <a:pt x="337" y="14"/>
                  </a:lnTo>
                  <a:lnTo>
                    <a:pt x="356" y="7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2"/>
                  </a:lnTo>
                  <a:lnTo>
                    <a:pt x="464" y="23"/>
                  </a:lnTo>
                  <a:lnTo>
                    <a:pt x="475" y="37"/>
                  </a:lnTo>
                  <a:lnTo>
                    <a:pt x="488" y="65"/>
                  </a:lnTo>
                  <a:lnTo>
                    <a:pt x="504" y="98"/>
                  </a:lnTo>
                  <a:lnTo>
                    <a:pt x="510" y="107"/>
                  </a:lnTo>
                  <a:lnTo>
                    <a:pt x="513" y="114"/>
                  </a:lnTo>
                  <a:lnTo>
                    <a:pt x="512" y="119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0"/>
                  </a:lnTo>
                  <a:lnTo>
                    <a:pt x="498" y="181"/>
                  </a:lnTo>
                  <a:lnTo>
                    <a:pt x="510" y="205"/>
                  </a:lnTo>
                  <a:lnTo>
                    <a:pt x="606" y="306"/>
                  </a:lnTo>
                  <a:lnTo>
                    <a:pt x="610" y="313"/>
                  </a:lnTo>
                  <a:lnTo>
                    <a:pt x="612" y="321"/>
                  </a:lnTo>
                  <a:lnTo>
                    <a:pt x="610" y="327"/>
                  </a:lnTo>
                  <a:lnTo>
                    <a:pt x="606" y="331"/>
                  </a:lnTo>
                  <a:lnTo>
                    <a:pt x="602" y="333"/>
                  </a:lnTo>
                  <a:lnTo>
                    <a:pt x="602" y="340"/>
                  </a:lnTo>
                  <a:lnTo>
                    <a:pt x="600" y="347"/>
                  </a:lnTo>
                  <a:lnTo>
                    <a:pt x="595" y="351"/>
                  </a:lnTo>
                  <a:lnTo>
                    <a:pt x="600" y="355"/>
                  </a:lnTo>
                  <a:lnTo>
                    <a:pt x="602" y="361"/>
                  </a:lnTo>
                  <a:lnTo>
                    <a:pt x="608" y="369"/>
                  </a:lnTo>
                  <a:lnTo>
                    <a:pt x="619" y="376"/>
                  </a:lnTo>
                  <a:lnTo>
                    <a:pt x="627" y="382"/>
                  </a:lnTo>
                  <a:lnTo>
                    <a:pt x="635" y="389"/>
                  </a:lnTo>
                  <a:lnTo>
                    <a:pt x="644" y="394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2"/>
                  </a:lnTo>
                  <a:lnTo>
                    <a:pt x="700" y="380"/>
                  </a:lnTo>
                  <a:lnTo>
                    <a:pt x="735" y="355"/>
                  </a:lnTo>
                  <a:lnTo>
                    <a:pt x="780" y="306"/>
                  </a:lnTo>
                  <a:lnTo>
                    <a:pt x="786" y="307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7" y="265"/>
                  </a:lnTo>
                  <a:lnTo>
                    <a:pt x="823" y="257"/>
                  </a:lnTo>
                  <a:lnTo>
                    <a:pt x="923" y="255"/>
                  </a:lnTo>
                  <a:lnTo>
                    <a:pt x="858" y="292"/>
                  </a:lnTo>
                  <a:lnTo>
                    <a:pt x="844" y="306"/>
                  </a:lnTo>
                  <a:lnTo>
                    <a:pt x="825" y="339"/>
                  </a:lnTo>
                  <a:lnTo>
                    <a:pt x="828" y="347"/>
                  </a:lnTo>
                  <a:lnTo>
                    <a:pt x="777" y="433"/>
                  </a:lnTo>
                  <a:lnTo>
                    <a:pt x="762" y="477"/>
                  </a:lnTo>
                  <a:lnTo>
                    <a:pt x="742" y="493"/>
                  </a:lnTo>
                  <a:lnTo>
                    <a:pt x="723" y="506"/>
                  </a:lnTo>
                  <a:lnTo>
                    <a:pt x="697" y="517"/>
                  </a:lnTo>
                  <a:lnTo>
                    <a:pt x="680" y="519"/>
                  </a:lnTo>
                  <a:lnTo>
                    <a:pt x="666" y="52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3327480" y="3664080"/>
              <a:ext cx="230040" cy="64800"/>
            </a:xfrm>
            <a:custGeom>
              <a:avLst/>
              <a:gdLst/>
              <a:ahLst/>
              <a:rect l="l" t="t" r="r" b="b"/>
              <a:pathLst>
                <a:path w="726" h="205">
                  <a:moveTo>
                    <a:pt x="512" y="99"/>
                  </a:moveTo>
                  <a:lnTo>
                    <a:pt x="500" y="95"/>
                  </a:lnTo>
                  <a:lnTo>
                    <a:pt x="426" y="97"/>
                  </a:lnTo>
                  <a:lnTo>
                    <a:pt x="422" y="101"/>
                  </a:lnTo>
                  <a:lnTo>
                    <a:pt x="504" y="105"/>
                  </a:lnTo>
                  <a:lnTo>
                    <a:pt x="498" y="108"/>
                  </a:lnTo>
                  <a:lnTo>
                    <a:pt x="413" y="108"/>
                  </a:lnTo>
                  <a:lnTo>
                    <a:pt x="314" y="110"/>
                  </a:lnTo>
                  <a:lnTo>
                    <a:pt x="290" y="110"/>
                  </a:lnTo>
                  <a:lnTo>
                    <a:pt x="207" y="143"/>
                  </a:lnTo>
                  <a:lnTo>
                    <a:pt x="207" y="193"/>
                  </a:lnTo>
                  <a:lnTo>
                    <a:pt x="149" y="205"/>
                  </a:lnTo>
                  <a:lnTo>
                    <a:pt x="149" y="159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4" y="132"/>
                  </a:lnTo>
                  <a:lnTo>
                    <a:pt x="141" y="129"/>
                  </a:lnTo>
                  <a:lnTo>
                    <a:pt x="138" y="127"/>
                  </a:lnTo>
                  <a:lnTo>
                    <a:pt x="136" y="127"/>
                  </a:lnTo>
                  <a:lnTo>
                    <a:pt x="115" y="126"/>
                  </a:lnTo>
                  <a:lnTo>
                    <a:pt x="121" y="137"/>
                  </a:lnTo>
                  <a:lnTo>
                    <a:pt x="123" y="142"/>
                  </a:lnTo>
                  <a:lnTo>
                    <a:pt x="123" y="147"/>
                  </a:lnTo>
                  <a:lnTo>
                    <a:pt x="120" y="150"/>
                  </a:lnTo>
                  <a:lnTo>
                    <a:pt x="116" y="153"/>
                  </a:lnTo>
                  <a:lnTo>
                    <a:pt x="140" y="153"/>
                  </a:lnTo>
                  <a:lnTo>
                    <a:pt x="142" y="153"/>
                  </a:lnTo>
                  <a:lnTo>
                    <a:pt x="144" y="150"/>
                  </a:lnTo>
                  <a:lnTo>
                    <a:pt x="145" y="147"/>
                  </a:lnTo>
                  <a:lnTo>
                    <a:pt x="149" y="159"/>
                  </a:lnTo>
                  <a:lnTo>
                    <a:pt x="96" y="159"/>
                  </a:lnTo>
                  <a:lnTo>
                    <a:pt x="0" y="58"/>
                  </a:lnTo>
                  <a:lnTo>
                    <a:pt x="37" y="58"/>
                  </a:lnTo>
                  <a:lnTo>
                    <a:pt x="37" y="46"/>
                  </a:lnTo>
                  <a:lnTo>
                    <a:pt x="50" y="46"/>
                  </a:lnTo>
                  <a:lnTo>
                    <a:pt x="57" y="21"/>
                  </a:lnTo>
                  <a:lnTo>
                    <a:pt x="61" y="21"/>
                  </a:lnTo>
                  <a:lnTo>
                    <a:pt x="64" y="11"/>
                  </a:lnTo>
                  <a:lnTo>
                    <a:pt x="70" y="5"/>
                  </a:lnTo>
                  <a:lnTo>
                    <a:pt x="78" y="4"/>
                  </a:lnTo>
                  <a:lnTo>
                    <a:pt x="210" y="15"/>
                  </a:lnTo>
                  <a:lnTo>
                    <a:pt x="216" y="17"/>
                  </a:lnTo>
                  <a:lnTo>
                    <a:pt x="221" y="22"/>
                  </a:lnTo>
                  <a:lnTo>
                    <a:pt x="224" y="28"/>
                  </a:lnTo>
                  <a:lnTo>
                    <a:pt x="224" y="34"/>
                  </a:lnTo>
                  <a:lnTo>
                    <a:pt x="223" y="41"/>
                  </a:lnTo>
                  <a:lnTo>
                    <a:pt x="221" y="43"/>
                  </a:lnTo>
                  <a:lnTo>
                    <a:pt x="213" y="43"/>
                  </a:lnTo>
                  <a:lnTo>
                    <a:pt x="215" y="38"/>
                  </a:lnTo>
                  <a:lnTo>
                    <a:pt x="217" y="33"/>
                  </a:lnTo>
                  <a:lnTo>
                    <a:pt x="217" y="28"/>
                  </a:lnTo>
                  <a:lnTo>
                    <a:pt x="213" y="24"/>
                  </a:lnTo>
                  <a:lnTo>
                    <a:pt x="207" y="21"/>
                  </a:lnTo>
                  <a:lnTo>
                    <a:pt x="107" y="21"/>
                  </a:lnTo>
                  <a:lnTo>
                    <a:pt x="103" y="26"/>
                  </a:lnTo>
                  <a:lnTo>
                    <a:pt x="100" y="32"/>
                  </a:lnTo>
                  <a:lnTo>
                    <a:pt x="99" y="37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7" y="46"/>
                  </a:lnTo>
                  <a:lnTo>
                    <a:pt x="213" y="43"/>
                  </a:lnTo>
                  <a:lnTo>
                    <a:pt x="221" y="43"/>
                  </a:lnTo>
                  <a:lnTo>
                    <a:pt x="516" y="43"/>
                  </a:lnTo>
                  <a:lnTo>
                    <a:pt x="524" y="45"/>
                  </a:lnTo>
                  <a:lnTo>
                    <a:pt x="525" y="46"/>
                  </a:lnTo>
                  <a:lnTo>
                    <a:pt x="557" y="46"/>
                  </a:lnTo>
                  <a:lnTo>
                    <a:pt x="555" y="32"/>
                  </a:lnTo>
                  <a:lnTo>
                    <a:pt x="551" y="32"/>
                  </a:lnTo>
                  <a:lnTo>
                    <a:pt x="551" y="16"/>
                  </a:lnTo>
                  <a:lnTo>
                    <a:pt x="541" y="16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4" y="45"/>
                  </a:lnTo>
                  <a:lnTo>
                    <a:pt x="516" y="43"/>
                  </a:lnTo>
                  <a:lnTo>
                    <a:pt x="546" y="2"/>
                  </a:lnTo>
                  <a:lnTo>
                    <a:pt x="551" y="0"/>
                  </a:lnTo>
                  <a:lnTo>
                    <a:pt x="557" y="2"/>
                  </a:lnTo>
                  <a:lnTo>
                    <a:pt x="561" y="7"/>
                  </a:lnTo>
                  <a:lnTo>
                    <a:pt x="563" y="55"/>
                  </a:lnTo>
                  <a:lnTo>
                    <a:pt x="644" y="55"/>
                  </a:lnTo>
                  <a:lnTo>
                    <a:pt x="653" y="51"/>
                  </a:lnTo>
                  <a:lnTo>
                    <a:pt x="691" y="50"/>
                  </a:lnTo>
                  <a:lnTo>
                    <a:pt x="695" y="53"/>
                  </a:lnTo>
                  <a:lnTo>
                    <a:pt x="699" y="56"/>
                  </a:lnTo>
                  <a:lnTo>
                    <a:pt x="704" y="59"/>
                  </a:lnTo>
                  <a:lnTo>
                    <a:pt x="708" y="62"/>
                  </a:lnTo>
                  <a:lnTo>
                    <a:pt x="713" y="65"/>
                  </a:lnTo>
                  <a:lnTo>
                    <a:pt x="717" y="68"/>
                  </a:lnTo>
                  <a:lnTo>
                    <a:pt x="722" y="71"/>
                  </a:lnTo>
                  <a:lnTo>
                    <a:pt x="726" y="74"/>
                  </a:lnTo>
                  <a:lnTo>
                    <a:pt x="713" y="74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6"/>
                  </a:lnTo>
                  <a:lnTo>
                    <a:pt x="551" y="76"/>
                  </a:lnTo>
                  <a:lnTo>
                    <a:pt x="551" y="74"/>
                  </a:lnTo>
                  <a:lnTo>
                    <a:pt x="528" y="74"/>
                  </a:lnTo>
                  <a:lnTo>
                    <a:pt x="528" y="87"/>
                  </a:lnTo>
                  <a:lnTo>
                    <a:pt x="519" y="87"/>
                  </a:lnTo>
                  <a:lnTo>
                    <a:pt x="512" y="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2941560" y="3984480"/>
              <a:ext cx="293760" cy="341280"/>
            </a:xfrm>
            <a:custGeom>
              <a:avLst/>
              <a:gdLst/>
              <a:ahLst/>
              <a:rect l="l" t="t" r="r" b="b"/>
              <a:pathLst>
                <a:path w="924" h="1074">
                  <a:moveTo>
                    <a:pt x="488" y="527"/>
                  </a:moveTo>
                  <a:lnTo>
                    <a:pt x="506" y="514"/>
                  </a:lnTo>
                  <a:lnTo>
                    <a:pt x="521" y="505"/>
                  </a:lnTo>
                  <a:lnTo>
                    <a:pt x="537" y="496"/>
                  </a:lnTo>
                  <a:lnTo>
                    <a:pt x="553" y="489"/>
                  </a:lnTo>
                  <a:lnTo>
                    <a:pt x="522" y="469"/>
                  </a:lnTo>
                  <a:lnTo>
                    <a:pt x="508" y="460"/>
                  </a:lnTo>
                  <a:lnTo>
                    <a:pt x="492" y="448"/>
                  </a:lnTo>
                  <a:lnTo>
                    <a:pt x="495" y="468"/>
                  </a:lnTo>
                  <a:lnTo>
                    <a:pt x="491" y="486"/>
                  </a:lnTo>
                  <a:lnTo>
                    <a:pt x="488" y="527"/>
                  </a:lnTo>
                  <a:close/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3" y="725"/>
                  </a:lnTo>
                  <a:lnTo>
                    <a:pt x="641" y="780"/>
                  </a:lnTo>
                  <a:lnTo>
                    <a:pt x="629" y="818"/>
                  </a:lnTo>
                  <a:lnTo>
                    <a:pt x="620" y="824"/>
                  </a:lnTo>
                  <a:lnTo>
                    <a:pt x="608" y="832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2"/>
                  </a:lnTo>
                  <a:lnTo>
                    <a:pt x="607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29" y="933"/>
                  </a:lnTo>
                  <a:lnTo>
                    <a:pt x="633" y="941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8"/>
                  </a:lnTo>
                  <a:lnTo>
                    <a:pt x="682" y="974"/>
                  </a:lnTo>
                  <a:lnTo>
                    <a:pt x="688" y="980"/>
                  </a:lnTo>
                  <a:lnTo>
                    <a:pt x="691" y="988"/>
                  </a:lnTo>
                  <a:lnTo>
                    <a:pt x="691" y="999"/>
                  </a:lnTo>
                  <a:lnTo>
                    <a:pt x="678" y="1002"/>
                  </a:lnTo>
                  <a:lnTo>
                    <a:pt x="662" y="1006"/>
                  </a:lnTo>
                  <a:lnTo>
                    <a:pt x="634" y="1004"/>
                  </a:lnTo>
                  <a:lnTo>
                    <a:pt x="611" y="999"/>
                  </a:lnTo>
                  <a:lnTo>
                    <a:pt x="584" y="992"/>
                  </a:lnTo>
                  <a:lnTo>
                    <a:pt x="565" y="981"/>
                  </a:lnTo>
                  <a:lnTo>
                    <a:pt x="549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5"/>
                  </a:lnTo>
                  <a:lnTo>
                    <a:pt x="498" y="960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8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4"/>
                  </a:lnTo>
                  <a:lnTo>
                    <a:pt x="513" y="886"/>
                  </a:lnTo>
                  <a:lnTo>
                    <a:pt x="513" y="876"/>
                  </a:lnTo>
                  <a:lnTo>
                    <a:pt x="513" y="866"/>
                  </a:lnTo>
                  <a:lnTo>
                    <a:pt x="517" y="860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8" y="813"/>
                  </a:lnTo>
                  <a:lnTo>
                    <a:pt x="510" y="805"/>
                  </a:lnTo>
                  <a:lnTo>
                    <a:pt x="512" y="797"/>
                  </a:lnTo>
                  <a:lnTo>
                    <a:pt x="512" y="785"/>
                  </a:lnTo>
                  <a:lnTo>
                    <a:pt x="510" y="773"/>
                  </a:lnTo>
                  <a:lnTo>
                    <a:pt x="512" y="754"/>
                  </a:lnTo>
                  <a:lnTo>
                    <a:pt x="517" y="729"/>
                  </a:lnTo>
                  <a:lnTo>
                    <a:pt x="524" y="703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2"/>
                  </a:lnTo>
                  <a:lnTo>
                    <a:pt x="465" y="748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0"/>
                  </a:lnTo>
                  <a:lnTo>
                    <a:pt x="389" y="804"/>
                  </a:lnTo>
                  <a:lnTo>
                    <a:pt x="367" y="816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1" y="838"/>
                  </a:lnTo>
                  <a:lnTo>
                    <a:pt x="294" y="903"/>
                  </a:lnTo>
                  <a:lnTo>
                    <a:pt x="292" y="922"/>
                  </a:lnTo>
                  <a:lnTo>
                    <a:pt x="290" y="941"/>
                  </a:lnTo>
                  <a:lnTo>
                    <a:pt x="287" y="956"/>
                  </a:lnTo>
                  <a:lnTo>
                    <a:pt x="282" y="972"/>
                  </a:lnTo>
                  <a:lnTo>
                    <a:pt x="277" y="988"/>
                  </a:lnTo>
                  <a:lnTo>
                    <a:pt x="268" y="1004"/>
                  </a:lnTo>
                  <a:lnTo>
                    <a:pt x="259" y="1017"/>
                  </a:lnTo>
                  <a:lnTo>
                    <a:pt x="250" y="1028"/>
                  </a:lnTo>
                  <a:lnTo>
                    <a:pt x="248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0"/>
                  </a:lnTo>
                  <a:lnTo>
                    <a:pt x="131" y="1064"/>
                  </a:lnTo>
                  <a:lnTo>
                    <a:pt x="118" y="1055"/>
                  </a:lnTo>
                  <a:lnTo>
                    <a:pt x="109" y="1047"/>
                  </a:lnTo>
                  <a:lnTo>
                    <a:pt x="99" y="1043"/>
                  </a:lnTo>
                  <a:lnTo>
                    <a:pt x="89" y="1026"/>
                  </a:lnTo>
                  <a:lnTo>
                    <a:pt x="82" y="1004"/>
                  </a:lnTo>
                  <a:lnTo>
                    <a:pt x="75" y="986"/>
                  </a:lnTo>
                  <a:lnTo>
                    <a:pt x="71" y="964"/>
                  </a:lnTo>
                  <a:lnTo>
                    <a:pt x="71" y="943"/>
                  </a:lnTo>
                  <a:lnTo>
                    <a:pt x="69" y="906"/>
                  </a:lnTo>
                  <a:lnTo>
                    <a:pt x="80" y="885"/>
                  </a:lnTo>
                  <a:lnTo>
                    <a:pt x="85" y="858"/>
                  </a:lnTo>
                  <a:lnTo>
                    <a:pt x="93" y="847"/>
                  </a:lnTo>
                  <a:lnTo>
                    <a:pt x="90" y="831"/>
                  </a:lnTo>
                  <a:lnTo>
                    <a:pt x="87" y="818"/>
                  </a:lnTo>
                  <a:lnTo>
                    <a:pt x="64" y="800"/>
                  </a:lnTo>
                  <a:lnTo>
                    <a:pt x="74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9" y="747"/>
                  </a:lnTo>
                  <a:lnTo>
                    <a:pt x="64" y="744"/>
                  </a:lnTo>
                  <a:lnTo>
                    <a:pt x="60" y="738"/>
                  </a:lnTo>
                  <a:lnTo>
                    <a:pt x="57" y="732"/>
                  </a:lnTo>
                  <a:lnTo>
                    <a:pt x="51" y="734"/>
                  </a:lnTo>
                  <a:lnTo>
                    <a:pt x="42" y="732"/>
                  </a:lnTo>
                  <a:lnTo>
                    <a:pt x="35" y="727"/>
                  </a:lnTo>
                  <a:lnTo>
                    <a:pt x="28" y="722"/>
                  </a:lnTo>
                  <a:lnTo>
                    <a:pt x="23" y="712"/>
                  </a:lnTo>
                  <a:lnTo>
                    <a:pt x="18" y="703"/>
                  </a:lnTo>
                  <a:lnTo>
                    <a:pt x="14" y="694"/>
                  </a:lnTo>
                  <a:lnTo>
                    <a:pt x="8" y="692"/>
                  </a:lnTo>
                  <a:lnTo>
                    <a:pt x="1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4" y="560"/>
                  </a:lnTo>
                  <a:lnTo>
                    <a:pt x="15" y="555"/>
                  </a:lnTo>
                  <a:lnTo>
                    <a:pt x="19" y="550"/>
                  </a:lnTo>
                  <a:lnTo>
                    <a:pt x="33" y="546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1"/>
                  </a:lnTo>
                  <a:lnTo>
                    <a:pt x="35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4" y="504"/>
                  </a:lnTo>
                  <a:lnTo>
                    <a:pt x="64" y="509"/>
                  </a:lnTo>
                  <a:lnTo>
                    <a:pt x="66" y="509"/>
                  </a:lnTo>
                  <a:lnTo>
                    <a:pt x="69" y="511"/>
                  </a:lnTo>
                  <a:lnTo>
                    <a:pt x="70" y="517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39"/>
                  </a:lnTo>
                  <a:lnTo>
                    <a:pt x="67" y="543"/>
                  </a:lnTo>
                  <a:lnTo>
                    <a:pt x="71" y="546"/>
                  </a:lnTo>
                  <a:lnTo>
                    <a:pt x="77" y="546"/>
                  </a:lnTo>
                  <a:lnTo>
                    <a:pt x="82" y="543"/>
                  </a:lnTo>
                  <a:lnTo>
                    <a:pt x="85" y="538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8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3" y="371"/>
                  </a:lnTo>
                  <a:lnTo>
                    <a:pt x="128" y="359"/>
                  </a:lnTo>
                  <a:lnTo>
                    <a:pt x="136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8" y="231"/>
                  </a:lnTo>
                  <a:lnTo>
                    <a:pt x="177" y="214"/>
                  </a:lnTo>
                  <a:lnTo>
                    <a:pt x="195" y="202"/>
                  </a:lnTo>
                  <a:lnTo>
                    <a:pt x="207" y="192"/>
                  </a:lnTo>
                  <a:lnTo>
                    <a:pt x="217" y="185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3" y="185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5"/>
                  </a:lnTo>
                  <a:lnTo>
                    <a:pt x="290" y="54"/>
                  </a:lnTo>
                  <a:lnTo>
                    <a:pt x="300" y="39"/>
                  </a:lnTo>
                  <a:lnTo>
                    <a:pt x="311" y="29"/>
                  </a:lnTo>
                  <a:lnTo>
                    <a:pt x="337" y="14"/>
                  </a:lnTo>
                  <a:lnTo>
                    <a:pt x="357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2"/>
                  </a:lnTo>
                  <a:lnTo>
                    <a:pt x="465" y="23"/>
                  </a:lnTo>
                  <a:lnTo>
                    <a:pt x="475" y="38"/>
                  </a:lnTo>
                  <a:lnTo>
                    <a:pt x="488" y="65"/>
                  </a:lnTo>
                  <a:lnTo>
                    <a:pt x="504" y="99"/>
                  </a:lnTo>
                  <a:lnTo>
                    <a:pt x="511" y="107"/>
                  </a:lnTo>
                  <a:lnTo>
                    <a:pt x="513" y="114"/>
                  </a:lnTo>
                  <a:lnTo>
                    <a:pt x="512" y="120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0"/>
                  </a:lnTo>
                  <a:lnTo>
                    <a:pt x="499" y="181"/>
                  </a:lnTo>
                  <a:lnTo>
                    <a:pt x="511" y="206"/>
                  </a:lnTo>
                  <a:lnTo>
                    <a:pt x="607" y="306"/>
                  </a:lnTo>
                  <a:lnTo>
                    <a:pt x="611" y="314"/>
                  </a:lnTo>
                  <a:lnTo>
                    <a:pt x="612" y="321"/>
                  </a:lnTo>
                  <a:lnTo>
                    <a:pt x="611" y="327"/>
                  </a:lnTo>
                  <a:lnTo>
                    <a:pt x="607" y="332"/>
                  </a:lnTo>
                  <a:lnTo>
                    <a:pt x="603" y="334"/>
                  </a:lnTo>
                  <a:lnTo>
                    <a:pt x="603" y="340"/>
                  </a:lnTo>
                  <a:lnTo>
                    <a:pt x="600" y="347"/>
                  </a:lnTo>
                  <a:lnTo>
                    <a:pt x="595" y="351"/>
                  </a:lnTo>
                  <a:lnTo>
                    <a:pt x="600" y="356"/>
                  </a:lnTo>
                  <a:lnTo>
                    <a:pt x="603" y="361"/>
                  </a:lnTo>
                  <a:lnTo>
                    <a:pt x="608" y="370"/>
                  </a:lnTo>
                  <a:lnTo>
                    <a:pt x="620" y="377"/>
                  </a:lnTo>
                  <a:lnTo>
                    <a:pt x="628" y="382"/>
                  </a:lnTo>
                  <a:lnTo>
                    <a:pt x="636" y="389"/>
                  </a:lnTo>
                  <a:lnTo>
                    <a:pt x="645" y="396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2"/>
                  </a:lnTo>
                  <a:lnTo>
                    <a:pt x="700" y="380"/>
                  </a:lnTo>
                  <a:lnTo>
                    <a:pt x="736" y="356"/>
                  </a:lnTo>
                  <a:lnTo>
                    <a:pt x="780" y="306"/>
                  </a:lnTo>
                  <a:lnTo>
                    <a:pt x="787" y="308"/>
                  </a:lnTo>
                  <a:lnTo>
                    <a:pt x="812" y="280"/>
                  </a:lnTo>
                  <a:lnTo>
                    <a:pt x="813" y="273"/>
                  </a:lnTo>
                  <a:lnTo>
                    <a:pt x="817" y="266"/>
                  </a:lnTo>
                  <a:lnTo>
                    <a:pt x="824" y="257"/>
                  </a:lnTo>
                  <a:lnTo>
                    <a:pt x="924" y="255"/>
                  </a:lnTo>
                  <a:lnTo>
                    <a:pt x="858" y="293"/>
                  </a:lnTo>
                  <a:lnTo>
                    <a:pt x="845" y="306"/>
                  </a:lnTo>
                  <a:lnTo>
                    <a:pt x="825" y="339"/>
                  </a:lnTo>
                  <a:lnTo>
                    <a:pt x="829" y="347"/>
                  </a:lnTo>
                  <a:lnTo>
                    <a:pt x="778" y="433"/>
                  </a:lnTo>
                  <a:lnTo>
                    <a:pt x="762" y="477"/>
                  </a:lnTo>
                  <a:lnTo>
                    <a:pt x="742" y="493"/>
                  </a:lnTo>
                  <a:lnTo>
                    <a:pt x="724" y="506"/>
                  </a:lnTo>
                  <a:lnTo>
                    <a:pt x="698" y="517"/>
                  </a:lnTo>
                  <a:lnTo>
                    <a:pt x="680" y="521"/>
                  </a:lnTo>
                  <a:lnTo>
                    <a:pt x="666" y="522"/>
                  </a:lnTo>
                  <a:close/>
                  <a:moveTo>
                    <a:pt x="96" y="546"/>
                  </a:moveTo>
                  <a:lnTo>
                    <a:pt x="90" y="552"/>
                  </a:lnTo>
                  <a:lnTo>
                    <a:pt x="93" y="556"/>
                  </a:lnTo>
                  <a:lnTo>
                    <a:pt x="95" y="561"/>
                  </a:lnTo>
                  <a:lnTo>
                    <a:pt x="96" y="556"/>
                  </a:lnTo>
                  <a:lnTo>
                    <a:pt x="98" y="551"/>
                  </a:lnTo>
                  <a:lnTo>
                    <a:pt x="96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2941560" y="3984480"/>
              <a:ext cx="293760" cy="341280"/>
            </a:xfrm>
            <a:custGeom>
              <a:avLst/>
              <a:gdLst/>
              <a:ahLst/>
              <a:rect l="l" t="t" r="r" b="b"/>
              <a:pathLst>
                <a:path w="924" h="1074"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3" y="725"/>
                  </a:lnTo>
                  <a:lnTo>
                    <a:pt x="641" y="780"/>
                  </a:lnTo>
                  <a:lnTo>
                    <a:pt x="629" y="818"/>
                  </a:lnTo>
                  <a:lnTo>
                    <a:pt x="620" y="824"/>
                  </a:lnTo>
                  <a:lnTo>
                    <a:pt x="608" y="832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2"/>
                  </a:lnTo>
                  <a:lnTo>
                    <a:pt x="607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29" y="933"/>
                  </a:lnTo>
                  <a:lnTo>
                    <a:pt x="633" y="941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8"/>
                  </a:lnTo>
                  <a:lnTo>
                    <a:pt x="682" y="974"/>
                  </a:lnTo>
                  <a:lnTo>
                    <a:pt x="688" y="980"/>
                  </a:lnTo>
                  <a:lnTo>
                    <a:pt x="691" y="988"/>
                  </a:lnTo>
                  <a:lnTo>
                    <a:pt x="691" y="999"/>
                  </a:lnTo>
                  <a:lnTo>
                    <a:pt x="678" y="1002"/>
                  </a:lnTo>
                  <a:lnTo>
                    <a:pt x="662" y="1006"/>
                  </a:lnTo>
                  <a:lnTo>
                    <a:pt x="634" y="1004"/>
                  </a:lnTo>
                  <a:lnTo>
                    <a:pt x="611" y="999"/>
                  </a:lnTo>
                  <a:lnTo>
                    <a:pt x="584" y="992"/>
                  </a:lnTo>
                  <a:lnTo>
                    <a:pt x="565" y="981"/>
                  </a:lnTo>
                  <a:lnTo>
                    <a:pt x="549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5"/>
                  </a:lnTo>
                  <a:lnTo>
                    <a:pt x="498" y="960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8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4"/>
                  </a:lnTo>
                  <a:lnTo>
                    <a:pt x="513" y="886"/>
                  </a:lnTo>
                  <a:lnTo>
                    <a:pt x="513" y="876"/>
                  </a:lnTo>
                  <a:lnTo>
                    <a:pt x="513" y="866"/>
                  </a:lnTo>
                  <a:lnTo>
                    <a:pt x="517" y="860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8" y="813"/>
                  </a:lnTo>
                  <a:lnTo>
                    <a:pt x="510" y="805"/>
                  </a:lnTo>
                  <a:lnTo>
                    <a:pt x="512" y="797"/>
                  </a:lnTo>
                  <a:lnTo>
                    <a:pt x="512" y="785"/>
                  </a:lnTo>
                  <a:lnTo>
                    <a:pt x="510" y="773"/>
                  </a:lnTo>
                  <a:lnTo>
                    <a:pt x="512" y="754"/>
                  </a:lnTo>
                  <a:lnTo>
                    <a:pt x="517" y="729"/>
                  </a:lnTo>
                  <a:lnTo>
                    <a:pt x="524" y="703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2"/>
                  </a:lnTo>
                  <a:lnTo>
                    <a:pt x="465" y="748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0"/>
                  </a:lnTo>
                  <a:lnTo>
                    <a:pt x="389" y="804"/>
                  </a:lnTo>
                  <a:lnTo>
                    <a:pt x="367" y="816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1" y="838"/>
                  </a:lnTo>
                  <a:lnTo>
                    <a:pt x="294" y="903"/>
                  </a:lnTo>
                  <a:lnTo>
                    <a:pt x="292" y="922"/>
                  </a:lnTo>
                  <a:lnTo>
                    <a:pt x="290" y="941"/>
                  </a:lnTo>
                  <a:lnTo>
                    <a:pt x="287" y="956"/>
                  </a:lnTo>
                  <a:lnTo>
                    <a:pt x="282" y="972"/>
                  </a:lnTo>
                  <a:lnTo>
                    <a:pt x="277" y="988"/>
                  </a:lnTo>
                  <a:lnTo>
                    <a:pt x="268" y="1004"/>
                  </a:lnTo>
                  <a:lnTo>
                    <a:pt x="259" y="1017"/>
                  </a:lnTo>
                  <a:lnTo>
                    <a:pt x="250" y="1028"/>
                  </a:lnTo>
                  <a:lnTo>
                    <a:pt x="248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0"/>
                  </a:lnTo>
                  <a:lnTo>
                    <a:pt x="131" y="1064"/>
                  </a:lnTo>
                  <a:lnTo>
                    <a:pt x="118" y="1055"/>
                  </a:lnTo>
                  <a:lnTo>
                    <a:pt x="109" y="1047"/>
                  </a:lnTo>
                  <a:lnTo>
                    <a:pt x="99" y="1043"/>
                  </a:lnTo>
                  <a:lnTo>
                    <a:pt x="89" y="1026"/>
                  </a:lnTo>
                  <a:lnTo>
                    <a:pt x="82" y="1004"/>
                  </a:lnTo>
                  <a:lnTo>
                    <a:pt x="75" y="986"/>
                  </a:lnTo>
                  <a:lnTo>
                    <a:pt x="71" y="964"/>
                  </a:lnTo>
                  <a:lnTo>
                    <a:pt x="71" y="943"/>
                  </a:lnTo>
                  <a:lnTo>
                    <a:pt x="69" y="906"/>
                  </a:lnTo>
                  <a:lnTo>
                    <a:pt x="80" y="885"/>
                  </a:lnTo>
                  <a:lnTo>
                    <a:pt x="85" y="858"/>
                  </a:lnTo>
                  <a:lnTo>
                    <a:pt x="93" y="847"/>
                  </a:lnTo>
                  <a:lnTo>
                    <a:pt x="90" y="831"/>
                  </a:lnTo>
                  <a:lnTo>
                    <a:pt x="87" y="818"/>
                  </a:lnTo>
                  <a:lnTo>
                    <a:pt x="64" y="800"/>
                  </a:lnTo>
                  <a:lnTo>
                    <a:pt x="74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9" y="747"/>
                  </a:lnTo>
                  <a:lnTo>
                    <a:pt x="64" y="744"/>
                  </a:lnTo>
                  <a:lnTo>
                    <a:pt x="60" y="738"/>
                  </a:lnTo>
                  <a:lnTo>
                    <a:pt x="57" y="732"/>
                  </a:lnTo>
                  <a:lnTo>
                    <a:pt x="51" y="734"/>
                  </a:lnTo>
                  <a:lnTo>
                    <a:pt x="42" y="732"/>
                  </a:lnTo>
                  <a:lnTo>
                    <a:pt x="35" y="727"/>
                  </a:lnTo>
                  <a:lnTo>
                    <a:pt x="28" y="722"/>
                  </a:lnTo>
                  <a:lnTo>
                    <a:pt x="23" y="712"/>
                  </a:lnTo>
                  <a:lnTo>
                    <a:pt x="18" y="703"/>
                  </a:lnTo>
                  <a:lnTo>
                    <a:pt x="14" y="694"/>
                  </a:lnTo>
                  <a:lnTo>
                    <a:pt x="8" y="692"/>
                  </a:lnTo>
                  <a:lnTo>
                    <a:pt x="1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4" y="560"/>
                  </a:lnTo>
                  <a:lnTo>
                    <a:pt x="15" y="555"/>
                  </a:lnTo>
                  <a:lnTo>
                    <a:pt x="19" y="550"/>
                  </a:lnTo>
                  <a:lnTo>
                    <a:pt x="33" y="546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1"/>
                  </a:lnTo>
                  <a:lnTo>
                    <a:pt x="35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4" y="504"/>
                  </a:lnTo>
                  <a:lnTo>
                    <a:pt x="64" y="509"/>
                  </a:lnTo>
                  <a:lnTo>
                    <a:pt x="66" y="509"/>
                  </a:lnTo>
                  <a:lnTo>
                    <a:pt x="69" y="511"/>
                  </a:lnTo>
                  <a:lnTo>
                    <a:pt x="70" y="517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39"/>
                  </a:lnTo>
                  <a:lnTo>
                    <a:pt x="67" y="543"/>
                  </a:lnTo>
                  <a:lnTo>
                    <a:pt x="71" y="546"/>
                  </a:lnTo>
                  <a:lnTo>
                    <a:pt x="77" y="546"/>
                  </a:lnTo>
                  <a:lnTo>
                    <a:pt x="82" y="543"/>
                  </a:lnTo>
                  <a:lnTo>
                    <a:pt x="85" y="538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8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3" y="371"/>
                  </a:lnTo>
                  <a:lnTo>
                    <a:pt x="128" y="359"/>
                  </a:lnTo>
                  <a:lnTo>
                    <a:pt x="136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8" y="231"/>
                  </a:lnTo>
                  <a:lnTo>
                    <a:pt x="177" y="214"/>
                  </a:lnTo>
                  <a:lnTo>
                    <a:pt x="195" y="202"/>
                  </a:lnTo>
                  <a:lnTo>
                    <a:pt x="207" y="192"/>
                  </a:lnTo>
                  <a:lnTo>
                    <a:pt x="217" y="185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3" y="185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5"/>
                  </a:lnTo>
                  <a:lnTo>
                    <a:pt x="290" y="54"/>
                  </a:lnTo>
                  <a:lnTo>
                    <a:pt x="300" y="39"/>
                  </a:lnTo>
                  <a:lnTo>
                    <a:pt x="311" y="29"/>
                  </a:lnTo>
                  <a:lnTo>
                    <a:pt x="337" y="14"/>
                  </a:lnTo>
                  <a:lnTo>
                    <a:pt x="357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2"/>
                  </a:lnTo>
                  <a:lnTo>
                    <a:pt x="465" y="23"/>
                  </a:lnTo>
                  <a:lnTo>
                    <a:pt x="475" y="38"/>
                  </a:lnTo>
                  <a:lnTo>
                    <a:pt x="488" y="65"/>
                  </a:lnTo>
                  <a:lnTo>
                    <a:pt x="504" y="99"/>
                  </a:lnTo>
                  <a:lnTo>
                    <a:pt x="511" y="107"/>
                  </a:lnTo>
                  <a:lnTo>
                    <a:pt x="513" y="114"/>
                  </a:lnTo>
                  <a:lnTo>
                    <a:pt x="512" y="120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0"/>
                  </a:lnTo>
                  <a:lnTo>
                    <a:pt x="499" y="181"/>
                  </a:lnTo>
                  <a:lnTo>
                    <a:pt x="511" y="206"/>
                  </a:lnTo>
                  <a:lnTo>
                    <a:pt x="607" y="306"/>
                  </a:lnTo>
                  <a:lnTo>
                    <a:pt x="611" y="314"/>
                  </a:lnTo>
                  <a:lnTo>
                    <a:pt x="612" y="321"/>
                  </a:lnTo>
                  <a:lnTo>
                    <a:pt x="611" y="327"/>
                  </a:lnTo>
                  <a:lnTo>
                    <a:pt x="607" y="332"/>
                  </a:lnTo>
                  <a:lnTo>
                    <a:pt x="603" y="334"/>
                  </a:lnTo>
                  <a:lnTo>
                    <a:pt x="603" y="340"/>
                  </a:lnTo>
                  <a:lnTo>
                    <a:pt x="600" y="347"/>
                  </a:lnTo>
                  <a:lnTo>
                    <a:pt x="595" y="351"/>
                  </a:lnTo>
                  <a:lnTo>
                    <a:pt x="600" y="356"/>
                  </a:lnTo>
                  <a:lnTo>
                    <a:pt x="603" y="361"/>
                  </a:lnTo>
                  <a:lnTo>
                    <a:pt x="608" y="370"/>
                  </a:lnTo>
                  <a:lnTo>
                    <a:pt x="620" y="377"/>
                  </a:lnTo>
                  <a:lnTo>
                    <a:pt x="628" y="382"/>
                  </a:lnTo>
                  <a:lnTo>
                    <a:pt x="636" y="389"/>
                  </a:lnTo>
                  <a:lnTo>
                    <a:pt x="645" y="396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2"/>
                  </a:lnTo>
                  <a:lnTo>
                    <a:pt x="700" y="380"/>
                  </a:lnTo>
                  <a:lnTo>
                    <a:pt x="736" y="356"/>
                  </a:lnTo>
                  <a:lnTo>
                    <a:pt x="780" y="306"/>
                  </a:lnTo>
                  <a:lnTo>
                    <a:pt x="787" y="308"/>
                  </a:lnTo>
                  <a:lnTo>
                    <a:pt x="812" y="280"/>
                  </a:lnTo>
                  <a:lnTo>
                    <a:pt x="813" y="273"/>
                  </a:lnTo>
                  <a:lnTo>
                    <a:pt x="817" y="266"/>
                  </a:lnTo>
                  <a:lnTo>
                    <a:pt x="824" y="257"/>
                  </a:lnTo>
                  <a:lnTo>
                    <a:pt x="924" y="255"/>
                  </a:lnTo>
                  <a:lnTo>
                    <a:pt x="858" y="293"/>
                  </a:lnTo>
                  <a:lnTo>
                    <a:pt x="845" y="306"/>
                  </a:lnTo>
                  <a:lnTo>
                    <a:pt x="825" y="339"/>
                  </a:lnTo>
                  <a:lnTo>
                    <a:pt x="829" y="347"/>
                  </a:lnTo>
                  <a:lnTo>
                    <a:pt x="778" y="433"/>
                  </a:lnTo>
                  <a:lnTo>
                    <a:pt x="762" y="477"/>
                  </a:lnTo>
                  <a:lnTo>
                    <a:pt x="742" y="493"/>
                  </a:lnTo>
                  <a:lnTo>
                    <a:pt x="724" y="506"/>
                  </a:lnTo>
                  <a:lnTo>
                    <a:pt x="698" y="517"/>
                  </a:lnTo>
                  <a:lnTo>
                    <a:pt x="680" y="521"/>
                  </a:lnTo>
                  <a:lnTo>
                    <a:pt x="666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3103560" y="4030560"/>
              <a:ext cx="231840" cy="66600"/>
            </a:xfrm>
            <a:custGeom>
              <a:avLst/>
              <a:gdLst/>
              <a:ahLst/>
              <a:rect l="l" t="t" r="r" b="b"/>
              <a:pathLst>
                <a:path w="727" h="206">
                  <a:moveTo>
                    <a:pt x="511" y="100"/>
                  </a:moveTo>
                  <a:lnTo>
                    <a:pt x="500" y="95"/>
                  </a:lnTo>
                  <a:lnTo>
                    <a:pt x="426" y="98"/>
                  </a:lnTo>
                  <a:lnTo>
                    <a:pt x="422" y="102"/>
                  </a:lnTo>
                  <a:lnTo>
                    <a:pt x="503" y="105"/>
                  </a:lnTo>
                  <a:lnTo>
                    <a:pt x="497" y="108"/>
                  </a:lnTo>
                  <a:lnTo>
                    <a:pt x="413" y="108"/>
                  </a:lnTo>
                  <a:lnTo>
                    <a:pt x="313" y="110"/>
                  </a:lnTo>
                  <a:lnTo>
                    <a:pt x="289" y="110"/>
                  </a:lnTo>
                  <a:lnTo>
                    <a:pt x="206" y="145"/>
                  </a:lnTo>
                  <a:lnTo>
                    <a:pt x="206" y="193"/>
                  </a:lnTo>
                  <a:lnTo>
                    <a:pt x="148" y="206"/>
                  </a:lnTo>
                  <a:lnTo>
                    <a:pt x="148" y="159"/>
                  </a:lnTo>
                  <a:lnTo>
                    <a:pt x="144" y="147"/>
                  </a:lnTo>
                  <a:lnTo>
                    <a:pt x="144" y="136"/>
                  </a:lnTo>
                  <a:lnTo>
                    <a:pt x="143" y="132"/>
                  </a:lnTo>
                  <a:lnTo>
                    <a:pt x="140" y="129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14" y="126"/>
                  </a:lnTo>
                  <a:lnTo>
                    <a:pt x="121" y="137"/>
                  </a:lnTo>
                  <a:lnTo>
                    <a:pt x="122" y="143"/>
                  </a:lnTo>
                  <a:lnTo>
                    <a:pt x="122" y="147"/>
                  </a:lnTo>
                  <a:lnTo>
                    <a:pt x="119" y="150"/>
                  </a:lnTo>
                  <a:lnTo>
                    <a:pt x="115" y="153"/>
                  </a:lnTo>
                  <a:lnTo>
                    <a:pt x="139" y="153"/>
                  </a:lnTo>
                  <a:lnTo>
                    <a:pt x="142" y="153"/>
                  </a:lnTo>
                  <a:lnTo>
                    <a:pt x="143" y="150"/>
                  </a:lnTo>
                  <a:lnTo>
                    <a:pt x="144" y="147"/>
                  </a:lnTo>
                  <a:lnTo>
                    <a:pt x="148" y="159"/>
                  </a:lnTo>
                  <a:lnTo>
                    <a:pt x="96" y="159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50" y="46"/>
                  </a:lnTo>
                  <a:lnTo>
                    <a:pt x="56" y="21"/>
                  </a:lnTo>
                  <a:lnTo>
                    <a:pt x="60" y="21"/>
                  </a:lnTo>
                  <a:lnTo>
                    <a:pt x="63" y="11"/>
                  </a:lnTo>
                  <a:lnTo>
                    <a:pt x="69" y="5"/>
                  </a:lnTo>
                  <a:lnTo>
                    <a:pt x="77" y="4"/>
                  </a:lnTo>
                  <a:lnTo>
                    <a:pt x="209" y="16"/>
                  </a:lnTo>
                  <a:lnTo>
                    <a:pt x="215" y="18"/>
                  </a:lnTo>
                  <a:lnTo>
                    <a:pt x="221" y="22"/>
                  </a:lnTo>
                  <a:lnTo>
                    <a:pt x="223" y="28"/>
                  </a:lnTo>
                  <a:lnTo>
                    <a:pt x="223" y="34"/>
                  </a:lnTo>
                  <a:lnTo>
                    <a:pt x="222" y="41"/>
                  </a:lnTo>
                  <a:lnTo>
                    <a:pt x="221" y="43"/>
                  </a:lnTo>
                  <a:lnTo>
                    <a:pt x="213" y="43"/>
                  </a:lnTo>
                  <a:lnTo>
                    <a:pt x="214" y="39"/>
                  </a:lnTo>
                  <a:lnTo>
                    <a:pt x="217" y="33"/>
                  </a:lnTo>
                  <a:lnTo>
                    <a:pt x="217" y="28"/>
                  </a:lnTo>
                  <a:lnTo>
                    <a:pt x="213" y="24"/>
                  </a:lnTo>
                  <a:lnTo>
                    <a:pt x="206" y="21"/>
                  </a:lnTo>
                  <a:lnTo>
                    <a:pt x="106" y="21"/>
                  </a:lnTo>
                  <a:lnTo>
                    <a:pt x="102" y="26"/>
                  </a:lnTo>
                  <a:lnTo>
                    <a:pt x="100" y="32"/>
                  </a:lnTo>
                  <a:lnTo>
                    <a:pt x="98" y="38"/>
                  </a:lnTo>
                  <a:lnTo>
                    <a:pt x="98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6" y="46"/>
                  </a:lnTo>
                  <a:lnTo>
                    <a:pt x="213" y="43"/>
                  </a:lnTo>
                  <a:lnTo>
                    <a:pt x="221" y="43"/>
                  </a:lnTo>
                  <a:lnTo>
                    <a:pt x="515" y="43"/>
                  </a:lnTo>
                  <a:lnTo>
                    <a:pt x="523" y="45"/>
                  </a:lnTo>
                  <a:lnTo>
                    <a:pt x="524" y="46"/>
                  </a:lnTo>
                  <a:lnTo>
                    <a:pt x="556" y="46"/>
                  </a:lnTo>
                  <a:lnTo>
                    <a:pt x="555" y="32"/>
                  </a:lnTo>
                  <a:lnTo>
                    <a:pt x="551" y="32"/>
                  </a:lnTo>
                  <a:lnTo>
                    <a:pt x="551" y="17"/>
                  </a:lnTo>
                  <a:lnTo>
                    <a:pt x="540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3" y="45"/>
                  </a:lnTo>
                  <a:lnTo>
                    <a:pt x="515" y="43"/>
                  </a:lnTo>
                  <a:lnTo>
                    <a:pt x="545" y="3"/>
                  </a:lnTo>
                  <a:lnTo>
                    <a:pt x="551" y="0"/>
                  </a:lnTo>
                  <a:lnTo>
                    <a:pt x="556" y="3"/>
                  </a:lnTo>
                  <a:lnTo>
                    <a:pt x="560" y="7"/>
                  </a:lnTo>
                  <a:lnTo>
                    <a:pt x="563" y="55"/>
                  </a:lnTo>
                  <a:lnTo>
                    <a:pt x="643" y="55"/>
                  </a:lnTo>
                  <a:lnTo>
                    <a:pt x="652" y="51"/>
                  </a:lnTo>
                  <a:lnTo>
                    <a:pt x="707" y="50"/>
                  </a:lnTo>
                  <a:lnTo>
                    <a:pt x="714" y="42"/>
                  </a:lnTo>
                  <a:lnTo>
                    <a:pt x="723" y="42"/>
                  </a:lnTo>
                  <a:lnTo>
                    <a:pt x="723" y="50"/>
                  </a:lnTo>
                  <a:lnTo>
                    <a:pt x="727" y="50"/>
                  </a:lnTo>
                  <a:lnTo>
                    <a:pt x="727" y="74"/>
                  </a:lnTo>
                  <a:lnTo>
                    <a:pt x="712" y="74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6"/>
                  </a:lnTo>
                  <a:lnTo>
                    <a:pt x="551" y="76"/>
                  </a:lnTo>
                  <a:lnTo>
                    <a:pt x="551" y="74"/>
                  </a:lnTo>
                  <a:lnTo>
                    <a:pt x="527" y="74"/>
                  </a:lnTo>
                  <a:lnTo>
                    <a:pt x="527" y="87"/>
                  </a:lnTo>
                  <a:lnTo>
                    <a:pt x="518" y="87"/>
                  </a:lnTo>
                  <a:lnTo>
                    <a:pt x="511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3165480" y="4352760"/>
              <a:ext cx="293760" cy="339840"/>
            </a:xfrm>
            <a:custGeom>
              <a:avLst/>
              <a:gdLst/>
              <a:ahLst/>
              <a:rect l="l" t="t" r="r" b="b"/>
              <a:pathLst>
                <a:path w="923" h="1074">
                  <a:moveTo>
                    <a:pt x="488" y="527"/>
                  </a:moveTo>
                  <a:lnTo>
                    <a:pt x="505" y="514"/>
                  </a:lnTo>
                  <a:lnTo>
                    <a:pt x="521" y="505"/>
                  </a:lnTo>
                  <a:lnTo>
                    <a:pt x="537" y="497"/>
                  </a:lnTo>
                  <a:lnTo>
                    <a:pt x="552" y="489"/>
                  </a:lnTo>
                  <a:lnTo>
                    <a:pt x="522" y="470"/>
                  </a:lnTo>
                  <a:lnTo>
                    <a:pt x="508" y="460"/>
                  </a:lnTo>
                  <a:lnTo>
                    <a:pt x="492" y="448"/>
                  </a:lnTo>
                  <a:lnTo>
                    <a:pt x="493" y="468"/>
                  </a:lnTo>
                  <a:lnTo>
                    <a:pt x="491" y="487"/>
                  </a:lnTo>
                  <a:lnTo>
                    <a:pt x="488" y="527"/>
                  </a:lnTo>
                  <a:close/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2" y="725"/>
                  </a:lnTo>
                  <a:lnTo>
                    <a:pt x="641" y="780"/>
                  </a:lnTo>
                  <a:lnTo>
                    <a:pt x="629" y="818"/>
                  </a:lnTo>
                  <a:lnTo>
                    <a:pt x="619" y="824"/>
                  </a:lnTo>
                  <a:lnTo>
                    <a:pt x="608" y="833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2"/>
                  </a:lnTo>
                  <a:lnTo>
                    <a:pt x="606" y="909"/>
                  </a:lnTo>
                  <a:lnTo>
                    <a:pt x="612" y="917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29" y="934"/>
                  </a:lnTo>
                  <a:lnTo>
                    <a:pt x="633" y="941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8"/>
                  </a:lnTo>
                  <a:lnTo>
                    <a:pt x="680" y="974"/>
                  </a:lnTo>
                  <a:lnTo>
                    <a:pt x="688" y="981"/>
                  </a:lnTo>
                  <a:lnTo>
                    <a:pt x="690" y="988"/>
                  </a:lnTo>
                  <a:lnTo>
                    <a:pt x="690" y="1001"/>
                  </a:lnTo>
                  <a:lnTo>
                    <a:pt x="678" y="1003"/>
                  </a:lnTo>
                  <a:lnTo>
                    <a:pt x="661" y="1006"/>
                  </a:lnTo>
                  <a:lnTo>
                    <a:pt x="634" y="1005"/>
                  </a:lnTo>
                  <a:lnTo>
                    <a:pt x="610" y="1001"/>
                  </a:lnTo>
                  <a:lnTo>
                    <a:pt x="584" y="992"/>
                  </a:lnTo>
                  <a:lnTo>
                    <a:pt x="564" y="982"/>
                  </a:lnTo>
                  <a:lnTo>
                    <a:pt x="548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5"/>
                  </a:lnTo>
                  <a:lnTo>
                    <a:pt x="497" y="961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7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5"/>
                  </a:lnTo>
                  <a:lnTo>
                    <a:pt x="513" y="886"/>
                  </a:lnTo>
                  <a:lnTo>
                    <a:pt x="513" y="877"/>
                  </a:lnTo>
                  <a:lnTo>
                    <a:pt x="513" y="866"/>
                  </a:lnTo>
                  <a:lnTo>
                    <a:pt x="517" y="860"/>
                  </a:lnTo>
                  <a:lnTo>
                    <a:pt x="521" y="853"/>
                  </a:lnTo>
                  <a:lnTo>
                    <a:pt x="521" y="819"/>
                  </a:lnTo>
                  <a:lnTo>
                    <a:pt x="508" y="814"/>
                  </a:lnTo>
                  <a:lnTo>
                    <a:pt x="509" y="805"/>
                  </a:lnTo>
                  <a:lnTo>
                    <a:pt x="512" y="797"/>
                  </a:lnTo>
                  <a:lnTo>
                    <a:pt x="512" y="785"/>
                  </a:lnTo>
                  <a:lnTo>
                    <a:pt x="509" y="773"/>
                  </a:lnTo>
                  <a:lnTo>
                    <a:pt x="512" y="754"/>
                  </a:lnTo>
                  <a:lnTo>
                    <a:pt x="517" y="730"/>
                  </a:lnTo>
                  <a:lnTo>
                    <a:pt x="524" y="704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2"/>
                  </a:lnTo>
                  <a:lnTo>
                    <a:pt x="464" y="749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1"/>
                  </a:lnTo>
                  <a:lnTo>
                    <a:pt x="388" y="804"/>
                  </a:lnTo>
                  <a:lnTo>
                    <a:pt x="367" y="816"/>
                  </a:lnTo>
                  <a:lnTo>
                    <a:pt x="348" y="823"/>
                  </a:lnTo>
                  <a:lnTo>
                    <a:pt x="329" y="832"/>
                  </a:lnTo>
                  <a:lnTo>
                    <a:pt x="310" y="838"/>
                  </a:lnTo>
                  <a:lnTo>
                    <a:pt x="293" y="903"/>
                  </a:lnTo>
                  <a:lnTo>
                    <a:pt x="292" y="922"/>
                  </a:lnTo>
                  <a:lnTo>
                    <a:pt x="289" y="941"/>
                  </a:lnTo>
                  <a:lnTo>
                    <a:pt x="286" y="956"/>
                  </a:lnTo>
                  <a:lnTo>
                    <a:pt x="282" y="972"/>
                  </a:lnTo>
                  <a:lnTo>
                    <a:pt x="276" y="988"/>
                  </a:lnTo>
                  <a:lnTo>
                    <a:pt x="268" y="1005"/>
                  </a:lnTo>
                  <a:lnTo>
                    <a:pt x="259" y="1017"/>
                  </a:lnTo>
                  <a:lnTo>
                    <a:pt x="250" y="1028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1"/>
                  </a:lnTo>
                  <a:lnTo>
                    <a:pt x="130" y="1065"/>
                  </a:lnTo>
                  <a:lnTo>
                    <a:pt x="117" y="1055"/>
                  </a:lnTo>
                  <a:lnTo>
                    <a:pt x="109" y="1047"/>
                  </a:lnTo>
                  <a:lnTo>
                    <a:pt x="99" y="1044"/>
                  </a:lnTo>
                  <a:lnTo>
                    <a:pt x="88" y="1026"/>
                  </a:lnTo>
                  <a:lnTo>
                    <a:pt x="82" y="1005"/>
                  </a:lnTo>
                  <a:lnTo>
                    <a:pt x="75" y="986"/>
                  </a:lnTo>
                  <a:lnTo>
                    <a:pt x="71" y="964"/>
                  </a:lnTo>
                  <a:lnTo>
                    <a:pt x="71" y="943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8"/>
                  </a:lnTo>
                  <a:lnTo>
                    <a:pt x="92" y="847"/>
                  </a:lnTo>
                  <a:lnTo>
                    <a:pt x="90" y="832"/>
                  </a:lnTo>
                  <a:lnTo>
                    <a:pt x="87" y="818"/>
                  </a:lnTo>
                  <a:lnTo>
                    <a:pt x="63" y="800"/>
                  </a:lnTo>
                  <a:lnTo>
                    <a:pt x="74" y="784"/>
                  </a:lnTo>
                  <a:lnTo>
                    <a:pt x="87" y="749"/>
                  </a:lnTo>
                  <a:lnTo>
                    <a:pt x="77" y="750"/>
                  </a:lnTo>
                  <a:lnTo>
                    <a:pt x="68" y="748"/>
                  </a:lnTo>
                  <a:lnTo>
                    <a:pt x="63" y="744"/>
                  </a:lnTo>
                  <a:lnTo>
                    <a:pt x="59" y="738"/>
                  </a:lnTo>
                  <a:lnTo>
                    <a:pt x="57" y="732"/>
                  </a:lnTo>
                  <a:lnTo>
                    <a:pt x="50" y="734"/>
                  </a:lnTo>
                  <a:lnTo>
                    <a:pt x="42" y="732"/>
                  </a:lnTo>
                  <a:lnTo>
                    <a:pt x="34" y="728"/>
                  </a:lnTo>
                  <a:lnTo>
                    <a:pt x="28" y="722"/>
                  </a:lnTo>
                  <a:lnTo>
                    <a:pt x="22" y="712"/>
                  </a:lnTo>
                  <a:lnTo>
                    <a:pt x="16" y="704"/>
                  </a:lnTo>
                  <a:lnTo>
                    <a:pt x="13" y="694"/>
                  </a:lnTo>
                  <a:lnTo>
                    <a:pt x="8" y="692"/>
                  </a:lnTo>
                  <a:lnTo>
                    <a:pt x="1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3" y="561"/>
                  </a:lnTo>
                  <a:lnTo>
                    <a:pt x="15" y="555"/>
                  </a:lnTo>
                  <a:lnTo>
                    <a:pt x="18" y="550"/>
                  </a:lnTo>
                  <a:lnTo>
                    <a:pt x="33" y="546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2"/>
                  </a:lnTo>
                  <a:lnTo>
                    <a:pt x="34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3" y="504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2"/>
                  </a:lnTo>
                  <a:lnTo>
                    <a:pt x="70" y="518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40"/>
                  </a:lnTo>
                  <a:lnTo>
                    <a:pt x="67" y="543"/>
                  </a:lnTo>
                  <a:lnTo>
                    <a:pt x="71" y="546"/>
                  </a:lnTo>
                  <a:lnTo>
                    <a:pt x="77" y="546"/>
                  </a:lnTo>
                  <a:lnTo>
                    <a:pt x="82" y="543"/>
                  </a:lnTo>
                  <a:lnTo>
                    <a:pt x="84" y="539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7" y="530"/>
                  </a:lnTo>
                  <a:lnTo>
                    <a:pt x="95" y="513"/>
                  </a:lnTo>
                  <a:lnTo>
                    <a:pt x="91" y="497"/>
                  </a:lnTo>
                  <a:lnTo>
                    <a:pt x="116" y="389"/>
                  </a:lnTo>
                  <a:lnTo>
                    <a:pt x="122" y="372"/>
                  </a:lnTo>
                  <a:lnTo>
                    <a:pt x="128" y="359"/>
                  </a:lnTo>
                  <a:lnTo>
                    <a:pt x="135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8" y="231"/>
                  </a:lnTo>
                  <a:lnTo>
                    <a:pt x="176" y="214"/>
                  </a:lnTo>
                  <a:lnTo>
                    <a:pt x="195" y="203"/>
                  </a:lnTo>
                  <a:lnTo>
                    <a:pt x="206" y="192"/>
                  </a:lnTo>
                  <a:lnTo>
                    <a:pt x="217" y="185"/>
                  </a:lnTo>
                  <a:lnTo>
                    <a:pt x="229" y="182"/>
                  </a:lnTo>
                  <a:lnTo>
                    <a:pt x="240" y="182"/>
                  </a:lnTo>
                  <a:lnTo>
                    <a:pt x="253" y="185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6"/>
                  </a:lnTo>
                  <a:lnTo>
                    <a:pt x="289" y="55"/>
                  </a:lnTo>
                  <a:lnTo>
                    <a:pt x="300" y="39"/>
                  </a:lnTo>
                  <a:lnTo>
                    <a:pt x="310" y="29"/>
                  </a:lnTo>
                  <a:lnTo>
                    <a:pt x="337" y="15"/>
                  </a:lnTo>
                  <a:lnTo>
                    <a:pt x="356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3"/>
                  </a:lnTo>
                  <a:lnTo>
                    <a:pt x="464" y="23"/>
                  </a:lnTo>
                  <a:lnTo>
                    <a:pt x="475" y="38"/>
                  </a:lnTo>
                  <a:lnTo>
                    <a:pt x="488" y="66"/>
                  </a:lnTo>
                  <a:lnTo>
                    <a:pt x="504" y="100"/>
                  </a:lnTo>
                  <a:lnTo>
                    <a:pt x="510" y="107"/>
                  </a:lnTo>
                  <a:lnTo>
                    <a:pt x="513" y="114"/>
                  </a:lnTo>
                  <a:lnTo>
                    <a:pt x="512" y="121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1"/>
                  </a:lnTo>
                  <a:lnTo>
                    <a:pt x="498" y="182"/>
                  </a:lnTo>
                  <a:lnTo>
                    <a:pt x="510" y="206"/>
                  </a:lnTo>
                  <a:lnTo>
                    <a:pt x="606" y="307"/>
                  </a:lnTo>
                  <a:lnTo>
                    <a:pt x="610" y="314"/>
                  </a:lnTo>
                  <a:lnTo>
                    <a:pt x="612" y="321"/>
                  </a:lnTo>
                  <a:lnTo>
                    <a:pt x="610" y="328"/>
                  </a:lnTo>
                  <a:lnTo>
                    <a:pt x="606" y="332"/>
                  </a:lnTo>
                  <a:lnTo>
                    <a:pt x="602" y="334"/>
                  </a:lnTo>
                  <a:lnTo>
                    <a:pt x="602" y="341"/>
                  </a:lnTo>
                  <a:lnTo>
                    <a:pt x="600" y="347"/>
                  </a:lnTo>
                  <a:lnTo>
                    <a:pt x="595" y="352"/>
                  </a:lnTo>
                  <a:lnTo>
                    <a:pt x="600" y="356"/>
                  </a:lnTo>
                  <a:lnTo>
                    <a:pt x="602" y="362"/>
                  </a:lnTo>
                  <a:lnTo>
                    <a:pt x="608" y="371"/>
                  </a:lnTo>
                  <a:lnTo>
                    <a:pt x="619" y="377"/>
                  </a:lnTo>
                  <a:lnTo>
                    <a:pt x="627" y="383"/>
                  </a:lnTo>
                  <a:lnTo>
                    <a:pt x="635" y="389"/>
                  </a:lnTo>
                  <a:lnTo>
                    <a:pt x="644" y="396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3"/>
                  </a:lnTo>
                  <a:lnTo>
                    <a:pt x="700" y="380"/>
                  </a:lnTo>
                  <a:lnTo>
                    <a:pt x="735" y="356"/>
                  </a:lnTo>
                  <a:lnTo>
                    <a:pt x="780" y="307"/>
                  </a:lnTo>
                  <a:lnTo>
                    <a:pt x="786" y="309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7" y="267"/>
                  </a:lnTo>
                  <a:lnTo>
                    <a:pt x="823" y="257"/>
                  </a:lnTo>
                  <a:lnTo>
                    <a:pt x="923" y="255"/>
                  </a:lnTo>
                  <a:lnTo>
                    <a:pt x="858" y="293"/>
                  </a:lnTo>
                  <a:lnTo>
                    <a:pt x="844" y="307"/>
                  </a:lnTo>
                  <a:lnTo>
                    <a:pt x="825" y="339"/>
                  </a:lnTo>
                  <a:lnTo>
                    <a:pt x="828" y="347"/>
                  </a:lnTo>
                  <a:lnTo>
                    <a:pt x="777" y="434"/>
                  </a:lnTo>
                  <a:lnTo>
                    <a:pt x="762" y="478"/>
                  </a:lnTo>
                  <a:lnTo>
                    <a:pt x="742" y="493"/>
                  </a:lnTo>
                  <a:lnTo>
                    <a:pt x="723" y="506"/>
                  </a:lnTo>
                  <a:lnTo>
                    <a:pt x="697" y="518"/>
                  </a:lnTo>
                  <a:lnTo>
                    <a:pt x="680" y="521"/>
                  </a:lnTo>
                  <a:lnTo>
                    <a:pt x="666" y="522"/>
                  </a:lnTo>
                  <a:close/>
                  <a:moveTo>
                    <a:pt x="96" y="546"/>
                  </a:moveTo>
                  <a:lnTo>
                    <a:pt x="90" y="552"/>
                  </a:lnTo>
                  <a:lnTo>
                    <a:pt x="92" y="556"/>
                  </a:lnTo>
                  <a:lnTo>
                    <a:pt x="95" y="562"/>
                  </a:lnTo>
                  <a:lnTo>
                    <a:pt x="96" y="556"/>
                  </a:lnTo>
                  <a:lnTo>
                    <a:pt x="97" y="551"/>
                  </a:lnTo>
                  <a:lnTo>
                    <a:pt x="96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3165480" y="4352760"/>
              <a:ext cx="293760" cy="339840"/>
            </a:xfrm>
            <a:custGeom>
              <a:avLst/>
              <a:gdLst/>
              <a:ahLst/>
              <a:rect l="l" t="t" r="r" b="b"/>
              <a:pathLst>
                <a:path w="923" h="1074"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2" y="725"/>
                  </a:lnTo>
                  <a:lnTo>
                    <a:pt x="641" y="780"/>
                  </a:lnTo>
                  <a:lnTo>
                    <a:pt x="629" y="818"/>
                  </a:lnTo>
                  <a:lnTo>
                    <a:pt x="619" y="824"/>
                  </a:lnTo>
                  <a:lnTo>
                    <a:pt x="608" y="833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2"/>
                  </a:lnTo>
                  <a:lnTo>
                    <a:pt x="606" y="909"/>
                  </a:lnTo>
                  <a:lnTo>
                    <a:pt x="612" y="917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29" y="934"/>
                  </a:lnTo>
                  <a:lnTo>
                    <a:pt x="633" y="941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8"/>
                  </a:lnTo>
                  <a:lnTo>
                    <a:pt x="680" y="974"/>
                  </a:lnTo>
                  <a:lnTo>
                    <a:pt x="688" y="981"/>
                  </a:lnTo>
                  <a:lnTo>
                    <a:pt x="690" y="988"/>
                  </a:lnTo>
                  <a:lnTo>
                    <a:pt x="690" y="1001"/>
                  </a:lnTo>
                  <a:lnTo>
                    <a:pt x="678" y="1003"/>
                  </a:lnTo>
                  <a:lnTo>
                    <a:pt x="661" y="1006"/>
                  </a:lnTo>
                  <a:lnTo>
                    <a:pt x="634" y="1005"/>
                  </a:lnTo>
                  <a:lnTo>
                    <a:pt x="610" y="1001"/>
                  </a:lnTo>
                  <a:lnTo>
                    <a:pt x="584" y="992"/>
                  </a:lnTo>
                  <a:lnTo>
                    <a:pt x="564" y="982"/>
                  </a:lnTo>
                  <a:lnTo>
                    <a:pt x="548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5"/>
                  </a:lnTo>
                  <a:lnTo>
                    <a:pt x="497" y="961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7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5"/>
                  </a:lnTo>
                  <a:lnTo>
                    <a:pt x="513" y="886"/>
                  </a:lnTo>
                  <a:lnTo>
                    <a:pt x="513" y="877"/>
                  </a:lnTo>
                  <a:lnTo>
                    <a:pt x="513" y="866"/>
                  </a:lnTo>
                  <a:lnTo>
                    <a:pt x="517" y="860"/>
                  </a:lnTo>
                  <a:lnTo>
                    <a:pt x="521" y="853"/>
                  </a:lnTo>
                  <a:lnTo>
                    <a:pt x="521" y="819"/>
                  </a:lnTo>
                  <a:lnTo>
                    <a:pt x="508" y="814"/>
                  </a:lnTo>
                  <a:lnTo>
                    <a:pt x="509" y="805"/>
                  </a:lnTo>
                  <a:lnTo>
                    <a:pt x="512" y="797"/>
                  </a:lnTo>
                  <a:lnTo>
                    <a:pt x="512" y="785"/>
                  </a:lnTo>
                  <a:lnTo>
                    <a:pt x="509" y="773"/>
                  </a:lnTo>
                  <a:lnTo>
                    <a:pt x="512" y="754"/>
                  </a:lnTo>
                  <a:lnTo>
                    <a:pt x="517" y="730"/>
                  </a:lnTo>
                  <a:lnTo>
                    <a:pt x="524" y="704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2"/>
                  </a:lnTo>
                  <a:lnTo>
                    <a:pt x="464" y="749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1"/>
                  </a:lnTo>
                  <a:lnTo>
                    <a:pt x="388" y="804"/>
                  </a:lnTo>
                  <a:lnTo>
                    <a:pt x="367" y="816"/>
                  </a:lnTo>
                  <a:lnTo>
                    <a:pt x="348" y="823"/>
                  </a:lnTo>
                  <a:lnTo>
                    <a:pt x="329" y="832"/>
                  </a:lnTo>
                  <a:lnTo>
                    <a:pt x="310" y="838"/>
                  </a:lnTo>
                  <a:lnTo>
                    <a:pt x="293" y="903"/>
                  </a:lnTo>
                  <a:lnTo>
                    <a:pt x="292" y="922"/>
                  </a:lnTo>
                  <a:lnTo>
                    <a:pt x="289" y="941"/>
                  </a:lnTo>
                  <a:lnTo>
                    <a:pt x="286" y="956"/>
                  </a:lnTo>
                  <a:lnTo>
                    <a:pt x="282" y="972"/>
                  </a:lnTo>
                  <a:lnTo>
                    <a:pt x="276" y="988"/>
                  </a:lnTo>
                  <a:lnTo>
                    <a:pt x="268" y="1005"/>
                  </a:lnTo>
                  <a:lnTo>
                    <a:pt x="259" y="1017"/>
                  </a:lnTo>
                  <a:lnTo>
                    <a:pt x="250" y="1028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1"/>
                  </a:lnTo>
                  <a:lnTo>
                    <a:pt x="130" y="1065"/>
                  </a:lnTo>
                  <a:lnTo>
                    <a:pt x="117" y="1055"/>
                  </a:lnTo>
                  <a:lnTo>
                    <a:pt x="109" y="1047"/>
                  </a:lnTo>
                  <a:lnTo>
                    <a:pt x="99" y="1044"/>
                  </a:lnTo>
                  <a:lnTo>
                    <a:pt x="88" y="1026"/>
                  </a:lnTo>
                  <a:lnTo>
                    <a:pt x="82" y="1005"/>
                  </a:lnTo>
                  <a:lnTo>
                    <a:pt x="75" y="986"/>
                  </a:lnTo>
                  <a:lnTo>
                    <a:pt x="71" y="964"/>
                  </a:lnTo>
                  <a:lnTo>
                    <a:pt x="71" y="943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8"/>
                  </a:lnTo>
                  <a:lnTo>
                    <a:pt x="92" y="847"/>
                  </a:lnTo>
                  <a:lnTo>
                    <a:pt x="90" y="832"/>
                  </a:lnTo>
                  <a:lnTo>
                    <a:pt x="87" y="818"/>
                  </a:lnTo>
                  <a:lnTo>
                    <a:pt x="63" y="800"/>
                  </a:lnTo>
                  <a:lnTo>
                    <a:pt x="74" y="784"/>
                  </a:lnTo>
                  <a:lnTo>
                    <a:pt x="87" y="749"/>
                  </a:lnTo>
                  <a:lnTo>
                    <a:pt x="77" y="750"/>
                  </a:lnTo>
                  <a:lnTo>
                    <a:pt x="68" y="748"/>
                  </a:lnTo>
                  <a:lnTo>
                    <a:pt x="63" y="744"/>
                  </a:lnTo>
                  <a:lnTo>
                    <a:pt x="59" y="738"/>
                  </a:lnTo>
                  <a:lnTo>
                    <a:pt x="57" y="732"/>
                  </a:lnTo>
                  <a:lnTo>
                    <a:pt x="50" y="734"/>
                  </a:lnTo>
                  <a:lnTo>
                    <a:pt x="42" y="732"/>
                  </a:lnTo>
                  <a:lnTo>
                    <a:pt x="34" y="728"/>
                  </a:lnTo>
                  <a:lnTo>
                    <a:pt x="28" y="722"/>
                  </a:lnTo>
                  <a:lnTo>
                    <a:pt x="22" y="712"/>
                  </a:lnTo>
                  <a:lnTo>
                    <a:pt x="16" y="704"/>
                  </a:lnTo>
                  <a:lnTo>
                    <a:pt x="13" y="694"/>
                  </a:lnTo>
                  <a:lnTo>
                    <a:pt x="8" y="692"/>
                  </a:lnTo>
                  <a:lnTo>
                    <a:pt x="1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3" y="561"/>
                  </a:lnTo>
                  <a:lnTo>
                    <a:pt x="15" y="555"/>
                  </a:lnTo>
                  <a:lnTo>
                    <a:pt x="18" y="550"/>
                  </a:lnTo>
                  <a:lnTo>
                    <a:pt x="33" y="546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2"/>
                  </a:lnTo>
                  <a:lnTo>
                    <a:pt x="34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3" y="504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2"/>
                  </a:lnTo>
                  <a:lnTo>
                    <a:pt x="70" y="518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40"/>
                  </a:lnTo>
                  <a:lnTo>
                    <a:pt x="67" y="543"/>
                  </a:lnTo>
                  <a:lnTo>
                    <a:pt x="71" y="546"/>
                  </a:lnTo>
                  <a:lnTo>
                    <a:pt x="77" y="546"/>
                  </a:lnTo>
                  <a:lnTo>
                    <a:pt x="82" y="543"/>
                  </a:lnTo>
                  <a:lnTo>
                    <a:pt x="84" y="539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7" y="530"/>
                  </a:lnTo>
                  <a:lnTo>
                    <a:pt x="95" y="513"/>
                  </a:lnTo>
                  <a:lnTo>
                    <a:pt x="91" y="497"/>
                  </a:lnTo>
                  <a:lnTo>
                    <a:pt x="116" y="389"/>
                  </a:lnTo>
                  <a:lnTo>
                    <a:pt x="122" y="372"/>
                  </a:lnTo>
                  <a:lnTo>
                    <a:pt x="128" y="359"/>
                  </a:lnTo>
                  <a:lnTo>
                    <a:pt x="135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8" y="231"/>
                  </a:lnTo>
                  <a:lnTo>
                    <a:pt x="176" y="214"/>
                  </a:lnTo>
                  <a:lnTo>
                    <a:pt x="195" y="203"/>
                  </a:lnTo>
                  <a:lnTo>
                    <a:pt x="206" y="192"/>
                  </a:lnTo>
                  <a:lnTo>
                    <a:pt x="217" y="185"/>
                  </a:lnTo>
                  <a:lnTo>
                    <a:pt x="229" y="182"/>
                  </a:lnTo>
                  <a:lnTo>
                    <a:pt x="240" y="182"/>
                  </a:lnTo>
                  <a:lnTo>
                    <a:pt x="253" y="185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6"/>
                  </a:lnTo>
                  <a:lnTo>
                    <a:pt x="289" y="55"/>
                  </a:lnTo>
                  <a:lnTo>
                    <a:pt x="300" y="39"/>
                  </a:lnTo>
                  <a:lnTo>
                    <a:pt x="310" y="29"/>
                  </a:lnTo>
                  <a:lnTo>
                    <a:pt x="337" y="15"/>
                  </a:lnTo>
                  <a:lnTo>
                    <a:pt x="356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3"/>
                  </a:lnTo>
                  <a:lnTo>
                    <a:pt x="464" y="23"/>
                  </a:lnTo>
                  <a:lnTo>
                    <a:pt x="475" y="38"/>
                  </a:lnTo>
                  <a:lnTo>
                    <a:pt x="488" y="66"/>
                  </a:lnTo>
                  <a:lnTo>
                    <a:pt x="504" y="100"/>
                  </a:lnTo>
                  <a:lnTo>
                    <a:pt x="510" y="107"/>
                  </a:lnTo>
                  <a:lnTo>
                    <a:pt x="513" y="114"/>
                  </a:lnTo>
                  <a:lnTo>
                    <a:pt x="512" y="121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1"/>
                  </a:lnTo>
                  <a:lnTo>
                    <a:pt x="498" y="182"/>
                  </a:lnTo>
                  <a:lnTo>
                    <a:pt x="510" y="206"/>
                  </a:lnTo>
                  <a:lnTo>
                    <a:pt x="606" y="307"/>
                  </a:lnTo>
                  <a:lnTo>
                    <a:pt x="610" y="314"/>
                  </a:lnTo>
                  <a:lnTo>
                    <a:pt x="612" y="321"/>
                  </a:lnTo>
                  <a:lnTo>
                    <a:pt x="610" y="328"/>
                  </a:lnTo>
                  <a:lnTo>
                    <a:pt x="606" y="332"/>
                  </a:lnTo>
                  <a:lnTo>
                    <a:pt x="602" y="334"/>
                  </a:lnTo>
                  <a:lnTo>
                    <a:pt x="602" y="341"/>
                  </a:lnTo>
                  <a:lnTo>
                    <a:pt x="600" y="347"/>
                  </a:lnTo>
                  <a:lnTo>
                    <a:pt x="595" y="352"/>
                  </a:lnTo>
                  <a:lnTo>
                    <a:pt x="600" y="356"/>
                  </a:lnTo>
                  <a:lnTo>
                    <a:pt x="602" y="362"/>
                  </a:lnTo>
                  <a:lnTo>
                    <a:pt x="608" y="371"/>
                  </a:lnTo>
                  <a:lnTo>
                    <a:pt x="619" y="377"/>
                  </a:lnTo>
                  <a:lnTo>
                    <a:pt x="627" y="383"/>
                  </a:lnTo>
                  <a:lnTo>
                    <a:pt x="635" y="389"/>
                  </a:lnTo>
                  <a:lnTo>
                    <a:pt x="644" y="396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3"/>
                  </a:lnTo>
                  <a:lnTo>
                    <a:pt x="700" y="380"/>
                  </a:lnTo>
                  <a:lnTo>
                    <a:pt x="735" y="356"/>
                  </a:lnTo>
                  <a:lnTo>
                    <a:pt x="780" y="307"/>
                  </a:lnTo>
                  <a:lnTo>
                    <a:pt x="786" y="309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7" y="267"/>
                  </a:lnTo>
                  <a:lnTo>
                    <a:pt x="823" y="257"/>
                  </a:lnTo>
                  <a:lnTo>
                    <a:pt x="923" y="255"/>
                  </a:lnTo>
                  <a:lnTo>
                    <a:pt x="858" y="293"/>
                  </a:lnTo>
                  <a:lnTo>
                    <a:pt x="844" y="307"/>
                  </a:lnTo>
                  <a:lnTo>
                    <a:pt x="825" y="339"/>
                  </a:lnTo>
                  <a:lnTo>
                    <a:pt x="828" y="347"/>
                  </a:lnTo>
                  <a:lnTo>
                    <a:pt x="777" y="434"/>
                  </a:lnTo>
                  <a:lnTo>
                    <a:pt x="762" y="478"/>
                  </a:lnTo>
                  <a:lnTo>
                    <a:pt x="742" y="493"/>
                  </a:lnTo>
                  <a:lnTo>
                    <a:pt x="723" y="506"/>
                  </a:lnTo>
                  <a:lnTo>
                    <a:pt x="697" y="518"/>
                  </a:lnTo>
                  <a:lnTo>
                    <a:pt x="680" y="521"/>
                  </a:lnTo>
                  <a:lnTo>
                    <a:pt x="666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3327480" y="4398840"/>
              <a:ext cx="231840" cy="66960"/>
            </a:xfrm>
            <a:custGeom>
              <a:avLst/>
              <a:gdLst/>
              <a:ahLst/>
              <a:rect l="l" t="t" r="r" b="b"/>
              <a:pathLst>
                <a:path w="728" h="207">
                  <a:moveTo>
                    <a:pt x="512" y="100"/>
                  </a:moveTo>
                  <a:lnTo>
                    <a:pt x="500" y="96"/>
                  </a:lnTo>
                  <a:lnTo>
                    <a:pt x="426" y="99"/>
                  </a:lnTo>
                  <a:lnTo>
                    <a:pt x="422" y="103"/>
                  </a:lnTo>
                  <a:lnTo>
                    <a:pt x="504" y="105"/>
                  </a:lnTo>
                  <a:lnTo>
                    <a:pt x="498" y="108"/>
                  </a:lnTo>
                  <a:lnTo>
                    <a:pt x="413" y="108"/>
                  </a:lnTo>
                  <a:lnTo>
                    <a:pt x="314" y="111"/>
                  </a:lnTo>
                  <a:lnTo>
                    <a:pt x="290" y="111"/>
                  </a:lnTo>
                  <a:lnTo>
                    <a:pt x="207" y="145"/>
                  </a:lnTo>
                  <a:lnTo>
                    <a:pt x="207" y="193"/>
                  </a:lnTo>
                  <a:lnTo>
                    <a:pt x="149" y="207"/>
                  </a:lnTo>
                  <a:lnTo>
                    <a:pt x="149" y="160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4" y="132"/>
                  </a:lnTo>
                  <a:lnTo>
                    <a:pt x="141" y="129"/>
                  </a:lnTo>
                  <a:lnTo>
                    <a:pt x="138" y="128"/>
                  </a:lnTo>
                  <a:lnTo>
                    <a:pt x="136" y="128"/>
                  </a:lnTo>
                  <a:lnTo>
                    <a:pt x="115" y="126"/>
                  </a:lnTo>
                  <a:lnTo>
                    <a:pt x="121" y="138"/>
                  </a:lnTo>
                  <a:lnTo>
                    <a:pt x="123" y="143"/>
                  </a:lnTo>
                  <a:lnTo>
                    <a:pt x="123" y="147"/>
                  </a:lnTo>
                  <a:lnTo>
                    <a:pt x="120" y="150"/>
                  </a:lnTo>
                  <a:lnTo>
                    <a:pt x="116" y="153"/>
                  </a:lnTo>
                  <a:lnTo>
                    <a:pt x="140" y="153"/>
                  </a:lnTo>
                  <a:lnTo>
                    <a:pt x="142" y="153"/>
                  </a:lnTo>
                  <a:lnTo>
                    <a:pt x="144" y="150"/>
                  </a:lnTo>
                  <a:lnTo>
                    <a:pt x="145" y="147"/>
                  </a:lnTo>
                  <a:lnTo>
                    <a:pt x="149" y="160"/>
                  </a:lnTo>
                  <a:lnTo>
                    <a:pt x="96" y="160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50" y="46"/>
                  </a:lnTo>
                  <a:lnTo>
                    <a:pt x="57" y="21"/>
                  </a:lnTo>
                  <a:lnTo>
                    <a:pt x="61" y="21"/>
                  </a:lnTo>
                  <a:lnTo>
                    <a:pt x="64" y="12"/>
                  </a:lnTo>
                  <a:lnTo>
                    <a:pt x="70" y="5"/>
                  </a:lnTo>
                  <a:lnTo>
                    <a:pt x="78" y="4"/>
                  </a:lnTo>
                  <a:lnTo>
                    <a:pt x="210" y="16"/>
                  </a:lnTo>
                  <a:lnTo>
                    <a:pt x="216" y="18"/>
                  </a:lnTo>
                  <a:lnTo>
                    <a:pt x="221" y="22"/>
                  </a:lnTo>
                  <a:lnTo>
                    <a:pt x="224" y="28"/>
                  </a:lnTo>
                  <a:lnTo>
                    <a:pt x="224" y="35"/>
                  </a:lnTo>
                  <a:lnTo>
                    <a:pt x="223" y="41"/>
                  </a:lnTo>
                  <a:lnTo>
                    <a:pt x="221" y="43"/>
                  </a:lnTo>
                  <a:lnTo>
                    <a:pt x="213" y="43"/>
                  </a:lnTo>
                  <a:lnTo>
                    <a:pt x="215" y="39"/>
                  </a:lnTo>
                  <a:lnTo>
                    <a:pt x="217" y="34"/>
                  </a:lnTo>
                  <a:lnTo>
                    <a:pt x="217" y="28"/>
                  </a:lnTo>
                  <a:lnTo>
                    <a:pt x="213" y="24"/>
                  </a:lnTo>
                  <a:lnTo>
                    <a:pt x="207" y="21"/>
                  </a:lnTo>
                  <a:lnTo>
                    <a:pt x="107" y="21"/>
                  </a:lnTo>
                  <a:lnTo>
                    <a:pt x="103" y="26"/>
                  </a:lnTo>
                  <a:lnTo>
                    <a:pt x="100" y="33"/>
                  </a:lnTo>
                  <a:lnTo>
                    <a:pt x="99" y="38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7" y="46"/>
                  </a:lnTo>
                  <a:lnTo>
                    <a:pt x="213" y="43"/>
                  </a:lnTo>
                  <a:lnTo>
                    <a:pt x="221" y="43"/>
                  </a:lnTo>
                  <a:lnTo>
                    <a:pt x="516" y="43"/>
                  </a:lnTo>
                  <a:lnTo>
                    <a:pt x="524" y="45"/>
                  </a:lnTo>
                  <a:lnTo>
                    <a:pt x="525" y="46"/>
                  </a:lnTo>
                  <a:lnTo>
                    <a:pt x="557" y="46"/>
                  </a:lnTo>
                  <a:lnTo>
                    <a:pt x="555" y="33"/>
                  </a:lnTo>
                  <a:lnTo>
                    <a:pt x="551" y="33"/>
                  </a:lnTo>
                  <a:lnTo>
                    <a:pt x="551" y="17"/>
                  </a:lnTo>
                  <a:lnTo>
                    <a:pt x="541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4" y="45"/>
                  </a:lnTo>
                  <a:lnTo>
                    <a:pt x="516" y="43"/>
                  </a:lnTo>
                  <a:lnTo>
                    <a:pt x="546" y="3"/>
                  </a:lnTo>
                  <a:lnTo>
                    <a:pt x="551" y="0"/>
                  </a:lnTo>
                  <a:lnTo>
                    <a:pt x="557" y="3"/>
                  </a:lnTo>
                  <a:lnTo>
                    <a:pt x="561" y="7"/>
                  </a:lnTo>
                  <a:lnTo>
                    <a:pt x="563" y="56"/>
                  </a:lnTo>
                  <a:lnTo>
                    <a:pt x="644" y="56"/>
                  </a:lnTo>
                  <a:lnTo>
                    <a:pt x="653" y="51"/>
                  </a:lnTo>
                  <a:lnTo>
                    <a:pt x="708" y="50"/>
                  </a:lnTo>
                  <a:lnTo>
                    <a:pt x="714" y="42"/>
                  </a:lnTo>
                  <a:lnTo>
                    <a:pt x="724" y="42"/>
                  </a:lnTo>
                  <a:lnTo>
                    <a:pt x="724" y="50"/>
                  </a:lnTo>
                  <a:lnTo>
                    <a:pt x="728" y="50"/>
                  </a:lnTo>
                  <a:lnTo>
                    <a:pt x="728" y="75"/>
                  </a:lnTo>
                  <a:lnTo>
                    <a:pt x="713" y="75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7"/>
                  </a:lnTo>
                  <a:lnTo>
                    <a:pt x="551" y="77"/>
                  </a:lnTo>
                  <a:lnTo>
                    <a:pt x="551" y="75"/>
                  </a:lnTo>
                  <a:lnTo>
                    <a:pt x="528" y="75"/>
                  </a:lnTo>
                  <a:lnTo>
                    <a:pt x="528" y="87"/>
                  </a:lnTo>
                  <a:lnTo>
                    <a:pt x="519" y="87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3530520" y="3699000"/>
              <a:ext cx="219240" cy="258480"/>
            </a:xfrm>
            <a:custGeom>
              <a:avLst/>
              <a:gdLst/>
              <a:ahLst/>
              <a:rect l="l" t="t" r="r" b="b"/>
              <a:pathLst>
                <a:path w="691" h="814">
                  <a:moveTo>
                    <a:pt x="141" y="0"/>
                  </a:moveTo>
                  <a:lnTo>
                    <a:pt x="178" y="27"/>
                  </a:lnTo>
                  <a:lnTo>
                    <a:pt x="214" y="56"/>
                  </a:lnTo>
                  <a:lnTo>
                    <a:pt x="250" y="85"/>
                  </a:lnTo>
                  <a:lnTo>
                    <a:pt x="285" y="115"/>
                  </a:lnTo>
                  <a:lnTo>
                    <a:pt x="318" y="147"/>
                  </a:lnTo>
                  <a:lnTo>
                    <a:pt x="352" y="178"/>
                  </a:lnTo>
                  <a:lnTo>
                    <a:pt x="385" y="211"/>
                  </a:lnTo>
                  <a:lnTo>
                    <a:pt x="416" y="245"/>
                  </a:lnTo>
                  <a:lnTo>
                    <a:pt x="447" y="279"/>
                  </a:lnTo>
                  <a:lnTo>
                    <a:pt x="476" y="315"/>
                  </a:lnTo>
                  <a:lnTo>
                    <a:pt x="504" y="351"/>
                  </a:lnTo>
                  <a:lnTo>
                    <a:pt x="533" y="386"/>
                  </a:lnTo>
                  <a:lnTo>
                    <a:pt x="560" y="424"/>
                  </a:lnTo>
                  <a:lnTo>
                    <a:pt x="585" y="462"/>
                  </a:lnTo>
                  <a:lnTo>
                    <a:pt x="611" y="501"/>
                  </a:lnTo>
                  <a:lnTo>
                    <a:pt x="635" y="540"/>
                  </a:lnTo>
                  <a:lnTo>
                    <a:pt x="629" y="557"/>
                  </a:lnTo>
                  <a:lnTo>
                    <a:pt x="620" y="564"/>
                  </a:lnTo>
                  <a:lnTo>
                    <a:pt x="608" y="572"/>
                  </a:lnTo>
                  <a:lnTo>
                    <a:pt x="600" y="612"/>
                  </a:lnTo>
                  <a:lnTo>
                    <a:pt x="600" y="619"/>
                  </a:lnTo>
                  <a:lnTo>
                    <a:pt x="604" y="626"/>
                  </a:lnTo>
                  <a:lnTo>
                    <a:pt x="604" y="633"/>
                  </a:lnTo>
                  <a:lnTo>
                    <a:pt x="599" y="641"/>
                  </a:lnTo>
                  <a:lnTo>
                    <a:pt x="607" y="649"/>
                  </a:lnTo>
                  <a:lnTo>
                    <a:pt x="613" y="655"/>
                  </a:lnTo>
                  <a:lnTo>
                    <a:pt x="617" y="667"/>
                  </a:lnTo>
                  <a:lnTo>
                    <a:pt x="625" y="669"/>
                  </a:lnTo>
                  <a:lnTo>
                    <a:pt x="629" y="673"/>
                  </a:lnTo>
                  <a:lnTo>
                    <a:pt x="634" y="680"/>
                  </a:lnTo>
                  <a:lnTo>
                    <a:pt x="638" y="688"/>
                  </a:lnTo>
                  <a:lnTo>
                    <a:pt x="642" y="695"/>
                  </a:lnTo>
                  <a:lnTo>
                    <a:pt x="666" y="707"/>
                  </a:lnTo>
                  <a:lnTo>
                    <a:pt x="682" y="714"/>
                  </a:lnTo>
                  <a:lnTo>
                    <a:pt x="688" y="720"/>
                  </a:lnTo>
                  <a:lnTo>
                    <a:pt x="691" y="728"/>
                  </a:lnTo>
                  <a:lnTo>
                    <a:pt x="691" y="739"/>
                  </a:lnTo>
                  <a:lnTo>
                    <a:pt x="679" y="742"/>
                  </a:lnTo>
                  <a:lnTo>
                    <a:pt x="662" y="745"/>
                  </a:lnTo>
                  <a:lnTo>
                    <a:pt x="635" y="743"/>
                  </a:lnTo>
                  <a:lnTo>
                    <a:pt x="612" y="739"/>
                  </a:lnTo>
                  <a:lnTo>
                    <a:pt x="585" y="731"/>
                  </a:lnTo>
                  <a:lnTo>
                    <a:pt x="565" y="721"/>
                  </a:lnTo>
                  <a:lnTo>
                    <a:pt x="550" y="712"/>
                  </a:lnTo>
                  <a:lnTo>
                    <a:pt x="534" y="710"/>
                  </a:lnTo>
                  <a:lnTo>
                    <a:pt x="521" y="709"/>
                  </a:lnTo>
                  <a:lnTo>
                    <a:pt x="509" y="704"/>
                  </a:lnTo>
                  <a:lnTo>
                    <a:pt x="498" y="700"/>
                  </a:lnTo>
                  <a:lnTo>
                    <a:pt x="495" y="687"/>
                  </a:lnTo>
                  <a:lnTo>
                    <a:pt x="496" y="675"/>
                  </a:lnTo>
                  <a:lnTo>
                    <a:pt x="498" y="664"/>
                  </a:lnTo>
                  <a:lnTo>
                    <a:pt x="500" y="654"/>
                  </a:lnTo>
                  <a:lnTo>
                    <a:pt x="504" y="645"/>
                  </a:lnTo>
                  <a:lnTo>
                    <a:pt x="509" y="634"/>
                  </a:lnTo>
                  <a:lnTo>
                    <a:pt x="515" y="626"/>
                  </a:lnTo>
                  <a:lnTo>
                    <a:pt x="515" y="616"/>
                  </a:lnTo>
                  <a:lnTo>
                    <a:pt x="515" y="606"/>
                  </a:lnTo>
                  <a:lnTo>
                    <a:pt x="517" y="599"/>
                  </a:lnTo>
                  <a:lnTo>
                    <a:pt x="521" y="592"/>
                  </a:lnTo>
                  <a:lnTo>
                    <a:pt x="521" y="559"/>
                  </a:lnTo>
                  <a:lnTo>
                    <a:pt x="509" y="553"/>
                  </a:lnTo>
                  <a:lnTo>
                    <a:pt x="511" y="545"/>
                  </a:lnTo>
                  <a:lnTo>
                    <a:pt x="513" y="536"/>
                  </a:lnTo>
                  <a:lnTo>
                    <a:pt x="513" y="525"/>
                  </a:lnTo>
                  <a:lnTo>
                    <a:pt x="511" y="512"/>
                  </a:lnTo>
                  <a:lnTo>
                    <a:pt x="513" y="493"/>
                  </a:lnTo>
                  <a:lnTo>
                    <a:pt x="517" y="469"/>
                  </a:lnTo>
                  <a:lnTo>
                    <a:pt x="524" y="443"/>
                  </a:lnTo>
                  <a:lnTo>
                    <a:pt x="534" y="417"/>
                  </a:lnTo>
                  <a:lnTo>
                    <a:pt x="517" y="437"/>
                  </a:lnTo>
                  <a:lnTo>
                    <a:pt x="499" y="456"/>
                  </a:lnTo>
                  <a:lnTo>
                    <a:pt x="483" y="471"/>
                  </a:lnTo>
                  <a:lnTo>
                    <a:pt x="466" y="488"/>
                  </a:lnTo>
                  <a:lnTo>
                    <a:pt x="450" y="501"/>
                  </a:lnTo>
                  <a:lnTo>
                    <a:pt x="431" y="517"/>
                  </a:lnTo>
                  <a:lnTo>
                    <a:pt x="412" y="530"/>
                  </a:lnTo>
                  <a:lnTo>
                    <a:pt x="390" y="543"/>
                  </a:lnTo>
                  <a:lnTo>
                    <a:pt x="369" y="555"/>
                  </a:lnTo>
                  <a:lnTo>
                    <a:pt x="349" y="563"/>
                  </a:lnTo>
                  <a:lnTo>
                    <a:pt x="329" y="571"/>
                  </a:lnTo>
                  <a:lnTo>
                    <a:pt x="311" y="577"/>
                  </a:lnTo>
                  <a:lnTo>
                    <a:pt x="294" y="643"/>
                  </a:lnTo>
                  <a:lnTo>
                    <a:pt x="292" y="661"/>
                  </a:lnTo>
                  <a:lnTo>
                    <a:pt x="290" y="680"/>
                  </a:lnTo>
                  <a:lnTo>
                    <a:pt x="287" y="696"/>
                  </a:lnTo>
                  <a:lnTo>
                    <a:pt x="283" y="712"/>
                  </a:lnTo>
                  <a:lnTo>
                    <a:pt x="278" y="728"/>
                  </a:lnTo>
                  <a:lnTo>
                    <a:pt x="269" y="743"/>
                  </a:lnTo>
                  <a:lnTo>
                    <a:pt x="261" y="757"/>
                  </a:lnTo>
                  <a:lnTo>
                    <a:pt x="250" y="767"/>
                  </a:lnTo>
                  <a:lnTo>
                    <a:pt x="248" y="779"/>
                  </a:lnTo>
                  <a:lnTo>
                    <a:pt x="241" y="791"/>
                  </a:lnTo>
                  <a:lnTo>
                    <a:pt x="229" y="800"/>
                  </a:lnTo>
                  <a:lnTo>
                    <a:pt x="212" y="808"/>
                  </a:lnTo>
                  <a:lnTo>
                    <a:pt x="188" y="814"/>
                  </a:lnTo>
                  <a:lnTo>
                    <a:pt x="167" y="814"/>
                  </a:lnTo>
                  <a:lnTo>
                    <a:pt x="146" y="809"/>
                  </a:lnTo>
                  <a:lnTo>
                    <a:pt x="131" y="804"/>
                  </a:lnTo>
                  <a:lnTo>
                    <a:pt x="119" y="795"/>
                  </a:lnTo>
                  <a:lnTo>
                    <a:pt x="110" y="786"/>
                  </a:lnTo>
                  <a:lnTo>
                    <a:pt x="100" y="783"/>
                  </a:lnTo>
                  <a:lnTo>
                    <a:pt x="89" y="765"/>
                  </a:lnTo>
                  <a:lnTo>
                    <a:pt x="82" y="743"/>
                  </a:lnTo>
                  <a:lnTo>
                    <a:pt x="76" y="725"/>
                  </a:lnTo>
                  <a:lnTo>
                    <a:pt x="73" y="703"/>
                  </a:lnTo>
                  <a:lnTo>
                    <a:pt x="73" y="682"/>
                  </a:lnTo>
                  <a:lnTo>
                    <a:pt x="69" y="646"/>
                  </a:lnTo>
                  <a:lnTo>
                    <a:pt x="80" y="625"/>
                  </a:lnTo>
                  <a:lnTo>
                    <a:pt x="85" y="597"/>
                  </a:lnTo>
                  <a:lnTo>
                    <a:pt x="94" y="587"/>
                  </a:lnTo>
                  <a:lnTo>
                    <a:pt x="90" y="571"/>
                  </a:lnTo>
                  <a:lnTo>
                    <a:pt x="87" y="557"/>
                  </a:lnTo>
                  <a:lnTo>
                    <a:pt x="64" y="539"/>
                  </a:lnTo>
                  <a:lnTo>
                    <a:pt x="75" y="523"/>
                  </a:lnTo>
                  <a:lnTo>
                    <a:pt x="87" y="488"/>
                  </a:lnTo>
                  <a:lnTo>
                    <a:pt x="78" y="489"/>
                  </a:lnTo>
                  <a:lnTo>
                    <a:pt x="69" y="487"/>
                  </a:lnTo>
                  <a:lnTo>
                    <a:pt x="64" y="484"/>
                  </a:lnTo>
                  <a:lnTo>
                    <a:pt x="60" y="477"/>
                  </a:lnTo>
                  <a:lnTo>
                    <a:pt x="58" y="471"/>
                  </a:lnTo>
                  <a:lnTo>
                    <a:pt x="52" y="473"/>
                  </a:lnTo>
                  <a:lnTo>
                    <a:pt x="42" y="471"/>
                  </a:lnTo>
                  <a:lnTo>
                    <a:pt x="36" y="467"/>
                  </a:lnTo>
                  <a:lnTo>
                    <a:pt x="29" y="462"/>
                  </a:lnTo>
                  <a:lnTo>
                    <a:pt x="23" y="451"/>
                  </a:lnTo>
                  <a:lnTo>
                    <a:pt x="18" y="443"/>
                  </a:lnTo>
                  <a:lnTo>
                    <a:pt x="15" y="434"/>
                  </a:lnTo>
                  <a:lnTo>
                    <a:pt x="9" y="430"/>
                  </a:lnTo>
                  <a:lnTo>
                    <a:pt x="2" y="375"/>
                  </a:lnTo>
                  <a:lnTo>
                    <a:pt x="7" y="373"/>
                  </a:lnTo>
                  <a:lnTo>
                    <a:pt x="7" y="350"/>
                  </a:lnTo>
                  <a:lnTo>
                    <a:pt x="0" y="349"/>
                  </a:lnTo>
                  <a:lnTo>
                    <a:pt x="2" y="334"/>
                  </a:lnTo>
                  <a:lnTo>
                    <a:pt x="6" y="323"/>
                  </a:lnTo>
                  <a:lnTo>
                    <a:pt x="7" y="316"/>
                  </a:lnTo>
                  <a:lnTo>
                    <a:pt x="12" y="311"/>
                  </a:lnTo>
                  <a:lnTo>
                    <a:pt x="15" y="300"/>
                  </a:lnTo>
                  <a:lnTo>
                    <a:pt x="16" y="295"/>
                  </a:lnTo>
                  <a:lnTo>
                    <a:pt x="19" y="289"/>
                  </a:lnTo>
                  <a:lnTo>
                    <a:pt x="35" y="284"/>
                  </a:lnTo>
                  <a:lnTo>
                    <a:pt x="29" y="274"/>
                  </a:lnTo>
                  <a:lnTo>
                    <a:pt x="33" y="255"/>
                  </a:lnTo>
                  <a:lnTo>
                    <a:pt x="35" y="251"/>
                  </a:lnTo>
                  <a:lnTo>
                    <a:pt x="36" y="249"/>
                  </a:lnTo>
                  <a:lnTo>
                    <a:pt x="40" y="249"/>
                  </a:lnTo>
                  <a:lnTo>
                    <a:pt x="40" y="242"/>
                  </a:lnTo>
                  <a:lnTo>
                    <a:pt x="64" y="242"/>
                  </a:lnTo>
                  <a:lnTo>
                    <a:pt x="64" y="249"/>
                  </a:lnTo>
                  <a:lnTo>
                    <a:pt x="66" y="249"/>
                  </a:lnTo>
                  <a:lnTo>
                    <a:pt x="69" y="251"/>
                  </a:lnTo>
                  <a:lnTo>
                    <a:pt x="71" y="257"/>
                  </a:lnTo>
                  <a:lnTo>
                    <a:pt x="73" y="266"/>
                  </a:lnTo>
                  <a:lnTo>
                    <a:pt x="73" y="274"/>
                  </a:lnTo>
                  <a:lnTo>
                    <a:pt x="71" y="279"/>
                  </a:lnTo>
                  <a:lnTo>
                    <a:pt x="68" y="282"/>
                  </a:lnTo>
                  <a:lnTo>
                    <a:pt x="73" y="284"/>
                  </a:lnTo>
                  <a:lnTo>
                    <a:pt x="78" y="284"/>
                  </a:lnTo>
                  <a:lnTo>
                    <a:pt x="82" y="282"/>
                  </a:lnTo>
                  <a:lnTo>
                    <a:pt x="85" y="278"/>
                  </a:lnTo>
                  <a:lnTo>
                    <a:pt x="83" y="272"/>
                  </a:lnTo>
                  <a:lnTo>
                    <a:pt x="73" y="274"/>
                  </a:lnTo>
                  <a:lnTo>
                    <a:pt x="73" y="266"/>
                  </a:lnTo>
                  <a:lnTo>
                    <a:pt x="86" y="263"/>
                  </a:lnTo>
                  <a:lnTo>
                    <a:pt x="90" y="266"/>
                  </a:lnTo>
                  <a:lnTo>
                    <a:pt x="95" y="267"/>
                  </a:lnTo>
                  <a:lnTo>
                    <a:pt x="99" y="270"/>
                  </a:lnTo>
                  <a:lnTo>
                    <a:pt x="96" y="253"/>
                  </a:lnTo>
                  <a:lnTo>
                    <a:pt x="92" y="236"/>
                  </a:lnTo>
                  <a:lnTo>
                    <a:pt x="117" y="129"/>
                  </a:lnTo>
                  <a:lnTo>
                    <a:pt x="123" y="111"/>
                  </a:lnTo>
                  <a:lnTo>
                    <a:pt x="128" y="99"/>
                  </a:lnTo>
                  <a:lnTo>
                    <a:pt x="137" y="87"/>
                  </a:lnTo>
                  <a:lnTo>
                    <a:pt x="129" y="62"/>
                  </a:lnTo>
                  <a:lnTo>
                    <a:pt x="127" y="45"/>
                  </a:lnTo>
                  <a:lnTo>
                    <a:pt x="128" y="29"/>
                  </a:lnTo>
                  <a:lnTo>
                    <a:pt x="134" y="11"/>
                  </a:lnTo>
                  <a:lnTo>
                    <a:pt x="141" y="0"/>
                  </a:lnTo>
                  <a:close/>
                  <a:moveTo>
                    <a:pt x="98" y="286"/>
                  </a:moveTo>
                  <a:lnTo>
                    <a:pt x="90" y="292"/>
                  </a:lnTo>
                  <a:lnTo>
                    <a:pt x="94" y="296"/>
                  </a:lnTo>
                  <a:lnTo>
                    <a:pt x="96" y="301"/>
                  </a:lnTo>
                  <a:lnTo>
                    <a:pt x="98" y="296"/>
                  </a:lnTo>
                  <a:lnTo>
                    <a:pt x="99" y="291"/>
                  </a:lnTo>
                  <a:lnTo>
                    <a:pt x="98" y="2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3530520" y="3699000"/>
              <a:ext cx="219240" cy="258480"/>
            </a:xfrm>
            <a:custGeom>
              <a:avLst/>
              <a:gdLst/>
              <a:ahLst/>
              <a:rect l="l" t="t" r="r" b="b"/>
              <a:pathLst>
                <a:path w="691" h="814">
                  <a:moveTo>
                    <a:pt x="635" y="540"/>
                  </a:moveTo>
                  <a:lnTo>
                    <a:pt x="629" y="557"/>
                  </a:lnTo>
                  <a:lnTo>
                    <a:pt x="620" y="564"/>
                  </a:lnTo>
                  <a:lnTo>
                    <a:pt x="608" y="572"/>
                  </a:lnTo>
                  <a:lnTo>
                    <a:pt x="600" y="612"/>
                  </a:lnTo>
                  <a:lnTo>
                    <a:pt x="600" y="619"/>
                  </a:lnTo>
                  <a:lnTo>
                    <a:pt x="604" y="626"/>
                  </a:lnTo>
                  <a:lnTo>
                    <a:pt x="604" y="633"/>
                  </a:lnTo>
                  <a:lnTo>
                    <a:pt x="599" y="641"/>
                  </a:lnTo>
                  <a:lnTo>
                    <a:pt x="607" y="649"/>
                  </a:lnTo>
                  <a:lnTo>
                    <a:pt x="613" y="655"/>
                  </a:lnTo>
                  <a:lnTo>
                    <a:pt x="617" y="667"/>
                  </a:lnTo>
                  <a:lnTo>
                    <a:pt x="625" y="669"/>
                  </a:lnTo>
                  <a:lnTo>
                    <a:pt x="629" y="673"/>
                  </a:lnTo>
                  <a:lnTo>
                    <a:pt x="634" y="680"/>
                  </a:lnTo>
                  <a:lnTo>
                    <a:pt x="638" y="688"/>
                  </a:lnTo>
                  <a:lnTo>
                    <a:pt x="642" y="695"/>
                  </a:lnTo>
                  <a:lnTo>
                    <a:pt x="666" y="707"/>
                  </a:lnTo>
                  <a:lnTo>
                    <a:pt x="682" y="714"/>
                  </a:lnTo>
                  <a:lnTo>
                    <a:pt x="688" y="720"/>
                  </a:lnTo>
                  <a:lnTo>
                    <a:pt x="691" y="728"/>
                  </a:lnTo>
                  <a:lnTo>
                    <a:pt x="691" y="739"/>
                  </a:lnTo>
                  <a:lnTo>
                    <a:pt x="679" y="742"/>
                  </a:lnTo>
                  <a:lnTo>
                    <a:pt x="662" y="745"/>
                  </a:lnTo>
                  <a:lnTo>
                    <a:pt x="635" y="743"/>
                  </a:lnTo>
                  <a:lnTo>
                    <a:pt x="612" y="739"/>
                  </a:lnTo>
                  <a:lnTo>
                    <a:pt x="585" y="731"/>
                  </a:lnTo>
                  <a:lnTo>
                    <a:pt x="565" y="721"/>
                  </a:lnTo>
                  <a:lnTo>
                    <a:pt x="550" y="712"/>
                  </a:lnTo>
                  <a:lnTo>
                    <a:pt x="534" y="710"/>
                  </a:lnTo>
                  <a:lnTo>
                    <a:pt x="521" y="709"/>
                  </a:lnTo>
                  <a:lnTo>
                    <a:pt x="509" y="704"/>
                  </a:lnTo>
                  <a:lnTo>
                    <a:pt x="498" y="700"/>
                  </a:lnTo>
                  <a:lnTo>
                    <a:pt x="495" y="687"/>
                  </a:lnTo>
                  <a:lnTo>
                    <a:pt x="496" y="675"/>
                  </a:lnTo>
                  <a:lnTo>
                    <a:pt x="498" y="664"/>
                  </a:lnTo>
                  <a:lnTo>
                    <a:pt x="500" y="654"/>
                  </a:lnTo>
                  <a:lnTo>
                    <a:pt x="504" y="645"/>
                  </a:lnTo>
                  <a:lnTo>
                    <a:pt x="509" y="634"/>
                  </a:lnTo>
                  <a:lnTo>
                    <a:pt x="515" y="626"/>
                  </a:lnTo>
                  <a:lnTo>
                    <a:pt x="515" y="616"/>
                  </a:lnTo>
                  <a:lnTo>
                    <a:pt x="515" y="606"/>
                  </a:lnTo>
                  <a:lnTo>
                    <a:pt x="517" y="599"/>
                  </a:lnTo>
                  <a:lnTo>
                    <a:pt x="521" y="592"/>
                  </a:lnTo>
                  <a:lnTo>
                    <a:pt x="521" y="559"/>
                  </a:lnTo>
                  <a:lnTo>
                    <a:pt x="509" y="553"/>
                  </a:lnTo>
                  <a:lnTo>
                    <a:pt x="511" y="545"/>
                  </a:lnTo>
                  <a:lnTo>
                    <a:pt x="513" y="536"/>
                  </a:lnTo>
                  <a:lnTo>
                    <a:pt x="513" y="525"/>
                  </a:lnTo>
                  <a:lnTo>
                    <a:pt x="511" y="512"/>
                  </a:lnTo>
                  <a:lnTo>
                    <a:pt x="513" y="493"/>
                  </a:lnTo>
                  <a:lnTo>
                    <a:pt x="517" y="469"/>
                  </a:lnTo>
                  <a:lnTo>
                    <a:pt x="524" y="443"/>
                  </a:lnTo>
                  <a:lnTo>
                    <a:pt x="534" y="417"/>
                  </a:lnTo>
                  <a:lnTo>
                    <a:pt x="517" y="437"/>
                  </a:lnTo>
                  <a:lnTo>
                    <a:pt x="499" y="456"/>
                  </a:lnTo>
                  <a:lnTo>
                    <a:pt x="483" y="471"/>
                  </a:lnTo>
                  <a:lnTo>
                    <a:pt x="466" y="488"/>
                  </a:lnTo>
                  <a:lnTo>
                    <a:pt x="450" y="501"/>
                  </a:lnTo>
                  <a:lnTo>
                    <a:pt x="431" y="517"/>
                  </a:lnTo>
                  <a:lnTo>
                    <a:pt x="412" y="530"/>
                  </a:lnTo>
                  <a:lnTo>
                    <a:pt x="390" y="543"/>
                  </a:lnTo>
                  <a:lnTo>
                    <a:pt x="369" y="555"/>
                  </a:lnTo>
                  <a:lnTo>
                    <a:pt x="349" y="563"/>
                  </a:lnTo>
                  <a:lnTo>
                    <a:pt x="329" y="571"/>
                  </a:lnTo>
                  <a:lnTo>
                    <a:pt x="311" y="577"/>
                  </a:lnTo>
                  <a:lnTo>
                    <a:pt x="294" y="643"/>
                  </a:lnTo>
                  <a:lnTo>
                    <a:pt x="292" y="661"/>
                  </a:lnTo>
                  <a:lnTo>
                    <a:pt x="290" y="680"/>
                  </a:lnTo>
                  <a:lnTo>
                    <a:pt x="287" y="696"/>
                  </a:lnTo>
                  <a:lnTo>
                    <a:pt x="283" y="712"/>
                  </a:lnTo>
                  <a:lnTo>
                    <a:pt x="278" y="728"/>
                  </a:lnTo>
                  <a:lnTo>
                    <a:pt x="269" y="743"/>
                  </a:lnTo>
                  <a:lnTo>
                    <a:pt x="261" y="757"/>
                  </a:lnTo>
                  <a:lnTo>
                    <a:pt x="250" y="767"/>
                  </a:lnTo>
                  <a:lnTo>
                    <a:pt x="248" y="779"/>
                  </a:lnTo>
                  <a:lnTo>
                    <a:pt x="241" y="791"/>
                  </a:lnTo>
                  <a:lnTo>
                    <a:pt x="229" y="800"/>
                  </a:lnTo>
                  <a:lnTo>
                    <a:pt x="212" y="808"/>
                  </a:lnTo>
                  <a:lnTo>
                    <a:pt x="188" y="814"/>
                  </a:lnTo>
                  <a:lnTo>
                    <a:pt x="167" y="814"/>
                  </a:lnTo>
                  <a:lnTo>
                    <a:pt x="146" y="809"/>
                  </a:lnTo>
                  <a:lnTo>
                    <a:pt x="131" y="804"/>
                  </a:lnTo>
                  <a:lnTo>
                    <a:pt x="119" y="795"/>
                  </a:lnTo>
                  <a:lnTo>
                    <a:pt x="110" y="786"/>
                  </a:lnTo>
                  <a:lnTo>
                    <a:pt x="100" y="783"/>
                  </a:lnTo>
                  <a:lnTo>
                    <a:pt x="89" y="765"/>
                  </a:lnTo>
                  <a:lnTo>
                    <a:pt x="82" y="743"/>
                  </a:lnTo>
                  <a:lnTo>
                    <a:pt x="76" y="725"/>
                  </a:lnTo>
                  <a:lnTo>
                    <a:pt x="73" y="703"/>
                  </a:lnTo>
                  <a:lnTo>
                    <a:pt x="73" y="682"/>
                  </a:lnTo>
                  <a:lnTo>
                    <a:pt x="69" y="646"/>
                  </a:lnTo>
                  <a:lnTo>
                    <a:pt x="80" y="625"/>
                  </a:lnTo>
                  <a:lnTo>
                    <a:pt x="85" y="597"/>
                  </a:lnTo>
                  <a:lnTo>
                    <a:pt x="94" y="587"/>
                  </a:lnTo>
                  <a:lnTo>
                    <a:pt x="90" y="571"/>
                  </a:lnTo>
                  <a:lnTo>
                    <a:pt x="87" y="557"/>
                  </a:lnTo>
                  <a:lnTo>
                    <a:pt x="64" y="539"/>
                  </a:lnTo>
                  <a:lnTo>
                    <a:pt x="75" y="523"/>
                  </a:lnTo>
                  <a:lnTo>
                    <a:pt x="87" y="488"/>
                  </a:lnTo>
                  <a:lnTo>
                    <a:pt x="78" y="489"/>
                  </a:lnTo>
                  <a:lnTo>
                    <a:pt x="69" y="487"/>
                  </a:lnTo>
                  <a:lnTo>
                    <a:pt x="64" y="484"/>
                  </a:lnTo>
                  <a:lnTo>
                    <a:pt x="60" y="477"/>
                  </a:lnTo>
                  <a:lnTo>
                    <a:pt x="58" y="471"/>
                  </a:lnTo>
                  <a:lnTo>
                    <a:pt x="52" y="473"/>
                  </a:lnTo>
                  <a:lnTo>
                    <a:pt x="42" y="471"/>
                  </a:lnTo>
                  <a:lnTo>
                    <a:pt x="36" y="467"/>
                  </a:lnTo>
                  <a:lnTo>
                    <a:pt x="29" y="462"/>
                  </a:lnTo>
                  <a:lnTo>
                    <a:pt x="23" y="451"/>
                  </a:lnTo>
                  <a:lnTo>
                    <a:pt x="18" y="443"/>
                  </a:lnTo>
                  <a:lnTo>
                    <a:pt x="15" y="434"/>
                  </a:lnTo>
                  <a:lnTo>
                    <a:pt x="9" y="430"/>
                  </a:lnTo>
                  <a:lnTo>
                    <a:pt x="2" y="375"/>
                  </a:lnTo>
                  <a:lnTo>
                    <a:pt x="7" y="373"/>
                  </a:lnTo>
                  <a:lnTo>
                    <a:pt x="7" y="350"/>
                  </a:lnTo>
                  <a:lnTo>
                    <a:pt x="0" y="349"/>
                  </a:lnTo>
                  <a:lnTo>
                    <a:pt x="2" y="334"/>
                  </a:lnTo>
                  <a:lnTo>
                    <a:pt x="6" y="323"/>
                  </a:lnTo>
                  <a:lnTo>
                    <a:pt x="7" y="316"/>
                  </a:lnTo>
                  <a:lnTo>
                    <a:pt x="12" y="311"/>
                  </a:lnTo>
                  <a:lnTo>
                    <a:pt x="15" y="300"/>
                  </a:lnTo>
                  <a:lnTo>
                    <a:pt x="16" y="295"/>
                  </a:lnTo>
                  <a:lnTo>
                    <a:pt x="19" y="289"/>
                  </a:lnTo>
                  <a:lnTo>
                    <a:pt x="35" y="284"/>
                  </a:lnTo>
                  <a:lnTo>
                    <a:pt x="29" y="274"/>
                  </a:lnTo>
                  <a:lnTo>
                    <a:pt x="33" y="255"/>
                  </a:lnTo>
                  <a:lnTo>
                    <a:pt x="35" y="251"/>
                  </a:lnTo>
                  <a:lnTo>
                    <a:pt x="36" y="249"/>
                  </a:lnTo>
                  <a:lnTo>
                    <a:pt x="40" y="249"/>
                  </a:lnTo>
                  <a:lnTo>
                    <a:pt x="40" y="242"/>
                  </a:lnTo>
                  <a:lnTo>
                    <a:pt x="64" y="242"/>
                  </a:lnTo>
                  <a:lnTo>
                    <a:pt x="64" y="249"/>
                  </a:lnTo>
                  <a:lnTo>
                    <a:pt x="66" y="249"/>
                  </a:lnTo>
                  <a:lnTo>
                    <a:pt x="69" y="251"/>
                  </a:lnTo>
                  <a:lnTo>
                    <a:pt x="71" y="257"/>
                  </a:lnTo>
                  <a:lnTo>
                    <a:pt x="73" y="266"/>
                  </a:lnTo>
                  <a:lnTo>
                    <a:pt x="73" y="274"/>
                  </a:lnTo>
                  <a:lnTo>
                    <a:pt x="71" y="279"/>
                  </a:lnTo>
                  <a:lnTo>
                    <a:pt x="68" y="282"/>
                  </a:lnTo>
                  <a:lnTo>
                    <a:pt x="73" y="284"/>
                  </a:lnTo>
                  <a:lnTo>
                    <a:pt x="78" y="284"/>
                  </a:lnTo>
                  <a:lnTo>
                    <a:pt x="82" y="282"/>
                  </a:lnTo>
                  <a:lnTo>
                    <a:pt x="85" y="278"/>
                  </a:lnTo>
                  <a:lnTo>
                    <a:pt x="83" y="272"/>
                  </a:lnTo>
                  <a:lnTo>
                    <a:pt x="73" y="274"/>
                  </a:lnTo>
                  <a:lnTo>
                    <a:pt x="73" y="266"/>
                  </a:lnTo>
                  <a:lnTo>
                    <a:pt x="86" y="263"/>
                  </a:lnTo>
                  <a:lnTo>
                    <a:pt x="90" y="266"/>
                  </a:lnTo>
                  <a:lnTo>
                    <a:pt x="95" y="267"/>
                  </a:lnTo>
                  <a:lnTo>
                    <a:pt x="99" y="270"/>
                  </a:lnTo>
                  <a:lnTo>
                    <a:pt x="96" y="253"/>
                  </a:lnTo>
                  <a:lnTo>
                    <a:pt x="92" y="236"/>
                  </a:lnTo>
                  <a:lnTo>
                    <a:pt x="117" y="129"/>
                  </a:lnTo>
                  <a:lnTo>
                    <a:pt x="123" y="111"/>
                  </a:lnTo>
                  <a:lnTo>
                    <a:pt x="128" y="99"/>
                  </a:lnTo>
                  <a:lnTo>
                    <a:pt x="137" y="87"/>
                  </a:lnTo>
                  <a:lnTo>
                    <a:pt x="129" y="62"/>
                  </a:lnTo>
                  <a:lnTo>
                    <a:pt x="127" y="45"/>
                  </a:lnTo>
                  <a:lnTo>
                    <a:pt x="128" y="29"/>
                  </a:lnTo>
                  <a:lnTo>
                    <a:pt x="134" y="11"/>
                  </a:lnTo>
                  <a:lnTo>
                    <a:pt x="141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3306600" y="3984480"/>
              <a:ext cx="293760" cy="341280"/>
            </a:xfrm>
            <a:custGeom>
              <a:avLst/>
              <a:gdLst/>
              <a:ahLst/>
              <a:rect l="l" t="t" r="r" b="b"/>
              <a:pathLst>
                <a:path w="924" h="1074">
                  <a:moveTo>
                    <a:pt x="489" y="527"/>
                  </a:moveTo>
                  <a:lnTo>
                    <a:pt x="506" y="514"/>
                  </a:lnTo>
                  <a:lnTo>
                    <a:pt x="521" y="505"/>
                  </a:lnTo>
                  <a:lnTo>
                    <a:pt x="536" y="496"/>
                  </a:lnTo>
                  <a:lnTo>
                    <a:pt x="553" y="489"/>
                  </a:lnTo>
                  <a:lnTo>
                    <a:pt x="522" y="469"/>
                  </a:lnTo>
                  <a:lnTo>
                    <a:pt x="509" y="460"/>
                  </a:lnTo>
                  <a:lnTo>
                    <a:pt x="493" y="448"/>
                  </a:lnTo>
                  <a:lnTo>
                    <a:pt x="494" y="468"/>
                  </a:lnTo>
                  <a:lnTo>
                    <a:pt x="492" y="486"/>
                  </a:lnTo>
                  <a:lnTo>
                    <a:pt x="489" y="527"/>
                  </a:lnTo>
                  <a:close/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3" y="725"/>
                  </a:lnTo>
                  <a:lnTo>
                    <a:pt x="640" y="780"/>
                  </a:lnTo>
                  <a:lnTo>
                    <a:pt x="630" y="818"/>
                  </a:lnTo>
                  <a:lnTo>
                    <a:pt x="619" y="824"/>
                  </a:lnTo>
                  <a:lnTo>
                    <a:pt x="607" y="832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3" y="886"/>
                  </a:lnTo>
                  <a:lnTo>
                    <a:pt x="603" y="893"/>
                  </a:lnTo>
                  <a:lnTo>
                    <a:pt x="598" y="902"/>
                  </a:lnTo>
                  <a:lnTo>
                    <a:pt x="606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30" y="933"/>
                  </a:lnTo>
                  <a:lnTo>
                    <a:pt x="634" y="941"/>
                  </a:lnTo>
                  <a:lnTo>
                    <a:pt x="638" y="948"/>
                  </a:lnTo>
                  <a:lnTo>
                    <a:pt x="642" y="955"/>
                  </a:lnTo>
                  <a:lnTo>
                    <a:pt x="665" y="968"/>
                  </a:lnTo>
                  <a:lnTo>
                    <a:pt x="681" y="974"/>
                  </a:lnTo>
                  <a:lnTo>
                    <a:pt x="687" y="980"/>
                  </a:lnTo>
                  <a:lnTo>
                    <a:pt x="690" y="988"/>
                  </a:lnTo>
                  <a:lnTo>
                    <a:pt x="690" y="999"/>
                  </a:lnTo>
                  <a:lnTo>
                    <a:pt x="678" y="1002"/>
                  </a:lnTo>
                  <a:lnTo>
                    <a:pt x="661" y="1006"/>
                  </a:lnTo>
                  <a:lnTo>
                    <a:pt x="635" y="1004"/>
                  </a:lnTo>
                  <a:lnTo>
                    <a:pt x="611" y="999"/>
                  </a:lnTo>
                  <a:lnTo>
                    <a:pt x="584" y="992"/>
                  </a:lnTo>
                  <a:lnTo>
                    <a:pt x="564" y="981"/>
                  </a:lnTo>
                  <a:lnTo>
                    <a:pt x="549" y="972"/>
                  </a:lnTo>
                  <a:lnTo>
                    <a:pt x="534" y="970"/>
                  </a:lnTo>
                  <a:lnTo>
                    <a:pt x="521" y="969"/>
                  </a:lnTo>
                  <a:lnTo>
                    <a:pt x="509" y="965"/>
                  </a:lnTo>
                  <a:lnTo>
                    <a:pt x="497" y="960"/>
                  </a:lnTo>
                  <a:lnTo>
                    <a:pt x="494" y="947"/>
                  </a:lnTo>
                  <a:lnTo>
                    <a:pt x="495" y="935"/>
                  </a:lnTo>
                  <a:lnTo>
                    <a:pt x="497" y="924"/>
                  </a:lnTo>
                  <a:lnTo>
                    <a:pt x="499" y="914"/>
                  </a:lnTo>
                  <a:lnTo>
                    <a:pt x="503" y="905"/>
                  </a:lnTo>
                  <a:lnTo>
                    <a:pt x="509" y="894"/>
                  </a:lnTo>
                  <a:lnTo>
                    <a:pt x="514" y="886"/>
                  </a:lnTo>
                  <a:lnTo>
                    <a:pt x="514" y="876"/>
                  </a:lnTo>
                  <a:lnTo>
                    <a:pt x="514" y="866"/>
                  </a:lnTo>
                  <a:lnTo>
                    <a:pt x="517" y="860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9" y="813"/>
                  </a:lnTo>
                  <a:lnTo>
                    <a:pt x="510" y="805"/>
                  </a:lnTo>
                  <a:lnTo>
                    <a:pt x="513" y="797"/>
                  </a:lnTo>
                  <a:lnTo>
                    <a:pt x="513" y="785"/>
                  </a:lnTo>
                  <a:lnTo>
                    <a:pt x="510" y="773"/>
                  </a:lnTo>
                  <a:lnTo>
                    <a:pt x="513" y="754"/>
                  </a:lnTo>
                  <a:lnTo>
                    <a:pt x="517" y="729"/>
                  </a:lnTo>
                  <a:lnTo>
                    <a:pt x="523" y="703"/>
                  </a:lnTo>
                  <a:lnTo>
                    <a:pt x="534" y="677"/>
                  </a:lnTo>
                  <a:lnTo>
                    <a:pt x="517" y="697"/>
                  </a:lnTo>
                  <a:lnTo>
                    <a:pt x="498" y="716"/>
                  </a:lnTo>
                  <a:lnTo>
                    <a:pt x="483" y="732"/>
                  </a:lnTo>
                  <a:lnTo>
                    <a:pt x="465" y="748"/>
                  </a:lnTo>
                  <a:lnTo>
                    <a:pt x="450" y="761"/>
                  </a:lnTo>
                  <a:lnTo>
                    <a:pt x="430" y="777"/>
                  </a:lnTo>
                  <a:lnTo>
                    <a:pt x="411" y="790"/>
                  </a:lnTo>
                  <a:lnTo>
                    <a:pt x="389" y="804"/>
                  </a:lnTo>
                  <a:lnTo>
                    <a:pt x="368" y="816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0" y="838"/>
                  </a:lnTo>
                  <a:lnTo>
                    <a:pt x="293" y="903"/>
                  </a:lnTo>
                  <a:lnTo>
                    <a:pt x="292" y="922"/>
                  </a:lnTo>
                  <a:lnTo>
                    <a:pt x="289" y="941"/>
                  </a:lnTo>
                  <a:lnTo>
                    <a:pt x="287" y="956"/>
                  </a:lnTo>
                  <a:lnTo>
                    <a:pt x="282" y="972"/>
                  </a:lnTo>
                  <a:lnTo>
                    <a:pt x="277" y="988"/>
                  </a:lnTo>
                  <a:lnTo>
                    <a:pt x="268" y="1004"/>
                  </a:lnTo>
                  <a:lnTo>
                    <a:pt x="260" y="1017"/>
                  </a:lnTo>
                  <a:lnTo>
                    <a:pt x="250" y="1028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0"/>
                  </a:lnTo>
                  <a:lnTo>
                    <a:pt x="130" y="1064"/>
                  </a:lnTo>
                  <a:lnTo>
                    <a:pt x="118" y="1055"/>
                  </a:lnTo>
                  <a:lnTo>
                    <a:pt x="109" y="1047"/>
                  </a:lnTo>
                  <a:lnTo>
                    <a:pt x="99" y="1043"/>
                  </a:lnTo>
                  <a:lnTo>
                    <a:pt x="88" y="1026"/>
                  </a:lnTo>
                  <a:lnTo>
                    <a:pt x="81" y="1004"/>
                  </a:lnTo>
                  <a:lnTo>
                    <a:pt x="76" y="986"/>
                  </a:lnTo>
                  <a:lnTo>
                    <a:pt x="72" y="964"/>
                  </a:lnTo>
                  <a:lnTo>
                    <a:pt x="72" y="943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8"/>
                  </a:lnTo>
                  <a:lnTo>
                    <a:pt x="93" y="847"/>
                  </a:lnTo>
                  <a:lnTo>
                    <a:pt x="90" y="831"/>
                  </a:lnTo>
                  <a:lnTo>
                    <a:pt x="87" y="818"/>
                  </a:lnTo>
                  <a:lnTo>
                    <a:pt x="63" y="800"/>
                  </a:lnTo>
                  <a:lnTo>
                    <a:pt x="75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8" y="747"/>
                  </a:lnTo>
                  <a:lnTo>
                    <a:pt x="63" y="744"/>
                  </a:lnTo>
                  <a:lnTo>
                    <a:pt x="59" y="738"/>
                  </a:lnTo>
                  <a:lnTo>
                    <a:pt x="57" y="732"/>
                  </a:lnTo>
                  <a:lnTo>
                    <a:pt x="51" y="734"/>
                  </a:lnTo>
                  <a:lnTo>
                    <a:pt x="42" y="732"/>
                  </a:lnTo>
                  <a:lnTo>
                    <a:pt x="35" y="727"/>
                  </a:lnTo>
                  <a:lnTo>
                    <a:pt x="28" y="722"/>
                  </a:lnTo>
                  <a:lnTo>
                    <a:pt x="22" y="712"/>
                  </a:lnTo>
                  <a:lnTo>
                    <a:pt x="17" y="703"/>
                  </a:lnTo>
                  <a:lnTo>
                    <a:pt x="14" y="694"/>
                  </a:lnTo>
                  <a:lnTo>
                    <a:pt x="9" y="692"/>
                  </a:lnTo>
                  <a:lnTo>
                    <a:pt x="1" y="635"/>
                  </a:lnTo>
                  <a:lnTo>
                    <a:pt x="6" y="634"/>
                  </a:lnTo>
                  <a:lnTo>
                    <a:pt x="6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5" y="584"/>
                  </a:lnTo>
                  <a:lnTo>
                    <a:pt x="6" y="576"/>
                  </a:lnTo>
                  <a:lnTo>
                    <a:pt x="11" y="571"/>
                  </a:lnTo>
                  <a:lnTo>
                    <a:pt x="14" y="560"/>
                  </a:lnTo>
                  <a:lnTo>
                    <a:pt x="15" y="555"/>
                  </a:lnTo>
                  <a:lnTo>
                    <a:pt x="18" y="550"/>
                  </a:lnTo>
                  <a:lnTo>
                    <a:pt x="34" y="546"/>
                  </a:lnTo>
                  <a:lnTo>
                    <a:pt x="28" y="534"/>
                  </a:lnTo>
                  <a:lnTo>
                    <a:pt x="33" y="515"/>
                  </a:lnTo>
                  <a:lnTo>
                    <a:pt x="34" y="511"/>
                  </a:lnTo>
                  <a:lnTo>
                    <a:pt x="35" y="509"/>
                  </a:lnTo>
                  <a:lnTo>
                    <a:pt x="39" y="509"/>
                  </a:lnTo>
                  <a:lnTo>
                    <a:pt x="39" y="504"/>
                  </a:lnTo>
                  <a:lnTo>
                    <a:pt x="63" y="504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1"/>
                  </a:lnTo>
                  <a:lnTo>
                    <a:pt x="71" y="517"/>
                  </a:lnTo>
                  <a:lnTo>
                    <a:pt x="72" y="526"/>
                  </a:lnTo>
                  <a:lnTo>
                    <a:pt x="72" y="534"/>
                  </a:lnTo>
                  <a:lnTo>
                    <a:pt x="71" y="539"/>
                  </a:lnTo>
                  <a:lnTo>
                    <a:pt x="67" y="543"/>
                  </a:lnTo>
                  <a:lnTo>
                    <a:pt x="72" y="546"/>
                  </a:lnTo>
                  <a:lnTo>
                    <a:pt x="77" y="546"/>
                  </a:lnTo>
                  <a:lnTo>
                    <a:pt x="81" y="543"/>
                  </a:lnTo>
                  <a:lnTo>
                    <a:pt x="84" y="538"/>
                  </a:lnTo>
                  <a:lnTo>
                    <a:pt x="83" y="532"/>
                  </a:lnTo>
                  <a:lnTo>
                    <a:pt x="72" y="534"/>
                  </a:lnTo>
                  <a:lnTo>
                    <a:pt x="72" y="526"/>
                  </a:lnTo>
                  <a:lnTo>
                    <a:pt x="85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8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2" y="371"/>
                  </a:lnTo>
                  <a:lnTo>
                    <a:pt x="127" y="359"/>
                  </a:lnTo>
                  <a:lnTo>
                    <a:pt x="136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7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9" y="231"/>
                  </a:lnTo>
                  <a:lnTo>
                    <a:pt x="177" y="214"/>
                  </a:lnTo>
                  <a:lnTo>
                    <a:pt x="195" y="202"/>
                  </a:lnTo>
                  <a:lnTo>
                    <a:pt x="206" y="192"/>
                  </a:lnTo>
                  <a:lnTo>
                    <a:pt x="218" y="185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2" y="185"/>
                  </a:lnTo>
                  <a:lnTo>
                    <a:pt x="281" y="179"/>
                  </a:lnTo>
                  <a:lnTo>
                    <a:pt x="284" y="169"/>
                  </a:lnTo>
                  <a:lnTo>
                    <a:pt x="280" y="152"/>
                  </a:lnTo>
                  <a:lnTo>
                    <a:pt x="282" y="151"/>
                  </a:lnTo>
                  <a:lnTo>
                    <a:pt x="280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5"/>
                  </a:lnTo>
                  <a:lnTo>
                    <a:pt x="289" y="54"/>
                  </a:lnTo>
                  <a:lnTo>
                    <a:pt x="301" y="39"/>
                  </a:lnTo>
                  <a:lnTo>
                    <a:pt x="310" y="29"/>
                  </a:lnTo>
                  <a:lnTo>
                    <a:pt x="337" y="14"/>
                  </a:lnTo>
                  <a:lnTo>
                    <a:pt x="356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30" y="2"/>
                  </a:lnTo>
                  <a:lnTo>
                    <a:pt x="443" y="6"/>
                  </a:lnTo>
                  <a:lnTo>
                    <a:pt x="453" y="12"/>
                  </a:lnTo>
                  <a:lnTo>
                    <a:pt x="465" y="23"/>
                  </a:lnTo>
                  <a:lnTo>
                    <a:pt x="474" y="38"/>
                  </a:lnTo>
                  <a:lnTo>
                    <a:pt x="489" y="65"/>
                  </a:lnTo>
                  <a:lnTo>
                    <a:pt x="503" y="99"/>
                  </a:lnTo>
                  <a:lnTo>
                    <a:pt x="511" y="107"/>
                  </a:lnTo>
                  <a:lnTo>
                    <a:pt x="514" y="114"/>
                  </a:lnTo>
                  <a:lnTo>
                    <a:pt x="513" y="120"/>
                  </a:lnTo>
                  <a:lnTo>
                    <a:pt x="506" y="126"/>
                  </a:lnTo>
                  <a:lnTo>
                    <a:pt x="485" y="133"/>
                  </a:lnTo>
                  <a:lnTo>
                    <a:pt x="487" y="151"/>
                  </a:lnTo>
                  <a:lnTo>
                    <a:pt x="489" y="168"/>
                  </a:lnTo>
                  <a:lnTo>
                    <a:pt x="489" y="180"/>
                  </a:lnTo>
                  <a:lnTo>
                    <a:pt x="498" y="181"/>
                  </a:lnTo>
                  <a:lnTo>
                    <a:pt x="511" y="206"/>
                  </a:lnTo>
                  <a:lnTo>
                    <a:pt x="606" y="306"/>
                  </a:lnTo>
                  <a:lnTo>
                    <a:pt x="611" y="314"/>
                  </a:lnTo>
                  <a:lnTo>
                    <a:pt x="612" y="321"/>
                  </a:lnTo>
                  <a:lnTo>
                    <a:pt x="611" y="327"/>
                  </a:lnTo>
                  <a:lnTo>
                    <a:pt x="606" y="332"/>
                  </a:lnTo>
                  <a:lnTo>
                    <a:pt x="602" y="334"/>
                  </a:lnTo>
                  <a:lnTo>
                    <a:pt x="602" y="340"/>
                  </a:lnTo>
                  <a:lnTo>
                    <a:pt x="599" y="347"/>
                  </a:lnTo>
                  <a:lnTo>
                    <a:pt x="595" y="351"/>
                  </a:lnTo>
                  <a:lnTo>
                    <a:pt x="599" y="356"/>
                  </a:lnTo>
                  <a:lnTo>
                    <a:pt x="602" y="361"/>
                  </a:lnTo>
                  <a:lnTo>
                    <a:pt x="607" y="370"/>
                  </a:lnTo>
                  <a:lnTo>
                    <a:pt x="619" y="377"/>
                  </a:lnTo>
                  <a:lnTo>
                    <a:pt x="627" y="382"/>
                  </a:lnTo>
                  <a:lnTo>
                    <a:pt x="636" y="389"/>
                  </a:lnTo>
                  <a:lnTo>
                    <a:pt x="644" y="396"/>
                  </a:lnTo>
                  <a:lnTo>
                    <a:pt x="666" y="388"/>
                  </a:lnTo>
                  <a:lnTo>
                    <a:pt x="680" y="385"/>
                  </a:lnTo>
                  <a:lnTo>
                    <a:pt x="693" y="382"/>
                  </a:lnTo>
                  <a:lnTo>
                    <a:pt x="701" y="380"/>
                  </a:lnTo>
                  <a:lnTo>
                    <a:pt x="736" y="356"/>
                  </a:lnTo>
                  <a:lnTo>
                    <a:pt x="781" y="306"/>
                  </a:lnTo>
                  <a:lnTo>
                    <a:pt x="786" y="308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8" y="266"/>
                  </a:lnTo>
                  <a:lnTo>
                    <a:pt x="824" y="257"/>
                  </a:lnTo>
                  <a:lnTo>
                    <a:pt x="924" y="255"/>
                  </a:lnTo>
                  <a:lnTo>
                    <a:pt x="858" y="293"/>
                  </a:lnTo>
                  <a:lnTo>
                    <a:pt x="845" y="306"/>
                  </a:lnTo>
                  <a:lnTo>
                    <a:pt x="826" y="339"/>
                  </a:lnTo>
                  <a:lnTo>
                    <a:pt x="828" y="347"/>
                  </a:lnTo>
                  <a:lnTo>
                    <a:pt x="778" y="433"/>
                  </a:lnTo>
                  <a:lnTo>
                    <a:pt x="762" y="477"/>
                  </a:lnTo>
                  <a:lnTo>
                    <a:pt x="743" y="493"/>
                  </a:lnTo>
                  <a:lnTo>
                    <a:pt x="723" y="506"/>
                  </a:lnTo>
                  <a:lnTo>
                    <a:pt x="698" y="517"/>
                  </a:lnTo>
                  <a:lnTo>
                    <a:pt x="681" y="521"/>
                  </a:lnTo>
                  <a:lnTo>
                    <a:pt x="666" y="522"/>
                  </a:lnTo>
                  <a:close/>
                  <a:moveTo>
                    <a:pt x="97" y="546"/>
                  </a:moveTo>
                  <a:lnTo>
                    <a:pt x="90" y="552"/>
                  </a:lnTo>
                  <a:lnTo>
                    <a:pt x="93" y="556"/>
                  </a:lnTo>
                  <a:lnTo>
                    <a:pt x="95" y="561"/>
                  </a:lnTo>
                  <a:lnTo>
                    <a:pt x="97" y="556"/>
                  </a:lnTo>
                  <a:lnTo>
                    <a:pt x="98" y="551"/>
                  </a:lnTo>
                  <a:lnTo>
                    <a:pt x="97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3306600" y="3984480"/>
              <a:ext cx="293760" cy="341280"/>
            </a:xfrm>
            <a:custGeom>
              <a:avLst/>
              <a:gdLst/>
              <a:ahLst/>
              <a:rect l="l" t="t" r="r" b="b"/>
              <a:pathLst>
                <a:path w="924" h="1074"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3" y="725"/>
                  </a:lnTo>
                  <a:lnTo>
                    <a:pt x="640" y="780"/>
                  </a:lnTo>
                  <a:lnTo>
                    <a:pt x="630" y="818"/>
                  </a:lnTo>
                  <a:lnTo>
                    <a:pt x="619" y="824"/>
                  </a:lnTo>
                  <a:lnTo>
                    <a:pt x="607" y="832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3" y="886"/>
                  </a:lnTo>
                  <a:lnTo>
                    <a:pt x="603" y="893"/>
                  </a:lnTo>
                  <a:lnTo>
                    <a:pt x="598" y="902"/>
                  </a:lnTo>
                  <a:lnTo>
                    <a:pt x="606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30" y="933"/>
                  </a:lnTo>
                  <a:lnTo>
                    <a:pt x="634" y="941"/>
                  </a:lnTo>
                  <a:lnTo>
                    <a:pt x="638" y="948"/>
                  </a:lnTo>
                  <a:lnTo>
                    <a:pt x="642" y="955"/>
                  </a:lnTo>
                  <a:lnTo>
                    <a:pt x="665" y="968"/>
                  </a:lnTo>
                  <a:lnTo>
                    <a:pt x="681" y="974"/>
                  </a:lnTo>
                  <a:lnTo>
                    <a:pt x="687" y="980"/>
                  </a:lnTo>
                  <a:lnTo>
                    <a:pt x="690" y="988"/>
                  </a:lnTo>
                  <a:lnTo>
                    <a:pt x="690" y="999"/>
                  </a:lnTo>
                  <a:lnTo>
                    <a:pt x="678" y="1002"/>
                  </a:lnTo>
                  <a:lnTo>
                    <a:pt x="661" y="1006"/>
                  </a:lnTo>
                  <a:lnTo>
                    <a:pt x="635" y="1004"/>
                  </a:lnTo>
                  <a:lnTo>
                    <a:pt x="611" y="999"/>
                  </a:lnTo>
                  <a:lnTo>
                    <a:pt x="584" y="992"/>
                  </a:lnTo>
                  <a:lnTo>
                    <a:pt x="564" y="981"/>
                  </a:lnTo>
                  <a:lnTo>
                    <a:pt x="549" y="972"/>
                  </a:lnTo>
                  <a:lnTo>
                    <a:pt x="534" y="970"/>
                  </a:lnTo>
                  <a:lnTo>
                    <a:pt x="521" y="969"/>
                  </a:lnTo>
                  <a:lnTo>
                    <a:pt x="509" y="965"/>
                  </a:lnTo>
                  <a:lnTo>
                    <a:pt x="497" y="960"/>
                  </a:lnTo>
                  <a:lnTo>
                    <a:pt x="494" y="947"/>
                  </a:lnTo>
                  <a:lnTo>
                    <a:pt x="495" y="935"/>
                  </a:lnTo>
                  <a:lnTo>
                    <a:pt x="497" y="924"/>
                  </a:lnTo>
                  <a:lnTo>
                    <a:pt x="499" y="914"/>
                  </a:lnTo>
                  <a:lnTo>
                    <a:pt x="503" y="905"/>
                  </a:lnTo>
                  <a:lnTo>
                    <a:pt x="509" y="894"/>
                  </a:lnTo>
                  <a:lnTo>
                    <a:pt x="514" y="886"/>
                  </a:lnTo>
                  <a:lnTo>
                    <a:pt x="514" y="876"/>
                  </a:lnTo>
                  <a:lnTo>
                    <a:pt x="514" y="866"/>
                  </a:lnTo>
                  <a:lnTo>
                    <a:pt x="517" y="860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9" y="813"/>
                  </a:lnTo>
                  <a:lnTo>
                    <a:pt x="510" y="805"/>
                  </a:lnTo>
                  <a:lnTo>
                    <a:pt x="513" y="797"/>
                  </a:lnTo>
                  <a:lnTo>
                    <a:pt x="513" y="785"/>
                  </a:lnTo>
                  <a:lnTo>
                    <a:pt x="510" y="773"/>
                  </a:lnTo>
                  <a:lnTo>
                    <a:pt x="513" y="754"/>
                  </a:lnTo>
                  <a:lnTo>
                    <a:pt x="517" y="729"/>
                  </a:lnTo>
                  <a:lnTo>
                    <a:pt x="523" y="703"/>
                  </a:lnTo>
                  <a:lnTo>
                    <a:pt x="534" y="677"/>
                  </a:lnTo>
                  <a:lnTo>
                    <a:pt x="517" y="697"/>
                  </a:lnTo>
                  <a:lnTo>
                    <a:pt x="498" y="716"/>
                  </a:lnTo>
                  <a:lnTo>
                    <a:pt x="483" y="732"/>
                  </a:lnTo>
                  <a:lnTo>
                    <a:pt x="465" y="748"/>
                  </a:lnTo>
                  <a:lnTo>
                    <a:pt x="450" y="761"/>
                  </a:lnTo>
                  <a:lnTo>
                    <a:pt x="430" y="777"/>
                  </a:lnTo>
                  <a:lnTo>
                    <a:pt x="411" y="790"/>
                  </a:lnTo>
                  <a:lnTo>
                    <a:pt x="389" y="804"/>
                  </a:lnTo>
                  <a:lnTo>
                    <a:pt x="368" y="816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0" y="838"/>
                  </a:lnTo>
                  <a:lnTo>
                    <a:pt x="293" y="903"/>
                  </a:lnTo>
                  <a:lnTo>
                    <a:pt x="292" y="922"/>
                  </a:lnTo>
                  <a:lnTo>
                    <a:pt x="289" y="941"/>
                  </a:lnTo>
                  <a:lnTo>
                    <a:pt x="287" y="956"/>
                  </a:lnTo>
                  <a:lnTo>
                    <a:pt x="282" y="972"/>
                  </a:lnTo>
                  <a:lnTo>
                    <a:pt x="277" y="988"/>
                  </a:lnTo>
                  <a:lnTo>
                    <a:pt x="268" y="1004"/>
                  </a:lnTo>
                  <a:lnTo>
                    <a:pt x="260" y="1017"/>
                  </a:lnTo>
                  <a:lnTo>
                    <a:pt x="250" y="1028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0"/>
                  </a:lnTo>
                  <a:lnTo>
                    <a:pt x="130" y="1064"/>
                  </a:lnTo>
                  <a:lnTo>
                    <a:pt x="118" y="1055"/>
                  </a:lnTo>
                  <a:lnTo>
                    <a:pt x="109" y="1047"/>
                  </a:lnTo>
                  <a:lnTo>
                    <a:pt x="99" y="1043"/>
                  </a:lnTo>
                  <a:lnTo>
                    <a:pt x="88" y="1026"/>
                  </a:lnTo>
                  <a:lnTo>
                    <a:pt x="81" y="1004"/>
                  </a:lnTo>
                  <a:lnTo>
                    <a:pt x="76" y="986"/>
                  </a:lnTo>
                  <a:lnTo>
                    <a:pt x="72" y="964"/>
                  </a:lnTo>
                  <a:lnTo>
                    <a:pt x="72" y="943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8"/>
                  </a:lnTo>
                  <a:lnTo>
                    <a:pt x="93" y="847"/>
                  </a:lnTo>
                  <a:lnTo>
                    <a:pt x="90" y="831"/>
                  </a:lnTo>
                  <a:lnTo>
                    <a:pt x="87" y="818"/>
                  </a:lnTo>
                  <a:lnTo>
                    <a:pt x="63" y="800"/>
                  </a:lnTo>
                  <a:lnTo>
                    <a:pt x="75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8" y="747"/>
                  </a:lnTo>
                  <a:lnTo>
                    <a:pt x="63" y="744"/>
                  </a:lnTo>
                  <a:lnTo>
                    <a:pt x="59" y="738"/>
                  </a:lnTo>
                  <a:lnTo>
                    <a:pt x="57" y="732"/>
                  </a:lnTo>
                  <a:lnTo>
                    <a:pt x="51" y="734"/>
                  </a:lnTo>
                  <a:lnTo>
                    <a:pt x="42" y="732"/>
                  </a:lnTo>
                  <a:lnTo>
                    <a:pt x="35" y="727"/>
                  </a:lnTo>
                  <a:lnTo>
                    <a:pt x="28" y="722"/>
                  </a:lnTo>
                  <a:lnTo>
                    <a:pt x="22" y="712"/>
                  </a:lnTo>
                  <a:lnTo>
                    <a:pt x="17" y="703"/>
                  </a:lnTo>
                  <a:lnTo>
                    <a:pt x="14" y="694"/>
                  </a:lnTo>
                  <a:lnTo>
                    <a:pt x="9" y="692"/>
                  </a:lnTo>
                  <a:lnTo>
                    <a:pt x="1" y="635"/>
                  </a:lnTo>
                  <a:lnTo>
                    <a:pt x="6" y="634"/>
                  </a:lnTo>
                  <a:lnTo>
                    <a:pt x="6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5" y="584"/>
                  </a:lnTo>
                  <a:lnTo>
                    <a:pt x="6" y="576"/>
                  </a:lnTo>
                  <a:lnTo>
                    <a:pt x="11" y="571"/>
                  </a:lnTo>
                  <a:lnTo>
                    <a:pt x="14" y="560"/>
                  </a:lnTo>
                  <a:lnTo>
                    <a:pt x="15" y="555"/>
                  </a:lnTo>
                  <a:lnTo>
                    <a:pt x="18" y="550"/>
                  </a:lnTo>
                  <a:lnTo>
                    <a:pt x="34" y="546"/>
                  </a:lnTo>
                  <a:lnTo>
                    <a:pt x="28" y="534"/>
                  </a:lnTo>
                  <a:lnTo>
                    <a:pt x="33" y="515"/>
                  </a:lnTo>
                  <a:lnTo>
                    <a:pt x="34" y="511"/>
                  </a:lnTo>
                  <a:lnTo>
                    <a:pt x="35" y="509"/>
                  </a:lnTo>
                  <a:lnTo>
                    <a:pt x="39" y="509"/>
                  </a:lnTo>
                  <a:lnTo>
                    <a:pt x="39" y="504"/>
                  </a:lnTo>
                  <a:lnTo>
                    <a:pt x="63" y="504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1"/>
                  </a:lnTo>
                  <a:lnTo>
                    <a:pt x="71" y="517"/>
                  </a:lnTo>
                  <a:lnTo>
                    <a:pt x="72" y="526"/>
                  </a:lnTo>
                  <a:lnTo>
                    <a:pt x="72" y="534"/>
                  </a:lnTo>
                  <a:lnTo>
                    <a:pt x="71" y="539"/>
                  </a:lnTo>
                  <a:lnTo>
                    <a:pt x="67" y="543"/>
                  </a:lnTo>
                  <a:lnTo>
                    <a:pt x="72" y="546"/>
                  </a:lnTo>
                  <a:lnTo>
                    <a:pt x="77" y="546"/>
                  </a:lnTo>
                  <a:lnTo>
                    <a:pt x="81" y="543"/>
                  </a:lnTo>
                  <a:lnTo>
                    <a:pt x="84" y="538"/>
                  </a:lnTo>
                  <a:lnTo>
                    <a:pt x="83" y="532"/>
                  </a:lnTo>
                  <a:lnTo>
                    <a:pt x="72" y="534"/>
                  </a:lnTo>
                  <a:lnTo>
                    <a:pt x="72" y="526"/>
                  </a:lnTo>
                  <a:lnTo>
                    <a:pt x="85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8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2" y="371"/>
                  </a:lnTo>
                  <a:lnTo>
                    <a:pt x="127" y="359"/>
                  </a:lnTo>
                  <a:lnTo>
                    <a:pt x="136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7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9" y="231"/>
                  </a:lnTo>
                  <a:lnTo>
                    <a:pt x="177" y="214"/>
                  </a:lnTo>
                  <a:lnTo>
                    <a:pt x="195" y="202"/>
                  </a:lnTo>
                  <a:lnTo>
                    <a:pt x="206" y="192"/>
                  </a:lnTo>
                  <a:lnTo>
                    <a:pt x="218" y="185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2" y="185"/>
                  </a:lnTo>
                  <a:lnTo>
                    <a:pt x="281" y="179"/>
                  </a:lnTo>
                  <a:lnTo>
                    <a:pt x="284" y="169"/>
                  </a:lnTo>
                  <a:lnTo>
                    <a:pt x="280" y="152"/>
                  </a:lnTo>
                  <a:lnTo>
                    <a:pt x="282" y="151"/>
                  </a:lnTo>
                  <a:lnTo>
                    <a:pt x="280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5"/>
                  </a:lnTo>
                  <a:lnTo>
                    <a:pt x="289" y="54"/>
                  </a:lnTo>
                  <a:lnTo>
                    <a:pt x="301" y="39"/>
                  </a:lnTo>
                  <a:lnTo>
                    <a:pt x="310" y="29"/>
                  </a:lnTo>
                  <a:lnTo>
                    <a:pt x="337" y="14"/>
                  </a:lnTo>
                  <a:lnTo>
                    <a:pt x="356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30" y="2"/>
                  </a:lnTo>
                  <a:lnTo>
                    <a:pt x="443" y="6"/>
                  </a:lnTo>
                  <a:lnTo>
                    <a:pt x="453" y="12"/>
                  </a:lnTo>
                  <a:lnTo>
                    <a:pt x="465" y="23"/>
                  </a:lnTo>
                  <a:lnTo>
                    <a:pt x="474" y="38"/>
                  </a:lnTo>
                  <a:lnTo>
                    <a:pt x="489" y="65"/>
                  </a:lnTo>
                  <a:lnTo>
                    <a:pt x="503" y="99"/>
                  </a:lnTo>
                  <a:lnTo>
                    <a:pt x="511" y="107"/>
                  </a:lnTo>
                  <a:lnTo>
                    <a:pt x="514" y="114"/>
                  </a:lnTo>
                  <a:lnTo>
                    <a:pt x="513" y="120"/>
                  </a:lnTo>
                  <a:lnTo>
                    <a:pt x="506" y="126"/>
                  </a:lnTo>
                  <a:lnTo>
                    <a:pt x="485" y="133"/>
                  </a:lnTo>
                  <a:lnTo>
                    <a:pt x="487" y="151"/>
                  </a:lnTo>
                  <a:lnTo>
                    <a:pt x="489" y="168"/>
                  </a:lnTo>
                  <a:lnTo>
                    <a:pt x="489" y="180"/>
                  </a:lnTo>
                  <a:lnTo>
                    <a:pt x="498" y="181"/>
                  </a:lnTo>
                  <a:lnTo>
                    <a:pt x="511" y="206"/>
                  </a:lnTo>
                  <a:lnTo>
                    <a:pt x="606" y="306"/>
                  </a:lnTo>
                  <a:lnTo>
                    <a:pt x="611" y="314"/>
                  </a:lnTo>
                  <a:lnTo>
                    <a:pt x="612" y="321"/>
                  </a:lnTo>
                  <a:lnTo>
                    <a:pt x="611" y="327"/>
                  </a:lnTo>
                  <a:lnTo>
                    <a:pt x="606" y="332"/>
                  </a:lnTo>
                  <a:lnTo>
                    <a:pt x="602" y="334"/>
                  </a:lnTo>
                  <a:lnTo>
                    <a:pt x="602" y="340"/>
                  </a:lnTo>
                  <a:lnTo>
                    <a:pt x="599" y="347"/>
                  </a:lnTo>
                  <a:lnTo>
                    <a:pt x="595" y="351"/>
                  </a:lnTo>
                  <a:lnTo>
                    <a:pt x="599" y="356"/>
                  </a:lnTo>
                  <a:lnTo>
                    <a:pt x="602" y="361"/>
                  </a:lnTo>
                  <a:lnTo>
                    <a:pt x="607" y="370"/>
                  </a:lnTo>
                  <a:lnTo>
                    <a:pt x="619" y="377"/>
                  </a:lnTo>
                  <a:lnTo>
                    <a:pt x="627" y="382"/>
                  </a:lnTo>
                  <a:lnTo>
                    <a:pt x="636" y="389"/>
                  </a:lnTo>
                  <a:lnTo>
                    <a:pt x="644" y="396"/>
                  </a:lnTo>
                  <a:lnTo>
                    <a:pt x="666" y="388"/>
                  </a:lnTo>
                  <a:lnTo>
                    <a:pt x="680" y="385"/>
                  </a:lnTo>
                  <a:lnTo>
                    <a:pt x="693" y="382"/>
                  </a:lnTo>
                  <a:lnTo>
                    <a:pt x="701" y="380"/>
                  </a:lnTo>
                  <a:lnTo>
                    <a:pt x="736" y="356"/>
                  </a:lnTo>
                  <a:lnTo>
                    <a:pt x="781" y="306"/>
                  </a:lnTo>
                  <a:lnTo>
                    <a:pt x="786" y="308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8" y="266"/>
                  </a:lnTo>
                  <a:lnTo>
                    <a:pt x="824" y="257"/>
                  </a:lnTo>
                  <a:lnTo>
                    <a:pt x="924" y="255"/>
                  </a:lnTo>
                  <a:lnTo>
                    <a:pt x="858" y="293"/>
                  </a:lnTo>
                  <a:lnTo>
                    <a:pt x="845" y="306"/>
                  </a:lnTo>
                  <a:lnTo>
                    <a:pt x="826" y="339"/>
                  </a:lnTo>
                  <a:lnTo>
                    <a:pt x="828" y="347"/>
                  </a:lnTo>
                  <a:lnTo>
                    <a:pt x="778" y="433"/>
                  </a:lnTo>
                  <a:lnTo>
                    <a:pt x="762" y="477"/>
                  </a:lnTo>
                  <a:lnTo>
                    <a:pt x="743" y="493"/>
                  </a:lnTo>
                  <a:lnTo>
                    <a:pt x="723" y="506"/>
                  </a:lnTo>
                  <a:lnTo>
                    <a:pt x="698" y="517"/>
                  </a:lnTo>
                  <a:lnTo>
                    <a:pt x="681" y="521"/>
                  </a:lnTo>
                  <a:lnTo>
                    <a:pt x="666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3470400" y="4030560"/>
              <a:ext cx="230040" cy="66600"/>
            </a:xfrm>
            <a:custGeom>
              <a:avLst/>
              <a:gdLst/>
              <a:ahLst/>
              <a:rect l="l" t="t" r="r" b="b"/>
              <a:pathLst>
                <a:path w="728" h="206">
                  <a:moveTo>
                    <a:pt x="511" y="100"/>
                  </a:moveTo>
                  <a:lnTo>
                    <a:pt x="500" y="95"/>
                  </a:lnTo>
                  <a:lnTo>
                    <a:pt x="425" y="98"/>
                  </a:lnTo>
                  <a:lnTo>
                    <a:pt x="421" y="102"/>
                  </a:lnTo>
                  <a:lnTo>
                    <a:pt x="503" y="105"/>
                  </a:lnTo>
                  <a:lnTo>
                    <a:pt x="497" y="108"/>
                  </a:lnTo>
                  <a:lnTo>
                    <a:pt x="413" y="108"/>
                  </a:lnTo>
                  <a:lnTo>
                    <a:pt x="313" y="110"/>
                  </a:lnTo>
                  <a:lnTo>
                    <a:pt x="290" y="110"/>
                  </a:lnTo>
                  <a:lnTo>
                    <a:pt x="207" y="145"/>
                  </a:lnTo>
                  <a:lnTo>
                    <a:pt x="207" y="193"/>
                  </a:lnTo>
                  <a:lnTo>
                    <a:pt x="149" y="206"/>
                  </a:lnTo>
                  <a:lnTo>
                    <a:pt x="149" y="159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3" y="132"/>
                  </a:lnTo>
                  <a:lnTo>
                    <a:pt x="141" y="129"/>
                  </a:lnTo>
                  <a:lnTo>
                    <a:pt x="137" y="127"/>
                  </a:lnTo>
                  <a:lnTo>
                    <a:pt x="135" y="127"/>
                  </a:lnTo>
                  <a:lnTo>
                    <a:pt x="113" y="126"/>
                  </a:lnTo>
                  <a:lnTo>
                    <a:pt x="121" y="137"/>
                  </a:lnTo>
                  <a:lnTo>
                    <a:pt x="122" y="143"/>
                  </a:lnTo>
                  <a:lnTo>
                    <a:pt x="122" y="147"/>
                  </a:lnTo>
                  <a:lnTo>
                    <a:pt x="120" y="150"/>
                  </a:lnTo>
                  <a:lnTo>
                    <a:pt x="115" y="153"/>
                  </a:lnTo>
                  <a:lnTo>
                    <a:pt x="139" y="153"/>
                  </a:lnTo>
                  <a:lnTo>
                    <a:pt x="142" y="153"/>
                  </a:lnTo>
                  <a:lnTo>
                    <a:pt x="143" y="150"/>
                  </a:lnTo>
                  <a:lnTo>
                    <a:pt x="145" y="147"/>
                  </a:lnTo>
                  <a:lnTo>
                    <a:pt x="149" y="159"/>
                  </a:lnTo>
                  <a:lnTo>
                    <a:pt x="95" y="159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49" y="46"/>
                  </a:lnTo>
                  <a:lnTo>
                    <a:pt x="57" y="21"/>
                  </a:lnTo>
                  <a:lnTo>
                    <a:pt x="61" y="21"/>
                  </a:lnTo>
                  <a:lnTo>
                    <a:pt x="63" y="11"/>
                  </a:lnTo>
                  <a:lnTo>
                    <a:pt x="69" y="5"/>
                  </a:lnTo>
                  <a:lnTo>
                    <a:pt x="78" y="4"/>
                  </a:lnTo>
                  <a:lnTo>
                    <a:pt x="209" y="16"/>
                  </a:lnTo>
                  <a:lnTo>
                    <a:pt x="215" y="18"/>
                  </a:lnTo>
                  <a:lnTo>
                    <a:pt x="220" y="22"/>
                  </a:lnTo>
                  <a:lnTo>
                    <a:pt x="224" y="28"/>
                  </a:lnTo>
                  <a:lnTo>
                    <a:pt x="224" y="34"/>
                  </a:lnTo>
                  <a:lnTo>
                    <a:pt x="222" y="41"/>
                  </a:lnTo>
                  <a:lnTo>
                    <a:pt x="220" y="43"/>
                  </a:lnTo>
                  <a:lnTo>
                    <a:pt x="212" y="43"/>
                  </a:lnTo>
                  <a:lnTo>
                    <a:pt x="213" y="39"/>
                  </a:lnTo>
                  <a:lnTo>
                    <a:pt x="216" y="33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7" y="21"/>
                  </a:lnTo>
                  <a:lnTo>
                    <a:pt x="107" y="21"/>
                  </a:lnTo>
                  <a:lnTo>
                    <a:pt x="103" y="26"/>
                  </a:lnTo>
                  <a:lnTo>
                    <a:pt x="100" y="32"/>
                  </a:lnTo>
                  <a:lnTo>
                    <a:pt x="99" y="38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7" y="46"/>
                  </a:lnTo>
                  <a:lnTo>
                    <a:pt x="212" y="43"/>
                  </a:lnTo>
                  <a:lnTo>
                    <a:pt x="220" y="43"/>
                  </a:lnTo>
                  <a:lnTo>
                    <a:pt x="516" y="43"/>
                  </a:lnTo>
                  <a:lnTo>
                    <a:pt x="522" y="45"/>
                  </a:lnTo>
                  <a:lnTo>
                    <a:pt x="524" y="46"/>
                  </a:lnTo>
                  <a:lnTo>
                    <a:pt x="556" y="46"/>
                  </a:lnTo>
                  <a:lnTo>
                    <a:pt x="555" y="32"/>
                  </a:lnTo>
                  <a:lnTo>
                    <a:pt x="550" y="32"/>
                  </a:lnTo>
                  <a:lnTo>
                    <a:pt x="550" y="17"/>
                  </a:lnTo>
                  <a:lnTo>
                    <a:pt x="541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2" y="45"/>
                  </a:lnTo>
                  <a:lnTo>
                    <a:pt x="516" y="43"/>
                  </a:lnTo>
                  <a:lnTo>
                    <a:pt x="545" y="3"/>
                  </a:lnTo>
                  <a:lnTo>
                    <a:pt x="550" y="0"/>
                  </a:lnTo>
                  <a:lnTo>
                    <a:pt x="556" y="3"/>
                  </a:lnTo>
                  <a:lnTo>
                    <a:pt x="561" y="7"/>
                  </a:lnTo>
                  <a:lnTo>
                    <a:pt x="563" y="55"/>
                  </a:lnTo>
                  <a:lnTo>
                    <a:pt x="643" y="55"/>
                  </a:lnTo>
                  <a:lnTo>
                    <a:pt x="651" y="51"/>
                  </a:lnTo>
                  <a:lnTo>
                    <a:pt x="708" y="50"/>
                  </a:lnTo>
                  <a:lnTo>
                    <a:pt x="713" y="42"/>
                  </a:lnTo>
                  <a:lnTo>
                    <a:pt x="724" y="42"/>
                  </a:lnTo>
                  <a:lnTo>
                    <a:pt x="724" y="50"/>
                  </a:lnTo>
                  <a:lnTo>
                    <a:pt x="728" y="50"/>
                  </a:lnTo>
                  <a:lnTo>
                    <a:pt x="728" y="74"/>
                  </a:lnTo>
                  <a:lnTo>
                    <a:pt x="712" y="74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6"/>
                  </a:lnTo>
                  <a:lnTo>
                    <a:pt x="550" y="76"/>
                  </a:lnTo>
                  <a:lnTo>
                    <a:pt x="550" y="74"/>
                  </a:lnTo>
                  <a:lnTo>
                    <a:pt x="526" y="74"/>
                  </a:lnTo>
                  <a:lnTo>
                    <a:pt x="526" y="87"/>
                  </a:lnTo>
                  <a:lnTo>
                    <a:pt x="518" y="87"/>
                  </a:lnTo>
                  <a:lnTo>
                    <a:pt x="511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3530520" y="4352760"/>
              <a:ext cx="195480" cy="29232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89" y="527"/>
                  </a:moveTo>
                  <a:lnTo>
                    <a:pt x="507" y="514"/>
                  </a:lnTo>
                  <a:lnTo>
                    <a:pt x="519" y="506"/>
                  </a:lnTo>
                  <a:lnTo>
                    <a:pt x="496" y="536"/>
                  </a:lnTo>
                  <a:lnTo>
                    <a:pt x="471" y="566"/>
                  </a:lnTo>
                  <a:lnTo>
                    <a:pt x="446" y="595"/>
                  </a:lnTo>
                  <a:lnTo>
                    <a:pt x="420" y="624"/>
                  </a:lnTo>
                  <a:lnTo>
                    <a:pt x="394" y="652"/>
                  </a:lnTo>
                  <a:lnTo>
                    <a:pt x="367" y="679"/>
                  </a:lnTo>
                  <a:lnTo>
                    <a:pt x="340" y="707"/>
                  </a:lnTo>
                  <a:lnTo>
                    <a:pt x="312" y="733"/>
                  </a:lnTo>
                  <a:lnTo>
                    <a:pt x="284" y="759"/>
                  </a:lnTo>
                  <a:lnTo>
                    <a:pt x="254" y="784"/>
                  </a:lnTo>
                  <a:lnTo>
                    <a:pt x="225" y="808"/>
                  </a:lnTo>
                  <a:lnTo>
                    <a:pt x="196" y="833"/>
                  </a:lnTo>
                  <a:lnTo>
                    <a:pt x="165" y="856"/>
                  </a:lnTo>
                  <a:lnTo>
                    <a:pt x="134" y="878"/>
                  </a:lnTo>
                  <a:lnTo>
                    <a:pt x="102" y="900"/>
                  </a:lnTo>
                  <a:lnTo>
                    <a:pt x="71" y="921"/>
                  </a:lnTo>
                  <a:lnTo>
                    <a:pt x="69" y="906"/>
                  </a:lnTo>
                  <a:lnTo>
                    <a:pt x="80" y="885"/>
                  </a:lnTo>
                  <a:lnTo>
                    <a:pt x="85" y="858"/>
                  </a:lnTo>
                  <a:lnTo>
                    <a:pt x="94" y="847"/>
                  </a:lnTo>
                  <a:lnTo>
                    <a:pt x="90" y="832"/>
                  </a:lnTo>
                  <a:lnTo>
                    <a:pt x="87" y="818"/>
                  </a:lnTo>
                  <a:lnTo>
                    <a:pt x="64" y="800"/>
                  </a:lnTo>
                  <a:lnTo>
                    <a:pt x="75" y="784"/>
                  </a:lnTo>
                  <a:lnTo>
                    <a:pt x="87" y="749"/>
                  </a:lnTo>
                  <a:lnTo>
                    <a:pt x="78" y="750"/>
                  </a:lnTo>
                  <a:lnTo>
                    <a:pt x="69" y="748"/>
                  </a:lnTo>
                  <a:lnTo>
                    <a:pt x="64" y="744"/>
                  </a:lnTo>
                  <a:lnTo>
                    <a:pt x="60" y="738"/>
                  </a:lnTo>
                  <a:lnTo>
                    <a:pt x="58" y="732"/>
                  </a:lnTo>
                  <a:lnTo>
                    <a:pt x="52" y="734"/>
                  </a:lnTo>
                  <a:lnTo>
                    <a:pt x="42" y="732"/>
                  </a:lnTo>
                  <a:lnTo>
                    <a:pt x="36" y="728"/>
                  </a:lnTo>
                  <a:lnTo>
                    <a:pt x="29" y="722"/>
                  </a:lnTo>
                  <a:lnTo>
                    <a:pt x="23" y="712"/>
                  </a:lnTo>
                  <a:lnTo>
                    <a:pt x="18" y="704"/>
                  </a:lnTo>
                  <a:lnTo>
                    <a:pt x="15" y="694"/>
                  </a:lnTo>
                  <a:lnTo>
                    <a:pt x="9" y="692"/>
                  </a:lnTo>
                  <a:lnTo>
                    <a:pt x="2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2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2" y="571"/>
                  </a:lnTo>
                  <a:lnTo>
                    <a:pt x="15" y="561"/>
                  </a:lnTo>
                  <a:lnTo>
                    <a:pt x="16" y="555"/>
                  </a:lnTo>
                  <a:lnTo>
                    <a:pt x="19" y="550"/>
                  </a:lnTo>
                  <a:lnTo>
                    <a:pt x="35" y="546"/>
                  </a:lnTo>
                  <a:lnTo>
                    <a:pt x="29" y="534"/>
                  </a:lnTo>
                  <a:lnTo>
                    <a:pt x="33" y="515"/>
                  </a:lnTo>
                  <a:lnTo>
                    <a:pt x="35" y="512"/>
                  </a:lnTo>
                  <a:lnTo>
                    <a:pt x="36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4" y="504"/>
                  </a:lnTo>
                  <a:lnTo>
                    <a:pt x="64" y="509"/>
                  </a:lnTo>
                  <a:lnTo>
                    <a:pt x="66" y="509"/>
                  </a:lnTo>
                  <a:lnTo>
                    <a:pt x="69" y="512"/>
                  </a:lnTo>
                  <a:lnTo>
                    <a:pt x="71" y="518"/>
                  </a:lnTo>
                  <a:lnTo>
                    <a:pt x="73" y="526"/>
                  </a:lnTo>
                  <a:lnTo>
                    <a:pt x="73" y="534"/>
                  </a:lnTo>
                  <a:lnTo>
                    <a:pt x="71" y="540"/>
                  </a:lnTo>
                  <a:lnTo>
                    <a:pt x="68" y="543"/>
                  </a:lnTo>
                  <a:lnTo>
                    <a:pt x="73" y="546"/>
                  </a:lnTo>
                  <a:lnTo>
                    <a:pt x="78" y="546"/>
                  </a:lnTo>
                  <a:lnTo>
                    <a:pt x="82" y="543"/>
                  </a:lnTo>
                  <a:lnTo>
                    <a:pt x="85" y="539"/>
                  </a:lnTo>
                  <a:lnTo>
                    <a:pt x="83" y="532"/>
                  </a:lnTo>
                  <a:lnTo>
                    <a:pt x="73" y="534"/>
                  </a:lnTo>
                  <a:lnTo>
                    <a:pt x="73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5" y="527"/>
                  </a:lnTo>
                  <a:lnTo>
                    <a:pt x="99" y="530"/>
                  </a:lnTo>
                  <a:lnTo>
                    <a:pt x="96" y="513"/>
                  </a:lnTo>
                  <a:lnTo>
                    <a:pt x="92" y="497"/>
                  </a:lnTo>
                  <a:lnTo>
                    <a:pt x="117" y="389"/>
                  </a:lnTo>
                  <a:lnTo>
                    <a:pt x="123" y="372"/>
                  </a:lnTo>
                  <a:lnTo>
                    <a:pt x="128" y="359"/>
                  </a:lnTo>
                  <a:lnTo>
                    <a:pt x="137" y="347"/>
                  </a:lnTo>
                  <a:lnTo>
                    <a:pt x="129" y="322"/>
                  </a:lnTo>
                  <a:lnTo>
                    <a:pt x="127" y="305"/>
                  </a:lnTo>
                  <a:lnTo>
                    <a:pt x="128" y="290"/>
                  </a:lnTo>
                  <a:lnTo>
                    <a:pt x="134" y="272"/>
                  </a:lnTo>
                  <a:lnTo>
                    <a:pt x="146" y="250"/>
                  </a:lnTo>
                  <a:lnTo>
                    <a:pt x="159" y="231"/>
                  </a:lnTo>
                  <a:lnTo>
                    <a:pt x="178" y="214"/>
                  </a:lnTo>
                  <a:lnTo>
                    <a:pt x="196" y="203"/>
                  </a:lnTo>
                  <a:lnTo>
                    <a:pt x="207" y="192"/>
                  </a:lnTo>
                  <a:lnTo>
                    <a:pt x="218" y="185"/>
                  </a:lnTo>
                  <a:lnTo>
                    <a:pt x="229" y="182"/>
                  </a:lnTo>
                  <a:lnTo>
                    <a:pt x="241" y="182"/>
                  </a:lnTo>
                  <a:lnTo>
                    <a:pt x="253" y="185"/>
                  </a:lnTo>
                  <a:lnTo>
                    <a:pt x="282" y="179"/>
                  </a:lnTo>
                  <a:lnTo>
                    <a:pt x="284" y="169"/>
                  </a:lnTo>
                  <a:lnTo>
                    <a:pt x="280" y="152"/>
                  </a:lnTo>
                  <a:lnTo>
                    <a:pt x="283" y="151"/>
                  </a:lnTo>
                  <a:lnTo>
                    <a:pt x="280" y="133"/>
                  </a:lnTo>
                  <a:lnTo>
                    <a:pt x="279" y="114"/>
                  </a:lnTo>
                  <a:lnTo>
                    <a:pt x="279" y="95"/>
                  </a:lnTo>
                  <a:lnTo>
                    <a:pt x="283" y="76"/>
                  </a:lnTo>
                  <a:lnTo>
                    <a:pt x="290" y="55"/>
                  </a:lnTo>
                  <a:lnTo>
                    <a:pt x="301" y="39"/>
                  </a:lnTo>
                  <a:lnTo>
                    <a:pt x="311" y="29"/>
                  </a:lnTo>
                  <a:lnTo>
                    <a:pt x="337" y="15"/>
                  </a:lnTo>
                  <a:lnTo>
                    <a:pt x="357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30" y="2"/>
                  </a:lnTo>
                  <a:lnTo>
                    <a:pt x="442" y="6"/>
                  </a:lnTo>
                  <a:lnTo>
                    <a:pt x="454" y="13"/>
                  </a:lnTo>
                  <a:lnTo>
                    <a:pt x="466" y="23"/>
                  </a:lnTo>
                  <a:lnTo>
                    <a:pt x="475" y="38"/>
                  </a:lnTo>
                  <a:lnTo>
                    <a:pt x="489" y="66"/>
                  </a:lnTo>
                  <a:lnTo>
                    <a:pt x="504" y="100"/>
                  </a:lnTo>
                  <a:lnTo>
                    <a:pt x="512" y="107"/>
                  </a:lnTo>
                  <a:lnTo>
                    <a:pt x="515" y="114"/>
                  </a:lnTo>
                  <a:lnTo>
                    <a:pt x="513" y="121"/>
                  </a:lnTo>
                  <a:lnTo>
                    <a:pt x="506" y="126"/>
                  </a:lnTo>
                  <a:lnTo>
                    <a:pt x="484" y="133"/>
                  </a:lnTo>
                  <a:lnTo>
                    <a:pt x="488" y="151"/>
                  </a:lnTo>
                  <a:lnTo>
                    <a:pt x="489" y="168"/>
                  </a:lnTo>
                  <a:lnTo>
                    <a:pt x="489" y="181"/>
                  </a:lnTo>
                  <a:lnTo>
                    <a:pt x="499" y="182"/>
                  </a:lnTo>
                  <a:lnTo>
                    <a:pt x="512" y="206"/>
                  </a:lnTo>
                  <a:lnTo>
                    <a:pt x="607" y="307"/>
                  </a:lnTo>
                  <a:lnTo>
                    <a:pt x="612" y="314"/>
                  </a:lnTo>
                  <a:lnTo>
                    <a:pt x="613" y="321"/>
                  </a:lnTo>
                  <a:lnTo>
                    <a:pt x="612" y="328"/>
                  </a:lnTo>
                  <a:lnTo>
                    <a:pt x="607" y="332"/>
                  </a:lnTo>
                  <a:lnTo>
                    <a:pt x="603" y="334"/>
                  </a:lnTo>
                  <a:lnTo>
                    <a:pt x="603" y="341"/>
                  </a:lnTo>
                  <a:lnTo>
                    <a:pt x="600" y="347"/>
                  </a:lnTo>
                  <a:lnTo>
                    <a:pt x="596" y="352"/>
                  </a:lnTo>
                  <a:lnTo>
                    <a:pt x="600" y="356"/>
                  </a:lnTo>
                  <a:lnTo>
                    <a:pt x="603" y="362"/>
                  </a:lnTo>
                  <a:lnTo>
                    <a:pt x="608" y="371"/>
                  </a:lnTo>
                  <a:lnTo>
                    <a:pt x="613" y="373"/>
                  </a:lnTo>
                  <a:lnTo>
                    <a:pt x="604" y="386"/>
                  </a:lnTo>
                  <a:lnTo>
                    <a:pt x="595" y="400"/>
                  </a:lnTo>
                  <a:lnTo>
                    <a:pt x="586" y="414"/>
                  </a:lnTo>
                  <a:lnTo>
                    <a:pt x="577" y="427"/>
                  </a:lnTo>
                  <a:lnTo>
                    <a:pt x="567" y="441"/>
                  </a:lnTo>
                  <a:lnTo>
                    <a:pt x="558" y="454"/>
                  </a:lnTo>
                  <a:lnTo>
                    <a:pt x="549" y="467"/>
                  </a:lnTo>
                  <a:lnTo>
                    <a:pt x="539" y="480"/>
                  </a:lnTo>
                  <a:lnTo>
                    <a:pt x="523" y="470"/>
                  </a:lnTo>
                  <a:lnTo>
                    <a:pt x="509" y="460"/>
                  </a:lnTo>
                  <a:lnTo>
                    <a:pt x="494" y="448"/>
                  </a:lnTo>
                  <a:lnTo>
                    <a:pt x="495" y="468"/>
                  </a:lnTo>
                  <a:lnTo>
                    <a:pt x="492" y="487"/>
                  </a:lnTo>
                  <a:lnTo>
                    <a:pt x="489" y="527"/>
                  </a:lnTo>
                  <a:close/>
                  <a:moveTo>
                    <a:pt x="98" y="546"/>
                  </a:moveTo>
                  <a:lnTo>
                    <a:pt x="90" y="552"/>
                  </a:lnTo>
                  <a:lnTo>
                    <a:pt x="94" y="556"/>
                  </a:lnTo>
                  <a:lnTo>
                    <a:pt x="96" y="562"/>
                  </a:lnTo>
                  <a:lnTo>
                    <a:pt x="98" y="556"/>
                  </a:lnTo>
                  <a:lnTo>
                    <a:pt x="99" y="551"/>
                  </a:lnTo>
                  <a:lnTo>
                    <a:pt x="98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3530520" y="4352760"/>
              <a:ext cx="195480" cy="29232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71" y="921"/>
                  </a:moveTo>
                  <a:lnTo>
                    <a:pt x="69" y="906"/>
                  </a:lnTo>
                  <a:lnTo>
                    <a:pt x="80" y="885"/>
                  </a:lnTo>
                  <a:lnTo>
                    <a:pt x="85" y="858"/>
                  </a:lnTo>
                  <a:lnTo>
                    <a:pt x="94" y="847"/>
                  </a:lnTo>
                  <a:lnTo>
                    <a:pt x="90" y="832"/>
                  </a:lnTo>
                  <a:lnTo>
                    <a:pt x="87" y="818"/>
                  </a:lnTo>
                  <a:lnTo>
                    <a:pt x="64" y="800"/>
                  </a:lnTo>
                  <a:lnTo>
                    <a:pt x="75" y="784"/>
                  </a:lnTo>
                  <a:lnTo>
                    <a:pt x="87" y="749"/>
                  </a:lnTo>
                  <a:lnTo>
                    <a:pt x="78" y="750"/>
                  </a:lnTo>
                  <a:lnTo>
                    <a:pt x="69" y="748"/>
                  </a:lnTo>
                  <a:lnTo>
                    <a:pt x="64" y="744"/>
                  </a:lnTo>
                  <a:lnTo>
                    <a:pt x="60" y="738"/>
                  </a:lnTo>
                  <a:lnTo>
                    <a:pt x="58" y="732"/>
                  </a:lnTo>
                  <a:lnTo>
                    <a:pt x="52" y="734"/>
                  </a:lnTo>
                  <a:lnTo>
                    <a:pt x="42" y="732"/>
                  </a:lnTo>
                  <a:lnTo>
                    <a:pt x="36" y="728"/>
                  </a:lnTo>
                  <a:lnTo>
                    <a:pt x="29" y="722"/>
                  </a:lnTo>
                  <a:lnTo>
                    <a:pt x="23" y="712"/>
                  </a:lnTo>
                  <a:lnTo>
                    <a:pt x="18" y="704"/>
                  </a:lnTo>
                  <a:lnTo>
                    <a:pt x="15" y="694"/>
                  </a:lnTo>
                  <a:lnTo>
                    <a:pt x="9" y="692"/>
                  </a:lnTo>
                  <a:lnTo>
                    <a:pt x="2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2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2" y="571"/>
                  </a:lnTo>
                  <a:lnTo>
                    <a:pt x="15" y="561"/>
                  </a:lnTo>
                  <a:lnTo>
                    <a:pt x="16" y="555"/>
                  </a:lnTo>
                  <a:lnTo>
                    <a:pt x="19" y="550"/>
                  </a:lnTo>
                  <a:lnTo>
                    <a:pt x="35" y="546"/>
                  </a:lnTo>
                  <a:lnTo>
                    <a:pt x="29" y="534"/>
                  </a:lnTo>
                  <a:lnTo>
                    <a:pt x="33" y="515"/>
                  </a:lnTo>
                  <a:lnTo>
                    <a:pt x="35" y="512"/>
                  </a:lnTo>
                  <a:lnTo>
                    <a:pt x="36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4" y="504"/>
                  </a:lnTo>
                  <a:lnTo>
                    <a:pt x="64" y="509"/>
                  </a:lnTo>
                  <a:lnTo>
                    <a:pt x="66" y="509"/>
                  </a:lnTo>
                  <a:lnTo>
                    <a:pt x="69" y="512"/>
                  </a:lnTo>
                  <a:lnTo>
                    <a:pt x="71" y="518"/>
                  </a:lnTo>
                  <a:lnTo>
                    <a:pt x="73" y="526"/>
                  </a:lnTo>
                  <a:lnTo>
                    <a:pt x="73" y="534"/>
                  </a:lnTo>
                  <a:lnTo>
                    <a:pt x="71" y="540"/>
                  </a:lnTo>
                  <a:lnTo>
                    <a:pt x="68" y="543"/>
                  </a:lnTo>
                  <a:lnTo>
                    <a:pt x="73" y="546"/>
                  </a:lnTo>
                  <a:lnTo>
                    <a:pt x="78" y="546"/>
                  </a:lnTo>
                  <a:lnTo>
                    <a:pt x="82" y="543"/>
                  </a:lnTo>
                  <a:lnTo>
                    <a:pt x="85" y="539"/>
                  </a:lnTo>
                  <a:lnTo>
                    <a:pt x="83" y="532"/>
                  </a:lnTo>
                  <a:lnTo>
                    <a:pt x="73" y="534"/>
                  </a:lnTo>
                  <a:lnTo>
                    <a:pt x="73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5" y="527"/>
                  </a:lnTo>
                  <a:lnTo>
                    <a:pt x="99" y="530"/>
                  </a:lnTo>
                  <a:lnTo>
                    <a:pt x="96" y="513"/>
                  </a:lnTo>
                  <a:lnTo>
                    <a:pt x="92" y="497"/>
                  </a:lnTo>
                  <a:lnTo>
                    <a:pt x="117" y="389"/>
                  </a:lnTo>
                  <a:lnTo>
                    <a:pt x="123" y="372"/>
                  </a:lnTo>
                  <a:lnTo>
                    <a:pt x="128" y="359"/>
                  </a:lnTo>
                  <a:lnTo>
                    <a:pt x="137" y="347"/>
                  </a:lnTo>
                  <a:lnTo>
                    <a:pt x="129" y="322"/>
                  </a:lnTo>
                  <a:lnTo>
                    <a:pt x="127" y="305"/>
                  </a:lnTo>
                  <a:lnTo>
                    <a:pt x="128" y="290"/>
                  </a:lnTo>
                  <a:lnTo>
                    <a:pt x="134" y="272"/>
                  </a:lnTo>
                  <a:lnTo>
                    <a:pt x="146" y="250"/>
                  </a:lnTo>
                  <a:lnTo>
                    <a:pt x="159" y="231"/>
                  </a:lnTo>
                  <a:lnTo>
                    <a:pt x="178" y="214"/>
                  </a:lnTo>
                  <a:lnTo>
                    <a:pt x="196" y="203"/>
                  </a:lnTo>
                  <a:lnTo>
                    <a:pt x="207" y="192"/>
                  </a:lnTo>
                  <a:lnTo>
                    <a:pt x="218" y="185"/>
                  </a:lnTo>
                  <a:lnTo>
                    <a:pt x="229" y="182"/>
                  </a:lnTo>
                  <a:lnTo>
                    <a:pt x="241" y="182"/>
                  </a:lnTo>
                  <a:lnTo>
                    <a:pt x="253" y="185"/>
                  </a:lnTo>
                  <a:lnTo>
                    <a:pt x="282" y="179"/>
                  </a:lnTo>
                  <a:lnTo>
                    <a:pt x="284" y="169"/>
                  </a:lnTo>
                  <a:lnTo>
                    <a:pt x="280" y="152"/>
                  </a:lnTo>
                  <a:lnTo>
                    <a:pt x="283" y="151"/>
                  </a:lnTo>
                  <a:lnTo>
                    <a:pt x="280" y="133"/>
                  </a:lnTo>
                  <a:lnTo>
                    <a:pt x="279" y="114"/>
                  </a:lnTo>
                  <a:lnTo>
                    <a:pt x="279" y="95"/>
                  </a:lnTo>
                  <a:lnTo>
                    <a:pt x="283" y="76"/>
                  </a:lnTo>
                  <a:lnTo>
                    <a:pt x="290" y="55"/>
                  </a:lnTo>
                  <a:lnTo>
                    <a:pt x="301" y="39"/>
                  </a:lnTo>
                  <a:lnTo>
                    <a:pt x="311" y="29"/>
                  </a:lnTo>
                  <a:lnTo>
                    <a:pt x="337" y="15"/>
                  </a:lnTo>
                  <a:lnTo>
                    <a:pt x="357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30" y="2"/>
                  </a:lnTo>
                  <a:lnTo>
                    <a:pt x="442" y="6"/>
                  </a:lnTo>
                  <a:lnTo>
                    <a:pt x="454" y="13"/>
                  </a:lnTo>
                  <a:lnTo>
                    <a:pt x="466" y="23"/>
                  </a:lnTo>
                  <a:lnTo>
                    <a:pt x="475" y="38"/>
                  </a:lnTo>
                  <a:lnTo>
                    <a:pt x="489" y="66"/>
                  </a:lnTo>
                  <a:lnTo>
                    <a:pt x="504" y="100"/>
                  </a:lnTo>
                  <a:lnTo>
                    <a:pt x="512" y="107"/>
                  </a:lnTo>
                  <a:lnTo>
                    <a:pt x="515" y="114"/>
                  </a:lnTo>
                  <a:lnTo>
                    <a:pt x="513" y="121"/>
                  </a:lnTo>
                  <a:lnTo>
                    <a:pt x="506" y="126"/>
                  </a:lnTo>
                  <a:lnTo>
                    <a:pt x="484" y="133"/>
                  </a:lnTo>
                  <a:lnTo>
                    <a:pt x="488" y="151"/>
                  </a:lnTo>
                  <a:lnTo>
                    <a:pt x="489" y="168"/>
                  </a:lnTo>
                  <a:lnTo>
                    <a:pt x="489" y="181"/>
                  </a:lnTo>
                  <a:lnTo>
                    <a:pt x="499" y="182"/>
                  </a:lnTo>
                  <a:lnTo>
                    <a:pt x="512" y="206"/>
                  </a:lnTo>
                  <a:lnTo>
                    <a:pt x="607" y="307"/>
                  </a:lnTo>
                  <a:lnTo>
                    <a:pt x="612" y="314"/>
                  </a:lnTo>
                  <a:lnTo>
                    <a:pt x="613" y="321"/>
                  </a:lnTo>
                  <a:lnTo>
                    <a:pt x="612" y="328"/>
                  </a:lnTo>
                  <a:lnTo>
                    <a:pt x="607" y="332"/>
                  </a:lnTo>
                  <a:lnTo>
                    <a:pt x="603" y="334"/>
                  </a:lnTo>
                  <a:lnTo>
                    <a:pt x="603" y="341"/>
                  </a:lnTo>
                  <a:lnTo>
                    <a:pt x="600" y="347"/>
                  </a:lnTo>
                  <a:lnTo>
                    <a:pt x="596" y="352"/>
                  </a:lnTo>
                  <a:lnTo>
                    <a:pt x="600" y="356"/>
                  </a:lnTo>
                  <a:lnTo>
                    <a:pt x="603" y="362"/>
                  </a:lnTo>
                  <a:lnTo>
                    <a:pt x="608" y="371"/>
                  </a:lnTo>
                  <a:lnTo>
                    <a:pt x="613" y="37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3693960" y="4400640"/>
              <a:ext cx="66960" cy="48960"/>
            </a:xfrm>
            <a:custGeom>
              <a:avLst/>
              <a:gdLst/>
              <a:ahLst/>
              <a:rect l="l" t="t" r="r" b="b"/>
              <a:pathLst>
                <a:path w="214" h="156">
                  <a:moveTo>
                    <a:pt x="146" y="146"/>
                  </a:moveTo>
                  <a:lnTo>
                    <a:pt x="145" y="143"/>
                  </a:lnTo>
                  <a:lnTo>
                    <a:pt x="145" y="132"/>
                  </a:lnTo>
                  <a:lnTo>
                    <a:pt x="143" y="128"/>
                  </a:lnTo>
                  <a:lnTo>
                    <a:pt x="141" y="125"/>
                  </a:lnTo>
                  <a:lnTo>
                    <a:pt x="137" y="124"/>
                  </a:lnTo>
                  <a:lnTo>
                    <a:pt x="134" y="124"/>
                  </a:lnTo>
                  <a:lnTo>
                    <a:pt x="113" y="122"/>
                  </a:lnTo>
                  <a:lnTo>
                    <a:pt x="121" y="134"/>
                  </a:lnTo>
                  <a:lnTo>
                    <a:pt x="122" y="139"/>
                  </a:lnTo>
                  <a:lnTo>
                    <a:pt x="122" y="143"/>
                  </a:lnTo>
                  <a:lnTo>
                    <a:pt x="119" y="146"/>
                  </a:lnTo>
                  <a:lnTo>
                    <a:pt x="114" y="149"/>
                  </a:lnTo>
                  <a:lnTo>
                    <a:pt x="138" y="149"/>
                  </a:lnTo>
                  <a:lnTo>
                    <a:pt x="142" y="149"/>
                  </a:lnTo>
                  <a:lnTo>
                    <a:pt x="143" y="146"/>
                  </a:lnTo>
                  <a:lnTo>
                    <a:pt x="145" y="143"/>
                  </a:lnTo>
                  <a:lnTo>
                    <a:pt x="146" y="146"/>
                  </a:lnTo>
                  <a:lnTo>
                    <a:pt x="145" y="148"/>
                  </a:lnTo>
                  <a:lnTo>
                    <a:pt x="144" y="149"/>
                  </a:lnTo>
                  <a:lnTo>
                    <a:pt x="144" y="150"/>
                  </a:lnTo>
                  <a:lnTo>
                    <a:pt x="143" y="151"/>
                  </a:lnTo>
                  <a:lnTo>
                    <a:pt x="142" y="152"/>
                  </a:lnTo>
                  <a:lnTo>
                    <a:pt x="142" y="153"/>
                  </a:lnTo>
                  <a:lnTo>
                    <a:pt x="141" y="155"/>
                  </a:lnTo>
                  <a:lnTo>
                    <a:pt x="140" y="156"/>
                  </a:lnTo>
                  <a:lnTo>
                    <a:pt x="95" y="156"/>
                  </a:lnTo>
                  <a:lnTo>
                    <a:pt x="0" y="55"/>
                  </a:lnTo>
                  <a:lnTo>
                    <a:pt x="37" y="55"/>
                  </a:lnTo>
                  <a:lnTo>
                    <a:pt x="37" y="42"/>
                  </a:lnTo>
                  <a:lnTo>
                    <a:pt x="49" y="42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3" y="8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209" y="12"/>
                  </a:lnTo>
                  <a:lnTo>
                    <a:pt x="214" y="14"/>
                  </a:lnTo>
                  <a:lnTo>
                    <a:pt x="213" y="15"/>
                  </a:lnTo>
                  <a:lnTo>
                    <a:pt x="213" y="15"/>
                  </a:lnTo>
                  <a:lnTo>
                    <a:pt x="213" y="16"/>
                  </a:lnTo>
                  <a:lnTo>
                    <a:pt x="212" y="17"/>
                  </a:lnTo>
                  <a:lnTo>
                    <a:pt x="212" y="17"/>
                  </a:lnTo>
                  <a:lnTo>
                    <a:pt x="212" y="18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06" y="17"/>
                  </a:lnTo>
                  <a:lnTo>
                    <a:pt x="106" y="17"/>
                  </a:lnTo>
                  <a:lnTo>
                    <a:pt x="102" y="22"/>
                  </a:lnTo>
                  <a:lnTo>
                    <a:pt x="100" y="29"/>
                  </a:lnTo>
                  <a:lnTo>
                    <a:pt x="98" y="34"/>
                  </a:lnTo>
                  <a:lnTo>
                    <a:pt x="98" y="38"/>
                  </a:lnTo>
                  <a:lnTo>
                    <a:pt x="100" y="41"/>
                  </a:lnTo>
                  <a:lnTo>
                    <a:pt x="104" y="42"/>
                  </a:lnTo>
                  <a:lnTo>
                    <a:pt x="200" y="42"/>
                  </a:lnTo>
                  <a:lnTo>
                    <a:pt x="193" y="56"/>
                  </a:lnTo>
                  <a:lnTo>
                    <a:pt x="187" y="68"/>
                  </a:lnTo>
                  <a:lnTo>
                    <a:pt x="181" y="82"/>
                  </a:lnTo>
                  <a:lnTo>
                    <a:pt x="173" y="95"/>
                  </a:lnTo>
                  <a:lnTo>
                    <a:pt x="167" y="108"/>
                  </a:lnTo>
                  <a:lnTo>
                    <a:pt x="160" y="121"/>
                  </a:lnTo>
                  <a:lnTo>
                    <a:pt x="152" y="134"/>
                  </a:lnTo>
                  <a:lnTo>
                    <a:pt x="146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3693960" y="4400640"/>
              <a:ext cx="66960" cy="48960"/>
            </a:xfrm>
            <a:custGeom>
              <a:avLst/>
              <a:gdLst/>
              <a:ahLst/>
              <a:rect l="l" t="t" r="r" b="b"/>
              <a:pathLst>
                <a:path w="214" h="156">
                  <a:moveTo>
                    <a:pt x="140" y="156"/>
                  </a:moveTo>
                  <a:lnTo>
                    <a:pt x="95" y="156"/>
                  </a:lnTo>
                  <a:lnTo>
                    <a:pt x="0" y="55"/>
                  </a:lnTo>
                  <a:lnTo>
                    <a:pt x="37" y="55"/>
                  </a:lnTo>
                  <a:lnTo>
                    <a:pt x="37" y="42"/>
                  </a:lnTo>
                  <a:lnTo>
                    <a:pt x="49" y="42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3" y="8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209" y="12"/>
                  </a:lnTo>
                  <a:lnTo>
                    <a:pt x="214" y="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3672000" y="3986280"/>
              <a:ext cx="142920" cy="339480"/>
            </a:xfrm>
            <a:custGeom>
              <a:avLst/>
              <a:gdLst/>
              <a:ahLst/>
              <a:rect l="l" t="t" r="r" b="b"/>
              <a:pathLst>
                <a:path w="447" h="1067">
                  <a:moveTo>
                    <a:pt x="358" y="0"/>
                  </a:moveTo>
                  <a:lnTo>
                    <a:pt x="372" y="45"/>
                  </a:lnTo>
                  <a:lnTo>
                    <a:pt x="385" y="91"/>
                  </a:lnTo>
                  <a:lnTo>
                    <a:pt x="397" y="138"/>
                  </a:lnTo>
                  <a:lnTo>
                    <a:pt x="407" y="184"/>
                  </a:lnTo>
                  <a:lnTo>
                    <a:pt x="417" y="231"/>
                  </a:lnTo>
                  <a:lnTo>
                    <a:pt x="425" y="278"/>
                  </a:lnTo>
                  <a:lnTo>
                    <a:pt x="432" y="326"/>
                  </a:lnTo>
                  <a:lnTo>
                    <a:pt x="438" y="374"/>
                  </a:lnTo>
                  <a:lnTo>
                    <a:pt x="442" y="422"/>
                  </a:lnTo>
                  <a:lnTo>
                    <a:pt x="445" y="470"/>
                  </a:lnTo>
                  <a:lnTo>
                    <a:pt x="447" y="519"/>
                  </a:lnTo>
                  <a:lnTo>
                    <a:pt x="447" y="568"/>
                  </a:lnTo>
                  <a:lnTo>
                    <a:pt x="446" y="617"/>
                  </a:lnTo>
                  <a:lnTo>
                    <a:pt x="444" y="667"/>
                  </a:lnTo>
                  <a:lnTo>
                    <a:pt x="441" y="716"/>
                  </a:lnTo>
                  <a:lnTo>
                    <a:pt x="436" y="766"/>
                  </a:lnTo>
                  <a:lnTo>
                    <a:pt x="430" y="770"/>
                  </a:lnTo>
                  <a:lnTo>
                    <a:pt x="411" y="783"/>
                  </a:lnTo>
                  <a:lnTo>
                    <a:pt x="389" y="797"/>
                  </a:lnTo>
                  <a:lnTo>
                    <a:pt x="368" y="809"/>
                  </a:lnTo>
                  <a:lnTo>
                    <a:pt x="348" y="816"/>
                  </a:lnTo>
                  <a:lnTo>
                    <a:pt x="328" y="824"/>
                  </a:lnTo>
                  <a:lnTo>
                    <a:pt x="311" y="831"/>
                  </a:lnTo>
                  <a:lnTo>
                    <a:pt x="294" y="896"/>
                  </a:lnTo>
                  <a:lnTo>
                    <a:pt x="293" y="915"/>
                  </a:lnTo>
                  <a:lnTo>
                    <a:pt x="290" y="934"/>
                  </a:lnTo>
                  <a:lnTo>
                    <a:pt x="286" y="949"/>
                  </a:lnTo>
                  <a:lnTo>
                    <a:pt x="282" y="965"/>
                  </a:lnTo>
                  <a:lnTo>
                    <a:pt x="277" y="981"/>
                  </a:lnTo>
                  <a:lnTo>
                    <a:pt x="269" y="997"/>
                  </a:lnTo>
                  <a:lnTo>
                    <a:pt x="260" y="1010"/>
                  </a:lnTo>
                  <a:lnTo>
                    <a:pt x="251" y="1021"/>
                  </a:lnTo>
                  <a:lnTo>
                    <a:pt x="248" y="1032"/>
                  </a:lnTo>
                  <a:lnTo>
                    <a:pt x="240" y="1044"/>
                  </a:lnTo>
                  <a:lnTo>
                    <a:pt x="229" y="1053"/>
                  </a:lnTo>
                  <a:lnTo>
                    <a:pt x="212" y="1062"/>
                  </a:lnTo>
                  <a:lnTo>
                    <a:pt x="188" y="1067"/>
                  </a:lnTo>
                  <a:lnTo>
                    <a:pt x="167" y="1067"/>
                  </a:lnTo>
                  <a:lnTo>
                    <a:pt x="147" y="1063"/>
                  </a:lnTo>
                  <a:lnTo>
                    <a:pt x="131" y="1057"/>
                  </a:lnTo>
                  <a:lnTo>
                    <a:pt x="118" y="1048"/>
                  </a:lnTo>
                  <a:lnTo>
                    <a:pt x="110" y="1040"/>
                  </a:lnTo>
                  <a:lnTo>
                    <a:pt x="99" y="1036"/>
                  </a:lnTo>
                  <a:lnTo>
                    <a:pt x="89" y="1019"/>
                  </a:lnTo>
                  <a:lnTo>
                    <a:pt x="82" y="997"/>
                  </a:lnTo>
                  <a:lnTo>
                    <a:pt x="76" y="979"/>
                  </a:lnTo>
                  <a:lnTo>
                    <a:pt x="72" y="957"/>
                  </a:lnTo>
                  <a:lnTo>
                    <a:pt x="72" y="936"/>
                  </a:lnTo>
                  <a:lnTo>
                    <a:pt x="69" y="899"/>
                  </a:lnTo>
                  <a:lnTo>
                    <a:pt x="80" y="878"/>
                  </a:lnTo>
                  <a:lnTo>
                    <a:pt x="85" y="851"/>
                  </a:lnTo>
                  <a:lnTo>
                    <a:pt x="93" y="840"/>
                  </a:lnTo>
                  <a:lnTo>
                    <a:pt x="90" y="824"/>
                  </a:lnTo>
                  <a:lnTo>
                    <a:pt x="87" y="811"/>
                  </a:lnTo>
                  <a:lnTo>
                    <a:pt x="64" y="793"/>
                  </a:lnTo>
                  <a:lnTo>
                    <a:pt x="74" y="776"/>
                  </a:lnTo>
                  <a:lnTo>
                    <a:pt x="87" y="741"/>
                  </a:lnTo>
                  <a:lnTo>
                    <a:pt x="77" y="742"/>
                  </a:lnTo>
                  <a:lnTo>
                    <a:pt x="69" y="740"/>
                  </a:lnTo>
                  <a:lnTo>
                    <a:pt x="64" y="737"/>
                  </a:lnTo>
                  <a:lnTo>
                    <a:pt x="59" y="731"/>
                  </a:lnTo>
                  <a:lnTo>
                    <a:pt x="57" y="725"/>
                  </a:lnTo>
                  <a:lnTo>
                    <a:pt x="51" y="727"/>
                  </a:lnTo>
                  <a:lnTo>
                    <a:pt x="42" y="725"/>
                  </a:lnTo>
                  <a:lnTo>
                    <a:pt x="35" y="720"/>
                  </a:lnTo>
                  <a:lnTo>
                    <a:pt x="28" y="715"/>
                  </a:lnTo>
                  <a:lnTo>
                    <a:pt x="23" y="705"/>
                  </a:lnTo>
                  <a:lnTo>
                    <a:pt x="17" y="696"/>
                  </a:lnTo>
                  <a:lnTo>
                    <a:pt x="14" y="687"/>
                  </a:lnTo>
                  <a:lnTo>
                    <a:pt x="8" y="685"/>
                  </a:lnTo>
                  <a:lnTo>
                    <a:pt x="2" y="628"/>
                  </a:lnTo>
                  <a:lnTo>
                    <a:pt x="7" y="627"/>
                  </a:lnTo>
                  <a:lnTo>
                    <a:pt x="7" y="603"/>
                  </a:lnTo>
                  <a:lnTo>
                    <a:pt x="0" y="602"/>
                  </a:lnTo>
                  <a:lnTo>
                    <a:pt x="2" y="587"/>
                  </a:lnTo>
                  <a:lnTo>
                    <a:pt x="6" y="577"/>
                  </a:lnTo>
                  <a:lnTo>
                    <a:pt x="7" y="569"/>
                  </a:lnTo>
                  <a:lnTo>
                    <a:pt x="11" y="564"/>
                  </a:lnTo>
                  <a:lnTo>
                    <a:pt x="14" y="553"/>
                  </a:lnTo>
                  <a:lnTo>
                    <a:pt x="15" y="548"/>
                  </a:lnTo>
                  <a:lnTo>
                    <a:pt x="18" y="543"/>
                  </a:lnTo>
                  <a:lnTo>
                    <a:pt x="34" y="539"/>
                  </a:lnTo>
                  <a:lnTo>
                    <a:pt x="28" y="527"/>
                  </a:lnTo>
                  <a:lnTo>
                    <a:pt x="32" y="508"/>
                  </a:lnTo>
                  <a:lnTo>
                    <a:pt x="34" y="504"/>
                  </a:lnTo>
                  <a:lnTo>
                    <a:pt x="35" y="502"/>
                  </a:lnTo>
                  <a:lnTo>
                    <a:pt x="39" y="502"/>
                  </a:lnTo>
                  <a:lnTo>
                    <a:pt x="39" y="497"/>
                  </a:lnTo>
                  <a:lnTo>
                    <a:pt x="64" y="497"/>
                  </a:lnTo>
                  <a:lnTo>
                    <a:pt x="64" y="502"/>
                  </a:lnTo>
                  <a:lnTo>
                    <a:pt x="66" y="502"/>
                  </a:lnTo>
                  <a:lnTo>
                    <a:pt x="69" y="504"/>
                  </a:lnTo>
                  <a:lnTo>
                    <a:pt x="70" y="510"/>
                  </a:lnTo>
                  <a:lnTo>
                    <a:pt x="72" y="519"/>
                  </a:lnTo>
                  <a:lnTo>
                    <a:pt x="72" y="527"/>
                  </a:lnTo>
                  <a:lnTo>
                    <a:pt x="70" y="532"/>
                  </a:lnTo>
                  <a:lnTo>
                    <a:pt x="68" y="536"/>
                  </a:lnTo>
                  <a:lnTo>
                    <a:pt x="72" y="539"/>
                  </a:lnTo>
                  <a:lnTo>
                    <a:pt x="77" y="539"/>
                  </a:lnTo>
                  <a:lnTo>
                    <a:pt x="82" y="536"/>
                  </a:lnTo>
                  <a:lnTo>
                    <a:pt x="85" y="531"/>
                  </a:lnTo>
                  <a:lnTo>
                    <a:pt x="83" y="525"/>
                  </a:lnTo>
                  <a:lnTo>
                    <a:pt x="72" y="527"/>
                  </a:lnTo>
                  <a:lnTo>
                    <a:pt x="72" y="519"/>
                  </a:lnTo>
                  <a:lnTo>
                    <a:pt x="86" y="517"/>
                  </a:lnTo>
                  <a:lnTo>
                    <a:pt x="90" y="519"/>
                  </a:lnTo>
                  <a:lnTo>
                    <a:pt x="94" y="520"/>
                  </a:lnTo>
                  <a:lnTo>
                    <a:pt x="98" y="523"/>
                  </a:lnTo>
                  <a:lnTo>
                    <a:pt x="95" y="506"/>
                  </a:lnTo>
                  <a:lnTo>
                    <a:pt x="91" y="489"/>
                  </a:lnTo>
                  <a:lnTo>
                    <a:pt x="116" y="382"/>
                  </a:lnTo>
                  <a:lnTo>
                    <a:pt x="122" y="364"/>
                  </a:lnTo>
                  <a:lnTo>
                    <a:pt x="128" y="352"/>
                  </a:lnTo>
                  <a:lnTo>
                    <a:pt x="136" y="340"/>
                  </a:lnTo>
                  <a:lnTo>
                    <a:pt x="129" y="315"/>
                  </a:lnTo>
                  <a:lnTo>
                    <a:pt x="127" y="298"/>
                  </a:lnTo>
                  <a:lnTo>
                    <a:pt x="128" y="283"/>
                  </a:lnTo>
                  <a:lnTo>
                    <a:pt x="133" y="265"/>
                  </a:lnTo>
                  <a:lnTo>
                    <a:pt x="146" y="243"/>
                  </a:lnTo>
                  <a:lnTo>
                    <a:pt x="158" y="224"/>
                  </a:lnTo>
                  <a:lnTo>
                    <a:pt x="177" y="207"/>
                  </a:lnTo>
                  <a:lnTo>
                    <a:pt x="195" y="195"/>
                  </a:lnTo>
                  <a:lnTo>
                    <a:pt x="207" y="185"/>
                  </a:lnTo>
                  <a:lnTo>
                    <a:pt x="217" y="178"/>
                  </a:lnTo>
                  <a:lnTo>
                    <a:pt x="229" y="174"/>
                  </a:lnTo>
                  <a:lnTo>
                    <a:pt x="240" y="174"/>
                  </a:lnTo>
                  <a:lnTo>
                    <a:pt x="253" y="178"/>
                  </a:lnTo>
                  <a:lnTo>
                    <a:pt x="281" y="172"/>
                  </a:lnTo>
                  <a:lnTo>
                    <a:pt x="283" y="162"/>
                  </a:lnTo>
                  <a:lnTo>
                    <a:pt x="279" y="145"/>
                  </a:lnTo>
                  <a:lnTo>
                    <a:pt x="282" y="144"/>
                  </a:lnTo>
                  <a:lnTo>
                    <a:pt x="279" y="126"/>
                  </a:lnTo>
                  <a:lnTo>
                    <a:pt x="278" y="107"/>
                  </a:lnTo>
                  <a:lnTo>
                    <a:pt x="278" y="88"/>
                  </a:lnTo>
                  <a:lnTo>
                    <a:pt x="282" y="68"/>
                  </a:lnTo>
                  <a:lnTo>
                    <a:pt x="290" y="47"/>
                  </a:lnTo>
                  <a:lnTo>
                    <a:pt x="300" y="32"/>
                  </a:lnTo>
                  <a:lnTo>
                    <a:pt x="311" y="22"/>
                  </a:lnTo>
                  <a:lnTo>
                    <a:pt x="337" y="7"/>
                  </a:lnTo>
                  <a:lnTo>
                    <a:pt x="357" y="1"/>
                  </a:lnTo>
                  <a:lnTo>
                    <a:pt x="358" y="0"/>
                  </a:lnTo>
                  <a:close/>
                  <a:moveTo>
                    <a:pt x="97" y="539"/>
                  </a:moveTo>
                  <a:lnTo>
                    <a:pt x="90" y="545"/>
                  </a:lnTo>
                  <a:lnTo>
                    <a:pt x="93" y="549"/>
                  </a:lnTo>
                  <a:lnTo>
                    <a:pt x="95" y="554"/>
                  </a:lnTo>
                  <a:lnTo>
                    <a:pt x="97" y="549"/>
                  </a:lnTo>
                  <a:lnTo>
                    <a:pt x="98" y="544"/>
                  </a:lnTo>
                  <a:lnTo>
                    <a:pt x="97" y="5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3672000" y="3986280"/>
              <a:ext cx="137880" cy="339480"/>
            </a:xfrm>
            <a:custGeom>
              <a:avLst/>
              <a:gdLst/>
              <a:ahLst/>
              <a:rect l="l" t="t" r="r" b="b"/>
              <a:pathLst>
                <a:path w="436" h="1067">
                  <a:moveTo>
                    <a:pt x="436" y="766"/>
                  </a:moveTo>
                  <a:lnTo>
                    <a:pt x="430" y="770"/>
                  </a:lnTo>
                  <a:lnTo>
                    <a:pt x="411" y="783"/>
                  </a:lnTo>
                  <a:lnTo>
                    <a:pt x="389" y="797"/>
                  </a:lnTo>
                  <a:lnTo>
                    <a:pt x="368" y="809"/>
                  </a:lnTo>
                  <a:lnTo>
                    <a:pt x="348" y="816"/>
                  </a:lnTo>
                  <a:lnTo>
                    <a:pt x="328" y="824"/>
                  </a:lnTo>
                  <a:lnTo>
                    <a:pt x="311" y="831"/>
                  </a:lnTo>
                  <a:lnTo>
                    <a:pt x="294" y="896"/>
                  </a:lnTo>
                  <a:lnTo>
                    <a:pt x="293" y="915"/>
                  </a:lnTo>
                  <a:lnTo>
                    <a:pt x="290" y="934"/>
                  </a:lnTo>
                  <a:lnTo>
                    <a:pt x="286" y="949"/>
                  </a:lnTo>
                  <a:lnTo>
                    <a:pt x="282" y="965"/>
                  </a:lnTo>
                  <a:lnTo>
                    <a:pt x="277" y="981"/>
                  </a:lnTo>
                  <a:lnTo>
                    <a:pt x="269" y="997"/>
                  </a:lnTo>
                  <a:lnTo>
                    <a:pt x="260" y="1010"/>
                  </a:lnTo>
                  <a:lnTo>
                    <a:pt x="251" y="1021"/>
                  </a:lnTo>
                  <a:lnTo>
                    <a:pt x="248" y="1032"/>
                  </a:lnTo>
                  <a:lnTo>
                    <a:pt x="240" y="1044"/>
                  </a:lnTo>
                  <a:lnTo>
                    <a:pt x="229" y="1053"/>
                  </a:lnTo>
                  <a:lnTo>
                    <a:pt x="212" y="1062"/>
                  </a:lnTo>
                  <a:lnTo>
                    <a:pt x="188" y="1067"/>
                  </a:lnTo>
                  <a:lnTo>
                    <a:pt x="167" y="1067"/>
                  </a:lnTo>
                  <a:lnTo>
                    <a:pt x="147" y="1063"/>
                  </a:lnTo>
                  <a:lnTo>
                    <a:pt x="131" y="1057"/>
                  </a:lnTo>
                  <a:lnTo>
                    <a:pt x="118" y="1048"/>
                  </a:lnTo>
                  <a:lnTo>
                    <a:pt x="110" y="1040"/>
                  </a:lnTo>
                  <a:lnTo>
                    <a:pt x="99" y="1036"/>
                  </a:lnTo>
                  <a:lnTo>
                    <a:pt x="89" y="1019"/>
                  </a:lnTo>
                  <a:lnTo>
                    <a:pt x="82" y="997"/>
                  </a:lnTo>
                  <a:lnTo>
                    <a:pt x="76" y="979"/>
                  </a:lnTo>
                  <a:lnTo>
                    <a:pt x="72" y="957"/>
                  </a:lnTo>
                  <a:lnTo>
                    <a:pt x="72" y="936"/>
                  </a:lnTo>
                  <a:lnTo>
                    <a:pt x="69" y="899"/>
                  </a:lnTo>
                  <a:lnTo>
                    <a:pt x="80" y="878"/>
                  </a:lnTo>
                  <a:lnTo>
                    <a:pt x="85" y="851"/>
                  </a:lnTo>
                  <a:lnTo>
                    <a:pt x="93" y="840"/>
                  </a:lnTo>
                  <a:lnTo>
                    <a:pt x="90" y="824"/>
                  </a:lnTo>
                  <a:lnTo>
                    <a:pt x="87" y="811"/>
                  </a:lnTo>
                  <a:lnTo>
                    <a:pt x="64" y="793"/>
                  </a:lnTo>
                  <a:lnTo>
                    <a:pt x="74" y="776"/>
                  </a:lnTo>
                  <a:lnTo>
                    <a:pt x="87" y="741"/>
                  </a:lnTo>
                  <a:lnTo>
                    <a:pt x="77" y="742"/>
                  </a:lnTo>
                  <a:lnTo>
                    <a:pt x="69" y="740"/>
                  </a:lnTo>
                  <a:lnTo>
                    <a:pt x="64" y="737"/>
                  </a:lnTo>
                  <a:lnTo>
                    <a:pt x="59" y="731"/>
                  </a:lnTo>
                  <a:lnTo>
                    <a:pt x="57" y="725"/>
                  </a:lnTo>
                  <a:lnTo>
                    <a:pt x="51" y="727"/>
                  </a:lnTo>
                  <a:lnTo>
                    <a:pt x="42" y="725"/>
                  </a:lnTo>
                  <a:lnTo>
                    <a:pt x="35" y="720"/>
                  </a:lnTo>
                  <a:lnTo>
                    <a:pt x="28" y="715"/>
                  </a:lnTo>
                  <a:lnTo>
                    <a:pt x="23" y="705"/>
                  </a:lnTo>
                  <a:lnTo>
                    <a:pt x="17" y="696"/>
                  </a:lnTo>
                  <a:lnTo>
                    <a:pt x="14" y="687"/>
                  </a:lnTo>
                  <a:lnTo>
                    <a:pt x="8" y="685"/>
                  </a:lnTo>
                  <a:lnTo>
                    <a:pt x="2" y="628"/>
                  </a:lnTo>
                  <a:lnTo>
                    <a:pt x="7" y="627"/>
                  </a:lnTo>
                  <a:lnTo>
                    <a:pt x="7" y="603"/>
                  </a:lnTo>
                  <a:lnTo>
                    <a:pt x="0" y="602"/>
                  </a:lnTo>
                  <a:lnTo>
                    <a:pt x="2" y="587"/>
                  </a:lnTo>
                  <a:lnTo>
                    <a:pt x="6" y="577"/>
                  </a:lnTo>
                  <a:lnTo>
                    <a:pt x="7" y="569"/>
                  </a:lnTo>
                  <a:lnTo>
                    <a:pt x="11" y="564"/>
                  </a:lnTo>
                  <a:lnTo>
                    <a:pt x="14" y="553"/>
                  </a:lnTo>
                  <a:lnTo>
                    <a:pt x="15" y="548"/>
                  </a:lnTo>
                  <a:lnTo>
                    <a:pt x="18" y="543"/>
                  </a:lnTo>
                  <a:lnTo>
                    <a:pt x="34" y="539"/>
                  </a:lnTo>
                  <a:lnTo>
                    <a:pt x="28" y="527"/>
                  </a:lnTo>
                  <a:lnTo>
                    <a:pt x="32" y="508"/>
                  </a:lnTo>
                  <a:lnTo>
                    <a:pt x="34" y="504"/>
                  </a:lnTo>
                  <a:lnTo>
                    <a:pt x="35" y="502"/>
                  </a:lnTo>
                  <a:lnTo>
                    <a:pt x="39" y="502"/>
                  </a:lnTo>
                  <a:lnTo>
                    <a:pt x="39" y="497"/>
                  </a:lnTo>
                  <a:lnTo>
                    <a:pt x="64" y="497"/>
                  </a:lnTo>
                  <a:lnTo>
                    <a:pt x="64" y="502"/>
                  </a:lnTo>
                  <a:lnTo>
                    <a:pt x="66" y="502"/>
                  </a:lnTo>
                  <a:lnTo>
                    <a:pt x="69" y="504"/>
                  </a:lnTo>
                  <a:lnTo>
                    <a:pt x="70" y="510"/>
                  </a:lnTo>
                  <a:lnTo>
                    <a:pt x="72" y="519"/>
                  </a:lnTo>
                  <a:lnTo>
                    <a:pt x="72" y="527"/>
                  </a:lnTo>
                  <a:lnTo>
                    <a:pt x="70" y="532"/>
                  </a:lnTo>
                  <a:lnTo>
                    <a:pt x="68" y="536"/>
                  </a:lnTo>
                  <a:lnTo>
                    <a:pt x="72" y="539"/>
                  </a:lnTo>
                  <a:lnTo>
                    <a:pt x="77" y="539"/>
                  </a:lnTo>
                  <a:lnTo>
                    <a:pt x="82" y="536"/>
                  </a:lnTo>
                  <a:lnTo>
                    <a:pt x="85" y="531"/>
                  </a:lnTo>
                  <a:lnTo>
                    <a:pt x="83" y="525"/>
                  </a:lnTo>
                  <a:lnTo>
                    <a:pt x="72" y="527"/>
                  </a:lnTo>
                  <a:lnTo>
                    <a:pt x="72" y="519"/>
                  </a:lnTo>
                  <a:lnTo>
                    <a:pt x="86" y="517"/>
                  </a:lnTo>
                  <a:lnTo>
                    <a:pt x="90" y="519"/>
                  </a:lnTo>
                  <a:lnTo>
                    <a:pt x="94" y="520"/>
                  </a:lnTo>
                  <a:lnTo>
                    <a:pt x="98" y="523"/>
                  </a:lnTo>
                  <a:lnTo>
                    <a:pt x="95" y="506"/>
                  </a:lnTo>
                  <a:lnTo>
                    <a:pt x="91" y="489"/>
                  </a:lnTo>
                  <a:lnTo>
                    <a:pt x="116" y="382"/>
                  </a:lnTo>
                  <a:lnTo>
                    <a:pt x="122" y="364"/>
                  </a:lnTo>
                  <a:lnTo>
                    <a:pt x="128" y="352"/>
                  </a:lnTo>
                  <a:lnTo>
                    <a:pt x="136" y="340"/>
                  </a:lnTo>
                  <a:lnTo>
                    <a:pt x="129" y="315"/>
                  </a:lnTo>
                  <a:lnTo>
                    <a:pt x="127" y="298"/>
                  </a:lnTo>
                  <a:lnTo>
                    <a:pt x="128" y="283"/>
                  </a:lnTo>
                  <a:lnTo>
                    <a:pt x="133" y="265"/>
                  </a:lnTo>
                  <a:lnTo>
                    <a:pt x="146" y="243"/>
                  </a:lnTo>
                  <a:lnTo>
                    <a:pt x="158" y="224"/>
                  </a:lnTo>
                  <a:lnTo>
                    <a:pt x="177" y="207"/>
                  </a:lnTo>
                  <a:lnTo>
                    <a:pt x="195" y="195"/>
                  </a:lnTo>
                  <a:lnTo>
                    <a:pt x="207" y="185"/>
                  </a:lnTo>
                  <a:lnTo>
                    <a:pt x="217" y="178"/>
                  </a:lnTo>
                  <a:lnTo>
                    <a:pt x="229" y="174"/>
                  </a:lnTo>
                  <a:lnTo>
                    <a:pt x="240" y="174"/>
                  </a:lnTo>
                  <a:lnTo>
                    <a:pt x="253" y="178"/>
                  </a:lnTo>
                  <a:lnTo>
                    <a:pt x="281" y="172"/>
                  </a:lnTo>
                  <a:lnTo>
                    <a:pt x="283" y="162"/>
                  </a:lnTo>
                  <a:lnTo>
                    <a:pt x="279" y="145"/>
                  </a:lnTo>
                  <a:lnTo>
                    <a:pt x="282" y="144"/>
                  </a:lnTo>
                  <a:lnTo>
                    <a:pt x="279" y="126"/>
                  </a:lnTo>
                  <a:lnTo>
                    <a:pt x="278" y="107"/>
                  </a:lnTo>
                  <a:lnTo>
                    <a:pt x="278" y="88"/>
                  </a:lnTo>
                  <a:lnTo>
                    <a:pt x="282" y="68"/>
                  </a:lnTo>
                  <a:lnTo>
                    <a:pt x="290" y="47"/>
                  </a:lnTo>
                  <a:lnTo>
                    <a:pt x="300" y="32"/>
                  </a:lnTo>
                  <a:lnTo>
                    <a:pt x="311" y="22"/>
                  </a:lnTo>
                  <a:lnTo>
                    <a:pt x="337" y="7"/>
                  </a:lnTo>
                  <a:lnTo>
                    <a:pt x="357" y="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2665440" y="3591000"/>
              <a:ext cx="1149480" cy="1147680"/>
            </a:xfrm>
            <a:custGeom>
              <a:avLst/>
              <a:gdLst/>
              <a:ahLst/>
              <a:rect l="l" t="t" r="r" b="b"/>
              <a:pathLst>
                <a:path w="3617" h="3615">
                  <a:moveTo>
                    <a:pt x="30" y="1477"/>
                  </a:moveTo>
                  <a:lnTo>
                    <a:pt x="49" y="1387"/>
                  </a:lnTo>
                  <a:lnTo>
                    <a:pt x="73" y="1297"/>
                  </a:lnTo>
                  <a:lnTo>
                    <a:pt x="101" y="1211"/>
                  </a:lnTo>
                  <a:lnTo>
                    <a:pt x="132" y="1126"/>
                  </a:lnTo>
                  <a:lnTo>
                    <a:pt x="169" y="1044"/>
                  </a:lnTo>
                  <a:lnTo>
                    <a:pt x="208" y="965"/>
                  </a:lnTo>
                  <a:lnTo>
                    <a:pt x="251" y="888"/>
                  </a:lnTo>
                  <a:lnTo>
                    <a:pt x="298" y="812"/>
                  </a:lnTo>
                  <a:lnTo>
                    <a:pt x="349" y="741"/>
                  </a:lnTo>
                  <a:lnTo>
                    <a:pt x="402" y="672"/>
                  </a:lnTo>
                  <a:lnTo>
                    <a:pt x="459" y="604"/>
                  </a:lnTo>
                  <a:lnTo>
                    <a:pt x="519" y="541"/>
                  </a:lnTo>
                  <a:lnTo>
                    <a:pt x="581" y="481"/>
                  </a:lnTo>
                  <a:lnTo>
                    <a:pt x="647" y="424"/>
                  </a:lnTo>
                  <a:lnTo>
                    <a:pt x="714" y="369"/>
                  </a:lnTo>
                  <a:lnTo>
                    <a:pt x="785" y="319"/>
                  </a:lnTo>
                  <a:lnTo>
                    <a:pt x="857" y="271"/>
                  </a:lnTo>
                  <a:lnTo>
                    <a:pt x="933" y="226"/>
                  </a:lnTo>
                  <a:lnTo>
                    <a:pt x="1009" y="187"/>
                  </a:lnTo>
                  <a:lnTo>
                    <a:pt x="1088" y="150"/>
                  </a:lnTo>
                  <a:lnTo>
                    <a:pt x="1169" y="117"/>
                  </a:lnTo>
                  <a:lnTo>
                    <a:pt x="1252" y="88"/>
                  </a:lnTo>
                  <a:lnTo>
                    <a:pt x="1335" y="63"/>
                  </a:lnTo>
                  <a:lnTo>
                    <a:pt x="1421" y="42"/>
                  </a:lnTo>
                  <a:lnTo>
                    <a:pt x="1507" y="25"/>
                  </a:lnTo>
                  <a:lnTo>
                    <a:pt x="1596" y="12"/>
                  </a:lnTo>
                  <a:lnTo>
                    <a:pt x="1684" y="4"/>
                  </a:lnTo>
                  <a:lnTo>
                    <a:pt x="1774" y="0"/>
                  </a:lnTo>
                  <a:lnTo>
                    <a:pt x="1864" y="0"/>
                  </a:lnTo>
                  <a:lnTo>
                    <a:pt x="1955" y="5"/>
                  </a:lnTo>
                  <a:lnTo>
                    <a:pt x="2046" y="15"/>
                  </a:lnTo>
                  <a:lnTo>
                    <a:pt x="2138" y="29"/>
                  </a:lnTo>
                  <a:lnTo>
                    <a:pt x="2229" y="49"/>
                  </a:lnTo>
                  <a:lnTo>
                    <a:pt x="2317" y="72"/>
                  </a:lnTo>
                  <a:lnTo>
                    <a:pt x="2405" y="100"/>
                  </a:lnTo>
                  <a:lnTo>
                    <a:pt x="2489" y="132"/>
                  </a:lnTo>
                  <a:lnTo>
                    <a:pt x="2572" y="168"/>
                  </a:lnTo>
                  <a:lnTo>
                    <a:pt x="2652" y="208"/>
                  </a:lnTo>
                  <a:lnTo>
                    <a:pt x="2728" y="251"/>
                  </a:lnTo>
                  <a:lnTo>
                    <a:pt x="2803" y="298"/>
                  </a:lnTo>
                  <a:lnTo>
                    <a:pt x="2875" y="348"/>
                  </a:lnTo>
                  <a:lnTo>
                    <a:pt x="2945" y="402"/>
                  </a:lnTo>
                  <a:lnTo>
                    <a:pt x="3011" y="459"/>
                  </a:lnTo>
                  <a:lnTo>
                    <a:pt x="3075" y="517"/>
                  </a:lnTo>
                  <a:lnTo>
                    <a:pt x="3136" y="580"/>
                  </a:lnTo>
                  <a:lnTo>
                    <a:pt x="3193" y="645"/>
                  </a:lnTo>
                  <a:lnTo>
                    <a:pt x="3247" y="714"/>
                  </a:lnTo>
                  <a:lnTo>
                    <a:pt x="3298" y="784"/>
                  </a:lnTo>
                  <a:lnTo>
                    <a:pt x="3345" y="856"/>
                  </a:lnTo>
                  <a:lnTo>
                    <a:pt x="3389" y="931"/>
                  </a:lnTo>
                  <a:lnTo>
                    <a:pt x="3430" y="1009"/>
                  </a:lnTo>
                  <a:lnTo>
                    <a:pt x="3467" y="1087"/>
                  </a:lnTo>
                  <a:lnTo>
                    <a:pt x="3499" y="1168"/>
                  </a:lnTo>
                  <a:lnTo>
                    <a:pt x="3529" y="1250"/>
                  </a:lnTo>
                  <a:lnTo>
                    <a:pt x="3554" y="1334"/>
                  </a:lnTo>
                  <a:lnTo>
                    <a:pt x="3575" y="1419"/>
                  </a:lnTo>
                  <a:lnTo>
                    <a:pt x="3592" y="1506"/>
                  </a:lnTo>
                  <a:lnTo>
                    <a:pt x="3605" y="1594"/>
                  </a:lnTo>
                  <a:lnTo>
                    <a:pt x="3613" y="1683"/>
                  </a:lnTo>
                  <a:lnTo>
                    <a:pt x="3617" y="1772"/>
                  </a:lnTo>
                  <a:lnTo>
                    <a:pt x="3616" y="1862"/>
                  </a:lnTo>
                  <a:lnTo>
                    <a:pt x="3612" y="1954"/>
                  </a:lnTo>
                  <a:lnTo>
                    <a:pt x="3601" y="2045"/>
                  </a:lnTo>
                  <a:lnTo>
                    <a:pt x="3587" y="2136"/>
                  </a:lnTo>
                  <a:lnTo>
                    <a:pt x="3568" y="2227"/>
                  </a:lnTo>
                  <a:lnTo>
                    <a:pt x="3545" y="2316"/>
                  </a:lnTo>
                  <a:lnTo>
                    <a:pt x="3516" y="2403"/>
                  </a:lnTo>
                  <a:lnTo>
                    <a:pt x="3485" y="2487"/>
                  </a:lnTo>
                  <a:lnTo>
                    <a:pt x="3449" y="2569"/>
                  </a:lnTo>
                  <a:lnTo>
                    <a:pt x="3409" y="2649"/>
                  </a:lnTo>
                  <a:lnTo>
                    <a:pt x="3366" y="2727"/>
                  </a:lnTo>
                  <a:lnTo>
                    <a:pt x="3319" y="2801"/>
                  </a:lnTo>
                  <a:lnTo>
                    <a:pt x="3268" y="2874"/>
                  </a:lnTo>
                  <a:lnTo>
                    <a:pt x="3215" y="2943"/>
                  </a:lnTo>
                  <a:lnTo>
                    <a:pt x="3158" y="3009"/>
                  </a:lnTo>
                  <a:lnTo>
                    <a:pt x="3098" y="3073"/>
                  </a:lnTo>
                  <a:lnTo>
                    <a:pt x="3036" y="3133"/>
                  </a:lnTo>
                  <a:lnTo>
                    <a:pt x="2971" y="3191"/>
                  </a:lnTo>
                  <a:lnTo>
                    <a:pt x="2903" y="3245"/>
                  </a:lnTo>
                  <a:lnTo>
                    <a:pt x="2832" y="3296"/>
                  </a:lnTo>
                  <a:lnTo>
                    <a:pt x="2760" y="3343"/>
                  </a:lnTo>
                  <a:lnTo>
                    <a:pt x="2684" y="3387"/>
                  </a:lnTo>
                  <a:lnTo>
                    <a:pt x="2607" y="3428"/>
                  </a:lnTo>
                  <a:lnTo>
                    <a:pt x="2529" y="3464"/>
                  </a:lnTo>
                  <a:lnTo>
                    <a:pt x="2448" y="3497"/>
                  </a:lnTo>
                  <a:lnTo>
                    <a:pt x="2366" y="3527"/>
                  </a:lnTo>
                  <a:lnTo>
                    <a:pt x="2282" y="3552"/>
                  </a:lnTo>
                  <a:lnTo>
                    <a:pt x="2196" y="3573"/>
                  </a:lnTo>
                  <a:lnTo>
                    <a:pt x="2109" y="3590"/>
                  </a:lnTo>
                  <a:lnTo>
                    <a:pt x="2021" y="3602"/>
                  </a:lnTo>
                  <a:lnTo>
                    <a:pt x="1933" y="3611"/>
                  </a:lnTo>
                  <a:lnTo>
                    <a:pt x="1844" y="3615"/>
                  </a:lnTo>
                  <a:lnTo>
                    <a:pt x="1753" y="3614"/>
                  </a:lnTo>
                  <a:lnTo>
                    <a:pt x="1662" y="3609"/>
                  </a:lnTo>
                  <a:lnTo>
                    <a:pt x="1570" y="3599"/>
                  </a:lnTo>
                  <a:lnTo>
                    <a:pt x="1479" y="3584"/>
                  </a:lnTo>
                  <a:lnTo>
                    <a:pt x="1388" y="3565"/>
                  </a:lnTo>
                  <a:lnTo>
                    <a:pt x="1299" y="3541"/>
                  </a:lnTo>
                  <a:lnTo>
                    <a:pt x="1212" y="3514"/>
                  </a:lnTo>
                  <a:lnTo>
                    <a:pt x="1128" y="3481"/>
                  </a:lnTo>
                  <a:lnTo>
                    <a:pt x="1045" y="3446"/>
                  </a:lnTo>
                  <a:lnTo>
                    <a:pt x="966" y="3407"/>
                  </a:lnTo>
                  <a:lnTo>
                    <a:pt x="889" y="3363"/>
                  </a:lnTo>
                  <a:lnTo>
                    <a:pt x="814" y="3317"/>
                  </a:lnTo>
                  <a:lnTo>
                    <a:pt x="741" y="3266"/>
                  </a:lnTo>
                  <a:lnTo>
                    <a:pt x="672" y="3213"/>
                  </a:lnTo>
                  <a:lnTo>
                    <a:pt x="606" y="3156"/>
                  </a:lnTo>
                  <a:lnTo>
                    <a:pt x="542" y="3096"/>
                  </a:lnTo>
                  <a:lnTo>
                    <a:pt x="482" y="3034"/>
                  </a:lnTo>
                  <a:lnTo>
                    <a:pt x="424" y="2968"/>
                  </a:lnTo>
                  <a:lnTo>
                    <a:pt x="370" y="2901"/>
                  </a:lnTo>
                  <a:lnTo>
                    <a:pt x="319" y="2830"/>
                  </a:lnTo>
                  <a:lnTo>
                    <a:pt x="272" y="2757"/>
                  </a:lnTo>
                  <a:lnTo>
                    <a:pt x="228" y="2682"/>
                  </a:lnTo>
                  <a:lnTo>
                    <a:pt x="187" y="2606"/>
                  </a:lnTo>
                  <a:lnTo>
                    <a:pt x="150" y="2527"/>
                  </a:lnTo>
                  <a:lnTo>
                    <a:pt x="117" y="2446"/>
                  </a:lnTo>
                  <a:lnTo>
                    <a:pt x="88" y="2363"/>
                  </a:lnTo>
                  <a:lnTo>
                    <a:pt x="63" y="2279"/>
                  </a:lnTo>
                  <a:lnTo>
                    <a:pt x="42" y="2194"/>
                  </a:lnTo>
                  <a:lnTo>
                    <a:pt x="25" y="2108"/>
                  </a:lnTo>
                  <a:lnTo>
                    <a:pt x="12" y="2020"/>
                  </a:lnTo>
                  <a:lnTo>
                    <a:pt x="4" y="1932"/>
                  </a:lnTo>
                  <a:lnTo>
                    <a:pt x="0" y="1841"/>
                  </a:lnTo>
                  <a:lnTo>
                    <a:pt x="1" y="1751"/>
                  </a:lnTo>
                  <a:lnTo>
                    <a:pt x="6" y="1661"/>
                  </a:lnTo>
                  <a:lnTo>
                    <a:pt x="15" y="1569"/>
                  </a:lnTo>
                  <a:lnTo>
                    <a:pt x="30" y="1477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9" name=""/>
          <p:cNvSpPr/>
          <p:nvPr/>
        </p:nvSpPr>
        <p:spPr>
          <a:xfrm>
            <a:off x="2725560" y="582480"/>
            <a:ext cx="40057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f1a17"/>
                </a:solidFill>
                <a:latin typeface="Geometr231 Hv BT"/>
              </a:rPr>
              <a:t>HIV IN MOTHERS &amp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2638440" y="1109520"/>
            <a:ext cx="4204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f1a17"/>
                </a:solidFill>
                <a:latin typeface="Geometr231 Hv BT"/>
              </a:rPr>
              <a:t>NEWBORN INFAN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1" name=""/>
          <p:cNvGrpSpPr/>
          <p:nvPr/>
        </p:nvGrpSpPr>
        <p:grpSpPr>
          <a:xfrm>
            <a:off x="3995640" y="1720800"/>
            <a:ext cx="2087640" cy="4299120"/>
            <a:chOff x="3995640" y="1720800"/>
            <a:chExt cx="2087640" cy="4299120"/>
          </a:xfrm>
        </p:grpSpPr>
        <p:sp>
          <p:nvSpPr>
            <p:cNvPr id="5092" name=""/>
            <p:cNvSpPr/>
            <p:nvPr/>
          </p:nvSpPr>
          <p:spPr>
            <a:xfrm>
              <a:off x="4181400" y="3841920"/>
              <a:ext cx="249480" cy="2171520"/>
            </a:xfrm>
            <a:custGeom>
              <a:avLst/>
              <a:gdLst/>
              <a:ahLst/>
              <a:rect l="l" t="t" r="r" b="b"/>
              <a:pathLst>
                <a:path w="788" h="6842">
                  <a:moveTo>
                    <a:pt x="579" y="0"/>
                  </a:moveTo>
                  <a:lnTo>
                    <a:pt x="0" y="6842"/>
                  </a:lnTo>
                  <a:lnTo>
                    <a:pt x="217" y="6842"/>
                  </a:lnTo>
                  <a:lnTo>
                    <a:pt x="788" y="0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4314960" y="3781440"/>
              <a:ext cx="247680" cy="2168640"/>
            </a:xfrm>
            <a:custGeom>
              <a:avLst/>
              <a:gdLst/>
              <a:ahLst/>
              <a:rect l="l" t="t" r="r" b="b"/>
              <a:pathLst>
                <a:path w="780" h="6830">
                  <a:moveTo>
                    <a:pt x="574" y="0"/>
                  </a:moveTo>
                  <a:lnTo>
                    <a:pt x="0" y="6830"/>
                  </a:lnTo>
                  <a:lnTo>
                    <a:pt x="209" y="6830"/>
                  </a:lnTo>
                  <a:lnTo>
                    <a:pt x="780" y="0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5110200" y="3841920"/>
              <a:ext cx="247680" cy="2171520"/>
            </a:xfrm>
            <a:custGeom>
              <a:avLst/>
              <a:gdLst/>
              <a:ahLst/>
              <a:rect l="l" t="t" r="r" b="b"/>
              <a:pathLst>
                <a:path w="780" h="6842">
                  <a:moveTo>
                    <a:pt x="209" y="0"/>
                  </a:moveTo>
                  <a:lnTo>
                    <a:pt x="780" y="6842"/>
                  </a:lnTo>
                  <a:lnTo>
                    <a:pt x="574" y="6842"/>
                  </a:lnTo>
                  <a:lnTo>
                    <a:pt x="0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4978440" y="3781440"/>
              <a:ext cx="247680" cy="2168640"/>
            </a:xfrm>
            <a:custGeom>
              <a:avLst/>
              <a:gdLst/>
              <a:ahLst/>
              <a:rect l="l" t="t" r="r" b="b"/>
              <a:pathLst>
                <a:path w="780" h="6830">
                  <a:moveTo>
                    <a:pt x="209" y="0"/>
                  </a:moveTo>
                  <a:lnTo>
                    <a:pt x="780" y="6830"/>
                  </a:lnTo>
                  <a:lnTo>
                    <a:pt x="571" y="6830"/>
                  </a:lnTo>
                  <a:lnTo>
                    <a:pt x="0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4181400" y="5354640"/>
              <a:ext cx="1206720" cy="76320"/>
            </a:xfrm>
            <a:prstGeom prst="rect">
              <a:avLst/>
            </a:pr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4761000" y="4913280"/>
              <a:ext cx="339480" cy="770040"/>
            </a:xfrm>
            <a:custGeom>
              <a:avLst/>
              <a:gdLst/>
              <a:ahLst/>
              <a:rect l="l" t="t" r="r" b="b"/>
              <a:pathLst>
                <a:path w="1070" h="2427">
                  <a:moveTo>
                    <a:pt x="271" y="0"/>
                  </a:moveTo>
                  <a:lnTo>
                    <a:pt x="259" y="111"/>
                  </a:lnTo>
                  <a:lnTo>
                    <a:pt x="228" y="205"/>
                  </a:lnTo>
                  <a:lnTo>
                    <a:pt x="218" y="268"/>
                  </a:lnTo>
                  <a:lnTo>
                    <a:pt x="218" y="320"/>
                  </a:lnTo>
                  <a:lnTo>
                    <a:pt x="228" y="374"/>
                  </a:lnTo>
                  <a:lnTo>
                    <a:pt x="218" y="436"/>
                  </a:lnTo>
                  <a:lnTo>
                    <a:pt x="196" y="498"/>
                  </a:lnTo>
                  <a:lnTo>
                    <a:pt x="209" y="548"/>
                  </a:lnTo>
                  <a:lnTo>
                    <a:pt x="228" y="601"/>
                  </a:lnTo>
                  <a:lnTo>
                    <a:pt x="228" y="704"/>
                  </a:lnTo>
                  <a:lnTo>
                    <a:pt x="209" y="757"/>
                  </a:lnTo>
                  <a:lnTo>
                    <a:pt x="179" y="810"/>
                  </a:lnTo>
                  <a:lnTo>
                    <a:pt x="147" y="890"/>
                  </a:lnTo>
                  <a:lnTo>
                    <a:pt x="125" y="1006"/>
                  </a:lnTo>
                  <a:lnTo>
                    <a:pt x="116" y="1090"/>
                  </a:lnTo>
                  <a:lnTo>
                    <a:pt x="116" y="1183"/>
                  </a:lnTo>
                  <a:lnTo>
                    <a:pt x="116" y="1358"/>
                  </a:lnTo>
                  <a:lnTo>
                    <a:pt x="103" y="1492"/>
                  </a:lnTo>
                  <a:lnTo>
                    <a:pt x="72" y="1617"/>
                  </a:lnTo>
                  <a:lnTo>
                    <a:pt x="22" y="1754"/>
                  </a:lnTo>
                  <a:lnTo>
                    <a:pt x="0" y="1825"/>
                  </a:lnTo>
                  <a:lnTo>
                    <a:pt x="0" y="1910"/>
                  </a:lnTo>
                  <a:lnTo>
                    <a:pt x="54" y="2065"/>
                  </a:lnTo>
                  <a:lnTo>
                    <a:pt x="147" y="2221"/>
                  </a:lnTo>
                  <a:lnTo>
                    <a:pt x="271" y="2365"/>
                  </a:lnTo>
                  <a:lnTo>
                    <a:pt x="343" y="2417"/>
                  </a:lnTo>
                  <a:lnTo>
                    <a:pt x="446" y="2427"/>
                  </a:lnTo>
                  <a:lnTo>
                    <a:pt x="561" y="2427"/>
                  </a:lnTo>
                  <a:lnTo>
                    <a:pt x="686" y="2408"/>
                  </a:lnTo>
                  <a:lnTo>
                    <a:pt x="802" y="2365"/>
                  </a:lnTo>
                  <a:lnTo>
                    <a:pt x="905" y="2302"/>
                  </a:lnTo>
                  <a:lnTo>
                    <a:pt x="989" y="2240"/>
                  </a:lnTo>
                  <a:lnTo>
                    <a:pt x="1030" y="2168"/>
                  </a:lnTo>
                  <a:lnTo>
                    <a:pt x="1051" y="2084"/>
                  </a:lnTo>
                  <a:lnTo>
                    <a:pt x="1060" y="1991"/>
                  </a:lnTo>
                  <a:lnTo>
                    <a:pt x="1070" y="1785"/>
                  </a:lnTo>
                  <a:lnTo>
                    <a:pt x="1070" y="1576"/>
                  </a:lnTo>
                  <a:lnTo>
                    <a:pt x="1060" y="1389"/>
                  </a:lnTo>
                  <a:lnTo>
                    <a:pt x="1060" y="1245"/>
                  </a:lnTo>
                  <a:lnTo>
                    <a:pt x="1051" y="1121"/>
                  </a:lnTo>
                  <a:lnTo>
                    <a:pt x="1030" y="984"/>
                  </a:lnTo>
                  <a:lnTo>
                    <a:pt x="998" y="828"/>
                  </a:lnTo>
                  <a:lnTo>
                    <a:pt x="976" y="664"/>
                  </a:lnTo>
                  <a:lnTo>
                    <a:pt x="989" y="498"/>
                  </a:lnTo>
                  <a:lnTo>
                    <a:pt x="1008" y="133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4392720" y="4645080"/>
              <a:ext cx="438120" cy="768240"/>
            </a:xfrm>
            <a:custGeom>
              <a:avLst/>
              <a:gdLst/>
              <a:ahLst/>
              <a:rect l="l" t="t" r="r" b="b"/>
              <a:pathLst>
                <a:path w="1380" h="2418">
                  <a:moveTo>
                    <a:pt x="280" y="175"/>
                  </a:moveTo>
                  <a:lnTo>
                    <a:pt x="311" y="299"/>
                  </a:lnTo>
                  <a:lnTo>
                    <a:pt x="333" y="405"/>
                  </a:lnTo>
                  <a:lnTo>
                    <a:pt x="364" y="570"/>
                  </a:lnTo>
                  <a:lnTo>
                    <a:pt x="364" y="695"/>
                  </a:lnTo>
                  <a:lnTo>
                    <a:pt x="352" y="798"/>
                  </a:lnTo>
                  <a:lnTo>
                    <a:pt x="301" y="904"/>
                  </a:lnTo>
                  <a:lnTo>
                    <a:pt x="271" y="944"/>
                  </a:lnTo>
                  <a:lnTo>
                    <a:pt x="249" y="1007"/>
                  </a:lnTo>
                  <a:lnTo>
                    <a:pt x="227" y="1100"/>
                  </a:lnTo>
                  <a:lnTo>
                    <a:pt x="217" y="1234"/>
                  </a:lnTo>
                  <a:lnTo>
                    <a:pt x="196" y="1381"/>
                  </a:lnTo>
                  <a:lnTo>
                    <a:pt x="187" y="1506"/>
                  </a:lnTo>
                  <a:lnTo>
                    <a:pt x="155" y="1609"/>
                  </a:lnTo>
                  <a:lnTo>
                    <a:pt x="30" y="1795"/>
                  </a:lnTo>
                  <a:lnTo>
                    <a:pt x="0" y="1889"/>
                  </a:lnTo>
                  <a:lnTo>
                    <a:pt x="8" y="2025"/>
                  </a:lnTo>
                  <a:lnTo>
                    <a:pt x="30" y="2200"/>
                  </a:lnTo>
                  <a:lnTo>
                    <a:pt x="93" y="2347"/>
                  </a:lnTo>
                  <a:lnTo>
                    <a:pt x="133" y="2396"/>
                  </a:lnTo>
                  <a:lnTo>
                    <a:pt x="187" y="2418"/>
                  </a:lnTo>
                  <a:lnTo>
                    <a:pt x="271" y="2418"/>
                  </a:lnTo>
                  <a:lnTo>
                    <a:pt x="383" y="2409"/>
                  </a:lnTo>
                  <a:lnTo>
                    <a:pt x="529" y="2377"/>
                  </a:lnTo>
                  <a:lnTo>
                    <a:pt x="673" y="2325"/>
                  </a:lnTo>
                  <a:lnTo>
                    <a:pt x="810" y="2263"/>
                  </a:lnTo>
                  <a:lnTo>
                    <a:pt x="935" y="2200"/>
                  </a:lnTo>
                  <a:lnTo>
                    <a:pt x="1016" y="2119"/>
                  </a:lnTo>
                  <a:lnTo>
                    <a:pt x="1059" y="2044"/>
                  </a:lnTo>
                  <a:lnTo>
                    <a:pt x="1047" y="1879"/>
                  </a:lnTo>
                  <a:lnTo>
                    <a:pt x="1016" y="1683"/>
                  </a:lnTo>
                  <a:lnTo>
                    <a:pt x="1006" y="1506"/>
                  </a:lnTo>
                  <a:lnTo>
                    <a:pt x="1016" y="1433"/>
                  </a:lnTo>
                  <a:lnTo>
                    <a:pt x="1059" y="1381"/>
                  </a:lnTo>
                  <a:lnTo>
                    <a:pt x="1122" y="1412"/>
                  </a:lnTo>
                  <a:lnTo>
                    <a:pt x="1152" y="1412"/>
                  </a:lnTo>
                  <a:lnTo>
                    <a:pt x="1162" y="1403"/>
                  </a:lnTo>
                  <a:lnTo>
                    <a:pt x="1203" y="1349"/>
                  </a:lnTo>
                  <a:lnTo>
                    <a:pt x="1246" y="1287"/>
                  </a:lnTo>
                  <a:lnTo>
                    <a:pt x="1296" y="1203"/>
                  </a:lnTo>
                  <a:lnTo>
                    <a:pt x="1349" y="1110"/>
                  </a:lnTo>
                  <a:lnTo>
                    <a:pt x="1380" y="1007"/>
                  </a:lnTo>
                  <a:lnTo>
                    <a:pt x="1380" y="904"/>
                  </a:lnTo>
                  <a:lnTo>
                    <a:pt x="1349" y="798"/>
                  </a:lnTo>
                  <a:lnTo>
                    <a:pt x="1216" y="549"/>
                  </a:lnTo>
                  <a:lnTo>
                    <a:pt x="1141" y="424"/>
                  </a:lnTo>
                  <a:lnTo>
                    <a:pt x="1100" y="331"/>
                  </a:lnTo>
                  <a:lnTo>
                    <a:pt x="1078" y="237"/>
                  </a:lnTo>
                  <a:lnTo>
                    <a:pt x="1059" y="134"/>
                  </a:lnTo>
                  <a:lnTo>
                    <a:pt x="1047" y="41"/>
                  </a:lnTo>
                  <a:lnTo>
                    <a:pt x="1047" y="0"/>
                  </a:lnTo>
                  <a:lnTo>
                    <a:pt x="280" y="1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4381560" y="2325600"/>
              <a:ext cx="1319040" cy="1174680"/>
            </a:xfrm>
            <a:custGeom>
              <a:avLst/>
              <a:gdLst/>
              <a:ahLst/>
              <a:rect l="l" t="t" r="r" b="b"/>
              <a:pathLst>
                <a:path w="4156" h="3704">
                  <a:moveTo>
                    <a:pt x="1640" y="0"/>
                  </a:moveTo>
                  <a:lnTo>
                    <a:pt x="1631" y="0"/>
                  </a:lnTo>
                  <a:lnTo>
                    <a:pt x="1599" y="9"/>
                  </a:lnTo>
                  <a:lnTo>
                    <a:pt x="1560" y="19"/>
                  </a:lnTo>
                  <a:lnTo>
                    <a:pt x="1497" y="31"/>
                  </a:lnTo>
                  <a:lnTo>
                    <a:pt x="1341" y="71"/>
                  </a:lnTo>
                  <a:lnTo>
                    <a:pt x="1163" y="112"/>
                  </a:lnTo>
                  <a:lnTo>
                    <a:pt x="976" y="155"/>
                  </a:lnTo>
                  <a:lnTo>
                    <a:pt x="810" y="206"/>
                  </a:lnTo>
                  <a:lnTo>
                    <a:pt x="674" y="249"/>
                  </a:lnTo>
                  <a:lnTo>
                    <a:pt x="633" y="268"/>
                  </a:lnTo>
                  <a:lnTo>
                    <a:pt x="602" y="280"/>
                  </a:lnTo>
                  <a:lnTo>
                    <a:pt x="580" y="299"/>
                  </a:lnTo>
                  <a:lnTo>
                    <a:pt x="549" y="342"/>
                  </a:lnTo>
                  <a:lnTo>
                    <a:pt x="477" y="455"/>
                  </a:lnTo>
                  <a:lnTo>
                    <a:pt x="384" y="611"/>
                  </a:lnTo>
                  <a:lnTo>
                    <a:pt x="290" y="798"/>
                  </a:lnTo>
                  <a:lnTo>
                    <a:pt x="116" y="1184"/>
                  </a:lnTo>
                  <a:lnTo>
                    <a:pt x="40" y="1359"/>
                  </a:lnTo>
                  <a:lnTo>
                    <a:pt x="0" y="1514"/>
                  </a:lnTo>
                  <a:lnTo>
                    <a:pt x="0" y="1558"/>
                  </a:lnTo>
                  <a:lnTo>
                    <a:pt x="10" y="1607"/>
                  </a:lnTo>
                  <a:lnTo>
                    <a:pt x="40" y="1661"/>
                  </a:lnTo>
                  <a:lnTo>
                    <a:pt x="84" y="1732"/>
                  </a:lnTo>
                  <a:lnTo>
                    <a:pt x="187" y="1900"/>
                  </a:lnTo>
                  <a:lnTo>
                    <a:pt x="333" y="2087"/>
                  </a:lnTo>
                  <a:lnTo>
                    <a:pt x="509" y="2293"/>
                  </a:lnTo>
                  <a:lnTo>
                    <a:pt x="717" y="2502"/>
                  </a:lnTo>
                  <a:lnTo>
                    <a:pt x="945" y="2719"/>
                  </a:lnTo>
                  <a:lnTo>
                    <a:pt x="1194" y="2938"/>
                  </a:lnTo>
                  <a:lnTo>
                    <a:pt x="1453" y="3144"/>
                  </a:lnTo>
                  <a:lnTo>
                    <a:pt x="1715" y="3321"/>
                  </a:lnTo>
                  <a:lnTo>
                    <a:pt x="1983" y="3477"/>
                  </a:lnTo>
                  <a:lnTo>
                    <a:pt x="2245" y="3601"/>
                  </a:lnTo>
                  <a:lnTo>
                    <a:pt x="2495" y="3685"/>
                  </a:lnTo>
                  <a:lnTo>
                    <a:pt x="2731" y="3704"/>
                  </a:lnTo>
                  <a:lnTo>
                    <a:pt x="2847" y="3704"/>
                  </a:lnTo>
                  <a:lnTo>
                    <a:pt x="2950" y="3685"/>
                  </a:lnTo>
                  <a:lnTo>
                    <a:pt x="3056" y="3642"/>
                  </a:lnTo>
                  <a:lnTo>
                    <a:pt x="3149" y="3592"/>
                  </a:lnTo>
                  <a:lnTo>
                    <a:pt x="3314" y="3455"/>
                  </a:lnTo>
                  <a:lnTo>
                    <a:pt x="3470" y="3299"/>
                  </a:lnTo>
                  <a:lnTo>
                    <a:pt x="3595" y="3134"/>
                  </a:lnTo>
                  <a:lnTo>
                    <a:pt x="3720" y="2960"/>
                  </a:lnTo>
                  <a:lnTo>
                    <a:pt x="3813" y="2773"/>
                  </a:lnTo>
                  <a:lnTo>
                    <a:pt x="3894" y="2573"/>
                  </a:lnTo>
                  <a:lnTo>
                    <a:pt x="4019" y="2200"/>
                  </a:lnTo>
                  <a:lnTo>
                    <a:pt x="4103" y="1848"/>
                  </a:lnTo>
                  <a:lnTo>
                    <a:pt x="4125" y="1691"/>
                  </a:lnTo>
                  <a:lnTo>
                    <a:pt x="4143" y="1558"/>
                  </a:lnTo>
                  <a:lnTo>
                    <a:pt x="4156" y="1433"/>
                  </a:lnTo>
                  <a:lnTo>
                    <a:pt x="4156" y="1265"/>
                  </a:lnTo>
                  <a:lnTo>
                    <a:pt x="4143" y="1234"/>
                  </a:lnTo>
                  <a:lnTo>
                    <a:pt x="4103" y="1184"/>
                  </a:lnTo>
                  <a:lnTo>
                    <a:pt x="4040" y="1109"/>
                  </a:lnTo>
                  <a:lnTo>
                    <a:pt x="3845" y="944"/>
                  </a:lnTo>
                  <a:lnTo>
                    <a:pt x="3636" y="779"/>
                  </a:lnTo>
                  <a:lnTo>
                    <a:pt x="3555" y="704"/>
                  </a:lnTo>
                  <a:lnTo>
                    <a:pt x="3492" y="654"/>
                  </a:lnTo>
                  <a:lnTo>
                    <a:pt x="3398" y="570"/>
                  </a:lnTo>
                  <a:lnTo>
                    <a:pt x="3283" y="486"/>
                  </a:lnTo>
                  <a:lnTo>
                    <a:pt x="3181" y="405"/>
                  </a:lnTo>
                  <a:lnTo>
                    <a:pt x="3086" y="352"/>
                  </a:lnTo>
                  <a:lnTo>
                    <a:pt x="3065" y="331"/>
                  </a:lnTo>
                  <a:lnTo>
                    <a:pt x="3056" y="312"/>
                  </a:lnTo>
                  <a:lnTo>
                    <a:pt x="3034" y="268"/>
                  </a:lnTo>
                  <a:lnTo>
                    <a:pt x="3012" y="218"/>
                  </a:lnTo>
                  <a:lnTo>
                    <a:pt x="2940" y="112"/>
                  </a:lnTo>
                  <a:lnTo>
                    <a:pt x="2869" y="71"/>
                  </a:lnTo>
                  <a:lnTo>
                    <a:pt x="2785" y="31"/>
                  </a:lnTo>
                  <a:lnTo>
                    <a:pt x="1640" y="0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3995640" y="2905200"/>
              <a:ext cx="946080" cy="600120"/>
            </a:xfrm>
            <a:custGeom>
              <a:avLst/>
              <a:gdLst/>
              <a:ahLst/>
              <a:rect l="l" t="t" r="r" b="b"/>
              <a:pathLst>
                <a:path w="2979" h="1891">
                  <a:moveTo>
                    <a:pt x="1060" y="12"/>
                  </a:moveTo>
                  <a:lnTo>
                    <a:pt x="987" y="30"/>
                  </a:lnTo>
                  <a:lnTo>
                    <a:pt x="841" y="12"/>
                  </a:lnTo>
                  <a:lnTo>
                    <a:pt x="748" y="0"/>
                  </a:lnTo>
                  <a:lnTo>
                    <a:pt x="539" y="0"/>
                  </a:lnTo>
                  <a:lnTo>
                    <a:pt x="436" y="22"/>
                  </a:lnTo>
                  <a:lnTo>
                    <a:pt x="352" y="74"/>
                  </a:lnTo>
                  <a:lnTo>
                    <a:pt x="301" y="136"/>
                  </a:lnTo>
                  <a:lnTo>
                    <a:pt x="271" y="187"/>
                  </a:lnTo>
                  <a:lnTo>
                    <a:pt x="227" y="209"/>
                  </a:lnTo>
                  <a:lnTo>
                    <a:pt x="146" y="230"/>
                  </a:lnTo>
                  <a:lnTo>
                    <a:pt x="124" y="239"/>
                  </a:lnTo>
                  <a:lnTo>
                    <a:pt x="114" y="271"/>
                  </a:lnTo>
                  <a:lnTo>
                    <a:pt x="103" y="364"/>
                  </a:lnTo>
                  <a:lnTo>
                    <a:pt x="93" y="467"/>
                  </a:lnTo>
                  <a:lnTo>
                    <a:pt x="71" y="551"/>
                  </a:lnTo>
                  <a:lnTo>
                    <a:pt x="30" y="622"/>
                  </a:lnTo>
                  <a:lnTo>
                    <a:pt x="0" y="716"/>
                  </a:lnTo>
                  <a:lnTo>
                    <a:pt x="0" y="809"/>
                  </a:lnTo>
                  <a:lnTo>
                    <a:pt x="40" y="915"/>
                  </a:lnTo>
                  <a:lnTo>
                    <a:pt x="84" y="966"/>
                  </a:lnTo>
                  <a:lnTo>
                    <a:pt x="155" y="996"/>
                  </a:lnTo>
                  <a:lnTo>
                    <a:pt x="311" y="1040"/>
                  </a:lnTo>
                  <a:lnTo>
                    <a:pt x="445" y="1050"/>
                  </a:lnTo>
                  <a:lnTo>
                    <a:pt x="507" y="1050"/>
                  </a:lnTo>
                  <a:lnTo>
                    <a:pt x="539" y="1059"/>
                  </a:lnTo>
                  <a:lnTo>
                    <a:pt x="591" y="1080"/>
                  </a:lnTo>
                  <a:lnTo>
                    <a:pt x="778" y="1153"/>
                  </a:lnTo>
                  <a:lnTo>
                    <a:pt x="872" y="1205"/>
                  </a:lnTo>
                  <a:lnTo>
                    <a:pt x="944" y="1268"/>
                  </a:lnTo>
                  <a:lnTo>
                    <a:pt x="997" y="1330"/>
                  </a:lnTo>
                  <a:lnTo>
                    <a:pt x="1006" y="1402"/>
                  </a:lnTo>
                  <a:lnTo>
                    <a:pt x="997" y="1464"/>
                  </a:lnTo>
                  <a:lnTo>
                    <a:pt x="1006" y="1517"/>
                  </a:lnTo>
                  <a:lnTo>
                    <a:pt x="1050" y="1598"/>
                  </a:lnTo>
                  <a:lnTo>
                    <a:pt x="1100" y="1651"/>
                  </a:lnTo>
                  <a:lnTo>
                    <a:pt x="1131" y="1704"/>
                  </a:lnTo>
                  <a:lnTo>
                    <a:pt x="1174" y="1829"/>
                  </a:lnTo>
                  <a:lnTo>
                    <a:pt x="1193" y="1869"/>
                  </a:lnTo>
                  <a:lnTo>
                    <a:pt x="1206" y="1891"/>
                  </a:lnTo>
                  <a:lnTo>
                    <a:pt x="1225" y="1891"/>
                  </a:lnTo>
                  <a:lnTo>
                    <a:pt x="1287" y="1878"/>
                  </a:lnTo>
                  <a:lnTo>
                    <a:pt x="1380" y="1869"/>
                  </a:lnTo>
                  <a:lnTo>
                    <a:pt x="1518" y="1859"/>
                  </a:lnTo>
                  <a:lnTo>
                    <a:pt x="1661" y="1838"/>
                  </a:lnTo>
                  <a:lnTo>
                    <a:pt x="1817" y="1807"/>
                  </a:lnTo>
                  <a:lnTo>
                    <a:pt x="2169" y="1745"/>
                  </a:lnTo>
                  <a:lnTo>
                    <a:pt x="2502" y="1660"/>
                  </a:lnTo>
                  <a:lnTo>
                    <a:pt x="2659" y="1620"/>
                  </a:lnTo>
                  <a:lnTo>
                    <a:pt x="2783" y="1566"/>
                  </a:lnTo>
                  <a:lnTo>
                    <a:pt x="2886" y="1504"/>
                  </a:lnTo>
                  <a:lnTo>
                    <a:pt x="2949" y="1443"/>
                  </a:lnTo>
                  <a:lnTo>
                    <a:pt x="2979" y="1380"/>
                  </a:lnTo>
                  <a:lnTo>
                    <a:pt x="2962" y="1308"/>
                  </a:lnTo>
                  <a:lnTo>
                    <a:pt x="2876" y="1175"/>
                  </a:lnTo>
                  <a:lnTo>
                    <a:pt x="2814" y="1072"/>
                  </a:lnTo>
                  <a:lnTo>
                    <a:pt x="2762" y="996"/>
                  </a:lnTo>
                  <a:lnTo>
                    <a:pt x="2721" y="934"/>
                  </a:lnTo>
                  <a:lnTo>
                    <a:pt x="2659" y="853"/>
                  </a:lnTo>
                  <a:lnTo>
                    <a:pt x="2596" y="800"/>
                  </a:lnTo>
                  <a:lnTo>
                    <a:pt x="2543" y="729"/>
                  </a:lnTo>
                  <a:lnTo>
                    <a:pt x="2512" y="645"/>
                  </a:lnTo>
                  <a:lnTo>
                    <a:pt x="2472" y="551"/>
                  </a:lnTo>
                  <a:lnTo>
                    <a:pt x="2418" y="489"/>
                  </a:lnTo>
                  <a:lnTo>
                    <a:pt x="2253" y="405"/>
                  </a:lnTo>
                  <a:lnTo>
                    <a:pt x="2182" y="355"/>
                  </a:lnTo>
                  <a:lnTo>
                    <a:pt x="2119" y="293"/>
                  </a:lnTo>
                  <a:lnTo>
                    <a:pt x="2044" y="218"/>
                  </a:lnTo>
                  <a:lnTo>
                    <a:pt x="1941" y="155"/>
                  </a:lnTo>
                  <a:lnTo>
                    <a:pt x="1848" y="93"/>
                  </a:lnTo>
                  <a:lnTo>
                    <a:pt x="1786" y="30"/>
                  </a:lnTo>
                  <a:lnTo>
                    <a:pt x="1060" y="12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4233960" y="3419640"/>
              <a:ext cx="1193760" cy="1598400"/>
            </a:xfrm>
            <a:custGeom>
              <a:avLst/>
              <a:gdLst/>
              <a:ahLst/>
              <a:rect l="l" t="t" r="r" b="b"/>
              <a:pathLst>
                <a:path w="3759" h="5035">
                  <a:moveTo>
                    <a:pt x="1184" y="0"/>
                  </a:moveTo>
                  <a:lnTo>
                    <a:pt x="1047" y="9"/>
                  </a:lnTo>
                  <a:lnTo>
                    <a:pt x="903" y="31"/>
                  </a:lnTo>
                  <a:lnTo>
                    <a:pt x="654" y="125"/>
                  </a:lnTo>
                  <a:lnTo>
                    <a:pt x="436" y="239"/>
                  </a:lnTo>
                  <a:lnTo>
                    <a:pt x="352" y="302"/>
                  </a:lnTo>
                  <a:lnTo>
                    <a:pt x="280" y="364"/>
                  </a:lnTo>
                  <a:lnTo>
                    <a:pt x="239" y="426"/>
                  </a:lnTo>
                  <a:lnTo>
                    <a:pt x="209" y="489"/>
                  </a:lnTo>
                  <a:lnTo>
                    <a:pt x="177" y="592"/>
                  </a:lnTo>
                  <a:lnTo>
                    <a:pt x="146" y="676"/>
                  </a:lnTo>
                  <a:lnTo>
                    <a:pt x="93" y="738"/>
                  </a:lnTo>
                  <a:lnTo>
                    <a:pt x="30" y="800"/>
                  </a:lnTo>
                  <a:lnTo>
                    <a:pt x="0" y="882"/>
                  </a:lnTo>
                  <a:lnTo>
                    <a:pt x="0" y="975"/>
                  </a:lnTo>
                  <a:lnTo>
                    <a:pt x="30" y="1069"/>
                  </a:lnTo>
                  <a:lnTo>
                    <a:pt x="52" y="1131"/>
                  </a:lnTo>
                  <a:lnTo>
                    <a:pt x="62" y="1205"/>
                  </a:lnTo>
                  <a:lnTo>
                    <a:pt x="52" y="1411"/>
                  </a:lnTo>
                  <a:lnTo>
                    <a:pt x="30" y="1611"/>
                  </a:lnTo>
                  <a:lnTo>
                    <a:pt x="30" y="1704"/>
                  </a:lnTo>
                  <a:lnTo>
                    <a:pt x="40" y="1776"/>
                  </a:lnTo>
                  <a:lnTo>
                    <a:pt x="71" y="1829"/>
                  </a:lnTo>
                  <a:lnTo>
                    <a:pt x="133" y="1891"/>
                  </a:lnTo>
                  <a:lnTo>
                    <a:pt x="187" y="1940"/>
                  </a:lnTo>
                  <a:lnTo>
                    <a:pt x="209" y="1962"/>
                  </a:lnTo>
                  <a:lnTo>
                    <a:pt x="209" y="1972"/>
                  </a:lnTo>
                  <a:lnTo>
                    <a:pt x="196" y="2003"/>
                  </a:lnTo>
                  <a:lnTo>
                    <a:pt x="177" y="2097"/>
                  </a:lnTo>
                  <a:lnTo>
                    <a:pt x="187" y="2212"/>
                  </a:lnTo>
                  <a:lnTo>
                    <a:pt x="209" y="2265"/>
                  </a:lnTo>
                  <a:lnTo>
                    <a:pt x="249" y="2315"/>
                  </a:lnTo>
                  <a:lnTo>
                    <a:pt x="271" y="2358"/>
                  </a:lnTo>
                  <a:lnTo>
                    <a:pt x="302" y="2420"/>
                  </a:lnTo>
                  <a:lnTo>
                    <a:pt x="333" y="2514"/>
                  </a:lnTo>
                  <a:lnTo>
                    <a:pt x="352" y="2639"/>
                  </a:lnTo>
                  <a:lnTo>
                    <a:pt x="405" y="2916"/>
                  </a:lnTo>
                  <a:lnTo>
                    <a:pt x="445" y="3228"/>
                  </a:lnTo>
                  <a:lnTo>
                    <a:pt x="489" y="3530"/>
                  </a:lnTo>
                  <a:lnTo>
                    <a:pt x="507" y="3663"/>
                  </a:lnTo>
                  <a:lnTo>
                    <a:pt x="520" y="3788"/>
                  </a:lnTo>
                  <a:lnTo>
                    <a:pt x="529" y="3904"/>
                  </a:lnTo>
                  <a:lnTo>
                    <a:pt x="539" y="3975"/>
                  </a:lnTo>
                  <a:lnTo>
                    <a:pt x="551" y="4029"/>
                  </a:lnTo>
                  <a:lnTo>
                    <a:pt x="551" y="4050"/>
                  </a:lnTo>
                  <a:lnTo>
                    <a:pt x="561" y="4059"/>
                  </a:lnTo>
                  <a:lnTo>
                    <a:pt x="592" y="4069"/>
                  </a:lnTo>
                  <a:lnTo>
                    <a:pt x="695" y="4132"/>
                  </a:lnTo>
                  <a:lnTo>
                    <a:pt x="841" y="4184"/>
                  </a:lnTo>
                  <a:lnTo>
                    <a:pt x="1016" y="4206"/>
                  </a:lnTo>
                  <a:lnTo>
                    <a:pt x="1109" y="4184"/>
                  </a:lnTo>
                  <a:lnTo>
                    <a:pt x="1215" y="4153"/>
                  </a:lnTo>
                  <a:lnTo>
                    <a:pt x="1434" y="4069"/>
                  </a:lnTo>
                  <a:lnTo>
                    <a:pt x="1515" y="4019"/>
                  </a:lnTo>
                  <a:lnTo>
                    <a:pt x="1599" y="3988"/>
                  </a:lnTo>
                  <a:lnTo>
                    <a:pt x="1640" y="3956"/>
                  </a:lnTo>
                  <a:lnTo>
                    <a:pt x="1661" y="3944"/>
                  </a:lnTo>
                  <a:lnTo>
                    <a:pt x="1661" y="3935"/>
                  </a:lnTo>
                  <a:lnTo>
                    <a:pt x="1651" y="3913"/>
                  </a:lnTo>
                  <a:lnTo>
                    <a:pt x="1640" y="3832"/>
                  </a:lnTo>
                  <a:lnTo>
                    <a:pt x="1621" y="3583"/>
                  </a:lnTo>
                  <a:lnTo>
                    <a:pt x="1621" y="3459"/>
                  </a:lnTo>
                  <a:lnTo>
                    <a:pt x="1630" y="3343"/>
                  </a:lnTo>
                  <a:lnTo>
                    <a:pt x="1630" y="3218"/>
                  </a:lnTo>
                  <a:lnTo>
                    <a:pt x="1640" y="2906"/>
                  </a:lnTo>
                  <a:lnTo>
                    <a:pt x="1661" y="2564"/>
                  </a:lnTo>
                  <a:lnTo>
                    <a:pt x="1670" y="2233"/>
                  </a:lnTo>
                  <a:lnTo>
                    <a:pt x="1670" y="2087"/>
                  </a:lnTo>
                  <a:lnTo>
                    <a:pt x="1683" y="1953"/>
                  </a:lnTo>
                  <a:lnTo>
                    <a:pt x="1683" y="1839"/>
                  </a:lnTo>
                  <a:lnTo>
                    <a:pt x="1692" y="1745"/>
                  </a:lnTo>
                  <a:lnTo>
                    <a:pt x="1692" y="1673"/>
                  </a:lnTo>
                  <a:lnTo>
                    <a:pt x="1692" y="1682"/>
                  </a:lnTo>
                  <a:lnTo>
                    <a:pt x="1702" y="1704"/>
                  </a:lnTo>
                  <a:lnTo>
                    <a:pt x="1724" y="1798"/>
                  </a:lnTo>
                  <a:lnTo>
                    <a:pt x="1754" y="1932"/>
                  </a:lnTo>
                  <a:lnTo>
                    <a:pt x="1786" y="2109"/>
                  </a:lnTo>
                  <a:lnTo>
                    <a:pt x="1840" y="2471"/>
                  </a:lnTo>
                  <a:lnTo>
                    <a:pt x="1840" y="2648"/>
                  </a:lnTo>
                  <a:lnTo>
                    <a:pt x="1827" y="2795"/>
                  </a:lnTo>
                  <a:lnTo>
                    <a:pt x="1808" y="2969"/>
                  </a:lnTo>
                  <a:lnTo>
                    <a:pt x="1795" y="3115"/>
                  </a:lnTo>
                  <a:lnTo>
                    <a:pt x="1808" y="3374"/>
                  </a:lnTo>
                  <a:lnTo>
                    <a:pt x="1827" y="3601"/>
                  </a:lnTo>
                  <a:lnTo>
                    <a:pt x="1827" y="3863"/>
                  </a:lnTo>
                  <a:lnTo>
                    <a:pt x="1817" y="4162"/>
                  </a:lnTo>
                  <a:lnTo>
                    <a:pt x="1840" y="4455"/>
                  </a:lnTo>
                  <a:lnTo>
                    <a:pt x="1848" y="4567"/>
                  </a:lnTo>
                  <a:lnTo>
                    <a:pt x="1857" y="4674"/>
                  </a:lnTo>
                  <a:lnTo>
                    <a:pt x="1870" y="4735"/>
                  </a:lnTo>
                  <a:lnTo>
                    <a:pt x="1870" y="4754"/>
                  </a:lnTo>
                  <a:lnTo>
                    <a:pt x="1889" y="4767"/>
                  </a:lnTo>
                  <a:lnTo>
                    <a:pt x="1951" y="4798"/>
                  </a:lnTo>
                  <a:lnTo>
                    <a:pt x="2035" y="4848"/>
                  </a:lnTo>
                  <a:lnTo>
                    <a:pt x="2128" y="4900"/>
                  </a:lnTo>
                  <a:lnTo>
                    <a:pt x="2325" y="4995"/>
                  </a:lnTo>
                  <a:lnTo>
                    <a:pt x="2409" y="5025"/>
                  </a:lnTo>
                  <a:lnTo>
                    <a:pt x="2450" y="5035"/>
                  </a:lnTo>
                  <a:lnTo>
                    <a:pt x="2494" y="5025"/>
                  </a:lnTo>
                  <a:lnTo>
                    <a:pt x="2566" y="5003"/>
                  </a:lnTo>
                  <a:lnTo>
                    <a:pt x="2721" y="4941"/>
                  </a:lnTo>
                  <a:lnTo>
                    <a:pt x="2868" y="4879"/>
                  </a:lnTo>
                  <a:lnTo>
                    <a:pt x="2908" y="4860"/>
                  </a:lnTo>
                  <a:lnTo>
                    <a:pt x="2930" y="4848"/>
                  </a:lnTo>
                  <a:lnTo>
                    <a:pt x="2930" y="4807"/>
                  </a:lnTo>
                  <a:lnTo>
                    <a:pt x="2940" y="4754"/>
                  </a:lnTo>
                  <a:lnTo>
                    <a:pt x="2940" y="4683"/>
                  </a:lnTo>
                  <a:lnTo>
                    <a:pt x="2962" y="4506"/>
                  </a:lnTo>
                  <a:lnTo>
                    <a:pt x="2992" y="4278"/>
                  </a:lnTo>
                  <a:lnTo>
                    <a:pt x="3024" y="4007"/>
                  </a:lnTo>
                  <a:lnTo>
                    <a:pt x="3074" y="3726"/>
                  </a:lnTo>
                  <a:lnTo>
                    <a:pt x="3136" y="3437"/>
                  </a:lnTo>
                  <a:lnTo>
                    <a:pt x="3220" y="3166"/>
                  </a:lnTo>
                  <a:lnTo>
                    <a:pt x="3261" y="3041"/>
                  </a:lnTo>
                  <a:lnTo>
                    <a:pt x="3292" y="2938"/>
                  </a:lnTo>
                  <a:lnTo>
                    <a:pt x="3355" y="2764"/>
                  </a:lnTo>
                  <a:lnTo>
                    <a:pt x="3407" y="2639"/>
                  </a:lnTo>
                  <a:lnTo>
                    <a:pt x="3439" y="2555"/>
                  </a:lnTo>
                  <a:lnTo>
                    <a:pt x="3448" y="2493"/>
                  </a:lnTo>
                  <a:lnTo>
                    <a:pt x="3448" y="2439"/>
                  </a:lnTo>
                  <a:lnTo>
                    <a:pt x="3429" y="2390"/>
                  </a:lnTo>
                  <a:lnTo>
                    <a:pt x="3398" y="2327"/>
                  </a:lnTo>
                  <a:lnTo>
                    <a:pt x="3376" y="2252"/>
                  </a:lnTo>
                  <a:lnTo>
                    <a:pt x="3398" y="2181"/>
                  </a:lnTo>
                  <a:lnTo>
                    <a:pt x="3439" y="2097"/>
                  </a:lnTo>
                  <a:lnTo>
                    <a:pt x="3501" y="2003"/>
                  </a:lnTo>
                  <a:lnTo>
                    <a:pt x="3572" y="1891"/>
                  </a:lnTo>
                  <a:lnTo>
                    <a:pt x="3635" y="1766"/>
                  </a:lnTo>
                  <a:lnTo>
                    <a:pt x="3688" y="1620"/>
                  </a:lnTo>
                  <a:lnTo>
                    <a:pt x="3729" y="1455"/>
                  </a:lnTo>
                  <a:lnTo>
                    <a:pt x="3759" y="1081"/>
                  </a:lnTo>
                  <a:lnTo>
                    <a:pt x="3750" y="903"/>
                  </a:lnTo>
                  <a:lnTo>
                    <a:pt x="3697" y="726"/>
                  </a:lnTo>
                  <a:lnTo>
                    <a:pt x="3656" y="645"/>
                  </a:lnTo>
                  <a:lnTo>
                    <a:pt x="3594" y="570"/>
                  </a:lnTo>
                  <a:lnTo>
                    <a:pt x="3523" y="499"/>
                  </a:lnTo>
                  <a:lnTo>
                    <a:pt x="3439" y="436"/>
                  </a:lnTo>
                  <a:lnTo>
                    <a:pt x="3323" y="374"/>
                  </a:lnTo>
                  <a:lnTo>
                    <a:pt x="3198" y="320"/>
                  </a:lnTo>
                  <a:lnTo>
                    <a:pt x="3055" y="280"/>
                  </a:lnTo>
                  <a:lnTo>
                    <a:pt x="2878" y="249"/>
                  </a:lnTo>
                  <a:lnTo>
                    <a:pt x="1184" y="0"/>
                  </a:lnTo>
                  <a:close/>
                </a:path>
              </a:pathLst>
            </a:custGeom>
            <a:solidFill>
              <a:srgbClr val="606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5430960" y="5045040"/>
              <a:ext cx="606240" cy="812880"/>
            </a:xfrm>
            <a:custGeom>
              <a:avLst/>
              <a:gdLst/>
              <a:ahLst/>
              <a:rect l="l" t="t" r="r" b="b"/>
              <a:pathLst>
                <a:path w="1911" h="2564">
                  <a:moveTo>
                    <a:pt x="196" y="9"/>
                  </a:moveTo>
                  <a:lnTo>
                    <a:pt x="187" y="196"/>
                  </a:lnTo>
                  <a:lnTo>
                    <a:pt x="196" y="364"/>
                  </a:lnTo>
                  <a:lnTo>
                    <a:pt x="228" y="508"/>
                  </a:lnTo>
                  <a:lnTo>
                    <a:pt x="250" y="623"/>
                  </a:lnTo>
                  <a:lnTo>
                    <a:pt x="258" y="654"/>
                  </a:lnTo>
                  <a:lnTo>
                    <a:pt x="258" y="717"/>
                  </a:lnTo>
                  <a:lnTo>
                    <a:pt x="268" y="863"/>
                  </a:lnTo>
                  <a:lnTo>
                    <a:pt x="280" y="1059"/>
                  </a:lnTo>
                  <a:lnTo>
                    <a:pt x="268" y="1296"/>
                  </a:lnTo>
                  <a:lnTo>
                    <a:pt x="250" y="1536"/>
                  </a:lnTo>
                  <a:lnTo>
                    <a:pt x="196" y="1785"/>
                  </a:lnTo>
                  <a:lnTo>
                    <a:pt x="112" y="2013"/>
                  </a:lnTo>
                  <a:lnTo>
                    <a:pt x="0" y="2199"/>
                  </a:lnTo>
                  <a:lnTo>
                    <a:pt x="41" y="2293"/>
                  </a:lnTo>
                  <a:lnTo>
                    <a:pt x="50" y="2399"/>
                  </a:lnTo>
                  <a:lnTo>
                    <a:pt x="41" y="2461"/>
                  </a:lnTo>
                  <a:lnTo>
                    <a:pt x="31" y="2492"/>
                  </a:lnTo>
                  <a:lnTo>
                    <a:pt x="50" y="2492"/>
                  </a:lnTo>
                  <a:lnTo>
                    <a:pt x="103" y="2502"/>
                  </a:lnTo>
                  <a:lnTo>
                    <a:pt x="174" y="2511"/>
                  </a:lnTo>
                  <a:lnTo>
                    <a:pt x="477" y="2511"/>
                  </a:lnTo>
                  <a:lnTo>
                    <a:pt x="558" y="2492"/>
                  </a:lnTo>
                  <a:lnTo>
                    <a:pt x="633" y="2461"/>
                  </a:lnTo>
                  <a:lnTo>
                    <a:pt x="633" y="2346"/>
                  </a:lnTo>
                  <a:lnTo>
                    <a:pt x="673" y="2190"/>
                  </a:lnTo>
                  <a:lnTo>
                    <a:pt x="727" y="2003"/>
                  </a:lnTo>
                  <a:lnTo>
                    <a:pt x="798" y="1794"/>
                  </a:lnTo>
                  <a:lnTo>
                    <a:pt x="932" y="1380"/>
                  </a:lnTo>
                  <a:lnTo>
                    <a:pt x="976" y="1184"/>
                  </a:lnTo>
                  <a:lnTo>
                    <a:pt x="976" y="1019"/>
                  </a:lnTo>
                  <a:lnTo>
                    <a:pt x="954" y="882"/>
                  </a:lnTo>
                  <a:lnTo>
                    <a:pt x="932" y="769"/>
                  </a:lnTo>
                  <a:lnTo>
                    <a:pt x="901" y="676"/>
                  </a:lnTo>
                  <a:lnTo>
                    <a:pt x="882" y="601"/>
                  </a:lnTo>
                  <a:lnTo>
                    <a:pt x="851" y="489"/>
                  </a:lnTo>
                  <a:lnTo>
                    <a:pt x="851" y="396"/>
                  </a:lnTo>
                  <a:lnTo>
                    <a:pt x="892" y="489"/>
                  </a:lnTo>
                  <a:lnTo>
                    <a:pt x="954" y="570"/>
                  </a:lnTo>
                  <a:lnTo>
                    <a:pt x="1079" y="717"/>
                  </a:lnTo>
                  <a:lnTo>
                    <a:pt x="1101" y="757"/>
                  </a:lnTo>
                  <a:lnTo>
                    <a:pt x="1119" y="841"/>
                  </a:lnTo>
                  <a:lnTo>
                    <a:pt x="1141" y="934"/>
                  </a:lnTo>
                  <a:lnTo>
                    <a:pt x="1163" y="1037"/>
                  </a:lnTo>
                  <a:lnTo>
                    <a:pt x="1204" y="1287"/>
                  </a:lnTo>
                  <a:lnTo>
                    <a:pt x="1266" y="1536"/>
                  </a:lnTo>
                  <a:lnTo>
                    <a:pt x="1297" y="1661"/>
                  </a:lnTo>
                  <a:lnTo>
                    <a:pt x="1318" y="1794"/>
                  </a:lnTo>
                  <a:lnTo>
                    <a:pt x="1318" y="2075"/>
                  </a:lnTo>
                  <a:lnTo>
                    <a:pt x="1306" y="2199"/>
                  </a:lnTo>
                  <a:lnTo>
                    <a:pt x="1275" y="2306"/>
                  </a:lnTo>
                  <a:lnTo>
                    <a:pt x="1244" y="2386"/>
                  </a:lnTo>
                  <a:lnTo>
                    <a:pt x="1204" y="2430"/>
                  </a:lnTo>
                  <a:lnTo>
                    <a:pt x="1288" y="2470"/>
                  </a:lnTo>
                  <a:lnTo>
                    <a:pt x="1337" y="2511"/>
                  </a:lnTo>
                  <a:lnTo>
                    <a:pt x="1359" y="2554"/>
                  </a:lnTo>
                  <a:lnTo>
                    <a:pt x="1369" y="2564"/>
                  </a:lnTo>
                  <a:lnTo>
                    <a:pt x="1618" y="2564"/>
                  </a:lnTo>
                  <a:lnTo>
                    <a:pt x="1795" y="2524"/>
                  </a:lnTo>
                  <a:lnTo>
                    <a:pt x="1858" y="2480"/>
                  </a:lnTo>
                  <a:lnTo>
                    <a:pt x="1889" y="2430"/>
                  </a:lnTo>
                  <a:lnTo>
                    <a:pt x="1849" y="2274"/>
                  </a:lnTo>
                  <a:lnTo>
                    <a:pt x="1836" y="2097"/>
                  </a:lnTo>
                  <a:lnTo>
                    <a:pt x="1868" y="1701"/>
                  </a:lnTo>
                  <a:lnTo>
                    <a:pt x="1889" y="1504"/>
                  </a:lnTo>
                  <a:lnTo>
                    <a:pt x="1911" y="1327"/>
                  </a:lnTo>
                  <a:lnTo>
                    <a:pt x="1911" y="1172"/>
                  </a:lnTo>
                  <a:lnTo>
                    <a:pt x="1898" y="1050"/>
                  </a:lnTo>
                  <a:lnTo>
                    <a:pt x="1868" y="944"/>
                  </a:lnTo>
                  <a:lnTo>
                    <a:pt x="1817" y="831"/>
                  </a:lnTo>
                  <a:lnTo>
                    <a:pt x="1681" y="601"/>
                  </a:lnTo>
                  <a:lnTo>
                    <a:pt x="1556" y="321"/>
                  </a:lnTo>
                  <a:lnTo>
                    <a:pt x="1515" y="165"/>
                  </a:lnTo>
                  <a:lnTo>
                    <a:pt x="1484" y="0"/>
                  </a:lnTo>
                  <a:lnTo>
                    <a:pt x="196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5881680" y="3881520"/>
              <a:ext cx="146160" cy="457200"/>
            </a:xfrm>
            <a:custGeom>
              <a:avLst/>
              <a:gdLst/>
              <a:ahLst/>
              <a:rect l="l" t="t" r="r" b="b"/>
              <a:pathLst>
                <a:path w="458" h="1442">
                  <a:moveTo>
                    <a:pt x="312" y="0"/>
                  </a:moveTo>
                  <a:lnTo>
                    <a:pt x="384" y="175"/>
                  </a:lnTo>
                  <a:lnTo>
                    <a:pt x="437" y="352"/>
                  </a:lnTo>
                  <a:lnTo>
                    <a:pt x="458" y="498"/>
                  </a:lnTo>
                  <a:lnTo>
                    <a:pt x="458" y="610"/>
                  </a:lnTo>
                  <a:lnTo>
                    <a:pt x="447" y="685"/>
                  </a:lnTo>
                  <a:lnTo>
                    <a:pt x="428" y="797"/>
                  </a:lnTo>
                  <a:lnTo>
                    <a:pt x="365" y="1078"/>
                  </a:lnTo>
                  <a:lnTo>
                    <a:pt x="322" y="1215"/>
                  </a:lnTo>
                  <a:lnTo>
                    <a:pt x="303" y="1327"/>
                  </a:lnTo>
                  <a:lnTo>
                    <a:pt x="281" y="1411"/>
                  </a:lnTo>
                  <a:lnTo>
                    <a:pt x="271" y="1434"/>
                  </a:lnTo>
                  <a:lnTo>
                    <a:pt x="271" y="1442"/>
                  </a:lnTo>
                  <a:lnTo>
                    <a:pt x="0" y="1038"/>
                  </a:lnTo>
                  <a:lnTo>
                    <a:pt x="0" y="1016"/>
                  </a:lnTo>
                  <a:lnTo>
                    <a:pt x="10" y="975"/>
                  </a:lnTo>
                  <a:lnTo>
                    <a:pt x="22" y="841"/>
                  </a:lnTo>
                  <a:lnTo>
                    <a:pt x="22" y="591"/>
                  </a:lnTo>
                  <a:lnTo>
                    <a:pt x="10" y="529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5378400" y="4068720"/>
              <a:ext cx="600120" cy="1120680"/>
            </a:xfrm>
            <a:custGeom>
              <a:avLst/>
              <a:gdLst/>
              <a:ahLst/>
              <a:rect l="l" t="t" r="r" b="b"/>
              <a:pathLst>
                <a:path w="1892" h="3531">
                  <a:moveTo>
                    <a:pt x="22" y="540"/>
                  </a:moveTo>
                  <a:lnTo>
                    <a:pt x="0" y="593"/>
                  </a:lnTo>
                  <a:lnTo>
                    <a:pt x="12" y="673"/>
                  </a:lnTo>
                  <a:lnTo>
                    <a:pt x="22" y="749"/>
                  </a:lnTo>
                  <a:lnTo>
                    <a:pt x="31" y="798"/>
                  </a:lnTo>
                  <a:lnTo>
                    <a:pt x="22" y="851"/>
                  </a:lnTo>
                  <a:lnTo>
                    <a:pt x="22" y="892"/>
                  </a:lnTo>
                  <a:lnTo>
                    <a:pt x="12" y="944"/>
                  </a:lnTo>
                  <a:lnTo>
                    <a:pt x="0" y="1069"/>
                  </a:lnTo>
                  <a:lnTo>
                    <a:pt x="12" y="1213"/>
                  </a:lnTo>
                  <a:lnTo>
                    <a:pt x="31" y="1381"/>
                  </a:lnTo>
                  <a:lnTo>
                    <a:pt x="74" y="1711"/>
                  </a:lnTo>
                  <a:lnTo>
                    <a:pt x="106" y="1848"/>
                  </a:lnTo>
                  <a:lnTo>
                    <a:pt x="125" y="1920"/>
                  </a:lnTo>
                  <a:lnTo>
                    <a:pt x="146" y="2004"/>
                  </a:lnTo>
                  <a:lnTo>
                    <a:pt x="199" y="2210"/>
                  </a:lnTo>
                  <a:lnTo>
                    <a:pt x="231" y="2303"/>
                  </a:lnTo>
                  <a:lnTo>
                    <a:pt x="239" y="2378"/>
                  </a:lnTo>
                  <a:lnTo>
                    <a:pt x="261" y="2428"/>
                  </a:lnTo>
                  <a:lnTo>
                    <a:pt x="261" y="2450"/>
                  </a:lnTo>
                  <a:lnTo>
                    <a:pt x="261" y="3220"/>
                  </a:lnTo>
                  <a:lnTo>
                    <a:pt x="293" y="3229"/>
                  </a:lnTo>
                  <a:lnTo>
                    <a:pt x="364" y="3250"/>
                  </a:lnTo>
                  <a:lnTo>
                    <a:pt x="551" y="3269"/>
                  </a:lnTo>
                  <a:lnTo>
                    <a:pt x="614" y="3437"/>
                  </a:lnTo>
                  <a:lnTo>
                    <a:pt x="645" y="3500"/>
                  </a:lnTo>
                  <a:lnTo>
                    <a:pt x="654" y="3531"/>
                  </a:lnTo>
                  <a:lnTo>
                    <a:pt x="664" y="3519"/>
                  </a:lnTo>
                  <a:lnTo>
                    <a:pt x="708" y="3500"/>
                  </a:lnTo>
                  <a:lnTo>
                    <a:pt x="770" y="3456"/>
                  </a:lnTo>
                  <a:lnTo>
                    <a:pt x="851" y="3426"/>
                  </a:lnTo>
                  <a:lnTo>
                    <a:pt x="1038" y="3353"/>
                  </a:lnTo>
                  <a:lnTo>
                    <a:pt x="1144" y="3331"/>
                  </a:lnTo>
                  <a:lnTo>
                    <a:pt x="1247" y="3323"/>
                  </a:lnTo>
                  <a:lnTo>
                    <a:pt x="1434" y="3331"/>
                  </a:lnTo>
                  <a:lnTo>
                    <a:pt x="1746" y="3331"/>
                  </a:lnTo>
                  <a:lnTo>
                    <a:pt x="1746" y="3301"/>
                  </a:lnTo>
                  <a:lnTo>
                    <a:pt x="1755" y="3220"/>
                  </a:lnTo>
                  <a:lnTo>
                    <a:pt x="1755" y="3095"/>
                  </a:lnTo>
                  <a:lnTo>
                    <a:pt x="1776" y="2927"/>
                  </a:lnTo>
                  <a:lnTo>
                    <a:pt x="1786" y="2740"/>
                  </a:lnTo>
                  <a:lnTo>
                    <a:pt x="1798" y="2534"/>
                  </a:lnTo>
                  <a:lnTo>
                    <a:pt x="1830" y="2107"/>
                  </a:lnTo>
                  <a:lnTo>
                    <a:pt x="1870" y="1693"/>
                  </a:lnTo>
                  <a:lnTo>
                    <a:pt x="1892" y="1297"/>
                  </a:lnTo>
                  <a:lnTo>
                    <a:pt x="1879" y="1110"/>
                  </a:lnTo>
                  <a:lnTo>
                    <a:pt x="1870" y="954"/>
                  </a:lnTo>
                  <a:lnTo>
                    <a:pt x="1830" y="820"/>
                  </a:lnTo>
                  <a:lnTo>
                    <a:pt x="1776" y="705"/>
                  </a:lnTo>
                  <a:lnTo>
                    <a:pt x="1662" y="531"/>
                  </a:lnTo>
                  <a:lnTo>
                    <a:pt x="1567" y="393"/>
                  </a:lnTo>
                  <a:lnTo>
                    <a:pt x="1496" y="281"/>
                  </a:lnTo>
                  <a:lnTo>
                    <a:pt x="1474" y="197"/>
                  </a:lnTo>
                  <a:lnTo>
                    <a:pt x="1496" y="113"/>
                  </a:lnTo>
                  <a:lnTo>
                    <a:pt x="1496" y="82"/>
                  </a:lnTo>
                  <a:lnTo>
                    <a:pt x="1474" y="63"/>
                  </a:lnTo>
                  <a:lnTo>
                    <a:pt x="1456" y="51"/>
                  </a:lnTo>
                  <a:lnTo>
                    <a:pt x="1424" y="41"/>
                  </a:lnTo>
                  <a:lnTo>
                    <a:pt x="1299" y="19"/>
                  </a:lnTo>
                  <a:lnTo>
                    <a:pt x="1131" y="0"/>
                  </a:lnTo>
                  <a:lnTo>
                    <a:pt x="925" y="0"/>
                  </a:lnTo>
                  <a:lnTo>
                    <a:pt x="695" y="41"/>
                  </a:lnTo>
                  <a:lnTo>
                    <a:pt x="458" y="135"/>
                  </a:lnTo>
                  <a:lnTo>
                    <a:pt x="342" y="206"/>
                  </a:lnTo>
                  <a:lnTo>
                    <a:pt x="231" y="290"/>
                  </a:lnTo>
                  <a:lnTo>
                    <a:pt x="125" y="406"/>
                  </a:lnTo>
                  <a:lnTo>
                    <a:pt x="22" y="540"/>
                  </a:lnTo>
                  <a:close/>
                </a:path>
              </a:pathLst>
            </a:custGeom>
            <a:solidFill>
              <a:srgbClr val="87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5183280" y="3294000"/>
              <a:ext cx="817560" cy="946080"/>
            </a:xfrm>
            <a:custGeom>
              <a:avLst/>
              <a:gdLst/>
              <a:ahLst/>
              <a:rect l="l" t="t" r="r" b="b"/>
              <a:pathLst>
                <a:path w="2575" h="2982">
                  <a:moveTo>
                    <a:pt x="447" y="200"/>
                  </a:moveTo>
                  <a:lnTo>
                    <a:pt x="406" y="209"/>
                  </a:lnTo>
                  <a:lnTo>
                    <a:pt x="374" y="231"/>
                  </a:lnTo>
                  <a:lnTo>
                    <a:pt x="290" y="396"/>
                  </a:lnTo>
                  <a:lnTo>
                    <a:pt x="250" y="448"/>
                  </a:lnTo>
                  <a:lnTo>
                    <a:pt x="187" y="467"/>
                  </a:lnTo>
                  <a:lnTo>
                    <a:pt x="125" y="467"/>
                  </a:lnTo>
                  <a:lnTo>
                    <a:pt x="73" y="489"/>
                  </a:lnTo>
                  <a:lnTo>
                    <a:pt x="41" y="521"/>
                  </a:lnTo>
                  <a:lnTo>
                    <a:pt x="32" y="561"/>
                  </a:lnTo>
                  <a:lnTo>
                    <a:pt x="10" y="623"/>
                  </a:lnTo>
                  <a:lnTo>
                    <a:pt x="0" y="801"/>
                  </a:lnTo>
                  <a:lnTo>
                    <a:pt x="0" y="885"/>
                  </a:lnTo>
                  <a:lnTo>
                    <a:pt x="19" y="957"/>
                  </a:lnTo>
                  <a:lnTo>
                    <a:pt x="63" y="1019"/>
                  </a:lnTo>
                  <a:lnTo>
                    <a:pt x="135" y="1041"/>
                  </a:lnTo>
                  <a:lnTo>
                    <a:pt x="290" y="1072"/>
                  </a:lnTo>
                  <a:lnTo>
                    <a:pt x="363" y="1112"/>
                  </a:lnTo>
                  <a:lnTo>
                    <a:pt x="415" y="1153"/>
                  </a:lnTo>
                  <a:lnTo>
                    <a:pt x="468" y="1215"/>
                  </a:lnTo>
                  <a:lnTo>
                    <a:pt x="509" y="1299"/>
                  </a:lnTo>
                  <a:lnTo>
                    <a:pt x="531" y="1392"/>
                  </a:lnTo>
                  <a:lnTo>
                    <a:pt x="540" y="1508"/>
                  </a:lnTo>
                  <a:lnTo>
                    <a:pt x="571" y="1652"/>
                  </a:lnTo>
                  <a:lnTo>
                    <a:pt x="634" y="1798"/>
                  </a:lnTo>
                  <a:lnTo>
                    <a:pt x="664" y="1932"/>
                  </a:lnTo>
                  <a:lnTo>
                    <a:pt x="656" y="2007"/>
                  </a:lnTo>
                  <a:lnTo>
                    <a:pt x="624" y="2069"/>
                  </a:lnTo>
                  <a:lnTo>
                    <a:pt x="550" y="2203"/>
                  </a:lnTo>
                  <a:lnTo>
                    <a:pt x="509" y="2328"/>
                  </a:lnTo>
                  <a:lnTo>
                    <a:pt x="487" y="2421"/>
                  </a:lnTo>
                  <a:lnTo>
                    <a:pt x="477" y="2442"/>
                  </a:lnTo>
                  <a:lnTo>
                    <a:pt x="477" y="2452"/>
                  </a:lnTo>
                  <a:lnTo>
                    <a:pt x="634" y="2982"/>
                  </a:lnTo>
                  <a:lnTo>
                    <a:pt x="643" y="2973"/>
                  </a:lnTo>
                  <a:lnTo>
                    <a:pt x="664" y="2951"/>
                  </a:lnTo>
                  <a:lnTo>
                    <a:pt x="737" y="2889"/>
                  </a:lnTo>
                  <a:lnTo>
                    <a:pt x="861" y="2795"/>
                  </a:lnTo>
                  <a:lnTo>
                    <a:pt x="1030" y="2723"/>
                  </a:lnTo>
                  <a:lnTo>
                    <a:pt x="1133" y="2680"/>
                  </a:lnTo>
                  <a:lnTo>
                    <a:pt x="1266" y="2639"/>
                  </a:lnTo>
                  <a:lnTo>
                    <a:pt x="1547" y="2536"/>
                  </a:lnTo>
                  <a:lnTo>
                    <a:pt x="1694" y="2493"/>
                  </a:lnTo>
                  <a:lnTo>
                    <a:pt x="1837" y="2474"/>
                  </a:lnTo>
                  <a:lnTo>
                    <a:pt x="1974" y="2474"/>
                  </a:lnTo>
                  <a:lnTo>
                    <a:pt x="2086" y="2493"/>
                  </a:lnTo>
                  <a:lnTo>
                    <a:pt x="2130" y="2505"/>
                  </a:lnTo>
                  <a:lnTo>
                    <a:pt x="2179" y="2493"/>
                  </a:lnTo>
                  <a:lnTo>
                    <a:pt x="2264" y="2442"/>
                  </a:lnTo>
                  <a:lnTo>
                    <a:pt x="2317" y="2349"/>
                  </a:lnTo>
                  <a:lnTo>
                    <a:pt x="2336" y="2235"/>
                  </a:lnTo>
                  <a:lnTo>
                    <a:pt x="2367" y="2119"/>
                  </a:lnTo>
                  <a:lnTo>
                    <a:pt x="2442" y="2007"/>
                  </a:lnTo>
                  <a:lnTo>
                    <a:pt x="2513" y="1932"/>
                  </a:lnTo>
                  <a:lnTo>
                    <a:pt x="2535" y="1913"/>
                  </a:lnTo>
                  <a:lnTo>
                    <a:pt x="2545" y="1901"/>
                  </a:lnTo>
                  <a:lnTo>
                    <a:pt x="2545" y="1891"/>
                  </a:lnTo>
                  <a:lnTo>
                    <a:pt x="2554" y="1860"/>
                  </a:lnTo>
                  <a:lnTo>
                    <a:pt x="2554" y="1807"/>
                  </a:lnTo>
                  <a:lnTo>
                    <a:pt x="2545" y="1736"/>
                  </a:lnTo>
                  <a:lnTo>
                    <a:pt x="2545" y="1652"/>
                  </a:lnTo>
                  <a:lnTo>
                    <a:pt x="2566" y="1579"/>
                  </a:lnTo>
                  <a:lnTo>
                    <a:pt x="2575" y="1508"/>
                  </a:lnTo>
                  <a:lnTo>
                    <a:pt x="2566" y="1455"/>
                  </a:lnTo>
                  <a:lnTo>
                    <a:pt x="2504" y="1392"/>
                  </a:lnTo>
                  <a:lnTo>
                    <a:pt x="2482" y="1330"/>
                  </a:lnTo>
                  <a:lnTo>
                    <a:pt x="2472" y="1278"/>
                  </a:lnTo>
                  <a:lnTo>
                    <a:pt x="2461" y="1215"/>
                  </a:lnTo>
                  <a:lnTo>
                    <a:pt x="2429" y="1072"/>
                  </a:lnTo>
                  <a:lnTo>
                    <a:pt x="2348" y="925"/>
                  </a:lnTo>
                  <a:lnTo>
                    <a:pt x="2233" y="792"/>
                  </a:lnTo>
                  <a:lnTo>
                    <a:pt x="2098" y="667"/>
                  </a:lnTo>
                  <a:lnTo>
                    <a:pt x="1984" y="561"/>
                  </a:lnTo>
                  <a:lnTo>
                    <a:pt x="1921" y="480"/>
                  </a:lnTo>
                  <a:lnTo>
                    <a:pt x="1890" y="396"/>
                  </a:lnTo>
                  <a:lnTo>
                    <a:pt x="1881" y="303"/>
                  </a:lnTo>
                  <a:lnTo>
                    <a:pt x="1890" y="231"/>
                  </a:lnTo>
                  <a:lnTo>
                    <a:pt x="1890" y="178"/>
                  </a:lnTo>
                  <a:lnTo>
                    <a:pt x="1868" y="138"/>
                  </a:lnTo>
                  <a:lnTo>
                    <a:pt x="1837" y="116"/>
                  </a:lnTo>
                  <a:lnTo>
                    <a:pt x="1797" y="84"/>
                  </a:lnTo>
                  <a:lnTo>
                    <a:pt x="1724" y="53"/>
                  </a:lnTo>
                  <a:lnTo>
                    <a:pt x="1610" y="22"/>
                  </a:lnTo>
                  <a:lnTo>
                    <a:pt x="1453" y="13"/>
                  </a:lnTo>
                  <a:lnTo>
                    <a:pt x="1288" y="0"/>
                  </a:lnTo>
                  <a:lnTo>
                    <a:pt x="1092" y="22"/>
                  </a:lnTo>
                  <a:lnTo>
                    <a:pt x="883" y="53"/>
                  </a:lnTo>
                  <a:lnTo>
                    <a:pt x="664" y="116"/>
                  </a:lnTo>
                  <a:lnTo>
                    <a:pt x="447" y="200"/>
                  </a:lnTo>
                  <a:close/>
                </a:path>
              </a:pathLst>
            </a:custGeom>
            <a:solidFill>
              <a:srgbClr val="e98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4778280" y="1720800"/>
              <a:ext cx="594000" cy="920880"/>
            </a:xfrm>
            <a:custGeom>
              <a:avLst/>
              <a:gdLst/>
              <a:ahLst/>
              <a:rect l="l" t="t" r="r" b="b"/>
              <a:pathLst>
                <a:path w="1870" h="2897">
                  <a:moveTo>
                    <a:pt x="226" y="997"/>
                  </a:moveTo>
                  <a:lnTo>
                    <a:pt x="196" y="1112"/>
                  </a:lnTo>
                  <a:lnTo>
                    <a:pt x="187" y="1215"/>
                  </a:lnTo>
                  <a:lnTo>
                    <a:pt x="196" y="1402"/>
                  </a:lnTo>
                  <a:lnTo>
                    <a:pt x="217" y="1559"/>
                  </a:lnTo>
                  <a:lnTo>
                    <a:pt x="226" y="1670"/>
                  </a:lnTo>
                  <a:lnTo>
                    <a:pt x="236" y="1754"/>
                  </a:lnTo>
                  <a:lnTo>
                    <a:pt x="299" y="1857"/>
                  </a:lnTo>
                  <a:lnTo>
                    <a:pt x="312" y="1901"/>
                  </a:lnTo>
                  <a:lnTo>
                    <a:pt x="312" y="1963"/>
                  </a:lnTo>
                  <a:lnTo>
                    <a:pt x="320" y="2044"/>
                  </a:lnTo>
                  <a:lnTo>
                    <a:pt x="342" y="2129"/>
                  </a:lnTo>
                  <a:lnTo>
                    <a:pt x="383" y="2200"/>
                  </a:lnTo>
                  <a:lnTo>
                    <a:pt x="454" y="2346"/>
                  </a:lnTo>
                  <a:lnTo>
                    <a:pt x="499" y="2480"/>
                  </a:lnTo>
                  <a:lnTo>
                    <a:pt x="529" y="2524"/>
                  </a:lnTo>
                  <a:lnTo>
                    <a:pt x="592" y="2574"/>
                  </a:lnTo>
                  <a:lnTo>
                    <a:pt x="641" y="2605"/>
                  </a:lnTo>
                  <a:lnTo>
                    <a:pt x="686" y="2626"/>
                  </a:lnTo>
                  <a:lnTo>
                    <a:pt x="703" y="2648"/>
                  </a:lnTo>
                  <a:lnTo>
                    <a:pt x="716" y="2680"/>
                  </a:lnTo>
                  <a:lnTo>
                    <a:pt x="757" y="2761"/>
                  </a:lnTo>
                  <a:lnTo>
                    <a:pt x="810" y="2854"/>
                  </a:lnTo>
                  <a:lnTo>
                    <a:pt x="828" y="2886"/>
                  </a:lnTo>
                  <a:lnTo>
                    <a:pt x="860" y="2897"/>
                  </a:lnTo>
                  <a:lnTo>
                    <a:pt x="890" y="2897"/>
                  </a:lnTo>
                  <a:lnTo>
                    <a:pt x="954" y="2886"/>
                  </a:lnTo>
                  <a:lnTo>
                    <a:pt x="1016" y="2867"/>
                  </a:lnTo>
                  <a:lnTo>
                    <a:pt x="1100" y="2823"/>
                  </a:lnTo>
                  <a:lnTo>
                    <a:pt x="1193" y="2773"/>
                  </a:lnTo>
                  <a:lnTo>
                    <a:pt x="1287" y="2689"/>
                  </a:lnTo>
                  <a:lnTo>
                    <a:pt x="1371" y="2587"/>
                  </a:lnTo>
                  <a:lnTo>
                    <a:pt x="1464" y="2462"/>
                  </a:lnTo>
                  <a:lnTo>
                    <a:pt x="1474" y="2337"/>
                  </a:lnTo>
                  <a:lnTo>
                    <a:pt x="1483" y="2294"/>
                  </a:lnTo>
                  <a:lnTo>
                    <a:pt x="1483" y="2262"/>
                  </a:lnTo>
                  <a:lnTo>
                    <a:pt x="1496" y="2232"/>
                  </a:lnTo>
                  <a:lnTo>
                    <a:pt x="1527" y="2191"/>
                  </a:lnTo>
                  <a:lnTo>
                    <a:pt x="1567" y="2119"/>
                  </a:lnTo>
                  <a:lnTo>
                    <a:pt x="1589" y="2026"/>
                  </a:lnTo>
                  <a:lnTo>
                    <a:pt x="1599" y="1942"/>
                  </a:lnTo>
                  <a:lnTo>
                    <a:pt x="1608" y="1888"/>
                  </a:lnTo>
                  <a:lnTo>
                    <a:pt x="1661" y="1839"/>
                  </a:lnTo>
                  <a:lnTo>
                    <a:pt x="1724" y="1776"/>
                  </a:lnTo>
                  <a:lnTo>
                    <a:pt x="1764" y="1723"/>
                  </a:lnTo>
                  <a:lnTo>
                    <a:pt x="1786" y="1652"/>
                  </a:lnTo>
                  <a:lnTo>
                    <a:pt x="1817" y="1537"/>
                  </a:lnTo>
                  <a:lnTo>
                    <a:pt x="1857" y="1412"/>
                  </a:lnTo>
                  <a:lnTo>
                    <a:pt x="1857" y="1350"/>
                  </a:lnTo>
                  <a:lnTo>
                    <a:pt x="1848" y="1299"/>
                  </a:lnTo>
                  <a:lnTo>
                    <a:pt x="1817" y="1269"/>
                  </a:lnTo>
                  <a:lnTo>
                    <a:pt x="1764" y="1256"/>
                  </a:lnTo>
                  <a:lnTo>
                    <a:pt x="1795" y="1163"/>
                  </a:lnTo>
                  <a:lnTo>
                    <a:pt x="1827" y="1050"/>
                  </a:lnTo>
                  <a:lnTo>
                    <a:pt x="1870" y="810"/>
                  </a:lnTo>
                  <a:lnTo>
                    <a:pt x="1870" y="677"/>
                  </a:lnTo>
                  <a:lnTo>
                    <a:pt x="1857" y="552"/>
                  </a:lnTo>
                  <a:lnTo>
                    <a:pt x="1817" y="427"/>
                  </a:lnTo>
                  <a:lnTo>
                    <a:pt x="1754" y="322"/>
                  </a:lnTo>
                  <a:lnTo>
                    <a:pt x="1670" y="240"/>
                  </a:lnTo>
                  <a:lnTo>
                    <a:pt x="1577" y="165"/>
                  </a:lnTo>
                  <a:lnTo>
                    <a:pt x="1390" y="84"/>
                  </a:lnTo>
                  <a:lnTo>
                    <a:pt x="1203" y="40"/>
                  </a:lnTo>
                  <a:lnTo>
                    <a:pt x="1060" y="22"/>
                  </a:lnTo>
                  <a:lnTo>
                    <a:pt x="797" y="0"/>
                  </a:lnTo>
                  <a:lnTo>
                    <a:pt x="673" y="22"/>
                  </a:lnTo>
                  <a:lnTo>
                    <a:pt x="561" y="62"/>
                  </a:lnTo>
                  <a:lnTo>
                    <a:pt x="436" y="134"/>
                  </a:lnTo>
                  <a:lnTo>
                    <a:pt x="329" y="187"/>
                  </a:lnTo>
                  <a:lnTo>
                    <a:pt x="249" y="240"/>
                  </a:lnTo>
                  <a:lnTo>
                    <a:pt x="196" y="322"/>
                  </a:lnTo>
                  <a:lnTo>
                    <a:pt x="155" y="406"/>
                  </a:lnTo>
                  <a:lnTo>
                    <a:pt x="102" y="458"/>
                  </a:lnTo>
                  <a:lnTo>
                    <a:pt x="62" y="509"/>
                  </a:lnTo>
                  <a:lnTo>
                    <a:pt x="30" y="602"/>
                  </a:lnTo>
                  <a:lnTo>
                    <a:pt x="18" y="655"/>
                  </a:lnTo>
                  <a:lnTo>
                    <a:pt x="18" y="695"/>
                  </a:lnTo>
                  <a:lnTo>
                    <a:pt x="9" y="739"/>
                  </a:lnTo>
                  <a:lnTo>
                    <a:pt x="0" y="789"/>
                  </a:lnTo>
                  <a:lnTo>
                    <a:pt x="0" y="832"/>
                  </a:lnTo>
                  <a:lnTo>
                    <a:pt x="18" y="841"/>
                  </a:lnTo>
                  <a:lnTo>
                    <a:pt x="39" y="863"/>
                  </a:lnTo>
                  <a:lnTo>
                    <a:pt x="62" y="873"/>
                  </a:lnTo>
                  <a:lnTo>
                    <a:pt x="93" y="894"/>
                  </a:lnTo>
                  <a:lnTo>
                    <a:pt x="142" y="935"/>
                  </a:lnTo>
                  <a:lnTo>
                    <a:pt x="164" y="966"/>
                  </a:lnTo>
                  <a:lnTo>
                    <a:pt x="205" y="997"/>
                  </a:lnTo>
                  <a:lnTo>
                    <a:pt x="226" y="99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5127480" y="2185920"/>
              <a:ext cx="160560" cy="158760"/>
            </a:xfrm>
            <a:custGeom>
              <a:avLst/>
              <a:gdLst/>
              <a:ahLst/>
              <a:rect l="l" t="t" r="r" b="b"/>
              <a:pathLst>
                <a:path w="508" h="498">
                  <a:moveTo>
                    <a:pt x="0" y="445"/>
                  </a:moveTo>
                  <a:lnTo>
                    <a:pt x="508" y="0"/>
                  </a:lnTo>
                  <a:lnTo>
                    <a:pt x="499" y="53"/>
                  </a:lnTo>
                  <a:lnTo>
                    <a:pt x="9" y="498"/>
                  </a:lnTo>
                  <a:lnTo>
                    <a:pt x="0" y="445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4946760" y="2295360"/>
              <a:ext cx="44280" cy="32040"/>
            </a:xfrm>
            <a:custGeom>
              <a:avLst/>
              <a:gdLst/>
              <a:ahLst/>
              <a:rect l="l" t="t" r="r" b="b"/>
              <a:pathLst>
                <a:path w="144" h="103">
                  <a:moveTo>
                    <a:pt x="0" y="62"/>
                  </a:moveTo>
                  <a:lnTo>
                    <a:pt x="50" y="40"/>
                  </a:lnTo>
                  <a:lnTo>
                    <a:pt x="94" y="50"/>
                  </a:lnTo>
                  <a:lnTo>
                    <a:pt x="135" y="81"/>
                  </a:lnTo>
                  <a:lnTo>
                    <a:pt x="144" y="103"/>
                  </a:lnTo>
                  <a:lnTo>
                    <a:pt x="144" y="62"/>
                  </a:lnTo>
                  <a:lnTo>
                    <a:pt x="135" y="40"/>
                  </a:lnTo>
                  <a:lnTo>
                    <a:pt x="94" y="10"/>
                  </a:lnTo>
                  <a:lnTo>
                    <a:pt x="50" y="0"/>
                  </a:lnTo>
                  <a:lnTo>
                    <a:pt x="0" y="1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5256360" y="2779560"/>
              <a:ext cx="652320" cy="587520"/>
            </a:xfrm>
            <a:custGeom>
              <a:avLst/>
              <a:gdLst/>
              <a:ahLst/>
              <a:rect l="l" t="t" r="r" b="b"/>
              <a:pathLst>
                <a:path w="2057" h="1848">
                  <a:moveTo>
                    <a:pt x="290" y="290"/>
                  </a:moveTo>
                  <a:lnTo>
                    <a:pt x="219" y="374"/>
                  </a:lnTo>
                  <a:lnTo>
                    <a:pt x="165" y="455"/>
                  </a:lnTo>
                  <a:lnTo>
                    <a:pt x="103" y="632"/>
                  </a:lnTo>
                  <a:lnTo>
                    <a:pt x="94" y="798"/>
                  </a:lnTo>
                  <a:lnTo>
                    <a:pt x="103" y="860"/>
                  </a:lnTo>
                  <a:lnTo>
                    <a:pt x="116" y="913"/>
                  </a:lnTo>
                  <a:lnTo>
                    <a:pt x="135" y="976"/>
                  </a:lnTo>
                  <a:lnTo>
                    <a:pt x="135" y="1015"/>
                  </a:lnTo>
                  <a:lnTo>
                    <a:pt x="125" y="1047"/>
                  </a:lnTo>
                  <a:lnTo>
                    <a:pt x="94" y="1091"/>
                  </a:lnTo>
                  <a:lnTo>
                    <a:pt x="62" y="1131"/>
                  </a:lnTo>
                  <a:lnTo>
                    <a:pt x="22" y="1193"/>
                  </a:lnTo>
                  <a:lnTo>
                    <a:pt x="0" y="1246"/>
                  </a:lnTo>
                  <a:lnTo>
                    <a:pt x="10" y="1286"/>
                  </a:lnTo>
                  <a:lnTo>
                    <a:pt x="72" y="1340"/>
                  </a:lnTo>
                  <a:lnTo>
                    <a:pt x="94" y="1359"/>
                  </a:lnTo>
                  <a:lnTo>
                    <a:pt x="103" y="1402"/>
                  </a:lnTo>
                  <a:lnTo>
                    <a:pt x="103" y="1443"/>
                  </a:lnTo>
                  <a:lnTo>
                    <a:pt x="94" y="1465"/>
                  </a:lnTo>
                  <a:lnTo>
                    <a:pt x="103" y="1483"/>
                  </a:lnTo>
                  <a:lnTo>
                    <a:pt x="135" y="1514"/>
                  </a:lnTo>
                  <a:lnTo>
                    <a:pt x="135" y="1576"/>
                  </a:lnTo>
                  <a:lnTo>
                    <a:pt x="156" y="1617"/>
                  </a:lnTo>
                  <a:lnTo>
                    <a:pt x="197" y="1661"/>
                  </a:lnTo>
                  <a:lnTo>
                    <a:pt x="197" y="1763"/>
                  </a:lnTo>
                  <a:lnTo>
                    <a:pt x="219" y="1804"/>
                  </a:lnTo>
                  <a:lnTo>
                    <a:pt x="259" y="1836"/>
                  </a:lnTo>
                  <a:lnTo>
                    <a:pt x="312" y="1848"/>
                  </a:lnTo>
                  <a:lnTo>
                    <a:pt x="365" y="1836"/>
                  </a:lnTo>
                  <a:lnTo>
                    <a:pt x="428" y="1773"/>
                  </a:lnTo>
                  <a:lnTo>
                    <a:pt x="468" y="1742"/>
                  </a:lnTo>
                  <a:lnTo>
                    <a:pt x="509" y="1742"/>
                  </a:lnTo>
                  <a:lnTo>
                    <a:pt x="633" y="1763"/>
                  </a:lnTo>
                  <a:lnTo>
                    <a:pt x="758" y="1795"/>
                  </a:lnTo>
                  <a:lnTo>
                    <a:pt x="832" y="1795"/>
                  </a:lnTo>
                  <a:lnTo>
                    <a:pt x="895" y="1785"/>
                  </a:lnTo>
                  <a:lnTo>
                    <a:pt x="998" y="1742"/>
                  </a:lnTo>
                  <a:lnTo>
                    <a:pt x="1079" y="1701"/>
                  </a:lnTo>
                  <a:lnTo>
                    <a:pt x="1154" y="1670"/>
                  </a:lnTo>
                  <a:lnTo>
                    <a:pt x="1203" y="1661"/>
                  </a:lnTo>
                  <a:lnTo>
                    <a:pt x="1247" y="1661"/>
                  </a:lnTo>
                  <a:lnTo>
                    <a:pt x="1287" y="1670"/>
                  </a:lnTo>
                  <a:lnTo>
                    <a:pt x="1412" y="1679"/>
                  </a:lnTo>
                  <a:lnTo>
                    <a:pt x="1528" y="1692"/>
                  </a:lnTo>
                  <a:lnTo>
                    <a:pt x="1569" y="1692"/>
                  </a:lnTo>
                  <a:lnTo>
                    <a:pt x="1590" y="1670"/>
                  </a:lnTo>
                  <a:lnTo>
                    <a:pt x="1640" y="1630"/>
                  </a:lnTo>
                  <a:lnTo>
                    <a:pt x="1724" y="1568"/>
                  </a:lnTo>
                  <a:lnTo>
                    <a:pt x="1818" y="1473"/>
                  </a:lnTo>
                  <a:lnTo>
                    <a:pt x="1902" y="1371"/>
                  </a:lnTo>
                  <a:lnTo>
                    <a:pt x="1983" y="1256"/>
                  </a:lnTo>
                  <a:lnTo>
                    <a:pt x="2036" y="1140"/>
                  </a:lnTo>
                  <a:lnTo>
                    <a:pt x="2057" y="1015"/>
                  </a:lnTo>
                  <a:lnTo>
                    <a:pt x="2046" y="882"/>
                  </a:lnTo>
                  <a:lnTo>
                    <a:pt x="2014" y="748"/>
                  </a:lnTo>
                  <a:lnTo>
                    <a:pt x="1973" y="592"/>
                  </a:lnTo>
                  <a:lnTo>
                    <a:pt x="1911" y="455"/>
                  </a:lnTo>
                  <a:lnTo>
                    <a:pt x="1827" y="321"/>
                  </a:lnTo>
                  <a:lnTo>
                    <a:pt x="1724" y="206"/>
                  </a:lnTo>
                  <a:lnTo>
                    <a:pt x="1599" y="125"/>
                  </a:lnTo>
                  <a:lnTo>
                    <a:pt x="1466" y="62"/>
                  </a:lnTo>
                  <a:lnTo>
                    <a:pt x="1350" y="32"/>
                  </a:lnTo>
                  <a:lnTo>
                    <a:pt x="1247" y="19"/>
                  </a:lnTo>
                  <a:lnTo>
                    <a:pt x="1079" y="0"/>
                  </a:lnTo>
                  <a:lnTo>
                    <a:pt x="926" y="10"/>
                  </a:lnTo>
                  <a:lnTo>
                    <a:pt x="832" y="10"/>
                  </a:lnTo>
                  <a:lnTo>
                    <a:pt x="739" y="19"/>
                  </a:lnTo>
                  <a:lnTo>
                    <a:pt x="602" y="19"/>
                  </a:lnTo>
                  <a:lnTo>
                    <a:pt x="477" y="49"/>
                  </a:lnTo>
                  <a:lnTo>
                    <a:pt x="374" y="94"/>
                  </a:lnTo>
                  <a:lnTo>
                    <a:pt x="343" y="103"/>
                  </a:lnTo>
                  <a:lnTo>
                    <a:pt x="333" y="112"/>
                  </a:lnTo>
                  <a:lnTo>
                    <a:pt x="343" y="103"/>
                  </a:lnTo>
                  <a:lnTo>
                    <a:pt x="384" y="103"/>
                  </a:lnTo>
                  <a:lnTo>
                    <a:pt x="436" y="94"/>
                  </a:lnTo>
                  <a:lnTo>
                    <a:pt x="499" y="112"/>
                  </a:lnTo>
                  <a:lnTo>
                    <a:pt x="384" y="135"/>
                  </a:lnTo>
                  <a:lnTo>
                    <a:pt x="249" y="196"/>
                  </a:lnTo>
                  <a:lnTo>
                    <a:pt x="146" y="280"/>
                  </a:lnTo>
                  <a:lnTo>
                    <a:pt x="103" y="342"/>
                  </a:lnTo>
                  <a:lnTo>
                    <a:pt x="84" y="393"/>
                  </a:lnTo>
                  <a:lnTo>
                    <a:pt x="187" y="321"/>
                  </a:lnTo>
                  <a:lnTo>
                    <a:pt x="240" y="299"/>
                  </a:lnTo>
                  <a:lnTo>
                    <a:pt x="303" y="290"/>
                  </a:lnTo>
                  <a:lnTo>
                    <a:pt x="290" y="2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4289400" y="3225960"/>
              <a:ext cx="924120" cy="393480"/>
            </a:xfrm>
            <a:custGeom>
              <a:avLst/>
              <a:gdLst/>
              <a:ahLst/>
              <a:rect l="l" t="t" r="r" b="b"/>
              <a:pathLst>
                <a:path w="2909" h="1243">
                  <a:moveTo>
                    <a:pt x="2909" y="714"/>
                  </a:moveTo>
                  <a:lnTo>
                    <a:pt x="2451" y="726"/>
                  </a:lnTo>
                  <a:lnTo>
                    <a:pt x="2254" y="726"/>
                  </a:lnTo>
                  <a:lnTo>
                    <a:pt x="2179" y="704"/>
                  </a:lnTo>
                  <a:lnTo>
                    <a:pt x="2117" y="682"/>
                  </a:lnTo>
                  <a:lnTo>
                    <a:pt x="2054" y="651"/>
                  </a:lnTo>
                  <a:lnTo>
                    <a:pt x="1983" y="620"/>
                  </a:lnTo>
                  <a:lnTo>
                    <a:pt x="1568" y="495"/>
                  </a:lnTo>
                  <a:lnTo>
                    <a:pt x="1474" y="477"/>
                  </a:lnTo>
                  <a:lnTo>
                    <a:pt x="1400" y="455"/>
                  </a:lnTo>
                  <a:lnTo>
                    <a:pt x="1266" y="402"/>
                  </a:lnTo>
                  <a:lnTo>
                    <a:pt x="1151" y="353"/>
                  </a:lnTo>
                  <a:lnTo>
                    <a:pt x="1057" y="299"/>
                  </a:lnTo>
                  <a:lnTo>
                    <a:pt x="1016" y="277"/>
                  </a:lnTo>
                  <a:lnTo>
                    <a:pt x="986" y="268"/>
                  </a:lnTo>
                  <a:lnTo>
                    <a:pt x="932" y="247"/>
                  </a:lnTo>
                  <a:lnTo>
                    <a:pt x="901" y="215"/>
                  </a:lnTo>
                  <a:lnTo>
                    <a:pt x="829" y="166"/>
                  </a:lnTo>
                  <a:lnTo>
                    <a:pt x="820" y="156"/>
                  </a:lnTo>
                  <a:lnTo>
                    <a:pt x="789" y="134"/>
                  </a:lnTo>
                  <a:lnTo>
                    <a:pt x="705" y="81"/>
                  </a:lnTo>
                  <a:lnTo>
                    <a:pt x="612" y="19"/>
                  </a:lnTo>
                  <a:lnTo>
                    <a:pt x="530" y="0"/>
                  </a:lnTo>
                  <a:lnTo>
                    <a:pt x="487" y="0"/>
                  </a:lnTo>
                  <a:lnTo>
                    <a:pt x="424" y="9"/>
                  </a:lnTo>
                  <a:lnTo>
                    <a:pt x="290" y="31"/>
                  </a:lnTo>
                  <a:lnTo>
                    <a:pt x="165" y="63"/>
                  </a:lnTo>
                  <a:lnTo>
                    <a:pt x="125" y="81"/>
                  </a:lnTo>
                  <a:lnTo>
                    <a:pt x="113" y="103"/>
                  </a:lnTo>
                  <a:lnTo>
                    <a:pt x="94" y="156"/>
                  </a:lnTo>
                  <a:lnTo>
                    <a:pt x="62" y="196"/>
                  </a:lnTo>
                  <a:lnTo>
                    <a:pt x="19" y="228"/>
                  </a:lnTo>
                  <a:lnTo>
                    <a:pt x="0" y="259"/>
                  </a:lnTo>
                  <a:lnTo>
                    <a:pt x="0" y="290"/>
                  </a:lnTo>
                  <a:lnTo>
                    <a:pt x="19" y="321"/>
                  </a:lnTo>
                  <a:lnTo>
                    <a:pt x="50" y="353"/>
                  </a:lnTo>
                  <a:lnTo>
                    <a:pt x="103" y="371"/>
                  </a:lnTo>
                  <a:lnTo>
                    <a:pt x="156" y="393"/>
                  </a:lnTo>
                  <a:lnTo>
                    <a:pt x="175" y="424"/>
                  </a:lnTo>
                  <a:lnTo>
                    <a:pt x="197" y="464"/>
                  </a:lnTo>
                  <a:lnTo>
                    <a:pt x="228" y="486"/>
                  </a:lnTo>
                  <a:lnTo>
                    <a:pt x="322" y="495"/>
                  </a:lnTo>
                  <a:lnTo>
                    <a:pt x="352" y="508"/>
                  </a:lnTo>
                  <a:lnTo>
                    <a:pt x="362" y="508"/>
                  </a:lnTo>
                  <a:lnTo>
                    <a:pt x="374" y="527"/>
                  </a:lnTo>
                  <a:lnTo>
                    <a:pt x="393" y="557"/>
                  </a:lnTo>
                  <a:lnTo>
                    <a:pt x="436" y="589"/>
                  </a:lnTo>
                  <a:lnTo>
                    <a:pt x="487" y="589"/>
                  </a:lnTo>
                  <a:lnTo>
                    <a:pt x="561" y="579"/>
                  </a:lnTo>
                  <a:lnTo>
                    <a:pt x="642" y="579"/>
                  </a:lnTo>
                  <a:lnTo>
                    <a:pt x="726" y="589"/>
                  </a:lnTo>
                  <a:lnTo>
                    <a:pt x="807" y="611"/>
                  </a:lnTo>
                  <a:lnTo>
                    <a:pt x="861" y="642"/>
                  </a:lnTo>
                  <a:lnTo>
                    <a:pt x="945" y="682"/>
                  </a:lnTo>
                  <a:lnTo>
                    <a:pt x="1151" y="807"/>
                  </a:lnTo>
                  <a:lnTo>
                    <a:pt x="1369" y="931"/>
                  </a:lnTo>
                  <a:lnTo>
                    <a:pt x="1453" y="985"/>
                  </a:lnTo>
                  <a:lnTo>
                    <a:pt x="1525" y="1016"/>
                  </a:lnTo>
                  <a:lnTo>
                    <a:pt x="1734" y="1140"/>
                  </a:lnTo>
                  <a:lnTo>
                    <a:pt x="1867" y="1194"/>
                  </a:lnTo>
                  <a:lnTo>
                    <a:pt x="2054" y="1213"/>
                  </a:lnTo>
                  <a:lnTo>
                    <a:pt x="2304" y="1213"/>
                  </a:lnTo>
                  <a:lnTo>
                    <a:pt x="2576" y="1234"/>
                  </a:lnTo>
                  <a:lnTo>
                    <a:pt x="2701" y="1234"/>
                  </a:lnTo>
                  <a:lnTo>
                    <a:pt x="2804" y="1243"/>
                  </a:lnTo>
                  <a:lnTo>
                    <a:pt x="2897" y="1243"/>
                  </a:lnTo>
                  <a:lnTo>
                    <a:pt x="2909" y="71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4751280" y="3208320"/>
              <a:ext cx="511200" cy="282600"/>
            </a:xfrm>
            <a:custGeom>
              <a:avLst/>
              <a:gdLst/>
              <a:ahLst/>
              <a:rect l="l" t="t" r="r" b="b"/>
              <a:pathLst>
                <a:path w="1612" h="891">
                  <a:moveTo>
                    <a:pt x="1612" y="312"/>
                  </a:moveTo>
                  <a:lnTo>
                    <a:pt x="1581" y="227"/>
                  </a:lnTo>
                  <a:lnTo>
                    <a:pt x="1528" y="165"/>
                  </a:lnTo>
                  <a:lnTo>
                    <a:pt x="1475" y="124"/>
                  </a:lnTo>
                  <a:lnTo>
                    <a:pt x="1425" y="116"/>
                  </a:lnTo>
                  <a:lnTo>
                    <a:pt x="1051" y="116"/>
                  </a:lnTo>
                  <a:lnTo>
                    <a:pt x="926" y="103"/>
                  </a:lnTo>
                  <a:lnTo>
                    <a:pt x="820" y="84"/>
                  </a:lnTo>
                  <a:lnTo>
                    <a:pt x="726" y="53"/>
                  </a:lnTo>
                  <a:lnTo>
                    <a:pt x="633" y="10"/>
                  </a:lnTo>
                  <a:lnTo>
                    <a:pt x="571" y="0"/>
                  </a:lnTo>
                  <a:lnTo>
                    <a:pt x="490" y="10"/>
                  </a:lnTo>
                  <a:lnTo>
                    <a:pt x="397" y="31"/>
                  </a:lnTo>
                  <a:lnTo>
                    <a:pt x="290" y="53"/>
                  </a:lnTo>
                  <a:lnTo>
                    <a:pt x="240" y="84"/>
                  </a:lnTo>
                  <a:lnTo>
                    <a:pt x="227" y="116"/>
                  </a:lnTo>
                  <a:lnTo>
                    <a:pt x="218" y="156"/>
                  </a:lnTo>
                  <a:lnTo>
                    <a:pt x="178" y="227"/>
                  </a:lnTo>
                  <a:lnTo>
                    <a:pt x="124" y="290"/>
                  </a:lnTo>
                  <a:lnTo>
                    <a:pt x="134" y="330"/>
                  </a:lnTo>
                  <a:lnTo>
                    <a:pt x="187" y="384"/>
                  </a:lnTo>
                  <a:lnTo>
                    <a:pt x="115" y="468"/>
                  </a:lnTo>
                  <a:lnTo>
                    <a:pt x="53" y="548"/>
                  </a:lnTo>
                  <a:lnTo>
                    <a:pt x="10" y="610"/>
                  </a:lnTo>
                  <a:lnTo>
                    <a:pt x="0" y="632"/>
                  </a:lnTo>
                  <a:lnTo>
                    <a:pt x="10" y="632"/>
                  </a:lnTo>
                  <a:lnTo>
                    <a:pt x="53" y="655"/>
                  </a:lnTo>
                  <a:lnTo>
                    <a:pt x="103" y="673"/>
                  </a:lnTo>
                  <a:lnTo>
                    <a:pt x="187" y="695"/>
                  </a:lnTo>
                  <a:lnTo>
                    <a:pt x="374" y="757"/>
                  </a:lnTo>
                  <a:lnTo>
                    <a:pt x="592" y="819"/>
                  </a:lnTo>
                  <a:lnTo>
                    <a:pt x="820" y="873"/>
                  </a:lnTo>
                  <a:lnTo>
                    <a:pt x="1029" y="891"/>
                  </a:lnTo>
                  <a:lnTo>
                    <a:pt x="1113" y="891"/>
                  </a:lnTo>
                  <a:lnTo>
                    <a:pt x="1185" y="882"/>
                  </a:lnTo>
                  <a:lnTo>
                    <a:pt x="1248" y="860"/>
                  </a:lnTo>
                  <a:lnTo>
                    <a:pt x="1278" y="819"/>
                  </a:lnTo>
                  <a:lnTo>
                    <a:pt x="1319" y="735"/>
                  </a:lnTo>
                  <a:lnTo>
                    <a:pt x="1362" y="686"/>
                  </a:lnTo>
                  <a:lnTo>
                    <a:pt x="1403" y="655"/>
                  </a:lnTo>
                  <a:lnTo>
                    <a:pt x="1435" y="632"/>
                  </a:lnTo>
                  <a:lnTo>
                    <a:pt x="1497" y="610"/>
                  </a:lnTo>
                  <a:lnTo>
                    <a:pt x="1549" y="593"/>
                  </a:lnTo>
                  <a:lnTo>
                    <a:pt x="1559" y="561"/>
                  </a:lnTo>
                  <a:lnTo>
                    <a:pt x="1590" y="499"/>
                  </a:lnTo>
                  <a:lnTo>
                    <a:pt x="1612" y="406"/>
                  </a:lnTo>
                  <a:lnTo>
                    <a:pt x="1612" y="3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4246560" y="2459160"/>
              <a:ext cx="422280" cy="501480"/>
            </a:xfrm>
            <a:custGeom>
              <a:avLst/>
              <a:gdLst/>
              <a:ahLst/>
              <a:rect l="l" t="t" r="r" b="b"/>
              <a:pathLst>
                <a:path w="1331" h="1579">
                  <a:moveTo>
                    <a:pt x="84" y="862"/>
                  </a:moveTo>
                  <a:lnTo>
                    <a:pt x="75" y="791"/>
                  </a:lnTo>
                  <a:lnTo>
                    <a:pt x="75" y="707"/>
                  </a:lnTo>
                  <a:lnTo>
                    <a:pt x="63" y="520"/>
                  </a:lnTo>
                  <a:lnTo>
                    <a:pt x="84" y="426"/>
                  </a:lnTo>
                  <a:lnTo>
                    <a:pt x="115" y="333"/>
                  </a:lnTo>
                  <a:lnTo>
                    <a:pt x="169" y="239"/>
                  </a:lnTo>
                  <a:lnTo>
                    <a:pt x="250" y="155"/>
                  </a:lnTo>
                  <a:lnTo>
                    <a:pt x="365" y="84"/>
                  </a:lnTo>
                  <a:lnTo>
                    <a:pt x="480" y="31"/>
                  </a:lnTo>
                  <a:lnTo>
                    <a:pt x="614" y="0"/>
                  </a:lnTo>
                  <a:lnTo>
                    <a:pt x="749" y="0"/>
                  </a:lnTo>
                  <a:lnTo>
                    <a:pt x="882" y="21"/>
                  </a:lnTo>
                  <a:lnTo>
                    <a:pt x="1007" y="75"/>
                  </a:lnTo>
                  <a:lnTo>
                    <a:pt x="1123" y="168"/>
                  </a:lnTo>
                  <a:lnTo>
                    <a:pt x="1216" y="280"/>
                  </a:lnTo>
                  <a:lnTo>
                    <a:pt x="1256" y="374"/>
                  </a:lnTo>
                  <a:lnTo>
                    <a:pt x="1288" y="467"/>
                  </a:lnTo>
                  <a:lnTo>
                    <a:pt x="1288" y="654"/>
                  </a:lnTo>
                  <a:lnTo>
                    <a:pt x="1269" y="800"/>
                  </a:lnTo>
                  <a:lnTo>
                    <a:pt x="1256" y="854"/>
                  </a:lnTo>
                  <a:lnTo>
                    <a:pt x="1256" y="872"/>
                  </a:lnTo>
                  <a:lnTo>
                    <a:pt x="1300" y="872"/>
                  </a:lnTo>
                  <a:lnTo>
                    <a:pt x="1331" y="916"/>
                  </a:lnTo>
                  <a:lnTo>
                    <a:pt x="1331" y="965"/>
                  </a:lnTo>
                  <a:lnTo>
                    <a:pt x="1310" y="1028"/>
                  </a:lnTo>
                  <a:lnTo>
                    <a:pt x="1278" y="1112"/>
                  </a:lnTo>
                  <a:lnTo>
                    <a:pt x="1247" y="1205"/>
                  </a:lnTo>
                  <a:lnTo>
                    <a:pt x="1207" y="1277"/>
                  </a:lnTo>
                  <a:lnTo>
                    <a:pt x="1175" y="1299"/>
                  </a:lnTo>
                  <a:lnTo>
                    <a:pt x="1153" y="1308"/>
                  </a:lnTo>
                  <a:lnTo>
                    <a:pt x="1050" y="1486"/>
                  </a:lnTo>
                  <a:lnTo>
                    <a:pt x="988" y="1548"/>
                  </a:lnTo>
                  <a:lnTo>
                    <a:pt x="936" y="1579"/>
                  </a:lnTo>
                  <a:lnTo>
                    <a:pt x="873" y="1579"/>
                  </a:lnTo>
                  <a:lnTo>
                    <a:pt x="770" y="1557"/>
                  </a:lnTo>
                  <a:lnTo>
                    <a:pt x="667" y="1517"/>
                  </a:lnTo>
                  <a:lnTo>
                    <a:pt x="573" y="1464"/>
                  </a:lnTo>
                  <a:lnTo>
                    <a:pt x="489" y="1424"/>
                  </a:lnTo>
                  <a:lnTo>
                    <a:pt x="386" y="1414"/>
                  </a:lnTo>
                  <a:lnTo>
                    <a:pt x="272" y="1414"/>
                  </a:lnTo>
                  <a:lnTo>
                    <a:pt x="262" y="1392"/>
                  </a:lnTo>
                  <a:lnTo>
                    <a:pt x="231" y="1361"/>
                  </a:lnTo>
                  <a:lnTo>
                    <a:pt x="178" y="1267"/>
                  </a:lnTo>
                  <a:lnTo>
                    <a:pt x="125" y="1228"/>
                  </a:lnTo>
                  <a:lnTo>
                    <a:pt x="84" y="1196"/>
                  </a:lnTo>
                  <a:lnTo>
                    <a:pt x="63" y="1144"/>
                  </a:lnTo>
                  <a:lnTo>
                    <a:pt x="31" y="1058"/>
                  </a:lnTo>
                  <a:lnTo>
                    <a:pt x="12" y="956"/>
                  </a:lnTo>
                  <a:lnTo>
                    <a:pt x="0" y="903"/>
                  </a:lnTo>
                  <a:lnTo>
                    <a:pt x="12" y="872"/>
                  </a:lnTo>
                  <a:lnTo>
                    <a:pt x="44" y="854"/>
                  </a:lnTo>
                  <a:lnTo>
                    <a:pt x="84" y="86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4048200" y="3119400"/>
              <a:ext cx="271440" cy="190440"/>
            </a:xfrm>
            <a:custGeom>
              <a:avLst/>
              <a:gdLst/>
              <a:ahLst/>
              <a:rect l="l" t="t" r="r" b="b"/>
              <a:pathLst>
                <a:path w="854" h="601">
                  <a:moveTo>
                    <a:pt x="374" y="22"/>
                  </a:moveTo>
                  <a:lnTo>
                    <a:pt x="324" y="0"/>
                  </a:lnTo>
                  <a:lnTo>
                    <a:pt x="261" y="9"/>
                  </a:lnTo>
                  <a:lnTo>
                    <a:pt x="146" y="62"/>
                  </a:lnTo>
                  <a:lnTo>
                    <a:pt x="43" y="146"/>
                  </a:lnTo>
                  <a:lnTo>
                    <a:pt x="12" y="177"/>
                  </a:lnTo>
                  <a:lnTo>
                    <a:pt x="0" y="196"/>
                  </a:lnTo>
                  <a:lnTo>
                    <a:pt x="22" y="249"/>
                  </a:lnTo>
                  <a:lnTo>
                    <a:pt x="84" y="302"/>
                  </a:lnTo>
                  <a:lnTo>
                    <a:pt x="177" y="352"/>
                  </a:lnTo>
                  <a:lnTo>
                    <a:pt x="271" y="383"/>
                  </a:lnTo>
                  <a:lnTo>
                    <a:pt x="333" y="426"/>
                  </a:lnTo>
                  <a:lnTo>
                    <a:pt x="396" y="489"/>
                  </a:lnTo>
                  <a:lnTo>
                    <a:pt x="448" y="539"/>
                  </a:lnTo>
                  <a:lnTo>
                    <a:pt x="511" y="570"/>
                  </a:lnTo>
                  <a:lnTo>
                    <a:pt x="573" y="580"/>
                  </a:lnTo>
                  <a:lnTo>
                    <a:pt x="613" y="592"/>
                  </a:lnTo>
                  <a:lnTo>
                    <a:pt x="654" y="592"/>
                  </a:lnTo>
                  <a:lnTo>
                    <a:pt x="738" y="601"/>
                  </a:lnTo>
                  <a:lnTo>
                    <a:pt x="792" y="580"/>
                  </a:lnTo>
                  <a:lnTo>
                    <a:pt x="822" y="561"/>
                  </a:lnTo>
                  <a:lnTo>
                    <a:pt x="841" y="539"/>
                  </a:lnTo>
                  <a:lnTo>
                    <a:pt x="854" y="499"/>
                  </a:lnTo>
                  <a:lnTo>
                    <a:pt x="822" y="426"/>
                  </a:lnTo>
                  <a:lnTo>
                    <a:pt x="779" y="342"/>
                  </a:lnTo>
                  <a:lnTo>
                    <a:pt x="738" y="290"/>
                  </a:lnTo>
                  <a:lnTo>
                    <a:pt x="716" y="258"/>
                  </a:lnTo>
                  <a:lnTo>
                    <a:pt x="729" y="249"/>
                  </a:lnTo>
                  <a:lnTo>
                    <a:pt x="801" y="239"/>
                  </a:lnTo>
                  <a:lnTo>
                    <a:pt x="832" y="227"/>
                  </a:lnTo>
                  <a:lnTo>
                    <a:pt x="854" y="196"/>
                  </a:lnTo>
                  <a:lnTo>
                    <a:pt x="841" y="177"/>
                  </a:lnTo>
                  <a:lnTo>
                    <a:pt x="810" y="177"/>
                  </a:lnTo>
                  <a:lnTo>
                    <a:pt x="738" y="146"/>
                  </a:lnTo>
                  <a:lnTo>
                    <a:pt x="698" y="124"/>
                  </a:lnTo>
                  <a:lnTo>
                    <a:pt x="654" y="116"/>
                  </a:lnTo>
                  <a:lnTo>
                    <a:pt x="592" y="124"/>
                  </a:lnTo>
                  <a:lnTo>
                    <a:pt x="511" y="133"/>
                  </a:lnTo>
                  <a:lnTo>
                    <a:pt x="480" y="133"/>
                  </a:lnTo>
                  <a:lnTo>
                    <a:pt x="458" y="116"/>
                  </a:lnTo>
                  <a:lnTo>
                    <a:pt x="448" y="93"/>
                  </a:lnTo>
                  <a:lnTo>
                    <a:pt x="436" y="62"/>
                  </a:lnTo>
                  <a:lnTo>
                    <a:pt x="374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4200480" y="2994120"/>
              <a:ext cx="490680" cy="309600"/>
            </a:xfrm>
            <a:custGeom>
              <a:avLst/>
              <a:gdLst/>
              <a:ahLst/>
              <a:rect l="l" t="t" r="r" b="b"/>
              <a:pathLst>
                <a:path w="1546" h="976">
                  <a:moveTo>
                    <a:pt x="0" y="561"/>
                  </a:moveTo>
                  <a:lnTo>
                    <a:pt x="49" y="449"/>
                  </a:lnTo>
                  <a:lnTo>
                    <a:pt x="103" y="355"/>
                  </a:lnTo>
                  <a:lnTo>
                    <a:pt x="155" y="281"/>
                  </a:lnTo>
                  <a:lnTo>
                    <a:pt x="236" y="219"/>
                  </a:lnTo>
                  <a:lnTo>
                    <a:pt x="330" y="156"/>
                  </a:lnTo>
                  <a:lnTo>
                    <a:pt x="415" y="84"/>
                  </a:lnTo>
                  <a:lnTo>
                    <a:pt x="508" y="32"/>
                  </a:lnTo>
                  <a:lnTo>
                    <a:pt x="642" y="0"/>
                  </a:lnTo>
                  <a:lnTo>
                    <a:pt x="798" y="0"/>
                  </a:lnTo>
                  <a:lnTo>
                    <a:pt x="935" y="13"/>
                  </a:lnTo>
                  <a:lnTo>
                    <a:pt x="1038" y="22"/>
                  </a:lnTo>
                  <a:lnTo>
                    <a:pt x="1109" y="32"/>
                  </a:lnTo>
                  <a:lnTo>
                    <a:pt x="1141" y="53"/>
                  </a:lnTo>
                  <a:lnTo>
                    <a:pt x="1163" y="84"/>
                  </a:lnTo>
                  <a:lnTo>
                    <a:pt x="1172" y="116"/>
                  </a:lnTo>
                  <a:lnTo>
                    <a:pt x="1172" y="137"/>
                  </a:lnTo>
                  <a:lnTo>
                    <a:pt x="1203" y="137"/>
                  </a:lnTo>
                  <a:lnTo>
                    <a:pt x="1256" y="156"/>
                  </a:lnTo>
                  <a:lnTo>
                    <a:pt x="1287" y="209"/>
                  </a:lnTo>
                  <a:lnTo>
                    <a:pt x="1296" y="230"/>
                  </a:lnTo>
                  <a:lnTo>
                    <a:pt x="1296" y="240"/>
                  </a:lnTo>
                  <a:lnTo>
                    <a:pt x="1359" y="240"/>
                  </a:lnTo>
                  <a:lnTo>
                    <a:pt x="1399" y="249"/>
                  </a:lnTo>
                  <a:lnTo>
                    <a:pt x="1443" y="271"/>
                  </a:lnTo>
                  <a:lnTo>
                    <a:pt x="1462" y="333"/>
                  </a:lnTo>
                  <a:lnTo>
                    <a:pt x="1462" y="374"/>
                  </a:lnTo>
                  <a:lnTo>
                    <a:pt x="1546" y="426"/>
                  </a:lnTo>
                  <a:lnTo>
                    <a:pt x="1546" y="458"/>
                  </a:lnTo>
                  <a:lnTo>
                    <a:pt x="1515" y="499"/>
                  </a:lnTo>
                  <a:lnTo>
                    <a:pt x="1453" y="561"/>
                  </a:lnTo>
                  <a:lnTo>
                    <a:pt x="1380" y="623"/>
                  </a:lnTo>
                  <a:lnTo>
                    <a:pt x="1337" y="667"/>
                  </a:lnTo>
                  <a:lnTo>
                    <a:pt x="1306" y="707"/>
                  </a:lnTo>
                  <a:lnTo>
                    <a:pt x="1275" y="760"/>
                  </a:lnTo>
                  <a:lnTo>
                    <a:pt x="1234" y="800"/>
                  </a:lnTo>
                  <a:lnTo>
                    <a:pt x="1141" y="841"/>
                  </a:lnTo>
                  <a:lnTo>
                    <a:pt x="1025" y="885"/>
                  </a:lnTo>
                  <a:lnTo>
                    <a:pt x="892" y="925"/>
                  </a:lnTo>
                  <a:lnTo>
                    <a:pt x="580" y="976"/>
                  </a:lnTo>
                  <a:lnTo>
                    <a:pt x="436" y="976"/>
                  </a:lnTo>
                  <a:lnTo>
                    <a:pt x="290" y="966"/>
                  </a:lnTo>
                  <a:lnTo>
                    <a:pt x="0" y="56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4959360" y="2587680"/>
              <a:ext cx="401760" cy="241200"/>
            </a:xfrm>
            <a:custGeom>
              <a:avLst/>
              <a:gdLst/>
              <a:ahLst/>
              <a:rect l="l" t="t" r="r" b="b"/>
              <a:pathLst>
                <a:path w="1268" h="761">
                  <a:moveTo>
                    <a:pt x="9" y="761"/>
                  </a:moveTo>
                  <a:lnTo>
                    <a:pt x="53" y="654"/>
                  </a:lnTo>
                  <a:lnTo>
                    <a:pt x="84" y="593"/>
                  </a:lnTo>
                  <a:lnTo>
                    <a:pt x="124" y="543"/>
                  </a:lnTo>
                  <a:lnTo>
                    <a:pt x="165" y="512"/>
                  </a:lnTo>
                  <a:lnTo>
                    <a:pt x="240" y="480"/>
                  </a:lnTo>
                  <a:lnTo>
                    <a:pt x="290" y="428"/>
                  </a:lnTo>
                  <a:lnTo>
                    <a:pt x="320" y="396"/>
                  </a:lnTo>
                  <a:lnTo>
                    <a:pt x="384" y="374"/>
                  </a:lnTo>
                  <a:lnTo>
                    <a:pt x="539" y="334"/>
                  </a:lnTo>
                  <a:lnTo>
                    <a:pt x="696" y="303"/>
                  </a:lnTo>
                  <a:lnTo>
                    <a:pt x="748" y="281"/>
                  </a:lnTo>
                  <a:lnTo>
                    <a:pt x="780" y="263"/>
                  </a:lnTo>
                  <a:lnTo>
                    <a:pt x="810" y="200"/>
                  </a:lnTo>
                  <a:lnTo>
                    <a:pt x="842" y="125"/>
                  </a:lnTo>
                  <a:lnTo>
                    <a:pt x="864" y="75"/>
                  </a:lnTo>
                  <a:lnTo>
                    <a:pt x="894" y="54"/>
                  </a:lnTo>
                  <a:lnTo>
                    <a:pt x="926" y="63"/>
                  </a:lnTo>
                  <a:lnTo>
                    <a:pt x="967" y="106"/>
                  </a:lnTo>
                  <a:lnTo>
                    <a:pt x="1081" y="209"/>
                  </a:lnTo>
                  <a:lnTo>
                    <a:pt x="1194" y="334"/>
                  </a:lnTo>
                  <a:lnTo>
                    <a:pt x="1238" y="374"/>
                  </a:lnTo>
                  <a:lnTo>
                    <a:pt x="1257" y="406"/>
                  </a:lnTo>
                  <a:lnTo>
                    <a:pt x="1268" y="418"/>
                  </a:lnTo>
                  <a:lnTo>
                    <a:pt x="1257" y="387"/>
                  </a:lnTo>
                  <a:lnTo>
                    <a:pt x="1238" y="344"/>
                  </a:lnTo>
                  <a:lnTo>
                    <a:pt x="1194" y="281"/>
                  </a:lnTo>
                  <a:lnTo>
                    <a:pt x="1144" y="209"/>
                  </a:lnTo>
                  <a:lnTo>
                    <a:pt x="1070" y="125"/>
                  </a:lnTo>
                  <a:lnTo>
                    <a:pt x="988" y="63"/>
                  </a:lnTo>
                  <a:lnTo>
                    <a:pt x="883" y="0"/>
                  </a:lnTo>
                  <a:lnTo>
                    <a:pt x="851" y="0"/>
                  </a:lnTo>
                  <a:lnTo>
                    <a:pt x="842" y="13"/>
                  </a:lnTo>
                  <a:lnTo>
                    <a:pt x="820" y="84"/>
                  </a:lnTo>
                  <a:lnTo>
                    <a:pt x="789" y="168"/>
                  </a:lnTo>
                  <a:lnTo>
                    <a:pt x="748" y="231"/>
                  </a:lnTo>
                  <a:lnTo>
                    <a:pt x="707" y="250"/>
                  </a:lnTo>
                  <a:lnTo>
                    <a:pt x="645" y="271"/>
                  </a:lnTo>
                  <a:lnTo>
                    <a:pt x="499" y="303"/>
                  </a:lnTo>
                  <a:lnTo>
                    <a:pt x="343" y="344"/>
                  </a:lnTo>
                  <a:lnTo>
                    <a:pt x="281" y="374"/>
                  </a:lnTo>
                  <a:lnTo>
                    <a:pt x="240" y="396"/>
                  </a:lnTo>
                  <a:lnTo>
                    <a:pt x="178" y="458"/>
                  </a:lnTo>
                  <a:lnTo>
                    <a:pt x="103" y="543"/>
                  </a:lnTo>
                  <a:lnTo>
                    <a:pt x="30" y="637"/>
                  </a:lnTo>
                  <a:lnTo>
                    <a:pt x="0" y="730"/>
                  </a:lnTo>
                  <a:lnTo>
                    <a:pt x="9" y="761"/>
                  </a:lnTo>
                  <a:close/>
                </a:path>
              </a:pathLst>
            </a:custGeom>
            <a:solidFill>
              <a:srgbClr val="293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4797360" y="2548080"/>
              <a:ext cx="231840" cy="133200"/>
            </a:xfrm>
            <a:custGeom>
              <a:avLst/>
              <a:gdLst/>
              <a:ahLst/>
              <a:rect l="l" t="t" r="r" b="b"/>
              <a:pathLst>
                <a:path w="727" h="417">
                  <a:moveTo>
                    <a:pt x="727" y="417"/>
                  </a:moveTo>
                  <a:lnTo>
                    <a:pt x="641" y="281"/>
                  </a:lnTo>
                  <a:lnTo>
                    <a:pt x="548" y="199"/>
                  </a:lnTo>
                  <a:lnTo>
                    <a:pt x="467" y="137"/>
                  </a:lnTo>
                  <a:lnTo>
                    <a:pt x="405" y="75"/>
                  </a:lnTo>
                  <a:lnTo>
                    <a:pt x="351" y="12"/>
                  </a:lnTo>
                  <a:lnTo>
                    <a:pt x="299" y="0"/>
                  </a:lnTo>
                  <a:lnTo>
                    <a:pt x="250" y="31"/>
                  </a:lnTo>
                  <a:lnTo>
                    <a:pt x="174" y="115"/>
                  </a:lnTo>
                  <a:lnTo>
                    <a:pt x="102" y="208"/>
                  </a:lnTo>
                  <a:lnTo>
                    <a:pt x="50" y="271"/>
                  </a:lnTo>
                  <a:lnTo>
                    <a:pt x="9" y="292"/>
                  </a:lnTo>
                  <a:lnTo>
                    <a:pt x="0" y="302"/>
                  </a:lnTo>
                  <a:lnTo>
                    <a:pt x="9" y="302"/>
                  </a:lnTo>
                  <a:lnTo>
                    <a:pt x="31" y="281"/>
                  </a:lnTo>
                  <a:lnTo>
                    <a:pt x="102" y="240"/>
                  </a:lnTo>
                  <a:lnTo>
                    <a:pt x="196" y="178"/>
                  </a:lnTo>
                  <a:lnTo>
                    <a:pt x="258" y="105"/>
                  </a:lnTo>
                  <a:lnTo>
                    <a:pt x="289" y="84"/>
                  </a:lnTo>
                  <a:lnTo>
                    <a:pt x="312" y="84"/>
                  </a:lnTo>
                  <a:lnTo>
                    <a:pt x="361" y="115"/>
                  </a:lnTo>
                  <a:lnTo>
                    <a:pt x="405" y="168"/>
                  </a:lnTo>
                  <a:lnTo>
                    <a:pt x="454" y="208"/>
                  </a:lnTo>
                  <a:lnTo>
                    <a:pt x="530" y="240"/>
                  </a:lnTo>
                  <a:lnTo>
                    <a:pt x="592" y="271"/>
                  </a:lnTo>
                  <a:lnTo>
                    <a:pt x="654" y="333"/>
                  </a:lnTo>
                  <a:lnTo>
                    <a:pt x="695" y="417"/>
                  </a:lnTo>
                  <a:lnTo>
                    <a:pt x="727" y="417"/>
                  </a:lnTo>
                  <a:close/>
                </a:path>
              </a:pathLst>
            </a:custGeom>
            <a:solidFill>
              <a:srgbClr val="293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5133960" y="5727600"/>
              <a:ext cx="949320" cy="292320"/>
            </a:xfrm>
            <a:custGeom>
              <a:avLst/>
              <a:gdLst/>
              <a:ahLst/>
              <a:rect l="l" t="t" r="r" b="b"/>
              <a:pathLst>
                <a:path w="2990" h="922">
                  <a:moveTo>
                    <a:pt x="966" y="40"/>
                  </a:moveTo>
                  <a:lnTo>
                    <a:pt x="922" y="0"/>
                  </a:lnTo>
                  <a:lnTo>
                    <a:pt x="904" y="10"/>
                  </a:lnTo>
                  <a:lnTo>
                    <a:pt x="860" y="31"/>
                  </a:lnTo>
                  <a:lnTo>
                    <a:pt x="748" y="81"/>
                  </a:lnTo>
                  <a:lnTo>
                    <a:pt x="611" y="143"/>
                  </a:lnTo>
                  <a:lnTo>
                    <a:pt x="561" y="165"/>
                  </a:lnTo>
                  <a:lnTo>
                    <a:pt x="518" y="165"/>
                  </a:lnTo>
                  <a:lnTo>
                    <a:pt x="290" y="165"/>
                  </a:lnTo>
                  <a:lnTo>
                    <a:pt x="165" y="187"/>
                  </a:lnTo>
                  <a:lnTo>
                    <a:pt x="125" y="187"/>
                  </a:lnTo>
                  <a:lnTo>
                    <a:pt x="93" y="196"/>
                  </a:lnTo>
                  <a:lnTo>
                    <a:pt x="49" y="249"/>
                  </a:lnTo>
                  <a:lnTo>
                    <a:pt x="9" y="393"/>
                  </a:lnTo>
                  <a:lnTo>
                    <a:pt x="0" y="414"/>
                  </a:lnTo>
                  <a:lnTo>
                    <a:pt x="0" y="423"/>
                  </a:lnTo>
                  <a:lnTo>
                    <a:pt x="9" y="436"/>
                  </a:lnTo>
                  <a:lnTo>
                    <a:pt x="41" y="467"/>
                  </a:lnTo>
                  <a:lnTo>
                    <a:pt x="81" y="498"/>
                  </a:lnTo>
                  <a:lnTo>
                    <a:pt x="144" y="548"/>
                  </a:lnTo>
                  <a:lnTo>
                    <a:pt x="299" y="632"/>
                  </a:lnTo>
                  <a:lnTo>
                    <a:pt x="393" y="673"/>
                  </a:lnTo>
                  <a:lnTo>
                    <a:pt x="486" y="694"/>
                  </a:lnTo>
                  <a:lnTo>
                    <a:pt x="664" y="726"/>
                  </a:lnTo>
                  <a:lnTo>
                    <a:pt x="811" y="748"/>
                  </a:lnTo>
                  <a:lnTo>
                    <a:pt x="1047" y="810"/>
                  </a:lnTo>
                  <a:lnTo>
                    <a:pt x="1141" y="829"/>
                  </a:lnTo>
                  <a:lnTo>
                    <a:pt x="1172" y="841"/>
                  </a:lnTo>
                  <a:lnTo>
                    <a:pt x="1185" y="841"/>
                  </a:lnTo>
                  <a:lnTo>
                    <a:pt x="1193" y="873"/>
                  </a:lnTo>
                  <a:lnTo>
                    <a:pt x="1215" y="903"/>
                  </a:lnTo>
                  <a:lnTo>
                    <a:pt x="1256" y="903"/>
                  </a:lnTo>
                  <a:lnTo>
                    <a:pt x="1340" y="913"/>
                  </a:lnTo>
                  <a:lnTo>
                    <a:pt x="1462" y="913"/>
                  </a:lnTo>
                  <a:lnTo>
                    <a:pt x="1618" y="922"/>
                  </a:lnTo>
                  <a:lnTo>
                    <a:pt x="2076" y="922"/>
                  </a:lnTo>
                  <a:lnTo>
                    <a:pt x="2191" y="913"/>
                  </a:lnTo>
                  <a:lnTo>
                    <a:pt x="2294" y="903"/>
                  </a:lnTo>
                  <a:lnTo>
                    <a:pt x="2419" y="891"/>
                  </a:lnTo>
                  <a:lnTo>
                    <a:pt x="2678" y="881"/>
                  </a:lnTo>
                  <a:lnTo>
                    <a:pt x="2793" y="881"/>
                  </a:lnTo>
                  <a:lnTo>
                    <a:pt x="2887" y="873"/>
                  </a:lnTo>
                  <a:lnTo>
                    <a:pt x="2949" y="860"/>
                  </a:lnTo>
                  <a:lnTo>
                    <a:pt x="2980" y="841"/>
                  </a:lnTo>
                  <a:lnTo>
                    <a:pt x="2990" y="810"/>
                  </a:lnTo>
                  <a:lnTo>
                    <a:pt x="2990" y="767"/>
                  </a:lnTo>
                  <a:lnTo>
                    <a:pt x="2980" y="664"/>
                  </a:lnTo>
                  <a:lnTo>
                    <a:pt x="2958" y="539"/>
                  </a:lnTo>
                  <a:lnTo>
                    <a:pt x="2939" y="423"/>
                  </a:lnTo>
                  <a:lnTo>
                    <a:pt x="2896" y="342"/>
                  </a:lnTo>
                  <a:lnTo>
                    <a:pt x="2855" y="280"/>
                  </a:lnTo>
                  <a:lnTo>
                    <a:pt x="2814" y="236"/>
                  </a:lnTo>
                  <a:lnTo>
                    <a:pt x="2784" y="227"/>
                  </a:lnTo>
                  <a:lnTo>
                    <a:pt x="2740" y="227"/>
                  </a:lnTo>
                  <a:lnTo>
                    <a:pt x="2668" y="236"/>
                  </a:lnTo>
                  <a:lnTo>
                    <a:pt x="2459" y="249"/>
                  </a:lnTo>
                  <a:lnTo>
                    <a:pt x="2253" y="268"/>
                  </a:lnTo>
                  <a:lnTo>
                    <a:pt x="2160" y="268"/>
                  </a:lnTo>
                  <a:lnTo>
                    <a:pt x="2147" y="258"/>
                  </a:lnTo>
                  <a:lnTo>
                    <a:pt x="2129" y="236"/>
                  </a:lnTo>
                  <a:lnTo>
                    <a:pt x="2085" y="206"/>
                  </a:lnTo>
                  <a:lnTo>
                    <a:pt x="2023" y="196"/>
                  </a:lnTo>
                  <a:lnTo>
                    <a:pt x="1960" y="227"/>
                  </a:lnTo>
                  <a:lnTo>
                    <a:pt x="1898" y="290"/>
                  </a:lnTo>
                  <a:lnTo>
                    <a:pt x="1795" y="393"/>
                  </a:lnTo>
                  <a:lnTo>
                    <a:pt x="1711" y="445"/>
                  </a:lnTo>
                  <a:lnTo>
                    <a:pt x="1618" y="498"/>
                  </a:lnTo>
                  <a:lnTo>
                    <a:pt x="1608" y="404"/>
                  </a:lnTo>
                  <a:lnTo>
                    <a:pt x="1586" y="311"/>
                  </a:lnTo>
                  <a:lnTo>
                    <a:pt x="1556" y="249"/>
                  </a:lnTo>
                  <a:lnTo>
                    <a:pt x="1546" y="217"/>
                  </a:lnTo>
                  <a:lnTo>
                    <a:pt x="966" y="4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5164200" y="5742000"/>
              <a:ext cx="473040" cy="182520"/>
            </a:xfrm>
            <a:custGeom>
              <a:avLst/>
              <a:gdLst/>
              <a:ahLst/>
              <a:rect l="l" t="t" r="r" b="b"/>
              <a:pathLst>
                <a:path w="1493" h="574">
                  <a:moveTo>
                    <a:pt x="799" y="0"/>
                  </a:moveTo>
                  <a:lnTo>
                    <a:pt x="842" y="125"/>
                  </a:lnTo>
                  <a:lnTo>
                    <a:pt x="842" y="231"/>
                  </a:lnTo>
                  <a:lnTo>
                    <a:pt x="829" y="293"/>
                  </a:lnTo>
                  <a:lnTo>
                    <a:pt x="820" y="325"/>
                  </a:lnTo>
                  <a:lnTo>
                    <a:pt x="842" y="325"/>
                  </a:lnTo>
                  <a:lnTo>
                    <a:pt x="892" y="334"/>
                  </a:lnTo>
                  <a:lnTo>
                    <a:pt x="976" y="344"/>
                  </a:lnTo>
                  <a:lnTo>
                    <a:pt x="1070" y="355"/>
                  </a:lnTo>
                  <a:lnTo>
                    <a:pt x="1276" y="355"/>
                  </a:lnTo>
                  <a:lnTo>
                    <a:pt x="1369" y="334"/>
                  </a:lnTo>
                  <a:lnTo>
                    <a:pt x="1453" y="303"/>
                  </a:lnTo>
                  <a:lnTo>
                    <a:pt x="1475" y="406"/>
                  </a:lnTo>
                  <a:lnTo>
                    <a:pt x="1493" y="449"/>
                  </a:lnTo>
                  <a:lnTo>
                    <a:pt x="1493" y="468"/>
                  </a:lnTo>
                  <a:lnTo>
                    <a:pt x="1154" y="574"/>
                  </a:lnTo>
                  <a:lnTo>
                    <a:pt x="1141" y="574"/>
                  </a:lnTo>
                  <a:lnTo>
                    <a:pt x="1122" y="561"/>
                  </a:lnTo>
                  <a:lnTo>
                    <a:pt x="1029" y="552"/>
                  </a:lnTo>
                  <a:lnTo>
                    <a:pt x="905" y="531"/>
                  </a:lnTo>
                  <a:lnTo>
                    <a:pt x="758" y="512"/>
                  </a:lnTo>
                  <a:lnTo>
                    <a:pt x="612" y="512"/>
                  </a:lnTo>
                  <a:lnTo>
                    <a:pt x="468" y="499"/>
                  </a:lnTo>
                  <a:lnTo>
                    <a:pt x="322" y="480"/>
                  </a:lnTo>
                  <a:lnTo>
                    <a:pt x="206" y="418"/>
                  </a:lnTo>
                  <a:lnTo>
                    <a:pt x="113" y="344"/>
                  </a:lnTo>
                  <a:lnTo>
                    <a:pt x="81" y="312"/>
                  </a:lnTo>
                  <a:lnTo>
                    <a:pt x="51" y="293"/>
                  </a:lnTo>
                  <a:lnTo>
                    <a:pt x="10" y="250"/>
                  </a:lnTo>
                  <a:lnTo>
                    <a:pt x="0" y="219"/>
                  </a:lnTo>
                  <a:lnTo>
                    <a:pt x="19" y="200"/>
                  </a:lnTo>
                  <a:lnTo>
                    <a:pt x="62" y="178"/>
                  </a:lnTo>
                  <a:lnTo>
                    <a:pt x="187" y="157"/>
                  </a:lnTo>
                  <a:lnTo>
                    <a:pt x="518" y="147"/>
                  </a:lnTo>
                  <a:lnTo>
                    <a:pt x="7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5143680" y="5829480"/>
              <a:ext cx="366480" cy="155520"/>
            </a:xfrm>
            <a:custGeom>
              <a:avLst/>
              <a:gdLst/>
              <a:ahLst/>
              <a:rect l="l" t="t" r="r" b="b"/>
              <a:pathLst>
                <a:path w="1154" h="490">
                  <a:moveTo>
                    <a:pt x="31" y="0"/>
                  </a:moveTo>
                  <a:lnTo>
                    <a:pt x="94" y="63"/>
                  </a:lnTo>
                  <a:lnTo>
                    <a:pt x="156" y="116"/>
                  </a:lnTo>
                  <a:lnTo>
                    <a:pt x="281" y="197"/>
                  </a:lnTo>
                  <a:lnTo>
                    <a:pt x="414" y="250"/>
                  </a:lnTo>
                  <a:lnTo>
                    <a:pt x="498" y="260"/>
                  </a:lnTo>
                  <a:lnTo>
                    <a:pt x="601" y="260"/>
                  </a:lnTo>
                  <a:lnTo>
                    <a:pt x="820" y="271"/>
                  </a:lnTo>
                  <a:lnTo>
                    <a:pt x="985" y="303"/>
                  </a:lnTo>
                  <a:lnTo>
                    <a:pt x="1060" y="312"/>
                  </a:lnTo>
                  <a:lnTo>
                    <a:pt x="1110" y="322"/>
                  </a:lnTo>
                  <a:lnTo>
                    <a:pt x="1141" y="334"/>
                  </a:lnTo>
                  <a:lnTo>
                    <a:pt x="1154" y="334"/>
                  </a:lnTo>
                  <a:lnTo>
                    <a:pt x="1154" y="490"/>
                  </a:lnTo>
                  <a:lnTo>
                    <a:pt x="1141" y="490"/>
                  </a:lnTo>
                  <a:lnTo>
                    <a:pt x="1100" y="468"/>
                  </a:lnTo>
                  <a:lnTo>
                    <a:pt x="1048" y="459"/>
                  </a:lnTo>
                  <a:lnTo>
                    <a:pt x="975" y="437"/>
                  </a:lnTo>
                  <a:lnTo>
                    <a:pt x="788" y="384"/>
                  </a:lnTo>
                  <a:lnTo>
                    <a:pt x="561" y="353"/>
                  </a:lnTo>
                  <a:lnTo>
                    <a:pt x="352" y="312"/>
                  </a:lnTo>
                  <a:lnTo>
                    <a:pt x="187" y="241"/>
                  </a:lnTo>
                  <a:lnTo>
                    <a:pt x="62" y="157"/>
                  </a:lnTo>
                  <a:lnTo>
                    <a:pt x="18" y="125"/>
                  </a:lnTo>
                  <a:lnTo>
                    <a:pt x="0" y="9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5535720" y="5802480"/>
              <a:ext cx="534960" cy="161640"/>
            </a:xfrm>
            <a:custGeom>
              <a:avLst/>
              <a:gdLst/>
              <a:ahLst/>
              <a:rect l="l" t="t" r="r" b="b"/>
              <a:pathLst>
                <a:path w="1683" h="512">
                  <a:moveTo>
                    <a:pt x="1019" y="200"/>
                  </a:moveTo>
                  <a:lnTo>
                    <a:pt x="957" y="125"/>
                  </a:lnTo>
                  <a:lnTo>
                    <a:pt x="881" y="54"/>
                  </a:lnTo>
                  <a:lnTo>
                    <a:pt x="810" y="13"/>
                  </a:lnTo>
                  <a:lnTo>
                    <a:pt x="757" y="0"/>
                  </a:lnTo>
                  <a:lnTo>
                    <a:pt x="738" y="13"/>
                  </a:lnTo>
                  <a:lnTo>
                    <a:pt x="694" y="54"/>
                  </a:lnTo>
                  <a:lnTo>
                    <a:pt x="583" y="157"/>
                  </a:lnTo>
                  <a:lnTo>
                    <a:pt x="436" y="262"/>
                  </a:lnTo>
                  <a:lnTo>
                    <a:pt x="364" y="303"/>
                  </a:lnTo>
                  <a:lnTo>
                    <a:pt x="302" y="334"/>
                  </a:lnTo>
                  <a:lnTo>
                    <a:pt x="187" y="374"/>
                  </a:lnTo>
                  <a:lnTo>
                    <a:pt x="103" y="396"/>
                  </a:lnTo>
                  <a:lnTo>
                    <a:pt x="43" y="406"/>
                  </a:lnTo>
                  <a:lnTo>
                    <a:pt x="0" y="428"/>
                  </a:lnTo>
                  <a:lnTo>
                    <a:pt x="0" y="437"/>
                  </a:lnTo>
                  <a:lnTo>
                    <a:pt x="30" y="458"/>
                  </a:lnTo>
                  <a:lnTo>
                    <a:pt x="74" y="468"/>
                  </a:lnTo>
                  <a:lnTo>
                    <a:pt x="146" y="480"/>
                  </a:lnTo>
                  <a:lnTo>
                    <a:pt x="302" y="499"/>
                  </a:lnTo>
                  <a:lnTo>
                    <a:pt x="467" y="512"/>
                  </a:lnTo>
                  <a:lnTo>
                    <a:pt x="873" y="512"/>
                  </a:lnTo>
                  <a:lnTo>
                    <a:pt x="1090" y="499"/>
                  </a:lnTo>
                  <a:lnTo>
                    <a:pt x="1299" y="480"/>
                  </a:lnTo>
                  <a:lnTo>
                    <a:pt x="1548" y="437"/>
                  </a:lnTo>
                  <a:lnTo>
                    <a:pt x="1642" y="428"/>
                  </a:lnTo>
                  <a:lnTo>
                    <a:pt x="1683" y="428"/>
                  </a:lnTo>
                  <a:lnTo>
                    <a:pt x="1683" y="418"/>
                  </a:lnTo>
                  <a:lnTo>
                    <a:pt x="1673" y="374"/>
                  </a:lnTo>
                  <a:lnTo>
                    <a:pt x="1651" y="271"/>
                  </a:lnTo>
                  <a:lnTo>
                    <a:pt x="1621" y="157"/>
                  </a:lnTo>
                  <a:lnTo>
                    <a:pt x="1599" y="116"/>
                  </a:lnTo>
                  <a:lnTo>
                    <a:pt x="1580" y="84"/>
                  </a:lnTo>
                  <a:lnTo>
                    <a:pt x="1518" y="138"/>
                  </a:lnTo>
                  <a:lnTo>
                    <a:pt x="1412" y="178"/>
                  </a:lnTo>
                  <a:lnTo>
                    <a:pt x="1256" y="209"/>
                  </a:lnTo>
                  <a:lnTo>
                    <a:pt x="1163" y="209"/>
                  </a:lnTo>
                  <a:lnTo>
                    <a:pt x="1050" y="219"/>
                  </a:lnTo>
                  <a:lnTo>
                    <a:pt x="1019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5519880" y="5945040"/>
              <a:ext cx="554040" cy="65160"/>
            </a:xfrm>
            <a:custGeom>
              <a:avLst/>
              <a:gdLst/>
              <a:ahLst/>
              <a:rect l="l" t="t" r="r" b="b"/>
              <a:pathLst>
                <a:path w="1743" h="206">
                  <a:moveTo>
                    <a:pt x="1743" y="0"/>
                  </a:moveTo>
                  <a:lnTo>
                    <a:pt x="1743" y="156"/>
                  </a:lnTo>
                  <a:lnTo>
                    <a:pt x="1662" y="156"/>
                  </a:lnTo>
                  <a:lnTo>
                    <a:pt x="1569" y="166"/>
                  </a:lnTo>
                  <a:lnTo>
                    <a:pt x="1463" y="166"/>
                  </a:lnTo>
                  <a:lnTo>
                    <a:pt x="1225" y="188"/>
                  </a:lnTo>
                  <a:lnTo>
                    <a:pt x="1119" y="188"/>
                  </a:lnTo>
                  <a:lnTo>
                    <a:pt x="1026" y="196"/>
                  </a:lnTo>
                  <a:lnTo>
                    <a:pt x="924" y="206"/>
                  </a:lnTo>
                  <a:lnTo>
                    <a:pt x="309" y="206"/>
                  </a:lnTo>
                  <a:lnTo>
                    <a:pt x="175" y="196"/>
                  </a:lnTo>
                  <a:lnTo>
                    <a:pt x="73" y="196"/>
                  </a:lnTo>
                  <a:lnTo>
                    <a:pt x="19" y="188"/>
                  </a:lnTo>
                  <a:lnTo>
                    <a:pt x="10" y="166"/>
                  </a:lnTo>
                  <a:lnTo>
                    <a:pt x="0" y="125"/>
                  </a:lnTo>
                  <a:lnTo>
                    <a:pt x="10" y="19"/>
                  </a:lnTo>
                  <a:lnTo>
                    <a:pt x="41" y="31"/>
                  </a:lnTo>
                  <a:lnTo>
                    <a:pt x="81" y="50"/>
                  </a:lnTo>
                  <a:lnTo>
                    <a:pt x="144" y="72"/>
                  </a:lnTo>
                  <a:lnTo>
                    <a:pt x="228" y="82"/>
                  </a:lnTo>
                  <a:lnTo>
                    <a:pt x="341" y="103"/>
                  </a:lnTo>
                  <a:lnTo>
                    <a:pt x="465" y="103"/>
                  </a:lnTo>
                  <a:lnTo>
                    <a:pt x="621" y="112"/>
                  </a:lnTo>
                  <a:lnTo>
                    <a:pt x="808" y="103"/>
                  </a:lnTo>
                  <a:lnTo>
                    <a:pt x="1008" y="94"/>
                  </a:lnTo>
                  <a:lnTo>
                    <a:pt x="1182" y="72"/>
                  </a:lnTo>
                  <a:lnTo>
                    <a:pt x="1338" y="63"/>
                  </a:lnTo>
                  <a:lnTo>
                    <a:pt x="1475" y="41"/>
                  </a:lnTo>
                  <a:lnTo>
                    <a:pt x="1578" y="19"/>
                  </a:lnTo>
                  <a:lnTo>
                    <a:pt x="1662" y="9"/>
                  </a:lnTo>
                  <a:lnTo>
                    <a:pt x="1702" y="0"/>
                  </a:lnTo>
                  <a:lnTo>
                    <a:pt x="1724" y="0"/>
                  </a:lnTo>
                  <a:lnTo>
                    <a:pt x="17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4995720" y="2287440"/>
              <a:ext cx="138240" cy="119160"/>
            </a:xfrm>
            <a:custGeom>
              <a:avLst/>
              <a:gdLst/>
              <a:ahLst/>
              <a:rect l="l" t="t" r="r" b="b"/>
              <a:pathLst>
                <a:path w="436" h="374">
                  <a:moveTo>
                    <a:pt x="8" y="178"/>
                  </a:moveTo>
                  <a:lnTo>
                    <a:pt x="62" y="259"/>
                  </a:lnTo>
                  <a:lnTo>
                    <a:pt x="133" y="322"/>
                  </a:lnTo>
                  <a:lnTo>
                    <a:pt x="217" y="365"/>
                  </a:lnTo>
                  <a:lnTo>
                    <a:pt x="311" y="374"/>
                  </a:lnTo>
                  <a:lnTo>
                    <a:pt x="361" y="365"/>
                  </a:lnTo>
                  <a:lnTo>
                    <a:pt x="391" y="352"/>
                  </a:lnTo>
                  <a:lnTo>
                    <a:pt x="423" y="290"/>
                  </a:lnTo>
                  <a:lnTo>
                    <a:pt x="436" y="157"/>
                  </a:lnTo>
                  <a:lnTo>
                    <a:pt x="404" y="116"/>
                  </a:lnTo>
                  <a:lnTo>
                    <a:pt x="342" y="72"/>
                  </a:lnTo>
                  <a:lnTo>
                    <a:pt x="155" y="10"/>
                  </a:lnTo>
                  <a:lnTo>
                    <a:pt x="103" y="0"/>
                  </a:lnTo>
                  <a:lnTo>
                    <a:pt x="71" y="0"/>
                  </a:lnTo>
                  <a:lnTo>
                    <a:pt x="17" y="41"/>
                  </a:lnTo>
                  <a:lnTo>
                    <a:pt x="0" y="103"/>
                  </a:lnTo>
                  <a:lnTo>
                    <a:pt x="8" y="178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4809960" y="2238480"/>
              <a:ext cx="136800" cy="115920"/>
            </a:xfrm>
            <a:custGeom>
              <a:avLst/>
              <a:gdLst/>
              <a:ahLst/>
              <a:rect l="l" t="t" r="r" b="b"/>
              <a:pathLst>
                <a:path w="427" h="364">
                  <a:moveTo>
                    <a:pt x="10" y="165"/>
                  </a:moveTo>
                  <a:lnTo>
                    <a:pt x="53" y="249"/>
                  </a:lnTo>
                  <a:lnTo>
                    <a:pt x="124" y="312"/>
                  </a:lnTo>
                  <a:lnTo>
                    <a:pt x="210" y="352"/>
                  </a:lnTo>
                  <a:lnTo>
                    <a:pt x="303" y="364"/>
                  </a:lnTo>
                  <a:lnTo>
                    <a:pt x="352" y="352"/>
                  </a:lnTo>
                  <a:lnTo>
                    <a:pt x="384" y="342"/>
                  </a:lnTo>
                  <a:lnTo>
                    <a:pt x="414" y="280"/>
                  </a:lnTo>
                  <a:lnTo>
                    <a:pt x="427" y="155"/>
                  </a:lnTo>
                  <a:lnTo>
                    <a:pt x="397" y="115"/>
                  </a:lnTo>
                  <a:lnTo>
                    <a:pt x="334" y="71"/>
                  </a:lnTo>
                  <a:lnTo>
                    <a:pt x="147" y="13"/>
                  </a:lnTo>
                  <a:lnTo>
                    <a:pt x="103" y="0"/>
                  </a:lnTo>
                  <a:lnTo>
                    <a:pt x="62" y="0"/>
                  </a:lnTo>
                  <a:lnTo>
                    <a:pt x="23" y="40"/>
                  </a:lnTo>
                  <a:lnTo>
                    <a:pt x="0" y="93"/>
                  </a:lnTo>
                  <a:lnTo>
                    <a:pt x="10" y="165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4851360" y="2732040"/>
              <a:ext cx="65160" cy="66600"/>
            </a:xfrm>
            <a:custGeom>
              <a:avLst/>
              <a:gdLst/>
              <a:ahLst/>
              <a:rect l="l" t="t" r="r" b="b"/>
              <a:pathLst>
                <a:path w="204" h="210">
                  <a:moveTo>
                    <a:pt x="125" y="0"/>
                  </a:moveTo>
                  <a:lnTo>
                    <a:pt x="126" y="0"/>
                  </a:lnTo>
                  <a:lnTo>
                    <a:pt x="109" y="9"/>
                  </a:lnTo>
                  <a:lnTo>
                    <a:pt x="92" y="19"/>
                  </a:lnTo>
                  <a:lnTo>
                    <a:pt x="76" y="30"/>
                  </a:lnTo>
                  <a:lnTo>
                    <a:pt x="60" y="41"/>
                  </a:lnTo>
                  <a:lnTo>
                    <a:pt x="45" y="52"/>
                  </a:lnTo>
                  <a:lnTo>
                    <a:pt x="29" y="65"/>
                  </a:lnTo>
                  <a:lnTo>
                    <a:pt x="14" y="78"/>
                  </a:lnTo>
                  <a:lnTo>
                    <a:pt x="0" y="90"/>
                  </a:lnTo>
                  <a:lnTo>
                    <a:pt x="109" y="210"/>
                  </a:lnTo>
                  <a:lnTo>
                    <a:pt x="121" y="199"/>
                  </a:lnTo>
                  <a:lnTo>
                    <a:pt x="131" y="190"/>
                  </a:lnTo>
                  <a:lnTo>
                    <a:pt x="143" y="182"/>
                  </a:lnTo>
                  <a:lnTo>
                    <a:pt x="155" y="173"/>
                  </a:lnTo>
                  <a:lnTo>
                    <a:pt x="167" y="165"/>
                  </a:lnTo>
                  <a:lnTo>
                    <a:pt x="179" y="156"/>
                  </a:lnTo>
                  <a:lnTo>
                    <a:pt x="191" y="149"/>
                  </a:lnTo>
                  <a:lnTo>
                    <a:pt x="204" y="142"/>
                  </a:lnTo>
                  <a:lnTo>
                    <a:pt x="204" y="142"/>
                  </a:lnTo>
                  <a:lnTo>
                    <a:pt x="204" y="142"/>
                  </a:lnTo>
                  <a:lnTo>
                    <a:pt x="204" y="142"/>
                  </a:lnTo>
                  <a:lnTo>
                    <a:pt x="204" y="142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4890960" y="2730600"/>
              <a:ext cx="52560" cy="46080"/>
            </a:xfrm>
            <a:custGeom>
              <a:avLst/>
              <a:gdLst/>
              <a:ahLst/>
              <a:rect l="l" t="t" r="r" b="b"/>
              <a:pathLst>
                <a:path w="164" h="148">
                  <a:moveTo>
                    <a:pt x="122" y="29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79" y="148"/>
                  </a:lnTo>
                  <a:lnTo>
                    <a:pt x="91" y="140"/>
                  </a:lnTo>
                  <a:lnTo>
                    <a:pt x="122" y="29"/>
                  </a:lnTo>
                  <a:lnTo>
                    <a:pt x="91" y="140"/>
                  </a:lnTo>
                  <a:lnTo>
                    <a:pt x="164" y="100"/>
                  </a:lnTo>
                  <a:lnTo>
                    <a:pt x="122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4876920" y="2725560"/>
              <a:ext cx="54000" cy="39960"/>
            </a:xfrm>
            <a:custGeom>
              <a:avLst/>
              <a:gdLst/>
              <a:ahLst/>
              <a:rect l="l" t="t" r="r" b="b"/>
              <a:pathLst>
                <a:path w="167" h="123">
                  <a:moveTo>
                    <a:pt x="0" y="60"/>
                  </a:moveTo>
                  <a:lnTo>
                    <a:pt x="2" y="64"/>
                  </a:lnTo>
                  <a:lnTo>
                    <a:pt x="4" y="68"/>
                  </a:lnTo>
                  <a:lnTo>
                    <a:pt x="5" y="74"/>
                  </a:lnTo>
                  <a:lnTo>
                    <a:pt x="7" y="79"/>
                  </a:lnTo>
                  <a:lnTo>
                    <a:pt x="9" y="85"/>
                  </a:lnTo>
                  <a:lnTo>
                    <a:pt x="12" y="94"/>
                  </a:lnTo>
                  <a:lnTo>
                    <a:pt x="16" y="103"/>
                  </a:lnTo>
                  <a:lnTo>
                    <a:pt x="21" y="112"/>
                  </a:lnTo>
                  <a:lnTo>
                    <a:pt x="27" y="123"/>
                  </a:lnTo>
                  <a:lnTo>
                    <a:pt x="167" y="41"/>
                  </a:lnTo>
                  <a:lnTo>
                    <a:pt x="166" y="40"/>
                  </a:lnTo>
                  <a:lnTo>
                    <a:pt x="165" y="38"/>
                  </a:lnTo>
                  <a:lnTo>
                    <a:pt x="165" y="35"/>
                  </a:lnTo>
                  <a:lnTo>
                    <a:pt x="162" y="31"/>
                  </a:lnTo>
                  <a:lnTo>
                    <a:pt x="160" y="25"/>
                  </a:lnTo>
                  <a:lnTo>
                    <a:pt x="158" y="19"/>
                  </a:lnTo>
                  <a:lnTo>
                    <a:pt x="155" y="11"/>
                  </a:lnTo>
                  <a:lnTo>
                    <a:pt x="151" y="0"/>
                  </a:lnTo>
                  <a:lnTo>
                    <a:pt x="153" y="5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4873680" y="2695680"/>
              <a:ext cx="52200" cy="48960"/>
            </a:xfrm>
            <a:custGeom>
              <a:avLst/>
              <a:gdLst/>
              <a:ahLst/>
              <a:rect l="l" t="t" r="r" b="b"/>
              <a:pathLst>
                <a:path w="165" h="159">
                  <a:moveTo>
                    <a:pt x="58" y="0"/>
                  </a:moveTo>
                  <a:lnTo>
                    <a:pt x="56" y="1"/>
                  </a:lnTo>
                  <a:lnTo>
                    <a:pt x="37" y="13"/>
                  </a:lnTo>
                  <a:lnTo>
                    <a:pt x="22" y="28"/>
                  </a:lnTo>
                  <a:lnTo>
                    <a:pt x="12" y="43"/>
                  </a:lnTo>
                  <a:lnTo>
                    <a:pt x="3" y="64"/>
                  </a:lnTo>
                  <a:lnTo>
                    <a:pt x="0" y="84"/>
                  </a:lnTo>
                  <a:lnTo>
                    <a:pt x="0" y="103"/>
                  </a:lnTo>
                  <a:lnTo>
                    <a:pt x="2" y="119"/>
                  </a:lnTo>
                  <a:lnTo>
                    <a:pt x="4" y="134"/>
                  </a:lnTo>
                  <a:lnTo>
                    <a:pt x="8" y="147"/>
                  </a:lnTo>
                  <a:lnTo>
                    <a:pt x="12" y="159"/>
                  </a:lnTo>
                  <a:lnTo>
                    <a:pt x="165" y="104"/>
                  </a:lnTo>
                  <a:lnTo>
                    <a:pt x="164" y="101"/>
                  </a:lnTo>
                  <a:lnTo>
                    <a:pt x="163" y="97"/>
                  </a:lnTo>
                  <a:lnTo>
                    <a:pt x="162" y="95"/>
                  </a:lnTo>
                  <a:lnTo>
                    <a:pt x="162" y="94"/>
                  </a:lnTo>
                  <a:lnTo>
                    <a:pt x="162" y="98"/>
                  </a:lnTo>
                  <a:lnTo>
                    <a:pt x="161" y="104"/>
                  </a:lnTo>
                  <a:lnTo>
                    <a:pt x="156" y="119"/>
                  </a:lnTo>
                  <a:lnTo>
                    <a:pt x="148" y="131"/>
                  </a:lnTo>
                  <a:lnTo>
                    <a:pt x="138" y="140"/>
                  </a:lnTo>
                  <a:lnTo>
                    <a:pt x="123" y="148"/>
                  </a:lnTo>
                  <a:lnTo>
                    <a:pt x="122" y="14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4892760" y="2692440"/>
              <a:ext cx="55440" cy="85680"/>
            </a:xfrm>
            <a:custGeom>
              <a:avLst/>
              <a:gdLst/>
              <a:ahLst/>
              <a:rect l="l" t="t" r="r" b="b"/>
              <a:pathLst>
                <a:path w="177" h="272">
                  <a:moveTo>
                    <a:pt x="71" y="92"/>
                  </a:moveTo>
                  <a:lnTo>
                    <a:pt x="177" y="128"/>
                  </a:lnTo>
                  <a:lnTo>
                    <a:pt x="168" y="109"/>
                  </a:lnTo>
                  <a:lnTo>
                    <a:pt x="160" y="91"/>
                  </a:lnTo>
                  <a:lnTo>
                    <a:pt x="150" y="72"/>
                  </a:lnTo>
                  <a:lnTo>
                    <a:pt x="141" y="55"/>
                  </a:lnTo>
                  <a:lnTo>
                    <a:pt x="130" y="41"/>
                  </a:lnTo>
                  <a:lnTo>
                    <a:pt x="119" y="28"/>
                  </a:lnTo>
                  <a:lnTo>
                    <a:pt x="104" y="16"/>
                  </a:lnTo>
                  <a:lnTo>
                    <a:pt x="83" y="5"/>
                  </a:lnTo>
                  <a:lnTo>
                    <a:pt x="60" y="0"/>
                  </a:lnTo>
                  <a:lnTo>
                    <a:pt x="38" y="0"/>
                  </a:lnTo>
                  <a:lnTo>
                    <a:pt x="18" y="4"/>
                  </a:lnTo>
                  <a:lnTo>
                    <a:pt x="0" y="9"/>
                  </a:lnTo>
                  <a:lnTo>
                    <a:pt x="64" y="158"/>
                  </a:lnTo>
                  <a:lnTo>
                    <a:pt x="60" y="160"/>
                  </a:lnTo>
                  <a:lnTo>
                    <a:pt x="51" y="162"/>
                  </a:lnTo>
                  <a:lnTo>
                    <a:pt x="41" y="162"/>
                  </a:lnTo>
                  <a:lnTo>
                    <a:pt x="27" y="158"/>
                  </a:lnTo>
                  <a:lnTo>
                    <a:pt x="16" y="152"/>
                  </a:lnTo>
                  <a:lnTo>
                    <a:pt x="8" y="147"/>
                  </a:lnTo>
                  <a:lnTo>
                    <a:pt x="4" y="143"/>
                  </a:lnTo>
                  <a:lnTo>
                    <a:pt x="2" y="140"/>
                  </a:lnTo>
                  <a:lnTo>
                    <a:pt x="6" y="147"/>
                  </a:lnTo>
                  <a:lnTo>
                    <a:pt x="12" y="161"/>
                  </a:lnTo>
                  <a:lnTo>
                    <a:pt x="22" y="181"/>
                  </a:lnTo>
                  <a:lnTo>
                    <a:pt x="33" y="204"/>
                  </a:lnTo>
                  <a:lnTo>
                    <a:pt x="140" y="239"/>
                  </a:lnTo>
                  <a:lnTo>
                    <a:pt x="33" y="204"/>
                  </a:lnTo>
                  <a:lnTo>
                    <a:pt x="70" y="272"/>
                  </a:lnTo>
                  <a:lnTo>
                    <a:pt x="140" y="239"/>
                  </a:lnTo>
                  <a:lnTo>
                    <a:pt x="71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4915080" y="2717640"/>
              <a:ext cx="26640" cy="51120"/>
            </a:xfrm>
            <a:custGeom>
              <a:avLst/>
              <a:gdLst/>
              <a:ahLst/>
              <a:rect l="l" t="t" r="r" b="b"/>
              <a:pathLst>
                <a:path w="86" h="157">
                  <a:moveTo>
                    <a:pt x="24" y="0"/>
                  </a:moveTo>
                  <a:lnTo>
                    <a:pt x="18" y="2"/>
                  </a:lnTo>
                  <a:lnTo>
                    <a:pt x="0" y="10"/>
                  </a:lnTo>
                  <a:lnTo>
                    <a:pt x="69" y="157"/>
                  </a:lnTo>
                  <a:lnTo>
                    <a:pt x="86" y="15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4923000" y="2705040"/>
              <a:ext cx="74520" cy="61920"/>
            </a:xfrm>
            <a:custGeom>
              <a:avLst/>
              <a:gdLst/>
              <a:ahLst/>
              <a:rect l="l" t="t" r="r" b="b"/>
              <a:pathLst>
                <a:path w="239" h="195">
                  <a:moveTo>
                    <a:pt x="239" y="0"/>
                  </a:moveTo>
                  <a:lnTo>
                    <a:pt x="239" y="0"/>
                  </a:lnTo>
                  <a:lnTo>
                    <a:pt x="207" y="1"/>
                  </a:lnTo>
                  <a:lnTo>
                    <a:pt x="177" y="3"/>
                  </a:lnTo>
                  <a:lnTo>
                    <a:pt x="146" y="7"/>
                  </a:lnTo>
                  <a:lnTo>
                    <a:pt x="116" y="11"/>
                  </a:lnTo>
                  <a:lnTo>
                    <a:pt x="87" y="18"/>
                  </a:lnTo>
                  <a:lnTo>
                    <a:pt x="57" y="25"/>
                  </a:lnTo>
                  <a:lnTo>
                    <a:pt x="29" y="33"/>
                  </a:lnTo>
                  <a:lnTo>
                    <a:pt x="0" y="43"/>
                  </a:lnTo>
                  <a:lnTo>
                    <a:pt x="56" y="195"/>
                  </a:lnTo>
                  <a:lnTo>
                    <a:pt x="77" y="188"/>
                  </a:lnTo>
                  <a:lnTo>
                    <a:pt x="99" y="181"/>
                  </a:lnTo>
                  <a:lnTo>
                    <a:pt x="122" y="175"/>
                  </a:lnTo>
                  <a:lnTo>
                    <a:pt x="144" y="171"/>
                  </a:lnTo>
                  <a:lnTo>
                    <a:pt x="168" y="167"/>
                  </a:lnTo>
                  <a:lnTo>
                    <a:pt x="192" y="165"/>
                  </a:lnTo>
                  <a:lnTo>
                    <a:pt x="215" y="163"/>
                  </a:lnTo>
                  <a:lnTo>
                    <a:pt x="239" y="163"/>
                  </a:lnTo>
                  <a:lnTo>
                    <a:pt x="239" y="163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4997520" y="2705040"/>
              <a:ext cx="65160" cy="55800"/>
            </a:xfrm>
            <a:custGeom>
              <a:avLst/>
              <a:gdLst/>
              <a:ahLst/>
              <a:rect l="l" t="t" r="r" b="b"/>
              <a:pathLst>
                <a:path w="202" h="179">
                  <a:moveTo>
                    <a:pt x="202" y="35"/>
                  </a:moveTo>
                  <a:lnTo>
                    <a:pt x="171" y="22"/>
                  </a:lnTo>
                  <a:lnTo>
                    <a:pt x="151" y="17"/>
                  </a:lnTo>
                  <a:lnTo>
                    <a:pt x="129" y="12"/>
                  </a:lnTo>
                  <a:lnTo>
                    <a:pt x="108" y="8"/>
                  </a:lnTo>
                  <a:lnTo>
                    <a:pt x="87" y="6"/>
                  </a:lnTo>
                  <a:lnTo>
                    <a:pt x="65" y="3"/>
                  </a:lnTo>
                  <a:lnTo>
                    <a:pt x="44" y="2"/>
                  </a:lnTo>
                  <a:lnTo>
                    <a:pt x="22" y="1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17" y="163"/>
                  </a:lnTo>
                  <a:lnTo>
                    <a:pt x="34" y="164"/>
                  </a:lnTo>
                  <a:lnTo>
                    <a:pt x="50" y="165"/>
                  </a:lnTo>
                  <a:lnTo>
                    <a:pt x="67" y="167"/>
                  </a:lnTo>
                  <a:lnTo>
                    <a:pt x="84" y="169"/>
                  </a:lnTo>
                  <a:lnTo>
                    <a:pt x="101" y="172"/>
                  </a:lnTo>
                  <a:lnTo>
                    <a:pt x="117" y="175"/>
                  </a:lnTo>
                  <a:lnTo>
                    <a:pt x="133" y="179"/>
                  </a:lnTo>
                  <a:lnTo>
                    <a:pt x="104" y="166"/>
                  </a:lnTo>
                  <a:lnTo>
                    <a:pt x="202" y="35"/>
                  </a:lnTo>
                  <a:lnTo>
                    <a:pt x="188" y="25"/>
                  </a:lnTo>
                  <a:lnTo>
                    <a:pt x="171" y="22"/>
                  </a:lnTo>
                  <a:lnTo>
                    <a:pt x="202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5030640" y="2716200"/>
              <a:ext cx="42840" cy="65160"/>
            </a:xfrm>
            <a:custGeom>
              <a:avLst/>
              <a:gdLst/>
              <a:ahLst/>
              <a:rect l="l" t="t" r="r" b="b"/>
              <a:pathLst>
                <a:path w="133" h="209">
                  <a:moveTo>
                    <a:pt x="133" y="86"/>
                  </a:moveTo>
                  <a:lnTo>
                    <a:pt x="103" y="4"/>
                  </a:lnTo>
                  <a:lnTo>
                    <a:pt x="98" y="0"/>
                  </a:lnTo>
                  <a:lnTo>
                    <a:pt x="0" y="131"/>
                  </a:lnTo>
                  <a:lnTo>
                    <a:pt x="5" y="134"/>
                  </a:lnTo>
                  <a:lnTo>
                    <a:pt x="133" y="86"/>
                  </a:lnTo>
                  <a:lnTo>
                    <a:pt x="5" y="134"/>
                  </a:lnTo>
                  <a:lnTo>
                    <a:pt x="107" y="209"/>
                  </a:lnTo>
                  <a:lnTo>
                    <a:pt x="133" y="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5022720" y="2714760"/>
              <a:ext cx="55800" cy="28440"/>
            </a:xfrm>
            <a:custGeom>
              <a:avLst/>
              <a:gdLst/>
              <a:ahLst/>
              <a:rect l="l" t="t" r="r" b="b"/>
              <a:pathLst>
                <a:path w="173" h="88">
                  <a:moveTo>
                    <a:pt x="16" y="0"/>
                  </a:moveTo>
                  <a:lnTo>
                    <a:pt x="14" y="7"/>
                  </a:lnTo>
                  <a:lnTo>
                    <a:pt x="13" y="10"/>
                  </a:lnTo>
                  <a:lnTo>
                    <a:pt x="12" y="12"/>
                  </a:lnTo>
                  <a:lnTo>
                    <a:pt x="11" y="15"/>
                  </a:lnTo>
                  <a:lnTo>
                    <a:pt x="10" y="19"/>
                  </a:lnTo>
                  <a:lnTo>
                    <a:pt x="8" y="26"/>
                  </a:lnTo>
                  <a:lnTo>
                    <a:pt x="5" y="34"/>
                  </a:lnTo>
                  <a:lnTo>
                    <a:pt x="2" y="43"/>
                  </a:lnTo>
                  <a:lnTo>
                    <a:pt x="0" y="54"/>
                  </a:lnTo>
                  <a:lnTo>
                    <a:pt x="158" y="88"/>
                  </a:lnTo>
                  <a:lnTo>
                    <a:pt x="159" y="85"/>
                  </a:lnTo>
                  <a:lnTo>
                    <a:pt x="159" y="83"/>
                  </a:lnTo>
                  <a:lnTo>
                    <a:pt x="160" y="80"/>
                  </a:lnTo>
                  <a:lnTo>
                    <a:pt x="163" y="76"/>
                  </a:lnTo>
                  <a:lnTo>
                    <a:pt x="165" y="69"/>
                  </a:lnTo>
                  <a:lnTo>
                    <a:pt x="168" y="60"/>
                  </a:lnTo>
                  <a:lnTo>
                    <a:pt x="171" y="51"/>
                  </a:lnTo>
                  <a:lnTo>
                    <a:pt x="173" y="39"/>
                  </a:lnTo>
                  <a:lnTo>
                    <a:pt x="172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5027760" y="2681280"/>
              <a:ext cx="50760" cy="52560"/>
            </a:xfrm>
            <a:custGeom>
              <a:avLst/>
              <a:gdLst/>
              <a:ahLst/>
              <a:rect l="l" t="t" r="r" b="b"/>
              <a:pathLst>
                <a:path w="160" h="163">
                  <a:moveTo>
                    <a:pt x="120" y="1"/>
                  </a:moveTo>
                  <a:lnTo>
                    <a:pt x="126" y="2"/>
                  </a:lnTo>
                  <a:lnTo>
                    <a:pt x="101" y="0"/>
                  </a:lnTo>
                  <a:lnTo>
                    <a:pt x="79" y="6"/>
                  </a:lnTo>
                  <a:lnTo>
                    <a:pt x="63" y="14"/>
                  </a:lnTo>
                  <a:lnTo>
                    <a:pt x="46" y="26"/>
                  </a:lnTo>
                  <a:lnTo>
                    <a:pt x="32" y="40"/>
                  </a:lnTo>
                  <a:lnTo>
                    <a:pt x="22" y="55"/>
                  </a:lnTo>
                  <a:lnTo>
                    <a:pt x="14" y="70"/>
                  </a:lnTo>
                  <a:lnTo>
                    <a:pt x="8" y="82"/>
                  </a:lnTo>
                  <a:lnTo>
                    <a:pt x="4" y="95"/>
                  </a:lnTo>
                  <a:lnTo>
                    <a:pt x="0" y="106"/>
                  </a:lnTo>
                  <a:lnTo>
                    <a:pt x="156" y="152"/>
                  </a:lnTo>
                  <a:lnTo>
                    <a:pt x="157" y="147"/>
                  </a:lnTo>
                  <a:lnTo>
                    <a:pt x="158" y="144"/>
                  </a:lnTo>
                  <a:lnTo>
                    <a:pt x="159" y="141"/>
                  </a:lnTo>
                  <a:lnTo>
                    <a:pt x="160" y="140"/>
                  </a:lnTo>
                  <a:lnTo>
                    <a:pt x="159" y="141"/>
                  </a:lnTo>
                  <a:lnTo>
                    <a:pt x="156" y="145"/>
                  </a:lnTo>
                  <a:lnTo>
                    <a:pt x="144" y="154"/>
                  </a:lnTo>
                  <a:lnTo>
                    <a:pt x="132" y="160"/>
                  </a:lnTo>
                  <a:lnTo>
                    <a:pt x="116" y="163"/>
                  </a:lnTo>
                  <a:lnTo>
                    <a:pt x="96" y="162"/>
                  </a:lnTo>
                  <a:lnTo>
                    <a:pt x="102" y="162"/>
                  </a:lnTo>
                  <a:lnTo>
                    <a:pt x="12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5035680" y="2681280"/>
              <a:ext cx="63360" cy="85680"/>
            </a:xfrm>
            <a:custGeom>
              <a:avLst/>
              <a:gdLst/>
              <a:ahLst/>
              <a:rect l="l" t="t" r="r" b="b"/>
              <a:pathLst>
                <a:path w="199" h="267">
                  <a:moveTo>
                    <a:pt x="131" y="118"/>
                  </a:moveTo>
                  <a:lnTo>
                    <a:pt x="176" y="217"/>
                  </a:lnTo>
                  <a:lnTo>
                    <a:pt x="183" y="194"/>
                  </a:lnTo>
                  <a:lnTo>
                    <a:pt x="191" y="170"/>
                  </a:lnTo>
                  <a:lnTo>
                    <a:pt x="196" y="146"/>
                  </a:lnTo>
                  <a:lnTo>
                    <a:pt x="199" y="122"/>
                  </a:lnTo>
                  <a:lnTo>
                    <a:pt x="199" y="102"/>
                  </a:lnTo>
                  <a:lnTo>
                    <a:pt x="197" y="83"/>
                  </a:lnTo>
                  <a:lnTo>
                    <a:pt x="190" y="62"/>
                  </a:lnTo>
                  <a:lnTo>
                    <a:pt x="176" y="41"/>
                  </a:lnTo>
                  <a:lnTo>
                    <a:pt x="158" y="23"/>
                  </a:lnTo>
                  <a:lnTo>
                    <a:pt x="138" y="11"/>
                  </a:lnTo>
                  <a:lnTo>
                    <a:pt x="117" y="4"/>
                  </a:lnTo>
                  <a:lnTo>
                    <a:pt x="98" y="0"/>
                  </a:lnTo>
                  <a:lnTo>
                    <a:pt x="80" y="161"/>
                  </a:lnTo>
                  <a:lnTo>
                    <a:pt x="76" y="161"/>
                  </a:lnTo>
                  <a:lnTo>
                    <a:pt x="69" y="158"/>
                  </a:lnTo>
                  <a:lnTo>
                    <a:pt x="59" y="153"/>
                  </a:lnTo>
                  <a:lnTo>
                    <a:pt x="49" y="142"/>
                  </a:lnTo>
                  <a:lnTo>
                    <a:pt x="42" y="131"/>
                  </a:lnTo>
                  <a:lnTo>
                    <a:pt x="38" y="121"/>
                  </a:lnTo>
                  <a:lnTo>
                    <a:pt x="37" y="115"/>
                  </a:lnTo>
                  <a:lnTo>
                    <a:pt x="37" y="109"/>
                  </a:lnTo>
                  <a:lnTo>
                    <a:pt x="36" y="116"/>
                  </a:lnTo>
                  <a:lnTo>
                    <a:pt x="33" y="127"/>
                  </a:lnTo>
                  <a:lnTo>
                    <a:pt x="28" y="145"/>
                  </a:lnTo>
                  <a:lnTo>
                    <a:pt x="22" y="167"/>
                  </a:lnTo>
                  <a:lnTo>
                    <a:pt x="67" y="267"/>
                  </a:lnTo>
                  <a:lnTo>
                    <a:pt x="22" y="167"/>
                  </a:lnTo>
                  <a:lnTo>
                    <a:pt x="0" y="238"/>
                  </a:lnTo>
                  <a:lnTo>
                    <a:pt x="67" y="267"/>
                  </a:lnTo>
                  <a:lnTo>
                    <a:pt x="131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5056200" y="2719440"/>
              <a:ext cx="23760" cy="47520"/>
            </a:xfrm>
            <a:custGeom>
              <a:avLst/>
              <a:gdLst/>
              <a:ahLst/>
              <a:rect l="l" t="t" r="r" b="b"/>
              <a:pathLst>
                <a:path w="72" h="153">
                  <a:moveTo>
                    <a:pt x="11" y="153"/>
                  </a:moveTo>
                  <a:lnTo>
                    <a:pt x="72" y="4"/>
                  </a:lnTo>
                  <a:lnTo>
                    <a:pt x="64" y="0"/>
                  </a:lnTo>
                  <a:lnTo>
                    <a:pt x="0" y="149"/>
                  </a:lnTo>
                  <a:lnTo>
                    <a:pt x="9" y="153"/>
                  </a:lnTo>
                  <a:lnTo>
                    <a:pt x="11" y="153"/>
                  </a:lnTo>
                  <a:lnTo>
                    <a:pt x="9" y="153"/>
                  </a:lnTo>
                  <a:lnTo>
                    <a:pt x="10" y="153"/>
                  </a:lnTo>
                  <a:lnTo>
                    <a:pt x="11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5059440" y="2719440"/>
              <a:ext cx="145800" cy="152280"/>
            </a:xfrm>
            <a:custGeom>
              <a:avLst/>
              <a:gdLst/>
              <a:ahLst/>
              <a:rect l="l" t="t" r="r" b="b"/>
              <a:pathLst>
                <a:path w="460" h="478">
                  <a:moveTo>
                    <a:pt x="460" y="431"/>
                  </a:moveTo>
                  <a:lnTo>
                    <a:pt x="458" y="429"/>
                  </a:lnTo>
                  <a:lnTo>
                    <a:pt x="446" y="393"/>
                  </a:lnTo>
                  <a:lnTo>
                    <a:pt x="431" y="357"/>
                  </a:lnTo>
                  <a:lnTo>
                    <a:pt x="415" y="324"/>
                  </a:lnTo>
                  <a:lnTo>
                    <a:pt x="396" y="290"/>
                  </a:lnTo>
                  <a:lnTo>
                    <a:pt x="377" y="258"/>
                  </a:lnTo>
                  <a:lnTo>
                    <a:pt x="355" y="227"/>
                  </a:lnTo>
                  <a:lnTo>
                    <a:pt x="331" y="199"/>
                  </a:lnTo>
                  <a:lnTo>
                    <a:pt x="307" y="170"/>
                  </a:lnTo>
                  <a:lnTo>
                    <a:pt x="281" y="143"/>
                  </a:lnTo>
                  <a:lnTo>
                    <a:pt x="253" y="118"/>
                  </a:lnTo>
                  <a:lnTo>
                    <a:pt x="224" y="94"/>
                  </a:lnTo>
                  <a:lnTo>
                    <a:pt x="194" y="72"/>
                  </a:lnTo>
                  <a:lnTo>
                    <a:pt x="162" y="52"/>
                  </a:lnTo>
                  <a:lnTo>
                    <a:pt x="129" y="33"/>
                  </a:lnTo>
                  <a:lnTo>
                    <a:pt x="95" y="15"/>
                  </a:lnTo>
                  <a:lnTo>
                    <a:pt x="60" y="0"/>
                  </a:lnTo>
                  <a:lnTo>
                    <a:pt x="0" y="150"/>
                  </a:lnTo>
                  <a:lnTo>
                    <a:pt x="27" y="162"/>
                  </a:lnTo>
                  <a:lnTo>
                    <a:pt x="52" y="175"/>
                  </a:lnTo>
                  <a:lnTo>
                    <a:pt x="77" y="189"/>
                  </a:lnTo>
                  <a:lnTo>
                    <a:pt x="101" y="205"/>
                  </a:lnTo>
                  <a:lnTo>
                    <a:pt x="124" y="223"/>
                  </a:lnTo>
                  <a:lnTo>
                    <a:pt x="146" y="241"/>
                  </a:lnTo>
                  <a:lnTo>
                    <a:pt x="168" y="259"/>
                  </a:lnTo>
                  <a:lnTo>
                    <a:pt x="188" y="280"/>
                  </a:lnTo>
                  <a:lnTo>
                    <a:pt x="207" y="301"/>
                  </a:lnTo>
                  <a:lnTo>
                    <a:pt x="225" y="325"/>
                  </a:lnTo>
                  <a:lnTo>
                    <a:pt x="241" y="348"/>
                  </a:lnTo>
                  <a:lnTo>
                    <a:pt x="257" y="372"/>
                  </a:lnTo>
                  <a:lnTo>
                    <a:pt x="270" y="398"/>
                  </a:lnTo>
                  <a:lnTo>
                    <a:pt x="283" y="423"/>
                  </a:lnTo>
                  <a:lnTo>
                    <a:pt x="295" y="451"/>
                  </a:lnTo>
                  <a:lnTo>
                    <a:pt x="304" y="478"/>
                  </a:lnTo>
                  <a:lnTo>
                    <a:pt x="303" y="476"/>
                  </a:lnTo>
                  <a:lnTo>
                    <a:pt x="460" y="431"/>
                  </a:lnTo>
                  <a:lnTo>
                    <a:pt x="460" y="430"/>
                  </a:lnTo>
                  <a:lnTo>
                    <a:pt x="458" y="429"/>
                  </a:lnTo>
                  <a:lnTo>
                    <a:pt x="460" y="4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5156280" y="2857680"/>
              <a:ext cx="50760" cy="42840"/>
            </a:xfrm>
            <a:custGeom>
              <a:avLst/>
              <a:gdLst/>
              <a:ahLst/>
              <a:rect l="l" t="t" r="r" b="b"/>
              <a:pathLst>
                <a:path w="160" h="138">
                  <a:moveTo>
                    <a:pt x="110" y="108"/>
                  </a:moveTo>
                  <a:lnTo>
                    <a:pt x="160" y="9"/>
                  </a:lnTo>
                  <a:lnTo>
                    <a:pt x="157" y="0"/>
                  </a:lnTo>
                  <a:lnTo>
                    <a:pt x="0" y="45"/>
                  </a:lnTo>
                  <a:lnTo>
                    <a:pt x="3" y="54"/>
                  </a:lnTo>
                  <a:lnTo>
                    <a:pt x="110" y="108"/>
                  </a:lnTo>
                  <a:lnTo>
                    <a:pt x="3" y="54"/>
                  </a:lnTo>
                  <a:lnTo>
                    <a:pt x="27" y="138"/>
                  </a:lnTo>
                  <a:lnTo>
                    <a:pt x="110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5172120" y="2838600"/>
              <a:ext cx="28440" cy="52200"/>
            </a:xfrm>
            <a:custGeom>
              <a:avLst/>
              <a:gdLst/>
              <a:ahLst/>
              <a:rect l="l" t="t" r="r" b="b"/>
              <a:pathLst>
                <a:path w="87" h="165">
                  <a:moveTo>
                    <a:pt x="76" y="0"/>
                  </a:moveTo>
                  <a:lnTo>
                    <a:pt x="76" y="0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1"/>
                  </a:lnTo>
                  <a:lnTo>
                    <a:pt x="45" y="2"/>
                  </a:lnTo>
                  <a:lnTo>
                    <a:pt x="34" y="4"/>
                  </a:lnTo>
                  <a:lnTo>
                    <a:pt x="24" y="6"/>
                  </a:lnTo>
                  <a:lnTo>
                    <a:pt x="12" y="9"/>
                  </a:lnTo>
                  <a:lnTo>
                    <a:pt x="0" y="14"/>
                  </a:lnTo>
                  <a:lnTo>
                    <a:pt x="58" y="165"/>
                  </a:lnTo>
                  <a:lnTo>
                    <a:pt x="59" y="164"/>
                  </a:lnTo>
                  <a:lnTo>
                    <a:pt x="60" y="164"/>
                  </a:lnTo>
                  <a:lnTo>
                    <a:pt x="61" y="164"/>
                  </a:lnTo>
                  <a:lnTo>
                    <a:pt x="64" y="164"/>
                  </a:lnTo>
                  <a:lnTo>
                    <a:pt x="68" y="163"/>
                  </a:lnTo>
                  <a:lnTo>
                    <a:pt x="73" y="163"/>
                  </a:lnTo>
                  <a:lnTo>
                    <a:pt x="79" y="163"/>
                  </a:lnTo>
                  <a:lnTo>
                    <a:pt x="87" y="162"/>
                  </a:lnTo>
                  <a:lnTo>
                    <a:pt x="87" y="16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5187960" y="2838600"/>
              <a:ext cx="50760" cy="52200"/>
            </a:xfrm>
            <a:custGeom>
              <a:avLst/>
              <a:gdLst/>
              <a:ahLst/>
              <a:rect l="l" t="t" r="r" b="b"/>
              <a:pathLst>
                <a:path w="158" h="165">
                  <a:moveTo>
                    <a:pt x="158" y="72"/>
                  </a:moveTo>
                  <a:lnTo>
                    <a:pt x="157" y="69"/>
                  </a:lnTo>
                  <a:lnTo>
                    <a:pt x="140" y="34"/>
                  </a:lnTo>
                  <a:lnTo>
                    <a:pt x="110" y="10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9" y="1"/>
                  </a:lnTo>
                  <a:lnTo>
                    <a:pt x="40" y="2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39" y="165"/>
                  </a:lnTo>
                  <a:lnTo>
                    <a:pt x="49" y="164"/>
                  </a:lnTo>
                  <a:lnTo>
                    <a:pt x="58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54" y="161"/>
                  </a:lnTo>
                  <a:lnTo>
                    <a:pt x="37" y="155"/>
                  </a:lnTo>
                  <a:lnTo>
                    <a:pt x="13" y="137"/>
                  </a:lnTo>
                  <a:lnTo>
                    <a:pt x="1" y="112"/>
                  </a:lnTo>
                  <a:lnTo>
                    <a:pt x="0" y="109"/>
                  </a:lnTo>
                  <a:lnTo>
                    <a:pt x="158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5162400" y="2855880"/>
              <a:ext cx="77760" cy="54000"/>
            </a:xfrm>
            <a:custGeom>
              <a:avLst/>
              <a:gdLst/>
              <a:ahLst/>
              <a:rect l="l" t="t" r="r" b="b"/>
              <a:pathLst>
                <a:path w="245" h="172">
                  <a:moveTo>
                    <a:pt x="162" y="103"/>
                  </a:moveTo>
                  <a:lnTo>
                    <a:pt x="102" y="172"/>
                  </a:lnTo>
                  <a:lnTo>
                    <a:pt x="124" y="166"/>
                  </a:lnTo>
                  <a:lnTo>
                    <a:pt x="144" y="160"/>
                  </a:lnTo>
                  <a:lnTo>
                    <a:pt x="165" y="154"/>
                  </a:lnTo>
                  <a:lnTo>
                    <a:pt x="185" y="144"/>
                  </a:lnTo>
                  <a:lnTo>
                    <a:pt x="203" y="134"/>
                  </a:lnTo>
                  <a:lnTo>
                    <a:pt x="216" y="121"/>
                  </a:lnTo>
                  <a:lnTo>
                    <a:pt x="229" y="104"/>
                  </a:lnTo>
                  <a:lnTo>
                    <a:pt x="238" y="84"/>
                  </a:lnTo>
                  <a:lnTo>
                    <a:pt x="244" y="65"/>
                  </a:lnTo>
                  <a:lnTo>
                    <a:pt x="245" y="47"/>
                  </a:lnTo>
                  <a:lnTo>
                    <a:pt x="243" y="31"/>
                  </a:lnTo>
                  <a:lnTo>
                    <a:pt x="240" y="16"/>
                  </a:lnTo>
                  <a:lnTo>
                    <a:pt x="82" y="53"/>
                  </a:lnTo>
                  <a:lnTo>
                    <a:pt x="82" y="52"/>
                  </a:lnTo>
                  <a:lnTo>
                    <a:pt x="82" y="49"/>
                  </a:lnTo>
                  <a:lnTo>
                    <a:pt x="82" y="42"/>
                  </a:lnTo>
                  <a:lnTo>
                    <a:pt x="85" y="32"/>
                  </a:lnTo>
                  <a:lnTo>
                    <a:pt x="90" y="20"/>
                  </a:lnTo>
                  <a:lnTo>
                    <a:pt x="98" y="11"/>
                  </a:lnTo>
                  <a:lnTo>
                    <a:pt x="104" y="5"/>
                  </a:lnTo>
                  <a:lnTo>
                    <a:pt x="112" y="0"/>
                  </a:lnTo>
                  <a:lnTo>
                    <a:pt x="109" y="2"/>
                  </a:lnTo>
                  <a:lnTo>
                    <a:pt x="100" y="5"/>
                  </a:lnTo>
                  <a:lnTo>
                    <a:pt x="83" y="9"/>
                  </a:lnTo>
                  <a:lnTo>
                    <a:pt x="60" y="15"/>
                  </a:lnTo>
                  <a:lnTo>
                    <a:pt x="0" y="83"/>
                  </a:lnTo>
                  <a:lnTo>
                    <a:pt x="60" y="15"/>
                  </a:lnTo>
                  <a:lnTo>
                    <a:pt x="7" y="29"/>
                  </a:lnTo>
                  <a:lnTo>
                    <a:pt x="0" y="83"/>
                  </a:lnTo>
                  <a:lnTo>
                    <a:pt x="162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5160960" y="2881440"/>
              <a:ext cx="52560" cy="12600"/>
            </a:xfrm>
            <a:custGeom>
              <a:avLst/>
              <a:gdLst/>
              <a:ahLst/>
              <a:rect l="l" t="t" r="r" b="b"/>
              <a:pathLst>
                <a:path w="165" h="37">
                  <a:moveTo>
                    <a:pt x="3" y="37"/>
                  </a:moveTo>
                  <a:lnTo>
                    <a:pt x="163" y="31"/>
                  </a:lnTo>
                  <a:lnTo>
                    <a:pt x="165" y="20"/>
                  </a:lnTo>
                  <a:lnTo>
                    <a:pt x="3" y="0"/>
                  </a:lnTo>
                  <a:lnTo>
                    <a:pt x="2" y="11"/>
                  </a:lnTo>
                  <a:lnTo>
                    <a:pt x="3" y="37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5162400" y="2884320"/>
              <a:ext cx="54000" cy="36720"/>
            </a:xfrm>
            <a:custGeom>
              <a:avLst/>
              <a:gdLst/>
              <a:ahLst/>
              <a:rect l="l" t="t" r="r" b="b"/>
              <a:pathLst>
                <a:path w="170" h="119">
                  <a:moveTo>
                    <a:pt x="170" y="119"/>
                  </a:moveTo>
                  <a:lnTo>
                    <a:pt x="170" y="119"/>
                  </a:lnTo>
                  <a:lnTo>
                    <a:pt x="170" y="105"/>
                  </a:lnTo>
                  <a:lnTo>
                    <a:pt x="169" y="90"/>
                  </a:lnTo>
                  <a:lnTo>
                    <a:pt x="168" y="75"/>
                  </a:lnTo>
                  <a:lnTo>
                    <a:pt x="168" y="61"/>
                  </a:lnTo>
                  <a:lnTo>
                    <a:pt x="166" y="45"/>
                  </a:lnTo>
                  <a:lnTo>
                    <a:pt x="164" y="30"/>
                  </a:lnTo>
                  <a:lnTo>
                    <a:pt x="162" y="14"/>
                  </a:lnTo>
                  <a:lnTo>
                    <a:pt x="160" y="0"/>
                  </a:lnTo>
                  <a:lnTo>
                    <a:pt x="0" y="31"/>
                  </a:lnTo>
                  <a:lnTo>
                    <a:pt x="2" y="42"/>
                  </a:lnTo>
                  <a:lnTo>
                    <a:pt x="3" y="51"/>
                  </a:lnTo>
                  <a:lnTo>
                    <a:pt x="4" y="63"/>
                  </a:lnTo>
                  <a:lnTo>
                    <a:pt x="5" y="73"/>
                  </a:lnTo>
                  <a:lnTo>
                    <a:pt x="6" y="85"/>
                  </a:lnTo>
                  <a:lnTo>
                    <a:pt x="7" y="96"/>
                  </a:lnTo>
                  <a:lnTo>
                    <a:pt x="7" y="108"/>
                  </a:lnTo>
                  <a:lnTo>
                    <a:pt x="7" y="119"/>
                  </a:lnTo>
                  <a:lnTo>
                    <a:pt x="7" y="119"/>
                  </a:lnTo>
                  <a:lnTo>
                    <a:pt x="170" y="1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5143680" y="2921040"/>
              <a:ext cx="72720" cy="108000"/>
            </a:xfrm>
            <a:custGeom>
              <a:avLst/>
              <a:gdLst/>
              <a:ahLst/>
              <a:rect l="l" t="t" r="r" b="b"/>
              <a:pathLst>
                <a:path w="229" h="337">
                  <a:moveTo>
                    <a:pt x="140" y="337"/>
                  </a:moveTo>
                  <a:lnTo>
                    <a:pt x="143" y="333"/>
                  </a:lnTo>
                  <a:lnTo>
                    <a:pt x="152" y="315"/>
                  </a:lnTo>
                  <a:lnTo>
                    <a:pt x="162" y="296"/>
                  </a:lnTo>
                  <a:lnTo>
                    <a:pt x="170" y="277"/>
                  </a:lnTo>
                  <a:lnTo>
                    <a:pt x="179" y="258"/>
                  </a:lnTo>
                  <a:lnTo>
                    <a:pt x="187" y="238"/>
                  </a:lnTo>
                  <a:lnTo>
                    <a:pt x="193" y="217"/>
                  </a:lnTo>
                  <a:lnTo>
                    <a:pt x="201" y="197"/>
                  </a:lnTo>
                  <a:lnTo>
                    <a:pt x="206" y="176"/>
                  </a:lnTo>
                  <a:lnTo>
                    <a:pt x="211" y="155"/>
                  </a:lnTo>
                  <a:lnTo>
                    <a:pt x="216" y="134"/>
                  </a:lnTo>
                  <a:lnTo>
                    <a:pt x="220" y="112"/>
                  </a:lnTo>
                  <a:lnTo>
                    <a:pt x="223" y="90"/>
                  </a:lnTo>
                  <a:lnTo>
                    <a:pt x="226" y="69"/>
                  </a:lnTo>
                  <a:lnTo>
                    <a:pt x="227" y="46"/>
                  </a:lnTo>
                  <a:lnTo>
                    <a:pt x="229" y="23"/>
                  </a:lnTo>
                  <a:lnTo>
                    <a:pt x="229" y="0"/>
                  </a:lnTo>
                  <a:lnTo>
                    <a:pt x="66" y="0"/>
                  </a:lnTo>
                  <a:lnTo>
                    <a:pt x="66" y="18"/>
                  </a:lnTo>
                  <a:lnTo>
                    <a:pt x="65" y="35"/>
                  </a:lnTo>
                  <a:lnTo>
                    <a:pt x="64" y="52"/>
                  </a:lnTo>
                  <a:lnTo>
                    <a:pt x="62" y="69"/>
                  </a:lnTo>
                  <a:lnTo>
                    <a:pt x="60" y="85"/>
                  </a:lnTo>
                  <a:lnTo>
                    <a:pt x="57" y="102"/>
                  </a:lnTo>
                  <a:lnTo>
                    <a:pt x="54" y="118"/>
                  </a:lnTo>
                  <a:lnTo>
                    <a:pt x="49" y="135"/>
                  </a:lnTo>
                  <a:lnTo>
                    <a:pt x="44" y="151"/>
                  </a:lnTo>
                  <a:lnTo>
                    <a:pt x="40" y="166"/>
                  </a:lnTo>
                  <a:lnTo>
                    <a:pt x="34" y="181"/>
                  </a:lnTo>
                  <a:lnTo>
                    <a:pt x="28" y="197"/>
                  </a:lnTo>
                  <a:lnTo>
                    <a:pt x="22" y="211"/>
                  </a:lnTo>
                  <a:lnTo>
                    <a:pt x="16" y="226"/>
                  </a:lnTo>
                  <a:lnTo>
                    <a:pt x="8" y="241"/>
                  </a:lnTo>
                  <a:lnTo>
                    <a:pt x="0" y="254"/>
                  </a:lnTo>
                  <a:lnTo>
                    <a:pt x="3" y="251"/>
                  </a:lnTo>
                  <a:lnTo>
                    <a:pt x="140" y="337"/>
                  </a:lnTo>
                  <a:lnTo>
                    <a:pt x="141" y="335"/>
                  </a:lnTo>
                  <a:lnTo>
                    <a:pt x="143" y="333"/>
                  </a:lnTo>
                  <a:lnTo>
                    <a:pt x="140" y="3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5122800" y="3002040"/>
              <a:ext cx="65160" cy="42840"/>
            </a:xfrm>
            <a:custGeom>
              <a:avLst/>
              <a:gdLst/>
              <a:ahLst/>
              <a:rect l="l" t="t" r="r" b="b"/>
              <a:pathLst>
                <a:path w="203" h="136">
                  <a:moveTo>
                    <a:pt x="101" y="136"/>
                  </a:moveTo>
                  <a:lnTo>
                    <a:pt x="193" y="101"/>
                  </a:lnTo>
                  <a:lnTo>
                    <a:pt x="203" y="86"/>
                  </a:lnTo>
                  <a:lnTo>
                    <a:pt x="66" y="0"/>
                  </a:lnTo>
                  <a:lnTo>
                    <a:pt x="57" y="15"/>
                  </a:lnTo>
                  <a:lnTo>
                    <a:pt x="101" y="136"/>
                  </a:lnTo>
                  <a:lnTo>
                    <a:pt x="57" y="15"/>
                  </a:lnTo>
                  <a:lnTo>
                    <a:pt x="0" y="104"/>
                  </a:lnTo>
                  <a:lnTo>
                    <a:pt x="101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5154480" y="2995560"/>
              <a:ext cx="36720" cy="55440"/>
            </a:xfrm>
            <a:custGeom>
              <a:avLst/>
              <a:gdLst/>
              <a:ahLst/>
              <a:rect l="l" t="t" r="r" b="b"/>
              <a:pathLst>
                <a:path w="112" h="176">
                  <a:moveTo>
                    <a:pt x="112" y="34"/>
                  </a:moveTo>
                  <a:lnTo>
                    <a:pt x="112" y="34"/>
                  </a:lnTo>
                  <a:lnTo>
                    <a:pt x="108" y="32"/>
                  </a:lnTo>
                  <a:lnTo>
                    <a:pt x="104" y="30"/>
                  </a:lnTo>
                  <a:lnTo>
                    <a:pt x="99" y="26"/>
                  </a:lnTo>
                  <a:lnTo>
                    <a:pt x="91" y="21"/>
                  </a:lnTo>
                  <a:lnTo>
                    <a:pt x="84" y="16"/>
                  </a:lnTo>
                  <a:lnTo>
                    <a:pt x="73" y="11"/>
                  </a:lnTo>
                  <a:lnTo>
                    <a:pt x="62" y="6"/>
                  </a:lnTo>
                  <a:lnTo>
                    <a:pt x="49" y="0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0" y="156"/>
                  </a:lnTo>
                  <a:lnTo>
                    <a:pt x="1" y="156"/>
                  </a:lnTo>
                  <a:lnTo>
                    <a:pt x="4" y="158"/>
                  </a:lnTo>
                  <a:lnTo>
                    <a:pt x="8" y="160"/>
                  </a:lnTo>
                  <a:lnTo>
                    <a:pt x="14" y="164"/>
                  </a:lnTo>
                  <a:lnTo>
                    <a:pt x="23" y="169"/>
                  </a:lnTo>
                  <a:lnTo>
                    <a:pt x="31" y="176"/>
                  </a:lnTo>
                  <a:lnTo>
                    <a:pt x="31" y="176"/>
                  </a:lnTo>
                  <a:lnTo>
                    <a:pt x="112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5160960" y="3005280"/>
              <a:ext cx="52560" cy="475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54" y="142"/>
                  </a:moveTo>
                  <a:lnTo>
                    <a:pt x="155" y="138"/>
                  </a:lnTo>
                  <a:lnTo>
                    <a:pt x="163" y="104"/>
                  </a:lnTo>
                  <a:lnTo>
                    <a:pt x="158" y="72"/>
                  </a:lnTo>
                  <a:lnTo>
                    <a:pt x="147" y="49"/>
                  </a:lnTo>
                  <a:lnTo>
                    <a:pt x="134" y="33"/>
                  </a:lnTo>
                  <a:lnTo>
                    <a:pt x="122" y="21"/>
                  </a:lnTo>
                  <a:lnTo>
                    <a:pt x="111" y="13"/>
                  </a:lnTo>
                  <a:lnTo>
                    <a:pt x="101" y="6"/>
                  </a:lnTo>
                  <a:lnTo>
                    <a:pt x="91" y="0"/>
                  </a:lnTo>
                  <a:lnTo>
                    <a:pt x="10" y="142"/>
                  </a:lnTo>
                  <a:lnTo>
                    <a:pt x="14" y="144"/>
                  </a:lnTo>
                  <a:lnTo>
                    <a:pt x="18" y="146"/>
                  </a:lnTo>
                  <a:lnTo>
                    <a:pt x="18" y="146"/>
                  </a:lnTo>
                  <a:lnTo>
                    <a:pt x="16" y="144"/>
                  </a:lnTo>
                  <a:lnTo>
                    <a:pt x="10" y="136"/>
                  </a:lnTo>
                  <a:lnTo>
                    <a:pt x="3" y="123"/>
                  </a:lnTo>
                  <a:lnTo>
                    <a:pt x="0" y="100"/>
                  </a:lnTo>
                  <a:lnTo>
                    <a:pt x="5" y="77"/>
                  </a:lnTo>
                  <a:lnTo>
                    <a:pt x="7" y="72"/>
                  </a:lnTo>
                  <a:lnTo>
                    <a:pt x="154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5143680" y="3009960"/>
              <a:ext cx="66600" cy="61920"/>
            </a:xfrm>
            <a:custGeom>
              <a:avLst/>
              <a:gdLst/>
              <a:ahLst/>
              <a:rect l="l" t="t" r="r" b="b"/>
              <a:pathLst>
                <a:path w="211" h="195">
                  <a:moveTo>
                    <a:pt x="33" y="162"/>
                  </a:moveTo>
                  <a:lnTo>
                    <a:pt x="0" y="156"/>
                  </a:lnTo>
                  <a:lnTo>
                    <a:pt x="20" y="165"/>
                  </a:lnTo>
                  <a:lnTo>
                    <a:pt x="38" y="173"/>
                  </a:lnTo>
                  <a:lnTo>
                    <a:pt x="57" y="182"/>
                  </a:lnTo>
                  <a:lnTo>
                    <a:pt x="77" y="190"/>
                  </a:lnTo>
                  <a:lnTo>
                    <a:pt x="96" y="194"/>
                  </a:lnTo>
                  <a:lnTo>
                    <a:pt x="115" y="195"/>
                  </a:lnTo>
                  <a:lnTo>
                    <a:pt x="137" y="192"/>
                  </a:lnTo>
                  <a:lnTo>
                    <a:pt x="159" y="183"/>
                  </a:lnTo>
                  <a:lnTo>
                    <a:pt x="178" y="171"/>
                  </a:lnTo>
                  <a:lnTo>
                    <a:pt x="192" y="156"/>
                  </a:lnTo>
                  <a:lnTo>
                    <a:pt x="203" y="140"/>
                  </a:lnTo>
                  <a:lnTo>
                    <a:pt x="211" y="127"/>
                  </a:lnTo>
                  <a:lnTo>
                    <a:pt x="64" y="57"/>
                  </a:lnTo>
                  <a:lnTo>
                    <a:pt x="64" y="57"/>
                  </a:lnTo>
                  <a:lnTo>
                    <a:pt x="67" y="52"/>
                  </a:lnTo>
                  <a:lnTo>
                    <a:pt x="74" y="46"/>
                  </a:lnTo>
                  <a:lnTo>
                    <a:pt x="85" y="39"/>
                  </a:lnTo>
                  <a:lnTo>
                    <a:pt x="98" y="34"/>
                  </a:lnTo>
                  <a:lnTo>
                    <a:pt x="109" y="32"/>
                  </a:lnTo>
                  <a:lnTo>
                    <a:pt x="119" y="33"/>
                  </a:lnTo>
                  <a:lnTo>
                    <a:pt x="125" y="34"/>
                  </a:lnTo>
                  <a:lnTo>
                    <a:pt x="119" y="32"/>
                  </a:lnTo>
                  <a:lnTo>
                    <a:pt x="107" y="27"/>
                  </a:lnTo>
                  <a:lnTo>
                    <a:pt x="88" y="18"/>
                  </a:lnTo>
                  <a:lnTo>
                    <a:pt x="65" y="7"/>
                  </a:lnTo>
                  <a:lnTo>
                    <a:pt x="33" y="0"/>
                  </a:lnTo>
                  <a:lnTo>
                    <a:pt x="65" y="7"/>
                  </a:lnTo>
                  <a:lnTo>
                    <a:pt x="49" y="0"/>
                  </a:lnTo>
                  <a:lnTo>
                    <a:pt x="33" y="0"/>
                  </a:lnTo>
                  <a:lnTo>
                    <a:pt x="33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5130720" y="3009960"/>
              <a:ext cx="23760" cy="52200"/>
            </a:xfrm>
            <a:custGeom>
              <a:avLst/>
              <a:gdLst/>
              <a:ahLst/>
              <a:rect l="l" t="t" r="r" b="b"/>
              <a:pathLst>
                <a:path w="71" h="162">
                  <a:moveTo>
                    <a:pt x="0" y="33"/>
                  </a:moveTo>
                  <a:lnTo>
                    <a:pt x="65" y="162"/>
                  </a:lnTo>
                  <a:lnTo>
                    <a:pt x="71" y="162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0" y="33"/>
                  </a:lnTo>
                  <a:lnTo>
                    <a:pt x="65" y="0"/>
                  </a:lnTo>
                  <a:lnTo>
                    <a:pt x="2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5086440" y="3021120"/>
              <a:ext cx="85680" cy="85680"/>
            </a:xfrm>
            <a:custGeom>
              <a:avLst/>
              <a:gdLst/>
              <a:ahLst/>
              <a:rect l="l" t="t" r="r" b="b"/>
              <a:pathLst>
                <a:path w="272" h="271">
                  <a:moveTo>
                    <a:pt x="82" y="271"/>
                  </a:moveTo>
                  <a:lnTo>
                    <a:pt x="88" y="268"/>
                  </a:lnTo>
                  <a:lnTo>
                    <a:pt x="113" y="250"/>
                  </a:lnTo>
                  <a:lnTo>
                    <a:pt x="139" y="232"/>
                  </a:lnTo>
                  <a:lnTo>
                    <a:pt x="163" y="212"/>
                  </a:lnTo>
                  <a:lnTo>
                    <a:pt x="187" y="191"/>
                  </a:lnTo>
                  <a:lnTo>
                    <a:pt x="211" y="169"/>
                  </a:lnTo>
                  <a:lnTo>
                    <a:pt x="233" y="146"/>
                  </a:lnTo>
                  <a:lnTo>
                    <a:pt x="253" y="122"/>
                  </a:lnTo>
                  <a:lnTo>
                    <a:pt x="272" y="96"/>
                  </a:lnTo>
                  <a:lnTo>
                    <a:pt x="142" y="0"/>
                  </a:lnTo>
                  <a:lnTo>
                    <a:pt x="128" y="19"/>
                  </a:lnTo>
                  <a:lnTo>
                    <a:pt x="112" y="38"/>
                  </a:lnTo>
                  <a:lnTo>
                    <a:pt x="95" y="55"/>
                  </a:lnTo>
                  <a:lnTo>
                    <a:pt x="77" y="72"/>
                  </a:lnTo>
                  <a:lnTo>
                    <a:pt x="59" y="88"/>
                  </a:lnTo>
                  <a:lnTo>
                    <a:pt x="40" y="103"/>
                  </a:lnTo>
                  <a:lnTo>
                    <a:pt x="20" y="118"/>
                  </a:lnTo>
                  <a:lnTo>
                    <a:pt x="0" y="132"/>
                  </a:lnTo>
                  <a:lnTo>
                    <a:pt x="5" y="128"/>
                  </a:lnTo>
                  <a:lnTo>
                    <a:pt x="82" y="271"/>
                  </a:lnTo>
                  <a:lnTo>
                    <a:pt x="84" y="270"/>
                  </a:lnTo>
                  <a:lnTo>
                    <a:pt x="88" y="268"/>
                  </a:lnTo>
                  <a:lnTo>
                    <a:pt x="8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5060880" y="3062160"/>
              <a:ext cx="50760" cy="47880"/>
            </a:xfrm>
            <a:custGeom>
              <a:avLst/>
              <a:gdLst/>
              <a:ahLst/>
              <a:rect l="l" t="t" r="r" b="b"/>
              <a:pathLst>
                <a:path w="160" h="152">
                  <a:moveTo>
                    <a:pt x="34" y="116"/>
                  </a:moveTo>
                  <a:lnTo>
                    <a:pt x="146" y="152"/>
                  </a:lnTo>
                  <a:lnTo>
                    <a:pt x="160" y="143"/>
                  </a:lnTo>
                  <a:lnTo>
                    <a:pt x="83" y="0"/>
                  </a:lnTo>
                  <a:lnTo>
                    <a:pt x="68" y="9"/>
                  </a:lnTo>
                  <a:lnTo>
                    <a:pt x="34" y="116"/>
                  </a:lnTo>
                  <a:lnTo>
                    <a:pt x="68" y="9"/>
                  </a:lnTo>
                  <a:lnTo>
                    <a:pt x="0" y="46"/>
                  </a:lnTo>
                  <a:lnTo>
                    <a:pt x="34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5072040" y="3075120"/>
              <a:ext cx="54000" cy="39600"/>
            </a:xfrm>
            <a:custGeom>
              <a:avLst/>
              <a:gdLst/>
              <a:ahLst/>
              <a:rect l="l" t="t" r="r" b="b"/>
              <a:pathLst>
                <a:path w="167" h="126">
                  <a:moveTo>
                    <a:pt x="166" y="41"/>
                  </a:moveTo>
                  <a:lnTo>
                    <a:pt x="167" y="42"/>
                  </a:lnTo>
                  <a:lnTo>
                    <a:pt x="164" y="38"/>
                  </a:lnTo>
                  <a:lnTo>
                    <a:pt x="162" y="34"/>
                  </a:lnTo>
                  <a:lnTo>
                    <a:pt x="160" y="29"/>
                  </a:lnTo>
                  <a:lnTo>
                    <a:pt x="157" y="25"/>
                  </a:lnTo>
                  <a:lnTo>
                    <a:pt x="155" y="18"/>
                  </a:lnTo>
                  <a:lnTo>
                    <a:pt x="152" y="13"/>
                  </a:lnTo>
                  <a:lnTo>
                    <a:pt x="148" y="8"/>
                  </a:lnTo>
                  <a:lnTo>
                    <a:pt x="145" y="0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5" y="84"/>
                  </a:lnTo>
                  <a:lnTo>
                    <a:pt x="9" y="91"/>
                  </a:lnTo>
                  <a:lnTo>
                    <a:pt x="12" y="97"/>
                  </a:lnTo>
                  <a:lnTo>
                    <a:pt x="15" y="103"/>
                  </a:lnTo>
                  <a:lnTo>
                    <a:pt x="19" y="111"/>
                  </a:lnTo>
                  <a:lnTo>
                    <a:pt x="22" y="118"/>
                  </a:lnTo>
                  <a:lnTo>
                    <a:pt x="27" y="124"/>
                  </a:lnTo>
                  <a:lnTo>
                    <a:pt x="28" y="126"/>
                  </a:lnTo>
                  <a:lnTo>
                    <a:pt x="166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5081760" y="3087720"/>
              <a:ext cx="53640" cy="49320"/>
            </a:xfrm>
            <a:custGeom>
              <a:avLst/>
              <a:gdLst/>
              <a:ahLst/>
              <a:rect l="l" t="t" r="r" b="b"/>
              <a:pathLst>
                <a:path w="172" h="153">
                  <a:moveTo>
                    <a:pt x="145" y="153"/>
                  </a:moveTo>
                  <a:lnTo>
                    <a:pt x="146" y="152"/>
                  </a:lnTo>
                  <a:lnTo>
                    <a:pt x="159" y="133"/>
                  </a:lnTo>
                  <a:lnTo>
                    <a:pt x="169" y="113"/>
                  </a:lnTo>
                  <a:lnTo>
                    <a:pt x="172" y="93"/>
                  </a:lnTo>
                  <a:lnTo>
                    <a:pt x="171" y="71"/>
                  </a:lnTo>
                  <a:lnTo>
                    <a:pt x="167" y="52"/>
                  </a:lnTo>
                  <a:lnTo>
                    <a:pt x="159" y="35"/>
                  </a:lnTo>
                  <a:lnTo>
                    <a:pt x="152" y="22"/>
                  </a:lnTo>
                  <a:lnTo>
                    <a:pt x="147" y="13"/>
                  </a:lnTo>
                  <a:lnTo>
                    <a:pt x="141" y="6"/>
                  </a:lnTo>
                  <a:lnTo>
                    <a:pt x="138" y="0"/>
                  </a:lnTo>
                  <a:lnTo>
                    <a:pt x="0" y="85"/>
                  </a:lnTo>
                  <a:lnTo>
                    <a:pt x="5" y="94"/>
                  </a:lnTo>
                  <a:lnTo>
                    <a:pt x="10" y="101"/>
                  </a:lnTo>
                  <a:lnTo>
                    <a:pt x="13" y="105"/>
                  </a:lnTo>
                  <a:lnTo>
                    <a:pt x="13" y="107"/>
                  </a:lnTo>
                  <a:lnTo>
                    <a:pt x="12" y="103"/>
                  </a:lnTo>
                  <a:lnTo>
                    <a:pt x="10" y="97"/>
                  </a:lnTo>
                  <a:lnTo>
                    <a:pt x="10" y="81"/>
                  </a:lnTo>
                  <a:lnTo>
                    <a:pt x="12" y="67"/>
                  </a:lnTo>
                  <a:lnTo>
                    <a:pt x="20" y="51"/>
                  </a:lnTo>
                  <a:lnTo>
                    <a:pt x="30" y="36"/>
                  </a:lnTo>
                  <a:lnTo>
                    <a:pt x="31" y="35"/>
                  </a:lnTo>
                  <a:lnTo>
                    <a:pt x="145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5057640" y="3065400"/>
              <a:ext cx="69840" cy="82440"/>
            </a:xfrm>
            <a:custGeom>
              <a:avLst/>
              <a:gdLst/>
              <a:ahLst/>
              <a:rect l="l" t="t" r="r" b="b"/>
              <a:pathLst>
                <a:path w="219" h="260">
                  <a:moveTo>
                    <a:pt x="97" y="174"/>
                  </a:moveTo>
                  <a:lnTo>
                    <a:pt x="0" y="145"/>
                  </a:lnTo>
                  <a:lnTo>
                    <a:pt x="13" y="165"/>
                  </a:lnTo>
                  <a:lnTo>
                    <a:pt x="26" y="185"/>
                  </a:lnTo>
                  <a:lnTo>
                    <a:pt x="41" y="205"/>
                  </a:lnTo>
                  <a:lnTo>
                    <a:pt x="58" y="222"/>
                  </a:lnTo>
                  <a:lnTo>
                    <a:pt x="71" y="235"/>
                  </a:lnTo>
                  <a:lnTo>
                    <a:pt x="87" y="246"/>
                  </a:lnTo>
                  <a:lnTo>
                    <a:pt x="107" y="255"/>
                  </a:lnTo>
                  <a:lnTo>
                    <a:pt x="131" y="260"/>
                  </a:lnTo>
                  <a:lnTo>
                    <a:pt x="158" y="258"/>
                  </a:lnTo>
                  <a:lnTo>
                    <a:pt x="183" y="251"/>
                  </a:lnTo>
                  <a:lnTo>
                    <a:pt x="203" y="239"/>
                  </a:lnTo>
                  <a:lnTo>
                    <a:pt x="219" y="227"/>
                  </a:lnTo>
                  <a:lnTo>
                    <a:pt x="105" y="109"/>
                  </a:lnTo>
                  <a:lnTo>
                    <a:pt x="109" y="107"/>
                  </a:lnTo>
                  <a:lnTo>
                    <a:pt x="117" y="102"/>
                  </a:lnTo>
                  <a:lnTo>
                    <a:pt x="129" y="99"/>
                  </a:lnTo>
                  <a:lnTo>
                    <a:pt x="144" y="97"/>
                  </a:lnTo>
                  <a:lnTo>
                    <a:pt x="158" y="100"/>
                  </a:lnTo>
                  <a:lnTo>
                    <a:pt x="166" y="104"/>
                  </a:lnTo>
                  <a:lnTo>
                    <a:pt x="171" y="107"/>
                  </a:lnTo>
                  <a:lnTo>
                    <a:pt x="173" y="110"/>
                  </a:lnTo>
                  <a:lnTo>
                    <a:pt x="167" y="103"/>
                  </a:lnTo>
                  <a:lnTo>
                    <a:pt x="159" y="91"/>
                  </a:lnTo>
                  <a:lnTo>
                    <a:pt x="147" y="74"/>
                  </a:lnTo>
                  <a:lnTo>
                    <a:pt x="133" y="53"/>
                  </a:lnTo>
                  <a:lnTo>
                    <a:pt x="37" y="24"/>
                  </a:lnTo>
                  <a:lnTo>
                    <a:pt x="133" y="53"/>
                  </a:lnTo>
                  <a:lnTo>
                    <a:pt x="97" y="0"/>
                  </a:lnTo>
                  <a:lnTo>
                    <a:pt x="37" y="24"/>
                  </a:lnTo>
                  <a:lnTo>
                    <a:pt x="97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5064120" y="3071880"/>
              <a:ext cx="23760" cy="50760"/>
            </a:xfrm>
            <a:custGeom>
              <a:avLst/>
              <a:gdLst/>
              <a:ahLst/>
              <a:rect l="l" t="t" r="r" b="b"/>
              <a:pathLst>
                <a:path w="76" h="156">
                  <a:moveTo>
                    <a:pt x="0" y="6"/>
                  </a:moveTo>
                  <a:lnTo>
                    <a:pt x="62" y="156"/>
                  </a:lnTo>
                  <a:lnTo>
                    <a:pt x="76" y="150"/>
                  </a:lnTo>
                  <a:lnTo>
                    <a:pt x="16" y="0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4997520" y="3075120"/>
              <a:ext cx="87120" cy="64800"/>
            </a:xfrm>
            <a:custGeom>
              <a:avLst/>
              <a:gdLst/>
              <a:ahLst/>
              <a:rect l="l" t="t" r="r" b="b"/>
              <a:pathLst>
                <a:path w="273" h="206">
                  <a:moveTo>
                    <a:pt x="0" y="206"/>
                  </a:moveTo>
                  <a:lnTo>
                    <a:pt x="0" y="206"/>
                  </a:lnTo>
                  <a:lnTo>
                    <a:pt x="36" y="205"/>
                  </a:lnTo>
                  <a:lnTo>
                    <a:pt x="71" y="202"/>
                  </a:lnTo>
                  <a:lnTo>
                    <a:pt x="107" y="198"/>
                  </a:lnTo>
                  <a:lnTo>
                    <a:pt x="141" y="191"/>
                  </a:lnTo>
                  <a:lnTo>
                    <a:pt x="175" y="183"/>
                  </a:lnTo>
                  <a:lnTo>
                    <a:pt x="209" y="174"/>
                  </a:lnTo>
                  <a:lnTo>
                    <a:pt x="242" y="162"/>
                  </a:lnTo>
                  <a:lnTo>
                    <a:pt x="273" y="149"/>
                  </a:lnTo>
                  <a:lnTo>
                    <a:pt x="209" y="0"/>
                  </a:lnTo>
                  <a:lnTo>
                    <a:pt x="185" y="11"/>
                  </a:lnTo>
                  <a:lnTo>
                    <a:pt x="160" y="19"/>
                  </a:lnTo>
                  <a:lnTo>
                    <a:pt x="134" y="27"/>
                  </a:lnTo>
                  <a:lnTo>
                    <a:pt x="109" y="33"/>
                  </a:lnTo>
                  <a:lnTo>
                    <a:pt x="82" y="37"/>
                  </a:lnTo>
                  <a:lnTo>
                    <a:pt x="55" y="40"/>
                  </a:lnTo>
                  <a:lnTo>
                    <a:pt x="28" y="4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4897440" y="3070080"/>
              <a:ext cx="100080" cy="69840"/>
            </a:xfrm>
            <a:custGeom>
              <a:avLst/>
              <a:gdLst/>
              <a:ahLst/>
              <a:rect l="l" t="t" r="r" b="b"/>
              <a:pathLst>
                <a:path w="317" h="220">
                  <a:moveTo>
                    <a:pt x="0" y="142"/>
                  </a:moveTo>
                  <a:lnTo>
                    <a:pt x="2" y="143"/>
                  </a:lnTo>
                  <a:lnTo>
                    <a:pt x="20" y="152"/>
                  </a:lnTo>
                  <a:lnTo>
                    <a:pt x="37" y="161"/>
                  </a:lnTo>
                  <a:lnTo>
                    <a:pt x="56" y="169"/>
                  </a:lnTo>
                  <a:lnTo>
                    <a:pt x="75" y="176"/>
                  </a:lnTo>
                  <a:lnTo>
                    <a:pt x="94" y="182"/>
                  </a:lnTo>
                  <a:lnTo>
                    <a:pt x="113" y="189"/>
                  </a:lnTo>
                  <a:lnTo>
                    <a:pt x="133" y="195"/>
                  </a:lnTo>
                  <a:lnTo>
                    <a:pt x="153" y="200"/>
                  </a:lnTo>
                  <a:lnTo>
                    <a:pt x="172" y="204"/>
                  </a:lnTo>
                  <a:lnTo>
                    <a:pt x="193" y="209"/>
                  </a:lnTo>
                  <a:lnTo>
                    <a:pt x="213" y="212"/>
                  </a:lnTo>
                  <a:lnTo>
                    <a:pt x="234" y="215"/>
                  </a:lnTo>
                  <a:lnTo>
                    <a:pt x="254" y="217"/>
                  </a:lnTo>
                  <a:lnTo>
                    <a:pt x="275" y="218"/>
                  </a:lnTo>
                  <a:lnTo>
                    <a:pt x="296" y="219"/>
                  </a:lnTo>
                  <a:lnTo>
                    <a:pt x="317" y="220"/>
                  </a:lnTo>
                  <a:lnTo>
                    <a:pt x="317" y="57"/>
                  </a:lnTo>
                  <a:lnTo>
                    <a:pt x="300" y="57"/>
                  </a:lnTo>
                  <a:lnTo>
                    <a:pt x="284" y="56"/>
                  </a:lnTo>
                  <a:lnTo>
                    <a:pt x="269" y="55"/>
                  </a:lnTo>
                  <a:lnTo>
                    <a:pt x="253" y="53"/>
                  </a:lnTo>
                  <a:lnTo>
                    <a:pt x="237" y="51"/>
                  </a:lnTo>
                  <a:lnTo>
                    <a:pt x="221" y="49"/>
                  </a:lnTo>
                  <a:lnTo>
                    <a:pt x="206" y="46"/>
                  </a:lnTo>
                  <a:lnTo>
                    <a:pt x="191" y="43"/>
                  </a:lnTo>
                  <a:lnTo>
                    <a:pt x="175" y="38"/>
                  </a:lnTo>
                  <a:lnTo>
                    <a:pt x="161" y="34"/>
                  </a:lnTo>
                  <a:lnTo>
                    <a:pt x="147" y="29"/>
                  </a:lnTo>
                  <a:lnTo>
                    <a:pt x="132" y="24"/>
                  </a:lnTo>
                  <a:lnTo>
                    <a:pt x="117" y="18"/>
                  </a:lnTo>
                  <a:lnTo>
                    <a:pt x="104" y="12"/>
                  </a:lnTo>
                  <a:lnTo>
                    <a:pt x="90" y="6"/>
                  </a:lnTo>
                  <a:lnTo>
                    <a:pt x="76" y="0"/>
                  </a:lnTo>
                  <a:lnTo>
                    <a:pt x="78" y="1"/>
                  </a:lnTo>
                  <a:lnTo>
                    <a:pt x="0" y="142"/>
                  </a:lnTo>
                  <a:lnTo>
                    <a:pt x="1" y="142"/>
                  </a:lnTo>
                  <a:lnTo>
                    <a:pt x="2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4883040" y="3054240"/>
              <a:ext cx="39960" cy="60480"/>
            </a:xfrm>
            <a:custGeom>
              <a:avLst/>
              <a:gdLst/>
              <a:ahLst/>
              <a:rect l="l" t="t" r="r" b="b"/>
              <a:pathLst>
                <a:path w="125" h="191">
                  <a:moveTo>
                    <a:pt x="0" y="80"/>
                  </a:moveTo>
                  <a:lnTo>
                    <a:pt x="34" y="184"/>
                  </a:lnTo>
                  <a:lnTo>
                    <a:pt x="47" y="191"/>
                  </a:lnTo>
                  <a:lnTo>
                    <a:pt x="125" y="50"/>
                  </a:lnTo>
                  <a:lnTo>
                    <a:pt x="113" y="43"/>
                  </a:lnTo>
                  <a:lnTo>
                    <a:pt x="0" y="80"/>
                  </a:lnTo>
                  <a:lnTo>
                    <a:pt x="113" y="43"/>
                  </a:lnTo>
                  <a:lnTo>
                    <a:pt x="37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4876920" y="3079800"/>
              <a:ext cx="52200" cy="39600"/>
            </a:xfrm>
            <a:custGeom>
              <a:avLst/>
              <a:gdLst/>
              <a:ahLst/>
              <a:rect l="l" t="t" r="r" b="b"/>
              <a:pathLst>
                <a:path w="166" h="125">
                  <a:moveTo>
                    <a:pt x="136" y="125"/>
                  </a:moveTo>
                  <a:lnTo>
                    <a:pt x="135" y="125"/>
                  </a:lnTo>
                  <a:lnTo>
                    <a:pt x="140" y="117"/>
                  </a:lnTo>
                  <a:lnTo>
                    <a:pt x="146" y="108"/>
                  </a:lnTo>
                  <a:lnTo>
                    <a:pt x="150" y="101"/>
                  </a:lnTo>
                  <a:lnTo>
                    <a:pt x="154" y="94"/>
                  </a:lnTo>
                  <a:lnTo>
                    <a:pt x="157" y="86"/>
                  </a:lnTo>
                  <a:lnTo>
                    <a:pt x="160" y="80"/>
                  </a:lnTo>
                  <a:lnTo>
                    <a:pt x="162" y="74"/>
                  </a:lnTo>
                  <a:lnTo>
                    <a:pt x="166" y="67"/>
                  </a:lnTo>
                  <a:lnTo>
                    <a:pt x="18" y="0"/>
                  </a:lnTo>
                  <a:lnTo>
                    <a:pt x="15" y="6"/>
                  </a:lnTo>
                  <a:lnTo>
                    <a:pt x="12" y="13"/>
                  </a:lnTo>
                  <a:lnTo>
                    <a:pt x="10" y="18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136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4873680" y="3090960"/>
              <a:ext cx="46080" cy="52200"/>
            </a:xfrm>
            <a:custGeom>
              <a:avLst/>
              <a:gdLst/>
              <a:ahLst/>
              <a:rect l="l" t="t" r="r" b="b"/>
              <a:pathLst>
                <a:path w="145" h="163">
                  <a:moveTo>
                    <a:pt x="5" y="157"/>
                  </a:moveTo>
                  <a:lnTo>
                    <a:pt x="12" y="159"/>
                  </a:lnTo>
                  <a:lnTo>
                    <a:pt x="43" y="163"/>
                  </a:lnTo>
                  <a:lnTo>
                    <a:pt x="72" y="156"/>
                  </a:lnTo>
                  <a:lnTo>
                    <a:pt x="94" y="145"/>
                  </a:lnTo>
                  <a:lnTo>
                    <a:pt x="109" y="133"/>
                  </a:lnTo>
                  <a:lnTo>
                    <a:pt x="121" y="122"/>
                  </a:lnTo>
                  <a:lnTo>
                    <a:pt x="129" y="110"/>
                  </a:lnTo>
                  <a:lnTo>
                    <a:pt x="138" y="100"/>
                  </a:lnTo>
                  <a:lnTo>
                    <a:pt x="145" y="89"/>
                  </a:lnTo>
                  <a:lnTo>
                    <a:pt x="9" y="1"/>
                  </a:lnTo>
                  <a:lnTo>
                    <a:pt x="5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9"/>
                  </a:lnTo>
                  <a:lnTo>
                    <a:pt x="15" y="4"/>
                  </a:lnTo>
                  <a:lnTo>
                    <a:pt x="33" y="0"/>
                  </a:lnTo>
                  <a:lnTo>
                    <a:pt x="54" y="2"/>
                  </a:lnTo>
                  <a:lnTo>
                    <a:pt x="60" y="5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4851360" y="3057480"/>
              <a:ext cx="74520" cy="84240"/>
            </a:xfrm>
            <a:custGeom>
              <a:avLst/>
              <a:gdLst/>
              <a:ahLst/>
              <a:rect l="l" t="t" r="r" b="b"/>
              <a:pathLst>
                <a:path w="233" h="262">
                  <a:moveTo>
                    <a:pt x="82" y="140"/>
                  </a:moveTo>
                  <a:lnTo>
                    <a:pt x="52" y="30"/>
                  </a:lnTo>
                  <a:lnTo>
                    <a:pt x="40" y="51"/>
                  </a:lnTo>
                  <a:lnTo>
                    <a:pt x="28" y="72"/>
                  </a:lnTo>
                  <a:lnTo>
                    <a:pt x="16" y="94"/>
                  </a:lnTo>
                  <a:lnTo>
                    <a:pt x="7" y="116"/>
                  </a:lnTo>
                  <a:lnTo>
                    <a:pt x="2" y="135"/>
                  </a:lnTo>
                  <a:lnTo>
                    <a:pt x="0" y="154"/>
                  </a:lnTo>
                  <a:lnTo>
                    <a:pt x="2" y="176"/>
                  </a:lnTo>
                  <a:lnTo>
                    <a:pt x="8" y="200"/>
                  </a:lnTo>
                  <a:lnTo>
                    <a:pt x="21" y="223"/>
                  </a:lnTo>
                  <a:lnTo>
                    <a:pt x="39" y="241"/>
                  </a:lnTo>
                  <a:lnTo>
                    <a:pt x="57" y="254"/>
                  </a:lnTo>
                  <a:lnTo>
                    <a:pt x="76" y="262"/>
                  </a:lnTo>
                  <a:lnTo>
                    <a:pt x="131" y="110"/>
                  </a:lnTo>
                  <a:lnTo>
                    <a:pt x="134" y="111"/>
                  </a:lnTo>
                  <a:lnTo>
                    <a:pt x="141" y="116"/>
                  </a:lnTo>
                  <a:lnTo>
                    <a:pt x="151" y="126"/>
                  </a:lnTo>
                  <a:lnTo>
                    <a:pt x="158" y="137"/>
                  </a:lnTo>
                  <a:lnTo>
                    <a:pt x="161" y="151"/>
                  </a:lnTo>
                  <a:lnTo>
                    <a:pt x="163" y="160"/>
                  </a:lnTo>
                  <a:lnTo>
                    <a:pt x="161" y="166"/>
                  </a:lnTo>
                  <a:lnTo>
                    <a:pt x="160" y="171"/>
                  </a:lnTo>
                  <a:lnTo>
                    <a:pt x="164" y="163"/>
                  </a:lnTo>
                  <a:lnTo>
                    <a:pt x="170" y="149"/>
                  </a:lnTo>
                  <a:lnTo>
                    <a:pt x="180" y="132"/>
                  </a:lnTo>
                  <a:lnTo>
                    <a:pt x="192" y="111"/>
                  </a:lnTo>
                  <a:lnTo>
                    <a:pt x="163" y="0"/>
                  </a:lnTo>
                  <a:lnTo>
                    <a:pt x="192" y="111"/>
                  </a:lnTo>
                  <a:lnTo>
                    <a:pt x="233" y="41"/>
                  </a:lnTo>
                  <a:lnTo>
                    <a:pt x="163" y="0"/>
                  </a:lnTo>
                  <a:lnTo>
                    <a:pt x="82" y="1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4871880" y="3056040"/>
              <a:ext cx="32040" cy="46080"/>
            </a:xfrm>
            <a:custGeom>
              <a:avLst/>
              <a:gdLst/>
              <a:ahLst/>
              <a:rect l="l" t="t" r="r" b="b"/>
              <a:pathLst>
                <a:path w="96" h="145">
                  <a:moveTo>
                    <a:pt x="0" y="136"/>
                  </a:moveTo>
                  <a:lnTo>
                    <a:pt x="5" y="140"/>
                  </a:lnTo>
                  <a:lnTo>
                    <a:pt x="15" y="145"/>
                  </a:lnTo>
                  <a:lnTo>
                    <a:pt x="96" y="5"/>
                  </a:lnTo>
                  <a:lnTo>
                    <a:pt x="86" y="0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2" y="139"/>
                  </a:lnTo>
                  <a:lnTo>
                    <a:pt x="5" y="14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4784760" y="2954160"/>
              <a:ext cx="117360" cy="144720"/>
            </a:xfrm>
            <a:custGeom>
              <a:avLst/>
              <a:gdLst/>
              <a:ahLst/>
              <a:rect l="l" t="t" r="r" b="b"/>
              <a:pathLst>
                <a:path w="367" h="458">
                  <a:moveTo>
                    <a:pt x="3" y="55"/>
                  </a:moveTo>
                  <a:lnTo>
                    <a:pt x="0" y="44"/>
                  </a:lnTo>
                  <a:lnTo>
                    <a:pt x="8" y="76"/>
                  </a:lnTo>
                  <a:lnTo>
                    <a:pt x="16" y="107"/>
                  </a:lnTo>
                  <a:lnTo>
                    <a:pt x="27" y="138"/>
                  </a:lnTo>
                  <a:lnTo>
                    <a:pt x="40" y="167"/>
                  </a:lnTo>
                  <a:lnTo>
                    <a:pt x="52" y="197"/>
                  </a:lnTo>
                  <a:lnTo>
                    <a:pt x="67" y="225"/>
                  </a:lnTo>
                  <a:lnTo>
                    <a:pt x="83" y="253"/>
                  </a:lnTo>
                  <a:lnTo>
                    <a:pt x="99" y="280"/>
                  </a:lnTo>
                  <a:lnTo>
                    <a:pt x="117" y="305"/>
                  </a:lnTo>
                  <a:lnTo>
                    <a:pt x="136" y="330"/>
                  </a:lnTo>
                  <a:lnTo>
                    <a:pt x="157" y="354"/>
                  </a:lnTo>
                  <a:lnTo>
                    <a:pt x="178" y="377"/>
                  </a:lnTo>
                  <a:lnTo>
                    <a:pt x="201" y="399"/>
                  </a:lnTo>
                  <a:lnTo>
                    <a:pt x="224" y="420"/>
                  </a:lnTo>
                  <a:lnTo>
                    <a:pt x="249" y="440"/>
                  </a:lnTo>
                  <a:lnTo>
                    <a:pt x="275" y="458"/>
                  </a:lnTo>
                  <a:lnTo>
                    <a:pt x="367" y="326"/>
                  </a:lnTo>
                  <a:lnTo>
                    <a:pt x="348" y="312"/>
                  </a:lnTo>
                  <a:lnTo>
                    <a:pt x="330" y="296"/>
                  </a:lnTo>
                  <a:lnTo>
                    <a:pt x="312" y="281"/>
                  </a:lnTo>
                  <a:lnTo>
                    <a:pt x="295" y="264"/>
                  </a:lnTo>
                  <a:lnTo>
                    <a:pt x="278" y="246"/>
                  </a:lnTo>
                  <a:lnTo>
                    <a:pt x="263" y="228"/>
                  </a:lnTo>
                  <a:lnTo>
                    <a:pt x="249" y="209"/>
                  </a:lnTo>
                  <a:lnTo>
                    <a:pt x="235" y="189"/>
                  </a:lnTo>
                  <a:lnTo>
                    <a:pt x="221" y="169"/>
                  </a:lnTo>
                  <a:lnTo>
                    <a:pt x="210" y="148"/>
                  </a:lnTo>
                  <a:lnTo>
                    <a:pt x="198" y="126"/>
                  </a:lnTo>
                  <a:lnTo>
                    <a:pt x="189" y="104"/>
                  </a:lnTo>
                  <a:lnTo>
                    <a:pt x="179" y="82"/>
                  </a:lnTo>
                  <a:lnTo>
                    <a:pt x="172" y="58"/>
                  </a:lnTo>
                  <a:lnTo>
                    <a:pt x="165" y="35"/>
                  </a:lnTo>
                  <a:lnTo>
                    <a:pt x="158" y="11"/>
                  </a:lnTo>
                  <a:lnTo>
                    <a:pt x="155" y="0"/>
                  </a:lnTo>
                  <a:lnTo>
                    <a:pt x="158" y="11"/>
                  </a:lnTo>
                  <a:lnTo>
                    <a:pt x="157" y="5"/>
                  </a:lnTo>
                  <a:lnTo>
                    <a:pt x="155" y="0"/>
                  </a:lnTo>
                  <a:lnTo>
                    <a:pt x="3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4784760" y="2927520"/>
              <a:ext cx="49320" cy="44280"/>
            </a:xfrm>
            <a:custGeom>
              <a:avLst/>
              <a:gdLst/>
              <a:ahLst/>
              <a:rect l="l" t="t" r="r" b="b"/>
              <a:pathLst>
                <a:path w="157" h="141">
                  <a:moveTo>
                    <a:pt x="54" y="20"/>
                  </a:moveTo>
                  <a:lnTo>
                    <a:pt x="0" y="126"/>
                  </a:lnTo>
                  <a:lnTo>
                    <a:pt x="5" y="141"/>
                  </a:lnTo>
                  <a:lnTo>
                    <a:pt x="157" y="86"/>
                  </a:lnTo>
                  <a:lnTo>
                    <a:pt x="152" y="72"/>
                  </a:lnTo>
                  <a:lnTo>
                    <a:pt x="54" y="20"/>
                  </a:lnTo>
                  <a:lnTo>
                    <a:pt x="152" y="72"/>
                  </a:lnTo>
                  <a:lnTo>
                    <a:pt x="127" y="0"/>
                  </a:lnTo>
                  <a:lnTo>
                    <a:pt x="54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4791240" y="2933640"/>
              <a:ext cx="25200" cy="54000"/>
            </a:xfrm>
            <a:custGeom>
              <a:avLst/>
              <a:gdLst/>
              <a:ahLst/>
              <a:rect l="l" t="t" r="r" b="b"/>
              <a:pathLst>
                <a:path w="79" h="170">
                  <a:moveTo>
                    <a:pt x="17" y="170"/>
                  </a:moveTo>
                  <a:lnTo>
                    <a:pt x="23" y="170"/>
                  </a:lnTo>
                  <a:lnTo>
                    <a:pt x="31" y="169"/>
                  </a:lnTo>
                  <a:lnTo>
                    <a:pt x="39" y="167"/>
                  </a:lnTo>
                  <a:lnTo>
                    <a:pt x="47" y="166"/>
                  </a:lnTo>
                  <a:lnTo>
                    <a:pt x="54" y="164"/>
                  </a:lnTo>
                  <a:lnTo>
                    <a:pt x="60" y="162"/>
                  </a:lnTo>
                  <a:lnTo>
                    <a:pt x="67" y="161"/>
                  </a:lnTo>
                  <a:lnTo>
                    <a:pt x="73" y="159"/>
                  </a:lnTo>
                  <a:lnTo>
                    <a:pt x="79" y="157"/>
                  </a:lnTo>
                  <a:lnTo>
                    <a:pt x="35" y="0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18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9" y="7"/>
                  </a:lnTo>
                  <a:lnTo>
                    <a:pt x="5" y="8"/>
                  </a:lnTo>
                  <a:lnTo>
                    <a:pt x="0" y="10"/>
                  </a:lnTo>
                  <a:lnTo>
                    <a:pt x="6" y="8"/>
                  </a:lnTo>
                  <a:lnTo>
                    <a:pt x="17" y="1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4751280" y="2935440"/>
              <a:ext cx="49320" cy="52200"/>
            </a:xfrm>
            <a:custGeom>
              <a:avLst/>
              <a:gdLst/>
              <a:ahLst/>
              <a:rect l="l" t="t" r="r" b="b"/>
              <a:pathLst>
                <a:path w="152" h="164">
                  <a:moveTo>
                    <a:pt x="0" y="100"/>
                  </a:moveTo>
                  <a:lnTo>
                    <a:pt x="2" y="105"/>
                  </a:lnTo>
                  <a:lnTo>
                    <a:pt x="12" y="123"/>
                  </a:lnTo>
                  <a:lnTo>
                    <a:pt x="26" y="138"/>
                  </a:lnTo>
                  <a:lnTo>
                    <a:pt x="41" y="149"/>
                  </a:lnTo>
                  <a:lnTo>
                    <a:pt x="58" y="157"/>
                  </a:lnTo>
                  <a:lnTo>
                    <a:pt x="76" y="161"/>
                  </a:lnTo>
                  <a:lnTo>
                    <a:pt x="94" y="164"/>
                  </a:lnTo>
                  <a:lnTo>
                    <a:pt x="109" y="164"/>
                  </a:lnTo>
                  <a:lnTo>
                    <a:pt x="121" y="164"/>
                  </a:lnTo>
                  <a:lnTo>
                    <a:pt x="131" y="163"/>
                  </a:lnTo>
                  <a:lnTo>
                    <a:pt x="139" y="162"/>
                  </a:lnTo>
                  <a:lnTo>
                    <a:pt x="128" y="0"/>
                  </a:lnTo>
                  <a:lnTo>
                    <a:pt x="119" y="2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5" y="2"/>
                  </a:lnTo>
                  <a:lnTo>
                    <a:pt x="107" y="3"/>
                  </a:lnTo>
                  <a:lnTo>
                    <a:pt x="111" y="4"/>
                  </a:lnTo>
                  <a:lnTo>
                    <a:pt x="122" y="9"/>
                  </a:lnTo>
                  <a:lnTo>
                    <a:pt x="133" y="15"/>
                  </a:lnTo>
                  <a:lnTo>
                    <a:pt x="142" y="26"/>
                  </a:lnTo>
                  <a:lnTo>
                    <a:pt x="150" y="38"/>
                  </a:lnTo>
                  <a:lnTo>
                    <a:pt x="152" y="44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4749840" y="2914560"/>
              <a:ext cx="96840" cy="55800"/>
            </a:xfrm>
            <a:custGeom>
              <a:avLst/>
              <a:gdLst/>
              <a:ahLst/>
              <a:rect l="l" t="t" r="r" b="b"/>
              <a:pathLst>
                <a:path w="306" h="175">
                  <a:moveTo>
                    <a:pt x="113" y="116"/>
                  </a:moveTo>
                  <a:lnTo>
                    <a:pt x="170" y="0"/>
                  </a:lnTo>
                  <a:lnTo>
                    <a:pt x="147" y="4"/>
                  </a:lnTo>
                  <a:lnTo>
                    <a:pt x="123" y="9"/>
                  </a:lnTo>
                  <a:lnTo>
                    <a:pt x="99" y="14"/>
                  </a:lnTo>
                  <a:lnTo>
                    <a:pt x="76" y="22"/>
                  </a:lnTo>
                  <a:lnTo>
                    <a:pt x="59" y="30"/>
                  </a:lnTo>
                  <a:lnTo>
                    <a:pt x="43" y="40"/>
                  </a:lnTo>
                  <a:lnTo>
                    <a:pt x="26" y="55"/>
                  </a:lnTo>
                  <a:lnTo>
                    <a:pt x="13" y="76"/>
                  </a:lnTo>
                  <a:lnTo>
                    <a:pt x="3" y="100"/>
                  </a:lnTo>
                  <a:lnTo>
                    <a:pt x="0" y="125"/>
                  </a:lnTo>
                  <a:lnTo>
                    <a:pt x="3" y="148"/>
                  </a:lnTo>
                  <a:lnTo>
                    <a:pt x="9" y="167"/>
                  </a:lnTo>
                  <a:lnTo>
                    <a:pt x="161" y="111"/>
                  </a:lnTo>
                  <a:lnTo>
                    <a:pt x="162" y="115"/>
                  </a:lnTo>
                  <a:lnTo>
                    <a:pt x="163" y="124"/>
                  </a:lnTo>
                  <a:lnTo>
                    <a:pt x="161" y="138"/>
                  </a:lnTo>
                  <a:lnTo>
                    <a:pt x="156" y="151"/>
                  </a:lnTo>
                  <a:lnTo>
                    <a:pt x="148" y="162"/>
                  </a:lnTo>
                  <a:lnTo>
                    <a:pt x="141" y="169"/>
                  </a:lnTo>
                  <a:lnTo>
                    <a:pt x="137" y="172"/>
                  </a:lnTo>
                  <a:lnTo>
                    <a:pt x="133" y="175"/>
                  </a:lnTo>
                  <a:lnTo>
                    <a:pt x="142" y="171"/>
                  </a:lnTo>
                  <a:lnTo>
                    <a:pt x="156" y="167"/>
                  </a:lnTo>
                  <a:lnTo>
                    <a:pt x="176" y="164"/>
                  </a:lnTo>
                  <a:lnTo>
                    <a:pt x="200" y="160"/>
                  </a:lnTo>
                  <a:lnTo>
                    <a:pt x="258" y="43"/>
                  </a:lnTo>
                  <a:lnTo>
                    <a:pt x="200" y="160"/>
                  </a:lnTo>
                  <a:lnTo>
                    <a:pt x="306" y="140"/>
                  </a:lnTo>
                  <a:lnTo>
                    <a:pt x="258" y="43"/>
                  </a:lnTo>
                  <a:lnTo>
                    <a:pt x="113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4781520" y="2925720"/>
              <a:ext cx="49320" cy="25560"/>
            </a:xfrm>
            <a:custGeom>
              <a:avLst/>
              <a:gdLst/>
              <a:ahLst/>
              <a:rect l="l" t="t" r="r" b="b"/>
              <a:pathLst>
                <a:path w="158" h="80">
                  <a:moveTo>
                    <a:pt x="0" y="43"/>
                  </a:moveTo>
                  <a:lnTo>
                    <a:pt x="8" y="72"/>
                  </a:lnTo>
                  <a:lnTo>
                    <a:pt x="13" y="80"/>
                  </a:lnTo>
                  <a:lnTo>
                    <a:pt x="158" y="7"/>
                  </a:lnTo>
                  <a:lnTo>
                    <a:pt x="154" y="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2" y="58"/>
                  </a:lnTo>
                  <a:lnTo>
                    <a:pt x="8" y="7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4780080" y="2921040"/>
              <a:ext cx="52200" cy="19080"/>
            </a:xfrm>
            <a:custGeom>
              <a:avLst/>
              <a:gdLst/>
              <a:ahLst/>
              <a:rect l="l" t="t" r="r" b="b"/>
              <a:pathLst>
                <a:path w="163" h="56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1" y="56"/>
                  </a:lnTo>
                  <a:lnTo>
                    <a:pt x="163" y="42"/>
                  </a:lnTo>
                  <a:lnTo>
                    <a:pt x="163" y="37"/>
                  </a:lnTo>
                  <a:lnTo>
                    <a:pt x="163" y="33"/>
                  </a:lnTo>
                  <a:lnTo>
                    <a:pt x="163" y="29"/>
                  </a:lnTo>
                  <a:lnTo>
                    <a:pt x="163" y="23"/>
                  </a:lnTo>
                  <a:lnTo>
                    <a:pt x="163" y="18"/>
                  </a:lnTo>
                  <a:lnTo>
                    <a:pt x="163" y="13"/>
                  </a:lnTo>
                  <a:lnTo>
                    <a:pt x="163" y="7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4780080" y="2779560"/>
              <a:ext cx="99720" cy="141480"/>
            </a:xfrm>
            <a:custGeom>
              <a:avLst/>
              <a:gdLst/>
              <a:ahLst/>
              <a:rect l="l" t="t" r="r" b="b"/>
              <a:pathLst>
                <a:path w="312" h="447">
                  <a:moveTo>
                    <a:pt x="147" y="64"/>
                  </a:moveTo>
                  <a:lnTo>
                    <a:pt x="166" y="0"/>
                  </a:lnTo>
                  <a:lnTo>
                    <a:pt x="147" y="23"/>
                  </a:lnTo>
                  <a:lnTo>
                    <a:pt x="129" y="47"/>
                  </a:lnTo>
                  <a:lnTo>
                    <a:pt x="111" y="71"/>
                  </a:lnTo>
                  <a:lnTo>
                    <a:pt x="96" y="97"/>
                  </a:lnTo>
                  <a:lnTo>
                    <a:pt x="81" y="123"/>
                  </a:lnTo>
                  <a:lnTo>
                    <a:pt x="68" y="150"/>
                  </a:lnTo>
                  <a:lnTo>
                    <a:pt x="56" y="178"/>
                  </a:lnTo>
                  <a:lnTo>
                    <a:pt x="44" y="206"/>
                  </a:lnTo>
                  <a:lnTo>
                    <a:pt x="34" y="234"/>
                  </a:lnTo>
                  <a:lnTo>
                    <a:pt x="25" y="264"/>
                  </a:lnTo>
                  <a:lnTo>
                    <a:pt x="18" y="293"/>
                  </a:lnTo>
                  <a:lnTo>
                    <a:pt x="11" y="323"/>
                  </a:lnTo>
                  <a:lnTo>
                    <a:pt x="6" y="354"/>
                  </a:lnTo>
                  <a:lnTo>
                    <a:pt x="2" y="384"/>
                  </a:lnTo>
                  <a:lnTo>
                    <a:pt x="1" y="416"/>
                  </a:lnTo>
                  <a:lnTo>
                    <a:pt x="0" y="447"/>
                  </a:lnTo>
                  <a:lnTo>
                    <a:pt x="163" y="447"/>
                  </a:lnTo>
                  <a:lnTo>
                    <a:pt x="163" y="423"/>
                  </a:lnTo>
                  <a:lnTo>
                    <a:pt x="165" y="399"/>
                  </a:lnTo>
                  <a:lnTo>
                    <a:pt x="167" y="376"/>
                  </a:lnTo>
                  <a:lnTo>
                    <a:pt x="170" y="352"/>
                  </a:lnTo>
                  <a:lnTo>
                    <a:pt x="175" y="329"/>
                  </a:lnTo>
                  <a:lnTo>
                    <a:pt x="182" y="307"/>
                  </a:lnTo>
                  <a:lnTo>
                    <a:pt x="188" y="285"/>
                  </a:lnTo>
                  <a:lnTo>
                    <a:pt x="195" y="263"/>
                  </a:lnTo>
                  <a:lnTo>
                    <a:pt x="205" y="242"/>
                  </a:lnTo>
                  <a:lnTo>
                    <a:pt x="214" y="221"/>
                  </a:lnTo>
                  <a:lnTo>
                    <a:pt x="224" y="200"/>
                  </a:lnTo>
                  <a:lnTo>
                    <a:pt x="235" y="181"/>
                  </a:lnTo>
                  <a:lnTo>
                    <a:pt x="248" y="161"/>
                  </a:lnTo>
                  <a:lnTo>
                    <a:pt x="260" y="142"/>
                  </a:lnTo>
                  <a:lnTo>
                    <a:pt x="274" y="124"/>
                  </a:lnTo>
                  <a:lnTo>
                    <a:pt x="289" y="106"/>
                  </a:lnTo>
                  <a:lnTo>
                    <a:pt x="308" y="43"/>
                  </a:lnTo>
                  <a:lnTo>
                    <a:pt x="289" y="106"/>
                  </a:lnTo>
                  <a:lnTo>
                    <a:pt x="312" y="79"/>
                  </a:lnTo>
                  <a:lnTo>
                    <a:pt x="308" y="43"/>
                  </a:lnTo>
                  <a:lnTo>
                    <a:pt x="147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4826160" y="2771640"/>
              <a:ext cx="52200" cy="2880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28" y="0"/>
                  </a:moveTo>
                  <a:lnTo>
                    <a:pt x="0" y="76"/>
                  </a:lnTo>
                  <a:lnTo>
                    <a:pt x="2" y="87"/>
                  </a:lnTo>
                  <a:lnTo>
                    <a:pt x="163" y="66"/>
                  </a:lnTo>
                  <a:lnTo>
                    <a:pt x="162" y="56"/>
                  </a:lnTo>
                  <a:lnTo>
                    <a:pt x="128" y="0"/>
                  </a:lnTo>
                  <a:lnTo>
                    <a:pt x="162" y="56"/>
                  </a:lnTo>
                  <a:lnTo>
                    <a:pt x="158" y="2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4821120" y="2765520"/>
              <a:ext cx="46080" cy="4896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09"/>
                  </a:moveTo>
                  <a:lnTo>
                    <a:pt x="0" y="109"/>
                  </a:lnTo>
                  <a:lnTo>
                    <a:pt x="4" y="114"/>
                  </a:lnTo>
                  <a:lnTo>
                    <a:pt x="11" y="121"/>
                  </a:lnTo>
                  <a:lnTo>
                    <a:pt x="16" y="127"/>
                  </a:lnTo>
                  <a:lnTo>
                    <a:pt x="22" y="133"/>
                  </a:lnTo>
                  <a:lnTo>
                    <a:pt x="28" y="138"/>
                  </a:lnTo>
                  <a:lnTo>
                    <a:pt x="36" y="144"/>
                  </a:lnTo>
                  <a:lnTo>
                    <a:pt x="43" y="150"/>
                  </a:lnTo>
                  <a:lnTo>
                    <a:pt x="51" y="155"/>
                  </a:lnTo>
                  <a:lnTo>
                    <a:pt x="145" y="24"/>
                  </a:lnTo>
                  <a:lnTo>
                    <a:pt x="142" y="22"/>
                  </a:lnTo>
                  <a:lnTo>
                    <a:pt x="140" y="20"/>
                  </a:lnTo>
                  <a:lnTo>
                    <a:pt x="137" y="17"/>
                  </a:lnTo>
                  <a:lnTo>
                    <a:pt x="134" y="15"/>
                  </a:lnTo>
                  <a:lnTo>
                    <a:pt x="130" y="11"/>
                  </a:lnTo>
                  <a:lnTo>
                    <a:pt x="128" y="8"/>
                  </a:lnTo>
                  <a:lnTo>
                    <a:pt x="125" y="5"/>
                  </a:lnTo>
                  <a:lnTo>
                    <a:pt x="121" y="1"/>
                  </a:lnTo>
                  <a:lnTo>
                    <a:pt x="120" y="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4803840" y="2754360"/>
              <a:ext cx="55440" cy="44280"/>
            </a:xfrm>
            <a:custGeom>
              <a:avLst/>
              <a:gdLst/>
              <a:ahLst/>
              <a:rect l="l" t="t" r="r" b="b"/>
              <a:pathLst>
                <a:path w="173" h="141">
                  <a:moveTo>
                    <a:pt x="12" y="0"/>
                  </a:moveTo>
                  <a:lnTo>
                    <a:pt x="10" y="3"/>
                  </a:lnTo>
                  <a:lnTo>
                    <a:pt x="2" y="26"/>
                  </a:lnTo>
                  <a:lnTo>
                    <a:pt x="0" y="47"/>
                  </a:lnTo>
                  <a:lnTo>
                    <a:pt x="2" y="65"/>
                  </a:lnTo>
                  <a:lnTo>
                    <a:pt x="9" y="85"/>
                  </a:lnTo>
                  <a:lnTo>
                    <a:pt x="17" y="101"/>
                  </a:lnTo>
                  <a:lnTo>
                    <a:pt x="28" y="115"/>
                  </a:lnTo>
                  <a:lnTo>
                    <a:pt x="36" y="124"/>
                  </a:lnTo>
                  <a:lnTo>
                    <a:pt x="44" y="132"/>
                  </a:lnTo>
                  <a:lnTo>
                    <a:pt x="50" y="138"/>
                  </a:lnTo>
                  <a:lnTo>
                    <a:pt x="53" y="141"/>
                  </a:lnTo>
                  <a:lnTo>
                    <a:pt x="173" y="32"/>
                  </a:lnTo>
                  <a:lnTo>
                    <a:pt x="166" y="24"/>
                  </a:lnTo>
                  <a:lnTo>
                    <a:pt x="159" y="18"/>
                  </a:lnTo>
                  <a:lnTo>
                    <a:pt x="155" y="14"/>
                  </a:lnTo>
                  <a:lnTo>
                    <a:pt x="153" y="11"/>
                  </a:lnTo>
                  <a:lnTo>
                    <a:pt x="154" y="13"/>
                  </a:lnTo>
                  <a:lnTo>
                    <a:pt x="156" y="17"/>
                  </a:lnTo>
                  <a:lnTo>
                    <a:pt x="161" y="31"/>
                  </a:lnTo>
                  <a:lnTo>
                    <a:pt x="162" y="44"/>
                  </a:lnTo>
                  <a:lnTo>
                    <a:pt x="161" y="60"/>
                  </a:lnTo>
                  <a:lnTo>
                    <a:pt x="155" y="76"/>
                  </a:lnTo>
                  <a:lnTo>
                    <a:pt x="153" y="8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4808520" y="2736720"/>
              <a:ext cx="73080" cy="68400"/>
            </a:xfrm>
            <a:custGeom>
              <a:avLst/>
              <a:gdLst/>
              <a:ahLst/>
              <a:rect l="l" t="t" r="r" b="b"/>
              <a:pathLst>
                <a:path w="232" h="218">
                  <a:moveTo>
                    <a:pt x="181" y="55"/>
                  </a:moveTo>
                  <a:lnTo>
                    <a:pt x="232" y="75"/>
                  </a:lnTo>
                  <a:lnTo>
                    <a:pt x="214" y="59"/>
                  </a:lnTo>
                  <a:lnTo>
                    <a:pt x="196" y="44"/>
                  </a:lnTo>
                  <a:lnTo>
                    <a:pt x="176" y="29"/>
                  </a:lnTo>
                  <a:lnTo>
                    <a:pt x="155" y="15"/>
                  </a:lnTo>
                  <a:lnTo>
                    <a:pt x="137" y="8"/>
                  </a:lnTo>
                  <a:lnTo>
                    <a:pt x="119" y="2"/>
                  </a:lnTo>
                  <a:lnTo>
                    <a:pt x="98" y="0"/>
                  </a:lnTo>
                  <a:lnTo>
                    <a:pt x="73" y="2"/>
                  </a:lnTo>
                  <a:lnTo>
                    <a:pt x="48" y="11"/>
                  </a:lnTo>
                  <a:lnTo>
                    <a:pt x="27" y="25"/>
                  </a:lnTo>
                  <a:lnTo>
                    <a:pt x="11" y="42"/>
                  </a:lnTo>
                  <a:lnTo>
                    <a:pt x="0" y="58"/>
                  </a:lnTo>
                  <a:lnTo>
                    <a:pt x="141" y="138"/>
                  </a:lnTo>
                  <a:lnTo>
                    <a:pt x="139" y="141"/>
                  </a:lnTo>
                  <a:lnTo>
                    <a:pt x="131" y="149"/>
                  </a:lnTo>
                  <a:lnTo>
                    <a:pt x="121" y="155"/>
                  </a:lnTo>
                  <a:lnTo>
                    <a:pt x="107" y="160"/>
                  </a:lnTo>
                  <a:lnTo>
                    <a:pt x="94" y="162"/>
                  </a:lnTo>
                  <a:lnTo>
                    <a:pt x="84" y="160"/>
                  </a:lnTo>
                  <a:lnTo>
                    <a:pt x="80" y="159"/>
                  </a:lnTo>
                  <a:lnTo>
                    <a:pt x="75" y="157"/>
                  </a:lnTo>
                  <a:lnTo>
                    <a:pt x="83" y="162"/>
                  </a:lnTo>
                  <a:lnTo>
                    <a:pt x="95" y="171"/>
                  </a:lnTo>
                  <a:lnTo>
                    <a:pt x="109" y="183"/>
                  </a:lnTo>
                  <a:lnTo>
                    <a:pt x="128" y="199"/>
                  </a:lnTo>
                  <a:lnTo>
                    <a:pt x="181" y="218"/>
                  </a:lnTo>
                  <a:lnTo>
                    <a:pt x="128" y="199"/>
                  </a:lnTo>
                  <a:lnTo>
                    <a:pt x="151" y="218"/>
                  </a:lnTo>
                  <a:lnTo>
                    <a:pt x="181" y="218"/>
                  </a:lnTo>
                  <a:lnTo>
                    <a:pt x="181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4865760" y="2754360"/>
              <a:ext cx="20520" cy="50760"/>
            </a:xfrm>
            <a:custGeom>
              <a:avLst/>
              <a:gdLst/>
              <a:ahLst/>
              <a:rect l="l" t="t" r="r" b="b"/>
              <a:pathLst>
                <a:path w="66" h="163">
                  <a:moveTo>
                    <a:pt x="66" y="142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11" y="163"/>
                  </a:lnTo>
                  <a:lnTo>
                    <a:pt x="66" y="142"/>
                  </a:lnTo>
                  <a:lnTo>
                    <a:pt x="11" y="163"/>
                  </a:lnTo>
                  <a:lnTo>
                    <a:pt x="43" y="163"/>
                  </a:lnTo>
                  <a:lnTo>
                    <a:pt x="66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4927680" y="2838600"/>
              <a:ext cx="136440" cy="115560"/>
            </a:xfrm>
            <a:custGeom>
              <a:avLst/>
              <a:gdLst/>
              <a:ahLst/>
              <a:rect l="l" t="t" r="r" b="b"/>
              <a:pathLst>
                <a:path w="427" h="368">
                  <a:moveTo>
                    <a:pt x="226" y="0"/>
                  </a:moveTo>
                  <a:lnTo>
                    <a:pt x="0" y="364"/>
                  </a:lnTo>
                  <a:lnTo>
                    <a:pt x="427" y="36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4927680" y="2838600"/>
              <a:ext cx="136440" cy="115560"/>
            </a:xfrm>
            <a:custGeom>
              <a:avLst/>
              <a:gdLst/>
              <a:ahLst/>
              <a:rect l="l" t="t" r="r" b="b"/>
              <a:pathLst>
                <a:path w="427" h="368">
                  <a:moveTo>
                    <a:pt x="226" y="0"/>
                  </a:moveTo>
                  <a:lnTo>
                    <a:pt x="0" y="364"/>
                  </a:lnTo>
                  <a:lnTo>
                    <a:pt x="427" y="368"/>
                  </a:lnTo>
                  <a:lnTo>
                    <a:pt x="226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4998960" y="2838600"/>
              <a:ext cx="120600" cy="115560"/>
            </a:xfrm>
            <a:custGeom>
              <a:avLst/>
              <a:gdLst/>
              <a:ahLst/>
              <a:rect l="l" t="t" r="r" b="b"/>
              <a:pathLst>
                <a:path w="379" h="368">
                  <a:moveTo>
                    <a:pt x="0" y="0"/>
                  </a:moveTo>
                  <a:lnTo>
                    <a:pt x="379" y="53"/>
                  </a:lnTo>
                  <a:lnTo>
                    <a:pt x="201" y="3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4998960" y="2838600"/>
              <a:ext cx="120600" cy="115560"/>
            </a:xfrm>
            <a:custGeom>
              <a:avLst/>
              <a:gdLst/>
              <a:ahLst/>
              <a:rect l="l" t="t" r="r" b="b"/>
              <a:pathLst>
                <a:path w="379" h="368">
                  <a:moveTo>
                    <a:pt x="0" y="0"/>
                  </a:moveTo>
                  <a:lnTo>
                    <a:pt x="379" y="53"/>
                  </a:lnTo>
                  <a:lnTo>
                    <a:pt x="201" y="368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5064120" y="2854440"/>
              <a:ext cx="55440" cy="139680"/>
            </a:xfrm>
            <a:custGeom>
              <a:avLst/>
              <a:gdLst/>
              <a:ahLst/>
              <a:rect l="l" t="t" r="r" b="b"/>
              <a:pathLst>
                <a:path w="178" h="436">
                  <a:moveTo>
                    <a:pt x="178" y="0"/>
                  </a:moveTo>
                  <a:lnTo>
                    <a:pt x="164" y="436"/>
                  </a:lnTo>
                  <a:lnTo>
                    <a:pt x="0" y="315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5064120" y="2854440"/>
              <a:ext cx="55440" cy="139680"/>
            </a:xfrm>
            <a:custGeom>
              <a:avLst/>
              <a:gdLst/>
              <a:ahLst/>
              <a:rect l="l" t="t" r="r" b="b"/>
              <a:pathLst>
                <a:path w="178" h="436">
                  <a:moveTo>
                    <a:pt x="178" y="0"/>
                  </a:moveTo>
                  <a:lnTo>
                    <a:pt x="164" y="436"/>
                  </a:lnTo>
                  <a:lnTo>
                    <a:pt x="0" y="315"/>
                  </a:lnTo>
                  <a:lnTo>
                    <a:pt x="178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4998960" y="2778120"/>
              <a:ext cx="120600" cy="76320"/>
            </a:xfrm>
            <a:custGeom>
              <a:avLst/>
              <a:gdLst/>
              <a:ahLst/>
              <a:rect l="l" t="t" r="r" b="b"/>
              <a:pathLst>
                <a:path w="379" h="240">
                  <a:moveTo>
                    <a:pt x="8" y="0"/>
                  </a:moveTo>
                  <a:lnTo>
                    <a:pt x="379" y="240"/>
                  </a:lnTo>
                  <a:lnTo>
                    <a:pt x="0" y="18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4998960" y="2778120"/>
              <a:ext cx="120600" cy="76320"/>
            </a:xfrm>
            <a:custGeom>
              <a:avLst/>
              <a:gdLst/>
              <a:ahLst/>
              <a:rect l="l" t="t" r="r" b="b"/>
              <a:pathLst>
                <a:path w="379" h="240">
                  <a:moveTo>
                    <a:pt x="8" y="0"/>
                  </a:moveTo>
                  <a:lnTo>
                    <a:pt x="379" y="240"/>
                  </a:lnTo>
                  <a:lnTo>
                    <a:pt x="0" y="187"/>
                  </a:lnTo>
                  <a:lnTo>
                    <a:pt x="8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4879800" y="2778120"/>
              <a:ext cx="122400" cy="6660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0" y="208"/>
                  </a:moveTo>
                  <a:lnTo>
                    <a:pt x="384" y="0"/>
                  </a:lnTo>
                  <a:lnTo>
                    <a:pt x="376" y="187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4879800" y="2778120"/>
              <a:ext cx="122400" cy="6660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0" y="208"/>
                  </a:moveTo>
                  <a:lnTo>
                    <a:pt x="384" y="0"/>
                  </a:lnTo>
                  <a:lnTo>
                    <a:pt x="376" y="187"/>
                  </a:lnTo>
                  <a:lnTo>
                    <a:pt x="0" y="208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4879800" y="2838600"/>
              <a:ext cx="119160" cy="115560"/>
            </a:xfrm>
            <a:custGeom>
              <a:avLst/>
              <a:gdLst/>
              <a:ahLst/>
              <a:rect l="l" t="t" r="r" b="b"/>
              <a:pathLst>
                <a:path w="376" h="364">
                  <a:moveTo>
                    <a:pt x="150" y="364"/>
                  </a:moveTo>
                  <a:lnTo>
                    <a:pt x="0" y="21"/>
                  </a:lnTo>
                  <a:lnTo>
                    <a:pt x="376" y="0"/>
                  </a:lnTo>
                  <a:lnTo>
                    <a:pt x="150" y="364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4879800" y="2838600"/>
              <a:ext cx="119160" cy="115560"/>
            </a:xfrm>
            <a:custGeom>
              <a:avLst/>
              <a:gdLst/>
              <a:ahLst/>
              <a:rect l="l" t="t" r="r" b="b"/>
              <a:pathLst>
                <a:path w="376" h="364">
                  <a:moveTo>
                    <a:pt x="150" y="364"/>
                  </a:moveTo>
                  <a:lnTo>
                    <a:pt x="0" y="21"/>
                  </a:lnTo>
                  <a:lnTo>
                    <a:pt x="376" y="0"/>
                  </a:lnTo>
                  <a:lnTo>
                    <a:pt x="150" y="364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4876920" y="2844720"/>
              <a:ext cx="50760" cy="131760"/>
            </a:xfrm>
            <a:custGeom>
              <a:avLst/>
              <a:gdLst/>
              <a:ahLst/>
              <a:rect l="l" t="t" r="r" b="b"/>
              <a:pathLst>
                <a:path w="160" h="415">
                  <a:moveTo>
                    <a:pt x="0" y="415"/>
                  </a:moveTo>
                  <a:lnTo>
                    <a:pt x="10" y="0"/>
                  </a:lnTo>
                  <a:lnTo>
                    <a:pt x="160" y="343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4876920" y="2844720"/>
              <a:ext cx="50760" cy="131760"/>
            </a:xfrm>
            <a:custGeom>
              <a:avLst/>
              <a:gdLst/>
              <a:ahLst/>
              <a:rect l="l" t="t" r="r" b="b"/>
              <a:pathLst>
                <a:path w="160" h="415">
                  <a:moveTo>
                    <a:pt x="0" y="415"/>
                  </a:moveTo>
                  <a:lnTo>
                    <a:pt x="10" y="0"/>
                  </a:lnTo>
                  <a:lnTo>
                    <a:pt x="160" y="343"/>
                  </a:lnTo>
                  <a:lnTo>
                    <a:pt x="0" y="415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4927680" y="2954160"/>
              <a:ext cx="136440" cy="103320"/>
            </a:xfrm>
            <a:custGeom>
              <a:avLst/>
              <a:gdLst/>
              <a:ahLst/>
              <a:rect l="l" t="t" r="r" b="b"/>
              <a:pathLst>
                <a:path w="427" h="326">
                  <a:moveTo>
                    <a:pt x="208" y="326"/>
                  </a:moveTo>
                  <a:lnTo>
                    <a:pt x="0" y="0"/>
                  </a:lnTo>
                  <a:lnTo>
                    <a:pt x="427" y="4"/>
                  </a:lnTo>
                  <a:lnTo>
                    <a:pt x="208" y="326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4927680" y="2954160"/>
              <a:ext cx="136440" cy="103320"/>
            </a:xfrm>
            <a:custGeom>
              <a:avLst/>
              <a:gdLst/>
              <a:ahLst/>
              <a:rect l="l" t="t" r="r" b="b"/>
              <a:pathLst>
                <a:path w="427" h="326">
                  <a:moveTo>
                    <a:pt x="208" y="326"/>
                  </a:moveTo>
                  <a:lnTo>
                    <a:pt x="0" y="0"/>
                  </a:lnTo>
                  <a:lnTo>
                    <a:pt x="427" y="4"/>
                  </a:lnTo>
                  <a:lnTo>
                    <a:pt x="208" y="326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4994280" y="2954160"/>
              <a:ext cx="120600" cy="103320"/>
            </a:xfrm>
            <a:custGeom>
              <a:avLst/>
              <a:gdLst/>
              <a:ahLst/>
              <a:rect l="l" t="t" r="r" b="b"/>
              <a:pathLst>
                <a:path w="383" h="322">
                  <a:moveTo>
                    <a:pt x="383" y="121"/>
                  </a:moveTo>
                  <a:lnTo>
                    <a:pt x="0" y="322"/>
                  </a:lnTo>
                  <a:lnTo>
                    <a:pt x="219" y="0"/>
                  </a:lnTo>
                  <a:lnTo>
                    <a:pt x="383" y="121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4994280" y="2954160"/>
              <a:ext cx="120600" cy="103320"/>
            </a:xfrm>
            <a:custGeom>
              <a:avLst/>
              <a:gdLst/>
              <a:ahLst/>
              <a:rect l="l" t="t" r="r" b="b"/>
              <a:pathLst>
                <a:path w="383" h="322">
                  <a:moveTo>
                    <a:pt x="383" y="121"/>
                  </a:moveTo>
                  <a:lnTo>
                    <a:pt x="0" y="322"/>
                  </a:lnTo>
                  <a:lnTo>
                    <a:pt x="219" y="0"/>
                  </a:lnTo>
                  <a:lnTo>
                    <a:pt x="383" y="121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4876920" y="2954160"/>
              <a:ext cx="117360" cy="103320"/>
            </a:xfrm>
            <a:custGeom>
              <a:avLst/>
              <a:gdLst/>
              <a:ahLst/>
              <a:rect l="l" t="t" r="r" b="b"/>
              <a:pathLst>
                <a:path w="368" h="326">
                  <a:moveTo>
                    <a:pt x="0" y="72"/>
                  </a:moveTo>
                  <a:lnTo>
                    <a:pt x="160" y="0"/>
                  </a:lnTo>
                  <a:lnTo>
                    <a:pt x="368" y="32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4876920" y="2954160"/>
              <a:ext cx="117360" cy="103320"/>
            </a:xfrm>
            <a:custGeom>
              <a:avLst/>
              <a:gdLst/>
              <a:ahLst/>
              <a:rect l="l" t="t" r="r" b="b"/>
              <a:pathLst>
                <a:path w="368" h="326">
                  <a:moveTo>
                    <a:pt x="0" y="72"/>
                  </a:moveTo>
                  <a:lnTo>
                    <a:pt x="160" y="0"/>
                  </a:lnTo>
                  <a:lnTo>
                    <a:pt x="368" y="326"/>
                  </a:lnTo>
                  <a:lnTo>
                    <a:pt x="0" y="72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4775040" y="2706840"/>
              <a:ext cx="438480" cy="414360"/>
            </a:xfrm>
            <a:custGeom>
              <a:avLst/>
              <a:gdLst/>
              <a:ahLst/>
              <a:rect l="l" t="t" r="r" b="b"/>
              <a:pathLst>
                <a:path w="1381" h="1304">
                  <a:moveTo>
                    <a:pt x="296" y="228"/>
                  </a:moveTo>
                  <a:lnTo>
                    <a:pt x="309" y="217"/>
                  </a:lnTo>
                  <a:lnTo>
                    <a:pt x="323" y="206"/>
                  </a:lnTo>
                  <a:lnTo>
                    <a:pt x="335" y="196"/>
                  </a:lnTo>
                  <a:lnTo>
                    <a:pt x="350" y="185"/>
                  </a:lnTo>
                  <a:lnTo>
                    <a:pt x="364" y="176"/>
                  </a:lnTo>
                  <a:lnTo>
                    <a:pt x="377" y="166"/>
                  </a:lnTo>
                  <a:lnTo>
                    <a:pt x="392" y="157"/>
                  </a:lnTo>
                  <a:lnTo>
                    <a:pt x="407" y="148"/>
                  </a:lnTo>
                  <a:lnTo>
                    <a:pt x="418" y="142"/>
                  </a:lnTo>
                  <a:lnTo>
                    <a:pt x="415" y="136"/>
                  </a:lnTo>
                  <a:lnTo>
                    <a:pt x="413" y="130"/>
                  </a:lnTo>
                  <a:lnTo>
                    <a:pt x="410" y="124"/>
                  </a:lnTo>
                  <a:lnTo>
                    <a:pt x="408" y="118"/>
                  </a:lnTo>
                  <a:lnTo>
                    <a:pt x="406" y="113"/>
                  </a:lnTo>
                  <a:lnTo>
                    <a:pt x="404" y="106"/>
                  </a:lnTo>
                  <a:lnTo>
                    <a:pt x="401" y="99"/>
                  </a:lnTo>
                  <a:lnTo>
                    <a:pt x="398" y="93"/>
                  </a:lnTo>
                  <a:lnTo>
                    <a:pt x="396" y="85"/>
                  </a:lnTo>
                  <a:lnTo>
                    <a:pt x="394" y="77"/>
                  </a:lnTo>
                  <a:lnTo>
                    <a:pt x="392" y="68"/>
                  </a:lnTo>
                  <a:lnTo>
                    <a:pt x="391" y="60"/>
                  </a:lnTo>
                  <a:lnTo>
                    <a:pt x="391" y="52"/>
                  </a:lnTo>
                  <a:lnTo>
                    <a:pt x="392" y="45"/>
                  </a:lnTo>
                  <a:lnTo>
                    <a:pt x="393" y="42"/>
                  </a:lnTo>
                  <a:lnTo>
                    <a:pt x="395" y="40"/>
                  </a:lnTo>
                  <a:lnTo>
                    <a:pt x="397" y="38"/>
                  </a:lnTo>
                  <a:lnTo>
                    <a:pt x="399" y="36"/>
                  </a:lnTo>
                  <a:lnTo>
                    <a:pt x="407" y="34"/>
                  </a:lnTo>
                  <a:lnTo>
                    <a:pt x="412" y="33"/>
                  </a:lnTo>
                  <a:lnTo>
                    <a:pt x="418" y="33"/>
                  </a:lnTo>
                  <a:lnTo>
                    <a:pt x="422" y="34"/>
                  </a:lnTo>
                  <a:lnTo>
                    <a:pt x="428" y="36"/>
                  </a:lnTo>
                  <a:lnTo>
                    <a:pt x="432" y="39"/>
                  </a:lnTo>
                  <a:lnTo>
                    <a:pt x="435" y="43"/>
                  </a:lnTo>
                  <a:lnTo>
                    <a:pt x="439" y="49"/>
                  </a:lnTo>
                  <a:lnTo>
                    <a:pt x="447" y="62"/>
                  </a:lnTo>
                  <a:lnTo>
                    <a:pt x="454" y="78"/>
                  </a:lnTo>
                  <a:lnTo>
                    <a:pt x="463" y="97"/>
                  </a:lnTo>
                  <a:lnTo>
                    <a:pt x="474" y="118"/>
                  </a:lnTo>
                  <a:lnTo>
                    <a:pt x="491" y="109"/>
                  </a:lnTo>
                  <a:lnTo>
                    <a:pt x="516" y="101"/>
                  </a:lnTo>
                  <a:lnTo>
                    <a:pt x="541" y="94"/>
                  </a:lnTo>
                  <a:lnTo>
                    <a:pt x="567" y="87"/>
                  </a:lnTo>
                  <a:lnTo>
                    <a:pt x="594" y="82"/>
                  </a:lnTo>
                  <a:lnTo>
                    <a:pt x="620" y="78"/>
                  </a:lnTo>
                  <a:lnTo>
                    <a:pt x="647" y="75"/>
                  </a:lnTo>
                  <a:lnTo>
                    <a:pt x="674" y="73"/>
                  </a:lnTo>
                  <a:lnTo>
                    <a:pt x="702" y="73"/>
                  </a:lnTo>
                  <a:lnTo>
                    <a:pt x="721" y="73"/>
                  </a:lnTo>
                  <a:lnTo>
                    <a:pt x="741" y="74"/>
                  </a:lnTo>
                  <a:lnTo>
                    <a:pt x="760" y="75"/>
                  </a:lnTo>
                  <a:lnTo>
                    <a:pt x="779" y="77"/>
                  </a:lnTo>
                  <a:lnTo>
                    <a:pt x="799" y="80"/>
                  </a:lnTo>
                  <a:lnTo>
                    <a:pt x="818" y="83"/>
                  </a:lnTo>
                  <a:lnTo>
                    <a:pt x="835" y="87"/>
                  </a:lnTo>
                  <a:lnTo>
                    <a:pt x="854" y="92"/>
                  </a:lnTo>
                  <a:lnTo>
                    <a:pt x="860" y="95"/>
                  </a:lnTo>
                  <a:lnTo>
                    <a:pt x="862" y="88"/>
                  </a:lnTo>
                  <a:lnTo>
                    <a:pt x="864" y="82"/>
                  </a:lnTo>
                  <a:lnTo>
                    <a:pt x="865" y="77"/>
                  </a:lnTo>
                  <a:lnTo>
                    <a:pt x="867" y="72"/>
                  </a:lnTo>
                  <a:lnTo>
                    <a:pt x="869" y="66"/>
                  </a:lnTo>
                  <a:lnTo>
                    <a:pt x="871" y="60"/>
                  </a:lnTo>
                  <a:lnTo>
                    <a:pt x="873" y="54"/>
                  </a:lnTo>
                  <a:lnTo>
                    <a:pt x="874" y="46"/>
                  </a:lnTo>
                  <a:lnTo>
                    <a:pt x="877" y="39"/>
                  </a:lnTo>
                  <a:lnTo>
                    <a:pt x="881" y="32"/>
                  </a:lnTo>
                  <a:lnTo>
                    <a:pt x="884" y="23"/>
                  </a:lnTo>
                  <a:lnTo>
                    <a:pt x="888" y="15"/>
                  </a:lnTo>
                  <a:lnTo>
                    <a:pt x="892" y="9"/>
                  </a:lnTo>
                  <a:lnTo>
                    <a:pt x="897" y="3"/>
                  </a:lnTo>
                  <a:lnTo>
                    <a:pt x="901" y="1"/>
                  </a:lnTo>
                  <a:lnTo>
                    <a:pt x="903" y="0"/>
                  </a:lnTo>
                  <a:lnTo>
                    <a:pt x="906" y="0"/>
                  </a:lnTo>
                  <a:lnTo>
                    <a:pt x="908" y="0"/>
                  </a:lnTo>
                  <a:lnTo>
                    <a:pt x="916" y="1"/>
                  </a:lnTo>
                  <a:lnTo>
                    <a:pt x="923" y="3"/>
                  </a:lnTo>
                  <a:lnTo>
                    <a:pt x="928" y="7"/>
                  </a:lnTo>
                  <a:lnTo>
                    <a:pt x="932" y="11"/>
                  </a:lnTo>
                  <a:lnTo>
                    <a:pt x="934" y="16"/>
                  </a:lnTo>
                  <a:lnTo>
                    <a:pt x="936" y="21"/>
                  </a:lnTo>
                  <a:lnTo>
                    <a:pt x="937" y="28"/>
                  </a:lnTo>
                  <a:lnTo>
                    <a:pt x="937" y="34"/>
                  </a:lnTo>
                  <a:lnTo>
                    <a:pt x="935" y="50"/>
                  </a:lnTo>
                  <a:lnTo>
                    <a:pt x="931" y="68"/>
                  </a:lnTo>
                  <a:lnTo>
                    <a:pt x="925" y="88"/>
                  </a:lnTo>
                  <a:lnTo>
                    <a:pt x="917" y="112"/>
                  </a:lnTo>
                  <a:lnTo>
                    <a:pt x="927" y="116"/>
                  </a:lnTo>
                  <a:lnTo>
                    <a:pt x="957" y="128"/>
                  </a:lnTo>
                  <a:lnTo>
                    <a:pt x="988" y="144"/>
                  </a:lnTo>
                  <a:lnTo>
                    <a:pt x="1016" y="161"/>
                  </a:lnTo>
                  <a:lnTo>
                    <a:pt x="1044" y="179"/>
                  </a:lnTo>
                  <a:lnTo>
                    <a:pt x="1071" y="198"/>
                  </a:lnTo>
                  <a:lnTo>
                    <a:pt x="1097" y="219"/>
                  </a:lnTo>
                  <a:lnTo>
                    <a:pt x="1121" y="242"/>
                  </a:lnTo>
                  <a:lnTo>
                    <a:pt x="1144" y="265"/>
                  </a:lnTo>
                  <a:lnTo>
                    <a:pt x="1166" y="290"/>
                  </a:lnTo>
                  <a:lnTo>
                    <a:pt x="1187" y="316"/>
                  </a:lnTo>
                  <a:lnTo>
                    <a:pt x="1206" y="344"/>
                  </a:lnTo>
                  <a:lnTo>
                    <a:pt x="1224" y="371"/>
                  </a:lnTo>
                  <a:lnTo>
                    <a:pt x="1240" y="400"/>
                  </a:lnTo>
                  <a:lnTo>
                    <a:pt x="1255" y="431"/>
                  </a:lnTo>
                  <a:lnTo>
                    <a:pt x="1267" y="461"/>
                  </a:lnTo>
                  <a:lnTo>
                    <a:pt x="1279" y="494"/>
                  </a:lnTo>
                  <a:lnTo>
                    <a:pt x="1281" y="503"/>
                  </a:lnTo>
                  <a:lnTo>
                    <a:pt x="1287" y="501"/>
                  </a:lnTo>
                  <a:lnTo>
                    <a:pt x="1293" y="499"/>
                  </a:lnTo>
                  <a:lnTo>
                    <a:pt x="1300" y="498"/>
                  </a:lnTo>
                  <a:lnTo>
                    <a:pt x="1306" y="497"/>
                  </a:lnTo>
                  <a:lnTo>
                    <a:pt x="1312" y="496"/>
                  </a:lnTo>
                  <a:lnTo>
                    <a:pt x="1320" y="496"/>
                  </a:lnTo>
                  <a:lnTo>
                    <a:pt x="1326" y="495"/>
                  </a:lnTo>
                  <a:lnTo>
                    <a:pt x="1333" y="495"/>
                  </a:lnTo>
                  <a:lnTo>
                    <a:pt x="1341" y="494"/>
                  </a:lnTo>
                  <a:lnTo>
                    <a:pt x="1348" y="493"/>
                  </a:lnTo>
                  <a:lnTo>
                    <a:pt x="1355" y="493"/>
                  </a:lnTo>
                  <a:lnTo>
                    <a:pt x="1363" y="492"/>
                  </a:lnTo>
                  <a:lnTo>
                    <a:pt x="1368" y="493"/>
                  </a:lnTo>
                  <a:lnTo>
                    <a:pt x="1373" y="494"/>
                  </a:lnTo>
                  <a:lnTo>
                    <a:pt x="1376" y="497"/>
                  </a:lnTo>
                  <a:lnTo>
                    <a:pt x="1380" y="501"/>
                  </a:lnTo>
                  <a:lnTo>
                    <a:pt x="1381" y="508"/>
                  </a:lnTo>
                  <a:lnTo>
                    <a:pt x="1381" y="515"/>
                  </a:lnTo>
                  <a:lnTo>
                    <a:pt x="1381" y="520"/>
                  </a:lnTo>
                  <a:lnTo>
                    <a:pt x="1380" y="525"/>
                  </a:lnTo>
                  <a:lnTo>
                    <a:pt x="1378" y="529"/>
                  </a:lnTo>
                  <a:lnTo>
                    <a:pt x="1374" y="534"/>
                  </a:lnTo>
                  <a:lnTo>
                    <a:pt x="1371" y="537"/>
                  </a:lnTo>
                  <a:lnTo>
                    <a:pt x="1367" y="540"/>
                  </a:lnTo>
                  <a:lnTo>
                    <a:pt x="1354" y="545"/>
                  </a:lnTo>
                  <a:lnTo>
                    <a:pt x="1340" y="549"/>
                  </a:lnTo>
                  <a:lnTo>
                    <a:pt x="1321" y="555"/>
                  </a:lnTo>
                  <a:lnTo>
                    <a:pt x="1299" y="560"/>
                  </a:lnTo>
                  <a:lnTo>
                    <a:pt x="1298" y="571"/>
                  </a:lnTo>
                  <a:lnTo>
                    <a:pt x="1300" y="584"/>
                  </a:lnTo>
                  <a:lnTo>
                    <a:pt x="1302" y="597"/>
                  </a:lnTo>
                  <a:lnTo>
                    <a:pt x="1303" y="610"/>
                  </a:lnTo>
                  <a:lnTo>
                    <a:pt x="1305" y="623"/>
                  </a:lnTo>
                  <a:lnTo>
                    <a:pt x="1305" y="637"/>
                  </a:lnTo>
                  <a:lnTo>
                    <a:pt x="1306" y="649"/>
                  </a:lnTo>
                  <a:lnTo>
                    <a:pt x="1306" y="663"/>
                  </a:lnTo>
                  <a:lnTo>
                    <a:pt x="1307" y="675"/>
                  </a:lnTo>
                  <a:lnTo>
                    <a:pt x="1306" y="695"/>
                  </a:lnTo>
                  <a:lnTo>
                    <a:pt x="1305" y="715"/>
                  </a:lnTo>
                  <a:lnTo>
                    <a:pt x="1304" y="735"/>
                  </a:lnTo>
                  <a:lnTo>
                    <a:pt x="1302" y="754"/>
                  </a:lnTo>
                  <a:lnTo>
                    <a:pt x="1299" y="774"/>
                  </a:lnTo>
                  <a:lnTo>
                    <a:pt x="1296" y="793"/>
                  </a:lnTo>
                  <a:lnTo>
                    <a:pt x="1291" y="812"/>
                  </a:lnTo>
                  <a:lnTo>
                    <a:pt x="1286" y="830"/>
                  </a:lnTo>
                  <a:lnTo>
                    <a:pt x="1281" y="849"/>
                  </a:lnTo>
                  <a:lnTo>
                    <a:pt x="1276" y="866"/>
                  </a:lnTo>
                  <a:lnTo>
                    <a:pt x="1269" y="884"/>
                  </a:lnTo>
                  <a:lnTo>
                    <a:pt x="1263" y="902"/>
                  </a:lnTo>
                  <a:lnTo>
                    <a:pt x="1256" y="919"/>
                  </a:lnTo>
                  <a:lnTo>
                    <a:pt x="1247" y="936"/>
                  </a:lnTo>
                  <a:lnTo>
                    <a:pt x="1239" y="953"/>
                  </a:lnTo>
                  <a:lnTo>
                    <a:pt x="1230" y="969"/>
                  </a:lnTo>
                  <a:lnTo>
                    <a:pt x="1221" y="984"/>
                  </a:lnTo>
                  <a:lnTo>
                    <a:pt x="1227" y="986"/>
                  </a:lnTo>
                  <a:lnTo>
                    <a:pt x="1233" y="989"/>
                  </a:lnTo>
                  <a:lnTo>
                    <a:pt x="1239" y="992"/>
                  </a:lnTo>
                  <a:lnTo>
                    <a:pt x="1244" y="996"/>
                  </a:lnTo>
                  <a:lnTo>
                    <a:pt x="1249" y="999"/>
                  </a:lnTo>
                  <a:lnTo>
                    <a:pt x="1255" y="1003"/>
                  </a:lnTo>
                  <a:lnTo>
                    <a:pt x="1261" y="1007"/>
                  </a:lnTo>
                  <a:lnTo>
                    <a:pt x="1268" y="1011"/>
                  </a:lnTo>
                  <a:lnTo>
                    <a:pt x="1275" y="1015"/>
                  </a:lnTo>
                  <a:lnTo>
                    <a:pt x="1281" y="1019"/>
                  </a:lnTo>
                  <a:lnTo>
                    <a:pt x="1287" y="1024"/>
                  </a:lnTo>
                  <a:lnTo>
                    <a:pt x="1291" y="1028"/>
                  </a:lnTo>
                  <a:lnTo>
                    <a:pt x="1296" y="1032"/>
                  </a:lnTo>
                  <a:lnTo>
                    <a:pt x="1298" y="1038"/>
                  </a:lnTo>
                  <a:lnTo>
                    <a:pt x="1299" y="1042"/>
                  </a:lnTo>
                  <a:lnTo>
                    <a:pt x="1298" y="1047"/>
                  </a:lnTo>
                  <a:lnTo>
                    <a:pt x="1293" y="1054"/>
                  </a:lnTo>
                  <a:lnTo>
                    <a:pt x="1290" y="1060"/>
                  </a:lnTo>
                  <a:lnTo>
                    <a:pt x="1286" y="1064"/>
                  </a:lnTo>
                  <a:lnTo>
                    <a:pt x="1282" y="1066"/>
                  </a:lnTo>
                  <a:lnTo>
                    <a:pt x="1277" y="1068"/>
                  </a:lnTo>
                  <a:lnTo>
                    <a:pt x="1272" y="1068"/>
                  </a:lnTo>
                  <a:lnTo>
                    <a:pt x="1267" y="1068"/>
                  </a:lnTo>
                  <a:lnTo>
                    <a:pt x="1261" y="1067"/>
                  </a:lnTo>
                  <a:lnTo>
                    <a:pt x="1248" y="1062"/>
                  </a:lnTo>
                  <a:lnTo>
                    <a:pt x="1233" y="1055"/>
                  </a:lnTo>
                  <a:lnTo>
                    <a:pt x="1214" y="1046"/>
                  </a:lnTo>
                  <a:lnTo>
                    <a:pt x="1193" y="1037"/>
                  </a:lnTo>
                  <a:lnTo>
                    <a:pt x="1187" y="1037"/>
                  </a:lnTo>
                  <a:lnTo>
                    <a:pt x="1171" y="1059"/>
                  </a:lnTo>
                  <a:lnTo>
                    <a:pt x="1152" y="1080"/>
                  </a:lnTo>
                  <a:lnTo>
                    <a:pt x="1133" y="1101"/>
                  </a:lnTo>
                  <a:lnTo>
                    <a:pt x="1113" y="1120"/>
                  </a:lnTo>
                  <a:lnTo>
                    <a:pt x="1092" y="1138"/>
                  </a:lnTo>
                  <a:lnTo>
                    <a:pt x="1070" y="1155"/>
                  </a:lnTo>
                  <a:lnTo>
                    <a:pt x="1047" y="1172"/>
                  </a:lnTo>
                  <a:lnTo>
                    <a:pt x="1023" y="1188"/>
                  </a:lnTo>
                  <a:lnTo>
                    <a:pt x="1009" y="1196"/>
                  </a:lnTo>
                  <a:lnTo>
                    <a:pt x="1012" y="1201"/>
                  </a:lnTo>
                  <a:lnTo>
                    <a:pt x="1015" y="1208"/>
                  </a:lnTo>
                  <a:lnTo>
                    <a:pt x="1017" y="1214"/>
                  </a:lnTo>
                  <a:lnTo>
                    <a:pt x="1020" y="1219"/>
                  </a:lnTo>
                  <a:lnTo>
                    <a:pt x="1023" y="1226"/>
                  </a:lnTo>
                  <a:lnTo>
                    <a:pt x="1027" y="1231"/>
                  </a:lnTo>
                  <a:lnTo>
                    <a:pt x="1030" y="1237"/>
                  </a:lnTo>
                  <a:lnTo>
                    <a:pt x="1033" y="1242"/>
                  </a:lnTo>
                  <a:lnTo>
                    <a:pt x="1037" y="1250"/>
                  </a:lnTo>
                  <a:lnTo>
                    <a:pt x="1042" y="1257"/>
                  </a:lnTo>
                  <a:lnTo>
                    <a:pt x="1047" y="1263"/>
                  </a:lnTo>
                  <a:lnTo>
                    <a:pt x="1051" y="1271"/>
                  </a:lnTo>
                  <a:lnTo>
                    <a:pt x="1053" y="1278"/>
                  </a:lnTo>
                  <a:lnTo>
                    <a:pt x="1055" y="1283"/>
                  </a:lnTo>
                  <a:lnTo>
                    <a:pt x="1055" y="1286"/>
                  </a:lnTo>
                  <a:lnTo>
                    <a:pt x="1055" y="1290"/>
                  </a:lnTo>
                  <a:lnTo>
                    <a:pt x="1054" y="1292"/>
                  </a:lnTo>
                  <a:lnTo>
                    <a:pt x="1052" y="1294"/>
                  </a:lnTo>
                  <a:lnTo>
                    <a:pt x="1046" y="1299"/>
                  </a:lnTo>
                  <a:lnTo>
                    <a:pt x="1039" y="1302"/>
                  </a:lnTo>
                  <a:lnTo>
                    <a:pt x="1034" y="1304"/>
                  </a:lnTo>
                  <a:lnTo>
                    <a:pt x="1028" y="1304"/>
                  </a:lnTo>
                  <a:lnTo>
                    <a:pt x="1022" y="1303"/>
                  </a:lnTo>
                  <a:lnTo>
                    <a:pt x="1017" y="1301"/>
                  </a:lnTo>
                  <a:lnTo>
                    <a:pt x="1011" y="1297"/>
                  </a:lnTo>
                  <a:lnTo>
                    <a:pt x="1006" y="1293"/>
                  </a:lnTo>
                  <a:lnTo>
                    <a:pt x="994" y="1280"/>
                  </a:lnTo>
                  <a:lnTo>
                    <a:pt x="982" y="1263"/>
                  </a:lnTo>
                  <a:lnTo>
                    <a:pt x="970" y="1246"/>
                  </a:lnTo>
                  <a:lnTo>
                    <a:pt x="956" y="1226"/>
                  </a:lnTo>
                  <a:lnTo>
                    <a:pt x="944" y="1231"/>
                  </a:lnTo>
                  <a:lnTo>
                    <a:pt x="915" y="1242"/>
                  </a:lnTo>
                  <a:lnTo>
                    <a:pt x="886" y="1252"/>
                  </a:lnTo>
                  <a:lnTo>
                    <a:pt x="856" y="1260"/>
                  </a:lnTo>
                  <a:lnTo>
                    <a:pt x="827" y="1268"/>
                  </a:lnTo>
                  <a:lnTo>
                    <a:pt x="797" y="1273"/>
                  </a:lnTo>
                  <a:lnTo>
                    <a:pt x="765" y="1277"/>
                  </a:lnTo>
                  <a:lnTo>
                    <a:pt x="733" y="1279"/>
                  </a:lnTo>
                  <a:lnTo>
                    <a:pt x="702" y="1280"/>
                  </a:lnTo>
                  <a:lnTo>
                    <a:pt x="683" y="1280"/>
                  </a:lnTo>
                  <a:lnTo>
                    <a:pt x="664" y="1279"/>
                  </a:lnTo>
                  <a:lnTo>
                    <a:pt x="646" y="1278"/>
                  </a:lnTo>
                  <a:lnTo>
                    <a:pt x="628" y="1276"/>
                  </a:lnTo>
                  <a:lnTo>
                    <a:pt x="609" y="1274"/>
                  </a:lnTo>
                  <a:lnTo>
                    <a:pt x="592" y="1271"/>
                  </a:lnTo>
                  <a:lnTo>
                    <a:pt x="574" y="1268"/>
                  </a:lnTo>
                  <a:lnTo>
                    <a:pt x="557" y="1263"/>
                  </a:lnTo>
                  <a:lnTo>
                    <a:pt x="539" y="1258"/>
                  </a:lnTo>
                  <a:lnTo>
                    <a:pt x="522" y="1254"/>
                  </a:lnTo>
                  <a:lnTo>
                    <a:pt x="505" y="1248"/>
                  </a:lnTo>
                  <a:lnTo>
                    <a:pt x="489" y="1242"/>
                  </a:lnTo>
                  <a:lnTo>
                    <a:pt x="472" y="1235"/>
                  </a:lnTo>
                  <a:lnTo>
                    <a:pt x="456" y="1229"/>
                  </a:lnTo>
                  <a:lnTo>
                    <a:pt x="439" y="1221"/>
                  </a:lnTo>
                  <a:lnTo>
                    <a:pt x="424" y="1213"/>
                  </a:lnTo>
                  <a:lnTo>
                    <a:pt x="412" y="1207"/>
                  </a:lnTo>
                  <a:lnTo>
                    <a:pt x="409" y="1213"/>
                  </a:lnTo>
                  <a:lnTo>
                    <a:pt x="406" y="1219"/>
                  </a:lnTo>
                  <a:lnTo>
                    <a:pt x="404" y="1225"/>
                  </a:lnTo>
                  <a:lnTo>
                    <a:pt x="400" y="1231"/>
                  </a:lnTo>
                  <a:lnTo>
                    <a:pt x="398" y="1236"/>
                  </a:lnTo>
                  <a:lnTo>
                    <a:pt x="395" y="1242"/>
                  </a:lnTo>
                  <a:lnTo>
                    <a:pt x="392" y="1248"/>
                  </a:lnTo>
                  <a:lnTo>
                    <a:pt x="388" y="1254"/>
                  </a:lnTo>
                  <a:lnTo>
                    <a:pt x="383" y="1262"/>
                  </a:lnTo>
                  <a:lnTo>
                    <a:pt x="376" y="1270"/>
                  </a:lnTo>
                  <a:lnTo>
                    <a:pt x="371" y="1276"/>
                  </a:lnTo>
                  <a:lnTo>
                    <a:pt x="366" y="1281"/>
                  </a:lnTo>
                  <a:lnTo>
                    <a:pt x="360" y="1286"/>
                  </a:lnTo>
                  <a:lnTo>
                    <a:pt x="354" y="1289"/>
                  </a:lnTo>
                  <a:lnTo>
                    <a:pt x="349" y="1291"/>
                  </a:lnTo>
                  <a:lnTo>
                    <a:pt x="344" y="1290"/>
                  </a:lnTo>
                  <a:lnTo>
                    <a:pt x="336" y="1286"/>
                  </a:lnTo>
                  <a:lnTo>
                    <a:pt x="330" y="1282"/>
                  </a:lnTo>
                  <a:lnTo>
                    <a:pt x="326" y="1278"/>
                  </a:lnTo>
                  <a:lnTo>
                    <a:pt x="323" y="1273"/>
                  </a:lnTo>
                  <a:lnTo>
                    <a:pt x="322" y="1268"/>
                  </a:lnTo>
                  <a:lnTo>
                    <a:pt x="321" y="1261"/>
                  </a:lnTo>
                  <a:lnTo>
                    <a:pt x="322" y="1255"/>
                  </a:lnTo>
                  <a:lnTo>
                    <a:pt x="324" y="1248"/>
                  </a:lnTo>
                  <a:lnTo>
                    <a:pt x="330" y="1232"/>
                  </a:lnTo>
                  <a:lnTo>
                    <a:pt x="338" y="1215"/>
                  </a:lnTo>
                  <a:lnTo>
                    <a:pt x="350" y="1195"/>
                  </a:lnTo>
                  <a:lnTo>
                    <a:pt x="363" y="1174"/>
                  </a:lnTo>
                  <a:lnTo>
                    <a:pt x="353" y="1169"/>
                  </a:lnTo>
                  <a:lnTo>
                    <a:pt x="330" y="1153"/>
                  </a:lnTo>
                  <a:lnTo>
                    <a:pt x="309" y="1135"/>
                  </a:lnTo>
                  <a:lnTo>
                    <a:pt x="288" y="1117"/>
                  </a:lnTo>
                  <a:lnTo>
                    <a:pt x="269" y="1097"/>
                  </a:lnTo>
                  <a:lnTo>
                    <a:pt x="250" y="1078"/>
                  </a:lnTo>
                  <a:lnTo>
                    <a:pt x="232" y="1057"/>
                  </a:lnTo>
                  <a:lnTo>
                    <a:pt x="214" y="1034"/>
                  </a:lnTo>
                  <a:lnTo>
                    <a:pt x="199" y="1011"/>
                  </a:lnTo>
                  <a:lnTo>
                    <a:pt x="184" y="988"/>
                  </a:lnTo>
                  <a:lnTo>
                    <a:pt x="170" y="963"/>
                  </a:lnTo>
                  <a:lnTo>
                    <a:pt x="158" y="939"/>
                  </a:lnTo>
                  <a:lnTo>
                    <a:pt x="146" y="913"/>
                  </a:lnTo>
                  <a:lnTo>
                    <a:pt x="136" y="886"/>
                  </a:lnTo>
                  <a:lnTo>
                    <a:pt x="126" y="860"/>
                  </a:lnTo>
                  <a:lnTo>
                    <a:pt x="118" y="833"/>
                  </a:lnTo>
                  <a:lnTo>
                    <a:pt x="111" y="805"/>
                  </a:lnTo>
                  <a:lnTo>
                    <a:pt x="106" y="790"/>
                  </a:lnTo>
                  <a:lnTo>
                    <a:pt x="99" y="792"/>
                  </a:lnTo>
                  <a:lnTo>
                    <a:pt x="94" y="793"/>
                  </a:lnTo>
                  <a:lnTo>
                    <a:pt x="88" y="795"/>
                  </a:lnTo>
                  <a:lnTo>
                    <a:pt x="83" y="796"/>
                  </a:lnTo>
                  <a:lnTo>
                    <a:pt x="78" y="797"/>
                  </a:lnTo>
                  <a:lnTo>
                    <a:pt x="73" y="798"/>
                  </a:lnTo>
                  <a:lnTo>
                    <a:pt x="67" y="799"/>
                  </a:lnTo>
                  <a:lnTo>
                    <a:pt x="60" y="800"/>
                  </a:lnTo>
                  <a:lnTo>
                    <a:pt x="53" y="801"/>
                  </a:lnTo>
                  <a:lnTo>
                    <a:pt x="44" y="801"/>
                  </a:lnTo>
                  <a:lnTo>
                    <a:pt x="35" y="802"/>
                  </a:lnTo>
                  <a:lnTo>
                    <a:pt x="26" y="801"/>
                  </a:lnTo>
                  <a:lnTo>
                    <a:pt x="19" y="801"/>
                  </a:lnTo>
                  <a:lnTo>
                    <a:pt x="12" y="799"/>
                  </a:lnTo>
                  <a:lnTo>
                    <a:pt x="9" y="797"/>
                  </a:lnTo>
                  <a:lnTo>
                    <a:pt x="6" y="796"/>
                  </a:lnTo>
                  <a:lnTo>
                    <a:pt x="4" y="794"/>
                  </a:lnTo>
                  <a:lnTo>
                    <a:pt x="2" y="791"/>
                  </a:lnTo>
                  <a:lnTo>
                    <a:pt x="0" y="784"/>
                  </a:lnTo>
                  <a:lnTo>
                    <a:pt x="0" y="777"/>
                  </a:lnTo>
                  <a:lnTo>
                    <a:pt x="0" y="771"/>
                  </a:lnTo>
                  <a:lnTo>
                    <a:pt x="2" y="766"/>
                  </a:lnTo>
                  <a:lnTo>
                    <a:pt x="5" y="760"/>
                  </a:lnTo>
                  <a:lnTo>
                    <a:pt x="10" y="756"/>
                  </a:lnTo>
                  <a:lnTo>
                    <a:pt x="16" y="753"/>
                  </a:lnTo>
                  <a:lnTo>
                    <a:pt x="22" y="750"/>
                  </a:lnTo>
                  <a:lnTo>
                    <a:pt x="38" y="745"/>
                  </a:lnTo>
                  <a:lnTo>
                    <a:pt x="58" y="740"/>
                  </a:lnTo>
                  <a:lnTo>
                    <a:pt x="79" y="736"/>
                  </a:lnTo>
                  <a:lnTo>
                    <a:pt x="103" y="732"/>
                  </a:lnTo>
                  <a:lnTo>
                    <a:pt x="99" y="724"/>
                  </a:lnTo>
                  <a:lnTo>
                    <a:pt x="99" y="718"/>
                  </a:lnTo>
                  <a:lnTo>
                    <a:pt x="99" y="712"/>
                  </a:lnTo>
                  <a:lnTo>
                    <a:pt x="98" y="706"/>
                  </a:lnTo>
                  <a:lnTo>
                    <a:pt x="98" y="700"/>
                  </a:lnTo>
                  <a:lnTo>
                    <a:pt x="98" y="694"/>
                  </a:lnTo>
                  <a:lnTo>
                    <a:pt x="98" y="688"/>
                  </a:lnTo>
                  <a:lnTo>
                    <a:pt x="98" y="682"/>
                  </a:lnTo>
                  <a:lnTo>
                    <a:pt x="98" y="675"/>
                  </a:lnTo>
                  <a:lnTo>
                    <a:pt x="99" y="648"/>
                  </a:lnTo>
                  <a:lnTo>
                    <a:pt x="101" y="620"/>
                  </a:lnTo>
                  <a:lnTo>
                    <a:pt x="103" y="592"/>
                  </a:lnTo>
                  <a:lnTo>
                    <a:pt x="108" y="566"/>
                  </a:lnTo>
                  <a:lnTo>
                    <a:pt x="114" y="539"/>
                  </a:lnTo>
                  <a:lnTo>
                    <a:pt x="120" y="513"/>
                  </a:lnTo>
                  <a:lnTo>
                    <a:pt x="128" y="487"/>
                  </a:lnTo>
                  <a:lnTo>
                    <a:pt x="137" y="462"/>
                  </a:lnTo>
                  <a:lnTo>
                    <a:pt x="147" y="437"/>
                  </a:lnTo>
                  <a:lnTo>
                    <a:pt x="158" y="413"/>
                  </a:lnTo>
                  <a:lnTo>
                    <a:pt x="169" y="390"/>
                  </a:lnTo>
                  <a:lnTo>
                    <a:pt x="183" y="367"/>
                  </a:lnTo>
                  <a:lnTo>
                    <a:pt x="197" y="345"/>
                  </a:lnTo>
                  <a:lnTo>
                    <a:pt x="211" y="323"/>
                  </a:lnTo>
                  <a:lnTo>
                    <a:pt x="227" y="302"/>
                  </a:lnTo>
                  <a:lnTo>
                    <a:pt x="244" y="282"/>
                  </a:lnTo>
                  <a:lnTo>
                    <a:pt x="243" y="271"/>
                  </a:lnTo>
                  <a:lnTo>
                    <a:pt x="238" y="267"/>
                  </a:lnTo>
                  <a:lnTo>
                    <a:pt x="232" y="263"/>
                  </a:lnTo>
                  <a:lnTo>
                    <a:pt x="228" y="259"/>
                  </a:lnTo>
                  <a:lnTo>
                    <a:pt x="223" y="254"/>
                  </a:lnTo>
                  <a:lnTo>
                    <a:pt x="219" y="250"/>
                  </a:lnTo>
                  <a:lnTo>
                    <a:pt x="214" y="246"/>
                  </a:lnTo>
                  <a:lnTo>
                    <a:pt x="209" y="241"/>
                  </a:lnTo>
                  <a:lnTo>
                    <a:pt x="205" y="235"/>
                  </a:lnTo>
                  <a:lnTo>
                    <a:pt x="200" y="230"/>
                  </a:lnTo>
                  <a:lnTo>
                    <a:pt x="193" y="224"/>
                  </a:lnTo>
                  <a:lnTo>
                    <a:pt x="188" y="219"/>
                  </a:lnTo>
                  <a:lnTo>
                    <a:pt x="182" y="212"/>
                  </a:lnTo>
                  <a:lnTo>
                    <a:pt x="178" y="206"/>
                  </a:lnTo>
                  <a:lnTo>
                    <a:pt x="175" y="200"/>
                  </a:lnTo>
                  <a:lnTo>
                    <a:pt x="173" y="197"/>
                  </a:lnTo>
                  <a:lnTo>
                    <a:pt x="173" y="194"/>
                  </a:lnTo>
                  <a:lnTo>
                    <a:pt x="173" y="191"/>
                  </a:lnTo>
                  <a:lnTo>
                    <a:pt x="175" y="189"/>
                  </a:lnTo>
                  <a:lnTo>
                    <a:pt x="179" y="182"/>
                  </a:lnTo>
                  <a:lnTo>
                    <a:pt x="184" y="178"/>
                  </a:lnTo>
                  <a:lnTo>
                    <a:pt x="188" y="175"/>
                  </a:lnTo>
                  <a:lnTo>
                    <a:pt x="194" y="172"/>
                  </a:lnTo>
                  <a:lnTo>
                    <a:pt x="200" y="171"/>
                  </a:lnTo>
                  <a:lnTo>
                    <a:pt x="206" y="172"/>
                  </a:lnTo>
                  <a:lnTo>
                    <a:pt x="212" y="175"/>
                  </a:lnTo>
                  <a:lnTo>
                    <a:pt x="219" y="178"/>
                  </a:lnTo>
                  <a:lnTo>
                    <a:pt x="233" y="186"/>
                  </a:lnTo>
                  <a:lnTo>
                    <a:pt x="249" y="198"/>
                  </a:lnTo>
                  <a:lnTo>
                    <a:pt x="266" y="212"/>
                  </a:lnTo>
                  <a:lnTo>
                    <a:pt x="285" y="228"/>
                  </a:lnTo>
                  <a:lnTo>
                    <a:pt x="296" y="228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4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7" name=""/>
          <p:cNvSpPr/>
          <p:nvPr/>
        </p:nvSpPr>
        <p:spPr>
          <a:xfrm>
            <a:off x="3416040" y="585720"/>
            <a:ext cx="2520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TESTING 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2414520" y="1098720"/>
            <a:ext cx="4518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MOTHER &amp; NEWBOR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2271240" y="5821200"/>
            <a:ext cx="46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1f1a17"/>
                </a:solidFill>
                <a:latin typeface="Geometr231 BT"/>
              </a:rPr>
              <a:t>BABY'S TEST MAY REFLECT MOTHER'S COND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0" name=""/>
          <p:cNvGrpSpPr/>
          <p:nvPr/>
        </p:nvGrpSpPr>
        <p:grpSpPr>
          <a:xfrm>
            <a:off x="4044960" y="1852560"/>
            <a:ext cx="2328840" cy="3832200"/>
            <a:chOff x="4044960" y="1852560"/>
            <a:chExt cx="2328840" cy="3832200"/>
          </a:xfrm>
        </p:grpSpPr>
        <p:sp>
          <p:nvSpPr>
            <p:cNvPr id="5201" name=""/>
            <p:cNvSpPr/>
            <p:nvPr/>
          </p:nvSpPr>
          <p:spPr>
            <a:xfrm>
              <a:off x="4044960" y="1852560"/>
              <a:ext cx="2328840" cy="3832200"/>
            </a:xfrm>
            <a:custGeom>
              <a:avLst/>
              <a:gdLst/>
              <a:ahLst/>
              <a:rect l="l" t="t" r="r" b="b"/>
              <a:pathLst>
                <a:path w="7335" h="12069">
                  <a:moveTo>
                    <a:pt x="4442" y="8952"/>
                  </a:moveTo>
                  <a:lnTo>
                    <a:pt x="4727" y="8635"/>
                  </a:lnTo>
                  <a:lnTo>
                    <a:pt x="4932" y="8336"/>
                  </a:lnTo>
                  <a:lnTo>
                    <a:pt x="5105" y="8019"/>
                  </a:lnTo>
                  <a:lnTo>
                    <a:pt x="5217" y="7671"/>
                  </a:lnTo>
                  <a:lnTo>
                    <a:pt x="5075" y="8209"/>
                  </a:lnTo>
                  <a:lnTo>
                    <a:pt x="4837" y="8684"/>
                  </a:lnTo>
                  <a:lnTo>
                    <a:pt x="4932" y="8509"/>
                  </a:lnTo>
                  <a:lnTo>
                    <a:pt x="5044" y="8431"/>
                  </a:lnTo>
                  <a:lnTo>
                    <a:pt x="4965" y="8874"/>
                  </a:lnTo>
                  <a:lnTo>
                    <a:pt x="5058" y="9301"/>
                  </a:lnTo>
                  <a:lnTo>
                    <a:pt x="4980" y="9364"/>
                  </a:lnTo>
                  <a:lnTo>
                    <a:pt x="4837" y="9301"/>
                  </a:lnTo>
                  <a:lnTo>
                    <a:pt x="4917" y="9411"/>
                  </a:lnTo>
                  <a:lnTo>
                    <a:pt x="5075" y="9458"/>
                  </a:lnTo>
                  <a:lnTo>
                    <a:pt x="5217" y="9332"/>
                  </a:lnTo>
                  <a:lnTo>
                    <a:pt x="5185" y="9032"/>
                  </a:lnTo>
                  <a:lnTo>
                    <a:pt x="5312" y="9095"/>
                  </a:lnTo>
                  <a:lnTo>
                    <a:pt x="5359" y="9221"/>
                  </a:lnTo>
                  <a:lnTo>
                    <a:pt x="5438" y="8889"/>
                  </a:lnTo>
                  <a:lnTo>
                    <a:pt x="5502" y="8605"/>
                  </a:lnTo>
                  <a:lnTo>
                    <a:pt x="5454" y="8889"/>
                  </a:lnTo>
                  <a:lnTo>
                    <a:pt x="5502" y="9237"/>
                  </a:lnTo>
                  <a:lnTo>
                    <a:pt x="5423" y="9411"/>
                  </a:lnTo>
                  <a:lnTo>
                    <a:pt x="5201" y="9537"/>
                  </a:lnTo>
                  <a:lnTo>
                    <a:pt x="5407" y="9616"/>
                  </a:lnTo>
                  <a:lnTo>
                    <a:pt x="5595" y="9616"/>
                  </a:lnTo>
                  <a:lnTo>
                    <a:pt x="5754" y="9554"/>
                  </a:lnTo>
                  <a:lnTo>
                    <a:pt x="5881" y="9427"/>
                  </a:lnTo>
                  <a:lnTo>
                    <a:pt x="5975" y="9649"/>
                  </a:lnTo>
                  <a:lnTo>
                    <a:pt x="5881" y="9791"/>
                  </a:lnTo>
                  <a:lnTo>
                    <a:pt x="6039" y="9680"/>
                  </a:lnTo>
                  <a:lnTo>
                    <a:pt x="6087" y="9490"/>
                  </a:lnTo>
                  <a:lnTo>
                    <a:pt x="6039" y="9316"/>
                  </a:lnTo>
                  <a:lnTo>
                    <a:pt x="5992" y="9158"/>
                  </a:lnTo>
                  <a:lnTo>
                    <a:pt x="6118" y="8952"/>
                  </a:lnTo>
                  <a:lnTo>
                    <a:pt x="6229" y="8747"/>
                  </a:lnTo>
                  <a:lnTo>
                    <a:pt x="6275" y="8526"/>
                  </a:lnTo>
                  <a:lnTo>
                    <a:pt x="6244" y="8288"/>
                  </a:lnTo>
                  <a:lnTo>
                    <a:pt x="6323" y="8462"/>
                  </a:lnTo>
                  <a:lnTo>
                    <a:pt x="6355" y="8635"/>
                  </a:lnTo>
                  <a:lnTo>
                    <a:pt x="6261" y="8874"/>
                  </a:lnTo>
                  <a:lnTo>
                    <a:pt x="6182" y="9111"/>
                  </a:lnTo>
                  <a:lnTo>
                    <a:pt x="6229" y="9221"/>
                  </a:lnTo>
                  <a:lnTo>
                    <a:pt x="6291" y="9316"/>
                  </a:lnTo>
                  <a:lnTo>
                    <a:pt x="6275" y="9111"/>
                  </a:lnTo>
                  <a:lnTo>
                    <a:pt x="6372" y="8952"/>
                  </a:lnTo>
                  <a:lnTo>
                    <a:pt x="6513" y="8905"/>
                  </a:lnTo>
                  <a:lnTo>
                    <a:pt x="6670" y="8905"/>
                  </a:lnTo>
                  <a:lnTo>
                    <a:pt x="6813" y="8889"/>
                  </a:lnTo>
                  <a:lnTo>
                    <a:pt x="6924" y="8810"/>
                  </a:lnTo>
                  <a:lnTo>
                    <a:pt x="6971" y="8447"/>
                  </a:lnTo>
                  <a:lnTo>
                    <a:pt x="6939" y="8036"/>
                  </a:lnTo>
                  <a:lnTo>
                    <a:pt x="7019" y="7846"/>
                  </a:lnTo>
                  <a:lnTo>
                    <a:pt x="7067" y="7624"/>
                  </a:lnTo>
                  <a:lnTo>
                    <a:pt x="7177" y="7877"/>
                  </a:lnTo>
                  <a:lnTo>
                    <a:pt x="7035" y="8098"/>
                  </a:lnTo>
                  <a:lnTo>
                    <a:pt x="7257" y="7957"/>
                  </a:lnTo>
                  <a:lnTo>
                    <a:pt x="7288" y="7750"/>
                  </a:lnTo>
                  <a:lnTo>
                    <a:pt x="7209" y="7498"/>
                  </a:lnTo>
                  <a:lnTo>
                    <a:pt x="7098" y="7229"/>
                  </a:lnTo>
                  <a:lnTo>
                    <a:pt x="7145" y="7070"/>
                  </a:lnTo>
                  <a:lnTo>
                    <a:pt x="7193" y="6896"/>
                  </a:lnTo>
                  <a:lnTo>
                    <a:pt x="7145" y="6722"/>
                  </a:lnTo>
                  <a:lnTo>
                    <a:pt x="7067" y="6532"/>
                  </a:lnTo>
                  <a:lnTo>
                    <a:pt x="7257" y="6628"/>
                  </a:lnTo>
                  <a:lnTo>
                    <a:pt x="7319" y="6849"/>
                  </a:lnTo>
                  <a:lnTo>
                    <a:pt x="7335" y="6628"/>
                  </a:lnTo>
                  <a:lnTo>
                    <a:pt x="7224" y="6485"/>
                  </a:lnTo>
                  <a:lnTo>
                    <a:pt x="7081" y="6359"/>
                  </a:lnTo>
                  <a:lnTo>
                    <a:pt x="6971" y="6201"/>
                  </a:lnTo>
                  <a:lnTo>
                    <a:pt x="7177" y="6121"/>
                  </a:lnTo>
                  <a:lnTo>
                    <a:pt x="7193" y="5869"/>
                  </a:lnTo>
                  <a:lnTo>
                    <a:pt x="7129" y="6011"/>
                  </a:lnTo>
                  <a:lnTo>
                    <a:pt x="7019" y="6059"/>
                  </a:lnTo>
                  <a:lnTo>
                    <a:pt x="6845" y="6011"/>
                  </a:lnTo>
                  <a:lnTo>
                    <a:pt x="6751" y="5869"/>
                  </a:lnTo>
                  <a:lnTo>
                    <a:pt x="6608" y="5157"/>
                  </a:lnTo>
                  <a:lnTo>
                    <a:pt x="6355" y="4745"/>
                  </a:lnTo>
                  <a:lnTo>
                    <a:pt x="6087" y="4508"/>
                  </a:lnTo>
                  <a:lnTo>
                    <a:pt x="5849" y="4318"/>
                  </a:lnTo>
                  <a:lnTo>
                    <a:pt x="5675" y="4144"/>
                  </a:lnTo>
                  <a:lnTo>
                    <a:pt x="5454" y="4049"/>
                  </a:lnTo>
                  <a:lnTo>
                    <a:pt x="5295" y="4144"/>
                  </a:lnTo>
                  <a:lnTo>
                    <a:pt x="5248" y="4303"/>
                  </a:lnTo>
                  <a:lnTo>
                    <a:pt x="5012" y="4382"/>
                  </a:lnTo>
                  <a:lnTo>
                    <a:pt x="4901" y="4476"/>
                  </a:lnTo>
                  <a:lnTo>
                    <a:pt x="4711" y="4460"/>
                  </a:lnTo>
                  <a:lnTo>
                    <a:pt x="4601" y="4429"/>
                  </a:lnTo>
                  <a:lnTo>
                    <a:pt x="4568" y="4539"/>
                  </a:lnTo>
                  <a:lnTo>
                    <a:pt x="4554" y="4651"/>
                  </a:lnTo>
                  <a:lnTo>
                    <a:pt x="4489" y="4651"/>
                  </a:lnTo>
                  <a:lnTo>
                    <a:pt x="4442" y="4698"/>
                  </a:lnTo>
                  <a:lnTo>
                    <a:pt x="4425" y="4729"/>
                  </a:lnTo>
                  <a:lnTo>
                    <a:pt x="4425" y="4762"/>
                  </a:lnTo>
                  <a:lnTo>
                    <a:pt x="4364" y="4808"/>
                  </a:lnTo>
                  <a:lnTo>
                    <a:pt x="4395" y="4855"/>
                  </a:lnTo>
                  <a:lnTo>
                    <a:pt x="4425" y="4934"/>
                  </a:lnTo>
                  <a:lnTo>
                    <a:pt x="4379" y="4905"/>
                  </a:lnTo>
                  <a:lnTo>
                    <a:pt x="4316" y="4888"/>
                  </a:lnTo>
                  <a:lnTo>
                    <a:pt x="4268" y="4888"/>
                  </a:lnTo>
                  <a:lnTo>
                    <a:pt x="4221" y="4919"/>
                  </a:lnTo>
                  <a:lnTo>
                    <a:pt x="4221" y="4967"/>
                  </a:lnTo>
                  <a:lnTo>
                    <a:pt x="4206" y="5014"/>
                  </a:lnTo>
                  <a:lnTo>
                    <a:pt x="4142" y="5014"/>
                  </a:lnTo>
                  <a:lnTo>
                    <a:pt x="4063" y="5062"/>
                  </a:lnTo>
                  <a:lnTo>
                    <a:pt x="4095" y="5331"/>
                  </a:lnTo>
                  <a:lnTo>
                    <a:pt x="4300" y="5600"/>
                  </a:lnTo>
                  <a:lnTo>
                    <a:pt x="4253" y="5773"/>
                  </a:lnTo>
                  <a:lnTo>
                    <a:pt x="4221" y="5963"/>
                  </a:lnTo>
                  <a:lnTo>
                    <a:pt x="3888" y="5837"/>
                  </a:lnTo>
                  <a:lnTo>
                    <a:pt x="3620" y="5757"/>
                  </a:lnTo>
                  <a:lnTo>
                    <a:pt x="3400" y="5711"/>
                  </a:lnTo>
                  <a:lnTo>
                    <a:pt x="3241" y="5614"/>
                  </a:lnTo>
                  <a:lnTo>
                    <a:pt x="3004" y="5393"/>
                  </a:lnTo>
                  <a:lnTo>
                    <a:pt x="2782" y="5252"/>
                  </a:lnTo>
                  <a:lnTo>
                    <a:pt x="2545" y="5141"/>
                  </a:lnTo>
                  <a:lnTo>
                    <a:pt x="2309" y="5014"/>
                  </a:lnTo>
                  <a:lnTo>
                    <a:pt x="2213" y="4539"/>
                  </a:lnTo>
                  <a:lnTo>
                    <a:pt x="2134" y="4096"/>
                  </a:lnTo>
                  <a:lnTo>
                    <a:pt x="2134" y="3401"/>
                  </a:lnTo>
                  <a:lnTo>
                    <a:pt x="2151" y="2799"/>
                  </a:lnTo>
                  <a:lnTo>
                    <a:pt x="2373" y="2547"/>
                  </a:lnTo>
                  <a:lnTo>
                    <a:pt x="2482" y="2279"/>
                  </a:lnTo>
                  <a:lnTo>
                    <a:pt x="2561" y="2341"/>
                  </a:lnTo>
                  <a:lnTo>
                    <a:pt x="2642" y="2389"/>
                  </a:lnTo>
                  <a:lnTo>
                    <a:pt x="2656" y="2483"/>
                  </a:lnTo>
                  <a:lnTo>
                    <a:pt x="2720" y="2562"/>
                  </a:lnTo>
                  <a:lnTo>
                    <a:pt x="2720" y="2642"/>
                  </a:lnTo>
                  <a:lnTo>
                    <a:pt x="2735" y="2737"/>
                  </a:lnTo>
                  <a:lnTo>
                    <a:pt x="2768" y="2799"/>
                  </a:lnTo>
                  <a:lnTo>
                    <a:pt x="2830" y="2831"/>
                  </a:lnTo>
                  <a:lnTo>
                    <a:pt x="2861" y="2816"/>
                  </a:lnTo>
                  <a:lnTo>
                    <a:pt x="2878" y="2799"/>
                  </a:lnTo>
                  <a:lnTo>
                    <a:pt x="2893" y="2831"/>
                  </a:lnTo>
                  <a:lnTo>
                    <a:pt x="2910" y="2848"/>
                  </a:lnTo>
                  <a:lnTo>
                    <a:pt x="2940" y="2848"/>
                  </a:lnTo>
                  <a:lnTo>
                    <a:pt x="2972" y="2831"/>
                  </a:lnTo>
                  <a:lnTo>
                    <a:pt x="2989" y="2816"/>
                  </a:lnTo>
                  <a:lnTo>
                    <a:pt x="3004" y="2784"/>
                  </a:lnTo>
                  <a:lnTo>
                    <a:pt x="3020" y="2816"/>
                  </a:lnTo>
                  <a:lnTo>
                    <a:pt x="3036" y="2831"/>
                  </a:lnTo>
                  <a:lnTo>
                    <a:pt x="3068" y="2848"/>
                  </a:lnTo>
                  <a:lnTo>
                    <a:pt x="3115" y="2831"/>
                  </a:lnTo>
                  <a:lnTo>
                    <a:pt x="3130" y="2784"/>
                  </a:lnTo>
                  <a:lnTo>
                    <a:pt x="3130" y="2737"/>
                  </a:lnTo>
                  <a:lnTo>
                    <a:pt x="3146" y="2688"/>
                  </a:lnTo>
                  <a:lnTo>
                    <a:pt x="3162" y="2642"/>
                  </a:lnTo>
                  <a:lnTo>
                    <a:pt x="3146" y="2595"/>
                  </a:lnTo>
                  <a:lnTo>
                    <a:pt x="3146" y="2531"/>
                  </a:lnTo>
                  <a:lnTo>
                    <a:pt x="3194" y="2531"/>
                  </a:lnTo>
                  <a:lnTo>
                    <a:pt x="3258" y="2531"/>
                  </a:lnTo>
                  <a:lnTo>
                    <a:pt x="3289" y="2562"/>
                  </a:lnTo>
                  <a:lnTo>
                    <a:pt x="3305" y="2595"/>
                  </a:lnTo>
                  <a:lnTo>
                    <a:pt x="3351" y="2595"/>
                  </a:lnTo>
                  <a:lnTo>
                    <a:pt x="3368" y="2578"/>
                  </a:lnTo>
                  <a:lnTo>
                    <a:pt x="3351" y="2516"/>
                  </a:lnTo>
                  <a:lnTo>
                    <a:pt x="3305" y="2436"/>
                  </a:lnTo>
                  <a:lnTo>
                    <a:pt x="3258" y="2405"/>
                  </a:lnTo>
                  <a:lnTo>
                    <a:pt x="3179" y="2389"/>
                  </a:lnTo>
                  <a:lnTo>
                    <a:pt x="3130" y="2326"/>
                  </a:lnTo>
                  <a:lnTo>
                    <a:pt x="3020" y="2247"/>
                  </a:lnTo>
                  <a:lnTo>
                    <a:pt x="2940" y="2089"/>
                  </a:lnTo>
                  <a:lnTo>
                    <a:pt x="2940" y="1946"/>
                  </a:lnTo>
                  <a:lnTo>
                    <a:pt x="2972" y="1771"/>
                  </a:lnTo>
                  <a:lnTo>
                    <a:pt x="3099" y="1835"/>
                  </a:lnTo>
                  <a:lnTo>
                    <a:pt x="3225" y="1788"/>
                  </a:lnTo>
                  <a:lnTo>
                    <a:pt x="3258" y="1771"/>
                  </a:lnTo>
                  <a:lnTo>
                    <a:pt x="3305" y="1788"/>
                  </a:lnTo>
                  <a:lnTo>
                    <a:pt x="3319" y="1788"/>
                  </a:lnTo>
                  <a:lnTo>
                    <a:pt x="3336" y="1771"/>
                  </a:lnTo>
                  <a:lnTo>
                    <a:pt x="3368" y="1709"/>
                  </a:lnTo>
                  <a:lnTo>
                    <a:pt x="3431" y="1677"/>
                  </a:lnTo>
                  <a:lnTo>
                    <a:pt x="3494" y="1693"/>
                  </a:lnTo>
                  <a:lnTo>
                    <a:pt x="3541" y="1677"/>
                  </a:lnTo>
                  <a:lnTo>
                    <a:pt x="3558" y="1630"/>
                  </a:lnTo>
                  <a:lnTo>
                    <a:pt x="3588" y="1581"/>
                  </a:lnTo>
                  <a:lnTo>
                    <a:pt x="3669" y="1581"/>
                  </a:lnTo>
                  <a:lnTo>
                    <a:pt x="3716" y="1551"/>
                  </a:lnTo>
                  <a:lnTo>
                    <a:pt x="3716" y="1487"/>
                  </a:lnTo>
                  <a:lnTo>
                    <a:pt x="3716" y="1408"/>
                  </a:lnTo>
                  <a:lnTo>
                    <a:pt x="3826" y="1377"/>
                  </a:lnTo>
                  <a:lnTo>
                    <a:pt x="3905" y="1298"/>
                  </a:lnTo>
                  <a:lnTo>
                    <a:pt x="3985" y="1218"/>
                  </a:lnTo>
                  <a:lnTo>
                    <a:pt x="4031" y="1108"/>
                  </a:lnTo>
                  <a:lnTo>
                    <a:pt x="4048" y="839"/>
                  </a:lnTo>
                  <a:lnTo>
                    <a:pt x="3999" y="570"/>
                  </a:lnTo>
                  <a:lnTo>
                    <a:pt x="3921" y="427"/>
                  </a:lnTo>
                  <a:lnTo>
                    <a:pt x="3842" y="333"/>
                  </a:lnTo>
                  <a:lnTo>
                    <a:pt x="3684" y="143"/>
                  </a:lnTo>
                  <a:lnTo>
                    <a:pt x="3462" y="16"/>
                  </a:lnTo>
                  <a:lnTo>
                    <a:pt x="3272" y="0"/>
                  </a:lnTo>
                  <a:lnTo>
                    <a:pt x="3115" y="0"/>
                  </a:lnTo>
                  <a:lnTo>
                    <a:pt x="2989" y="47"/>
                  </a:lnTo>
                  <a:lnTo>
                    <a:pt x="2846" y="159"/>
                  </a:lnTo>
                  <a:lnTo>
                    <a:pt x="2656" y="333"/>
                  </a:lnTo>
                  <a:lnTo>
                    <a:pt x="2530" y="553"/>
                  </a:lnTo>
                  <a:lnTo>
                    <a:pt x="2530" y="649"/>
                  </a:lnTo>
                  <a:lnTo>
                    <a:pt x="2545" y="760"/>
                  </a:lnTo>
                  <a:lnTo>
                    <a:pt x="2499" y="822"/>
                  </a:lnTo>
                  <a:lnTo>
                    <a:pt x="2482" y="918"/>
                  </a:lnTo>
                  <a:lnTo>
                    <a:pt x="2435" y="901"/>
                  </a:lnTo>
                  <a:lnTo>
                    <a:pt x="2373" y="918"/>
                  </a:lnTo>
                  <a:lnTo>
                    <a:pt x="2183" y="1029"/>
                  </a:lnTo>
                  <a:lnTo>
                    <a:pt x="1929" y="1155"/>
                  </a:lnTo>
                  <a:lnTo>
                    <a:pt x="1882" y="1108"/>
                  </a:lnTo>
                  <a:lnTo>
                    <a:pt x="1786" y="1091"/>
                  </a:lnTo>
                  <a:lnTo>
                    <a:pt x="1755" y="1155"/>
                  </a:lnTo>
                  <a:lnTo>
                    <a:pt x="1755" y="1234"/>
                  </a:lnTo>
                  <a:lnTo>
                    <a:pt x="1693" y="1201"/>
                  </a:lnTo>
                  <a:lnTo>
                    <a:pt x="1613" y="1218"/>
                  </a:lnTo>
                  <a:lnTo>
                    <a:pt x="1598" y="1265"/>
                  </a:lnTo>
                  <a:lnTo>
                    <a:pt x="1613" y="1344"/>
                  </a:lnTo>
                  <a:lnTo>
                    <a:pt x="1535" y="1408"/>
                  </a:lnTo>
                  <a:lnTo>
                    <a:pt x="1486" y="1377"/>
                  </a:lnTo>
                  <a:lnTo>
                    <a:pt x="1408" y="1377"/>
                  </a:lnTo>
                  <a:lnTo>
                    <a:pt x="1392" y="1441"/>
                  </a:lnTo>
                  <a:lnTo>
                    <a:pt x="1408" y="1534"/>
                  </a:lnTo>
                  <a:lnTo>
                    <a:pt x="1296" y="1613"/>
                  </a:lnTo>
                  <a:lnTo>
                    <a:pt x="1218" y="1677"/>
                  </a:lnTo>
                  <a:lnTo>
                    <a:pt x="1156" y="1645"/>
                  </a:lnTo>
                  <a:lnTo>
                    <a:pt x="1106" y="1645"/>
                  </a:lnTo>
                  <a:lnTo>
                    <a:pt x="1092" y="1709"/>
                  </a:lnTo>
                  <a:lnTo>
                    <a:pt x="1123" y="1756"/>
                  </a:lnTo>
                  <a:lnTo>
                    <a:pt x="966" y="1898"/>
                  </a:lnTo>
                  <a:lnTo>
                    <a:pt x="806" y="2024"/>
                  </a:lnTo>
                  <a:lnTo>
                    <a:pt x="712" y="2010"/>
                  </a:lnTo>
                  <a:lnTo>
                    <a:pt x="633" y="2010"/>
                  </a:lnTo>
                  <a:lnTo>
                    <a:pt x="459" y="2215"/>
                  </a:lnTo>
                  <a:lnTo>
                    <a:pt x="317" y="2405"/>
                  </a:lnTo>
                  <a:lnTo>
                    <a:pt x="238" y="2642"/>
                  </a:lnTo>
                  <a:lnTo>
                    <a:pt x="238" y="2926"/>
                  </a:lnTo>
                  <a:lnTo>
                    <a:pt x="190" y="3132"/>
                  </a:lnTo>
                  <a:lnTo>
                    <a:pt x="190" y="3321"/>
                  </a:lnTo>
                  <a:lnTo>
                    <a:pt x="317" y="3464"/>
                  </a:lnTo>
                  <a:lnTo>
                    <a:pt x="490" y="3590"/>
                  </a:lnTo>
                  <a:lnTo>
                    <a:pt x="569" y="3670"/>
                  </a:lnTo>
                  <a:lnTo>
                    <a:pt x="649" y="3765"/>
                  </a:lnTo>
                  <a:lnTo>
                    <a:pt x="459" y="3827"/>
                  </a:lnTo>
                  <a:lnTo>
                    <a:pt x="286" y="3939"/>
                  </a:lnTo>
                  <a:lnTo>
                    <a:pt x="128" y="3986"/>
                  </a:lnTo>
                  <a:lnTo>
                    <a:pt x="0" y="4096"/>
                  </a:lnTo>
                  <a:lnTo>
                    <a:pt x="96" y="4303"/>
                  </a:lnTo>
                  <a:lnTo>
                    <a:pt x="286" y="4476"/>
                  </a:lnTo>
                  <a:lnTo>
                    <a:pt x="380" y="4619"/>
                  </a:lnTo>
                  <a:lnTo>
                    <a:pt x="490" y="4762"/>
                  </a:lnTo>
                  <a:lnTo>
                    <a:pt x="523" y="4777"/>
                  </a:lnTo>
                  <a:lnTo>
                    <a:pt x="569" y="4762"/>
                  </a:lnTo>
                  <a:lnTo>
                    <a:pt x="633" y="4777"/>
                  </a:lnTo>
                  <a:lnTo>
                    <a:pt x="666" y="4793"/>
                  </a:lnTo>
                  <a:lnTo>
                    <a:pt x="602" y="4855"/>
                  </a:lnTo>
                  <a:lnTo>
                    <a:pt x="586" y="4934"/>
                  </a:lnTo>
                  <a:lnTo>
                    <a:pt x="697" y="5094"/>
                  </a:lnTo>
                  <a:lnTo>
                    <a:pt x="806" y="5235"/>
                  </a:lnTo>
                  <a:lnTo>
                    <a:pt x="902" y="5425"/>
                  </a:lnTo>
                  <a:lnTo>
                    <a:pt x="981" y="5521"/>
                  </a:lnTo>
                  <a:lnTo>
                    <a:pt x="966" y="5552"/>
                  </a:lnTo>
                  <a:lnTo>
                    <a:pt x="981" y="5583"/>
                  </a:lnTo>
                  <a:lnTo>
                    <a:pt x="1013" y="5614"/>
                  </a:lnTo>
                  <a:lnTo>
                    <a:pt x="1045" y="5614"/>
                  </a:lnTo>
                  <a:lnTo>
                    <a:pt x="1075" y="5647"/>
                  </a:lnTo>
                  <a:lnTo>
                    <a:pt x="1123" y="5678"/>
                  </a:lnTo>
                  <a:lnTo>
                    <a:pt x="1170" y="5694"/>
                  </a:lnTo>
                  <a:lnTo>
                    <a:pt x="1202" y="5711"/>
                  </a:lnTo>
                  <a:lnTo>
                    <a:pt x="1282" y="5743"/>
                  </a:lnTo>
                  <a:lnTo>
                    <a:pt x="1329" y="5711"/>
                  </a:lnTo>
                  <a:lnTo>
                    <a:pt x="1313" y="5662"/>
                  </a:lnTo>
                  <a:lnTo>
                    <a:pt x="1296" y="5631"/>
                  </a:lnTo>
                  <a:lnTo>
                    <a:pt x="1296" y="5583"/>
                  </a:lnTo>
                  <a:lnTo>
                    <a:pt x="1296" y="5536"/>
                  </a:lnTo>
                  <a:lnTo>
                    <a:pt x="1265" y="5457"/>
                  </a:lnTo>
                  <a:lnTo>
                    <a:pt x="1234" y="5393"/>
                  </a:lnTo>
                  <a:lnTo>
                    <a:pt x="1234" y="5283"/>
                  </a:lnTo>
                  <a:lnTo>
                    <a:pt x="1218" y="5173"/>
                  </a:lnTo>
                  <a:lnTo>
                    <a:pt x="1186" y="5014"/>
                  </a:lnTo>
                  <a:lnTo>
                    <a:pt x="1156" y="4888"/>
                  </a:lnTo>
                  <a:lnTo>
                    <a:pt x="1265" y="4586"/>
                  </a:lnTo>
                  <a:lnTo>
                    <a:pt x="1313" y="4239"/>
                  </a:lnTo>
                  <a:lnTo>
                    <a:pt x="1424" y="4113"/>
                  </a:lnTo>
                  <a:lnTo>
                    <a:pt x="1455" y="3970"/>
                  </a:lnTo>
                  <a:lnTo>
                    <a:pt x="1486" y="4555"/>
                  </a:lnTo>
                  <a:lnTo>
                    <a:pt x="1503" y="5094"/>
                  </a:lnTo>
                  <a:lnTo>
                    <a:pt x="1550" y="5314"/>
                  </a:lnTo>
                  <a:lnTo>
                    <a:pt x="1676" y="5425"/>
                  </a:lnTo>
                  <a:lnTo>
                    <a:pt x="2040" y="5726"/>
                  </a:lnTo>
                  <a:lnTo>
                    <a:pt x="2373" y="6073"/>
                  </a:lnTo>
                  <a:lnTo>
                    <a:pt x="2768" y="6406"/>
                  </a:lnTo>
                  <a:lnTo>
                    <a:pt x="3336" y="6690"/>
                  </a:lnTo>
                  <a:lnTo>
                    <a:pt x="3351" y="6690"/>
                  </a:lnTo>
                  <a:lnTo>
                    <a:pt x="3179" y="6785"/>
                  </a:lnTo>
                  <a:lnTo>
                    <a:pt x="3020" y="6880"/>
                  </a:lnTo>
                  <a:lnTo>
                    <a:pt x="2861" y="6991"/>
                  </a:lnTo>
                  <a:lnTo>
                    <a:pt x="2768" y="7148"/>
                  </a:lnTo>
                  <a:lnTo>
                    <a:pt x="2735" y="7545"/>
                  </a:lnTo>
                  <a:lnTo>
                    <a:pt x="2768" y="7893"/>
                  </a:lnTo>
                  <a:lnTo>
                    <a:pt x="2642" y="8162"/>
                  </a:lnTo>
                  <a:lnTo>
                    <a:pt x="2499" y="8431"/>
                  </a:lnTo>
                  <a:lnTo>
                    <a:pt x="2499" y="8621"/>
                  </a:lnTo>
                  <a:lnTo>
                    <a:pt x="2545" y="8763"/>
                  </a:lnTo>
                  <a:lnTo>
                    <a:pt x="2435" y="8968"/>
                  </a:lnTo>
                  <a:lnTo>
                    <a:pt x="2403" y="9254"/>
                  </a:lnTo>
                  <a:lnTo>
                    <a:pt x="2151" y="9570"/>
                  </a:lnTo>
                  <a:lnTo>
                    <a:pt x="1976" y="9917"/>
                  </a:lnTo>
                  <a:lnTo>
                    <a:pt x="1962" y="11024"/>
                  </a:lnTo>
                  <a:lnTo>
                    <a:pt x="2088" y="12069"/>
                  </a:lnTo>
                  <a:lnTo>
                    <a:pt x="2419" y="12069"/>
                  </a:lnTo>
                  <a:lnTo>
                    <a:pt x="2768" y="12069"/>
                  </a:lnTo>
                  <a:lnTo>
                    <a:pt x="3115" y="12069"/>
                  </a:lnTo>
                  <a:lnTo>
                    <a:pt x="3462" y="12069"/>
                  </a:lnTo>
                  <a:lnTo>
                    <a:pt x="3795" y="12069"/>
                  </a:lnTo>
                  <a:lnTo>
                    <a:pt x="4142" y="12069"/>
                  </a:lnTo>
                  <a:lnTo>
                    <a:pt x="4489" y="12069"/>
                  </a:lnTo>
                  <a:lnTo>
                    <a:pt x="4837" y="12069"/>
                  </a:lnTo>
                  <a:lnTo>
                    <a:pt x="4696" y="11483"/>
                  </a:lnTo>
                  <a:lnTo>
                    <a:pt x="4568" y="10851"/>
                  </a:lnTo>
                  <a:lnTo>
                    <a:pt x="4395" y="10265"/>
                  </a:lnTo>
                  <a:lnTo>
                    <a:pt x="4095" y="9759"/>
                  </a:lnTo>
                  <a:lnTo>
                    <a:pt x="4268" y="9380"/>
                  </a:lnTo>
                  <a:lnTo>
                    <a:pt x="4458" y="9301"/>
                  </a:lnTo>
                  <a:lnTo>
                    <a:pt x="4442" y="895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4251240" y="3178080"/>
              <a:ext cx="54000" cy="127080"/>
            </a:xfrm>
            <a:custGeom>
              <a:avLst/>
              <a:gdLst/>
              <a:ahLst/>
              <a:rect l="l" t="t" r="r" b="b"/>
              <a:pathLst>
                <a:path w="174" h="397">
                  <a:moveTo>
                    <a:pt x="174" y="0"/>
                  </a:moveTo>
                  <a:lnTo>
                    <a:pt x="79" y="17"/>
                  </a:lnTo>
                  <a:lnTo>
                    <a:pt x="0" y="32"/>
                  </a:lnTo>
                  <a:lnTo>
                    <a:pt x="63" y="269"/>
                  </a:lnTo>
                  <a:lnTo>
                    <a:pt x="127" y="397"/>
                  </a:lnTo>
                  <a:lnTo>
                    <a:pt x="127" y="20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5124600" y="4211640"/>
              <a:ext cx="63360" cy="65160"/>
            </a:xfrm>
            <a:custGeom>
              <a:avLst/>
              <a:gdLst/>
              <a:ahLst/>
              <a:rect l="l" t="t" r="r" b="b"/>
              <a:pathLst>
                <a:path w="199" h="204">
                  <a:moveTo>
                    <a:pt x="122" y="0"/>
                  </a:moveTo>
                  <a:lnTo>
                    <a:pt x="122" y="0"/>
                  </a:lnTo>
                  <a:lnTo>
                    <a:pt x="106" y="8"/>
                  </a:lnTo>
                  <a:lnTo>
                    <a:pt x="91" y="19"/>
                  </a:lnTo>
                  <a:lnTo>
                    <a:pt x="75" y="29"/>
                  </a:lnTo>
                  <a:lnTo>
                    <a:pt x="59" y="40"/>
                  </a:lnTo>
                  <a:lnTo>
                    <a:pt x="43" y="51"/>
                  </a:lnTo>
                  <a:lnTo>
                    <a:pt x="29" y="63"/>
                  </a:lnTo>
                  <a:lnTo>
                    <a:pt x="14" y="75"/>
                  </a:lnTo>
                  <a:lnTo>
                    <a:pt x="0" y="88"/>
                  </a:lnTo>
                  <a:lnTo>
                    <a:pt x="107" y="204"/>
                  </a:lnTo>
                  <a:lnTo>
                    <a:pt x="118" y="194"/>
                  </a:lnTo>
                  <a:lnTo>
                    <a:pt x="128" y="186"/>
                  </a:lnTo>
                  <a:lnTo>
                    <a:pt x="140" y="176"/>
                  </a:lnTo>
                  <a:lnTo>
                    <a:pt x="151" y="168"/>
                  </a:lnTo>
                  <a:lnTo>
                    <a:pt x="163" y="159"/>
                  </a:lnTo>
                  <a:lnTo>
                    <a:pt x="175" y="152"/>
                  </a:lnTo>
                  <a:lnTo>
                    <a:pt x="186" y="145"/>
                  </a:lnTo>
                  <a:lnTo>
                    <a:pt x="199" y="138"/>
                  </a:lnTo>
                  <a:lnTo>
                    <a:pt x="199" y="137"/>
                  </a:lnTo>
                  <a:lnTo>
                    <a:pt x="199" y="138"/>
                  </a:lnTo>
                  <a:lnTo>
                    <a:pt x="199" y="138"/>
                  </a:lnTo>
                  <a:lnTo>
                    <a:pt x="199" y="137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5164200" y="4210200"/>
              <a:ext cx="50760" cy="44280"/>
            </a:xfrm>
            <a:custGeom>
              <a:avLst/>
              <a:gdLst/>
              <a:ahLst/>
              <a:rect l="l" t="t" r="r" b="b"/>
              <a:pathLst>
                <a:path w="160" h="143">
                  <a:moveTo>
                    <a:pt x="119" y="28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77" y="143"/>
                  </a:lnTo>
                  <a:lnTo>
                    <a:pt x="88" y="137"/>
                  </a:lnTo>
                  <a:lnTo>
                    <a:pt x="119" y="28"/>
                  </a:lnTo>
                  <a:lnTo>
                    <a:pt x="88" y="137"/>
                  </a:lnTo>
                  <a:lnTo>
                    <a:pt x="160" y="97"/>
                  </a:lnTo>
                  <a:lnTo>
                    <a:pt x="119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5149800" y="4206960"/>
              <a:ext cx="50760" cy="36360"/>
            </a:xfrm>
            <a:custGeom>
              <a:avLst/>
              <a:gdLst/>
              <a:ahLst/>
              <a:rect l="l" t="t" r="r" b="b"/>
              <a:pathLst>
                <a:path w="163" h="119">
                  <a:moveTo>
                    <a:pt x="0" y="58"/>
                  </a:moveTo>
                  <a:lnTo>
                    <a:pt x="2" y="62"/>
                  </a:lnTo>
                  <a:lnTo>
                    <a:pt x="4" y="66"/>
                  </a:lnTo>
                  <a:lnTo>
                    <a:pt x="5" y="70"/>
                  </a:lnTo>
                  <a:lnTo>
                    <a:pt x="7" y="76"/>
                  </a:lnTo>
                  <a:lnTo>
                    <a:pt x="9" y="83"/>
                  </a:lnTo>
                  <a:lnTo>
                    <a:pt x="13" y="90"/>
                  </a:lnTo>
                  <a:lnTo>
                    <a:pt x="16" y="99"/>
                  </a:lnTo>
                  <a:lnTo>
                    <a:pt x="21" y="109"/>
                  </a:lnTo>
                  <a:lnTo>
                    <a:pt x="26" y="119"/>
                  </a:lnTo>
                  <a:lnTo>
                    <a:pt x="163" y="39"/>
                  </a:lnTo>
                  <a:lnTo>
                    <a:pt x="162" y="38"/>
                  </a:lnTo>
                  <a:lnTo>
                    <a:pt x="161" y="36"/>
                  </a:lnTo>
                  <a:lnTo>
                    <a:pt x="160" y="34"/>
                  </a:lnTo>
                  <a:lnTo>
                    <a:pt x="158" y="29"/>
                  </a:lnTo>
                  <a:lnTo>
                    <a:pt x="156" y="24"/>
                  </a:lnTo>
                  <a:lnTo>
                    <a:pt x="154" y="17"/>
                  </a:lnTo>
                  <a:lnTo>
                    <a:pt x="151" y="9"/>
                  </a:lnTo>
                  <a:lnTo>
                    <a:pt x="147" y="0"/>
                  </a:lnTo>
                  <a:lnTo>
                    <a:pt x="149" y="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5145120" y="4175280"/>
              <a:ext cx="52200" cy="48960"/>
            </a:xfrm>
            <a:custGeom>
              <a:avLst/>
              <a:gdLst/>
              <a:ahLst/>
              <a:rect l="l" t="t" r="r" b="b"/>
              <a:pathLst>
                <a:path w="161" h="155">
                  <a:moveTo>
                    <a:pt x="57" y="0"/>
                  </a:moveTo>
                  <a:lnTo>
                    <a:pt x="56" y="0"/>
                  </a:lnTo>
                  <a:lnTo>
                    <a:pt x="37" y="12"/>
                  </a:lnTo>
                  <a:lnTo>
                    <a:pt x="23" y="27"/>
                  </a:lnTo>
                  <a:lnTo>
                    <a:pt x="12" y="42"/>
                  </a:lnTo>
                  <a:lnTo>
                    <a:pt x="5" y="62"/>
                  </a:lnTo>
                  <a:lnTo>
                    <a:pt x="0" y="81"/>
                  </a:lnTo>
                  <a:lnTo>
                    <a:pt x="0" y="100"/>
                  </a:lnTo>
                  <a:lnTo>
                    <a:pt x="3" y="116"/>
                  </a:lnTo>
                  <a:lnTo>
                    <a:pt x="6" y="131"/>
                  </a:lnTo>
                  <a:lnTo>
                    <a:pt x="9" y="143"/>
                  </a:lnTo>
                  <a:lnTo>
                    <a:pt x="12" y="155"/>
                  </a:lnTo>
                  <a:lnTo>
                    <a:pt x="161" y="101"/>
                  </a:lnTo>
                  <a:lnTo>
                    <a:pt x="160" y="98"/>
                  </a:lnTo>
                  <a:lnTo>
                    <a:pt x="159" y="95"/>
                  </a:lnTo>
                  <a:lnTo>
                    <a:pt x="159" y="92"/>
                  </a:lnTo>
                  <a:lnTo>
                    <a:pt x="159" y="92"/>
                  </a:lnTo>
                  <a:lnTo>
                    <a:pt x="158" y="95"/>
                  </a:lnTo>
                  <a:lnTo>
                    <a:pt x="158" y="101"/>
                  </a:lnTo>
                  <a:lnTo>
                    <a:pt x="153" y="115"/>
                  </a:lnTo>
                  <a:lnTo>
                    <a:pt x="145" y="126"/>
                  </a:lnTo>
                  <a:lnTo>
                    <a:pt x="134" y="137"/>
                  </a:lnTo>
                  <a:lnTo>
                    <a:pt x="120" y="145"/>
                  </a:lnTo>
                  <a:lnTo>
                    <a:pt x="119" y="145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5164200" y="4172040"/>
              <a:ext cx="54000" cy="83880"/>
            </a:xfrm>
            <a:custGeom>
              <a:avLst/>
              <a:gdLst/>
              <a:ahLst/>
              <a:rect l="l" t="t" r="r" b="b"/>
              <a:pathLst>
                <a:path w="172" h="265">
                  <a:moveTo>
                    <a:pt x="69" y="90"/>
                  </a:moveTo>
                  <a:lnTo>
                    <a:pt x="172" y="125"/>
                  </a:lnTo>
                  <a:lnTo>
                    <a:pt x="164" y="107"/>
                  </a:lnTo>
                  <a:lnTo>
                    <a:pt x="155" y="89"/>
                  </a:lnTo>
                  <a:lnTo>
                    <a:pt x="147" y="70"/>
                  </a:lnTo>
                  <a:lnTo>
                    <a:pt x="137" y="54"/>
                  </a:lnTo>
                  <a:lnTo>
                    <a:pt x="127" y="40"/>
                  </a:lnTo>
                  <a:lnTo>
                    <a:pt x="116" y="27"/>
                  </a:lnTo>
                  <a:lnTo>
                    <a:pt x="101" y="16"/>
                  </a:lnTo>
                  <a:lnTo>
                    <a:pt x="81" y="5"/>
                  </a:lnTo>
                  <a:lnTo>
                    <a:pt x="58" y="0"/>
                  </a:lnTo>
                  <a:lnTo>
                    <a:pt x="36" y="0"/>
                  </a:lnTo>
                  <a:lnTo>
                    <a:pt x="17" y="3"/>
                  </a:lnTo>
                  <a:lnTo>
                    <a:pt x="0" y="9"/>
                  </a:lnTo>
                  <a:lnTo>
                    <a:pt x="62" y="154"/>
                  </a:lnTo>
                  <a:lnTo>
                    <a:pt x="58" y="155"/>
                  </a:lnTo>
                  <a:lnTo>
                    <a:pt x="51" y="157"/>
                  </a:lnTo>
                  <a:lnTo>
                    <a:pt x="40" y="157"/>
                  </a:lnTo>
                  <a:lnTo>
                    <a:pt x="26" y="154"/>
                  </a:lnTo>
                  <a:lnTo>
                    <a:pt x="15" y="148"/>
                  </a:lnTo>
                  <a:lnTo>
                    <a:pt x="7" y="143"/>
                  </a:lnTo>
                  <a:lnTo>
                    <a:pt x="4" y="140"/>
                  </a:lnTo>
                  <a:lnTo>
                    <a:pt x="2" y="135"/>
                  </a:lnTo>
                  <a:lnTo>
                    <a:pt x="6" y="143"/>
                  </a:lnTo>
                  <a:lnTo>
                    <a:pt x="13" y="156"/>
                  </a:lnTo>
                  <a:lnTo>
                    <a:pt x="21" y="175"/>
                  </a:lnTo>
                  <a:lnTo>
                    <a:pt x="33" y="198"/>
                  </a:lnTo>
                  <a:lnTo>
                    <a:pt x="136" y="233"/>
                  </a:lnTo>
                  <a:lnTo>
                    <a:pt x="33" y="198"/>
                  </a:lnTo>
                  <a:lnTo>
                    <a:pt x="68" y="265"/>
                  </a:lnTo>
                  <a:lnTo>
                    <a:pt x="136" y="233"/>
                  </a:lnTo>
                  <a:lnTo>
                    <a:pt x="69" y="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5186520" y="4197240"/>
              <a:ext cx="25200" cy="49320"/>
            </a:xfrm>
            <a:custGeom>
              <a:avLst/>
              <a:gdLst/>
              <a:ahLst/>
              <a:rect l="l" t="t" r="r" b="b"/>
              <a:pathLst>
                <a:path w="84" h="153">
                  <a:moveTo>
                    <a:pt x="23" y="0"/>
                  </a:moveTo>
                  <a:lnTo>
                    <a:pt x="18" y="2"/>
                  </a:lnTo>
                  <a:lnTo>
                    <a:pt x="0" y="10"/>
                  </a:lnTo>
                  <a:lnTo>
                    <a:pt x="67" y="153"/>
                  </a:lnTo>
                  <a:lnTo>
                    <a:pt x="84" y="146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5192640" y="4184640"/>
              <a:ext cx="74520" cy="60480"/>
            </a:xfrm>
            <a:custGeom>
              <a:avLst/>
              <a:gdLst/>
              <a:ahLst/>
              <a:rect l="l" t="t" r="r" b="b"/>
              <a:pathLst>
                <a:path w="232" h="190">
                  <a:moveTo>
                    <a:pt x="232" y="0"/>
                  </a:moveTo>
                  <a:lnTo>
                    <a:pt x="232" y="0"/>
                  </a:lnTo>
                  <a:lnTo>
                    <a:pt x="203" y="1"/>
                  </a:lnTo>
                  <a:lnTo>
                    <a:pt x="173" y="3"/>
                  </a:lnTo>
                  <a:lnTo>
                    <a:pt x="143" y="6"/>
                  </a:lnTo>
                  <a:lnTo>
                    <a:pt x="114" y="11"/>
                  </a:lnTo>
                  <a:lnTo>
                    <a:pt x="84" y="17"/>
                  </a:lnTo>
                  <a:lnTo>
                    <a:pt x="56" y="24"/>
                  </a:lnTo>
                  <a:lnTo>
                    <a:pt x="28" y="32"/>
                  </a:lnTo>
                  <a:lnTo>
                    <a:pt x="0" y="42"/>
                  </a:lnTo>
                  <a:lnTo>
                    <a:pt x="55" y="190"/>
                  </a:lnTo>
                  <a:lnTo>
                    <a:pt x="76" y="182"/>
                  </a:lnTo>
                  <a:lnTo>
                    <a:pt x="97" y="176"/>
                  </a:lnTo>
                  <a:lnTo>
                    <a:pt x="119" y="171"/>
                  </a:lnTo>
                  <a:lnTo>
                    <a:pt x="141" y="167"/>
                  </a:lnTo>
                  <a:lnTo>
                    <a:pt x="164" y="163"/>
                  </a:lnTo>
                  <a:lnTo>
                    <a:pt x="186" y="160"/>
                  </a:lnTo>
                  <a:lnTo>
                    <a:pt x="209" y="158"/>
                  </a:lnTo>
                  <a:lnTo>
                    <a:pt x="232" y="158"/>
                  </a:lnTo>
                  <a:lnTo>
                    <a:pt x="232" y="158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5267160" y="4184640"/>
              <a:ext cx="61920" cy="55440"/>
            </a:xfrm>
            <a:custGeom>
              <a:avLst/>
              <a:gdLst/>
              <a:ahLst/>
              <a:rect l="l" t="t" r="r" b="b"/>
              <a:pathLst>
                <a:path w="197" h="174">
                  <a:moveTo>
                    <a:pt x="197" y="34"/>
                  </a:moveTo>
                  <a:lnTo>
                    <a:pt x="168" y="21"/>
                  </a:lnTo>
                  <a:lnTo>
                    <a:pt x="148" y="17"/>
                  </a:lnTo>
                  <a:lnTo>
                    <a:pt x="127" y="12"/>
                  </a:lnTo>
                  <a:lnTo>
                    <a:pt x="106" y="8"/>
                  </a:lnTo>
                  <a:lnTo>
                    <a:pt x="85" y="5"/>
                  </a:lnTo>
                  <a:lnTo>
                    <a:pt x="65" y="3"/>
                  </a:lnTo>
                  <a:lnTo>
                    <a:pt x="43" y="2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17" y="158"/>
                  </a:lnTo>
                  <a:lnTo>
                    <a:pt x="34" y="159"/>
                  </a:lnTo>
                  <a:lnTo>
                    <a:pt x="50" y="160"/>
                  </a:lnTo>
                  <a:lnTo>
                    <a:pt x="67" y="163"/>
                  </a:lnTo>
                  <a:lnTo>
                    <a:pt x="82" y="165"/>
                  </a:lnTo>
                  <a:lnTo>
                    <a:pt x="99" y="168"/>
                  </a:lnTo>
                  <a:lnTo>
                    <a:pt x="115" y="171"/>
                  </a:lnTo>
                  <a:lnTo>
                    <a:pt x="132" y="174"/>
                  </a:lnTo>
                  <a:lnTo>
                    <a:pt x="102" y="160"/>
                  </a:lnTo>
                  <a:lnTo>
                    <a:pt x="197" y="34"/>
                  </a:lnTo>
                  <a:lnTo>
                    <a:pt x="184" y="25"/>
                  </a:lnTo>
                  <a:lnTo>
                    <a:pt x="168" y="21"/>
                  </a:lnTo>
                  <a:lnTo>
                    <a:pt x="197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5299200" y="4195800"/>
              <a:ext cx="41040" cy="65160"/>
            </a:xfrm>
            <a:custGeom>
              <a:avLst/>
              <a:gdLst/>
              <a:ahLst/>
              <a:rect l="l" t="t" r="r" b="b"/>
              <a:pathLst>
                <a:path w="130" h="204">
                  <a:moveTo>
                    <a:pt x="130" y="83"/>
                  </a:moveTo>
                  <a:lnTo>
                    <a:pt x="100" y="4"/>
                  </a:lnTo>
                  <a:lnTo>
                    <a:pt x="95" y="0"/>
                  </a:lnTo>
                  <a:lnTo>
                    <a:pt x="0" y="126"/>
                  </a:lnTo>
                  <a:lnTo>
                    <a:pt x="5" y="131"/>
                  </a:lnTo>
                  <a:lnTo>
                    <a:pt x="130" y="83"/>
                  </a:lnTo>
                  <a:lnTo>
                    <a:pt x="5" y="131"/>
                  </a:lnTo>
                  <a:lnTo>
                    <a:pt x="104" y="204"/>
                  </a:lnTo>
                  <a:lnTo>
                    <a:pt x="13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5291280" y="4194000"/>
              <a:ext cx="54000" cy="27000"/>
            </a:xfrm>
            <a:custGeom>
              <a:avLst/>
              <a:gdLst/>
              <a:ahLst/>
              <a:rect l="l" t="t" r="r" b="b"/>
              <a:pathLst>
                <a:path w="169" h="85">
                  <a:moveTo>
                    <a:pt x="15" y="0"/>
                  </a:moveTo>
                  <a:lnTo>
                    <a:pt x="14" y="7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2" y="15"/>
                  </a:lnTo>
                  <a:lnTo>
                    <a:pt x="9" y="19"/>
                  </a:lnTo>
                  <a:lnTo>
                    <a:pt x="7" y="26"/>
                  </a:lnTo>
                  <a:lnTo>
                    <a:pt x="5" y="33"/>
                  </a:lnTo>
                  <a:lnTo>
                    <a:pt x="2" y="42"/>
                  </a:lnTo>
                  <a:lnTo>
                    <a:pt x="0" y="53"/>
                  </a:lnTo>
                  <a:lnTo>
                    <a:pt x="154" y="85"/>
                  </a:lnTo>
                  <a:lnTo>
                    <a:pt x="154" y="83"/>
                  </a:lnTo>
                  <a:lnTo>
                    <a:pt x="155" y="81"/>
                  </a:lnTo>
                  <a:lnTo>
                    <a:pt x="156" y="78"/>
                  </a:lnTo>
                  <a:lnTo>
                    <a:pt x="158" y="74"/>
                  </a:lnTo>
                  <a:lnTo>
                    <a:pt x="161" y="68"/>
                  </a:lnTo>
                  <a:lnTo>
                    <a:pt x="164" y="59"/>
                  </a:lnTo>
                  <a:lnTo>
                    <a:pt x="166" y="49"/>
                  </a:lnTo>
                  <a:lnTo>
                    <a:pt x="169" y="38"/>
                  </a:lnTo>
                  <a:lnTo>
                    <a:pt x="167" y="4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5295960" y="4162320"/>
              <a:ext cx="49320" cy="50760"/>
            </a:xfrm>
            <a:custGeom>
              <a:avLst/>
              <a:gdLst/>
              <a:ahLst/>
              <a:rect l="l" t="t" r="r" b="b"/>
              <a:pathLst>
                <a:path w="156" h="159">
                  <a:moveTo>
                    <a:pt x="118" y="1"/>
                  </a:moveTo>
                  <a:lnTo>
                    <a:pt x="123" y="1"/>
                  </a:lnTo>
                  <a:lnTo>
                    <a:pt x="98" y="0"/>
                  </a:lnTo>
                  <a:lnTo>
                    <a:pt x="77" y="5"/>
                  </a:lnTo>
                  <a:lnTo>
                    <a:pt x="61" y="13"/>
                  </a:lnTo>
                  <a:lnTo>
                    <a:pt x="45" y="25"/>
                  </a:lnTo>
                  <a:lnTo>
                    <a:pt x="32" y="38"/>
                  </a:lnTo>
                  <a:lnTo>
                    <a:pt x="22" y="54"/>
                  </a:lnTo>
                  <a:lnTo>
                    <a:pt x="14" y="68"/>
                  </a:lnTo>
                  <a:lnTo>
                    <a:pt x="8" y="80"/>
                  </a:lnTo>
                  <a:lnTo>
                    <a:pt x="4" y="93"/>
                  </a:lnTo>
                  <a:lnTo>
                    <a:pt x="0" y="103"/>
                  </a:lnTo>
                  <a:lnTo>
                    <a:pt x="152" y="147"/>
                  </a:lnTo>
                  <a:lnTo>
                    <a:pt x="153" y="143"/>
                  </a:lnTo>
                  <a:lnTo>
                    <a:pt x="154" y="140"/>
                  </a:lnTo>
                  <a:lnTo>
                    <a:pt x="156" y="137"/>
                  </a:lnTo>
                  <a:lnTo>
                    <a:pt x="156" y="136"/>
                  </a:lnTo>
                  <a:lnTo>
                    <a:pt x="155" y="138"/>
                  </a:lnTo>
                  <a:lnTo>
                    <a:pt x="152" y="141"/>
                  </a:lnTo>
                  <a:lnTo>
                    <a:pt x="140" y="150"/>
                  </a:lnTo>
                  <a:lnTo>
                    <a:pt x="130" y="155"/>
                  </a:lnTo>
                  <a:lnTo>
                    <a:pt x="114" y="159"/>
                  </a:lnTo>
                  <a:lnTo>
                    <a:pt x="95" y="158"/>
                  </a:lnTo>
                  <a:lnTo>
                    <a:pt x="100" y="158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5303880" y="4162320"/>
              <a:ext cx="60120" cy="82800"/>
            </a:xfrm>
            <a:custGeom>
              <a:avLst/>
              <a:gdLst/>
              <a:ahLst/>
              <a:rect l="l" t="t" r="r" b="b"/>
              <a:pathLst>
                <a:path w="194" h="260">
                  <a:moveTo>
                    <a:pt x="127" y="114"/>
                  </a:moveTo>
                  <a:lnTo>
                    <a:pt x="171" y="210"/>
                  </a:lnTo>
                  <a:lnTo>
                    <a:pt x="178" y="188"/>
                  </a:lnTo>
                  <a:lnTo>
                    <a:pt x="186" y="165"/>
                  </a:lnTo>
                  <a:lnTo>
                    <a:pt x="191" y="142"/>
                  </a:lnTo>
                  <a:lnTo>
                    <a:pt x="194" y="118"/>
                  </a:lnTo>
                  <a:lnTo>
                    <a:pt x="194" y="99"/>
                  </a:lnTo>
                  <a:lnTo>
                    <a:pt x="192" y="80"/>
                  </a:lnTo>
                  <a:lnTo>
                    <a:pt x="184" y="60"/>
                  </a:lnTo>
                  <a:lnTo>
                    <a:pt x="172" y="39"/>
                  </a:lnTo>
                  <a:lnTo>
                    <a:pt x="154" y="23"/>
                  </a:lnTo>
                  <a:lnTo>
                    <a:pt x="134" y="11"/>
                  </a:lnTo>
                  <a:lnTo>
                    <a:pt x="114" y="4"/>
                  </a:lnTo>
                  <a:lnTo>
                    <a:pt x="96" y="0"/>
                  </a:lnTo>
                  <a:lnTo>
                    <a:pt x="78" y="157"/>
                  </a:lnTo>
                  <a:lnTo>
                    <a:pt x="74" y="157"/>
                  </a:lnTo>
                  <a:lnTo>
                    <a:pt x="68" y="154"/>
                  </a:lnTo>
                  <a:lnTo>
                    <a:pt x="57" y="149"/>
                  </a:lnTo>
                  <a:lnTo>
                    <a:pt x="48" y="139"/>
                  </a:lnTo>
                  <a:lnTo>
                    <a:pt x="41" y="128"/>
                  </a:lnTo>
                  <a:lnTo>
                    <a:pt x="38" y="118"/>
                  </a:lnTo>
                  <a:lnTo>
                    <a:pt x="36" y="112"/>
                  </a:lnTo>
                  <a:lnTo>
                    <a:pt x="36" y="105"/>
                  </a:lnTo>
                  <a:lnTo>
                    <a:pt x="35" y="113"/>
                  </a:lnTo>
                  <a:lnTo>
                    <a:pt x="32" y="124"/>
                  </a:lnTo>
                  <a:lnTo>
                    <a:pt x="28" y="142"/>
                  </a:lnTo>
                  <a:lnTo>
                    <a:pt x="21" y="163"/>
                  </a:lnTo>
                  <a:lnTo>
                    <a:pt x="65" y="260"/>
                  </a:lnTo>
                  <a:lnTo>
                    <a:pt x="21" y="163"/>
                  </a:lnTo>
                  <a:lnTo>
                    <a:pt x="0" y="231"/>
                  </a:lnTo>
                  <a:lnTo>
                    <a:pt x="65" y="260"/>
                  </a:lnTo>
                  <a:lnTo>
                    <a:pt x="127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5324400" y="4199040"/>
              <a:ext cx="22320" cy="47520"/>
            </a:xfrm>
            <a:custGeom>
              <a:avLst/>
              <a:gdLst/>
              <a:ahLst/>
              <a:rect l="l" t="t" r="r" b="b"/>
              <a:pathLst>
                <a:path w="71" h="150">
                  <a:moveTo>
                    <a:pt x="11" y="150"/>
                  </a:moveTo>
                  <a:lnTo>
                    <a:pt x="71" y="4"/>
                  </a:lnTo>
                  <a:lnTo>
                    <a:pt x="62" y="0"/>
                  </a:lnTo>
                  <a:lnTo>
                    <a:pt x="0" y="146"/>
                  </a:lnTo>
                  <a:lnTo>
                    <a:pt x="9" y="150"/>
                  </a:lnTo>
                  <a:lnTo>
                    <a:pt x="11" y="150"/>
                  </a:lnTo>
                  <a:lnTo>
                    <a:pt x="9" y="150"/>
                  </a:lnTo>
                  <a:lnTo>
                    <a:pt x="10" y="150"/>
                  </a:lnTo>
                  <a:lnTo>
                    <a:pt x="11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5327640" y="4200480"/>
              <a:ext cx="141120" cy="147600"/>
            </a:xfrm>
            <a:custGeom>
              <a:avLst/>
              <a:gdLst/>
              <a:ahLst/>
              <a:rect l="l" t="t" r="r" b="b"/>
              <a:pathLst>
                <a:path w="447" h="465">
                  <a:moveTo>
                    <a:pt x="447" y="419"/>
                  </a:moveTo>
                  <a:lnTo>
                    <a:pt x="446" y="417"/>
                  </a:lnTo>
                  <a:lnTo>
                    <a:pt x="434" y="382"/>
                  </a:lnTo>
                  <a:lnTo>
                    <a:pt x="420" y="348"/>
                  </a:lnTo>
                  <a:lnTo>
                    <a:pt x="403" y="315"/>
                  </a:lnTo>
                  <a:lnTo>
                    <a:pt x="385" y="283"/>
                  </a:lnTo>
                  <a:lnTo>
                    <a:pt x="367" y="251"/>
                  </a:lnTo>
                  <a:lnTo>
                    <a:pt x="346" y="222"/>
                  </a:lnTo>
                  <a:lnTo>
                    <a:pt x="323" y="193"/>
                  </a:lnTo>
                  <a:lnTo>
                    <a:pt x="298" y="165"/>
                  </a:lnTo>
                  <a:lnTo>
                    <a:pt x="273" y="139"/>
                  </a:lnTo>
                  <a:lnTo>
                    <a:pt x="246" y="115"/>
                  </a:lnTo>
                  <a:lnTo>
                    <a:pt x="218" y="91"/>
                  </a:lnTo>
                  <a:lnTo>
                    <a:pt x="188" y="69"/>
                  </a:lnTo>
                  <a:lnTo>
                    <a:pt x="158" y="49"/>
                  </a:lnTo>
                  <a:lnTo>
                    <a:pt x="125" y="32"/>
                  </a:lnTo>
                  <a:lnTo>
                    <a:pt x="93" y="15"/>
                  </a:lnTo>
                  <a:lnTo>
                    <a:pt x="58" y="0"/>
                  </a:lnTo>
                  <a:lnTo>
                    <a:pt x="0" y="146"/>
                  </a:lnTo>
                  <a:lnTo>
                    <a:pt x="26" y="158"/>
                  </a:lnTo>
                  <a:lnTo>
                    <a:pt x="51" y="170"/>
                  </a:lnTo>
                  <a:lnTo>
                    <a:pt x="75" y="185"/>
                  </a:lnTo>
                  <a:lnTo>
                    <a:pt x="99" y="200"/>
                  </a:lnTo>
                  <a:lnTo>
                    <a:pt x="121" y="216"/>
                  </a:lnTo>
                  <a:lnTo>
                    <a:pt x="143" y="234"/>
                  </a:lnTo>
                  <a:lnTo>
                    <a:pt x="163" y="253"/>
                  </a:lnTo>
                  <a:lnTo>
                    <a:pt x="183" y="273"/>
                  </a:lnTo>
                  <a:lnTo>
                    <a:pt x="202" y="294"/>
                  </a:lnTo>
                  <a:lnTo>
                    <a:pt x="219" y="316"/>
                  </a:lnTo>
                  <a:lnTo>
                    <a:pt x="234" y="338"/>
                  </a:lnTo>
                  <a:lnTo>
                    <a:pt x="250" y="362"/>
                  </a:lnTo>
                  <a:lnTo>
                    <a:pt x="264" y="388"/>
                  </a:lnTo>
                  <a:lnTo>
                    <a:pt x="275" y="413"/>
                  </a:lnTo>
                  <a:lnTo>
                    <a:pt x="287" y="439"/>
                  </a:lnTo>
                  <a:lnTo>
                    <a:pt x="296" y="465"/>
                  </a:lnTo>
                  <a:lnTo>
                    <a:pt x="295" y="463"/>
                  </a:lnTo>
                  <a:lnTo>
                    <a:pt x="447" y="419"/>
                  </a:lnTo>
                  <a:lnTo>
                    <a:pt x="446" y="419"/>
                  </a:lnTo>
                  <a:lnTo>
                    <a:pt x="446" y="417"/>
                  </a:lnTo>
                  <a:lnTo>
                    <a:pt x="447" y="4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5421240" y="4332240"/>
              <a:ext cx="49320" cy="42840"/>
            </a:xfrm>
            <a:custGeom>
              <a:avLst/>
              <a:gdLst/>
              <a:ahLst/>
              <a:rect l="l" t="t" r="r" b="b"/>
              <a:pathLst>
                <a:path w="154" h="135">
                  <a:moveTo>
                    <a:pt x="107" y="105"/>
                  </a:moveTo>
                  <a:lnTo>
                    <a:pt x="154" y="9"/>
                  </a:lnTo>
                  <a:lnTo>
                    <a:pt x="152" y="0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107" y="105"/>
                  </a:lnTo>
                  <a:lnTo>
                    <a:pt x="2" y="54"/>
                  </a:lnTo>
                  <a:lnTo>
                    <a:pt x="26" y="135"/>
                  </a:lnTo>
                  <a:lnTo>
                    <a:pt x="107" y="1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5437080" y="4314960"/>
              <a:ext cx="27000" cy="50760"/>
            </a:xfrm>
            <a:custGeom>
              <a:avLst/>
              <a:gdLst/>
              <a:ahLst/>
              <a:rect l="l" t="t" r="r" b="b"/>
              <a:pathLst>
                <a:path w="84" h="161">
                  <a:moveTo>
                    <a:pt x="73" y="0"/>
                  </a:moveTo>
                  <a:lnTo>
                    <a:pt x="73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2" y="2"/>
                  </a:lnTo>
                  <a:lnTo>
                    <a:pt x="43" y="4"/>
                  </a:lnTo>
                  <a:lnTo>
                    <a:pt x="33" y="5"/>
                  </a:lnTo>
                  <a:lnTo>
                    <a:pt x="23" y="7"/>
                  </a:lnTo>
                  <a:lnTo>
                    <a:pt x="11" y="10"/>
                  </a:lnTo>
                  <a:lnTo>
                    <a:pt x="0" y="14"/>
                  </a:lnTo>
                  <a:lnTo>
                    <a:pt x="56" y="161"/>
                  </a:lnTo>
                  <a:lnTo>
                    <a:pt x="57" y="161"/>
                  </a:lnTo>
                  <a:lnTo>
                    <a:pt x="58" y="161"/>
                  </a:lnTo>
                  <a:lnTo>
                    <a:pt x="59" y="161"/>
                  </a:lnTo>
                  <a:lnTo>
                    <a:pt x="62" y="160"/>
                  </a:lnTo>
                  <a:lnTo>
                    <a:pt x="65" y="160"/>
                  </a:lnTo>
                  <a:lnTo>
                    <a:pt x="70" y="160"/>
                  </a:lnTo>
                  <a:lnTo>
                    <a:pt x="76" y="159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5451480" y="4314960"/>
              <a:ext cx="49320" cy="50760"/>
            </a:xfrm>
            <a:custGeom>
              <a:avLst/>
              <a:gdLst/>
              <a:ahLst/>
              <a:rect l="l" t="t" r="r" b="b"/>
              <a:pathLst>
                <a:path w="154" h="161">
                  <a:moveTo>
                    <a:pt x="154" y="71"/>
                  </a:moveTo>
                  <a:lnTo>
                    <a:pt x="154" y="67"/>
                  </a:lnTo>
                  <a:lnTo>
                    <a:pt x="136" y="34"/>
                  </a:lnTo>
                  <a:lnTo>
                    <a:pt x="107" y="11"/>
                  </a:lnTo>
                  <a:lnTo>
                    <a:pt x="81" y="1"/>
                  </a:lnTo>
                  <a:lnTo>
                    <a:pt x="62" y="0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38" y="161"/>
                  </a:lnTo>
                  <a:lnTo>
                    <a:pt x="48" y="160"/>
                  </a:lnTo>
                  <a:lnTo>
                    <a:pt x="56" y="159"/>
                  </a:lnTo>
                  <a:lnTo>
                    <a:pt x="61" y="159"/>
                  </a:lnTo>
                  <a:lnTo>
                    <a:pt x="61" y="158"/>
                  </a:lnTo>
                  <a:lnTo>
                    <a:pt x="52" y="158"/>
                  </a:lnTo>
                  <a:lnTo>
                    <a:pt x="35" y="151"/>
                  </a:lnTo>
                  <a:lnTo>
                    <a:pt x="13" y="134"/>
                  </a:lnTo>
                  <a:lnTo>
                    <a:pt x="1" y="108"/>
                  </a:lnTo>
                  <a:lnTo>
                    <a:pt x="0" y="106"/>
                  </a:lnTo>
                  <a:lnTo>
                    <a:pt x="154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5425920" y="4332240"/>
              <a:ext cx="76320" cy="52560"/>
            </a:xfrm>
            <a:custGeom>
              <a:avLst/>
              <a:gdLst/>
              <a:ahLst/>
              <a:rect l="l" t="t" r="r" b="b"/>
              <a:pathLst>
                <a:path w="238" h="167">
                  <a:moveTo>
                    <a:pt x="157" y="101"/>
                  </a:moveTo>
                  <a:lnTo>
                    <a:pt x="100" y="167"/>
                  </a:lnTo>
                  <a:lnTo>
                    <a:pt x="121" y="162"/>
                  </a:lnTo>
                  <a:lnTo>
                    <a:pt x="141" y="156"/>
                  </a:lnTo>
                  <a:lnTo>
                    <a:pt x="161" y="149"/>
                  </a:lnTo>
                  <a:lnTo>
                    <a:pt x="181" y="141"/>
                  </a:lnTo>
                  <a:lnTo>
                    <a:pt x="197" y="130"/>
                  </a:lnTo>
                  <a:lnTo>
                    <a:pt x="211" y="117"/>
                  </a:lnTo>
                  <a:lnTo>
                    <a:pt x="224" y="101"/>
                  </a:lnTo>
                  <a:lnTo>
                    <a:pt x="232" y="83"/>
                  </a:lnTo>
                  <a:lnTo>
                    <a:pt x="237" y="63"/>
                  </a:lnTo>
                  <a:lnTo>
                    <a:pt x="238" y="45"/>
                  </a:lnTo>
                  <a:lnTo>
                    <a:pt x="237" y="29"/>
                  </a:lnTo>
                  <a:lnTo>
                    <a:pt x="234" y="16"/>
                  </a:lnTo>
                  <a:lnTo>
                    <a:pt x="80" y="51"/>
                  </a:lnTo>
                  <a:lnTo>
                    <a:pt x="80" y="50"/>
                  </a:lnTo>
                  <a:lnTo>
                    <a:pt x="80" y="47"/>
                  </a:lnTo>
                  <a:lnTo>
                    <a:pt x="80" y="41"/>
                  </a:lnTo>
                  <a:lnTo>
                    <a:pt x="83" y="30"/>
                  </a:lnTo>
                  <a:lnTo>
                    <a:pt x="88" y="20"/>
                  </a:lnTo>
                  <a:lnTo>
                    <a:pt x="94" y="10"/>
                  </a:lnTo>
                  <a:lnTo>
                    <a:pt x="101" y="5"/>
                  </a:lnTo>
                  <a:lnTo>
                    <a:pt x="109" y="0"/>
                  </a:lnTo>
                  <a:lnTo>
                    <a:pt x="106" y="2"/>
                  </a:lnTo>
                  <a:lnTo>
                    <a:pt x="97" y="4"/>
                  </a:lnTo>
                  <a:lnTo>
                    <a:pt x="81" y="8"/>
                  </a:lnTo>
                  <a:lnTo>
                    <a:pt x="59" y="15"/>
                  </a:lnTo>
                  <a:lnTo>
                    <a:pt x="0" y="81"/>
                  </a:lnTo>
                  <a:lnTo>
                    <a:pt x="59" y="15"/>
                  </a:lnTo>
                  <a:lnTo>
                    <a:pt x="6" y="28"/>
                  </a:lnTo>
                  <a:lnTo>
                    <a:pt x="0" y="81"/>
                  </a:lnTo>
                  <a:lnTo>
                    <a:pt x="157" y="1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5425920" y="4357800"/>
              <a:ext cx="51120" cy="11160"/>
            </a:xfrm>
            <a:custGeom>
              <a:avLst/>
              <a:gdLst/>
              <a:ahLst/>
              <a:rect l="l" t="t" r="r" b="b"/>
              <a:pathLst>
                <a:path w="159" h="35">
                  <a:moveTo>
                    <a:pt x="2" y="35"/>
                  </a:moveTo>
                  <a:lnTo>
                    <a:pt x="158" y="30"/>
                  </a:lnTo>
                  <a:lnTo>
                    <a:pt x="159" y="20"/>
                  </a:lnTo>
                  <a:lnTo>
                    <a:pt x="2" y="0"/>
                  </a:lnTo>
                  <a:lnTo>
                    <a:pt x="1" y="10"/>
                  </a:lnTo>
                  <a:lnTo>
                    <a:pt x="2" y="35"/>
                  </a:lnTo>
                  <a:lnTo>
                    <a:pt x="1" y="10"/>
                  </a:lnTo>
                  <a:lnTo>
                    <a:pt x="0" y="23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5425920" y="4359240"/>
              <a:ext cx="52560" cy="38160"/>
            </a:xfrm>
            <a:custGeom>
              <a:avLst/>
              <a:gdLst/>
              <a:ahLst/>
              <a:rect l="l" t="t" r="r" b="b"/>
              <a:pathLst>
                <a:path w="166" h="118">
                  <a:moveTo>
                    <a:pt x="166" y="118"/>
                  </a:moveTo>
                  <a:lnTo>
                    <a:pt x="166" y="118"/>
                  </a:lnTo>
                  <a:lnTo>
                    <a:pt x="166" y="103"/>
                  </a:lnTo>
                  <a:lnTo>
                    <a:pt x="165" y="88"/>
                  </a:lnTo>
                  <a:lnTo>
                    <a:pt x="165" y="73"/>
                  </a:lnTo>
                  <a:lnTo>
                    <a:pt x="164" y="59"/>
                  </a:lnTo>
                  <a:lnTo>
                    <a:pt x="162" y="44"/>
                  </a:lnTo>
                  <a:lnTo>
                    <a:pt x="160" y="29"/>
                  </a:lnTo>
                  <a:lnTo>
                    <a:pt x="157" y="15"/>
                  </a:lnTo>
                  <a:lnTo>
                    <a:pt x="155" y="0"/>
                  </a:lnTo>
                  <a:lnTo>
                    <a:pt x="0" y="30"/>
                  </a:lnTo>
                  <a:lnTo>
                    <a:pt x="2" y="41"/>
                  </a:lnTo>
                  <a:lnTo>
                    <a:pt x="3" y="50"/>
                  </a:lnTo>
                  <a:lnTo>
                    <a:pt x="5" y="62"/>
                  </a:lnTo>
                  <a:lnTo>
                    <a:pt x="5" y="72"/>
                  </a:lnTo>
                  <a:lnTo>
                    <a:pt x="6" y="83"/>
                  </a:lnTo>
                  <a:lnTo>
                    <a:pt x="7" y="94"/>
                  </a:lnTo>
                  <a:lnTo>
                    <a:pt x="7" y="106"/>
                  </a:lnTo>
                  <a:lnTo>
                    <a:pt x="7" y="118"/>
                  </a:lnTo>
                  <a:lnTo>
                    <a:pt x="7" y="118"/>
                  </a:lnTo>
                  <a:lnTo>
                    <a:pt x="166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5408640" y="4397400"/>
              <a:ext cx="69840" cy="103320"/>
            </a:xfrm>
            <a:custGeom>
              <a:avLst/>
              <a:gdLst/>
              <a:ahLst/>
              <a:rect l="l" t="t" r="r" b="b"/>
              <a:pathLst>
                <a:path w="223" h="327">
                  <a:moveTo>
                    <a:pt x="136" y="327"/>
                  </a:moveTo>
                  <a:lnTo>
                    <a:pt x="139" y="323"/>
                  </a:lnTo>
                  <a:lnTo>
                    <a:pt x="148" y="305"/>
                  </a:lnTo>
                  <a:lnTo>
                    <a:pt x="158" y="287"/>
                  </a:lnTo>
                  <a:lnTo>
                    <a:pt x="166" y="268"/>
                  </a:lnTo>
                  <a:lnTo>
                    <a:pt x="174" y="249"/>
                  </a:lnTo>
                  <a:lnTo>
                    <a:pt x="182" y="230"/>
                  </a:lnTo>
                  <a:lnTo>
                    <a:pt x="188" y="210"/>
                  </a:lnTo>
                  <a:lnTo>
                    <a:pt x="194" y="190"/>
                  </a:lnTo>
                  <a:lnTo>
                    <a:pt x="201" y="170"/>
                  </a:lnTo>
                  <a:lnTo>
                    <a:pt x="205" y="149"/>
                  </a:lnTo>
                  <a:lnTo>
                    <a:pt x="210" y="129"/>
                  </a:lnTo>
                  <a:lnTo>
                    <a:pt x="213" y="108"/>
                  </a:lnTo>
                  <a:lnTo>
                    <a:pt x="217" y="87"/>
                  </a:lnTo>
                  <a:lnTo>
                    <a:pt x="220" y="65"/>
                  </a:lnTo>
                  <a:lnTo>
                    <a:pt x="221" y="43"/>
                  </a:lnTo>
                  <a:lnTo>
                    <a:pt x="223" y="22"/>
                  </a:lnTo>
                  <a:lnTo>
                    <a:pt x="223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63" y="33"/>
                  </a:lnTo>
                  <a:lnTo>
                    <a:pt x="62" y="49"/>
                  </a:lnTo>
                  <a:lnTo>
                    <a:pt x="60" y="66"/>
                  </a:lnTo>
                  <a:lnTo>
                    <a:pt x="58" y="83"/>
                  </a:lnTo>
                  <a:lnTo>
                    <a:pt x="55" y="98"/>
                  </a:lnTo>
                  <a:lnTo>
                    <a:pt x="52" y="114"/>
                  </a:lnTo>
                  <a:lnTo>
                    <a:pt x="48" y="130"/>
                  </a:lnTo>
                  <a:lnTo>
                    <a:pt x="43" y="144"/>
                  </a:lnTo>
                  <a:lnTo>
                    <a:pt x="38" y="160"/>
                  </a:lnTo>
                  <a:lnTo>
                    <a:pt x="33" y="175"/>
                  </a:lnTo>
                  <a:lnTo>
                    <a:pt x="28" y="190"/>
                  </a:lnTo>
                  <a:lnTo>
                    <a:pt x="21" y="204"/>
                  </a:lnTo>
                  <a:lnTo>
                    <a:pt x="14" y="219"/>
                  </a:lnTo>
                  <a:lnTo>
                    <a:pt x="8" y="233"/>
                  </a:lnTo>
                  <a:lnTo>
                    <a:pt x="0" y="247"/>
                  </a:lnTo>
                  <a:lnTo>
                    <a:pt x="2" y="243"/>
                  </a:lnTo>
                  <a:lnTo>
                    <a:pt x="136" y="327"/>
                  </a:lnTo>
                  <a:lnTo>
                    <a:pt x="138" y="325"/>
                  </a:lnTo>
                  <a:lnTo>
                    <a:pt x="139" y="323"/>
                  </a:lnTo>
                  <a:lnTo>
                    <a:pt x="136" y="3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5388120" y="4473720"/>
              <a:ext cx="63360" cy="42840"/>
            </a:xfrm>
            <a:custGeom>
              <a:avLst/>
              <a:gdLst/>
              <a:ahLst/>
              <a:rect l="l" t="t" r="r" b="b"/>
              <a:pathLst>
                <a:path w="198" h="132">
                  <a:moveTo>
                    <a:pt x="99" y="132"/>
                  </a:moveTo>
                  <a:lnTo>
                    <a:pt x="188" y="99"/>
                  </a:lnTo>
                  <a:lnTo>
                    <a:pt x="198" y="84"/>
                  </a:lnTo>
                  <a:lnTo>
                    <a:pt x="64" y="0"/>
                  </a:lnTo>
                  <a:lnTo>
                    <a:pt x="56" y="14"/>
                  </a:lnTo>
                  <a:lnTo>
                    <a:pt x="99" y="132"/>
                  </a:lnTo>
                  <a:lnTo>
                    <a:pt x="56" y="14"/>
                  </a:lnTo>
                  <a:lnTo>
                    <a:pt x="0" y="102"/>
                  </a:lnTo>
                  <a:lnTo>
                    <a:pt x="99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5419800" y="4467240"/>
              <a:ext cx="34920" cy="54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109" y="33"/>
                  </a:moveTo>
                  <a:lnTo>
                    <a:pt x="109" y="33"/>
                  </a:lnTo>
                  <a:lnTo>
                    <a:pt x="105" y="31"/>
                  </a:lnTo>
                  <a:lnTo>
                    <a:pt x="101" y="28"/>
                  </a:lnTo>
                  <a:lnTo>
                    <a:pt x="96" y="24"/>
                  </a:lnTo>
                  <a:lnTo>
                    <a:pt x="89" y="20"/>
                  </a:lnTo>
                  <a:lnTo>
                    <a:pt x="81" y="15"/>
                  </a:lnTo>
                  <a:lnTo>
                    <a:pt x="71" y="10"/>
                  </a:lnTo>
                  <a:lnTo>
                    <a:pt x="61" y="4"/>
                  </a:lnTo>
                  <a:lnTo>
                    <a:pt x="47" y="0"/>
                  </a:lnTo>
                  <a:lnTo>
                    <a:pt x="1" y="151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" y="151"/>
                  </a:lnTo>
                  <a:lnTo>
                    <a:pt x="4" y="154"/>
                  </a:lnTo>
                  <a:lnTo>
                    <a:pt x="7" y="156"/>
                  </a:lnTo>
                  <a:lnTo>
                    <a:pt x="14" y="160"/>
                  </a:lnTo>
                  <a:lnTo>
                    <a:pt x="22" y="165"/>
                  </a:lnTo>
                  <a:lnTo>
                    <a:pt x="30" y="170"/>
                  </a:lnTo>
                  <a:lnTo>
                    <a:pt x="30" y="170"/>
                  </a:lnTo>
                  <a:lnTo>
                    <a:pt x="109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5425920" y="4478400"/>
              <a:ext cx="51120" cy="44280"/>
            </a:xfrm>
            <a:custGeom>
              <a:avLst/>
              <a:gdLst/>
              <a:ahLst/>
              <a:rect l="l" t="t" r="r" b="b"/>
              <a:pathLst>
                <a:path w="158" h="142">
                  <a:moveTo>
                    <a:pt x="150" y="137"/>
                  </a:moveTo>
                  <a:lnTo>
                    <a:pt x="152" y="133"/>
                  </a:lnTo>
                  <a:lnTo>
                    <a:pt x="158" y="101"/>
                  </a:lnTo>
                  <a:lnTo>
                    <a:pt x="154" y="70"/>
                  </a:lnTo>
                  <a:lnTo>
                    <a:pt x="143" y="47"/>
                  </a:lnTo>
                  <a:lnTo>
                    <a:pt x="131" y="31"/>
                  </a:lnTo>
                  <a:lnTo>
                    <a:pt x="119" y="21"/>
                  </a:lnTo>
                  <a:lnTo>
                    <a:pt x="108" y="12"/>
                  </a:lnTo>
                  <a:lnTo>
                    <a:pt x="99" y="5"/>
                  </a:lnTo>
                  <a:lnTo>
                    <a:pt x="89" y="0"/>
                  </a:lnTo>
                  <a:lnTo>
                    <a:pt x="10" y="137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8" y="142"/>
                  </a:lnTo>
                  <a:lnTo>
                    <a:pt x="16" y="139"/>
                  </a:lnTo>
                  <a:lnTo>
                    <a:pt x="10" y="132"/>
                  </a:lnTo>
                  <a:lnTo>
                    <a:pt x="3" y="118"/>
                  </a:lnTo>
                  <a:lnTo>
                    <a:pt x="0" y="97"/>
                  </a:lnTo>
                  <a:lnTo>
                    <a:pt x="5" y="75"/>
                  </a:lnTo>
                  <a:lnTo>
                    <a:pt x="7" y="70"/>
                  </a:lnTo>
                  <a:lnTo>
                    <a:pt x="150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5408640" y="4483080"/>
              <a:ext cx="65160" cy="60480"/>
            </a:xfrm>
            <a:custGeom>
              <a:avLst/>
              <a:gdLst/>
              <a:ahLst/>
              <a:rect l="l" t="t" r="r" b="b"/>
              <a:pathLst>
                <a:path w="205" h="189">
                  <a:moveTo>
                    <a:pt x="32" y="158"/>
                  </a:moveTo>
                  <a:lnTo>
                    <a:pt x="0" y="151"/>
                  </a:lnTo>
                  <a:lnTo>
                    <a:pt x="19" y="159"/>
                  </a:lnTo>
                  <a:lnTo>
                    <a:pt x="37" y="169"/>
                  </a:lnTo>
                  <a:lnTo>
                    <a:pt x="55" y="177"/>
                  </a:lnTo>
                  <a:lnTo>
                    <a:pt x="75" y="183"/>
                  </a:lnTo>
                  <a:lnTo>
                    <a:pt x="93" y="187"/>
                  </a:lnTo>
                  <a:lnTo>
                    <a:pt x="112" y="189"/>
                  </a:lnTo>
                  <a:lnTo>
                    <a:pt x="133" y="186"/>
                  </a:lnTo>
                  <a:lnTo>
                    <a:pt x="155" y="178"/>
                  </a:lnTo>
                  <a:lnTo>
                    <a:pt x="174" y="165"/>
                  </a:lnTo>
                  <a:lnTo>
                    <a:pt x="187" y="152"/>
                  </a:lnTo>
                  <a:lnTo>
                    <a:pt x="198" y="137"/>
                  </a:lnTo>
                  <a:lnTo>
                    <a:pt x="205" y="122"/>
                  </a:lnTo>
                  <a:lnTo>
                    <a:pt x="62" y="55"/>
                  </a:lnTo>
                  <a:lnTo>
                    <a:pt x="62" y="54"/>
                  </a:lnTo>
                  <a:lnTo>
                    <a:pt x="65" y="51"/>
                  </a:lnTo>
                  <a:lnTo>
                    <a:pt x="72" y="45"/>
                  </a:lnTo>
                  <a:lnTo>
                    <a:pt x="82" y="37"/>
                  </a:lnTo>
                  <a:lnTo>
                    <a:pt x="95" y="32"/>
                  </a:lnTo>
                  <a:lnTo>
                    <a:pt x="106" y="31"/>
                  </a:lnTo>
                  <a:lnTo>
                    <a:pt x="115" y="31"/>
                  </a:lnTo>
                  <a:lnTo>
                    <a:pt x="122" y="33"/>
                  </a:lnTo>
                  <a:lnTo>
                    <a:pt x="116" y="31"/>
                  </a:lnTo>
                  <a:lnTo>
                    <a:pt x="104" y="26"/>
                  </a:lnTo>
                  <a:lnTo>
                    <a:pt x="86" y="16"/>
                  </a:lnTo>
                  <a:lnTo>
                    <a:pt x="63" y="6"/>
                  </a:lnTo>
                  <a:lnTo>
                    <a:pt x="32" y="0"/>
                  </a:lnTo>
                  <a:lnTo>
                    <a:pt x="63" y="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32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5397480" y="4483080"/>
              <a:ext cx="20520" cy="50760"/>
            </a:xfrm>
            <a:custGeom>
              <a:avLst/>
              <a:gdLst/>
              <a:ahLst/>
              <a:rect l="l" t="t" r="r" b="b"/>
              <a:pathLst>
                <a:path w="69" h="158">
                  <a:moveTo>
                    <a:pt x="0" y="32"/>
                  </a:moveTo>
                  <a:lnTo>
                    <a:pt x="64" y="158"/>
                  </a:lnTo>
                  <a:lnTo>
                    <a:pt x="69" y="158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0" y="32"/>
                  </a:lnTo>
                  <a:lnTo>
                    <a:pt x="64" y="0"/>
                  </a:lnTo>
                  <a:lnTo>
                    <a:pt x="24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5353200" y="4492800"/>
              <a:ext cx="83880" cy="83880"/>
            </a:xfrm>
            <a:custGeom>
              <a:avLst/>
              <a:gdLst/>
              <a:ahLst/>
              <a:rect l="l" t="t" r="r" b="b"/>
              <a:pathLst>
                <a:path w="266" h="264">
                  <a:moveTo>
                    <a:pt x="80" y="264"/>
                  </a:moveTo>
                  <a:lnTo>
                    <a:pt x="84" y="260"/>
                  </a:lnTo>
                  <a:lnTo>
                    <a:pt x="110" y="244"/>
                  </a:lnTo>
                  <a:lnTo>
                    <a:pt x="134" y="226"/>
                  </a:lnTo>
                  <a:lnTo>
                    <a:pt x="159" y="206"/>
                  </a:lnTo>
                  <a:lnTo>
                    <a:pt x="182" y="186"/>
                  </a:lnTo>
                  <a:lnTo>
                    <a:pt x="205" y="165"/>
                  </a:lnTo>
                  <a:lnTo>
                    <a:pt x="226" y="142"/>
                  </a:lnTo>
                  <a:lnTo>
                    <a:pt x="246" y="118"/>
                  </a:lnTo>
                  <a:lnTo>
                    <a:pt x="266" y="94"/>
                  </a:lnTo>
                  <a:lnTo>
                    <a:pt x="138" y="0"/>
                  </a:lnTo>
                  <a:lnTo>
                    <a:pt x="124" y="18"/>
                  </a:lnTo>
                  <a:lnTo>
                    <a:pt x="108" y="36"/>
                  </a:lnTo>
                  <a:lnTo>
                    <a:pt x="93" y="54"/>
                  </a:lnTo>
                  <a:lnTo>
                    <a:pt x="76" y="69"/>
                  </a:lnTo>
                  <a:lnTo>
                    <a:pt x="58" y="85"/>
                  </a:lnTo>
                  <a:lnTo>
                    <a:pt x="39" y="100"/>
                  </a:lnTo>
                  <a:lnTo>
                    <a:pt x="20" y="115"/>
                  </a:lnTo>
                  <a:lnTo>
                    <a:pt x="0" y="128"/>
                  </a:lnTo>
                  <a:lnTo>
                    <a:pt x="4" y="125"/>
                  </a:lnTo>
                  <a:lnTo>
                    <a:pt x="80" y="264"/>
                  </a:lnTo>
                  <a:lnTo>
                    <a:pt x="82" y="263"/>
                  </a:lnTo>
                  <a:lnTo>
                    <a:pt x="84" y="260"/>
                  </a:lnTo>
                  <a:lnTo>
                    <a:pt x="80" y="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5329080" y="4532400"/>
              <a:ext cx="49320" cy="4752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33" y="112"/>
                  </a:moveTo>
                  <a:lnTo>
                    <a:pt x="141" y="147"/>
                  </a:lnTo>
                  <a:lnTo>
                    <a:pt x="156" y="139"/>
                  </a:lnTo>
                  <a:lnTo>
                    <a:pt x="80" y="0"/>
                  </a:lnTo>
                  <a:lnTo>
                    <a:pt x="66" y="7"/>
                  </a:lnTo>
                  <a:lnTo>
                    <a:pt x="33" y="112"/>
                  </a:lnTo>
                  <a:lnTo>
                    <a:pt x="66" y="7"/>
                  </a:lnTo>
                  <a:lnTo>
                    <a:pt x="0" y="44"/>
                  </a:lnTo>
                  <a:lnTo>
                    <a:pt x="33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5338800" y="4546440"/>
              <a:ext cx="52200" cy="38160"/>
            </a:xfrm>
            <a:custGeom>
              <a:avLst/>
              <a:gdLst/>
              <a:ahLst/>
              <a:rect l="l" t="t" r="r" b="b"/>
              <a:pathLst>
                <a:path w="163" h="122">
                  <a:moveTo>
                    <a:pt x="162" y="39"/>
                  </a:moveTo>
                  <a:lnTo>
                    <a:pt x="163" y="41"/>
                  </a:lnTo>
                  <a:lnTo>
                    <a:pt x="160" y="37"/>
                  </a:lnTo>
                  <a:lnTo>
                    <a:pt x="158" y="32"/>
                  </a:lnTo>
                  <a:lnTo>
                    <a:pt x="155" y="27"/>
                  </a:lnTo>
                  <a:lnTo>
                    <a:pt x="153" y="23"/>
                  </a:lnTo>
                  <a:lnTo>
                    <a:pt x="150" y="17"/>
                  </a:lnTo>
                  <a:lnTo>
                    <a:pt x="148" y="12"/>
                  </a:lnTo>
                  <a:lnTo>
                    <a:pt x="145" y="6"/>
                  </a:lnTo>
                  <a:lnTo>
                    <a:pt x="142" y="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1"/>
                  </a:lnTo>
                  <a:lnTo>
                    <a:pt x="9" y="87"/>
                  </a:lnTo>
                  <a:lnTo>
                    <a:pt x="12" y="93"/>
                  </a:lnTo>
                  <a:lnTo>
                    <a:pt x="15" y="100"/>
                  </a:lnTo>
                  <a:lnTo>
                    <a:pt x="18" y="107"/>
                  </a:lnTo>
                  <a:lnTo>
                    <a:pt x="22" y="113"/>
                  </a:lnTo>
                  <a:lnTo>
                    <a:pt x="26" y="121"/>
                  </a:lnTo>
                  <a:lnTo>
                    <a:pt x="27" y="122"/>
                  </a:lnTo>
                  <a:lnTo>
                    <a:pt x="162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5348160" y="4559400"/>
              <a:ext cx="52560" cy="46080"/>
            </a:xfrm>
            <a:custGeom>
              <a:avLst/>
              <a:gdLst/>
              <a:ahLst/>
              <a:rect l="l" t="t" r="r" b="b"/>
              <a:pathLst>
                <a:path w="167" h="148">
                  <a:moveTo>
                    <a:pt x="140" y="148"/>
                  </a:moveTo>
                  <a:lnTo>
                    <a:pt x="142" y="147"/>
                  </a:lnTo>
                  <a:lnTo>
                    <a:pt x="156" y="129"/>
                  </a:lnTo>
                  <a:lnTo>
                    <a:pt x="164" y="109"/>
                  </a:lnTo>
                  <a:lnTo>
                    <a:pt x="167" y="90"/>
                  </a:lnTo>
                  <a:lnTo>
                    <a:pt x="167" y="68"/>
                  </a:lnTo>
                  <a:lnTo>
                    <a:pt x="162" y="50"/>
                  </a:lnTo>
                  <a:lnTo>
                    <a:pt x="155" y="33"/>
                  </a:lnTo>
                  <a:lnTo>
                    <a:pt x="148" y="22"/>
                  </a:lnTo>
                  <a:lnTo>
                    <a:pt x="142" y="12"/>
                  </a:lnTo>
                  <a:lnTo>
                    <a:pt x="138" y="5"/>
                  </a:lnTo>
                  <a:lnTo>
                    <a:pt x="135" y="0"/>
                  </a:lnTo>
                  <a:lnTo>
                    <a:pt x="0" y="83"/>
                  </a:lnTo>
                  <a:lnTo>
                    <a:pt x="5" y="91"/>
                  </a:lnTo>
                  <a:lnTo>
                    <a:pt x="10" y="98"/>
                  </a:lnTo>
                  <a:lnTo>
                    <a:pt x="12" y="103"/>
                  </a:lnTo>
                  <a:lnTo>
                    <a:pt x="13" y="104"/>
                  </a:lnTo>
                  <a:lnTo>
                    <a:pt x="12" y="102"/>
                  </a:lnTo>
                  <a:lnTo>
                    <a:pt x="11" y="95"/>
                  </a:lnTo>
                  <a:lnTo>
                    <a:pt x="10" y="79"/>
                  </a:lnTo>
                  <a:lnTo>
                    <a:pt x="12" y="64"/>
                  </a:lnTo>
                  <a:lnTo>
                    <a:pt x="19" y="49"/>
                  </a:lnTo>
                  <a:lnTo>
                    <a:pt x="30" y="36"/>
                  </a:lnTo>
                  <a:lnTo>
                    <a:pt x="31" y="35"/>
                  </a:lnTo>
                  <a:lnTo>
                    <a:pt x="140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5324400" y="4535640"/>
              <a:ext cx="68400" cy="80640"/>
            </a:xfrm>
            <a:custGeom>
              <a:avLst/>
              <a:gdLst/>
              <a:ahLst/>
              <a:rect l="l" t="t" r="r" b="b"/>
              <a:pathLst>
                <a:path w="212" h="252">
                  <a:moveTo>
                    <a:pt x="94" y="170"/>
                  </a:moveTo>
                  <a:lnTo>
                    <a:pt x="0" y="141"/>
                  </a:lnTo>
                  <a:lnTo>
                    <a:pt x="13" y="160"/>
                  </a:lnTo>
                  <a:lnTo>
                    <a:pt x="26" y="180"/>
                  </a:lnTo>
                  <a:lnTo>
                    <a:pt x="41" y="200"/>
                  </a:lnTo>
                  <a:lnTo>
                    <a:pt x="56" y="217"/>
                  </a:lnTo>
                  <a:lnTo>
                    <a:pt x="70" y="229"/>
                  </a:lnTo>
                  <a:lnTo>
                    <a:pt x="85" y="239"/>
                  </a:lnTo>
                  <a:lnTo>
                    <a:pt x="105" y="248"/>
                  </a:lnTo>
                  <a:lnTo>
                    <a:pt x="128" y="252"/>
                  </a:lnTo>
                  <a:lnTo>
                    <a:pt x="153" y="251"/>
                  </a:lnTo>
                  <a:lnTo>
                    <a:pt x="177" y="244"/>
                  </a:lnTo>
                  <a:lnTo>
                    <a:pt x="197" y="234"/>
                  </a:lnTo>
                  <a:lnTo>
                    <a:pt x="212" y="220"/>
                  </a:lnTo>
                  <a:lnTo>
                    <a:pt x="103" y="107"/>
                  </a:lnTo>
                  <a:lnTo>
                    <a:pt x="106" y="103"/>
                  </a:lnTo>
                  <a:lnTo>
                    <a:pt x="114" y="99"/>
                  </a:lnTo>
                  <a:lnTo>
                    <a:pt x="126" y="96"/>
                  </a:lnTo>
                  <a:lnTo>
                    <a:pt x="141" y="95"/>
                  </a:lnTo>
                  <a:lnTo>
                    <a:pt x="153" y="97"/>
                  </a:lnTo>
                  <a:lnTo>
                    <a:pt x="162" y="101"/>
                  </a:lnTo>
                  <a:lnTo>
                    <a:pt x="166" y="104"/>
                  </a:lnTo>
                  <a:lnTo>
                    <a:pt x="169" y="107"/>
                  </a:lnTo>
                  <a:lnTo>
                    <a:pt x="163" y="100"/>
                  </a:lnTo>
                  <a:lnTo>
                    <a:pt x="154" y="89"/>
                  </a:lnTo>
                  <a:lnTo>
                    <a:pt x="144" y="72"/>
                  </a:lnTo>
                  <a:lnTo>
                    <a:pt x="130" y="52"/>
                  </a:lnTo>
                  <a:lnTo>
                    <a:pt x="36" y="24"/>
                  </a:lnTo>
                  <a:lnTo>
                    <a:pt x="130" y="52"/>
                  </a:lnTo>
                  <a:lnTo>
                    <a:pt x="94" y="0"/>
                  </a:lnTo>
                  <a:lnTo>
                    <a:pt x="36" y="24"/>
                  </a:lnTo>
                  <a:lnTo>
                    <a:pt x="94" y="1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5330880" y="4543560"/>
              <a:ext cx="23760" cy="47520"/>
            </a:xfrm>
            <a:custGeom>
              <a:avLst/>
              <a:gdLst/>
              <a:ahLst/>
              <a:rect l="l" t="t" r="r" b="b"/>
              <a:pathLst>
                <a:path w="74" h="151">
                  <a:moveTo>
                    <a:pt x="0" y="6"/>
                  </a:moveTo>
                  <a:lnTo>
                    <a:pt x="61" y="151"/>
                  </a:lnTo>
                  <a:lnTo>
                    <a:pt x="74" y="146"/>
                  </a:lnTo>
                  <a:lnTo>
                    <a:pt x="16" y="0"/>
                  </a:lnTo>
                  <a:lnTo>
                    <a:pt x="3" y="5"/>
                  </a:lnTo>
                  <a:lnTo>
                    <a:pt x="0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5267160" y="4545000"/>
              <a:ext cx="84240" cy="63360"/>
            </a:xfrm>
            <a:custGeom>
              <a:avLst/>
              <a:gdLst/>
              <a:ahLst/>
              <a:rect l="l" t="t" r="r" b="b"/>
              <a:pathLst>
                <a:path w="267" h="199">
                  <a:moveTo>
                    <a:pt x="0" y="199"/>
                  </a:moveTo>
                  <a:lnTo>
                    <a:pt x="0" y="199"/>
                  </a:lnTo>
                  <a:lnTo>
                    <a:pt x="36" y="198"/>
                  </a:lnTo>
                  <a:lnTo>
                    <a:pt x="71" y="196"/>
                  </a:lnTo>
                  <a:lnTo>
                    <a:pt x="105" y="192"/>
                  </a:lnTo>
                  <a:lnTo>
                    <a:pt x="139" y="186"/>
                  </a:lnTo>
                  <a:lnTo>
                    <a:pt x="171" y="177"/>
                  </a:lnTo>
                  <a:lnTo>
                    <a:pt x="204" y="168"/>
                  </a:lnTo>
                  <a:lnTo>
                    <a:pt x="236" y="157"/>
                  </a:lnTo>
                  <a:lnTo>
                    <a:pt x="267" y="145"/>
                  </a:lnTo>
                  <a:lnTo>
                    <a:pt x="204" y="0"/>
                  </a:lnTo>
                  <a:lnTo>
                    <a:pt x="181" y="9"/>
                  </a:lnTo>
                  <a:lnTo>
                    <a:pt x="157" y="18"/>
                  </a:lnTo>
                  <a:lnTo>
                    <a:pt x="133" y="25"/>
                  </a:lnTo>
                  <a:lnTo>
                    <a:pt x="107" y="30"/>
                  </a:lnTo>
                  <a:lnTo>
                    <a:pt x="81" y="36"/>
                  </a:lnTo>
                  <a:lnTo>
                    <a:pt x="55" y="39"/>
                  </a:lnTo>
                  <a:lnTo>
                    <a:pt x="29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5168880" y="4540320"/>
              <a:ext cx="98280" cy="68040"/>
            </a:xfrm>
            <a:custGeom>
              <a:avLst/>
              <a:gdLst/>
              <a:ahLst/>
              <a:rect l="l" t="t" r="r" b="b"/>
              <a:pathLst>
                <a:path w="308" h="214">
                  <a:moveTo>
                    <a:pt x="0" y="139"/>
                  </a:moveTo>
                  <a:lnTo>
                    <a:pt x="2" y="140"/>
                  </a:lnTo>
                  <a:lnTo>
                    <a:pt x="20" y="149"/>
                  </a:lnTo>
                  <a:lnTo>
                    <a:pt x="38" y="158"/>
                  </a:lnTo>
                  <a:lnTo>
                    <a:pt x="56" y="165"/>
                  </a:lnTo>
                  <a:lnTo>
                    <a:pt x="73" y="171"/>
                  </a:lnTo>
                  <a:lnTo>
                    <a:pt x="92" y="179"/>
                  </a:lnTo>
                  <a:lnTo>
                    <a:pt x="111" y="185"/>
                  </a:lnTo>
                  <a:lnTo>
                    <a:pt x="130" y="190"/>
                  </a:lnTo>
                  <a:lnTo>
                    <a:pt x="149" y="195"/>
                  </a:lnTo>
                  <a:lnTo>
                    <a:pt x="169" y="200"/>
                  </a:lnTo>
                  <a:lnTo>
                    <a:pt x="188" y="203"/>
                  </a:lnTo>
                  <a:lnTo>
                    <a:pt x="208" y="207"/>
                  </a:lnTo>
                  <a:lnTo>
                    <a:pt x="228" y="209"/>
                  </a:lnTo>
                  <a:lnTo>
                    <a:pt x="248" y="212"/>
                  </a:lnTo>
                  <a:lnTo>
                    <a:pt x="269" y="213"/>
                  </a:lnTo>
                  <a:lnTo>
                    <a:pt x="288" y="214"/>
                  </a:lnTo>
                  <a:lnTo>
                    <a:pt x="308" y="214"/>
                  </a:lnTo>
                  <a:lnTo>
                    <a:pt x="308" y="56"/>
                  </a:lnTo>
                  <a:lnTo>
                    <a:pt x="293" y="56"/>
                  </a:lnTo>
                  <a:lnTo>
                    <a:pt x="277" y="56"/>
                  </a:lnTo>
                  <a:lnTo>
                    <a:pt x="262" y="54"/>
                  </a:lnTo>
                  <a:lnTo>
                    <a:pt x="246" y="53"/>
                  </a:lnTo>
                  <a:lnTo>
                    <a:pt x="232" y="51"/>
                  </a:lnTo>
                  <a:lnTo>
                    <a:pt x="216" y="48"/>
                  </a:lnTo>
                  <a:lnTo>
                    <a:pt x="201" y="45"/>
                  </a:lnTo>
                  <a:lnTo>
                    <a:pt x="187" y="42"/>
                  </a:lnTo>
                  <a:lnTo>
                    <a:pt x="172" y="38"/>
                  </a:lnTo>
                  <a:lnTo>
                    <a:pt x="157" y="34"/>
                  </a:lnTo>
                  <a:lnTo>
                    <a:pt x="143" y="29"/>
                  </a:lnTo>
                  <a:lnTo>
                    <a:pt x="129" y="24"/>
                  </a:lnTo>
                  <a:lnTo>
                    <a:pt x="115" y="18"/>
                  </a:lnTo>
                  <a:lnTo>
                    <a:pt x="102" y="13"/>
                  </a:lnTo>
                  <a:lnTo>
                    <a:pt x="88" y="6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0" y="139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5154480" y="4525920"/>
              <a:ext cx="38160" cy="58680"/>
            </a:xfrm>
            <a:custGeom>
              <a:avLst/>
              <a:gdLst/>
              <a:ahLst/>
              <a:rect l="l" t="t" r="r" b="b"/>
              <a:pathLst>
                <a:path w="121" h="186">
                  <a:moveTo>
                    <a:pt x="0" y="78"/>
                  </a:moveTo>
                  <a:lnTo>
                    <a:pt x="33" y="179"/>
                  </a:lnTo>
                  <a:lnTo>
                    <a:pt x="45" y="186"/>
                  </a:lnTo>
                  <a:lnTo>
                    <a:pt x="121" y="48"/>
                  </a:lnTo>
                  <a:lnTo>
                    <a:pt x="110" y="42"/>
                  </a:lnTo>
                  <a:lnTo>
                    <a:pt x="0" y="78"/>
                  </a:lnTo>
                  <a:lnTo>
                    <a:pt x="110" y="42"/>
                  </a:lnTo>
                  <a:lnTo>
                    <a:pt x="35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5148360" y="4549680"/>
              <a:ext cx="52200" cy="39960"/>
            </a:xfrm>
            <a:custGeom>
              <a:avLst/>
              <a:gdLst/>
              <a:ahLst/>
              <a:rect l="l" t="t" r="r" b="b"/>
              <a:pathLst>
                <a:path w="162" h="122">
                  <a:moveTo>
                    <a:pt x="133" y="121"/>
                  </a:moveTo>
                  <a:lnTo>
                    <a:pt x="132" y="122"/>
                  </a:lnTo>
                  <a:lnTo>
                    <a:pt x="137" y="114"/>
                  </a:lnTo>
                  <a:lnTo>
                    <a:pt x="143" y="106"/>
                  </a:lnTo>
                  <a:lnTo>
                    <a:pt x="147" y="98"/>
                  </a:lnTo>
                  <a:lnTo>
                    <a:pt x="150" y="91"/>
                  </a:lnTo>
                  <a:lnTo>
                    <a:pt x="153" y="84"/>
                  </a:lnTo>
                  <a:lnTo>
                    <a:pt x="156" y="77"/>
                  </a:lnTo>
                  <a:lnTo>
                    <a:pt x="159" y="71"/>
                  </a:lnTo>
                  <a:lnTo>
                    <a:pt x="162" y="66"/>
                  </a:lnTo>
                  <a:lnTo>
                    <a:pt x="18" y="0"/>
                  </a:lnTo>
                  <a:lnTo>
                    <a:pt x="15" y="6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8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5"/>
                  </a:lnTo>
                  <a:lnTo>
                    <a:pt x="133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5146560" y="4560840"/>
              <a:ext cx="44640" cy="50760"/>
            </a:xfrm>
            <a:custGeom>
              <a:avLst/>
              <a:gdLst/>
              <a:ahLst/>
              <a:rect l="l" t="t" r="r" b="b"/>
              <a:pathLst>
                <a:path w="141" h="158">
                  <a:moveTo>
                    <a:pt x="5" y="153"/>
                  </a:moveTo>
                  <a:lnTo>
                    <a:pt x="10" y="155"/>
                  </a:lnTo>
                  <a:lnTo>
                    <a:pt x="42" y="158"/>
                  </a:lnTo>
                  <a:lnTo>
                    <a:pt x="70" y="152"/>
                  </a:lnTo>
                  <a:lnTo>
                    <a:pt x="91" y="141"/>
                  </a:lnTo>
                  <a:lnTo>
                    <a:pt x="106" y="129"/>
                  </a:lnTo>
                  <a:lnTo>
                    <a:pt x="117" y="118"/>
                  </a:lnTo>
                  <a:lnTo>
                    <a:pt x="125" y="107"/>
                  </a:lnTo>
                  <a:lnTo>
                    <a:pt x="134" y="97"/>
                  </a:lnTo>
                  <a:lnTo>
                    <a:pt x="141" y="86"/>
                  </a:lnTo>
                  <a:lnTo>
                    <a:pt x="8" y="0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9"/>
                  </a:lnTo>
                  <a:lnTo>
                    <a:pt x="14" y="3"/>
                  </a:lnTo>
                  <a:lnTo>
                    <a:pt x="32" y="0"/>
                  </a:lnTo>
                  <a:lnTo>
                    <a:pt x="52" y="2"/>
                  </a:lnTo>
                  <a:lnTo>
                    <a:pt x="58" y="5"/>
                  </a:lnTo>
                  <a:lnTo>
                    <a:pt x="5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5124600" y="4529160"/>
              <a:ext cx="71280" cy="81000"/>
            </a:xfrm>
            <a:custGeom>
              <a:avLst/>
              <a:gdLst/>
              <a:ahLst/>
              <a:rect l="l" t="t" r="r" b="b"/>
              <a:pathLst>
                <a:path w="227" h="256">
                  <a:moveTo>
                    <a:pt x="80" y="138"/>
                  </a:moveTo>
                  <a:lnTo>
                    <a:pt x="52" y="30"/>
                  </a:lnTo>
                  <a:lnTo>
                    <a:pt x="39" y="50"/>
                  </a:lnTo>
                  <a:lnTo>
                    <a:pt x="28" y="71"/>
                  </a:lnTo>
                  <a:lnTo>
                    <a:pt x="16" y="92"/>
                  </a:lnTo>
                  <a:lnTo>
                    <a:pt x="8" y="114"/>
                  </a:lnTo>
                  <a:lnTo>
                    <a:pt x="2" y="133"/>
                  </a:lnTo>
                  <a:lnTo>
                    <a:pt x="0" y="152"/>
                  </a:lnTo>
                  <a:lnTo>
                    <a:pt x="1" y="173"/>
                  </a:lnTo>
                  <a:lnTo>
                    <a:pt x="9" y="196"/>
                  </a:lnTo>
                  <a:lnTo>
                    <a:pt x="21" y="218"/>
                  </a:lnTo>
                  <a:lnTo>
                    <a:pt x="38" y="236"/>
                  </a:lnTo>
                  <a:lnTo>
                    <a:pt x="57" y="248"/>
                  </a:lnTo>
                  <a:lnTo>
                    <a:pt x="75" y="256"/>
                  </a:lnTo>
                  <a:lnTo>
                    <a:pt x="128" y="108"/>
                  </a:lnTo>
                  <a:lnTo>
                    <a:pt x="131" y="109"/>
                  </a:lnTo>
                  <a:lnTo>
                    <a:pt x="139" y="114"/>
                  </a:lnTo>
                  <a:lnTo>
                    <a:pt x="147" y="122"/>
                  </a:lnTo>
                  <a:lnTo>
                    <a:pt x="155" y="135"/>
                  </a:lnTo>
                  <a:lnTo>
                    <a:pt x="158" y="147"/>
                  </a:lnTo>
                  <a:lnTo>
                    <a:pt x="159" y="157"/>
                  </a:lnTo>
                  <a:lnTo>
                    <a:pt x="158" y="162"/>
                  </a:lnTo>
                  <a:lnTo>
                    <a:pt x="157" y="166"/>
                  </a:lnTo>
                  <a:lnTo>
                    <a:pt x="160" y="158"/>
                  </a:lnTo>
                  <a:lnTo>
                    <a:pt x="166" y="146"/>
                  </a:lnTo>
                  <a:lnTo>
                    <a:pt x="176" y="130"/>
                  </a:lnTo>
                  <a:lnTo>
                    <a:pt x="188" y="109"/>
                  </a:lnTo>
                  <a:lnTo>
                    <a:pt x="159" y="0"/>
                  </a:lnTo>
                  <a:lnTo>
                    <a:pt x="188" y="109"/>
                  </a:lnTo>
                  <a:lnTo>
                    <a:pt x="227" y="40"/>
                  </a:lnTo>
                  <a:lnTo>
                    <a:pt x="159" y="0"/>
                  </a:lnTo>
                  <a:lnTo>
                    <a:pt x="80" y="1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5145120" y="4527720"/>
              <a:ext cx="30240" cy="442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0" y="134"/>
                  </a:moveTo>
                  <a:lnTo>
                    <a:pt x="7" y="138"/>
                  </a:lnTo>
                  <a:lnTo>
                    <a:pt x="15" y="143"/>
                  </a:lnTo>
                  <a:lnTo>
                    <a:pt x="94" y="5"/>
                  </a:lnTo>
                  <a:lnTo>
                    <a:pt x="84" y="0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136"/>
                  </a:lnTo>
                  <a:lnTo>
                    <a:pt x="7" y="138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5059440" y="4427640"/>
              <a:ext cx="114120" cy="142920"/>
            </a:xfrm>
            <a:custGeom>
              <a:avLst/>
              <a:gdLst/>
              <a:ahLst/>
              <a:rect l="l" t="t" r="r" b="b"/>
              <a:pathLst>
                <a:path w="358" h="448">
                  <a:moveTo>
                    <a:pt x="3" y="55"/>
                  </a:moveTo>
                  <a:lnTo>
                    <a:pt x="0" y="44"/>
                  </a:lnTo>
                  <a:lnTo>
                    <a:pt x="7" y="75"/>
                  </a:lnTo>
                  <a:lnTo>
                    <a:pt x="17" y="105"/>
                  </a:lnTo>
                  <a:lnTo>
                    <a:pt x="26" y="135"/>
                  </a:lnTo>
                  <a:lnTo>
                    <a:pt x="39" y="164"/>
                  </a:lnTo>
                  <a:lnTo>
                    <a:pt x="51" y="192"/>
                  </a:lnTo>
                  <a:lnTo>
                    <a:pt x="65" y="220"/>
                  </a:lnTo>
                  <a:lnTo>
                    <a:pt x="81" y="247"/>
                  </a:lnTo>
                  <a:lnTo>
                    <a:pt x="96" y="273"/>
                  </a:lnTo>
                  <a:lnTo>
                    <a:pt x="114" y="298"/>
                  </a:lnTo>
                  <a:lnTo>
                    <a:pt x="133" y="323"/>
                  </a:lnTo>
                  <a:lnTo>
                    <a:pt x="153" y="346"/>
                  </a:lnTo>
                  <a:lnTo>
                    <a:pt x="174" y="369"/>
                  </a:lnTo>
                  <a:lnTo>
                    <a:pt x="196" y="390"/>
                  </a:lnTo>
                  <a:lnTo>
                    <a:pt x="219" y="411"/>
                  </a:lnTo>
                  <a:lnTo>
                    <a:pt x="242" y="430"/>
                  </a:lnTo>
                  <a:lnTo>
                    <a:pt x="267" y="448"/>
                  </a:lnTo>
                  <a:lnTo>
                    <a:pt x="358" y="318"/>
                  </a:lnTo>
                  <a:lnTo>
                    <a:pt x="339" y="305"/>
                  </a:lnTo>
                  <a:lnTo>
                    <a:pt x="321" y="290"/>
                  </a:lnTo>
                  <a:lnTo>
                    <a:pt x="303" y="274"/>
                  </a:lnTo>
                  <a:lnTo>
                    <a:pt x="287" y="259"/>
                  </a:lnTo>
                  <a:lnTo>
                    <a:pt x="272" y="241"/>
                  </a:lnTo>
                  <a:lnTo>
                    <a:pt x="256" y="223"/>
                  </a:lnTo>
                  <a:lnTo>
                    <a:pt x="242" y="205"/>
                  </a:lnTo>
                  <a:lnTo>
                    <a:pt x="229" y="186"/>
                  </a:lnTo>
                  <a:lnTo>
                    <a:pt x="216" y="165"/>
                  </a:lnTo>
                  <a:lnTo>
                    <a:pt x="204" y="145"/>
                  </a:lnTo>
                  <a:lnTo>
                    <a:pt x="193" y="124"/>
                  </a:lnTo>
                  <a:lnTo>
                    <a:pt x="183" y="102"/>
                  </a:lnTo>
                  <a:lnTo>
                    <a:pt x="175" y="80"/>
                  </a:lnTo>
                  <a:lnTo>
                    <a:pt x="167" y="58"/>
                  </a:lnTo>
                  <a:lnTo>
                    <a:pt x="160" y="35"/>
                  </a:lnTo>
                  <a:lnTo>
                    <a:pt x="155" y="11"/>
                  </a:lnTo>
                  <a:lnTo>
                    <a:pt x="152" y="0"/>
                  </a:lnTo>
                  <a:lnTo>
                    <a:pt x="155" y="11"/>
                  </a:lnTo>
                  <a:lnTo>
                    <a:pt x="153" y="5"/>
                  </a:lnTo>
                  <a:lnTo>
                    <a:pt x="152" y="0"/>
                  </a:lnTo>
                  <a:lnTo>
                    <a:pt x="3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5059440" y="4400640"/>
              <a:ext cx="48960" cy="442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52" y="20"/>
                  </a:moveTo>
                  <a:lnTo>
                    <a:pt x="0" y="123"/>
                  </a:lnTo>
                  <a:lnTo>
                    <a:pt x="5" y="138"/>
                  </a:lnTo>
                  <a:lnTo>
                    <a:pt x="154" y="83"/>
                  </a:lnTo>
                  <a:lnTo>
                    <a:pt x="149" y="70"/>
                  </a:lnTo>
                  <a:lnTo>
                    <a:pt x="52" y="20"/>
                  </a:lnTo>
                  <a:lnTo>
                    <a:pt x="149" y="70"/>
                  </a:lnTo>
                  <a:lnTo>
                    <a:pt x="123" y="0"/>
                  </a:lnTo>
                  <a:lnTo>
                    <a:pt x="52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5065560" y="4406760"/>
              <a:ext cx="24120" cy="5256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16" y="165"/>
                  </a:moveTo>
                  <a:lnTo>
                    <a:pt x="22" y="165"/>
                  </a:lnTo>
                  <a:lnTo>
                    <a:pt x="30" y="164"/>
                  </a:lnTo>
                  <a:lnTo>
                    <a:pt x="37" y="162"/>
                  </a:lnTo>
                  <a:lnTo>
                    <a:pt x="45" y="161"/>
                  </a:lnTo>
                  <a:lnTo>
                    <a:pt x="52" y="160"/>
                  </a:lnTo>
                  <a:lnTo>
                    <a:pt x="58" y="158"/>
                  </a:lnTo>
                  <a:lnTo>
                    <a:pt x="65" y="156"/>
                  </a:lnTo>
                  <a:lnTo>
                    <a:pt x="71" y="155"/>
                  </a:lnTo>
                  <a:lnTo>
                    <a:pt x="77" y="15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0" y="9"/>
                  </a:lnTo>
                  <a:lnTo>
                    <a:pt x="6" y="8"/>
                  </a:lnTo>
                  <a:lnTo>
                    <a:pt x="16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5027760" y="4410000"/>
              <a:ext cx="47520" cy="50760"/>
            </a:xfrm>
            <a:custGeom>
              <a:avLst/>
              <a:gdLst/>
              <a:ahLst/>
              <a:rect l="l" t="t" r="r" b="b"/>
              <a:pathLst>
                <a:path w="148" h="159">
                  <a:moveTo>
                    <a:pt x="0" y="97"/>
                  </a:moveTo>
                  <a:lnTo>
                    <a:pt x="2" y="101"/>
                  </a:lnTo>
                  <a:lnTo>
                    <a:pt x="12" y="119"/>
                  </a:lnTo>
                  <a:lnTo>
                    <a:pt x="25" y="134"/>
                  </a:lnTo>
                  <a:lnTo>
                    <a:pt x="39" y="144"/>
                  </a:lnTo>
                  <a:lnTo>
                    <a:pt x="57" y="152"/>
                  </a:lnTo>
                  <a:lnTo>
                    <a:pt x="74" y="157"/>
                  </a:lnTo>
                  <a:lnTo>
                    <a:pt x="92" y="159"/>
                  </a:lnTo>
                  <a:lnTo>
                    <a:pt x="106" y="159"/>
                  </a:lnTo>
                  <a:lnTo>
                    <a:pt x="117" y="159"/>
                  </a:lnTo>
                  <a:lnTo>
                    <a:pt x="128" y="158"/>
                  </a:lnTo>
                  <a:lnTo>
                    <a:pt x="135" y="157"/>
                  </a:lnTo>
                  <a:lnTo>
                    <a:pt x="125" y="0"/>
                  </a:lnTo>
                  <a:lnTo>
                    <a:pt x="116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104" y="2"/>
                  </a:lnTo>
                  <a:lnTo>
                    <a:pt x="108" y="3"/>
                  </a:lnTo>
                  <a:lnTo>
                    <a:pt x="120" y="8"/>
                  </a:lnTo>
                  <a:lnTo>
                    <a:pt x="129" y="14"/>
                  </a:lnTo>
                  <a:lnTo>
                    <a:pt x="138" y="25"/>
                  </a:lnTo>
                  <a:lnTo>
                    <a:pt x="146" y="37"/>
                  </a:lnTo>
                  <a:lnTo>
                    <a:pt x="148" y="42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5024520" y="4389480"/>
              <a:ext cx="95040" cy="54000"/>
            </a:xfrm>
            <a:custGeom>
              <a:avLst/>
              <a:gdLst/>
              <a:ahLst/>
              <a:rect l="l" t="t" r="r" b="b"/>
              <a:pathLst>
                <a:path w="297" h="170">
                  <a:moveTo>
                    <a:pt x="109" y="114"/>
                  </a:moveTo>
                  <a:lnTo>
                    <a:pt x="165" y="0"/>
                  </a:lnTo>
                  <a:lnTo>
                    <a:pt x="142" y="5"/>
                  </a:lnTo>
                  <a:lnTo>
                    <a:pt x="119" y="9"/>
                  </a:lnTo>
                  <a:lnTo>
                    <a:pt x="95" y="14"/>
                  </a:lnTo>
                  <a:lnTo>
                    <a:pt x="73" y="21"/>
                  </a:lnTo>
                  <a:lnTo>
                    <a:pt x="56" y="29"/>
                  </a:lnTo>
                  <a:lnTo>
                    <a:pt x="40" y="39"/>
                  </a:lnTo>
                  <a:lnTo>
                    <a:pt x="26" y="54"/>
                  </a:lnTo>
                  <a:lnTo>
                    <a:pt x="11" y="74"/>
                  </a:lnTo>
                  <a:lnTo>
                    <a:pt x="3" y="97"/>
                  </a:lnTo>
                  <a:lnTo>
                    <a:pt x="0" y="122"/>
                  </a:lnTo>
                  <a:lnTo>
                    <a:pt x="2" y="144"/>
                  </a:lnTo>
                  <a:lnTo>
                    <a:pt x="8" y="163"/>
                  </a:lnTo>
                  <a:lnTo>
                    <a:pt x="156" y="108"/>
                  </a:lnTo>
                  <a:lnTo>
                    <a:pt x="157" y="112"/>
                  </a:lnTo>
                  <a:lnTo>
                    <a:pt x="158" y="121"/>
                  </a:lnTo>
                  <a:lnTo>
                    <a:pt x="156" y="134"/>
                  </a:lnTo>
                  <a:lnTo>
                    <a:pt x="151" y="147"/>
                  </a:lnTo>
                  <a:lnTo>
                    <a:pt x="143" y="158"/>
                  </a:lnTo>
                  <a:lnTo>
                    <a:pt x="137" y="165"/>
                  </a:lnTo>
                  <a:lnTo>
                    <a:pt x="133" y="167"/>
                  </a:lnTo>
                  <a:lnTo>
                    <a:pt x="129" y="170"/>
                  </a:lnTo>
                  <a:lnTo>
                    <a:pt x="137" y="166"/>
                  </a:lnTo>
                  <a:lnTo>
                    <a:pt x="151" y="163"/>
                  </a:lnTo>
                  <a:lnTo>
                    <a:pt x="171" y="160"/>
                  </a:lnTo>
                  <a:lnTo>
                    <a:pt x="194" y="156"/>
                  </a:lnTo>
                  <a:lnTo>
                    <a:pt x="250" y="42"/>
                  </a:lnTo>
                  <a:lnTo>
                    <a:pt x="194" y="156"/>
                  </a:lnTo>
                  <a:lnTo>
                    <a:pt x="297" y="136"/>
                  </a:lnTo>
                  <a:lnTo>
                    <a:pt x="250" y="42"/>
                  </a:lnTo>
                  <a:lnTo>
                    <a:pt x="109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056200" y="4400640"/>
              <a:ext cx="47520" cy="25200"/>
            </a:xfrm>
            <a:custGeom>
              <a:avLst/>
              <a:gdLst/>
              <a:ahLst/>
              <a:rect l="l" t="t" r="r" b="b"/>
              <a:pathLst>
                <a:path w="153" h="80">
                  <a:moveTo>
                    <a:pt x="0" y="42"/>
                  </a:moveTo>
                  <a:lnTo>
                    <a:pt x="9" y="71"/>
                  </a:lnTo>
                  <a:lnTo>
                    <a:pt x="12" y="80"/>
                  </a:lnTo>
                  <a:lnTo>
                    <a:pt x="153" y="8"/>
                  </a:lnTo>
                  <a:lnTo>
                    <a:pt x="149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" y="58"/>
                  </a:lnTo>
                  <a:lnTo>
                    <a:pt x="9" y="7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5054760" y="4397400"/>
              <a:ext cx="50760" cy="15840"/>
            </a:xfrm>
            <a:custGeom>
              <a:avLst/>
              <a:gdLst/>
              <a:ahLst/>
              <a:rect l="l" t="t" r="r" b="b"/>
              <a:pathLst>
                <a:path w="160" h="5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1" y="38"/>
                  </a:lnTo>
                  <a:lnTo>
                    <a:pt x="1" y="46"/>
                  </a:lnTo>
                  <a:lnTo>
                    <a:pt x="2" y="52"/>
                  </a:lnTo>
                  <a:lnTo>
                    <a:pt x="160" y="39"/>
                  </a:lnTo>
                  <a:lnTo>
                    <a:pt x="160" y="35"/>
                  </a:lnTo>
                  <a:lnTo>
                    <a:pt x="159" y="31"/>
                  </a:lnTo>
                  <a:lnTo>
                    <a:pt x="159" y="27"/>
                  </a:lnTo>
                  <a:lnTo>
                    <a:pt x="159" y="22"/>
                  </a:lnTo>
                  <a:lnTo>
                    <a:pt x="159" y="16"/>
                  </a:lnTo>
                  <a:lnTo>
                    <a:pt x="159" y="11"/>
                  </a:lnTo>
                  <a:lnTo>
                    <a:pt x="159" y="5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5054760" y="4257720"/>
              <a:ext cx="96840" cy="139680"/>
            </a:xfrm>
            <a:custGeom>
              <a:avLst/>
              <a:gdLst/>
              <a:ahLst/>
              <a:rect l="l" t="t" r="r" b="b"/>
              <a:pathLst>
                <a:path w="304" h="436">
                  <a:moveTo>
                    <a:pt x="143" y="61"/>
                  </a:moveTo>
                  <a:lnTo>
                    <a:pt x="162" y="0"/>
                  </a:lnTo>
                  <a:lnTo>
                    <a:pt x="143" y="22"/>
                  </a:lnTo>
                  <a:lnTo>
                    <a:pt x="126" y="45"/>
                  </a:lnTo>
                  <a:lnTo>
                    <a:pt x="109" y="69"/>
                  </a:lnTo>
                  <a:lnTo>
                    <a:pt x="93" y="93"/>
                  </a:lnTo>
                  <a:lnTo>
                    <a:pt x="80" y="118"/>
                  </a:lnTo>
                  <a:lnTo>
                    <a:pt x="66" y="145"/>
                  </a:lnTo>
                  <a:lnTo>
                    <a:pt x="55" y="172"/>
                  </a:lnTo>
                  <a:lnTo>
                    <a:pt x="43" y="199"/>
                  </a:lnTo>
                  <a:lnTo>
                    <a:pt x="34" y="227"/>
                  </a:lnTo>
                  <a:lnTo>
                    <a:pt x="25" y="255"/>
                  </a:lnTo>
                  <a:lnTo>
                    <a:pt x="18" y="284"/>
                  </a:lnTo>
                  <a:lnTo>
                    <a:pt x="12" y="314"/>
                  </a:lnTo>
                  <a:lnTo>
                    <a:pt x="6" y="343"/>
                  </a:lnTo>
                  <a:lnTo>
                    <a:pt x="3" y="374"/>
                  </a:lnTo>
                  <a:lnTo>
                    <a:pt x="1" y="404"/>
                  </a:lnTo>
                  <a:lnTo>
                    <a:pt x="0" y="436"/>
                  </a:lnTo>
                  <a:lnTo>
                    <a:pt x="159" y="436"/>
                  </a:lnTo>
                  <a:lnTo>
                    <a:pt x="159" y="411"/>
                  </a:lnTo>
                  <a:lnTo>
                    <a:pt x="161" y="388"/>
                  </a:lnTo>
                  <a:lnTo>
                    <a:pt x="163" y="365"/>
                  </a:lnTo>
                  <a:lnTo>
                    <a:pt x="167" y="342"/>
                  </a:lnTo>
                  <a:lnTo>
                    <a:pt x="171" y="320"/>
                  </a:lnTo>
                  <a:lnTo>
                    <a:pt x="177" y="298"/>
                  </a:lnTo>
                  <a:lnTo>
                    <a:pt x="184" y="276"/>
                  </a:lnTo>
                  <a:lnTo>
                    <a:pt x="191" y="255"/>
                  </a:lnTo>
                  <a:lnTo>
                    <a:pt x="199" y="234"/>
                  </a:lnTo>
                  <a:lnTo>
                    <a:pt x="209" y="214"/>
                  </a:lnTo>
                  <a:lnTo>
                    <a:pt x="218" y="194"/>
                  </a:lnTo>
                  <a:lnTo>
                    <a:pt x="230" y="174"/>
                  </a:lnTo>
                  <a:lnTo>
                    <a:pt x="241" y="155"/>
                  </a:lnTo>
                  <a:lnTo>
                    <a:pt x="254" y="137"/>
                  </a:lnTo>
                  <a:lnTo>
                    <a:pt x="268" y="120"/>
                  </a:lnTo>
                  <a:lnTo>
                    <a:pt x="281" y="103"/>
                  </a:lnTo>
                  <a:lnTo>
                    <a:pt x="300" y="41"/>
                  </a:lnTo>
                  <a:lnTo>
                    <a:pt x="281" y="103"/>
                  </a:lnTo>
                  <a:lnTo>
                    <a:pt x="304" y="75"/>
                  </a:lnTo>
                  <a:lnTo>
                    <a:pt x="300" y="41"/>
                  </a:lnTo>
                  <a:lnTo>
                    <a:pt x="143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5100480" y="4251240"/>
              <a:ext cx="49320" cy="2700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25" y="0"/>
                  </a:moveTo>
                  <a:lnTo>
                    <a:pt x="0" y="73"/>
                  </a:lnTo>
                  <a:lnTo>
                    <a:pt x="1" y="84"/>
                  </a:lnTo>
                  <a:lnTo>
                    <a:pt x="158" y="64"/>
                  </a:lnTo>
                  <a:lnTo>
                    <a:pt x="157" y="53"/>
                  </a:lnTo>
                  <a:lnTo>
                    <a:pt x="125" y="0"/>
                  </a:lnTo>
                  <a:lnTo>
                    <a:pt x="157" y="53"/>
                  </a:lnTo>
                  <a:lnTo>
                    <a:pt x="153" y="2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5094360" y="4243320"/>
              <a:ext cx="46080" cy="47520"/>
            </a:xfrm>
            <a:custGeom>
              <a:avLst/>
              <a:gdLst/>
              <a:ahLst/>
              <a:rect l="l" t="t" r="r" b="b"/>
              <a:pathLst>
                <a:path w="142" h="151">
                  <a:moveTo>
                    <a:pt x="0" y="106"/>
                  </a:moveTo>
                  <a:lnTo>
                    <a:pt x="0" y="106"/>
                  </a:lnTo>
                  <a:lnTo>
                    <a:pt x="5" y="111"/>
                  </a:lnTo>
                  <a:lnTo>
                    <a:pt x="10" y="117"/>
                  </a:lnTo>
                  <a:lnTo>
                    <a:pt x="16" y="122"/>
                  </a:lnTo>
                  <a:lnTo>
                    <a:pt x="22" y="128"/>
                  </a:lnTo>
                  <a:lnTo>
                    <a:pt x="28" y="134"/>
                  </a:lnTo>
                  <a:lnTo>
                    <a:pt x="35" y="139"/>
                  </a:lnTo>
                  <a:lnTo>
                    <a:pt x="42" y="146"/>
                  </a:lnTo>
                  <a:lnTo>
                    <a:pt x="48" y="151"/>
                  </a:lnTo>
                  <a:lnTo>
                    <a:pt x="142" y="23"/>
                  </a:lnTo>
                  <a:lnTo>
                    <a:pt x="138" y="21"/>
                  </a:lnTo>
                  <a:lnTo>
                    <a:pt x="136" y="19"/>
                  </a:lnTo>
                  <a:lnTo>
                    <a:pt x="133" y="15"/>
                  </a:lnTo>
                  <a:lnTo>
                    <a:pt x="130" y="13"/>
                  </a:lnTo>
                  <a:lnTo>
                    <a:pt x="127" y="10"/>
                  </a:lnTo>
                  <a:lnTo>
                    <a:pt x="125" y="7"/>
                  </a:lnTo>
                  <a:lnTo>
                    <a:pt x="122" y="4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5078520" y="4233960"/>
              <a:ext cx="54000" cy="428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11" y="0"/>
                  </a:moveTo>
                  <a:lnTo>
                    <a:pt x="9" y="3"/>
                  </a:lnTo>
                  <a:lnTo>
                    <a:pt x="2" y="24"/>
                  </a:lnTo>
                  <a:lnTo>
                    <a:pt x="0" y="45"/>
                  </a:lnTo>
                  <a:lnTo>
                    <a:pt x="2" y="64"/>
                  </a:lnTo>
                  <a:lnTo>
                    <a:pt x="8" y="83"/>
                  </a:lnTo>
                  <a:lnTo>
                    <a:pt x="16" y="99"/>
                  </a:lnTo>
                  <a:lnTo>
                    <a:pt x="27" y="111"/>
                  </a:lnTo>
                  <a:lnTo>
                    <a:pt x="35" y="122"/>
                  </a:lnTo>
                  <a:lnTo>
                    <a:pt x="43" y="128"/>
                  </a:lnTo>
                  <a:lnTo>
                    <a:pt x="48" y="135"/>
                  </a:lnTo>
                  <a:lnTo>
                    <a:pt x="51" y="138"/>
                  </a:lnTo>
                  <a:lnTo>
                    <a:pt x="168" y="32"/>
                  </a:lnTo>
                  <a:lnTo>
                    <a:pt x="161" y="23"/>
                  </a:lnTo>
                  <a:lnTo>
                    <a:pt x="155" y="18"/>
                  </a:lnTo>
                  <a:lnTo>
                    <a:pt x="151" y="13"/>
                  </a:lnTo>
                  <a:lnTo>
                    <a:pt x="149" y="11"/>
                  </a:lnTo>
                  <a:lnTo>
                    <a:pt x="150" y="13"/>
                  </a:lnTo>
                  <a:lnTo>
                    <a:pt x="152" y="17"/>
                  </a:lnTo>
                  <a:lnTo>
                    <a:pt x="157" y="30"/>
                  </a:lnTo>
                  <a:lnTo>
                    <a:pt x="158" y="43"/>
                  </a:lnTo>
                  <a:lnTo>
                    <a:pt x="156" y="59"/>
                  </a:lnTo>
                  <a:lnTo>
                    <a:pt x="151" y="74"/>
                  </a:lnTo>
                  <a:lnTo>
                    <a:pt x="149" y="7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5081760" y="4214880"/>
              <a:ext cx="72720" cy="68040"/>
            </a:xfrm>
            <a:custGeom>
              <a:avLst/>
              <a:gdLst/>
              <a:ahLst/>
              <a:rect l="l" t="t" r="r" b="b"/>
              <a:pathLst>
                <a:path w="227" h="214">
                  <a:moveTo>
                    <a:pt x="175" y="56"/>
                  </a:moveTo>
                  <a:lnTo>
                    <a:pt x="227" y="75"/>
                  </a:lnTo>
                  <a:lnTo>
                    <a:pt x="209" y="59"/>
                  </a:lnTo>
                  <a:lnTo>
                    <a:pt x="190" y="43"/>
                  </a:lnTo>
                  <a:lnTo>
                    <a:pt x="171" y="29"/>
                  </a:lnTo>
                  <a:lnTo>
                    <a:pt x="150" y="16"/>
                  </a:lnTo>
                  <a:lnTo>
                    <a:pt x="133" y="9"/>
                  </a:lnTo>
                  <a:lnTo>
                    <a:pt x="115" y="4"/>
                  </a:lnTo>
                  <a:lnTo>
                    <a:pt x="96" y="0"/>
                  </a:lnTo>
                  <a:lnTo>
                    <a:pt x="71" y="4"/>
                  </a:lnTo>
                  <a:lnTo>
                    <a:pt x="47" y="12"/>
                  </a:lnTo>
                  <a:lnTo>
                    <a:pt x="26" y="26"/>
                  </a:lnTo>
                  <a:lnTo>
                    <a:pt x="11" y="41"/>
                  </a:lnTo>
                  <a:lnTo>
                    <a:pt x="0" y="58"/>
                  </a:lnTo>
                  <a:lnTo>
                    <a:pt x="138" y="136"/>
                  </a:lnTo>
                  <a:lnTo>
                    <a:pt x="135" y="139"/>
                  </a:lnTo>
                  <a:lnTo>
                    <a:pt x="129" y="146"/>
                  </a:lnTo>
                  <a:lnTo>
                    <a:pt x="118" y="153"/>
                  </a:lnTo>
                  <a:lnTo>
                    <a:pt x="105" y="158"/>
                  </a:lnTo>
                  <a:lnTo>
                    <a:pt x="91" y="159"/>
                  </a:lnTo>
                  <a:lnTo>
                    <a:pt x="83" y="158"/>
                  </a:lnTo>
                  <a:lnTo>
                    <a:pt x="78" y="157"/>
                  </a:lnTo>
                  <a:lnTo>
                    <a:pt x="74" y="155"/>
                  </a:lnTo>
                  <a:lnTo>
                    <a:pt x="81" y="159"/>
                  </a:lnTo>
                  <a:lnTo>
                    <a:pt x="92" y="167"/>
                  </a:lnTo>
                  <a:lnTo>
                    <a:pt x="107" y="180"/>
                  </a:lnTo>
                  <a:lnTo>
                    <a:pt x="125" y="195"/>
                  </a:lnTo>
                  <a:lnTo>
                    <a:pt x="175" y="214"/>
                  </a:lnTo>
                  <a:lnTo>
                    <a:pt x="125" y="195"/>
                  </a:lnTo>
                  <a:lnTo>
                    <a:pt x="147" y="214"/>
                  </a:lnTo>
                  <a:lnTo>
                    <a:pt x="175" y="214"/>
                  </a:lnTo>
                  <a:lnTo>
                    <a:pt x="175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137200" y="4232160"/>
              <a:ext cx="22320" cy="50760"/>
            </a:xfrm>
            <a:custGeom>
              <a:avLst/>
              <a:gdLst/>
              <a:ahLst/>
              <a:rect l="l" t="t" r="r" b="b"/>
              <a:pathLst>
                <a:path w="66" h="158">
                  <a:moveTo>
                    <a:pt x="66" y="137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13" y="158"/>
                  </a:lnTo>
                  <a:lnTo>
                    <a:pt x="66" y="137"/>
                  </a:lnTo>
                  <a:lnTo>
                    <a:pt x="13" y="158"/>
                  </a:lnTo>
                  <a:lnTo>
                    <a:pt x="43" y="158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5199120" y="4314960"/>
              <a:ext cx="131760" cy="11412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220" y="0"/>
                  </a:moveTo>
                  <a:lnTo>
                    <a:pt x="0" y="356"/>
                  </a:lnTo>
                  <a:lnTo>
                    <a:pt x="416" y="36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5199120" y="4314960"/>
              <a:ext cx="131760" cy="11412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220" y="0"/>
                  </a:moveTo>
                  <a:lnTo>
                    <a:pt x="0" y="356"/>
                  </a:lnTo>
                  <a:lnTo>
                    <a:pt x="416" y="360"/>
                  </a:lnTo>
                  <a:lnTo>
                    <a:pt x="22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5268960" y="4314960"/>
              <a:ext cx="117360" cy="1141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0" y="0"/>
                  </a:moveTo>
                  <a:lnTo>
                    <a:pt x="370" y="53"/>
                  </a:lnTo>
                  <a:lnTo>
                    <a:pt x="196" y="3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5268960" y="4314960"/>
              <a:ext cx="117360" cy="1141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0" y="0"/>
                  </a:moveTo>
                  <a:lnTo>
                    <a:pt x="370" y="53"/>
                  </a:lnTo>
                  <a:lnTo>
                    <a:pt x="196" y="36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5330880" y="4330800"/>
              <a:ext cx="55440" cy="135000"/>
            </a:xfrm>
            <a:custGeom>
              <a:avLst/>
              <a:gdLst/>
              <a:ahLst/>
              <a:rect l="l" t="t" r="r" b="b"/>
              <a:pathLst>
                <a:path w="174" h="425">
                  <a:moveTo>
                    <a:pt x="174" y="0"/>
                  </a:moveTo>
                  <a:lnTo>
                    <a:pt x="159" y="425"/>
                  </a:lnTo>
                  <a:lnTo>
                    <a:pt x="0" y="30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5330880" y="4330800"/>
              <a:ext cx="55440" cy="135000"/>
            </a:xfrm>
            <a:custGeom>
              <a:avLst/>
              <a:gdLst/>
              <a:ahLst/>
              <a:rect l="l" t="t" r="r" b="b"/>
              <a:pathLst>
                <a:path w="174" h="425">
                  <a:moveTo>
                    <a:pt x="174" y="0"/>
                  </a:moveTo>
                  <a:lnTo>
                    <a:pt x="159" y="425"/>
                  </a:lnTo>
                  <a:lnTo>
                    <a:pt x="0" y="307"/>
                  </a:lnTo>
                  <a:lnTo>
                    <a:pt x="174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5268960" y="4257720"/>
              <a:ext cx="117360" cy="73080"/>
            </a:xfrm>
            <a:custGeom>
              <a:avLst/>
              <a:gdLst/>
              <a:ahLst/>
              <a:rect l="l" t="t" r="r" b="b"/>
              <a:pathLst>
                <a:path w="370" h="234">
                  <a:moveTo>
                    <a:pt x="8" y="0"/>
                  </a:moveTo>
                  <a:lnTo>
                    <a:pt x="370" y="234"/>
                  </a:lnTo>
                  <a:lnTo>
                    <a:pt x="0" y="18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5268960" y="4257720"/>
              <a:ext cx="117360" cy="73080"/>
            </a:xfrm>
            <a:custGeom>
              <a:avLst/>
              <a:gdLst/>
              <a:ahLst/>
              <a:rect l="l" t="t" r="r" b="b"/>
              <a:pathLst>
                <a:path w="370" h="234">
                  <a:moveTo>
                    <a:pt x="8" y="0"/>
                  </a:moveTo>
                  <a:lnTo>
                    <a:pt x="370" y="234"/>
                  </a:lnTo>
                  <a:lnTo>
                    <a:pt x="0" y="181"/>
                  </a:lnTo>
                  <a:lnTo>
                    <a:pt x="8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5153040" y="4257720"/>
              <a:ext cx="117360" cy="63360"/>
            </a:xfrm>
            <a:custGeom>
              <a:avLst/>
              <a:gdLst/>
              <a:ahLst/>
              <a:rect l="l" t="t" r="r" b="b"/>
              <a:pathLst>
                <a:path w="374" h="202">
                  <a:moveTo>
                    <a:pt x="0" y="202"/>
                  </a:moveTo>
                  <a:lnTo>
                    <a:pt x="374" y="0"/>
                  </a:lnTo>
                  <a:lnTo>
                    <a:pt x="366" y="181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5153040" y="4257720"/>
              <a:ext cx="117360" cy="63360"/>
            </a:xfrm>
            <a:custGeom>
              <a:avLst/>
              <a:gdLst/>
              <a:ahLst/>
              <a:rect l="l" t="t" r="r" b="b"/>
              <a:pathLst>
                <a:path w="374" h="202">
                  <a:moveTo>
                    <a:pt x="0" y="202"/>
                  </a:moveTo>
                  <a:lnTo>
                    <a:pt x="374" y="0"/>
                  </a:lnTo>
                  <a:lnTo>
                    <a:pt x="366" y="181"/>
                  </a:lnTo>
                  <a:lnTo>
                    <a:pt x="0" y="202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5153040" y="4314960"/>
              <a:ext cx="115920" cy="112680"/>
            </a:xfrm>
            <a:custGeom>
              <a:avLst/>
              <a:gdLst/>
              <a:ahLst/>
              <a:rect l="l" t="t" r="r" b="b"/>
              <a:pathLst>
                <a:path w="366" h="356">
                  <a:moveTo>
                    <a:pt x="146" y="356"/>
                  </a:moveTo>
                  <a:lnTo>
                    <a:pt x="0" y="21"/>
                  </a:lnTo>
                  <a:lnTo>
                    <a:pt x="366" y="0"/>
                  </a:lnTo>
                  <a:lnTo>
                    <a:pt x="146" y="356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5153040" y="4314960"/>
              <a:ext cx="115920" cy="112680"/>
            </a:xfrm>
            <a:custGeom>
              <a:avLst/>
              <a:gdLst/>
              <a:ahLst/>
              <a:rect l="l" t="t" r="r" b="b"/>
              <a:pathLst>
                <a:path w="366" h="356">
                  <a:moveTo>
                    <a:pt x="146" y="356"/>
                  </a:moveTo>
                  <a:lnTo>
                    <a:pt x="0" y="21"/>
                  </a:lnTo>
                  <a:lnTo>
                    <a:pt x="366" y="0"/>
                  </a:lnTo>
                  <a:lnTo>
                    <a:pt x="146" y="356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5149800" y="4321080"/>
              <a:ext cx="49320" cy="128520"/>
            </a:xfrm>
            <a:custGeom>
              <a:avLst/>
              <a:gdLst/>
              <a:ahLst/>
              <a:rect l="l" t="t" r="r" b="b"/>
              <a:pathLst>
                <a:path w="156" h="405">
                  <a:moveTo>
                    <a:pt x="0" y="405"/>
                  </a:moveTo>
                  <a:lnTo>
                    <a:pt x="10" y="0"/>
                  </a:lnTo>
                  <a:lnTo>
                    <a:pt x="156" y="33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5149800" y="4321080"/>
              <a:ext cx="49320" cy="128520"/>
            </a:xfrm>
            <a:custGeom>
              <a:avLst/>
              <a:gdLst/>
              <a:ahLst/>
              <a:rect l="l" t="t" r="r" b="b"/>
              <a:pathLst>
                <a:path w="156" h="405">
                  <a:moveTo>
                    <a:pt x="0" y="405"/>
                  </a:moveTo>
                  <a:lnTo>
                    <a:pt x="10" y="0"/>
                  </a:lnTo>
                  <a:lnTo>
                    <a:pt x="156" y="335"/>
                  </a:lnTo>
                  <a:lnTo>
                    <a:pt x="0" y="405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5199120" y="4427640"/>
              <a:ext cx="131760" cy="100080"/>
            </a:xfrm>
            <a:custGeom>
              <a:avLst/>
              <a:gdLst/>
              <a:ahLst/>
              <a:rect l="l" t="t" r="r" b="b"/>
              <a:pathLst>
                <a:path w="416" h="317">
                  <a:moveTo>
                    <a:pt x="203" y="317"/>
                  </a:moveTo>
                  <a:lnTo>
                    <a:pt x="0" y="0"/>
                  </a:lnTo>
                  <a:lnTo>
                    <a:pt x="416" y="4"/>
                  </a:lnTo>
                  <a:lnTo>
                    <a:pt x="203" y="317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5199120" y="4427640"/>
              <a:ext cx="131760" cy="100080"/>
            </a:xfrm>
            <a:custGeom>
              <a:avLst/>
              <a:gdLst/>
              <a:ahLst/>
              <a:rect l="l" t="t" r="r" b="b"/>
              <a:pathLst>
                <a:path w="416" h="317">
                  <a:moveTo>
                    <a:pt x="203" y="317"/>
                  </a:moveTo>
                  <a:lnTo>
                    <a:pt x="0" y="0"/>
                  </a:lnTo>
                  <a:lnTo>
                    <a:pt x="416" y="4"/>
                  </a:lnTo>
                  <a:lnTo>
                    <a:pt x="203" y="317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5262480" y="4429080"/>
              <a:ext cx="119160" cy="98640"/>
            </a:xfrm>
            <a:custGeom>
              <a:avLst/>
              <a:gdLst/>
              <a:ahLst/>
              <a:rect l="l" t="t" r="r" b="b"/>
              <a:pathLst>
                <a:path w="372" h="313">
                  <a:moveTo>
                    <a:pt x="372" y="118"/>
                  </a:moveTo>
                  <a:lnTo>
                    <a:pt x="0" y="313"/>
                  </a:lnTo>
                  <a:lnTo>
                    <a:pt x="213" y="0"/>
                  </a:lnTo>
                  <a:lnTo>
                    <a:pt x="372" y="118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5262480" y="4429080"/>
              <a:ext cx="119160" cy="98640"/>
            </a:xfrm>
            <a:custGeom>
              <a:avLst/>
              <a:gdLst/>
              <a:ahLst/>
              <a:rect l="l" t="t" r="r" b="b"/>
              <a:pathLst>
                <a:path w="372" h="313">
                  <a:moveTo>
                    <a:pt x="372" y="118"/>
                  </a:moveTo>
                  <a:lnTo>
                    <a:pt x="0" y="313"/>
                  </a:lnTo>
                  <a:lnTo>
                    <a:pt x="213" y="0"/>
                  </a:lnTo>
                  <a:lnTo>
                    <a:pt x="372" y="118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5149800" y="4427640"/>
              <a:ext cx="112680" cy="1000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0" y="70"/>
                  </a:moveTo>
                  <a:lnTo>
                    <a:pt x="156" y="0"/>
                  </a:lnTo>
                  <a:lnTo>
                    <a:pt x="359" y="317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5149800" y="4427640"/>
              <a:ext cx="112680" cy="1000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0" y="70"/>
                  </a:moveTo>
                  <a:lnTo>
                    <a:pt x="156" y="0"/>
                  </a:lnTo>
                  <a:lnTo>
                    <a:pt x="359" y="317"/>
                  </a:lnTo>
                  <a:lnTo>
                    <a:pt x="0" y="7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5049720" y="4187880"/>
              <a:ext cx="427320" cy="403200"/>
            </a:xfrm>
            <a:custGeom>
              <a:avLst/>
              <a:gdLst/>
              <a:ahLst/>
              <a:rect l="l" t="t" r="r" b="b"/>
              <a:pathLst>
                <a:path w="1344" h="1272">
                  <a:moveTo>
                    <a:pt x="290" y="223"/>
                  </a:moveTo>
                  <a:lnTo>
                    <a:pt x="301" y="211"/>
                  </a:lnTo>
                  <a:lnTo>
                    <a:pt x="315" y="201"/>
                  </a:lnTo>
                  <a:lnTo>
                    <a:pt x="328" y="190"/>
                  </a:lnTo>
                  <a:lnTo>
                    <a:pt x="341" y="181"/>
                  </a:lnTo>
                  <a:lnTo>
                    <a:pt x="355" y="171"/>
                  </a:lnTo>
                  <a:lnTo>
                    <a:pt x="369" y="162"/>
                  </a:lnTo>
                  <a:lnTo>
                    <a:pt x="382" y="153"/>
                  </a:lnTo>
                  <a:lnTo>
                    <a:pt x="397" y="146"/>
                  </a:lnTo>
                  <a:lnTo>
                    <a:pt x="408" y="139"/>
                  </a:lnTo>
                  <a:lnTo>
                    <a:pt x="405" y="134"/>
                  </a:lnTo>
                  <a:lnTo>
                    <a:pt x="402" y="127"/>
                  </a:lnTo>
                  <a:lnTo>
                    <a:pt x="400" y="122"/>
                  </a:lnTo>
                  <a:lnTo>
                    <a:pt x="398" y="116"/>
                  </a:lnTo>
                  <a:lnTo>
                    <a:pt x="396" y="110"/>
                  </a:lnTo>
                  <a:lnTo>
                    <a:pt x="394" y="104"/>
                  </a:lnTo>
                  <a:lnTo>
                    <a:pt x="392" y="98"/>
                  </a:lnTo>
                  <a:lnTo>
                    <a:pt x="389" y="90"/>
                  </a:lnTo>
                  <a:lnTo>
                    <a:pt x="386" y="83"/>
                  </a:lnTo>
                  <a:lnTo>
                    <a:pt x="384" y="76"/>
                  </a:lnTo>
                  <a:lnTo>
                    <a:pt x="382" y="67"/>
                  </a:lnTo>
                  <a:lnTo>
                    <a:pt x="381" y="59"/>
                  </a:lnTo>
                  <a:lnTo>
                    <a:pt x="381" y="52"/>
                  </a:lnTo>
                  <a:lnTo>
                    <a:pt x="383" y="44"/>
                  </a:lnTo>
                  <a:lnTo>
                    <a:pt x="384" y="42"/>
                  </a:lnTo>
                  <a:lnTo>
                    <a:pt x="385" y="39"/>
                  </a:lnTo>
                  <a:lnTo>
                    <a:pt x="387" y="37"/>
                  </a:lnTo>
                  <a:lnTo>
                    <a:pt x="390" y="36"/>
                  </a:lnTo>
                  <a:lnTo>
                    <a:pt x="397" y="34"/>
                  </a:lnTo>
                  <a:lnTo>
                    <a:pt x="402" y="33"/>
                  </a:lnTo>
                  <a:lnTo>
                    <a:pt x="407" y="33"/>
                  </a:lnTo>
                  <a:lnTo>
                    <a:pt x="413" y="34"/>
                  </a:lnTo>
                  <a:lnTo>
                    <a:pt x="417" y="36"/>
                  </a:lnTo>
                  <a:lnTo>
                    <a:pt x="421" y="39"/>
                  </a:lnTo>
                  <a:lnTo>
                    <a:pt x="424" y="43"/>
                  </a:lnTo>
                  <a:lnTo>
                    <a:pt x="428" y="48"/>
                  </a:lnTo>
                  <a:lnTo>
                    <a:pt x="436" y="61"/>
                  </a:lnTo>
                  <a:lnTo>
                    <a:pt x="443" y="77"/>
                  </a:lnTo>
                  <a:lnTo>
                    <a:pt x="451" y="95"/>
                  </a:lnTo>
                  <a:lnTo>
                    <a:pt x="462" y="116"/>
                  </a:lnTo>
                  <a:lnTo>
                    <a:pt x="479" y="107"/>
                  </a:lnTo>
                  <a:lnTo>
                    <a:pt x="503" y="100"/>
                  </a:lnTo>
                  <a:lnTo>
                    <a:pt x="528" y="93"/>
                  </a:lnTo>
                  <a:lnTo>
                    <a:pt x="553" y="86"/>
                  </a:lnTo>
                  <a:lnTo>
                    <a:pt x="578" y="81"/>
                  </a:lnTo>
                  <a:lnTo>
                    <a:pt x="605" y="77"/>
                  </a:lnTo>
                  <a:lnTo>
                    <a:pt x="631" y="74"/>
                  </a:lnTo>
                  <a:lnTo>
                    <a:pt x="657" y="72"/>
                  </a:lnTo>
                  <a:lnTo>
                    <a:pt x="683" y="72"/>
                  </a:lnTo>
                  <a:lnTo>
                    <a:pt x="703" y="72"/>
                  </a:lnTo>
                  <a:lnTo>
                    <a:pt x="722" y="73"/>
                  </a:lnTo>
                  <a:lnTo>
                    <a:pt x="740" y="74"/>
                  </a:lnTo>
                  <a:lnTo>
                    <a:pt x="759" y="76"/>
                  </a:lnTo>
                  <a:lnTo>
                    <a:pt x="778" y="79"/>
                  </a:lnTo>
                  <a:lnTo>
                    <a:pt x="796" y="82"/>
                  </a:lnTo>
                  <a:lnTo>
                    <a:pt x="815" y="85"/>
                  </a:lnTo>
                  <a:lnTo>
                    <a:pt x="832" y="89"/>
                  </a:lnTo>
                  <a:lnTo>
                    <a:pt x="838" y="94"/>
                  </a:lnTo>
                  <a:lnTo>
                    <a:pt x="840" y="87"/>
                  </a:lnTo>
                  <a:lnTo>
                    <a:pt x="841" y="81"/>
                  </a:lnTo>
                  <a:lnTo>
                    <a:pt x="843" y="76"/>
                  </a:lnTo>
                  <a:lnTo>
                    <a:pt x="845" y="71"/>
                  </a:lnTo>
                  <a:lnTo>
                    <a:pt x="847" y="65"/>
                  </a:lnTo>
                  <a:lnTo>
                    <a:pt x="849" y="59"/>
                  </a:lnTo>
                  <a:lnTo>
                    <a:pt x="850" y="54"/>
                  </a:lnTo>
                  <a:lnTo>
                    <a:pt x="852" y="46"/>
                  </a:lnTo>
                  <a:lnTo>
                    <a:pt x="854" y="39"/>
                  </a:lnTo>
                  <a:lnTo>
                    <a:pt x="858" y="31"/>
                  </a:lnTo>
                  <a:lnTo>
                    <a:pt x="861" y="23"/>
                  </a:lnTo>
                  <a:lnTo>
                    <a:pt x="865" y="16"/>
                  </a:lnTo>
                  <a:lnTo>
                    <a:pt x="869" y="10"/>
                  </a:lnTo>
                  <a:lnTo>
                    <a:pt x="874" y="4"/>
                  </a:lnTo>
                  <a:lnTo>
                    <a:pt x="876" y="2"/>
                  </a:lnTo>
                  <a:lnTo>
                    <a:pt x="880" y="1"/>
                  </a:lnTo>
                  <a:lnTo>
                    <a:pt x="882" y="0"/>
                  </a:lnTo>
                  <a:lnTo>
                    <a:pt x="885" y="0"/>
                  </a:lnTo>
                  <a:lnTo>
                    <a:pt x="892" y="2"/>
                  </a:lnTo>
                  <a:lnTo>
                    <a:pt x="899" y="4"/>
                  </a:lnTo>
                  <a:lnTo>
                    <a:pt x="904" y="8"/>
                  </a:lnTo>
                  <a:lnTo>
                    <a:pt x="908" y="11"/>
                  </a:lnTo>
                  <a:lnTo>
                    <a:pt x="911" y="16"/>
                  </a:lnTo>
                  <a:lnTo>
                    <a:pt x="912" y="21"/>
                  </a:lnTo>
                  <a:lnTo>
                    <a:pt x="913" y="27"/>
                  </a:lnTo>
                  <a:lnTo>
                    <a:pt x="913" y="34"/>
                  </a:lnTo>
                  <a:lnTo>
                    <a:pt x="911" y="50"/>
                  </a:lnTo>
                  <a:lnTo>
                    <a:pt x="907" y="67"/>
                  </a:lnTo>
                  <a:lnTo>
                    <a:pt x="901" y="87"/>
                  </a:lnTo>
                  <a:lnTo>
                    <a:pt x="894" y="109"/>
                  </a:lnTo>
                  <a:lnTo>
                    <a:pt x="903" y="113"/>
                  </a:lnTo>
                  <a:lnTo>
                    <a:pt x="933" y="126"/>
                  </a:lnTo>
                  <a:lnTo>
                    <a:pt x="963" y="141"/>
                  </a:lnTo>
                  <a:lnTo>
                    <a:pt x="990" y="157"/>
                  </a:lnTo>
                  <a:lnTo>
                    <a:pt x="1017" y="174"/>
                  </a:lnTo>
                  <a:lnTo>
                    <a:pt x="1043" y="193"/>
                  </a:lnTo>
                  <a:lnTo>
                    <a:pt x="1069" y="214"/>
                  </a:lnTo>
                  <a:lnTo>
                    <a:pt x="1093" y="236"/>
                  </a:lnTo>
                  <a:lnTo>
                    <a:pt x="1115" y="258"/>
                  </a:lnTo>
                  <a:lnTo>
                    <a:pt x="1136" y="284"/>
                  </a:lnTo>
                  <a:lnTo>
                    <a:pt x="1157" y="309"/>
                  </a:lnTo>
                  <a:lnTo>
                    <a:pt x="1174" y="335"/>
                  </a:lnTo>
                  <a:lnTo>
                    <a:pt x="1192" y="362"/>
                  </a:lnTo>
                  <a:lnTo>
                    <a:pt x="1208" y="391"/>
                  </a:lnTo>
                  <a:lnTo>
                    <a:pt x="1222" y="420"/>
                  </a:lnTo>
                  <a:lnTo>
                    <a:pt x="1234" y="451"/>
                  </a:lnTo>
                  <a:lnTo>
                    <a:pt x="1245" y="481"/>
                  </a:lnTo>
                  <a:lnTo>
                    <a:pt x="1248" y="491"/>
                  </a:lnTo>
                  <a:lnTo>
                    <a:pt x="1254" y="488"/>
                  </a:lnTo>
                  <a:lnTo>
                    <a:pt x="1261" y="486"/>
                  </a:lnTo>
                  <a:lnTo>
                    <a:pt x="1266" y="485"/>
                  </a:lnTo>
                  <a:lnTo>
                    <a:pt x="1272" y="484"/>
                  </a:lnTo>
                  <a:lnTo>
                    <a:pt x="1278" y="484"/>
                  </a:lnTo>
                  <a:lnTo>
                    <a:pt x="1285" y="483"/>
                  </a:lnTo>
                  <a:lnTo>
                    <a:pt x="1292" y="483"/>
                  </a:lnTo>
                  <a:lnTo>
                    <a:pt x="1298" y="483"/>
                  </a:lnTo>
                  <a:lnTo>
                    <a:pt x="1306" y="482"/>
                  </a:lnTo>
                  <a:lnTo>
                    <a:pt x="1313" y="481"/>
                  </a:lnTo>
                  <a:lnTo>
                    <a:pt x="1320" y="480"/>
                  </a:lnTo>
                  <a:lnTo>
                    <a:pt x="1327" y="480"/>
                  </a:lnTo>
                  <a:lnTo>
                    <a:pt x="1333" y="481"/>
                  </a:lnTo>
                  <a:lnTo>
                    <a:pt x="1337" y="482"/>
                  </a:lnTo>
                  <a:lnTo>
                    <a:pt x="1341" y="485"/>
                  </a:lnTo>
                  <a:lnTo>
                    <a:pt x="1343" y="489"/>
                  </a:lnTo>
                  <a:lnTo>
                    <a:pt x="1344" y="496"/>
                  </a:lnTo>
                  <a:lnTo>
                    <a:pt x="1344" y="502"/>
                  </a:lnTo>
                  <a:lnTo>
                    <a:pt x="1344" y="507"/>
                  </a:lnTo>
                  <a:lnTo>
                    <a:pt x="1343" y="513"/>
                  </a:lnTo>
                  <a:lnTo>
                    <a:pt x="1341" y="517"/>
                  </a:lnTo>
                  <a:lnTo>
                    <a:pt x="1339" y="520"/>
                  </a:lnTo>
                  <a:lnTo>
                    <a:pt x="1335" y="523"/>
                  </a:lnTo>
                  <a:lnTo>
                    <a:pt x="1331" y="526"/>
                  </a:lnTo>
                  <a:lnTo>
                    <a:pt x="1319" y="531"/>
                  </a:lnTo>
                  <a:lnTo>
                    <a:pt x="1305" y="536"/>
                  </a:lnTo>
                  <a:lnTo>
                    <a:pt x="1287" y="541"/>
                  </a:lnTo>
                  <a:lnTo>
                    <a:pt x="1265" y="547"/>
                  </a:lnTo>
                  <a:lnTo>
                    <a:pt x="1264" y="557"/>
                  </a:lnTo>
                  <a:lnTo>
                    <a:pt x="1266" y="569"/>
                  </a:lnTo>
                  <a:lnTo>
                    <a:pt x="1268" y="582"/>
                  </a:lnTo>
                  <a:lnTo>
                    <a:pt x="1269" y="594"/>
                  </a:lnTo>
                  <a:lnTo>
                    <a:pt x="1271" y="608"/>
                  </a:lnTo>
                  <a:lnTo>
                    <a:pt x="1271" y="621"/>
                  </a:lnTo>
                  <a:lnTo>
                    <a:pt x="1272" y="633"/>
                  </a:lnTo>
                  <a:lnTo>
                    <a:pt x="1272" y="646"/>
                  </a:lnTo>
                  <a:lnTo>
                    <a:pt x="1273" y="660"/>
                  </a:lnTo>
                  <a:lnTo>
                    <a:pt x="1272" y="678"/>
                  </a:lnTo>
                  <a:lnTo>
                    <a:pt x="1271" y="698"/>
                  </a:lnTo>
                  <a:lnTo>
                    <a:pt x="1270" y="717"/>
                  </a:lnTo>
                  <a:lnTo>
                    <a:pt x="1268" y="736"/>
                  </a:lnTo>
                  <a:lnTo>
                    <a:pt x="1265" y="755"/>
                  </a:lnTo>
                  <a:lnTo>
                    <a:pt x="1262" y="773"/>
                  </a:lnTo>
                  <a:lnTo>
                    <a:pt x="1257" y="792"/>
                  </a:lnTo>
                  <a:lnTo>
                    <a:pt x="1253" y="810"/>
                  </a:lnTo>
                  <a:lnTo>
                    <a:pt x="1248" y="828"/>
                  </a:lnTo>
                  <a:lnTo>
                    <a:pt x="1243" y="845"/>
                  </a:lnTo>
                  <a:lnTo>
                    <a:pt x="1236" y="862"/>
                  </a:lnTo>
                  <a:lnTo>
                    <a:pt x="1230" y="879"/>
                  </a:lnTo>
                  <a:lnTo>
                    <a:pt x="1223" y="896"/>
                  </a:lnTo>
                  <a:lnTo>
                    <a:pt x="1215" y="913"/>
                  </a:lnTo>
                  <a:lnTo>
                    <a:pt x="1207" y="929"/>
                  </a:lnTo>
                  <a:lnTo>
                    <a:pt x="1199" y="945"/>
                  </a:lnTo>
                  <a:lnTo>
                    <a:pt x="1189" y="960"/>
                  </a:lnTo>
                  <a:lnTo>
                    <a:pt x="1195" y="962"/>
                  </a:lnTo>
                  <a:lnTo>
                    <a:pt x="1201" y="964"/>
                  </a:lnTo>
                  <a:lnTo>
                    <a:pt x="1206" y="967"/>
                  </a:lnTo>
                  <a:lnTo>
                    <a:pt x="1211" y="970"/>
                  </a:lnTo>
                  <a:lnTo>
                    <a:pt x="1216" y="975"/>
                  </a:lnTo>
                  <a:lnTo>
                    <a:pt x="1223" y="978"/>
                  </a:lnTo>
                  <a:lnTo>
                    <a:pt x="1228" y="982"/>
                  </a:lnTo>
                  <a:lnTo>
                    <a:pt x="1235" y="986"/>
                  </a:lnTo>
                  <a:lnTo>
                    <a:pt x="1242" y="989"/>
                  </a:lnTo>
                  <a:lnTo>
                    <a:pt x="1248" y="993"/>
                  </a:lnTo>
                  <a:lnTo>
                    <a:pt x="1253" y="998"/>
                  </a:lnTo>
                  <a:lnTo>
                    <a:pt x="1258" y="1002"/>
                  </a:lnTo>
                  <a:lnTo>
                    <a:pt x="1262" y="1007"/>
                  </a:lnTo>
                  <a:lnTo>
                    <a:pt x="1264" y="1011"/>
                  </a:lnTo>
                  <a:lnTo>
                    <a:pt x="1265" y="1017"/>
                  </a:lnTo>
                  <a:lnTo>
                    <a:pt x="1264" y="1021"/>
                  </a:lnTo>
                  <a:lnTo>
                    <a:pt x="1261" y="1028"/>
                  </a:lnTo>
                  <a:lnTo>
                    <a:pt x="1256" y="1033"/>
                  </a:lnTo>
                  <a:lnTo>
                    <a:pt x="1252" y="1037"/>
                  </a:lnTo>
                  <a:lnTo>
                    <a:pt x="1248" y="1040"/>
                  </a:lnTo>
                  <a:lnTo>
                    <a:pt x="1244" y="1042"/>
                  </a:lnTo>
                  <a:lnTo>
                    <a:pt x="1240" y="1042"/>
                  </a:lnTo>
                  <a:lnTo>
                    <a:pt x="1234" y="1042"/>
                  </a:lnTo>
                  <a:lnTo>
                    <a:pt x="1228" y="1041"/>
                  </a:lnTo>
                  <a:lnTo>
                    <a:pt x="1215" y="1035"/>
                  </a:lnTo>
                  <a:lnTo>
                    <a:pt x="1201" y="1029"/>
                  </a:lnTo>
                  <a:lnTo>
                    <a:pt x="1183" y="1020"/>
                  </a:lnTo>
                  <a:lnTo>
                    <a:pt x="1162" y="1010"/>
                  </a:lnTo>
                  <a:lnTo>
                    <a:pt x="1157" y="1010"/>
                  </a:lnTo>
                  <a:lnTo>
                    <a:pt x="1140" y="1032"/>
                  </a:lnTo>
                  <a:lnTo>
                    <a:pt x="1122" y="1053"/>
                  </a:lnTo>
                  <a:lnTo>
                    <a:pt x="1103" y="1073"/>
                  </a:lnTo>
                  <a:lnTo>
                    <a:pt x="1083" y="1092"/>
                  </a:lnTo>
                  <a:lnTo>
                    <a:pt x="1063" y="1110"/>
                  </a:lnTo>
                  <a:lnTo>
                    <a:pt x="1042" y="1127"/>
                  </a:lnTo>
                  <a:lnTo>
                    <a:pt x="1020" y="1143"/>
                  </a:lnTo>
                  <a:lnTo>
                    <a:pt x="997" y="1158"/>
                  </a:lnTo>
                  <a:lnTo>
                    <a:pt x="982" y="1166"/>
                  </a:lnTo>
                  <a:lnTo>
                    <a:pt x="986" y="1172"/>
                  </a:lnTo>
                  <a:lnTo>
                    <a:pt x="989" y="1177"/>
                  </a:lnTo>
                  <a:lnTo>
                    <a:pt x="991" y="1184"/>
                  </a:lnTo>
                  <a:lnTo>
                    <a:pt x="994" y="1189"/>
                  </a:lnTo>
                  <a:lnTo>
                    <a:pt x="997" y="1195"/>
                  </a:lnTo>
                  <a:lnTo>
                    <a:pt x="1000" y="1200"/>
                  </a:lnTo>
                  <a:lnTo>
                    <a:pt x="1003" y="1206"/>
                  </a:lnTo>
                  <a:lnTo>
                    <a:pt x="1007" y="1212"/>
                  </a:lnTo>
                  <a:lnTo>
                    <a:pt x="1011" y="1218"/>
                  </a:lnTo>
                  <a:lnTo>
                    <a:pt x="1015" y="1226"/>
                  </a:lnTo>
                  <a:lnTo>
                    <a:pt x="1019" y="1232"/>
                  </a:lnTo>
                  <a:lnTo>
                    <a:pt x="1023" y="1239"/>
                  </a:lnTo>
                  <a:lnTo>
                    <a:pt x="1027" y="1245"/>
                  </a:lnTo>
                  <a:lnTo>
                    <a:pt x="1028" y="1252"/>
                  </a:lnTo>
                  <a:lnTo>
                    <a:pt x="1028" y="1255"/>
                  </a:lnTo>
                  <a:lnTo>
                    <a:pt x="1028" y="1257"/>
                  </a:lnTo>
                  <a:lnTo>
                    <a:pt x="1027" y="1259"/>
                  </a:lnTo>
                  <a:lnTo>
                    <a:pt x="1024" y="1261"/>
                  </a:lnTo>
                  <a:lnTo>
                    <a:pt x="1018" y="1266"/>
                  </a:lnTo>
                  <a:lnTo>
                    <a:pt x="1013" y="1270"/>
                  </a:lnTo>
                  <a:lnTo>
                    <a:pt x="1007" y="1272"/>
                  </a:lnTo>
                  <a:lnTo>
                    <a:pt x="1001" y="1272"/>
                  </a:lnTo>
                  <a:lnTo>
                    <a:pt x="996" y="1271"/>
                  </a:lnTo>
                  <a:lnTo>
                    <a:pt x="991" y="1269"/>
                  </a:lnTo>
                  <a:lnTo>
                    <a:pt x="986" y="1264"/>
                  </a:lnTo>
                  <a:lnTo>
                    <a:pt x="979" y="1260"/>
                  </a:lnTo>
                  <a:lnTo>
                    <a:pt x="969" y="1248"/>
                  </a:lnTo>
                  <a:lnTo>
                    <a:pt x="957" y="1232"/>
                  </a:lnTo>
                  <a:lnTo>
                    <a:pt x="945" y="1214"/>
                  </a:lnTo>
                  <a:lnTo>
                    <a:pt x="932" y="1195"/>
                  </a:lnTo>
                  <a:lnTo>
                    <a:pt x="918" y="1200"/>
                  </a:lnTo>
                  <a:lnTo>
                    <a:pt x="891" y="1211"/>
                  </a:lnTo>
                  <a:lnTo>
                    <a:pt x="864" y="1220"/>
                  </a:lnTo>
                  <a:lnTo>
                    <a:pt x="834" y="1229"/>
                  </a:lnTo>
                  <a:lnTo>
                    <a:pt x="806" y="1236"/>
                  </a:lnTo>
                  <a:lnTo>
                    <a:pt x="776" y="1241"/>
                  </a:lnTo>
                  <a:lnTo>
                    <a:pt x="745" y="1245"/>
                  </a:lnTo>
                  <a:lnTo>
                    <a:pt x="715" y="1248"/>
                  </a:lnTo>
                  <a:lnTo>
                    <a:pt x="683" y="1249"/>
                  </a:lnTo>
                  <a:lnTo>
                    <a:pt x="666" y="1248"/>
                  </a:lnTo>
                  <a:lnTo>
                    <a:pt x="648" y="1248"/>
                  </a:lnTo>
                  <a:lnTo>
                    <a:pt x="630" y="1245"/>
                  </a:lnTo>
                  <a:lnTo>
                    <a:pt x="612" y="1244"/>
                  </a:lnTo>
                  <a:lnTo>
                    <a:pt x="594" y="1241"/>
                  </a:lnTo>
                  <a:lnTo>
                    <a:pt x="577" y="1239"/>
                  </a:lnTo>
                  <a:lnTo>
                    <a:pt x="560" y="1235"/>
                  </a:lnTo>
                  <a:lnTo>
                    <a:pt x="543" y="1232"/>
                  </a:lnTo>
                  <a:lnTo>
                    <a:pt x="526" y="1227"/>
                  </a:lnTo>
                  <a:lnTo>
                    <a:pt x="509" y="1222"/>
                  </a:lnTo>
                  <a:lnTo>
                    <a:pt x="492" y="1217"/>
                  </a:lnTo>
                  <a:lnTo>
                    <a:pt x="477" y="1211"/>
                  </a:lnTo>
                  <a:lnTo>
                    <a:pt x="460" y="1205"/>
                  </a:lnTo>
                  <a:lnTo>
                    <a:pt x="444" y="1198"/>
                  </a:lnTo>
                  <a:lnTo>
                    <a:pt x="428" y="1191"/>
                  </a:lnTo>
                  <a:lnTo>
                    <a:pt x="414" y="1182"/>
                  </a:lnTo>
                  <a:lnTo>
                    <a:pt x="402" y="1176"/>
                  </a:lnTo>
                  <a:lnTo>
                    <a:pt x="399" y="1182"/>
                  </a:lnTo>
                  <a:lnTo>
                    <a:pt x="396" y="1189"/>
                  </a:lnTo>
                  <a:lnTo>
                    <a:pt x="394" y="1194"/>
                  </a:lnTo>
                  <a:lnTo>
                    <a:pt x="391" y="1200"/>
                  </a:lnTo>
                  <a:lnTo>
                    <a:pt x="389" y="1206"/>
                  </a:lnTo>
                  <a:lnTo>
                    <a:pt x="385" y="1211"/>
                  </a:lnTo>
                  <a:lnTo>
                    <a:pt x="382" y="1216"/>
                  </a:lnTo>
                  <a:lnTo>
                    <a:pt x="378" y="1222"/>
                  </a:lnTo>
                  <a:lnTo>
                    <a:pt x="373" y="1231"/>
                  </a:lnTo>
                  <a:lnTo>
                    <a:pt x="368" y="1238"/>
                  </a:lnTo>
                  <a:lnTo>
                    <a:pt x="362" y="1244"/>
                  </a:lnTo>
                  <a:lnTo>
                    <a:pt x="357" y="1250"/>
                  </a:lnTo>
                  <a:lnTo>
                    <a:pt x="352" y="1254"/>
                  </a:lnTo>
                  <a:lnTo>
                    <a:pt x="346" y="1257"/>
                  </a:lnTo>
                  <a:lnTo>
                    <a:pt x="340" y="1258"/>
                  </a:lnTo>
                  <a:lnTo>
                    <a:pt x="335" y="1257"/>
                  </a:lnTo>
                  <a:lnTo>
                    <a:pt x="328" y="1254"/>
                  </a:lnTo>
                  <a:lnTo>
                    <a:pt x="322" y="1251"/>
                  </a:lnTo>
                  <a:lnTo>
                    <a:pt x="318" y="1247"/>
                  </a:lnTo>
                  <a:lnTo>
                    <a:pt x="315" y="1241"/>
                  </a:lnTo>
                  <a:lnTo>
                    <a:pt x="314" y="1236"/>
                  </a:lnTo>
                  <a:lnTo>
                    <a:pt x="313" y="1230"/>
                  </a:lnTo>
                  <a:lnTo>
                    <a:pt x="314" y="1223"/>
                  </a:lnTo>
                  <a:lnTo>
                    <a:pt x="316" y="1216"/>
                  </a:lnTo>
                  <a:lnTo>
                    <a:pt x="322" y="1201"/>
                  </a:lnTo>
                  <a:lnTo>
                    <a:pt x="331" y="1185"/>
                  </a:lnTo>
                  <a:lnTo>
                    <a:pt x="341" y="1166"/>
                  </a:lnTo>
                  <a:lnTo>
                    <a:pt x="354" y="1145"/>
                  </a:lnTo>
                  <a:lnTo>
                    <a:pt x="344" y="1139"/>
                  </a:lnTo>
                  <a:lnTo>
                    <a:pt x="322" y="1124"/>
                  </a:lnTo>
                  <a:lnTo>
                    <a:pt x="301" y="1107"/>
                  </a:lnTo>
                  <a:lnTo>
                    <a:pt x="281" y="1089"/>
                  </a:lnTo>
                  <a:lnTo>
                    <a:pt x="263" y="1070"/>
                  </a:lnTo>
                  <a:lnTo>
                    <a:pt x="244" y="1050"/>
                  </a:lnTo>
                  <a:lnTo>
                    <a:pt x="227" y="1030"/>
                  </a:lnTo>
                  <a:lnTo>
                    <a:pt x="210" y="1008"/>
                  </a:lnTo>
                  <a:lnTo>
                    <a:pt x="194" y="986"/>
                  </a:lnTo>
                  <a:lnTo>
                    <a:pt x="180" y="963"/>
                  </a:lnTo>
                  <a:lnTo>
                    <a:pt x="166" y="940"/>
                  </a:lnTo>
                  <a:lnTo>
                    <a:pt x="155" y="916"/>
                  </a:lnTo>
                  <a:lnTo>
                    <a:pt x="143" y="891"/>
                  </a:lnTo>
                  <a:lnTo>
                    <a:pt x="132" y="864"/>
                  </a:lnTo>
                  <a:lnTo>
                    <a:pt x="124" y="838"/>
                  </a:lnTo>
                  <a:lnTo>
                    <a:pt x="116" y="812"/>
                  </a:lnTo>
                  <a:lnTo>
                    <a:pt x="109" y="785"/>
                  </a:lnTo>
                  <a:lnTo>
                    <a:pt x="104" y="770"/>
                  </a:lnTo>
                  <a:lnTo>
                    <a:pt x="98" y="772"/>
                  </a:lnTo>
                  <a:lnTo>
                    <a:pt x="92" y="774"/>
                  </a:lnTo>
                  <a:lnTo>
                    <a:pt x="86" y="775"/>
                  </a:lnTo>
                  <a:lnTo>
                    <a:pt x="82" y="776"/>
                  </a:lnTo>
                  <a:lnTo>
                    <a:pt x="77" y="777"/>
                  </a:lnTo>
                  <a:lnTo>
                    <a:pt x="72" y="778"/>
                  </a:lnTo>
                  <a:lnTo>
                    <a:pt x="66" y="779"/>
                  </a:lnTo>
                  <a:lnTo>
                    <a:pt x="60" y="780"/>
                  </a:lnTo>
                  <a:lnTo>
                    <a:pt x="52" y="781"/>
                  </a:lnTo>
                  <a:lnTo>
                    <a:pt x="43" y="781"/>
                  </a:lnTo>
                  <a:lnTo>
                    <a:pt x="35" y="782"/>
                  </a:lnTo>
                  <a:lnTo>
                    <a:pt x="27" y="782"/>
                  </a:lnTo>
                  <a:lnTo>
                    <a:pt x="19" y="781"/>
                  </a:lnTo>
                  <a:lnTo>
                    <a:pt x="13" y="779"/>
                  </a:lnTo>
                  <a:lnTo>
                    <a:pt x="10" y="778"/>
                  </a:lnTo>
                  <a:lnTo>
                    <a:pt x="7" y="776"/>
                  </a:lnTo>
                  <a:lnTo>
                    <a:pt x="6" y="774"/>
                  </a:lnTo>
                  <a:lnTo>
                    <a:pt x="3" y="772"/>
                  </a:lnTo>
                  <a:lnTo>
                    <a:pt x="1" y="765"/>
                  </a:lnTo>
                  <a:lnTo>
                    <a:pt x="0" y="757"/>
                  </a:lnTo>
                  <a:lnTo>
                    <a:pt x="1" y="752"/>
                  </a:lnTo>
                  <a:lnTo>
                    <a:pt x="3" y="747"/>
                  </a:lnTo>
                  <a:lnTo>
                    <a:pt x="7" y="743"/>
                  </a:lnTo>
                  <a:lnTo>
                    <a:pt x="11" y="738"/>
                  </a:lnTo>
                  <a:lnTo>
                    <a:pt x="16" y="734"/>
                  </a:lnTo>
                  <a:lnTo>
                    <a:pt x="22" y="731"/>
                  </a:lnTo>
                  <a:lnTo>
                    <a:pt x="38" y="727"/>
                  </a:lnTo>
                  <a:lnTo>
                    <a:pt x="57" y="722"/>
                  </a:lnTo>
                  <a:lnTo>
                    <a:pt x="78" y="718"/>
                  </a:lnTo>
                  <a:lnTo>
                    <a:pt x="102" y="714"/>
                  </a:lnTo>
                  <a:lnTo>
                    <a:pt x="98" y="706"/>
                  </a:lnTo>
                  <a:lnTo>
                    <a:pt x="97" y="701"/>
                  </a:lnTo>
                  <a:lnTo>
                    <a:pt x="97" y="694"/>
                  </a:lnTo>
                  <a:lnTo>
                    <a:pt x="97" y="689"/>
                  </a:lnTo>
                  <a:lnTo>
                    <a:pt x="97" y="683"/>
                  </a:lnTo>
                  <a:lnTo>
                    <a:pt x="97" y="676"/>
                  </a:lnTo>
                  <a:lnTo>
                    <a:pt x="97" y="671"/>
                  </a:lnTo>
                  <a:lnTo>
                    <a:pt x="97" y="665"/>
                  </a:lnTo>
                  <a:lnTo>
                    <a:pt x="97" y="660"/>
                  </a:lnTo>
                  <a:lnTo>
                    <a:pt x="97" y="632"/>
                  </a:lnTo>
                  <a:lnTo>
                    <a:pt x="99" y="605"/>
                  </a:lnTo>
                  <a:lnTo>
                    <a:pt x="102" y="579"/>
                  </a:lnTo>
                  <a:lnTo>
                    <a:pt x="106" y="551"/>
                  </a:lnTo>
                  <a:lnTo>
                    <a:pt x="112" y="526"/>
                  </a:lnTo>
                  <a:lnTo>
                    <a:pt x="118" y="501"/>
                  </a:lnTo>
                  <a:lnTo>
                    <a:pt x="125" y="476"/>
                  </a:lnTo>
                  <a:lnTo>
                    <a:pt x="135" y="451"/>
                  </a:lnTo>
                  <a:lnTo>
                    <a:pt x="144" y="426"/>
                  </a:lnTo>
                  <a:lnTo>
                    <a:pt x="155" y="403"/>
                  </a:lnTo>
                  <a:lnTo>
                    <a:pt x="166" y="380"/>
                  </a:lnTo>
                  <a:lnTo>
                    <a:pt x="179" y="358"/>
                  </a:lnTo>
                  <a:lnTo>
                    <a:pt x="192" y="336"/>
                  </a:lnTo>
                  <a:lnTo>
                    <a:pt x="207" y="315"/>
                  </a:lnTo>
                  <a:lnTo>
                    <a:pt x="223" y="295"/>
                  </a:lnTo>
                  <a:lnTo>
                    <a:pt x="238" y="275"/>
                  </a:lnTo>
                  <a:lnTo>
                    <a:pt x="237" y="265"/>
                  </a:lnTo>
                  <a:lnTo>
                    <a:pt x="232" y="261"/>
                  </a:lnTo>
                  <a:lnTo>
                    <a:pt x="227" y="256"/>
                  </a:lnTo>
                  <a:lnTo>
                    <a:pt x="223" y="252"/>
                  </a:lnTo>
                  <a:lnTo>
                    <a:pt x="219" y="249"/>
                  </a:lnTo>
                  <a:lnTo>
                    <a:pt x="213" y="245"/>
                  </a:lnTo>
                  <a:lnTo>
                    <a:pt x="209" y="240"/>
                  </a:lnTo>
                  <a:lnTo>
                    <a:pt x="205" y="235"/>
                  </a:lnTo>
                  <a:lnTo>
                    <a:pt x="201" y="230"/>
                  </a:lnTo>
                  <a:lnTo>
                    <a:pt x="195" y="225"/>
                  </a:lnTo>
                  <a:lnTo>
                    <a:pt x="189" y="220"/>
                  </a:lnTo>
                  <a:lnTo>
                    <a:pt x="184" y="213"/>
                  </a:lnTo>
                  <a:lnTo>
                    <a:pt x="179" y="207"/>
                  </a:lnTo>
                  <a:lnTo>
                    <a:pt x="173" y="202"/>
                  </a:lnTo>
                  <a:lnTo>
                    <a:pt x="170" y="195"/>
                  </a:lnTo>
                  <a:lnTo>
                    <a:pt x="170" y="192"/>
                  </a:lnTo>
                  <a:lnTo>
                    <a:pt x="169" y="190"/>
                  </a:lnTo>
                  <a:lnTo>
                    <a:pt x="170" y="187"/>
                  </a:lnTo>
                  <a:lnTo>
                    <a:pt x="170" y="185"/>
                  </a:lnTo>
                  <a:lnTo>
                    <a:pt x="176" y="179"/>
                  </a:lnTo>
                  <a:lnTo>
                    <a:pt x="180" y="173"/>
                  </a:lnTo>
                  <a:lnTo>
                    <a:pt x="185" y="170"/>
                  </a:lnTo>
                  <a:lnTo>
                    <a:pt x="190" y="168"/>
                  </a:lnTo>
                  <a:lnTo>
                    <a:pt x="195" y="168"/>
                  </a:lnTo>
                  <a:lnTo>
                    <a:pt x="202" y="168"/>
                  </a:lnTo>
                  <a:lnTo>
                    <a:pt x="207" y="170"/>
                  </a:lnTo>
                  <a:lnTo>
                    <a:pt x="214" y="173"/>
                  </a:lnTo>
                  <a:lnTo>
                    <a:pt x="228" y="182"/>
                  </a:lnTo>
                  <a:lnTo>
                    <a:pt x="244" y="193"/>
                  </a:lnTo>
                  <a:lnTo>
                    <a:pt x="259" y="207"/>
                  </a:lnTo>
                  <a:lnTo>
                    <a:pt x="277" y="223"/>
                  </a:lnTo>
                  <a:lnTo>
                    <a:pt x="290" y="223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6" name=""/>
          <p:cNvGrpSpPr/>
          <p:nvPr/>
        </p:nvGrpSpPr>
        <p:grpSpPr>
          <a:xfrm>
            <a:off x="2774880" y="2514600"/>
            <a:ext cx="1909800" cy="2496960"/>
            <a:chOff x="2774880" y="2514600"/>
            <a:chExt cx="1909800" cy="2496960"/>
          </a:xfrm>
        </p:grpSpPr>
        <p:sp>
          <p:nvSpPr>
            <p:cNvPr id="5277" name=""/>
            <p:cNvSpPr/>
            <p:nvPr/>
          </p:nvSpPr>
          <p:spPr>
            <a:xfrm>
              <a:off x="3016080" y="2514600"/>
              <a:ext cx="887760" cy="1149480"/>
            </a:xfrm>
            <a:custGeom>
              <a:avLst/>
              <a:gdLst/>
              <a:ahLst/>
              <a:rect l="l" t="t" r="r" b="b"/>
              <a:pathLst>
                <a:path w="2795" h="3621">
                  <a:moveTo>
                    <a:pt x="1643" y="364"/>
                  </a:moveTo>
                  <a:lnTo>
                    <a:pt x="1632" y="363"/>
                  </a:lnTo>
                  <a:lnTo>
                    <a:pt x="1620" y="361"/>
                  </a:lnTo>
                  <a:lnTo>
                    <a:pt x="1608" y="360"/>
                  </a:lnTo>
                  <a:lnTo>
                    <a:pt x="1594" y="359"/>
                  </a:lnTo>
                  <a:lnTo>
                    <a:pt x="1580" y="358"/>
                  </a:lnTo>
                  <a:lnTo>
                    <a:pt x="1567" y="357"/>
                  </a:lnTo>
                  <a:lnTo>
                    <a:pt x="1553" y="356"/>
                  </a:lnTo>
                  <a:lnTo>
                    <a:pt x="1540" y="355"/>
                  </a:lnTo>
                  <a:lnTo>
                    <a:pt x="1467" y="351"/>
                  </a:lnTo>
                  <a:lnTo>
                    <a:pt x="1396" y="352"/>
                  </a:lnTo>
                  <a:lnTo>
                    <a:pt x="1325" y="356"/>
                  </a:lnTo>
                  <a:lnTo>
                    <a:pt x="1255" y="366"/>
                  </a:lnTo>
                  <a:lnTo>
                    <a:pt x="1186" y="378"/>
                  </a:lnTo>
                  <a:lnTo>
                    <a:pt x="1118" y="395"/>
                  </a:lnTo>
                  <a:lnTo>
                    <a:pt x="1051" y="415"/>
                  </a:lnTo>
                  <a:lnTo>
                    <a:pt x="985" y="439"/>
                  </a:lnTo>
                  <a:lnTo>
                    <a:pt x="920" y="466"/>
                  </a:lnTo>
                  <a:lnTo>
                    <a:pt x="857" y="498"/>
                  </a:lnTo>
                  <a:lnTo>
                    <a:pt x="796" y="533"/>
                  </a:lnTo>
                  <a:lnTo>
                    <a:pt x="735" y="570"/>
                  </a:lnTo>
                  <a:lnTo>
                    <a:pt x="676" y="611"/>
                  </a:lnTo>
                  <a:lnTo>
                    <a:pt x="619" y="655"/>
                  </a:lnTo>
                  <a:lnTo>
                    <a:pt x="564" y="703"/>
                  </a:lnTo>
                  <a:lnTo>
                    <a:pt x="511" y="752"/>
                  </a:lnTo>
                  <a:lnTo>
                    <a:pt x="460" y="805"/>
                  </a:lnTo>
                  <a:lnTo>
                    <a:pt x="410" y="860"/>
                  </a:lnTo>
                  <a:lnTo>
                    <a:pt x="364" y="919"/>
                  </a:lnTo>
                  <a:lnTo>
                    <a:pt x="320" y="979"/>
                  </a:lnTo>
                  <a:lnTo>
                    <a:pt x="278" y="1042"/>
                  </a:lnTo>
                  <a:lnTo>
                    <a:pt x="238" y="1108"/>
                  </a:lnTo>
                  <a:lnTo>
                    <a:pt x="202" y="1175"/>
                  </a:lnTo>
                  <a:lnTo>
                    <a:pt x="168" y="1246"/>
                  </a:lnTo>
                  <a:lnTo>
                    <a:pt x="137" y="1317"/>
                  </a:lnTo>
                  <a:lnTo>
                    <a:pt x="108" y="1390"/>
                  </a:lnTo>
                  <a:lnTo>
                    <a:pt x="83" y="1466"/>
                  </a:lnTo>
                  <a:lnTo>
                    <a:pt x="61" y="1544"/>
                  </a:lnTo>
                  <a:lnTo>
                    <a:pt x="42" y="1623"/>
                  </a:lnTo>
                  <a:lnTo>
                    <a:pt x="26" y="1703"/>
                  </a:lnTo>
                  <a:lnTo>
                    <a:pt x="15" y="1785"/>
                  </a:lnTo>
                  <a:lnTo>
                    <a:pt x="5" y="1869"/>
                  </a:lnTo>
                  <a:lnTo>
                    <a:pt x="1" y="1953"/>
                  </a:lnTo>
                  <a:lnTo>
                    <a:pt x="0" y="2036"/>
                  </a:lnTo>
                  <a:lnTo>
                    <a:pt x="2" y="2118"/>
                  </a:lnTo>
                  <a:lnTo>
                    <a:pt x="9" y="2200"/>
                  </a:lnTo>
                  <a:lnTo>
                    <a:pt x="18" y="2280"/>
                  </a:lnTo>
                  <a:lnTo>
                    <a:pt x="31" y="2359"/>
                  </a:lnTo>
                  <a:lnTo>
                    <a:pt x="46" y="2436"/>
                  </a:lnTo>
                  <a:lnTo>
                    <a:pt x="65" y="2513"/>
                  </a:lnTo>
                  <a:lnTo>
                    <a:pt x="88" y="2587"/>
                  </a:lnTo>
                  <a:lnTo>
                    <a:pt x="113" y="2660"/>
                  </a:lnTo>
                  <a:lnTo>
                    <a:pt x="142" y="2731"/>
                  </a:lnTo>
                  <a:lnTo>
                    <a:pt x="173" y="2801"/>
                  </a:lnTo>
                  <a:lnTo>
                    <a:pt x="207" y="2869"/>
                  </a:lnTo>
                  <a:lnTo>
                    <a:pt x="244" y="2934"/>
                  </a:lnTo>
                  <a:lnTo>
                    <a:pt x="283" y="2997"/>
                  </a:lnTo>
                  <a:lnTo>
                    <a:pt x="325" y="3058"/>
                  </a:lnTo>
                  <a:lnTo>
                    <a:pt x="370" y="3116"/>
                  </a:lnTo>
                  <a:lnTo>
                    <a:pt x="417" y="3171"/>
                  </a:lnTo>
                  <a:lnTo>
                    <a:pt x="466" y="3225"/>
                  </a:lnTo>
                  <a:lnTo>
                    <a:pt x="517" y="3275"/>
                  </a:lnTo>
                  <a:lnTo>
                    <a:pt x="571" y="3322"/>
                  </a:lnTo>
                  <a:lnTo>
                    <a:pt x="627" y="3367"/>
                  </a:lnTo>
                  <a:lnTo>
                    <a:pt x="684" y="3408"/>
                  </a:lnTo>
                  <a:lnTo>
                    <a:pt x="743" y="3445"/>
                  </a:lnTo>
                  <a:lnTo>
                    <a:pt x="804" y="3480"/>
                  </a:lnTo>
                  <a:lnTo>
                    <a:pt x="867" y="3511"/>
                  </a:lnTo>
                  <a:lnTo>
                    <a:pt x="932" y="3539"/>
                  </a:lnTo>
                  <a:lnTo>
                    <a:pt x="998" y="3563"/>
                  </a:lnTo>
                  <a:lnTo>
                    <a:pt x="1065" y="3583"/>
                  </a:lnTo>
                  <a:lnTo>
                    <a:pt x="1134" y="3599"/>
                  </a:lnTo>
                  <a:lnTo>
                    <a:pt x="1205" y="3611"/>
                  </a:lnTo>
                  <a:lnTo>
                    <a:pt x="1277" y="3619"/>
                  </a:lnTo>
                  <a:lnTo>
                    <a:pt x="1279" y="3620"/>
                  </a:lnTo>
                  <a:lnTo>
                    <a:pt x="1282" y="3620"/>
                  </a:lnTo>
                  <a:lnTo>
                    <a:pt x="1286" y="3620"/>
                  </a:lnTo>
                  <a:lnTo>
                    <a:pt x="1288" y="3620"/>
                  </a:lnTo>
                  <a:lnTo>
                    <a:pt x="1291" y="3620"/>
                  </a:lnTo>
                  <a:lnTo>
                    <a:pt x="1293" y="3621"/>
                  </a:lnTo>
                  <a:lnTo>
                    <a:pt x="1296" y="3621"/>
                  </a:lnTo>
                  <a:lnTo>
                    <a:pt x="1298" y="3621"/>
                  </a:lnTo>
                  <a:lnTo>
                    <a:pt x="1332" y="3198"/>
                  </a:lnTo>
                  <a:lnTo>
                    <a:pt x="1330" y="3201"/>
                  </a:lnTo>
                  <a:lnTo>
                    <a:pt x="1327" y="3202"/>
                  </a:lnTo>
                  <a:lnTo>
                    <a:pt x="1324" y="3203"/>
                  </a:lnTo>
                  <a:lnTo>
                    <a:pt x="1321" y="3204"/>
                  </a:lnTo>
                  <a:lnTo>
                    <a:pt x="1318" y="3204"/>
                  </a:lnTo>
                  <a:lnTo>
                    <a:pt x="1316" y="3204"/>
                  </a:lnTo>
                  <a:lnTo>
                    <a:pt x="1313" y="3204"/>
                  </a:lnTo>
                  <a:lnTo>
                    <a:pt x="1310" y="3204"/>
                  </a:lnTo>
                  <a:lnTo>
                    <a:pt x="1256" y="3198"/>
                  </a:lnTo>
                  <a:lnTo>
                    <a:pt x="1205" y="3189"/>
                  </a:lnTo>
                  <a:lnTo>
                    <a:pt x="1153" y="3178"/>
                  </a:lnTo>
                  <a:lnTo>
                    <a:pt x="1103" y="3162"/>
                  </a:lnTo>
                  <a:lnTo>
                    <a:pt x="1053" y="3144"/>
                  </a:lnTo>
                  <a:lnTo>
                    <a:pt x="1005" y="3124"/>
                  </a:lnTo>
                  <a:lnTo>
                    <a:pt x="958" y="3101"/>
                  </a:lnTo>
                  <a:lnTo>
                    <a:pt x="912" y="3075"/>
                  </a:lnTo>
                  <a:lnTo>
                    <a:pt x="868" y="3046"/>
                  </a:lnTo>
                  <a:lnTo>
                    <a:pt x="825" y="3016"/>
                  </a:lnTo>
                  <a:lnTo>
                    <a:pt x="784" y="2983"/>
                  </a:lnTo>
                  <a:lnTo>
                    <a:pt x="744" y="2948"/>
                  </a:lnTo>
                  <a:lnTo>
                    <a:pt x="705" y="2910"/>
                  </a:lnTo>
                  <a:lnTo>
                    <a:pt x="669" y="2871"/>
                  </a:lnTo>
                  <a:lnTo>
                    <a:pt x="634" y="2829"/>
                  </a:lnTo>
                  <a:lnTo>
                    <a:pt x="600" y="2786"/>
                  </a:lnTo>
                  <a:lnTo>
                    <a:pt x="569" y="2740"/>
                  </a:lnTo>
                  <a:lnTo>
                    <a:pt x="540" y="2694"/>
                  </a:lnTo>
                  <a:lnTo>
                    <a:pt x="512" y="2644"/>
                  </a:lnTo>
                  <a:lnTo>
                    <a:pt x="486" y="2594"/>
                  </a:lnTo>
                  <a:lnTo>
                    <a:pt x="463" y="2542"/>
                  </a:lnTo>
                  <a:lnTo>
                    <a:pt x="442" y="2489"/>
                  </a:lnTo>
                  <a:lnTo>
                    <a:pt x="422" y="2434"/>
                  </a:lnTo>
                  <a:lnTo>
                    <a:pt x="406" y="2379"/>
                  </a:lnTo>
                  <a:lnTo>
                    <a:pt x="392" y="2322"/>
                  </a:lnTo>
                  <a:lnTo>
                    <a:pt x="379" y="2264"/>
                  </a:lnTo>
                  <a:lnTo>
                    <a:pt x="370" y="2205"/>
                  </a:lnTo>
                  <a:lnTo>
                    <a:pt x="362" y="2144"/>
                  </a:lnTo>
                  <a:lnTo>
                    <a:pt x="358" y="2085"/>
                  </a:lnTo>
                  <a:lnTo>
                    <a:pt x="356" y="2023"/>
                  </a:lnTo>
                  <a:lnTo>
                    <a:pt x="357" y="1961"/>
                  </a:lnTo>
                  <a:lnTo>
                    <a:pt x="361" y="1898"/>
                  </a:lnTo>
                  <a:lnTo>
                    <a:pt x="367" y="1836"/>
                  </a:lnTo>
                  <a:lnTo>
                    <a:pt x="376" y="1776"/>
                  </a:lnTo>
                  <a:lnTo>
                    <a:pt x="387" y="1716"/>
                  </a:lnTo>
                  <a:lnTo>
                    <a:pt x="402" y="1657"/>
                  </a:lnTo>
                  <a:lnTo>
                    <a:pt x="418" y="1599"/>
                  </a:lnTo>
                  <a:lnTo>
                    <a:pt x="437" y="1544"/>
                  </a:lnTo>
                  <a:lnTo>
                    <a:pt x="459" y="1489"/>
                  </a:lnTo>
                  <a:lnTo>
                    <a:pt x="482" y="1436"/>
                  </a:lnTo>
                  <a:lnTo>
                    <a:pt x="507" y="1383"/>
                  </a:lnTo>
                  <a:lnTo>
                    <a:pt x="534" y="1333"/>
                  </a:lnTo>
                  <a:lnTo>
                    <a:pt x="564" y="1284"/>
                  </a:lnTo>
                  <a:lnTo>
                    <a:pt x="595" y="1237"/>
                  </a:lnTo>
                  <a:lnTo>
                    <a:pt x="629" y="1192"/>
                  </a:lnTo>
                  <a:lnTo>
                    <a:pt x="663" y="1148"/>
                  </a:lnTo>
                  <a:lnTo>
                    <a:pt x="700" y="1107"/>
                  </a:lnTo>
                  <a:lnTo>
                    <a:pt x="739" y="1067"/>
                  </a:lnTo>
                  <a:lnTo>
                    <a:pt x="778" y="1030"/>
                  </a:lnTo>
                  <a:lnTo>
                    <a:pt x="820" y="995"/>
                  </a:lnTo>
                  <a:lnTo>
                    <a:pt x="862" y="961"/>
                  </a:lnTo>
                  <a:lnTo>
                    <a:pt x="906" y="931"/>
                  </a:lnTo>
                  <a:lnTo>
                    <a:pt x="951" y="902"/>
                  </a:lnTo>
                  <a:lnTo>
                    <a:pt x="997" y="876"/>
                  </a:lnTo>
                  <a:lnTo>
                    <a:pt x="1044" y="853"/>
                  </a:lnTo>
                  <a:lnTo>
                    <a:pt x="1093" y="832"/>
                  </a:lnTo>
                  <a:lnTo>
                    <a:pt x="1142" y="814"/>
                  </a:lnTo>
                  <a:lnTo>
                    <a:pt x="1192" y="798"/>
                  </a:lnTo>
                  <a:lnTo>
                    <a:pt x="1243" y="786"/>
                  </a:lnTo>
                  <a:lnTo>
                    <a:pt x="1294" y="776"/>
                  </a:lnTo>
                  <a:lnTo>
                    <a:pt x="1346" y="769"/>
                  </a:lnTo>
                  <a:lnTo>
                    <a:pt x="1399" y="766"/>
                  </a:lnTo>
                  <a:lnTo>
                    <a:pt x="1452" y="766"/>
                  </a:lnTo>
                  <a:lnTo>
                    <a:pt x="1506" y="768"/>
                  </a:lnTo>
                  <a:lnTo>
                    <a:pt x="1520" y="769"/>
                  </a:lnTo>
                  <a:lnTo>
                    <a:pt x="1533" y="770"/>
                  </a:lnTo>
                  <a:lnTo>
                    <a:pt x="1547" y="771"/>
                  </a:lnTo>
                  <a:lnTo>
                    <a:pt x="1561" y="772"/>
                  </a:lnTo>
                  <a:lnTo>
                    <a:pt x="1574" y="773"/>
                  </a:lnTo>
                  <a:lnTo>
                    <a:pt x="1587" y="774"/>
                  </a:lnTo>
                  <a:lnTo>
                    <a:pt x="1598" y="775"/>
                  </a:lnTo>
                  <a:lnTo>
                    <a:pt x="1610" y="776"/>
                  </a:lnTo>
                  <a:lnTo>
                    <a:pt x="1578" y="1168"/>
                  </a:lnTo>
                  <a:lnTo>
                    <a:pt x="2795" y="675"/>
                  </a:lnTo>
                  <a:lnTo>
                    <a:pt x="1673" y="0"/>
                  </a:lnTo>
                  <a:lnTo>
                    <a:pt x="1643" y="36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3016080" y="2514600"/>
              <a:ext cx="887760" cy="1149480"/>
            </a:xfrm>
            <a:custGeom>
              <a:avLst/>
              <a:gdLst/>
              <a:ahLst/>
              <a:rect l="l" t="t" r="r" b="b"/>
              <a:pathLst>
                <a:path w="2795" h="3621">
                  <a:moveTo>
                    <a:pt x="1643" y="364"/>
                  </a:moveTo>
                  <a:lnTo>
                    <a:pt x="1632" y="363"/>
                  </a:lnTo>
                  <a:lnTo>
                    <a:pt x="1620" y="361"/>
                  </a:lnTo>
                  <a:lnTo>
                    <a:pt x="1608" y="360"/>
                  </a:lnTo>
                  <a:lnTo>
                    <a:pt x="1594" y="359"/>
                  </a:lnTo>
                  <a:lnTo>
                    <a:pt x="1580" y="358"/>
                  </a:lnTo>
                  <a:lnTo>
                    <a:pt x="1567" y="357"/>
                  </a:lnTo>
                  <a:lnTo>
                    <a:pt x="1553" y="356"/>
                  </a:lnTo>
                  <a:lnTo>
                    <a:pt x="1540" y="355"/>
                  </a:lnTo>
                  <a:lnTo>
                    <a:pt x="1467" y="351"/>
                  </a:lnTo>
                  <a:lnTo>
                    <a:pt x="1396" y="352"/>
                  </a:lnTo>
                  <a:lnTo>
                    <a:pt x="1325" y="356"/>
                  </a:lnTo>
                  <a:lnTo>
                    <a:pt x="1255" y="366"/>
                  </a:lnTo>
                  <a:lnTo>
                    <a:pt x="1186" y="378"/>
                  </a:lnTo>
                  <a:lnTo>
                    <a:pt x="1118" y="395"/>
                  </a:lnTo>
                  <a:lnTo>
                    <a:pt x="1051" y="415"/>
                  </a:lnTo>
                  <a:lnTo>
                    <a:pt x="985" y="439"/>
                  </a:lnTo>
                  <a:lnTo>
                    <a:pt x="920" y="466"/>
                  </a:lnTo>
                  <a:lnTo>
                    <a:pt x="857" y="498"/>
                  </a:lnTo>
                  <a:lnTo>
                    <a:pt x="796" y="533"/>
                  </a:lnTo>
                  <a:lnTo>
                    <a:pt x="735" y="570"/>
                  </a:lnTo>
                  <a:lnTo>
                    <a:pt x="676" y="611"/>
                  </a:lnTo>
                  <a:lnTo>
                    <a:pt x="619" y="655"/>
                  </a:lnTo>
                  <a:lnTo>
                    <a:pt x="564" y="703"/>
                  </a:lnTo>
                  <a:lnTo>
                    <a:pt x="511" y="752"/>
                  </a:lnTo>
                  <a:lnTo>
                    <a:pt x="460" y="805"/>
                  </a:lnTo>
                  <a:lnTo>
                    <a:pt x="410" y="860"/>
                  </a:lnTo>
                  <a:lnTo>
                    <a:pt x="364" y="919"/>
                  </a:lnTo>
                  <a:lnTo>
                    <a:pt x="320" y="979"/>
                  </a:lnTo>
                  <a:lnTo>
                    <a:pt x="278" y="1042"/>
                  </a:lnTo>
                  <a:lnTo>
                    <a:pt x="238" y="1108"/>
                  </a:lnTo>
                  <a:lnTo>
                    <a:pt x="202" y="1175"/>
                  </a:lnTo>
                  <a:lnTo>
                    <a:pt x="168" y="1246"/>
                  </a:lnTo>
                  <a:lnTo>
                    <a:pt x="137" y="1317"/>
                  </a:lnTo>
                  <a:lnTo>
                    <a:pt x="108" y="1390"/>
                  </a:lnTo>
                  <a:lnTo>
                    <a:pt x="83" y="1466"/>
                  </a:lnTo>
                  <a:lnTo>
                    <a:pt x="61" y="1544"/>
                  </a:lnTo>
                  <a:lnTo>
                    <a:pt x="42" y="1623"/>
                  </a:lnTo>
                  <a:lnTo>
                    <a:pt x="26" y="1703"/>
                  </a:lnTo>
                  <a:lnTo>
                    <a:pt x="15" y="1785"/>
                  </a:lnTo>
                  <a:lnTo>
                    <a:pt x="5" y="1869"/>
                  </a:lnTo>
                  <a:lnTo>
                    <a:pt x="1" y="1953"/>
                  </a:lnTo>
                  <a:lnTo>
                    <a:pt x="0" y="2036"/>
                  </a:lnTo>
                  <a:lnTo>
                    <a:pt x="2" y="2118"/>
                  </a:lnTo>
                  <a:lnTo>
                    <a:pt x="9" y="2200"/>
                  </a:lnTo>
                  <a:lnTo>
                    <a:pt x="18" y="2280"/>
                  </a:lnTo>
                  <a:lnTo>
                    <a:pt x="31" y="2359"/>
                  </a:lnTo>
                  <a:lnTo>
                    <a:pt x="46" y="2436"/>
                  </a:lnTo>
                  <a:lnTo>
                    <a:pt x="65" y="2513"/>
                  </a:lnTo>
                  <a:lnTo>
                    <a:pt x="88" y="2587"/>
                  </a:lnTo>
                  <a:lnTo>
                    <a:pt x="113" y="2660"/>
                  </a:lnTo>
                  <a:lnTo>
                    <a:pt x="142" y="2731"/>
                  </a:lnTo>
                  <a:lnTo>
                    <a:pt x="173" y="2801"/>
                  </a:lnTo>
                  <a:lnTo>
                    <a:pt x="207" y="2869"/>
                  </a:lnTo>
                  <a:lnTo>
                    <a:pt x="244" y="2934"/>
                  </a:lnTo>
                  <a:lnTo>
                    <a:pt x="283" y="2997"/>
                  </a:lnTo>
                  <a:lnTo>
                    <a:pt x="325" y="3058"/>
                  </a:lnTo>
                  <a:lnTo>
                    <a:pt x="370" y="3116"/>
                  </a:lnTo>
                  <a:lnTo>
                    <a:pt x="417" y="3171"/>
                  </a:lnTo>
                  <a:lnTo>
                    <a:pt x="466" y="3225"/>
                  </a:lnTo>
                  <a:lnTo>
                    <a:pt x="517" y="3275"/>
                  </a:lnTo>
                  <a:lnTo>
                    <a:pt x="571" y="3322"/>
                  </a:lnTo>
                  <a:lnTo>
                    <a:pt x="627" y="3367"/>
                  </a:lnTo>
                  <a:lnTo>
                    <a:pt x="684" y="3408"/>
                  </a:lnTo>
                  <a:lnTo>
                    <a:pt x="743" y="3445"/>
                  </a:lnTo>
                  <a:lnTo>
                    <a:pt x="804" y="3480"/>
                  </a:lnTo>
                  <a:lnTo>
                    <a:pt x="867" y="3511"/>
                  </a:lnTo>
                  <a:lnTo>
                    <a:pt x="932" y="3539"/>
                  </a:lnTo>
                  <a:lnTo>
                    <a:pt x="998" y="3563"/>
                  </a:lnTo>
                  <a:lnTo>
                    <a:pt x="1065" y="3583"/>
                  </a:lnTo>
                  <a:lnTo>
                    <a:pt x="1134" y="3599"/>
                  </a:lnTo>
                  <a:lnTo>
                    <a:pt x="1205" y="3611"/>
                  </a:lnTo>
                  <a:lnTo>
                    <a:pt x="1277" y="3619"/>
                  </a:lnTo>
                  <a:lnTo>
                    <a:pt x="1279" y="3620"/>
                  </a:lnTo>
                  <a:lnTo>
                    <a:pt x="1282" y="3620"/>
                  </a:lnTo>
                  <a:lnTo>
                    <a:pt x="1286" y="3620"/>
                  </a:lnTo>
                  <a:lnTo>
                    <a:pt x="1288" y="3620"/>
                  </a:lnTo>
                  <a:lnTo>
                    <a:pt x="1291" y="3620"/>
                  </a:lnTo>
                  <a:lnTo>
                    <a:pt x="1293" y="3621"/>
                  </a:lnTo>
                  <a:lnTo>
                    <a:pt x="1296" y="3621"/>
                  </a:lnTo>
                  <a:lnTo>
                    <a:pt x="1298" y="3621"/>
                  </a:lnTo>
                  <a:lnTo>
                    <a:pt x="1332" y="3198"/>
                  </a:lnTo>
                  <a:lnTo>
                    <a:pt x="1330" y="3201"/>
                  </a:lnTo>
                  <a:lnTo>
                    <a:pt x="1327" y="3202"/>
                  </a:lnTo>
                  <a:lnTo>
                    <a:pt x="1324" y="3203"/>
                  </a:lnTo>
                  <a:lnTo>
                    <a:pt x="1321" y="3204"/>
                  </a:lnTo>
                  <a:lnTo>
                    <a:pt x="1318" y="3204"/>
                  </a:lnTo>
                  <a:lnTo>
                    <a:pt x="1316" y="3204"/>
                  </a:lnTo>
                  <a:lnTo>
                    <a:pt x="1313" y="3204"/>
                  </a:lnTo>
                  <a:lnTo>
                    <a:pt x="1310" y="3204"/>
                  </a:lnTo>
                  <a:lnTo>
                    <a:pt x="1256" y="3198"/>
                  </a:lnTo>
                  <a:lnTo>
                    <a:pt x="1205" y="3189"/>
                  </a:lnTo>
                  <a:lnTo>
                    <a:pt x="1153" y="3178"/>
                  </a:lnTo>
                  <a:lnTo>
                    <a:pt x="1103" y="3162"/>
                  </a:lnTo>
                  <a:lnTo>
                    <a:pt x="1053" y="3144"/>
                  </a:lnTo>
                  <a:lnTo>
                    <a:pt x="1005" y="3124"/>
                  </a:lnTo>
                  <a:lnTo>
                    <a:pt x="958" y="3101"/>
                  </a:lnTo>
                  <a:lnTo>
                    <a:pt x="912" y="3075"/>
                  </a:lnTo>
                  <a:lnTo>
                    <a:pt x="868" y="3046"/>
                  </a:lnTo>
                  <a:lnTo>
                    <a:pt x="825" y="3016"/>
                  </a:lnTo>
                  <a:lnTo>
                    <a:pt x="784" y="2983"/>
                  </a:lnTo>
                  <a:lnTo>
                    <a:pt x="744" y="2948"/>
                  </a:lnTo>
                  <a:lnTo>
                    <a:pt x="705" y="2910"/>
                  </a:lnTo>
                  <a:lnTo>
                    <a:pt x="669" y="2871"/>
                  </a:lnTo>
                  <a:lnTo>
                    <a:pt x="634" y="2829"/>
                  </a:lnTo>
                  <a:lnTo>
                    <a:pt x="600" y="2786"/>
                  </a:lnTo>
                  <a:lnTo>
                    <a:pt x="569" y="2740"/>
                  </a:lnTo>
                  <a:lnTo>
                    <a:pt x="540" y="2694"/>
                  </a:lnTo>
                  <a:lnTo>
                    <a:pt x="512" y="2644"/>
                  </a:lnTo>
                  <a:lnTo>
                    <a:pt x="486" y="2594"/>
                  </a:lnTo>
                  <a:lnTo>
                    <a:pt x="463" y="2542"/>
                  </a:lnTo>
                  <a:lnTo>
                    <a:pt x="442" y="2489"/>
                  </a:lnTo>
                  <a:lnTo>
                    <a:pt x="422" y="2434"/>
                  </a:lnTo>
                  <a:lnTo>
                    <a:pt x="406" y="2379"/>
                  </a:lnTo>
                  <a:lnTo>
                    <a:pt x="392" y="2322"/>
                  </a:lnTo>
                  <a:lnTo>
                    <a:pt x="379" y="2264"/>
                  </a:lnTo>
                  <a:lnTo>
                    <a:pt x="370" y="2205"/>
                  </a:lnTo>
                  <a:lnTo>
                    <a:pt x="362" y="2144"/>
                  </a:lnTo>
                  <a:lnTo>
                    <a:pt x="358" y="2085"/>
                  </a:lnTo>
                  <a:lnTo>
                    <a:pt x="356" y="2023"/>
                  </a:lnTo>
                  <a:lnTo>
                    <a:pt x="357" y="1961"/>
                  </a:lnTo>
                  <a:lnTo>
                    <a:pt x="361" y="1898"/>
                  </a:lnTo>
                  <a:lnTo>
                    <a:pt x="367" y="1836"/>
                  </a:lnTo>
                  <a:lnTo>
                    <a:pt x="376" y="1776"/>
                  </a:lnTo>
                  <a:lnTo>
                    <a:pt x="387" y="1716"/>
                  </a:lnTo>
                  <a:lnTo>
                    <a:pt x="402" y="1657"/>
                  </a:lnTo>
                  <a:lnTo>
                    <a:pt x="418" y="1599"/>
                  </a:lnTo>
                  <a:lnTo>
                    <a:pt x="437" y="1544"/>
                  </a:lnTo>
                  <a:lnTo>
                    <a:pt x="459" y="1489"/>
                  </a:lnTo>
                  <a:lnTo>
                    <a:pt x="482" y="1436"/>
                  </a:lnTo>
                  <a:lnTo>
                    <a:pt x="507" y="1383"/>
                  </a:lnTo>
                  <a:lnTo>
                    <a:pt x="534" y="1333"/>
                  </a:lnTo>
                  <a:lnTo>
                    <a:pt x="564" y="1284"/>
                  </a:lnTo>
                  <a:lnTo>
                    <a:pt x="595" y="1237"/>
                  </a:lnTo>
                  <a:lnTo>
                    <a:pt x="629" y="1192"/>
                  </a:lnTo>
                  <a:lnTo>
                    <a:pt x="663" y="1148"/>
                  </a:lnTo>
                  <a:lnTo>
                    <a:pt x="700" y="1107"/>
                  </a:lnTo>
                  <a:lnTo>
                    <a:pt x="739" y="1067"/>
                  </a:lnTo>
                  <a:lnTo>
                    <a:pt x="778" y="1030"/>
                  </a:lnTo>
                  <a:lnTo>
                    <a:pt x="820" y="995"/>
                  </a:lnTo>
                  <a:lnTo>
                    <a:pt x="862" y="961"/>
                  </a:lnTo>
                  <a:lnTo>
                    <a:pt x="906" y="931"/>
                  </a:lnTo>
                  <a:lnTo>
                    <a:pt x="951" y="902"/>
                  </a:lnTo>
                  <a:lnTo>
                    <a:pt x="997" y="876"/>
                  </a:lnTo>
                  <a:lnTo>
                    <a:pt x="1044" y="853"/>
                  </a:lnTo>
                  <a:lnTo>
                    <a:pt x="1093" y="832"/>
                  </a:lnTo>
                  <a:lnTo>
                    <a:pt x="1142" y="814"/>
                  </a:lnTo>
                  <a:lnTo>
                    <a:pt x="1192" y="798"/>
                  </a:lnTo>
                  <a:lnTo>
                    <a:pt x="1243" y="786"/>
                  </a:lnTo>
                  <a:lnTo>
                    <a:pt x="1294" y="776"/>
                  </a:lnTo>
                  <a:lnTo>
                    <a:pt x="1346" y="769"/>
                  </a:lnTo>
                  <a:lnTo>
                    <a:pt x="1399" y="766"/>
                  </a:lnTo>
                  <a:lnTo>
                    <a:pt x="1452" y="766"/>
                  </a:lnTo>
                  <a:lnTo>
                    <a:pt x="1506" y="768"/>
                  </a:lnTo>
                  <a:lnTo>
                    <a:pt x="1520" y="769"/>
                  </a:lnTo>
                  <a:lnTo>
                    <a:pt x="1533" y="770"/>
                  </a:lnTo>
                  <a:lnTo>
                    <a:pt x="1547" y="771"/>
                  </a:lnTo>
                  <a:lnTo>
                    <a:pt x="1561" y="772"/>
                  </a:lnTo>
                  <a:lnTo>
                    <a:pt x="1574" y="773"/>
                  </a:lnTo>
                  <a:lnTo>
                    <a:pt x="1587" y="774"/>
                  </a:lnTo>
                  <a:lnTo>
                    <a:pt x="1598" y="775"/>
                  </a:lnTo>
                  <a:lnTo>
                    <a:pt x="1610" y="776"/>
                  </a:lnTo>
                  <a:lnTo>
                    <a:pt x="1578" y="1168"/>
                  </a:lnTo>
                  <a:lnTo>
                    <a:pt x="2795" y="675"/>
                  </a:lnTo>
                  <a:lnTo>
                    <a:pt x="1673" y="0"/>
                  </a:lnTo>
                  <a:lnTo>
                    <a:pt x="1643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3481560" y="3913200"/>
              <a:ext cx="1203120" cy="1098360"/>
            </a:xfrm>
            <a:custGeom>
              <a:avLst/>
              <a:gdLst/>
              <a:ahLst/>
              <a:rect l="l" t="t" r="r" b="b"/>
              <a:pathLst>
                <a:path w="3787" h="3462">
                  <a:moveTo>
                    <a:pt x="382" y="1152"/>
                  </a:moveTo>
                  <a:lnTo>
                    <a:pt x="378" y="1163"/>
                  </a:lnTo>
                  <a:lnTo>
                    <a:pt x="374" y="1176"/>
                  </a:lnTo>
                  <a:lnTo>
                    <a:pt x="368" y="1190"/>
                  </a:lnTo>
                  <a:lnTo>
                    <a:pt x="364" y="1203"/>
                  </a:lnTo>
                  <a:lnTo>
                    <a:pt x="359" y="1218"/>
                  </a:lnTo>
                  <a:lnTo>
                    <a:pt x="354" y="1233"/>
                  </a:lnTo>
                  <a:lnTo>
                    <a:pt x="348" y="1247"/>
                  </a:lnTo>
                  <a:lnTo>
                    <a:pt x="343" y="1262"/>
                  </a:lnTo>
                  <a:lnTo>
                    <a:pt x="319" y="1338"/>
                  </a:lnTo>
                  <a:lnTo>
                    <a:pt x="299" y="1415"/>
                  </a:lnTo>
                  <a:lnTo>
                    <a:pt x="284" y="1492"/>
                  </a:lnTo>
                  <a:lnTo>
                    <a:pt x="274" y="1571"/>
                  </a:lnTo>
                  <a:lnTo>
                    <a:pt x="268" y="1649"/>
                  </a:lnTo>
                  <a:lnTo>
                    <a:pt x="267" y="1726"/>
                  </a:lnTo>
                  <a:lnTo>
                    <a:pt x="269" y="1805"/>
                  </a:lnTo>
                  <a:lnTo>
                    <a:pt x="276" y="1883"/>
                  </a:lnTo>
                  <a:lnTo>
                    <a:pt x="288" y="1960"/>
                  </a:lnTo>
                  <a:lnTo>
                    <a:pt x="303" y="2037"/>
                  </a:lnTo>
                  <a:lnTo>
                    <a:pt x="322" y="2114"/>
                  </a:lnTo>
                  <a:lnTo>
                    <a:pt x="346" y="2189"/>
                  </a:lnTo>
                  <a:lnTo>
                    <a:pt x="374" y="2264"/>
                  </a:lnTo>
                  <a:lnTo>
                    <a:pt x="405" y="2338"/>
                  </a:lnTo>
                  <a:lnTo>
                    <a:pt x="440" y="2411"/>
                  </a:lnTo>
                  <a:lnTo>
                    <a:pt x="479" y="2482"/>
                  </a:lnTo>
                  <a:lnTo>
                    <a:pt x="521" y="2553"/>
                  </a:lnTo>
                  <a:lnTo>
                    <a:pt x="567" y="2621"/>
                  </a:lnTo>
                  <a:lnTo>
                    <a:pt x="615" y="2688"/>
                  </a:lnTo>
                  <a:lnTo>
                    <a:pt x="668" y="2752"/>
                  </a:lnTo>
                  <a:lnTo>
                    <a:pt x="724" y="2816"/>
                  </a:lnTo>
                  <a:lnTo>
                    <a:pt x="783" y="2877"/>
                  </a:lnTo>
                  <a:lnTo>
                    <a:pt x="846" y="2936"/>
                  </a:lnTo>
                  <a:lnTo>
                    <a:pt x="911" y="2992"/>
                  </a:lnTo>
                  <a:lnTo>
                    <a:pt x="979" y="3046"/>
                  </a:lnTo>
                  <a:lnTo>
                    <a:pt x="1050" y="3098"/>
                  </a:lnTo>
                  <a:lnTo>
                    <a:pt x="1125" y="3146"/>
                  </a:lnTo>
                  <a:lnTo>
                    <a:pt x="1202" y="3192"/>
                  </a:lnTo>
                  <a:lnTo>
                    <a:pt x="1281" y="3235"/>
                  </a:lnTo>
                  <a:lnTo>
                    <a:pt x="1364" y="3274"/>
                  </a:lnTo>
                  <a:lnTo>
                    <a:pt x="1449" y="3311"/>
                  </a:lnTo>
                  <a:lnTo>
                    <a:pt x="1536" y="3343"/>
                  </a:lnTo>
                  <a:lnTo>
                    <a:pt x="1624" y="3373"/>
                  </a:lnTo>
                  <a:lnTo>
                    <a:pt x="1714" y="3398"/>
                  </a:lnTo>
                  <a:lnTo>
                    <a:pt x="1803" y="3419"/>
                  </a:lnTo>
                  <a:lnTo>
                    <a:pt x="1892" y="3435"/>
                  </a:lnTo>
                  <a:lnTo>
                    <a:pt x="1981" y="3448"/>
                  </a:lnTo>
                  <a:lnTo>
                    <a:pt x="2069" y="3457"/>
                  </a:lnTo>
                  <a:lnTo>
                    <a:pt x="2157" y="3461"/>
                  </a:lnTo>
                  <a:lnTo>
                    <a:pt x="2246" y="3462"/>
                  </a:lnTo>
                  <a:lnTo>
                    <a:pt x="2332" y="3459"/>
                  </a:lnTo>
                  <a:lnTo>
                    <a:pt x="2418" y="3452"/>
                  </a:lnTo>
                  <a:lnTo>
                    <a:pt x="2503" y="3442"/>
                  </a:lnTo>
                  <a:lnTo>
                    <a:pt x="2586" y="3428"/>
                  </a:lnTo>
                  <a:lnTo>
                    <a:pt x="2669" y="3410"/>
                  </a:lnTo>
                  <a:lnTo>
                    <a:pt x="2748" y="3389"/>
                  </a:lnTo>
                  <a:lnTo>
                    <a:pt x="2828" y="3365"/>
                  </a:lnTo>
                  <a:lnTo>
                    <a:pt x="2905" y="3337"/>
                  </a:lnTo>
                  <a:lnTo>
                    <a:pt x="2980" y="3305"/>
                  </a:lnTo>
                  <a:lnTo>
                    <a:pt x="3054" y="3272"/>
                  </a:lnTo>
                  <a:lnTo>
                    <a:pt x="3125" y="3234"/>
                  </a:lnTo>
                  <a:lnTo>
                    <a:pt x="3193" y="3192"/>
                  </a:lnTo>
                  <a:lnTo>
                    <a:pt x="3259" y="3148"/>
                  </a:lnTo>
                  <a:lnTo>
                    <a:pt x="3323" y="3101"/>
                  </a:lnTo>
                  <a:lnTo>
                    <a:pt x="3384" y="3051"/>
                  </a:lnTo>
                  <a:lnTo>
                    <a:pt x="3442" y="2998"/>
                  </a:lnTo>
                  <a:lnTo>
                    <a:pt x="3496" y="2942"/>
                  </a:lnTo>
                  <a:lnTo>
                    <a:pt x="3548" y="2882"/>
                  </a:lnTo>
                  <a:lnTo>
                    <a:pt x="3595" y="2821"/>
                  </a:lnTo>
                  <a:lnTo>
                    <a:pt x="3640" y="2756"/>
                  </a:lnTo>
                  <a:lnTo>
                    <a:pt x="3681" y="2689"/>
                  </a:lnTo>
                  <a:lnTo>
                    <a:pt x="3718" y="2620"/>
                  </a:lnTo>
                  <a:lnTo>
                    <a:pt x="3750" y="2547"/>
                  </a:lnTo>
                  <a:lnTo>
                    <a:pt x="3780" y="2473"/>
                  </a:lnTo>
                  <a:lnTo>
                    <a:pt x="3781" y="2470"/>
                  </a:lnTo>
                  <a:lnTo>
                    <a:pt x="3782" y="2467"/>
                  </a:lnTo>
                  <a:lnTo>
                    <a:pt x="3783" y="2463"/>
                  </a:lnTo>
                  <a:lnTo>
                    <a:pt x="3784" y="2460"/>
                  </a:lnTo>
                  <a:lnTo>
                    <a:pt x="3785" y="2458"/>
                  </a:lnTo>
                  <a:lnTo>
                    <a:pt x="3786" y="2455"/>
                  </a:lnTo>
                  <a:lnTo>
                    <a:pt x="3787" y="2453"/>
                  </a:lnTo>
                  <a:lnTo>
                    <a:pt x="3787" y="2450"/>
                  </a:lnTo>
                  <a:lnTo>
                    <a:pt x="3342" y="2293"/>
                  </a:lnTo>
                  <a:lnTo>
                    <a:pt x="3344" y="2296"/>
                  </a:lnTo>
                  <a:lnTo>
                    <a:pt x="3345" y="2300"/>
                  </a:lnTo>
                  <a:lnTo>
                    <a:pt x="3345" y="2303"/>
                  </a:lnTo>
                  <a:lnTo>
                    <a:pt x="3346" y="2306"/>
                  </a:lnTo>
                  <a:lnTo>
                    <a:pt x="3345" y="2309"/>
                  </a:lnTo>
                  <a:lnTo>
                    <a:pt x="3344" y="2312"/>
                  </a:lnTo>
                  <a:lnTo>
                    <a:pt x="3343" y="2315"/>
                  </a:lnTo>
                  <a:lnTo>
                    <a:pt x="3343" y="2318"/>
                  </a:lnTo>
                  <a:lnTo>
                    <a:pt x="3321" y="2374"/>
                  </a:lnTo>
                  <a:lnTo>
                    <a:pt x="3297" y="2429"/>
                  </a:lnTo>
                  <a:lnTo>
                    <a:pt x="3269" y="2480"/>
                  </a:lnTo>
                  <a:lnTo>
                    <a:pt x="3238" y="2531"/>
                  </a:lnTo>
                  <a:lnTo>
                    <a:pt x="3206" y="2578"/>
                  </a:lnTo>
                  <a:lnTo>
                    <a:pt x="3170" y="2624"/>
                  </a:lnTo>
                  <a:lnTo>
                    <a:pt x="3131" y="2668"/>
                  </a:lnTo>
                  <a:lnTo>
                    <a:pt x="3090" y="2710"/>
                  </a:lnTo>
                  <a:lnTo>
                    <a:pt x="3047" y="2750"/>
                  </a:lnTo>
                  <a:lnTo>
                    <a:pt x="3002" y="2788"/>
                  </a:lnTo>
                  <a:lnTo>
                    <a:pt x="2955" y="2822"/>
                  </a:lnTo>
                  <a:lnTo>
                    <a:pt x="2906" y="2856"/>
                  </a:lnTo>
                  <a:lnTo>
                    <a:pt x="2854" y="2887"/>
                  </a:lnTo>
                  <a:lnTo>
                    <a:pt x="2802" y="2915"/>
                  </a:lnTo>
                  <a:lnTo>
                    <a:pt x="2747" y="2941"/>
                  </a:lnTo>
                  <a:lnTo>
                    <a:pt x="2691" y="2964"/>
                  </a:lnTo>
                  <a:lnTo>
                    <a:pt x="2633" y="2985"/>
                  </a:lnTo>
                  <a:lnTo>
                    <a:pt x="2574" y="3003"/>
                  </a:lnTo>
                  <a:lnTo>
                    <a:pt x="2514" y="3019"/>
                  </a:lnTo>
                  <a:lnTo>
                    <a:pt x="2452" y="3032"/>
                  </a:lnTo>
                  <a:lnTo>
                    <a:pt x="2390" y="3043"/>
                  </a:lnTo>
                  <a:lnTo>
                    <a:pt x="2326" y="3050"/>
                  </a:lnTo>
                  <a:lnTo>
                    <a:pt x="2262" y="3056"/>
                  </a:lnTo>
                  <a:lnTo>
                    <a:pt x="2198" y="3058"/>
                  </a:lnTo>
                  <a:lnTo>
                    <a:pt x="2132" y="3058"/>
                  </a:lnTo>
                  <a:lnTo>
                    <a:pt x="2066" y="3053"/>
                  </a:lnTo>
                  <a:lnTo>
                    <a:pt x="2000" y="3047"/>
                  </a:lnTo>
                  <a:lnTo>
                    <a:pt x="1934" y="3038"/>
                  </a:lnTo>
                  <a:lnTo>
                    <a:pt x="1868" y="3025"/>
                  </a:lnTo>
                  <a:lnTo>
                    <a:pt x="1801" y="3010"/>
                  </a:lnTo>
                  <a:lnTo>
                    <a:pt x="1735" y="2992"/>
                  </a:lnTo>
                  <a:lnTo>
                    <a:pt x="1667" y="2969"/>
                  </a:lnTo>
                  <a:lnTo>
                    <a:pt x="1603" y="2945"/>
                  </a:lnTo>
                  <a:lnTo>
                    <a:pt x="1540" y="2918"/>
                  </a:lnTo>
                  <a:lnTo>
                    <a:pt x="1480" y="2889"/>
                  </a:lnTo>
                  <a:lnTo>
                    <a:pt x="1421" y="2857"/>
                  </a:lnTo>
                  <a:lnTo>
                    <a:pt x="1363" y="2822"/>
                  </a:lnTo>
                  <a:lnTo>
                    <a:pt x="1309" y="2787"/>
                  </a:lnTo>
                  <a:lnTo>
                    <a:pt x="1256" y="2748"/>
                  </a:lnTo>
                  <a:lnTo>
                    <a:pt x="1205" y="2708"/>
                  </a:lnTo>
                  <a:lnTo>
                    <a:pt x="1156" y="2666"/>
                  </a:lnTo>
                  <a:lnTo>
                    <a:pt x="1110" y="2622"/>
                  </a:lnTo>
                  <a:lnTo>
                    <a:pt x="1065" y="2576"/>
                  </a:lnTo>
                  <a:lnTo>
                    <a:pt x="1024" y="2528"/>
                  </a:lnTo>
                  <a:lnTo>
                    <a:pt x="984" y="2480"/>
                  </a:lnTo>
                  <a:lnTo>
                    <a:pt x="948" y="2431"/>
                  </a:lnTo>
                  <a:lnTo>
                    <a:pt x="914" y="2379"/>
                  </a:lnTo>
                  <a:lnTo>
                    <a:pt x="881" y="2327"/>
                  </a:lnTo>
                  <a:lnTo>
                    <a:pt x="853" y="2273"/>
                  </a:lnTo>
                  <a:lnTo>
                    <a:pt x="827" y="2219"/>
                  </a:lnTo>
                  <a:lnTo>
                    <a:pt x="803" y="2163"/>
                  </a:lnTo>
                  <a:lnTo>
                    <a:pt x="783" y="2107"/>
                  </a:lnTo>
                  <a:lnTo>
                    <a:pt x="765" y="2051"/>
                  </a:lnTo>
                  <a:lnTo>
                    <a:pt x="750" y="1994"/>
                  </a:lnTo>
                  <a:lnTo>
                    <a:pt x="738" y="1936"/>
                  </a:lnTo>
                  <a:lnTo>
                    <a:pt x="729" y="1879"/>
                  </a:lnTo>
                  <a:lnTo>
                    <a:pt x="724" y="1820"/>
                  </a:lnTo>
                  <a:lnTo>
                    <a:pt x="722" y="1762"/>
                  </a:lnTo>
                  <a:lnTo>
                    <a:pt x="723" y="1703"/>
                  </a:lnTo>
                  <a:lnTo>
                    <a:pt x="727" y="1645"/>
                  </a:lnTo>
                  <a:lnTo>
                    <a:pt x="735" y="1587"/>
                  </a:lnTo>
                  <a:lnTo>
                    <a:pt x="745" y="1529"/>
                  </a:lnTo>
                  <a:lnTo>
                    <a:pt x="760" y="1472"/>
                  </a:lnTo>
                  <a:lnTo>
                    <a:pt x="779" y="1414"/>
                  </a:lnTo>
                  <a:lnTo>
                    <a:pt x="783" y="1401"/>
                  </a:lnTo>
                  <a:lnTo>
                    <a:pt x="788" y="1386"/>
                  </a:lnTo>
                  <a:lnTo>
                    <a:pt x="793" y="1371"/>
                  </a:lnTo>
                  <a:lnTo>
                    <a:pt x="799" y="1357"/>
                  </a:lnTo>
                  <a:lnTo>
                    <a:pt x="804" y="1343"/>
                  </a:lnTo>
                  <a:lnTo>
                    <a:pt x="808" y="1329"/>
                  </a:lnTo>
                  <a:lnTo>
                    <a:pt x="812" y="1317"/>
                  </a:lnTo>
                  <a:lnTo>
                    <a:pt x="816" y="1305"/>
                  </a:lnTo>
                  <a:lnTo>
                    <a:pt x="1230" y="1450"/>
                  </a:lnTo>
                  <a:lnTo>
                    <a:pt x="1045" y="0"/>
                  </a:lnTo>
                  <a:lnTo>
                    <a:pt x="0" y="1018"/>
                  </a:lnTo>
                  <a:lnTo>
                    <a:pt x="382" y="115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3481560" y="3913200"/>
              <a:ext cx="1203120" cy="1098360"/>
            </a:xfrm>
            <a:custGeom>
              <a:avLst/>
              <a:gdLst/>
              <a:ahLst/>
              <a:rect l="l" t="t" r="r" b="b"/>
              <a:pathLst>
                <a:path w="3787" h="3462">
                  <a:moveTo>
                    <a:pt x="382" y="1152"/>
                  </a:moveTo>
                  <a:lnTo>
                    <a:pt x="378" y="1163"/>
                  </a:lnTo>
                  <a:lnTo>
                    <a:pt x="374" y="1176"/>
                  </a:lnTo>
                  <a:lnTo>
                    <a:pt x="368" y="1190"/>
                  </a:lnTo>
                  <a:lnTo>
                    <a:pt x="364" y="1203"/>
                  </a:lnTo>
                  <a:lnTo>
                    <a:pt x="359" y="1218"/>
                  </a:lnTo>
                  <a:lnTo>
                    <a:pt x="354" y="1233"/>
                  </a:lnTo>
                  <a:lnTo>
                    <a:pt x="348" y="1247"/>
                  </a:lnTo>
                  <a:lnTo>
                    <a:pt x="343" y="1262"/>
                  </a:lnTo>
                  <a:lnTo>
                    <a:pt x="319" y="1338"/>
                  </a:lnTo>
                  <a:lnTo>
                    <a:pt x="299" y="1415"/>
                  </a:lnTo>
                  <a:lnTo>
                    <a:pt x="284" y="1492"/>
                  </a:lnTo>
                  <a:lnTo>
                    <a:pt x="274" y="1571"/>
                  </a:lnTo>
                  <a:lnTo>
                    <a:pt x="268" y="1649"/>
                  </a:lnTo>
                  <a:lnTo>
                    <a:pt x="267" y="1726"/>
                  </a:lnTo>
                  <a:lnTo>
                    <a:pt x="269" y="1805"/>
                  </a:lnTo>
                  <a:lnTo>
                    <a:pt x="276" y="1883"/>
                  </a:lnTo>
                  <a:lnTo>
                    <a:pt x="288" y="1960"/>
                  </a:lnTo>
                  <a:lnTo>
                    <a:pt x="303" y="2037"/>
                  </a:lnTo>
                  <a:lnTo>
                    <a:pt x="322" y="2114"/>
                  </a:lnTo>
                  <a:lnTo>
                    <a:pt x="346" y="2189"/>
                  </a:lnTo>
                  <a:lnTo>
                    <a:pt x="374" y="2264"/>
                  </a:lnTo>
                  <a:lnTo>
                    <a:pt x="405" y="2338"/>
                  </a:lnTo>
                  <a:lnTo>
                    <a:pt x="440" y="2411"/>
                  </a:lnTo>
                  <a:lnTo>
                    <a:pt x="479" y="2482"/>
                  </a:lnTo>
                  <a:lnTo>
                    <a:pt x="521" y="2553"/>
                  </a:lnTo>
                  <a:lnTo>
                    <a:pt x="567" y="2621"/>
                  </a:lnTo>
                  <a:lnTo>
                    <a:pt x="615" y="2688"/>
                  </a:lnTo>
                  <a:lnTo>
                    <a:pt x="668" y="2752"/>
                  </a:lnTo>
                  <a:lnTo>
                    <a:pt x="724" y="2816"/>
                  </a:lnTo>
                  <a:lnTo>
                    <a:pt x="783" y="2877"/>
                  </a:lnTo>
                  <a:lnTo>
                    <a:pt x="846" y="2936"/>
                  </a:lnTo>
                  <a:lnTo>
                    <a:pt x="911" y="2992"/>
                  </a:lnTo>
                  <a:lnTo>
                    <a:pt x="979" y="3046"/>
                  </a:lnTo>
                  <a:lnTo>
                    <a:pt x="1050" y="3098"/>
                  </a:lnTo>
                  <a:lnTo>
                    <a:pt x="1125" y="3146"/>
                  </a:lnTo>
                  <a:lnTo>
                    <a:pt x="1202" y="3192"/>
                  </a:lnTo>
                  <a:lnTo>
                    <a:pt x="1281" y="3235"/>
                  </a:lnTo>
                  <a:lnTo>
                    <a:pt x="1364" y="3274"/>
                  </a:lnTo>
                  <a:lnTo>
                    <a:pt x="1449" y="3311"/>
                  </a:lnTo>
                  <a:lnTo>
                    <a:pt x="1536" y="3343"/>
                  </a:lnTo>
                  <a:lnTo>
                    <a:pt x="1624" y="3373"/>
                  </a:lnTo>
                  <a:lnTo>
                    <a:pt x="1714" y="3398"/>
                  </a:lnTo>
                  <a:lnTo>
                    <a:pt x="1803" y="3419"/>
                  </a:lnTo>
                  <a:lnTo>
                    <a:pt x="1892" y="3435"/>
                  </a:lnTo>
                  <a:lnTo>
                    <a:pt x="1981" y="3448"/>
                  </a:lnTo>
                  <a:lnTo>
                    <a:pt x="2069" y="3457"/>
                  </a:lnTo>
                  <a:lnTo>
                    <a:pt x="2157" y="3461"/>
                  </a:lnTo>
                  <a:lnTo>
                    <a:pt x="2246" y="3462"/>
                  </a:lnTo>
                  <a:lnTo>
                    <a:pt x="2332" y="3459"/>
                  </a:lnTo>
                  <a:lnTo>
                    <a:pt x="2418" y="3452"/>
                  </a:lnTo>
                  <a:lnTo>
                    <a:pt x="2503" y="3442"/>
                  </a:lnTo>
                  <a:lnTo>
                    <a:pt x="2586" y="3428"/>
                  </a:lnTo>
                  <a:lnTo>
                    <a:pt x="2669" y="3410"/>
                  </a:lnTo>
                  <a:lnTo>
                    <a:pt x="2748" y="3389"/>
                  </a:lnTo>
                  <a:lnTo>
                    <a:pt x="2828" y="3365"/>
                  </a:lnTo>
                  <a:lnTo>
                    <a:pt x="2905" y="3337"/>
                  </a:lnTo>
                  <a:lnTo>
                    <a:pt x="2980" y="3305"/>
                  </a:lnTo>
                  <a:lnTo>
                    <a:pt x="3054" y="3272"/>
                  </a:lnTo>
                  <a:lnTo>
                    <a:pt x="3125" y="3234"/>
                  </a:lnTo>
                  <a:lnTo>
                    <a:pt x="3193" y="3192"/>
                  </a:lnTo>
                  <a:lnTo>
                    <a:pt x="3259" y="3148"/>
                  </a:lnTo>
                  <a:lnTo>
                    <a:pt x="3323" y="3101"/>
                  </a:lnTo>
                  <a:lnTo>
                    <a:pt x="3384" y="3051"/>
                  </a:lnTo>
                  <a:lnTo>
                    <a:pt x="3442" y="2998"/>
                  </a:lnTo>
                  <a:lnTo>
                    <a:pt x="3496" y="2942"/>
                  </a:lnTo>
                  <a:lnTo>
                    <a:pt x="3548" y="2882"/>
                  </a:lnTo>
                  <a:lnTo>
                    <a:pt x="3595" y="2821"/>
                  </a:lnTo>
                  <a:lnTo>
                    <a:pt x="3640" y="2756"/>
                  </a:lnTo>
                  <a:lnTo>
                    <a:pt x="3681" y="2689"/>
                  </a:lnTo>
                  <a:lnTo>
                    <a:pt x="3718" y="2620"/>
                  </a:lnTo>
                  <a:lnTo>
                    <a:pt x="3750" y="2547"/>
                  </a:lnTo>
                  <a:lnTo>
                    <a:pt x="3780" y="2473"/>
                  </a:lnTo>
                  <a:lnTo>
                    <a:pt x="3781" y="2470"/>
                  </a:lnTo>
                  <a:lnTo>
                    <a:pt x="3782" y="2467"/>
                  </a:lnTo>
                  <a:lnTo>
                    <a:pt x="3783" y="2463"/>
                  </a:lnTo>
                  <a:lnTo>
                    <a:pt x="3784" y="2460"/>
                  </a:lnTo>
                  <a:lnTo>
                    <a:pt x="3785" y="2458"/>
                  </a:lnTo>
                  <a:lnTo>
                    <a:pt x="3786" y="2455"/>
                  </a:lnTo>
                  <a:lnTo>
                    <a:pt x="3787" y="2453"/>
                  </a:lnTo>
                  <a:lnTo>
                    <a:pt x="3787" y="2450"/>
                  </a:lnTo>
                  <a:lnTo>
                    <a:pt x="3342" y="2293"/>
                  </a:lnTo>
                  <a:lnTo>
                    <a:pt x="3344" y="2296"/>
                  </a:lnTo>
                  <a:lnTo>
                    <a:pt x="3345" y="2300"/>
                  </a:lnTo>
                  <a:lnTo>
                    <a:pt x="3345" y="2303"/>
                  </a:lnTo>
                  <a:lnTo>
                    <a:pt x="3346" y="2306"/>
                  </a:lnTo>
                  <a:lnTo>
                    <a:pt x="3345" y="2309"/>
                  </a:lnTo>
                  <a:lnTo>
                    <a:pt x="3344" y="2312"/>
                  </a:lnTo>
                  <a:lnTo>
                    <a:pt x="3343" y="2315"/>
                  </a:lnTo>
                  <a:lnTo>
                    <a:pt x="3343" y="2318"/>
                  </a:lnTo>
                  <a:lnTo>
                    <a:pt x="3321" y="2374"/>
                  </a:lnTo>
                  <a:lnTo>
                    <a:pt x="3297" y="2429"/>
                  </a:lnTo>
                  <a:lnTo>
                    <a:pt x="3269" y="2480"/>
                  </a:lnTo>
                  <a:lnTo>
                    <a:pt x="3238" y="2531"/>
                  </a:lnTo>
                  <a:lnTo>
                    <a:pt x="3206" y="2578"/>
                  </a:lnTo>
                  <a:lnTo>
                    <a:pt x="3170" y="2624"/>
                  </a:lnTo>
                  <a:lnTo>
                    <a:pt x="3131" y="2668"/>
                  </a:lnTo>
                  <a:lnTo>
                    <a:pt x="3090" y="2710"/>
                  </a:lnTo>
                  <a:lnTo>
                    <a:pt x="3047" y="2750"/>
                  </a:lnTo>
                  <a:lnTo>
                    <a:pt x="3002" y="2788"/>
                  </a:lnTo>
                  <a:lnTo>
                    <a:pt x="2955" y="2822"/>
                  </a:lnTo>
                  <a:lnTo>
                    <a:pt x="2906" y="2856"/>
                  </a:lnTo>
                  <a:lnTo>
                    <a:pt x="2854" y="2887"/>
                  </a:lnTo>
                  <a:lnTo>
                    <a:pt x="2802" y="2915"/>
                  </a:lnTo>
                  <a:lnTo>
                    <a:pt x="2747" y="2941"/>
                  </a:lnTo>
                  <a:lnTo>
                    <a:pt x="2691" y="2964"/>
                  </a:lnTo>
                  <a:lnTo>
                    <a:pt x="2633" y="2985"/>
                  </a:lnTo>
                  <a:lnTo>
                    <a:pt x="2574" y="3003"/>
                  </a:lnTo>
                  <a:lnTo>
                    <a:pt x="2514" y="3019"/>
                  </a:lnTo>
                  <a:lnTo>
                    <a:pt x="2452" y="3032"/>
                  </a:lnTo>
                  <a:lnTo>
                    <a:pt x="2390" y="3043"/>
                  </a:lnTo>
                  <a:lnTo>
                    <a:pt x="2326" y="3050"/>
                  </a:lnTo>
                  <a:lnTo>
                    <a:pt x="2262" y="3056"/>
                  </a:lnTo>
                  <a:lnTo>
                    <a:pt x="2198" y="3058"/>
                  </a:lnTo>
                  <a:lnTo>
                    <a:pt x="2132" y="3058"/>
                  </a:lnTo>
                  <a:lnTo>
                    <a:pt x="2066" y="3053"/>
                  </a:lnTo>
                  <a:lnTo>
                    <a:pt x="2000" y="3047"/>
                  </a:lnTo>
                  <a:lnTo>
                    <a:pt x="1934" y="3038"/>
                  </a:lnTo>
                  <a:lnTo>
                    <a:pt x="1868" y="3025"/>
                  </a:lnTo>
                  <a:lnTo>
                    <a:pt x="1801" y="3010"/>
                  </a:lnTo>
                  <a:lnTo>
                    <a:pt x="1735" y="2992"/>
                  </a:lnTo>
                  <a:lnTo>
                    <a:pt x="1667" y="2969"/>
                  </a:lnTo>
                  <a:lnTo>
                    <a:pt x="1603" y="2945"/>
                  </a:lnTo>
                  <a:lnTo>
                    <a:pt x="1540" y="2918"/>
                  </a:lnTo>
                  <a:lnTo>
                    <a:pt x="1480" y="2889"/>
                  </a:lnTo>
                  <a:lnTo>
                    <a:pt x="1421" y="2857"/>
                  </a:lnTo>
                  <a:lnTo>
                    <a:pt x="1363" y="2822"/>
                  </a:lnTo>
                  <a:lnTo>
                    <a:pt x="1309" y="2787"/>
                  </a:lnTo>
                  <a:lnTo>
                    <a:pt x="1256" y="2748"/>
                  </a:lnTo>
                  <a:lnTo>
                    <a:pt x="1205" y="2708"/>
                  </a:lnTo>
                  <a:lnTo>
                    <a:pt x="1156" y="2666"/>
                  </a:lnTo>
                  <a:lnTo>
                    <a:pt x="1110" y="2622"/>
                  </a:lnTo>
                  <a:lnTo>
                    <a:pt x="1065" y="2576"/>
                  </a:lnTo>
                  <a:lnTo>
                    <a:pt x="1024" y="2528"/>
                  </a:lnTo>
                  <a:lnTo>
                    <a:pt x="984" y="2480"/>
                  </a:lnTo>
                  <a:lnTo>
                    <a:pt x="948" y="2431"/>
                  </a:lnTo>
                  <a:lnTo>
                    <a:pt x="914" y="2379"/>
                  </a:lnTo>
                  <a:lnTo>
                    <a:pt x="881" y="2327"/>
                  </a:lnTo>
                  <a:lnTo>
                    <a:pt x="853" y="2273"/>
                  </a:lnTo>
                  <a:lnTo>
                    <a:pt x="827" y="2219"/>
                  </a:lnTo>
                  <a:lnTo>
                    <a:pt x="803" y="2163"/>
                  </a:lnTo>
                  <a:lnTo>
                    <a:pt x="783" y="2107"/>
                  </a:lnTo>
                  <a:lnTo>
                    <a:pt x="765" y="2051"/>
                  </a:lnTo>
                  <a:lnTo>
                    <a:pt x="750" y="1994"/>
                  </a:lnTo>
                  <a:lnTo>
                    <a:pt x="738" y="1936"/>
                  </a:lnTo>
                  <a:lnTo>
                    <a:pt x="729" y="1879"/>
                  </a:lnTo>
                  <a:lnTo>
                    <a:pt x="724" y="1820"/>
                  </a:lnTo>
                  <a:lnTo>
                    <a:pt x="722" y="1762"/>
                  </a:lnTo>
                  <a:lnTo>
                    <a:pt x="723" y="1703"/>
                  </a:lnTo>
                  <a:lnTo>
                    <a:pt x="727" y="1645"/>
                  </a:lnTo>
                  <a:lnTo>
                    <a:pt x="735" y="1587"/>
                  </a:lnTo>
                  <a:lnTo>
                    <a:pt x="745" y="1529"/>
                  </a:lnTo>
                  <a:lnTo>
                    <a:pt x="760" y="1472"/>
                  </a:lnTo>
                  <a:lnTo>
                    <a:pt x="779" y="1414"/>
                  </a:lnTo>
                  <a:lnTo>
                    <a:pt x="783" y="1401"/>
                  </a:lnTo>
                  <a:lnTo>
                    <a:pt x="788" y="1386"/>
                  </a:lnTo>
                  <a:lnTo>
                    <a:pt x="793" y="1371"/>
                  </a:lnTo>
                  <a:lnTo>
                    <a:pt x="799" y="1357"/>
                  </a:lnTo>
                  <a:lnTo>
                    <a:pt x="804" y="1343"/>
                  </a:lnTo>
                  <a:lnTo>
                    <a:pt x="808" y="1329"/>
                  </a:lnTo>
                  <a:lnTo>
                    <a:pt x="812" y="1317"/>
                  </a:lnTo>
                  <a:lnTo>
                    <a:pt x="816" y="1305"/>
                  </a:lnTo>
                  <a:lnTo>
                    <a:pt x="1230" y="1450"/>
                  </a:lnTo>
                  <a:lnTo>
                    <a:pt x="1045" y="0"/>
                  </a:lnTo>
                  <a:lnTo>
                    <a:pt x="0" y="1018"/>
                  </a:lnTo>
                  <a:lnTo>
                    <a:pt x="382" y="115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2774880" y="3306600"/>
              <a:ext cx="1351080" cy="1351080"/>
            </a:xfrm>
            <a:custGeom>
              <a:avLst/>
              <a:gdLst/>
              <a:ahLst/>
              <a:rect l="l" t="t" r="r" b="b"/>
              <a:pathLst>
                <a:path w="4251" h="4254">
                  <a:moveTo>
                    <a:pt x="36" y="1740"/>
                  </a:moveTo>
                  <a:lnTo>
                    <a:pt x="58" y="1633"/>
                  </a:lnTo>
                  <a:lnTo>
                    <a:pt x="87" y="1529"/>
                  </a:lnTo>
                  <a:lnTo>
                    <a:pt x="119" y="1426"/>
                  </a:lnTo>
                  <a:lnTo>
                    <a:pt x="157" y="1327"/>
                  </a:lnTo>
                  <a:lnTo>
                    <a:pt x="199" y="1231"/>
                  </a:lnTo>
                  <a:lnTo>
                    <a:pt x="245" y="1136"/>
                  </a:lnTo>
                  <a:lnTo>
                    <a:pt x="296" y="1046"/>
                  </a:lnTo>
                  <a:lnTo>
                    <a:pt x="351" y="958"/>
                  </a:lnTo>
                  <a:lnTo>
                    <a:pt x="410" y="873"/>
                  </a:lnTo>
                  <a:lnTo>
                    <a:pt x="473" y="791"/>
                  </a:lnTo>
                  <a:lnTo>
                    <a:pt x="540" y="713"/>
                  </a:lnTo>
                  <a:lnTo>
                    <a:pt x="610" y="639"/>
                  </a:lnTo>
                  <a:lnTo>
                    <a:pt x="684" y="567"/>
                  </a:lnTo>
                  <a:lnTo>
                    <a:pt x="760" y="500"/>
                  </a:lnTo>
                  <a:lnTo>
                    <a:pt x="840" y="436"/>
                  </a:lnTo>
                  <a:lnTo>
                    <a:pt x="923" y="376"/>
                  </a:lnTo>
                  <a:lnTo>
                    <a:pt x="1009" y="320"/>
                  </a:lnTo>
                  <a:lnTo>
                    <a:pt x="1097" y="268"/>
                  </a:lnTo>
                  <a:lnTo>
                    <a:pt x="1187" y="221"/>
                  </a:lnTo>
                  <a:lnTo>
                    <a:pt x="1280" y="178"/>
                  </a:lnTo>
                  <a:lnTo>
                    <a:pt x="1375" y="139"/>
                  </a:lnTo>
                  <a:lnTo>
                    <a:pt x="1472" y="104"/>
                  </a:lnTo>
                  <a:lnTo>
                    <a:pt x="1570" y="75"/>
                  </a:lnTo>
                  <a:lnTo>
                    <a:pt x="1671" y="51"/>
                  </a:lnTo>
                  <a:lnTo>
                    <a:pt x="1773" y="31"/>
                  </a:lnTo>
                  <a:lnTo>
                    <a:pt x="1876" y="15"/>
                  </a:lnTo>
                  <a:lnTo>
                    <a:pt x="1980" y="5"/>
                  </a:lnTo>
                  <a:lnTo>
                    <a:pt x="2086" y="0"/>
                  </a:lnTo>
                  <a:lnTo>
                    <a:pt x="2192" y="1"/>
                  </a:lnTo>
                  <a:lnTo>
                    <a:pt x="2299" y="8"/>
                  </a:lnTo>
                  <a:lnTo>
                    <a:pt x="2406" y="19"/>
                  </a:lnTo>
                  <a:lnTo>
                    <a:pt x="2514" y="36"/>
                  </a:lnTo>
                  <a:lnTo>
                    <a:pt x="2621" y="59"/>
                  </a:lnTo>
                  <a:lnTo>
                    <a:pt x="2725" y="86"/>
                  </a:lnTo>
                  <a:lnTo>
                    <a:pt x="2826" y="119"/>
                  </a:lnTo>
                  <a:lnTo>
                    <a:pt x="2926" y="157"/>
                  </a:lnTo>
                  <a:lnTo>
                    <a:pt x="3023" y="199"/>
                  </a:lnTo>
                  <a:lnTo>
                    <a:pt x="3116" y="246"/>
                  </a:lnTo>
                  <a:lnTo>
                    <a:pt x="3207" y="296"/>
                  </a:lnTo>
                  <a:lnTo>
                    <a:pt x="3295" y="352"/>
                  </a:lnTo>
                  <a:lnTo>
                    <a:pt x="3379" y="411"/>
                  </a:lnTo>
                  <a:lnTo>
                    <a:pt x="3461" y="474"/>
                  </a:lnTo>
                  <a:lnTo>
                    <a:pt x="3540" y="540"/>
                  </a:lnTo>
                  <a:lnTo>
                    <a:pt x="3614" y="610"/>
                  </a:lnTo>
                  <a:lnTo>
                    <a:pt x="3686" y="684"/>
                  </a:lnTo>
                  <a:lnTo>
                    <a:pt x="3753" y="761"/>
                  </a:lnTo>
                  <a:lnTo>
                    <a:pt x="3817" y="841"/>
                  </a:lnTo>
                  <a:lnTo>
                    <a:pt x="3877" y="923"/>
                  </a:lnTo>
                  <a:lnTo>
                    <a:pt x="3932" y="1009"/>
                  </a:lnTo>
                  <a:lnTo>
                    <a:pt x="3984" y="1097"/>
                  </a:lnTo>
                  <a:lnTo>
                    <a:pt x="4031" y="1188"/>
                  </a:lnTo>
                  <a:lnTo>
                    <a:pt x="4075" y="1281"/>
                  </a:lnTo>
                  <a:lnTo>
                    <a:pt x="4114" y="1376"/>
                  </a:lnTo>
                  <a:lnTo>
                    <a:pt x="4147" y="1472"/>
                  </a:lnTo>
                  <a:lnTo>
                    <a:pt x="4177" y="1571"/>
                  </a:lnTo>
                  <a:lnTo>
                    <a:pt x="4202" y="1672"/>
                  </a:lnTo>
                  <a:lnTo>
                    <a:pt x="4222" y="1774"/>
                  </a:lnTo>
                  <a:lnTo>
                    <a:pt x="4237" y="1877"/>
                  </a:lnTo>
                  <a:lnTo>
                    <a:pt x="4247" y="1982"/>
                  </a:lnTo>
                  <a:lnTo>
                    <a:pt x="4251" y="2087"/>
                  </a:lnTo>
                  <a:lnTo>
                    <a:pt x="4250" y="2193"/>
                  </a:lnTo>
                  <a:lnTo>
                    <a:pt x="4245" y="2300"/>
                  </a:lnTo>
                  <a:lnTo>
                    <a:pt x="4234" y="2407"/>
                  </a:lnTo>
                  <a:lnTo>
                    <a:pt x="4216" y="2515"/>
                  </a:lnTo>
                  <a:lnTo>
                    <a:pt x="4194" y="2622"/>
                  </a:lnTo>
                  <a:lnTo>
                    <a:pt x="4165" y="2726"/>
                  </a:lnTo>
                  <a:lnTo>
                    <a:pt x="4133" y="2829"/>
                  </a:lnTo>
                  <a:lnTo>
                    <a:pt x="4096" y="2928"/>
                  </a:lnTo>
                  <a:lnTo>
                    <a:pt x="4053" y="3024"/>
                  </a:lnTo>
                  <a:lnTo>
                    <a:pt x="4007" y="3119"/>
                  </a:lnTo>
                  <a:lnTo>
                    <a:pt x="3955" y="3209"/>
                  </a:lnTo>
                  <a:lnTo>
                    <a:pt x="3901" y="3297"/>
                  </a:lnTo>
                  <a:lnTo>
                    <a:pt x="3842" y="3382"/>
                  </a:lnTo>
                  <a:lnTo>
                    <a:pt x="3779" y="3464"/>
                  </a:lnTo>
                  <a:lnTo>
                    <a:pt x="3712" y="3542"/>
                  </a:lnTo>
                  <a:lnTo>
                    <a:pt x="3642" y="3616"/>
                  </a:lnTo>
                  <a:lnTo>
                    <a:pt x="3568" y="3688"/>
                  </a:lnTo>
                  <a:lnTo>
                    <a:pt x="3492" y="3755"/>
                  </a:lnTo>
                  <a:lnTo>
                    <a:pt x="3412" y="3819"/>
                  </a:lnTo>
                  <a:lnTo>
                    <a:pt x="3329" y="3879"/>
                  </a:lnTo>
                  <a:lnTo>
                    <a:pt x="3244" y="3935"/>
                  </a:lnTo>
                  <a:lnTo>
                    <a:pt x="3156" y="3987"/>
                  </a:lnTo>
                  <a:lnTo>
                    <a:pt x="3065" y="4034"/>
                  </a:lnTo>
                  <a:lnTo>
                    <a:pt x="2972" y="4077"/>
                  </a:lnTo>
                  <a:lnTo>
                    <a:pt x="2877" y="4116"/>
                  </a:lnTo>
                  <a:lnTo>
                    <a:pt x="2780" y="4151"/>
                  </a:lnTo>
                  <a:lnTo>
                    <a:pt x="2682" y="4180"/>
                  </a:lnTo>
                  <a:lnTo>
                    <a:pt x="2582" y="4204"/>
                  </a:lnTo>
                  <a:lnTo>
                    <a:pt x="2480" y="4224"/>
                  </a:lnTo>
                  <a:lnTo>
                    <a:pt x="2376" y="4240"/>
                  </a:lnTo>
                  <a:lnTo>
                    <a:pt x="2272" y="4250"/>
                  </a:lnTo>
                  <a:lnTo>
                    <a:pt x="2167" y="4254"/>
                  </a:lnTo>
                  <a:lnTo>
                    <a:pt x="2060" y="4254"/>
                  </a:lnTo>
                  <a:lnTo>
                    <a:pt x="1953" y="4247"/>
                  </a:lnTo>
                  <a:lnTo>
                    <a:pt x="1846" y="4236"/>
                  </a:lnTo>
                  <a:lnTo>
                    <a:pt x="1738" y="4219"/>
                  </a:lnTo>
                  <a:lnTo>
                    <a:pt x="1632" y="4196"/>
                  </a:lnTo>
                  <a:lnTo>
                    <a:pt x="1527" y="4169"/>
                  </a:lnTo>
                  <a:lnTo>
                    <a:pt x="1425" y="4136"/>
                  </a:lnTo>
                  <a:lnTo>
                    <a:pt x="1326" y="4098"/>
                  </a:lnTo>
                  <a:lnTo>
                    <a:pt x="1229" y="4056"/>
                  </a:lnTo>
                  <a:lnTo>
                    <a:pt x="1136" y="4009"/>
                  </a:lnTo>
                  <a:lnTo>
                    <a:pt x="1045" y="3959"/>
                  </a:lnTo>
                  <a:lnTo>
                    <a:pt x="956" y="3903"/>
                  </a:lnTo>
                  <a:lnTo>
                    <a:pt x="872" y="3844"/>
                  </a:lnTo>
                  <a:lnTo>
                    <a:pt x="791" y="3781"/>
                  </a:lnTo>
                  <a:lnTo>
                    <a:pt x="712" y="3715"/>
                  </a:lnTo>
                  <a:lnTo>
                    <a:pt x="637" y="3645"/>
                  </a:lnTo>
                  <a:lnTo>
                    <a:pt x="566" y="3571"/>
                  </a:lnTo>
                  <a:lnTo>
                    <a:pt x="499" y="3494"/>
                  </a:lnTo>
                  <a:lnTo>
                    <a:pt x="435" y="3414"/>
                  </a:lnTo>
                  <a:lnTo>
                    <a:pt x="376" y="3331"/>
                  </a:lnTo>
                  <a:lnTo>
                    <a:pt x="319" y="3246"/>
                  </a:lnTo>
                  <a:lnTo>
                    <a:pt x="268" y="3158"/>
                  </a:lnTo>
                  <a:lnTo>
                    <a:pt x="221" y="3067"/>
                  </a:lnTo>
                  <a:lnTo>
                    <a:pt x="178" y="2974"/>
                  </a:lnTo>
                  <a:lnTo>
                    <a:pt x="139" y="2879"/>
                  </a:lnTo>
                  <a:lnTo>
                    <a:pt x="104" y="2783"/>
                  </a:lnTo>
                  <a:lnTo>
                    <a:pt x="75" y="2684"/>
                  </a:lnTo>
                  <a:lnTo>
                    <a:pt x="50" y="2583"/>
                  </a:lnTo>
                  <a:lnTo>
                    <a:pt x="30" y="2481"/>
                  </a:lnTo>
                  <a:lnTo>
                    <a:pt x="15" y="2378"/>
                  </a:lnTo>
                  <a:lnTo>
                    <a:pt x="6" y="2273"/>
                  </a:lnTo>
                  <a:lnTo>
                    <a:pt x="0" y="2168"/>
                  </a:lnTo>
                  <a:lnTo>
                    <a:pt x="2" y="2062"/>
                  </a:lnTo>
                  <a:lnTo>
                    <a:pt x="7" y="1955"/>
                  </a:lnTo>
                  <a:lnTo>
                    <a:pt x="18" y="1848"/>
                  </a:lnTo>
                  <a:lnTo>
                    <a:pt x="36" y="174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843280" y="4259160"/>
              <a:ext cx="123840" cy="41400"/>
            </a:xfrm>
            <a:custGeom>
              <a:avLst/>
              <a:gdLst/>
              <a:ahLst/>
              <a:rect l="l" t="t" r="r" b="b"/>
              <a:pathLst>
                <a:path w="391" h="127">
                  <a:moveTo>
                    <a:pt x="137" y="118"/>
                  </a:moveTo>
                  <a:lnTo>
                    <a:pt x="124" y="112"/>
                  </a:lnTo>
                  <a:lnTo>
                    <a:pt x="36" y="116"/>
                  </a:lnTo>
                  <a:lnTo>
                    <a:pt x="34" y="118"/>
                  </a:lnTo>
                  <a:lnTo>
                    <a:pt x="30" y="109"/>
                  </a:lnTo>
                  <a:lnTo>
                    <a:pt x="26" y="102"/>
                  </a:lnTo>
                  <a:lnTo>
                    <a:pt x="21" y="93"/>
                  </a:lnTo>
                  <a:lnTo>
                    <a:pt x="17" y="85"/>
                  </a:lnTo>
                  <a:lnTo>
                    <a:pt x="13" y="77"/>
                  </a:lnTo>
                  <a:lnTo>
                    <a:pt x="9" y="68"/>
                  </a:lnTo>
                  <a:lnTo>
                    <a:pt x="5" y="60"/>
                  </a:lnTo>
                  <a:lnTo>
                    <a:pt x="0" y="51"/>
                  </a:lnTo>
                  <a:lnTo>
                    <a:pt x="142" y="51"/>
                  </a:lnTo>
                  <a:lnTo>
                    <a:pt x="151" y="53"/>
                  </a:lnTo>
                  <a:lnTo>
                    <a:pt x="152" y="55"/>
                  </a:lnTo>
                  <a:lnTo>
                    <a:pt x="189" y="55"/>
                  </a:lnTo>
                  <a:lnTo>
                    <a:pt x="188" y="38"/>
                  </a:lnTo>
                  <a:lnTo>
                    <a:pt x="183" y="38"/>
                  </a:lnTo>
                  <a:lnTo>
                    <a:pt x="183" y="20"/>
                  </a:lnTo>
                  <a:lnTo>
                    <a:pt x="172" y="20"/>
                  </a:lnTo>
                  <a:lnTo>
                    <a:pt x="148" y="49"/>
                  </a:lnTo>
                  <a:lnTo>
                    <a:pt x="148" y="53"/>
                  </a:lnTo>
                  <a:lnTo>
                    <a:pt x="151" y="53"/>
                  </a:lnTo>
                  <a:lnTo>
                    <a:pt x="142" y="51"/>
                  </a:lnTo>
                  <a:lnTo>
                    <a:pt x="177" y="3"/>
                  </a:lnTo>
                  <a:lnTo>
                    <a:pt x="183" y="0"/>
                  </a:lnTo>
                  <a:lnTo>
                    <a:pt x="189" y="3"/>
                  </a:lnTo>
                  <a:lnTo>
                    <a:pt x="195" y="8"/>
                  </a:lnTo>
                  <a:lnTo>
                    <a:pt x="198" y="66"/>
                  </a:lnTo>
                  <a:lnTo>
                    <a:pt x="292" y="66"/>
                  </a:lnTo>
                  <a:lnTo>
                    <a:pt x="303" y="61"/>
                  </a:lnTo>
                  <a:lnTo>
                    <a:pt x="368" y="60"/>
                  </a:lnTo>
                  <a:lnTo>
                    <a:pt x="375" y="49"/>
                  </a:lnTo>
                  <a:lnTo>
                    <a:pt x="387" y="49"/>
                  </a:lnTo>
                  <a:lnTo>
                    <a:pt x="387" y="60"/>
                  </a:lnTo>
                  <a:lnTo>
                    <a:pt x="391" y="60"/>
                  </a:lnTo>
                  <a:lnTo>
                    <a:pt x="391" y="88"/>
                  </a:lnTo>
                  <a:lnTo>
                    <a:pt x="373" y="88"/>
                  </a:lnTo>
                  <a:lnTo>
                    <a:pt x="365" y="83"/>
                  </a:lnTo>
                  <a:lnTo>
                    <a:pt x="198" y="83"/>
                  </a:lnTo>
                  <a:lnTo>
                    <a:pt x="198" y="91"/>
                  </a:lnTo>
                  <a:lnTo>
                    <a:pt x="183" y="91"/>
                  </a:lnTo>
                  <a:lnTo>
                    <a:pt x="183" y="88"/>
                  </a:lnTo>
                  <a:lnTo>
                    <a:pt x="156" y="88"/>
                  </a:lnTo>
                  <a:lnTo>
                    <a:pt x="156" y="103"/>
                  </a:lnTo>
                  <a:lnTo>
                    <a:pt x="145" y="103"/>
                  </a:lnTo>
                  <a:lnTo>
                    <a:pt x="137" y="118"/>
                  </a:lnTo>
                  <a:close/>
                  <a:moveTo>
                    <a:pt x="36" y="121"/>
                  </a:moveTo>
                  <a:lnTo>
                    <a:pt x="127" y="124"/>
                  </a:lnTo>
                  <a:lnTo>
                    <a:pt x="121" y="127"/>
                  </a:lnTo>
                  <a:lnTo>
                    <a:pt x="39" y="127"/>
                  </a:lnTo>
                  <a:lnTo>
                    <a:pt x="39" y="127"/>
                  </a:lnTo>
                  <a:lnTo>
                    <a:pt x="38" y="126"/>
                  </a:lnTo>
                  <a:lnTo>
                    <a:pt x="38" y="125"/>
                  </a:lnTo>
                  <a:lnTo>
                    <a:pt x="37" y="124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36" y="122"/>
                  </a:lnTo>
                  <a:lnTo>
                    <a:pt x="36" y="1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2933640" y="3397320"/>
              <a:ext cx="344520" cy="342720"/>
            </a:xfrm>
            <a:custGeom>
              <a:avLst/>
              <a:gdLst/>
              <a:ahLst/>
              <a:rect l="l" t="t" r="r" b="b"/>
              <a:pathLst>
                <a:path w="1086" h="1078">
                  <a:moveTo>
                    <a:pt x="574" y="434"/>
                  </a:moveTo>
                  <a:lnTo>
                    <a:pt x="594" y="420"/>
                  </a:lnTo>
                  <a:lnTo>
                    <a:pt x="613" y="408"/>
                  </a:lnTo>
                  <a:lnTo>
                    <a:pt x="631" y="399"/>
                  </a:lnTo>
                  <a:lnTo>
                    <a:pt x="649" y="390"/>
                  </a:lnTo>
                  <a:lnTo>
                    <a:pt x="614" y="367"/>
                  </a:lnTo>
                  <a:lnTo>
                    <a:pt x="597" y="356"/>
                  </a:lnTo>
                  <a:lnTo>
                    <a:pt x="579" y="342"/>
                  </a:lnTo>
                  <a:lnTo>
                    <a:pt x="581" y="365"/>
                  </a:lnTo>
                  <a:lnTo>
                    <a:pt x="578" y="387"/>
                  </a:lnTo>
                  <a:lnTo>
                    <a:pt x="574" y="434"/>
                  </a:lnTo>
                  <a:close/>
                  <a:moveTo>
                    <a:pt x="34" y="438"/>
                  </a:moveTo>
                  <a:lnTo>
                    <a:pt x="38" y="434"/>
                  </a:lnTo>
                  <a:lnTo>
                    <a:pt x="41" y="430"/>
                  </a:lnTo>
                  <a:lnTo>
                    <a:pt x="44" y="426"/>
                  </a:lnTo>
                  <a:lnTo>
                    <a:pt x="48" y="422"/>
                  </a:lnTo>
                  <a:lnTo>
                    <a:pt x="51" y="419"/>
                  </a:lnTo>
                  <a:lnTo>
                    <a:pt x="56" y="414"/>
                  </a:lnTo>
                  <a:lnTo>
                    <a:pt x="59" y="410"/>
                  </a:lnTo>
                  <a:lnTo>
                    <a:pt x="63" y="406"/>
                  </a:lnTo>
                  <a:lnTo>
                    <a:pt x="74" y="406"/>
                  </a:lnTo>
                  <a:lnTo>
                    <a:pt x="74" y="413"/>
                  </a:lnTo>
                  <a:lnTo>
                    <a:pt x="78" y="413"/>
                  </a:lnTo>
                  <a:lnTo>
                    <a:pt x="81" y="417"/>
                  </a:lnTo>
                  <a:lnTo>
                    <a:pt x="83" y="423"/>
                  </a:lnTo>
                  <a:lnTo>
                    <a:pt x="84" y="433"/>
                  </a:lnTo>
                  <a:lnTo>
                    <a:pt x="84" y="443"/>
                  </a:lnTo>
                  <a:lnTo>
                    <a:pt x="83" y="449"/>
                  </a:lnTo>
                  <a:lnTo>
                    <a:pt x="80" y="452"/>
                  </a:lnTo>
                  <a:lnTo>
                    <a:pt x="84" y="456"/>
                  </a:lnTo>
                  <a:lnTo>
                    <a:pt x="91" y="456"/>
                  </a:lnTo>
                  <a:lnTo>
                    <a:pt x="95" y="452"/>
                  </a:lnTo>
                  <a:lnTo>
                    <a:pt x="100" y="448"/>
                  </a:lnTo>
                  <a:lnTo>
                    <a:pt x="98" y="441"/>
                  </a:lnTo>
                  <a:lnTo>
                    <a:pt x="84" y="443"/>
                  </a:lnTo>
                  <a:lnTo>
                    <a:pt x="84" y="433"/>
                  </a:lnTo>
                  <a:lnTo>
                    <a:pt x="101" y="431"/>
                  </a:lnTo>
                  <a:lnTo>
                    <a:pt x="106" y="433"/>
                  </a:lnTo>
                  <a:lnTo>
                    <a:pt x="110" y="434"/>
                  </a:lnTo>
                  <a:lnTo>
                    <a:pt x="115" y="438"/>
                  </a:lnTo>
                  <a:lnTo>
                    <a:pt x="112" y="418"/>
                  </a:lnTo>
                  <a:lnTo>
                    <a:pt x="107" y="399"/>
                  </a:lnTo>
                  <a:lnTo>
                    <a:pt x="120" y="347"/>
                  </a:lnTo>
                  <a:lnTo>
                    <a:pt x="145" y="322"/>
                  </a:lnTo>
                  <a:lnTo>
                    <a:pt x="171" y="297"/>
                  </a:lnTo>
                  <a:lnTo>
                    <a:pt x="197" y="273"/>
                  </a:lnTo>
                  <a:lnTo>
                    <a:pt x="223" y="249"/>
                  </a:lnTo>
                  <a:lnTo>
                    <a:pt x="251" y="225"/>
                  </a:lnTo>
                  <a:lnTo>
                    <a:pt x="278" y="202"/>
                  </a:lnTo>
                  <a:lnTo>
                    <a:pt x="306" y="180"/>
                  </a:lnTo>
                  <a:lnTo>
                    <a:pt x="335" y="158"/>
                  </a:lnTo>
                  <a:lnTo>
                    <a:pt x="363" y="136"/>
                  </a:lnTo>
                  <a:lnTo>
                    <a:pt x="392" y="115"/>
                  </a:lnTo>
                  <a:lnTo>
                    <a:pt x="422" y="95"/>
                  </a:lnTo>
                  <a:lnTo>
                    <a:pt x="451" y="74"/>
                  </a:lnTo>
                  <a:lnTo>
                    <a:pt x="482" y="55"/>
                  </a:lnTo>
                  <a:lnTo>
                    <a:pt x="511" y="36"/>
                  </a:lnTo>
                  <a:lnTo>
                    <a:pt x="542" y="18"/>
                  </a:lnTo>
                  <a:lnTo>
                    <a:pt x="573" y="0"/>
                  </a:lnTo>
                  <a:lnTo>
                    <a:pt x="574" y="12"/>
                  </a:lnTo>
                  <a:lnTo>
                    <a:pt x="574" y="27"/>
                  </a:lnTo>
                  <a:lnTo>
                    <a:pt x="585" y="28"/>
                  </a:lnTo>
                  <a:lnTo>
                    <a:pt x="600" y="56"/>
                  </a:lnTo>
                  <a:lnTo>
                    <a:pt x="712" y="175"/>
                  </a:lnTo>
                  <a:lnTo>
                    <a:pt x="718" y="183"/>
                  </a:lnTo>
                  <a:lnTo>
                    <a:pt x="720" y="192"/>
                  </a:lnTo>
                  <a:lnTo>
                    <a:pt x="718" y="200"/>
                  </a:lnTo>
                  <a:lnTo>
                    <a:pt x="712" y="204"/>
                  </a:lnTo>
                  <a:lnTo>
                    <a:pt x="708" y="207"/>
                  </a:lnTo>
                  <a:lnTo>
                    <a:pt x="708" y="215"/>
                  </a:lnTo>
                  <a:lnTo>
                    <a:pt x="704" y="223"/>
                  </a:lnTo>
                  <a:lnTo>
                    <a:pt x="700" y="229"/>
                  </a:lnTo>
                  <a:lnTo>
                    <a:pt x="704" y="233"/>
                  </a:lnTo>
                  <a:lnTo>
                    <a:pt x="708" y="240"/>
                  </a:lnTo>
                  <a:lnTo>
                    <a:pt x="715" y="250"/>
                  </a:lnTo>
                  <a:lnTo>
                    <a:pt x="728" y="258"/>
                  </a:lnTo>
                  <a:lnTo>
                    <a:pt x="738" y="264"/>
                  </a:lnTo>
                  <a:lnTo>
                    <a:pt x="747" y="273"/>
                  </a:lnTo>
                  <a:lnTo>
                    <a:pt x="758" y="279"/>
                  </a:lnTo>
                  <a:lnTo>
                    <a:pt x="784" y="271"/>
                  </a:lnTo>
                  <a:lnTo>
                    <a:pt x="798" y="267"/>
                  </a:lnTo>
                  <a:lnTo>
                    <a:pt x="813" y="264"/>
                  </a:lnTo>
                  <a:lnTo>
                    <a:pt x="824" y="261"/>
                  </a:lnTo>
                  <a:lnTo>
                    <a:pt x="865" y="233"/>
                  </a:lnTo>
                  <a:lnTo>
                    <a:pt x="917" y="175"/>
                  </a:lnTo>
                  <a:lnTo>
                    <a:pt x="924" y="177"/>
                  </a:lnTo>
                  <a:lnTo>
                    <a:pt x="954" y="144"/>
                  </a:lnTo>
                  <a:lnTo>
                    <a:pt x="956" y="135"/>
                  </a:lnTo>
                  <a:lnTo>
                    <a:pt x="960" y="128"/>
                  </a:lnTo>
                  <a:lnTo>
                    <a:pt x="968" y="117"/>
                  </a:lnTo>
                  <a:lnTo>
                    <a:pt x="1086" y="114"/>
                  </a:lnTo>
                  <a:lnTo>
                    <a:pt x="1008" y="158"/>
                  </a:lnTo>
                  <a:lnTo>
                    <a:pt x="994" y="175"/>
                  </a:lnTo>
                  <a:lnTo>
                    <a:pt x="971" y="213"/>
                  </a:lnTo>
                  <a:lnTo>
                    <a:pt x="974" y="223"/>
                  </a:lnTo>
                  <a:lnTo>
                    <a:pt x="914" y="324"/>
                  </a:lnTo>
                  <a:lnTo>
                    <a:pt x="896" y="377"/>
                  </a:lnTo>
                  <a:lnTo>
                    <a:pt x="873" y="394"/>
                  </a:lnTo>
                  <a:lnTo>
                    <a:pt x="850" y="410"/>
                  </a:lnTo>
                  <a:lnTo>
                    <a:pt x="821" y="423"/>
                  </a:lnTo>
                  <a:lnTo>
                    <a:pt x="801" y="426"/>
                  </a:lnTo>
                  <a:lnTo>
                    <a:pt x="783" y="428"/>
                  </a:lnTo>
                  <a:lnTo>
                    <a:pt x="786" y="477"/>
                  </a:lnTo>
                  <a:lnTo>
                    <a:pt x="786" y="535"/>
                  </a:lnTo>
                  <a:lnTo>
                    <a:pt x="780" y="602"/>
                  </a:lnTo>
                  <a:lnTo>
                    <a:pt x="767" y="667"/>
                  </a:lnTo>
                  <a:lnTo>
                    <a:pt x="752" y="732"/>
                  </a:lnTo>
                  <a:lnTo>
                    <a:pt x="740" y="776"/>
                  </a:lnTo>
                  <a:lnTo>
                    <a:pt x="728" y="784"/>
                  </a:lnTo>
                  <a:lnTo>
                    <a:pt x="715" y="795"/>
                  </a:lnTo>
                  <a:lnTo>
                    <a:pt x="705" y="841"/>
                  </a:lnTo>
                  <a:lnTo>
                    <a:pt x="705" y="849"/>
                  </a:lnTo>
                  <a:lnTo>
                    <a:pt x="709" y="858"/>
                  </a:lnTo>
                  <a:lnTo>
                    <a:pt x="709" y="865"/>
                  </a:lnTo>
                  <a:lnTo>
                    <a:pt x="703" y="875"/>
                  </a:lnTo>
                  <a:lnTo>
                    <a:pt x="713" y="884"/>
                  </a:lnTo>
                  <a:lnTo>
                    <a:pt x="720" y="892"/>
                  </a:lnTo>
                  <a:lnTo>
                    <a:pt x="724" y="905"/>
                  </a:lnTo>
                  <a:lnTo>
                    <a:pt x="734" y="908"/>
                  </a:lnTo>
                  <a:lnTo>
                    <a:pt x="740" y="913"/>
                  </a:lnTo>
                  <a:lnTo>
                    <a:pt x="744" y="922"/>
                  </a:lnTo>
                  <a:lnTo>
                    <a:pt x="749" y="930"/>
                  </a:lnTo>
                  <a:lnTo>
                    <a:pt x="754" y="938"/>
                  </a:lnTo>
                  <a:lnTo>
                    <a:pt x="783" y="953"/>
                  </a:lnTo>
                  <a:lnTo>
                    <a:pt x="801" y="961"/>
                  </a:lnTo>
                  <a:lnTo>
                    <a:pt x="809" y="968"/>
                  </a:lnTo>
                  <a:lnTo>
                    <a:pt x="812" y="976"/>
                  </a:lnTo>
                  <a:lnTo>
                    <a:pt x="812" y="991"/>
                  </a:lnTo>
                  <a:lnTo>
                    <a:pt x="797" y="994"/>
                  </a:lnTo>
                  <a:lnTo>
                    <a:pt x="777" y="997"/>
                  </a:lnTo>
                  <a:lnTo>
                    <a:pt x="746" y="996"/>
                  </a:lnTo>
                  <a:lnTo>
                    <a:pt x="718" y="991"/>
                  </a:lnTo>
                  <a:lnTo>
                    <a:pt x="686" y="981"/>
                  </a:lnTo>
                  <a:lnTo>
                    <a:pt x="664" y="969"/>
                  </a:lnTo>
                  <a:lnTo>
                    <a:pt x="645" y="958"/>
                  </a:lnTo>
                  <a:lnTo>
                    <a:pt x="627" y="956"/>
                  </a:lnTo>
                  <a:lnTo>
                    <a:pt x="613" y="954"/>
                  </a:lnTo>
                  <a:lnTo>
                    <a:pt x="598" y="950"/>
                  </a:lnTo>
                  <a:lnTo>
                    <a:pt x="584" y="945"/>
                  </a:lnTo>
                  <a:lnTo>
                    <a:pt x="581" y="928"/>
                  </a:lnTo>
                  <a:lnTo>
                    <a:pt x="582" y="915"/>
                  </a:lnTo>
                  <a:lnTo>
                    <a:pt x="584" y="902"/>
                  </a:lnTo>
                  <a:lnTo>
                    <a:pt x="588" y="890"/>
                  </a:lnTo>
                  <a:lnTo>
                    <a:pt x="593" y="879"/>
                  </a:lnTo>
                  <a:lnTo>
                    <a:pt x="598" y="867"/>
                  </a:lnTo>
                  <a:lnTo>
                    <a:pt x="604" y="858"/>
                  </a:lnTo>
                  <a:lnTo>
                    <a:pt x="604" y="846"/>
                  </a:lnTo>
                  <a:lnTo>
                    <a:pt x="604" y="833"/>
                  </a:lnTo>
                  <a:lnTo>
                    <a:pt x="607" y="825"/>
                  </a:lnTo>
                  <a:lnTo>
                    <a:pt x="613" y="818"/>
                  </a:lnTo>
                  <a:lnTo>
                    <a:pt x="613" y="778"/>
                  </a:lnTo>
                  <a:lnTo>
                    <a:pt x="598" y="771"/>
                  </a:lnTo>
                  <a:lnTo>
                    <a:pt x="599" y="761"/>
                  </a:lnTo>
                  <a:lnTo>
                    <a:pt x="602" y="751"/>
                  </a:lnTo>
                  <a:lnTo>
                    <a:pt x="602" y="738"/>
                  </a:lnTo>
                  <a:lnTo>
                    <a:pt x="599" y="723"/>
                  </a:lnTo>
                  <a:lnTo>
                    <a:pt x="602" y="702"/>
                  </a:lnTo>
                  <a:lnTo>
                    <a:pt x="607" y="673"/>
                  </a:lnTo>
                  <a:lnTo>
                    <a:pt x="616" y="642"/>
                  </a:lnTo>
                  <a:lnTo>
                    <a:pt x="627" y="611"/>
                  </a:lnTo>
                  <a:lnTo>
                    <a:pt x="607" y="634"/>
                  </a:lnTo>
                  <a:lnTo>
                    <a:pt x="585" y="657"/>
                  </a:lnTo>
                  <a:lnTo>
                    <a:pt x="568" y="676"/>
                  </a:lnTo>
                  <a:lnTo>
                    <a:pt x="547" y="695"/>
                  </a:lnTo>
                  <a:lnTo>
                    <a:pt x="528" y="709"/>
                  </a:lnTo>
                  <a:lnTo>
                    <a:pt x="506" y="728"/>
                  </a:lnTo>
                  <a:lnTo>
                    <a:pt x="484" y="745"/>
                  </a:lnTo>
                  <a:lnTo>
                    <a:pt x="457" y="760"/>
                  </a:lnTo>
                  <a:lnTo>
                    <a:pt x="432" y="775"/>
                  </a:lnTo>
                  <a:lnTo>
                    <a:pt x="409" y="783"/>
                  </a:lnTo>
                  <a:lnTo>
                    <a:pt x="386" y="792"/>
                  </a:lnTo>
                  <a:lnTo>
                    <a:pt x="365" y="800"/>
                  </a:lnTo>
                  <a:lnTo>
                    <a:pt x="345" y="876"/>
                  </a:lnTo>
                  <a:lnTo>
                    <a:pt x="343" y="898"/>
                  </a:lnTo>
                  <a:lnTo>
                    <a:pt x="340" y="922"/>
                  </a:lnTo>
                  <a:lnTo>
                    <a:pt x="337" y="939"/>
                  </a:lnTo>
                  <a:lnTo>
                    <a:pt x="332" y="958"/>
                  </a:lnTo>
                  <a:lnTo>
                    <a:pt x="325" y="976"/>
                  </a:lnTo>
                  <a:lnTo>
                    <a:pt x="315" y="996"/>
                  </a:lnTo>
                  <a:lnTo>
                    <a:pt x="305" y="1011"/>
                  </a:lnTo>
                  <a:lnTo>
                    <a:pt x="294" y="1023"/>
                  </a:lnTo>
                  <a:lnTo>
                    <a:pt x="291" y="1037"/>
                  </a:lnTo>
                  <a:lnTo>
                    <a:pt x="282" y="1051"/>
                  </a:lnTo>
                  <a:lnTo>
                    <a:pt x="269" y="1062"/>
                  </a:lnTo>
                  <a:lnTo>
                    <a:pt x="250" y="1072"/>
                  </a:lnTo>
                  <a:lnTo>
                    <a:pt x="221" y="1078"/>
                  </a:lnTo>
                  <a:lnTo>
                    <a:pt x="196" y="1078"/>
                  </a:lnTo>
                  <a:lnTo>
                    <a:pt x="172" y="1074"/>
                  </a:lnTo>
                  <a:lnTo>
                    <a:pt x="153" y="1066"/>
                  </a:lnTo>
                  <a:lnTo>
                    <a:pt x="138" y="1056"/>
                  </a:lnTo>
                  <a:lnTo>
                    <a:pt x="129" y="1045"/>
                  </a:lnTo>
                  <a:lnTo>
                    <a:pt x="116" y="1042"/>
                  </a:lnTo>
                  <a:lnTo>
                    <a:pt x="104" y="1020"/>
                  </a:lnTo>
                  <a:lnTo>
                    <a:pt x="95" y="996"/>
                  </a:lnTo>
                  <a:lnTo>
                    <a:pt x="89" y="974"/>
                  </a:lnTo>
                  <a:lnTo>
                    <a:pt x="84" y="948"/>
                  </a:lnTo>
                  <a:lnTo>
                    <a:pt x="84" y="924"/>
                  </a:lnTo>
                  <a:lnTo>
                    <a:pt x="81" y="881"/>
                  </a:lnTo>
                  <a:lnTo>
                    <a:pt x="94" y="855"/>
                  </a:lnTo>
                  <a:lnTo>
                    <a:pt x="100" y="824"/>
                  </a:lnTo>
                  <a:lnTo>
                    <a:pt x="109" y="810"/>
                  </a:lnTo>
                  <a:lnTo>
                    <a:pt x="106" y="792"/>
                  </a:lnTo>
                  <a:lnTo>
                    <a:pt x="102" y="776"/>
                  </a:lnTo>
                  <a:lnTo>
                    <a:pt x="74" y="755"/>
                  </a:lnTo>
                  <a:lnTo>
                    <a:pt x="87" y="737"/>
                  </a:lnTo>
                  <a:lnTo>
                    <a:pt x="102" y="695"/>
                  </a:lnTo>
                  <a:lnTo>
                    <a:pt x="91" y="697"/>
                  </a:lnTo>
                  <a:lnTo>
                    <a:pt x="81" y="694"/>
                  </a:lnTo>
                  <a:lnTo>
                    <a:pt x="74" y="691"/>
                  </a:lnTo>
                  <a:lnTo>
                    <a:pt x="69" y="682"/>
                  </a:lnTo>
                  <a:lnTo>
                    <a:pt x="67" y="676"/>
                  </a:lnTo>
                  <a:lnTo>
                    <a:pt x="60" y="677"/>
                  </a:lnTo>
                  <a:lnTo>
                    <a:pt x="49" y="676"/>
                  </a:lnTo>
                  <a:lnTo>
                    <a:pt x="41" y="671"/>
                  </a:lnTo>
                  <a:lnTo>
                    <a:pt x="32" y="664"/>
                  </a:lnTo>
                  <a:lnTo>
                    <a:pt x="26" y="652"/>
                  </a:lnTo>
                  <a:lnTo>
                    <a:pt x="20" y="642"/>
                  </a:lnTo>
                  <a:lnTo>
                    <a:pt x="17" y="631"/>
                  </a:lnTo>
                  <a:lnTo>
                    <a:pt x="9" y="628"/>
                  </a:lnTo>
                  <a:lnTo>
                    <a:pt x="1" y="561"/>
                  </a:lnTo>
                  <a:lnTo>
                    <a:pt x="8" y="559"/>
                  </a:lnTo>
                  <a:lnTo>
                    <a:pt x="8" y="532"/>
                  </a:lnTo>
                  <a:lnTo>
                    <a:pt x="0" y="530"/>
                  </a:lnTo>
                  <a:lnTo>
                    <a:pt x="1" y="514"/>
                  </a:lnTo>
                  <a:lnTo>
                    <a:pt x="7" y="501"/>
                  </a:lnTo>
                  <a:lnTo>
                    <a:pt x="8" y="492"/>
                  </a:lnTo>
                  <a:lnTo>
                    <a:pt x="14" y="486"/>
                  </a:lnTo>
                  <a:lnTo>
                    <a:pt x="17" y="474"/>
                  </a:lnTo>
                  <a:lnTo>
                    <a:pt x="18" y="467"/>
                  </a:lnTo>
                  <a:lnTo>
                    <a:pt x="22" y="461"/>
                  </a:lnTo>
                  <a:lnTo>
                    <a:pt x="40" y="456"/>
                  </a:lnTo>
                  <a:lnTo>
                    <a:pt x="32" y="443"/>
                  </a:lnTo>
                  <a:lnTo>
                    <a:pt x="34" y="438"/>
                  </a:lnTo>
                  <a:close/>
                  <a:moveTo>
                    <a:pt x="113" y="456"/>
                  </a:moveTo>
                  <a:lnTo>
                    <a:pt x="106" y="464"/>
                  </a:lnTo>
                  <a:lnTo>
                    <a:pt x="109" y="469"/>
                  </a:lnTo>
                  <a:lnTo>
                    <a:pt x="112" y="475"/>
                  </a:lnTo>
                  <a:lnTo>
                    <a:pt x="113" y="469"/>
                  </a:lnTo>
                  <a:lnTo>
                    <a:pt x="115" y="463"/>
                  </a:lnTo>
                  <a:lnTo>
                    <a:pt x="113" y="4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933640" y="3533760"/>
              <a:ext cx="258840" cy="206280"/>
            </a:xfrm>
            <a:custGeom>
              <a:avLst/>
              <a:gdLst/>
              <a:ahLst/>
              <a:rect l="l" t="t" r="r" b="b"/>
              <a:pathLst>
                <a:path w="812" h="650">
                  <a:moveTo>
                    <a:pt x="783" y="0"/>
                  </a:moveTo>
                  <a:lnTo>
                    <a:pt x="786" y="49"/>
                  </a:lnTo>
                  <a:lnTo>
                    <a:pt x="786" y="107"/>
                  </a:lnTo>
                  <a:lnTo>
                    <a:pt x="780" y="174"/>
                  </a:lnTo>
                  <a:lnTo>
                    <a:pt x="767" y="239"/>
                  </a:lnTo>
                  <a:lnTo>
                    <a:pt x="752" y="304"/>
                  </a:lnTo>
                  <a:lnTo>
                    <a:pt x="740" y="348"/>
                  </a:lnTo>
                  <a:lnTo>
                    <a:pt x="728" y="356"/>
                  </a:lnTo>
                  <a:lnTo>
                    <a:pt x="715" y="367"/>
                  </a:lnTo>
                  <a:lnTo>
                    <a:pt x="705" y="413"/>
                  </a:lnTo>
                  <a:lnTo>
                    <a:pt x="705" y="421"/>
                  </a:lnTo>
                  <a:lnTo>
                    <a:pt x="709" y="430"/>
                  </a:lnTo>
                  <a:lnTo>
                    <a:pt x="709" y="437"/>
                  </a:lnTo>
                  <a:lnTo>
                    <a:pt x="703" y="447"/>
                  </a:lnTo>
                  <a:lnTo>
                    <a:pt x="713" y="456"/>
                  </a:lnTo>
                  <a:lnTo>
                    <a:pt x="720" y="464"/>
                  </a:lnTo>
                  <a:lnTo>
                    <a:pt x="724" y="477"/>
                  </a:lnTo>
                  <a:lnTo>
                    <a:pt x="734" y="480"/>
                  </a:lnTo>
                  <a:lnTo>
                    <a:pt x="740" y="485"/>
                  </a:lnTo>
                  <a:lnTo>
                    <a:pt x="744" y="494"/>
                  </a:lnTo>
                  <a:lnTo>
                    <a:pt x="749" y="502"/>
                  </a:lnTo>
                  <a:lnTo>
                    <a:pt x="754" y="510"/>
                  </a:lnTo>
                  <a:lnTo>
                    <a:pt x="783" y="525"/>
                  </a:lnTo>
                  <a:lnTo>
                    <a:pt x="801" y="533"/>
                  </a:lnTo>
                  <a:lnTo>
                    <a:pt x="809" y="540"/>
                  </a:lnTo>
                  <a:lnTo>
                    <a:pt x="812" y="548"/>
                  </a:lnTo>
                  <a:lnTo>
                    <a:pt x="812" y="563"/>
                  </a:lnTo>
                  <a:lnTo>
                    <a:pt x="797" y="566"/>
                  </a:lnTo>
                  <a:lnTo>
                    <a:pt x="777" y="569"/>
                  </a:lnTo>
                  <a:lnTo>
                    <a:pt x="746" y="568"/>
                  </a:lnTo>
                  <a:lnTo>
                    <a:pt x="718" y="563"/>
                  </a:lnTo>
                  <a:lnTo>
                    <a:pt x="686" y="553"/>
                  </a:lnTo>
                  <a:lnTo>
                    <a:pt x="664" y="541"/>
                  </a:lnTo>
                  <a:lnTo>
                    <a:pt x="645" y="530"/>
                  </a:lnTo>
                  <a:lnTo>
                    <a:pt x="627" y="528"/>
                  </a:lnTo>
                  <a:lnTo>
                    <a:pt x="613" y="526"/>
                  </a:lnTo>
                  <a:lnTo>
                    <a:pt x="598" y="522"/>
                  </a:lnTo>
                  <a:lnTo>
                    <a:pt x="584" y="517"/>
                  </a:lnTo>
                  <a:lnTo>
                    <a:pt x="581" y="500"/>
                  </a:lnTo>
                  <a:lnTo>
                    <a:pt x="582" y="487"/>
                  </a:lnTo>
                  <a:lnTo>
                    <a:pt x="584" y="474"/>
                  </a:lnTo>
                  <a:lnTo>
                    <a:pt x="588" y="462"/>
                  </a:lnTo>
                  <a:lnTo>
                    <a:pt x="593" y="451"/>
                  </a:lnTo>
                  <a:lnTo>
                    <a:pt x="598" y="439"/>
                  </a:lnTo>
                  <a:lnTo>
                    <a:pt x="604" y="430"/>
                  </a:lnTo>
                  <a:lnTo>
                    <a:pt x="604" y="418"/>
                  </a:lnTo>
                  <a:lnTo>
                    <a:pt x="604" y="405"/>
                  </a:lnTo>
                  <a:lnTo>
                    <a:pt x="607" y="397"/>
                  </a:lnTo>
                  <a:lnTo>
                    <a:pt x="613" y="390"/>
                  </a:lnTo>
                  <a:lnTo>
                    <a:pt x="613" y="350"/>
                  </a:lnTo>
                  <a:lnTo>
                    <a:pt x="598" y="343"/>
                  </a:lnTo>
                  <a:lnTo>
                    <a:pt x="599" y="333"/>
                  </a:lnTo>
                  <a:lnTo>
                    <a:pt x="602" y="323"/>
                  </a:lnTo>
                  <a:lnTo>
                    <a:pt x="602" y="310"/>
                  </a:lnTo>
                  <a:lnTo>
                    <a:pt x="599" y="295"/>
                  </a:lnTo>
                  <a:lnTo>
                    <a:pt x="602" y="274"/>
                  </a:lnTo>
                  <a:lnTo>
                    <a:pt x="607" y="245"/>
                  </a:lnTo>
                  <a:lnTo>
                    <a:pt x="616" y="214"/>
                  </a:lnTo>
                  <a:lnTo>
                    <a:pt x="627" y="183"/>
                  </a:lnTo>
                  <a:lnTo>
                    <a:pt x="607" y="206"/>
                  </a:lnTo>
                  <a:lnTo>
                    <a:pt x="585" y="229"/>
                  </a:lnTo>
                  <a:lnTo>
                    <a:pt x="568" y="248"/>
                  </a:lnTo>
                  <a:lnTo>
                    <a:pt x="547" y="267"/>
                  </a:lnTo>
                  <a:lnTo>
                    <a:pt x="528" y="281"/>
                  </a:lnTo>
                  <a:lnTo>
                    <a:pt x="506" y="300"/>
                  </a:lnTo>
                  <a:lnTo>
                    <a:pt x="484" y="317"/>
                  </a:lnTo>
                  <a:lnTo>
                    <a:pt x="457" y="332"/>
                  </a:lnTo>
                  <a:lnTo>
                    <a:pt x="432" y="347"/>
                  </a:lnTo>
                  <a:lnTo>
                    <a:pt x="409" y="355"/>
                  </a:lnTo>
                  <a:lnTo>
                    <a:pt x="386" y="364"/>
                  </a:lnTo>
                  <a:lnTo>
                    <a:pt x="365" y="372"/>
                  </a:lnTo>
                  <a:lnTo>
                    <a:pt x="345" y="448"/>
                  </a:lnTo>
                  <a:lnTo>
                    <a:pt x="343" y="470"/>
                  </a:lnTo>
                  <a:lnTo>
                    <a:pt x="340" y="494"/>
                  </a:lnTo>
                  <a:lnTo>
                    <a:pt x="337" y="511"/>
                  </a:lnTo>
                  <a:lnTo>
                    <a:pt x="332" y="530"/>
                  </a:lnTo>
                  <a:lnTo>
                    <a:pt x="325" y="548"/>
                  </a:lnTo>
                  <a:lnTo>
                    <a:pt x="315" y="568"/>
                  </a:lnTo>
                  <a:lnTo>
                    <a:pt x="305" y="583"/>
                  </a:lnTo>
                  <a:lnTo>
                    <a:pt x="294" y="595"/>
                  </a:lnTo>
                  <a:lnTo>
                    <a:pt x="291" y="609"/>
                  </a:lnTo>
                  <a:lnTo>
                    <a:pt x="282" y="623"/>
                  </a:lnTo>
                  <a:lnTo>
                    <a:pt x="269" y="634"/>
                  </a:lnTo>
                  <a:lnTo>
                    <a:pt x="250" y="644"/>
                  </a:lnTo>
                  <a:lnTo>
                    <a:pt x="221" y="650"/>
                  </a:lnTo>
                  <a:lnTo>
                    <a:pt x="196" y="650"/>
                  </a:lnTo>
                  <a:lnTo>
                    <a:pt x="172" y="646"/>
                  </a:lnTo>
                  <a:lnTo>
                    <a:pt x="153" y="638"/>
                  </a:lnTo>
                  <a:lnTo>
                    <a:pt x="138" y="628"/>
                  </a:lnTo>
                  <a:lnTo>
                    <a:pt x="129" y="617"/>
                  </a:lnTo>
                  <a:lnTo>
                    <a:pt x="116" y="614"/>
                  </a:lnTo>
                  <a:lnTo>
                    <a:pt x="104" y="592"/>
                  </a:lnTo>
                  <a:lnTo>
                    <a:pt x="95" y="568"/>
                  </a:lnTo>
                  <a:lnTo>
                    <a:pt x="89" y="546"/>
                  </a:lnTo>
                  <a:lnTo>
                    <a:pt x="84" y="520"/>
                  </a:lnTo>
                  <a:lnTo>
                    <a:pt x="84" y="496"/>
                  </a:lnTo>
                  <a:lnTo>
                    <a:pt x="81" y="453"/>
                  </a:lnTo>
                  <a:lnTo>
                    <a:pt x="94" y="427"/>
                  </a:lnTo>
                  <a:lnTo>
                    <a:pt x="100" y="396"/>
                  </a:lnTo>
                  <a:lnTo>
                    <a:pt x="109" y="382"/>
                  </a:lnTo>
                  <a:lnTo>
                    <a:pt x="106" y="364"/>
                  </a:lnTo>
                  <a:lnTo>
                    <a:pt x="102" y="348"/>
                  </a:lnTo>
                  <a:lnTo>
                    <a:pt x="74" y="327"/>
                  </a:lnTo>
                  <a:lnTo>
                    <a:pt x="87" y="309"/>
                  </a:lnTo>
                  <a:lnTo>
                    <a:pt x="102" y="267"/>
                  </a:lnTo>
                  <a:lnTo>
                    <a:pt x="91" y="269"/>
                  </a:lnTo>
                  <a:lnTo>
                    <a:pt x="81" y="266"/>
                  </a:lnTo>
                  <a:lnTo>
                    <a:pt x="74" y="263"/>
                  </a:lnTo>
                  <a:lnTo>
                    <a:pt x="69" y="254"/>
                  </a:lnTo>
                  <a:lnTo>
                    <a:pt x="67" y="248"/>
                  </a:lnTo>
                  <a:lnTo>
                    <a:pt x="60" y="249"/>
                  </a:lnTo>
                  <a:lnTo>
                    <a:pt x="49" y="248"/>
                  </a:lnTo>
                  <a:lnTo>
                    <a:pt x="41" y="243"/>
                  </a:lnTo>
                  <a:lnTo>
                    <a:pt x="32" y="236"/>
                  </a:lnTo>
                  <a:lnTo>
                    <a:pt x="26" y="224"/>
                  </a:lnTo>
                  <a:lnTo>
                    <a:pt x="20" y="214"/>
                  </a:lnTo>
                  <a:lnTo>
                    <a:pt x="17" y="203"/>
                  </a:lnTo>
                  <a:lnTo>
                    <a:pt x="9" y="200"/>
                  </a:lnTo>
                  <a:lnTo>
                    <a:pt x="1" y="133"/>
                  </a:lnTo>
                  <a:lnTo>
                    <a:pt x="8" y="131"/>
                  </a:lnTo>
                  <a:lnTo>
                    <a:pt x="8" y="104"/>
                  </a:lnTo>
                  <a:lnTo>
                    <a:pt x="0" y="102"/>
                  </a:lnTo>
                  <a:lnTo>
                    <a:pt x="1" y="86"/>
                  </a:lnTo>
                  <a:lnTo>
                    <a:pt x="7" y="73"/>
                  </a:lnTo>
                  <a:lnTo>
                    <a:pt x="8" y="64"/>
                  </a:lnTo>
                  <a:lnTo>
                    <a:pt x="14" y="58"/>
                  </a:lnTo>
                  <a:lnTo>
                    <a:pt x="17" y="46"/>
                  </a:lnTo>
                  <a:lnTo>
                    <a:pt x="18" y="39"/>
                  </a:lnTo>
                  <a:lnTo>
                    <a:pt x="22" y="33"/>
                  </a:lnTo>
                  <a:lnTo>
                    <a:pt x="40" y="28"/>
                  </a:lnTo>
                  <a:lnTo>
                    <a:pt x="32" y="15"/>
                  </a:lnTo>
                  <a:lnTo>
                    <a:pt x="34" y="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3116160" y="3397320"/>
              <a:ext cx="162000" cy="13644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0"/>
                  </a:moveTo>
                  <a:lnTo>
                    <a:pt x="1" y="12"/>
                  </a:lnTo>
                  <a:lnTo>
                    <a:pt x="1" y="27"/>
                  </a:lnTo>
                  <a:lnTo>
                    <a:pt x="12" y="28"/>
                  </a:lnTo>
                  <a:lnTo>
                    <a:pt x="27" y="56"/>
                  </a:lnTo>
                  <a:lnTo>
                    <a:pt x="139" y="175"/>
                  </a:lnTo>
                  <a:lnTo>
                    <a:pt x="145" y="183"/>
                  </a:lnTo>
                  <a:lnTo>
                    <a:pt x="147" y="192"/>
                  </a:lnTo>
                  <a:lnTo>
                    <a:pt x="145" y="200"/>
                  </a:lnTo>
                  <a:lnTo>
                    <a:pt x="139" y="204"/>
                  </a:lnTo>
                  <a:lnTo>
                    <a:pt x="135" y="207"/>
                  </a:lnTo>
                  <a:lnTo>
                    <a:pt x="135" y="215"/>
                  </a:lnTo>
                  <a:lnTo>
                    <a:pt x="131" y="223"/>
                  </a:lnTo>
                  <a:lnTo>
                    <a:pt x="127" y="229"/>
                  </a:lnTo>
                  <a:lnTo>
                    <a:pt x="131" y="233"/>
                  </a:lnTo>
                  <a:lnTo>
                    <a:pt x="135" y="240"/>
                  </a:lnTo>
                  <a:lnTo>
                    <a:pt x="142" y="250"/>
                  </a:lnTo>
                  <a:lnTo>
                    <a:pt x="155" y="258"/>
                  </a:lnTo>
                  <a:lnTo>
                    <a:pt x="165" y="264"/>
                  </a:lnTo>
                  <a:lnTo>
                    <a:pt x="174" y="273"/>
                  </a:lnTo>
                  <a:lnTo>
                    <a:pt x="185" y="279"/>
                  </a:lnTo>
                  <a:lnTo>
                    <a:pt x="211" y="271"/>
                  </a:lnTo>
                  <a:lnTo>
                    <a:pt x="225" y="267"/>
                  </a:lnTo>
                  <a:lnTo>
                    <a:pt x="240" y="264"/>
                  </a:lnTo>
                  <a:lnTo>
                    <a:pt x="251" y="261"/>
                  </a:lnTo>
                  <a:lnTo>
                    <a:pt x="292" y="233"/>
                  </a:lnTo>
                  <a:lnTo>
                    <a:pt x="344" y="175"/>
                  </a:lnTo>
                  <a:lnTo>
                    <a:pt x="351" y="177"/>
                  </a:lnTo>
                  <a:lnTo>
                    <a:pt x="381" y="144"/>
                  </a:lnTo>
                  <a:lnTo>
                    <a:pt x="383" y="135"/>
                  </a:lnTo>
                  <a:lnTo>
                    <a:pt x="387" y="128"/>
                  </a:lnTo>
                  <a:lnTo>
                    <a:pt x="395" y="117"/>
                  </a:lnTo>
                  <a:lnTo>
                    <a:pt x="513" y="114"/>
                  </a:lnTo>
                  <a:lnTo>
                    <a:pt x="435" y="158"/>
                  </a:lnTo>
                  <a:lnTo>
                    <a:pt x="421" y="175"/>
                  </a:lnTo>
                  <a:lnTo>
                    <a:pt x="398" y="213"/>
                  </a:lnTo>
                  <a:lnTo>
                    <a:pt x="401" y="223"/>
                  </a:lnTo>
                  <a:lnTo>
                    <a:pt x="341" y="324"/>
                  </a:lnTo>
                  <a:lnTo>
                    <a:pt x="323" y="377"/>
                  </a:lnTo>
                  <a:lnTo>
                    <a:pt x="300" y="394"/>
                  </a:lnTo>
                  <a:lnTo>
                    <a:pt x="277" y="410"/>
                  </a:lnTo>
                  <a:lnTo>
                    <a:pt x="248" y="423"/>
                  </a:lnTo>
                  <a:lnTo>
                    <a:pt x="228" y="426"/>
                  </a:lnTo>
                  <a:lnTo>
                    <a:pt x="210" y="4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3124080" y="339264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9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5" y="149"/>
                  </a:lnTo>
                  <a:lnTo>
                    <a:pt x="143" y="162"/>
                  </a:lnTo>
                  <a:lnTo>
                    <a:pt x="144" y="169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1"/>
                  </a:lnTo>
                  <a:lnTo>
                    <a:pt x="164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14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3" y="34"/>
                  </a:lnTo>
                  <a:lnTo>
                    <a:pt x="263" y="41"/>
                  </a:lnTo>
                  <a:lnTo>
                    <a:pt x="261" y="48"/>
                  </a:lnTo>
                  <a:lnTo>
                    <a:pt x="259" y="52"/>
                  </a:lnTo>
                  <a:lnTo>
                    <a:pt x="250" y="52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50" y="28"/>
                  </a:lnTo>
                  <a:lnTo>
                    <a:pt x="244" y="25"/>
                  </a:lnTo>
                  <a:lnTo>
                    <a:pt x="126" y="25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2"/>
                  </a:lnTo>
                  <a:lnTo>
                    <a:pt x="259" y="52"/>
                  </a:lnTo>
                  <a:lnTo>
                    <a:pt x="607" y="52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2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7"/>
                  </a:lnTo>
                  <a:lnTo>
                    <a:pt x="838" y="87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8" y="91"/>
                  </a:lnTo>
                  <a:lnTo>
                    <a:pt x="648" y="87"/>
                  </a:lnTo>
                  <a:lnTo>
                    <a:pt x="619" y="87"/>
                  </a:lnTo>
                  <a:lnTo>
                    <a:pt x="619" y="103"/>
                  </a:lnTo>
                  <a:lnTo>
                    <a:pt x="610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2774880" y="3770280"/>
              <a:ext cx="241200" cy="376200"/>
            </a:xfrm>
            <a:custGeom>
              <a:avLst/>
              <a:gdLst/>
              <a:ahLst/>
              <a:rect l="l" t="t" r="r" b="b"/>
              <a:pathLst>
                <a:path w="756" h="1184">
                  <a:moveTo>
                    <a:pt x="245" y="621"/>
                  </a:moveTo>
                  <a:lnTo>
                    <a:pt x="265" y="606"/>
                  </a:lnTo>
                  <a:lnTo>
                    <a:pt x="283" y="595"/>
                  </a:lnTo>
                  <a:lnTo>
                    <a:pt x="302" y="585"/>
                  </a:lnTo>
                  <a:lnTo>
                    <a:pt x="321" y="576"/>
                  </a:lnTo>
                  <a:lnTo>
                    <a:pt x="285" y="553"/>
                  </a:lnTo>
                  <a:lnTo>
                    <a:pt x="268" y="542"/>
                  </a:lnTo>
                  <a:lnTo>
                    <a:pt x="250" y="529"/>
                  </a:lnTo>
                  <a:lnTo>
                    <a:pt x="251" y="552"/>
                  </a:lnTo>
                  <a:lnTo>
                    <a:pt x="248" y="573"/>
                  </a:lnTo>
                  <a:lnTo>
                    <a:pt x="245" y="621"/>
                  </a:lnTo>
                  <a:close/>
                  <a:moveTo>
                    <a:pt x="36" y="280"/>
                  </a:moveTo>
                  <a:lnTo>
                    <a:pt x="42" y="244"/>
                  </a:lnTo>
                  <a:lnTo>
                    <a:pt x="50" y="210"/>
                  </a:lnTo>
                  <a:lnTo>
                    <a:pt x="58" y="175"/>
                  </a:lnTo>
                  <a:lnTo>
                    <a:pt x="67" y="140"/>
                  </a:lnTo>
                  <a:lnTo>
                    <a:pt x="76" y="107"/>
                  </a:lnTo>
                  <a:lnTo>
                    <a:pt x="85" y="72"/>
                  </a:lnTo>
                  <a:lnTo>
                    <a:pt x="95" y="39"/>
                  </a:lnTo>
                  <a:lnTo>
                    <a:pt x="106" y="5"/>
                  </a:lnTo>
                  <a:lnTo>
                    <a:pt x="113" y="4"/>
                  </a:lnTo>
                  <a:lnTo>
                    <a:pt x="138" y="0"/>
                  </a:lnTo>
                  <a:lnTo>
                    <a:pt x="156" y="0"/>
                  </a:lnTo>
                  <a:lnTo>
                    <a:pt x="176" y="4"/>
                  </a:lnTo>
                  <a:lnTo>
                    <a:pt x="190" y="8"/>
                  </a:lnTo>
                  <a:lnTo>
                    <a:pt x="204" y="15"/>
                  </a:lnTo>
                  <a:lnTo>
                    <a:pt x="217" y="28"/>
                  </a:lnTo>
                  <a:lnTo>
                    <a:pt x="228" y="45"/>
                  </a:lnTo>
                  <a:lnTo>
                    <a:pt x="245" y="77"/>
                  </a:lnTo>
                  <a:lnTo>
                    <a:pt x="263" y="117"/>
                  </a:lnTo>
                  <a:lnTo>
                    <a:pt x="271" y="127"/>
                  </a:lnTo>
                  <a:lnTo>
                    <a:pt x="274" y="135"/>
                  </a:lnTo>
                  <a:lnTo>
                    <a:pt x="273" y="143"/>
                  </a:lnTo>
                  <a:lnTo>
                    <a:pt x="265" y="149"/>
                  </a:lnTo>
                  <a:lnTo>
                    <a:pt x="240" y="157"/>
                  </a:lnTo>
                  <a:lnTo>
                    <a:pt x="243" y="178"/>
                  </a:lnTo>
                  <a:lnTo>
                    <a:pt x="245" y="198"/>
                  </a:lnTo>
                  <a:lnTo>
                    <a:pt x="245" y="213"/>
                  </a:lnTo>
                  <a:lnTo>
                    <a:pt x="257" y="215"/>
                  </a:lnTo>
                  <a:lnTo>
                    <a:pt x="271" y="243"/>
                  </a:lnTo>
                  <a:lnTo>
                    <a:pt x="384" y="362"/>
                  </a:lnTo>
                  <a:lnTo>
                    <a:pt x="389" y="370"/>
                  </a:lnTo>
                  <a:lnTo>
                    <a:pt x="390" y="379"/>
                  </a:lnTo>
                  <a:lnTo>
                    <a:pt x="389" y="386"/>
                  </a:lnTo>
                  <a:lnTo>
                    <a:pt x="384" y="391"/>
                  </a:lnTo>
                  <a:lnTo>
                    <a:pt x="378" y="393"/>
                  </a:lnTo>
                  <a:lnTo>
                    <a:pt x="378" y="402"/>
                  </a:lnTo>
                  <a:lnTo>
                    <a:pt x="375" y="410"/>
                  </a:lnTo>
                  <a:lnTo>
                    <a:pt x="371" y="414"/>
                  </a:lnTo>
                  <a:lnTo>
                    <a:pt x="375" y="420"/>
                  </a:lnTo>
                  <a:lnTo>
                    <a:pt x="378" y="426"/>
                  </a:lnTo>
                  <a:lnTo>
                    <a:pt x="386" y="437"/>
                  </a:lnTo>
                  <a:lnTo>
                    <a:pt x="398" y="444"/>
                  </a:lnTo>
                  <a:lnTo>
                    <a:pt x="409" y="451"/>
                  </a:lnTo>
                  <a:lnTo>
                    <a:pt x="418" y="460"/>
                  </a:lnTo>
                  <a:lnTo>
                    <a:pt x="429" y="466"/>
                  </a:lnTo>
                  <a:lnTo>
                    <a:pt x="455" y="458"/>
                  </a:lnTo>
                  <a:lnTo>
                    <a:pt x="470" y="454"/>
                  </a:lnTo>
                  <a:lnTo>
                    <a:pt x="484" y="451"/>
                  </a:lnTo>
                  <a:lnTo>
                    <a:pt x="494" y="447"/>
                  </a:lnTo>
                  <a:lnTo>
                    <a:pt x="536" y="420"/>
                  </a:lnTo>
                  <a:lnTo>
                    <a:pt x="588" y="362"/>
                  </a:lnTo>
                  <a:lnTo>
                    <a:pt x="594" y="363"/>
                  </a:lnTo>
                  <a:lnTo>
                    <a:pt x="625" y="330"/>
                  </a:lnTo>
                  <a:lnTo>
                    <a:pt x="626" y="322"/>
                  </a:lnTo>
                  <a:lnTo>
                    <a:pt x="631" y="314"/>
                  </a:lnTo>
                  <a:lnTo>
                    <a:pt x="640" y="304"/>
                  </a:lnTo>
                  <a:lnTo>
                    <a:pt x="756" y="301"/>
                  </a:lnTo>
                  <a:lnTo>
                    <a:pt x="679" y="345"/>
                  </a:lnTo>
                  <a:lnTo>
                    <a:pt x="664" y="362"/>
                  </a:lnTo>
                  <a:lnTo>
                    <a:pt x="642" y="400"/>
                  </a:lnTo>
                  <a:lnTo>
                    <a:pt x="645" y="410"/>
                  </a:lnTo>
                  <a:lnTo>
                    <a:pt x="585" y="510"/>
                  </a:lnTo>
                  <a:lnTo>
                    <a:pt x="567" y="564"/>
                  </a:lnTo>
                  <a:lnTo>
                    <a:pt x="544" y="581"/>
                  </a:lnTo>
                  <a:lnTo>
                    <a:pt x="521" y="596"/>
                  </a:lnTo>
                  <a:lnTo>
                    <a:pt x="491" y="610"/>
                  </a:lnTo>
                  <a:lnTo>
                    <a:pt x="472" y="613"/>
                  </a:lnTo>
                  <a:lnTo>
                    <a:pt x="454" y="614"/>
                  </a:lnTo>
                  <a:lnTo>
                    <a:pt x="456" y="664"/>
                  </a:lnTo>
                  <a:lnTo>
                    <a:pt x="456" y="722"/>
                  </a:lnTo>
                  <a:lnTo>
                    <a:pt x="450" y="789"/>
                  </a:lnTo>
                  <a:lnTo>
                    <a:pt x="438" y="854"/>
                  </a:lnTo>
                  <a:lnTo>
                    <a:pt x="423" y="918"/>
                  </a:lnTo>
                  <a:lnTo>
                    <a:pt x="411" y="963"/>
                  </a:lnTo>
                  <a:lnTo>
                    <a:pt x="398" y="971"/>
                  </a:lnTo>
                  <a:lnTo>
                    <a:pt x="386" y="980"/>
                  </a:lnTo>
                  <a:lnTo>
                    <a:pt x="375" y="1028"/>
                  </a:lnTo>
                  <a:lnTo>
                    <a:pt x="375" y="1036"/>
                  </a:lnTo>
                  <a:lnTo>
                    <a:pt x="380" y="1043"/>
                  </a:lnTo>
                  <a:lnTo>
                    <a:pt x="380" y="1052"/>
                  </a:lnTo>
                  <a:lnTo>
                    <a:pt x="374" y="1062"/>
                  </a:lnTo>
                  <a:lnTo>
                    <a:pt x="384" y="1071"/>
                  </a:lnTo>
                  <a:lnTo>
                    <a:pt x="390" y="1079"/>
                  </a:lnTo>
                  <a:lnTo>
                    <a:pt x="395" y="1092"/>
                  </a:lnTo>
                  <a:lnTo>
                    <a:pt x="406" y="1095"/>
                  </a:lnTo>
                  <a:lnTo>
                    <a:pt x="411" y="1100"/>
                  </a:lnTo>
                  <a:lnTo>
                    <a:pt x="415" y="1107"/>
                  </a:lnTo>
                  <a:lnTo>
                    <a:pt x="420" y="1116"/>
                  </a:lnTo>
                  <a:lnTo>
                    <a:pt x="425" y="1124"/>
                  </a:lnTo>
                  <a:lnTo>
                    <a:pt x="454" y="1139"/>
                  </a:lnTo>
                  <a:lnTo>
                    <a:pt x="472" y="1147"/>
                  </a:lnTo>
                  <a:lnTo>
                    <a:pt x="479" y="1155"/>
                  </a:lnTo>
                  <a:lnTo>
                    <a:pt x="482" y="1163"/>
                  </a:lnTo>
                  <a:lnTo>
                    <a:pt x="482" y="1178"/>
                  </a:lnTo>
                  <a:lnTo>
                    <a:pt x="468" y="1181"/>
                  </a:lnTo>
                  <a:lnTo>
                    <a:pt x="448" y="1184"/>
                  </a:lnTo>
                  <a:lnTo>
                    <a:pt x="417" y="1182"/>
                  </a:lnTo>
                  <a:lnTo>
                    <a:pt x="389" y="1178"/>
                  </a:lnTo>
                  <a:lnTo>
                    <a:pt x="357" y="1167"/>
                  </a:lnTo>
                  <a:lnTo>
                    <a:pt x="334" y="1156"/>
                  </a:lnTo>
                  <a:lnTo>
                    <a:pt x="316" y="1144"/>
                  </a:lnTo>
                  <a:lnTo>
                    <a:pt x="297" y="1143"/>
                  </a:lnTo>
                  <a:lnTo>
                    <a:pt x="283" y="1141"/>
                  </a:lnTo>
                  <a:lnTo>
                    <a:pt x="268" y="1137"/>
                  </a:lnTo>
                  <a:lnTo>
                    <a:pt x="255" y="1131"/>
                  </a:lnTo>
                  <a:lnTo>
                    <a:pt x="252" y="1115"/>
                  </a:lnTo>
                  <a:lnTo>
                    <a:pt x="253" y="1101"/>
                  </a:lnTo>
                  <a:lnTo>
                    <a:pt x="255" y="1089"/>
                  </a:lnTo>
                  <a:lnTo>
                    <a:pt x="259" y="1077"/>
                  </a:lnTo>
                  <a:lnTo>
                    <a:pt x="263" y="1065"/>
                  </a:lnTo>
                  <a:lnTo>
                    <a:pt x="268" y="1054"/>
                  </a:lnTo>
                  <a:lnTo>
                    <a:pt x="274" y="1043"/>
                  </a:lnTo>
                  <a:lnTo>
                    <a:pt x="274" y="1032"/>
                  </a:lnTo>
                  <a:lnTo>
                    <a:pt x="274" y="1020"/>
                  </a:lnTo>
                  <a:lnTo>
                    <a:pt x="279" y="1012"/>
                  </a:lnTo>
                  <a:lnTo>
                    <a:pt x="283" y="1005"/>
                  </a:lnTo>
                  <a:lnTo>
                    <a:pt x="283" y="965"/>
                  </a:lnTo>
                  <a:lnTo>
                    <a:pt x="268" y="957"/>
                  </a:lnTo>
                  <a:lnTo>
                    <a:pt x="270" y="948"/>
                  </a:lnTo>
                  <a:lnTo>
                    <a:pt x="273" y="938"/>
                  </a:lnTo>
                  <a:lnTo>
                    <a:pt x="273" y="925"/>
                  </a:lnTo>
                  <a:lnTo>
                    <a:pt x="270" y="910"/>
                  </a:lnTo>
                  <a:lnTo>
                    <a:pt x="273" y="888"/>
                  </a:lnTo>
                  <a:lnTo>
                    <a:pt x="279" y="859"/>
                  </a:lnTo>
                  <a:lnTo>
                    <a:pt x="287" y="829"/>
                  </a:lnTo>
                  <a:lnTo>
                    <a:pt x="297" y="798"/>
                  </a:lnTo>
                  <a:lnTo>
                    <a:pt x="279" y="821"/>
                  </a:lnTo>
                  <a:lnTo>
                    <a:pt x="257" y="844"/>
                  </a:lnTo>
                  <a:lnTo>
                    <a:pt x="239" y="863"/>
                  </a:lnTo>
                  <a:lnTo>
                    <a:pt x="217" y="882"/>
                  </a:lnTo>
                  <a:lnTo>
                    <a:pt x="199" y="896"/>
                  </a:lnTo>
                  <a:lnTo>
                    <a:pt x="176" y="915"/>
                  </a:lnTo>
                  <a:lnTo>
                    <a:pt x="155" y="931"/>
                  </a:lnTo>
                  <a:lnTo>
                    <a:pt x="129" y="947"/>
                  </a:lnTo>
                  <a:lnTo>
                    <a:pt x="103" y="962"/>
                  </a:lnTo>
                  <a:lnTo>
                    <a:pt x="80" y="970"/>
                  </a:lnTo>
                  <a:lnTo>
                    <a:pt x="57" y="979"/>
                  </a:lnTo>
                  <a:lnTo>
                    <a:pt x="36" y="986"/>
                  </a:lnTo>
                  <a:lnTo>
                    <a:pt x="29" y="1012"/>
                  </a:lnTo>
                  <a:lnTo>
                    <a:pt x="21" y="968"/>
                  </a:lnTo>
                  <a:lnTo>
                    <a:pt x="16" y="923"/>
                  </a:lnTo>
                  <a:lnTo>
                    <a:pt x="11" y="879"/>
                  </a:lnTo>
                  <a:lnTo>
                    <a:pt x="7" y="833"/>
                  </a:lnTo>
                  <a:lnTo>
                    <a:pt x="4" y="787"/>
                  </a:lnTo>
                  <a:lnTo>
                    <a:pt x="2" y="742"/>
                  </a:lnTo>
                  <a:lnTo>
                    <a:pt x="0" y="697"/>
                  </a:lnTo>
                  <a:lnTo>
                    <a:pt x="0" y="651"/>
                  </a:lnTo>
                  <a:lnTo>
                    <a:pt x="2" y="605"/>
                  </a:lnTo>
                  <a:lnTo>
                    <a:pt x="3" y="558"/>
                  </a:lnTo>
                  <a:lnTo>
                    <a:pt x="6" y="512"/>
                  </a:lnTo>
                  <a:lnTo>
                    <a:pt x="10" y="466"/>
                  </a:lnTo>
                  <a:lnTo>
                    <a:pt x="15" y="420"/>
                  </a:lnTo>
                  <a:lnTo>
                    <a:pt x="20" y="374"/>
                  </a:lnTo>
                  <a:lnTo>
                    <a:pt x="28" y="326"/>
                  </a:lnTo>
                  <a:lnTo>
                    <a:pt x="36" y="28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784600" y="3965400"/>
              <a:ext cx="144360" cy="181080"/>
            </a:xfrm>
            <a:custGeom>
              <a:avLst/>
              <a:gdLst/>
              <a:ahLst/>
              <a:rect l="l" t="t" r="r" b="b"/>
              <a:pathLst>
                <a:path w="453" h="570">
                  <a:moveTo>
                    <a:pt x="425" y="0"/>
                  </a:moveTo>
                  <a:lnTo>
                    <a:pt x="427" y="50"/>
                  </a:lnTo>
                  <a:lnTo>
                    <a:pt x="427" y="108"/>
                  </a:lnTo>
                  <a:lnTo>
                    <a:pt x="421" y="175"/>
                  </a:lnTo>
                  <a:lnTo>
                    <a:pt x="409" y="240"/>
                  </a:lnTo>
                  <a:lnTo>
                    <a:pt x="394" y="304"/>
                  </a:lnTo>
                  <a:lnTo>
                    <a:pt x="382" y="349"/>
                  </a:lnTo>
                  <a:lnTo>
                    <a:pt x="369" y="357"/>
                  </a:lnTo>
                  <a:lnTo>
                    <a:pt x="357" y="366"/>
                  </a:lnTo>
                  <a:lnTo>
                    <a:pt x="346" y="414"/>
                  </a:lnTo>
                  <a:lnTo>
                    <a:pt x="346" y="422"/>
                  </a:lnTo>
                  <a:lnTo>
                    <a:pt x="351" y="429"/>
                  </a:lnTo>
                  <a:lnTo>
                    <a:pt x="351" y="438"/>
                  </a:lnTo>
                  <a:lnTo>
                    <a:pt x="345" y="448"/>
                  </a:lnTo>
                  <a:lnTo>
                    <a:pt x="355" y="457"/>
                  </a:lnTo>
                  <a:lnTo>
                    <a:pt x="361" y="465"/>
                  </a:lnTo>
                  <a:lnTo>
                    <a:pt x="366" y="478"/>
                  </a:lnTo>
                  <a:lnTo>
                    <a:pt x="377" y="481"/>
                  </a:lnTo>
                  <a:lnTo>
                    <a:pt x="382" y="486"/>
                  </a:lnTo>
                  <a:lnTo>
                    <a:pt x="386" y="493"/>
                  </a:lnTo>
                  <a:lnTo>
                    <a:pt x="391" y="502"/>
                  </a:lnTo>
                  <a:lnTo>
                    <a:pt x="396" y="510"/>
                  </a:lnTo>
                  <a:lnTo>
                    <a:pt x="425" y="525"/>
                  </a:lnTo>
                  <a:lnTo>
                    <a:pt x="443" y="533"/>
                  </a:lnTo>
                  <a:lnTo>
                    <a:pt x="450" y="541"/>
                  </a:lnTo>
                  <a:lnTo>
                    <a:pt x="453" y="549"/>
                  </a:lnTo>
                  <a:lnTo>
                    <a:pt x="453" y="564"/>
                  </a:lnTo>
                  <a:lnTo>
                    <a:pt x="439" y="567"/>
                  </a:lnTo>
                  <a:lnTo>
                    <a:pt x="419" y="570"/>
                  </a:lnTo>
                  <a:lnTo>
                    <a:pt x="388" y="568"/>
                  </a:lnTo>
                  <a:lnTo>
                    <a:pt x="360" y="564"/>
                  </a:lnTo>
                  <a:lnTo>
                    <a:pt x="328" y="553"/>
                  </a:lnTo>
                  <a:lnTo>
                    <a:pt x="305" y="542"/>
                  </a:lnTo>
                  <a:lnTo>
                    <a:pt x="287" y="530"/>
                  </a:lnTo>
                  <a:lnTo>
                    <a:pt x="268" y="529"/>
                  </a:lnTo>
                  <a:lnTo>
                    <a:pt x="254" y="527"/>
                  </a:lnTo>
                  <a:lnTo>
                    <a:pt x="239" y="523"/>
                  </a:lnTo>
                  <a:lnTo>
                    <a:pt x="226" y="517"/>
                  </a:lnTo>
                  <a:lnTo>
                    <a:pt x="223" y="501"/>
                  </a:lnTo>
                  <a:lnTo>
                    <a:pt x="224" y="487"/>
                  </a:lnTo>
                  <a:lnTo>
                    <a:pt x="226" y="475"/>
                  </a:lnTo>
                  <a:lnTo>
                    <a:pt x="230" y="463"/>
                  </a:lnTo>
                  <a:lnTo>
                    <a:pt x="234" y="451"/>
                  </a:lnTo>
                  <a:lnTo>
                    <a:pt x="239" y="440"/>
                  </a:lnTo>
                  <a:lnTo>
                    <a:pt x="245" y="429"/>
                  </a:lnTo>
                  <a:lnTo>
                    <a:pt x="245" y="418"/>
                  </a:lnTo>
                  <a:lnTo>
                    <a:pt x="245" y="406"/>
                  </a:lnTo>
                  <a:lnTo>
                    <a:pt x="250" y="398"/>
                  </a:lnTo>
                  <a:lnTo>
                    <a:pt x="254" y="391"/>
                  </a:lnTo>
                  <a:lnTo>
                    <a:pt x="254" y="351"/>
                  </a:lnTo>
                  <a:lnTo>
                    <a:pt x="239" y="343"/>
                  </a:lnTo>
                  <a:lnTo>
                    <a:pt x="241" y="334"/>
                  </a:lnTo>
                  <a:lnTo>
                    <a:pt x="244" y="324"/>
                  </a:lnTo>
                  <a:lnTo>
                    <a:pt x="244" y="311"/>
                  </a:lnTo>
                  <a:lnTo>
                    <a:pt x="241" y="296"/>
                  </a:lnTo>
                  <a:lnTo>
                    <a:pt x="244" y="274"/>
                  </a:lnTo>
                  <a:lnTo>
                    <a:pt x="250" y="245"/>
                  </a:lnTo>
                  <a:lnTo>
                    <a:pt x="258" y="215"/>
                  </a:lnTo>
                  <a:lnTo>
                    <a:pt x="268" y="184"/>
                  </a:lnTo>
                  <a:lnTo>
                    <a:pt x="250" y="207"/>
                  </a:lnTo>
                  <a:lnTo>
                    <a:pt x="228" y="230"/>
                  </a:lnTo>
                  <a:lnTo>
                    <a:pt x="210" y="249"/>
                  </a:lnTo>
                  <a:lnTo>
                    <a:pt x="188" y="268"/>
                  </a:lnTo>
                  <a:lnTo>
                    <a:pt x="170" y="282"/>
                  </a:lnTo>
                  <a:lnTo>
                    <a:pt x="147" y="301"/>
                  </a:lnTo>
                  <a:lnTo>
                    <a:pt x="126" y="317"/>
                  </a:lnTo>
                  <a:lnTo>
                    <a:pt x="100" y="333"/>
                  </a:lnTo>
                  <a:lnTo>
                    <a:pt x="74" y="348"/>
                  </a:lnTo>
                  <a:lnTo>
                    <a:pt x="51" y="356"/>
                  </a:lnTo>
                  <a:lnTo>
                    <a:pt x="28" y="365"/>
                  </a:lnTo>
                  <a:lnTo>
                    <a:pt x="7" y="372"/>
                  </a:lnTo>
                  <a:lnTo>
                    <a:pt x="0" y="3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2809800" y="3770280"/>
              <a:ext cx="206280" cy="195120"/>
            </a:xfrm>
            <a:custGeom>
              <a:avLst/>
              <a:gdLst/>
              <a:ahLst/>
              <a:rect l="l" t="t" r="r" b="b"/>
              <a:pathLst>
                <a:path w="650" h="614">
                  <a:moveTo>
                    <a:pt x="0" y="5"/>
                  </a:moveTo>
                  <a:lnTo>
                    <a:pt x="7" y="4"/>
                  </a:lnTo>
                  <a:lnTo>
                    <a:pt x="32" y="0"/>
                  </a:lnTo>
                  <a:lnTo>
                    <a:pt x="50" y="0"/>
                  </a:lnTo>
                  <a:lnTo>
                    <a:pt x="70" y="4"/>
                  </a:lnTo>
                  <a:lnTo>
                    <a:pt x="84" y="8"/>
                  </a:lnTo>
                  <a:lnTo>
                    <a:pt x="98" y="15"/>
                  </a:lnTo>
                  <a:lnTo>
                    <a:pt x="111" y="28"/>
                  </a:lnTo>
                  <a:lnTo>
                    <a:pt x="122" y="45"/>
                  </a:lnTo>
                  <a:lnTo>
                    <a:pt x="139" y="77"/>
                  </a:lnTo>
                  <a:lnTo>
                    <a:pt x="157" y="117"/>
                  </a:lnTo>
                  <a:lnTo>
                    <a:pt x="165" y="127"/>
                  </a:lnTo>
                  <a:lnTo>
                    <a:pt x="168" y="135"/>
                  </a:lnTo>
                  <a:lnTo>
                    <a:pt x="167" y="143"/>
                  </a:lnTo>
                  <a:lnTo>
                    <a:pt x="159" y="149"/>
                  </a:lnTo>
                  <a:lnTo>
                    <a:pt x="134" y="157"/>
                  </a:lnTo>
                  <a:lnTo>
                    <a:pt x="137" y="178"/>
                  </a:lnTo>
                  <a:lnTo>
                    <a:pt x="139" y="198"/>
                  </a:lnTo>
                  <a:lnTo>
                    <a:pt x="139" y="213"/>
                  </a:lnTo>
                  <a:lnTo>
                    <a:pt x="151" y="215"/>
                  </a:lnTo>
                  <a:lnTo>
                    <a:pt x="165" y="243"/>
                  </a:lnTo>
                  <a:lnTo>
                    <a:pt x="278" y="362"/>
                  </a:lnTo>
                  <a:lnTo>
                    <a:pt x="283" y="370"/>
                  </a:lnTo>
                  <a:lnTo>
                    <a:pt x="284" y="379"/>
                  </a:lnTo>
                  <a:lnTo>
                    <a:pt x="283" y="386"/>
                  </a:lnTo>
                  <a:lnTo>
                    <a:pt x="278" y="391"/>
                  </a:lnTo>
                  <a:lnTo>
                    <a:pt x="272" y="393"/>
                  </a:lnTo>
                  <a:lnTo>
                    <a:pt x="272" y="402"/>
                  </a:lnTo>
                  <a:lnTo>
                    <a:pt x="269" y="410"/>
                  </a:lnTo>
                  <a:lnTo>
                    <a:pt x="265" y="414"/>
                  </a:lnTo>
                  <a:lnTo>
                    <a:pt x="269" y="420"/>
                  </a:lnTo>
                  <a:lnTo>
                    <a:pt x="272" y="426"/>
                  </a:lnTo>
                  <a:lnTo>
                    <a:pt x="280" y="437"/>
                  </a:lnTo>
                  <a:lnTo>
                    <a:pt x="292" y="444"/>
                  </a:lnTo>
                  <a:lnTo>
                    <a:pt x="303" y="451"/>
                  </a:lnTo>
                  <a:lnTo>
                    <a:pt x="312" y="460"/>
                  </a:lnTo>
                  <a:lnTo>
                    <a:pt x="323" y="466"/>
                  </a:lnTo>
                  <a:lnTo>
                    <a:pt x="349" y="458"/>
                  </a:lnTo>
                  <a:lnTo>
                    <a:pt x="364" y="454"/>
                  </a:lnTo>
                  <a:lnTo>
                    <a:pt x="378" y="451"/>
                  </a:lnTo>
                  <a:lnTo>
                    <a:pt x="388" y="447"/>
                  </a:lnTo>
                  <a:lnTo>
                    <a:pt x="430" y="420"/>
                  </a:lnTo>
                  <a:lnTo>
                    <a:pt x="482" y="362"/>
                  </a:lnTo>
                  <a:lnTo>
                    <a:pt x="488" y="363"/>
                  </a:lnTo>
                  <a:lnTo>
                    <a:pt x="519" y="330"/>
                  </a:lnTo>
                  <a:lnTo>
                    <a:pt x="520" y="322"/>
                  </a:lnTo>
                  <a:lnTo>
                    <a:pt x="525" y="314"/>
                  </a:lnTo>
                  <a:lnTo>
                    <a:pt x="534" y="304"/>
                  </a:lnTo>
                  <a:lnTo>
                    <a:pt x="650" y="301"/>
                  </a:lnTo>
                  <a:lnTo>
                    <a:pt x="573" y="345"/>
                  </a:lnTo>
                  <a:lnTo>
                    <a:pt x="558" y="362"/>
                  </a:lnTo>
                  <a:lnTo>
                    <a:pt x="536" y="400"/>
                  </a:lnTo>
                  <a:lnTo>
                    <a:pt x="539" y="410"/>
                  </a:lnTo>
                  <a:lnTo>
                    <a:pt x="479" y="510"/>
                  </a:lnTo>
                  <a:lnTo>
                    <a:pt x="461" y="564"/>
                  </a:lnTo>
                  <a:lnTo>
                    <a:pt x="438" y="581"/>
                  </a:lnTo>
                  <a:lnTo>
                    <a:pt x="415" y="596"/>
                  </a:lnTo>
                  <a:lnTo>
                    <a:pt x="385" y="610"/>
                  </a:lnTo>
                  <a:lnTo>
                    <a:pt x="366" y="613"/>
                  </a:lnTo>
                  <a:lnTo>
                    <a:pt x="348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86056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2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4" y="148"/>
                  </a:lnTo>
                  <a:lnTo>
                    <a:pt x="143" y="162"/>
                  </a:lnTo>
                  <a:lnTo>
                    <a:pt x="144" y="168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0"/>
                  </a:lnTo>
                  <a:lnTo>
                    <a:pt x="164" y="180"/>
                  </a:lnTo>
                  <a:lnTo>
                    <a:pt x="167" y="180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9" y="55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5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1"/>
                  </a:lnTo>
                  <a:lnTo>
                    <a:pt x="259" y="26"/>
                  </a:lnTo>
                  <a:lnTo>
                    <a:pt x="263" y="33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59" y="50"/>
                  </a:lnTo>
                  <a:lnTo>
                    <a:pt x="250" y="50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3"/>
                  </a:lnTo>
                  <a:lnTo>
                    <a:pt x="250" y="28"/>
                  </a:lnTo>
                  <a:lnTo>
                    <a:pt x="244" y="24"/>
                  </a:lnTo>
                  <a:lnTo>
                    <a:pt x="126" y="24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0"/>
                  </a:lnTo>
                  <a:lnTo>
                    <a:pt x="259" y="50"/>
                  </a:lnTo>
                  <a:lnTo>
                    <a:pt x="607" y="50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0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59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8" y="87"/>
                  </a:lnTo>
                  <a:lnTo>
                    <a:pt x="829" y="82"/>
                  </a:lnTo>
                  <a:lnTo>
                    <a:pt x="662" y="82"/>
                  </a:lnTo>
                  <a:lnTo>
                    <a:pt x="662" y="90"/>
                  </a:lnTo>
                  <a:lnTo>
                    <a:pt x="648" y="90"/>
                  </a:lnTo>
                  <a:lnTo>
                    <a:pt x="648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10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2936880" y="4205160"/>
              <a:ext cx="341280" cy="374760"/>
            </a:xfrm>
            <a:custGeom>
              <a:avLst/>
              <a:gdLst/>
              <a:ahLst/>
              <a:rect l="l" t="t" r="r" b="b"/>
              <a:pathLst>
                <a:path w="1078" h="1184">
                  <a:moveTo>
                    <a:pt x="566" y="620"/>
                  </a:moveTo>
                  <a:lnTo>
                    <a:pt x="586" y="606"/>
                  </a:lnTo>
                  <a:lnTo>
                    <a:pt x="605" y="594"/>
                  </a:lnTo>
                  <a:lnTo>
                    <a:pt x="623" y="585"/>
                  </a:lnTo>
                  <a:lnTo>
                    <a:pt x="641" y="576"/>
                  </a:lnTo>
                  <a:lnTo>
                    <a:pt x="606" y="553"/>
                  </a:lnTo>
                  <a:lnTo>
                    <a:pt x="589" y="542"/>
                  </a:lnTo>
                  <a:lnTo>
                    <a:pt x="571" y="528"/>
                  </a:lnTo>
                  <a:lnTo>
                    <a:pt x="573" y="551"/>
                  </a:lnTo>
                  <a:lnTo>
                    <a:pt x="570" y="573"/>
                  </a:lnTo>
                  <a:lnTo>
                    <a:pt x="566" y="620"/>
                  </a:lnTo>
                  <a:close/>
                  <a:moveTo>
                    <a:pt x="351" y="1008"/>
                  </a:moveTo>
                  <a:lnTo>
                    <a:pt x="304" y="971"/>
                  </a:lnTo>
                  <a:lnTo>
                    <a:pt x="256" y="932"/>
                  </a:lnTo>
                  <a:lnTo>
                    <a:pt x="210" y="893"/>
                  </a:lnTo>
                  <a:lnTo>
                    <a:pt x="166" y="852"/>
                  </a:lnTo>
                  <a:lnTo>
                    <a:pt x="123" y="810"/>
                  </a:lnTo>
                  <a:lnTo>
                    <a:pt x="81" y="767"/>
                  </a:lnTo>
                  <a:lnTo>
                    <a:pt x="40" y="723"/>
                  </a:lnTo>
                  <a:lnTo>
                    <a:pt x="0" y="678"/>
                  </a:lnTo>
                  <a:lnTo>
                    <a:pt x="6" y="672"/>
                  </a:lnTo>
                  <a:lnTo>
                    <a:pt x="9" y="660"/>
                  </a:lnTo>
                  <a:lnTo>
                    <a:pt x="10" y="653"/>
                  </a:lnTo>
                  <a:lnTo>
                    <a:pt x="14" y="647"/>
                  </a:lnTo>
                  <a:lnTo>
                    <a:pt x="32" y="642"/>
                  </a:lnTo>
                  <a:lnTo>
                    <a:pt x="24" y="629"/>
                  </a:lnTo>
                  <a:lnTo>
                    <a:pt x="30" y="608"/>
                  </a:lnTo>
                  <a:lnTo>
                    <a:pt x="32" y="602"/>
                  </a:lnTo>
                  <a:lnTo>
                    <a:pt x="33" y="599"/>
                  </a:lnTo>
                  <a:lnTo>
                    <a:pt x="38" y="599"/>
                  </a:lnTo>
                  <a:lnTo>
                    <a:pt x="38" y="593"/>
                  </a:lnTo>
                  <a:lnTo>
                    <a:pt x="66" y="593"/>
                  </a:lnTo>
                  <a:lnTo>
                    <a:pt x="66" y="599"/>
                  </a:lnTo>
                  <a:lnTo>
                    <a:pt x="70" y="599"/>
                  </a:lnTo>
                  <a:lnTo>
                    <a:pt x="73" y="602"/>
                  </a:lnTo>
                  <a:lnTo>
                    <a:pt x="75" y="609"/>
                  </a:lnTo>
                  <a:lnTo>
                    <a:pt x="76" y="619"/>
                  </a:lnTo>
                  <a:lnTo>
                    <a:pt x="76" y="629"/>
                  </a:lnTo>
                  <a:lnTo>
                    <a:pt x="75" y="635"/>
                  </a:lnTo>
                  <a:lnTo>
                    <a:pt x="72" y="638"/>
                  </a:lnTo>
                  <a:lnTo>
                    <a:pt x="76" y="642"/>
                  </a:lnTo>
                  <a:lnTo>
                    <a:pt x="83" y="642"/>
                  </a:lnTo>
                  <a:lnTo>
                    <a:pt x="87" y="638"/>
                  </a:lnTo>
                  <a:lnTo>
                    <a:pt x="92" y="634"/>
                  </a:lnTo>
                  <a:lnTo>
                    <a:pt x="90" y="627"/>
                  </a:lnTo>
                  <a:lnTo>
                    <a:pt x="76" y="629"/>
                  </a:lnTo>
                  <a:lnTo>
                    <a:pt x="76" y="619"/>
                  </a:lnTo>
                  <a:lnTo>
                    <a:pt x="93" y="617"/>
                  </a:lnTo>
                  <a:lnTo>
                    <a:pt x="98" y="619"/>
                  </a:lnTo>
                  <a:lnTo>
                    <a:pt x="102" y="620"/>
                  </a:lnTo>
                  <a:lnTo>
                    <a:pt x="107" y="623"/>
                  </a:lnTo>
                  <a:lnTo>
                    <a:pt x="104" y="604"/>
                  </a:lnTo>
                  <a:lnTo>
                    <a:pt x="99" y="585"/>
                  </a:lnTo>
                  <a:lnTo>
                    <a:pt x="128" y="459"/>
                  </a:lnTo>
                  <a:lnTo>
                    <a:pt x="136" y="438"/>
                  </a:lnTo>
                  <a:lnTo>
                    <a:pt x="142" y="422"/>
                  </a:lnTo>
                  <a:lnTo>
                    <a:pt x="151" y="409"/>
                  </a:lnTo>
                  <a:lnTo>
                    <a:pt x="144" y="380"/>
                  </a:lnTo>
                  <a:lnTo>
                    <a:pt x="141" y="360"/>
                  </a:lnTo>
                  <a:lnTo>
                    <a:pt x="142" y="341"/>
                  </a:lnTo>
                  <a:lnTo>
                    <a:pt x="148" y="320"/>
                  </a:lnTo>
                  <a:lnTo>
                    <a:pt x="163" y="294"/>
                  </a:lnTo>
                  <a:lnTo>
                    <a:pt x="179" y="272"/>
                  </a:lnTo>
                  <a:lnTo>
                    <a:pt x="200" y="252"/>
                  </a:lnTo>
                  <a:lnTo>
                    <a:pt x="222" y="239"/>
                  </a:lnTo>
                  <a:lnTo>
                    <a:pt x="234" y="226"/>
                  </a:lnTo>
                  <a:lnTo>
                    <a:pt x="248" y="218"/>
                  </a:lnTo>
                  <a:lnTo>
                    <a:pt x="261" y="214"/>
                  </a:lnTo>
                  <a:lnTo>
                    <a:pt x="274" y="214"/>
                  </a:lnTo>
                  <a:lnTo>
                    <a:pt x="289" y="218"/>
                  </a:lnTo>
                  <a:lnTo>
                    <a:pt x="321" y="211"/>
                  </a:lnTo>
                  <a:lnTo>
                    <a:pt x="326" y="199"/>
                  </a:lnTo>
                  <a:lnTo>
                    <a:pt x="320" y="179"/>
                  </a:lnTo>
                  <a:lnTo>
                    <a:pt x="324" y="178"/>
                  </a:lnTo>
                  <a:lnTo>
                    <a:pt x="320" y="156"/>
                  </a:lnTo>
                  <a:lnTo>
                    <a:pt x="318" y="135"/>
                  </a:lnTo>
                  <a:lnTo>
                    <a:pt x="318" y="112"/>
                  </a:lnTo>
                  <a:lnTo>
                    <a:pt x="324" y="89"/>
                  </a:lnTo>
                  <a:lnTo>
                    <a:pt x="332" y="64"/>
                  </a:lnTo>
                  <a:lnTo>
                    <a:pt x="346" y="46"/>
                  </a:lnTo>
                  <a:lnTo>
                    <a:pt x="357" y="34"/>
                  </a:lnTo>
                  <a:lnTo>
                    <a:pt x="389" y="18"/>
                  </a:lnTo>
                  <a:lnTo>
                    <a:pt x="412" y="9"/>
                  </a:lnTo>
                  <a:lnTo>
                    <a:pt x="434" y="3"/>
                  </a:lnTo>
                  <a:lnTo>
                    <a:pt x="459" y="0"/>
                  </a:lnTo>
                  <a:lnTo>
                    <a:pt x="477" y="0"/>
                  </a:lnTo>
                  <a:lnTo>
                    <a:pt x="497" y="3"/>
                  </a:lnTo>
                  <a:lnTo>
                    <a:pt x="512" y="8"/>
                  </a:lnTo>
                  <a:lnTo>
                    <a:pt x="525" y="14"/>
                  </a:lnTo>
                  <a:lnTo>
                    <a:pt x="538" y="27"/>
                  </a:lnTo>
                  <a:lnTo>
                    <a:pt x="550" y="44"/>
                  </a:lnTo>
                  <a:lnTo>
                    <a:pt x="566" y="77"/>
                  </a:lnTo>
                  <a:lnTo>
                    <a:pt x="585" y="117"/>
                  </a:lnTo>
                  <a:lnTo>
                    <a:pt x="592" y="127"/>
                  </a:lnTo>
                  <a:lnTo>
                    <a:pt x="596" y="135"/>
                  </a:lnTo>
                  <a:lnTo>
                    <a:pt x="594" y="142"/>
                  </a:lnTo>
                  <a:lnTo>
                    <a:pt x="586" y="148"/>
                  </a:lnTo>
                  <a:lnTo>
                    <a:pt x="562" y="156"/>
                  </a:lnTo>
                  <a:lnTo>
                    <a:pt x="565" y="178"/>
                  </a:lnTo>
                  <a:lnTo>
                    <a:pt x="566" y="198"/>
                  </a:lnTo>
                  <a:lnTo>
                    <a:pt x="566" y="213"/>
                  </a:lnTo>
                  <a:lnTo>
                    <a:pt x="577" y="214"/>
                  </a:lnTo>
                  <a:lnTo>
                    <a:pt x="592" y="242"/>
                  </a:lnTo>
                  <a:lnTo>
                    <a:pt x="704" y="361"/>
                  </a:lnTo>
                  <a:lnTo>
                    <a:pt x="710" y="369"/>
                  </a:lnTo>
                  <a:lnTo>
                    <a:pt x="712" y="378"/>
                  </a:lnTo>
                  <a:lnTo>
                    <a:pt x="710" y="386"/>
                  </a:lnTo>
                  <a:lnTo>
                    <a:pt x="704" y="390"/>
                  </a:lnTo>
                  <a:lnTo>
                    <a:pt x="700" y="392"/>
                  </a:lnTo>
                  <a:lnTo>
                    <a:pt x="700" y="401"/>
                  </a:lnTo>
                  <a:lnTo>
                    <a:pt x="696" y="409"/>
                  </a:lnTo>
                  <a:lnTo>
                    <a:pt x="692" y="415"/>
                  </a:lnTo>
                  <a:lnTo>
                    <a:pt x="696" y="419"/>
                  </a:lnTo>
                  <a:lnTo>
                    <a:pt x="700" y="426"/>
                  </a:lnTo>
                  <a:lnTo>
                    <a:pt x="707" y="436"/>
                  </a:lnTo>
                  <a:lnTo>
                    <a:pt x="720" y="444"/>
                  </a:lnTo>
                  <a:lnTo>
                    <a:pt x="730" y="450"/>
                  </a:lnTo>
                  <a:lnTo>
                    <a:pt x="739" y="459"/>
                  </a:lnTo>
                  <a:lnTo>
                    <a:pt x="750" y="465"/>
                  </a:lnTo>
                  <a:lnTo>
                    <a:pt x="776" y="457"/>
                  </a:lnTo>
                  <a:lnTo>
                    <a:pt x="790" y="453"/>
                  </a:lnTo>
                  <a:lnTo>
                    <a:pt x="805" y="450"/>
                  </a:lnTo>
                  <a:lnTo>
                    <a:pt x="816" y="447"/>
                  </a:lnTo>
                  <a:lnTo>
                    <a:pt x="857" y="419"/>
                  </a:lnTo>
                  <a:lnTo>
                    <a:pt x="909" y="361"/>
                  </a:lnTo>
                  <a:lnTo>
                    <a:pt x="916" y="363"/>
                  </a:lnTo>
                  <a:lnTo>
                    <a:pt x="946" y="329"/>
                  </a:lnTo>
                  <a:lnTo>
                    <a:pt x="948" y="322"/>
                  </a:lnTo>
                  <a:lnTo>
                    <a:pt x="952" y="314"/>
                  </a:lnTo>
                  <a:lnTo>
                    <a:pt x="960" y="303"/>
                  </a:lnTo>
                  <a:lnTo>
                    <a:pt x="1078" y="300"/>
                  </a:lnTo>
                  <a:lnTo>
                    <a:pt x="1000" y="344"/>
                  </a:lnTo>
                  <a:lnTo>
                    <a:pt x="986" y="361"/>
                  </a:lnTo>
                  <a:lnTo>
                    <a:pt x="963" y="399"/>
                  </a:lnTo>
                  <a:lnTo>
                    <a:pt x="966" y="409"/>
                  </a:lnTo>
                  <a:lnTo>
                    <a:pt x="906" y="510"/>
                  </a:lnTo>
                  <a:lnTo>
                    <a:pt x="888" y="563"/>
                  </a:lnTo>
                  <a:lnTo>
                    <a:pt x="865" y="580"/>
                  </a:lnTo>
                  <a:lnTo>
                    <a:pt x="842" y="596"/>
                  </a:lnTo>
                  <a:lnTo>
                    <a:pt x="813" y="609"/>
                  </a:lnTo>
                  <a:lnTo>
                    <a:pt x="793" y="612"/>
                  </a:lnTo>
                  <a:lnTo>
                    <a:pt x="775" y="614"/>
                  </a:lnTo>
                  <a:lnTo>
                    <a:pt x="778" y="663"/>
                  </a:lnTo>
                  <a:lnTo>
                    <a:pt x="778" y="721"/>
                  </a:lnTo>
                  <a:lnTo>
                    <a:pt x="772" y="788"/>
                  </a:lnTo>
                  <a:lnTo>
                    <a:pt x="759" y="853"/>
                  </a:lnTo>
                  <a:lnTo>
                    <a:pt x="744" y="917"/>
                  </a:lnTo>
                  <a:lnTo>
                    <a:pt x="732" y="962"/>
                  </a:lnTo>
                  <a:lnTo>
                    <a:pt x="720" y="970"/>
                  </a:lnTo>
                  <a:lnTo>
                    <a:pt x="707" y="980"/>
                  </a:lnTo>
                  <a:lnTo>
                    <a:pt x="697" y="1027"/>
                  </a:lnTo>
                  <a:lnTo>
                    <a:pt x="697" y="1035"/>
                  </a:lnTo>
                  <a:lnTo>
                    <a:pt x="701" y="1043"/>
                  </a:lnTo>
                  <a:lnTo>
                    <a:pt x="701" y="1051"/>
                  </a:lnTo>
                  <a:lnTo>
                    <a:pt x="695" y="1061"/>
                  </a:lnTo>
                  <a:lnTo>
                    <a:pt x="705" y="1070"/>
                  </a:lnTo>
                  <a:lnTo>
                    <a:pt x="712" y="1078"/>
                  </a:lnTo>
                  <a:lnTo>
                    <a:pt x="716" y="1091"/>
                  </a:lnTo>
                  <a:lnTo>
                    <a:pt x="726" y="1094"/>
                  </a:lnTo>
                  <a:lnTo>
                    <a:pt x="732" y="1099"/>
                  </a:lnTo>
                  <a:lnTo>
                    <a:pt x="736" y="1108"/>
                  </a:lnTo>
                  <a:lnTo>
                    <a:pt x="741" y="1116"/>
                  </a:lnTo>
                  <a:lnTo>
                    <a:pt x="746" y="1124"/>
                  </a:lnTo>
                  <a:lnTo>
                    <a:pt x="775" y="1139"/>
                  </a:lnTo>
                  <a:lnTo>
                    <a:pt x="793" y="1147"/>
                  </a:lnTo>
                  <a:lnTo>
                    <a:pt x="801" y="1154"/>
                  </a:lnTo>
                  <a:lnTo>
                    <a:pt x="804" y="1162"/>
                  </a:lnTo>
                  <a:lnTo>
                    <a:pt x="804" y="1177"/>
                  </a:lnTo>
                  <a:lnTo>
                    <a:pt x="789" y="1180"/>
                  </a:lnTo>
                  <a:lnTo>
                    <a:pt x="769" y="1184"/>
                  </a:lnTo>
                  <a:lnTo>
                    <a:pt x="738" y="1182"/>
                  </a:lnTo>
                  <a:lnTo>
                    <a:pt x="710" y="1177"/>
                  </a:lnTo>
                  <a:lnTo>
                    <a:pt x="678" y="1167"/>
                  </a:lnTo>
                  <a:lnTo>
                    <a:pt x="656" y="1156"/>
                  </a:lnTo>
                  <a:lnTo>
                    <a:pt x="637" y="1144"/>
                  </a:lnTo>
                  <a:lnTo>
                    <a:pt x="619" y="1142"/>
                  </a:lnTo>
                  <a:lnTo>
                    <a:pt x="605" y="1141"/>
                  </a:lnTo>
                  <a:lnTo>
                    <a:pt x="590" y="1136"/>
                  </a:lnTo>
                  <a:lnTo>
                    <a:pt x="576" y="1131"/>
                  </a:lnTo>
                  <a:lnTo>
                    <a:pt x="573" y="1114"/>
                  </a:lnTo>
                  <a:lnTo>
                    <a:pt x="574" y="1101"/>
                  </a:lnTo>
                  <a:lnTo>
                    <a:pt x="576" y="1088"/>
                  </a:lnTo>
                  <a:lnTo>
                    <a:pt x="580" y="1076"/>
                  </a:lnTo>
                  <a:lnTo>
                    <a:pt x="585" y="1064"/>
                  </a:lnTo>
                  <a:lnTo>
                    <a:pt x="590" y="1053"/>
                  </a:lnTo>
                  <a:lnTo>
                    <a:pt x="596" y="1043"/>
                  </a:lnTo>
                  <a:lnTo>
                    <a:pt x="596" y="1032"/>
                  </a:lnTo>
                  <a:lnTo>
                    <a:pt x="596" y="1019"/>
                  </a:lnTo>
                  <a:lnTo>
                    <a:pt x="599" y="1012"/>
                  </a:lnTo>
                  <a:lnTo>
                    <a:pt x="605" y="1004"/>
                  </a:lnTo>
                  <a:lnTo>
                    <a:pt x="605" y="964"/>
                  </a:lnTo>
                  <a:lnTo>
                    <a:pt x="590" y="957"/>
                  </a:lnTo>
                  <a:lnTo>
                    <a:pt x="591" y="947"/>
                  </a:lnTo>
                  <a:lnTo>
                    <a:pt x="594" y="937"/>
                  </a:lnTo>
                  <a:lnTo>
                    <a:pt x="594" y="925"/>
                  </a:lnTo>
                  <a:lnTo>
                    <a:pt x="591" y="910"/>
                  </a:lnTo>
                  <a:lnTo>
                    <a:pt x="594" y="888"/>
                  </a:lnTo>
                  <a:lnTo>
                    <a:pt x="599" y="859"/>
                  </a:lnTo>
                  <a:lnTo>
                    <a:pt x="608" y="828"/>
                  </a:lnTo>
                  <a:lnTo>
                    <a:pt x="619" y="797"/>
                  </a:lnTo>
                  <a:lnTo>
                    <a:pt x="599" y="820"/>
                  </a:lnTo>
                  <a:lnTo>
                    <a:pt x="577" y="843"/>
                  </a:lnTo>
                  <a:lnTo>
                    <a:pt x="560" y="862"/>
                  </a:lnTo>
                  <a:lnTo>
                    <a:pt x="539" y="882"/>
                  </a:lnTo>
                  <a:lnTo>
                    <a:pt x="520" y="896"/>
                  </a:lnTo>
                  <a:lnTo>
                    <a:pt x="498" y="914"/>
                  </a:lnTo>
                  <a:lnTo>
                    <a:pt x="476" y="931"/>
                  </a:lnTo>
                  <a:lnTo>
                    <a:pt x="449" y="946"/>
                  </a:lnTo>
                  <a:lnTo>
                    <a:pt x="424" y="961"/>
                  </a:lnTo>
                  <a:lnTo>
                    <a:pt x="401" y="969"/>
                  </a:lnTo>
                  <a:lnTo>
                    <a:pt x="378" y="978"/>
                  </a:lnTo>
                  <a:lnTo>
                    <a:pt x="357" y="986"/>
                  </a:lnTo>
                  <a:lnTo>
                    <a:pt x="351" y="1008"/>
                  </a:lnTo>
                  <a:close/>
                  <a:moveTo>
                    <a:pt x="105" y="642"/>
                  </a:moveTo>
                  <a:lnTo>
                    <a:pt x="98" y="650"/>
                  </a:lnTo>
                  <a:lnTo>
                    <a:pt x="101" y="655"/>
                  </a:lnTo>
                  <a:lnTo>
                    <a:pt x="104" y="661"/>
                  </a:lnTo>
                  <a:lnTo>
                    <a:pt x="105" y="655"/>
                  </a:lnTo>
                  <a:lnTo>
                    <a:pt x="107" y="649"/>
                  </a:lnTo>
                  <a:lnTo>
                    <a:pt x="105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3048120" y="4398840"/>
              <a:ext cx="144360" cy="181080"/>
            </a:xfrm>
            <a:custGeom>
              <a:avLst/>
              <a:gdLst/>
              <a:ahLst/>
              <a:rect l="l" t="t" r="r" b="b"/>
              <a:pathLst>
                <a:path w="453" h="570">
                  <a:moveTo>
                    <a:pt x="424" y="0"/>
                  </a:moveTo>
                  <a:lnTo>
                    <a:pt x="427" y="49"/>
                  </a:lnTo>
                  <a:lnTo>
                    <a:pt x="427" y="107"/>
                  </a:lnTo>
                  <a:lnTo>
                    <a:pt x="421" y="174"/>
                  </a:lnTo>
                  <a:lnTo>
                    <a:pt x="408" y="239"/>
                  </a:lnTo>
                  <a:lnTo>
                    <a:pt x="393" y="303"/>
                  </a:lnTo>
                  <a:lnTo>
                    <a:pt x="381" y="348"/>
                  </a:lnTo>
                  <a:lnTo>
                    <a:pt x="369" y="356"/>
                  </a:lnTo>
                  <a:lnTo>
                    <a:pt x="356" y="366"/>
                  </a:lnTo>
                  <a:lnTo>
                    <a:pt x="346" y="413"/>
                  </a:lnTo>
                  <a:lnTo>
                    <a:pt x="346" y="421"/>
                  </a:lnTo>
                  <a:lnTo>
                    <a:pt x="350" y="429"/>
                  </a:lnTo>
                  <a:lnTo>
                    <a:pt x="350" y="437"/>
                  </a:lnTo>
                  <a:lnTo>
                    <a:pt x="344" y="447"/>
                  </a:lnTo>
                  <a:lnTo>
                    <a:pt x="354" y="456"/>
                  </a:lnTo>
                  <a:lnTo>
                    <a:pt x="361" y="464"/>
                  </a:lnTo>
                  <a:lnTo>
                    <a:pt x="365" y="477"/>
                  </a:lnTo>
                  <a:lnTo>
                    <a:pt x="375" y="480"/>
                  </a:lnTo>
                  <a:lnTo>
                    <a:pt x="381" y="485"/>
                  </a:lnTo>
                  <a:lnTo>
                    <a:pt x="385" y="494"/>
                  </a:lnTo>
                  <a:lnTo>
                    <a:pt x="390" y="502"/>
                  </a:lnTo>
                  <a:lnTo>
                    <a:pt x="395" y="510"/>
                  </a:lnTo>
                  <a:lnTo>
                    <a:pt x="424" y="525"/>
                  </a:lnTo>
                  <a:lnTo>
                    <a:pt x="442" y="533"/>
                  </a:lnTo>
                  <a:lnTo>
                    <a:pt x="450" y="540"/>
                  </a:lnTo>
                  <a:lnTo>
                    <a:pt x="453" y="548"/>
                  </a:lnTo>
                  <a:lnTo>
                    <a:pt x="453" y="563"/>
                  </a:lnTo>
                  <a:lnTo>
                    <a:pt x="438" y="566"/>
                  </a:lnTo>
                  <a:lnTo>
                    <a:pt x="418" y="570"/>
                  </a:lnTo>
                  <a:lnTo>
                    <a:pt x="387" y="568"/>
                  </a:lnTo>
                  <a:lnTo>
                    <a:pt x="359" y="563"/>
                  </a:lnTo>
                  <a:lnTo>
                    <a:pt x="327" y="553"/>
                  </a:lnTo>
                  <a:lnTo>
                    <a:pt x="305" y="542"/>
                  </a:lnTo>
                  <a:lnTo>
                    <a:pt x="286" y="530"/>
                  </a:lnTo>
                  <a:lnTo>
                    <a:pt x="268" y="528"/>
                  </a:lnTo>
                  <a:lnTo>
                    <a:pt x="254" y="527"/>
                  </a:lnTo>
                  <a:lnTo>
                    <a:pt x="239" y="522"/>
                  </a:lnTo>
                  <a:lnTo>
                    <a:pt x="225" y="517"/>
                  </a:lnTo>
                  <a:lnTo>
                    <a:pt x="222" y="500"/>
                  </a:lnTo>
                  <a:lnTo>
                    <a:pt x="223" y="487"/>
                  </a:lnTo>
                  <a:lnTo>
                    <a:pt x="225" y="474"/>
                  </a:lnTo>
                  <a:lnTo>
                    <a:pt x="229" y="462"/>
                  </a:lnTo>
                  <a:lnTo>
                    <a:pt x="234" y="450"/>
                  </a:lnTo>
                  <a:lnTo>
                    <a:pt x="239" y="439"/>
                  </a:lnTo>
                  <a:lnTo>
                    <a:pt x="245" y="429"/>
                  </a:lnTo>
                  <a:lnTo>
                    <a:pt x="245" y="418"/>
                  </a:lnTo>
                  <a:lnTo>
                    <a:pt x="245" y="405"/>
                  </a:lnTo>
                  <a:lnTo>
                    <a:pt x="248" y="398"/>
                  </a:lnTo>
                  <a:lnTo>
                    <a:pt x="254" y="390"/>
                  </a:lnTo>
                  <a:lnTo>
                    <a:pt x="254" y="350"/>
                  </a:lnTo>
                  <a:lnTo>
                    <a:pt x="239" y="343"/>
                  </a:lnTo>
                  <a:lnTo>
                    <a:pt x="240" y="333"/>
                  </a:lnTo>
                  <a:lnTo>
                    <a:pt x="243" y="323"/>
                  </a:lnTo>
                  <a:lnTo>
                    <a:pt x="243" y="311"/>
                  </a:lnTo>
                  <a:lnTo>
                    <a:pt x="240" y="296"/>
                  </a:lnTo>
                  <a:lnTo>
                    <a:pt x="243" y="274"/>
                  </a:lnTo>
                  <a:lnTo>
                    <a:pt x="248" y="245"/>
                  </a:lnTo>
                  <a:lnTo>
                    <a:pt x="257" y="214"/>
                  </a:lnTo>
                  <a:lnTo>
                    <a:pt x="268" y="183"/>
                  </a:lnTo>
                  <a:lnTo>
                    <a:pt x="248" y="206"/>
                  </a:lnTo>
                  <a:lnTo>
                    <a:pt x="226" y="229"/>
                  </a:lnTo>
                  <a:lnTo>
                    <a:pt x="209" y="248"/>
                  </a:lnTo>
                  <a:lnTo>
                    <a:pt x="188" y="268"/>
                  </a:lnTo>
                  <a:lnTo>
                    <a:pt x="169" y="282"/>
                  </a:lnTo>
                  <a:lnTo>
                    <a:pt x="147" y="300"/>
                  </a:lnTo>
                  <a:lnTo>
                    <a:pt x="125" y="317"/>
                  </a:lnTo>
                  <a:lnTo>
                    <a:pt x="98" y="332"/>
                  </a:lnTo>
                  <a:lnTo>
                    <a:pt x="73" y="347"/>
                  </a:lnTo>
                  <a:lnTo>
                    <a:pt x="50" y="355"/>
                  </a:lnTo>
                  <a:lnTo>
                    <a:pt x="27" y="364"/>
                  </a:lnTo>
                  <a:lnTo>
                    <a:pt x="6" y="372"/>
                  </a:lnTo>
                  <a:lnTo>
                    <a:pt x="0" y="3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2936880" y="4205160"/>
              <a:ext cx="341280" cy="214560"/>
            </a:xfrm>
            <a:custGeom>
              <a:avLst/>
              <a:gdLst/>
              <a:ahLst/>
              <a:rect l="l" t="t" r="r" b="b"/>
              <a:pathLst>
                <a:path w="1078" h="678">
                  <a:moveTo>
                    <a:pt x="0" y="678"/>
                  </a:moveTo>
                  <a:lnTo>
                    <a:pt x="6" y="672"/>
                  </a:lnTo>
                  <a:lnTo>
                    <a:pt x="9" y="660"/>
                  </a:lnTo>
                  <a:lnTo>
                    <a:pt x="10" y="653"/>
                  </a:lnTo>
                  <a:lnTo>
                    <a:pt x="14" y="647"/>
                  </a:lnTo>
                  <a:lnTo>
                    <a:pt x="32" y="642"/>
                  </a:lnTo>
                  <a:lnTo>
                    <a:pt x="24" y="629"/>
                  </a:lnTo>
                  <a:lnTo>
                    <a:pt x="30" y="608"/>
                  </a:lnTo>
                  <a:lnTo>
                    <a:pt x="32" y="602"/>
                  </a:lnTo>
                  <a:lnTo>
                    <a:pt x="33" y="599"/>
                  </a:lnTo>
                  <a:lnTo>
                    <a:pt x="38" y="599"/>
                  </a:lnTo>
                  <a:lnTo>
                    <a:pt x="38" y="593"/>
                  </a:lnTo>
                  <a:lnTo>
                    <a:pt x="66" y="593"/>
                  </a:lnTo>
                  <a:lnTo>
                    <a:pt x="66" y="599"/>
                  </a:lnTo>
                  <a:lnTo>
                    <a:pt x="70" y="599"/>
                  </a:lnTo>
                  <a:lnTo>
                    <a:pt x="73" y="602"/>
                  </a:lnTo>
                  <a:lnTo>
                    <a:pt x="75" y="609"/>
                  </a:lnTo>
                  <a:lnTo>
                    <a:pt x="76" y="619"/>
                  </a:lnTo>
                  <a:lnTo>
                    <a:pt x="76" y="629"/>
                  </a:lnTo>
                  <a:lnTo>
                    <a:pt x="75" y="635"/>
                  </a:lnTo>
                  <a:lnTo>
                    <a:pt x="72" y="638"/>
                  </a:lnTo>
                  <a:lnTo>
                    <a:pt x="76" y="642"/>
                  </a:lnTo>
                  <a:lnTo>
                    <a:pt x="83" y="642"/>
                  </a:lnTo>
                  <a:lnTo>
                    <a:pt x="87" y="638"/>
                  </a:lnTo>
                  <a:lnTo>
                    <a:pt x="92" y="634"/>
                  </a:lnTo>
                  <a:lnTo>
                    <a:pt x="90" y="627"/>
                  </a:lnTo>
                  <a:lnTo>
                    <a:pt x="76" y="629"/>
                  </a:lnTo>
                  <a:lnTo>
                    <a:pt x="76" y="619"/>
                  </a:lnTo>
                  <a:lnTo>
                    <a:pt x="93" y="617"/>
                  </a:lnTo>
                  <a:lnTo>
                    <a:pt x="98" y="619"/>
                  </a:lnTo>
                  <a:lnTo>
                    <a:pt x="102" y="620"/>
                  </a:lnTo>
                  <a:lnTo>
                    <a:pt x="107" y="623"/>
                  </a:lnTo>
                  <a:lnTo>
                    <a:pt x="104" y="604"/>
                  </a:lnTo>
                  <a:lnTo>
                    <a:pt x="99" y="585"/>
                  </a:lnTo>
                  <a:lnTo>
                    <a:pt x="128" y="459"/>
                  </a:lnTo>
                  <a:lnTo>
                    <a:pt x="136" y="438"/>
                  </a:lnTo>
                  <a:lnTo>
                    <a:pt x="142" y="422"/>
                  </a:lnTo>
                  <a:lnTo>
                    <a:pt x="151" y="409"/>
                  </a:lnTo>
                  <a:lnTo>
                    <a:pt x="144" y="380"/>
                  </a:lnTo>
                  <a:lnTo>
                    <a:pt x="141" y="360"/>
                  </a:lnTo>
                  <a:lnTo>
                    <a:pt x="142" y="341"/>
                  </a:lnTo>
                  <a:lnTo>
                    <a:pt x="148" y="320"/>
                  </a:lnTo>
                  <a:lnTo>
                    <a:pt x="163" y="294"/>
                  </a:lnTo>
                  <a:lnTo>
                    <a:pt x="179" y="272"/>
                  </a:lnTo>
                  <a:lnTo>
                    <a:pt x="200" y="252"/>
                  </a:lnTo>
                  <a:lnTo>
                    <a:pt x="222" y="239"/>
                  </a:lnTo>
                  <a:lnTo>
                    <a:pt x="234" y="226"/>
                  </a:lnTo>
                  <a:lnTo>
                    <a:pt x="248" y="218"/>
                  </a:lnTo>
                  <a:lnTo>
                    <a:pt x="261" y="214"/>
                  </a:lnTo>
                  <a:lnTo>
                    <a:pt x="274" y="214"/>
                  </a:lnTo>
                  <a:lnTo>
                    <a:pt x="289" y="218"/>
                  </a:lnTo>
                  <a:lnTo>
                    <a:pt x="321" y="211"/>
                  </a:lnTo>
                  <a:lnTo>
                    <a:pt x="326" y="199"/>
                  </a:lnTo>
                  <a:lnTo>
                    <a:pt x="320" y="179"/>
                  </a:lnTo>
                  <a:lnTo>
                    <a:pt x="324" y="178"/>
                  </a:lnTo>
                  <a:lnTo>
                    <a:pt x="320" y="156"/>
                  </a:lnTo>
                  <a:lnTo>
                    <a:pt x="318" y="135"/>
                  </a:lnTo>
                  <a:lnTo>
                    <a:pt x="318" y="112"/>
                  </a:lnTo>
                  <a:lnTo>
                    <a:pt x="324" y="89"/>
                  </a:lnTo>
                  <a:lnTo>
                    <a:pt x="332" y="64"/>
                  </a:lnTo>
                  <a:lnTo>
                    <a:pt x="346" y="46"/>
                  </a:lnTo>
                  <a:lnTo>
                    <a:pt x="357" y="34"/>
                  </a:lnTo>
                  <a:lnTo>
                    <a:pt x="389" y="18"/>
                  </a:lnTo>
                  <a:lnTo>
                    <a:pt x="412" y="9"/>
                  </a:lnTo>
                  <a:lnTo>
                    <a:pt x="434" y="3"/>
                  </a:lnTo>
                  <a:lnTo>
                    <a:pt x="459" y="0"/>
                  </a:lnTo>
                  <a:lnTo>
                    <a:pt x="477" y="0"/>
                  </a:lnTo>
                  <a:lnTo>
                    <a:pt x="497" y="3"/>
                  </a:lnTo>
                  <a:lnTo>
                    <a:pt x="512" y="8"/>
                  </a:lnTo>
                  <a:lnTo>
                    <a:pt x="525" y="14"/>
                  </a:lnTo>
                  <a:lnTo>
                    <a:pt x="538" y="27"/>
                  </a:lnTo>
                  <a:lnTo>
                    <a:pt x="550" y="44"/>
                  </a:lnTo>
                  <a:lnTo>
                    <a:pt x="566" y="77"/>
                  </a:lnTo>
                  <a:lnTo>
                    <a:pt x="585" y="117"/>
                  </a:lnTo>
                  <a:lnTo>
                    <a:pt x="592" y="127"/>
                  </a:lnTo>
                  <a:lnTo>
                    <a:pt x="596" y="135"/>
                  </a:lnTo>
                  <a:lnTo>
                    <a:pt x="594" y="142"/>
                  </a:lnTo>
                  <a:lnTo>
                    <a:pt x="586" y="148"/>
                  </a:lnTo>
                  <a:lnTo>
                    <a:pt x="562" y="156"/>
                  </a:lnTo>
                  <a:lnTo>
                    <a:pt x="565" y="178"/>
                  </a:lnTo>
                  <a:lnTo>
                    <a:pt x="566" y="198"/>
                  </a:lnTo>
                  <a:lnTo>
                    <a:pt x="566" y="213"/>
                  </a:lnTo>
                  <a:lnTo>
                    <a:pt x="577" y="214"/>
                  </a:lnTo>
                  <a:lnTo>
                    <a:pt x="592" y="242"/>
                  </a:lnTo>
                  <a:lnTo>
                    <a:pt x="704" y="361"/>
                  </a:lnTo>
                  <a:lnTo>
                    <a:pt x="710" y="369"/>
                  </a:lnTo>
                  <a:lnTo>
                    <a:pt x="712" y="378"/>
                  </a:lnTo>
                  <a:lnTo>
                    <a:pt x="710" y="386"/>
                  </a:lnTo>
                  <a:lnTo>
                    <a:pt x="704" y="390"/>
                  </a:lnTo>
                  <a:lnTo>
                    <a:pt x="700" y="392"/>
                  </a:lnTo>
                  <a:lnTo>
                    <a:pt x="700" y="401"/>
                  </a:lnTo>
                  <a:lnTo>
                    <a:pt x="696" y="409"/>
                  </a:lnTo>
                  <a:lnTo>
                    <a:pt x="692" y="415"/>
                  </a:lnTo>
                  <a:lnTo>
                    <a:pt x="696" y="419"/>
                  </a:lnTo>
                  <a:lnTo>
                    <a:pt x="700" y="426"/>
                  </a:lnTo>
                  <a:lnTo>
                    <a:pt x="707" y="436"/>
                  </a:lnTo>
                  <a:lnTo>
                    <a:pt x="720" y="444"/>
                  </a:lnTo>
                  <a:lnTo>
                    <a:pt x="730" y="450"/>
                  </a:lnTo>
                  <a:lnTo>
                    <a:pt x="739" y="459"/>
                  </a:lnTo>
                  <a:lnTo>
                    <a:pt x="750" y="465"/>
                  </a:lnTo>
                  <a:lnTo>
                    <a:pt x="776" y="457"/>
                  </a:lnTo>
                  <a:lnTo>
                    <a:pt x="790" y="453"/>
                  </a:lnTo>
                  <a:lnTo>
                    <a:pt x="805" y="450"/>
                  </a:lnTo>
                  <a:lnTo>
                    <a:pt x="816" y="447"/>
                  </a:lnTo>
                  <a:lnTo>
                    <a:pt x="857" y="419"/>
                  </a:lnTo>
                  <a:lnTo>
                    <a:pt x="909" y="361"/>
                  </a:lnTo>
                  <a:lnTo>
                    <a:pt x="916" y="363"/>
                  </a:lnTo>
                  <a:lnTo>
                    <a:pt x="946" y="329"/>
                  </a:lnTo>
                  <a:lnTo>
                    <a:pt x="948" y="322"/>
                  </a:lnTo>
                  <a:lnTo>
                    <a:pt x="952" y="314"/>
                  </a:lnTo>
                  <a:lnTo>
                    <a:pt x="960" y="303"/>
                  </a:lnTo>
                  <a:lnTo>
                    <a:pt x="1078" y="300"/>
                  </a:lnTo>
                  <a:lnTo>
                    <a:pt x="1000" y="344"/>
                  </a:lnTo>
                  <a:lnTo>
                    <a:pt x="986" y="361"/>
                  </a:lnTo>
                  <a:lnTo>
                    <a:pt x="963" y="399"/>
                  </a:lnTo>
                  <a:lnTo>
                    <a:pt x="966" y="409"/>
                  </a:lnTo>
                  <a:lnTo>
                    <a:pt x="906" y="510"/>
                  </a:lnTo>
                  <a:lnTo>
                    <a:pt x="888" y="563"/>
                  </a:lnTo>
                  <a:lnTo>
                    <a:pt x="865" y="580"/>
                  </a:lnTo>
                  <a:lnTo>
                    <a:pt x="842" y="596"/>
                  </a:lnTo>
                  <a:lnTo>
                    <a:pt x="813" y="609"/>
                  </a:lnTo>
                  <a:lnTo>
                    <a:pt x="793" y="612"/>
                  </a:lnTo>
                  <a:lnTo>
                    <a:pt x="775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3124080" y="425916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9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5" y="149"/>
                  </a:lnTo>
                  <a:lnTo>
                    <a:pt x="143" y="162"/>
                  </a:lnTo>
                  <a:lnTo>
                    <a:pt x="144" y="169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1"/>
                  </a:lnTo>
                  <a:lnTo>
                    <a:pt x="164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14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3" y="34"/>
                  </a:lnTo>
                  <a:lnTo>
                    <a:pt x="263" y="41"/>
                  </a:lnTo>
                  <a:lnTo>
                    <a:pt x="261" y="48"/>
                  </a:lnTo>
                  <a:lnTo>
                    <a:pt x="259" y="51"/>
                  </a:lnTo>
                  <a:lnTo>
                    <a:pt x="250" y="51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50" y="28"/>
                  </a:lnTo>
                  <a:lnTo>
                    <a:pt x="244" y="25"/>
                  </a:lnTo>
                  <a:lnTo>
                    <a:pt x="126" y="25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1"/>
                  </a:lnTo>
                  <a:lnTo>
                    <a:pt x="259" y="51"/>
                  </a:lnTo>
                  <a:lnTo>
                    <a:pt x="607" y="51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1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8"/>
                  </a:lnTo>
                  <a:lnTo>
                    <a:pt x="838" y="88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8" y="91"/>
                  </a:lnTo>
                  <a:lnTo>
                    <a:pt x="648" y="88"/>
                  </a:lnTo>
                  <a:lnTo>
                    <a:pt x="619" y="88"/>
                  </a:lnTo>
                  <a:lnTo>
                    <a:pt x="619" y="103"/>
                  </a:lnTo>
                  <a:lnTo>
                    <a:pt x="610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3363840" y="3338640"/>
              <a:ext cx="344520" cy="40140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574" y="620"/>
                  </a:moveTo>
                  <a:lnTo>
                    <a:pt x="593" y="606"/>
                  </a:lnTo>
                  <a:lnTo>
                    <a:pt x="611" y="594"/>
                  </a:lnTo>
                  <a:lnTo>
                    <a:pt x="629" y="585"/>
                  </a:lnTo>
                  <a:lnTo>
                    <a:pt x="649" y="576"/>
                  </a:lnTo>
                  <a:lnTo>
                    <a:pt x="613" y="553"/>
                  </a:lnTo>
                  <a:lnTo>
                    <a:pt x="597" y="542"/>
                  </a:lnTo>
                  <a:lnTo>
                    <a:pt x="579" y="528"/>
                  </a:lnTo>
                  <a:lnTo>
                    <a:pt x="580" y="551"/>
                  </a:lnTo>
                  <a:lnTo>
                    <a:pt x="577" y="573"/>
                  </a:lnTo>
                  <a:lnTo>
                    <a:pt x="574" y="620"/>
                  </a:lnTo>
                  <a:close/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8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1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4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3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5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0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5"/>
                  </a:lnTo>
                  <a:lnTo>
                    <a:pt x="597" y="1053"/>
                  </a:lnTo>
                  <a:lnTo>
                    <a:pt x="603" y="1044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1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4"/>
                  </a:lnTo>
                  <a:lnTo>
                    <a:pt x="599" y="909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1"/>
                  </a:lnTo>
                  <a:lnTo>
                    <a:pt x="527" y="895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6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1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8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7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7"/>
                  </a:lnTo>
                  <a:lnTo>
                    <a:pt x="38" y="603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2"/>
                  </a:lnTo>
                  <a:lnTo>
                    <a:pt x="74" y="592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3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4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7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79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7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7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7"/>
                  </a:lnTo>
                  <a:lnTo>
                    <a:pt x="532" y="15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8"/>
                  </a:lnTo>
                  <a:lnTo>
                    <a:pt x="591" y="116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3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30"/>
                  </a:lnTo>
                  <a:lnTo>
                    <a:pt x="954" y="321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  <a:close/>
                  <a:moveTo>
                    <a:pt x="113" y="642"/>
                  </a:moveTo>
                  <a:lnTo>
                    <a:pt x="104" y="650"/>
                  </a:lnTo>
                  <a:lnTo>
                    <a:pt x="109" y="655"/>
                  </a:lnTo>
                  <a:lnTo>
                    <a:pt x="111" y="661"/>
                  </a:lnTo>
                  <a:lnTo>
                    <a:pt x="113" y="655"/>
                  </a:lnTo>
                  <a:lnTo>
                    <a:pt x="115" y="649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3363840" y="3338640"/>
              <a:ext cx="344520" cy="40140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8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1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4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3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5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0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5"/>
                  </a:lnTo>
                  <a:lnTo>
                    <a:pt x="597" y="1053"/>
                  </a:lnTo>
                  <a:lnTo>
                    <a:pt x="603" y="1044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1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4"/>
                  </a:lnTo>
                  <a:lnTo>
                    <a:pt x="599" y="909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1"/>
                  </a:lnTo>
                  <a:lnTo>
                    <a:pt x="527" y="895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6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1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8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7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7"/>
                  </a:lnTo>
                  <a:lnTo>
                    <a:pt x="38" y="603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2"/>
                  </a:lnTo>
                  <a:lnTo>
                    <a:pt x="74" y="592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3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4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7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79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7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7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7"/>
                  </a:lnTo>
                  <a:lnTo>
                    <a:pt x="532" y="15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8"/>
                  </a:lnTo>
                  <a:lnTo>
                    <a:pt x="591" y="116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3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30"/>
                  </a:lnTo>
                  <a:lnTo>
                    <a:pt x="954" y="321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3554280" y="3392640"/>
              <a:ext cx="270000" cy="77760"/>
            </a:xfrm>
            <a:custGeom>
              <a:avLst/>
              <a:gdLst/>
              <a:ahLst/>
              <a:rect l="l" t="t" r="r" b="b"/>
              <a:pathLst>
                <a:path w="854" h="243">
                  <a:moveTo>
                    <a:pt x="601" y="118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0" y="124"/>
                  </a:lnTo>
                  <a:lnTo>
                    <a:pt x="584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9"/>
                  </a:lnTo>
                  <a:lnTo>
                    <a:pt x="142" y="162"/>
                  </a:lnTo>
                  <a:lnTo>
                    <a:pt x="143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5" y="181"/>
                  </a:lnTo>
                  <a:lnTo>
                    <a:pt x="163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4" y="14"/>
                  </a:lnTo>
                  <a:lnTo>
                    <a:pt x="80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2" y="34"/>
                  </a:lnTo>
                  <a:lnTo>
                    <a:pt x="262" y="41"/>
                  </a:lnTo>
                  <a:lnTo>
                    <a:pt x="261" y="48"/>
                  </a:lnTo>
                  <a:lnTo>
                    <a:pt x="259" y="52"/>
                  </a:lnTo>
                  <a:lnTo>
                    <a:pt x="249" y="52"/>
                  </a:lnTo>
                  <a:lnTo>
                    <a:pt x="250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49" y="28"/>
                  </a:lnTo>
                  <a:lnTo>
                    <a:pt x="242" y="25"/>
                  </a:lnTo>
                  <a:lnTo>
                    <a:pt x="126" y="25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2" y="55"/>
                  </a:lnTo>
                  <a:lnTo>
                    <a:pt x="249" y="52"/>
                  </a:lnTo>
                  <a:lnTo>
                    <a:pt x="259" y="52"/>
                  </a:lnTo>
                  <a:lnTo>
                    <a:pt x="605" y="52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2"/>
                  </a:lnTo>
                  <a:lnTo>
                    <a:pt x="641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11" y="60"/>
                  </a:lnTo>
                  <a:lnTo>
                    <a:pt x="817" y="63"/>
                  </a:lnTo>
                  <a:lnTo>
                    <a:pt x="822" y="67"/>
                  </a:lnTo>
                  <a:lnTo>
                    <a:pt x="828" y="70"/>
                  </a:lnTo>
                  <a:lnTo>
                    <a:pt x="833" y="74"/>
                  </a:lnTo>
                  <a:lnTo>
                    <a:pt x="838" y="78"/>
                  </a:lnTo>
                  <a:lnTo>
                    <a:pt x="843" y="81"/>
                  </a:lnTo>
                  <a:lnTo>
                    <a:pt x="849" y="84"/>
                  </a:lnTo>
                  <a:lnTo>
                    <a:pt x="854" y="87"/>
                  </a:lnTo>
                  <a:lnTo>
                    <a:pt x="837" y="87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7" y="91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3"/>
                  </a:lnTo>
                  <a:lnTo>
                    <a:pt x="609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3100320" y="3770280"/>
              <a:ext cx="34452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575" y="621"/>
                  </a:moveTo>
                  <a:lnTo>
                    <a:pt x="595" y="606"/>
                  </a:lnTo>
                  <a:lnTo>
                    <a:pt x="612" y="595"/>
                  </a:lnTo>
                  <a:lnTo>
                    <a:pt x="630" y="585"/>
                  </a:lnTo>
                  <a:lnTo>
                    <a:pt x="650" y="576"/>
                  </a:lnTo>
                  <a:lnTo>
                    <a:pt x="613" y="553"/>
                  </a:lnTo>
                  <a:lnTo>
                    <a:pt x="598" y="542"/>
                  </a:lnTo>
                  <a:lnTo>
                    <a:pt x="580" y="529"/>
                  </a:lnTo>
                  <a:lnTo>
                    <a:pt x="581" y="552"/>
                  </a:lnTo>
                  <a:lnTo>
                    <a:pt x="578" y="573"/>
                  </a:lnTo>
                  <a:lnTo>
                    <a:pt x="575" y="621"/>
                  </a:lnTo>
                  <a:close/>
                  <a:moveTo>
                    <a:pt x="782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79" y="789"/>
                  </a:lnTo>
                  <a:lnTo>
                    <a:pt x="768" y="854"/>
                  </a:lnTo>
                  <a:lnTo>
                    <a:pt x="753" y="918"/>
                  </a:lnTo>
                  <a:lnTo>
                    <a:pt x="739" y="963"/>
                  </a:lnTo>
                  <a:lnTo>
                    <a:pt x="728" y="971"/>
                  </a:lnTo>
                  <a:lnTo>
                    <a:pt x="714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10" y="1043"/>
                  </a:lnTo>
                  <a:lnTo>
                    <a:pt x="710" y="1052"/>
                  </a:lnTo>
                  <a:lnTo>
                    <a:pt x="704" y="1062"/>
                  </a:lnTo>
                  <a:lnTo>
                    <a:pt x="713" y="1071"/>
                  </a:lnTo>
                  <a:lnTo>
                    <a:pt x="719" y="1079"/>
                  </a:lnTo>
                  <a:lnTo>
                    <a:pt x="725" y="1092"/>
                  </a:lnTo>
                  <a:lnTo>
                    <a:pt x="734" y="1095"/>
                  </a:lnTo>
                  <a:lnTo>
                    <a:pt x="739" y="1100"/>
                  </a:lnTo>
                  <a:lnTo>
                    <a:pt x="745" y="1107"/>
                  </a:lnTo>
                  <a:lnTo>
                    <a:pt x="749" y="1116"/>
                  </a:lnTo>
                  <a:lnTo>
                    <a:pt x="754" y="1124"/>
                  </a:lnTo>
                  <a:lnTo>
                    <a:pt x="782" y="1139"/>
                  </a:lnTo>
                  <a:lnTo>
                    <a:pt x="800" y="1147"/>
                  </a:lnTo>
                  <a:lnTo>
                    <a:pt x="809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7" y="1181"/>
                  </a:lnTo>
                  <a:lnTo>
                    <a:pt x="777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7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7" y="1143"/>
                  </a:lnTo>
                  <a:lnTo>
                    <a:pt x="612" y="1141"/>
                  </a:lnTo>
                  <a:lnTo>
                    <a:pt x="598" y="1137"/>
                  </a:lnTo>
                  <a:lnTo>
                    <a:pt x="584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4" y="1089"/>
                  </a:lnTo>
                  <a:lnTo>
                    <a:pt x="587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4" y="1043"/>
                  </a:lnTo>
                  <a:lnTo>
                    <a:pt x="604" y="1032"/>
                  </a:lnTo>
                  <a:lnTo>
                    <a:pt x="604" y="1020"/>
                  </a:lnTo>
                  <a:lnTo>
                    <a:pt x="607" y="1012"/>
                  </a:lnTo>
                  <a:lnTo>
                    <a:pt x="612" y="1005"/>
                  </a:lnTo>
                  <a:lnTo>
                    <a:pt x="612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3" y="938"/>
                  </a:lnTo>
                  <a:lnTo>
                    <a:pt x="603" y="925"/>
                  </a:lnTo>
                  <a:lnTo>
                    <a:pt x="599" y="910"/>
                  </a:lnTo>
                  <a:lnTo>
                    <a:pt x="603" y="888"/>
                  </a:lnTo>
                  <a:lnTo>
                    <a:pt x="607" y="859"/>
                  </a:lnTo>
                  <a:lnTo>
                    <a:pt x="616" y="829"/>
                  </a:lnTo>
                  <a:lnTo>
                    <a:pt x="627" y="798"/>
                  </a:lnTo>
                  <a:lnTo>
                    <a:pt x="607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6" y="882"/>
                  </a:lnTo>
                  <a:lnTo>
                    <a:pt x="528" y="896"/>
                  </a:lnTo>
                  <a:lnTo>
                    <a:pt x="505" y="915"/>
                  </a:lnTo>
                  <a:lnTo>
                    <a:pt x="483" y="931"/>
                  </a:lnTo>
                  <a:lnTo>
                    <a:pt x="457" y="947"/>
                  </a:lnTo>
                  <a:lnTo>
                    <a:pt x="432" y="962"/>
                  </a:lnTo>
                  <a:lnTo>
                    <a:pt x="410" y="970"/>
                  </a:lnTo>
                  <a:lnTo>
                    <a:pt x="387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4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1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5" y="1198"/>
                  </a:lnTo>
                  <a:lnTo>
                    <a:pt x="294" y="1210"/>
                  </a:lnTo>
                  <a:lnTo>
                    <a:pt x="290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49" y="1259"/>
                  </a:lnTo>
                  <a:lnTo>
                    <a:pt x="221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4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5" y="1135"/>
                  </a:lnTo>
                  <a:lnTo>
                    <a:pt x="85" y="1110"/>
                  </a:lnTo>
                  <a:lnTo>
                    <a:pt x="80" y="1067"/>
                  </a:lnTo>
                  <a:lnTo>
                    <a:pt x="94" y="1042"/>
                  </a:lnTo>
                  <a:lnTo>
                    <a:pt x="99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4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0" y="881"/>
                  </a:lnTo>
                  <a:lnTo>
                    <a:pt x="74" y="876"/>
                  </a:lnTo>
                  <a:lnTo>
                    <a:pt x="70" y="869"/>
                  </a:lnTo>
                  <a:lnTo>
                    <a:pt x="68" y="863"/>
                  </a:lnTo>
                  <a:lnTo>
                    <a:pt x="59" y="864"/>
                  </a:lnTo>
                  <a:lnTo>
                    <a:pt x="49" y="863"/>
                  </a:lnTo>
                  <a:lnTo>
                    <a:pt x="42" y="857"/>
                  </a:lnTo>
                  <a:lnTo>
                    <a:pt x="33" y="850"/>
                  </a:lnTo>
                  <a:lnTo>
                    <a:pt x="27" y="839"/>
                  </a:lnTo>
                  <a:lnTo>
                    <a:pt x="21" y="829"/>
                  </a:lnTo>
                  <a:lnTo>
                    <a:pt x="16" y="818"/>
                  </a:lnTo>
                  <a:lnTo>
                    <a:pt x="10" y="815"/>
                  </a:lnTo>
                  <a:lnTo>
                    <a:pt x="2" y="748"/>
                  </a:lnTo>
                  <a:lnTo>
                    <a:pt x="8" y="746"/>
                  </a:lnTo>
                  <a:lnTo>
                    <a:pt x="8" y="718"/>
                  </a:lnTo>
                  <a:lnTo>
                    <a:pt x="0" y="717"/>
                  </a:lnTo>
                  <a:lnTo>
                    <a:pt x="2" y="700"/>
                  </a:lnTo>
                  <a:lnTo>
                    <a:pt x="7" y="687"/>
                  </a:lnTo>
                  <a:lnTo>
                    <a:pt x="8" y="679"/>
                  </a:lnTo>
                  <a:lnTo>
                    <a:pt x="13" y="673"/>
                  </a:lnTo>
                  <a:lnTo>
                    <a:pt x="16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39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39" y="603"/>
                  </a:lnTo>
                  <a:lnTo>
                    <a:pt x="42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8" y="599"/>
                  </a:lnTo>
                  <a:lnTo>
                    <a:pt x="80" y="603"/>
                  </a:lnTo>
                  <a:lnTo>
                    <a:pt x="82" y="610"/>
                  </a:lnTo>
                  <a:lnTo>
                    <a:pt x="85" y="619"/>
                  </a:lnTo>
                  <a:lnTo>
                    <a:pt x="85" y="630"/>
                  </a:lnTo>
                  <a:lnTo>
                    <a:pt x="82" y="636"/>
                  </a:lnTo>
                  <a:lnTo>
                    <a:pt x="79" y="639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99" y="634"/>
                  </a:lnTo>
                  <a:lnTo>
                    <a:pt x="97" y="628"/>
                  </a:lnTo>
                  <a:lnTo>
                    <a:pt x="85" y="630"/>
                  </a:lnTo>
                  <a:lnTo>
                    <a:pt x="85" y="619"/>
                  </a:lnTo>
                  <a:lnTo>
                    <a:pt x="100" y="617"/>
                  </a:lnTo>
                  <a:lnTo>
                    <a:pt x="106" y="619"/>
                  </a:lnTo>
                  <a:lnTo>
                    <a:pt x="111" y="621"/>
                  </a:lnTo>
                  <a:lnTo>
                    <a:pt x="115" y="624"/>
                  </a:lnTo>
                  <a:lnTo>
                    <a:pt x="112" y="605"/>
                  </a:lnTo>
                  <a:lnTo>
                    <a:pt x="108" y="585"/>
                  </a:lnTo>
                  <a:lnTo>
                    <a:pt x="137" y="460"/>
                  </a:lnTo>
                  <a:lnTo>
                    <a:pt x="143" y="438"/>
                  </a:lnTo>
                  <a:lnTo>
                    <a:pt x="151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1" y="342"/>
                  </a:lnTo>
                  <a:lnTo>
                    <a:pt x="157" y="321"/>
                  </a:lnTo>
                  <a:lnTo>
                    <a:pt x="172" y="294"/>
                  </a:lnTo>
                  <a:lnTo>
                    <a:pt x="186" y="273"/>
                  </a:lnTo>
                  <a:lnTo>
                    <a:pt x="208" y="253"/>
                  </a:lnTo>
                  <a:lnTo>
                    <a:pt x="229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8" y="218"/>
                  </a:lnTo>
                  <a:lnTo>
                    <a:pt x="330" y="212"/>
                  </a:lnTo>
                  <a:lnTo>
                    <a:pt x="333" y="200"/>
                  </a:lnTo>
                  <a:lnTo>
                    <a:pt x="328" y="180"/>
                  </a:lnTo>
                  <a:lnTo>
                    <a:pt x="331" y="178"/>
                  </a:lnTo>
                  <a:lnTo>
                    <a:pt x="328" y="157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1" y="89"/>
                  </a:lnTo>
                  <a:lnTo>
                    <a:pt x="340" y="65"/>
                  </a:lnTo>
                  <a:lnTo>
                    <a:pt x="353" y="47"/>
                  </a:lnTo>
                  <a:lnTo>
                    <a:pt x="365" y="35"/>
                  </a:lnTo>
                  <a:lnTo>
                    <a:pt x="396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0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5" y="77"/>
                  </a:lnTo>
                  <a:lnTo>
                    <a:pt x="592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3"/>
                  </a:lnTo>
                  <a:lnTo>
                    <a:pt x="595" y="149"/>
                  </a:lnTo>
                  <a:lnTo>
                    <a:pt x="569" y="157"/>
                  </a:lnTo>
                  <a:lnTo>
                    <a:pt x="572" y="178"/>
                  </a:lnTo>
                  <a:lnTo>
                    <a:pt x="575" y="198"/>
                  </a:lnTo>
                  <a:lnTo>
                    <a:pt x="575" y="213"/>
                  </a:lnTo>
                  <a:lnTo>
                    <a:pt x="586" y="215"/>
                  </a:lnTo>
                  <a:lnTo>
                    <a:pt x="601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19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5" y="410"/>
                  </a:lnTo>
                  <a:lnTo>
                    <a:pt x="699" y="414"/>
                  </a:lnTo>
                  <a:lnTo>
                    <a:pt x="705" y="420"/>
                  </a:lnTo>
                  <a:lnTo>
                    <a:pt x="708" y="426"/>
                  </a:lnTo>
                  <a:lnTo>
                    <a:pt x="714" y="437"/>
                  </a:lnTo>
                  <a:lnTo>
                    <a:pt x="728" y="444"/>
                  </a:lnTo>
                  <a:lnTo>
                    <a:pt x="737" y="451"/>
                  </a:lnTo>
                  <a:lnTo>
                    <a:pt x="748" y="460"/>
                  </a:lnTo>
                  <a:lnTo>
                    <a:pt x="757" y="466"/>
                  </a:lnTo>
                  <a:lnTo>
                    <a:pt x="783" y="458"/>
                  </a:lnTo>
                  <a:lnTo>
                    <a:pt x="799" y="454"/>
                  </a:lnTo>
                  <a:lnTo>
                    <a:pt x="814" y="451"/>
                  </a:lnTo>
                  <a:lnTo>
                    <a:pt x="823" y="447"/>
                  </a:lnTo>
                  <a:lnTo>
                    <a:pt x="864" y="420"/>
                  </a:lnTo>
                  <a:lnTo>
                    <a:pt x="918" y="362"/>
                  </a:lnTo>
                  <a:lnTo>
                    <a:pt x="924" y="363"/>
                  </a:lnTo>
                  <a:lnTo>
                    <a:pt x="953" y="330"/>
                  </a:lnTo>
                  <a:lnTo>
                    <a:pt x="955" y="322"/>
                  </a:lnTo>
                  <a:lnTo>
                    <a:pt x="961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8" y="345"/>
                  </a:lnTo>
                  <a:lnTo>
                    <a:pt x="993" y="362"/>
                  </a:lnTo>
                  <a:lnTo>
                    <a:pt x="970" y="400"/>
                  </a:lnTo>
                  <a:lnTo>
                    <a:pt x="973" y="410"/>
                  </a:lnTo>
                  <a:lnTo>
                    <a:pt x="915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0" y="610"/>
                  </a:lnTo>
                  <a:lnTo>
                    <a:pt x="800" y="613"/>
                  </a:lnTo>
                  <a:lnTo>
                    <a:pt x="782" y="614"/>
                  </a:lnTo>
                  <a:close/>
                  <a:moveTo>
                    <a:pt x="114" y="642"/>
                  </a:moveTo>
                  <a:lnTo>
                    <a:pt x="106" y="651"/>
                  </a:lnTo>
                  <a:lnTo>
                    <a:pt x="109" y="656"/>
                  </a:lnTo>
                  <a:lnTo>
                    <a:pt x="112" y="662"/>
                  </a:lnTo>
                  <a:lnTo>
                    <a:pt x="114" y="656"/>
                  </a:lnTo>
                  <a:lnTo>
                    <a:pt x="115" y="650"/>
                  </a:lnTo>
                  <a:lnTo>
                    <a:pt x="114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3100320" y="3770280"/>
              <a:ext cx="34452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782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79" y="789"/>
                  </a:lnTo>
                  <a:lnTo>
                    <a:pt x="768" y="854"/>
                  </a:lnTo>
                  <a:lnTo>
                    <a:pt x="753" y="918"/>
                  </a:lnTo>
                  <a:lnTo>
                    <a:pt x="739" y="963"/>
                  </a:lnTo>
                  <a:lnTo>
                    <a:pt x="728" y="971"/>
                  </a:lnTo>
                  <a:lnTo>
                    <a:pt x="714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10" y="1043"/>
                  </a:lnTo>
                  <a:lnTo>
                    <a:pt x="710" y="1052"/>
                  </a:lnTo>
                  <a:lnTo>
                    <a:pt x="704" y="1062"/>
                  </a:lnTo>
                  <a:lnTo>
                    <a:pt x="713" y="1071"/>
                  </a:lnTo>
                  <a:lnTo>
                    <a:pt x="719" y="1079"/>
                  </a:lnTo>
                  <a:lnTo>
                    <a:pt x="725" y="1092"/>
                  </a:lnTo>
                  <a:lnTo>
                    <a:pt x="734" y="1095"/>
                  </a:lnTo>
                  <a:lnTo>
                    <a:pt x="739" y="1100"/>
                  </a:lnTo>
                  <a:lnTo>
                    <a:pt x="745" y="1107"/>
                  </a:lnTo>
                  <a:lnTo>
                    <a:pt x="749" y="1116"/>
                  </a:lnTo>
                  <a:lnTo>
                    <a:pt x="754" y="1124"/>
                  </a:lnTo>
                  <a:lnTo>
                    <a:pt x="782" y="1139"/>
                  </a:lnTo>
                  <a:lnTo>
                    <a:pt x="800" y="1147"/>
                  </a:lnTo>
                  <a:lnTo>
                    <a:pt x="809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7" y="1181"/>
                  </a:lnTo>
                  <a:lnTo>
                    <a:pt x="777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7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7" y="1143"/>
                  </a:lnTo>
                  <a:lnTo>
                    <a:pt x="612" y="1141"/>
                  </a:lnTo>
                  <a:lnTo>
                    <a:pt x="598" y="1137"/>
                  </a:lnTo>
                  <a:lnTo>
                    <a:pt x="584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4" y="1089"/>
                  </a:lnTo>
                  <a:lnTo>
                    <a:pt x="587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4" y="1043"/>
                  </a:lnTo>
                  <a:lnTo>
                    <a:pt x="604" y="1032"/>
                  </a:lnTo>
                  <a:lnTo>
                    <a:pt x="604" y="1020"/>
                  </a:lnTo>
                  <a:lnTo>
                    <a:pt x="607" y="1012"/>
                  </a:lnTo>
                  <a:lnTo>
                    <a:pt x="612" y="1005"/>
                  </a:lnTo>
                  <a:lnTo>
                    <a:pt x="612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3" y="938"/>
                  </a:lnTo>
                  <a:lnTo>
                    <a:pt x="603" y="925"/>
                  </a:lnTo>
                  <a:lnTo>
                    <a:pt x="599" y="910"/>
                  </a:lnTo>
                  <a:lnTo>
                    <a:pt x="603" y="888"/>
                  </a:lnTo>
                  <a:lnTo>
                    <a:pt x="607" y="859"/>
                  </a:lnTo>
                  <a:lnTo>
                    <a:pt x="616" y="829"/>
                  </a:lnTo>
                  <a:lnTo>
                    <a:pt x="627" y="798"/>
                  </a:lnTo>
                  <a:lnTo>
                    <a:pt x="607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6" y="882"/>
                  </a:lnTo>
                  <a:lnTo>
                    <a:pt x="528" y="896"/>
                  </a:lnTo>
                  <a:lnTo>
                    <a:pt x="505" y="915"/>
                  </a:lnTo>
                  <a:lnTo>
                    <a:pt x="483" y="931"/>
                  </a:lnTo>
                  <a:lnTo>
                    <a:pt x="457" y="947"/>
                  </a:lnTo>
                  <a:lnTo>
                    <a:pt x="432" y="962"/>
                  </a:lnTo>
                  <a:lnTo>
                    <a:pt x="410" y="970"/>
                  </a:lnTo>
                  <a:lnTo>
                    <a:pt x="387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4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1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5" y="1198"/>
                  </a:lnTo>
                  <a:lnTo>
                    <a:pt x="294" y="1210"/>
                  </a:lnTo>
                  <a:lnTo>
                    <a:pt x="290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49" y="1259"/>
                  </a:lnTo>
                  <a:lnTo>
                    <a:pt x="221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4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5" y="1135"/>
                  </a:lnTo>
                  <a:lnTo>
                    <a:pt x="85" y="1110"/>
                  </a:lnTo>
                  <a:lnTo>
                    <a:pt x="80" y="1067"/>
                  </a:lnTo>
                  <a:lnTo>
                    <a:pt x="94" y="1042"/>
                  </a:lnTo>
                  <a:lnTo>
                    <a:pt x="99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4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0" y="881"/>
                  </a:lnTo>
                  <a:lnTo>
                    <a:pt x="74" y="876"/>
                  </a:lnTo>
                  <a:lnTo>
                    <a:pt x="70" y="869"/>
                  </a:lnTo>
                  <a:lnTo>
                    <a:pt x="68" y="863"/>
                  </a:lnTo>
                  <a:lnTo>
                    <a:pt x="59" y="864"/>
                  </a:lnTo>
                  <a:lnTo>
                    <a:pt x="49" y="863"/>
                  </a:lnTo>
                  <a:lnTo>
                    <a:pt x="42" y="857"/>
                  </a:lnTo>
                  <a:lnTo>
                    <a:pt x="33" y="850"/>
                  </a:lnTo>
                  <a:lnTo>
                    <a:pt x="27" y="839"/>
                  </a:lnTo>
                  <a:lnTo>
                    <a:pt x="21" y="829"/>
                  </a:lnTo>
                  <a:lnTo>
                    <a:pt x="16" y="818"/>
                  </a:lnTo>
                  <a:lnTo>
                    <a:pt x="10" y="815"/>
                  </a:lnTo>
                  <a:lnTo>
                    <a:pt x="2" y="748"/>
                  </a:lnTo>
                  <a:lnTo>
                    <a:pt x="8" y="746"/>
                  </a:lnTo>
                  <a:lnTo>
                    <a:pt x="8" y="718"/>
                  </a:lnTo>
                  <a:lnTo>
                    <a:pt x="0" y="717"/>
                  </a:lnTo>
                  <a:lnTo>
                    <a:pt x="2" y="700"/>
                  </a:lnTo>
                  <a:lnTo>
                    <a:pt x="7" y="687"/>
                  </a:lnTo>
                  <a:lnTo>
                    <a:pt x="8" y="679"/>
                  </a:lnTo>
                  <a:lnTo>
                    <a:pt x="13" y="673"/>
                  </a:lnTo>
                  <a:lnTo>
                    <a:pt x="16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39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39" y="603"/>
                  </a:lnTo>
                  <a:lnTo>
                    <a:pt x="42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8" y="599"/>
                  </a:lnTo>
                  <a:lnTo>
                    <a:pt x="80" y="603"/>
                  </a:lnTo>
                  <a:lnTo>
                    <a:pt x="82" y="610"/>
                  </a:lnTo>
                  <a:lnTo>
                    <a:pt x="85" y="619"/>
                  </a:lnTo>
                  <a:lnTo>
                    <a:pt x="85" y="630"/>
                  </a:lnTo>
                  <a:lnTo>
                    <a:pt x="82" y="636"/>
                  </a:lnTo>
                  <a:lnTo>
                    <a:pt x="79" y="639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99" y="634"/>
                  </a:lnTo>
                  <a:lnTo>
                    <a:pt x="97" y="628"/>
                  </a:lnTo>
                  <a:lnTo>
                    <a:pt x="85" y="630"/>
                  </a:lnTo>
                  <a:lnTo>
                    <a:pt x="85" y="619"/>
                  </a:lnTo>
                  <a:lnTo>
                    <a:pt x="100" y="617"/>
                  </a:lnTo>
                  <a:lnTo>
                    <a:pt x="106" y="619"/>
                  </a:lnTo>
                  <a:lnTo>
                    <a:pt x="111" y="621"/>
                  </a:lnTo>
                  <a:lnTo>
                    <a:pt x="115" y="624"/>
                  </a:lnTo>
                  <a:lnTo>
                    <a:pt x="112" y="605"/>
                  </a:lnTo>
                  <a:lnTo>
                    <a:pt x="108" y="585"/>
                  </a:lnTo>
                  <a:lnTo>
                    <a:pt x="137" y="460"/>
                  </a:lnTo>
                  <a:lnTo>
                    <a:pt x="143" y="438"/>
                  </a:lnTo>
                  <a:lnTo>
                    <a:pt x="151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1" y="342"/>
                  </a:lnTo>
                  <a:lnTo>
                    <a:pt x="157" y="321"/>
                  </a:lnTo>
                  <a:lnTo>
                    <a:pt x="172" y="294"/>
                  </a:lnTo>
                  <a:lnTo>
                    <a:pt x="186" y="273"/>
                  </a:lnTo>
                  <a:lnTo>
                    <a:pt x="208" y="253"/>
                  </a:lnTo>
                  <a:lnTo>
                    <a:pt x="229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8" y="218"/>
                  </a:lnTo>
                  <a:lnTo>
                    <a:pt x="330" y="212"/>
                  </a:lnTo>
                  <a:lnTo>
                    <a:pt x="333" y="200"/>
                  </a:lnTo>
                  <a:lnTo>
                    <a:pt x="328" y="180"/>
                  </a:lnTo>
                  <a:lnTo>
                    <a:pt x="331" y="178"/>
                  </a:lnTo>
                  <a:lnTo>
                    <a:pt x="328" y="157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1" y="89"/>
                  </a:lnTo>
                  <a:lnTo>
                    <a:pt x="340" y="65"/>
                  </a:lnTo>
                  <a:lnTo>
                    <a:pt x="353" y="47"/>
                  </a:lnTo>
                  <a:lnTo>
                    <a:pt x="365" y="35"/>
                  </a:lnTo>
                  <a:lnTo>
                    <a:pt x="396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0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5" y="77"/>
                  </a:lnTo>
                  <a:lnTo>
                    <a:pt x="592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3"/>
                  </a:lnTo>
                  <a:lnTo>
                    <a:pt x="595" y="149"/>
                  </a:lnTo>
                  <a:lnTo>
                    <a:pt x="569" y="157"/>
                  </a:lnTo>
                  <a:lnTo>
                    <a:pt x="572" y="178"/>
                  </a:lnTo>
                  <a:lnTo>
                    <a:pt x="575" y="198"/>
                  </a:lnTo>
                  <a:lnTo>
                    <a:pt x="575" y="213"/>
                  </a:lnTo>
                  <a:lnTo>
                    <a:pt x="586" y="215"/>
                  </a:lnTo>
                  <a:lnTo>
                    <a:pt x="601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19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5" y="410"/>
                  </a:lnTo>
                  <a:lnTo>
                    <a:pt x="699" y="414"/>
                  </a:lnTo>
                  <a:lnTo>
                    <a:pt x="705" y="420"/>
                  </a:lnTo>
                  <a:lnTo>
                    <a:pt x="708" y="426"/>
                  </a:lnTo>
                  <a:lnTo>
                    <a:pt x="714" y="437"/>
                  </a:lnTo>
                  <a:lnTo>
                    <a:pt x="728" y="444"/>
                  </a:lnTo>
                  <a:lnTo>
                    <a:pt x="737" y="451"/>
                  </a:lnTo>
                  <a:lnTo>
                    <a:pt x="748" y="460"/>
                  </a:lnTo>
                  <a:lnTo>
                    <a:pt x="757" y="466"/>
                  </a:lnTo>
                  <a:lnTo>
                    <a:pt x="783" y="458"/>
                  </a:lnTo>
                  <a:lnTo>
                    <a:pt x="799" y="454"/>
                  </a:lnTo>
                  <a:lnTo>
                    <a:pt x="814" y="451"/>
                  </a:lnTo>
                  <a:lnTo>
                    <a:pt x="823" y="447"/>
                  </a:lnTo>
                  <a:lnTo>
                    <a:pt x="864" y="420"/>
                  </a:lnTo>
                  <a:lnTo>
                    <a:pt x="918" y="362"/>
                  </a:lnTo>
                  <a:lnTo>
                    <a:pt x="924" y="363"/>
                  </a:lnTo>
                  <a:lnTo>
                    <a:pt x="953" y="330"/>
                  </a:lnTo>
                  <a:lnTo>
                    <a:pt x="955" y="322"/>
                  </a:lnTo>
                  <a:lnTo>
                    <a:pt x="961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8" y="345"/>
                  </a:lnTo>
                  <a:lnTo>
                    <a:pt x="993" y="362"/>
                  </a:lnTo>
                  <a:lnTo>
                    <a:pt x="970" y="400"/>
                  </a:lnTo>
                  <a:lnTo>
                    <a:pt x="973" y="410"/>
                  </a:lnTo>
                  <a:lnTo>
                    <a:pt x="915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0" y="610"/>
                  </a:lnTo>
                  <a:lnTo>
                    <a:pt x="800" y="613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329076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4" y="127"/>
                  </a:lnTo>
                  <a:lnTo>
                    <a:pt x="485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8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8"/>
                  </a:lnTo>
                  <a:lnTo>
                    <a:pt x="141" y="162"/>
                  </a:lnTo>
                  <a:lnTo>
                    <a:pt x="144" y="168"/>
                  </a:lnTo>
                  <a:lnTo>
                    <a:pt x="144" y="173"/>
                  </a:lnTo>
                  <a:lnTo>
                    <a:pt x="140" y="176"/>
                  </a:lnTo>
                  <a:lnTo>
                    <a:pt x="135" y="180"/>
                  </a:lnTo>
                  <a:lnTo>
                    <a:pt x="163" y="180"/>
                  </a:lnTo>
                  <a:lnTo>
                    <a:pt x="167" y="180"/>
                  </a:lnTo>
                  <a:lnTo>
                    <a:pt x="168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5" y="18"/>
                  </a:lnTo>
                  <a:lnTo>
                    <a:pt x="253" y="21"/>
                  </a:lnTo>
                  <a:lnTo>
                    <a:pt x="259" y="26"/>
                  </a:lnTo>
                  <a:lnTo>
                    <a:pt x="262" y="33"/>
                  </a:lnTo>
                  <a:lnTo>
                    <a:pt x="262" y="41"/>
                  </a:lnTo>
                  <a:lnTo>
                    <a:pt x="261" y="47"/>
                  </a:lnTo>
                  <a:lnTo>
                    <a:pt x="259" y="50"/>
                  </a:lnTo>
                  <a:lnTo>
                    <a:pt x="250" y="50"/>
                  </a:lnTo>
                  <a:lnTo>
                    <a:pt x="251" y="46"/>
                  </a:lnTo>
                  <a:lnTo>
                    <a:pt x="254" y="40"/>
                  </a:lnTo>
                  <a:lnTo>
                    <a:pt x="254" y="33"/>
                  </a:lnTo>
                  <a:lnTo>
                    <a:pt x="250" y="28"/>
                  </a:lnTo>
                  <a:lnTo>
                    <a:pt x="242" y="24"/>
                  </a:lnTo>
                  <a:lnTo>
                    <a:pt x="126" y="24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4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1" y="55"/>
                  </a:lnTo>
                  <a:lnTo>
                    <a:pt x="242" y="55"/>
                  </a:lnTo>
                  <a:lnTo>
                    <a:pt x="250" y="50"/>
                  </a:lnTo>
                  <a:lnTo>
                    <a:pt x="259" y="50"/>
                  </a:lnTo>
                  <a:lnTo>
                    <a:pt x="605" y="50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1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0"/>
                  </a:lnTo>
                  <a:lnTo>
                    <a:pt x="640" y="3"/>
                  </a:lnTo>
                  <a:lnTo>
                    <a:pt x="647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5" y="66"/>
                  </a:lnTo>
                  <a:lnTo>
                    <a:pt x="766" y="61"/>
                  </a:lnTo>
                  <a:lnTo>
                    <a:pt x="832" y="59"/>
                  </a:lnTo>
                  <a:lnTo>
                    <a:pt x="838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6" y="87"/>
                  </a:lnTo>
                  <a:lnTo>
                    <a:pt x="829" y="82"/>
                  </a:lnTo>
                  <a:lnTo>
                    <a:pt x="662" y="82"/>
                  </a:lnTo>
                  <a:lnTo>
                    <a:pt x="662" y="90"/>
                  </a:lnTo>
                  <a:lnTo>
                    <a:pt x="647" y="90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08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3363840" y="4205160"/>
              <a:ext cx="344520" cy="40032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574" y="620"/>
                  </a:moveTo>
                  <a:lnTo>
                    <a:pt x="593" y="606"/>
                  </a:lnTo>
                  <a:lnTo>
                    <a:pt x="611" y="594"/>
                  </a:lnTo>
                  <a:lnTo>
                    <a:pt x="629" y="585"/>
                  </a:lnTo>
                  <a:lnTo>
                    <a:pt x="649" y="576"/>
                  </a:lnTo>
                  <a:lnTo>
                    <a:pt x="613" y="553"/>
                  </a:lnTo>
                  <a:lnTo>
                    <a:pt x="597" y="542"/>
                  </a:lnTo>
                  <a:lnTo>
                    <a:pt x="579" y="528"/>
                  </a:lnTo>
                  <a:lnTo>
                    <a:pt x="580" y="551"/>
                  </a:lnTo>
                  <a:lnTo>
                    <a:pt x="577" y="573"/>
                  </a:lnTo>
                  <a:lnTo>
                    <a:pt x="574" y="620"/>
                  </a:lnTo>
                  <a:close/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7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0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3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4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6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1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4"/>
                  </a:lnTo>
                  <a:lnTo>
                    <a:pt x="597" y="1053"/>
                  </a:lnTo>
                  <a:lnTo>
                    <a:pt x="603" y="1043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2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2"/>
                  </a:lnTo>
                  <a:lnTo>
                    <a:pt x="527" y="896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7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2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9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6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8"/>
                  </a:lnTo>
                  <a:lnTo>
                    <a:pt x="38" y="602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2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3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8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80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8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8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8"/>
                  </a:lnTo>
                  <a:lnTo>
                    <a:pt x="532" y="14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7"/>
                  </a:lnTo>
                  <a:lnTo>
                    <a:pt x="591" y="117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2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29"/>
                  </a:lnTo>
                  <a:lnTo>
                    <a:pt x="954" y="322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  <a:close/>
                  <a:moveTo>
                    <a:pt x="113" y="642"/>
                  </a:moveTo>
                  <a:lnTo>
                    <a:pt x="104" y="650"/>
                  </a:lnTo>
                  <a:lnTo>
                    <a:pt x="109" y="655"/>
                  </a:lnTo>
                  <a:lnTo>
                    <a:pt x="111" y="661"/>
                  </a:lnTo>
                  <a:lnTo>
                    <a:pt x="113" y="655"/>
                  </a:lnTo>
                  <a:lnTo>
                    <a:pt x="115" y="649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3363840" y="4205160"/>
              <a:ext cx="344520" cy="40032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7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0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3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4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6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1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4"/>
                  </a:lnTo>
                  <a:lnTo>
                    <a:pt x="597" y="1053"/>
                  </a:lnTo>
                  <a:lnTo>
                    <a:pt x="603" y="1043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2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2"/>
                  </a:lnTo>
                  <a:lnTo>
                    <a:pt x="527" y="896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7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2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9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6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8"/>
                  </a:lnTo>
                  <a:lnTo>
                    <a:pt x="38" y="602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2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3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8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80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8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8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8"/>
                  </a:lnTo>
                  <a:lnTo>
                    <a:pt x="532" y="14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7"/>
                  </a:lnTo>
                  <a:lnTo>
                    <a:pt x="591" y="117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2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29"/>
                  </a:lnTo>
                  <a:lnTo>
                    <a:pt x="954" y="322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3554280" y="425916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0" y="124"/>
                  </a:lnTo>
                  <a:lnTo>
                    <a:pt x="584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9"/>
                  </a:lnTo>
                  <a:lnTo>
                    <a:pt x="142" y="162"/>
                  </a:lnTo>
                  <a:lnTo>
                    <a:pt x="143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5" y="181"/>
                  </a:lnTo>
                  <a:lnTo>
                    <a:pt x="163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4" y="14"/>
                  </a:lnTo>
                  <a:lnTo>
                    <a:pt x="80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2" y="34"/>
                  </a:lnTo>
                  <a:lnTo>
                    <a:pt x="262" y="41"/>
                  </a:lnTo>
                  <a:lnTo>
                    <a:pt x="261" y="48"/>
                  </a:lnTo>
                  <a:lnTo>
                    <a:pt x="259" y="51"/>
                  </a:lnTo>
                  <a:lnTo>
                    <a:pt x="249" y="51"/>
                  </a:lnTo>
                  <a:lnTo>
                    <a:pt x="250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49" y="28"/>
                  </a:lnTo>
                  <a:lnTo>
                    <a:pt x="242" y="25"/>
                  </a:lnTo>
                  <a:lnTo>
                    <a:pt x="126" y="25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2" y="55"/>
                  </a:lnTo>
                  <a:lnTo>
                    <a:pt x="249" y="51"/>
                  </a:lnTo>
                  <a:lnTo>
                    <a:pt x="259" y="51"/>
                  </a:lnTo>
                  <a:lnTo>
                    <a:pt x="605" y="51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1"/>
                  </a:lnTo>
                  <a:lnTo>
                    <a:pt x="641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8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8"/>
                  </a:lnTo>
                  <a:lnTo>
                    <a:pt x="837" y="88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7" y="91"/>
                  </a:lnTo>
                  <a:lnTo>
                    <a:pt x="647" y="88"/>
                  </a:lnTo>
                  <a:lnTo>
                    <a:pt x="619" y="88"/>
                  </a:lnTo>
                  <a:lnTo>
                    <a:pt x="619" y="103"/>
                  </a:lnTo>
                  <a:lnTo>
                    <a:pt x="609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3792600" y="3435480"/>
              <a:ext cx="257040" cy="304560"/>
            </a:xfrm>
            <a:custGeom>
              <a:avLst/>
              <a:gdLst/>
              <a:ahLst/>
              <a:rect l="l" t="t" r="r" b="b"/>
              <a:pathLst>
                <a:path w="812" h="959">
                  <a:moveTo>
                    <a:pt x="165" y="0"/>
                  </a:moveTo>
                  <a:lnTo>
                    <a:pt x="209" y="33"/>
                  </a:lnTo>
                  <a:lnTo>
                    <a:pt x="252" y="67"/>
                  </a:lnTo>
                  <a:lnTo>
                    <a:pt x="294" y="101"/>
                  </a:lnTo>
                  <a:lnTo>
                    <a:pt x="335" y="137"/>
                  </a:lnTo>
                  <a:lnTo>
                    <a:pt x="375" y="174"/>
                  </a:lnTo>
                  <a:lnTo>
                    <a:pt x="414" y="211"/>
                  </a:lnTo>
                  <a:lnTo>
                    <a:pt x="451" y="249"/>
                  </a:lnTo>
                  <a:lnTo>
                    <a:pt x="489" y="289"/>
                  </a:lnTo>
                  <a:lnTo>
                    <a:pt x="525" y="329"/>
                  </a:lnTo>
                  <a:lnTo>
                    <a:pt x="559" y="371"/>
                  </a:lnTo>
                  <a:lnTo>
                    <a:pt x="594" y="413"/>
                  </a:lnTo>
                  <a:lnTo>
                    <a:pt x="627" y="456"/>
                  </a:lnTo>
                  <a:lnTo>
                    <a:pt x="658" y="499"/>
                  </a:lnTo>
                  <a:lnTo>
                    <a:pt x="688" y="544"/>
                  </a:lnTo>
                  <a:lnTo>
                    <a:pt x="718" y="589"/>
                  </a:lnTo>
                  <a:lnTo>
                    <a:pt x="746" y="636"/>
                  </a:lnTo>
                  <a:lnTo>
                    <a:pt x="740" y="657"/>
                  </a:lnTo>
                  <a:lnTo>
                    <a:pt x="728" y="665"/>
                  </a:lnTo>
                  <a:lnTo>
                    <a:pt x="715" y="676"/>
                  </a:lnTo>
                  <a:lnTo>
                    <a:pt x="705" y="722"/>
                  </a:lnTo>
                  <a:lnTo>
                    <a:pt x="705" y="730"/>
                  </a:lnTo>
                  <a:lnTo>
                    <a:pt x="710" y="739"/>
                  </a:lnTo>
                  <a:lnTo>
                    <a:pt x="710" y="746"/>
                  </a:lnTo>
                  <a:lnTo>
                    <a:pt x="704" y="756"/>
                  </a:lnTo>
                  <a:lnTo>
                    <a:pt x="714" y="765"/>
                  </a:lnTo>
                  <a:lnTo>
                    <a:pt x="720" y="773"/>
                  </a:lnTo>
                  <a:lnTo>
                    <a:pt x="725" y="786"/>
                  </a:lnTo>
                  <a:lnTo>
                    <a:pt x="735" y="789"/>
                  </a:lnTo>
                  <a:lnTo>
                    <a:pt x="740" y="794"/>
                  </a:lnTo>
                  <a:lnTo>
                    <a:pt x="745" y="803"/>
                  </a:lnTo>
                  <a:lnTo>
                    <a:pt x="749" y="811"/>
                  </a:lnTo>
                  <a:lnTo>
                    <a:pt x="755" y="819"/>
                  </a:lnTo>
                  <a:lnTo>
                    <a:pt x="783" y="834"/>
                  </a:lnTo>
                  <a:lnTo>
                    <a:pt x="801" y="842"/>
                  </a:lnTo>
                  <a:lnTo>
                    <a:pt x="809" y="849"/>
                  </a:lnTo>
                  <a:lnTo>
                    <a:pt x="812" y="857"/>
                  </a:lnTo>
                  <a:lnTo>
                    <a:pt x="812" y="872"/>
                  </a:lnTo>
                  <a:lnTo>
                    <a:pt x="798" y="875"/>
                  </a:lnTo>
                  <a:lnTo>
                    <a:pt x="778" y="878"/>
                  </a:lnTo>
                  <a:lnTo>
                    <a:pt x="746" y="877"/>
                  </a:lnTo>
                  <a:lnTo>
                    <a:pt x="719" y="872"/>
                  </a:lnTo>
                  <a:lnTo>
                    <a:pt x="687" y="862"/>
                  </a:lnTo>
                  <a:lnTo>
                    <a:pt x="664" y="850"/>
                  </a:lnTo>
                  <a:lnTo>
                    <a:pt x="645" y="839"/>
                  </a:lnTo>
                  <a:lnTo>
                    <a:pt x="628" y="837"/>
                  </a:lnTo>
                  <a:lnTo>
                    <a:pt x="613" y="835"/>
                  </a:lnTo>
                  <a:lnTo>
                    <a:pt x="598" y="831"/>
                  </a:lnTo>
                  <a:lnTo>
                    <a:pt x="585" y="826"/>
                  </a:lnTo>
                  <a:lnTo>
                    <a:pt x="581" y="809"/>
                  </a:lnTo>
                  <a:lnTo>
                    <a:pt x="582" y="796"/>
                  </a:lnTo>
                  <a:lnTo>
                    <a:pt x="585" y="783"/>
                  </a:lnTo>
                  <a:lnTo>
                    <a:pt x="588" y="771"/>
                  </a:lnTo>
                  <a:lnTo>
                    <a:pt x="593" y="760"/>
                  </a:lnTo>
                  <a:lnTo>
                    <a:pt x="598" y="748"/>
                  </a:lnTo>
                  <a:lnTo>
                    <a:pt x="604" y="739"/>
                  </a:lnTo>
                  <a:lnTo>
                    <a:pt x="604" y="727"/>
                  </a:lnTo>
                  <a:lnTo>
                    <a:pt x="604" y="714"/>
                  </a:lnTo>
                  <a:lnTo>
                    <a:pt x="608" y="706"/>
                  </a:lnTo>
                  <a:lnTo>
                    <a:pt x="613" y="699"/>
                  </a:lnTo>
                  <a:lnTo>
                    <a:pt x="613" y="659"/>
                  </a:lnTo>
                  <a:lnTo>
                    <a:pt x="598" y="652"/>
                  </a:lnTo>
                  <a:lnTo>
                    <a:pt x="599" y="642"/>
                  </a:lnTo>
                  <a:lnTo>
                    <a:pt x="603" y="632"/>
                  </a:lnTo>
                  <a:lnTo>
                    <a:pt x="603" y="619"/>
                  </a:lnTo>
                  <a:lnTo>
                    <a:pt x="599" y="604"/>
                  </a:lnTo>
                  <a:lnTo>
                    <a:pt x="603" y="583"/>
                  </a:lnTo>
                  <a:lnTo>
                    <a:pt x="608" y="554"/>
                  </a:lnTo>
                  <a:lnTo>
                    <a:pt x="616" y="523"/>
                  </a:lnTo>
                  <a:lnTo>
                    <a:pt x="628" y="492"/>
                  </a:lnTo>
                  <a:lnTo>
                    <a:pt x="608" y="515"/>
                  </a:lnTo>
                  <a:lnTo>
                    <a:pt x="587" y="538"/>
                  </a:lnTo>
                  <a:lnTo>
                    <a:pt x="568" y="557"/>
                  </a:lnTo>
                  <a:lnTo>
                    <a:pt x="547" y="576"/>
                  </a:lnTo>
                  <a:lnTo>
                    <a:pt x="529" y="590"/>
                  </a:lnTo>
                  <a:lnTo>
                    <a:pt x="506" y="609"/>
                  </a:lnTo>
                  <a:lnTo>
                    <a:pt x="484" y="626"/>
                  </a:lnTo>
                  <a:lnTo>
                    <a:pt x="458" y="641"/>
                  </a:lnTo>
                  <a:lnTo>
                    <a:pt x="432" y="656"/>
                  </a:lnTo>
                  <a:lnTo>
                    <a:pt x="409" y="664"/>
                  </a:lnTo>
                  <a:lnTo>
                    <a:pt x="387" y="673"/>
                  </a:lnTo>
                  <a:lnTo>
                    <a:pt x="365" y="681"/>
                  </a:lnTo>
                  <a:lnTo>
                    <a:pt x="345" y="757"/>
                  </a:lnTo>
                  <a:lnTo>
                    <a:pt x="344" y="779"/>
                  </a:lnTo>
                  <a:lnTo>
                    <a:pt x="340" y="803"/>
                  </a:lnTo>
                  <a:lnTo>
                    <a:pt x="337" y="820"/>
                  </a:lnTo>
                  <a:lnTo>
                    <a:pt x="332" y="839"/>
                  </a:lnTo>
                  <a:lnTo>
                    <a:pt x="325" y="857"/>
                  </a:lnTo>
                  <a:lnTo>
                    <a:pt x="315" y="877"/>
                  </a:lnTo>
                  <a:lnTo>
                    <a:pt x="305" y="892"/>
                  </a:lnTo>
                  <a:lnTo>
                    <a:pt x="294" y="904"/>
                  </a:lnTo>
                  <a:lnTo>
                    <a:pt x="291" y="918"/>
                  </a:lnTo>
                  <a:lnTo>
                    <a:pt x="282" y="932"/>
                  </a:lnTo>
                  <a:lnTo>
                    <a:pt x="270" y="943"/>
                  </a:lnTo>
                  <a:lnTo>
                    <a:pt x="250" y="953"/>
                  </a:lnTo>
                  <a:lnTo>
                    <a:pt x="221" y="959"/>
                  </a:lnTo>
                  <a:lnTo>
                    <a:pt x="196" y="959"/>
                  </a:lnTo>
                  <a:lnTo>
                    <a:pt x="172" y="955"/>
                  </a:lnTo>
                  <a:lnTo>
                    <a:pt x="154" y="947"/>
                  </a:lnTo>
                  <a:lnTo>
                    <a:pt x="140" y="937"/>
                  </a:lnTo>
                  <a:lnTo>
                    <a:pt x="129" y="926"/>
                  </a:lnTo>
                  <a:lnTo>
                    <a:pt x="118" y="923"/>
                  </a:lnTo>
                  <a:lnTo>
                    <a:pt x="105" y="901"/>
                  </a:lnTo>
                  <a:lnTo>
                    <a:pt x="97" y="877"/>
                  </a:lnTo>
                  <a:lnTo>
                    <a:pt x="89" y="855"/>
                  </a:lnTo>
                  <a:lnTo>
                    <a:pt x="85" y="829"/>
                  </a:lnTo>
                  <a:lnTo>
                    <a:pt x="85" y="805"/>
                  </a:lnTo>
                  <a:lnTo>
                    <a:pt x="81" y="762"/>
                  </a:lnTo>
                  <a:lnTo>
                    <a:pt x="95" y="736"/>
                  </a:lnTo>
                  <a:lnTo>
                    <a:pt x="100" y="705"/>
                  </a:lnTo>
                  <a:lnTo>
                    <a:pt x="109" y="691"/>
                  </a:lnTo>
                  <a:lnTo>
                    <a:pt x="106" y="673"/>
                  </a:lnTo>
                  <a:lnTo>
                    <a:pt x="103" y="657"/>
                  </a:lnTo>
                  <a:lnTo>
                    <a:pt x="75" y="636"/>
                  </a:lnTo>
                  <a:lnTo>
                    <a:pt x="88" y="618"/>
                  </a:lnTo>
                  <a:lnTo>
                    <a:pt x="103" y="576"/>
                  </a:lnTo>
                  <a:lnTo>
                    <a:pt x="91" y="578"/>
                  </a:lnTo>
                  <a:lnTo>
                    <a:pt x="81" y="575"/>
                  </a:lnTo>
                  <a:lnTo>
                    <a:pt x="75" y="572"/>
                  </a:lnTo>
                  <a:lnTo>
                    <a:pt x="70" y="563"/>
                  </a:lnTo>
                  <a:lnTo>
                    <a:pt x="68" y="557"/>
                  </a:lnTo>
                  <a:lnTo>
                    <a:pt x="60" y="558"/>
                  </a:lnTo>
                  <a:lnTo>
                    <a:pt x="49" y="557"/>
                  </a:lnTo>
                  <a:lnTo>
                    <a:pt x="41" y="552"/>
                  </a:lnTo>
                  <a:lnTo>
                    <a:pt x="34" y="545"/>
                  </a:lnTo>
                  <a:lnTo>
                    <a:pt x="26" y="533"/>
                  </a:lnTo>
                  <a:lnTo>
                    <a:pt x="20" y="523"/>
                  </a:lnTo>
                  <a:lnTo>
                    <a:pt x="17" y="512"/>
                  </a:lnTo>
                  <a:lnTo>
                    <a:pt x="11" y="509"/>
                  </a:lnTo>
                  <a:lnTo>
                    <a:pt x="2" y="442"/>
                  </a:lnTo>
                  <a:lnTo>
                    <a:pt x="8" y="440"/>
                  </a:lnTo>
                  <a:lnTo>
                    <a:pt x="8" y="413"/>
                  </a:lnTo>
                  <a:lnTo>
                    <a:pt x="0" y="411"/>
                  </a:lnTo>
                  <a:lnTo>
                    <a:pt x="2" y="395"/>
                  </a:lnTo>
                  <a:lnTo>
                    <a:pt x="7" y="382"/>
                  </a:lnTo>
                  <a:lnTo>
                    <a:pt x="8" y="373"/>
                  </a:lnTo>
                  <a:lnTo>
                    <a:pt x="14" y="367"/>
                  </a:lnTo>
                  <a:lnTo>
                    <a:pt x="17" y="355"/>
                  </a:lnTo>
                  <a:lnTo>
                    <a:pt x="19" y="348"/>
                  </a:lnTo>
                  <a:lnTo>
                    <a:pt x="22" y="342"/>
                  </a:lnTo>
                  <a:lnTo>
                    <a:pt x="40" y="337"/>
                  </a:lnTo>
                  <a:lnTo>
                    <a:pt x="34" y="324"/>
                  </a:lnTo>
                  <a:lnTo>
                    <a:pt x="39" y="302"/>
                  </a:lnTo>
                  <a:lnTo>
                    <a:pt x="40" y="298"/>
                  </a:lnTo>
                  <a:lnTo>
                    <a:pt x="41" y="294"/>
                  </a:lnTo>
                  <a:lnTo>
                    <a:pt x="47" y="294"/>
                  </a:lnTo>
                  <a:lnTo>
                    <a:pt x="47" y="287"/>
                  </a:lnTo>
                  <a:lnTo>
                    <a:pt x="75" y="287"/>
                  </a:lnTo>
                  <a:lnTo>
                    <a:pt x="75" y="294"/>
                  </a:lnTo>
                  <a:lnTo>
                    <a:pt x="78" y="294"/>
                  </a:lnTo>
                  <a:lnTo>
                    <a:pt x="81" y="298"/>
                  </a:lnTo>
                  <a:lnTo>
                    <a:pt x="83" y="304"/>
                  </a:lnTo>
                  <a:lnTo>
                    <a:pt x="85" y="314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3"/>
                  </a:lnTo>
                  <a:lnTo>
                    <a:pt x="85" y="337"/>
                  </a:lnTo>
                  <a:lnTo>
                    <a:pt x="91" y="337"/>
                  </a:lnTo>
                  <a:lnTo>
                    <a:pt x="97" y="333"/>
                  </a:lnTo>
                  <a:lnTo>
                    <a:pt x="100" y="329"/>
                  </a:lnTo>
                  <a:lnTo>
                    <a:pt x="98" y="322"/>
                  </a:lnTo>
                  <a:lnTo>
                    <a:pt x="85" y="324"/>
                  </a:lnTo>
                  <a:lnTo>
                    <a:pt x="85" y="314"/>
                  </a:lnTo>
                  <a:lnTo>
                    <a:pt x="101" y="312"/>
                  </a:lnTo>
                  <a:lnTo>
                    <a:pt x="106" y="314"/>
                  </a:lnTo>
                  <a:lnTo>
                    <a:pt x="111" y="315"/>
                  </a:lnTo>
                  <a:lnTo>
                    <a:pt x="116" y="319"/>
                  </a:lnTo>
                  <a:lnTo>
                    <a:pt x="112" y="299"/>
                  </a:lnTo>
                  <a:lnTo>
                    <a:pt x="107" y="280"/>
                  </a:lnTo>
                  <a:lnTo>
                    <a:pt x="138" y="154"/>
                  </a:lnTo>
                  <a:lnTo>
                    <a:pt x="144" y="132"/>
                  </a:lnTo>
                  <a:lnTo>
                    <a:pt x="150" y="117"/>
                  </a:lnTo>
                  <a:lnTo>
                    <a:pt x="161" y="104"/>
                  </a:lnTo>
                  <a:lnTo>
                    <a:pt x="152" y="74"/>
                  </a:lnTo>
                  <a:lnTo>
                    <a:pt x="149" y="55"/>
                  </a:lnTo>
                  <a:lnTo>
                    <a:pt x="150" y="36"/>
                  </a:lnTo>
                  <a:lnTo>
                    <a:pt x="156" y="15"/>
                  </a:lnTo>
                  <a:lnTo>
                    <a:pt x="165" y="0"/>
                  </a:lnTo>
                  <a:close/>
                  <a:moveTo>
                    <a:pt x="114" y="337"/>
                  </a:moveTo>
                  <a:lnTo>
                    <a:pt x="106" y="345"/>
                  </a:lnTo>
                  <a:lnTo>
                    <a:pt x="109" y="350"/>
                  </a:lnTo>
                  <a:lnTo>
                    <a:pt x="112" y="356"/>
                  </a:lnTo>
                  <a:lnTo>
                    <a:pt x="114" y="350"/>
                  </a:lnTo>
                  <a:lnTo>
                    <a:pt x="116" y="344"/>
                  </a:lnTo>
                  <a:lnTo>
                    <a:pt x="114" y="3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3792600" y="3435480"/>
              <a:ext cx="257040" cy="304560"/>
            </a:xfrm>
            <a:custGeom>
              <a:avLst/>
              <a:gdLst/>
              <a:ahLst/>
              <a:rect l="l" t="t" r="r" b="b"/>
              <a:pathLst>
                <a:path w="812" h="959">
                  <a:moveTo>
                    <a:pt x="746" y="636"/>
                  </a:moveTo>
                  <a:lnTo>
                    <a:pt x="740" y="657"/>
                  </a:lnTo>
                  <a:lnTo>
                    <a:pt x="728" y="665"/>
                  </a:lnTo>
                  <a:lnTo>
                    <a:pt x="715" y="676"/>
                  </a:lnTo>
                  <a:lnTo>
                    <a:pt x="705" y="722"/>
                  </a:lnTo>
                  <a:lnTo>
                    <a:pt x="705" y="730"/>
                  </a:lnTo>
                  <a:lnTo>
                    <a:pt x="710" y="739"/>
                  </a:lnTo>
                  <a:lnTo>
                    <a:pt x="710" y="746"/>
                  </a:lnTo>
                  <a:lnTo>
                    <a:pt x="704" y="756"/>
                  </a:lnTo>
                  <a:lnTo>
                    <a:pt x="714" y="765"/>
                  </a:lnTo>
                  <a:lnTo>
                    <a:pt x="720" y="773"/>
                  </a:lnTo>
                  <a:lnTo>
                    <a:pt x="725" y="786"/>
                  </a:lnTo>
                  <a:lnTo>
                    <a:pt x="735" y="789"/>
                  </a:lnTo>
                  <a:lnTo>
                    <a:pt x="740" y="794"/>
                  </a:lnTo>
                  <a:lnTo>
                    <a:pt x="745" y="803"/>
                  </a:lnTo>
                  <a:lnTo>
                    <a:pt x="749" y="811"/>
                  </a:lnTo>
                  <a:lnTo>
                    <a:pt x="755" y="819"/>
                  </a:lnTo>
                  <a:lnTo>
                    <a:pt x="783" y="834"/>
                  </a:lnTo>
                  <a:lnTo>
                    <a:pt x="801" y="842"/>
                  </a:lnTo>
                  <a:lnTo>
                    <a:pt x="809" y="849"/>
                  </a:lnTo>
                  <a:lnTo>
                    <a:pt x="812" y="857"/>
                  </a:lnTo>
                  <a:lnTo>
                    <a:pt x="812" y="872"/>
                  </a:lnTo>
                  <a:lnTo>
                    <a:pt x="798" y="875"/>
                  </a:lnTo>
                  <a:lnTo>
                    <a:pt x="778" y="878"/>
                  </a:lnTo>
                  <a:lnTo>
                    <a:pt x="746" y="877"/>
                  </a:lnTo>
                  <a:lnTo>
                    <a:pt x="719" y="872"/>
                  </a:lnTo>
                  <a:lnTo>
                    <a:pt x="687" y="862"/>
                  </a:lnTo>
                  <a:lnTo>
                    <a:pt x="664" y="850"/>
                  </a:lnTo>
                  <a:lnTo>
                    <a:pt x="645" y="839"/>
                  </a:lnTo>
                  <a:lnTo>
                    <a:pt x="628" y="837"/>
                  </a:lnTo>
                  <a:lnTo>
                    <a:pt x="613" y="835"/>
                  </a:lnTo>
                  <a:lnTo>
                    <a:pt x="598" y="831"/>
                  </a:lnTo>
                  <a:lnTo>
                    <a:pt x="585" y="826"/>
                  </a:lnTo>
                  <a:lnTo>
                    <a:pt x="581" y="809"/>
                  </a:lnTo>
                  <a:lnTo>
                    <a:pt x="582" y="796"/>
                  </a:lnTo>
                  <a:lnTo>
                    <a:pt x="585" y="783"/>
                  </a:lnTo>
                  <a:lnTo>
                    <a:pt x="588" y="771"/>
                  </a:lnTo>
                  <a:lnTo>
                    <a:pt x="593" y="760"/>
                  </a:lnTo>
                  <a:lnTo>
                    <a:pt x="598" y="748"/>
                  </a:lnTo>
                  <a:lnTo>
                    <a:pt x="604" y="739"/>
                  </a:lnTo>
                  <a:lnTo>
                    <a:pt x="604" y="727"/>
                  </a:lnTo>
                  <a:lnTo>
                    <a:pt x="604" y="714"/>
                  </a:lnTo>
                  <a:lnTo>
                    <a:pt x="608" y="706"/>
                  </a:lnTo>
                  <a:lnTo>
                    <a:pt x="613" y="699"/>
                  </a:lnTo>
                  <a:lnTo>
                    <a:pt x="613" y="659"/>
                  </a:lnTo>
                  <a:lnTo>
                    <a:pt x="598" y="652"/>
                  </a:lnTo>
                  <a:lnTo>
                    <a:pt x="599" y="642"/>
                  </a:lnTo>
                  <a:lnTo>
                    <a:pt x="603" y="632"/>
                  </a:lnTo>
                  <a:lnTo>
                    <a:pt x="603" y="619"/>
                  </a:lnTo>
                  <a:lnTo>
                    <a:pt x="599" y="604"/>
                  </a:lnTo>
                  <a:lnTo>
                    <a:pt x="603" y="583"/>
                  </a:lnTo>
                  <a:lnTo>
                    <a:pt x="608" y="554"/>
                  </a:lnTo>
                  <a:lnTo>
                    <a:pt x="616" y="523"/>
                  </a:lnTo>
                  <a:lnTo>
                    <a:pt x="628" y="492"/>
                  </a:lnTo>
                  <a:lnTo>
                    <a:pt x="608" y="515"/>
                  </a:lnTo>
                  <a:lnTo>
                    <a:pt x="587" y="538"/>
                  </a:lnTo>
                  <a:lnTo>
                    <a:pt x="568" y="557"/>
                  </a:lnTo>
                  <a:lnTo>
                    <a:pt x="547" y="576"/>
                  </a:lnTo>
                  <a:lnTo>
                    <a:pt x="529" y="590"/>
                  </a:lnTo>
                  <a:lnTo>
                    <a:pt x="506" y="609"/>
                  </a:lnTo>
                  <a:lnTo>
                    <a:pt x="484" y="626"/>
                  </a:lnTo>
                  <a:lnTo>
                    <a:pt x="458" y="641"/>
                  </a:lnTo>
                  <a:lnTo>
                    <a:pt x="432" y="656"/>
                  </a:lnTo>
                  <a:lnTo>
                    <a:pt x="409" y="664"/>
                  </a:lnTo>
                  <a:lnTo>
                    <a:pt x="387" y="673"/>
                  </a:lnTo>
                  <a:lnTo>
                    <a:pt x="365" y="681"/>
                  </a:lnTo>
                  <a:lnTo>
                    <a:pt x="345" y="757"/>
                  </a:lnTo>
                  <a:lnTo>
                    <a:pt x="344" y="779"/>
                  </a:lnTo>
                  <a:lnTo>
                    <a:pt x="340" y="803"/>
                  </a:lnTo>
                  <a:lnTo>
                    <a:pt x="337" y="820"/>
                  </a:lnTo>
                  <a:lnTo>
                    <a:pt x="332" y="839"/>
                  </a:lnTo>
                  <a:lnTo>
                    <a:pt x="325" y="857"/>
                  </a:lnTo>
                  <a:lnTo>
                    <a:pt x="315" y="877"/>
                  </a:lnTo>
                  <a:lnTo>
                    <a:pt x="305" y="892"/>
                  </a:lnTo>
                  <a:lnTo>
                    <a:pt x="294" y="904"/>
                  </a:lnTo>
                  <a:lnTo>
                    <a:pt x="291" y="918"/>
                  </a:lnTo>
                  <a:lnTo>
                    <a:pt x="282" y="932"/>
                  </a:lnTo>
                  <a:lnTo>
                    <a:pt x="270" y="943"/>
                  </a:lnTo>
                  <a:lnTo>
                    <a:pt x="250" y="953"/>
                  </a:lnTo>
                  <a:lnTo>
                    <a:pt x="221" y="959"/>
                  </a:lnTo>
                  <a:lnTo>
                    <a:pt x="196" y="959"/>
                  </a:lnTo>
                  <a:lnTo>
                    <a:pt x="172" y="955"/>
                  </a:lnTo>
                  <a:lnTo>
                    <a:pt x="154" y="947"/>
                  </a:lnTo>
                  <a:lnTo>
                    <a:pt x="140" y="937"/>
                  </a:lnTo>
                  <a:lnTo>
                    <a:pt x="129" y="926"/>
                  </a:lnTo>
                  <a:lnTo>
                    <a:pt x="118" y="923"/>
                  </a:lnTo>
                  <a:lnTo>
                    <a:pt x="105" y="901"/>
                  </a:lnTo>
                  <a:lnTo>
                    <a:pt x="97" y="877"/>
                  </a:lnTo>
                  <a:lnTo>
                    <a:pt x="89" y="855"/>
                  </a:lnTo>
                  <a:lnTo>
                    <a:pt x="85" y="829"/>
                  </a:lnTo>
                  <a:lnTo>
                    <a:pt x="85" y="805"/>
                  </a:lnTo>
                  <a:lnTo>
                    <a:pt x="81" y="762"/>
                  </a:lnTo>
                  <a:lnTo>
                    <a:pt x="95" y="736"/>
                  </a:lnTo>
                  <a:lnTo>
                    <a:pt x="100" y="705"/>
                  </a:lnTo>
                  <a:lnTo>
                    <a:pt x="109" y="691"/>
                  </a:lnTo>
                  <a:lnTo>
                    <a:pt x="106" y="673"/>
                  </a:lnTo>
                  <a:lnTo>
                    <a:pt x="103" y="657"/>
                  </a:lnTo>
                  <a:lnTo>
                    <a:pt x="75" y="636"/>
                  </a:lnTo>
                  <a:lnTo>
                    <a:pt x="88" y="618"/>
                  </a:lnTo>
                  <a:lnTo>
                    <a:pt x="103" y="576"/>
                  </a:lnTo>
                  <a:lnTo>
                    <a:pt x="91" y="578"/>
                  </a:lnTo>
                  <a:lnTo>
                    <a:pt x="81" y="575"/>
                  </a:lnTo>
                  <a:lnTo>
                    <a:pt x="75" y="572"/>
                  </a:lnTo>
                  <a:lnTo>
                    <a:pt x="70" y="563"/>
                  </a:lnTo>
                  <a:lnTo>
                    <a:pt x="68" y="557"/>
                  </a:lnTo>
                  <a:lnTo>
                    <a:pt x="60" y="558"/>
                  </a:lnTo>
                  <a:lnTo>
                    <a:pt x="49" y="557"/>
                  </a:lnTo>
                  <a:lnTo>
                    <a:pt x="41" y="552"/>
                  </a:lnTo>
                  <a:lnTo>
                    <a:pt x="34" y="545"/>
                  </a:lnTo>
                  <a:lnTo>
                    <a:pt x="26" y="533"/>
                  </a:lnTo>
                  <a:lnTo>
                    <a:pt x="20" y="523"/>
                  </a:lnTo>
                  <a:lnTo>
                    <a:pt x="17" y="512"/>
                  </a:lnTo>
                  <a:lnTo>
                    <a:pt x="11" y="509"/>
                  </a:lnTo>
                  <a:lnTo>
                    <a:pt x="2" y="442"/>
                  </a:lnTo>
                  <a:lnTo>
                    <a:pt x="8" y="440"/>
                  </a:lnTo>
                  <a:lnTo>
                    <a:pt x="8" y="413"/>
                  </a:lnTo>
                  <a:lnTo>
                    <a:pt x="0" y="411"/>
                  </a:lnTo>
                  <a:lnTo>
                    <a:pt x="2" y="395"/>
                  </a:lnTo>
                  <a:lnTo>
                    <a:pt x="7" y="382"/>
                  </a:lnTo>
                  <a:lnTo>
                    <a:pt x="8" y="373"/>
                  </a:lnTo>
                  <a:lnTo>
                    <a:pt x="14" y="367"/>
                  </a:lnTo>
                  <a:lnTo>
                    <a:pt x="17" y="355"/>
                  </a:lnTo>
                  <a:lnTo>
                    <a:pt x="19" y="348"/>
                  </a:lnTo>
                  <a:lnTo>
                    <a:pt x="22" y="342"/>
                  </a:lnTo>
                  <a:lnTo>
                    <a:pt x="40" y="337"/>
                  </a:lnTo>
                  <a:lnTo>
                    <a:pt x="34" y="324"/>
                  </a:lnTo>
                  <a:lnTo>
                    <a:pt x="39" y="302"/>
                  </a:lnTo>
                  <a:lnTo>
                    <a:pt x="40" y="298"/>
                  </a:lnTo>
                  <a:lnTo>
                    <a:pt x="41" y="294"/>
                  </a:lnTo>
                  <a:lnTo>
                    <a:pt x="47" y="294"/>
                  </a:lnTo>
                  <a:lnTo>
                    <a:pt x="47" y="287"/>
                  </a:lnTo>
                  <a:lnTo>
                    <a:pt x="75" y="287"/>
                  </a:lnTo>
                  <a:lnTo>
                    <a:pt x="75" y="294"/>
                  </a:lnTo>
                  <a:lnTo>
                    <a:pt x="78" y="294"/>
                  </a:lnTo>
                  <a:lnTo>
                    <a:pt x="81" y="298"/>
                  </a:lnTo>
                  <a:lnTo>
                    <a:pt x="83" y="304"/>
                  </a:lnTo>
                  <a:lnTo>
                    <a:pt x="85" y="314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3"/>
                  </a:lnTo>
                  <a:lnTo>
                    <a:pt x="85" y="337"/>
                  </a:lnTo>
                  <a:lnTo>
                    <a:pt x="91" y="337"/>
                  </a:lnTo>
                  <a:lnTo>
                    <a:pt x="97" y="333"/>
                  </a:lnTo>
                  <a:lnTo>
                    <a:pt x="100" y="329"/>
                  </a:lnTo>
                  <a:lnTo>
                    <a:pt x="98" y="322"/>
                  </a:lnTo>
                  <a:lnTo>
                    <a:pt x="85" y="324"/>
                  </a:lnTo>
                  <a:lnTo>
                    <a:pt x="85" y="314"/>
                  </a:lnTo>
                  <a:lnTo>
                    <a:pt x="101" y="312"/>
                  </a:lnTo>
                  <a:lnTo>
                    <a:pt x="106" y="314"/>
                  </a:lnTo>
                  <a:lnTo>
                    <a:pt x="111" y="315"/>
                  </a:lnTo>
                  <a:lnTo>
                    <a:pt x="116" y="319"/>
                  </a:lnTo>
                  <a:lnTo>
                    <a:pt x="112" y="299"/>
                  </a:lnTo>
                  <a:lnTo>
                    <a:pt x="107" y="280"/>
                  </a:lnTo>
                  <a:lnTo>
                    <a:pt x="138" y="154"/>
                  </a:lnTo>
                  <a:lnTo>
                    <a:pt x="144" y="132"/>
                  </a:lnTo>
                  <a:lnTo>
                    <a:pt x="150" y="117"/>
                  </a:lnTo>
                  <a:lnTo>
                    <a:pt x="161" y="104"/>
                  </a:lnTo>
                  <a:lnTo>
                    <a:pt x="152" y="74"/>
                  </a:lnTo>
                  <a:lnTo>
                    <a:pt x="149" y="55"/>
                  </a:lnTo>
                  <a:lnTo>
                    <a:pt x="150" y="36"/>
                  </a:lnTo>
                  <a:lnTo>
                    <a:pt x="156" y="15"/>
                  </a:lnTo>
                  <a:lnTo>
                    <a:pt x="16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3529080" y="3770280"/>
              <a:ext cx="34596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574" y="621"/>
                  </a:moveTo>
                  <a:lnTo>
                    <a:pt x="594" y="606"/>
                  </a:lnTo>
                  <a:lnTo>
                    <a:pt x="613" y="595"/>
                  </a:lnTo>
                  <a:lnTo>
                    <a:pt x="631" y="585"/>
                  </a:lnTo>
                  <a:lnTo>
                    <a:pt x="650" y="576"/>
                  </a:lnTo>
                  <a:lnTo>
                    <a:pt x="614" y="553"/>
                  </a:lnTo>
                  <a:lnTo>
                    <a:pt x="597" y="542"/>
                  </a:lnTo>
                  <a:lnTo>
                    <a:pt x="579" y="529"/>
                  </a:lnTo>
                  <a:lnTo>
                    <a:pt x="581" y="552"/>
                  </a:lnTo>
                  <a:lnTo>
                    <a:pt x="577" y="573"/>
                  </a:lnTo>
                  <a:lnTo>
                    <a:pt x="574" y="621"/>
                  </a:lnTo>
                  <a:close/>
                  <a:moveTo>
                    <a:pt x="783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80" y="789"/>
                  </a:lnTo>
                  <a:lnTo>
                    <a:pt x="767" y="854"/>
                  </a:lnTo>
                  <a:lnTo>
                    <a:pt x="753" y="918"/>
                  </a:lnTo>
                  <a:lnTo>
                    <a:pt x="740" y="963"/>
                  </a:lnTo>
                  <a:lnTo>
                    <a:pt x="728" y="971"/>
                  </a:lnTo>
                  <a:lnTo>
                    <a:pt x="715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09" y="1043"/>
                  </a:lnTo>
                  <a:lnTo>
                    <a:pt x="709" y="1052"/>
                  </a:lnTo>
                  <a:lnTo>
                    <a:pt x="703" y="1062"/>
                  </a:lnTo>
                  <a:lnTo>
                    <a:pt x="714" y="1071"/>
                  </a:lnTo>
                  <a:lnTo>
                    <a:pt x="720" y="1079"/>
                  </a:lnTo>
                  <a:lnTo>
                    <a:pt x="724" y="1092"/>
                  </a:lnTo>
                  <a:lnTo>
                    <a:pt x="735" y="1095"/>
                  </a:lnTo>
                  <a:lnTo>
                    <a:pt x="740" y="1100"/>
                  </a:lnTo>
                  <a:lnTo>
                    <a:pt x="744" y="1107"/>
                  </a:lnTo>
                  <a:lnTo>
                    <a:pt x="749" y="1116"/>
                  </a:lnTo>
                  <a:lnTo>
                    <a:pt x="755" y="1124"/>
                  </a:lnTo>
                  <a:lnTo>
                    <a:pt x="783" y="1139"/>
                  </a:lnTo>
                  <a:lnTo>
                    <a:pt x="801" y="1147"/>
                  </a:lnTo>
                  <a:lnTo>
                    <a:pt x="808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8" y="1181"/>
                  </a:lnTo>
                  <a:lnTo>
                    <a:pt x="778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6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8" y="1143"/>
                  </a:lnTo>
                  <a:lnTo>
                    <a:pt x="613" y="1141"/>
                  </a:lnTo>
                  <a:lnTo>
                    <a:pt x="598" y="1137"/>
                  </a:lnTo>
                  <a:lnTo>
                    <a:pt x="585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5" y="1089"/>
                  </a:lnTo>
                  <a:lnTo>
                    <a:pt x="588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5" y="1043"/>
                  </a:lnTo>
                  <a:lnTo>
                    <a:pt x="605" y="1032"/>
                  </a:lnTo>
                  <a:lnTo>
                    <a:pt x="605" y="1020"/>
                  </a:lnTo>
                  <a:lnTo>
                    <a:pt x="608" y="1012"/>
                  </a:lnTo>
                  <a:lnTo>
                    <a:pt x="613" y="1005"/>
                  </a:lnTo>
                  <a:lnTo>
                    <a:pt x="613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2" y="938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8" y="859"/>
                  </a:lnTo>
                  <a:lnTo>
                    <a:pt x="616" y="829"/>
                  </a:lnTo>
                  <a:lnTo>
                    <a:pt x="628" y="798"/>
                  </a:lnTo>
                  <a:lnTo>
                    <a:pt x="608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7" y="882"/>
                  </a:lnTo>
                  <a:lnTo>
                    <a:pt x="528" y="896"/>
                  </a:lnTo>
                  <a:lnTo>
                    <a:pt x="506" y="915"/>
                  </a:lnTo>
                  <a:lnTo>
                    <a:pt x="484" y="931"/>
                  </a:lnTo>
                  <a:lnTo>
                    <a:pt x="458" y="947"/>
                  </a:lnTo>
                  <a:lnTo>
                    <a:pt x="432" y="962"/>
                  </a:lnTo>
                  <a:lnTo>
                    <a:pt x="409" y="970"/>
                  </a:lnTo>
                  <a:lnTo>
                    <a:pt x="386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3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2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6" y="1198"/>
                  </a:lnTo>
                  <a:lnTo>
                    <a:pt x="294" y="1210"/>
                  </a:lnTo>
                  <a:lnTo>
                    <a:pt x="291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50" y="1259"/>
                  </a:lnTo>
                  <a:lnTo>
                    <a:pt x="222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3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4" y="1135"/>
                  </a:lnTo>
                  <a:lnTo>
                    <a:pt x="84" y="1110"/>
                  </a:lnTo>
                  <a:lnTo>
                    <a:pt x="81" y="1067"/>
                  </a:lnTo>
                  <a:lnTo>
                    <a:pt x="95" y="1042"/>
                  </a:lnTo>
                  <a:lnTo>
                    <a:pt x="100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5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1" y="881"/>
                  </a:lnTo>
                  <a:lnTo>
                    <a:pt x="75" y="876"/>
                  </a:lnTo>
                  <a:lnTo>
                    <a:pt x="69" y="869"/>
                  </a:lnTo>
                  <a:lnTo>
                    <a:pt x="67" y="863"/>
                  </a:lnTo>
                  <a:lnTo>
                    <a:pt x="60" y="864"/>
                  </a:lnTo>
                  <a:lnTo>
                    <a:pt x="49" y="863"/>
                  </a:lnTo>
                  <a:lnTo>
                    <a:pt x="41" y="857"/>
                  </a:lnTo>
                  <a:lnTo>
                    <a:pt x="33" y="850"/>
                  </a:lnTo>
                  <a:lnTo>
                    <a:pt x="26" y="839"/>
                  </a:lnTo>
                  <a:lnTo>
                    <a:pt x="20" y="829"/>
                  </a:lnTo>
                  <a:lnTo>
                    <a:pt x="17" y="818"/>
                  </a:lnTo>
                  <a:lnTo>
                    <a:pt x="10" y="815"/>
                  </a:lnTo>
                  <a:lnTo>
                    <a:pt x="1" y="748"/>
                  </a:lnTo>
                  <a:lnTo>
                    <a:pt x="9" y="746"/>
                  </a:lnTo>
                  <a:lnTo>
                    <a:pt x="9" y="718"/>
                  </a:lnTo>
                  <a:lnTo>
                    <a:pt x="0" y="717"/>
                  </a:lnTo>
                  <a:lnTo>
                    <a:pt x="1" y="700"/>
                  </a:lnTo>
                  <a:lnTo>
                    <a:pt x="7" y="687"/>
                  </a:lnTo>
                  <a:lnTo>
                    <a:pt x="9" y="679"/>
                  </a:lnTo>
                  <a:lnTo>
                    <a:pt x="14" y="673"/>
                  </a:lnTo>
                  <a:lnTo>
                    <a:pt x="17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40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40" y="603"/>
                  </a:lnTo>
                  <a:lnTo>
                    <a:pt x="41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3"/>
                  </a:lnTo>
                  <a:lnTo>
                    <a:pt x="83" y="610"/>
                  </a:lnTo>
                  <a:lnTo>
                    <a:pt x="84" y="619"/>
                  </a:lnTo>
                  <a:lnTo>
                    <a:pt x="84" y="630"/>
                  </a:lnTo>
                  <a:lnTo>
                    <a:pt x="83" y="636"/>
                  </a:lnTo>
                  <a:lnTo>
                    <a:pt x="80" y="639"/>
                  </a:lnTo>
                  <a:lnTo>
                    <a:pt x="84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100" y="634"/>
                  </a:lnTo>
                  <a:lnTo>
                    <a:pt x="98" y="628"/>
                  </a:lnTo>
                  <a:lnTo>
                    <a:pt x="84" y="630"/>
                  </a:lnTo>
                  <a:lnTo>
                    <a:pt x="84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0" y="621"/>
                  </a:lnTo>
                  <a:lnTo>
                    <a:pt x="116" y="624"/>
                  </a:lnTo>
                  <a:lnTo>
                    <a:pt x="112" y="605"/>
                  </a:lnTo>
                  <a:lnTo>
                    <a:pt x="107" y="585"/>
                  </a:lnTo>
                  <a:lnTo>
                    <a:pt x="137" y="460"/>
                  </a:lnTo>
                  <a:lnTo>
                    <a:pt x="144" y="438"/>
                  </a:lnTo>
                  <a:lnTo>
                    <a:pt x="150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2"/>
                  </a:lnTo>
                  <a:lnTo>
                    <a:pt x="156" y="321"/>
                  </a:lnTo>
                  <a:lnTo>
                    <a:pt x="171" y="294"/>
                  </a:lnTo>
                  <a:lnTo>
                    <a:pt x="187" y="273"/>
                  </a:lnTo>
                  <a:lnTo>
                    <a:pt x="208" y="253"/>
                  </a:lnTo>
                  <a:lnTo>
                    <a:pt x="230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7" y="218"/>
                  </a:lnTo>
                  <a:lnTo>
                    <a:pt x="330" y="212"/>
                  </a:lnTo>
                  <a:lnTo>
                    <a:pt x="334" y="200"/>
                  </a:lnTo>
                  <a:lnTo>
                    <a:pt x="329" y="180"/>
                  </a:lnTo>
                  <a:lnTo>
                    <a:pt x="332" y="178"/>
                  </a:lnTo>
                  <a:lnTo>
                    <a:pt x="329" y="157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2" y="89"/>
                  </a:lnTo>
                  <a:lnTo>
                    <a:pt x="340" y="65"/>
                  </a:lnTo>
                  <a:lnTo>
                    <a:pt x="354" y="47"/>
                  </a:lnTo>
                  <a:lnTo>
                    <a:pt x="365" y="35"/>
                  </a:lnTo>
                  <a:lnTo>
                    <a:pt x="397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1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4" y="77"/>
                  </a:lnTo>
                  <a:lnTo>
                    <a:pt x="592" y="117"/>
                  </a:lnTo>
                  <a:lnTo>
                    <a:pt x="600" y="127"/>
                  </a:lnTo>
                  <a:lnTo>
                    <a:pt x="605" y="135"/>
                  </a:lnTo>
                  <a:lnTo>
                    <a:pt x="602" y="143"/>
                  </a:lnTo>
                  <a:lnTo>
                    <a:pt x="594" y="149"/>
                  </a:lnTo>
                  <a:lnTo>
                    <a:pt x="570" y="157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5"/>
                  </a:lnTo>
                  <a:lnTo>
                    <a:pt x="600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20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4" y="410"/>
                  </a:lnTo>
                  <a:lnTo>
                    <a:pt x="700" y="414"/>
                  </a:lnTo>
                  <a:lnTo>
                    <a:pt x="704" y="420"/>
                  </a:lnTo>
                  <a:lnTo>
                    <a:pt x="708" y="426"/>
                  </a:lnTo>
                  <a:lnTo>
                    <a:pt x="715" y="437"/>
                  </a:lnTo>
                  <a:lnTo>
                    <a:pt x="728" y="444"/>
                  </a:lnTo>
                  <a:lnTo>
                    <a:pt x="738" y="451"/>
                  </a:lnTo>
                  <a:lnTo>
                    <a:pt x="747" y="460"/>
                  </a:lnTo>
                  <a:lnTo>
                    <a:pt x="758" y="466"/>
                  </a:lnTo>
                  <a:lnTo>
                    <a:pt x="784" y="458"/>
                  </a:lnTo>
                  <a:lnTo>
                    <a:pt x="799" y="454"/>
                  </a:lnTo>
                  <a:lnTo>
                    <a:pt x="813" y="451"/>
                  </a:lnTo>
                  <a:lnTo>
                    <a:pt x="824" y="447"/>
                  </a:lnTo>
                  <a:lnTo>
                    <a:pt x="865" y="420"/>
                  </a:lnTo>
                  <a:lnTo>
                    <a:pt x="917" y="362"/>
                  </a:lnTo>
                  <a:lnTo>
                    <a:pt x="925" y="363"/>
                  </a:lnTo>
                  <a:lnTo>
                    <a:pt x="954" y="330"/>
                  </a:lnTo>
                  <a:lnTo>
                    <a:pt x="956" y="322"/>
                  </a:lnTo>
                  <a:lnTo>
                    <a:pt x="960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9" y="345"/>
                  </a:lnTo>
                  <a:lnTo>
                    <a:pt x="994" y="362"/>
                  </a:lnTo>
                  <a:lnTo>
                    <a:pt x="971" y="400"/>
                  </a:lnTo>
                  <a:lnTo>
                    <a:pt x="974" y="410"/>
                  </a:lnTo>
                  <a:lnTo>
                    <a:pt x="914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1" y="610"/>
                  </a:lnTo>
                  <a:lnTo>
                    <a:pt x="801" y="613"/>
                  </a:lnTo>
                  <a:lnTo>
                    <a:pt x="783" y="614"/>
                  </a:lnTo>
                  <a:close/>
                  <a:moveTo>
                    <a:pt x="113" y="642"/>
                  </a:moveTo>
                  <a:lnTo>
                    <a:pt x="106" y="651"/>
                  </a:lnTo>
                  <a:lnTo>
                    <a:pt x="109" y="656"/>
                  </a:lnTo>
                  <a:lnTo>
                    <a:pt x="112" y="662"/>
                  </a:lnTo>
                  <a:lnTo>
                    <a:pt x="113" y="656"/>
                  </a:lnTo>
                  <a:lnTo>
                    <a:pt x="116" y="650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3529080" y="3770280"/>
              <a:ext cx="34596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783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80" y="789"/>
                  </a:lnTo>
                  <a:lnTo>
                    <a:pt x="767" y="854"/>
                  </a:lnTo>
                  <a:lnTo>
                    <a:pt x="753" y="918"/>
                  </a:lnTo>
                  <a:lnTo>
                    <a:pt x="740" y="963"/>
                  </a:lnTo>
                  <a:lnTo>
                    <a:pt x="728" y="971"/>
                  </a:lnTo>
                  <a:lnTo>
                    <a:pt x="715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09" y="1043"/>
                  </a:lnTo>
                  <a:lnTo>
                    <a:pt x="709" y="1052"/>
                  </a:lnTo>
                  <a:lnTo>
                    <a:pt x="703" y="1062"/>
                  </a:lnTo>
                  <a:lnTo>
                    <a:pt x="714" y="1071"/>
                  </a:lnTo>
                  <a:lnTo>
                    <a:pt x="720" y="1079"/>
                  </a:lnTo>
                  <a:lnTo>
                    <a:pt x="724" y="1092"/>
                  </a:lnTo>
                  <a:lnTo>
                    <a:pt x="735" y="1095"/>
                  </a:lnTo>
                  <a:lnTo>
                    <a:pt x="740" y="1100"/>
                  </a:lnTo>
                  <a:lnTo>
                    <a:pt x="744" y="1107"/>
                  </a:lnTo>
                  <a:lnTo>
                    <a:pt x="749" y="1116"/>
                  </a:lnTo>
                  <a:lnTo>
                    <a:pt x="755" y="1124"/>
                  </a:lnTo>
                  <a:lnTo>
                    <a:pt x="783" y="1139"/>
                  </a:lnTo>
                  <a:lnTo>
                    <a:pt x="801" y="1147"/>
                  </a:lnTo>
                  <a:lnTo>
                    <a:pt x="808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8" y="1181"/>
                  </a:lnTo>
                  <a:lnTo>
                    <a:pt x="778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6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8" y="1143"/>
                  </a:lnTo>
                  <a:lnTo>
                    <a:pt x="613" y="1141"/>
                  </a:lnTo>
                  <a:lnTo>
                    <a:pt x="598" y="1137"/>
                  </a:lnTo>
                  <a:lnTo>
                    <a:pt x="585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5" y="1089"/>
                  </a:lnTo>
                  <a:lnTo>
                    <a:pt x="588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5" y="1043"/>
                  </a:lnTo>
                  <a:lnTo>
                    <a:pt x="605" y="1032"/>
                  </a:lnTo>
                  <a:lnTo>
                    <a:pt x="605" y="1020"/>
                  </a:lnTo>
                  <a:lnTo>
                    <a:pt x="608" y="1012"/>
                  </a:lnTo>
                  <a:lnTo>
                    <a:pt x="613" y="1005"/>
                  </a:lnTo>
                  <a:lnTo>
                    <a:pt x="613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2" y="938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8" y="859"/>
                  </a:lnTo>
                  <a:lnTo>
                    <a:pt x="616" y="829"/>
                  </a:lnTo>
                  <a:lnTo>
                    <a:pt x="628" y="798"/>
                  </a:lnTo>
                  <a:lnTo>
                    <a:pt x="608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7" y="882"/>
                  </a:lnTo>
                  <a:lnTo>
                    <a:pt x="528" y="896"/>
                  </a:lnTo>
                  <a:lnTo>
                    <a:pt x="506" y="915"/>
                  </a:lnTo>
                  <a:lnTo>
                    <a:pt x="484" y="931"/>
                  </a:lnTo>
                  <a:lnTo>
                    <a:pt x="458" y="947"/>
                  </a:lnTo>
                  <a:lnTo>
                    <a:pt x="432" y="962"/>
                  </a:lnTo>
                  <a:lnTo>
                    <a:pt x="409" y="970"/>
                  </a:lnTo>
                  <a:lnTo>
                    <a:pt x="386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3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2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6" y="1198"/>
                  </a:lnTo>
                  <a:lnTo>
                    <a:pt x="294" y="1210"/>
                  </a:lnTo>
                  <a:lnTo>
                    <a:pt x="291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50" y="1259"/>
                  </a:lnTo>
                  <a:lnTo>
                    <a:pt x="222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3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4" y="1135"/>
                  </a:lnTo>
                  <a:lnTo>
                    <a:pt x="84" y="1110"/>
                  </a:lnTo>
                  <a:lnTo>
                    <a:pt x="81" y="1067"/>
                  </a:lnTo>
                  <a:lnTo>
                    <a:pt x="95" y="1042"/>
                  </a:lnTo>
                  <a:lnTo>
                    <a:pt x="100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5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1" y="881"/>
                  </a:lnTo>
                  <a:lnTo>
                    <a:pt x="75" y="876"/>
                  </a:lnTo>
                  <a:lnTo>
                    <a:pt x="69" y="869"/>
                  </a:lnTo>
                  <a:lnTo>
                    <a:pt x="67" y="863"/>
                  </a:lnTo>
                  <a:lnTo>
                    <a:pt x="60" y="864"/>
                  </a:lnTo>
                  <a:lnTo>
                    <a:pt x="49" y="863"/>
                  </a:lnTo>
                  <a:lnTo>
                    <a:pt x="41" y="857"/>
                  </a:lnTo>
                  <a:lnTo>
                    <a:pt x="33" y="850"/>
                  </a:lnTo>
                  <a:lnTo>
                    <a:pt x="26" y="839"/>
                  </a:lnTo>
                  <a:lnTo>
                    <a:pt x="20" y="829"/>
                  </a:lnTo>
                  <a:lnTo>
                    <a:pt x="17" y="818"/>
                  </a:lnTo>
                  <a:lnTo>
                    <a:pt x="10" y="815"/>
                  </a:lnTo>
                  <a:lnTo>
                    <a:pt x="1" y="748"/>
                  </a:lnTo>
                  <a:lnTo>
                    <a:pt x="9" y="746"/>
                  </a:lnTo>
                  <a:lnTo>
                    <a:pt x="9" y="718"/>
                  </a:lnTo>
                  <a:lnTo>
                    <a:pt x="0" y="717"/>
                  </a:lnTo>
                  <a:lnTo>
                    <a:pt x="1" y="700"/>
                  </a:lnTo>
                  <a:lnTo>
                    <a:pt x="7" y="687"/>
                  </a:lnTo>
                  <a:lnTo>
                    <a:pt x="9" y="679"/>
                  </a:lnTo>
                  <a:lnTo>
                    <a:pt x="14" y="673"/>
                  </a:lnTo>
                  <a:lnTo>
                    <a:pt x="17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40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40" y="603"/>
                  </a:lnTo>
                  <a:lnTo>
                    <a:pt x="41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3"/>
                  </a:lnTo>
                  <a:lnTo>
                    <a:pt x="83" y="610"/>
                  </a:lnTo>
                  <a:lnTo>
                    <a:pt x="84" y="619"/>
                  </a:lnTo>
                  <a:lnTo>
                    <a:pt x="84" y="630"/>
                  </a:lnTo>
                  <a:lnTo>
                    <a:pt x="83" y="636"/>
                  </a:lnTo>
                  <a:lnTo>
                    <a:pt x="80" y="639"/>
                  </a:lnTo>
                  <a:lnTo>
                    <a:pt x="84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100" y="634"/>
                  </a:lnTo>
                  <a:lnTo>
                    <a:pt x="98" y="628"/>
                  </a:lnTo>
                  <a:lnTo>
                    <a:pt x="84" y="630"/>
                  </a:lnTo>
                  <a:lnTo>
                    <a:pt x="84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0" y="621"/>
                  </a:lnTo>
                  <a:lnTo>
                    <a:pt x="116" y="624"/>
                  </a:lnTo>
                  <a:lnTo>
                    <a:pt x="112" y="605"/>
                  </a:lnTo>
                  <a:lnTo>
                    <a:pt x="107" y="585"/>
                  </a:lnTo>
                  <a:lnTo>
                    <a:pt x="137" y="460"/>
                  </a:lnTo>
                  <a:lnTo>
                    <a:pt x="144" y="438"/>
                  </a:lnTo>
                  <a:lnTo>
                    <a:pt x="150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2"/>
                  </a:lnTo>
                  <a:lnTo>
                    <a:pt x="156" y="321"/>
                  </a:lnTo>
                  <a:lnTo>
                    <a:pt x="171" y="294"/>
                  </a:lnTo>
                  <a:lnTo>
                    <a:pt x="187" y="273"/>
                  </a:lnTo>
                  <a:lnTo>
                    <a:pt x="208" y="253"/>
                  </a:lnTo>
                  <a:lnTo>
                    <a:pt x="230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7" y="218"/>
                  </a:lnTo>
                  <a:lnTo>
                    <a:pt x="330" y="212"/>
                  </a:lnTo>
                  <a:lnTo>
                    <a:pt x="334" y="200"/>
                  </a:lnTo>
                  <a:lnTo>
                    <a:pt x="329" y="180"/>
                  </a:lnTo>
                  <a:lnTo>
                    <a:pt x="332" y="178"/>
                  </a:lnTo>
                  <a:lnTo>
                    <a:pt x="329" y="157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2" y="89"/>
                  </a:lnTo>
                  <a:lnTo>
                    <a:pt x="340" y="65"/>
                  </a:lnTo>
                  <a:lnTo>
                    <a:pt x="354" y="47"/>
                  </a:lnTo>
                  <a:lnTo>
                    <a:pt x="365" y="35"/>
                  </a:lnTo>
                  <a:lnTo>
                    <a:pt x="397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1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4" y="77"/>
                  </a:lnTo>
                  <a:lnTo>
                    <a:pt x="592" y="117"/>
                  </a:lnTo>
                  <a:lnTo>
                    <a:pt x="600" y="127"/>
                  </a:lnTo>
                  <a:lnTo>
                    <a:pt x="605" y="135"/>
                  </a:lnTo>
                  <a:lnTo>
                    <a:pt x="602" y="143"/>
                  </a:lnTo>
                  <a:lnTo>
                    <a:pt x="594" y="149"/>
                  </a:lnTo>
                  <a:lnTo>
                    <a:pt x="570" y="157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5"/>
                  </a:lnTo>
                  <a:lnTo>
                    <a:pt x="600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20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4" y="410"/>
                  </a:lnTo>
                  <a:lnTo>
                    <a:pt x="700" y="414"/>
                  </a:lnTo>
                  <a:lnTo>
                    <a:pt x="704" y="420"/>
                  </a:lnTo>
                  <a:lnTo>
                    <a:pt x="708" y="426"/>
                  </a:lnTo>
                  <a:lnTo>
                    <a:pt x="715" y="437"/>
                  </a:lnTo>
                  <a:lnTo>
                    <a:pt x="728" y="444"/>
                  </a:lnTo>
                  <a:lnTo>
                    <a:pt x="738" y="451"/>
                  </a:lnTo>
                  <a:lnTo>
                    <a:pt x="747" y="460"/>
                  </a:lnTo>
                  <a:lnTo>
                    <a:pt x="758" y="466"/>
                  </a:lnTo>
                  <a:lnTo>
                    <a:pt x="784" y="458"/>
                  </a:lnTo>
                  <a:lnTo>
                    <a:pt x="799" y="454"/>
                  </a:lnTo>
                  <a:lnTo>
                    <a:pt x="813" y="451"/>
                  </a:lnTo>
                  <a:lnTo>
                    <a:pt x="824" y="447"/>
                  </a:lnTo>
                  <a:lnTo>
                    <a:pt x="865" y="420"/>
                  </a:lnTo>
                  <a:lnTo>
                    <a:pt x="917" y="362"/>
                  </a:lnTo>
                  <a:lnTo>
                    <a:pt x="925" y="363"/>
                  </a:lnTo>
                  <a:lnTo>
                    <a:pt x="954" y="330"/>
                  </a:lnTo>
                  <a:lnTo>
                    <a:pt x="956" y="322"/>
                  </a:lnTo>
                  <a:lnTo>
                    <a:pt x="960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9" y="345"/>
                  </a:lnTo>
                  <a:lnTo>
                    <a:pt x="994" y="362"/>
                  </a:lnTo>
                  <a:lnTo>
                    <a:pt x="971" y="400"/>
                  </a:lnTo>
                  <a:lnTo>
                    <a:pt x="974" y="410"/>
                  </a:lnTo>
                  <a:lnTo>
                    <a:pt x="914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1" y="610"/>
                  </a:lnTo>
                  <a:lnTo>
                    <a:pt x="801" y="613"/>
                  </a:lnTo>
                  <a:lnTo>
                    <a:pt x="783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371952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8" y="112"/>
                  </a:lnTo>
                  <a:lnTo>
                    <a:pt x="500" y="116"/>
                  </a:lnTo>
                  <a:lnTo>
                    <a:pt x="496" y="121"/>
                  </a:lnTo>
                  <a:lnTo>
                    <a:pt x="591" y="124"/>
                  </a:lnTo>
                  <a:lnTo>
                    <a:pt x="584" y="127"/>
                  </a:lnTo>
                  <a:lnTo>
                    <a:pt x="485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3" y="170"/>
                  </a:lnTo>
                  <a:lnTo>
                    <a:pt x="243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8" y="155"/>
                  </a:lnTo>
                  <a:lnTo>
                    <a:pt x="165" y="152"/>
                  </a:lnTo>
                  <a:lnTo>
                    <a:pt x="162" y="150"/>
                  </a:lnTo>
                  <a:lnTo>
                    <a:pt x="159" y="150"/>
                  </a:lnTo>
                  <a:lnTo>
                    <a:pt x="134" y="148"/>
                  </a:lnTo>
                  <a:lnTo>
                    <a:pt x="142" y="162"/>
                  </a:lnTo>
                  <a:lnTo>
                    <a:pt x="143" y="168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6" y="180"/>
                  </a:lnTo>
                  <a:lnTo>
                    <a:pt x="163" y="180"/>
                  </a:lnTo>
                  <a:lnTo>
                    <a:pt x="167" y="180"/>
                  </a:lnTo>
                  <a:lnTo>
                    <a:pt x="168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3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2" y="21"/>
                  </a:lnTo>
                  <a:lnTo>
                    <a:pt x="260" y="26"/>
                  </a:lnTo>
                  <a:lnTo>
                    <a:pt x="263" y="33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60" y="50"/>
                  </a:lnTo>
                  <a:lnTo>
                    <a:pt x="249" y="50"/>
                  </a:lnTo>
                  <a:lnTo>
                    <a:pt x="251" y="46"/>
                  </a:lnTo>
                  <a:lnTo>
                    <a:pt x="254" y="40"/>
                  </a:lnTo>
                  <a:lnTo>
                    <a:pt x="254" y="33"/>
                  </a:lnTo>
                  <a:lnTo>
                    <a:pt x="249" y="28"/>
                  </a:lnTo>
                  <a:lnTo>
                    <a:pt x="243" y="24"/>
                  </a:lnTo>
                  <a:lnTo>
                    <a:pt x="125" y="24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3" y="55"/>
                  </a:lnTo>
                  <a:lnTo>
                    <a:pt x="249" y="50"/>
                  </a:lnTo>
                  <a:lnTo>
                    <a:pt x="260" y="50"/>
                  </a:lnTo>
                  <a:lnTo>
                    <a:pt x="606" y="50"/>
                  </a:lnTo>
                  <a:lnTo>
                    <a:pt x="614" y="53"/>
                  </a:lnTo>
                  <a:lnTo>
                    <a:pt x="615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5" y="20"/>
                  </a:lnTo>
                  <a:lnTo>
                    <a:pt x="612" y="49"/>
                  </a:lnTo>
                  <a:lnTo>
                    <a:pt x="612" y="53"/>
                  </a:lnTo>
                  <a:lnTo>
                    <a:pt x="614" y="53"/>
                  </a:lnTo>
                  <a:lnTo>
                    <a:pt x="606" y="50"/>
                  </a:lnTo>
                  <a:lnTo>
                    <a:pt x="640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8" y="8"/>
                  </a:lnTo>
                  <a:lnTo>
                    <a:pt x="661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31" y="59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7" y="87"/>
                  </a:lnTo>
                  <a:lnTo>
                    <a:pt x="828" y="82"/>
                  </a:lnTo>
                  <a:lnTo>
                    <a:pt x="661" y="82"/>
                  </a:lnTo>
                  <a:lnTo>
                    <a:pt x="661" y="90"/>
                  </a:lnTo>
                  <a:lnTo>
                    <a:pt x="647" y="90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09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3792600" y="4205160"/>
              <a:ext cx="228600" cy="343080"/>
            </a:xfrm>
            <a:custGeom>
              <a:avLst/>
              <a:gdLst/>
              <a:ahLst/>
              <a:rect l="l" t="t" r="r" b="b"/>
              <a:pathLst>
                <a:path w="720" h="1082">
                  <a:moveTo>
                    <a:pt x="574" y="620"/>
                  </a:moveTo>
                  <a:lnTo>
                    <a:pt x="595" y="606"/>
                  </a:lnTo>
                  <a:lnTo>
                    <a:pt x="609" y="597"/>
                  </a:lnTo>
                  <a:lnTo>
                    <a:pt x="580" y="632"/>
                  </a:lnTo>
                  <a:lnTo>
                    <a:pt x="552" y="668"/>
                  </a:lnTo>
                  <a:lnTo>
                    <a:pt x="523" y="701"/>
                  </a:lnTo>
                  <a:lnTo>
                    <a:pt x="492" y="735"/>
                  </a:lnTo>
                  <a:lnTo>
                    <a:pt x="462" y="767"/>
                  </a:lnTo>
                  <a:lnTo>
                    <a:pt x="430" y="800"/>
                  </a:lnTo>
                  <a:lnTo>
                    <a:pt x="398" y="831"/>
                  </a:lnTo>
                  <a:lnTo>
                    <a:pt x="365" y="862"/>
                  </a:lnTo>
                  <a:lnTo>
                    <a:pt x="332" y="892"/>
                  </a:lnTo>
                  <a:lnTo>
                    <a:pt x="298" y="922"/>
                  </a:lnTo>
                  <a:lnTo>
                    <a:pt x="263" y="950"/>
                  </a:lnTo>
                  <a:lnTo>
                    <a:pt x="229" y="978"/>
                  </a:lnTo>
                  <a:lnTo>
                    <a:pt x="192" y="1006"/>
                  </a:lnTo>
                  <a:lnTo>
                    <a:pt x="156" y="1032"/>
                  </a:lnTo>
                  <a:lnTo>
                    <a:pt x="120" y="1057"/>
                  </a:lnTo>
                  <a:lnTo>
                    <a:pt x="82" y="1082"/>
                  </a:lnTo>
                  <a:lnTo>
                    <a:pt x="81" y="1067"/>
                  </a:lnTo>
                  <a:lnTo>
                    <a:pt x="95" y="1041"/>
                  </a:lnTo>
                  <a:lnTo>
                    <a:pt x="100" y="1010"/>
                  </a:lnTo>
                  <a:lnTo>
                    <a:pt x="109" y="997"/>
                  </a:lnTo>
                  <a:lnTo>
                    <a:pt x="106" y="978"/>
                  </a:lnTo>
                  <a:lnTo>
                    <a:pt x="103" y="962"/>
                  </a:lnTo>
                  <a:lnTo>
                    <a:pt x="75" y="941"/>
                  </a:lnTo>
                  <a:lnTo>
                    <a:pt x="88" y="923"/>
                  </a:lnTo>
                  <a:lnTo>
                    <a:pt x="103" y="882"/>
                  </a:lnTo>
                  <a:lnTo>
                    <a:pt x="91" y="883"/>
                  </a:lnTo>
                  <a:lnTo>
                    <a:pt x="81" y="880"/>
                  </a:lnTo>
                  <a:lnTo>
                    <a:pt x="75" y="877"/>
                  </a:lnTo>
                  <a:lnTo>
                    <a:pt x="70" y="868"/>
                  </a:lnTo>
                  <a:lnTo>
                    <a:pt x="68" y="862"/>
                  </a:lnTo>
                  <a:lnTo>
                    <a:pt x="60" y="863"/>
                  </a:lnTo>
                  <a:lnTo>
                    <a:pt x="49" y="862"/>
                  </a:lnTo>
                  <a:lnTo>
                    <a:pt x="41" y="857"/>
                  </a:lnTo>
                  <a:lnTo>
                    <a:pt x="34" y="850"/>
                  </a:lnTo>
                  <a:lnTo>
                    <a:pt x="26" y="839"/>
                  </a:lnTo>
                  <a:lnTo>
                    <a:pt x="20" y="828"/>
                  </a:lnTo>
                  <a:lnTo>
                    <a:pt x="17" y="817"/>
                  </a:lnTo>
                  <a:lnTo>
                    <a:pt x="11" y="814"/>
                  </a:lnTo>
                  <a:lnTo>
                    <a:pt x="2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2" y="700"/>
                  </a:lnTo>
                  <a:lnTo>
                    <a:pt x="7" y="686"/>
                  </a:lnTo>
                  <a:lnTo>
                    <a:pt x="8" y="678"/>
                  </a:lnTo>
                  <a:lnTo>
                    <a:pt x="14" y="672"/>
                  </a:lnTo>
                  <a:lnTo>
                    <a:pt x="17" y="660"/>
                  </a:lnTo>
                  <a:lnTo>
                    <a:pt x="19" y="653"/>
                  </a:lnTo>
                  <a:lnTo>
                    <a:pt x="22" y="647"/>
                  </a:lnTo>
                  <a:lnTo>
                    <a:pt x="40" y="642"/>
                  </a:lnTo>
                  <a:lnTo>
                    <a:pt x="34" y="629"/>
                  </a:lnTo>
                  <a:lnTo>
                    <a:pt x="39" y="608"/>
                  </a:lnTo>
                  <a:lnTo>
                    <a:pt x="40" y="602"/>
                  </a:lnTo>
                  <a:lnTo>
                    <a:pt x="41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2"/>
                  </a:lnTo>
                  <a:lnTo>
                    <a:pt x="83" y="609"/>
                  </a:lnTo>
                  <a:lnTo>
                    <a:pt x="85" y="619"/>
                  </a:lnTo>
                  <a:lnTo>
                    <a:pt x="85" y="629"/>
                  </a:lnTo>
                  <a:lnTo>
                    <a:pt x="83" y="635"/>
                  </a:lnTo>
                  <a:lnTo>
                    <a:pt x="80" y="638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7" y="638"/>
                  </a:lnTo>
                  <a:lnTo>
                    <a:pt x="100" y="634"/>
                  </a:lnTo>
                  <a:lnTo>
                    <a:pt x="98" y="627"/>
                  </a:lnTo>
                  <a:lnTo>
                    <a:pt x="85" y="629"/>
                  </a:lnTo>
                  <a:lnTo>
                    <a:pt x="85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1" y="620"/>
                  </a:lnTo>
                  <a:lnTo>
                    <a:pt x="116" y="623"/>
                  </a:lnTo>
                  <a:lnTo>
                    <a:pt x="112" y="604"/>
                  </a:lnTo>
                  <a:lnTo>
                    <a:pt x="107" y="585"/>
                  </a:lnTo>
                  <a:lnTo>
                    <a:pt x="138" y="459"/>
                  </a:lnTo>
                  <a:lnTo>
                    <a:pt x="144" y="438"/>
                  </a:lnTo>
                  <a:lnTo>
                    <a:pt x="150" y="422"/>
                  </a:lnTo>
                  <a:lnTo>
                    <a:pt x="161" y="409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2" y="294"/>
                  </a:lnTo>
                  <a:lnTo>
                    <a:pt x="187" y="272"/>
                  </a:lnTo>
                  <a:lnTo>
                    <a:pt x="208" y="252"/>
                  </a:lnTo>
                  <a:lnTo>
                    <a:pt x="230" y="239"/>
                  </a:lnTo>
                  <a:lnTo>
                    <a:pt x="244" y="226"/>
                  </a:lnTo>
                  <a:lnTo>
                    <a:pt x="256" y="218"/>
                  </a:lnTo>
                  <a:lnTo>
                    <a:pt x="270" y="214"/>
                  </a:lnTo>
                  <a:lnTo>
                    <a:pt x="282" y="214"/>
                  </a:lnTo>
                  <a:lnTo>
                    <a:pt x="297" y="218"/>
                  </a:lnTo>
                  <a:lnTo>
                    <a:pt x="331" y="211"/>
                  </a:lnTo>
                  <a:lnTo>
                    <a:pt x="334" y="199"/>
                  </a:lnTo>
                  <a:lnTo>
                    <a:pt x="329" y="179"/>
                  </a:lnTo>
                  <a:lnTo>
                    <a:pt x="332" y="178"/>
                  </a:lnTo>
                  <a:lnTo>
                    <a:pt x="329" y="156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2" y="89"/>
                  </a:lnTo>
                  <a:lnTo>
                    <a:pt x="340" y="64"/>
                  </a:lnTo>
                  <a:lnTo>
                    <a:pt x="354" y="46"/>
                  </a:lnTo>
                  <a:lnTo>
                    <a:pt x="365" y="34"/>
                  </a:lnTo>
                  <a:lnTo>
                    <a:pt x="397" y="18"/>
                  </a:lnTo>
                  <a:lnTo>
                    <a:pt x="420" y="9"/>
                  </a:lnTo>
                  <a:lnTo>
                    <a:pt x="443" y="3"/>
                  </a:lnTo>
                  <a:lnTo>
                    <a:pt x="467" y="0"/>
                  </a:lnTo>
                  <a:lnTo>
                    <a:pt x="486" y="0"/>
                  </a:lnTo>
                  <a:lnTo>
                    <a:pt x="506" y="3"/>
                  </a:lnTo>
                  <a:lnTo>
                    <a:pt x="521" y="8"/>
                  </a:lnTo>
                  <a:lnTo>
                    <a:pt x="533" y="14"/>
                  </a:lnTo>
                  <a:lnTo>
                    <a:pt x="547" y="27"/>
                  </a:lnTo>
                  <a:lnTo>
                    <a:pt x="558" y="44"/>
                  </a:lnTo>
                  <a:lnTo>
                    <a:pt x="574" y="77"/>
                  </a:lnTo>
                  <a:lnTo>
                    <a:pt x="593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2"/>
                  </a:lnTo>
                  <a:lnTo>
                    <a:pt x="594" y="148"/>
                  </a:lnTo>
                  <a:lnTo>
                    <a:pt x="570" y="156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4"/>
                  </a:lnTo>
                  <a:lnTo>
                    <a:pt x="601" y="242"/>
                  </a:lnTo>
                  <a:lnTo>
                    <a:pt x="714" y="361"/>
                  </a:lnTo>
                  <a:lnTo>
                    <a:pt x="719" y="369"/>
                  </a:lnTo>
                  <a:lnTo>
                    <a:pt x="720" y="378"/>
                  </a:lnTo>
                  <a:lnTo>
                    <a:pt x="719" y="386"/>
                  </a:lnTo>
                  <a:lnTo>
                    <a:pt x="714" y="390"/>
                  </a:lnTo>
                  <a:lnTo>
                    <a:pt x="708" y="392"/>
                  </a:lnTo>
                  <a:lnTo>
                    <a:pt x="708" y="401"/>
                  </a:lnTo>
                  <a:lnTo>
                    <a:pt x="705" y="409"/>
                  </a:lnTo>
                  <a:lnTo>
                    <a:pt x="700" y="415"/>
                  </a:lnTo>
                  <a:lnTo>
                    <a:pt x="705" y="419"/>
                  </a:lnTo>
                  <a:lnTo>
                    <a:pt x="708" y="426"/>
                  </a:lnTo>
                  <a:lnTo>
                    <a:pt x="715" y="436"/>
                  </a:lnTo>
                  <a:lnTo>
                    <a:pt x="719" y="439"/>
                  </a:lnTo>
                  <a:lnTo>
                    <a:pt x="708" y="454"/>
                  </a:lnTo>
                  <a:lnTo>
                    <a:pt x="698" y="470"/>
                  </a:lnTo>
                  <a:lnTo>
                    <a:pt x="687" y="487"/>
                  </a:lnTo>
                  <a:lnTo>
                    <a:pt x="677" y="503"/>
                  </a:lnTo>
                  <a:lnTo>
                    <a:pt x="666" y="518"/>
                  </a:lnTo>
                  <a:lnTo>
                    <a:pt x="655" y="533"/>
                  </a:lnTo>
                  <a:lnTo>
                    <a:pt x="643" y="549"/>
                  </a:lnTo>
                  <a:lnTo>
                    <a:pt x="633" y="565"/>
                  </a:lnTo>
                  <a:lnTo>
                    <a:pt x="614" y="553"/>
                  </a:lnTo>
                  <a:lnTo>
                    <a:pt x="598" y="542"/>
                  </a:lnTo>
                  <a:lnTo>
                    <a:pt x="579" y="528"/>
                  </a:lnTo>
                  <a:lnTo>
                    <a:pt x="581" y="551"/>
                  </a:lnTo>
                  <a:lnTo>
                    <a:pt x="578" y="573"/>
                  </a:lnTo>
                  <a:lnTo>
                    <a:pt x="574" y="620"/>
                  </a:lnTo>
                  <a:close/>
                  <a:moveTo>
                    <a:pt x="114" y="642"/>
                  </a:moveTo>
                  <a:lnTo>
                    <a:pt x="106" y="650"/>
                  </a:lnTo>
                  <a:lnTo>
                    <a:pt x="109" y="655"/>
                  </a:lnTo>
                  <a:lnTo>
                    <a:pt x="112" y="661"/>
                  </a:lnTo>
                  <a:lnTo>
                    <a:pt x="114" y="655"/>
                  </a:lnTo>
                  <a:lnTo>
                    <a:pt x="116" y="649"/>
                  </a:lnTo>
                  <a:lnTo>
                    <a:pt x="114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3792600" y="4205160"/>
              <a:ext cx="228600" cy="343080"/>
            </a:xfrm>
            <a:custGeom>
              <a:avLst/>
              <a:gdLst/>
              <a:ahLst/>
              <a:rect l="l" t="t" r="r" b="b"/>
              <a:pathLst>
                <a:path w="720" h="1082">
                  <a:moveTo>
                    <a:pt x="82" y="1082"/>
                  </a:moveTo>
                  <a:lnTo>
                    <a:pt x="81" y="1067"/>
                  </a:lnTo>
                  <a:lnTo>
                    <a:pt x="95" y="1041"/>
                  </a:lnTo>
                  <a:lnTo>
                    <a:pt x="100" y="1010"/>
                  </a:lnTo>
                  <a:lnTo>
                    <a:pt x="109" y="997"/>
                  </a:lnTo>
                  <a:lnTo>
                    <a:pt x="106" y="978"/>
                  </a:lnTo>
                  <a:lnTo>
                    <a:pt x="103" y="962"/>
                  </a:lnTo>
                  <a:lnTo>
                    <a:pt x="75" y="941"/>
                  </a:lnTo>
                  <a:lnTo>
                    <a:pt x="88" y="923"/>
                  </a:lnTo>
                  <a:lnTo>
                    <a:pt x="103" y="882"/>
                  </a:lnTo>
                  <a:lnTo>
                    <a:pt x="91" y="883"/>
                  </a:lnTo>
                  <a:lnTo>
                    <a:pt x="81" y="880"/>
                  </a:lnTo>
                  <a:lnTo>
                    <a:pt x="75" y="877"/>
                  </a:lnTo>
                  <a:lnTo>
                    <a:pt x="70" y="868"/>
                  </a:lnTo>
                  <a:lnTo>
                    <a:pt x="68" y="862"/>
                  </a:lnTo>
                  <a:lnTo>
                    <a:pt x="60" y="863"/>
                  </a:lnTo>
                  <a:lnTo>
                    <a:pt x="49" y="862"/>
                  </a:lnTo>
                  <a:lnTo>
                    <a:pt x="41" y="857"/>
                  </a:lnTo>
                  <a:lnTo>
                    <a:pt x="34" y="850"/>
                  </a:lnTo>
                  <a:lnTo>
                    <a:pt x="26" y="839"/>
                  </a:lnTo>
                  <a:lnTo>
                    <a:pt x="20" y="828"/>
                  </a:lnTo>
                  <a:lnTo>
                    <a:pt x="17" y="817"/>
                  </a:lnTo>
                  <a:lnTo>
                    <a:pt x="11" y="814"/>
                  </a:lnTo>
                  <a:lnTo>
                    <a:pt x="2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2" y="700"/>
                  </a:lnTo>
                  <a:lnTo>
                    <a:pt x="7" y="686"/>
                  </a:lnTo>
                  <a:lnTo>
                    <a:pt x="8" y="678"/>
                  </a:lnTo>
                  <a:lnTo>
                    <a:pt x="14" y="672"/>
                  </a:lnTo>
                  <a:lnTo>
                    <a:pt x="17" y="660"/>
                  </a:lnTo>
                  <a:lnTo>
                    <a:pt x="19" y="653"/>
                  </a:lnTo>
                  <a:lnTo>
                    <a:pt x="22" y="647"/>
                  </a:lnTo>
                  <a:lnTo>
                    <a:pt x="40" y="642"/>
                  </a:lnTo>
                  <a:lnTo>
                    <a:pt x="34" y="629"/>
                  </a:lnTo>
                  <a:lnTo>
                    <a:pt x="39" y="608"/>
                  </a:lnTo>
                  <a:lnTo>
                    <a:pt x="40" y="602"/>
                  </a:lnTo>
                  <a:lnTo>
                    <a:pt x="41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2"/>
                  </a:lnTo>
                  <a:lnTo>
                    <a:pt x="83" y="609"/>
                  </a:lnTo>
                  <a:lnTo>
                    <a:pt x="85" y="619"/>
                  </a:lnTo>
                  <a:lnTo>
                    <a:pt x="85" y="629"/>
                  </a:lnTo>
                  <a:lnTo>
                    <a:pt x="83" y="635"/>
                  </a:lnTo>
                  <a:lnTo>
                    <a:pt x="80" y="638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7" y="638"/>
                  </a:lnTo>
                  <a:lnTo>
                    <a:pt x="100" y="634"/>
                  </a:lnTo>
                  <a:lnTo>
                    <a:pt x="98" y="627"/>
                  </a:lnTo>
                  <a:lnTo>
                    <a:pt x="85" y="629"/>
                  </a:lnTo>
                  <a:lnTo>
                    <a:pt x="85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1" y="620"/>
                  </a:lnTo>
                  <a:lnTo>
                    <a:pt x="116" y="623"/>
                  </a:lnTo>
                  <a:lnTo>
                    <a:pt x="112" y="604"/>
                  </a:lnTo>
                  <a:lnTo>
                    <a:pt x="107" y="585"/>
                  </a:lnTo>
                  <a:lnTo>
                    <a:pt x="138" y="459"/>
                  </a:lnTo>
                  <a:lnTo>
                    <a:pt x="144" y="438"/>
                  </a:lnTo>
                  <a:lnTo>
                    <a:pt x="150" y="422"/>
                  </a:lnTo>
                  <a:lnTo>
                    <a:pt x="161" y="409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2" y="294"/>
                  </a:lnTo>
                  <a:lnTo>
                    <a:pt x="187" y="272"/>
                  </a:lnTo>
                  <a:lnTo>
                    <a:pt x="208" y="252"/>
                  </a:lnTo>
                  <a:lnTo>
                    <a:pt x="230" y="239"/>
                  </a:lnTo>
                  <a:lnTo>
                    <a:pt x="244" y="226"/>
                  </a:lnTo>
                  <a:lnTo>
                    <a:pt x="256" y="218"/>
                  </a:lnTo>
                  <a:lnTo>
                    <a:pt x="270" y="214"/>
                  </a:lnTo>
                  <a:lnTo>
                    <a:pt x="282" y="214"/>
                  </a:lnTo>
                  <a:lnTo>
                    <a:pt x="297" y="218"/>
                  </a:lnTo>
                  <a:lnTo>
                    <a:pt x="331" y="211"/>
                  </a:lnTo>
                  <a:lnTo>
                    <a:pt x="334" y="199"/>
                  </a:lnTo>
                  <a:lnTo>
                    <a:pt x="329" y="179"/>
                  </a:lnTo>
                  <a:lnTo>
                    <a:pt x="332" y="178"/>
                  </a:lnTo>
                  <a:lnTo>
                    <a:pt x="329" y="156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2" y="89"/>
                  </a:lnTo>
                  <a:lnTo>
                    <a:pt x="340" y="64"/>
                  </a:lnTo>
                  <a:lnTo>
                    <a:pt x="354" y="46"/>
                  </a:lnTo>
                  <a:lnTo>
                    <a:pt x="365" y="34"/>
                  </a:lnTo>
                  <a:lnTo>
                    <a:pt x="397" y="18"/>
                  </a:lnTo>
                  <a:lnTo>
                    <a:pt x="420" y="9"/>
                  </a:lnTo>
                  <a:lnTo>
                    <a:pt x="443" y="3"/>
                  </a:lnTo>
                  <a:lnTo>
                    <a:pt x="467" y="0"/>
                  </a:lnTo>
                  <a:lnTo>
                    <a:pt x="486" y="0"/>
                  </a:lnTo>
                  <a:lnTo>
                    <a:pt x="506" y="3"/>
                  </a:lnTo>
                  <a:lnTo>
                    <a:pt x="521" y="8"/>
                  </a:lnTo>
                  <a:lnTo>
                    <a:pt x="533" y="14"/>
                  </a:lnTo>
                  <a:lnTo>
                    <a:pt x="547" y="27"/>
                  </a:lnTo>
                  <a:lnTo>
                    <a:pt x="558" y="44"/>
                  </a:lnTo>
                  <a:lnTo>
                    <a:pt x="574" y="77"/>
                  </a:lnTo>
                  <a:lnTo>
                    <a:pt x="593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2"/>
                  </a:lnTo>
                  <a:lnTo>
                    <a:pt x="594" y="148"/>
                  </a:lnTo>
                  <a:lnTo>
                    <a:pt x="570" y="156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4"/>
                  </a:lnTo>
                  <a:lnTo>
                    <a:pt x="601" y="242"/>
                  </a:lnTo>
                  <a:lnTo>
                    <a:pt x="714" y="361"/>
                  </a:lnTo>
                  <a:lnTo>
                    <a:pt x="719" y="369"/>
                  </a:lnTo>
                  <a:lnTo>
                    <a:pt x="720" y="378"/>
                  </a:lnTo>
                  <a:lnTo>
                    <a:pt x="719" y="386"/>
                  </a:lnTo>
                  <a:lnTo>
                    <a:pt x="714" y="390"/>
                  </a:lnTo>
                  <a:lnTo>
                    <a:pt x="708" y="392"/>
                  </a:lnTo>
                  <a:lnTo>
                    <a:pt x="708" y="401"/>
                  </a:lnTo>
                  <a:lnTo>
                    <a:pt x="705" y="409"/>
                  </a:lnTo>
                  <a:lnTo>
                    <a:pt x="700" y="415"/>
                  </a:lnTo>
                  <a:lnTo>
                    <a:pt x="705" y="419"/>
                  </a:lnTo>
                  <a:lnTo>
                    <a:pt x="708" y="426"/>
                  </a:lnTo>
                  <a:lnTo>
                    <a:pt x="715" y="436"/>
                  </a:lnTo>
                  <a:lnTo>
                    <a:pt x="719" y="4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3983040" y="4260960"/>
              <a:ext cx="79200" cy="58680"/>
            </a:xfrm>
            <a:custGeom>
              <a:avLst/>
              <a:gdLst/>
              <a:ahLst/>
              <a:rect l="l" t="t" r="r" b="b"/>
              <a:pathLst>
                <a:path w="252" h="183">
                  <a:moveTo>
                    <a:pt x="171" y="172"/>
                  </a:moveTo>
                  <a:lnTo>
                    <a:pt x="170" y="168"/>
                  </a:lnTo>
                  <a:lnTo>
                    <a:pt x="170" y="156"/>
                  </a:lnTo>
                  <a:lnTo>
                    <a:pt x="168" y="150"/>
                  </a:lnTo>
                  <a:lnTo>
                    <a:pt x="165" y="147"/>
                  </a:lnTo>
                  <a:lnTo>
                    <a:pt x="162" y="145"/>
                  </a:lnTo>
                  <a:lnTo>
                    <a:pt x="159" y="145"/>
                  </a:lnTo>
                  <a:lnTo>
                    <a:pt x="134" y="144"/>
                  </a:lnTo>
                  <a:lnTo>
                    <a:pt x="142" y="157"/>
                  </a:lnTo>
                  <a:lnTo>
                    <a:pt x="144" y="164"/>
                  </a:lnTo>
                  <a:lnTo>
                    <a:pt x="144" y="168"/>
                  </a:lnTo>
                  <a:lnTo>
                    <a:pt x="141" y="171"/>
                  </a:lnTo>
                  <a:lnTo>
                    <a:pt x="136" y="176"/>
                  </a:lnTo>
                  <a:lnTo>
                    <a:pt x="164" y="176"/>
                  </a:lnTo>
                  <a:lnTo>
                    <a:pt x="167" y="176"/>
                  </a:lnTo>
                  <a:lnTo>
                    <a:pt x="168" y="171"/>
                  </a:lnTo>
                  <a:lnTo>
                    <a:pt x="170" y="168"/>
                  </a:lnTo>
                  <a:lnTo>
                    <a:pt x="171" y="172"/>
                  </a:lnTo>
                  <a:lnTo>
                    <a:pt x="171" y="175"/>
                  </a:lnTo>
                  <a:lnTo>
                    <a:pt x="170" y="176"/>
                  </a:lnTo>
                  <a:lnTo>
                    <a:pt x="169" y="177"/>
                  </a:lnTo>
                  <a:lnTo>
                    <a:pt x="168" y="179"/>
                  </a:lnTo>
                  <a:lnTo>
                    <a:pt x="168" y="180"/>
                  </a:lnTo>
                  <a:lnTo>
                    <a:pt x="167" y="181"/>
                  </a:lnTo>
                  <a:lnTo>
                    <a:pt x="166" y="182"/>
                  </a:lnTo>
                  <a:lnTo>
                    <a:pt x="166" y="183"/>
                  </a:lnTo>
                  <a:lnTo>
                    <a:pt x="113" y="183"/>
                  </a:lnTo>
                  <a:lnTo>
                    <a:pt x="0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5" y="9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246" y="13"/>
                  </a:lnTo>
                  <a:lnTo>
                    <a:pt x="252" y="16"/>
                  </a:lnTo>
                  <a:lnTo>
                    <a:pt x="252" y="17"/>
                  </a:lnTo>
                  <a:lnTo>
                    <a:pt x="251" y="18"/>
                  </a:lnTo>
                  <a:lnTo>
                    <a:pt x="251" y="19"/>
                  </a:lnTo>
                  <a:lnTo>
                    <a:pt x="251" y="20"/>
                  </a:lnTo>
                  <a:lnTo>
                    <a:pt x="250" y="20"/>
                  </a:lnTo>
                  <a:lnTo>
                    <a:pt x="250" y="21"/>
                  </a:lnTo>
                  <a:lnTo>
                    <a:pt x="250" y="22"/>
                  </a:lnTo>
                  <a:lnTo>
                    <a:pt x="249" y="23"/>
                  </a:lnTo>
                  <a:lnTo>
                    <a:pt x="243" y="20"/>
                  </a:lnTo>
                  <a:lnTo>
                    <a:pt x="126" y="20"/>
                  </a:lnTo>
                  <a:lnTo>
                    <a:pt x="121" y="27"/>
                  </a:lnTo>
                  <a:lnTo>
                    <a:pt x="118" y="33"/>
                  </a:lnTo>
                  <a:lnTo>
                    <a:pt x="116" y="40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22" y="50"/>
                  </a:lnTo>
                  <a:lnTo>
                    <a:pt x="236" y="50"/>
                  </a:lnTo>
                  <a:lnTo>
                    <a:pt x="229" y="65"/>
                  </a:lnTo>
                  <a:lnTo>
                    <a:pt x="221" y="81"/>
                  </a:lnTo>
                  <a:lnTo>
                    <a:pt x="213" y="97"/>
                  </a:lnTo>
                  <a:lnTo>
                    <a:pt x="205" y="112"/>
                  </a:lnTo>
                  <a:lnTo>
                    <a:pt x="197" y="127"/>
                  </a:lnTo>
                  <a:lnTo>
                    <a:pt x="188" y="143"/>
                  </a:lnTo>
                  <a:lnTo>
                    <a:pt x="180" y="158"/>
                  </a:lnTo>
                  <a:lnTo>
                    <a:pt x="171" y="17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3983040" y="4260960"/>
              <a:ext cx="79200" cy="58680"/>
            </a:xfrm>
            <a:custGeom>
              <a:avLst/>
              <a:gdLst/>
              <a:ahLst/>
              <a:rect l="l" t="t" r="r" b="b"/>
              <a:pathLst>
                <a:path w="252" h="183">
                  <a:moveTo>
                    <a:pt x="166" y="183"/>
                  </a:moveTo>
                  <a:lnTo>
                    <a:pt x="113" y="183"/>
                  </a:lnTo>
                  <a:lnTo>
                    <a:pt x="0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5" y="9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246" y="13"/>
                  </a:lnTo>
                  <a:lnTo>
                    <a:pt x="252" y="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3959280" y="3773520"/>
              <a:ext cx="166680" cy="398520"/>
            </a:xfrm>
            <a:custGeom>
              <a:avLst/>
              <a:gdLst/>
              <a:ahLst/>
              <a:rect l="l" t="t" r="r" b="b"/>
              <a:pathLst>
                <a:path w="523" h="1255">
                  <a:moveTo>
                    <a:pt x="418" y="0"/>
                  </a:moveTo>
                  <a:lnTo>
                    <a:pt x="435" y="54"/>
                  </a:lnTo>
                  <a:lnTo>
                    <a:pt x="451" y="107"/>
                  </a:lnTo>
                  <a:lnTo>
                    <a:pt x="465" y="162"/>
                  </a:lnTo>
                  <a:lnTo>
                    <a:pt x="477" y="217"/>
                  </a:lnTo>
                  <a:lnTo>
                    <a:pt x="489" y="272"/>
                  </a:lnTo>
                  <a:lnTo>
                    <a:pt x="498" y="328"/>
                  </a:lnTo>
                  <a:lnTo>
                    <a:pt x="506" y="383"/>
                  </a:lnTo>
                  <a:lnTo>
                    <a:pt x="513" y="440"/>
                  </a:lnTo>
                  <a:lnTo>
                    <a:pt x="518" y="497"/>
                  </a:lnTo>
                  <a:lnTo>
                    <a:pt x="521" y="554"/>
                  </a:lnTo>
                  <a:lnTo>
                    <a:pt x="523" y="611"/>
                  </a:lnTo>
                  <a:lnTo>
                    <a:pt x="523" y="669"/>
                  </a:lnTo>
                  <a:lnTo>
                    <a:pt x="522" y="727"/>
                  </a:lnTo>
                  <a:lnTo>
                    <a:pt x="520" y="785"/>
                  </a:lnTo>
                  <a:lnTo>
                    <a:pt x="516" y="842"/>
                  </a:lnTo>
                  <a:lnTo>
                    <a:pt x="510" y="901"/>
                  </a:lnTo>
                  <a:lnTo>
                    <a:pt x="504" y="905"/>
                  </a:lnTo>
                  <a:lnTo>
                    <a:pt x="483" y="921"/>
                  </a:lnTo>
                  <a:lnTo>
                    <a:pt x="456" y="937"/>
                  </a:lnTo>
                  <a:lnTo>
                    <a:pt x="432" y="952"/>
                  </a:lnTo>
                  <a:lnTo>
                    <a:pt x="409" y="960"/>
                  </a:lnTo>
                  <a:lnTo>
                    <a:pt x="386" y="969"/>
                  </a:lnTo>
                  <a:lnTo>
                    <a:pt x="364" y="976"/>
                  </a:lnTo>
                  <a:lnTo>
                    <a:pt x="344" y="1053"/>
                  </a:lnTo>
                  <a:lnTo>
                    <a:pt x="343" y="1075"/>
                  </a:lnTo>
                  <a:lnTo>
                    <a:pt x="340" y="1097"/>
                  </a:lnTo>
                  <a:lnTo>
                    <a:pt x="337" y="1116"/>
                  </a:lnTo>
                  <a:lnTo>
                    <a:pt x="331" y="1134"/>
                  </a:lnTo>
                  <a:lnTo>
                    <a:pt x="325" y="1153"/>
                  </a:lnTo>
                  <a:lnTo>
                    <a:pt x="315" y="1172"/>
                  </a:lnTo>
                  <a:lnTo>
                    <a:pt x="305" y="1188"/>
                  </a:lnTo>
                  <a:lnTo>
                    <a:pt x="294" y="1200"/>
                  </a:lnTo>
                  <a:lnTo>
                    <a:pt x="290" y="1213"/>
                  </a:lnTo>
                  <a:lnTo>
                    <a:pt x="282" y="1228"/>
                  </a:lnTo>
                  <a:lnTo>
                    <a:pt x="268" y="1238"/>
                  </a:lnTo>
                  <a:lnTo>
                    <a:pt x="248" y="1249"/>
                  </a:lnTo>
                  <a:lnTo>
                    <a:pt x="220" y="1255"/>
                  </a:lnTo>
                  <a:lnTo>
                    <a:pt x="196" y="1255"/>
                  </a:lnTo>
                  <a:lnTo>
                    <a:pt x="171" y="1250"/>
                  </a:lnTo>
                  <a:lnTo>
                    <a:pt x="153" y="1243"/>
                  </a:lnTo>
                  <a:lnTo>
                    <a:pt x="138" y="1232"/>
                  </a:lnTo>
                  <a:lnTo>
                    <a:pt x="128" y="1222"/>
                  </a:lnTo>
                  <a:lnTo>
                    <a:pt x="116" y="1219"/>
                  </a:lnTo>
                  <a:lnTo>
                    <a:pt x="104" y="1197"/>
                  </a:lnTo>
                  <a:lnTo>
                    <a:pt x="95" y="1172"/>
                  </a:lnTo>
                  <a:lnTo>
                    <a:pt x="89" y="1151"/>
                  </a:lnTo>
                  <a:lnTo>
                    <a:pt x="84" y="1125"/>
                  </a:lnTo>
                  <a:lnTo>
                    <a:pt x="84" y="1100"/>
                  </a:lnTo>
                  <a:lnTo>
                    <a:pt x="81" y="1057"/>
                  </a:lnTo>
                  <a:lnTo>
                    <a:pt x="93" y="1032"/>
                  </a:lnTo>
                  <a:lnTo>
                    <a:pt x="98" y="1001"/>
                  </a:lnTo>
                  <a:lnTo>
                    <a:pt x="109" y="987"/>
                  </a:lnTo>
                  <a:lnTo>
                    <a:pt x="105" y="969"/>
                  </a:lnTo>
                  <a:lnTo>
                    <a:pt x="102" y="953"/>
                  </a:lnTo>
                  <a:lnTo>
                    <a:pt x="74" y="932"/>
                  </a:lnTo>
                  <a:lnTo>
                    <a:pt x="87" y="913"/>
                  </a:lnTo>
                  <a:lnTo>
                    <a:pt x="102" y="872"/>
                  </a:lnTo>
                  <a:lnTo>
                    <a:pt x="90" y="874"/>
                  </a:lnTo>
                  <a:lnTo>
                    <a:pt x="81" y="871"/>
                  </a:lnTo>
                  <a:lnTo>
                    <a:pt x="74" y="866"/>
                  </a:lnTo>
                  <a:lnTo>
                    <a:pt x="69" y="859"/>
                  </a:lnTo>
                  <a:lnTo>
                    <a:pt x="67" y="853"/>
                  </a:lnTo>
                  <a:lnTo>
                    <a:pt x="60" y="854"/>
                  </a:lnTo>
                  <a:lnTo>
                    <a:pt x="49" y="853"/>
                  </a:lnTo>
                  <a:lnTo>
                    <a:pt x="41" y="847"/>
                  </a:lnTo>
                  <a:lnTo>
                    <a:pt x="32" y="840"/>
                  </a:lnTo>
                  <a:lnTo>
                    <a:pt x="26" y="829"/>
                  </a:lnTo>
                  <a:lnTo>
                    <a:pt x="20" y="819"/>
                  </a:lnTo>
                  <a:lnTo>
                    <a:pt x="17" y="808"/>
                  </a:lnTo>
                  <a:lnTo>
                    <a:pt x="9" y="805"/>
                  </a:lnTo>
                  <a:lnTo>
                    <a:pt x="1" y="738"/>
                  </a:lnTo>
                  <a:lnTo>
                    <a:pt x="8" y="736"/>
                  </a:lnTo>
                  <a:lnTo>
                    <a:pt x="8" y="708"/>
                  </a:lnTo>
                  <a:lnTo>
                    <a:pt x="0" y="707"/>
                  </a:lnTo>
                  <a:lnTo>
                    <a:pt x="1" y="690"/>
                  </a:lnTo>
                  <a:lnTo>
                    <a:pt x="6" y="677"/>
                  </a:lnTo>
                  <a:lnTo>
                    <a:pt x="8" y="669"/>
                  </a:lnTo>
                  <a:lnTo>
                    <a:pt x="12" y="663"/>
                  </a:lnTo>
                  <a:lnTo>
                    <a:pt x="17" y="650"/>
                  </a:lnTo>
                  <a:lnTo>
                    <a:pt x="18" y="644"/>
                  </a:lnTo>
                  <a:lnTo>
                    <a:pt x="21" y="638"/>
                  </a:lnTo>
                  <a:lnTo>
                    <a:pt x="39" y="632"/>
                  </a:lnTo>
                  <a:lnTo>
                    <a:pt x="32" y="620"/>
                  </a:lnTo>
                  <a:lnTo>
                    <a:pt x="38" y="598"/>
                  </a:lnTo>
                  <a:lnTo>
                    <a:pt x="39" y="593"/>
                  </a:lnTo>
                  <a:lnTo>
                    <a:pt x="41" y="589"/>
                  </a:lnTo>
                  <a:lnTo>
                    <a:pt x="46" y="589"/>
                  </a:lnTo>
                  <a:lnTo>
                    <a:pt x="46" y="583"/>
                  </a:lnTo>
                  <a:lnTo>
                    <a:pt x="74" y="583"/>
                  </a:lnTo>
                  <a:lnTo>
                    <a:pt x="74" y="589"/>
                  </a:lnTo>
                  <a:lnTo>
                    <a:pt x="77" y="589"/>
                  </a:lnTo>
                  <a:lnTo>
                    <a:pt x="81" y="593"/>
                  </a:lnTo>
                  <a:lnTo>
                    <a:pt x="82" y="600"/>
                  </a:lnTo>
                  <a:lnTo>
                    <a:pt x="84" y="609"/>
                  </a:lnTo>
                  <a:lnTo>
                    <a:pt x="84" y="620"/>
                  </a:lnTo>
                  <a:lnTo>
                    <a:pt x="82" y="626"/>
                  </a:lnTo>
                  <a:lnTo>
                    <a:pt x="78" y="629"/>
                  </a:lnTo>
                  <a:lnTo>
                    <a:pt x="84" y="632"/>
                  </a:lnTo>
                  <a:lnTo>
                    <a:pt x="90" y="632"/>
                  </a:lnTo>
                  <a:lnTo>
                    <a:pt x="95" y="629"/>
                  </a:lnTo>
                  <a:lnTo>
                    <a:pt x="98" y="624"/>
                  </a:lnTo>
                  <a:lnTo>
                    <a:pt x="96" y="618"/>
                  </a:lnTo>
                  <a:lnTo>
                    <a:pt x="84" y="620"/>
                  </a:lnTo>
                  <a:lnTo>
                    <a:pt x="84" y="609"/>
                  </a:lnTo>
                  <a:lnTo>
                    <a:pt x="100" y="607"/>
                  </a:lnTo>
                  <a:lnTo>
                    <a:pt x="105" y="609"/>
                  </a:lnTo>
                  <a:lnTo>
                    <a:pt x="110" y="611"/>
                  </a:lnTo>
                  <a:lnTo>
                    <a:pt x="114" y="614"/>
                  </a:lnTo>
                  <a:lnTo>
                    <a:pt x="111" y="595"/>
                  </a:lnTo>
                  <a:lnTo>
                    <a:pt x="107" y="575"/>
                  </a:lnTo>
                  <a:lnTo>
                    <a:pt x="136" y="450"/>
                  </a:lnTo>
                  <a:lnTo>
                    <a:pt x="142" y="428"/>
                  </a:lnTo>
                  <a:lnTo>
                    <a:pt x="150" y="413"/>
                  </a:lnTo>
                  <a:lnTo>
                    <a:pt x="159" y="400"/>
                  </a:lnTo>
                  <a:lnTo>
                    <a:pt x="151" y="370"/>
                  </a:lnTo>
                  <a:lnTo>
                    <a:pt x="148" y="350"/>
                  </a:lnTo>
                  <a:lnTo>
                    <a:pt x="150" y="332"/>
                  </a:lnTo>
                  <a:lnTo>
                    <a:pt x="156" y="311"/>
                  </a:lnTo>
                  <a:lnTo>
                    <a:pt x="171" y="284"/>
                  </a:lnTo>
                  <a:lnTo>
                    <a:pt x="185" y="263"/>
                  </a:lnTo>
                  <a:lnTo>
                    <a:pt x="208" y="243"/>
                  </a:lnTo>
                  <a:lnTo>
                    <a:pt x="228" y="229"/>
                  </a:lnTo>
                  <a:lnTo>
                    <a:pt x="242" y="217"/>
                  </a:lnTo>
                  <a:lnTo>
                    <a:pt x="255" y="208"/>
                  </a:lnTo>
                  <a:lnTo>
                    <a:pt x="268" y="205"/>
                  </a:lnTo>
                  <a:lnTo>
                    <a:pt x="282" y="205"/>
                  </a:lnTo>
                  <a:lnTo>
                    <a:pt x="297" y="208"/>
                  </a:lnTo>
                  <a:lnTo>
                    <a:pt x="329" y="202"/>
                  </a:lnTo>
                  <a:lnTo>
                    <a:pt x="332" y="190"/>
                  </a:lnTo>
                  <a:lnTo>
                    <a:pt x="328" y="170"/>
                  </a:lnTo>
                  <a:lnTo>
                    <a:pt x="331" y="168"/>
                  </a:lnTo>
                  <a:lnTo>
                    <a:pt x="328" y="147"/>
                  </a:lnTo>
                  <a:lnTo>
                    <a:pt x="326" y="125"/>
                  </a:lnTo>
                  <a:lnTo>
                    <a:pt x="326" y="102"/>
                  </a:lnTo>
                  <a:lnTo>
                    <a:pt x="331" y="79"/>
                  </a:lnTo>
                  <a:lnTo>
                    <a:pt x="340" y="55"/>
                  </a:lnTo>
                  <a:lnTo>
                    <a:pt x="352" y="37"/>
                  </a:lnTo>
                  <a:lnTo>
                    <a:pt x="364" y="25"/>
                  </a:lnTo>
                  <a:lnTo>
                    <a:pt x="395" y="9"/>
                  </a:lnTo>
                  <a:lnTo>
                    <a:pt x="418" y="0"/>
                  </a:lnTo>
                  <a:lnTo>
                    <a:pt x="418" y="0"/>
                  </a:lnTo>
                  <a:close/>
                  <a:moveTo>
                    <a:pt x="113" y="632"/>
                  </a:moveTo>
                  <a:lnTo>
                    <a:pt x="105" y="641"/>
                  </a:lnTo>
                  <a:lnTo>
                    <a:pt x="109" y="646"/>
                  </a:lnTo>
                  <a:lnTo>
                    <a:pt x="111" y="652"/>
                  </a:lnTo>
                  <a:lnTo>
                    <a:pt x="113" y="646"/>
                  </a:lnTo>
                  <a:lnTo>
                    <a:pt x="115" y="640"/>
                  </a:lnTo>
                  <a:lnTo>
                    <a:pt x="113" y="6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3959280" y="3773520"/>
              <a:ext cx="162000" cy="398520"/>
            </a:xfrm>
            <a:custGeom>
              <a:avLst/>
              <a:gdLst/>
              <a:ahLst/>
              <a:rect l="l" t="t" r="r" b="b"/>
              <a:pathLst>
                <a:path w="510" h="1255">
                  <a:moveTo>
                    <a:pt x="510" y="901"/>
                  </a:moveTo>
                  <a:lnTo>
                    <a:pt x="504" y="905"/>
                  </a:lnTo>
                  <a:lnTo>
                    <a:pt x="483" y="921"/>
                  </a:lnTo>
                  <a:lnTo>
                    <a:pt x="456" y="937"/>
                  </a:lnTo>
                  <a:lnTo>
                    <a:pt x="432" y="952"/>
                  </a:lnTo>
                  <a:lnTo>
                    <a:pt x="409" y="960"/>
                  </a:lnTo>
                  <a:lnTo>
                    <a:pt x="386" y="969"/>
                  </a:lnTo>
                  <a:lnTo>
                    <a:pt x="364" y="976"/>
                  </a:lnTo>
                  <a:lnTo>
                    <a:pt x="344" y="1053"/>
                  </a:lnTo>
                  <a:lnTo>
                    <a:pt x="343" y="1075"/>
                  </a:lnTo>
                  <a:lnTo>
                    <a:pt x="340" y="1097"/>
                  </a:lnTo>
                  <a:lnTo>
                    <a:pt x="337" y="1116"/>
                  </a:lnTo>
                  <a:lnTo>
                    <a:pt x="331" y="1134"/>
                  </a:lnTo>
                  <a:lnTo>
                    <a:pt x="325" y="1153"/>
                  </a:lnTo>
                  <a:lnTo>
                    <a:pt x="315" y="1172"/>
                  </a:lnTo>
                  <a:lnTo>
                    <a:pt x="305" y="1188"/>
                  </a:lnTo>
                  <a:lnTo>
                    <a:pt x="294" y="1200"/>
                  </a:lnTo>
                  <a:lnTo>
                    <a:pt x="290" y="1213"/>
                  </a:lnTo>
                  <a:lnTo>
                    <a:pt x="282" y="1228"/>
                  </a:lnTo>
                  <a:lnTo>
                    <a:pt x="268" y="1238"/>
                  </a:lnTo>
                  <a:lnTo>
                    <a:pt x="248" y="1249"/>
                  </a:lnTo>
                  <a:lnTo>
                    <a:pt x="220" y="1255"/>
                  </a:lnTo>
                  <a:lnTo>
                    <a:pt x="196" y="1255"/>
                  </a:lnTo>
                  <a:lnTo>
                    <a:pt x="171" y="1250"/>
                  </a:lnTo>
                  <a:lnTo>
                    <a:pt x="153" y="1243"/>
                  </a:lnTo>
                  <a:lnTo>
                    <a:pt x="138" y="1232"/>
                  </a:lnTo>
                  <a:lnTo>
                    <a:pt x="128" y="1222"/>
                  </a:lnTo>
                  <a:lnTo>
                    <a:pt x="116" y="1219"/>
                  </a:lnTo>
                  <a:lnTo>
                    <a:pt x="104" y="1197"/>
                  </a:lnTo>
                  <a:lnTo>
                    <a:pt x="95" y="1172"/>
                  </a:lnTo>
                  <a:lnTo>
                    <a:pt x="89" y="1151"/>
                  </a:lnTo>
                  <a:lnTo>
                    <a:pt x="84" y="1125"/>
                  </a:lnTo>
                  <a:lnTo>
                    <a:pt x="84" y="1100"/>
                  </a:lnTo>
                  <a:lnTo>
                    <a:pt x="81" y="1057"/>
                  </a:lnTo>
                  <a:lnTo>
                    <a:pt x="93" y="1032"/>
                  </a:lnTo>
                  <a:lnTo>
                    <a:pt x="98" y="1001"/>
                  </a:lnTo>
                  <a:lnTo>
                    <a:pt x="109" y="987"/>
                  </a:lnTo>
                  <a:lnTo>
                    <a:pt x="105" y="969"/>
                  </a:lnTo>
                  <a:lnTo>
                    <a:pt x="102" y="953"/>
                  </a:lnTo>
                  <a:lnTo>
                    <a:pt x="74" y="932"/>
                  </a:lnTo>
                  <a:lnTo>
                    <a:pt x="87" y="913"/>
                  </a:lnTo>
                  <a:lnTo>
                    <a:pt x="102" y="872"/>
                  </a:lnTo>
                  <a:lnTo>
                    <a:pt x="90" y="874"/>
                  </a:lnTo>
                  <a:lnTo>
                    <a:pt x="81" y="871"/>
                  </a:lnTo>
                  <a:lnTo>
                    <a:pt x="74" y="866"/>
                  </a:lnTo>
                  <a:lnTo>
                    <a:pt x="69" y="859"/>
                  </a:lnTo>
                  <a:lnTo>
                    <a:pt x="67" y="853"/>
                  </a:lnTo>
                  <a:lnTo>
                    <a:pt x="60" y="854"/>
                  </a:lnTo>
                  <a:lnTo>
                    <a:pt x="49" y="853"/>
                  </a:lnTo>
                  <a:lnTo>
                    <a:pt x="41" y="847"/>
                  </a:lnTo>
                  <a:lnTo>
                    <a:pt x="32" y="840"/>
                  </a:lnTo>
                  <a:lnTo>
                    <a:pt x="26" y="829"/>
                  </a:lnTo>
                  <a:lnTo>
                    <a:pt x="20" y="819"/>
                  </a:lnTo>
                  <a:lnTo>
                    <a:pt x="17" y="808"/>
                  </a:lnTo>
                  <a:lnTo>
                    <a:pt x="9" y="805"/>
                  </a:lnTo>
                  <a:lnTo>
                    <a:pt x="1" y="738"/>
                  </a:lnTo>
                  <a:lnTo>
                    <a:pt x="8" y="736"/>
                  </a:lnTo>
                  <a:lnTo>
                    <a:pt x="8" y="708"/>
                  </a:lnTo>
                  <a:lnTo>
                    <a:pt x="0" y="707"/>
                  </a:lnTo>
                  <a:lnTo>
                    <a:pt x="1" y="690"/>
                  </a:lnTo>
                  <a:lnTo>
                    <a:pt x="6" y="677"/>
                  </a:lnTo>
                  <a:lnTo>
                    <a:pt x="8" y="669"/>
                  </a:lnTo>
                  <a:lnTo>
                    <a:pt x="12" y="663"/>
                  </a:lnTo>
                  <a:lnTo>
                    <a:pt x="17" y="650"/>
                  </a:lnTo>
                  <a:lnTo>
                    <a:pt x="18" y="644"/>
                  </a:lnTo>
                  <a:lnTo>
                    <a:pt x="21" y="638"/>
                  </a:lnTo>
                  <a:lnTo>
                    <a:pt x="39" y="632"/>
                  </a:lnTo>
                  <a:lnTo>
                    <a:pt x="32" y="620"/>
                  </a:lnTo>
                  <a:lnTo>
                    <a:pt x="38" y="598"/>
                  </a:lnTo>
                  <a:lnTo>
                    <a:pt x="39" y="593"/>
                  </a:lnTo>
                  <a:lnTo>
                    <a:pt x="41" y="589"/>
                  </a:lnTo>
                  <a:lnTo>
                    <a:pt x="46" y="589"/>
                  </a:lnTo>
                  <a:lnTo>
                    <a:pt x="46" y="583"/>
                  </a:lnTo>
                  <a:lnTo>
                    <a:pt x="74" y="583"/>
                  </a:lnTo>
                  <a:lnTo>
                    <a:pt x="74" y="589"/>
                  </a:lnTo>
                  <a:lnTo>
                    <a:pt x="77" y="589"/>
                  </a:lnTo>
                  <a:lnTo>
                    <a:pt x="81" y="593"/>
                  </a:lnTo>
                  <a:lnTo>
                    <a:pt x="82" y="600"/>
                  </a:lnTo>
                  <a:lnTo>
                    <a:pt x="84" y="609"/>
                  </a:lnTo>
                  <a:lnTo>
                    <a:pt x="84" y="620"/>
                  </a:lnTo>
                  <a:lnTo>
                    <a:pt x="82" y="626"/>
                  </a:lnTo>
                  <a:lnTo>
                    <a:pt x="78" y="629"/>
                  </a:lnTo>
                  <a:lnTo>
                    <a:pt x="84" y="632"/>
                  </a:lnTo>
                  <a:lnTo>
                    <a:pt x="90" y="632"/>
                  </a:lnTo>
                  <a:lnTo>
                    <a:pt x="95" y="629"/>
                  </a:lnTo>
                  <a:lnTo>
                    <a:pt x="98" y="624"/>
                  </a:lnTo>
                  <a:lnTo>
                    <a:pt x="96" y="618"/>
                  </a:lnTo>
                  <a:lnTo>
                    <a:pt x="84" y="620"/>
                  </a:lnTo>
                  <a:lnTo>
                    <a:pt x="84" y="609"/>
                  </a:lnTo>
                  <a:lnTo>
                    <a:pt x="100" y="607"/>
                  </a:lnTo>
                  <a:lnTo>
                    <a:pt x="105" y="609"/>
                  </a:lnTo>
                  <a:lnTo>
                    <a:pt x="110" y="611"/>
                  </a:lnTo>
                  <a:lnTo>
                    <a:pt x="114" y="614"/>
                  </a:lnTo>
                  <a:lnTo>
                    <a:pt x="111" y="595"/>
                  </a:lnTo>
                  <a:lnTo>
                    <a:pt x="107" y="575"/>
                  </a:lnTo>
                  <a:lnTo>
                    <a:pt x="136" y="450"/>
                  </a:lnTo>
                  <a:lnTo>
                    <a:pt x="142" y="428"/>
                  </a:lnTo>
                  <a:lnTo>
                    <a:pt x="150" y="413"/>
                  </a:lnTo>
                  <a:lnTo>
                    <a:pt x="159" y="400"/>
                  </a:lnTo>
                  <a:lnTo>
                    <a:pt x="151" y="370"/>
                  </a:lnTo>
                  <a:lnTo>
                    <a:pt x="148" y="350"/>
                  </a:lnTo>
                  <a:lnTo>
                    <a:pt x="150" y="332"/>
                  </a:lnTo>
                  <a:lnTo>
                    <a:pt x="156" y="311"/>
                  </a:lnTo>
                  <a:lnTo>
                    <a:pt x="171" y="284"/>
                  </a:lnTo>
                  <a:lnTo>
                    <a:pt x="185" y="263"/>
                  </a:lnTo>
                  <a:lnTo>
                    <a:pt x="208" y="243"/>
                  </a:lnTo>
                  <a:lnTo>
                    <a:pt x="228" y="229"/>
                  </a:lnTo>
                  <a:lnTo>
                    <a:pt x="242" y="217"/>
                  </a:lnTo>
                  <a:lnTo>
                    <a:pt x="255" y="208"/>
                  </a:lnTo>
                  <a:lnTo>
                    <a:pt x="268" y="205"/>
                  </a:lnTo>
                  <a:lnTo>
                    <a:pt x="282" y="205"/>
                  </a:lnTo>
                  <a:lnTo>
                    <a:pt x="297" y="208"/>
                  </a:lnTo>
                  <a:lnTo>
                    <a:pt x="329" y="202"/>
                  </a:lnTo>
                  <a:lnTo>
                    <a:pt x="332" y="190"/>
                  </a:lnTo>
                  <a:lnTo>
                    <a:pt x="328" y="170"/>
                  </a:lnTo>
                  <a:lnTo>
                    <a:pt x="331" y="168"/>
                  </a:lnTo>
                  <a:lnTo>
                    <a:pt x="328" y="147"/>
                  </a:lnTo>
                  <a:lnTo>
                    <a:pt x="326" y="125"/>
                  </a:lnTo>
                  <a:lnTo>
                    <a:pt x="326" y="102"/>
                  </a:lnTo>
                  <a:lnTo>
                    <a:pt x="331" y="79"/>
                  </a:lnTo>
                  <a:lnTo>
                    <a:pt x="340" y="55"/>
                  </a:lnTo>
                  <a:lnTo>
                    <a:pt x="352" y="37"/>
                  </a:lnTo>
                  <a:lnTo>
                    <a:pt x="364" y="25"/>
                  </a:lnTo>
                  <a:lnTo>
                    <a:pt x="395" y="9"/>
                  </a:lnTo>
                  <a:lnTo>
                    <a:pt x="418" y="0"/>
                  </a:lnTo>
                  <a:lnTo>
                    <a:pt x="4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2774880" y="3306600"/>
              <a:ext cx="1351080" cy="1351080"/>
            </a:xfrm>
            <a:custGeom>
              <a:avLst/>
              <a:gdLst/>
              <a:ahLst/>
              <a:rect l="l" t="t" r="r" b="b"/>
              <a:pathLst>
                <a:path w="4251" h="4254">
                  <a:moveTo>
                    <a:pt x="36" y="1740"/>
                  </a:moveTo>
                  <a:lnTo>
                    <a:pt x="58" y="1633"/>
                  </a:lnTo>
                  <a:lnTo>
                    <a:pt x="87" y="1529"/>
                  </a:lnTo>
                  <a:lnTo>
                    <a:pt x="119" y="1426"/>
                  </a:lnTo>
                  <a:lnTo>
                    <a:pt x="157" y="1327"/>
                  </a:lnTo>
                  <a:lnTo>
                    <a:pt x="199" y="1231"/>
                  </a:lnTo>
                  <a:lnTo>
                    <a:pt x="245" y="1136"/>
                  </a:lnTo>
                  <a:lnTo>
                    <a:pt x="296" y="1046"/>
                  </a:lnTo>
                  <a:lnTo>
                    <a:pt x="351" y="958"/>
                  </a:lnTo>
                  <a:lnTo>
                    <a:pt x="410" y="873"/>
                  </a:lnTo>
                  <a:lnTo>
                    <a:pt x="473" y="791"/>
                  </a:lnTo>
                  <a:lnTo>
                    <a:pt x="540" y="713"/>
                  </a:lnTo>
                  <a:lnTo>
                    <a:pt x="610" y="639"/>
                  </a:lnTo>
                  <a:lnTo>
                    <a:pt x="684" y="567"/>
                  </a:lnTo>
                  <a:lnTo>
                    <a:pt x="760" y="500"/>
                  </a:lnTo>
                  <a:lnTo>
                    <a:pt x="840" y="436"/>
                  </a:lnTo>
                  <a:lnTo>
                    <a:pt x="923" y="376"/>
                  </a:lnTo>
                  <a:lnTo>
                    <a:pt x="1009" y="320"/>
                  </a:lnTo>
                  <a:lnTo>
                    <a:pt x="1097" y="268"/>
                  </a:lnTo>
                  <a:lnTo>
                    <a:pt x="1187" y="221"/>
                  </a:lnTo>
                  <a:lnTo>
                    <a:pt x="1280" y="178"/>
                  </a:lnTo>
                  <a:lnTo>
                    <a:pt x="1375" y="139"/>
                  </a:lnTo>
                  <a:lnTo>
                    <a:pt x="1472" y="104"/>
                  </a:lnTo>
                  <a:lnTo>
                    <a:pt x="1570" y="75"/>
                  </a:lnTo>
                  <a:lnTo>
                    <a:pt x="1671" y="51"/>
                  </a:lnTo>
                  <a:lnTo>
                    <a:pt x="1773" y="31"/>
                  </a:lnTo>
                  <a:lnTo>
                    <a:pt x="1876" y="15"/>
                  </a:lnTo>
                  <a:lnTo>
                    <a:pt x="1980" y="5"/>
                  </a:lnTo>
                  <a:lnTo>
                    <a:pt x="2086" y="0"/>
                  </a:lnTo>
                  <a:lnTo>
                    <a:pt x="2192" y="1"/>
                  </a:lnTo>
                  <a:lnTo>
                    <a:pt x="2299" y="8"/>
                  </a:lnTo>
                  <a:lnTo>
                    <a:pt x="2406" y="19"/>
                  </a:lnTo>
                  <a:lnTo>
                    <a:pt x="2514" y="36"/>
                  </a:lnTo>
                  <a:lnTo>
                    <a:pt x="2621" y="59"/>
                  </a:lnTo>
                  <a:lnTo>
                    <a:pt x="2725" y="86"/>
                  </a:lnTo>
                  <a:lnTo>
                    <a:pt x="2826" y="119"/>
                  </a:lnTo>
                  <a:lnTo>
                    <a:pt x="2926" y="157"/>
                  </a:lnTo>
                  <a:lnTo>
                    <a:pt x="3023" y="199"/>
                  </a:lnTo>
                  <a:lnTo>
                    <a:pt x="3116" y="246"/>
                  </a:lnTo>
                  <a:lnTo>
                    <a:pt x="3207" y="296"/>
                  </a:lnTo>
                  <a:lnTo>
                    <a:pt x="3295" y="352"/>
                  </a:lnTo>
                  <a:lnTo>
                    <a:pt x="3379" y="411"/>
                  </a:lnTo>
                  <a:lnTo>
                    <a:pt x="3461" y="474"/>
                  </a:lnTo>
                  <a:lnTo>
                    <a:pt x="3540" y="540"/>
                  </a:lnTo>
                  <a:lnTo>
                    <a:pt x="3614" y="610"/>
                  </a:lnTo>
                  <a:lnTo>
                    <a:pt x="3686" y="684"/>
                  </a:lnTo>
                  <a:lnTo>
                    <a:pt x="3753" y="761"/>
                  </a:lnTo>
                  <a:lnTo>
                    <a:pt x="3817" y="841"/>
                  </a:lnTo>
                  <a:lnTo>
                    <a:pt x="3877" y="923"/>
                  </a:lnTo>
                  <a:lnTo>
                    <a:pt x="3932" y="1009"/>
                  </a:lnTo>
                  <a:lnTo>
                    <a:pt x="3984" y="1097"/>
                  </a:lnTo>
                  <a:lnTo>
                    <a:pt x="4031" y="1188"/>
                  </a:lnTo>
                  <a:lnTo>
                    <a:pt x="4075" y="1281"/>
                  </a:lnTo>
                  <a:lnTo>
                    <a:pt x="4114" y="1376"/>
                  </a:lnTo>
                  <a:lnTo>
                    <a:pt x="4147" y="1472"/>
                  </a:lnTo>
                  <a:lnTo>
                    <a:pt x="4177" y="1571"/>
                  </a:lnTo>
                  <a:lnTo>
                    <a:pt x="4202" y="1672"/>
                  </a:lnTo>
                  <a:lnTo>
                    <a:pt x="4222" y="1774"/>
                  </a:lnTo>
                  <a:lnTo>
                    <a:pt x="4237" y="1877"/>
                  </a:lnTo>
                  <a:lnTo>
                    <a:pt x="4247" y="1982"/>
                  </a:lnTo>
                  <a:lnTo>
                    <a:pt x="4251" y="2087"/>
                  </a:lnTo>
                  <a:lnTo>
                    <a:pt x="4250" y="2193"/>
                  </a:lnTo>
                  <a:lnTo>
                    <a:pt x="4245" y="2300"/>
                  </a:lnTo>
                  <a:lnTo>
                    <a:pt x="4234" y="2407"/>
                  </a:lnTo>
                  <a:lnTo>
                    <a:pt x="4216" y="2515"/>
                  </a:lnTo>
                  <a:lnTo>
                    <a:pt x="4194" y="2622"/>
                  </a:lnTo>
                  <a:lnTo>
                    <a:pt x="4165" y="2726"/>
                  </a:lnTo>
                  <a:lnTo>
                    <a:pt x="4133" y="2829"/>
                  </a:lnTo>
                  <a:lnTo>
                    <a:pt x="4096" y="2928"/>
                  </a:lnTo>
                  <a:lnTo>
                    <a:pt x="4053" y="3024"/>
                  </a:lnTo>
                  <a:lnTo>
                    <a:pt x="4007" y="3119"/>
                  </a:lnTo>
                  <a:lnTo>
                    <a:pt x="3955" y="3209"/>
                  </a:lnTo>
                  <a:lnTo>
                    <a:pt x="3901" y="3297"/>
                  </a:lnTo>
                  <a:lnTo>
                    <a:pt x="3842" y="3382"/>
                  </a:lnTo>
                  <a:lnTo>
                    <a:pt x="3779" y="3464"/>
                  </a:lnTo>
                  <a:lnTo>
                    <a:pt x="3712" y="3542"/>
                  </a:lnTo>
                  <a:lnTo>
                    <a:pt x="3642" y="3616"/>
                  </a:lnTo>
                  <a:lnTo>
                    <a:pt x="3568" y="3688"/>
                  </a:lnTo>
                  <a:lnTo>
                    <a:pt x="3492" y="3755"/>
                  </a:lnTo>
                  <a:lnTo>
                    <a:pt x="3412" y="3819"/>
                  </a:lnTo>
                  <a:lnTo>
                    <a:pt x="3329" y="3879"/>
                  </a:lnTo>
                  <a:lnTo>
                    <a:pt x="3244" y="3935"/>
                  </a:lnTo>
                  <a:lnTo>
                    <a:pt x="3156" y="3987"/>
                  </a:lnTo>
                  <a:lnTo>
                    <a:pt x="3065" y="4034"/>
                  </a:lnTo>
                  <a:lnTo>
                    <a:pt x="2972" y="4077"/>
                  </a:lnTo>
                  <a:lnTo>
                    <a:pt x="2877" y="4116"/>
                  </a:lnTo>
                  <a:lnTo>
                    <a:pt x="2780" y="4151"/>
                  </a:lnTo>
                  <a:lnTo>
                    <a:pt x="2682" y="4180"/>
                  </a:lnTo>
                  <a:lnTo>
                    <a:pt x="2582" y="4204"/>
                  </a:lnTo>
                  <a:lnTo>
                    <a:pt x="2480" y="4224"/>
                  </a:lnTo>
                  <a:lnTo>
                    <a:pt x="2376" y="4240"/>
                  </a:lnTo>
                  <a:lnTo>
                    <a:pt x="2272" y="4250"/>
                  </a:lnTo>
                  <a:lnTo>
                    <a:pt x="2167" y="4254"/>
                  </a:lnTo>
                  <a:lnTo>
                    <a:pt x="2060" y="4254"/>
                  </a:lnTo>
                  <a:lnTo>
                    <a:pt x="1953" y="4247"/>
                  </a:lnTo>
                  <a:lnTo>
                    <a:pt x="1846" y="4236"/>
                  </a:lnTo>
                  <a:lnTo>
                    <a:pt x="1738" y="4219"/>
                  </a:lnTo>
                  <a:lnTo>
                    <a:pt x="1632" y="4196"/>
                  </a:lnTo>
                  <a:lnTo>
                    <a:pt x="1527" y="4169"/>
                  </a:lnTo>
                  <a:lnTo>
                    <a:pt x="1425" y="4136"/>
                  </a:lnTo>
                  <a:lnTo>
                    <a:pt x="1326" y="4098"/>
                  </a:lnTo>
                  <a:lnTo>
                    <a:pt x="1229" y="4056"/>
                  </a:lnTo>
                  <a:lnTo>
                    <a:pt x="1136" y="4009"/>
                  </a:lnTo>
                  <a:lnTo>
                    <a:pt x="1045" y="3959"/>
                  </a:lnTo>
                  <a:lnTo>
                    <a:pt x="956" y="3903"/>
                  </a:lnTo>
                  <a:lnTo>
                    <a:pt x="872" y="3844"/>
                  </a:lnTo>
                  <a:lnTo>
                    <a:pt x="791" y="3781"/>
                  </a:lnTo>
                  <a:lnTo>
                    <a:pt x="712" y="3715"/>
                  </a:lnTo>
                  <a:lnTo>
                    <a:pt x="637" y="3645"/>
                  </a:lnTo>
                  <a:lnTo>
                    <a:pt x="566" y="3571"/>
                  </a:lnTo>
                  <a:lnTo>
                    <a:pt x="499" y="3494"/>
                  </a:lnTo>
                  <a:lnTo>
                    <a:pt x="435" y="3414"/>
                  </a:lnTo>
                  <a:lnTo>
                    <a:pt x="376" y="3331"/>
                  </a:lnTo>
                  <a:lnTo>
                    <a:pt x="319" y="3246"/>
                  </a:lnTo>
                  <a:lnTo>
                    <a:pt x="268" y="3158"/>
                  </a:lnTo>
                  <a:lnTo>
                    <a:pt x="221" y="3067"/>
                  </a:lnTo>
                  <a:lnTo>
                    <a:pt x="178" y="2974"/>
                  </a:lnTo>
                  <a:lnTo>
                    <a:pt x="139" y="2879"/>
                  </a:lnTo>
                  <a:lnTo>
                    <a:pt x="104" y="2783"/>
                  </a:lnTo>
                  <a:lnTo>
                    <a:pt x="75" y="2684"/>
                  </a:lnTo>
                  <a:lnTo>
                    <a:pt x="50" y="2583"/>
                  </a:lnTo>
                  <a:lnTo>
                    <a:pt x="30" y="2481"/>
                  </a:lnTo>
                  <a:lnTo>
                    <a:pt x="15" y="2378"/>
                  </a:lnTo>
                  <a:lnTo>
                    <a:pt x="6" y="2273"/>
                  </a:lnTo>
                  <a:lnTo>
                    <a:pt x="0" y="2168"/>
                  </a:lnTo>
                  <a:lnTo>
                    <a:pt x="2" y="2062"/>
                  </a:lnTo>
                  <a:lnTo>
                    <a:pt x="7" y="1955"/>
                  </a:lnTo>
                  <a:lnTo>
                    <a:pt x="18" y="1848"/>
                  </a:lnTo>
                  <a:lnTo>
                    <a:pt x="36" y="174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5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13000" y="380880"/>
            <a:ext cx="2959200" cy="6904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300" spc="-1" strike="noStrike">
                <a:solidFill>
                  <a:srgbClr val="cc9900"/>
                </a:solidFill>
                <a:latin typeface="Futura XBlkCn BT"/>
              </a:rPr>
              <a:t>?</a:t>
            </a:r>
            <a:endParaRPr b="0" lang="en-US" sz="4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52840" y="590400"/>
            <a:ext cx="417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1f1a17"/>
                </a:solidFill>
                <a:latin typeface="Geometr231 Hv BT"/>
              </a:rPr>
              <a:t>HIV TESTING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44120" y="2198520"/>
            <a:ext cx="2305080" cy="335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dc2b19"/>
                </a:solidFill>
                <a:latin typeface="Geometr231 Hv BT"/>
              </a:rPr>
              <a:t>WHAT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2b0e72"/>
                </a:solidFill>
                <a:latin typeface="Geometr231 Hv BT"/>
              </a:rPr>
              <a:t>HOW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009240"/>
                </a:solidFill>
                <a:latin typeface="Geometr231 Hv BT"/>
              </a:rPr>
              <a:t>WHY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e0d71e"/>
                </a:solidFill>
                <a:latin typeface="Geometr231 Hv BT"/>
              </a:rPr>
              <a:t>WHO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6" name=""/>
          <p:cNvGrpSpPr/>
          <p:nvPr/>
        </p:nvGrpSpPr>
        <p:grpSpPr>
          <a:xfrm>
            <a:off x="4044960" y="1852560"/>
            <a:ext cx="2328840" cy="3832200"/>
            <a:chOff x="4044960" y="1852560"/>
            <a:chExt cx="2328840" cy="3832200"/>
          </a:xfrm>
        </p:grpSpPr>
        <p:sp>
          <p:nvSpPr>
            <p:cNvPr id="5317" name=""/>
            <p:cNvSpPr/>
            <p:nvPr/>
          </p:nvSpPr>
          <p:spPr>
            <a:xfrm>
              <a:off x="4044960" y="1852560"/>
              <a:ext cx="2328840" cy="3832200"/>
            </a:xfrm>
            <a:custGeom>
              <a:avLst/>
              <a:gdLst/>
              <a:ahLst/>
              <a:rect l="l" t="t" r="r" b="b"/>
              <a:pathLst>
                <a:path w="7335" h="12069">
                  <a:moveTo>
                    <a:pt x="4442" y="8952"/>
                  </a:moveTo>
                  <a:lnTo>
                    <a:pt x="4727" y="8635"/>
                  </a:lnTo>
                  <a:lnTo>
                    <a:pt x="4932" y="8336"/>
                  </a:lnTo>
                  <a:lnTo>
                    <a:pt x="5105" y="8019"/>
                  </a:lnTo>
                  <a:lnTo>
                    <a:pt x="5217" y="7671"/>
                  </a:lnTo>
                  <a:lnTo>
                    <a:pt x="5075" y="8209"/>
                  </a:lnTo>
                  <a:lnTo>
                    <a:pt x="4837" y="8684"/>
                  </a:lnTo>
                  <a:lnTo>
                    <a:pt x="4932" y="8509"/>
                  </a:lnTo>
                  <a:lnTo>
                    <a:pt x="5044" y="8431"/>
                  </a:lnTo>
                  <a:lnTo>
                    <a:pt x="4965" y="8874"/>
                  </a:lnTo>
                  <a:lnTo>
                    <a:pt x="5058" y="9301"/>
                  </a:lnTo>
                  <a:lnTo>
                    <a:pt x="4980" y="9364"/>
                  </a:lnTo>
                  <a:lnTo>
                    <a:pt x="4837" y="9301"/>
                  </a:lnTo>
                  <a:lnTo>
                    <a:pt x="4917" y="9411"/>
                  </a:lnTo>
                  <a:lnTo>
                    <a:pt x="5075" y="9458"/>
                  </a:lnTo>
                  <a:lnTo>
                    <a:pt x="5217" y="9332"/>
                  </a:lnTo>
                  <a:lnTo>
                    <a:pt x="5185" y="9032"/>
                  </a:lnTo>
                  <a:lnTo>
                    <a:pt x="5312" y="9095"/>
                  </a:lnTo>
                  <a:lnTo>
                    <a:pt x="5359" y="9221"/>
                  </a:lnTo>
                  <a:lnTo>
                    <a:pt x="5438" y="8889"/>
                  </a:lnTo>
                  <a:lnTo>
                    <a:pt x="5502" y="8605"/>
                  </a:lnTo>
                  <a:lnTo>
                    <a:pt x="5454" y="8889"/>
                  </a:lnTo>
                  <a:lnTo>
                    <a:pt x="5502" y="9237"/>
                  </a:lnTo>
                  <a:lnTo>
                    <a:pt x="5423" y="9411"/>
                  </a:lnTo>
                  <a:lnTo>
                    <a:pt x="5201" y="9537"/>
                  </a:lnTo>
                  <a:lnTo>
                    <a:pt x="5407" y="9616"/>
                  </a:lnTo>
                  <a:lnTo>
                    <a:pt x="5595" y="9616"/>
                  </a:lnTo>
                  <a:lnTo>
                    <a:pt x="5754" y="9554"/>
                  </a:lnTo>
                  <a:lnTo>
                    <a:pt x="5881" y="9427"/>
                  </a:lnTo>
                  <a:lnTo>
                    <a:pt x="5975" y="9649"/>
                  </a:lnTo>
                  <a:lnTo>
                    <a:pt x="5881" y="9791"/>
                  </a:lnTo>
                  <a:lnTo>
                    <a:pt x="6039" y="9680"/>
                  </a:lnTo>
                  <a:lnTo>
                    <a:pt x="6087" y="9490"/>
                  </a:lnTo>
                  <a:lnTo>
                    <a:pt x="6039" y="9316"/>
                  </a:lnTo>
                  <a:lnTo>
                    <a:pt x="5992" y="9158"/>
                  </a:lnTo>
                  <a:lnTo>
                    <a:pt x="6118" y="8952"/>
                  </a:lnTo>
                  <a:lnTo>
                    <a:pt x="6229" y="8747"/>
                  </a:lnTo>
                  <a:lnTo>
                    <a:pt x="6275" y="8526"/>
                  </a:lnTo>
                  <a:lnTo>
                    <a:pt x="6244" y="8288"/>
                  </a:lnTo>
                  <a:lnTo>
                    <a:pt x="6323" y="8462"/>
                  </a:lnTo>
                  <a:lnTo>
                    <a:pt x="6355" y="8635"/>
                  </a:lnTo>
                  <a:lnTo>
                    <a:pt x="6261" y="8874"/>
                  </a:lnTo>
                  <a:lnTo>
                    <a:pt x="6182" y="9111"/>
                  </a:lnTo>
                  <a:lnTo>
                    <a:pt x="6229" y="9221"/>
                  </a:lnTo>
                  <a:lnTo>
                    <a:pt x="6291" y="9316"/>
                  </a:lnTo>
                  <a:lnTo>
                    <a:pt x="6275" y="9111"/>
                  </a:lnTo>
                  <a:lnTo>
                    <a:pt x="6372" y="8952"/>
                  </a:lnTo>
                  <a:lnTo>
                    <a:pt x="6513" y="8905"/>
                  </a:lnTo>
                  <a:lnTo>
                    <a:pt x="6670" y="8905"/>
                  </a:lnTo>
                  <a:lnTo>
                    <a:pt x="6813" y="8889"/>
                  </a:lnTo>
                  <a:lnTo>
                    <a:pt x="6924" y="8810"/>
                  </a:lnTo>
                  <a:lnTo>
                    <a:pt x="6971" y="8447"/>
                  </a:lnTo>
                  <a:lnTo>
                    <a:pt x="6939" y="8036"/>
                  </a:lnTo>
                  <a:lnTo>
                    <a:pt x="7019" y="7846"/>
                  </a:lnTo>
                  <a:lnTo>
                    <a:pt x="7067" y="7624"/>
                  </a:lnTo>
                  <a:lnTo>
                    <a:pt x="7177" y="7877"/>
                  </a:lnTo>
                  <a:lnTo>
                    <a:pt x="7035" y="8098"/>
                  </a:lnTo>
                  <a:lnTo>
                    <a:pt x="7257" y="7957"/>
                  </a:lnTo>
                  <a:lnTo>
                    <a:pt x="7288" y="7750"/>
                  </a:lnTo>
                  <a:lnTo>
                    <a:pt x="7209" y="7498"/>
                  </a:lnTo>
                  <a:lnTo>
                    <a:pt x="7098" y="7229"/>
                  </a:lnTo>
                  <a:lnTo>
                    <a:pt x="7145" y="7070"/>
                  </a:lnTo>
                  <a:lnTo>
                    <a:pt x="7193" y="6896"/>
                  </a:lnTo>
                  <a:lnTo>
                    <a:pt x="7145" y="6722"/>
                  </a:lnTo>
                  <a:lnTo>
                    <a:pt x="7067" y="6532"/>
                  </a:lnTo>
                  <a:lnTo>
                    <a:pt x="7257" y="6628"/>
                  </a:lnTo>
                  <a:lnTo>
                    <a:pt x="7319" y="6849"/>
                  </a:lnTo>
                  <a:lnTo>
                    <a:pt x="7335" y="6628"/>
                  </a:lnTo>
                  <a:lnTo>
                    <a:pt x="7224" y="6485"/>
                  </a:lnTo>
                  <a:lnTo>
                    <a:pt x="7081" y="6359"/>
                  </a:lnTo>
                  <a:lnTo>
                    <a:pt x="6971" y="6201"/>
                  </a:lnTo>
                  <a:lnTo>
                    <a:pt x="7177" y="6121"/>
                  </a:lnTo>
                  <a:lnTo>
                    <a:pt x="7193" y="5869"/>
                  </a:lnTo>
                  <a:lnTo>
                    <a:pt x="7129" y="6011"/>
                  </a:lnTo>
                  <a:lnTo>
                    <a:pt x="7019" y="6059"/>
                  </a:lnTo>
                  <a:lnTo>
                    <a:pt x="6845" y="6011"/>
                  </a:lnTo>
                  <a:lnTo>
                    <a:pt x="6751" y="5869"/>
                  </a:lnTo>
                  <a:lnTo>
                    <a:pt x="6608" y="5157"/>
                  </a:lnTo>
                  <a:lnTo>
                    <a:pt x="6355" y="4745"/>
                  </a:lnTo>
                  <a:lnTo>
                    <a:pt x="6087" y="4508"/>
                  </a:lnTo>
                  <a:lnTo>
                    <a:pt x="5849" y="4318"/>
                  </a:lnTo>
                  <a:lnTo>
                    <a:pt x="5675" y="4144"/>
                  </a:lnTo>
                  <a:lnTo>
                    <a:pt x="5454" y="4049"/>
                  </a:lnTo>
                  <a:lnTo>
                    <a:pt x="5295" y="4144"/>
                  </a:lnTo>
                  <a:lnTo>
                    <a:pt x="5248" y="4303"/>
                  </a:lnTo>
                  <a:lnTo>
                    <a:pt x="5012" y="4382"/>
                  </a:lnTo>
                  <a:lnTo>
                    <a:pt x="4901" y="4476"/>
                  </a:lnTo>
                  <a:lnTo>
                    <a:pt x="4711" y="4460"/>
                  </a:lnTo>
                  <a:lnTo>
                    <a:pt x="4601" y="4429"/>
                  </a:lnTo>
                  <a:lnTo>
                    <a:pt x="4568" y="4539"/>
                  </a:lnTo>
                  <a:lnTo>
                    <a:pt x="4554" y="4651"/>
                  </a:lnTo>
                  <a:lnTo>
                    <a:pt x="4489" y="4651"/>
                  </a:lnTo>
                  <a:lnTo>
                    <a:pt x="4442" y="4698"/>
                  </a:lnTo>
                  <a:lnTo>
                    <a:pt x="4425" y="4729"/>
                  </a:lnTo>
                  <a:lnTo>
                    <a:pt x="4425" y="4762"/>
                  </a:lnTo>
                  <a:lnTo>
                    <a:pt x="4364" y="4808"/>
                  </a:lnTo>
                  <a:lnTo>
                    <a:pt x="4395" y="4855"/>
                  </a:lnTo>
                  <a:lnTo>
                    <a:pt x="4425" y="4934"/>
                  </a:lnTo>
                  <a:lnTo>
                    <a:pt x="4379" y="4905"/>
                  </a:lnTo>
                  <a:lnTo>
                    <a:pt x="4316" y="4888"/>
                  </a:lnTo>
                  <a:lnTo>
                    <a:pt x="4268" y="4888"/>
                  </a:lnTo>
                  <a:lnTo>
                    <a:pt x="4221" y="4919"/>
                  </a:lnTo>
                  <a:lnTo>
                    <a:pt x="4221" y="4967"/>
                  </a:lnTo>
                  <a:lnTo>
                    <a:pt x="4206" y="5014"/>
                  </a:lnTo>
                  <a:lnTo>
                    <a:pt x="4142" y="5014"/>
                  </a:lnTo>
                  <a:lnTo>
                    <a:pt x="4063" y="5062"/>
                  </a:lnTo>
                  <a:lnTo>
                    <a:pt x="4095" y="5331"/>
                  </a:lnTo>
                  <a:lnTo>
                    <a:pt x="4300" y="5600"/>
                  </a:lnTo>
                  <a:lnTo>
                    <a:pt x="4253" y="5773"/>
                  </a:lnTo>
                  <a:lnTo>
                    <a:pt x="4221" y="5963"/>
                  </a:lnTo>
                  <a:lnTo>
                    <a:pt x="3888" y="5837"/>
                  </a:lnTo>
                  <a:lnTo>
                    <a:pt x="3620" y="5757"/>
                  </a:lnTo>
                  <a:lnTo>
                    <a:pt x="3400" y="5711"/>
                  </a:lnTo>
                  <a:lnTo>
                    <a:pt x="3241" y="5614"/>
                  </a:lnTo>
                  <a:lnTo>
                    <a:pt x="3004" y="5393"/>
                  </a:lnTo>
                  <a:lnTo>
                    <a:pt x="2782" y="5252"/>
                  </a:lnTo>
                  <a:lnTo>
                    <a:pt x="2545" y="5141"/>
                  </a:lnTo>
                  <a:lnTo>
                    <a:pt x="2309" y="5014"/>
                  </a:lnTo>
                  <a:lnTo>
                    <a:pt x="2213" y="4539"/>
                  </a:lnTo>
                  <a:lnTo>
                    <a:pt x="2134" y="4096"/>
                  </a:lnTo>
                  <a:lnTo>
                    <a:pt x="2134" y="3401"/>
                  </a:lnTo>
                  <a:lnTo>
                    <a:pt x="2151" y="2799"/>
                  </a:lnTo>
                  <a:lnTo>
                    <a:pt x="2373" y="2547"/>
                  </a:lnTo>
                  <a:lnTo>
                    <a:pt x="2482" y="2279"/>
                  </a:lnTo>
                  <a:lnTo>
                    <a:pt x="2561" y="2341"/>
                  </a:lnTo>
                  <a:lnTo>
                    <a:pt x="2642" y="2389"/>
                  </a:lnTo>
                  <a:lnTo>
                    <a:pt x="2656" y="2483"/>
                  </a:lnTo>
                  <a:lnTo>
                    <a:pt x="2720" y="2562"/>
                  </a:lnTo>
                  <a:lnTo>
                    <a:pt x="2720" y="2642"/>
                  </a:lnTo>
                  <a:lnTo>
                    <a:pt x="2735" y="2737"/>
                  </a:lnTo>
                  <a:lnTo>
                    <a:pt x="2768" y="2799"/>
                  </a:lnTo>
                  <a:lnTo>
                    <a:pt x="2830" y="2831"/>
                  </a:lnTo>
                  <a:lnTo>
                    <a:pt x="2861" y="2816"/>
                  </a:lnTo>
                  <a:lnTo>
                    <a:pt x="2878" y="2799"/>
                  </a:lnTo>
                  <a:lnTo>
                    <a:pt x="2893" y="2831"/>
                  </a:lnTo>
                  <a:lnTo>
                    <a:pt x="2910" y="2848"/>
                  </a:lnTo>
                  <a:lnTo>
                    <a:pt x="2940" y="2848"/>
                  </a:lnTo>
                  <a:lnTo>
                    <a:pt x="2972" y="2831"/>
                  </a:lnTo>
                  <a:lnTo>
                    <a:pt x="2989" y="2816"/>
                  </a:lnTo>
                  <a:lnTo>
                    <a:pt x="3004" y="2784"/>
                  </a:lnTo>
                  <a:lnTo>
                    <a:pt x="3020" y="2816"/>
                  </a:lnTo>
                  <a:lnTo>
                    <a:pt x="3036" y="2831"/>
                  </a:lnTo>
                  <a:lnTo>
                    <a:pt x="3068" y="2848"/>
                  </a:lnTo>
                  <a:lnTo>
                    <a:pt x="3115" y="2831"/>
                  </a:lnTo>
                  <a:lnTo>
                    <a:pt x="3130" y="2784"/>
                  </a:lnTo>
                  <a:lnTo>
                    <a:pt x="3130" y="2737"/>
                  </a:lnTo>
                  <a:lnTo>
                    <a:pt x="3146" y="2688"/>
                  </a:lnTo>
                  <a:lnTo>
                    <a:pt x="3162" y="2642"/>
                  </a:lnTo>
                  <a:lnTo>
                    <a:pt x="3146" y="2595"/>
                  </a:lnTo>
                  <a:lnTo>
                    <a:pt x="3146" y="2531"/>
                  </a:lnTo>
                  <a:lnTo>
                    <a:pt x="3194" y="2531"/>
                  </a:lnTo>
                  <a:lnTo>
                    <a:pt x="3258" y="2531"/>
                  </a:lnTo>
                  <a:lnTo>
                    <a:pt x="3289" y="2562"/>
                  </a:lnTo>
                  <a:lnTo>
                    <a:pt x="3305" y="2595"/>
                  </a:lnTo>
                  <a:lnTo>
                    <a:pt x="3351" y="2595"/>
                  </a:lnTo>
                  <a:lnTo>
                    <a:pt x="3368" y="2578"/>
                  </a:lnTo>
                  <a:lnTo>
                    <a:pt x="3351" y="2516"/>
                  </a:lnTo>
                  <a:lnTo>
                    <a:pt x="3305" y="2436"/>
                  </a:lnTo>
                  <a:lnTo>
                    <a:pt x="3258" y="2405"/>
                  </a:lnTo>
                  <a:lnTo>
                    <a:pt x="3179" y="2389"/>
                  </a:lnTo>
                  <a:lnTo>
                    <a:pt x="3130" y="2326"/>
                  </a:lnTo>
                  <a:lnTo>
                    <a:pt x="3020" y="2247"/>
                  </a:lnTo>
                  <a:lnTo>
                    <a:pt x="2940" y="2089"/>
                  </a:lnTo>
                  <a:lnTo>
                    <a:pt x="2940" y="1946"/>
                  </a:lnTo>
                  <a:lnTo>
                    <a:pt x="2972" y="1771"/>
                  </a:lnTo>
                  <a:lnTo>
                    <a:pt x="3099" y="1835"/>
                  </a:lnTo>
                  <a:lnTo>
                    <a:pt x="3225" y="1788"/>
                  </a:lnTo>
                  <a:lnTo>
                    <a:pt x="3258" y="1771"/>
                  </a:lnTo>
                  <a:lnTo>
                    <a:pt x="3305" y="1788"/>
                  </a:lnTo>
                  <a:lnTo>
                    <a:pt x="3319" y="1788"/>
                  </a:lnTo>
                  <a:lnTo>
                    <a:pt x="3336" y="1771"/>
                  </a:lnTo>
                  <a:lnTo>
                    <a:pt x="3368" y="1709"/>
                  </a:lnTo>
                  <a:lnTo>
                    <a:pt x="3431" y="1677"/>
                  </a:lnTo>
                  <a:lnTo>
                    <a:pt x="3494" y="1693"/>
                  </a:lnTo>
                  <a:lnTo>
                    <a:pt x="3541" y="1677"/>
                  </a:lnTo>
                  <a:lnTo>
                    <a:pt x="3558" y="1630"/>
                  </a:lnTo>
                  <a:lnTo>
                    <a:pt x="3588" y="1581"/>
                  </a:lnTo>
                  <a:lnTo>
                    <a:pt x="3669" y="1581"/>
                  </a:lnTo>
                  <a:lnTo>
                    <a:pt x="3716" y="1551"/>
                  </a:lnTo>
                  <a:lnTo>
                    <a:pt x="3716" y="1487"/>
                  </a:lnTo>
                  <a:lnTo>
                    <a:pt x="3716" y="1408"/>
                  </a:lnTo>
                  <a:lnTo>
                    <a:pt x="3826" y="1377"/>
                  </a:lnTo>
                  <a:lnTo>
                    <a:pt x="3905" y="1298"/>
                  </a:lnTo>
                  <a:lnTo>
                    <a:pt x="3985" y="1218"/>
                  </a:lnTo>
                  <a:lnTo>
                    <a:pt x="4031" y="1108"/>
                  </a:lnTo>
                  <a:lnTo>
                    <a:pt x="4048" y="839"/>
                  </a:lnTo>
                  <a:lnTo>
                    <a:pt x="3999" y="570"/>
                  </a:lnTo>
                  <a:lnTo>
                    <a:pt x="3921" y="427"/>
                  </a:lnTo>
                  <a:lnTo>
                    <a:pt x="3842" y="333"/>
                  </a:lnTo>
                  <a:lnTo>
                    <a:pt x="3684" y="143"/>
                  </a:lnTo>
                  <a:lnTo>
                    <a:pt x="3462" y="16"/>
                  </a:lnTo>
                  <a:lnTo>
                    <a:pt x="3272" y="0"/>
                  </a:lnTo>
                  <a:lnTo>
                    <a:pt x="3115" y="0"/>
                  </a:lnTo>
                  <a:lnTo>
                    <a:pt x="2989" y="47"/>
                  </a:lnTo>
                  <a:lnTo>
                    <a:pt x="2846" y="159"/>
                  </a:lnTo>
                  <a:lnTo>
                    <a:pt x="2656" y="333"/>
                  </a:lnTo>
                  <a:lnTo>
                    <a:pt x="2530" y="553"/>
                  </a:lnTo>
                  <a:lnTo>
                    <a:pt x="2530" y="649"/>
                  </a:lnTo>
                  <a:lnTo>
                    <a:pt x="2545" y="760"/>
                  </a:lnTo>
                  <a:lnTo>
                    <a:pt x="2499" y="822"/>
                  </a:lnTo>
                  <a:lnTo>
                    <a:pt x="2482" y="918"/>
                  </a:lnTo>
                  <a:lnTo>
                    <a:pt x="2435" y="901"/>
                  </a:lnTo>
                  <a:lnTo>
                    <a:pt x="2373" y="918"/>
                  </a:lnTo>
                  <a:lnTo>
                    <a:pt x="2183" y="1029"/>
                  </a:lnTo>
                  <a:lnTo>
                    <a:pt x="1929" y="1155"/>
                  </a:lnTo>
                  <a:lnTo>
                    <a:pt x="1882" y="1108"/>
                  </a:lnTo>
                  <a:lnTo>
                    <a:pt x="1786" y="1091"/>
                  </a:lnTo>
                  <a:lnTo>
                    <a:pt x="1755" y="1155"/>
                  </a:lnTo>
                  <a:lnTo>
                    <a:pt x="1755" y="1234"/>
                  </a:lnTo>
                  <a:lnTo>
                    <a:pt x="1693" y="1201"/>
                  </a:lnTo>
                  <a:lnTo>
                    <a:pt x="1613" y="1218"/>
                  </a:lnTo>
                  <a:lnTo>
                    <a:pt x="1598" y="1265"/>
                  </a:lnTo>
                  <a:lnTo>
                    <a:pt x="1613" y="1344"/>
                  </a:lnTo>
                  <a:lnTo>
                    <a:pt x="1535" y="1408"/>
                  </a:lnTo>
                  <a:lnTo>
                    <a:pt x="1486" y="1377"/>
                  </a:lnTo>
                  <a:lnTo>
                    <a:pt x="1408" y="1377"/>
                  </a:lnTo>
                  <a:lnTo>
                    <a:pt x="1392" y="1441"/>
                  </a:lnTo>
                  <a:lnTo>
                    <a:pt x="1408" y="1534"/>
                  </a:lnTo>
                  <a:lnTo>
                    <a:pt x="1296" y="1613"/>
                  </a:lnTo>
                  <a:lnTo>
                    <a:pt x="1218" y="1677"/>
                  </a:lnTo>
                  <a:lnTo>
                    <a:pt x="1156" y="1645"/>
                  </a:lnTo>
                  <a:lnTo>
                    <a:pt x="1106" y="1645"/>
                  </a:lnTo>
                  <a:lnTo>
                    <a:pt x="1092" y="1709"/>
                  </a:lnTo>
                  <a:lnTo>
                    <a:pt x="1123" y="1756"/>
                  </a:lnTo>
                  <a:lnTo>
                    <a:pt x="966" y="1898"/>
                  </a:lnTo>
                  <a:lnTo>
                    <a:pt x="806" y="2024"/>
                  </a:lnTo>
                  <a:lnTo>
                    <a:pt x="712" y="2010"/>
                  </a:lnTo>
                  <a:lnTo>
                    <a:pt x="633" y="2010"/>
                  </a:lnTo>
                  <a:lnTo>
                    <a:pt x="459" y="2215"/>
                  </a:lnTo>
                  <a:lnTo>
                    <a:pt x="317" y="2405"/>
                  </a:lnTo>
                  <a:lnTo>
                    <a:pt x="238" y="2642"/>
                  </a:lnTo>
                  <a:lnTo>
                    <a:pt x="238" y="2926"/>
                  </a:lnTo>
                  <a:lnTo>
                    <a:pt x="190" y="3132"/>
                  </a:lnTo>
                  <a:lnTo>
                    <a:pt x="190" y="3321"/>
                  </a:lnTo>
                  <a:lnTo>
                    <a:pt x="317" y="3464"/>
                  </a:lnTo>
                  <a:lnTo>
                    <a:pt x="490" y="3590"/>
                  </a:lnTo>
                  <a:lnTo>
                    <a:pt x="569" y="3670"/>
                  </a:lnTo>
                  <a:lnTo>
                    <a:pt x="649" y="3765"/>
                  </a:lnTo>
                  <a:lnTo>
                    <a:pt x="459" y="3827"/>
                  </a:lnTo>
                  <a:lnTo>
                    <a:pt x="286" y="3939"/>
                  </a:lnTo>
                  <a:lnTo>
                    <a:pt x="128" y="3986"/>
                  </a:lnTo>
                  <a:lnTo>
                    <a:pt x="0" y="4096"/>
                  </a:lnTo>
                  <a:lnTo>
                    <a:pt x="96" y="4303"/>
                  </a:lnTo>
                  <a:lnTo>
                    <a:pt x="286" y="4476"/>
                  </a:lnTo>
                  <a:lnTo>
                    <a:pt x="380" y="4619"/>
                  </a:lnTo>
                  <a:lnTo>
                    <a:pt x="490" y="4762"/>
                  </a:lnTo>
                  <a:lnTo>
                    <a:pt x="523" y="4777"/>
                  </a:lnTo>
                  <a:lnTo>
                    <a:pt x="569" y="4762"/>
                  </a:lnTo>
                  <a:lnTo>
                    <a:pt x="633" y="4777"/>
                  </a:lnTo>
                  <a:lnTo>
                    <a:pt x="666" y="4793"/>
                  </a:lnTo>
                  <a:lnTo>
                    <a:pt x="602" y="4855"/>
                  </a:lnTo>
                  <a:lnTo>
                    <a:pt x="586" y="4934"/>
                  </a:lnTo>
                  <a:lnTo>
                    <a:pt x="697" y="5094"/>
                  </a:lnTo>
                  <a:lnTo>
                    <a:pt x="806" y="5235"/>
                  </a:lnTo>
                  <a:lnTo>
                    <a:pt x="902" y="5425"/>
                  </a:lnTo>
                  <a:lnTo>
                    <a:pt x="981" y="5521"/>
                  </a:lnTo>
                  <a:lnTo>
                    <a:pt x="966" y="5552"/>
                  </a:lnTo>
                  <a:lnTo>
                    <a:pt x="981" y="5583"/>
                  </a:lnTo>
                  <a:lnTo>
                    <a:pt x="1013" y="5614"/>
                  </a:lnTo>
                  <a:lnTo>
                    <a:pt x="1045" y="5614"/>
                  </a:lnTo>
                  <a:lnTo>
                    <a:pt x="1075" y="5647"/>
                  </a:lnTo>
                  <a:lnTo>
                    <a:pt x="1123" y="5678"/>
                  </a:lnTo>
                  <a:lnTo>
                    <a:pt x="1170" y="5694"/>
                  </a:lnTo>
                  <a:lnTo>
                    <a:pt x="1202" y="5711"/>
                  </a:lnTo>
                  <a:lnTo>
                    <a:pt x="1282" y="5743"/>
                  </a:lnTo>
                  <a:lnTo>
                    <a:pt x="1329" y="5711"/>
                  </a:lnTo>
                  <a:lnTo>
                    <a:pt x="1313" y="5662"/>
                  </a:lnTo>
                  <a:lnTo>
                    <a:pt x="1296" y="5631"/>
                  </a:lnTo>
                  <a:lnTo>
                    <a:pt x="1296" y="5583"/>
                  </a:lnTo>
                  <a:lnTo>
                    <a:pt x="1296" y="5536"/>
                  </a:lnTo>
                  <a:lnTo>
                    <a:pt x="1265" y="5457"/>
                  </a:lnTo>
                  <a:lnTo>
                    <a:pt x="1234" y="5393"/>
                  </a:lnTo>
                  <a:lnTo>
                    <a:pt x="1234" y="5283"/>
                  </a:lnTo>
                  <a:lnTo>
                    <a:pt x="1218" y="5173"/>
                  </a:lnTo>
                  <a:lnTo>
                    <a:pt x="1186" y="5014"/>
                  </a:lnTo>
                  <a:lnTo>
                    <a:pt x="1156" y="4888"/>
                  </a:lnTo>
                  <a:lnTo>
                    <a:pt x="1265" y="4586"/>
                  </a:lnTo>
                  <a:lnTo>
                    <a:pt x="1313" y="4239"/>
                  </a:lnTo>
                  <a:lnTo>
                    <a:pt x="1424" y="4113"/>
                  </a:lnTo>
                  <a:lnTo>
                    <a:pt x="1455" y="3970"/>
                  </a:lnTo>
                  <a:lnTo>
                    <a:pt x="1486" y="4555"/>
                  </a:lnTo>
                  <a:lnTo>
                    <a:pt x="1503" y="5094"/>
                  </a:lnTo>
                  <a:lnTo>
                    <a:pt x="1550" y="5314"/>
                  </a:lnTo>
                  <a:lnTo>
                    <a:pt x="1676" y="5425"/>
                  </a:lnTo>
                  <a:lnTo>
                    <a:pt x="2040" y="5726"/>
                  </a:lnTo>
                  <a:lnTo>
                    <a:pt x="2373" y="6073"/>
                  </a:lnTo>
                  <a:lnTo>
                    <a:pt x="2768" y="6406"/>
                  </a:lnTo>
                  <a:lnTo>
                    <a:pt x="3336" y="6690"/>
                  </a:lnTo>
                  <a:lnTo>
                    <a:pt x="3351" y="6690"/>
                  </a:lnTo>
                  <a:lnTo>
                    <a:pt x="3179" y="6785"/>
                  </a:lnTo>
                  <a:lnTo>
                    <a:pt x="3020" y="6880"/>
                  </a:lnTo>
                  <a:lnTo>
                    <a:pt x="2861" y="6991"/>
                  </a:lnTo>
                  <a:lnTo>
                    <a:pt x="2768" y="7148"/>
                  </a:lnTo>
                  <a:lnTo>
                    <a:pt x="2735" y="7545"/>
                  </a:lnTo>
                  <a:lnTo>
                    <a:pt x="2768" y="7893"/>
                  </a:lnTo>
                  <a:lnTo>
                    <a:pt x="2642" y="8162"/>
                  </a:lnTo>
                  <a:lnTo>
                    <a:pt x="2499" y="8431"/>
                  </a:lnTo>
                  <a:lnTo>
                    <a:pt x="2499" y="8621"/>
                  </a:lnTo>
                  <a:lnTo>
                    <a:pt x="2545" y="8763"/>
                  </a:lnTo>
                  <a:lnTo>
                    <a:pt x="2435" y="8968"/>
                  </a:lnTo>
                  <a:lnTo>
                    <a:pt x="2403" y="9254"/>
                  </a:lnTo>
                  <a:lnTo>
                    <a:pt x="2151" y="9570"/>
                  </a:lnTo>
                  <a:lnTo>
                    <a:pt x="1976" y="9917"/>
                  </a:lnTo>
                  <a:lnTo>
                    <a:pt x="1962" y="11024"/>
                  </a:lnTo>
                  <a:lnTo>
                    <a:pt x="2088" y="12069"/>
                  </a:lnTo>
                  <a:lnTo>
                    <a:pt x="2419" y="12069"/>
                  </a:lnTo>
                  <a:lnTo>
                    <a:pt x="2768" y="12069"/>
                  </a:lnTo>
                  <a:lnTo>
                    <a:pt x="3115" y="12069"/>
                  </a:lnTo>
                  <a:lnTo>
                    <a:pt x="3462" y="12069"/>
                  </a:lnTo>
                  <a:lnTo>
                    <a:pt x="3795" y="12069"/>
                  </a:lnTo>
                  <a:lnTo>
                    <a:pt x="4142" y="12069"/>
                  </a:lnTo>
                  <a:lnTo>
                    <a:pt x="4489" y="12069"/>
                  </a:lnTo>
                  <a:lnTo>
                    <a:pt x="4837" y="12069"/>
                  </a:lnTo>
                  <a:lnTo>
                    <a:pt x="4696" y="11483"/>
                  </a:lnTo>
                  <a:lnTo>
                    <a:pt x="4568" y="10851"/>
                  </a:lnTo>
                  <a:lnTo>
                    <a:pt x="4395" y="10265"/>
                  </a:lnTo>
                  <a:lnTo>
                    <a:pt x="4095" y="9759"/>
                  </a:lnTo>
                  <a:lnTo>
                    <a:pt x="4268" y="9380"/>
                  </a:lnTo>
                  <a:lnTo>
                    <a:pt x="4458" y="9301"/>
                  </a:lnTo>
                  <a:lnTo>
                    <a:pt x="4442" y="895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4251240" y="3178080"/>
              <a:ext cx="54000" cy="127080"/>
            </a:xfrm>
            <a:custGeom>
              <a:avLst/>
              <a:gdLst/>
              <a:ahLst/>
              <a:rect l="l" t="t" r="r" b="b"/>
              <a:pathLst>
                <a:path w="174" h="397">
                  <a:moveTo>
                    <a:pt x="174" y="0"/>
                  </a:moveTo>
                  <a:lnTo>
                    <a:pt x="79" y="17"/>
                  </a:lnTo>
                  <a:lnTo>
                    <a:pt x="0" y="32"/>
                  </a:lnTo>
                  <a:lnTo>
                    <a:pt x="63" y="269"/>
                  </a:lnTo>
                  <a:lnTo>
                    <a:pt x="127" y="397"/>
                  </a:lnTo>
                  <a:lnTo>
                    <a:pt x="127" y="20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5124600" y="4211640"/>
              <a:ext cx="63360" cy="65160"/>
            </a:xfrm>
            <a:custGeom>
              <a:avLst/>
              <a:gdLst/>
              <a:ahLst/>
              <a:rect l="l" t="t" r="r" b="b"/>
              <a:pathLst>
                <a:path w="199" h="204">
                  <a:moveTo>
                    <a:pt x="122" y="0"/>
                  </a:moveTo>
                  <a:lnTo>
                    <a:pt x="122" y="0"/>
                  </a:lnTo>
                  <a:lnTo>
                    <a:pt x="106" y="8"/>
                  </a:lnTo>
                  <a:lnTo>
                    <a:pt x="91" y="19"/>
                  </a:lnTo>
                  <a:lnTo>
                    <a:pt x="75" y="29"/>
                  </a:lnTo>
                  <a:lnTo>
                    <a:pt x="59" y="40"/>
                  </a:lnTo>
                  <a:lnTo>
                    <a:pt x="43" y="51"/>
                  </a:lnTo>
                  <a:lnTo>
                    <a:pt x="29" y="63"/>
                  </a:lnTo>
                  <a:lnTo>
                    <a:pt x="14" y="75"/>
                  </a:lnTo>
                  <a:lnTo>
                    <a:pt x="0" y="88"/>
                  </a:lnTo>
                  <a:lnTo>
                    <a:pt x="107" y="204"/>
                  </a:lnTo>
                  <a:lnTo>
                    <a:pt x="118" y="194"/>
                  </a:lnTo>
                  <a:lnTo>
                    <a:pt x="128" y="186"/>
                  </a:lnTo>
                  <a:lnTo>
                    <a:pt x="140" y="176"/>
                  </a:lnTo>
                  <a:lnTo>
                    <a:pt x="151" y="168"/>
                  </a:lnTo>
                  <a:lnTo>
                    <a:pt x="163" y="159"/>
                  </a:lnTo>
                  <a:lnTo>
                    <a:pt x="175" y="152"/>
                  </a:lnTo>
                  <a:lnTo>
                    <a:pt x="186" y="145"/>
                  </a:lnTo>
                  <a:lnTo>
                    <a:pt x="199" y="138"/>
                  </a:lnTo>
                  <a:lnTo>
                    <a:pt x="199" y="137"/>
                  </a:lnTo>
                  <a:lnTo>
                    <a:pt x="199" y="138"/>
                  </a:lnTo>
                  <a:lnTo>
                    <a:pt x="199" y="138"/>
                  </a:lnTo>
                  <a:lnTo>
                    <a:pt x="199" y="137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5164200" y="4210200"/>
              <a:ext cx="50760" cy="44280"/>
            </a:xfrm>
            <a:custGeom>
              <a:avLst/>
              <a:gdLst/>
              <a:ahLst/>
              <a:rect l="l" t="t" r="r" b="b"/>
              <a:pathLst>
                <a:path w="160" h="143">
                  <a:moveTo>
                    <a:pt x="119" y="28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77" y="143"/>
                  </a:lnTo>
                  <a:lnTo>
                    <a:pt x="88" y="137"/>
                  </a:lnTo>
                  <a:lnTo>
                    <a:pt x="119" y="28"/>
                  </a:lnTo>
                  <a:lnTo>
                    <a:pt x="88" y="137"/>
                  </a:lnTo>
                  <a:lnTo>
                    <a:pt x="160" y="97"/>
                  </a:lnTo>
                  <a:lnTo>
                    <a:pt x="119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5149800" y="4206960"/>
              <a:ext cx="50760" cy="36360"/>
            </a:xfrm>
            <a:custGeom>
              <a:avLst/>
              <a:gdLst/>
              <a:ahLst/>
              <a:rect l="l" t="t" r="r" b="b"/>
              <a:pathLst>
                <a:path w="163" h="119">
                  <a:moveTo>
                    <a:pt x="0" y="58"/>
                  </a:moveTo>
                  <a:lnTo>
                    <a:pt x="2" y="62"/>
                  </a:lnTo>
                  <a:lnTo>
                    <a:pt x="4" y="66"/>
                  </a:lnTo>
                  <a:lnTo>
                    <a:pt x="5" y="70"/>
                  </a:lnTo>
                  <a:lnTo>
                    <a:pt x="7" y="76"/>
                  </a:lnTo>
                  <a:lnTo>
                    <a:pt x="9" y="83"/>
                  </a:lnTo>
                  <a:lnTo>
                    <a:pt x="13" y="90"/>
                  </a:lnTo>
                  <a:lnTo>
                    <a:pt x="16" y="99"/>
                  </a:lnTo>
                  <a:lnTo>
                    <a:pt x="21" y="109"/>
                  </a:lnTo>
                  <a:lnTo>
                    <a:pt x="26" y="119"/>
                  </a:lnTo>
                  <a:lnTo>
                    <a:pt x="163" y="39"/>
                  </a:lnTo>
                  <a:lnTo>
                    <a:pt x="162" y="38"/>
                  </a:lnTo>
                  <a:lnTo>
                    <a:pt x="161" y="36"/>
                  </a:lnTo>
                  <a:lnTo>
                    <a:pt x="160" y="34"/>
                  </a:lnTo>
                  <a:lnTo>
                    <a:pt x="158" y="29"/>
                  </a:lnTo>
                  <a:lnTo>
                    <a:pt x="156" y="24"/>
                  </a:lnTo>
                  <a:lnTo>
                    <a:pt x="154" y="17"/>
                  </a:lnTo>
                  <a:lnTo>
                    <a:pt x="151" y="9"/>
                  </a:lnTo>
                  <a:lnTo>
                    <a:pt x="147" y="0"/>
                  </a:lnTo>
                  <a:lnTo>
                    <a:pt x="149" y="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145120" y="4175280"/>
              <a:ext cx="52200" cy="48960"/>
            </a:xfrm>
            <a:custGeom>
              <a:avLst/>
              <a:gdLst/>
              <a:ahLst/>
              <a:rect l="l" t="t" r="r" b="b"/>
              <a:pathLst>
                <a:path w="161" h="155">
                  <a:moveTo>
                    <a:pt x="57" y="0"/>
                  </a:moveTo>
                  <a:lnTo>
                    <a:pt x="56" y="0"/>
                  </a:lnTo>
                  <a:lnTo>
                    <a:pt x="37" y="12"/>
                  </a:lnTo>
                  <a:lnTo>
                    <a:pt x="23" y="27"/>
                  </a:lnTo>
                  <a:lnTo>
                    <a:pt x="12" y="42"/>
                  </a:lnTo>
                  <a:lnTo>
                    <a:pt x="5" y="62"/>
                  </a:lnTo>
                  <a:lnTo>
                    <a:pt x="0" y="81"/>
                  </a:lnTo>
                  <a:lnTo>
                    <a:pt x="0" y="100"/>
                  </a:lnTo>
                  <a:lnTo>
                    <a:pt x="3" y="116"/>
                  </a:lnTo>
                  <a:lnTo>
                    <a:pt x="6" y="131"/>
                  </a:lnTo>
                  <a:lnTo>
                    <a:pt x="9" y="143"/>
                  </a:lnTo>
                  <a:lnTo>
                    <a:pt x="12" y="155"/>
                  </a:lnTo>
                  <a:lnTo>
                    <a:pt x="161" y="101"/>
                  </a:lnTo>
                  <a:lnTo>
                    <a:pt x="160" y="98"/>
                  </a:lnTo>
                  <a:lnTo>
                    <a:pt x="159" y="95"/>
                  </a:lnTo>
                  <a:lnTo>
                    <a:pt x="159" y="92"/>
                  </a:lnTo>
                  <a:lnTo>
                    <a:pt x="159" y="92"/>
                  </a:lnTo>
                  <a:lnTo>
                    <a:pt x="158" y="95"/>
                  </a:lnTo>
                  <a:lnTo>
                    <a:pt x="158" y="101"/>
                  </a:lnTo>
                  <a:lnTo>
                    <a:pt x="153" y="115"/>
                  </a:lnTo>
                  <a:lnTo>
                    <a:pt x="145" y="126"/>
                  </a:lnTo>
                  <a:lnTo>
                    <a:pt x="134" y="137"/>
                  </a:lnTo>
                  <a:lnTo>
                    <a:pt x="120" y="145"/>
                  </a:lnTo>
                  <a:lnTo>
                    <a:pt x="119" y="145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5164200" y="4172040"/>
              <a:ext cx="54000" cy="83880"/>
            </a:xfrm>
            <a:custGeom>
              <a:avLst/>
              <a:gdLst/>
              <a:ahLst/>
              <a:rect l="l" t="t" r="r" b="b"/>
              <a:pathLst>
                <a:path w="172" h="265">
                  <a:moveTo>
                    <a:pt x="69" y="90"/>
                  </a:moveTo>
                  <a:lnTo>
                    <a:pt x="172" y="125"/>
                  </a:lnTo>
                  <a:lnTo>
                    <a:pt x="164" y="107"/>
                  </a:lnTo>
                  <a:lnTo>
                    <a:pt x="155" y="89"/>
                  </a:lnTo>
                  <a:lnTo>
                    <a:pt x="147" y="70"/>
                  </a:lnTo>
                  <a:lnTo>
                    <a:pt x="137" y="54"/>
                  </a:lnTo>
                  <a:lnTo>
                    <a:pt x="127" y="40"/>
                  </a:lnTo>
                  <a:lnTo>
                    <a:pt x="116" y="27"/>
                  </a:lnTo>
                  <a:lnTo>
                    <a:pt x="101" y="16"/>
                  </a:lnTo>
                  <a:lnTo>
                    <a:pt x="81" y="5"/>
                  </a:lnTo>
                  <a:lnTo>
                    <a:pt x="58" y="0"/>
                  </a:lnTo>
                  <a:lnTo>
                    <a:pt x="36" y="0"/>
                  </a:lnTo>
                  <a:lnTo>
                    <a:pt x="17" y="3"/>
                  </a:lnTo>
                  <a:lnTo>
                    <a:pt x="0" y="9"/>
                  </a:lnTo>
                  <a:lnTo>
                    <a:pt x="62" y="154"/>
                  </a:lnTo>
                  <a:lnTo>
                    <a:pt x="58" y="155"/>
                  </a:lnTo>
                  <a:lnTo>
                    <a:pt x="51" y="157"/>
                  </a:lnTo>
                  <a:lnTo>
                    <a:pt x="40" y="157"/>
                  </a:lnTo>
                  <a:lnTo>
                    <a:pt x="26" y="154"/>
                  </a:lnTo>
                  <a:lnTo>
                    <a:pt x="15" y="148"/>
                  </a:lnTo>
                  <a:lnTo>
                    <a:pt x="7" y="143"/>
                  </a:lnTo>
                  <a:lnTo>
                    <a:pt x="4" y="140"/>
                  </a:lnTo>
                  <a:lnTo>
                    <a:pt x="2" y="135"/>
                  </a:lnTo>
                  <a:lnTo>
                    <a:pt x="6" y="143"/>
                  </a:lnTo>
                  <a:lnTo>
                    <a:pt x="13" y="156"/>
                  </a:lnTo>
                  <a:lnTo>
                    <a:pt x="21" y="175"/>
                  </a:lnTo>
                  <a:lnTo>
                    <a:pt x="33" y="198"/>
                  </a:lnTo>
                  <a:lnTo>
                    <a:pt x="136" y="233"/>
                  </a:lnTo>
                  <a:lnTo>
                    <a:pt x="33" y="198"/>
                  </a:lnTo>
                  <a:lnTo>
                    <a:pt x="68" y="265"/>
                  </a:lnTo>
                  <a:lnTo>
                    <a:pt x="136" y="233"/>
                  </a:lnTo>
                  <a:lnTo>
                    <a:pt x="69" y="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5186520" y="4197240"/>
              <a:ext cx="25200" cy="49320"/>
            </a:xfrm>
            <a:custGeom>
              <a:avLst/>
              <a:gdLst/>
              <a:ahLst/>
              <a:rect l="l" t="t" r="r" b="b"/>
              <a:pathLst>
                <a:path w="84" h="153">
                  <a:moveTo>
                    <a:pt x="23" y="0"/>
                  </a:moveTo>
                  <a:lnTo>
                    <a:pt x="18" y="2"/>
                  </a:lnTo>
                  <a:lnTo>
                    <a:pt x="0" y="10"/>
                  </a:lnTo>
                  <a:lnTo>
                    <a:pt x="67" y="153"/>
                  </a:lnTo>
                  <a:lnTo>
                    <a:pt x="84" y="146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5192640" y="4184640"/>
              <a:ext cx="74520" cy="60480"/>
            </a:xfrm>
            <a:custGeom>
              <a:avLst/>
              <a:gdLst/>
              <a:ahLst/>
              <a:rect l="l" t="t" r="r" b="b"/>
              <a:pathLst>
                <a:path w="232" h="190">
                  <a:moveTo>
                    <a:pt x="232" y="0"/>
                  </a:moveTo>
                  <a:lnTo>
                    <a:pt x="232" y="0"/>
                  </a:lnTo>
                  <a:lnTo>
                    <a:pt x="203" y="1"/>
                  </a:lnTo>
                  <a:lnTo>
                    <a:pt x="173" y="3"/>
                  </a:lnTo>
                  <a:lnTo>
                    <a:pt x="143" y="6"/>
                  </a:lnTo>
                  <a:lnTo>
                    <a:pt x="114" y="11"/>
                  </a:lnTo>
                  <a:lnTo>
                    <a:pt x="84" y="17"/>
                  </a:lnTo>
                  <a:lnTo>
                    <a:pt x="56" y="24"/>
                  </a:lnTo>
                  <a:lnTo>
                    <a:pt x="28" y="32"/>
                  </a:lnTo>
                  <a:lnTo>
                    <a:pt x="0" y="42"/>
                  </a:lnTo>
                  <a:lnTo>
                    <a:pt x="55" y="190"/>
                  </a:lnTo>
                  <a:lnTo>
                    <a:pt x="76" y="182"/>
                  </a:lnTo>
                  <a:lnTo>
                    <a:pt x="97" y="176"/>
                  </a:lnTo>
                  <a:lnTo>
                    <a:pt x="119" y="171"/>
                  </a:lnTo>
                  <a:lnTo>
                    <a:pt x="141" y="167"/>
                  </a:lnTo>
                  <a:lnTo>
                    <a:pt x="164" y="163"/>
                  </a:lnTo>
                  <a:lnTo>
                    <a:pt x="186" y="160"/>
                  </a:lnTo>
                  <a:lnTo>
                    <a:pt x="209" y="158"/>
                  </a:lnTo>
                  <a:lnTo>
                    <a:pt x="232" y="158"/>
                  </a:lnTo>
                  <a:lnTo>
                    <a:pt x="232" y="158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5267160" y="4184640"/>
              <a:ext cx="61920" cy="55440"/>
            </a:xfrm>
            <a:custGeom>
              <a:avLst/>
              <a:gdLst/>
              <a:ahLst/>
              <a:rect l="l" t="t" r="r" b="b"/>
              <a:pathLst>
                <a:path w="197" h="174">
                  <a:moveTo>
                    <a:pt x="197" y="34"/>
                  </a:moveTo>
                  <a:lnTo>
                    <a:pt x="168" y="21"/>
                  </a:lnTo>
                  <a:lnTo>
                    <a:pt x="148" y="17"/>
                  </a:lnTo>
                  <a:lnTo>
                    <a:pt x="127" y="12"/>
                  </a:lnTo>
                  <a:lnTo>
                    <a:pt x="106" y="8"/>
                  </a:lnTo>
                  <a:lnTo>
                    <a:pt x="85" y="5"/>
                  </a:lnTo>
                  <a:lnTo>
                    <a:pt x="65" y="3"/>
                  </a:lnTo>
                  <a:lnTo>
                    <a:pt x="43" y="2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17" y="158"/>
                  </a:lnTo>
                  <a:lnTo>
                    <a:pt x="34" y="159"/>
                  </a:lnTo>
                  <a:lnTo>
                    <a:pt x="50" y="160"/>
                  </a:lnTo>
                  <a:lnTo>
                    <a:pt x="67" y="163"/>
                  </a:lnTo>
                  <a:lnTo>
                    <a:pt x="82" y="165"/>
                  </a:lnTo>
                  <a:lnTo>
                    <a:pt x="99" y="168"/>
                  </a:lnTo>
                  <a:lnTo>
                    <a:pt x="115" y="171"/>
                  </a:lnTo>
                  <a:lnTo>
                    <a:pt x="132" y="174"/>
                  </a:lnTo>
                  <a:lnTo>
                    <a:pt x="102" y="160"/>
                  </a:lnTo>
                  <a:lnTo>
                    <a:pt x="197" y="34"/>
                  </a:lnTo>
                  <a:lnTo>
                    <a:pt x="184" y="25"/>
                  </a:lnTo>
                  <a:lnTo>
                    <a:pt x="168" y="21"/>
                  </a:lnTo>
                  <a:lnTo>
                    <a:pt x="197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5299200" y="4195800"/>
              <a:ext cx="41040" cy="65160"/>
            </a:xfrm>
            <a:custGeom>
              <a:avLst/>
              <a:gdLst/>
              <a:ahLst/>
              <a:rect l="l" t="t" r="r" b="b"/>
              <a:pathLst>
                <a:path w="130" h="204">
                  <a:moveTo>
                    <a:pt x="130" y="83"/>
                  </a:moveTo>
                  <a:lnTo>
                    <a:pt x="100" y="4"/>
                  </a:lnTo>
                  <a:lnTo>
                    <a:pt x="95" y="0"/>
                  </a:lnTo>
                  <a:lnTo>
                    <a:pt x="0" y="126"/>
                  </a:lnTo>
                  <a:lnTo>
                    <a:pt x="5" y="131"/>
                  </a:lnTo>
                  <a:lnTo>
                    <a:pt x="130" y="83"/>
                  </a:lnTo>
                  <a:lnTo>
                    <a:pt x="5" y="131"/>
                  </a:lnTo>
                  <a:lnTo>
                    <a:pt x="104" y="204"/>
                  </a:lnTo>
                  <a:lnTo>
                    <a:pt x="13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5291280" y="4194000"/>
              <a:ext cx="54000" cy="27000"/>
            </a:xfrm>
            <a:custGeom>
              <a:avLst/>
              <a:gdLst/>
              <a:ahLst/>
              <a:rect l="l" t="t" r="r" b="b"/>
              <a:pathLst>
                <a:path w="169" h="85">
                  <a:moveTo>
                    <a:pt x="15" y="0"/>
                  </a:moveTo>
                  <a:lnTo>
                    <a:pt x="14" y="7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2" y="15"/>
                  </a:lnTo>
                  <a:lnTo>
                    <a:pt x="9" y="19"/>
                  </a:lnTo>
                  <a:lnTo>
                    <a:pt x="7" y="26"/>
                  </a:lnTo>
                  <a:lnTo>
                    <a:pt x="5" y="33"/>
                  </a:lnTo>
                  <a:lnTo>
                    <a:pt x="2" y="42"/>
                  </a:lnTo>
                  <a:lnTo>
                    <a:pt x="0" y="53"/>
                  </a:lnTo>
                  <a:lnTo>
                    <a:pt x="154" y="85"/>
                  </a:lnTo>
                  <a:lnTo>
                    <a:pt x="154" y="83"/>
                  </a:lnTo>
                  <a:lnTo>
                    <a:pt x="155" y="81"/>
                  </a:lnTo>
                  <a:lnTo>
                    <a:pt x="156" y="78"/>
                  </a:lnTo>
                  <a:lnTo>
                    <a:pt x="158" y="74"/>
                  </a:lnTo>
                  <a:lnTo>
                    <a:pt x="161" y="68"/>
                  </a:lnTo>
                  <a:lnTo>
                    <a:pt x="164" y="59"/>
                  </a:lnTo>
                  <a:lnTo>
                    <a:pt x="166" y="49"/>
                  </a:lnTo>
                  <a:lnTo>
                    <a:pt x="169" y="38"/>
                  </a:lnTo>
                  <a:lnTo>
                    <a:pt x="167" y="4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5295960" y="4162320"/>
              <a:ext cx="49320" cy="50760"/>
            </a:xfrm>
            <a:custGeom>
              <a:avLst/>
              <a:gdLst/>
              <a:ahLst/>
              <a:rect l="l" t="t" r="r" b="b"/>
              <a:pathLst>
                <a:path w="156" h="159">
                  <a:moveTo>
                    <a:pt x="118" y="1"/>
                  </a:moveTo>
                  <a:lnTo>
                    <a:pt x="123" y="1"/>
                  </a:lnTo>
                  <a:lnTo>
                    <a:pt x="98" y="0"/>
                  </a:lnTo>
                  <a:lnTo>
                    <a:pt x="77" y="5"/>
                  </a:lnTo>
                  <a:lnTo>
                    <a:pt x="61" y="13"/>
                  </a:lnTo>
                  <a:lnTo>
                    <a:pt x="45" y="25"/>
                  </a:lnTo>
                  <a:lnTo>
                    <a:pt x="32" y="38"/>
                  </a:lnTo>
                  <a:lnTo>
                    <a:pt x="22" y="54"/>
                  </a:lnTo>
                  <a:lnTo>
                    <a:pt x="14" y="68"/>
                  </a:lnTo>
                  <a:lnTo>
                    <a:pt x="8" y="80"/>
                  </a:lnTo>
                  <a:lnTo>
                    <a:pt x="4" y="93"/>
                  </a:lnTo>
                  <a:lnTo>
                    <a:pt x="0" y="103"/>
                  </a:lnTo>
                  <a:lnTo>
                    <a:pt x="152" y="147"/>
                  </a:lnTo>
                  <a:lnTo>
                    <a:pt x="153" y="143"/>
                  </a:lnTo>
                  <a:lnTo>
                    <a:pt x="154" y="140"/>
                  </a:lnTo>
                  <a:lnTo>
                    <a:pt x="156" y="137"/>
                  </a:lnTo>
                  <a:lnTo>
                    <a:pt x="156" y="136"/>
                  </a:lnTo>
                  <a:lnTo>
                    <a:pt x="155" y="138"/>
                  </a:lnTo>
                  <a:lnTo>
                    <a:pt x="152" y="141"/>
                  </a:lnTo>
                  <a:lnTo>
                    <a:pt x="140" y="150"/>
                  </a:lnTo>
                  <a:lnTo>
                    <a:pt x="130" y="155"/>
                  </a:lnTo>
                  <a:lnTo>
                    <a:pt x="114" y="159"/>
                  </a:lnTo>
                  <a:lnTo>
                    <a:pt x="95" y="158"/>
                  </a:lnTo>
                  <a:lnTo>
                    <a:pt x="100" y="158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5303880" y="4162320"/>
              <a:ext cx="60120" cy="82800"/>
            </a:xfrm>
            <a:custGeom>
              <a:avLst/>
              <a:gdLst/>
              <a:ahLst/>
              <a:rect l="l" t="t" r="r" b="b"/>
              <a:pathLst>
                <a:path w="194" h="260">
                  <a:moveTo>
                    <a:pt x="127" y="114"/>
                  </a:moveTo>
                  <a:lnTo>
                    <a:pt x="171" y="210"/>
                  </a:lnTo>
                  <a:lnTo>
                    <a:pt x="178" y="188"/>
                  </a:lnTo>
                  <a:lnTo>
                    <a:pt x="186" y="165"/>
                  </a:lnTo>
                  <a:lnTo>
                    <a:pt x="191" y="142"/>
                  </a:lnTo>
                  <a:lnTo>
                    <a:pt x="194" y="118"/>
                  </a:lnTo>
                  <a:lnTo>
                    <a:pt x="194" y="99"/>
                  </a:lnTo>
                  <a:lnTo>
                    <a:pt x="192" y="80"/>
                  </a:lnTo>
                  <a:lnTo>
                    <a:pt x="184" y="60"/>
                  </a:lnTo>
                  <a:lnTo>
                    <a:pt x="172" y="39"/>
                  </a:lnTo>
                  <a:lnTo>
                    <a:pt x="154" y="23"/>
                  </a:lnTo>
                  <a:lnTo>
                    <a:pt x="134" y="11"/>
                  </a:lnTo>
                  <a:lnTo>
                    <a:pt x="114" y="4"/>
                  </a:lnTo>
                  <a:lnTo>
                    <a:pt x="96" y="0"/>
                  </a:lnTo>
                  <a:lnTo>
                    <a:pt x="78" y="157"/>
                  </a:lnTo>
                  <a:lnTo>
                    <a:pt x="74" y="157"/>
                  </a:lnTo>
                  <a:lnTo>
                    <a:pt x="68" y="154"/>
                  </a:lnTo>
                  <a:lnTo>
                    <a:pt x="57" y="149"/>
                  </a:lnTo>
                  <a:lnTo>
                    <a:pt x="48" y="139"/>
                  </a:lnTo>
                  <a:lnTo>
                    <a:pt x="41" y="128"/>
                  </a:lnTo>
                  <a:lnTo>
                    <a:pt x="38" y="118"/>
                  </a:lnTo>
                  <a:lnTo>
                    <a:pt x="36" y="112"/>
                  </a:lnTo>
                  <a:lnTo>
                    <a:pt x="36" y="105"/>
                  </a:lnTo>
                  <a:lnTo>
                    <a:pt x="35" y="113"/>
                  </a:lnTo>
                  <a:lnTo>
                    <a:pt x="32" y="124"/>
                  </a:lnTo>
                  <a:lnTo>
                    <a:pt x="28" y="142"/>
                  </a:lnTo>
                  <a:lnTo>
                    <a:pt x="21" y="163"/>
                  </a:lnTo>
                  <a:lnTo>
                    <a:pt x="65" y="260"/>
                  </a:lnTo>
                  <a:lnTo>
                    <a:pt x="21" y="163"/>
                  </a:lnTo>
                  <a:lnTo>
                    <a:pt x="0" y="231"/>
                  </a:lnTo>
                  <a:lnTo>
                    <a:pt x="65" y="260"/>
                  </a:lnTo>
                  <a:lnTo>
                    <a:pt x="127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5324400" y="4199040"/>
              <a:ext cx="22320" cy="47520"/>
            </a:xfrm>
            <a:custGeom>
              <a:avLst/>
              <a:gdLst/>
              <a:ahLst/>
              <a:rect l="l" t="t" r="r" b="b"/>
              <a:pathLst>
                <a:path w="71" h="150">
                  <a:moveTo>
                    <a:pt x="11" y="150"/>
                  </a:moveTo>
                  <a:lnTo>
                    <a:pt x="71" y="4"/>
                  </a:lnTo>
                  <a:lnTo>
                    <a:pt x="62" y="0"/>
                  </a:lnTo>
                  <a:lnTo>
                    <a:pt x="0" y="146"/>
                  </a:lnTo>
                  <a:lnTo>
                    <a:pt x="9" y="150"/>
                  </a:lnTo>
                  <a:lnTo>
                    <a:pt x="11" y="150"/>
                  </a:lnTo>
                  <a:lnTo>
                    <a:pt x="9" y="150"/>
                  </a:lnTo>
                  <a:lnTo>
                    <a:pt x="10" y="150"/>
                  </a:lnTo>
                  <a:lnTo>
                    <a:pt x="11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5327640" y="4200480"/>
              <a:ext cx="141120" cy="147600"/>
            </a:xfrm>
            <a:custGeom>
              <a:avLst/>
              <a:gdLst/>
              <a:ahLst/>
              <a:rect l="l" t="t" r="r" b="b"/>
              <a:pathLst>
                <a:path w="447" h="465">
                  <a:moveTo>
                    <a:pt x="447" y="419"/>
                  </a:moveTo>
                  <a:lnTo>
                    <a:pt x="446" y="417"/>
                  </a:lnTo>
                  <a:lnTo>
                    <a:pt x="434" y="382"/>
                  </a:lnTo>
                  <a:lnTo>
                    <a:pt x="420" y="348"/>
                  </a:lnTo>
                  <a:lnTo>
                    <a:pt x="403" y="315"/>
                  </a:lnTo>
                  <a:lnTo>
                    <a:pt x="385" y="283"/>
                  </a:lnTo>
                  <a:lnTo>
                    <a:pt x="367" y="251"/>
                  </a:lnTo>
                  <a:lnTo>
                    <a:pt x="346" y="222"/>
                  </a:lnTo>
                  <a:lnTo>
                    <a:pt x="323" y="193"/>
                  </a:lnTo>
                  <a:lnTo>
                    <a:pt x="298" y="165"/>
                  </a:lnTo>
                  <a:lnTo>
                    <a:pt x="273" y="139"/>
                  </a:lnTo>
                  <a:lnTo>
                    <a:pt x="246" y="115"/>
                  </a:lnTo>
                  <a:lnTo>
                    <a:pt x="218" y="91"/>
                  </a:lnTo>
                  <a:lnTo>
                    <a:pt x="188" y="69"/>
                  </a:lnTo>
                  <a:lnTo>
                    <a:pt x="158" y="49"/>
                  </a:lnTo>
                  <a:lnTo>
                    <a:pt x="125" y="32"/>
                  </a:lnTo>
                  <a:lnTo>
                    <a:pt x="93" y="15"/>
                  </a:lnTo>
                  <a:lnTo>
                    <a:pt x="58" y="0"/>
                  </a:lnTo>
                  <a:lnTo>
                    <a:pt x="0" y="146"/>
                  </a:lnTo>
                  <a:lnTo>
                    <a:pt x="26" y="158"/>
                  </a:lnTo>
                  <a:lnTo>
                    <a:pt x="51" y="170"/>
                  </a:lnTo>
                  <a:lnTo>
                    <a:pt x="75" y="185"/>
                  </a:lnTo>
                  <a:lnTo>
                    <a:pt x="99" y="200"/>
                  </a:lnTo>
                  <a:lnTo>
                    <a:pt x="121" y="216"/>
                  </a:lnTo>
                  <a:lnTo>
                    <a:pt x="143" y="234"/>
                  </a:lnTo>
                  <a:lnTo>
                    <a:pt x="163" y="253"/>
                  </a:lnTo>
                  <a:lnTo>
                    <a:pt x="183" y="273"/>
                  </a:lnTo>
                  <a:lnTo>
                    <a:pt x="202" y="294"/>
                  </a:lnTo>
                  <a:lnTo>
                    <a:pt x="219" y="316"/>
                  </a:lnTo>
                  <a:lnTo>
                    <a:pt x="234" y="338"/>
                  </a:lnTo>
                  <a:lnTo>
                    <a:pt x="250" y="362"/>
                  </a:lnTo>
                  <a:lnTo>
                    <a:pt x="264" y="388"/>
                  </a:lnTo>
                  <a:lnTo>
                    <a:pt x="275" y="413"/>
                  </a:lnTo>
                  <a:lnTo>
                    <a:pt x="287" y="439"/>
                  </a:lnTo>
                  <a:lnTo>
                    <a:pt x="296" y="465"/>
                  </a:lnTo>
                  <a:lnTo>
                    <a:pt x="295" y="463"/>
                  </a:lnTo>
                  <a:lnTo>
                    <a:pt x="447" y="419"/>
                  </a:lnTo>
                  <a:lnTo>
                    <a:pt x="446" y="419"/>
                  </a:lnTo>
                  <a:lnTo>
                    <a:pt x="446" y="417"/>
                  </a:lnTo>
                  <a:lnTo>
                    <a:pt x="447" y="4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5421240" y="4332240"/>
              <a:ext cx="49320" cy="42840"/>
            </a:xfrm>
            <a:custGeom>
              <a:avLst/>
              <a:gdLst/>
              <a:ahLst/>
              <a:rect l="l" t="t" r="r" b="b"/>
              <a:pathLst>
                <a:path w="154" h="135">
                  <a:moveTo>
                    <a:pt x="107" y="105"/>
                  </a:moveTo>
                  <a:lnTo>
                    <a:pt x="154" y="9"/>
                  </a:lnTo>
                  <a:lnTo>
                    <a:pt x="152" y="0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107" y="105"/>
                  </a:lnTo>
                  <a:lnTo>
                    <a:pt x="2" y="54"/>
                  </a:lnTo>
                  <a:lnTo>
                    <a:pt x="26" y="135"/>
                  </a:lnTo>
                  <a:lnTo>
                    <a:pt x="107" y="1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5437080" y="4314960"/>
              <a:ext cx="27000" cy="50760"/>
            </a:xfrm>
            <a:custGeom>
              <a:avLst/>
              <a:gdLst/>
              <a:ahLst/>
              <a:rect l="l" t="t" r="r" b="b"/>
              <a:pathLst>
                <a:path w="84" h="161">
                  <a:moveTo>
                    <a:pt x="73" y="0"/>
                  </a:moveTo>
                  <a:lnTo>
                    <a:pt x="73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2" y="2"/>
                  </a:lnTo>
                  <a:lnTo>
                    <a:pt x="43" y="4"/>
                  </a:lnTo>
                  <a:lnTo>
                    <a:pt x="33" y="5"/>
                  </a:lnTo>
                  <a:lnTo>
                    <a:pt x="23" y="7"/>
                  </a:lnTo>
                  <a:lnTo>
                    <a:pt x="11" y="10"/>
                  </a:lnTo>
                  <a:lnTo>
                    <a:pt x="0" y="14"/>
                  </a:lnTo>
                  <a:lnTo>
                    <a:pt x="56" y="161"/>
                  </a:lnTo>
                  <a:lnTo>
                    <a:pt x="57" y="161"/>
                  </a:lnTo>
                  <a:lnTo>
                    <a:pt x="58" y="161"/>
                  </a:lnTo>
                  <a:lnTo>
                    <a:pt x="59" y="161"/>
                  </a:lnTo>
                  <a:lnTo>
                    <a:pt x="62" y="160"/>
                  </a:lnTo>
                  <a:lnTo>
                    <a:pt x="65" y="160"/>
                  </a:lnTo>
                  <a:lnTo>
                    <a:pt x="70" y="160"/>
                  </a:lnTo>
                  <a:lnTo>
                    <a:pt x="76" y="159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5451480" y="4314960"/>
              <a:ext cx="49320" cy="50760"/>
            </a:xfrm>
            <a:custGeom>
              <a:avLst/>
              <a:gdLst/>
              <a:ahLst/>
              <a:rect l="l" t="t" r="r" b="b"/>
              <a:pathLst>
                <a:path w="154" h="161">
                  <a:moveTo>
                    <a:pt x="154" y="71"/>
                  </a:moveTo>
                  <a:lnTo>
                    <a:pt x="154" y="67"/>
                  </a:lnTo>
                  <a:lnTo>
                    <a:pt x="136" y="34"/>
                  </a:lnTo>
                  <a:lnTo>
                    <a:pt x="107" y="11"/>
                  </a:lnTo>
                  <a:lnTo>
                    <a:pt x="81" y="1"/>
                  </a:lnTo>
                  <a:lnTo>
                    <a:pt x="62" y="0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38" y="161"/>
                  </a:lnTo>
                  <a:lnTo>
                    <a:pt x="48" y="160"/>
                  </a:lnTo>
                  <a:lnTo>
                    <a:pt x="56" y="159"/>
                  </a:lnTo>
                  <a:lnTo>
                    <a:pt x="61" y="159"/>
                  </a:lnTo>
                  <a:lnTo>
                    <a:pt x="61" y="158"/>
                  </a:lnTo>
                  <a:lnTo>
                    <a:pt x="52" y="158"/>
                  </a:lnTo>
                  <a:lnTo>
                    <a:pt x="35" y="151"/>
                  </a:lnTo>
                  <a:lnTo>
                    <a:pt x="13" y="134"/>
                  </a:lnTo>
                  <a:lnTo>
                    <a:pt x="1" y="108"/>
                  </a:lnTo>
                  <a:lnTo>
                    <a:pt x="0" y="106"/>
                  </a:lnTo>
                  <a:lnTo>
                    <a:pt x="154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5425920" y="4332240"/>
              <a:ext cx="76320" cy="52560"/>
            </a:xfrm>
            <a:custGeom>
              <a:avLst/>
              <a:gdLst/>
              <a:ahLst/>
              <a:rect l="l" t="t" r="r" b="b"/>
              <a:pathLst>
                <a:path w="238" h="167">
                  <a:moveTo>
                    <a:pt x="157" y="101"/>
                  </a:moveTo>
                  <a:lnTo>
                    <a:pt x="100" y="167"/>
                  </a:lnTo>
                  <a:lnTo>
                    <a:pt x="121" y="162"/>
                  </a:lnTo>
                  <a:lnTo>
                    <a:pt x="141" y="156"/>
                  </a:lnTo>
                  <a:lnTo>
                    <a:pt x="161" y="149"/>
                  </a:lnTo>
                  <a:lnTo>
                    <a:pt x="181" y="141"/>
                  </a:lnTo>
                  <a:lnTo>
                    <a:pt x="197" y="130"/>
                  </a:lnTo>
                  <a:lnTo>
                    <a:pt x="211" y="117"/>
                  </a:lnTo>
                  <a:lnTo>
                    <a:pt x="224" y="101"/>
                  </a:lnTo>
                  <a:lnTo>
                    <a:pt x="232" y="83"/>
                  </a:lnTo>
                  <a:lnTo>
                    <a:pt x="237" y="63"/>
                  </a:lnTo>
                  <a:lnTo>
                    <a:pt x="238" y="45"/>
                  </a:lnTo>
                  <a:lnTo>
                    <a:pt x="237" y="29"/>
                  </a:lnTo>
                  <a:lnTo>
                    <a:pt x="234" y="16"/>
                  </a:lnTo>
                  <a:lnTo>
                    <a:pt x="80" y="51"/>
                  </a:lnTo>
                  <a:lnTo>
                    <a:pt x="80" y="50"/>
                  </a:lnTo>
                  <a:lnTo>
                    <a:pt x="80" y="47"/>
                  </a:lnTo>
                  <a:lnTo>
                    <a:pt x="80" y="41"/>
                  </a:lnTo>
                  <a:lnTo>
                    <a:pt x="83" y="30"/>
                  </a:lnTo>
                  <a:lnTo>
                    <a:pt x="88" y="20"/>
                  </a:lnTo>
                  <a:lnTo>
                    <a:pt x="94" y="10"/>
                  </a:lnTo>
                  <a:lnTo>
                    <a:pt x="101" y="5"/>
                  </a:lnTo>
                  <a:lnTo>
                    <a:pt x="109" y="0"/>
                  </a:lnTo>
                  <a:lnTo>
                    <a:pt x="106" y="2"/>
                  </a:lnTo>
                  <a:lnTo>
                    <a:pt x="97" y="4"/>
                  </a:lnTo>
                  <a:lnTo>
                    <a:pt x="81" y="8"/>
                  </a:lnTo>
                  <a:lnTo>
                    <a:pt x="59" y="15"/>
                  </a:lnTo>
                  <a:lnTo>
                    <a:pt x="0" y="81"/>
                  </a:lnTo>
                  <a:lnTo>
                    <a:pt x="59" y="15"/>
                  </a:lnTo>
                  <a:lnTo>
                    <a:pt x="6" y="28"/>
                  </a:lnTo>
                  <a:lnTo>
                    <a:pt x="0" y="81"/>
                  </a:lnTo>
                  <a:lnTo>
                    <a:pt x="157" y="1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5425920" y="4357800"/>
              <a:ext cx="51120" cy="11160"/>
            </a:xfrm>
            <a:custGeom>
              <a:avLst/>
              <a:gdLst/>
              <a:ahLst/>
              <a:rect l="l" t="t" r="r" b="b"/>
              <a:pathLst>
                <a:path w="159" h="35">
                  <a:moveTo>
                    <a:pt x="2" y="35"/>
                  </a:moveTo>
                  <a:lnTo>
                    <a:pt x="158" y="30"/>
                  </a:lnTo>
                  <a:lnTo>
                    <a:pt x="159" y="20"/>
                  </a:lnTo>
                  <a:lnTo>
                    <a:pt x="2" y="0"/>
                  </a:lnTo>
                  <a:lnTo>
                    <a:pt x="1" y="10"/>
                  </a:lnTo>
                  <a:lnTo>
                    <a:pt x="2" y="35"/>
                  </a:lnTo>
                  <a:lnTo>
                    <a:pt x="1" y="10"/>
                  </a:lnTo>
                  <a:lnTo>
                    <a:pt x="0" y="23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5425920" y="4359240"/>
              <a:ext cx="52560" cy="38160"/>
            </a:xfrm>
            <a:custGeom>
              <a:avLst/>
              <a:gdLst/>
              <a:ahLst/>
              <a:rect l="l" t="t" r="r" b="b"/>
              <a:pathLst>
                <a:path w="166" h="118">
                  <a:moveTo>
                    <a:pt x="166" y="118"/>
                  </a:moveTo>
                  <a:lnTo>
                    <a:pt x="166" y="118"/>
                  </a:lnTo>
                  <a:lnTo>
                    <a:pt x="166" y="103"/>
                  </a:lnTo>
                  <a:lnTo>
                    <a:pt x="165" y="88"/>
                  </a:lnTo>
                  <a:lnTo>
                    <a:pt x="165" y="73"/>
                  </a:lnTo>
                  <a:lnTo>
                    <a:pt x="164" y="59"/>
                  </a:lnTo>
                  <a:lnTo>
                    <a:pt x="162" y="44"/>
                  </a:lnTo>
                  <a:lnTo>
                    <a:pt x="160" y="29"/>
                  </a:lnTo>
                  <a:lnTo>
                    <a:pt x="157" y="15"/>
                  </a:lnTo>
                  <a:lnTo>
                    <a:pt x="155" y="0"/>
                  </a:lnTo>
                  <a:lnTo>
                    <a:pt x="0" y="30"/>
                  </a:lnTo>
                  <a:lnTo>
                    <a:pt x="2" y="41"/>
                  </a:lnTo>
                  <a:lnTo>
                    <a:pt x="3" y="50"/>
                  </a:lnTo>
                  <a:lnTo>
                    <a:pt x="5" y="62"/>
                  </a:lnTo>
                  <a:lnTo>
                    <a:pt x="5" y="72"/>
                  </a:lnTo>
                  <a:lnTo>
                    <a:pt x="6" y="83"/>
                  </a:lnTo>
                  <a:lnTo>
                    <a:pt x="7" y="94"/>
                  </a:lnTo>
                  <a:lnTo>
                    <a:pt x="7" y="106"/>
                  </a:lnTo>
                  <a:lnTo>
                    <a:pt x="7" y="118"/>
                  </a:lnTo>
                  <a:lnTo>
                    <a:pt x="7" y="118"/>
                  </a:lnTo>
                  <a:lnTo>
                    <a:pt x="166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5408640" y="4397400"/>
              <a:ext cx="69840" cy="103320"/>
            </a:xfrm>
            <a:custGeom>
              <a:avLst/>
              <a:gdLst/>
              <a:ahLst/>
              <a:rect l="l" t="t" r="r" b="b"/>
              <a:pathLst>
                <a:path w="223" h="327">
                  <a:moveTo>
                    <a:pt x="136" y="327"/>
                  </a:moveTo>
                  <a:lnTo>
                    <a:pt x="139" y="323"/>
                  </a:lnTo>
                  <a:lnTo>
                    <a:pt x="148" y="305"/>
                  </a:lnTo>
                  <a:lnTo>
                    <a:pt x="158" y="287"/>
                  </a:lnTo>
                  <a:lnTo>
                    <a:pt x="166" y="268"/>
                  </a:lnTo>
                  <a:lnTo>
                    <a:pt x="174" y="249"/>
                  </a:lnTo>
                  <a:lnTo>
                    <a:pt x="182" y="230"/>
                  </a:lnTo>
                  <a:lnTo>
                    <a:pt x="188" y="210"/>
                  </a:lnTo>
                  <a:lnTo>
                    <a:pt x="194" y="190"/>
                  </a:lnTo>
                  <a:lnTo>
                    <a:pt x="201" y="170"/>
                  </a:lnTo>
                  <a:lnTo>
                    <a:pt x="205" y="149"/>
                  </a:lnTo>
                  <a:lnTo>
                    <a:pt x="210" y="129"/>
                  </a:lnTo>
                  <a:lnTo>
                    <a:pt x="213" y="108"/>
                  </a:lnTo>
                  <a:lnTo>
                    <a:pt x="217" y="87"/>
                  </a:lnTo>
                  <a:lnTo>
                    <a:pt x="220" y="65"/>
                  </a:lnTo>
                  <a:lnTo>
                    <a:pt x="221" y="43"/>
                  </a:lnTo>
                  <a:lnTo>
                    <a:pt x="223" y="22"/>
                  </a:lnTo>
                  <a:lnTo>
                    <a:pt x="223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63" y="33"/>
                  </a:lnTo>
                  <a:lnTo>
                    <a:pt x="62" y="49"/>
                  </a:lnTo>
                  <a:lnTo>
                    <a:pt x="60" y="66"/>
                  </a:lnTo>
                  <a:lnTo>
                    <a:pt x="58" y="83"/>
                  </a:lnTo>
                  <a:lnTo>
                    <a:pt x="55" y="98"/>
                  </a:lnTo>
                  <a:lnTo>
                    <a:pt x="52" y="114"/>
                  </a:lnTo>
                  <a:lnTo>
                    <a:pt x="48" y="130"/>
                  </a:lnTo>
                  <a:lnTo>
                    <a:pt x="43" y="144"/>
                  </a:lnTo>
                  <a:lnTo>
                    <a:pt x="38" y="160"/>
                  </a:lnTo>
                  <a:lnTo>
                    <a:pt x="33" y="175"/>
                  </a:lnTo>
                  <a:lnTo>
                    <a:pt x="28" y="190"/>
                  </a:lnTo>
                  <a:lnTo>
                    <a:pt x="21" y="204"/>
                  </a:lnTo>
                  <a:lnTo>
                    <a:pt x="14" y="219"/>
                  </a:lnTo>
                  <a:lnTo>
                    <a:pt x="8" y="233"/>
                  </a:lnTo>
                  <a:lnTo>
                    <a:pt x="0" y="247"/>
                  </a:lnTo>
                  <a:lnTo>
                    <a:pt x="2" y="243"/>
                  </a:lnTo>
                  <a:lnTo>
                    <a:pt x="136" y="327"/>
                  </a:lnTo>
                  <a:lnTo>
                    <a:pt x="138" y="325"/>
                  </a:lnTo>
                  <a:lnTo>
                    <a:pt x="139" y="323"/>
                  </a:lnTo>
                  <a:lnTo>
                    <a:pt x="136" y="3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5388120" y="4473720"/>
              <a:ext cx="63360" cy="42840"/>
            </a:xfrm>
            <a:custGeom>
              <a:avLst/>
              <a:gdLst/>
              <a:ahLst/>
              <a:rect l="l" t="t" r="r" b="b"/>
              <a:pathLst>
                <a:path w="198" h="132">
                  <a:moveTo>
                    <a:pt x="99" y="132"/>
                  </a:moveTo>
                  <a:lnTo>
                    <a:pt x="188" y="99"/>
                  </a:lnTo>
                  <a:lnTo>
                    <a:pt x="198" y="84"/>
                  </a:lnTo>
                  <a:lnTo>
                    <a:pt x="64" y="0"/>
                  </a:lnTo>
                  <a:lnTo>
                    <a:pt x="56" y="14"/>
                  </a:lnTo>
                  <a:lnTo>
                    <a:pt x="99" y="132"/>
                  </a:lnTo>
                  <a:lnTo>
                    <a:pt x="56" y="14"/>
                  </a:lnTo>
                  <a:lnTo>
                    <a:pt x="0" y="102"/>
                  </a:lnTo>
                  <a:lnTo>
                    <a:pt x="99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5419800" y="4467240"/>
              <a:ext cx="34920" cy="54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109" y="33"/>
                  </a:moveTo>
                  <a:lnTo>
                    <a:pt x="109" y="33"/>
                  </a:lnTo>
                  <a:lnTo>
                    <a:pt x="105" y="31"/>
                  </a:lnTo>
                  <a:lnTo>
                    <a:pt x="101" y="28"/>
                  </a:lnTo>
                  <a:lnTo>
                    <a:pt x="96" y="24"/>
                  </a:lnTo>
                  <a:lnTo>
                    <a:pt x="89" y="20"/>
                  </a:lnTo>
                  <a:lnTo>
                    <a:pt x="81" y="15"/>
                  </a:lnTo>
                  <a:lnTo>
                    <a:pt x="71" y="10"/>
                  </a:lnTo>
                  <a:lnTo>
                    <a:pt x="61" y="4"/>
                  </a:lnTo>
                  <a:lnTo>
                    <a:pt x="47" y="0"/>
                  </a:lnTo>
                  <a:lnTo>
                    <a:pt x="1" y="151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" y="151"/>
                  </a:lnTo>
                  <a:lnTo>
                    <a:pt x="4" y="154"/>
                  </a:lnTo>
                  <a:lnTo>
                    <a:pt x="7" y="156"/>
                  </a:lnTo>
                  <a:lnTo>
                    <a:pt x="14" y="160"/>
                  </a:lnTo>
                  <a:lnTo>
                    <a:pt x="22" y="165"/>
                  </a:lnTo>
                  <a:lnTo>
                    <a:pt x="30" y="170"/>
                  </a:lnTo>
                  <a:lnTo>
                    <a:pt x="30" y="170"/>
                  </a:lnTo>
                  <a:lnTo>
                    <a:pt x="109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5425920" y="4478400"/>
              <a:ext cx="51120" cy="44280"/>
            </a:xfrm>
            <a:custGeom>
              <a:avLst/>
              <a:gdLst/>
              <a:ahLst/>
              <a:rect l="l" t="t" r="r" b="b"/>
              <a:pathLst>
                <a:path w="158" h="142">
                  <a:moveTo>
                    <a:pt x="150" y="137"/>
                  </a:moveTo>
                  <a:lnTo>
                    <a:pt x="152" y="133"/>
                  </a:lnTo>
                  <a:lnTo>
                    <a:pt x="158" y="101"/>
                  </a:lnTo>
                  <a:lnTo>
                    <a:pt x="154" y="70"/>
                  </a:lnTo>
                  <a:lnTo>
                    <a:pt x="143" y="47"/>
                  </a:lnTo>
                  <a:lnTo>
                    <a:pt x="131" y="31"/>
                  </a:lnTo>
                  <a:lnTo>
                    <a:pt x="119" y="21"/>
                  </a:lnTo>
                  <a:lnTo>
                    <a:pt x="108" y="12"/>
                  </a:lnTo>
                  <a:lnTo>
                    <a:pt x="99" y="5"/>
                  </a:lnTo>
                  <a:lnTo>
                    <a:pt x="89" y="0"/>
                  </a:lnTo>
                  <a:lnTo>
                    <a:pt x="10" y="137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8" y="142"/>
                  </a:lnTo>
                  <a:lnTo>
                    <a:pt x="16" y="139"/>
                  </a:lnTo>
                  <a:lnTo>
                    <a:pt x="10" y="132"/>
                  </a:lnTo>
                  <a:lnTo>
                    <a:pt x="3" y="118"/>
                  </a:lnTo>
                  <a:lnTo>
                    <a:pt x="0" y="97"/>
                  </a:lnTo>
                  <a:lnTo>
                    <a:pt x="5" y="75"/>
                  </a:lnTo>
                  <a:lnTo>
                    <a:pt x="7" y="70"/>
                  </a:lnTo>
                  <a:lnTo>
                    <a:pt x="150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5408640" y="4483080"/>
              <a:ext cx="65160" cy="60480"/>
            </a:xfrm>
            <a:custGeom>
              <a:avLst/>
              <a:gdLst/>
              <a:ahLst/>
              <a:rect l="l" t="t" r="r" b="b"/>
              <a:pathLst>
                <a:path w="205" h="189">
                  <a:moveTo>
                    <a:pt x="32" y="158"/>
                  </a:moveTo>
                  <a:lnTo>
                    <a:pt x="0" y="151"/>
                  </a:lnTo>
                  <a:lnTo>
                    <a:pt x="19" y="159"/>
                  </a:lnTo>
                  <a:lnTo>
                    <a:pt x="37" y="169"/>
                  </a:lnTo>
                  <a:lnTo>
                    <a:pt x="55" y="177"/>
                  </a:lnTo>
                  <a:lnTo>
                    <a:pt x="75" y="183"/>
                  </a:lnTo>
                  <a:lnTo>
                    <a:pt x="93" y="187"/>
                  </a:lnTo>
                  <a:lnTo>
                    <a:pt x="112" y="189"/>
                  </a:lnTo>
                  <a:lnTo>
                    <a:pt x="133" y="186"/>
                  </a:lnTo>
                  <a:lnTo>
                    <a:pt x="155" y="178"/>
                  </a:lnTo>
                  <a:lnTo>
                    <a:pt x="174" y="165"/>
                  </a:lnTo>
                  <a:lnTo>
                    <a:pt x="187" y="152"/>
                  </a:lnTo>
                  <a:lnTo>
                    <a:pt x="198" y="137"/>
                  </a:lnTo>
                  <a:lnTo>
                    <a:pt x="205" y="122"/>
                  </a:lnTo>
                  <a:lnTo>
                    <a:pt x="62" y="55"/>
                  </a:lnTo>
                  <a:lnTo>
                    <a:pt x="62" y="54"/>
                  </a:lnTo>
                  <a:lnTo>
                    <a:pt x="65" y="51"/>
                  </a:lnTo>
                  <a:lnTo>
                    <a:pt x="72" y="45"/>
                  </a:lnTo>
                  <a:lnTo>
                    <a:pt x="82" y="37"/>
                  </a:lnTo>
                  <a:lnTo>
                    <a:pt x="95" y="32"/>
                  </a:lnTo>
                  <a:lnTo>
                    <a:pt x="106" y="31"/>
                  </a:lnTo>
                  <a:lnTo>
                    <a:pt x="115" y="31"/>
                  </a:lnTo>
                  <a:lnTo>
                    <a:pt x="122" y="33"/>
                  </a:lnTo>
                  <a:lnTo>
                    <a:pt x="116" y="31"/>
                  </a:lnTo>
                  <a:lnTo>
                    <a:pt x="104" y="26"/>
                  </a:lnTo>
                  <a:lnTo>
                    <a:pt x="86" y="16"/>
                  </a:lnTo>
                  <a:lnTo>
                    <a:pt x="63" y="6"/>
                  </a:lnTo>
                  <a:lnTo>
                    <a:pt x="32" y="0"/>
                  </a:lnTo>
                  <a:lnTo>
                    <a:pt x="63" y="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32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5397480" y="4483080"/>
              <a:ext cx="20520" cy="50760"/>
            </a:xfrm>
            <a:custGeom>
              <a:avLst/>
              <a:gdLst/>
              <a:ahLst/>
              <a:rect l="l" t="t" r="r" b="b"/>
              <a:pathLst>
                <a:path w="69" h="158">
                  <a:moveTo>
                    <a:pt x="0" y="32"/>
                  </a:moveTo>
                  <a:lnTo>
                    <a:pt x="64" y="158"/>
                  </a:lnTo>
                  <a:lnTo>
                    <a:pt x="69" y="158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0" y="32"/>
                  </a:lnTo>
                  <a:lnTo>
                    <a:pt x="64" y="0"/>
                  </a:lnTo>
                  <a:lnTo>
                    <a:pt x="24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5353200" y="4492800"/>
              <a:ext cx="83880" cy="83880"/>
            </a:xfrm>
            <a:custGeom>
              <a:avLst/>
              <a:gdLst/>
              <a:ahLst/>
              <a:rect l="l" t="t" r="r" b="b"/>
              <a:pathLst>
                <a:path w="266" h="264">
                  <a:moveTo>
                    <a:pt x="80" y="264"/>
                  </a:moveTo>
                  <a:lnTo>
                    <a:pt x="84" y="260"/>
                  </a:lnTo>
                  <a:lnTo>
                    <a:pt x="110" y="244"/>
                  </a:lnTo>
                  <a:lnTo>
                    <a:pt x="134" y="226"/>
                  </a:lnTo>
                  <a:lnTo>
                    <a:pt x="159" y="206"/>
                  </a:lnTo>
                  <a:lnTo>
                    <a:pt x="182" y="186"/>
                  </a:lnTo>
                  <a:lnTo>
                    <a:pt x="205" y="165"/>
                  </a:lnTo>
                  <a:lnTo>
                    <a:pt x="226" y="142"/>
                  </a:lnTo>
                  <a:lnTo>
                    <a:pt x="246" y="118"/>
                  </a:lnTo>
                  <a:lnTo>
                    <a:pt x="266" y="94"/>
                  </a:lnTo>
                  <a:lnTo>
                    <a:pt x="138" y="0"/>
                  </a:lnTo>
                  <a:lnTo>
                    <a:pt x="124" y="18"/>
                  </a:lnTo>
                  <a:lnTo>
                    <a:pt x="108" y="36"/>
                  </a:lnTo>
                  <a:lnTo>
                    <a:pt x="93" y="54"/>
                  </a:lnTo>
                  <a:lnTo>
                    <a:pt x="76" y="69"/>
                  </a:lnTo>
                  <a:lnTo>
                    <a:pt x="58" y="85"/>
                  </a:lnTo>
                  <a:lnTo>
                    <a:pt x="39" y="100"/>
                  </a:lnTo>
                  <a:lnTo>
                    <a:pt x="20" y="115"/>
                  </a:lnTo>
                  <a:lnTo>
                    <a:pt x="0" y="128"/>
                  </a:lnTo>
                  <a:lnTo>
                    <a:pt x="4" y="125"/>
                  </a:lnTo>
                  <a:lnTo>
                    <a:pt x="80" y="264"/>
                  </a:lnTo>
                  <a:lnTo>
                    <a:pt x="82" y="263"/>
                  </a:lnTo>
                  <a:lnTo>
                    <a:pt x="84" y="260"/>
                  </a:lnTo>
                  <a:lnTo>
                    <a:pt x="80" y="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5329080" y="4532400"/>
              <a:ext cx="49320" cy="4752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33" y="112"/>
                  </a:moveTo>
                  <a:lnTo>
                    <a:pt x="141" y="147"/>
                  </a:lnTo>
                  <a:lnTo>
                    <a:pt x="156" y="139"/>
                  </a:lnTo>
                  <a:lnTo>
                    <a:pt x="80" y="0"/>
                  </a:lnTo>
                  <a:lnTo>
                    <a:pt x="66" y="7"/>
                  </a:lnTo>
                  <a:lnTo>
                    <a:pt x="33" y="112"/>
                  </a:lnTo>
                  <a:lnTo>
                    <a:pt x="66" y="7"/>
                  </a:lnTo>
                  <a:lnTo>
                    <a:pt x="0" y="44"/>
                  </a:lnTo>
                  <a:lnTo>
                    <a:pt x="33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5338800" y="4546440"/>
              <a:ext cx="52200" cy="38160"/>
            </a:xfrm>
            <a:custGeom>
              <a:avLst/>
              <a:gdLst/>
              <a:ahLst/>
              <a:rect l="l" t="t" r="r" b="b"/>
              <a:pathLst>
                <a:path w="163" h="122">
                  <a:moveTo>
                    <a:pt x="162" y="39"/>
                  </a:moveTo>
                  <a:lnTo>
                    <a:pt x="163" y="41"/>
                  </a:lnTo>
                  <a:lnTo>
                    <a:pt x="160" y="37"/>
                  </a:lnTo>
                  <a:lnTo>
                    <a:pt x="158" y="32"/>
                  </a:lnTo>
                  <a:lnTo>
                    <a:pt x="155" y="27"/>
                  </a:lnTo>
                  <a:lnTo>
                    <a:pt x="153" y="23"/>
                  </a:lnTo>
                  <a:lnTo>
                    <a:pt x="150" y="17"/>
                  </a:lnTo>
                  <a:lnTo>
                    <a:pt x="148" y="12"/>
                  </a:lnTo>
                  <a:lnTo>
                    <a:pt x="145" y="6"/>
                  </a:lnTo>
                  <a:lnTo>
                    <a:pt x="142" y="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1"/>
                  </a:lnTo>
                  <a:lnTo>
                    <a:pt x="9" y="87"/>
                  </a:lnTo>
                  <a:lnTo>
                    <a:pt x="12" y="93"/>
                  </a:lnTo>
                  <a:lnTo>
                    <a:pt x="15" y="100"/>
                  </a:lnTo>
                  <a:lnTo>
                    <a:pt x="18" y="107"/>
                  </a:lnTo>
                  <a:lnTo>
                    <a:pt x="22" y="113"/>
                  </a:lnTo>
                  <a:lnTo>
                    <a:pt x="26" y="121"/>
                  </a:lnTo>
                  <a:lnTo>
                    <a:pt x="27" y="122"/>
                  </a:lnTo>
                  <a:lnTo>
                    <a:pt x="162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5348160" y="4559400"/>
              <a:ext cx="52560" cy="46080"/>
            </a:xfrm>
            <a:custGeom>
              <a:avLst/>
              <a:gdLst/>
              <a:ahLst/>
              <a:rect l="l" t="t" r="r" b="b"/>
              <a:pathLst>
                <a:path w="167" h="148">
                  <a:moveTo>
                    <a:pt x="140" y="148"/>
                  </a:moveTo>
                  <a:lnTo>
                    <a:pt x="142" y="147"/>
                  </a:lnTo>
                  <a:lnTo>
                    <a:pt x="156" y="129"/>
                  </a:lnTo>
                  <a:lnTo>
                    <a:pt x="164" y="109"/>
                  </a:lnTo>
                  <a:lnTo>
                    <a:pt x="167" y="90"/>
                  </a:lnTo>
                  <a:lnTo>
                    <a:pt x="167" y="68"/>
                  </a:lnTo>
                  <a:lnTo>
                    <a:pt x="162" y="50"/>
                  </a:lnTo>
                  <a:lnTo>
                    <a:pt x="155" y="33"/>
                  </a:lnTo>
                  <a:lnTo>
                    <a:pt x="148" y="22"/>
                  </a:lnTo>
                  <a:lnTo>
                    <a:pt x="142" y="12"/>
                  </a:lnTo>
                  <a:lnTo>
                    <a:pt x="138" y="5"/>
                  </a:lnTo>
                  <a:lnTo>
                    <a:pt x="135" y="0"/>
                  </a:lnTo>
                  <a:lnTo>
                    <a:pt x="0" y="83"/>
                  </a:lnTo>
                  <a:lnTo>
                    <a:pt x="5" y="91"/>
                  </a:lnTo>
                  <a:lnTo>
                    <a:pt x="10" y="98"/>
                  </a:lnTo>
                  <a:lnTo>
                    <a:pt x="12" y="103"/>
                  </a:lnTo>
                  <a:lnTo>
                    <a:pt x="13" y="104"/>
                  </a:lnTo>
                  <a:lnTo>
                    <a:pt x="12" y="102"/>
                  </a:lnTo>
                  <a:lnTo>
                    <a:pt x="11" y="95"/>
                  </a:lnTo>
                  <a:lnTo>
                    <a:pt x="10" y="79"/>
                  </a:lnTo>
                  <a:lnTo>
                    <a:pt x="12" y="64"/>
                  </a:lnTo>
                  <a:lnTo>
                    <a:pt x="19" y="49"/>
                  </a:lnTo>
                  <a:lnTo>
                    <a:pt x="30" y="36"/>
                  </a:lnTo>
                  <a:lnTo>
                    <a:pt x="31" y="35"/>
                  </a:lnTo>
                  <a:lnTo>
                    <a:pt x="140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5324400" y="4535640"/>
              <a:ext cx="68400" cy="80640"/>
            </a:xfrm>
            <a:custGeom>
              <a:avLst/>
              <a:gdLst/>
              <a:ahLst/>
              <a:rect l="l" t="t" r="r" b="b"/>
              <a:pathLst>
                <a:path w="212" h="252">
                  <a:moveTo>
                    <a:pt x="94" y="170"/>
                  </a:moveTo>
                  <a:lnTo>
                    <a:pt x="0" y="141"/>
                  </a:lnTo>
                  <a:lnTo>
                    <a:pt x="13" y="160"/>
                  </a:lnTo>
                  <a:lnTo>
                    <a:pt x="26" y="180"/>
                  </a:lnTo>
                  <a:lnTo>
                    <a:pt x="41" y="200"/>
                  </a:lnTo>
                  <a:lnTo>
                    <a:pt x="56" y="217"/>
                  </a:lnTo>
                  <a:lnTo>
                    <a:pt x="70" y="229"/>
                  </a:lnTo>
                  <a:lnTo>
                    <a:pt x="85" y="239"/>
                  </a:lnTo>
                  <a:lnTo>
                    <a:pt x="105" y="248"/>
                  </a:lnTo>
                  <a:lnTo>
                    <a:pt x="128" y="252"/>
                  </a:lnTo>
                  <a:lnTo>
                    <a:pt x="153" y="251"/>
                  </a:lnTo>
                  <a:lnTo>
                    <a:pt x="177" y="244"/>
                  </a:lnTo>
                  <a:lnTo>
                    <a:pt x="197" y="234"/>
                  </a:lnTo>
                  <a:lnTo>
                    <a:pt x="212" y="220"/>
                  </a:lnTo>
                  <a:lnTo>
                    <a:pt x="103" y="107"/>
                  </a:lnTo>
                  <a:lnTo>
                    <a:pt x="106" y="103"/>
                  </a:lnTo>
                  <a:lnTo>
                    <a:pt x="114" y="99"/>
                  </a:lnTo>
                  <a:lnTo>
                    <a:pt x="126" y="96"/>
                  </a:lnTo>
                  <a:lnTo>
                    <a:pt x="141" y="95"/>
                  </a:lnTo>
                  <a:lnTo>
                    <a:pt x="153" y="97"/>
                  </a:lnTo>
                  <a:lnTo>
                    <a:pt x="162" y="101"/>
                  </a:lnTo>
                  <a:lnTo>
                    <a:pt x="166" y="104"/>
                  </a:lnTo>
                  <a:lnTo>
                    <a:pt x="169" y="107"/>
                  </a:lnTo>
                  <a:lnTo>
                    <a:pt x="163" y="100"/>
                  </a:lnTo>
                  <a:lnTo>
                    <a:pt x="154" y="89"/>
                  </a:lnTo>
                  <a:lnTo>
                    <a:pt x="144" y="72"/>
                  </a:lnTo>
                  <a:lnTo>
                    <a:pt x="130" y="52"/>
                  </a:lnTo>
                  <a:lnTo>
                    <a:pt x="36" y="24"/>
                  </a:lnTo>
                  <a:lnTo>
                    <a:pt x="130" y="52"/>
                  </a:lnTo>
                  <a:lnTo>
                    <a:pt x="94" y="0"/>
                  </a:lnTo>
                  <a:lnTo>
                    <a:pt x="36" y="24"/>
                  </a:lnTo>
                  <a:lnTo>
                    <a:pt x="94" y="1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5330880" y="4543560"/>
              <a:ext cx="23760" cy="47520"/>
            </a:xfrm>
            <a:custGeom>
              <a:avLst/>
              <a:gdLst/>
              <a:ahLst/>
              <a:rect l="l" t="t" r="r" b="b"/>
              <a:pathLst>
                <a:path w="74" h="151">
                  <a:moveTo>
                    <a:pt x="0" y="6"/>
                  </a:moveTo>
                  <a:lnTo>
                    <a:pt x="61" y="151"/>
                  </a:lnTo>
                  <a:lnTo>
                    <a:pt x="74" y="146"/>
                  </a:lnTo>
                  <a:lnTo>
                    <a:pt x="16" y="0"/>
                  </a:lnTo>
                  <a:lnTo>
                    <a:pt x="3" y="5"/>
                  </a:lnTo>
                  <a:lnTo>
                    <a:pt x="0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5267160" y="4545000"/>
              <a:ext cx="84240" cy="63360"/>
            </a:xfrm>
            <a:custGeom>
              <a:avLst/>
              <a:gdLst/>
              <a:ahLst/>
              <a:rect l="l" t="t" r="r" b="b"/>
              <a:pathLst>
                <a:path w="267" h="199">
                  <a:moveTo>
                    <a:pt x="0" y="199"/>
                  </a:moveTo>
                  <a:lnTo>
                    <a:pt x="0" y="199"/>
                  </a:lnTo>
                  <a:lnTo>
                    <a:pt x="36" y="198"/>
                  </a:lnTo>
                  <a:lnTo>
                    <a:pt x="71" y="196"/>
                  </a:lnTo>
                  <a:lnTo>
                    <a:pt x="105" y="192"/>
                  </a:lnTo>
                  <a:lnTo>
                    <a:pt x="139" y="186"/>
                  </a:lnTo>
                  <a:lnTo>
                    <a:pt x="171" y="177"/>
                  </a:lnTo>
                  <a:lnTo>
                    <a:pt x="204" y="168"/>
                  </a:lnTo>
                  <a:lnTo>
                    <a:pt x="236" y="157"/>
                  </a:lnTo>
                  <a:lnTo>
                    <a:pt x="267" y="145"/>
                  </a:lnTo>
                  <a:lnTo>
                    <a:pt x="204" y="0"/>
                  </a:lnTo>
                  <a:lnTo>
                    <a:pt x="181" y="9"/>
                  </a:lnTo>
                  <a:lnTo>
                    <a:pt x="157" y="18"/>
                  </a:lnTo>
                  <a:lnTo>
                    <a:pt x="133" y="25"/>
                  </a:lnTo>
                  <a:lnTo>
                    <a:pt x="107" y="30"/>
                  </a:lnTo>
                  <a:lnTo>
                    <a:pt x="81" y="36"/>
                  </a:lnTo>
                  <a:lnTo>
                    <a:pt x="55" y="39"/>
                  </a:lnTo>
                  <a:lnTo>
                    <a:pt x="29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5168880" y="4540320"/>
              <a:ext cx="98280" cy="68040"/>
            </a:xfrm>
            <a:custGeom>
              <a:avLst/>
              <a:gdLst/>
              <a:ahLst/>
              <a:rect l="l" t="t" r="r" b="b"/>
              <a:pathLst>
                <a:path w="308" h="214">
                  <a:moveTo>
                    <a:pt x="0" y="139"/>
                  </a:moveTo>
                  <a:lnTo>
                    <a:pt x="2" y="140"/>
                  </a:lnTo>
                  <a:lnTo>
                    <a:pt x="20" y="149"/>
                  </a:lnTo>
                  <a:lnTo>
                    <a:pt x="38" y="158"/>
                  </a:lnTo>
                  <a:lnTo>
                    <a:pt x="56" y="165"/>
                  </a:lnTo>
                  <a:lnTo>
                    <a:pt x="73" y="171"/>
                  </a:lnTo>
                  <a:lnTo>
                    <a:pt x="92" y="179"/>
                  </a:lnTo>
                  <a:lnTo>
                    <a:pt x="111" y="185"/>
                  </a:lnTo>
                  <a:lnTo>
                    <a:pt x="130" y="190"/>
                  </a:lnTo>
                  <a:lnTo>
                    <a:pt x="149" y="195"/>
                  </a:lnTo>
                  <a:lnTo>
                    <a:pt x="169" y="200"/>
                  </a:lnTo>
                  <a:lnTo>
                    <a:pt x="188" y="203"/>
                  </a:lnTo>
                  <a:lnTo>
                    <a:pt x="208" y="207"/>
                  </a:lnTo>
                  <a:lnTo>
                    <a:pt x="228" y="209"/>
                  </a:lnTo>
                  <a:lnTo>
                    <a:pt x="248" y="212"/>
                  </a:lnTo>
                  <a:lnTo>
                    <a:pt x="269" y="213"/>
                  </a:lnTo>
                  <a:lnTo>
                    <a:pt x="288" y="214"/>
                  </a:lnTo>
                  <a:lnTo>
                    <a:pt x="308" y="214"/>
                  </a:lnTo>
                  <a:lnTo>
                    <a:pt x="308" y="56"/>
                  </a:lnTo>
                  <a:lnTo>
                    <a:pt x="293" y="56"/>
                  </a:lnTo>
                  <a:lnTo>
                    <a:pt x="277" y="56"/>
                  </a:lnTo>
                  <a:lnTo>
                    <a:pt x="262" y="54"/>
                  </a:lnTo>
                  <a:lnTo>
                    <a:pt x="246" y="53"/>
                  </a:lnTo>
                  <a:lnTo>
                    <a:pt x="232" y="51"/>
                  </a:lnTo>
                  <a:lnTo>
                    <a:pt x="216" y="48"/>
                  </a:lnTo>
                  <a:lnTo>
                    <a:pt x="201" y="45"/>
                  </a:lnTo>
                  <a:lnTo>
                    <a:pt x="187" y="42"/>
                  </a:lnTo>
                  <a:lnTo>
                    <a:pt x="172" y="38"/>
                  </a:lnTo>
                  <a:lnTo>
                    <a:pt x="157" y="34"/>
                  </a:lnTo>
                  <a:lnTo>
                    <a:pt x="143" y="29"/>
                  </a:lnTo>
                  <a:lnTo>
                    <a:pt x="129" y="24"/>
                  </a:lnTo>
                  <a:lnTo>
                    <a:pt x="115" y="18"/>
                  </a:lnTo>
                  <a:lnTo>
                    <a:pt x="102" y="13"/>
                  </a:lnTo>
                  <a:lnTo>
                    <a:pt x="88" y="6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0" y="139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5154480" y="4525920"/>
              <a:ext cx="38160" cy="58680"/>
            </a:xfrm>
            <a:custGeom>
              <a:avLst/>
              <a:gdLst/>
              <a:ahLst/>
              <a:rect l="l" t="t" r="r" b="b"/>
              <a:pathLst>
                <a:path w="121" h="186">
                  <a:moveTo>
                    <a:pt x="0" y="78"/>
                  </a:moveTo>
                  <a:lnTo>
                    <a:pt x="33" y="179"/>
                  </a:lnTo>
                  <a:lnTo>
                    <a:pt x="45" y="186"/>
                  </a:lnTo>
                  <a:lnTo>
                    <a:pt x="121" y="48"/>
                  </a:lnTo>
                  <a:lnTo>
                    <a:pt x="110" y="42"/>
                  </a:lnTo>
                  <a:lnTo>
                    <a:pt x="0" y="78"/>
                  </a:lnTo>
                  <a:lnTo>
                    <a:pt x="110" y="42"/>
                  </a:lnTo>
                  <a:lnTo>
                    <a:pt x="35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5148360" y="4549680"/>
              <a:ext cx="52200" cy="39960"/>
            </a:xfrm>
            <a:custGeom>
              <a:avLst/>
              <a:gdLst/>
              <a:ahLst/>
              <a:rect l="l" t="t" r="r" b="b"/>
              <a:pathLst>
                <a:path w="162" h="122">
                  <a:moveTo>
                    <a:pt x="133" y="121"/>
                  </a:moveTo>
                  <a:lnTo>
                    <a:pt x="132" y="122"/>
                  </a:lnTo>
                  <a:lnTo>
                    <a:pt x="137" y="114"/>
                  </a:lnTo>
                  <a:lnTo>
                    <a:pt x="143" y="106"/>
                  </a:lnTo>
                  <a:lnTo>
                    <a:pt x="147" y="98"/>
                  </a:lnTo>
                  <a:lnTo>
                    <a:pt x="150" y="91"/>
                  </a:lnTo>
                  <a:lnTo>
                    <a:pt x="153" y="84"/>
                  </a:lnTo>
                  <a:lnTo>
                    <a:pt x="156" y="77"/>
                  </a:lnTo>
                  <a:lnTo>
                    <a:pt x="159" y="71"/>
                  </a:lnTo>
                  <a:lnTo>
                    <a:pt x="162" y="66"/>
                  </a:lnTo>
                  <a:lnTo>
                    <a:pt x="18" y="0"/>
                  </a:lnTo>
                  <a:lnTo>
                    <a:pt x="15" y="6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8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5"/>
                  </a:lnTo>
                  <a:lnTo>
                    <a:pt x="133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5146560" y="4560840"/>
              <a:ext cx="44640" cy="50760"/>
            </a:xfrm>
            <a:custGeom>
              <a:avLst/>
              <a:gdLst/>
              <a:ahLst/>
              <a:rect l="l" t="t" r="r" b="b"/>
              <a:pathLst>
                <a:path w="141" h="158">
                  <a:moveTo>
                    <a:pt x="5" y="153"/>
                  </a:moveTo>
                  <a:lnTo>
                    <a:pt x="10" y="155"/>
                  </a:lnTo>
                  <a:lnTo>
                    <a:pt x="42" y="158"/>
                  </a:lnTo>
                  <a:lnTo>
                    <a:pt x="70" y="152"/>
                  </a:lnTo>
                  <a:lnTo>
                    <a:pt x="91" y="141"/>
                  </a:lnTo>
                  <a:lnTo>
                    <a:pt x="106" y="129"/>
                  </a:lnTo>
                  <a:lnTo>
                    <a:pt x="117" y="118"/>
                  </a:lnTo>
                  <a:lnTo>
                    <a:pt x="125" y="107"/>
                  </a:lnTo>
                  <a:lnTo>
                    <a:pt x="134" y="97"/>
                  </a:lnTo>
                  <a:lnTo>
                    <a:pt x="141" y="86"/>
                  </a:lnTo>
                  <a:lnTo>
                    <a:pt x="8" y="0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9"/>
                  </a:lnTo>
                  <a:lnTo>
                    <a:pt x="14" y="3"/>
                  </a:lnTo>
                  <a:lnTo>
                    <a:pt x="32" y="0"/>
                  </a:lnTo>
                  <a:lnTo>
                    <a:pt x="52" y="2"/>
                  </a:lnTo>
                  <a:lnTo>
                    <a:pt x="58" y="5"/>
                  </a:lnTo>
                  <a:lnTo>
                    <a:pt x="5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5124600" y="4529160"/>
              <a:ext cx="71280" cy="81000"/>
            </a:xfrm>
            <a:custGeom>
              <a:avLst/>
              <a:gdLst/>
              <a:ahLst/>
              <a:rect l="l" t="t" r="r" b="b"/>
              <a:pathLst>
                <a:path w="227" h="256">
                  <a:moveTo>
                    <a:pt x="80" y="138"/>
                  </a:moveTo>
                  <a:lnTo>
                    <a:pt x="52" y="30"/>
                  </a:lnTo>
                  <a:lnTo>
                    <a:pt x="39" y="50"/>
                  </a:lnTo>
                  <a:lnTo>
                    <a:pt x="28" y="71"/>
                  </a:lnTo>
                  <a:lnTo>
                    <a:pt x="16" y="92"/>
                  </a:lnTo>
                  <a:lnTo>
                    <a:pt x="8" y="114"/>
                  </a:lnTo>
                  <a:lnTo>
                    <a:pt x="2" y="133"/>
                  </a:lnTo>
                  <a:lnTo>
                    <a:pt x="0" y="152"/>
                  </a:lnTo>
                  <a:lnTo>
                    <a:pt x="1" y="173"/>
                  </a:lnTo>
                  <a:lnTo>
                    <a:pt x="9" y="196"/>
                  </a:lnTo>
                  <a:lnTo>
                    <a:pt x="21" y="218"/>
                  </a:lnTo>
                  <a:lnTo>
                    <a:pt x="38" y="236"/>
                  </a:lnTo>
                  <a:lnTo>
                    <a:pt x="57" y="248"/>
                  </a:lnTo>
                  <a:lnTo>
                    <a:pt x="75" y="256"/>
                  </a:lnTo>
                  <a:lnTo>
                    <a:pt x="128" y="108"/>
                  </a:lnTo>
                  <a:lnTo>
                    <a:pt x="131" y="109"/>
                  </a:lnTo>
                  <a:lnTo>
                    <a:pt x="139" y="114"/>
                  </a:lnTo>
                  <a:lnTo>
                    <a:pt x="147" y="122"/>
                  </a:lnTo>
                  <a:lnTo>
                    <a:pt x="155" y="135"/>
                  </a:lnTo>
                  <a:lnTo>
                    <a:pt x="158" y="147"/>
                  </a:lnTo>
                  <a:lnTo>
                    <a:pt x="159" y="157"/>
                  </a:lnTo>
                  <a:lnTo>
                    <a:pt x="158" y="162"/>
                  </a:lnTo>
                  <a:lnTo>
                    <a:pt x="157" y="166"/>
                  </a:lnTo>
                  <a:lnTo>
                    <a:pt x="160" y="158"/>
                  </a:lnTo>
                  <a:lnTo>
                    <a:pt x="166" y="146"/>
                  </a:lnTo>
                  <a:lnTo>
                    <a:pt x="176" y="130"/>
                  </a:lnTo>
                  <a:lnTo>
                    <a:pt x="188" y="109"/>
                  </a:lnTo>
                  <a:lnTo>
                    <a:pt x="159" y="0"/>
                  </a:lnTo>
                  <a:lnTo>
                    <a:pt x="188" y="109"/>
                  </a:lnTo>
                  <a:lnTo>
                    <a:pt x="227" y="40"/>
                  </a:lnTo>
                  <a:lnTo>
                    <a:pt x="159" y="0"/>
                  </a:lnTo>
                  <a:lnTo>
                    <a:pt x="80" y="1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5145120" y="4527720"/>
              <a:ext cx="30240" cy="442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0" y="134"/>
                  </a:moveTo>
                  <a:lnTo>
                    <a:pt x="7" y="138"/>
                  </a:lnTo>
                  <a:lnTo>
                    <a:pt x="15" y="143"/>
                  </a:lnTo>
                  <a:lnTo>
                    <a:pt x="94" y="5"/>
                  </a:lnTo>
                  <a:lnTo>
                    <a:pt x="84" y="0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136"/>
                  </a:lnTo>
                  <a:lnTo>
                    <a:pt x="7" y="138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5059440" y="4427640"/>
              <a:ext cx="114120" cy="142920"/>
            </a:xfrm>
            <a:custGeom>
              <a:avLst/>
              <a:gdLst/>
              <a:ahLst/>
              <a:rect l="l" t="t" r="r" b="b"/>
              <a:pathLst>
                <a:path w="358" h="448">
                  <a:moveTo>
                    <a:pt x="3" y="55"/>
                  </a:moveTo>
                  <a:lnTo>
                    <a:pt x="0" y="44"/>
                  </a:lnTo>
                  <a:lnTo>
                    <a:pt x="7" y="75"/>
                  </a:lnTo>
                  <a:lnTo>
                    <a:pt x="17" y="105"/>
                  </a:lnTo>
                  <a:lnTo>
                    <a:pt x="26" y="135"/>
                  </a:lnTo>
                  <a:lnTo>
                    <a:pt x="39" y="164"/>
                  </a:lnTo>
                  <a:lnTo>
                    <a:pt x="51" y="192"/>
                  </a:lnTo>
                  <a:lnTo>
                    <a:pt x="65" y="220"/>
                  </a:lnTo>
                  <a:lnTo>
                    <a:pt x="81" y="247"/>
                  </a:lnTo>
                  <a:lnTo>
                    <a:pt x="96" y="273"/>
                  </a:lnTo>
                  <a:lnTo>
                    <a:pt x="114" y="298"/>
                  </a:lnTo>
                  <a:lnTo>
                    <a:pt x="133" y="323"/>
                  </a:lnTo>
                  <a:lnTo>
                    <a:pt x="153" y="346"/>
                  </a:lnTo>
                  <a:lnTo>
                    <a:pt x="174" y="369"/>
                  </a:lnTo>
                  <a:lnTo>
                    <a:pt x="196" y="390"/>
                  </a:lnTo>
                  <a:lnTo>
                    <a:pt x="219" y="411"/>
                  </a:lnTo>
                  <a:lnTo>
                    <a:pt x="242" y="430"/>
                  </a:lnTo>
                  <a:lnTo>
                    <a:pt x="267" y="448"/>
                  </a:lnTo>
                  <a:lnTo>
                    <a:pt x="358" y="318"/>
                  </a:lnTo>
                  <a:lnTo>
                    <a:pt x="339" y="305"/>
                  </a:lnTo>
                  <a:lnTo>
                    <a:pt x="321" y="290"/>
                  </a:lnTo>
                  <a:lnTo>
                    <a:pt x="303" y="274"/>
                  </a:lnTo>
                  <a:lnTo>
                    <a:pt x="287" y="259"/>
                  </a:lnTo>
                  <a:lnTo>
                    <a:pt x="272" y="241"/>
                  </a:lnTo>
                  <a:lnTo>
                    <a:pt x="256" y="223"/>
                  </a:lnTo>
                  <a:lnTo>
                    <a:pt x="242" y="205"/>
                  </a:lnTo>
                  <a:lnTo>
                    <a:pt x="229" y="186"/>
                  </a:lnTo>
                  <a:lnTo>
                    <a:pt x="216" y="165"/>
                  </a:lnTo>
                  <a:lnTo>
                    <a:pt x="204" y="145"/>
                  </a:lnTo>
                  <a:lnTo>
                    <a:pt x="193" y="124"/>
                  </a:lnTo>
                  <a:lnTo>
                    <a:pt x="183" y="102"/>
                  </a:lnTo>
                  <a:lnTo>
                    <a:pt x="175" y="80"/>
                  </a:lnTo>
                  <a:lnTo>
                    <a:pt x="167" y="58"/>
                  </a:lnTo>
                  <a:lnTo>
                    <a:pt x="160" y="35"/>
                  </a:lnTo>
                  <a:lnTo>
                    <a:pt x="155" y="11"/>
                  </a:lnTo>
                  <a:lnTo>
                    <a:pt x="152" y="0"/>
                  </a:lnTo>
                  <a:lnTo>
                    <a:pt x="155" y="11"/>
                  </a:lnTo>
                  <a:lnTo>
                    <a:pt x="153" y="5"/>
                  </a:lnTo>
                  <a:lnTo>
                    <a:pt x="152" y="0"/>
                  </a:lnTo>
                  <a:lnTo>
                    <a:pt x="3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5059440" y="4400640"/>
              <a:ext cx="48960" cy="442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52" y="20"/>
                  </a:moveTo>
                  <a:lnTo>
                    <a:pt x="0" y="123"/>
                  </a:lnTo>
                  <a:lnTo>
                    <a:pt x="5" y="138"/>
                  </a:lnTo>
                  <a:lnTo>
                    <a:pt x="154" y="83"/>
                  </a:lnTo>
                  <a:lnTo>
                    <a:pt x="149" y="70"/>
                  </a:lnTo>
                  <a:lnTo>
                    <a:pt x="52" y="20"/>
                  </a:lnTo>
                  <a:lnTo>
                    <a:pt x="149" y="70"/>
                  </a:lnTo>
                  <a:lnTo>
                    <a:pt x="123" y="0"/>
                  </a:lnTo>
                  <a:lnTo>
                    <a:pt x="52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5065560" y="4406760"/>
              <a:ext cx="24120" cy="5256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16" y="165"/>
                  </a:moveTo>
                  <a:lnTo>
                    <a:pt x="22" y="165"/>
                  </a:lnTo>
                  <a:lnTo>
                    <a:pt x="30" y="164"/>
                  </a:lnTo>
                  <a:lnTo>
                    <a:pt x="37" y="162"/>
                  </a:lnTo>
                  <a:lnTo>
                    <a:pt x="45" y="161"/>
                  </a:lnTo>
                  <a:lnTo>
                    <a:pt x="52" y="160"/>
                  </a:lnTo>
                  <a:lnTo>
                    <a:pt x="58" y="158"/>
                  </a:lnTo>
                  <a:lnTo>
                    <a:pt x="65" y="156"/>
                  </a:lnTo>
                  <a:lnTo>
                    <a:pt x="71" y="155"/>
                  </a:lnTo>
                  <a:lnTo>
                    <a:pt x="77" y="15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0" y="9"/>
                  </a:lnTo>
                  <a:lnTo>
                    <a:pt x="6" y="8"/>
                  </a:lnTo>
                  <a:lnTo>
                    <a:pt x="16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5027760" y="4410000"/>
              <a:ext cx="47520" cy="50760"/>
            </a:xfrm>
            <a:custGeom>
              <a:avLst/>
              <a:gdLst/>
              <a:ahLst/>
              <a:rect l="l" t="t" r="r" b="b"/>
              <a:pathLst>
                <a:path w="148" h="159">
                  <a:moveTo>
                    <a:pt x="0" y="97"/>
                  </a:moveTo>
                  <a:lnTo>
                    <a:pt x="2" y="101"/>
                  </a:lnTo>
                  <a:lnTo>
                    <a:pt x="12" y="119"/>
                  </a:lnTo>
                  <a:lnTo>
                    <a:pt x="25" y="134"/>
                  </a:lnTo>
                  <a:lnTo>
                    <a:pt x="39" y="144"/>
                  </a:lnTo>
                  <a:lnTo>
                    <a:pt x="57" y="152"/>
                  </a:lnTo>
                  <a:lnTo>
                    <a:pt x="74" y="157"/>
                  </a:lnTo>
                  <a:lnTo>
                    <a:pt x="92" y="159"/>
                  </a:lnTo>
                  <a:lnTo>
                    <a:pt x="106" y="159"/>
                  </a:lnTo>
                  <a:lnTo>
                    <a:pt x="117" y="159"/>
                  </a:lnTo>
                  <a:lnTo>
                    <a:pt x="128" y="158"/>
                  </a:lnTo>
                  <a:lnTo>
                    <a:pt x="135" y="157"/>
                  </a:lnTo>
                  <a:lnTo>
                    <a:pt x="125" y="0"/>
                  </a:lnTo>
                  <a:lnTo>
                    <a:pt x="116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104" y="2"/>
                  </a:lnTo>
                  <a:lnTo>
                    <a:pt x="108" y="3"/>
                  </a:lnTo>
                  <a:lnTo>
                    <a:pt x="120" y="8"/>
                  </a:lnTo>
                  <a:lnTo>
                    <a:pt x="129" y="14"/>
                  </a:lnTo>
                  <a:lnTo>
                    <a:pt x="138" y="25"/>
                  </a:lnTo>
                  <a:lnTo>
                    <a:pt x="146" y="37"/>
                  </a:lnTo>
                  <a:lnTo>
                    <a:pt x="148" y="42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5024520" y="4389480"/>
              <a:ext cx="95040" cy="54000"/>
            </a:xfrm>
            <a:custGeom>
              <a:avLst/>
              <a:gdLst/>
              <a:ahLst/>
              <a:rect l="l" t="t" r="r" b="b"/>
              <a:pathLst>
                <a:path w="297" h="170">
                  <a:moveTo>
                    <a:pt x="109" y="114"/>
                  </a:moveTo>
                  <a:lnTo>
                    <a:pt x="165" y="0"/>
                  </a:lnTo>
                  <a:lnTo>
                    <a:pt x="142" y="5"/>
                  </a:lnTo>
                  <a:lnTo>
                    <a:pt x="119" y="9"/>
                  </a:lnTo>
                  <a:lnTo>
                    <a:pt x="95" y="14"/>
                  </a:lnTo>
                  <a:lnTo>
                    <a:pt x="73" y="21"/>
                  </a:lnTo>
                  <a:lnTo>
                    <a:pt x="56" y="29"/>
                  </a:lnTo>
                  <a:lnTo>
                    <a:pt x="40" y="39"/>
                  </a:lnTo>
                  <a:lnTo>
                    <a:pt x="26" y="54"/>
                  </a:lnTo>
                  <a:lnTo>
                    <a:pt x="11" y="74"/>
                  </a:lnTo>
                  <a:lnTo>
                    <a:pt x="3" y="97"/>
                  </a:lnTo>
                  <a:lnTo>
                    <a:pt x="0" y="122"/>
                  </a:lnTo>
                  <a:lnTo>
                    <a:pt x="2" y="144"/>
                  </a:lnTo>
                  <a:lnTo>
                    <a:pt x="8" y="163"/>
                  </a:lnTo>
                  <a:lnTo>
                    <a:pt x="156" y="108"/>
                  </a:lnTo>
                  <a:lnTo>
                    <a:pt x="157" y="112"/>
                  </a:lnTo>
                  <a:lnTo>
                    <a:pt x="158" y="121"/>
                  </a:lnTo>
                  <a:lnTo>
                    <a:pt x="156" y="134"/>
                  </a:lnTo>
                  <a:lnTo>
                    <a:pt x="151" y="147"/>
                  </a:lnTo>
                  <a:lnTo>
                    <a:pt x="143" y="158"/>
                  </a:lnTo>
                  <a:lnTo>
                    <a:pt x="137" y="165"/>
                  </a:lnTo>
                  <a:lnTo>
                    <a:pt x="133" y="167"/>
                  </a:lnTo>
                  <a:lnTo>
                    <a:pt x="129" y="170"/>
                  </a:lnTo>
                  <a:lnTo>
                    <a:pt x="137" y="166"/>
                  </a:lnTo>
                  <a:lnTo>
                    <a:pt x="151" y="163"/>
                  </a:lnTo>
                  <a:lnTo>
                    <a:pt x="171" y="160"/>
                  </a:lnTo>
                  <a:lnTo>
                    <a:pt x="194" y="156"/>
                  </a:lnTo>
                  <a:lnTo>
                    <a:pt x="250" y="42"/>
                  </a:lnTo>
                  <a:lnTo>
                    <a:pt x="194" y="156"/>
                  </a:lnTo>
                  <a:lnTo>
                    <a:pt x="297" y="136"/>
                  </a:lnTo>
                  <a:lnTo>
                    <a:pt x="250" y="42"/>
                  </a:lnTo>
                  <a:lnTo>
                    <a:pt x="109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5056200" y="4400640"/>
              <a:ext cx="47520" cy="25200"/>
            </a:xfrm>
            <a:custGeom>
              <a:avLst/>
              <a:gdLst/>
              <a:ahLst/>
              <a:rect l="l" t="t" r="r" b="b"/>
              <a:pathLst>
                <a:path w="153" h="80">
                  <a:moveTo>
                    <a:pt x="0" y="42"/>
                  </a:moveTo>
                  <a:lnTo>
                    <a:pt x="9" y="71"/>
                  </a:lnTo>
                  <a:lnTo>
                    <a:pt x="12" y="80"/>
                  </a:lnTo>
                  <a:lnTo>
                    <a:pt x="153" y="8"/>
                  </a:lnTo>
                  <a:lnTo>
                    <a:pt x="149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" y="58"/>
                  </a:lnTo>
                  <a:lnTo>
                    <a:pt x="9" y="7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5054760" y="4397400"/>
              <a:ext cx="50760" cy="15840"/>
            </a:xfrm>
            <a:custGeom>
              <a:avLst/>
              <a:gdLst/>
              <a:ahLst/>
              <a:rect l="l" t="t" r="r" b="b"/>
              <a:pathLst>
                <a:path w="160" h="5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1" y="38"/>
                  </a:lnTo>
                  <a:lnTo>
                    <a:pt x="1" y="46"/>
                  </a:lnTo>
                  <a:lnTo>
                    <a:pt x="2" y="52"/>
                  </a:lnTo>
                  <a:lnTo>
                    <a:pt x="160" y="39"/>
                  </a:lnTo>
                  <a:lnTo>
                    <a:pt x="160" y="35"/>
                  </a:lnTo>
                  <a:lnTo>
                    <a:pt x="159" y="31"/>
                  </a:lnTo>
                  <a:lnTo>
                    <a:pt x="159" y="27"/>
                  </a:lnTo>
                  <a:lnTo>
                    <a:pt x="159" y="22"/>
                  </a:lnTo>
                  <a:lnTo>
                    <a:pt x="159" y="16"/>
                  </a:lnTo>
                  <a:lnTo>
                    <a:pt x="159" y="11"/>
                  </a:lnTo>
                  <a:lnTo>
                    <a:pt x="159" y="5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5054760" y="4257720"/>
              <a:ext cx="96840" cy="139680"/>
            </a:xfrm>
            <a:custGeom>
              <a:avLst/>
              <a:gdLst/>
              <a:ahLst/>
              <a:rect l="l" t="t" r="r" b="b"/>
              <a:pathLst>
                <a:path w="304" h="436">
                  <a:moveTo>
                    <a:pt x="143" y="61"/>
                  </a:moveTo>
                  <a:lnTo>
                    <a:pt x="162" y="0"/>
                  </a:lnTo>
                  <a:lnTo>
                    <a:pt x="143" y="22"/>
                  </a:lnTo>
                  <a:lnTo>
                    <a:pt x="126" y="45"/>
                  </a:lnTo>
                  <a:lnTo>
                    <a:pt x="109" y="69"/>
                  </a:lnTo>
                  <a:lnTo>
                    <a:pt x="93" y="93"/>
                  </a:lnTo>
                  <a:lnTo>
                    <a:pt x="80" y="118"/>
                  </a:lnTo>
                  <a:lnTo>
                    <a:pt x="66" y="145"/>
                  </a:lnTo>
                  <a:lnTo>
                    <a:pt x="55" y="172"/>
                  </a:lnTo>
                  <a:lnTo>
                    <a:pt x="43" y="199"/>
                  </a:lnTo>
                  <a:lnTo>
                    <a:pt x="34" y="227"/>
                  </a:lnTo>
                  <a:lnTo>
                    <a:pt x="25" y="255"/>
                  </a:lnTo>
                  <a:lnTo>
                    <a:pt x="18" y="284"/>
                  </a:lnTo>
                  <a:lnTo>
                    <a:pt x="12" y="314"/>
                  </a:lnTo>
                  <a:lnTo>
                    <a:pt x="6" y="343"/>
                  </a:lnTo>
                  <a:lnTo>
                    <a:pt x="3" y="374"/>
                  </a:lnTo>
                  <a:lnTo>
                    <a:pt x="1" y="404"/>
                  </a:lnTo>
                  <a:lnTo>
                    <a:pt x="0" y="436"/>
                  </a:lnTo>
                  <a:lnTo>
                    <a:pt x="159" y="436"/>
                  </a:lnTo>
                  <a:lnTo>
                    <a:pt x="159" y="411"/>
                  </a:lnTo>
                  <a:lnTo>
                    <a:pt x="161" y="388"/>
                  </a:lnTo>
                  <a:lnTo>
                    <a:pt x="163" y="365"/>
                  </a:lnTo>
                  <a:lnTo>
                    <a:pt x="167" y="342"/>
                  </a:lnTo>
                  <a:lnTo>
                    <a:pt x="171" y="320"/>
                  </a:lnTo>
                  <a:lnTo>
                    <a:pt x="177" y="298"/>
                  </a:lnTo>
                  <a:lnTo>
                    <a:pt x="184" y="276"/>
                  </a:lnTo>
                  <a:lnTo>
                    <a:pt x="191" y="255"/>
                  </a:lnTo>
                  <a:lnTo>
                    <a:pt x="199" y="234"/>
                  </a:lnTo>
                  <a:lnTo>
                    <a:pt x="209" y="214"/>
                  </a:lnTo>
                  <a:lnTo>
                    <a:pt x="218" y="194"/>
                  </a:lnTo>
                  <a:lnTo>
                    <a:pt x="230" y="174"/>
                  </a:lnTo>
                  <a:lnTo>
                    <a:pt x="241" y="155"/>
                  </a:lnTo>
                  <a:lnTo>
                    <a:pt x="254" y="137"/>
                  </a:lnTo>
                  <a:lnTo>
                    <a:pt x="268" y="120"/>
                  </a:lnTo>
                  <a:lnTo>
                    <a:pt x="281" y="103"/>
                  </a:lnTo>
                  <a:lnTo>
                    <a:pt x="300" y="41"/>
                  </a:lnTo>
                  <a:lnTo>
                    <a:pt x="281" y="103"/>
                  </a:lnTo>
                  <a:lnTo>
                    <a:pt x="304" y="75"/>
                  </a:lnTo>
                  <a:lnTo>
                    <a:pt x="300" y="41"/>
                  </a:lnTo>
                  <a:lnTo>
                    <a:pt x="143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5100480" y="4251240"/>
              <a:ext cx="49320" cy="2700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25" y="0"/>
                  </a:moveTo>
                  <a:lnTo>
                    <a:pt x="0" y="73"/>
                  </a:lnTo>
                  <a:lnTo>
                    <a:pt x="1" y="84"/>
                  </a:lnTo>
                  <a:lnTo>
                    <a:pt x="158" y="64"/>
                  </a:lnTo>
                  <a:lnTo>
                    <a:pt x="157" y="53"/>
                  </a:lnTo>
                  <a:lnTo>
                    <a:pt x="125" y="0"/>
                  </a:lnTo>
                  <a:lnTo>
                    <a:pt x="157" y="53"/>
                  </a:lnTo>
                  <a:lnTo>
                    <a:pt x="153" y="2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5094360" y="4243320"/>
              <a:ext cx="46080" cy="47520"/>
            </a:xfrm>
            <a:custGeom>
              <a:avLst/>
              <a:gdLst/>
              <a:ahLst/>
              <a:rect l="l" t="t" r="r" b="b"/>
              <a:pathLst>
                <a:path w="142" h="151">
                  <a:moveTo>
                    <a:pt x="0" y="106"/>
                  </a:moveTo>
                  <a:lnTo>
                    <a:pt x="0" y="106"/>
                  </a:lnTo>
                  <a:lnTo>
                    <a:pt x="5" y="111"/>
                  </a:lnTo>
                  <a:lnTo>
                    <a:pt x="10" y="117"/>
                  </a:lnTo>
                  <a:lnTo>
                    <a:pt x="16" y="122"/>
                  </a:lnTo>
                  <a:lnTo>
                    <a:pt x="22" y="128"/>
                  </a:lnTo>
                  <a:lnTo>
                    <a:pt x="28" y="134"/>
                  </a:lnTo>
                  <a:lnTo>
                    <a:pt x="35" y="139"/>
                  </a:lnTo>
                  <a:lnTo>
                    <a:pt x="42" y="146"/>
                  </a:lnTo>
                  <a:lnTo>
                    <a:pt x="48" y="151"/>
                  </a:lnTo>
                  <a:lnTo>
                    <a:pt x="142" y="23"/>
                  </a:lnTo>
                  <a:lnTo>
                    <a:pt x="138" y="21"/>
                  </a:lnTo>
                  <a:lnTo>
                    <a:pt x="136" y="19"/>
                  </a:lnTo>
                  <a:lnTo>
                    <a:pt x="133" y="15"/>
                  </a:lnTo>
                  <a:lnTo>
                    <a:pt x="130" y="13"/>
                  </a:lnTo>
                  <a:lnTo>
                    <a:pt x="127" y="10"/>
                  </a:lnTo>
                  <a:lnTo>
                    <a:pt x="125" y="7"/>
                  </a:lnTo>
                  <a:lnTo>
                    <a:pt x="122" y="4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5078520" y="4233960"/>
              <a:ext cx="54000" cy="428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11" y="0"/>
                  </a:moveTo>
                  <a:lnTo>
                    <a:pt x="9" y="3"/>
                  </a:lnTo>
                  <a:lnTo>
                    <a:pt x="2" y="24"/>
                  </a:lnTo>
                  <a:lnTo>
                    <a:pt x="0" y="45"/>
                  </a:lnTo>
                  <a:lnTo>
                    <a:pt x="2" y="64"/>
                  </a:lnTo>
                  <a:lnTo>
                    <a:pt x="8" y="83"/>
                  </a:lnTo>
                  <a:lnTo>
                    <a:pt x="16" y="99"/>
                  </a:lnTo>
                  <a:lnTo>
                    <a:pt x="27" y="111"/>
                  </a:lnTo>
                  <a:lnTo>
                    <a:pt x="35" y="122"/>
                  </a:lnTo>
                  <a:lnTo>
                    <a:pt x="43" y="128"/>
                  </a:lnTo>
                  <a:lnTo>
                    <a:pt x="48" y="135"/>
                  </a:lnTo>
                  <a:lnTo>
                    <a:pt x="51" y="138"/>
                  </a:lnTo>
                  <a:lnTo>
                    <a:pt x="168" y="32"/>
                  </a:lnTo>
                  <a:lnTo>
                    <a:pt x="161" y="23"/>
                  </a:lnTo>
                  <a:lnTo>
                    <a:pt x="155" y="18"/>
                  </a:lnTo>
                  <a:lnTo>
                    <a:pt x="151" y="13"/>
                  </a:lnTo>
                  <a:lnTo>
                    <a:pt x="149" y="11"/>
                  </a:lnTo>
                  <a:lnTo>
                    <a:pt x="150" y="13"/>
                  </a:lnTo>
                  <a:lnTo>
                    <a:pt x="152" y="17"/>
                  </a:lnTo>
                  <a:lnTo>
                    <a:pt x="157" y="30"/>
                  </a:lnTo>
                  <a:lnTo>
                    <a:pt x="158" y="43"/>
                  </a:lnTo>
                  <a:lnTo>
                    <a:pt x="156" y="59"/>
                  </a:lnTo>
                  <a:lnTo>
                    <a:pt x="151" y="74"/>
                  </a:lnTo>
                  <a:lnTo>
                    <a:pt x="149" y="7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5081760" y="4214880"/>
              <a:ext cx="72720" cy="68040"/>
            </a:xfrm>
            <a:custGeom>
              <a:avLst/>
              <a:gdLst/>
              <a:ahLst/>
              <a:rect l="l" t="t" r="r" b="b"/>
              <a:pathLst>
                <a:path w="227" h="214">
                  <a:moveTo>
                    <a:pt x="175" y="56"/>
                  </a:moveTo>
                  <a:lnTo>
                    <a:pt x="227" y="75"/>
                  </a:lnTo>
                  <a:lnTo>
                    <a:pt x="209" y="59"/>
                  </a:lnTo>
                  <a:lnTo>
                    <a:pt x="190" y="43"/>
                  </a:lnTo>
                  <a:lnTo>
                    <a:pt x="171" y="29"/>
                  </a:lnTo>
                  <a:lnTo>
                    <a:pt x="150" y="16"/>
                  </a:lnTo>
                  <a:lnTo>
                    <a:pt x="133" y="9"/>
                  </a:lnTo>
                  <a:lnTo>
                    <a:pt x="115" y="4"/>
                  </a:lnTo>
                  <a:lnTo>
                    <a:pt x="96" y="0"/>
                  </a:lnTo>
                  <a:lnTo>
                    <a:pt x="71" y="4"/>
                  </a:lnTo>
                  <a:lnTo>
                    <a:pt x="47" y="12"/>
                  </a:lnTo>
                  <a:lnTo>
                    <a:pt x="26" y="26"/>
                  </a:lnTo>
                  <a:lnTo>
                    <a:pt x="11" y="41"/>
                  </a:lnTo>
                  <a:lnTo>
                    <a:pt x="0" y="58"/>
                  </a:lnTo>
                  <a:lnTo>
                    <a:pt x="138" y="136"/>
                  </a:lnTo>
                  <a:lnTo>
                    <a:pt x="135" y="139"/>
                  </a:lnTo>
                  <a:lnTo>
                    <a:pt x="129" y="146"/>
                  </a:lnTo>
                  <a:lnTo>
                    <a:pt x="118" y="153"/>
                  </a:lnTo>
                  <a:lnTo>
                    <a:pt x="105" y="158"/>
                  </a:lnTo>
                  <a:lnTo>
                    <a:pt x="91" y="159"/>
                  </a:lnTo>
                  <a:lnTo>
                    <a:pt x="83" y="158"/>
                  </a:lnTo>
                  <a:lnTo>
                    <a:pt x="78" y="157"/>
                  </a:lnTo>
                  <a:lnTo>
                    <a:pt x="74" y="155"/>
                  </a:lnTo>
                  <a:lnTo>
                    <a:pt x="81" y="159"/>
                  </a:lnTo>
                  <a:lnTo>
                    <a:pt x="92" y="167"/>
                  </a:lnTo>
                  <a:lnTo>
                    <a:pt x="107" y="180"/>
                  </a:lnTo>
                  <a:lnTo>
                    <a:pt x="125" y="195"/>
                  </a:lnTo>
                  <a:lnTo>
                    <a:pt x="175" y="214"/>
                  </a:lnTo>
                  <a:lnTo>
                    <a:pt x="125" y="195"/>
                  </a:lnTo>
                  <a:lnTo>
                    <a:pt x="147" y="214"/>
                  </a:lnTo>
                  <a:lnTo>
                    <a:pt x="175" y="214"/>
                  </a:lnTo>
                  <a:lnTo>
                    <a:pt x="175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5137200" y="4232160"/>
              <a:ext cx="22320" cy="50760"/>
            </a:xfrm>
            <a:custGeom>
              <a:avLst/>
              <a:gdLst/>
              <a:ahLst/>
              <a:rect l="l" t="t" r="r" b="b"/>
              <a:pathLst>
                <a:path w="66" h="158">
                  <a:moveTo>
                    <a:pt x="66" y="137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13" y="158"/>
                  </a:lnTo>
                  <a:lnTo>
                    <a:pt x="66" y="137"/>
                  </a:lnTo>
                  <a:lnTo>
                    <a:pt x="13" y="158"/>
                  </a:lnTo>
                  <a:lnTo>
                    <a:pt x="43" y="158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5199120" y="4314960"/>
              <a:ext cx="131760" cy="11412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220" y="0"/>
                  </a:moveTo>
                  <a:lnTo>
                    <a:pt x="0" y="356"/>
                  </a:lnTo>
                  <a:lnTo>
                    <a:pt x="416" y="36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5199120" y="4314960"/>
              <a:ext cx="131760" cy="11412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220" y="0"/>
                  </a:moveTo>
                  <a:lnTo>
                    <a:pt x="0" y="356"/>
                  </a:lnTo>
                  <a:lnTo>
                    <a:pt x="416" y="360"/>
                  </a:lnTo>
                  <a:lnTo>
                    <a:pt x="22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5268960" y="4314960"/>
              <a:ext cx="117360" cy="1141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0" y="0"/>
                  </a:moveTo>
                  <a:lnTo>
                    <a:pt x="370" y="53"/>
                  </a:lnTo>
                  <a:lnTo>
                    <a:pt x="196" y="3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268960" y="4314960"/>
              <a:ext cx="117360" cy="1141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0" y="0"/>
                  </a:moveTo>
                  <a:lnTo>
                    <a:pt x="370" y="53"/>
                  </a:lnTo>
                  <a:lnTo>
                    <a:pt x="196" y="36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5330880" y="4330800"/>
              <a:ext cx="55440" cy="135000"/>
            </a:xfrm>
            <a:custGeom>
              <a:avLst/>
              <a:gdLst/>
              <a:ahLst/>
              <a:rect l="l" t="t" r="r" b="b"/>
              <a:pathLst>
                <a:path w="174" h="425">
                  <a:moveTo>
                    <a:pt x="174" y="0"/>
                  </a:moveTo>
                  <a:lnTo>
                    <a:pt x="159" y="425"/>
                  </a:lnTo>
                  <a:lnTo>
                    <a:pt x="0" y="30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5330880" y="4330800"/>
              <a:ext cx="55440" cy="135000"/>
            </a:xfrm>
            <a:custGeom>
              <a:avLst/>
              <a:gdLst/>
              <a:ahLst/>
              <a:rect l="l" t="t" r="r" b="b"/>
              <a:pathLst>
                <a:path w="174" h="425">
                  <a:moveTo>
                    <a:pt x="174" y="0"/>
                  </a:moveTo>
                  <a:lnTo>
                    <a:pt x="159" y="425"/>
                  </a:lnTo>
                  <a:lnTo>
                    <a:pt x="0" y="307"/>
                  </a:lnTo>
                  <a:lnTo>
                    <a:pt x="174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5268960" y="4257720"/>
              <a:ext cx="117360" cy="73080"/>
            </a:xfrm>
            <a:custGeom>
              <a:avLst/>
              <a:gdLst/>
              <a:ahLst/>
              <a:rect l="l" t="t" r="r" b="b"/>
              <a:pathLst>
                <a:path w="370" h="234">
                  <a:moveTo>
                    <a:pt x="8" y="0"/>
                  </a:moveTo>
                  <a:lnTo>
                    <a:pt x="370" y="234"/>
                  </a:lnTo>
                  <a:lnTo>
                    <a:pt x="0" y="18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5268960" y="4257720"/>
              <a:ext cx="117360" cy="73080"/>
            </a:xfrm>
            <a:custGeom>
              <a:avLst/>
              <a:gdLst/>
              <a:ahLst/>
              <a:rect l="l" t="t" r="r" b="b"/>
              <a:pathLst>
                <a:path w="370" h="234">
                  <a:moveTo>
                    <a:pt x="8" y="0"/>
                  </a:moveTo>
                  <a:lnTo>
                    <a:pt x="370" y="234"/>
                  </a:lnTo>
                  <a:lnTo>
                    <a:pt x="0" y="181"/>
                  </a:lnTo>
                  <a:lnTo>
                    <a:pt x="8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5153040" y="4257720"/>
              <a:ext cx="117360" cy="63360"/>
            </a:xfrm>
            <a:custGeom>
              <a:avLst/>
              <a:gdLst/>
              <a:ahLst/>
              <a:rect l="l" t="t" r="r" b="b"/>
              <a:pathLst>
                <a:path w="374" h="202">
                  <a:moveTo>
                    <a:pt x="0" y="202"/>
                  </a:moveTo>
                  <a:lnTo>
                    <a:pt x="374" y="0"/>
                  </a:lnTo>
                  <a:lnTo>
                    <a:pt x="366" y="181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153040" y="4257720"/>
              <a:ext cx="117360" cy="63360"/>
            </a:xfrm>
            <a:custGeom>
              <a:avLst/>
              <a:gdLst/>
              <a:ahLst/>
              <a:rect l="l" t="t" r="r" b="b"/>
              <a:pathLst>
                <a:path w="374" h="202">
                  <a:moveTo>
                    <a:pt x="0" y="202"/>
                  </a:moveTo>
                  <a:lnTo>
                    <a:pt x="374" y="0"/>
                  </a:lnTo>
                  <a:lnTo>
                    <a:pt x="366" y="181"/>
                  </a:lnTo>
                  <a:lnTo>
                    <a:pt x="0" y="202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5153040" y="4314960"/>
              <a:ext cx="115920" cy="112680"/>
            </a:xfrm>
            <a:custGeom>
              <a:avLst/>
              <a:gdLst/>
              <a:ahLst/>
              <a:rect l="l" t="t" r="r" b="b"/>
              <a:pathLst>
                <a:path w="366" h="356">
                  <a:moveTo>
                    <a:pt x="146" y="356"/>
                  </a:moveTo>
                  <a:lnTo>
                    <a:pt x="0" y="21"/>
                  </a:lnTo>
                  <a:lnTo>
                    <a:pt x="366" y="0"/>
                  </a:lnTo>
                  <a:lnTo>
                    <a:pt x="146" y="356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5153040" y="4314960"/>
              <a:ext cx="115920" cy="112680"/>
            </a:xfrm>
            <a:custGeom>
              <a:avLst/>
              <a:gdLst/>
              <a:ahLst/>
              <a:rect l="l" t="t" r="r" b="b"/>
              <a:pathLst>
                <a:path w="366" h="356">
                  <a:moveTo>
                    <a:pt x="146" y="356"/>
                  </a:moveTo>
                  <a:lnTo>
                    <a:pt x="0" y="21"/>
                  </a:lnTo>
                  <a:lnTo>
                    <a:pt x="366" y="0"/>
                  </a:lnTo>
                  <a:lnTo>
                    <a:pt x="146" y="356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5149800" y="4321080"/>
              <a:ext cx="49320" cy="128520"/>
            </a:xfrm>
            <a:custGeom>
              <a:avLst/>
              <a:gdLst/>
              <a:ahLst/>
              <a:rect l="l" t="t" r="r" b="b"/>
              <a:pathLst>
                <a:path w="156" h="405">
                  <a:moveTo>
                    <a:pt x="0" y="405"/>
                  </a:moveTo>
                  <a:lnTo>
                    <a:pt x="10" y="0"/>
                  </a:lnTo>
                  <a:lnTo>
                    <a:pt x="156" y="33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5149800" y="4321080"/>
              <a:ext cx="49320" cy="128520"/>
            </a:xfrm>
            <a:custGeom>
              <a:avLst/>
              <a:gdLst/>
              <a:ahLst/>
              <a:rect l="l" t="t" r="r" b="b"/>
              <a:pathLst>
                <a:path w="156" h="405">
                  <a:moveTo>
                    <a:pt x="0" y="405"/>
                  </a:moveTo>
                  <a:lnTo>
                    <a:pt x="10" y="0"/>
                  </a:lnTo>
                  <a:lnTo>
                    <a:pt x="156" y="335"/>
                  </a:lnTo>
                  <a:lnTo>
                    <a:pt x="0" y="405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5199120" y="4427640"/>
              <a:ext cx="131760" cy="100080"/>
            </a:xfrm>
            <a:custGeom>
              <a:avLst/>
              <a:gdLst/>
              <a:ahLst/>
              <a:rect l="l" t="t" r="r" b="b"/>
              <a:pathLst>
                <a:path w="416" h="317">
                  <a:moveTo>
                    <a:pt x="203" y="317"/>
                  </a:moveTo>
                  <a:lnTo>
                    <a:pt x="0" y="0"/>
                  </a:lnTo>
                  <a:lnTo>
                    <a:pt x="416" y="4"/>
                  </a:lnTo>
                  <a:lnTo>
                    <a:pt x="203" y="317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5199120" y="4427640"/>
              <a:ext cx="131760" cy="100080"/>
            </a:xfrm>
            <a:custGeom>
              <a:avLst/>
              <a:gdLst/>
              <a:ahLst/>
              <a:rect l="l" t="t" r="r" b="b"/>
              <a:pathLst>
                <a:path w="416" h="317">
                  <a:moveTo>
                    <a:pt x="203" y="317"/>
                  </a:moveTo>
                  <a:lnTo>
                    <a:pt x="0" y="0"/>
                  </a:lnTo>
                  <a:lnTo>
                    <a:pt x="416" y="4"/>
                  </a:lnTo>
                  <a:lnTo>
                    <a:pt x="203" y="317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5262480" y="4429080"/>
              <a:ext cx="119160" cy="98640"/>
            </a:xfrm>
            <a:custGeom>
              <a:avLst/>
              <a:gdLst/>
              <a:ahLst/>
              <a:rect l="l" t="t" r="r" b="b"/>
              <a:pathLst>
                <a:path w="372" h="313">
                  <a:moveTo>
                    <a:pt x="372" y="118"/>
                  </a:moveTo>
                  <a:lnTo>
                    <a:pt x="0" y="313"/>
                  </a:lnTo>
                  <a:lnTo>
                    <a:pt x="213" y="0"/>
                  </a:lnTo>
                  <a:lnTo>
                    <a:pt x="372" y="118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5262480" y="4429080"/>
              <a:ext cx="119160" cy="98640"/>
            </a:xfrm>
            <a:custGeom>
              <a:avLst/>
              <a:gdLst/>
              <a:ahLst/>
              <a:rect l="l" t="t" r="r" b="b"/>
              <a:pathLst>
                <a:path w="372" h="313">
                  <a:moveTo>
                    <a:pt x="372" y="118"/>
                  </a:moveTo>
                  <a:lnTo>
                    <a:pt x="0" y="313"/>
                  </a:lnTo>
                  <a:lnTo>
                    <a:pt x="213" y="0"/>
                  </a:lnTo>
                  <a:lnTo>
                    <a:pt x="372" y="118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5149800" y="4427640"/>
              <a:ext cx="112680" cy="1000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0" y="70"/>
                  </a:moveTo>
                  <a:lnTo>
                    <a:pt x="156" y="0"/>
                  </a:lnTo>
                  <a:lnTo>
                    <a:pt x="359" y="317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5149800" y="4427640"/>
              <a:ext cx="112680" cy="1000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0" y="70"/>
                  </a:moveTo>
                  <a:lnTo>
                    <a:pt x="156" y="0"/>
                  </a:lnTo>
                  <a:lnTo>
                    <a:pt x="359" y="317"/>
                  </a:lnTo>
                  <a:lnTo>
                    <a:pt x="0" y="7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5049720" y="4187880"/>
              <a:ext cx="427320" cy="403200"/>
            </a:xfrm>
            <a:custGeom>
              <a:avLst/>
              <a:gdLst/>
              <a:ahLst/>
              <a:rect l="l" t="t" r="r" b="b"/>
              <a:pathLst>
                <a:path w="1344" h="1272">
                  <a:moveTo>
                    <a:pt x="290" y="223"/>
                  </a:moveTo>
                  <a:lnTo>
                    <a:pt x="301" y="211"/>
                  </a:lnTo>
                  <a:lnTo>
                    <a:pt x="315" y="201"/>
                  </a:lnTo>
                  <a:lnTo>
                    <a:pt x="328" y="190"/>
                  </a:lnTo>
                  <a:lnTo>
                    <a:pt x="341" y="181"/>
                  </a:lnTo>
                  <a:lnTo>
                    <a:pt x="355" y="171"/>
                  </a:lnTo>
                  <a:lnTo>
                    <a:pt x="369" y="162"/>
                  </a:lnTo>
                  <a:lnTo>
                    <a:pt x="382" y="153"/>
                  </a:lnTo>
                  <a:lnTo>
                    <a:pt x="397" y="146"/>
                  </a:lnTo>
                  <a:lnTo>
                    <a:pt x="408" y="139"/>
                  </a:lnTo>
                  <a:lnTo>
                    <a:pt x="405" y="134"/>
                  </a:lnTo>
                  <a:lnTo>
                    <a:pt x="402" y="127"/>
                  </a:lnTo>
                  <a:lnTo>
                    <a:pt x="400" y="122"/>
                  </a:lnTo>
                  <a:lnTo>
                    <a:pt x="398" y="116"/>
                  </a:lnTo>
                  <a:lnTo>
                    <a:pt x="396" y="110"/>
                  </a:lnTo>
                  <a:lnTo>
                    <a:pt x="394" y="104"/>
                  </a:lnTo>
                  <a:lnTo>
                    <a:pt x="392" y="98"/>
                  </a:lnTo>
                  <a:lnTo>
                    <a:pt x="389" y="90"/>
                  </a:lnTo>
                  <a:lnTo>
                    <a:pt x="386" y="83"/>
                  </a:lnTo>
                  <a:lnTo>
                    <a:pt x="384" y="76"/>
                  </a:lnTo>
                  <a:lnTo>
                    <a:pt x="382" y="67"/>
                  </a:lnTo>
                  <a:lnTo>
                    <a:pt x="381" y="59"/>
                  </a:lnTo>
                  <a:lnTo>
                    <a:pt x="381" y="52"/>
                  </a:lnTo>
                  <a:lnTo>
                    <a:pt x="383" y="44"/>
                  </a:lnTo>
                  <a:lnTo>
                    <a:pt x="384" y="42"/>
                  </a:lnTo>
                  <a:lnTo>
                    <a:pt x="385" y="39"/>
                  </a:lnTo>
                  <a:lnTo>
                    <a:pt x="387" y="37"/>
                  </a:lnTo>
                  <a:lnTo>
                    <a:pt x="390" y="36"/>
                  </a:lnTo>
                  <a:lnTo>
                    <a:pt x="397" y="34"/>
                  </a:lnTo>
                  <a:lnTo>
                    <a:pt x="402" y="33"/>
                  </a:lnTo>
                  <a:lnTo>
                    <a:pt x="407" y="33"/>
                  </a:lnTo>
                  <a:lnTo>
                    <a:pt x="413" y="34"/>
                  </a:lnTo>
                  <a:lnTo>
                    <a:pt x="417" y="36"/>
                  </a:lnTo>
                  <a:lnTo>
                    <a:pt x="421" y="39"/>
                  </a:lnTo>
                  <a:lnTo>
                    <a:pt x="424" y="43"/>
                  </a:lnTo>
                  <a:lnTo>
                    <a:pt x="428" y="48"/>
                  </a:lnTo>
                  <a:lnTo>
                    <a:pt x="436" y="61"/>
                  </a:lnTo>
                  <a:lnTo>
                    <a:pt x="443" y="77"/>
                  </a:lnTo>
                  <a:lnTo>
                    <a:pt x="451" y="95"/>
                  </a:lnTo>
                  <a:lnTo>
                    <a:pt x="462" y="116"/>
                  </a:lnTo>
                  <a:lnTo>
                    <a:pt x="479" y="107"/>
                  </a:lnTo>
                  <a:lnTo>
                    <a:pt x="503" y="100"/>
                  </a:lnTo>
                  <a:lnTo>
                    <a:pt x="528" y="93"/>
                  </a:lnTo>
                  <a:lnTo>
                    <a:pt x="553" y="86"/>
                  </a:lnTo>
                  <a:lnTo>
                    <a:pt x="578" y="81"/>
                  </a:lnTo>
                  <a:lnTo>
                    <a:pt x="605" y="77"/>
                  </a:lnTo>
                  <a:lnTo>
                    <a:pt x="631" y="74"/>
                  </a:lnTo>
                  <a:lnTo>
                    <a:pt x="657" y="72"/>
                  </a:lnTo>
                  <a:lnTo>
                    <a:pt x="683" y="72"/>
                  </a:lnTo>
                  <a:lnTo>
                    <a:pt x="703" y="72"/>
                  </a:lnTo>
                  <a:lnTo>
                    <a:pt x="722" y="73"/>
                  </a:lnTo>
                  <a:lnTo>
                    <a:pt x="740" y="74"/>
                  </a:lnTo>
                  <a:lnTo>
                    <a:pt x="759" y="76"/>
                  </a:lnTo>
                  <a:lnTo>
                    <a:pt x="778" y="79"/>
                  </a:lnTo>
                  <a:lnTo>
                    <a:pt x="796" y="82"/>
                  </a:lnTo>
                  <a:lnTo>
                    <a:pt x="815" y="85"/>
                  </a:lnTo>
                  <a:lnTo>
                    <a:pt x="832" y="89"/>
                  </a:lnTo>
                  <a:lnTo>
                    <a:pt x="838" y="94"/>
                  </a:lnTo>
                  <a:lnTo>
                    <a:pt x="840" y="87"/>
                  </a:lnTo>
                  <a:lnTo>
                    <a:pt x="841" y="81"/>
                  </a:lnTo>
                  <a:lnTo>
                    <a:pt x="843" y="76"/>
                  </a:lnTo>
                  <a:lnTo>
                    <a:pt x="845" y="71"/>
                  </a:lnTo>
                  <a:lnTo>
                    <a:pt x="847" y="65"/>
                  </a:lnTo>
                  <a:lnTo>
                    <a:pt x="849" y="59"/>
                  </a:lnTo>
                  <a:lnTo>
                    <a:pt x="850" y="54"/>
                  </a:lnTo>
                  <a:lnTo>
                    <a:pt x="852" y="46"/>
                  </a:lnTo>
                  <a:lnTo>
                    <a:pt x="854" y="39"/>
                  </a:lnTo>
                  <a:lnTo>
                    <a:pt x="858" y="31"/>
                  </a:lnTo>
                  <a:lnTo>
                    <a:pt x="861" y="23"/>
                  </a:lnTo>
                  <a:lnTo>
                    <a:pt x="865" y="16"/>
                  </a:lnTo>
                  <a:lnTo>
                    <a:pt x="869" y="10"/>
                  </a:lnTo>
                  <a:lnTo>
                    <a:pt x="874" y="4"/>
                  </a:lnTo>
                  <a:lnTo>
                    <a:pt x="876" y="2"/>
                  </a:lnTo>
                  <a:lnTo>
                    <a:pt x="880" y="1"/>
                  </a:lnTo>
                  <a:lnTo>
                    <a:pt x="882" y="0"/>
                  </a:lnTo>
                  <a:lnTo>
                    <a:pt x="885" y="0"/>
                  </a:lnTo>
                  <a:lnTo>
                    <a:pt x="892" y="2"/>
                  </a:lnTo>
                  <a:lnTo>
                    <a:pt x="899" y="4"/>
                  </a:lnTo>
                  <a:lnTo>
                    <a:pt x="904" y="8"/>
                  </a:lnTo>
                  <a:lnTo>
                    <a:pt x="908" y="11"/>
                  </a:lnTo>
                  <a:lnTo>
                    <a:pt x="911" y="16"/>
                  </a:lnTo>
                  <a:lnTo>
                    <a:pt x="912" y="21"/>
                  </a:lnTo>
                  <a:lnTo>
                    <a:pt x="913" y="27"/>
                  </a:lnTo>
                  <a:lnTo>
                    <a:pt x="913" y="34"/>
                  </a:lnTo>
                  <a:lnTo>
                    <a:pt x="911" y="50"/>
                  </a:lnTo>
                  <a:lnTo>
                    <a:pt x="907" y="67"/>
                  </a:lnTo>
                  <a:lnTo>
                    <a:pt x="901" y="87"/>
                  </a:lnTo>
                  <a:lnTo>
                    <a:pt x="894" y="109"/>
                  </a:lnTo>
                  <a:lnTo>
                    <a:pt x="903" y="113"/>
                  </a:lnTo>
                  <a:lnTo>
                    <a:pt x="933" y="126"/>
                  </a:lnTo>
                  <a:lnTo>
                    <a:pt x="963" y="141"/>
                  </a:lnTo>
                  <a:lnTo>
                    <a:pt x="990" y="157"/>
                  </a:lnTo>
                  <a:lnTo>
                    <a:pt x="1017" y="174"/>
                  </a:lnTo>
                  <a:lnTo>
                    <a:pt x="1043" y="193"/>
                  </a:lnTo>
                  <a:lnTo>
                    <a:pt x="1069" y="214"/>
                  </a:lnTo>
                  <a:lnTo>
                    <a:pt x="1093" y="236"/>
                  </a:lnTo>
                  <a:lnTo>
                    <a:pt x="1115" y="258"/>
                  </a:lnTo>
                  <a:lnTo>
                    <a:pt x="1136" y="284"/>
                  </a:lnTo>
                  <a:lnTo>
                    <a:pt x="1157" y="309"/>
                  </a:lnTo>
                  <a:lnTo>
                    <a:pt x="1174" y="335"/>
                  </a:lnTo>
                  <a:lnTo>
                    <a:pt x="1192" y="362"/>
                  </a:lnTo>
                  <a:lnTo>
                    <a:pt x="1208" y="391"/>
                  </a:lnTo>
                  <a:lnTo>
                    <a:pt x="1222" y="420"/>
                  </a:lnTo>
                  <a:lnTo>
                    <a:pt x="1234" y="451"/>
                  </a:lnTo>
                  <a:lnTo>
                    <a:pt x="1245" y="481"/>
                  </a:lnTo>
                  <a:lnTo>
                    <a:pt x="1248" y="491"/>
                  </a:lnTo>
                  <a:lnTo>
                    <a:pt x="1254" y="488"/>
                  </a:lnTo>
                  <a:lnTo>
                    <a:pt x="1261" y="486"/>
                  </a:lnTo>
                  <a:lnTo>
                    <a:pt x="1266" y="485"/>
                  </a:lnTo>
                  <a:lnTo>
                    <a:pt x="1272" y="484"/>
                  </a:lnTo>
                  <a:lnTo>
                    <a:pt x="1278" y="484"/>
                  </a:lnTo>
                  <a:lnTo>
                    <a:pt x="1285" y="483"/>
                  </a:lnTo>
                  <a:lnTo>
                    <a:pt x="1292" y="483"/>
                  </a:lnTo>
                  <a:lnTo>
                    <a:pt x="1298" y="483"/>
                  </a:lnTo>
                  <a:lnTo>
                    <a:pt x="1306" y="482"/>
                  </a:lnTo>
                  <a:lnTo>
                    <a:pt x="1313" y="481"/>
                  </a:lnTo>
                  <a:lnTo>
                    <a:pt x="1320" y="480"/>
                  </a:lnTo>
                  <a:lnTo>
                    <a:pt x="1327" y="480"/>
                  </a:lnTo>
                  <a:lnTo>
                    <a:pt x="1333" y="481"/>
                  </a:lnTo>
                  <a:lnTo>
                    <a:pt x="1337" y="482"/>
                  </a:lnTo>
                  <a:lnTo>
                    <a:pt x="1341" y="485"/>
                  </a:lnTo>
                  <a:lnTo>
                    <a:pt x="1343" y="489"/>
                  </a:lnTo>
                  <a:lnTo>
                    <a:pt x="1344" y="496"/>
                  </a:lnTo>
                  <a:lnTo>
                    <a:pt x="1344" y="502"/>
                  </a:lnTo>
                  <a:lnTo>
                    <a:pt x="1344" y="507"/>
                  </a:lnTo>
                  <a:lnTo>
                    <a:pt x="1343" y="513"/>
                  </a:lnTo>
                  <a:lnTo>
                    <a:pt x="1341" y="517"/>
                  </a:lnTo>
                  <a:lnTo>
                    <a:pt x="1339" y="520"/>
                  </a:lnTo>
                  <a:lnTo>
                    <a:pt x="1335" y="523"/>
                  </a:lnTo>
                  <a:lnTo>
                    <a:pt x="1331" y="526"/>
                  </a:lnTo>
                  <a:lnTo>
                    <a:pt x="1319" y="531"/>
                  </a:lnTo>
                  <a:lnTo>
                    <a:pt x="1305" y="536"/>
                  </a:lnTo>
                  <a:lnTo>
                    <a:pt x="1287" y="541"/>
                  </a:lnTo>
                  <a:lnTo>
                    <a:pt x="1265" y="547"/>
                  </a:lnTo>
                  <a:lnTo>
                    <a:pt x="1264" y="557"/>
                  </a:lnTo>
                  <a:lnTo>
                    <a:pt x="1266" y="569"/>
                  </a:lnTo>
                  <a:lnTo>
                    <a:pt x="1268" y="582"/>
                  </a:lnTo>
                  <a:lnTo>
                    <a:pt x="1269" y="594"/>
                  </a:lnTo>
                  <a:lnTo>
                    <a:pt x="1271" y="608"/>
                  </a:lnTo>
                  <a:lnTo>
                    <a:pt x="1271" y="621"/>
                  </a:lnTo>
                  <a:lnTo>
                    <a:pt x="1272" y="633"/>
                  </a:lnTo>
                  <a:lnTo>
                    <a:pt x="1272" y="646"/>
                  </a:lnTo>
                  <a:lnTo>
                    <a:pt x="1273" y="660"/>
                  </a:lnTo>
                  <a:lnTo>
                    <a:pt x="1272" y="678"/>
                  </a:lnTo>
                  <a:lnTo>
                    <a:pt x="1271" y="698"/>
                  </a:lnTo>
                  <a:lnTo>
                    <a:pt x="1270" y="717"/>
                  </a:lnTo>
                  <a:lnTo>
                    <a:pt x="1268" y="736"/>
                  </a:lnTo>
                  <a:lnTo>
                    <a:pt x="1265" y="755"/>
                  </a:lnTo>
                  <a:lnTo>
                    <a:pt x="1262" y="773"/>
                  </a:lnTo>
                  <a:lnTo>
                    <a:pt x="1257" y="792"/>
                  </a:lnTo>
                  <a:lnTo>
                    <a:pt x="1253" y="810"/>
                  </a:lnTo>
                  <a:lnTo>
                    <a:pt x="1248" y="828"/>
                  </a:lnTo>
                  <a:lnTo>
                    <a:pt x="1243" y="845"/>
                  </a:lnTo>
                  <a:lnTo>
                    <a:pt x="1236" y="862"/>
                  </a:lnTo>
                  <a:lnTo>
                    <a:pt x="1230" y="879"/>
                  </a:lnTo>
                  <a:lnTo>
                    <a:pt x="1223" y="896"/>
                  </a:lnTo>
                  <a:lnTo>
                    <a:pt x="1215" y="913"/>
                  </a:lnTo>
                  <a:lnTo>
                    <a:pt x="1207" y="929"/>
                  </a:lnTo>
                  <a:lnTo>
                    <a:pt x="1199" y="945"/>
                  </a:lnTo>
                  <a:lnTo>
                    <a:pt x="1189" y="960"/>
                  </a:lnTo>
                  <a:lnTo>
                    <a:pt x="1195" y="962"/>
                  </a:lnTo>
                  <a:lnTo>
                    <a:pt x="1201" y="964"/>
                  </a:lnTo>
                  <a:lnTo>
                    <a:pt x="1206" y="967"/>
                  </a:lnTo>
                  <a:lnTo>
                    <a:pt x="1211" y="970"/>
                  </a:lnTo>
                  <a:lnTo>
                    <a:pt x="1216" y="975"/>
                  </a:lnTo>
                  <a:lnTo>
                    <a:pt x="1223" y="978"/>
                  </a:lnTo>
                  <a:lnTo>
                    <a:pt x="1228" y="982"/>
                  </a:lnTo>
                  <a:lnTo>
                    <a:pt x="1235" y="986"/>
                  </a:lnTo>
                  <a:lnTo>
                    <a:pt x="1242" y="989"/>
                  </a:lnTo>
                  <a:lnTo>
                    <a:pt x="1248" y="993"/>
                  </a:lnTo>
                  <a:lnTo>
                    <a:pt x="1253" y="998"/>
                  </a:lnTo>
                  <a:lnTo>
                    <a:pt x="1258" y="1002"/>
                  </a:lnTo>
                  <a:lnTo>
                    <a:pt x="1262" y="1007"/>
                  </a:lnTo>
                  <a:lnTo>
                    <a:pt x="1264" y="1011"/>
                  </a:lnTo>
                  <a:lnTo>
                    <a:pt x="1265" y="1017"/>
                  </a:lnTo>
                  <a:lnTo>
                    <a:pt x="1264" y="1021"/>
                  </a:lnTo>
                  <a:lnTo>
                    <a:pt x="1261" y="1028"/>
                  </a:lnTo>
                  <a:lnTo>
                    <a:pt x="1256" y="1033"/>
                  </a:lnTo>
                  <a:lnTo>
                    <a:pt x="1252" y="1037"/>
                  </a:lnTo>
                  <a:lnTo>
                    <a:pt x="1248" y="1040"/>
                  </a:lnTo>
                  <a:lnTo>
                    <a:pt x="1244" y="1042"/>
                  </a:lnTo>
                  <a:lnTo>
                    <a:pt x="1240" y="1042"/>
                  </a:lnTo>
                  <a:lnTo>
                    <a:pt x="1234" y="1042"/>
                  </a:lnTo>
                  <a:lnTo>
                    <a:pt x="1228" y="1041"/>
                  </a:lnTo>
                  <a:lnTo>
                    <a:pt x="1215" y="1035"/>
                  </a:lnTo>
                  <a:lnTo>
                    <a:pt x="1201" y="1029"/>
                  </a:lnTo>
                  <a:lnTo>
                    <a:pt x="1183" y="1020"/>
                  </a:lnTo>
                  <a:lnTo>
                    <a:pt x="1162" y="1010"/>
                  </a:lnTo>
                  <a:lnTo>
                    <a:pt x="1157" y="1010"/>
                  </a:lnTo>
                  <a:lnTo>
                    <a:pt x="1140" y="1032"/>
                  </a:lnTo>
                  <a:lnTo>
                    <a:pt x="1122" y="1053"/>
                  </a:lnTo>
                  <a:lnTo>
                    <a:pt x="1103" y="1073"/>
                  </a:lnTo>
                  <a:lnTo>
                    <a:pt x="1083" y="1092"/>
                  </a:lnTo>
                  <a:lnTo>
                    <a:pt x="1063" y="1110"/>
                  </a:lnTo>
                  <a:lnTo>
                    <a:pt x="1042" y="1127"/>
                  </a:lnTo>
                  <a:lnTo>
                    <a:pt x="1020" y="1143"/>
                  </a:lnTo>
                  <a:lnTo>
                    <a:pt x="997" y="1158"/>
                  </a:lnTo>
                  <a:lnTo>
                    <a:pt x="982" y="1166"/>
                  </a:lnTo>
                  <a:lnTo>
                    <a:pt x="986" y="1172"/>
                  </a:lnTo>
                  <a:lnTo>
                    <a:pt x="989" y="1177"/>
                  </a:lnTo>
                  <a:lnTo>
                    <a:pt x="991" y="1184"/>
                  </a:lnTo>
                  <a:lnTo>
                    <a:pt x="994" y="1189"/>
                  </a:lnTo>
                  <a:lnTo>
                    <a:pt x="997" y="1195"/>
                  </a:lnTo>
                  <a:lnTo>
                    <a:pt x="1000" y="1200"/>
                  </a:lnTo>
                  <a:lnTo>
                    <a:pt x="1003" y="1206"/>
                  </a:lnTo>
                  <a:lnTo>
                    <a:pt x="1007" y="1212"/>
                  </a:lnTo>
                  <a:lnTo>
                    <a:pt x="1011" y="1218"/>
                  </a:lnTo>
                  <a:lnTo>
                    <a:pt x="1015" y="1226"/>
                  </a:lnTo>
                  <a:lnTo>
                    <a:pt x="1019" y="1232"/>
                  </a:lnTo>
                  <a:lnTo>
                    <a:pt x="1023" y="1239"/>
                  </a:lnTo>
                  <a:lnTo>
                    <a:pt x="1027" y="1245"/>
                  </a:lnTo>
                  <a:lnTo>
                    <a:pt x="1028" y="1252"/>
                  </a:lnTo>
                  <a:lnTo>
                    <a:pt x="1028" y="1255"/>
                  </a:lnTo>
                  <a:lnTo>
                    <a:pt x="1028" y="1257"/>
                  </a:lnTo>
                  <a:lnTo>
                    <a:pt x="1027" y="1259"/>
                  </a:lnTo>
                  <a:lnTo>
                    <a:pt x="1024" y="1261"/>
                  </a:lnTo>
                  <a:lnTo>
                    <a:pt x="1018" y="1266"/>
                  </a:lnTo>
                  <a:lnTo>
                    <a:pt x="1013" y="1270"/>
                  </a:lnTo>
                  <a:lnTo>
                    <a:pt x="1007" y="1272"/>
                  </a:lnTo>
                  <a:lnTo>
                    <a:pt x="1001" y="1272"/>
                  </a:lnTo>
                  <a:lnTo>
                    <a:pt x="996" y="1271"/>
                  </a:lnTo>
                  <a:lnTo>
                    <a:pt x="991" y="1269"/>
                  </a:lnTo>
                  <a:lnTo>
                    <a:pt x="986" y="1264"/>
                  </a:lnTo>
                  <a:lnTo>
                    <a:pt x="979" y="1260"/>
                  </a:lnTo>
                  <a:lnTo>
                    <a:pt x="969" y="1248"/>
                  </a:lnTo>
                  <a:lnTo>
                    <a:pt x="957" y="1232"/>
                  </a:lnTo>
                  <a:lnTo>
                    <a:pt x="945" y="1214"/>
                  </a:lnTo>
                  <a:lnTo>
                    <a:pt x="932" y="1195"/>
                  </a:lnTo>
                  <a:lnTo>
                    <a:pt x="918" y="1200"/>
                  </a:lnTo>
                  <a:lnTo>
                    <a:pt x="891" y="1211"/>
                  </a:lnTo>
                  <a:lnTo>
                    <a:pt x="864" y="1220"/>
                  </a:lnTo>
                  <a:lnTo>
                    <a:pt x="834" y="1229"/>
                  </a:lnTo>
                  <a:lnTo>
                    <a:pt x="806" y="1236"/>
                  </a:lnTo>
                  <a:lnTo>
                    <a:pt x="776" y="1241"/>
                  </a:lnTo>
                  <a:lnTo>
                    <a:pt x="745" y="1245"/>
                  </a:lnTo>
                  <a:lnTo>
                    <a:pt x="715" y="1248"/>
                  </a:lnTo>
                  <a:lnTo>
                    <a:pt x="683" y="1249"/>
                  </a:lnTo>
                  <a:lnTo>
                    <a:pt x="666" y="1248"/>
                  </a:lnTo>
                  <a:lnTo>
                    <a:pt x="648" y="1248"/>
                  </a:lnTo>
                  <a:lnTo>
                    <a:pt x="630" y="1245"/>
                  </a:lnTo>
                  <a:lnTo>
                    <a:pt x="612" y="1244"/>
                  </a:lnTo>
                  <a:lnTo>
                    <a:pt x="594" y="1241"/>
                  </a:lnTo>
                  <a:lnTo>
                    <a:pt x="577" y="1239"/>
                  </a:lnTo>
                  <a:lnTo>
                    <a:pt x="560" y="1235"/>
                  </a:lnTo>
                  <a:lnTo>
                    <a:pt x="543" y="1232"/>
                  </a:lnTo>
                  <a:lnTo>
                    <a:pt x="526" y="1227"/>
                  </a:lnTo>
                  <a:lnTo>
                    <a:pt x="509" y="1222"/>
                  </a:lnTo>
                  <a:lnTo>
                    <a:pt x="492" y="1217"/>
                  </a:lnTo>
                  <a:lnTo>
                    <a:pt x="477" y="1211"/>
                  </a:lnTo>
                  <a:lnTo>
                    <a:pt x="460" y="1205"/>
                  </a:lnTo>
                  <a:lnTo>
                    <a:pt x="444" y="1198"/>
                  </a:lnTo>
                  <a:lnTo>
                    <a:pt x="428" y="1191"/>
                  </a:lnTo>
                  <a:lnTo>
                    <a:pt x="414" y="1182"/>
                  </a:lnTo>
                  <a:lnTo>
                    <a:pt x="402" y="1176"/>
                  </a:lnTo>
                  <a:lnTo>
                    <a:pt x="399" y="1182"/>
                  </a:lnTo>
                  <a:lnTo>
                    <a:pt x="396" y="1189"/>
                  </a:lnTo>
                  <a:lnTo>
                    <a:pt x="394" y="1194"/>
                  </a:lnTo>
                  <a:lnTo>
                    <a:pt x="391" y="1200"/>
                  </a:lnTo>
                  <a:lnTo>
                    <a:pt x="389" y="1206"/>
                  </a:lnTo>
                  <a:lnTo>
                    <a:pt x="385" y="1211"/>
                  </a:lnTo>
                  <a:lnTo>
                    <a:pt x="382" y="1216"/>
                  </a:lnTo>
                  <a:lnTo>
                    <a:pt x="378" y="1222"/>
                  </a:lnTo>
                  <a:lnTo>
                    <a:pt x="373" y="1231"/>
                  </a:lnTo>
                  <a:lnTo>
                    <a:pt x="368" y="1238"/>
                  </a:lnTo>
                  <a:lnTo>
                    <a:pt x="362" y="1244"/>
                  </a:lnTo>
                  <a:lnTo>
                    <a:pt x="357" y="1250"/>
                  </a:lnTo>
                  <a:lnTo>
                    <a:pt x="352" y="1254"/>
                  </a:lnTo>
                  <a:lnTo>
                    <a:pt x="346" y="1257"/>
                  </a:lnTo>
                  <a:lnTo>
                    <a:pt x="340" y="1258"/>
                  </a:lnTo>
                  <a:lnTo>
                    <a:pt x="335" y="1257"/>
                  </a:lnTo>
                  <a:lnTo>
                    <a:pt x="328" y="1254"/>
                  </a:lnTo>
                  <a:lnTo>
                    <a:pt x="322" y="1251"/>
                  </a:lnTo>
                  <a:lnTo>
                    <a:pt x="318" y="1247"/>
                  </a:lnTo>
                  <a:lnTo>
                    <a:pt x="315" y="1241"/>
                  </a:lnTo>
                  <a:lnTo>
                    <a:pt x="314" y="1236"/>
                  </a:lnTo>
                  <a:lnTo>
                    <a:pt x="313" y="1230"/>
                  </a:lnTo>
                  <a:lnTo>
                    <a:pt x="314" y="1223"/>
                  </a:lnTo>
                  <a:lnTo>
                    <a:pt x="316" y="1216"/>
                  </a:lnTo>
                  <a:lnTo>
                    <a:pt x="322" y="1201"/>
                  </a:lnTo>
                  <a:lnTo>
                    <a:pt x="331" y="1185"/>
                  </a:lnTo>
                  <a:lnTo>
                    <a:pt x="341" y="1166"/>
                  </a:lnTo>
                  <a:lnTo>
                    <a:pt x="354" y="1145"/>
                  </a:lnTo>
                  <a:lnTo>
                    <a:pt x="344" y="1139"/>
                  </a:lnTo>
                  <a:lnTo>
                    <a:pt x="322" y="1124"/>
                  </a:lnTo>
                  <a:lnTo>
                    <a:pt x="301" y="1107"/>
                  </a:lnTo>
                  <a:lnTo>
                    <a:pt x="281" y="1089"/>
                  </a:lnTo>
                  <a:lnTo>
                    <a:pt x="263" y="1070"/>
                  </a:lnTo>
                  <a:lnTo>
                    <a:pt x="244" y="1050"/>
                  </a:lnTo>
                  <a:lnTo>
                    <a:pt x="227" y="1030"/>
                  </a:lnTo>
                  <a:lnTo>
                    <a:pt x="210" y="1008"/>
                  </a:lnTo>
                  <a:lnTo>
                    <a:pt x="194" y="986"/>
                  </a:lnTo>
                  <a:lnTo>
                    <a:pt x="180" y="963"/>
                  </a:lnTo>
                  <a:lnTo>
                    <a:pt x="166" y="940"/>
                  </a:lnTo>
                  <a:lnTo>
                    <a:pt x="155" y="916"/>
                  </a:lnTo>
                  <a:lnTo>
                    <a:pt x="143" y="891"/>
                  </a:lnTo>
                  <a:lnTo>
                    <a:pt x="132" y="864"/>
                  </a:lnTo>
                  <a:lnTo>
                    <a:pt x="124" y="838"/>
                  </a:lnTo>
                  <a:lnTo>
                    <a:pt x="116" y="812"/>
                  </a:lnTo>
                  <a:lnTo>
                    <a:pt x="109" y="785"/>
                  </a:lnTo>
                  <a:lnTo>
                    <a:pt x="104" y="770"/>
                  </a:lnTo>
                  <a:lnTo>
                    <a:pt x="98" y="772"/>
                  </a:lnTo>
                  <a:lnTo>
                    <a:pt x="92" y="774"/>
                  </a:lnTo>
                  <a:lnTo>
                    <a:pt x="86" y="775"/>
                  </a:lnTo>
                  <a:lnTo>
                    <a:pt x="82" y="776"/>
                  </a:lnTo>
                  <a:lnTo>
                    <a:pt x="77" y="777"/>
                  </a:lnTo>
                  <a:lnTo>
                    <a:pt x="72" y="778"/>
                  </a:lnTo>
                  <a:lnTo>
                    <a:pt x="66" y="779"/>
                  </a:lnTo>
                  <a:lnTo>
                    <a:pt x="60" y="780"/>
                  </a:lnTo>
                  <a:lnTo>
                    <a:pt x="52" y="781"/>
                  </a:lnTo>
                  <a:lnTo>
                    <a:pt x="43" y="781"/>
                  </a:lnTo>
                  <a:lnTo>
                    <a:pt x="35" y="782"/>
                  </a:lnTo>
                  <a:lnTo>
                    <a:pt x="27" y="782"/>
                  </a:lnTo>
                  <a:lnTo>
                    <a:pt x="19" y="781"/>
                  </a:lnTo>
                  <a:lnTo>
                    <a:pt x="13" y="779"/>
                  </a:lnTo>
                  <a:lnTo>
                    <a:pt x="10" y="778"/>
                  </a:lnTo>
                  <a:lnTo>
                    <a:pt x="7" y="776"/>
                  </a:lnTo>
                  <a:lnTo>
                    <a:pt x="6" y="774"/>
                  </a:lnTo>
                  <a:lnTo>
                    <a:pt x="3" y="772"/>
                  </a:lnTo>
                  <a:lnTo>
                    <a:pt x="1" y="765"/>
                  </a:lnTo>
                  <a:lnTo>
                    <a:pt x="0" y="757"/>
                  </a:lnTo>
                  <a:lnTo>
                    <a:pt x="1" y="752"/>
                  </a:lnTo>
                  <a:lnTo>
                    <a:pt x="3" y="747"/>
                  </a:lnTo>
                  <a:lnTo>
                    <a:pt x="7" y="743"/>
                  </a:lnTo>
                  <a:lnTo>
                    <a:pt x="11" y="738"/>
                  </a:lnTo>
                  <a:lnTo>
                    <a:pt x="16" y="734"/>
                  </a:lnTo>
                  <a:lnTo>
                    <a:pt x="22" y="731"/>
                  </a:lnTo>
                  <a:lnTo>
                    <a:pt x="38" y="727"/>
                  </a:lnTo>
                  <a:lnTo>
                    <a:pt x="57" y="722"/>
                  </a:lnTo>
                  <a:lnTo>
                    <a:pt x="78" y="718"/>
                  </a:lnTo>
                  <a:lnTo>
                    <a:pt x="102" y="714"/>
                  </a:lnTo>
                  <a:lnTo>
                    <a:pt x="98" y="706"/>
                  </a:lnTo>
                  <a:lnTo>
                    <a:pt x="97" y="701"/>
                  </a:lnTo>
                  <a:lnTo>
                    <a:pt x="97" y="694"/>
                  </a:lnTo>
                  <a:lnTo>
                    <a:pt x="97" y="689"/>
                  </a:lnTo>
                  <a:lnTo>
                    <a:pt x="97" y="683"/>
                  </a:lnTo>
                  <a:lnTo>
                    <a:pt x="97" y="676"/>
                  </a:lnTo>
                  <a:lnTo>
                    <a:pt x="97" y="671"/>
                  </a:lnTo>
                  <a:lnTo>
                    <a:pt x="97" y="665"/>
                  </a:lnTo>
                  <a:lnTo>
                    <a:pt x="97" y="660"/>
                  </a:lnTo>
                  <a:lnTo>
                    <a:pt x="97" y="632"/>
                  </a:lnTo>
                  <a:lnTo>
                    <a:pt x="99" y="605"/>
                  </a:lnTo>
                  <a:lnTo>
                    <a:pt x="102" y="579"/>
                  </a:lnTo>
                  <a:lnTo>
                    <a:pt x="106" y="551"/>
                  </a:lnTo>
                  <a:lnTo>
                    <a:pt x="112" y="526"/>
                  </a:lnTo>
                  <a:lnTo>
                    <a:pt x="118" y="501"/>
                  </a:lnTo>
                  <a:lnTo>
                    <a:pt x="125" y="476"/>
                  </a:lnTo>
                  <a:lnTo>
                    <a:pt x="135" y="451"/>
                  </a:lnTo>
                  <a:lnTo>
                    <a:pt x="144" y="426"/>
                  </a:lnTo>
                  <a:lnTo>
                    <a:pt x="155" y="403"/>
                  </a:lnTo>
                  <a:lnTo>
                    <a:pt x="166" y="380"/>
                  </a:lnTo>
                  <a:lnTo>
                    <a:pt x="179" y="358"/>
                  </a:lnTo>
                  <a:lnTo>
                    <a:pt x="192" y="336"/>
                  </a:lnTo>
                  <a:lnTo>
                    <a:pt x="207" y="315"/>
                  </a:lnTo>
                  <a:lnTo>
                    <a:pt x="223" y="295"/>
                  </a:lnTo>
                  <a:lnTo>
                    <a:pt x="238" y="275"/>
                  </a:lnTo>
                  <a:lnTo>
                    <a:pt x="237" y="265"/>
                  </a:lnTo>
                  <a:lnTo>
                    <a:pt x="232" y="261"/>
                  </a:lnTo>
                  <a:lnTo>
                    <a:pt x="227" y="256"/>
                  </a:lnTo>
                  <a:lnTo>
                    <a:pt x="223" y="252"/>
                  </a:lnTo>
                  <a:lnTo>
                    <a:pt x="219" y="249"/>
                  </a:lnTo>
                  <a:lnTo>
                    <a:pt x="213" y="245"/>
                  </a:lnTo>
                  <a:lnTo>
                    <a:pt x="209" y="240"/>
                  </a:lnTo>
                  <a:lnTo>
                    <a:pt x="205" y="235"/>
                  </a:lnTo>
                  <a:lnTo>
                    <a:pt x="201" y="230"/>
                  </a:lnTo>
                  <a:lnTo>
                    <a:pt x="195" y="225"/>
                  </a:lnTo>
                  <a:lnTo>
                    <a:pt x="189" y="220"/>
                  </a:lnTo>
                  <a:lnTo>
                    <a:pt x="184" y="213"/>
                  </a:lnTo>
                  <a:lnTo>
                    <a:pt x="179" y="207"/>
                  </a:lnTo>
                  <a:lnTo>
                    <a:pt x="173" y="202"/>
                  </a:lnTo>
                  <a:lnTo>
                    <a:pt x="170" y="195"/>
                  </a:lnTo>
                  <a:lnTo>
                    <a:pt x="170" y="192"/>
                  </a:lnTo>
                  <a:lnTo>
                    <a:pt x="169" y="190"/>
                  </a:lnTo>
                  <a:lnTo>
                    <a:pt x="170" y="187"/>
                  </a:lnTo>
                  <a:lnTo>
                    <a:pt x="170" y="185"/>
                  </a:lnTo>
                  <a:lnTo>
                    <a:pt x="176" y="179"/>
                  </a:lnTo>
                  <a:lnTo>
                    <a:pt x="180" y="173"/>
                  </a:lnTo>
                  <a:lnTo>
                    <a:pt x="185" y="170"/>
                  </a:lnTo>
                  <a:lnTo>
                    <a:pt x="190" y="168"/>
                  </a:lnTo>
                  <a:lnTo>
                    <a:pt x="195" y="168"/>
                  </a:lnTo>
                  <a:lnTo>
                    <a:pt x="202" y="168"/>
                  </a:lnTo>
                  <a:lnTo>
                    <a:pt x="207" y="170"/>
                  </a:lnTo>
                  <a:lnTo>
                    <a:pt x="214" y="173"/>
                  </a:lnTo>
                  <a:lnTo>
                    <a:pt x="228" y="182"/>
                  </a:lnTo>
                  <a:lnTo>
                    <a:pt x="244" y="193"/>
                  </a:lnTo>
                  <a:lnTo>
                    <a:pt x="259" y="207"/>
                  </a:lnTo>
                  <a:lnTo>
                    <a:pt x="277" y="223"/>
                  </a:lnTo>
                  <a:lnTo>
                    <a:pt x="290" y="223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2" name=""/>
          <p:cNvGrpSpPr/>
          <p:nvPr/>
        </p:nvGrpSpPr>
        <p:grpSpPr>
          <a:xfrm>
            <a:off x="2774880" y="2514600"/>
            <a:ext cx="1909800" cy="2496960"/>
            <a:chOff x="2774880" y="2514600"/>
            <a:chExt cx="1909800" cy="2496960"/>
          </a:xfrm>
        </p:grpSpPr>
        <p:sp>
          <p:nvSpPr>
            <p:cNvPr id="5393" name=""/>
            <p:cNvSpPr/>
            <p:nvPr/>
          </p:nvSpPr>
          <p:spPr>
            <a:xfrm>
              <a:off x="3016080" y="2514600"/>
              <a:ext cx="887760" cy="1149480"/>
            </a:xfrm>
            <a:custGeom>
              <a:avLst/>
              <a:gdLst/>
              <a:ahLst/>
              <a:rect l="l" t="t" r="r" b="b"/>
              <a:pathLst>
                <a:path w="2795" h="3621">
                  <a:moveTo>
                    <a:pt x="1643" y="364"/>
                  </a:moveTo>
                  <a:lnTo>
                    <a:pt x="1632" y="363"/>
                  </a:lnTo>
                  <a:lnTo>
                    <a:pt x="1620" y="361"/>
                  </a:lnTo>
                  <a:lnTo>
                    <a:pt x="1608" y="360"/>
                  </a:lnTo>
                  <a:lnTo>
                    <a:pt x="1594" y="359"/>
                  </a:lnTo>
                  <a:lnTo>
                    <a:pt x="1580" y="358"/>
                  </a:lnTo>
                  <a:lnTo>
                    <a:pt x="1567" y="357"/>
                  </a:lnTo>
                  <a:lnTo>
                    <a:pt x="1553" y="356"/>
                  </a:lnTo>
                  <a:lnTo>
                    <a:pt x="1540" y="355"/>
                  </a:lnTo>
                  <a:lnTo>
                    <a:pt x="1467" y="351"/>
                  </a:lnTo>
                  <a:lnTo>
                    <a:pt x="1396" y="352"/>
                  </a:lnTo>
                  <a:lnTo>
                    <a:pt x="1325" y="356"/>
                  </a:lnTo>
                  <a:lnTo>
                    <a:pt x="1255" y="366"/>
                  </a:lnTo>
                  <a:lnTo>
                    <a:pt x="1186" y="378"/>
                  </a:lnTo>
                  <a:lnTo>
                    <a:pt x="1118" y="395"/>
                  </a:lnTo>
                  <a:lnTo>
                    <a:pt x="1051" y="415"/>
                  </a:lnTo>
                  <a:lnTo>
                    <a:pt x="985" y="439"/>
                  </a:lnTo>
                  <a:lnTo>
                    <a:pt x="920" y="466"/>
                  </a:lnTo>
                  <a:lnTo>
                    <a:pt x="857" y="498"/>
                  </a:lnTo>
                  <a:lnTo>
                    <a:pt x="796" y="533"/>
                  </a:lnTo>
                  <a:lnTo>
                    <a:pt x="735" y="570"/>
                  </a:lnTo>
                  <a:lnTo>
                    <a:pt x="676" y="611"/>
                  </a:lnTo>
                  <a:lnTo>
                    <a:pt x="619" y="655"/>
                  </a:lnTo>
                  <a:lnTo>
                    <a:pt x="564" y="703"/>
                  </a:lnTo>
                  <a:lnTo>
                    <a:pt x="511" y="752"/>
                  </a:lnTo>
                  <a:lnTo>
                    <a:pt x="460" y="805"/>
                  </a:lnTo>
                  <a:lnTo>
                    <a:pt x="410" y="860"/>
                  </a:lnTo>
                  <a:lnTo>
                    <a:pt x="364" y="919"/>
                  </a:lnTo>
                  <a:lnTo>
                    <a:pt x="320" y="979"/>
                  </a:lnTo>
                  <a:lnTo>
                    <a:pt x="278" y="1042"/>
                  </a:lnTo>
                  <a:lnTo>
                    <a:pt x="238" y="1108"/>
                  </a:lnTo>
                  <a:lnTo>
                    <a:pt x="202" y="1175"/>
                  </a:lnTo>
                  <a:lnTo>
                    <a:pt x="168" y="1246"/>
                  </a:lnTo>
                  <a:lnTo>
                    <a:pt x="137" y="1317"/>
                  </a:lnTo>
                  <a:lnTo>
                    <a:pt x="108" y="1390"/>
                  </a:lnTo>
                  <a:lnTo>
                    <a:pt x="83" y="1466"/>
                  </a:lnTo>
                  <a:lnTo>
                    <a:pt x="61" y="1544"/>
                  </a:lnTo>
                  <a:lnTo>
                    <a:pt x="42" y="1623"/>
                  </a:lnTo>
                  <a:lnTo>
                    <a:pt x="26" y="1703"/>
                  </a:lnTo>
                  <a:lnTo>
                    <a:pt x="15" y="1785"/>
                  </a:lnTo>
                  <a:lnTo>
                    <a:pt x="5" y="1869"/>
                  </a:lnTo>
                  <a:lnTo>
                    <a:pt x="1" y="1953"/>
                  </a:lnTo>
                  <a:lnTo>
                    <a:pt x="0" y="2036"/>
                  </a:lnTo>
                  <a:lnTo>
                    <a:pt x="2" y="2118"/>
                  </a:lnTo>
                  <a:lnTo>
                    <a:pt x="9" y="2200"/>
                  </a:lnTo>
                  <a:lnTo>
                    <a:pt x="18" y="2280"/>
                  </a:lnTo>
                  <a:lnTo>
                    <a:pt x="31" y="2359"/>
                  </a:lnTo>
                  <a:lnTo>
                    <a:pt x="46" y="2436"/>
                  </a:lnTo>
                  <a:lnTo>
                    <a:pt x="65" y="2513"/>
                  </a:lnTo>
                  <a:lnTo>
                    <a:pt x="88" y="2587"/>
                  </a:lnTo>
                  <a:lnTo>
                    <a:pt x="113" y="2660"/>
                  </a:lnTo>
                  <a:lnTo>
                    <a:pt x="142" y="2731"/>
                  </a:lnTo>
                  <a:lnTo>
                    <a:pt x="173" y="2801"/>
                  </a:lnTo>
                  <a:lnTo>
                    <a:pt x="207" y="2869"/>
                  </a:lnTo>
                  <a:lnTo>
                    <a:pt x="244" y="2934"/>
                  </a:lnTo>
                  <a:lnTo>
                    <a:pt x="283" y="2997"/>
                  </a:lnTo>
                  <a:lnTo>
                    <a:pt x="325" y="3058"/>
                  </a:lnTo>
                  <a:lnTo>
                    <a:pt x="370" y="3116"/>
                  </a:lnTo>
                  <a:lnTo>
                    <a:pt x="417" y="3171"/>
                  </a:lnTo>
                  <a:lnTo>
                    <a:pt x="466" y="3225"/>
                  </a:lnTo>
                  <a:lnTo>
                    <a:pt x="517" y="3275"/>
                  </a:lnTo>
                  <a:lnTo>
                    <a:pt x="571" y="3322"/>
                  </a:lnTo>
                  <a:lnTo>
                    <a:pt x="627" y="3367"/>
                  </a:lnTo>
                  <a:lnTo>
                    <a:pt x="684" y="3408"/>
                  </a:lnTo>
                  <a:lnTo>
                    <a:pt x="743" y="3445"/>
                  </a:lnTo>
                  <a:lnTo>
                    <a:pt x="804" y="3480"/>
                  </a:lnTo>
                  <a:lnTo>
                    <a:pt x="867" y="3511"/>
                  </a:lnTo>
                  <a:lnTo>
                    <a:pt x="932" y="3539"/>
                  </a:lnTo>
                  <a:lnTo>
                    <a:pt x="998" y="3563"/>
                  </a:lnTo>
                  <a:lnTo>
                    <a:pt x="1065" y="3583"/>
                  </a:lnTo>
                  <a:lnTo>
                    <a:pt x="1134" y="3599"/>
                  </a:lnTo>
                  <a:lnTo>
                    <a:pt x="1205" y="3611"/>
                  </a:lnTo>
                  <a:lnTo>
                    <a:pt x="1277" y="3619"/>
                  </a:lnTo>
                  <a:lnTo>
                    <a:pt x="1279" y="3620"/>
                  </a:lnTo>
                  <a:lnTo>
                    <a:pt x="1282" y="3620"/>
                  </a:lnTo>
                  <a:lnTo>
                    <a:pt x="1286" y="3620"/>
                  </a:lnTo>
                  <a:lnTo>
                    <a:pt x="1288" y="3620"/>
                  </a:lnTo>
                  <a:lnTo>
                    <a:pt x="1291" y="3620"/>
                  </a:lnTo>
                  <a:lnTo>
                    <a:pt x="1293" y="3621"/>
                  </a:lnTo>
                  <a:lnTo>
                    <a:pt x="1296" y="3621"/>
                  </a:lnTo>
                  <a:lnTo>
                    <a:pt x="1298" y="3621"/>
                  </a:lnTo>
                  <a:lnTo>
                    <a:pt x="1332" y="3198"/>
                  </a:lnTo>
                  <a:lnTo>
                    <a:pt x="1330" y="3201"/>
                  </a:lnTo>
                  <a:lnTo>
                    <a:pt x="1327" y="3202"/>
                  </a:lnTo>
                  <a:lnTo>
                    <a:pt x="1324" y="3203"/>
                  </a:lnTo>
                  <a:lnTo>
                    <a:pt x="1321" y="3204"/>
                  </a:lnTo>
                  <a:lnTo>
                    <a:pt x="1318" y="3204"/>
                  </a:lnTo>
                  <a:lnTo>
                    <a:pt x="1316" y="3204"/>
                  </a:lnTo>
                  <a:lnTo>
                    <a:pt x="1313" y="3204"/>
                  </a:lnTo>
                  <a:lnTo>
                    <a:pt x="1310" y="3204"/>
                  </a:lnTo>
                  <a:lnTo>
                    <a:pt x="1256" y="3198"/>
                  </a:lnTo>
                  <a:lnTo>
                    <a:pt x="1205" y="3189"/>
                  </a:lnTo>
                  <a:lnTo>
                    <a:pt x="1153" y="3178"/>
                  </a:lnTo>
                  <a:lnTo>
                    <a:pt x="1103" y="3162"/>
                  </a:lnTo>
                  <a:lnTo>
                    <a:pt x="1053" y="3144"/>
                  </a:lnTo>
                  <a:lnTo>
                    <a:pt x="1005" y="3124"/>
                  </a:lnTo>
                  <a:lnTo>
                    <a:pt x="958" y="3101"/>
                  </a:lnTo>
                  <a:lnTo>
                    <a:pt x="912" y="3075"/>
                  </a:lnTo>
                  <a:lnTo>
                    <a:pt x="868" y="3046"/>
                  </a:lnTo>
                  <a:lnTo>
                    <a:pt x="825" y="3016"/>
                  </a:lnTo>
                  <a:lnTo>
                    <a:pt x="784" y="2983"/>
                  </a:lnTo>
                  <a:lnTo>
                    <a:pt x="744" y="2948"/>
                  </a:lnTo>
                  <a:lnTo>
                    <a:pt x="705" y="2910"/>
                  </a:lnTo>
                  <a:lnTo>
                    <a:pt x="669" y="2871"/>
                  </a:lnTo>
                  <a:lnTo>
                    <a:pt x="634" y="2829"/>
                  </a:lnTo>
                  <a:lnTo>
                    <a:pt x="600" y="2786"/>
                  </a:lnTo>
                  <a:lnTo>
                    <a:pt x="569" y="2740"/>
                  </a:lnTo>
                  <a:lnTo>
                    <a:pt x="540" y="2694"/>
                  </a:lnTo>
                  <a:lnTo>
                    <a:pt x="512" y="2644"/>
                  </a:lnTo>
                  <a:lnTo>
                    <a:pt x="486" y="2594"/>
                  </a:lnTo>
                  <a:lnTo>
                    <a:pt x="463" y="2542"/>
                  </a:lnTo>
                  <a:lnTo>
                    <a:pt x="442" y="2489"/>
                  </a:lnTo>
                  <a:lnTo>
                    <a:pt x="422" y="2434"/>
                  </a:lnTo>
                  <a:lnTo>
                    <a:pt x="406" y="2379"/>
                  </a:lnTo>
                  <a:lnTo>
                    <a:pt x="392" y="2322"/>
                  </a:lnTo>
                  <a:lnTo>
                    <a:pt x="379" y="2264"/>
                  </a:lnTo>
                  <a:lnTo>
                    <a:pt x="370" y="2205"/>
                  </a:lnTo>
                  <a:lnTo>
                    <a:pt x="362" y="2144"/>
                  </a:lnTo>
                  <a:lnTo>
                    <a:pt x="358" y="2085"/>
                  </a:lnTo>
                  <a:lnTo>
                    <a:pt x="356" y="2023"/>
                  </a:lnTo>
                  <a:lnTo>
                    <a:pt x="357" y="1961"/>
                  </a:lnTo>
                  <a:lnTo>
                    <a:pt x="361" y="1898"/>
                  </a:lnTo>
                  <a:lnTo>
                    <a:pt x="367" y="1836"/>
                  </a:lnTo>
                  <a:lnTo>
                    <a:pt x="376" y="1776"/>
                  </a:lnTo>
                  <a:lnTo>
                    <a:pt x="387" y="1716"/>
                  </a:lnTo>
                  <a:lnTo>
                    <a:pt x="402" y="1657"/>
                  </a:lnTo>
                  <a:lnTo>
                    <a:pt x="418" y="1599"/>
                  </a:lnTo>
                  <a:lnTo>
                    <a:pt x="437" y="1544"/>
                  </a:lnTo>
                  <a:lnTo>
                    <a:pt x="459" y="1489"/>
                  </a:lnTo>
                  <a:lnTo>
                    <a:pt x="482" y="1436"/>
                  </a:lnTo>
                  <a:lnTo>
                    <a:pt x="507" y="1383"/>
                  </a:lnTo>
                  <a:lnTo>
                    <a:pt x="534" y="1333"/>
                  </a:lnTo>
                  <a:lnTo>
                    <a:pt x="564" y="1284"/>
                  </a:lnTo>
                  <a:lnTo>
                    <a:pt x="595" y="1237"/>
                  </a:lnTo>
                  <a:lnTo>
                    <a:pt x="629" y="1192"/>
                  </a:lnTo>
                  <a:lnTo>
                    <a:pt x="663" y="1148"/>
                  </a:lnTo>
                  <a:lnTo>
                    <a:pt x="700" y="1107"/>
                  </a:lnTo>
                  <a:lnTo>
                    <a:pt x="739" y="1067"/>
                  </a:lnTo>
                  <a:lnTo>
                    <a:pt x="778" y="1030"/>
                  </a:lnTo>
                  <a:lnTo>
                    <a:pt x="820" y="995"/>
                  </a:lnTo>
                  <a:lnTo>
                    <a:pt x="862" y="961"/>
                  </a:lnTo>
                  <a:lnTo>
                    <a:pt x="906" y="931"/>
                  </a:lnTo>
                  <a:lnTo>
                    <a:pt x="951" y="902"/>
                  </a:lnTo>
                  <a:lnTo>
                    <a:pt x="997" y="876"/>
                  </a:lnTo>
                  <a:lnTo>
                    <a:pt x="1044" y="853"/>
                  </a:lnTo>
                  <a:lnTo>
                    <a:pt x="1093" y="832"/>
                  </a:lnTo>
                  <a:lnTo>
                    <a:pt x="1142" y="814"/>
                  </a:lnTo>
                  <a:lnTo>
                    <a:pt x="1192" y="798"/>
                  </a:lnTo>
                  <a:lnTo>
                    <a:pt x="1243" y="786"/>
                  </a:lnTo>
                  <a:lnTo>
                    <a:pt x="1294" y="776"/>
                  </a:lnTo>
                  <a:lnTo>
                    <a:pt x="1346" y="769"/>
                  </a:lnTo>
                  <a:lnTo>
                    <a:pt x="1399" y="766"/>
                  </a:lnTo>
                  <a:lnTo>
                    <a:pt x="1452" y="766"/>
                  </a:lnTo>
                  <a:lnTo>
                    <a:pt x="1506" y="768"/>
                  </a:lnTo>
                  <a:lnTo>
                    <a:pt x="1520" y="769"/>
                  </a:lnTo>
                  <a:lnTo>
                    <a:pt x="1533" y="770"/>
                  </a:lnTo>
                  <a:lnTo>
                    <a:pt x="1547" y="771"/>
                  </a:lnTo>
                  <a:lnTo>
                    <a:pt x="1561" y="772"/>
                  </a:lnTo>
                  <a:lnTo>
                    <a:pt x="1574" y="773"/>
                  </a:lnTo>
                  <a:lnTo>
                    <a:pt x="1587" y="774"/>
                  </a:lnTo>
                  <a:lnTo>
                    <a:pt x="1598" y="775"/>
                  </a:lnTo>
                  <a:lnTo>
                    <a:pt x="1610" y="776"/>
                  </a:lnTo>
                  <a:lnTo>
                    <a:pt x="1578" y="1168"/>
                  </a:lnTo>
                  <a:lnTo>
                    <a:pt x="2795" y="675"/>
                  </a:lnTo>
                  <a:lnTo>
                    <a:pt x="1673" y="0"/>
                  </a:lnTo>
                  <a:lnTo>
                    <a:pt x="1643" y="36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3016080" y="2514600"/>
              <a:ext cx="887760" cy="1149480"/>
            </a:xfrm>
            <a:custGeom>
              <a:avLst/>
              <a:gdLst/>
              <a:ahLst/>
              <a:rect l="l" t="t" r="r" b="b"/>
              <a:pathLst>
                <a:path w="2795" h="3621">
                  <a:moveTo>
                    <a:pt x="1643" y="364"/>
                  </a:moveTo>
                  <a:lnTo>
                    <a:pt x="1632" y="363"/>
                  </a:lnTo>
                  <a:lnTo>
                    <a:pt x="1620" y="361"/>
                  </a:lnTo>
                  <a:lnTo>
                    <a:pt x="1608" y="360"/>
                  </a:lnTo>
                  <a:lnTo>
                    <a:pt x="1594" y="359"/>
                  </a:lnTo>
                  <a:lnTo>
                    <a:pt x="1580" y="358"/>
                  </a:lnTo>
                  <a:lnTo>
                    <a:pt x="1567" y="357"/>
                  </a:lnTo>
                  <a:lnTo>
                    <a:pt x="1553" y="356"/>
                  </a:lnTo>
                  <a:lnTo>
                    <a:pt x="1540" y="355"/>
                  </a:lnTo>
                  <a:lnTo>
                    <a:pt x="1467" y="351"/>
                  </a:lnTo>
                  <a:lnTo>
                    <a:pt x="1396" y="352"/>
                  </a:lnTo>
                  <a:lnTo>
                    <a:pt x="1325" y="356"/>
                  </a:lnTo>
                  <a:lnTo>
                    <a:pt x="1255" y="366"/>
                  </a:lnTo>
                  <a:lnTo>
                    <a:pt x="1186" y="378"/>
                  </a:lnTo>
                  <a:lnTo>
                    <a:pt x="1118" y="395"/>
                  </a:lnTo>
                  <a:lnTo>
                    <a:pt x="1051" y="415"/>
                  </a:lnTo>
                  <a:lnTo>
                    <a:pt x="985" y="439"/>
                  </a:lnTo>
                  <a:lnTo>
                    <a:pt x="920" y="466"/>
                  </a:lnTo>
                  <a:lnTo>
                    <a:pt x="857" y="498"/>
                  </a:lnTo>
                  <a:lnTo>
                    <a:pt x="796" y="533"/>
                  </a:lnTo>
                  <a:lnTo>
                    <a:pt x="735" y="570"/>
                  </a:lnTo>
                  <a:lnTo>
                    <a:pt x="676" y="611"/>
                  </a:lnTo>
                  <a:lnTo>
                    <a:pt x="619" y="655"/>
                  </a:lnTo>
                  <a:lnTo>
                    <a:pt x="564" y="703"/>
                  </a:lnTo>
                  <a:lnTo>
                    <a:pt x="511" y="752"/>
                  </a:lnTo>
                  <a:lnTo>
                    <a:pt x="460" y="805"/>
                  </a:lnTo>
                  <a:lnTo>
                    <a:pt x="410" y="860"/>
                  </a:lnTo>
                  <a:lnTo>
                    <a:pt x="364" y="919"/>
                  </a:lnTo>
                  <a:lnTo>
                    <a:pt x="320" y="979"/>
                  </a:lnTo>
                  <a:lnTo>
                    <a:pt x="278" y="1042"/>
                  </a:lnTo>
                  <a:lnTo>
                    <a:pt x="238" y="1108"/>
                  </a:lnTo>
                  <a:lnTo>
                    <a:pt x="202" y="1175"/>
                  </a:lnTo>
                  <a:lnTo>
                    <a:pt x="168" y="1246"/>
                  </a:lnTo>
                  <a:lnTo>
                    <a:pt x="137" y="1317"/>
                  </a:lnTo>
                  <a:lnTo>
                    <a:pt x="108" y="1390"/>
                  </a:lnTo>
                  <a:lnTo>
                    <a:pt x="83" y="1466"/>
                  </a:lnTo>
                  <a:lnTo>
                    <a:pt x="61" y="1544"/>
                  </a:lnTo>
                  <a:lnTo>
                    <a:pt x="42" y="1623"/>
                  </a:lnTo>
                  <a:lnTo>
                    <a:pt x="26" y="1703"/>
                  </a:lnTo>
                  <a:lnTo>
                    <a:pt x="15" y="1785"/>
                  </a:lnTo>
                  <a:lnTo>
                    <a:pt x="5" y="1869"/>
                  </a:lnTo>
                  <a:lnTo>
                    <a:pt x="1" y="1953"/>
                  </a:lnTo>
                  <a:lnTo>
                    <a:pt x="0" y="2036"/>
                  </a:lnTo>
                  <a:lnTo>
                    <a:pt x="2" y="2118"/>
                  </a:lnTo>
                  <a:lnTo>
                    <a:pt x="9" y="2200"/>
                  </a:lnTo>
                  <a:lnTo>
                    <a:pt x="18" y="2280"/>
                  </a:lnTo>
                  <a:lnTo>
                    <a:pt x="31" y="2359"/>
                  </a:lnTo>
                  <a:lnTo>
                    <a:pt x="46" y="2436"/>
                  </a:lnTo>
                  <a:lnTo>
                    <a:pt x="65" y="2513"/>
                  </a:lnTo>
                  <a:lnTo>
                    <a:pt x="88" y="2587"/>
                  </a:lnTo>
                  <a:lnTo>
                    <a:pt x="113" y="2660"/>
                  </a:lnTo>
                  <a:lnTo>
                    <a:pt x="142" y="2731"/>
                  </a:lnTo>
                  <a:lnTo>
                    <a:pt x="173" y="2801"/>
                  </a:lnTo>
                  <a:lnTo>
                    <a:pt x="207" y="2869"/>
                  </a:lnTo>
                  <a:lnTo>
                    <a:pt x="244" y="2934"/>
                  </a:lnTo>
                  <a:lnTo>
                    <a:pt x="283" y="2997"/>
                  </a:lnTo>
                  <a:lnTo>
                    <a:pt x="325" y="3058"/>
                  </a:lnTo>
                  <a:lnTo>
                    <a:pt x="370" y="3116"/>
                  </a:lnTo>
                  <a:lnTo>
                    <a:pt x="417" y="3171"/>
                  </a:lnTo>
                  <a:lnTo>
                    <a:pt x="466" y="3225"/>
                  </a:lnTo>
                  <a:lnTo>
                    <a:pt x="517" y="3275"/>
                  </a:lnTo>
                  <a:lnTo>
                    <a:pt x="571" y="3322"/>
                  </a:lnTo>
                  <a:lnTo>
                    <a:pt x="627" y="3367"/>
                  </a:lnTo>
                  <a:lnTo>
                    <a:pt x="684" y="3408"/>
                  </a:lnTo>
                  <a:lnTo>
                    <a:pt x="743" y="3445"/>
                  </a:lnTo>
                  <a:lnTo>
                    <a:pt x="804" y="3480"/>
                  </a:lnTo>
                  <a:lnTo>
                    <a:pt x="867" y="3511"/>
                  </a:lnTo>
                  <a:lnTo>
                    <a:pt x="932" y="3539"/>
                  </a:lnTo>
                  <a:lnTo>
                    <a:pt x="998" y="3563"/>
                  </a:lnTo>
                  <a:lnTo>
                    <a:pt x="1065" y="3583"/>
                  </a:lnTo>
                  <a:lnTo>
                    <a:pt x="1134" y="3599"/>
                  </a:lnTo>
                  <a:lnTo>
                    <a:pt x="1205" y="3611"/>
                  </a:lnTo>
                  <a:lnTo>
                    <a:pt x="1277" y="3619"/>
                  </a:lnTo>
                  <a:lnTo>
                    <a:pt x="1279" y="3620"/>
                  </a:lnTo>
                  <a:lnTo>
                    <a:pt x="1282" y="3620"/>
                  </a:lnTo>
                  <a:lnTo>
                    <a:pt x="1286" y="3620"/>
                  </a:lnTo>
                  <a:lnTo>
                    <a:pt x="1288" y="3620"/>
                  </a:lnTo>
                  <a:lnTo>
                    <a:pt x="1291" y="3620"/>
                  </a:lnTo>
                  <a:lnTo>
                    <a:pt x="1293" y="3621"/>
                  </a:lnTo>
                  <a:lnTo>
                    <a:pt x="1296" y="3621"/>
                  </a:lnTo>
                  <a:lnTo>
                    <a:pt x="1298" y="3621"/>
                  </a:lnTo>
                  <a:lnTo>
                    <a:pt x="1332" y="3198"/>
                  </a:lnTo>
                  <a:lnTo>
                    <a:pt x="1330" y="3201"/>
                  </a:lnTo>
                  <a:lnTo>
                    <a:pt x="1327" y="3202"/>
                  </a:lnTo>
                  <a:lnTo>
                    <a:pt x="1324" y="3203"/>
                  </a:lnTo>
                  <a:lnTo>
                    <a:pt x="1321" y="3204"/>
                  </a:lnTo>
                  <a:lnTo>
                    <a:pt x="1318" y="3204"/>
                  </a:lnTo>
                  <a:lnTo>
                    <a:pt x="1316" y="3204"/>
                  </a:lnTo>
                  <a:lnTo>
                    <a:pt x="1313" y="3204"/>
                  </a:lnTo>
                  <a:lnTo>
                    <a:pt x="1310" y="3204"/>
                  </a:lnTo>
                  <a:lnTo>
                    <a:pt x="1256" y="3198"/>
                  </a:lnTo>
                  <a:lnTo>
                    <a:pt x="1205" y="3189"/>
                  </a:lnTo>
                  <a:lnTo>
                    <a:pt x="1153" y="3178"/>
                  </a:lnTo>
                  <a:lnTo>
                    <a:pt x="1103" y="3162"/>
                  </a:lnTo>
                  <a:lnTo>
                    <a:pt x="1053" y="3144"/>
                  </a:lnTo>
                  <a:lnTo>
                    <a:pt x="1005" y="3124"/>
                  </a:lnTo>
                  <a:lnTo>
                    <a:pt x="958" y="3101"/>
                  </a:lnTo>
                  <a:lnTo>
                    <a:pt x="912" y="3075"/>
                  </a:lnTo>
                  <a:lnTo>
                    <a:pt x="868" y="3046"/>
                  </a:lnTo>
                  <a:lnTo>
                    <a:pt x="825" y="3016"/>
                  </a:lnTo>
                  <a:lnTo>
                    <a:pt x="784" y="2983"/>
                  </a:lnTo>
                  <a:lnTo>
                    <a:pt x="744" y="2948"/>
                  </a:lnTo>
                  <a:lnTo>
                    <a:pt x="705" y="2910"/>
                  </a:lnTo>
                  <a:lnTo>
                    <a:pt x="669" y="2871"/>
                  </a:lnTo>
                  <a:lnTo>
                    <a:pt x="634" y="2829"/>
                  </a:lnTo>
                  <a:lnTo>
                    <a:pt x="600" y="2786"/>
                  </a:lnTo>
                  <a:lnTo>
                    <a:pt x="569" y="2740"/>
                  </a:lnTo>
                  <a:lnTo>
                    <a:pt x="540" y="2694"/>
                  </a:lnTo>
                  <a:lnTo>
                    <a:pt x="512" y="2644"/>
                  </a:lnTo>
                  <a:lnTo>
                    <a:pt x="486" y="2594"/>
                  </a:lnTo>
                  <a:lnTo>
                    <a:pt x="463" y="2542"/>
                  </a:lnTo>
                  <a:lnTo>
                    <a:pt x="442" y="2489"/>
                  </a:lnTo>
                  <a:lnTo>
                    <a:pt x="422" y="2434"/>
                  </a:lnTo>
                  <a:lnTo>
                    <a:pt x="406" y="2379"/>
                  </a:lnTo>
                  <a:lnTo>
                    <a:pt x="392" y="2322"/>
                  </a:lnTo>
                  <a:lnTo>
                    <a:pt x="379" y="2264"/>
                  </a:lnTo>
                  <a:lnTo>
                    <a:pt x="370" y="2205"/>
                  </a:lnTo>
                  <a:lnTo>
                    <a:pt x="362" y="2144"/>
                  </a:lnTo>
                  <a:lnTo>
                    <a:pt x="358" y="2085"/>
                  </a:lnTo>
                  <a:lnTo>
                    <a:pt x="356" y="2023"/>
                  </a:lnTo>
                  <a:lnTo>
                    <a:pt x="357" y="1961"/>
                  </a:lnTo>
                  <a:lnTo>
                    <a:pt x="361" y="1898"/>
                  </a:lnTo>
                  <a:lnTo>
                    <a:pt x="367" y="1836"/>
                  </a:lnTo>
                  <a:lnTo>
                    <a:pt x="376" y="1776"/>
                  </a:lnTo>
                  <a:lnTo>
                    <a:pt x="387" y="1716"/>
                  </a:lnTo>
                  <a:lnTo>
                    <a:pt x="402" y="1657"/>
                  </a:lnTo>
                  <a:lnTo>
                    <a:pt x="418" y="1599"/>
                  </a:lnTo>
                  <a:lnTo>
                    <a:pt x="437" y="1544"/>
                  </a:lnTo>
                  <a:lnTo>
                    <a:pt x="459" y="1489"/>
                  </a:lnTo>
                  <a:lnTo>
                    <a:pt x="482" y="1436"/>
                  </a:lnTo>
                  <a:lnTo>
                    <a:pt x="507" y="1383"/>
                  </a:lnTo>
                  <a:lnTo>
                    <a:pt x="534" y="1333"/>
                  </a:lnTo>
                  <a:lnTo>
                    <a:pt x="564" y="1284"/>
                  </a:lnTo>
                  <a:lnTo>
                    <a:pt x="595" y="1237"/>
                  </a:lnTo>
                  <a:lnTo>
                    <a:pt x="629" y="1192"/>
                  </a:lnTo>
                  <a:lnTo>
                    <a:pt x="663" y="1148"/>
                  </a:lnTo>
                  <a:lnTo>
                    <a:pt x="700" y="1107"/>
                  </a:lnTo>
                  <a:lnTo>
                    <a:pt x="739" y="1067"/>
                  </a:lnTo>
                  <a:lnTo>
                    <a:pt x="778" y="1030"/>
                  </a:lnTo>
                  <a:lnTo>
                    <a:pt x="820" y="995"/>
                  </a:lnTo>
                  <a:lnTo>
                    <a:pt x="862" y="961"/>
                  </a:lnTo>
                  <a:lnTo>
                    <a:pt x="906" y="931"/>
                  </a:lnTo>
                  <a:lnTo>
                    <a:pt x="951" y="902"/>
                  </a:lnTo>
                  <a:lnTo>
                    <a:pt x="997" y="876"/>
                  </a:lnTo>
                  <a:lnTo>
                    <a:pt x="1044" y="853"/>
                  </a:lnTo>
                  <a:lnTo>
                    <a:pt x="1093" y="832"/>
                  </a:lnTo>
                  <a:lnTo>
                    <a:pt x="1142" y="814"/>
                  </a:lnTo>
                  <a:lnTo>
                    <a:pt x="1192" y="798"/>
                  </a:lnTo>
                  <a:lnTo>
                    <a:pt x="1243" y="786"/>
                  </a:lnTo>
                  <a:lnTo>
                    <a:pt x="1294" y="776"/>
                  </a:lnTo>
                  <a:lnTo>
                    <a:pt x="1346" y="769"/>
                  </a:lnTo>
                  <a:lnTo>
                    <a:pt x="1399" y="766"/>
                  </a:lnTo>
                  <a:lnTo>
                    <a:pt x="1452" y="766"/>
                  </a:lnTo>
                  <a:lnTo>
                    <a:pt x="1506" y="768"/>
                  </a:lnTo>
                  <a:lnTo>
                    <a:pt x="1520" y="769"/>
                  </a:lnTo>
                  <a:lnTo>
                    <a:pt x="1533" y="770"/>
                  </a:lnTo>
                  <a:lnTo>
                    <a:pt x="1547" y="771"/>
                  </a:lnTo>
                  <a:lnTo>
                    <a:pt x="1561" y="772"/>
                  </a:lnTo>
                  <a:lnTo>
                    <a:pt x="1574" y="773"/>
                  </a:lnTo>
                  <a:lnTo>
                    <a:pt x="1587" y="774"/>
                  </a:lnTo>
                  <a:lnTo>
                    <a:pt x="1598" y="775"/>
                  </a:lnTo>
                  <a:lnTo>
                    <a:pt x="1610" y="776"/>
                  </a:lnTo>
                  <a:lnTo>
                    <a:pt x="1578" y="1168"/>
                  </a:lnTo>
                  <a:lnTo>
                    <a:pt x="2795" y="675"/>
                  </a:lnTo>
                  <a:lnTo>
                    <a:pt x="1673" y="0"/>
                  </a:lnTo>
                  <a:lnTo>
                    <a:pt x="1643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3481560" y="3913200"/>
              <a:ext cx="1203120" cy="1098360"/>
            </a:xfrm>
            <a:custGeom>
              <a:avLst/>
              <a:gdLst/>
              <a:ahLst/>
              <a:rect l="l" t="t" r="r" b="b"/>
              <a:pathLst>
                <a:path w="3787" h="3462">
                  <a:moveTo>
                    <a:pt x="382" y="1152"/>
                  </a:moveTo>
                  <a:lnTo>
                    <a:pt x="378" y="1163"/>
                  </a:lnTo>
                  <a:lnTo>
                    <a:pt x="374" y="1176"/>
                  </a:lnTo>
                  <a:lnTo>
                    <a:pt x="368" y="1190"/>
                  </a:lnTo>
                  <a:lnTo>
                    <a:pt x="364" y="1203"/>
                  </a:lnTo>
                  <a:lnTo>
                    <a:pt x="359" y="1218"/>
                  </a:lnTo>
                  <a:lnTo>
                    <a:pt x="354" y="1233"/>
                  </a:lnTo>
                  <a:lnTo>
                    <a:pt x="348" y="1247"/>
                  </a:lnTo>
                  <a:lnTo>
                    <a:pt x="343" y="1262"/>
                  </a:lnTo>
                  <a:lnTo>
                    <a:pt x="319" y="1338"/>
                  </a:lnTo>
                  <a:lnTo>
                    <a:pt x="299" y="1415"/>
                  </a:lnTo>
                  <a:lnTo>
                    <a:pt x="284" y="1492"/>
                  </a:lnTo>
                  <a:lnTo>
                    <a:pt x="274" y="1571"/>
                  </a:lnTo>
                  <a:lnTo>
                    <a:pt x="268" y="1649"/>
                  </a:lnTo>
                  <a:lnTo>
                    <a:pt x="267" y="1726"/>
                  </a:lnTo>
                  <a:lnTo>
                    <a:pt x="269" y="1805"/>
                  </a:lnTo>
                  <a:lnTo>
                    <a:pt x="276" y="1883"/>
                  </a:lnTo>
                  <a:lnTo>
                    <a:pt x="288" y="1960"/>
                  </a:lnTo>
                  <a:lnTo>
                    <a:pt x="303" y="2037"/>
                  </a:lnTo>
                  <a:lnTo>
                    <a:pt x="322" y="2114"/>
                  </a:lnTo>
                  <a:lnTo>
                    <a:pt x="346" y="2189"/>
                  </a:lnTo>
                  <a:lnTo>
                    <a:pt x="374" y="2264"/>
                  </a:lnTo>
                  <a:lnTo>
                    <a:pt x="405" y="2338"/>
                  </a:lnTo>
                  <a:lnTo>
                    <a:pt x="440" y="2411"/>
                  </a:lnTo>
                  <a:lnTo>
                    <a:pt x="479" y="2482"/>
                  </a:lnTo>
                  <a:lnTo>
                    <a:pt x="521" y="2553"/>
                  </a:lnTo>
                  <a:lnTo>
                    <a:pt x="567" y="2621"/>
                  </a:lnTo>
                  <a:lnTo>
                    <a:pt x="615" y="2688"/>
                  </a:lnTo>
                  <a:lnTo>
                    <a:pt x="668" y="2752"/>
                  </a:lnTo>
                  <a:lnTo>
                    <a:pt x="724" y="2816"/>
                  </a:lnTo>
                  <a:lnTo>
                    <a:pt x="783" y="2877"/>
                  </a:lnTo>
                  <a:lnTo>
                    <a:pt x="846" y="2936"/>
                  </a:lnTo>
                  <a:lnTo>
                    <a:pt x="911" y="2992"/>
                  </a:lnTo>
                  <a:lnTo>
                    <a:pt x="979" y="3046"/>
                  </a:lnTo>
                  <a:lnTo>
                    <a:pt x="1050" y="3098"/>
                  </a:lnTo>
                  <a:lnTo>
                    <a:pt x="1125" y="3146"/>
                  </a:lnTo>
                  <a:lnTo>
                    <a:pt x="1202" y="3192"/>
                  </a:lnTo>
                  <a:lnTo>
                    <a:pt x="1281" y="3235"/>
                  </a:lnTo>
                  <a:lnTo>
                    <a:pt x="1364" y="3274"/>
                  </a:lnTo>
                  <a:lnTo>
                    <a:pt x="1449" y="3311"/>
                  </a:lnTo>
                  <a:lnTo>
                    <a:pt x="1536" y="3343"/>
                  </a:lnTo>
                  <a:lnTo>
                    <a:pt x="1624" y="3373"/>
                  </a:lnTo>
                  <a:lnTo>
                    <a:pt x="1714" y="3398"/>
                  </a:lnTo>
                  <a:lnTo>
                    <a:pt x="1803" y="3419"/>
                  </a:lnTo>
                  <a:lnTo>
                    <a:pt x="1892" y="3435"/>
                  </a:lnTo>
                  <a:lnTo>
                    <a:pt x="1981" y="3448"/>
                  </a:lnTo>
                  <a:lnTo>
                    <a:pt x="2069" y="3457"/>
                  </a:lnTo>
                  <a:lnTo>
                    <a:pt x="2157" y="3461"/>
                  </a:lnTo>
                  <a:lnTo>
                    <a:pt x="2246" y="3462"/>
                  </a:lnTo>
                  <a:lnTo>
                    <a:pt x="2332" y="3459"/>
                  </a:lnTo>
                  <a:lnTo>
                    <a:pt x="2418" y="3452"/>
                  </a:lnTo>
                  <a:lnTo>
                    <a:pt x="2503" y="3442"/>
                  </a:lnTo>
                  <a:lnTo>
                    <a:pt x="2586" y="3428"/>
                  </a:lnTo>
                  <a:lnTo>
                    <a:pt x="2669" y="3410"/>
                  </a:lnTo>
                  <a:lnTo>
                    <a:pt x="2748" y="3389"/>
                  </a:lnTo>
                  <a:lnTo>
                    <a:pt x="2828" y="3365"/>
                  </a:lnTo>
                  <a:lnTo>
                    <a:pt x="2905" y="3337"/>
                  </a:lnTo>
                  <a:lnTo>
                    <a:pt x="2980" y="3305"/>
                  </a:lnTo>
                  <a:lnTo>
                    <a:pt x="3054" y="3272"/>
                  </a:lnTo>
                  <a:lnTo>
                    <a:pt x="3125" y="3234"/>
                  </a:lnTo>
                  <a:lnTo>
                    <a:pt x="3193" y="3192"/>
                  </a:lnTo>
                  <a:lnTo>
                    <a:pt x="3259" y="3148"/>
                  </a:lnTo>
                  <a:lnTo>
                    <a:pt x="3323" y="3101"/>
                  </a:lnTo>
                  <a:lnTo>
                    <a:pt x="3384" y="3051"/>
                  </a:lnTo>
                  <a:lnTo>
                    <a:pt x="3442" y="2998"/>
                  </a:lnTo>
                  <a:lnTo>
                    <a:pt x="3496" y="2942"/>
                  </a:lnTo>
                  <a:lnTo>
                    <a:pt x="3548" y="2882"/>
                  </a:lnTo>
                  <a:lnTo>
                    <a:pt x="3595" y="2821"/>
                  </a:lnTo>
                  <a:lnTo>
                    <a:pt x="3640" y="2756"/>
                  </a:lnTo>
                  <a:lnTo>
                    <a:pt x="3681" y="2689"/>
                  </a:lnTo>
                  <a:lnTo>
                    <a:pt x="3718" y="2620"/>
                  </a:lnTo>
                  <a:lnTo>
                    <a:pt x="3750" y="2547"/>
                  </a:lnTo>
                  <a:lnTo>
                    <a:pt x="3780" y="2473"/>
                  </a:lnTo>
                  <a:lnTo>
                    <a:pt x="3781" y="2470"/>
                  </a:lnTo>
                  <a:lnTo>
                    <a:pt x="3782" y="2467"/>
                  </a:lnTo>
                  <a:lnTo>
                    <a:pt x="3783" y="2463"/>
                  </a:lnTo>
                  <a:lnTo>
                    <a:pt x="3784" y="2460"/>
                  </a:lnTo>
                  <a:lnTo>
                    <a:pt x="3785" y="2458"/>
                  </a:lnTo>
                  <a:lnTo>
                    <a:pt x="3786" y="2455"/>
                  </a:lnTo>
                  <a:lnTo>
                    <a:pt x="3787" y="2453"/>
                  </a:lnTo>
                  <a:lnTo>
                    <a:pt x="3787" y="2450"/>
                  </a:lnTo>
                  <a:lnTo>
                    <a:pt x="3342" y="2293"/>
                  </a:lnTo>
                  <a:lnTo>
                    <a:pt x="3344" y="2296"/>
                  </a:lnTo>
                  <a:lnTo>
                    <a:pt x="3345" y="2300"/>
                  </a:lnTo>
                  <a:lnTo>
                    <a:pt x="3345" y="2303"/>
                  </a:lnTo>
                  <a:lnTo>
                    <a:pt x="3346" y="2306"/>
                  </a:lnTo>
                  <a:lnTo>
                    <a:pt x="3345" y="2309"/>
                  </a:lnTo>
                  <a:lnTo>
                    <a:pt x="3344" y="2312"/>
                  </a:lnTo>
                  <a:lnTo>
                    <a:pt x="3343" y="2315"/>
                  </a:lnTo>
                  <a:lnTo>
                    <a:pt x="3343" y="2318"/>
                  </a:lnTo>
                  <a:lnTo>
                    <a:pt x="3321" y="2374"/>
                  </a:lnTo>
                  <a:lnTo>
                    <a:pt x="3297" y="2429"/>
                  </a:lnTo>
                  <a:lnTo>
                    <a:pt x="3269" y="2480"/>
                  </a:lnTo>
                  <a:lnTo>
                    <a:pt x="3238" y="2531"/>
                  </a:lnTo>
                  <a:lnTo>
                    <a:pt x="3206" y="2578"/>
                  </a:lnTo>
                  <a:lnTo>
                    <a:pt x="3170" y="2624"/>
                  </a:lnTo>
                  <a:lnTo>
                    <a:pt x="3131" y="2668"/>
                  </a:lnTo>
                  <a:lnTo>
                    <a:pt x="3090" y="2710"/>
                  </a:lnTo>
                  <a:lnTo>
                    <a:pt x="3047" y="2750"/>
                  </a:lnTo>
                  <a:lnTo>
                    <a:pt x="3002" y="2788"/>
                  </a:lnTo>
                  <a:lnTo>
                    <a:pt x="2955" y="2822"/>
                  </a:lnTo>
                  <a:lnTo>
                    <a:pt x="2906" y="2856"/>
                  </a:lnTo>
                  <a:lnTo>
                    <a:pt x="2854" y="2887"/>
                  </a:lnTo>
                  <a:lnTo>
                    <a:pt x="2802" y="2915"/>
                  </a:lnTo>
                  <a:lnTo>
                    <a:pt x="2747" y="2941"/>
                  </a:lnTo>
                  <a:lnTo>
                    <a:pt x="2691" y="2964"/>
                  </a:lnTo>
                  <a:lnTo>
                    <a:pt x="2633" y="2985"/>
                  </a:lnTo>
                  <a:lnTo>
                    <a:pt x="2574" y="3003"/>
                  </a:lnTo>
                  <a:lnTo>
                    <a:pt x="2514" y="3019"/>
                  </a:lnTo>
                  <a:lnTo>
                    <a:pt x="2452" y="3032"/>
                  </a:lnTo>
                  <a:lnTo>
                    <a:pt x="2390" y="3043"/>
                  </a:lnTo>
                  <a:lnTo>
                    <a:pt x="2326" y="3050"/>
                  </a:lnTo>
                  <a:lnTo>
                    <a:pt x="2262" y="3056"/>
                  </a:lnTo>
                  <a:lnTo>
                    <a:pt x="2198" y="3058"/>
                  </a:lnTo>
                  <a:lnTo>
                    <a:pt x="2132" y="3058"/>
                  </a:lnTo>
                  <a:lnTo>
                    <a:pt x="2066" y="3053"/>
                  </a:lnTo>
                  <a:lnTo>
                    <a:pt x="2000" y="3047"/>
                  </a:lnTo>
                  <a:lnTo>
                    <a:pt x="1934" y="3038"/>
                  </a:lnTo>
                  <a:lnTo>
                    <a:pt x="1868" y="3025"/>
                  </a:lnTo>
                  <a:lnTo>
                    <a:pt x="1801" y="3010"/>
                  </a:lnTo>
                  <a:lnTo>
                    <a:pt x="1735" y="2992"/>
                  </a:lnTo>
                  <a:lnTo>
                    <a:pt x="1667" y="2969"/>
                  </a:lnTo>
                  <a:lnTo>
                    <a:pt x="1603" y="2945"/>
                  </a:lnTo>
                  <a:lnTo>
                    <a:pt x="1540" y="2918"/>
                  </a:lnTo>
                  <a:lnTo>
                    <a:pt x="1480" y="2889"/>
                  </a:lnTo>
                  <a:lnTo>
                    <a:pt x="1421" y="2857"/>
                  </a:lnTo>
                  <a:lnTo>
                    <a:pt x="1363" y="2822"/>
                  </a:lnTo>
                  <a:lnTo>
                    <a:pt x="1309" y="2787"/>
                  </a:lnTo>
                  <a:lnTo>
                    <a:pt x="1256" y="2748"/>
                  </a:lnTo>
                  <a:lnTo>
                    <a:pt x="1205" y="2708"/>
                  </a:lnTo>
                  <a:lnTo>
                    <a:pt x="1156" y="2666"/>
                  </a:lnTo>
                  <a:lnTo>
                    <a:pt x="1110" y="2622"/>
                  </a:lnTo>
                  <a:lnTo>
                    <a:pt x="1065" y="2576"/>
                  </a:lnTo>
                  <a:lnTo>
                    <a:pt x="1024" y="2528"/>
                  </a:lnTo>
                  <a:lnTo>
                    <a:pt x="984" y="2480"/>
                  </a:lnTo>
                  <a:lnTo>
                    <a:pt x="948" y="2431"/>
                  </a:lnTo>
                  <a:lnTo>
                    <a:pt x="914" y="2379"/>
                  </a:lnTo>
                  <a:lnTo>
                    <a:pt x="881" y="2327"/>
                  </a:lnTo>
                  <a:lnTo>
                    <a:pt x="853" y="2273"/>
                  </a:lnTo>
                  <a:lnTo>
                    <a:pt x="827" y="2219"/>
                  </a:lnTo>
                  <a:lnTo>
                    <a:pt x="803" y="2163"/>
                  </a:lnTo>
                  <a:lnTo>
                    <a:pt x="783" y="2107"/>
                  </a:lnTo>
                  <a:lnTo>
                    <a:pt x="765" y="2051"/>
                  </a:lnTo>
                  <a:lnTo>
                    <a:pt x="750" y="1994"/>
                  </a:lnTo>
                  <a:lnTo>
                    <a:pt x="738" y="1936"/>
                  </a:lnTo>
                  <a:lnTo>
                    <a:pt x="729" y="1879"/>
                  </a:lnTo>
                  <a:lnTo>
                    <a:pt x="724" y="1820"/>
                  </a:lnTo>
                  <a:lnTo>
                    <a:pt x="722" y="1762"/>
                  </a:lnTo>
                  <a:lnTo>
                    <a:pt x="723" y="1703"/>
                  </a:lnTo>
                  <a:lnTo>
                    <a:pt x="727" y="1645"/>
                  </a:lnTo>
                  <a:lnTo>
                    <a:pt x="735" y="1587"/>
                  </a:lnTo>
                  <a:lnTo>
                    <a:pt x="745" y="1529"/>
                  </a:lnTo>
                  <a:lnTo>
                    <a:pt x="760" y="1472"/>
                  </a:lnTo>
                  <a:lnTo>
                    <a:pt x="779" y="1414"/>
                  </a:lnTo>
                  <a:lnTo>
                    <a:pt x="783" y="1401"/>
                  </a:lnTo>
                  <a:lnTo>
                    <a:pt x="788" y="1386"/>
                  </a:lnTo>
                  <a:lnTo>
                    <a:pt x="793" y="1371"/>
                  </a:lnTo>
                  <a:lnTo>
                    <a:pt x="799" y="1357"/>
                  </a:lnTo>
                  <a:lnTo>
                    <a:pt x="804" y="1343"/>
                  </a:lnTo>
                  <a:lnTo>
                    <a:pt x="808" y="1329"/>
                  </a:lnTo>
                  <a:lnTo>
                    <a:pt x="812" y="1317"/>
                  </a:lnTo>
                  <a:lnTo>
                    <a:pt x="816" y="1305"/>
                  </a:lnTo>
                  <a:lnTo>
                    <a:pt x="1230" y="1450"/>
                  </a:lnTo>
                  <a:lnTo>
                    <a:pt x="1045" y="0"/>
                  </a:lnTo>
                  <a:lnTo>
                    <a:pt x="0" y="1018"/>
                  </a:lnTo>
                  <a:lnTo>
                    <a:pt x="382" y="115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3481560" y="3913200"/>
              <a:ext cx="1203120" cy="1098360"/>
            </a:xfrm>
            <a:custGeom>
              <a:avLst/>
              <a:gdLst/>
              <a:ahLst/>
              <a:rect l="l" t="t" r="r" b="b"/>
              <a:pathLst>
                <a:path w="3787" h="3462">
                  <a:moveTo>
                    <a:pt x="382" y="1152"/>
                  </a:moveTo>
                  <a:lnTo>
                    <a:pt x="378" y="1163"/>
                  </a:lnTo>
                  <a:lnTo>
                    <a:pt x="374" y="1176"/>
                  </a:lnTo>
                  <a:lnTo>
                    <a:pt x="368" y="1190"/>
                  </a:lnTo>
                  <a:lnTo>
                    <a:pt x="364" y="1203"/>
                  </a:lnTo>
                  <a:lnTo>
                    <a:pt x="359" y="1218"/>
                  </a:lnTo>
                  <a:lnTo>
                    <a:pt x="354" y="1233"/>
                  </a:lnTo>
                  <a:lnTo>
                    <a:pt x="348" y="1247"/>
                  </a:lnTo>
                  <a:lnTo>
                    <a:pt x="343" y="1262"/>
                  </a:lnTo>
                  <a:lnTo>
                    <a:pt x="319" y="1338"/>
                  </a:lnTo>
                  <a:lnTo>
                    <a:pt x="299" y="1415"/>
                  </a:lnTo>
                  <a:lnTo>
                    <a:pt x="284" y="1492"/>
                  </a:lnTo>
                  <a:lnTo>
                    <a:pt x="274" y="1571"/>
                  </a:lnTo>
                  <a:lnTo>
                    <a:pt x="268" y="1649"/>
                  </a:lnTo>
                  <a:lnTo>
                    <a:pt x="267" y="1726"/>
                  </a:lnTo>
                  <a:lnTo>
                    <a:pt x="269" y="1805"/>
                  </a:lnTo>
                  <a:lnTo>
                    <a:pt x="276" y="1883"/>
                  </a:lnTo>
                  <a:lnTo>
                    <a:pt x="288" y="1960"/>
                  </a:lnTo>
                  <a:lnTo>
                    <a:pt x="303" y="2037"/>
                  </a:lnTo>
                  <a:lnTo>
                    <a:pt x="322" y="2114"/>
                  </a:lnTo>
                  <a:lnTo>
                    <a:pt x="346" y="2189"/>
                  </a:lnTo>
                  <a:lnTo>
                    <a:pt x="374" y="2264"/>
                  </a:lnTo>
                  <a:lnTo>
                    <a:pt x="405" y="2338"/>
                  </a:lnTo>
                  <a:lnTo>
                    <a:pt x="440" y="2411"/>
                  </a:lnTo>
                  <a:lnTo>
                    <a:pt x="479" y="2482"/>
                  </a:lnTo>
                  <a:lnTo>
                    <a:pt x="521" y="2553"/>
                  </a:lnTo>
                  <a:lnTo>
                    <a:pt x="567" y="2621"/>
                  </a:lnTo>
                  <a:lnTo>
                    <a:pt x="615" y="2688"/>
                  </a:lnTo>
                  <a:lnTo>
                    <a:pt x="668" y="2752"/>
                  </a:lnTo>
                  <a:lnTo>
                    <a:pt x="724" y="2816"/>
                  </a:lnTo>
                  <a:lnTo>
                    <a:pt x="783" y="2877"/>
                  </a:lnTo>
                  <a:lnTo>
                    <a:pt x="846" y="2936"/>
                  </a:lnTo>
                  <a:lnTo>
                    <a:pt x="911" y="2992"/>
                  </a:lnTo>
                  <a:lnTo>
                    <a:pt x="979" y="3046"/>
                  </a:lnTo>
                  <a:lnTo>
                    <a:pt x="1050" y="3098"/>
                  </a:lnTo>
                  <a:lnTo>
                    <a:pt x="1125" y="3146"/>
                  </a:lnTo>
                  <a:lnTo>
                    <a:pt x="1202" y="3192"/>
                  </a:lnTo>
                  <a:lnTo>
                    <a:pt x="1281" y="3235"/>
                  </a:lnTo>
                  <a:lnTo>
                    <a:pt x="1364" y="3274"/>
                  </a:lnTo>
                  <a:lnTo>
                    <a:pt x="1449" y="3311"/>
                  </a:lnTo>
                  <a:lnTo>
                    <a:pt x="1536" y="3343"/>
                  </a:lnTo>
                  <a:lnTo>
                    <a:pt x="1624" y="3373"/>
                  </a:lnTo>
                  <a:lnTo>
                    <a:pt x="1714" y="3398"/>
                  </a:lnTo>
                  <a:lnTo>
                    <a:pt x="1803" y="3419"/>
                  </a:lnTo>
                  <a:lnTo>
                    <a:pt x="1892" y="3435"/>
                  </a:lnTo>
                  <a:lnTo>
                    <a:pt x="1981" y="3448"/>
                  </a:lnTo>
                  <a:lnTo>
                    <a:pt x="2069" y="3457"/>
                  </a:lnTo>
                  <a:lnTo>
                    <a:pt x="2157" y="3461"/>
                  </a:lnTo>
                  <a:lnTo>
                    <a:pt x="2246" y="3462"/>
                  </a:lnTo>
                  <a:lnTo>
                    <a:pt x="2332" y="3459"/>
                  </a:lnTo>
                  <a:lnTo>
                    <a:pt x="2418" y="3452"/>
                  </a:lnTo>
                  <a:lnTo>
                    <a:pt x="2503" y="3442"/>
                  </a:lnTo>
                  <a:lnTo>
                    <a:pt x="2586" y="3428"/>
                  </a:lnTo>
                  <a:lnTo>
                    <a:pt x="2669" y="3410"/>
                  </a:lnTo>
                  <a:lnTo>
                    <a:pt x="2748" y="3389"/>
                  </a:lnTo>
                  <a:lnTo>
                    <a:pt x="2828" y="3365"/>
                  </a:lnTo>
                  <a:lnTo>
                    <a:pt x="2905" y="3337"/>
                  </a:lnTo>
                  <a:lnTo>
                    <a:pt x="2980" y="3305"/>
                  </a:lnTo>
                  <a:lnTo>
                    <a:pt x="3054" y="3272"/>
                  </a:lnTo>
                  <a:lnTo>
                    <a:pt x="3125" y="3234"/>
                  </a:lnTo>
                  <a:lnTo>
                    <a:pt x="3193" y="3192"/>
                  </a:lnTo>
                  <a:lnTo>
                    <a:pt x="3259" y="3148"/>
                  </a:lnTo>
                  <a:lnTo>
                    <a:pt x="3323" y="3101"/>
                  </a:lnTo>
                  <a:lnTo>
                    <a:pt x="3384" y="3051"/>
                  </a:lnTo>
                  <a:lnTo>
                    <a:pt x="3442" y="2998"/>
                  </a:lnTo>
                  <a:lnTo>
                    <a:pt x="3496" y="2942"/>
                  </a:lnTo>
                  <a:lnTo>
                    <a:pt x="3548" y="2882"/>
                  </a:lnTo>
                  <a:lnTo>
                    <a:pt x="3595" y="2821"/>
                  </a:lnTo>
                  <a:lnTo>
                    <a:pt x="3640" y="2756"/>
                  </a:lnTo>
                  <a:lnTo>
                    <a:pt x="3681" y="2689"/>
                  </a:lnTo>
                  <a:lnTo>
                    <a:pt x="3718" y="2620"/>
                  </a:lnTo>
                  <a:lnTo>
                    <a:pt x="3750" y="2547"/>
                  </a:lnTo>
                  <a:lnTo>
                    <a:pt x="3780" y="2473"/>
                  </a:lnTo>
                  <a:lnTo>
                    <a:pt x="3781" y="2470"/>
                  </a:lnTo>
                  <a:lnTo>
                    <a:pt x="3782" y="2467"/>
                  </a:lnTo>
                  <a:lnTo>
                    <a:pt x="3783" y="2463"/>
                  </a:lnTo>
                  <a:lnTo>
                    <a:pt x="3784" y="2460"/>
                  </a:lnTo>
                  <a:lnTo>
                    <a:pt x="3785" y="2458"/>
                  </a:lnTo>
                  <a:lnTo>
                    <a:pt x="3786" y="2455"/>
                  </a:lnTo>
                  <a:lnTo>
                    <a:pt x="3787" y="2453"/>
                  </a:lnTo>
                  <a:lnTo>
                    <a:pt x="3787" y="2450"/>
                  </a:lnTo>
                  <a:lnTo>
                    <a:pt x="3342" y="2293"/>
                  </a:lnTo>
                  <a:lnTo>
                    <a:pt x="3344" y="2296"/>
                  </a:lnTo>
                  <a:lnTo>
                    <a:pt x="3345" y="2300"/>
                  </a:lnTo>
                  <a:lnTo>
                    <a:pt x="3345" y="2303"/>
                  </a:lnTo>
                  <a:lnTo>
                    <a:pt x="3346" y="2306"/>
                  </a:lnTo>
                  <a:lnTo>
                    <a:pt x="3345" y="2309"/>
                  </a:lnTo>
                  <a:lnTo>
                    <a:pt x="3344" y="2312"/>
                  </a:lnTo>
                  <a:lnTo>
                    <a:pt x="3343" y="2315"/>
                  </a:lnTo>
                  <a:lnTo>
                    <a:pt x="3343" y="2318"/>
                  </a:lnTo>
                  <a:lnTo>
                    <a:pt x="3321" y="2374"/>
                  </a:lnTo>
                  <a:lnTo>
                    <a:pt x="3297" y="2429"/>
                  </a:lnTo>
                  <a:lnTo>
                    <a:pt x="3269" y="2480"/>
                  </a:lnTo>
                  <a:lnTo>
                    <a:pt x="3238" y="2531"/>
                  </a:lnTo>
                  <a:lnTo>
                    <a:pt x="3206" y="2578"/>
                  </a:lnTo>
                  <a:lnTo>
                    <a:pt x="3170" y="2624"/>
                  </a:lnTo>
                  <a:lnTo>
                    <a:pt x="3131" y="2668"/>
                  </a:lnTo>
                  <a:lnTo>
                    <a:pt x="3090" y="2710"/>
                  </a:lnTo>
                  <a:lnTo>
                    <a:pt x="3047" y="2750"/>
                  </a:lnTo>
                  <a:lnTo>
                    <a:pt x="3002" y="2788"/>
                  </a:lnTo>
                  <a:lnTo>
                    <a:pt x="2955" y="2822"/>
                  </a:lnTo>
                  <a:lnTo>
                    <a:pt x="2906" y="2856"/>
                  </a:lnTo>
                  <a:lnTo>
                    <a:pt x="2854" y="2887"/>
                  </a:lnTo>
                  <a:lnTo>
                    <a:pt x="2802" y="2915"/>
                  </a:lnTo>
                  <a:lnTo>
                    <a:pt x="2747" y="2941"/>
                  </a:lnTo>
                  <a:lnTo>
                    <a:pt x="2691" y="2964"/>
                  </a:lnTo>
                  <a:lnTo>
                    <a:pt x="2633" y="2985"/>
                  </a:lnTo>
                  <a:lnTo>
                    <a:pt x="2574" y="3003"/>
                  </a:lnTo>
                  <a:lnTo>
                    <a:pt x="2514" y="3019"/>
                  </a:lnTo>
                  <a:lnTo>
                    <a:pt x="2452" y="3032"/>
                  </a:lnTo>
                  <a:lnTo>
                    <a:pt x="2390" y="3043"/>
                  </a:lnTo>
                  <a:lnTo>
                    <a:pt x="2326" y="3050"/>
                  </a:lnTo>
                  <a:lnTo>
                    <a:pt x="2262" y="3056"/>
                  </a:lnTo>
                  <a:lnTo>
                    <a:pt x="2198" y="3058"/>
                  </a:lnTo>
                  <a:lnTo>
                    <a:pt x="2132" y="3058"/>
                  </a:lnTo>
                  <a:lnTo>
                    <a:pt x="2066" y="3053"/>
                  </a:lnTo>
                  <a:lnTo>
                    <a:pt x="2000" y="3047"/>
                  </a:lnTo>
                  <a:lnTo>
                    <a:pt x="1934" y="3038"/>
                  </a:lnTo>
                  <a:lnTo>
                    <a:pt x="1868" y="3025"/>
                  </a:lnTo>
                  <a:lnTo>
                    <a:pt x="1801" y="3010"/>
                  </a:lnTo>
                  <a:lnTo>
                    <a:pt x="1735" y="2992"/>
                  </a:lnTo>
                  <a:lnTo>
                    <a:pt x="1667" y="2969"/>
                  </a:lnTo>
                  <a:lnTo>
                    <a:pt x="1603" y="2945"/>
                  </a:lnTo>
                  <a:lnTo>
                    <a:pt x="1540" y="2918"/>
                  </a:lnTo>
                  <a:lnTo>
                    <a:pt x="1480" y="2889"/>
                  </a:lnTo>
                  <a:lnTo>
                    <a:pt x="1421" y="2857"/>
                  </a:lnTo>
                  <a:lnTo>
                    <a:pt x="1363" y="2822"/>
                  </a:lnTo>
                  <a:lnTo>
                    <a:pt x="1309" y="2787"/>
                  </a:lnTo>
                  <a:lnTo>
                    <a:pt x="1256" y="2748"/>
                  </a:lnTo>
                  <a:lnTo>
                    <a:pt x="1205" y="2708"/>
                  </a:lnTo>
                  <a:lnTo>
                    <a:pt x="1156" y="2666"/>
                  </a:lnTo>
                  <a:lnTo>
                    <a:pt x="1110" y="2622"/>
                  </a:lnTo>
                  <a:lnTo>
                    <a:pt x="1065" y="2576"/>
                  </a:lnTo>
                  <a:lnTo>
                    <a:pt x="1024" y="2528"/>
                  </a:lnTo>
                  <a:lnTo>
                    <a:pt x="984" y="2480"/>
                  </a:lnTo>
                  <a:lnTo>
                    <a:pt x="948" y="2431"/>
                  </a:lnTo>
                  <a:lnTo>
                    <a:pt x="914" y="2379"/>
                  </a:lnTo>
                  <a:lnTo>
                    <a:pt x="881" y="2327"/>
                  </a:lnTo>
                  <a:lnTo>
                    <a:pt x="853" y="2273"/>
                  </a:lnTo>
                  <a:lnTo>
                    <a:pt x="827" y="2219"/>
                  </a:lnTo>
                  <a:lnTo>
                    <a:pt x="803" y="2163"/>
                  </a:lnTo>
                  <a:lnTo>
                    <a:pt x="783" y="2107"/>
                  </a:lnTo>
                  <a:lnTo>
                    <a:pt x="765" y="2051"/>
                  </a:lnTo>
                  <a:lnTo>
                    <a:pt x="750" y="1994"/>
                  </a:lnTo>
                  <a:lnTo>
                    <a:pt x="738" y="1936"/>
                  </a:lnTo>
                  <a:lnTo>
                    <a:pt x="729" y="1879"/>
                  </a:lnTo>
                  <a:lnTo>
                    <a:pt x="724" y="1820"/>
                  </a:lnTo>
                  <a:lnTo>
                    <a:pt x="722" y="1762"/>
                  </a:lnTo>
                  <a:lnTo>
                    <a:pt x="723" y="1703"/>
                  </a:lnTo>
                  <a:lnTo>
                    <a:pt x="727" y="1645"/>
                  </a:lnTo>
                  <a:lnTo>
                    <a:pt x="735" y="1587"/>
                  </a:lnTo>
                  <a:lnTo>
                    <a:pt x="745" y="1529"/>
                  </a:lnTo>
                  <a:lnTo>
                    <a:pt x="760" y="1472"/>
                  </a:lnTo>
                  <a:lnTo>
                    <a:pt x="779" y="1414"/>
                  </a:lnTo>
                  <a:lnTo>
                    <a:pt x="783" y="1401"/>
                  </a:lnTo>
                  <a:lnTo>
                    <a:pt x="788" y="1386"/>
                  </a:lnTo>
                  <a:lnTo>
                    <a:pt x="793" y="1371"/>
                  </a:lnTo>
                  <a:lnTo>
                    <a:pt x="799" y="1357"/>
                  </a:lnTo>
                  <a:lnTo>
                    <a:pt x="804" y="1343"/>
                  </a:lnTo>
                  <a:lnTo>
                    <a:pt x="808" y="1329"/>
                  </a:lnTo>
                  <a:lnTo>
                    <a:pt x="812" y="1317"/>
                  </a:lnTo>
                  <a:lnTo>
                    <a:pt x="816" y="1305"/>
                  </a:lnTo>
                  <a:lnTo>
                    <a:pt x="1230" y="1450"/>
                  </a:lnTo>
                  <a:lnTo>
                    <a:pt x="1045" y="0"/>
                  </a:lnTo>
                  <a:lnTo>
                    <a:pt x="0" y="1018"/>
                  </a:lnTo>
                  <a:lnTo>
                    <a:pt x="382" y="115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774880" y="3306600"/>
              <a:ext cx="1351080" cy="1351080"/>
            </a:xfrm>
            <a:custGeom>
              <a:avLst/>
              <a:gdLst/>
              <a:ahLst/>
              <a:rect l="l" t="t" r="r" b="b"/>
              <a:pathLst>
                <a:path w="4251" h="4254">
                  <a:moveTo>
                    <a:pt x="36" y="1740"/>
                  </a:moveTo>
                  <a:lnTo>
                    <a:pt x="58" y="1633"/>
                  </a:lnTo>
                  <a:lnTo>
                    <a:pt x="87" y="1529"/>
                  </a:lnTo>
                  <a:lnTo>
                    <a:pt x="119" y="1426"/>
                  </a:lnTo>
                  <a:lnTo>
                    <a:pt x="157" y="1327"/>
                  </a:lnTo>
                  <a:lnTo>
                    <a:pt x="199" y="1231"/>
                  </a:lnTo>
                  <a:lnTo>
                    <a:pt x="245" y="1136"/>
                  </a:lnTo>
                  <a:lnTo>
                    <a:pt x="296" y="1046"/>
                  </a:lnTo>
                  <a:lnTo>
                    <a:pt x="351" y="958"/>
                  </a:lnTo>
                  <a:lnTo>
                    <a:pt x="410" y="873"/>
                  </a:lnTo>
                  <a:lnTo>
                    <a:pt x="473" y="791"/>
                  </a:lnTo>
                  <a:lnTo>
                    <a:pt x="540" y="713"/>
                  </a:lnTo>
                  <a:lnTo>
                    <a:pt x="610" y="639"/>
                  </a:lnTo>
                  <a:lnTo>
                    <a:pt x="684" y="567"/>
                  </a:lnTo>
                  <a:lnTo>
                    <a:pt x="760" y="500"/>
                  </a:lnTo>
                  <a:lnTo>
                    <a:pt x="840" y="436"/>
                  </a:lnTo>
                  <a:lnTo>
                    <a:pt x="923" y="376"/>
                  </a:lnTo>
                  <a:lnTo>
                    <a:pt x="1009" y="320"/>
                  </a:lnTo>
                  <a:lnTo>
                    <a:pt x="1097" y="268"/>
                  </a:lnTo>
                  <a:lnTo>
                    <a:pt x="1187" y="221"/>
                  </a:lnTo>
                  <a:lnTo>
                    <a:pt x="1280" y="178"/>
                  </a:lnTo>
                  <a:lnTo>
                    <a:pt x="1375" y="139"/>
                  </a:lnTo>
                  <a:lnTo>
                    <a:pt x="1472" y="104"/>
                  </a:lnTo>
                  <a:lnTo>
                    <a:pt x="1570" y="75"/>
                  </a:lnTo>
                  <a:lnTo>
                    <a:pt x="1671" y="51"/>
                  </a:lnTo>
                  <a:lnTo>
                    <a:pt x="1773" y="31"/>
                  </a:lnTo>
                  <a:lnTo>
                    <a:pt x="1876" y="15"/>
                  </a:lnTo>
                  <a:lnTo>
                    <a:pt x="1980" y="5"/>
                  </a:lnTo>
                  <a:lnTo>
                    <a:pt x="2086" y="0"/>
                  </a:lnTo>
                  <a:lnTo>
                    <a:pt x="2192" y="1"/>
                  </a:lnTo>
                  <a:lnTo>
                    <a:pt x="2299" y="8"/>
                  </a:lnTo>
                  <a:lnTo>
                    <a:pt x="2406" y="19"/>
                  </a:lnTo>
                  <a:lnTo>
                    <a:pt x="2514" y="36"/>
                  </a:lnTo>
                  <a:lnTo>
                    <a:pt x="2621" y="59"/>
                  </a:lnTo>
                  <a:lnTo>
                    <a:pt x="2725" y="86"/>
                  </a:lnTo>
                  <a:lnTo>
                    <a:pt x="2826" y="119"/>
                  </a:lnTo>
                  <a:lnTo>
                    <a:pt x="2926" y="157"/>
                  </a:lnTo>
                  <a:lnTo>
                    <a:pt x="3023" y="199"/>
                  </a:lnTo>
                  <a:lnTo>
                    <a:pt x="3116" y="246"/>
                  </a:lnTo>
                  <a:lnTo>
                    <a:pt x="3207" y="296"/>
                  </a:lnTo>
                  <a:lnTo>
                    <a:pt x="3295" y="352"/>
                  </a:lnTo>
                  <a:lnTo>
                    <a:pt x="3379" y="411"/>
                  </a:lnTo>
                  <a:lnTo>
                    <a:pt x="3461" y="474"/>
                  </a:lnTo>
                  <a:lnTo>
                    <a:pt x="3540" y="540"/>
                  </a:lnTo>
                  <a:lnTo>
                    <a:pt x="3614" y="610"/>
                  </a:lnTo>
                  <a:lnTo>
                    <a:pt x="3686" y="684"/>
                  </a:lnTo>
                  <a:lnTo>
                    <a:pt x="3753" y="761"/>
                  </a:lnTo>
                  <a:lnTo>
                    <a:pt x="3817" y="841"/>
                  </a:lnTo>
                  <a:lnTo>
                    <a:pt x="3877" y="923"/>
                  </a:lnTo>
                  <a:lnTo>
                    <a:pt x="3932" y="1009"/>
                  </a:lnTo>
                  <a:lnTo>
                    <a:pt x="3984" y="1097"/>
                  </a:lnTo>
                  <a:lnTo>
                    <a:pt x="4031" y="1188"/>
                  </a:lnTo>
                  <a:lnTo>
                    <a:pt x="4075" y="1281"/>
                  </a:lnTo>
                  <a:lnTo>
                    <a:pt x="4114" y="1376"/>
                  </a:lnTo>
                  <a:lnTo>
                    <a:pt x="4147" y="1472"/>
                  </a:lnTo>
                  <a:lnTo>
                    <a:pt x="4177" y="1571"/>
                  </a:lnTo>
                  <a:lnTo>
                    <a:pt x="4202" y="1672"/>
                  </a:lnTo>
                  <a:lnTo>
                    <a:pt x="4222" y="1774"/>
                  </a:lnTo>
                  <a:lnTo>
                    <a:pt x="4237" y="1877"/>
                  </a:lnTo>
                  <a:lnTo>
                    <a:pt x="4247" y="1982"/>
                  </a:lnTo>
                  <a:lnTo>
                    <a:pt x="4251" y="2087"/>
                  </a:lnTo>
                  <a:lnTo>
                    <a:pt x="4250" y="2193"/>
                  </a:lnTo>
                  <a:lnTo>
                    <a:pt x="4245" y="2300"/>
                  </a:lnTo>
                  <a:lnTo>
                    <a:pt x="4234" y="2407"/>
                  </a:lnTo>
                  <a:lnTo>
                    <a:pt x="4216" y="2515"/>
                  </a:lnTo>
                  <a:lnTo>
                    <a:pt x="4194" y="2622"/>
                  </a:lnTo>
                  <a:lnTo>
                    <a:pt x="4165" y="2726"/>
                  </a:lnTo>
                  <a:lnTo>
                    <a:pt x="4133" y="2829"/>
                  </a:lnTo>
                  <a:lnTo>
                    <a:pt x="4096" y="2928"/>
                  </a:lnTo>
                  <a:lnTo>
                    <a:pt x="4053" y="3024"/>
                  </a:lnTo>
                  <a:lnTo>
                    <a:pt x="4007" y="3119"/>
                  </a:lnTo>
                  <a:lnTo>
                    <a:pt x="3955" y="3209"/>
                  </a:lnTo>
                  <a:lnTo>
                    <a:pt x="3901" y="3297"/>
                  </a:lnTo>
                  <a:lnTo>
                    <a:pt x="3842" y="3382"/>
                  </a:lnTo>
                  <a:lnTo>
                    <a:pt x="3779" y="3464"/>
                  </a:lnTo>
                  <a:lnTo>
                    <a:pt x="3712" y="3542"/>
                  </a:lnTo>
                  <a:lnTo>
                    <a:pt x="3642" y="3616"/>
                  </a:lnTo>
                  <a:lnTo>
                    <a:pt x="3568" y="3688"/>
                  </a:lnTo>
                  <a:lnTo>
                    <a:pt x="3492" y="3755"/>
                  </a:lnTo>
                  <a:lnTo>
                    <a:pt x="3412" y="3819"/>
                  </a:lnTo>
                  <a:lnTo>
                    <a:pt x="3329" y="3879"/>
                  </a:lnTo>
                  <a:lnTo>
                    <a:pt x="3244" y="3935"/>
                  </a:lnTo>
                  <a:lnTo>
                    <a:pt x="3156" y="3987"/>
                  </a:lnTo>
                  <a:lnTo>
                    <a:pt x="3065" y="4034"/>
                  </a:lnTo>
                  <a:lnTo>
                    <a:pt x="2972" y="4077"/>
                  </a:lnTo>
                  <a:lnTo>
                    <a:pt x="2877" y="4116"/>
                  </a:lnTo>
                  <a:lnTo>
                    <a:pt x="2780" y="4151"/>
                  </a:lnTo>
                  <a:lnTo>
                    <a:pt x="2682" y="4180"/>
                  </a:lnTo>
                  <a:lnTo>
                    <a:pt x="2582" y="4204"/>
                  </a:lnTo>
                  <a:lnTo>
                    <a:pt x="2480" y="4224"/>
                  </a:lnTo>
                  <a:lnTo>
                    <a:pt x="2376" y="4240"/>
                  </a:lnTo>
                  <a:lnTo>
                    <a:pt x="2272" y="4250"/>
                  </a:lnTo>
                  <a:lnTo>
                    <a:pt x="2167" y="4254"/>
                  </a:lnTo>
                  <a:lnTo>
                    <a:pt x="2060" y="4254"/>
                  </a:lnTo>
                  <a:lnTo>
                    <a:pt x="1953" y="4247"/>
                  </a:lnTo>
                  <a:lnTo>
                    <a:pt x="1846" y="4236"/>
                  </a:lnTo>
                  <a:lnTo>
                    <a:pt x="1738" y="4219"/>
                  </a:lnTo>
                  <a:lnTo>
                    <a:pt x="1632" y="4196"/>
                  </a:lnTo>
                  <a:lnTo>
                    <a:pt x="1527" y="4169"/>
                  </a:lnTo>
                  <a:lnTo>
                    <a:pt x="1425" y="4136"/>
                  </a:lnTo>
                  <a:lnTo>
                    <a:pt x="1326" y="4098"/>
                  </a:lnTo>
                  <a:lnTo>
                    <a:pt x="1229" y="4056"/>
                  </a:lnTo>
                  <a:lnTo>
                    <a:pt x="1136" y="4009"/>
                  </a:lnTo>
                  <a:lnTo>
                    <a:pt x="1045" y="3959"/>
                  </a:lnTo>
                  <a:lnTo>
                    <a:pt x="956" y="3903"/>
                  </a:lnTo>
                  <a:lnTo>
                    <a:pt x="872" y="3844"/>
                  </a:lnTo>
                  <a:lnTo>
                    <a:pt x="791" y="3781"/>
                  </a:lnTo>
                  <a:lnTo>
                    <a:pt x="712" y="3715"/>
                  </a:lnTo>
                  <a:lnTo>
                    <a:pt x="637" y="3645"/>
                  </a:lnTo>
                  <a:lnTo>
                    <a:pt x="566" y="3571"/>
                  </a:lnTo>
                  <a:lnTo>
                    <a:pt x="499" y="3494"/>
                  </a:lnTo>
                  <a:lnTo>
                    <a:pt x="435" y="3414"/>
                  </a:lnTo>
                  <a:lnTo>
                    <a:pt x="376" y="3331"/>
                  </a:lnTo>
                  <a:lnTo>
                    <a:pt x="319" y="3246"/>
                  </a:lnTo>
                  <a:lnTo>
                    <a:pt x="268" y="3158"/>
                  </a:lnTo>
                  <a:lnTo>
                    <a:pt x="221" y="3067"/>
                  </a:lnTo>
                  <a:lnTo>
                    <a:pt x="178" y="2974"/>
                  </a:lnTo>
                  <a:lnTo>
                    <a:pt x="139" y="2879"/>
                  </a:lnTo>
                  <a:lnTo>
                    <a:pt x="104" y="2783"/>
                  </a:lnTo>
                  <a:lnTo>
                    <a:pt x="75" y="2684"/>
                  </a:lnTo>
                  <a:lnTo>
                    <a:pt x="50" y="2583"/>
                  </a:lnTo>
                  <a:lnTo>
                    <a:pt x="30" y="2481"/>
                  </a:lnTo>
                  <a:lnTo>
                    <a:pt x="15" y="2378"/>
                  </a:lnTo>
                  <a:lnTo>
                    <a:pt x="6" y="2273"/>
                  </a:lnTo>
                  <a:lnTo>
                    <a:pt x="0" y="2168"/>
                  </a:lnTo>
                  <a:lnTo>
                    <a:pt x="2" y="2062"/>
                  </a:lnTo>
                  <a:lnTo>
                    <a:pt x="7" y="1955"/>
                  </a:lnTo>
                  <a:lnTo>
                    <a:pt x="18" y="1848"/>
                  </a:lnTo>
                  <a:lnTo>
                    <a:pt x="36" y="174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2843280" y="4259160"/>
              <a:ext cx="123840" cy="41400"/>
            </a:xfrm>
            <a:custGeom>
              <a:avLst/>
              <a:gdLst/>
              <a:ahLst/>
              <a:rect l="l" t="t" r="r" b="b"/>
              <a:pathLst>
                <a:path w="391" h="127">
                  <a:moveTo>
                    <a:pt x="137" y="118"/>
                  </a:moveTo>
                  <a:lnTo>
                    <a:pt x="124" y="112"/>
                  </a:lnTo>
                  <a:lnTo>
                    <a:pt x="36" y="116"/>
                  </a:lnTo>
                  <a:lnTo>
                    <a:pt x="34" y="118"/>
                  </a:lnTo>
                  <a:lnTo>
                    <a:pt x="30" y="109"/>
                  </a:lnTo>
                  <a:lnTo>
                    <a:pt x="26" y="102"/>
                  </a:lnTo>
                  <a:lnTo>
                    <a:pt x="21" y="93"/>
                  </a:lnTo>
                  <a:lnTo>
                    <a:pt x="17" y="85"/>
                  </a:lnTo>
                  <a:lnTo>
                    <a:pt x="13" y="77"/>
                  </a:lnTo>
                  <a:lnTo>
                    <a:pt x="9" y="68"/>
                  </a:lnTo>
                  <a:lnTo>
                    <a:pt x="5" y="60"/>
                  </a:lnTo>
                  <a:lnTo>
                    <a:pt x="0" y="51"/>
                  </a:lnTo>
                  <a:lnTo>
                    <a:pt x="142" y="51"/>
                  </a:lnTo>
                  <a:lnTo>
                    <a:pt x="151" y="53"/>
                  </a:lnTo>
                  <a:lnTo>
                    <a:pt x="152" y="55"/>
                  </a:lnTo>
                  <a:lnTo>
                    <a:pt x="189" y="55"/>
                  </a:lnTo>
                  <a:lnTo>
                    <a:pt x="188" y="38"/>
                  </a:lnTo>
                  <a:lnTo>
                    <a:pt x="183" y="38"/>
                  </a:lnTo>
                  <a:lnTo>
                    <a:pt x="183" y="20"/>
                  </a:lnTo>
                  <a:lnTo>
                    <a:pt x="172" y="20"/>
                  </a:lnTo>
                  <a:lnTo>
                    <a:pt x="148" y="49"/>
                  </a:lnTo>
                  <a:lnTo>
                    <a:pt x="148" y="53"/>
                  </a:lnTo>
                  <a:lnTo>
                    <a:pt x="151" y="53"/>
                  </a:lnTo>
                  <a:lnTo>
                    <a:pt x="142" y="51"/>
                  </a:lnTo>
                  <a:lnTo>
                    <a:pt x="177" y="3"/>
                  </a:lnTo>
                  <a:lnTo>
                    <a:pt x="183" y="0"/>
                  </a:lnTo>
                  <a:lnTo>
                    <a:pt x="189" y="3"/>
                  </a:lnTo>
                  <a:lnTo>
                    <a:pt x="195" y="8"/>
                  </a:lnTo>
                  <a:lnTo>
                    <a:pt x="198" y="66"/>
                  </a:lnTo>
                  <a:lnTo>
                    <a:pt x="292" y="66"/>
                  </a:lnTo>
                  <a:lnTo>
                    <a:pt x="303" y="61"/>
                  </a:lnTo>
                  <a:lnTo>
                    <a:pt x="368" y="60"/>
                  </a:lnTo>
                  <a:lnTo>
                    <a:pt x="375" y="49"/>
                  </a:lnTo>
                  <a:lnTo>
                    <a:pt x="387" y="49"/>
                  </a:lnTo>
                  <a:lnTo>
                    <a:pt x="387" y="60"/>
                  </a:lnTo>
                  <a:lnTo>
                    <a:pt x="391" y="60"/>
                  </a:lnTo>
                  <a:lnTo>
                    <a:pt x="391" y="88"/>
                  </a:lnTo>
                  <a:lnTo>
                    <a:pt x="373" y="88"/>
                  </a:lnTo>
                  <a:lnTo>
                    <a:pt x="365" y="83"/>
                  </a:lnTo>
                  <a:lnTo>
                    <a:pt x="198" y="83"/>
                  </a:lnTo>
                  <a:lnTo>
                    <a:pt x="198" y="91"/>
                  </a:lnTo>
                  <a:lnTo>
                    <a:pt x="183" y="91"/>
                  </a:lnTo>
                  <a:lnTo>
                    <a:pt x="183" y="88"/>
                  </a:lnTo>
                  <a:lnTo>
                    <a:pt x="156" y="88"/>
                  </a:lnTo>
                  <a:lnTo>
                    <a:pt x="156" y="103"/>
                  </a:lnTo>
                  <a:lnTo>
                    <a:pt x="145" y="103"/>
                  </a:lnTo>
                  <a:lnTo>
                    <a:pt x="137" y="118"/>
                  </a:lnTo>
                  <a:close/>
                  <a:moveTo>
                    <a:pt x="36" y="121"/>
                  </a:moveTo>
                  <a:lnTo>
                    <a:pt x="127" y="124"/>
                  </a:lnTo>
                  <a:lnTo>
                    <a:pt x="121" y="127"/>
                  </a:lnTo>
                  <a:lnTo>
                    <a:pt x="39" y="127"/>
                  </a:lnTo>
                  <a:lnTo>
                    <a:pt x="39" y="127"/>
                  </a:lnTo>
                  <a:lnTo>
                    <a:pt x="38" y="126"/>
                  </a:lnTo>
                  <a:lnTo>
                    <a:pt x="38" y="125"/>
                  </a:lnTo>
                  <a:lnTo>
                    <a:pt x="37" y="124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36" y="122"/>
                  </a:lnTo>
                  <a:lnTo>
                    <a:pt x="36" y="1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2933640" y="3397320"/>
              <a:ext cx="344520" cy="342720"/>
            </a:xfrm>
            <a:custGeom>
              <a:avLst/>
              <a:gdLst/>
              <a:ahLst/>
              <a:rect l="l" t="t" r="r" b="b"/>
              <a:pathLst>
                <a:path w="1086" h="1078">
                  <a:moveTo>
                    <a:pt x="574" y="434"/>
                  </a:moveTo>
                  <a:lnTo>
                    <a:pt x="594" y="420"/>
                  </a:lnTo>
                  <a:lnTo>
                    <a:pt x="613" y="408"/>
                  </a:lnTo>
                  <a:lnTo>
                    <a:pt x="631" y="399"/>
                  </a:lnTo>
                  <a:lnTo>
                    <a:pt x="649" y="390"/>
                  </a:lnTo>
                  <a:lnTo>
                    <a:pt x="614" y="367"/>
                  </a:lnTo>
                  <a:lnTo>
                    <a:pt x="597" y="356"/>
                  </a:lnTo>
                  <a:lnTo>
                    <a:pt x="579" y="342"/>
                  </a:lnTo>
                  <a:lnTo>
                    <a:pt x="581" y="365"/>
                  </a:lnTo>
                  <a:lnTo>
                    <a:pt x="578" y="387"/>
                  </a:lnTo>
                  <a:lnTo>
                    <a:pt x="574" y="434"/>
                  </a:lnTo>
                  <a:close/>
                  <a:moveTo>
                    <a:pt x="34" y="438"/>
                  </a:moveTo>
                  <a:lnTo>
                    <a:pt x="38" y="434"/>
                  </a:lnTo>
                  <a:lnTo>
                    <a:pt x="41" y="430"/>
                  </a:lnTo>
                  <a:lnTo>
                    <a:pt x="44" y="426"/>
                  </a:lnTo>
                  <a:lnTo>
                    <a:pt x="48" y="422"/>
                  </a:lnTo>
                  <a:lnTo>
                    <a:pt x="51" y="419"/>
                  </a:lnTo>
                  <a:lnTo>
                    <a:pt x="56" y="414"/>
                  </a:lnTo>
                  <a:lnTo>
                    <a:pt x="59" y="410"/>
                  </a:lnTo>
                  <a:lnTo>
                    <a:pt x="63" y="406"/>
                  </a:lnTo>
                  <a:lnTo>
                    <a:pt x="74" y="406"/>
                  </a:lnTo>
                  <a:lnTo>
                    <a:pt x="74" y="413"/>
                  </a:lnTo>
                  <a:lnTo>
                    <a:pt x="78" y="413"/>
                  </a:lnTo>
                  <a:lnTo>
                    <a:pt x="81" y="417"/>
                  </a:lnTo>
                  <a:lnTo>
                    <a:pt x="83" y="423"/>
                  </a:lnTo>
                  <a:lnTo>
                    <a:pt x="84" y="433"/>
                  </a:lnTo>
                  <a:lnTo>
                    <a:pt x="84" y="443"/>
                  </a:lnTo>
                  <a:lnTo>
                    <a:pt x="83" y="449"/>
                  </a:lnTo>
                  <a:lnTo>
                    <a:pt x="80" y="452"/>
                  </a:lnTo>
                  <a:lnTo>
                    <a:pt x="84" y="456"/>
                  </a:lnTo>
                  <a:lnTo>
                    <a:pt x="91" y="456"/>
                  </a:lnTo>
                  <a:lnTo>
                    <a:pt x="95" y="452"/>
                  </a:lnTo>
                  <a:lnTo>
                    <a:pt x="100" y="448"/>
                  </a:lnTo>
                  <a:lnTo>
                    <a:pt x="98" y="441"/>
                  </a:lnTo>
                  <a:lnTo>
                    <a:pt x="84" y="443"/>
                  </a:lnTo>
                  <a:lnTo>
                    <a:pt x="84" y="433"/>
                  </a:lnTo>
                  <a:lnTo>
                    <a:pt x="101" y="431"/>
                  </a:lnTo>
                  <a:lnTo>
                    <a:pt x="106" y="433"/>
                  </a:lnTo>
                  <a:lnTo>
                    <a:pt x="110" y="434"/>
                  </a:lnTo>
                  <a:lnTo>
                    <a:pt x="115" y="438"/>
                  </a:lnTo>
                  <a:lnTo>
                    <a:pt x="112" y="418"/>
                  </a:lnTo>
                  <a:lnTo>
                    <a:pt x="107" y="399"/>
                  </a:lnTo>
                  <a:lnTo>
                    <a:pt x="120" y="347"/>
                  </a:lnTo>
                  <a:lnTo>
                    <a:pt x="145" y="322"/>
                  </a:lnTo>
                  <a:lnTo>
                    <a:pt x="171" y="297"/>
                  </a:lnTo>
                  <a:lnTo>
                    <a:pt x="197" y="273"/>
                  </a:lnTo>
                  <a:lnTo>
                    <a:pt x="223" y="249"/>
                  </a:lnTo>
                  <a:lnTo>
                    <a:pt x="251" y="225"/>
                  </a:lnTo>
                  <a:lnTo>
                    <a:pt x="278" y="202"/>
                  </a:lnTo>
                  <a:lnTo>
                    <a:pt x="306" y="180"/>
                  </a:lnTo>
                  <a:lnTo>
                    <a:pt x="335" y="158"/>
                  </a:lnTo>
                  <a:lnTo>
                    <a:pt x="363" y="136"/>
                  </a:lnTo>
                  <a:lnTo>
                    <a:pt x="392" y="115"/>
                  </a:lnTo>
                  <a:lnTo>
                    <a:pt x="422" y="95"/>
                  </a:lnTo>
                  <a:lnTo>
                    <a:pt x="451" y="74"/>
                  </a:lnTo>
                  <a:lnTo>
                    <a:pt x="482" y="55"/>
                  </a:lnTo>
                  <a:lnTo>
                    <a:pt x="511" y="36"/>
                  </a:lnTo>
                  <a:lnTo>
                    <a:pt x="542" y="18"/>
                  </a:lnTo>
                  <a:lnTo>
                    <a:pt x="573" y="0"/>
                  </a:lnTo>
                  <a:lnTo>
                    <a:pt x="574" y="12"/>
                  </a:lnTo>
                  <a:lnTo>
                    <a:pt x="574" y="27"/>
                  </a:lnTo>
                  <a:lnTo>
                    <a:pt x="585" y="28"/>
                  </a:lnTo>
                  <a:lnTo>
                    <a:pt x="600" y="56"/>
                  </a:lnTo>
                  <a:lnTo>
                    <a:pt x="712" y="175"/>
                  </a:lnTo>
                  <a:lnTo>
                    <a:pt x="718" y="183"/>
                  </a:lnTo>
                  <a:lnTo>
                    <a:pt x="720" y="192"/>
                  </a:lnTo>
                  <a:lnTo>
                    <a:pt x="718" y="200"/>
                  </a:lnTo>
                  <a:lnTo>
                    <a:pt x="712" y="204"/>
                  </a:lnTo>
                  <a:lnTo>
                    <a:pt x="708" y="207"/>
                  </a:lnTo>
                  <a:lnTo>
                    <a:pt x="708" y="215"/>
                  </a:lnTo>
                  <a:lnTo>
                    <a:pt x="704" y="223"/>
                  </a:lnTo>
                  <a:lnTo>
                    <a:pt x="700" y="229"/>
                  </a:lnTo>
                  <a:lnTo>
                    <a:pt x="704" y="233"/>
                  </a:lnTo>
                  <a:lnTo>
                    <a:pt x="708" y="240"/>
                  </a:lnTo>
                  <a:lnTo>
                    <a:pt x="715" y="250"/>
                  </a:lnTo>
                  <a:lnTo>
                    <a:pt x="728" y="258"/>
                  </a:lnTo>
                  <a:lnTo>
                    <a:pt x="738" y="264"/>
                  </a:lnTo>
                  <a:lnTo>
                    <a:pt x="747" y="273"/>
                  </a:lnTo>
                  <a:lnTo>
                    <a:pt x="758" y="279"/>
                  </a:lnTo>
                  <a:lnTo>
                    <a:pt x="784" y="271"/>
                  </a:lnTo>
                  <a:lnTo>
                    <a:pt x="798" y="267"/>
                  </a:lnTo>
                  <a:lnTo>
                    <a:pt x="813" y="264"/>
                  </a:lnTo>
                  <a:lnTo>
                    <a:pt x="824" y="261"/>
                  </a:lnTo>
                  <a:lnTo>
                    <a:pt x="865" y="233"/>
                  </a:lnTo>
                  <a:lnTo>
                    <a:pt x="917" y="175"/>
                  </a:lnTo>
                  <a:lnTo>
                    <a:pt x="924" y="177"/>
                  </a:lnTo>
                  <a:lnTo>
                    <a:pt x="954" y="144"/>
                  </a:lnTo>
                  <a:lnTo>
                    <a:pt x="956" y="135"/>
                  </a:lnTo>
                  <a:lnTo>
                    <a:pt x="960" y="128"/>
                  </a:lnTo>
                  <a:lnTo>
                    <a:pt x="968" y="117"/>
                  </a:lnTo>
                  <a:lnTo>
                    <a:pt x="1086" y="114"/>
                  </a:lnTo>
                  <a:lnTo>
                    <a:pt x="1008" y="158"/>
                  </a:lnTo>
                  <a:lnTo>
                    <a:pt x="994" y="175"/>
                  </a:lnTo>
                  <a:lnTo>
                    <a:pt x="971" y="213"/>
                  </a:lnTo>
                  <a:lnTo>
                    <a:pt x="974" y="223"/>
                  </a:lnTo>
                  <a:lnTo>
                    <a:pt x="914" y="324"/>
                  </a:lnTo>
                  <a:lnTo>
                    <a:pt x="896" y="377"/>
                  </a:lnTo>
                  <a:lnTo>
                    <a:pt x="873" y="394"/>
                  </a:lnTo>
                  <a:lnTo>
                    <a:pt x="850" y="410"/>
                  </a:lnTo>
                  <a:lnTo>
                    <a:pt x="821" y="423"/>
                  </a:lnTo>
                  <a:lnTo>
                    <a:pt x="801" y="426"/>
                  </a:lnTo>
                  <a:lnTo>
                    <a:pt x="783" y="428"/>
                  </a:lnTo>
                  <a:lnTo>
                    <a:pt x="786" y="477"/>
                  </a:lnTo>
                  <a:lnTo>
                    <a:pt x="786" y="535"/>
                  </a:lnTo>
                  <a:lnTo>
                    <a:pt x="780" y="602"/>
                  </a:lnTo>
                  <a:lnTo>
                    <a:pt x="767" y="667"/>
                  </a:lnTo>
                  <a:lnTo>
                    <a:pt x="752" y="732"/>
                  </a:lnTo>
                  <a:lnTo>
                    <a:pt x="740" y="776"/>
                  </a:lnTo>
                  <a:lnTo>
                    <a:pt x="728" y="784"/>
                  </a:lnTo>
                  <a:lnTo>
                    <a:pt x="715" y="795"/>
                  </a:lnTo>
                  <a:lnTo>
                    <a:pt x="705" y="841"/>
                  </a:lnTo>
                  <a:lnTo>
                    <a:pt x="705" y="849"/>
                  </a:lnTo>
                  <a:lnTo>
                    <a:pt x="709" y="858"/>
                  </a:lnTo>
                  <a:lnTo>
                    <a:pt x="709" y="865"/>
                  </a:lnTo>
                  <a:lnTo>
                    <a:pt x="703" y="875"/>
                  </a:lnTo>
                  <a:lnTo>
                    <a:pt x="713" y="884"/>
                  </a:lnTo>
                  <a:lnTo>
                    <a:pt x="720" y="892"/>
                  </a:lnTo>
                  <a:lnTo>
                    <a:pt x="724" y="905"/>
                  </a:lnTo>
                  <a:lnTo>
                    <a:pt x="734" y="908"/>
                  </a:lnTo>
                  <a:lnTo>
                    <a:pt x="740" y="913"/>
                  </a:lnTo>
                  <a:lnTo>
                    <a:pt x="744" y="922"/>
                  </a:lnTo>
                  <a:lnTo>
                    <a:pt x="749" y="930"/>
                  </a:lnTo>
                  <a:lnTo>
                    <a:pt x="754" y="938"/>
                  </a:lnTo>
                  <a:lnTo>
                    <a:pt x="783" y="953"/>
                  </a:lnTo>
                  <a:lnTo>
                    <a:pt x="801" y="961"/>
                  </a:lnTo>
                  <a:lnTo>
                    <a:pt x="809" y="968"/>
                  </a:lnTo>
                  <a:lnTo>
                    <a:pt x="812" y="976"/>
                  </a:lnTo>
                  <a:lnTo>
                    <a:pt x="812" y="991"/>
                  </a:lnTo>
                  <a:lnTo>
                    <a:pt x="797" y="994"/>
                  </a:lnTo>
                  <a:lnTo>
                    <a:pt x="777" y="997"/>
                  </a:lnTo>
                  <a:lnTo>
                    <a:pt x="746" y="996"/>
                  </a:lnTo>
                  <a:lnTo>
                    <a:pt x="718" y="991"/>
                  </a:lnTo>
                  <a:lnTo>
                    <a:pt x="686" y="981"/>
                  </a:lnTo>
                  <a:lnTo>
                    <a:pt x="664" y="969"/>
                  </a:lnTo>
                  <a:lnTo>
                    <a:pt x="645" y="958"/>
                  </a:lnTo>
                  <a:lnTo>
                    <a:pt x="627" y="956"/>
                  </a:lnTo>
                  <a:lnTo>
                    <a:pt x="613" y="954"/>
                  </a:lnTo>
                  <a:lnTo>
                    <a:pt x="598" y="950"/>
                  </a:lnTo>
                  <a:lnTo>
                    <a:pt x="584" y="945"/>
                  </a:lnTo>
                  <a:lnTo>
                    <a:pt x="581" y="928"/>
                  </a:lnTo>
                  <a:lnTo>
                    <a:pt x="582" y="915"/>
                  </a:lnTo>
                  <a:lnTo>
                    <a:pt x="584" y="902"/>
                  </a:lnTo>
                  <a:lnTo>
                    <a:pt x="588" y="890"/>
                  </a:lnTo>
                  <a:lnTo>
                    <a:pt x="593" y="879"/>
                  </a:lnTo>
                  <a:lnTo>
                    <a:pt x="598" y="867"/>
                  </a:lnTo>
                  <a:lnTo>
                    <a:pt x="604" y="858"/>
                  </a:lnTo>
                  <a:lnTo>
                    <a:pt x="604" y="846"/>
                  </a:lnTo>
                  <a:lnTo>
                    <a:pt x="604" y="833"/>
                  </a:lnTo>
                  <a:lnTo>
                    <a:pt x="607" y="825"/>
                  </a:lnTo>
                  <a:lnTo>
                    <a:pt x="613" y="818"/>
                  </a:lnTo>
                  <a:lnTo>
                    <a:pt x="613" y="778"/>
                  </a:lnTo>
                  <a:lnTo>
                    <a:pt x="598" y="771"/>
                  </a:lnTo>
                  <a:lnTo>
                    <a:pt x="599" y="761"/>
                  </a:lnTo>
                  <a:lnTo>
                    <a:pt x="602" y="751"/>
                  </a:lnTo>
                  <a:lnTo>
                    <a:pt x="602" y="738"/>
                  </a:lnTo>
                  <a:lnTo>
                    <a:pt x="599" y="723"/>
                  </a:lnTo>
                  <a:lnTo>
                    <a:pt x="602" y="702"/>
                  </a:lnTo>
                  <a:lnTo>
                    <a:pt x="607" y="673"/>
                  </a:lnTo>
                  <a:lnTo>
                    <a:pt x="616" y="642"/>
                  </a:lnTo>
                  <a:lnTo>
                    <a:pt x="627" y="611"/>
                  </a:lnTo>
                  <a:lnTo>
                    <a:pt x="607" y="634"/>
                  </a:lnTo>
                  <a:lnTo>
                    <a:pt x="585" y="657"/>
                  </a:lnTo>
                  <a:lnTo>
                    <a:pt x="568" y="676"/>
                  </a:lnTo>
                  <a:lnTo>
                    <a:pt x="547" y="695"/>
                  </a:lnTo>
                  <a:lnTo>
                    <a:pt x="528" y="709"/>
                  </a:lnTo>
                  <a:lnTo>
                    <a:pt x="506" y="728"/>
                  </a:lnTo>
                  <a:lnTo>
                    <a:pt x="484" y="745"/>
                  </a:lnTo>
                  <a:lnTo>
                    <a:pt x="457" y="760"/>
                  </a:lnTo>
                  <a:lnTo>
                    <a:pt x="432" y="775"/>
                  </a:lnTo>
                  <a:lnTo>
                    <a:pt x="409" y="783"/>
                  </a:lnTo>
                  <a:lnTo>
                    <a:pt x="386" y="792"/>
                  </a:lnTo>
                  <a:lnTo>
                    <a:pt x="365" y="800"/>
                  </a:lnTo>
                  <a:lnTo>
                    <a:pt x="345" y="876"/>
                  </a:lnTo>
                  <a:lnTo>
                    <a:pt x="343" y="898"/>
                  </a:lnTo>
                  <a:lnTo>
                    <a:pt x="340" y="922"/>
                  </a:lnTo>
                  <a:lnTo>
                    <a:pt x="337" y="939"/>
                  </a:lnTo>
                  <a:lnTo>
                    <a:pt x="332" y="958"/>
                  </a:lnTo>
                  <a:lnTo>
                    <a:pt x="325" y="976"/>
                  </a:lnTo>
                  <a:lnTo>
                    <a:pt x="315" y="996"/>
                  </a:lnTo>
                  <a:lnTo>
                    <a:pt x="305" y="1011"/>
                  </a:lnTo>
                  <a:lnTo>
                    <a:pt x="294" y="1023"/>
                  </a:lnTo>
                  <a:lnTo>
                    <a:pt x="291" y="1037"/>
                  </a:lnTo>
                  <a:lnTo>
                    <a:pt x="282" y="1051"/>
                  </a:lnTo>
                  <a:lnTo>
                    <a:pt x="269" y="1062"/>
                  </a:lnTo>
                  <a:lnTo>
                    <a:pt x="250" y="1072"/>
                  </a:lnTo>
                  <a:lnTo>
                    <a:pt x="221" y="1078"/>
                  </a:lnTo>
                  <a:lnTo>
                    <a:pt x="196" y="1078"/>
                  </a:lnTo>
                  <a:lnTo>
                    <a:pt x="172" y="1074"/>
                  </a:lnTo>
                  <a:lnTo>
                    <a:pt x="153" y="1066"/>
                  </a:lnTo>
                  <a:lnTo>
                    <a:pt x="138" y="1056"/>
                  </a:lnTo>
                  <a:lnTo>
                    <a:pt x="129" y="1045"/>
                  </a:lnTo>
                  <a:lnTo>
                    <a:pt x="116" y="1042"/>
                  </a:lnTo>
                  <a:lnTo>
                    <a:pt x="104" y="1020"/>
                  </a:lnTo>
                  <a:lnTo>
                    <a:pt x="95" y="996"/>
                  </a:lnTo>
                  <a:lnTo>
                    <a:pt x="89" y="974"/>
                  </a:lnTo>
                  <a:lnTo>
                    <a:pt x="84" y="948"/>
                  </a:lnTo>
                  <a:lnTo>
                    <a:pt x="84" y="924"/>
                  </a:lnTo>
                  <a:lnTo>
                    <a:pt x="81" y="881"/>
                  </a:lnTo>
                  <a:lnTo>
                    <a:pt x="94" y="855"/>
                  </a:lnTo>
                  <a:lnTo>
                    <a:pt x="100" y="824"/>
                  </a:lnTo>
                  <a:lnTo>
                    <a:pt x="109" y="810"/>
                  </a:lnTo>
                  <a:lnTo>
                    <a:pt x="106" y="792"/>
                  </a:lnTo>
                  <a:lnTo>
                    <a:pt x="102" y="776"/>
                  </a:lnTo>
                  <a:lnTo>
                    <a:pt x="74" y="755"/>
                  </a:lnTo>
                  <a:lnTo>
                    <a:pt x="87" y="737"/>
                  </a:lnTo>
                  <a:lnTo>
                    <a:pt x="102" y="695"/>
                  </a:lnTo>
                  <a:lnTo>
                    <a:pt x="91" y="697"/>
                  </a:lnTo>
                  <a:lnTo>
                    <a:pt x="81" y="694"/>
                  </a:lnTo>
                  <a:lnTo>
                    <a:pt x="74" y="691"/>
                  </a:lnTo>
                  <a:lnTo>
                    <a:pt x="69" y="682"/>
                  </a:lnTo>
                  <a:lnTo>
                    <a:pt x="67" y="676"/>
                  </a:lnTo>
                  <a:lnTo>
                    <a:pt x="60" y="677"/>
                  </a:lnTo>
                  <a:lnTo>
                    <a:pt x="49" y="676"/>
                  </a:lnTo>
                  <a:lnTo>
                    <a:pt x="41" y="671"/>
                  </a:lnTo>
                  <a:lnTo>
                    <a:pt x="32" y="664"/>
                  </a:lnTo>
                  <a:lnTo>
                    <a:pt x="26" y="652"/>
                  </a:lnTo>
                  <a:lnTo>
                    <a:pt x="20" y="642"/>
                  </a:lnTo>
                  <a:lnTo>
                    <a:pt x="17" y="631"/>
                  </a:lnTo>
                  <a:lnTo>
                    <a:pt x="9" y="628"/>
                  </a:lnTo>
                  <a:lnTo>
                    <a:pt x="1" y="561"/>
                  </a:lnTo>
                  <a:lnTo>
                    <a:pt x="8" y="559"/>
                  </a:lnTo>
                  <a:lnTo>
                    <a:pt x="8" y="532"/>
                  </a:lnTo>
                  <a:lnTo>
                    <a:pt x="0" y="530"/>
                  </a:lnTo>
                  <a:lnTo>
                    <a:pt x="1" y="514"/>
                  </a:lnTo>
                  <a:lnTo>
                    <a:pt x="7" y="501"/>
                  </a:lnTo>
                  <a:lnTo>
                    <a:pt x="8" y="492"/>
                  </a:lnTo>
                  <a:lnTo>
                    <a:pt x="14" y="486"/>
                  </a:lnTo>
                  <a:lnTo>
                    <a:pt x="17" y="474"/>
                  </a:lnTo>
                  <a:lnTo>
                    <a:pt x="18" y="467"/>
                  </a:lnTo>
                  <a:lnTo>
                    <a:pt x="22" y="461"/>
                  </a:lnTo>
                  <a:lnTo>
                    <a:pt x="40" y="456"/>
                  </a:lnTo>
                  <a:lnTo>
                    <a:pt x="32" y="443"/>
                  </a:lnTo>
                  <a:lnTo>
                    <a:pt x="34" y="438"/>
                  </a:lnTo>
                  <a:close/>
                  <a:moveTo>
                    <a:pt x="113" y="456"/>
                  </a:moveTo>
                  <a:lnTo>
                    <a:pt x="106" y="464"/>
                  </a:lnTo>
                  <a:lnTo>
                    <a:pt x="109" y="469"/>
                  </a:lnTo>
                  <a:lnTo>
                    <a:pt x="112" y="475"/>
                  </a:lnTo>
                  <a:lnTo>
                    <a:pt x="113" y="469"/>
                  </a:lnTo>
                  <a:lnTo>
                    <a:pt x="115" y="463"/>
                  </a:lnTo>
                  <a:lnTo>
                    <a:pt x="113" y="4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2933640" y="3533760"/>
              <a:ext cx="258840" cy="206280"/>
            </a:xfrm>
            <a:custGeom>
              <a:avLst/>
              <a:gdLst/>
              <a:ahLst/>
              <a:rect l="l" t="t" r="r" b="b"/>
              <a:pathLst>
                <a:path w="812" h="650">
                  <a:moveTo>
                    <a:pt x="783" y="0"/>
                  </a:moveTo>
                  <a:lnTo>
                    <a:pt x="786" y="49"/>
                  </a:lnTo>
                  <a:lnTo>
                    <a:pt x="786" y="107"/>
                  </a:lnTo>
                  <a:lnTo>
                    <a:pt x="780" y="174"/>
                  </a:lnTo>
                  <a:lnTo>
                    <a:pt x="767" y="239"/>
                  </a:lnTo>
                  <a:lnTo>
                    <a:pt x="752" y="304"/>
                  </a:lnTo>
                  <a:lnTo>
                    <a:pt x="740" y="348"/>
                  </a:lnTo>
                  <a:lnTo>
                    <a:pt x="728" y="356"/>
                  </a:lnTo>
                  <a:lnTo>
                    <a:pt x="715" y="367"/>
                  </a:lnTo>
                  <a:lnTo>
                    <a:pt x="705" y="413"/>
                  </a:lnTo>
                  <a:lnTo>
                    <a:pt x="705" y="421"/>
                  </a:lnTo>
                  <a:lnTo>
                    <a:pt x="709" y="430"/>
                  </a:lnTo>
                  <a:lnTo>
                    <a:pt x="709" y="437"/>
                  </a:lnTo>
                  <a:lnTo>
                    <a:pt x="703" y="447"/>
                  </a:lnTo>
                  <a:lnTo>
                    <a:pt x="713" y="456"/>
                  </a:lnTo>
                  <a:lnTo>
                    <a:pt x="720" y="464"/>
                  </a:lnTo>
                  <a:lnTo>
                    <a:pt x="724" y="477"/>
                  </a:lnTo>
                  <a:lnTo>
                    <a:pt x="734" y="480"/>
                  </a:lnTo>
                  <a:lnTo>
                    <a:pt x="740" y="485"/>
                  </a:lnTo>
                  <a:lnTo>
                    <a:pt x="744" y="494"/>
                  </a:lnTo>
                  <a:lnTo>
                    <a:pt x="749" y="502"/>
                  </a:lnTo>
                  <a:lnTo>
                    <a:pt x="754" y="510"/>
                  </a:lnTo>
                  <a:lnTo>
                    <a:pt x="783" y="525"/>
                  </a:lnTo>
                  <a:lnTo>
                    <a:pt x="801" y="533"/>
                  </a:lnTo>
                  <a:lnTo>
                    <a:pt x="809" y="540"/>
                  </a:lnTo>
                  <a:lnTo>
                    <a:pt x="812" y="548"/>
                  </a:lnTo>
                  <a:lnTo>
                    <a:pt x="812" y="563"/>
                  </a:lnTo>
                  <a:lnTo>
                    <a:pt x="797" y="566"/>
                  </a:lnTo>
                  <a:lnTo>
                    <a:pt x="777" y="569"/>
                  </a:lnTo>
                  <a:lnTo>
                    <a:pt x="746" y="568"/>
                  </a:lnTo>
                  <a:lnTo>
                    <a:pt x="718" y="563"/>
                  </a:lnTo>
                  <a:lnTo>
                    <a:pt x="686" y="553"/>
                  </a:lnTo>
                  <a:lnTo>
                    <a:pt x="664" y="541"/>
                  </a:lnTo>
                  <a:lnTo>
                    <a:pt x="645" y="530"/>
                  </a:lnTo>
                  <a:lnTo>
                    <a:pt x="627" y="528"/>
                  </a:lnTo>
                  <a:lnTo>
                    <a:pt x="613" y="526"/>
                  </a:lnTo>
                  <a:lnTo>
                    <a:pt x="598" y="522"/>
                  </a:lnTo>
                  <a:lnTo>
                    <a:pt x="584" y="517"/>
                  </a:lnTo>
                  <a:lnTo>
                    <a:pt x="581" y="500"/>
                  </a:lnTo>
                  <a:lnTo>
                    <a:pt x="582" y="487"/>
                  </a:lnTo>
                  <a:lnTo>
                    <a:pt x="584" y="474"/>
                  </a:lnTo>
                  <a:lnTo>
                    <a:pt x="588" y="462"/>
                  </a:lnTo>
                  <a:lnTo>
                    <a:pt x="593" y="451"/>
                  </a:lnTo>
                  <a:lnTo>
                    <a:pt x="598" y="439"/>
                  </a:lnTo>
                  <a:lnTo>
                    <a:pt x="604" y="430"/>
                  </a:lnTo>
                  <a:lnTo>
                    <a:pt x="604" y="418"/>
                  </a:lnTo>
                  <a:lnTo>
                    <a:pt x="604" y="405"/>
                  </a:lnTo>
                  <a:lnTo>
                    <a:pt x="607" y="397"/>
                  </a:lnTo>
                  <a:lnTo>
                    <a:pt x="613" y="390"/>
                  </a:lnTo>
                  <a:lnTo>
                    <a:pt x="613" y="350"/>
                  </a:lnTo>
                  <a:lnTo>
                    <a:pt x="598" y="343"/>
                  </a:lnTo>
                  <a:lnTo>
                    <a:pt x="599" y="333"/>
                  </a:lnTo>
                  <a:lnTo>
                    <a:pt x="602" y="323"/>
                  </a:lnTo>
                  <a:lnTo>
                    <a:pt x="602" y="310"/>
                  </a:lnTo>
                  <a:lnTo>
                    <a:pt x="599" y="295"/>
                  </a:lnTo>
                  <a:lnTo>
                    <a:pt x="602" y="274"/>
                  </a:lnTo>
                  <a:lnTo>
                    <a:pt x="607" y="245"/>
                  </a:lnTo>
                  <a:lnTo>
                    <a:pt x="616" y="214"/>
                  </a:lnTo>
                  <a:lnTo>
                    <a:pt x="627" y="183"/>
                  </a:lnTo>
                  <a:lnTo>
                    <a:pt x="607" y="206"/>
                  </a:lnTo>
                  <a:lnTo>
                    <a:pt x="585" y="229"/>
                  </a:lnTo>
                  <a:lnTo>
                    <a:pt x="568" y="248"/>
                  </a:lnTo>
                  <a:lnTo>
                    <a:pt x="547" y="267"/>
                  </a:lnTo>
                  <a:lnTo>
                    <a:pt x="528" y="281"/>
                  </a:lnTo>
                  <a:lnTo>
                    <a:pt x="506" y="300"/>
                  </a:lnTo>
                  <a:lnTo>
                    <a:pt x="484" y="317"/>
                  </a:lnTo>
                  <a:lnTo>
                    <a:pt x="457" y="332"/>
                  </a:lnTo>
                  <a:lnTo>
                    <a:pt x="432" y="347"/>
                  </a:lnTo>
                  <a:lnTo>
                    <a:pt x="409" y="355"/>
                  </a:lnTo>
                  <a:lnTo>
                    <a:pt x="386" y="364"/>
                  </a:lnTo>
                  <a:lnTo>
                    <a:pt x="365" y="372"/>
                  </a:lnTo>
                  <a:lnTo>
                    <a:pt x="345" y="448"/>
                  </a:lnTo>
                  <a:lnTo>
                    <a:pt x="343" y="470"/>
                  </a:lnTo>
                  <a:lnTo>
                    <a:pt x="340" y="494"/>
                  </a:lnTo>
                  <a:lnTo>
                    <a:pt x="337" y="511"/>
                  </a:lnTo>
                  <a:lnTo>
                    <a:pt x="332" y="530"/>
                  </a:lnTo>
                  <a:lnTo>
                    <a:pt x="325" y="548"/>
                  </a:lnTo>
                  <a:lnTo>
                    <a:pt x="315" y="568"/>
                  </a:lnTo>
                  <a:lnTo>
                    <a:pt x="305" y="583"/>
                  </a:lnTo>
                  <a:lnTo>
                    <a:pt x="294" y="595"/>
                  </a:lnTo>
                  <a:lnTo>
                    <a:pt x="291" y="609"/>
                  </a:lnTo>
                  <a:lnTo>
                    <a:pt x="282" y="623"/>
                  </a:lnTo>
                  <a:lnTo>
                    <a:pt x="269" y="634"/>
                  </a:lnTo>
                  <a:lnTo>
                    <a:pt x="250" y="644"/>
                  </a:lnTo>
                  <a:lnTo>
                    <a:pt x="221" y="650"/>
                  </a:lnTo>
                  <a:lnTo>
                    <a:pt x="196" y="650"/>
                  </a:lnTo>
                  <a:lnTo>
                    <a:pt x="172" y="646"/>
                  </a:lnTo>
                  <a:lnTo>
                    <a:pt x="153" y="638"/>
                  </a:lnTo>
                  <a:lnTo>
                    <a:pt x="138" y="628"/>
                  </a:lnTo>
                  <a:lnTo>
                    <a:pt x="129" y="617"/>
                  </a:lnTo>
                  <a:lnTo>
                    <a:pt x="116" y="614"/>
                  </a:lnTo>
                  <a:lnTo>
                    <a:pt x="104" y="592"/>
                  </a:lnTo>
                  <a:lnTo>
                    <a:pt x="95" y="568"/>
                  </a:lnTo>
                  <a:lnTo>
                    <a:pt x="89" y="546"/>
                  </a:lnTo>
                  <a:lnTo>
                    <a:pt x="84" y="520"/>
                  </a:lnTo>
                  <a:lnTo>
                    <a:pt x="84" y="496"/>
                  </a:lnTo>
                  <a:lnTo>
                    <a:pt x="81" y="453"/>
                  </a:lnTo>
                  <a:lnTo>
                    <a:pt x="94" y="427"/>
                  </a:lnTo>
                  <a:lnTo>
                    <a:pt x="100" y="396"/>
                  </a:lnTo>
                  <a:lnTo>
                    <a:pt x="109" y="382"/>
                  </a:lnTo>
                  <a:lnTo>
                    <a:pt x="106" y="364"/>
                  </a:lnTo>
                  <a:lnTo>
                    <a:pt x="102" y="348"/>
                  </a:lnTo>
                  <a:lnTo>
                    <a:pt x="74" y="327"/>
                  </a:lnTo>
                  <a:lnTo>
                    <a:pt x="87" y="309"/>
                  </a:lnTo>
                  <a:lnTo>
                    <a:pt x="102" y="267"/>
                  </a:lnTo>
                  <a:lnTo>
                    <a:pt x="91" y="269"/>
                  </a:lnTo>
                  <a:lnTo>
                    <a:pt x="81" y="266"/>
                  </a:lnTo>
                  <a:lnTo>
                    <a:pt x="74" y="263"/>
                  </a:lnTo>
                  <a:lnTo>
                    <a:pt x="69" y="254"/>
                  </a:lnTo>
                  <a:lnTo>
                    <a:pt x="67" y="248"/>
                  </a:lnTo>
                  <a:lnTo>
                    <a:pt x="60" y="249"/>
                  </a:lnTo>
                  <a:lnTo>
                    <a:pt x="49" y="248"/>
                  </a:lnTo>
                  <a:lnTo>
                    <a:pt x="41" y="243"/>
                  </a:lnTo>
                  <a:lnTo>
                    <a:pt x="32" y="236"/>
                  </a:lnTo>
                  <a:lnTo>
                    <a:pt x="26" y="224"/>
                  </a:lnTo>
                  <a:lnTo>
                    <a:pt x="20" y="214"/>
                  </a:lnTo>
                  <a:lnTo>
                    <a:pt x="17" y="203"/>
                  </a:lnTo>
                  <a:lnTo>
                    <a:pt x="9" y="200"/>
                  </a:lnTo>
                  <a:lnTo>
                    <a:pt x="1" y="133"/>
                  </a:lnTo>
                  <a:lnTo>
                    <a:pt x="8" y="131"/>
                  </a:lnTo>
                  <a:lnTo>
                    <a:pt x="8" y="104"/>
                  </a:lnTo>
                  <a:lnTo>
                    <a:pt x="0" y="102"/>
                  </a:lnTo>
                  <a:lnTo>
                    <a:pt x="1" y="86"/>
                  </a:lnTo>
                  <a:lnTo>
                    <a:pt x="7" y="73"/>
                  </a:lnTo>
                  <a:lnTo>
                    <a:pt x="8" y="64"/>
                  </a:lnTo>
                  <a:lnTo>
                    <a:pt x="14" y="58"/>
                  </a:lnTo>
                  <a:lnTo>
                    <a:pt x="17" y="46"/>
                  </a:lnTo>
                  <a:lnTo>
                    <a:pt x="18" y="39"/>
                  </a:lnTo>
                  <a:lnTo>
                    <a:pt x="22" y="33"/>
                  </a:lnTo>
                  <a:lnTo>
                    <a:pt x="40" y="28"/>
                  </a:lnTo>
                  <a:lnTo>
                    <a:pt x="32" y="15"/>
                  </a:lnTo>
                  <a:lnTo>
                    <a:pt x="34" y="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3116160" y="3397320"/>
              <a:ext cx="162000" cy="13644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0"/>
                  </a:moveTo>
                  <a:lnTo>
                    <a:pt x="1" y="12"/>
                  </a:lnTo>
                  <a:lnTo>
                    <a:pt x="1" y="27"/>
                  </a:lnTo>
                  <a:lnTo>
                    <a:pt x="12" y="28"/>
                  </a:lnTo>
                  <a:lnTo>
                    <a:pt x="27" y="56"/>
                  </a:lnTo>
                  <a:lnTo>
                    <a:pt x="139" y="175"/>
                  </a:lnTo>
                  <a:lnTo>
                    <a:pt x="145" y="183"/>
                  </a:lnTo>
                  <a:lnTo>
                    <a:pt x="147" y="192"/>
                  </a:lnTo>
                  <a:lnTo>
                    <a:pt x="145" y="200"/>
                  </a:lnTo>
                  <a:lnTo>
                    <a:pt x="139" y="204"/>
                  </a:lnTo>
                  <a:lnTo>
                    <a:pt x="135" y="207"/>
                  </a:lnTo>
                  <a:lnTo>
                    <a:pt x="135" y="215"/>
                  </a:lnTo>
                  <a:lnTo>
                    <a:pt x="131" y="223"/>
                  </a:lnTo>
                  <a:lnTo>
                    <a:pt x="127" y="229"/>
                  </a:lnTo>
                  <a:lnTo>
                    <a:pt x="131" y="233"/>
                  </a:lnTo>
                  <a:lnTo>
                    <a:pt x="135" y="240"/>
                  </a:lnTo>
                  <a:lnTo>
                    <a:pt x="142" y="250"/>
                  </a:lnTo>
                  <a:lnTo>
                    <a:pt x="155" y="258"/>
                  </a:lnTo>
                  <a:lnTo>
                    <a:pt x="165" y="264"/>
                  </a:lnTo>
                  <a:lnTo>
                    <a:pt x="174" y="273"/>
                  </a:lnTo>
                  <a:lnTo>
                    <a:pt x="185" y="279"/>
                  </a:lnTo>
                  <a:lnTo>
                    <a:pt x="211" y="271"/>
                  </a:lnTo>
                  <a:lnTo>
                    <a:pt x="225" y="267"/>
                  </a:lnTo>
                  <a:lnTo>
                    <a:pt x="240" y="264"/>
                  </a:lnTo>
                  <a:lnTo>
                    <a:pt x="251" y="261"/>
                  </a:lnTo>
                  <a:lnTo>
                    <a:pt x="292" y="233"/>
                  </a:lnTo>
                  <a:lnTo>
                    <a:pt x="344" y="175"/>
                  </a:lnTo>
                  <a:lnTo>
                    <a:pt x="351" y="177"/>
                  </a:lnTo>
                  <a:lnTo>
                    <a:pt x="381" y="144"/>
                  </a:lnTo>
                  <a:lnTo>
                    <a:pt x="383" y="135"/>
                  </a:lnTo>
                  <a:lnTo>
                    <a:pt x="387" y="128"/>
                  </a:lnTo>
                  <a:lnTo>
                    <a:pt x="395" y="117"/>
                  </a:lnTo>
                  <a:lnTo>
                    <a:pt x="513" y="114"/>
                  </a:lnTo>
                  <a:lnTo>
                    <a:pt x="435" y="158"/>
                  </a:lnTo>
                  <a:lnTo>
                    <a:pt x="421" y="175"/>
                  </a:lnTo>
                  <a:lnTo>
                    <a:pt x="398" y="213"/>
                  </a:lnTo>
                  <a:lnTo>
                    <a:pt x="401" y="223"/>
                  </a:lnTo>
                  <a:lnTo>
                    <a:pt x="341" y="324"/>
                  </a:lnTo>
                  <a:lnTo>
                    <a:pt x="323" y="377"/>
                  </a:lnTo>
                  <a:lnTo>
                    <a:pt x="300" y="394"/>
                  </a:lnTo>
                  <a:lnTo>
                    <a:pt x="277" y="410"/>
                  </a:lnTo>
                  <a:lnTo>
                    <a:pt x="248" y="423"/>
                  </a:lnTo>
                  <a:lnTo>
                    <a:pt x="228" y="426"/>
                  </a:lnTo>
                  <a:lnTo>
                    <a:pt x="210" y="4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3124080" y="339264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9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5" y="149"/>
                  </a:lnTo>
                  <a:lnTo>
                    <a:pt x="143" y="162"/>
                  </a:lnTo>
                  <a:lnTo>
                    <a:pt x="144" y="169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1"/>
                  </a:lnTo>
                  <a:lnTo>
                    <a:pt x="164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14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3" y="34"/>
                  </a:lnTo>
                  <a:lnTo>
                    <a:pt x="263" y="41"/>
                  </a:lnTo>
                  <a:lnTo>
                    <a:pt x="261" y="48"/>
                  </a:lnTo>
                  <a:lnTo>
                    <a:pt x="259" y="52"/>
                  </a:lnTo>
                  <a:lnTo>
                    <a:pt x="250" y="52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50" y="28"/>
                  </a:lnTo>
                  <a:lnTo>
                    <a:pt x="244" y="25"/>
                  </a:lnTo>
                  <a:lnTo>
                    <a:pt x="126" y="25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2"/>
                  </a:lnTo>
                  <a:lnTo>
                    <a:pt x="259" y="52"/>
                  </a:lnTo>
                  <a:lnTo>
                    <a:pt x="607" y="52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2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7"/>
                  </a:lnTo>
                  <a:lnTo>
                    <a:pt x="838" y="87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8" y="91"/>
                  </a:lnTo>
                  <a:lnTo>
                    <a:pt x="648" y="87"/>
                  </a:lnTo>
                  <a:lnTo>
                    <a:pt x="619" y="87"/>
                  </a:lnTo>
                  <a:lnTo>
                    <a:pt x="619" y="103"/>
                  </a:lnTo>
                  <a:lnTo>
                    <a:pt x="610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2774880" y="3770280"/>
              <a:ext cx="241200" cy="376200"/>
            </a:xfrm>
            <a:custGeom>
              <a:avLst/>
              <a:gdLst/>
              <a:ahLst/>
              <a:rect l="l" t="t" r="r" b="b"/>
              <a:pathLst>
                <a:path w="756" h="1184">
                  <a:moveTo>
                    <a:pt x="245" y="621"/>
                  </a:moveTo>
                  <a:lnTo>
                    <a:pt x="265" y="606"/>
                  </a:lnTo>
                  <a:lnTo>
                    <a:pt x="283" y="595"/>
                  </a:lnTo>
                  <a:lnTo>
                    <a:pt x="302" y="585"/>
                  </a:lnTo>
                  <a:lnTo>
                    <a:pt x="321" y="576"/>
                  </a:lnTo>
                  <a:lnTo>
                    <a:pt x="285" y="553"/>
                  </a:lnTo>
                  <a:lnTo>
                    <a:pt x="268" y="542"/>
                  </a:lnTo>
                  <a:lnTo>
                    <a:pt x="250" y="529"/>
                  </a:lnTo>
                  <a:lnTo>
                    <a:pt x="251" y="552"/>
                  </a:lnTo>
                  <a:lnTo>
                    <a:pt x="248" y="573"/>
                  </a:lnTo>
                  <a:lnTo>
                    <a:pt x="245" y="621"/>
                  </a:lnTo>
                  <a:close/>
                  <a:moveTo>
                    <a:pt x="36" y="280"/>
                  </a:moveTo>
                  <a:lnTo>
                    <a:pt x="42" y="244"/>
                  </a:lnTo>
                  <a:lnTo>
                    <a:pt x="50" y="210"/>
                  </a:lnTo>
                  <a:lnTo>
                    <a:pt x="58" y="175"/>
                  </a:lnTo>
                  <a:lnTo>
                    <a:pt x="67" y="140"/>
                  </a:lnTo>
                  <a:lnTo>
                    <a:pt x="76" y="107"/>
                  </a:lnTo>
                  <a:lnTo>
                    <a:pt x="85" y="72"/>
                  </a:lnTo>
                  <a:lnTo>
                    <a:pt x="95" y="39"/>
                  </a:lnTo>
                  <a:lnTo>
                    <a:pt x="106" y="5"/>
                  </a:lnTo>
                  <a:lnTo>
                    <a:pt x="113" y="4"/>
                  </a:lnTo>
                  <a:lnTo>
                    <a:pt x="138" y="0"/>
                  </a:lnTo>
                  <a:lnTo>
                    <a:pt x="156" y="0"/>
                  </a:lnTo>
                  <a:lnTo>
                    <a:pt x="176" y="4"/>
                  </a:lnTo>
                  <a:lnTo>
                    <a:pt x="190" y="8"/>
                  </a:lnTo>
                  <a:lnTo>
                    <a:pt x="204" y="15"/>
                  </a:lnTo>
                  <a:lnTo>
                    <a:pt x="217" y="28"/>
                  </a:lnTo>
                  <a:lnTo>
                    <a:pt x="228" y="45"/>
                  </a:lnTo>
                  <a:lnTo>
                    <a:pt x="245" y="77"/>
                  </a:lnTo>
                  <a:lnTo>
                    <a:pt x="263" y="117"/>
                  </a:lnTo>
                  <a:lnTo>
                    <a:pt x="271" y="127"/>
                  </a:lnTo>
                  <a:lnTo>
                    <a:pt x="274" y="135"/>
                  </a:lnTo>
                  <a:lnTo>
                    <a:pt x="273" y="143"/>
                  </a:lnTo>
                  <a:lnTo>
                    <a:pt x="265" y="149"/>
                  </a:lnTo>
                  <a:lnTo>
                    <a:pt x="240" y="157"/>
                  </a:lnTo>
                  <a:lnTo>
                    <a:pt x="243" y="178"/>
                  </a:lnTo>
                  <a:lnTo>
                    <a:pt x="245" y="198"/>
                  </a:lnTo>
                  <a:lnTo>
                    <a:pt x="245" y="213"/>
                  </a:lnTo>
                  <a:lnTo>
                    <a:pt x="257" y="215"/>
                  </a:lnTo>
                  <a:lnTo>
                    <a:pt x="271" y="243"/>
                  </a:lnTo>
                  <a:lnTo>
                    <a:pt x="384" y="362"/>
                  </a:lnTo>
                  <a:lnTo>
                    <a:pt x="389" y="370"/>
                  </a:lnTo>
                  <a:lnTo>
                    <a:pt x="390" y="379"/>
                  </a:lnTo>
                  <a:lnTo>
                    <a:pt x="389" y="386"/>
                  </a:lnTo>
                  <a:lnTo>
                    <a:pt x="384" y="391"/>
                  </a:lnTo>
                  <a:lnTo>
                    <a:pt x="378" y="393"/>
                  </a:lnTo>
                  <a:lnTo>
                    <a:pt x="378" y="402"/>
                  </a:lnTo>
                  <a:lnTo>
                    <a:pt x="375" y="410"/>
                  </a:lnTo>
                  <a:lnTo>
                    <a:pt x="371" y="414"/>
                  </a:lnTo>
                  <a:lnTo>
                    <a:pt x="375" y="420"/>
                  </a:lnTo>
                  <a:lnTo>
                    <a:pt x="378" y="426"/>
                  </a:lnTo>
                  <a:lnTo>
                    <a:pt x="386" y="437"/>
                  </a:lnTo>
                  <a:lnTo>
                    <a:pt x="398" y="444"/>
                  </a:lnTo>
                  <a:lnTo>
                    <a:pt x="409" y="451"/>
                  </a:lnTo>
                  <a:lnTo>
                    <a:pt x="418" y="460"/>
                  </a:lnTo>
                  <a:lnTo>
                    <a:pt x="429" y="466"/>
                  </a:lnTo>
                  <a:lnTo>
                    <a:pt x="455" y="458"/>
                  </a:lnTo>
                  <a:lnTo>
                    <a:pt x="470" y="454"/>
                  </a:lnTo>
                  <a:lnTo>
                    <a:pt x="484" y="451"/>
                  </a:lnTo>
                  <a:lnTo>
                    <a:pt x="494" y="447"/>
                  </a:lnTo>
                  <a:lnTo>
                    <a:pt x="536" y="420"/>
                  </a:lnTo>
                  <a:lnTo>
                    <a:pt x="588" y="362"/>
                  </a:lnTo>
                  <a:lnTo>
                    <a:pt x="594" y="363"/>
                  </a:lnTo>
                  <a:lnTo>
                    <a:pt x="625" y="330"/>
                  </a:lnTo>
                  <a:lnTo>
                    <a:pt x="626" y="322"/>
                  </a:lnTo>
                  <a:lnTo>
                    <a:pt x="631" y="314"/>
                  </a:lnTo>
                  <a:lnTo>
                    <a:pt x="640" y="304"/>
                  </a:lnTo>
                  <a:lnTo>
                    <a:pt x="756" y="301"/>
                  </a:lnTo>
                  <a:lnTo>
                    <a:pt x="679" y="345"/>
                  </a:lnTo>
                  <a:lnTo>
                    <a:pt x="664" y="362"/>
                  </a:lnTo>
                  <a:lnTo>
                    <a:pt x="642" y="400"/>
                  </a:lnTo>
                  <a:lnTo>
                    <a:pt x="645" y="410"/>
                  </a:lnTo>
                  <a:lnTo>
                    <a:pt x="585" y="510"/>
                  </a:lnTo>
                  <a:lnTo>
                    <a:pt x="567" y="564"/>
                  </a:lnTo>
                  <a:lnTo>
                    <a:pt x="544" y="581"/>
                  </a:lnTo>
                  <a:lnTo>
                    <a:pt x="521" y="596"/>
                  </a:lnTo>
                  <a:lnTo>
                    <a:pt x="491" y="610"/>
                  </a:lnTo>
                  <a:lnTo>
                    <a:pt x="472" y="613"/>
                  </a:lnTo>
                  <a:lnTo>
                    <a:pt x="454" y="614"/>
                  </a:lnTo>
                  <a:lnTo>
                    <a:pt x="456" y="664"/>
                  </a:lnTo>
                  <a:lnTo>
                    <a:pt x="456" y="722"/>
                  </a:lnTo>
                  <a:lnTo>
                    <a:pt x="450" y="789"/>
                  </a:lnTo>
                  <a:lnTo>
                    <a:pt x="438" y="854"/>
                  </a:lnTo>
                  <a:lnTo>
                    <a:pt x="423" y="918"/>
                  </a:lnTo>
                  <a:lnTo>
                    <a:pt x="411" y="963"/>
                  </a:lnTo>
                  <a:lnTo>
                    <a:pt x="398" y="971"/>
                  </a:lnTo>
                  <a:lnTo>
                    <a:pt x="386" y="980"/>
                  </a:lnTo>
                  <a:lnTo>
                    <a:pt x="375" y="1028"/>
                  </a:lnTo>
                  <a:lnTo>
                    <a:pt x="375" y="1036"/>
                  </a:lnTo>
                  <a:lnTo>
                    <a:pt x="380" y="1043"/>
                  </a:lnTo>
                  <a:lnTo>
                    <a:pt x="380" y="1052"/>
                  </a:lnTo>
                  <a:lnTo>
                    <a:pt x="374" y="1062"/>
                  </a:lnTo>
                  <a:lnTo>
                    <a:pt x="384" y="1071"/>
                  </a:lnTo>
                  <a:lnTo>
                    <a:pt x="390" y="1079"/>
                  </a:lnTo>
                  <a:lnTo>
                    <a:pt x="395" y="1092"/>
                  </a:lnTo>
                  <a:lnTo>
                    <a:pt x="406" y="1095"/>
                  </a:lnTo>
                  <a:lnTo>
                    <a:pt x="411" y="1100"/>
                  </a:lnTo>
                  <a:lnTo>
                    <a:pt x="415" y="1107"/>
                  </a:lnTo>
                  <a:lnTo>
                    <a:pt x="420" y="1116"/>
                  </a:lnTo>
                  <a:lnTo>
                    <a:pt x="425" y="1124"/>
                  </a:lnTo>
                  <a:lnTo>
                    <a:pt x="454" y="1139"/>
                  </a:lnTo>
                  <a:lnTo>
                    <a:pt x="472" y="1147"/>
                  </a:lnTo>
                  <a:lnTo>
                    <a:pt x="479" y="1155"/>
                  </a:lnTo>
                  <a:lnTo>
                    <a:pt x="482" y="1163"/>
                  </a:lnTo>
                  <a:lnTo>
                    <a:pt x="482" y="1178"/>
                  </a:lnTo>
                  <a:lnTo>
                    <a:pt x="468" y="1181"/>
                  </a:lnTo>
                  <a:lnTo>
                    <a:pt x="448" y="1184"/>
                  </a:lnTo>
                  <a:lnTo>
                    <a:pt x="417" y="1182"/>
                  </a:lnTo>
                  <a:lnTo>
                    <a:pt x="389" y="1178"/>
                  </a:lnTo>
                  <a:lnTo>
                    <a:pt x="357" y="1167"/>
                  </a:lnTo>
                  <a:lnTo>
                    <a:pt x="334" y="1156"/>
                  </a:lnTo>
                  <a:lnTo>
                    <a:pt x="316" y="1144"/>
                  </a:lnTo>
                  <a:lnTo>
                    <a:pt x="297" y="1143"/>
                  </a:lnTo>
                  <a:lnTo>
                    <a:pt x="283" y="1141"/>
                  </a:lnTo>
                  <a:lnTo>
                    <a:pt x="268" y="1137"/>
                  </a:lnTo>
                  <a:lnTo>
                    <a:pt x="255" y="1131"/>
                  </a:lnTo>
                  <a:lnTo>
                    <a:pt x="252" y="1115"/>
                  </a:lnTo>
                  <a:lnTo>
                    <a:pt x="253" y="1101"/>
                  </a:lnTo>
                  <a:lnTo>
                    <a:pt x="255" y="1089"/>
                  </a:lnTo>
                  <a:lnTo>
                    <a:pt x="259" y="1077"/>
                  </a:lnTo>
                  <a:lnTo>
                    <a:pt x="263" y="1065"/>
                  </a:lnTo>
                  <a:lnTo>
                    <a:pt x="268" y="1054"/>
                  </a:lnTo>
                  <a:lnTo>
                    <a:pt x="274" y="1043"/>
                  </a:lnTo>
                  <a:lnTo>
                    <a:pt x="274" y="1032"/>
                  </a:lnTo>
                  <a:lnTo>
                    <a:pt x="274" y="1020"/>
                  </a:lnTo>
                  <a:lnTo>
                    <a:pt x="279" y="1012"/>
                  </a:lnTo>
                  <a:lnTo>
                    <a:pt x="283" y="1005"/>
                  </a:lnTo>
                  <a:lnTo>
                    <a:pt x="283" y="965"/>
                  </a:lnTo>
                  <a:lnTo>
                    <a:pt x="268" y="957"/>
                  </a:lnTo>
                  <a:lnTo>
                    <a:pt x="270" y="948"/>
                  </a:lnTo>
                  <a:lnTo>
                    <a:pt x="273" y="938"/>
                  </a:lnTo>
                  <a:lnTo>
                    <a:pt x="273" y="925"/>
                  </a:lnTo>
                  <a:lnTo>
                    <a:pt x="270" y="910"/>
                  </a:lnTo>
                  <a:lnTo>
                    <a:pt x="273" y="888"/>
                  </a:lnTo>
                  <a:lnTo>
                    <a:pt x="279" y="859"/>
                  </a:lnTo>
                  <a:lnTo>
                    <a:pt x="287" y="829"/>
                  </a:lnTo>
                  <a:lnTo>
                    <a:pt x="297" y="798"/>
                  </a:lnTo>
                  <a:lnTo>
                    <a:pt x="279" y="821"/>
                  </a:lnTo>
                  <a:lnTo>
                    <a:pt x="257" y="844"/>
                  </a:lnTo>
                  <a:lnTo>
                    <a:pt x="239" y="863"/>
                  </a:lnTo>
                  <a:lnTo>
                    <a:pt x="217" y="882"/>
                  </a:lnTo>
                  <a:lnTo>
                    <a:pt x="199" y="896"/>
                  </a:lnTo>
                  <a:lnTo>
                    <a:pt x="176" y="915"/>
                  </a:lnTo>
                  <a:lnTo>
                    <a:pt x="155" y="931"/>
                  </a:lnTo>
                  <a:lnTo>
                    <a:pt x="129" y="947"/>
                  </a:lnTo>
                  <a:lnTo>
                    <a:pt x="103" y="962"/>
                  </a:lnTo>
                  <a:lnTo>
                    <a:pt x="80" y="970"/>
                  </a:lnTo>
                  <a:lnTo>
                    <a:pt x="57" y="979"/>
                  </a:lnTo>
                  <a:lnTo>
                    <a:pt x="36" y="986"/>
                  </a:lnTo>
                  <a:lnTo>
                    <a:pt x="29" y="1012"/>
                  </a:lnTo>
                  <a:lnTo>
                    <a:pt x="21" y="968"/>
                  </a:lnTo>
                  <a:lnTo>
                    <a:pt x="16" y="923"/>
                  </a:lnTo>
                  <a:lnTo>
                    <a:pt x="11" y="879"/>
                  </a:lnTo>
                  <a:lnTo>
                    <a:pt x="7" y="833"/>
                  </a:lnTo>
                  <a:lnTo>
                    <a:pt x="4" y="787"/>
                  </a:lnTo>
                  <a:lnTo>
                    <a:pt x="2" y="742"/>
                  </a:lnTo>
                  <a:lnTo>
                    <a:pt x="0" y="697"/>
                  </a:lnTo>
                  <a:lnTo>
                    <a:pt x="0" y="651"/>
                  </a:lnTo>
                  <a:lnTo>
                    <a:pt x="2" y="605"/>
                  </a:lnTo>
                  <a:lnTo>
                    <a:pt x="3" y="558"/>
                  </a:lnTo>
                  <a:lnTo>
                    <a:pt x="6" y="512"/>
                  </a:lnTo>
                  <a:lnTo>
                    <a:pt x="10" y="466"/>
                  </a:lnTo>
                  <a:lnTo>
                    <a:pt x="15" y="420"/>
                  </a:lnTo>
                  <a:lnTo>
                    <a:pt x="20" y="374"/>
                  </a:lnTo>
                  <a:lnTo>
                    <a:pt x="28" y="326"/>
                  </a:lnTo>
                  <a:lnTo>
                    <a:pt x="36" y="28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2784600" y="3965400"/>
              <a:ext cx="144360" cy="181080"/>
            </a:xfrm>
            <a:custGeom>
              <a:avLst/>
              <a:gdLst/>
              <a:ahLst/>
              <a:rect l="l" t="t" r="r" b="b"/>
              <a:pathLst>
                <a:path w="453" h="570">
                  <a:moveTo>
                    <a:pt x="425" y="0"/>
                  </a:moveTo>
                  <a:lnTo>
                    <a:pt x="427" y="50"/>
                  </a:lnTo>
                  <a:lnTo>
                    <a:pt x="427" y="108"/>
                  </a:lnTo>
                  <a:lnTo>
                    <a:pt x="421" y="175"/>
                  </a:lnTo>
                  <a:lnTo>
                    <a:pt x="409" y="240"/>
                  </a:lnTo>
                  <a:lnTo>
                    <a:pt x="394" y="304"/>
                  </a:lnTo>
                  <a:lnTo>
                    <a:pt x="382" y="349"/>
                  </a:lnTo>
                  <a:lnTo>
                    <a:pt x="369" y="357"/>
                  </a:lnTo>
                  <a:lnTo>
                    <a:pt x="357" y="366"/>
                  </a:lnTo>
                  <a:lnTo>
                    <a:pt x="346" y="414"/>
                  </a:lnTo>
                  <a:lnTo>
                    <a:pt x="346" y="422"/>
                  </a:lnTo>
                  <a:lnTo>
                    <a:pt x="351" y="429"/>
                  </a:lnTo>
                  <a:lnTo>
                    <a:pt x="351" y="438"/>
                  </a:lnTo>
                  <a:lnTo>
                    <a:pt x="345" y="448"/>
                  </a:lnTo>
                  <a:lnTo>
                    <a:pt x="355" y="457"/>
                  </a:lnTo>
                  <a:lnTo>
                    <a:pt x="361" y="465"/>
                  </a:lnTo>
                  <a:lnTo>
                    <a:pt x="366" y="478"/>
                  </a:lnTo>
                  <a:lnTo>
                    <a:pt x="377" y="481"/>
                  </a:lnTo>
                  <a:lnTo>
                    <a:pt x="382" y="486"/>
                  </a:lnTo>
                  <a:lnTo>
                    <a:pt x="386" y="493"/>
                  </a:lnTo>
                  <a:lnTo>
                    <a:pt x="391" y="502"/>
                  </a:lnTo>
                  <a:lnTo>
                    <a:pt x="396" y="510"/>
                  </a:lnTo>
                  <a:lnTo>
                    <a:pt x="425" y="525"/>
                  </a:lnTo>
                  <a:lnTo>
                    <a:pt x="443" y="533"/>
                  </a:lnTo>
                  <a:lnTo>
                    <a:pt x="450" y="541"/>
                  </a:lnTo>
                  <a:lnTo>
                    <a:pt x="453" y="549"/>
                  </a:lnTo>
                  <a:lnTo>
                    <a:pt x="453" y="564"/>
                  </a:lnTo>
                  <a:lnTo>
                    <a:pt x="439" y="567"/>
                  </a:lnTo>
                  <a:lnTo>
                    <a:pt x="419" y="570"/>
                  </a:lnTo>
                  <a:lnTo>
                    <a:pt x="388" y="568"/>
                  </a:lnTo>
                  <a:lnTo>
                    <a:pt x="360" y="564"/>
                  </a:lnTo>
                  <a:lnTo>
                    <a:pt x="328" y="553"/>
                  </a:lnTo>
                  <a:lnTo>
                    <a:pt x="305" y="542"/>
                  </a:lnTo>
                  <a:lnTo>
                    <a:pt x="287" y="530"/>
                  </a:lnTo>
                  <a:lnTo>
                    <a:pt x="268" y="529"/>
                  </a:lnTo>
                  <a:lnTo>
                    <a:pt x="254" y="527"/>
                  </a:lnTo>
                  <a:lnTo>
                    <a:pt x="239" y="523"/>
                  </a:lnTo>
                  <a:lnTo>
                    <a:pt x="226" y="517"/>
                  </a:lnTo>
                  <a:lnTo>
                    <a:pt x="223" y="501"/>
                  </a:lnTo>
                  <a:lnTo>
                    <a:pt x="224" y="487"/>
                  </a:lnTo>
                  <a:lnTo>
                    <a:pt x="226" y="475"/>
                  </a:lnTo>
                  <a:lnTo>
                    <a:pt x="230" y="463"/>
                  </a:lnTo>
                  <a:lnTo>
                    <a:pt x="234" y="451"/>
                  </a:lnTo>
                  <a:lnTo>
                    <a:pt x="239" y="440"/>
                  </a:lnTo>
                  <a:lnTo>
                    <a:pt x="245" y="429"/>
                  </a:lnTo>
                  <a:lnTo>
                    <a:pt x="245" y="418"/>
                  </a:lnTo>
                  <a:lnTo>
                    <a:pt x="245" y="406"/>
                  </a:lnTo>
                  <a:lnTo>
                    <a:pt x="250" y="398"/>
                  </a:lnTo>
                  <a:lnTo>
                    <a:pt x="254" y="391"/>
                  </a:lnTo>
                  <a:lnTo>
                    <a:pt x="254" y="351"/>
                  </a:lnTo>
                  <a:lnTo>
                    <a:pt x="239" y="343"/>
                  </a:lnTo>
                  <a:lnTo>
                    <a:pt x="241" y="334"/>
                  </a:lnTo>
                  <a:lnTo>
                    <a:pt x="244" y="324"/>
                  </a:lnTo>
                  <a:lnTo>
                    <a:pt x="244" y="311"/>
                  </a:lnTo>
                  <a:lnTo>
                    <a:pt x="241" y="296"/>
                  </a:lnTo>
                  <a:lnTo>
                    <a:pt x="244" y="274"/>
                  </a:lnTo>
                  <a:lnTo>
                    <a:pt x="250" y="245"/>
                  </a:lnTo>
                  <a:lnTo>
                    <a:pt x="258" y="215"/>
                  </a:lnTo>
                  <a:lnTo>
                    <a:pt x="268" y="184"/>
                  </a:lnTo>
                  <a:lnTo>
                    <a:pt x="250" y="207"/>
                  </a:lnTo>
                  <a:lnTo>
                    <a:pt x="228" y="230"/>
                  </a:lnTo>
                  <a:lnTo>
                    <a:pt x="210" y="249"/>
                  </a:lnTo>
                  <a:lnTo>
                    <a:pt x="188" y="268"/>
                  </a:lnTo>
                  <a:lnTo>
                    <a:pt x="170" y="282"/>
                  </a:lnTo>
                  <a:lnTo>
                    <a:pt x="147" y="301"/>
                  </a:lnTo>
                  <a:lnTo>
                    <a:pt x="126" y="317"/>
                  </a:lnTo>
                  <a:lnTo>
                    <a:pt x="100" y="333"/>
                  </a:lnTo>
                  <a:lnTo>
                    <a:pt x="74" y="348"/>
                  </a:lnTo>
                  <a:lnTo>
                    <a:pt x="51" y="356"/>
                  </a:lnTo>
                  <a:lnTo>
                    <a:pt x="28" y="365"/>
                  </a:lnTo>
                  <a:lnTo>
                    <a:pt x="7" y="372"/>
                  </a:lnTo>
                  <a:lnTo>
                    <a:pt x="0" y="3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809800" y="3770280"/>
              <a:ext cx="206280" cy="195120"/>
            </a:xfrm>
            <a:custGeom>
              <a:avLst/>
              <a:gdLst/>
              <a:ahLst/>
              <a:rect l="l" t="t" r="r" b="b"/>
              <a:pathLst>
                <a:path w="650" h="614">
                  <a:moveTo>
                    <a:pt x="0" y="5"/>
                  </a:moveTo>
                  <a:lnTo>
                    <a:pt x="7" y="4"/>
                  </a:lnTo>
                  <a:lnTo>
                    <a:pt x="32" y="0"/>
                  </a:lnTo>
                  <a:lnTo>
                    <a:pt x="50" y="0"/>
                  </a:lnTo>
                  <a:lnTo>
                    <a:pt x="70" y="4"/>
                  </a:lnTo>
                  <a:lnTo>
                    <a:pt x="84" y="8"/>
                  </a:lnTo>
                  <a:lnTo>
                    <a:pt x="98" y="15"/>
                  </a:lnTo>
                  <a:lnTo>
                    <a:pt x="111" y="28"/>
                  </a:lnTo>
                  <a:lnTo>
                    <a:pt x="122" y="45"/>
                  </a:lnTo>
                  <a:lnTo>
                    <a:pt x="139" y="77"/>
                  </a:lnTo>
                  <a:lnTo>
                    <a:pt x="157" y="117"/>
                  </a:lnTo>
                  <a:lnTo>
                    <a:pt x="165" y="127"/>
                  </a:lnTo>
                  <a:lnTo>
                    <a:pt x="168" y="135"/>
                  </a:lnTo>
                  <a:lnTo>
                    <a:pt x="167" y="143"/>
                  </a:lnTo>
                  <a:lnTo>
                    <a:pt x="159" y="149"/>
                  </a:lnTo>
                  <a:lnTo>
                    <a:pt x="134" y="157"/>
                  </a:lnTo>
                  <a:lnTo>
                    <a:pt x="137" y="178"/>
                  </a:lnTo>
                  <a:lnTo>
                    <a:pt x="139" y="198"/>
                  </a:lnTo>
                  <a:lnTo>
                    <a:pt x="139" y="213"/>
                  </a:lnTo>
                  <a:lnTo>
                    <a:pt x="151" y="215"/>
                  </a:lnTo>
                  <a:lnTo>
                    <a:pt x="165" y="243"/>
                  </a:lnTo>
                  <a:lnTo>
                    <a:pt x="278" y="362"/>
                  </a:lnTo>
                  <a:lnTo>
                    <a:pt x="283" y="370"/>
                  </a:lnTo>
                  <a:lnTo>
                    <a:pt x="284" y="379"/>
                  </a:lnTo>
                  <a:lnTo>
                    <a:pt x="283" y="386"/>
                  </a:lnTo>
                  <a:lnTo>
                    <a:pt x="278" y="391"/>
                  </a:lnTo>
                  <a:lnTo>
                    <a:pt x="272" y="393"/>
                  </a:lnTo>
                  <a:lnTo>
                    <a:pt x="272" y="402"/>
                  </a:lnTo>
                  <a:lnTo>
                    <a:pt x="269" y="410"/>
                  </a:lnTo>
                  <a:lnTo>
                    <a:pt x="265" y="414"/>
                  </a:lnTo>
                  <a:lnTo>
                    <a:pt x="269" y="420"/>
                  </a:lnTo>
                  <a:lnTo>
                    <a:pt x="272" y="426"/>
                  </a:lnTo>
                  <a:lnTo>
                    <a:pt x="280" y="437"/>
                  </a:lnTo>
                  <a:lnTo>
                    <a:pt x="292" y="444"/>
                  </a:lnTo>
                  <a:lnTo>
                    <a:pt x="303" y="451"/>
                  </a:lnTo>
                  <a:lnTo>
                    <a:pt x="312" y="460"/>
                  </a:lnTo>
                  <a:lnTo>
                    <a:pt x="323" y="466"/>
                  </a:lnTo>
                  <a:lnTo>
                    <a:pt x="349" y="458"/>
                  </a:lnTo>
                  <a:lnTo>
                    <a:pt x="364" y="454"/>
                  </a:lnTo>
                  <a:lnTo>
                    <a:pt x="378" y="451"/>
                  </a:lnTo>
                  <a:lnTo>
                    <a:pt x="388" y="447"/>
                  </a:lnTo>
                  <a:lnTo>
                    <a:pt x="430" y="420"/>
                  </a:lnTo>
                  <a:lnTo>
                    <a:pt x="482" y="362"/>
                  </a:lnTo>
                  <a:lnTo>
                    <a:pt x="488" y="363"/>
                  </a:lnTo>
                  <a:lnTo>
                    <a:pt x="519" y="330"/>
                  </a:lnTo>
                  <a:lnTo>
                    <a:pt x="520" y="322"/>
                  </a:lnTo>
                  <a:lnTo>
                    <a:pt x="525" y="314"/>
                  </a:lnTo>
                  <a:lnTo>
                    <a:pt x="534" y="304"/>
                  </a:lnTo>
                  <a:lnTo>
                    <a:pt x="650" y="301"/>
                  </a:lnTo>
                  <a:lnTo>
                    <a:pt x="573" y="345"/>
                  </a:lnTo>
                  <a:lnTo>
                    <a:pt x="558" y="362"/>
                  </a:lnTo>
                  <a:lnTo>
                    <a:pt x="536" y="400"/>
                  </a:lnTo>
                  <a:lnTo>
                    <a:pt x="539" y="410"/>
                  </a:lnTo>
                  <a:lnTo>
                    <a:pt x="479" y="510"/>
                  </a:lnTo>
                  <a:lnTo>
                    <a:pt x="461" y="564"/>
                  </a:lnTo>
                  <a:lnTo>
                    <a:pt x="438" y="581"/>
                  </a:lnTo>
                  <a:lnTo>
                    <a:pt x="415" y="596"/>
                  </a:lnTo>
                  <a:lnTo>
                    <a:pt x="385" y="610"/>
                  </a:lnTo>
                  <a:lnTo>
                    <a:pt x="366" y="613"/>
                  </a:lnTo>
                  <a:lnTo>
                    <a:pt x="348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286056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2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4" y="148"/>
                  </a:lnTo>
                  <a:lnTo>
                    <a:pt x="143" y="162"/>
                  </a:lnTo>
                  <a:lnTo>
                    <a:pt x="144" y="168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0"/>
                  </a:lnTo>
                  <a:lnTo>
                    <a:pt x="164" y="180"/>
                  </a:lnTo>
                  <a:lnTo>
                    <a:pt x="167" y="180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9" y="55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5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1"/>
                  </a:lnTo>
                  <a:lnTo>
                    <a:pt x="259" y="26"/>
                  </a:lnTo>
                  <a:lnTo>
                    <a:pt x="263" y="33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59" y="50"/>
                  </a:lnTo>
                  <a:lnTo>
                    <a:pt x="250" y="50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3"/>
                  </a:lnTo>
                  <a:lnTo>
                    <a:pt x="250" y="28"/>
                  </a:lnTo>
                  <a:lnTo>
                    <a:pt x="244" y="24"/>
                  </a:lnTo>
                  <a:lnTo>
                    <a:pt x="126" y="24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0"/>
                  </a:lnTo>
                  <a:lnTo>
                    <a:pt x="259" y="50"/>
                  </a:lnTo>
                  <a:lnTo>
                    <a:pt x="607" y="50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0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59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8" y="87"/>
                  </a:lnTo>
                  <a:lnTo>
                    <a:pt x="829" y="82"/>
                  </a:lnTo>
                  <a:lnTo>
                    <a:pt x="662" y="82"/>
                  </a:lnTo>
                  <a:lnTo>
                    <a:pt x="662" y="90"/>
                  </a:lnTo>
                  <a:lnTo>
                    <a:pt x="648" y="90"/>
                  </a:lnTo>
                  <a:lnTo>
                    <a:pt x="648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10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936880" y="4205160"/>
              <a:ext cx="341280" cy="374760"/>
            </a:xfrm>
            <a:custGeom>
              <a:avLst/>
              <a:gdLst/>
              <a:ahLst/>
              <a:rect l="l" t="t" r="r" b="b"/>
              <a:pathLst>
                <a:path w="1078" h="1184">
                  <a:moveTo>
                    <a:pt x="566" y="620"/>
                  </a:moveTo>
                  <a:lnTo>
                    <a:pt x="586" y="606"/>
                  </a:lnTo>
                  <a:lnTo>
                    <a:pt x="605" y="594"/>
                  </a:lnTo>
                  <a:lnTo>
                    <a:pt x="623" y="585"/>
                  </a:lnTo>
                  <a:lnTo>
                    <a:pt x="641" y="576"/>
                  </a:lnTo>
                  <a:lnTo>
                    <a:pt x="606" y="553"/>
                  </a:lnTo>
                  <a:lnTo>
                    <a:pt x="589" y="542"/>
                  </a:lnTo>
                  <a:lnTo>
                    <a:pt x="571" y="528"/>
                  </a:lnTo>
                  <a:lnTo>
                    <a:pt x="573" y="551"/>
                  </a:lnTo>
                  <a:lnTo>
                    <a:pt x="570" y="573"/>
                  </a:lnTo>
                  <a:lnTo>
                    <a:pt x="566" y="620"/>
                  </a:lnTo>
                  <a:close/>
                  <a:moveTo>
                    <a:pt x="351" y="1008"/>
                  </a:moveTo>
                  <a:lnTo>
                    <a:pt x="304" y="971"/>
                  </a:lnTo>
                  <a:lnTo>
                    <a:pt x="256" y="932"/>
                  </a:lnTo>
                  <a:lnTo>
                    <a:pt x="210" y="893"/>
                  </a:lnTo>
                  <a:lnTo>
                    <a:pt x="166" y="852"/>
                  </a:lnTo>
                  <a:lnTo>
                    <a:pt x="123" y="810"/>
                  </a:lnTo>
                  <a:lnTo>
                    <a:pt x="81" y="767"/>
                  </a:lnTo>
                  <a:lnTo>
                    <a:pt x="40" y="723"/>
                  </a:lnTo>
                  <a:lnTo>
                    <a:pt x="0" y="678"/>
                  </a:lnTo>
                  <a:lnTo>
                    <a:pt x="6" y="672"/>
                  </a:lnTo>
                  <a:lnTo>
                    <a:pt x="9" y="660"/>
                  </a:lnTo>
                  <a:lnTo>
                    <a:pt x="10" y="653"/>
                  </a:lnTo>
                  <a:lnTo>
                    <a:pt x="14" y="647"/>
                  </a:lnTo>
                  <a:lnTo>
                    <a:pt x="32" y="642"/>
                  </a:lnTo>
                  <a:lnTo>
                    <a:pt x="24" y="629"/>
                  </a:lnTo>
                  <a:lnTo>
                    <a:pt x="30" y="608"/>
                  </a:lnTo>
                  <a:lnTo>
                    <a:pt x="32" y="602"/>
                  </a:lnTo>
                  <a:lnTo>
                    <a:pt x="33" y="599"/>
                  </a:lnTo>
                  <a:lnTo>
                    <a:pt x="38" y="599"/>
                  </a:lnTo>
                  <a:lnTo>
                    <a:pt x="38" y="593"/>
                  </a:lnTo>
                  <a:lnTo>
                    <a:pt x="66" y="593"/>
                  </a:lnTo>
                  <a:lnTo>
                    <a:pt x="66" y="599"/>
                  </a:lnTo>
                  <a:lnTo>
                    <a:pt x="70" y="599"/>
                  </a:lnTo>
                  <a:lnTo>
                    <a:pt x="73" y="602"/>
                  </a:lnTo>
                  <a:lnTo>
                    <a:pt x="75" y="609"/>
                  </a:lnTo>
                  <a:lnTo>
                    <a:pt x="76" y="619"/>
                  </a:lnTo>
                  <a:lnTo>
                    <a:pt x="76" y="629"/>
                  </a:lnTo>
                  <a:lnTo>
                    <a:pt x="75" y="635"/>
                  </a:lnTo>
                  <a:lnTo>
                    <a:pt x="72" y="638"/>
                  </a:lnTo>
                  <a:lnTo>
                    <a:pt x="76" y="642"/>
                  </a:lnTo>
                  <a:lnTo>
                    <a:pt x="83" y="642"/>
                  </a:lnTo>
                  <a:lnTo>
                    <a:pt x="87" y="638"/>
                  </a:lnTo>
                  <a:lnTo>
                    <a:pt x="92" y="634"/>
                  </a:lnTo>
                  <a:lnTo>
                    <a:pt x="90" y="627"/>
                  </a:lnTo>
                  <a:lnTo>
                    <a:pt x="76" y="629"/>
                  </a:lnTo>
                  <a:lnTo>
                    <a:pt x="76" y="619"/>
                  </a:lnTo>
                  <a:lnTo>
                    <a:pt x="93" y="617"/>
                  </a:lnTo>
                  <a:lnTo>
                    <a:pt x="98" y="619"/>
                  </a:lnTo>
                  <a:lnTo>
                    <a:pt x="102" y="620"/>
                  </a:lnTo>
                  <a:lnTo>
                    <a:pt x="107" y="623"/>
                  </a:lnTo>
                  <a:lnTo>
                    <a:pt x="104" y="604"/>
                  </a:lnTo>
                  <a:lnTo>
                    <a:pt x="99" y="585"/>
                  </a:lnTo>
                  <a:lnTo>
                    <a:pt x="128" y="459"/>
                  </a:lnTo>
                  <a:lnTo>
                    <a:pt x="136" y="438"/>
                  </a:lnTo>
                  <a:lnTo>
                    <a:pt x="142" y="422"/>
                  </a:lnTo>
                  <a:lnTo>
                    <a:pt x="151" y="409"/>
                  </a:lnTo>
                  <a:lnTo>
                    <a:pt x="144" y="380"/>
                  </a:lnTo>
                  <a:lnTo>
                    <a:pt x="141" y="360"/>
                  </a:lnTo>
                  <a:lnTo>
                    <a:pt x="142" y="341"/>
                  </a:lnTo>
                  <a:lnTo>
                    <a:pt x="148" y="320"/>
                  </a:lnTo>
                  <a:lnTo>
                    <a:pt x="163" y="294"/>
                  </a:lnTo>
                  <a:lnTo>
                    <a:pt x="179" y="272"/>
                  </a:lnTo>
                  <a:lnTo>
                    <a:pt x="200" y="252"/>
                  </a:lnTo>
                  <a:lnTo>
                    <a:pt x="222" y="239"/>
                  </a:lnTo>
                  <a:lnTo>
                    <a:pt x="234" y="226"/>
                  </a:lnTo>
                  <a:lnTo>
                    <a:pt x="248" y="218"/>
                  </a:lnTo>
                  <a:lnTo>
                    <a:pt x="261" y="214"/>
                  </a:lnTo>
                  <a:lnTo>
                    <a:pt x="274" y="214"/>
                  </a:lnTo>
                  <a:lnTo>
                    <a:pt x="289" y="218"/>
                  </a:lnTo>
                  <a:lnTo>
                    <a:pt x="321" y="211"/>
                  </a:lnTo>
                  <a:lnTo>
                    <a:pt x="326" y="199"/>
                  </a:lnTo>
                  <a:lnTo>
                    <a:pt x="320" y="179"/>
                  </a:lnTo>
                  <a:lnTo>
                    <a:pt x="324" y="178"/>
                  </a:lnTo>
                  <a:lnTo>
                    <a:pt x="320" y="156"/>
                  </a:lnTo>
                  <a:lnTo>
                    <a:pt x="318" y="135"/>
                  </a:lnTo>
                  <a:lnTo>
                    <a:pt x="318" y="112"/>
                  </a:lnTo>
                  <a:lnTo>
                    <a:pt x="324" y="89"/>
                  </a:lnTo>
                  <a:lnTo>
                    <a:pt x="332" y="64"/>
                  </a:lnTo>
                  <a:lnTo>
                    <a:pt x="346" y="46"/>
                  </a:lnTo>
                  <a:lnTo>
                    <a:pt x="357" y="34"/>
                  </a:lnTo>
                  <a:lnTo>
                    <a:pt x="389" y="18"/>
                  </a:lnTo>
                  <a:lnTo>
                    <a:pt x="412" y="9"/>
                  </a:lnTo>
                  <a:lnTo>
                    <a:pt x="434" y="3"/>
                  </a:lnTo>
                  <a:lnTo>
                    <a:pt x="459" y="0"/>
                  </a:lnTo>
                  <a:lnTo>
                    <a:pt x="477" y="0"/>
                  </a:lnTo>
                  <a:lnTo>
                    <a:pt x="497" y="3"/>
                  </a:lnTo>
                  <a:lnTo>
                    <a:pt x="512" y="8"/>
                  </a:lnTo>
                  <a:lnTo>
                    <a:pt x="525" y="14"/>
                  </a:lnTo>
                  <a:lnTo>
                    <a:pt x="538" y="27"/>
                  </a:lnTo>
                  <a:lnTo>
                    <a:pt x="550" y="44"/>
                  </a:lnTo>
                  <a:lnTo>
                    <a:pt x="566" y="77"/>
                  </a:lnTo>
                  <a:lnTo>
                    <a:pt x="585" y="117"/>
                  </a:lnTo>
                  <a:lnTo>
                    <a:pt x="592" y="127"/>
                  </a:lnTo>
                  <a:lnTo>
                    <a:pt x="596" y="135"/>
                  </a:lnTo>
                  <a:lnTo>
                    <a:pt x="594" y="142"/>
                  </a:lnTo>
                  <a:lnTo>
                    <a:pt x="586" y="148"/>
                  </a:lnTo>
                  <a:lnTo>
                    <a:pt x="562" y="156"/>
                  </a:lnTo>
                  <a:lnTo>
                    <a:pt x="565" y="178"/>
                  </a:lnTo>
                  <a:lnTo>
                    <a:pt x="566" y="198"/>
                  </a:lnTo>
                  <a:lnTo>
                    <a:pt x="566" y="213"/>
                  </a:lnTo>
                  <a:lnTo>
                    <a:pt x="577" y="214"/>
                  </a:lnTo>
                  <a:lnTo>
                    <a:pt x="592" y="242"/>
                  </a:lnTo>
                  <a:lnTo>
                    <a:pt x="704" y="361"/>
                  </a:lnTo>
                  <a:lnTo>
                    <a:pt x="710" y="369"/>
                  </a:lnTo>
                  <a:lnTo>
                    <a:pt x="712" y="378"/>
                  </a:lnTo>
                  <a:lnTo>
                    <a:pt x="710" y="386"/>
                  </a:lnTo>
                  <a:lnTo>
                    <a:pt x="704" y="390"/>
                  </a:lnTo>
                  <a:lnTo>
                    <a:pt x="700" y="392"/>
                  </a:lnTo>
                  <a:lnTo>
                    <a:pt x="700" y="401"/>
                  </a:lnTo>
                  <a:lnTo>
                    <a:pt x="696" y="409"/>
                  </a:lnTo>
                  <a:lnTo>
                    <a:pt x="692" y="415"/>
                  </a:lnTo>
                  <a:lnTo>
                    <a:pt x="696" y="419"/>
                  </a:lnTo>
                  <a:lnTo>
                    <a:pt x="700" y="426"/>
                  </a:lnTo>
                  <a:lnTo>
                    <a:pt x="707" y="436"/>
                  </a:lnTo>
                  <a:lnTo>
                    <a:pt x="720" y="444"/>
                  </a:lnTo>
                  <a:lnTo>
                    <a:pt x="730" y="450"/>
                  </a:lnTo>
                  <a:lnTo>
                    <a:pt x="739" y="459"/>
                  </a:lnTo>
                  <a:lnTo>
                    <a:pt x="750" y="465"/>
                  </a:lnTo>
                  <a:lnTo>
                    <a:pt x="776" y="457"/>
                  </a:lnTo>
                  <a:lnTo>
                    <a:pt x="790" y="453"/>
                  </a:lnTo>
                  <a:lnTo>
                    <a:pt x="805" y="450"/>
                  </a:lnTo>
                  <a:lnTo>
                    <a:pt x="816" y="447"/>
                  </a:lnTo>
                  <a:lnTo>
                    <a:pt x="857" y="419"/>
                  </a:lnTo>
                  <a:lnTo>
                    <a:pt x="909" y="361"/>
                  </a:lnTo>
                  <a:lnTo>
                    <a:pt x="916" y="363"/>
                  </a:lnTo>
                  <a:lnTo>
                    <a:pt x="946" y="329"/>
                  </a:lnTo>
                  <a:lnTo>
                    <a:pt x="948" y="322"/>
                  </a:lnTo>
                  <a:lnTo>
                    <a:pt x="952" y="314"/>
                  </a:lnTo>
                  <a:lnTo>
                    <a:pt x="960" y="303"/>
                  </a:lnTo>
                  <a:lnTo>
                    <a:pt x="1078" y="300"/>
                  </a:lnTo>
                  <a:lnTo>
                    <a:pt x="1000" y="344"/>
                  </a:lnTo>
                  <a:lnTo>
                    <a:pt x="986" y="361"/>
                  </a:lnTo>
                  <a:lnTo>
                    <a:pt x="963" y="399"/>
                  </a:lnTo>
                  <a:lnTo>
                    <a:pt x="966" y="409"/>
                  </a:lnTo>
                  <a:lnTo>
                    <a:pt x="906" y="510"/>
                  </a:lnTo>
                  <a:lnTo>
                    <a:pt x="888" y="563"/>
                  </a:lnTo>
                  <a:lnTo>
                    <a:pt x="865" y="580"/>
                  </a:lnTo>
                  <a:lnTo>
                    <a:pt x="842" y="596"/>
                  </a:lnTo>
                  <a:lnTo>
                    <a:pt x="813" y="609"/>
                  </a:lnTo>
                  <a:lnTo>
                    <a:pt x="793" y="612"/>
                  </a:lnTo>
                  <a:lnTo>
                    <a:pt x="775" y="614"/>
                  </a:lnTo>
                  <a:lnTo>
                    <a:pt x="778" y="663"/>
                  </a:lnTo>
                  <a:lnTo>
                    <a:pt x="778" y="721"/>
                  </a:lnTo>
                  <a:lnTo>
                    <a:pt x="772" y="788"/>
                  </a:lnTo>
                  <a:lnTo>
                    <a:pt x="759" y="853"/>
                  </a:lnTo>
                  <a:lnTo>
                    <a:pt x="744" y="917"/>
                  </a:lnTo>
                  <a:lnTo>
                    <a:pt x="732" y="962"/>
                  </a:lnTo>
                  <a:lnTo>
                    <a:pt x="720" y="970"/>
                  </a:lnTo>
                  <a:lnTo>
                    <a:pt x="707" y="980"/>
                  </a:lnTo>
                  <a:lnTo>
                    <a:pt x="697" y="1027"/>
                  </a:lnTo>
                  <a:lnTo>
                    <a:pt x="697" y="1035"/>
                  </a:lnTo>
                  <a:lnTo>
                    <a:pt x="701" y="1043"/>
                  </a:lnTo>
                  <a:lnTo>
                    <a:pt x="701" y="1051"/>
                  </a:lnTo>
                  <a:lnTo>
                    <a:pt x="695" y="1061"/>
                  </a:lnTo>
                  <a:lnTo>
                    <a:pt x="705" y="1070"/>
                  </a:lnTo>
                  <a:lnTo>
                    <a:pt x="712" y="1078"/>
                  </a:lnTo>
                  <a:lnTo>
                    <a:pt x="716" y="1091"/>
                  </a:lnTo>
                  <a:lnTo>
                    <a:pt x="726" y="1094"/>
                  </a:lnTo>
                  <a:lnTo>
                    <a:pt x="732" y="1099"/>
                  </a:lnTo>
                  <a:lnTo>
                    <a:pt x="736" y="1108"/>
                  </a:lnTo>
                  <a:lnTo>
                    <a:pt x="741" y="1116"/>
                  </a:lnTo>
                  <a:lnTo>
                    <a:pt x="746" y="1124"/>
                  </a:lnTo>
                  <a:lnTo>
                    <a:pt x="775" y="1139"/>
                  </a:lnTo>
                  <a:lnTo>
                    <a:pt x="793" y="1147"/>
                  </a:lnTo>
                  <a:lnTo>
                    <a:pt x="801" y="1154"/>
                  </a:lnTo>
                  <a:lnTo>
                    <a:pt x="804" y="1162"/>
                  </a:lnTo>
                  <a:lnTo>
                    <a:pt x="804" y="1177"/>
                  </a:lnTo>
                  <a:lnTo>
                    <a:pt x="789" y="1180"/>
                  </a:lnTo>
                  <a:lnTo>
                    <a:pt x="769" y="1184"/>
                  </a:lnTo>
                  <a:lnTo>
                    <a:pt x="738" y="1182"/>
                  </a:lnTo>
                  <a:lnTo>
                    <a:pt x="710" y="1177"/>
                  </a:lnTo>
                  <a:lnTo>
                    <a:pt x="678" y="1167"/>
                  </a:lnTo>
                  <a:lnTo>
                    <a:pt x="656" y="1156"/>
                  </a:lnTo>
                  <a:lnTo>
                    <a:pt x="637" y="1144"/>
                  </a:lnTo>
                  <a:lnTo>
                    <a:pt x="619" y="1142"/>
                  </a:lnTo>
                  <a:lnTo>
                    <a:pt x="605" y="1141"/>
                  </a:lnTo>
                  <a:lnTo>
                    <a:pt x="590" y="1136"/>
                  </a:lnTo>
                  <a:lnTo>
                    <a:pt x="576" y="1131"/>
                  </a:lnTo>
                  <a:lnTo>
                    <a:pt x="573" y="1114"/>
                  </a:lnTo>
                  <a:lnTo>
                    <a:pt x="574" y="1101"/>
                  </a:lnTo>
                  <a:lnTo>
                    <a:pt x="576" y="1088"/>
                  </a:lnTo>
                  <a:lnTo>
                    <a:pt x="580" y="1076"/>
                  </a:lnTo>
                  <a:lnTo>
                    <a:pt x="585" y="1064"/>
                  </a:lnTo>
                  <a:lnTo>
                    <a:pt x="590" y="1053"/>
                  </a:lnTo>
                  <a:lnTo>
                    <a:pt x="596" y="1043"/>
                  </a:lnTo>
                  <a:lnTo>
                    <a:pt x="596" y="1032"/>
                  </a:lnTo>
                  <a:lnTo>
                    <a:pt x="596" y="1019"/>
                  </a:lnTo>
                  <a:lnTo>
                    <a:pt x="599" y="1012"/>
                  </a:lnTo>
                  <a:lnTo>
                    <a:pt x="605" y="1004"/>
                  </a:lnTo>
                  <a:lnTo>
                    <a:pt x="605" y="964"/>
                  </a:lnTo>
                  <a:lnTo>
                    <a:pt x="590" y="957"/>
                  </a:lnTo>
                  <a:lnTo>
                    <a:pt x="591" y="947"/>
                  </a:lnTo>
                  <a:lnTo>
                    <a:pt x="594" y="937"/>
                  </a:lnTo>
                  <a:lnTo>
                    <a:pt x="594" y="925"/>
                  </a:lnTo>
                  <a:lnTo>
                    <a:pt x="591" y="910"/>
                  </a:lnTo>
                  <a:lnTo>
                    <a:pt x="594" y="888"/>
                  </a:lnTo>
                  <a:lnTo>
                    <a:pt x="599" y="859"/>
                  </a:lnTo>
                  <a:lnTo>
                    <a:pt x="608" y="828"/>
                  </a:lnTo>
                  <a:lnTo>
                    <a:pt x="619" y="797"/>
                  </a:lnTo>
                  <a:lnTo>
                    <a:pt x="599" y="820"/>
                  </a:lnTo>
                  <a:lnTo>
                    <a:pt x="577" y="843"/>
                  </a:lnTo>
                  <a:lnTo>
                    <a:pt x="560" y="862"/>
                  </a:lnTo>
                  <a:lnTo>
                    <a:pt x="539" y="882"/>
                  </a:lnTo>
                  <a:lnTo>
                    <a:pt x="520" y="896"/>
                  </a:lnTo>
                  <a:lnTo>
                    <a:pt x="498" y="914"/>
                  </a:lnTo>
                  <a:lnTo>
                    <a:pt x="476" y="931"/>
                  </a:lnTo>
                  <a:lnTo>
                    <a:pt x="449" y="946"/>
                  </a:lnTo>
                  <a:lnTo>
                    <a:pt x="424" y="961"/>
                  </a:lnTo>
                  <a:lnTo>
                    <a:pt x="401" y="969"/>
                  </a:lnTo>
                  <a:lnTo>
                    <a:pt x="378" y="978"/>
                  </a:lnTo>
                  <a:lnTo>
                    <a:pt x="357" y="986"/>
                  </a:lnTo>
                  <a:lnTo>
                    <a:pt x="351" y="1008"/>
                  </a:lnTo>
                  <a:close/>
                  <a:moveTo>
                    <a:pt x="105" y="642"/>
                  </a:moveTo>
                  <a:lnTo>
                    <a:pt x="98" y="650"/>
                  </a:lnTo>
                  <a:lnTo>
                    <a:pt x="101" y="655"/>
                  </a:lnTo>
                  <a:lnTo>
                    <a:pt x="104" y="661"/>
                  </a:lnTo>
                  <a:lnTo>
                    <a:pt x="105" y="655"/>
                  </a:lnTo>
                  <a:lnTo>
                    <a:pt x="107" y="649"/>
                  </a:lnTo>
                  <a:lnTo>
                    <a:pt x="105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3048120" y="4398840"/>
              <a:ext cx="144360" cy="181080"/>
            </a:xfrm>
            <a:custGeom>
              <a:avLst/>
              <a:gdLst/>
              <a:ahLst/>
              <a:rect l="l" t="t" r="r" b="b"/>
              <a:pathLst>
                <a:path w="453" h="570">
                  <a:moveTo>
                    <a:pt x="424" y="0"/>
                  </a:moveTo>
                  <a:lnTo>
                    <a:pt x="427" y="49"/>
                  </a:lnTo>
                  <a:lnTo>
                    <a:pt x="427" y="107"/>
                  </a:lnTo>
                  <a:lnTo>
                    <a:pt x="421" y="174"/>
                  </a:lnTo>
                  <a:lnTo>
                    <a:pt x="408" y="239"/>
                  </a:lnTo>
                  <a:lnTo>
                    <a:pt x="393" y="303"/>
                  </a:lnTo>
                  <a:lnTo>
                    <a:pt x="381" y="348"/>
                  </a:lnTo>
                  <a:lnTo>
                    <a:pt x="369" y="356"/>
                  </a:lnTo>
                  <a:lnTo>
                    <a:pt x="356" y="366"/>
                  </a:lnTo>
                  <a:lnTo>
                    <a:pt x="346" y="413"/>
                  </a:lnTo>
                  <a:lnTo>
                    <a:pt x="346" y="421"/>
                  </a:lnTo>
                  <a:lnTo>
                    <a:pt x="350" y="429"/>
                  </a:lnTo>
                  <a:lnTo>
                    <a:pt x="350" y="437"/>
                  </a:lnTo>
                  <a:lnTo>
                    <a:pt x="344" y="447"/>
                  </a:lnTo>
                  <a:lnTo>
                    <a:pt x="354" y="456"/>
                  </a:lnTo>
                  <a:lnTo>
                    <a:pt x="361" y="464"/>
                  </a:lnTo>
                  <a:lnTo>
                    <a:pt x="365" y="477"/>
                  </a:lnTo>
                  <a:lnTo>
                    <a:pt x="375" y="480"/>
                  </a:lnTo>
                  <a:lnTo>
                    <a:pt x="381" y="485"/>
                  </a:lnTo>
                  <a:lnTo>
                    <a:pt x="385" y="494"/>
                  </a:lnTo>
                  <a:lnTo>
                    <a:pt x="390" y="502"/>
                  </a:lnTo>
                  <a:lnTo>
                    <a:pt x="395" y="510"/>
                  </a:lnTo>
                  <a:lnTo>
                    <a:pt x="424" y="525"/>
                  </a:lnTo>
                  <a:lnTo>
                    <a:pt x="442" y="533"/>
                  </a:lnTo>
                  <a:lnTo>
                    <a:pt x="450" y="540"/>
                  </a:lnTo>
                  <a:lnTo>
                    <a:pt x="453" y="548"/>
                  </a:lnTo>
                  <a:lnTo>
                    <a:pt x="453" y="563"/>
                  </a:lnTo>
                  <a:lnTo>
                    <a:pt x="438" y="566"/>
                  </a:lnTo>
                  <a:lnTo>
                    <a:pt x="418" y="570"/>
                  </a:lnTo>
                  <a:lnTo>
                    <a:pt x="387" y="568"/>
                  </a:lnTo>
                  <a:lnTo>
                    <a:pt x="359" y="563"/>
                  </a:lnTo>
                  <a:lnTo>
                    <a:pt x="327" y="553"/>
                  </a:lnTo>
                  <a:lnTo>
                    <a:pt x="305" y="542"/>
                  </a:lnTo>
                  <a:lnTo>
                    <a:pt x="286" y="530"/>
                  </a:lnTo>
                  <a:lnTo>
                    <a:pt x="268" y="528"/>
                  </a:lnTo>
                  <a:lnTo>
                    <a:pt x="254" y="527"/>
                  </a:lnTo>
                  <a:lnTo>
                    <a:pt x="239" y="522"/>
                  </a:lnTo>
                  <a:lnTo>
                    <a:pt x="225" y="517"/>
                  </a:lnTo>
                  <a:lnTo>
                    <a:pt x="222" y="500"/>
                  </a:lnTo>
                  <a:lnTo>
                    <a:pt x="223" y="487"/>
                  </a:lnTo>
                  <a:lnTo>
                    <a:pt x="225" y="474"/>
                  </a:lnTo>
                  <a:lnTo>
                    <a:pt x="229" y="462"/>
                  </a:lnTo>
                  <a:lnTo>
                    <a:pt x="234" y="450"/>
                  </a:lnTo>
                  <a:lnTo>
                    <a:pt x="239" y="439"/>
                  </a:lnTo>
                  <a:lnTo>
                    <a:pt x="245" y="429"/>
                  </a:lnTo>
                  <a:lnTo>
                    <a:pt x="245" y="418"/>
                  </a:lnTo>
                  <a:lnTo>
                    <a:pt x="245" y="405"/>
                  </a:lnTo>
                  <a:lnTo>
                    <a:pt x="248" y="398"/>
                  </a:lnTo>
                  <a:lnTo>
                    <a:pt x="254" y="390"/>
                  </a:lnTo>
                  <a:lnTo>
                    <a:pt x="254" y="350"/>
                  </a:lnTo>
                  <a:lnTo>
                    <a:pt x="239" y="343"/>
                  </a:lnTo>
                  <a:lnTo>
                    <a:pt x="240" y="333"/>
                  </a:lnTo>
                  <a:lnTo>
                    <a:pt x="243" y="323"/>
                  </a:lnTo>
                  <a:lnTo>
                    <a:pt x="243" y="311"/>
                  </a:lnTo>
                  <a:lnTo>
                    <a:pt x="240" y="296"/>
                  </a:lnTo>
                  <a:lnTo>
                    <a:pt x="243" y="274"/>
                  </a:lnTo>
                  <a:lnTo>
                    <a:pt x="248" y="245"/>
                  </a:lnTo>
                  <a:lnTo>
                    <a:pt x="257" y="214"/>
                  </a:lnTo>
                  <a:lnTo>
                    <a:pt x="268" y="183"/>
                  </a:lnTo>
                  <a:lnTo>
                    <a:pt x="248" y="206"/>
                  </a:lnTo>
                  <a:lnTo>
                    <a:pt x="226" y="229"/>
                  </a:lnTo>
                  <a:lnTo>
                    <a:pt x="209" y="248"/>
                  </a:lnTo>
                  <a:lnTo>
                    <a:pt x="188" y="268"/>
                  </a:lnTo>
                  <a:lnTo>
                    <a:pt x="169" y="282"/>
                  </a:lnTo>
                  <a:lnTo>
                    <a:pt x="147" y="300"/>
                  </a:lnTo>
                  <a:lnTo>
                    <a:pt x="125" y="317"/>
                  </a:lnTo>
                  <a:lnTo>
                    <a:pt x="98" y="332"/>
                  </a:lnTo>
                  <a:lnTo>
                    <a:pt x="73" y="347"/>
                  </a:lnTo>
                  <a:lnTo>
                    <a:pt x="50" y="355"/>
                  </a:lnTo>
                  <a:lnTo>
                    <a:pt x="27" y="364"/>
                  </a:lnTo>
                  <a:lnTo>
                    <a:pt x="6" y="372"/>
                  </a:lnTo>
                  <a:lnTo>
                    <a:pt x="0" y="3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936880" y="4205160"/>
              <a:ext cx="341280" cy="214560"/>
            </a:xfrm>
            <a:custGeom>
              <a:avLst/>
              <a:gdLst/>
              <a:ahLst/>
              <a:rect l="l" t="t" r="r" b="b"/>
              <a:pathLst>
                <a:path w="1078" h="678">
                  <a:moveTo>
                    <a:pt x="0" y="678"/>
                  </a:moveTo>
                  <a:lnTo>
                    <a:pt x="6" y="672"/>
                  </a:lnTo>
                  <a:lnTo>
                    <a:pt x="9" y="660"/>
                  </a:lnTo>
                  <a:lnTo>
                    <a:pt x="10" y="653"/>
                  </a:lnTo>
                  <a:lnTo>
                    <a:pt x="14" y="647"/>
                  </a:lnTo>
                  <a:lnTo>
                    <a:pt x="32" y="642"/>
                  </a:lnTo>
                  <a:lnTo>
                    <a:pt x="24" y="629"/>
                  </a:lnTo>
                  <a:lnTo>
                    <a:pt x="30" y="608"/>
                  </a:lnTo>
                  <a:lnTo>
                    <a:pt x="32" y="602"/>
                  </a:lnTo>
                  <a:lnTo>
                    <a:pt x="33" y="599"/>
                  </a:lnTo>
                  <a:lnTo>
                    <a:pt x="38" y="599"/>
                  </a:lnTo>
                  <a:lnTo>
                    <a:pt x="38" y="593"/>
                  </a:lnTo>
                  <a:lnTo>
                    <a:pt x="66" y="593"/>
                  </a:lnTo>
                  <a:lnTo>
                    <a:pt x="66" y="599"/>
                  </a:lnTo>
                  <a:lnTo>
                    <a:pt x="70" y="599"/>
                  </a:lnTo>
                  <a:lnTo>
                    <a:pt x="73" y="602"/>
                  </a:lnTo>
                  <a:lnTo>
                    <a:pt x="75" y="609"/>
                  </a:lnTo>
                  <a:lnTo>
                    <a:pt x="76" y="619"/>
                  </a:lnTo>
                  <a:lnTo>
                    <a:pt x="76" y="629"/>
                  </a:lnTo>
                  <a:lnTo>
                    <a:pt x="75" y="635"/>
                  </a:lnTo>
                  <a:lnTo>
                    <a:pt x="72" y="638"/>
                  </a:lnTo>
                  <a:lnTo>
                    <a:pt x="76" y="642"/>
                  </a:lnTo>
                  <a:lnTo>
                    <a:pt x="83" y="642"/>
                  </a:lnTo>
                  <a:lnTo>
                    <a:pt x="87" y="638"/>
                  </a:lnTo>
                  <a:lnTo>
                    <a:pt x="92" y="634"/>
                  </a:lnTo>
                  <a:lnTo>
                    <a:pt x="90" y="627"/>
                  </a:lnTo>
                  <a:lnTo>
                    <a:pt x="76" y="629"/>
                  </a:lnTo>
                  <a:lnTo>
                    <a:pt x="76" y="619"/>
                  </a:lnTo>
                  <a:lnTo>
                    <a:pt x="93" y="617"/>
                  </a:lnTo>
                  <a:lnTo>
                    <a:pt x="98" y="619"/>
                  </a:lnTo>
                  <a:lnTo>
                    <a:pt x="102" y="620"/>
                  </a:lnTo>
                  <a:lnTo>
                    <a:pt x="107" y="623"/>
                  </a:lnTo>
                  <a:lnTo>
                    <a:pt x="104" y="604"/>
                  </a:lnTo>
                  <a:lnTo>
                    <a:pt x="99" y="585"/>
                  </a:lnTo>
                  <a:lnTo>
                    <a:pt x="128" y="459"/>
                  </a:lnTo>
                  <a:lnTo>
                    <a:pt x="136" y="438"/>
                  </a:lnTo>
                  <a:lnTo>
                    <a:pt x="142" y="422"/>
                  </a:lnTo>
                  <a:lnTo>
                    <a:pt x="151" y="409"/>
                  </a:lnTo>
                  <a:lnTo>
                    <a:pt x="144" y="380"/>
                  </a:lnTo>
                  <a:lnTo>
                    <a:pt x="141" y="360"/>
                  </a:lnTo>
                  <a:lnTo>
                    <a:pt x="142" y="341"/>
                  </a:lnTo>
                  <a:lnTo>
                    <a:pt x="148" y="320"/>
                  </a:lnTo>
                  <a:lnTo>
                    <a:pt x="163" y="294"/>
                  </a:lnTo>
                  <a:lnTo>
                    <a:pt x="179" y="272"/>
                  </a:lnTo>
                  <a:lnTo>
                    <a:pt x="200" y="252"/>
                  </a:lnTo>
                  <a:lnTo>
                    <a:pt x="222" y="239"/>
                  </a:lnTo>
                  <a:lnTo>
                    <a:pt x="234" y="226"/>
                  </a:lnTo>
                  <a:lnTo>
                    <a:pt x="248" y="218"/>
                  </a:lnTo>
                  <a:lnTo>
                    <a:pt x="261" y="214"/>
                  </a:lnTo>
                  <a:lnTo>
                    <a:pt x="274" y="214"/>
                  </a:lnTo>
                  <a:lnTo>
                    <a:pt x="289" y="218"/>
                  </a:lnTo>
                  <a:lnTo>
                    <a:pt x="321" y="211"/>
                  </a:lnTo>
                  <a:lnTo>
                    <a:pt x="326" y="199"/>
                  </a:lnTo>
                  <a:lnTo>
                    <a:pt x="320" y="179"/>
                  </a:lnTo>
                  <a:lnTo>
                    <a:pt x="324" y="178"/>
                  </a:lnTo>
                  <a:lnTo>
                    <a:pt x="320" y="156"/>
                  </a:lnTo>
                  <a:lnTo>
                    <a:pt x="318" y="135"/>
                  </a:lnTo>
                  <a:lnTo>
                    <a:pt x="318" y="112"/>
                  </a:lnTo>
                  <a:lnTo>
                    <a:pt x="324" y="89"/>
                  </a:lnTo>
                  <a:lnTo>
                    <a:pt x="332" y="64"/>
                  </a:lnTo>
                  <a:lnTo>
                    <a:pt x="346" y="46"/>
                  </a:lnTo>
                  <a:lnTo>
                    <a:pt x="357" y="34"/>
                  </a:lnTo>
                  <a:lnTo>
                    <a:pt x="389" y="18"/>
                  </a:lnTo>
                  <a:lnTo>
                    <a:pt x="412" y="9"/>
                  </a:lnTo>
                  <a:lnTo>
                    <a:pt x="434" y="3"/>
                  </a:lnTo>
                  <a:lnTo>
                    <a:pt x="459" y="0"/>
                  </a:lnTo>
                  <a:lnTo>
                    <a:pt x="477" y="0"/>
                  </a:lnTo>
                  <a:lnTo>
                    <a:pt x="497" y="3"/>
                  </a:lnTo>
                  <a:lnTo>
                    <a:pt x="512" y="8"/>
                  </a:lnTo>
                  <a:lnTo>
                    <a:pt x="525" y="14"/>
                  </a:lnTo>
                  <a:lnTo>
                    <a:pt x="538" y="27"/>
                  </a:lnTo>
                  <a:lnTo>
                    <a:pt x="550" y="44"/>
                  </a:lnTo>
                  <a:lnTo>
                    <a:pt x="566" y="77"/>
                  </a:lnTo>
                  <a:lnTo>
                    <a:pt x="585" y="117"/>
                  </a:lnTo>
                  <a:lnTo>
                    <a:pt x="592" y="127"/>
                  </a:lnTo>
                  <a:lnTo>
                    <a:pt x="596" y="135"/>
                  </a:lnTo>
                  <a:lnTo>
                    <a:pt x="594" y="142"/>
                  </a:lnTo>
                  <a:lnTo>
                    <a:pt x="586" y="148"/>
                  </a:lnTo>
                  <a:lnTo>
                    <a:pt x="562" y="156"/>
                  </a:lnTo>
                  <a:lnTo>
                    <a:pt x="565" y="178"/>
                  </a:lnTo>
                  <a:lnTo>
                    <a:pt x="566" y="198"/>
                  </a:lnTo>
                  <a:lnTo>
                    <a:pt x="566" y="213"/>
                  </a:lnTo>
                  <a:lnTo>
                    <a:pt x="577" y="214"/>
                  </a:lnTo>
                  <a:lnTo>
                    <a:pt x="592" y="242"/>
                  </a:lnTo>
                  <a:lnTo>
                    <a:pt x="704" y="361"/>
                  </a:lnTo>
                  <a:lnTo>
                    <a:pt x="710" y="369"/>
                  </a:lnTo>
                  <a:lnTo>
                    <a:pt x="712" y="378"/>
                  </a:lnTo>
                  <a:lnTo>
                    <a:pt x="710" y="386"/>
                  </a:lnTo>
                  <a:lnTo>
                    <a:pt x="704" y="390"/>
                  </a:lnTo>
                  <a:lnTo>
                    <a:pt x="700" y="392"/>
                  </a:lnTo>
                  <a:lnTo>
                    <a:pt x="700" y="401"/>
                  </a:lnTo>
                  <a:lnTo>
                    <a:pt x="696" y="409"/>
                  </a:lnTo>
                  <a:lnTo>
                    <a:pt x="692" y="415"/>
                  </a:lnTo>
                  <a:lnTo>
                    <a:pt x="696" y="419"/>
                  </a:lnTo>
                  <a:lnTo>
                    <a:pt x="700" y="426"/>
                  </a:lnTo>
                  <a:lnTo>
                    <a:pt x="707" y="436"/>
                  </a:lnTo>
                  <a:lnTo>
                    <a:pt x="720" y="444"/>
                  </a:lnTo>
                  <a:lnTo>
                    <a:pt x="730" y="450"/>
                  </a:lnTo>
                  <a:lnTo>
                    <a:pt x="739" y="459"/>
                  </a:lnTo>
                  <a:lnTo>
                    <a:pt x="750" y="465"/>
                  </a:lnTo>
                  <a:lnTo>
                    <a:pt x="776" y="457"/>
                  </a:lnTo>
                  <a:lnTo>
                    <a:pt x="790" y="453"/>
                  </a:lnTo>
                  <a:lnTo>
                    <a:pt x="805" y="450"/>
                  </a:lnTo>
                  <a:lnTo>
                    <a:pt x="816" y="447"/>
                  </a:lnTo>
                  <a:lnTo>
                    <a:pt x="857" y="419"/>
                  </a:lnTo>
                  <a:lnTo>
                    <a:pt x="909" y="361"/>
                  </a:lnTo>
                  <a:lnTo>
                    <a:pt x="916" y="363"/>
                  </a:lnTo>
                  <a:lnTo>
                    <a:pt x="946" y="329"/>
                  </a:lnTo>
                  <a:lnTo>
                    <a:pt x="948" y="322"/>
                  </a:lnTo>
                  <a:lnTo>
                    <a:pt x="952" y="314"/>
                  </a:lnTo>
                  <a:lnTo>
                    <a:pt x="960" y="303"/>
                  </a:lnTo>
                  <a:lnTo>
                    <a:pt x="1078" y="300"/>
                  </a:lnTo>
                  <a:lnTo>
                    <a:pt x="1000" y="344"/>
                  </a:lnTo>
                  <a:lnTo>
                    <a:pt x="986" y="361"/>
                  </a:lnTo>
                  <a:lnTo>
                    <a:pt x="963" y="399"/>
                  </a:lnTo>
                  <a:lnTo>
                    <a:pt x="966" y="409"/>
                  </a:lnTo>
                  <a:lnTo>
                    <a:pt x="906" y="510"/>
                  </a:lnTo>
                  <a:lnTo>
                    <a:pt x="888" y="563"/>
                  </a:lnTo>
                  <a:lnTo>
                    <a:pt x="865" y="580"/>
                  </a:lnTo>
                  <a:lnTo>
                    <a:pt x="842" y="596"/>
                  </a:lnTo>
                  <a:lnTo>
                    <a:pt x="813" y="609"/>
                  </a:lnTo>
                  <a:lnTo>
                    <a:pt x="793" y="612"/>
                  </a:lnTo>
                  <a:lnTo>
                    <a:pt x="775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3124080" y="425916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9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5" y="149"/>
                  </a:lnTo>
                  <a:lnTo>
                    <a:pt x="143" y="162"/>
                  </a:lnTo>
                  <a:lnTo>
                    <a:pt x="144" y="169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1"/>
                  </a:lnTo>
                  <a:lnTo>
                    <a:pt x="164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14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3" y="34"/>
                  </a:lnTo>
                  <a:lnTo>
                    <a:pt x="263" y="41"/>
                  </a:lnTo>
                  <a:lnTo>
                    <a:pt x="261" y="48"/>
                  </a:lnTo>
                  <a:lnTo>
                    <a:pt x="259" y="51"/>
                  </a:lnTo>
                  <a:lnTo>
                    <a:pt x="250" y="51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50" y="28"/>
                  </a:lnTo>
                  <a:lnTo>
                    <a:pt x="244" y="25"/>
                  </a:lnTo>
                  <a:lnTo>
                    <a:pt x="126" y="25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1"/>
                  </a:lnTo>
                  <a:lnTo>
                    <a:pt x="259" y="51"/>
                  </a:lnTo>
                  <a:lnTo>
                    <a:pt x="607" y="51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1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8"/>
                  </a:lnTo>
                  <a:lnTo>
                    <a:pt x="838" y="88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8" y="91"/>
                  </a:lnTo>
                  <a:lnTo>
                    <a:pt x="648" y="88"/>
                  </a:lnTo>
                  <a:lnTo>
                    <a:pt x="619" y="88"/>
                  </a:lnTo>
                  <a:lnTo>
                    <a:pt x="619" y="103"/>
                  </a:lnTo>
                  <a:lnTo>
                    <a:pt x="610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3363840" y="3338640"/>
              <a:ext cx="344520" cy="40140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574" y="620"/>
                  </a:moveTo>
                  <a:lnTo>
                    <a:pt x="593" y="606"/>
                  </a:lnTo>
                  <a:lnTo>
                    <a:pt x="611" y="594"/>
                  </a:lnTo>
                  <a:lnTo>
                    <a:pt x="629" y="585"/>
                  </a:lnTo>
                  <a:lnTo>
                    <a:pt x="649" y="576"/>
                  </a:lnTo>
                  <a:lnTo>
                    <a:pt x="613" y="553"/>
                  </a:lnTo>
                  <a:lnTo>
                    <a:pt x="597" y="542"/>
                  </a:lnTo>
                  <a:lnTo>
                    <a:pt x="579" y="528"/>
                  </a:lnTo>
                  <a:lnTo>
                    <a:pt x="580" y="551"/>
                  </a:lnTo>
                  <a:lnTo>
                    <a:pt x="577" y="573"/>
                  </a:lnTo>
                  <a:lnTo>
                    <a:pt x="574" y="620"/>
                  </a:lnTo>
                  <a:close/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8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1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4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3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5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0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5"/>
                  </a:lnTo>
                  <a:lnTo>
                    <a:pt x="597" y="1053"/>
                  </a:lnTo>
                  <a:lnTo>
                    <a:pt x="603" y="1044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1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4"/>
                  </a:lnTo>
                  <a:lnTo>
                    <a:pt x="599" y="909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1"/>
                  </a:lnTo>
                  <a:lnTo>
                    <a:pt x="527" y="895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6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1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8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7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7"/>
                  </a:lnTo>
                  <a:lnTo>
                    <a:pt x="38" y="603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2"/>
                  </a:lnTo>
                  <a:lnTo>
                    <a:pt x="74" y="592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3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4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7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79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7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7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7"/>
                  </a:lnTo>
                  <a:lnTo>
                    <a:pt x="532" y="15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8"/>
                  </a:lnTo>
                  <a:lnTo>
                    <a:pt x="591" y="116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3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30"/>
                  </a:lnTo>
                  <a:lnTo>
                    <a:pt x="954" y="321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  <a:close/>
                  <a:moveTo>
                    <a:pt x="113" y="642"/>
                  </a:moveTo>
                  <a:lnTo>
                    <a:pt x="104" y="650"/>
                  </a:lnTo>
                  <a:lnTo>
                    <a:pt x="109" y="655"/>
                  </a:lnTo>
                  <a:lnTo>
                    <a:pt x="111" y="661"/>
                  </a:lnTo>
                  <a:lnTo>
                    <a:pt x="113" y="655"/>
                  </a:lnTo>
                  <a:lnTo>
                    <a:pt x="115" y="649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3363840" y="3338640"/>
              <a:ext cx="344520" cy="40140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8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1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4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3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5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0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5"/>
                  </a:lnTo>
                  <a:lnTo>
                    <a:pt x="597" y="1053"/>
                  </a:lnTo>
                  <a:lnTo>
                    <a:pt x="603" y="1044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1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4"/>
                  </a:lnTo>
                  <a:lnTo>
                    <a:pt x="599" y="909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1"/>
                  </a:lnTo>
                  <a:lnTo>
                    <a:pt x="527" y="895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6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1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8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7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7"/>
                  </a:lnTo>
                  <a:lnTo>
                    <a:pt x="38" y="603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2"/>
                  </a:lnTo>
                  <a:lnTo>
                    <a:pt x="74" y="592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3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4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7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79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7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7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7"/>
                  </a:lnTo>
                  <a:lnTo>
                    <a:pt x="532" y="15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8"/>
                  </a:lnTo>
                  <a:lnTo>
                    <a:pt x="591" y="116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3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30"/>
                  </a:lnTo>
                  <a:lnTo>
                    <a:pt x="954" y="321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3554280" y="3392640"/>
              <a:ext cx="270000" cy="77760"/>
            </a:xfrm>
            <a:custGeom>
              <a:avLst/>
              <a:gdLst/>
              <a:ahLst/>
              <a:rect l="l" t="t" r="r" b="b"/>
              <a:pathLst>
                <a:path w="854" h="243">
                  <a:moveTo>
                    <a:pt x="601" y="118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0" y="124"/>
                  </a:lnTo>
                  <a:lnTo>
                    <a:pt x="584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9"/>
                  </a:lnTo>
                  <a:lnTo>
                    <a:pt x="142" y="162"/>
                  </a:lnTo>
                  <a:lnTo>
                    <a:pt x="143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5" y="181"/>
                  </a:lnTo>
                  <a:lnTo>
                    <a:pt x="163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4" y="14"/>
                  </a:lnTo>
                  <a:lnTo>
                    <a:pt x="80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2" y="34"/>
                  </a:lnTo>
                  <a:lnTo>
                    <a:pt x="262" y="41"/>
                  </a:lnTo>
                  <a:lnTo>
                    <a:pt x="261" y="48"/>
                  </a:lnTo>
                  <a:lnTo>
                    <a:pt x="259" y="52"/>
                  </a:lnTo>
                  <a:lnTo>
                    <a:pt x="249" y="52"/>
                  </a:lnTo>
                  <a:lnTo>
                    <a:pt x="250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49" y="28"/>
                  </a:lnTo>
                  <a:lnTo>
                    <a:pt x="242" y="25"/>
                  </a:lnTo>
                  <a:lnTo>
                    <a:pt x="126" y="25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2" y="55"/>
                  </a:lnTo>
                  <a:lnTo>
                    <a:pt x="249" y="52"/>
                  </a:lnTo>
                  <a:lnTo>
                    <a:pt x="259" y="52"/>
                  </a:lnTo>
                  <a:lnTo>
                    <a:pt x="605" y="52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2"/>
                  </a:lnTo>
                  <a:lnTo>
                    <a:pt x="641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11" y="60"/>
                  </a:lnTo>
                  <a:lnTo>
                    <a:pt x="817" y="63"/>
                  </a:lnTo>
                  <a:lnTo>
                    <a:pt x="822" y="67"/>
                  </a:lnTo>
                  <a:lnTo>
                    <a:pt x="828" y="70"/>
                  </a:lnTo>
                  <a:lnTo>
                    <a:pt x="833" y="74"/>
                  </a:lnTo>
                  <a:lnTo>
                    <a:pt x="838" y="78"/>
                  </a:lnTo>
                  <a:lnTo>
                    <a:pt x="843" y="81"/>
                  </a:lnTo>
                  <a:lnTo>
                    <a:pt x="849" y="84"/>
                  </a:lnTo>
                  <a:lnTo>
                    <a:pt x="854" y="87"/>
                  </a:lnTo>
                  <a:lnTo>
                    <a:pt x="837" y="87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7" y="91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3"/>
                  </a:lnTo>
                  <a:lnTo>
                    <a:pt x="609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3100320" y="3770280"/>
              <a:ext cx="34452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575" y="621"/>
                  </a:moveTo>
                  <a:lnTo>
                    <a:pt x="595" y="606"/>
                  </a:lnTo>
                  <a:lnTo>
                    <a:pt x="612" y="595"/>
                  </a:lnTo>
                  <a:lnTo>
                    <a:pt x="630" y="585"/>
                  </a:lnTo>
                  <a:lnTo>
                    <a:pt x="650" y="576"/>
                  </a:lnTo>
                  <a:lnTo>
                    <a:pt x="613" y="553"/>
                  </a:lnTo>
                  <a:lnTo>
                    <a:pt x="598" y="542"/>
                  </a:lnTo>
                  <a:lnTo>
                    <a:pt x="580" y="529"/>
                  </a:lnTo>
                  <a:lnTo>
                    <a:pt x="581" y="552"/>
                  </a:lnTo>
                  <a:lnTo>
                    <a:pt x="578" y="573"/>
                  </a:lnTo>
                  <a:lnTo>
                    <a:pt x="575" y="621"/>
                  </a:lnTo>
                  <a:close/>
                  <a:moveTo>
                    <a:pt x="782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79" y="789"/>
                  </a:lnTo>
                  <a:lnTo>
                    <a:pt x="768" y="854"/>
                  </a:lnTo>
                  <a:lnTo>
                    <a:pt x="753" y="918"/>
                  </a:lnTo>
                  <a:lnTo>
                    <a:pt x="739" y="963"/>
                  </a:lnTo>
                  <a:lnTo>
                    <a:pt x="728" y="971"/>
                  </a:lnTo>
                  <a:lnTo>
                    <a:pt x="714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10" y="1043"/>
                  </a:lnTo>
                  <a:lnTo>
                    <a:pt x="710" y="1052"/>
                  </a:lnTo>
                  <a:lnTo>
                    <a:pt x="704" y="1062"/>
                  </a:lnTo>
                  <a:lnTo>
                    <a:pt x="713" y="1071"/>
                  </a:lnTo>
                  <a:lnTo>
                    <a:pt x="719" y="1079"/>
                  </a:lnTo>
                  <a:lnTo>
                    <a:pt x="725" y="1092"/>
                  </a:lnTo>
                  <a:lnTo>
                    <a:pt x="734" y="1095"/>
                  </a:lnTo>
                  <a:lnTo>
                    <a:pt x="739" y="1100"/>
                  </a:lnTo>
                  <a:lnTo>
                    <a:pt x="745" y="1107"/>
                  </a:lnTo>
                  <a:lnTo>
                    <a:pt x="749" y="1116"/>
                  </a:lnTo>
                  <a:lnTo>
                    <a:pt x="754" y="1124"/>
                  </a:lnTo>
                  <a:lnTo>
                    <a:pt x="782" y="1139"/>
                  </a:lnTo>
                  <a:lnTo>
                    <a:pt x="800" y="1147"/>
                  </a:lnTo>
                  <a:lnTo>
                    <a:pt x="809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7" y="1181"/>
                  </a:lnTo>
                  <a:lnTo>
                    <a:pt x="777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7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7" y="1143"/>
                  </a:lnTo>
                  <a:lnTo>
                    <a:pt x="612" y="1141"/>
                  </a:lnTo>
                  <a:lnTo>
                    <a:pt x="598" y="1137"/>
                  </a:lnTo>
                  <a:lnTo>
                    <a:pt x="584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4" y="1089"/>
                  </a:lnTo>
                  <a:lnTo>
                    <a:pt x="587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4" y="1043"/>
                  </a:lnTo>
                  <a:lnTo>
                    <a:pt x="604" y="1032"/>
                  </a:lnTo>
                  <a:lnTo>
                    <a:pt x="604" y="1020"/>
                  </a:lnTo>
                  <a:lnTo>
                    <a:pt x="607" y="1012"/>
                  </a:lnTo>
                  <a:lnTo>
                    <a:pt x="612" y="1005"/>
                  </a:lnTo>
                  <a:lnTo>
                    <a:pt x="612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3" y="938"/>
                  </a:lnTo>
                  <a:lnTo>
                    <a:pt x="603" y="925"/>
                  </a:lnTo>
                  <a:lnTo>
                    <a:pt x="599" y="910"/>
                  </a:lnTo>
                  <a:lnTo>
                    <a:pt x="603" y="888"/>
                  </a:lnTo>
                  <a:lnTo>
                    <a:pt x="607" y="859"/>
                  </a:lnTo>
                  <a:lnTo>
                    <a:pt x="616" y="829"/>
                  </a:lnTo>
                  <a:lnTo>
                    <a:pt x="627" y="798"/>
                  </a:lnTo>
                  <a:lnTo>
                    <a:pt x="607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6" y="882"/>
                  </a:lnTo>
                  <a:lnTo>
                    <a:pt x="528" y="896"/>
                  </a:lnTo>
                  <a:lnTo>
                    <a:pt x="505" y="915"/>
                  </a:lnTo>
                  <a:lnTo>
                    <a:pt x="483" y="931"/>
                  </a:lnTo>
                  <a:lnTo>
                    <a:pt x="457" y="947"/>
                  </a:lnTo>
                  <a:lnTo>
                    <a:pt x="432" y="962"/>
                  </a:lnTo>
                  <a:lnTo>
                    <a:pt x="410" y="970"/>
                  </a:lnTo>
                  <a:lnTo>
                    <a:pt x="387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4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1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5" y="1198"/>
                  </a:lnTo>
                  <a:lnTo>
                    <a:pt x="294" y="1210"/>
                  </a:lnTo>
                  <a:lnTo>
                    <a:pt x="290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49" y="1259"/>
                  </a:lnTo>
                  <a:lnTo>
                    <a:pt x="221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4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5" y="1135"/>
                  </a:lnTo>
                  <a:lnTo>
                    <a:pt x="85" y="1110"/>
                  </a:lnTo>
                  <a:lnTo>
                    <a:pt x="80" y="1067"/>
                  </a:lnTo>
                  <a:lnTo>
                    <a:pt x="94" y="1042"/>
                  </a:lnTo>
                  <a:lnTo>
                    <a:pt x="99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4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0" y="881"/>
                  </a:lnTo>
                  <a:lnTo>
                    <a:pt x="74" y="876"/>
                  </a:lnTo>
                  <a:lnTo>
                    <a:pt x="70" y="869"/>
                  </a:lnTo>
                  <a:lnTo>
                    <a:pt x="68" y="863"/>
                  </a:lnTo>
                  <a:lnTo>
                    <a:pt x="59" y="864"/>
                  </a:lnTo>
                  <a:lnTo>
                    <a:pt x="49" y="863"/>
                  </a:lnTo>
                  <a:lnTo>
                    <a:pt x="42" y="857"/>
                  </a:lnTo>
                  <a:lnTo>
                    <a:pt x="33" y="850"/>
                  </a:lnTo>
                  <a:lnTo>
                    <a:pt x="27" y="839"/>
                  </a:lnTo>
                  <a:lnTo>
                    <a:pt x="21" y="829"/>
                  </a:lnTo>
                  <a:lnTo>
                    <a:pt x="16" y="818"/>
                  </a:lnTo>
                  <a:lnTo>
                    <a:pt x="10" y="815"/>
                  </a:lnTo>
                  <a:lnTo>
                    <a:pt x="2" y="748"/>
                  </a:lnTo>
                  <a:lnTo>
                    <a:pt x="8" y="746"/>
                  </a:lnTo>
                  <a:lnTo>
                    <a:pt x="8" y="718"/>
                  </a:lnTo>
                  <a:lnTo>
                    <a:pt x="0" y="717"/>
                  </a:lnTo>
                  <a:lnTo>
                    <a:pt x="2" y="700"/>
                  </a:lnTo>
                  <a:lnTo>
                    <a:pt x="7" y="687"/>
                  </a:lnTo>
                  <a:lnTo>
                    <a:pt x="8" y="679"/>
                  </a:lnTo>
                  <a:lnTo>
                    <a:pt x="13" y="673"/>
                  </a:lnTo>
                  <a:lnTo>
                    <a:pt x="16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39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39" y="603"/>
                  </a:lnTo>
                  <a:lnTo>
                    <a:pt x="42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8" y="599"/>
                  </a:lnTo>
                  <a:lnTo>
                    <a:pt x="80" y="603"/>
                  </a:lnTo>
                  <a:lnTo>
                    <a:pt x="82" y="610"/>
                  </a:lnTo>
                  <a:lnTo>
                    <a:pt x="85" y="619"/>
                  </a:lnTo>
                  <a:lnTo>
                    <a:pt x="85" y="630"/>
                  </a:lnTo>
                  <a:lnTo>
                    <a:pt x="82" y="636"/>
                  </a:lnTo>
                  <a:lnTo>
                    <a:pt x="79" y="639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99" y="634"/>
                  </a:lnTo>
                  <a:lnTo>
                    <a:pt x="97" y="628"/>
                  </a:lnTo>
                  <a:lnTo>
                    <a:pt x="85" y="630"/>
                  </a:lnTo>
                  <a:lnTo>
                    <a:pt x="85" y="619"/>
                  </a:lnTo>
                  <a:lnTo>
                    <a:pt x="100" y="617"/>
                  </a:lnTo>
                  <a:lnTo>
                    <a:pt x="106" y="619"/>
                  </a:lnTo>
                  <a:lnTo>
                    <a:pt x="111" y="621"/>
                  </a:lnTo>
                  <a:lnTo>
                    <a:pt x="115" y="624"/>
                  </a:lnTo>
                  <a:lnTo>
                    <a:pt x="112" y="605"/>
                  </a:lnTo>
                  <a:lnTo>
                    <a:pt x="108" y="585"/>
                  </a:lnTo>
                  <a:lnTo>
                    <a:pt x="137" y="460"/>
                  </a:lnTo>
                  <a:lnTo>
                    <a:pt x="143" y="438"/>
                  </a:lnTo>
                  <a:lnTo>
                    <a:pt x="151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1" y="342"/>
                  </a:lnTo>
                  <a:lnTo>
                    <a:pt x="157" y="321"/>
                  </a:lnTo>
                  <a:lnTo>
                    <a:pt x="172" y="294"/>
                  </a:lnTo>
                  <a:lnTo>
                    <a:pt x="186" y="273"/>
                  </a:lnTo>
                  <a:lnTo>
                    <a:pt x="208" y="253"/>
                  </a:lnTo>
                  <a:lnTo>
                    <a:pt x="229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8" y="218"/>
                  </a:lnTo>
                  <a:lnTo>
                    <a:pt x="330" y="212"/>
                  </a:lnTo>
                  <a:lnTo>
                    <a:pt x="333" y="200"/>
                  </a:lnTo>
                  <a:lnTo>
                    <a:pt x="328" y="180"/>
                  </a:lnTo>
                  <a:lnTo>
                    <a:pt x="331" y="178"/>
                  </a:lnTo>
                  <a:lnTo>
                    <a:pt x="328" y="157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1" y="89"/>
                  </a:lnTo>
                  <a:lnTo>
                    <a:pt x="340" y="65"/>
                  </a:lnTo>
                  <a:lnTo>
                    <a:pt x="353" y="47"/>
                  </a:lnTo>
                  <a:lnTo>
                    <a:pt x="365" y="35"/>
                  </a:lnTo>
                  <a:lnTo>
                    <a:pt x="396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0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5" y="77"/>
                  </a:lnTo>
                  <a:lnTo>
                    <a:pt x="592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3"/>
                  </a:lnTo>
                  <a:lnTo>
                    <a:pt x="595" y="149"/>
                  </a:lnTo>
                  <a:lnTo>
                    <a:pt x="569" y="157"/>
                  </a:lnTo>
                  <a:lnTo>
                    <a:pt x="572" y="178"/>
                  </a:lnTo>
                  <a:lnTo>
                    <a:pt x="575" y="198"/>
                  </a:lnTo>
                  <a:lnTo>
                    <a:pt x="575" y="213"/>
                  </a:lnTo>
                  <a:lnTo>
                    <a:pt x="586" y="215"/>
                  </a:lnTo>
                  <a:lnTo>
                    <a:pt x="601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19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5" y="410"/>
                  </a:lnTo>
                  <a:lnTo>
                    <a:pt x="699" y="414"/>
                  </a:lnTo>
                  <a:lnTo>
                    <a:pt x="705" y="420"/>
                  </a:lnTo>
                  <a:lnTo>
                    <a:pt x="708" y="426"/>
                  </a:lnTo>
                  <a:lnTo>
                    <a:pt x="714" y="437"/>
                  </a:lnTo>
                  <a:lnTo>
                    <a:pt x="728" y="444"/>
                  </a:lnTo>
                  <a:lnTo>
                    <a:pt x="737" y="451"/>
                  </a:lnTo>
                  <a:lnTo>
                    <a:pt x="748" y="460"/>
                  </a:lnTo>
                  <a:lnTo>
                    <a:pt x="757" y="466"/>
                  </a:lnTo>
                  <a:lnTo>
                    <a:pt x="783" y="458"/>
                  </a:lnTo>
                  <a:lnTo>
                    <a:pt x="799" y="454"/>
                  </a:lnTo>
                  <a:lnTo>
                    <a:pt x="814" y="451"/>
                  </a:lnTo>
                  <a:lnTo>
                    <a:pt x="823" y="447"/>
                  </a:lnTo>
                  <a:lnTo>
                    <a:pt x="864" y="420"/>
                  </a:lnTo>
                  <a:lnTo>
                    <a:pt x="918" y="362"/>
                  </a:lnTo>
                  <a:lnTo>
                    <a:pt x="924" y="363"/>
                  </a:lnTo>
                  <a:lnTo>
                    <a:pt x="953" y="330"/>
                  </a:lnTo>
                  <a:lnTo>
                    <a:pt x="955" y="322"/>
                  </a:lnTo>
                  <a:lnTo>
                    <a:pt x="961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8" y="345"/>
                  </a:lnTo>
                  <a:lnTo>
                    <a:pt x="993" y="362"/>
                  </a:lnTo>
                  <a:lnTo>
                    <a:pt x="970" y="400"/>
                  </a:lnTo>
                  <a:lnTo>
                    <a:pt x="973" y="410"/>
                  </a:lnTo>
                  <a:lnTo>
                    <a:pt x="915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0" y="610"/>
                  </a:lnTo>
                  <a:lnTo>
                    <a:pt x="800" y="613"/>
                  </a:lnTo>
                  <a:lnTo>
                    <a:pt x="782" y="614"/>
                  </a:lnTo>
                  <a:close/>
                  <a:moveTo>
                    <a:pt x="114" y="642"/>
                  </a:moveTo>
                  <a:lnTo>
                    <a:pt x="106" y="651"/>
                  </a:lnTo>
                  <a:lnTo>
                    <a:pt x="109" y="656"/>
                  </a:lnTo>
                  <a:lnTo>
                    <a:pt x="112" y="662"/>
                  </a:lnTo>
                  <a:lnTo>
                    <a:pt x="114" y="656"/>
                  </a:lnTo>
                  <a:lnTo>
                    <a:pt x="115" y="650"/>
                  </a:lnTo>
                  <a:lnTo>
                    <a:pt x="114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3100320" y="3770280"/>
              <a:ext cx="34452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782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79" y="789"/>
                  </a:lnTo>
                  <a:lnTo>
                    <a:pt x="768" y="854"/>
                  </a:lnTo>
                  <a:lnTo>
                    <a:pt x="753" y="918"/>
                  </a:lnTo>
                  <a:lnTo>
                    <a:pt x="739" y="963"/>
                  </a:lnTo>
                  <a:lnTo>
                    <a:pt x="728" y="971"/>
                  </a:lnTo>
                  <a:lnTo>
                    <a:pt x="714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10" y="1043"/>
                  </a:lnTo>
                  <a:lnTo>
                    <a:pt x="710" y="1052"/>
                  </a:lnTo>
                  <a:lnTo>
                    <a:pt x="704" y="1062"/>
                  </a:lnTo>
                  <a:lnTo>
                    <a:pt x="713" y="1071"/>
                  </a:lnTo>
                  <a:lnTo>
                    <a:pt x="719" y="1079"/>
                  </a:lnTo>
                  <a:lnTo>
                    <a:pt x="725" y="1092"/>
                  </a:lnTo>
                  <a:lnTo>
                    <a:pt x="734" y="1095"/>
                  </a:lnTo>
                  <a:lnTo>
                    <a:pt x="739" y="1100"/>
                  </a:lnTo>
                  <a:lnTo>
                    <a:pt x="745" y="1107"/>
                  </a:lnTo>
                  <a:lnTo>
                    <a:pt x="749" y="1116"/>
                  </a:lnTo>
                  <a:lnTo>
                    <a:pt x="754" y="1124"/>
                  </a:lnTo>
                  <a:lnTo>
                    <a:pt x="782" y="1139"/>
                  </a:lnTo>
                  <a:lnTo>
                    <a:pt x="800" y="1147"/>
                  </a:lnTo>
                  <a:lnTo>
                    <a:pt x="809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7" y="1181"/>
                  </a:lnTo>
                  <a:lnTo>
                    <a:pt x="777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7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7" y="1143"/>
                  </a:lnTo>
                  <a:lnTo>
                    <a:pt x="612" y="1141"/>
                  </a:lnTo>
                  <a:lnTo>
                    <a:pt x="598" y="1137"/>
                  </a:lnTo>
                  <a:lnTo>
                    <a:pt x="584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4" y="1089"/>
                  </a:lnTo>
                  <a:lnTo>
                    <a:pt x="587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4" y="1043"/>
                  </a:lnTo>
                  <a:lnTo>
                    <a:pt x="604" y="1032"/>
                  </a:lnTo>
                  <a:lnTo>
                    <a:pt x="604" y="1020"/>
                  </a:lnTo>
                  <a:lnTo>
                    <a:pt x="607" y="1012"/>
                  </a:lnTo>
                  <a:lnTo>
                    <a:pt x="612" y="1005"/>
                  </a:lnTo>
                  <a:lnTo>
                    <a:pt x="612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3" y="938"/>
                  </a:lnTo>
                  <a:lnTo>
                    <a:pt x="603" y="925"/>
                  </a:lnTo>
                  <a:lnTo>
                    <a:pt x="599" y="910"/>
                  </a:lnTo>
                  <a:lnTo>
                    <a:pt x="603" y="888"/>
                  </a:lnTo>
                  <a:lnTo>
                    <a:pt x="607" y="859"/>
                  </a:lnTo>
                  <a:lnTo>
                    <a:pt x="616" y="829"/>
                  </a:lnTo>
                  <a:lnTo>
                    <a:pt x="627" y="798"/>
                  </a:lnTo>
                  <a:lnTo>
                    <a:pt x="607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6" y="882"/>
                  </a:lnTo>
                  <a:lnTo>
                    <a:pt x="528" y="896"/>
                  </a:lnTo>
                  <a:lnTo>
                    <a:pt x="505" y="915"/>
                  </a:lnTo>
                  <a:lnTo>
                    <a:pt x="483" y="931"/>
                  </a:lnTo>
                  <a:lnTo>
                    <a:pt x="457" y="947"/>
                  </a:lnTo>
                  <a:lnTo>
                    <a:pt x="432" y="962"/>
                  </a:lnTo>
                  <a:lnTo>
                    <a:pt x="410" y="970"/>
                  </a:lnTo>
                  <a:lnTo>
                    <a:pt x="387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4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1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5" y="1198"/>
                  </a:lnTo>
                  <a:lnTo>
                    <a:pt x="294" y="1210"/>
                  </a:lnTo>
                  <a:lnTo>
                    <a:pt x="290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49" y="1259"/>
                  </a:lnTo>
                  <a:lnTo>
                    <a:pt x="221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4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5" y="1135"/>
                  </a:lnTo>
                  <a:lnTo>
                    <a:pt x="85" y="1110"/>
                  </a:lnTo>
                  <a:lnTo>
                    <a:pt x="80" y="1067"/>
                  </a:lnTo>
                  <a:lnTo>
                    <a:pt x="94" y="1042"/>
                  </a:lnTo>
                  <a:lnTo>
                    <a:pt x="99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4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0" y="881"/>
                  </a:lnTo>
                  <a:lnTo>
                    <a:pt x="74" y="876"/>
                  </a:lnTo>
                  <a:lnTo>
                    <a:pt x="70" y="869"/>
                  </a:lnTo>
                  <a:lnTo>
                    <a:pt x="68" y="863"/>
                  </a:lnTo>
                  <a:lnTo>
                    <a:pt x="59" y="864"/>
                  </a:lnTo>
                  <a:lnTo>
                    <a:pt x="49" y="863"/>
                  </a:lnTo>
                  <a:lnTo>
                    <a:pt x="42" y="857"/>
                  </a:lnTo>
                  <a:lnTo>
                    <a:pt x="33" y="850"/>
                  </a:lnTo>
                  <a:lnTo>
                    <a:pt x="27" y="839"/>
                  </a:lnTo>
                  <a:lnTo>
                    <a:pt x="21" y="829"/>
                  </a:lnTo>
                  <a:lnTo>
                    <a:pt x="16" y="818"/>
                  </a:lnTo>
                  <a:lnTo>
                    <a:pt x="10" y="815"/>
                  </a:lnTo>
                  <a:lnTo>
                    <a:pt x="2" y="748"/>
                  </a:lnTo>
                  <a:lnTo>
                    <a:pt x="8" y="746"/>
                  </a:lnTo>
                  <a:lnTo>
                    <a:pt x="8" y="718"/>
                  </a:lnTo>
                  <a:lnTo>
                    <a:pt x="0" y="717"/>
                  </a:lnTo>
                  <a:lnTo>
                    <a:pt x="2" y="700"/>
                  </a:lnTo>
                  <a:lnTo>
                    <a:pt x="7" y="687"/>
                  </a:lnTo>
                  <a:lnTo>
                    <a:pt x="8" y="679"/>
                  </a:lnTo>
                  <a:lnTo>
                    <a:pt x="13" y="673"/>
                  </a:lnTo>
                  <a:lnTo>
                    <a:pt x="16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39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39" y="603"/>
                  </a:lnTo>
                  <a:lnTo>
                    <a:pt x="42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8" y="599"/>
                  </a:lnTo>
                  <a:lnTo>
                    <a:pt x="80" y="603"/>
                  </a:lnTo>
                  <a:lnTo>
                    <a:pt x="82" y="610"/>
                  </a:lnTo>
                  <a:lnTo>
                    <a:pt x="85" y="619"/>
                  </a:lnTo>
                  <a:lnTo>
                    <a:pt x="85" y="630"/>
                  </a:lnTo>
                  <a:lnTo>
                    <a:pt x="82" y="636"/>
                  </a:lnTo>
                  <a:lnTo>
                    <a:pt x="79" y="639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99" y="634"/>
                  </a:lnTo>
                  <a:lnTo>
                    <a:pt x="97" y="628"/>
                  </a:lnTo>
                  <a:lnTo>
                    <a:pt x="85" y="630"/>
                  </a:lnTo>
                  <a:lnTo>
                    <a:pt x="85" y="619"/>
                  </a:lnTo>
                  <a:lnTo>
                    <a:pt x="100" y="617"/>
                  </a:lnTo>
                  <a:lnTo>
                    <a:pt x="106" y="619"/>
                  </a:lnTo>
                  <a:lnTo>
                    <a:pt x="111" y="621"/>
                  </a:lnTo>
                  <a:lnTo>
                    <a:pt x="115" y="624"/>
                  </a:lnTo>
                  <a:lnTo>
                    <a:pt x="112" y="605"/>
                  </a:lnTo>
                  <a:lnTo>
                    <a:pt x="108" y="585"/>
                  </a:lnTo>
                  <a:lnTo>
                    <a:pt x="137" y="460"/>
                  </a:lnTo>
                  <a:lnTo>
                    <a:pt x="143" y="438"/>
                  </a:lnTo>
                  <a:lnTo>
                    <a:pt x="151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1" y="342"/>
                  </a:lnTo>
                  <a:lnTo>
                    <a:pt x="157" y="321"/>
                  </a:lnTo>
                  <a:lnTo>
                    <a:pt x="172" y="294"/>
                  </a:lnTo>
                  <a:lnTo>
                    <a:pt x="186" y="273"/>
                  </a:lnTo>
                  <a:lnTo>
                    <a:pt x="208" y="253"/>
                  </a:lnTo>
                  <a:lnTo>
                    <a:pt x="229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8" y="218"/>
                  </a:lnTo>
                  <a:lnTo>
                    <a:pt x="330" y="212"/>
                  </a:lnTo>
                  <a:lnTo>
                    <a:pt x="333" y="200"/>
                  </a:lnTo>
                  <a:lnTo>
                    <a:pt x="328" y="180"/>
                  </a:lnTo>
                  <a:lnTo>
                    <a:pt x="331" y="178"/>
                  </a:lnTo>
                  <a:lnTo>
                    <a:pt x="328" y="157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1" y="89"/>
                  </a:lnTo>
                  <a:lnTo>
                    <a:pt x="340" y="65"/>
                  </a:lnTo>
                  <a:lnTo>
                    <a:pt x="353" y="47"/>
                  </a:lnTo>
                  <a:lnTo>
                    <a:pt x="365" y="35"/>
                  </a:lnTo>
                  <a:lnTo>
                    <a:pt x="396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0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5" y="77"/>
                  </a:lnTo>
                  <a:lnTo>
                    <a:pt x="592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3"/>
                  </a:lnTo>
                  <a:lnTo>
                    <a:pt x="595" y="149"/>
                  </a:lnTo>
                  <a:lnTo>
                    <a:pt x="569" y="157"/>
                  </a:lnTo>
                  <a:lnTo>
                    <a:pt x="572" y="178"/>
                  </a:lnTo>
                  <a:lnTo>
                    <a:pt x="575" y="198"/>
                  </a:lnTo>
                  <a:lnTo>
                    <a:pt x="575" y="213"/>
                  </a:lnTo>
                  <a:lnTo>
                    <a:pt x="586" y="215"/>
                  </a:lnTo>
                  <a:lnTo>
                    <a:pt x="601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19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5" y="410"/>
                  </a:lnTo>
                  <a:lnTo>
                    <a:pt x="699" y="414"/>
                  </a:lnTo>
                  <a:lnTo>
                    <a:pt x="705" y="420"/>
                  </a:lnTo>
                  <a:lnTo>
                    <a:pt x="708" y="426"/>
                  </a:lnTo>
                  <a:lnTo>
                    <a:pt x="714" y="437"/>
                  </a:lnTo>
                  <a:lnTo>
                    <a:pt x="728" y="444"/>
                  </a:lnTo>
                  <a:lnTo>
                    <a:pt x="737" y="451"/>
                  </a:lnTo>
                  <a:lnTo>
                    <a:pt x="748" y="460"/>
                  </a:lnTo>
                  <a:lnTo>
                    <a:pt x="757" y="466"/>
                  </a:lnTo>
                  <a:lnTo>
                    <a:pt x="783" y="458"/>
                  </a:lnTo>
                  <a:lnTo>
                    <a:pt x="799" y="454"/>
                  </a:lnTo>
                  <a:lnTo>
                    <a:pt x="814" y="451"/>
                  </a:lnTo>
                  <a:lnTo>
                    <a:pt x="823" y="447"/>
                  </a:lnTo>
                  <a:lnTo>
                    <a:pt x="864" y="420"/>
                  </a:lnTo>
                  <a:lnTo>
                    <a:pt x="918" y="362"/>
                  </a:lnTo>
                  <a:lnTo>
                    <a:pt x="924" y="363"/>
                  </a:lnTo>
                  <a:lnTo>
                    <a:pt x="953" y="330"/>
                  </a:lnTo>
                  <a:lnTo>
                    <a:pt x="955" y="322"/>
                  </a:lnTo>
                  <a:lnTo>
                    <a:pt x="961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8" y="345"/>
                  </a:lnTo>
                  <a:lnTo>
                    <a:pt x="993" y="362"/>
                  </a:lnTo>
                  <a:lnTo>
                    <a:pt x="970" y="400"/>
                  </a:lnTo>
                  <a:lnTo>
                    <a:pt x="973" y="410"/>
                  </a:lnTo>
                  <a:lnTo>
                    <a:pt x="915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0" y="610"/>
                  </a:lnTo>
                  <a:lnTo>
                    <a:pt x="800" y="613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329076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4" y="127"/>
                  </a:lnTo>
                  <a:lnTo>
                    <a:pt x="485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8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8"/>
                  </a:lnTo>
                  <a:lnTo>
                    <a:pt x="141" y="162"/>
                  </a:lnTo>
                  <a:lnTo>
                    <a:pt x="144" y="168"/>
                  </a:lnTo>
                  <a:lnTo>
                    <a:pt x="144" y="173"/>
                  </a:lnTo>
                  <a:lnTo>
                    <a:pt x="140" y="176"/>
                  </a:lnTo>
                  <a:lnTo>
                    <a:pt x="135" y="180"/>
                  </a:lnTo>
                  <a:lnTo>
                    <a:pt x="163" y="180"/>
                  </a:lnTo>
                  <a:lnTo>
                    <a:pt x="167" y="180"/>
                  </a:lnTo>
                  <a:lnTo>
                    <a:pt x="168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5" y="18"/>
                  </a:lnTo>
                  <a:lnTo>
                    <a:pt x="253" y="21"/>
                  </a:lnTo>
                  <a:lnTo>
                    <a:pt x="259" y="26"/>
                  </a:lnTo>
                  <a:lnTo>
                    <a:pt x="262" y="33"/>
                  </a:lnTo>
                  <a:lnTo>
                    <a:pt x="262" y="41"/>
                  </a:lnTo>
                  <a:lnTo>
                    <a:pt x="261" y="47"/>
                  </a:lnTo>
                  <a:lnTo>
                    <a:pt x="259" y="50"/>
                  </a:lnTo>
                  <a:lnTo>
                    <a:pt x="250" y="50"/>
                  </a:lnTo>
                  <a:lnTo>
                    <a:pt x="251" y="46"/>
                  </a:lnTo>
                  <a:lnTo>
                    <a:pt x="254" y="40"/>
                  </a:lnTo>
                  <a:lnTo>
                    <a:pt x="254" y="33"/>
                  </a:lnTo>
                  <a:lnTo>
                    <a:pt x="250" y="28"/>
                  </a:lnTo>
                  <a:lnTo>
                    <a:pt x="242" y="24"/>
                  </a:lnTo>
                  <a:lnTo>
                    <a:pt x="126" y="24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4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1" y="55"/>
                  </a:lnTo>
                  <a:lnTo>
                    <a:pt x="242" y="55"/>
                  </a:lnTo>
                  <a:lnTo>
                    <a:pt x="250" y="50"/>
                  </a:lnTo>
                  <a:lnTo>
                    <a:pt x="259" y="50"/>
                  </a:lnTo>
                  <a:lnTo>
                    <a:pt x="605" y="50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1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0"/>
                  </a:lnTo>
                  <a:lnTo>
                    <a:pt x="640" y="3"/>
                  </a:lnTo>
                  <a:lnTo>
                    <a:pt x="647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5" y="66"/>
                  </a:lnTo>
                  <a:lnTo>
                    <a:pt x="766" y="61"/>
                  </a:lnTo>
                  <a:lnTo>
                    <a:pt x="832" y="59"/>
                  </a:lnTo>
                  <a:lnTo>
                    <a:pt x="838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6" y="87"/>
                  </a:lnTo>
                  <a:lnTo>
                    <a:pt x="829" y="82"/>
                  </a:lnTo>
                  <a:lnTo>
                    <a:pt x="662" y="82"/>
                  </a:lnTo>
                  <a:lnTo>
                    <a:pt x="662" y="90"/>
                  </a:lnTo>
                  <a:lnTo>
                    <a:pt x="647" y="90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08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3363840" y="4205160"/>
              <a:ext cx="344520" cy="40032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574" y="620"/>
                  </a:moveTo>
                  <a:lnTo>
                    <a:pt x="593" y="606"/>
                  </a:lnTo>
                  <a:lnTo>
                    <a:pt x="611" y="594"/>
                  </a:lnTo>
                  <a:lnTo>
                    <a:pt x="629" y="585"/>
                  </a:lnTo>
                  <a:lnTo>
                    <a:pt x="649" y="576"/>
                  </a:lnTo>
                  <a:lnTo>
                    <a:pt x="613" y="553"/>
                  </a:lnTo>
                  <a:lnTo>
                    <a:pt x="597" y="542"/>
                  </a:lnTo>
                  <a:lnTo>
                    <a:pt x="579" y="528"/>
                  </a:lnTo>
                  <a:lnTo>
                    <a:pt x="580" y="551"/>
                  </a:lnTo>
                  <a:lnTo>
                    <a:pt x="577" y="573"/>
                  </a:lnTo>
                  <a:lnTo>
                    <a:pt x="574" y="620"/>
                  </a:lnTo>
                  <a:close/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7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0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3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4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6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1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4"/>
                  </a:lnTo>
                  <a:lnTo>
                    <a:pt x="597" y="1053"/>
                  </a:lnTo>
                  <a:lnTo>
                    <a:pt x="603" y="1043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2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2"/>
                  </a:lnTo>
                  <a:lnTo>
                    <a:pt x="527" y="896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7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2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9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6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8"/>
                  </a:lnTo>
                  <a:lnTo>
                    <a:pt x="38" y="602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2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3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8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80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8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8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8"/>
                  </a:lnTo>
                  <a:lnTo>
                    <a:pt x="532" y="14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7"/>
                  </a:lnTo>
                  <a:lnTo>
                    <a:pt x="591" y="117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2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29"/>
                  </a:lnTo>
                  <a:lnTo>
                    <a:pt x="954" y="322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  <a:close/>
                  <a:moveTo>
                    <a:pt x="113" y="642"/>
                  </a:moveTo>
                  <a:lnTo>
                    <a:pt x="104" y="650"/>
                  </a:lnTo>
                  <a:lnTo>
                    <a:pt x="109" y="655"/>
                  </a:lnTo>
                  <a:lnTo>
                    <a:pt x="111" y="661"/>
                  </a:lnTo>
                  <a:lnTo>
                    <a:pt x="113" y="655"/>
                  </a:lnTo>
                  <a:lnTo>
                    <a:pt x="115" y="649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3363840" y="4205160"/>
              <a:ext cx="344520" cy="40032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7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0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3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4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6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1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4"/>
                  </a:lnTo>
                  <a:lnTo>
                    <a:pt x="597" y="1053"/>
                  </a:lnTo>
                  <a:lnTo>
                    <a:pt x="603" y="1043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2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2"/>
                  </a:lnTo>
                  <a:lnTo>
                    <a:pt x="527" y="896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7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2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9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6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8"/>
                  </a:lnTo>
                  <a:lnTo>
                    <a:pt x="38" y="602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2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3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8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80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8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8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8"/>
                  </a:lnTo>
                  <a:lnTo>
                    <a:pt x="532" y="14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7"/>
                  </a:lnTo>
                  <a:lnTo>
                    <a:pt x="591" y="117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2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29"/>
                  </a:lnTo>
                  <a:lnTo>
                    <a:pt x="954" y="322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3554280" y="425916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0" y="124"/>
                  </a:lnTo>
                  <a:lnTo>
                    <a:pt x="584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9"/>
                  </a:lnTo>
                  <a:lnTo>
                    <a:pt x="142" y="162"/>
                  </a:lnTo>
                  <a:lnTo>
                    <a:pt x="143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5" y="181"/>
                  </a:lnTo>
                  <a:lnTo>
                    <a:pt x="163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4" y="14"/>
                  </a:lnTo>
                  <a:lnTo>
                    <a:pt x="80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2" y="34"/>
                  </a:lnTo>
                  <a:lnTo>
                    <a:pt x="262" y="41"/>
                  </a:lnTo>
                  <a:lnTo>
                    <a:pt x="261" y="48"/>
                  </a:lnTo>
                  <a:lnTo>
                    <a:pt x="259" y="51"/>
                  </a:lnTo>
                  <a:lnTo>
                    <a:pt x="249" y="51"/>
                  </a:lnTo>
                  <a:lnTo>
                    <a:pt x="250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49" y="28"/>
                  </a:lnTo>
                  <a:lnTo>
                    <a:pt x="242" y="25"/>
                  </a:lnTo>
                  <a:lnTo>
                    <a:pt x="126" y="25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2" y="55"/>
                  </a:lnTo>
                  <a:lnTo>
                    <a:pt x="249" y="51"/>
                  </a:lnTo>
                  <a:lnTo>
                    <a:pt x="259" y="51"/>
                  </a:lnTo>
                  <a:lnTo>
                    <a:pt x="605" y="51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1"/>
                  </a:lnTo>
                  <a:lnTo>
                    <a:pt x="641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8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8"/>
                  </a:lnTo>
                  <a:lnTo>
                    <a:pt x="837" y="88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7" y="91"/>
                  </a:lnTo>
                  <a:lnTo>
                    <a:pt x="647" y="88"/>
                  </a:lnTo>
                  <a:lnTo>
                    <a:pt x="619" y="88"/>
                  </a:lnTo>
                  <a:lnTo>
                    <a:pt x="619" y="103"/>
                  </a:lnTo>
                  <a:lnTo>
                    <a:pt x="609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3792600" y="3435480"/>
              <a:ext cx="257040" cy="304560"/>
            </a:xfrm>
            <a:custGeom>
              <a:avLst/>
              <a:gdLst/>
              <a:ahLst/>
              <a:rect l="l" t="t" r="r" b="b"/>
              <a:pathLst>
                <a:path w="812" h="959">
                  <a:moveTo>
                    <a:pt x="165" y="0"/>
                  </a:moveTo>
                  <a:lnTo>
                    <a:pt x="209" y="33"/>
                  </a:lnTo>
                  <a:lnTo>
                    <a:pt x="252" y="67"/>
                  </a:lnTo>
                  <a:lnTo>
                    <a:pt x="294" y="101"/>
                  </a:lnTo>
                  <a:lnTo>
                    <a:pt x="335" y="137"/>
                  </a:lnTo>
                  <a:lnTo>
                    <a:pt x="375" y="174"/>
                  </a:lnTo>
                  <a:lnTo>
                    <a:pt x="414" y="211"/>
                  </a:lnTo>
                  <a:lnTo>
                    <a:pt x="451" y="249"/>
                  </a:lnTo>
                  <a:lnTo>
                    <a:pt x="489" y="289"/>
                  </a:lnTo>
                  <a:lnTo>
                    <a:pt x="525" y="329"/>
                  </a:lnTo>
                  <a:lnTo>
                    <a:pt x="559" y="371"/>
                  </a:lnTo>
                  <a:lnTo>
                    <a:pt x="594" y="413"/>
                  </a:lnTo>
                  <a:lnTo>
                    <a:pt x="627" y="456"/>
                  </a:lnTo>
                  <a:lnTo>
                    <a:pt x="658" y="499"/>
                  </a:lnTo>
                  <a:lnTo>
                    <a:pt x="688" y="544"/>
                  </a:lnTo>
                  <a:lnTo>
                    <a:pt x="718" y="589"/>
                  </a:lnTo>
                  <a:lnTo>
                    <a:pt x="746" y="636"/>
                  </a:lnTo>
                  <a:lnTo>
                    <a:pt x="740" y="657"/>
                  </a:lnTo>
                  <a:lnTo>
                    <a:pt x="728" y="665"/>
                  </a:lnTo>
                  <a:lnTo>
                    <a:pt x="715" y="676"/>
                  </a:lnTo>
                  <a:lnTo>
                    <a:pt x="705" y="722"/>
                  </a:lnTo>
                  <a:lnTo>
                    <a:pt x="705" y="730"/>
                  </a:lnTo>
                  <a:lnTo>
                    <a:pt x="710" y="739"/>
                  </a:lnTo>
                  <a:lnTo>
                    <a:pt x="710" y="746"/>
                  </a:lnTo>
                  <a:lnTo>
                    <a:pt x="704" y="756"/>
                  </a:lnTo>
                  <a:lnTo>
                    <a:pt x="714" y="765"/>
                  </a:lnTo>
                  <a:lnTo>
                    <a:pt x="720" y="773"/>
                  </a:lnTo>
                  <a:lnTo>
                    <a:pt x="725" y="786"/>
                  </a:lnTo>
                  <a:lnTo>
                    <a:pt x="735" y="789"/>
                  </a:lnTo>
                  <a:lnTo>
                    <a:pt x="740" y="794"/>
                  </a:lnTo>
                  <a:lnTo>
                    <a:pt x="745" y="803"/>
                  </a:lnTo>
                  <a:lnTo>
                    <a:pt x="749" y="811"/>
                  </a:lnTo>
                  <a:lnTo>
                    <a:pt x="755" y="819"/>
                  </a:lnTo>
                  <a:lnTo>
                    <a:pt x="783" y="834"/>
                  </a:lnTo>
                  <a:lnTo>
                    <a:pt x="801" y="842"/>
                  </a:lnTo>
                  <a:lnTo>
                    <a:pt x="809" y="849"/>
                  </a:lnTo>
                  <a:lnTo>
                    <a:pt x="812" y="857"/>
                  </a:lnTo>
                  <a:lnTo>
                    <a:pt x="812" y="872"/>
                  </a:lnTo>
                  <a:lnTo>
                    <a:pt x="798" y="875"/>
                  </a:lnTo>
                  <a:lnTo>
                    <a:pt x="778" y="878"/>
                  </a:lnTo>
                  <a:lnTo>
                    <a:pt x="746" y="877"/>
                  </a:lnTo>
                  <a:lnTo>
                    <a:pt x="719" y="872"/>
                  </a:lnTo>
                  <a:lnTo>
                    <a:pt x="687" y="862"/>
                  </a:lnTo>
                  <a:lnTo>
                    <a:pt x="664" y="850"/>
                  </a:lnTo>
                  <a:lnTo>
                    <a:pt x="645" y="839"/>
                  </a:lnTo>
                  <a:lnTo>
                    <a:pt x="628" y="837"/>
                  </a:lnTo>
                  <a:lnTo>
                    <a:pt x="613" y="835"/>
                  </a:lnTo>
                  <a:lnTo>
                    <a:pt x="598" y="831"/>
                  </a:lnTo>
                  <a:lnTo>
                    <a:pt x="585" y="826"/>
                  </a:lnTo>
                  <a:lnTo>
                    <a:pt x="581" y="809"/>
                  </a:lnTo>
                  <a:lnTo>
                    <a:pt x="582" y="796"/>
                  </a:lnTo>
                  <a:lnTo>
                    <a:pt x="585" y="783"/>
                  </a:lnTo>
                  <a:lnTo>
                    <a:pt x="588" y="771"/>
                  </a:lnTo>
                  <a:lnTo>
                    <a:pt x="593" y="760"/>
                  </a:lnTo>
                  <a:lnTo>
                    <a:pt x="598" y="748"/>
                  </a:lnTo>
                  <a:lnTo>
                    <a:pt x="604" y="739"/>
                  </a:lnTo>
                  <a:lnTo>
                    <a:pt x="604" y="727"/>
                  </a:lnTo>
                  <a:lnTo>
                    <a:pt x="604" y="714"/>
                  </a:lnTo>
                  <a:lnTo>
                    <a:pt x="608" y="706"/>
                  </a:lnTo>
                  <a:lnTo>
                    <a:pt x="613" y="699"/>
                  </a:lnTo>
                  <a:lnTo>
                    <a:pt x="613" y="659"/>
                  </a:lnTo>
                  <a:lnTo>
                    <a:pt x="598" y="652"/>
                  </a:lnTo>
                  <a:lnTo>
                    <a:pt x="599" y="642"/>
                  </a:lnTo>
                  <a:lnTo>
                    <a:pt x="603" y="632"/>
                  </a:lnTo>
                  <a:lnTo>
                    <a:pt x="603" y="619"/>
                  </a:lnTo>
                  <a:lnTo>
                    <a:pt x="599" y="604"/>
                  </a:lnTo>
                  <a:lnTo>
                    <a:pt x="603" y="583"/>
                  </a:lnTo>
                  <a:lnTo>
                    <a:pt x="608" y="554"/>
                  </a:lnTo>
                  <a:lnTo>
                    <a:pt x="616" y="523"/>
                  </a:lnTo>
                  <a:lnTo>
                    <a:pt x="628" y="492"/>
                  </a:lnTo>
                  <a:lnTo>
                    <a:pt x="608" y="515"/>
                  </a:lnTo>
                  <a:lnTo>
                    <a:pt x="587" y="538"/>
                  </a:lnTo>
                  <a:lnTo>
                    <a:pt x="568" y="557"/>
                  </a:lnTo>
                  <a:lnTo>
                    <a:pt x="547" y="576"/>
                  </a:lnTo>
                  <a:lnTo>
                    <a:pt x="529" y="590"/>
                  </a:lnTo>
                  <a:lnTo>
                    <a:pt x="506" y="609"/>
                  </a:lnTo>
                  <a:lnTo>
                    <a:pt x="484" y="626"/>
                  </a:lnTo>
                  <a:lnTo>
                    <a:pt x="458" y="641"/>
                  </a:lnTo>
                  <a:lnTo>
                    <a:pt x="432" y="656"/>
                  </a:lnTo>
                  <a:lnTo>
                    <a:pt x="409" y="664"/>
                  </a:lnTo>
                  <a:lnTo>
                    <a:pt x="387" y="673"/>
                  </a:lnTo>
                  <a:lnTo>
                    <a:pt x="365" y="681"/>
                  </a:lnTo>
                  <a:lnTo>
                    <a:pt x="345" y="757"/>
                  </a:lnTo>
                  <a:lnTo>
                    <a:pt x="344" y="779"/>
                  </a:lnTo>
                  <a:lnTo>
                    <a:pt x="340" y="803"/>
                  </a:lnTo>
                  <a:lnTo>
                    <a:pt x="337" y="820"/>
                  </a:lnTo>
                  <a:lnTo>
                    <a:pt x="332" y="839"/>
                  </a:lnTo>
                  <a:lnTo>
                    <a:pt x="325" y="857"/>
                  </a:lnTo>
                  <a:lnTo>
                    <a:pt x="315" y="877"/>
                  </a:lnTo>
                  <a:lnTo>
                    <a:pt x="305" y="892"/>
                  </a:lnTo>
                  <a:lnTo>
                    <a:pt x="294" y="904"/>
                  </a:lnTo>
                  <a:lnTo>
                    <a:pt x="291" y="918"/>
                  </a:lnTo>
                  <a:lnTo>
                    <a:pt x="282" y="932"/>
                  </a:lnTo>
                  <a:lnTo>
                    <a:pt x="270" y="943"/>
                  </a:lnTo>
                  <a:lnTo>
                    <a:pt x="250" y="953"/>
                  </a:lnTo>
                  <a:lnTo>
                    <a:pt x="221" y="959"/>
                  </a:lnTo>
                  <a:lnTo>
                    <a:pt x="196" y="959"/>
                  </a:lnTo>
                  <a:lnTo>
                    <a:pt x="172" y="955"/>
                  </a:lnTo>
                  <a:lnTo>
                    <a:pt x="154" y="947"/>
                  </a:lnTo>
                  <a:lnTo>
                    <a:pt x="140" y="937"/>
                  </a:lnTo>
                  <a:lnTo>
                    <a:pt x="129" y="926"/>
                  </a:lnTo>
                  <a:lnTo>
                    <a:pt x="118" y="923"/>
                  </a:lnTo>
                  <a:lnTo>
                    <a:pt x="105" y="901"/>
                  </a:lnTo>
                  <a:lnTo>
                    <a:pt x="97" y="877"/>
                  </a:lnTo>
                  <a:lnTo>
                    <a:pt x="89" y="855"/>
                  </a:lnTo>
                  <a:lnTo>
                    <a:pt x="85" y="829"/>
                  </a:lnTo>
                  <a:lnTo>
                    <a:pt x="85" y="805"/>
                  </a:lnTo>
                  <a:lnTo>
                    <a:pt x="81" y="762"/>
                  </a:lnTo>
                  <a:lnTo>
                    <a:pt x="95" y="736"/>
                  </a:lnTo>
                  <a:lnTo>
                    <a:pt x="100" y="705"/>
                  </a:lnTo>
                  <a:lnTo>
                    <a:pt x="109" y="691"/>
                  </a:lnTo>
                  <a:lnTo>
                    <a:pt x="106" y="673"/>
                  </a:lnTo>
                  <a:lnTo>
                    <a:pt x="103" y="657"/>
                  </a:lnTo>
                  <a:lnTo>
                    <a:pt x="75" y="636"/>
                  </a:lnTo>
                  <a:lnTo>
                    <a:pt x="88" y="618"/>
                  </a:lnTo>
                  <a:lnTo>
                    <a:pt x="103" y="576"/>
                  </a:lnTo>
                  <a:lnTo>
                    <a:pt x="91" y="578"/>
                  </a:lnTo>
                  <a:lnTo>
                    <a:pt x="81" y="575"/>
                  </a:lnTo>
                  <a:lnTo>
                    <a:pt x="75" y="572"/>
                  </a:lnTo>
                  <a:lnTo>
                    <a:pt x="70" y="563"/>
                  </a:lnTo>
                  <a:lnTo>
                    <a:pt x="68" y="557"/>
                  </a:lnTo>
                  <a:lnTo>
                    <a:pt x="60" y="558"/>
                  </a:lnTo>
                  <a:lnTo>
                    <a:pt x="49" y="557"/>
                  </a:lnTo>
                  <a:lnTo>
                    <a:pt x="41" y="552"/>
                  </a:lnTo>
                  <a:lnTo>
                    <a:pt x="34" y="545"/>
                  </a:lnTo>
                  <a:lnTo>
                    <a:pt x="26" y="533"/>
                  </a:lnTo>
                  <a:lnTo>
                    <a:pt x="20" y="523"/>
                  </a:lnTo>
                  <a:lnTo>
                    <a:pt x="17" y="512"/>
                  </a:lnTo>
                  <a:lnTo>
                    <a:pt x="11" y="509"/>
                  </a:lnTo>
                  <a:lnTo>
                    <a:pt x="2" y="442"/>
                  </a:lnTo>
                  <a:lnTo>
                    <a:pt x="8" y="440"/>
                  </a:lnTo>
                  <a:lnTo>
                    <a:pt x="8" y="413"/>
                  </a:lnTo>
                  <a:lnTo>
                    <a:pt x="0" y="411"/>
                  </a:lnTo>
                  <a:lnTo>
                    <a:pt x="2" y="395"/>
                  </a:lnTo>
                  <a:lnTo>
                    <a:pt x="7" y="382"/>
                  </a:lnTo>
                  <a:lnTo>
                    <a:pt x="8" y="373"/>
                  </a:lnTo>
                  <a:lnTo>
                    <a:pt x="14" y="367"/>
                  </a:lnTo>
                  <a:lnTo>
                    <a:pt x="17" y="355"/>
                  </a:lnTo>
                  <a:lnTo>
                    <a:pt x="19" y="348"/>
                  </a:lnTo>
                  <a:lnTo>
                    <a:pt x="22" y="342"/>
                  </a:lnTo>
                  <a:lnTo>
                    <a:pt x="40" y="337"/>
                  </a:lnTo>
                  <a:lnTo>
                    <a:pt x="34" y="324"/>
                  </a:lnTo>
                  <a:lnTo>
                    <a:pt x="39" y="302"/>
                  </a:lnTo>
                  <a:lnTo>
                    <a:pt x="40" y="298"/>
                  </a:lnTo>
                  <a:lnTo>
                    <a:pt x="41" y="294"/>
                  </a:lnTo>
                  <a:lnTo>
                    <a:pt x="47" y="294"/>
                  </a:lnTo>
                  <a:lnTo>
                    <a:pt x="47" y="287"/>
                  </a:lnTo>
                  <a:lnTo>
                    <a:pt x="75" y="287"/>
                  </a:lnTo>
                  <a:lnTo>
                    <a:pt x="75" y="294"/>
                  </a:lnTo>
                  <a:lnTo>
                    <a:pt x="78" y="294"/>
                  </a:lnTo>
                  <a:lnTo>
                    <a:pt x="81" y="298"/>
                  </a:lnTo>
                  <a:lnTo>
                    <a:pt x="83" y="304"/>
                  </a:lnTo>
                  <a:lnTo>
                    <a:pt x="85" y="314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3"/>
                  </a:lnTo>
                  <a:lnTo>
                    <a:pt x="85" y="337"/>
                  </a:lnTo>
                  <a:lnTo>
                    <a:pt x="91" y="337"/>
                  </a:lnTo>
                  <a:lnTo>
                    <a:pt x="97" y="333"/>
                  </a:lnTo>
                  <a:lnTo>
                    <a:pt x="100" y="329"/>
                  </a:lnTo>
                  <a:lnTo>
                    <a:pt x="98" y="322"/>
                  </a:lnTo>
                  <a:lnTo>
                    <a:pt x="85" y="324"/>
                  </a:lnTo>
                  <a:lnTo>
                    <a:pt x="85" y="314"/>
                  </a:lnTo>
                  <a:lnTo>
                    <a:pt x="101" y="312"/>
                  </a:lnTo>
                  <a:lnTo>
                    <a:pt x="106" y="314"/>
                  </a:lnTo>
                  <a:lnTo>
                    <a:pt x="111" y="315"/>
                  </a:lnTo>
                  <a:lnTo>
                    <a:pt x="116" y="319"/>
                  </a:lnTo>
                  <a:lnTo>
                    <a:pt x="112" y="299"/>
                  </a:lnTo>
                  <a:lnTo>
                    <a:pt x="107" y="280"/>
                  </a:lnTo>
                  <a:lnTo>
                    <a:pt x="138" y="154"/>
                  </a:lnTo>
                  <a:lnTo>
                    <a:pt x="144" y="132"/>
                  </a:lnTo>
                  <a:lnTo>
                    <a:pt x="150" y="117"/>
                  </a:lnTo>
                  <a:lnTo>
                    <a:pt x="161" y="104"/>
                  </a:lnTo>
                  <a:lnTo>
                    <a:pt x="152" y="74"/>
                  </a:lnTo>
                  <a:lnTo>
                    <a:pt x="149" y="55"/>
                  </a:lnTo>
                  <a:lnTo>
                    <a:pt x="150" y="36"/>
                  </a:lnTo>
                  <a:lnTo>
                    <a:pt x="156" y="15"/>
                  </a:lnTo>
                  <a:lnTo>
                    <a:pt x="165" y="0"/>
                  </a:lnTo>
                  <a:close/>
                  <a:moveTo>
                    <a:pt x="114" y="337"/>
                  </a:moveTo>
                  <a:lnTo>
                    <a:pt x="106" y="345"/>
                  </a:lnTo>
                  <a:lnTo>
                    <a:pt x="109" y="350"/>
                  </a:lnTo>
                  <a:lnTo>
                    <a:pt x="112" y="356"/>
                  </a:lnTo>
                  <a:lnTo>
                    <a:pt x="114" y="350"/>
                  </a:lnTo>
                  <a:lnTo>
                    <a:pt x="116" y="344"/>
                  </a:lnTo>
                  <a:lnTo>
                    <a:pt x="114" y="3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3792600" y="3435480"/>
              <a:ext cx="257040" cy="304560"/>
            </a:xfrm>
            <a:custGeom>
              <a:avLst/>
              <a:gdLst/>
              <a:ahLst/>
              <a:rect l="l" t="t" r="r" b="b"/>
              <a:pathLst>
                <a:path w="812" h="959">
                  <a:moveTo>
                    <a:pt x="746" y="636"/>
                  </a:moveTo>
                  <a:lnTo>
                    <a:pt x="740" y="657"/>
                  </a:lnTo>
                  <a:lnTo>
                    <a:pt x="728" y="665"/>
                  </a:lnTo>
                  <a:lnTo>
                    <a:pt x="715" y="676"/>
                  </a:lnTo>
                  <a:lnTo>
                    <a:pt x="705" y="722"/>
                  </a:lnTo>
                  <a:lnTo>
                    <a:pt x="705" y="730"/>
                  </a:lnTo>
                  <a:lnTo>
                    <a:pt x="710" y="739"/>
                  </a:lnTo>
                  <a:lnTo>
                    <a:pt x="710" y="746"/>
                  </a:lnTo>
                  <a:lnTo>
                    <a:pt x="704" y="756"/>
                  </a:lnTo>
                  <a:lnTo>
                    <a:pt x="714" y="765"/>
                  </a:lnTo>
                  <a:lnTo>
                    <a:pt x="720" y="773"/>
                  </a:lnTo>
                  <a:lnTo>
                    <a:pt x="725" y="786"/>
                  </a:lnTo>
                  <a:lnTo>
                    <a:pt x="735" y="789"/>
                  </a:lnTo>
                  <a:lnTo>
                    <a:pt x="740" y="794"/>
                  </a:lnTo>
                  <a:lnTo>
                    <a:pt x="745" y="803"/>
                  </a:lnTo>
                  <a:lnTo>
                    <a:pt x="749" y="811"/>
                  </a:lnTo>
                  <a:lnTo>
                    <a:pt x="755" y="819"/>
                  </a:lnTo>
                  <a:lnTo>
                    <a:pt x="783" y="834"/>
                  </a:lnTo>
                  <a:lnTo>
                    <a:pt x="801" y="842"/>
                  </a:lnTo>
                  <a:lnTo>
                    <a:pt x="809" y="849"/>
                  </a:lnTo>
                  <a:lnTo>
                    <a:pt x="812" y="857"/>
                  </a:lnTo>
                  <a:lnTo>
                    <a:pt x="812" y="872"/>
                  </a:lnTo>
                  <a:lnTo>
                    <a:pt x="798" y="875"/>
                  </a:lnTo>
                  <a:lnTo>
                    <a:pt x="778" y="878"/>
                  </a:lnTo>
                  <a:lnTo>
                    <a:pt x="746" y="877"/>
                  </a:lnTo>
                  <a:lnTo>
                    <a:pt x="719" y="872"/>
                  </a:lnTo>
                  <a:lnTo>
                    <a:pt x="687" y="862"/>
                  </a:lnTo>
                  <a:lnTo>
                    <a:pt x="664" y="850"/>
                  </a:lnTo>
                  <a:lnTo>
                    <a:pt x="645" y="839"/>
                  </a:lnTo>
                  <a:lnTo>
                    <a:pt x="628" y="837"/>
                  </a:lnTo>
                  <a:lnTo>
                    <a:pt x="613" y="835"/>
                  </a:lnTo>
                  <a:lnTo>
                    <a:pt x="598" y="831"/>
                  </a:lnTo>
                  <a:lnTo>
                    <a:pt x="585" y="826"/>
                  </a:lnTo>
                  <a:lnTo>
                    <a:pt x="581" y="809"/>
                  </a:lnTo>
                  <a:lnTo>
                    <a:pt x="582" y="796"/>
                  </a:lnTo>
                  <a:lnTo>
                    <a:pt x="585" y="783"/>
                  </a:lnTo>
                  <a:lnTo>
                    <a:pt x="588" y="771"/>
                  </a:lnTo>
                  <a:lnTo>
                    <a:pt x="593" y="760"/>
                  </a:lnTo>
                  <a:lnTo>
                    <a:pt x="598" y="748"/>
                  </a:lnTo>
                  <a:lnTo>
                    <a:pt x="604" y="739"/>
                  </a:lnTo>
                  <a:lnTo>
                    <a:pt x="604" y="727"/>
                  </a:lnTo>
                  <a:lnTo>
                    <a:pt x="604" y="714"/>
                  </a:lnTo>
                  <a:lnTo>
                    <a:pt x="608" y="706"/>
                  </a:lnTo>
                  <a:lnTo>
                    <a:pt x="613" y="699"/>
                  </a:lnTo>
                  <a:lnTo>
                    <a:pt x="613" y="659"/>
                  </a:lnTo>
                  <a:lnTo>
                    <a:pt x="598" y="652"/>
                  </a:lnTo>
                  <a:lnTo>
                    <a:pt x="599" y="642"/>
                  </a:lnTo>
                  <a:lnTo>
                    <a:pt x="603" y="632"/>
                  </a:lnTo>
                  <a:lnTo>
                    <a:pt x="603" y="619"/>
                  </a:lnTo>
                  <a:lnTo>
                    <a:pt x="599" y="604"/>
                  </a:lnTo>
                  <a:lnTo>
                    <a:pt x="603" y="583"/>
                  </a:lnTo>
                  <a:lnTo>
                    <a:pt x="608" y="554"/>
                  </a:lnTo>
                  <a:lnTo>
                    <a:pt x="616" y="523"/>
                  </a:lnTo>
                  <a:lnTo>
                    <a:pt x="628" y="492"/>
                  </a:lnTo>
                  <a:lnTo>
                    <a:pt x="608" y="515"/>
                  </a:lnTo>
                  <a:lnTo>
                    <a:pt x="587" y="538"/>
                  </a:lnTo>
                  <a:lnTo>
                    <a:pt x="568" y="557"/>
                  </a:lnTo>
                  <a:lnTo>
                    <a:pt x="547" y="576"/>
                  </a:lnTo>
                  <a:lnTo>
                    <a:pt x="529" y="590"/>
                  </a:lnTo>
                  <a:lnTo>
                    <a:pt x="506" y="609"/>
                  </a:lnTo>
                  <a:lnTo>
                    <a:pt x="484" y="626"/>
                  </a:lnTo>
                  <a:lnTo>
                    <a:pt x="458" y="641"/>
                  </a:lnTo>
                  <a:lnTo>
                    <a:pt x="432" y="656"/>
                  </a:lnTo>
                  <a:lnTo>
                    <a:pt x="409" y="664"/>
                  </a:lnTo>
                  <a:lnTo>
                    <a:pt x="387" y="673"/>
                  </a:lnTo>
                  <a:lnTo>
                    <a:pt x="365" y="681"/>
                  </a:lnTo>
                  <a:lnTo>
                    <a:pt x="345" y="757"/>
                  </a:lnTo>
                  <a:lnTo>
                    <a:pt x="344" y="779"/>
                  </a:lnTo>
                  <a:lnTo>
                    <a:pt x="340" y="803"/>
                  </a:lnTo>
                  <a:lnTo>
                    <a:pt x="337" y="820"/>
                  </a:lnTo>
                  <a:lnTo>
                    <a:pt x="332" y="839"/>
                  </a:lnTo>
                  <a:lnTo>
                    <a:pt x="325" y="857"/>
                  </a:lnTo>
                  <a:lnTo>
                    <a:pt x="315" y="877"/>
                  </a:lnTo>
                  <a:lnTo>
                    <a:pt x="305" y="892"/>
                  </a:lnTo>
                  <a:lnTo>
                    <a:pt x="294" y="904"/>
                  </a:lnTo>
                  <a:lnTo>
                    <a:pt x="291" y="918"/>
                  </a:lnTo>
                  <a:lnTo>
                    <a:pt x="282" y="932"/>
                  </a:lnTo>
                  <a:lnTo>
                    <a:pt x="270" y="943"/>
                  </a:lnTo>
                  <a:lnTo>
                    <a:pt x="250" y="953"/>
                  </a:lnTo>
                  <a:lnTo>
                    <a:pt x="221" y="959"/>
                  </a:lnTo>
                  <a:lnTo>
                    <a:pt x="196" y="959"/>
                  </a:lnTo>
                  <a:lnTo>
                    <a:pt x="172" y="955"/>
                  </a:lnTo>
                  <a:lnTo>
                    <a:pt x="154" y="947"/>
                  </a:lnTo>
                  <a:lnTo>
                    <a:pt x="140" y="937"/>
                  </a:lnTo>
                  <a:lnTo>
                    <a:pt x="129" y="926"/>
                  </a:lnTo>
                  <a:lnTo>
                    <a:pt x="118" y="923"/>
                  </a:lnTo>
                  <a:lnTo>
                    <a:pt x="105" y="901"/>
                  </a:lnTo>
                  <a:lnTo>
                    <a:pt x="97" y="877"/>
                  </a:lnTo>
                  <a:lnTo>
                    <a:pt x="89" y="855"/>
                  </a:lnTo>
                  <a:lnTo>
                    <a:pt x="85" y="829"/>
                  </a:lnTo>
                  <a:lnTo>
                    <a:pt x="85" y="805"/>
                  </a:lnTo>
                  <a:lnTo>
                    <a:pt x="81" y="762"/>
                  </a:lnTo>
                  <a:lnTo>
                    <a:pt x="95" y="736"/>
                  </a:lnTo>
                  <a:lnTo>
                    <a:pt x="100" y="705"/>
                  </a:lnTo>
                  <a:lnTo>
                    <a:pt x="109" y="691"/>
                  </a:lnTo>
                  <a:lnTo>
                    <a:pt x="106" y="673"/>
                  </a:lnTo>
                  <a:lnTo>
                    <a:pt x="103" y="657"/>
                  </a:lnTo>
                  <a:lnTo>
                    <a:pt x="75" y="636"/>
                  </a:lnTo>
                  <a:lnTo>
                    <a:pt x="88" y="618"/>
                  </a:lnTo>
                  <a:lnTo>
                    <a:pt x="103" y="576"/>
                  </a:lnTo>
                  <a:lnTo>
                    <a:pt x="91" y="578"/>
                  </a:lnTo>
                  <a:lnTo>
                    <a:pt x="81" y="575"/>
                  </a:lnTo>
                  <a:lnTo>
                    <a:pt x="75" y="572"/>
                  </a:lnTo>
                  <a:lnTo>
                    <a:pt x="70" y="563"/>
                  </a:lnTo>
                  <a:lnTo>
                    <a:pt x="68" y="557"/>
                  </a:lnTo>
                  <a:lnTo>
                    <a:pt x="60" y="558"/>
                  </a:lnTo>
                  <a:lnTo>
                    <a:pt x="49" y="557"/>
                  </a:lnTo>
                  <a:lnTo>
                    <a:pt x="41" y="552"/>
                  </a:lnTo>
                  <a:lnTo>
                    <a:pt x="34" y="545"/>
                  </a:lnTo>
                  <a:lnTo>
                    <a:pt x="26" y="533"/>
                  </a:lnTo>
                  <a:lnTo>
                    <a:pt x="20" y="523"/>
                  </a:lnTo>
                  <a:lnTo>
                    <a:pt x="17" y="512"/>
                  </a:lnTo>
                  <a:lnTo>
                    <a:pt x="11" y="509"/>
                  </a:lnTo>
                  <a:lnTo>
                    <a:pt x="2" y="442"/>
                  </a:lnTo>
                  <a:lnTo>
                    <a:pt x="8" y="440"/>
                  </a:lnTo>
                  <a:lnTo>
                    <a:pt x="8" y="413"/>
                  </a:lnTo>
                  <a:lnTo>
                    <a:pt x="0" y="411"/>
                  </a:lnTo>
                  <a:lnTo>
                    <a:pt x="2" y="395"/>
                  </a:lnTo>
                  <a:lnTo>
                    <a:pt x="7" y="382"/>
                  </a:lnTo>
                  <a:lnTo>
                    <a:pt x="8" y="373"/>
                  </a:lnTo>
                  <a:lnTo>
                    <a:pt x="14" y="367"/>
                  </a:lnTo>
                  <a:lnTo>
                    <a:pt x="17" y="355"/>
                  </a:lnTo>
                  <a:lnTo>
                    <a:pt x="19" y="348"/>
                  </a:lnTo>
                  <a:lnTo>
                    <a:pt x="22" y="342"/>
                  </a:lnTo>
                  <a:lnTo>
                    <a:pt x="40" y="337"/>
                  </a:lnTo>
                  <a:lnTo>
                    <a:pt x="34" y="324"/>
                  </a:lnTo>
                  <a:lnTo>
                    <a:pt x="39" y="302"/>
                  </a:lnTo>
                  <a:lnTo>
                    <a:pt x="40" y="298"/>
                  </a:lnTo>
                  <a:lnTo>
                    <a:pt x="41" y="294"/>
                  </a:lnTo>
                  <a:lnTo>
                    <a:pt x="47" y="294"/>
                  </a:lnTo>
                  <a:lnTo>
                    <a:pt x="47" y="287"/>
                  </a:lnTo>
                  <a:lnTo>
                    <a:pt x="75" y="287"/>
                  </a:lnTo>
                  <a:lnTo>
                    <a:pt x="75" y="294"/>
                  </a:lnTo>
                  <a:lnTo>
                    <a:pt x="78" y="294"/>
                  </a:lnTo>
                  <a:lnTo>
                    <a:pt x="81" y="298"/>
                  </a:lnTo>
                  <a:lnTo>
                    <a:pt x="83" y="304"/>
                  </a:lnTo>
                  <a:lnTo>
                    <a:pt x="85" y="314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3"/>
                  </a:lnTo>
                  <a:lnTo>
                    <a:pt x="85" y="337"/>
                  </a:lnTo>
                  <a:lnTo>
                    <a:pt x="91" y="337"/>
                  </a:lnTo>
                  <a:lnTo>
                    <a:pt x="97" y="333"/>
                  </a:lnTo>
                  <a:lnTo>
                    <a:pt x="100" y="329"/>
                  </a:lnTo>
                  <a:lnTo>
                    <a:pt x="98" y="322"/>
                  </a:lnTo>
                  <a:lnTo>
                    <a:pt x="85" y="324"/>
                  </a:lnTo>
                  <a:lnTo>
                    <a:pt x="85" y="314"/>
                  </a:lnTo>
                  <a:lnTo>
                    <a:pt x="101" y="312"/>
                  </a:lnTo>
                  <a:lnTo>
                    <a:pt x="106" y="314"/>
                  </a:lnTo>
                  <a:lnTo>
                    <a:pt x="111" y="315"/>
                  </a:lnTo>
                  <a:lnTo>
                    <a:pt x="116" y="319"/>
                  </a:lnTo>
                  <a:lnTo>
                    <a:pt x="112" y="299"/>
                  </a:lnTo>
                  <a:lnTo>
                    <a:pt x="107" y="280"/>
                  </a:lnTo>
                  <a:lnTo>
                    <a:pt x="138" y="154"/>
                  </a:lnTo>
                  <a:lnTo>
                    <a:pt x="144" y="132"/>
                  </a:lnTo>
                  <a:lnTo>
                    <a:pt x="150" y="117"/>
                  </a:lnTo>
                  <a:lnTo>
                    <a:pt x="161" y="104"/>
                  </a:lnTo>
                  <a:lnTo>
                    <a:pt x="152" y="74"/>
                  </a:lnTo>
                  <a:lnTo>
                    <a:pt x="149" y="55"/>
                  </a:lnTo>
                  <a:lnTo>
                    <a:pt x="150" y="36"/>
                  </a:lnTo>
                  <a:lnTo>
                    <a:pt x="156" y="15"/>
                  </a:lnTo>
                  <a:lnTo>
                    <a:pt x="16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3529080" y="3770280"/>
              <a:ext cx="34596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574" y="621"/>
                  </a:moveTo>
                  <a:lnTo>
                    <a:pt x="594" y="606"/>
                  </a:lnTo>
                  <a:lnTo>
                    <a:pt x="613" y="595"/>
                  </a:lnTo>
                  <a:lnTo>
                    <a:pt x="631" y="585"/>
                  </a:lnTo>
                  <a:lnTo>
                    <a:pt x="650" y="576"/>
                  </a:lnTo>
                  <a:lnTo>
                    <a:pt x="614" y="553"/>
                  </a:lnTo>
                  <a:lnTo>
                    <a:pt x="597" y="542"/>
                  </a:lnTo>
                  <a:lnTo>
                    <a:pt x="579" y="529"/>
                  </a:lnTo>
                  <a:lnTo>
                    <a:pt x="581" y="552"/>
                  </a:lnTo>
                  <a:lnTo>
                    <a:pt x="577" y="573"/>
                  </a:lnTo>
                  <a:lnTo>
                    <a:pt x="574" y="621"/>
                  </a:lnTo>
                  <a:close/>
                  <a:moveTo>
                    <a:pt x="783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80" y="789"/>
                  </a:lnTo>
                  <a:lnTo>
                    <a:pt x="767" y="854"/>
                  </a:lnTo>
                  <a:lnTo>
                    <a:pt x="753" y="918"/>
                  </a:lnTo>
                  <a:lnTo>
                    <a:pt x="740" y="963"/>
                  </a:lnTo>
                  <a:lnTo>
                    <a:pt x="728" y="971"/>
                  </a:lnTo>
                  <a:lnTo>
                    <a:pt x="715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09" y="1043"/>
                  </a:lnTo>
                  <a:lnTo>
                    <a:pt x="709" y="1052"/>
                  </a:lnTo>
                  <a:lnTo>
                    <a:pt x="703" y="1062"/>
                  </a:lnTo>
                  <a:lnTo>
                    <a:pt x="714" y="1071"/>
                  </a:lnTo>
                  <a:lnTo>
                    <a:pt x="720" y="1079"/>
                  </a:lnTo>
                  <a:lnTo>
                    <a:pt x="724" y="1092"/>
                  </a:lnTo>
                  <a:lnTo>
                    <a:pt x="735" y="1095"/>
                  </a:lnTo>
                  <a:lnTo>
                    <a:pt x="740" y="1100"/>
                  </a:lnTo>
                  <a:lnTo>
                    <a:pt x="744" y="1107"/>
                  </a:lnTo>
                  <a:lnTo>
                    <a:pt x="749" y="1116"/>
                  </a:lnTo>
                  <a:lnTo>
                    <a:pt x="755" y="1124"/>
                  </a:lnTo>
                  <a:lnTo>
                    <a:pt x="783" y="1139"/>
                  </a:lnTo>
                  <a:lnTo>
                    <a:pt x="801" y="1147"/>
                  </a:lnTo>
                  <a:lnTo>
                    <a:pt x="808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8" y="1181"/>
                  </a:lnTo>
                  <a:lnTo>
                    <a:pt x="778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6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8" y="1143"/>
                  </a:lnTo>
                  <a:lnTo>
                    <a:pt x="613" y="1141"/>
                  </a:lnTo>
                  <a:lnTo>
                    <a:pt x="598" y="1137"/>
                  </a:lnTo>
                  <a:lnTo>
                    <a:pt x="585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5" y="1089"/>
                  </a:lnTo>
                  <a:lnTo>
                    <a:pt x="588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5" y="1043"/>
                  </a:lnTo>
                  <a:lnTo>
                    <a:pt x="605" y="1032"/>
                  </a:lnTo>
                  <a:lnTo>
                    <a:pt x="605" y="1020"/>
                  </a:lnTo>
                  <a:lnTo>
                    <a:pt x="608" y="1012"/>
                  </a:lnTo>
                  <a:lnTo>
                    <a:pt x="613" y="1005"/>
                  </a:lnTo>
                  <a:lnTo>
                    <a:pt x="613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2" y="938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8" y="859"/>
                  </a:lnTo>
                  <a:lnTo>
                    <a:pt x="616" y="829"/>
                  </a:lnTo>
                  <a:lnTo>
                    <a:pt x="628" y="798"/>
                  </a:lnTo>
                  <a:lnTo>
                    <a:pt x="608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7" y="882"/>
                  </a:lnTo>
                  <a:lnTo>
                    <a:pt x="528" y="896"/>
                  </a:lnTo>
                  <a:lnTo>
                    <a:pt x="506" y="915"/>
                  </a:lnTo>
                  <a:lnTo>
                    <a:pt x="484" y="931"/>
                  </a:lnTo>
                  <a:lnTo>
                    <a:pt x="458" y="947"/>
                  </a:lnTo>
                  <a:lnTo>
                    <a:pt x="432" y="962"/>
                  </a:lnTo>
                  <a:lnTo>
                    <a:pt x="409" y="970"/>
                  </a:lnTo>
                  <a:lnTo>
                    <a:pt x="386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3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2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6" y="1198"/>
                  </a:lnTo>
                  <a:lnTo>
                    <a:pt x="294" y="1210"/>
                  </a:lnTo>
                  <a:lnTo>
                    <a:pt x="291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50" y="1259"/>
                  </a:lnTo>
                  <a:lnTo>
                    <a:pt x="222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3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4" y="1135"/>
                  </a:lnTo>
                  <a:lnTo>
                    <a:pt x="84" y="1110"/>
                  </a:lnTo>
                  <a:lnTo>
                    <a:pt x="81" y="1067"/>
                  </a:lnTo>
                  <a:lnTo>
                    <a:pt x="95" y="1042"/>
                  </a:lnTo>
                  <a:lnTo>
                    <a:pt x="100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5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1" y="881"/>
                  </a:lnTo>
                  <a:lnTo>
                    <a:pt x="75" y="876"/>
                  </a:lnTo>
                  <a:lnTo>
                    <a:pt x="69" y="869"/>
                  </a:lnTo>
                  <a:lnTo>
                    <a:pt x="67" y="863"/>
                  </a:lnTo>
                  <a:lnTo>
                    <a:pt x="60" y="864"/>
                  </a:lnTo>
                  <a:lnTo>
                    <a:pt x="49" y="863"/>
                  </a:lnTo>
                  <a:lnTo>
                    <a:pt x="41" y="857"/>
                  </a:lnTo>
                  <a:lnTo>
                    <a:pt x="33" y="850"/>
                  </a:lnTo>
                  <a:lnTo>
                    <a:pt x="26" y="839"/>
                  </a:lnTo>
                  <a:lnTo>
                    <a:pt x="20" y="829"/>
                  </a:lnTo>
                  <a:lnTo>
                    <a:pt x="17" y="818"/>
                  </a:lnTo>
                  <a:lnTo>
                    <a:pt x="10" y="815"/>
                  </a:lnTo>
                  <a:lnTo>
                    <a:pt x="1" y="748"/>
                  </a:lnTo>
                  <a:lnTo>
                    <a:pt x="9" y="746"/>
                  </a:lnTo>
                  <a:lnTo>
                    <a:pt x="9" y="718"/>
                  </a:lnTo>
                  <a:lnTo>
                    <a:pt x="0" y="717"/>
                  </a:lnTo>
                  <a:lnTo>
                    <a:pt x="1" y="700"/>
                  </a:lnTo>
                  <a:lnTo>
                    <a:pt x="7" y="687"/>
                  </a:lnTo>
                  <a:lnTo>
                    <a:pt x="9" y="679"/>
                  </a:lnTo>
                  <a:lnTo>
                    <a:pt x="14" y="673"/>
                  </a:lnTo>
                  <a:lnTo>
                    <a:pt x="17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40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40" y="603"/>
                  </a:lnTo>
                  <a:lnTo>
                    <a:pt x="41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3"/>
                  </a:lnTo>
                  <a:lnTo>
                    <a:pt x="83" y="610"/>
                  </a:lnTo>
                  <a:lnTo>
                    <a:pt x="84" y="619"/>
                  </a:lnTo>
                  <a:lnTo>
                    <a:pt x="84" y="630"/>
                  </a:lnTo>
                  <a:lnTo>
                    <a:pt x="83" y="636"/>
                  </a:lnTo>
                  <a:lnTo>
                    <a:pt x="80" y="639"/>
                  </a:lnTo>
                  <a:lnTo>
                    <a:pt x="84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100" y="634"/>
                  </a:lnTo>
                  <a:lnTo>
                    <a:pt x="98" y="628"/>
                  </a:lnTo>
                  <a:lnTo>
                    <a:pt x="84" y="630"/>
                  </a:lnTo>
                  <a:lnTo>
                    <a:pt x="84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0" y="621"/>
                  </a:lnTo>
                  <a:lnTo>
                    <a:pt x="116" y="624"/>
                  </a:lnTo>
                  <a:lnTo>
                    <a:pt x="112" y="605"/>
                  </a:lnTo>
                  <a:lnTo>
                    <a:pt x="107" y="585"/>
                  </a:lnTo>
                  <a:lnTo>
                    <a:pt x="137" y="460"/>
                  </a:lnTo>
                  <a:lnTo>
                    <a:pt x="144" y="438"/>
                  </a:lnTo>
                  <a:lnTo>
                    <a:pt x="150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2"/>
                  </a:lnTo>
                  <a:lnTo>
                    <a:pt x="156" y="321"/>
                  </a:lnTo>
                  <a:lnTo>
                    <a:pt x="171" y="294"/>
                  </a:lnTo>
                  <a:lnTo>
                    <a:pt x="187" y="273"/>
                  </a:lnTo>
                  <a:lnTo>
                    <a:pt x="208" y="253"/>
                  </a:lnTo>
                  <a:lnTo>
                    <a:pt x="230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7" y="218"/>
                  </a:lnTo>
                  <a:lnTo>
                    <a:pt x="330" y="212"/>
                  </a:lnTo>
                  <a:lnTo>
                    <a:pt x="334" y="200"/>
                  </a:lnTo>
                  <a:lnTo>
                    <a:pt x="329" y="180"/>
                  </a:lnTo>
                  <a:lnTo>
                    <a:pt x="332" y="178"/>
                  </a:lnTo>
                  <a:lnTo>
                    <a:pt x="329" y="157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2" y="89"/>
                  </a:lnTo>
                  <a:lnTo>
                    <a:pt x="340" y="65"/>
                  </a:lnTo>
                  <a:lnTo>
                    <a:pt x="354" y="47"/>
                  </a:lnTo>
                  <a:lnTo>
                    <a:pt x="365" y="35"/>
                  </a:lnTo>
                  <a:lnTo>
                    <a:pt x="397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1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4" y="77"/>
                  </a:lnTo>
                  <a:lnTo>
                    <a:pt x="592" y="117"/>
                  </a:lnTo>
                  <a:lnTo>
                    <a:pt x="600" y="127"/>
                  </a:lnTo>
                  <a:lnTo>
                    <a:pt x="605" y="135"/>
                  </a:lnTo>
                  <a:lnTo>
                    <a:pt x="602" y="143"/>
                  </a:lnTo>
                  <a:lnTo>
                    <a:pt x="594" y="149"/>
                  </a:lnTo>
                  <a:lnTo>
                    <a:pt x="570" y="157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5"/>
                  </a:lnTo>
                  <a:lnTo>
                    <a:pt x="600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20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4" y="410"/>
                  </a:lnTo>
                  <a:lnTo>
                    <a:pt x="700" y="414"/>
                  </a:lnTo>
                  <a:lnTo>
                    <a:pt x="704" y="420"/>
                  </a:lnTo>
                  <a:lnTo>
                    <a:pt x="708" y="426"/>
                  </a:lnTo>
                  <a:lnTo>
                    <a:pt x="715" y="437"/>
                  </a:lnTo>
                  <a:lnTo>
                    <a:pt x="728" y="444"/>
                  </a:lnTo>
                  <a:lnTo>
                    <a:pt x="738" y="451"/>
                  </a:lnTo>
                  <a:lnTo>
                    <a:pt x="747" y="460"/>
                  </a:lnTo>
                  <a:lnTo>
                    <a:pt x="758" y="466"/>
                  </a:lnTo>
                  <a:lnTo>
                    <a:pt x="784" y="458"/>
                  </a:lnTo>
                  <a:lnTo>
                    <a:pt x="799" y="454"/>
                  </a:lnTo>
                  <a:lnTo>
                    <a:pt x="813" y="451"/>
                  </a:lnTo>
                  <a:lnTo>
                    <a:pt x="824" y="447"/>
                  </a:lnTo>
                  <a:lnTo>
                    <a:pt x="865" y="420"/>
                  </a:lnTo>
                  <a:lnTo>
                    <a:pt x="917" y="362"/>
                  </a:lnTo>
                  <a:lnTo>
                    <a:pt x="925" y="363"/>
                  </a:lnTo>
                  <a:lnTo>
                    <a:pt x="954" y="330"/>
                  </a:lnTo>
                  <a:lnTo>
                    <a:pt x="956" y="322"/>
                  </a:lnTo>
                  <a:lnTo>
                    <a:pt x="960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9" y="345"/>
                  </a:lnTo>
                  <a:lnTo>
                    <a:pt x="994" y="362"/>
                  </a:lnTo>
                  <a:lnTo>
                    <a:pt x="971" y="400"/>
                  </a:lnTo>
                  <a:lnTo>
                    <a:pt x="974" y="410"/>
                  </a:lnTo>
                  <a:lnTo>
                    <a:pt x="914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1" y="610"/>
                  </a:lnTo>
                  <a:lnTo>
                    <a:pt x="801" y="613"/>
                  </a:lnTo>
                  <a:lnTo>
                    <a:pt x="783" y="614"/>
                  </a:lnTo>
                  <a:close/>
                  <a:moveTo>
                    <a:pt x="113" y="642"/>
                  </a:moveTo>
                  <a:lnTo>
                    <a:pt x="106" y="651"/>
                  </a:lnTo>
                  <a:lnTo>
                    <a:pt x="109" y="656"/>
                  </a:lnTo>
                  <a:lnTo>
                    <a:pt x="112" y="662"/>
                  </a:lnTo>
                  <a:lnTo>
                    <a:pt x="113" y="656"/>
                  </a:lnTo>
                  <a:lnTo>
                    <a:pt x="116" y="650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3529080" y="3770280"/>
              <a:ext cx="34596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783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80" y="789"/>
                  </a:lnTo>
                  <a:lnTo>
                    <a:pt x="767" y="854"/>
                  </a:lnTo>
                  <a:lnTo>
                    <a:pt x="753" y="918"/>
                  </a:lnTo>
                  <a:lnTo>
                    <a:pt x="740" y="963"/>
                  </a:lnTo>
                  <a:lnTo>
                    <a:pt x="728" y="971"/>
                  </a:lnTo>
                  <a:lnTo>
                    <a:pt x="715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09" y="1043"/>
                  </a:lnTo>
                  <a:lnTo>
                    <a:pt x="709" y="1052"/>
                  </a:lnTo>
                  <a:lnTo>
                    <a:pt x="703" y="1062"/>
                  </a:lnTo>
                  <a:lnTo>
                    <a:pt x="714" y="1071"/>
                  </a:lnTo>
                  <a:lnTo>
                    <a:pt x="720" y="1079"/>
                  </a:lnTo>
                  <a:lnTo>
                    <a:pt x="724" y="1092"/>
                  </a:lnTo>
                  <a:lnTo>
                    <a:pt x="735" y="1095"/>
                  </a:lnTo>
                  <a:lnTo>
                    <a:pt x="740" y="1100"/>
                  </a:lnTo>
                  <a:lnTo>
                    <a:pt x="744" y="1107"/>
                  </a:lnTo>
                  <a:lnTo>
                    <a:pt x="749" y="1116"/>
                  </a:lnTo>
                  <a:lnTo>
                    <a:pt x="755" y="1124"/>
                  </a:lnTo>
                  <a:lnTo>
                    <a:pt x="783" y="1139"/>
                  </a:lnTo>
                  <a:lnTo>
                    <a:pt x="801" y="1147"/>
                  </a:lnTo>
                  <a:lnTo>
                    <a:pt x="808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8" y="1181"/>
                  </a:lnTo>
                  <a:lnTo>
                    <a:pt x="778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6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8" y="1143"/>
                  </a:lnTo>
                  <a:lnTo>
                    <a:pt x="613" y="1141"/>
                  </a:lnTo>
                  <a:lnTo>
                    <a:pt x="598" y="1137"/>
                  </a:lnTo>
                  <a:lnTo>
                    <a:pt x="585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5" y="1089"/>
                  </a:lnTo>
                  <a:lnTo>
                    <a:pt x="588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5" y="1043"/>
                  </a:lnTo>
                  <a:lnTo>
                    <a:pt x="605" y="1032"/>
                  </a:lnTo>
                  <a:lnTo>
                    <a:pt x="605" y="1020"/>
                  </a:lnTo>
                  <a:lnTo>
                    <a:pt x="608" y="1012"/>
                  </a:lnTo>
                  <a:lnTo>
                    <a:pt x="613" y="1005"/>
                  </a:lnTo>
                  <a:lnTo>
                    <a:pt x="613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2" y="938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8" y="859"/>
                  </a:lnTo>
                  <a:lnTo>
                    <a:pt x="616" y="829"/>
                  </a:lnTo>
                  <a:lnTo>
                    <a:pt x="628" y="798"/>
                  </a:lnTo>
                  <a:lnTo>
                    <a:pt x="608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7" y="882"/>
                  </a:lnTo>
                  <a:lnTo>
                    <a:pt x="528" y="896"/>
                  </a:lnTo>
                  <a:lnTo>
                    <a:pt x="506" y="915"/>
                  </a:lnTo>
                  <a:lnTo>
                    <a:pt x="484" y="931"/>
                  </a:lnTo>
                  <a:lnTo>
                    <a:pt x="458" y="947"/>
                  </a:lnTo>
                  <a:lnTo>
                    <a:pt x="432" y="962"/>
                  </a:lnTo>
                  <a:lnTo>
                    <a:pt x="409" y="970"/>
                  </a:lnTo>
                  <a:lnTo>
                    <a:pt x="386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3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2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6" y="1198"/>
                  </a:lnTo>
                  <a:lnTo>
                    <a:pt x="294" y="1210"/>
                  </a:lnTo>
                  <a:lnTo>
                    <a:pt x="291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50" y="1259"/>
                  </a:lnTo>
                  <a:lnTo>
                    <a:pt x="222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3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4" y="1135"/>
                  </a:lnTo>
                  <a:lnTo>
                    <a:pt x="84" y="1110"/>
                  </a:lnTo>
                  <a:lnTo>
                    <a:pt x="81" y="1067"/>
                  </a:lnTo>
                  <a:lnTo>
                    <a:pt x="95" y="1042"/>
                  </a:lnTo>
                  <a:lnTo>
                    <a:pt x="100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5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1" y="881"/>
                  </a:lnTo>
                  <a:lnTo>
                    <a:pt x="75" y="876"/>
                  </a:lnTo>
                  <a:lnTo>
                    <a:pt x="69" y="869"/>
                  </a:lnTo>
                  <a:lnTo>
                    <a:pt x="67" y="863"/>
                  </a:lnTo>
                  <a:lnTo>
                    <a:pt x="60" y="864"/>
                  </a:lnTo>
                  <a:lnTo>
                    <a:pt x="49" y="863"/>
                  </a:lnTo>
                  <a:lnTo>
                    <a:pt x="41" y="857"/>
                  </a:lnTo>
                  <a:lnTo>
                    <a:pt x="33" y="850"/>
                  </a:lnTo>
                  <a:lnTo>
                    <a:pt x="26" y="839"/>
                  </a:lnTo>
                  <a:lnTo>
                    <a:pt x="20" y="829"/>
                  </a:lnTo>
                  <a:lnTo>
                    <a:pt x="17" y="818"/>
                  </a:lnTo>
                  <a:lnTo>
                    <a:pt x="10" y="815"/>
                  </a:lnTo>
                  <a:lnTo>
                    <a:pt x="1" y="748"/>
                  </a:lnTo>
                  <a:lnTo>
                    <a:pt x="9" y="746"/>
                  </a:lnTo>
                  <a:lnTo>
                    <a:pt x="9" y="718"/>
                  </a:lnTo>
                  <a:lnTo>
                    <a:pt x="0" y="717"/>
                  </a:lnTo>
                  <a:lnTo>
                    <a:pt x="1" y="700"/>
                  </a:lnTo>
                  <a:lnTo>
                    <a:pt x="7" y="687"/>
                  </a:lnTo>
                  <a:lnTo>
                    <a:pt x="9" y="679"/>
                  </a:lnTo>
                  <a:lnTo>
                    <a:pt x="14" y="673"/>
                  </a:lnTo>
                  <a:lnTo>
                    <a:pt x="17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40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40" y="603"/>
                  </a:lnTo>
                  <a:lnTo>
                    <a:pt x="41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3"/>
                  </a:lnTo>
                  <a:lnTo>
                    <a:pt x="83" y="610"/>
                  </a:lnTo>
                  <a:lnTo>
                    <a:pt x="84" y="619"/>
                  </a:lnTo>
                  <a:lnTo>
                    <a:pt x="84" y="630"/>
                  </a:lnTo>
                  <a:lnTo>
                    <a:pt x="83" y="636"/>
                  </a:lnTo>
                  <a:lnTo>
                    <a:pt x="80" y="639"/>
                  </a:lnTo>
                  <a:lnTo>
                    <a:pt x="84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100" y="634"/>
                  </a:lnTo>
                  <a:lnTo>
                    <a:pt x="98" y="628"/>
                  </a:lnTo>
                  <a:lnTo>
                    <a:pt x="84" y="630"/>
                  </a:lnTo>
                  <a:lnTo>
                    <a:pt x="84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0" y="621"/>
                  </a:lnTo>
                  <a:lnTo>
                    <a:pt x="116" y="624"/>
                  </a:lnTo>
                  <a:lnTo>
                    <a:pt x="112" y="605"/>
                  </a:lnTo>
                  <a:lnTo>
                    <a:pt x="107" y="585"/>
                  </a:lnTo>
                  <a:lnTo>
                    <a:pt x="137" y="460"/>
                  </a:lnTo>
                  <a:lnTo>
                    <a:pt x="144" y="438"/>
                  </a:lnTo>
                  <a:lnTo>
                    <a:pt x="150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2"/>
                  </a:lnTo>
                  <a:lnTo>
                    <a:pt x="156" y="321"/>
                  </a:lnTo>
                  <a:lnTo>
                    <a:pt x="171" y="294"/>
                  </a:lnTo>
                  <a:lnTo>
                    <a:pt x="187" y="273"/>
                  </a:lnTo>
                  <a:lnTo>
                    <a:pt x="208" y="253"/>
                  </a:lnTo>
                  <a:lnTo>
                    <a:pt x="230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7" y="218"/>
                  </a:lnTo>
                  <a:lnTo>
                    <a:pt x="330" y="212"/>
                  </a:lnTo>
                  <a:lnTo>
                    <a:pt x="334" y="200"/>
                  </a:lnTo>
                  <a:lnTo>
                    <a:pt x="329" y="180"/>
                  </a:lnTo>
                  <a:lnTo>
                    <a:pt x="332" y="178"/>
                  </a:lnTo>
                  <a:lnTo>
                    <a:pt x="329" y="157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2" y="89"/>
                  </a:lnTo>
                  <a:lnTo>
                    <a:pt x="340" y="65"/>
                  </a:lnTo>
                  <a:lnTo>
                    <a:pt x="354" y="47"/>
                  </a:lnTo>
                  <a:lnTo>
                    <a:pt x="365" y="35"/>
                  </a:lnTo>
                  <a:lnTo>
                    <a:pt x="397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1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4" y="77"/>
                  </a:lnTo>
                  <a:lnTo>
                    <a:pt x="592" y="117"/>
                  </a:lnTo>
                  <a:lnTo>
                    <a:pt x="600" y="127"/>
                  </a:lnTo>
                  <a:lnTo>
                    <a:pt x="605" y="135"/>
                  </a:lnTo>
                  <a:lnTo>
                    <a:pt x="602" y="143"/>
                  </a:lnTo>
                  <a:lnTo>
                    <a:pt x="594" y="149"/>
                  </a:lnTo>
                  <a:lnTo>
                    <a:pt x="570" y="157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5"/>
                  </a:lnTo>
                  <a:lnTo>
                    <a:pt x="600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20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4" y="410"/>
                  </a:lnTo>
                  <a:lnTo>
                    <a:pt x="700" y="414"/>
                  </a:lnTo>
                  <a:lnTo>
                    <a:pt x="704" y="420"/>
                  </a:lnTo>
                  <a:lnTo>
                    <a:pt x="708" y="426"/>
                  </a:lnTo>
                  <a:lnTo>
                    <a:pt x="715" y="437"/>
                  </a:lnTo>
                  <a:lnTo>
                    <a:pt x="728" y="444"/>
                  </a:lnTo>
                  <a:lnTo>
                    <a:pt x="738" y="451"/>
                  </a:lnTo>
                  <a:lnTo>
                    <a:pt x="747" y="460"/>
                  </a:lnTo>
                  <a:lnTo>
                    <a:pt x="758" y="466"/>
                  </a:lnTo>
                  <a:lnTo>
                    <a:pt x="784" y="458"/>
                  </a:lnTo>
                  <a:lnTo>
                    <a:pt x="799" y="454"/>
                  </a:lnTo>
                  <a:lnTo>
                    <a:pt x="813" y="451"/>
                  </a:lnTo>
                  <a:lnTo>
                    <a:pt x="824" y="447"/>
                  </a:lnTo>
                  <a:lnTo>
                    <a:pt x="865" y="420"/>
                  </a:lnTo>
                  <a:lnTo>
                    <a:pt x="917" y="362"/>
                  </a:lnTo>
                  <a:lnTo>
                    <a:pt x="925" y="363"/>
                  </a:lnTo>
                  <a:lnTo>
                    <a:pt x="954" y="330"/>
                  </a:lnTo>
                  <a:lnTo>
                    <a:pt x="956" y="322"/>
                  </a:lnTo>
                  <a:lnTo>
                    <a:pt x="960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9" y="345"/>
                  </a:lnTo>
                  <a:lnTo>
                    <a:pt x="994" y="362"/>
                  </a:lnTo>
                  <a:lnTo>
                    <a:pt x="971" y="400"/>
                  </a:lnTo>
                  <a:lnTo>
                    <a:pt x="974" y="410"/>
                  </a:lnTo>
                  <a:lnTo>
                    <a:pt x="914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1" y="610"/>
                  </a:lnTo>
                  <a:lnTo>
                    <a:pt x="801" y="613"/>
                  </a:lnTo>
                  <a:lnTo>
                    <a:pt x="783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371952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8" y="112"/>
                  </a:lnTo>
                  <a:lnTo>
                    <a:pt x="500" y="116"/>
                  </a:lnTo>
                  <a:lnTo>
                    <a:pt x="496" y="121"/>
                  </a:lnTo>
                  <a:lnTo>
                    <a:pt x="591" y="124"/>
                  </a:lnTo>
                  <a:lnTo>
                    <a:pt x="584" y="127"/>
                  </a:lnTo>
                  <a:lnTo>
                    <a:pt x="485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3" y="170"/>
                  </a:lnTo>
                  <a:lnTo>
                    <a:pt x="243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8" y="155"/>
                  </a:lnTo>
                  <a:lnTo>
                    <a:pt x="165" y="152"/>
                  </a:lnTo>
                  <a:lnTo>
                    <a:pt x="162" y="150"/>
                  </a:lnTo>
                  <a:lnTo>
                    <a:pt x="159" y="150"/>
                  </a:lnTo>
                  <a:lnTo>
                    <a:pt x="134" y="148"/>
                  </a:lnTo>
                  <a:lnTo>
                    <a:pt x="142" y="162"/>
                  </a:lnTo>
                  <a:lnTo>
                    <a:pt x="143" y="168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6" y="180"/>
                  </a:lnTo>
                  <a:lnTo>
                    <a:pt x="163" y="180"/>
                  </a:lnTo>
                  <a:lnTo>
                    <a:pt x="167" y="180"/>
                  </a:lnTo>
                  <a:lnTo>
                    <a:pt x="168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3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2" y="21"/>
                  </a:lnTo>
                  <a:lnTo>
                    <a:pt x="260" y="26"/>
                  </a:lnTo>
                  <a:lnTo>
                    <a:pt x="263" y="33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60" y="50"/>
                  </a:lnTo>
                  <a:lnTo>
                    <a:pt x="249" y="50"/>
                  </a:lnTo>
                  <a:lnTo>
                    <a:pt x="251" y="46"/>
                  </a:lnTo>
                  <a:lnTo>
                    <a:pt x="254" y="40"/>
                  </a:lnTo>
                  <a:lnTo>
                    <a:pt x="254" y="33"/>
                  </a:lnTo>
                  <a:lnTo>
                    <a:pt x="249" y="28"/>
                  </a:lnTo>
                  <a:lnTo>
                    <a:pt x="243" y="24"/>
                  </a:lnTo>
                  <a:lnTo>
                    <a:pt x="125" y="24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3" y="55"/>
                  </a:lnTo>
                  <a:lnTo>
                    <a:pt x="249" y="50"/>
                  </a:lnTo>
                  <a:lnTo>
                    <a:pt x="260" y="50"/>
                  </a:lnTo>
                  <a:lnTo>
                    <a:pt x="606" y="50"/>
                  </a:lnTo>
                  <a:lnTo>
                    <a:pt x="614" y="53"/>
                  </a:lnTo>
                  <a:lnTo>
                    <a:pt x="615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5" y="20"/>
                  </a:lnTo>
                  <a:lnTo>
                    <a:pt x="612" y="49"/>
                  </a:lnTo>
                  <a:lnTo>
                    <a:pt x="612" y="53"/>
                  </a:lnTo>
                  <a:lnTo>
                    <a:pt x="614" y="53"/>
                  </a:lnTo>
                  <a:lnTo>
                    <a:pt x="606" y="50"/>
                  </a:lnTo>
                  <a:lnTo>
                    <a:pt x="640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8" y="8"/>
                  </a:lnTo>
                  <a:lnTo>
                    <a:pt x="661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31" y="59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7" y="87"/>
                  </a:lnTo>
                  <a:lnTo>
                    <a:pt x="828" y="82"/>
                  </a:lnTo>
                  <a:lnTo>
                    <a:pt x="661" y="82"/>
                  </a:lnTo>
                  <a:lnTo>
                    <a:pt x="661" y="90"/>
                  </a:lnTo>
                  <a:lnTo>
                    <a:pt x="647" y="90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09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3792600" y="4205160"/>
              <a:ext cx="228600" cy="343080"/>
            </a:xfrm>
            <a:custGeom>
              <a:avLst/>
              <a:gdLst/>
              <a:ahLst/>
              <a:rect l="l" t="t" r="r" b="b"/>
              <a:pathLst>
                <a:path w="720" h="1082">
                  <a:moveTo>
                    <a:pt x="574" y="620"/>
                  </a:moveTo>
                  <a:lnTo>
                    <a:pt x="595" y="606"/>
                  </a:lnTo>
                  <a:lnTo>
                    <a:pt x="609" y="597"/>
                  </a:lnTo>
                  <a:lnTo>
                    <a:pt x="580" y="632"/>
                  </a:lnTo>
                  <a:lnTo>
                    <a:pt x="552" y="668"/>
                  </a:lnTo>
                  <a:lnTo>
                    <a:pt x="523" y="701"/>
                  </a:lnTo>
                  <a:lnTo>
                    <a:pt x="492" y="735"/>
                  </a:lnTo>
                  <a:lnTo>
                    <a:pt x="462" y="767"/>
                  </a:lnTo>
                  <a:lnTo>
                    <a:pt x="430" y="800"/>
                  </a:lnTo>
                  <a:lnTo>
                    <a:pt x="398" y="831"/>
                  </a:lnTo>
                  <a:lnTo>
                    <a:pt x="365" y="862"/>
                  </a:lnTo>
                  <a:lnTo>
                    <a:pt x="332" y="892"/>
                  </a:lnTo>
                  <a:lnTo>
                    <a:pt x="298" y="922"/>
                  </a:lnTo>
                  <a:lnTo>
                    <a:pt x="263" y="950"/>
                  </a:lnTo>
                  <a:lnTo>
                    <a:pt x="229" y="978"/>
                  </a:lnTo>
                  <a:lnTo>
                    <a:pt x="192" y="1006"/>
                  </a:lnTo>
                  <a:lnTo>
                    <a:pt x="156" y="1032"/>
                  </a:lnTo>
                  <a:lnTo>
                    <a:pt x="120" y="1057"/>
                  </a:lnTo>
                  <a:lnTo>
                    <a:pt x="82" y="1082"/>
                  </a:lnTo>
                  <a:lnTo>
                    <a:pt x="81" y="1067"/>
                  </a:lnTo>
                  <a:lnTo>
                    <a:pt x="95" y="1041"/>
                  </a:lnTo>
                  <a:lnTo>
                    <a:pt x="100" y="1010"/>
                  </a:lnTo>
                  <a:lnTo>
                    <a:pt x="109" y="997"/>
                  </a:lnTo>
                  <a:lnTo>
                    <a:pt x="106" y="978"/>
                  </a:lnTo>
                  <a:lnTo>
                    <a:pt x="103" y="962"/>
                  </a:lnTo>
                  <a:lnTo>
                    <a:pt x="75" y="941"/>
                  </a:lnTo>
                  <a:lnTo>
                    <a:pt x="88" y="923"/>
                  </a:lnTo>
                  <a:lnTo>
                    <a:pt x="103" y="882"/>
                  </a:lnTo>
                  <a:lnTo>
                    <a:pt x="91" y="883"/>
                  </a:lnTo>
                  <a:lnTo>
                    <a:pt x="81" y="880"/>
                  </a:lnTo>
                  <a:lnTo>
                    <a:pt x="75" y="877"/>
                  </a:lnTo>
                  <a:lnTo>
                    <a:pt x="70" y="868"/>
                  </a:lnTo>
                  <a:lnTo>
                    <a:pt x="68" y="862"/>
                  </a:lnTo>
                  <a:lnTo>
                    <a:pt x="60" y="863"/>
                  </a:lnTo>
                  <a:lnTo>
                    <a:pt x="49" y="862"/>
                  </a:lnTo>
                  <a:lnTo>
                    <a:pt x="41" y="857"/>
                  </a:lnTo>
                  <a:lnTo>
                    <a:pt x="34" y="850"/>
                  </a:lnTo>
                  <a:lnTo>
                    <a:pt x="26" y="839"/>
                  </a:lnTo>
                  <a:lnTo>
                    <a:pt x="20" y="828"/>
                  </a:lnTo>
                  <a:lnTo>
                    <a:pt x="17" y="817"/>
                  </a:lnTo>
                  <a:lnTo>
                    <a:pt x="11" y="814"/>
                  </a:lnTo>
                  <a:lnTo>
                    <a:pt x="2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2" y="700"/>
                  </a:lnTo>
                  <a:lnTo>
                    <a:pt x="7" y="686"/>
                  </a:lnTo>
                  <a:lnTo>
                    <a:pt x="8" y="678"/>
                  </a:lnTo>
                  <a:lnTo>
                    <a:pt x="14" y="672"/>
                  </a:lnTo>
                  <a:lnTo>
                    <a:pt x="17" y="660"/>
                  </a:lnTo>
                  <a:lnTo>
                    <a:pt x="19" y="653"/>
                  </a:lnTo>
                  <a:lnTo>
                    <a:pt x="22" y="647"/>
                  </a:lnTo>
                  <a:lnTo>
                    <a:pt x="40" y="642"/>
                  </a:lnTo>
                  <a:lnTo>
                    <a:pt x="34" y="629"/>
                  </a:lnTo>
                  <a:lnTo>
                    <a:pt x="39" y="608"/>
                  </a:lnTo>
                  <a:lnTo>
                    <a:pt x="40" y="602"/>
                  </a:lnTo>
                  <a:lnTo>
                    <a:pt x="41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2"/>
                  </a:lnTo>
                  <a:lnTo>
                    <a:pt x="83" y="609"/>
                  </a:lnTo>
                  <a:lnTo>
                    <a:pt x="85" y="619"/>
                  </a:lnTo>
                  <a:lnTo>
                    <a:pt x="85" y="629"/>
                  </a:lnTo>
                  <a:lnTo>
                    <a:pt x="83" y="635"/>
                  </a:lnTo>
                  <a:lnTo>
                    <a:pt x="80" y="638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7" y="638"/>
                  </a:lnTo>
                  <a:lnTo>
                    <a:pt x="100" y="634"/>
                  </a:lnTo>
                  <a:lnTo>
                    <a:pt x="98" y="627"/>
                  </a:lnTo>
                  <a:lnTo>
                    <a:pt x="85" y="629"/>
                  </a:lnTo>
                  <a:lnTo>
                    <a:pt x="85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1" y="620"/>
                  </a:lnTo>
                  <a:lnTo>
                    <a:pt x="116" y="623"/>
                  </a:lnTo>
                  <a:lnTo>
                    <a:pt x="112" y="604"/>
                  </a:lnTo>
                  <a:lnTo>
                    <a:pt x="107" y="585"/>
                  </a:lnTo>
                  <a:lnTo>
                    <a:pt x="138" y="459"/>
                  </a:lnTo>
                  <a:lnTo>
                    <a:pt x="144" y="438"/>
                  </a:lnTo>
                  <a:lnTo>
                    <a:pt x="150" y="422"/>
                  </a:lnTo>
                  <a:lnTo>
                    <a:pt x="161" y="409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2" y="294"/>
                  </a:lnTo>
                  <a:lnTo>
                    <a:pt x="187" y="272"/>
                  </a:lnTo>
                  <a:lnTo>
                    <a:pt x="208" y="252"/>
                  </a:lnTo>
                  <a:lnTo>
                    <a:pt x="230" y="239"/>
                  </a:lnTo>
                  <a:lnTo>
                    <a:pt x="244" y="226"/>
                  </a:lnTo>
                  <a:lnTo>
                    <a:pt x="256" y="218"/>
                  </a:lnTo>
                  <a:lnTo>
                    <a:pt x="270" y="214"/>
                  </a:lnTo>
                  <a:lnTo>
                    <a:pt x="282" y="214"/>
                  </a:lnTo>
                  <a:lnTo>
                    <a:pt x="297" y="218"/>
                  </a:lnTo>
                  <a:lnTo>
                    <a:pt x="331" y="211"/>
                  </a:lnTo>
                  <a:lnTo>
                    <a:pt x="334" y="199"/>
                  </a:lnTo>
                  <a:lnTo>
                    <a:pt x="329" y="179"/>
                  </a:lnTo>
                  <a:lnTo>
                    <a:pt x="332" y="178"/>
                  </a:lnTo>
                  <a:lnTo>
                    <a:pt x="329" y="156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2" y="89"/>
                  </a:lnTo>
                  <a:lnTo>
                    <a:pt x="340" y="64"/>
                  </a:lnTo>
                  <a:lnTo>
                    <a:pt x="354" y="46"/>
                  </a:lnTo>
                  <a:lnTo>
                    <a:pt x="365" y="34"/>
                  </a:lnTo>
                  <a:lnTo>
                    <a:pt x="397" y="18"/>
                  </a:lnTo>
                  <a:lnTo>
                    <a:pt x="420" y="9"/>
                  </a:lnTo>
                  <a:lnTo>
                    <a:pt x="443" y="3"/>
                  </a:lnTo>
                  <a:lnTo>
                    <a:pt x="467" y="0"/>
                  </a:lnTo>
                  <a:lnTo>
                    <a:pt x="486" y="0"/>
                  </a:lnTo>
                  <a:lnTo>
                    <a:pt x="506" y="3"/>
                  </a:lnTo>
                  <a:lnTo>
                    <a:pt x="521" y="8"/>
                  </a:lnTo>
                  <a:lnTo>
                    <a:pt x="533" y="14"/>
                  </a:lnTo>
                  <a:lnTo>
                    <a:pt x="547" y="27"/>
                  </a:lnTo>
                  <a:lnTo>
                    <a:pt x="558" y="44"/>
                  </a:lnTo>
                  <a:lnTo>
                    <a:pt x="574" y="77"/>
                  </a:lnTo>
                  <a:lnTo>
                    <a:pt x="593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2"/>
                  </a:lnTo>
                  <a:lnTo>
                    <a:pt x="594" y="148"/>
                  </a:lnTo>
                  <a:lnTo>
                    <a:pt x="570" y="156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4"/>
                  </a:lnTo>
                  <a:lnTo>
                    <a:pt x="601" y="242"/>
                  </a:lnTo>
                  <a:lnTo>
                    <a:pt x="714" y="361"/>
                  </a:lnTo>
                  <a:lnTo>
                    <a:pt x="719" y="369"/>
                  </a:lnTo>
                  <a:lnTo>
                    <a:pt x="720" y="378"/>
                  </a:lnTo>
                  <a:lnTo>
                    <a:pt x="719" y="386"/>
                  </a:lnTo>
                  <a:lnTo>
                    <a:pt x="714" y="390"/>
                  </a:lnTo>
                  <a:lnTo>
                    <a:pt x="708" y="392"/>
                  </a:lnTo>
                  <a:lnTo>
                    <a:pt x="708" y="401"/>
                  </a:lnTo>
                  <a:lnTo>
                    <a:pt x="705" y="409"/>
                  </a:lnTo>
                  <a:lnTo>
                    <a:pt x="700" y="415"/>
                  </a:lnTo>
                  <a:lnTo>
                    <a:pt x="705" y="419"/>
                  </a:lnTo>
                  <a:lnTo>
                    <a:pt x="708" y="426"/>
                  </a:lnTo>
                  <a:lnTo>
                    <a:pt x="715" y="436"/>
                  </a:lnTo>
                  <a:lnTo>
                    <a:pt x="719" y="439"/>
                  </a:lnTo>
                  <a:lnTo>
                    <a:pt x="708" y="454"/>
                  </a:lnTo>
                  <a:lnTo>
                    <a:pt x="698" y="470"/>
                  </a:lnTo>
                  <a:lnTo>
                    <a:pt x="687" y="487"/>
                  </a:lnTo>
                  <a:lnTo>
                    <a:pt x="677" y="503"/>
                  </a:lnTo>
                  <a:lnTo>
                    <a:pt x="666" y="518"/>
                  </a:lnTo>
                  <a:lnTo>
                    <a:pt x="655" y="533"/>
                  </a:lnTo>
                  <a:lnTo>
                    <a:pt x="643" y="549"/>
                  </a:lnTo>
                  <a:lnTo>
                    <a:pt x="633" y="565"/>
                  </a:lnTo>
                  <a:lnTo>
                    <a:pt x="614" y="553"/>
                  </a:lnTo>
                  <a:lnTo>
                    <a:pt x="598" y="542"/>
                  </a:lnTo>
                  <a:lnTo>
                    <a:pt x="579" y="528"/>
                  </a:lnTo>
                  <a:lnTo>
                    <a:pt x="581" y="551"/>
                  </a:lnTo>
                  <a:lnTo>
                    <a:pt x="578" y="573"/>
                  </a:lnTo>
                  <a:lnTo>
                    <a:pt x="574" y="620"/>
                  </a:lnTo>
                  <a:close/>
                  <a:moveTo>
                    <a:pt x="114" y="642"/>
                  </a:moveTo>
                  <a:lnTo>
                    <a:pt x="106" y="650"/>
                  </a:lnTo>
                  <a:lnTo>
                    <a:pt x="109" y="655"/>
                  </a:lnTo>
                  <a:lnTo>
                    <a:pt x="112" y="661"/>
                  </a:lnTo>
                  <a:lnTo>
                    <a:pt x="114" y="655"/>
                  </a:lnTo>
                  <a:lnTo>
                    <a:pt x="116" y="649"/>
                  </a:lnTo>
                  <a:lnTo>
                    <a:pt x="114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3792600" y="4205160"/>
              <a:ext cx="228600" cy="343080"/>
            </a:xfrm>
            <a:custGeom>
              <a:avLst/>
              <a:gdLst/>
              <a:ahLst/>
              <a:rect l="l" t="t" r="r" b="b"/>
              <a:pathLst>
                <a:path w="720" h="1082">
                  <a:moveTo>
                    <a:pt x="82" y="1082"/>
                  </a:moveTo>
                  <a:lnTo>
                    <a:pt x="81" y="1067"/>
                  </a:lnTo>
                  <a:lnTo>
                    <a:pt x="95" y="1041"/>
                  </a:lnTo>
                  <a:lnTo>
                    <a:pt x="100" y="1010"/>
                  </a:lnTo>
                  <a:lnTo>
                    <a:pt x="109" y="997"/>
                  </a:lnTo>
                  <a:lnTo>
                    <a:pt x="106" y="978"/>
                  </a:lnTo>
                  <a:lnTo>
                    <a:pt x="103" y="962"/>
                  </a:lnTo>
                  <a:lnTo>
                    <a:pt x="75" y="941"/>
                  </a:lnTo>
                  <a:lnTo>
                    <a:pt x="88" y="923"/>
                  </a:lnTo>
                  <a:lnTo>
                    <a:pt x="103" y="882"/>
                  </a:lnTo>
                  <a:lnTo>
                    <a:pt x="91" y="883"/>
                  </a:lnTo>
                  <a:lnTo>
                    <a:pt x="81" y="880"/>
                  </a:lnTo>
                  <a:lnTo>
                    <a:pt x="75" y="877"/>
                  </a:lnTo>
                  <a:lnTo>
                    <a:pt x="70" y="868"/>
                  </a:lnTo>
                  <a:lnTo>
                    <a:pt x="68" y="862"/>
                  </a:lnTo>
                  <a:lnTo>
                    <a:pt x="60" y="863"/>
                  </a:lnTo>
                  <a:lnTo>
                    <a:pt x="49" y="862"/>
                  </a:lnTo>
                  <a:lnTo>
                    <a:pt x="41" y="857"/>
                  </a:lnTo>
                  <a:lnTo>
                    <a:pt x="34" y="850"/>
                  </a:lnTo>
                  <a:lnTo>
                    <a:pt x="26" y="839"/>
                  </a:lnTo>
                  <a:lnTo>
                    <a:pt x="20" y="828"/>
                  </a:lnTo>
                  <a:lnTo>
                    <a:pt x="17" y="817"/>
                  </a:lnTo>
                  <a:lnTo>
                    <a:pt x="11" y="814"/>
                  </a:lnTo>
                  <a:lnTo>
                    <a:pt x="2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2" y="700"/>
                  </a:lnTo>
                  <a:lnTo>
                    <a:pt x="7" y="686"/>
                  </a:lnTo>
                  <a:lnTo>
                    <a:pt x="8" y="678"/>
                  </a:lnTo>
                  <a:lnTo>
                    <a:pt x="14" y="672"/>
                  </a:lnTo>
                  <a:lnTo>
                    <a:pt x="17" y="660"/>
                  </a:lnTo>
                  <a:lnTo>
                    <a:pt x="19" y="653"/>
                  </a:lnTo>
                  <a:lnTo>
                    <a:pt x="22" y="647"/>
                  </a:lnTo>
                  <a:lnTo>
                    <a:pt x="40" y="642"/>
                  </a:lnTo>
                  <a:lnTo>
                    <a:pt x="34" y="629"/>
                  </a:lnTo>
                  <a:lnTo>
                    <a:pt x="39" y="608"/>
                  </a:lnTo>
                  <a:lnTo>
                    <a:pt x="40" y="602"/>
                  </a:lnTo>
                  <a:lnTo>
                    <a:pt x="41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2"/>
                  </a:lnTo>
                  <a:lnTo>
                    <a:pt x="83" y="609"/>
                  </a:lnTo>
                  <a:lnTo>
                    <a:pt x="85" y="619"/>
                  </a:lnTo>
                  <a:lnTo>
                    <a:pt x="85" y="629"/>
                  </a:lnTo>
                  <a:lnTo>
                    <a:pt x="83" y="635"/>
                  </a:lnTo>
                  <a:lnTo>
                    <a:pt x="80" y="638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7" y="638"/>
                  </a:lnTo>
                  <a:lnTo>
                    <a:pt x="100" y="634"/>
                  </a:lnTo>
                  <a:lnTo>
                    <a:pt x="98" y="627"/>
                  </a:lnTo>
                  <a:lnTo>
                    <a:pt x="85" y="629"/>
                  </a:lnTo>
                  <a:lnTo>
                    <a:pt x="85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1" y="620"/>
                  </a:lnTo>
                  <a:lnTo>
                    <a:pt x="116" y="623"/>
                  </a:lnTo>
                  <a:lnTo>
                    <a:pt x="112" y="604"/>
                  </a:lnTo>
                  <a:lnTo>
                    <a:pt x="107" y="585"/>
                  </a:lnTo>
                  <a:lnTo>
                    <a:pt x="138" y="459"/>
                  </a:lnTo>
                  <a:lnTo>
                    <a:pt x="144" y="438"/>
                  </a:lnTo>
                  <a:lnTo>
                    <a:pt x="150" y="422"/>
                  </a:lnTo>
                  <a:lnTo>
                    <a:pt x="161" y="409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2" y="294"/>
                  </a:lnTo>
                  <a:lnTo>
                    <a:pt x="187" y="272"/>
                  </a:lnTo>
                  <a:lnTo>
                    <a:pt x="208" y="252"/>
                  </a:lnTo>
                  <a:lnTo>
                    <a:pt x="230" y="239"/>
                  </a:lnTo>
                  <a:lnTo>
                    <a:pt x="244" y="226"/>
                  </a:lnTo>
                  <a:lnTo>
                    <a:pt x="256" y="218"/>
                  </a:lnTo>
                  <a:lnTo>
                    <a:pt x="270" y="214"/>
                  </a:lnTo>
                  <a:lnTo>
                    <a:pt x="282" y="214"/>
                  </a:lnTo>
                  <a:lnTo>
                    <a:pt x="297" y="218"/>
                  </a:lnTo>
                  <a:lnTo>
                    <a:pt x="331" y="211"/>
                  </a:lnTo>
                  <a:lnTo>
                    <a:pt x="334" y="199"/>
                  </a:lnTo>
                  <a:lnTo>
                    <a:pt x="329" y="179"/>
                  </a:lnTo>
                  <a:lnTo>
                    <a:pt x="332" y="178"/>
                  </a:lnTo>
                  <a:lnTo>
                    <a:pt x="329" y="156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2" y="89"/>
                  </a:lnTo>
                  <a:lnTo>
                    <a:pt x="340" y="64"/>
                  </a:lnTo>
                  <a:lnTo>
                    <a:pt x="354" y="46"/>
                  </a:lnTo>
                  <a:lnTo>
                    <a:pt x="365" y="34"/>
                  </a:lnTo>
                  <a:lnTo>
                    <a:pt x="397" y="18"/>
                  </a:lnTo>
                  <a:lnTo>
                    <a:pt x="420" y="9"/>
                  </a:lnTo>
                  <a:lnTo>
                    <a:pt x="443" y="3"/>
                  </a:lnTo>
                  <a:lnTo>
                    <a:pt x="467" y="0"/>
                  </a:lnTo>
                  <a:lnTo>
                    <a:pt x="486" y="0"/>
                  </a:lnTo>
                  <a:lnTo>
                    <a:pt x="506" y="3"/>
                  </a:lnTo>
                  <a:lnTo>
                    <a:pt x="521" y="8"/>
                  </a:lnTo>
                  <a:lnTo>
                    <a:pt x="533" y="14"/>
                  </a:lnTo>
                  <a:lnTo>
                    <a:pt x="547" y="27"/>
                  </a:lnTo>
                  <a:lnTo>
                    <a:pt x="558" y="44"/>
                  </a:lnTo>
                  <a:lnTo>
                    <a:pt x="574" y="77"/>
                  </a:lnTo>
                  <a:lnTo>
                    <a:pt x="593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2"/>
                  </a:lnTo>
                  <a:lnTo>
                    <a:pt x="594" y="148"/>
                  </a:lnTo>
                  <a:lnTo>
                    <a:pt x="570" y="156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4"/>
                  </a:lnTo>
                  <a:lnTo>
                    <a:pt x="601" y="242"/>
                  </a:lnTo>
                  <a:lnTo>
                    <a:pt x="714" y="361"/>
                  </a:lnTo>
                  <a:lnTo>
                    <a:pt x="719" y="369"/>
                  </a:lnTo>
                  <a:lnTo>
                    <a:pt x="720" y="378"/>
                  </a:lnTo>
                  <a:lnTo>
                    <a:pt x="719" y="386"/>
                  </a:lnTo>
                  <a:lnTo>
                    <a:pt x="714" y="390"/>
                  </a:lnTo>
                  <a:lnTo>
                    <a:pt x="708" y="392"/>
                  </a:lnTo>
                  <a:lnTo>
                    <a:pt x="708" y="401"/>
                  </a:lnTo>
                  <a:lnTo>
                    <a:pt x="705" y="409"/>
                  </a:lnTo>
                  <a:lnTo>
                    <a:pt x="700" y="415"/>
                  </a:lnTo>
                  <a:lnTo>
                    <a:pt x="705" y="419"/>
                  </a:lnTo>
                  <a:lnTo>
                    <a:pt x="708" y="426"/>
                  </a:lnTo>
                  <a:lnTo>
                    <a:pt x="715" y="436"/>
                  </a:lnTo>
                  <a:lnTo>
                    <a:pt x="719" y="4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3983040" y="4260960"/>
              <a:ext cx="79200" cy="58680"/>
            </a:xfrm>
            <a:custGeom>
              <a:avLst/>
              <a:gdLst/>
              <a:ahLst/>
              <a:rect l="l" t="t" r="r" b="b"/>
              <a:pathLst>
                <a:path w="252" h="183">
                  <a:moveTo>
                    <a:pt x="171" y="172"/>
                  </a:moveTo>
                  <a:lnTo>
                    <a:pt x="170" y="168"/>
                  </a:lnTo>
                  <a:lnTo>
                    <a:pt x="170" y="156"/>
                  </a:lnTo>
                  <a:lnTo>
                    <a:pt x="168" y="150"/>
                  </a:lnTo>
                  <a:lnTo>
                    <a:pt x="165" y="147"/>
                  </a:lnTo>
                  <a:lnTo>
                    <a:pt x="162" y="145"/>
                  </a:lnTo>
                  <a:lnTo>
                    <a:pt x="159" y="145"/>
                  </a:lnTo>
                  <a:lnTo>
                    <a:pt x="134" y="144"/>
                  </a:lnTo>
                  <a:lnTo>
                    <a:pt x="142" y="157"/>
                  </a:lnTo>
                  <a:lnTo>
                    <a:pt x="144" y="164"/>
                  </a:lnTo>
                  <a:lnTo>
                    <a:pt x="144" y="168"/>
                  </a:lnTo>
                  <a:lnTo>
                    <a:pt x="141" y="171"/>
                  </a:lnTo>
                  <a:lnTo>
                    <a:pt x="136" y="176"/>
                  </a:lnTo>
                  <a:lnTo>
                    <a:pt x="164" y="176"/>
                  </a:lnTo>
                  <a:lnTo>
                    <a:pt x="167" y="176"/>
                  </a:lnTo>
                  <a:lnTo>
                    <a:pt x="168" y="171"/>
                  </a:lnTo>
                  <a:lnTo>
                    <a:pt x="170" y="168"/>
                  </a:lnTo>
                  <a:lnTo>
                    <a:pt x="171" y="172"/>
                  </a:lnTo>
                  <a:lnTo>
                    <a:pt x="171" y="175"/>
                  </a:lnTo>
                  <a:lnTo>
                    <a:pt x="170" y="176"/>
                  </a:lnTo>
                  <a:lnTo>
                    <a:pt x="169" y="177"/>
                  </a:lnTo>
                  <a:lnTo>
                    <a:pt x="168" y="179"/>
                  </a:lnTo>
                  <a:lnTo>
                    <a:pt x="168" y="180"/>
                  </a:lnTo>
                  <a:lnTo>
                    <a:pt x="167" y="181"/>
                  </a:lnTo>
                  <a:lnTo>
                    <a:pt x="166" y="182"/>
                  </a:lnTo>
                  <a:lnTo>
                    <a:pt x="166" y="183"/>
                  </a:lnTo>
                  <a:lnTo>
                    <a:pt x="113" y="183"/>
                  </a:lnTo>
                  <a:lnTo>
                    <a:pt x="0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5" y="9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246" y="13"/>
                  </a:lnTo>
                  <a:lnTo>
                    <a:pt x="252" y="16"/>
                  </a:lnTo>
                  <a:lnTo>
                    <a:pt x="252" y="17"/>
                  </a:lnTo>
                  <a:lnTo>
                    <a:pt x="251" y="18"/>
                  </a:lnTo>
                  <a:lnTo>
                    <a:pt x="251" y="19"/>
                  </a:lnTo>
                  <a:lnTo>
                    <a:pt x="251" y="20"/>
                  </a:lnTo>
                  <a:lnTo>
                    <a:pt x="250" y="20"/>
                  </a:lnTo>
                  <a:lnTo>
                    <a:pt x="250" y="21"/>
                  </a:lnTo>
                  <a:lnTo>
                    <a:pt x="250" y="22"/>
                  </a:lnTo>
                  <a:lnTo>
                    <a:pt x="249" y="23"/>
                  </a:lnTo>
                  <a:lnTo>
                    <a:pt x="243" y="20"/>
                  </a:lnTo>
                  <a:lnTo>
                    <a:pt x="126" y="20"/>
                  </a:lnTo>
                  <a:lnTo>
                    <a:pt x="121" y="27"/>
                  </a:lnTo>
                  <a:lnTo>
                    <a:pt x="118" y="33"/>
                  </a:lnTo>
                  <a:lnTo>
                    <a:pt x="116" y="40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22" y="50"/>
                  </a:lnTo>
                  <a:lnTo>
                    <a:pt x="236" y="50"/>
                  </a:lnTo>
                  <a:lnTo>
                    <a:pt x="229" y="65"/>
                  </a:lnTo>
                  <a:lnTo>
                    <a:pt x="221" y="81"/>
                  </a:lnTo>
                  <a:lnTo>
                    <a:pt x="213" y="97"/>
                  </a:lnTo>
                  <a:lnTo>
                    <a:pt x="205" y="112"/>
                  </a:lnTo>
                  <a:lnTo>
                    <a:pt x="197" y="127"/>
                  </a:lnTo>
                  <a:lnTo>
                    <a:pt x="188" y="143"/>
                  </a:lnTo>
                  <a:lnTo>
                    <a:pt x="180" y="158"/>
                  </a:lnTo>
                  <a:lnTo>
                    <a:pt x="171" y="17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3983040" y="4260960"/>
              <a:ext cx="79200" cy="58680"/>
            </a:xfrm>
            <a:custGeom>
              <a:avLst/>
              <a:gdLst/>
              <a:ahLst/>
              <a:rect l="l" t="t" r="r" b="b"/>
              <a:pathLst>
                <a:path w="252" h="183">
                  <a:moveTo>
                    <a:pt x="166" y="183"/>
                  </a:moveTo>
                  <a:lnTo>
                    <a:pt x="113" y="183"/>
                  </a:lnTo>
                  <a:lnTo>
                    <a:pt x="0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5" y="9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246" y="13"/>
                  </a:lnTo>
                  <a:lnTo>
                    <a:pt x="252" y="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3959280" y="3773520"/>
              <a:ext cx="166680" cy="398520"/>
            </a:xfrm>
            <a:custGeom>
              <a:avLst/>
              <a:gdLst/>
              <a:ahLst/>
              <a:rect l="l" t="t" r="r" b="b"/>
              <a:pathLst>
                <a:path w="523" h="1255">
                  <a:moveTo>
                    <a:pt x="418" y="0"/>
                  </a:moveTo>
                  <a:lnTo>
                    <a:pt x="435" y="54"/>
                  </a:lnTo>
                  <a:lnTo>
                    <a:pt x="451" y="107"/>
                  </a:lnTo>
                  <a:lnTo>
                    <a:pt x="465" y="162"/>
                  </a:lnTo>
                  <a:lnTo>
                    <a:pt x="477" y="217"/>
                  </a:lnTo>
                  <a:lnTo>
                    <a:pt x="489" y="272"/>
                  </a:lnTo>
                  <a:lnTo>
                    <a:pt x="498" y="328"/>
                  </a:lnTo>
                  <a:lnTo>
                    <a:pt x="506" y="383"/>
                  </a:lnTo>
                  <a:lnTo>
                    <a:pt x="513" y="440"/>
                  </a:lnTo>
                  <a:lnTo>
                    <a:pt x="518" y="497"/>
                  </a:lnTo>
                  <a:lnTo>
                    <a:pt x="521" y="554"/>
                  </a:lnTo>
                  <a:lnTo>
                    <a:pt x="523" y="611"/>
                  </a:lnTo>
                  <a:lnTo>
                    <a:pt x="523" y="669"/>
                  </a:lnTo>
                  <a:lnTo>
                    <a:pt x="522" y="727"/>
                  </a:lnTo>
                  <a:lnTo>
                    <a:pt x="520" y="785"/>
                  </a:lnTo>
                  <a:lnTo>
                    <a:pt x="516" y="842"/>
                  </a:lnTo>
                  <a:lnTo>
                    <a:pt x="510" y="901"/>
                  </a:lnTo>
                  <a:lnTo>
                    <a:pt x="504" y="905"/>
                  </a:lnTo>
                  <a:lnTo>
                    <a:pt x="483" y="921"/>
                  </a:lnTo>
                  <a:lnTo>
                    <a:pt x="456" y="937"/>
                  </a:lnTo>
                  <a:lnTo>
                    <a:pt x="432" y="952"/>
                  </a:lnTo>
                  <a:lnTo>
                    <a:pt x="409" y="960"/>
                  </a:lnTo>
                  <a:lnTo>
                    <a:pt x="386" y="969"/>
                  </a:lnTo>
                  <a:lnTo>
                    <a:pt x="364" y="976"/>
                  </a:lnTo>
                  <a:lnTo>
                    <a:pt x="344" y="1053"/>
                  </a:lnTo>
                  <a:lnTo>
                    <a:pt x="343" y="1075"/>
                  </a:lnTo>
                  <a:lnTo>
                    <a:pt x="340" y="1097"/>
                  </a:lnTo>
                  <a:lnTo>
                    <a:pt x="337" y="1116"/>
                  </a:lnTo>
                  <a:lnTo>
                    <a:pt x="331" y="1134"/>
                  </a:lnTo>
                  <a:lnTo>
                    <a:pt x="325" y="1153"/>
                  </a:lnTo>
                  <a:lnTo>
                    <a:pt x="315" y="1172"/>
                  </a:lnTo>
                  <a:lnTo>
                    <a:pt x="305" y="1188"/>
                  </a:lnTo>
                  <a:lnTo>
                    <a:pt x="294" y="1200"/>
                  </a:lnTo>
                  <a:lnTo>
                    <a:pt x="290" y="1213"/>
                  </a:lnTo>
                  <a:lnTo>
                    <a:pt x="282" y="1228"/>
                  </a:lnTo>
                  <a:lnTo>
                    <a:pt x="268" y="1238"/>
                  </a:lnTo>
                  <a:lnTo>
                    <a:pt x="248" y="1249"/>
                  </a:lnTo>
                  <a:lnTo>
                    <a:pt x="220" y="1255"/>
                  </a:lnTo>
                  <a:lnTo>
                    <a:pt x="196" y="1255"/>
                  </a:lnTo>
                  <a:lnTo>
                    <a:pt x="171" y="1250"/>
                  </a:lnTo>
                  <a:lnTo>
                    <a:pt x="153" y="1243"/>
                  </a:lnTo>
                  <a:lnTo>
                    <a:pt x="138" y="1232"/>
                  </a:lnTo>
                  <a:lnTo>
                    <a:pt x="128" y="1222"/>
                  </a:lnTo>
                  <a:lnTo>
                    <a:pt x="116" y="1219"/>
                  </a:lnTo>
                  <a:lnTo>
                    <a:pt x="104" y="1197"/>
                  </a:lnTo>
                  <a:lnTo>
                    <a:pt x="95" y="1172"/>
                  </a:lnTo>
                  <a:lnTo>
                    <a:pt x="89" y="1151"/>
                  </a:lnTo>
                  <a:lnTo>
                    <a:pt x="84" y="1125"/>
                  </a:lnTo>
                  <a:lnTo>
                    <a:pt x="84" y="1100"/>
                  </a:lnTo>
                  <a:lnTo>
                    <a:pt x="81" y="1057"/>
                  </a:lnTo>
                  <a:lnTo>
                    <a:pt x="93" y="1032"/>
                  </a:lnTo>
                  <a:lnTo>
                    <a:pt x="98" y="1001"/>
                  </a:lnTo>
                  <a:lnTo>
                    <a:pt x="109" y="987"/>
                  </a:lnTo>
                  <a:lnTo>
                    <a:pt x="105" y="969"/>
                  </a:lnTo>
                  <a:lnTo>
                    <a:pt x="102" y="953"/>
                  </a:lnTo>
                  <a:lnTo>
                    <a:pt x="74" y="932"/>
                  </a:lnTo>
                  <a:lnTo>
                    <a:pt x="87" y="913"/>
                  </a:lnTo>
                  <a:lnTo>
                    <a:pt x="102" y="872"/>
                  </a:lnTo>
                  <a:lnTo>
                    <a:pt x="90" y="874"/>
                  </a:lnTo>
                  <a:lnTo>
                    <a:pt x="81" y="871"/>
                  </a:lnTo>
                  <a:lnTo>
                    <a:pt x="74" y="866"/>
                  </a:lnTo>
                  <a:lnTo>
                    <a:pt x="69" y="859"/>
                  </a:lnTo>
                  <a:lnTo>
                    <a:pt x="67" y="853"/>
                  </a:lnTo>
                  <a:lnTo>
                    <a:pt x="60" y="854"/>
                  </a:lnTo>
                  <a:lnTo>
                    <a:pt x="49" y="853"/>
                  </a:lnTo>
                  <a:lnTo>
                    <a:pt x="41" y="847"/>
                  </a:lnTo>
                  <a:lnTo>
                    <a:pt x="32" y="840"/>
                  </a:lnTo>
                  <a:lnTo>
                    <a:pt x="26" y="829"/>
                  </a:lnTo>
                  <a:lnTo>
                    <a:pt x="20" y="819"/>
                  </a:lnTo>
                  <a:lnTo>
                    <a:pt x="17" y="808"/>
                  </a:lnTo>
                  <a:lnTo>
                    <a:pt x="9" y="805"/>
                  </a:lnTo>
                  <a:lnTo>
                    <a:pt x="1" y="738"/>
                  </a:lnTo>
                  <a:lnTo>
                    <a:pt x="8" y="736"/>
                  </a:lnTo>
                  <a:lnTo>
                    <a:pt x="8" y="708"/>
                  </a:lnTo>
                  <a:lnTo>
                    <a:pt x="0" y="707"/>
                  </a:lnTo>
                  <a:lnTo>
                    <a:pt x="1" y="690"/>
                  </a:lnTo>
                  <a:lnTo>
                    <a:pt x="6" y="677"/>
                  </a:lnTo>
                  <a:lnTo>
                    <a:pt x="8" y="669"/>
                  </a:lnTo>
                  <a:lnTo>
                    <a:pt x="12" y="663"/>
                  </a:lnTo>
                  <a:lnTo>
                    <a:pt x="17" y="650"/>
                  </a:lnTo>
                  <a:lnTo>
                    <a:pt x="18" y="644"/>
                  </a:lnTo>
                  <a:lnTo>
                    <a:pt x="21" y="638"/>
                  </a:lnTo>
                  <a:lnTo>
                    <a:pt x="39" y="632"/>
                  </a:lnTo>
                  <a:lnTo>
                    <a:pt x="32" y="620"/>
                  </a:lnTo>
                  <a:lnTo>
                    <a:pt x="38" y="598"/>
                  </a:lnTo>
                  <a:lnTo>
                    <a:pt x="39" y="593"/>
                  </a:lnTo>
                  <a:lnTo>
                    <a:pt x="41" y="589"/>
                  </a:lnTo>
                  <a:lnTo>
                    <a:pt x="46" y="589"/>
                  </a:lnTo>
                  <a:lnTo>
                    <a:pt x="46" y="583"/>
                  </a:lnTo>
                  <a:lnTo>
                    <a:pt x="74" y="583"/>
                  </a:lnTo>
                  <a:lnTo>
                    <a:pt x="74" y="589"/>
                  </a:lnTo>
                  <a:lnTo>
                    <a:pt x="77" y="589"/>
                  </a:lnTo>
                  <a:lnTo>
                    <a:pt x="81" y="593"/>
                  </a:lnTo>
                  <a:lnTo>
                    <a:pt x="82" y="600"/>
                  </a:lnTo>
                  <a:lnTo>
                    <a:pt x="84" y="609"/>
                  </a:lnTo>
                  <a:lnTo>
                    <a:pt x="84" y="620"/>
                  </a:lnTo>
                  <a:lnTo>
                    <a:pt x="82" y="626"/>
                  </a:lnTo>
                  <a:lnTo>
                    <a:pt x="78" y="629"/>
                  </a:lnTo>
                  <a:lnTo>
                    <a:pt x="84" y="632"/>
                  </a:lnTo>
                  <a:lnTo>
                    <a:pt x="90" y="632"/>
                  </a:lnTo>
                  <a:lnTo>
                    <a:pt x="95" y="629"/>
                  </a:lnTo>
                  <a:lnTo>
                    <a:pt x="98" y="624"/>
                  </a:lnTo>
                  <a:lnTo>
                    <a:pt x="96" y="618"/>
                  </a:lnTo>
                  <a:lnTo>
                    <a:pt x="84" y="620"/>
                  </a:lnTo>
                  <a:lnTo>
                    <a:pt x="84" y="609"/>
                  </a:lnTo>
                  <a:lnTo>
                    <a:pt x="100" y="607"/>
                  </a:lnTo>
                  <a:lnTo>
                    <a:pt x="105" y="609"/>
                  </a:lnTo>
                  <a:lnTo>
                    <a:pt x="110" y="611"/>
                  </a:lnTo>
                  <a:lnTo>
                    <a:pt x="114" y="614"/>
                  </a:lnTo>
                  <a:lnTo>
                    <a:pt x="111" y="595"/>
                  </a:lnTo>
                  <a:lnTo>
                    <a:pt x="107" y="575"/>
                  </a:lnTo>
                  <a:lnTo>
                    <a:pt x="136" y="450"/>
                  </a:lnTo>
                  <a:lnTo>
                    <a:pt x="142" y="428"/>
                  </a:lnTo>
                  <a:lnTo>
                    <a:pt x="150" y="413"/>
                  </a:lnTo>
                  <a:lnTo>
                    <a:pt x="159" y="400"/>
                  </a:lnTo>
                  <a:lnTo>
                    <a:pt x="151" y="370"/>
                  </a:lnTo>
                  <a:lnTo>
                    <a:pt x="148" y="350"/>
                  </a:lnTo>
                  <a:lnTo>
                    <a:pt x="150" y="332"/>
                  </a:lnTo>
                  <a:lnTo>
                    <a:pt x="156" y="311"/>
                  </a:lnTo>
                  <a:lnTo>
                    <a:pt x="171" y="284"/>
                  </a:lnTo>
                  <a:lnTo>
                    <a:pt x="185" y="263"/>
                  </a:lnTo>
                  <a:lnTo>
                    <a:pt x="208" y="243"/>
                  </a:lnTo>
                  <a:lnTo>
                    <a:pt x="228" y="229"/>
                  </a:lnTo>
                  <a:lnTo>
                    <a:pt x="242" y="217"/>
                  </a:lnTo>
                  <a:lnTo>
                    <a:pt x="255" y="208"/>
                  </a:lnTo>
                  <a:lnTo>
                    <a:pt x="268" y="205"/>
                  </a:lnTo>
                  <a:lnTo>
                    <a:pt x="282" y="205"/>
                  </a:lnTo>
                  <a:lnTo>
                    <a:pt x="297" y="208"/>
                  </a:lnTo>
                  <a:lnTo>
                    <a:pt x="329" y="202"/>
                  </a:lnTo>
                  <a:lnTo>
                    <a:pt x="332" y="190"/>
                  </a:lnTo>
                  <a:lnTo>
                    <a:pt x="328" y="170"/>
                  </a:lnTo>
                  <a:lnTo>
                    <a:pt x="331" y="168"/>
                  </a:lnTo>
                  <a:lnTo>
                    <a:pt x="328" y="147"/>
                  </a:lnTo>
                  <a:lnTo>
                    <a:pt x="326" y="125"/>
                  </a:lnTo>
                  <a:lnTo>
                    <a:pt x="326" y="102"/>
                  </a:lnTo>
                  <a:lnTo>
                    <a:pt x="331" y="79"/>
                  </a:lnTo>
                  <a:lnTo>
                    <a:pt x="340" y="55"/>
                  </a:lnTo>
                  <a:lnTo>
                    <a:pt x="352" y="37"/>
                  </a:lnTo>
                  <a:lnTo>
                    <a:pt x="364" y="25"/>
                  </a:lnTo>
                  <a:lnTo>
                    <a:pt x="395" y="9"/>
                  </a:lnTo>
                  <a:lnTo>
                    <a:pt x="418" y="0"/>
                  </a:lnTo>
                  <a:lnTo>
                    <a:pt x="418" y="0"/>
                  </a:lnTo>
                  <a:close/>
                  <a:moveTo>
                    <a:pt x="113" y="632"/>
                  </a:moveTo>
                  <a:lnTo>
                    <a:pt x="105" y="641"/>
                  </a:lnTo>
                  <a:lnTo>
                    <a:pt x="109" y="646"/>
                  </a:lnTo>
                  <a:lnTo>
                    <a:pt x="111" y="652"/>
                  </a:lnTo>
                  <a:lnTo>
                    <a:pt x="113" y="646"/>
                  </a:lnTo>
                  <a:lnTo>
                    <a:pt x="115" y="640"/>
                  </a:lnTo>
                  <a:lnTo>
                    <a:pt x="113" y="6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3959280" y="3773520"/>
              <a:ext cx="162000" cy="398520"/>
            </a:xfrm>
            <a:custGeom>
              <a:avLst/>
              <a:gdLst/>
              <a:ahLst/>
              <a:rect l="l" t="t" r="r" b="b"/>
              <a:pathLst>
                <a:path w="510" h="1255">
                  <a:moveTo>
                    <a:pt x="510" y="901"/>
                  </a:moveTo>
                  <a:lnTo>
                    <a:pt x="504" y="905"/>
                  </a:lnTo>
                  <a:lnTo>
                    <a:pt x="483" y="921"/>
                  </a:lnTo>
                  <a:lnTo>
                    <a:pt x="456" y="937"/>
                  </a:lnTo>
                  <a:lnTo>
                    <a:pt x="432" y="952"/>
                  </a:lnTo>
                  <a:lnTo>
                    <a:pt x="409" y="960"/>
                  </a:lnTo>
                  <a:lnTo>
                    <a:pt x="386" y="969"/>
                  </a:lnTo>
                  <a:lnTo>
                    <a:pt x="364" y="976"/>
                  </a:lnTo>
                  <a:lnTo>
                    <a:pt x="344" y="1053"/>
                  </a:lnTo>
                  <a:lnTo>
                    <a:pt x="343" y="1075"/>
                  </a:lnTo>
                  <a:lnTo>
                    <a:pt x="340" y="1097"/>
                  </a:lnTo>
                  <a:lnTo>
                    <a:pt x="337" y="1116"/>
                  </a:lnTo>
                  <a:lnTo>
                    <a:pt x="331" y="1134"/>
                  </a:lnTo>
                  <a:lnTo>
                    <a:pt x="325" y="1153"/>
                  </a:lnTo>
                  <a:lnTo>
                    <a:pt x="315" y="1172"/>
                  </a:lnTo>
                  <a:lnTo>
                    <a:pt x="305" y="1188"/>
                  </a:lnTo>
                  <a:lnTo>
                    <a:pt x="294" y="1200"/>
                  </a:lnTo>
                  <a:lnTo>
                    <a:pt x="290" y="1213"/>
                  </a:lnTo>
                  <a:lnTo>
                    <a:pt x="282" y="1228"/>
                  </a:lnTo>
                  <a:lnTo>
                    <a:pt x="268" y="1238"/>
                  </a:lnTo>
                  <a:lnTo>
                    <a:pt x="248" y="1249"/>
                  </a:lnTo>
                  <a:lnTo>
                    <a:pt x="220" y="1255"/>
                  </a:lnTo>
                  <a:lnTo>
                    <a:pt x="196" y="1255"/>
                  </a:lnTo>
                  <a:lnTo>
                    <a:pt x="171" y="1250"/>
                  </a:lnTo>
                  <a:lnTo>
                    <a:pt x="153" y="1243"/>
                  </a:lnTo>
                  <a:lnTo>
                    <a:pt x="138" y="1232"/>
                  </a:lnTo>
                  <a:lnTo>
                    <a:pt x="128" y="1222"/>
                  </a:lnTo>
                  <a:lnTo>
                    <a:pt x="116" y="1219"/>
                  </a:lnTo>
                  <a:lnTo>
                    <a:pt x="104" y="1197"/>
                  </a:lnTo>
                  <a:lnTo>
                    <a:pt x="95" y="1172"/>
                  </a:lnTo>
                  <a:lnTo>
                    <a:pt x="89" y="1151"/>
                  </a:lnTo>
                  <a:lnTo>
                    <a:pt x="84" y="1125"/>
                  </a:lnTo>
                  <a:lnTo>
                    <a:pt x="84" y="1100"/>
                  </a:lnTo>
                  <a:lnTo>
                    <a:pt x="81" y="1057"/>
                  </a:lnTo>
                  <a:lnTo>
                    <a:pt x="93" y="1032"/>
                  </a:lnTo>
                  <a:lnTo>
                    <a:pt x="98" y="1001"/>
                  </a:lnTo>
                  <a:lnTo>
                    <a:pt x="109" y="987"/>
                  </a:lnTo>
                  <a:lnTo>
                    <a:pt x="105" y="969"/>
                  </a:lnTo>
                  <a:lnTo>
                    <a:pt x="102" y="953"/>
                  </a:lnTo>
                  <a:lnTo>
                    <a:pt x="74" y="932"/>
                  </a:lnTo>
                  <a:lnTo>
                    <a:pt x="87" y="913"/>
                  </a:lnTo>
                  <a:lnTo>
                    <a:pt x="102" y="872"/>
                  </a:lnTo>
                  <a:lnTo>
                    <a:pt x="90" y="874"/>
                  </a:lnTo>
                  <a:lnTo>
                    <a:pt x="81" y="871"/>
                  </a:lnTo>
                  <a:lnTo>
                    <a:pt x="74" y="866"/>
                  </a:lnTo>
                  <a:lnTo>
                    <a:pt x="69" y="859"/>
                  </a:lnTo>
                  <a:lnTo>
                    <a:pt x="67" y="853"/>
                  </a:lnTo>
                  <a:lnTo>
                    <a:pt x="60" y="854"/>
                  </a:lnTo>
                  <a:lnTo>
                    <a:pt x="49" y="853"/>
                  </a:lnTo>
                  <a:lnTo>
                    <a:pt x="41" y="847"/>
                  </a:lnTo>
                  <a:lnTo>
                    <a:pt x="32" y="840"/>
                  </a:lnTo>
                  <a:lnTo>
                    <a:pt x="26" y="829"/>
                  </a:lnTo>
                  <a:lnTo>
                    <a:pt x="20" y="819"/>
                  </a:lnTo>
                  <a:lnTo>
                    <a:pt x="17" y="808"/>
                  </a:lnTo>
                  <a:lnTo>
                    <a:pt x="9" y="805"/>
                  </a:lnTo>
                  <a:lnTo>
                    <a:pt x="1" y="738"/>
                  </a:lnTo>
                  <a:lnTo>
                    <a:pt x="8" y="736"/>
                  </a:lnTo>
                  <a:lnTo>
                    <a:pt x="8" y="708"/>
                  </a:lnTo>
                  <a:lnTo>
                    <a:pt x="0" y="707"/>
                  </a:lnTo>
                  <a:lnTo>
                    <a:pt x="1" y="690"/>
                  </a:lnTo>
                  <a:lnTo>
                    <a:pt x="6" y="677"/>
                  </a:lnTo>
                  <a:lnTo>
                    <a:pt x="8" y="669"/>
                  </a:lnTo>
                  <a:lnTo>
                    <a:pt x="12" y="663"/>
                  </a:lnTo>
                  <a:lnTo>
                    <a:pt x="17" y="650"/>
                  </a:lnTo>
                  <a:lnTo>
                    <a:pt x="18" y="644"/>
                  </a:lnTo>
                  <a:lnTo>
                    <a:pt x="21" y="638"/>
                  </a:lnTo>
                  <a:lnTo>
                    <a:pt x="39" y="632"/>
                  </a:lnTo>
                  <a:lnTo>
                    <a:pt x="32" y="620"/>
                  </a:lnTo>
                  <a:lnTo>
                    <a:pt x="38" y="598"/>
                  </a:lnTo>
                  <a:lnTo>
                    <a:pt x="39" y="593"/>
                  </a:lnTo>
                  <a:lnTo>
                    <a:pt x="41" y="589"/>
                  </a:lnTo>
                  <a:lnTo>
                    <a:pt x="46" y="589"/>
                  </a:lnTo>
                  <a:lnTo>
                    <a:pt x="46" y="583"/>
                  </a:lnTo>
                  <a:lnTo>
                    <a:pt x="74" y="583"/>
                  </a:lnTo>
                  <a:lnTo>
                    <a:pt x="74" y="589"/>
                  </a:lnTo>
                  <a:lnTo>
                    <a:pt x="77" y="589"/>
                  </a:lnTo>
                  <a:lnTo>
                    <a:pt x="81" y="593"/>
                  </a:lnTo>
                  <a:lnTo>
                    <a:pt x="82" y="600"/>
                  </a:lnTo>
                  <a:lnTo>
                    <a:pt x="84" y="609"/>
                  </a:lnTo>
                  <a:lnTo>
                    <a:pt x="84" y="620"/>
                  </a:lnTo>
                  <a:lnTo>
                    <a:pt x="82" y="626"/>
                  </a:lnTo>
                  <a:lnTo>
                    <a:pt x="78" y="629"/>
                  </a:lnTo>
                  <a:lnTo>
                    <a:pt x="84" y="632"/>
                  </a:lnTo>
                  <a:lnTo>
                    <a:pt x="90" y="632"/>
                  </a:lnTo>
                  <a:lnTo>
                    <a:pt x="95" y="629"/>
                  </a:lnTo>
                  <a:lnTo>
                    <a:pt x="98" y="624"/>
                  </a:lnTo>
                  <a:lnTo>
                    <a:pt x="96" y="618"/>
                  </a:lnTo>
                  <a:lnTo>
                    <a:pt x="84" y="620"/>
                  </a:lnTo>
                  <a:lnTo>
                    <a:pt x="84" y="609"/>
                  </a:lnTo>
                  <a:lnTo>
                    <a:pt x="100" y="607"/>
                  </a:lnTo>
                  <a:lnTo>
                    <a:pt x="105" y="609"/>
                  </a:lnTo>
                  <a:lnTo>
                    <a:pt x="110" y="611"/>
                  </a:lnTo>
                  <a:lnTo>
                    <a:pt x="114" y="614"/>
                  </a:lnTo>
                  <a:lnTo>
                    <a:pt x="111" y="595"/>
                  </a:lnTo>
                  <a:lnTo>
                    <a:pt x="107" y="575"/>
                  </a:lnTo>
                  <a:lnTo>
                    <a:pt x="136" y="450"/>
                  </a:lnTo>
                  <a:lnTo>
                    <a:pt x="142" y="428"/>
                  </a:lnTo>
                  <a:lnTo>
                    <a:pt x="150" y="413"/>
                  </a:lnTo>
                  <a:lnTo>
                    <a:pt x="159" y="400"/>
                  </a:lnTo>
                  <a:lnTo>
                    <a:pt x="151" y="370"/>
                  </a:lnTo>
                  <a:lnTo>
                    <a:pt x="148" y="350"/>
                  </a:lnTo>
                  <a:lnTo>
                    <a:pt x="150" y="332"/>
                  </a:lnTo>
                  <a:lnTo>
                    <a:pt x="156" y="311"/>
                  </a:lnTo>
                  <a:lnTo>
                    <a:pt x="171" y="284"/>
                  </a:lnTo>
                  <a:lnTo>
                    <a:pt x="185" y="263"/>
                  </a:lnTo>
                  <a:lnTo>
                    <a:pt x="208" y="243"/>
                  </a:lnTo>
                  <a:lnTo>
                    <a:pt x="228" y="229"/>
                  </a:lnTo>
                  <a:lnTo>
                    <a:pt x="242" y="217"/>
                  </a:lnTo>
                  <a:lnTo>
                    <a:pt x="255" y="208"/>
                  </a:lnTo>
                  <a:lnTo>
                    <a:pt x="268" y="205"/>
                  </a:lnTo>
                  <a:lnTo>
                    <a:pt x="282" y="205"/>
                  </a:lnTo>
                  <a:lnTo>
                    <a:pt x="297" y="208"/>
                  </a:lnTo>
                  <a:lnTo>
                    <a:pt x="329" y="202"/>
                  </a:lnTo>
                  <a:lnTo>
                    <a:pt x="332" y="190"/>
                  </a:lnTo>
                  <a:lnTo>
                    <a:pt x="328" y="170"/>
                  </a:lnTo>
                  <a:lnTo>
                    <a:pt x="331" y="168"/>
                  </a:lnTo>
                  <a:lnTo>
                    <a:pt x="328" y="147"/>
                  </a:lnTo>
                  <a:lnTo>
                    <a:pt x="326" y="125"/>
                  </a:lnTo>
                  <a:lnTo>
                    <a:pt x="326" y="102"/>
                  </a:lnTo>
                  <a:lnTo>
                    <a:pt x="331" y="79"/>
                  </a:lnTo>
                  <a:lnTo>
                    <a:pt x="340" y="55"/>
                  </a:lnTo>
                  <a:lnTo>
                    <a:pt x="352" y="37"/>
                  </a:lnTo>
                  <a:lnTo>
                    <a:pt x="364" y="25"/>
                  </a:lnTo>
                  <a:lnTo>
                    <a:pt x="395" y="9"/>
                  </a:lnTo>
                  <a:lnTo>
                    <a:pt x="418" y="0"/>
                  </a:lnTo>
                  <a:lnTo>
                    <a:pt x="4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2774880" y="3306600"/>
              <a:ext cx="1351080" cy="1351080"/>
            </a:xfrm>
            <a:custGeom>
              <a:avLst/>
              <a:gdLst/>
              <a:ahLst/>
              <a:rect l="l" t="t" r="r" b="b"/>
              <a:pathLst>
                <a:path w="4251" h="4254">
                  <a:moveTo>
                    <a:pt x="36" y="1740"/>
                  </a:moveTo>
                  <a:lnTo>
                    <a:pt x="58" y="1633"/>
                  </a:lnTo>
                  <a:lnTo>
                    <a:pt x="87" y="1529"/>
                  </a:lnTo>
                  <a:lnTo>
                    <a:pt x="119" y="1426"/>
                  </a:lnTo>
                  <a:lnTo>
                    <a:pt x="157" y="1327"/>
                  </a:lnTo>
                  <a:lnTo>
                    <a:pt x="199" y="1231"/>
                  </a:lnTo>
                  <a:lnTo>
                    <a:pt x="245" y="1136"/>
                  </a:lnTo>
                  <a:lnTo>
                    <a:pt x="296" y="1046"/>
                  </a:lnTo>
                  <a:lnTo>
                    <a:pt x="351" y="958"/>
                  </a:lnTo>
                  <a:lnTo>
                    <a:pt x="410" y="873"/>
                  </a:lnTo>
                  <a:lnTo>
                    <a:pt x="473" y="791"/>
                  </a:lnTo>
                  <a:lnTo>
                    <a:pt x="540" y="713"/>
                  </a:lnTo>
                  <a:lnTo>
                    <a:pt x="610" y="639"/>
                  </a:lnTo>
                  <a:lnTo>
                    <a:pt x="684" y="567"/>
                  </a:lnTo>
                  <a:lnTo>
                    <a:pt x="760" y="500"/>
                  </a:lnTo>
                  <a:lnTo>
                    <a:pt x="840" y="436"/>
                  </a:lnTo>
                  <a:lnTo>
                    <a:pt x="923" y="376"/>
                  </a:lnTo>
                  <a:lnTo>
                    <a:pt x="1009" y="320"/>
                  </a:lnTo>
                  <a:lnTo>
                    <a:pt x="1097" y="268"/>
                  </a:lnTo>
                  <a:lnTo>
                    <a:pt x="1187" y="221"/>
                  </a:lnTo>
                  <a:lnTo>
                    <a:pt x="1280" y="178"/>
                  </a:lnTo>
                  <a:lnTo>
                    <a:pt x="1375" y="139"/>
                  </a:lnTo>
                  <a:lnTo>
                    <a:pt x="1472" y="104"/>
                  </a:lnTo>
                  <a:lnTo>
                    <a:pt x="1570" y="75"/>
                  </a:lnTo>
                  <a:lnTo>
                    <a:pt x="1671" y="51"/>
                  </a:lnTo>
                  <a:lnTo>
                    <a:pt x="1773" y="31"/>
                  </a:lnTo>
                  <a:lnTo>
                    <a:pt x="1876" y="15"/>
                  </a:lnTo>
                  <a:lnTo>
                    <a:pt x="1980" y="5"/>
                  </a:lnTo>
                  <a:lnTo>
                    <a:pt x="2086" y="0"/>
                  </a:lnTo>
                  <a:lnTo>
                    <a:pt x="2192" y="1"/>
                  </a:lnTo>
                  <a:lnTo>
                    <a:pt x="2299" y="8"/>
                  </a:lnTo>
                  <a:lnTo>
                    <a:pt x="2406" y="19"/>
                  </a:lnTo>
                  <a:lnTo>
                    <a:pt x="2514" y="36"/>
                  </a:lnTo>
                  <a:lnTo>
                    <a:pt x="2621" y="59"/>
                  </a:lnTo>
                  <a:lnTo>
                    <a:pt x="2725" y="86"/>
                  </a:lnTo>
                  <a:lnTo>
                    <a:pt x="2826" y="119"/>
                  </a:lnTo>
                  <a:lnTo>
                    <a:pt x="2926" y="157"/>
                  </a:lnTo>
                  <a:lnTo>
                    <a:pt x="3023" y="199"/>
                  </a:lnTo>
                  <a:lnTo>
                    <a:pt x="3116" y="246"/>
                  </a:lnTo>
                  <a:lnTo>
                    <a:pt x="3207" y="296"/>
                  </a:lnTo>
                  <a:lnTo>
                    <a:pt x="3295" y="352"/>
                  </a:lnTo>
                  <a:lnTo>
                    <a:pt x="3379" y="411"/>
                  </a:lnTo>
                  <a:lnTo>
                    <a:pt x="3461" y="474"/>
                  </a:lnTo>
                  <a:lnTo>
                    <a:pt x="3540" y="540"/>
                  </a:lnTo>
                  <a:lnTo>
                    <a:pt x="3614" y="610"/>
                  </a:lnTo>
                  <a:lnTo>
                    <a:pt x="3686" y="684"/>
                  </a:lnTo>
                  <a:lnTo>
                    <a:pt x="3753" y="761"/>
                  </a:lnTo>
                  <a:lnTo>
                    <a:pt x="3817" y="841"/>
                  </a:lnTo>
                  <a:lnTo>
                    <a:pt x="3877" y="923"/>
                  </a:lnTo>
                  <a:lnTo>
                    <a:pt x="3932" y="1009"/>
                  </a:lnTo>
                  <a:lnTo>
                    <a:pt x="3984" y="1097"/>
                  </a:lnTo>
                  <a:lnTo>
                    <a:pt x="4031" y="1188"/>
                  </a:lnTo>
                  <a:lnTo>
                    <a:pt x="4075" y="1281"/>
                  </a:lnTo>
                  <a:lnTo>
                    <a:pt x="4114" y="1376"/>
                  </a:lnTo>
                  <a:lnTo>
                    <a:pt x="4147" y="1472"/>
                  </a:lnTo>
                  <a:lnTo>
                    <a:pt x="4177" y="1571"/>
                  </a:lnTo>
                  <a:lnTo>
                    <a:pt x="4202" y="1672"/>
                  </a:lnTo>
                  <a:lnTo>
                    <a:pt x="4222" y="1774"/>
                  </a:lnTo>
                  <a:lnTo>
                    <a:pt x="4237" y="1877"/>
                  </a:lnTo>
                  <a:lnTo>
                    <a:pt x="4247" y="1982"/>
                  </a:lnTo>
                  <a:lnTo>
                    <a:pt x="4251" y="2087"/>
                  </a:lnTo>
                  <a:lnTo>
                    <a:pt x="4250" y="2193"/>
                  </a:lnTo>
                  <a:lnTo>
                    <a:pt x="4245" y="2300"/>
                  </a:lnTo>
                  <a:lnTo>
                    <a:pt x="4234" y="2407"/>
                  </a:lnTo>
                  <a:lnTo>
                    <a:pt x="4216" y="2515"/>
                  </a:lnTo>
                  <a:lnTo>
                    <a:pt x="4194" y="2622"/>
                  </a:lnTo>
                  <a:lnTo>
                    <a:pt x="4165" y="2726"/>
                  </a:lnTo>
                  <a:lnTo>
                    <a:pt x="4133" y="2829"/>
                  </a:lnTo>
                  <a:lnTo>
                    <a:pt x="4096" y="2928"/>
                  </a:lnTo>
                  <a:lnTo>
                    <a:pt x="4053" y="3024"/>
                  </a:lnTo>
                  <a:lnTo>
                    <a:pt x="4007" y="3119"/>
                  </a:lnTo>
                  <a:lnTo>
                    <a:pt x="3955" y="3209"/>
                  </a:lnTo>
                  <a:lnTo>
                    <a:pt x="3901" y="3297"/>
                  </a:lnTo>
                  <a:lnTo>
                    <a:pt x="3842" y="3382"/>
                  </a:lnTo>
                  <a:lnTo>
                    <a:pt x="3779" y="3464"/>
                  </a:lnTo>
                  <a:lnTo>
                    <a:pt x="3712" y="3542"/>
                  </a:lnTo>
                  <a:lnTo>
                    <a:pt x="3642" y="3616"/>
                  </a:lnTo>
                  <a:lnTo>
                    <a:pt x="3568" y="3688"/>
                  </a:lnTo>
                  <a:lnTo>
                    <a:pt x="3492" y="3755"/>
                  </a:lnTo>
                  <a:lnTo>
                    <a:pt x="3412" y="3819"/>
                  </a:lnTo>
                  <a:lnTo>
                    <a:pt x="3329" y="3879"/>
                  </a:lnTo>
                  <a:lnTo>
                    <a:pt x="3244" y="3935"/>
                  </a:lnTo>
                  <a:lnTo>
                    <a:pt x="3156" y="3987"/>
                  </a:lnTo>
                  <a:lnTo>
                    <a:pt x="3065" y="4034"/>
                  </a:lnTo>
                  <a:lnTo>
                    <a:pt x="2972" y="4077"/>
                  </a:lnTo>
                  <a:lnTo>
                    <a:pt x="2877" y="4116"/>
                  </a:lnTo>
                  <a:lnTo>
                    <a:pt x="2780" y="4151"/>
                  </a:lnTo>
                  <a:lnTo>
                    <a:pt x="2682" y="4180"/>
                  </a:lnTo>
                  <a:lnTo>
                    <a:pt x="2582" y="4204"/>
                  </a:lnTo>
                  <a:lnTo>
                    <a:pt x="2480" y="4224"/>
                  </a:lnTo>
                  <a:lnTo>
                    <a:pt x="2376" y="4240"/>
                  </a:lnTo>
                  <a:lnTo>
                    <a:pt x="2272" y="4250"/>
                  </a:lnTo>
                  <a:lnTo>
                    <a:pt x="2167" y="4254"/>
                  </a:lnTo>
                  <a:lnTo>
                    <a:pt x="2060" y="4254"/>
                  </a:lnTo>
                  <a:lnTo>
                    <a:pt x="1953" y="4247"/>
                  </a:lnTo>
                  <a:lnTo>
                    <a:pt x="1846" y="4236"/>
                  </a:lnTo>
                  <a:lnTo>
                    <a:pt x="1738" y="4219"/>
                  </a:lnTo>
                  <a:lnTo>
                    <a:pt x="1632" y="4196"/>
                  </a:lnTo>
                  <a:lnTo>
                    <a:pt x="1527" y="4169"/>
                  </a:lnTo>
                  <a:lnTo>
                    <a:pt x="1425" y="4136"/>
                  </a:lnTo>
                  <a:lnTo>
                    <a:pt x="1326" y="4098"/>
                  </a:lnTo>
                  <a:lnTo>
                    <a:pt x="1229" y="4056"/>
                  </a:lnTo>
                  <a:lnTo>
                    <a:pt x="1136" y="4009"/>
                  </a:lnTo>
                  <a:lnTo>
                    <a:pt x="1045" y="3959"/>
                  </a:lnTo>
                  <a:lnTo>
                    <a:pt x="956" y="3903"/>
                  </a:lnTo>
                  <a:lnTo>
                    <a:pt x="872" y="3844"/>
                  </a:lnTo>
                  <a:lnTo>
                    <a:pt x="791" y="3781"/>
                  </a:lnTo>
                  <a:lnTo>
                    <a:pt x="712" y="3715"/>
                  </a:lnTo>
                  <a:lnTo>
                    <a:pt x="637" y="3645"/>
                  </a:lnTo>
                  <a:lnTo>
                    <a:pt x="566" y="3571"/>
                  </a:lnTo>
                  <a:lnTo>
                    <a:pt x="499" y="3494"/>
                  </a:lnTo>
                  <a:lnTo>
                    <a:pt x="435" y="3414"/>
                  </a:lnTo>
                  <a:lnTo>
                    <a:pt x="376" y="3331"/>
                  </a:lnTo>
                  <a:lnTo>
                    <a:pt x="319" y="3246"/>
                  </a:lnTo>
                  <a:lnTo>
                    <a:pt x="268" y="3158"/>
                  </a:lnTo>
                  <a:lnTo>
                    <a:pt x="221" y="3067"/>
                  </a:lnTo>
                  <a:lnTo>
                    <a:pt x="178" y="2974"/>
                  </a:lnTo>
                  <a:lnTo>
                    <a:pt x="139" y="2879"/>
                  </a:lnTo>
                  <a:lnTo>
                    <a:pt x="104" y="2783"/>
                  </a:lnTo>
                  <a:lnTo>
                    <a:pt x="75" y="2684"/>
                  </a:lnTo>
                  <a:lnTo>
                    <a:pt x="50" y="2583"/>
                  </a:lnTo>
                  <a:lnTo>
                    <a:pt x="30" y="2481"/>
                  </a:lnTo>
                  <a:lnTo>
                    <a:pt x="15" y="2378"/>
                  </a:lnTo>
                  <a:lnTo>
                    <a:pt x="6" y="2273"/>
                  </a:lnTo>
                  <a:lnTo>
                    <a:pt x="0" y="2168"/>
                  </a:lnTo>
                  <a:lnTo>
                    <a:pt x="2" y="2062"/>
                  </a:lnTo>
                  <a:lnTo>
                    <a:pt x="7" y="1955"/>
                  </a:lnTo>
                  <a:lnTo>
                    <a:pt x="18" y="1848"/>
                  </a:lnTo>
                  <a:lnTo>
                    <a:pt x="36" y="174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2" name=""/>
          <p:cNvSpPr/>
          <p:nvPr/>
        </p:nvSpPr>
        <p:spPr>
          <a:xfrm>
            <a:off x="3416040" y="585720"/>
            <a:ext cx="2520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TESTING 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2417040" y="1098720"/>
            <a:ext cx="4518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MOTHER &amp; NEWBOR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>
            <a:off x="2519280" y="5821200"/>
            <a:ext cx="484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f1a17"/>
                </a:solidFill>
                <a:latin typeface="Geometr231 BT"/>
              </a:rPr>
              <a:t>BABY'S TEST </a:t>
            </a:r>
            <a:r>
              <a:rPr b="1" lang="en-GB" sz="1400" spc="-1" strike="noStrike" u="sng">
                <a:solidFill>
                  <a:srgbClr val="1f1a17"/>
                </a:solidFill>
                <a:uFillTx/>
                <a:latin typeface="Geometr231 BT"/>
              </a:rPr>
              <a:t>MAY NOT</a:t>
            </a:r>
            <a:r>
              <a:rPr b="1" lang="en-GB" sz="1400" spc="-1" strike="noStrike">
                <a:solidFill>
                  <a:srgbClr val="1f1a17"/>
                </a:solidFill>
                <a:latin typeface="Geometr231 BT"/>
              </a:rPr>
              <a:t>  REFLECT MOTHER'S CON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3852720" y="6014880"/>
            <a:ext cx="355680" cy="79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>
            <a:off x="2808360" y="3271680"/>
            <a:ext cx="1201680" cy="1489320"/>
          </a:xfrm>
          <a:custGeom>
            <a:avLst/>
            <a:gdLst/>
            <a:ahLst/>
            <a:rect l="l" t="t" r="r" b="b"/>
            <a:pathLst>
              <a:path w="3789" h="4688">
                <a:moveTo>
                  <a:pt x="567" y="4688"/>
                </a:moveTo>
                <a:lnTo>
                  <a:pt x="0" y="4688"/>
                </a:lnTo>
                <a:lnTo>
                  <a:pt x="1629" y="2328"/>
                </a:lnTo>
                <a:lnTo>
                  <a:pt x="39" y="0"/>
                </a:lnTo>
                <a:lnTo>
                  <a:pt x="612" y="0"/>
                </a:lnTo>
                <a:lnTo>
                  <a:pt x="1900" y="1945"/>
                </a:lnTo>
                <a:lnTo>
                  <a:pt x="3184" y="0"/>
                </a:lnTo>
                <a:lnTo>
                  <a:pt x="3751" y="0"/>
                </a:lnTo>
                <a:lnTo>
                  <a:pt x="2164" y="2328"/>
                </a:lnTo>
                <a:lnTo>
                  <a:pt x="3789" y="4688"/>
                </a:lnTo>
                <a:lnTo>
                  <a:pt x="3210" y="4688"/>
                </a:lnTo>
                <a:lnTo>
                  <a:pt x="1900" y="2699"/>
                </a:lnTo>
                <a:lnTo>
                  <a:pt x="567" y="4688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5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7" name=""/>
          <p:cNvSpPr/>
          <p:nvPr/>
        </p:nvSpPr>
        <p:spPr>
          <a:xfrm>
            <a:off x="1951920" y="811080"/>
            <a:ext cx="53056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HIV INFECTED MOTH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CAN GIVE THEIR BABY HIV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8" name=""/>
          <p:cNvGrpSpPr/>
          <p:nvPr/>
        </p:nvGrpSpPr>
        <p:grpSpPr>
          <a:xfrm>
            <a:off x="3051000" y="2232000"/>
            <a:ext cx="2959200" cy="3711600"/>
            <a:chOff x="3051000" y="2232000"/>
            <a:chExt cx="2959200" cy="3711600"/>
          </a:xfrm>
        </p:grpSpPr>
        <p:sp>
          <p:nvSpPr>
            <p:cNvPr id="5439" name=""/>
            <p:cNvSpPr/>
            <p:nvPr/>
          </p:nvSpPr>
          <p:spPr>
            <a:xfrm>
              <a:off x="3141720" y="3747960"/>
              <a:ext cx="2832120" cy="1992600"/>
            </a:xfrm>
            <a:custGeom>
              <a:avLst/>
              <a:gdLst/>
              <a:ahLst/>
              <a:rect l="l" t="t" r="r" b="b"/>
              <a:pathLst>
                <a:path w="10707" h="7528">
                  <a:moveTo>
                    <a:pt x="1568" y="7528"/>
                  </a:moveTo>
                  <a:lnTo>
                    <a:pt x="1517" y="7528"/>
                  </a:lnTo>
                  <a:lnTo>
                    <a:pt x="1483" y="7528"/>
                  </a:lnTo>
                  <a:lnTo>
                    <a:pt x="1433" y="7508"/>
                  </a:lnTo>
                  <a:lnTo>
                    <a:pt x="1379" y="7490"/>
                  </a:lnTo>
                  <a:lnTo>
                    <a:pt x="1345" y="7471"/>
                  </a:lnTo>
                  <a:lnTo>
                    <a:pt x="1295" y="7453"/>
                  </a:lnTo>
                  <a:lnTo>
                    <a:pt x="1261" y="7434"/>
                  </a:lnTo>
                  <a:lnTo>
                    <a:pt x="1209" y="7416"/>
                  </a:lnTo>
                  <a:lnTo>
                    <a:pt x="1158" y="7400"/>
                  </a:lnTo>
                  <a:lnTo>
                    <a:pt x="1124" y="7363"/>
                  </a:lnTo>
                  <a:lnTo>
                    <a:pt x="1074" y="7343"/>
                  </a:lnTo>
                  <a:lnTo>
                    <a:pt x="1040" y="7308"/>
                  </a:lnTo>
                  <a:lnTo>
                    <a:pt x="989" y="7271"/>
                  </a:lnTo>
                  <a:lnTo>
                    <a:pt x="936" y="7234"/>
                  </a:lnTo>
                  <a:lnTo>
                    <a:pt x="903" y="7196"/>
                  </a:lnTo>
                  <a:lnTo>
                    <a:pt x="851" y="7160"/>
                  </a:lnTo>
                  <a:lnTo>
                    <a:pt x="818" y="7123"/>
                  </a:lnTo>
                  <a:lnTo>
                    <a:pt x="783" y="7088"/>
                  </a:lnTo>
                  <a:lnTo>
                    <a:pt x="733" y="7051"/>
                  </a:lnTo>
                  <a:lnTo>
                    <a:pt x="699" y="7015"/>
                  </a:lnTo>
                  <a:lnTo>
                    <a:pt x="665" y="6960"/>
                  </a:lnTo>
                  <a:lnTo>
                    <a:pt x="630" y="6923"/>
                  </a:lnTo>
                  <a:lnTo>
                    <a:pt x="579" y="6886"/>
                  </a:lnTo>
                  <a:lnTo>
                    <a:pt x="561" y="6831"/>
                  </a:lnTo>
                  <a:lnTo>
                    <a:pt x="528" y="6795"/>
                  </a:lnTo>
                  <a:lnTo>
                    <a:pt x="494" y="6758"/>
                  </a:lnTo>
                  <a:lnTo>
                    <a:pt x="459" y="6703"/>
                  </a:lnTo>
                  <a:lnTo>
                    <a:pt x="425" y="6666"/>
                  </a:lnTo>
                  <a:lnTo>
                    <a:pt x="409" y="6612"/>
                  </a:lnTo>
                  <a:lnTo>
                    <a:pt x="375" y="6575"/>
                  </a:lnTo>
                  <a:lnTo>
                    <a:pt x="357" y="6520"/>
                  </a:lnTo>
                  <a:lnTo>
                    <a:pt x="340" y="6483"/>
                  </a:lnTo>
                  <a:lnTo>
                    <a:pt x="289" y="6337"/>
                  </a:lnTo>
                  <a:lnTo>
                    <a:pt x="221" y="6190"/>
                  </a:lnTo>
                  <a:lnTo>
                    <a:pt x="186" y="6043"/>
                  </a:lnTo>
                  <a:lnTo>
                    <a:pt x="135" y="5878"/>
                  </a:lnTo>
                  <a:lnTo>
                    <a:pt x="101" y="5732"/>
                  </a:lnTo>
                  <a:lnTo>
                    <a:pt x="66" y="5567"/>
                  </a:lnTo>
                  <a:lnTo>
                    <a:pt x="51" y="5420"/>
                  </a:lnTo>
                  <a:lnTo>
                    <a:pt x="32" y="5255"/>
                  </a:lnTo>
                  <a:lnTo>
                    <a:pt x="16" y="5090"/>
                  </a:lnTo>
                  <a:lnTo>
                    <a:pt x="0" y="4945"/>
                  </a:lnTo>
                  <a:lnTo>
                    <a:pt x="0" y="4780"/>
                  </a:lnTo>
                  <a:lnTo>
                    <a:pt x="0" y="4633"/>
                  </a:lnTo>
                  <a:lnTo>
                    <a:pt x="0" y="4487"/>
                  </a:lnTo>
                  <a:lnTo>
                    <a:pt x="16" y="4340"/>
                  </a:lnTo>
                  <a:lnTo>
                    <a:pt x="32" y="4211"/>
                  </a:lnTo>
                  <a:lnTo>
                    <a:pt x="51" y="4065"/>
                  </a:lnTo>
                  <a:lnTo>
                    <a:pt x="85" y="3937"/>
                  </a:lnTo>
                  <a:lnTo>
                    <a:pt x="120" y="3791"/>
                  </a:lnTo>
                  <a:lnTo>
                    <a:pt x="152" y="3662"/>
                  </a:lnTo>
                  <a:lnTo>
                    <a:pt x="186" y="3534"/>
                  </a:lnTo>
                  <a:lnTo>
                    <a:pt x="237" y="3388"/>
                  </a:lnTo>
                  <a:lnTo>
                    <a:pt x="272" y="3260"/>
                  </a:lnTo>
                  <a:lnTo>
                    <a:pt x="324" y="3132"/>
                  </a:lnTo>
                  <a:lnTo>
                    <a:pt x="391" y="3020"/>
                  </a:lnTo>
                  <a:lnTo>
                    <a:pt x="441" y="2894"/>
                  </a:lnTo>
                  <a:lnTo>
                    <a:pt x="510" y="2766"/>
                  </a:lnTo>
                  <a:lnTo>
                    <a:pt x="579" y="2655"/>
                  </a:lnTo>
                  <a:lnTo>
                    <a:pt x="647" y="2546"/>
                  </a:lnTo>
                  <a:lnTo>
                    <a:pt x="716" y="2435"/>
                  </a:lnTo>
                  <a:lnTo>
                    <a:pt x="800" y="2307"/>
                  </a:lnTo>
                  <a:lnTo>
                    <a:pt x="869" y="2216"/>
                  </a:lnTo>
                  <a:lnTo>
                    <a:pt x="954" y="2106"/>
                  </a:lnTo>
                  <a:lnTo>
                    <a:pt x="1040" y="1996"/>
                  </a:lnTo>
                  <a:lnTo>
                    <a:pt x="1124" y="1904"/>
                  </a:lnTo>
                  <a:lnTo>
                    <a:pt x="1209" y="1813"/>
                  </a:lnTo>
                  <a:lnTo>
                    <a:pt x="1313" y="1703"/>
                  </a:lnTo>
                  <a:lnTo>
                    <a:pt x="1398" y="1629"/>
                  </a:lnTo>
                  <a:lnTo>
                    <a:pt x="1499" y="1538"/>
                  </a:lnTo>
                  <a:lnTo>
                    <a:pt x="1602" y="1446"/>
                  </a:lnTo>
                  <a:lnTo>
                    <a:pt x="1703" y="1373"/>
                  </a:lnTo>
                  <a:lnTo>
                    <a:pt x="1807" y="1281"/>
                  </a:lnTo>
                  <a:lnTo>
                    <a:pt x="1909" y="1207"/>
                  </a:lnTo>
                  <a:lnTo>
                    <a:pt x="2012" y="1136"/>
                  </a:lnTo>
                  <a:lnTo>
                    <a:pt x="2131" y="1079"/>
                  </a:lnTo>
                  <a:lnTo>
                    <a:pt x="2233" y="1008"/>
                  </a:lnTo>
                  <a:lnTo>
                    <a:pt x="2353" y="953"/>
                  </a:lnTo>
                  <a:lnTo>
                    <a:pt x="2454" y="879"/>
                  </a:lnTo>
                  <a:lnTo>
                    <a:pt x="2574" y="825"/>
                  </a:lnTo>
                  <a:lnTo>
                    <a:pt x="2658" y="788"/>
                  </a:lnTo>
                  <a:lnTo>
                    <a:pt x="2761" y="751"/>
                  </a:lnTo>
                  <a:lnTo>
                    <a:pt x="2847" y="714"/>
                  </a:lnTo>
                  <a:lnTo>
                    <a:pt x="2932" y="659"/>
                  </a:lnTo>
                  <a:lnTo>
                    <a:pt x="3035" y="623"/>
                  </a:lnTo>
                  <a:lnTo>
                    <a:pt x="3120" y="586"/>
                  </a:lnTo>
                  <a:lnTo>
                    <a:pt x="3222" y="549"/>
                  </a:lnTo>
                  <a:lnTo>
                    <a:pt x="3307" y="513"/>
                  </a:lnTo>
                  <a:lnTo>
                    <a:pt x="3392" y="476"/>
                  </a:lnTo>
                  <a:lnTo>
                    <a:pt x="3495" y="440"/>
                  </a:lnTo>
                  <a:lnTo>
                    <a:pt x="3580" y="403"/>
                  </a:lnTo>
                  <a:lnTo>
                    <a:pt x="3681" y="366"/>
                  </a:lnTo>
                  <a:lnTo>
                    <a:pt x="3767" y="329"/>
                  </a:lnTo>
                  <a:lnTo>
                    <a:pt x="3852" y="293"/>
                  </a:lnTo>
                  <a:lnTo>
                    <a:pt x="3955" y="274"/>
                  </a:lnTo>
                  <a:lnTo>
                    <a:pt x="4040" y="237"/>
                  </a:lnTo>
                  <a:lnTo>
                    <a:pt x="4143" y="220"/>
                  </a:lnTo>
                  <a:lnTo>
                    <a:pt x="4229" y="183"/>
                  </a:lnTo>
                  <a:lnTo>
                    <a:pt x="4329" y="165"/>
                  </a:lnTo>
                  <a:lnTo>
                    <a:pt x="4415" y="128"/>
                  </a:lnTo>
                  <a:lnTo>
                    <a:pt x="4518" y="109"/>
                  </a:lnTo>
                  <a:lnTo>
                    <a:pt x="4620" y="91"/>
                  </a:lnTo>
                  <a:lnTo>
                    <a:pt x="4705" y="73"/>
                  </a:lnTo>
                  <a:lnTo>
                    <a:pt x="4808" y="54"/>
                  </a:lnTo>
                  <a:lnTo>
                    <a:pt x="4893" y="37"/>
                  </a:lnTo>
                  <a:lnTo>
                    <a:pt x="4994" y="37"/>
                  </a:lnTo>
                  <a:lnTo>
                    <a:pt x="5098" y="18"/>
                  </a:lnTo>
                  <a:lnTo>
                    <a:pt x="5183" y="18"/>
                  </a:lnTo>
                  <a:lnTo>
                    <a:pt x="5284" y="0"/>
                  </a:lnTo>
                  <a:lnTo>
                    <a:pt x="5387" y="0"/>
                  </a:lnTo>
                  <a:lnTo>
                    <a:pt x="5489" y="0"/>
                  </a:lnTo>
                  <a:lnTo>
                    <a:pt x="5574" y="0"/>
                  </a:lnTo>
                  <a:lnTo>
                    <a:pt x="5694" y="0"/>
                  </a:lnTo>
                  <a:lnTo>
                    <a:pt x="5797" y="0"/>
                  </a:lnTo>
                  <a:lnTo>
                    <a:pt x="5917" y="0"/>
                  </a:lnTo>
                  <a:lnTo>
                    <a:pt x="6018" y="18"/>
                  </a:lnTo>
                  <a:lnTo>
                    <a:pt x="6138" y="18"/>
                  </a:lnTo>
                  <a:lnTo>
                    <a:pt x="6241" y="18"/>
                  </a:lnTo>
                  <a:lnTo>
                    <a:pt x="6360" y="37"/>
                  </a:lnTo>
                  <a:lnTo>
                    <a:pt x="6462" y="37"/>
                  </a:lnTo>
                  <a:lnTo>
                    <a:pt x="6582" y="54"/>
                  </a:lnTo>
                  <a:lnTo>
                    <a:pt x="6682" y="73"/>
                  </a:lnTo>
                  <a:lnTo>
                    <a:pt x="6802" y="91"/>
                  </a:lnTo>
                  <a:lnTo>
                    <a:pt x="6906" y="91"/>
                  </a:lnTo>
                  <a:lnTo>
                    <a:pt x="7007" y="128"/>
                  </a:lnTo>
                  <a:lnTo>
                    <a:pt x="7126" y="146"/>
                  </a:lnTo>
                  <a:lnTo>
                    <a:pt x="7230" y="165"/>
                  </a:lnTo>
                  <a:lnTo>
                    <a:pt x="7331" y="183"/>
                  </a:lnTo>
                  <a:lnTo>
                    <a:pt x="7434" y="220"/>
                  </a:lnTo>
                  <a:lnTo>
                    <a:pt x="7536" y="237"/>
                  </a:lnTo>
                  <a:lnTo>
                    <a:pt x="7638" y="274"/>
                  </a:lnTo>
                  <a:lnTo>
                    <a:pt x="7758" y="311"/>
                  </a:lnTo>
                  <a:lnTo>
                    <a:pt x="7860" y="348"/>
                  </a:lnTo>
                  <a:lnTo>
                    <a:pt x="7962" y="385"/>
                  </a:lnTo>
                  <a:lnTo>
                    <a:pt x="8048" y="421"/>
                  </a:lnTo>
                  <a:lnTo>
                    <a:pt x="8150" y="457"/>
                  </a:lnTo>
                  <a:lnTo>
                    <a:pt x="8253" y="513"/>
                  </a:lnTo>
                  <a:lnTo>
                    <a:pt x="8354" y="568"/>
                  </a:lnTo>
                  <a:lnTo>
                    <a:pt x="8457" y="605"/>
                  </a:lnTo>
                  <a:lnTo>
                    <a:pt x="8543" y="659"/>
                  </a:lnTo>
                  <a:lnTo>
                    <a:pt x="8644" y="733"/>
                  </a:lnTo>
                  <a:lnTo>
                    <a:pt x="8729" y="788"/>
                  </a:lnTo>
                  <a:lnTo>
                    <a:pt x="8832" y="843"/>
                  </a:lnTo>
                  <a:lnTo>
                    <a:pt x="8917" y="916"/>
                  </a:lnTo>
                  <a:lnTo>
                    <a:pt x="9002" y="988"/>
                  </a:lnTo>
                  <a:lnTo>
                    <a:pt x="9071" y="1045"/>
                  </a:lnTo>
                  <a:lnTo>
                    <a:pt x="9157" y="1116"/>
                  </a:lnTo>
                  <a:lnTo>
                    <a:pt x="9241" y="1190"/>
                  </a:lnTo>
                  <a:lnTo>
                    <a:pt x="9309" y="1265"/>
                  </a:lnTo>
                  <a:lnTo>
                    <a:pt x="9394" y="1336"/>
                  </a:lnTo>
                  <a:lnTo>
                    <a:pt x="9463" y="1410"/>
                  </a:lnTo>
                  <a:lnTo>
                    <a:pt x="9547" y="1483"/>
                  </a:lnTo>
                  <a:lnTo>
                    <a:pt x="9616" y="1575"/>
                  </a:lnTo>
                  <a:lnTo>
                    <a:pt x="9702" y="1647"/>
                  </a:lnTo>
                  <a:lnTo>
                    <a:pt x="9770" y="1739"/>
                  </a:lnTo>
                  <a:lnTo>
                    <a:pt x="9837" y="1813"/>
                  </a:lnTo>
                  <a:lnTo>
                    <a:pt x="9906" y="1904"/>
                  </a:lnTo>
                  <a:lnTo>
                    <a:pt x="9975" y="1978"/>
                  </a:lnTo>
                  <a:lnTo>
                    <a:pt x="10042" y="2069"/>
                  </a:lnTo>
                  <a:lnTo>
                    <a:pt x="10111" y="2161"/>
                  </a:lnTo>
                  <a:lnTo>
                    <a:pt x="10162" y="2252"/>
                  </a:lnTo>
                  <a:lnTo>
                    <a:pt x="10212" y="2326"/>
                  </a:lnTo>
                  <a:lnTo>
                    <a:pt x="10281" y="2418"/>
                  </a:lnTo>
                  <a:lnTo>
                    <a:pt x="10332" y="2509"/>
                  </a:lnTo>
                  <a:lnTo>
                    <a:pt x="10383" y="2601"/>
                  </a:lnTo>
                  <a:lnTo>
                    <a:pt x="10435" y="2692"/>
                  </a:lnTo>
                  <a:lnTo>
                    <a:pt x="10470" y="2766"/>
                  </a:lnTo>
                  <a:lnTo>
                    <a:pt x="10521" y="2857"/>
                  </a:lnTo>
                  <a:lnTo>
                    <a:pt x="10554" y="2949"/>
                  </a:lnTo>
                  <a:lnTo>
                    <a:pt x="10587" y="3020"/>
                  </a:lnTo>
                  <a:lnTo>
                    <a:pt x="10622" y="3114"/>
                  </a:lnTo>
                  <a:lnTo>
                    <a:pt x="10639" y="3186"/>
                  </a:lnTo>
                  <a:lnTo>
                    <a:pt x="10656" y="3277"/>
                  </a:lnTo>
                  <a:lnTo>
                    <a:pt x="10690" y="3351"/>
                  </a:lnTo>
                  <a:lnTo>
                    <a:pt x="10690" y="3426"/>
                  </a:lnTo>
                  <a:lnTo>
                    <a:pt x="10707" y="3497"/>
                  </a:lnTo>
                  <a:lnTo>
                    <a:pt x="10417" y="3625"/>
                  </a:lnTo>
                  <a:lnTo>
                    <a:pt x="10128" y="3754"/>
                  </a:lnTo>
                  <a:lnTo>
                    <a:pt x="9856" y="3882"/>
                  </a:lnTo>
                  <a:lnTo>
                    <a:pt x="9566" y="4011"/>
                  </a:lnTo>
                  <a:lnTo>
                    <a:pt x="9274" y="4139"/>
                  </a:lnTo>
                  <a:lnTo>
                    <a:pt x="8984" y="4267"/>
                  </a:lnTo>
                  <a:lnTo>
                    <a:pt x="8713" y="4377"/>
                  </a:lnTo>
                  <a:lnTo>
                    <a:pt x="8423" y="4505"/>
                  </a:lnTo>
                  <a:lnTo>
                    <a:pt x="8133" y="4633"/>
                  </a:lnTo>
                  <a:lnTo>
                    <a:pt x="7844" y="4762"/>
                  </a:lnTo>
                  <a:lnTo>
                    <a:pt x="7569" y="4890"/>
                  </a:lnTo>
                  <a:lnTo>
                    <a:pt x="7280" y="5019"/>
                  </a:lnTo>
                  <a:lnTo>
                    <a:pt x="6990" y="5147"/>
                  </a:lnTo>
                  <a:lnTo>
                    <a:pt x="6700" y="5275"/>
                  </a:lnTo>
                  <a:lnTo>
                    <a:pt x="6411" y="5384"/>
                  </a:lnTo>
                  <a:lnTo>
                    <a:pt x="6138" y="5512"/>
                  </a:lnTo>
                  <a:lnTo>
                    <a:pt x="5848" y="5640"/>
                  </a:lnTo>
                  <a:lnTo>
                    <a:pt x="5558" y="5769"/>
                  </a:lnTo>
                  <a:lnTo>
                    <a:pt x="5269" y="5897"/>
                  </a:lnTo>
                  <a:lnTo>
                    <a:pt x="4994" y="6025"/>
                  </a:lnTo>
                  <a:lnTo>
                    <a:pt x="4705" y="6153"/>
                  </a:lnTo>
                  <a:lnTo>
                    <a:pt x="4415" y="6281"/>
                  </a:lnTo>
                  <a:lnTo>
                    <a:pt x="4125" y="6409"/>
                  </a:lnTo>
                  <a:lnTo>
                    <a:pt x="3852" y="6520"/>
                  </a:lnTo>
                  <a:lnTo>
                    <a:pt x="3562" y="6648"/>
                  </a:lnTo>
                  <a:lnTo>
                    <a:pt x="3273" y="6777"/>
                  </a:lnTo>
                  <a:lnTo>
                    <a:pt x="2982" y="6903"/>
                  </a:lnTo>
                  <a:lnTo>
                    <a:pt x="2711" y="7031"/>
                  </a:lnTo>
                  <a:lnTo>
                    <a:pt x="2420" y="7160"/>
                  </a:lnTo>
                  <a:lnTo>
                    <a:pt x="2131" y="7288"/>
                  </a:lnTo>
                  <a:lnTo>
                    <a:pt x="1840" y="7400"/>
                  </a:lnTo>
                  <a:lnTo>
                    <a:pt x="1568" y="75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3213000" y="5454720"/>
              <a:ext cx="343080" cy="304560"/>
            </a:xfrm>
            <a:custGeom>
              <a:avLst/>
              <a:gdLst/>
              <a:ahLst/>
              <a:rect l="l" t="t" r="r" b="b"/>
              <a:pathLst>
                <a:path w="1296" h="1153">
                  <a:moveTo>
                    <a:pt x="0" y="74"/>
                  </a:moveTo>
                  <a:lnTo>
                    <a:pt x="34" y="111"/>
                  </a:lnTo>
                  <a:lnTo>
                    <a:pt x="52" y="166"/>
                  </a:lnTo>
                  <a:lnTo>
                    <a:pt x="85" y="202"/>
                  </a:lnTo>
                  <a:lnTo>
                    <a:pt x="103" y="257"/>
                  </a:lnTo>
                  <a:lnTo>
                    <a:pt x="137" y="294"/>
                  </a:lnTo>
                  <a:lnTo>
                    <a:pt x="169" y="349"/>
                  </a:lnTo>
                  <a:lnTo>
                    <a:pt x="204" y="385"/>
                  </a:lnTo>
                  <a:lnTo>
                    <a:pt x="222" y="440"/>
                  </a:lnTo>
                  <a:lnTo>
                    <a:pt x="273" y="477"/>
                  </a:lnTo>
                  <a:lnTo>
                    <a:pt x="307" y="532"/>
                  </a:lnTo>
                  <a:lnTo>
                    <a:pt x="341" y="569"/>
                  </a:lnTo>
                  <a:lnTo>
                    <a:pt x="375" y="622"/>
                  </a:lnTo>
                  <a:lnTo>
                    <a:pt x="409" y="660"/>
                  </a:lnTo>
                  <a:lnTo>
                    <a:pt x="461" y="697"/>
                  </a:lnTo>
                  <a:lnTo>
                    <a:pt x="493" y="734"/>
                  </a:lnTo>
                  <a:lnTo>
                    <a:pt x="546" y="788"/>
                  </a:lnTo>
                  <a:lnTo>
                    <a:pt x="579" y="825"/>
                  </a:lnTo>
                  <a:lnTo>
                    <a:pt x="631" y="842"/>
                  </a:lnTo>
                  <a:lnTo>
                    <a:pt x="682" y="879"/>
                  </a:lnTo>
                  <a:lnTo>
                    <a:pt x="717" y="917"/>
                  </a:lnTo>
                  <a:lnTo>
                    <a:pt x="768" y="954"/>
                  </a:lnTo>
                  <a:lnTo>
                    <a:pt x="818" y="988"/>
                  </a:lnTo>
                  <a:lnTo>
                    <a:pt x="869" y="1007"/>
                  </a:lnTo>
                  <a:lnTo>
                    <a:pt x="903" y="1044"/>
                  </a:lnTo>
                  <a:lnTo>
                    <a:pt x="955" y="1062"/>
                  </a:lnTo>
                  <a:lnTo>
                    <a:pt x="1006" y="1082"/>
                  </a:lnTo>
                  <a:lnTo>
                    <a:pt x="1057" y="1099"/>
                  </a:lnTo>
                  <a:lnTo>
                    <a:pt x="1092" y="1117"/>
                  </a:lnTo>
                  <a:lnTo>
                    <a:pt x="1142" y="1136"/>
                  </a:lnTo>
                  <a:lnTo>
                    <a:pt x="1193" y="1153"/>
                  </a:lnTo>
                  <a:lnTo>
                    <a:pt x="1245" y="1153"/>
                  </a:lnTo>
                  <a:lnTo>
                    <a:pt x="1278" y="1153"/>
                  </a:lnTo>
                  <a:lnTo>
                    <a:pt x="1296" y="1007"/>
                  </a:lnTo>
                  <a:lnTo>
                    <a:pt x="1262" y="1007"/>
                  </a:lnTo>
                  <a:lnTo>
                    <a:pt x="1211" y="1007"/>
                  </a:lnTo>
                  <a:lnTo>
                    <a:pt x="1176" y="988"/>
                  </a:lnTo>
                  <a:lnTo>
                    <a:pt x="1142" y="970"/>
                  </a:lnTo>
                  <a:lnTo>
                    <a:pt x="1092" y="970"/>
                  </a:lnTo>
                  <a:lnTo>
                    <a:pt x="1057" y="954"/>
                  </a:lnTo>
                  <a:lnTo>
                    <a:pt x="1006" y="933"/>
                  </a:lnTo>
                  <a:lnTo>
                    <a:pt x="972" y="897"/>
                  </a:lnTo>
                  <a:lnTo>
                    <a:pt x="921" y="879"/>
                  </a:lnTo>
                  <a:lnTo>
                    <a:pt x="886" y="862"/>
                  </a:lnTo>
                  <a:lnTo>
                    <a:pt x="837" y="825"/>
                  </a:lnTo>
                  <a:lnTo>
                    <a:pt x="802" y="805"/>
                  </a:lnTo>
                  <a:lnTo>
                    <a:pt x="751" y="771"/>
                  </a:lnTo>
                  <a:lnTo>
                    <a:pt x="717" y="734"/>
                  </a:lnTo>
                  <a:lnTo>
                    <a:pt x="664" y="697"/>
                  </a:lnTo>
                  <a:lnTo>
                    <a:pt x="631" y="660"/>
                  </a:lnTo>
                  <a:lnTo>
                    <a:pt x="597" y="622"/>
                  </a:lnTo>
                  <a:lnTo>
                    <a:pt x="546" y="585"/>
                  </a:lnTo>
                  <a:lnTo>
                    <a:pt x="511" y="551"/>
                  </a:lnTo>
                  <a:lnTo>
                    <a:pt x="478" y="514"/>
                  </a:lnTo>
                  <a:lnTo>
                    <a:pt x="444" y="477"/>
                  </a:lnTo>
                  <a:lnTo>
                    <a:pt x="409" y="422"/>
                  </a:lnTo>
                  <a:lnTo>
                    <a:pt x="358" y="385"/>
                  </a:lnTo>
                  <a:lnTo>
                    <a:pt x="341" y="349"/>
                  </a:lnTo>
                  <a:lnTo>
                    <a:pt x="307" y="312"/>
                  </a:lnTo>
                  <a:lnTo>
                    <a:pt x="273" y="257"/>
                  </a:lnTo>
                  <a:lnTo>
                    <a:pt x="238" y="220"/>
                  </a:lnTo>
                  <a:lnTo>
                    <a:pt x="222" y="183"/>
                  </a:lnTo>
                  <a:lnTo>
                    <a:pt x="187" y="129"/>
                  </a:lnTo>
                  <a:lnTo>
                    <a:pt x="169" y="92"/>
                  </a:lnTo>
                  <a:lnTo>
                    <a:pt x="153" y="55"/>
                  </a:lnTo>
                  <a:lnTo>
                    <a:pt x="137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3122640" y="4824360"/>
              <a:ext cx="127080" cy="649440"/>
            </a:xfrm>
            <a:custGeom>
              <a:avLst/>
              <a:gdLst/>
              <a:ahLst/>
              <a:rect l="l" t="t" r="r" b="b"/>
              <a:pathLst>
                <a:path w="478" h="2455">
                  <a:moveTo>
                    <a:pt x="51" y="0"/>
                  </a:moveTo>
                  <a:lnTo>
                    <a:pt x="51" y="55"/>
                  </a:lnTo>
                  <a:lnTo>
                    <a:pt x="34" y="129"/>
                  </a:lnTo>
                  <a:lnTo>
                    <a:pt x="34" y="202"/>
                  </a:lnTo>
                  <a:lnTo>
                    <a:pt x="16" y="275"/>
                  </a:lnTo>
                  <a:lnTo>
                    <a:pt x="16" y="349"/>
                  </a:lnTo>
                  <a:lnTo>
                    <a:pt x="16" y="422"/>
                  </a:lnTo>
                  <a:lnTo>
                    <a:pt x="0" y="495"/>
                  </a:lnTo>
                  <a:lnTo>
                    <a:pt x="0" y="568"/>
                  </a:lnTo>
                  <a:lnTo>
                    <a:pt x="0" y="642"/>
                  </a:lnTo>
                  <a:lnTo>
                    <a:pt x="0" y="715"/>
                  </a:lnTo>
                  <a:lnTo>
                    <a:pt x="0" y="805"/>
                  </a:lnTo>
                  <a:lnTo>
                    <a:pt x="0" y="880"/>
                  </a:lnTo>
                  <a:lnTo>
                    <a:pt x="16" y="954"/>
                  </a:lnTo>
                  <a:lnTo>
                    <a:pt x="16" y="1045"/>
                  </a:lnTo>
                  <a:lnTo>
                    <a:pt x="16" y="1116"/>
                  </a:lnTo>
                  <a:lnTo>
                    <a:pt x="34" y="1190"/>
                  </a:lnTo>
                  <a:lnTo>
                    <a:pt x="34" y="1282"/>
                  </a:lnTo>
                  <a:lnTo>
                    <a:pt x="51" y="1355"/>
                  </a:lnTo>
                  <a:lnTo>
                    <a:pt x="69" y="1428"/>
                  </a:lnTo>
                  <a:lnTo>
                    <a:pt x="69" y="1522"/>
                  </a:lnTo>
                  <a:lnTo>
                    <a:pt x="85" y="1593"/>
                  </a:lnTo>
                  <a:lnTo>
                    <a:pt x="101" y="1685"/>
                  </a:lnTo>
                  <a:lnTo>
                    <a:pt x="120" y="1758"/>
                  </a:lnTo>
                  <a:lnTo>
                    <a:pt x="135" y="1832"/>
                  </a:lnTo>
                  <a:lnTo>
                    <a:pt x="154" y="1924"/>
                  </a:lnTo>
                  <a:lnTo>
                    <a:pt x="189" y="1996"/>
                  </a:lnTo>
                  <a:lnTo>
                    <a:pt x="204" y="2070"/>
                  </a:lnTo>
                  <a:lnTo>
                    <a:pt x="238" y="2144"/>
                  </a:lnTo>
                  <a:lnTo>
                    <a:pt x="255" y="2216"/>
                  </a:lnTo>
                  <a:lnTo>
                    <a:pt x="290" y="2308"/>
                  </a:lnTo>
                  <a:lnTo>
                    <a:pt x="324" y="2381"/>
                  </a:lnTo>
                  <a:lnTo>
                    <a:pt x="341" y="2455"/>
                  </a:lnTo>
                  <a:lnTo>
                    <a:pt x="478" y="2381"/>
                  </a:lnTo>
                  <a:lnTo>
                    <a:pt x="444" y="2308"/>
                  </a:lnTo>
                  <a:lnTo>
                    <a:pt x="409" y="2253"/>
                  </a:lnTo>
                  <a:lnTo>
                    <a:pt x="393" y="2180"/>
                  </a:lnTo>
                  <a:lnTo>
                    <a:pt x="358" y="2107"/>
                  </a:lnTo>
                  <a:lnTo>
                    <a:pt x="341" y="2033"/>
                  </a:lnTo>
                  <a:lnTo>
                    <a:pt x="306" y="1960"/>
                  </a:lnTo>
                  <a:lnTo>
                    <a:pt x="290" y="1868"/>
                  </a:lnTo>
                  <a:lnTo>
                    <a:pt x="273" y="1795"/>
                  </a:lnTo>
                  <a:lnTo>
                    <a:pt x="255" y="1722"/>
                  </a:lnTo>
                  <a:lnTo>
                    <a:pt x="238" y="1648"/>
                  </a:lnTo>
                  <a:lnTo>
                    <a:pt x="221" y="1575"/>
                  </a:lnTo>
                  <a:lnTo>
                    <a:pt x="204" y="1484"/>
                  </a:lnTo>
                  <a:lnTo>
                    <a:pt x="189" y="1410"/>
                  </a:lnTo>
                  <a:lnTo>
                    <a:pt x="189" y="1336"/>
                  </a:lnTo>
                  <a:lnTo>
                    <a:pt x="170" y="1265"/>
                  </a:lnTo>
                  <a:lnTo>
                    <a:pt x="170" y="1174"/>
                  </a:lnTo>
                  <a:lnTo>
                    <a:pt x="154" y="1099"/>
                  </a:lnTo>
                  <a:lnTo>
                    <a:pt x="154" y="1025"/>
                  </a:lnTo>
                  <a:lnTo>
                    <a:pt x="135" y="954"/>
                  </a:lnTo>
                  <a:lnTo>
                    <a:pt x="135" y="880"/>
                  </a:lnTo>
                  <a:lnTo>
                    <a:pt x="135" y="788"/>
                  </a:lnTo>
                  <a:lnTo>
                    <a:pt x="135" y="715"/>
                  </a:lnTo>
                  <a:lnTo>
                    <a:pt x="135" y="642"/>
                  </a:lnTo>
                  <a:lnTo>
                    <a:pt x="135" y="568"/>
                  </a:lnTo>
                  <a:lnTo>
                    <a:pt x="135" y="495"/>
                  </a:lnTo>
                  <a:lnTo>
                    <a:pt x="135" y="422"/>
                  </a:lnTo>
                  <a:lnTo>
                    <a:pt x="154" y="366"/>
                  </a:lnTo>
                  <a:lnTo>
                    <a:pt x="154" y="294"/>
                  </a:lnTo>
                  <a:lnTo>
                    <a:pt x="154" y="220"/>
                  </a:lnTo>
                  <a:lnTo>
                    <a:pt x="170" y="146"/>
                  </a:lnTo>
                  <a:lnTo>
                    <a:pt x="189" y="92"/>
                  </a:lnTo>
                  <a:lnTo>
                    <a:pt x="189" y="1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3137040" y="3951360"/>
              <a:ext cx="693720" cy="877680"/>
            </a:xfrm>
            <a:custGeom>
              <a:avLst/>
              <a:gdLst/>
              <a:ahLst/>
              <a:rect l="l" t="t" r="r" b="b"/>
              <a:pathLst>
                <a:path w="2626" h="3316">
                  <a:moveTo>
                    <a:pt x="2575" y="0"/>
                  </a:moveTo>
                  <a:lnTo>
                    <a:pt x="2455" y="57"/>
                  </a:lnTo>
                  <a:lnTo>
                    <a:pt x="2336" y="111"/>
                  </a:lnTo>
                  <a:lnTo>
                    <a:pt x="2216" y="165"/>
                  </a:lnTo>
                  <a:lnTo>
                    <a:pt x="2114" y="240"/>
                  </a:lnTo>
                  <a:lnTo>
                    <a:pt x="1996" y="311"/>
                  </a:lnTo>
                  <a:lnTo>
                    <a:pt x="1892" y="385"/>
                  </a:lnTo>
                  <a:lnTo>
                    <a:pt x="1790" y="460"/>
                  </a:lnTo>
                  <a:lnTo>
                    <a:pt x="1688" y="531"/>
                  </a:lnTo>
                  <a:lnTo>
                    <a:pt x="1586" y="623"/>
                  </a:lnTo>
                  <a:lnTo>
                    <a:pt x="1483" y="715"/>
                  </a:lnTo>
                  <a:lnTo>
                    <a:pt x="1382" y="807"/>
                  </a:lnTo>
                  <a:lnTo>
                    <a:pt x="1279" y="879"/>
                  </a:lnTo>
                  <a:lnTo>
                    <a:pt x="1193" y="990"/>
                  </a:lnTo>
                  <a:lnTo>
                    <a:pt x="1092" y="1081"/>
                  </a:lnTo>
                  <a:lnTo>
                    <a:pt x="1007" y="1191"/>
                  </a:lnTo>
                  <a:lnTo>
                    <a:pt x="921" y="1282"/>
                  </a:lnTo>
                  <a:lnTo>
                    <a:pt x="836" y="1393"/>
                  </a:lnTo>
                  <a:lnTo>
                    <a:pt x="751" y="1502"/>
                  </a:lnTo>
                  <a:lnTo>
                    <a:pt x="683" y="1613"/>
                  </a:lnTo>
                  <a:lnTo>
                    <a:pt x="614" y="1722"/>
                  </a:lnTo>
                  <a:lnTo>
                    <a:pt x="528" y="1851"/>
                  </a:lnTo>
                  <a:lnTo>
                    <a:pt x="459" y="1961"/>
                  </a:lnTo>
                  <a:lnTo>
                    <a:pt x="409" y="2089"/>
                  </a:lnTo>
                  <a:lnTo>
                    <a:pt x="342" y="2218"/>
                  </a:lnTo>
                  <a:lnTo>
                    <a:pt x="290" y="2346"/>
                  </a:lnTo>
                  <a:lnTo>
                    <a:pt x="239" y="2472"/>
                  </a:lnTo>
                  <a:lnTo>
                    <a:pt x="187" y="2601"/>
                  </a:lnTo>
                  <a:lnTo>
                    <a:pt x="138" y="2729"/>
                  </a:lnTo>
                  <a:lnTo>
                    <a:pt x="103" y="2876"/>
                  </a:lnTo>
                  <a:lnTo>
                    <a:pt x="69" y="3004"/>
                  </a:lnTo>
                  <a:lnTo>
                    <a:pt x="34" y="3151"/>
                  </a:lnTo>
                  <a:lnTo>
                    <a:pt x="0" y="3297"/>
                  </a:lnTo>
                  <a:lnTo>
                    <a:pt x="138" y="3316"/>
                  </a:lnTo>
                  <a:lnTo>
                    <a:pt x="170" y="3188"/>
                  </a:lnTo>
                  <a:lnTo>
                    <a:pt x="187" y="3040"/>
                  </a:lnTo>
                  <a:lnTo>
                    <a:pt x="239" y="2912"/>
                  </a:lnTo>
                  <a:lnTo>
                    <a:pt x="273" y="2784"/>
                  </a:lnTo>
                  <a:lnTo>
                    <a:pt x="307" y="2658"/>
                  </a:lnTo>
                  <a:lnTo>
                    <a:pt x="358" y="2529"/>
                  </a:lnTo>
                  <a:lnTo>
                    <a:pt x="409" y="2401"/>
                  </a:lnTo>
                  <a:lnTo>
                    <a:pt x="459" y="2273"/>
                  </a:lnTo>
                  <a:lnTo>
                    <a:pt x="528" y="2161"/>
                  </a:lnTo>
                  <a:lnTo>
                    <a:pt x="579" y="2032"/>
                  </a:lnTo>
                  <a:lnTo>
                    <a:pt x="648" y="1924"/>
                  </a:lnTo>
                  <a:lnTo>
                    <a:pt x="717" y="1814"/>
                  </a:lnTo>
                  <a:lnTo>
                    <a:pt x="783" y="1704"/>
                  </a:lnTo>
                  <a:lnTo>
                    <a:pt x="869" y="1594"/>
                  </a:lnTo>
                  <a:lnTo>
                    <a:pt x="938" y="1484"/>
                  </a:lnTo>
                  <a:lnTo>
                    <a:pt x="1023" y="1375"/>
                  </a:lnTo>
                  <a:lnTo>
                    <a:pt x="1108" y="1282"/>
                  </a:lnTo>
                  <a:lnTo>
                    <a:pt x="1193" y="1191"/>
                  </a:lnTo>
                  <a:lnTo>
                    <a:pt x="1279" y="1081"/>
                  </a:lnTo>
                  <a:lnTo>
                    <a:pt x="1382" y="990"/>
                  </a:lnTo>
                  <a:lnTo>
                    <a:pt x="1466" y="916"/>
                  </a:lnTo>
                  <a:lnTo>
                    <a:pt x="1568" y="825"/>
                  </a:lnTo>
                  <a:lnTo>
                    <a:pt x="1655" y="733"/>
                  </a:lnTo>
                  <a:lnTo>
                    <a:pt x="1756" y="659"/>
                  </a:lnTo>
                  <a:lnTo>
                    <a:pt x="1858" y="588"/>
                  </a:lnTo>
                  <a:lnTo>
                    <a:pt x="1961" y="513"/>
                  </a:lnTo>
                  <a:lnTo>
                    <a:pt x="2080" y="439"/>
                  </a:lnTo>
                  <a:lnTo>
                    <a:pt x="2182" y="368"/>
                  </a:lnTo>
                  <a:lnTo>
                    <a:pt x="2285" y="311"/>
                  </a:lnTo>
                  <a:lnTo>
                    <a:pt x="2405" y="240"/>
                  </a:lnTo>
                  <a:lnTo>
                    <a:pt x="2506" y="185"/>
                  </a:lnTo>
                  <a:lnTo>
                    <a:pt x="2626" y="128"/>
                  </a:lnTo>
                  <a:lnTo>
                    <a:pt x="257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3817800" y="3728880"/>
              <a:ext cx="798480" cy="257400"/>
            </a:xfrm>
            <a:custGeom>
              <a:avLst/>
              <a:gdLst/>
              <a:ahLst/>
              <a:rect l="l" t="t" r="r" b="b"/>
              <a:pathLst>
                <a:path w="3017" h="970">
                  <a:moveTo>
                    <a:pt x="3017" y="0"/>
                  </a:moveTo>
                  <a:lnTo>
                    <a:pt x="2932" y="0"/>
                  </a:lnTo>
                  <a:lnTo>
                    <a:pt x="2830" y="0"/>
                  </a:lnTo>
                  <a:lnTo>
                    <a:pt x="2727" y="0"/>
                  </a:lnTo>
                  <a:lnTo>
                    <a:pt x="2626" y="19"/>
                  </a:lnTo>
                  <a:lnTo>
                    <a:pt x="2523" y="19"/>
                  </a:lnTo>
                  <a:lnTo>
                    <a:pt x="2437" y="37"/>
                  </a:lnTo>
                  <a:lnTo>
                    <a:pt x="2336" y="56"/>
                  </a:lnTo>
                  <a:lnTo>
                    <a:pt x="2233" y="56"/>
                  </a:lnTo>
                  <a:lnTo>
                    <a:pt x="2131" y="74"/>
                  </a:lnTo>
                  <a:lnTo>
                    <a:pt x="2047" y="92"/>
                  </a:lnTo>
                  <a:lnTo>
                    <a:pt x="1943" y="111"/>
                  </a:lnTo>
                  <a:lnTo>
                    <a:pt x="1858" y="147"/>
                  </a:lnTo>
                  <a:lnTo>
                    <a:pt x="1757" y="165"/>
                  </a:lnTo>
                  <a:lnTo>
                    <a:pt x="1654" y="183"/>
                  </a:lnTo>
                  <a:lnTo>
                    <a:pt x="1568" y="220"/>
                  </a:lnTo>
                  <a:lnTo>
                    <a:pt x="1467" y="239"/>
                  </a:lnTo>
                  <a:lnTo>
                    <a:pt x="1382" y="276"/>
                  </a:lnTo>
                  <a:lnTo>
                    <a:pt x="1279" y="311"/>
                  </a:lnTo>
                  <a:lnTo>
                    <a:pt x="1193" y="330"/>
                  </a:lnTo>
                  <a:lnTo>
                    <a:pt x="1092" y="367"/>
                  </a:lnTo>
                  <a:lnTo>
                    <a:pt x="1005" y="403"/>
                  </a:lnTo>
                  <a:lnTo>
                    <a:pt x="903" y="440"/>
                  </a:lnTo>
                  <a:lnTo>
                    <a:pt x="818" y="477"/>
                  </a:lnTo>
                  <a:lnTo>
                    <a:pt x="734" y="514"/>
                  </a:lnTo>
                  <a:lnTo>
                    <a:pt x="630" y="550"/>
                  </a:lnTo>
                  <a:lnTo>
                    <a:pt x="545" y="587"/>
                  </a:lnTo>
                  <a:lnTo>
                    <a:pt x="444" y="623"/>
                  </a:lnTo>
                  <a:lnTo>
                    <a:pt x="358" y="679"/>
                  </a:lnTo>
                  <a:lnTo>
                    <a:pt x="273" y="713"/>
                  </a:lnTo>
                  <a:lnTo>
                    <a:pt x="170" y="751"/>
                  </a:lnTo>
                  <a:lnTo>
                    <a:pt x="85" y="788"/>
                  </a:lnTo>
                  <a:lnTo>
                    <a:pt x="0" y="842"/>
                  </a:lnTo>
                  <a:lnTo>
                    <a:pt x="51" y="970"/>
                  </a:lnTo>
                  <a:lnTo>
                    <a:pt x="135" y="933"/>
                  </a:lnTo>
                  <a:lnTo>
                    <a:pt x="221" y="899"/>
                  </a:lnTo>
                  <a:lnTo>
                    <a:pt x="324" y="842"/>
                  </a:lnTo>
                  <a:lnTo>
                    <a:pt x="410" y="807"/>
                  </a:lnTo>
                  <a:lnTo>
                    <a:pt x="494" y="770"/>
                  </a:lnTo>
                  <a:lnTo>
                    <a:pt x="596" y="733"/>
                  </a:lnTo>
                  <a:lnTo>
                    <a:pt x="683" y="697"/>
                  </a:lnTo>
                  <a:lnTo>
                    <a:pt x="768" y="642"/>
                  </a:lnTo>
                  <a:lnTo>
                    <a:pt x="869" y="605"/>
                  </a:lnTo>
                  <a:lnTo>
                    <a:pt x="954" y="587"/>
                  </a:lnTo>
                  <a:lnTo>
                    <a:pt x="1040" y="550"/>
                  </a:lnTo>
                  <a:lnTo>
                    <a:pt x="1142" y="514"/>
                  </a:lnTo>
                  <a:lnTo>
                    <a:pt x="1228" y="477"/>
                  </a:lnTo>
                  <a:lnTo>
                    <a:pt x="1330" y="440"/>
                  </a:lnTo>
                  <a:lnTo>
                    <a:pt x="1414" y="422"/>
                  </a:lnTo>
                  <a:lnTo>
                    <a:pt x="1499" y="385"/>
                  </a:lnTo>
                  <a:lnTo>
                    <a:pt x="1603" y="348"/>
                  </a:lnTo>
                  <a:lnTo>
                    <a:pt x="1688" y="330"/>
                  </a:lnTo>
                  <a:lnTo>
                    <a:pt x="1791" y="311"/>
                  </a:lnTo>
                  <a:lnTo>
                    <a:pt x="1876" y="276"/>
                  </a:lnTo>
                  <a:lnTo>
                    <a:pt x="1978" y="257"/>
                  </a:lnTo>
                  <a:lnTo>
                    <a:pt x="2063" y="239"/>
                  </a:lnTo>
                  <a:lnTo>
                    <a:pt x="2165" y="220"/>
                  </a:lnTo>
                  <a:lnTo>
                    <a:pt x="2251" y="202"/>
                  </a:lnTo>
                  <a:lnTo>
                    <a:pt x="2353" y="183"/>
                  </a:lnTo>
                  <a:lnTo>
                    <a:pt x="2437" y="183"/>
                  </a:lnTo>
                  <a:lnTo>
                    <a:pt x="2541" y="165"/>
                  </a:lnTo>
                  <a:lnTo>
                    <a:pt x="2643" y="165"/>
                  </a:lnTo>
                  <a:lnTo>
                    <a:pt x="2727" y="147"/>
                  </a:lnTo>
                  <a:lnTo>
                    <a:pt x="2830" y="147"/>
                  </a:lnTo>
                  <a:lnTo>
                    <a:pt x="2932" y="147"/>
                  </a:lnTo>
                  <a:lnTo>
                    <a:pt x="3017" y="147"/>
                  </a:lnTo>
                  <a:lnTo>
                    <a:pt x="30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4616280" y="3728880"/>
              <a:ext cx="893880" cy="276480"/>
            </a:xfrm>
            <a:custGeom>
              <a:avLst/>
              <a:gdLst/>
              <a:ahLst/>
              <a:rect l="l" t="t" r="r" b="b"/>
              <a:pathLst>
                <a:path w="3377" h="1045">
                  <a:moveTo>
                    <a:pt x="3377" y="933"/>
                  </a:moveTo>
                  <a:lnTo>
                    <a:pt x="3293" y="862"/>
                  </a:lnTo>
                  <a:lnTo>
                    <a:pt x="3190" y="807"/>
                  </a:lnTo>
                  <a:lnTo>
                    <a:pt x="3104" y="733"/>
                  </a:lnTo>
                  <a:lnTo>
                    <a:pt x="3001" y="679"/>
                  </a:lnTo>
                  <a:lnTo>
                    <a:pt x="2900" y="623"/>
                  </a:lnTo>
                  <a:lnTo>
                    <a:pt x="2814" y="568"/>
                  </a:lnTo>
                  <a:lnTo>
                    <a:pt x="2711" y="514"/>
                  </a:lnTo>
                  <a:lnTo>
                    <a:pt x="2610" y="477"/>
                  </a:lnTo>
                  <a:lnTo>
                    <a:pt x="2507" y="422"/>
                  </a:lnTo>
                  <a:lnTo>
                    <a:pt x="2405" y="385"/>
                  </a:lnTo>
                  <a:lnTo>
                    <a:pt x="2302" y="348"/>
                  </a:lnTo>
                  <a:lnTo>
                    <a:pt x="2201" y="311"/>
                  </a:lnTo>
                  <a:lnTo>
                    <a:pt x="2097" y="276"/>
                  </a:lnTo>
                  <a:lnTo>
                    <a:pt x="1980" y="239"/>
                  </a:lnTo>
                  <a:lnTo>
                    <a:pt x="1877" y="220"/>
                  </a:lnTo>
                  <a:lnTo>
                    <a:pt x="1774" y="183"/>
                  </a:lnTo>
                  <a:lnTo>
                    <a:pt x="1671" y="165"/>
                  </a:lnTo>
                  <a:lnTo>
                    <a:pt x="1552" y="147"/>
                  </a:lnTo>
                  <a:lnTo>
                    <a:pt x="1450" y="128"/>
                  </a:lnTo>
                  <a:lnTo>
                    <a:pt x="1347" y="111"/>
                  </a:lnTo>
                  <a:lnTo>
                    <a:pt x="1228" y="92"/>
                  </a:lnTo>
                  <a:lnTo>
                    <a:pt x="1126" y="74"/>
                  </a:lnTo>
                  <a:lnTo>
                    <a:pt x="1008" y="56"/>
                  </a:lnTo>
                  <a:lnTo>
                    <a:pt x="904" y="56"/>
                  </a:lnTo>
                  <a:lnTo>
                    <a:pt x="786" y="37"/>
                  </a:lnTo>
                  <a:lnTo>
                    <a:pt x="683" y="19"/>
                  </a:lnTo>
                  <a:lnTo>
                    <a:pt x="564" y="19"/>
                  </a:lnTo>
                  <a:lnTo>
                    <a:pt x="461" y="19"/>
                  </a:lnTo>
                  <a:lnTo>
                    <a:pt x="343" y="0"/>
                  </a:lnTo>
                  <a:lnTo>
                    <a:pt x="239" y="0"/>
                  </a:lnTo>
                  <a:lnTo>
                    <a:pt x="120" y="0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120" y="147"/>
                  </a:lnTo>
                  <a:lnTo>
                    <a:pt x="223" y="147"/>
                  </a:lnTo>
                  <a:lnTo>
                    <a:pt x="343" y="147"/>
                  </a:lnTo>
                  <a:lnTo>
                    <a:pt x="444" y="165"/>
                  </a:lnTo>
                  <a:lnTo>
                    <a:pt x="564" y="165"/>
                  </a:lnTo>
                  <a:lnTo>
                    <a:pt x="667" y="165"/>
                  </a:lnTo>
                  <a:lnTo>
                    <a:pt x="786" y="183"/>
                  </a:lnTo>
                  <a:lnTo>
                    <a:pt x="888" y="183"/>
                  </a:lnTo>
                  <a:lnTo>
                    <a:pt x="989" y="202"/>
                  </a:lnTo>
                  <a:lnTo>
                    <a:pt x="1108" y="220"/>
                  </a:lnTo>
                  <a:lnTo>
                    <a:pt x="1212" y="239"/>
                  </a:lnTo>
                  <a:lnTo>
                    <a:pt x="1313" y="239"/>
                  </a:lnTo>
                  <a:lnTo>
                    <a:pt x="1433" y="257"/>
                  </a:lnTo>
                  <a:lnTo>
                    <a:pt x="1536" y="294"/>
                  </a:lnTo>
                  <a:lnTo>
                    <a:pt x="1637" y="311"/>
                  </a:lnTo>
                  <a:lnTo>
                    <a:pt x="1740" y="330"/>
                  </a:lnTo>
                  <a:lnTo>
                    <a:pt x="1842" y="348"/>
                  </a:lnTo>
                  <a:lnTo>
                    <a:pt x="1945" y="385"/>
                  </a:lnTo>
                  <a:lnTo>
                    <a:pt x="2046" y="422"/>
                  </a:lnTo>
                  <a:lnTo>
                    <a:pt x="2150" y="440"/>
                  </a:lnTo>
                  <a:lnTo>
                    <a:pt x="2252" y="477"/>
                  </a:lnTo>
                  <a:lnTo>
                    <a:pt x="2355" y="514"/>
                  </a:lnTo>
                  <a:lnTo>
                    <a:pt x="2456" y="568"/>
                  </a:lnTo>
                  <a:lnTo>
                    <a:pt x="2559" y="605"/>
                  </a:lnTo>
                  <a:lnTo>
                    <a:pt x="2660" y="642"/>
                  </a:lnTo>
                  <a:lnTo>
                    <a:pt x="2746" y="697"/>
                  </a:lnTo>
                  <a:lnTo>
                    <a:pt x="2849" y="751"/>
                  </a:lnTo>
                  <a:lnTo>
                    <a:pt x="2934" y="807"/>
                  </a:lnTo>
                  <a:lnTo>
                    <a:pt x="3035" y="862"/>
                  </a:lnTo>
                  <a:lnTo>
                    <a:pt x="3121" y="917"/>
                  </a:lnTo>
                  <a:lnTo>
                    <a:pt x="3206" y="990"/>
                  </a:lnTo>
                  <a:lnTo>
                    <a:pt x="3308" y="1045"/>
                  </a:lnTo>
                  <a:lnTo>
                    <a:pt x="3377" y="9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5491080" y="3976560"/>
              <a:ext cx="501840" cy="716040"/>
            </a:xfrm>
            <a:custGeom>
              <a:avLst/>
              <a:gdLst/>
              <a:ahLst/>
              <a:rect l="l" t="t" r="r" b="b"/>
              <a:pathLst>
                <a:path w="1894" h="2712">
                  <a:moveTo>
                    <a:pt x="1843" y="2712"/>
                  </a:moveTo>
                  <a:lnTo>
                    <a:pt x="1894" y="2638"/>
                  </a:lnTo>
                  <a:lnTo>
                    <a:pt x="1877" y="2567"/>
                  </a:lnTo>
                  <a:lnTo>
                    <a:pt x="1860" y="2473"/>
                  </a:lnTo>
                  <a:lnTo>
                    <a:pt x="1843" y="2401"/>
                  </a:lnTo>
                  <a:lnTo>
                    <a:pt x="1825" y="2310"/>
                  </a:lnTo>
                  <a:lnTo>
                    <a:pt x="1792" y="2218"/>
                  </a:lnTo>
                  <a:lnTo>
                    <a:pt x="1774" y="2145"/>
                  </a:lnTo>
                  <a:lnTo>
                    <a:pt x="1723" y="2053"/>
                  </a:lnTo>
                  <a:lnTo>
                    <a:pt x="1689" y="1962"/>
                  </a:lnTo>
                  <a:lnTo>
                    <a:pt x="1654" y="1870"/>
                  </a:lnTo>
                  <a:lnTo>
                    <a:pt x="1604" y="1796"/>
                  </a:lnTo>
                  <a:lnTo>
                    <a:pt x="1553" y="1705"/>
                  </a:lnTo>
                  <a:lnTo>
                    <a:pt x="1501" y="1613"/>
                  </a:lnTo>
                  <a:lnTo>
                    <a:pt x="1450" y="1522"/>
                  </a:lnTo>
                  <a:lnTo>
                    <a:pt x="1399" y="1430"/>
                  </a:lnTo>
                  <a:lnTo>
                    <a:pt x="1330" y="1339"/>
                  </a:lnTo>
                  <a:lnTo>
                    <a:pt x="1280" y="1247"/>
                  </a:lnTo>
                  <a:lnTo>
                    <a:pt x="1211" y="1173"/>
                  </a:lnTo>
                  <a:lnTo>
                    <a:pt x="1144" y="1082"/>
                  </a:lnTo>
                  <a:lnTo>
                    <a:pt x="1075" y="990"/>
                  </a:lnTo>
                  <a:lnTo>
                    <a:pt x="1006" y="917"/>
                  </a:lnTo>
                  <a:lnTo>
                    <a:pt x="939" y="825"/>
                  </a:lnTo>
                  <a:lnTo>
                    <a:pt x="854" y="734"/>
                  </a:lnTo>
                  <a:lnTo>
                    <a:pt x="785" y="660"/>
                  </a:lnTo>
                  <a:lnTo>
                    <a:pt x="716" y="568"/>
                  </a:lnTo>
                  <a:lnTo>
                    <a:pt x="631" y="497"/>
                  </a:lnTo>
                  <a:lnTo>
                    <a:pt x="564" y="422"/>
                  </a:lnTo>
                  <a:lnTo>
                    <a:pt x="479" y="348"/>
                  </a:lnTo>
                  <a:lnTo>
                    <a:pt x="392" y="277"/>
                  </a:lnTo>
                  <a:lnTo>
                    <a:pt x="326" y="202"/>
                  </a:lnTo>
                  <a:lnTo>
                    <a:pt x="240" y="129"/>
                  </a:lnTo>
                  <a:lnTo>
                    <a:pt x="155" y="57"/>
                  </a:lnTo>
                  <a:lnTo>
                    <a:pt x="69" y="0"/>
                  </a:lnTo>
                  <a:lnTo>
                    <a:pt x="0" y="112"/>
                  </a:lnTo>
                  <a:lnTo>
                    <a:pt x="69" y="186"/>
                  </a:lnTo>
                  <a:lnTo>
                    <a:pt x="155" y="240"/>
                  </a:lnTo>
                  <a:lnTo>
                    <a:pt x="240" y="314"/>
                  </a:lnTo>
                  <a:lnTo>
                    <a:pt x="307" y="385"/>
                  </a:lnTo>
                  <a:lnTo>
                    <a:pt x="392" y="459"/>
                  </a:lnTo>
                  <a:lnTo>
                    <a:pt x="461" y="532"/>
                  </a:lnTo>
                  <a:lnTo>
                    <a:pt x="546" y="605"/>
                  </a:lnTo>
                  <a:lnTo>
                    <a:pt x="615" y="679"/>
                  </a:lnTo>
                  <a:lnTo>
                    <a:pt x="684" y="751"/>
                  </a:lnTo>
                  <a:lnTo>
                    <a:pt x="768" y="844"/>
                  </a:lnTo>
                  <a:lnTo>
                    <a:pt x="836" y="917"/>
                  </a:lnTo>
                  <a:lnTo>
                    <a:pt x="905" y="1008"/>
                  </a:lnTo>
                  <a:lnTo>
                    <a:pt x="974" y="1082"/>
                  </a:lnTo>
                  <a:lnTo>
                    <a:pt x="1040" y="1173"/>
                  </a:lnTo>
                  <a:lnTo>
                    <a:pt x="1109" y="1265"/>
                  </a:lnTo>
                  <a:lnTo>
                    <a:pt x="1160" y="1339"/>
                  </a:lnTo>
                  <a:lnTo>
                    <a:pt x="1229" y="1430"/>
                  </a:lnTo>
                  <a:lnTo>
                    <a:pt x="1280" y="1522"/>
                  </a:lnTo>
                  <a:lnTo>
                    <a:pt x="1330" y="1613"/>
                  </a:lnTo>
                  <a:lnTo>
                    <a:pt x="1382" y="1687"/>
                  </a:lnTo>
                  <a:lnTo>
                    <a:pt x="1433" y="1779"/>
                  </a:lnTo>
                  <a:lnTo>
                    <a:pt x="1484" y="1870"/>
                  </a:lnTo>
                  <a:lnTo>
                    <a:pt x="1535" y="1941"/>
                  </a:lnTo>
                  <a:lnTo>
                    <a:pt x="1570" y="2035"/>
                  </a:lnTo>
                  <a:lnTo>
                    <a:pt x="1604" y="2107"/>
                  </a:lnTo>
                  <a:lnTo>
                    <a:pt x="1639" y="2198"/>
                  </a:lnTo>
                  <a:lnTo>
                    <a:pt x="1672" y="2273"/>
                  </a:lnTo>
                  <a:lnTo>
                    <a:pt x="1689" y="2363"/>
                  </a:lnTo>
                  <a:lnTo>
                    <a:pt x="1723" y="2438"/>
                  </a:lnTo>
                  <a:lnTo>
                    <a:pt x="1740" y="2510"/>
                  </a:lnTo>
                  <a:lnTo>
                    <a:pt x="1757" y="2583"/>
                  </a:lnTo>
                  <a:lnTo>
                    <a:pt x="1757" y="2657"/>
                  </a:lnTo>
                  <a:lnTo>
                    <a:pt x="1808" y="2583"/>
                  </a:lnTo>
                  <a:lnTo>
                    <a:pt x="1843" y="27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3546360" y="4659480"/>
              <a:ext cx="2432160" cy="1099800"/>
            </a:xfrm>
            <a:custGeom>
              <a:avLst/>
              <a:gdLst/>
              <a:ahLst/>
              <a:rect l="l" t="t" r="r" b="b"/>
              <a:pathLst>
                <a:path w="9191" h="4157">
                  <a:moveTo>
                    <a:pt x="16" y="4157"/>
                  </a:moveTo>
                  <a:lnTo>
                    <a:pt x="51" y="4157"/>
                  </a:lnTo>
                  <a:lnTo>
                    <a:pt x="340" y="4029"/>
                  </a:lnTo>
                  <a:lnTo>
                    <a:pt x="613" y="3901"/>
                  </a:lnTo>
                  <a:lnTo>
                    <a:pt x="903" y="3775"/>
                  </a:lnTo>
                  <a:lnTo>
                    <a:pt x="1193" y="3664"/>
                  </a:lnTo>
                  <a:lnTo>
                    <a:pt x="1482" y="3536"/>
                  </a:lnTo>
                  <a:lnTo>
                    <a:pt x="1773" y="3407"/>
                  </a:lnTo>
                  <a:lnTo>
                    <a:pt x="2046" y="3279"/>
                  </a:lnTo>
                  <a:lnTo>
                    <a:pt x="2336" y="3151"/>
                  </a:lnTo>
                  <a:lnTo>
                    <a:pt x="2626" y="3022"/>
                  </a:lnTo>
                  <a:lnTo>
                    <a:pt x="2915" y="2895"/>
                  </a:lnTo>
                  <a:lnTo>
                    <a:pt x="3188" y="2767"/>
                  </a:lnTo>
                  <a:lnTo>
                    <a:pt x="3478" y="2656"/>
                  </a:lnTo>
                  <a:lnTo>
                    <a:pt x="3769" y="2528"/>
                  </a:lnTo>
                  <a:lnTo>
                    <a:pt x="4059" y="2399"/>
                  </a:lnTo>
                  <a:lnTo>
                    <a:pt x="4330" y="2271"/>
                  </a:lnTo>
                  <a:lnTo>
                    <a:pt x="4621" y="2145"/>
                  </a:lnTo>
                  <a:lnTo>
                    <a:pt x="4911" y="2016"/>
                  </a:lnTo>
                  <a:lnTo>
                    <a:pt x="5201" y="1888"/>
                  </a:lnTo>
                  <a:lnTo>
                    <a:pt x="5473" y="1760"/>
                  </a:lnTo>
                  <a:lnTo>
                    <a:pt x="5762" y="1648"/>
                  </a:lnTo>
                  <a:lnTo>
                    <a:pt x="6052" y="1520"/>
                  </a:lnTo>
                  <a:lnTo>
                    <a:pt x="6342" y="1394"/>
                  </a:lnTo>
                  <a:lnTo>
                    <a:pt x="6634" y="1265"/>
                  </a:lnTo>
                  <a:lnTo>
                    <a:pt x="6906" y="1137"/>
                  </a:lnTo>
                  <a:lnTo>
                    <a:pt x="7195" y="1008"/>
                  </a:lnTo>
                  <a:lnTo>
                    <a:pt x="7485" y="880"/>
                  </a:lnTo>
                  <a:lnTo>
                    <a:pt x="7775" y="752"/>
                  </a:lnTo>
                  <a:lnTo>
                    <a:pt x="8048" y="623"/>
                  </a:lnTo>
                  <a:lnTo>
                    <a:pt x="8337" y="514"/>
                  </a:lnTo>
                  <a:lnTo>
                    <a:pt x="8628" y="385"/>
                  </a:lnTo>
                  <a:lnTo>
                    <a:pt x="8918" y="257"/>
                  </a:lnTo>
                  <a:lnTo>
                    <a:pt x="9191" y="129"/>
                  </a:lnTo>
                  <a:lnTo>
                    <a:pt x="9156" y="0"/>
                  </a:lnTo>
                  <a:lnTo>
                    <a:pt x="8867" y="110"/>
                  </a:lnTo>
                  <a:lnTo>
                    <a:pt x="8577" y="238"/>
                  </a:lnTo>
                  <a:lnTo>
                    <a:pt x="8287" y="366"/>
                  </a:lnTo>
                  <a:lnTo>
                    <a:pt x="7998" y="495"/>
                  </a:lnTo>
                  <a:lnTo>
                    <a:pt x="7724" y="623"/>
                  </a:lnTo>
                  <a:lnTo>
                    <a:pt x="7434" y="752"/>
                  </a:lnTo>
                  <a:lnTo>
                    <a:pt x="7144" y="880"/>
                  </a:lnTo>
                  <a:lnTo>
                    <a:pt x="6854" y="1008"/>
                  </a:lnTo>
                  <a:lnTo>
                    <a:pt x="6581" y="1118"/>
                  </a:lnTo>
                  <a:lnTo>
                    <a:pt x="6292" y="1246"/>
                  </a:lnTo>
                  <a:lnTo>
                    <a:pt x="6002" y="1375"/>
                  </a:lnTo>
                  <a:lnTo>
                    <a:pt x="5711" y="1503"/>
                  </a:lnTo>
                  <a:lnTo>
                    <a:pt x="5422" y="1631"/>
                  </a:lnTo>
                  <a:lnTo>
                    <a:pt x="5148" y="1760"/>
                  </a:lnTo>
                  <a:lnTo>
                    <a:pt x="4859" y="1888"/>
                  </a:lnTo>
                  <a:lnTo>
                    <a:pt x="4569" y="2016"/>
                  </a:lnTo>
                  <a:lnTo>
                    <a:pt x="4279" y="2125"/>
                  </a:lnTo>
                  <a:lnTo>
                    <a:pt x="4008" y="2253"/>
                  </a:lnTo>
                  <a:lnTo>
                    <a:pt x="3718" y="2381"/>
                  </a:lnTo>
                  <a:lnTo>
                    <a:pt x="3426" y="2510"/>
                  </a:lnTo>
                  <a:lnTo>
                    <a:pt x="3136" y="2638"/>
                  </a:lnTo>
                  <a:lnTo>
                    <a:pt x="2864" y="2767"/>
                  </a:lnTo>
                  <a:lnTo>
                    <a:pt x="2575" y="2895"/>
                  </a:lnTo>
                  <a:lnTo>
                    <a:pt x="2285" y="3022"/>
                  </a:lnTo>
                  <a:lnTo>
                    <a:pt x="1995" y="3151"/>
                  </a:lnTo>
                  <a:lnTo>
                    <a:pt x="1722" y="3261"/>
                  </a:lnTo>
                  <a:lnTo>
                    <a:pt x="1433" y="3389"/>
                  </a:lnTo>
                  <a:lnTo>
                    <a:pt x="1143" y="3518"/>
                  </a:lnTo>
                  <a:lnTo>
                    <a:pt x="853" y="3646"/>
                  </a:lnTo>
                  <a:lnTo>
                    <a:pt x="579" y="3775"/>
                  </a:lnTo>
                  <a:lnTo>
                    <a:pt x="289" y="3901"/>
                  </a:lnTo>
                  <a:lnTo>
                    <a:pt x="0" y="4029"/>
                  </a:lnTo>
                  <a:lnTo>
                    <a:pt x="34" y="4011"/>
                  </a:lnTo>
                  <a:lnTo>
                    <a:pt x="16" y="415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3587760" y="4262400"/>
              <a:ext cx="301680" cy="615960"/>
            </a:xfrm>
            <a:custGeom>
              <a:avLst/>
              <a:gdLst/>
              <a:ahLst/>
              <a:rect l="l" t="t" r="r" b="b"/>
              <a:pathLst>
                <a:path w="1142" h="2326">
                  <a:moveTo>
                    <a:pt x="255" y="2289"/>
                  </a:moveTo>
                  <a:lnTo>
                    <a:pt x="221" y="2161"/>
                  </a:lnTo>
                  <a:lnTo>
                    <a:pt x="204" y="2051"/>
                  </a:lnTo>
                  <a:lnTo>
                    <a:pt x="170" y="1941"/>
                  </a:lnTo>
                  <a:lnTo>
                    <a:pt x="152" y="1850"/>
                  </a:lnTo>
                  <a:lnTo>
                    <a:pt x="135" y="1739"/>
                  </a:lnTo>
                  <a:lnTo>
                    <a:pt x="135" y="1648"/>
                  </a:lnTo>
                  <a:lnTo>
                    <a:pt x="135" y="1538"/>
                  </a:lnTo>
                  <a:lnTo>
                    <a:pt x="135" y="1447"/>
                  </a:lnTo>
                  <a:lnTo>
                    <a:pt x="135" y="1356"/>
                  </a:lnTo>
                  <a:lnTo>
                    <a:pt x="152" y="1265"/>
                  </a:lnTo>
                  <a:lnTo>
                    <a:pt x="152" y="1191"/>
                  </a:lnTo>
                  <a:lnTo>
                    <a:pt x="170" y="1100"/>
                  </a:lnTo>
                  <a:lnTo>
                    <a:pt x="204" y="1025"/>
                  </a:lnTo>
                  <a:lnTo>
                    <a:pt x="221" y="953"/>
                  </a:lnTo>
                  <a:lnTo>
                    <a:pt x="255" y="880"/>
                  </a:lnTo>
                  <a:lnTo>
                    <a:pt x="290" y="806"/>
                  </a:lnTo>
                  <a:lnTo>
                    <a:pt x="324" y="751"/>
                  </a:lnTo>
                  <a:lnTo>
                    <a:pt x="356" y="678"/>
                  </a:lnTo>
                  <a:lnTo>
                    <a:pt x="390" y="623"/>
                  </a:lnTo>
                  <a:lnTo>
                    <a:pt x="443" y="568"/>
                  </a:lnTo>
                  <a:lnTo>
                    <a:pt x="494" y="513"/>
                  </a:lnTo>
                  <a:lnTo>
                    <a:pt x="528" y="458"/>
                  </a:lnTo>
                  <a:lnTo>
                    <a:pt x="579" y="421"/>
                  </a:lnTo>
                  <a:lnTo>
                    <a:pt x="648" y="366"/>
                  </a:lnTo>
                  <a:lnTo>
                    <a:pt x="699" y="329"/>
                  </a:lnTo>
                  <a:lnTo>
                    <a:pt x="749" y="294"/>
                  </a:lnTo>
                  <a:lnTo>
                    <a:pt x="818" y="257"/>
                  </a:lnTo>
                  <a:lnTo>
                    <a:pt x="886" y="238"/>
                  </a:lnTo>
                  <a:lnTo>
                    <a:pt x="938" y="202"/>
                  </a:lnTo>
                  <a:lnTo>
                    <a:pt x="1004" y="183"/>
                  </a:lnTo>
                  <a:lnTo>
                    <a:pt x="1073" y="165"/>
                  </a:lnTo>
                  <a:lnTo>
                    <a:pt x="1142" y="146"/>
                  </a:lnTo>
                  <a:lnTo>
                    <a:pt x="1124" y="0"/>
                  </a:lnTo>
                  <a:lnTo>
                    <a:pt x="1039" y="18"/>
                  </a:lnTo>
                  <a:lnTo>
                    <a:pt x="970" y="37"/>
                  </a:lnTo>
                  <a:lnTo>
                    <a:pt x="903" y="74"/>
                  </a:lnTo>
                  <a:lnTo>
                    <a:pt x="818" y="91"/>
                  </a:lnTo>
                  <a:lnTo>
                    <a:pt x="749" y="128"/>
                  </a:lnTo>
                  <a:lnTo>
                    <a:pt x="699" y="165"/>
                  </a:lnTo>
                  <a:lnTo>
                    <a:pt x="630" y="202"/>
                  </a:lnTo>
                  <a:lnTo>
                    <a:pt x="561" y="257"/>
                  </a:lnTo>
                  <a:lnTo>
                    <a:pt x="510" y="311"/>
                  </a:lnTo>
                  <a:lnTo>
                    <a:pt x="443" y="348"/>
                  </a:lnTo>
                  <a:lnTo>
                    <a:pt x="390" y="421"/>
                  </a:lnTo>
                  <a:lnTo>
                    <a:pt x="341" y="477"/>
                  </a:lnTo>
                  <a:lnTo>
                    <a:pt x="290" y="531"/>
                  </a:lnTo>
                  <a:lnTo>
                    <a:pt x="239" y="605"/>
                  </a:lnTo>
                  <a:lnTo>
                    <a:pt x="204" y="678"/>
                  </a:lnTo>
                  <a:lnTo>
                    <a:pt x="170" y="751"/>
                  </a:lnTo>
                  <a:lnTo>
                    <a:pt x="119" y="825"/>
                  </a:lnTo>
                  <a:lnTo>
                    <a:pt x="101" y="896"/>
                  </a:lnTo>
                  <a:lnTo>
                    <a:pt x="66" y="988"/>
                  </a:lnTo>
                  <a:lnTo>
                    <a:pt x="50" y="1063"/>
                  </a:lnTo>
                  <a:lnTo>
                    <a:pt x="15" y="1153"/>
                  </a:lnTo>
                  <a:lnTo>
                    <a:pt x="15" y="1245"/>
                  </a:lnTo>
                  <a:lnTo>
                    <a:pt x="0" y="1336"/>
                  </a:lnTo>
                  <a:lnTo>
                    <a:pt x="0" y="1447"/>
                  </a:lnTo>
                  <a:lnTo>
                    <a:pt x="0" y="1538"/>
                  </a:lnTo>
                  <a:lnTo>
                    <a:pt x="0" y="1648"/>
                  </a:lnTo>
                  <a:lnTo>
                    <a:pt x="15" y="1758"/>
                  </a:lnTo>
                  <a:lnTo>
                    <a:pt x="15" y="1867"/>
                  </a:lnTo>
                  <a:lnTo>
                    <a:pt x="34" y="1978"/>
                  </a:lnTo>
                  <a:lnTo>
                    <a:pt x="66" y="2087"/>
                  </a:lnTo>
                  <a:lnTo>
                    <a:pt x="101" y="2216"/>
                  </a:lnTo>
                  <a:lnTo>
                    <a:pt x="135" y="2326"/>
                  </a:lnTo>
                  <a:lnTo>
                    <a:pt x="255" y="228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3379680" y="4687920"/>
              <a:ext cx="1474920" cy="776160"/>
            </a:xfrm>
            <a:custGeom>
              <a:avLst/>
              <a:gdLst/>
              <a:ahLst/>
              <a:rect l="l" t="t" r="r" b="b"/>
              <a:pathLst>
                <a:path w="5575" h="2931">
                  <a:moveTo>
                    <a:pt x="4655" y="220"/>
                  </a:moveTo>
                  <a:lnTo>
                    <a:pt x="4604" y="202"/>
                  </a:lnTo>
                  <a:lnTo>
                    <a:pt x="4535" y="202"/>
                  </a:lnTo>
                  <a:lnTo>
                    <a:pt x="4484" y="184"/>
                  </a:lnTo>
                  <a:lnTo>
                    <a:pt x="4415" y="165"/>
                  </a:lnTo>
                  <a:lnTo>
                    <a:pt x="4366" y="165"/>
                  </a:lnTo>
                  <a:lnTo>
                    <a:pt x="4297" y="147"/>
                  </a:lnTo>
                  <a:lnTo>
                    <a:pt x="4246" y="128"/>
                  </a:lnTo>
                  <a:lnTo>
                    <a:pt x="4177" y="128"/>
                  </a:lnTo>
                  <a:lnTo>
                    <a:pt x="4126" y="110"/>
                  </a:lnTo>
                  <a:lnTo>
                    <a:pt x="4057" y="110"/>
                  </a:lnTo>
                  <a:lnTo>
                    <a:pt x="4007" y="92"/>
                  </a:lnTo>
                  <a:lnTo>
                    <a:pt x="3939" y="92"/>
                  </a:lnTo>
                  <a:lnTo>
                    <a:pt x="3887" y="73"/>
                  </a:lnTo>
                  <a:lnTo>
                    <a:pt x="3819" y="73"/>
                  </a:lnTo>
                  <a:lnTo>
                    <a:pt x="3767" y="56"/>
                  </a:lnTo>
                  <a:lnTo>
                    <a:pt x="3717" y="56"/>
                  </a:lnTo>
                  <a:lnTo>
                    <a:pt x="3650" y="37"/>
                  </a:lnTo>
                  <a:lnTo>
                    <a:pt x="3597" y="37"/>
                  </a:lnTo>
                  <a:lnTo>
                    <a:pt x="3530" y="37"/>
                  </a:lnTo>
                  <a:lnTo>
                    <a:pt x="3477" y="19"/>
                  </a:lnTo>
                  <a:lnTo>
                    <a:pt x="3411" y="19"/>
                  </a:lnTo>
                  <a:lnTo>
                    <a:pt x="3359" y="19"/>
                  </a:lnTo>
                  <a:lnTo>
                    <a:pt x="3291" y="19"/>
                  </a:lnTo>
                  <a:lnTo>
                    <a:pt x="3240" y="19"/>
                  </a:lnTo>
                  <a:lnTo>
                    <a:pt x="3171" y="0"/>
                  </a:lnTo>
                  <a:lnTo>
                    <a:pt x="3121" y="0"/>
                  </a:lnTo>
                  <a:lnTo>
                    <a:pt x="3052" y="0"/>
                  </a:lnTo>
                  <a:lnTo>
                    <a:pt x="3001" y="0"/>
                  </a:lnTo>
                  <a:lnTo>
                    <a:pt x="2949" y="0"/>
                  </a:lnTo>
                  <a:lnTo>
                    <a:pt x="2882" y="0"/>
                  </a:lnTo>
                  <a:lnTo>
                    <a:pt x="2830" y="0"/>
                  </a:lnTo>
                  <a:lnTo>
                    <a:pt x="2763" y="19"/>
                  </a:lnTo>
                  <a:lnTo>
                    <a:pt x="2694" y="19"/>
                  </a:lnTo>
                  <a:lnTo>
                    <a:pt x="2643" y="19"/>
                  </a:lnTo>
                  <a:lnTo>
                    <a:pt x="2574" y="19"/>
                  </a:lnTo>
                  <a:lnTo>
                    <a:pt x="2506" y="19"/>
                  </a:lnTo>
                  <a:lnTo>
                    <a:pt x="2454" y="37"/>
                  </a:lnTo>
                  <a:lnTo>
                    <a:pt x="2388" y="37"/>
                  </a:lnTo>
                  <a:lnTo>
                    <a:pt x="2319" y="37"/>
                  </a:lnTo>
                  <a:lnTo>
                    <a:pt x="2268" y="37"/>
                  </a:lnTo>
                  <a:lnTo>
                    <a:pt x="2199" y="56"/>
                  </a:lnTo>
                  <a:lnTo>
                    <a:pt x="2132" y="56"/>
                  </a:lnTo>
                  <a:lnTo>
                    <a:pt x="2064" y="56"/>
                  </a:lnTo>
                  <a:lnTo>
                    <a:pt x="2012" y="73"/>
                  </a:lnTo>
                  <a:lnTo>
                    <a:pt x="1944" y="73"/>
                  </a:lnTo>
                  <a:lnTo>
                    <a:pt x="1875" y="92"/>
                  </a:lnTo>
                  <a:lnTo>
                    <a:pt x="1824" y="92"/>
                  </a:lnTo>
                  <a:lnTo>
                    <a:pt x="1755" y="110"/>
                  </a:lnTo>
                  <a:lnTo>
                    <a:pt x="1688" y="110"/>
                  </a:lnTo>
                  <a:lnTo>
                    <a:pt x="1637" y="128"/>
                  </a:lnTo>
                  <a:lnTo>
                    <a:pt x="1568" y="128"/>
                  </a:lnTo>
                  <a:lnTo>
                    <a:pt x="1500" y="147"/>
                  </a:lnTo>
                  <a:lnTo>
                    <a:pt x="1450" y="165"/>
                  </a:lnTo>
                  <a:lnTo>
                    <a:pt x="1381" y="184"/>
                  </a:lnTo>
                  <a:lnTo>
                    <a:pt x="1330" y="202"/>
                  </a:lnTo>
                  <a:lnTo>
                    <a:pt x="1261" y="220"/>
                  </a:lnTo>
                  <a:lnTo>
                    <a:pt x="1210" y="239"/>
                  </a:lnTo>
                  <a:lnTo>
                    <a:pt x="1141" y="256"/>
                  </a:lnTo>
                  <a:lnTo>
                    <a:pt x="1091" y="275"/>
                  </a:lnTo>
                  <a:lnTo>
                    <a:pt x="1024" y="312"/>
                  </a:lnTo>
                  <a:lnTo>
                    <a:pt x="971" y="330"/>
                  </a:lnTo>
                  <a:lnTo>
                    <a:pt x="920" y="367"/>
                  </a:lnTo>
                  <a:lnTo>
                    <a:pt x="851" y="385"/>
                  </a:lnTo>
                  <a:lnTo>
                    <a:pt x="800" y="422"/>
                  </a:lnTo>
                  <a:lnTo>
                    <a:pt x="734" y="459"/>
                  </a:lnTo>
                  <a:lnTo>
                    <a:pt x="665" y="513"/>
                  </a:lnTo>
                  <a:lnTo>
                    <a:pt x="596" y="568"/>
                  </a:lnTo>
                  <a:lnTo>
                    <a:pt x="530" y="624"/>
                  </a:lnTo>
                  <a:lnTo>
                    <a:pt x="461" y="678"/>
                  </a:lnTo>
                  <a:lnTo>
                    <a:pt x="410" y="751"/>
                  </a:lnTo>
                  <a:lnTo>
                    <a:pt x="341" y="825"/>
                  </a:lnTo>
                  <a:lnTo>
                    <a:pt x="290" y="898"/>
                  </a:lnTo>
                  <a:lnTo>
                    <a:pt x="238" y="971"/>
                  </a:lnTo>
                  <a:lnTo>
                    <a:pt x="206" y="1045"/>
                  </a:lnTo>
                  <a:lnTo>
                    <a:pt x="152" y="1136"/>
                  </a:lnTo>
                  <a:lnTo>
                    <a:pt x="120" y="1210"/>
                  </a:lnTo>
                  <a:lnTo>
                    <a:pt x="86" y="1301"/>
                  </a:lnTo>
                  <a:lnTo>
                    <a:pt x="51" y="1393"/>
                  </a:lnTo>
                  <a:lnTo>
                    <a:pt x="33" y="1467"/>
                  </a:lnTo>
                  <a:lnTo>
                    <a:pt x="17" y="1558"/>
                  </a:lnTo>
                  <a:lnTo>
                    <a:pt x="17" y="1629"/>
                  </a:lnTo>
                  <a:lnTo>
                    <a:pt x="0" y="1703"/>
                  </a:lnTo>
                  <a:lnTo>
                    <a:pt x="0" y="1778"/>
                  </a:lnTo>
                  <a:lnTo>
                    <a:pt x="17" y="1868"/>
                  </a:lnTo>
                  <a:lnTo>
                    <a:pt x="33" y="1941"/>
                  </a:lnTo>
                  <a:lnTo>
                    <a:pt x="51" y="2015"/>
                  </a:lnTo>
                  <a:lnTo>
                    <a:pt x="68" y="2088"/>
                  </a:lnTo>
                  <a:lnTo>
                    <a:pt x="86" y="2161"/>
                  </a:lnTo>
                  <a:lnTo>
                    <a:pt x="120" y="2235"/>
                  </a:lnTo>
                  <a:lnTo>
                    <a:pt x="152" y="2308"/>
                  </a:lnTo>
                  <a:lnTo>
                    <a:pt x="187" y="2381"/>
                  </a:lnTo>
                  <a:lnTo>
                    <a:pt x="221" y="2437"/>
                  </a:lnTo>
                  <a:lnTo>
                    <a:pt x="272" y="2509"/>
                  </a:lnTo>
                  <a:lnTo>
                    <a:pt x="324" y="2583"/>
                  </a:lnTo>
                  <a:lnTo>
                    <a:pt x="358" y="2638"/>
                  </a:lnTo>
                  <a:lnTo>
                    <a:pt x="410" y="2711"/>
                  </a:lnTo>
                  <a:lnTo>
                    <a:pt x="461" y="2711"/>
                  </a:lnTo>
                  <a:lnTo>
                    <a:pt x="495" y="2711"/>
                  </a:lnTo>
                  <a:lnTo>
                    <a:pt x="545" y="2729"/>
                  </a:lnTo>
                  <a:lnTo>
                    <a:pt x="580" y="2729"/>
                  </a:lnTo>
                  <a:lnTo>
                    <a:pt x="631" y="2748"/>
                  </a:lnTo>
                  <a:lnTo>
                    <a:pt x="665" y="2748"/>
                  </a:lnTo>
                  <a:lnTo>
                    <a:pt x="716" y="2748"/>
                  </a:lnTo>
                  <a:lnTo>
                    <a:pt x="750" y="2766"/>
                  </a:lnTo>
                  <a:lnTo>
                    <a:pt x="800" y="2766"/>
                  </a:lnTo>
                  <a:lnTo>
                    <a:pt x="835" y="2785"/>
                  </a:lnTo>
                  <a:lnTo>
                    <a:pt x="869" y="2785"/>
                  </a:lnTo>
                  <a:lnTo>
                    <a:pt x="920" y="2785"/>
                  </a:lnTo>
                  <a:lnTo>
                    <a:pt x="955" y="2803"/>
                  </a:lnTo>
                  <a:lnTo>
                    <a:pt x="1006" y="2803"/>
                  </a:lnTo>
                  <a:lnTo>
                    <a:pt x="1040" y="2821"/>
                  </a:lnTo>
                  <a:lnTo>
                    <a:pt x="1091" y="2821"/>
                  </a:lnTo>
                  <a:lnTo>
                    <a:pt x="1126" y="2821"/>
                  </a:lnTo>
                  <a:lnTo>
                    <a:pt x="1175" y="2840"/>
                  </a:lnTo>
                  <a:lnTo>
                    <a:pt x="1210" y="2840"/>
                  </a:lnTo>
                  <a:lnTo>
                    <a:pt x="1261" y="2857"/>
                  </a:lnTo>
                  <a:lnTo>
                    <a:pt x="1295" y="2857"/>
                  </a:lnTo>
                  <a:lnTo>
                    <a:pt x="1346" y="2857"/>
                  </a:lnTo>
                  <a:lnTo>
                    <a:pt x="1381" y="2876"/>
                  </a:lnTo>
                  <a:lnTo>
                    <a:pt x="1433" y="2876"/>
                  </a:lnTo>
                  <a:lnTo>
                    <a:pt x="1465" y="2876"/>
                  </a:lnTo>
                  <a:lnTo>
                    <a:pt x="1517" y="2894"/>
                  </a:lnTo>
                  <a:lnTo>
                    <a:pt x="1551" y="2894"/>
                  </a:lnTo>
                  <a:lnTo>
                    <a:pt x="1603" y="2912"/>
                  </a:lnTo>
                  <a:lnTo>
                    <a:pt x="1637" y="2912"/>
                  </a:lnTo>
                  <a:lnTo>
                    <a:pt x="1688" y="2912"/>
                  </a:lnTo>
                  <a:lnTo>
                    <a:pt x="1723" y="2931"/>
                  </a:lnTo>
                  <a:lnTo>
                    <a:pt x="1774" y="2931"/>
                  </a:lnTo>
                  <a:lnTo>
                    <a:pt x="1875" y="2894"/>
                  </a:lnTo>
                  <a:lnTo>
                    <a:pt x="2012" y="2840"/>
                  </a:lnTo>
                  <a:lnTo>
                    <a:pt x="2113" y="2803"/>
                  </a:lnTo>
                  <a:lnTo>
                    <a:pt x="2233" y="2748"/>
                  </a:lnTo>
                  <a:lnTo>
                    <a:pt x="2353" y="2711"/>
                  </a:lnTo>
                  <a:lnTo>
                    <a:pt x="2472" y="2657"/>
                  </a:lnTo>
                  <a:lnTo>
                    <a:pt x="2592" y="2620"/>
                  </a:lnTo>
                  <a:lnTo>
                    <a:pt x="2712" y="2565"/>
                  </a:lnTo>
                  <a:lnTo>
                    <a:pt x="2830" y="2528"/>
                  </a:lnTo>
                  <a:lnTo>
                    <a:pt x="2949" y="2473"/>
                  </a:lnTo>
                  <a:lnTo>
                    <a:pt x="3068" y="2437"/>
                  </a:lnTo>
                  <a:lnTo>
                    <a:pt x="3188" y="2400"/>
                  </a:lnTo>
                  <a:lnTo>
                    <a:pt x="3308" y="2345"/>
                  </a:lnTo>
                  <a:lnTo>
                    <a:pt x="3426" y="2308"/>
                  </a:lnTo>
                  <a:lnTo>
                    <a:pt x="3546" y="2254"/>
                  </a:lnTo>
                  <a:lnTo>
                    <a:pt x="3666" y="2217"/>
                  </a:lnTo>
                  <a:lnTo>
                    <a:pt x="3785" y="2161"/>
                  </a:lnTo>
                  <a:lnTo>
                    <a:pt x="3905" y="2125"/>
                  </a:lnTo>
                  <a:lnTo>
                    <a:pt x="4025" y="2069"/>
                  </a:lnTo>
                  <a:lnTo>
                    <a:pt x="4143" y="2035"/>
                  </a:lnTo>
                  <a:lnTo>
                    <a:pt x="4262" y="1978"/>
                  </a:lnTo>
                  <a:lnTo>
                    <a:pt x="4381" y="1941"/>
                  </a:lnTo>
                  <a:lnTo>
                    <a:pt x="4501" y="1906"/>
                  </a:lnTo>
                  <a:lnTo>
                    <a:pt x="4621" y="1849"/>
                  </a:lnTo>
                  <a:lnTo>
                    <a:pt x="4739" y="1815"/>
                  </a:lnTo>
                  <a:lnTo>
                    <a:pt x="4859" y="1758"/>
                  </a:lnTo>
                  <a:lnTo>
                    <a:pt x="4979" y="1723"/>
                  </a:lnTo>
                  <a:lnTo>
                    <a:pt x="5098" y="1666"/>
                  </a:lnTo>
                  <a:lnTo>
                    <a:pt x="5218" y="1629"/>
                  </a:lnTo>
                  <a:lnTo>
                    <a:pt x="5338" y="1575"/>
                  </a:lnTo>
                  <a:lnTo>
                    <a:pt x="5457" y="1538"/>
                  </a:lnTo>
                  <a:lnTo>
                    <a:pt x="5575" y="1484"/>
                  </a:lnTo>
                  <a:lnTo>
                    <a:pt x="5508" y="1410"/>
                  </a:lnTo>
                  <a:lnTo>
                    <a:pt x="5457" y="1338"/>
                  </a:lnTo>
                  <a:lnTo>
                    <a:pt x="5404" y="1247"/>
                  </a:lnTo>
                  <a:lnTo>
                    <a:pt x="5338" y="1173"/>
                  </a:lnTo>
                  <a:lnTo>
                    <a:pt x="5286" y="1099"/>
                  </a:lnTo>
                  <a:lnTo>
                    <a:pt x="5235" y="1008"/>
                  </a:lnTo>
                  <a:lnTo>
                    <a:pt x="5166" y="935"/>
                  </a:lnTo>
                  <a:lnTo>
                    <a:pt x="5115" y="862"/>
                  </a:lnTo>
                  <a:lnTo>
                    <a:pt x="5064" y="770"/>
                  </a:lnTo>
                  <a:lnTo>
                    <a:pt x="4996" y="696"/>
                  </a:lnTo>
                  <a:lnTo>
                    <a:pt x="4945" y="624"/>
                  </a:lnTo>
                  <a:lnTo>
                    <a:pt x="4876" y="532"/>
                  </a:lnTo>
                  <a:lnTo>
                    <a:pt x="4825" y="459"/>
                  </a:lnTo>
                  <a:lnTo>
                    <a:pt x="4774" y="385"/>
                  </a:lnTo>
                  <a:lnTo>
                    <a:pt x="4705" y="312"/>
                  </a:lnTo>
                  <a:lnTo>
                    <a:pt x="4655" y="2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4111560" y="4668840"/>
              <a:ext cx="504720" cy="96840"/>
            </a:xfrm>
            <a:custGeom>
              <a:avLst/>
              <a:gdLst/>
              <a:ahLst/>
              <a:rect l="l" t="t" r="r" b="b"/>
              <a:pathLst>
                <a:path w="1908" h="366">
                  <a:moveTo>
                    <a:pt x="0" y="165"/>
                  </a:moveTo>
                  <a:lnTo>
                    <a:pt x="67" y="165"/>
                  </a:lnTo>
                  <a:lnTo>
                    <a:pt x="119" y="146"/>
                  </a:lnTo>
                  <a:lnTo>
                    <a:pt x="186" y="146"/>
                  </a:lnTo>
                  <a:lnTo>
                    <a:pt x="238" y="146"/>
                  </a:lnTo>
                  <a:lnTo>
                    <a:pt x="289" y="146"/>
                  </a:lnTo>
                  <a:lnTo>
                    <a:pt x="358" y="146"/>
                  </a:lnTo>
                  <a:lnTo>
                    <a:pt x="408" y="165"/>
                  </a:lnTo>
                  <a:lnTo>
                    <a:pt x="477" y="165"/>
                  </a:lnTo>
                  <a:lnTo>
                    <a:pt x="528" y="165"/>
                  </a:lnTo>
                  <a:lnTo>
                    <a:pt x="596" y="165"/>
                  </a:lnTo>
                  <a:lnTo>
                    <a:pt x="648" y="165"/>
                  </a:lnTo>
                  <a:lnTo>
                    <a:pt x="698" y="165"/>
                  </a:lnTo>
                  <a:lnTo>
                    <a:pt x="767" y="183"/>
                  </a:lnTo>
                  <a:lnTo>
                    <a:pt x="818" y="183"/>
                  </a:lnTo>
                  <a:lnTo>
                    <a:pt x="887" y="183"/>
                  </a:lnTo>
                  <a:lnTo>
                    <a:pt x="938" y="201"/>
                  </a:lnTo>
                  <a:lnTo>
                    <a:pt x="1004" y="201"/>
                  </a:lnTo>
                  <a:lnTo>
                    <a:pt x="1056" y="220"/>
                  </a:lnTo>
                  <a:lnTo>
                    <a:pt x="1107" y="220"/>
                  </a:lnTo>
                  <a:lnTo>
                    <a:pt x="1176" y="238"/>
                  </a:lnTo>
                  <a:lnTo>
                    <a:pt x="1227" y="238"/>
                  </a:lnTo>
                  <a:lnTo>
                    <a:pt x="1294" y="257"/>
                  </a:lnTo>
                  <a:lnTo>
                    <a:pt x="1346" y="257"/>
                  </a:lnTo>
                  <a:lnTo>
                    <a:pt x="1414" y="275"/>
                  </a:lnTo>
                  <a:lnTo>
                    <a:pt x="1466" y="275"/>
                  </a:lnTo>
                  <a:lnTo>
                    <a:pt x="1517" y="293"/>
                  </a:lnTo>
                  <a:lnTo>
                    <a:pt x="1586" y="312"/>
                  </a:lnTo>
                  <a:lnTo>
                    <a:pt x="1637" y="312"/>
                  </a:lnTo>
                  <a:lnTo>
                    <a:pt x="1703" y="329"/>
                  </a:lnTo>
                  <a:lnTo>
                    <a:pt x="1756" y="348"/>
                  </a:lnTo>
                  <a:lnTo>
                    <a:pt x="1823" y="348"/>
                  </a:lnTo>
                  <a:lnTo>
                    <a:pt x="1876" y="366"/>
                  </a:lnTo>
                  <a:lnTo>
                    <a:pt x="1908" y="220"/>
                  </a:lnTo>
                  <a:lnTo>
                    <a:pt x="1841" y="201"/>
                  </a:lnTo>
                  <a:lnTo>
                    <a:pt x="1790" y="201"/>
                  </a:lnTo>
                  <a:lnTo>
                    <a:pt x="1721" y="183"/>
                  </a:lnTo>
                  <a:lnTo>
                    <a:pt x="1671" y="165"/>
                  </a:lnTo>
                  <a:lnTo>
                    <a:pt x="1603" y="165"/>
                  </a:lnTo>
                  <a:lnTo>
                    <a:pt x="1551" y="146"/>
                  </a:lnTo>
                  <a:lnTo>
                    <a:pt x="1499" y="146"/>
                  </a:lnTo>
                  <a:lnTo>
                    <a:pt x="1432" y="129"/>
                  </a:lnTo>
                  <a:lnTo>
                    <a:pt x="1363" y="110"/>
                  </a:lnTo>
                  <a:lnTo>
                    <a:pt x="1313" y="110"/>
                  </a:lnTo>
                  <a:lnTo>
                    <a:pt x="1262" y="92"/>
                  </a:lnTo>
                  <a:lnTo>
                    <a:pt x="1193" y="92"/>
                  </a:lnTo>
                  <a:lnTo>
                    <a:pt x="1142" y="73"/>
                  </a:lnTo>
                  <a:lnTo>
                    <a:pt x="1073" y="73"/>
                  </a:lnTo>
                  <a:lnTo>
                    <a:pt x="1022" y="55"/>
                  </a:lnTo>
                  <a:lnTo>
                    <a:pt x="954" y="55"/>
                  </a:lnTo>
                  <a:lnTo>
                    <a:pt x="903" y="55"/>
                  </a:lnTo>
                  <a:lnTo>
                    <a:pt x="834" y="37"/>
                  </a:lnTo>
                  <a:lnTo>
                    <a:pt x="783" y="37"/>
                  </a:lnTo>
                  <a:lnTo>
                    <a:pt x="714" y="18"/>
                  </a:lnTo>
                  <a:lnTo>
                    <a:pt x="648" y="18"/>
                  </a:lnTo>
                  <a:lnTo>
                    <a:pt x="596" y="18"/>
                  </a:lnTo>
                  <a:lnTo>
                    <a:pt x="545" y="18"/>
                  </a:lnTo>
                  <a:lnTo>
                    <a:pt x="477" y="18"/>
                  </a:lnTo>
                  <a:lnTo>
                    <a:pt x="425" y="0"/>
                  </a:lnTo>
                  <a:lnTo>
                    <a:pt x="358" y="0"/>
                  </a:lnTo>
                  <a:lnTo>
                    <a:pt x="289" y="0"/>
                  </a:lnTo>
                  <a:lnTo>
                    <a:pt x="238" y="0"/>
                  </a:lnTo>
                  <a:lnTo>
                    <a:pt x="186" y="0"/>
                  </a:lnTo>
                  <a:lnTo>
                    <a:pt x="119" y="0"/>
                  </a:lnTo>
                  <a:lnTo>
                    <a:pt x="67" y="0"/>
                  </a:lnTo>
                  <a:lnTo>
                    <a:pt x="0" y="18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3583080" y="4673520"/>
              <a:ext cx="528480" cy="141480"/>
            </a:xfrm>
            <a:custGeom>
              <a:avLst/>
              <a:gdLst/>
              <a:ahLst/>
              <a:rect l="l" t="t" r="r" b="b"/>
              <a:pathLst>
                <a:path w="1996" h="531">
                  <a:moveTo>
                    <a:pt x="68" y="531"/>
                  </a:moveTo>
                  <a:lnTo>
                    <a:pt x="119" y="514"/>
                  </a:lnTo>
                  <a:lnTo>
                    <a:pt x="170" y="477"/>
                  </a:lnTo>
                  <a:lnTo>
                    <a:pt x="239" y="459"/>
                  </a:lnTo>
                  <a:lnTo>
                    <a:pt x="290" y="422"/>
                  </a:lnTo>
                  <a:lnTo>
                    <a:pt x="342" y="403"/>
                  </a:lnTo>
                  <a:lnTo>
                    <a:pt x="392" y="385"/>
                  </a:lnTo>
                  <a:lnTo>
                    <a:pt x="461" y="367"/>
                  </a:lnTo>
                  <a:lnTo>
                    <a:pt x="512" y="348"/>
                  </a:lnTo>
                  <a:lnTo>
                    <a:pt x="579" y="330"/>
                  </a:lnTo>
                  <a:lnTo>
                    <a:pt x="632" y="311"/>
                  </a:lnTo>
                  <a:lnTo>
                    <a:pt x="698" y="294"/>
                  </a:lnTo>
                  <a:lnTo>
                    <a:pt x="750" y="275"/>
                  </a:lnTo>
                  <a:lnTo>
                    <a:pt x="818" y="257"/>
                  </a:lnTo>
                  <a:lnTo>
                    <a:pt x="870" y="257"/>
                  </a:lnTo>
                  <a:lnTo>
                    <a:pt x="938" y="239"/>
                  </a:lnTo>
                  <a:lnTo>
                    <a:pt x="1007" y="239"/>
                  </a:lnTo>
                  <a:lnTo>
                    <a:pt x="1057" y="220"/>
                  </a:lnTo>
                  <a:lnTo>
                    <a:pt x="1126" y="202"/>
                  </a:lnTo>
                  <a:lnTo>
                    <a:pt x="1193" y="202"/>
                  </a:lnTo>
                  <a:lnTo>
                    <a:pt x="1245" y="183"/>
                  </a:lnTo>
                  <a:lnTo>
                    <a:pt x="1312" y="183"/>
                  </a:lnTo>
                  <a:lnTo>
                    <a:pt x="1365" y="183"/>
                  </a:lnTo>
                  <a:lnTo>
                    <a:pt x="1432" y="183"/>
                  </a:lnTo>
                  <a:lnTo>
                    <a:pt x="1501" y="165"/>
                  </a:lnTo>
                  <a:lnTo>
                    <a:pt x="1570" y="165"/>
                  </a:lnTo>
                  <a:lnTo>
                    <a:pt x="1621" y="165"/>
                  </a:lnTo>
                  <a:lnTo>
                    <a:pt x="1687" y="147"/>
                  </a:lnTo>
                  <a:lnTo>
                    <a:pt x="1756" y="147"/>
                  </a:lnTo>
                  <a:lnTo>
                    <a:pt x="1807" y="147"/>
                  </a:lnTo>
                  <a:lnTo>
                    <a:pt x="1876" y="147"/>
                  </a:lnTo>
                  <a:lnTo>
                    <a:pt x="1945" y="147"/>
                  </a:lnTo>
                  <a:lnTo>
                    <a:pt x="1996" y="147"/>
                  </a:lnTo>
                  <a:lnTo>
                    <a:pt x="1996" y="0"/>
                  </a:lnTo>
                  <a:lnTo>
                    <a:pt x="1927" y="0"/>
                  </a:lnTo>
                  <a:lnTo>
                    <a:pt x="1876" y="0"/>
                  </a:lnTo>
                  <a:lnTo>
                    <a:pt x="1807" y="0"/>
                  </a:lnTo>
                  <a:lnTo>
                    <a:pt x="1739" y="0"/>
                  </a:lnTo>
                  <a:lnTo>
                    <a:pt x="1670" y="19"/>
                  </a:lnTo>
                  <a:lnTo>
                    <a:pt x="1621" y="19"/>
                  </a:lnTo>
                  <a:lnTo>
                    <a:pt x="1552" y="19"/>
                  </a:lnTo>
                  <a:lnTo>
                    <a:pt x="1483" y="19"/>
                  </a:lnTo>
                  <a:lnTo>
                    <a:pt x="1432" y="37"/>
                  </a:lnTo>
                  <a:lnTo>
                    <a:pt x="1365" y="37"/>
                  </a:lnTo>
                  <a:lnTo>
                    <a:pt x="1297" y="37"/>
                  </a:lnTo>
                  <a:lnTo>
                    <a:pt x="1228" y="55"/>
                  </a:lnTo>
                  <a:lnTo>
                    <a:pt x="1160" y="55"/>
                  </a:lnTo>
                  <a:lnTo>
                    <a:pt x="1108" y="74"/>
                  </a:lnTo>
                  <a:lnTo>
                    <a:pt x="1041" y="74"/>
                  </a:lnTo>
                  <a:lnTo>
                    <a:pt x="972" y="92"/>
                  </a:lnTo>
                  <a:lnTo>
                    <a:pt x="921" y="92"/>
                  </a:lnTo>
                  <a:lnTo>
                    <a:pt x="853" y="111"/>
                  </a:lnTo>
                  <a:lnTo>
                    <a:pt x="784" y="128"/>
                  </a:lnTo>
                  <a:lnTo>
                    <a:pt x="733" y="128"/>
                  </a:lnTo>
                  <a:lnTo>
                    <a:pt x="666" y="147"/>
                  </a:lnTo>
                  <a:lnTo>
                    <a:pt x="597" y="165"/>
                  </a:lnTo>
                  <a:lnTo>
                    <a:pt x="546" y="183"/>
                  </a:lnTo>
                  <a:lnTo>
                    <a:pt x="477" y="202"/>
                  </a:lnTo>
                  <a:lnTo>
                    <a:pt x="408" y="220"/>
                  </a:lnTo>
                  <a:lnTo>
                    <a:pt x="359" y="239"/>
                  </a:lnTo>
                  <a:lnTo>
                    <a:pt x="290" y="275"/>
                  </a:lnTo>
                  <a:lnTo>
                    <a:pt x="239" y="294"/>
                  </a:lnTo>
                  <a:lnTo>
                    <a:pt x="170" y="311"/>
                  </a:lnTo>
                  <a:lnTo>
                    <a:pt x="119" y="348"/>
                  </a:lnTo>
                  <a:lnTo>
                    <a:pt x="68" y="367"/>
                  </a:lnTo>
                  <a:lnTo>
                    <a:pt x="0" y="403"/>
                  </a:lnTo>
                  <a:lnTo>
                    <a:pt x="68" y="5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3365640" y="4780080"/>
              <a:ext cx="234720" cy="325440"/>
            </a:xfrm>
            <a:custGeom>
              <a:avLst/>
              <a:gdLst/>
              <a:ahLst/>
              <a:rect l="l" t="t" r="r" b="b"/>
              <a:pathLst>
                <a:path w="887" h="1227">
                  <a:moveTo>
                    <a:pt x="138" y="1227"/>
                  </a:moveTo>
                  <a:lnTo>
                    <a:pt x="154" y="1136"/>
                  </a:lnTo>
                  <a:lnTo>
                    <a:pt x="172" y="1062"/>
                  </a:lnTo>
                  <a:lnTo>
                    <a:pt x="204" y="970"/>
                  </a:lnTo>
                  <a:lnTo>
                    <a:pt x="239" y="899"/>
                  </a:lnTo>
                  <a:lnTo>
                    <a:pt x="273" y="825"/>
                  </a:lnTo>
                  <a:lnTo>
                    <a:pt x="307" y="733"/>
                  </a:lnTo>
                  <a:lnTo>
                    <a:pt x="358" y="660"/>
                  </a:lnTo>
                  <a:lnTo>
                    <a:pt x="410" y="587"/>
                  </a:lnTo>
                  <a:lnTo>
                    <a:pt x="444" y="514"/>
                  </a:lnTo>
                  <a:lnTo>
                    <a:pt x="513" y="459"/>
                  </a:lnTo>
                  <a:lnTo>
                    <a:pt x="563" y="385"/>
                  </a:lnTo>
                  <a:lnTo>
                    <a:pt x="632" y="330"/>
                  </a:lnTo>
                  <a:lnTo>
                    <a:pt x="683" y="276"/>
                  </a:lnTo>
                  <a:lnTo>
                    <a:pt x="751" y="220"/>
                  </a:lnTo>
                  <a:lnTo>
                    <a:pt x="819" y="165"/>
                  </a:lnTo>
                  <a:lnTo>
                    <a:pt x="887" y="128"/>
                  </a:lnTo>
                  <a:lnTo>
                    <a:pt x="819" y="0"/>
                  </a:lnTo>
                  <a:lnTo>
                    <a:pt x="751" y="56"/>
                  </a:lnTo>
                  <a:lnTo>
                    <a:pt x="666" y="111"/>
                  </a:lnTo>
                  <a:lnTo>
                    <a:pt x="597" y="165"/>
                  </a:lnTo>
                  <a:lnTo>
                    <a:pt x="528" y="220"/>
                  </a:lnTo>
                  <a:lnTo>
                    <a:pt x="462" y="294"/>
                  </a:lnTo>
                  <a:lnTo>
                    <a:pt x="410" y="348"/>
                  </a:lnTo>
                  <a:lnTo>
                    <a:pt x="342" y="422"/>
                  </a:lnTo>
                  <a:lnTo>
                    <a:pt x="290" y="514"/>
                  </a:lnTo>
                  <a:lnTo>
                    <a:pt x="239" y="587"/>
                  </a:lnTo>
                  <a:lnTo>
                    <a:pt x="189" y="660"/>
                  </a:lnTo>
                  <a:lnTo>
                    <a:pt x="154" y="751"/>
                  </a:lnTo>
                  <a:lnTo>
                    <a:pt x="103" y="842"/>
                  </a:lnTo>
                  <a:lnTo>
                    <a:pt x="69" y="936"/>
                  </a:lnTo>
                  <a:lnTo>
                    <a:pt x="52" y="1027"/>
                  </a:lnTo>
                  <a:lnTo>
                    <a:pt x="18" y="1098"/>
                  </a:lnTo>
                  <a:lnTo>
                    <a:pt x="0" y="1190"/>
                  </a:lnTo>
                  <a:lnTo>
                    <a:pt x="138" y="12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3362400" y="5095800"/>
              <a:ext cx="139680" cy="328680"/>
            </a:xfrm>
            <a:custGeom>
              <a:avLst/>
              <a:gdLst/>
              <a:ahLst/>
              <a:rect l="l" t="t" r="r" b="b"/>
              <a:pathLst>
                <a:path w="530" h="1247">
                  <a:moveTo>
                    <a:pt x="495" y="1100"/>
                  </a:moveTo>
                  <a:lnTo>
                    <a:pt x="530" y="1119"/>
                  </a:lnTo>
                  <a:lnTo>
                    <a:pt x="479" y="1063"/>
                  </a:lnTo>
                  <a:lnTo>
                    <a:pt x="444" y="990"/>
                  </a:lnTo>
                  <a:lnTo>
                    <a:pt x="393" y="935"/>
                  </a:lnTo>
                  <a:lnTo>
                    <a:pt x="359" y="862"/>
                  </a:lnTo>
                  <a:lnTo>
                    <a:pt x="324" y="807"/>
                  </a:lnTo>
                  <a:lnTo>
                    <a:pt x="290" y="733"/>
                  </a:lnTo>
                  <a:lnTo>
                    <a:pt x="256" y="660"/>
                  </a:lnTo>
                  <a:lnTo>
                    <a:pt x="221" y="587"/>
                  </a:lnTo>
                  <a:lnTo>
                    <a:pt x="206" y="513"/>
                  </a:lnTo>
                  <a:lnTo>
                    <a:pt x="171" y="459"/>
                  </a:lnTo>
                  <a:lnTo>
                    <a:pt x="171" y="385"/>
                  </a:lnTo>
                  <a:lnTo>
                    <a:pt x="155" y="311"/>
                  </a:lnTo>
                  <a:lnTo>
                    <a:pt x="137" y="240"/>
                  </a:lnTo>
                  <a:lnTo>
                    <a:pt x="137" y="165"/>
                  </a:lnTo>
                  <a:lnTo>
                    <a:pt x="155" y="112"/>
                  </a:lnTo>
                  <a:lnTo>
                    <a:pt x="155" y="37"/>
                  </a:lnTo>
                  <a:lnTo>
                    <a:pt x="17" y="0"/>
                  </a:lnTo>
                  <a:lnTo>
                    <a:pt x="17" y="91"/>
                  </a:lnTo>
                  <a:lnTo>
                    <a:pt x="0" y="165"/>
                  </a:lnTo>
                  <a:lnTo>
                    <a:pt x="17" y="257"/>
                  </a:lnTo>
                  <a:lnTo>
                    <a:pt x="17" y="330"/>
                  </a:lnTo>
                  <a:lnTo>
                    <a:pt x="35" y="422"/>
                  </a:lnTo>
                  <a:lnTo>
                    <a:pt x="51" y="497"/>
                  </a:lnTo>
                  <a:lnTo>
                    <a:pt x="69" y="568"/>
                  </a:lnTo>
                  <a:lnTo>
                    <a:pt x="102" y="642"/>
                  </a:lnTo>
                  <a:lnTo>
                    <a:pt x="120" y="716"/>
                  </a:lnTo>
                  <a:lnTo>
                    <a:pt x="171" y="807"/>
                  </a:lnTo>
                  <a:lnTo>
                    <a:pt x="206" y="862"/>
                  </a:lnTo>
                  <a:lnTo>
                    <a:pt x="240" y="935"/>
                  </a:lnTo>
                  <a:lnTo>
                    <a:pt x="290" y="1008"/>
                  </a:lnTo>
                  <a:lnTo>
                    <a:pt x="324" y="1082"/>
                  </a:lnTo>
                  <a:lnTo>
                    <a:pt x="375" y="1155"/>
                  </a:lnTo>
                  <a:lnTo>
                    <a:pt x="427" y="1210"/>
                  </a:lnTo>
                  <a:lnTo>
                    <a:pt x="461" y="1247"/>
                  </a:lnTo>
                  <a:lnTo>
                    <a:pt x="495" y="1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3483000" y="5386320"/>
              <a:ext cx="369720" cy="96840"/>
            </a:xfrm>
            <a:custGeom>
              <a:avLst/>
              <a:gdLst/>
              <a:ahLst/>
              <a:rect l="l" t="t" r="r" b="b"/>
              <a:pathLst>
                <a:path w="1397" h="367">
                  <a:moveTo>
                    <a:pt x="1347" y="219"/>
                  </a:moveTo>
                  <a:lnTo>
                    <a:pt x="1382" y="219"/>
                  </a:lnTo>
                  <a:lnTo>
                    <a:pt x="1347" y="219"/>
                  </a:lnTo>
                  <a:lnTo>
                    <a:pt x="1296" y="219"/>
                  </a:lnTo>
                  <a:lnTo>
                    <a:pt x="1262" y="202"/>
                  </a:lnTo>
                  <a:lnTo>
                    <a:pt x="1211" y="202"/>
                  </a:lnTo>
                  <a:lnTo>
                    <a:pt x="1176" y="183"/>
                  </a:lnTo>
                  <a:lnTo>
                    <a:pt x="1125" y="183"/>
                  </a:lnTo>
                  <a:lnTo>
                    <a:pt x="1092" y="165"/>
                  </a:lnTo>
                  <a:lnTo>
                    <a:pt x="1041" y="165"/>
                  </a:lnTo>
                  <a:lnTo>
                    <a:pt x="1007" y="165"/>
                  </a:lnTo>
                  <a:lnTo>
                    <a:pt x="954" y="147"/>
                  </a:lnTo>
                  <a:lnTo>
                    <a:pt x="921" y="147"/>
                  </a:lnTo>
                  <a:lnTo>
                    <a:pt x="869" y="147"/>
                  </a:lnTo>
                  <a:lnTo>
                    <a:pt x="836" y="128"/>
                  </a:lnTo>
                  <a:lnTo>
                    <a:pt x="783" y="128"/>
                  </a:lnTo>
                  <a:lnTo>
                    <a:pt x="749" y="110"/>
                  </a:lnTo>
                  <a:lnTo>
                    <a:pt x="717" y="110"/>
                  </a:lnTo>
                  <a:lnTo>
                    <a:pt x="665" y="110"/>
                  </a:lnTo>
                  <a:lnTo>
                    <a:pt x="614" y="91"/>
                  </a:lnTo>
                  <a:lnTo>
                    <a:pt x="579" y="91"/>
                  </a:lnTo>
                  <a:lnTo>
                    <a:pt x="545" y="73"/>
                  </a:lnTo>
                  <a:lnTo>
                    <a:pt x="494" y="73"/>
                  </a:lnTo>
                  <a:lnTo>
                    <a:pt x="459" y="73"/>
                  </a:lnTo>
                  <a:lnTo>
                    <a:pt x="408" y="55"/>
                  </a:lnTo>
                  <a:lnTo>
                    <a:pt x="375" y="55"/>
                  </a:lnTo>
                  <a:lnTo>
                    <a:pt x="324" y="55"/>
                  </a:lnTo>
                  <a:lnTo>
                    <a:pt x="290" y="36"/>
                  </a:lnTo>
                  <a:lnTo>
                    <a:pt x="239" y="36"/>
                  </a:lnTo>
                  <a:lnTo>
                    <a:pt x="204" y="19"/>
                  </a:lnTo>
                  <a:lnTo>
                    <a:pt x="153" y="19"/>
                  </a:lnTo>
                  <a:lnTo>
                    <a:pt x="119" y="19"/>
                  </a:lnTo>
                  <a:lnTo>
                    <a:pt x="69" y="0"/>
                  </a:lnTo>
                  <a:lnTo>
                    <a:pt x="34" y="0"/>
                  </a:lnTo>
                  <a:lnTo>
                    <a:pt x="0" y="147"/>
                  </a:lnTo>
                  <a:lnTo>
                    <a:pt x="50" y="147"/>
                  </a:lnTo>
                  <a:lnTo>
                    <a:pt x="103" y="147"/>
                  </a:lnTo>
                  <a:lnTo>
                    <a:pt x="138" y="165"/>
                  </a:lnTo>
                  <a:lnTo>
                    <a:pt x="188" y="165"/>
                  </a:lnTo>
                  <a:lnTo>
                    <a:pt x="222" y="183"/>
                  </a:lnTo>
                  <a:lnTo>
                    <a:pt x="255" y="183"/>
                  </a:lnTo>
                  <a:lnTo>
                    <a:pt x="307" y="183"/>
                  </a:lnTo>
                  <a:lnTo>
                    <a:pt x="358" y="202"/>
                  </a:lnTo>
                  <a:lnTo>
                    <a:pt x="393" y="202"/>
                  </a:lnTo>
                  <a:lnTo>
                    <a:pt x="427" y="219"/>
                  </a:lnTo>
                  <a:lnTo>
                    <a:pt x="477" y="219"/>
                  </a:lnTo>
                  <a:lnTo>
                    <a:pt x="512" y="219"/>
                  </a:lnTo>
                  <a:lnTo>
                    <a:pt x="563" y="238"/>
                  </a:lnTo>
                  <a:lnTo>
                    <a:pt x="597" y="238"/>
                  </a:lnTo>
                  <a:lnTo>
                    <a:pt x="648" y="256"/>
                  </a:lnTo>
                  <a:lnTo>
                    <a:pt x="683" y="256"/>
                  </a:lnTo>
                  <a:lnTo>
                    <a:pt x="734" y="256"/>
                  </a:lnTo>
                  <a:lnTo>
                    <a:pt x="767" y="274"/>
                  </a:lnTo>
                  <a:lnTo>
                    <a:pt x="818" y="274"/>
                  </a:lnTo>
                  <a:lnTo>
                    <a:pt x="852" y="274"/>
                  </a:lnTo>
                  <a:lnTo>
                    <a:pt x="903" y="293"/>
                  </a:lnTo>
                  <a:lnTo>
                    <a:pt x="938" y="293"/>
                  </a:lnTo>
                  <a:lnTo>
                    <a:pt x="989" y="311"/>
                  </a:lnTo>
                  <a:lnTo>
                    <a:pt x="1023" y="311"/>
                  </a:lnTo>
                  <a:lnTo>
                    <a:pt x="1073" y="311"/>
                  </a:lnTo>
                  <a:lnTo>
                    <a:pt x="1108" y="330"/>
                  </a:lnTo>
                  <a:lnTo>
                    <a:pt x="1159" y="330"/>
                  </a:lnTo>
                  <a:lnTo>
                    <a:pt x="1193" y="348"/>
                  </a:lnTo>
                  <a:lnTo>
                    <a:pt x="1228" y="348"/>
                  </a:lnTo>
                  <a:lnTo>
                    <a:pt x="1279" y="348"/>
                  </a:lnTo>
                  <a:lnTo>
                    <a:pt x="1331" y="367"/>
                  </a:lnTo>
                  <a:lnTo>
                    <a:pt x="1363" y="367"/>
                  </a:lnTo>
                  <a:lnTo>
                    <a:pt x="1397" y="367"/>
                  </a:lnTo>
                  <a:lnTo>
                    <a:pt x="1347" y="2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3840120" y="5067360"/>
              <a:ext cx="1028880" cy="415800"/>
            </a:xfrm>
            <a:custGeom>
              <a:avLst/>
              <a:gdLst/>
              <a:ahLst/>
              <a:rect l="l" t="t" r="r" b="b"/>
              <a:pathLst>
                <a:path w="3888" h="1575">
                  <a:moveTo>
                    <a:pt x="3785" y="108"/>
                  </a:moveTo>
                  <a:lnTo>
                    <a:pt x="3803" y="0"/>
                  </a:lnTo>
                  <a:lnTo>
                    <a:pt x="3683" y="37"/>
                  </a:lnTo>
                  <a:lnTo>
                    <a:pt x="3564" y="91"/>
                  </a:lnTo>
                  <a:lnTo>
                    <a:pt x="3461" y="128"/>
                  </a:lnTo>
                  <a:lnTo>
                    <a:pt x="3325" y="165"/>
                  </a:lnTo>
                  <a:lnTo>
                    <a:pt x="3222" y="220"/>
                  </a:lnTo>
                  <a:lnTo>
                    <a:pt x="3086" y="257"/>
                  </a:lnTo>
                  <a:lnTo>
                    <a:pt x="2966" y="310"/>
                  </a:lnTo>
                  <a:lnTo>
                    <a:pt x="2865" y="348"/>
                  </a:lnTo>
                  <a:lnTo>
                    <a:pt x="2745" y="402"/>
                  </a:lnTo>
                  <a:lnTo>
                    <a:pt x="2627" y="438"/>
                  </a:lnTo>
                  <a:lnTo>
                    <a:pt x="2507" y="493"/>
                  </a:lnTo>
                  <a:lnTo>
                    <a:pt x="2387" y="530"/>
                  </a:lnTo>
                  <a:lnTo>
                    <a:pt x="2268" y="585"/>
                  </a:lnTo>
                  <a:lnTo>
                    <a:pt x="2148" y="621"/>
                  </a:lnTo>
                  <a:lnTo>
                    <a:pt x="2028" y="676"/>
                  </a:lnTo>
                  <a:lnTo>
                    <a:pt x="1911" y="713"/>
                  </a:lnTo>
                  <a:lnTo>
                    <a:pt x="1791" y="768"/>
                  </a:lnTo>
                  <a:lnTo>
                    <a:pt x="1672" y="805"/>
                  </a:lnTo>
                  <a:lnTo>
                    <a:pt x="1552" y="841"/>
                  </a:lnTo>
                  <a:lnTo>
                    <a:pt x="1432" y="896"/>
                  </a:lnTo>
                  <a:lnTo>
                    <a:pt x="1313" y="933"/>
                  </a:lnTo>
                  <a:lnTo>
                    <a:pt x="1194" y="988"/>
                  </a:lnTo>
                  <a:lnTo>
                    <a:pt x="1074" y="1024"/>
                  </a:lnTo>
                  <a:lnTo>
                    <a:pt x="955" y="1079"/>
                  </a:lnTo>
                  <a:lnTo>
                    <a:pt x="835" y="1116"/>
                  </a:lnTo>
                  <a:lnTo>
                    <a:pt x="715" y="1171"/>
                  </a:lnTo>
                  <a:lnTo>
                    <a:pt x="598" y="1208"/>
                  </a:lnTo>
                  <a:lnTo>
                    <a:pt x="478" y="1263"/>
                  </a:lnTo>
                  <a:lnTo>
                    <a:pt x="359" y="1299"/>
                  </a:lnTo>
                  <a:lnTo>
                    <a:pt x="239" y="1355"/>
                  </a:lnTo>
                  <a:lnTo>
                    <a:pt x="119" y="1391"/>
                  </a:lnTo>
                  <a:lnTo>
                    <a:pt x="0" y="1427"/>
                  </a:lnTo>
                  <a:lnTo>
                    <a:pt x="50" y="1575"/>
                  </a:lnTo>
                  <a:lnTo>
                    <a:pt x="170" y="1519"/>
                  </a:lnTo>
                  <a:lnTo>
                    <a:pt x="290" y="1482"/>
                  </a:lnTo>
                  <a:lnTo>
                    <a:pt x="409" y="1446"/>
                  </a:lnTo>
                  <a:lnTo>
                    <a:pt x="529" y="1391"/>
                  </a:lnTo>
                  <a:lnTo>
                    <a:pt x="649" y="1355"/>
                  </a:lnTo>
                  <a:lnTo>
                    <a:pt x="767" y="1299"/>
                  </a:lnTo>
                  <a:lnTo>
                    <a:pt x="887" y="1263"/>
                  </a:lnTo>
                  <a:lnTo>
                    <a:pt x="1007" y="1208"/>
                  </a:lnTo>
                  <a:lnTo>
                    <a:pt x="1125" y="1171"/>
                  </a:lnTo>
                  <a:lnTo>
                    <a:pt x="1245" y="1116"/>
                  </a:lnTo>
                  <a:lnTo>
                    <a:pt x="1363" y="1079"/>
                  </a:lnTo>
                  <a:lnTo>
                    <a:pt x="1483" y="1024"/>
                  </a:lnTo>
                  <a:lnTo>
                    <a:pt x="1603" y="988"/>
                  </a:lnTo>
                  <a:lnTo>
                    <a:pt x="1706" y="933"/>
                  </a:lnTo>
                  <a:lnTo>
                    <a:pt x="1842" y="896"/>
                  </a:lnTo>
                  <a:lnTo>
                    <a:pt x="1962" y="859"/>
                  </a:lnTo>
                  <a:lnTo>
                    <a:pt x="2063" y="805"/>
                  </a:lnTo>
                  <a:lnTo>
                    <a:pt x="2182" y="768"/>
                  </a:lnTo>
                  <a:lnTo>
                    <a:pt x="2302" y="713"/>
                  </a:lnTo>
                  <a:lnTo>
                    <a:pt x="2421" y="676"/>
                  </a:lnTo>
                  <a:lnTo>
                    <a:pt x="2541" y="621"/>
                  </a:lnTo>
                  <a:lnTo>
                    <a:pt x="2661" y="585"/>
                  </a:lnTo>
                  <a:lnTo>
                    <a:pt x="2780" y="530"/>
                  </a:lnTo>
                  <a:lnTo>
                    <a:pt x="2900" y="493"/>
                  </a:lnTo>
                  <a:lnTo>
                    <a:pt x="3017" y="438"/>
                  </a:lnTo>
                  <a:lnTo>
                    <a:pt x="3137" y="402"/>
                  </a:lnTo>
                  <a:lnTo>
                    <a:pt x="3257" y="348"/>
                  </a:lnTo>
                  <a:lnTo>
                    <a:pt x="3376" y="310"/>
                  </a:lnTo>
                  <a:lnTo>
                    <a:pt x="3496" y="257"/>
                  </a:lnTo>
                  <a:lnTo>
                    <a:pt x="3615" y="220"/>
                  </a:lnTo>
                  <a:lnTo>
                    <a:pt x="3734" y="182"/>
                  </a:lnTo>
                  <a:lnTo>
                    <a:pt x="3854" y="128"/>
                  </a:lnTo>
                  <a:lnTo>
                    <a:pt x="3888" y="16"/>
                  </a:lnTo>
                  <a:lnTo>
                    <a:pt x="3785" y="1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4599000" y="4727520"/>
              <a:ext cx="270000" cy="368280"/>
            </a:xfrm>
            <a:custGeom>
              <a:avLst/>
              <a:gdLst/>
              <a:ahLst/>
              <a:rect l="l" t="t" r="r" b="b"/>
              <a:pathLst>
                <a:path w="1023" h="1391">
                  <a:moveTo>
                    <a:pt x="35" y="146"/>
                  </a:moveTo>
                  <a:lnTo>
                    <a:pt x="0" y="128"/>
                  </a:lnTo>
                  <a:lnTo>
                    <a:pt x="35" y="165"/>
                  </a:lnTo>
                  <a:lnTo>
                    <a:pt x="51" y="201"/>
                  </a:lnTo>
                  <a:lnTo>
                    <a:pt x="86" y="238"/>
                  </a:lnTo>
                  <a:lnTo>
                    <a:pt x="120" y="275"/>
                  </a:lnTo>
                  <a:lnTo>
                    <a:pt x="135" y="312"/>
                  </a:lnTo>
                  <a:lnTo>
                    <a:pt x="170" y="366"/>
                  </a:lnTo>
                  <a:lnTo>
                    <a:pt x="204" y="403"/>
                  </a:lnTo>
                  <a:lnTo>
                    <a:pt x="221" y="440"/>
                  </a:lnTo>
                  <a:lnTo>
                    <a:pt x="255" y="477"/>
                  </a:lnTo>
                  <a:lnTo>
                    <a:pt x="290" y="512"/>
                  </a:lnTo>
                  <a:lnTo>
                    <a:pt x="306" y="549"/>
                  </a:lnTo>
                  <a:lnTo>
                    <a:pt x="341" y="604"/>
                  </a:lnTo>
                  <a:lnTo>
                    <a:pt x="375" y="641"/>
                  </a:lnTo>
                  <a:lnTo>
                    <a:pt x="392" y="678"/>
                  </a:lnTo>
                  <a:lnTo>
                    <a:pt x="425" y="715"/>
                  </a:lnTo>
                  <a:lnTo>
                    <a:pt x="460" y="751"/>
                  </a:lnTo>
                  <a:lnTo>
                    <a:pt x="476" y="788"/>
                  </a:lnTo>
                  <a:lnTo>
                    <a:pt x="511" y="824"/>
                  </a:lnTo>
                  <a:lnTo>
                    <a:pt x="545" y="880"/>
                  </a:lnTo>
                  <a:lnTo>
                    <a:pt x="562" y="917"/>
                  </a:lnTo>
                  <a:lnTo>
                    <a:pt x="596" y="952"/>
                  </a:lnTo>
                  <a:lnTo>
                    <a:pt x="631" y="989"/>
                  </a:lnTo>
                  <a:lnTo>
                    <a:pt x="648" y="1026"/>
                  </a:lnTo>
                  <a:lnTo>
                    <a:pt x="682" y="1063"/>
                  </a:lnTo>
                  <a:lnTo>
                    <a:pt x="716" y="1118"/>
                  </a:lnTo>
                  <a:lnTo>
                    <a:pt x="734" y="1154"/>
                  </a:lnTo>
                  <a:lnTo>
                    <a:pt x="766" y="1191"/>
                  </a:lnTo>
                  <a:lnTo>
                    <a:pt x="800" y="1228"/>
                  </a:lnTo>
                  <a:lnTo>
                    <a:pt x="835" y="1263"/>
                  </a:lnTo>
                  <a:lnTo>
                    <a:pt x="853" y="1299"/>
                  </a:lnTo>
                  <a:lnTo>
                    <a:pt x="886" y="1356"/>
                  </a:lnTo>
                  <a:lnTo>
                    <a:pt x="920" y="1391"/>
                  </a:lnTo>
                  <a:lnTo>
                    <a:pt x="1023" y="1299"/>
                  </a:lnTo>
                  <a:lnTo>
                    <a:pt x="989" y="1263"/>
                  </a:lnTo>
                  <a:lnTo>
                    <a:pt x="971" y="1228"/>
                  </a:lnTo>
                  <a:lnTo>
                    <a:pt x="938" y="1171"/>
                  </a:lnTo>
                  <a:lnTo>
                    <a:pt x="904" y="1137"/>
                  </a:lnTo>
                  <a:lnTo>
                    <a:pt x="869" y="1100"/>
                  </a:lnTo>
                  <a:lnTo>
                    <a:pt x="853" y="1063"/>
                  </a:lnTo>
                  <a:lnTo>
                    <a:pt x="818" y="1026"/>
                  </a:lnTo>
                  <a:lnTo>
                    <a:pt x="785" y="989"/>
                  </a:lnTo>
                  <a:lnTo>
                    <a:pt x="766" y="934"/>
                  </a:lnTo>
                  <a:lnTo>
                    <a:pt x="734" y="898"/>
                  </a:lnTo>
                  <a:lnTo>
                    <a:pt x="699" y="861"/>
                  </a:lnTo>
                  <a:lnTo>
                    <a:pt x="682" y="824"/>
                  </a:lnTo>
                  <a:lnTo>
                    <a:pt x="648" y="788"/>
                  </a:lnTo>
                  <a:lnTo>
                    <a:pt x="614" y="751"/>
                  </a:lnTo>
                  <a:lnTo>
                    <a:pt x="596" y="697"/>
                  </a:lnTo>
                  <a:lnTo>
                    <a:pt x="562" y="660"/>
                  </a:lnTo>
                  <a:lnTo>
                    <a:pt x="528" y="623"/>
                  </a:lnTo>
                  <a:lnTo>
                    <a:pt x="511" y="586"/>
                  </a:lnTo>
                  <a:lnTo>
                    <a:pt x="476" y="549"/>
                  </a:lnTo>
                  <a:lnTo>
                    <a:pt x="444" y="512"/>
                  </a:lnTo>
                  <a:lnTo>
                    <a:pt x="425" y="458"/>
                  </a:lnTo>
                  <a:lnTo>
                    <a:pt x="392" y="421"/>
                  </a:lnTo>
                  <a:lnTo>
                    <a:pt x="357" y="385"/>
                  </a:lnTo>
                  <a:lnTo>
                    <a:pt x="341" y="348"/>
                  </a:lnTo>
                  <a:lnTo>
                    <a:pt x="306" y="312"/>
                  </a:lnTo>
                  <a:lnTo>
                    <a:pt x="272" y="275"/>
                  </a:lnTo>
                  <a:lnTo>
                    <a:pt x="255" y="220"/>
                  </a:lnTo>
                  <a:lnTo>
                    <a:pt x="221" y="183"/>
                  </a:lnTo>
                  <a:lnTo>
                    <a:pt x="187" y="146"/>
                  </a:lnTo>
                  <a:lnTo>
                    <a:pt x="170" y="109"/>
                  </a:lnTo>
                  <a:lnTo>
                    <a:pt x="135" y="73"/>
                  </a:lnTo>
                  <a:lnTo>
                    <a:pt x="101" y="37"/>
                  </a:lnTo>
                  <a:lnTo>
                    <a:pt x="67" y="0"/>
                  </a:lnTo>
                  <a:lnTo>
                    <a:pt x="35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4552920" y="4413240"/>
              <a:ext cx="703440" cy="673200"/>
            </a:xfrm>
            <a:custGeom>
              <a:avLst/>
              <a:gdLst/>
              <a:ahLst/>
              <a:rect l="l" t="t" r="r" b="b"/>
              <a:pathLst>
                <a:path w="2659" h="2546">
                  <a:moveTo>
                    <a:pt x="0" y="1263"/>
                  </a:moveTo>
                  <a:lnTo>
                    <a:pt x="0" y="1208"/>
                  </a:lnTo>
                  <a:lnTo>
                    <a:pt x="16" y="1135"/>
                  </a:lnTo>
                  <a:lnTo>
                    <a:pt x="32" y="1080"/>
                  </a:lnTo>
                  <a:lnTo>
                    <a:pt x="50" y="1025"/>
                  </a:lnTo>
                  <a:lnTo>
                    <a:pt x="67" y="970"/>
                  </a:lnTo>
                  <a:lnTo>
                    <a:pt x="101" y="917"/>
                  </a:lnTo>
                  <a:lnTo>
                    <a:pt x="136" y="860"/>
                  </a:lnTo>
                  <a:lnTo>
                    <a:pt x="170" y="823"/>
                  </a:lnTo>
                  <a:lnTo>
                    <a:pt x="205" y="768"/>
                  </a:lnTo>
                  <a:lnTo>
                    <a:pt x="237" y="713"/>
                  </a:lnTo>
                  <a:lnTo>
                    <a:pt x="290" y="677"/>
                  </a:lnTo>
                  <a:lnTo>
                    <a:pt x="322" y="623"/>
                  </a:lnTo>
                  <a:lnTo>
                    <a:pt x="374" y="585"/>
                  </a:lnTo>
                  <a:lnTo>
                    <a:pt x="409" y="548"/>
                  </a:lnTo>
                  <a:lnTo>
                    <a:pt x="460" y="495"/>
                  </a:lnTo>
                  <a:lnTo>
                    <a:pt x="494" y="457"/>
                  </a:lnTo>
                  <a:lnTo>
                    <a:pt x="527" y="440"/>
                  </a:lnTo>
                  <a:lnTo>
                    <a:pt x="545" y="420"/>
                  </a:lnTo>
                  <a:lnTo>
                    <a:pt x="562" y="403"/>
                  </a:lnTo>
                  <a:lnTo>
                    <a:pt x="595" y="385"/>
                  </a:lnTo>
                  <a:lnTo>
                    <a:pt x="614" y="385"/>
                  </a:lnTo>
                  <a:lnTo>
                    <a:pt x="646" y="366"/>
                  </a:lnTo>
                  <a:lnTo>
                    <a:pt x="681" y="366"/>
                  </a:lnTo>
                  <a:lnTo>
                    <a:pt x="698" y="348"/>
                  </a:lnTo>
                  <a:lnTo>
                    <a:pt x="732" y="348"/>
                  </a:lnTo>
                  <a:lnTo>
                    <a:pt x="749" y="328"/>
                  </a:lnTo>
                  <a:lnTo>
                    <a:pt x="784" y="328"/>
                  </a:lnTo>
                  <a:lnTo>
                    <a:pt x="818" y="312"/>
                  </a:lnTo>
                  <a:lnTo>
                    <a:pt x="835" y="312"/>
                  </a:lnTo>
                  <a:lnTo>
                    <a:pt x="869" y="291"/>
                  </a:lnTo>
                  <a:lnTo>
                    <a:pt x="904" y="291"/>
                  </a:lnTo>
                  <a:lnTo>
                    <a:pt x="920" y="275"/>
                  </a:lnTo>
                  <a:lnTo>
                    <a:pt x="955" y="257"/>
                  </a:lnTo>
                  <a:lnTo>
                    <a:pt x="988" y="238"/>
                  </a:lnTo>
                  <a:lnTo>
                    <a:pt x="1039" y="220"/>
                  </a:lnTo>
                  <a:lnTo>
                    <a:pt x="1074" y="200"/>
                  </a:lnTo>
                  <a:lnTo>
                    <a:pt x="1108" y="183"/>
                  </a:lnTo>
                  <a:lnTo>
                    <a:pt x="1141" y="146"/>
                  </a:lnTo>
                  <a:lnTo>
                    <a:pt x="1193" y="129"/>
                  </a:lnTo>
                  <a:lnTo>
                    <a:pt x="1226" y="110"/>
                  </a:lnTo>
                  <a:lnTo>
                    <a:pt x="1260" y="92"/>
                  </a:lnTo>
                  <a:lnTo>
                    <a:pt x="1313" y="55"/>
                  </a:lnTo>
                  <a:lnTo>
                    <a:pt x="1345" y="37"/>
                  </a:lnTo>
                  <a:lnTo>
                    <a:pt x="1398" y="37"/>
                  </a:lnTo>
                  <a:lnTo>
                    <a:pt x="1431" y="18"/>
                  </a:lnTo>
                  <a:lnTo>
                    <a:pt x="1465" y="0"/>
                  </a:lnTo>
                  <a:lnTo>
                    <a:pt x="1500" y="0"/>
                  </a:lnTo>
                  <a:lnTo>
                    <a:pt x="1550" y="0"/>
                  </a:lnTo>
                  <a:lnTo>
                    <a:pt x="1603" y="0"/>
                  </a:lnTo>
                  <a:lnTo>
                    <a:pt x="1653" y="18"/>
                  </a:lnTo>
                  <a:lnTo>
                    <a:pt x="1704" y="18"/>
                  </a:lnTo>
                  <a:lnTo>
                    <a:pt x="1755" y="37"/>
                  </a:lnTo>
                  <a:lnTo>
                    <a:pt x="1807" y="55"/>
                  </a:lnTo>
                  <a:lnTo>
                    <a:pt x="1841" y="73"/>
                  </a:lnTo>
                  <a:lnTo>
                    <a:pt x="1893" y="92"/>
                  </a:lnTo>
                  <a:lnTo>
                    <a:pt x="1943" y="110"/>
                  </a:lnTo>
                  <a:lnTo>
                    <a:pt x="1994" y="146"/>
                  </a:lnTo>
                  <a:lnTo>
                    <a:pt x="2028" y="165"/>
                  </a:lnTo>
                  <a:lnTo>
                    <a:pt x="2079" y="200"/>
                  </a:lnTo>
                  <a:lnTo>
                    <a:pt x="2130" y="238"/>
                  </a:lnTo>
                  <a:lnTo>
                    <a:pt x="2165" y="275"/>
                  </a:lnTo>
                  <a:lnTo>
                    <a:pt x="2199" y="312"/>
                  </a:lnTo>
                  <a:lnTo>
                    <a:pt x="2249" y="348"/>
                  </a:lnTo>
                  <a:lnTo>
                    <a:pt x="2283" y="385"/>
                  </a:lnTo>
                  <a:lnTo>
                    <a:pt x="2318" y="440"/>
                  </a:lnTo>
                  <a:lnTo>
                    <a:pt x="2352" y="477"/>
                  </a:lnTo>
                  <a:lnTo>
                    <a:pt x="2387" y="532"/>
                  </a:lnTo>
                  <a:lnTo>
                    <a:pt x="2421" y="585"/>
                  </a:lnTo>
                  <a:lnTo>
                    <a:pt x="2454" y="640"/>
                  </a:lnTo>
                  <a:lnTo>
                    <a:pt x="2489" y="713"/>
                  </a:lnTo>
                  <a:lnTo>
                    <a:pt x="2507" y="768"/>
                  </a:lnTo>
                  <a:lnTo>
                    <a:pt x="2539" y="823"/>
                  </a:lnTo>
                  <a:lnTo>
                    <a:pt x="2558" y="896"/>
                  </a:lnTo>
                  <a:lnTo>
                    <a:pt x="2573" y="951"/>
                  </a:lnTo>
                  <a:lnTo>
                    <a:pt x="2592" y="1007"/>
                  </a:lnTo>
                  <a:lnTo>
                    <a:pt x="2607" y="1080"/>
                  </a:lnTo>
                  <a:lnTo>
                    <a:pt x="2625" y="1135"/>
                  </a:lnTo>
                  <a:lnTo>
                    <a:pt x="2642" y="1208"/>
                  </a:lnTo>
                  <a:lnTo>
                    <a:pt x="2642" y="1282"/>
                  </a:lnTo>
                  <a:lnTo>
                    <a:pt x="2659" y="1336"/>
                  </a:lnTo>
                  <a:lnTo>
                    <a:pt x="2659" y="1465"/>
                  </a:lnTo>
                  <a:lnTo>
                    <a:pt x="2659" y="1611"/>
                  </a:lnTo>
                  <a:lnTo>
                    <a:pt x="2659" y="1739"/>
                  </a:lnTo>
                  <a:lnTo>
                    <a:pt x="2642" y="1868"/>
                  </a:lnTo>
                  <a:lnTo>
                    <a:pt x="2607" y="2014"/>
                  </a:lnTo>
                  <a:lnTo>
                    <a:pt x="2573" y="2142"/>
                  </a:lnTo>
                  <a:lnTo>
                    <a:pt x="2523" y="2253"/>
                  </a:lnTo>
                  <a:lnTo>
                    <a:pt x="2472" y="2381"/>
                  </a:lnTo>
                  <a:lnTo>
                    <a:pt x="2438" y="2381"/>
                  </a:lnTo>
                  <a:lnTo>
                    <a:pt x="2387" y="2381"/>
                  </a:lnTo>
                  <a:lnTo>
                    <a:pt x="2334" y="2399"/>
                  </a:lnTo>
                  <a:lnTo>
                    <a:pt x="2283" y="2399"/>
                  </a:lnTo>
                  <a:lnTo>
                    <a:pt x="2249" y="2399"/>
                  </a:lnTo>
                  <a:lnTo>
                    <a:pt x="2199" y="2418"/>
                  </a:lnTo>
                  <a:lnTo>
                    <a:pt x="2148" y="2418"/>
                  </a:lnTo>
                  <a:lnTo>
                    <a:pt x="2097" y="2418"/>
                  </a:lnTo>
                  <a:lnTo>
                    <a:pt x="2045" y="2418"/>
                  </a:lnTo>
                  <a:lnTo>
                    <a:pt x="2011" y="2436"/>
                  </a:lnTo>
                  <a:lnTo>
                    <a:pt x="1959" y="2436"/>
                  </a:lnTo>
                  <a:lnTo>
                    <a:pt x="1908" y="2436"/>
                  </a:lnTo>
                  <a:lnTo>
                    <a:pt x="1858" y="2453"/>
                  </a:lnTo>
                  <a:lnTo>
                    <a:pt x="1824" y="2453"/>
                  </a:lnTo>
                  <a:lnTo>
                    <a:pt x="1773" y="2453"/>
                  </a:lnTo>
                  <a:lnTo>
                    <a:pt x="1722" y="2473"/>
                  </a:lnTo>
                  <a:lnTo>
                    <a:pt x="1670" y="2473"/>
                  </a:lnTo>
                  <a:lnTo>
                    <a:pt x="1635" y="2473"/>
                  </a:lnTo>
                  <a:lnTo>
                    <a:pt x="1584" y="2473"/>
                  </a:lnTo>
                  <a:lnTo>
                    <a:pt x="1534" y="2489"/>
                  </a:lnTo>
                  <a:lnTo>
                    <a:pt x="1483" y="2489"/>
                  </a:lnTo>
                  <a:lnTo>
                    <a:pt x="1449" y="2489"/>
                  </a:lnTo>
                  <a:lnTo>
                    <a:pt x="1398" y="2510"/>
                  </a:lnTo>
                  <a:lnTo>
                    <a:pt x="1345" y="2510"/>
                  </a:lnTo>
                  <a:lnTo>
                    <a:pt x="1294" y="2510"/>
                  </a:lnTo>
                  <a:lnTo>
                    <a:pt x="1260" y="2527"/>
                  </a:lnTo>
                  <a:lnTo>
                    <a:pt x="1210" y="2527"/>
                  </a:lnTo>
                  <a:lnTo>
                    <a:pt x="1159" y="2527"/>
                  </a:lnTo>
                  <a:lnTo>
                    <a:pt x="1108" y="2546"/>
                  </a:lnTo>
                  <a:lnTo>
                    <a:pt x="1074" y="2546"/>
                  </a:lnTo>
                  <a:lnTo>
                    <a:pt x="1023" y="2546"/>
                  </a:lnTo>
                  <a:lnTo>
                    <a:pt x="970" y="2546"/>
                  </a:lnTo>
                  <a:lnTo>
                    <a:pt x="904" y="2473"/>
                  </a:lnTo>
                  <a:lnTo>
                    <a:pt x="835" y="2381"/>
                  </a:lnTo>
                  <a:lnTo>
                    <a:pt x="766" y="2290"/>
                  </a:lnTo>
                  <a:lnTo>
                    <a:pt x="681" y="2216"/>
                  </a:lnTo>
                  <a:lnTo>
                    <a:pt x="630" y="2124"/>
                  </a:lnTo>
                  <a:lnTo>
                    <a:pt x="562" y="2033"/>
                  </a:lnTo>
                  <a:lnTo>
                    <a:pt x="494" y="1959"/>
                  </a:lnTo>
                  <a:lnTo>
                    <a:pt x="425" y="1868"/>
                  </a:lnTo>
                  <a:lnTo>
                    <a:pt x="374" y="1794"/>
                  </a:lnTo>
                  <a:lnTo>
                    <a:pt x="305" y="1721"/>
                  </a:lnTo>
                  <a:lnTo>
                    <a:pt x="256" y="1630"/>
                  </a:lnTo>
                  <a:lnTo>
                    <a:pt x="187" y="1556"/>
                  </a:lnTo>
                  <a:lnTo>
                    <a:pt x="136" y="1483"/>
                  </a:lnTo>
                  <a:lnTo>
                    <a:pt x="85" y="1410"/>
                  </a:lnTo>
                  <a:lnTo>
                    <a:pt x="50" y="1336"/>
                  </a:lnTo>
                  <a:lnTo>
                    <a:pt x="0" y="12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4535640" y="4519440"/>
              <a:ext cx="161640" cy="227160"/>
            </a:xfrm>
            <a:custGeom>
              <a:avLst/>
              <a:gdLst/>
              <a:ahLst/>
              <a:rect l="l" t="t" r="r" b="b"/>
              <a:pathLst>
                <a:path w="613" h="860">
                  <a:moveTo>
                    <a:pt x="528" y="0"/>
                  </a:moveTo>
                  <a:lnTo>
                    <a:pt x="477" y="37"/>
                  </a:lnTo>
                  <a:lnTo>
                    <a:pt x="442" y="92"/>
                  </a:lnTo>
                  <a:lnTo>
                    <a:pt x="390" y="129"/>
                  </a:lnTo>
                  <a:lnTo>
                    <a:pt x="339" y="165"/>
                  </a:lnTo>
                  <a:lnTo>
                    <a:pt x="305" y="220"/>
                  </a:lnTo>
                  <a:lnTo>
                    <a:pt x="255" y="274"/>
                  </a:lnTo>
                  <a:lnTo>
                    <a:pt x="220" y="310"/>
                  </a:lnTo>
                  <a:lnTo>
                    <a:pt x="187" y="365"/>
                  </a:lnTo>
                  <a:lnTo>
                    <a:pt x="153" y="420"/>
                  </a:lnTo>
                  <a:lnTo>
                    <a:pt x="118" y="476"/>
                  </a:lnTo>
                  <a:lnTo>
                    <a:pt x="84" y="530"/>
                  </a:lnTo>
                  <a:lnTo>
                    <a:pt x="49" y="585"/>
                  </a:lnTo>
                  <a:lnTo>
                    <a:pt x="34" y="659"/>
                  </a:lnTo>
                  <a:lnTo>
                    <a:pt x="15" y="732"/>
                  </a:lnTo>
                  <a:lnTo>
                    <a:pt x="0" y="787"/>
                  </a:lnTo>
                  <a:lnTo>
                    <a:pt x="0" y="860"/>
                  </a:lnTo>
                  <a:lnTo>
                    <a:pt x="135" y="860"/>
                  </a:lnTo>
                  <a:lnTo>
                    <a:pt x="135" y="805"/>
                  </a:lnTo>
                  <a:lnTo>
                    <a:pt x="153" y="750"/>
                  </a:lnTo>
                  <a:lnTo>
                    <a:pt x="153" y="713"/>
                  </a:lnTo>
                  <a:lnTo>
                    <a:pt x="187" y="659"/>
                  </a:lnTo>
                  <a:lnTo>
                    <a:pt x="204" y="604"/>
                  </a:lnTo>
                  <a:lnTo>
                    <a:pt x="220" y="548"/>
                  </a:lnTo>
                  <a:lnTo>
                    <a:pt x="255" y="514"/>
                  </a:lnTo>
                  <a:lnTo>
                    <a:pt x="289" y="457"/>
                  </a:lnTo>
                  <a:lnTo>
                    <a:pt x="324" y="402"/>
                  </a:lnTo>
                  <a:lnTo>
                    <a:pt x="358" y="365"/>
                  </a:lnTo>
                  <a:lnTo>
                    <a:pt x="408" y="328"/>
                  </a:lnTo>
                  <a:lnTo>
                    <a:pt x="442" y="274"/>
                  </a:lnTo>
                  <a:lnTo>
                    <a:pt x="477" y="237"/>
                  </a:lnTo>
                  <a:lnTo>
                    <a:pt x="528" y="202"/>
                  </a:lnTo>
                  <a:lnTo>
                    <a:pt x="579" y="145"/>
                  </a:lnTo>
                  <a:lnTo>
                    <a:pt x="613" y="108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4675320" y="4470480"/>
              <a:ext cx="129960" cy="77760"/>
            </a:xfrm>
            <a:custGeom>
              <a:avLst/>
              <a:gdLst/>
              <a:ahLst/>
              <a:rect l="l" t="t" r="r" b="b"/>
              <a:pathLst>
                <a:path w="495" h="291">
                  <a:moveTo>
                    <a:pt x="444" y="0"/>
                  </a:moveTo>
                  <a:lnTo>
                    <a:pt x="409" y="0"/>
                  </a:lnTo>
                  <a:lnTo>
                    <a:pt x="392" y="18"/>
                  </a:lnTo>
                  <a:lnTo>
                    <a:pt x="358" y="18"/>
                  </a:lnTo>
                  <a:lnTo>
                    <a:pt x="341" y="37"/>
                  </a:lnTo>
                  <a:lnTo>
                    <a:pt x="306" y="37"/>
                  </a:lnTo>
                  <a:lnTo>
                    <a:pt x="272" y="55"/>
                  </a:lnTo>
                  <a:lnTo>
                    <a:pt x="255" y="55"/>
                  </a:lnTo>
                  <a:lnTo>
                    <a:pt x="221" y="55"/>
                  </a:lnTo>
                  <a:lnTo>
                    <a:pt x="186" y="71"/>
                  </a:lnTo>
                  <a:lnTo>
                    <a:pt x="170" y="71"/>
                  </a:lnTo>
                  <a:lnTo>
                    <a:pt x="135" y="92"/>
                  </a:lnTo>
                  <a:lnTo>
                    <a:pt x="102" y="108"/>
                  </a:lnTo>
                  <a:lnTo>
                    <a:pt x="85" y="128"/>
                  </a:lnTo>
                  <a:lnTo>
                    <a:pt x="51" y="146"/>
                  </a:lnTo>
                  <a:lnTo>
                    <a:pt x="16" y="165"/>
                  </a:lnTo>
                  <a:lnTo>
                    <a:pt x="0" y="183"/>
                  </a:lnTo>
                  <a:lnTo>
                    <a:pt x="85" y="291"/>
                  </a:lnTo>
                  <a:lnTo>
                    <a:pt x="102" y="275"/>
                  </a:lnTo>
                  <a:lnTo>
                    <a:pt x="120" y="257"/>
                  </a:lnTo>
                  <a:lnTo>
                    <a:pt x="135" y="257"/>
                  </a:lnTo>
                  <a:lnTo>
                    <a:pt x="170" y="237"/>
                  </a:lnTo>
                  <a:lnTo>
                    <a:pt x="186" y="237"/>
                  </a:lnTo>
                  <a:lnTo>
                    <a:pt x="204" y="220"/>
                  </a:lnTo>
                  <a:lnTo>
                    <a:pt x="238" y="220"/>
                  </a:lnTo>
                  <a:lnTo>
                    <a:pt x="255" y="200"/>
                  </a:lnTo>
                  <a:lnTo>
                    <a:pt x="289" y="200"/>
                  </a:lnTo>
                  <a:lnTo>
                    <a:pt x="306" y="183"/>
                  </a:lnTo>
                  <a:lnTo>
                    <a:pt x="341" y="183"/>
                  </a:lnTo>
                  <a:lnTo>
                    <a:pt x="375" y="165"/>
                  </a:lnTo>
                  <a:lnTo>
                    <a:pt x="392" y="165"/>
                  </a:lnTo>
                  <a:lnTo>
                    <a:pt x="426" y="146"/>
                  </a:lnTo>
                  <a:lnTo>
                    <a:pt x="460" y="146"/>
                  </a:lnTo>
                  <a:lnTo>
                    <a:pt x="495" y="128"/>
                  </a:lnTo>
                  <a:lnTo>
                    <a:pt x="44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4792680" y="4392720"/>
              <a:ext cx="169920" cy="112680"/>
            </a:xfrm>
            <a:custGeom>
              <a:avLst/>
              <a:gdLst/>
              <a:ahLst/>
              <a:rect l="l" t="t" r="r" b="b"/>
              <a:pathLst>
                <a:path w="646" h="422">
                  <a:moveTo>
                    <a:pt x="646" y="0"/>
                  </a:moveTo>
                  <a:lnTo>
                    <a:pt x="596" y="0"/>
                  </a:lnTo>
                  <a:lnTo>
                    <a:pt x="545" y="0"/>
                  </a:lnTo>
                  <a:lnTo>
                    <a:pt x="510" y="19"/>
                  </a:lnTo>
                  <a:lnTo>
                    <a:pt x="459" y="37"/>
                  </a:lnTo>
                  <a:lnTo>
                    <a:pt x="425" y="55"/>
                  </a:lnTo>
                  <a:lnTo>
                    <a:pt x="375" y="74"/>
                  </a:lnTo>
                  <a:lnTo>
                    <a:pt x="341" y="92"/>
                  </a:lnTo>
                  <a:lnTo>
                    <a:pt x="289" y="111"/>
                  </a:lnTo>
                  <a:lnTo>
                    <a:pt x="255" y="129"/>
                  </a:lnTo>
                  <a:lnTo>
                    <a:pt x="221" y="166"/>
                  </a:lnTo>
                  <a:lnTo>
                    <a:pt x="170" y="184"/>
                  </a:lnTo>
                  <a:lnTo>
                    <a:pt x="135" y="203"/>
                  </a:lnTo>
                  <a:lnTo>
                    <a:pt x="101" y="239"/>
                  </a:lnTo>
                  <a:lnTo>
                    <a:pt x="66" y="257"/>
                  </a:lnTo>
                  <a:lnTo>
                    <a:pt x="32" y="274"/>
                  </a:lnTo>
                  <a:lnTo>
                    <a:pt x="0" y="294"/>
                  </a:lnTo>
                  <a:lnTo>
                    <a:pt x="51" y="422"/>
                  </a:lnTo>
                  <a:lnTo>
                    <a:pt x="84" y="402"/>
                  </a:lnTo>
                  <a:lnTo>
                    <a:pt x="119" y="386"/>
                  </a:lnTo>
                  <a:lnTo>
                    <a:pt x="152" y="365"/>
                  </a:lnTo>
                  <a:lnTo>
                    <a:pt x="204" y="331"/>
                  </a:lnTo>
                  <a:lnTo>
                    <a:pt x="237" y="312"/>
                  </a:lnTo>
                  <a:lnTo>
                    <a:pt x="272" y="294"/>
                  </a:lnTo>
                  <a:lnTo>
                    <a:pt x="322" y="274"/>
                  </a:lnTo>
                  <a:lnTo>
                    <a:pt x="356" y="239"/>
                  </a:lnTo>
                  <a:lnTo>
                    <a:pt x="390" y="220"/>
                  </a:lnTo>
                  <a:lnTo>
                    <a:pt x="425" y="203"/>
                  </a:lnTo>
                  <a:lnTo>
                    <a:pt x="476" y="184"/>
                  </a:lnTo>
                  <a:lnTo>
                    <a:pt x="510" y="166"/>
                  </a:lnTo>
                  <a:lnTo>
                    <a:pt x="545" y="166"/>
                  </a:lnTo>
                  <a:lnTo>
                    <a:pt x="579" y="147"/>
                  </a:lnTo>
                  <a:lnTo>
                    <a:pt x="614" y="147"/>
                  </a:lnTo>
                  <a:lnTo>
                    <a:pt x="646" y="147"/>
                  </a:lnTo>
                  <a:lnTo>
                    <a:pt x="6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4962600" y="4392720"/>
              <a:ext cx="207720" cy="136440"/>
            </a:xfrm>
            <a:custGeom>
              <a:avLst/>
              <a:gdLst/>
              <a:ahLst/>
              <a:rect l="l" t="t" r="r" b="b"/>
              <a:pathLst>
                <a:path w="784" h="514">
                  <a:moveTo>
                    <a:pt x="784" y="402"/>
                  </a:moveTo>
                  <a:lnTo>
                    <a:pt x="733" y="365"/>
                  </a:lnTo>
                  <a:lnTo>
                    <a:pt x="699" y="331"/>
                  </a:lnTo>
                  <a:lnTo>
                    <a:pt x="667" y="294"/>
                  </a:lnTo>
                  <a:lnTo>
                    <a:pt x="615" y="257"/>
                  </a:lnTo>
                  <a:lnTo>
                    <a:pt x="564" y="220"/>
                  </a:lnTo>
                  <a:lnTo>
                    <a:pt x="529" y="184"/>
                  </a:lnTo>
                  <a:lnTo>
                    <a:pt x="478" y="147"/>
                  </a:lnTo>
                  <a:lnTo>
                    <a:pt x="427" y="129"/>
                  </a:lnTo>
                  <a:lnTo>
                    <a:pt x="377" y="92"/>
                  </a:lnTo>
                  <a:lnTo>
                    <a:pt x="324" y="74"/>
                  </a:lnTo>
                  <a:lnTo>
                    <a:pt x="274" y="55"/>
                  </a:lnTo>
                  <a:lnTo>
                    <a:pt x="223" y="37"/>
                  </a:lnTo>
                  <a:lnTo>
                    <a:pt x="154" y="19"/>
                  </a:lnTo>
                  <a:lnTo>
                    <a:pt x="103" y="19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4" y="147"/>
                  </a:lnTo>
                  <a:lnTo>
                    <a:pt x="85" y="147"/>
                  </a:lnTo>
                  <a:lnTo>
                    <a:pt x="137" y="166"/>
                  </a:lnTo>
                  <a:lnTo>
                    <a:pt x="188" y="184"/>
                  </a:lnTo>
                  <a:lnTo>
                    <a:pt x="223" y="203"/>
                  </a:lnTo>
                  <a:lnTo>
                    <a:pt x="274" y="220"/>
                  </a:lnTo>
                  <a:lnTo>
                    <a:pt x="324" y="239"/>
                  </a:lnTo>
                  <a:lnTo>
                    <a:pt x="358" y="257"/>
                  </a:lnTo>
                  <a:lnTo>
                    <a:pt x="409" y="274"/>
                  </a:lnTo>
                  <a:lnTo>
                    <a:pt x="444" y="312"/>
                  </a:lnTo>
                  <a:lnTo>
                    <a:pt x="495" y="331"/>
                  </a:lnTo>
                  <a:lnTo>
                    <a:pt x="529" y="365"/>
                  </a:lnTo>
                  <a:lnTo>
                    <a:pt x="564" y="402"/>
                  </a:lnTo>
                  <a:lnTo>
                    <a:pt x="615" y="440"/>
                  </a:lnTo>
                  <a:lnTo>
                    <a:pt x="649" y="477"/>
                  </a:lnTo>
                  <a:lnTo>
                    <a:pt x="682" y="514"/>
                  </a:lnTo>
                  <a:lnTo>
                    <a:pt x="784" y="40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5143680" y="4498920"/>
              <a:ext cx="131760" cy="271440"/>
            </a:xfrm>
            <a:custGeom>
              <a:avLst/>
              <a:gdLst/>
              <a:ahLst/>
              <a:rect l="l" t="t" r="r" b="b"/>
              <a:pathLst>
                <a:path w="495" h="1027">
                  <a:moveTo>
                    <a:pt x="495" y="990"/>
                  </a:moveTo>
                  <a:lnTo>
                    <a:pt x="479" y="935"/>
                  </a:lnTo>
                  <a:lnTo>
                    <a:pt x="479" y="862"/>
                  </a:lnTo>
                  <a:lnTo>
                    <a:pt x="461" y="807"/>
                  </a:lnTo>
                  <a:lnTo>
                    <a:pt x="444" y="734"/>
                  </a:lnTo>
                  <a:lnTo>
                    <a:pt x="427" y="660"/>
                  </a:lnTo>
                  <a:lnTo>
                    <a:pt x="410" y="605"/>
                  </a:lnTo>
                  <a:lnTo>
                    <a:pt x="393" y="532"/>
                  </a:lnTo>
                  <a:lnTo>
                    <a:pt x="375" y="477"/>
                  </a:lnTo>
                  <a:lnTo>
                    <a:pt x="341" y="403"/>
                  </a:lnTo>
                  <a:lnTo>
                    <a:pt x="307" y="349"/>
                  </a:lnTo>
                  <a:lnTo>
                    <a:pt x="291" y="295"/>
                  </a:lnTo>
                  <a:lnTo>
                    <a:pt x="257" y="220"/>
                  </a:lnTo>
                  <a:lnTo>
                    <a:pt x="222" y="167"/>
                  </a:lnTo>
                  <a:lnTo>
                    <a:pt x="189" y="112"/>
                  </a:lnTo>
                  <a:lnTo>
                    <a:pt x="137" y="57"/>
                  </a:lnTo>
                  <a:lnTo>
                    <a:pt x="102" y="0"/>
                  </a:lnTo>
                  <a:lnTo>
                    <a:pt x="0" y="112"/>
                  </a:lnTo>
                  <a:lnTo>
                    <a:pt x="35" y="149"/>
                  </a:lnTo>
                  <a:lnTo>
                    <a:pt x="69" y="204"/>
                  </a:lnTo>
                  <a:lnTo>
                    <a:pt x="102" y="257"/>
                  </a:lnTo>
                  <a:lnTo>
                    <a:pt x="137" y="295"/>
                  </a:lnTo>
                  <a:lnTo>
                    <a:pt x="171" y="349"/>
                  </a:lnTo>
                  <a:lnTo>
                    <a:pt x="189" y="403"/>
                  </a:lnTo>
                  <a:lnTo>
                    <a:pt x="222" y="477"/>
                  </a:lnTo>
                  <a:lnTo>
                    <a:pt x="240" y="532"/>
                  </a:lnTo>
                  <a:lnTo>
                    <a:pt x="257" y="589"/>
                  </a:lnTo>
                  <a:lnTo>
                    <a:pt x="275" y="642"/>
                  </a:lnTo>
                  <a:lnTo>
                    <a:pt x="291" y="715"/>
                  </a:lnTo>
                  <a:lnTo>
                    <a:pt x="307" y="771"/>
                  </a:lnTo>
                  <a:lnTo>
                    <a:pt x="326" y="825"/>
                  </a:lnTo>
                  <a:lnTo>
                    <a:pt x="341" y="899"/>
                  </a:lnTo>
                  <a:lnTo>
                    <a:pt x="341" y="954"/>
                  </a:lnTo>
                  <a:lnTo>
                    <a:pt x="360" y="1027"/>
                  </a:lnTo>
                  <a:lnTo>
                    <a:pt x="495" y="9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5194440" y="4761000"/>
              <a:ext cx="81000" cy="299880"/>
            </a:xfrm>
            <a:custGeom>
              <a:avLst/>
              <a:gdLst/>
              <a:ahLst/>
              <a:rect l="l" t="t" r="r" b="b"/>
              <a:pathLst>
                <a:path w="306" h="1135">
                  <a:moveTo>
                    <a:pt x="68" y="1135"/>
                  </a:moveTo>
                  <a:lnTo>
                    <a:pt x="118" y="1100"/>
                  </a:lnTo>
                  <a:lnTo>
                    <a:pt x="137" y="1026"/>
                  </a:lnTo>
                  <a:lnTo>
                    <a:pt x="171" y="972"/>
                  </a:lnTo>
                  <a:lnTo>
                    <a:pt x="186" y="915"/>
                  </a:lnTo>
                  <a:lnTo>
                    <a:pt x="221" y="843"/>
                  </a:lnTo>
                  <a:lnTo>
                    <a:pt x="238" y="770"/>
                  </a:lnTo>
                  <a:lnTo>
                    <a:pt x="255" y="715"/>
                  </a:lnTo>
                  <a:lnTo>
                    <a:pt x="272" y="641"/>
                  </a:lnTo>
                  <a:lnTo>
                    <a:pt x="290" y="569"/>
                  </a:lnTo>
                  <a:lnTo>
                    <a:pt x="290" y="495"/>
                  </a:lnTo>
                  <a:lnTo>
                    <a:pt x="306" y="421"/>
                  </a:lnTo>
                  <a:lnTo>
                    <a:pt x="306" y="367"/>
                  </a:lnTo>
                  <a:lnTo>
                    <a:pt x="306" y="293"/>
                  </a:lnTo>
                  <a:lnTo>
                    <a:pt x="306" y="220"/>
                  </a:lnTo>
                  <a:lnTo>
                    <a:pt x="306" y="147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171" y="37"/>
                  </a:lnTo>
                  <a:lnTo>
                    <a:pt x="171" y="92"/>
                  </a:lnTo>
                  <a:lnTo>
                    <a:pt x="186" y="147"/>
                  </a:lnTo>
                  <a:lnTo>
                    <a:pt x="186" y="220"/>
                  </a:lnTo>
                  <a:lnTo>
                    <a:pt x="186" y="275"/>
                  </a:lnTo>
                  <a:lnTo>
                    <a:pt x="171" y="349"/>
                  </a:lnTo>
                  <a:lnTo>
                    <a:pt x="171" y="403"/>
                  </a:lnTo>
                  <a:lnTo>
                    <a:pt x="152" y="476"/>
                  </a:lnTo>
                  <a:lnTo>
                    <a:pt x="152" y="550"/>
                  </a:lnTo>
                  <a:lnTo>
                    <a:pt x="137" y="604"/>
                  </a:lnTo>
                  <a:lnTo>
                    <a:pt x="118" y="678"/>
                  </a:lnTo>
                  <a:lnTo>
                    <a:pt x="102" y="733"/>
                  </a:lnTo>
                  <a:lnTo>
                    <a:pt x="86" y="789"/>
                  </a:lnTo>
                  <a:lnTo>
                    <a:pt x="68" y="861"/>
                  </a:lnTo>
                  <a:lnTo>
                    <a:pt x="51" y="915"/>
                  </a:lnTo>
                  <a:lnTo>
                    <a:pt x="17" y="972"/>
                  </a:lnTo>
                  <a:lnTo>
                    <a:pt x="0" y="1026"/>
                  </a:lnTo>
                  <a:lnTo>
                    <a:pt x="51" y="990"/>
                  </a:lnTo>
                  <a:lnTo>
                    <a:pt x="68" y="11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4797360" y="5022720"/>
              <a:ext cx="414360" cy="82800"/>
            </a:xfrm>
            <a:custGeom>
              <a:avLst/>
              <a:gdLst/>
              <a:ahLst/>
              <a:rect l="l" t="t" r="r" b="b"/>
              <a:pathLst>
                <a:path w="1569" h="310">
                  <a:moveTo>
                    <a:pt x="0" y="293"/>
                  </a:moveTo>
                  <a:lnTo>
                    <a:pt x="68" y="310"/>
                  </a:lnTo>
                  <a:lnTo>
                    <a:pt x="103" y="310"/>
                  </a:lnTo>
                  <a:lnTo>
                    <a:pt x="154" y="310"/>
                  </a:lnTo>
                  <a:lnTo>
                    <a:pt x="205" y="293"/>
                  </a:lnTo>
                  <a:lnTo>
                    <a:pt x="256" y="293"/>
                  </a:lnTo>
                  <a:lnTo>
                    <a:pt x="290" y="293"/>
                  </a:lnTo>
                  <a:lnTo>
                    <a:pt x="340" y="273"/>
                  </a:lnTo>
                  <a:lnTo>
                    <a:pt x="393" y="273"/>
                  </a:lnTo>
                  <a:lnTo>
                    <a:pt x="425" y="273"/>
                  </a:lnTo>
                  <a:lnTo>
                    <a:pt x="478" y="273"/>
                  </a:lnTo>
                  <a:lnTo>
                    <a:pt x="529" y="256"/>
                  </a:lnTo>
                  <a:lnTo>
                    <a:pt x="580" y="256"/>
                  </a:lnTo>
                  <a:lnTo>
                    <a:pt x="630" y="256"/>
                  </a:lnTo>
                  <a:lnTo>
                    <a:pt x="664" y="238"/>
                  </a:lnTo>
                  <a:lnTo>
                    <a:pt x="715" y="238"/>
                  </a:lnTo>
                  <a:lnTo>
                    <a:pt x="767" y="238"/>
                  </a:lnTo>
                  <a:lnTo>
                    <a:pt x="818" y="238"/>
                  </a:lnTo>
                  <a:lnTo>
                    <a:pt x="853" y="219"/>
                  </a:lnTo>
                  <a:lnTo>
                    <a:pt x="904" y="219"/>
                  </a:lnTo>
                  <a:lnTo>
                    <a:pt x="954" y="219"/>
                  </a:lnTo>
                  <a:lnTo>
                    <a:pt x="1007" y="202"/>
                  </a:lnTo>
                  <a:lnTo>
                    <a:pt x="1039" y="202"/>
                  </a:lnTo>
                  <a:lnTo>
                    <a:pt x="1091" y="202"/>
                  </a:lnTo>
                  <a:lnTo>
                    <a:pt x="1143" y="181"/>
                  </a:lnTo>
                  <a:lnTo>
                    <a:pt x="1194" y="181"/>
                  </a:lnTo>
                  <a:lnTo>
                    <a:pt x="1228" y="181"/>
                  </a:lnTo>
                  <a:lnTo>
                    <a:pt x="1279" y="181"/>
                  </a:lnTo>
                  <a:lnTo>
                    <a:pt x="1329" y="165"/>
                  </a:lnTo>
                  <a:lnTo>
                    <a:pt x="1381" y="165"/>
                  </a:lnTo>
                  <a:lnTo>
                    <a:pt x="1414" y="165"/>
                  </a:lnTo>
                  <a:lnTo>
                    <a:pt x="1467" y="145"/>
                  </a:lnTo>
                  <a:lnTo>
                    <a:pt x="1518" y="145"/>
                  </a:lnTo>
                  <a:lnTo>
                    <a:pt x="1569" y="145"/>
                  </a:lnTo>
                  <a:lnTo>
                    <a:pt x="1552" y="0"/>
                  </a:lnTo>
                  <a:lnTo>
                    <a:pt x="1501" y="0"/>
                  </a:lnTo>
                  <a:lnTo>
                    <a:pt x="1449" y="0"/>
                  </a:lnTo>
                  <a:lnTo>
                    <a:pt x="1414" y="19"/>
                  </a:lnTo>
                  <a:lnTo>
                    <a:pt x="1363" y="19"/>
                  </a:lnTo>
                  <a:lnTo>
                    <a:pt x="1312" y="19"/>
                  </a:lnTo>
                  <a:lnTo>
                    <a:pt x="1262" y="36"/>
                  </a:lnTo>
                  <a:lnTo>
                    <a:pt x="1228" y="36"/>
                  </a:lnTo>
                  <a:lnTo>
                    <a:pt x="1177" y="36"/>
                  </a:lnTo>
                  <a:lnTo>
                    <a:pt x="1125" y="36"/>
                  </a:lnTo>
                  <a:lnTo>
                    <a:pt x="1074" y="53"/>
                  </a:lnTo>
                  <a:lnTo>
                    <a:pt x="1023" y="53"/>
                  </a:lnTo>
                  <a:lnTo>
                    <a:pt x="988" y="53"/>
                  </a:lnTo>
                  <a:lnTo>
                    <a:pt x="938" y="73"/>
                  </a:lnTo>
                  <a:lnTo>
                    <a:pt x="887" y="73"/>
                  </a:lnTo>
                  <a:lnTo>
                    <a:pt x="835" y="73"/>
                  </a:lnTo>
                  <a:lnTo>
                    <a:pt x="802" y="91"/>
                  </a:lnTo>
                  <a:lnTo>
                    <a:pt x="750" y="91"/>
                  </a:lnTo>
                  <a:lnTo>
                    <a:pt x="699" y="91"/>
                  </a:lnTo>
                  <a:lnTo>
                    <a:pt x="664" y="91"/>
                  </a:lnTo>
                  <a:lnTo>
                    <a:pt x="614" y="110"/>
                  </a:lnTo>
                  <a:lnTo>
                    <a:pt x="563" y="110"/>
                  </a:lnTo>
                  <a:lnTo>
                    <a:pt x="511" y="110"/>
                  </a:lnTo>
                  <a:lnTo>
                    <a:pt x="460" y="128"/>
                  </a:lnTo>
                  <a:lnTo>
                    <a:pt x="425" y="128"/>
                  </a:lnTo>
                  <a:lnTo>
                    <a:pt x="374" y="128"/>
                  </a:lnTo>
                  <a:lnTo>
                    <a:pt x="325" y="145"/>
                  </a:lnTo>
                  <a:lnTo>
                    <a:pt x="273" y="145"/>
                  </a:lnTo>
                  <a:lnTo>
                    <a:pt x="239" y="145"/>
                  </a:lnTo>
                  <a:lnTo>
                    <a:pt x="188" y="165"/>
                  </a:lnTo>
                  <a:lnTo>
                    <a:pt x="136" y="165"/>
                  </a:lnTo>
                  <a:lnTo>
                    <a:pt x="85" y="165"/>
                  </a:lnTo>
                  <a:lnTo>
                    <a:pt x="50" y="165"/>
                  </a:lnTo>
                  <a:lnTo>
                    <a:pt x="103" y="202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4535640" y="4737240"/>
              <a:ext cx="288720" cy="363240"/>
            </a:xfrm>
            <a:custGeom>
              <a:avLst/>
              <a:gdLst/>
              <a:ahLst/>
              <a:rect l="l" t="t" r="r" b="b"/>
              <a:pathLst>
                <a:path w="1091" h="1374">
                  <a:moveTo>
                    <a:pt x="0" y="36"/>
                  </a:moveTo>
                  <a:lnTo>
                    <a:pt x="15" y="91"/>
                  </a:lnTo>
                  <a:lnTo>
                    <a:pt x="34" y="109"/>
                  </a:lnTo>
                  <a:lnTo>
                    <a:pt x="49" y="146"/>
                  </a:lnTo>
                  <a:lnTo>
                    <a:pt x="84" y="183"/>
                  </a:lnTo>
                  <a:lnTo>
                    <a:pt x="100" y="220"/>
                  </a:lnTo>
                  <a:lnTo>
                    <a:pt x="135" y="256"/>
                  </a:lnTo>
                  <a:lnTo>
                    <a:pt x="153" y="292"/>
                  </a:lnTo>
                  <a:lnTo>
                    <a:pt x="187" y="329"/>
                  </a:lnTo>
                  <a:lnTo>
                    <a:pt x="204" y="384"/>
                  </a:lnTo>
                  <a:lnTo>
                    <a:pt x="238" y="421"/>
                  </a:lnTo>
                  <a:lnTo>
                    <a:pt x="273" y="458"/>
                  </a:lnTo>
                  <a:lnTo>
                    <a:pt x="289" y="494"/>
                  </a:lnTo>
                  <a:lnTo>
                    <a:pt x="324" y="531"/>
                  </a:lnTo>
                  <a:lnTo>
                    <a:pt x="358" y="567"/>
                  </a:lnTo>
                  <a:lnTo>
                    <a:pt x="390" y="623"/>
                  </a:lnTo>
                  <a:lnTo>
                    <a:pt x="408" y="660"/>
                  </a:lnTo>
                  <a:lnTo>
                    <a:pt x="442" y="695"/>
                  </a:lnTo>
                  <a:lnTo>
                    <a:pt x="477" y="732"/>
                  </a:lnTo>
                  <a:lnTo>
                    <a:pt x="510" y="769"/>
                  </a:lnTo>
                  <a:lnTo>
                    <a:pt x="544" y="824"/>
                  </a:lnTo>
                  <a:lnTo>
                    <a:pt x="579" y="861"/>
                  </a:lnTo>
                  <a:lnTo>
                    <a:pt x="613" y="897"/>
                  </a:lnTo>
                  <a:lnTo>
                    <a:pt x="630" y="952"/>
                  </a:lnTo>
                  <a:lnTo>
                    <a:pt x="663" y="989"/>
                  </a:lnTo>
                  <a:lnTo>
                    <a:pt x="698" y="1026"/>
                  </a:lnTo>
                  <a:lnTo>
                    <a:pt x="749" y="1081"/>
                  </a:lnTo>
                  <a:lnTo>
                    <a:pt x="783" y="1117"/>
                  </a:lnTo>
                  <a:lnTo>
                    <a:pt x="817" y="1154"/>
                  </a:lnTo>
                  <a:lnTo>
                    <a:pt x="852" y="1209"/>
                  </a:lnTo>
                  <a:lnTo>
                    <a:pt x="886" y="1246"/>
                  </a:lnTo>
                  <a:lnTo>
                    <a:pt x="920" y="1283"/>
                  </a:lnTo>
                  <a:lnTo>
                    <a:pt x="954" y="1337"/>
                  </a:lnTo>
                  <a:lnTo>
                    <a:pt x="988" y="1374"/>
                  </a:lnTo>
                  <a:lnTo>
                    <a:pt x="1091" y="1283"/>
                  </a:lnTo>
                  <a:lnTo>
                    <a:pt x="1056" y="1226"/>
                  </a:lnTo>
                  <a:lnTo>
                    <a:pt x="1023" y="1191"/>
                  </a:lnTo>
                  <a:lnTo>
                    <a:pt x="988" y="1154"/>
                  </a:lnTo>
                  <a:lnTo>
                    <a:pt x="954" y="1100"/>
                  </a:lnTo>
                  <a:lnTo>
                    <a:pt x="920" y="1063"/>
                  </a:lnTo>
                  <a:lnTo>
                    <a:pt x="886" y="1026"/>
                  </a:lnTo>
                  <a:lnTo>
                    <a:pt x="834" y="971"/>
                  </a:lnTo>
                  <a:lnTo>
                    <a:pt x="800" y="934"/>
                  </a:lnTo>
                  <a:lnTo>
                    <a:pt x="766" y="897"/>
                  </a:lnTo>
                  <a:lnTo>
                    <a:pt x="749" y="843"/>
                  </a:lnTo>
                  <a:lnTo>
                    <a:pt x="714" y="806"/>
                  </a:lnTo>
                  <a:lnTo>
                    <a:pt x="682" y="769"/>
                  </a:lnTo>
                  <a:lnTo>
                    <a:pt x="648" y="732"/>
                  </a:lnTo>
                  <a:lnTo>
                    <a:pt x="613" y="678"/>
                  </a:lnTo>
                  <a:lnTo>
                    <a:pt x="579" y="641"/>
                  </a:lnTo>
                  <a:lnTo>
                    <a:pt x="544" y="604"/>
                  </a:lnTo>
                  <a:lnTo>
                    <a:pt x="528" y="567"/>
                  </a:lnTo>
                  <a:lnTo>
                    <a:pt x="493" y="512"/>
                  </a:lnTo>
                  <a:lnTo>
                    <a:pt x="459" y="475"/>
                  </a:lnTo>
                  <a:lnTo>
                    <a:pt x="425" y="440"/>
                  </a:lnTo>
                  <a:lnTo>
                    <a:pt x="408" y="403"/>
                  </a:lnTo>
                  <a:lnTo>
                    <a:pt x="373" y="366"/>
                  </a:lnTo>
                  <a:lnTo>
                    <a:pt x="339" y="329"/>
                  </a:lnTo>
                  <a:lnTo>
                    <a:pt x="324" y="292"/>
                  </a:lnTo>
                  <a:lnTo>
                    <a:pt x="289" y="256"/>
                  </a:lnTo>
                  <a:lnTo>
                    <a:pt x="255" y="220"/>
                  </a:lnTo>
                  <a:lnTo>
                    <a:pt x="238" y="183"/>
                  </a:lnTo>
                  <a:lnTo>
                    <a:pt x="204" y="146"/>
                  </a:lnTo>
                  <a:lnTo>
                    <a:pt x="187" y="109"/>
                  </a:lnTo>
                  <a:lnTo>
                    <a:pt x="169" y="72"/>
                  </a:lnTo>
                  <a:lnTo>
                    <a:pt x="135" y="36"/>
                  </a:lnTo>
                  <a:lnTo>
                    <a:pt x="118" y="0"/>
                  </a:lnTo>
                  <a:lnTo>
                    <a:pt x="135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4521240" y="4645080"/>
              <a:ext cx="1471680" cy="1003320"/>
            </a:xfrm>
            <a:custGeom>
              <a:avLst/>
              <a:gdLst/>
              <a:ahLst/>
              <a:rect l="l" t="t" r="r" b="b"/>
              <a:pathLst>
                <a:path w="5559" h="3792">
                  <a:moveTo>
                    <a:pt x="341" y="1739"/>
                  </a:moveTo>
                  <a:lnTo>
                    <a:pt x="272" y="1814"/>
                  </a:lnTo>
                  <a:lnTo>
                    <a:pt x="221" y="1867"/>
                  </a:lnTo>
                  <a:lnTo>
                    <a:pt x="170" y="1942"/>
                  </a:lnTo>
                  <a:lnTo>
                    <a:pt x="136" y="2013"/>
                  </a:lnTo>
                  <a:lnTo>
                    <a:pt x="86" y="2087"/>
                  </a:lnTo>
                  <a:lnTo>
                    <a:pt x="67" y="2179"/>
                  </a:lnTo>
                  <a:lnTo>
                    <a:pt x="35" y="2252"/>
                  </a:lnTo>
                  <a:lnTo>
                    <a:pt x="17" y="2344"/>
                  </a:lnTo>
                  <a:lnTo>
                    <a:pt x="0" y="2435"/>
                  </a:lnTo>
                  <a:lnTo>
                    <a:pt x="0" y="2527"/>
                  </a:lnTo>
                  <a:lnTo>
                    <a:pt x="0" y="2618"/>
                  </a:lnTo>
                  <a:lnTo>
                    <a:pt x="17" y="2729"/>
                  </a:lnTo>
                  <a:lnTo>
                    <a:pt x="35" y="2821"/>
                  </a:lnTo>
                  <a:lnTo>
                    <a:pt x="67" y="2930"/>
                  </a:lnTo>
                  <a:lnTo>
                    <a:pt x="101" y="3040"/>
                  </a:lnTo>
                  <a:lnTo>
                    <a:pt x="136" y="3150"/>
                  </a:lnTo>
                  <a:lnTo>
                    <a:pt x="187" y="3169"/>
                  </a:lnTo>
                  <a:lnTo>
                    <a:pt x="221" y="3187"/>
                  </a:lnTo>
                  <a:lnTo>
                    <a:pt x="272" y="3224"/>
                  </a:lnTo>
                  <a:lnTo>
                    <a:pt x="325" y="3241"/>
                  </a:lnTo>
                  <a:lnTo>
                    <a:pt x="357" y="3260"/>
                  </a:lnTo>
                  <a:lnTo>
                    <a:pt x="410" y="3296"/>
                  </a:lnTo>
                  <a:lnTo>
                    <a:pt x="460" y="3315"/>
                  </a:lnTo>
                  <a:lnTo>
                    <a:pt x="511" y="3352"/>
                  </a:lnTo>
                  <a:lnTo>
                    <a:pt x="562" y="3370"/>
                  </a:lnTo>
                  <a:lnTo>
                    <a:pt x="614" y="3389"/>
                  </a:lnTo>
                  <a:lnTo>
                    <a:pt x="665" y="3424"/>
                  </a:lnTo>
                  <a:lnTo>
                    <a:pt x="715" y="3443"/>
                  </a:lnTo>
                  <a:lnTo>
                    <a:pt x="784" y="3461"/>
                  </a:lnTo>
                  <a:lnTo>
                    <a:pt x="835" y="3480"/>
                  </a:lnTo>
                  <a:lnTo>
                    <a:pt x="886" y="3515"/>
                  </a:lnTo>
                  <a:lnTo>
                    <a:pt x="938" y="3535"/>
                  </a:lnTo>
                  <a:lnTo>
                    <a:pt x="989" y="3553"/>
                  </a:lnTo>
                  <a:lnTo>
                    <a:pt x="1056" y="3572"/>
                  </a:lnTo>
                  <a:lnTo>
                    <a:pt x="1108" y="3590"/>
                  </a:lnTo>
                  <a:lnTo>
                    <a:pt x="1159" y="3609"/>
                  </a:lnTo>
                  <a:lnTo>
                    <a:pt x="1228" y="3627"/>
                  </a:lnTo>
                  <a:lnTo>
                    <a:pt x="1279" y="3643"/>
                  </a:lnTo>
                  <a:lnTo>
                    <a:pt x="1330" y="3663"/>
                  </a:lnTo>
                  <a:lnTo>
                    <a:pt x="1399" y="3680"/>
                  </a:lnTo>
                  <a:lnTo>
                    <a:pt x="1449" y="3700"/>
                  </a:lnTo>
                  <a:lnTo>
                    <a:pt x="1500" y="3700"/>
                  </a:lnTo>
                  <a:lnTo>
                    <a:pt x="1569" y="3718"/>
                  </a:lnTo>
                  <a:lnTo>
                    <a:pt x="1620" y="3735"/>
                  </a:lnTo>
                  <a:lnTo>
                    <a:pt x="1670" y="3735"/>
                  </a:lnTo>
                  <a:lnTo>
                    <a:pt x="1739" y="3755"/>
                  </a:lnTo>
                  <a:lnTo>
                    <a:pt x="1790" y="3755"/>
                  </a:lnTo>
                  <a:lnTo>
                    <a:pt x="1842" y="3755"/>
                  </a:lnTo>
                  <a:lnTo>
                    <a:pt x="1927" y="3755"/>
                  </a:lnTo>
                  <a:lnTo>
                    <a:pt x="1994" y="3772"/>
                  </a:lnTo>
                  <a:lnTo>
                    <a:pt x="2063" y="3772"/>
                  </a:lnTo>
                  <a:lnTo>
                    <a:pt x="2148" y="3772"/>
                  </a:lnTo>
                  <a:lnTo>
                    <a:pt x="2217" y="3772"/>
                  </a:lnTo>
                  <a:lnTo>
                    <a:pt x="2302" y="3772"/>
                  </a:lnTo>
                  <a:lnTo>
                    <a:pt x="2369" y="3792"/>
                  </a:lnTo>
                  <a:lnTo>
                    <a:pt x="2454" y="3792"/>
                  </a:lnTo>
                  <a:lnTo>
                    <a:pt x="2523" y="3772"/>
                  </a:lnTo>
                  <a:lnTo>
                    <a:pt x="2609" y="3772"/>
                  </a:lnTo>
                  <a:lnTo>
                    <a:pt x="2678" y="3772"/>
                  </a:lnTo>
                  <a:lnTo>
                    <a:pt x="2762" y="3772"/>
                  </a:lnTo>
                  <a:lnTo>
                    <a:pt x="2847" y="3772"/>
                  </a:lnTo>
                  <a:lnTo>
                    <a:pt x="2933" y="3755"/>
                  </a:lnTo>
                  <a:lnTo>
                    <a:pt x="3002" y="3755"/>
                  </a:lnTo>
                  <a:lnTo>
                    <a:pt x="3086" y="3755"/>
                  </a:lnTo>
                  <a:lnTo>
                    <a:pt x="3154" y="3735"/>
                  </a:lnTo>
                  <a:lnTo>
                    <a:pt x="3240" y="3718"/>
                  </a:lnTo>
                  <a:lnTo>
                    <a:pt x="3326" y="3718"/>
                  </a:lnTo>
                  <a:lnTo>
                    <a:pt x="3392" y="3700"/>
                  </a:lnTo>
                  <a:lnTo>
                    <a:pt x="3478" y="3680"/>
                  </a:lnTo>
                  <a:lnTo>
                    <a:pt x="3547" y="3663"/>
                  </a:lnTo>
                  <a:lnTo>
                    <a:pt x="3632" y="3643"/>
                  </a:lnTo>
                  <a:lnTo>
                    <a:pt x="3700" y="3627"/>
                  </a:lnTo>
                  <a:lnTo>
                    <a:pt x="3767" y="3609"/>
                  </a:lnTo>
                  <a:lnTo>
                    <a:pt x="3854" y="3572"/>
                  </a:lnTo>
                  <a:lnTo>
                    <a:pt x="3922" y="3553"/>
                  </a:lnTo>
                  <a:lnTo>
                    <a:pt x="3991" y="3515"/>
                  </a:lnTo>
                  <a:lnTo>
                    <a:pt x="4057" y="3498"/>
                  </a:lnTo>
                  <a:lnTo>
                    <a:pt x="4126" y="3461"/>
                  </a:lnTo>
                  <a:lnTo>
                    <a:pt x="4195" y="3424"/>
                  </a:lnTo>
                  <a:lnTo>
                    <a:pt x="4246" y="3389"/>
                  </a:lnTo>
                  <a:lnTo>
                    <a:pt x="4315" y="3352"/>
                  </a:lnTo>
                  <a:lnTo>
                    <a:pt x="4365" y="3315"/>
                  </a:lnTo>
                  <a:lnTo>
                    <a:pt x="4416" y="3278"/>
                  </a:lnTo>
                  <a:lnTo>
                    <a:pt x="4485" y="3241"/>
                  </a:lnTo>
                  <a:lnTo>
                    <a:pt x="4536" y="3205"/>
                  </a:lnTo>
                  <a:lnTo>
                    <a:pt x="4585" y="3150"/>
                  </a:lnTo>
                  <a:lnTo>
                    <a:pt x="4620" y="3113"/>
                  </a:lnTo>
                  <a:lnTo>
                    <a:pt x="4671" y="3076"/>
                  </a:lnTo>
                  <a:lnTo>
                    <a:pt x="4723" y="3021"/>
                  </a:lnTo>
                  <a:lnTo>
                    <a:pt x="4774" y="2967"/>
                  </a:lnTo>
                  <a:lnTo>
                    <a:pt x="4809" y="2930"/>
                  </a:lnTo>
                  <a:lnTo>
                    <a:pt x="4843" y="2875"/>
                  </a:lnTo>
                  <a:lnTo>
                    <a:pt x="4894" y="2821"/>
                  </a:lnTo>
                  <a:lnTo>
                    <a:pt x="4929" y="2784"/>
                  </a:lnTo>
                  <a:lnTo>
                    <a:pt x="4963" y="2729"/>
                  </a:lnTo>
                  <a:lnTo>
                    <a:pt x="4995" y="2673"/>
                  </a:lnTo>
                  <a:lnTo>
                    <a:pt x="5029" y="2618"/>
                  </a:lnTo>
                  <a:lnTo>
                    <a:pt x="5064" y="2564"/>
                  </a:lnTo>
                  <a:lnTo>
                    <a:pt x="5098" y="2509"/>
                  </a:lnTo>
                  <a:lnTo>
                    <a:pt x="5133" y="2435"/>
                  </a:lnTo>
                  <a:lnTo>
                    <a:pt x="5166" y="2381"/>
                  </a:lnTo>
                  <a:lnTo>
                    <a:pt x="5200" y="2325"/>
                  </a:lnTo>
                  <a:lnTo>
                    <a:pt x="5218" y="2252"/>
                  </a:lnTo>
                  <a:lnTo>
                    <a:pt x="5253" y="2199"/>
                  </a:lnTo>
                  <a:lnTo>
                    <a:pt x="5269" y="2142"/>
                  </a:lnTo>
                  <a:lnTo>
                    <a:pt x="5304" y="2070"/>
                  </a:lnTo>
                  <a:lnTo>
                    <a:pt x="5319" y="1996"/>
                  </a:lnTo>
                  <a:lnTo>
                    <a:pt x="5354" y="1942"/>
                  </a:lnTo>
                  <a:lnTo>
                    <a:pt x="5370" y="1867"/>
                  </a:lnTo>
                  <a:lnTo>
                    <a:pt x="5388" y="1793"/>
                  </a:lnTo>
                  <a:lnTo>
                    <a:pt x="5422" y="1739"/>
                  </a:lnTo>
                  <a:lnTo>
                    <a:pt x="5439" y="1667"/>
                  </a:lnTo>
                  <a:lnTo>
                    <a:pt x="5490" y="1448"/>
                  </a:lnTo>
                  <a:lnTo>
                    <a:pt x="5525" y="1228"/>
                  </a:lnTo>
                  <a:lnTo>
                    <a:pt x="5559" y="1026"/>
                  </a:lnTo>
                  <a:lnTo>
                    <a:pt x="5559" y="806"/>
                  </a:lnTo>
                  <a:lnTo>
                    <a:pt x="5559" y="586"/>
                  </a:lnTo>
                  <a:lnTo>
                    <a:pt x="5525" y="384"/>
                  </a:lnTo>
                  <a:lnTo>
                    <a:pt x="5508" y="183"/>
                  </a:lnTo>
                  <a:lnTo>
                    <a:pt x="5473" y="0"/>
                  </a:lnTo>
                  <a:lnTo>
                    <a:pt x="5370" y="38"/>
                  </a:lnTo>
                  <a:lnTo>
                    <a:pt x="5269" y="72"/>
                  </a:lnTo>
                  <a:lnTo>
                    <a:pt x="5184" y="91"/>
                  </a:lnTo>
                  <a:lnTo>
                    <a:pt x="5080" y="128"/>
                  </a:lnTo>
                  <a:lnTo>
                    <a:pt x="4978" y="164"/>
                  </a:lnTo>
                  <a:lnTo>
                    <a:pt x="4876" y="201"/>
                  </a:lnTo>
                  <a:lnTo>
                    <a:pt x="4774" y="220"/>
                  </a:lnTo>
                  <a:lnTo>
                    <a:pt x="4671" y="256"/>
                  </a:lnTo>
                  <a:lnTo>
                    <a:pt x="4570" y="292"/>
                  </a:lnTo>
                  <a:lnTo>
                    <a:pt x="4485" y="329"/>
                  </a:lnTo>
                  <a:lnTo>
                    <a:pt x="4381" y="366"/>
                  </a:lnTo>
                  <a:lnTo>
                    <a:pt x="4280" y="403"/>
                  </a:lnTo>
                  <a:lnTo>
                    <a:pt x="4177" y="420"/>
                  </a:lnTo>
                  <a:lnTo>
                    <a:pt x="4075" y="457"/>
                  </a:lnTo>
                  <a:lnTo>
                    <a:pt x="3972" y="494"/>
                  </a:lnTo>
                  <a:lnTo>
                    <a:pt x="3871" y="531"/>
                  </a:lnTo>
                  <a:lnTo>
                    <a:pt x="3767" y="586"/>
                  </a:lnTo>
                  <a:lnTo>
                    <a:pt x="3665" y="623"/>
                  </a:lnTo>
                  <a:lnTo>
                    <a:pt x="3563" y="659"/>
                  </a:lnTo>
                  <a:lnTo>
                    <a:pt x="3461" y="696"/>
                  </a:lnTo>
                  <a:lnTo>
                    <a:pt x="3358" y="751"/>
                  </a:lnTo>
                  <a:lnTo>
                    <a:pt x="3257" y="788"/>
                  </a:lnTo>
                  <a:lnTo>
                    <a:pt x="3154" y="823"/>
                  </a:lnTo>
                  <a:lnTo>
                    <a:pt x="3052" y="879"/>
                  </a:lnTo>
                  <a:lnTo>
                    <a:pt x="2951" y="915"/>
                  </a:lnTo>
                  <a:lnTo>
                    <a:pt x="2847" y="971"/>
                  </a:lnTo>
                  <a:lnTo>
                    <a:pt x="2745" y="1026"/>
                  </a:lnTo>
                  <a:lnTo>
                    <a:pt x="2643" y="1080"/>
                  </a:lnTo>
                  <a:lnTo>
                    <a:pt x="2541" y="1135"/>
                  </a:lnTo>
                  <a:lnTo>
                    <a:pt x="2438" y="1191"/>
                  </a:lnTo>
                  <a:lnTo>
                    <a:pt x="2337" y="1245"/>
                  </a:lnTo>
                  <a:lnTo>
                    <a:pt x="2234" y="1300"/>
                  </a:lnTo>
                  <a:lnTo>
                    <a:pt x="2165" y="1300"/>
                  </a:lnTo>
                  <a:lnTo>
                    <a:pt x="2097" y="1300"/>
                  </a:lnTo>
                  <a:lnTo>
                    <a:pt x="2013" y="1319"/>
                  </a:lnTo>
                  <a:lnTo>
                    <a:pt x="1944" y="1319"/>
                  </a:lnTo>
                  <a:lnTo>
                    <a:pt x="1875" y="1319"/>
                  </a:lnTo>
                  <a:lnTo>
                    <a:pt x="1807" y="1337"/>
                  </a:lnTo>
                  <a:lnTo>
                    <a:pt x="1755" y="1337"/>
                  </a:lnTo>
                  <a:lnTo>
                    <a:pt x="1689" y="1354"/>
                  </a:lnTo>
                  <a:lnTo>
                    <a:pt x="1620" y="1354"/>
                  </a:lnTo>
                  <a:lnTo>
                    <a:pt x="1551" y="1374"/>
                  </a:lnTo>
                  <a:lnTo>
                    <a:pt x="1483" y="1374"/>
                  </a:lnTo>
                  <a:lnTo>
                    <a:pt x="1433" y="1392"/>
                  </a:lnTo>
                  <a:lnTo>
                    <a:pt x="1365" y="1392"/>
                  </a:lnTo>
                  <a:lnTo>
                    <a:pt x="1313" y="1411"/>
                  </a:lnTo>
                  <a:lnTo>
                    <a:pt x="1245" y="1411"/>
                  </a:lnTo>
                  <a:lnTo>
                    <a:pt x="1194" y="1429"/>
                  </a:lnTo>
                  <a:lnTo>
                    <a:pt x="1125" y="1448"/>
                  </a:lnTo>
                  <a:lnTo>
                    <a:pt x="1075" y="1465"/>
                  </a:lnTo>
                  <a:lnTo>
                    <a:pt x="1006" y="1465"/>
                  </a:lnTo>
                  <a:lnTo>
                    <a:pt x="955" y="1482"/>
                  </a:lnTo>
                  <a:lnTo>
                    <a:pt x="904" y="1502"/>
                  </a:lnTo>
                  <a:lnTo>
                    <a:pt x="852" y="1520"/>
                  </a:lnTo>
                  <a:lnTo>
                    <a:pt x="801" y="1539"/>
                  </a:lnTo>
                  <a:lnTo>
                    <a:pt x="734" y="1557"/>
                  </a:lnTo>
                  <a:lnTo>
                    <a:pt x="682" y="1574"/>
                  </a:lnTo>
                  <a:lnTo>
                    <a:pt x="631" y="1594"/>
                  </a:lnTo>
                  <a:lnTo>
                    <a:pt x="580" y="1610"/>
                  </a:lnTo>
                  <a:lnTo>
                    <a:pt x="529" y="1648"/>
                  </a:lnTo>
                  <a:lnTo>
                    <a:pt x="477" y="1667"/>
                  </a:lnTo>
                  <a:lnTo>
                    <a:pt x="425" y="1685"/>
                  </a:lnTo>
                  <a:lnTo>
                    <a:pt x="391" y="1722"/>
                  </a:lnTo>
                  <a:lnTo>
                    <a:pt x="341" y="17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5468760" y="4795920"/>
              <a:ext cx="27000" cy="3816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51" y="146"/>
                  </a:moveTo>
                  <a:lnTo>
                    <a:pt x="84" y="128"/>
                  </a:lnTo>
                  <a:lnTo>
                    <a:pt x="84" y="91"/>
                  </a:lnTo>
                  <a:lnTo>
                    <a:pt x="101" y="72"/>
                  </a:lnTo>
                  <a:lnTo>
                    <a:pt x="84" y="55"/>
                  </a:lnTo>
                  <a:lnTo>
                    <a:pt x="84" y="18"/>
                  </a:lnTo>
                  <a:lnTo>
                    <a:pt x="69" y="0"/>
                  </a:lnTo>
                  <a:lnTo>
                    <a:pt x="34" y="0"/>
                  </a:lnTo>
                  <a:lnTo>
                    <a:pt x="0" y="0"/>
                  </a:lnTo>
                  <a:lnTo>
                    <a:pt x="51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5103720" y="4795920"/>
              <a:ext cx="379440" cy="212760"/>
            </a:xfrm>
            <a:custGeom>
              <a:avLst/>
              <a:gdLst/>
              <a:ahLst/>
              <a:rect l="l" t="t" r="r" b="b"/>
              <a:pathLst>
                <a:path w="1433" h="806">
                  <a:moveTo>
                    <a:pt x="35" y="806"/>
                  </a:moveTo>
                  <a:lnTo>
                    <a:pt x="69" y="786"/>
                  </a:lnTo>
                  <a:lnTo>
                    <a:pt x="103" y="769"/>
                  </a:lnTo>
                  <a:lnTo>
                    <a:pt x="153" y="751"/>
                  </a:lnTo>
                  <a:lnTo>
                    <a:pt x="188" y="714"/>
                  </a:lnTo>
                  <a:lnTo>
                    <a:pt x="239" y="695"/>
                  </a:lnTo>
                  <a:lnTo>
                    <a:pt x="273" y="677"/>
                  </a:lnTo>
                  <a:lnTo>
                    <a:pt x="324" y="660"/>
                  </a:lnTo>
                  <a:lnTo>
                    <a:pt x="359" y="623"/>
                  </a:lnTo>
                  <a:lnTo>
                    <a:pt x="410" y="604"/>
                  </a:lnTo>
                  <a:lnTo>
                    <a:pt x="444" y="586"/>
                  </a:lnTo>
                  <a:lnTo>
                    <a:pt x="494" y="567"/>
                  </a:lnTo>
                  <a:lnTo>
                    <a:pt x="528" y="549"/>
                  </a:lnTo>
                  <a:lnTo>
                    <a:pt x="580" y="512"/>
                  </a:lnTo>
                  <a:lnTo>
                    <a:pt x="614" y="494"/>
                  </a:lnTo>
                  <a:lnTo>
                    <a:pt x="665" y="475"/>
                  </a:lnTo>
                  <a:lnTo>
                    <a:pt x="699" y="458"/>
                  </a:lnTo>
                  <a:lnTo>
                    <a:pt x="752" y="440"/>
                  </a:lnTo>
                  <a:lnTo>
                    <a:pt x="784" y="421"/>
                  </a:lnTo>
                  <a:lnTo>
                    <a:pt x="837" y="403"/>
                  </a:lnTo>
                  <a:lnTo>
                    <a:pt x="869" y="384"/>
                  </a:lnTo>
                  <a:lnTo>
                    <a:pt x="921" y="366"/>
                  </a:lnTo>
                  <a:lnTo>
                    <a:pt x="972" y="329"/>
                  </a:lnTo>
                  <a:lnTo>
                    <a:pt x="1007" y="311"/>
                  </a:lnTo>
                  <a:lnTo>
                    <a:pt x="1041" y="292"/>
                  </a:lnTo>
                  <a:lnTo>
                    <a:pt x="1092" y="274"/>
                  </a:lnTo>
                  <a:lnTo>
                    <a:pt x="1142" y="255"/>
                  </a:lnTo>
                  <a:lnTo>
                    <a:pt x="1177" y="238"/>
                  </a:lnTo>
                  <a:lnTo>
                    <a:pt x="1211" y="220"/>
                  </a:lnTo>
                  <a:lnTo>
                    <a:pt x="1262" y="201"/>
                  </a:lnTo>
                  <a:lnTo>
                    <a:pt x="1313" y="201"/>
                  </a:lnTo>
                  <a:lnTo>
                    <a:pt x="1348" y="183"/>
                  </a:lnTo>
                  <a:lnTo>
                    <a:pt x="1399" y="164"/>
                  </a:lnTo>
                  <a:lnTo>
                    <a:pt x="1433" y="146"/>
                  </a:lnTo>
                  <a:lnTo>
                    <a:pt x="1382" y="0"/>
                  </a:lnTo>
                  <a:lnTo>
                    <a:pt x="1348" y="18"/>
                  </a:lnTo>
                  <a:lnTo>
                    <a:pt x="1297" y="36"/>
                  </a:lnTo>
                  <a:lnTo>
                    <a:pt x="1262" y="55"/>
                  </a:lnTo>
                  <a:lnTo>
                    <a:pt x="1211" y="72"/>
                  </a:lnTo>
                  <a:lnTo>
                    <a:pt x="1177" y="91"/>
                  </a:lnTo>
                  <a:lnTo>
                    <a:pt x="1127" y="109"/>
                  </a:lnTo>
                  <a:lnTo>
                    <a:pt x="1092" y="128"/>
                  </a:lnTo>
                  <a:lnTo>
                    <a:pt x="1041" y="146"/>
                  </a:lnTo>
                  <a:lnTo>
                    <a:pt x="989" y="164"/>
                  </a:lnTo>
                  <a:lnTo>
                    <a:pt x="955" y="183"/>
                  </a:lnTo>
                  <a:lnTo>
                    <a:pt x="904" y="201"/>
                  </a:lnTo>
                  <a:lnTo>
                    <a:pt x="869" y="220"/>
                  </a:lnTo>
                  <a:lnTo>
                    <a:pt x="818" y="238"/>
                  </a:lnTo>
                  <a:lnTo>
                    <a:pt x="784" y="255"/>
                  </a:lnTo>
                  <a:lnTo>
                    <a:pt x="734" y="274"/>
                  </a:lnTo>
                  <a:lnTo>
                    <a:pt x="699" y="311"/>
                  </a:lnTo>
                  <a:lnTo>
                    <a:pt x="648" y="329"/>
                  </a:lnTo>
                  <a:lnTo>
                    <a:pt x="597" y="347"/>
                  </a:lnTo>
                  <a:lnTo>
                    <a:pt x="563" y="366"/>
                  </a:lnTo>
                  <a:lnTo>
                    <a:pt x="513" y="384"/>
                  </a:lnTo>
                  <a:lnTo>
                    <a:pt x="479" y="403"/>
                  </a:lnTo>
                  <a:lnTo>
                    <a:pt x="428" y="440"/>
                  </a:lnTo>
                  <a:lnTo>
                    <a:pt x="393" y="458"/>
                  </a:lnTo>
                  <a:lnTo>
                    <a:pt x="342" y="475"/>
                  </a:lnTo>
                  <a:lnTo>
                    <a:pt x="308" y="494"/>
                  </a:lnTo>
                  <a:lnTo>
                    <a:pt x="255" y="512"/>
                  </a:lnTo>
                  <a:lnTo>
                    <a:pt x="222" y="549"/>
                  </a:lnTo>
                  <a:lnTo>
                    <a:pt x="170" y="567"/>
                  </a:lnTo>
                  <a:lnTo>
                    <a:pt x="120" y="586"/>
                  </a:lnTo>
                  <a:lnTo>
                    <a:pt x="86" y="623"/>
                  </a:lnTo>
                  <a:lnTo>
                    <a:pt x="35" y="641"/>
                  </a:lnTo>
                  <a:lnTo>
                    <a:pt x="0" y="660"/>
                  </a:lnTo>
                  <a:lnTo>
                    <a:pt x="35" y="660"/>
                  </a:lnTo>
                  <a:lnTo>
                    <a:pt x="35" y="8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4599000" y="4970520"/>
              <a:ext cx="512640" cy="154080"/>
            </a:xfrm>
            <a:custGeom>
              <a:avLst/>
              <a:gdLst/>
              <a:ahLst/>
              <a:rect l="l" t="t" r="r" b="b"/>
              <a:pathLst>
                <a:path w="1944" h="586">
                  <a:moveTo>
                    <a:pt x="86" y="565"/>
                  </a:moveTo>
                  <a:lnTo>
                    <a:pt x="86" y="586"/>
                  </a:lnTo>
                  <a:lnTo>
                    <a:pt x="120" y="548"/>
                  </a:lnTo>
                  <a:lnTo>
                    <a:pt x="170" y="531"/>
                  </a:lnTo>
                  <a:lnTo>
                    <a:pt x="221" y="511"/>
                  </a:lnTo>
                  <a:lnTo>
                    <a:pt x="272" y="474"/>
                  </a:lnTo>
                  <a:lnTo>
                    <a:pt x="324" y="457"/>
                  </a:lnTo>
                  <a:lnTo>
                    <a:pt x="375" y="439"/>
                  </a:lnTo>
                  <a:lnTo>
                    <a:pt x="425" y="420"/>
                  </a:lnTo>
                  <a:lnTo>
                    <a:pt x="476" y="403"/>
                  </a:lnTo>
                  <a:lnTo>
                    <a:pt x="528" y="382"/>
                  </a:lnTo>
                  <a:lnTo>
                    <a:pt x="579" y="366"/>
                  </a:lnTo>
                  <a:lnTo>
                    <a:pt x="631" y="346"/>
                  </a:lnTo>
                  <a:lnTo>
                    <a:pt x="682" y="329"/>
                  </a:lnTo>
                  <a:lnTo>
                    <a:pt x="734" y="311"/>
                  </a:lnTo>
                  <a:lnTo>
                    <a:pt x="800" y="292"/>
                  </a:lnTo>
                  <a:lnTo>
                    <a:pt x="853" y="292"/>
                  </a:lnTo>
                  <a:lnTo>
                    <a:pt x="904" y="274"/>
                  </a:lnTo>
                  <a:lnTo>
                    <a:pt x="971" y="254"/>
                  </a:lnTo>
                  <a:lnTo>
                    <a:pt x="1023" y="254"/>
                  </a:lnTo>
                  <a:lnTo>
                    <a:pt x="1090" y="237"/>
                  </a:lnTo>
                  <a:lnTo>
                    <a:pt x="1143" y="237"/>
                  </a:lnTo>
                  <a:lnTo>
                    <a:pt x="1210" y="220"/>
                  </a:lnTo>
                  <a:lnTo>
                    <a:pt x="1279" y="201"/>
                  </a:lnTo>
                  <a:lnTo>
                    <a:pt x="1330" y="201"/>
                  </a:lnTo>
                  <a:lnTo>
                    <a:pt x="1399" y="201"/>
                  </a:lnTo>
                  <a:lnTo>
                    <a:pt x="1465" y="183"/>
                  </a:lnTo>
                  <a:lnTo>
                    <a:pt x="1534" y="183"/>
                  </a:lnTo>
                  <a:lnTo>
                    <a:pt x="1603" y="164"/>
                  </a:lnTo>
                  <a:lnTo>
                    <a:pt x="1671" y="164"/>
                  </a:lnTo>
                  <a:lnTo>
                    <a:pt x="1738" y="164"/>
                  </a:lnTo>
                  <a:lnTo>
                    <a:pt x="1807" y="146"/>
                  </a:lnTo>
                  <a:lnTo>
                    <a:pt x="1875" y="146"/>
                  </a:lnTo>
                  <a:lnTo>
                    <a:pt x="1944" y="146"/>
                  </a:lnTo>
                  <a:lnTo>
                    <a:pt x="1944" y="0"/>
                  </a:lnTo>
                  <a:lnTo>
                    <a:pt x="1858" y="0"/>
                  </a:lnTo>
                  <a:lnTo>
                    <a:pt x="1789" y="17"/>
                  </a:lnTo>
                  <a:lnTo>
                    <a:pt x="1723" y="17"/>
                  </a:lnTo>
                  <a:lnTo>
                    <a:pt x="1654" y="17"/>
                  </a:lnTo>
                  <a:lnTo>
                    <a:pt x="1585" y="17"/>
                  </a:lnTo>
                  <a:lnTo>
                    <a:pt x="1517" y="35"/>
                  </a:lnTo>
                  <a:lnTo>
                    <a:pt x="1449" y="35"/>
                  </a:lnTo>
                  <a:lnTo>
                    <a:pt x="1380" y="54"/>
                  </a:lnTo>
                  <a:lnTo>
                    <a:pt x="1313" y="54"/>
                  </a:lnTo>
                  <a:lnTo>
                    <a:pt x="1261" y="72"/>
                  </a:lnTo>
                  <a:lnTo>
                    <a:pt x="1193" y="72"/>
                  </a:lnTo>
                  <a:lnTo>
                    <a:pt x="1124" y="91"/>
                  </a:lnTo>
                  <a:lnTo>
                    <a:pt x="1075" y="91"/>
                  </a:lnTo>
                  <a:lnTo>
                    <a:pt x="1006" y="109"/>
                  </a:lnTo>
                  <a:lnTo>
                    <a:pt x="938" y="109"/>
                  </a:lnTo>
                  <a:lnTo>
                    <a:pt x="886" y="126"/>
                  </a:lnTo>
                  <a:lnTo>
                    <a:pt x="818" y="146"/>
                  </a:lnTo>
                  <a:lnTo>
                    <a:pt x="766" y="164"/>
                  </a:lnTo>
                  <a:lnTo>
                    <a:pt x="699" y="183"/>
                  </a:lnTo>
                  <a:lnTo>
                    <a:pt x="648" y="183"/>
                  </a:lnTo>
                  <a:lnTo>
                    <a:pt x="596" y="201"/>
                  </a:lnTo>
                  <a:lnTo>
                    <a:pt x="545" y="220"/>
                  </a:lnTo>
                  <a:lnTo>
                    <a:pt x="476" y="237"/>
                  </a:lnTo>
                  <a:lnTo>
                    <a:pt x="425" y="254"/>
                  </a:lnTo>
                  <a:lnTo>
                    <a:pt x="375" y="274"/>
                  </a:lnTo>
                  <a:lnTo>
                    <a:pt x="324" y="311"/>
                  </a:lnTo>
                  <a:lnTo>
                    <a:pt x="272" y="329"/>
                  </a:lnTo>
                  <a:lnTo>
                    <a:pt x="221" y="346"/>
                  </a:lnTo>
                  <a:lnTo>
                    <a:pt x="170" y="382"/>
                  </a:lnTo>
                  <a:lnTo>
                    <a:pt x="120" y="403"/>
                  </a:lnTo>
                  <a:lnTo>
                    <a:pt x="67" y="420"/>
                  </a:lnTo>
                  <a:lnTo>
                    <a:pt x="17" y="457"/>
                  </a:lnTo>
                  <a:lnTo>
                    <a:pt x="0" y="457"/>
                  </a:lnTo>
                  <a:lnTo>
                    <a:pt x="86" y="5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4503600" y="5091120"/>
              <a:ext cx="117720" cy="401760"/>
            </a:xfrm>
            <a:custGeom>
              <a:avLst/>
              <a:gdLst/>
              <a:ahLst/>
              <a:rect l="l" t="t" r="r" b="b"/>
              <a:pathLst>
                <a:path w="444" h="1520">
                  <a:moveTo>
                    <a:pt x="238" y="1391"/>
                  </a:moveTo>
                  <a:lnTo>
                    <a:pt x="273" y="1428"/>
                  </a:lnTo>
                  <a:lnTo>
                    <a:pt x="255" y="1373"/>
                  </a:lnTo>
                  <a:lnTo>
                    <a:pt x="220" y="1319"/>
                  </a:lnTo>
                  <a:lnTo>
                    <a:pt x="204" y="1282"/>
                  </a:lnTo>
                  <a:lnTo>
                    <a:pt x="188" y="1227"/>
                  </a:lnTo>
                  <a:lnTo>
                    <a:pt x="188" y="1172"/>
                  </a:lnTo>
                  <a:lnTo>
                    <a:pt x="169" y="1117"/>
                  </a:lnTo>
                  <a:lnTo>
                    <a:pt x="154" y="1080"/>
                  </a:lnTo>
                  <a:lnTo>
                    <a:pt x="154" y="1025"/>
                  </a:lnTo>
                  <a:lnTo>
                    <a:pt x="154" y="988"/>
                  </a:lnTo>
                  <a:lnTo>
                    <a:pt x="135" y="933"/>
                  </a:lnTo>
                  <a:lnTo>
                    <a:pt x="135" y="897"/>
                  </a:lnTo>
                  <a:lnTo>
                    <a:pt x="135" y="842"/>
                  </a:lnTo>
                  <a:lnTo>
                    <a:pt x="135" y="805"/>
                  </a:lnTo>
                  <a:lnTo>
                    <a:pt x="135" y="750"/>
                  </a:lnTo>
                  <a:lnTo>
                    <a:pt x="154" y="714"/>
                  </a:lnTo>
                  <a:lnTo>
                    <a:pt x="154" y="677"/>
                  </a:lnTo>
                  <a:lnTo>
                    <a:pt x="154" y="622"/>
                  </a:lnTo>
                  <a:lnTo>
                    <a:pt x="169" y="585"/>
                  </a:lnTo>
                  <a:lnTo>
                    <a:pt x="188" y="548"/>
                  </a:lnTo>
                  <a:lnTo>
                    <a:pt x="188" y="514"/>
                  </a:lnTo>
                  <a:lnTo>
                    <a:pt x="204" y="476"/>
                  </a:lnTo>
                  <a:lnTo>
                    <a:pt x="220" y="439"/>
                  </a:lnTo>
                  <a:lnTo>
                    <a:pt x="238" y="402"/>
                  </a:lnTo>
                  <a:lnTo>
                    <a:pt x="255" y="365"/>
                  </a:lnTo>
                  <a:lnTo>
                    <a:pt x="273" y="328"/>
                  </a:lnTo>
                  <a:lnTo>
                    <a:pt x="289" y="294"/>
                  </a:lnTo>
                  <a:lnTo>
                    <a:pt x="324" y="274"/>
                  </a:lnTo>
                  <a:lnTo>
                    <a:pt x="340" y="237"/>
                  </a:lnTo>
                  <a:lnTo>
                    <a:pt x="375" y="202"/>
                  </a:lnTo>
                  <a:lnTo>
                    <a:pt x="393" y="166"/>
                  </a:lnTo>
                  <a:lnTo>
                    <a:pt x="425" y="145"/>
                  </a:lnTo>
                  <a:lnTo>
                    <a:pt x="444" y="108"/>
                  </a:lnTo>
                  <a:lnTo>
                    <a:pt x="358" y="0"/>
                  </a:lnTo>
                  <a:lnTo>
                    <a:pt x="324" y="37"/>
                  </a:lnTo>
                  <a:lnTo>
                    <a:pt x="289" y="74"/>
                  </a:lnTo>
                  <a:lnTo>
                    <a:pt x="273" y="108"/>
                  </a:lnTo>
                  <a:lnTo>
                    <a:pt x="238" y="145"/>
                  </a:lnTo>
                  <a:lnTo>
                    <a:pt x="204" y="182"/>
                  </a:lnTo>
                  <a:lnTo>
                    <a:pt x="188" y="219"/>
                  </a:lnTo>
                  <a:lnTo>
                    <a:pt x="154" y="257"/>
                  </a:lnTo>
                  <a:lnTo>
                    <a:pt x="135" y="294"/>
                  </a:lnTo>
                  <a:lnTo>
                    <a:pt x="120" y="328"/>
                  </a:lnTo>
                  <a:lnTo>
                    <a:pt x="103" y="385"/>
                  </a:lnTo>
                  <a:lnTo>
                    <a:pt x="85" y="420"/>
                  </a:lnTo>
                  <a:lnTo>
                    <a:pt x="68" y="457"/>
                  </a:lnTo>
                  <a:lnTo>
                    <a:pt x="51" y="514"/>
                  </a:lnTo>
                  <a:lnTo>
                    <a:pt x="34" y="548"/>
                  </a:lnTo>
                  <a:lnTo>
                    <a:pt x="34" y="604"/>
                  </a:lnTo>
                  <a:lnTo>
                    <a:pt x="16" y="640"/>
                  </a:lnTo>
                  <a:lnTo>
                    <a:pt x="16" y="696"/>
                  </a:lnTo>
                  <a:lnTo>
                    <a:pt x="16" y="750"/>
                  </a:lnTo>
                  <a:lnTo>
                    <a:pt x="0" y="787"/>
                  </a:lnTo>
                  <a:lnTo>
                    <a:pt x="0" y="842"/>
                  </a:lnTo>
                  <a:lnTo>
                    <a:pt x="0" y="897"/>
                  </a:lnTo>
                  <a:lnTo>
                    <a:pt x="16" y="952"/>
                  </a:lnTo>
                  <a:lnTo>
                    <a:pt x="16" y="1007"/>
                  </a:lnTo>
                  <a:lnTo>
                    <a:pt x="16" y="1044"/>
                  </a:lnTo>
                  <a:lnTo>
                    <a:pt x="34" y="1099"/>
                  </a:lnTo>
                  <a:lnTo>
                    <a:pt x="34" y="1153"/>
                  </a:lnTo>
                  <a:lnTo>
                    <a:pt x="51" y="1208"/>
                  </a:lnTo>
                  <a:lnTo>
                    <a:pt x="68" y="1264"/>
                  </a:lnTo>
                  <a:lnTo>
                    <a:pt x="85" y="1319"/>
                  </a:lnTo>
                  <a:lnTo>
                    <a:pt x="103" y="1373"/>
                  </a:lnTo>
                  <a:lnTo>
                    <a:pt x="120" y="1428"/>
                  </a:lnTo>
                  <a:lnTo>
                    <a:pt x="154" y="1484"/>
                  </a:lnTo>
                  <a:lnTo>
                    <a:pt x="169" y="1520"/>
                  </a:lnTo>
                  <a:lnTo>
                    <a:pt x="238" y="139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4548240" y="5459400"/>
              <a:ext cx="465120" cy="198360"/>
            </a:xfrm>
            <a:custGeom>
              <a:avLst/>
              <a:gdLst/>
              <a:ahLst/>
              <a:rect l="l" t="t" r="r" b="b"/>
              <a:pathLst>
                <a:path w="1757" h="753">
                  <a:moveTo>
                    <a:pt x="1757" y="604"/>
                  </a:moveTo>
                  <a:lnTo>
                    <a:pt x="1689" y="604"/>
                  </a:lnTo>
                  <a:lnTo>
                    <a:pt x="1638" y="604"/>
                  </a:lnTo>
                  <a:lnTo>
                    <a:pt x="1588" y="587"/>
                  </a:lnTo>
                  <a:lnTo>
                    <a:pt x="1537" y="587"/>
                  </a:lnTo>
                  <a:lnTo>
                    <a:pt x="1468" y="567"/>
                  </a:lnTo>
                  <a:lnTo>
                    <a:pt x="1417" y="551"/>
                  </a:lnTo>
                  <a:lnTo>
                    <a:pt x="1364" y="551"/>
                  </a:lnTo>
                  <a:lnTo>
                    <a:pt x="1313" y="533"/>
                  </a:lnTo>
                  <a:lnTo>
                    <a:pt x="1245" y="514"/>
                  </a:lnTo>
                  <a:lnTo>
                    <a:pt x="1195" y="496"/>
                  </a:lnTo>
                  <a:lnTo>
                    <a:pt x="1144" y="477"/>
                  </a:lnTo>
                  <a:lnTo>
                    <a:pt x="1075" y="459"/>
                  </a:lnTo>
                  <a:lnTo>
                    <a:pt x="1024" y="439"/>
                  </a:lnTo>
                  <a:lnTo>
                    <a:pt x="974" y="422"/>
                  </a:lnTo>
                  <a:lnTo>
                    <a:pt x="923" y="404"/>
                  </a:lnTo>
                  <a:lnTo>
                    <a:pt x="871" y="385"/>
                  </a:lnTo>
                  <a:lnTo>
                    <a:pt x="803" y="367"/>
                  </a:lnTo>
                  <a:lnTo>
                    <a:pt x="751" y="348"/>
                  </a:lnTo>
                  <a:lnTo>
                    <a:pt x="700" y="313"/>
                  </a:lnTo>
                  <a:lnTo>
                    <a:pt x="649" y="294"/>
                  </a:lnTo>
                  <a:lnTo>
                    <a:pt x="599" y="276"/>
                  </a:lnTo>
                  <a:lnTo>
                    <a:pt x="546" y="257"/>
                  </a:lnTo>
                  <a:lnTo>
                    <a:pt x="495" y="220"/>
                  </a:lnTo>
                  <a:lnTo>
                    <a:pt x="444" y="202"/>
                  </a:lnTo>
                  <a:lnTo>
                    <a:pt x="393" y="184"/>
                  </a:lnTo>
                  <a:lnTo>
                    <a:pt x="341" y="148"/>
                  </a:lnTo>
                  <a:lnTo>
                    <a:pt x="290" y="129"/>
                  </a:lnTo>
                  <a:lnTo>
                    <a:pt x="240" y="111"/>
                  </a:lnTo>
                  <a:lnTo>
                    <a:pt x="206" y="74"/>
                  </a:lnTo>
                  <a:lnTo>
                    <a:pt x="155" y="56"/>
                  </a:lnTo>
                  <a:lnTo>
                    <a:pt x="120" y="37"/>
                  </a:lnTo>
                  <a:lnTo>
                    <a:pt x="69" y="0"/>
                  </a:lnTo>
                  <a:lnTo>
                    <a:pt x="0" y="129"/>
                  </a:lnTo>
                  <a:lnTo>
                    <a:pt x="51" y="165"/>
                  </a:lnTo>
                  <a:lnTo>
                    <a:pt x="104" y="184"/>
                  </a:lnTo>
                  <a:lnTo>
                    <a:pt x="138" y="202"/>
                  </a:lnTo>
                  <a:lnTo>
                    <a:pt x="189" y="239"/>
                  </a:lnTo>
                  <a:lnTo>
                    <a:pt x="240" y="257"/>
                  </a:lnTo>
                  <a:lnTo>
                    <a:pt x="290" y="276"/>
                  </a:lnTo>
                  <a:lnTo>
                    <a:pt x="341" y="313"/>
                  </a:lnTo>
                  <a:lnTo>
                    <a:pt x="376" y="331"/>
                  </a:lnTo>
                  <a:lnTo>
                    <a:pt x="444" y="367"/>
                  </a:lnTo>
                  <a:lnTo>
                    <a:pt x="495" y="385"/>
                  </a:lnTo>
                  <a:lnTo>
                    <a:pt x="546" y="404"/>
                  </a:lnTo>
                  <a:lnTo>
                    <a:pt x="599" y="439"/>
                  </a:lnTo>
                  <a:lnTo>
                    <a:pt x="649" y="459"/>
                  </a:lnTo>
                  <a:lnTo>
                    <a:pt x="700" y="477"/>
                  </a:lnTo>
                  <a:lnTo>
                    <a:pt x="768" y="496"/>
                  </a:lnTo>
                  <a:lnTo>
                    <a:pt x="820" y="533"/>
                  </a:lnTo>
                  <a:lnTo>
                    <a:pt x="871" y="551"/>
                  </a:lnTo>
                  <a:lnTo>
                    <a:pt x="923" y="567"/>
                  </a:lnTo>
                  <a:lnTo>
                    <a:pt x="989" y="587"/>
                  </a:lnTo>
                  <a:lnTo>
                    <a:pt x="1042" y="604"/>
                  </a:lnTo>
                  <a:lnTo>
                    <a:pt x="1109" y="624"/>
                  </a:lnTo>
                  <a:lnTo>
                    <a:pt x="1160" y="642"/>
                  </a:lnTo>
                  <a:lnTo>
                    <a:pt x="1212" y="659"/>
                  </a:lnTo>
                  <a:lnTo>
                    <a:pt x="1279" y="679"/>
                  </a:lnTo>
                  <a:lnTo>
                    <a:pt x="1332" y="679"/>
                  </a:lnTo>
                  <a:lnTo>
                    <a:pt x="1399" y="696"/>
                  </a:lnTo>
                  <a:lnTo>
                    <a:pt x="1450" y="716"/>
                  </a:lnTo>
                  <a:lnTo>
                    <a:pt x="1502" y="732"/>
                  </a:lnTo>
                  <a:lnTo>
                    <a:pt x="1569" y="732"/>
                  </a:lnTo>
                  <a:lnTo>
                    <a:pt x="1622" y="732"/>
                  </a:lnTo>
                  <a:lnTo>
                    <a:pt x="1689" y="753"/>
                  </a:lnTo>
                  <a:lnTo>
                    <a:pt x="1741" y="753"/>
                  </a:lnTo>
                  <a:lnTo>
                    <a:pt x="1757" y="60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5008680" y="5526000"/>
              <a:ext cx="645840" cy="141480"/>
            </a:xfrm>
            <a:custGeom>
              <a:avLst/>
              <a:gdLst/>
              <a:ahLst/>
              <a:rect l="l" t="t" r="r" b="b"/>
              <a:pathLst>
                <a:path w="2438" h="530">
                  <a:moveTo>
                    <a:pt x="2369" y="0"/>
                  </a:moveTo>
                  <a:lnTo>
                    <a:pt x="2318" y="37"/>
                  </a:lnTo>
                  <a:lnTo>
                    <a:pt x="2250" y="56"/>
                  </a:lnTo>
                  <a:lnTo>
                    <a:pt x="2182" y="91"/>
                  </a:lnTo>
                  <a:lnTo>
                    <a:pt x="2114" y="128"/>
                  </a:lnTo>
                  <a:lnTo>
                    <a:pt x="2045" y="147"/>
                  </a:lnTo>
                  <a:lnTo>
                    <a:pt x="1978" y="165"/>
                  </a:lnTo>
                  <a:lnTo>
                    <a:pt x="1909" y="202"/>
                  </a:lnTo>
                  <a:lnTo>
                    <a:pt x="1840" y="220"/>
                  </a:lnTo>
                  <a:lnTo>
                    <a:pt x="1773" y="239"/>
                  </a:lnTo>
                  <a:lnTo>
                    <a:pt x="1688" y="257"/>
                  </a:lnTo>
                  <a:lnTo>
                    <a:pt x="1619" y="276"/>
                  </a:lnTo>
                  <a:lnTo>
                    <a:pt x="1534" y="294"/>
                  </a:lnTo>
                  <a:lnTo>
                    <a:pt x="1465" y="310"/>
                  </a:lnTo>
                  <a:lnTo>
                    <a:pt x="1381" y="310"/>
                  </a:lnTo>
                  <a:lnTo>
                    <a:pt x="1312" y="330"/>
                  </a:lnTo>
                  <a:lnTo>
                    <a:pt x="1226" y="347"/>
                  </a:lnTo>
                  <a:lnTo>
                    <a:pt x="1160" y="347"/>
                  </a:lnTo>
                  <a:lnTo>
                    <a:pt x="1074" y="347"/>
                  </a:lnTo>
                  <a:lnTo>
                    <a:pt x="1005" y="367"/>
                  </a:lnTo>
                  <a:lnTo>
                    <a:pt x="920" y="367"/>
                  </a:lnTo>
                  <a:lnTo>
                    <a:pt x="836" y="367"/>
                  </a:lnTo>
                  <a:lnTo>
                    <a:pt x="767" y="385"/>
                  </a:lnTo>
                  <a:lnTo>
                    <a:pt x="681" y="385"/>
                  </a:lnTo>
                  <a:lnTo>
                    <a:pt x="612" y="385"/>
                  </a:lnTo>
                  <a:lnTo>
                    <a:pt x="527" y="385"/>
                  </a:lnTo>
                  <a:lnTo>
                    <a:pt x="460" y="385"/>
                  </a:lnTo>
                  <a:lnTo>
                    <a:pt x="375" y="367"/>
                  </a:lnTo>
                  <a:lnTo>
                    <a:pt x="306" y="367"/>
                  </a:lnTo>
                  <a:lnTo>
                    <a:pt x="221" y="367"/>
                  </a:lnTo>
                  <a:lnTo>
                    <a:pt x="152" y="367"/>
                  </a:lnTo>
                  <a:lnTo>
                    <a:pt x="85" y="367"/>
                  </a:lnTo>
                  <a:lnTo>
                    <a:pt x="16" y="347"/>
                  </a:lnTo>
                  <a:lnTo>
                    <a:pt x="0" y="496"/>
                  </a:lnTo>
                  <a:lnTo>
                    <a:pt x="67" y="496"/>
                  </a:lnTo>
                  <a:lnTo>
                    <a:pt x="152" y="513"/>
                  </a:lnTo>
                  <a:lnTo>
                    <a:pt x="221" y="513"/>
                  </a:lnTo>
                  <a:lnTo>
                    <a:pt x="306" y="513"/>
                  </a:lnTo>
                  <a:lnTo>
                    <a:pt x="375" y="513"/>
                  </a:lnTo>
                  <a:lnTo>
                    <a:pt x="443" y="513"/>
                  </a:lnTo>
                  <a:lnTo>
                    <a:pt x="527" y="530"/>
                  </a:lnTo>
                  <a:lnTo>
                    <a:pt x="612" y="530"/>
                  </a:lnTo>
                  <a:lnTo>
                    <a:pt x="681" y="513"/>
                  </a:lnTo>
                  <a:lnTo>
                    <a:pt x="767" y="513"/>
                  </a:lnTo>
                  <a:lnTo>
                    <a:pt x="851" y="513"/>
                  </a:lnTo>
                  <a:lnTo>
                    <a:pt x="920" y="513"/>
                  </a:lnTo>
                  <a:lnTo>
                    <a:pt x="1005" y="513"/>
                  </a:lnTo>
                  <a:lnTo>
                    <a:pt x="1091" y="496"/>
                  </a:lnTo>
                  <a:lnTo>
                    <a:pt x="1160" y="496"/>
                  </a:lnTo>
                  <a:lnTo>
                    <a:pt x="1244" y="475"/>
                  </a:lnTo>
                  <a:lnTo>
                    <a:pt x="1329" y="475"/>
                  </a:lnTo>
                  <a:lnTo>
                    <a:pt x="1415" y="459"/>
                  </a:lnTo>
                  <a:lnTo>
                    <a:pt x="1484" y="459"/>
                  </a:lnTo>
                  <a:lnTo>
                    <a:pt x="1568" y="439"/>
                  </a:lnTo>
                  <a:lnTo>
                    <a:pt x="1654" y="422"/>
                  </a:lnTo>
                  <a:lnTo>
                    <a:pt x="1721" y="402"/>
                  </a:lnTo>
                  <a:lnTo>
                    <a:pt x="1808" y="385"/>
                  </a:lnTo>
                  <a:lnTo>
                    <a:pt x="1874" y="367"/>
                  </a:lnTo>
                  <a:lnTo>
                    <a:pt x="1943" y="330"/>
                  </a:lnTo>
                  <a:lnTo>
                    <a:pt x="2029" y="310"/>
                  </a:lnTo>
                  <a:lnTo>
                    <a:pt x="2098" y="294"/>
                  </a:lnTo>
                  <a:lnTo>
                    <a:pt x="2164" y="257"/>
                  </a:lnTo>
                  <a:lnTo>
                    <a:pt x="2233" y="220"/>
                  </a:lnTo>
                  <a:lnTo>
                    <a:pt x="2302" y="202"/>
                  </a:lnTo>
                  <a:lnTo>
                    <a:pt x="2369" y="165"/>
                  </a:lnTo>
                  <a:lnTo>
                    <a:pt x="2438" y="128"/>
                  </a:lnTo>
                  <a:lnTo>
                    <a:pt x="236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5635800" y="5081760"/>
              <a:ext cx="342720" cy="479160"/>
            </a:xfrm>
            <a:custGeom>
              <a:avLst/>
              <a:gdLst/>
              <a:ahLst/>
              <a:rect l="l" t="t" r="r" b="b"/>
              <a:pathLst>
                <a:path w="1297" h="1813">
                  <a:moveTo>
                    <a:pt x="1159" y="0"/>
                  </a:moveTo>
                  <a:lnTo>
                    <a:pt x="1143" y="54"/>
                  </a:lnTo>
                  <a:lnTo>
                    <a:pt x="1126" y="128"/>
                  </a:lnTo>
                  <a:lnTo>
                    <a:pt x="1093" y="203"/>
                  </a:lnTo>
                  <a:lnTo>
                    <a:pt x="1074" y="256"/>
                  </a:lnTo>
                  <a:lnTo>
                    <a:pt x="1058" y="331"/>
                  </a:lnTo>
                  <a:lnTo>
                    <a:pt x="1024" y="402"/>
                  </a:lnTo>
                  <a:lnTo>
                    <a:pt x="1007" y="457"/>
                  </a:lnTo>
                  <a:lnTo>
                    <a:pt x="973" y="513"/>
                  </a:lnTo>
                  <a:lnTo>
                    <a:pt x="955" y="585"/>
                  </a:lnTo>
                  <a:lnTo>
                    <a:pt x="922" y="641"/>
                  </a:lnTo>
                  <a:lnTo>
                    <a:pt x="887" y="696"/>
                  </a:lnTo>
                  <a:lnTo>
                    <a:pt x="869" y="751"/>
                  </a:lnTo>
                  <a:lnTo>
                    <a:pt x="836" y="805"/>
                  </a:lnTo>
                  <a:lnTo>
                    <a:pt x="802" y="861"/>
                  </a:lnTo>
                  <a:lnTo>
                    <a:pt x="767" y="916"/>
                  </a:lnTo>
                  <a:lnTo>
                    <a:pt x="734" y="970"/>
                  </a:lnTo>
                  <a:lnTo>
                    <a:pt x="700" y="1025"/>
                  </a:lnTo>
                  <a:lnTo>
                    <a:pt x="665" y="1081"/>
                  </a:lnTo>
                  <a:lnTo>
                    <a:pt x="632" y="1136"/>
                  </a:lnTo>
                  <a:lnTo>
                    <a:pt x="580" y="1173"/>
                  </a:lnTo>
                  <a:lnTo>
                    <a:pt x="547" y="1227"/>
                  </a:lnTo>
                  <a:lnTo>
                    <a:pt x="512" y="1282"/>
                  </a:lnTo>
                  <a:lnTo>
                    <a:pt x="460" y="1319"/>
                  </a:lnTo>
                  <a:lnTo>
                    <a:pt x="428" y="1373"/>
                  </a:lnTo>
                  <a:lnTo>
                    <a:pt x="374" y="1410"/>
                  </a:lnTo>
                  <a:lnTo>
                    <a:pt x="325" y="1447"/>
                  </a:lnTo>
                  <a:lnTo>
                    <a:pt x="274" y="1502"/>
                  </a:lnTo>
                  <a:lnTo>
                    <a:pt x="222" y="1539"/>
                  </a:lnTo>
                  <a:lnTo>
                    <a:pt x="170" y="1576"/>
                  </a:lnTo>
                  <a:lnTo>
                    <a:pt x="119" y="1612"/>
                  </a:lnTo>
                  <a:lnTo>
                    <a:pt x="69" y="1648"/>
                  </a:lnTo>
                  <a:lnTo>
                    <a:pt x="0" y="1685"/>
                  </a:lnTo>
                  <a:lnTo>
                    <a:pt x="69" y="1813"/>
                  </a:lnTo>
                  <a:lnTo>
                    <a:pt x="138" y="1776"/>
                  </a:lnTo>
                  <a:lnTo>
                    <a:pt x="188" y="1741"/>
                  </a:lnTo>
                  <a:lnTo>
                    <a:pt x="256" y="1685"/>
                  </a:lnTo>
                  <a:lnTo>
                    <a:pt x="308" y="1648"/>
                  </a:lnTo>
                  <a:lnTo>
                    <a:pt x="359" y="1612"/>
                  </a:lnTo>
                  <a:lnTo>
                    <a:pt x="409" y="1557"/>
                  </a:lnTo>
                  <a:lnTo>
                    <a:pt x="460" y="1521"/>
                  </a:lnTo>
                  <a:lnTo>
                    <a:pt x="512" y="1484"/>
                  </a:lnTo>
                  <a:lnTo>
                    <a:pt x="563" y="1428"/>
                  </a:lnTo>
                  <a:lnTo>
                    <a:pt x="598" y="1373"/>
                  </a:lnTo>
                  <a:lnTo>
                    <a:pt x="649" y="1319"/>
                  </a:lnTo>
                  <a:lnTo>
                    <a:pt x="683" y="1282"/>
                  </a:lnTo>
                  <a:lnTo>
                    <a:pt x="734" y="1227"/>
                  </a:lnTo>
                  <a:lnTo>
                    <a:pt x="767" y="1173"/>
                  </a:lnTo>
                  <a:lnTo>
                    <a:pt x="802" y="1117"/>
                  </a:lnTo>
                  <a:lnTo>
                    <a:pt x="853" y="1062"/>
                  </a:lnTo>
                  <a:lnTo>
                    <a:pt x="887" y="1007"/>
                  </a:lnTo>
                  <a:lnTo>
                    <a:pt x="922" y="953"/>
                  </a:lnTo>
                  <a:lnTo>
                    <a:pt x="955" y="897"/>
                  </a:lnTo>
                  <a:lnTo>
                    <a:pt x="989" y="824"/>
                  </a:lnTo>
                  <a:lnTo>
                    <a:pt x="1007" y="770"/>
                  </a:lnTo>
                  <a:lnTo>
                    <a:pt x="1042" y="714"/>
                  </a:lnTo>
                  <a:lnTo>
                    <a:pt x="1074" y="641"/>
                  </a:lnTo>
                  <a:lnTo>
                    <a:pt x="1093" y="585"/>
                  </a:lnTo>
                  <a:lnTo>
                    <a:pt x="1126" y="513"/>
                  </a:lnTo>
                  <a:lnTo>
                    <a:pt x="1159" y="457"/>
                  </a:lnTo>
                  <a:lnTo>
                    <a:pt x="1177" y="384"/>
                  </a:lnTo>
                  <a:lnTo>
                    <a:pt x="1194" y="311"/>
                  </a:lnTo>
                  <a:lnTo>
                    <a:pt x="1228" y="256"/>
                  </a:lnTo>
                  <a:lnTo>
                    <a:pt x="1246" y="182"/>
                  </a:lnTo>
                  <a:lnTo>
                    <a:pt x="1262" y="111"/>
                  </a:lnTo>
                  <a:lnTo>
                    <a:pt x="1297" y="37"/>
                  </a:lnTo>
                  <a:lnTo>
                    <a:pt x="115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5942160" y="4640400"/>
              <a:ext cx="68040" cy="450720"/>
            </a:xfrm>
            <a:custGeom>
              <a:avLst/>
              <a:gdLst/>
              <a:ahLst/>
              <a:rect l="l" t="t" r="r" b="b"/>
              <a:pathLst>
                <a:path w="258" h="1704">
                  <a:moveTo>
                    <a:pt x="35" y="36"/>
                  </a:moveTo>
                  <a:lnTo>
                    <a:pt x="35" y="91"/>
                  </a:lnTo>
                  <a:lnTo>
                    <a:pt x="52" y="128"/>
                  </a:lnTo>
                  <a:lnTo>
                    <a:pt x="52" y="183"/>
                  </a:lnTo>
                  <a:lnTo>
                    <a:pt x="69" y="220"/>
                  </a:lnTo>
                  <a:lnTo>
                    <a:pt x="69" y="275"/>
                  </a:lnTo>
                  <a:lnTo>
                    <a:pt x="87" y="311"/>
                  </a:lnTo>
                  <a:lnTo>
                    <a:pt x="87" y="367"/>
                  </a:lnTo>
                  <a:lnTo>
                    <a:pt x="103" y="422"/>
                  </a:lnTo>
                  <a:lnTo>
                    <a:pt x="103" y="458"/>
                  </a:lnTo>
                  <a:lnTo>
                    <a:pt x="103" y="513"/>
                  </a:lnTo>
                  <a:lnTo>
                    <a:pt x="103" y="568"/>
                  </a:lnTo>
                  <a:lnTo>
                    <a:pt x="120" y="623"/>
                  </a:lnTo>
                  <a:lnTo>
                    <a:pt x="120" y="659"/>
                  </a:lnTo>
                  <a:lnTo>
                    <a:pt x="120" y="715"/>
                  </a:lnTo>
                  <a:lnTo>
                    <a:pt x="120" y="770"/>
                  </a:lnTo>
                  <a:lnTo>
                    <a:pt x="120" y="825"/>
                  </a:lnTo>
                  <a:lnTo>
                    <a:pt x="120" y="879"/>
                  </a:lnTo>
                  <a:lnTo>
                    <a:pt x="120" y="934"/>
                  </a:lnTo>
                  <a:lnTo>
                    <a:pt x="120" y="971"/>
                  </a:lnTo>
                  <a:lnTo>
                    <a:pt x="120" y="1027"/>
                  </a:lnTo>
                  <a:lnTo>
                    <a:pt x="103" y="1081"/>
                  </a:lnTo>
                  <a:lnTo>
                    <a:pt x="103" y="1136"/>
                  </a:lnTo>
                  <a:lnTo>
                    <a:pt x="103" y="1191"/>
                  </a:lnTo>
                  <a:lnTo>
                    <a:pt x="87" y="1247"/>
                  </a:lnTo>
                  <a:lnTo>
                    <a:pt x="87" y="1301"/>
                  </a:lnTo>
                  <a:lnTo>
                    <a:pt x="69" y="1356"/>
                  </a:lnTo>
                  <a:lnTo>
                    <a:pt x="69" y="1411"/>
                  </a:lnTo>
                  <a:lnTo>
                    <a:pt x="52" y="1448"/>
                  </a:lnTo>
                  <a:lnTo>
                    <a:pt x="52" y="1501"/>
                  </a:lnTo>
                  <a:lnTo>
                    <a:pt x="35" y="1558"/>
                  </a:lnTo>
                  <a:lnTo>
                    <a:pt x="18" y="1613"/>
                  </a:lnTo>
                  <a:lnTo>
                    <a:pt x="0" y="1667"/>
                  </a:lnTo>
                  <a:lnTo>
                    <a:pt x="138" y="1704"/>
                  </a:lnTo>
                  <a:lnTo>
                    <a:pt x="155" y="1650"/>
                  </a:lnTo>
                  <a:lnTo>
                    <a:pt x="155" y="1593"/>
                  </a:lnTo>
                  <a:lnTo>
                    <a:pt x="172" y="1539"/>
                  </a:lnTo>
                  <a:lnTo>
                    <a:pt x="189" y="1484"/>
                  </a:lnTo>
                  <a:lnTo>
                    <a:pt x="204" y="1430"/>
                  </a:lnTo>
                  <a:lnTo>
                    <a:pt x="204" y="1373"/>
                  </a:lnTo>
                  <a:lnTo>
                    <a:pt x="223" y="1319"/>
                  </a:lnTo>
                  <a:lnTo>
                    <a:pt x="223" y="1264"/>
                  </a:lnTo>
                  <a:lnTo>
                    <a:pt x="239" y="1210"/>
                  </a:lnTo>
                  <a:lnTo>
                    <a:pt x="239" y="1154"/>
                  </a:lnTo>
                  <a:lnTo>
                    <a:pt x="239" y="1099"/>
                  </a:lnTo>
                  <a:lnTo>
                    <a:pt x="239" y="1045"/>
                  </a:lnTo>
                  <a:lnTo>
                    <a:pt x="258" y="990"/>
                  </a:lnTo>
                  <a:lnTo>
                    <a:pt x="258" y="934"/>
                  </a:lnTo>
                  <a:lnTo>
                    <a:pt x="258" y="879"/>
                  </a:lnTo>
                  <a:lnTo>
                    <a:pt x="258" y="825"/>
                  </a:lnTo>
                  <a:lnTo>
                    <a:pt x="258" y="770"/>
                  </a:lnTo>
                  <a:lnTo>
                    <a:pt x="258" y="715"/>
                  </a:lnTo>
                  <a:lnTo>
                    <a:pt x="258" y="659"/>
                  </a:lnTo>
                  <a:lnTo>
                    <a:pt x="239" y="605"/>
                  </a:lnTo>
                  <a:lnTo>
                    <a:pt x="239" y="550"/>
                  </a:lnTo>
                  <a:lnTo>
                    <a:pt x="239" y="495"/>
                  </a:lnTo>
                  <a:lnTo>
                    <a:pt x="239" y="439"/>
                  </a:lnTo>
                  <a:lnTo>
                    <a:pt x="223" y="403"/>
                  </a:lnTo>
                  <a:lnTo>
                    <a:pt x="223" y="348"/>
                  </a:lnTo>
                  <a:lnTo>
                    <a:pt x="223" y="293"/>
                  </a:lnTo>
                  <a:lnTo>
                    <a:pt x="204" y="239"/>
                  </a:lnTo>
                  <a:lnTo>
                    <a:pt x="204" y="202"/>
                  </a:lnTo>
                  <a:lnTo>
                    <a:pt x="189" y="147"/>
                  </a:lnTo>
                  <a:lnTo>
                    <a:pt x="189" y="91"/>
                  </a:lnTo>
                  <a:lnTo>
                    <a:pt x="172" y="57"/>
                  </a:lnTo>
                  <a:lnTo>
                    <a:pt x="172" y="0"/>
                  </a:lnTo>
                  <a:lnTo>
                    <a:pt x="35" y="3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5942160" y="5067360"/>
              <a:ext cx="36360" cy="23760"/>
            </a:xfrm>
            <a:custGeom>
              <a:avLst/>
              <a:gdLst/>
              <a:ahLst/>
              <a:rect l="l" t="t" r="r" b="b"/>
              <a:pathLst>
                <a:path w="138" h="91">
                  <a:moveTo>
                    <a:pt x="138" y="54"/>
                  </a:moveTo>
                  <a:lnTo>
                    <a:pt x="120" y="16"/>
                  </a:lnTo>
                  <a:lnTo>
                    <a:pt x="103" y="0"/>
                  </a:lnTo>
                  <a:lnTo>
                    <a:pt x="69" y="0"/>
                  </a:lnTo>
                  <a:lnTo>
                    <a:pt x="52" y="0"/>
                  </a:lnTo>
                  <a:lnTo>
                    <a:pt x="35" y="16"/>
                  </a:lnTo>
                  <a:lnTo>
                    <a:pt x="18" y="37"/>
                  </a:lnTo>
                  <a:lnTo>
                    <a:pt x="0" y="54"/>
                  </a:lnTo>
                  <a:lnTo>
                    <a:pt x="0" y="91"/>
                  </a:lnTo>
                  <a:lnTo>
                    <a:pt x="138" y="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5351400" y="4998960"/>
              <a:ext cx="22320" cy="33480"/>
            </a:xfrm>
            <a:custGeom>
              <a:avLst/>
              <a:gdLst/>
              <a:ahLst/>
              <a:rect l="l" t="t" r="r" b="b"/>
              <a:pathLst>
                <a:path w="86" h="128">
                  <a:moveTo>
                    <a:pt x="0" y="128"/>
                  </a:moveTo>
                  <a:lnTo>
                    <a:pt x="17" y="128"/>
                  </a:lnTo>
                  <a:lnTo>
                    <a:pt x="51" y="128"/>
                  </a:lnTo>
                  <a:lnTo>
                    <a:pt x="69" y="111"/>
                  </a:lnTo>
                  <a:lnTo>
                    <a:pt x="86" y="92"/>
                  </a:lnTo>
                  <a:lnTo>
                    <a:pt x="86" y="74"/>
                  </a:lnTo>
                  <a:lnTo>
                    <a:pt x="86" y="37"/>
                  </a:lnTo>
                  <a:lnTo>
                    <a:pt x="69" y="17"/>
                  </a:lnTo>
                  <a:lnTo>
                    <a:pt x="51" y="0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5111640" y="4970520"/>
              <a:ext cx="254160" cy="61920"/>
            </a:xfrm>
            <a:custGeom>
              <a:avLst/>
              <a:gdLst/>
              <a:ahLst/>
              <a:rect l="l" t="t" r="r" b="b"/>
              <a:pathLst>
                <a:path w="954" h="237">
                  <a:moveTo>
                    <a:pt x="0" y="146"/>
                  </a:moveTo>
                  <a:lnTo>
                    <a:pt x="68" y="146"/>
                  </a:lnTo>
                  <a:lnTo>
                    <a:pt x="135" y="146"/>
                  </a:lnTo>
                  <a:lnTo>
                    <a:pt x="204" y="146"/>
                  </a:lnTo>
                  <a:lnTo>
                    <a:pt x="273" y="146"/>
                  </a:lnTo>
                  <a:lnTo>
                    <a:pt x="324" y="146"/>
                  </a:lnTo>
                  <a:lnTo>
                    <a:pt x="393" y="146"/>
                  </a:lnTo>
                  <a:lnTo>
                    <a:pt x="459" y="146"/>
                  </a:lnTo>
                  <a:lnTo>
                    <a:pt x="511" y="146"/>
                  </a:lnTo>
                  <a:lnTo>
                    <a:pt x="562" y="164"/>
                  </a:lnTo>
                  <a:lnTo>
                    <a:pt x="630" y="164"/>
                  </a:lnTo>
                  <a:lnTo>
                    <a:pt x="682" y="183"/>
                  </a:lnTo>
                  <a:lnTo>
                    <a:pt x="733" y="183"/>
                  </a:lnTo>
                  <a:lnTo>
                    <a:pt x="768" y="201"/>
                  </a:lnTo>
                  <a:lnTo>
                    <a:pt x="818" y="201"/>
                  </a:lnTo>
                  <a:lnTo>
                    <a:pt x="852" y="220"/>
                  </a:lnTo>
                  <a:lnTo>
                    <a:pt x="903" y="237"/>
                  </a:lnTo>
                  <a:lnTo>
                    <a:pt x="954" y="109"/>
                  </a:lnTo>
                  <a:lnTo>
                    <a:pt x="903" y="91"/>
                  </a:lnTo>
                  <a:lnTo>
                    <a:pt x="852" y="72"/>
                  </a:lnTo>
                  <a:lnTo>
                    <a:pt x="802" y="54"/>
                  </a:lnTo>
                  <a:lnTo>
                    <a:pt x="749" y="35"/>
                  </a:lnTo>
                  <a:lnTo>
                    <a:pt x="699" y="35"/>
                  </a:lnTo>
                  <a:lnTo>
                    <a:pt x="648" y="17"/>
                  </a:lnTo>
                  <a:lnTo>
                    <a:pt x="579" y="17"/>
                  </a:lnTo>
                  <a:lnTo>
                    <a:pt x="528" y="17"/>
                  </a:lnTo>
                  <a:lnTo>
                    <a:pt x="459" y="0"/>
                  </a:lnTo>
                  <a:lnTo>
                    <a:pt x="393" y="0"/>
                  </a:lnTo>
                  <a:lnTo>
                    <a:pt x="340" y="0"/>
                  </a:lnTo>
                  <a:lnTo>
                    <a:pt x="273" y="0"/>
                  </a:lnTo>
                  <a:lnTo>
                    <a:pt x="204" y="0"/>
                  </a:lnTo>
                  <a:lnTo>
                    <a:pt x="135" y="0"/>
                  </a:lnTo>
                  <a:lnTo>
                    <a:pt x="68" y="0"/>
                  </a:lnTo>
                  <a:lnTo>
                    <a:pt x="0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5337000" y="4994280"/>
              <a:ext cx="19080" cy="38160"/>
            </a:xfrm>
            <a:custGeom>
              <a:avLst/>
              <a:gdLst/>
              <a:ahLst/>
              <a:rect l="l" t="t" r="r" b="b"/>
              <a:pathLst>
                <a:path w="68" h="146">
                  <a:moveTo>
                    <a:pt x="68" y="0"/>
                  </a:moveTo>
                  <a:lnTo>
                    <a:pt x="34" y="18"/>
                  </a:lnTo>
                  <a:lnTo>
                    <a:pt x="17" y="35"/>
                  </a:lnTo>
                  <a:lnTo>
                    <a:pt x="0" y="55"/>
                  </a:lnTo>
                  <a:lnTo>
                    <a:pt x="0" y="73"/>
                  </a:lnTo>
                  <a:lnTo>
                    <a:pt x="0" y="110"/>
                  </a:lnTo>
                  <a:lnTo>
                    <a:pt x="17" y="129"/>
                  </a:lnTo>
                  <a:lnTo>
                    <a:pt x="34" y="146"/>
                  </a:lnTo>
                  <a:lnTo>
                    <a:pt x="68" y="146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3389400" y="4780080"/>
              <a:ext cx="1235160" cy="1144440"/>
            </a:xfrm>
            <a:custGeom>
              <a:avLst/>
              <a:gdLst/>
              <a:ahLst/>
              <a:rect l="l" t="t" r="r" b="b"/>
              <a:pathLst>
                <a:path w="4672" h="4322">
                  <a:moveTo>
                    <a:pt x="4672" y="1210"/>
                  </a:moveTo>
                  <a:lnTo>
                    <a:pt x="4638" y="1375"/>
                  </a:lnTo>
                  <a:lnTo>
                    <a:pt x="4622" y="1538"/>
                  </a:lnTo>
                  <a:lnTo>
                    <a:pt x="4588" y="1703"/>
                  </a:lnTo>
                  <a:lnTo>
                    <a:pt x="4553" y="1869"/>
                  </a:lnTo>
                  <a:lnTo>
                    <a:pt x="4520" y="2033"/>
                  </a:lnTo>
                  <a:lnTo>
                    <a:pt x="4486" y="2217"/>
                  </a:lnTo>
                  <a:lnTo>
                    <a:pt x="4451" y="2381"/>
                  </a:lnTo>
                  <a:lnTo>
                    <a:pt x="4417" y="2546"/>
                  </a:lnTo>
                  <a:lnTo>
                    <a:pt x="4382" y="2564"/>
                  </a:lnTo>
                  <a:lnTo>
                    <a:pt x="4348" y="2601"/>
                  </a:lnTo>
                  <a:lnTo>
                    <a:pt x="4316" y="2620"/>
                  </a:lnTo>
                  <a:lnTo>
                    <a:pt x="4281" y="2638"/>
                  </a:lnTo>
                  <a:lnTo>
                    <a:pt x="4247" y="2657"/>
                  </a:lnTo>
                  <a:lnTo>
                    <a:pt x="4196" y="2675"/>
                  </a:lnTo>
                  <a:lnTo>
                    <a:pt x="4162" y="2693"/>
                  </a:lnTo>
                  <a:lnTo>
                    <a:pt x="4127" y="2693"/>
                  </a:lnTo>
                  <a:lnTo>
                    <a:pt x="4093" y="2712"/>
                  </a:lnTo>
                  <a:lnTo>
                    <a:pt x="4043" y="2729"/>
                  </a:lnTo>
                  <a:lnTo>
                    <a:pt x="4008" y="2729"/>
                  </a:lnTo>
                  <a:lnTo>
                    <a:pt x="3974" y="2748"/>
                  </a:lnTo>
                  <a:lnTo>
                    <a:pt x="3940" y="2766"/>
                  </a:lnTo>
                  <a:lnTo>
                    <a:pt x="3888" y="2766"/>
                  </a:lnTo>
                  <a:lnTo>
                    <a:pt x="3854" y="2766"/>
                  </a:lnTo>
                  <a:lnTo>
                    <a:pt x="3820" y="2784"/>
                  </a:lnTo>
                  <a:lnTo>
                    <a:pt x="3786" y="2784"/>
                  </a:lnTo>
                  <a:lnTo>
                    <a:pt x="3769" y="2784"/>
                  </a:lnTo>
                  <a:lnTo>
                    <a:pt x="3752" y="2784"/>
                  </a:lnTo>
                  <a:lnTo>
                    <a:pt x="3718" y="2784"/>
                  </a:lnTo>
                  <a:lnTo>
                    <a:pt x="3702" y="2784"/>
                  </a:lnTo>
                  <a:lnTo>
                    <a:pt x="3668" y="2784"/>
                  </a:lnTo>
                  <a:lnTo>
                    <a:pt x="3650" y="2784"/>
                  </a:lnTo>
                  <a:lnTo>
                    <a:pt x="3617" y="2784"/>
                  </a:lnTo>
                  <a:lnTo>
                    <a:pt x="3599" y="2766"/>
                  </a:lnTo>
                  <a:lnTo>
                    <a:pt x="3564" y="2766"/>
                  </a:lnTo>
                  <a:lnTo>
                    <a:pt x="3548" y="2766"/>
                  </a:lnTo>
                  <a:lnTo>
                    <a:pt x="3513" y="2748"/>
                  </a:lnTo>
                  <a:lnTo>
                    <a:pt x="3497" y="2748"/>
                  </a:lnTo>
                  <a:lnTo>
                    <a:pt x="3462" y="2729"/>
                  </a:lnTo>
                  <a:lnTo>
                    <a:pt x="3444" y="2729"/>
                  </a:lnTo>
                  <a:lnTo>
                    <a:pt x="3412" y="2712"/>
                  </a:lnTo>
                  <a:lnTo>
                    <a:pt x="3393" y="2693"/>
                  </a:lnTo>
                  <a:lnTo>
                    <a:pt x="3359" y="2693"/>
                  </a:lnTo>
                  <a:lnTo>
                    <a:pt x="3326" y="2675"/>
                  </a:lnTo>
                  <a:lnTo>
                    <a:pt x="3309" y="2657"/>
                  </a:lnTo>
                  <a:lnTo>
                    <a:pt x="3275" y="2638"/>
                  </a:lnTo>
                  <a:lnTo>
                    <a:pt x="3258" y="2638"/>
                  </a:lnTo>
                  <a:lnTo>
                    <a:pt x="3224" y="2620"/>
                  </a:lnTo>
                  <a:lnTo>
                    <a:pt x="3189" y="2601"/>
                  </a:lnTo>
                  <a:lnTo>
                    <a:pt x="3173" y="2601"/>
                  </a:lnTo>
                  <a:lnTo>
                    <a:pt x="3138" y="2583"/>
                  </a:lnTo>
                  <a:lnTo>
                    <a:pt x="3120" y="2564"/>
                  </a:lnTo>
                  <a:lnTo>
                    <a:pt x="3088" y="2564"/>
                  </a:lnTo>
                  <a:lnTo>
                    <a:pt x="3054" y="2546"/>
                  </a:lnTo>
                  <a:lnTo>
                    <a:pt x="3035" y="2546"/>
                  </a:lnTo>
                  <a:lnTo>
                    <a:pt x="3003" y="2528"/>
                  </a:lnTo>
                  <a:lnTo>
                    <a:pt x="2968" y="2509"/>
                  </a:lnTo>
                  <a:lnTo>
                    <a:pt x="2951" y="2620"/>
                  </a:lnTo>
                  <a:lnTo>
                    <a:pt x="2934" y="2712"/>
                  </a:lnTo>
                  <a:lnTo>
                    <a:pt x="2934" y="2803"/>
                  </a:lnTo>
                  <a:lnTo>
                    <a:pt x="2916" y="2895"/>
                  </a:lnTo>
                  <a:lnTo>
                    <a:pt x="2900" y="2986"/>
                  </a:lnTo>
                  <a:lnTo>
                    <a:pt x="2883" y="3078"/>
                  </a:lnTo>
                  <a:lnTo>
                    <a:pt x="2865" y="3188"/>
                  </a:lnTo>
                  <a:lnTo>
                    <a:pt x="2849" y="3317"/>
                  </a:lnTo>
                  <a:lnTo>
                    <a:pt x="2849" y="3334"/>
                  </a:lnTo>
                  <a:lnTo>
                    <a:pt x="2831" y="3371"/>
                  </a:lnTo>
                  <a:lnTo>
                    <a:pt x="2814" y="3408"/>
                  </a:lnTo>
                  <a:lnTo>
                    <a:pt x="2814" y="3425"/>
                  </a:lnTo>
                  <a:lnTo>
                    <a:pt x="2797" y="3463"/>
                  </a:lnTo>
                  <a:lnTo>
                    <a:pt x="2780" y="3500"/>
                  </a:lnTo>
                  <a:lnTo>
                    <a:pt x="2763" y="3534"/>
                  </a:lnTo>
                  <a:lnTo>
                    <a:pt x="2745" y="3553"/>
                  </a:lnTo>
                  <a:lnTo>
                    <a:pt x="2713" y="3590"/>
                  </a:lnTo>
                  <a:lnTo>
                    <a:pt x="2695" y="3608"/>
                  </a:lnTo>
                  <a:lnTo>
                    <a:pt x="2679" y="3645"/>
                  </a:lnTo>
                  <a:lnTo>
                    <a:pt x="2644" y="3663"/>
                  </a:lnTo>
                  <a:lnTo>
                    <a:pt x="2626" y="3682"/>
                  </a:lnTo>
                  <a:lnTo>
                    <a:pt x="2593" y="3718"/>
                  </a:lnTo>
                  <a:lnTo>
                    <a:pt x="2559" y="3736"/>
                  </a:lnTo>
                  <a:lnTo>
                    <a:pt x="2541" y="3736"/>
                  </a:lnTo>
                  <a:lnTo>
                    <a:pt x="2456" y="3773"/>
                  </a:lnTo>
                  <a:lnTo>
                    <a:pt x="2389" y="3810"/>
                  </a:lnTo>
                  <a:lnTo>
                    <a:pt x="2320" y="3847"/>
                  </a:lnTo>
                  <a:lnTo>
                    <a:pt x="2251" y="3882"/>
                  </a:lnTo>
                  <a:lnTo>
                    <a:pt x="2200" y="3919"/>
                  </a:lnTo>
                  <a:lnTo>
                    <a:pt x="2131" y="3956"/>
                  </a:lnTo>
                  <a:lnTo>
                    <a:pt x="2065" y="3993"/>
                  </a:lnTo>
                  <a:lnTo>
                    <a:pt x="2013" y="4030"/>
                  </a:lnTo>
                  <a:lnTo>
                    <a:pt x="1945" y="4067"/>
                  </a:lnTo>
                  <a:lnTo>
                    <a:pt x="1894" y="4102"/>
                  </a:lnTo>
                  <a:lnTo>
                    <a:pt x="1825" y="4139"/>
                  </a:lnTo>
                  <a:lnTo>
                    <a:pt x="1756" y="4176"/>
                  </a:lnTo>
                  <a:lnTo>
                    <a:pt x="1706" y="4194"/>
                  </a:lnTo>
                  <a:lnTo>
                    <a:pt x="1621" y="4231"/>
                  </a:lnTo>
                  <a:lnTo>
                    <a:pt x="1552" y="4268"/>
                  </a:lnTo>
                  <a:lnTo>
                    <a:pt x="1484" y="4287"/>
                  </a:lnTo>
                  <a:lnTo>
                    <a:pt x="1451" y="4304"/>
                  </a:lnTo>
                  <a:lnTo>
                    <a:pt x="1400" y="4304"/>
                  </a:lnTo>
                  <a:lnTo>
                    <a:pt x="1366" y="4322"/>
                  </a:lnTo>
                  <a:lnTo>
                    <a:pt x="1313" y="4322"/>
                  </a:lnTo>
                  <a:lnTo>
                    <a:pt x="1280" y="4322"/>
                  </a:lnTo>
                  <a:lnTo>
                    <a:pt x="1228" y="4322"/>
                  </a:lnTo>
                  <a:lnTo>
                    <a:pt x="1177" y="4322"/>
                  </a:lnTo>
                  <a:lnTo>
                    <a:pt x="1126" y="4322"/>
                  </a:lnTo>
                  <a:lnTo>
                    <a:pt x="1076" y="4322"/>
                  </a:lnTo>
                  <a:lnTo>
                    <a:pt x="1042" y="4304"/>
                  </a:lnTo>
                  <a:lnTo>
                    <a:pt x="991" y="4304"/>
                  </a:lnTo>
                  <a:lnTo>
                    <a:pt x="938" y="4287"/>
                  </a:lnTo>
                  <a:lnTo>
                    <a:pt x="904" y="4268"/>
                  </a:lnTo>
                  <a:lnTo>
                    <a:pt x="853" y="4268"/>
                  </a:lnTo>
                  <a:lnTo>
                    <a:pt x="818" y="4250"/>
                  </a:lnTo>
                  <a:lnTo>
                    <a:pt x="802" y="4231"/>
                  </a:lnTo>
                  <a:lnTo>
                    <a:pt x="752" y="4194"/>
                  </a:lnTo>
                  <a:lnTo>
                    <a:pt x="701" y="4139"/>
                  </a:lnTo>
                  <a:lnTo>
                    <a:pt x="649" y="4102"/>
                  </a:lnTo>
                  <a:lnTo>
                    <a:pt x="598" y="4048"/>
                  </a:lnTo>
                  <a:lnTo>
                    <a:pt x="547" y="4011"/>
                  </a:lnTo>
                  <a:lnTo>
                    <a:pt x="497" y="3956"/>
                  </a:lnTo>
                  <a:lnTo>
                    <a:pt x="462" y="3919"/>
                  </a:lnTo>
                  <a:lnTo>
                    <a:pt x="409" y="3865"/>
                  </a:lnTo>
                  <a:lnTo>
                    <a:pt x="359" y="3810"/>
                  </a:lnTo>
                  <a:lnTo>
                    <a:pt x="325" y="3754"/>
                  </a:lnTo>
                  <a:lnTo>
                    <a:pt x="273" y="3699"/>
                  </a:lnTo>
                  <a:lnTo>
                    <a:pt x="239" y="3645"/>
                  </a:lnTo>
                  <a:lnTo>
                    <a:pt x="205" y="3590"/>
                  </a:lnTo>
                  <a:lnTo>
                    <a:pt x="173" y="3534"/>
                  </a:lnTo>
                  <a:lnTo>
                    <a:pt x="119" y="3479"/>
                  </a:lnTo>
                  <a:lnTo>
                    <a:pt x="87" y="3425"/>
                  </a:lnTo>
                  <a:lnTo>
                    <a:pt x="69" y="3388"/>
                  </a:lnTo>
                  <a:lnTo>
                    <a:pt x="53" y="3334"/>
                  </a:lnTo>
                  <a:lnTo>
                    <a:pt x="35" y="3280"/>
                  </a:lnTo>
                  <a:lnTo>
                    <a:pt x="18" y="3223"/>
                  </a:lnTo>
                  <a:lnTo>
                    <a:pt x="18" y="3168"/>
                  </a:lnTo>
                  <a:lnTo>
                    <a:pt x="18" y="3115"/>
                  </a:lnTo>
                  <a:lnTo>
                    <a:pt x="0" y="3060"/>
                  </a:lnTo>
                  <a:lnTo>
                    <a:pt x="18" y="3003"/>
                  </a:lnTo>
                  <a:lnTo>
                    <a:pt x="18" y="2858"/>
                  </a:lnTo>
                  <a:lnTo>
                    <a:pt x="18" y="2729"/>
                  </a:lnTo>
                  <a:lnTo>
                    <a:pt x="18" y="2601"/>
                  </a:lnTo>
                  <a:lnTo>
                    <a:pt x="35" y="2455"/>
                  </a:lnTo>
                  <a:lnTo>
                    <a:pt x="53" y="2326"/>
                  </a:lnTo>
                  <a:lnTo>
                    <a:pt x="69" y="2198"/>
                  </a:lnTo>
                  <a:lnTo>
                    <a:pt x="119" y="2089"/>
                  </a:lnTo>
                  <a:lnTo>
                    <a:pt x="188" y="1978"/>
                  </a:lnTo>
                  <a:lnTo>
                    <a:pt x="222" y="1923"/>
                  </a:lnTo>
                  <a:lnTo>
                    <a:pt x="257" y="1869"/>
                  </a:lnTo>
                  <a:lnTo>
                    <a:pt x="308" y="1832"/>
                  </a:lnTo>
                  <a:lnTo>
                    <a:pt x="342" y="1777"/>
                  </a:lnTo>
                  <a:lnTo>
                    <a:pt x="377" y="1721"/>
                  </a:lnTo>
                  <a:lnTo>
                    <a:pt x="428" y="1687"/>
                  </a:lnTo>
                  <a:lnTo>
                    <a:pt x="462" y="1630"/>
                  </a:lnTo>
                  <a:lnTo>
                    <a:pt x="497" y="1593"/>
                  </a:lnTo>
                  <a:lnTo>
                    <a:pt x="547" y="1538"/>
                  </a:lnTo>
                  <a:lnTo>
                    <a:pt x="598" y="1501"/>
                  </a:lnTo>
                  <a:lnTo>
                    <a:pt x="632" y="1447"/>
                  </a:lnTo>
                  <a:lnTo>
                    <a:pt x="683" y="1410"/>
                  </a:lnTo>
                  <a:lnTo>
                    <a:pt x="734" y="1355"/>
                  </a:lnTo>
                  <a:lnTo>
                    <a:pt x="786" y="1318"/>
                  </a:lnTo>
                  <a:lnTo>
                    <a:pt x="853" y="1264"/>
                  </a:lnTo>
                  <a:lnTo>
                    <a:pt x="904" y="1227"/>
                  </a:lnTo>
                  <a:lnTo>
                    <a:pt x="938" y="1210"/>
                  </a:lnTo>
                  <a:lnTo>
                    <a:pt x="973" y="1190"/>
                  </a:lnTo>
                  <a:lnTo>
                    <a:pt x="1007" y="1190"/>
                  </a:lnTo>
                  <a:lnTo>
                    <a:pt x="1042" y="1210"/>
                  </a:lnTo>
                  <a:lnTo>
                    <a:pt x="1093" y="1227"/>
                  </a:lnTo>
                  <a:lnTo>
                    <a:pt x="1126" y="1264"/>
                  </a:lnTo>
                  <a:lnTo>
                    <a:pt x="1142" y="1281"/>
                  </a:lnTo>
                  <a:lnTo>
                    <a:pt x="1160" y="1318"/>
                  </a:lnTo>
                  <a:lnTo>
                    <a:pt x="1177" y="1375"/>
                  </a:lnTo>
                  <a:lnTo>
                    <a:pt x="1195" y="1430"/>
                  </a:lnTo>
                  <a:lnTo>
                    <a:pt x="1177" y="1484"/>
                  </a:lnTo>
                  <a:lnTo>
                    <a:pt x="1177" y="1538"/>
                  </a:lnTo>
                  <a:lnTo>
                    <a:pt x="1160" y="1612"/>
                  </a:lnTo>
                  <a:lnTo>
                    <a:pt x="1160" y="1667"/>
                  </a:lnTo>
                  <a:lnTo>
                    <a:pt x="1142" y="1721"/>
                  </a:lnTo>
                  <a:lnTo>
                    <a:pt x="1142" y="1777"/>
                  </a:lnTo>
                  <a:lnTo>
                    <a:pt x="1160" y="1813"/>
                  </a:lnTo>
                  <a:lnTo>
                    <a:pt x="1142" y="1850"/>
                  </a:lnTo>
                  <a:lnTo>
                    <a:pt x="1142" y="1906"/>
                  </a:lnTo>
                  <a:lnTo>
                    <a:pt x="1160" y="1941"/>
                  </a:lnTo>
                  <a:lnTo>
                    <a:pt x="1160" y="1978"/>
                  </a:lnTo>
                  <a:lnTo>
                    <a:pt x="1177" y="2015"/>
                  </a:lnTo>
                  <a:lnTo>
                    <a:pt x="1195" y="2033"/>
                  </a:lnTo>
                  <a:lnTo>
                    <a:pt x="1211" y="2052"/>
                  </a:lnTo>
                  <a:lnTo>
                    <a:pt x="1246" y="2052"/>
                  </a:lnTo>
                  <a:lnTo>
                    <a:pt x="1262" y="2070"/>
                  </a:lnTo>
                  <a:lnTo>
                    <a:pt x="1297" y="2070"/>
                  </a:lnTo>
                  <a:lnTo>
                    <a:pt x="1331" y="2070"/>
                  </a:lnTo>
                  <a:lnTo>
                    <a:pt x="1348" y="2070"/>
                  </a:lnTo>
                  <a:lnTo>
                    <a:pt x="1382" y="2070"/>
                  </a:lnTo>
                  <a:lnTo>
                    <a:pt x="1417" y="2070"/>
                  </a:lnTo>
                  <a:lnTo>
                    <a:pt x="1451" y="2070"/>
                  </a:lnTo>
                  <a:lnTo>
                    <a:pt x="1467" y="2052"/>
                  </a:lnTo>
                  <a:lnTo>
                    <a:pt x="1501" y="2052"/>
                  </a:lnTo>
                  <a:lnTo>
                    <a:pt x="1535" y="2052"/>
                  </a:lnTo>
                  <a:lnTo>
                    <a:pt x="1570" y="2033"/>
                  </a:lnTo>
                  <a:lnTo>
                    <a:pt x="1587" y="2033"/>
                  </a:lnTo>
                  <a:lnTo>
                    <a:pt x="1621" y="2015"/>
                  </a:lnTo>
                  <a:lnTo>
                    <a:pt x="1655" y="2015"/>
                  </a:lnTo>
                  <a:lnTo>
                    <a:pt x="1672" y="1997"/>
                  </a:lnTo>
                  <a:lnTo>
                    <a:pt x="1706" y="1978"/>
                  </a:lnTo>
                  <a:lnTo>
                    <a:pt x="1741" y="1978"/>
                  </a:lnTo>
                  <a:lnTo>
                    <a:pt x="1775" y="1960"/>
                  </a:lnTo>
                  <a:lnTo>
                    <a:pt x="1807" y="1941"/>
                  </a:lnTo>
                  <a:lnTo>
                    <a:pt x="1842" y="1923"/>
                  </a:lnTo>
                  <a:lnTo>
                    <a:pt x="1876" y="1906"/>
                  </a:lnTo>
                  <a:lnTo>
                    <a:pt x="1911" y="1887"/>
                  </a:lnTo>
                  <a:lnTo>
                    <a:pt x="1945" y="1869"/>
                  </a:lnTo>
                  <a:lnTo>
                    <a:pt x="1979" y="1850"/>
                  </a:lnTo>
                  <a:lnTo>
                    <a:pt x="2013" y="1813"/>
                  </a:lnTo>
                  <a:lnTo>
                    <a:pt x="2046" y="1795"/>
                  </a:lnTo>
                  <a:lnTo>
                    <a:pt x="2080" y="1777"/>
                  </a:lnTo>
                  <a:lnTo>
                    <a:pt x="2115" y="1758"/>
                  </a:lnTo>
                  <a:lnTo>
                    <a:pt x="2149" y="1740"/>
                  </a:lnTo>
                  <a:lnTo>
                    <a:pt x="2184" y="1721"/>
                  </a:lnTo>
                  <a:lnTo>
                    <a:pt x="2217" y="1703"/>
                  </a:lnTo>
                  <a:lnTo>
                    <a:pt x="2166" y="1649"/>
                  </a:lnTo>
                  <a:lnTo>
                    <a:pt x="2131" y="1593"/>
                  </a:lnTo>
                  <a:lnTo>
                    <a:pt x="2099" y="1558"/>
                  </a:lnTo>
                  <a:lnTo>
                    <a:pt x="2065" y="1501"/>
                  </a:lnTo>
                  <a:lnTo>
                    <a:pt x="2031" y="1467"/>
                  </a:lnTo>
                  <a:lnTo>
                    <a:pt x="1996" y="1410"/>
                  </a:lnTo>
                  <a:lnTo>
                    <a:pt x="1962" y="1375"/>
                  </a:lnTo>
                  <a:lnTo>
                    <a:pt x="1927" y="1318"/>
                  </a:lnTo>
                  <a:lnTo>
                    <a:pt x="1911" y="1281"/>
                  </a:lnTo>
                  <a:lnTo>
                    <a:pt x="1876" y="1227"/>
                  </a:lnTo>
                  <a:lnTo>
                    <a:pt x="1860" y="1190"/>
                  </a:lnTo>
                  <a:lnTo>
                    <a:pt x="1842" y="1136"/>
                  </a:lnTo>
                  <a:lnTo>
                    <a:pt x="1825" y="1098"/>
                  </a:lnTo>
                  <a:lnTo>
                    <a:pt x="1807" y="1045"/>
                  </a:lnTo>
                  <a:lnTo>
                    <a:pt x="1791" y="990"/>
                  </a:lnTo>
                  <a:lnTo>
                    <a:pt x="1791" y="936"/>
                  </a:lnTo>
                  <a:lnTo>
                    <a:pt x="1775" y="880"/>
                  </a:lnTo>
                  <a:lnTo>
                    <a:pt x="1791" y="807"/>
                  </a:lnTo>
                  <a:lnTo>
                    <a:pt x="1807" y="733"/>
                  </a:lnTo>
                  <a:lnTo>
                    <a:pt x="1825" y="679"/>
                  </a:lnTo>
                  <a:lnTo>
                    <a:pt x="1876" y="605"/>
                  </a:lnTo>
                  <a:lnTo>
                    <a:pt x="1911" y="550"/>
                  </a:lnTo>
                  <a:lnTo>
                    <a:pt x="1962" y="514"/>
                  </a:lnTo>
                  <a:lnTo>
                    <a:pt x="2013" y="496"/>
                  </a:lnTo>
                  <a:lnTo>
                    <a:pt x="2046" y="477"/>
                  </a:lnTo>
                  <a:lnTo>
                    <a:pt x="2099" y="459"/>
                  </a:lnTo>
                  <a:lnTo>
                    <a:pt x="2131" y="459"/>
                  </a:lnTo>
                  <a:lnTo>
                    <a:pt x="2166" y="440"/>
                  </a:lnTo>
                  <a:lnTo>
                    <a:pt x="2217" y="440"/>
                  </a:lnTo>
                  <a:lnTo>
                    <a:pt x="2251" y="422"/>
                  </a:lnTo>
                  <a:lnTo>
                    <a:pt x="2286" y="422"/>
                  </a:lnTo>
                  <a:lnTo>
                    <a:pt x="2337" y="403"/>
                  </a:lnTo>
                  <a:lnTo>
                    <a:pt x="2371" y="403"/>
                  </a:lnTo>
                  <a:lnTo>
                    <a:pt x="2421" y="403"/>
                  </a:lnTo>
                  <a:lnTo>
                    <a:pt x="2456" y="403"/>
                  </a:lnTo>
                  <a:lnTo>
                    <a:pt x="2490" y="403"/>
                  </a:lnTo>
                  <a:lnTo>
                    <a:pt x="2541" y="385"/>
                  </a:lnTo>
                  <a:lnTo>
                    <a:pt x="2575" y="385"/>
                  </a:lnTo>
                  <a:lnTo>
                    <a:pt x="2626" y="385"/>
                  </a:lnTo>
                  <a:lnTo>
                    <a:pt x="2661" y="385"/>
                  </a:lnTo>
                  <a:lnTo>
                    <a:pt x="2695" y="385"/>
                  </a:lnTo>
                  <a:lnTo>
                    <a:pt x="2745" y="385"/>
                  </a:lnTo>
                  <a:lnTo>
                    <a:pt x="2780" y="385"/>
                  </a:lnTo>
                  <a:lnTo>
                    <a:pt x="2831" y="385"/>
                  </a:lnTo>
                  <a:lnTo>
                    <a:pt x="2865" y="385"/>
                  </a:lnTo>
                  <a:lnTo>
                    <a:pt x="2916" y="385"/>
                  </a:lnTo>
                  <a:lnTo>
                    <a:pt x="2951" y="385"/>
                  </a:lnTo>
                  <a:lnTo>
                    <a:pt x="3003" y="385"/>
                  </a:lnTo>
                  <a:lnTo>
                    <a:pt x="3035" y="385"/>
                  </a:lnTo>
                  <a:lnTo>
                    <a:pt x="3069" y="385"/>
                  </a:lnTo>
                  <a:lnTo>
                    <a:pt x="3120" y="385"/>
                  </a:lnTo>
                  <a:lnTo>
                    <a:pt x="3155" y="385"/>
                  </a:lnTo>
                  <a:lnTo>
                    <a:pt x="3207" y="385"/>
                  </a:lnTo>
                  <a:lnTo>
                    <a:pt x="3240" y="385"/>
                  </a:lnTo>
                  <a:lnTo>
                    <a:pt x="3293" y="367"/>
                  </a:lnTo>
                  <a:lnTo>
                    <a:pt x="3326" y="367"/>
                  </a:lnTo>
                  <a:lnTo>
                    <a:pt x="3326" y="348"/>
                  </a:lnTo>
                  <a:lnTo>
                    <a:pt x="3309" y="311"/>
                  </a:lnTo>
                  <a:lnTo>
                    <a:pt x="3293" y="294"/>
                  </a:lnTo>
                  <a:lnTo>
                    <a:pt x="3293" y="257"/>
                  </a:lnTo>
                  <a:lnTo>
                    <a:pt x="3275" y="239"/>
                  </a:lnTo>
                  <a:lnTo>
                    <a:pt x="3275" y="202"/>
                  </a:lnTo>
                  <a:lnTo>
                    <a:pt x="3275" y="184"/>
                  </a:lnTo>
                  <a:lnTo>
                    <a:pt x="3275" y="165"/>
                  </a:lnTo>
                  <a:lnTo>
                    <a:pt x="3293" y="128"/>
                  </a:lnTo>
                  <a:lnTo>
                    <a:pt x="3309" y="111"/>
                  </a:lnTo>
                  <a:lnTo>
                    <a:pt x="3326" y="92"/>
                  </a:lnTo>
                  <a:lnTo>
                    <a:pt x="3359" y="74"/>
                  </a:lnTo>
                  <a:lnTo>
                    <a:pt x="3378" y="56"/>
                  </a:lnTo>
                  <a:lnTo>
                    <a:pt x="3412" y="37"/>
                  </a:lnTo>
                  <a:lnTo>
                    <a:pt x="3428" y="37"/>
                  </a:lnTo>
                  <a:lnTo>
                    <a:pt x="3462" y="19"/>
                  </a:lnTo>
                  <a:lnTo>
                    <a:pt x="3497" y="19"/>
                  </a:lnTo>
                  <a:lnTo>
                    <a:pt x="3513" y="19"/>
                  </a:lnTo>
                  <a:lnTo>
                    <a:pt x="3548" y="19"/>
                  </a:lnTo>
                  <a:lnTo>
                    <a:pt x="3582" y="19"/>
                  </a:lnTo>
                  <a:lnTo>
                    <a:pt x="3599" y="0"/>
                  </a:lnTo>
                  <a:lnTo>
                    <a:pt x="3633" y="0"/>
                  </a:lnTo>
                  <a:lnTo>
                    <a:pt x="3668" y="0"/>
                  </a:lnTo>
                  <a:lnTo>
                    <a:pt x="3684" y="0"/>
                  </a:lnTo>
                  <a:lnTo>
                    <a:pt x="3718" y="19"/>
                  </a:lnTo>
                  <a:lnTo>
                    <a:pt x="3752" y="19"/>
                  </a:lnTo>
                  <a:lnTo>
                    <a:pt x="3769" y="19"/>
                  </a:lnTo>
                  <a:lnTo>
                    <a:pt x="3803" y="19"/>
                  </a:lnTo>
                  <a:lnTo>
                    <a:pt x="3820" y="19"/>
                  </a:lnTo>
                  <a:lnTo>
                    <a:pt x="3854" y="19"/>
                  </a:lnTo>
                  <a:lnTo>
                    <a:pt x="3888" y="37"/>
                  </a:lnTo>
                  <a:lnTo>
                    <a:pt x="3906" y="37"/>
                  </a:lnTo>
                  <a:lnTo>
                    <a:pt x="3940" y="56"/>
                  </a:lnTo>
                  <a:lnTo>
                    <a:pt x="3992" y="56"/>
                  </a:lnTo>
                  <a:lnTo>
                    <a:pt x="4024" y="74"/>
                  </a:lnTo>
                  <a:lnTo>
                    <a:pt x="4058" y="92"/>
                  </a:lnTo>
                  <a:lnTo>
                    <a:pt x="4093" y="128"/>
                  </a:lnTo>
                  <a:lnTo>
                    <a:pt x="4127" y="147"/>
                  </a:lnTo>
                  <a:lnTo>
                    <a:pt x="4144" y="165"/>
                  </a:lnTo>
                  <a:lnTo>
                    <a:pt x="4178" y="202"/>
                  </a:lnTo>
                  <a:lnTo>
                    <a:pt x="4213" y="257"/>
                  </a:lnTo>
                  <a:lnTo>
                    <a:pt x="4247" y="330"/>
                  </a:lnTo>
                  <a:lnTo>
                    <a:pt x="4281" y="385"/>
                  </a:lnTo>
                  <a:lnTo>
                    <a:pt x="4316" y="440"/>
                  </a:lnTo>
                  <a:lnTo>
                    <a:pt x="4348" y="496"/>
                  </a:lnTo>
                  <a:lnTo>
                    <a:pt x="4382" y="568"/>
                  </a:lnTo>
                  <a:lnTo>
                    <a:pt x="4417" y="623"/>
                  </a:lnTo>
                  <a:lnTo>
                    <a:pt x="4451" y="697"/>
                  </a:lnTo>
                  <a:lnTo>
                    <a:pt x="4486" y="751"/>
                  </a:lnTo>
                  <a:lnTo>
                    <a:pt x="4520" y="807"/>
                  </a:lnTo>
                  <a:lnTo>
                    <a:pt x="4553" y="880"/>
                  </a:lnTo>
                  <a:lnTo>
                    <a:pt x="4571" y="936"/>
                  </a:lnTo>
                  <a:lnTo>
                    <a:pt x="4606" y="1008"/>
                  </a:lnTo>
                  <a:lnTo>
                    <a:pt x="4638" y="1062"/>
                  </a:lnTo>
                  <a:lnTo>
                    <a:pt x="4657" y="1136"/>
                  </a:lnTo>
                  <a:lnTo>
                    <a:pt x="4672" y="121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4538520" y="5095800"/>
              <a:ext cx="104760" cy="372960"/>
            </a:xfrm>
            <a:custGeom>
              <a:avLst/>
              <a:gdLst/>
              <a:ahLst/>
              <a:rect l="l" t="t" r="r" b="b"/>
              <a:pathLst>
                <a:path w="393" h="1411">
                  <a:moveTo>
                    <a:pt x="103" y="1411"/>
                  </a:moveTo>
                  <a:lnTo>
                    <a:pt x="138" y="1374"/>
                  </a:lnTo>
                  <a:lnTo>
                    <a:pt x="154" y="1338"/>
                  </a:lnTo>
                  <a:lnTo>
                    <a:pt x="154" y="1283"/>
                  </a:lnTo>
                  <a:lnTo>
                    <a:pt x="172" y="1247"/>
                  </a:lnTo>
                  <a:lnTo>
                    <a:pt x="172" y="1210"/>
                  </a:lnTo>
                  <a:lnTo>
                    <a:pt x="172" y="1155"/>
                  </a:lnTo>
                  <a:lnTo>
                    <a:pt x="189" y="1119"/>
                  </a:lnTo>
                  <a:lnTo>
                    <a:pt x="189" y="1082"/>
                  </a:lnTo>
                  <a:lnTo>
                    <a:pt x="205" y="1027"/>
                  </a:lnTo>
                  <a:lnTo>
                    <a:pt x="205" y="990"/>
                  </a:lnTo>
                  <a:lnTo>
                    <a:pt x="223" y="953"/>
                  </a:lnTo>
                  <a:lnTo>
                    <a:pt x="223" y="916"/>
                  </a:lnTo>
                  <a:lnTo>
                    <a:pt x="240" y="862"/>
                  </a:lnTo>
                  <a:lnTo>
                    <a:pt x="240" y="825"/>
                  </a:lnTo>
                  <a:lnTo>
                    <a:pt x="258" y="788"/>
                  </a:lnTo>
                  <a:lnTo>
                    <a:pt x="258" y="751"/>
                  </a:lnTo>
                  <a:lnTo>
                    <a:pt x="274" y="697"/>
                  </a:lnTo>
                  <a:lnTo>
                    <a:pt x="274" y="660"/>
                  </a:lnTo>
                  <a:lnTo>
                    <a:pt x="290" y="623"/>
                  </a:lnTo>
                  <a:lnTo>
                    <a:pt x="290" y="568"/>
                  </a:lnTo>
                  <a:lnTo>
                    <a:pt x="309" y="531"/>
                  </a:lnTo>
                  <a:lnTo>
                    <a:pt x="309" y="497"/>
                  </a:lnTo>
                  <a:lnTo>
                    <a:pt x="324" y="440"/>
                  </a:lnTo>
                  <a:lnTo>
                    <a:pt x="324" y="403"/>
                  </a:lnTo>
                  <a:lnTo>
                    <a:pt x="324" y="368"/>
                  </a:lnTo>
                  <a:lnTo>
                    <a:pt x="343" y="330"/>
                  </a:lnTo>
                  <a:lnTo>
                    <a:pt x="343" y="277"/>
                  </a:lnTo>
                  <a:lnTo>
                    <a:pt x="358" y="240"/>
                  </a:lnTo>
                  <a:lnTo>
                    <a:pt x="358" y="202"/>
                  </a:lnTo>
                  <a:lnTo>
                    <a:pt x="375" y="149"/>
                  </a:lnTo>
                  <a:lnTo>
                    <a:pt x="375" y="112"/>
                  </a:lnTo>
                  <a:lnTo>
                    <a:pt x="393" y="74"/>
                  </a:lnTo>
                  <a:lnTo>
                    <a:pt x="393" y="20"/>
                  </a:lnTo>
                  <a:lnTo>
                    <a:pt x="258" y="0"/>
                  </a:lnTo>
                  <a:lnTo>
                    <a:pt x="258" y="37"/>
                  </a:lnTo>
                  <a:lnTo>
                    <a:pt x="240" y="74"/>
                  </a:lnTo>
                  <a:lnTo>
                    <a:pt x="240" y="128"/>
                  </a:lnTo>
                  <a:lnTo>
                    <a:pt x="240" y="165"/>
                  </a:lnTo>
                  <a:lnTo>
                    <a:pt x="223" y="202"/>
                  </a:lnTo>
                  <a:lnTo>
                    <a:pt x="223" y="240"/>
                  </a:lnTo>
                  <a:lnTo>
                    <a:pt x="205" y="294"/>
                  </a:lnTo>
                  <a:lnTo>
                    <a:pt x="205" y="330"/>
                  </a:lnTo>
                  <a:lnTo>
                    <a:pt x="189" y="385"/>
                  </a:lnTo>
                  <a:lnTo>
                    <a:pt x="189" y="422"/>
                  </a:lnTo>
                  <a:lnTo>
                    <a:pt x="172" y="459"/>
                  </a:lnTo>
                  <a:lnTo>
                    <a:pt x="172" y="497"/>
                  </a:lnTo>
                  <a:lnTo>
                    <a:pt x="154" y="550"/>
                  </a:lnTo>
                  <a:lnTo>
                    <a:pt x="154" y="587"/>
                  </a:lnTo>
                  <a:lnTo>
                    <a:pt x="138" y="623"/>
                  </a:lnTo>
                  <a:lnTo>
                    <a:pt x="138" y="679"/>
                  </a:lnTo>
                  <a:lnTo>
                    <a:pt x="120" y="716"/>
                  </a:lnTo>
                  <a:lnTo>
                    <a:pt x="120" y="751"/>
                  </a:lnTo>
                  <a:lnTo>
                    <a:pt x="103" y="788"/>
                  </a:lnTo>
                  <a:lnTo>
                    <a:pt x="103" y="843"/>
                  </a:lnTo>
                  <a:lnTo>
                    <a:pt x="103" y="880"/>
                  </a:lnTo>
                  <a:lnTo>
                    <a:pt x="85" y="916"/>
                  </a:lnTo>
                  <a:lnTo>
                    <a:pt x="85" y="971"/>
                  </a:lnTo>
                  <a:lnTo>
                    <a:pt x="69" y="1008"/>
                  </a:lnTo>
                  <a:lnTo>
                    <a:pt x="69" y="1045"/>
                  </a:lnTo>
                  <a:lnTo>
                    <a:pt x="53" y="1082"/>
                  </a:lnTo>
                  <a:lnTo>
                    <a:pt x="53" y="1136"/>
                  </a:lnTo>
                  <a:lnTo>
                    <a:pt x="34" y="1173"/>
                  </a:lnTo>
                  <a:lnTo>
                    <a:pt x="34" y="1210"/>
                  </a:lnTo>
                  <a:lnTo>
                    <a:pt x="19" y="1265"/>
                  </a:lnTo>
                  <a:lnTo>
                    <a:pt x="19" y="1302"/>
                  </a:lnTo>
                  <a:lnTo>
                    <a:pt x="0" y="1338"/>
                  </a:lnTo>
                  <a:lnTo>
                    <a:pt x="34" y="1302"/>
                  </a:lnTo>
                  <a:lnTo>
                    <a:pt x="103" y="14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3592440" y="5880240"/>
              <a:ext cx="193680" cy="63360"/>
            </a:xfrm>
            <a:custGeom>
              <a:avLst/>
              <a:gdLst/>
              <a:ahLst/>
              <a:rect l="l" t="t" r="r" b="b"/>
              <a:pathLst>
                <a:path w="734" h="238">
                  <a:moveTo>
                    <a:pt x="0" y="129"/>
                  </a:moveTo>
                  <a:lnTo>
                    <a:pt x="35" y="146"/>
                  </a:lnTo>
                  <a:lnTo>
                    <a:pt x="69" y="164"/>
                  </a:lnTo>
                  <a:lnTo>
                    <a:pt x="120" y="183"/>
                  </a:lnTo>
                  <a:lnTo>
                    <a:pt x="155" y="201"/>
                  </a:lnTo>
                  <a:lnTo>
                    <a:pt x="206" y="220"/>
                  </a:lnTo>
                  <a:lnTo>
                    <a:pt x="257" y="220"/>
                  </a:lnTo>
                  <a:lnTo>
                    <a:pt x="309" y="220"/>
                  </a:lnTo>
                  <a:lnTo>
                    <a:pt x="359" y="238"/>
                  </a:lnTo>
                  <a:lnTo>
                    <a:pt x="410" y="238"/>
                  </a:lnTo>
                  <a:lnTo>
                    <a:pt x="461" y="238"/>
                  </a:lnTo>
                  <a:lnTo>
                    <a:pt x="513" y="238"/>
                  </a:lnTo>
                  <a:lnTo>
                    <a:pt x="564" y="238"/>
                  </a:lnTo>
                  <a:lnTo>
                    <a:pt x="599" y="238"/>
                  </a:lnTo>
                  <a:lnTo>
                    <a:pt x="650" y="220"/>
                  </a:lnTo>
                  <a:lnTo>
                    <a:pt x="684" y="220"/>
                  </a:lnTo>
                  <a:lnTo>
                    <a:pt x="734" y="201"/>
                  </a:lnTo>
                  <a:lnTo>
                    <a:pt x="684" y="55"/>
                  </a:lnTo>
                  <a:lnTo>
                    <a:pt x="665" y="73"/>
                  </a:lnTo>
                  <a:lnTo>
                    <a:pt x="633" y="73"/>
                  </a:lnTo>
                  <a:lnTo>
                    <a:pt x="581" y="92"/>
                  </a:lnTo>
                  <a:lnTo>
                    <a:pt x="546" y="92"/>
                  </a:lnTo>
                  <a:lnTo>
                    <a:pt x="513" y="92"/>
                  </a:lnTo>
                  <a:lnTo>
                    <a:pt x="461" y="92"/>
                  </a:lnTo>
                  <a:lnTo>
                    <a:pt x="410" y="92"/>
                  </a:lnTo>
                  <a:lnTo>
                    <a:pt x="359" y="92"/>
                  </a:lnTo>
                  <a:lnTo>
                    <a:pt x="326" y="92"/>
                  </a:lnTo>
                  <a:lnTo>
                    <a:pt x="275" y="73"/>
                  </a:lnTo>
                  <a:lnTo>
                    <a:pt x="224" y="73"/>
                  </a:lnTo>
                  <a:lnTo>
                    <a:pt x="189" y="55"/>
                  </a:lnTo>
                  <a:lnTo>
                    <a:pt x="155" y="36"/>
                  </a:lnTo>
                  <a:lnTo>
                    <a:pt x="120" y="36"/>
                  </a:lnTo>
                  <a:lnTo>
                    <a:pt x="86" y="18"/>
                  </a:lnTo>
                  <a:lnTo>
                    <a:pt x="69" y="0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3397320" y="5676840"/>
              <a:ext cx="212760" cy="238320"/>
            </a:xfrm>
            <a:custGeom>
              <a:avLst/>
              <a:gdLst/>
              <a:ahLst/>
              <a:rect l="l" t="t" r="r" b="b"/>
              <a:pathLst>
                <a:path w="801" h="899">
                  <a:moveTo>
                    <a:pt x="0" y="75"/>
                  </a:moveTo>
                  <a:lnTo>
                    <a:pt x="34" y="146"/>
                  </a:lnTo>
                  <a:lnTo>
                    <a:pt x="69" y="202"/>
                  </a:lnTo>
                  <a:lnTo>
                    <a:pt x="119" y="257"/>
                  </a:lnTo>
                  <a:lnTo>
                    <a:pt x="153" y="311"/>
                  </a:lnTo>
                  <a:lnTo>
                    <a:pt x="187" y="366"/>
                  </a:lnTo>
                  <a:lnTo>
                    <a:pt x="238" y="422"/>
                  </a:lnTo>
                  <a:lnTo>
                    <a:pt x="273" y="477"/>
                  </a:lnTo>
                  <a:lnTo>
                    <a:pt x="324" y="531"/>
                  </a:lnTo>
                  <a:lnTo>
                    <a:pt x="374" y="568"/>
                  </a:lnTo>
                  <a:lnTo>
                    <a:pt x="427" y="623"/>
                  </a:lnTo>
                  <a:lnTo>
                    <a:pt x="462" y="679"/>
                  </a:lnTo>
                  <a:lnTo>
                    <a:pt x="512" y="714"/>
                  </a:lnTo>
                  <a:lnTo>
                    <a:pt x="563" y="770"/>
                  </a:lnTo>
                  <a:lnTo>
                    <a:pt x="614" y="806"/>
                  </a:lnTo>
                  <a:lnTo>
                    <a:pt x="666" y="862"/>
                  </a:lnTo>
                  <a:lnTo>
                    <a:pt x="732" y="899"/>
                  </a:lnTo>
                  <a:lnTo>
                    <a:pt x="801" y="770"/>
                  </a:lnTo>
                  <a:lnTo>
                    <a:pt x="751" y="733"/>
                  </a:lnTo>
                  <a:lnTo>
                    <a:pt x="699" y="697"/>
                  </a:lnTo>
                  <a:lnTo>
                    <a:pt x="648" y="660"/>
                  </a:lnTo>
                  <a:lnTo>
                    <a:pt x="597" y="605"/>
                  </a:lnTo>
                  <a:lnTo>
                    <a:pt x="563" y="568"/>
                  </a:lnTo>
                  <a:lnTo>
                    <a:pt x="512" y="513"/>
                  </a:lnTo>
                  <a:lnTo>
                    <a:pt x="462" y="477"/>
                  </a:lnTo>
                  <a:lnTo>
                    <a:pt x="427" y="422"/>
                  </a:lnTo>
                  <a:lnTo>
                    <a:pt x="374" y="385"/>
                  </a:lnTo>
                  <a:lnTo>
                    <a:pt x="342" y="330"/>
                  </a:lnTo>
                  <a:lnTo>
                    <a:pt x="307" y="275"/>
                  </a:lnTo>
                  <a:lnTo>
                    <a:pt x="256" y="220"/>
                  </a:lnTo>
                  <a:lnTo>
                    <a:pt x="222" y="165"/>
                  </a:lnTo>
                  <a:lnTo>
                    <a:pt x="187" y="112"/>
                  </a:lnTo>
                  <a:lnTo>
                    <a:pt x="153" y="55"/>
                  </a:lnTo>
                  <a:lnTo>
                    <a:pt x="103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3375000" y="5294160"/>
              <a:ext cx="77760" cy="281160"/>
            </a:xfrm>
            <a:custGeom>
              <a:avLst/>
              <a:gdLst/>
              <a:ahLst/>
              <a:rect l="l" t="t" r="r" b="b"/>
              <a:pathLst>
                <a:path w="290" h="1062">
                  <a:moveTo>
                    <a:pt x="170" y="0"/>
                  </a:moveTo>
                  <a:lnTo>
                    <a:pt x="138" y="56"/>
                  </a:lnTo>
                  <a:lnTo>
                    <a:pt x="104" y="111"/>
                  </a:lnTo>
                  <a:lnTo>
                    <a:pt x="86" y="184"/>
                  </a:lnTo>
                  <a:lnTo>
                    <a:pt x="51" y="239"/>
                  </a:lnTo>
                  <a:lnTo>
                    <a:pt x="51" y="312"/>
                  </a:lnTo>
                  <a:lnTo>
                    <a:pt x="35" y="385"/>
                  </a:lnTo>
                  <a:lnTo>
                    <a:pt x="18" y="440"/>
                  </a:lnTo>
                  <a:lnTo>
                    <a:pt x="18" y="514"/>
                  </a:lnTo>
                  <a:lnTo>
                    <a:pt x="0" y="587"/>
                  </a:lnTo>
                  <a:lnTo>
                    <a:pt x="0" y="660"/>
                  </a:lnTo>
                  <a:lnTo>
                    <a:pt x="0" y="716"/>
                  </a:lnTo>
                  <a:lnTo>
                    <a:pt x="0" y="788"/>
                  </a:lnTo>
                  <a:lnTo>
                    <a:pt x="0" y="862"/>
                  </a:lnTo>
                  <a:lnTo>
                    <a:pt x="0" y="917"/>
                  </a:lnTo>
                  <a:lnTo>
                    <a:pt x="0" y="990"/>
                  </a:lnTo>
                  <a:lnTo>
                    <a:pt x="0" y="1045"/>
                  </a:lnTo>
                  <a:lnTo>
                    <a:pt x="138" y="1062"/>
                  </a:lnTo>
                  <a:lnTo>
                    <a:pt x="138" y="990"/>
                  </a:lnTo>
                  <a:lnTo>
                    <a:pt x="138" y="917"/>
                  </a:lnTo>
                  <a:lnTo>
                    <a:pt x="138" y="862"/>
                  </a:lnTo>
                  <a:lnTo>
                    <a:pt x="138" y="788"/>
                  </a:lnTo>
                  <a:lnTo>
                    <a:pt x="138" y="734"/>
                  </a:lnTo>
                  <a:lnTo>
                    <a:pt x="138" y="660"/>
                  </a:lnTo>
                  <a:lnTo>
                    <a:pt x="138" y="587"/>
                  </a:lnTo>
                  <a:lnTo>
                    <a:pt x="155" y="532"/>
                  </a:lnTo>
                  <a:lnTo>
                    <a:pt x="155" y="459"/>
                  </a:lnTo>
                  <a:lnTo>
                    <a:pt x="170" y="404"/>
                  </a:lnTo>
                  <a:lnTo>
                    <a:pt x="170" y="349"/>
                  </a:lnTo>
                  <a:lnTo>
                    <a:pt x="189" y="294"/>
                  </a:lnTo>
                  <a:lnTo>
                    <a:pt x="205" y="239"/>
                  </a:lnTo>
                  <a:lnTo>
                    <a:pt x="224" y="184"/>
                  </a:lnTo>
                  <a:lnTo>
                    <a:pt x="256" y="129"/>
                  </a:lnTo>
                  <a:lnTo>
                    <a:pt x="290" y="92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3421080" y="5086440"/>
              <a:ext cx="220680" cy="231840"/>
            </a:xfrm>
            <a:custGeom>
              <a:avLst/>
              <a:gdLst/>
              <a:ahLst/>
              <a:rect l="l" t="t" r="r" b="b"/>
              <a:pathLst>
                <a:path w="837" h="878">
                  <a:moveTo>
                    <a:pt x="752" y="0"/>
                  </a:moveTo>
                  <a:lnTo>
                    <a:pt x="683" y="55"/>
                  </a:lnTo>
                  <a:lnTo>
                    <a:pt x="633" y="109"/>
                  </a:lnTo>
                  <a:lnTo>
                    <a:pt x="582" y="147"/>
                  </a:lnTo>
                  <a:lnTo>
                    <a:pt x="513" y="200"/>
                  </a:lnTo>
                  <a:lnTo>
                    <a:pt x="479" y="237"/>
                  </a:lnTo>
                  <a:lnTo>
                    <a:pt x="428" y="292"/>
                  </a:lnTo>
                  <a:lnTo>
                    <a:pt x="378" y="329"/>
                  </a:lnTo>
                  <a:lnTo>
                    <a:pt x="343" y="383"/>
                  </a:lnTo>
                  <a:lnTo>
                    <a:pt x="290" y="420"/>
                  </a:lnTo>
                  <a:lnTo>
                    <a:pt x="258" y="475"/>
                  </a:lnTo>
                  <a:lnTo>
                    <a:pt x="206" y="532"/>
                  </a:lnTo>
                  <a:lnTo>
                    <a:pt x="172" y="566"/>
                  </a:lnTo>
                  <a:lnTo>
                    <a:pt x="120" y="622"/>
                  </a:lnTo>
                  <a:lnTo>
                    <a:pt x="86" y="677"/>
                  </a:lnTo>
                  <a:lnTo>
                    <a:pt x="54" y="732"/>
                  </a:lnTo>
                  <a:lnTo>
                    <a:pt x="0" y="786"/>
                  </a:lnTo>
                  <a:lnTo>
                    <a:pt x="120" y="878"/>
                  </a:lnTo>
                  <a:lnTo>
                    <a:pt x="154" y="823"/>
                  </a:lnTo>
                  <a:lnTo>
                    <a:pt x="189" y="768"/>
                  </a:lnTo>
                  <a:lnTo>
                    <a:pt x="240" y="714"/>
                  </a:lnTo>
                  <a:lnTo>
                    <a:pt x="274" y="658"/>
                  </a:lnTo>
                  <a:lnTo>
                    <a:pt x="309" y="622"/>
                  </a:lnTo>
                  <a:lnTo>
                    <a:pt x="343" y="566"/>
                  </a:lnTo>
                  <a:lnTo>
                    <a:pt x="393" y="532"/>
                  </a:lnTo>
                  <a:lnTo>
                    <a:pt x="428" y="494"/>
                  </a:lnTo>
                  <a:lnTo>
                    <a:pt x="479" y="438"/>
                  </a:lnTo>
                  <a:lnTo>
                    <a:pt x="513" y="403"/>
                  </a:lnTo>
                  <a:lnTo>
                    <a:pt x="564" y="346"/>
                  </a:lnTo>
                  <a:lnTo>
                    <a:pt x="615" y="312"/>
                  </a:lnTo>
                  <a:lnTo>
                    <a:pt x="667" y="255"/>
                  </a:lnTo>
                  <a:lnTo>
                    <a:pt x="717" y="220"/>
                  </a:lnTo>
                  <a:lnTo>
                    <a:pt x="768" y="163"/>
                  </a:lnTo>
                  <a:lnTo>
                    <a:pt x="837" y="126"/>
                  </a:lnTo>
                  <a:lnTo>
                    <a:pt x="75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3619440" y="5076720"/>
              <a:ext cx="93600" cy="61920"/>
            </a:xfrm>
            <a:custGeom>
              <a:avLst/>
              <a:gdLst/>
              <a:ahLst/>
              <a:rect l="l" t="t" r="r" b="b"/>
              <a:pathLst>
                <a:path w="357" h="236">
                  <a:moveTo>
                    <a:pt x="357" y="162"/>
                  </a:moveTo>
                  <a:lnTo>
                    <a:pt x="324" y="128"/>
                  </a:lnTo>
                  <a:lnTo>
                    <a:pt x="289" y="71"/>
                  </a:lnTo>
                  <a:lnTo>
                    <a:pt x="255" y="54"/>
                  </a:lnTo>
                  <a:lnTo>
                    <a:pt x="205" y="36"/>
                  </a:lnTo>
                  <a:lnTo>
                    <a:pt x="153" y="17"/>
                  </a:lnTo>
                  <a:lnTo>
                    <a:pt x="102" y="0"/>
                  </a:lnTo>
                  <a:lnTo>
                    <a:pt x="51" y="17"/>
                  </a:lnTo>
                  <a:lnTo>
                    <a:pt x="0" y="36"/>
                  </a:lnTo>
                  <a:lnTo>
                    <a:pt x="85" y="162"/>
                  </a:lnTo>
                  <a:lnTo>
                    <a:pt x="85" y="145"/>
                  </a:lnTo>
                  <a:lnTo>
                    <a:pt x="102" y="145"/>
                  </a:lnTo>
                  <a:lnTo>
                    <a:pt x="120" y="145"/>
                  </a:lnTo>
                  <a:lnTo>
                    <a:pt x="153" y="162"/>
                  </a:lnTo>
                  <a:lnTo>
                    <a:pt x="187" y="183"/>
                  </a:lnTo>
                  <a:lnTo>
                    <a:pt x="205" y="199"/>
                  </a:lnTo>
                  <a:lnTo>
                    <a:pt x="222" y="220"/>
                  </a:lnTo>
                  <a:lnTo>
                    <a:pt x="237" y="236"/>
                  </a:lnTo>
                  <a:lnTo>
                    <a:pt x="357" y="16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3673440" y="5119560"/>
              <a:ext cx="49320" cy="136800"/>
            </a:xfrm>
            <a:custGeom>
              <a:avLst/>
              <a:gdLst/>
              <a:ahLst/>
              <a:rect l="l" t="t" r="r" b="b"/>
              <a:pathLst>
                <a:path w="186" h="514">
                  <a:moveTo>
                    <a:pt x="135" y="496"/>
                  </a:moveTo>
                  <a:lnTo>
                    <a:pt x="135" y="477"/>
                  </a:lnTo>
                  <a:lnTo>
                    <a:pt x="135" y="440"/>
                  </a:lnTo>
                  <a:lnTo>
                    <a:pt x="152" y="422"/>
                  </a:lnTo>
                  <a:lnTo>
                    <a:pt x="152" y="386"/>
                  </a:lnTo>
                  <a:lnTo>
                    <a:pt x="152" y="368"/>
                  </a:lnTo>
                  <a:lnTo>
                    <a:pt x="152" y="331"/>
                  </a:lnTo>
                  <a:lnTo>
                    <a:pt x="170" y="312"/>
                  </a:lnTo>
                  <a:lnTo>
                    <a:pt x="170" y="277"/>
                  </a:lnTo>
                  <a:lnTo>
                    <a:pt x="170" y="239"/>
                  </a:lnTo>
                  <a:lnTo>
                    <a:pt x="170" y="220"/>
                  </a:lnTo>
                  <a:lnTo>
                    <a:pt x="186" y="186"/>
                  </a:lnTo>
                  <a:lnTo>
                    <a:pt x="186" y="149"/>
                  </a:lnTo>
                  <a:lnTo>
                    <a:pt x="186" y="111"/>
                  </a:lnTo>
                  <a:lnTo>
                    <a:pt x="170" y="74"/>
                  </a:lnTo>
                  <a:lnTo>
                    <a:pt x="170" y="37"/>
                  </a:lnTo>
                  <a:lnTo>
                    <a:pt x="152" y="0"/>
                  </a:lnTo>
                  <a:lnTo>
                    <a:pt x="32" y="74"/>
                  </a:lnTo>
                  <a:lnTo>
                    <a:pt x="32" y="94"/>
                  </a:lnTo>
                  <a:lnTo>
                    <a:pt x="32" y="111"/>
                  </a:lnTo>
                  <a:lnTo>
                    <a:pt x="50" y="129"/>
                  </a:lnTo>
                  <a:lnTo>
                    <a:pt x="50" y="149"/>
                  </a:lnTo>
                  <a:lnTo>
                    <a:pt x="50" y="166"/>
                  </a:lnTo>
                  <a:lnTo>
                    <a:pt x="50" y="203"/>
                  </a:lnTo>
                  <a:lnTo>
                    <a:pt x="32" y="220"/>
                  </a:lnTo>
                  <a:lnTo>
                    <a:pt x="32" y="257"/>
                  </a:lnTo>
                  <a:lnTo>
                    <a:pt x="32" y="277"/>
                  </a:lnTo>
                  <a:lnTo>
                    <a:pt x="17" y="312"/>
                  </a:lnTo>
                  <a:lnTo>
                    <a:pt x="17" y="349"/>
                  </a:lnTo>
                  <a:lnTo>
                    <a:pt x="17" y="368"/>
                  </a:lnTo>
                  <a:lnTo>
                    <a:pt x="17" y="406"/>
                  </a:lnTo>
                  <a:lnTo>
                    <a:pt x="0" y="440"/>
                  </a:lnTo>
                  <a:lnTo>
                    <a:pt x="0" y="477"/>
                  </a:lnTo>
                  <a:lnTo>
                    <a:pt x="0" y="514"/>
                  </a:lnTo>
                  <a:lnTo>
                    <a:pt x="135" y="4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3673440" y="5251320"/>
              <a:ext cx="39600" cy="92160"/>
            </a:xfrm>
            <a:custGeom>
              <a:avLst/>
              <a:gdLst/>
              <a:ahLst/>
              <a:rect l="l" t="t" r="r" b="b"/>
              <a:pathLst>
                <a:path w="152" h="348">
                  <a:moveTo>
                    <a:pt x="152" y="201"/>
                  </a:moveTo>
                  <a:lnTo>
                    <a:pt x="152" y="183"/>
                  </a:lnTo>
                  <a:lnTo>
                    <a:pt x="152" y="146"/>
                  </a:lnTo>
                  <a:lnTo>
                    <a:pt x="135" y="110"/>
                  </a:lnTo>
                  <a:lnTo>
                    <a:pt x="135" y="73"/>
                  </a:lnTo>
                  <a:lnTo>
                    <a:pt x="135" y="36"/>
                  </a:lnTo>
                  <a:lnTo>
                    <a:pt x="135" y="0"/>
                  </a:lnTo>
                  <a:lnTo>
                    <a:pt x="0" y="18"/>
                  </a:lnTo>
                  <a:lnTo>
                    <a:pt x="17" y="36"/>
                  </a:lnTo>
                  <a:lnTo>
                    <a:pt x="0" y="73"/>
                  </a:lnTo>
                  <a:lnTo>
                    <a:pt x="0" y="129"/>
                  </a:lnTo>
                  <a:lnTo>
                    <a:pt x="17" y="164"/>
                  </a:lnTo>
                  <a:lnTo>
                    <a:pt x="17" y="220"/>
                  </a:lnTo>
                  <a:lnTo>
                    <a:pt x="32" y="256"/>
                  </a:lnTo>
                  <a:lnTo>
                    <a:pt x="66" y="312"/>
                  </a:lnTo>
                  <a:lnTo>
                    <a:pt x="119" y="348"/>
                  </a:lnTo>
                  <a:lnTo>
                    <a:pt x="152" y="2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3705120" y="5289480"/>
              <a:ext cx="130320" cy="58680"/>
            </a:xfrm>
            <a:custGeom>
              <a:avLst/>
              <a:gdLst/>
              <a:ahLst/>
              <a:rect l="l" t="t" r="r" b="b"/>
              <a:pathLst>
                <a:path w="495" h="220">
                  <a:moveTo>
                    <a:pt x="460" y="0"/>
                  </a:moveTo>
                  <a:lnTo>
                    <a:pt x="426" y="18"/>
                  </a:lnTo>
                  <a:lnTo>
                    <a:pt x="409" y="18"/>
                  </a:lnTo>
                  <a:lnTo>
                    <a:pt x="375" y="37"/>
                  </a:lnTo>
                  <a:lnTo>
                    <a:pt x="340" y="37"/>
                  </a:lnTo>
                  <a:lnTo>
                    <a:pt x="323" y="55"/>
                  </a:lnTo>
                  <a:lnTo>
                    <a:pt x="289" y="55"/>
                  </a:lnTo>
                  <a:lnTo>
                    <a:pt x="272" y="74"/>
                  </a:lnTo>
                  <a:lnTo>
                    <a:pt x="237" y="74"/>
                  </a:lnTo>
                  <a:lnTo>
                    <a:pt x="205" y="74"/>
                  </a:lnTo>
                  <a:lnTo>
                    <a:pt x="187" y="74"/>
                  </a:lnTo>
                  <a:lnTo>
                    <a:pt x="153" y="74"/>
                  </a:lnTo>
                  <a:lnTo>
                    <a:pt x="136" y="74"/>
                  </a:lnTo>
                  <a:lnTo>
                    <a:pt x="102" y="74"/>
                  </a:lnTo>
                  <a:lnTo>
                    <a:pt x="85" y="74"/>
                  </a:lnTo>
                  <a:lnTo>
                    <a:pt x="67" y="74"/>
                  </a:lnTo>
                  <a:lnTo>
                    <a:pt x="33" y="55"/>
                  </a:lnTo>
                  <a:lnTo>
                    <a:pt x="0" y="202"/>
                  </a:lnTo>
                  <a:lnTo>
                    <a:pt x="16" y="202"/>
                  </a:lnTo>
                  <a:lnTo>
                    <a:pt x="67" y="220"/>
                  </a:lnTo>
                  <a:lnTo>
                    <a:pt x="102" y="220"/>
                  </a:lnTo>
                  <a:lnTo>
                    <a:pt x="136" y="220"/>
                  </a:lnTo>
                  <a:lnTo>
                    <a:pt x="153" y="220"/>
                  </a:lnTo>
                  <a:lnTo>
                    <a:pt x="187" y="220"/>
                  </a:lnTo>
                  <a:lnTo>
                    <a:pt x="222" y="220"/>
                  </a:lnTo>
                  <a:lnTo>
                    <a:pt x="256" y="220"/>
                  </a:lnTo>
                  <a:lnTo>
                    <a:pt x="289" y="202"/>
                  </a:lnTo>
                  <a:lnTo>
                    <a:pt x="323" y="202"/>
                  </a:lnTo>
                  <a:lnTo>
                    <a:pt x="357" y="202"/>
                  </a:lnTo>
                  <a:lnTo>
                    <a:pt x="392" y="183"/>
                  </a:lnTo>
                  <a:lnTo>
                    <a:pt x="409" y="183"/>
                  </a:lnTo>
                  <a:lnTo>
                    <a:pt x="443" y="166"/>
                  </a:lnTo>
                  <a:lnTo>
                    <a:pt x="477" y="166"/>
                  </a:lnTo>
                  <a:lnTo>
                    <a:pt x="495" y="1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3827520" y="5211720"/>
              <a:ext cx="162000" cy="115920"/>
            </a:xfrm>
            <a:custGeom>
              <a:avLst/>
              <a:gdLst/>
              <a:ahLst/>
              <a:rect l="l" t="t" r="r" b="b"/>
              <a:pathLst>
                <a:path w="614" h="440">
                  <a:moveTo>
                    <a:pt x="511" y="128"/>
                  </a:moveTo>
                  <a:lnTo>
                    <a:pt x="529" y="0"/>
                  </a:lnTo>
                  <a:lnTo>
                    <a:pt x="494" y="19"/>
                  </a:lnTo>
                  <a:lnTo>
                    <a:pt x="460" y="37"/>
                  </a:lnTo>
                  <a:lnTo>
                    <a:pt x="425" y="73"/>
                  </a:lnTo>
                  <a:lnTo>
                    <a:pt x="391" y="91"/>
                  </a:lnTo>
                  <a:lnTo>
                    <a:pt x="358" y="110"/>
                  </a:lnTo>
                  <a:lnTo>
                    <a:pt x="324" y="128"/>
                  </a:lnTo>
                  <a:lnTo>
                    <a:pt x="290" y="147"/>
                  </a:lnTo>
                  <a:lnTo>
                    <a:pt x="256" y="165"/>
                  </a:lnTo>
                  <a:lnTo>
                    <a:pt x="239" y="183"/>
                  </a:lnTo>
                  <a:lnTo>
                    <a:pt x="187" y="202"/>
                  </a:lnTo>
                  <a:lnTo>
                    <a:pt x="170" y="220"/>
                  </a:lnTo>
                  <a:lnTo>
                    <a:pt x="136" y="239"/>
                  </a:lnTo>
                  <a:lnTo>
                    <a:pt x="101" y="257"/>
                  </a:lnTo>
                  <a:lnTo>
                    <a:pt x="67" y="276"/>
                  </a:lnTo>
                  <a:lnTo>
                    <a:pt x="35" y="293"/>
                  </a:lnTo>
                  <a:lnTo>
                    <a:pt x="0" y="293"/>
                  </a:lnTo>
                  <a:lnTo>
                    <a:pt x="35" y="440"/>
                  </a:lnTo>
                  <a:lnTo>
                    <a:pt x="86" y="422"/>
                  </a:lnTo>
                  <a:lnTo>
                    <a:pt x="120" y="403"/>
                  </a:lnTo>
                  <a:lnTo>
                    <a:pt x="152" y="385"/>
                  </a:lnTo>
                  <a:lnTo>
                    <a:pt x="187" y="367"/>
                  </a:lnTo>
                  <a:lnTo>
                    <a:pt x="221" y="348"/>
                  </a:lnTo>
                  <a:lnTo>
                    <a:pt x="256" y="330"/>
                  </a:lnTo>
                  <a:lnTo>
                    <a:pt x="290" y="311"/>
                  </a:lnTo>
                  <a:lnTo>
                    <a:pt x="324" y="293"/>
                  </a:lnTo>
                  <a:lnTo>
                    <a:pt x="358" y="276"/>
                  </a:lnTo>
                  <a:lnTo>
                    <a:pt x="391" y="257"/>
                  </a:lnTo>
                  <a:lnTo>
                    <a:pt x="425" y="239"/>
                  </a:lnTo>
                  <a:lnTo>
                    <a:pt x="460" y="220"/>
                  </a:lnTo>
                  <a:lnTo>
                    <a:pt x="494" y="183"/>
                  </a:lnTo>
                  <a:lnTo>
                    <a:pt x="529" y="165"/>
                  </a:lnTo>
                  <a:lnTo>
                    <a:pt x="562" y="147"/>
                  </a:lnTo>
                  <a:lnTo>
                    <a:pt x="596" y="128"/>
                  </a:lnTo>
                  <a:lnTo>
                    <a:pt x="614" y="19"/>
                  </a:lnTo>
                  <a:lnTo>
                    <a:pt x="511" y="1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3844800" y="5022720"/>
              <a:ext cx="144720" cy="222480"/>
            </a:xfrm>
            <a:custGeom>
              <a:avLst/>
              <a:gdLst/>
              <a:ahLst/>
              <a:rect l="l" t="t" r="r" b="b"/>
              <a:pathLst>
                <a:path w="547" h="841">
                  <a:moveTo>
                    <a:pt x="0" y="36"/>
                  </a:moveTo>
                  <a:lnTo>
                    <a:pt x="0" y="91"/>
                  </a:lnTo>
                  <a:lnTo>
                    <a:pt x="19" y="145"/>
                  </a:lnTo>
                  <a:lnTo>
                    <a:pt x="34" y="202"/>
                  </a:lnTo>
                  <a:lnTo>
                    <a:pt x="53" y="256"/>
                  </a:lnTo>
                  <a:lnTo>
                    <a:pt x="69" y="293"/>
                  </a:lnTo>
                  <a:lnTo>
                    <a:pt x="103" y="347"/>
                  </a:lnTo>
                  <a:lnTo>
                    <a:pt x="120" y="401"/>
                  </a:lnTo>
                  <a:lnTo>
                    <a:pt x="154" y="438"/>
                  </a:lnTo>
                  <a:lnTo>
                    <a:pt x="172" y="493"/>
                  </a:lnTo>
                  <a:lnTo>
                    <a:pt x="205" y="530"/>
                  </a:lnTo>
                  <a:lnTo>
                    <a:pt x="240" y="584"/>
                  </a:lnTo>
                  <a:lnTo>
                    <a:pt x="274" y="641"/>
                  </a:lnTo>
                  <a:lnTo>
                    <a:pt x="324" y="676"/>
                  </a:lnTo>
                  <a:lnTo>
                    <a:pt x="358" y="732"/>
                  </a:lnTo>
                  <a:lnTo>
                    <a:pt x="393" y="786"/>
                  </a:lnTo>
                  <a:lnTo>
                    <a:pt x="444" y="841"/>
                  </a:lnTo>
                  <a:lnTo>
                    <a:pt x="547" y="732"/>
                  </a:lnTo>
                  <a:lnTo>
                    <a:pt x="495" y="676"/>
                  </a:lnTo>
                  <a:lnTo>
                    <a:pt x="462" y="641"/>
                  </a:lnTo>
                  <a:lnTo>
                    <a:pt x="427" y="584"/>
                  </a:lnTo>
                  <a:lnTo>
                    <a:pt x="393" y="550"/>
                  </a:lnTo>
                  <a:lnTo>
                    <a:pt x="358" y="493"/>
                  </a:lnTo>
                  <a:lnTo>
                    <a:pt x="324" y="458"/>
                  </a:lnTo>
                  <a:lnTo>
                    <a:pt x="291" y="401"/>
                  </a:lnTo>
                  <a:lnTo>
                    <a:pt x="257" y="364"/>
                  </a:lnTo>
                  <a:lnTo>
                    <a:pt x="240" y="330"/>
                  </a:lnTo>
                  <a:lnTo>
                    <a:pt x="223" y="273"/>
                  </a:lnTo>
                  <a:lnTo>
                    <a:pt x="205" y="238"/>
                  </a:lnTo>
                  <a:lnTo>
                    <a:pt x="172" y="202"/>
                  </a:lnTo>
                  <a:lnTo>
                    <a:pt x="172" y="145"/>
                  </a:lnTo>
                  <a:lnTo>
                    <a:pt x="154" y="110"/>
                  </a:lnTo>
                  <a:lnTo>
                    <a:pt x="138" y="53"/>
                  </a:lnTo>
                  <a:lnTo>
                    <a:pt x="12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3840120" y="4892760"/>
              <a:ext cx="85680" cy="139680"/>
            </a:xfrm>
            <a:custGeom>
              <a:avLst/>
              <a:gdLst/>
              <a:ahLst/>
              <a:rect l="l" t="t" r="r" b="b"/>
              <a:pathLst>
                <a:path w="325" h="531">
                  <a:moveTo>
                    <a:pt x="290" y="0"/>
                  </a:moveTo>
                  <a:lnTo>
                    <a:pt x="256" y="18"/>
                  </a:lnTo>
                  <a:lnTo>
                    <a:pt x="221" y="37"/>
                  </a:lnTo>
                  <a:lnTo>
                    <a:pt x="188" y="55"/>
                  </a:lnTo>
                  <a:lnTo>
                    <a:pt x="154" y="74"/>
                  </a:lnTo>
                  <a:lnTo>
                    <a:pt x="136" y="109"/>
                  </a:lnTo>
                  <a:lnTo>
                    <a:pt x="101" y="146"/>
                  </a:lnTo>
                  <a:lnTo>
                    <a:pt x="85" y="183"/>
                  </a:lnTo>
                  <a:lnTo>
                    <a:pt x="69" y="220"/>
                  </a:lnTo>
                  <a:lnTo>
                    <a:pt x="50" y="257"/>
                  </a:lnTo>
                  <a:lnTo>
                    <a:pt x="35" y="294"/>
                  </a:lnTo>
                  <a:lnTo>
                    <a:pt x="16" y="329"/>
                  </a:lnTo>
                  <a:lnTo>
                    <a:pt x="16" y="366"/>
                  </a:lnTo>
                  <a:lnTo>
                    <a:pt x="0" y="403"/>
                  </a:lnTo>
                  <a:lnTo>
                    <a:pt x="0" y="440"/>
                  </a:lnTo>
                  <a:lnTo>
                    <a:pt x="0" y="495"/>
                  </a:lnTo>
                  <a:lnTo>
                    <a:pt x="16" y="531"/>
                  </a:lnTo>
                  <a:lnTo>
                    <a:pt x="136" y="495"/>
                  </a:lnTo>
                  <a:lnTo>
                    <a:pt x="136" y="477"/>
                  </a:lnTo>
                  <a:lnTo>
                    <a:pt x="136" y="458"/>
                  </a:lnTo>
                  <a:lnTo>
                    <a:pt x="136" y="420"/>
                  </a:lnTo>
                  <a:lnTo>
                    <a:pt x="154" y="403"/>
                  </a:lnTo>
                  <a:lnTo>
                    <a:pt x="154" y="366"/>
                  </a:lnTo>
                  <a:lnTo>
                    <a:pt x="170" y="348"/>
                  </a:lnTo>
                  <a:lnTo>
                    <a:pt x="170" y="311"/>
                  </a:lnTo>
                  <a:lnTo>
                    <a:pt x="188" y="275"/>
                  </a:lnTo>
                  <a:lnTo>
                    <a:pt x="205" y="257"/>
                  </a:lnTo>
                  <a:lnTo>
                    <a:pt x="221" y="238"/>
                  </a:lnTo>
                  <a:lnTo>
                    <a:pt x="239" y="201"/>
                  </a:lnTo>
                  <a:lnTo>
                    <a:pt x="256" y="183"/>
                  </a:lnTo>
                  <a:lnTo>
                    <a:pt x="273" y="165"/>
                  </a:lnTo>
                  <a:lnTo>
                    <a:pt x="290" y="146"/>
                  </a:lnTo>
                  <a:lnTo>
                    <a:pt x="307" y="146"/>
                  </a:lnTo>
                  <a:lnTo>
                    <a:pt x="325" y="128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3916440" y="4857840"/>
              <a:ext cx="369720" cy="68040"/>
            </a:xfrm>
            <a:custGeom>
              <a:avLst/>
              <a:gdLst/>
              <a:ahLst/>
              <a:rect l="l" t="t" r="r" b="b"/>
              <a:pathLst>
                <a:path w="1397" h="256">
                  <a:moveTo>
                    <a:pt x="1262" y="91"/>
                  </a:moveTo>
                  <a:lnTo>
                    <a:pt x="1330" y="0"/>
                  </a:lnTo>
                  <a:lnTo>
                    <a:pt x="1279" y="17"/>
                  </a:lnTo>
                  <a:lnTo>
                    <a:pt x="1244" y="17"/>
                  </a:lnTo>
                  <a:lnTo>
                    <a:pt x="1193" y="17"/>
                  </a:lnTo>
                  <a:lnTo>
                    <a:pt x="1159" y="17"/>
                  </a:lnTo>
                  <a:lnTo>
                    <a:pt x="1124" y="17"/>
                  </a:lnTo>
                  <a:lnTo>
                    <a:pt x="1073" y="17"/>
                  </a:lnTo>
                  <a:lnTo>
                    <a:pt x="1039" y="17"/>
                  </a:lnTo>
                  <a:lnTo>
                    <a:pt x="1007" y="17"/>
                  </a:lnTo>
                  <a:lnTo>
                    <a:pt x="955" y="17"/>
                  </a:lnTo>
                  <a:lnTo>
                    <a:pt x="920" y="17"/>
                  </a:lnTo>
                  <a:lnTo>
                    <a:pt x="869" y="17"/>
                  </a:lnTo>
                  <a:lnTo>
                    <a:pt x="835" y="17"/>
                  </a:lnTo>
                  <a:lnTo>
                    <a:pt x="784" y="17"/>
                  </a:lnTo>
                  <a:lnTo>
                    <a:pt x="749" y="17"/>
                  </a:lnTo>
                  <a:lnTo>
                    <a:pt x="699" y="17"/>
                  </a:lnTo>
                  <a:lnTo>
                    <a:pt x="665" y="17"/>
                  </a:lnTo>
                  <a:lnTo>
                    <a:pt x="614" y="17"/>
                  </a:lnTo>
                  <a:lnTo>
                    <a:pt x="579" y="17"/>
                  </a:lnTo>
                  <a:lnTo>
                    <a:pt x="545" y="17"/>
                  </a:lnTo>
                  <a:lnTo>
                    <a:pt x="494" y="36"/>
                  </a:lnTo>
                  <a:lnTo>
                    <a:pt x="460" y="36"/>
                  </a:lnTo>
                  <a:lnTo>
                    <a:pt x="408" y="36"/>
                  </a:lnTo>
                  <a:lnTo>
                    <a:pt x="375" y="36"/>
                  </a:lnTo>
                  <a:lnTo>
                    <a:pt x="324" y="54"/>
                  </a:lnTo>
                  <a:lnTo>
                    <a:pt x="290" y="54"/>
                  </a:lnTo>
                  <a:lnTo>
                    <a:pt x="239" y="54"/>
                  </a:lnTo>
                  <a:lnTo>
                    <a:pt x="204" y="73"/>
                  </a:lnTo>
                  <a:lnTo>
                    <a:pt x="170" y="73"/>
                  </a:lnTo>
                  <a:lnTo>
                    <a:pt x="119" y="91"/>
                  </a:lnTo>
                  <a:lnTo>
                    <a:pt x="84" y="91"/>
                  </a:lnTo>
                  <a:lnTo>
                    <a:pt x="35" y="109"/>
                  </a:lnTo>
                  <a:lnTo>
                    <a:pt x="0" y="128"/>
                  </a:lnTo>
                  <a:lnTo>
                    <a:pt x="35" y="256"/>
                  </a:lnTo>
                  <a:lnTo>
                    <a:pt x="69" y="256"/>
                  </a:lnTo>
                  <a:lnTo>
                    <a:pt x="119" y="237"/>
                  </a:lnTo>
                  <a:lnTo>
                    <a:pt x="153" y="220"/>
                  </a:lnTo>
                  <a:lnTo>
                    <a:pt x="188" y="220"/>
                  </a:lnTo>
                  <a:lnTo>
                    <a:pt x="221" y="202"/>
                  </a:lnTo>
                  <a:lnTo>
                    <a:pt x="273" y="202"/>
                  </a:lnTo>
                  <a:lnTo>
                    <a:pt x="308" y="202"/>
                  </a:lnTo>
                  <a:lnTo>
                    <a:pt x="341" y="183"/>
                  </a:lnTo>
                  <a:lnTo>
                    <a:pt x="393" y="183"/>
                  </a:lnTo>
                  <a:lnTo>
                    <a:pt x="425" y="183"/>
                  </a:lnTo>
                  <a:lnTo>
                    <a:pt x="460" y="183"/>
                  </a:lnTo>
                  <a:lnTo>
                    <a:pt x="512" y="165"/>
                  </a:lnTo>
                  <a:lnTo>
                    <a:pt x="545" y="165"/>
                  </a:lnTo>
                  <a:lnTo>
                    <a:pt x="579" y="165"/>
                  </a:lnTo>
                  <a:lnTo>
                    <a:pt x="630" y="165"/>
                  </a:lnTo>
                  <a:lnTo>
                    <a:pt x="665" y="165"/>
                  </a:lnTo>
                  <a:lnTo>
                    <a:pt x="699" y="165"/>
                  </a:lnTo>
                  <a:lnTo>
                    <a:pt x="749" y="165"/>
                  </a:lnTo>
                  <a:lnTo>
                    <a:pt x="801" y="165"/>
                  </a:lnTo>
                  <a:lnTo>
                    <a:pt x="835" y="165"/>
                  </a:lnTo>
                  <a:lnTo>
                    <a:pt x="869" y="165"/>
                  </a:lnTo>
                  <a:lnTo>
                    <a:pt x="920" y="165"/>
                  </a:lnTo>
                  <a:lnTo>
                    <a:pt x="955" y="165"/>
                  </a:lnTo>
                  <a:lnTo>
                    <a:pt x="1007" y="165"/>
                  </a:lnTo>
                  <a:lnTo>
                    <a:pt x="1039" y="165"/>
                  </a:lnTo>
                  <a:lnTo>
                    <a:pt x="1092" y="165"/>
                  </a:lnTo>
                  <a:lnTo>
                    <a:pt x="1124" y="165"/>
                  </a:lnTo>
                  <a:lnTo>
                    <a:pt x="1159" y="165"/>
                  </a:lnTo>
                  <a:lnTo>
                    <a:pt x="1211" y="165"/>
                  </a:lnTo>
                  <a:lnTo>
                    <a:pt x="1244" y="146"/>
                  </a:lnTo>
                  <a:lnTo>
                    <a:pt x="1297" y="146"/>
                  </a:lnTo>
                  <a:lnTo>
                    <a:pt x="1330" y="146"/>
                  </a:lnTo>
                  <a:lnTo>
                    <a:pt x="1397" y="54"/>
                  </a:lnTo>
                  <a:lnTo>
                    <a:pt x="1262" y="9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4237200" y="4815000"/>
              <a:ext cx="48960" cy="68040"/>
            </a:xfrm>
            <a:custGeom>
              <a:avLst/>
              <a:gdLst/>
              <a:ahLst/>
              <a:rect l="l" t="t" r="r" b="b"/>
              <a:pathLst>
                <a:path w="186" h="257">
                  <a:moveTo>
                    <a:pt x="0" y="0"/>
                  </a:moveTo>
                  <a:lnTo>
                    <a:pt x="0" y="37"/>
                  </a:lnTo>
                  <a:lnTo>
                    <a:pt x="0" y="92"/>
                  </a:lnTo>
                  <a:lnTo>
                    <a:pt x="0" y="129"/>
                  </a:lnTo>
                  <a:lnTo>
                    <a:pt x="17" y="166"/>
                  </a:lnTo>
                  <a:lnTo>
                    <a:pt x="33" y="183"/>
                  </a:lnTo>
                  <a:lnTo>
                    <a:pt x="33" y="220"/>
                  </a:lnTo>
                  <a:lnTo>
                    <a:pt x="51" y="239"/>
                  </a:lnTo>
                  <a:lnTo>
                    <a:pt x="51" y="257"/>
                  </a:lnTo>
                  <a:lnTo>
                    <a:pt x="186" y="220"/>
                  </a:lnTo>
                  <a:lnTo>
                    <a:pt x="171" y="183"/>
                  </a:lnTo>
                  <a:lnTo>
                    <a:pt x="171" y="166"/>
                  </a:lnTo>
                  <a:lnTo>
                    <a:pt x="152" y="129"/>
                  </a:lnTo>
                  <a:lnTo>
                    <a:pt x="137" y="111"/>
                  </a:lnTo>
                  <a:lnTo>
                    <a:pt x="137" y="92"/>
                  </a:lnTo>
                  <a:lnTo>
                    <a:pt x="137" y="74"/>
                  </a:lnTo>
                  <a:lnTo>
                    <a:pt x="137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4237200" y="4765680"/>
              <a:ext cx="71280" cy="63360"/>
            </a:xfrm>
            <a:custGeom>
              <a:avLst/>
              <a:gdLst/>
              <a:ahLst/>
              <a:rect l="l" t="t" r="r" b="b"/>
              <a:pathLst>
                <a:path w="272" h="239">
                  <a:moveTo>
                    <a:pt x="237" y="0"/>
                  </a:moveTo>
                  <a:lnTo>
                    <a:pt x="255" y="0"/>
                  </a:lnTo>
                  <a:lnTo>
                    <a:pt x="205" y="19"/>
                  </a:lnTo>
                  <a:lnTo>
                    <a:pt x="171" y="19"/>
                  </a:lnTo>
                  <a:lnTo>
                    <a:pt x="137" y="37"/>
                  </a:lnTo>
                  <a:lnTo>
                    <a:pt x="119" y="55"/>
                  </a:lnTo>
                  <a:lnTo>
                    <a:pt x="86" y="92"/>
                  </a:lnTo>
                  <a:lnTo>
                    <a:pt x="51" y="111"/>
                  </a:lnTo>
                  <a:lnTo>
                    <a:pt x="33" y="147"/>
                  </a:lnTo>
                  <a:lnTo>
                    <a:pt x="0" y="183"/>
                  </a:lnTo>
                  <a:lnTo>
                    <a:pt x="137" y="239"/>
                  </a:lnTo>
                  <a:lnTo>
                    <a:pt x="137" y="220"/>
                  </a:lnTo>
                  <a:lnTo>
                    <a:pt x="152" y="220"/>
                  </a:lnTo>
                  <a:lnTo>
                    <a:pt x="171" y="202"/>
                  </a:lnTo>
                  <a:lnTo>
                    <a:pt x="186" y="183"/>
                  </a:lnTo>
                  <a:lnTo>
                    <a:pt x="205" y="166"/>
                  </a:lnTo>
                  <a:lnTo>
                    <a:pt x="221" y="166"/>
                  </a:lnTo>
                  <a:lnTo>
                    <a:pt x="237" y="147"/>
                  </a:lnTo>
                  <a:lnTo>
                    <a:pt x="272" y="147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4300560" y="4761000"/>
              <a:ext cx="125280" cy="48960"/>
            </a:xfrm>
            <a:custGeom>
              <a:avLst/>
              <a:gdLst/>
              <a:ahLst/>
              <a:rect l="l" t="t" r="r" b="b"/>
              <a:pathLst>
                <a:path w="479" h="184">
                  <a:moveTo>
                    <a:pt x="479" y="37"/>
                  </a:moveTo>
                  <a:lnTo>
                    <a:pt x="444" y="37"/>
                  </a:lnTo>
                  <a:lnTo>
                    <a:pt x="428" y="37"/>
                  </a:lnTo>
                  <a:lnTo>
                    <a:pt x="393" y="18"/>
                  </a:lnTo>
                  <a:lnTo>
                    <a:pt x="359" y="18"/>
                  </a:lnTo>
                  <a:lnTo>
                    <a:pt x="342" y="18"/>
                  </a:lnTo>
                  <a:lnTo>
                    <a:pt x="308" y="18"/>
                  </a:lnTo>
                  <a:lnTo>
                    <a:pt x="274" y="18"/>
                  </a:lnTo>
                  <a:lnTo>
                    <a:pt x="240" y="0"/>
                  </a:lnTo>
                  <a:lnTo>
                    <a:pt x="224" y="0"/>
                  </a:lnTo>
                  <a:lnTo>
                    <a:pt x="189" y="0"/>
                  </a:lnTo>
                  <a:lnTo>
                    <a:pt x="155" y="0"/>
                  </a:lnTo>
                  <a:lnTo>
                    <a:pt x="120" y="18"/>
                  </a:lnTo>
                  <a:lnTo>
                    <a:pt x="104" y="18"/>
                  </a:lnTo>
                  <a:lnTo>
                    <a:pt x="69" y="18"/>
                  </a:lnTo>
                  <a:lnTo>
                    <a:pt x="35" y="18"/>
                  </a:lnTo>
                  <a:lnTo>
                    <a:pt x="0" y="18"/>
                  </a:lnTo>
                  <a:lnTo>
                    <a:pt x="35" y="165"/>
                  </a:lnTo>
                  <a:lnTo>
                    <a:pt x="53" y="165"/>
                  </a:lnTo>
                  <a:lnTo>
                    <a:pt x="86" y="165"/>
                  </a:lnTo>
                  <a:lnTo>
                    <a:pt x="104" y="165"/>
                  </a:lnTo>
                  <a:lnTo>
                    <a:pt x="138" y="147"/>
                  </a:lnTo>
                  <a:lnTo>
                    <a:pt x="155" y="147"/>
                  </a:lnTo>
                  <a:lnTo>
                    <a:pt x="189" y="147"/>
                  </a:lnTo>
                  <a:lnTo>
                    <a:pt x="224" y="147"/>
                  </a:lnTo>
                  <a:lnTo>
                    <a:pt x="240" y="147"/>
                  </a:lnTo>
                  <a:lnTo>
                    <a:pt x="274" y="147"/>
                  </a:lnTo>
                  <a:lnTo>
                    <a:pt x="290" y="165"/>
                  </a:lnTo>
                  <a:lnTo>
                    <a:pt x="325" y="165"/>
                  </a:lnTo>
                  <a:lnTo>
                    <a:pt x="342" y="165"/>
                  </a:lnTo>
                  <a:lnTo>
                    <a:pt x="376" y="165"/>
                  </a:lnTo>
                  <a:lnTo>
                    <a:pt x="393" y="165"/>
                  </a:lnTo>
                  <a:lnTo>
                    <a:pt x="428" y="184"/>
                  </a:lnTo>
                  <a:lnTo>
                    <a:pt x="444" y="184"/>
                  </a:lnTo>
                  <a:lnTo>
                    <a:pt x="479" y="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4417920" y="4770360"/>
              <a:ext cx="90720" cy="77760"/>
            </a:xfrm>
            <a:custGeom>
              <a:avLst/>
              <a:gdLst/>
              <a:ahLst/>
              <a:rect l="l" t="t" r="r" b="b"/>
              <a:pathLst>
                <a:path w="341" h="293">
                  <a:moveTo>
                    <a:pt x="341" y="201"/>
                  </a:moveTo>
                  <a:lnTo>
                    <a:pt x="308" y="164"/>
                  </a:lnTo>
                  <a:lnTo>
                    <a:pt x="274" y="128"/>
                  </a:lnTo>
                  <a:lnTo>
                    <a:pt x="239" y="92"/>
                  </a:lnTo>
                  <a:lnTo>
                    <a:pt x="205" y="73"/>
                  </a:lnTo>
                  <a:lnTo>
                    <a:pt x="155" y="55"/>
                  </a:lnTo>
                  <a:lnTo>
                    <a:pt x="120" y="36"/>
                  </a:lnTo>
                  <a:lnTo>
                    <a:pt x="69" y="18"/>
                  </a:lnTo>
                  <a:lnTo>
                    <a:pt x="35" y="0"/>
                  </a:lnTo>
                  <a:lnTo>
                    <a:pt x="0" y="147"/>
                  </a:lnTo>
                  <a:lnTo>
                    <a:pt x="35" y="164"/>
                  </a:lnTo>
                  <a:lnTo>
                    <a:pt x="69" y="164"/>
                  </a:lnTo>
                  <a:lnTo>
                    <a:pt x="104" y="183"/>
                  </a:lnTo>
                  <a:lnTo>
                    <a:pt x="136" y="201"/>
                  </a:lnTo>
                  <a:lnTo>
                    <a:pt x="170" y="220"/>
                  </a:lnTo>
                  <a:lnTo>
                    <a:pt x="188" y="238"/>
                  </a:lnTo>
                  <a:lnTo>
                    <a:pt x="205" y="256"/>
                  </a:lnTo>
                  <a:lnTo>
                    <a:pt x="222" y="293"/>
                  </a:lnTo>
                  <a:lnTo>
                    <a:pt x="341" y="2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4476600" y="4824360"/>
              <a:ext cx="166680" cy="281160"/>
            </a:xfrm>
            <a:custGeom>
              <a:avLst/>
              <a:gdLst/>
              <a:ahLst/>
              <a:rect l="l" t="t" r="r" b="b"/>
              <a:pathLst>
                <a:path w="631" h="1062">
                  <a:moveTo>
                    <a:pt x="631" y="1045"/>
                  </a:moveTo>
                  <a:lnTo>
                    <a:pt x="631" y="1008"/>
                  </a:lnTo>
                  <a:lnTo>
                    <a:pt x="613" y="933"/>
                  </a:lnTo>
                  <a:lnTo>
                    <a:pt x="581" y="880"/>
                  </a:lnTo>
                  <a:lnTo>
                    <a:pt x="562" y="805"/>
                  </a:lnTo>
                  <a:lnTo>
                    <a:pt x="528" y="752"/>
                  </a:lnTo>
                  <a:lnTo>
                    <a:pt x="496" y="677"/>
                  </a:lnTo>
                  <a:lnTo>
                    <a:pt x="461" y="623"/>
                  </a:lnTo>
                  <a:lnTo>
                    <a:pt x="443" y="551"/>
                  </a:lnTo>
                  <a:lnTo>
                    <a:pt x="410" y="495"/>
                  </a:lnTo>
                  <a:lnTo>
                    <a:pt x="376" y="422"/>
                  </a:lnTo>
                  <a:lnTo>
                    <a:pt x="341" y="366"/>
                  </a:lnTo>
                  <a:lnTo>
                    <a:pt x="307" y="294"/>
                  </a:lnTo>
                  <a:lnTo>
                    <a:pt x="272" y="238"/>
                  </a:lnTo>
                  <a:lnTo>
                    <a:pt x="238" y="183"/>
                  </a:lnTo>
                  <a:lnTo>
                    <a:pt x="188" y="111"/>
                  </a:lnTo>
                  <a:lnTo>
                    <a:pt x="154" y="55"/>
                  </a:lnTo>
                  <a:lnTo>
                    <a:pt x="119" y="0"/>
                  </a:lnTo>
                  <a:lnTo>
                    <a:pt x="0" y="92"/>
                  </a:lnTo>
                  <a:lnTo>
                    <a:pt x="52" y="146"/>
                  </a:lnTo>
                  <a:lnTo>
                    <a:pt x="86" y="202"/>
                  </a:lnTo>
                  <a:lnTo>
                    <a:pt x="119" y="257"/>
                  </a:lnTo>
                  <a:lnTo>
                    <a:pt x="154" y="312"/>
                  </a:lnTo>
                  <a:lnTo>
                    <a:pt x="188" y="366"/>
                  </a:lnTo>
                  <a:lnTo>
                    <a:pt x="223" y="440"/>
                  </a:lnTo>
                  <a:lnTo>
                    <a:pt x="257" y="495"/>
                  </a:lnTo>
                  <a:lnTo>
                    <a:pt x="291" y="568"/>
                  </a:lnTo>
                  <a:lnTo>
                    <a:pt x="323" y="623"/>
                  </a:lnTo>
                  <a:lnTo>
                    <a:pt x="341" y="677"/>
                  </a:lnTo>
                  <a:lnTo>
                    <a:pt x="376" y="752"/>
                  </a:lnTo>
                  <a:lnTo>
                    <a:pt x="410" y="805"/>
                  </a:lnTo>
                  <a:lnTo>
                    <a:pt x="427" y="880"/>
                  </a:lnTo>
                  <a:lnTo>
                    <a:pt x="461" y="933"/>
                  </a:lnTo>
                  <a:lnTo>
                    <a:pt x="478" y="990"/>
                  </a:lnTo>
                  <a:lnTo>
                    <a:pt x="512" y="1062"/>
                  </a:lnTo>
                  <a:lnTo>
                    <a:pt x="496" y="1025"/>
                  </a:lnTo>
                  <a:lnTo>
                    <a:pt x="631" y="10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3952800" y="2900520"/>
              <a:ext cx="974880" cy="1241280"/>
            </a:xfrm>
            <a:custGeom>
              <a:avLst/>
              <a:gdLst/>
              <a:ahLst/>
              <a:rect l="l" t="t" r="r" b="b"/>
              <a:pathLst>
                <a:path w="3684" h="4689">
                  <a:moveTo>
                    <a:pt x="837" y="0"/>
                  </a:moveTo>
                  <a:lnTo>
                    <a:pt x="803" y="75"/>
                  </a:lnTo>
                  <a:lnTo>
                    <a:pt x="752" y="128"/>
                  </a:lnTo>
                  <a:lnTo>
                    <a:pt x="700" y="183"/>
                  </a:lnTo>
                  <a:lnTo>
                    <a:pt x="666" y="256"/>
                  </a:lnTo>
                  <a:lnTo>
                    <a:pt x="632" y="311"/>
                  </a:lnTo>
                  <a:lnTo>
                    <a:pt x="599" y="368"/>
                  </a:lnTo>
                  <a:lnTo>
                    <a:pt x="564" y="422"/>
                  </a:lnTo>
                  <a:lnTo>
                    <a:pt x="530" y="476"/>
                  </a:lnTo>
                  <a:lnTo>
                    <a:pt x="495" y="531"/>
                  </a:lnTo>
                  <a:lnTo>
                    <a:pt x="462" y="605"/>
                  </a:lnTo>
                  <a:lnTo>
                    <a:pt x="428" y="659"/>
                  </a:lnTo>
                  <a:lnTo>
                    <a:pt x="393" y="714"/>
                  </a:lnTo>
                  <a:lnTo>
                    <a:pt x="359" y="788"/>
                  </a:lnTo>
                  <a:lnTo>
                    <a:pt x="325" y="861"/>
                  </a:lnTo>
                  <a:lnTo>
                    <a:pt x="308" y="934"/>
                  </a:lnTo>
                  <a:lnTo>
                    <a:pt x="273" y="1008"/>
                  </a:lnTo>
                  <a:lnTo>
                    <a:pt x="258" y="1045"/>
                  </a:lnTo>
                  <a:lnTo>
                    <a:pt x="273" y="1081"/>
                  </a:lnTo>
                  <a:lnTo>
                    <a:pt x="290" y="1118"/>
                  </a:lnTo>
                  <a:lnTo>
                    <a:pt x="308" y="1154"/>
                  </a:lnTo>
                  <a:lnTo>
                    <a:pt x="342" y="1191"/>
                  </a:lnTo>
                  <a:lnTo>
                    <a:pt x="359" y="1247"/>
                  </a:lnTo>
                  <a:lnTo>
                    <a:pt x="359" y="1282"/>
                  </a:lnTo>
                  <a:lnTo>
                    <a:pt x="359" y="1319"/>
                  </a:lnTo>
                  <a:lnTo>
                    <a:pt x="325" y="1374"/>
                  </a:lnTo>
                  <a:lnTo>
                    <a:pt x="308" y="1430"/>
                  </a:lnTo>
                  <a:lnTo>
                    <a:pt x="273" y="1484"/>
                  </a:lnTo>
                  <a:lnTo>
                    <a:pt x="240" y="1558"/>
                  </a:lnTo>
                  <a:lnTo>
                    <a:pt x="206" y="1613"/>
                  </a:lnTo>
                  <a:lnTo>
                    <a:pt x="173" y="1684"/>
                  </a:lnTo>
                  <a:lnTo>
                    <a:pt x="155" y="1741"/>
                  </a:lnTo>
                  <a:lnTo>
                    <a:pt x="120" y="1812"/>
                  </a:lnTo>
                  <a:lnTo>
                    <a:pt x="86" y="1887"/>
                  </a:lnTo>
                  <a:lnTo>
                    <a:pt x="69" y="1961"/>
                  </a:lnTo>
                  <a:lnTo>
                    <a:pt x="53" y="2032"/>
                  </a:lnTo>
                  <a:lnTo>
                    <a:pt x="35" y="2107"/>
                  </a:lnTo>
                  <a:lnTo>
                    <a:pt x="18" y="2198"/>
                  </a:lnTo>
                  <a:lnTo>
                    <a:pt x="0" y="2273"/>
                  </a:lnTo>
                  <a:lnTo>
                    <a:pt x="0" y="2363"/>
                  </a:lnTo>
                  <a:lnTo>
                    <a:pt x="0" y="2454"/>
                  </a:lnTo>
                  <a:lnTo>
                    <a:pt x="18" y="2546"/>
                  </a:lnTo>
                  <a:lnTo>
                    <a:pt x="35" y="2620"/>
                  </a:lnTo>
                  <a:lnTo>
                    <a:pt x="53" y="2692"/>
                  </a:lnTo>
                  <a:lnTo>
                    <a:pt x="69" y="2766"/>
                  </a:lnTo>
                  <a:lnTo>
                    <a:pt x="104" y="2840"/>
                  </a:lnTo>
                  <a:lnTo>
                    <a:pt x="155" y="2912"/>
                  </a:lnTo>
                  <a:lnTo>
                    <a:pt x="189" y="2968"/>
                  </a:lnTo>
                  <a:lnTo>
                    <a:pt x="240" y="3040"/>
                  </a:lnTo>
                  <a:lnTo>
                    <a:pt x="273" y="3095"/>
                  </a:lnTo>
                  <a:lnTo>
                    <a:pt x="325" y="3169"/>
                  </a:lnTo>
                  <a:lnTo>
                    <a:pt x="377" y="3224"/>
                  </a:lnTo>
                  <a:lnTo>
                    <a:pt x="428" y="3297"/>
                  </a:lnTo>
                  <a:lnTo>
                    <a:pt x="479" y="3352"/>
                  </a:lnTo>
                  <a:lnTo>
                    <a:pt x="513" y="3426"/>
                  </a:lnTo>
                  <a:lnTo>
                    <a:pt x="564" y="3499"/>
                  </a:lnTo>
                  <a:lnTo>
                    <a:pt x="599" y="3572"/>
                  </a:lnTo>
                  <a:lnTo>
                    <a:pt x="614" y="3627"/>
                  </a:lnTo>
                  <a:lnTo>
                    <a:pt x="649" y="3663"/>
                  </a:lnTo>
                  <a:lnTo>
                    <a:pt x="666" y="3719"/>
                  </a:lnTo>
                  <a:lnTo>
                    <a:pt x="683" y="3755"/>
                  </a:lnTo>
                  <a:lnTo>
                    <a:pt x="700" y="3792"/>
                  </a:lnTo>
                  <a:lnTo>
                    <a:pt x="718" y="3829"/>
                  </a:lnTo>
                  <a:lnTo>
                    <a:pt x="734" y="3883"/>
                  </a:lnTo>
                  <a:lnTo>
                    <a:pt x="752" y="3920"/>
                  </a:lnTo>
                  <a:lnTo>
                    <a:pt x="769" y="3957"/>
                  </a:lnTo>
                  <a:lnTo>
                    <a:pt x="785" y="4010"/>
                  </a:lnTo>
                  <a:lnTo>
                    <a:pt x="803" y="4049"/>
                  </a:lnTo>
                  <a:lnTo>
                    <a:pt x="837" y="4102"/>
                  </a:lnTo>
                  <a:lnTo>
                    <a:pt x="854" y="4139"/>
                  </a:lnTo>
                  <a:lnTo>
                    <a:pt x="872" y="4194"/>
                  </a:lnTo>
                  <a:lnTo>
                    <a:pt x="904" y="4267"/>
                  </a:lnTo>
                  <a:lnTo>
                    <a:pt x="938" y="4322"/>
                  </a:lnTo>
                  <a:lnTo>
                    <a:pt x="938" y="4342"/>
                  </a:lnTo>
                  <a:lnTo>
                    <a:pt x="973" y="4379"/>
                  </a:lnTo>
                  <a:lnTo>
                    <a:pt x="989" y="4396"/>
                  </a:lnTo>
                  <a:lnTo>
                    <a:pt x="1007" y="4434"/>
                  </a:lnTo>
                  <a:lnTo>
                    <a:pt x="1042" y="4450"/>
                  </a:lnTo>
                  <a:lnTo>
                    <a:pt x="1058" y="4487"/>
                  </a:lnTo>
                  <a:lnTo>
                    <a:pt x="1093" y="4505"/>
                  </a:lnTo>
                  <a:lnTo>
                    <a:pt x="1127" y="4524"/>
                  </a:lnTo>
                  <a:lnTo>
                    <a:pt x="1162" y="4562"/>
                  </a:lnTo>
                  <a:lnTo>
                    <a:pt x="1195" y="4579"/>
                  </a:lnTo>
                  <a:lnTo>
                    <a:pt x="1213" y="4597"/>
                  </a:lnTo>
                  <a:lnTo>
                    <a:pt x="1247" y="4597"/>
                  </a:lnTo>
                  <a:lnTo>
                    <a:pt x="1281" y="4616"/>
                  </a:lnTo>
                  <a:lnTo>
                    <a:pt x="1313" y="4633"/>
                  </a:lnTo>
                  <a:lnTo>
                    <a:pt x="1348" y="4652"/>
                  </a:lnTo>
                  <a:lnTo>
                    <a:pt x="1382" y="4652"/>
                  </a:lnTo>
                  <a:lnTo>
                    <a:pt x="1417" y="4652"/>
                  </a:lnTo>
                  <a:lnTo>
                    <a:pt x="1468" y="4670"/>
                  </a:lnTo>
                  <a:lnTo>
                    <a:pt x="1519" y="4670"/>
                  </a:lnTo>
                  <a:lnTo>
                    <a:pt x="1553" y="4670"/>
                  </a:lnTo>
                  <a:lnTo>
                    <a:pt x="1603" y="4689"/>
                  </a:lnTo>
                  <a:lnTo>
                    <a:pt x="1655" y="4689"/>
                  </a:lnTo>
                  <a:lnTo>
                    <a:pt x="1689" y="4689"/>
                  </a:lnTo>
                  <a:lnTo>
                    <a:pt x="1741" y="4689"/>
                  </a:lnTo>
                  <a:lnTo>
                    <a:pt x="1792" y="4689"/>
                  </a:lnTo>
                  <a:lnTo>
                    <a:pt x="1843" y="4689"/>
                  </a:lnTo>
                  <a:lnTo>
                    <a:pt x="1893" y="4689"/>
                  </a:lnTo>
                  <a:lnTo>
                    <a:pt x="1927" y="4689"/>
                  </a:lnTo>
                  <a:lnTo>
                    <a:pt x="1979" y="4689"/>
                  </a:lnTo>
                  <a:lnTo>
                    <a:pt x="2031" y="4689"/>
                  </a:lnTo>
                  <a:lnTo>
                    <a:pt x="2082" y="4689"/>
                  </a:lnTo>
                  <a:lnTo>
                    <a:pt x="2133" y="4670"/>
                  </a:lnTo>
                  <a:lnTo>
                    <a:pt x="2185" y="4670"/>
                  </a:lnTo>
                  <a:lnTo>
                    <a:pt x="2217" y="4670"/>
                  </a:lnTo>
                  <a:lnTo>
                    <a:pt x="2251" y="4652"/>
                  </a:lnTo>
                  <a:lnTo>
                    <a:pt x="2302" y="4633"/>
                  </a:lnTo>
                  <a:lnTo>
                    <a:pt x="2337" y="4633"/>
                  </a:lnTo>
                  <a:lnTo>
                    <a:pt x="2371" y="4616"/>
                  </a:lnTo>
                  <a:lnTo>
                    <a:pt x="2406" y="4597"/>
                  </a:lnTo>
                  <a:lnTo>
                    <a:pt x="2440" y="4579"/>
                  </a:lnTo>
                  <a:lnTo>
                    <a:pt x="2475" y="4562"/>
                  </a:lnTo>
                  <a:lnTo>
                    <a:pt x="2491" y="4524"/>
                  </a:lnTo>
                  <a:lnTo>
                    <a:pt x="2526" y="4505"/>
                  </a:lnTo>
                  <a:lnTo>
                    <a:pt x="2560" y="4471"/>
                  </a:lnTo>
                  <a:lnTo>
                    <a:pt x="2575" y="4450"/>
                  </a:lnTo>
                  <a:lnTo>
                    <a:pt x="2610" y="4413"/>
                  </a:lnTo>
                  <a:lnTo>
                    <a:pt x="2627" y="4379"/>
                  </a:lnTo>
                  <a:lnTo>
                    <a:pt x="2661" y="4342"/>
                  </a:lnTo>
                  <a:lnTo>
                    <a:pt x="2730" y="4251"/>
                  </a:lnTo>
                  <a:lnTo>
                    <a:pt x="2781" y="4159"/>
                  </a:lnTo>
                  <a:lnTo>
                    <a:pt x="2850" y="4065"/>
                  </a:lnTo>
                  <a:lnTo>
                    <a:pt x="2916" y="3994"/>
                  </a:lnTo>
                  <a:lnTo>
                    <a:pt x="2968" y="3902"/>
                  </a:lnTo>
                  <a:lnTo>
                    <a:pt x="3036" y="3829"/>
                  </a:lnTo>
                  <a:lnTo>
                    <a:pt x="3088" y="3755"/>
                  </a:lnTo>
                  <a:lnTo>
                    <a:pt x="3156" y="3682"/>
                  </a:lnTo>
                  <a:lnTo>
                    <a:pt x="3206" y="3591"/>
                  </a:lnTo>
                  <a:lnTo>
                    <a:pt x="3275" y="3517"/>
                  </a:lnTo>
                  <a:lnTo>
                    <a:pt x="3344" y="3426"/>
                  </a:lnTo>
                  <a:lnTo>
                    <a:pt x="3395" y="3352"/>
                  </a:lnTo>
                  <a:lnTo>
                    <a:pt x="3463" y="3260"/>
                  </a:lnTo>
                  <a:lnTo>
                    <a:pt x="3530" y="3169"/>
                  </a:lnTo>
                  <a:lnTo>
                    <a:pt x="3599" y="3059"/>
                  </a:lnTo>
                  <a:lnTo>
                    <a:pt x="3684" y="2968"/>
                  </a:lnTo>
                  <a:lnTo>
                    <a:pt x="3633" y="2803"/>
                  </a:lnTo>
                  <a:lnTo>
                    <a:pt x="3583" y="2655"/>
                  </a:lnTo>
                  <a:lnTo>
                    <a:pt x="3530" y="2509"/>
                  </a:lnTo>
                  <a:lnTo>
                    <a:pt x="3480" y="2344"/>
                  </a:lnTo>
                  <a:lnTo>
                    <a:pt x="3429" y="2198"/>
                  </a:lnTo>
                  <a:lnTo>
                    <a:pt x="3378" y="2053"/>
                  </a:lnTo>
                  <a:lnTo>
                    <a:pt x="3326" y="1887"/>
                  </a:lnTo>
                  <a:lnTo>
                    <a:pt x="3275" y="1741"/>
                  </a:lnTo>
                  <a:lnTo>
                    <a:pt x="3225" y="1594"/>
                  </a:lnTo>
                  <a:lnTo>
                    <a:pt x="3174" y="1430"/>
                  </a:lnTo>
                  <a:lnTo>
                    <a:pt x="3122" y="1282"/>
                  </a:lnTo>
                  <a:lnTo>
                    <a:pt x="3071" y="1136"/>
                  </a:lnTo>
                  <a:lnTo>
                    <a:pt x="3019" y="990"/>
                  </a:lnTo>
                  <a:lnTo>
                    <a:pt x="2968" y="825"/>
                  </a:lnTo>
                  <a:lnTo>
                    <a:pt x="2916" y="678"/>
                  </a:lnTo>
                  <a:lnTo>
                    <a:pt x="2865" y="531"/>
                  </a:lnTo>
                  <a:lnTo>
                    <a:pt x="2797" y="513"/>
                  </a:lnTo>
                  <a:lnTo>
                    <a:pt x="2730" y="494"/>
                  </a:lnTo>
                  <a:lnTo>
                    <a:pt x="2679" y="476"/>
                  </a:lnTo>
                  <a:lnTo>
                    <a:pt x="2610" y="459"/>
                  </a:lnTo>
                  <a:lnTo>
                    <a:pt x="2541" y="439"/>
                  </a:lnTo>
                  <a:lnTo>
                    <a:pt x="2475" y="422"/>
                  </a:lnTo>
                  <a:lnTo>
                    <a:pt x="2422" y="403"/>
                  </a:lnTo>
                  <a:lnTo>
                    <a:pt x="2355" y="385"/>
                  </a:lnTo>
                  <a:lnTo>
                    <a:pt x="2286" y="385"/>
                  </a:lnTo>
                  <a:lnTo>
                    <a:pt x="2236" y="368"/>
                  </a:lnTo>
                  <a:lnTo>
                    <a:pt x="2167" y="348"/>
                  </a:lnTo>
                  <a:lnTo>
                    <a:pt x="2098" y="330"/>
                  </a:lnTo>
                  <a:lnTo>
                    <a:pt x="2047" y="311"/>
                  </a:lnTo>
                  <a:lnTo>
                    <a:pt x="1979" y="293"/>
                  </a:lnTo>
                  <a:lnTo>
                    <a:pt x="1912" y="277"/>
                  </a:lnTo>
                  <a:lnTo>
                    <a:pt x="1861" y="256"/>
                  </a:lnTo>
                  <a:lnTo>
                    <a:pt x="1792" y="240"/>
                  </a:lnTo>
                  <a:lnTo>
                    <a:pt x="1723" y="220"/>
                  </a:lnTo>
                  <a:lnTo>
                    <a:pt x="1655" y="220"/>
                  </a:lnTo>
                  <a:lnTo>
                    <a:pt x="1603" y="202"/>
                  </a:lnTo>
                  <a:lnTo>
                    <a:pt x="1537" y="183"/>
                  </a:lnTo>
                  <a:lnTo>
                    <a:pt x="1468" y="165"/>
                  </a:lnTo>
                  <a:lnTo>
                    <a:pt x="1417" y="148"/>
                  </a:lnTo>
                  <a:lnTo>
                    <a:pt x="1348" y="128"/>
                  </a:lnTo>
                  <a:lnTo>
                    <a:pt x="1281" y="111"/>
                  </a:lnTo>
                  <a:lnTo>
                    <a:pt x="1228" y="91"/>
                  </a:lnTo>
                  <a:lnTo>
                    <a:pt x="1162" y="75"/>
                  </a:lnTo>
                  <a:lnTo>
                    <a:pt x="1093" y="75"/>
                  </a:lnTo>
                  <a:lnTo>
                    <a:pt x="1042" y="57"/>
                  </a:lnTo>
                  <a:lnTo>
                    <a:pt x="973" y="37"/>
                  </a:lnTo>
                  <a:lnTo>
                    <a:pt x="904" y="20"/>
                  </a:lnTo>
                  <a:lnTo>
                    <a:pt x="83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4006800" y="2886120"/>
              <a:ext cx="184320" cy="285840"/>
            </a:xfrm>
            <a:custGeom>
              <a:avLst/>
              <a:gdLst/>
              <a:ahLst/>
              <a:rect l="l" t="t" r="r" b="b"/>
              <a:pathLst>
                <a:path w="698" h="1081">
                  <a:moveTo>
                    <a:pt x="119" y="1081"/>
                  </a:moveTo>
                  <a:lnTo>
                    <a:pt x="153" y="1007"/>
                  </a:lnTo>
                  <a:lnTo>
                    <a:pt x="187" y="952"/>
                  </a:lnTo>
                  <a:lnTo>
                    <a:pt x="222" y="879"/>
                  </a:lnTo>
                  <a:lnTo>
                    <a:pt x="256" y="805"/>
                  </a:lnTo>
                  <a:lnTo>
                    <a:pt x="273" y="750"/>
                  </a:lnTo>
                  <a:lnTo>
                    <a:pt x="307" y="696"/>
                  </a:lnTo>
                  <a:lnTo>
                    <a:pt x="342" y="641"/>
                  </a:lnTo>
                  <a:lnTo>
                    <a:pt x="376" y="567"/>
                  </a:lnTo>
                  <a:lnTo>
                    <a:pt x="408" y="513"/>
                  </a:lnTo>
                  <a:lnTo>
                    <a:pt x="443" y="457"/>
                  </a:lnTo>
                  <a:lnTo>
                    <a:pt x="477" y="402"/>
                  </a:lnTo>
                  <a:lnTo>
                    <a:pt x="512" y="347"/>
                  </a:lnTo>
                  <a:lnTo>
                    <a:pt x="563" y="294"/>
                  </a:lnTo>
                  <a:lnTo>
                    <a:pt x="597" y="219"/>
                  </a:lnTo>
                  <a:lnTo>
                    <a:pt x="648" y="165"/>
                  </a:lnTo>
                  <a:lnTo>
                    <a:pt x="698" y="91"/>
                  </a:lnTo>
                  <a:lnTo>
                    <a:pt x="579" y="0"/>
                  </a:lnTo>
                  <a:lnTo>
                    <a:pt x="546" y="74"/>
                  </a:lnTo>
                  <a:lnTo>
                    <a:pt x="494" y="129"/>
                  </a:lnTo>
                  <a:lnTo>
                    <a:pt x="443" y="202"/>
                  </a:lnTo>
                  <a:lnTo>
                    <a:pt x="408" y="256"/>
                  </a:lnTo>
                  <a:lnTo>
                    <a:pt x="358" y="331"/>
                  </a:lnTo>
                  <a:lnTo>
                    <a:pt x="324" y="384"/>
                  </a:lnTo>
                  <a:lnTo>
                    <a:pt x="289" y="439"/>
                  </a:lnTo>
                  <a:lnTo>
                    <a:pt x="256" y="493"/>
                  </a:lnTo>
                  <a:lnTo>
                    <a:pt x="222" y="548"/>
                  </a:lnTo>
                  <a:lnTo>
                    <a:pt x="187" y="622"/>
                  </a:lnTo>
                  <a:lnTo>
                    <a:pt x="153" y="677"/>
                  </a:lnTo>
                  <a:lnTo>
                    <a:pt x="136" y="750"/>
                  </a:lnTo>
                  <a:lnTo>
                    <a:pt x="102" y="805"/>
                  </a:lnTo>
                  <a:lnTo>
                    <a:pt x="67" y="879"/>
                  </a:lnTo>
                  <a:lnTo>
                    <a:pt x="34" y="952"/>
                  </a:lnTo>
                  <a:lnTo>
                    <a:pt x="0" y="1025"/>
                  </a:lnTo>
                  <a:lnTo>
                    <a:pt x="119" y="108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4002120" y="3157560"/>
              <a:ext cx="63360" cy="96840"/>
            </a:xfrm>
            <a:custGeom>
              <a:avLst/>
              <a:gdLst/>
              <a:ahLst/>
              <a:rect l="l" t="t" r="r" b="b"/>
              <a:pathLst>
                <a:path w="239" h="367">
                  <a:moveTo>
                    <a:pt x="239" y="367"/>
                  </a:moveTo>
                  <a:lnTo>
                    <a:pt x="239" y="311"/>
                  </a:lnTo>
                  <a:lnTo>
                    <a:pt x="239" y="239"/>
                  </a:lnTo>
                  <a:lnTo>
                    <a:pt x="204" y="183"/>
                  </a:lnTo>
                  <a:lnTo>
                    <a:pt x="188" y="147"/>
                  </a:lnTo>
                  <a:lnTo>
                    <a:pt x="153" y="110"/>
                  </a:lnTo>
                  <a:lnTo>
                    <a:pt x="153" y="74"/>
                  </a:lnTo>
                  <a:lnTo>
                    <a:pt x="136" y="74"/>
                  </a:lnTo>
                  <a:lnTo>
                    <a:pt x="136" y="56"/>
                  </a:lnTo>
                  <a:lnTo>
                    <a:pt x="17" y="0"/>
                  </a:lnTo>
                  <a:lnTo>
                    <a:pt x="0" y="74"/>
                  </a:lnTo>
                  <a:lnTo>
                    <a:pt x="17" y="128"/>
                  </a:lnTo>
                  <a:lnTo>
                    <a:pt x="51" y="183"/>
                  </a:lnTo>
                  <a:lnTo>
                    <a:pt x="69" y="220"/>
                  </a:lnTo>
                  <a:lnTo>
                    <a:pt x="84" y="257"/>
                  </a:lnTo>
                  <a:lnTo>
                    <a:pt x="101" y="293"/>
                  </a:lnTo>
                  <a:lnTo>
                    <a:pt x="101" y="311"/>
                  </a:lnTo>
                  <a:lnTo>
                    <a:pt x="239" y="36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3935520" y="3240000"/>
              <a:ext cx="129960" cy="309600"/>
            </a:xfrm>
            <a:custGeom>
              <a:avLst/>
              <a:gdLst/>
              <a:ahLst/>
              <a:rect l="l" t="t" r="r" b="b"/>
              <a:pathLst>
                <a:path w="494" h="1172">
                  <a:moveTo>
                    <a:pt x="135" y="1172"/>
                  </a:moveTo>
                  <a:lnTo>
                    <a:pt x="135" y="1081"/>
                  </a:lnTo>
                  <a:lnTo>
                    <a:pt x="135" y="1007"/>
                  </a:lnTo>
                  <a:lnTo>
                    <a:pt x="152" y="916"/>
                  </a:lnTo>
                  <a:lnTo>
                    <a:pt x="170" y="842"/>
                  </a:lnTo>
                  <a:lnTo>
                    <a:pt x="186" y="771"/>
                  </a:lnTo>
                  <a:lnTo>
                    <a:pt x="204" y="697"/>
                  </a:lnTo>
                  <a:lnTo>
                    <a:pt x="221" y="622"/>
                  </a:lnTo>
                  <a:lnTo>
                    <a:pt x="255" y="569"/>
                  </a:lnTo>
                  <a:lnTo>
                    <a:pt x="272" y="496"/>
                  </a:lnTo>
                  <a:lnTo>
                    <a:pt x="306" y="422"/>
                  </a:lnTo>
                  <a:lnTo>
                    <a:pt x="339" y="368"/>
                  </a:lnTo>
                  <a:lnTo>
                    <a:pt x="374" y="312"/>
                  </a:lnTo>
                  <a:lnTo>
                    <a:pt x="391" y="239"/>
                  </a:lnTo>
                  <a:lnTo>
                    <a:pt x="425" y="185"/>
                  </a:lnTo>
                  <a:lnTo>
                    <a:pt x="459" y="129"/>
                  </a:lnTo>
                  <a:lnTo>
                    <a:pt x="494" y="56"/>
                  </a:lnTo>
                  <a:lnTo>
                    <a:pt x="356" y="0"/>
                  </a:lnTo>
                  <a:lnTo>
                    <a:pt x="339" y="56"/>
                  </a:lnTo>
                  <a:lnTo>
                    <a:pt x="306" y="111"/>
                  </a:lnTo>
                  <a:lnTo>
                    <a:pt x="272" y="166"/>
                  </a:lnTo>
                  <a:lnTo>
                    <a:pt x="255" y="239"/>
                  </a:lnTo>
                  <a:lnTo>
                    <a:pt x="221" y="294"/>
                  </a:lnTo>
                  <a:lnTo>
                    <a:pt x="186" y="368"/>
                  </a:lnTo>
                  <a:lnTo>
                    <a:pt x="152" y="440"/>
                  </a:lnTo>
                  <a:lnTo>
                    <a:pt x="119" y="496"/>
                  </a:lnTo>
                  <a:lnTo>
                    <a:pt x="101" y="569"/>
                  </a:lnTo>
                  <a:lnTo>
                    <a:pt x="66" y="659"/>
                  </a:lnTo>
                  <a:lnTo>
                    <a:pt x="50" y="734"/>
                  </a:lnTo>
                  <a:lnTo>
                    <a:pt x="34" y="807"/>
                  </a:lnTo>
                  <a:lnTo>
                    <a:pt x="15" y="899"/>
                  </a:lnTo>
                  <a:lnTo>
                    <a:pt x="0" y="991"/>
                  </a:lnTo>
                  <a:lnTo>
                    <a:pt x="0" y="1081"/>
                  </a:lnTo>
                  <a:lnTo>
                    <a:pt x="0" y="1172"/>
                  </a:lnTo>
                  <a:lnTo>
                    <a:pt x="135" y="117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3935520" y="3549600"/>
              <a:ext cx="193680" cy="304920"/>
            </a:xfrm>
            <a:custGeom>
              <a:avLst/>
              <a:gdLst/>
              <a:ahLst/>
              <a:rect l="l" t="t" r="r" b="b"/>
              <a:pathLst>
                <a:path w="732" h="1155">
                  <a:moveTo>
                    <a:pt x="732" y="1100"/>
                  </a:moveTo>
                  <a:lnTo>
                    <a:pt x="680" y="1008"/>
                  </a:lnTo>
                  <a:lnTo>
                    <a:pt x="648" y="935"/>
                  </a:lnTo>
                  <a:lnTo>
                    <a:pt x="596" y="861"/>
                  </a:lnTo>
                  <a:lnTo>
                    <a:pt x="545" y="789"/>
                  </a:lnTo>
                  <a:lnTo>
                    <a:pt x="494" y="734"/>
                  </a:lnTo>
                  <a:lnTo>
                    <a:pt x="443" y="660"/>
                  </a:lnTo>
                  <a:lnTo>
                    <a:pt x="408" y="605"/>
                  </a:lnTo>
                  <a:lnTo>
                    <a:pt x="356" y="532"/>
                  </a:lnTo>
                  <a:lnTo>
                    <a:pt x="306" y="477"/>
                  </a:lnTo>
                  <a:lnTo>
                    <a:pt x="272" y="421"/>
                  </a:lnTo>
                  <a:lnTo>
                    <a:pt x="239" y="349"/>
                  </a:lnTo>
                  <a:lnTo>
                    <a:pt x="204" y="294"/>
                  </a:lnTo>
                  <a:lnTo>
                    <a:pt x="186" y="220"/>
                  </a:lnTo>
                  <a:lnTo>
                    <a:pt x="152" y="147"/>
                  </a:lnTo>
                  <a:lnTo>
                    <a:pt x="135" y="75"/>
                  </a:lnTo>
                  <a:lnTo>
                    <a:pt x="135" y="0"/>
                  </a:lnTo>
                  <a:lnTo>
                    <a:pt x="0" y="0"/>
                  </a:lnTo>
                  <a:lnTo>
                    <a:pt x="15" y="92"/>
                  </a:lnTo>
                  <a:lnTo>
                    <a:pt x="34" y="183"/>
                  </a:lnTo>
                  <a:lnTo>
                    <a:pt x="50" y="275"/>
                  </a:lnTo>
                  <a:lnTo>
                    <a:pt x="84" y="349"/>
                  </a:lnTo>
                  <a:lnTo>
                    <a:pt x="119" y="421"/>
                  </a:lnTo>
                  <a:lnTo>
                    <a:pt x="152" y="495"/>
                  </a:lnTo>
                  <a:lnTo>
                    <a:pt x="204" y="569"/>
                  </a:lnTo>
                  <a:lnTo>
                    <a:pt x="239" y="623"/>
                  </a:lnTo>
                  <a:lnTo>
                    <a:pt x="290" y="697"/>
                  </a:lnTo>
                  <a:lnTo>
                    <a:pt x="339" y="752"/>
                  </a:lnTo>
                  <a:lnTo>
                    <a:pt x="391" y="825"/>
                  </a:lnTo>
                  <a:lnTo>
                    <a:pt x="443" y="880"/>
                  </a:lnTo>
                  <a:lnTo>
                    <a:pt x="476" y="954"/>
                  </a:lnTo>
                  <a:lnTo>
                    <a:pt x="528" y="1026"/>
                  </a:lnTo>
                  <a:lnTo>
                    <a:pt x="561" y="1081"/>
                  </a:lnTo>
                  <a:lnTo>
                    <a:pt x="614" y="1155"/>
                  </a:lnTo>
                  <a:lnTo>
                    <a:pt x="732" y="1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4097160" y="3840120"/>
              <a:ext cx="117720" cy="212760"/>
            </a:xfrm>
            <a:custGeom>
              <a:avLst/>
              <a:gdLst/>
              <a:ahLst/>
              <a:rect l="l" t="t" r="r" b="b"/>
              <a:pathLst>
                <a:path w="441" h="805">
                  <a:moveTo>
                    <a:pt x="441" y="731"/>
                  </a:moveTo>
                  <a:lnTo>
                    <a:pt x="425" y="676"/>
                  </a:lnTo>
                  <a:lnTo>
                    <a:pt x="390" y="623"/>
                  </a:lnTo>
                  <a:lnTo>
                    <a:pt x="375" y="568"/>
                  </a:lnTo>
                  <a:lnTo>
                    <a:pt x="340" y="511"/>
                  </a:lnTo>
                  <a:lnTo>
                    <a:pt x="324" y="456"/>
                  </a:lnTo>
                  <a:lnTo>
                    <a:pt x="306" y="420"/>
                  </a:lnTo>
                  <a:lnTo>
                    <a:pt x="289" y="385"/>
                  </a:lnTo>
                  <a:lnTo>
                    <a:pt x="272" y="329"/>
                  </a:lnTo>
                  <a:lnTo>
                    <a:pt x="255" y="291"/>
                  </a:lnTo>
                  <a:lnTo>
                    <a:pt x="237" y="257"/>
                  </a:lnTo>
                  <a:lnTo>
                    <a:pt x="221" y="201"/>
                  </a:lnTo>
                  <a:lnTo>
                    <a:pt x="204" y="165"/>
                  </a:lnTo>
                  <a:lnTo>
                    <a:pt x="170" y="128"/>
                  </a:lnTo>
                  <a:lnTo>
                    <a:pt x="152" y="92"/>
                  </a:lnTo>
                  <a:lnTo>
                    <a:pt x="135" y="37"/>
                  </a:lnTo>
                  <a:lnTo>
                    <a:pt x="118" y="0"/>
                  </a:lnTo>
                  <a:lnTo>
                    <a:pt x="0" y="55"/>
                  </a:lnTo>
                  <a:lnTo>
                    <a:pt x="16" y="109"/>
                  </a:lnTo>
                  <a:lnTo>
                    <a:pt x="34" y="146"/>
                  </a:lnTo>
                  <a:lnTo>
                    <a:pt x="51" y="183"/>
                  </a:lnTo>
                  <a:lnTo>
                    <a:pt x="66" y="238"/>
                  </a:lnTo>
                  <a:lnTo>
                    <a:pt x="84" y="275"/>
                  </a:lnTo>
                  <a:lnTo>
                    <a:pt x="101" y="311"/>
                  </a:lnTo>
                  <a:lnTo>
                    <a:pt x="118" y="348"/>
                  </a:lnTo>
                  <a:lnTo>
                    <a:pt x="152" y="403"/>
                  </a:lnTo>
                  <a:lnTo>
                    <a:pt x="170" y="440"/>
                  </a:lnTo>
                  <a:lnTo>
                    <a:pt x="186" y="477"/>
                  </a:lnTo>
                  <a:lnTo>
                    <a:pt x="204" y="531"/>
                  </a:lnTo>
                  <a:lnTo>
                    <a:pt x="221" y="568"/>
                  </a:lnTo>
                  <a:lnTo>
                    <a:pt x="237" y="623"/>
                  </a:lnTo>
                  <a:lnTo>
                    <a:pt x="272" y="676"/>
                  </a:lnTo>
                  <a:lnTo>
                    <a:pt x="289" y="731"/>
                  </a:lnTo>
                  <a:lnTo>
                    <a:pt x="324" y="805"/>
                  </a:lnTo>
                  <a:lnTo>
                    <a:pt x="441" y="7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4516560" y="4040280"/>
              <a:ext cx="153720" cy="115920"/>
            </a:xfrm>
            <a:custGeom>
              <a:avLst/>
              <a:gdLst/>
              <a:ahLst/>
              <a:rect l="l" t="t" r="r" b="b"/>
              <a:pathLst>
                <a:path w="579" h="439">
                  <a:moveTo>
                    <a:pt x="477" y="0"/>
                  </a:moveTo>
                  <a:lnTo>
                    <a:pt x="442" y="37"/>
                  </a:lnTo>
                  <a:lnTo>
                    <a:pt x="427" y="54"/>
                  </a:lnTo>
                  <a:lnTo>
                    <a:pt x="393" y="91"/>
                  </a:lnTo>
                  <a:lnTo>
                    <a:pt x="374" y="108"/>
                  </a:lnTo>
                  <a:lnTo>
                    <a:pt x="342" y="145"/>
                  </a:lnTo>
                  <a:lnTo>
                    <a:pt x="324" y="166"/>
                  </a:lnTo>
                  <a:lnTo>
                    <a:pt x="289" y="182"/>
                  </a:lnTo>
                  <a:lnTo>
                    <a:pt x="273" y="200"/>
                  </a:lnTo>
                  <a:lnTo>
                    <a:pt x="238" y="219"/>
                  </a:lnTo>
                  <a:lnTo>
                    <a:pt x="204" y="237"/>
                  </a:lnTo>
                  <a:lnTo>
                    <a:pt x="169" y="257"/>
                  </a:lnTo>
                  <a:lnTo>
                    <a:pt x="137" y="274"/>
                  </a:lnTo>
                  <a:lnTo>
                    <a:pt x="103" y="274"/>
                  </a:lnTo>
                  <a:lnTo>
                    <a:pt x="69" y="292"/>
                  </a:lnTo>
                  <a:lnTo>
                    <a:pt x="34" y="292"/>
                  </a:lnTo>
                  <a:lnTo>
                    <a:pt x="0" y="292"/>
                  </a:lnTo>
                  <a:lnTo>
                    <a:pt x="0" y="439"/>
                  </a:lnTo>
                  <a:lnTo>
                    <a:pt x="52" y="439"/>
                  </a:lnTo>
                  <a:lnTo>
                    <a:pt x="103" y="439"/>
                  </a:lnTo>
                  <a:lnTo>
                    <a:pt x="137" y="420"/>
                  </a:lnTo>
                  <a:lnTo>
                    <a:pt x="187" y="402"/>
                  </a:lnTo>
                  <a:lnTo>
                    <a:pt x="222" y="384"/>
                  </a:lnTo>
                  <a:lnTo>
                    <a:pt x="273" y="365"/>
                  </a:lnTo>
                  <a:lnTo>
                    <a:pt x="307" y="347"/>
                  </a:lnTo>
                  <a:lnTo>
                    <a:pt x="342" y="328"/>
                  </a:lnTo>
                  <a:lnTo>
                    <a:pt x="374" y="311"/>
                  </a:lnTo>
                  <a:lnTo>
                    <a:pt x="408" y="274"/>
                  </a:lnTo>
                  <a:lnTo>
                    <a:pt x="442" y="257"/>
                  </a:lnTo>
                  <a:lnTo>
                    <a:pt x="459" y="219"/>
                  </a:lnTo>
                  <a:lnTo>
                    <a:pt x="494" y="182"/>
                  </a:lnTo>
                  <a:lnTo>
                    <a:pt x="528" y="166"/>
                  </a:lnTo>
                  <a:lnTo>
                    <a:pt x="546" y="108"/>
                  </a:lnTo>
                  <a:lnTo>
                    <a:pt x="579" y="74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4643280" y="3670200"/>
              <a:ext cx="297000" cy="389160"/>
            </a:xfrm>
            <a:custGeom>
              <a:avLst/>
              <a:gdLst/>
              <a:ahLst/>
              <a:rect l="l" t="t" r="r" b="b"/>
              <a:pathLst>
                <a:path w="1125" h="1467">
                  <a:moveTo>
                    <a:pt x="1005" y="74"/>
                  </a:moveTo>
                  <a:lnTo>
                    <a:pt x="1005" y="0"/>
                  </a:lnTo>
                  <a:lnTo>
                    <a:pt x="973" y="56"/>
                  </a:lnTo>
                  <a:lnTo>
                    <a:pt x="939" y="111"/>
                  </a:lnTo>
                  <a:lnTo>
                    <a:pt x="905" y="147"/>
                  </a:lnTo>
                  <a:lnTo>
                    <a:pt x="870" y="202"/>
                  </a:lnTo>
                  <a:lnTo>
                    <a:pt x="836" y="257"/>
                  </a:lnTo>
                  <a:lnTo>
                    <a:pt x="801" y="294"/>
                  </a:lnTo>
                  <a:lnTo>
                    <a:pt x="768" y="348"/>
                  </a:lnTo>
                  <a:lnTo>
                    <a:pt x="734" y="385"/>
                  </a:lnTo>
                  <a:lnTo>
                    <a:pt x="699" y="422"/>
                  </a:lnTo>
                  <a:lnTo>
                    <a:pt x="683" y="477"/>
                  </a:lnTo>
                  <a:lnTo>
                    <a:pt x="648" y="514"/>
                  </a:lnTo>
                  <a:lnTo>
                    <a:pt x="615" y="550"/>
                  </a:lnTo>
                  <a:lnTo>
                    <a:pt x="580" y="587"/>
                  </a:lnTo>
                  <a:lnTo>
                    <a:pt x="546" y="642"/>
                  </a:lnTo>
                  <a:lnTo>
                    <a:pt x="512" y="679"/>
                  </a:lnTo>
                  <a:lnTo>
                    <a:pt x="495" y="715"/>
                  </a:lnTo>
                  <a:lnTo>
                    <a:pt x="461" y="751"/>
                  </a:lnTo>
                  <a:lnTo>
                    <a:pt x="426" y="788"/>
                  </a:lnTo>
                  <a:lnTo>
                    <a:pt x="392" y="825"/>
                  </a:lnTo>
                  <a:lnTo>
                    <a:pt x="375" y="880"/>
                  </a:lnTo>
                  <a:lnTo>
                    <a:pt x="341" y="917"/>
                  </a:lnTo>
                  <a:lnTo>
                    <a:pt x="306" y="953"/>
                  </a:lnTo>
                  <a:lnTo>
                    <a:pt x="274" y="990"/>
                  </a:lnTo>
                  <a:lnTo>
                    <a:pt x="255" y="1027"/>
                  </a:lnTo>
                  <a:lnTo>
                    <a:pt x="222" y="1082"/>
                  </a:lnTo>
                  <a:lnTo>
                    <a:pt x="187" y="1119"/>
                  </a:lnTo>
                  <a:lnTo>
                    <a:pt x="154" y="1153"/>
                  </a:lnTo>
                  <a:lnTo>
                    <a:pt x="120" y="1210"/>
                  </a:lnTo>
                  <a:lnTo>
                    <a:pt x="85" y="1247"/>
                  </a:lnTo>
                  <a:lnTo>
                    <a:pt x="69" y="1302"/>
                  </a:lnTo>
                  <a:lnTo>
                    <a:pt x="34" y="1339"/>
                  </a:lnTo>
                  <a:lnTo>
                    <a:pt x="0" y="1393"/>
                  </a:lnTo>
                  <a:lnTo>
                    <a:pt x="102" y="1467"/>
                  </a:lnTo>
                  <a:lnTo>
                    <a:pt x="136" y="1430"/>
                  </a:lnTo>
                  <a:lnTo>
                    <a:pt x="171" y="1373"/>
                  </a:lnTo>
                  <a:lnTo>
                    <a:pt x="205" y="1339"/>
                  </a:lnTo>
                  <a:lnTo>
                    <a:pt x="240" y="1302"/>
                  </a:lnTo>
                  <a:lnTo>
                    <a:pt x="255" y="1247"/>
                  </a:lnTo>
                  <a:lnTo>
                    <a:pt x="290" y="1210"/>
                  </a:lnTo>
                  <a:lnTo>
                    <a:pt x="324" y="1173"/>
                  </a:lnTo>
                  <a:lnTo>
                    <a:pt x="358" y="1119"/>
                  </a:lnTo>
                  <a:lnTo>
                    <a:pt x="392" y="1082"/>
                  </a:lnTo>
                  <a:lnTo>
                    <a:pt x="409" y="1045"/>
                  </a:lnTo>
                  <a:lnTo>
                    <a:pt x="444" y="1008"/>
                  </a:lnTo>
                  <a:lnTo>
                    <a:pt x="478" y="971"/>
                  </a:lnTo>
                  <a:lnTo>
                    <a:pt x="512" y="933"/>
                  </a:lnTo>
                  <a:lnTo>
                    <a:pt x="529" y="880"/>
                  </a:lnTo>
                  <a:lnTo>
                    <a:pt x="564" y="843"/>
                  </a:lnTo>
                  <a:lnTo>
                    <a:pt x="596" y="807"/>
                  </a:lnTo>
                  <a:lnTo>
                    <a:pt x="630" y="770"/>
                  </a:lnTo>
                  <a:lnTo>
                    <a:pt x="648" y="734"/>
                  </a:lnTo>
                  <a:lnTo>
                    <a:pt x="683" y="697"/>
                  </a:lnTo>
                  <a:lnTo>
                    <a:pt x="716" y="642"/>
                  </a:lnTo>
                  <a:lnTo>
                    <a:pt x="750" y="605"/>
                  </a:lnTo>
                  <a:lnTo>
                    <a:pt x="785" y="568"/>
                  </a:lnTo>
                  <a:lnTo>
                    <a:pt x="819" y="531"/>
                  </a:lnTo>
                  <a:lnTo>
                    <a:pt x="853" y="477"/>
                  </a:lnTo>
                  <a:lnTo>
                    <a:pt x="870" y="440"/>
                  </a:lnTo>
                  <a:lnTo>
                    <a:pt x="905" y="385"/>
                  </a:lnTo>
                  <a:lnTo>
                    <a:pt x="939" y="348"/>
                  </a:lnTo>
                  <a:lnTo>
                    <a:pt x="973" y="294"/>
                  </a:lnTo>
                  <a:lnTo>
                    <a:pt x="1005" y="239"/>
                  </a:lnTo>
                  <a:lnTo>
                    <a:pt x="1058" y="202"/>
                  </a:lnTo>
                  <a:lnTo>
                    <a:pt x="1091" y="147"/>
                  </a:lnTo>
                  <a:lnTo>
                    <a:pt x="1125" y="92"/>
                  </a:lnTo>
                  <a:lnTo>
                    <a:pt x="1125" y="19"/>
                  </a:lnTo>
                  <a:lnTo>
                    <a:pt x="1005" y="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4692600" y="3021120"/>
              <a:ext cx="247680" cy="669960"/>
            </a:xfrm>
            <a:custGeom>
              <a:avLst/>
              <a:gdLst/>
              <a:ahLst/>
              <a:rect l="l" t="t" r="r" b="b"/>
              <a:pathLst>
                <a:path w="938" h="2527">
                  <a:moveTo>
                    <a:pt x="53" y="128"/>
                  </a:moveTo>
                  <a:lnTo>
                    <a:pt x="0" y="91"/>
                  </a:lnTo>
                  <a:lnTo>
                    <a:pt x="18" y="164"/>
                  </a:lnTo>
                  <a:lnTo>
                    <a:pt x="53" y="237"/>
                  </a:lnTo>
                  <a:lnTo>
                    <a:pt x="68" y="311"/>
                  </a:lnTo>
                  <a:lnTo>
                    <a:pt x="103" y="402"/>
                  </a:lnTo>
                  <a:lnTo>
                    <a:pt x="119" y="475"/>
                  </a:lnTo>
                  <a:lnTo>
                    <a:pt x="154" y="549"/>
                  </a:lnTo>
                  <a:lnTo>
                    <a:pt x="171" y="622"/>
                  </a:lnTo>
                  <a:lnTo>
                    <a:pt x="205" y="695"/>
                  </a:lnTo>
                  <a:lnTo>
                    <a:pt x="222" y="769"/>
                  </a:lnTo>
                  <a:lnTo>
                    <a:pt x="257" y="860"/>
                  </a:lnTo>
                  <a:lnTo>
                    <a:pt x="274" y="934"/>
                  </a:lnTo>
                  <a:lnTo>
                    <a:pt x="308" y="1008"/>
                  </a:lnTo>
                  <a:lnTo>
                    <a:pt x="325" y="1080"/>
                  </a:lnTo>
                  <a:lnTo>
                    <a:pt x="359" y="1154"/>
                  </a:lnTo>
                  <a:lnTo>
                    <a:pt x="377" y="1225"/>
                  </a:lnTo>
                  <a:lnTo>
                    <a:pt x="409" y="1300"/>
                  </a:lnTo>
                  <a:lnTo>
                    <a:pt x="428" y="1392"/>
                  </a:lnTo>
                  <a:lnTo>
                    <a:pt x="461" y="1465"/>
                  </a:lnTo>
                  <a:lnTo>
                    <a:pt x="478" y="1539"/>
                  </a:lnTo>
                  <a:lnTo>
                    <a:pt x="512" y="1610"/>
                  </a:lnTo>
                  <a:lnTo>
                    <a:pt x="529" y="1685"/>
                  </a:lnTo>
                  <a:lnTo>
                    <a:pt x="563" y="1759"/>
                  </a:lnTo>
                  <a:lnTo>
                    <a:pt x="581" y="1850"/>
                  </a:lnTo>
                  <a:lnTo>
                    <a:pt x="614" y="1922"/>
                  </a:lnTo>
                  <a:lnTo>
                    <a:pt x="632" y="1995"/>
                  </a:lnTo>
                  <a:lnTo>
                    <a:pt x="666" y="2070"/>
                  </a:lnTo>
                  <a:lnTo>
                    <a:pt x="683" y="2142"/>
                  </a:lnTo>
                  <a:lnTo>
                    <a:pt x="718" y="2215"/>
                  </a:lnTo>
                  <a:lnTo>
                    <a:pt x="733" y="2289"/>
                  </a:lnTo>
                  <a:lnTo>
                    <a:pt x="767" y="2381"/>
                  </a:lnTo>
                  <a:lnTo>
                    <a:pt x="786" y="2453"/>
                  </a:lnTo>
                  <a:lnTo>
                    <a:pt x="818" y="2527"/>
                  </a:lnTo>
                  <a:lnTo>
                    <a:pt x="938" y="2472"/>
                  </a:lnTo>
                  <a:lnTo>
                    <a:pt x="922" y="2398"/>
                  </a:lnTo>
                  <a:lnTo>
                    <a:pt x="887" y="2325"/>
                  </a:lnTo>
                  <a:lnTo>
                    <a:pt x="871" y="2252"/>
                  </a:lnTo>
                  <a:lnTo>
                    <a:pt x="836" y="2178"/>
                  </a:lnTo>
                  <a:lnTo>
                    <a:pt x="818" y="2087"/>
                  </a:lnTo>
                  <a:lnTo>
                    <a:pt x="786" y="2013"/>
                  </a:lnTo>
                  <a:lnTo>
                    <a:pt x="767" y="1942"/>
                  </a:lnTo>
                  <a:lnTo>
                    <a:pt x="733" y="1867"/>
                  </a:lnTo>
                  <a:lnTo>
                    <a:pt x="718" y="1793"/>
                  </a:lnTo>
                  <a:lnTo>
                    <a:pt x="683" y="1722"/>
                  </a:lnTo>
                  <a:lnTo>
                    <a:pt x="666" y="1630"/>
                  </a:lnTo>
                  <a:lnTo>
                    <a:pt x="632" y="1557"/>
                  </a:lnTo>
                  <a:lnTo>
                    <a:pt x="614" y="1482"/>
                  </a:lnTo>
                  <a:lnTo>
                    <a:pt x="581" y="1411"/>
                  </a:lnTo>
                  <a:lnTo>
                    <a:pt x="563" y="1337"/>
                  </a:lnTo>
                  <a:lnTo>
                    <a:pt x="529" y="1263"/>
                  </a:lnTo>
                  <a:lnTo>
                    <a:pt x="512" y="1191"/>
                  </a:lnTo>
                  <a:lnTo>
                    <a:pt x="478" y="1099"/>
                  </a:lnTo>
                  <a:lnTo>
                    <a:pt x="461" y="1025"/>
                  </a:lnTo>
                  <a:lnTo>
                    <a:pt x="428" y="952"/>
                  </a:lnTo>
                  <a:lnTo>
                    <a:pt x="409" y="879"/>
                  </a:lnTo>
                  <a:lnTo>
                    <a:pt x="377" y="805"/>
                  </a:lnTo>
                  <a:lnTo>
                    <a:pt x="359" y="732"/>
                  </a:lnTo>
                  <a:lnTo>
                    <a:pt x="325" y="640"/>
                  </a:lnTo>
                  <a:lnTo>
                    <a:pt x="308" y="568"/>
                  </a:lnTo>
                  <a:lnTo>
                    <a:pt x="274" y="494"/>
                  </a:lnTo>
                  <a:lnTo>
                    <a:pt x="257" y="420"/>
                  </a:lnTo>
                  <a:lnTo>
                    <a:pt x="222" y="348"/>
                  </a:lnTo>
                  <a:lnTo>
                    <a:pt x="205" y="274"/>
                  </a:lnTo>
                  <a:lnTo>
                    <a:pt x="171" y="200"/>
                  </a:lnTo>
                  <a:lnTo>
                    <a:pt x="154" y="109"/>
                  </a:lnTo>
                  <a:lnTo>
                    <a:pt x="119" y="35"/>
                  </a:lnTo>
                  <a:lnTo>
                    <a:pt x="87" y="0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4160880" y="2881440"/>
              <a:ext cx="555480" cy="174600"/>
            </a:xfrm>
            <a:custGeom>
              <a:avLst/>
              <a:gdLst/>
              <a:ahLst/>
              <a:rect l="l" t="t" r="r" b="b"/>
              <a:pathLst>
                <a:path w="2099" h="659">
                  <a:moveTo>
                    <a:pt x="119" y="109"/>
                  </a:moveTo>
                  <a:lnTo>
                    <a:pt x="52" y="147"/>
                  </a:lnTo>
                  <a:lnTo>
                    <a:pt x="103" y="163"/>
                  </a:lnTo>
                  <a:lnTo>
                    <a:pt x="172" y="183"/>
                  </a:lnTo>
                  <a:lnTo>
                    <a:pt x="239" y="183"/>
                  </a:lnTo>
                  <a:lnTo>
                    <a:pt x="291" y="200"/>
                  </a:lnTo>
                  <a:lnTo>
                    <a:pt x="359" y="220"/>
                  </a:lnTo>
                  <a:lnTo>
                    <a:pt x="428" y="237"/>
                  </a:lnTo>
                  <a:lnTo>
                    <a:pt x="477" y="255"/>
                  </a:lnTo>
                  <a:lnTo>
                    <a:pt x="546" y="274"/>
                  </a:lnTo>
                  <a:lnTo>
                    <a:pt x="614" y="292"/>
                  </a:lnTo>
                  <a:lnTo>
                    <a:pt x="666" y="312"/>
                  </a:lnTo>
                  <a:lnTo>
                    <a:pt x="734" y="328"/>
                  </a:lnTo>
                  <a:lnTo>
                    <a:pt x="802" y="328"/>
                  </a:lnTo>
                  <a:lnTo>
                    <a:pt x="853" y="349"/>
                  </a:lnTo>
                  <a:lnTo>
                    <a:pt x="921" y="365"/>
                  </a:lnTo>
                  <a:lnTo>
                    <a:pt x="990" y="383"/>
                  </a:lnTo>
                  <a:lnTo>
                    <a:pt x="1058" y="402"/>
                  </a:lnTo>
                  <a:lnTo>
                    <a:pt x="1108" y="420"/>
                  </a:lnTo>
                  <a:lnTo>
                    <a:pt x="1177" y="440"/>
                  </a:lnTo>
                  <a:lnTo>
                    <a:pt x="1246" y="457"/>
                  </a:lnTo>
                  <a:lnTo>
                    <a:pt x="1297" y="475"/>
                  </a:lnTo>
                  <a:lnTo>
                    <a:pt x="1365" y="494"/>
                  </a:lnTo>
                  <a:lnTo>
                    <a:pt x="1432" y="511"/>
                  </a:lnTo>
                  <a:lnTo>
                    <a:pt x="1501" y="511"/>
                  </a:lnTo>
                  <a:lnTo>
                    <a:pt x="1552" y="531"/>
                  </a:lnTo>
                  <a:lnTo>
                    <a:pt x="1621" y="548"/>
                  </a:lnTo>
                  <a:lnTo>
                    <a:pt x="1672" y="566"/>
                  </a:lnTo>
                  <a:lnTo>
                    <a:pt x="1741" y="585"/>
                  </a:lnTo>
                  <a:lnTo>
                    <a:pt x="1807" y="603"/>
                  </a:lnTo>
                  <a:lnTo>
                    <a:pt x="1876" y="622"/>
                  </a:lnTo>
                  <a:lnTo>
                    <a:pt x="1927" y="640"/>
                  </a:lnTo>
                  <a:lnTo>
                    <a:pt x="1996" y="659"/>
                  </a:lnTo>
                  <a:lnTo>
                    <a:pt x="2065" y="659"/>
                  </a:lnTo>
                  <a:lnTo>
                    <a:pt x="2099" y="531"/>
                  </a:lnTo>
                  <a:lnTo>
                    <a:pt x="2030" y="511"/>
                  </a:lnTo>
                  <a:lnTo>
                    <a:pt x="1961" y="494"/>
                  </a:lnTo>
                  <a:lnTo>
                    <a:pt x="1894" y="475"/>
                  </a:lnTo>
                  <a:lnTo>
                    <a:pt x="1842" y="457"/>
                  </a:lnTo>
                  <a:lnTo>
                    <a:pt x="1775" y="440"/>
                  </a:lnTo>
                  <a:lnTo>
                    <a:pt x="1706" y="420"/>
                  </a:lnTo>
                  <a:lnTo>
                    <a:pt x="1655" y="420"/>
                  </a:lnTo>
                  <a:lnTo>
                    <a:pt x="1586" y="402"/>
                  </a:lnTo>
                  <a:lnTo>
                    <a:pt x="1517" y="383"/>
                  </a:lnTo>
                  <a:lnTo>
                    <a:pt x="1466" y="365"/>
                  </a:lnTo>
                  <a:lnTo>
                    <a:pt x="1400" y="349"/>
                  </a:lnTo>
                  <a:lnTo>
                    <a:pt x="1331" y="328"/>
                  </a:lnTo>
                  <a:lnTo>
                    <a:pt x="1280" y="312"/>
                  </a:lnTo>
                  <a:lnTo>
                    <a:pt x="1211" y="292"/>
                  </a:lnTo>
                  <a:lnTo>
                    <a:pt x="1142" y="274"/>
                  </a:lnTo>
                  <a:lnTo>
                    <a:pt x="1076" y="255"/>
                  </a:lnTo>
                  <a:lnTo>
                    <a:pt x="1024" y="255"/>
                  </a:lnTo>
                  <a:lnTo>
                    <a:pt x="956" y="237"/>
                  </a:lnTo>
                  <a:lnTo>
                    <a:pt x="887" y="220"/>
                  </a:lnTo>
                  <a:lnTo>
                    <a:pt x="836" y="200"/>
                  </a:lnTo>
                  <a:lnTo>
                    <a:pt x="768" y="183"/>
                  </a:lnTo>
                  <a:lnTo>
                    <a:pt x="701" y="163"/>
                  </a:lnTo>
                  <a:lnTo>
                    <a:pt x="648" y="147"/>
                  </a:lnTo>
                  <a:lnTo>
                    <a:pt x="581" y="129"/>
                  </a:lnTo>
                  <a:lnTo>
                    <a:pt x="512" y="109"/>
                  </a:lnTo>
                  <a:lnTo>
                    <a:pt x="462" y="92"/>
                  </a:lnTo>
                  <a:lnTo>
                    <a:pt x="393" y="92"/>
                  </a:lnTo>
                  <a:lnTo>
                    <a:pt x="324" y="72"/>
                  </a:lnTo>
                  <a:lnTo>
                    <a:pt x="273" y="55"/>
                  </a:lnTo>
                  <a:lnTo>
                    <a:pt x="204" y="35"/>
                  </a:lnTo>
                  <a:lnTo>
                    <a:pt x="138" y="18"/>
                  </a:lnTo>
                  <a:lnTo>
                    <a:pt x="69" y="0"/>
                  </a:lnTo>
                  <a:lnTo>
                    <a:pt x="0" y="18"/>
                  </a:lnTo>
                  <a:lnTo>
                    <a:pt x="119" y="10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4079880" y="2251080"/>
              <a:ext cx="1308240" cy="1671480"/>
            </a:xfrm>
            <a:custGeom>
              <a:avLst/>
              <a:gdLst/>
              <a:ahLst/>
              <a:rect l="l" t="t" r="r" b="b"/>
              <a:pathLst>
                <a:path w="4945" h="6318">
                  <a:moveTo>
                    <a:pt x="255" y="2014"/>
                  </a:moveTo>
                  <a:lnTo>
                    <a:pt x="170" y="2106"/>
                  </a:lnTo>
                  <a:lnTo>
                    <a:pt x="103" y="2179"/>
                  </a:lnTo>
                  <a:lnTo>
                    <a:pt x="51" y="2271"/>
                  </a:lnTo>
                  <a:lnTo>
                    <a:pt x="16" y="2361"/>
                  </a:lnTo>
                  <a:lnTo>
                    <a:pt x="0" y="2436"/>
                  </a:lnTo>
                  <a:lnTo>
                    <a:pt x="0" y="2528"/>
                  </a:lnTo>
                  <a:lnTo>
                    <a:pt x="0" y="2601"/>
                  </a:lnTo>
                  <a:lnTo>
                    <a:pt x="16" y="2673"/>
                  </a:lnTo>
                  <a:lnTo>
                    <a:pt x="51" y="2730"/>
                  </a:lnTo>
                  <a:lnTo>
                    <a:pt x="103" y="2783"/>
                  </a:lnTo>
                  <a:lnTo>
                    <a:pt x="153" y="2821"/>
                  </a:lnTo>
                  <a:lnTo>
                    <a:pt x="221" y="2838"/>
                  </a:lnTo>
                  <a:lnTo>
                    <a:pt x="306" y="2838"/>
                  </a:lnTo>
                  <a:lnTo>
                    <a:pt x="393" y="2821"/>
                  </a:lnTo>
                  <a:lnTo>
                    <a:pt x="478" y="2801"/>
                  </a:lnTo>
                  <a:lnTo>
                    <a:pt x="579" y="2746"/>
                  </a:lnTo>
                  <a:lnTo>
                    <a:pt x="597" y="2821"/>
                  </a:lnTo>
                  <a:lnTo>
                    <a:pt x="597" y="2912"/>
                  </a:lnTo>
                  <a:lnTo>
                    <a:pt x="630" y="2984"/>
                  </a:lnTo>
                  <a:lnTo>
                    <a:pt x="665" y="3058"/>
                  </a:lnTo>
                  <a:lnTo>
                    <a:pt x="699" y="3112"/>
                  </a:lnTo>
                  <a:lnTo>
                    <a:pt x="749" y="3167"/>
                  </a:lnTo>
                  <a:lnTo>
                    <a:pt x="802" y="3204"/>
                  </a:lnTo>
                  <a:lnTo>
                    <a:pt x="869" y="3241"/>
                  </a:lnTo>
                  <a:lnTo>
                    <a:pt x="938" y="3260"/>
                  </a:lnTo>
                  <a:lnTo>
                    <a:pt x="989" y="3278"/>
                  </a:lnTo>
                  <a:lnTo>
                    <a:pt x="1058" y="3278"/>
                  </a:lnTo>
                  <a:lnTo>
                    <a:pt x="1124" y="3260"/>
                  </a:lnTo>
                  <a:lnTo>
                    <a:pt x="1193" y="3241"/>
                  </a:lnTo>
                  <a:lnTo>
                    <a:pt x="1244" y="3204"/>
                  </a:lnTo>
                  <a:lnTo>
                    <a:pt x="1313" y="3149"/>
                  </a:lnTo>
                  <a:lnTo>
                    <a:pt x="1364" y="3095"/>
                  </a:lnTo>
                  <a:lnTo>
                    <a:pt x="1347" y="3167"/>
                  </a:lnTo>
                  <a:lnTo>
                    <a:pt x="1364" y="3241"/>
                  </a:lnTo>
                  <a:lnTo>
                    <a:pt x="1364" y="3314"/>
                  </a:lnTo>
                  <a:lnTo>
                    <a:pt x="1382" y="3369"/>
                  </a:lnTo>
                  <a:lnTo>
                    <a:pt x="1414" y="3406"/>
                  </a:lnTo>
                  <a:lnTo>
                    <a:pt x="1433" y="3443"/>
                  </a:lnTo>
                  <a:lnTo>
                    <a:pt x="1483" y="3461"/>
                  </a:lnTo>
                  <a:lnTo>
                    <a:pt x="1517" y="3480"/>
                  </a:lnTo>
                  <a:lnTo>
                    <a:pt x="1568" y="3498"/>
                  </a:lnTo>
                  <a:lnTo>
                    <a:pt x="1603" y="3498"/>
                  </a:lnTo>
                  <a:lnTo>
                    <a:pt x="1654" y="3498"/>
                  </a:lnTo>
                  <a:lnTo>
                    <a:pt x="1706" y="3498"/>
                  </a:lnTo>
                  <a:lnTo>
                    <a:pt x="1757" y="3480"/>
                  </a:lnTo>
                  <a:lnTo>
                    <a:pt x="1807" y="3461"/>
                  </a:lnTo>
                  <a:lnTo>
                    <a:pt x="1858" y="3443"/>
                  </a:lnTo>
                  <a:lnTo>
                    <a:pt x="1910" y="3406"/>
                  </a:lnTo>
                  <a:lnTo>
                    <a:pt x="1910" y="3461"/>
                  </a:lnTo>
                  <a:lnTo>
                    <a:pt x="1892" y="3534"/>
                  </a:lnTo>
                  <a:lnTo>
                    <a:pt x="1892" y="3589"/>
                  </a:lnTo>
                  <a:lnTo>
                    <a:pt x="1892" y="3644"/>
                  </a:lnTo>
                  <a:lnTo>
                    <a:pt x="1910" y="3700"/>
                  </a:lnTo>
                  <a:lnTo>
                    <a:pt x="1910" y="3754"/>
                  </a:lnTo>
                  <a:lnTo>
                    <a:pt x="1943" y="3809"/>
                  </a:lnTo>
                  <a:lnTo>
                    <a:pt x="1961" y="3846"/>
                  </a:lnTo>
                  <a:lnTo>
                    <a:pt x="1996" y="3883"/>
                  </a:lnTo>
                  <a:lnTo>
                    <a:pt x="2028" y="3920"/>
                  </a:lnTo>
                  <a:lnTo>
                    <a:pt x="2062" y="3955"/>
                  </a:lnTo>
                  <a:lnTo>
                    <a:pt x="2113" y="3974"/>
                  </a:lnTo>
                  <a:lnTo>
                    <a:pt x="2165" y="3974"/>
                  </a:lnTo>
                  <a:lnTo>
                    <a:pt x="2233" y="3992"/>
                  </a:lnTo>
                  <a:lnTo>
                    <a:pt x="2285" y="3992"/>
                  </a:lnTo>
                  <a:lnTo>
                    <a:pt x="2353" y="3974"/>
                  </a:lnTo>
                  <a:lnTo>
                    <a:pt x="2318" y="4047"/>
                  </a:lnTo>
                  <a:lnTo>
                    <a:pt x="2285" y="4120"/>
                  </a:lnTo>
                  <a:lnTo>
                    <a:pt x="2267" y="4194"/>
                  </a:lnTo>
                  <a:lnTo>
                    <a:pt x="2267" y="4249"/>
                  </a:lnTo>
                  <a:lnTo>
                    <a:pt x="2251" y="4323"/>
                  </a:lnTo>
                  <a:lnTo>
                    <a:pt x="2267" y="4394"/>
                  </a:lnTo>
                  <a:lnTo>
                    <a:pt x="2267" y="4451"/>
                  </a:lnTo>
                  <a:lnTo>
                    <a:pt x="2285" y="4506"/>
                  </a:lnTo>
                  <a:lnTo>
                    <a:pt x="2318" y="4560"/>
                  </a:lnTo>
                  <a:lnTo>
                    <a:pt x="2353" y="4614"/>
                  </a:lnTo>
                  <a:lnTo>
                    <a:pt x="2386" y="4651"/>
                  </a:lnTo>
                  <a:lnTo>
                    <a:pt x="2421" y="4688"/>
                  </a:lnTo>
                  <a:lnTo>
                    <a:pt x="2472" y="4705"/>
                  </a:lnTo>
                  <a:lnTo>
                    <a:pt x="2540" y="4726"/>
                  </a:lnTo>
                  <a:lnTo>
                    <a:pt x="2609" y="4726"/>
                  </a:lnTo>
                  <a:lnTo>
                    <a:pt x="2660" y="4726"/>
                  </a:lnTo>
                  <a:lnTo>
                    <a:pt x="2626" y="4762"/>
                  </a:lnTo>
                  <a:lnTo>
                    <a:pt x="2592" y="4816"/>
                  </a:lnTo>
                  <a:lnTo>
                    <a:pt x="2557" y="4871"/>
                  </a:lnTo>
                  <a:lnTo>
                    <a:pt x="2540" y="4925"/>
                  </a:lnTo>
                  <a:lnTo>
                    <a:pt x="2523" y="4982"/>
                  </a:lnTo>
                  <a:lnTo>
                    <a:pt x="2506" y="5036"/>
                  </a:lnTo>
                  <a:lnTo>
                    <a:pt x="2506" y="5090"/>
                  </a:lnTo>
                  <a:lnTo>
                    <a:pt x="2506" y="5145"/>
                  </a:lnTo>
                  <a:lnTo>
                    <a:pt x="2506" y="5201"/>
                  </a:lnTo>
                  <a:lnTo>
                    <a:pt x="2523" y="5256"/>
                  </a:lnTo>
                  <a:lnTo>
                    <a:pt x="2540" y="5293"/>
                  </a:lnTo>
                  <a:lnTo>
                    <a:pt x="2575" y="5328"/>
                  </a:lnTo>
                  <a:lnTo>
                    <a:pt x="2609" y="5365"/>
                  </a:lnTo>
                  <a:lnTo>
                    <a:pt x="2643" y="5402"/>
                  </a:lnTo>
                  <a:lnTo>
                    <a:pt x="2695" y="5421"/>
                  </a:lnTo>
                  <a:lnTo>
                    <a:pt x="2761" y="5439"/>
                  </a:lnTo>
                  <a:lnTo>
                    <a:pt x="2695" y="5512"/>
                  </a:lnTo>
                  <a:lnTo>
                    <a:pt x="2643" y="5604"/>
                  </a:lnTo>
                  <a:lnTo>
                    <a:pt x="2592" y="5696"/>
                  </a:lnTo>
                  <a:lnTo>
                    <a:pt x="2575" y="5805"/>
                  </a:lnTo>
                  <a:lnTo>
                    <a:pt x="2557" y="5896"/>
                  </a:lnTo>
                  <a:lnTo>
                    <a:pt x="2540" y="5988"/>
                  </a:lnTo>
                  <a:lnTo>
                    <a:pt x="2557" y="6080"/>
                  </a:lnTo>
                  <a:lnTo>
                    <a:pt x="2575" y="6153"/>
                  </a:lnTo>
                  <a:lnTo>
                    <a:pt x="2609" y="6208"/>
                  </a:lnTo>
                  <a:lnTo>
                    <a:pt x="2643" y="6264"/>
                  </a:lnTo>
                  <a:lnTo>
                    <a:pt x="2695" y="6282"/>
                  </a:lnTo>
                  <a:lnTo>
                    <a:pt x="2761" y="6282"/>
                  </a:lnTo>
                  <a:lnTo>
                    <a:pt x="2830" y="6264"/>
                  </a:lnTo>
                  <a:lnTo>
                    <a:pt x="2916" y="6208"/>
                  </a:lnTo>
                  <a:lnTo>
                    <a:pt x="3017" y="6135"/>
                  </a:lnTo>
                  <a:lnTo>
                    <a:pt x="3136" y="6007"/>
                  </a:lnTo>
                  <a:lnTo>
                    <a:pt x="3171" y="6080"/>
                  </a:lnTo>
                  <a:lnTo>
                    <a:pt x="3222" y="6135"/>
                  </a:lnTo>
                  <a:lnTo>
                    <a:pt x="3256" y="6190"/>
                  </a:lnTo>
                  <a:lnTo>
                    <a:pt x="3309" y="6227"/>
                  </a:lnTo>
                  <a:lnTo>
                    <a:pt x="3360" y="6264"/>
                  </a:lnTo>
                  <a:lnTo>
                    <a:pt x="3410" y="6298"/>
                  </a:lnTo>
                  <a:lnTo>
                    <a:pt x="3461" y="6318"/>
                  </a:lnTo>
                  <a:lnTo>
                    <a:pt x="3513" y="6318"/>
                  </a:lnTo>
                  <a:lnTo>
                    <a:pt x="3564" y="6318"/>
                  </a:lnTo>
                  <a:lnTo>
                    <a:pt x="3615" y="6298"/>
                  </a:lnTo>
                  <a:lnTo>
                    <a:pt x="3665" y="6282"/>
                  </a:lnTo>
                  <a:lnTo>
                    <a:pt x="3718" y="6264"/>
                  </a:lnTo>
                  <a:lnTo>
                    <a:pt x="3768" y="6208"/>
                  </a:lnTo>
                  <a:lnTo>
                    <a:pt x="3819" y="6172"/>
                  </a:lnTo>
                  <a:lnTo>
                    <a:pt x="3870" y="6099"/>
                  </a:lnTo>
                  <a:lnTo>
                    <a:pt x="3905" y="6025"/>
                  </a:lnTo>
                  <a:lnTo>
                    <a:pt x="3990" y="6062"/>
                  </a:lnTo>
                  <a:lnTo>
                    <a:pt x="4074" y="6062"/>
                  </a:lnTo>
                  <a:lnTo>
                    <a:pt x="4143" y="6062"/>
                  </a:lnTo>
                  <a:lnTo>
                    <a:pt x="4212" y="6044"/>
                  </a:lnTo>
                  <a:lnTo>
                    <a:pt x="4263" y="6007"/>
                  </a:lnTo>
                  <a:lnTo>
                    <a:pt x="4314" y="5952"/>
                  </a:lnTo>
                  <a:lnTo>
                    <a:pt x="4364" y="5896"/>
                  </a:lnTo>
                  <a:lnTo>
                    <a:pt x="4398" y="5842"/>
                  </a:lnTo>
                  <a:lnTo>
                    <a:pt x="4433" y="5768"/>
                  </a:lnTo>
                  <a:lnTo>
                    <a:pt x="4450" y="5696"/>
                  </a:lnTo>
                  <a:lnTo>
                    <a:pt x="4450" y="5622"/>
                  </a:lnTo>
                  <a:lnTo>
                    <a:pt x="4450" y="5548"/>
                  </a:lnTo>
                  <a:lnTo>
                    <a:pt x="4433" y="5493"/>
                  </a:lnTo>
                  <a:lnTo>
                    <a:pt x="4398" y="5421"/>
                  </a:lnTo>
                  <a:lnTo>
                    <a:pt x="4349" y="5365"/>
                  </a:lnTo>
                  <a:lnTo>
                    <a:pt x="4280" y="5310"/>
                  </a:lnTo>
                  <a:lnTo>
                    <a:pt x="4349" y="5293"/>
                  </a:lnTo>
                  <a:lnTo>
                    <a:pt x="4398" y="5256"/>
                  </a:lnTo>
                  <a:lnTo>
                    <a:pt x="4433" y="5219"/>
                  </a:lnTo>
                  <a:lnTo>
                    <a:pt x="4484" y="5182"/>
                  </a:lnTo>
                  <a:lnTo>
                    <a:pt x="4518" y="5145"/>
                  </a:lnTo>
                  <a:lnTo>
                    <a:pt x="4553" y="5090"/>
                  </a:lnTo>
                  <a:lnTo>
                    <a:pt x="4569" y="5054"/>
                  </a:lnTo>
                  <a:lnTo>
                    <a:pt x="4587" y="4999"/>
                  </a:lnTo>
                  <a:lnTo>
                    <a:pt x="4604" y="4962"/>
                  </a:lnTo>
                  <a:lnTo>
                    <a:pt x="4622" y="4907"/>
                  </a:lnTo>
                  <a:lnTo>
                    <a:pt x="4638" y="4854"/>
                  </a:lnTo>
                  <a:lnTo>
                    <a:pt x="4638" y="4797"/>
                  </a:lnTo>
                  <a:lnTo>
                    <a:pt x="4638" y="4742"/>
                  </a:lnTo>
                  <a:lnTo>
                    <a:pt x="4638" y="4671"/>
                  </a:lnTo>
                  <a:lnTo>
                    <a:pt x="4622" y="4614"/>
                  </a:lnTo>
                  <a:lnTo>
                    <a:pt x="4622" y="4560"/>
                  </a:lnTo>
                  <a:lnTo>
                    <a:pt x="4673" y="4522"/>
                  </a:lnTo>
                  <a:lnTo>
                    <a:pt x="4723" y="4485"/>
                  </a:lnTo>
                  <a:lnTo>
                    <a:pt x="4774" y="4432"/>
                  </a:lnTo>
                  <a:lnTo>
                    <a:pt x="4808" y="4377"/>
                  </a:lnTo>
                  <a:lnTo>
                    <a:pt x="4842" y="4323"/>
                  </a:lnTo>
                  <a:lnTo>
                    <a:pt x="4877" y="4265"/>
                  </a:lnTo>
                  <a:lnTo>
                    <a:pt x="4911" y="4212"/>
                  </a:lnTo>
                  <a:lnTo>
                    <a:pt x="4928" y="4137"/>
                  </a:lnTo>
                  <a:lnTo>
                    <a:pt x="4928" y="4084"/>
                  </a:lnTo>
                  <a:lnTo>
                    <a:pt x="4945" y="4011"/>
                  </a:lnTo>
                  <a:lnTo>
                    <a:pt x="4928" y="3955"/>
                  </a:lnTo>
                  <a:lnTo>
                    <a:pt x="4928" y="3883"/>
                  </a:lnTo>
                  <a:lnTo>
                    <a:pt x="4911" y="3827"/>
                  </a:lnTo>
                  <a:lnTo>
                    <a:pt x="4877" y="3754"/>
                  </a:lnTo>
                  <a:lnTo>
                    <a:pt x="4842" y="3700"/>
                  </a:lnTo>
                  <a:lnTo>
                    <a:pt x="4791" y="3644"/>
                  </a:lnTo>
                  <a:lnTo>
                    <a:pt x="4842" y="3607"/>
                  </a:lnTo>
                  <a:lnTo>
                    <a:pt x="4877" y="3552"/>
                  </a:lnTo>
                  <a:lnTo>
                    <a:pt x="4911" y="3498"/>
                  </a:lnTo>
                  <a:lnTo>
                    <a:pt x="4928" y="3443"/>
                  </a:lnTo>
                  <a:lnTo>
                    <a:pt x="4928" y="3387"/>
                  </a:lnTo>
                  <a:lnTo>
                    <a:pt x="4945" y="3332"/>
                  </a:lnTo>
                  <a:lnTo>
                    <a:pt x="4928" y="3278"/>
                  </a:lnTo>
                  <a:lnTo>
                    <a:pt x="4928" y="3223"/>
                  </a:lnTo>
                  <a:lnTo>
                    <a:pt x="4911" y="3167"/>
                  </a:lnTo>
                  <a:lnTo>
                    <a:pt x="4894" y="3112"/>
                  </a:lnTo>
                  <a:lnTo>
                    <a:pt x="4877" y="3076"/>
                  </a:lnTo>
                  <a:lnTo>
                    <a:pt x="4842" y="3040"/>
                  </a:lnTo>
                  <a:lnTo>
                    <a:pt x="4808" y="3003"/>
                  </a:lnTo>
                  <a:lnTo>
                    <a:pt x="4774" y="2966"/>
                  </a:lnTo>
                  <a:lnTo>
                    <a:pt x="4739" y="2966"/>
                  </a:lnTo>
                  <a:lnTo>
                    <a:pt x="4707" y="2947"/>
                  </a:lnTo>
                  <a:lnTo>
                    <a:pt x="4739" y="2892"/>
                  </a:lnTo>
                  <a:lnTo>
                    <a:pt x="4757" y="2856"/>
                  </a:lnTo>
                  <a:lnTo>
                    <a:pt x="4774" y="2801"/>
                  </a:lnTo>
                  <a:lnTo>
                    <a:pt x="4774" y="2746"/>
                  </a:lnTo>
                  <a:lnTo>
                    <a:pt x="4791" y="2693"/>
                  </a:lnTo>
                  <a:lnTo>
                    <a:pt x="4791" y="2636"/>
                  </a:lnTo>
                  <a:lnTo>
                    <a:pt x="4774" y="2601"/>
                  </a:lnTo>
                  <a:lnTo>
                    <a:pt x="4774" y="2544"/>
                  </a:lnTo>
                  <a:lnTo>
                    <a:pt x="4757" y="2510"/>
                  </a:lnTo>
                  <a:lnTo>
                    <a:pt x="4739" y="2453"/>
                  </a:lnTo>
                  <a:lnTo>
                    <a:pt x="4707" y="2416"/>
                  </a:lnTo>
                  <a:lnTo>
                    <a:pt x="4688" y="2381"/>
                  </a:lnTo>
                  <a:lnTo>
                    <a:pt x="4654" y="2344"/>
                  </a:lnTo>
                  <a:lnTo>
                    <a:pt x="4622" y="2324"/>
                  </a:lnTo>
                  <a:lnTo>
                    <a:pt x="4569" y="2308"/>
                  </a:lnTo>
                  <a:lnTo>
                    <a:pt x="4535" y="2290"/>
                  </a:lnTo>
                  <a:lnTo>
                    <a:pt x="4553" y="2179"/>
                  </a:lnTo>
                  <a:lnTo>
                    <a:pt x="4553" y="2070"/>
                  </a:lnTo>
                  <a:lnTo>
                    <a:pt x="4553" y="1959"/>
                  </a:lnTo>
                  <a:lnTo>
                    <a:pt x="4535" y="1850"/>
                  </a:lnTo>
                  <a:lnTo>
                    <a:pt x="4502" y="1758"/>
                  </a:lnTo>
                  <a:lnTo>
                    <a:pt x="4450" y="1666"/>
                  </a:lnTo>
                  <a:lnTo>
                    <a:pt x="4398" y="1593"/>
                  </a:lnTo>
                  <a:lnTo>
                    <a:pt x="4330" y="1539"/>
                  </a:lnTo>
                  <a:lnTo>
                    <a:pt x="4330" y="1483"/>
                  </a:lnTo>
                  <a:lnTo>
                    <a:pt x="4330" y="1428"/>
                  </a:lnTo>
                  <a:lnTo>
                    <a:pt x="4330" y="1373"/>
                  </a:lnTo>
                  <a:lnTo>
                    <a:pt x="4314" y="1319"/>
                  </a:lnTo>
                  <a:lnTo>
                    <a:pt x="4314" y="1263"/>
                  </a:lnTo>
                  <a:lnTo>
                    <a:pt x="4298" y="1226"/>
                  </a:lnTo>
                  <a:lnTo>
                    <a:pt x="4280" y="1190"/>
                  </a:lnTo>
                  <a:lnTo>
                    <a:pt x="4245" y="1153"/>
                  </a:lnTo>
                  <a:lnTo>
                    <a:pt x="4229" y="1117"/>
                  </a:lnTo>
                  <a:lnTo>
                    <a:pt x="4194" y="1080"/>
                  </a:lnTo>
                  <a:lnTo>
                    <a:pt x="4160" y="1062"/>
                  </a:lnTo>
                  <a:lnTo>
                    <a:pt x="4125" y="1043"/>
                  </a:lnTo>
                  <a:lnTo>
                    <a:pt x="4074" y="1025"/>
                  </a:lnTo>
                  <a:lnTo>
                    <a:pt x="4023" y="1025"/>
                  </a:lnTo>
                  <a:lnTo>
                    <a:pt x="3973" y="1025"/>
                  </a:lnTo>
                  <a:lnTo>
                    <a:pt x="3905" y="1025"/>
                  </a:lnTo>
                  <a:lnTo>
                    <a:pt x="3905" y="951"/>
                  </a:lnTo>
                  <a:lnTo>
                    <a:pt x="3888" y="879"/>
                  </a:lnTo>
                  <a:lnTo>
                    <a:pt x="3888" y="823"/>
                  </a:lnTo>
                  <a:lnTo>
                    <a:pt x="3870" y="750"/>
                  </a:lnTo>
                  <a:lnTo>
                    <a:pt x="3836" y="714"/>
                  </a:lnTo>
                  <a:lnTo>
                    <a:pt x="3819" y="660"/>
                  </a:lnTo>
                  <a:lnTo>
                    <a:pt x="3785" y="623"/>
                  </a:lnTo>
                  <a:lnTo>
                    <a:pt x="3768" y="585"/>
                  </a:lnTo>
                  <a:lnTo>
                    <a:pt x="3734" y="548"/>
                  </a:lnTo>
                  <a:lnTo>
                    <a:pt x="3684" y="532"/>
                  </a:lnTo>
                  <a:lnTo>
                    <a:pt x="3649" y="511"/>
                  </a:lnTo>
                  <a:lnTo>
                    <a:pt x="3615" y="511"/>
                  </a:lnTo>
                  <a:lnTo>
                    <a:pt x="3564" y="511"/>
                  </a:lnTo>
                  <a:lnTo>
                    <a:pt x="3513" y="511"/>
                  </a:lnTo>
                  <a:lnTo>
                    <a:pt x="3461" y="532"/>
                  </a:lnTo>
                  <a:lnTo>
                    <a:pt x="3394" y="548"/>
                  </a:lnTo>
                  <a:lnTo>
                    <a:pt x="3394" y="475"/>
                  </a:lnTo>
                  <a:lnTo>
                    <a:pt x="3394" y="403"/>
                  </a:lnTo>
                  <a:lnTo>
                    <a:pt x="3360" y="349"/>
                  </a:lnTo>
                  <a:lnTo>
                    <a:pt x="3341" y="292"/>
                  </a:lnTo>
                  <a:lnTo>
                    <a:pt x="3291" y="255"/>
                  </a:lnTo>
                  <a:lnTo>
                    <a:pt x="3256" y="220"/>
                  </a:lnTo>
                  <a:lnTo>
                    <a:pt x="3205" y="183"/>
                  </a:lnTo>
                  <a:lnTo>
                    <a:pt x="3136" y="163"/>
                  </a:lnTo>
                  <a:lnTo>
                    <a:pt x="3085" y="163"/>
                  </a:lnTo>
                  <a:lnTo>
                    <a:pt x="3017" y="163"/>
                  </a:lnTo>
                  <a:lnTo>
                    <a:pt x="2950" y="163"/>
                  </a:lnTo>
                  <a:lnTo>
                    <a:pt x="2881" y="183"/>
                  </a:lnTo>
                  <a:lnTo>
                    <a:pt x="2814" y="201"/>
                  </a:lnTo>
                  <a:lnTo>
                    <a:pt x="2746" y="220"/>
                  </a:lnTo>
                  <a:lnTo>
                    <a:pt x="2677" y="255"/>
                  </a:lnTo>
                  <a:lnTo>
                    <a:pt x="2609" y="312"/>
                  </a:lnTo>
                  <a:lnTo>
                    <a:pt x="2575" y="238"/>
                  </a:lnTo>
                  <a:lnTo>
                    <a:pt x="2540" y="163"/>
                  </a:lnTo>
                  <a:lnTo>
                    <a:pt x="2506" y="110"/>
                  </a:lnTo>
                  <a:lnTo>
                    <a:pt x="2437" y="73"/>
                  </a:lnTo>
                  <a:lnTo>
                    <a:pt x="2386" y="35"/>
                  </a:lnTo>
                  <a:lnTo>
                    <a:pt x="2302" y="0"/>
                  </a:lnTo>
                  <a:lnTo>
                    <a:pt x="2233" y="0"/>
                  </a:lnTo>
                  <a:lnTo>
                    <a:pt x="2148" y="0"/>
                  </a:lnTo>
                  <a:lnTo>
                    <a:pt x="2062" y="18"/>
                  </a:lnTo>
                  <a:lnTo>
                    <a:pt x="1978" y="35"/>
                  </a:lnTo>
                  <a:lnTo>
                    <a:pt x="1892" y="73"/>
                  </a:lnTo>
                  <a:lnTo>
                    <a:pt x="1807" y="129"/>
                  </a:lnTo>
                  <a:lnTo>
                    <a:pt x="1723" y="183"/>
                  </a:lnTo>
                  <a:lnTo>
                    <a:pt x="1637" y="255"/>
                  </a:lnTo>
                  <a:lnTo>
                    <a:pt x="1568" y="349"/>
                  </a:lnTo>
                  <a:lnTo>
                    <a:pt x="1517" y="440"/>
                  </a:lnTo>
                  <a:lnTo>
                    <a:pt x="1448" y="420"/>
                  </a:lnTo>
                  <a:lnTo>
                    <a:pt x="1398" y="383"/>
                  </a:lnTo>
                  <a:lnTo>
                    <a:pt x="1347" y="366"/>
                  </a:lnTo>
                  <a:lnTo>
                    <a:pt x="1296" y="366"/>
                  </a:lnTo>
                  <a:lnTo>
                    <a:pt x="1244" y="366"/>
                  </a:lnTo>
                  <a:lnTo>
                    <a:pt x="1193" y="366"/>
                  </a:lnTo>
                  <a:lnTo>
                    <a:pt x="1142" y="383"/>
                  </a:lnTo>
                  <a:lnTo>
                    <a:pt x="1092" y="403"/>
                  </a:lnTo>
                  <a:lnTo>
                    <a:pt x="1058" y="440"/>
                  </a:lnTo>
                  <a:lnTo>
                    <a:pt x="1023" y="475"/>
                  </a:lnTo>
                  <a:lnTo>
                    <a:pt x="972" y="532"/>
                  </a:lnTo>
                  <a:lnTo>
                    <a:pt x="938" y="585"/>
                  </a:lnTo>
                  <a:lnTo>
                    <a:pt x="903" y="640"/>
                  </a:lnTo>
                  <a:lnTo>
                    <a:pt x="869" y="694"/>
                  </a:lnTo>
                  <a:lnTo>
                    <a:pt x="834" y="768"/>
                  </a:lnTo>
                  <a:lnTo>
                    <a:pt x="802" y="860"/>
                  </a:lnTo>
                  <a:lnTo>
                    <a:pt x="716" y="842"/>
                  </a:lnTo>
                  <a:lnTo>
                    <a:pt x="614" y="860"/>
                  </a:lnTo>
                  <a:lnTo>
                    <a:pt x="510" y="879"/>
                  </a:lnTo>
                  <a:lnTo>
                    <a:pt x="409" y="914"/>
                  </a:lnTo>
                  <a:lnTo>
                    <a:pt x="324" y="970"/>
                  </a:lnTo>
                  <a:lnTo>
                    <a:pt x="255" y="1043"/>
                  </a:lnTo>
                  <a:lnTo>
                    <a:pt x="170" y="1117"/>
                  </a:lnTo>
                  <a:lnTo>
                    <a:pt x="120" y="1208"/>
                  </a:lnTo>
                  <a:lnTo>
                    <a:pt x="69" y="1300"/>
                  </a:lnTo>
                  <a:lnTo>
                    <a:pt x="34" y="1391"/>
                  </a:lnTo>
                  <a:lnTo>
                    <a:pt x="16" y="1502"/>
                  </a:lnTo>
                  <a:lnTo>
                    <a:pt x="16" y="1611"/>
                  </a:lnTo>
                  <a:lnTo>
                    <a:pt x="51" y="1722"/>
                  </a:lnTo>
                  <a:lnTo>
                    <a:pt x="85" y="1813"/>
                  </a:lnTo>
                  <a:lnTo>
                    <a:pt x="153" y="1922"/>
                  </a:lnTo>
                  <a:lnTo>
                    <a:pt x="255" y="20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4060800" y="2770200"/>
              <a:ext cx="190440" cy="250920"/>
            </a:xfrm>
            <a:custGeom>
              <a:avLst/>
              <a:gdLst/>
              <a:ahLst/>
              <a:rect l="l" t="t" r="r" b="b"/>
              <a:pathLst>
                <a:path w="717" h="953">
                  <a:moveTo>
                    <a:pt x="717" y="787"/>
                  </a:moveTo>
                  <a:lnTo>
                    <a:pt x="614" y="714"/>
                  </a:lnTo>
                  <a:lnTo>
                    <a:pt x="528" y="771"/>
                  </a:lnTo>
                  <a:lnTo>
                    <a:pt x="444" y="805"/>
                  </a:lnTo>
                  <a:lnTo>
                    <a:pt x="359" y="805"/>
                  </a:lnTo>
                  <a:lnTo>
                    <a:pt x="308" y="805"/>
                  </a:lnTo>
                  <a:lnTo>
                    <a:pt x="256" y="787"/>
                  </a:lnTo>
                  <a:lnTo>
                    <a:pt x="204" y="771"/>
                  </a:lnTo>
                  <a:lnTo>
                    <a:pt x="172" y="714"/>
                  </a:lnTo>
                  <a:lnTo>
                    <a:pt x="154" y="677"/>
                  </a:lnTo>
                  <a:lnTo>
                    <a:pt x="138" y="622"/>
                  </a:lnTo>
                  <a:lnTo>
                    <a:pt x="138" y="569"/>
                  </a:lnTo>
                  <a:lnTo>
                    <a:pt x="138" y="494"/>
                  </a:lnTo>
                  <a:lnTo>
                    <a:pt x="154" y="422"/>
                  </a:lnTo>
                  <a:lnTo>
                    <a:pt x="189" y="349"/>
                  </a:lnTo>
                  <a:lnTo>
                    <a:pt x="222" y="274"/>
                  </a:lnTo>
                  <a:lnTo>
                    <a:pt x="290" y="183"/>
                  </a:lnTo>
                  <a:lnTo>
                    <a:pt x="359" y="129"/>
                  </a:lnTo>
                  <a:lnTo>
                    <a:pt x="290" y="0"/>
                  </a:lnTo>
                  <a:lnTo>
                    <a:pt x="189" y="92"/>
                  </a:lnTo>
                  <a:lnTo>
                    <a:pt x="120" y="183"/>
                  </a:lnTo>
                  <a:lnTo>
                    <a:pt x="69" y="274"/>
                  </a:lnTo>
                  <a:lnTo>
                    <a:pt x="18" y="365"/>
                  </a:lnTo>
                  <a:lnTo>
                    <a:pt x="0" y="477"/>
                  </a:lnTo>
                  <a:lnTo>
                    <a:pt x="0" y="569"/>
                  </a:lnTo>
                  <a:lnTo>
                    <a:pt x="0" y="659"/>
                  </a:lnTo>
                  <a:lnTo>
                    <a:pt x="34" y="734"/>
                  </a:lnTo>
                  <a:lnTo>
                    <a:pt x="69" y="805"/>
                  </a:lnTo>
                  <a:lnTo>
                    <a:pt x="120" y="879"/>
                  </a:lnTo>
                  <a:lnTo>
                    <a:pt x="204" y="916"/>
                  </a:lnTo>
                  <a:lnTo>
                    <a:pt x="290" y="953"/>
                  </a:lnTo>
                  <a:lnTo>
                    <a:pt x="375" y="953"/>
                  </a:lnTo>
                  <a:lnTo>
                    <a:pt x="478" y="933"/>
                  </a:lnTo>
                  <a:lnTo>
                    <a:pt x="579" y="897"/>
                  </a:lnTo>
                  <a:lnTo>
                    <a:pt x="699" y="842"/>
                  </a:lnTo>
                  <a:lnTo>
                    <a:pt x="597" y="771"/>
                  </a:lnTo>
                  <a:lnTo>
                    <a:pt x="717" y="78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4219560" y="2973240"/>
              <a:ext cx="238320" cy="165240"/>
            </a:xfrm>
            <a:custGeom>
              <a:avLst/>
              <a:gdLst/>
              <a:ahLst/>
              <a:rect l="l" t="t" r="r" b="b"/>
              <a:pathLst>
                <a:path w="905" h="621">
                  <a:moveTo>
                    <a:pt x="905" y="382"/>
                  </a:moveTo>
                  <a:lnTo>
                    <a:pt x="785" y="328"/>
                  </a:lnTo>
                  <a:lnTo>
                    <a:pt x="734" y="365"/>
                  </a:lnTo>
                  <a:lnTo>
                    <a:pt x="682" y="419"/>
                  </a:lnTo>
                  <a:lnTo>
                    <a:pt x="631" y="437"/>
                  </a:lnTo>
                  <a:lnTo>
                    <a:pt x="580" y="456"/>
                  </a:lnTo>
                  <a:lnTo>
                    <a:pt x="530" y="474"/>
                  </a:lnTo>
                  <a:lnTo>
                    <a:pt x="479" y="474"/>
                  </a:lnTo>
                  <a:lnTo>
                    <a:pt x="410" y="456"/>
                  </a:lnTo>
                  <a:lnTo>
                    <a:pt x="359" y="437"/>
                  </a:lnTo>
                  <a:lnTo>
                    <a:pt x="306" y="419"/>
                  </a:lnTo>
                  <a:lnTo>
                    <a:pt x="274" y="382"/>
                  </a:lnTo>
                  <a:lnTo>
                    <a:pt x="221" y="346"/>
                  </a:lnTo>
                  <a:lnTo>
                    <a:pt x="188" y="291"/>
                  </a:lnTo>
                  <a:lnTo>
                    <a:pt x="155" y="236"/>
                  </a:lnTo>
                  <a:lnTo>
                    <a:pt x="137" y="162"/>
                  </a:lnTo>
                  <a:lnTo>
                    <a:pt x="137" y="91"/>
                  </a:lnTo>
                  <a:lnTo>
                    <a:pt x="120" y="16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17" y="199"/>
                  </a:lnTo>
                  <a:lnTo>
                    <a:pt x="35" y="291"/>
                  </a:lnTo>
                  <a:lnTo>
                    <a:pt x="86" y="365"/>
                  </a:lnTo>
                  <a:lnTo>
                    <a:pt x="120" y="437"/>
                  </a:lnTo>
                  <a:lnTo>
                    <a:pt x="188" y="493"/>
                  </a:lnTo>
                  <a:lnTo>
                    <a:pt x="240" y="548"/>
                  </a:lnTo>
                  <a:lnTo>
                    <a:pt x="306" y="584"/>
                  </a:lnTo>
                  <a:lnTo>
                    <a:pt x="392" y="602"/>
                  </a:lnTo>
                  <a:lnTo>
                    <a:pt x="461" y="621"/>
                  </a:lnTo>
                  <a:lnTo>
                    <a:pt x="530" y="621"/>
                  </a:lnTo>
                  <a:lnTo>
                    <a:pt x="614" y="602"/>
                  </a:lnTo>
                  <a:lnTo>
                    <a:pt x="682" y="584"/>
                  </a:lnTo>
                  <a:lnTo>
                    <a:pt x="768" y="530"/>
                  </a:lnTo>
                  <a:lnTo>
                    <a:pt x="819" y="474"/>
                  </a:lnTo>
                  <a:lnTo>
                    <a:pt x="886" y="419"/>
                  </a:lnTo>
                  <a:lnTo>
                    <a:pt x="768" y="346"/>
                  </a:lnTo>
                  <a:lnTo>
                    <a:pt x="905" y="38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4422600" y="3065400"/>
              <a:ext cx="179640" cy="130320"/>
            </a:xfrm>
            <a:custGeom>
              <a:avLst/>
              <a:gdLst/>
              <a:ahLst/>
              <a:rect l="l" t="t" r="r" b="b"/>
              <a:pathLst>
                <a:path w="682" h="495">
                  <a:moveTo>
                    <a:pt x="682" y="348"/>
                  </a:moveTo>
                  <a:lnTo>
                    <a:pt x="580" y="275"/>
                  </a:lnTo>
                  <a:lnTo>
                    <a:pt x="545" y="293"/>
                  </a:lnTo>
                  <a:lnTo>
                    <a:pt x="495" y="311"/>
                  </a:lnTo>
                  <a:lnTo>
                    <a:pt x="442" y="330"/>
                  </a:lnTo>
                  <a:lnTo>
                    <a:pt x="410" y="348"/>
                  </a:lnTo>
                  <a:lnTo>
                    <a:pt x="358" y="348"/>
                  </a:lnTo>
                  <a:lnTo>
                    <a:pt x="307" y="348"/>
                  </a:lnTo>
                  <a:lnTo>
                    <a:pt x="272" y="348"/>
                  </a:lnTo>
                  <a:lnTo>
                    <a:pt x="238" y="348"/>
                  </a:lnTo>
                  <a:lnTo>
                    <a:pt x="221" y="330"/>
                  </a:lnTo>
                  <a:lnTo>
                    <a:pt x="187" y="311"/>
                  </a:lnTo>
                  <a:lnTo>
                    <a:pt x="170" y="293"/>
                  </a:lnTo>
                  <a:lnTo>
                    <a:pt x="152" y="256"/>
                  </a:lnTo>
                  <a:lnTo>
                    <a:pt x="137" y="219"/>
                  </a:lnTo>
                  <a:lnTo>
                    <a:pt x="137" y="165"/>
                  </a:lnTo>
                  <a:lnTo>
                    <a:pt x="118" y="110"/>
                  </a:lnTo>
                  <a:lnTo>
                    <a:pt x="137" y="36"/>
                  </a:lnTo>
                  <a:lnTo>
                    <a:pt x="0" y="0"/>
                  </a:lnTo>
                  <a:lnTo>
                    <a:pt x="0" y="91"/>
                  </a:lnTo>
                  <a:lnTo>
                    <a:pt x="0" y="184"/>
                  </a:lnTo>
                  <a:lnTo>
                    <a:pt x="0" y="256"/>
                  </a:lnTo>
                  <a:lnTo>
                    <a:pt x="34" y="311"/>
                  </a:lnTo>
                  <a:lnTo>
                    <a:pt x="51" y="367"/>
                  </a:lnTo>
                  <a:lnTo>
                    <a:pt x="102" y="422"/>
                  </a:lnTo>
                  <a:lnTo>
                    <a:pt x="137" y="458"/>
                  </a:lnTo>
                  <a:lnTo>
                    <a:pt x="204" y="476"/>
                  </a:lnTo>
                  <a:lnTo>
                    <a:pt x="256" y="495"/>
                  </a:lnTo>
                  <a:lnTo>
                    <a:pt x="307" y="495"/>
                  </a:lnTo>
                  <a:lnTo>
                    <a:pt x="358" y="495"/>
                  </a:lnTo>
                  <a:lnTo>
                    <a:pt x="427" y="495"/>
                  </a:lnTo>
                  <a:lnTo>
                    <a:pt x="495" y="476"/>
                  </a:lnTo>
                  <a:lnTo>
                    <a:pt x="545" y="458"/>
                  </a:lnTo>
                  <a:lnTo>
                    <a:pt x="596" y="422"/>
                  </a:lnTo>
                  <a:lnTo>
                    <a:pt x="647" y="385"/>
                  </a:lnTo>
                  <a:lnTo>
                    <a:pt x="562" y="311"/>
                  </a:lnTo>
                  <a:lnTo>
                    <a:pt x="682" y="34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4562640" y="3147840"/>
              <a:ext cx="156960" cy="179640"/>
            </a:xfrm>
            <a:custGeom>
              <a:avLst/>
              <a:gdLst/>
              <a:ahLst/>
              <a:rect l="l" t="t" r="r" b="b"/>
              <a:pathLst>
                <a:path w="598" h="679">
                  <a:moveTo>
                    <a:pt x="598" y="642"/>
                  </a:moveTo>
                  <a:lnTo>
                    <a:pt x="530" y="514"/>
                  </a:lnTo>
                  <a:lnTo>
                    <a:pt x="462" y="533"/>
                  </a:lnTo>
                  <a:lnTo>
                    <a:pt x="410" y="533"/>
                  </a:lnTo>
                  <a:lnTo>
                    <a:pt x="359" y="533"/>
                  </a:lnTo>
                  <a:lnTo>
                    <a:pt x="325" y="514"/>
                  </a:lnTo>
                  <a:lnTo>
                    <a:pt x="273" y="496"/>
                  </a:lnTo>
                  <a:lnTo>
                    <a:pt x="239" y="477"/>
                  </a:lnTo>
                  <a:lnTo>
                    <a:pt x="224" y="440"/>
                  </a:lnTo>
                  <a:lnTo>
                    <a:pt x="189" y="422"/>
                  </a:lnTo>
                  <a:lnTo>
                    <a:pt x="173" y="385"/>
                  </a:lnTo>
                  <a:lnTo>
                    <a:pt x="155" y="348"/>
                  </a:lnTo>
                  <a:lnTo>
                    <a:pt x="138" y="294"/>
                  </a:lnTo>
                  <a:lnTo>
                    <a:pt x="138" y="257"/>
                  </a:lnTo>
                  <a:lnTo>
                    <a:pt x="138" y="202"/>
                  </a:lnTo>
                  <a:lnTo>
                    <a:pt x="138" y="147"/>
                  </a:lnTo>
                  <a:lnTo>
                    <a:pt x="138" y="93"/>
                  </a:lnTo>
                  <a:lnTo>
                    <a:pt x="155" y="37"/>
                  </a:lnTo>
                  <a:lnTo>
                    <a:pt x="35" y="0"/>
                  </a:lnTo>
                  <a:lnTo>
                    <a:pt x="18" y="74"/>
                  </a:lnTo>
                  <a:lnTo>
                    <a:pt x="0" y="128"/>
                  </a:lnTo>
                  <a:lnTo>
                    <a:pt x="0" y="202"/>
                  </a:lnTo>
                  <a:lnTo>
                    <a:pt x="0" y="276"/>
                  </a:lnTo>
                  <a:lnTo>
                    <a:pt x="18" y="330"/>
                  </a:lnTo>
                  <a:lnTo>
                    <a:pt x="35" y="385"/>
                  </a:lnTo>
                  <a:lnTo>
                    <a:pt x="53" y="459"/>
                  </a:lnTo>
                  <a:lnTo>
                    <a:pt x="87" y="496"/>
                  </a:lnTo>
                  <a:lnTo>
                    <a:pt x="120" y="550"/>
                  </a:lnTo>
                  <a:lnTo>
                    <a:pt x="173" y="587"/>
                  </a:lnTo>
                  <a:lnTo>
                    <a:pt x="224" y="624"/>
                  </a:lnTo>
                  <a:lnTo>
                    <a:pt x="273" y="642"/>
                  </a:lnTo>
                  <a:lnTo>
                    <a:pt x="325" y="660"/>
                  </a:lnTo>
                  <a:lnTo>
                    <a:pt x="393" y="679"/>
                  </a:lnTo>
                  <a:lnTo>
                    <a:pt x="479" y="679"/>
                  </a:lnTo>
                  <a:lnTo>
                    <a:pt x="548" y="660"/>
                  </a:lnTo>
                  <a:lnTo>
                    <a:pt x="479" y="550"/>
                  </a:lnTo>
                  <a:lnTo>
                    <a:pt x="598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4656240" y="3292560"/>
              <a:ext cx="141120" cy="228600"/>
            </a:xfrm>
            <a:custGeom>
              <a:avLst/>
              <a:gdLst/>
              <a:ahLst/>
              <a:rect l="l" t="t" r="r" b="b"/>
              <a:pathLst>
                <a:path w="529" h="860">
                  <a:moveTo>
                    <a:pt x="529" y="825"/>
                  </a:moveTo>
                  <a:lnTo>
                    <a:pt x="478" y="714"/>
                  </a:lnTo>
                  <a:lnTo>
                    <a:pt x="410" y="714"/>
                  </a:lnTo>
                  <a:lnTo>
                    <a:pt x="358" y="714"/>
                  </a:lnTo>
                  <a:lnTo>
                    <a:pt x="324" y="697"/>
                  </a:lnTo>
                  <a:lnTo>
                    <a:pt x="273" y="677"/>
                  </a:lnTo>
                  <a:lnTo>
                    <a:pt x="239" y="660"/>
                  </a:lnTo>
                  <a:lnTo>
                    <a:pt x="223" y="623"/>
                  </a:lnTo>
                  <a:lnTo>
                    <a:pt x="189" y="585"/>
                  </a:lnTo>
                  <a:lnTo>
                    <a:pt x="171" y="548"/>
                  </a:lnTo>
                  <a:lnTo>
                    <a:pt x="154" y="495"/>
                  </a:lnTo>
                  <a:lnTo>
                    <a:pt x="154" y="440"/>
                  </a:lnTo>
                  <a:lnTo>
                    <a:pt x="136" y="386"/>
                  </a:lnTo>
                  <a:lnTo>
                    <a:pt x="154" y="328"/>
                  </a:lnTo>
                  <a:lnTo>
                    <a:pt x="154" y="275"/>
                  </a:lnTo>
                  <a:lnTo>
                    <a:pt x="171" y="200"/>
                  </a:lnTo>
                  <a:lnTo>
                    <a:pt x="204" y="147"/>
                  </a:lnTo>
                  <a:lnTo>
                    <a:pt x="239" y="92"/>
                  </a:lnTo>
                  <a:lnTo>
                    <a:pt x="120" y="0"/>
                  </a:lnTo>
                  <a:lnTo>
                    <a:pt x="85" y="74"/>
                  </a:lnTo>
                  <a:lnTo>
                    <a:pt x="51" y="147"/>
                  </a:lnTo>
                  <a:lnTo>
                    <a:pt x="18" y="238"/>
                  </a:lnTo>
                  <a:lnTo>
                    <a:pt x="18" y="312"/>
                  </a:lnTo>
                  <a:lnTo>
                    <a:pt x="0" y="386"/>
                  </a:lnTo>
                  <a:lnTo>
                    <a:pt x="18" y="457"/>
                  </a:lnTo>
                  <a:lnTo>
                    <a:pt x="18" y="532"/>
                  </a:lnTo>
                  <a:lnTo>
                    <a:pt x="51" y="605"/>
                  </a:lnTo>
                  <a:lnTo>
                    <a:pt x="69" y="660"/>
                  </a:lnTo>
                  <a:lnTo>
                    <a:pt x="120" y="714"/>
                  </a:lnTo>
                  <a:lnTo>
                    <a:pt x="154" y="768"/>
                  </a:lnTo>
                  <a:lnTo>
                    <a:pt x="223" y="805"/>
                  </a:lnTo>
                  <a:lnTo>
                    <a:pt x="273" y="842"/>
                  </a:lnTo>
                  <a:lnTo>
                    <a:pt x="341" y="860"/>
                  </a:lnTo>
                  <a:lnTo>
                    <a:pt x="427" y="860"/>
                  </a:lnTo>
                  <a:lnTo>
                    <a:pt x="495" y="860"/>
                  </a:lnTo>
                  <a:lnTo>
                    <a:pt x="444" y="734"/>
                  </a:lnTo>
                  <a:lnTo>
                    <a:pt x="529" y="8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4724280" y="3487680"/>
              <a:ext cx="100080" cy="222480"/>
            </a:xfrm>
            <a:custGeom>
              <a:avLst/>
              <a:gdLst/>
              <a:ahLst/>
              <a:rect l="l" t="t" r="r" b="b"/>
              <a:pathLst>
                <a:path w="377" h="841">
                  <a:moveTo>
                    <a:pt x="377" y="822"/>
                  </a:moveTo>
                  <a:lnTo>
                    <a:pt x="324" y="694"/>
                  </a:lnTo>
                  <a:lnTo>
                    <a:pt x="274" y="676"/>
                  </a:lnTo>
                  <a:lnTo>
                    <a:pt x="240" y="657"/>
                  </a:lnTo>
                  <a:lnTo>
                    <a:pt x="206" y="639"/>
                  </a:lnTo>
                  <a:lnTo>
                    <a:pt x="189" y="622"/>
                  </a:lnTo>
                  <a:lnTo>
                    <a:pt x="172" y="585"/>
                  </a:lnTo>
                  <a:lnTo>
                    <a:pt x="155" y="548"/>
                  </a:lnTo>
                  <a:lnTo>
                    <a:pt x="138" y="511"/>
                  </a:lnTo>
                  <a:lnTo>
                    <a:pt x="138" y="474"/>
                  </a:lnTo>
                  <a:lnTo>
                    <a:pt x="138" y="419"/>
                  </a:lnTo>
                  <a:lnTo>
                    <a:pt x="138" y="383"/>
                  </a:lnTo>
                  <a:lnTo>
                    <a:pt x="155" y="328"/>
                  </a:lnTo>
                  <a:lnTo>
                    <a:pt x="172" y="273"/>
                  </a:lnTo>
                  <a:lnTo>
                    <a:pt x="189" y="236"/>
                  </a:lnTo>
                  <a:lnTo>
                    <a:pt x="206" y="183"/>
                  </a:lnTo>
                  <a:lnTo>
                    <a:pt x="240" y="145"/>
                  </a:lnTo>
                  <a:lnTo>
                    <a:pt x="274" y="91"/>
                  </a:lnTo>
                  <a:lnTo>
                    <a:pt x="189" y="0"/>
                  </a:lnTo>
                  <a:lnTo>
                    <a:pt x="138" y="55"/>
                  </a:lnTo>
                  <a:lnTo>
                    <a:pt x="103" y="108"/>
                  </a:lnTo>
                  <a:lnTo>
                    <a:pt x="69" y="163"/>
                  </a:lnTo>
                  <a:lnTo>
                    <a:pt x="35" y="236"/>
                  </a:lnTo>
                  <a:lnTo>
                    <a:pt x="18" y="291"/>
                  </a:lnTo>
                  <a:lnTo>
                    <a:pt x="0" y="365"/>
                  </a:lnTo>
                  <a:lnTo>
                    <a:pt x="0" y="419"/>
                  </a:lnTo>
                  <a:lnTo>
                    <a:pt x="0" y="474"/>
                  </a:lnTo>
                  <a:lnTo>
                    <a:pt x="0" y="548"/>
                  </a:lnTo>
                  <a:lnTo>
                    <a:pt x="18" y="603"/>
                  </a:lnTo>
                  <a:lnTo>
                    <a:pt x="52" y="657"/>
                  </a:lnTo>
                  <a:lnTo>
                    <a:pt x="86" y="713"/>
                  </a:lnTo>
                  <a:lnTo>
                    <a:pt x="120" y="750"/>
                  </a:lnTo>
                  <a:lnTo>
                    <a:pt x="172" y="805"/>
                  </a:lnTo>
                  <a:lnTo>
                    <a:pt x="240" y="822"/>
                  </a:lnTo>
                  <a:lnTo>
                    <a:pt x="309" y="841"/>
                  </a:lnTo>
                  <a:lnTo>
                    <a:pt x="274" y="713"/>
                  </a:lnTo>
                  <a:lnTo>
                    <a:pt x="377" y="8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4734000" y="3676680"/>
              <a:ext cx="189000" cy="255600"/>
            </a:xfrm>
            <a:custGeom>
              <a:avLst/>
              <a:gdLst/>
              <a:ahLst/>
              <a:rect l="l" t="t" r="r" b="b"/>
              <a:pathLst>
                <a:path w="717" h="971">
                  <a:moveTo>
                    <a:pt x="717" y="586"/>
                  </a:moveTo>
                  <a:lnTo>
                    <a:pt x="613" y="568"/>
                  </a:lnTo>
                  <a:lnTo>
                    <a:pt x="564" y="641"/>
                  </a:lnTo>
                  <a:lnTo>
                    <a:pt x="512" y="696"/>
                  </a:lnTo>
                  <a:lnTo>
                    <a:pt x="460" y="732"/>
                  </a:lnTo>
                  <a:lnTo>
                    <a:pt x="409" y="769"/>
                  </a:lnTo>
                  <a:lnTo>
                    <a:pt x="375" y="788"/>
                  </a:lnTo>
                  <a:lnTo>
                    <a:pt x="342" y="824"/>
                  </a:lnTo>
                  <a:lnTo>
                    <a:pt x="307" y="824"/>
                  </a:lnTo>
                  <a:lnTo>
                    <a:pt x="274" y="824"/>
                  </a:lnTo>
                  <a:lnTo>
                    <a:pt x="255" y="843"/>
                  </a:lnTo>
                  <a:lnTo>
                    <a:pt x="239" y="824"/>
                  </a:lnTo>
                  <a:lnTo>
                    <a:pt x="223" y="824"/>
                  </a:lnTo>
                  <a:lnTo>
                    <a:pt x="205" y="824"/>
                  </a:lnTo>
                  <a:lnTo>
                    <a:pt x="205" y="806"/>
                  </a:lnTo>
                  <a:lnTo>
                    <a:pt x="188" y="788"/>
                  </a:lnTo>
                  <a:lnTo>
                    <a:pt x="171" y="769"/>
                  </a:lnTo>
                  <a:lnTo>
                    <a:pt x="171" y="751"/>
                  </a:lnTo>
                  <a:lnTo>
                    <a:pt x="154" y="715"/>
                  </a:lnTo>
                  <a:lnTo>
                    <a:pt x="154" y="678"/>
                  </a:lnTo>
                  <a:lnTo>
                    <a:pt x="137" y="641"/>
                  </a:lnTo>
                  <a:lnTo>
                    <a:pt x="137" y="604"/>
                  </a:lnTo>
                  <a:lnTo>
                    <a:pt x="137" y="568"/>
                  </a:lnTo>
                  <a:lnTo>
                    <a:pt x="154" y="531"/>
                  </a:lnTo>
                  <a:lnTo>
                    <a:pt x="154" y="477"/>
                  </a:lnTo>
                  <a:lnTo>
                    <a:pt x="171" y="440"/>
                  </a:lnTo>
                  <a:lnTo>
                    <a:pt x="171" y="384"/>
                  </a:lnTo>
                  <a:lnTo>
                    <a:pt x="188" y="348"/>
                  </a:lnTo>
                  <a:lnTo>
                    <a:pt x="205" y="293"/>
                  </a:lnTo>
                  <a:lnTo>
                    <a:pt x="223" y="257"/>
                  </a:lnTo>
                  <a:lnTo>
                    <a:pt x="255" y="220"/>
                  </a:lnTo>
                  <a:lnTo>
                    <a:pt x="274" y="183"/>
                  </a:lnTo>
                  <a:lnTo>
                    <a:pt x="307" y="146"/>
                  </a:lnTo>
                  <a:lnTo>
                    <a:pt x="342" y="109"/>
                  </a:lnTo>
                  <a:lnTo>
                    <a:pt x="239" y="0"/>
                  </a:lnTo>
                  <a:lnTo>
                    <a:pt x="205" y="37"/>
                  </a:lnTo>
                  <a:lnTo>
                    <a:pt x="171" y="92"/>
                  </a:lnTo>
                  <a:lnTo>
                    <a:pt x="137" y="146"/>
                  </a:lnTo>
                  <a:lnTo>
                    <a:pt x="103" y="183"/>
                  </a:lnTo>
                  <a:lnTo>
                    <a:pt x="85" y="238"/>
                  </a:lnTo>
                  <a:lnTo>
                    <a:pt x="68" y="293"/>
                  </a:lnTo>
                  <a:lnTo>
                    <a:pt x="51" y="348"/>
                  </a:lnTo>
                  <a:lnTo>
                    <a:pt x="34" y="403"/>
                  </a:lnTo>
                  <a:lnTo>
                    <a:pt x="17" y="458"/>
                  </a:lnTo>
                  <a:lnTo>
                    <a:pt x="17" y="512"/>
                  </a:lnTo>
                  <a:lnTo>
                    <a:pt x="0" y="549"/>
                  </a:lnTo>
                  <a:lnTo>
                    <a:pt x="0" y="604"/>
                  </a:lnTo>
                  <a:lnTo>
                    <a:pt x="17" y="660"/>
                  </a:lnTo>
                  <a:lnTo>
                    <a:pt x="17" y="696"/>
                  </a:lnTo>
                  <a:lnTo>
                    <a:pt x="17" y="751"/>
                  </a:lnTo>
                  <a:lnTo>
                    <a:pt x="34" y="788"/>
                  </a:lnTo>
                  <a:lnTo>
                    <a:pt x="51" y="843"/>
                  </a:lnTo>
                  <a:lnTo>
                    <a:pt x="68" y="880"/>
                  </a:lnTo>
                  <a:lnTo>
                    <a:pt x="103" y="914"/>
                  </a:lnTo>
                  <a:lnTo>
                    <a:pt x="137" y="934"/>
                  </a:lnTo>
                  <a:lnTo>
                    <a:pt x="171" y="952"/>
                  </a:lnTo>
                  <a:lnTo>
                    <a:pt x="205" y="971"/>
                  </a:lnTo>
                  <a:lnTo>
                    <a:pt x="255" y="971"/>
                  </a:lnTo>
                  <a:lnTo>
                    <a:pt x="289" y="971"/>
                  </a:lnTo>
                  <a:lnTo>
                    <a:pt x="342" y="971"/>
                  </a:lnTo>
                  <a:lnTo>
                    <a:pt x="393" y="952"/>
                  </a:lnTo>
                  <a:lnTo>
                    <a:pt x="444" y="914"/>
                  </a:lnTo>
                  <a:lnTo>
                    <a:pt x="495" y="898"/>
                  </a:lnTo>
                  <a:lnTo>
                    <a:pt x="545" y="843"/>
                  </a:lnTo>
                  <a:lnTo>
                    <a:pt x="598" y="806"/>
                  </a:lnTo>
                  <a:lnTo>
                    <a:pt x="648" y="732"/>
                  </a:lnTo>
                  <a:lnTo>
                    <a:pt x="717" y="678"/>
                  </a:lnTo>
                  <a:lnTo>
                    <a:pt x="598" y="660"/>
                  </a:lnTo>
                  <a:lnTo>
                    <a:pt x="717" y="5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4890960" y="3830760"/>
              <a:ext cx="239760" cy="112680"/>
            </a:xfrm>
            <a:custGeom>
              <a:avLst/>
              <a:gdLst/>
              <a:ahLst/>
              <a:rect l="l" t="t" r="r" b="b"/>
              <a:pathLst>
                <a:path w="903" h="422">
                  <a:moveTo>
                    <a:pt x="869" y="0"/>
                  </a:moveTo>
                  <a:lnTo>
                    <a:pt x="784" y="18"/>
                  </a:lnTo>
                  <a:lnTo>
                    <a:pt x="749" y="92"/>
                  </a:lnTo>
                  <a:lnTo>
                    <a:pt x="698" y="146"/>
                  </a:lnTo>
                  <a:lnTo>
                    <a:pt x="664" y="183"/>
                  </a:lnTo>
                  <a:lnTo>
                    <a:pt x="614" y="220"/>
                  </a:lnTo>
                  <a:lnTo>
                    <a:pt x="579" y="257"/>
                  </a:lnTo>
                  <a:lnTo>
                    <a:pt x="528" y="257"/>
                  </a:lnTo>
                  <a:lnTo>
                    <a:pt x="494" y="275"/>
                  </a:lnTo>
                  <a:lnTo>
                    <a:pt x="443" y="275"/>
                  </a:lnTo>
                  <a:lnTo>
                    <a:pt x="408" y="275"/>
                  </a:lnTo>
                  <a:lnTo>
                    <a:pt x="356" y="257"/>
                  </a:lnTo>
                  <a:lnTo>
                    <a:pt x="324" y="238"/>
                  </a:lnTo>
                  <a:lnTo>
                    <a:pt x="271" y="202"/>
                  </a:lnTo>
                  <a:lnTo>
                    <a:pt x="239" y="165"/>
                  </a:lnTo>
                  <a:lnTo>
                    <a:pt x="204" y="110"/>
                  </a:lnTo>
                  <a:lnTo>
                    <a:pt x="152" y="74"/>
                  </a:lnTo>
                  <a:lnTo>
                    <a:pt x="119" y="0"/>
                  </a:lnTo>
                  <a:lnTo>
                    <a:pt x="0" y="74"/>
                  </a:lnTo>
                  <a:lnTo>
                    <a:pt x="50" y="146"/>
                  </a:lnTo>
                  <a:lnTo>
                    <a:pt x="84" y="220"/>
                  </a:lnTo>
                  <a:lnTo>
                    <a:pt x="135" y="275"/>
                  </a:lnTo>
                  <a:lnTo>
                    <a:pt x="204" y="312"/>
                  </a:lnTo>
                  <a:lnTo>
                    <a:pt x="255" y="366"/>
                  </a:lnTo>
                  <a:lnTo>
                    <a:pt x="305" y="385"/>
                  </a:lnTo>
                  <a:lnTo>
                    <a:pt x="374" y="403"/>
                  </a:lnTo>
                  <a:lnTo>
                    <a:pt x="443" y="422"/>
                  </a:lnTo>
                  <a:lnTo>
                    <a:pt x="510" y="422"/>
                  </a:lnTo>
                  <a:lnTo>
                    <a:pt x="562" y="403"/>
                  </a:lnTo>
                  <a:lnTo>
                    <a:pt x="629" y="385"/>
                  </a:lnTo>
                  <a:lnTo>
                    <a:pt x="680" y="348"/>
                  </a:lnTo>
                  <a:lnTo>
                    <a:pt x="749" y="294"/>
                  </a:lnTo>
                  <a:lnTo>
                    <a:pt x="800" y="238"/>
                  </a:lnTo>
                  <a:lnTo>
                    <a:pt x="851" y="183"/>
                  </a:lnTo>
                  <a:lnTo>
                    <a:pt x="903" y="110"/>
                  </a:lnTo>
                  <a:lnTo>
                    <a:pt x="818" y="129"/>
                  </a:lnTo>
                  <a:lnTo>
                    <a:pt x="86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5108400" y="3641760"/>
              <a:ext cx="167040" cy="233280"/>
            </a:xfrm>
            <a:custGeom>
              <a:avLst/>
              <a:gdLst/>
              <a:ahLst/>
              <a:rect l="l" t="t" r="r" b="b"/>
              <a:pathLst>
                <a:path w="630" h="879">
                  <a:moveTo>
                    <a:pt x="375" y="0"/>
                  </a:moveTo>
                  <a:lnTo>
                    <a:pt x="357" y="128"/>
                  </a:lnTo>
                  <a:lnTo>
                    <a:pt x="410" y="165"/>
                  </a:lnTo>
                  <a:lnTo>
                    <a:pt x="461" y="220"/>
                  </a:lnTo>
                  <a:lnTo>
                    <a:pt x="476" y="256"/>
                  </a:lnTo>
                  <a:lnTo>
                    <a:pt x="495" y="311"/>
                  </a:lnTo>
                  <a:lnTo>
                    <a:pt x="495" y="366"/>
                  </a:lnTo>
                  <a:lnTo>
                    <a:pt x="495" y="440"/>
                  </a:lnTo>
                  <a:lnTo>
                    <a:pt x="476" y="494"/>
                  </a:lnTo>
                  <a:lnTo>
                    <a:pt x="461" y="549"/>
                  </a:lnTo>
                  <a:lnTo>
                    <a:pt x="426" y="605"/>
                  </a:lnTo>
                  <a:lnTo>
                    <a:pt x="392" y="640"/>
                  </a:lnTo>
                  <a:lnTo>
                    <a:pt x="341" y="677"/>
                  </a:lnTo>
                  <a:lnTo>
                    <a:pt x="290" y="714"/>
                  </a:lnTo>
                  <a:lnTo>
                    <a:pt x="237" y="732"/>
                  </a:lnTo>
                  <a:lnTo>
                    <a:pt x="186" y="732"/>
                  </a:lnTo>
                  <a:lnTo>
                    <a:pt x="120" y="732"/>
                  </a:lnTo>
                  <a:lnTo>
                    <a:pt x="51" y="714"/>
                  </a:lnTo>
                  <a:lnTo>
                    <a:pt x="0" y="843"/>
                  </a:lnTo>
                  <a:lnTo>
                    <a:pt x="85" y="879"/>
                  </a:lnTo>
                  <a:lnTo>
                    <a:pt x="186" y="879"/>
                  </a:lnTo>
                  <a:lnTo>
                    <a:pt x="272" y="879"/>
                  </a:lnTo>
                  <a:lnTo>
                    <a:pt x="341" y="843"/>
                  </a:lnTo>
                  <a:lnTo>
                    <a:pt x="426" y="806"/>
                  </a:lnTo>
                  <a:lnTo>
                    <a:pt x="476" y="751"/>
                  </a:lnTo>
                  <a:lnTo>
                    <a:pt x="528" y="696"/>
                  </a:lnTo>
                  <a:lnTo>
                    <a:pt x="579" y="623"/>
                  </a:lnTo>
                  <a:lnTo>
                    <a:pt x="614" y="531"/>
                  </a:lnTo>
                  <a:lnTo>
                    <a:pt x="630" y="457"/>
                  </a:lnTo>
                  <a:lnTo>
                    <a:pt x="630" y="366"/>
                  </a:lnTo>
                  <a:lnTo>
                    <a:pt x="630" y="292"/>
                  </a:lnTo>
                  <a:lnTo>
                    <a:pt x="596" y="201"/>
                  </a:lnTo>
                  <a:lnTo>
                    <a:pt x="562" y="128"/>
                  </a:lnTo>
                  <a:lnTo>
                    <a:pt x="510" y="54"/>
                  </a:lnTo>
                  <a:lnTo>
                    <a:pt x="426" y="0"/>
                  </a:lnTo>
                  <a:lnTo>
                    <a:pt x="426" y="128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5207040" y="3438360"/>
              <a:ext cx="117360" cy="238320"/>
            </a:xfrm>
            <a:custGeom>
              <a:avLst/>
              <a:gdLst/>
              <a:ahLst/>
              <a:rect l="l" t="t" r="r" b="b"/>
              <a:pathLst>
                <a:path w="444" h="899">
                  <a:moveTo>
                    <a:pt x="324" y="0"/>
                  </a:moveTo>
                  <a:lnTo>
                    <a:pt x="290" y="92"/>
                  </a:lnTo>
                  <a:lnTo>
                    <a:pt x="306" y="149"/>
                  </a:lnTo>
                  <a:lnTo>
                    <a:pt x="306" y="203"/>
                  </a:lnTo>
                  <a:lnTo>
                    <a:pt x="306" y="257"/>
                  </a:lnTo>
                  <a:lnTo>
                    <a:pt x="306" y="312"/>
                  </a:lnTo>
                  <a:lnTo>
                    <a:pt x="306" y="349"/>
                  </a:lnTo>
                  <a:lnTo>
                    <a:pt x="290" y="406"/>
                  </a:lnTo>
                  <a:lnTo>
                    <a:pt x="290" y="440"/>
                  </a:lnTo>
                  <a:lnTo>
                    <a:pt x="272" y="497"/>
                  </a:lnTo>
                  <a:lnTo>
                    <a:pt x="255" y="532"/>
                  </a:lnTo>
                  <a:lnTo>
                    <a:pt x="221" y="569"/>
                  </a:lnTo>
                  <a:lnTo>
                    <a:pt x="204" y="605"/>
                  </a:lnTo>
                  <a:lnTo>
                    <a:pt x="170" y="642"/>
                  </a:lnTo>
                  <a:lnTo>
                    <a:pt x="135" y="679"/>
                  </a:lnTo>
                  <a:lnTo>
                    <a:pt x="86" y="716"/>
                  </a:lnTo>
                  <a:lnTo>
                    <a:pt x="51" y="734"/>
                  </a:lnTo>
                  <a:lnTo>
                    <a:pt x="0" y="771"/>
                  </a:lnTo>
                  <a:lnTo>
                    <a:pt x="51" y="899"/>
                  </a:lnTo>
                  <a:lnTo>
                    <a:pt x="120" y="862"/>
                  </a:lnTo>
                  <a:lnTo>
                    <a:pt x="170" y="825"/>
                  </a:lnTo>
                  <a:lnTo>
                    <a:pt x="221" y="789"/>
                  </a:lnTo>
                  <a:lnTo>
                    <a:pt x="255" y="752"/>
                  </a:lnTo>
                  <a:lnTo>
                    <a:pt x="306" y="697"/>
                  </a:lnTo>
                  <a:lnTo>
                    <a:pt x="341" y="660"/>
                  </a:lnTo>
                  <a:lnTo>
                    <a:pt x="375" y="605"/>
                  </a:lnTo>
                  <a:lnTo>
                    <a:pt x="391" y="551"/>
                  </a:lnTo>
                  <a:lnTo>
                    <a:pt x="410" y="497"/>
                  </a:lnTo>
                  <a:lnTo>
                    <a:pt x="425" y="440"/>
                  </a:lnTo>
                  <a:lnTo>
                    <a:pt x="444" y="369"/>
                  </a:lnTo>
                  <a:lnTo>
                    <a:pt x="444" y="312"/>
                  </a:lnTo>
                  <a:lnTo>
                    <a:pt x="444" y="241"/>
                  </a:lnTo>
                  <a:lnTo>
                    <a:pt x="444" y="186"/>
                  </a:lnTo>
                  <a:lnTo>
                    <a:pt x="425" y="112"/>
                  </a:lnTo>
                  <a:lnTo>
                    <a:pt x="425" y="57"/>
                  </a:lnTo>
                  <a:lnTo>
                    <a:pt x="391" y="129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5292720" y="3200400"/>
              <a:ext cx="112680" cy="271440"/>
            </a:xfrm>
            <a:custGeom>
              <a:avLst/>
              <a:gdLst/>
              <a:ahLst/>
              <a:rect l="l" t="t" r="r" b="b"/>
              <a:pathLst>
                <a:path w="425" h="1025">
                  <a:moveTo>
                    <a:pt x="170" y="0"/>
                  </a:moveTo>
                  <a:lnTo>
                    <a:pt x="152" y="111"/>
                  </a:lnTo>
                  <a:lnTo>
                    <a:pt x="204" y="165"/>
                  </a:lnTo>
                  <a:lnTo>
                    <a:pt x="238" y="202"/>
                  </a:lnTo>
                  <a:lnTo>
                    <a:pt x="255" y="257"/>
                  </a:lnTo>
                  <a:lnTo>
                    <a:pt x="272" y="312"/>
                  </a:lnTo>
                  <a:lnTo>
                    <a:pt x="272" y="366"/>
                  </a:lnTo>
                  <a:lnTo>
                    <a:pt x="290" y="422"/>
                  </a:lnTo>
                  <a:lnTo>
                    <a:pt x="272" y="477"/>
                  </a:lnTo>
                  <a:lnTo>
                    <a:pt x="272" y="531"/>
                  </a:lnTo>
                  <a:lnTo>
                    <a:pt x="255" y="586"/>
                  </a:lnTo>
                  <a:lnTo>
                    <a:pt x="238" y="642"/>
                  </a:lnTo>
                  <a:lnTo>
                    <a:pt x="204" y="697"/>
                  </a:lnTo>
                  <a:lnTo>
                    <a:pt x="170" y="751"/>
                  </a:lnTo>
                  <a:lnTo>
                    <a:pt x="136" y="788"/>
                  </a:lnTo>
                  <a:lnTo>
                    <a:pt x="101" y="825"/>
                  </a:lnTo>
                  <a:lnTo>
                    <a:pt x="51" y="862"/>
                  </a:lnTo>
                  <a:lnTo>
                    <a:pt x="0" y="896"/>
                  </a:lnTo>
                  <a:lnTo>
                    <a:pt x="67" y="1025"/>
                  </a:lnTo>
                  <a:lnTo>
                    <a:pt x="120" y="988"/>
                  </a:lnTo>
                  <a:lnTo>
                    <a:pt x="187" y="953"/>
                  </a:lnTo>
                  <a:lnTo>
                    <a:pt x="238" y="896"/>
                  </a:lnTo>
                  <a:lnTo>
                    <a:pt x="272" y="843"/>
                  </a:lnTo>
                  <a:lnTo>
                    <a:pt x="324" y="768"/>
                  </a:lnTo>
                  <a:lnTo>
                    <a:pt x="358" y="715"/>
                  </a:lnTo>
                  <a:lnTo>
                    <a:pt x="375" y="642"/>
                  </a:lnTo>
                  <a:lnTo>
                    <a:pt x="410" y="568"/>
                  </a:lnTo>
                  <a:lnTo>
                    <a:pt x="410" y="495"/>
                  </a:lnTo>
                  <a:lnTo>
                    <a:pt x="425" y="422"/>
                  </a:lnTo>
                  <a:lnTo>
                    <a:pt x="410" y="348"/>
                  </a:lnTo>
                  <a:lnTo>
                    <a:pt x="410" y="275"/>
                  </a:lnTo>
                  <a:lnTo>
                    <a:pt x="375" y="202"/>
                  </a:lnTo>
                  <a:lnTo>
                    <a:pt x="358" y="128"/>
                  </a:lnTo>
                  <a:lnTo>
                    <a:pt x="307" y="74"/>
                  </a:lnTo>
                  <a:lnTo>
                    <a:pt x="255" y="0"/>
                  </a:lnTo>
                  <a:lnTo>
                    <a:pt x="255" y="111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5310360" y="3011400"/>
              <a:ext cx="95040" cy="219240"/>
            </a:xfrm>
            <a:custGeom>
              <a:avLst/>
              <a:gdLst/>
              <a:ahLst/>
              <a:rect l="l" t="t" r="r" b="b"/>
              <a:pathLst>
                <a:path w="358" h="825">
                  <a:moveTo>
                    <a:pt x="0" y="37"/>
                  </a:moveTo>
                  <a:lnTo>
                    <a:pt x="53" y="146"/>
                  </a:lnTo>
                  <a:lnTo>
                    <a:pt x="69" y="146"/>
                  </a:lnTo>
                  <a:lnTo>
                    <a:pt x="103" y="165"/>
                  </a:lnTo>
                  <a:lnTo>
                    <a:pt x="120" y="183"/>
                  </a:lnTo>
                  <a:lnTo>
                    <a:pt x="137" y="201"/>
                  </a:lnTo>
                  <a:lnTo>
                    <a:pt x="154" y="237"/>
                  </a:lnTo>
                  <a:lnTo>
                    <a:pt x="171" y="274"/>
                  </a:lnTo>
                  <a:lnTo>
                    <a:pt x="188" y="311"/>
                  </a:lnTo>
                  <a:lnTo>
                    <a:pt x="205" y="366"/>
                  </a:lnTo>
                  <a:lnTo>
                    <a:pt x="205" y="403"/>
                  </a:lnTo>
                  <a:lnTo>
                    <a:pt x="223" y="457"/>
                  </a:lnTo>
                  <a:lnTo>
                    <a:pt x="205" y="494"/>
                  </a:lnTo>
                  <a:lnTo>
                    <a:pt x="205" y="549"/>
                  </a:lnTo>
                  <a:lnTo>
                    <a:pt x="188" y="605"/>
                  </a:lnTo>
                  <a:lnTo>
                    <a:pt x="171" y="640"/>
                  </a:lnTo>
                  <a:lnTo>
                    <a:pt x="137" y="677"/>
                  </a:lnTo>
                  <a:lnTo>
                    <a:pt x="103" y="714"/>
                  </a:lnTo>
                  <a:lnTo>
                    <a:pt x="188" y="825"/>
                  </a:lnTo>
                  <a:lnTo>
                    <a:pt x="240" y="769"/>
                  </a:lnTo>
                  <a:lnTo>
                    <a:pt x="274" y="714"/>
                  </a:lnTo>
                  <a:lnTo>
                    <a:pt x="308" y="659"/>
                  </a:lnTo>
                  <a:lnTo>
                    <a:pt x="324" y="586"/>
                  </a:lnTo>
                  <a:lnTo>
                    <a:pt x="343" y="531"/>
                  </a:lnTo>
                  <a:lnTo>
                    <a:pt x="358" y="457"/>
                  </a:lnTo>
                  <a:lnTo>
                    <a:pt x="343" y="385"/>
                  </a:lnTo>
                  <a:lnTo>
                    <a:pt x="343" y="329"/>
                  </a:lnTo>
                  <a:lnTo>
                    <a:pt x="324" y="256"/>
                  </a:lnTo>
                  <a:lnTo>
                    <a:pt x="308" y="201"/>
                  </a:lnTo>
                  <a:lnTo>
                    <a:pt x="274" y="165"/>
                  </a:lnTo>
                  <a:lnTo>
                    <a:pt x="240" y="109"/>
                  </a:lnTo>
                  <a:lnTo>
                    <a:pt x="205" y="72"/>
                  </a:lnTo>
                  <a:lnTo>
                    <a:pt x="154" y="37"/>
                  </a:lnTo>
                  <a:lnTo>
                    <a:pt x="103" y="17"/>
                  </a:lnTo>
                  <a:lnTo>
                    <a:pt x="53" y="0"/>
                  </a:lnTo>
                  <a:lnTo>
                    <a:pt x="103" y="10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5261040" y="2838600"/>
              <a:ext cx="100080" cy="203040"/>
            </a:xfrm>
            <a:custGeom>
              <a:avLst/>
              <a:gdLst/>
              <a:ahLst/>
              <a:rect l="l" t="t" r="r" b="b"/>
              <a:pathLst>
                <a:path w="375" h="768">
                  <a:moveTo>
                    <a:pt x="0" y="55"/>
                  </a:moveTo>
                  <a:lnTo>
                    <a:pt x="51" y="145"/>
                  </a:lnTo>
                  <a:lnTo>
                    <a:pt x="86" y="145"/>
                  </a:lnTo>
                  <a:lnTo>
                    <a:pt x="120" y="165"/>
                  </a:lnTo>
                  <a:lnTo>
                    <a:pt x="137" y="183"/>
                  </a:lnTo>
                  <a:lnTo>
                    <a:pt x="171" y="220"/>
                  </a:lnTo>
                  <a:lnTo>
                    <a:pt x="187" y="237"/>
                  </a:lnTo>
                  <a:lnTo>
                    <a:pt x="206" y="274"/>
                  </a:lnTo>
                  <a:lnTo>
                    <a:pt x="221" y="312"/>
                  </a:lnTo>
                  <a:lnTo>
                    <a:pt x="240" y="348"/>
                  </a:lnTo>
                  <a:lnTo>
                    <a:pt x="240" y="402"/>
                  </a:lnTo>
                  <a:lnTo>
                    <a:pt x="256" y="439"/>
                  </a:lnTo>
                  <a:lnTo>
                    <a:pt x="256" y="477"/>
                  </a:lnTo>
                  <a:lnTo>
                    <a:pt x="240" y="514"/>
                  </a:lnTo>
                  <a:lnTo>
                    <a:pt x="240" y="567"/>
                  </a:lnTo>
                  <a:lnTo>
                    <a:pt x="221" y="605"/>
                  </a:lnTo>
                  <a:lnTo>
                    <a:pt x="206" y="659"/>
                  </a:lnTo>
                  <a:lnTo>
                    <a:pt x="187" y="696"/>
                  </a:lnTo>
                  <a:lnTo>
                    <a:pt x="290" y="768"/>
                  </a:lnTo>
                  <a:lnTo>
                    <a:pt x="324" y="713"/>
                  </a:lnTo>
                  <a:lnTo>
                    <a:pt x="358" y="659"/>
                  </a:lnTo>
                  <a:lnTo>
                    <a:pt x="375" y="605"/>
                  </a:lnTo>
                  <a:lnTo>
                    <a:pt x="375" y="548"/>
                  </a:lnTo>
                  <a:lnTo>
                    <a:pt x="375" y="493"/>
                  </a:lnTo>
                  <a:lnTo>
                    <a:pt x="375" y="420"/>
                  </a:lnTo>
                  <a:lnTo>
                    <a:pt x="375" y="365"/>
                  </a:lnTo>
                  <a:lnTo>
                    <a:pt x="358" y="312"/>
                  </a:lnTo>
                  <a:lnTo>
                    <a:pt x="341" y="257"/>
                  </a:lnTo>
                  <a:lnTo>
                    <a:pt x="324" y="200"/>
                  </a:lnTo>
                  <a:lnTo>
                    <a:pt x="290" y="165"/>
                  </a:lnTo>
                  <a:lnTo>
                    <a:pt x="256" y="108"/>
                  </a:lnTo>
                  <a:lnTo>
                    <a:pt x="221" y="74"/>
                  </a:lnTo>
                  <a:lnTo>
                    <a:pt x="187" y="55"/>
                  </a:lnTo>
                  <a:lnTo>
                    <a:pt x="137" y="17"/>
                  </a:lnTo>
                  <a:lnTo>
                    <a:pt x="86" y="0"/>
                  </a:lnTo>
                  <a:lnTo>
                    <a:pt x="120" y="92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5207040" y="2643120"/>
              <a:ext cx="95040" cy="219240"/>
            </a:xfrm>
            <a:custGeom>
              <a:avLst/>
              <a:gdLst/>
              <a:ahLst/>
              <a:rect l="l" t="t" r="r" b="b"/>
              <a:pathLst>
                <a:path w="359" h="825">
                  <a:moveTo>
                    <a:pt x="0" y="56"/>
                  </a:moveTo>
                  <a:lnTo>
                    <a:pt x="35" y="128"/>
                  </a:lnTo>
                  <a:lnTo>
                    <a:pt x="67" y="147"/>
                  </a:lnTo>
                  <a:lnTo>
                    <a:pt x="86" y="165"/>
                  </a:lnTo>
                  <a:lnTo>
                    <a:pt x="120" y="183"/>
                  </a:lnTo>
                  <a:lnTo>
                    <a:pt x="135" y="220"/>
                  </a:lnTo>
                  <a:lnTo>
                    <a:pt x="153" y="256"/>
                  </a:lnTo>
                  <a:lnTo>
                    <a:pt x="170" y="293"/>
                  </a:lnTo>
                  <a:lnTo>
                    <a:pt x="187" y="348"/>
                  </a:lnTo>
                  <a:lnTo>
                    <a:pt x="204" y="385"/>
                  </a:lnTo>
                  <a:lnTo>
                    <a:pt x="204" y="439"/>
                  </a:lnTo>
                  <a:lnTo>
                    <a:pt x="221" y="494"/>
                  </a:lnTo>
                  <a:lnTo>
                    <a:pt x="221" y="531"/>
                  </a:lnTo>
                  <a:lnTo>
                    <a:pt x="221" y="587"/>
                  </a:lnTo>
                  <a:lnTo>
                    <a:pt x="221" y="642"/>
                  </a:lnTo>
                  <a:lnTo>
                    <a:pt x="221" y="696"/>
                  </a:lnTo>
                  <a:lnTo>
                    <a:pt x="204" y="733"/>
                  </a:lnTo>
                  <a:lnTo>
                    <a:pt x="204" y="788"/>
                  </a:lnTo>
                  <a:lnTo>
                    <a:pt x="324" y="825"/>
                  </a:lnTo>
                  <a:lnTo>
                    <a:pt x="341" y="770"/>
                  </a:lnTo>
                  <a:lnTo>
                    <a:pt x="359" y="713"/>
                  </a:lnTo>
                  <a:lnTo>
                    <a:pt x="359" y="659"/>
                  </a:lnTo>
                  <a:lnTo>
                    <a:pt x="359" y="587"/>
                  </a:lnTo>
                  <a:lnTo>
                    <a:pt x="359" y="531"/>
                  </a:lnTo>
                  <a:lnTo>
                    <a:pt x="359" y="476"/>
                  </a:lnTo>
                  <a:lnTo>
                    <a:pt x="341" y="403"/>
                  </a:lnTo>
                  <a:lnTo>
                    <a:pt x="324" y="348"/>
                  </a:lnTo>
                  <a:lnTo>
                    <a:pt x="324" y="293"/>
                  </a:lnTo>
                  <a:lnTo>
                    <a:pt x="290" y="239"/>
                  </a:lnTo>
                  <a:lnTo>
                    <a:pt x="272" y="183"/>
                  </a:lnTo>
                  <a:lnTo>
                    <a:pt x="255" y="147"/>
                  </a:lnTo>
                  <a:lnTo>
                    <a:pt x="221" y="91"/>
                  </a:lnTo>
                  <a:lnTo>
                    <a:pt x="187" y="56"/>
                  </a:lnTo>
                  <a:lnTo>
                    <a:pt x="135" y="19"/>
                  </a:lnTo>
                  <a:lnTo>
                    <a:pt x="101" y="0"/>
                  </a:lnTo>
                  <a:lnTo>
                    <a:pt x="135" y="7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5094360" y="2503440"/>
              <a:ext cx="149040" cy="160560"/>
            </a:xfrm>
            <a:custGeom>
              <a:avLst/>
              <a:gdLst/>
              <a:ahLst/>
              <a:rect l="l" t="t" r="r" b="b"/>
              <a:pathLst>
                <a:path w="562" h="605">
                  <a:moveTo>
                    <a:pt x="0" y="74"/>
                  </a:moveTo>
                  <a:lnTo>
                    <a:pt x="69" y="148"/>
                  </a:lnTo>
                  <a:lnTo>
                    <a:pt x="137" y="148"/>
                  </a:lnTo>
                  <a:lnTo>
                    <a:pt x="172" y="148"/>
                  </a:lnTo>
                  <a:lnTo>
                    <a:pt x="222" y="148"/>
                  </a:lnTo>
                  <a:lnTo>
                    <a:pt x="256" y="166"/>
                  </a:lnTo>
                  <a:lnTo>
                    <a:pt x="289" y="183"/>
                  </a:lnTo>
                  <a:lnTo>
                    <a:pt x="324" y="202"/>
                  </a:lnTo>
                  <a:lnTo>
                    <a:pt x="342" y="220"/>
                  </a:lnTo>
                  <a:lnTo>
                    <a:pt x="358" y="239"/>
                  </a:lnTo>
                  <a:lnTo>
                    <a:pt x="376" y="275"/>
                  </a:lnTo>
                  <a:lnTo>
                    <a:pt x="393" y="312"/>
                  </a:lnTo>
                  <a:lnTo>
                    <a:pt x="409" y="349"/>
                  </a:lnTo>
                  <a:lnTo>
                    <a:pt x="427" y="385"/>
                  </a:lnTo>
                  <a:lnTo>
                    <a:pt x="427" y="422"/>
                  </a:lnTo>
                  <a:lnTo>
                    <a:pt x="427" y="477"/>
                  </a:lnTo>
                  <a:lnTo>
                    <a:pt x="427" y="532"/>
                  </a:lnTo>
                  <a:lnTo>
                    <a:pt x="427" y="588"/>
                  </a:lnTo>
                  <a:lnTo>
                    <a:pt x="562" y="605"/>
                  </a:lnTo>
                  <a:lnTo>
                    <a:pt x="562" y="532"/>
                  </a:lnTo>
                  <a:lnTo>
                    <a:pt x="562" y="477"/>
                  </a:lnTo>
                  <a:lnTo>
                    <a:pt x="562" y="403"/>
                  </a:lnTo>
                  <a:lnTo>
                    <a:pt x="547" y="349"/>
                  </a:lnTo>
                  <a:lnTo>
                    <a:pt x="547" y="294"/>
                  </a:lnTo>
                  <a:lnTo>
                    <a:pt x="528" y="257"/>
                  </a:lnTo>
                  <a:lnTo>
                    <a:pt x="494" y="202"/>
                  </a:lnTo>
                  <a:lnTo>
                    <a:pt x="478" y="148"/>
                  </a:lnTo>
                  <a:lnTo>
                    <a:pt x="444" y="111"/>
                  </a:lnTo>
                  <a:lnTo>
                    <a:pt x="393" y="74"/>
                  </a:lnTo>
                  <a:lnTo>
                    <a:pt x="358" y="55"/>
                  </a:lnTo>
                  <a:lnTo>
                    <a:pt x="307" y="19"/>
                  </a:lnTo>
                  <a:lnTo>
                    <a:pt x="256" y="19"/>
                  </a:lnTo>
                  <a:lnTo>
                    <a:pt x="204" y="0"/>
                  </a:lnTo>
                  <a:lnTo>
                    <a:pt x="137" y="0"/>
                  </a:lnTo>
                  <a:lnTo>
                    <a:pt x="69" y="0"/>
                  </a:lnTo>
                  <a:lnTo>
                    <a:pt x="137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4959360" y="2368440"/>
              <a:ext cx="171360" cy="154080"/>
            </a:xfrm>
            <a:custGeom>
              <a:avLst/>
              <a:gdLst/>
              <a:ahLst/>
              <a:rect l="l" t="t" r="r" b="b"/>
              <a:pathLst>
                <a:path w="648" h="585">
                  <a:moveTo>
                    <a:pt x="0" y="92"/>
                  </a:moveTo>
                  <a:lnTo>
                    <a:pt x="101" y="163"/>
                  </a:lnTo>
                  <a:lnTo>
                    <a:pt x="153" y="145"/>
                  </a:lnTo>
                  <a:lnTo>
                    <a:pt x="188" y="145"/>
                  </a:lnTo>
                  <a:lnTo>
                    <a:pt x="239" y="145"/>
                  </a:lnTo>
                  <a:lnTo>
                    <a:pt x="273" y="145"/>
                  </a:lnTo>
                  <a:lnTo>
                    <a:pt x="307" y="145"/>
                  </a:lnTo>
                  <a:lnTo>
                    <a:pt x="340" y="163"/>
                  </a:lnTo>
                  <a:lnTo>
                    <a:pt x="359" y="183"/>
                  </a:lnTo>
                  <a:lnTo>
                    <a:pt x="393" y="200"/>
                  </a:lnTo>
                  <a:lnTo>
                    <a:pt x="409" y="220"/>
                  </a:lnTo>
                  <a:lnTo>
                    <a:pt x="443" y="254"/>
                  </a:lnTo>
                  <a:lnTo>
                    <a:pt x="460" y="291"/>
                  </a:lnTo>
                  <a:lnTo>
                    <a:pt x="477" y="348"/>
                  </a:lnTo>
                  <a:lnTo>
                    <a:pt x="494" y="402"/>
                  </a:lnTo>
                  <a:lnTo>
                    <a:pt x="494" y="457"/>
                  </a:lnTo>
                  <a:lnTo>
                    <a:pt x="511" y="511"/>
                  </a:lnTo>
                  <a:lnTo>
                    <a:pt x="511" y="585"/>
                  </a:lnTo>
                  <a:lnTo>
                    <a:pt x="648" y="585"/>
                  </a:lnTo>
                  <a:lnTo>
                    <a:pt x="648" y="493"/>
                  </a:lnTo>
                  <a:lnTo>
                    <a:pt x="631" y="420"/>
                  </a:lnTo>
                  <a:lnTo>
                    <a:pt x="614" y="365"/>
                  </a:lnTo>
                  <a:lnTo>
                    <a:pt x="596" y="291"/>
                  </a:lnTo>
                  <a:lnTo>
                    <a:pt x="580" y="237"/>
                  </a:lnTo>
                  <a:lnTo>
                    <a:pt x="545" y="183"/>
                  </a:lnTo>
                  <a:lnTo>
                    <a:pt x="529" y="128"/>
                  </a:lnTo>
                  <a:lnTo>
                    <a:pt x="477" y="92"/>
                  </a:lnTo>
                  <a:lnTo>
                    <a:pt x="443" y="55"/>
                  </a:lnTo>
                  <a:lnTo>
                    <a:pt x="393" y="35"/>
                  </a:lnTo>
                  <a:lnTo>
                    <a:pt x="340" y="17"/>
                  </a:lnTo>
                  <a:lnTo>
                    <a:pt x="290" y="0"/>
                  </a:lnTo>
                  <a:lnTo>
                    <a:pt x="239" y="0"/>
                  </a:lnTo>
                  <a:lnTo>
                    <a:pt x="170" y="0"/>
                  </a:lnTo>
                  <a:lnTo>
                    <a:pt x="119" y="17"/>
                  </a:lnTo>
                  <a:lnTo>
                    <a:pt x="50" y="35"/>
                  </a:lnTo>
                  <a:lnTo>
                    <a:pt x="136" y="10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4751280" y="2274840"/>
              <a:ext cx="243000" cy="122400"/>
            </a:xfrm>
            <a:custGeom>
              <a:avLst/>
              <a:gdLst/>
              <a:ahLst/>
              <a:rect l="l" t="t" r="r" b="b"/>
              <a:pathLst>
                <a:path w="921" h="456">
                  <a:moveTo>
                    <a:pt x="0" y="220"/>
                  </a:moveTo>
                  <a:lnTo>
                    <a:pt x="103" y="274"/>
                  </a:lnTo>
                  <a:lnTo>
                    <a:pt x="155" y="236"/>
                  </a:lnTo>
                  <a:lnTo>
                    <a:pt x="221" y="200"/>
                  </a:lnTo>
                  <a:lnTo>
                    <a:pt x="290" y="163"/>
                  </a:lnTo>
                  <a:lnTo>
                    <a:pt x="359" y="146"/>
                  </a:lnTo>
                  <a:lnTo>
                    <a:pt x="410" y="146"/>
                  </a:lnTo>
                  <a:lnTo>
                    <a:pt x="477" y="146"/>
                  </a:lnTo>
                  <a:lnTo>
                    <a:pt x="530" y="146"/>
                  </a:lnTo>
                  <a:lnTo>
                    <a:pt x="580" y="146"/>
                  </a:lnTo>
                  <a:lnTo>
                    <a:pt x="631" y="163"/>
                  </a:lnTo>
                  <a:lnTo>
                    <a:pt x="682" y="183"/>
                  </a:lnTo>
                  <a:lnTo>
                    <a:pt x="716" y="220"/>
                  </a:lnTo>
                  <a:lnTo>
                    <a:pt x="734" y="257"/>
                  </a:lnTo>
                  <a:lnTo>
                    <a:pt x="769" y="291"/>
                  </a:lnTo>
                  <a:lnTo>
                    <a:pt x="785" y="328"/>
                  </a:lnTo>
                  <a:lnTo>
                    <a:pt x="785" y="383"/>
                  </a:lnTo>
                  <a:lnTo>
                    <a:pt x="785" y="440"/>
                  </a:lnTo>
                  <a:lnTo>
                    <a:pt x="921" y="456"/>
                  </a:lnTo>
                  <a:lnTo>
                    <a:pt x="921" y="365"/>
                  </a:lnTo>
                  <a:lnTo>
                    <a:pt x="921" y="291"/>
                  </a:lnTo>
                  <a:lnTo>
                    <a:pt x="886" y="220"/>
                  </a:lnTo>
                  <a:lnTo>
                    <a:pt x="854" y="163"/>
                  </a:lnTo>
                  <a:lnTo>
                    <a:pt x="801" y="109"/>
                  </a:lnTo>
                  <a:lnTo>
                    <a:pt x="751" y="71"/>
                  </a:lnTo>
                  <a:lnTo>
                    <a:pt x="682" y="37"/>
                  </a:lnTo>
                  <a:lnTo>
                    <a:pt x="614" y="18"/>
                  </a:lnTo>
                  <a:lnTo>
                    <a:pt x="545" y="0"/>
                  </a:lnTo>
                  <a:lnTo>
                    <a:pt x="477" y="0"/>
                  </a:lnTo>
                  <a:lnTo>
                    <a:pt x="410" y="0"/>
                  </a:lnTo>
                  <a:lnTo>
                    <a:pt x="325" y="18"/>
                  </a:lnTo>
                  <a:lnTo>
                    <a:pt x="256" y="37"/>
                  </a:lnTo>
                  <a:lnTo>
                    <a:pt x="171" y="71"/>
                  </a:lnTo>
                  <a:lnTo>
                    <a:pt x="103" y="109"/>
                  </a:lnTo>
                  <a:lnTo>
                    <a:pt x="17" y="146"/>
                  </a:lnTo>
                  <a:lnTo>
                    <a:pt x="137" y="20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4467240" y="2232000"/>
              <a:ext cx="320760" cy="154080"/>
            </a:xfrm>
            <a:custGeom>
              <a:avLst/>
              <a:gdLst/>
              <a:ahLst/>
              <a:rect l="l" t="t" r="r" b="b"/>
              <a:pathLst>
                <a:path w="1211" h="584">
                  <a:moveTo>
                    <a:pt x="17" y="584"/>
                  </a:moveTo>
                  <a:lnTo>
                    <a:pt x="120" y="548"/>
                  </a:lnTo>
                  <a:lnTo>
                    <a:pt x="171" y="456"/>
                  </a:lnTo>
                  <a:lnTo>
                    <a:pt x="222" y="385"/>
                  </a:lnTo>
                  <a:lnTo>
                    <a:pt x="291" y="311"/>
                  </a:lnTo>
                  <a:lnTo>
                    <a:pt x="375" y="256"/>
                  </a:lnTo>
                  <a:lnTo>
                    <a:pt x="444" y="219"/>
                  </a:lnTo>
                  <a:lnTo>
                    <a:pt x="530" y="183"/>
                  </a:lnTo>
                  <a:lnTo>
                    <a:pt x="596" y="165"/>
                  </a:lnTo>
                  <a:lnTo>
                    <a:pt x="682" y="146"/>
                  </a:lnTo>
                  <a:lnTo>
                    <a:pt x="750" y="146"/>
                  </a:lnTo>
                  <a:lnTo>
                    <a:pt x="819" y="146"/>
                  </a:lnTo>
                  <a:lnTo>
                    <a:pt x="887" y="165"/>
                  </a:lnTo>
                  <a:lnTo>
                    <a:pt x="939" y="202"/>
                  </a:lnTo>
                  <a:lnTo>
                    <a:pt x="989" y="236"/>
                  </a:lnTo>
                  <a:lnTo>
                    <a:pt x="1023" y="274"/>
                  </a:lnTo>
                  <a:lnTo>
                    <a:pt x="1057" y="328"/>
                  </a:lnTo>
                  <a:lnTo>
                    <a:pt x="1074" y="385"/>
                  </a:lnTo>
                  <a:lnTo>
                    <a:pt x="1211" y="365"/>
                  </a:lnTo>
                  <a:lnTo>
                    <a:pt x="1177" y="274"/>
                  </a:lnTo>
                  <a:lnTo>
                    <a:pt x="1143" y="202"/>
                  </a:lnTo>
                  <a:lnTo>
                    <a:pt x="1074" y="128"/>
                  </a:lnTo>
                  <a:lnTo>
                    <a:pt x="1006" y="73"/>
                  </a:lnTo>
                  <a:lnTo>
                    <a:pt x="939" y="36"/>
                  </a:lnTo>
                  <a:lnTo>
                    <a:pt x="852" y="17"/>
                  </a:lnTo>
                  <a:lnTo>
                    <a:pt x="767" y="0"/>
                  </a:lnTo>
                  <a:lnTo>
                    <a:pt x="665" y="0"/>
                  </a:lnTo>
                  <a:lnTo>
                    <a:pt x="581" y="17"/>
                  </a:lnTo>
                  <a:lnTo>
                    <a:pt x="477" y="36"/>
                  </a:lnTo>
                  <a:lnTo>
                    <a:pt x="392" y="73"/>
                  </a:lnTo>
                  <a:lnTo>
                    <a:pt x="291" y="128"/>
                  </a:lnTo>
                  <a:lnTo>
                    <a:pt x="205" y="202"/>
                  </a:lnTo>
                  <a:lnTo>
                    <a:pt x="137" y="274"/>
                  </a:lnTo>
                  <a:lnTo>
                    <a:pt x="51" y="385"/>
                  </a:lnTo>
                  <a:lnTo>
                    <a:pt x="0" y="493"/>
                  </a:lnTo>
                  <a:lnTo>
                    <a:pt x="86" y="456"/>
                  </a:lnTo>
                  <a:lnTo>
                    <a:pt x="17" y="58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4276800" y="2328840"/>
              <a:ext cx="212760" cy="169920"/>
            </a:xfrm>
            <a:custGeom>
              <a:avLst/>
              <a:gdLst/>
              <a:ahLst/>
              <a:rect l="l" t="t" r="r" b="b"/>
              <a:pathLst>
                <a:path w="803" h="641">
                  <a:moveTo>
                    <a:pt x="53" y="641"/>
                  </a:moveTo>
                  <a:lnTo>
                    <a:pt x="120" y="587"/>
                  </a:lnTo>
                  <a:lnTo>
                    <a:pt x="154" y="513"/>
                  </a:lnTo>
                  <a:lnTo>
                    <a:pt x="189" y="439"/>
                  </a:lnTo>
                  <a:lnTo>
                    <a:pt x="205" y="385"/>
                  </a:lnTo>
                  <a:lnTo>
                    <a:pt x="240" y="331"/>
                  </a:lnTo>
                  <a:lnTo>
                    <a:pt x="274" y="276"/>
                  </a:lnTo>
                  <a:lnTo>
                    <a:pt x="309" y="240"/>
                  </a:lnTo>
                  <a:lnTo>
                    <a:pt x="343" y="203"/>
                  </a:lnTo>
                  <a:lnTo>
                    <a:pt x="375" y="183"/>
                  </a:lnTo>
                  <a:lnTo>
                    <a:pt x="410" y="165"/>
                  </a:lnTo>
                  <a:lnTo>
                    <a:pt x="461" y="148"/>
                  </a:lnTo>
                  <a:lnTo>
                    <a:pt x="495" y="148"/>
                  </a:lnTo>
                  <a:lnTo>
                    <a:pt x="529" y="148"/>
                  </a:lnTo>
                  <a:lnTo>
                    <a:pt x="581" y="148"/>
                  </a:lnTo>
                  <a:lnTo>
                    <a:pt x="633" y="165"/>
                  </a:lnTo>
                  <a:lnTo>
                    <a:pt x="684" y="183"/>
                  </a:lnTo>
                  <a:lnTo>
                    <a:pt x="734" y="219"/>
                  </a:lnTo>
                  <a:lnTo>
                    <a:pt x="803" y="91"/>
                  </a:lnTo>
                  <a:lnTo>
                    <a:pt x="734" y="57"/>
                  </a:lnTo>
                  <a:lnTo>
                    <a:pt x="665" y="20"/>
                  </a:lnTo>
                  <a:lnTo>
                    <a:pt x="615" y="0"/>
                  </a:lnTo>
                  <a:lnTo>
                    <a:pt x="547" y="0"/>
                  </a:lnTo>
                  <a:lnTo>
                    <a:pt x="478" y="0"/>
                  </a:lnTo>
                  <a:lnTo>
                    <a:pt x="427" y="0"/>
                  </a:lnTo>
                  <a:lnTo>
                    <a:pt x="375" y="20"/>
                  </a:lnTo>
                  <a:lnTo>
                    <a:pt x="309" y="57"/>
                  </a:lnTo>
                  <a:lnTo>
                    <a:pt x="258" y="91"/>
                  </a:lnTo>
                  <a:lnTo>
                    <a:pt x="223" y="128"/>
                  </a:lnTo>
                  <a:lnTo>
                    <a:pt x="171" y="183"/>
                  </a:lnTo>
                  <a:lnTo>
                    <a:pt x="138" y="240"/>
                  </a:lnTo>
                  <a:lnTo>
                    <a:pt x="103" y="311"/>
                  </a:lnTo>
                  <a:lnTo>
                    <a:pt x="69" y="385"/>
                  </a:lnTo>
                  <a:lnTo>
                    <a:pt x="34" y="458"/>
                  </a:lnTo>
                  <a:lnTo>
                    <a:pt x="0" y="531"/>
                  </a:lnTo>
                  <a:lnTo>
                    <a:pt x="69" y="496"/>
                  </a:lnTo>
                  <a:lnTo>
                    <a:pt x="53" y="6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4065480" y="2454120"/>
              <a:ext cx="230400" cy="349560"/>
            </a:xfrm>
            <a:custGeom>
              <a:avLst/>
              <a:gdLst/>
              <a:ahLst/>
              <a:rect l="l" t="t" r="r" b="b"/>
              <a:pathLst>
                <a:path w="869" h="1320">
                  <a:moveTo>
                    <a:pt x="341" y="1320"/>
                  </a:moveTo>
                  <a:lnTo>
                    <a:pt x="357" y="1191"/>
                  </a:lnTo>
                  <a:lnTo>
                    <a:pt x="255" y="1100"/>
                  </a:lnTo>
                  <a:lnTo>
                    <a:pt x="204" y="1008"/>
                  </a:lnTo>
                  <a:lnTo>
                    <a:pt x="154" y="917"/>
                  </a:lnTo>
                  <a:lnTo>
                    <a:pt x="136" y="825"/>
                  </a:lnTo>
                  <a:lnTo>
                    <a:pt x="136" y="734"/>
                  </a:lnTo>
                  <a:lnTo>
                    <a:pt x="154" y="642"/>
                  </a:lnTo>
                  <a:lnTo>
                    <a:pt x="186" y="551"/>
                  </a:lnTo>
                  <a:lnTo>
                    <a:pt x="221" y="477"/>
                  </a:lnTo>
                  <a:lnTo>
                    <a:pt x="272" y="403"/>
                  </a:lnTo>
                  <a:lnTo>
                    <a:pt x="341" y="331"/>
                  </a:lnTo>
                  <a:lnTo>
                    <a:pt x="426" y="275"/>
                  </a:lnTo>
                  <a:lnTo>
                    <a:pt x="495" y="220"/>
                  </a:lnTo>
                  <a:lnTo>
                    <a:pt x="579" y="183"/>
                  </a:lnTo>
                  <a:lnTo>
                    <a:pt x="665" y="165"/>
                  </a:lnTo>
                  <a:lnTo>
                    <a:pt x="767" y="146"/>
                  </a:lnTo>
                  <a:lnTo>
                    <a:pt x="853" y="165"/>
                  </a:lnTo>
                  <a:lnTo>
                    <a:pt x="869" y="20"/>
                  </a:lnTo>
                  <a:lnTo>
                    <a:pt x="767" y="0"/>
                  </a:lnTo>
                  <a:lnTo>
                    <a:pt x="648" y="20"/>
                  </a:lnTo>
                  <a:lnTo>
                    <a:pt x="545" y="37"/>
                  </a:lnTo>
                  <a:lnTo>
                    <a:pt x="444" y="92"/>
                  </a:lnTo>
                  <a:lnTo>
                    <a:pt x="341" y="146"/>
                  </a:lnTo>
                  <a:lnTo>
                    <a:pt x="255" y="220"/>
                  </a:lnTo>
                  <a:lnTo>
                    <a:pt x="171" y="312"/>
                  </a:lnTo>
                  <a:lnTo>
                    <a:pt x="120" y="403"/>
                  </a:lnTo>
                  <a:lnTo>
                    <a:pt x="51" y="495"/>
                  </a:lnTo>
                  <a:lnTo>
                    <a:pt x="16" y="605"/>
                  </a:lnTo>
                  <a:lnTo>
                    <a:pt x="0" y="734"/>
                  </a:lnTo>
                  <a:lnTo>
                    <a:pt x="0" y="843"/>
                  </a:lnTo>
                  <a:lnTo>
                    <a:pt x="34" y="971"/>
                  </a:lnTo>
                  <a:lnTo>
                    <a:pt x="85" y="1082"/>
                  </a:lnTo>
                  <a:lnTo>
                    <a:pt x="154" y="1191"/>
                  </a:lnTo>
                  <a:lnTo>
                    <a:pt x="255" y="1320"/>
                  </a:lnTo>
                  <a:lnTo>
                    <a:pt x="272" y="1191"/>
                  </a:lnTo>
                  <a:lnTo>
                    <a:pt x="341" y="132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3051000" y="5370480"/>
              <a:ext cx="360" cy="360"/>
            </a:xfrm>
            <a:prstGeom prst="rect">
              <a:avLst/>
            </a:prstGeom>
            <a:noFill/>
            <a:ln w="7920">
              <a:solidFill>
                <a:srgbClr val="dc2b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3327480" y="5718240"/>
              <a:ext cx="360" cy="360"/>
            </a:xfrm>
            <a:prstGeom prst="rect">
              <a:avLst/>
            </a:prstGeom>
            <a:noFill/>
            <a:ln w="7920">
              <a:solidFill>
                <a:srgbClr val="dc2b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5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0" name=""/>
          <p:cNvSpPr/>
          <p:nvPr/>
        </p:nvSpPr>
        <p:spPr>
          <a:xfrm>
            <a:off x="1362600" y="685800"/>
            <a:ext cx="666360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902444"/>
                </a:solidFill>
                <a:latin typeface="Geometr231 Hv BT"/>
              </a:rPr>
              <a:t>30-50%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02444"/>
                </a:solidFill>
                <a:latin typeface="Geometr231 Hv BT"/>
              </a:rPr>
              <a:t>OF HIV-INFECTED MOTHERS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02444"/>
                </a:solidFill>
                <a:latin typeface="Geometr231 Hv BT"/>
              </a:rPr>
              <a:t>WILL INFECT THEIR BABIE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1" name=""/>
          <p:cNvGrpSpPr/>
          <p:nvPr/>
        </p:nvGrpSpPr>
        <p:grpSpPr>
          <a:xfrm>
            <a:off x="1905120" y="3429000"/>
            <a:ext cx="5795640" cy="2111040"/>
            <a:chOff x="1905120" y="3429000"/>
            <a:chExt cx="5795640" cy="2111040"/>
          </a:xfrm>
        </p:grpSpPr>
        <p:sp>
          <p:nvSpPr>
            <p:cNvPr id="5532" name=""/>
            <p:cNvSpPr/>
            <p:nvPr/>
          </p:nvSpPr>
          <p:spPr>
            <a:xfrm>
              <a:off x="2319120" y="3429000"/>
              <a:ext cx="2376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300" spc="-1" strike="noStrike">
                  <a:solidFill>
                    <a:srgbClr val="1f1a17"/>
                  </a:solidFill>
                  <a:latin typeface="Geometr231 Hv BT"/>
                </a:rPr>
                <a:t>Before birth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2278800" y="4232160"/>
              <a:ext cx="24238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300" spc="-1" strike="noStrike">
                  <a:solidFill>
                    <a:srgbClr val="1f1a17"/>
                  </a:solidFill>
                  <a:latin typeface="Geometr231 Hv BT"/>
                </a:rPr>
                <a:t>During birth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222640" y="5037120"/>
              <a:ext cx="5478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300" spc="-1" strike="noStrike">
                  <a:solidFill>
                    <a:srgbClr val="1f1a17"/>
                  </a:solidFill>
                  <a:latin typeface="Geometr231 Hv BT"/>
                </a:rPr>
                <a:t>After birth by breastfeeding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1905120" y="3559320"/>
              <a:ext cx="261720" cy="20772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6"/>
                  </a:lnTo>
                  <a:lnTo>
                    <a:pt x="0" y="65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1905120" y="3559320"/>
              <a:ext cx="261720" cy="20772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6"/>
                  </a:lnTo>
                  <a:lnTo>
                    <a:pt x="0" y="65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1905120" y="4375080"/>
              <a:ext cx="261720" cy="20808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7"/>
                  </a:lnTo>
                  <a:lnTo>
                    <a:pt x="0" y="65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1905120" y="4375080"/>
              <a:ext cx="261720" cy="20808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7"/>
                  </a:lnTo>
                  <a:lnTo>
                    <a:pt x="0" y="65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1905120" y="5183280"/>
              <a:ext cx="261720" cy="20772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6"/>
                  </a:lnTo>
                  <a:lnTo>
                    <a:pt x="0" y="65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1905120" y="5183280"/>
              <a:ext cx="261720" cy="20772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6"/>
                  </a:lnTo>
                  <a:lnTo>
                    <a:pt x="0" y="65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1" name=""/>
          <p:cNvSpPr/>
          <p:nvPr/>
        </p:nvSpPr>
        <p:spPr>
          <a:xfrm>
            <a:off x="1046160" y="898560"/>
            <a:ext cx="72532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902444"/>
                </a:solidFill>
                <a:latin typeface="Geometr231 Hv BT"/>
              </a:rPr>
              <a:t>THE BREAST MILK OF AN HIV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902444"/>
                </a:solidFill>
                <a:latin typeface="Geometr231 Hv BT"/>
              </a:rPr>
              <a:t>MOTHER CAN INFECT HER BAB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2" name=""/>
          <p:cNvGrpSpPr/>
          <p:nvPr/>
        </p:nvGrpSpPr>
        <p:grpSpPr>
          <a:xfrm>
            <a:off x="3078000" y="2133720"/>
            <a:ext cx="3079800" cy="3994200"/>
            <a:chOff x="3078000" y="2133720"/>
            <a:chExt cx="3079800" cy="3994200"/>
          </a:xfrm>
        </p:grpSpPr>
        <p:sp>
          <p:nvSpPr>
            <p:cNvPr id="5543" name=""/>
            <p:cNvSpPr/>
            <p:nvPr/>
          </p:nvSpPr>
          <p:spPr>
            <a:xfrm>
              <a:off x="3078000" y="4157640"/>
              <a:ext cx="3079800" cy="1970280"/>
            </a:xfrm>
            <a:custGeom>
              <a:avLst/>
              <a:gdLst/>
              <a:ahLst/>
              <a:rect l="l" t="t" r="r" b="b"/>
              <a:pathLst>
                <a:path w="9696" h="6203">
                  <a:moveTo>
                    <a:pt x="7493" y="1109"/>
                  </a:moveTo>
                  <a:lnTo>
                    <a:pt x="7482" y="1113"/>
                  </a:lnTo>
                  <a:lnTo>
                    <a:pt x="7470" y="1117"/>
                  </a:lnTo>
                  <a:lnTo>
                    <a:pt x="7459" y="1119"/>
                  </a:lnTo>
                  <a:lnTo>
                    <a:pt x="7447" y="1121"/>
                  </a:lnTo>
                  <a:lnTo>
                    <a:pt x="7434" y="1121"/>
                  </a:lnTo>
                  <a:lnTo>
                    <a:pt x="7418" y="1120"/>
                  </a:lnTo>
                  <a:lnTo>
                    <a:pt x="7401" y="1116"/>
                  </a:lnTo>
                  <a:lnTo>
                    <a:pt x="7381" y="1109"/>
                  </a:lnTo>
                  <a:lnTo>
                    <a:pt x="7378" y="1104"/>
                  </a:lnTo>
                  <a:lnTo>
                    <a:pt x="7376" y="1103"/>
                  </a:lnTo>
                  <a:lnTo>
                    <a:pt x="7375" y="1101"/>
                  </a:lnTo>
                  <a:lnTo>
                    <a:pt x="7373" y="1099"/>
                  </a:lnTo>
                  <a:lnTo>
                    <a:pt x="7372" y="1097"/>
                  </a:lnTo>
                  <a:lnTo>
                    <a:pt x="7371" y="1095"/>
                  </a:lnTo>
                  <a:lnTo>
                    <a:pt x="7369" y="1091"/>
                  </a:lnTo>
                  <a:lnTo>
                    <a:pt x="7367" y="1089"/>
                  </a:lnTo>
                  <a:lnTo>
                    <a:pt x="7366" y="1086"/>
                  </a:lnTo>
                  <a:lnTo>
                    <a:pt x="7367" y="1080"/>
                  </a:lnTo>
                  <a:lnTo>
                    <a:pt x="7368" y="1075"/>
                  </a:lnTo>
                  <a:lnTo>
                    <a:pt x="7372" y="1071"/>
                  </a:lnTo>
                  <a:lnTo>
                    <a:pt x="7375" y="1068"/>
                  </a:lnTo>
                  <a:lnTo>
                    <a:pt x="7379" y="1066"/>
                  </a:lnTo>
                  <a:lnTo>
                    <a:pt x="7384" y="1064"/>
                  </a:lnTo>
                  <a:lnTo>
                    <a:pt x="7389" y="1063"/>
                  </a:lnTo>
                  <a:lnTo>
                    <a:pt x="7396" y="1061"/>
                  </a:lnTo>
                  <a:lnTo>
                    <a:pt x="7425" y="1061"/>
                  </a:lnTo>
                  <a:lnTo>
                    <a:pt x="7455" y="1063"/>
                  </a:lnTo>
                  <a:lnTo>
                    <a:pt x="7469" y="1063"/>
                  </a:lnTo>
                  <a:lnTo>
                    <a:pt x="7482" y="1061"/>
                  </a:lnTo>
                  <a:lnTo>
                    <a:pt x="7487" y="1060"/>
                  </a:lnTo>
                  <a:lnTo>
                    <a:pt x="7492" y="1058"/>
                  </a:lnTo>
                  <a:lnTo>
                    <a:pt x="7496" y="1056"/>
                  </a:lnTo>
                  <a:lnTo>
                    <a:pt x="7498" y="1053"/>
                  </a:lnTo>
                  <a:lnTo>
                    <a:pt x="7500" y="1049"/>
                  </a:lnTo>
                  <a:lnTo>
                    <a:pt x="7502" y="1045"/>
                  </a:lnTo>
                  <a:lnTo>
                    <a:pt x="7502" y="1039"/>
                  </a:lnTo>
                  <a:lnTo>
                    <a:pt x="7499" y="1033"/>
                  </a:lnTo>
                  <a:lnTo>
                    <a:pt x="7497" y="1026"/>
                  </a:lnTo>
                  <a:lnTo>
                    <a:pt x="7493" y="1017"/>
                  </a:lnTo>
                  <a:lnTo>
                    <a:pt x="7487" y="1007"/>
                  </a:lnTo>
                  <a:lnTo>
                    <a:pt x="7480" y="996"/>
                  </a:lnTo>
                  <a:lnTo>
                    <a:pt x="7464" y="992"/>
                  </a:lnTo>
                  <a:lnTo>
                    <a:pt x="7452" y="986"/>
                  </a:lnTo>
                  <a:lnTo>
                    <a:pt x="7443" y="979"/>
                  </a:lnTo>
                  <a:lnTo>
                    <a:pt x="7437" y="973"/>
                  </a:lnTo>
                  <a:lnTo>
                    <a:pt x="7434" y="966"/>
                  </a:lnTo>
                  <a:lnTo>
                    <a:pt x="7432" y="959"/>
                  </a:lnTo>
                  <a:lnTo>
                    <a:pt x="7432" y="953"/>
                  </a:lnTo>
                  <a:lnTo>
                    <a:pt x="7430" y="946"/>
                  </a:lnTo>
                  <a:lnTo>
                    <a:pt x="7429" y="938"/>
                  </a:lnTo>
                  <a:lnTo>
                    <a:pt x="7427" y="931"/>
                  </a:lnTo>
                  <a:lnTo>
                    <a:pt x="7424" y="924"/>
                  </a:lnTo>
                  <a:lnTo>
                    <a:pt x="7418" y="916"/>
                  </a:lnTo>
                  <a:lnTo>
                    <a:pt x="7409" y="909"/>
                  </a:lnTo>
                  <a:lnTo>
                    <a:pt x="7397" y="902"/>
                  </a:lnTo>
                  <a:lnTo>
                    <a:pt x="7381" y="895"/>
                  </a:lnTo>
                  <a:lnTo>
                    <a:pt x="7358" y="887"/>
                  </a:lnTo>
                  <a:lnTo>
                    <a:pt x="7353" y="884"/>
                  </a:lnTo>
                  <a:lnTo>
                    <a:pt x="7348" y="879"/>
                  </a:lnTo>
                  <a:lnTo>
                    <a:pt x="7346" y="875"/>
                  </a:lnTo>
                  <a:lnTo>
                    <a:pt x="7344" y="869"/>
                  </a:lnTo>
                  <a:lnTo>
                    <a:pt x="7342" y="864"/>
                  </a:lnTo>
                  <a:lnTo>
                    <a:pt x="7342" y="858"/>
                  </a:lnTo>
                  <a:lnTo>
                    <a:pt x="7343" y="852"/>
                  </a:lnTo>
                  <a:lnTo>
                    <a:pt x="7344" y="845"/>
                  </a:lnTo>
                  <a:lnTo>
                    <a:pt x="7348" y="832"/>
                  </a:lnTo>
                  <a:lnTo>
                    <a:pt x="7356" y="817"/>
                  </a:lnTo>
                  <a:lnTo>
                    <a:pt x="7366" y="802"/>
                  </a:lnTo>
                  <a:lnTo>
                    <a:pt x="7378" y="786"/>
                  </a:lnTo>
                  <a:lnTo>
                    <a:pt x="7392" y="772"/>
                  </a:lnTo>
                  <a:lnTo>
                    <a:pt x="7406" y="756"/>
                  </a:lnTo>
                  <a:lnTo>
                    <a:pt x="7422" y="743"/>
                  </a:lnTo>
                  <a:lnTo>
                    <a:pt x="7438" y="730"/>
                  </a:lnTo>
                  <a:lnTo>
                    <a:pt x="7454" y="717"/>
                  </a:lnTo>
                  <a:lnTo>
                    <a:pt x="7470" y="707"/>
                  </a:lnTo>
                  <a:lnTo>
                    <a:pt x="7485" y="699"/>
                  </a:lnTo>
                  <a:lnTo>
                    <a:pt x="7499" y="692"/>
                  </a:lnTo>
                  <a:lnTo>
                    <a:pt x="7527" y="682"/>
                  </a:lnTo>
                  <a:lnTo>
                    <a:pt x="7554" y="673"/>
                  </a:lnTo>
                  <a:lnTo>
                    <a:pt x="7577" y="666"/>
                  </a:lnTo>
                  <a:lnTo>
                    <a:pt x="7600" y="662"/>
                  </a:lnTo>
                  <a:lnTo>
                    <a:pt x="7622" y="660"/>
                  </a:lnTo>
                  <a:lnTo>
                    <a:pt x="7643" y="659"/>
                  </a:lnTo>
                  <a:lnTo>
                    <a:pt x="7663" y="660"/>
                  </a:lnTo>
                  <a:lnTo>
                    <a:pt x="7681" y="662"/>
                  </a:lnTo>
                  <a:lnTo>
                    <a:pt x="7699" y="666"/>
                  </a:lnTo>
                  <a:lnTo>
                    <a:pt x="7717" y="673"/>
                  </a:lnTo>
                  <a:lnTo>
                    <a:pt x="7735" y="681"/>
                  </a:lnTo>
                  <a:lnTo>
                    <a:pt x="7753" y="691"/>
                  </a:lnTo>
                  <a:lnTo>
                    <a:pt x="7770" y="702"/>
                  </a:lnTo>
                  <a:lnTo>
                    <a:pt x="7789" y="714"/>
                  </a:lnTo>
                  <a:lnTo>
                    <a:pt x="7808" y="730"/>
                  </a:lnTo>
                  <a:lnTo>
                    <a:pt x="7827" y="745"/>
                  </a:lnTo>
                  <a:lnTo>
                    <a:pt x="7841" y="757"/>
                  </a:lnTo>
                  <a:lnTo>
                    <a:pt x="7854" y="770"/>
                  </a:lnTo>
                  <a:lnTo>
                    <a:pt x="7866" y="783"/>
                  </a:lnTo>
                  <a:lnTo>
                    <a:pt x="7876" y="795"/>
                  </a:lnTo>
                  <a:lnTo>
                    <a:pt x="7885" y="808"/>
                  </a:lnTo>
                  <a:lnTo>
                    <a:pt x="7892" y="822"/>
                  </a:lnTo>
                  <a:lnTo>
                    <a:pt x="7898" y="834"/>
                  </a:lnTo>
                  <a:lnTo>
                    <a:pt x="7904" y="847"/>
                  </a:lnTo>
                  <a:lnTo>
                    <a:pt x="7908" y="861"/>
                  </a:lnTo>
                  <a:lnTo>
                    <a:pt x="7911" y="874"/>
                  </a:lnTo>
                  <a:lnTo>
                    <a:pt x="7914" y="887"/>
                  </a:lnTo>
                  <a:lnTo>
                    <a:pt x="7915" y="901"/>
                  </a:lnTo>
                  <a:lnTo>
                    <a:pt x="7915" y="914"/>
                  </a:lnTo>
                  <a:lnTo>
                    <a:pt x="7914" y="926"/>
                  </a:lnTo>
                  <a:lnTo>
                    <a:pt x="7912" y="939"/>
                  </a:lnTo>
                  <a:lnTo>
                    <a:pt x="7910" y="953"/>
                  </a:lnTo>
                  <a:lnTo>
                    <a:pt x="7908" y="965"/>
                  </a:lnTo>
                  <a:lnTo>
                    <a:pt x="7904" y="978"/>
                  </a:lnTo>
                  <a:lnTo>
                    <a:pt x="7900" y="990"/>
                  </a:lnTo>
                  <a:lnTo>
                    <a:pt x="7895" y="1003"/>
                  </a:lnTo>
                  <a:lnTo>
                    <a:pt x="7884" y="1027"/>
                  </a:lnTo>
                  <a:lnTo>
                    <a:pt x="7870" y="1049"/>
                  </a:lnTo>
                  <a:lnTo>
                    <a:pt x="7856" y="1071"/>
                  </a:lnTo>
                  <a:lnTo>
                    <a:pt x="7839" y="1093"/>
                  </a:lnTo>
                  <a:lnTo>
                    <a:pt x="7823" y="1111"/>
                  </a:lnTo>
                  <a:lnTo>
                    <a:pt x="7806" y="1128"/>
                  </a:lnTo>
                  <a:lnTo>
                    <a:pt x="7783" y="1147"/>
                  </a:lnTo>
                  <a:lnTo>
                    <a:pt x="7766" y="1157"/>
                  </a:lnTo>
                  <a:lnTo>
                    <a:pt x="7754" y="1164"/>
                  </a:lnTo>
                  <a:lnTo>
                    <a:pt x="7744" y="1169"/>
                  </a:lnTo>
                  <a:lnTo>
                    <a:pt x="7736" y="1172"/>
                  </a:lnTo>
                  <a:lnTo>
                    <a:pt x="7727" y="1176"/>
                  </a:lnTo>
                  <a:lnTo>
                    <a:pt x="7717" y="1180"/>
                  </a:lnTo>
                  <a:lnTo>
                    <a:pt x="7705" y="1185"/>
                  </a:lnTo>
                  <a:lnTo>
                    <a:pt x="7689" y="1192"/>
                  </a:lnTo>
                  <a:lnTo>
                    <a:pt x="7693" y="1194"/>
                  </a:lnTo>
                  <a:lnTo>
                    <a:pt x="7696" y="1196"/>
                  </a:lnTo>
                  <a:lnTo>
                    <a:pt x="7699" y="1199"/>
                  </a:lnTo>
                  <a:lnTo>
                    <a:pt x="7701" y="1201"/>
                  </a:lnTo>
                  <a:lnTo>
                    <a:pt x="7705" y="1208"/>
                  </a:lnTo>
                  <a:lnTo>
                    <a:pt x="7706" y="1216"/>
                  </a:lnTo>
                  <a:lnTo>
                    <a:pt x="7706" y="1226"/>
                  </a:lnTo>
                  <a:lnTo>
                    <a:pt x="7705" y="1236"/>
                  </a:lnTo>
                  <a:lnTo>
                    <a:pt x="7704" y="1246"/>
                  </a:lnTo>
                  <a:lnTo>
                    <a:pt x="7701" y="1258"/>
                  </a:lnTo>
                  <a:lnTo>
                    <a:pt x="7697" y="1282"/>
                  </a:lnTo>
                  <a:lnTo>
                    <a:pt x="7695" y="1309"/>
                  </a:lnTo>
                  <a:lnTo>
                    <a:pt x="7695" y="1322"/>
                  </a:lnTo>
                  <a:lnTo>
                    <a:pt x="7696" y="1336"/>
                  </a:lnTo>
                  <a:lnTo>
                    <a:pt x="7698" y="1349"/>
                  </a:lnTo>
                  <a:lnTo>
                    <a:pt x="7703" y="1362"/>
                  </a:lnTo>
                  <a:lnTo>
                    <a:pt x="7705" y="1357"/>
                  </a:lnTo>
                  <a:lnTo>
                    <a:pt x="7710" y="1342"/>
                  </a:lnTo>
                  <a:lnTo>
                    <a:pt x="7715" y="1332"/>
                  </a:lnTo>
                  <a:lnTo>
                    <a:pt x="7720" y="1321"/>
                  </a:lnTo>
                  <a:lnTo>
                    <a:pt x="7728" y="1310"/>
                  </a:lnTo>
                  <a:lnTo>
                    <a:pt x="7737" y="1299"/>
                  </a:lnTo>
                  <a:lnTo>
                    <a:pt x="7749" y="1289"/>
                  </a:lnTo>
                  <a:lnTo>
                    <a:pt x="7761" y="1280"/>
                  </a:lnTo>
                  <a:lnTo>
                    <a:pt x="7769" y="1276"/>
                  </a:lnTo>
                  <a:lnTo>
                    <a:pt x="7777" y="1272"/>
                  </a:lnTo>
                  <a:lnTo>
                    <a:pt x="7786" y="1270"/>
                  </a:lnTo>
                  <a:lnTo>
                    <a:pt x="7796" y="1267"/>
                  </a:lnTo>
                  <a:lnTo>
                    <a:pt x="7805" y="1266"/>
                  </a:lnTo>
                  <a:lnTo>
                    <a:pt x="7816" y="1265"/>
                  </a:lnTo>
                  <a:lnTo>
                    <a:pt x="7827" y="1265"/>
                  </a:lnTo>
                  <a:lnTo>
                    <a:pt x="7839" y="1265"/>
                  </a:lnTo>
                  <a:lnTo>
                    <a:pt x="7851" y="1266"/>
                  </a:lnTo>
                  <a:lnTo>
                    <a:pt x="7865" y="1268"/>
                  </a:lnTo>
                  <a:lnTo>
                    <a:pt x="7878" y="1271"/>
                  </a:lnTo>
                  <a:lnTo>
                    <a:pt x="7894" y="1276"/>
                  </a:lnTo>
                  <a:lnTo>
                    <a:pt x="7899" y="1283"/>
                  </a:lnTo>
                  <a:lnTo>
                    <a:pt x="7906" y="1289"/>
                  </a:lnTo>
                  <a:lnTo>
                    <a:pt x="7911" y="1293"/>
                  </a:lnTo>
                  <a:lnTo>
                    <a:pt x="7917" y="1297"/>
                  </a:lnTo>
                  <a:lnTo>
                    <a:pt x="7924" y="1300"/>
                  </a:lnTo>
                  <a:lnTo>
                    <a:pt x="7929" y="1301"/>
                  </a:lnTo>
                  <a:lnTo>
                    <a:pt x="7935" y="1302"/>
                  </a:lnTo>
                  <a:lnTo>
                    <a:pt x="7941" y="1302"/>
                  </a:lnTo>
                  <a:lnTo>
                    <a:pt x="7952" y="1301"/>
                  </a:lnTo>
                  <a:lnTo>
                    <a:pt x="7965" y="1297"/>
                  </a:lnTo>
                  <a:lnTo>
                    <a:pt x="7977" y="1292"/>
                  </a:lnTo>
                  <a:lnTo>
                    <a:pt x="7989" y="1286"/>
                  </a:lnTo>
                  <a:lnTo>
                    <a:pt x="8001" y="1280"/>
                  </a:lnTo>
                  <a:lnTo>
                    <a:pt x="8012" y="1275"/>
                  </a:lnTo>
                  <a:lnTo>
                    <a:pt x="8025" y="1270"/>
                  </a:lnTo>
                  <a:lnTo>
                    <a:pt x="8037" y="1267"/>
                  </a:lnTo>
                  <a:lnTo>
                    <a:pt x="8044" y="1267"/>
                  </a:lnTo>
                  <a:lnTo>
                    <a:pt x="8049" y="1267"/>
                  </a:lnTo>
                  <a:lnTo>
                    <a:pt x="8056" y="1268"/>
                  </a:lnTo>
                  <a:lnTo>
                    <a:pt x="8061" y="1270"/>
                  </a:lnTo>
                  <a:lnTo>
                    <a:pt x="8068" y="1272"/>
                  </a:lnTo>
                  <a:lnTo>
                    <a:pt x="8073" y="1276"/>
                  </a:lnTo>
                  <a:lnTo>
                    <a:pt x="8080" y="1280"/>
                  </a:lnTo>
                  <a:lnTo>
                    <a:pt x="8087" y="1287"/>
                  </a:lnTo>
                  <a:lnTo>
                    <a:pt x="8093" y="1293"/>
                  </a:lnTo>
                  <a:lnTo>
                    <a:pt x="8098" y="1300"/>
                  </a:lnTo>
                  <a:lnTo>
                    <a:pt x="8100" y="1308"/>
                  </a:lnTo>
                  <a:lnTo>
                    <a:pt x="8102" y="1317"/>
                  </a:lnTo>
                  <a:lnTo>
                    <a:pt x="8102" y="1336"/>
                  </a:lnTo>
                  <a:lnTo>
                    <a:pt x="8101" y="1355"/>
                  </a:lnTo>
                  <a:lnTo>
                    <a:pt x="8101" y="1363"/>
                  </a:lnTo>
                  <a:lnTo>
                    <a:pt x="8102" y="1372"/>
                  </a:lnTo>
                  <a:lnTo>
                    <a:pt x="8103" y="1381"/>
                  </a:lnTo>
                  <a:lnTo>
                    <a:pt x="8106" y="1389"/>
                  </a:lnTo>
                  <a:lnTo>
                    <a:pt x="8110" y="1397"/>
                  </a:lnTo>
                  <a:lnTo>
                    <a:pt x="8116" y="1403"/>
                  </a:lnTo>
                  <a:lnTo>
                    <a:pt x="8125" y="1409"/>
                  </a:lnTo>
                  <a:lnTo>
                    <a:pt x="8136" y="1413"/>
                  </a:lnTo>
                  <a:lnTo>
                    <a:pt x="8143" y="1401"/>
                  </a:lnTo>
                  <a:lnTo>
                    <a:pt x="8151" y="1390"/>
                  </a:lnTo>
                  <a:lnTo>
                    <a:pt x="8159" y="1380"/>
                  </a:lnTo>
                  <a:lnTo>
                    <a:pt x="8168" y="1371"/>
                  </a:lnTo>
                  <a:lnTo>
                    <a:pt x="8177" y="1363"/>
                  </a:lnTo>
                  <a:lnTo>
                    <a:pt x="8187" y="1356"/>
                  </a:lnTo>
                  <a:lnTo>
                    <a:pt x="8197" y="1350"/>
                  </a:lnTo>
                  <a:lnTo>
                    <a:pt x="8207" y="1345"/>
                  </a:lnTo>
                  <a:lnTo>
                    <a:pt x="8217" y="1340"/>
                  </a:lnTo>
                  <a:lnTo>
                    <a:pt x="8228" y="1337"/>
                  </a:lnTo>
                  <a:lnTo>
                    <a:pt x="8239" y="1335"/>
                  </a:lnTo>
                  <a:lnTo>
                    <a:pt x="8251" y="1333"/>
                  </a:lnTo>
                  <a:lnTo>
                    <a:pt x="8263" y="1332"/>
                  </a:lnTo>
                  <a:lnTo>
                    <a:pt x="8276" y="1333"/>
                  </a:lnTo>
                  <a:lnTo>
                    <a:pt x="8289" y="1335"/>
                  </a:lnTo>
                  <a:lnTo>
                    <a:pt x="8302" y="1337"/>
                  </a:lnTo>
                  <a:lnTo>
                    <a:pt x="8313" y="1347"/>
                  </a:lnTo>
                  <a:lnTo>
                    <a:pt x="8322" y="1358"/>
                  </a:lnTo>
                  <a:lnTo>
                    <a:pt x="8332" y="1370"/>
                  </a:lnTo>
                  <a:lnTo>
                    <a:pt x="8340" y="1382"/>
                  </a:lnTo>
                  <a:lnTo>
                    <a:pt x="8357" y="1409"/>
                  </a:lnTo>
                  <a:lnTo>
                    <a:pt x="8373" y="1437"/>
                  </a:lnTo>
                  <a:lnTo>
                    <a:pt x="8382" y="1451"/>
                  </a:lnTo>
                  <a:lnTo>
                    <a:pt x="8392" y="1463"/>
                  </a:lnTo>
                  <a:lnTo>
                    <a:pt x="8401" y="1477"/>
                  </a:lnTo>
                  <a:lnTo>
                    <a:pt x="8412" y="1489"/>
                  </a:lnTo>
                  <a:lnTo>
                    <a:pt x="8424" y="1500"/>
                  </a:lnTo>
                  <a:lnTo>
                    <a:pt x="8437" y="1510"/>
                  </a:lnTo>
                  <a:lnTo>
                    <a:pt x="8451" y="1520"/>
                  </a:lnTo>
                  <a:lnTo>
                    <a:pt x="8467" y="1528"/>
                  </a:lnTo>
                  <a:lnTo>
                    <a:pt x="8493" y="1508"/>
                  </a:lnTo>
                  <a:lnTo>
                    <a:pt x="8520" y="1484"/>
                  </a:lnTo>
                  <a:lnTo>
                    <a:pt x="8548" y="1459"/>
                  </a:lnTo>
                  <a:lnTo>
                    <a:pt x="8574" y="1430"/>
                  </a:lnTo>
                  <a:lnTo>
                    <a:pt x="8602" y="1400"/>
                  </a:lnTo>
                  <a:lnTo>
                    <a:pt x="8629" y="1369"/>
                  </a:lnTo>
                  <a:lnTo>
                    <a:pt x="8655" y="1336"/>
                  </a:lnTo>
                  <a:lnTo>
                    <a:pt x="8681" y="1303"/>
                  </a:lnTo>
                  <a:lnTo>
                    <a:pt x="8705" y="1271"/>
                  </a:lnTo>
                  <a:lnTo>
                    <a:pt x="8729" y="1239"/>
                  </a:lnTo>
                  <a:lnTo>
                    <a:pt x="8751" y="1208"/>
                  </a:lnTo>
                  <a:lnTo>
                    <a:pt x="8771" y="1179"/>
                  </a:lnTo>
                  <a:lnTo>
                    <a:pt x="8804" y="1127"/>
                  </a:lnTo>
                  <a:lnTo>
                    <a:pt x="8829" y="1088"/>
                  </a:lnTo>
                  <a:lnTo>
                    <a:pt x="8833" y="1073"/>
                  </a:lnTo>
                  <a:lnTo>
                    <a:pt x="8851" y="1042"/>
                  </a:lnTo>
                  <a:lnTo>
                    <a:pt x="8875" y="998"/>
                  </a:lnTo>
                  <a:lnTo>
                    <a:pt x="8903" y="948"/>
                  </a:lnTo>
                  <a:lnTo>
                    <a:pt x="8930" y="895"/>
                  </a:lnTo>
                  <a:lnTo>
                    <a:pt x="8942" y="871"/>
                  </a:lnTo>
                  <a:lnTo>
                    <a:pt x="8952" y="847"/>
                  </a:lnTo>
                  <a:lnTo>
                    <a:pt x="8960" y="826"/>
                  </a:lnTo>
                  <a:lnTo>
                    <a:pt x="8964" y="807"/>
                  </a:lnTo>
                  <a:lnTo>
                    <a:pt x="8966" y="800"/>
                  </a:lnTo>
                  <a:lnTo>
                    <a:pt x="8966" y="793"/>
                  </a:lnTo>
                  <a:lnTo>
                    <a:pt x="8966" y="787"/>
                  </a:lnTo>
                  <a:lnTo>
                    <a:pt x="8965" y="783"/>
                  </a:lnTo>
                  <a:lnTo>
                    <a:pt x="8963" y="780"/>
                  </a:lnTo>
                  <a:lnTo>
                    <a:pt x="8960" y="778"/>
                  </a:lnTo>
                  <a:lnTo>
                    <a:pt x="8955" y="778"/>
                  </a:lnTo>
                  <a:lnTo>
                    <a:pt x="8950" y="780"/>
                  </a:lnTo>
                  <a:lnTo>
                    <a:pt x="8926" y="817"/>
                  </a:lnTo>
                  <a:lnTo>
                    <a:pt x="8903" y="854"/>
                  </a:lnTo>
                  <a:lnTo>
                    <a:pt x="8881" y="892"/>
                  </a:lnTo>
                  <a:lnTo>
                    <a:pt x="8858" y="928"/>
                  </a:lnTo>
                  <a:lnTo>
                    <a:pt x="8834" y="965"/>
                  </a:lnTo>
                  <a:lnTo>
                    <a:pt x="8812" y="1000"/>
                  </a:lnTo>
                  <a:lnTo>
                    <a:pt x="8789" y="1037"/>
                  </a:lnTo>
                  <a:lnTo>
                    <a:pt x="8765" y="1073"/>
                  </a:lnTo>
                  <a:lnTo>
                    <a:pt x="8754" y="1088"/>
                  </a:lnTo>
                  <a:lnTo>
                    <a:pt x="8724" y="1136"/>
                  </a:lnTo>
                  <a:lnTo>
                    <a:pt x="8693" y="1182"/>
                  </a:lnTo>
                  <a:lnTo>
                    <a:pt x="8677" y="1206"/>
                  </a:lnTo>
                  <a:lnTo>
                    <a:pt x="8660" y="1228"/>
                  </a:lnTo>
                  <a:lnTo>
                    <a:pt x="8642" y="1250"/>
                  </a:lnTo>
                  <a:lnTo>
                    <a:pt x="8624" y="1272"/>
                  </a:lnTo>
                  <a:lnTo>
                    <a:pt x="8605" y="1293"/>
                  </a:lnTo>
                  <a:lnTo>
                    <a:pt x="8585" y="1316"/>
                  </a:lnTo>
                  <a:lnTo>
                    <a:pt x="8564" y="1337"/>
                  </a:lnTo>
                  <a:lnTo>
                    <a:pt x="8542" y="1357"/>
                  </a:lnTo>
                  <a:lnTo>
                    <a:pt x="8519" y="1378"/>
                  </a:lnTo>
                  <a:lnTo>
                    <a:pt x="8494" y="1399"/>
                  </a:lnTo>
                  <a:lnTo>
                    <a:pt x="8468" y="1419"/>
                  </a:lnTo>
                  <a:lnTo>
                    <a:pt x="8440" y="1439"/>
                  </a:lnTo>
                  <a:lnTo>
                    <a:pt x="8437" y="1430"/>
                  </a:lnTo>
                  <a:lnTo>
                    <a:pt x="8431" y="1421"/>
                  </a:lnTo>
                  <a:lnTo>
                    <a:pt x="8427" y="1413"/>
                  </a:lnTo>
                  <a:lnTo>
                    <a:pt x="8421" y="1406"/>
                  </a:lnTo>
                  <a:lnTo>
                    <a:pt x="8418" y="1398"/>
                  </a:lnTo>
                  <a:lnTo>
                    <a:pt x="8414" y="1388"/>
                  </a:lnTo>
                  <a:lnTo>
                    <a:pt x="8414" y="1383"/>
                  </a:lnTo>
                  <a:lnTo>
                    <a:pt x="8414" y="1378"/>
                  </a:lnTo>
                  <a:lnTo>
                    <a:pt x="8416" y="1371"/>
                  </a:lnTo>
                  <a:lnTo>
                    <a:pt x="8417" y="1366"/>
                  </a:lnTo>
                  <a:lnTo>
                    <a:pt x="8438" y="1353"/>
                  </a:lnTo>
                  <a:lnTo>
                    <a:pt x="8460" y="1339"/>
                  </a:lnTo>
                  <a:lnTo>
                    <a:pt x="8480" y="1323"/>
                  </a:lnTo>
                  <a:lnTo>
                    <a:pt x="8500" y="1307"/>
                  </a:lnTo>
                  <a:lnTo>
                    <a:pt x="8520" y="1290"/>
                  </a:lnTo>
                  <a:lnTo>
                    <a:pt x="8539" y="1271"/>
                  </a:lnTo>
                  <a:lnTo>
                    <a:pt x="8558" y="1252"/>
                  </a:lnTo>
                  <a:lnTo>
                    <a:pt x="8575" y="1232"/>
                  </a:lnTo>
                  <a:lnTo>
                    <a:pt x="8609" y="1194"/>
                  </a:lnTo>
                  <a:lnTo>
                    <a:pt x="8639" y="1156"/>
                  </a:lnTo>
                  <a:lnTo>
                    <a:pt x="8665" y="1119"/>
                  </a:lnTo>
                  <a:lnTo>
                    <a:pt x="8689" y="1088"/>
                  </a:lnTo>
                  <a:lnTo>
                    <a:pt x="8699" y="1073"/>
                  </a:lnTo>
                  <a:lnTo>
                    <a:pt x="8734" y="1022"/>
                  </a:lnTo>
                  <a:lnTo>
                    <a:pt x="8769" y="970"/>
                  </a:lnTo>
                  <a:lnTo>
                    <a:pt x="8801" y="918"/>
                  </a:lnTo>
                  <a:lnTo>
                    <a:pt x="8831" y="865"/>
                  </a:lnTo>
                  <a:lnTo>
                    <a:pt x="8860" y="811"/>
                  </a:lnTo>
                  <a:lnTo>
                    <a:pt x="8888" y="755"/>
                  </a:lnTo>
                  <a:lnTo>
                    <a:pt x="8913" y="697"/>
                  </a:lnTo>
                  <a:lnTo>
                    <a:pt x="8937" y="640"/>
                  </a:lnTo>
                  <a:lnTo>
                    <a:pt x="8973" y="640"/>
                  </a:lnTo>
                  <a:lnTo>
                    <a:pt x="8970" y="665"/>
                  </a:lnTo>
                  <a:lnTo>
                    <a:pt x="8967" y="686"/>
                  </a:lnTo>
                  <a:lnTo>
                    <a:pt x="8967" y="695"/>
                  </a:lnTo>
                  <a:lnTo>
                    <a:pt x="8969" y="703"/>
                  </a:lnTo>
                  <a:lnTo>
                    <a:pt x="8969" y="710"/>
                  </a:lnTo>
                  <a:lnTo>
                    <a:pt x="8971" y="715"/>
                  </a:lnTo>
                  <a:lnTo>
                    <a:pt x="8972" y="718"/>
                  </a:lnTo>
                  <a:lnTo>
                    <a:pt x="8974" y="721"/>
                  </a:lnTo>
                  <a:lnTo>
                    <a:pt x="8976" y="722"/>
                  </a:lnTo>
                  <a:lnTo>
                    <a:pt x="8980" y="721"/>
                  </a:lnTo>
                  <a:lnTo>
                    <a:pt x="8983" y="718"/>
                  </a:lnTo>
                  <a:lnTo>
                    <a:pt x="8986" y="715"/>
                  </a:lnTo>
                  <a:lnTo>
                    <a:pt x="8991" y="710"/>
                  </a:lnTo>
                  <a:lnTo>
                    <a:pt x="8995" y="703"/>
                  </a:lnTo>
                  <a:lnTo>
                    <a:pt x="9007" y="682"/>
                  </a:lnTo>
                  <a:lnTo>
                    <a:pt x="9019" y="661"/>
                  </a:lnTo>
                  <a:lnTo>
                    <a:pt x="9027" y="639"/>
                  </a:lnTo>
                  <a:lnTo>
                    <a:pt x="9036" y="616"/>
                  </a:lnTo>
                  <a:lnTo>
                    <a:pt x="9044" y="594"/>
                  </a:lnTo>
                  <a:lnTo>
                    <a:pt x="9052" y="571"/>
                  </a:lnTo>
                  <a:lnTo>
                    <a:pt x="9057" y="548"/>
                  </a:lnTo>
                  <a:lnTo>
                    <a:pt x="9064" y="524"/>
                  </a:lnTo>
                  <a:lnTo>
                    <a:pt x="9073" y="477"/>
                  </a:lnTo>
                  <a:lnTo>
                    <a:pt x="9080" y="429"/>
                  </a:lnTo>
                  <a:lnTo>
                    <a:pt x="9085" y="381"/>
                  </a:lnTo>
                  <a:lnTo>
                    <a:pt x="9090" y="336"/>
                  </a:lnTo>
                  <a:lnTo>
                    <a:pt x="9127" y="322"/>
                  </a:lnTo>
                  <a:lnTo>
                    <a:pt x="9126" y="351"/>
                  </a:lnTo>
                  <a:lnTo>
                    <a:pt x="9125" y="384"/>
                  </a:lnTo>
                  <a:lnTo>
                    <a:pt x="9122" y="420"/>
                  </a:lnTo>
                  <a:lnTo>
                    <a:pt x="9117" y="459"/>
                  </a:lnTo>
                  <a:lnTo>
                    <a:pt x="9113" y="500"/>
                  </a:lnTo>
                  <a:lnTo>
                    <a:pt x="9106" y="543"/>
                  </a:lnTo>
                  <a:lnTo>
                    <a:pt x="9097" y="590"/>
                  </a:lnTo>
                  <a:lnTo>
                    <a:pt x="9087" y="637"/>
                  </a:lnTo>
                  <a:lnTo>
                    <a:pt x="9076" y="687"/>
                  </a:lnTo>
                  <a:lnTo>
                    <a:pt x="9063" y="740"/>
                  </a:lnTo>
                  <a:lnTo>
                    <a:pt x="9047" y="793"/>
                  </a:lnTo>
                  <a:lnTo>
                    <a:pt x="9030" y="847"/>
                  </a:lnTo>
                  <a:lnTo>
                    <a:pt x="9011" y="903"/>
                  </a:lnTo>
                  <a:lnTo>
                    <a:pt x="8989" y="958"/>
                  </a:lnTo>
                  <a:lnTo>
                    <a:pt x="8964" y="1016"/>
                  </a:lnTo>
                  <a:lnTo>
                    <a:pt x="8937" y="1073"/>
                  </a:lnTo>
                  <a:lnTo>
                    <a:pt x="8930" y="1091"/>
                  </a:lnTo>
                  <a:lnTo>
                    <a:pt x="8928" y="1098"/>
                  </a:lnTo>
                  <a:lnTo>
                    <a:pt x="8924" y="1107"/>
                  </a:lnTo>
                  <a:lnTo>
                    <a:pt x="8920" y="1118"/>
                  </a:lnTo>
                  <a:lnTo>
                    <a:pt x="8914" y="1131"/>
                  </a:lnTo>
                  <a:lnTo>
                    <a:pt x="8909" y="1146"/>
                  </a:lnTo>
                  <a:lnTo>
                    <a:pt x="8901" y="1162"/>
                  </a:lnTo>
                  <a:lnTo>
                    <a:pt x="8893" y="1180"/>
                  </a:lnTo>
                  <a:lnTo>
                    <a:pt x="8884" y="1200"/>
                  </a:lnTo>
                  <a:lnTo>
                    <a:pt x="8922" y="1210"/>
                  </a:lnTo>
                  <a:lnTo>
                    <a:pt x="8940" y="1212"/>
                  </a:lnTo>
                  <a:lnTo>
                    <a:pt x="8956" y="1216"/>
                  </a:lnTo>
                  <a:lnTo>
                    <a:pt x="8971" y="1220"/>
                  </a:lnTo>
                  <a:lnTo>
                    <a:pt x="8984" y="1226"/>
                  </a:lnTo>
                  <a:lnTo>
                    <a:pt x="8996" y="1234"/>
                  </a:lnTo>
                  <a:lnTo>
                    <a:pt x="9006" y="1241"/>
                  </a:lnTo>
                  <a:lnTo>
                    <a:pt x="9015" y="1251"/>
                  </a:lnTo>
                  <a:lnTo>
                    <a:pt x="9024" y="1261"/>
                  </a:lnTo>
                  <a:lnTo>
                    <a:pt x="9031" y="1272"/>
                  </a:lnTo>
                  <a:lnTo>
                    <a:pt x="9037" y="1283"/>
                  </a:lnTo>
                  <a:lnTo>
                    <a:pt x="9042" y="1296"/>
                  </a:lnTo>
                  <a:lnTo>
                    <a:pt x="9047" y="1308"/>
                  </a:lnTo>
                  <a:lnTo>
                    <a:pt x="9055" y="1335"/>
                  </a:lnTo>
                  <a:lnTo>
                    <a:pt x="9062" y="1362"/>
                  </a:lnTo>
                  <a:lnTo>
                    <a:pt x="9069" y="1389"/>
                  </a:lnTo>
                  <a:lnTo>
                    <a:pt x="9076" y="1416"/>
                  </a:lnTo>
                  <a:lnTo>
                    <a:pt x="9081" y="1429"/>
                  </a:lnTo>
                  <a:lnTo>
                    <a:pt x="9085" y="1441"/>
                  </a:lnTo>
                  <a:lnTo>
                    <a:pt x="9091" y="1452"/>
                  </a:lnTo>
                  <a:lnTo>
                    <a:pt x="9097" y="1463"/>
                  </a:lnTo>
                  <a:lnTo>
                    <a:pt x="9105" y="1474"/>
                  </a:lnTo>
                  <a:lnTo>
                    <a:pt x="9113" y="1483"/>
                  </a:lnTo>
                  <a:lnTo>
                    <a:pt x="9123" y="1492"/>
                  </a:lnTo>
                  <a:lnTo>
                    <a:pt x="9133" y="1499"/>
                  </a:lnTo>
                  <a:lnTo>
                    <a:pt x="9145" y="1505"/>
                  </a:lnTo>
                  <a:lnTo>
                    <a:pt x="9158" y="1511"/>
                  </a:lnTo>
                  <a:lnTo>
                    <a:pt x="9174" y="1514"/>
                  </a:lnTo>
                  <a:lnTo>
                    <a:pt x="9191" y="1517"/>
                  </a:lnTo>
                  <a:lnTo>
                    <a:pt x="9204" y="1522"/>
                  </a:lnTo>
                  <a:lnTo>
                    <a:pt x="9217" y="1530"/>
                  </a:lnTo>
                  <a:lnTo>
                    <a:pt x="9231" y="1539"/>
                  </a:lnTo>
                  <a:lnTo>
                    <a:pt x="9246" y="1548"/>
                  </a:lnTo>
                  <a:lnTo>
                    <a:pt x="9276" y="1571"/>
                  </a:lnTo>
                  <a:lnTo>
                    <a:pt x="9308" y="1598"/>
                  </a:lnTo>
                  <a:lnTo>
                    <a:pt x="9341" y="1628"/>
                  </a:lnTo>
                  <a:lnTo>
                    <a:pt x="9374" y="1660"/>
                  </a:lnTo>
                  <a:lnTo>
                    <a:pt x="9407" y="1694"/>
                  </a:lnTo>
                  <a:lnTo>
                    <a:pt x="9439" y="1730"/>
                  </a:lnTo>
                  <a:lnTo>
                    <a:pt x="9471" y="1765"/>
                  </a:lnTo>
                  <a:lnTo>
                    <a:pt x="9501" y="1802"/>
                  </a:lnTo>
                  <a:lnTo>
                    <a:pt x="9528" y="1836"/>
                  </a:lnTo>
                  <a:lnTo>
                    <a:pt x="9554" y="1870"/>
                  </a:lnTo>
                  <a:lnTo>
                    <a:pt x="9576" y="1901"/>
                  </a:lnTo>
                  <a:lnTo>
                    <a:pt x="9594" y="1928"/>
                  </a:lnTo>
                  <a:lnTo>
                    <a:pt x="9608" y="1954"/>
                  </a:lnTo>
                  <a:lnTo>
                    <a:pt x="9618" y="1974"/>
                  </a:lnTo>
                  <a:lnTo>
                    <a:pt x="9637" y="2016"/>
                  </a:lnTo>
                  <a:lnTo>
                    <a:pt x="9657" y="2060"/>
                  </a:lnTo>
                  <a:lnTo>
                    <a:pt x="9667" y="2083"/>
                  </a:lnTo>
                  <a:lnTo>
                    <a:pt x="9676" y="2106"/>
                  </a:lnTo>
                  <a:lnTo>
                    <a:pt x="9684" y="2129"/>
                  </a:lnTo>
                  <a:lnTo>
                    <a:pt x="9689" y="2154"/>
                  </a:lnTo>
                  <a:lnTo>
                    <a:pt x="9693" y="2166"/>
                  </a:lnTo>
                  <a:lnTo>
                    <a:pt x="9694" y="2179"/>
                  </a:lnTo>
                  <a:lnTo>
                    <a:pt x="9695" y="2191"/>
                  </a:lnTo>
                  <a:lnTo>
                    <a:pt x="9696" y="2205"/>
                  </a:lnTo>
                  <a:lnTo>
                    <a:pt x="9696" y="2218"/>
                  </a:lnTo>
                  <a:lnTo>
                    <a:pt x="9695" y="2231"/>
                  </a:lnTo>
                  <a:lnTo>
                    <a:pt x="9694" y="2245"/>
                  </a:lnTo>
                  <a:lnTo>
                    <a:pt x="9692" y="2259"/>
                  </a:lnTo>
                  <a:lnTo>
                    <a:pt x="9688" y="2272"/>
                  </a:lnTo>
                  <a:lnTo>
                    <a:pt x="9684" y="2287"/>
                  </a:lnTo>
                  <a:lnTo>
                    <a:pt x="9679" y="2302"/>
                  </a:lnTo>
                  <a:lnTo>
                    <a:pt x="9673" y="2317"/>
                  </a:lnTo>
                  <a:lnTo>
                    <a:pt x="9666" y="2332"/>
                  </a:lnTo>
                  <a:lnTo>
                    <a:pt x="9658" y="2348"/>
                  </a:lnTo>
                  <a:lnTo>
                    <a:pt x="9648" y="2364"/>
                  </a:lnTo>
                  <a:lnTo>
                    <a:pt x="9638" y="2380"/>
                  </a:lnTo>
                  <a:lnTo>
                    <a:pt x="9633" y="2397"/>
                  </a:lnTo>
                  <a:lnTo>
                    <a:pt x="9629" y="2412"/>
                  </a:lnTo>
                  <a:lnTo>
                    <a:pt x="9626" y="2429"/>
                  </a:lnTo>
                  <a:lnTo>
                    <a:pt x="9624" y="2446"/>
                  </a:lnTo>
                  <a:lnTo>
                    <a:pt x="9623" y="2462"/>
                  </a:lnTo>
                  <a:lnTo>
                    <a:pt x="9622" y="2479"/>
                  </a:lnTo>
                  <a:lnTo>
                    <a:pt x="9622" y="2496"/>
                  </a:lnTo>
                  <a:lnTo>
                    <a:pt x="9620" y="2512"/>
                  </a:lnTo>
                  <a:lnTo>
                    <a:pt x="9620" y="2526"/>
                  </a:lnTo>
                  <a:lnTo>
                    <a:pt x="9629" y="2583"/>
                  </a:lnTo>
                  <a:lnTo>
                    <a:pt x="9637" y="2642"/>
                  </a:lnTo>
                  <a:lnTo>
                    <a:pt x="9639" y="2671"/>
                  </a:lnTo>
                  <a:lnTo>
                    <a:pt x="9642" y="2700"/>
                  </a:lnTo>
                  <a:lnTo>
                    <a:pt x="9643" y="2729"/>
                  </a:lnTo>
                  <a:lnTo>
                    <a:pt x="9644" y="2756"/>
                  </a:lnTo>
                  <a:lnTo>
                    <a:pt x="9643" y="2784"/>
                  </a:lnTo>
                  <a:lnTo>
                    <a:pt x="9640" y="2812"/>
                  </a:lnTo>
                  <a:lnTo>
                    <a:pt x="9637" y="2840"/>
                  </a:lnTo>
                  <a:lnTo>
                    <a:pt x="9633" y="2865"/>
                  </a:lnTo>
                  <a:lnTo>
                    <a:pt x="9626" y="2892"/>
                  </a:lnTo>
                  <a:lnTo>
                    <a:pt x="9618" y="2916"/>
                  </a:lnTo>
                  <a:lnTo>
                    <a:pt x="9609" y="2941"/>
                  </a:lnTo>
                  <a:lnTo>
                    <a:pt x="9597" y="2964"/>
                  </a:lnTo>
                  <a:lnTo>
                    <a:pt x="9595" y="2988"/>
                  </a:lnTo>
                  <a:lnTo>
                    <a:pt x="9590" y="3012"/>
                  </a:lnTo>
                  <a:lnTo>
                    <a:pt x="9585" y="3034"/>
                  </a:lnTo>
                  <a:lnTo>
                    <a:pt x="9578" y="3055"/>
                  </a:lnTo>
                  <a:lnTo>
                    <a:pt x="9569" y="3076"/>
                  </a:lnTo>
                  <a:lnTo>
                    <a:pt x="9561" y="3096"/>
                  </a:lnTo>
                  <a:lnTo>
                    <a:pt x="9549" y="3116"/>
                  </a:lnTo>
                  <a:lnTo>
                    <a:pt x="9537" y="3134"/>
                  </a:lnTo>
                  <a:lnTo>
                    <a:pt x="9525" y="3152"/>
                  </a:lnTo>
                  <a:lnTo>
                    <a:pt x="9512" y="3169"/>
                  </a:lnTo>
                  <a:lnTo>
                    <a:pt x="9496" y="3185"/>
                  </a:lnTo>
                  <a:lnTo>
                    <a:pt x="9481" y="3200"/>
                  </a:lnTo>
                  <a:lnTo>
                    <a:pt x="9464" y="3215"/>
                  </a:lnTo>
                  <a:lnTo>
                    <a:pt x="9447" y="3229"/>
                  </a:lnTo>
                  <a:lnTo>
                    <a:pt x="9429" y="3243"/>
                  </a:lnTo>
                  <a:lnTo>
                    <a:pt x="9411" y="3255"/>
                  </a:lnTo>
                  <a:lnTo>
                    <a:pt x="9391" y="3267"/>
                  </a:lnTo>
                  <a:lnTo>
                    <a:pt x="9371" y="3277"/>
                  </a:lnTo>
                  <a:lnTo>
                    <a:pt x="9351" y="3288"/>
                  </a:lnTo>
                  <a:lnTo>
                    <a:pt x="9330" y="3297"/>
                  </a:lnTo>
                  <a:lnTo>
                    <a:pt x="9308" y="3306"/>
                  </a:lnTo>
                  <a:lnTo>
                    <a:pt x="9286" y="3315"/>
                  </a:lnTo>
                  <a:lnTo>
                    <a:pt x="9264" y="3321"/>
                  </a:lnTo>
                  <a:lnTo>
                    <a:pt x="9242" y="3328"/>
                  </a:lnTo>
                  <a:lnTo>
                    <a:pt x="9220" y="3335"/>
                  </a:lnTo>
                  <a:lnTo>
                    <a:pt x="9196" y="3339"/>
                  </a:lnTo>
                  <a:lnTo>
                    <a:pt x="9174" y="3345"/>
                  </a:lnTo>
                  <a:lnTo>
                    <a:pt x="9151" y="3348"/>
                  </a:lnTo>
                  <a:lnTo>
                    <a:pt x="9127" y="3351"/>
                  </a:lnTo>
                  <a:lnTo>
                    <a:pt x="9104" y="3355"/>
                  </a:lnTo>
                  <a:lnTo>
                    <a:pt x="9082" y="3356"/>
                  </a:lnTo>
                  <a:lnTo>
                    <a:pt x="9059" y="3357"/>
                  </a:lnTo>
                  <a:lnTo>
                    <a:pt x="9013" y="3366"/>
                  </a:lnTo>
                  <a:lnTo>
                    <a:pt x="8970" y="3373"/>
                  </a:lnTo>
                  <a:lnTo>
                    <a:pt x="8929" y="3378"/>
                  </a:lnTo>
                  <a:lnTo>
                    <a:pt x="8891" y="3381"/>
                  </a:lnTo>
                  <a:lnTo>
                    <a:pt x="8854" y="3384"/>
                  </a:lnTo>
                  <a:lnTo>
                    <a:pt x="8820" y="3385"/>
                  </a:lnTo>
                  <a:lnTo>
                    <a:pt x="8789" y="3384"/>
                  </a:lnTo>
                  <a:lnTo>
                    <a:pt x="8760" y="3382"/>
                  </a:lnTo>
                  <a:lnTo>
                    <a:pt x="8734" y="3380"/>
                  </a:lnTo>
                  <a:lnTo>
                    <a:pt x="8711" y="3378"/>
                  </a:lnTo>
                  <a:lnTo>
                    <a:pt x="8690" y="3374"/>
                  </a:lnTo>
                  <a:lnTo>
                    <a:pt x="8672" y="3370"/>
                  </a:lnTo>
                  <a:lnTo>
                    <a:pt x="8658" y="3366"/>
                  </a:lnTo>
                  <a:lnTo>
                    <a:pt x="8645" y="3361"/>
                  </a:lnTo>
                  <a:lnTo>
                    <a:pt x="8637" y="3357"/>
                  </a:lnTo>
                  <a:lnTo>
                    <a:pt x="8630" y="3353"/>
                  </a:lnTo>
                  <a:lnTo>
                    <a:pt x="8630" y="3377"/>
                  </a:lnTo>
                  <a:lnTo>
                    <a:pt x="8628" y="3400"/>
                  </a:lnTo>
                  <a:lnTo>
                    <a:pt x="8625" y="3424"/>
                  </a:lnTo>
                  <a:lnTo>
                    <a:pt x="8623" y="3446"/>
                  </a:lnTo>
                  <a:lnTo>
                    <a:pt x="8619" y="3468"/>
                  </a:lnTo>
                  <a:lnTo>
                    <a:pt x="8613" y="3489"/>
                  </a:lnTo>
                  <a:lnTo>
                    <a:pt x="8608" y="3510"/>
                  </a:lnTo>
                  <a:lnTo>
                    <a:pt x="8600" y="3531"/>
                  </a:lnTo>
                  <a:lnTo>
                    <a:pt x="8591" y="3552"/>
                  </a:lnTo>
                  <a:lnTo>
                    <a:pt x="8580" y="3575"/>
                  </a:lnTo>
                  <a:lnTo>
                    <a:pt x="8569" y="3596"/>
                  </a:lnTo>
                  <a:lnTo>
                    <a:pt x="8554" y="3618"/>
                  </a:lnTo>
                  <a:lnTo>
                    <a:pt x="8539" y="3641"/>
                  </a:lnTo>
                  <a:lnTo>
                    <a:pt x="8521" y="3664"/>
                  </a:lnTo>
                  <a:lnTo>
                    <a:pt x="8502" y="3689"/>
                  </a:lnTo>
                  <a:lnTo>
                    <a:pt x="8480" y="3714"/>
                  </a:lnTo>
                  <a:lnTo>
                    <a:pt x="8488" y="3742"/>
                  </a:lnTo>
                  <a:lnTo>
                    <a:pt x="8494" y="3770"/>
                  </a:lnTo>
                  <a:lnTo>
                    <a:pt x="8500" y="3797"/>
                  </a:lnTo>
                  <a:lnTo>
                    <a:pt x="8505" y="3823"/>
                  </a:lnTo>
                  <a:lnTo>
                    <a:pt x="8510" y="3850"/>
                  </a:lnTo>
                  <a:lnTo>
                    <a:pt x="8513" y="3876"/>
                  </a:lnTo>
                  <a:lnTo>
                    <a:pt x="8517" y="3902"/>
                  </a:lnTo>
                  <a:lnTo>
                    <a:pt x="8519" y="3928"/>
                  </a:lnTo>
                  <a:lnTo>
                    <a:pt x="8522" y="3976"/>
                  </a:lnTo>
                  <a:lnTo>
                    <a:pt x="8523" y="4024"/>
                  </a:lnTo>
                  <a:lnTo>
                    <a:pt x="8523" y="4068"/>
                  </a:lnTo>
                  <a:lnTo>
                    <a:pt x="8521" y="4111"/>
                  </a:lnTo>
                  <a:lnTo>
                    <a:pt x="8518" y="4150"/>
                  </a:lnTo>
                  <a:lnTo>
                    <a:pt x="8514" y="4185"/>
                  </a:lnTo>
                  <a:lnTo>
                    <a:pt x="8510" y="4217"/>
                  </a:lnTo>
                  <a:lnTo>
                    <a:pt x="8507" y="4245"/>
                  </a:lnTo>
                  <a:lnTo>
                    <a:pt x="8498" y="4288"/>
                  </a:lnTo>
                  <a:lnTo>
                    <a:pt x="8493" y="4312"/>
                  </a:lnTo>
                  <a:lnTo>
                    <a:pt x="8482" y="4350"/>
                  </a:lnTo>
                  <a:lnTo>
                    <a:pt x="8470" y="4388"/>
                  </a:lnTo>
                  <a:lnTo>
                    <a:pt x="8457" y="4425"/>
                  </a:lnTo>
                  <a:lnTo>
                    <a:pt x="8442" y="4460"/>
                  </a:lnTo>
                  <a:lnTo>
                    <a:pt x="8427" y="4495"/>
                  </a:lnTo>
                  <a:lnTo>
                    <a:pt x="8411" y="4528"/>
                  </a:lnTo>
                  <a:lnTo>
                    <a:pt x="8393" y="4560"/>
                  </a:lnTo>
                  <a:lnTo>
                    <a:pt x="8376" y="4591"/>
                  </a:lnTo>
                  <a:lnTo>
                    <a:pt x="8357" y="4622"/>
                  </a:lnTo>
                  <a:lnTo>
                    <a:pt x="8337" y="4651"/>
                  </a:lnTo>
                  <a:lnTo>
                    <a:pt x="8317" y="4680"/>
                  </a:lnTo>
                  <a:lnTo>
                    <a:pt x="8296" y="4708"/>
                  </a:lnTo>
                  <a:lnTo>
                    <a:pt x="8275" y="4736"/>
                  </a:lnTo>
                  <a:lnTo>
                    <a:pt x="8252" y="4761"/>
                  </a:lnTo>
                  <a:lnTo>
                    <a:pt x="8229" y="4787"/>
                  </a:lnTo>
                  <a:lnTo>
                    <a:pt x="8206" y="4811"/>
                  </a:lnTo>
                  <a:lnTo>
                    <a:pt x="8182" y="4834"/>
                  </a:lnTo>
                  <a:lnTo>
                    <a:pt x="8159" y="4858"/>
                  </a:lnTo>
                  <a:lnTo>
                    <a:pt x="8135" y="4880"/>
                  </a:lnTo>
                  <a:lnTo>
                    <a:pt x="8110" y="4902"/>
                  </a:lnTo>
                  <a:lnTo>
                    <a:pt x="8085" y="4923"/>
                  </a:lnTo>
                  <a:lnTo>
                    <a:pt x="8060" y="4943"/>
                  </a:lnTo>
                  <a:lnTo>
                    <a:pt x="8035" y="4963"/>
                  </a:lnTo>
                  <a:lnTo>
                    <a:pt x="8009" y="4982"/>
                  </a:lnTo>
                  <a:lnTo>
                    <a:pt x="7959" y="5019"/>
                  </a:lnTo>
                  <a:lnTo>
                    <a:pt x="7909" y="5053"/>
                  </a:lnTo>
                  <a:lnTo>
                    <a:pt x="7859" y="5085"/>
                  </a:lnTo>
                  <a:lnTo>
                    <a:pt x="7810" y="5116"/>
                  </a:lnTo>
                  <a:lnTo>
                    <a:pt x="7805" y="5120"/>
                  </a:lnTo>
                  <a:lnTo>
                    <a:pt x="7789" y="5129"/>
                  </a:lnTo>
                  <a:lnTo>
                    <a:pt x="7763" y="5141"/>
                  </a:lnTo>
                  <a:lnTo>
                    <a:pt x="7725" y="5156"/>
                  </a:lnTo>
                  <a:lnTo>
                    <a:pt x="7701" y="5165"/>
                  </a:lnTo>
                  <a:lnTo>
                    <a:pt x="7675" y="5173"/>
                  </a:lnTo>
                  <a:lnTo>
                    <a:pt x="7646" y="5182"/>
                  </a:lnTo>
                  <a:lnTo>
                    <a:pt x="7614" y="5190"/>
                  </a:lnTo>
                  <a:lnTo>
                    <a:pt x="7578" y="5197"/>
                  </a:lnTo>
                  <a:lnTo>
                    <a:pt x="7540" y="5205"/>
                  </a:lnTo>
                  <a:lnTo>
                    <a:pt x="7499" y="5212"/>
                  </a:lnTo>
                  <a:lnTo>
                    <a:pt x="7454" y="5217"/>
                  </a:lnTo>
                  <a:lnTo>
                    <a:pt x="7448" y="5241"/>
                  </a:lnTo>
                  <a:lnTo>
                    <a:pt x="7445" y="5260"/>
                  </a:lnTo>
                  <a:lnTo>
                    <a:pt x="7440" y="5276"/>
                  </a:lnTo>
                  <a:lnTo>
                    <a:pt x="7436" y="5292"/>
                  </a:lnTo>
                  <a:lnTo>
                    <a:pt x="7433" y="5299"/>
                  </a:lnTo>
                  <a:lnTo>
                    <a:pt x="7429" y="5307"/>
                  </a:lnTo>
                  <a:lnTo>
                    <a:pt x="7425" y="5315"/>
                  </a:lnTo>
                  <a:lnTo>
                    <a:pt x="7419" y="5324"/>
                  </a:lnTo>
                  <a:lnTo>
                    <a:pt x="7405" y="5343"/>
                  </a:lnTo>
                  <a:lnTo>
                    <a:pt x="7386" y="5365"/>
                  </a:lnTo>
                  <a:lnTo>
                    <a:pt x="7371" y="5373"/>
                  </a:lnTo>
                  <a:lnTo>
                    <a:pt x="7357" y="5377"/>
                  </a:lnTo>
                  <a:lnTo>
                    <a:pt x="7345" y="5379"/>
                  </a:lnTo>
                  <a:lnTo>
                    <a:pt x="7333" y="5380"/>
                  </a:lnTo>
                  <a:lnTo>
                    <a:pt x="7322" y="5379"/>
                  </a:lnTo>
                  <a:lnTo>
                    <a:pt x="7309" y="5376"/>
                  </a:lnTo>
                  <a:lnTo>
                    <a:pt x="7296" y="5372"/>
                  </a:lnTo>
                  <a:lnTo>
                    <a:pt x="7282" y="5365"/>
                  </a:lnTo>
                  <a:lnTo>
                    <a:pt x="7275" y="5362"/>
                  </a:lnTo>
                  <a:lnTo>
                    <a:pt x="7268" y="5357"/>
                  </a:lnTo>
                  <a:lnTo>
                    <a:pt x="7262" y="5352"/>
                  </a:lnTo>
                  <a:lnTo>
                    <a:pt x="7255" y="5347"/>
                  </a:lnTo>
                  <a:lnTo>
                    <a:pt x="7245" y="5335"/>
                  </a:lnTo>
                  <a:lnTo>
                    <a:pt x="7235" y="5322"/>
                  </a:lnTo>
                  <a:lnTo>
                    <a:pt x="7219" y="5293"/>
                  </a:lnTo>
                  <a:lnTo>
                    <a:pt x="7205" y="5263"/>
                  </a:lnTo>
                  <a:lnTo>
                    <a:pt x="7198" y="5250"/>
                  </a:lnTo>
                  <a:lnTo>
                    <a:pt x="7191" y="5237"/>
                  </a:lnTo>
                  <a:lnTo>
                    <a:pt x="7182" y="5226"/>
                  </a:lnTo>
                  <a:lnTo>
                    <a:pt x="7173" y="5217"/>
                  </a:lnTo>
                  <a:lnTo>
                    <a:pt x="7167" y="5214"/>
                  </a:lnTo>
                  <a:lnTo>
                    <a:pt x="7162" y="5212"/>
                  </a:lnTo>
                  <a:lnTo>
                    <a:pt x="7156" y="5210"/>
                  </a:lnTo>
                  <a:lnTo>
                    <a:pt x="7150" y="5208"/>
                  </a:lnTo>
                  <a:lnTo>
                    <a:pt x="7143" y="5207"/>
                  </a:lnTo>
                  <a:lnTo>
                    <a:pt x="7135" y="5208"/>
                  </a:lnTo>
                  <a:lnTo>
                    <a:pt x="7127" y="5210"/>
                  </a:lnTo>
                  <a:lnTo>
                    <a:pt x="7118" y="5213"/>
                  </a:lnTo>
                  <a:lnTo>
                    <a:pt x="7086" y="5214"/>
                  </a:lnTo>
                  <a:lnTo>
                    <a:pt x="7053" y="5216"/>
                  </a:lnTo>
                  <a:lnTo>
                    <a:pt x="7017" y="5216"/>
                  </a:lnTo>
                  <a:lnTo>
                    <a:pt x="6982" y="5214"/>
                  </a:lnTo>
                  <a:lnTo>
                    <a:pt x="6964" y="5213"/>
                  </a:lnTo>
                  <a:lnTo>
                    <a:pt x="6947" y="5211"/>
                  </a:lnTo>
                  <a:lnTo>
                    <a:pt x="6930" y="5207"/>
                  </a:lnTo>
                  <a:lnTo>
                    <a:pt x="6913" y="5203"/>
                  </a:lnTo>
                  <a:lnTo>
                    <a:pt x="6897" y="5197"/>
                  </a:lnTo>
                  <a:lnTo>
                    <a:pt x="6882" y="5191"/>
                  </a:lnTo>
                  <a:lnTo>
                    <a:pt x="6866" y="5184"/>
                  </a:lnTo>
                  <a:lnTo>
                    <a:pt x="6852" y="5175"/>
                  </a:lnTo>
                  <a:lnTo>
                    <a:pt x="6843" y="5183"/>
                  </a:lnTo>
                  <a:lnTo>
                    <a:pt x="6834" y="5190"/>
                  </a:lnTo>
                  <a:lnTo>
                    <a:pt x="6823" y="5195"/>
                  </a:lnTo>
                  <a:lnTo>
                    <a:pt x="6813" y="5201"/>
                  </a:lnTo>
                  <a:lnTo>
                    <a:pt x="6802" y="5204"/>
                  </a:lnTo>
                  <a:lnTo>
                    <a:pt x="6790" y="5207"/>
                  </a:lnTo>
                  <a:lnTo>
                    <a:pt x="6779" y="5210"/>
                  </a:lnTo>
                  <a:lnTo>
                    <a:pt x="6767" y="5211"/>
                  </a:lnTo>
                  <a:lnTo>
                    <a:pt x="6755" y="5211"/>
                  </a:lnTo>
                  <a:lnTo>
                    <a:pt x="6744" y="5211"/>
                  </a:lnTo>
                  <a:lnTo>
                    <a:pt x="6733" y="5210"/>
                  </a:lnTo>
                  <a:lnTo>
                    <a:pt x="6723" y="5207"/>
                  </a:lnTo>
                  <a:lnTo>
                    <a:pt x="6713" y="5205"/>
                  </a:lnTo>
                  <a:lnTo>
                    <a:pt x="6704" y="5202"/>
                  </a:lnTo>
                  <a:lnTo>
                    <a:pt x="6695" y="5198"/>
                  </a:lnTo>
                  <a:lnTo>
                    <a:pt x="6688" y="5194"/>
                  </a:lnTo>
                  <a:lnTo>
                    <a:pt x="6624" y="5217"/>
                  </a:lnTo>
                  <a:lnTo>
                    <a:pt x="6563" y="5238"/>
                  </a:lnTo>
                  <a:lnTo>
                    <a:pt x="6503" y="5255"/>
                  </a:lnTo>
                  <a:lnTo>
                    <a:pt x="6445" y="5271"/>
                  </a:lnTo>
                  <a:lnTo>
                    <a:pt x="6390" y="5283"/>
                  </a:lnTo>
                  <a:lnTo>
                    <a:pt x="6335" y="5293"/>
                  </a:lnTo>
                  <a:lnTo>
                    <a:pt x="6282" y="5301"/>
                  </a:lnTo>
                  <a:lnTo>
                    <a:pt x="6231" y="5306"/>
                  </a:lnTo>
                  <a:lnTo>
                    <a:pt x="6182" y="5309"/>
                  </a:lnTo>
                  <a:lnTo>
                    <a:pt x="6134" y="5312"/>
                  </a:lnTo>
                  <a:lnTo>
                    <a:pt x="6089" y="5312"/>
                  </a:lnTo>
                  <a:lnTo>
                    <a:pt x="6045" y="5312"/>
                  </a:lnTo>
                  <a:lnTo>
                    <a:pt x="6001" y="5309"/>
                  </a:lnTo>
                  <a:lnTo>
                    <a:pt x="5960" y="5306"/>
                  </a:lnTo>
                  <a:lnTo>
                    <a:pt x="5920" y="5302"/>
                  </a:lnTo>
                  <a:lnTo>
                    <a:pt x="5881" y="5297"/>
                  </a:lnTo>
                  <a:lnTo>
                    <a:pt x="5741" y="5275"/>
                  </a:lnTo>
                  <a:lnTo>
                    <a:pt x="5621" y="5255"/>
                  </a:lnTo>
                  <a:lnTo>
                    <a:pt x="5595" y="5251"/>
                  </a:lnTo>
                  <a:lnTo>
                    <a:pt x="5569" y="5248"/>
                  </a:lnTo>
                  <a:lnTo>
                    <a:pt x="5545" y="5247"/>
                  </a:lnTo>
                  <a:lnTo>
                    <a:pt x="5521" y="5247"/>
                  </a:lnTo>
                  <a:lnTo>
                    <a:pt x="5499" y="5248"/>
                  </a:lnTo>
                  <a:lnTo>
                    <a:pt x="5477" y="5252"/>
                  </a:lnTo>
                  <a:lnTo>
                    <a:pt x="5457" y="5256"/>
                  </a:lnTo>
                  <a:lnTo>
                    <a:pt x="5438" y="5263"/>
                  </a:lnTo>
                  <a:lnTo>
                    <a:pt x="5424" y="5268"/>
                  </a:lnTo>
                  <a:lnTo>
                    <a:pt x="5386" y="5283"/>
                  </a:lnTo>
                  <a:lnTo>
                    <a:pt x="5330" y="5302"/>
                  </a:lnTo>
                  <a:lnTo>
                    <a:pt x="5263" y="5324"/>
                  </a:lnTo>
                  <a:lnTo>
                    <a:pt x="5227" y="5335"/>
                  </a:lnTo>
                  <a:lnTo>
                    <a:pt x="5189" y="5345"/>
                  </a:lnTo>
                  <a:lnTo>
                    <a:pt x="5152" y="5354"/>
                  </a:lnTo>
                  <a:lnTo>
                    <a:pt x="5116" y="5362"/>
                  </a:lnTo>
                  <a:lnTo>
                    <a:pt x="5081" y="5367"/>
                  </a:lnTo>
                  <a:lnTo>
                    <a:pt x="5047" y="5372"/>
                  </a:lnTo>
                  <a:lnTo>
                    <a:pt x="5032" y="5372"/>
                  </a:lnTo>
                  <a:lnTo>
                    <a:pt x="5017" y="5373"/>
                  </a:lnTo>
                  <a:lnTo>
                    <a:pt x="5004" y="5372"/>
                  </a:lnTo>
                  <a:lnTo>
                    <a:pt x="4991" y="5371"/>
                  </a:lnTo>
                  <a:lnTo>
                    <a:pt x="4974" y="5368"/>
                  </a:lnTo>
                  <a:lnTo>
                    <a:pt x="4957" y="5368"/>
                  </a:lnTo>
                  <a:lnTo>
                    <a:pt x="4940" y="5369"/>
                  </a:lnTo>
                  <a:lnTo>
                    <a:pt x="4923" y="5371"/>
                  </a:lnTo>
                  <a:lnTo>
                    <a:pt x="4905" y="5374"/>
                  </a:lnTo>
                  <a:lnTo>
                    <a:pt x="4888" y="5377"/>
                  </a:lnTo>
                  <a:lnTo>
                    <a:pt x="4871" y="5383"/>
                  </a:lnTo>
                  <a:lnTo>
                    <a:pt x="4854" y="5388"/>
                  </a:lnTo>
                  <a:lnTo>
                    <a:pt x="4836" y="5395"/>
                  </a:lnTo>
                  <a:lnTo>
                    <a:pt x="4820" y="5402"/>
                  </a:lnTo>
                  <a:lnTo>
                    <a:pt x="4803" y="5409"/>
                  </a:lnTo>
                  <a:lnTo>
                    <a:pt x="4786" y="5418"/>
                  </a:lnTo>
                  <a:lnTo>
                    <a:pt x="4770" y="5427"/>
                  </a:lnTo>
                  <a:lnTo>
                    <a:pt x="4753" y="5437"/>
                  </a:lnTo>
                  <a:lnTo>
                    <a:pt x="4737" y="5448"/>
                  </a:lnTo>
                  <a:lnTo>
                    <a:pt x="4722" y="5458"/>
                  </a:lnTo>
                  <a:lnTo>
                    <a:pt x="4691" y="5482"/>
                  </a:lnTo>
                  <a:lnTo>
                    <a:pt x="4663" y="5506"/>
                  </a:lnTo>
                  <a:lnTo>
                    <a:pt x="4636" y="5530"/>
                  </a:lnTo>
                  <a:lnTo>
                    <a:pt x="4611" y="5556"/>
                  </a:lnTo>
                  <a:lnTo>
                    <a:pt x="4589" y="5581"/>
                  </a:lnTo>
                  <a:lnTo>
                    <a:pt x="4570" y="5607"/>
                  </a:lnTo>
                  <a:lnTo>
                    <a:pt x="4553" y="5630"/>
                  </a:lnTo>
                  <a:lnTo>
                    <a:pt x="4539" y="5654"/>
                  </a:lnTo>
                  <a:lnTo>
                    <a:pt x="4526" y="5679"/>
                  </a:lnTo>
                  <a:lnTo>
                    <a:pt x="4516" y="5706"/>
                  </a:lnTo>
                  <a:lnTo>
                    <a:pt x="4506" y="5733"/>
                  </a:lnTo>
                  <a:lnTo>
                    <a:pt x="4499" y="5761"/>
                  </a:lnTo>
                  <a:lnTo>
                    <a:pt x="4484" y="5819"/>
                  </a:lnTo>
                  <a:lnTo>
                    <a:pt x="4471" y="5877"/>
                  </a:lnTo>
                  <a:lnTo>
                    <a:pt x="4464" y="5906"/>
                  </a:lnTo>
                  <a:lnTo>
                    <a:pt x="4458" y="5934"/>
                  </a:lnTo>
                  <a:lnTo>
                    <a:pt x="4449" y="5963"/>
                  </a:lnTo>
                  <a:lnTo>
                    <a:pt x="4440" y="5991"/>
                  </a:lnTo>
                  <a:lnTo>
                    <a:pt x="4429" y="6018"/>
                  </a:lnTo>
                  <a:lnTo>
                    <a:pt x="4416" y="6043"/>
                  </a:lnTo>
                  <a:lnTo>
                    <a:pt x="4410" y="6056"/>
                  </a:lnTo>
                  <a:lnTo>
                    <a:pt x="4402" y="6069"/>
                  </a:lnTo>
                  <a:lnTo>
                    <a:pt x="4394" y="6081"/>
                  </a:lnTo>
                  <a:lnTo>
                    <a:pt x="4385" y="6092"/>
                  </a:lnTo>
                  <a:lnTo>
                    <a:pt x="4369" y="6112"/>
                  </a:lnTo>
                  <a:lnTo>
                    <a:pt x="4352" y="6129"/>
                  </a:lnTo>
                  <a:lnTo>
                    <a:pt x="4334" y="6144"/>
                  </a:lnTo>
                  <a:lnTo>
                    <a:pt x="4315" y="6157"/>
                  </a:lnTo>
                  <a:lnTo>
                    <a:pt x="4297" y="6169"/>
                  </a:lnTo>
                  <a:lnTo>
                    <a:pt x="4278" y="6179"/>
                  </a:lnTo>
                  <a:lnTo>
                    <a:pt x="4257" y="6186"/>
                  </a:lnTo>
                  <a:lnTo>
                    <a:pt x="4237" y="6192"/>
                  </a:lnTo>
                  <a:lnTo>
                    <a:pt x="4215" y="6197"/>
                  </a:lnTo>
                  <a:lnTo>
                    <a:pt x="4194" y="6201"/>
                  </a:lnTo>
                  <a:lnTo>
                    <a:pt x="4172" y="6202"/>
                  </a:lnTo>
                  <a:lnTo>
                    <a:pt x="4150" y="6203"/>
                  </a:lnTo>
                  <a:lnTo>
                    <a:pt x="4128" y="6203"/>
                  </a:lnTo>
                  <a:lnTo>
                    <a:pt x="4106" y="6201"/>
                  </a:lnTo>
                  <a:lnTo>
                    <a:pt x="4082" y="6199"/>
                  </a:lnTo>
                  <a:lnTo>
                    <a:pt x="4059" y="6195"/>
                  </a:lnTo>
                  <a:lnTo>
                    <a:pt x="4012" y="6187"/>
                  </a:lnTo>
                  <a:lnTo>
                    <a:pt x="3964" y="6176"/>
                  </a:lnTo>
                  <a:lnTo>
                    <a:pt x="3917" y="6164"/>
                  </a:lnTo>
                  <a:lnTo>
                    <a:pt x="3869" y="6151"/>
                  </a:lnTo>
                  <a:lnTo>
                    <a:pt x="3822" y="6138"/>
                  </a:lnTo>
                  <a:lnTo>
                    <a:pt x="3776" y="6125"/>
                  </a:lnTo>
                  <a:lnTo>
                    <a:pt x="3729" y="6114"/>
                  </a:lnTo>
                  <a:lnTo>
                    <a:pt x="3685" y="6105"/>
                  </a:lnTo>
                  <a:lnTo>
                    <a:pt x="3664" y="6102"/>
                  </a:lnTo>
                  <a:lnTo>
                    <a:pt x="3642" y="6099"/>
                  </a:lnTo>
                  <a:lnTo>
                    <a:pt x="3621" y="6096"/>
                  </a:lnTo>
                  <a:lnTo>
                    <a:pt x="3599" y="6095"/>
                  </a:lnTo>
                  <a:lnTo>
                    <a:pt x="3578" y="6095"/>
                  </a:lnTo>
                  <a:lnTo>
                    <a:pt x="3558" y="6098"/>
                  </a:lnTo>
                  <a:lnTo>
                    <a:pt x="3548" y="6100"/>
                  </a:lnTo>
                  <a:lnTo>
                    <a:pt x="3539" y="6103"/>
                  </a:lnTo>
                  <a:lnTo>
                    <a:pt x="3530" y="6106"/>
                  </a:lnTo>
                  <a:lnTo>
                    <a:pt x="3521" y="6111"/>
                  </a:lnTo>
                  <a:lnTo>
                    <a:pt x="3490" y="6126"/>
                  </a:lnTo>
                  <a:lnTo>
                    <a:pt x="3458" y="6141"/>
                  </a:lnTo>
                  <a:lnTo>
                    <a:pt x="3427" y="6153"/>
                  </a:lnTo>
                  <a:lnTo>
                    <a:pt x="3395" y="6164"/>
                  </a:lnTo>
                  <a:lnTo>
                    <a:pt x="3363" y="6173"/>
                  </a:lnTo>
                  <a:lnTo>
                    <a:pt x="3330" y="6181"/>
                  </a:lnTo>
                  <a:lnTo>
                    <a:pt x="3298" y="6186"/>
                  </a:lnTo>
                  <a:lnTo>
                    <a:pt x="3265" y="6191"/>
                  </a:lnTo>
                  <a:lnTo>
                    <a:pt x="3233" y="6193"/>
                  </a:lnTo>
                  <a:lnTo>
                    <a:pt x="3200" y="6194"/>
                  </a:lnTo>
                  <a:lnTo>
                    <a:pt x="3168" y="6194"/>
                  </a:lnTo>
                  <a:lnTo>
                    <a:pt x="3136" y="6192"/>
                  </a:lnTo>
                  <a:lnTo>
                    <a:pt x="3105" y="6189"/>
                  </a:lnTo>
                  <a:lnTo>
                    <a:pt x="3073" y="6183"/>
                  </a:lnTo>
                  <a:lnTo>
                    <a:pt x="3042" y="6176"/>
                  </a:lnTo>
                  <a:lnTo>
                    <a:pt x="3012" y="6167"/>
                  </a:lnTo>
                  <a:lnTo>
                    <a:pt x="2981" y="6159"/>
                  </a:lnTo>
                  <a:lnTo>
                    <a:pt x="2952" y="6146"/>
                  </a:lnTo>
                  <a:lnTo>
                    <a:pt x="2922" y="6134"/>
                  </a:lnTo>
                  <a:lnTo>
                    <a:pt x="2894" y="6120"/>
                  </a:lnTo>
                  <a:lnTo>
                    <a:pt x="2866" y="6103"/>
                  </a:lnTo>
                  <a:lnTo>
                    <a:pt x="2838" y="6086"/>
                  </a:lnTo>
                  <a:lnTo>
                    <a:pt x="2813" y="6066"/>
                  </a:lnTo>
                  <a:lnTo>
                    <a:pt x="2787" y="6046"/>
                  </a:lnTo>
                  <a:lnTo>
                    <a:pt x="2763" y="6024"/>
                  </a:lnTo>
                  <a:lnTo>
                    <a:pt x="2738" y="6001"/>
                  </a:lnTo>
                  <a:lnTo>
                    <a:pt x="2716" y="5977"/>
                  </a:lnTo>
                  <a:lnTo>
                    <a:pt x="2694" y="5950"/>
                  </a:lnTo>
                  <a:lnTo>
                    <a:pt x="2674" y="5922"/>
                  </a:lnTo>
                  <a:lnTo>
                    <a:pt x="2655" y="5893"/>
                  </a:lnTo>
                  <a:lnTo>
                    <a:pt x="2636" y="5863"/>
                  </a:lnTo>
                  <a:lnTo>
                    <a:pt x="2620" y="5831"/>
                  </a:lnTo>
                  <a:lnTo>
                    <a:pt x="2612" y="5817"/>
                  </a:lnTo>
                  <a:lnTo>
                    <a:pt x="2603" y="5803"/>
                  </a:lnTo>
                  <a:lnTo>
                    <a:pt x="2592" y="5791"/>
                  </a:lnTo>
                  <a:lnTo>
                    <a:pt x="2580" y="5779"/>
                  </a:lnTo>
                  <a:lnTo>
                    <a:pt x="2566" y="5768"/>
                  </a:lnTo>
                  <a:lnTo>
                    <a:pt x="2552" y="5757"/>
                  </a:lnTo>
                  <a:lnTo>
                    <a:pt x="2537" y="5746"/>
                  </a:lnTo>
                  <a:lnTo>
                    <a:pt x="2522" y="5735"/>
                  </a:lnTo>
                  <a:lnTo>
                    <a:pt x="2490" y="5713"/>
                  </a:lnTo>
                  <a:lnTo>
                    <a:pt x="2457" y="5691"/>
                  </a:lnTo>
                  <a:lnTo>
                    <a:pt x="2442" y="5679"/>
                  </a:lnTo>
                  <a:lnTo>
                    <a:pt x="2426" y="5666"/>
                  </a:lnTo>
                  <a:lnTo>
                    <a:pt x="2411" y="5652"/>
                  </a:lnTo>
                  <a:lnTo>
                    <a:pt x="2398" y="5638"/>
                  </a:lnTo>
                  <a:lnTo>
                    <a:pt x="2371" y="5607"/>
                  </a:lnTo>
                  <a:lnTo>
                    <a:pt x="2348" y="5576"/>
                  </a:lnTo>
                  <a:lnTo>
                    <a:pt x="2326" y="5547"/>
                  </a:lnTo>
                  <a:lnTo>
                    <a:pt x="2309" y="5518"/>
                  </a:lnTo>
                  <a:lnTo>
                    <a:pt x="2293" y="5491"/>
                  </a:lnTo>
                  <a:lnTo>
                    <a:pt x="2280" y="5466"/>
                  </a:lnTo>
                  <a:lnTo>
                    <a:pt x="2270" y="5442"/>
                  </a:lnTo>
                  <a:lnTo>
                    <a:pt x="2261" y="5420"/>
                  </a:lnTo>
                  <a:lnTo>
                    <a:pt x="2253" y="5400"/>
                  </a:lnTo>
                  <a:lnTo>
                    <a:pt x="2248" y="5382"/>
                  </a:lnTo>
                  <a:lnTo>
                    <a:pt x="2243" y="5366"/>
                  </a:lnTo>
                  <a:lnTo>
                    <a:pt x="2241" y="5354"/>
                  </a:lnTo>
                  <a:lnTo>
                    <a:pt x="2238" y="5335"/>
                  </a:lnTo>
                  <a:lnTo>
                    <a:pt x="2236" y="5328"/>
                  </a:lnTo>
                  <a:lnTo>
                    <a:pt x="2236" y="5311"/>
                  </a:lnTo>
                  <a:lnTo>
                    <a:pt x="2236" y="5293"/>
                  </a:lnTo>
                  <a:lnTo>
                    <a:pt x="2239" y="5275"/>
                  </a:lnTo>
                  <a:lnTo>
                    <a:pt x="2241" y="5258"/>
                  </a:lnTo>
                  <a:lnTo>
                    <a:pt x="2244" y="5242"/>
                  </a:lnTo>
                  <a:lnTo>
                    <a:pt x="2248" y="5226"/>
                  </a:lnTo>
                  <a:lnTo>
                    <a:pt x="2253" y="5212"/>
                  </a:lnTo>
                  <a:lnTo>
                    <a:pt x="2258" y="5197"/>
                  </a:lnTo>
                  <a:lnTo>
                    <a:pt x="2263" y="5183"/>
                  </a:lnTo>
                  <a:lnTo>
                    <a:pt x="2270" y="5170"/>
                  </a:lnTo>
                  <a:lnTo>
                    <a:pt x="2276" y="5157"/>
                  </a:lnTo>
                  <a:lnTo>
                    <a:pt x="2283" y="5144"/>
                  </a:lnTo>
                  <a:lnTo>
                    <a:pt x="2298" y="5121"/>
                  </a:lnTo>
                  <a:lnTo>
                    <a:pt x="2313" y="5100"/>
                  </a:lnTo>
                  <a:lnTo>
                    <a:pt x="2341" y="5062"/>
                  </a:lnTo>
                  <a:lnTo>
                    <a:pt x="2364" y="5031"/>
                  </a:lnTo>
                  <a:lnTo>
                    <a:pt x="2373" y="5016"/>
                  </a:lnTo>
                  <a:lnTo>
                    <a:pt x="2378" y="5005"/>
                  </a:lnTo>
                  <a:lnTo>
                    <a:pt x="2379" y="5000"/>
                  </a:lnTo>
                  <a:lnTo>
                    <a:pt x="2380" y="4994"/>
                  </a:lnTo>
                  <a:lnTo>
                    <a:pt x="2379" y="4989"/>
                  </a:lnTo>
                  <a:lnTo>
                    <a:pt x="2376" y="4984"/>
                  </a:lnTo>
                  <a:lnTo>
                    <a:pt x="2361" y="4993"/>
                  </a:lnTo>
                  <a:lnTo>
                    <a:pt x="2344" y="5003"/>
                  </a:lnTo>
                  <a:lnTo>
                    <a:pt x="2326" y="5012"/>
                  </a:lnTo>
                  <a:lnTo>
                    <a:pt x="2308" y="5021"/>
                  </a:lnTo>
                  <a:lnTo>
                    <a:pt x="2266" y="5039"/>
                  </a:lnTo>
                  <a:lnTo>
                    <a:pt x="2225" y="5055"/>
                  </a:lnTo>
                  <a:lnTo>
                    <a:pt x="2184" y="5071"/>
                  </a:lnTo>
                  <a:lnTo>
                    <a:pt x="2148" y="5085"/>
                  </a:lnTo>
                  <a:lnTo>
                    <a:pt x="2115" y="5097"/>
                  </a:lnTo>
                  <a:lnTo>
                    <a:pt x="2091" y="5106"/>
                  </a:lnTo>
                  <a:lnTo>
                    <a:pt x="1980" y="5144"/>
                  </a:lnTo>
                  <a:lnTo>
                    <a:pt x="1972" y="5142"/>
                  </a:lnTo>
                  <a:lnTo>
                    <a:pt x="1964" y="5137"/>
                  </a:lnTo>
                  <a:lnTo>
                    <a:pt x="1957" y="5132"/>
                  </a:lnTo>
                  <a:lnTo>
                    <a:pt x="1948" y="5124"/>
                  </a:lnTo>
                  <a:lnTo>
                    <a:pt x="1931" y="5105"/>
                  </a:lnTo>
                  <a:lnTo>
                    <a:pt x="1916" y="5085"/>
                  </a:lnTo>
                  <a:lnTo>
                    <a:pt x="1902" y="5064"/>
                  </a:lnTo>
                  <a:lnTo>
                    <a:pt x="1891" y="5046"/>
                  </a:lnTo>
                  <a:lnTo>
                    <a:pt x="1884" y="5034"/>
                  </a:lnTo>
                  <a:lnTo>
                    <a:pt x="1882" y="5030"/>
                  </a:lnTo>
                  <a:lnTo>
                    <a:pt x="1832" y="4912"/>
                  </a:lnTo>
                  <a:lnTo>
                    <a:pt x="1779" y="4800"/>
                  </a:lnTo>
                  <a:lnTo>
                    <a:pt x="1725" y="4695"/>
                  </a:lnTo>
                  <a:lnTo>
                    <a:pt x="1667" y="4595"/>
                  </a:lnTo>
                  <a:lnTo>
                    <a:pt x="1607" y="4499"/>
                  </a:lnTo>
                  <a:lnTo>
                    <a:pt x="1546" y="4409"/>
                  </a:lnTo>
                  <a:lnTo>
                    <a:pt x="1484" y="4324"/>
                  </a:lnTo>
                  <a:lnTo>
                    <a:pt x="1419" y="4243"/>
                  </a:lnTo>
                  <a:lnTo>
                    <a:pt x="1354" y="4165"/>
                  </a:lnTo>
                  <a:lnTo>
                    <a:pt x="1287" y="4092"/>
                  </a:lnTo>
                  <a:lnTo>
                    <a:pt x="1220" y="4022"/>
                  </a:lnTo>
                  <a:lnTo>
                    <a:pt x="1153" y="3954"/>
                  </a:lnTo>
                  <a:lnTo>
                    <a:pt x="1086" y="3891"/>
                  </a:lnTo>
                  <a:lnTo>
                    <a:pt x="1018" y="3829"/>
                  </a:lnTo>
                  <a:lnTo>
                    <a:pt x="952" y="3770"/>
                  </a:lnTo>
                  <a:lnTo>
                    <a:pt x="885" y="3712"/>
                  </a:lnTo>
                  <a:lnTo>
                    <a:pt x="754" y="3602"/>
                  </a:lnTo>
                  <a:lnTo>
                    <a:pt x="630" y="3497"/>
                  </a:lnTo>
                  <a:lnTo>
                    <a:pt x="568" y="3445"/>
                  </a:lnTo>
                  <a:lnTo>
                    <a:pt x="511" y="3392"/>
                  </a:lnTo>
                  <a:lnTo>
                    <a:pt x="455" y="3340"/>
                  </a:lnTo>
                  <a:lnTo>
                    <a:pt x="401" y="3288"/>
                  </a:lnTo>
                  <a:lnTo>
                    <a:pt x="351" y="3235"/>
                  </a:lnTo>
                  <a:lnTo>
                    <a:pt x="303" y="3182"/>
                  </a:lnTo>
                  <a:lnTo>
                    <a:pt x="257" y="3126"/>
                  </a:lnTo>
                  <a:lnTo>
                    <a:pt x="216" y="3068"/>
                  </a:lnTo>
                  <a:lnTo>
                    <a:pt x="179" y="3010"/>
                  </a:lnTo>
                  <a:lnTo>
                    <a:pt x="145" y="2948"/>
                  </a:lnTo>
                  <a:lnTo>
                    <a:pt x="115" y="2885"/>
                  </a:lnTo>
                  <a:lnTo>
                    <a:pt x="91" y="2819"/>
                  </a:lnTo>
                  <a:lnTo>
                    <a:pt x="76" y="2774"/>
                  </a:lnTo>
                  <a:lnTo>
                    <a:pt x="64" y="2728"/>
                  </a:lnTo>
                  <a:lnTo>
                    <a:pt x="53" y="2678"/>
                  </a:lnTo>
                  <a:lnTo>
                    <a:pt x="43" y="2625"/>
                  </a:lnTo>
                  <a:lnTo>
                    <a:pt x="34" y="2571"/>
                  </a:lnTo>
                  <a:lnTo>
                    <a:pt x="27" y="2516"/>
                  </a:lnTo>
                  <a:lnTo>
                    <a:pt x="20" y="2458"/>
                  </a:lnTo>
                  <a:lnTo>
                    <a:pt x="14" y="2399"/>
                  </a:lnTo>
                  <a:lnTo>
                    <a:pt x="10" y="2338"/>
                  </a:lnTo>
                  <a:lnTo>
                    <a:pt x="7" y="2277"/>
                  </a:lnTo>
                  <a:lnTo>
                    <a:pt x="4" y="2215"/>
                  </a:lnTo>
                  <a:lnTo>
                    <a:pt x="2" y="2153"/>
                  </a:lnTo>
                  <a:lnTo>
                    <a:pt x="1" y="2089"/>
                  </a:lnTo>
                  <a:lnTo>
                    <a:pt x="0" y="2026"/>
                  </a:lnTo>
                  <a:lnTo>
                    <a:pt x="0" y="1964"/>
                  </a:lnTo>
                  <a:lnTo>
                    <a:pt x="1" y="1901"/>
                  </a:lnTo>
                  <a:lnTo>
                    <a:pt x="3" y="1777"/>
                  </a:lnTo>
                  <a:lnTo>
                    <a:pt x="8" y="1659"/>
                  </a:lnTo>
                  <a:lnTo>
                    <a:pt x="12" y="1545"/>
                  </a:lnTo>
                  <a:lnTo>
                    <a:pt x="18" y="1440"/>
                  </a:lnTo>
                  <a:lnTo>
                    <a:pt x="27" y="1257"/>
                  </a:lnTo>
                  <a:lnTo>
                    <a:pt x="32" y="1126"/>
                  </a:lnTo>
                  <a:lnTo>
                    <a:pt x="34" y="1058"/>
                  </a:lnTo>
                  <a:lnTo>
                    <a:pt x="39" y="996"/>
                  </a:lnTo>
                  <a:lnTo>
                    <a:pt x="44" y="936"/>
                  </a:lnTo>
                  <a:lnTo>
                    <a:pt x="52" y="879"/>
                  </a:lnTo>
                  <a:lnTo>
                    <a:pt x="60" y="826"/>
                  </a:lnTo>
                  <a:lnTo>
                    <a:pt x="69" y="774"/>
                  </a:lnTo>
                  <a:lnTo>
                    <a:pt x="78" y="725"/>
                  </a:lnTo>
                  <a:lnTo>
                    <a:pt x="86" y="676"/>
                  </a:lnTo>
                  <a:lnTo>
                    <a:pt x="105" y="583"/>
                  </a:lnTo>
                  <a:lnTo>
                    <a:pt x="121" y="490"/>
                  </a:lnTo>
                  <a:lnTo>
                    <a:pt x="128" y="442"/>
                  </a:lnTo>
                  <a:lnTo>
                    <a:pt x="132" y="393"/>
                  </a:lnTo>
                  <a:lnTo>
                    <a:pt x="135" y="343"/>
                  </a:lnTo>
                  <a:lnTo>
                    <a:pt x="138" y="291"/>
                  </a:lnTo>
                  <a:lnTo>
                    <a:pt x="136" y="273"/>
                  </a:lnTo>
                  <a:lnTo>
                    <a:pt x="134" y="251"/>
                  </a:lnTo>
                  <a:lnTo>
                    <a:pt x="132" y="227"/>
                  </a:lnTo>
                  <a:lnTo>
                    <a:pt x="129" y="201"/>
                  </a:lnTo>
                  <a:lnTo>
                    <a:pt x="126" y="176"/>
                  </a:lnTo>
                  <a:lnTo>
                    <a:pt x="125" y="150"/>
                  </a:lnTo>
                  <a:lnTo>
                    <a:pt x="125" y="128"/>
                  </a:lnTo>
                  <a:lnTo>
                    <a:pt x="126" y="108"/>
                  </a:lnTo>
                  <a:lnTo>
                    <a:pt x="130" y="94"/>
                  </a:lnTo>
                  <a:lnTo>
                    <a:pt x="133" y="79"/>
                  </a:lnTo>
                  <a:lnTo>
                    <a:pt x="135" y="65"/>
                  </a:lnTo>
                  <a:lnTo>
                    <a:pt x="138" y="51"/>
                  </a:lnTo>
                  <a:lnTo>
                    <a:pt x="140" y="38"/>
                  </a:lnTo>
                  <a:lnTo>
                    <a:pt x="142" y="25"/>
                  </a:lnTo>
                  <a:lnTo>
                    <a:pt x="144" y="13"/>
                  </a:lnTo>
                  <a:lnTo>
                    <a:pt x="146" y="0"/>
                  </a:lnTo>
                  <a:lnTo>
                    <a:pt x="4403" y="0"/>
                  </a:lnTo>
                  <a:lnTo>
                    <a:pt x="4418" y="35"/>
                  </a:lnTo>
                  <a:lnTo>
                    <a:pt x="4431" y="70"/>
                  </a:lnTo>
                  <a:lnTo>
                    <a:pt x="4444" y="106"/>
                  </a:lnTo>
                  <a:lnTo>
                    <a:pt x="4458" y="140"/>
                  </a:lnTo>
                  <a:lnTo>
                    <a:pt x="4471" y="176"/>
                  </a:lnTo>
                  <a:lnTo>
                    <a:pt x="4485" y="211"/>
                  </a:lnTo>
                  <a:lnTo>
                    <a:pt x="4499" y="247"/>
                  </a:lnTo>
                  <a:lnTo>
                    <a:pt x="4512" y="282"/>
                  </a:lnTo>
                  <a:lnTo>
                    <a:pt x="4518" y="268"/>
                  </a:lnTo>
                  <a:lnTo>
                    <a:pt x="4523" y="256"/>
                  </a:lnTo>
                  <a:lnTo>
                    <a:pt x="4531" y="245"/>
                  </a:lnTo>
                  <a:lnTo>
                    <a:pt x="4539" y="235"/>
                  </a:lnTo>
                  <a:lnTo>
                    <a:pt x="4546" y="225"/>
                  </a:lnTo>
                  <a:lnTo>
                    <a:pt x="4555" y="217"/>
                  </a:lnTo>
                  <a:lnTo>
                    <a:pt x="4565" y="209"/>
                  </a:lnTo>
                  <a:lnTo>
                    <a:pt x="4575" y="202"/>
                  </a:lnTo>
                  <a:lnTo>
                    <a:pt x="4585" y="197"/>
                  </a:lnTo>
                  <a:lnTo>
                    <a:pt x="4595" y="191"/>
                  </a:lnTo>
                  <a:lnTo>
                    <a:pt x="4606" y="187"/>
                  </a:lnTo>
                  <a:lnTo>
                    <a:pt x="4617" y="183"/>
                  </a:lnTo>
                  <a:lnTo>
                    <a:pt x="4641" y="177"/>
                  </a:lnTo>
                  <a:lnTo>
                    <a:pt x="4664" y="171"/>
                  </a:lnTo>
                  <a:lnTo>
                    <a:pt x="4711" y="163"/>
                  </a:lnTo>
                  <a:lnTo>
                    <a:pt x="4753" y="156"/>
                  </a:lnTo>
                  <a:lnTo>
                    <a:pt x="4762" y="154"/>
                  </a:lnTo>
                  <a:lnTo>
                    <a:pt x="4771" y="151"/>
                  </a:lnTo>
                  <a:lnTo>
                    <a:pt x="4780" y="148"/>
                  </a:lnTo>
                  <a:lnTo>
                    <a:pt x="4787" y="145"/>
                  </a:lnTo>
                  <a:lnTo>
                    <a:pt x="4794" y="140"/>
                  </a:lnTo>
                  <a:lnTo>
                    <a:pt x="4801" y="136"/>
                  </a:lnTo>
                  <a:lnTo>
                    <a:pt x="4806" y="130"/>
                  </a:lnTo>
                  <a:lnTo>
                    <a:pt x="4811" y="124"/>
                  </a:lnTo>
                  <a:lnTo>
                    <a:pt x="4816" y="121"/>
                  </a:lnTo>
                  <a:lnTo>
                    <a:pt x="4830" y="114"/>
                  </a:lnTo>
                  <a:lnTo>
                    <a:pt x="4840" y="109"/>
                  </a:lnTo>
                  <a:lnTo>
                    <a:pt x="4851" y="106"/>
                  </a:lnTo>
                  <a:lnTo>
                    <a:pt x="4863" y="102"/>
                  </a:lnTo>
                  <a:lnTo>
                    <a:pt x="4877" y="100"/>
                  </a:lnTo>
                  <a:lnTo>
                    <a:pt x="4892" y="100"/>
                  </a:lnTo>
                  <a:lnTo>
                    <a:pt x="4906" y="101"/>
                  </a:lnTo>
                  <a:lnTo>
                    <a:pt x="4914" y="104"/>
                  </a:lnTo>
                  <a:lnTo>
                    <a:pt x="4922" y="106"/>
                  </a:lnTo>
                  <a:lnTo>
                    <a:pt x="4930" y="109"/>
                  </a:lnTo>
                  <a:lnTo>
                    <a:pt x="4937" y="114"/>
                  </a:lnTo>
                  <a:lnTo>
                    <a:pt x="4945" y="118"/>
                  </a:lnTo>
                  <a:lnTo>
                    <a:pt x="4953" y="124"/>
                  </a:lnTo>
                  <a:lnTo>
                    <a:pt x="4961" y="130"/>
                  </a:lnTo>
                  <a:lnTo>
                    <a:pt x="4968" y="138"/>
                  </a:lnTo>
                  <a:lnTo>
                    <a:pt x="4975" y="147"/>
                  </a:lnTo>
                  <a:lnTo>
                    <a:pt x="4983" y="157"/>
                  </a:lnTo>
                  <a:lnTo>
                    <a:pt x="4990" y="168"/>
                  </a:lnTo>
                  <a:lnTo>
                    <a:pt x="4996" y="180"/>
                  </a:lnTo>
                  <a:lnTo>
                    <a:pt x="5006" y="213"/>
                  </a:lnTo>
                  <a:lnTo>
                    <a:pt x="5014" y="247"/>
                  </a:lnTo>
                  <a:lnTo>
                    <a:pt x="5022" y="281"/>
                  </a:lnTo>
                  <a:lnTo>
                    <a:pt x="5028" y="316"/>
                  </a:lnTo>
                  <a:lnTo>
                    <a:pt x="5033" y="332"/>
                  </a:lnTo>
                  <a:lnTo>
                    <a:pt x="5037" y="349"/>
                  </a:lnTo>
                  <a:lnTo>
                    <a:pt x="5042" y="367"/>
                  </a:lnTo>
                  <a:lnTo>
                    <a:pt x="5048" y="383"/>
                  </a:lnTo>
                  <a:lnTo>
                    <a:pt x="5055" y="400"/>
                  </a:lnTo>
                  <a:lnTo>
                    <a:pt x="5063" y="417"/>
                  </a:lnTo>
                  <a:lnTo>
                    <a:pt x="5073" y="432"/>
                  </a:lnTo>
                  <a:lnTo>
                    <a:pt x="5083" y="449"/>
                  </a:lnTo>
                  <a:lnTo>
                    <a:pt x="5098" y="438"/>
                  </a:lnTo>
                  <a:lnTo>
                    <a:pt x="5114" y="425"/>
                  </a:lnTo>
                  <a:lnTo>
                    <a:pt x="5129" y="415"/>
                  </a:lnTo>
                  <a:lnTo>
                    <a:pt x="5146" y="405"/>
                  </a:lnTo>
                  <a:lnTo>
                    <a:pt x="5155" y="402"/>
                  </a:lnTo>
                  <a:lnTo>
                    <a:pt x="5164" y="399"/>
                  </a:lnTo>
                  <a:lnTo>
                    <a:pt x="5174" y="397"/>
                  </a:lnTo>
                  <a:lnTo>
                    <a:pt x="5183" y="394"/>
                  </a:lnTo>
                  <a:lnTo>
                    <a:pt x="5193" y="393"/>
                  </a:lnTo>
                  <a:lnTo>
                    <a:pt x="5204" y="393"/>
                  </a:lnTo>
                  <a:lnTo>
                    <a:pt x="5214" y="394"/>
                  </a:lnTo>
                  <a:lnTo>
                    <a:pt x="5226" y="395"/>
                  </a:lnTo>
                  <a:lnTo>
                    <a:pt x="5233" y="401"/>
                  </a:lnTo>
                  <a:lnTo>
                    <a:pt x="5239" y="408"/>
                  </a:lnTo>
                  <a:lnTo>
                    <a:pt x="5245" y="415"/>
                  </a:lnTo>
                  <a:lnTo>
                    <a:pt x="5249" y="423"/>
                  </a:lnTo>
                  <a:lnTo>
                    <a:pt x="5253" y="433"/>
                  </a:lnTo>
                  <a:lnTo>
                    <a:pt x="5257" y="443"/>
                  </a:lnTo>
                  <a:lnTo>
                    <a:pt x="5259" y="454"/>
                  </a:lnTo>
                  <a:lnTo>
                    <a:pt x="5262" y="467"/>
                  </a:lnTo>
                  <a:lnTo>
                    <a:pt x="5263" y="479"/>
                  </a:lnTo>
                  <a:lnTo>
                    <a:pt x="5264" y="492"/>
                  </a:lnTo>
                  <a:lnTo>
                    <a:pt x="5264" y="505"/>
                  </a:lnTo>
                  <a:lnTo>
                    <a:pt x="5264" y="520"/>
                  </a:lnTo>
                  <a:lnTo>
                    <a:pt x="5262" y="549"/>
                  </a:lnTo>
                  <a:lnTo>
                    <a:pt x="5258" y="579"/>
                  </a:lnTo>
                  <a:lnTo>
                    <a:pt x="5254" y="610"/>
                  </a:lnTo>
                  <a:lnTo>
                    <a:pt x="5248" y="640"/>
                  </a:lnTo>
                  <a:lnTo>
                    <a:pt x="5241" y="670"/>
                  </a:lnTo>
                  <a:lnTo>
                    <a:pt x="5233" y="699"/>
                  </a:lnTo>
                  <a:lnTo>
                    <a:pt x="5225" y="725"/>
                  </a:lnTo>
                  <a:lnTo>
                    <a:pt x="5216" y="750"/>
                  </a:lnTo>
                  <a:lnTo>
                    <a:pt x="5208" y="772"/>
                  </a:lnTo>
                  <a:lnTo>
                    <a:pt x="5199" y="790"/>
                  </a:lnTo>
                  <a:lnTo>
                    <a:pt x="5197" y="794"/>
                  </a:lnTo>
                  <a:lnTo>
                    <a:pt x="5196" y="798"/>
                  </a:lnTo>
                  <a:lnTo>
                    <a:pt x="5195" y="803"/>
                  </a:lnTo>
                  <a:lnTo>
                    <a:pt x="5195" y="808"/>
                  </a:lnTo>
                  <a:lnTo>
                    <a:pt x="5196" y="817"/>
                  </a:lnTo>
                  <a:lnTo>
                    <a:pt x="5199" y="826"/>
                  </a:lnTo>
                  <a:lnTo>
                    <a:pt x="5204" y="834"/>
                  </a:lnTo>
                  <a:lnTo>
                    <a:pt x="5209" y="842"/>
                  </a:lnTo>
                  <a:lnTo>
                    <a:pt x="5217" y="849"/>
                  </a:lnTo>
                  <a:lnTo>
                    <a:pt x="5226" y="855"/>
                  </a:lnTo>
                  <a:lnTo>
                    <a:pt x="5227" y="855"/>
                  </a:lnTo>
                  <a:lnTo>
                    <a:pt x="5231" y="854"/>
                  </a:lnTo>
                  <a:lnTo>
                    <a:pt x="5233" y="854"/>
                  </a:lnTo>
                  <a:lnTo>
                    <a:pt x="5236" y="855"/>
                  </a:lnTo>
                  <a:lnTo>
                    <a:pt x="5239" y="857"/>
                  </a:lnTo>
                  <a:lnTo>
                    <a:pt x="5243" y="862"/>
                  </a:lnTo>
                  <a:lnTo>
                    <a:pt x="5246" y="867"/>
                  </a:lnTo>
                  <a:lnTo>
                    <a:pt x="5250" y="875"/>
                  </a:lnTo>
                  <a:lnTo>
                    <a:pt x="5254" y="885"/>
                  </a:lnTo>
                  <a:lnTo>
                    <a:pt x="5258" y="898"/>
                  </a:lnTo>
                  <a:lnTo>
                    <a:pt x="5263" y="914"/>
                  </a:lnTo>
                  <a:lnTo>
                    <a:pt x="5266" y="933"/>
                  </a:lnTo>
                  <a:lnTo>
                    <a:pt x="5270" y="956"/>
                  </a:lnTo>
                  <a:lnTo>
                    <a:pt x="5274" y="983"/>
                  </a:lnTo>
                  <a:lnTo>
                    <a:pt x="5282" y="980"/>
                  </a:lnTo>
                  <a:lnTo>
                    <a:pt x="5292" y="979"/>
                  </a:lnTo>
                  <a:lnTo>
                    <a:pt x="5300" y="978"/>
                  </a:lnTo>
                  <a:lnTo>
                    <a:pt x="5310" y="979"/>
                  </a:lnTo>
                  <a:lnTo>
                    <a:pt x="5319" y="980"/>
                  </a:lnTo>
                  <a:lnTo>
                    <a:pt x="5329" y="983"/>
                  </a:lnTo>
                  <a:lnTo>
                    <a:pt x="5339" y="986"/>
                  </a:lnTo>
                  <a:lnTo>
                    <a:pt x="5350" y="990"/>
                  </a:lnTo>
                  <a:lnTo>
                    <a:pt x="5360" y="996"/>
                  </a:lnTo>
                  <a:lnTo>
                    <a:pt x="5370" y="1002"/>
                  </a:lnTo>
                  <a:lnTo>
                    <a:pt x="5380" y="1009"/>
                  </a:lnTo>
                  <a:lnTo>
                    <a:pt x="5392" y="1017"/>
                  </a:lnTo>
                  <a:lnTo>
                    <a:pt x="5402" y="1027"/>
                  </a:lnTo>
                  <a:lnTo>
                    <a:pt x="5412" y="1038"/>
                  </a:lnTo>
                  <a:lnTo>
                    <a:pt x="5422" y="1049"/>
                  </a:lnTo>
                  <a:lnTo>
                    <a:pt x="5432" y="1063"/>
                  </a:lnTo>
                  <a:lnTo>
                    <a:pt x="5461" y="1096"/>
                  </a:lnTo>
                  <a:lnTo>
                    <a:pt x="5476" y="1113"/>
                  </a:lnTo>
                  <a:lnTo>
                    <a:pt x="5490" y="1130"/>
                  </a:lnTo>
                  <a:lnTo>
                    <a:pt x="5504" y="1148"/>
                  </a:lnTo>
                  <a:lnTo>
                    <a:pt x="5517" y="1167"/>
                  </a:lnTo>
                  <a:lnTo>
                    <a:pt x="5529" y="1188"/>
                  </a:lnTo>
                  <a:lnTo>
                    <a:pt x="5540" y="1209"/>
                  </a:lnTo>
                  <a:lnTo>
                    <a:pt x="5553" y="1231"/>
                  </a:lnTo>
                  <a:lnTo>
                    <a:pt x="5564" y="1254"/>
                  </a:lnTo>
                  <a:lnTo>
                    <a:pt x="5586" y="1302"/>
                  </a:lnTo>
                  <a:lnTo>
                    <a:pt x="5609" y="1353"/>
                  </a:lnTo>
                  <a:lnTo>
                    <a:pt x="5633" y="1407"/>
                  </a:lnTo>
                  <a:lnTo>
                    <a:pt x="5657" y="1463"/>
                  </a:lnTo>
                  <a:lnTo>
                    <a:pt x="5650" y="1452"/>
                  </a:lnTo>
                  <a:lnTo>
                    <a:pt x="5645" y="1442"/>
                  </a:lnTo>
                  <a:lnTo>
                    <a:pt x="5641" y="1432"/>
                  </a:lnTo>
                  <a:lnTo>
                    <a:pt x="5640" y="1426"/>
                  </a:lnTo>
                  <a:lnTo>
                    <a:pt x="5641" y="1419"/>
                  </a:lnTo>
                  <a:lnTo>
                    <a:pt x="5644" y="1414"/>
                  </a:lnTo>
                  <a:lnTo>
                    <a:pt x="5647" y="1411"/>
                  </a:lnTo>
                  <a:lnTo>
                    <a:pt x="5651" y="1409"/>
                  </a:lnTo>
                  <a:lnTo>
                    <a:pt x="5658" y="1409"/>
                  </a:lnTo>
                  <a:lnTo>
                    <a:pt x="5666" y="1411"/>
                  </a:lnTo>
                  <a:lnTo>
                    <a:pt x="5675" y="1414"/>
                  </a:lnTo>
                  <a:lnTo>
                    <a:pt x="5684" y="1419"/>
                  </a:lnTo>
                  <a:lnTo>
                    <a:pt x="5695" y="1426"/>
                  </a:lnTo>
                  <a:lnTo>
                    <a:pt x="5706" y="1434"/>
                  </a:lnTo>
                  <a:lnTo>
                    <a:pt x="5718" y="1444"/>
                  </a:lnTo>
                  <a:lnTo>
                    <a:pt x="5730" y="1456"/>
                  </a:lnTo>
                  <a:lnTo>
                    <a:pt x="5747" y="1472"/>
                  </a:lnTo>
                  <a:lnTo>
                    <a:pt x="5765" y="1487"/>
                  </a:lnTo>
                  <a:lnTo>
                    <a:pt x="5781" y="1500"/>
                  </a:lnTo>
                  <a:lnTo>
                    <a:pt x="5800" y="1511"/>
                  </a:lnTo>
                  <a:lnTo>
                    <a:pt x="5818" y="1521"/>
                  </a:lnTo>
                  <a:lnTo>
                    <a:pt x="5837" y="1530"/>
                  </a:lnTo>
                  <a:lnTo>
                    <a:pt x="5856" y="1538"/>
                  </a:lnTo>
                  <a:lnTo>
                    <a:pt x="5875" y="1543"/>
                  </a:lnTo>
                  <a:lnTo>
                    <a:pt x="5895" y="1548"/>
                  </a:lnTo>
                  <a:lnTo>
                    <a:pt x="5913" y="1551"/>
                  </a:lnTo>
                  <a:lnTo>
                    <a:pt x="5932" y="1554"/>
                  </a:lnTo>
                  <a:lnTo>
                    <a:pt x="5951" y="1555"/>
                  </a:lnTo>
                  <a:lnTo>
                    <a:pt x="5970" y="1555"/>
                  </a:lnTo>
                  <a:lnTo>
                    <a:pt x="5989" y="1554"/>
                  </a:lnTo>
                  <a:lnTo>
                    <a:pt x="6007" y="1553"/>
                  </a:lnTo>
                  <a:lnTo>
                    <a:pt x="6025" y="1551"/>
                  </a:lnTo>
                  <a:lnTo>
                    <a:pt x="6042" y="1548"/>
                  </a:lnTo>
                  <a:lnTo>
                    <a:pt x="6059" y="1543"/>
                  </a:lnTo>
                  <a:lnTo>
                    <a:pt x="6076" y="1538"/>
                  </a:lnTo>
                  <a:lnTo>
                    <a:pt x="6091" y="1532"/>
                  </a:lnTo>
                  <a:lnTo>
                    <a:pt x="6106" y="1527"/>
                  </a:lnTo>
                  <a:lnTo>
                    <a:pt x="6120" y="1520"/>
                  </a:lnTo>
                  <a:lnTo>
                    <a:pt x="6133" y="1512"/>
                  </a:lnTo>
                  <a:lnTo>
                    <a:pt x="6144" y="1504"/>
                  </a:lnTo>
                  <a:lnTo>
                    <a:pt x="6156" y="1497"/>
                  </a:lnTo>
                  <a:lnTo>
                    <a:pt x="6166" y="1488"/>
                  </a:lnTo>
                  <a:lnTo>
                    <a:pt x="6174" y="1479"/>
                  </a:lnTo>
                  <a:lnTo>
                    <a:pt x="6182" y="1470"/>
                  </a:lnTo>
                  <a:lnTo>
                    <a:pt x="6188" y="1460"/>
                  </a:lnTo>
                  <a:lnTo>
                    <a:pt x="6193" y="1451"/>
                  </a:lnTo>
                  <a:lnTo>
                    <a:pt x="6197" y="1441"/>
                  </a:lnTo>
                  <a:lnTo>
                    <a:pt x="6198" y="1431"/>
                  </a:lnTo>
                  <a:lnTo>
                    <a:pt x="6190" y="1412"/>
                  </a:lnTo>
                  <a:lnTo>
                    <a:pt x="6182" y="1394"/>
                  </a:lnTo>
                  <a:lnTo>
                    <a:pt x="6173" y="1380"/>
                  </a:lnTo>
                  <a:lnTo>
                    <a:pt x="6164" y="1368"/>
                  </a:lnTo>
                  <a:lnTo>
                    <a:pt x="6154" y="1357"/>
                  </a:lnTo>
                  <a:lnTo>
                    <a:pt x="6146" y="1348"/>
                  </a:lnTo>
                  <a:lnTo>
                    <a:pt x="6137" y="1339"/>
                  </a:lnTo>
                  <a:lnTo>
                    <a:pt x="6127" y="1331"/>
                  </a:lnTo>
                  <a:lnTo>
                    <a:pt x="6108" y="1316"/>
                  </a:lnTo>
                  <a:lnTo>
                    <a:pt x="6090" y="1299"/>
                  </a:lnTo>
                  <a:lnTo>
                    <a:pt x="6081" y="1289"/>
                  </a:lnTo>
                  <a:lnTo>
                    <a:pt x="6073" y="1278"/>
                  </a:lnTo>
                  <a:lnTo>
                    <a:pt x="6066" y="1265"/>
                  </a:lnTo>
                  <a:lnTo>
                    <a:pt x="6058" y="1249"/>
                  </a:lnTo>
                  <a:lnTo>
                    <a:pt x="6057" y="1226"/>
                  </a:lnTo>
                  <a:lnTo>
                    <a:pt x="6055" y="1206"/>
                  </a:lnTo>
                  <a:lnTo>
                    <a:pt x="6055" y="1189"/>
                  </a:lnTo>
                  <a:lnTo>
                    <a:pt x="6055" y="1174"/>
                  </a:lnTo>
                  <a:lnTo>
                    <a:pt x="6056" y="1160"/>
                  </a:lnTo>
                  <a:lnTo>
                    <a:pt x="6057" y="1149"/>
                  </a:lnTo>
                  <a:lnTo>
                    <a:pt x="6058" y="1139"/>
                  </a:lnTo>
                  <a:lnTo>
                    <a:pt x="6061" y="1131"/>
                  </a:lnTo>
                  <a:lnTo>
                    <a:pt x="6063" y="1124"/>
                  </a:lnTo>
                  <a:lnTo>
                    <a:pt x="6067" y="1117"/>
                  </a:lnTo>
                  <a:lnTo>
                    <a:pt x="6070" y="1111"/>
                  </a:lnTo>
                  <a:lnTo>
                    <a:pt x="6075" y="1106"/>
                  </a:lnTo>
                  <a:lnTo>
                    <a:pt x="6083" y="1096"/>
                  </a:lnTo>
                  <a:lnTo>
                    <a:pt x="6093" y="1084"/>
                  </a:lnTo>
                  <a:lnTo>
                    <a:pt x="6096" y="1073"/>
                  </a:lnTo>
                  <a:lnTo>
                    <a:pt x="6101" y="1058"/>
                  </a:lnTo>
                  <a:lnTo>
                    <a:pt x="6103" y="1044"/>
                  </a:lnTo>
                  <a:lnTo>
                    <a:pt x="6105" y="1036"/>
                  </a:lnTo>
                  <a:lnTo>
                    <a:pt x="6105" y="1028"/>
                  </a:lnTo>
                  <a:lnTo>
                    <a:pt x="6105" y="1022"/>
                  </a:lnTo>
                  <a:lnTo>
                    <a:pt x="6102" y="1014"/>
                  </a:lnTo>
                  <a:lnTo>
                    <a:pt x="6101" y="1006"/>
                  </a:lnTo>
                  <a:lnTo>
                    <a:pt x="6098" y="999"/>
                  </a:lnTo>
                  <a:lnTo>
                    <a:pt x="6095" y="992"/>
                  </a:lnTo>
                  <a:lnTo>
                    <a:pt x="6091" y="985"/>
                  </a:lnTo>
                  <a:lnTo>
                    <a:pt x="6086" y="978"/>
                  </a:lnTo>
                  <a:lnTo>
                    <a:pt x="6080" y="972"/>
                  </a:lnTo>
                  <a:lnTo>
                    <a:pt x="6073" y="965"/>
                  </a:lnTo>
                  <a:lnTo>
                    <a:pt x="6066" y="959"/>
                  </a:lnTo>
                  <a:lnTo>
                    <a:pt x="6060" y="953"/>
                  </a:lnTo>
                  <a:lnTo>
                    <a:pt x="6055" y="946"/>
                  </a:lnTo>
                  <a:lnTo>
                    <a:pt x="6048" y="937"/>
                  </a:lnTo>
                  <a:lnTo>
                    <a:pt x="6042" y="929"/>
                  </a:lnTo>
                  <a:lnTo>
                    <a:pt x="6038" y="921"/>
                  </a:lnTo>
                  <a:lnTo>
                    <a:pt x="6035" y="915"/>
                  </a:lnTo>
                  <a:lnTo>
                    <a:pt x="6035" y="912"/>
                  </a:lnTo>
                  <a:lnTo>
                    <a:pt x="6035" y="911"/>
                  </a:lnTo>
                  <a:lnTo>
                    <a:pt x="6036" y="909"/>
                  </a:lnTo>
                  <a:lnTo>
                    <a:pt x="6038" y="908"/>
                  </a:lnTo>
                  <a:lnTo>
                    <a:pt x="6042" y="911"/>
                  </a:lnTo>
                  <a:lnTo>
                    <a:pt x="6050" y="915"/>
                  </a:lnTo>
                  <a:lnTo>
                    <a:pt x="6059" y="922"/>
                  </a:lnTo>
                  <a:lnTo>
                    <a:pt x="6068" y="928"/>
                  </a:lnTo>
                  <a:lnTo>
                    <a:pt x="6072" y="932"/>
                  </a:lnTo>
                  <a:lnTo>
                    <a:pt x="6077" y="934"/>
                  </a:lnTo>
                  <a:lnTo>
                    <a:pt x="6081" y="936"/>
                  </a:lnTo>
                  <a:lnTo>
                    <a:pt x="6085" y="936"/>
                  </a:lnTo>
                  <a:lnTo>
                    <a:pt x="6089" y="936"/>
                  </a:lnTo>
                  <a:lnTo>
                    <a:pt x="6091" y="934"/>
                  </a:lnTo>
                  <a:lnTo>
                    <a:pt x="6095" y="932"/>
                  </a:lnTo>
                  <a:lnTo>
                    <a:pt x="6096" y="926"/>
                  </a:lnTo>
                  <a:lnTo>
                    <a:pt x="6100" y="918"/>
                  </a:lnTo>
                  <a:lnTo>
                    <a:pt x="6103" y="909"/>
                  </a:lnTo>
                  <a:lnTo>
                    <a:pt x="6107" y="902"/>
                  </a:lnTo>
                  <a:lnTo>
                    <a:pt x="6110" y="894"/>
                  </a:lnTo>
                  <a:lnTo>
                    <a:pt x="6114" y="887"/>
                  </a:lnTo>
                  <a:lnTo>
                    <a:pt x="6118" y="882"/>
                  </a:lnTo>
                  <a:lnTo>
                    <a:pt x="6122" y="877"/>
                  </a:lnTo>
                  <a:lnTo>
                    <a:pt x="6127" y="875"/>
                  </a:lnTo>
                  <a:lnTo>
                    <a:pt x="6128" y="874"/>
                  </a:lnTo>
                  <a:lnTo>
                    <a:pt x="6128" y="871"/>
                  </a:lnTo>
                  <a:lnTo>
                    <a:pt x="6126" y="867"/>
                  </a:lnTo>
                  <a:lnTo>
                    <a:pt x="6122" y="862"/>
                  </a:lnTo>
                  <a:lnTo>
                    <a:pt x="6113" y="848"/>
                  </a:lnTo>
                  <a:lnTo>
                    <a:pt x="6102" y="832"/>
                  </a:lnTo>
                  <a:lnTo>
                    <a:pt x="6091" y="814"/>
                  </a:lnTo>
                  <a:lnTo>
                    <a:pt x="6081" y="796"/>
                  </a:lnTo>
                  <a:lnTo>
                    <a:pt x="6078" y="787"/>
                  </a:lnTo>
                  <a:lnTo>
                    <a:pt x="6075" y="778"/>
                  </a:lnTo>
                  <a:lnTo>
                    <a:pt x="6073" y="771"/>
                  </a:lnTo>
                  <a:lnTo>
                    <a:pt x="6073" y="764"/>
                  </a:lnTo>
                  <a:lnTo>
                    <a:pt x="6073" y="762"/>
                  </a:lnTo>
                  <a:lnTo>
                    <a:pt x="6073" y="761"/>
                  </a:lnTo>
                  <a:lnTo>
                    <a:pt x="6071" y="761"/>
                  </a:lnTo>
                  <a:lnTo>
                    <a:pt x="6069" y="761"/>
                  </a:lnTo>
                  <a:lnTo>
                    <a:pt x="6063" y="764"/>
                  </a:lnTo>
                  <a:lnTo>
                    <a:pt x="6057" y="767"/>
                  </a:lnTo>
                  <a:lnTo>
                    <a:pt x="6050" y="773"/>
                  </a:lnTo>
                  <a:lnTo>
                    <a:pt x="6043" y="777"/>
                  </a:lnTo>
                  <a:lnTo>
                    <a:pt x="6039" y="781"/>
                  </a:lnTo>
                  <a:lnTo>
                    <a:pt x="6038" y="782"/>
                  </a:lnTo>
                  <a:lnTo>
                    <a:pt x="6035" y="782"/>
                  </a:lnTo>
                  <a:lnTo>
                    <a:pt x="6031" y="780"/>
                  </a:lnTo>
                  <a:lnTo>
                    <a:pt x="6029" y="777"/>
                  </a:lnTo>
                  <a:lnTo>
                    <a:pt x="6028" y="773"/>
                  </a:lnTo>
                  <a:lnTo>
                    <a:pt x="6026" y="761"/>
                  </a:lnTo>
                  <a:lnTo>
                    <a:pt x="6026" y="746"/>
                  </a:lnTo>
                  <a:lnTo>
                    <a:pt x="6028" y="730"/>
                  </a:lnTo>
                  <a:lnTo>
                    <a:pt x="6031" y="715"/>
                  </a:lnTo>
                  <a:lnTo>
                    <a:pt x="6035" y="707"/>
                  </a:lnTo>
                  <a:lnTo>
                    <a:pt x="6038" y="702"/>
                  </a:lnTo>
                  <a:lnTo>
                    <a:pt x="6041" y="696"/>
                  </a:lnTo>
                  <a:lnTo>
                    <a:pt x="6046" y="692"/>
                  </a:lnTo>
                  <a:lnTo>
                    <a:pt x="6045" y="684"/>
                  </a:lnTo>
                  <a:lnTo>
                    <a:pt x="6045" y="677"/>
                  </a:lnTo>
                  <a:lnTo>
                    <a:pt x="6045" y="671"/>
                  </a:lnTo>
                  <a:lnTo>
                    <a:pt x="6046" y="664"/>
                  </a:lnTo>
                  <a:lnTo>
                    <a:pt x="6049" y="652"/>
                  </a:lnTo>
                  <a:lnTo>
                    <a:pt x="6055" y="641"/>
                  </a:lnTo>
                  <a:lnTo>
                    <a:pt x="6060" y="632"/>
                  </a:lnTo>
                  <a:lnTo>
                    <a:pt x="6068" y="623"/>
                  </a:lnTo>
                  <a:lnTo>
                    <a:pt x="6075" y="616"/>
                  </a:lnTo>
                  <a:lnTo>
                    <a:pt x="6083" y="610"/>
                  </a:lnTo>
                  <a:lnTo>
                    <a:pt x="6098" y="598"/>
                  </a:lnTo>
                  <a:lnTo>
                    <a:pt x="6110" y="588"/>
                  </a:lnTo>
                  <a:lnTo>
                    <a:pt x="6114" y="582"/>
                  </a:lnTo>
                  <a:lnTo>
                    <a:pt x="6118" y="578"/>
                  </a:lnTo>
                  <a:lnTo>
                    <a:pt x="6118" y="574"/>
                  </a:lnTo>
                  <a:lnTo>
                    <a:pt x="6118" y="572"/>
                  </a:lnTo>
                  <a:lnTo>
                    <a:pt x="6118" y="569"/>
                  </a:lnTo>
                  <a:lnTo>
                    <a:pt x="6117" y="565"/>
                  </a:lnTo>
                  <a:lnTo>
                    <a:pt x="6114" y="554"/>
                  </a:lnTo>
                  <a:lnTo>
                    <a:pt x="6112" y="542"/>
                  </a:lnTo>
                  <a:lnTo>
                    <a:pt x="6111" y="529"/>
                  </a:lnTo>
                  <a:lnTo>
                    <a:pt x="6110" y="516"/>
                  </a:lnTo>
                  <a:lnTo>
                    <a:pt x="6110" y="504"/>
                  </a:lnTo>
                  <a:lnTo>
                    <a:pt x="6111" y="491"/>
                  </a:lnTo>
                  <a:lnTo>
                    <a:pt x="6112" y="479"/>
                  </a:lnTo>
                  <a:lnTo>
                    <a:pt x="6114" y="468"/>
                  </a:lnTo>
                  <a:lnTo>
                    <a:pt x="6118" y="457"/>
                  </a:lnTo>
                  <a:lnTo>
                    <a:pt x="6121" y="445"/>
                  </a:lnTo>
                  <a:lnTo>
                    <a:pt x="6126" y="437"/>
                  </a:lnTo>
                  <a:lnTo>
                    <a:pt x="6130" y="428"/>
                  </a:lnTo>
                  <a:lnTo>
                    <a:pt x="6136" y="420"/>
                  </a:lnTo>
                  <a:lnTo>
                    <a:pt x="6142" y="414"/>
                  </a:lnTo>
                  <a:lnTo>
                    <a:pt x="6149" y="409"/>
                  </a:lnTo>
                  <a:lnTo>
                    <a:pt x="6157" y="407"/>
                  </a:lnTo>
                  <a:lnTo>
                    <a:pt x="6133" y="351"/>
                  </a:lnTo>
                  <a:lnTo>
                    <a:pt x="6110" y="298"/>
                  </a:lnTo>
                  <a:lnTo>
                    <a:pt x="6086" y="246"/>
                  </a:lnTo>
                  <a:lnTo>
                    <a:pt x="6062" y="195"/>
                  </a:lnTo>
                  <a:lnTo>
                    <a:pt x="6038" y="144"/>
                  </a:lnTo>
                  <a:lnTo>
                    <a:pt x="6013" y="95"/>
                  </a:lnTo>
                  <a:lnTo>
                    <a:pt x="5988" y="47"/>
                  </a:lnTo>
                  <a:lnTo>
                    <a:pt x="5963" y="0"/>
                  </a:lnTo>
                  <a:lnTo>
                    <a:pt x="6500" y="0"/>
                  </a:lnTo>
                  <a:lnTo>
                    <a:pt x="6491" y="29"/>
                  </a:lnTo>
                  <a:lnTo>
                    <a:pt x="6483" y="58"/>
                  </a:lnTo>
                  <a:lnTo>
                    <a:pt x="6477" y="88"/>
                  </a:lnTo>
                  <a:lnTo>
                    <a:pt x="6469" y="119"/>
                  </a:lnTo>
                  <a:lnTo>
                    <a:pt x="6462" y="149"/>
                  </a:lnTo>
                  <a:lnTo>
                    <a:pt x="6455" y="179"/>
                  </a:lnTo>
                  <a:lnTo>
                    <a:pt x="6448" y="209"/>
                  </a:lnTo>
                  <a:lnTo>
                    <a:pt x="6439" y="238"/>
                  </a:lnTo>
                  <a:lnTo>
                    <a:pt x="6433" y="251"/>
                  </a:lnTo>
                  <a:lnTo>
                    <a:pt x="6428" y="266"/>
                  </a:lnTo>
                  <a:lnTo>
                    <a:pt x="6421" y="279"/>
                  </a:lnTo>
                  <a:lnTo>
                    <a:pt x="6414" y="291"/>
                  </a:lnTo>
                  <a:lnTo>
                    <a:pt x="6408" y="304"/>
                  </a:lnTo>
                  <a:lnTo>
                    <a:pt x="6400" y="316"/>
                  </a:lnTo>
                  <a:lnTo>
                    <a:pt x="6391" y="328"/>
                  </a:lnTo>
                  <a:lnTo>
                    <a:pt x="6381" y="339"/>
                  </a:lnTo>
                  <a:lnTo>
                    <a:pt x="6371" y="350"/>
                  </a:lnTo>
                  <a:lnTo>
                    <a:pt x="6360" y="360"/>
                  </a:lnTo>
                  <a:lnTo>
                    <a:pt x="6349" y="369"/>
                  </a:lnTo>
                  <a:lnTo>
                    <a:pt x="6335" y="378"/>
                  </a:lnTo>
                  <a:lnTo>
                    <a:pt x="6321" y="387"/>
                  </a:lnTo>
                  <a:lnTo>
                    <a:pt x="6307" y="393"/>
                  </a:lnTo>
                  <a:lnTo>
                    <a:pt x="6290" y="400"/>
                  </a:lnTo>
                  <a:lnTo>
                    <a:pt x="6273" y="407"/>
                  </a:lnTo>
                  <a:lnTo>
                    <a:pt x="6241" y="423"/>
                  </a:lnTo>
                  <a:lnTo>
                    <a:pt x="6234" y="425"/>
                  </a:lnTo>
                  <a:lnTo>
                    <a:pt x="6228" y="429"/>
                  </a:lnTo>
                  <a:lnTo>
                    <a:pt x="6221" y="433"/>
                  </a:lnTo>
                  <a:lnTo>
                    <a:pt x="6214" y="438"/>
                  </a:lnTo>
                  <a:lnTo>
                    <a:pt x="6203" y="448"/>
                  </a:lnTo>
                  <a:lnTo>
                    <a:pt x="6194" y="459"/>
                  </a:lnTo>
                  <a:lnTo>
                    <a:pt x="6190" y="464"/>
                  </a:lnTo>
                  <a:lnTo>
                    <a:pt x="6187" y="471"/>
                  </a:lnTo>
                  <a:lnTo>
                    <a:pt x="6183" y="478"/>
                  </a:lnTo>
                  <a:lnTo>
                    <a:pt x="6181" y="484"/>
                  </a:lnTo>
                  <a:lnTo>
                    <a:pt x="6179" y="491"/>
                  </a:lnTo>
                  <a:lnTo>
                    <a:pt x="6178" y="499"/>
                  </a:lnTo>
                  <a:lnTo>
                    <a:pt x="6178" y="505"/>
                  </a:lnTo>
                  <a:lnTo>
                    <a:pt x="6178" y="512"/>
                  </a:lnTo>
                  <a:lnTo>
                    <a:pt x="6184" y="513"/>
                  </a:lnTo>
                  <a:lnTo>
                    <a:pt x="6192" y="514"/>
                  </a:lnTo>
                  <a:lnTo>
                    <a:pt x="6199" y="516"/>
                  </a:lnTo>
                  <a:lnTo>
                    <a:pt x="6206" y="520"/>
                  </a:lnTo>
                  <a:lnTo>
                    <a:pt x="6219" y="526"/>
                  </a:lnTo>
                  <a:lnTo>
                    <a:pt x="6231" y="535"/>
                  </a:lnTo>
                  <a:lnTo>
                    <a:pt x="6242" y="545"/>
                  </a:lnTo>
                  <a:lnTo>
                    <a:pt x="6252" y="556"/>
                  </a:lnTo>
                  <a:lnTo>
                    <a:pt x="6261" y="569"/>
                  </a:lnTo>
                  <a:lnTo>
                    <a:pt x="6269" y="581"/>
                  </a:lnTo>
                  <a:lnTo>
                    <a:pt x="6272" y="590"/>
                  </a:lnTo>
                  <a:lnTo>
                    <a:pt x="6273" y="598"/>
                  </a:lnTo>
                  <a:lnTo>
                    <a:pt x="6272" y="603"/>
                  </a:lnTo>
                  <a:lnTo>
                    <a:pt x="6270" y="609"/>
                  </a:lnTo>
                  <a:lnTo>
                    <a:pt x="6266" y="612"/>
                  </a:lnTo>
                  <a:lnTo>
                    <a:pt x="6261" y="614"/>
                  </a:lnTo>
                  <a:lnTo>
                    <a:pt x="6257" y="615"/>
                  </a:lnTo>
                  <a:lnTo>
                    <a:pt x="6251" y="616"/>
                  </a:lnTo>
                  <a:lnTo>
                    <a:pt x="6244" y="610"/>
                  </a:lnTo>
                  <a:lnTo>
                    <a:pt x="6238" y="604"/>
                  </a:lnTo>
                  <a:lnTo>
                    <a:pt x="6230" y="598"/>
                  </a:lnTo>
                  <a:lnTo>
                    <a:pt x="6221" y="591"/>
                  </a:lnTo>
                  <a:lnTo>
                    <a:pt x="6212" y="585"/>
                  </a:lnTo>
                  <a:lnTo>
                    <a:pt x="6202" y="580"/>
                  </a:lnTo>
                  <a:lnTo>
                    <a:pt x="6191" y="576"/>
                  </a:lnTo>
                  <a:lnTo>
                    <a:pt x="6178" y="575"/>
                  </a:lnTo>
                  <a:lnTo>
                    <a:pt x="6176" y="585"/>
                  </a:lnTo>
                  <a:lnTo>
                    <a:pt x="6172" y="593"/>
                  </a:lnTo>
                  <a:lnTo>
                    <a:pt x="6169" y="600"/>
                  </a:lnTo>
                  <a:lnTo>
                    <a:pt x="6163" y="606"/>
                  </a:lnTo>
                  <a:lnTo>
                    <a:pt x="6151" y="615"/>
                  </a:lnTo>
                  <a:lnTo>
                    <a:pt x="6138" y="624"/>
                  </a:lnTo>
                  <a:lnTo>
                    <a:pt x="6130" y="629"/>
                  </a:lnTo>
                  <a:lnTo>
                    <a:pt x="6123" y="634"/>
                  </a:lnTo>
                  <a:lnTo>
                    <a:pt x="6118" y="640"/>
                  </a:lnTo>
                  <a:lnTo>
                    <a:pt x="6112" y="646"/>
                  </a:lnTo>
                  <a:lnTo>
                    <a:pt x="6108" y="655"/>
                  </a:lnTo>
                  <a:lnTo>
                    <a:pt x="6105" y="664"/>
                  </a:lnTo>
                  <a:lnTo>
                    <a:pt x="6102" y="676"/>
                  </a:lnTo>
                  <a:lnTo>
                    <a:pt x="6101" y="690"/>
                  </a:lnTo>
                  <a:lnTo>
                    <a:pt x="6102" y="707"/>
                  </a:lnTo>
                  <a:lnTo>
                    <a:pt x="6106" y="724"/>
                  </a:lnTo>
                  <a:lnTo>
                    <a:pt x="6111" y="740"/>
                  </a:lnTo>
                  <a:lnTo>
                    <a:pt x="6117" y="754"/>
                  </a:lnTo>
                  <a:lnTo>
                    <a:pt x="6122" y="767"/>
                  </a:lnTo>
                  <a:lnTo>
                    <a:pt x="6129" y="780"/>
                  </a:lnTo>
                  <a:lnTo>
                    <a:pt x="6137" y="791"/>
                  </a:lnTo>
                  <a:lnTo>
                    <a:pt x="6143" y="802"/>
                  </a:lnTo>
                  <a:lnTo>
                    <a:pt x="6158" y="822"/>
                  </a:lnTo>
                  <a:lnTo>
                    <a:pt x="6169" y="842"/>
                  </a:lnTo>
                  <a:lnTo>
                    <a:pt x="6172" y="852"/>
                  </a:lnTo>
                  <a:lnTo>
                    <a:pt x="6174" y="862"/>
                  </a:lnTo>
                  <a:lnTo>
                    <a:pt x="6176" y="872"/>
                  </a:lnTo>
                  <a:lnTo>
                    <a:pt x="6174" y="883"/>
                  </a:lnTo>
                  <a:lnTo>
                    <a:pt x="6173" y="896"/>
                  </a:lnTo>
                  <a:lnTo>
                    <a:pt x="6170" y="908"/>
                  </a:lnTo>
                  <a:lnTo>
                    <a:pt x="6166" y="918"/>
                  </a:lnTo>
                  <a:lnTo>
                    <a:pt x="6161" y="927"/>
                  </a:lnTo>
                  <a:lnTo>
                    <a:pt x="6151" y="942"/>
                  </a:lnTo>
                  <a:lnTo>
                    <a:pt x="6141" y="954"/>
                  </a:lnTo>
                  <a:lnTo>
                    <a:pt x="6137" y="960"/>
                  </a:lnTo>
                  <a:lnTo>
                    <a:pt x="6133" y="967"/>
                  </a:lnTo>
                  <a:lnTo>
                    <a:pt x="6132" y="974"/>
                  </a:lnTo>
                  <a:lnTo>
                    <a:pt x="6132" y="983"/>
                  </a:lnTo>
                  <a:lnTo>
                    <a:pt x="6133" y="993"/>
                  </a:lnTo>
                  <a:lnTo>
                    <a:pt x="6138" y="1004"/>
                  </a:lnTo>
                  <a:lnTo>
                    <a:pt x="6144" y="1017"/>
                  </a:lnTo>
                  <a:lnTo>
                    <a:pt x="6154" y="1033"/>
                  </a:lnTo>
                  <a:lnTo>
                    <a:pt x="6152" y="1037"/>
                  </a:lnTo>
                  <a:lnTo>
                    <a:pt x="6151" y="1043"/>
                  </a:lnTo>
                  <a:lnTo>
                    <a:pt x="6149" y="1047"/>
                  </a:lnTo>
                  <a:lnTo>
                    <a:pt x="6148" y="1053"/>
                  </a:lnTo>
                  <a:lnTo>
                    <a:pt x="6147" y="1058"/>
                  </a:lnTo>
                  <a:lnTo>
                    <a:pt x="6146" y="1064"/>
                  </a:lnTo>
                  <a:lnTo>
                    <a:pt x="6144" y="1069"/>
                  </a:lnTo>
                  <a:lnTo>
                    <a:pt x="6143" y="1076"/>
                  </a:lnTo>
                  <a:lnTo>
                    <a:pt x="6138" y="1086"/>
                  </a:lnTo>
                  <a:lnTo>
                    <a:pt x="6128" y="1106"/>
                  </a:lnTo>
                  <a:lnTo>
                    <a:pt x="6120" y="1127"/>
                  </a:lnTo>
                  <a:lnTo>
                    <a:pt x="6117" y="1138"/>
                  </a:lnTo>
                  <a:lnTo>
                    <a:pt x="6113" y="1149"/>
                  </a:lnTo>
                  <a:lnTo>
                    <a:pt x="6111" y="1160"/>
                  </a:lnTo>
                  <a:lnTo>
                    <a:pt x="6110" y="1171"/>
                  </a:lnTo>
                  <a:lnTo>
                    <a:pt x="6110" y="1184"/>
                  </a:lnTo>
                  <a:lnTo>
                    <a:pt x="6110" y="1195"/>
                  </a:lnTo>
                  <a:lnTo>
                    <a:pt x="6112" y="1206"/>
                  </a:lnTo>
                  <a:lnTo>
                    <a:pt x="6114" y="1217"/>
                  </a:lnTo>
                  <a:lnTo>
                    <a:pt x="6119" y="1228"/>
                  </a:lnTo>
                  <a:lnTo>
                    <a:pt x="6124" y="1238"/>
                  </a:lnTo>
                  <a:lnTo>
                    <a:pt x="6131" y="1248"/>
                  </a:lnTo>
                  <a:lnTo>
                    <a:pt x="6140" y="1258"/>
                  </a:lnTo>
                  <a:lnTo>
                    <a:pt x="6151" y="1267"/>
                  </a:lnTo>
                  <a:lnTo>
                    <a:pt x="6162" y="1276"/>
                  </a:lnTo>
                  <a:lnTo>
                    <a:pt x="6171" y="1285"/>
                  </a:lnTo>
                  <a:lnTo>
                    <a:pt x="6180" y="1295"/>
                  </a:lnTo>
                  <a:lnTo>
                    <a:pt x="6197" y="1313"/>
                  </a:lnTo>
                  <a:lnTo>
                    <a:pt x="6210" y="1333"/>
                  </a:lnTo>
                  <a:lnTo>
                    <a:pt x="6223" y="1353"/>
                  </a:lnTo>
                  <a:lnTo>
                    <a:pt x="6237" y="1373"/>
                  </a:lnTo>
                  <a:lnTo>
                    <a:pt x="6250" y="1392"/>
                  </a:lnTo>
                  <a:lnTo>
                    <a:pt x="6264" y="1411"/>
                  </a:lnTo>
                  <a:lnTo>
                    <a:pt x="6272" y="1421"/>
                  </a:lnTo>
                  <a:lnTo>
                    <a:pt x="6281" y="1430"/>
                  </a:lnTo>
                  <a:lnTo>
                    <a:pt x="6290" y="1439"/>
                  </a:lnTo>
                  <a:lnTo>
                    <a:pt x="6300" y="1448"/>
                  </a:lnTo>
                  <a:lnTo>
                    <a:pt x="6311" y="1456"/>
                  </a:lnTo>
                  <a:lnTo>
                    <a:pt x="6323" y="1463"/>
                  </a:lnTo>
                  <a:lnTo>
                    <a:pt x="6337" y="1471"/>
                  </a:lnTo>
                  <a:lnTo>
                    <a:pt x="6351" y="1478"/>
                  </a:lnTo>
                  <a:lnTo>
                    <a:pt x="6367" y="1484"/>
                  </a:lnTo>
                  <a:lnTo>
                    <a:pt x="6383" y="1491"/>
                  </a:lnTo>
                  <a:lnTo>
                    <a:pt x="6402" y="1497"/>
                  </a:lnTo>
                  <a:lnTo>
                    <a:pt x="6422" y="1502"/>
                  </a:lnTo>
                  <a:lnTo>
                    <a:pt x="6444" y="1507"/>
                  </a:lnTo>
                  <a:lnTo>
                    <a:pt x="6468" y="1511"/>
                  </a:lnTo>
                  <a:lnTo>
                    <a:pt x="6493" y="1514"/>
                  </a:lnTo>
                  <a:lnTo>
                    <a:pt x="6521" y="1517"/>
                  </a:lnTo>
                  <a:lnTo>
                    <a:pt x="6535" y="1503"/>
                  </a:lnTo>
                  <a:lnTo>
                    <a:pt x="6548" y="1490"/>
                  </a:lnTo>
                  <a:lnTo>
                    <a:pt x="6559" y="1476"/>
                  </a:lnTo>
                  <a:lnTo>
                    <a:pt x="6569" y="1461"/>
                  </a:lnTo>
                  <a:lnTo>
                    <a:pt x="6579" y="1447"/>
                  </a:lnTo>
                  <a:lnTo>
                    <a:pt x="6589" y="1431"/>
                  </a:lnTo>
                  <a:lnTo>
                    <a:pt x="6599" y="1416"/>
                  </a:lnTo>
                  <a:lnTo>
                    <a:pt x="6611" y="1400"/>
                  </a:lnTo>
                  <a:lnTo>
                    <a:pt x="6619" y="1396"/>
                  </a:lnTo>
                  <a:lnTo>
                    <a:pt x="6625" y="1392"/>
                  </a:lnTo>
                  <a:lnTo>
                    <a:pt x="6633" y="1390"/>
                  </a:lnTo>
                  <a:lnTo>
                    <a:pt x="6640" y="1389"/>
                  </a:lnTo>
                  <a:lnTo>
                    <a:pt x="6646" y="1389"/>
                  </a:lnTo>
                  <a:lnTo>
                    <a:pt x="6654" y="1390"/>
                  </a:lnTo>
                  <a:lnTo>
                    <a:pt x="6661" y="1392"/>
                  </a:lnTo>
                  <a:lnTo>
                    <a:pt x="6668" y="1394"/>
                  </a:lnTo>
                  <a:lnTo>
                    <a:pt x="6681" y="1402"/>
                  </a:lnTo>
                  <a:lnTo>
                    <a:pt x="6695" y="1412"/>
                  </a:lnTo>
                  <a:lnTo>
                    <a:pt x="6709" y="1423"/>
                  </a:lnTo>
                  <a:lnTo>
                    <a:pt x="6721" y="1434"/>
                  </a:lnTo>
                  <a:lnTo>
                    <a:pt x="6733" y="1446"/>
                  </a:lnTo>
                  <a:lnTo>
                    <a:pt x="6745" y="1454"/>
                  </a:lnTo>
                  <a:lnTo>
                    <a:pt x="6752" y="1459"/>
                  </a:lnTo>
                  <a:lnTo>
                    <a:pt x="6758" y="1462"/>
                  </a:lnTo>
                  <a:lnTo>
                    <a:pt x="6763" y="1464"/>
                  </a:lnTo>
                  <a:lnTo>
                    <a:pt x="6769" y="1466"/>
                  </a:lnTo>
                  <a:lnTo>
                    <a:pt x="6774" y="1467"/>
                  </a:lnTo>
                  <a:lnTo>
                    <a:pt x="6780" y="1467"/>
                  </a:lnTo>
                  <a:lnTo>
                    <a:pt x="6785" y="1466"/>
                  </a:lnTo>
                  <a:lnTo>
                    <a:pt x="6791" y="1462"/>
                  </a:lnTo>
                  <a:lnTo>
                    <a:pt x="6795" y="1458"/>
                  </a:lnTo>
                  <a:lnTo>
                    <a:pt x="6800" y="1452"/>
                  </a:lnTo>
                  <a:lnTo>
                    <a:pt x="6805" y="1446"/>
                  </a:lnTo>
                  <a:lnTo>
                    <a:pt x="6810" y="1437"/>
                  </a:lnTo>
                  <a:lnTo>
                    <a:pt x="6804" y="1426"/>
                  </a:lnTo>
                  <a:lnTo>
                    <a:pt x="6800" y="1416"/>
                  </a:lnTo>
                  <a:lnTo>
                    <a:pt x="6797" y="1407"/>
                  </a:lnTo>
                  <a:lnTo>
                    <a:pt x="6796" y="1398"/>
                  </a:lnTo>
                  <a:lnTo>
                    <a:pt x="6796" y="1389"/>
                  </a:lnTo>
                  <a:lnTo>
                    <a:pt x="6796" y="1381"/>
                  </a:lnTo>
                  <a:lnTo>
                    <a:pt x="6799" y="1375"/>
                  </a:lnTo>
                  <a:lnTo>
                    <a:pt x="6801" y="1367"/>
                  </a:lnTo>
                  <a:lnTo>
                    <a:pt x="6806" y="1355"/>
                  </a:lnTo>
                  <a:lnTo>
                    <a:pt x="6814" y="1343"/>
                  </a:lnTo>
                  <a:lnTo>
                    <a:pt x="6821" y="1333"/>
                  </a:lnTo>
                  <a:lnTo>
                    <a:pt x="6827" y="1323"/>
                  </a:lnTo>
                  <a:lnTo>
                    <a:pt x="6841" y="1335"/>
                  </a:lnTo>
                  <a:lnTo>
                    <a:pt x="6853" y="1342"/>
                  </a:lnTo>
                  <a:lnTo>
                    <a:pt x="6865" y="1350"/>
                  </a:lnTo>
                  <a:lnTo>
                    <a:pt x="6876" y="1356"/>
                  </a:lnTo>
                  <a:lnTo>
                    <a:pt x="6886" y="1361"/>
                  </a:lnTo>
                  <a:lnTo>
                    <a:pt x="6895" y="1365"/>
                  </a:lnTo>
                  <a:lnTo>
                    <a:pt x="6905" y="1367"/>
                  </a:lnTo>
                  <a:lnTo>
                    <a:pt x="6913" y="1368"/>
                  </a:lnTo>
                  <a:lnTo>
                    <a:pt x="6921" y="1369"/>
                  </a:lnTo>
                  <a:lnTo>
                    <a:pt x="6929" y="1369"/>
                  </a:lnTo>
                  <a:lnTo>
                    <a:pt x="6935" y="1368"/>
                  </a:lnTo>
                  <a:lnTo>
                    <a:pt x="6941" y="1366"/>
                  </a:lnTo>
                  <a:lnTo>
                    <a:pt x="6947" y="1363"/>
                  </a:lnTo>
                  <a:lnTo>
                    <a:pt x="6952" y="1360"/>
                  </a:lnTo>
                  <a:lnTo>
                    <a:pt x="6957" y="1356"/>
                  </a:lnTo>
                  <a:lnTo>
                    <a:pt x="6962" y="1352"/>
                  </a:lnTo>
                  <a:lnTo>
                    <a:pt x="6970" y="1342"/>
                  </a:lnTo>
                  <a:lnTo>
                    <a:pt x="6976" y="1332"/>
                  </a:lnTo>
                  <a:lnTo>
                    <a:pt x="6983" y="1321"/>
                  </a:lnTo>
                  <a:lnTo>
                    <a:pt x="6987" y="1310"/>
                  </a:lnTo>
                  <a:lnTo>
                    <a:pt x="6992" y="1299"/>
                  </a:lnTo>
                  <a:lnTo>
                    <a:pt x="6996" y="1289"/>
                  </a:lnTo>
                  <a:lnTo>
                    <a:pt x="7001" y="1281"/>
                  </a:lnTo>
                  <a:lnTo>
                    <a:pt x="7005" y="1276"/>
                  </a:lnTo>
                  <a:lnTo>
                    <a:pt x="7010" y="1271"/>
                  </a:lnTo>
                  <a:lnTo>
                    <a:pt x="7014" y="1268"/>
                  </a:lnTo>
                  <a:lnTo>
                    <a:pt x="7018" y="1265"/>
                  </a:lnTo>
                  <a:lnTo>
                    <a:pt x="7022" y="1262"/>
                  </a:lnTo>
                  <a:lnTo>
                    <a:pt x="7026" y="1262"/>
                  </a:lnTo>
                  <a:lnTo>
                    <a:pt x="7031" y="1262"/>
                  </a:lnTo>
                  <a:lnTo>
                    <a:pt x="7035" y="1262"/>
                  </a:lnTo>
                  <a:lnTo>
                    <a:pt x="7038" y="1265"/>
                  </a:lnTo>
                  <a:lnTo>
                    <a:pt x="7047" y="1269"/>
                  </a:lnTo>
                  <a:lnTo>
                    <a:pt x="7055" y="1277"/>
                  </a:lnTo>
                  <a:lnTo>
                    <a:pt x="7063" y="1286"/>
                  </a:lnTo>
                  <a:lnTo>
                    <a:pt x="7071" y="1296"/>
                  </a:lnTo>
                  <a:lnTo>
                    <a:pt x="7087" y="1318"/>
                  </a:lnTo>
                  <a:lnTo>
                    <a:pt x="7105" y="1339"/>
                  </a:lnTo>
                  <a:lnTo>
                    <a:pt x="7114" y="1348"/>
                  </a:lnTo>
                  <a:lnTo>
                    <a:pt x="7124" y="1356"/>
                  </a:lnTo>
                  <a:lnTo>
                    <a:pt x="7130" y="1358"/>
                  </a:lnTo>
                  <a:lnTo>
                    <a:pt x="7134" y="1360"/>
                  </a:lnTo>
                  <a:lnTo>
                    <a:pt x="7140" y="1362"/>
                  </a:lnTo>
                  <a:lnTo>
                    <a:pt x="7145" y="1362"/>
                  </a:lnTo>
                  <a:lnTo>
                    <a:pt x="7151" y="1350"/>
                  </a:lnTo>
                  <a:lnTo>
                    <a:pt x="7156" y="1337"/>
                  </a:lnTo>
                  <a:lnTo>
                    <a:pt x="7163" y="1326"/>
                  </a:lnTo>
                  <a:lnTo>
                    <a:pt x="7170" y="1315"/>
                  </a:lnTo>
                  <a:lnTo>
                    <a:pt x="7176" y="1303"/>
                  </a:lnTo>
                  <a:lnTo>
                    <a:pt x="7184" y="1295"/>
                  </a:lnTo>
                  <a:lnTo>
                    <a:pt x="7192" y="1286"/>
                  </a:lnTo>
                  <a:lnTo>
                    <a:pt x="7199" y="1278"/>
                  </a:lnTo>
                  <a:lnTo>
                    <a:pt x="7207" y="1270"/>
                  </a:lnTo>
                  <a:lnTo>
                    <a:pt x="7215" y="1264"/>
                  </a:lnTo>
                  <a:lnTo>
                    <a:pt x="7224" y="1258"/>
                  </a:lnTo>
                  <a:lnTo>
                    <a:pt x="7233" y="1254"/>
                  </a:lnTo>
                  <a:lnTo>
                    <a:pt x="7242" y="1250"/>
                  </a:lnTo>
                  <a:lnTo>
                    <a:pt x="7251" y="1247"/>
                  </a:lnTo>
                  <a:lnTo>
                    <a:pt x="7259" y="1245"/>
                  </a:lnTo>
                  <a:lnTo>
                    <a:pt x="7268" y="1244"/>
                  </a:lnTo>
                  <a:lnTo>
                    <a:pt x="7278" y="1244"/>
                  </a:lnTo>
                  <a:lnTo>
                    <a:pt x="7287" y="1244"/>
                  </a:lnTo>
                  <a:lnTo>
                    <a:pt x="7297" y="1245"/>
                  </a:lnTo>
                  <a:lnTo>
                    <a:pt x="7307" y="1248"/>
                  </a:lnTo>
                  <a:lnTo>
                    <a:pt x="7316" y="1251"/>
                  </a:lnTo>
                  <a:lnTo>
                    <a:pt x="7326" y="1256"/>
                  </a:lnTo>
                  <a:lnTo>
                    <a:pt x="7336" y="1261"/>
                  </a:lnTo>
                  <a:lnTo>
                    <a:pt x="7346" y="1267"/>
                  </a:lnTo>
                  <a:lnTo>
                    <a:pt x="7356" y="1275"/>
                  </a:lnTo>
                  <a:lnTo>
                    <a:pt x="7365" y="1282"/>
                  </a:lnTo>
                  <a:lnTo>
                    <a:pt x="7375" y="1292"/>
                  </a:lnTo>
                  <a:lnTo>
                    <a:pt x="7385" y="1302"/>
                  </a:lnTo>
                  <a:lnTo>
                    <a:pt x="7394" y="1315"/>
                  </a:lnTo>
                  <a:lnTo>
                    <a:pt x="7404" y="1327"/>
                  </a:lnTo>
                  <a:lnTo>
                    <a:pt x="7413" y="1340"/>
                  </a:lnTo>
                  <a:lnTo>
                    <a:pt x="7422" y="1355"/>
                  </a:lnTo>
                  <a:lnTo>
                    <a:pt x="7426" y="1328"/>
                  </a:lnTo>
                  <a:lnTo>
                    <a:pt x="7430" y="1303"/>
                  </a:lnTo>
                  <a:lnTo>
                    <a:pt x="7436" y="1281"/>
                  </a:lnTo>
                  <a:lnTo>
                    <a:pt x="7442" y="1261"/>
                  </a:lnTo>
                  <a:lnTo>
                    <a:pt x="7448" y="1244"/>
                  </a:lnTo>
                  <a:lnTo>
                    <a:pt x="7455" y="1227"/>
                  </a:lnTo>
                  <a:lnTo>
                    <a:pt x="7462" y="1214"/>
                  </a:lnTo>
                  <a:lnTo>
                    <a:pt x="7469" y="1201"/>
                  </a:lnTo>
                  <a:lnTo>
                    <a:pt x="7477" y="1191"/>
                  </a:lnTo>
                  <a:lnTo>
                    <a:pt x="7485" y="1182"/>
                  </a:lnTo>
                  <a:lnTo>
                    <a:pt x="7494" y="1175"/>
                  </a:lnTo>
                  <a:lnTo>
                    <a:pt x="7503" y="1169"/>
                  </a:lnTo>
                  <a:lnTo>
                    <a:pt x="7512" y="1164"/>
                  </a:lnTo>
                  <a:lnTo>
                    <a:pt x="7520" y="1160"/>
                  </a:lnTo>
                  <a:lnTo>
                    <a:pt x="7529" y="1157"/>
                  </a:lnTo>
                  <a:lnTo>
                    <a:pt x="7539" y="1155"/>
                  </a:lnTo>
                  <a:lnTo>
                    <a:pt x="7558" y="1153"/>
                  </a:lnTo>
                  <a:lnTo>
                    <a:pt x="7577" y="1153"/>
                  </a:lnTo>
                  <a:lnTo>
                    <a:pt x="7596" y="1153"/>
                  </a:lnTo>
                  <a:lnTo>
                    <a:pt x="7614" y="1154"/>
                  </a:lnTo>
                  <a:lnTo>
                    <a:pt x="7631" y="1153"/>
                  </a:lnTo>
                  <a:lnTo>
                    <a:pt x="7647" y="1149"/>
                  </a:lnTo>
                  <a:lnTo>
                    <a:pt x="7655" y="1147"/>
                  </a:lnTo>
                  <a:lnTo>
                    <a:pt x="7663" y="1144"/>
                  </a:lnTo>
                  <a:lnTo>
                    <a:pt x="7669" y="1139"/>
                  </a:lnTo>
                  <a:lnTo>
                    <a:pt x="7676" y="1134"/>
                  </a:lnTo>
                  <a:lnTo>
                    <a:pt x="7700" y="1111"/>
                  </a:lnTo>
                  <a:lnTo>
                    <a:pt x="7715" y="1101"/>
                  </a:lnTo>
                  <a:lnTo>
                    <a:pt x="7727" y="1091"/>
                  </a:lnTo>
                  <a:lnTo>
                    <a:pt x="7739" y="1081"/>
                  </a:lnTo>
                  <a:lnTo>
                    <a:pt x="7749" y="1071"/>
                  </a:lnTo>
                  <a:lnTo>
                    <a:pt x="7759" y="1061"/>
                  </a:lnTo>
                  <a:lnTo>
                    <a:pt x="7768" y="1051"/>
                  </a:lnTo>
                  <a:lnTo>
                    <a:pt x="7776" y="1042"/>
                  </a:lnTo>
                  <a:lnTo>
                    <a:pt x="7784" y="1033"/>
                  </a:lnTo>
                  <a:lnTo>
                    <a:pt x="7796" y="1013"/>
                  </a:lnTo>
                  <a:lnTo>
                    <a:pt x="7807" y="992"/>
                  </a:lnTo>
                  <a:lnTo>
                    <a:pt x="7817" y="970"/>
                  </a:lnTo>
                  <a:lnTo>
                    <a:pt x="7827" y="948"/>
                  </a:lnTo>
                  <a:lnTo>
                    <a:pt x="7830" y="931"/>
                  </a:lnTo>
                  <a:lnTo>
                    <a:pt x="7831" y="914"/>
                  </a:lnTo>
                  <a:lnTo>
                    <a:pt x="7830" y="897"/>
                  </a:lnTo>
                  <a:lnTo>
                    <a:pt x="7827" y="881"/>
                  </a:lnTo>
                  <a:lnTo>
                    <a:pt x="7823" y="864"/>
                  </a:lnTo>
                  <a:lnTo>
                    <a:pt x="7816" y="848"/>
                  </a:lnTo>
                  <a:lnTo>
                    <a:pt x="7807" y="834"/>
                  </a:lnTo>
                  <a:lnTo>
                    <a:pt x="7798" y="821"/>
                  </a:lnTo>
                  <a:lnTo>
                    <a:pt x="7787" y="807"/>
                  </a:lnTo>
                  <a:lnTo>
                    <a:pt x="7775" y="794"/>
                  </a:lnTo>
                  <a:lnTo>
                    <a:pt x="7761" y="783"/>
                  </a:lnTo>
                  <a:lnTo>
                    <a:pt x="7747" y="773"/>
                  </a:lnTo>
                  <a:lnTo>
                    <a:pt x="7733" y="763"/>
                  </a:lnTo>
                  <a:lnTo>
                    <a:pt x="7716" y="754"/>
                  </a:lnTo>
                  <a:lnTo>
                    <a:pt x="7699" y="747"/>
                  </a:lnTo>
                  <a:lnTo>
                    <a:pt x="7683" y="741"/>
                  </a:lnTo>
                  <a:lnTo>
                    <a:pt x="7665" y="736"/>
                  </a:lnTo>
                  <a:lnTo>
                    <a:pt x="7647" y="733"/>
                  </a:lnTo>
                  <a:lnTo>
                    <a:pt x="7629" y="731"/>
                  </a:lnTo>
                  <a:lnTo>
                    <a:pt x="7610" y="730"/>
                  </a:lnTo>
                  <a:lnTo>
                    <a:pt x="7593" y="731"/>
                  </a:lnTo>
                  <a:lnTo>
                    <a:pt x="7575" y="733"/>
                  </a:lnTo>
                  <a:lnTo>
                    <a:pt x="7557" y="736"/>
                  </a:lnTo>
                  <a:lnTo>
                    <a:pt x="7539" y="742"/>
                  </a:lnTo>
                  <a:lnTo>
                    <a:pt x="7523" y="750"/>
                  </a:lnTo>
                  <a:lnTo>
                    <a:pt x="7506" y="758"/>
                  </a:lnTo>
                  <a:lnTo>
                    <a:pt x="7490" y="770"/>
                  </a:lnTo>
                  <a:lnTo>
                    <a:pt x="7476" y="783"/>
                  </a:lnTo>
                  <a:lnTo>
                    <a:pt x="7462" y="798"/>
                  </a:lnTo>
                  <a:lnTo>
                    <a:pt x="7449" y="815"/>
                  </a:lnTo>
                  <a:lnTo>
                    <a:pt x="7437" y="834"/>
                  </a:lnTo>
                  <a:lnTo>
                    <a:pt x="7427" y="855"/>
                  </a:lnTo>
                  <a:lnTo>
                    <a:pt x="7428" y="858"/>
                  </a:lnTo>
                  <a:lnTo>
                    <a:pt x="7430" y="861"/>
                  </a:lnTo>
                  <a:lnTo>
                    <a:pt x="7433" y="863"/>
                  </a:lnTo>
                  <a:lnTo>
                    <a:pt x="7435" y="864"/>
                  </a:lnTo>
                  <a:lnTo>
                    <a:pt x="7440" y="866"/>
                  </a:lnTo>
                  <a:lnTo>
                    <a:pt x="7448" y="867"/>
                  </a:lnTo>
                  <a:lnTo>
                    <a:pt x="7456" y="867"/>
                  </a:lnTo>
                  <a:lnTo>
                    <a:pt x="7465" y="866"/>
                  </a:lnTo>
                  <a:lnTo>
                    <a:pt x="7475" y="864"/>
                  </a:lnTo>
                  <a:lnTo>
                    <a:pt x="7485" y="862"/>
                  </a:lnTo>
                  <a:lnTo>
                    <a:pt x="7507" y="856"/>
                  </a:lnTo>
                  <a:lnTo>
                    <a:pt x="7529" y="851"/>
                  </a:lnTo>
                  <a:lnTo>
                    <a:pt x="7540" y="848"/>
                  </a:lnTo>
                  <a:lnTo>
                    <a:pt x="7552" y="846"/>
                  </a:lnTo>
                  <a:lnTo>
                    <a:pt x="7562" y="845"/>
                  </a:lnTo>
                  <a:lnTo>
                    <a:pt x="7570" y="845"/>
                  </a:lnTo>
                  <a:lnTo>
                    <a:pt x="7583" y="845"/>
                  </a:lnTo>
                  <a:lnTo>
                    <a:pt x="7594" y="846"/>
                  </a:lnTo>
                  <a:lnTo>
                    <a:pt x="7606" y="848"/>
                  </a:lnTo>
                  <a:lnTo>
                    <a:pt x="7617" y="851"/>
                  </a:lnTo>
                  <a:lnTo>
                    <a:pt x="7628" y="854"/>
                  </a:lnTo>
                  <a:lnTo>
                    <a:pt x="7639" y="857"/>
                  </a:lnTo>
                  <a:lnTo>
                    <a:pt x="7649" y="863"/>
                  </a:lnTo>
                  <a:lnTo>
                    <a:pt x="7659" y="867"/>
                  </a:lnTo>
                  <a:lnTo>
                    <a:pt x="7668" y="874"/>
                  </a:lnTo>
                  <a:lnTo>
                    <a:pt x="7676" y="881"/>
                  </a:lnTo>
                  <a:lnTo>
                    <a:pt x="7683" y="887"/>
                  </a:lnTo>
                  <a:lnTo>
                    <a:pt x="7689" y="896"/>
                  </a:lnTo>
                  <a:lnTo>
                    <a:pt x="7694" y="905"/>
                  </a:lnTo>
                  <a:lnTo>
                    <a:pt x="7696" y="914"/>
                  </a:lnTo>
                  <a:lnTo>
                    <a:pt x="7698" y="925"/>
                  </a:lnTo>
                  <a:lnTo>
                    <a:pt x="7698" y="936"/>
                  </a:lnTo>
                  <a:lnTo>
                    <a:pt x="7687" y="942"/>
                  </a:lnTo>
                  <a:lnTo>
                    <a:pt x="7677" y="946"/>
                  </a:lnTo>
                  <a:lnTo>
                    <a:pt x="7667" y="948"/>
                  </a:lnTo>
                  <a:lnTo>
                    <a:pt x="7657" y="948"/>
                  </a:lnTo>
                  <a:lnTo>
                    <a:pt x="7647" y="947"/>
                  </a:lnTo>
                  <a:lnTo>
                    <a:pt x="7638" y="944"/>
                  </a:lnTo>
                  <a:lnTo>
                    <a:pt x="7629" y="940"/>
                  </a:lnTo>
                  <a:lnTo>
                    <a:pt x="7619" y="936"/>
                  </a:lnTo>
                  <a:lnTo>
                    <a:pt x="7602" y="926"/>
                  </a:lnTo>
                  <a:lnTo>
                    <a:pt x="7583" y="916"/>
                  </a:lnTo>
                  <a:lnTo>
                    <a:pt x="7574" y="913"/>
                  </a:lnTo>
                  <a:lnTo>
                    <a:pt x="7564" y="909"/>
                  </a:lnTo>
                  <a:lnTo>
                    <a:pt x="7554" y="908"/>
                  </a:lnTo>
                  <a:lnTo>
                    <a:pt x="7544" y="908"/>
                  </a:lnTo>
                  <a:lnTo>
                    <a:pt x="7540" y="913"/>
                  </a:lnTo>
                  <a:lnTo>
                    <a:pt x="7537" y="918"/>
                  </a:lnTo>
                  <a:lnTo>
                    <a:pt x="7534" y="923"/>
                  </a:lnTo>
                  <a:lnTo>
                    <a:pt x="7533" y="928"/>
                  </a:lnTo>
                  <a:lnTo>
                    <a:pt x="7529" y="938"/>
                  </a:lnTo>
                  <a:lnTo>
                    <a:pt x="7529" y="949"/>
                  </a:lnTo>
                  <a:lnTo>
                    <a:pt x="7529" y="962"/>
                  </a:lnTo>
                  <a:lnTo>
                    <a:pt x="7532" y="973"/>
                  </a:lnTo>
                  <a:lnTo>
                    <a:pt x="7534" y="985"/>
                  </a:lnTo>
                  <a:lnTo>
                    <a:pt x="7537" y="998"/>
                  </a:lnTo>
                  <a:lnTo>
                    <a:pt x="7539" y="1010"/>
                  </a:lnTo>
                  <a:lnTo>
                    <a:pt x="7542" y="1024"/>
                  </a:lnTo>
                  <a:lnTo>
                    <a:pt x="7544" y="1036"/>
                  </a:lnTo>
                  <a:lnTo>
                    <a:pt x="7545" y="1049"/>
                  </a:lnTo>
                  <a:lnTo>
                    <a:pt x="7544" y="1061"/>
                  </a:lnTo>
                  <a:lnTo>
                    <a:pt x="7542" y="1075"/>
                  </a:lnTo>
                  <a:lnTo>
                    <a:pt x="7539" y="1080"/>
                  </a:lnTo>
                  <a:lnTo>
                    <a:pt x="7537" y="1087"/>
                  </a:lnTo>
                  <a:lnTo>
                    <a:pt x="7535" y="1093"/>
                  </a:lnTo>
                  <a:lnTo>
                    <a:pt x="7530" y="1099"/>
                  </a:lnTo>
                  <a:lnTo>
                    <a:pt x="7527" y="1099"/>
                  </a:lnTo>
                  <a:lnTo>
                    <a:pt x="7523" y="1099"/>
                  </a:lnTo>
                  <a:lnTo>
                    <a:pt x="7518" y="1099"/>
                  </a:lnTo>
                  <a:lnTo>
                    <a:pt x="7514" y="1100"/>
                  </a:lnTo>
                  <a:lnTo>
                    <a:pt x="7508" y="1101"/>
                  </a:lnTo>
                  <a:lnTo>
                    <a:pt x="7504" y="1103"/>
                  </a:lnTo>
                  <a:lnTo>
                    <a:pt x="7498" y="1103"/>
                  </a:lnTo>
                  <a:lnTo>
                    <a:pt x="7493" y="1104"/>
                  </a:lnTo>
                  <a:lnTo>
                    <a:pt x="7493" y="1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3125880" y="2189160"/>
              <a:ext cx="2351160" cy="1968480"/>
            </a:xfrm>
            <a:custGeom>
              <a:avLst/>
              <a:gdLst/>
              <a:ahLst/>
              <a:rect l="l" t="t" r="r" b="b"/>
              <a:pathLst>
                <a:path w="7409" h="6203">
                  <a:moveTo>
                    <a:pt x="0" y="6203"/>
                  </a:moveTo>
                  <a:lnTo>
                    <a:pt x="9" y="6149"/>
                  </a:lnTo>
                  <a:lnTo>
                    <a:pt x="15" y="6100"/>
                  </a:lnTo>
                  <a:lnTo>
                    <a:pt x="20" y="6052"/>
                  </a:lnTo>
                  <a:lnTo>
                    <a:pt x="25" y="6006"/>
                  </a:lnTo>
                  <a:lnTo>
                    <a:pt x="28" y="5957"/>
                  </a:lnTo>
                  <a:lnTo>
                    <a:pt x="33" y="5905"/>
                  </a:lnTo>
                  <a:lnTo>
                    <a:pt x="38" y="5847"/>
                  </a:lnTo>
                  <a:lnTo>
                    <a:pt x="45" y="5780"/>
                  </a:lnTo>
                  <a:lnTo>
                    <a:pt x="72" y="5551"/>
                  </a:lnTo>
                  <a:lnTo>
                    <a:pt x="69" y="5520"/>
                  </a:lnTo>
                  <a:lnTo>
                    <a:pt x="68" y="5487"/>
                  </a:lnTo>
                  <a:lnTo>
                    <a:pt x="67" y="5454"/>
                  </a:lnTo>
                  <a:lnTo>
                    <a:pt x="68" y="5421"/>
                  </a:lnTo>
                  <a:lnTo>
                    <a:pt x="69" y="5387"/>
                  </a:lnTo>
                  <a:lnTo>
                    <a:pt x="72" y="5354"/>
                  </a:lnTo>
                  <a:lnTo>
                    <a:pt x="75" y="5322"/>
                  </a:lnTo>
                  <a:lnTo>
                    <a:pt x="79" y="5290"/>
                  </a:lnTo>
                  <a:lnTo>
                    <a:pt x="84" y="5260"/>
                  </a:lnTo>
                  <a:lnTo>
                    <a:pt x="89" y="5231"/>
                  </a:lnTo>
                  <a:lnTo>
                    <a:pt x="96" y="5203"/>
                  </a:lnTo>
                  <a:lnTo>
                    <a:pt x="104" y="5179"/>
                  </a:lnTo>
                  <a:lnTo>
                    <a:pt x="113" y="5157"/>
                  </a:lnTo>
                  <a:lnTo>
                    <a:pt x="121" y="5138"/>
                  </a:lnTo>
                  <a:lnTo>
                    <a:pt x="127" y="5129"/>
                  </a:lnTo>
                  <a:lnTo>
                    <a:pt x="131" y="5121"/>
                  </a:lnTo>
                  <a:lnTo>
                    <a:pt x="137" y="5114"/>
                  </a:lnTo>
                  <a:lnTo>
                    <a:pt x="143" y="5109"/>
                  </a:lnTo>
                  <a:lnTo>
                    <a:pt x="158" y="5096"/>
                  </a:lnTo>
                  <a:lnTo>
                    <a:pt x="173" y="5082"/>
                  </a:lnTo>
                  <a:lnTo>
                    <a:pt x="186" y="5069"/>
                  </a:lnTo>
                  <a:lnTo>
                    <a:pt x="197" y="5056"/>
                  </a:lnTo>
                  <a:lnTo>
                    <a:pt x="208" y="5043"/>
                  </a:lnTo>
                  <a:lnTo>
                    <a:pt x="217" y="5030"/>
                  </a:lnTo>
                  <a:lnTo>
                    <a:pt x="226" y="5018"/>
                  </a:lnTo>
                  <a:lnTo>
                    <a:pt x="235" y="5006"/>
                  </a:lnTo>
                  <a:lnTo>
                    <a:pt x="265" y="4955"/>
                  </a:lnTo>
                  <a:lnTo>
                    <a:pt x="297" y="4900"/>
                  </a:lnTo>
                  <a:lnTo>
                    <a:pt x="316" y="4869"/>
                  </a:lnTo>
                  <a:lnTo>
                    <a:pt x="340" y="4837"/>
                  </a:lnTo>
                  <a:lnTo>
                    <a:pt x="354" y="4819"/>
                  </a:lnTo>
                  <a:lnTo>
                    <a:pt x="368" y="4800"/>
                  </a:lnTo>
                  <a:lnTo>
                    <a:pt x="385" y="4781"/>
                  </a:lnTo>
                  <a:lnTo>
                    <a:pt x="404" y="4760"/>
                  </a:lnTo>
                  <a:lnTo>
                    <a:pt x="424" y="4739"/>
                  </a:lnTo>
                  <a:lnTo>
                    <a:pt x="446" y="4717"/>
                  </a:lnTo>
                  <a:lnTo>
                    <a:pt x="470" y="4694"/>
                  </a:lnTo>
                  <a:lnTo>
                    <a:pt x="498" y="4669"/>
                  </a:lnTo>
                  <a:lnTo>
                    <a:pt x="527" y="4644"/>
                  </a:lnTo>
                  <a:lnTo>
                    <a:pt x="559" y="4616"/>
                  </a:lnTo>
                  <a:lnTo>
                    <a:pt x="593" y="4587"/>
                  </a:lnTo>
                  <a:lnTo>
                    <a:pt x="631" y="4557"/>
                  </a:lnTo>
                  <a:lnTo>
                    <a:pt x="671" y="4535"/>
                  </a:lnTo>
                  <a:lnTo>
                    <a:pt x="710" y="4511"/>
                  </a:lnTo>
                  <a:lnTo>
                    <a:pt x="749" y="4486"/>
                  </a:lnTo>
                  <a:lnTo>
                    <a:pt x="787" y="4462"/>
                  </a:lnTo>
                  <a:lnTo>
                    <a:pt x="862" y="4412"/>
                  </a:lnTo>
                  <a:lnTo>
                    <a:pt x="939" y="4361"/>
                  </a:lnTo>
                  <a:lnTo>
                    <a:pt x="978" y="4336"/>
                  </a:lnTo>
                  <a:lnTo>
                    <a:pt x="1019" y="4312"/>
                  </a:lnTo>
                  <a:lnTo>
                    <a:pt x="1060" y="4287"/>
                  </a:lnTo>
                  <a:lnTo>
                    <a:pt x="1103" y="4264"/>
                  </a:lnTo>
                  <a:lnTo>
                    <a:pt x="1149" y="4241"/>
                  </a:lnTo>
                  <a:lnTo>
                    <a:pt x="1196" y="4219"/>
                  </a:lnTo>
                  <a:lnTo>
                    <a:pt x="1245" y="4198"/>
                  </a:lnTo>
                  <a:lnTo>
                    <a:pt x="1298" y="4178"/>
                  </a:lnTo>
                  <a:lnTo>
                    <a:pt x="1323" y="4166"/>
                  </a:lnTo>
                  <a:lnTo>
                    <a:pt x="1354" y="4152"/>
                  </a:lnTo>
                  <a:lnTo>
                    <a:pt x="1391" y="4134"/>
                  </a:lnTo>
                  <a:lnTo>
                    <a:pt x="1432" y="4113"/>
                  </a:lnTo>
                  <a:lnTo>
                    <a:pt x="1476" y="4089"/>
                  </a:lnTo>
                  <a:lnTo>
                    <a:pt x="1523" y="4062"/>
                  </a:lnTo>
                  <a:lnTo>
                    <a:pt x="1572" y="4034"/>
                  </a:lnTo>
                  <a:lnTo>
                    <a:pt x="1622" y="4007"/>
                  </a:lnTo>
                  <a:lnTo>
                    <a:pt x="1671" y="3977"/>
                  </a:lnTo>
                  <a:lnTo>
                    <a:pt x="1718" y="3948"/>
                  </a:lnTo>
                  <a:lnTo>
                    <a:pt x="1765" y="3919"/>
                  </a:lnTo>
                  <a:lnTo>
                    <a:pt x="1807" y="3892"/>
                  </a:lnTo>
                  <a:lnTo>
                    <a:pt x="1845" y="3867"/>
                  </a:lnTo>
                  <a:lnTo>
                    <a:pt x="1878" y="3842"/>
                  </a:lnTo>
                  <a:lnTo>
                    <a:pt x="1906" y="3822"/>
                  </a:lnTo>
                  <a:lnTo>
                    <a:pt x="1926" y="3805"/>
                  </a:lnTo>
                  <a:lnTo>
                    <a:pt x="1923" y="3792"/>
                  </a:lnTo>
                  <a:lnTo>
                    <a:pt x="1917" y="3781"/>
                  </a:lnTo>
                  <a:lnTo>
                    <a:pt x="1911" y="3769"/>
                  </a:lnTo>
                  <a:lnTo>
                    <a:pt x="1902" y="3758"/>
                  </a:lnTo>
                  <a:lnTo>
                    <a:pt x="1884" y="3737"/>
                  </a:lnTo>
                  <a:lnTo>
                    <a:pt x="1866" y="3715"/>
                  </a:lnTo>
                  <a:lnTo>
                    <a:pt x="1858" y="3704"/>
                  </a:lnTo>
                  <a:lnTo>
                    <a:pt x="1852" y="3694"/>
                  </a:lnTo>
                  <a:lnTo>
                    <a:pt x="1847" y="3683"/>
                  </a:lnTo>
                  <a:lnTo>
                    <a:pt x="1844" y="3671"/>
                  </a:lnTo>
                  <a:lnTo>
                    <a:pt x="1843" y="3666"/>
                  </a:lnTo>
                  <a:lnTo>
                    <a:pt x="1843" y="3660"/>
                  </a:lnTo>
                  <a:lnTo>
                    <a:pt x="1844" y="3655"/>
                  </a:lnTo>
                  <a:lnTo>
                    <a:pt x="1846" y="3649"/>
                  </a:lnTo>
                  <a:lnTo>
                    <a:pt x="1848" y="3644"/>
                  </a:lnTo>
                  <a:lnTo>
                    <a:pt x="1851" y="3638"/>
                  </a:lnTo>
                  <a:lnTo>
                    <a:pt x="1855" y="3633"/>
                  </a:lnTo>
                  <a:lnTo>
                    <a:pt x="1859" y="3627"/>
                  </a:lnTo>
                  <a:lnTo>
                    <a:pt x="1867" y="3626"/>
                  </a:lnTo>
                  <a:lnTo>
                    <a:pt x="1874" y="3626"/>
                  </a:lnTo>
                  <a:lnTo>
                    <a:pt x="1881" y="3627"/>
                  </a:lnTo>
                  <a:lnTo>
                    <a:pt x="1886" y="3628"/>
                  </a:lnTo>
                  <a:lnTo>
                    <a:pt x="1898" y="3633"/>
                  </a:lnTo>
                  <a:lnTo>
                    <a:pt x="1908" y="3638"/>
                  </a:lnTo>
                  <a:lnTo>
                    <a:pt x="1918" y="3645"/>
                  </a:lnTo>
                  <a:lnTo>
                    <a:pt x="1927" y="3653"/>
                  </a:lnTo>
                  <a:lnTo>
                    <a:pt x="1935" y="3663"/>
                  </a:lnTo>
                  <a:lnTo>
                    <a:pt x="1944" y="3671"/>
                  </a:lnTo>
                  <a:lnTo>
                    <a:pt x="1959" y="3691"/>
                  </a:lnTo>
                  <a:lnTo>
                    <a:pt x="1975" y="3708"/>
                  </a:lnTo>
                  <a:lnTo>
                    <a:pt x="1984" y="3716"/>
                  </a:lnTo>
                  <a:lnTo>
                    <a:pt x="1993" y="3721"/>
                  </a:lnTo>
                  <a:lnTo>
                    <a:pt x="1998" y="3724"/>
                  </a:lnTo>
                  <a:lnTo>
                    <a:pt x="2003" y="3726"/>
                  </a:lnTo>
                  <a:lnTo>
                    <a:pt x="2008" y="3727"/>
                  </a:lnTo>
                  <a:lnTo>
                    <a:pt x="2014" y="3728"/>
                  </a:lnTo>
                  <a:lnTo>
                    <a:pt x="2079" y="3679"/>
                  </a:lnTo>
                  <a:lnTo>
                    <a:pt x="2144" y="3633"/>
                  </a:lnTo>
                  <a:lnTo>
                    <a:pt x="2206" y="3587"/>
                  </a:lnTo>
                  <a:lnTo>
                    <a:pt x="2266" y="3542"/>
                  </a:lnTo>
                  <a:lnTo>
                    <a:pt x="2296" y="3518"/>
                  </a:lnTo>
                  <a:lnTo>
                    <a:pt x="2325" y="3496"/>
                  </a:lnTo>
                  <a:lnTo>
                    <a:pt x="2353" y="3472"/>
                  </a:lnTo>
                  <a:lnTo>
                    <a:pt x="2381" y="3448"/>
                  </a:lnTo>
                  <a:lnTo>
                    <a:pt x="2408" y="3424"/>
                  </a:lnTo>
                  <a:lnTo>
                    <a:pt x="2435" y="3399"/>
                  </a:lnTo>
                  <a:lnTo>
                    <a:pt x="2461" y="3374"/>
                  </a:lnTo>
                  <a:lnTo>
                    <a:pt x="2487" y="3347"/>
                  </a:lnTo>
                  <a:lnTo>
                    <a:pt x="2481" y="3328"/>
                  </a:lnTo>
                  <a:lnTo>
                    <a:pt x="2475" y="3311"/>
                  </a:lnTo>
                  <a:lnTo>
                    <a:pt x="2468" y="3294"/>
                  </a:lnTo>
                  <a:lnTo>
                    <a:pt x="2461" y="3280"/>
                  </a:lnTo>
                  <a:lnTo>
                    <a:pt x="2456" y="3267"/>
                  </a:lnTo>
                  <a:lnTo>
                    <a:pt x="2451" y="3257"/>
                  </a:lnTo>
                  <a:lnTo>
                    <a:pt x="2448" y="3251"/>
                  </a:lnTo>
                  <a:lnTo>
                    <a:pt x="2447" y="3249"/>
                  </a:lnTo>
                  <a:lnTo>
                    <a:pt x="2431" y="3224"/>
                  </a:lnTo>
                  <a:lnTo>
                    <a:pt x="2418" y="3204"/>
                  </a:lnTo>
                  <a:lnTo>
                    <a:pt x="2413" y="3195"/>
                  </a:lnTo>
                  <a:lnTo>
                    <a:pt x="2409" y="3189"/>
                  </a:lnTo>
                  <a:lnTo>
                    <a:pt x="2407" y="3183"/>
                  </a:lnTo>
                  <a:lnTo>
                    <a:pt x="2407" y="3179"/>
                  </a:lnTo>
                  <a:lnTo>
                    <a:pt x="2408" y="3177"/>
                  </a:lnTo>
                  <a:lnTo>
                    <a:pt x="2409" y="3176"/>
                  </a:lnTo>
                  <a:lnTo>
                    <a:pt x="2413" y="3176"/>
                  </a:lnTo>
                  <a:lnTo>
                    <a:pt x="2415" y="3176"/>
                  </a:lnTo>
                  <a:lnTo>
                    <a:pt x="2424" y="3177"/>
                  </a:lnTo>
                  <a:lnTo>
                    <a:pt x="2436" y="3181"/>
                  </a:lnTo>
                  <a:lnTo>
                    <a:pt x="2474" y="3193"/>
                  </a:lnTo>
                  <a:lnTo>
                    <a:pt x="2529" y="3215"/>
                  </a:lnTo>
                  <a:lnTo>
                    <a:pt x="2611" y="3264"/>
                  </a:lnTo>
                  <a:lnTo>
                    <a:pt x="2677" y="3215"/>
                  </a:lnTo>
                  <a:lnTo>
                    <a:pt x="2723" y="3182"/>
                  </a:lnTo>
                  <a:lnTo>
                    <a:pt x="2755" y="3159"/>
                  </a:lnTo>
                  <a:lnTo>
                    <a:pt x="2779" y="3139"/>
                  </a:lnTo>
                  <a:lnTo>
                    <a:pt x="2802" y="3119"/>
                  </a:lnTo>
                  <a:lnTo>
                    <a:pt x="2831" y="3092"/>
                  </a:lnTo>
                  <a:lnTo>
                    <a:pt x="2871" y="3055"/>
                  </a:lnTo>
                  <a:lnTo>
                    <a:pt x="2929" y="3001"/>
                  </a:lnTo>
                  <a:lnTo>
                    <a:pt x="2896" y="2940"/>
                  </a:lnTo>
                  <a:lnTo>
                    <a:pt x="2903" y="2933"/>
                  </a:lnTo>
                  <a:lnTo>
                    <a:pt x="2912" y="2927"/>
                  </a:lnTo>
                  <a:lnTo>
                    <a:pt x="2920" y="2920"/>
                  </a:lnTo>
                  <a:lnTo>
                    <a:pt x="2929" y="2912"/>
                  </a:lnTo>
                  <a:lnTo>
                    <a:pt x="2938" y="2904"/>
                  </a:lnTo>
                  <a:lnTo>
                    <a:pt x="2946" y="2897"/>
                  </a:lnTo>
                  <a:lnTo>
                    <a:pt x="2953" y="2888"/>
                  </a:lnTo>
                  <a:lnTo>
                    <a:pt x="2960" y="2879"/>
                  </a:lnTo>
                  <a:lnTo>
                    <a:pt x="2966" y="2892"/>
                  </a:lnTo>
                  <a:lnTo>
                    <a:pt x="2969" y="2903"/>
                  </a:lnTo>
                  <a:lnTo>
                    <a:pt x="2973" y="2913"/>
                  </a:lnTo>
                  <a:lnTo>
                    <a:pt x="2977" y="2921"/>
                  </a:lnTo>
                  <a:lnTo>
                    <a:pt x="2981" y="2929"/>
                  </a:lnTo>
                  <a:lnTo>
                    <a:pt x="2987" y="2937"/>
                  </a:lnTo>
                  <a:lnTo>
                    <a:pt x="2994" y="2944"/>
                  </a:lnTo>
                  <a:lnTo>
                    <a:pt x="3004" y="2954"/>
                  </a:lnTo>
                  <a:lnTo>
                    <a:pt x="3172" y="2773"/>
                  </a:lnTo>
                  <a:lnTo>
                    <a:pt x="3147" y="2771"/>
                  </a:lnTo>
                  <a:lnTo>
                    <a:pt x="3122" y="2768"/>
                  </a:lnTo>
                  <a:lnTo>
                    <a:pt x="3099" y="2763"/>
                  </a:lnTo>
                  <a:lnTo>
                    <a:pt x="3077" y="2758"/>
                  </a:lnTo>
                  <a:lnTo>
                    <a:pt x="3056" y="2752"/>
                  </a:lnTo>
                  <a:lnTo>
                    <a:pt x="3034" y="2746"/>
                  </a:lnTo>
                  <a:lnTo>
                    <a:pt x="3014" y="2738"/>
                  </a:lnTo>
                  <a:lnTo>
                    <a:pt x="2996" y="2728"/>
                  </a:lnTo>
                  <a:lnTo>
                    <a:pt x="2978" y="2718"/>
                  </a:lnTo>
                  <a:lnTo>
                    <a:pt x="2960" y="2707"/>
                  </a:lnTo>
                  <a:lnTo>
                    <a:pt x="2942" y="2694"/>
                  </a:lnTo>
                  <a:lnTo>
                    <a:pt x="2926" y="2679"/>
                  </a:lnTo>
                  <a:lnTo>
                    <a:pt x="2909" y="2664"/>
                  </a:lnTo>
                  <a:lnTo>
                    <a:pt x="2892" y="2647"/>
                  </a:lnTo>
                  <a:lnTo>
                    <a:pt x="2876" y="2628"/>
                  </a:lnTo>
                  <a:lnTo>
                    <a:pt x="2860" y="2607"/>
                  </a:lnTo>
                  <a:lnTo>
                    <a:pt x="2845" y="2602"/>
                  </a:lnTo>
                  <a:lnTo>
                    <a:pt x="2829" y="2596"/>
                  </a:lnTo>
                  <a:lnTo>
                    <a:pt x="2813" y="2587"/>
                  </a:lnTo>
                  <a:lnTo>
                    <a:pt x="2797" y="2577"/>
                  </a:lnTo>
                  <a:lnTo>
                    <a:pt x="2780" y="2566"/>
                  </a:lnTo>
                  <a:lnTo>
                    <a:pt x="2763" y="2553"/>
                  </a:lnTo>
                  <a:lnTo>
                    <a:pt x="2747" y="2539"/>
                  </a:lnTo>
                  <a:lnTo>
                    <a:pt x="2731" y="2524"/>
                  </a:lnTo>
                  <a:lnTo>
                    <a:pt x="2718" y="2507"/>
                  </a:lnTo>
                  <a:lnTo>
                    <a:pt x="2705" y="2490"/>
                  </a:lnTo>
                  <a:lnTo>
                    <a:pt x="2692" y="2473"/>
                  </a:lnTo>
                  <a:lnTo>
                    <a:pt x="2684" y="2454"/>
                  </a:lnTo>
                  <a:lnTo>
                    <a:pt x="2679" y="2445"/>
                  </a:lnTo>
                  <a:lnTo>
                    <a:pt x="2676" y="2435"/>
                  </a:lnTo>
                  <a:lnTo>
                    <a:pt x="2672" y="2425"/>
                  </a:lnTo>
                  <a:lnTo>
                    <a:pt x="2670" y="2415"/>
                  </a:lnTo>
                  <a:lnTo>
                    <a:pt x="2668" y="2405"/>
                  </a:lnTo>
                  <a:lnTo>
                    <a:pt x="2667" y="2395"/>
                  </a:lnTo>
                  <a:lnTo>
                    <a:pt x="2667" y="2385"/>
                  </a:lnTo>
                  <a:lnTo>
                    <a:pt x="2667" y="2375"/>
                  </a:lnTo>
                  <a:lnTo>
                    <a:pt x="2637" y="2334"/>
                  </a:lnTo>
                  <a:lnTo>
                    <a:pt x="2611" y="2292"/>
                  </a:lnTo>
                  <a:lnTo>
                    <a:pt x="2590" y="2251"/>
                  </a:lnTo>
                  <a:lnTo>
                    <a:pt x="2574" y="2207"/>
                  </a:lnTo>
                  <a:lnTo>
                    <a:pt x="2561" y="2165"/>
                  </a:lnTo>
                  <a:lnTo>
                    <a:pt x="2554" y="2123"/>
                  </a:lnTo>
                  <a:lnTo>
                    <a:pt x="2549" y="2081"/>
                  </a:lnTo>
                  <a:lnTo>
                    <a:pt x="2548" y="2039"/>
                  </a:lnTo>
                  <a:lnTo>
                    <a:pt x="2550" y="1998"/>
                  </a:lnTo>
                  <a:lnTo>
                    <a:pt x="2555" y="1956"/>
                  </a:lnTo>
                  <a:lnTo>
                    <a:pt x="2562" y="1915"/>
                  </a:lnTo>
                  <a:lnTo>
                    <a:pt x="2574" y="1875"/>
                  </a:lnTo>
                  <a:lnTo>
                    <a:pt x="2586" y="1837"/>
                  </a:lnTo>
                  <a:lnTo>
                    <a:pt x="2601" y="1798"/>
                  </a:lnTo>
                  <a:lnTo>
                    <a:pt x="2618" y="1761"/>
                  </a:lnTo>
                  <a:lnTo>
                    <a:pt x="2637" y="1724"/>
                  </a:lnTo>
                  <a:lnTo>
                    <a:pt x="2657" y="1689"/>
                  </a:lnTo>
                  <a:lnTo>
                    <a:pt x="2678" y="1656"/>
                  </a:lnTo>
                  <a:lnTo>
                    <a:pt x="2699" y="1623"/>
                  </a:lnTo>
                  <a:lnTo>
                    <a:pt x="2722" y="1592"/>
                  </a:lnTo>
                  <a:lnTo>
                    <a:pt x="2746" y="1564"/>
                  </a:lnTo>
                  <a:lnTo>
                    <a:pt x="2769" y="1536"/>
                  </a:lnTo>
                  <a:lnTo>
                    <a:pt x="2792" y="1510"/>
                  </a:lnTo>
                  <a:lnTo>
                    <a:pt x="2816" y="1486"/>
                  </a:lnTo>
                  <a:lnTo>
                    <a:pt x="2839" y="1465"/>
                  </a:lnTo>
                  <a:lnTo>
                    <a:pt x="2861" y="1445"/>
                  </a:lnTo>
                  <a:lnTo>
                    <a:pt x="2882" y="1428"/>
                  </a:lnTo>
                  <a:lnTo>
                    <a:pt x="2903" y="1413"/>
                  </a:lnTo>
                  <a:lnTo>
                    <a:pt x="2922" y="1400"/>
                  </a:lnTo>
                  <a:lnTo>
                    <a:pt x="2939" y="1390"/>
                  </a:lnTo>
                  <a:lnTo>
                    <a:pt x="2954" y="1383"/>
                  </a:lnTo>
                  <a:lnTo>
                    <a:pt x="2969" y="1378"/>
                  </a:lnTo>
                  <a:lnTo>
                    <a:pt x="3096" y="1289"/>
                  </a:lnTo>
                  <a:lnTo>
                    <a:pt x="3101" y="1296"/>
                  </a:lnTo>
                  <a:lnTo>
                    <a:pt x="3107" y="1303"/>
                  </a:lnTo>
                  <a:lnTo>
                    <a:pt x="3110" y="1308"/>
                  </a:lnTo>
                  <a:lnTo>
                    <a:pt x="3113" y="1315"/>
                  </a:lnTo>
                  <a:lnTo>
                    <a:pt x="3116" y="1320"/>
                  </a:lnTo>
                  <a:lnTo>
                    <a:pt x="3117" y="1326"/>
                  </a:lnTo>
                  <a:lnTo>
                    <a:pt x="3117" y="1332"/>
                  </a:lnTo>
                  <a:lnTo>
                    <a:pt x="3117" y="1336"/>
                  </a:lnTo>
                  <a:lnTo>
                    <a:pt x="3114" y="1342"/>
                  </a:lnTo>
                  <a:lnTo>
                    <a:pt x="3113" y="1346"/>
                  </a:lnTo>
                  <a:lnTo>
                    <a:pt x="3110" y="1350"/>
                  </a:lnTo>
                  <a:lnTo>
                    <a:pt x="3108" y="1355"/>
                  </a:lnTo>
                  <a:lnTo>
                    <a:pt x="3100" y="1364"/>
                  </a:lnTo>
                  <a:lnTo>
                    <a:pt x="3091" y="1373"/>
                  </a:lnTo>
                  <a:lnTo>
                    <a:pt x="3070" y="1390"/>
                  </a:lnTo>
                  <a:lnTo>
                    <a:pt x="3048" y="1408"/>
                  </a:lnTo>
                  <a:lnTo>
                    <a:pt x="3038" y="1418"/>
                  </a:lnTo>
                  <a:lnTo>
                    <a:pt x="3030" y="1429"/>
                  </a:lnTo>
                  <a:lnTo>
                    <a:pt x="3026" y="1435"/>
                  </a:lnTo>
                  <a:lnTo>
                    <a:pt x="3022" y="1440"/>
                  </a:lnTo>
                  <a:lnTo>
                    <a:pt x="3020" y="1446"/>
                  </a:lnTo>
                  <a:lnTo>
                    <a:pt x="3018" y="1453"/>
                  </a:lnTo>
                  <a:lnTo>
                    <a:pt x="3008" y="1465"/>
                  </a:lnTo>
                  <a:lnTo>
                    <a:pt x="2999" y="1478"/>
                  </a:lnTo>
                  <a:lnTo>
                    <a:pt x="2990" y="1492"/>
                  </a:lnTo>
                  <a:lnTo>
                    <a:pt x="2982" y="1506"/>
                  </a:lnTo>
                  <a:lnTo>
                    <a:pt x="2974" y="1521"/>
                  </a:lnTo>
                  <a:lnTo>
                    <a:pt x="2967" y="1536"/>
                  </a:lnTo>
                  <a:lnTo>
                    <a:pt x="2961" y="1551"/>
                  </a:lnTo>
                  <a:lnTo>
                    <a:pt x="2954" y="1567"/>
                  </a:lnTo>
                  <a:lnTo>
                    <a:pt x="2949" y="1584"/>
                  </a:lnTo>
                  <a:lnTo>
                    <a:pt x="2944" y="1600"/>
                  </a:lnTo>
                  <a:lnTo>
                    <a:pt x="2940" y="1617"/>
                  </a:lnTo>
                  <a:lnTo>
                    <a:pt x="2937" y="1633"/>
                  </a:lnTo>
                  <a:lnTo>
                    <a:pt x="2933" y="1650"/>
                  </a:lnTo>
                  <a:lnTo>
                    <a:pt x="2931" y="1668"/>
                  </a:lnTo>
                  <a:lnTo>
                    <a:pt x="2929" y="1685"/>
                  </a:lnTo>
                  <a:lnTo>
                    <a:pt x="2928" y="1702"/>
                  </a:lnTo>
                  <a:lnTo>
                    <a:pt x="2927" y="1720"/>
                  </a:lnTo>
                  <a:lnTo>
                    <a:pt x="2926" y="1737"/>
                  </a:lnTo>
                  <a:lnTo>
                    <a:pt x="2927" y="1754"/>
                  </a:lnTo>
                  <a:lnTo>
                    <a:pt x="2927" y="1771"/>
                  </a:lnTo>
                  <a:lnTo>
                    <a:pt x="2929" y="1789"/>
                  </a:lnTo>
                  <a:lnTo>
                    <a:pt x="2930" y="1806"/>
                  </a:lnTo>
                  <a:lnTo>
                    <a:pt x="2933" y="1822"/>
                  </a:lnTo>
                  <a:lnTo>
                    <a:pt x="2936" y="1839"/>
                  </a:lnTo>
                  <a:lnTo>
                    <a:pt x="2940" y="1855"/>
                  </a:lnTo>
                  <a:lnTo>
                    <a:pt x="2944" y="1871"/>
                  </a:lnTo>
                  <a:lnTo>
                    <a:pt x="2949" y="1888"/>
                  </a:lnTo>
                  <a:lnTo>
                    <a:pt x="2954" y="1902"/>
                  </a:lnTo>
                  <a:lnTo>
                    <a:pt x="2960" y="1918"/>
                  </a:lnTo>
                  <a:lnTo>
                    <a:pt x="2967" y="1932"/>
                  </a:lnTo>
                  <a:lnTo>
                    <a:pt x="2973" y="1946"/>
                  </a:lnTo>
                  <a:lnTo>
                    <a:pt x="2981" y="1960"/>
                  </a:lnTo>
                  <a:lnTo>
                    <a:pt x="2993" y="1978"/>
                  </a:lnTo>
                  <a:lnTo>
                    <a:pt x="3007" y="1994"/>
                  </a:lnTo>
                  <a:lnTo>
                    <a:pt x="3020" y="2011"/>
                  </a:lnTo>
                  <a:lnTo>
                    <a:pt x="3033" y="2026"/>
                  </a:lnTo>
                  <a:lnTo>
                    <a:pt x="3048" y="2042"/>
                  </a:lnTo>
                  <a:lnTo>
                    <a:pt x="3062" y="2057"/>
                  </a:lnTo>
                  <a:lnTo>
                    <a:pt x="3078" y="2071"/>
                  </a:lnTo>
                  <a:lnTo>
                    <a:pt x="3093" y="2085"/>
                  </a:lnTo>
                  <a:lnTo>
                    <a:pt x="3110" y="2097"/>
                  </a:lnTo>
                  <a:lnTo>
                    <a:pt x="3127" y="2110"/>
                  </a:lnTo>
                  <a:lnTo>
                    <a:pt x="3143" y="2122"/>
                  </a:lnTo>
                  <a:lnTo>
                    <a:pt x="3161" y="2133"/>
                  </a:lnTo>
                  <a:lnTo>
                    <a:pt x="3179" y="2143"/>
                  </a:lnTo>
                  <a:lnTo>
                    <a:pt x="3197" y="2153"/>
                  </a:lnTo>
                  <a:lnTo>
                    <a:pt x="3215" y="2162"/>
                  </a:lnTo>
                  <a:lnTo>
                    <a:pt x="3233" y="2171"/>
                  </a:lnTo>
                  <a:lnTo>
                    <a:pt x="3253" y="2178"/>
                  </a:lnTo>
                  <a:lnTo>
                    <a:pt x="3272" y="2185"/>
                  </a:lnTo>
                  <a:lnTo>
                    <a:pt x="3292" y="2192"/>
                  </a:lnTo>
                  <a:lnTo>
                    <a:pt x="3312" y="2197"/>
                  </a:lnTo>
                  <a:lnTo>
                    <a:pt x="3332" y="2202"/>
                  </a:lnTo>
                  <a:lnTo>
                    <a:pt x="3352" y="2206"/>
                  </a:lnTo>
                  <a:lnTo>
                    <a:pt x="3373" y="2210"/>
                  </a:lnTo>
                  <a:lnTo>
                    <a:pt x="3394" y="2212"/>
                  </a:lnTo>
                  <a:lnTo>
                    <a:pt x="3415" y="2214"/>
                  </a:lnTo>
                  <a:lnTo>
                    <a:pt x="3436" y="2215"/>
                  </a:lnTo>
                  <a:lnTo>
                    <a:pt x="3458" y="2215"/>
                  </a:lnTo>
                  <a:lnTo>
                    <a:pt x="3479" y="2214"/>
                  </a:lnTo>
                  <a:lnTo>
                    <a:pt x="3501" y="2213"/>
                  </a:lnTo>
                  <a:lnTo>
                    <a:pt x="3522" y="2211"/>
                  </a:lnTo>
                  <a:lnTo>
                    <a:pt x="3544" y="2207"/>
                  </a:lnTo>
                  <a:lnTo>
                    <a:pt x="3565" y="2203"/>
                  </a:lnTo>
                  <a:lnTo>
                    <a:pt x="3562" y="2207"/>
                  </a:lnTo>
                  <a:lnTo>
                    <a:pt x="3556" y="2212"/>
                  </a:lnTo>
                  <a:lnTo>
                    <a:pt x="3551" y="2216"/>
                  </a:lnTo>
                  <a:lnTo>
                    <a:pt x="3544" y="2220"/>
                  </a:lnTo>
                  <a:lnTo>
                    <a:pt x="3530" y="2226"/>
                  </a:lnTo>
                  <a:lnTo>
                    <a:pt x="3513" y="2231"/>
                  </a:lnTo>
                  <a:lnTo>
                    <a:pt x="3473" y="2240"/>
                  </a:lnTo>
                  <a:lnTo>
                    <a:pt x="3429" y="2247"/>
                  </a:lnTo>
                  <a:lnTo>
                    <a:pt x="3384" y="2255"/>
                  </a:lnTo>
                  <a:lnTo>
                    <a:pt x="3343" y="2264"/>
                  </a:lnTo>
                  <a:lnTo>
                    <a:pt x="3325" y="2269"/>
                  </a:lnTo>
                  <a:lnTo>
                    <a:pt x="3309" y="2276"/>
                  </a:lnTo>
                  <a:lnTo>
                    <a:pt x="3302" y="2279"/>
                  </a:lnTo>
                  <a:lnTo>
                    <a:pt x="3295" y="2284"/>
                  </a:lnTo>
                  <a:lnTo>
                    <a:pt x="3290" y="2287"/>
                  </a:lnTo>
                  <a:lnTo>
                    <a:pt x="3284" y="2293"/>
                  </a:lnTo>
                  <a:lnTo>
                    <a:pt x="3275" y="2302"/>
                  </a:lnTo>
                  <a:lnTo>
                    <a:pt x="3265" y="2311"/>
                  </a:lnTo>
                  <a:lnTo>
                    <a:pt x="3254" y="2318"/>
                  </a:lnTo>
                  <a:lnTo>
                    <a:pt x="3243" y="2326"/>
                  </a:lnTo>
                  <a:lnTo>
                    <a:pt x="3230" y="2334"/>
                  </a:lnTo>
                  <a:lnTo>
                    <a:pt x="3218" y="2341"/>
                  </a:lnTo>
                  <a:lnTo>
                    <a:pt x="3203" y="2348"/>
                  </a:lnTo>
                  <a:lnTo>
                    <a:pt x="3189" y="2354"/>
                  </a:lnTo>
                  <a:lnTo>
                    <a:pt x="3158" y="2366"/>
                  </a:lnTo>
                  <a:lnTo>
                    <a:pt x="3126" y="2377"/>
                  </a:lnTo>
                  <a:lnTo>
                    <a:pt x="3092" y="2387"/>
                  </a:lnTo>
                  <a:lnTo>
                    <a:pt x="3057" y="2396"/>
                  </a:lnTo>
                  <a:lnTo>
                    <a:pt x="3021" y="2403"/>
                  </a:lnTo>
                  <a:lnTo>
                    <a:pt x="2986" y="2409"/>
                  </a:lnTo>
                  <a:lnTo>
                    <a:pt x="2950" y="2416"/>
                  </a:lnTo>
                  <a:lnTo>
                    <a:pt x="2916" y="2420"/>
                  </a:lnTo>
                  <a:lnTo>
                    <a:pt x="2849" y="2428"/>
                  </a:lnTo>
                  <a:lnTo>
                    <a:pt x="2791" y="2434"/>
                  </a:lnTo>
                  <a:lnTo>
                    <a:pt x="2806" y="2450"/>
                  </a:lnTo>
                  <a:lnTo>
                    <a:pt x="2820" y="2465"/>
                  </a:lnTo>
                  <a:lnTo>
                    <a:pt x="2835" y="2477"/>
                  </a:lnTo>
                  <a:lnTo>
                    <a:pt x="2848" y="2487"/>
                  </a:lnTo>
                  <a:lnTo>
                    <a:pt x="2860" y="2496"/>
                  </a:lnTo>
                  <a:lnTo>
                    <a:pt x="2872" y="2504"/>
                  </a:lnTo>
                  <a:lnTo>
                    <a:pt x="2885" y="2509"/>
                  </a:lnTo>
                  <a:lnTo>
                    <a:pt x="2896" y="2514"/>
                  </a:lnTo>
                  <a:lnTo>
                    <a:pt x="2906" y="2517"/>
                  </a:lnTo>
                  <a:lnTo>
                    <a:pt x="2916" y="2519"/>
                  </a:lnTo>
                  <a:lnTo>
                    <a:pt x="2924" y="2520"/>
                  </a:lnTo>
                  <a:lnTo>
                    <a:pt x="2932" y="2521"/>
                  </a:lnTo>
                  <a:lnTo>
                    <a:pt x="2946" y="2521"/>
                  </a:lnTo>
                  <a:lnTo>
                    <a:pt x="2954" y="2520"/>
                  </a:lnTo>
                  <a:lnTo>
                    <a:pt x="2980" y="2519"/>
                  </a:lnTo>
                  <a:lnTo>
                    <a:pt x="3004" y="2517"/>
                  </a:lnTo>
                  <a:lnTo>
                    <a:pt x="3028" y="2513"/>
                  </a:lnTo>
                  <a:lnTo>
                    <a:pt x="3051" y="2506"/>
                  </a:lnTo>
                  <a:lnTo>
                    <a:pt x="3073" y="2498"/>
                  </a:lnTo>
                  <a:lnTo>
                    <a:pt x="3096" y="2489"/>
                  </a:lnTo>
                  <a:lnTo>
                    <a:pt x="3117" y="2479"/>
                  </a:lnTo>
                  <a:lnTo>
                    <a:pt x="3138" y="2467"/>
                  </a:lnTo>
                  <a:lnTo>
                    <a:pt x="3159" y="2455"/>
                  </a:lnTo>
                  <a:lnTo>
                    <a:pt x="3179" y="2442"/>
                  </a:lnTo>
                  <a:lnTo>
                    <a:pt x="3200" y="2428"/>
                  </a:lnTo>
                  <a:lnTo>
                    <a:pt x="3220" y="2414"/>
                  </a:lnTo>
                  <a:lnTo>
                    <a:pt x="3259" y="2385"/>
                  </a:lnTo>
                  <a:lnTo>
                    <a:pt x="3299" y="2356"/>
                  </a:lnTo>
                  <a:lnTo>
                    <a:pt x="3305" y="2358"/>
                  </a:lnTo>
                  <a:lnTo>
                    <a:pt x="3312" y="2359"/>
                  </a:lnTo>
                  <a:lnTo>
                    <a:pt x="3319" y="2362"/>
                  </a:lnTo>
                  <a:lnTo>
                    <a:pt x="3325" y="2364"/>
                  </a:lnTo>
                  <a:lnTo>
                    <a:pt x="3332" y="2367"/>
                  </a:lnTo>
                  <a:lnTo>
                    <a:pt x="3338" y="2370"/>
                  </a:lnTo>
                  <a:lnTo>
                    <a:pt x="3343" y="2375"/>
                  </a:lnTo>
                  <a:lnTo>
                    <a:pt x="3348" y="2380"/>
                  </a:lnTo>
                  <a:lnTo>
                    <a:pt x="3347" y="2384"/>
                  </a:lnTo>
                  <a:lnTo>
                    <a:pt x="3342" y="2394"/>
                  </a:lnTo>
                  <a:lnTo>
                    <a:pt x="3331" y="2412"/>
                  </a:lnTo>
                  <a:lnTo>
                    <a:pt x="3312" y="2437"/>
                  </a:lnTo>
                  <a:lnTo>
                    <a:pt x="3300" y="2454"/>
                  </a:lnTo>
                  <a:lnTo>
                    <a:pt x="3284" y="2472"/>
                  </a:lnTo>
                  <a:lnTo>
                    <a:pt x="3265" y="2493"/>
                  </a:lnTo>
                  <a:lnTo>
                    <a:pt x="3243" y="2516"/>
                  </a:lnTo>
                  <a:lnTo>
                    <a:pt x="3219" y="2543"/>
                  </a:lnTo>
                  <a:lnTo>
                    <a:pt x="3189" y="2571"/>
                  </a:lnTo>
                  <a:lnTo>
                    <a:pt x="3157" y="2602"/>
                  </a:lnTo>
                  <a:lnTo>
                    <a:pt x="3119" y="2637"/>
                  </a:lnTo>
                  <a:lnTo>
                    <a:pt x="3128" y="2634"/>
                  </a:lnTo>
                  <a:lnTo>
                    <a:pt x="3137" y="2632"/>
                  </a:lnTo>
                  <a:lnTo>
                    <a:pt x="3144" y="2632"/>
                  </a:lnTo>
                  <a:lnTo>
                    <a:pt x="3152" y="2634"/>
                  </a:lnTo>
                  <a:lnTo>
                    <a:pt x="3159" y="2636"/>
                  </a:lnTo>
                  <a:lnTo>
                    <a:pt x="3165" y="2639"/>
                  </a:lnTo>
                  <a:lnTo>
                    <a:pt x="3171" y="2642"/>
                  </a:lnTo>
                  <a:lnTo>
                    <a:pt x="3177" y="2647"/>
                  </a:lnTo>
                  <a:lnTo>
                    <a:pt x="3188" y="2657"/>
                  </a:lnTo>
                  <a:lnTo>
                    <a:pt x="3198" y="2667"/>
                  </a:lnTo>
                  <a:lnTo>
                    <a:pt x="3202" y="2671"/>
                  </a:lnTo>
                  <a:lnTo>
                    <a:pt x="3208" y="2676"/>
                  </a:lnTo>
                  <a:lnTo>
                    <a:pt x="3212" y="2679"/>
                  </a:lnTo>
                  <a:lnTo>
                    <a:pt x="3218" y="2681"/>
                  </a:lnTo>
                  <a:lnTo>
                    <a:pt x="3222" y="2682"/>
                  </a:lnTo>
                  <a:lnTo>
                    <a:pt x="3228" y="2682"/>
                  </a:lnTo>
                  <a:lnTo>
                    <a:pt x="3234" y="2681"/>
                  </a:lnTo>
                  <a:lnTo>
                    <a:pt x="3240" y="2679"/>
                  </a:lnTo>
                  <a:lnTo>
                    <a:pt x="3247" y="2675"/>
                  </a:lnTo>
                  <a:lnTo>
                    <a:pt x="3253" y="2668"/>
                  </a:lnTo>
                  <a:lnTo>
                    <a:pt x="3261" y="2659"/>
                  </a:lnTo>
                  <a:lnTo>
                    <a:pt x="3269" y="2648"/>
                  </a:lnTo>
                  <a:lnTo>
                    <a:pt x="3278" y="2635"/>
                  </a:lnTo>
                  <a:lnTo>
                    <a:pt x="3288" y="2619"/>
                  </a:lnTo>
                  <a:lnTo>
                    <a:pt x="3298" y="2600"/>
                  </a:lnTo>
                  <a:lnTo>
                    <a:pt x="3309" y="2578"/>
                  </a:lnTo>
                  <a:lnTo>
                    <a:pt x="3333" y="2525"/>
                  </a:lnTo>
                  <a:lnTo>
                    <a:pt x="3362" y="2457"/>
                  </a:lnTo>
                  <a:lnTo>
                    <a:pt x="3366" y="2467"/>
                  </a:lnTo>
                  <a:lnTo>
                    <a:pt x="3371" y="2479"/>
                  </a:lnTo>
                  <a:lnTo>
                    <a:pt x="3373" y="2493"/>
                  </a:lnTo>
                  <a:lnTo>
                    <a:pt x="3375" y="2508"/>
                  </a:lnTo>
                  <a:lnTo>
                    <a:pt x="3376" y="2525"/>
                  </a:lnTo>
                  <a:lnTo>
                    <a:pt x="3376" y="2544"/>
                  </a:lnTo>
                  <a:lnTo>
                    <a:pt x="3375" y="2563"/>
                  </a:lnTo>
                  <a:lnTo>
                    <a:pt x="3373" y="2584"/>
                  </a:lnTo>
                  <a:lnTo>
                    <a:pt x="3369" y="2605"/>
                  </a:lnTo>
                  <a:lnTo>
                    <a:pt x="3364" y="2627"/>
                  </a:lnTo>
                  <a:lnTo>
                    <a:pt x="3358" y="2649"/>
                  </a:lnTo>
                  <a:lnTo>
                    <a:pt x="3349" y="2672"/>
                  </a:lnTo>
                  <a:lnTo>
                    <a:pt x="3339" y="2696"/>
                  </a:lnTo>
                  <a:lnTo>
                    <a:pt x="3328" y="2718"/>
                  </a:lnTo>
                  <a:lnTo>
                    <a:pt x="3314" y="2741"/>
                  </a:lnTo>
                  <a:lnTo>
                    <a:pt x="3299" y="2763"/>
                  </a:lnTo>
                  <a:lnTo>
                    <a:pt x="3270" y="2803"/>
                  </a:lnTo>
                  <a:lnTo>
                    <a:pt x="3243" y="2842"/>
                  </a:lnTo>
                  <a:lnTo>
                    <a:pt x="3217" y="2878"/>
                  </a:lnTo>
                  <a:lnTo>
                    <a:pt x="3190" y="2913"/>
                  </a:lnTo>
                  <a:lnTo>
                    <a:pt x="3177" y="2930"/>
                  </a:lnTo>
                  <a:lnTo>
                    <a:pt x="3162" y="2947"/>
                  </a:lnTo>
                  <a:lnTo>
                    <a:pt x="3147" y="2963"/>
                  </a:lnTo>
                  <a:lnTo>
                    <a:pt x="3131" y="2980"/>
                  </a:lnTo>
                  <a:lnTo>
                    <a:pt x="3114" y="2995"/>
                  </a:lnTo>
                  <a:lnTo>
                    <a:pt x="3097" y="3012"/>
                  </a:lnTo>
                  <a:lnTo>
                    <a:pt x="3078" y="3028"/>
                  </a:lnTo>
                  <a:lnTo>
                    <a:pt x="3058" y="3043"/>
                  </a:lnTo>
                  <a:lnTo>
                    <a:pt x="3081" y="3069"/>
                  </a:lnTo>
                  <a:lnTo>
                    <a:pt x="3102" y="3094"/>
                  </a:lnTo>
                  <a:lnTo>
                    <a:pt x="3122" y="3121"/>
                  </a:lnTo>
                  <a:lnTo>
                    <a:pt x="3140" y="3147"/>
                  </a:lnTo>
                  <a:lnTo>
                    <a:pt x="3157" y="3175"/>
                  </a:lnTo>
                  <a:lnTo>
                    <a:pt x="3171" y="3204"/>
                  </a:lnTo>
                  <a:lnTo>
                    <a:pt x="3184" y="3233"/>
                  </a:lnTo>
                  <a:lnTo>
                    <a:pt x="3197" y="3263"/>
                  </a:lnTo>
                  <a:lnTo>
                    <a:pt x="3208" y="3293"/>
                  </a:lnTo>
                  <a:lnTo>
                    <a:pt x="3217" y="3323"/>
                  </a:lnTo>
                  <a:lnTo>
                    <a:pt x="3225" y="3354"/>
                  </a:lnTo>
                  <a:lnTo>
                    <a:pt x="3234" y="3386"/>
                  </a:lnTo>
                  <a:lnTo>
                    <a:pt x="3241" y="3417"/>
                  </a:lnTo>
                  <a:lnTo>
                    <a:pt x="3248" y="3449"/>
                  </a:lnTo>
                  <a:lnTo>
                    <a:pt x="3253" y="3482"/>
                  </a:lnTo>
                  <a:lnTo>
                    <a:pt x="3260" y="3514"/>
                  </a:lnTo>
                  <a:lnTo>
                    <a:pt x="3280" y="3645"/>
                  </a:lnTo>
                  <a:lnTo>
                    <a:pt x="3301" y="3774"/>
                  </a:lnTo>
                  <a:lnTo>
                    <a:pt x="3308" y="3806"/>
                  </a:lnTo>
                  <a:lnTo>
                    <a:pt x="3314" y="3838"/>
                  </a:lnTo>
                  <a:lnTo>
                    <a:pt x="3322" y="3869"/>
                  </a:lnTo>
                  <a:lnTo>
                    <a:pt x="3331" y="3900"/>
                  </a:lnTo>
                  <a:lnTo>
                    <a:pt x="3340" y="3931"/>
                  </a:lnTo>
                  <a:lnTo>
                    <a:pt x="3351" y="3961"/>
                  </a:lnTo>
                  <a:lnTo>
                    <a:pt x="3362" y="3991"/>
                  </a:lnTo>
                  <a:lnTo>
                    <a:pt x="3375" y="4020"/>
                  </a:lnTo>
                  <a:lnTo>
                    <a:pt x="3390" y="4069"/>
                  </a:lnTo>
                  <a:lnTo>
                    <a:pt x="3406" y="4118"/>
                  </a:lnTo>
                  <a:lnTo>
                    <a:pt x="3423" y="4165"/>
                  </a:lnTo>
                  <a:lnTo>
                    <a:pt x="3440" y="4213"/>
                  </a:lnTo>
                  <a:lnTo>
                    <a:pt x="3476" y="4307"/>
                  </a:lnTo>
                  <a:lnTo>
                    <a:pt x="3514" y="4402"/>
                  </a:lnTo>
                  <a:lnTo>
                    <a:pt x="3551" y="4496"/>
                  </a:lnTo>
                  <a:lnTo>
                    <a:pt x="3587" y="4590"/>
                  </a:lnTo>
                  <a:lnTo>
                    <a:pt x="3605" y="4637"/>
                  </a:lnTo>
                  <a:lnTo>
                    <a:pt x="3622" y="4685"/>
                  </a:lnTo>
                  <a:lnTo>
                    <a:pt x="3637" y="4734"/>
                  </a:lnTo>
                  <a:lnTo>
                    <a:pt x="3652" y="4781"/>
                  </a:lnTo>
                  <a:lnTo>
                    <a:pt x="3696" y="4916"/>
                  </a:lnTo>
                  <a:lnTo>
                    <a:pt x="3740" y="5049"/>
                  </a:lnTo>
                  <a:lnTo>
                    <a:pt x="3784" y="5182"/>
                  </a:lnTo>
                  <a:lnTo>
                    <a:pt x="3830" y="5314"/>
                  </a:lnTo>
                  <a:lnTo>
                    <a:pt x="3854" y="5380"/>
                  </a:lnTo>
                  <a:lnTo>
                    <a:pt x="3880" y="5444"/>
                  </a:lnTo>
                  <a:lnTo>
                    <a:pt x="3905" y="5508"/>
                  </a:lnTo>
                  <a:lnTo>
                    <a:pt x="3932" y="5573"/>
                  </a:lnTo>
                  <a:lnTo>
                    <a:pt x="3961" y="5636"/>
                  </a:lnTo>
                  <a:lnTo>
                    <a:pt x="3991" y="5699"/>
                  </a:lnTo>
                  <a:lnTo>
                    <a:pt x="4022" y="5760"/>
                  </a:lnTo>
                  <a:lnTo>
                    <a:pt x="4054" y="5823"/>
                  </a:lnTo>
                  <a:lnTo>
                    <a:pt x="4059" y="5843"/>
                  </a:lnTo>
                  <a:lnTo>
                    <a:pt x="4077" y="5875"/>
                  </a:lnTo>
                  <a:lnTo>
                    <a:pt x="4095" y="5906"/>
                  </a:lnTo>
                  <a:lnTo>
                    <a:pt x="4114" y="5938"/>
                  </a:lnTo>
                  <a:lnTo>
                    <a:pt x="4133" y="5969"/>
                  </a:lnTo>
                  <a:lnTo>
                    <a:pt x="4153" y="5999"/>
                  </a:lnTo>
                  <a:lnTo>
                    <a:pt x="4173" y="6030"/>
                  </a:lnTo>
                  <a:lnTo>
                    <a:pt x="4193" y="6061"/>
                  </a:lnTo>
                  <a:lnTo>
                    <a:pt x="4213" y="6091"/>
                  </a:lnTo>
                  <a:lnTo>
                    <a:pt x="4218" y="6106"/>
                  </a:lnTo>
                  <a:lnTo>
                    <a:pt x="4224" y="6119"/>
                  </a:lnTo>
                  <a:lnTo>
                    <a:pt x="4229" y="6133"/>
                  </a:lnTo>
                  <a:lnTo>
                    <a:pt x="4235" y="6148"/>
                  </a:lnTo>
                  <a:lnTo>
                    <a:pt x="4240" y="6161"/>
                  </a:lnTo>
                  <a:lnTo>
                    <a:pt x="4246" y="6176"/>
                  </a:lnTo>
                  <a:lnTo>
                    <a:pt x="4252" y="6189"/>
                  </a:lnTo>
                  <a:lnTo>
                    <a:pt x="4257" y="6203"/>
                  </a:lnTo>
                  <a:lnTo>
                    <a:pt x="0" y="6203"/>
                  </a:lnTo>
                  <a:close/>
                  <a:moveTo>
                    <a:pt x="5817" y="6203"/>
                  </a:moveTo>
                  <a:lnTo>
                    <a:pt x="5784" y="6143"/>
                  </a:lnTo>
                  <a:lnTo>
                    <a:pt x="5751" y="6086"/>
                  </a:lnTo>
                  <a:lnTo>
                    <a:pt x="5716" y="6029"/>
                  </a:lnTo>
                  <a:lnTo>
                    <a:pt x="5683" y="5975"/>
                  </a:lnTo>
                  <a:lnTo>
                    <a:pt x="5649" y="5922"/>
                  </a:lnTo>
                  <a:lnTo>
                    <a:pt x="5614" y="5871"/>
                  </a:lnTo>
                  <a:lnTo>
                    <a:pt x="5579" y="5823"/>
                  </a:lnTo>
                  <a:lnTo>
                    <a:pt x="5543" y="5775"/>
                  </a:lnTo>
                  <a:lnTo>
                    <a:pt x="5509" y="5729"/>
                  </a:lnTo>
                  <a:lnTo>
                    <a:pt x="5473" y="5685"/>
                  </a:lnTo>
                  <a:lnTo>
                    <a:pt x="5437" y="5643"/>
                  </a:lnTo>
                  <a:lnTo>
                    <a:pt x="5401" y="5602"/>
                  </a:lnTo>
                  <a:lnTo>
                    <a:pt x="5365" y="5563"/>
                  </a:lnTo>
                  <a:lnTo>
                    <a:pt x="5329" y="5525"/>
                  </a:lnTo>
                  <a:lnTo>
                    <a:pt x="5293" y="5490"/>
                  </a:lnTo>
                  <a:lnTo>
                    <a:pt x="5257" y="5455"/>
                  </a:lnTo>
                  <a:lnTo>
                    <a:pt x="5251" y="5441"/>
                  </a:lnTo>
                  <a:lnTo>
                    <a:pt x="5247" y="5427"/>
                  </a:lnTo>
                  <a:lnTo>
                    <a:pt x="5244" y="5414"/>
                  </a:lnTo>
                  <a:lnTo>
                    <a:pt x="5242" y="5401"/>
                  </a:lnTo>
                  <a:lnTo>
                    <a:pt x="5241" y="5387"/>
                  </a:lnTo>
                  <a:lnTo>
                    <a:pt x="5242" y="5374"/>
                  </a:lnTo>
                  <a:lnTo>
                    <a:pt x="5243" y="5361"/>
                  </a:lnTo>
                  <a:lnTo>
                    <a:pt x="5246" y="5348"/>
                  </a:lnTo>
                  <a:lnTo>
                    <a:pt x="5251" y="5321"/>
                  </a:lnTo>
                  <a:lnTo>
                    <a:pt x="5260" y="5295"/>
                  </a:lnTo>
                  <a:lnTo>
                    <a:pt x="5269" y="5271"/>
                  </a:lnTo>
                  <a:lnTo>
                    <a:pt x="5279" y="5247"/>
                  </a:lnTo>
                  <a:lnTo>
                    <a:pt x="5289" y="5224"/>
                  </a:lnTo>
                  <a:lnTo>
                    <a:pt x="5298" y="5202"/>
                  </a:lnTo>
                  <a:lnTo>
                    <a:pt x="5304" y="5182"/>
                  </a:lnTo>
                  <a:lnTo>
                    <a:pt x="5309" y="5164"/>
                  </a:lnTo>
                  <a:lnTo>
                    <a:pt x="5309" y="5155"/>
                  </a:lnTo>
                  <a:lnTo>
                    <a:pt x="5309" y="5148"/>
                  </a:lnTo>
                  <a:lnTo>
                    <a:pt x="5308" y="5140"/>
                  </a:lnTo>
                  <a:lnTo>
                    <a:pt x="5306" y="5133"/>
                  </a:lnTo>
                  <a:lnTo>
                    <a:pt x="5302" y="5128"/>
                  </a:lnTo>
                  <a:lnTo>
                    <a:pt x="5298" y="5121"/>
                  </a:lnTo>
                  <a:lnTo>
                    <a:pt x="5291" y="5117"/>
                  </a:lnTo>
                  <a:lnTo>
                    <a:pt x="5283" y="5111"/>
                  </a:lnTo>
                  <a:lnTo>
                    <a:pt x="5258" y="5121"/>
                  </a:lnTo>
                  <a:lnTo>
                    <a:pt x="5224" y="5136"/>
                  </a:lnTo>
                  <a:lnTo>
                    <a:pt x="5206" y="5143"/>
                  </a:lnTo>
                  <a:lnTo>
                    <a:pt x="5186" y="5151"/>
                  </a:lnTo>
                  <a:lnTo>
                    <a:pt x="5164" y="5159"/>
                  </a:lnTo>
                  <a:lnTo>
                    <a:pt x="5143" y="5165"/>
                  </a:lnTo>
                  <a:lnTo>
                    <a:pt x="5122" y="5171"/>
                  </a:lnTo>
                  <a:lnTo>
                    <a:pt x="5102" y="5174"/>
                  </a:lnTo>
                  <a:lnTo>
                    <a:pt x="5091" y="5175"/>
                  </a:lnTo>
                  <a:lnTo>
                    <a:pt x="5081" y="5177"/>
                  </a:lnTo>
                  <a:lnTo>
                    <a:pt x="5072" y="5177"/>
                  </a:lnTo>
                  <a:lnTo>
                    <a:pt x="5062" y="5175"/>
                  </a:lnTo>
                  <a:lnTo>
                    <a:pt x="5053" y="5174"/>
                  </a:lnTo>
                  <a:lnTo>
                    <a:pt x="5045" y="5172"/>
                  </a:lnTo>
                  <a:lnTo>
                    <a:pt x="5037" y="5169"/>
                  </a:lnTo>
                  <a:lnTo>
                    <a:pt x="5029" y="5164"/>
                  </a:lnTo>
                  <a:lnTo>
                    <a:pt x="5021" y="5160"/>
                  </a:lnTo>
                  <a:lnTo>
                    <a:pt x="5015" y="5154"/>
                  </a:lnTo>
                  <a:lnTo>
                    <a:pt x="5009" y="5147"/>
                  </a:lnTo>
                  <a:lnTo>
                    <a:pt x="5003" y="5139"/>
                  </a:lnTo>
                  <a:lnTo>
                    <a:pt x="4975" y="5107"/>
                  </a:lnTo>
                  <a:lnTo>
                    <a:pt x="4948" y="5072"/>
                  </a:lnTo>
                  <a:lnTo>
                    <a:pt x="4923" y="5039"/>
                  </a:lnTo>
                  <a:lnTo>
                    <a:pt x="4900" y="5003"/>
                  </a:lnTo>
                  <a:lnTo>
                    <a:pt x="4878" y="4969"/>
                  </a:lnTo>
                  <a:lnTo>
                    <a:pt x="4858" y="4932"/>
                  </a:lnTo>
                  <a:lnTo>
                    <a:pt x="4838" y="4896"/>
                  </a:lnTo>
                  <a:lnTo>
                    <a:pt x="4819" y="4859"/>
                  </a:lnTo>
                  <a:lnTo>
                    <a:pt x="4802" y="4822"/>
                  </a:lnTo>
                  <a:lnTo>
                    <a:pt x="4786" y="4785"/>
                  </a:lnTo>
                  <a:lnTo>
                    <a:pt x="4769" y="4747"/>
                  </a:lnTo>
                  <a:lnTo>
                    <a:pt x="4754" y="4708"/>
                  </a:lnTo>
                  <a:lnTo>
                    <a:pt x="4725" y="4632"/>
                  </a:lnTo>
                  <a:lnTo>
                    <a:pt x="4696" y="4554"/>
                  </a:lnTo>
                  <a:lnTo>
                    <a:pt x="4694" y="4547"/>
                  </a:lnTo>
                  <a:lnTo>
                    <a:pt x="4692" y="4541"/>
                  </a:lnTo>
                  <a:lnTo>
                    <a:pt x="4691" y="4533"/>
                  </a:lnTo>
                  <a:lnTo>
                    <a:pt x="4691" y="4525"/>
                  </a:lnTo>
                  <a:lnTo>
                    <a:pt x="4691" y="4508"/>
                  </a:lnTo>
                  <a:lnTo>
                    <a:pt x="4694" y="4491"/>
                  </a:lnTo>
                  <a:lnTo>
                    <a:pt x="4694" y="4474"/>
                  </a:lnTo>
                  <a:lnTo>
                    <a:pt x="4694" y="4457"/>
                  </a:lnTo>
                  <a:lnTo>
                    <a:pt x="4692" y="4450"/>
                  </a:lnTo>
                  <a:lnTo>
                    <a:pt x="4690" y="4442"/>
                  </a:lnTo>
                  <a:lnTo>
                    <a:pt x="4687" y="4435"/>
                  </a:lnTo>
                  <a:lnTo>
                    <a:pt x="4684" y="4428"/>
                  </a:lnTo>
                  <a:lnTo>
                    <a:pt x="4670" y="4426"/>
                  </a:lnTo>
                  <a:lnTo>
                    <a:pt x="4659" y="4424"/>
                  </a:lnTo>
                  <a:lnTo>
                    <a:pt x="4648" y="4422"/>
                  </a:lnTo>
                  <a:lnTo>
                    <a:pt x="4638" y="4417"/>
                  </a:lnTo>
                  <a:lnTo>
                    <a:pt x="4628" y="4413"/>
                  </a:lnTo>
                  <a:lnTo>
                    <a:pt x="4619" y="4408"/>
                  </a:lnTo>
                  <a:lnTo>
                    <a:pt x="4610" y="4402"/>
                  </a:lnTo>
                  <a:lnTo>
                    <a:pt x="4603" y="4396"/>
                  </a:lnTo>
                  <a:lnTo>
                    <a:pt x="4595" y="4390"/>
                  </a:lnTo>
                  <a:lnTo>
                    <a:pt x="4588" y="4382"/>
                  </a:lnTo>
                  <a:lnTo>
                    <a:pt x="4581" y="4374"/>
                  </a:lnTo>
                  <a:lnTo>
                    <a:pt x="4575" y="4366"/>
                  </a:lnTo>
                  <a:lnTo>
                    <a:pt x="4563" y="4349"/>
                  </a:lnTo>
                  <a:lnTo>
                    <a:pt x="4551" y="4331"/>
                  </a:lnTo>
                  <a:lnTo>
                    <a:pt x="4531" y="4292"/>
                  </a:lnTo>
                  <a:lnTo>
                    <a:pt x="4510" y="4253"/>
                  </a:lnTo>
                  <a:lnTo>
                    <a:pt x="4499" y="4234"/>
                  </a:lnTo>
                  <a:lnTo>
                    <a:pt x="4486" y="4216"/>
                  </a:lnTo>
                  <a:lnTo>
                    <a:pt x="4479" y="4209"/>
                  </a:lnTo>
                  <a:lnTo>
                    <a:pt x="4473" y="4200"/>
                  </a:lnTo>
                  <a:lnTo>
                    <a:pt x="4465" y="4192"/>
                  </a:lnTo>
                  <a:lnTo>
                    <a:pt x="4457" y="4185"/>
                  </a:lnTo>
                  <a:lnTo>
                    <a:pt x="4440" y="4196"/>
                  </a:lnTo>
                  <a:lnTo>
                    <a:pt x="4425" y="4209"/>
                  </a:lnTo>
                  <a:lnTo>
                    <a:pt x="4410" y="4221"/>
                  </a:lnTo>
                  <a:lnTo>
                    <a:pt x="4396" y="4234"/>
                  </a:lnTo>
                  <a:lnTo>
                    <a:pt x="4382" y="4248"/>
                  </a:lnTo>
                  <a:lnTo>
                    <a:pt x="4368" y="4261"/>
                  </a:lnTo>
                  <a:lnTo>
                    <a:pt x="4356" y="4274"/>
                  </a:lnTo>
                  <a:lnTo>
                    <a:pt x="4344" y="4289"/>
                  </a:lnTo>
                  <a:lnTo>
                    <a:pt x="4332" y="4303"/>
                  </a:lnTo>
                  <a:lnTo>
                    <a:pt x="4320" y="4317"/>
                  </a:lnTo>
                  <a:lnTo>
                    <a:pt x="4309" y="4333"/>
                  </a:lnTo>
                  <a:lnTo>
                    <a:pt x="4299" y="4347"/>
                  </a:lnTo>
                  <a:lnTo>
                    <a:pt x="4280" y="4380"/>
                  </a:lnTo>
                  <a:lnTo>
                    <a:pt x="4264" y="4411"/>
                  </a:lnTo>
                  <a:lnTo>
                    <a:pt x="4248" y="4444"/>
                  </a:lnTo>
                  <a:lnTo>
                    <a:pt x="4235" y="4478"/>
                  </a:lnTo>
                  <a:lnTo>
                    <a:pt x="4223" y="4513"/>
                  </a:lnTo>
                  <a:lnTo>
                    <a:pt x="4213" y="4548"/>
                  </a:lnTo>
                  <a:lnTo>
                    <a:pt x="4205" y="4584"/>
                  </a:lnTo>
                  <a:lnTo>
                    <a:pt x="4197" y="4620"/>
                  </a:lnTo>
                  <a:lnTo>
                    <a:pt x="4193" y="4657"/>
                  </a:lnTo>
                  <a:lnTo>
                    <a:pt x="4188" y="4695"/>
                  </a:lnTo>
                  <a:lnTo>
                    <a:pt x="4179" y="4692"/>
                  </a:lnTo>
                  <a:lnTo>
                    <a:pt x="4171" y="4687"/>
                  </a:lnTo>
                  <a:lnTo>
                    <a:pt x="4163" y="4680"/>
                  </a:lnTo>
                  <a:lnTo>
                    <a:pt x="4154" y="4674"/>
                  </a:lnTo>
                  <a:lnTo>
                    <a:pt x="4147" y="4666"/>
                  </a:lnTo>
                  <a:lnTo>
                    <a:pt x="4139" y="4658"/>
                  </a:lnTo>
                  <a:lnTo>
                    <a:pt x="4133" y="4650"/>
                  </a:lnTo>
                  <a:lnTo>
                    <a:pt x="4125" y="4645"/>
                  </a:lnTo>
                  <a:lnTo>
                    <a:pt x="4133" y="4607"/>
                  </a:lnTo>
                  <a:lnTo>
                    <a:pt x="4141" y="4572"/>
                  </a:lnTo>
                  <a:lnTo>
                    <a:pt x="4149" y="4537"/>
                  </a:lnTo>
                  <a:lnTo>
                    <a:pt x="4158" y="4504"/>
                  </a:lnTo>
                  <a:lnTo>
                    <a:pt x="4168" y="4473"/>
                  </a:lnTo>
                  <a:lnTo>
                    <a:pt x="4178" y="4443"/>
                  </a:lnTo>
                  <a:lnTo>
                    <a:pt x="4188" y="4414"/>
                  </a:lnTo>
                  <a:lnTo>
                    <a:pt x="4199" y="4387"/>
                  </a:lnTo>
                  <a:lnTo>
                    <a:pt x="4211" y="4362"/>
                  </a:lnTo>
                  <a:lnTo>
                    <a:pt x="4221" y="4337"/>
                  </a:lnTo>
                  <a:lnTo>
                    <a:pt x="4232" y="4314"/>
                  </a:lnTo>
                  <a:lnTo>
                    <a:pt x="4243" y="4292"/>
                  </a:lnTo>
                  <a:lnTo>
                    <a:pt x="4266" y="4252"/>
                  </a:lnTo>
                  <a:lnTo>
                    <a:pt x="4287" y="4216"/>
                  </a:lnTo>
                  <a:lnTo>
                    <a:pt x="4309" y="4186"/>
                  </a:lnTo>
                  <a:lnTo>
                    <a:pt x="4329" y="4160"/>
                  </a:lnTo>
                  <a:lnTo>
                    <a:pt x="4348" y="4138"/>
                  </a:lnTo>
                  <a:lnTo>
                    <a:pt x="4365" y="4120"/>
                  </a:lnTo>
                  <a:lnTo>
                    <a:pt x="4390" y="4095"/>
                  </a:lnTo>
                  <a:lnTo>
                    <a:pt x="4404" y="4084"/>
                  </a:lnTo>
                  <a:lnTo>
                    <a:pt x="4390" y="4058"/>
                  </a:lnTo>
                  <a:lnTo>
                    <a:pt x="4378" y="4026"/>
                  </a:lnTo>
                  <a:lnTo>
                    <a:pt x="4365" y="3990"/>
                  </a:lnTo>
                  <a:lnTo>
                    <a:pt x="4353" y="3951"/>
                  </a:lnTo>
                  <a:lnTo>
                    <a:pt x="4342" y="3908"/>
                  </a:lnTo>
                  <a:lnTo>
                    <a:pt x="4329" y="3862"/>
                  </a:lnTo>
                  <a:lnTo>
                    <a:pt x="4319" y="3815"/>
                  </a:lnTo>
                  <a:lnTo>
                    <a:pt x="4309" y="3765"/>
                  </a:lnTo>
                  <a:lnTo>
                    <a:pt x="4300" y="3712"/>
                  </a:lnTo>
                  <a:lnTo>
                    <a:pt x="4293" y="3660"/>
                  </a:lnTo>
                  <a:lnTo>
                    <a:pt x="4286" y="3607"/>
                  </a:lnTo>
                  <a:lnTo>
                    <a:pt x="4282" y="3554"/>
                  </a:lnTo>
                  <a:lnTo>
                    <a:pt x="4277" y="3500"/>
                  </a:lnTo>
                  <a:lnTo>
                    <a:pt x="4276" y="3448"/>
                  </a:lnTo>
                  <a:lnTo>
                    <a:pt x="4275" y="3397"/>
                  </a:lnTo>
                  <a:lnTo>
                    <a:pt x="4277" y="3347"/>
                  </a:lnTo>
                  <a:lnTo>
                    <a:pt x="4293" y="3374"/>
                  </a:lnTo>
                  <a:lnTo>
                    <a:pt x="4304" y="3397"/>
                  </a:lnTo>
                  <a:lnTo>
                    <a:pt x="4313" y="3417"/>
                  </a:lnTo>
                  <a:lnTo>
                    <a:pt x="4319" y="3435"/>
                  </a:lnTo>
                  <a:lnTo>
                    <a:pt x="4325" y="3453"/>
                  </a:lnTo>
                  <a:lnTo>
                    <a:pt x="4329" y="3471"/>
                  </a:lnTo>
                  <a:lnTo>
                    <a:pt x="4334" y="3488"/>
                  </a:lnTo>
                  <a:lnTo>
                    <a:pt x="4340" y="3508"/>
                  </a:lnTo>
                  <a:lnTo>
                    <a:pt x="4337" y="3524"/>
                  </a:lnTo>
                  <a:lnTo>
                    <a:pt x="4336" y="3542"/>
                  </a:lnTo>
                  <a:lnTo>
                    <a:pt x="4335" y="3562"/>
                  </a:lnTo>
                  <a:lnTo>
                    <a:pt x="4335" y="3582"/>
                  </a:lnTo>
                  <a:lnTo>
                    <a:pt x="4335" y="3603"/>
                  </a:lnTo>
                  <a:lnTo>
                    <a:pt x="4337" y="3624"/>
                  </a:lnTo>
                  <a:lnTo>
                    <a:pt x="4339" y="3644"/>
                  </a:lnTo>
                  <a:lnTo>
                    <a:pt x="4343" y="3665"/>
                  </a:lnTo>
                  <a:lnTo>
                    <a:pt x="4352" y="3709"/>
                  </a:lnTo>
                  <a:lnTo>
                    <a:pt x="4362" y="3754"/>
                  </a:lnTo>
                  <a:lnTo>
                    <a:pt x="4372" y="3798"/>
                  </a:lnTo>
                  <a:lnTo>
                    <a:pt x="4383" y="3842"/>
                  </a:lnTo>
                  <a:lnTo>
                    <a:pt x="4396" y="3886"/>
                  </a:lnTo>
                  <a:lnTo>
                    <a:pt x="4409" y="3929"/>
                  </a:lnTo>
                  <a:lnTo>
                    <a:pt x="4424" y="3972"/>
                  </a:lnTo>
                  <a:lnTo>
                    <a:pt x="4440" y="4014"/>
                  </a:lnTo>
                  <a:lnTo>
                    <a:pt x="4458" y="4055"/>
                  </a:lnTo>
                  <a:lnTo>
                    <a:pt x="4478" y="4097"/>
                  </a:lnTo>
                  <a:lnTo>
                    <a:pt x="4499" y="4138"/>
                  </a:lnTo>
                  <a:lnTo>
                    <a:pt x="4521" y="4178"/>
                  </a:lnTo>
                  <a:lnTo>
                    <a:pt x="4546" y="4216"/>
                  </a:lnTo>
                  <a:lnTo>
                    <a:pt x="4573" y="4254"/>
                  </a:lnTo>
                  <a:lnTo>
                    <a:pt x="4587" y="4273"/>
                  </a:lnTo>
                  <a:lnTo>
                    <a:pt x="4601" y="4291"/>
                  </a:lnTo>
                  <a:lnTo>
                    <a:pt x="4617" y="4310"/>
                  </a:lnTo>
                  <a:lnTo>
                    <a:pt x="4633" y="4327"/>
                  </a:lnTo>
                  <a:lnTo>
                    <a:pt x="4643" y="4336"/>
                  </a:lnTo>
                  <a:lnTo>
                    <a:pt x="4654" y="4344"/>
                  </a:lnTo>
                  <a:lnTo>
                    <a:pt x="4665" y="4351"/>
                  </a:lnTo>
                  <a:lnTo>
                    <a:pt x="4676" y="4357"/>
                  </a:lnTo>
                  <a:lnTo>
                    <a:pt x="4688" y="4363"/>
                  </a:lnTo>
                  <a:lnTo>
                    <a:pt x="4700" y="4368"/>
                  </a:lnTo>
                  <a:lnTo>
                    <a:pt x="4712" y="4373"/>
                  </a:lnTo>
                  <a:lnTo>
                    <a:pt x="4725" y="4377"/>
                  </a:lnTo>
                  <a:lnTo>
                    <a:pt x="4738" y="4381"/>
                  </a:lnTo>
                  <a:lnTo>
                    <a:pt x="4751" y="4383"/>
                  </a:lnTo>
                  <a:lnTo>
                    <a:pt x="4765" y="4385"/>
                  </a:lnTo>
                  <a:lnTo>
                    <a:pt x="4778" y="4387"/>
                  </a:lnTo>
                  <a:lnTo>
                    <a:pt x="4805" y="4388"/>
                  </a:lnTo>
                  <a:lnTo>
                    <a:pt x="4831" y="4387"/>
                  </a:lnTo>
                  <a:lnTo>
                    <a:pt x="4858" y="4385"/>
                  </a:lnTo>
                  <a:lnTo>
                    <a:pt x="4883" y="4381"/>
                  </a:lnTo>
                  <a:lnTo>
                    <a:pt x="4909" y="4374"/>
                  </a:lnTo>
                  <a:lnTo>
                    <a:pt x="4933" y="4365"/>
                  </a:lnTo>
                  <a:lnTo>
                    <a:pt x="4945" y="4361"/>
                  </a:lnTo>
                  <a:lnTo>
                    <a:pt x="4956" y="4355"/>
                  </a:lnTo>
                  <a:lnTo>
                    <a:pt x="4967" y="4350"/>
                  </a:lnTo>
                  <a:lnTo>
                    <a:pt x="4977" y="4343"/>
                  </a:lnTo>
                  <a:lnTo>
                    <a:pt x="4987" y="4336"/>
                  </a:lnTo>
                  <a:lnTo>
                    <a:pt x="4997" y="4330"/>
                  </a:lnTo>
                  <a:lnTo>
                    <a:pt x="5006" y="4322"/>
                  </a:lnTo>
                  <a:lnTo>
                    <a:pt x="5013" y="4314"/>
                  </a:lnTo>
                  <a:lnTo>
                    <a:pt x="5017" y="4303"/>
                  </a:lnTo>
                  <a:lnTo>
                    <a:pt x="5021" y="4291"/>
                  </a:lnTo>
                  <a:lnTo>
                    <a:pt x="5027" y="4281"/>
                  </a:lnTo>
                  <a:lnTo>
                    <a:pt x="5032" y="4271"/>
                  </a:lnTo>
                  <a:lnTo>
                    <a:pt x="5039" y="4261"/>
                  </a:lnTo>
                  <a:lnTo>
                    <a:pt x="5046" y="4252"/>
                  </a:lnTo>
                  <a:lnTo>
                    <a:pt x="5053" y="4243"/>
                  </a:lnTo>
                  <a:lnTo>
                    <a:pt x="5061" y="4235"/>
                  </a:lnTo>
                  <a:lnTo>
                    <a:pt x="5095" y="4204"/>
                  </a:lnTo>
                  <a:lnTo>
                    <a:pt x="5130" y="4174"/>
                  </a:lnTo>
                  <a:lnTo>
                    <a:pt x="5146" y="4159"/>
                  </a:lnTo>
                  <a:lnTo>
                    <a:pt x="5161" y="4143"/>
                  </a:lnTo>
                  <a:lnTo>
                    <a:pt x="5168" y="4134"/>
                  </a:lnTo>
                  <a:lnTo>
                    <a:pt x="5174" y="4125"/>
                  </a:lnTo>
                  <a:lnTo>
                    <a:pt x="5180" y="4117"/>
                  </a:lnTo>
                  <a:lnTo>
                    <a:pt x="5186" y="4107"/>
                  </a:lnTo>
                  <a:lnTo>
                    <a:pt x="5189" y="4097"/>
                  </a:lnTo>
                  <a:lnTo>
                    <a:pt x="5193" y="4085"/>
                  </a:lnTo>
                  <a:lnTo>
                    <a:pt x="5196" y="4074"/>
                  </a:lnTo>
                  <a:lnTo>
                    <a:pt x="5198" y="4062"/>
                  </a:lnTo>
                  <a:lnTo>
                    <a:pt x="5198" y="4050"/>
                  </a:lnTo>
                  <a:lnTo>
                    <a:pt x="5198" y="4037"/>
                  </a:lnTo>
                  <a:lnTo>
                    <a:pt x="5197" y="4022"/>
                  </a:lnTo>
                  <a:lnTo>
                    <a:pt x="5193" y="4008"/>
                  </a:lnTo>
                  <a:lnTo>
                    <a:pt x="5193" y="4004"/>
                  </a:lnTo>
                  <a:lnTo>
                    <a:pt x="5193" y="4000"/>
                  </a:lnTo>
                  <a:lnTo>
                    <a:pt x="5193" y="3997"/>
                  </a:lnTo>
                  <a:lnTo>
                    <a:pt x="5193" y="3991"/>
                  </a:lnTo>
                  <a:lnTo>
                    <a:pt x="5192" y="3987"/>
                  </a:lnTo>
                  <a:lnTo>
                    <a:pt x="5191" y="3982"/>
                  </a:lnTo>
                  <a:lnTo>
                    <a:pt x="5190" y="3977"/>
                  </a:lnTo>
                  <a:lnTo>
                    <a:pt x="5189" y="3972"/>
                  </a:lnTo>
                  <a:lnTo>
                    <a:pt x="5187" y="3970"/>
                  </a:lnTo>
                  <a:lnTo>
                    <a:pt x="5186" y="3969"/>
                  </a:lnTo>
                  <a:lnTo>
                    <a:pt x="5183" y="3969"/>
                  </a:lnTo>
                  <a:lnTo>
                    <a:pt x="5180" y="3970"/>
                  </a:lnTo>
                  <a:lnTo>
                    <a:pt x="5176" y="3973"/>
                  </a:lnTo>
                  <a:lnTo>
                    <a:pt x="5170" y="3977"/>
                  </a:lnTo>
                  <a:lnTo>
                    <a:pt x="5162" y="3981"/>
                  </a:lnTo>
                  <a:lnTo>
                    <a:pt x="5153" y="3987"/>
                  </a:lnTo>
                  <a:lnTo>
                    <a:pt x="5153" y="3984"/>
                  </a:lnTo>
                  <a:lnTo>
                    <a:pt x="5154" y="3980"/>
                  </a:lnTo>
                  <a:lnTo>
                    <a:pt x="5156" y="3977"/>
                  </a:lnTo>
                  <a:lnTo>
                    <a:pt x="5158" y="3972"/>
                  </a:lnTo>
                  <a:lnTo>
                    <a:pt x="5163" y="3963"/>
                  </a:lnTo>
                  <a:lnTo>
                    <a:pt x="5171" y="3954"/>
                  </a:lnTo>
                  <a:lnTo>
                    <a:pt x="5179" y="3944"/>
                  </a:lnTo>
                  <a:lnTo>
                    <a:pt x="5186" y="3936"/>
                  </a:lnTo>
                  <a:lnTo>
                    <a:pt x="5192" y="3928"/>
                  </a:lnTo>
                  <a:lnTo>
                    <a:pt x="5196" y="3921"/>
                  </a:lnTo>
                  <a:lnTo>
                    <a:pt x="5212" y="3905"/>
                  </a:lnTo>
                  <a:lnTo>
                    <a:pt x="5224" y="3893"/>
                  </a:lnTo>
                  <a:lnTo>
                    <a:pt x="5234" y="3885"/>
                  </a:lnTo>
                  <a:lnTo>
                    <a:pt x="5243" y="3878"/>
                  </a:lnTo>
                  <a:lnTo>
                    <a:pt x="5250" y="3873"/>
                  </a:lnTo>
                  <a:lnTo>
                    <a:pt x="5258" y="3869"/>
                  </a:lnTo>
                  <a:lnTo>
                    <a:pt x="5266" y="3866"/>
                  </a:lnTo>
                  <a:lnTo>
                    <a:pt x="5276" y="3862"/>
                  </a:lnTo>
                  <a:lnTo>
                    <a:pt x="5284" y="3858"/>
                  </a:lnTo>
                  <a:lnTo>
                    <a:pt x="5309" y="3843"/>
                  </a:lnTo>
                  <a:lnTo>
                    <a:pt x="5345" y="3825"/>
                  </a:lnTo>
                  <a:lnTo>
                    <a:pt x="5389" y="3802"/>
                  </a:lnTo>
                  <a:lnTo>
                    <a:pt x="5434" y="3780"/>
                  </a:lnTo>
                  <a:lnTo>
                    <a:pt x="5480" y="3761"/>
                  </a:lnTo>
                  <a:lnTo>
                    <a:pt x="5501" y="3754"/>
                  </a:lnTo>
                  <a:lnTo>
                    <a:pt x="5520" y="3747"/>
                  </a:lnTo>
                  <a:lnTo>
                    <a:pt x="5536" y="3742"/>
                  </a:lnTo>
                  <a:lnTo>
                    <a:pt x="5551" y="3741"/>
                  </a:lnTo>
                  <a:lnTo>
                    <a:pt x="5575" y="3740"/>
                  </a:lnTo>
                  <a:lnTo>
                    <a:pt x="5602" y="3741"/>
                  </a:lnTo>
                  <a:lnTo>
                    <a:pt x="5628" y="3742"/>
                  </a:lnTo>
                  <a:lnTo>
                    <a:pt x="5651" y="3744"/>
                  </a:lnTo>
                  <a:lnTo>
                    <a:pt x="5672" y="3746"/>
                  </a:lnTo>
                  <a:lnTo>
                    <a:pt x="5689" y="3747"/>
                  </a:lnTo>
                  <a:lnTo>
                    <a:pt x="5700" y="3748"/>
                  </a:lnTo>
                  <a:lnTo>
                    <a:pt x="5704" y="3749"/>
                  </a:lnTo>
                  <a:lnTo>
                    <a:pt x="5690" y="3751"/>
                  </a:lnTo>
                  <a:lnTo>
                    <a:pt x="5673" y="3754"/>
                  </a:lnTo>
                  <a:lnTo>
                    <a:pt x="5656" y="3756"/>
                  </a:lnTo>
                  <a:lnTo>
                    <a:pt x="5640" y="3758"/>
                  </a:lnTo>
                  <a:lnTo>
                    <a:pt x="5623" y="3760"/>
                  </a:lnTo>
                  <a:lnTo>
                    <a:pt x="5608" y="3761"/>
                  </a:lnTo>
                  <a:lnTo>
                    <a:pt x="5593" y="3764"/>
                  </a:lnTo>
                  <a:lnTo>
                    <a:pt x="5582" y="3765"/>
                  </a:lnTo>
                  <a:lnTo>
                    <a:pt x="5555" y="3769"/>
                  </a:lnTo>
                  <a:lnTo>
                    <a:pt x="5532" y="3775"/>
                  </a:lnTo>
                  <a:lnTo>
                    <a:pt x="5512" y="3779"/>
                  </a:lnTo>
                  <a:lnTo>
                    <a:pt x="5495" y="3785"/>
                  </a:lnTo>
                  <a:lnTo>
                    <a:pt x="5481" y="3789"/>
                  </a:lnTo>
                  <a:lnTo>
                    <a:pt x="5469" y="3794"/>
                  </a:lnTo>
                  <a:lnTo>
                    <a:pt x="5459" y="3799"/>
                  </a:lnTo>
                  <a:lnTo>
                    <a:pt x="5450" y="3804"/>
                  </a:lnTo>
                  <a:lnTo>
                    <a:pt x="5435" y="3812"/>
                  </a:lnTo>
                  <a:lnTo>
                    <a:pt x="5422" y="3821"/>
                  </a:lnTo>
                  <a:lnTo>
                    <a:pt x="5409" y="3830"/>
                  </a:lnTo>
                  <a:lnTo>
                    <a:pt x="5392" y="3838"/>
                  </a:lnTo>
                  <a:lnTo>
                    <a:pt x="5395" y="3840"/>
                  </a:lnTo>
                  <a:lnTo>
                    <a:pt x="5408" y="3846"/>
                  </a:lnTo>
                  <a:lnTo>
                    <a:pt x="5424" y="3855"/>
                  </a:lnTo>
                  <a:lnTo>
                    <a:pt x="5444" y="3865"/>
                  </a:lnTo>
                  <a:lnTo>
                    <a:pt x="5467" y="3878"/>
                  </a:lnTo>
                  <a:lnTo>
                    <a:pt x="5488" y="3891"/>
                  </a:lnTo>
                  <a:lnTo>
                    <a:pt x="5508" y="3905"/>
                  </a:lnTo>
                  <a:lnTo>
                    <a:pt x="5524" y="3918"/>
                  </a:lnTo>
                  <a:lnTo>
                    <a:pt x="5527" y="3922"/>
                  </a:lnTo>
                  <a:lnTo>
                    <a:pt x="5528" y="3926"/>
                  </a:lnTo>
                  <a:lnTo>
                    <a:pt x="5529" y="3930"/>
                  </a:lnTo>
                  <a:lnTo>
                    <a:pt x="5530" y="3934"/>
                  </a:lnTo>
                  <a:lnTo>
                    <a:pt x="5531" y="3940"/>
                  </a:lnTo>
                  <a:lnTo>
                    <a:pt x="5531" y="3944"/>
                  </a:lnTo>
                  <a:lnTo>
                    <a:pt x="5532" y="3951"/>
                  </a:lnTo>
                  <a:lnTo>
                    <a:pt x="5534" y="3957"/>
                  </a:lnTo>
                  <a:lnTo>
                    <a:pt x="5546" y="3951"/>
                  </a:lnTo>
                  <a:lnTo>
                    <a:pt x="5558" y="3946"/>
                  </a:lnTo>
                  <a:lnTo>
                    <a:pt x="5569" y="3938"/>
                  </a:lnTo>
                  <a:lnTo>
                    <a:pt x="5579" y="3931"/>
                  </a:lnTo>
                  <a:lnTo>
                    <a:pt x="5599" y="3915"/>
                  </a:lnTo>
                  <a:lnTo>
                    <a:pt x="5618" y="3899"/>
                  </a:lnTo>
                  <a:lnTo>
                    <a:pt x="5628" y="3892"/>
                  </a:lnTo>
                  <a:lnTo>
                    <a:pt x="5638" y="3886"/>
                  </a:lnTo>
                  <a:lnTo>
                    <a:pt x="5649" y="3880"/>
                  </a:lnTo>
                  <a:lnTo>
                    <a:pt x="5660" y="3876"/>
                  </a:lnTo>
                  <a:lnTo>
                    <a:pt x="5672" y="3872"/>
                  </a:lnTo>
                  <a:lnTo>
                    <a:pt x="5684" y="3871"/>
                  </a:lnTo>
                  <a:lnTo>
                    <a:pt x="5698" y="3871"/>
                  </a:lnTo>
                  <a:lnTo>
                    <a:pt x="5712" y="3873"/>
                  </a:lnTo>
                  <a:lnTo>
                    <a:pt x="5720" y="3871"/>
                  </a:lnTo>
                  <a:lnTo>
                    <a:pt x="5728" y="3871"/>
                  </a:lnTo>
                  <a:lnTo>
                    <a:pt x="5736" y="3871"/>
                  </a:lnTo>
                  <a:lnTo>
                    <a:pt x="5745" y="3873"/>
                  </a:lnTo>
                  <a:lnTo>
                    <a:pt x="5754" y="3876"/>
                  </a:lnTo>
                  <a:lnTo>
                    <a:pt x="5762" y="3879"/>
                  </a:lnTo>
                  <a:lnTo>
                    <a:pt x="5771" y="3883"/>
                  </a:lnTo>
                  <a:lnTo>
                    <a:pt x="5780" y="3888"/>
                  </a:lnTo>
                  <a:lnTo>
                    <a:pt x="5796" y="3899"/>
                  </a:lnTo>
                  <a:lnTo>
                    <a:pt x="5813" y="3910"/>
                  </a:lnTo>
                  <a:lnTo>
                    <a:pt x="5827" y="3921"/>
                  </a:lnTo>
                  <a:lnTo>
                    <a:pt x="5841" y="3931"/>
                  </a:lnTo>
                  <a:lnTo>
                    <a:pt x="5851" y="3936"/>
                  </a:lnTo>
                  <a:lnTo>
                    <a:pt x="5861" y="3940"/>
                  </a:lnTo>
                  <a:lnTo>
                    <a:pt x="5871" y="3942"/>
                  </a:lnTo>
                  <a:lnTo>
                    <a:pt x="5881" y="3946"/>
                  </a:lnTo>
                  <a:lnTo>
                    <a:pt x="5891" y="3947"/>
                  </a:lnTo>
                  <a:lnTo>
                    <a:pt x="5901" y="3949"/>
                  </a:lnTo>
                  <a:lnTo>
                    <a:pt x="5911" y="3949"/>
                  </a:lnTo>
                  <a:lnTo>
                    <a:pt x="5921" y="3949"/>
                  </a:lnTo>
                  <a:lnTo>
                    <a:pt x="5931" y="3948"/>
                  </a:lnTo>
                  <a:lnTo>
                    <a:pt x="5941" y="3947"/>
                  </a:lnTo>
                  <a:lnTo>
                    <a:pt x="5951" y="3944"/>
                  </a:lnTo>
                  <a:lnTo>
                    <a:pt x="5960" y="3942"/>
                  </a:lnTo>
                  <a:lnTo>
                    <a:pt x="5968" y="3939"/>
                  </a:lnTo>
                  <a:lnTo>
                    <a:pt x="5977" y="3936"/>
                  </a:lnTo>
                  <a:lnTo>
                    <a:pt x="5986" y="3931"/>
                  </a:lnTo>
                  <a:lnTo>
                    <a:pt x="5994" y="3926"/>
                  </a:lnTo>
                  <a:lnTo>
                    <a:pt x="6013" y="3907"/>
                  </a:lnTo>
                  <a:lnTo>
                    <a:pt x="6024" y="3897"/>
                  </a:lnTo>
                  <a:lnTo>
                    <a:pt x="6034" y="3887"/>
                  </a:lnTo>
                  <a:lnTo>
                    <a:pt x="6041" y="3878"/>
                  </a:lnTo>
                  <a:lnTo>
                    <a:pt x="6046" y="3868"/>
                  </a:lnTo>
                  <a:lnTo>
                    <a:pt x="6051" y="3858"/>
                  </a:lnTo>
                  <a:lnTo>
                    <a:pt x="6053" y="3848"/>
                  </a:lnTo>
                  <a:lnTo>
                    <a:pt x="6054" y="3838"/>
                  </a:lnTo>
                  <a:lnTo>
                    <a:pt x="6055" y="3827"/>
                  </a:lnTo>
                  <a:lnTo>
                    <a:pt x="6055" y="3802"/>
                  </a:lnTo>
                  <a:lnTo>
                    <a:pt x="6054" y="3775"/>
                  </a:lnTo>
                  <a:lnTo>
                    <a:pt x="6053" y="3759"/>
                  </a:lnTo>
                  <a:lnTo>
                    <a:pt x="6053" y="3741"/>
                  </a:lnTo>
                  <a:lnTo>
                    <a:pt x="6054" y="3724"/>
                  </a:lnTo>
                  <a:lnTo>
                    <a:pt x="6055" y="3704"/>
                  </a:lnTo>
                  <a:lnTo>
                    <a:pt x="6058" y="3683"/>
                  </a:lnTo>
                  <a:lnTo>
                    <a:pt x="6062" y="3659"/>
                  </a:lnTo>
                  <a:lnTo>
                    <a:pt x="6067" y="3634"/>
                  </a:lnTo>
                  <a:lnTo>
                    <a:pt x="6074" y="3607"/>
                  </a:lnTo>
                  <a:lnTo>
                    <a:pt x="6083" y="3578"/>
                  </a:lnTo>
                  <a:lnTo>
                    <a:pt x="6094" y="3546"/>
                  </a:lnTo>
                  <a:lnTo>
                    <a:pt x="6107" y="3513"/>
                  </a:lnTo>
                  <a:lnTo>
                    <a:pt x="6123" y="3477"/>
                  </a:lnTo>
                  <a:lnTo>
                    <a:pt x="6142" y="3438"/>
                  </a:lnTo>
                  <a:lnTo>
                    <a:pt x="6163" y="3397"/>
                  </a:lnTo>
                  <a:lnTo>
                    <a:pt x="6188" y="3353"/>
                  </a:lnTo>
                  <a:lnTo>
                    <a:pt x="6216" y="3305"/>
                  </a:lnTo>
                  <a:lnTo>
                    <a:pt x="6248" y="3255"/>
                  </a:lnTo>
                  <a:lnTo>
                    <a:pt x="6284" y="3202"/>
                  </a:lnTo>
                  <a:lnTo>
                    <a:pt x="6323" y="3145"/>
                  </a:lnTo>
                  <a:lnTo>
                    <a:pt x="6367" y="3086"/>
                  </a:lnTo>
                  <a:lnTo>
                    <a:pt x="6371" y="3084"/>
                  </a:lnTo>
                  <a:lnTo>
                    <a:pt x="6374" y="3082"/>
                  </a:lnTo>
                  <a:lnTo>
                    <a:pt x="6376" y="3080"/>
                  </a:lnTo>
                  <a:lnTo>
                    <a:pt x="6378" y="3076"/>
                  </a:lnTo>
                  <a:lnTo>
                    <a:pt x="6381" y="3071"/>
                  </a:lnTo>
                  <a:lnTo>
                    <a:pt x="6381" y="3063"/>
                  </a:lnTo>
                  <a:lnTo>
                    <a:pt x="6381" y="3056"/>
                  </a:lnTo>
                  <a:lnTo>
                    <a:pt x="6378" y="3049"/>
                  </a:lnTo>
                  <a:lnTo>
                    <a:pt x="6375" y="3040"/>
                  </a:lnTo>
                  <a:lnTo>
                    <a:pt x="6372" y="3032"/>
                  </a:lnTo>
                  <a:lnTo>
                    <a:pt x="6363" y="3015"/>
                  </a:lnTo>
                  <a:lnTo>
                    <a:pt x="6355" y="3000"/>
                  </a:lnTo>
                  <a:lnTo>
                    <a:pt x="6353" y="2993"/>
                  </a:lnTo>
                  <a:lnTo>
                    <a:pt x="6351" y="2987"/>
                  </a:lnTo>
                  <a:lnTo>
                    <a:pt x="6351" y="2982"/>
                  </a:lnTo>
                  <a:lnTo>
                    <a:pt x="6352" y="2978"/>
                  </a:lnTo>
                  <a:lnTo>
                    <a:pt x="6349" y="2971"/>
                  </a:lnTo>
                  <a:lnTo>
                    <a:pt x="6347" y="2964"/>
                  </a:lnTo>
                  <a:lnTo>
                    <a:pt x="6343" y="2960"/>
                  </a:lnTo>
                  <a:lnTo>
                    <a:pt x="6338" y="2955"/>
                  </a:lnTo>
                  <a:lnTo>
                    <a:pt x="6333" y="2952"/>
                  </a:lnTo>
                  <a:lnTo>
                    <a:pt x="6327" y="2949"/>
                  </a:lnTo>
                  <a:lnTo>
                    <a:pt x="6321" y="2947"/>
                  </a:lnTo>
                  <a:lnTo>
                    <a:pt x="6314" y="2945"/>
                  </a:lnTo>
                  <a:lnTo>
                    <a:pt x="6298" y="2943"/>
                  </a:lnTo>
                  <a:lnTo>
                    <a:pt x="6283" y="2942"/>
                  </a:lnTo>
                  <a:lnTo>
                    <a:pt x="6267" y="2941"/>
                  </a:lnTo>
                  <a:lnTo>
                    <a:pt x="6253" y="2941"/>
                  </a:lnTo>
                  <a:lnTo>
                    <a:pt x="6239" y="2941"/>
                  </a:lnTo>
                  <a:lnTo>
                    <a:pt x="6229" y="2940"/>
                  </a:lnTo>
                  <a:lnTo>
                    <a:pt x="6225" y="2939"/>
                  </a:lnTo>
                  <a:lnTo>
                    <a:pt x="6222" y="2938"/>
                  </a:lnTo>
                  <a:lnTo>
                    <a:pt x="6219" y="2935"/>
                  </a:lnTo>
                  <a:lnTo>
                    <a:pt x="6218" y="2933"/>
                  </a:lnTo>
                  <a:lnTo>
                    <a:pt x="6218" y="2930"/>
                  </a:lnTo>
                  <a:lnTo>
                    <a:pt x="6219" y="2927"/>
                  </a:lnTo>
                  <a:lnTo>
                    <a:pt x="6222" y="2922"/>
                  </a:lnTo>
                  <a:lnTo>
                    <a:pt x="6226" y="2918"/>
                  </a:lnTo>
                  <a:lnTo>
                    <a:pt x="6239" y="2904"/>
                  </a:lnTo>
                  <a:lnTo>
                    <a:pt x="6259" y="2888"/>
                  </a:lnTo>
                  <a:lnTo>
                    <a:pt x="6269" y="2886"/>
                  </a:lnTo>
                  <a:lnTo>
                    <a:pt x="6279" y="2884"/>
                  </a:lnTo>
                  <a:lnTo>
                    <a:pt x="6289" y="2884"/>
                  </a:lnTo>
                  <a:lnTo>
                    <a:pt x="6299" y="2884"/>
                  </a:lnTo>
                  <a:lnTo>
                    <a:pt x="6319" y="2887"/>
                  </a:lnTo>
                  <a:lnTo>
                    <a:pt x="6338" y="2890"/>
                  </a:lnTo>
                  <a:lnTo>
                    <a:pt x="6357" y="2892"/>
                  </a:lnTo>
                  <a:lnTo>
                    <a:pt x="6375" y="2894"/>
                  </a:lnTo>
                  <a:lnTo>
                    <a:pt x="6384" y="2894"/>
                  </a:lnTo>
                  <a:lnTo>
                    <a:pt x="6392" y="2894"/>
                  </a:lnTo>
                  <a:lnTo>
                    <a:pt x="6399" y="2893"/>
                  </a:lnTo>
                  <a:lnTo>
                    <a:pt x="6407" y="2890"/>
                  </a:lnTo>
                  <a:lnTo>
                    <a:pt x="6419" y="2902"/>
                  </a:lnTo>
                  <a:lnTo>
                    <a:pt x="6429" y="2914"/>
                  </a:lnTo>
                  <a:lnTo>
                    <a:pt x="6439" y="2928"/>
                  </a:lnTo>
                  <a:lnTo>
                    <a:pt x="6447" y="2941"/>
                  </a:lnTo>
                  <a:lnTo>
                    <a:pt x="6454" y="2954"/>
                  </a:lnTo>
                  <a:lnTo>
                    <a:pt x="6459" y="2969"/>
                  </a:lnTo>
                  <a:lnTo>
                    <a:pt x="6465" y="2982"/>
                  </a:lnTo>
                  <a:lnTo>
                    <a:pt x="6468" y="2995"/>
                  </a:lnTo>
                  <a:lnTo>
                    <a:pt x="6474" y="3019"/>
                  </a:lnTo>
                  <a:lnTo>
                    <a:pt x="6477" y="3039"/>
                  </a:lnTo>
                  <a:lnTo>
                    <a:pt x="6478" y="3051"/>
                  </a:lnTo>
                  <a:lnTo>
                    <a:pt x="6478" y="3056"/>
                  </a:lnTo>
                  <a:lnTo>
                    <a:pt x="6560" y="2974"/>
                  </a:lnTo>
                  <a:lnTo>
                    <a:pt x="6650" y="2882"/>
                  </a:lnTo>
                  <a:lnTo>
                    <a:pt x="6695" y="2833"/>
                  </a:lnTo>
                  <a:lnTo>
                    <a:pt x="6739" y="2782"/>
                  </a:lnTo>
                  <a:lnTo>
                    <a:pt x="6761" y="2757"/>
                  </a:lnTo>
                  <a:lnTo>
                    <a:pt x="6781" y="2730"/>
                  </a:lnTo>
                  <a:lnTo>
                    <a:pt x="6801" y="2703"/>
                  </a:lnTo>
                  <a:lnTo>
                    <a:pt x="6821" y="2676"/>
                  </a:lnTo>
                  <a:lnTo>
                    <a:pt x="6839" y="2648"/>
                  </a:lnTo>
                  <a:lnTo>
                    <a:pt x="6857" y="2620"/>
                  </a:lnTo>
                  <a:lnTo>
                    <a:pt x="6872" y="2592"/>
                  </a:lnTo>
                  <a:lnTo>
                    <a:pt x="6888" y="2565"/>
                  </a:lnTo>
                  <a:lnTo>
                    <a:pt x="6901" y="2536"/>
                  </a:lnTo>
                  <a:lnTo>
                    <a:pt x="6914" y="2507"/>
                  </a:lnTo>
                  <a:lnTo>
                    <a:pt x="6924" y="2478"/>
                  </a:lnTo>
                  <a:lnTo>
                    <a:pt x="6931" y="2449"/>
                  </a:lnTo>
                  <a:lnTo>
                    <a:pt x="6938" y="2420"/>
                  </a:lnTo>
                  <a:lnTo>
                    <a:pt x="6944" y="2392"/>
                  </a:lnTo>
                  <a:lnTo>
                    <a:pt x="6946" y="2362"/>
                  </a:lnTo>
                  <a:lnTo>
                    <a:pt x="6946" y="2333"/>
                  </a:lnTo>
                  <a:lnTo>
                    <a:pt x="6944" y="2304"/>
                  </a:lnTo>
                  <a:lnTo>
                    <a:pt x="6939" y="2274"/>
                  </a:lnTo>
                  <a:lnTo>
                    <a:pt x="6932" y="2245"/>
                  </a:lnTo>
                  <a:lnTo>
                    <a:pt x="6922" y="2216"/>
                  </a:lnTo>
                  <a:lnTo>
                    <a:pt x="6928" y="2211"/>
                  </a:lnTo>
                  <a:lnTo>
                    <a:pt x="6934" y="2205"/>
                  </a:lnTo>
                  <a:lnTo>
                    <a:pt x="6939" y="2201"/>
                  </a:lnTo>
                  <a:lnTo>
                    <a:pt x="6945" y="2195"/>
                  </a:lnTo>
                  <a:lnTo>
                    <a:pt x="6950" y="2192"/>
                  </a:lnTo>
                  <a:lnTo>
                    <a:pt x="6957" y="2190"/>
                  </a:lnTo>
                  <a:lnTo>
                    <a:pt x="6965" y="2188"/>
                  </a:lnTo>
                  <a:lnTo>
                    <a:pt x="6972" y="2191"/>
                  </a:lnTo>
                  <a:lnTo>
                    <a:pt x="6987" y="2212"/>
                  </a:lnTo>
                  <a:lnTo>
                    <a:pt x="7001" y="2230"/>
                  </a:lnTo>
                  <a:lnTo>
                    <a:pt x="7008" y="2237"/>
                  </a:lnTo>
                  <a:lnTo>
                    <a:pt x="7016" y="2245"/>
                  </a:lnTo>
                  <a:lnTo>
                    <a:pt x="7024" y="2252"/>
                  </a:lnTo>
                  <a:lnTo>
                    <a:pt x="7031" y="2258"/>
                  </a:lnTo>
                  <a:lnTo>
                    <a:pt x="7040" y="2264"/>
                  </a:lnTo>
                  <a:lnTo>
                    <a:pt x="7049" y="2269"/>
                  </a:lnTo>
                  <a:lnTo>
                    <a:pt x="7058" y="2274"/>
                  </a:lnTo>
                  <a:lnTo>
                    <a:pt x="7068" y="2278"/>
                  </a:lnTo>
                  <a:lnTo>
                    <a:pt x="7089" y="2286"/>
                  </a:lnTo>
                  <a:lnTo>
                    <a:pt x="7112" y="2293"/>
                  </a:lnTo>
                  <a:lnTo>
                    <a:pt x="7123" y="2291"/>
                  </a:lnTo>
                  <a:lnTo>
                    <a:pt x="7136" y="2287"/>
                  </a:lnTo>
                  <a:lnTo>
                    <a:pt x="7151" y="2282"/>
                  </a:lnTo>
                  <a:lnTo>
                    <a:pt x="7167" y="2275"/>
                  </a:lnTo>
                  <a:lnTo>
                    <a:pt x="7185" y="2265"/>
                  </a:lnTo>
                  <a:lnTo>
                    <a:pt x="7201" y="2254"/>
                  </a:lnTo>
                  <a:lnTo>
                    <a:pt x="7219" y="2241"/>
                  </a:lnTo>
                  <a:lnTo>
                    <a:pt x="7237" y="2225"/>
                  </a:lnTo>
                  <a:lnTo>
                    <a:pt x="7245" y="2216"/>
                  </a:lnTo>
                  <a:lnTo>
                    <a:pt x="7252" y="2207"/>
                  </a:lnTo>
                  <a:lnTo>
                    <a:pt x="7260" y="2197"/>
                  </a:lnTo>
                  <a:lnTo>
                    <a:pt x="7267" y="2187"/>
                  </a:lnTo>
                  <a:lnTo>
                    <a:pt x="7273" y="2177"/>
                  </a:lnTo>
                  <a:lnTo>
                    <a:pt x="7279" y="2166"/>
                  </a:lnTo>
                  <a:lnTo>
                    <a:pt x="7284" y="2154"/>
                  </a:lnTo>
                  <a:lnTo>
                    <a:pt x="7289" y="2142"/>
                  </a:lnTo>
                  <a:lnTo>
                    <a:pt x="7292" y="2130"/>
                  </a:lnTo>
                  <a:lnTo>
                    <a:pt x="7296" y="2116"/>
                  </a:lnTo>
                  <a:lnTo>
                    <a:pt x="7298" y="2102"/>
                  </a:lnTo>
                  <a:lnTo>
                    <a:pt x="7299" y="2089"/>
                  </a:lnTo>
                  <a:lnTo>
                    <a:pt x="7299" y="2073"/>
                  </a:lnTo>
                  <a:lnTo>
                    <a:pt x="7298" y="2057"/>
                  </a:lnTo>
                  <a:lnTo>
                    <a:pt x="7296" y="2042"/>
                  </a:lnTo>
                  <a:lnTo>
                    <a:pt x="7292" y="2025"/>
                  </a:lnTo>
                  <a:lnTo>
                    <a:pt x="7287" y="2037"/>
                  </a:lnTo>
                  <a:lnTo>
                    <a:pt x="7281" y="2050"/>
                  </a:lnTo>
                  <a:lnTo>
                    <a:pt x="7274" y="2064"/>
                  </a:lnTo>
                  <a:lnTo>
                    <a:pt x="7268" y="2077"/>
                  </a:lnTo>
                  <a:lnTo>
                    <a:pt x="7259" y="2093"/>
                  </a:lnTo>
                  <a:lnTo>
                    <a:pt x="7247" y="2109"/>
                  </a:lnTo>
                  <a:lnTo>
                    <a:pt x="7240" y="2116"/>
                  </a:lnTo>
                  <a:lnTo>
                    <a:pt x="7233" y="2124"/>
                  </a:lnTo>
                  <a:lnTo>
                    <a:pt x="7225" y="2132"/>
                  </a:lnTo>
                  <a:lnTo>
                    <a:pt x="7216" y="2140"/>
                  </a:lnTo>
                  <a:lnTo>
                    <a:pt x="7191" y="2155"/>
                  </a:lnTo>
                  <a:lnTo>
                    <a:pt x="7167" y="2170"/>
                  </a:lnTo>
                  <a:lnTo>
                    <a:pt x="7155" y="2176"/>
                  </a:lnTo>
                  <a:lnTo>
                    <a:pt x="7142" y="2182"/>
                  </a:lnTo>
                  <a:lnTo>
                    <a:pt x="7130" y="2187"/>
                  </a:lnTo>
                  <a:lnTo>
                    <a:pt x="7117" y="2193"/>
                  </a:lnTo>
                  <a:lnTo>
                    <a:pt x="7105" y="2196"/>
                  </a:lnTo>
                  <a:lnTo>
                    <a:pt x="7091" y="2200"/>
                  </a:lnTo>
                  <a:lnTo>
                    <a:pt x="7078" y="2202"/>
                  </a:lnTo>
                  <a:lnTo>
                    <a:pt x="7065" y="2202"/>
                  </a:lnTo>
                  <a:lnTo>
                    <a:pt x="7051" y="2202"/>
                  </a:lnTo>
                  <a:lnTo>
                    <a:pt x="7037" y="2200"/>
                  </a:lnTo>
                  <a:lnTo>
                    <a:pt x="7024" y="2195"/>
                  </a:lnTo>
                  <a:lnTo>
                    <a:pt x="7009" y="2191"/>
                  </a:lnTo>
                  <a:lnTo>
                    <a:pt x="7026" y="2183"/>
                  </a:lnTo>
                  <a:lnTo>
                    <a:pt x="7044" y="2174"/>
                  </a:lnTo>
                  <a:lnTo>
                    <a:pt x="7062" y="2164"/>
                  </a:lnTo>
                  <a:lnTo>
                    <a:pt x="7081" y="2152"/>
                  </a:lnTo>
                  <a:lnTo>
                    <a:pt x="7100" y="2139"/>
                  </a:lnTo>
                  <a:lnTo>
                    <a:pt x="7119" y="2125"/>
                  </a:lnTo>
                  <a:lnTo>
                    <a:pt x="7137" y="2111"/>
                  </a:lnTo>
                  <a:lnTo>
                    <a:pt x="7155" y="2095"/>
                  </a:lnTo>
                  <a:lnTo>
                    <a:pt x="7171" y="2081"/>
                  </a:lnTo>
                  <a:lnTo>
                    <a:pt x="7187" y="2066"/>
                  </a:lnTo>
                  <a:lnTo>
                    <a:pt x="7200" y="2052"/>
                  </a:lnTo>
                  <a:lnTo>
                    <a:pt x="7211" y="2040"/>
                  </a:lnTo>
                  <a:lnTo>
                    <a:pt x="7220" y="2028"/>
                  </a:lnTo>
                  <a:lnTo>
                    <a:pt x="7228" y="2016"/>
                  </a:lnTo>
                  <a:lnTo>
                    <a:pt x="7230" y="2012"/>
                  </a:lnTo>
                  <a:lnTo>
                    <a:pt x="7231" y="2008"/>
                  </a:lnTo>
                  <a:lnTo>
                    <a:pt x="7232" y="2003"/>
                  </a:lnTo>
                  <a:lnTo>
                    <a:pt x="7232" y="2000"/>
                  </a:lnTo>
                  <a:lnTo>
                    <a:pt x="7231" y="1999"/>
                  </a:lnTo>
                  <a:lnTo>
                    <a:pt x="7230" y="1996"/>
                  </a:lnTo>
                  <a:lnTo>
                    <a:pt x="7228" y="1995"/>
                  </a:lnTo>
                  <a:lnTo>
                    <a:pt x="7225" y="1994"/>
                  </a:lnTo>
                  <a:lnTo>
                    <a:pt x="7217" y="1993"/>
                  </a:lnTo>
                  <a:lnTo>
                    <a:pt x="7208" y="1992"/>
                  </a:lnTo>
                  <a:lnTo>
                    <a:pt x="7196" y="1993"/>
                  </a:lnTo>
                  <a:lnTo>
                    <a:pt x="7182" y="1994"/>
                  </a:lnTo>
                  <a:lnTo>
                    <a:pt x="7167" y="1996"/>
                  </a:lnTo>
                  <a:lnTo>
                    <a:pt x="7149" y="2000"/>
                  </a:lnTo>
                  <a:lnTo>
                    <a:pt x="7138" y="2014"/>
                  </a:lnTo>
                  <a:lnTo>
                    <a:pt x="7127" y="2028"/>
                  </a:lnTo>
                  <a:lnTo>
                    <a:pt x="7116" y="2040"/>
                  </a:lnTo>
                  <a:lnTo>
                    <a:pt x="7103" y="2051"/>
                  </a:lnTo>
                  <a:lnTo>
                    <a:pt x="7091" y="2060"/>
                  </a:lnTo>
                  <a:lnTo>
                    <a:pt x="7079" y="2069"/>
                  </a:lnTo>
                  <a:lnTo>
                    <a:pt x="7067" y="2076"/>
                  </a:lnTo>
                  <a:lnTo>
                    <a:pt x="7056" y="2082"/>
                  </a:lnTo>
                  <a:lnTo>
                    <a:pt x="7045" y="2086"/>
                  </a:lnTo>
                  <a:lnTo>
                    <a:pt x="7035" y="2090"/>
                  </a:lnTo>
                  <a:lnTo>
                    <a:pt x="7025" y="2091"/>
                  </a:lnTo>
                  <a:lnTo>
                    <a:pt x="7017" y="2091"/>
                  </a:lnTo>
                  <a:lnTo>
                    <a:pt x="7010" y="2090"/>
                  </a:lnTo>
                  <a:lnTo>
                    <a:pt x="7005" y="2087"/>
                  </a:lnTo>
                  <a:lnTo>
                    <a:pt x="7002" y="2085"/>
                  </a:lnTo>
                  <a:lnTo>
                    <a:pt x="7001" y="2083"/>
                  </a:lnTo>
                  <a:lnTo>
                    <a:pt x="6999" y="2080"/>
                  </a:lnTo>
                  <a:lnTo>
                    <a:pt x="6999" y="2076"/>
                  </a:lnTo>
                  <a:lnTo>
                    <a:pt x="7007" y="2062"/>
                  </a:lnTo>
                  <a:lnTo>
                    <a:pt x="7016" y="2049"/>
                  </a:lnTo>
                  <a:lnTo>
                    <a:pt x="7025" y="2036"/>
                  </a:lnTo>
                  <a:lnTo>
                    <a:pt x="7035" y="2023"/>
                  </a:lnTo>
                  <a:lnTo>
                    <a:pt x="7053" y="2000"/>
                  </a:lnTo>
                  <a:lnTo>
                    <a:pt x="7069" y="1978"/>
                  </a:lnTo>
                  <a:lnTo>
                    <a:pt x="7076" y="1968"/>
                  </a:lnTo>
                  <a:lnTo>
                    <a:pt x="7080" y="1958"/>
                  </a:lnTo>
                  <a:lnTo>
                    <a:pt x="7083" y="1948"/>
                  </a:lnTo>
                  <a:lnTo>
                    <a:pt x="7085" y="1938"/>
                  </a:lnTo>
                  <a:lnTo>
                    <a:pt x="7085" y="1932"/>
                  </a:lnTo>
                  <a:lnTo>
                    <a:pt x="7083" y="1928"/>
                  </a:lnTo>
                  <a:lnTo>
                    <a:pt x="7081" y="1923"/>
                  </a:lnTo>
                  <a:lnTo>
                    <a:pt x="7079" y="1918"/>
                  </a:lnTo>
                  <a:lnTo>
                    <a:pt x="7077" y="1913"/>
                  </a:lnTo>
                  <a:lnTo>
                    <a:pt x="7072" y="1909"/>
                  </a:lnTo>
                  <a:lnTo>
                    <a:pt x="7068" y="1903"/>
                  </a:lnTo>
                  <a:lnTo>
                    <a:pt x="7062" y="1899"/>
                  </a:lnTo>
                  <a:lnTo>
                    <a:pt x="7079" y="1841"/>
                  </a:lnTo>
                  <a:lnTo>
                    <a:pt x="7093" y="1787"/>
                  </a:lnTo>
                  <a:lnTo>
                    <a:pt x="7106" y="1736"/>
                  </a:lnTo>
                  <a:lnTo>
                    <a:pt x="7117" y="1689"/>
                  </a:lnTo>
                  <a:lnTo>
                    <a:pt x="7127" y="1646"/>
                  </a:lnTo>
                  <a:lnTo>
                    <a:pt x="7135" y="1605"/>
                  </a:lnTo>
                  <a:lnTo>
                    <a:pt x="7141" y="1568"/>
                  </a:lnTo>
                  <a:lnTo>
                    <a:pt x="7147" y="1535"/>
                  </a:lnTo>
                  <a:lnTo>
                    <a:pt x="7150" y="1505"/>
                  </a:lnTo>
                  <a:lnTo>
                    <a:pt x="7153" y="1478"/>
                  </a:lnTo>
                  <a:lnTo>
                    <a:pt x="7155" y="1454"/>
                  </a:lnTo>
                  <a:lnTo>
                    <a:pt x="7156" y="1433"/>
                  </a:lnTo>
                  <a:lnTo>
                    <a:pt x="7156" y="1415"/>
                  </a:lnTo>
                  <a:lnTo>
                    <a:pt x="7153" y="1400"/>
                  </a:lnTo>
                  <a:lnTo>
                    <a:pt x="7152" y="1388"/>
                  </a:lnTo>
                  <a:lnTo>
                    <a:pt x="7149" y="1378"/>
                  </a:lnTo>
                  <a:lnTo>
                    <a:pt x="7149" y="1373"/>
                  </a:lnTo>
                  <a:lnTo>
                    <a:pt x="7150" y="1367"/>
                  </a:lnTo>
                  <a:lnTo>
                    <a:pt x="7150" y="1362"/>
                  </a:lnTo>
                  <a:lnTo>
                    <a:pt x="7149" y="1356"/>
                  </a:lnTo>
                  <a:lnTo>
                    <a:pt x="7148" y="1352"/>
                  </a:lnTo>
                  <a:lnTo>
                    <a:pt x="7146" y="1347"/>
                  </a:lnTo>
                  <a:lnTo>
                    <a:pt x="7142" y="1343"/>
                  </a:lnTo>
                  <a:lnTo>
                    <a:pt x="7136" y="1339"/>
                  </a:lnTo>
                  <a:lnTo>
                    <a:pt x="7137" y="1370"/>
                  </a:lnTo>
                  <a:lnTo>
                    <a:pt x="7136" y="1400"/>
                  </a:lnTo>
                  <a:lnTo>
                    <a:pt x="7132" y="1431"/>
                  </a:lnTo>
                  <a:lnTo>
                    <a:pt x="7128" y="1461"/>
                  </a:lnTo>
                  <a:lnTo>
                    <a:pt x="7121" y="1491"/>
                  </a:lnTo>
                  <a:lnTo>
                    <a:pt x="7113" y="1520"/>
                  </a:lnTo>
                  <a:lnTo>
                    <a:pt x="7105" y="1549"/>
                  </a:lnTo>
                  <a:lnTo>
                    <a:pt x="7093" y="1578"/>
                  </a:lnTo>
                  <a:lnTo>
                    <a:pt x="7081" y="1606"/>
                  </a:lnTo>
                  <a:lnTo>
                    <a:pt x="7068" y="1633"/>
                  </a:lnTo>
                  <a:lnTo>
                    <a:pt x="7052" y="1660"/>
                  </a:lnTo>
                  <a:lnTo>
                    <a:pt x="7037" y="1687"/>
                  </a:lnTo>
                  <a:lnTo>
                    <a:pt x="7019" y="1712"/>
                  </a:lnTo>
                  <a:lnTo>
                    <a:pt x="7001" y="1737"/>
                  </a:lnTo>
                  <a:lnTo>
                    <a:pt x="6981" y="1760"/>
                  </a:lnTo>
                  <a:lnTo>
                    <a:pt x="6961" y="1782"/>
                  </a:lnTo>
                  <a:lnTo>
                    <a:pt x="6936" y="1782"/>
                  </a:lnTo>
                  <a:lnTo>
                    <a:pt x="6950" y="1746"/>
                  </a:lnTo>
                  <a:lnTo>
                    <a:pt x="6964" y="1707"/>
                  </a:lnTo>
                  <a:lnTo>
                    <a:pt x="6975" y="1667"/>
                  </a:lnTo>
                  <a:lnTo>
                    <a:pt x="6984" y="1626"/>
                  </a:lnTo>
                  <a:lnTo>
                    <a:pt x="6990" y="1584"/>
                  </a:lnTo>
                  <a:lnTo>
                    <a:pt x="6995" y="1540"/>
                  </a:lnTo>
                  <a:lnTo>
                    <a:pt x="6998" y="1496"/>
                  </a:lnTo>
                  <a:lnTo>
                    <a:pt x="6999" y="1451"/>
                  </a:lnTo>
                  <a:lnTo>
                    <a:pt x="6999" y="1407"/>
                  </a:lnTo>
                  <a:lnTo>
                    <a:pt x="6998" y="1362"/>
                  </a:lnTo>
                  <a:lnTo>
                    <a:pt x="6995" y="1316"/>
                  </a:lnTo>
                  <a:lnTo>
                    <a:pt x="6991" y="1270"/>
                  </a:lnTo>
                  <a:lnTo>
                    <a:pt x="6986" y="1225"/>
                  </a:lnTo>
                  <a:lnTo>
                    <a:pt x="6980" y="1179"/>
                  </a:lnTo>
                  <a:lnTo>
                    <a:pt x="6972" y="1135"/>
                  </a:lnTo>
                  <a:lnTo>
                    <a:pt x="6965" y="1091"/>
                  </a:lnTo>
                  <a:lnTo>
                    <a:pt x="6956" y="1047"/>
                  </a:lnTo>
                  <a:lnTo>
                    <a:pt x="6947" y="1004"/>
                  </a:lnTo>
                  <a:lnTo>
                    <a:pt x="6937" y="963"/>
                  </a:lnTo>
                  <a:lnTo>
                    <a:pt x="6927" y="922"/>
                  </a:lnTo>
                  <a:lnTo>
                    <a:pt x="6906" y="844"/>
                  </a:lnTo>
                  <a:lnTo>
                    <a:pt x="6885" y="773"/>
                  </a:lnTo>
                  <a:lnTo>
                    <a:pt x="6865" y="710"/>
                  </a:lnTo>
                  <a:lnTo>
                    <a:pt x="6845" y="654"/>
                  </a:lnTo>
                  <a:lnTo>
                    <a:pt x="6828" y="609"/>
                  </a:lnTo>
                  <a:lnTo>
                    <a:pt x="6814" y="573"/>
                  </a:lnTo>
                  <a:lnTo>
                    <a:pt x="6814" y="603"/>
                  </a:lnTo>
                  <a:lnTo>
                    <a:pt x="6811" y="634"/>
                  </a:lnTo>
                  <a:lnTo>
                    <a:pt x="6809" y="664"/>
                  </a:lnTo>
                  <a:lnTo>
                    <a:pt x="6806" y="696"/>
                  </a:lnTo>
                  <a:lnTo>
                    <a:pt x="6801" y="728"/>
                  </a:lnTo>
                  <a:lnTo>
                    <a:pt x="6796" y="759"/>
                  </a:lnTo>
                  <a:lnTo>
                    <a:pt x="6790" y="791"/>
                  </a:lnTo>
                  <a:lnTo>
                    <a:pt x="6784" y="823"/>
                  </a:lnTo>
                  <a:lnTo>
                    <a:pt x="6769" y="888"/>
                  </a:lnTo>
                  <a:lnTo>
                    <a:pt x="6754" y="952"/>
                  </a:lnTo>
                  <a:lnTo>
                    <a:pt x="6736" y="1017"/>
                  </a:lnTo>
                  <a:lnTo>
                    <a:pt x="6718" y="1084"/>
                  </a:lnTo>
                  <a:lnTo>
                    <a:pt x="6700" y="1149"/>
                  </a:lnTo>
                  <a:lnTo>
                    <a:pt x="6683" y="1215"/>
                  </a:lnTo>
                  <a:lnTo>
                    <a:pt x="6666" y="1279"/>
                  </a:lnTo>
                  <a:lnTo>
                    <a:pt x="6650" y="1344"/>
                  </a:lnTo>
                  <a:lnTo>
                    <a:pt x="6644" y="1376"/>
                  </a:lnTo>
                  <a:lnTo>
                    <a:pt x="6638" y="1408"/>
                  </a:lnTo>
                  <a:lnTo>
                    <a:pt x="6631" y="1439"/>
                  </a:lnTo>
                  <a:lnTo>
                    <a:pt x="6627" y="1471"/>
                  </a:lnTo>
                  <a:lnTo>
                    <a:pt x="6623" y="1502"/>
                  </a:lnTo>
                  <a:lnTo>
                    <a:pt x="6619" y="1532"/>
                  </a:lnTo>
                  <a:lnTo>
                    <a:pt x="6617" y="1564"/>
                  </a:lnTo>
                  <a:lnTo>
                    <a:pt x="6616" y="1593"/>
                  </a:lnTo>
                  <a:lnTo>
                    <a:pt x="6620" y="1613"/>
                  </a:lnTo>
                  <a:lnTo>
                    <a:pt x="6624" y="1633"/>
                  </a:lnTo>
                  <a:lnTo>
                    <a:pt x="6626" y="1653"/>
                  </a:lnTo>
                  <a:lnTo>
                    <a:pt x="6627" y="1675"/>
                  </a:lnTo>
                  <a:lnTo>
                    <a:pt x="6630" y="1717"/>
                  </a:lnTo>
                  <a:lnTo>
                    <a:pt x="6634" y="1759"/>
                  </a:lnTo>
                  <a:lnTo>
                    <a:pt x="6636" y="1779"/>
                  </a:lnTo>
                  <a:lnTo>
                    <a:pt x="6639" y="1799"/>
                  </a:lnTo>
                  <a:lnTo>
                    <a:pt x="6644" y="1819"/>
                  </a:lnTo>
                  <a:lnTo>
                    <a:pt x="6649" y="1837"/>
                  </a:lnTo>
                  <a:lnTo>
                    <a:pt x="6657" y="1854"/>
                  </a:lnTo>
                  <a:lnTo>
                    <a:pt x="6666" y="1870"/>
                  </a:lnTo>
                  <a:lnTo>
                    <a:pt x="6671" y="1878"/>
                  </a:lnTo>
                  <a:lnTo>
                    <a:pt x="6678" y="1885"/>
                  </a:lnTo>
                  <a:lnTo>
                    <a:pt x="6685" y="1892"/>
                  </a:lnTo>
                  <a:lnTo>
                    <a:pt x="6691" y="1899"/>
                  </a:lnTo>
                  <a:lnTo>
                    <a:pt x="6624" y="1858"/>
                  </a:lnTo>
                  <a:lnTo>
                    <a:pt x="6608" y="1844"/>
                  </a:lnTo>
                  <a:lnTo>
                    <a:pt x="6595" y="1829"/>
                  </a:lnTo>
                  <a:lnTo>
                    <a:pt x="6583" y="1811"/>
                  </a:lnTo>
                  <a:lnTo>
                    <a:pt x="6570" y="1792"/>
                  </a:lnTo>
                  <a:lnTo>
                    <a:pt x="6560" y="1772"/>
                  </a:lnTo>
                  <a:lnTo>
                    <a:pt x="6550" y="1750"/>
                  </a:lnTo>
                  <a:lnTo>
                    <a:pt x="6542" y="1726"/>
                  </a:lnTo>
                  <a:lnTo>
                    <a:pt x="6533" y="1700"/>
                  </a:lnTo>
                  <a:lnTo>
                    <a:pt x="6526" y="1673"/>
                  </a:lnTo>
                  <a:lnTo>
                    <a:pt x="6519" y="1645"/>
                  </a:lnTo>
                  <a:lnTo>
                    <a:pt x="6514" y="1616"/>
                  </a:lnTo>
                  <a:lnTo>
                    <a:pt x="6509" y="1585"/>
                  </a:lnTo>
                  <a:lnTo>
                    <a:pt x="6506" y="1551"/>
                  </a:lnTo>
                  <a:lnTo>
                    <a:pt x="6503" y="1518"/>
                  </a:lnTo>
                  <a:lnTo>
                    <a:pt x="6500" y="1484"/>
                  </a:lnTo>
                  <a:lnTo>
                    <a:pt x="6499" y="1447"/>
                  </a:lnTo>
                  <a:lnTo>
                    <a:pt x="6498" y="1410"/>
                  </a:lnTo>
                  <a:lnTo>
                    <a:pt x="6499" y="1373"/>
                  </a:lnTo>
                  <a:lnTo>
                    <a:pt x="6500" y="1334"/>
                  </a:lnTo>
                  <a:lnTo>
                    <a:pt x="6502" y="1293"/>
                  </a:lnTo>
                  <a:lnTo>
                    <a:pt x="6505" y="1253"/>
                  </a:lnTo>
                  <a:lnTo>
                    <a:pt x="6508" y="1211"/>
                  </a:lnTo>
                  <a:lnTo>
                    <a:pt x="6512" y="1168"/>
                  </a:lnTo>
                  <a:lnTo>
                    <a:pt x="6516" y="1125"/>
                  </a:lnTo>
                  <a:lnTo>
                    <a:pt x="6522" y="1081"/>
                  </a:lnTo>
                  <a:lnTo>
                    <a:pt x="6528" y="1036"/>
                  </a:lnTo>
                  <a:lnTo>
                    <a:pt x="6535" y="991"/>
                  </a:lnTo>
                  <a:lnTo>
                    <a:pt x="6543" y="945"/>
                  </a:lnTo>
                  <a:lnTo>
                    <a:pt x="6550" y="900"/>
                  </a:lnTo>
                  <a:lnTo>
                    <a:pt x="6559" y="853"/>
                  </a:lnTo>
                  <a:lnTo>
                    <a:pt x="6569" y="805"/>
                  </a:lnTo>
                  <a:lnTo>
                    <a:pt x="6579" y="759"/>
                  </a:lnTo>
                  <a:lnTo>
                    <a:pt x="6580" y="724"/>
                  </a:lnTo>
                  <a:lnTo>
                    <a:pt x="6580" y="688"/>
                  </a:lnTo>
                  <a:lnTo>
                    <a:pt x="6579" y="650"/>
                  </a:lnTo>
                  <a:lnTo>
                    <a:pt x="6576" y="612"/>
                  </a:lnTo>
                  <a:lnTo>
                    <a:pt x="6573" y="572"/>
                  </a:lnTo>
                  <a:lnTo>
                    <a:pt x="6567" y="532"/>
                  </a:lnTo>
                  <a:lnTo>
                    <a:pt x="6560" y="492"/>
                  </a:lnTo>
                  <a:lnTo>
                    <a:pt x="6554" y="452"/>
                  </a:lnTo>
                  <a:lnTo>
                    <a:pt x="6545" y="414"/>
                  </a:lnTo>
                  <a:lnTo>
                    <a:pt x="6536" y="375"/>
                  </a:lnTo>
                  <a:lnTo>
                    <a:pt x="6526" y="336"/>
                  </a:lnTo>
                  <a:lnTo>
                    <a:pt x="6515" y="299"/>
                  </a:lnTo>
                  <a:lnTo>
                    <a:pt x="6503" y="264"/>
                  </a:lnTo>
                  <a:lnTo>
                    <a:pt x="6490" y="229"/>
                  </a:lnTo>
                  <a:lnTo>
                    <a:pt x="6477" y="198"/>
                  </a:lnTo>
                  <a:lnTo>
                    <a:pt x="6463" y="168"/>
                  </a:lnTo>
                  <a:lnTo>
                    <a:pt x="6458" y="158"/>
                  </a:lnTo>
                  <a:lnTo>
                    <a:pt x="6455" y="148"/>
                  </a:lnTo>
                  <a:lnTo>
                    <a:pt x="6454" y="141"/>
                  </a:lnTo>
                  <a:lnTo>
                    <a:pt x="6455" y="133"/>
                  </a:lnTo>
                  <a:lnTo>
                    <a:pt x="6457" y="127"/>
                  </a:lnTo>
                  <a:lnTo>
                    <a:pt x="6460" y="122"/>
                  </a:lnTo>
                  <a:lnTo>
                    <a:pt x="6464" y="118"/>
                  </a:lnTo>
                  <a:lnTo>
                    <a:pt x="6469" y="115"/>
                  </a:lnTo>
                  <a:lnTo>
                    <a:pt x="6475" y="114"/>
                  </a:lnTo>
                  <a:lnTo>
                    <a:pt x="6482" y="113"/>
                  </a:lnTo>
                  <a:lnTo>
                    <a:pt x="6487" y="114"/>
                  </a:lnTo>
                  <a:lnTo>
                    <a:pt x="6494" y="115"/>
                  </a:lnTo>
                  <a:lnTo>
                    <a:pt x="6499" y="117"/>
                  </a:lnTo>
                  <a:lnTo>
                    <a:pt x="6505" y="121"/>
                  </a:lnTo>
                  <a:lnTo>
                    <a:pt x="6509" y="124"/>
                  </a:lnTo>
                  <a:lnTo>
                    <a:pt x="6513" y="129"/>
                  </a:lnTo>
                  <a:lnTo>
                    <a:pt x="6518" y="142"/>
                  </a:lnTo>
                  <a:lnTo>
                    <a:pt x="6524" y="154"/>
                  </a:lnTo>
                  <a:lnTo>
                    <a:pt x="6529" y="168"/>
                  </a:lnTo>
                  <a:lnTo>
                    <a:pt x="6535" y="184"/>
                  </a:lnTo>
                  <a:lnTo>
                    <a:pt x="6545" y="218"/>
                  </a:lnTo>
                  <a:lnTo>
                    <a:pt x="6554" y="255"/>
                  </a:lnTo>
                  <a:lnTo>
                    <a:pt x="6572" y="334"/>
                  </a:lnTo>
                  <a:lnTo>
                    <a:pt x="6588" y="410"/>
                  </a:lnTo>
                  <a:lnTo>
                    <a:pt x="6595" y="446"/>
                  </a:lnTo>
                  <a:lnTo>
                    <a:pt x="6603" y="477"/>
                  </a:lnTo>
                  <a:lnTo>
                    <a:pt x="6608" y="503"/>
                  </a:lnTo>
                  <a:lnTo>
                    <a:pt x="6615" y="525"/>
                  </a:lnTo>
                  <a:lnTo>
                    <a:pt x="6617" y="532"/>
                  </a:lnTo>
                  <a:lnTo>
                    <a:pt x="6620" y="539"/>
                  </a:lnTo>
                  <a:lnTo>
                    <a:pt x="6623" y="543"/>
                  </a:lnTo>
                  <a:lnTo>
                    <a:pt x="6625" y="545"/>
                  </a:lnTo>
                  <a:lnTo>
                    <a:pt x="6627" y="545"/>
                  </a:lnTo>
                  <a:lnTo>
                    <a:pt x="6629" y="541"/>
                  </a:lnTo>
                  <a:lnTo>
                    <a:pt x="6631" y="537"/>
                  </a:lnTo>
                  <a:lnTo>
                    <a:pt x="6634" y="528"/>
                  </a:lnTo>
                  <a:lnTo>
                    <a:pt x="6637" y="510"/>
                  </a:lnTo>
                  <a:lnTo>
                    <a:pt x="6638" y="488"/>
                  </a:lnTo>
                  <a:lnTo>
                    <a:pt x="6638" y="462"/>
                  </a:lnTo>
                  <a:lnTo>
                    <a:pt x="6637" y="434"/>
                  </a:lnTo>
                  <a:lnTo>
                    <a:pt x="6635" y="401"/>
                  </a:lnTo>
                  <a:lnTo>
                    <a:pt x="6631" y="367"/>
                  </a:lnTo>
                  <a:lnTo>
                    <a:pt x="6627" y="331"/>
                  </a:lnTo>
                  <a:lnTo>
                    <a:pt x="6621" y="295"/>
                  </a:lnTo>
                  <a:lnTo>
                    <a:pt x="6615" y="257"/>
                  </a:lnTo>
                  <a:lnTo>
                    <a:pt x="6608" y="219"/>
                  </a:lnTo>
                  <a:lnTo>
                    <a:pt x="6600" y="183"/>
                  </a:lnTo>
                  <a:lnTo>
                    <a:pt x="6593" y="147"/>
                  </a:lnTo>
                  <a:lnTo>
                    <a:pt x="6584" y="114"/>
                  </a:lnTo>
                  <a:lnTo>
                    <a:pt x="6574" y="83"/>
                  </a:lnTo>
                  <a:lnTo>
                    <a:pt x="6565" y="54"/>
                  </a:lnTo>
                  <a:lnTo>
                    <a:pt x="6555" y="28"/>
                  </a:lnTo>
                  <a:lnTo>
                    <a:pt x="6556" y="20"/>
                  </a:lnTo>
                  <a:lnTo>
                    <a:pt x="6559" y="13"/>
                  </a:lnTo>
                  <a:lnTo>
                    <a:pt x="6564" y="8"/>
                  </a:lnTo>
                  <a:lnTo>
                    <a:pt x="6568" y="5"/>
                  </a:lnTo>
                  <a:lnTo>
                    <a:pt x="6575" y="2"/>
                  </a:lnTo>
                  <a:lnTo>
                    <a:pt x="6582" y="1"/>
                  </a:lnTo>
                  <a:lnTo>
                    <a:pt x="6589" y="1"/>
                  </a:lnTo>
                  <a:lnTo>
                    <a:pt x="6597" y="0"/>
                  </a:lnTo>
                  <a:lnTo>
                    <a:pt x="6604" y="7"/>
                  </a:lnTo>
                  <a:lnTo>
                    <a:pt x="6609" y="16"/>
                  </a:lnTo>
                  <a:lnTo>
                    <a:pt x="6615" y="27"/>
                  </a:lnTo>
                  <a:lnTo>
                    <a:pt x="6620" y="38"/>
                  </a:lnTo>
                  <a:lnTo>
                    <a:pt x="6630" y="64"/>
                  </a:lnTo>
                  <a:lnTo>
                    <a:pt x="6640" y="94"/>
                  </a:lnTo>
                  <a:lnTo>
                    <a:pt x="6649" y="126"/>
                  </a:lnTo>
                  <a:lnTo>
                    <a:pt x="6658" y="162"/>
                  </a:lnTo>
                  <a:lnTo>
                    <a:pt x="6665" y="198"/>
                  </a:lnTo>
                  <a:lnTo>
                    <a:pt x="6673" y="235"/>
                  </a:lnTo>
                  <a:lnTo>
                    <a:pt x="6678" y="273"/>
                  </a:lnTo>
                  <a:lnTo>
                    <a:pt x="6684" y="309"/>
                  </a:lnTo>
                  <a:lnTo>
                    <a:pt x="6689" y="345"/>
                  </a:lnTo>
                  <a:lnTo>
                    <a:pt x="6693" y="378"/>
                  </a:lnTo>
                  <a:lnTo>
                    <a:pt x="6696" y="409"/>
                  </a:lnTo>
                  <a:lnTo>
                    <a:pt x="6698" y="436"/>
                  </a:lnTo>
                  <a:lnTo>
                    <a:pt x="6699" y="459"/>
                  </a:lnTo>
                  <a:lnTo>
                    <a:pt x="6699" y="478"/>
                  </a:lnTo>
                  <a:lnTo>
                    <a:pt x="6705" y="459"/>
                  </a:lnTo>
                  <a:lnTo>
                    <a:pt x="6709" y="441"/>
                  </a:lnTo>
                  <a:lnTo>
                    <a:pt x="6714" y="424"/>
                  </a:lnTo>
                  <a:lnTo>
                    <a:pt x="6716" y="406"/>
                  </a:lnTo>
                  <a:lnTo>
                    <a:pt x="6717" y="388"/>
                  </a:lnTo>
                  <a:lnTo>
                    <a:pt x="6718" y="369"/>
                  </a:lnTo>
                  <a:lnTo>
                    <a:pt x="6718" y="349"/>
                  </a:lnTo>
                  <a:lnTo>
                    <a:pt x="6717" y="328"/>
                  </a:lnTo>
                  <a:lnTo>
                    <a:pt x="6714" y="280"/>
                  </a:lnTo>
                  <a:lnTo>
                    <a:pt x="6707" y="223"/>
                  </a:lnTo>
                  <a:lnTo>
                    <a:pt x="6698" y="153"/>
                  </a:lnTo>
                  <a:lnTo>
                    <a:pt x="6687" y="68"/>
                  </a:lnTo>
                  <a:lnTo>
                    <a:pt x="6686" y="62"/>
                  </a:lnTo>
                  <a:lnTo>
                    <a:pt x="6687" y="55"/>
                  </a:lnTo>
                  <a:lnTo>
                    <a:pt x="6687" y="48"/>
                  </a:lnTo>
                  <a:lnTo>
                    <a:pt x="6689" y="43"/>
                  </a:lnTo>
                  <a:lnTo>
                    <a:pt x="6690" y="36"/>
                  </a:lnTo>
                  <a:lnTo>
                    <a:pt x="6693" y="31"/>
                  </a:lnTo>
                  <a:lnTo>
                    <a:pt x="6695" y="24"/>
                  </a:lnTo>
                  <a:lnTo>
                    <a:pt x="6697" y="18"/>
                  </a:lnTo>
                  <a:lnTo>
                    <a:pt x="6709" y="34"/>
                  </a:lnTo>
                  <a:lnTo>
                    <a:pt x="6721" y="51"/>
                  </a:lnTo>
                  <a:lnTo>
                    <a:pt x="6733" y="67"/>
                  </a:lnTo>
                  <a:lnTo>
                    <a:pt x="6743" y="86"/>
                  </a:lnTo>
                  <a:lnTo>
                    <a:pt x="6753" y="105"/>
                  </a:lnTo>
                  <a:lnTo>
                    <a:pt x="6761" y="125"/>
                  </a:lnTo>
                  <a:lnTo>
                    <a:pt x="6770" y="146"/>
                  </a:lnTo>
                  <a:lnTo>
                    <a:pt x="6778" y="168"/>
                  </a:lnTo>
                  <a:lnTo>
                    <a:pt x="6785" y="192"/>
                  </a:lnTo>
                  <a:lnTo>
                    <a:pt x="6791" y="215"/>
                  </a:lnTo>
                  <a:lnTo>
                    <a:pt x="6797" y="240"/>
                  </a:lnTo>
                  <a:lnTo>
                    <a:pt x="6803" y="267"/>
                  </a:lnTo>
                  <a:lnTo>
                    <a:pt x="6808" y="295"/>
                  </a:lnTo>
                  <a:lnTo>
                    <a:pt x="6811" y="324"/>
                  </a:lnTo>
                  <a:lnTo>
                    <a:pt x="6816" y="355"/>
                  </a:lnTo>
                  <a:lnTo>
                    <a:pt x="6819" y="386"/>
                  </a:lnTo>
                  <a:lnTo>
                    <a:pt x="6847" y="459"/>
                  </a:lnTo>
                  <a:lnTo>
                    <a:pt x="6872" y="526"/>
                  </a:lnTo>
                  <a:lnTo>
                    <a:pt x="6898" y="585"/>
                  </a:lnTo>
                  <a:lnTo>
                    <a:pt x="6921" y="637"/>
                  </a:lnTo>
                  <a:lnTo>
                    <a:pt x="6945" y="683"/>
                  </a:lnTo>
                  <a:lnTo>
                    <a:pt x="6966" y="724"/>
                  </a:lnTo>
                  <a:lnTo>
                    <a:pt x="6986" y="761"/>
                  </a:lnTo>
                  <a:lnTo>
                    <a:pt x="7006" y="794"/>
                  </a:lnTo>
                  <a:lnTo>
                    <a:pt x="7025" y="823"/>
                  </a:lnTo>
                  <a:lnTo>
                    <a:pt x="7042" y="850"/>
                  </a:lnTo>
                  <a:lnTo>
                    <a:pt x="7059" y="873"/>
                  </a:lnTo>
                  <a:lnTo>
                    <a:pt x="7076" y="896"/>
                  </a:lnTo>
                  <a:lnTo>
                    <a:pt x="7107" y="939"/>
                  </a:lnTo>
                  <a:lnTo>
                    <a:pt x="7136" y="983"/>
                  </a:lnTo>
                  <a:lnTo>
                    <a:pt x="7153" y="1019"/>
                  </a:lnTo>
                  <a:lnTo>
                    <a:pt x="7169" y="1055"/>
                  </a:lnTo>
                  <a:lnTo>
                    <a:pt x="7183" y="1093"/>
                  </a:lnTo>
                  <a:lnTo>
                    <a:pt x="7198" y="1131"/>
                  </a:lnTo>
                  <a:lnTo>
                    <a:pt x="7210" y="1168"/>
                  </a:lnTo>
                  <a:lnTo>
                    <a:pt x="7221" y="1207"/>
                  </a:lnTo>
                  <a:lnTo>
                    <a:pt x="7230" y="1247"/>
                  </a:lnTo>
                  <a:lnTo>
                    <a:pt x="7239" y="1287"/>
                  </a:lnTo>
                  <a:lnTo>
                    <a:pt x="7245" y="1327"/>
                  </a:lnTo>
                  <a:lnTo>
                    <a:pt x="7250" y="1368"/>
                  </a:lnTo>
                  <a:lnTo>
                    <a:pt x="7252" y="1409"/>
                  </a:lnTo>
                  <a:lnTo>
                    <a:pt x="7255" y="1450"/>
                  </a:lnTo>
                  <a:lnTo>
                    <a:pt x="7253" y="1492"/>
                  </a:lnTo>
                  <a:lnTo>
                    <a:pt x="7251" y="1535"/>
                  </a:lnTo>
                  <a:lnTo>
                    <a:pt x="7247" y="1577"/>
                  </a:lnTo>
                  <a:lnTo>
                    <a:pt x="7240" y="1619"/>
                  </a:lnTo>
                  <a:lnTo>
                    <a:pt x="7247" y="1629"/>
                  </a:lnTo>
                  <a:lnTo>
                    <a:pt x="7253" y="1639"/>
                  </a:lnTo>
                  <a:lnTo>
                    <a:pt x="7259" y="1649"/>
                  </a:lnTo>
                  <a:lnTo>
                    <a:pt x="7263" y="1660"/>
                  </a:lnTo>
                  <a:lnTo>
                    <a:pt x="7267" y="1672"/>
                  </a:lnTo>
                  <a:lnTo>
                    <a:pt x="7269" y="1683"/>
                  </a:lnTo>
                  <a:lnTo>
                    <a:pt x="7270" y="1696"/>
                  </a:lnTo>
                  <a:lnTo>
                    <a:pt x="7271" y="1709"/>
                  </a:lnTo>
                  <a:lnTo>
                    <a:pt x="7271" y="1721"/>
                  </a:lnTo>
                  <a:lnTo>
                    <a:pt x="7271" y="1734"/>
                  </a:lnTo>
                  <a:lnTo>
                    <a:pt x="7269" y="1747"/>
                  </a:lnTo>
                  <a:lnTo>
                    <a:pt x="7268" y="1760"/>
                  </a:lnTo>
                  <a:lnTo>
                    <a:pt x="7265" y="1772"/>
                  </a:lnTo>
                  <a:lnTo>
                    <a:pt x="7261" y="1786"/>
                  </a:lnTo>
                  <a:lnTo>
                    <a:pt x="7257" y="1798"/>
                  </a:lnTo>
                  <a:lnTo>
                    <a:pt x="7252" y="1810"/>
                  </a:lnTo>
                  <a:lnTo>
                    <a:pt x="7266" y="1822"/>
                  </a:lnTo>
                  <a:lnTo>
                    <a:pt x="7276" y="1835"/>
                  </a:lnTo>
                  <a:lnTo>
                    <a:pt x="7284" y="1849"/>
                  </a:lnTo>
                  <a:lnTo>
                    <a:pt x="7291" y="1863"/>
                  </a:lnTo>
                  <a:lnTo>
                    <a:pt x="7296" y="1879"/>
                  </a:lnTo>
                  <a:lnTo>
                    <a:pt x="7299" y="1895"/>
                  </a:lnTo>
                  <a:lnTo>
                    <a:pt x="7302" y="1915"/>
                  </a:lnTo>
                  <a:lnTo>
                    <a:pt x="7303" y="1936"/>
                  </a:lnTo>
                  <a:lnTo>
                    <a:pt x="7339" y="1797"/>
                  </a:lnTo>
                  <a:lnTo>
                    <a:pt x="7349" y="1798"/>
                  </a:lnTo>
                  <a:lnTo>
                    <a:pt x="7357" y="1800"/>
                  </a:lnTo>
                  <a:lnTo>
                    <a:pt x="7364" y="1803"/>
                  </a:lnTo>
                  <a:lnTo>
                    <a:pt x="7371" y="1808"/>
                  </a:lnTo>
                  <a:lnTo>
                    <a:pt x="7377" y="1813"/>
                  </a:lnTo>
                  <a:lnTo>
                    <a:pt x="7382" y="1820"/>
                  </a:lnTo>
                  <a:lnTo>
                    <a:pt x="7388" y="1827"/>
                  </a:lnTo>
                  <a:lnTo>
                    <a:pt x="7391" y="1834"/>
                  </a:lnTo>
                  <a:lnTo>
                    <a:pt x="7396" y="1842"/>
                  </a:lnTo>
                  <a:lnTo>
                    <a:pt x="7399" y="1851"/>
                  </a:lnTo>
                  <a:lnTo>
                    <a:pt x="7401" y="1861"/>
                  </a:lnTo>
                  <a:lnTo>
                    <a:pt x="7403" y="1871"/>
                  </a:lnTo>
                  <a:lnTo>
                    <a:pt x="7407" y="1891"/>
                  </a:lnTo>
                  <a:lnTo>
                    <a:pt x="7409" y="1912"/>
                  </a:lnTo>
                  <a:lnTo>
                    <a:pt x="7409" y="1934"/>
                  </a:lnTo>
                  <a:lnTo>
                    <a:pt x="7409" y="1955"/>
                  </a:lnTo>
                  <a:lnTo>
                    <a:pt x="7408" y="1975"/>
                  </a:lnTo>
                  <a:lnTo>
                    <a:pt x="7407" y="1993"/>
                  </a:lnTo>
                  <a:lnTo>
                    <a:pt x="7406" y="2022"/>
                  </a:lnTo>
                  <a:lnTo>
                    <a:pt x="7406" y="2036"/>
                  </a:lnTo>
                  <a:lnTo>
                    <a:pt x="7403" y="2052"/>
                  </a:lnTo>
                  <a:lnTo>
                    <a:pt x="7396" y="2093"/>
                  </a:lnTo>
                  <a:lnTo>
                    <a:pt x="7390" y="2120"/>
                  </a:lnTo>
                  <a:lnTo>
                    <a:pt x="7383" y="2151"/>
                  </a:lnTo>
                  <a:lnTo>
                    <a:pt x="7374" y="2183"/>
                  </a:lnTo>
                  <a:lnTo>
                    <a:pt x="7364" y="2216"/>
                  </a:lnTo>
                  <a:lnTo>
                    <a:pt x="7353" y="2251"/>
                  </a:lnTo>
                  <a:lnTo>
                    <a:pt x="7340" y="2283"/>
                  </a:lnTo>
                  <a:lnTo>
                    <a:pt x="7333" y="2298"/>
                  </a:lnTo>
                  <a:lnTo>
                    <a:pt x="7326" y="2313"/>
                  </a:lnTo>
                  <a:lnTo>
                    <a:pt x="7318" y="2327"/>
                  </a:lnTo>
                  <a:lnTo>
                    <a:pt x="7309" y="2339"/>
                  </a:lnTo>
                  <a:lnTo>
                    <a:pt x="7300" y="2352"/>
                  </a:lnTo>
                  <a:lnTo>
                    <a:pt x="7291" y="2363"/>
                  </a:lnTo>
                  <a:lnTo>
                    <a:pt x="7281" y="2372"/>
                  </a:lnTo>
                  <a:lnTo>
                    <a:pt x="7271" y="2379"/>
                  </a:lnTo>
                  <a:lnTo>
                    <a:pt x="7261" y="2386"/>
                  </a:lnTo>
                  <a:lnTo>
                    <a:pt x="7250" y="2390"/>
                  </a:lnTo>
                  <a:lnTo>
                    <a:pt x="7239" y="2393"/>
                  </a:lnTo>
                  <a:lnTo>
                    <a:pt x="7227" y="2394"/>
                  </a:lnTo>
                  <a:lnTo>
                    <a:pt x="7205" y="2399"/>
                  </a:lnTo>
                  <a:lnTo>
                    <a:pt x="7180" y="2404"/>
                  </a:lnTo>
                  <a:lnTo>
                    <a:pt x="7155" y="2407"/>
                  </a:lnTo>
                  <a:lnTo>
                    <a:pt x="7129" y="2408"/>
                  </a:lnTo>
                  <a:lnTo>
                    <a:pt x="7117" y="2408"/>
                  </a:lnTo>
                  <a:lnTo>
                    <a:pt x="7103" y="2407"/>
                  </a:lnTo>
                  <a:lnTo>
                    <a:pt x="7091" y="2405"/>
                  </a:lnTo>
                  <a:lnTo>
                    <a:pt x="7079" y="2403"/>
                  </a:lnTo>
                  <a:lnTo>
                    <a:pt x="7068" y="2398"/>
                  </a:lnTo>
                  <a:lnTo>
                    <a:pt x="7057" y="2394"/>
                  </a:lnTo>
                  <a:lnTo>
                    <a:pt x="7046" y="2387"/>
                  </a:lnTo>
                  <a:lnTo>
                    <a:pt x="7037" y="2380"/>
                  </a:lnTo>
                  <a:lnTo>
                    <a:pt x="7031" y="2408"/>
                  </a:lnTo>
                  <a:lnTo>
                    <a:pt x="7026" y="2437"/>
                  </a:lnTo>
                  <a:lnTo>
                    <a:pt x="7019" y="2468"/>
                  </a:lnTo>
                  <a:lnTo>
                    <a:pt x="7010" y="2500"/>
                  </a:lnTo>
                  <a:lnTo>
                    <a:pt x="7005" y="2518"/>
                  </a:lnTo>
                  <a:lnTo>
                    <a:pt x="6998" y="2535"/>
                  </a:lnTo>
                  <a:lnTo>
                    <a:pt x="6991" y="2554"/>
                  </a:lnTo>
                  <a:lnTo>
                    <a:pt x="6984" y="2573"/>
                  </a:lnTo>
                  <a:lnTo>
                    <a:pt x="6974" y="2591"/>
                  </a:lnTo>
                  <a:lnTo>
                    <a:pt x="6964" y="2611"/>
                  </a:lnTo>
                  <a:lnTo>
                    <a:pt x="6952" y="2632"/>
                  </a:lnTo>
                  <a:lnTo>
                    <a:pt x="6939" y="2654"/>
                  </a:lnTo>
                  <a:lnTo>
                    <a:pt x="6925" y="2676"/>
                  </a:lnTo>
                  <a:lnTo>
                    <a:pt x="6909" y="2699"/>
                  </a:lnTo>
                  <a:lnTo>
                    <a:pt x="6892" y="2722"/>
                  </a:lnTo>
                  <a:lnTo>
                    <a:pt x="6872" y="2747"/>
                  </a:lnTo>
                  <a:lnTo>
                    <a:pt x="6852" y="2771"/>
                  </a:lnTo>
                  <a:lnTo>
                    <a:pt x="6829" y="2798"/>
                  </a:lnTo>
                  <a:lnTo>
                    <a:pt x="6805" y="2824"/>
                  </a:lnTo>
                  <a:lnTo>
                    <a:pt x="6778" y="2851"/>
                  </a:lnTo>
                  <a:lnTo>
                    <a:pt x="6749" y="2880"/>
                  </a:lnTo>
                  <a:lnTo>
                    <a:pt x="6718" y="2909"/>
                  </a:lnTo>
                  <a:lnTo>
                    <a:pt x="6685" y="2939"/>
                  </a:lnTo>
                  <a:lnTo>
                    <a:pt x="6648" y="2970"/>
                  </a:lnTo>
                  <a:lnTo>
                    <a:pt x="6609" y="3002"/>
                  </a:lnTo>
                  <a:lnTo>
                    <a:pt x="6568" y="3035"/>
                  </a:lnTo>
                  <a:lnTo>
                    <a:pt x="6525" y="3069"/>
                  </a:lnTo>
                  <a:lnTo>
                    <a:pt x="6478" y="3104"/>
                  </a:lnTo>
                  <a:lnTo>
                    <a:pt x="6407" y="3189"/>
                  </a:lnTo>
                  <a:lnTo>
                    <a:pt x="6339" y="3271"/>
                  </a:lnTo>
                  <a:lnTo>
                    <a:pt x="6308" y="3312"/>
                  </a:lnTo>
                  <a:lnTo>
                    <a:pt x="6278" y="3353"/>
                  </a:lnTo>
                  <a:lnTo>
                    <a:pt x="6264" y="3374"/>
                  </a:lnTo>
                  <a:lnTo>
                    <a:pt x="6251" y="3395"/>
                  </a:lnTo>
                  <a:lnTo>
                    <a:pt x="6237" y="3416"/>
                  </a:lnTo>
                  <a:lnTo>
                    <a:pt x="6224" y="3438"/>
                  </a:lnTo>
                  <a:lnTo>
                    <a:pt x="6213" y="3459"/>
                  </a:lnTo>
                  <a:lnTo>
                    <a:pt x="6201" y="3482"/>
                  </a:lnTo>
                  <a:lnTo>
                    <a:pt x="6191" y="3504"/>
                  </a:lnTo>
                  <a:lnTo>
                    <a:pt x="6181" y="3527"/>
                  </a:lnTo>
                  <a:lnTo>
                    <a:pt x="6172" y="3550"/>
                  </a:lnTo>
                  <a:lnTo>
                    <a:pt x="6163" y="3574"/>
                  </a:lnTo>
                  <a:lnTo>
                    <a:pt x="6155" y="3597"/>
                  </a:lnTo>
                  <a:lnTo>
                    <a:pt x="6148" y="3621"/>
                  </a:lnTo>
                  <a:lnTo>
                    <a:pt x="6143" y="3646"/>
                  </a:lnTo>
                  <a:lnTo>
                    <a:pt x="6138" y="3671"/>
                  </a:lnTo>
                  <a:lnTo>
                    <a:pt x="6134" y="3697"/>
                  </a:lnTo>
                  <a:lnTo>
                    <a:pt x="6132" y="3724"/>
                  </a:lnTo>
                  <a:lnTo>
                    <a:pt x="6130" y="3750"/>
                  </a:lnTo>
                  <a:lnTo>
                    <a:pt x="6128" y="3778"/>
                  </a:lnTo>
                  <a:lnTo>
                    <a:pt x="6128" y="3807"/>
                  </a:lnTo>
                  <a:lnTo>
                    <a:pt x="6130" y="3836"/>
                  </a:lnTo>
                  <a:lnTo>
                    <a:pt x="6126" y="3855"/>
                  </a:lnTo>
                  <a:lnTo>
                    <a:pt x="6121" y="3873"/>
                  </a:lnTo>
                  <a:lnTo>
                    <a:pt x="6112" y="3892"/>
                  </a:lnTo>
                  <a:lnTo>
                    <a:pt x="6102" y="3911"/>
                  </a:lnTo>
                  <a:lnTo>
                    <a:pt x="6096" y="3920"/>
                  </a:lnTo>
                  <a:lnTo>
                    <a:pt x="6090" y="3930"/>
                  </a:lnTo>
                  <a:lnTo>
                    <a:pt x="6083" y="3938"/>
                  </a:lnTo>
                  <a:lnTo>
                    <a:pt x="6075" y="3947"/>
                  </a:lnTo>
                  <a:lnTo>
                    <a:pt x="6067" y="3954"/>
                  </a:lnTo>
                  <a:lnTo>
                    <a:pt x="6058" y="3962"/>
                  </a:lnTo>
                  <a:lnTo>
                    <a:pt x="6050" y="3970"/>
                  </a:lnTo>
                  <a:lnTo>
                    <a:pt x="6041" y="3977"/>
                  </a:lnTo>
                  <a:lnTo>
                    <a:pt x="6030" y="3983"/>
                  </a:lnTo>
                  <a:lnTo>
                    <a:pt x="6020" y="3989"/>
                  </a:lnTo>
                  <a:lnTo>
                    <a:pt x="6008" y="3994"/>
                  </a:lnTo>
                  <a:lnTo>
                    <a:pt x="5997" y="3999"/>
                  </a:lnTo>
                  <a:lnTo>
                    <a:pt x="5985" y="4003"/>
                  </a:lnTo>
                  <a:lnTo>
                    <a:pt x="5973" y="4007"/>
                  </a:lnTo>
                  <a:lnTo>
                    <a:pt x="5960" y="4009"/>
                  </a:lnTo>
                  <a:lnTo>
                    <a:pt x="5946" y="4010"/>
                  </a:lnTo>
                  <a:lnTo>
                    <a:pt x="5932" y="4011"/>
                  </a:lnTo>
                  <a:lnTo>
                    <a:pt x="5917" y="4011"/>
                  </a:lnTo>
                  <a:lnTo>
                    <a:pt x="5902" y="4010"/>
                  </a:lnTo>
                  <a:lnTo>
                    <a:pt x="5887" y="4008"/>
                  </a:lnTo>
                  <a:lnTo>
                    <a:pt x="5871" y="4006"/>
                  </a:lnTo>
                  <a:lnTo>
                    <a:pt x="5854" y="4001"/>
                  </a:lnTo>
                  <a:lnTo>
                    <a:pt x="5837" y="3996"/>
                  </a:lnTo>
                  <a:lnTo>
                    <a:pt x="5821" y="3989"/>
                  </a:lnTo>
                  <a:lnTo>
                    <a:pt x="5800" y="3974"/>
                  </a:lnTo>
                  <a:lnTo>
                    <a:pt x="5781" y="3960"/>
                  </a:lnTo>
                  <a:lnTo>
                    <a:pt x="5762" y="3947"/>
                  </a:lnTo>
                  <a:lnTo>
                    <a:pt x="5744" y="3936"/>
                  </a:lnTo>
                  <a:lnTo>
                    <a:pt x="5734" y="3931"/>
                  </a:lnTo>
                  <a:lnTo>
                    <a:pt x="5725" y="3929"/>
                  </a:lnTo>
                  <a:lnTo>
                    <a:pt x="5715" y="3927"/>
                  </a:lnTo>
                  <a:lnTo>
                    <a:pt x="5706" y="3927"/>
                  </a:lnTo>
                  <a:lnTo>
                    <a:pt x="5696" y="3928"/>
                  </a:lnTo>
                  <a:lnTo>
                    <a:pt x="5685" y="3931"/>
                  </a:lnTo>
                  <a:lnTo>
                    <a:pt x="5675" y="3937"/>
                  </a:lnTo>
                  <a:lnTo>
                    <a:pt x="5663" y="3944"/>
                  </a:lnTo>
                  <a:lnTo>
                    <a:pt x="5642" y="3966"/>
                  </a:lnTo>
                  <a:lnTo>
                    <a:pt x="5620" y="3989"/>
                  </a:lnTo>
                  <a:lnTo>
                    <a:pt x="5608" y="4000"/>
                  </a:lnTo>
                  <a:lnTo>
                    <a:pt x="5596" y="4011"/>
                  </a:lnTo>
                  <a:lnTo>
                    <a:pt x="5584" y="4021"/>
                  </a:lnTo>
                  <a:lnTo>
                    <a:pt x="5572" y="4030"/>
                  </a:lnTo>
                  <a:lnTo>
                    <a:pt x="5560" y="4037"/>
                  </a:lnTo>
                  <a:lnTo>
                    <a:pt x="5546" y="4043"/>
                  </a:lnTo>
                  <a:lnTo>
                    <a:pt x="5533" y="4048"/>
                  </a:lnTo>
                  <a:lnTo>
                    <a:pt x="5520" y="4050"/>
                  </a:lnTo>
                  <a:lnTo>
                    <a:pt x="5513" y="4050"/>
                  </a:lnTo>
                  <a:lnTo>
                    <a:pt x="5505" y="4050"/>
                  </a:lnTo>
                  <a:lnTo>
                    <a:pt x="5499" y="4049"/>
                  </a:lnTo>
                  <a:lnTo>
                    <a:pt x="5491" y="4047"/>
                  </a:lnTo>
                  <a:lnTo>
                    <a:pt x="5483" y="4044"/>
                  </a:lnTo>
                  <a:lnTo>
                    <a:pt x="5477" y="4042"/>
                  </a:lnTo>
                  <a:lnTo>
                    <a:pt x="5469" y="4038"/>
                  </a:lnTo>
                  <a:lnTo>
                    <a:pt x="5460" y="4033"/>
                  </a:lnTo>
                  <a:lnTo>
                    <a:pt x="5410" y="3981"/>
                  </a:lnTo>
                  <a:lnTo>
                    <a:pt x="5394" y="4003"/>
                  </a:lnTo>
                  <a:lnTo>
                    <a:pt x="5378" y="4023"/>
                  </a:lnTo>
                  <a:lnTo>
                    <a:pt x="5363" y="4043"/>
                  </a:lnTo>
                  <a:lnTo>
                    <a:pt x="5351" y="4063"/>
                  </a:lnTo>
                  <a:lnTo>
                    <a:pt x="5345" y="4073"/>
                  </a:lnTo>
                  <a:lnTo>
                    <a:pt x="5341" y="4084"/>
                  </a:lnTo>
                  <a:lnTo>
                    <a:pt x="5338" y="4095"/>
                  </a:lnTo>
                  <a:lnTo>
                    <a:pt x="5337" y="4107"/>
                  </a:lnTo>
                  <a:lnTo>
                    <a:pt x="5335" y="4119"/>
                  </a:lnTo>
                  <a:lnTo>
                    <a:pt x="5337" y="4132"/>
                  </a:lnTo>
                  <a:lnTo>
                    <a:pt x="5339" y="4145"/>
                  </a:lnTo>
                  <a:lnTo>
                    <a:pt x="5343" y="4160"/>
                  </a:lnTo>
                  <a:lnTo>
                    <a:pt x="5340" y="4168"/>
                  </a:lnTo>
                  <a:lnTo>
                    <a:pt x="5334" y="4173"/>
                  </a:lnTo>
                  <a:lnTo>
                    <a:pt x="5329" y="4179"/>
                  </a:lnTo>
                  <a:lnTo>
                    <a:pt x="5322" y="4182"/>
                  </a:lnTo>
                  <a:lnTo>
                    <a:pt x="5314" y="4185"/>
                  </a:lnTo>
                  <a:lnTo>
                    <a:pt x="5308" y="4186"/>
                  </a:lnTo>
                  <a:lnTo>
                    <a:pt x="5299" y="4188"/>
                  </a:lnTo>
                  <a:lnTo>
                    <a:pt x="5291" y="4188"/>
                  </a:lnTo>
                  <a:lnTo>
                    <a:pt x="5274" y="4186"/>
                  </a:lnTo>
                  <a:lnTo>
                    <a:pt x="5259" y="4183"/>
                  </a:lnTo>
                  <a:lnTo>
                    <a:pt x="5244" y="4178"/>
                  </a:lnTo>
                  <a:lnTo>
                    <a:pt x="5231" y="4172"/>
                  </a:lnTo>
                  <a:lnTo>
                    <a:pt x="5217" y="4160"/>
                  </a:lnTo>
                  <a:lnTo>
                    <a:pt x="5210" y="4170"/>
                  </a:lnTo>
                  <a:lnTo>
                    <a:pt x="5202" y="4179"/>
                  </a:lnTo>
                  <a:lnTo>
                    <a:pt x="5194" y="4186"/>
                  </a:lnTo>
                  <a:lnTo>
                    <a:pt x="5187" y="4194"/>
                  </a:lnTo>
                  <a:lnTo>
                    <a:pt x="5169" y="4206"/>
                  </a:lnTo>
                  <a:lnTo>
                    <a:pt x="5152" y="4219"/>
                  </a:lnTo>
                  <a:lnTo>
                    <a:pt x="5134" y="4232"/>
                  </a:lnTo>
                  <a:lnTo>
                    <a:pt x="5118" y="4246"/>
                  </a:lnTo>
                  <a:lnTo>
                    <a:pt x="5110" y="4254"/>
                  </a:lnTo>
                  <a:lnTo>
                    <a:pt x="5103" y="4264"/>
                  </a:lnTo>
                  <a:lnTo>
                    <a:pt x="5097" y="4275"/>
                  </a:lnTo>
                  <a:lnTo>
                    <a:pt x="5090" y="4287"/>
                  </a:lnTo>
                  <a:lnTo>
                    <a:pt x="5119" y="4321"/>
                  </a:lnTo>
                  <a:lnTo>
                    <a:pt x="5149" y="4353"/>
                  </a:lnTo>
                  <a:lnTo>
                    <a:pt x="5179" y="4385"/>
                  </a:lnTo>
                  <a:lnTo>
                    <a:pt x="5210" y="4417"/>
                  </a:lnTo>
                  <a:lnTo>
                    <a:pt x="5241" y="4448"/>
                  </a:lnTo>
                  <a:lnTo>
                    <a:pt x="5273" y="4478"/>
                  </a:lnTo>
                  <a:lnTo>
                    <a:pt x="5306" y="4507"/>
                  </a:lnTo>
                  <a:lnTo>
                    <a:pt x="5339" y="4536"/>
                  </a:lnTo>
                  <a:lnTo>
                    <a:pt x="5372" y="4564"/>
                  </a:lnTo>
                  <a:lnTo>
                    <a:pt x="5407" y="4590"/>
                  </a:lnTo>
                  <a:lnTo>
                    <a:pt x="5442" y="4617"/>
                  </a:lnTo>
                  <a:lnTo>
                    <a:pt x="5478" y="4642"/>
                  </a:lnTo>
                  <a:lnTo>
                    <a:pt x="5513" y="4666"/>
                  </a:lnTo>
                  <a:lnTo>
                    <a:pt x="5550" y="4688"/>
                  </a:lnTo>
                  <a:lnTo>
                    <a:pt x="5586" y="4710"/>
                  </a:lnTo>
                  <a:lnTo>
                    <a:pt x="5624" y="4731"/>
                  </a:lnTo>
                  <a:lnTo>
                    <a:pt x="5659" y="4731"/>
                  </a:lnTo>
                  <a:lnTo>
                    <a:pt x="5689" y="4734"/>
                  </a:lnTo>
                  <a:lnTo>
                    <a:pt x="5718" y="4737"/>
                  </a:lnTo>
                  <a:lnTo>
                    <a:pt x="5743" y="4740"/>
                  </a:lnTo>
                  <a:lnTo>
                    <a:pt x="5767" y="4746"/>
                  </a:lnTo>
                  <a:lnTo>
                    <a:pt x="5790" y="4754"/>
                  </a:lnTo>
                  <a:lnTo>
                    <a:pt x="5810" y="4761"/>
                  </a:lnTo>
                  <a:lnTo>
                    <a:pt x="5829" y="4771"/>
                  </a:lnTo>
                  <a:lnTo>
                    <a:pt x="5846" y="4781"/>
                  </a:lnTo>
                  <a:lnTo>
                    <a:pt x="5862" y="4794"/>
                  </a:lnTo>
                  <a:lnTo>
                    <a:pt x="5877" y="4808"/>
                  </a:lnTo>
                  <a:lnTo>
                    <a:pt x="5892" y="4822"/>
                  </a:lnTo>
                  <a:lnTo>
                    <a:pt x="5905" y="4839"/>
                  </a:lnTo>
                  <a:lnTo>
                    <a:pt x="5919" y="4857"/>
                  </a:lnTo>
                  <a:lnTo>
                    <a:pt x="5932" y="4877"/>
                  </a:lnTo>
                  <a:lnTo>
                    <a:pt x="5945" y="4898"/>
                  </a:lnTo>
                  <a:lnTo>
                    <a:pt x="5955" y="4920"/>
                  </a:lnTo>
                  <a:lnTo>
                    <a:pt x="5963" y="4941"/>
                  </a:lnTo>
                  <a:lnTo>
                    <a:pt x="5971" y="4963"/>
                  </a:lnTo>
                  <a:lnTo>
                    <a:pt x="5977" y="4987"/>
                  </a:lnTo>
                  <a:lnTo>
                    <a:pt x="5991" y="5031"/>
                  </a:lnTo>
                  <a:lnTo>
                    <a:pt x="6005" y="5074"/>
                  </a:lnTo>
                  <a:lnTo>
                    <a:pt x="6013" y="5096"/>
                  </a:lnTo>
                  <a:lnTo>
                    <a:pt x="6024" y="5116"/>
                  </a:lnTo>
                  <a:lnTo>
                    <a:pt x="6030" y="5126"/>
                  </a:lnTo>
                  <a:lnTo>
                    <a:pt x="6035" y="5136"/>
                  </a:lnTo>
                  <a:lnTo>
                    <a:pt x="6042" y="5144"/>
                  </a:lnTo>
                  <a:lnTo>
                    <a:pt x="6050" y="5153"/>
                  </a:lnTo>
                  <a:lnTo>
                    <a:pt x="6057" y="5162"/>
                  </a:lnTo>
                  <a:lnTo>
                    <a:pt x="6066" y="5171"/>
                  </a:lnTo>
                  <a:lnTo>
                    <a:pt x="6075" y="5180"/>
                  </a:lnTo>
                  <a:lnTo>
                    <a:pt x="6086" y="5188"/>
                  </a:lnTo>
                  <a:lnTo>
                    <a:pt x="6096" y="5194"/>
                  </a:lnTo>
                  <a:lnTo>
                    <a:pt x="6108" y="5202"/>
                  </a:lnTo>
                  <a:lnTo>
                    <a:pt x="6122" y="5209"/>
                  </a:lnTo>
                  <a:lnTo>
                    <a:pt x="6135" y="5215"/>
                  </a:lnTo>
                  <a:lnTo>
                    <a:pt x="6160" y="5213"/>
                  </a:lnTo>
                  <a:lnTo>
                    <a:pt x="6186" y="5213"/>
                  </a:lnTo>
                  <a:lnTo>
                    <a:pt x="6214" y="5215"/>
                  </a:lnTo>
                  <a:lnTo>
                    <a:pt x="6242" y="5219"/>
                  </a:lnTo>
                  <a:lnTo>
                    <a:pt x="6271" y="5225"/>
                  </a:lnTo>
                  <a:lnTo>
                    <a:pt x="6298" y="5233"/>
                  </a:lnTo>
                  <a:lnTo>
                    <a:pt x="6313" y="5238"/>
                  </a:lnTo>
                  <a:lnTo>
                    <a:pt x="6326" y="5242"/>
                  </a:lnTo>
                  <a:lnTo>
                    <a:pt x="6338" y="5248"/>
                  </a:lnTo>
                  <a:lnTo>
                    <a:pt x="6352" y="5254"/>
                  </a:lnTo>
                  <a:lnTo>
                    <a:pt x="6365" y="5263"/>
                  </a:lnTo>
                  <a:lnTo>
                    <a:pt x="6378" y="5273"/>
                  </a:lnTo>
                  <a:lnTo>
                    <a:pt x="6392" y="5284"/>
                  </a:lnTo>
                  <a:lnTo>
                    <a:pt x="6405" y="5295"/>
                  </a:lnTo>
                  <a:lnTo>
                    <a:pt x="6430" y="5320"/>
                  </a:lnTo>
                  <a:lnTo>
                    <a:pt x="6456" y="5348"/>
                  </a:lnTo>
                  <a:lnTo>
                    <a:pt x="6508" y="5406"/>
                  </a:lnTo>
                  <a:lnTo>
                    <a:pt x="6559" y="5469"/>
                  </a:lnTo>
                  <a:lnTo>
                    <a:pt x="6586" y="5500"/>
                  </a:lnTo>
                  <a:lnTo>
                    <a:pt x="6613" y="5531"/>
                  </a:lnTo>
                  <a:lnTo>
                    <a:pt x="6640" y="5561"/>
                  </a:lnTo>
                  <a:lnTo>
                    <a:pt x="6668" y="5588"/>
                  </a:lnTo>
                  <a:lnTo>
                    <a:pt x="6683" y="5603"/>
                  </a:lnTo>
                  <a:lnTo>
                    <a:pt x="6697" y="5615"/>
                  </a:lnTo>
                  <a:lnTo>
                    <a:pt x="6713" y="5628"/>
                  </a:lnTo>
                  <a:lnTo>
                    <a:pt x="6727" y="5639"/>
                  </a:lnTo>
                  <a:lnTo>
                    <a:pt x="6743" y="5651"/>
                  </a:lnTo>
                  <a:lnTo>
                    <a:pt x="6758" y="5662"/>
                  </a:lnTo>
                  <a:lnTo>
                    <a:pt x="6774" y="5671"/>
                  </a:lnTo>
                  <a:lnTo>
                    <a:pt x="6790" y="5679"/>
                  </a:lnTo>
                  <a:lnTo>
                    <a:pt x="6793" y="5679"/>
                  </a:lnTo>
                  <a:lnTo>
                    <a:pt x="6796" y="5678"/>
                  </a:lnTo>
                  <a:lnTo>
                    <a:pt x="6800" y="5676"/>
                  </a:lnTo>
                  <a:lnTo>
                    <a:pt x="6806" y="5672"/>
                  </a:lnTo>
                  <a:lnTo>
                    <a:pt x="6810" y="5668"/>
                  </a:lnTo>
                  <a:lnTo>
                    <a:pt x="6816" y="5664"/>
                  </a:lnTo>
                  <a:lnTo>
                    <a:pt x="6821" y="5659"/>
                  </a:lnTo>
                  <a:lnTo>
                    <a:pt x="6827" y="5656"/>
                  </a:lnTo>
                  <a:lnTo>
                    <a:pt x="6877" y="5656"/>
                  </a:lnTo>
                  <a:lnTo>
                    <a:pt x="6858" y="5678"/>
                  </a:lnTo>
                  <a:lnTo>
                    <a:pt x="6837" y="5702"/>
                  </a:lnTo>
                  <a:lnTo>
                    <a:pt x="6815" y="5724"/>
                  </a:lnTo>
                  <a:lnTo>
                    <a:pt x="6790" y="5747"/>
                  </a:lnTo>
                  <a:lnTo>
                    <a:pt x="6766" y="5770"/>
                  </a:lnTo>
                  <a:lnTo>
                    <a:pt x="6741" y="5793"/>
                  </a:lnTo>
                  <a:lnTo>
                    <a:pt x="6718" y="5814"/>
                  </a:lnTo>
                  <a:lnTo>
                    <a:pt x="6695" y="5833"/>
                  </a:lnTo>
                  <a:lnTo>
                    <a:pt x="6679" y="5847"/>
                  </a:lnTo>
                  <a:lnTo>
                    <a:pt x="6641" y="5875"/>
                  </a:lnTo>
                  <a:lnTo>
                    <a:pt x="6608" y="5900"/>
                  </a:lnTo>
                  <a:lnTo>
                    <a:pt x="6576" y="5925"/>
                  </a:lnTo>
                  <a:lnTo>
                    <a:pt x="6548" y="5948"/>
                  </a:lnTo>
                  <a:lnTo>
                    <a:pt x="6522" y="5970"/>
                  </a:lnTo>
                  <a:lnTo>
                    <a:pt x="6498" y="5991"/>
                  </a:lnTo>
                  <a:lnTo>
                    <a:pt x="6477" y="6011"/>
                  </a:lnTo>
                  <a:lnTo>
                    <a:pt x="6458" y="6030"/>
                  </a:lnTo>
                  <a:lnTo>
                    <a:pt x="6442" y="6049"/>
                  </a:lnTo>
                  <a:lnTo>
                    <a:pt x="6427" y="6066"/>
                  </a:lnTo>
                  <a:lnTo>
                    <a:pt x="6415" y="6082"/>
                  </a:lnTo>
                  <a:lnTo>
                    <a:pt x="6404" y="6098"/>
                  </a:lnTo>
                  <a:lnTo>
                    <a:pt x="6394" y="6113"/>
                  </a:lnTo>
                  <a:lnTo>
                    <a:pt x="6386" y="6128"/>
                  </a:lnTo>
                  <a:lnTo>
                    <a:pt x="6379" y="6141"/>
                  </a:lnTo>
                  <a:lnTo>
                    <a:pt x="6375" y="6154"/>
                  </a:lnTo>
                  <a:lnTo>
                    <a:pt x="6372" y="6161"/>
                  </a:lnTo>
                  <a:lnTo>
                    <a:pt x="6369" y="6167"/>
                  </a:lnTo>
                  <a:lnTo>
                    <a:pt x="6366" y="6172"/>
                  </a:lnTo>
                  <a:lnTo>
                    <a:pt x="6364" y="6179"/>
                  </a:lnTo>
                  <a:lnTo>
                    <a:pt x="6362" y="6184"/>
                  </a:lnTo>
                  <a:lnTo>
                    <a:pt x="6358" y="6191"/>
                  </a:lnTo>
                  <a:lnTo>
                    <a:pt x="6356" y="6197"/>
                  </a:lnTo>
                  <a:lnTo>
                    <a:pt x="6354" y="6203"/>
                  </a:lnTo>
                  <a:lnTo>
                    <a:pt x="5817" y="62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4910040" y="2133720"/>
              <a:ext cx="274680" cy="266760"/>
            </a:xfrm>
            <a:custGeom>
              <a:avLst/>
              <a:gdLst/>
              <a:ahLst/>
              <a:rect l="l" t="t" r="r" b="b"/>
              <a:pathLst>
                <a:path w="864" h="842">
                  <a:moveTo>
                    <a:pt x="864" y="778"/>
                  </a:moveTo>
                  <a:lnTo>
                    <a:pt x="861" y="787"/>
                  </a:lnTo>
                  <a:lnTo>
                    <a:pt x="858" y="795"/>
                  </a:lnTo>
                  <a:lnTo>
                    <a:pt x="853" y="802"/>
                  </a:lnTo>
                  <a:lnTo>
                    <a:pt x="848" y="809"/>
                  </a:lnTo>
                  <a:lnTo>
                    <a:pt x="841" y="816"/>
                  </a:lnTo>
                  <a:lnTo>
                    <a:pt x="833" y="824"/>
                  </a:lnTo>
                  <a:lnTo>
                    <a:pt x="824" y="833"/>
                  </a:lnTo>
                  <a:lnTo>
                    <a:pt x="814" y="842"/>
                  </a:lnTo>
                  <a:lnTo>
                    <a:pt x="806" y="840"/>
                  </a:lnTo>
                  <a:lnTo>
                    <a:pt x="800" y="838"/>
                  </a:lnTo>
                  <a:lnTo>
                    <a:pt x="793" y="835"/>
                  </a:lnTo>
                  <a:lnTo>
                    <a:pt x="786" y="830"/>
                  </a:lnTo>
                  <a:lnTo>
                    <a:pt x="781" y="826"/>
                  </a:lnTo>
                  <a:lnTo>
                    <a:pt x="775" y="820"/>
                  </a:lnTo>
                  <a:lnTo>
                    <a:pt x="771" y="815"/>
                  </a:lnTo>
                  <a:lnTo>
                    <a:pt x="767" y="808"/>
                  </a:lnTo>
                  <a:lnTo>
                    <a:pt x="760" y="797"/>
                  </a:lnTo>
                  <a:lnTo>
                    <a:pt x="754" y="787"/>
                  </a:lnTo>
                  <a:lnTo>
                    <a:pt x="752" y="780"/>
                  </a:lnTo>
                  <a:lnTo>
                    <a:pt x="751" y="778"/>
                  </a:lnTo>
                  <a:lnTo>
                    <a:pt x="711" y="663"/>
                  </a:lnTo>
                  <a:lnTo>
                    <a:pt x="669" y="548"/>
                  </a:lnTo>
                  <a:lnTo>
                    <a:pt x="647" y="493"/>
                  </a:lnTo>
                  <a:lnTo>
                    <a:pt x="622" y="440"/>
                  </a:lnTo>
                  <a:lnTo>
                    <a:pt x="609" y="413"/>
                  </a:lnTo>
                  <a:lnTo>
                    <a:pt x="595" y="388"/>
                  </a:lnTo>
                  <a:lnTo>
                    <a:pt x="582" y="363"/>
                  </a:lnTo>
                  <a:lnTo>
                    <a:pt x="567" y="339"/>
                  </a:lnTo>
                  <a:lnTo>
                    <a:pt x="551" y="315"/>
                  </a:lnTo>
                  <a:lnTo>
                    <a:pt x="536" y="293"/>
                  </a:lnTo>
                  <a:lnTo>
                    <a:pt x="519" y="271"/>
                  </a:lnTo>
                  <a:lnTo>
                    <a:pt x="500" y="250"/>
                  </a:lnTo>
                  <a:lnTo>
                    <a:pt x="482" y="230"/>
                  </a:lnTo>
                  <a:lnTo>
                    <a:pt x="462" y="211"/>
                  </a:lnTo>
                  <a:lnTo>
                    <a:pt x="441" y="193"/>
                  </a:lnTo>
                  <a:lnTo>
                    <a:pt x="419" y="177"/>
                  </a:lnTo>
                  <a:lnTo>
                    <a:pt x="396" y="161"/>
                  </a:lnTo>
                  <a:lnTo>
                    <a:pt x="372" y="146"/>
                  </a:lnTo>
                  <a:lnTo>
                    <a:pt x="347" y="133"/>
                  </a:lnTo>
                  <a:lnTo>
                    <a:pt x="320" y="121"/>
                  </a:lnTo>
                  <a:lnTo>
                    <a:pt x="291" y="111"/>
                  </a:lnTo>
                  <a:lnTo>
                    <a:pt x="262" y="101"/>
                  </a:lnTo>
                  <a:lnTo>
                    <a:pt x="231" y="95"/>
                  </a:lnTo>
                  <a:lnTo>
                    <a:pt x="199" y="88"/>
                  </a:lnTo>
                  <a:lnTo>
                    <a:pt x="188" y="88"/>
                  </a:lnTo>
                  <a:lnTo>
                    <a:pt x="167" y="88"/>
                  </a:lnTo>
                  <a:lnTo>
                    <a:pt x="140" y="87"/>
                  </a:lnTo>
                  <a:lnTo>
                    <a:pt x="110" y="86"/>
                  </a:lnTo>
                  <a:lnTo>
                    <a:pt x="80" y="85"/>
                  </a:lnTo>
                  <a:lnTo>
                    <a:pt x="54" y="83"/>
                  </a:lnTo>
                  <a:lnTo>
                    <a:pt x="35" y="82"/>
                  </a:lnTo>
                  <a:lnTo>
                    <a:pt x="27" y="80"/>
                  </a:lnTo>
                  <a:lnTo>
                    <a:pt x="0" y="80"/>
                  </a:lnTo>
                  <a:lnTo>
                    <a:pt x="4" y="68"/>
                  </a:lnTo>
                  <a:lnTo>
                    <a:pt x="9" y="58"/>
                  </a:lnTo>
                  <a:lnTo>
                    <a:pt x="15" y="49"/>
                  </a:lnTo>
                  <a:lnTo>
                    <a:pt x="22" y="41"/>
                  </a:lnTo>
                  <a:lnTo>
                    <a:pt x="31" y="36"/>
                  </a:lnTo>
                  <a:lnTo>
                    <a:pt x="41" y="30"/>
                  </a:lnTo>
                  <a:lnTo>
                    <a:pt x="51" y="26"/>
                  </a:lnTo>
                  <a:lnTo>
                    <a:pt x="62" y="22"/>
                  </a:lnTo>
                  <a:lnTo>
                    <a:pt x="86" y="16"/>
                  </a:lnTo>
                  <a:lnTo>
                    <a:pt x="109" y="11"/>
                  </a:lnTo>
                  <a:lnTo>
                    <a:pt x="132" y="7"/>
                  </a:lnTo>
                  <a:lnTo>
                    <a:pt x="153" y="1"/>
                  </a:lnTo>
                  <a:lnTo>
                    <a:pt x="201" y="0"/>
                  </a:lnTo>
                  <a:lnTo>
                    <a:pt x="248" y="2"/>
                  </a:lnTo>
                  <a:lnTo>
                    <a:pt x="291" y="7"/>
                  </a:lnTo>
                  <a:lnTo>
                    <a:pt x="333" y="16"/>
                  </a:lnTo>
                  <a:lnTo>
                    <a:pt x="373" y="27"/>
                  </a:lnTo>
                  <a:lnTo>
                    <a:pt x="412" y="41"/>
                  </a:lnTo>
                  <a:lnTo>
                    <a:pt x="449" y="58"/>
                  </a:lnTo>
                  <a:lnTo>
                    <a:pt x="484" y="77"/>
                  </a:lnTo>
                  <a:lnTo>
                    <a:pt x="517" y="98"/>
                  </a:lnTo>
                  <a:lnTo>
                    <a:pt x="549" y="120"/>
                  </a:lnTo>
                  <a:lnTo>
                    <a:pt x="579" y="146"/>
                  </a:lnTo>
                  <a:lnTo>
                    <a:pt x="607" y="172"/>
                  </a:lnTo>
                  <a:lnTo>
                    <a:pt x="633" y="200"/>
                  </a:lnTo>
                  <a:lnTo>
                    <a:pt x="658" y="229"/>
                  </a:lnTo>
                  <a:lnTo>
                    <a:pt x="681" y="260"/>
                  </a:lnTo>
                  <a:lnTo>
                    <a:pt x="703" y="291"/>
                  </a:lnTo>
                  <a:lnTo>
                    <a:pt x="723" y="323"/>
                  </a:lnTo>
                  <a:lnTo>
                    <a:pt x="742" y="356"/>
                  </a:lnTo>
                  <a:lnTo>
                    <a:pt x="760" y="390"/>
                  </a:lnTo>
                  <a:lnTo>
                    <a:pt x="775" y="423"/>
                  </a:lnTo>
                  <a:lnTo>
                    <a:pt x="790" y="456"/>
                  </a:lnTo>
                  <a:lnTo>
                    <a:pt x="803" y="490"/>
                  </a:lnTo>
                  <a:lnTo>
                    <a:pt x="815" y="523"/>
                  </a:lnTo>
                  <a:lnTo>
                    <a:pt x="825" y="555"/>
                  </a:lnTo>
                  <a:lnTo>
                    <a:pt x="834" y="587"/>
                  </a:lnTo>
                  <a:lnTo>
                    <a:pt x="843" y="618"/>
                  </a:lnTo>
                  <a:lnTo>
                    <a:pt x="849" y="648"/>
                  </a:lnTo>
                  <a:lnTo>
                    <a:pt x="854" y="677"/>
                  </a:lnTo>
                  <a:lnTo>
                    <a:pt x="859" y="705"/>
                  </a:lnTo>
                  <a:lnTo>
                    <a:pt x="862" y="732"/>
                  </a:lnTo>
                  <a:lnTo>
                    <a:pt x="864" y="755"/>
                  </a:lnTo>
                  <a:lnTo>
                    <a:pt x="864" y="7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4543560" y="2146320"/>
              <a:ext cx="334800" cy="193680"/>
            </a:xfrm>
            <a:custGeom>
              <a:avLst/>
              <a:gdLst/>
              <a:ahLst/>
              <a:rect l="l" t="t" r="r" b="b"/>
              <a:pathLst>
                <a:path w="1057" h="609">
                  <a:moveTo>
                    <a:pt x="1057" y="38"/>
                  </a:moveTo>
                  <a:lnTo>
                    <a:pt x="986" y="58"/>
                  </a:lnTo>
                  <a:lnTo>
                    <a:pt x="917" y="79"/>
                  </a:lnTo>
                  <a:lnTo>
                    <a:pt x="853" y="101"/>
                  </a:lnTo>
                  <a:lnTo>
                    <a:pt x="791" y="124"/>
                  </a:lnTo>
                  <a:lnTo>
                    <a:pt x="733" y="146"/>
                  </a:lnTo>
                  <a:lnTo>
                    <a:pt x="676" y="169"/>
                  </a:lnTo>
                  <a:lnTo>
                    <a:pt x="623" y="192"/>
                  </a:lnTo>
                  <a:lnTo>
                    <a:pt x="573" y="216"/>
                  </a:lnTo>
                  <a:lnTo>
                    <a:pt x="525" y="240"/>
                  </a:lnTo>
                  <a:lnTo>
                    <a:pt x="480" y="263"/>
                  </a:lnTo>
                  <a:lnTo>
                    <a:pt x="438" y="288"/>
                  </a:lnTo>
                  <a:lnTo>
                    <a:pt x="398" y="311"/>
                  </a:lnTo>
                  <a:lnTo>
                    <a:pt x="360" y="334"/>
                  </a:lnTo>
                  <a:lnTo>
                    <a:pt x="324" y="358"/>
                  </a:lnTo>
                  <a:lnTo>
                    <a:pt x="291" y="380"/>
                  </a:lnTo>
                  <a:lnTo>
                    <a:pt x="260" y="402"/>
                  </a:lnTo>
                  <a:lnTo>
                    <a:pt x="232" y="424"/>
                  </a:lnTo>
                  <a:lnTo>
                    <a:pt x="205" y="444"/>
                  </a:lnTo>
                  <a:lnTo>
                    <a:pt x="180" y="464"/>
                  </a:lnTo>
                  <a:lnTo>
                    <a:pt x="158" y="484"/>
                  </a:lnTo>
                  <a:lnTo>
                    <a:pt x="118" y="519"/>
                  </a:lnTo>
                  <a:lnTo>
                    <a:pt x="86" y="550"/>
                  </a:lnTo>
                  <a:lnTo>
                    <a:pt x="59" y="574"/>
                  </a:lnTo>
                  <a:lnTo>
                    <a:pt x="38" y="593"/>
                  </a:lnTo>
                  <a:lnTo>
                    <a:pt x="30" y="600"/>
                  </a:lnTo>
                  <a:lnTo>
                    <a:pt x="23" y="605"/>
                  </a:lnTo>
                  <a:lnTo>
                    <a:pt x="18" y="609"/>
                  </a:lnTo>
                  <a:lnTo>
                    <a:pt x="13" y="609"/>
                  </a:lnTo>
                  <a:lnTo>
                    <a:pt x="9" y="606"/>
                  </a:lnTo>
                  <a:lnTo>
                    <a:pt x="6" y="602"/>
                  </a:lnTo>
                  <a:lnTo>
                    <a:pt x="3" y="596"/>
                  </a:lnTo>
                  <a:lnTo>
                    <a:pt x="2" y="590"/>
                  </a:lnTo>
                  <a:lnTo>
                    <a:pt x="0" y="573"/>
                  </a:lnTo>
                  <a:lnTo>
                    <a:pt x="0" y="554"/>
                  </a:lnTo>
                  <a:lnTo>
                    <a:pt x="1" y="535"/>
                  </a:lnTo>
                  <a:lnTo>
                    <a:pt x="2" y="518"/>
                  </a:lnTo>
                  <a:lnTo>
                    <a:pt x="2" y="503"/>
                  </a:lnTo>
                  <a:lnTo>
                    <a:pt x="2" y="492"/>
                  </a:lnTo>
                  <a:lnTo>
                    <a:pt x="34" y="447"/>
                  </a:lnTo>
                  <a:lnTo>
                    <a:pt x="68" y="402"/>
                  </a:lnTo>
                  <a:lnTo>
                    <a:pt x="103" y="361"/>
                  </a:lnTo>
                  <a:lnTo>
                    <a:pt x="140" y="323"/>
                  </a:lnTo>
                  <a:lnTo>
                    <a:pt x="179" y="287"/>
                  </a:lnTo>
                  <a:lnTo>
                    <a:pt x="218" y="253"/>
                  </a:lnTo>
                  <a:lnTo>
                    <a:pt x="258" y="222"/>
                  </a:lnTo>
                  <a:lnTo>
                    <a:pt x="299" y="193"/>
                  </a:lnTo>
                  <a:lnTo>
                    <a:pt x="341" y="168"/>
                  </a:lnTo>
                  <a:lnTo>
                    <a:pt x="383" y="144"/>
                  </a:lnTo>
                  <a:lnTo>
                    <a:pt x="425" y="121"/>
                  </a:lnTo>
                  <a:lnTo>
                    <a:pt x="468" y="101"/>
                  </a:lnTo>
                  <a:lnTo>
                    <a:pt x="510" y="84"/>
                  </a:lnTo>
                  <a:lnTo>
                    <a:pt x="551" y="67"/>
                  </a:lnTo>
                  <a:lnTo>
                    <a:pt x="593" y="53"/>
                  </a:lnTo>
                  <a:lnTo>
                    <a:pt x="633" y="40"/>
                  </a:lnTo>
                  <a:lnTo>
                    <a:pt x="673" y="30"/>
                  </a:lnTo>
                  <a:lnTo>
                    <a:pt x="713" y="21"/>
                  </a:lnTo>
                  <a:lnTo>
                    <a:pt x="751" y="14"/>
                  </a:lnTo>
                  <a:lnTo>
                    <a:pt x="787" y="8"/>
                  </a:lnTo>
                  <a:lnTo>
                    <a:pt x="822" y="4"/>
                  </a:lnTo>
                  <a:lnTo>
                    <a:pt x="855" y="1"/>
                  </a:lnTo>
                  <a:lnTo>
                    <a:pt x="886" y="0"/>
                  </a:lnTo>
                  <a:lnTo>
                    <a:pt x="916" y="0"/>
                  </a:lnTo>
                  <a:lnTo>
                    <a:pt x="943" y="1"/>
                  </a:lnTo>
                  <a:lnTo>
                    <a:pt x="968" y="4"/>
                  </a:lnTo>
                  <a:lnTo>
                    <a:pt x="991" y="7"/>
                  </a:lnTo>
                  <a:lnTo>
                    <a:pt x="1010" y="11"/>
                  </a:lnTo>
                  <a:lnTo>
                    <a:pt x="1026" y="17"/>
                  </a:lnTo>
                  <a:lnTo>
                    <a:pt x="1040" y="23"/>
                  </a:lnTo>
                  <a:lnTo>
                    <a:pt x="1050" y="30"/>
                  </a:lnTo>
                  <a:lnTo>
                    <a:pt x="1057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4925880" y="2183040"/>
              <a:ext cx="179640" cy="285480"/>
            </a:xfrm>
            <a:custGeom>
              <a:avLst/>
              <a:gdLst/>
              <a:ahLst/>
              <a:rect l="l" t="t" r="r" b="b"/>
              <a:pathLst>
                <a:path w="565" h="902">
                  <a:moveTo>
                    <a:pt x="192" y="61"/>
                  </a:moveTo>
                  <a:lnTo>
                    <a:pt x="233" y="103"/>
                  </a:lnTo>
                  <a:lnTo>
                    <a:pt x="272" y="146"/>
                  </a:lnTo>
                  <a:lnTo>
                    <a:pt x="311" y="191"/>
                  </a:lnTo>
                  <a:lnTo>
                    <a:pt x="346" y="236"/>
                  </a:lnTo>
                  <a:lnTo>
                    <a:pt x="364" y="258"/>
                  </a:lnTo>
                  <a:lnTo>
                    <a:pt x="381" y="282"/>
                  </a:lnTo>
                  <a:lnTo>
                    <a:pt x="398" y="305"/>
                  </a:lnTo>
                  <a:lnTo>
                    <a:pt x="413" y="328"/>
                  </a:lnTo>
                  <a:lnTo>
                    <a:pt x="428" y="352"/>
                  </a:lnTo>
                  <a:lnTo>
                    <a:pt x="442" y="376"/>
                  </a:lnTo>
                  <a:lnTo>
                    <a:pt x="456" y="400"/>
                  </a:lnTo>
                  <a:lnTo>
                    <a:pt x="470" y="425"/>
                  </a:lnTo>
                  <a:lnTo>
                    <a:pt x="482" y="449"/>
                  </a:lnTo>
                  <a:lnTo>
                    <a:pt x="493" y="474"/>
                  </a:lnTo>
                  <a:lnTo>
                    <a:pt x="504" y="499"/>
                  </a:lnTo>
                  <a:lnTo>
                    <a:pt x="514" y="525"/>
                  </a:lnTo>
                  <a:lnTo>
                    <a:pt x="524" y="550"/>
                  </a:lnTo>
                  <a:lnTo>
                    <a:pt x="532" y="576"/>
                  </a:lnTo>
                  <a:lnTo>
                    <a:pt x="540" y="602"/>
                  </a:lnTo>
                  <a:lnTo>
                    <a:pt x="546" y="629"/>
                  </a:lnTo>
                  <a:lnTo>
                    <a:pt x="552" y="656"/>
                  </a:lnTo>
                  <a:lnTo>
                    <a:pt x="556" y="682"/>
                  </a:lnTo>
                  <a:lnTo>
                    <a:pt x="560" y="710"/>
                  </a:lnTo>
                  <a:lnTo>
                    <a:pt x="563" y="738"/>
                  </a:lnTo>
                  <a:lnTo>
                    <a:pt x="564" y="766"/>
                  </a:lnTo>
                  <a:lnTo>
                    <a:pt x="565" y="794"/>
                  </a:lnTo>
                  <a:lnTo>
                    <a:pt x="564" y="822"/>
                  </a:lnTo>
                  <a:lnTo>
                    <a:pt x="563" y="851"/>
                  </a:lnTo>
                  <a:lnTo>
                    <a:pt x="563" y="902"/>
                  </a:lnTo>
                  <a:lnTo>
                    <a:pt x="554" y="902"/>
                  </a:lnTo>
                  <a:lnTo>
                    <a:pt x="542" y="901"/>
                  </a:lnTo>
                  <a:lnTo>
                    <a:pt x="527" y="897"/>
                  </a:lnTo>
                  <a:lnTo>
                    <a:pt x="512" y="892"/>
                  </a:lnTo>
                  <a:lnTo>
                    <a:pt x="496" y="887"/>
                  </a:lnTo>
                  <a:lnTo>
                    <a:pt x="483" y="882"/>
                  </a:lnTo>
                  <a:lnTo>
                    <a:pt x="471" y="878"/>
                  </a:lnTo>
                  <a:lnTo>
                    <a:pt x="463" y="874"/>
                  </a:lnTo>
                  <a:lnTo>
                    <a:pt x="442" y="798"/>
                  </a:lnTo>
                  <a:lnTo>
                    <a:pt x="421" y="728"/>
                  </a:lnTo>
                  <a:lnTo>
                    <a:pt x="400" y="663"/>
                  </a:lnTo>
                  <a:lnTo>
                    <a:pt x="379" y="604"/>
                  </a:lnTo>
                  <a:lnTo>
                    <a:pt x="368" y="576"/>
                  </a:lnTo>
                  <a:lnTo>
                    <a:pt x="356" y="549"/>
                  </a:lnTo>
                  <a:lnTo>
                    <a:pt x="345" y="522"/>
                  </a:lnTo>
                  <a:lnTo>
                    <a:pt x="333" y="497"/>
                  </a:lnTo>
                  <a:lnTo>
                    <a:pt x="322" y="474"/>
                  </a:lnTo>
                  <a:lnTo>
                    <a:pt x="310" y="449"/>
                  </a:lnTo>
                  <a:lnTo>
                    <a:pt x="296" y="427"/>
                  </a:lnTo>
                  <a:lnTo>
                    <a:pt x="284" y="405"/>
                  </a:lnTo>
                  <a:lnTo>
                    <a:pt x="271" y="384"/>
                  </a:lnTo>
                  <a:lnTo>
                    <a:pt x="258" y="363"/>
                  </a:lnTo>
                  <a:lnTo>
                    <a:pt x="243" y="342"/>
                  </a:lnTo>
                  <a:lnTo>
                    <a:pt x="229" y="322"/>
                  </a:lnTo>
                  <a:lnTo>
                    <a:pt x="213" y="303"/>
                  </a:lnTo>
                  <a:lnTo>
                    <a:pt x="198" y="283"/>
                  </a:lnTo>
                  <a:lnTo>
                    <a:pt x="181" y="264"/>
                  </a:lnTo>
                  <a:lnTo>
                    <a:pt x="164" y="244"/>
                  </a:lnTo>
                  <a:lnTo>
                    <a:pt x="129" y="206"/>
                  </a:lnTo>
                  <a:lnTo>
                    <a:pt x="90" y="167"/>
                  </a:lnTo>
                  <a:lnTo>
                    <a:pt x="49" y="128"/>
                  </a:lnTo>
                  <a:lnTo>
                    <a:pt x="3" y="87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6" y="40"/>
                  </a:lnTo>
                  <a:lnTo>
                    <a:pt x="9" y="33"/>
                  </a:lnTo>
                  <a:lnTo>
                    <a:pt x="11" y="27"/>
                  </a:lnTo>
                  <a:lnTo>
                    <a:pt x="16" y="21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7"/>
                  </a:lnTo>
                  <a:lnTo>
                    <a:pt x="36" y="5"/>
                  </a:lnTo>
                  <a:lnTo>
                    <a:pt x="42" y="3"/>
                  </a:lnTo>
                  <a:lnTo>
                    <a:pt x="50" y="2"/>
                  </a:lnTo>
                  <a:lnTo>
                    <a:pt x="58" y="1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5" y="2"/>
                  </a:lnTo>
                  <a:lnTo>
                    <a:pt x="104" y="4"/>
                  </a:lnTo>
                  <a:lnTo>
                    <a:pt x="114" y="7"/>
                  </a:lnTo>
                  <a:lnTo>
                    <a:pt x="124" y="11"/>
                  </a:lnTo>
                  <a:lnTo>
                    <a:pt x="134" y="15"/>
                  </a:lnTo>
                  <a:lnTo>
                    <a:pt x="145" y="21"/>
                  </a:lnTo>
                  <a:lnTo>
                    <a:pt x="154" y="27"/>
                  </a:lnTo>
                  <a:lnTo>
                    <a:pt x="164" y="34"/>
                  </a:lnTo>
                  <a:lnTo>
                    <a:pt x="174" y="42"/>
                  </a:lnTo>
                  <a:lnTo>
                    <a:pt x="183" y="51"/>
                  </a:lnTo>
                  <a:lnTo>
                    <a:pt x="192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4282920" y="2930400"/>
              <a:ext cx="220680" cy="100080"/>
            </a:xfrm>
            <a:custGeom>
              <a:avLst/>
              <a:gdLst/>
              <a:ahLst/>
              <a:rect l="l" t="t" r="r" b="b"/>
              <a:pathLst>
                <a:path w="695" h="314">
                  <a:moveTo>
                    <a:pt x="7" y="273"/>
                  </a:moveTo>
                  <a:lnTo>
                    <a:pt x="5" y="271"/>
                  </a:lnTo>
                  <a:lnTo>
                    <a:pt x="2" y="269"/>
                  </a:lnTo>
                  <a:lnTo>
                    <a:pt x="1" y="266"/>
                  </a:lnTo>
                  <a:lnTo>
                    <a:pt x="1" y="263"/>
                  </a:lnTo>
                  <a:lnTo>
                    <a:pt x="0" y="256"/>
                  </a:lnTo>
                  <a:lnTo>
                    <a:pt x="1" y="250"/>
                  </a:lnTo>
                  <a:lnTo>
                    <a:pt x="4" y="244"/>
                  </a:lnTo>
                  <a:lnTo>
                    <a:pt x="5" y="240"/>
                  </a:lnTo>
                  <a:lnTo>
                    <a:pt x="7" y="237"/>
                  </a:lnTo>
                  <a:lnTo>
                    <a:pt x="7" y="234"/>
                  </a:lnTo>
                  <a:lnTo>
                    <a:pt x="21" y="229"/>
                  </a:lnTo>
                  <a:lnTo>
                    <a:pt x="41" y="223"/>
                  </a:lnTo>
                  <a:lnTo>
                    <a:pt x="51" y="220"/>
                  </a:lnTo>
                  <a:lnTo>
                    <a:pt x="64" y="218"/>
                  </a:lnTo>
                  <a:lnTo>
                    <a:pt x="76" y="217"/>
                  </a:lnTo>
                  <a:lnTo>
                    <a:pt x="88" y="215"/>
                  </a:lnTo>
                  <a:lnTo>
                    <a:pt x="100" y="215"/>
                  </a:lnTo>
                  <a:lnTo>
                    <a:pt x="112" y="217"/>
                  </a:lnTo>
                  <a:lnTo>
                    <a:pt x="125" y="219"/>
                  </a:lnTo>
                  <a:lnTo>
                    <a:pt x="137" y="222"/>
                  </a:lnTo>
                  <a:lnTo>
                    <a:pt x="148" y="228"/>
                  </a:lnTo>
                  <a:lnTo>
                    <a:pt x="158" y="234"/>
                  </a:lnTo>
                  <a:lnTo>
                    <a:pt x="167" y="242"/>
                  </a:lnTo>
                  <a:lnTo>
                    <a:pt x="175" y="253"/>
                  </a:lnTo>
                  <a:lnTo>
                    <a:pt x="196" y="252"/>
                  </a:lnTo>
                  <a:lnTo>
                    <a:pt x="217" y="250"/>
                  </a:lnTo>
                  <a:lnTo>
                    <a:pt x="237" y="248"/>
                  </a:lnTo>
                  <a:lnTo>
                    <a:pt x="257" y="244"/>
                  </a:lnTo>
                  <a:lnTo>
                    <a:pt x="277" y="240"/>
                  </a:lnTo>
                  <a:lnTo>
                    <a:pt x="297" y="234"/>
                  </a:lnTo>
                  <a:lnTo>
                    <a:pt x="316" y="229"/>
                  </a:lnTo>
                  <a:lnTo>
                    <a:pt x="335" y="222"/>
                  </a:lnTo>
                  <a:lnTo>
                    <a:pt x="352" y="214"/>
                  </a:lnTo>
                  <a:lnTo>
                    <a:pt x="370" y="207"/>
                  </a:lnTo>
                  <a:lnTo>
                    <a:pt x="387" y="199"/>
                  </a:lnTo>
                  <a:lnTo>
                    <a:pt x="403" y="191"/>
                  </a:lnTo>
                  <a:lnTo>
                    <a:pt x="434" y="173"/>
                  </a:lnTo>
                  <a:lnTo>
                    <a:pt x="464" y="155"/>
                  </a:lnTo>
                  <a:lnTo>
                    <a:pt x="490" y="138"/>
                  </a:lnTo>
                  <a:lnTo>
                    <a:pt x="514" y="120"/>
                  </a:lnTo>
                  <a:lnTo>
                    <a:pt x="534" y="104"/>
                  </a:lnTo>
                  <a:lnTo>
                    <a:pt x="552" y="90"/>
                  </a:lnTo>
                  <a:lnTo>
                    <a:pt x="576" y="68"/>
                  </a:lnTo>
                  <a:lnTo>
                    <a:pt x="583" y="60"/>
                  </a:lnTo>
                  <a:lnTo>
                    <a:pt x="598" y="43"/>
                  </a:lnTo>
                  <a:lnTo>
                    <a:pt x="611" y="29"/>
                  </a:lnTo>
                  <a:lnTo>
                    <a:pt x="625" y="17"/>
                  </a:lnTo>
                  <a:lnTo>
                    <a:pt x="638" y="8"/>
                  </a:lnTo>
                  <a:lnTo>
                    <a:pt x="644" y="5"/>
                  </a:lnTo>
                  <a:lnTo>
                    <a:pt x="651" y="2"/>
                  </a:lnTo>
                  <a:lnTo>
                    <a:pt x="657" y="0"/>
                  </a:lnTo>
                  <a:lnTo>
                    <a:pt x="663" y="0"/>
                  </a:lnTo>
                  <a:lnTo>
                    <a:pt x="669" y="0"/>
                  </a:lnTo>
                  <a:lnTo>
                    <a:pt x="674" y="1"/>
                  </a:lnTo>
                  <a:lnTo>
                    <a:pt x="680" y="3"/>
                  </a:lnTo>
                  <a:lnTo>
                    <a:pt x="684" y="7"/>
                  </a:lnTo>
                  <a:lnTo>
                    <a:pt x="689" y="11"/>
                  </a:lnTo>
                  <a:lnTo>
                    <a:pt x="691" y="16"/>
                  </a:lnTo>
                  <a:lnTo>
                    <a:pt x="693" y="20"/>
                  </a:lnTo>
                  <a:lnTo>
                    <a:pt x="694" y="25"/>
                  </a:lnTo>
                  <a:lnTo>
                    <a:pt x="695" y="32"/>
                  </a:lnTo>
                  <a:lnTo>
                    <a:pt x="693" y="40"/>
                  </a:lnTo>
                  <a:lnTo>
                    <a:pt x="691" y="47"/>
                  </a:lnTo>
                  <a:lnTo>
                    <a:pt x="688" y="52"/>
                  </a:lnTo>
                  <a:lnTo>
                    <a:pt x="685" y="57"/>
                  </a:lnTo>
                  <a:lnTo>
                    <a:pt x="684" y="58"/>
                  </a:lnTo>
                  <a:lnTo>
                    <a:pt x="674" y="72"/>
                  </a:lnTo>
                  <a:lnTo>
                    <a:pt x="662" y="87"/>
                  </a:lnTo>
                  <a:lnTo>
                    <a:pt x="649" y="101"/>
                  </a:lnTo>
                  <a:lnTo>
                    <a:pt x="634" y="116"/>
                  </a:lnTo>
                  <a:lnTo>
                    <a:pt x="618" y="130"/>
                  </a:lnTo>
                  <a:lnTo>
                    <a:pt x="601" y="144"/>
                  </a:lnTo>
                  <a:lnTo>
                    <a:pt x="582" y="159"/>
                  </a:lnTo>
                  <a:lnTo>
                    <a:pt x="562" y="173"/>
                  </a:lnTo>
                  <a:lnTo>
                    <a:pt x="542" y="187"/>
                  </a:lnTo>
                  <a:lnTo>
                    <a:pt x="521" y="200"/>
                  </a:lnTo>
                  <a:lnTo>
                    <a:pt x="499" y="213"/>
                  </a:lnTo>
                  <a:lnTo>
                    <a:pt x="476" y="225"/>
                  </a:lnTo>
                  <a:lnTo>
                    <a:pt x="452" y="238"/>
                  </a:lnTo>
                  <a:lnTo>
                    <a:pt x="428" y="249"/>
                  </a:lnTo>
                  <a:lnTo>
                    <a:pt x="403" y="260"/>
                  </a:lnTo>
                  <a:lnTo>
                    <a:pt x="379" y="270"/>
                  </a:lnTo>
                  <a:lnTo>
                    <a:pt x="353" y="279"/>
                  </a:lnTo>
                  <a:lnTo>
                    <a:pt x="328" y="286"/>
                  </a:lnTo>
                  <a:lnTo>
                    <a:pt x="303" y="294"/>
                  </a:lnTo>
                  <a:lnTo>
                    <a:pt x="278" y="300"/>
                  </a:lnTo>
                  <a:lnTo>
                    <a:pt x="252" y="305"/>
                  </a:lnTo>
                  <a:lnTo>
                    <a:pt x="227" y="310"/>
                  </a:lnTo>
                  <a:lnTo>
                    <a:pt x="202" y="312"/>
                  </a:lnTo>
                  <a:lnTo>
                    <a:pt x="178" y="314"/>
                  </a:lnTo>
                  <a:lnTo>
                    <a:pt x="155" y="314"/>
                  </a:lnTo>
                  <a:lnTo>
                    <a:pt x="131" y="313"/>
                  </a:lnTo>
                  <a:lnTo>
                    <a:pt x="108" y="310"/>
                  </a:lnTo>
                  <a:lnTo>
                    <a:pt x="86" y="306"/>
                  </a:lnTo>
                  <a:lnTo>
                    <a:pt x="65" y="301"/>
                  </a:lnTo>
                  <a:lnTo>
                    <a:pt x="45" y="293"/>
                  </a:lnTo>
                  <a:lnTo>
                    <a:pt x="26" y="284"/>
                  </a:lnTo>
                  <a:lnTo>
                    <a:pt x="7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4268880" y="2986200"/>
              <a:ext cx="230040" cy="90360"/>
            </a:xfrm>
            <a:custGeom>
              <a:avLst/>
              <a:gdLst/>
              <a:ahLst/>
              <a:rect l="l" t="t" r="r" b="b"/>
              <a:pathLst>
                <a:path w="722" h="286">
                  <a:moveTo>
                    <a:pt x="500" y="190"/>
                  </a:moveTo>
                  <a:lnTo>
                    <a:pt x="519" y="179"/>
                  </a:lnTo>
                  <a:lnTo>
                    <a:pt x="538" y="166"/>
                  </a:lnTo>
                  <a:lnTo>
                    <a:pt x="554" y="152"/>
                  </a:lnTo>
                  <a:lnTo>
                    <a:pt x="571" y="138"/>
                  </a:lnTo>
                  <a:lnTo>
                    <a:pt x="600" y="107"/>
                  </a:lnTo>
                  <a:lnTo>
                    <a:pt x="628" y="76"/>
                  </a:lnTo>
                  <a:lnTo>
                    <a:pt x="652" y="48"/>
                  </a:lnTo>
                  <a:lnTo>
                    <a:pt x="673" y="24"/>
                  </a:lnTo>
                  <a:lnTo>
                    <a:pt x="683" y="15"/>
                  </a:lnTo>
                  <a:lnTo>
                    <a:pt x="693" y="7"/>
                  </a:lnTo>
                  <a:lnTo>
                    <a:pt x="698" y="5"/>
                  </a:lnTo>
                  <a:lnTo>
                    <a:pt x="702" y="3"/>
                  </a:lnTo>
                  <a:lnTo>
                    <a:pt x="708" y="0"/>
                  </a:lnTo>
                  <a:lnTo>
                    <a:pt x="712" y="0"/>
                  </a:lnTo>
                  <a:lnTo>
                    <a:pt x="715" y="0"/>
                  </a:lnTo>
                  <a:lnTo>
                    <a:pt x="719" y="1"/>
                  </a:lnTo>
                  <a:lnTo>
                    <a:pt x="721" y="4"/>
                  </a:lnTo>
                  <a:lnTo>
                    <a:pt x="722" y="8"/>
                  </a:lnTo>
                  <a:lnTo>
                    <a:pt x="722" y="14"/>
                  </a:lnTo>
                  <a:lnTo>
                    <a:pt x="721" y="20"/>
                  </a:lnTo>
                  <a:lnTo>
                    <a:pt x="720" y="27"/>
                  </a:lnTo>
                  <a:lnTo>
                    <a:pt x="716" y="36"/>
                  </a:lnTo>
                  <a:lnTo>
                    <a:pt x="710" y="55"/>
                  </a:lnTo>
                  <a:lnTo>
                    <a:pt x="699" y="76"/>
                  </a:lnTo>
                  <a:lnTo>
                    <a:pt x="685" y="99"/>
                  </a:lnTo>
                  <a:lnTo>
                    <a:pt x="670" y="124"/>
                  </a:lnTo>
                  <a:lnTo>
                    <a:pt x="651" y="149"/>
                  </a:lnTo>
                  <a:lnTo>
                    <a:pt x="630" y="174"/>
                  </a:lnTo>
                  <a:lnTo>
                    <a:pt x="619" y="186"/>
                  </a:lnTo>
                  <a:lnTo>
                    <a:pt x="608" y="197"/>
                  </a:lnTo>
                  <a:lnTo>
                    <a:pt x="595" y="209"/>
                  </a:lnTo>
                  <a:lnTo>
                    <a:pt x="583" y="219"/>
                  </a:lnTo>
                  <a:lnTo>
                    <a:pt x="570" y="230"/>
                  </a:lnTo>
                  <a:lnTo>
                    <a:pt x="557" y="239"/>
                  </a:lnTo>
                  <a:lnTo>
                    <a:pt x="542" y="248"/>
                  </a:lnTo>
                  <a:lnTo>
                    <a:pt x="529" y="256"/>
                  </a:lnTo>
                  <a:lnTo>
                    <a:pt x="514" y="262"/>
                  </a:lnTo>
                  <a:lnTo>
                    <a:pt x="500" y="269"/>
                  </a:lnTo>
                  <a:lnTo>
                    <a:pt x="484" y="273"/>
                  </a:lnTo>
                  <a:lnTo>
                    <a:pt x="469" y="277"/>
                  </a:lnTo>
                  <a:lnTo>
                    <a:pt x="452" y="280"/>
                  </a:lnTo>
                  <a:lnTo>
                    <a:pt x="431" y="283"/>
                  </a:lnTo>
                  <a:lnTo>
                    <a:pt x="405" y="286"/>
                  </a:lnTo>
                  <a:lnTo>
                    <a:pt x="377" y="286"/>
                  </a:lnTo>
                  <a:lnTo>
                    <a:pt x="344" y="285"/>
                  </a:lnTo>
                  <a:lnTo>
                    <a:pt x="311" y="282"/>
                  </a:lnTo>
                  <a:lnTo>
                    <a:pt x="277" y="278"/>
                  </a:lnTo>
                  <a:lnTo>
                    <a:pt x="241" y="272"/>
                  </a:lnTo>
                  <a:lnTo>
                    <a:pt x="222" y="268"/>
                  </a:lnTo>
                  <a:lnTo>
                    <a:pt x="204" y="263"/>
                  </a:lnTo>
                  <a:lnTo>
                    <a:pt x="187" y="258"/>
                  </a:lnTo>
                  <a:lnTo>
                    <a:pt x="169" y="252"/>
                  </a:lnTo>
                  <a:lnTo>
                    <a:pt x="152" y="246"/>
                  </a:lnTo>
                  <a:lnTo>
                    <a:pt x="135" y="239"/>
                  </a:lnTo>
                  <a:lnTo>
                    <a:pt x="118" y="231"/>
                  </a:lnTo>
                  <a:lnTo>
                    <a:pt x="102" y="222"/>
                  </a:lnTo>
                  <a:lnTo>
                    <a:pt x="87" y="212"/>
                  </a:lnTo>
                  <a:lnTo>
                    <a:pt x="71" y="202"/>
                  </a:lnTo>
                  <a:lnTo>
                    <a:pt x="58" y="191"/>
                  </a:lnTo>
                  <a:lnTo>
                    <a:pt x="45" y="179"/>
                  </a:lnTo>
                  <a:lnTo>
                    <a:pt x="31" y="166"/>
                  </a:lnTo>
                  <a:lnTo>
                    <a:pt x="20" y="152"/>
                  </a:lnTo>
                  <a:lnTo>
                    <a:pt x="10" y="137"/>
                  </a:lnTo>
                  <a:lnTo>
                    <a:pt x="0" y="121"/>
                  </a:lnTo>
                  <a:lnTo>
                    <a:pt x="57" y="142"/>
                  </a:lnTo>
                  <a:lnTo>
                    <a:pt x="108" y="161"/>
                  </a:lnTo>
                  <a:lnTo>
                    <a:pt x="155" y="177"/>
                  </a:lnTo>
                  <a:lnTo>
                    <a:pt x="196" y="190"/>
                  </a:lnTo>
                  <a:lnTo>
                    <a:pt x="234" y="200"/>
                  </a:lnTo>
                  <a:lnTo>
                    <a:pt x="268" y="208"/>
                  </a:lnTo>
                  <a:lnTo>
                    <a:pt x="299" y="215"/>
                  </a:lnTo>
                  <a:lnTo>
                    <a:pt x="328" y="218"/>
                  </a:lnTo>
                  <a:lnTo>
                    <a:pt x="353" y="220"/>
                  </a:lnTo>
                  <a:lnTo>
                    <a:pt x="378" y="220"/>
                  </a:lnTo>
                  <a:lnTo>
                    <a:pt x="400" y="218"/>
                  </a:lnTo>
                  <a:lnTo>
                    <a:pt x="421" y="216"/>
                  </a:lnTo>
                  <a:lnTo>
                    <a:pt x="441" y="210"/>
                  </a:lnTo>
                  <a:lnTo>
                    <a:pt x="461" y="205"/>
                  </a:lnTo>
                  <a:lnTo>
                    <a:pt x="480" y="198"/>
                  </a:lnTo>
                  <a:lnTo>
                    <a:pt x="500" y="1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4100400" y="2265480"/>
              <a:ext cx="638280" cy="703080"/>
            </a:xfrm>
            <a:custGeom>
              <a:avLst/>
              <a:gdLst/>
              <a:ahLst/>
              <a:rect l="l" t="t" r="r" b="b"/>
              <a:pathLst>
                <a:path w="2009" h="2218">
                  <a:moveTo>
                    <a:pt x="1904" y="846"/>
                  </a:moveTo>
                  <a:lnTo>
                    <a:pt x="1908" y="868"/>
                  </a:lnTo>
                  <a:lnTo>
                    <a:pt x="1915" y="891"/>
                  </a:lnTo>
                  <a:lnTo>
                    <a:pt x="1920" y="913"/>
                  </a:lnTo>
                  <a:lnTo>
                    <a:pt x="1924" y="933"/>
                  </a:lnTo>
                  <a:lnTo>
                    <a:pt x="1925" y="942"/>
                  </a:lnTo>
                  <a:lnTo>
                    <a:pt x="1924" y="949"/>
                  </a:lnTo>
                  <a:lnTo>
                    <a:pt x="1922" y="956"/>
                  </a:lnTo>
                  <a:lnTo>
                    <a:pt x="1920" y="963"/>
                  </a:lnTo>
                  <a:lnTo>
                    <a:pt x="1916" y="967"/>
                  </a:lnTo>
                  <a:lnTo>
                    <a:pt x="1909" y="971"/>
                  </a:lnTo>
                  <a:lnTo>
                    <a:pt x="1901" y="973"/>
                  </a:lnTo>
                  <a:lnTo>
                    <a:pt x="1892" y="973"/>
                  </a:lnTo>
                  <a:lnTo>
                    <a:pt x="1888" y="965"/>
                  </a:lnTo>
                  <a:lnTo>
                    <a:pt x="1884" y="958"/>
                  </a:lnTo>
                  <a:lnTo>
                    <a:pt x="1879" y="953"/>
                  </a:lnTo>
                  <a:lnTo>
                    <a:pt x="1875" y="947"/>
                  </a:lnTo>
                  <a:lnTo>
                    <a:pt x="1870" y="943"/>
                  </a:lnTo>
                  <a:lnTo>
                    <a:pt x="1865" y="938"/>
                  </a:lnTo>
                  <a:lnTo>
                    <a:pt x="1859" y="935"/>
                  </a:lnTo>
                  <a:lnTo>
                    <a:pt x="1854" y="933"/>
                  </a:lnTo>
                  <a:lnTo>
                    <a:pt x="1842" y="928"/>
                  </a:lnTo>
                  <a:lnTo>
                    <a:pt x="1830" y="925"/>
                  </a:lnTo>
                  <a:lnTo>
                    <a:pt x="1818" y="924"/>
                  </a:lnTo>
                  <a:lnTo>
                    <a:pt x="1805" y="923"/>
                  </a:lnTo>
                  <a:lnTo>
                    <a:pt x="1793" y="898"/>
                  </a:lnTo>
                  <a:lnTo>
                    <a:pt x="1781" y="873"/>
                  </a:lnTo>
                  <a:lnTo>
                    <a:pt x="1770" y="844"/>
                  </a:lnTo>
                  <a:lnTo>
                    <a:pt x="1761" y="814"/>
                  </a:lnTo>
                  <a:lnTo>
                    <a:pt x="1754" y="783"/>
                  </a:lnTo>
                  <a:lnTo>
                    <a:pt x="1746" y="750"/>
                  </a:lnTo>
                  <a:lnTo>
                    <a:pt x="1740" y="716"/>
                  </a:lnTo>
                  <a:lnTo>
                    <a:pt x="1736" y="682"/>
                  </a:lnTo>
                  <a:lnTo>
                    <a:pt x="1733" y="648"/>
                  </a:lnTo>
                  <a:lnTo>
                    <a:pt x="1730" y="613"/>
                  </a:lnTo>
                  <a:lnTo>
                    <a:pt x="1729" y="579"/>
                  </a:lnTo>
                  <a:lnTo>
                    <a:pt x="1728" y="545"/>
                  </a:lnTo>
                  <a:lnTo>
                    <a:pt x="1729" y="513"/>
                  </a:lnTo>
                  <a:lnTo>
                    <a:pt x="1731" y="482"/>
                  </a:lnTo>
                  <a:lnTo>
                    <a:pt x="1735" y="452"/>
                  </a:lnTo>
                  <a:lnTo>
                    <a:pt x="1739" y="426"/>
                  </a:lnTo>
                  <a:lnTo>
                    <a:pt x="1734" y="433"/>
                  </a:lnTo>
                  <a:lnTo>
                    <a:pt x="1729" y="443"/>
                  </a:lnTo>
                  <a:lnTo>
                    <a:pt x="1724" y="456"/>
                  </a:lnTo>
                  <a:lnTo>
                    <a:pt x="1718" y="470"/>
                  </a:lnTo>
                  <a:lnTo>
                    <a:pt x="1713" y="487"/>
                  </a:lnTo>
                  <a:lnTo>
                    <a:pt x="1708" y="503"/>
                  </a:lnTo>
                  <a:lnTo>
                    <a:pt x="1703" y="523"/>
                  </a:lnTo>
                  <a:lnTo>
                    <a:pt x="1698" y="544"/>
                  </a:lnTo>
                  <a:lnTo>
                    <a:pt x="1694" y="567"/>
                  </a:lnTo>
                  <a:lnTo>
                    <a:pt x="1690" y="591"/>
                  </a:lnTo>
                  <a:lnTo>
                    <a:pt x="1686" y="616"/>
                  </a:lnTo>
                  <a:lnTo>
                    <a:pt x="1683" y="644"/>
                  </a:lnTo>
                  <a:lnTo>
                    <a:pt x="1680" y="672"/>
                  </a:lnTo>
                  <a:lnTo>
                    <a:pt x="1678" y="702"/>
                  </a:lnTo>
                  <a:lnTo>
                    <a:pt x="1677" y="733"/>
                  </a:lnTo>
                  <a:lnTo>
                    <a:pt x="1676" y="764"/>
                  </a:lnTo>
                  <a:lnTo>
                    <a:pt x="1677" y="797"/>
                  </a:lnTo>
                  <a:lnTo>
                    <a:pt x="1677" y="832"/>
                  </a:lnTo>
                  <a:lnTo>
                    <a:pt x="1679" y="866"/>
                  </a:lnTo>
                  <a:lnTo>
                    <a:pt x="1683" y="903"/>
                  </a:lnTo>
                  <a:lnTo>
                    <a:pt x="1686" y="939"/>
                  </a:lnTo>
                  <a:lnTo>
                    <a:pt x="1691" y="977"/>
                  </a:lnTo>
                  <a:lnTo>
                    <a:pt x="1697" y="1015"/>
                  </a:lnTo>
                  <a:lnTo>
                    <a:pt x="1705" y="1054"/>
                  </a:lnTo>
                  <a:lnTo>
                    <a:pt x="1714" y="1093"/>
                  </a:lnTo>
                  <a:lnTo>
                    <a:pt x="1724" y="1133"/>
                  </a:lnTo>
                  <a:lnTo>
                    <a:pt x="1735" y="1174"/>
                  </a:lnTo>
                  <a:lnTo>
                    <a:pt x="1748" y="1214"/>
                  </a:lnTo>
                  <a:lnTo>
                    <a:pt x="1763" y="1255"/>
                  </a:lnTo>
                  <a:lnTo>
                    <a:pt x="1778" y="1297"/>
                  </a:lnTo>
                  <a:lnTo>
                    <a:pt x="1796" y="1338"/>
                  </a:lnTo>
                  <a:lnTo>
                    <a:pt x="1816" y="1379"/>
                  </a:lnTo>
                  <a:lnTo>
                    <a:pt x="1726" y="1316"/>
                  </a:lnTo>
                  <a:lnTo>
                    <a:pt x="1706" y="1341"/>
                  </a:lnTo>
                  <a:lnTo>
                    <a:pt x="1693" y="1329"/>
                  </a:lnTo>
                  <a:lnTo>
                    <a:pt x="1683" y="1318"/>
                  </a:lnTo>
                  <a:lnTo>
                    <a:pt x="1675" y="1307"/>
                  </a:lnTo>
                  <a:lnTo>
                    <a:pt x="1669" y="1297"/>
                  </a:lnTo>
                  <a:lnTo>
                    <a:pt x="1666" y="1287"/>
                  </a:lnTo>
                  <a:lnTo>
                    <a:pt x="1661" y="1276"/>
                  </a:lnTo>
                  <a:lnTo>
                    <a:pt x="1657" y="1265"/>
                  </a:lnTo>
                  <a:lnTo>
                    <a:pt x="1653" y="1252"/>
                  </a:lnTo>
                  <a:lnTo>
                    <a:pt x="1639" y="1252"/>
                  </a:lnTo>
                  <a:lnTo>
                    <a:pt x="1626" y="1254"/>
                  </a:lnTo>
                  <a:lnTo>
                    <a:pt x="1613" y="1256"/>
                  </a:lnTo>
                  <a:lnTo>
                    <a:pt x="1598" y="1260"/>
                  </a:lnTo>
                  <a:lnTo>
                    <a:pt x="1584" y="1266"/>
                  </a:lnTo>
                  <a:lnTo>
                    <a:pt x="1569" y="1272"/>
                  </a:lnTo>
                  <a:lnTo>
                    <a:pt x="1555" y="1280"/>
                  </a:lnTo>
                  <a:lnTo>
                    <a:pt x="1539" y="1289"/>
                  </a:lnTo>
                  <a:lnTo>
                    <a:pt x="1525" y="1299"/>
                  </a:lnTo>
                  <a:lnTo>
                    <a:pt x="1509" y="1309"/>
                  </a:lnTo>
                  <a:lnTo>
                    <a:pt x="1494" y="1321"/>
                  </a:lnTo>
                  <a:lnTo>
                    <a:pt x="1479" y="1334"/>
                  </a:lnTo>
                  <a:lnTo>
                    <a:pt x="1448" y="1360"/>
                  </a:lnTo>
                  <a:lnTo>
                    <a:pt x="1419" y="1390"/>
                  </a:lnTo>
                  <a:lnTo>
                    <a:pt x="1390" y="1421"/>
                  </a:lnTo>
                  <a:lnTo>
                    <a:pt x="1363" y="1453"/>
                  </a:lnTo>
                  <a:lnTo>
                    <a:pt x="1336" y="1488"/>
                  </a:lnTo>
                  <a:lnTo>
                    <a:pt x="1313" y="1521"/>
                  </a:lnTo>
                  <a:lnTo>
                    <a:pt x="1292" y="1554"/>
                  </a:lnTo>
                  <a:lnTo>
                    <a:pt x="1273" y="1587"/>
                  </a:lnTo>
                  <a:lnTo>
                    <a:pt x="1264" y="1602"/>
                  </a:lnTo>
                  <a:lnTo>
                    <a:pt x="1257" y="1618"/>
                  </a:lnTo>
                  <a:lnTo>
                    <a:pt x="1251" y="1632"/>
                  </a:lnTo>
                  <a:lnTo>
                    <a:pt x="1245" y="1647"/>
                  </a:lnTo>
                  <a:lnTo>
                    <a:pt x="1248" y="1651"/>
                  </a:lnTo>
                  <a:lnTo>
                    <a:pt x="1253" y="1654"/>
                  </a:lnTo>
                  <a:lnTo>
                    <a:pt x="1257" y="1657"/>
                  </a:lnTo>
                  <a:lnTo>
                    <a:pt x="1262" y="1658"/>
                  </a:lnTo>
                  <a:lnTo>
                    <a:pt x="1267" y="1658"/>
                  </a:lnTo>
                  <a:lnTo>
                    <a:pt x="1272" y="1658"/>
                  </a:lnTo>
                  <a:lnTo>
                    <a:pt x="1277" y="1659"/>
                  </a:lnTo>
                  <a:lnTo>
                    <a:pt x="1282" y="1659"/>
                  </a:lnTo>
                  <a:lnTo>
                    <a:pt x="1306" y="1635"/>
                  </a:lnTo>
                  <a:lnTo>
                    <a:pt x="1333" y="1612"/>
                  </a:lnTo>
                  <a:lnTo>
                    <a:pt x="1363" y="1588"/>
                  </a:lnTo>
                  <a:lnTo>
                    <a:pt x="1395" y="1563"/>
                  </a:lnTo>
                  <a:lnTo>
                    <a:pt x="1427" y="1540"/>
                  </a:lnTo>
                  <a:lnTo>
                    <a:pt x="1462" y="1518"/>
                  </a:lnTo>
                  <a:lnTo>
                    <a:pt x="1496" y="1498"/>
                  </a:lnTo>
                  <a:lnTo>
                    <a:pt x="1530" y="1479"/>
                  </a:lnTo>
                  <a:lnTo>
                    <a:pt x="1547" y="1471"/>
                  </a:lnTo>
                  <a:lnTo>
                    <a:pt x="1564" y="1464"/>
                  </a:lnTo>
                  <a:lnTo>
                    <a:pt x="1580" y="1458"/>
                  </a:lnTo>
                  <a:lnTo>
                    <a:pt x="1597" y="1452"/>
                  </a:lnTo>
                  <a:lnTo>
                    <a:pt x="1613" y="1448"/>
                  </a:lnTo>
                  <a:lnTo>
                    <a:pt x="1628" y="1443"/>
                  </a:lnTo>
                  <a:lnTo>
                    <a:pt x="1643" y="1441"/>
                  </a:lnTo>
                  <a:lnTo>
                    <a:pt x="1657" y="1440"/>
                  </a:lnTo>
                  <a:lnTo>
                    <a:pt x="1670" y="1440"/>
                  </a:lnTo>
                  <a:lnTo>
                    <a:pt x="1683" y="1441"/>
                  </a:lnTo>
                  <a:lnTo>
                    <a:pt x="1695" y="1445"/>
                  </a:lnTo>
                  <a:lnTo>
                    <a:pt x="1706" y="1448"/>
                  </a:lnTo>
                  <a:lnTo>
                    <a:pt x="1716" y="1453"/>
                  </a:lnTo>
                  <a:lnTo>
                    <a:pt x="1725" y="1461"/>
                  </a:lnTo>
                  <a:lnTo>
                    <a:pt x="1733" y="1470"/>
                  </a:lnTo>
                  <a:lnTo>
                    <a:pt x="1739" y="1480"/>
                  </a:lnTo>
                  <a:lnTo>
                    <a:pt x="1805" y="1430"/>
                  </a:lnTo>
                  <a:lnTo>
                    <a:pt x="1816" y="1432"/>
                  </a:lnTo>
                  <a:lnTo>
                    <a:pt x="1824" y="1436"/>
                  </a:lnTo>
                  <a:lnTo>
                    <a:pt x="1830" y="1439"/>
                  </a:lnTo>
                  <a:lnTo>
                    <a:pt x="1835" y="1445"/>
                  </a:lnTo>
                  <a:lnTo>
                    <a:pt x="1838" y="1450"/>
                  </a:lnTo>
                  <a:lnTo>
                    <a:pt x="1839" y="1457"/>
                  </a:lnTo>
                  <a:lnTo>
                    <a:pt x="1840" y="1464"/>
                  </a:lnTo>
                  <a:lnTo>
                    <a:pt x="1839" y="1472"/>
                  </a:lnTo>
                  <a:lnTo>
                    <a:pt x="1837" y="1481"/>
                  </a:lnTo>
                  <a:lnTo>
                    <a:pt x="1834" y="1491"/>
                  </a:lnTo>
                  <a:lnTo>
                    <a:pt x="1829" y="1500"/>
                  </a:lnTo>
                  <a:lnTo>
                    <a:pt x="1825" y="1511"/>
                  </a:lnTo>
                  <a:lnTo>
                    <a:pt x="1812" y="1532"/>
                  </a:lnTo>
                  <a:lnTo>
                    <a:pt x="1798" y="1556"/>
                  </a:lnTo>
                  <a:lnTo>
                    <a:pt x="1767" y="1603"/>
                  </a:lnTo>
                  <a:lnTo>
                    <a:pt x="1738" y="1651"/>
                  </a:lnTo>
                  <a:lnTo>
                    <a:pt x="1733" y="1663"/>
                  </a:lnTo>
                  <a:lnTo>
                    <a:pt x="1727" y="1674"/>
                  </a:lnTo>
                  <a:lnTo>
                    <a:pt x="1723" y="1685"/>
                  </a:lnTo>
                  <a:lnTo>
                    <a:pt x="1719" y="1695"/>
                  </a:lnTo>
                  <a:lnTo>
                    <a:pt x="1716" y="1705"/>
                  </a:lnTo>
                  <a:lnTo>
                    <a:pt x="1715" y="1715"/>
                  </a:lnTo>
                  <a:lnTo>
                    <a:pt x="1715" y="1724"/>
                  </a:lnTo>
                  <a:lnTo>
                    <a:pt x="1716" y="1733"/>
                  </a:lnTo>
                  <a:lnTo>
                    <a:pt x="1639" y="1696"/>
                  </a:lnTo>
                  <a:lnTo>
                    <a:pt x="1641" y="1684"/>
                  </a:lnTo>
                  <a:lnTo>
                    <a:pt x="1645" y="1673"/>
                  </a:lnTo>
                  <a:lnTo>
                    <a:pt x="1649" y="1662"/>
                  </a:lnTo>
                  <a:lnTo>
                    <a:pt x="1655" y="1650"/>
                  </a:lnTo>
                  <a:lnTo>
                    <a:pt x="1668" y="1628"/>
                  </a:lnTo>
                  <a:lnTo>
                    <a:pt x="1681" y="1605"/>
                  </a:lnTo>
                  <a:lnTo>
                    <a:pt x="1687" y="1595"/>
                  </a:lnTo>
                  <a:lnTo>
                    <a:pt x="1693" y="1584"/>
                  </a:lnTo>
                  <a:lnTo>
                    <a:pt x="1698" y="1573"/>
                  </a:lnTo>
                  <a:lnTo>
                    <a:pt x="1701" y="1562"/>
                  </a:lnTo>
                  <a:lnTo>
                    <a:pt x="1705" y="1552"/>
                  </a:lnTo>
                  <a:lnTo>
                    <a:pt x="1706" y="1541"/>
                  </a:lnTo>
                  <a:lnTo>
                    <a:pt x="1705" y="1530"/>
                  </a:lnTo>
                  <a:lnTo>
                    <a:pt x="1703" y="1519"/>
                  </a:lnTo>
                  <a:lnTo>
                    <a:pt x="1670" y="1526"/>
                  </a:lnTo>
                  <a:lnTo>
                    <a:pt x="1639" y="1533"/>
                  </a:lnTo>
                  <a:lnTo>
                    <a:pt x="1609" y="1542"/>
                  </a:lnTo>
                  <a:lnTo>
                    <a:pt x="1580" y="1553"/>
                  </a:lnTo>
                  <a:lnTo>
                    <a:pt x="1553" y="1566"/>
                  </a:lnTo>
                  <a:lnTo>
                    <a:pt x="1526" y="1579"/>
                  </a:lnTo>
                  <a:lnTo>
                    <a:pt x="1499" y="1593"/>
                  </a:lnTo>
                  <a:lnTo>
                    <a:pt x="1474" y="1610"/>
                  </a:lnTo>
                  <a:lnTo>
                    <a:pt x="1448" y="1627"/>
                  </a:lnTo>
                  <a:lnTo>
                    <a:pt x="1424" y="1645"/>
                  </a:lnTo>
                  <a:lnTo>
                    <a:pt x="1399" y="1664"/>
                  </a:lnTo>
                  <a:lnTo>
                    <a:pt x="1376" y="1684"/>
                  </a:lnTo>
                  <a:lnTo>
                    <a:pt x="1352" y="1705"/>
                  </a:lnTo>
                  <a:lnTo>
                    <a:pt x="1328" y="1728"/>
                  </a:lnTo>
                  <a:lnTo>
                    <a:pt x="1305" y="1750"/>
                  </a:lnTo>
                  <a:lnTo>
                    <a:pt x="1282" y="1773"/>
                  </a:lnTo>
                  <a:lnTo>
                    <a:pt x="1273" y="1775"/>
                  </a:lnTo>
                  <a:lnTo>
                    <a:pt x="1264" y="1776"/>
                  </a:lnTo>
                  <a:lnTo>
                    <a:pt x="1255" y="1776"/>
                  </a:lnTo>
                  <a:lnTo>
                    <a:pt x="1246" y="1775"/>
                  </a:lnTo>
                  <a:lnTo>
                    <a:pt x="1238" y="1773"/>
                  </a:lnTo>
                  <a:lnTo>
                    <a:pt x="1231" y="1770"/>
                  </a:lnTo>
                  <a:lnTo>
                    <a:pt x="1223" y="1766"/>
                  </a:lnTo>
                  <a:lnTo>
                    <a:pt x="1215" y="1762"/>
                  </a:lnTo>
                  <a:lnTo>
                    <a:pt x="1202" y="1753"/>
                  </a:lnTo>
                  <a:lnTo>
                    <a:pt x="1189" y="1742"/>
                  </a:lnTo>
                  <a:lnTo>
                    <a:pt x="1178" y="1731"/>
                  </a:lnTo>
                  <a:lnTo>
                    <a:pt x="1168" y="1720"/>
                  </a:lnTo>
                  <a:lnTo>
                    <a:pt x="1168" y="1699"/>
                  </a:lnTo>
                  <a:lnTo>
                    <a:pt x="1169" y="1678"/>
                  </a:lnTo>
                  <a:lnTo>
                    <a:pt x="1172" y="1657"/>
                  </a:lnTo>
                  <a:lnTo>
                    <a:pt x="1175" y="1635"/>
                  </a:lnTo>
                  <a:lnTo>
                    <a:pt x="1178" y="1615"/>
                  </a:lnTo>
                  <a:lnTo>
                    <a:pt x="1184" y="1597"/>
                  </a:lnTo>
                  <a:lnTo>
                    <a:pt x="1191" y="1577"/>
                  </a:lnTo>
                  <a:lnTo>
                    <a:pt x="1197" y="1558"/>
                  </a:lnTo>
                  <a:lnTo>
                    <a:pt x="1205" y="1540"/>
                  </a:lnTo>
                  <a:lnTo>
                    <a:pt x="1214" y="1521"/>
                  </a:lnTo>
                  <a:lnTo>
                    <a:pt x="1223" y="1504"/>
                  </a:lnTo>
                  <a:lnTo>
                    <a:pt x="1233" y="1487"/>
                  </a:lnTo>
                  <a:lnTo>
                    <a:pt x="1243" y="1470"/>
                  </a:lnTo>
                  <a:lnTo>
                    <a:pt x="1253" y="1453"/>
                  </a:lnTo>
                  <a:lnTo>
                    <a:pt x="1264" y="1438"/>
                  </a:lnTo>
                  <a:lnTo>
                    <a:pt x="1275" y="1422"/>
                  </a:lnTo>
                  <a:lnTo>
                    <a:pt x="1299" y="1392"/>
                  </a:lnTo>
                  <a:lnTo>
                    <a:pt x="1323" y="1365"/>
                  </a:lnTo>
                  <a:lnTo>
                    <a:pt x="1347" y="1339"/>
                  </a:lnTo>
                  <a:lnTo>
                    <a:pt x="1371" y="1316"/>
                  </a:lnTo>
                  <a:lnTo>
                    <a:pt x="1414" y="1274"/>
                  </a:lnTo>
                  <a:lnTo>
                    <a:pt x="1449" y="1239"/>
                  </a:lnTo>
                  <a:lnTo>
                    <a:pt x="1435" y="1227"/>
                  </a:lnTo>
                  <a:lnTo>
                    <a:pt x="1416" y="1236"/>
                  </a:lnTo>
                  <a:lnTo>
                    <a:pt x="1397" y="1246"/>
                  </a:lnTo>
                  <a:lnTo>
                    <a:pt x="1379" y="1256"/>
                  </a:lnTo>
                  <a:lnTo>
                    <a:pt x="1361" y="1266"/>
                  </a:lnTo>
                  <a:lnTo>
                    <a:pt x="1344" y="1277"/>
                  </a:lnTo>
                  <a:lnTo>
                    <a:pt x="1326" y="1288"/>
                  </a:lnTo>
                  <a:lnTo>
                    <a:pt x="1309" y="1300"/>
                  </a:lnTo>
                  <a:lnTo>
                    <a:pt x="1293" y="1312"/>
                  </a:lnTo>
                  <a:lnTo>
                    <a:pt x="1276" y="1325"/>
                  </a:lnTo>
                  <a:lnTo>
                    <a:pt x="1261" y="1338"/>
                  </a:lnTo>
                  <a:lnTo>
                    <a:pt x="1246" y="1351"/>
                  </a:lnTo>
                  <a:lnTo>
                    <a:pt x="1231" y="1366"/>
                  </a:lnTo>
                  <a:lnTo>
                    <a:pt x="1216" y="1379"/>
                  </a:lnTo>
                  <a:lnTo>
                    <a:pt x="1203" y="1395"/>
                  </a:lnTo>
                  <a:lnTo>
                    <a:pt x="1189" y="1409"/>
                  </a:lnTo>
                  <a:lnTo>
                    <a:pt x="1176" y="1425"/>
                  </a:lnTo>
                  <a:lnTo>
                    <a:pt x="1164" y="1440"/>
                  </a:lnTo>
                  <a:lnTo>
                    <a:pt x="1153" y="1456"/>
                  </a:lnTo>
                  <a:lnTo>
                    <a:pt x="1142" y="1472"/>
                  </a:lnTo>
                  <a:lnTo>
                    <a:pt x="1131" y="1489"/>
                  </a:lnTo>
                  <a:lnTo>
                    <a:pt x="1121" y="1506"/>
                  </a:lnTo>
                  <a:lnTo>
                    <a:pt x="1112" y="1523"/>
                  </a:lnTo>
                  <a:lnTo>
                    <a:pt x="1103" y="1540"/>
                  </a:lnTo>
                  <a:lnTo>
                    <a:pt x="1094" y="1558"/>
                  </a:lnTo>
                  <a:lnTo>
                    <a:pt x="1087" y="1577"/>
                  </a:lnTo>
                  <a:lnTo>
                    <a:pt x="1080" y="1594"/>
                  </a:lnTo>
                  <a:lnTo>
                    <a:pt x="1074" y="1613"/>
                  </a:lnTo>
                  <a:lnTo>
                    <a:pt x="1068" y="1632"/>
                  </a:lnTo>
                  <a:lnTo>
                    <a:pt x="1064" y="1651"/>
                  </a:lnTo>
                  <a:lnTo>
                    <a:pt x="1060" y="1670"/>
                  </a:lnTo>
                  <a:lnTo>
                    <a:pt x="1056" y="1690"/>
                  </a:lnTo>
                  <a:lnTo>
                    <a:pt x="1054" y="1710"/>
                  </a:lnTo>
                  <a:lnTo>
                    <a:pt x="1047" y="1713"/>
                  </a:lnTo>
                  <a:lnTo>
                    <a:pt x="1041" y="1714"/>
                  </a:lnTo>
                  <a:lnTo>
                    <a:pt x="1033" y="1713"/>
                  </a:lnTo>
                  <a:lnTo>
                    <a:pt x="1026" y="1710"/>
                  </a:lnTo>
                  <a:lnTo>
                    <a:pt x="1020" y="1705"/>
                  </a:lnTo>
                  <a:lnTo>
                    <a:pt x="1014" y="1699"/>
                  </a:lnTo>
                  <a:lnTo>
                    <a:pt x="1008" y="1690"/>
                  </a:lnTo>
                  <a:lnTo>
                    <a:pt x="1003" y="1681"/>
                  </a:lnTo>
                  <a:lnTo>
                    <a:pt x="1000" y="1669"/>
                  </a:lnTo>
                  <a:lnTo>
                    <a:pt x="996" y="1657"/>
                  </a:lnTo>
                  <a:lnTo>
                    <a:pt x="994" y="1643"/>
                  </a:lnTo>
                  <a:lnTo>
                    <a:pt x="994" y="1628"/>
                  </a:lnTo>
                  <a:lnTo>
                    <a:pt x="995" y="1612"/>
                  </a:lnTo>
                  <a:lnTo>
                    <a:pt x="997" y="1595"/>
                  </a:lnTo>
                  <a:lnTo>
                    <a:pt x="1002" y="1578"/>
                  </a:lnTo>
                  <a:lnTo>
                    <a:pt x="1007" y="1559"/>
                  </a:lnTo>
                  <a:lnTo>
                    <a:pt x="1008" y="1554"/>
                  </a:lnTo>
                  <a:lnTo>
                    <a:pt x="1012" y="1549"/>
                  </a:lnTo>
                  <a:lnTo>
                    <a:pt x="1017" y="1542"/>
                  </a:lnTo>
                  <a:lnTo>
                    <a:pt x="1023" y="1536"/>
                  </a:lnTo>
                  <a:lnTo>
                    <a:pt x="1035" y="1520"/>
                  </a:lnTo>
                  <a:lnTo>
                    <a:pt x="1046" y="1507"/>
                  </a:lnTo>
                  <a:lnTo>
                    <a:pt x="1050" y="1501"/>
                  </a:lnTo>
                  <a:lnTo>
                    <a:pt x="1053" y="1497"/>
                  </a:lnTo>
                  <a:lnTo>
                    <a:pt x="1053" y="1494"/>
                  </a:lnTo>
                  <a:lnTo>
                    <a:pt x="1054" y="1493"/>
                  </a:lnTo>
                  <a:lnTo>
                    <a:pt x="1053" y="1492"/>
                  </a:lnTo>
                  <a:lnTo>
                    <a:pt x="1052" y="1491"/>
                  </a:lnTo>
                  <a:lnTo>
                    <a:pt x="1048" y="1491"/>
                  </a:lnTo>
                  <a:lnTo>
                    <a:pt x="1041" y="1493"/>
                  </a:lnTo>
                  <a:lnTo>
                    <a:pt x="1030" y="1499"/>
                  </a:lnTo>
                  <a:lnTo>
                    <a:pt x="1015" y="1507"/>
                  </a:lnTo>
                  <a:lnTo>
                    <a:pt x="799" y="1633"/>
                  </a:lnTo>
                  <a:lnTo>
                    <a:pt x="796" y="1639"/>
                  </a:lnTo>
                  <a:lnTo>
                    <a:pt x="794" y="1645"/>
                  </a:lnTo>
                  <a:lnTo>
                    <a:pt x="793" y="1652"/>
                  </a:lnTo>
                  <a:lnTo>
                    <a:pt x="792" y="1660"/>
                  </a:lnTo>
                  <a:lnTo>
                    <a:pt x="792" y="1669"/>
                  </a:lnTo>
                  <a:lnTo>
                    <a:pt x="792" y="1678"/>
                  </a:lnTo>
                  <a:lnTo>
                    <a:pt x="793" y="1688"/>
                  </a:lnTo>
                  <a:lnTo>
                    <a:pt x="795" y="1698"/>
                  </a:lnTo>
                  <a:lnTo>
                    <a:pt x="797" y="1709"/>
                  </a:lnTo>
                  <a:lnTo>
                    <a:pt x="800" y="1720"/>
                  </a:lnTo>
                  <a:lnTo>
                    <a:pt x="804" y="1731"/>
                  </a:lnTo>
                  <a:lnTo>
                    <a:pt x="809" y="1742"/>
                  </a:lnTo>
                  <a:lnTo>
                    <a:pt x="813" y="1754"/>
                  </a:lnTo>
                  <a:lnTo>
                    <a:pt x="820" y="1766"/>
                  </a:lnTo>
                  <a:lnTo>
                    <a:pt x="825" y="1778"/>
                  </a:lnTo>
                  <a:lnTo>
                    <a:pt x="833" y="1790"/>
                  </a:lnTo>
                  <a:lnTo>
                    <a:pt x="841" y="1802"/>
                  </a:lnTo>
                  <a:lnTo>
                    <a:pt x="850" y="1814"/>
                  </a:lnTo>
                  <a:lnTo>
                    <a:pt x="860" y="1825"/>
                  </a:lnTo>
                  <a:lnTo>
                    <a:pt x="871" y="1837"/>
                  </a:lnTo>
                  <a:lnTo>
                    <a:pt x="882" y="1849"/>
                  </a:lnTo>
                  <a:lnTo>
                    <a:pt x="894" y="1859"/>
                  </a:lnTo>
                  <a:lnTo>
                    <a:pt x="907" y="1870"/>
                  </a:lnTo>
                  <a:lnTo>
                    <a:pt x="922" y="1880"/>
                  </a:lnTo>
                  <a:lnTo>
                    <a:pt x="936" y="1890"/>
                  </a:lnTo>
                  <a:lnTo>
                    <a:pt x="953" y="1899"/>
                  </a:lnTo>
                  <a:lnTo>
                    <a:pt x="970" y="1906"/>
                  </a:lnTo>
                  <a:lnTo>
                    <a:pt x="987" y="1914"/>
                  </a:lnTo>
                  <a:lnTo>
                    <a:pt x="1006" y="1921"/>
                  </a:lnTo>
                  <a:lnTo>
                    <a:pt x="1026" y="1927"/>
                  </a:lnTo>
                  <a:lnTo>
                    <a:pt x="1046" y="1933"/>
                  </a:lnTo>
                  <a:lnTo>
                    <a:pt x="1068" y="1937"/>
                  </a:lnTo>
                  <a:lnTo>
                    <a:pt x="1078" y="1937"/>
                  </a:lnTo>
                  <a:lnTo>
                    <a:pt x="1088" y="1935"/>
                  </a:lnTo>
                  <a:lnTo>
                    <a:pt x="1097" y="1933"/>
                  </a:lnTo>
                  <a:lnTo>
                    <a:pt x="1106" y="1930"/>
                  </a:lnTo>
                  <a:lnTo>
                    <a:pt x="1114" y="1925"/>
                  </a:lnTo>
                  <a:lnTo>
                    <a:pt x="1122" y="1921"/>
                  </a:lnTo>
                  <a:lnTo>
                    <a:pt x="1130" y="1914"/>
                  </a:lnTo>
                  <a:lnTo>
                    <a:pt x="1137" y="1908"/>
                  </a:lnTo>
                  <a:lnTo>
                    <a:pt x="1152" y="1895"/>
                  </a:lnTo>
                  <a:lnTo>
                    <a:pt x="1167" y="1882"/>
                  </a:lnTo>
                  <a:lnTo>
                    <a:pt x="1183" y="1869"/>
                  </a:lnTo>
                  <a:lnTo>
                    <a:pt x="1201" y="1857"/>
                  </a:lnTo>
                  <a:lnTo>
                    <a:pt x="1202" y="1859"/>
                  </a:lnTo>
                  <a:lnTo>
                    <a:pt x="1205" y="1859"/>
                  </a:lnTo>
                  <a:lnTo>
                    <a:pt x="1208" y="1860"/>
                  </a:lnTo>
                  <a:lnTo>
                    <a:pt x="1214" y="1861"/>
                  </a:lnTo>
                  <a:lnTo>
                    <a:pt x="1215" y="1862"/>
                  </a:lnTo>
                  <a:lnTo>
                    <a:pt x="1217" y="1863"/>
                  </a:lnTo>
                  <a:lnTo>
                    <a:pt x="1219" y="1865"/>
                  </a:lnTo>
                  <a:lnTo>
                    <a:pt x="1221" y="1869"/>
                  </a:lnTo>
                  <a:lnTo>
                    <a:pt x="1221" y="1872"/>
                  </a:lnTo>
                  <a:lnTo>
                    <a:pt x="1221" y="1875"/>
                  </a:lnTo>
                  <a:lnTo>
                    <a:pt x="1221" y="1881"/>
                  </a:lnTo>
                  <a:lnTo>
                    <a:pt x="1218" y="1886"/>
                  </a:lnTo>
                  <a:lnTo>
                    <a:pt x="1228" y="1883"/>
                  </a:lnTo>
                  <a:lnTo>
                    <a:pt x="1237" y="1877"/>
                  </a:lnTo>
                  <a:lnTo>
                    <a:pt x="1244" y="1871"/>
                  </a:lnTo>
                  <a:lnTo>
                    <a:pt x="1249" y="1864"/>
                  </a:lnTo>
                  <a:lnTo>
                    <a:pt x="1255" y="1855"/>
                  </a:lnTo>
                  <a:lnTo>
                    <a:pt x="1258" y="1847"/>
                  </a:lnTo>
                  <a:lnTo>
                    <a:pt x="1262" y="1839"/>
                  </a:lnTo>
                  <a:lnTo>
                    <a:pt x="1265" y="1831"/>
                  </a:lnTo>
                  <a:lnTo>
                    <a:pt x="1267" y="1823"/>
                  </a:lnTo>
                  <a:lnTo>
                    <a:pt x="1271" y="1816"/>
                  </a:lnTo>
                  <a:lnTo>
                    <a:pt x="1273" y="1811"/>
                  </a:lnTo>
                  <a:lnTo>
                    <a:pt x="1276" y="1806"/>
                  </a:lnTo>
                  <a:lnTo>
                    <a:pt x="1279" y="1804"/>
                  </a:lnTo>
                  <a:lnTo>
                    <a:pt x="1284" y="1804"/>
                  </a:lnTo>
                  <a:lnTo>
                    <a:pt x="1288" y="1805"/>
                  </a:lnTo>
                  <a:lnTo>
                    <a:pt x="1295" y="1811"/>
                  </a:lnTo>
                  <a:lnTo>
                    <a:pt x="1297" y="1826"/>
                  </a:lnTo>
                  <a:lnTo>
                    <a:pt x="1298" y="1844"/>
                  </a:lnTo>
                  <a:lnTo>
                    <a:pt x="1297" y="1862"/>
                  </a:lnTo>
                  <a:lnTo>
                    <a:pt x="1293" y="1880"/>
                  </a:lnTo>
                  <a:lnTo>
                    <a:pt x="1288" y="1899"/>
                  </a:lnTo>
                  <a:lnTo>
                    <a:pt x="1281" y="1918"/>
                  </a:lnTo>
                  <a:lnTo>
                    <a:pt x="1272" y="1937"/>
                  </a:lnTo>
                  <a:lnTo>
                    <a:pt x="1261" y="1957"/>
                  </a:lnTo>
                  <a:lnTo>
                    <a:pt x="1248" y="1976"/>
                  </a:lnTo>
                  <a:lnTo>
                    <a:pt x="1235" y="1996"/>
                  </a:lnTo>
                  <a:lnTo>
                    <a:pt x="1219" y="2015"/>
                  </a:lnTo>
                  <a:lnTo>
                    <a:pt x="1203" y="2034"/>
                  </a:lnTo>
                  <a:lnTo>
                    <a:pt x="1185" y="2053"/>
                  </a:lnTo>
                  <a:lnTo>
                    <a:pt x="1165" y="2071"/>
                  </a:lnTo>
                  <a:lnTo>
                    <a:pt x="1145" y="2088"/>
                  </a:lnTo>
                  <a:lnTo>
                    <a:pt x="1123" y="2105"/>
                  </a:lnTo>
                  <a:lnTo>
                    <a:pt x="1100" y="2122"/>
                  </a:lnTo>
                  <a:lnTo>
                    <a:pt x="1076" y="2137"/>
                  </a:lnTo>
                  <a:lnTo>
                    <a:pt x="1051" y="2150"/>
                  </a:lnTo>
                  <a:lnTo>
                    <a:pt x="1025" y="2164"/>
                  </a:lnTo>
                  <a:lnTo>
                    <a:pt x="998" y="2176"/>
                  </a:lnTo>
                  <a:lnTo>
                    <a:pt x="972" y="2187"/>
                  </a:lnTo>
                  <a:lnTo>
                    <a:pt x="944" y="2196"/>
                  </a:lnTo>
                  <a:lnTo>
                    <a:pt x="915" y="2204"/>
                  </a:lnTo>
                  <a:lnTo>
                    <a:pt x="886" y="2210"/>
                  </a:lnTo>
                  <a:lnTo>
                    <a:pt x="857" y="2215"/>
                  </a:lnTo>
                  <a:lnTo>
                    <a:pt x="827" y="2218"/>
                  </a:lnTo>
                  <a:lnTo>
                    <a:pt x="797" y="2218"/>
                  </a:lnTo>
                  <a:lnTo>
                    <a:pt x="766" y="2217"/>
                  </a:lnTo>
                  <a:lnTo>
                    <a:pt x="736" y="2215"/>
                  </a:lnTo>
                  <a:lnTo>
                    <a:pt x="705" y="2209"/>
                  </a:lnTo>
                  <a:lnTo>
                    <a:pt x="674" y="2202"/>
                  </a:lnTo>
                  <a:lnTo>
                    <a:pt x="665" y="2197"/>
                  </a:lnTo>
                  <a:lnTo>
                    <a:pt x="655" y="2192"/>
                  </a:lnTo>
                  <a:lnTo>
                    <a:pt x="648" y="2185"/>
                  </a:lnTo>
                  <a:lnTo>
                    <a:pt x="640" y="2178"/>
                  </a:lnTo>
                  <a:lnTo>
                    <a:pt x="632" y="2170"/>
                  </a:lnTo>
                  <a:lnTo>
                    <a:pt x="626" y="2163"/>
                  </a:lnTo>
                  <a:lnTo>
                    <a:pt x="621" y="2155"/>
                  </a:lnTo>
                  <a:lnTo>
                    <a:pt x="616" y="2146"/>
                  </a:lnTo>
                  <a:lnTo>
                    <a:pt x="612" y="2138"/>
                  </a:lnTo>
                  <a:lnTo>
                    <a:pt x="610" y="2129"/>
                  </a:lnTo>
                  <a:lnTo>
                    <a:pt x="609" y="2122"/>
                  </a:lnTo>
                  <a:lnTo>
                    <a:pt x="609" y="2113"/>
                  </a:lnTo>
                  <a:lnTo>
                    <a:pt x="610" y="2105"/>
                  </a:lnTo>
                  <a:lnTo>
                    <a:pt x="612" y="2098"/>
                  </a:lnTo>
                  <a:lnTo>
                    <a:pt x="616" y="2091"/>
                  </a:lnTo>
                  <a:lnTo>
                    <a:pt x="622" y="2085"/>
                  </a:lnTo>
                  <a:lnTo>
                    <a:pt x="641" y="2094"/>
                  </a:lnTo>
                  <a:lnTo>
                    <a:pt x="661" y="2102"/>
                  </a:lnTo>
                  <a:lnTo>
                    <a:pt x="680" y="2109"/>
                  </a:lnTo>
                  <a:lnTo>
                    <a:pt x="699" y="2115"/>
                  </a:lnTo>
                  <a:lnTo>
                    <a:pt x="718" y="2119"/>
                  </a:lnTo>
                  <a:lnTo>
                    <a:pt x="736" y="2123"/>
                  </a:lnTo>
                  <a:lnTo>
                    <a:pt x="754" y="2125"/>
                  </a:lnTo>
                  <a:lnTo>
                    <a:pt x="773" y="2126"/>
                  </a:lnTo>
                  <a:lnTo>
                    <a:pt x="790" y="2127"/>
                  </a:lnTo>
                  <a:lnTo>
                    <a:pt x="807" y="2127"/>
                  </a:lnTo>
                  <a:lnTo>
                    <a:pt x="824" y="2126"/>
                  </a:lnTo>
                  <a:lnTo>
                    <a:pt x="841" y="2124"/>
                  </a:lnTo>
                  <a:lnTo>
                    <a:pt x="856" y="2122"/>
                  </a:lnTo>
                  <a:lnTo>
                    <a:pt x="872" y="2119"/>
                  </a:lnTo>
                  <a:lnTo>
                    <a:pt x="886" y="2116"/>
                  </a:lnTo>
                  <a:lnTo>
                    <a:pt x="901" y="2112"/>
                  </a:lnTo>
                  <a:lnTo>
                    <a:pt x="927" y="2104"/>
                  </a:lnTo>
                  <a:lnTo>
                    <a:pt x="953" y="2094"/>
                  </a:lnTo>
                  <a:lnTo>
                    <a:pt x="975" y="2084"/>
                  </a:lnTo>
                  <a:lnTo>
                    <a:pt x="994" y="2073"/>
                  </a:lnTo>
                  <a:lnTo>
                    <a:pt x="1011" y="2063"/>
                  </a:lnTo>
                  <a:lnTo>
                    <a:pt x="1024" y="2054"/>
                  </a:lnTo>
                  <a:lnTo>
                    <a:pt x="1034" y="2046"/>
                  </a:lnTo>
                  <a:lnTo>
                    <a:pt x="1041" y="2039"/>
                  </a:lnTo>
                  <a:lnTo>
                    <a:pt x="1028" y="2026"/>
                  </a:lnTo>
                  <a:lnTo>
                    <a:pt x="994" y="2021"/>
                  </a:lnTo>
                  <a:lnTo>
                    <a:pt x="962" y="2013"/>
                  </a:lnTo>
                  <a:lnTo>
                    <a:pt x="932" y="2004"/>
                  </a:lnTo>
                  <a:lnTo>
                    <a:pt x="905" y="1995"/>
                  </a:lnTo>
                  <a:lnTo>
                    <a:pt x="880" y="1984"/>
                  </a:lnTo>
                  <a:lnTo>
                    <a:pt x="856" y="1972"/>
                  </a:lnTo>
                  <a:lnTo>
                    <a:pt x="834" y="1960"/>
                  </a:lnTo>
                  <a:lnTo>
                    <a:pt x="815" y="1946"/>
                  </a:lnTo>
                  <a:lnTo>
                    <a:pt x="797" y="1933"/>
                  </a:lnTo>
                  <a:lnTo>
                    <a:pt x="781" y="1918"/>
                  </a:lnTo>
                  <a:lnTo>
                    <a:pt x="766" y="1904"/>
                  </a:lnTo>
                  <a:lnTo>
                    <a:pt x="753" y="1889"/>
                  </a:lnTo>
                  <a:lnTo>
                    <a:pt x="742" y="1873"/>
                  </a:lnTo>
                  <a:lnTo>
                    <a:pt x="732" y="1859"/>
                  </a:lnTo>
                  <a:lnTo>
                    <a:pt x="723" y="1843"/>
                  </a:lnTo>
                  <a:lnTo>
                    <a:pt x="715" y="1827"/>
                  </a:lnTo>
                  <a:lnTo>
                    <a:pt x="709" y="1812"/>
                  </a:lnTo>
                  <a:lnTo>
                    <a:pt x="702" y="1797"/>
                  </a:lnTo>
                  <a:lnTo>
                    <a:pt x="698" y="1783"/>
                  </a:lnTo>
                  <a:lnTo>
                    <a:pt x="694" y="1769"/>
                  </a:lnTo>
                  <a:lnTo>
                    <a:pt x="689" y="1742"/>
                  </a:lnTo>
                  <a:lnTo>
                    <a:pt x="685" y="1719"/>
                  </a:lnTo>
                  <a:lnTo>
                    <a:pt x="684" y="1684"/>
                  </a:lnTo>
                  <a:lnTo>
                    <a:pt x="685" y="1672"/>
                  </a:lnTo>
                  <a:lnTo>
                    <a:pt x="668" y="1682"/>
                  </a:lnTo>
                  <a:lnTo>
                    <a:pt x="649" y="1692"/>
                  </a:lnTo>
                  <a:lnTo>
                    <a:pt x="628" y="1701"/>
                  </a:lnTo>
                  <a:lnTo>
                    <a:pt x="605" y="1709"/>
                  </a:lnTo>
                  <a:lnTo>
                    <a:pt x="581" y="1716"/>
                  </a:lnTo>
                  <a:lnTo>
                    <a:pt x="556" y="1723"/>
                  </a:lnTo>
                  <a:lnTo>
                    <a:pt x="531" y="1730"/>
                  </a:lnTo>
                  <a:lnTo>
                    <a:pt x="504" y="1734"/>
                  </a:lnTo>
                  <a:lnTo>
                    <a:pt x="477" y="1738"/>
                  </a:lnTo>
                  <a:lnTo>
                    <a:pt x="449" y="1740"/>
                  </a:lnTo>
                  <a:lnTo>
                    <a:pt x="420" y="1741"/>
                  </a:lnTo>
                  <a:lnTo>
                    <a:pt x="392" y="1740"/>
                  </a:lnTo>
                  <a:lnTo>
                    <a:pt x="363" y="1738"/>
                  </a:lnTo>
                  <a:lnTo>
                    <a:pt x="334" y="1734"/>
                  </a:lnTo>
                  <a:lnTo>
                    <a:pt x="305" y="1728"/>
                  </a:lnTo>
                  <a:lnTo>
                    <a:pt x="278" y="1720"/>
                  </a:lnTo>
                  <a:lnTo>
                    <a:pt x="250" y="1711"/>
                  </a:lnTo>
                  <a:lnTo>
                    <a:pt x="223" y="1699"/>
                  </a:lnTo>
                  <a:lnTo>
                    <a:pt x="198" y="1684"/>
                  </a:lnTo>
                  <a:lnTo>
                    <a:pt x="172" y="1668"/>
                  </a:lnTo>
                  <a:lnTo>
                    <a:pt x="148" y="1648"/>
                  </a:lnTo>
                  <a:lnTo>
                    <a:pt x="126" y="1627"/>
                  </a:lnTo>
                  <a:lnTo>
                    <a:pt x="104" y="1602"/>
                  </a:lnTo>
                  <a:lnTo>
                    <a:pt x="84" y="1574"/>
                  </a:lnTo>
                  <a:lnTo>
                    <a:pt x="66" y="1543"/>
                  </a:lnTo>
                  <a:lnTo>
                    <a:pt x="50" y="1510"/>
                  </a:lnTo>
                  <a:lnTo>
                    <a:pt x="36" y="1473"/>
                  </a:lnTo>
                  <a:lnTo>
                    <a:pt x="23" y="1433"/>
                  </a:lnTo>
                  <a:lnTo>
                    <a:pt x="13" y="1391"/>
                  </a:lnTo>
                  <a:lnTo>
                    <a:pt x="7" y="1344"/>
                  </a:lnTo>
                  <a:lnTo>
                    <a:pt x="2" y="1294"/>
                  </a:lnTo>
                  <a:lnTo>
                    <a:pt x="0" y="1239"/>
                  </a:lnTo>
                  <a:lnTo>
                    <a:pt x="1" y="1237"/>
                  </a:lnTo>
                  <a:lnTo>
                    <a:pt x="5" y="1229"/>
                  </a:lnTo>
                  <a:lnTo>
                    <a:pt x="9" y="1220"/>
                  </a:lnTo>
                  <a:lnTo>
                    <a:pt x="16" y="1210"/>
                  </a:lnTo>
                  <a:lnTo>
                    <a:pt x="19" y="1206"/>
                  </a:lnTo>
                  <a:lnTo>
                    <a:pt x="22" y="1203"/>
                  </a:lnTo>
                  <a:lnTo>
                    <a:pt x="27" y="1200"/>
                  </a:lnTo>
                  <a:lnTo>
                    <a:pt x="30" y="1199"/>
                  </a:lnTo>
                  <a:lnTo>
                    <a:pt x="35" y="1199"/>
                  </a:lnTo>
                  <a:lnTo>
                    <a:pt x="39" y="1201"/>
                  </a:lnTo>
                  <a:lnTo>
                    <a:pt x="43" y="1206"/>
                  </a:lnTo>
                  <a:lnTo>
                    <a:pt x="48" y="1213"/>
                  </a:lnTo>
                  <a:lnTo>
                    <a:pt x="56" y="1234"/>
                  </a:lnTo>
                  <a:lnTo>
                    <a:pt x="68" y="1275"/>
                  </a:lnTo>
                  <a:lnTo>
                    <a:pt x="77" y="1300"/>
                  </a:lnTo>
                  <a:lnTo>
                    <a:pt x="87" y="1329"/>
                  </a:lnTo>
                  <a:lnTo>
                    <a:pt x="98" y="1359"/>
                  </a:lnTo>
                  <a:lnTo>
                    <a:pt x="111" y="1391"/>
                  </a:lnTo>
                  <a:lnTo>
                    <a:pt x="127" y="1423"/>
                  </a:lnTo>
                  <a:lnTo>
                    <a:pt x="144" y="1456"/>
                  </a:lnTo>
                  <a:lnTo>
                    <a:pt x="153" y="1472"/>
                  </a:lnTo>
                  <a:lnTo>
                    <a:pt x="163" y="1487"/>
                  </a:lnTo>
                  <a:lnTo>
                    <a:pt x="173" y="1502"/>
                  </a:lnTo>
                  <a:lnTo>
                    <a:pt x="184" y="1517"/>
                  </a:lnTo>
                  <a:lnTo>
                    <a:pt x="197" y="1531"/>
                  </a:lnTo>
                  <a:lnTo>
                    <a:pt x="209" y="1544"/>
                  </a:lnTo>
                  <a:lnTo>
                    <a:pt x="222" y="1557"/>
                  </a:lnTo>
                  <a:lnTo>
                    <a:pt x="236" y="1568"/>
                  </a:lnTo>
                  <a:lnTo>
                    <a:pt x="250" y="1579"/>
                  </a:lnTo>
                  <a:lnTo>
                    <a:pt x="264" y="1588"/>
                  </a:lnTo>
                  <a:lnTo>
                    <a:pt x="280" y="1597"/>
                  </a:lnTo>
                  <a:lnTo>
                    <a:pt x="297" y="1603"/>
                  </a:lnTo>
                  <a:lnTo>
                    <a:pt x="322" y="1610"/>
                  </a:lnTo>
                  <a:lnTo>
                    <a:pt x="348" y="1615"/>
                  </a:lnTo>
                  <a:lnTo>
                    <a:pt x="373" y="1620"/>
                  </a:lnTo>
                  <a:lnTo>
                    <a:pt x="399" y="1623"/>
                  </a:lnTo>
                  <a:lnTo>
                    <a:pt x="424" y="1625"/>
                  </a:lnTo>
                  <a:lnTo>
                    <a:pt x="449" y="1627"/>
                  </a:lnTo>
                  <a:lnTo>
                    <a:pt x="474" y="1625"/>
                  </a:lnTo>
                  <a:lnTo>
                    <a:pt x="499" y="1624"/>
                  </a:lnTo>
                  <a:lnTo>
                    <a:pt x="523" y="1622"/>
                  </a:lnTo>
                  <a:lnTo>
                    <a:pt x="548" y="1620"/>
                  </a:lnTo>
                  <a:lnTo>
                    <a:pt x="572" y="1615"/>
                  </a:lnTo>
                  <a:lnTo>
                    <a:pt x="595" y="1611"/>
                  </a:lnTo>
                  <a:lnTo>
                    <a:pt x="620" y="1605"/>
                  </a:lnTo>
                  <a:lnTo>
                    <a:pt x="643" y="1599"/>
                  </a:lnTo>
                  <a:lnTo>
                    <a:pt x="666" y="1591"/>
                  </a:lnTo>
                  <a:lnTo>
                    <a:pt x="690" y="1583"/>
                  </a:lnTo>
                  <a:lnTo>
                    <a:pt x="713" y="1575"/>
                  </a:lnTo>
                  <a:lnTo>
                    <a:pt x="735" y="1567"/>
                  </a:lnTo>
                  <a:lnTo>
                    <a:pt x="759" y="1557"/>
                  </a:lnTo>
                  <a:lnTo>
                    <a:pt x="781" y="1547"/>
                  </a:lnTo>
                  <a:lnTo>
                    <a:pt x="826" y="1526"/>
                  </a:lnTo>
                  <a:lnTo>
                    <a:pt x="871" y="1502"/>
                  </a:lnTo>
                  <a:lnTo>
                    <a:pt x="914" y="1478"/>
                  </a:lnTo>
                  <a:lnTo>
                    <a:pt x="957" y="1453"/>
                  </a:lnTo>
                  <a:lnTo>
                    <a:pt x="1000" y="1428"/>
                  </a:lnTo>
                  <a:lnTo>
                    <a:pt x="1041" y="1402"/>
                  </a:lnTo>
                  <a:lnTo>
                    <a:pt x="1046" y="1405"/>
                  </a:lnTo>
                  <a:lnTo>
                    <a:pt x="1051" y="1407"/>
                  </a:lnTo>
                  <a:lnTo>
                    <a:pt x="1055" y="1408"/>
                  </a:lnTo>
                  <a:lnTo>
                    <a:pt x="1058" y="1410"/>
                  </a:lnTo>
                  <a:lnTo>
                    <a:pt x="1063" y="1412"/>
                  </a:lnTo>
                  <a:lnTo>
                    <a:pt x="1068" y="1413"/>
                  </a:lnTo>
                  <a:lnTo>
                    <a:pt x="1073" y="1416"/>
                  </a:lnTo>
                  <a:lnTo>
                    <a:pt x="1078" y="1417"/>
                  </a:lnTo>
                  <a:lnTo>
                    <a:pt x="1088" y="1400"/>
                  </a:lnTo>
                  <a:lnTo>
                    <a:pt x="1100" y="1383"/>
                  </a:lnTo>
                  <a:lnTo>
                    <a:pt x="1111" y="1368"/>
                  </a:lnTo>
                  <a:lnTo>
                    <a:pt x="1123" y="1352"/>
                  </a:lnTo>
                  <a:lnTo>
                    <a:pt x="1135" y="1338"/>
                  </a:lnTo>
                  <a:lnTo>
                    <a:pt x="1147" y="1325"/>
                  </a:lnTo>
                  <a:lnTo>
                    <a:pt x="1162" y="1311"/>
                  </a:lnTo>
                  <a:lnTo>
                    <a:pt x="1175" y="1298"/>
                  </a:lnTo>
                  <a:lnTo>
                    <a:pt x="1189" y="1286"/>
                  </a:lnTo>
                  <a:lnTo>
                    <a:pt x="1205" y="1275"/>
                  </a:lnTo>
                  <a:lnTo>
                    <a:pt x="1221" y="1264"/>
                  </a:lnTo>
                  <a:lnTo>
                    <a:pt x="1236" y="1252"/>
                  </a:lnTo>
                  <a:lnTo>
                    <a:pt x="1253" y="1242"/>
                  </a:lnTo>
                  <a:lnTo>
                    <a:pt x="1269" y="1233"/>
                  </a:lnTo>
                  <a:lnTo>
                    <a:pt x="1286" y="1224"/>
                  </a:lnTo>
                  <a:lnTo>
                    <a:pt x="1304" y="1215"/>
                  </a:lnTo>
                  <a:lnTo>
                    <a:pt x="1338" y="1199"/>
                  </a:lnTo>
                  <a:lnTo>
                    <a:pt x="1375" y="1185"/>
                  </a:lnTo>
                  <a:lnTo>
                    <a:pt x="1413" y="1171"/>
                  </a:lnTo>
                  <a:lnTo>
                    <a:pt x="1449" y="1160"/>
                  </a:lnTo>
                  <a:lnTo>
                    <a:pt x="1488" y="1149"/>
                  </a:lnTo>
                  <a:lnTo>
                    <a:pt x="1526" y="1140"/>
                  </a:lnTo>
                  <a:lnTo>
                    <a:pt x="1564" y="1133"/>
                  </a:lnTo>
                  <a:lnTo>
                    <a:pt x="1601" y="1126"/>
                  </a:lnTo>
                  <a:lnTo>
                    <a:pt x="1595" y="1105"/>
                  </a:lnTo>
                  <a:lnTo>
                    <a:pt x="1588" y="1084"/>
                  </a:lnTo>
                  <a:lnTo>
                    <a:pt x="1582" y="1063"/>
                  </a:lnTo>
                  <a:lnTo>
                    <a:pt x="1576" y="1042"/>
                  </a:lnTo>
                  <a:lnTo>
                    <a:pt x="1566" y="999"/>
                  </a:lnTo>
                  <a:lnTo>
                    <a:pt x="1558" y="956"/>
                  </a:lnTo>
                  <a:lnTo>
                    <a:pt x="1552" y="912"/>
                  </a:lnTo>
                  <a:lnTo>
                    <a:pt x="1548" y="867"/>
                  </a:lnTo>
                  <a:lnTo>
                    <a:pt x="1546" y="823"/>
                  </a:lnTo>
                  <a:lnTo>
                    <a:pt x="1545" y="777"/>
                  </a:lnTo>
                  <a:lnTo>
                    <a:pt x="1546" y="733"/>
                  </a:lnTo>
                  <a:lnTo>
                    <a:pt x="1548" y="689"/>
                  </a:lnTo>
                  <a:lnTo>
                    <a:pt x="1552" y="643"/>
                  </a:lnTo>
                  <a:lnTo>
                    <a:pt x="1557" y="599"/>
                  </a:lnTo>
                  <a:lnTo>
                    <a:pt x="1564" y="555"/>
                  </a:lnTo>
                  <a:lnTo>
                    <a:pt x="1570" y="511"/>
                  </a:lnTo>
                  <a:lnTo>
                    <a:pt x="1579" y="468"/>
                  </a:lnTo>
                  <a:lnTo>
                    <a:pt x="1589" y="426"/>
                  </a:lnTo>
                  <a:lnTo>
                    <a:pt x="1593" y="410"/>
                  </a:lnTo>
                  <a:lnTo>
                    <a:pt x="1596" y="394"/>
                  </a:lnTo>
                  <a:lnTo>
                    <a:pt x="1600" y="381"/>
                  </a:lnTo>
                  <a:lnTo>
                    <a:pt x="1606" y="369"/>
                  </a:lnTo>
                  <a:lnTo>
                    <a:pt x="1611" y="358"/>
                  </a:lnTo>
                  <a:lnTo>
                    <a:pt x="1617" y="347"/>
                  </a:lnTo>
                  <a:lnTo>
                    <a:pt x="1623" y="337"/>
                  </a:lnTo>
                  <a:lnTo>
                    <a:pt x="1629" y="328"/>
                  </a:lnTo>
                  <a:lnTo>
                    <a:pt x="1644" y="311"/>
                  </a:lnTo>
                  <a:lnTo>
                    <a:pt x="1658" y="297"/>
                  </a:lnTo>
                  <a:lnTo>
                    <a:pt x="1674" y="285"/>
                  </a:lnTo>
                  <a:lnTo>
                    <a:pt x="1689" y="272"/>
                  </a:lnTo>
                  <a:lnTo>
                    <a:pt x="1706" y="261"/>
                  </a:lnTo>
                  <a:lnTo>
                    <a:pt x="1721" y="250"/>
                  </a:lnTo>
                  <a:lnTo>
                    <a:pt x="1737" y="238"/>
                  </a:lnTo>
                  <a:lnTo>
                    <a:pt x="1753" y="225"/>
                  </a:lnTo>
                  <a:lnTo>
                    <a:pt x="1760" y="218"/>
                  </a:lnTo>
                  <a:lnTo>
                    <a:pt x="1767" y="210"/>
                  </a:lnTo>
                  <a:lnTo>
                    <a:pt x="1774" y="201"/>
                  </a:lnTo>
                  <a:lnTo>
                    <a:pt x="1780" y="192"/>
                  </a:lnTo>
                  <a:lnTo>
                    <a:pt x="1787" y="182"/>
                  </a:lnTo>
                  <a:lnTo>
                    <a:pt x="1793" y="172"/>
                  </a:lnTo>
                  <a:lnTo>
                    <a:pt x="1798" y="160"/>
                  </a:lnTo>
                  <a:lnTo>
                    <a:pt x="1803" y="148"/>
                  </a:lnTo>
                  <a:lnTo>
                    <a:pt x="1810" y="130"/>
                  </a:lnTo>
                  <a:lnTo>
                    <a:pt x="1819" y="113"/>
                  </a:lnTo>
                  <a:lnTo>
                    <a:pt x="1828" y="96"/>
                  </a:lnTo>
                  <a:lnTo>
                    <a:pt x="1837" y="80"/>
                  </a:lnTo>
                  <a:lnTo>
                    <a:pt x="1847" y="66"/>
                  </a:lnTo>
                  <a:lnTo>
                    <a:pt x="1858" y="53"/>
                  </a:lnTo>
                  <a:lnTo>
                    <a:pt x="1869" y="40"/>
                  </a:lnTo>
                  <a:lnTo>
                    <a:pt x="1881" y="30"/>
                  </a:lnTo>
                  <a:lnTo>
                    <a:pt x="1895" y="21"/>
                  </a:lnTo>
                  <a:lnTo>
                    <a:pt x="1908" y="14"/>
                  </a:lnTo>
                  <a:lnTo>
                    <a:pt x="1922" y="8"/>
                  </a:lnTo>
                  <a:lnTo>
                    <a:pt x="1938" y="4"/>
                  </a:lnTo>
                  <a:lnTo>
                    <a:pt x="1954" y="2"/>
                  </a:lnTo>
                  <a:lnTo>
                    <a:pt x="1971" y="0"/>
                  </a:lnTo>
                  <a:lnTo>
                    <a:pt x="1989" y="3"/>
                  </a:lnTo>
                  <a:lnTo>
                    <a:pt x="2009" y="6"/>
                  </a:lnTo>
                  <a:lnTo>
                    <a:pt x="2000" y="24"/>
                  </a:lnTo>
                  <a:lnTo>
                    <a:pt x="1980" y="75"/>
                  </a:lnTo>
                  <a:lnTo>
                    <a:pt x="1967" y="111"/>
                  </a:lnTo>
                  <a:lnTo>
                    <a:pt x="1952" y="156"/>
                  </a:lnTo>
                  <a:lnTo>
                    <a:pt x="1938" y="205"/>
                  </a:lnTo>
                  <a:lnTo>
                    <a:pt x="1924" y="260"/>
                  </a:lnTo>
                  <a:lnTo>
                    <a:pt x="1917" y="290"/>
                  </a:lnTo>
                  <a:lnTo>
                    <a:pt x="1911" y="321"/>
                  </a:lnTo>
                  <a:lnTo>
                    <a:pt x="1905" y="353"/>
                  </a:lnTo>
                  <a:lnTo>
                    <a:pt x="1899" y="387"/>
                  </a:lnTo>
                  <a:lnTo>
                    <a:pt x="1895" y="420"/>
                  </a:lnTo>
                  <a:lnTo>
                    <a:pt x="1890" y="456"/>
                  </a:lnTo>
                  <a:lnTo>
                    <a:pt x="1887" y="492"/>
                  </a:lnTo>
                  <a:lnTo>
                    <a:pt x="1884" y="529"/>
                  </a:lnTo>
                  <a:lnTo>
                    <a:pt x="1882" y="567"/>
                  </a:lnTo>
                  <a:lnTo>
                    <a:pt x="1881" y="604"/>
                  </a:lnTo>
                  <a:lnTo>
                    <a:pt x="1882" y="644"/>
                  </a:lnTo>
                  <a:lnTo>
                    <a:pt x="1884" y="683"/>
                  </a:lnTo>
                  <a:lnTo>
                    <a:pt x="1887" y="723"/>
                  </a:lnTo>
                  <a:lnTo>
                    <a:pt x="1890" y="764"/>
                  </a:lnTo>
                  <a:lnTo>
                    <a:pt x="1897" y="805"/>
                  </a:lnTo>
                  <a:lnTo>
                    <a:pt x="1904" y="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4718160" y="2265480"/>
              <a:ext cx="177840" cy="333360"/>
            </a:xfrm>
            <a:custGeom>
              <a:avLst/>
              <a:gdLst/>
              <a:ahLst/>
              <a:rect l="l" t="t" r="r" b="b"/>
              <a:pathLst>
                <a:path w="560" h="1046">
                  <a:moveTo>
                    <a:pt x="44" y="916"/>
                  </a:moveTo>
                  <a:lnTo>
                    <a:pt x="48" y="921"/>
                  </a:lnTo>
                  <a:lnTo>
                    <a:pt x="53" y="923"/>
                  </a:lnTo>
                  <a:lnTo>
                    <a:pt x="56" y="925"/>
                  </a:lnTo>
                  <a:lnTo>
                    <a:pt x="61" y="925"/>
                  </a:lnTo>
                  <a:lnTo>
                    <a:pt x="64" y="925"/>
                  </a:lnTo>
                  <a:lnTo>
                    <a:pt x="67" y="925"/>
                  </a:lnTo>
                  <a:lnTo>
                    <a:pt x="71" y="923"/>
                  </a:lnTo>
                  <a:lnTo>
                    <a:pt x="73" y="922"/>
                  </a:lnTo>
                  <a:lnTo>
                    <a:pt x="78" y="915"/>
                  </a:lnTo>
                  <a:lnTo>
                    <a:pt x="84" y="908"/>
                  </a:lnTo>
                  <a:lnTo>
                    <a:pt x="88" y="899"/>
                  </a:lnTo>
                  <a:lnTo>
                    <a:pt x="92" y="888"/>
                  </a:lnTo>
                  <a:lnTo>
                    <a:pt x="98" y="867"/>
                  </a:lnTo>
                  <a:lnTo>
                    <a:pt x="104" y="847"/>
                  </a:lnTo>
                  <a:lnTo>
                    <a:pt x="106" y="839"/>
                  </a:lnTo>
                  <a:lnTo>
                    <a:pt x="108" y="833"/>
                  </a:lnTo>
                  <a:lnTo>
                    <a:pt x="111" y="830"/>
                  </a:lnTo>
                  <a:lnTo>
                    <a:pt x="113" y="829"/>
                  </a:lnTo>
                  <a:lnTo>
                    <a:pt x="114" y="838"/>
                  </a:lnTo>
                  <a:lnTo>
                    <a:pt x="116" y="845"/>
                  </a:lnTo>
                  <a:lnTo>
                    <a:pt x="117" y="853"/>
                  </a:lnTo>
                  <a:lnTo>
                    <a:pt x="119" y="862"/>
                  </a:lnTo>
                  <a:lnTo>
                    <a:pt x="121" y="871"/>
                  </a:lnTo>
                  <a:lnTo>
                    <a:pt x="122" y="881"/>
                  </a:lnTo>
                  <a:lnTo>
                    <a:pt x="124" y="893"/>
                  </a:lnTo>
                  <a:lnTo>
                    <a:pt x="125" y="906"/>
                  </a:lnTo>
                  <a:lnTo>
                    <a:pt x="125" y="913"/>
                  </a:lnTo>
                  <a:lnTo>
                    <a:pt x="126" y="920"/>
                  </a:lnTo>
                  <a:lnTo>
                    <a:pt x="127" y="926"/>
                  </a:lnTo>
                  <a:lnTo>
                    <a:pt x="129" y="933"/>
                  </a:lnTo>
                  <a:lnTo>
                    <a:pt x="135" y="945"/>
                  </a:lnTo>
                  <a:lnTo>
                    <a:pt x="143" y="956"/>
                  </a:lnTo>
                  <a:lnTo>
                    <a:pt x="152" y="968"/>
                  </a:lnTo>
                  <a:lnTo>
                    <a:pt x="164" y="978"/>
                  </a:lnTo>
                  <a:lnTo>
                    <a:pt x="176" y="986"/>
                  </a:lnTo>
                  <a:lnTo>
                    <a:pt x="189" y="995"/>
                  </a:lnTo>
                  <a:lnTo>
                    <a:pt x="217" y="1012"/>
                  </a:lnTo>
                  <a:lnTo>
                    <a:pt x="245" y="1025"/>
                  </a:lnTo>
                  <a:lnTo>
                    <a:pt x="272" y="1037"/>
                  </a:lnTo>
                  <a:lnTo>
                    <a:pt x="293" y="1046"/>
                  </a:lnTo>
                  <a:lnTo>
                    <a:pt x="303" y="1045"/>
                  </a:lnTo>
                  <a:lnTo>
                    <a:pt x="314" y="1045"/>
                  </a:lnTo>
                  <a:lnTo>
                    <a:pt x="324" y="1045"/>
                  </a:lnTo>
                  <a:lnTo>
                    <a:pt x="334" y="1044"/>
                  </a:lnTo>
                  <a:lnTo>
                    <a:pt x="343" y="1044"/>
                  </a:lnTo>
                  <a:lnTo>
                    <a:pt x="353" y="1042"/>
                  </a:lnTo>
                  <a:lnTo>
                    <a:pt x="360" y="1039"/>
                  </a:lnTo>
                  <a:lnTo>
                    <a:pt x="369" y="1033"/>
                  </a:lnTo>
                  <a:lnTo>
                    <a:pt x="372" y="992"/>
                  </a:lnTo>
                  <a:lnTo>
                    <a:pt x="376" y="952"/>
                  </a:lnTo>
                  <a:lnTo>
                    <a:pt x="382" y="913"/>
                  </a:lnTo>
                  <a:lnTo>
                    <a:pt x="389" y="874"/>
                  </a:lnTo>
                  <a:lnTo>
                    <a:pt x="397" y="837"/>
                  </a:lnTo>
                  <a:lnTo>
                    <a:pt x="407" y="799"/>
                  </a:lnTo>
                  <a:lnTo>
                    <a:pt x="417" y="761"/>
                  </a:lnTo>
                  <a:lnTo>
                    <a:pt x="428" y="723"/>
                  </a:lnTo>
                  <a:lnTo>
                    <a:pt x="450" y="649"/>
                  </a:lnTo>
                  <a:lnTo>
                    <a:pt x="473" y="575"/>
                  </a:lnTo>
                  <a:lnTo>
                    <a:pt x="483" y="537"/>
                  </a:lnTo>
                  <a:lnTo>
                    <a:pt x="493" y="499"/>
                  </a:lnTo>
                  <a:lnTo>
                    <a:pt x="502" y="461"/>
                  </a:lnTo>
                  <a:lnTo>
                    <a:pt x="509" y="423"/>
                  </a:lnTo>
                  <a:lnTo>
                    <a:pt x="516" y="409"/>
                  </a:lnTo>
                  <a:lnTo>
                    <a:pt x="525" y="396"/>
                  </a:lnTo>
                  <a:lnTo>
                    <a:pt x="535" y="383"/>
                  </a:lnTo>
                  <a:lnTo>
                    <a:pt x="544" y="369"/>
                  </a:lnTo>
                  <a:lnTo>
                    <a:pt x="548" y="363"/>
                  </a:lnTo>
                  <a:lnTo>
                    <a:pt x="551" y="356"/>
                  </a:lnTo>
                  <a:lnTo>
                    <a:pt x="555" y="349"/>
                  </a:lnTo>
                  <a:lnTo>
                    <a:pt x="558" y="342"/>
                  </a:lnTo>
                  <a:lnTo>
                    <a:pt x="559" y="334"/>
                  </a:lnTo>
                  <a:lnTo>
                    <a:pt x="560" y="326"/>
                  </a:lnTo>
                  <a:lnTo>
                    <a:pt x="560" y="317"/>
                  </a:lnTo>
                  <a:lnTo>
                    <a:pt x="559" y="308"/>
                  </a:lnTo>
                  <a:lnTo>
                    <a:pt x="554" y="299"/>
                  </a:lnTo>
                  <a:lnTo>
                    <a:pt x="549" y="288"/>
                  </a:lnTo>
                  <a:lnTo>
                    <a:pt x="546" y="276"/>
                  </a:lnTo>
                  <a:lnTo>
                    <a:pt x="541" y="265"/>
                  </a:lnTo>
                  <a:lnTo>
                    <a:pt x="539" y="259"/>
                  </a:lnTo>
                  <a:lnTo>
                    <a:pt x="536" y="255"/>
                  </a:lnTo>
                  <a:lnTo>
                    <a:pt x="533" y="250"/>
                  </a:lnTo>
                  <a:lnTo>
                    <a:pt x="529" y="247"/>
                  </a:lnTo>
                  <a:lnTo>
                    <a:pt x="525" y="244"/>
                  </a:lnTo>
                  <a:lnTo>
                    <a:pt x="520" y="243"/>
                  </a:lnTo>
                  <a:lnTo>
                    <a:pt x="515" y="242"/>
                  </a:lnTo>
                  <a:lnTo>
                    <a:pt x="509" y="243"/>
                  </a:lnTo>
                  <a:lnTo>
                    <a:pt x="484" y="279"/>
                  </a:lnTo>
                  <a:lnTo>
                    <a:pt x="460" y="317"/>
                  </a:lnTo>
                  <a:lnTo>
                    <a:pt x="439" y="354"/>
                  </a:lnTo>
                  <a:lnTo>
                    <a:pt x="419" y="391"/>
                  </a:lnTo>
                  <a:lnTo>
                    <a:pt x="402" y="429"/>
                  </a:lnTo>
                  <a:lnTo>
                    <a:pt x="385" y="467"/>
                  </a:lnTo>
                  <a:lnTo>
                    <a:pt x="369" y="506"/>
                  </a:lnTo>
                  <a:lnTo>
                    <a:pt x="355" y="546"/>
                  </a:lnTo>
                  <a:lnTo>
                    <a:pt x="342" y="586"/>
                  </a:lnTo>
                  <a:lnTo>
                    <a:pt x="330" y="627"/>
                  </a:lnTo>
                  <a:lnTo>
                    <a:pt x="318" y="669"/>
                  </a:lnTo>
                  <a:lnTo>
                    <a:pt x="308" y="712"/>
                  </a:lnTo>
                  <a:lnTo>
                    <a:pt x="298" y="757"/>
                  </a:lnTo>
                  <a:lnTo>
                    <a:pt x="288" y="802"/>
                  </a:lnTo>
                  <a:lnTo>
                    <a:pt x="279" y="850"/>
                  </a:lnTo>
                  <a:lnTo>
                    <a:pt x="271" y="899"/>
                  </a:lnTo>
                  <a:lnTo>
                    <a:pt x="242" y="877"/>
                  </a:lnTo>
                  <a:lnTo>
                    <a:pt x="239" y="869"/>
                  </a:lnTo>
                  <a:lnTo>
                    <a:pt x="238" y="860"/>
                  </a:lnTo>
                  <a:lnTo>
                    <a:pt x="237" y="849"/>
                  </a:lnTo>
                  <a:lnTo>
                    <a:pt x="237" y="837"/>
                  </a:lnTo>
                  <a:lnTo>
                    <a:pt x="237" y="809"/>
                  </a:lnTo>
                  <a:lnTo>
                    <a:pt x="239" y="777"/>
                  </a:lnTo>
                  <a:lnTo>
                    <a:pt x="243" y="740"/>
                  </a:lnTo>
                  <a:lnTo>
                    <a:pt x="248" y="700"/>
                  </a:lnTo>
                  <a:lnTo>
                    <a:pt x="254" y="658"/>
                  </a:lnTo>
                  <a:lnTo>
                    <a:pt x="261" y="613"/>
                  </a:lnTo>
                  <a:lnTo>
                    <a:pt x="275" y="522"/>
                  </a:lnTo>
                  <a:lnTo>
                    <a:pt x="291" y="431"/>
                  </a:lnTo>
                  <a:lnTo>
                    <a:pt x="305" y="345"/>
                  </a:lnTo>
                  <a:lnTo>
                    <a:pt x="316" y="269"/>
                  </a:lnTo>
                  <a:lnTo>
                    <a:pt x="298" y="269"/>
                  </a:lnTo>
                  <a:lnTo>
                    <a:pt x="283" y="270"/>
                  </a:lnTo>
                  <a:lnTo>
                    <a:pt x="268" y="273"/>
                  </a:lnTo>
                  <a:lnTo>
                    <a:pt x="256" y="276"/>
                  </a:lnTo>
                  <a:lnTo>
                    <a:pt x="245" y="280"/>
                  </a:lnTo>
                  <a:lnTo>
                    <a:pt x="235" y="287"/>
                  </a:lnTo>
                  <a:lnTo>
                    <a:pt x="226" y="296"/>
                  </a:lnTo>
                  <a:lnTo>
                    <a:pt x="217" y="306"/>
                  </a:lnTo>
                  <a:lnTo>
                    <a:pt x="209" y="318"/>
                  </a:lnTo>
                  <a:lnTo>
                    <a:pt x="201" y="334"/>
                  </a:lnTo>
                  <a:lnTo>
                    <a:pt x="192" y="351"/>
                  </a:lnTo>
                  <a:lnTo>
                    <a:pt x="183" y="371"/>
                  </a:lnTo>
                  <a:lnTo>
                    <a:pt x="162" y="420"/>
                  </a:lnTo>
                  <a:lnTo>
                    <a:pt x="136" y="484"/>
                  </a:lnTo>
                  <a:lnTo>
                    <a:pt x="134" y="469"/>
                  </a:lnTo>
                  <a:lnTo>
                    <a:pt x="132" y="456"/>
                  </a:lnTo>
                  <a:lnTo>
                    <a:pt x="131" y="441"/>
                  </a:lnTo>
                  <a:lnTo>
                    <a:pt x="131" y="426"/>
                  </a:lnTo>
                  <a:lnTo>
                    <a:pt x="133" y="396"/>
                  </a:lnTo>
                  <a:lnTo>
                    <a:pt x="136" y="364"/>
                  </a:lnTo>
                  <a:lnTo>
                    <a:pt x="142" y="332"/>
                  </a:lnTo>
                  <a:lnTo>
                    <a:pt x="148" y="299"/>
                  </a:lnTo>
                  <a:lnTo>
                    <a:pt x="157" y="266"/>
                  </a:lnTo>
                  <a:lnTo>
                    <a:pt x="166" y="234"/>
                  </a:lnTo>
                  <a:lnTo>
                    <a:pt x="185" y="172"/>
                  </a:lnTo>
                  <a:lnTo>
                    <a:pt x="204" y="115"/>
                  </a:lnTo>
                  <a:lnTo>
                    <a:pt x="212" y="90"/>
                  </a:lnTo>
                  <a:lnTo>
                    <a:pt x="219" y="66"/>
                  </a:lnTo>
                  <a:lnTo>
                    <a:pt x="225" y="46"/>
                  </a:lnTo>
                  <a:lnTo>
                    <a:pt x="229" y="28"/>
                  </a:lnTo>
                  <a:lnTo>
                    <a:pt x="202" y="3"/>
                  </a:lnTo>
                  <a:lnTo>
                    <a:pt x="189" y="1"/>
                  </a:lnTo>
                  <a:lnTo>
                    <a:pt x="178" y="0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1"/>
                  </a:lnTo>
                  <a:lnTo>
                    <a:pt x="153" y="2"/>
                  </a:lnTo>
                  <a:lnTo>
                    <a:pt x="146" y="5"/>
                  </a:lnTo>
                  <a:lnTo>
                    <a:pt x="141" y="9"/>
                  </a:lnTo>
                  <a:lnTo>
                    <a:pt x="134" y="13"/>
                  </a:lnTo>
                  <a:lnTo>
                    <a:pt x="127" y="18"/>
                  </a:lnTo>
                  <a:lnTo>
                    <a:pt x="121" y="25"/>
                  </a:lnTo>
                  <a:lnTo>
                    <a:pt x="115" y="33"/>
                  </a:lnTo>
                  <a:lnTo>
                    <a:pt x="108" y="43"/>
                  </a:lnTo>
                  <a:lnTo>
                    <a:pt x="102" y="55"/>
                  </a:lnTo>
                  <a:lnTo>
                    <a:pt x="93" y="73"/>
                  </a:lnTo>
                  <a:lnTo>
                    <a:pt x="85" y="94"/>
                  </a:lnTo>
                  <a:lnTo>
                    <a:pt x="76" y="117"/>
                  </a:lnTo>
                  <a:lnTo>
                    <a:pt x="68" y="142"/>
                  </a:lnTo>
                  <a:lnTo>
                    <a:pt x="61" y="168"/>
                  </a:lnTo>
                  <a:lnTo>
                    <a:pt x="54" y="196"/>
                  </a:lnTo>
                  <a:lnTo>
                    <a:pt x="47" y="225"/>
                  </a:lnTo>
                  <a:lnTo>
                    <a:pt x="41" y="256"/>
                  </a:lnTo>
                  <a:lnTo>
                    <a:pt x="30" y="319"/>
                  </a:lnTo>
                  <a:lnTo>
                    <a:pt x="20" y="387"/>
                  </a:lnTo>
                  <a:lnTo>
                    <a:pt x="12" y="455"/>
                  </a:lnTo>
                  <a:lnTo>
                    <a:pt x="5" y="524"/>
                  </a:lnTo>
                  <a:lnTo>
                    <a:pt x="2" y="591"/>
                  </a:lnTo>
                  <a:lnTo>
                    <a:pt x="0" y="656"/>
                  </a:lnTo>
                  <a:lnTo>
                    <a:pt x="0" y="687"/>
                  </a:lnTo>
                  <a:lnTo>
                    <a:pt x="1" y="717"/>
                  </a:lnTo>
                  <a:lnTo>
                    <a:pt x="2" y="746"/>
                  </a:lnTo>
                  <a:lnTo>
                    <a:pt x="4" y="772"/>
                  </a:lnTo>
                  <a:lnTo>
                    <a:pt x="6" y="798"/>
                  </a:lnTo>
                  <a:lnTo>
                    <a:pt x="10" y="822"/>
                  </a:lnTo>
                  <a:lnTo>
                    <a:pt x="14" y="843"/>
                  </a:lnTo>
                  <a:lnTo>
                    <a:pt x="18" y="863"/>
                  </a:lnTo>
                  <a:lnTo>
                    <a:pt x="24" y="881"/>
                  </a:lnTo>
                  <a:lnTo>
                    <a:pt x="30" y="895"/>
                  </a:lnTo>
                  <a:lnTo>
                    <a:pt x="36" y="908"/>
                  </a:lnTo>
                  <a:lnTo>
                    <a:pt x="44" y="9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4129200" y="2290680"/>
              <a:ext cx="342720" cy="412920"/>
            </a:xfrm>
            <a:custGeom>
              <a:avLst/>
              <a:gdLst/>
              <a:ahLst/>
              <a:rect l="l" t="t" r="r" b="b"/>
              <a:pathLst>
                <a:path w="1079" h="1296">
                  <a:moveTo>
                    <a:pt x="1063" y="0"/>
                  </a:moveTo>
                  <a:lnTo>
                    <a:pt x="1070" y="31"/>
                  </a:lnTo>
                  <a:lnTo>
                    <a:pt x="1075" y="63"/>
                  </a:lnTo>
                  <a:lnTo>
                    <a:pt x="1077" y="96"/>
                  </a:lnTo>
                  <a:lnTo>
                    <a:pt x="1079" y="129"/>
                  </a:lnTo>
                  <a:lnTo>
                    <a:pt x="1077" y="163"/>
                  </a:lnTo>
                  <a:lnTo>
                    <a:pt x="1074" y="197"/>
                  </a:lnTo>
                  <a:lnTo>
                    <a:pt x="1069" y="232"/>
                  </a:lnTo>
                  <a:lnTo>
                    <a:pt x="1062" y="266"/>
                  </a:lnTo>
                  <a:lnTo>
                    <a:pt x="1054" y="300"/>
                  </a:lnTo>
                  <a:lnTo>
                    <a:pt x="1043" y="335"/>
                  </a:lnTo>
                  <a:lnTo>
                    <a:pt x="1032" y="369"/>
                  </a:lnTo>
                  <a:lnTo>
                    <a:pt x="1019" y="404"/>
                  </a:lnTo>
                  <a:lnTo>
                    <a:pt x="1003" y="437"/>
                  </a:lnTo>
                  <a:lnTo>
                    <a:pt x="986" y="471"/>
                  </a:lnTo>
                  <a:lnTo>
                    <a:pt x="969" y="505"/>
                  </a:lnTo>
                  <a:lnTo>
                    <a:pt x="950" y="537"/>
                  </a:lnTo>
                  <a:lnTo>
                    <a:pt x="930" y="569"/>
                  </a:lnTo>
                  <a:lnTo>
                    <a:pt x="909" y="601"/>
                  </a:lnTo>
                  <a:lnTo>
                    <a:pt x="885" y="631"/>
                  </a:lnTo>
                  <a:lnTo>
                    <a:pt x="862" y="661"/>
                  </a:lnTo>
                  <a:lnTo>
                    <a:pt x="838" y="691"/>
                  </a:lnTo>
                  <a:lnTo>
                    <a:pt x="812" y="719"/>
                  </a:lnTo>
                  <a:lnTo>
                    <a:pt x="785" y="745"/>
                  </a:lnTo>
                  <a:lnTo>
                    <a:pt x="758" y="771"/>
                  </a:lnTo>
                  <a:lnTo>
                    <a:pt x="730" y="795"/>
                  </a:lnTo>
                  <a:lnTo>
                    <a:pt x="701" y="819"/>
                  </a:lnTo>
                  <a:lnTo>
                    <a:pt x="671" y="841"/>
                  </a:lnTo>
                  <a:lnTo>
                    <a:pt x="641" y="861"/>
                  </a:lnTo>
                  <a:lnTo>
                    <a:pt x="611" y="880"/>
                  </a:lnTo>
                  <a:lnTo>
                    <a:pt x="580" y="898"/>
                  </a:lnTo>
                  <a:lnTo>
                    <a:pt x="549" y="913"/>
                  </a:lnTo>
                  <a:lnTo>
                    <a:pt x="517" y="926"/>
                  </a:lnTo>
                  <a:lnTo>
                    <a:pt x="529" y="947"/>
                  </a:lnTo>
                  <a:lnTo>
                    <a:pt x="541" y="966"/>
                  </a:lnTo>
                  <a:lnTo>
                    <a:pt x="554" y="983"/>
                  </a:lnTo>
                  <a:lnTo>
                    <a:pt x="567" y="996"/>
                  </a:lnTo>
                  <a:lnTo>
                    <a:pt x="580" y="1007"/>
                  </a:lnTo>
                  <a:lnTo>
                    <a:pt x="593" y="1016"/>
                  </a:lnTo>
                  <a:lnTo>
                    <a:pt x="607" y="1024"/>
                  </a:lnTo>
                  <a:lnTo>
                    <a:pt x="620" y="1030"/>
                  </a:lnTo>
                  <a:lnTo>
                    <a:pt x="633" y="1034"/>
                  </a:lnTo>
                  <a:lnTo>
                    <a:pt x="647" y="1037"/>
                  </a:lnTo>
                  <a:lnTo>
                    <a:pt x="660" y="1040"/>
                  </a:lnTo>
                  <a:lnTo>
                    <a:pt x="672" y="1042"/>
                  </a:lnTo>
                  <a:lnTo>
                    <a:pt x="697" y="1045"/>
                  </a:lnTo>
                  <a:lnTo>
                    <a:pt x="720" y="1047"/>
                  </a:lnTo>
                  <a:lnTo>
                    <a:pt x="755" y="1043"/>
                  </a:lnTo>
                  <a:lnTo>
                    <a:pt x="788" y="1037"/>
                  </a:lnTo>
                  <a:lnTo>
                    <a:pt x="817" y="1032"/>
                  </a:lnTo>
                  <a:lnTo>
                    <a:pt x="842" y="1025"/>
                  </a:lnTo>
                  <a:lnTo>
                    <a:pt x="865" y="1019"/>
                  </a:lnTo>
                  <a:lnTo>
                    <a:pt x="885" y="1013"/>
                  </a:lnTo>
                  <a:lnTo>
                    <a:pt x="903" y="1006"/>
                  </a:lnTo>
                  <a:lnTo>
                    <a:pt x="920" y="999"/>
                  </a:lnTo>
                  <a:lnTo>
                    <a:pt x="946" y="985"/>
                  </a:lnTo>
                  <a:lnTo>
                    <a:pt x="970" y="972"/>
                  </a:lnTo>
                  <a:lnTo>
                    <a:pt x="990" y="960"/>
                  </a:lnTo>
                  <a:lnTo>
                    <a:pt x="1010" y="949"/>
                  </a:lnTo>
                  <a:lnTo>
                    <a:pt x="1013" y="1003"/>
                  </a:lnTo>
                  <a:lnTo>
                    <a:pt x="943" y="1051"/>
                  </a:lnTo>
                  <a:lnTo>
                    <a:pt x="878" y="1093"/>
                  </a:lnTo>
                  <a:lnTo>
                    <a:pt x="814" y="1132"/>
                  </a:lnTo>
                  <a:lnTo>
                    <a:pt x="753" y="1165"/>
                  </a:lnTo>
                  <a:lnTo>
                    <a:pt x="697" y="1194"/>
                  </a:lnTo>
                  <a:lnTo>
                    <a:pt x="641" y="1219"/>
                  </a:lnTo>
                  <a:lnTo>
                    <a:pt x="590" y="1241"/>
                  </a:lnTo>
                  <a:lnTo>
                    <a:pt x="540" y="1257"/>
                  </a:lnTo>
                  <a:lnTo>
                    <a:pt x="493" y="1272"/>
                  </a:lnTo>
                  <a:lnTo>
                    <a:pt x="450" y="1282"/>
                  </a:lnTo>
                  <a:lnTo>
                    <a:pt x="408" y="1289"/>
                  </a:lnTo>
                  <a:lnTo>
                    <a:pt x="369" y="1294"/>
                  </a:lnTo>
                  <a:lnTo>
                    <a:pt x="332" y="1296"/>
                  </a:lnTo>
                  <a:lnTo>
                    <a:pt x="298" y="1295"/>
                  </a:lnTo>
                  <a:lnTo>
                    <a:pt x="266" y="1293"/>
                  </a:lnTo>
                  <a:lnTo>
                    <a:pt x="236" y="1287"/>
                  </a:lnTo>
                  <a:lnTo>
                    <a:pt x="208" y="1280"/>
                  </a:lnTo>
                  <a:lnTo>
                    <a:pt x="182" y="1273"/>
                  </a:lnTo>
                  <a:lnTo>
                    <a:pt x="159" y="1263"/>
                  </a:lnTo>
                  <a:lnTo>
                    <a:pt x="137" y="1252"/>
                  </a:lnTo>
                  <a:lnTo>
                    <a:pt x="118" y="1239"/>
                  </a:lnTo>
                  <a:lnTo>
                    <a:pt x="99" y="1227"/>
                  </a:lnTo>
                  <a:lnTo>
                    <a:pt x="84" y="1214"/>
                  </a:lnTo>
                  <a:lnTo>
                    <a:pt x="69" y="1199"/>
                  </a:lnTo>
                  <a:lnTo>
                    <a:pt x="57" y="1186"/>
                  </a:lnTo>
                  <a:lnTo>
                    <a:pt x="46" y="1172"/>
                  </a:lnTo>
                  <a:lnTo>
                    <a:pt x="37" y="1158"/>
                  </a:lnTo>
                  <a:lnTo>
                    <a:pt x="29" y="1145"/>
                  </a:lnTo>
                  <a:lnTo>
                    <a:pt x="22" y="1133"/>
                  </a:lnTo>
                  <a:lnTo>
                    <a:pt x="17" y="1121"/>
                  </a:lnTo>
                  <a:lnTo>
                    <a:pt x="14" y="1111"/>
                  </a:lnTo>
                  <a:lnTo>
                    <a:pt x="11" y="1101"/>
                  </a:lnTo>
                  <a:lnTo>
                    <a:pt x="6" y="1075"/>
                  </a:lnTo>
                  <a:lnTo>
                    <a:pt x="1" y="1051"/>
                  </a:lnTo>
                  <a:lnTo>
                    <a:pt x="0" y="1027"/>
                  </a:lnTo>
                  <a:lnTo>
                    <a:pt x="0" y="1005"/>
                  </a:lnTo>
                  <a:lnTo>
                    <a:pt x="2" y="983"/>
                  </a:lnTo>
                  <a:lnTo>
                    <a:pt x="6" y="962"/>
                  </a:lnTo>
                  <a:lnTo>
                    <a:pt x="11" y="942"/>
                  </a:lnTo>
                  <a:lnTo>
                    <a:pt x="18" y="922"/>
                  </a:lnTo>
                  <a:lnTo>
                    <a:pt x="26" y="903"/>
                  </a:lnTo>
                  <a:lnTo>
                    <a:pt x="36" y="885"/>
                  </a:lnTo>
                  <a:lnTo>
                    <a:pt x="47" y="868"/>
                  </a:lnTo>
                  <a:lnTo>
                    <a:pt x="59" y="850"/>
                  </a:lnTo>
                  <a:lnTo>
                    <a:pt x="71" y="834"/>
                  </a:lnTo>
                  <a:lnTo>
                    <a:pt x="86" y="818"/>
                  </a:lnTo>
                  <a:lnTo>
                    <a:pt x="101" y="802"/>
                  </a:lnTo>
                  <a:lnTo>
                    <a:pt x="117" y="787"/>
                  </a:lnTo>
                  <a:lnTo>
                    <a:pt x="150" y="757"/>
                  </a:lnTo>
                  <a:lnTo>
                    <a:pt x="186" y="729"/>
                  </a:lnTo>
                  <a:lnTo>
                    <a:pt x="223" y="701"/>
                  </a:lnTo>
                  <a:lnTo>
                    <a:pt x="260" y="673"/>
                  </a:lnTo>
                  <a:lnTo>
                    <a:pt x="298" y="646"/>
                  </a:lnTo>
                  <a:lnTo>
                    <a:pt x="335" y="618"/>
                  </a:lnTo>
                  <a:lnTo>
                    <a:pt x="352" y="603"/>
                  </a:lnTo>
                  <a:lnTo>
                    <a:pt x="370" y="589"/>
                  </a:lnTo>
                  <a:lnTo>
                    <a:pt x="387" y="575"/>
                  </a:lnTo>
                  <a:lnTo>
                    <a:pt x="402" y="560"/>
                  </a:lnTo>
                  <a:lnTo>
                    <a:pt x="401" y="553"/>
                  </a:lnTo>
                  <a:lnTo>
                    <a:pt x="401" y="547"/>
                  </a:lnTo>
                  <a:lnTo>
                    <a:pt x="402" y="540"/>
                  </a:lnTo>
                  <a:lnTo>
                    <a:pt x="406" y="533"/>
                  </a:lnTo>
                  <a:lnTo>
                    <a:pt x="409" y="528"/>
                  </a:lnTo>
                  <a:lnTo>
                    <a:pt x="413" y="522"/>
                  </a:lnTo>
                  <a:lnTo>
                    <a:pt x="419" y="517"/>
                  </a:lnTo>
                  <a:lnTo>
                    <a:pt x="424" y="512"/>
                  </a:lnTo>
                  <a:lnTo>
                    <a:pt x="439" y="503"/>
                  </a:lnTo>
                  <a:lnTo>
                    <a:pt x="453" y="496"/>
                  </a:lnTo>
                  <a:lnTo>
                    <a:pt x="470" y="490"/>
                  </a:lnTo>
                  <a:lnTo>
                    <a:pt x="486" y="487"/>
                  </a:lnTo>
                  <a:lnTo>
                    <a:pt x="492" y="487"/>
                  </a:lnTo>
                  <a:lnTo>
                    <a:pt x="500" y="487"/>
                  </a:lnTo>
                  <a:lnTo>
                    <a:pt x="506" y="487"/>
                  </a:lnTo>
                  <a:lnTo>
                    <a:pt x="512" y="489"/>
                  </a:lnTo>
                  <a:lnTo>
                    <a:pt x="517" y="491"/>
                  </a:lnTo>
                  <a:lnTo>
                    <a:pt x="521" y="493"/>
                  </a:lnTo>
                  <a:lnTo>
                    <a:pt x="524" y="497"/>
                  </a:lnTo>
                  <a:lnTo>
                    <a:pt x="527" y="501"/>
                  </a:lnTo>
                  <a:lnTo>
                    <a:pt x="527" y="507"/>
                  </a:lnTo>
                  <a:lnTo>
                    <a:pt x="527" y="513"/>
                  </a:lnTo>
                  <a:lnTo>
                    <a:pt x="524" y="520"/>
                  </a:lnTo>
                  <a:lnTo>
                    <a:pt x="521" y="528"/>
                  </a:lnTo>
                  <a:lnTo>
                    <a:pt x="516" y="537"/>
                  </a:lnTo>
                  <a:lnTo>
                    <a:pt x="509" y="547"/>
                  </a:lnTo>
                  <a:lnTo>
                    <a:pt x="500" y="558"/>
                  </a:lnTo>
                  <a:lnTo>
                    <a:pt x="489" y="570"/>
                  </a:lnTo>
                  <a:lnTo>
                    <a:pt x="481" y="602"/>
                  </a:lnTo>
                  <a:lnTo>
                    <a:pt x="471" y="634"/>
                  </a:lnTo>
                  <a:lnTo>
                    <a:pt x="462" y="667"/>
                  </a:lnTo>
                  <a:lnTo>
                    <a:pt x="454" y="700"/>
                  </a:lnTo>
                  <a:lnTo>
                    <a:pt x="452" y="715"/>
                  </a:lnTo>
                  <a:lnTo>
                    <a:pt x="450" y="732"/>
                  </a:lnTo>
                  <a:lnTo>
                    <a:pt x="450" y="748"/>
                  </a:lnTo>
                  <a:lnTo>
                    <a:pt x="450" y="763"/>
                  </a:lnTo>
                  <a:lnTo>
                    <a:pt x="451" y="779"/>
                  </a:lnTo>
                  <a:lnTo>
                    <a:pt x="454" y="794"/>
                  </a:lnTo>
                  <a:lnTo>
                    <a:pt x="460" y="809"/>
                  </a:lnTo>
                  <a:lnTo>
                    <a:pt x="466" y="824"/>
                  </a:lnTo>
                  <a:lnTo>
                    <a:pt x="488" y="819"/>
                  </a:lnTo>
                  <a:lnTo>
                    <a:pt x="510" y="812"/>
                  </a:lnTo>
                  <a:lnTo>
                    <a:pt x="532" y="803"/>
                  </a:lnTo>
                  <a:lnTo>
                    <a:pt x="554" y="792"/>
                  </a:lnTo>
                  <a:lnTo>
                    <a:pt x="578" y="780"/>
                  </a:lnTo>
                  <a:lnTo>
                    <a:pt x="600" y="765"/>
                  </a:lnTo>
                  <a:lnTo>
                    <a:pt x="622" y="750"/>
                  </a:lnTo>
                  <a:lnTo>
                    <a:pt x="644" y="733"/>
                  </a:lnTo>
                  <a:lnTo>
                    <a:pt x="667" y="714"/>
                  </a:lnTo>
                  <a:lnTo>
                    <a:pt x="689" y="694"/>
                  </a:lnTo>
                  <a:lnTo>
                    <a:pt x="710" y="673"/>
                  </a:lnTo>
                  <a:lnTo>
                    <a:pt x="731" y="651"/>
                  </a:lnTo>
                  <a:lnTo>
                    <a:pt x="752" y="627"/>
                  </a:lnTo>
                  <a:lnTo>
                    <a:pt x="772" y="602"/>
                  </a:lnTo>
                  <a:lnTo>
                    <a:pt x="791" y="577"/>
                  </a:lnTo>
                  <a:lnTo>
                    <a:pt x="810" y="551"/>
                  </a:lnTo>
                  <a:lnTo>
                    <a:pt x="829" y="523"/>
                  </a:lnTo>
                  <a:lnTo>
                    <a:pt x="845" y="496"/>
                  </a:lnTo>
                  <a:lnTo>
                    <a:pt x="862" y="467"/>
                  </a:lnTo>
                  <a:lnTo>
                    <a:pt x="878" y="438"/>
                  </a:lnTo>
                  <a:lnTo>
                    <a:pt x="891" y="409"/>
                  </a:lnTo>
                  <a:lnTo>
                    <a:pt x="904" y="379"/>
                  </a:lnTo>
                  <a:lnTo>
                    <a:pt x="916" y="349"/>
                  </a:lnTo>
                  <a:lnTo>
                    <a:pt x="928" y="318"/>
                  </a:lnTo>
                  <a:lnTo>
                    <a:pt x="938" y="288"/>
                  </a:lnTo>
                  <a:lnTo>
                    <a:pt x="945" y="257"/>
                  </a:lnTo>
                  <a:lnTo>
                    <a:pt x="952" y="226"/>
                  </a:lnTo>
                  <a:lnTo>
                    <a:pt x="958" y="196"/>
                  </a:lnTo>
                  <a:lnTo>
                    <a:pt x="961" y="165"/>
                  </a:lnTo>
                  <a:lnTo>
                    <a:pt x="963" y="135"/>
                  </a:lnTo>
                  <a:lnTo>
                    <a:pt x="963" y="105"/>
                  </a:lnTo>
                  <a:lnTo>
                    <a:pt x="962" y="76"/>
                  </a:lnTo>
                  <a:lnTo>
                    <a:pt x="965" y="67"/>
                  </a:lnTo>
                  <a:lnTo>
                    <a:pt x="969" y="59"/>
                  </a:lnTo>
                  <a:lnTo>
                    <a:pt x="973" y="53"/>
                  </a:lnTo>
                  <a:lnTo>
                    <a:pt x="979" y="46"/>
                  </a:lnTo>
                  <a:lnTo>
                    <a:pt x="984" y="40"/>
                  </a:lnTo>
                  <a:lnTo>
                    <a:pt x="990" y="34"/>
                  </a:lnTo>
                  <a:lnTo>
                    <a:pt x="996" y="30"/>
                  </a:lnTo>
                  <a:lnTo>
                    <a:pt x="1003" y="24"/>
                  </a:lnTo>
                  <a:lnTo>
                    <a:pt x="1018" y="16"/>
                  </a:lnTo>
                  <a:lnTo>
                    <a:pt x="1032" y="10"/>
                  </a:lnTo>
                  <a:lnTo>
                    <a:pt x="1048" y="4"/>
                  </a:lnTo>
                  <a:lnTo>
                    <a:pt x="10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4937040" y="2306520"/>
              <a:ext cx="119160" cy="227160"/>
            </a:xfrm>
            <a:custGeom>
              <a:avLst/>
              <a:gdLst/>
              <a:ahLst/>
              <a:rect l="l" t="t" r="r" b="b"/>
              <a:pathLst>
                <a:path w="374" h="714">
                  <a:moveTo>
                    <a:pt x="97" y="39"/>
                  </a:moveTo>
                  <a:lnTo>
                    <a:pt x="105" y="79"/>
                  </a:lnTo>
                  <a:lnTo>
                    <a:pt x="116" y="120"/>
                  </a:lnTo>
                  <a:lnTo>
                    <a:pt x="128" y="163"/>
                  </a:lnTo>
                  <a:lnTo>
                    <a:pt x="142" y="207"/>
                  </a:lnTo>
                  <a:lnTo>
                    <a:pt x="156" y="251"/>
                  </a:lnTo>
                  <a:lnTo>
                    <a:pt x="173" y="296"/>
                  </a:lnTo>
                  <a:lnTo>
                    <a:pt x="189" y="341"/>
                  </a:lnTo>
                  <a:lnTo>
                    <a:pt x="208" y="387"/>
                  </a:lnTo>
                  <a:lnTo>
                    <a:pt x="227" y="431"/>
                  </a:lnTo>
                  <a:lnTo>
                    <a:pt x="247" y="476"/>
                  </a:lnTo>
                  <a:lnTo>
                    <a:pt x="267" y="519"/>
                  </a:lnTo>
                  <a:lnTo>
                    <a:pt x="288" y="562"/>
                  </a:lnTo>
                  <a:lnTo>
                    <a:pt x="309" y="602"/>
                  </a:lnTo>
                  <a:lnTo>
                    <a:pt x="330" y="642"/>
                  </a:lnTo>
                  <a:lnTo>
                    <a:pt x="353" y="679"/>
                  </a:lnTo>
                  <a:lnTo>
                    <a:pt x="374" y="714"/>
                  </a:lnTo>
                  <a:lnTo>
                    <a:pt x="369" y="714"/>
                  </a:lnTo>
                  <a:lnTo>
                    <a:pt x="364" y="711"/>
                  </a:lnTo>
                  <a:lnTo>
                    <a:pt x="356" y="705"/>
                  </a:lnTo>
                  <a:lnTo>
                    <a:pt x="346" y="699"/>
                  </a:lnTo>
                  <a:lnTo>
                    <a:pt x="322" y="680"/>
                  </a:lnTo>
                  <a:lnTo>
                    <a:pt x="295" y="655"/>
                  </a:lnTo>
                  <a:lnTo>
                    <a:pt x="265" y="629"/>
                  </a:lnTo>
                  <a:lnTo>
                    <a:pt x="235" y="602"/>
                  </a:lnTo>
                  <a:lnTo>
                    <a:pt x="206" y="577"/>
                  </a:lnTo>
                  <a:lnTo>
                    <a:pt x="181" y="554"/>
                  </a:lnTo>
                  <a:lnTo>
                    <a:pt x="157" y="526"/>
                  </a:lnTo>
                  <a:lnTo>
                    <a:pt x="134" y="496"/>
                  </a:lnTo>
                  <a:lnTo>
                    <a:pt x="112" y="464"/>
                  </a:lnTo>
                  <a:lnTo>
                    <a:pt x="92" y="432"/>
                  </a:lnTo>
                  <a:lnTo>
                    <a:pt x="73" y="400"/>
                  </a:lnTo>
                  <a:lnTo>
                    <a:pt x="56" y="366"/>
                  </a:lnTo>
                  <a:lnTo>
                    <a:pt x="41" y="331"/>
                  </a:lnTo>
                  <a:lnTo>
                    <a:pt x="27" y="296"/>
                  </a:lnTo>
                  <a:lnTo>
                    <a:pt x="22" y="278"/>
                  </a:lnTo>
                  <a:lnTo>
                    <a:pt x="17" y="260"/>
                  </a:lnTo>
                  <a:lnTo>
                    <a:pt x="13" y="241"/>
                  </a:lnTo>
                  <a:lnTo>
                    <a:pt x="8" y="224"/>
                  </a:lnTo>
                  <a:lnTo>
                    <a:pt x="5" y="205"/>
                  </a:lnTo>
                  <a:lnTo>
                    <a:pt x="3" y="187"/>
                  </a:lnTo>
                  <a:lnTo>
                    <a:pt x="2" y="168"/>
                  </a:lnTo>
                  <a:lnTo>
                    <a:pt x="1" y="150"/>
                  </a:lnTo>
                  <a:lnTo>
                    <a:pt x="0" y="131"/>
                  </a:lnTo>
                  <a:lnTo>
                    <a:pt x="1" y="113"/>
                  </a:lnTo>
                  <a:lnTo>
                    <a:pt x="2" y="94"/>
                  </a:lnTo>
                  <a:lnTo>
                    <a:pt x="3" y="75"/>
                  </a:lnTo>
                  <a:lnTo>
                    <a:pt x="6" y="57"/>
                  </a:lnTo>
                  <a:lnTo>
                    <a:pt x="10" y="38"/>
                  </a:lnTo>
                  <a:lnTo>
                    <a:pt x="14" y="19"/>
                  </a:lnTo>
                  <a:lnTo>
                    <a:pt x="20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3"/>
                  </a:lnTo>
                  <a:lnTo>
                    <a:pt x="67" y="6"/>
                  </a:lnTo>
                  <a:lnTo>
                    <a:pt x="73" y="8"/>
                  </a:lnTo>
                  <a:lnTo>
                    <a:pt x="78" y="10"/>
                  </a:lnTo>
                  <a:lnTo>
                    <a:pt x="83" y="14"/>
                  </a:lnTo>
                  <a:lnTo>
                    <a:pt x="86" y="18"/>
                  </a:lnTo>
                  <a:lnTo>
                    <a:pt x="89" y="23"/>
                  </a:lnTo>
                  <a:lnTo>
                    <a:pt x="93" y="27"/>
                  </a:lnTo>
                  <a:lnTo>
                    <a:pt x="95" y="34"/>
                  </a:lnTo>
                  <a:lnTo>
                    <a:pt x="97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5270400" y="2524320"/>
              <a:ext cx="38160" cy="274320"/>
            </a:xfrm>
            <a:custGeom>
              <a:avLst/>
              <a:gdLst/>
              <a:ahLst/>
              <a:rect l="l" t="t" r="r" b="b"/>
              <a:pathLst>
                <a:path w="120" h="869">
                  <a:moveTo>
                    <a:pt x="78" y="69"/>
                  </a:moveTo>
                  <a:lnTo>
                    <a:pt x="88" y="117"/>
                  </a:lnTo>
                  <a:lnTo>
                    <a:pt x="97" y="163"/>
                  </a:lnTo>
                  <a:lnTo>
                    <a:pt x="103" y="209"/>
                  </a:lnTo>
                  <a:lnTo>
                    <a:pt x="110" y="253"/>
                  </a:lnTo>
                  <a:lnTo>
                    <a:pt x="114" y="298"/>
                  </a:lnTo>
                  <a:lnTo>
                    <a:pt x="118" y="341"/>
                  </a:lnTo>
                  <a:lnTo>
                    <a:pt x="120" y="385"/>
                  </a:lnTo>
                  <a:lnTo>
                    <a:pt x="120" y="430"/>
                  </a:lnTo>
                  <a:lnTo>
                    <a:pt x="120" y="476"/>
                  </a:lnTo>
                  <a:lnTo>
                    <a:pt x="117" y="524"/>
                  </a:lnTo>
                  <a:lnTo>
                    <a:pt x="113" y="574"/>
                  </a:lnTo>
                  <a:lnTo>
                    <a:pt x="108" y="626"/>
                  </a:lnTo>
                  <a:lnTo>
                    <a:pt x="101" y="682"/>
                  </a:lnTo>
                  <a:lnTo>
                    <a:pt x="92" y="740"/>
                  </a:lnTo>
                  <a:lnTo>
                    <a:pt x="82" y="803"/>
                  </a:lnTo>
                  <a:lnTo>
                    <a:pt x="71" y="869"/>
                  </a:lnTo>
                  <a:lnTo>
                    <a:pt x="59" y="869"/>
                  </a:lnTo>
                  <a:lnTo>
                    <a:pt x="50" y="868"/>
                  </a:lnTo>
                  <a:lnTo>
                    <a:pt x="42" y="866"/>
                  </a:lnTo>
                  <a:lnTo>
                    <a:pt x="37" y="861"/>
                  </a:lnTo>
                  <a:lnTo>
                    <a:pt x="32" y="857"/>
                  </a:lnTo>
                  <a:lnTo>
                    <a:pt x="30" y="851"/>
                  </a:lnTo>
                  <a:lnTo>
                    <a:pt x="28" y="845"/>
                  </a:lnTo>
                  <a:lnTo>
                    <a:pt x="27" y="838"/>
                  </a:lnTo>
                  <a:lnTo>
                    <a:pt x="25" y="824"/>
                  </a:lnTo>
                  <a:lnTo>
                    <a:pt x="21" y="809"/>
                  </a:lnTo>
                  <a:lnTo>
                    <a:pt x="18" y="804"/>
                  </a:lnTo>
                  <a:lnTo>
                    <a:pt x="13" y="798"/>
                  </a:lnTo>
                  <a:lnTo>
                    <a:pt x="8" y="793"/>
                  </a:lnTo>
                  <a:lnTo>
                    <a:pt x="0" y="789"/>
                  </a:lnTo>
                  <a:lnTo>
                    <a:pt x="9" y="743"/>
                  </a:lnTo>
                  <a:lnTo>
                    <a:pt x="17" y="698"/>
                  </a:lnTo>
                  <a:lnTo>
                    <a:pt x="23" y="656"/>
                  </a:lnTo>
                  <a:lnTo>
                    <a:pt x="30" y="615"/>
                  </a:lnTo>
                  <a:lnTo>
                    <a:pt x="35" y="576"/>
                  </a:lnTo>
                  <a:lnTo>
                    <a:pt x="38" y="538"/>
                  </a:lnTo>
                  <a:lnTo>
                    <a:pt x="41" y="503"/>
                  </a:lnTo>
                  <a:lnTo>
                    <a:pt x="43" y="468"/>
                  </a:lnTo>
                  <a:lnTo>
                    <a:pt x="47" y="405"/>
                  </a:lnTo>
                  <a:lnTo>
                    <a:pt x="47" y="346"/>
                  </a:lnTo>
                  <a:lnTo>
                    <a:pt x="45" y="294"/>
                  </a:lnTo>
                  <a:lnTo>
                    <a:pt x="42" y="246"/>
                  </a:lnTo>
                  <a:lnTo>
                    <a:pt x="35" y="164"/>
                  </a:lnTo>
                  <a:lnTo>
                    <a:pt x="27" y="98"/>
                  </a:lnTo>
                  <a:lnTo>
                    <a:pt x="26" y="70"/>
                  </a:lnTo>
                  <a:lnTo>
                    <a:pt x="26" y="44"/>
                  </a:lnTo>
                  <a:lnTo>
                    <a:pt x="26" y="32"/>
                  </a:lnTo>
                  <a:lnTo>
                    <a:pt x="28" y="21"/>
                  </a:lnTo>
                  <a:lnTo>
                    <a:pt x="29" y="10"/>
                  </a:lnTo>
                  <a:lnTo>
                    <a:pt x="32" y="0"/>
                  </a:lnTo>
                  <a:lnTo>
                    <a:pt x="39" y="1"/>
                  </a:lnTo>
                  <a:lnTo>
                    <a:pt x="45" y="2"/>
                  </a:lnTo>
                  <a:lnTo>
                    <a:pt x="50" y="4"/>
                  </a:lnTo>
                  <a:lnTo>
                    <a:pt x="53" y="8"/>
                  </a:lnTo>
                  <a:lnTo>
                    <a:pt x="57" y="12"/>
                  </a:lnTo>
                  <a:lnTo>
                    <a:pt x="60" y="17"/>
                  </a:lnTo>
                  <a:lnTo>
                    <a:pt x="62" y="21"/>
                  </a:lnTo>
                  <a:lnTo>
                    <a:pt x="65" y="27"/>
                  </a:lnTo>
                  <a:lnTo>
                    <a:pt x="67" y="37"/>
                  </a:lnTo>
                  <a:lnTo>
                    <a:pt x="70" y="48"/>
                  </a:lnTo>
                  <a:lnTo>
                    <a:pt x="73" y="59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4167360" y="2529000"/>
              <a:ext cx="169560" cy="141120"/>
            </a:xfrm>
            <a:custGeom>
              <a:avLst/>
              <a:gdLst/>
              <a:ahLst/>
              <a:rect l="l" t="t" r="r" b="b"/>
              <a:pathLst>
                <a:path w="536" h="443">
                  <a:moveTo>
                    <a:pt x="209" y="0"/>
                  </a:moveTo>
                  <a:lnTo>
                    <a:pt x="205" y="23"/>
                  </a:lnTo>
                  <a:lnTo>
                    <a:pt x="203" y="46"/>
                  </a:lnTo>
                  <a:lnTo>
                    <a:pt x="203" y="69"/>
                  </a:lnTo>
                  <a:lnTo>
                    <a:pt x="203" y="90"/>
                  </a:lnTo>
                  <a:lnTo>
                    <a:pt x="205" y="110"/>
                  </a:lnTo>
                  <a:lnTo>
                    <a:pt x="208" y="129"/>
                  </a:lnTo>
                  <a:lnTo>
                    <a:pt x="212" y="147"/>
                  </a:lnTo>
                  <a:lnTo>
                    <a:pt x="217" y="165"/>
                  </a:lnTo>
                  <a:lnTo>
                    <a:pt x="222" y="183"/>
                  </a:lnTo>
                  <a:lnTo>
                    <a:pt x="229" y="198"/>
                  </a:lnTo>
                  <a:lnTo>
                    <a:pt x="237" y="214"/>
                  </a:lnTo>
                  <a:lnTo>
                    <a:pt x="245" y="228"/>
                  </a:lnTo>
                  <a:lnTo>
                    <a:pt x="254" y="243"/>
                  </a:lnTo>
                  <a:lnTo>
                    <a:pt x="264" y="256"/>
                  </a:lnTo>
                  <a:lnTo>
                    <a:pt x="275" y="268"/>
                  </a:lnTo>
                  <a:lnTo>
                    <a:pt x="287" y="281"/>
                  </a:lnTo>
                  <a:lnTo>
                    <a:pt x="299" y="291"/>
                  </a:lnTo>
                  <a:lnTo>
                    <a:pt x="311" y="302"/>
                  </a:lnTo>
                  <a:lnTo>
                    <a:pt x="324" y="311"/>
                  </a:lnTo>
                  <a:lnTo>
                    <a:pt x="339" y="319"/>
                  </a:lnTo>
                  <a:lnTo>
                    <a:pt x="353" y="327"/>
                  </a:lnTo>
                  <a:lnTo>
                    <a:pt x="368" y="335"/>
                  </a:lnTo>
                  <a:lnTo>
                    <a:pt x="383" y="342"/>
                  </a:lnTo>
                  <a:lnTo>
                    <a:pt x="399" y="347"/>
                  </a:lnTo>
                  <a:lnTo>
                    <a:pt x="415" y="353"/>
                  </a:lnTo>
                  <a:lnTo>
                    <a:pt x="432" y="357"/>
                  </a:lnTo>
                  <a:lnTo>
                    <a:pt x="449" y="361"/>
                  </a:lnTo>
                  <a:lnTo>
                    <a:pt x="465" y="364"/>
                  </a:lnTo>
                  <a:lnTo>
                    <a:pt x="483" y="366"/>
                  </a:lnTo>
                  <a:lnTo>
                    <a:pt x="501" y="368"/>
                  </a:lnTo>
                  <a:lnTo>
                    <a:pt x="519" y="369"/>
                  </a:lnTo>
                  <a:lnTo>
                    <a:pt x="536" y="371"/>
                  </a:lnTo>
                  <a:lnTo>
                    <a:pt x="496" y="389"/>
                  </a:lnTo>
                  <a:lnTo>
                    <a:pt x="458" y="406"/>
                  </a:lnTo>
                  <a:lnTo>
                    <a:pt x="419" y="419"/>
                  </a:lnTo>
                  <a:lnTo>
                    <a:pt x="382" y="429"/>
                  </a:lnTo>
                  <a:lnTo>
                    <a:pt x="345" y="437"/>
                  </a:lnTo>
                  <a:lnTo>
                    <a:pt x="310" y="442"/>
                  </a:lnTo>
                  <a:lnTo>
                    <a:pt x="275" y="443"/>
                  </a:lnTo>
                  <a:lnTo>
                    <a:pt x="243" y="443"/>
                  </a:lnTo>
                  <a:lnTo>
                    <a:pt x="211" y="439"/>
                  </a:lnTo>
                  <a:lnTo>
                    <a:pt x="182" y="434"/>
                  </a:lnTo>
                  <a:lnTo>
                    <a:pt x="153" y="426"/>
                  </a:lnTo>
                  <a:lnTo>
                    <a:pt x="128" y="416"/>
                  </a:lnTo>
                  <a:lnTo>
                    <a:pt x="103" y="405"/>
                  </a:lnTo>
                  <a:lnTo>
                    <a:pt x="81" y="392"/>
                  </a:lnTo>
                  <a:lnTo>
                    <a:pt x="62" y="377"/>
                  </a:lnTo>
                  <a:lnTo>
                    <a:pt x="44" y="361"/>
                  </a:lnTo>
                  <a:lnTo>
                    <a:pt x="30" y="343"/>
                  </a:lnTo>
                  <a:lnTo>
                    <a:pt x="18" y="324"/>
                  </a:lnTo>
                  <a:lnTo>
                    <a:pt x="9" y="304"/>
                  </a:lnTo>
                  <a:lnTo>
                    <a:pt x="2" y="283"/>
                  </a:lnTo>
                  <a:lnTo>
                    <a:pt x="0" y="261"/>
                  </a:lnTo>
                  <a:lnTo>
                    <a:pt x="0" y="238"/>
                  </a:lnTo>
                  <a:lnTo>
                    <a:pt x="3" y="215"/>
                  </a:lnTo>
                  <a:lnTo>
                    <a:pt x="10" y="192"/>
                  </a:lnTo>
                  <a:lnTo>
                    <a:pt x="21" y="167"/>
                  </a:lnTo>
                  <a:lnTo>
                    <a:pt x="36" y="143"/>
                  </a:lnTo>
                  <a:lnTo>
                    <a:pt x="53" y="119"/>
                  </a:lnTo>
                  <a:lnTo>
                    <a:pt x="76" y="94"/>
                  </a:lnTo>
                  <a:lnTo>
                    <a:pt x="102" y="70"/>
                  </a:lnTo>
                  <a:lnTo>
                    <a:pt x="133" y="46"/>
                  </a:lnTo>
                  <a:lnTo>
                    <a:pt x="169" y="23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4656240" y="2698920"/>
              <a:ext cx="253800" cy="258480"/>
            </a:xfrm>
            <a:custGeom>
              <a:avLst/>
              <a:gdLst/>
              <a:ahLst/>
              <a:rect l="l" t="t" r="r" b="b"/>
              <a:pathLst>
                <a:path w="800" h="812">
                  <a:moveTo>
                    <a:pt x="535" y="493"/>
                  </a:moveTo>
                  <a:lnTo>
                    <a:pt x="538" y="489"/>
                  </a:lnTo>
                  <a:lnTo>
                    <a:pt x="540" y="484"/>
                  </a:lnTo>
                  <a:lnTo>
                    <a:pt x="541" y="476"/>
                  </a:lnTo>
                  <a:lnTo>
                    <a:pt x="541" y="468"/>
                  </a:lnTo>
                  <a:lnTo>
                    <a:pt x="541" y="446"/>
                  </a:lnTo>
                  <a:lnTo>
                    <a:pt x="540" y="419"/>
                  </a:lnTo>
                  <a:lnTo>
                    <a:pt x="534" y="355"/>
                  </a:lnTo>
                  <a:lnTo>
                    <a:pt x="531" y="282"/>
                  </a:lnTo>
                  <a:lnTo>
                    <a:pt x="532" y="244"/>
                  </a:lnTo>
                  <a:lnTo>
                    <a:pt x="534" y="207"/>
                  </a:lnTo>
                  <a:lnTo>
                    <a:pt x="537" y="190"/>
                  </a:lnTo>
                  <a:lnTo>
                    <a:pt x="540" y="172"/>
                  </a:lnTo>
                  <a:lnTo>
                    <a:pt x="543" y="155"/>
                  </a:lnTo>
                  <a:lnTo>
                    <a:pt x="548" y="139"/>
                  </a:lnTo>
                  <a:lnTo>
                    <a:pt x="553" y="124"/>
                  </a:lnTo>
                  <a:lnTo>
                    <a:pt x="560" y="110"/>
                  </a:lnTo>
                  <a:lnTo>
                    <a:pt x="569" y="96"/>
                  </a:lnTo>
                  <a:lnTo>
                    <a:pt x="578" y="84"/>
                  </a:lnTo>
                  <a:lnTo>
                    <a:pt x="588" y="73"/>
                  </a:lnTo>
                  <a:lnTo>
                    <a:pt x="600" y="64"/>
                  </a:lnTo>
                  <a:lnTo>
                    <a:pt x="613" y="56"/>
                  </a:lnTo>
                  <a:lnTo>
                    <a:pt x="628" y="50"/>
                  </a:lnTo>
                  <a:lnTo>
                    <a:pt x="621" y="84"/>
                  </a:lnTo>
                  <a:lnTo>
                    <a:pt x="617" y="120"/>
                  </a:lnTo>
                  <a:lnTo>
                    <a:pt x="613" y="156"/>
                  </a:lnTo>
                  <a:lnTo>
                    <a:pt x="612" y="194"/>
                  </a:lnTo>
                  <a:lnTo>
                    <a:pt x="611" y="232"/>
                  </a:lnTo>
                  <a:lnTo>
                    <a:pt x="612" y="270"/>
                  </a:lnTo>
                  <a:lnTo>
                    <a:pt x="614" y="307"/>
                  </a:lnTo>
                  <a:lnTo>
                    <a:pt x="618" y="343"/>
                  </a:lnTo>
                  <a:lnTo>
                    <a:pt x="622" y="378"/>
                  </a:lnTo>
                  <a:lnTo>
                    <a:pt x="628" y="411"/>
                  </a:lnTo>
                  <a:lnTo>
                    <a:pt x="634" y="440"/>
                  </a:lnTo>
                  <a:lnTo>
                    <a:pt x="641" y="468"/>
                  </a:lnTo>
                  <a:lnTo>
                    <a:pt x="649" y="493"/>
                  </a:lnTo>
                  <a:lnTo>
                    <a:pt x="658" y="513"/>
                  </a:lnTo>
                  <a:lnTo>
                    <a:pt x="663" y="522"/>
                  </a:lnTo>
                  <a:lnTo>
                    <a:pt x="668" y="529"/>
                  </a:lnTo>
                  <a:lnTo>
                    <a:pt x="673" y="535"/>
                  </a:lnTo>
                  <a:lnTo>
                    <a:pt x="678" y="540"/>
                  </a:lnTo>
                  <a:lnTo>
                    <a:pt x="682" y="544"/>
                  </a:lnTo>
                  <a:lnTo>
                    <a:pt x="685" y="543"/>
                  </a:lnTo>
                  <a:lnTo>
                    <a:pt x="687" y="540"/>
                  </a:lnTo>
                  <a:lnTo>
                    <a:pt x="688" y="535"/>
                  </a:lnTo>
                  <a:lnTo>
                    <a:pt x="687" y="517"/>
                  </a:lnTo>
                  <a:lnTo>
                    <a:pt x="683" y="490"/>
                  </a:lnTo>
                  <a:lnTo>
                    <a:pt x="671" y="419"/>
                  </a:lnTo>
                  <a:lnTo>
                    <a:pt x="658" y="333"/>
                  </a:lnTo>
                  <a:lnTo>
                    <a:pt x="655" y="310"/>
                  </a:lnTo>
                  <a:lnTo>
                    <a:pt x="653" y="286"/>
                  </a:lnTo>
                  <a:lnTo>
                    <a:pt x="652" y="264"/>
                  </a:lnTo>
                  <a:lnTo>
                    <a:pt x="652" y="241"/>
                  </a:lnTo>
                  <a:lnTo>
                    <a:pt x="652" y="218"/>
                  </a:lnTo>
                  <a:lnTo>
                    <a:pt x="653" y="196"/>
                  </a:lnTo>
                  <a:lnTo>
                    <a:pt x="655" y="175"/>
                  </a:lnTo>
                  <a:lnTo>
                    <a:pt x="660" y="154"/>
                  </a:lnTo>
                  <a:lnTo>
                    <a:pt x="664" y="135"/>
                  </a:lnTo>
                  <a:lnTo>
                    <a:pt x="671" y="116"/>
                  </a:lnTo>
                  <a:lnTo>
                    <a:pt x="679" y="100"/>
                  </a:lnTo>
                  <a:lnTo>
                    <a:pt x="689" y="85"/>
                  </a:lnTo>
                  <a:lnTo>
                    <a:pt x="700" y="72"/>
                  </a:lnTo>
                  <a:lnTo>
                    <a:pt x="713" y="60"/>
                  </a:lnTo>
                  <a:lnTo>
                    <a:pt x="729" y="51"/>
                  </a:lnTo>
                  <a:lnTo>
                    <a:pt x="746" y="43"/>
                  </a:lnTo>
                  <a:lnTo>
                    <a:pt x="742" y="63"/>
                  </a:lnTo>
                  <a:lnTo>
                    <a:pt x="739" y="83"/>
                  </a:lnTo>
                  <a:lnTo>
                    <a:pt x="736" y="104"/>
                  </a:lnTo>
                  <a:lnTo>
                    <a:pt x="734" y="125"/>
                  </a:lnTo>
                  <a:lnTo>
                    <a:pt x="733" y="147"/>
                  </a:lnTo>
                  <a:lnTo>
                    <a:pt x="732" y="170"/>
                  </a:lnTo>
                  <a:lnTo>
                    <a:pt x="731" y="193"/>
                  </a:lnTo>
                  <a:lnTo>
                    <a:pt x="731" y="216"/>
                  </a:lnTo>
                  <a:lnTo>
                    <a:pt x="733" y="264"/>
                  </a:lnTo>
                  <a:lnTo>
                    <a:pt x="736" y="312"/>
                  </a:lnTo>
                  <a:lnTo>
                    <a:pt x="741" y="359"/>
                  </a:lnTo>
                  <a:lnTo>
                    <a:pt x="746" y="408"/>
                  </a:lnTo>
                  <a:lnTo>
                    <a:pt x="761" y="502"/>
                  </a:lnTo>
                  <a:lnTo>
                    <a:pt x="775" y="588"/>
                  </a:lnTo>
                  <a:lnTo>
                    <a:pt x="789" y="664"/>
                  </a:lnTo>
                  <a:lnTo>
                    <a:pt x="800" y="726"/>
                  </a:lnTo>
                  <a:lnTo>
                    <a:pt x="788" y="725"/>
                  </a:lnTo>
                  <a:lnTo>
                    <a:pt x="775" y="722"/>
                  </a:lnTo>
                  <a:lnTo>
                    <a:pt x="764" y="719"/>
                  </a:lnTo>
                  <a:lnTo>
                    <a:pt x="754" y="716"/>
                  </a:lnTo>
                  <a:lnTo>
                    <a:pt x="744" y="711"/>
                  </a:lnTo>
                  <a:lnTo>
                    <a:pt x="734" y="706"/>
                  </a:lnTo>
                  <a:lnTo>
                    <a:pt x="725" y="700"/>
                  </a:lnTo>
                  <a:lnTo>
                    <a:pt x="716" y="694"/>
                  </a:lnTo>
                  <a:lnTo>
                    <a:pt x="708" y="687"/>
                  </a:lnTo>
                  <a:lnTo>
                    <a:pt x="700" y="680"/>
                  </a:lnTo>
                  <a:lnTo>
                    <a:pt x="692" y="672"/>
                  </a:lnTo>
                  <a:lnTo>
                    <a:pt x="685" y="664"/>
                  </a:lnTo>
                  <a:lnTo>
                    <a:pt x="671" y="647"/>
                  </a:lnTo>
                  <a:lnTo>
                    <a:pt x="659" y="628"/>
                  </a:lnTo>
                  <a:lnTo>
                    <a:pt x="648" y="608"/>
                  </a:lnTo>
                  <a:lnTo>
                    <a:pt x="638" y="587"/>
                  </a:lnTo>
                  <a:lnTo>
                    <a:pt x="628" y="567"/>
                  </a:lnTo>
                  <a:lnTo>
                    <a:pt x="619" y="546"/>
                  </a:lnTo>
                  <a:lnTo>
                    <a:pt x="602" y="505"/>
                  </a:lnTo>
                  <a:lnTo>
                    <a:pt x="588" y="467"/>
                  </a:lnTo>
                  <a:lnTo>
                    <a:pt x="583" y="476"/>
                  </a:lnTo>
                  <a:lnTo>
                    <a:pt x="581" y="487"/>
                  </a:lnTo>
                  <a:lnTo>
                    <a:pt x="580" y="502"/>
                  </a:lnTo>
                  <a:lnTo>
                    <a:pt x="581" y="517"/>
                  </a:lnTo>
                  <a:lnTo>
                    <a:pt x="582" y="535"/>
                  </a:lnTo>
                  <a:lnTo>
                    <a:pt x="583" y="554"/>
                  </a:lnTo>
                  <a:lnTo>
                    <a:pt x="587" y="574"/>
                  </a:lnTo>
                  <a:lnTo>
                    <a:pt x="590" y="594"/>
                  </a:lnTo>
                  <a:lnTo>
                    <a:pt x="598" y="634"/>
                  </a:lnTo>
                  <a:lnTo>
                    <a:pt x="605" y="669"/>
                  </a:lnTo>
                  <a:lnTo>
                    <a:pt x="613" y="699"/>
                  </a:lnTo>
                  <a:lnTo>
                    <a:pt x="620" y="720"/>
                  </a:lnTo>
                  <a:lnTo>
                    <a:pt x="585" y="712"/>
                  </a:lnTo>
                  <a:lnTo>
                    <a:pt x="557" y="702"/>
                  </a:lnTo>
                  <a:lnTo>
                    <a:pt x="543" y="698"/>
                  </a:lnTo>
                  <a:lnTo>
                    <a:pt x="532" y="692"/>
                  </a:lnTo>
                  <a:lnTo>
                    <a:pt x="521" y="688"/>
                  </a:lnTo>
                  <a:lnTo>
                    <a:pt x="511" y="682"/>
                  </a:lnTo>
                  <a:lnTo>
                    <a:pt x="502" y="677"/>
                  </a:lnTo>
                  <a:lnTo>
                    <a:pt x="494" y="671"/>
                  </a:lnTo>
                  <a:lnTo>
                    <a:pt x="487" y="666"/>
                  </a:lnTo>
                  <a:lnTo>
                    <a:pt x="480" y="659"/>
                  </a:lnTo>
                  <a:lnTo>
                    <a:pt x="469" y="648"/>
                  </a:lnTo>
                  <a:lnTo>
                    <a:pt x="460" y="635"/>
                  </a:lnTo>
                  <a:lnTo>
                    <a:pt x="452" y="623"/>
                  </a:lnTo>
                  <a:lnTo>
                    <a:pt x="446" y="610"/>
                  </a:lnTo>
                  <a:lnTo>
                    <a:pt x="441" y="597"/>
                  </a:lnTo>
                  <a:lnTo>
                    <a:pt x="436" y="584"/>
                  </a:lnTo>
                  <a:lnTo>
                    <a:pt x="431" y="570"/>
                  </a:lnTo>
                  <a:lnTo>
                    <a:pt x="426" y="558"/>
                  </a:lnTo>
                  <a:lnTo>
                    <a:pt x="419" y="545"/>
                  </a:lnTo>
                  <a:lnTo>
                    <a:pt x="411" y="533"/>
                  </a:lnTo>
                  <a:lnTo>
                    <a:pt x="407" y="544"/>
                  </a:lnTo>
                  <a:lnTo>
                    <a:pt x="402" y="555"/>
                  </a:lnTo>
                  <a:lnTo>
                    <a:pt x="398" y="565"/>
                  </a:lnTo>
                  <a:lnTo>
                    <a:pt x="391" y="574"/>
                  </a:lnTo>
                  <a:lnTo>
                    <a:pt x="384" y="583"/>
                  </a:lnTo>
                  <a:lnTo>
                    <a:pt x="378" y="590"/>
                  </a:lnTo>
                  <a:lnTo>
                    <a:pt x="370" y="598"/>
                  </a:lnTo>
                  <a:lnTo>
                    <a:pt x="362" y="605"/>
                  </a:lnTo>
                  <a:lnTo>
                    <a:pt x="346" y="618"/>
                  </a:lnTo>
                  <a:lnTo>
                    <a:pt x="327" y="629"/>
                  </a:lnTo>
                  <a:lnTo>
                    <a:pt x="308" y="640"/>
                  </a:lnTo>
                  <a:lnTo>
                    <a:pt x="289" y="650"/>
                  </a:lnTo>
                  <a:lnTo>
                    <a:pt x="270" y="660"/>
                  </a:lnTo>
                  <a:lnTo>
                    <a:pt x="251" y="671"/>
                  </a:lnTo>
                  <a:lnTo>
                    <a:pt x="233" y="684"/>
                  </a:lnTo>
                  <a:lnTo>
                    <a:pt x="217" y="697"/>
                  </a:lnTo>
                  <a:lnTo>
                    <a:pt x="209" y="705"/>
                  </a:lnTo>
                  <a:lnTo>
                    <a:pt x="201" y="712"/>
                  </a:lnTo>
                  <a:lnTo>
                    <a:pt x="195" y="720"/>
                  </a:lnTo>
                  <a:lnTo>
                    <a:pt x="189" y="730"/>
                  </a:lnTo>
                  <a:lnTo>
                    <a:pt x="183" y="739"/>
                  </a:lnTo>
                  <a:lnTo>
                    <a:pt x="178" y="750"/>
                  </a:lnTo>
                  <a:lnTo>
                    <a:pt x="173" y="761"/>
                  </a:lnTo>
                  <a:lnTo>
                    <a:pt x="170" y="773"/>
                  </a:lnTo>
                  <a:lnTo>
                    <a:pt x="117" y="812"/>
                  </a:lnTo>
                  <a:lnTo>
                    <a:pt x="115" y="795"/>
                  </a:lnTo>
                  <a:lnTo>
                    <a:pt x="112" y="777"/>
                  </a:lnTo>
                  <a:lnTo>
                    <a:pt x="111" y="761"/>
                  </a:lnTo>
                  <a:lnTo>
                    <a:pt x="110" y="745"/>
                  </a:lnTo>
                  <a:lnTo>
                    <a:pt x="111" y="729"/>
                  </a:lnTo>
                  <a:lnTo>
                    <a:pt x="112" y="715"/>
                  </a:lnTo>
                  <a:lnTo>
                    <a:pt x="115" y="700"/>
                  </a:lnTo>
                  <a:lnTo>
                    <a:pt x="118" y="686"/>
                  </a:lnTo>
                  <a:lnTo>
                    <a:pt x="121" y="672"/>
                  </a:lnTo>
                  <a:lnTo>
                    <a:pt x="127" y="659"/>
                  </a:lnTo>
                  <a:lnTo>
                    <a:pt x="132" y="646"/>
                  </a:lnTo>
                  <a:lnTo>
                    <a:pt x="138" y="634"/>
                  </a:lnTo>
                  <a:lnTo>
                    <a:pt x="145" y="620"/>
                  </a:lnTo>
                  <a:lnTo>
                    <a:pt x="152" y="608"/>
                  </a:lnTo>
                  <a:lnTo>
                    <a:pt x="161" y="596"/>
                  </a:lnTo>
                  <a:lnTo>
                    <a:pt x="170" y="584"/>
                  </a:lnTo>
                  <a:lnTo>
                    <a:pt x="165" y="584"/>
                  </a:lnTo>
                  <a:lnTo>
                    <a:pt x="150" y="585"/>
                  </a:lnTo>
                  <a:lnTo>
                    <a:pt x="140" y="585"/>
                  </a:lnTo>
                  <a:lnTo>
                    <a:pt x="129" y="585"/>
                  </a:lnTo>
                  <a:lnTo>
                    <a:pt x="117" y="584"/>
                  </a:lnTo>
                  <a:lnTo>
                    <a:pt x="105" y="583"/>
                  </a:lnTo>
                  <a:lnTo>
                    <a:pt x="92" y="579"/>
                  </a:lnTo>
                  <a:lnTo>
                    <a:pt x="81" y="576"/>
                  </a:lnTo>
                  <a:lnTo>
                    <a:pt x="70" y="570"/>
                  </a:lnTo>
                  <a:lnTo>
                    <a:pt x="61" y="564"/>
                  </a:lnTo>
                  <a:lnTo>
                    <a:pt x="57" y="560"/>
                  </a:lnTo>
                  <a:lnTo>
                    <a:pt x="54" y="556"/>
                  </a:lnTo>
                  <a:lnTo>
                    <a:pt x="50" y="551"/>
                  </a:lnTo>
                  <a:lnTo>
                    <a:pt x="47" y="546"/>
                  </a:lnTo>
                  <a:lnTo>
                    <a:pt x="46" y="540"/>
                  </a:lnTo>
                  <a:lnTo>
                    <a:pt x="44" y="534"/>
                  </a:lnTo>
                  <a:lnTo>
                    <a:pt x="44" y="527"/>
                  </a:lnTo>
                  <a:lnTo>
                    <a:pt x="44" y="519"/>
                  </a:lnTo>
                  <a:lnTo>
                    <a:pt x="4" y="570"/>
                  </a:lnTo>
                  <a:lnTo>
                    <a:pt x="0" y="523"/>
                  </a:lnTo>
                  <a:lnTo>
                    <a:pt x="1" y="478"/>
                  </a:lnTo>
                  <a:lnTo>
                    <a:pt x="4" y="437"/>
                  </a:lnTo>
                  <a:lnTo>
                    <a:pt x="9" y="398"/>
                  </a:lnTo>
                  <a:lnTo>
                    <a:pt x="17" y="364"/>
                  </a:lnTo>
                  <a:lnTo>
                    <a:pt x="27" y="331"/>
                  </a:lnTo>
                  <a:lnTo>
                    <a:pt x="38" y="302"/>
                  </a:lnTo>
                  <a:lnTo>
                    <a:pt x="51" y="274"/>
                  </a:lnTo>
                  <a:lnTo>
                    <a:pt x="66" y="250"/>
                  </a:lnTo>
                  <a:lnTo>
                    <a:pt x="82" y="227"/>
                  </a:lnTo>
                  <a:lnTo>
                    <a:pt x="100" y="207"/>
                  </a:lnTo>
                  <a:lnTo>
                    <a:pt x="118" y="190"/>
                  </a:lnTo>
                  <a:lnTo>
                    <a:pt x="137" y="174"/>
                  </a:lnTo>
                  <a:lnTo>
                    <a:pt x="157" y="160"/>
                  </a:lnTo>
                  <a:lnTo>
                    <a:pt x="178" y="147"/>
                  </a:lnTo>
                  <a:lnTo>
                    <a:pt x="198" y="137"/>
                  </a:lnTo>
                  <a:lnTo>
                    <a:pt x="219" y="129"/>
                  </a:lnTo>
                  <a:lnTo>
                    <a:pt x="239" y="121"/>
                  </a:lnTo>
                  <a:lnTo>
                    <a:pt x="260" y="114"/>
                  </a:lnTo>
                  <a:lnTo>
                    <a:pt x="280" y="110"/>
                  </a:lnTo>
                  <a:lnTo>
                    <a:pt x="299" y="105"/>
                  </a:lnTo>
                  <a:lnTo>
                    <a:pt x="318" y="102"/>
                  </a:lnTo>
                  <a:lnTo>
                    <a:pt x="336" y="100"/>
                  </a:lnTo>
                  <a:lnTo>
                    <a:pt x="352" y="99"/>
                  </a:lnTo>
                  <a:lnTo>
                    <a:pt x="381" y="97"/>
                  </a:lnTo>
                  <a:lnTo>
                    <a:pt x="404" y="97"/>
                  </a:lnTo>
                  <a:lnTo>
                    <a:pt x="419" y="99"/>
                  </a:lnTo>
                  <a:lnTo>
                    <a:pt x="424" y="99"/>
                  </a:lnTo>
                  <a:lnTo>
                    <a:pt x="424" y="92"/>
                  </a:lnTo>
                  <a:lnTo>
                    <a:pt x="427" y="84"/>
                  </a:lnTo>
                  <a:lnTo>
                    <a:pt x="429" y="78"/>
                  </a:lnTo>
                  <a:lnTo>
                    <a:pt x="431" y="70"/>
                  </a:lnTo>
                  <a:lnTo>
                    <a:pt x="439" y="56"/>
                  </a:lnTo>
                  <a:lnTo>
                    <a:pt x="448" y="42"/>
                  </a:lnTo>
                  <a:lnTo>
                    <a:pt x="458" y="30"/>
                  </a:lnTo>
                  <a:lnTo>
                    <a:pt x="468" y="19"/>
                  </a:lnTo>
                  <a:lnTo>
                    <a:pt x="478" y="8"/>
                  </a:lnTo>
                  <a:lnTo>
                    <a:pt x="488" y="0"/>
                  </a:lnTo>
                  <a:lnTo>
                    <a:pt x="491" y="15"/>
                  </a:lnTo>
                  <a:lnTo>
                    <a:pt x="494" y="32"/>
                  </a:lnTo>
                  <a:lnTo>
                    <a:pt x="495" y="49"/>
                  </a:lnTo>
                  <a:lnTo>
                    <a:pt x="497" y="65"/>
                  </a:lnTo>
                  <a:lnTo>
                    <a:pt x="498" y="82"/>
                  </a:lnTo>
                  <a:lnTo>
                    <a:pt x="497" y="97"/>
                  </a:lnTo>
                  <a:lnTo>
                    <a:pt x="495" y="114"/>
                  </a:lnTo>
                  <a:lnTo>
                    <a:pt x="494" y="131"/>
                  </a:lnTo>
                  <a:lnTo>
                    <a:pt x="486" y="197"/>
                  </a:lnTo>
                  <a:lnTo>
                    <a:pt x="477" y="262"/>
                  </a:lnTo>
                  <a:lnTo>
                    <a:pt x="473" y="293"/>
                  </a:lnTo>
                  <a:lnTo>
                    <a:pt x="471" y="324"/>
                  </a:lnTo>
                  <a:lnTo>
                    <a:pt x="471" y="339"/>
                  </a:lnTo>
                  <a:lnTo>
                    <a:pt x="472" y="355"/>
                  </a:lnTo>
                  <a:lnTo>
                    <a:pt x="473" y="369"/>
                  </a:lnTo>
                  <a:lnTo>
                    <a:pt x="476" y="384"/>
                  </a:lnTo>
                  <a:lnTo>
                    <a:pt x="479" y="398"/>
                  </a:lnTo>
                  <a:lnTo>
                    <a:pt x="483" y="413"/>
                  </a:lnTo>
                  <a:lnTo>
                    <a:pt x="489" y="427"/>
                  </a:lnTo>
                  <a:lnTo>
                    <a:pt x="495" y="440"/>
                  </a:lnTo>
                  <a:lnTo>
                    <a:pt x="503" y="454"/>
                  </a:lnTo>
                  <a:lnTo>
                    <a:pt x="512" y="467"/>
                  </a:lnTo>
                  <a:lnTo>
                    <a:pt x="523" y="480"/>
                  </a:lnTo>
                  <a:lnTo>
                    <a:pt x="535" y="4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4906800" y="2719440"/>
              <a:ext cx="255600" cy="231840"/>
            </a:xfrm>
            <a:custGeom>
              <a:avLst/>
              <a:gdLst/>
              <a:ahLst/>
              <a:rect l="l" t="t" r="r" b="b"/>
              <a:pathLst>
                <a:path w="801" h="733">
                  <a:moveTo>
                    <a:pt x="150" y="26"/>
                  </a:moveTo>
                  <a:lnTo>
                    <a:pt x="160" y="22"/>
                  </a:lnTo>
                  <a:lnTo>
                    <a:pt x="170" y="20"/>
                  </a:lnTo>
                  <a:lnTo>
                    <a:pt x="180" y="20"/>
                  </a:lnTo>
                  <a:lnTo>
                    <a:pt x="189" y="21"/>
                  </a:lnTo>
                  <a:lnTo>
                    <a:pt x="199" y="23"/>
                  </a:lnTo>
                  <a:lnTo>
                    <a:pt x="208" y="27"/>
                  </a:lnTo>
                  <a:lnTo>
                    <a:pt x="218" y="31"/>
                  </a:lnTo>
                  <a:lnTo>
                    <a:pt x="227" y="36"/>
                  </a:lnTo>
                  <a:lnTo>
                    <a:pt x="246" y="46"/>
                  </a:lnTo>
                  <a:lnTo>
                    <a:pt x="265" y="58"/>
                  </a:lnTo>
                  <a:lnTo>
                    <a:pt x="283" y="68"/>
                  </a:lnTo>
                  <a:lnTo>
                    <a:pt x="303" y="77"/>
                  </a:lnTo>
                  <a:lnTo>
                    <a:pt x="366" y="127"/>
                  </a:lnTo>
                  <a:lnTo>
                    <a:pt x="427" y="178"/>
                  </a:lnTo>
                  <a:lnTo>
                    <a:pt x="456" y="204"/>
                  </a:lnTo>
                  <a:lnTo>
                    <a:pt x="484" y="231"/>
                  </a:lnTo>
                  <a:lnTo>
                    <a:pt x="513" y="259"/>
                  </a:lnTo>
                  <a:lnTo>
                    <a:pt x="540" y="286"/>
                  </a:lnTo>
                  <a:lnTo>
                    <a:pt x="566" y="315"/>
                  </a:lnTo>
                  <a:lnTo>
                    <a:pt x="590" y="345"/>
                  </a:lnTo>
                  <a:lnTo>
                    <a:pt x="613" y="376"/>
                  </a:lnTo>
                  <a:lnTo>
                    <a:pt x="634" y="407"/>
                  </a:lnTo>
                  <a:lnTo>
                    <a:pt x="644" y="424"/>
                  </a:lnTo>
                  <a:lnTo>
                    <a:pt x="653" y="441"/>
                  </a:lnTo>
                  <a:lnTo>
                    <a:pt x="662" y="457"/>
                  </a:lnTo>
                  <a:lnTo>
                    <a:pt x="670" y="474"/>
                  </a:lnTo>
                  <a:lnTo>
                    <a:pt x="678" y="492"/>
                  </a:lnTo>
                  <a:lnTo>
                    <a:pt x="685" y="510"/>
                  </a:lnTo>
                  <a:lnTo>
                    <a:pt x="691" y="527"/>
                  </a:lnTo>
                  <a:lnTo>
                    <a:pt x="698" y="546"/>
                  </a:lnTo>
                  <a:lnTo>
                    <a:pt x="702" y="541"/>
                  </a:lnTo>
                  <a:lnTo>
                    <a:pt x="707" y="535"/>
                  </a:lnTo>
                  <a:lnTo>
                    <a:pt x="710" y="530"/>
                  </a:lnTo>
                  <a:lnTo>
                    <a:pt x="713" y="523"/>
                  </a:lnTo>
                  <a:lnTo>
                    <a:pt x="718" y="511"/>
                  </a:lnTo>
                  <a:lnTo>
                    <a:pt x="720" y="498"/>
                  </a:lnTo>
                  <a:lnTo>
                    <a:pt x="721" y="485"/>
                  </a:lnTo>
                  <a:lnTo>
                    <a:pt x="720" y="472"/>
                  </a:lnTo>
                  <a:lnTo>
                    <a:pt x="719" y="459"/>
                  </a:lnTo>
                  <a:lnTo>
                    <a:pt x="717" y="444"/>
                  </a:lnTo>
                  <a:lnTo>
                    <a:pt x="712" y="417"/>
                  </a:lnTo>
                  <a:lnTo>
                    <a:pt x="708" y="391"/>
                  </a:lnTo>
                  <a:lnTo>
                    <a:pt x="707" y="379"/>
                  </a:lnTo>
                  <a:lnTo>
                    <a:pt x="707" y="366"/>
                  </a:lnTo>
                  <a:lnTo>
                    <a:pt x="709" y="354"/>
                  </a:lnTo>
                  <a:lnTo>
                    <a:pt x="711" y="343"/>
                  </a:lnTo>
                  <a:lnTo>
                    <a:pt x="708" y="328"/>
                  </a:lnTo>
                  <a:lnTo>
                    <a:pt x="704" y="313"/>
                  </a:lnTo>
                  <a:lnTo>
                    <a:pt x="701" y="299"/>
                  </a:lnTo>
                  <a:lnTo>
                    <a:pt x="699" y="285"/>
                  </a:lnTo>
                  <a:lnTo>
                    <a:pt x="697" y="258"/>
                  </a:lnTo>
                  <a:lnTo>
                    <a:pt x="697" y="232"/>
                  </a:lnTo>
                  <a:lnTo>
                    <a:pt x="697" y="207"/>
                  </a:lnTo>
                  <a:lnTo>
                    <a:pt x="697" y="180"/>
                  </a:lnTo>
                  <a:lnTo>
                    <a:pt x="698" y="154"/>
                  </a:lnTo>
                  <a:lnTo>
                    <a:pt x="698" y="127"/>
                  </a:lnTo>
                  <a:lnTo>
                    <a:pt x="717" y="134"/>
                  </a:lnTo>
                  <a:lnTo>
                    <a:pt x="735" y="143"/>
                  </a:lnTo>
                  <a:lnTo>
                    <a:pt x="744" y="149"/>
                  </a:lnTo>
                  <a:lnTo>
                    <a:pt x="752" y="154"/>
                  </a:lnTo>
                  <a:lnTo>
                    <a:pt x="760" y="161"/>
                  </a:lnTo>
                  <a:lnTo>
                    <a:pt x="768" y="168"/>
                  </a:lnTo>
                  <a:lnTo>
                    <a:pt x="774" y="175"/>
                  </a:lnTo>
                  <a:lnTo>
                    <a:pt x="780" y="183"/>
                  </a:lnTo>
                  <a:lnTo>
                    <a:pt x="785" y="191"/>
                  </a:lnTo>
                  <a:lnTo>
                    <a:pt x="790" y="200"/>
                  </a:lnTo>
                  <a:lnTo>
                    <a:pt x="793" y="210"/>
                  </a:lnTo>
                  <a:lnTo>
                    <a:pt x="796" y="220"/>
                  </a:lnTo>
                  <a:lnTo>
                    <a:pt x="798" y="231"/>
                  </a:lnTo>
                  <a:lnTo>
                    <a:pt x="799" y="242"/>
                  </a:lnTo>
                  <a:lnTo>
                    <a:pt x="800" y="268"/>
                  </a:lnTo>
                  <a:lnTo>
                    <a:pt x="801" y="294"/>
                  </a:lnTo>
                  <a:lnTo>
                    <a:pt x="801" y="322"/>
                  </a:lnTo>
                  <a:lnTo>
                    <a:pt x="800" y="349"/>
                  </a:lnTo>
                  <a:lnTo>
                    <a:pt x="798" y="404"/>
                  </a:lnTo>
                  <a:lnTo>
                    <a:pt x="793" y="460"/>
                  </a:lnTo>
                  <a:lnTo>
                    <a:pt x="789" y="516"/>
                  </a:lnTo>
                  <a:lnTo>
                    <a:pt x="783" y="573"/>
                  </a:lnTo>
                  <a:lnTo>
                    <a:pt x="779" y="629"/>
                  </a:lnTo>
                  <a:lnTo>
                    <a:pt x="775" y="686"/>
                  </a:lnTo>
                  <a:lnTo>
                    <a:pt x="772" y="696"/>
                  </a:lnTo>
                  <a:lnTo>
                    <a:pt x="769" y="705"/>
                  </a:lnTo>
                  <a:lnTo>
                    <a:pt x="763" y="712"/>
                  </a:lnTo>
                  <a:lnTo>
                    <a:pt x="758" y="716"/>
                  </a:lnTo>
                  <a:lnTo>
                    <a:pt x="751" y="720"/>
                  </a:lnTo>
                  <a:lnTo>
                    <a:pt x="744" y="723"/>
                  </a:lnTo>
                  <a:lnTo>
                    <a:pt x="735" y="724"/>
                  </a:lnTo>
                  <a:lnTo>
                    <a:pt x="728" y="725"/>
                  </a:lnTo>
                  <a:lnTo>
                    <a:pt x="710" y="724"/>
                  </a:lnTo>
                  <a:lnTo>
                    <a:pt x="692" y="723"/>
                  </a:lnTo>
                  <a:lnTo>
                    <a:pt x="674" y="722"/>
                  </a:lnTo>
                  <a:lnTo>
                    <a:pt x="659" y="724"/>
                  </a:lnTo>
                  <a:lnTo>
                    <a:pt x="584" y="697"/>
                  </a:lnTo>
                  <a:lnTo>
                    <a:pt x="590" y="688"/>
                  </a:lnTo>
                  <a:lnTo>
                    <a:pt x="594" y="677"/>
                  </a:lnTo>
                  <a:lnTo>
                    <a:pt x="598" y="666"/>
                  </a:lnTo>
                  <a:lnTo>
                    <a:pt x="598" y="654"/>
                  </a:lnTo>
                  <a:lnTo>
                    <a:pt x="598" y="642"/>
                  </a:lnTo>
                  <a:lnTo>
                    <a:pt x="594" y="629"/>
                  </a:lnTo>
                  <a:lnTo>
                    <a:pt x="590" y="618"/>
                  </a:lnTo>
                  <a:lnTo>
                    <a:pt x="584" y="609"/>
                  </a:lnTo>
                  <a:lnTo>
                    <a:pt x="542" y="537"/>
                  </a:lnTo>
                  <a:lnTo>
                    <a:pt x="498" y="464"/>
                  </a:lnTo>
                  <a:lnTo>
                    <a:pt x="473" y="427"/>
                  </a:lnTo>
                  <a:lnTo>
                    <a:pt x="449" y="391"/>
                  </a:lnTo>
                  <a:lnTo>
                    <a:pt x="423" y="354"/>
                  </a:lnTo>
                  <a:lnTo>
                    <a:pt x="397" y="320"/>
                  </a:lnTo>
                  <a:lnTo>
                    <a:pt x="369" y="285"/>
                  </a:lnTo>
                  <a:lnTo>
                    <a:pt x="340" y="253"/>
                  </a:lnTo>
                  <a:lnTo>
                    <a:pt x="325" y="238"/>
                  </a:lnTo>
                  <a:lnTo>
                    <a:pt x="309" y="222"/>
                  </a:lnTo>
                  <a:lnTo>
                    <a:pt x="293" y="208"/>
                  </a:lnTo>
                  <a:lnTo>
                    <a:pt x="278" y="193"/>
                  </a:lnTo>
                  <a:lnTo>
                    <a:pt x="261" y="180"/>
                  </a:lnTo>
                  <a:lnTo>
                    <a:pt x="245" y="167"/>
                  </a:lnTo>
                  <a:lnTo>
                    <a:pt x="228" y="154"/>
                  </a:lnTo>
                  <a:lnTo>
                    <a:pt x="211" y="142"/>
                  </a:lnTo>
                  <a:lnTo>
                    <a:pt x="193" y="131"/>
                  </a:lnTo>
                  <a:lnTo>
                    <a:pt x="175" y="121"/>
                  </a:lnTo>
                  <a:lnTo>
                    <a:pt x="157" y="111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28" y="101"/>
                  </a:lnTo>
                  <a:lnTo>
                    <a:pt x="122" y="101"/>
                  </a:lnTo>
                  <a:lnTo>
                    <a:pt x="117" y="101"/>
                  </a:lnTo>
                  <a:lnTo>
                    <a:pt x="112" y="102"/>
                  </a:lnTo>
                  <a:lnTo>
                    <a:pt x="108" y="104"/>
                  </a:lnTo>
                  <a:lnTo>
                    <a:pt x="104" y="108"/>
                  </a:lnTo>
                  <a:lnTo>
                    <a:pt x="100" y="112"/>
                  </a:lnTo>
                  <a:lnTo>
                    <a:pt x="104" y="134"/>
                  </a:lnTo>
                  <a:lnTo>
                    <a:pt x="108" y="157"/>
                  </a:lnTo>
                  <a:lnTo>
                    <a:pt x="112" y="178"/>
                  </a:lnTo>
                  <a:lnTo>
                    <a:pt x="119" y="199"/>
                  </a:lnTo>
                  <a:lnTo>
                    <a:pt x="126" y="219"/>
                  </a:lnTo>
                  <a:lnTo>
                    <a:pt x="133" y="240"/>
                  </a:lnTo>
                  <a:lnTo>
                    <a:pt x="142" y="260"/>
                  </a:lnTo>
                  <a:lnTo>
                    <a:pt x="151" y="280"/>
                  </a:lnTo>
                  <a:lnTo>
                    <a:pt x="161" y="299"/>
                  </a:lnTo>
                  <a:lnTo>
                    <a:pt x="171" y="318"/>
                  </a:lnTo>
                  <a:lnTo>
                    <a:pt x="182" y="336"/>
                  </a:lnTo>
                  <a:lnTo>
                    <a:pt x="195" y="355"/>
                  </a:lnTo>
                  <a:lnTo>
                    <a:pt x="219" y="392"/>
                  </a:lnTo>
                  <a:lnTo>
                    <a:pt x="245" y="429"/>
                  </a:lnTo>
                  <a:lnTo>
                    <a:pt x="272" y="464"/>
                  </a:lnTo>
                  <a:lnTo>
                    <a:pt x="300" y="500"/>
                  </a:lnTo>
                  <a:lnTo>
                    <a:pt x="329" y="534"/>
                  </a:lnTo>
                  <a:lnTo>
                    <a:pt x="358" y="570"/>
                  </a:lnTo>
                  <a:lnTo>
                    <a:pt x="387" y="604"/>
                  </a:lnTo>
                  <a:lnTo>
                    <a:pt x="414" y="639"/>
                  </a:lnTo>
                  <a:lnTo>
                    <a:pt x="442" y="675"/>
                  </a:lnTo>
                  <a:lnTo>
                    <a:pt x="468" y="710"/>
                  </a:lnTo>
                  <a:lnTo>
                    <a:pt x="460" y="717"/>
                  </a:lnTo>
                  <a:lnTo>
                    <a:pt x="449" y="723"/>
                  </a:lnTo>
                  <a:lnTo>
                    <a:pt x="436" y="728"/>
                  </a:lnTo>
                  <a:lnTo>
                    <a:pt x="422" y="732"/>
                  </a:lnTo>
                  <a:lnTo>
                    <a:pt x="414" y="733"/>
                  </a:lnTo>
                  <a:lnTo>
                    <a:pt x="407" y="733"/>
                  </a:lnTo>
                  <a:lnTo>
                    <a:pt x="400" y="732"/>
                  </a:lnTo>
                  <a:lnTo>
                    <a:pt x="392" y="730"/>
                  </a:lnTo>
                  <a:lnTo>
                    <a:pt x="386" y="727"/>
                  </a:lnTo>
                  <a:lnTo>
                    <a:pt x="379" y="723"/>
                  </a:lnTo>
                  <a:lnTo>
                    <a:pt x="372" y="717"/>
                  </a:lnTo>
                  <a:lnTo>
                    <a:pt x="367" y="710"/>
                  </a:lnTo>
                  <a:lnTo>
                    <a:pt x="360" y="696"/>
                  </a:lnTo>
                  <a:lnTo>
                    <a:pt x="353" y="683"/>
                  </a:lnTo>
                  <a:lnTo>
                    <a:pt x="345" y="669"/>
                  </a:lnTo>
                  <a:lnTo>
                    <a:pt x="337" y="656"/>
                  </a:lnTo>
                  <a:lnTo>
                    <a:pt x="318" y="631"/>
                  </a:lnTo>
                  <a:lnTo>
                    <a:pt x="297" y="605"/>
                  </a:lnTo>
                  <a:lnTo>
                    <a:pt x="252" y="557"/>
                  </a:lnTo>
                  <a:lnTo>
                    <a:pt x="207" y="508"/>
                  </a:lnTo>
                  <a:lnTo>
                    <a:pt x="185" y="484"/>
                  </a:lnTo>
                  <a:lnTo>
                    <a:pt x="163" y="460"/>
                  </a:lnTo>
                  <a:lnTo>
                    <a:pt x="145" y="434"/>
                  </a:lnTo>
                  <a:lnTo>
                    <a:pt x="127" y="407"/>
                  </a:lnTo>
                  <a:lnTo>
                    <a:pt x="119" y="394"/>
                  </a:lnTo>
                  <a:lnTo>
                    <a:pt x="112" y="381"/>
                  </a:lnTo>
                  <a:lnTo>
                    <a:pt x="106" y="366"/>
                  </a:lnTo>
                  <a:lnTo>
                    <a:pt x="100" y="352"/>
                  </a:lnTo>
                  <a:lnTo>
                    <a:pt x="96" y="336"/>
                  </a:lnTo>
                  <a:lnTo>
                    <a:pt x="91" y="322"/>
                  </a:lnTo>
                  <a:lnTo>
                    <a:pt x="89" y="306"/>
                  </a:lnTo>
                  <a:lnTo>
                    <a:pt x="87" y="290"/>
                  </a:lnTo>
                  <a:lnTo>
                    <a:pt x="80" y="280"/>
                  </a:lnTo>
                  <a:lnTo>
                    <a:pt x="72" y="270"/>
                  </a:lnTo>
                  <a:lnTo>
                    <a:pt x="66" y="259"/>
                  </a:lnTo>
                  <a:lnTo>
                    <a:pt x="60" y="247"/>
                  </a:lnTo>
                  <a:lnTo>
                    <a:pt x="48" y="222"/>
                  </a:lnTo>
                  <a:lnTo>
                    <a:pt x="38" y="197"/>
                  </a:lnTo>
                  <a:lnTo>
                    <a:pt x="28" y="170"/>
                  </a:lnTo>
                  <a:lnTo>
                    <a:pt x="18" y="142"/>
                  </a:lnTo>
                  <a:lnTo>
                    <a:pt x="9" y="116"/>
                  </a:lnTo>
                  <a:lnTo>
                    <a:pt x="0" y="89"/>
                  </a:lnTo>
                  <a:lnTo>
                    <a:pt x="4" y="78"/>
                  </a:lnTo>
                  <a:lnTo>
                    <a:pt x="8" y="66"/>
                  </a:lnTo>
                  <a:lnTo>
                    <a:pt x="14" y="54"/>
                  </a:lnTo>
                  <a:lnTo>
                    <a:pt x="21" y="43"/>
                  </a:lnTo>
                  <a:lnTo>
                    <a:pt x="29" y="33"/>
                  </a:lnTo>
                  <a:lnTo>
                    <a:pt x="38" y="25"/>
                  </a:lnTo>
                  <a:lnTo>
                    <a:pt x="49" y="17"/>
                  </a:lnTo>
                  <a:lnTo>
                    <a:pt x="59" y="10"/>
                  </a:lnTo>
                  <a:lnTo>
                    <a:pt x="71" y="5"/>
                  </a:lnTo>
                  <a:lnTo>
                    <a:pt x="82" y="1"/>
                  </a:lnTo>
                  <a:lnTo>
                    <a:pt x="95" y="0"/>
                  </a:lnTo>
                  <a:lnTo>
                    <a:pt x="106" y="0"/>
                  </a:lnTo>
                  <a:lnTo>
                    <a:pt x="112" y="1"/>
                  </a:lnTo>
                  <a:lnTo>
                    <a:pt x="118" y="2"/>
                  </a:lnTo>
                  <a:lnTo>
                    <a:pt x="124" y="5"/>
                  </a:lnTo>
                  <a:lnTo>
                    <a:pt x="129" y="8"/>
                  </a:lnTo>
                  <a:lnTo>
                    <a:pt x="135" y="11"/>
                  </a:lnTo>
                  <a:lnTo>
                    <a:pt x="140" y="16"/>
                  </a:lnTo>
                  <a:lnTo>
                    <a:pt x="146" y="20"/>
                  </a:lnTo>
                  <a:lnTo>
                    <a:pt x="150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4692600" y="2746440"/>
              <a:ext cx="93600" cy="119160"/>
            </a:xfrm>
            <a:custGeom>
              <a:avLst/>
              <a:gdLst/>
              <a:ahLst/>
              <a:rect l="l" t="t" r="r" b="b"/>
              <a:pathLst>
                <a:path w="294" h="374">
                  <a:moveTo>
                    <a:pt x="294" y="3"/>
                  </a:moveTo>
                  <a:lnTo>
                    <a:pt x="286" y="50"/>
                  </a:lnTo>
                  <a:lnTo>
                    <a:pt x="280" y="94"/>
                  </a:lnTo>
                  <a:lnTo>
                    <a:pt x="275" y="135"/>
                  </a:lnTo>
                  <a:lnTo>
                    <a:pt x="272" y="176"/>
                  </a:lnTo>
                  <a:lnTo>
                    <a:pt x="270" y="218"/>
                  </a:lnTo>
                  <a:lnTo>
                    <a:pt x="269" y="263"/>
                  </a:lnTo>
                  <a:lnTo>
                    <a:pt x="269" y="309"/>
                  </a:lnTo>
                  <a:lnTo>
                    <a:pt x="270" y="360"/>
                  </a:lnTo>
                  <a:lnTo>
                    <a:pt x="264" y="357"/>
                  </a:lnTo>
                  <a:lnTo>
                    <a:pt x="259" y="355"/>
                  </a:lnTo>
                  <a:lnTo>
                    <a:pt x="252" y="353"/>
                  </a:lnTo>
                  <a:lnTo>
                    <a:pt x="245" y="351"/>
                  </a:lnTo>
                  <a:lnTo>
                    <a:pt x="231" y="349"/>
                  </a:lnTo>
                  <a:lnTo>
                    <a:pt x="216" y="349"/>
                  </a:lnTo>
                  <a:lnTo>
                    <a:pt x="201" y="350"/>
                  </a:lnTo>
                  <a:lnTo>
                    <a:pt x="187" y="355"/>
                  </a:lnTo>
                  <a:lnTo>
                    <a:pt x="181" y="357"/>
                  </a:lnTo>
                  <a:lnTo>
                    <a:pt x="174" y="360"/>
                  </a:lnTo>
                  <a:lnTo>
                    <a:pt x="170" y="364"/>
                  </a:lnTo>
                  <a:lnTo>
                    <a:pt x="164" y="368"/>
                  </a:lnTo>
                  <a:lnTo>
                    <a:pt x="152" y="371"/>
                  </a:lnTo>
                  <a:lnTo>
                    <a:pt x="141" y="373"/>
                  </a:lnTo>
                  <a:lnTo>
                    <a:pt x="130" y="374"/>
                  </a:lnTo>
                  <a:lnTo>
                    <a:pt x="120" y="374"/>
                  </a:lnTo>
                  <a:lnTo>
                    <a:pt x="111" y="373"/>
                  </a:lnTo>
                  <a:lnTo>
                    <a:pt x="103" y="371"/>
                  </a:lnTo>
                  <a:lnTo>
                    <a:pt x="94" y="368"/>
                  </a:lnTo>
                  <a:lnTo>
                    <a:pt x="88" y="365"/>
                  </a:lnTo>
                  <a:lnTo>
                    <a:pt x="81" y="360"/>
                  </a:lnTo>
                  <a:lnTo>
                    <a:pt x="74" y="355"/>
                  </a:lnTo>
                  <a:lnTo>
                    <a:pt x="68" y="348"/>
                  </a:lnTo>
                  <a:lnTo>
                    <a:pt x="62" y="341"/>
                  </a:lnTo>
                  <a:lnTo>
                    <a:pt x="51" y="326"/>
                  </a:lnTo>
                  <a:lnTo>
                    <a:pt x="40" y="307"/>
                  </a:lnTo>
                  <a:lnTo>
                    <a:pt x="51" y="289"/>
                  </a:lnTo>
                  <a:lnTo>
                    <a:pt x="62" y="274"/>
                  </a:lnTo>
                  <a:lnTo>
                    <a:pt x="72" y="259"/>
                  </a:lnTo>
                  <a:lnTo>
                    <a:pt x="82" y="248"/>
                  </a:lnTo>
                  <a:lnTo>
                    <a:pt x="92" y="238"/>
                  </a:lnTo>
                  <a:lnTo>
                    <a:pt x="102" y="230"/>
                  </a:lnTo>
                  <a:lnTo>
                    <a:pt x="113" y="224"/>
                  </a:lnTo>
                  <a:lnTo>
                    <a:pt x="124" y="218"/>
                  </a:lnTo>
                  <a:lnTo>
                    <a:pt x="135" y="214"/>
                  </a:lnTo>
                  <a:lnTo>
                    <a:pt x="149" y="210"/>
                  </a:lnTo>
                  <a:lnTo>
                    <a:pt x="162" y="208"/>
                  </a:lnTo>
                  <a:lnTo>
                    <a:pt x="176" y="206"/>
                  </a:lnTo>
                  <a:lnTo>
                    <a:pt x="211" y="204"/>
                  </a:lnTo>
                  <a:lnTo>
                    <a:pt x="252" y="202"/>
                  </a:lnTo>
                  <a:lnTo>
                    <a:pt x="241" y="190"/>
                  </a:lnTo>
                  <a:lnTo>
                    <a:pt x="230" y="182"/>
                  </a:lnTo>
                  <a:lnTo>
                    <a:pt x="216" y="173"/>
                  </a:lnTo>
                  <a:lnTo>
                    <a:pt x="203" y="166"/>
                  </a:lnTo>
                  <a:lnTo>
                    <a:pt x="190" y="159"/>
                  </a:lnTo>
                  <a:lnTo>
                    <a:pt x="174" y="155"/>
                  </a:lnTo>
                  <a:lnTo>
                    <a:pt x="159" y="152"/>
                  </a:lnTo>
                  <a:lnTo>
                    <a:pt x="143" y="149"/>
                  </a:lnTo>
                  <a:lnTo>
                    <a:pt x="126" y="149"/>
                  </a:lnTo>
                  <a:lnTo>
                    <a:pt x="109" y="151"/>
                  </a:lnTo>
                  <a:lnTo>
                    <a:pt x="91" y="153"/>
                  </a:lnTo>
                  <a:lnTo>
                    <a:pt x="73" y="157"/>
                  </a:lnTo>
                  <a:lnTo>
                    <a:pt x="55" y="164"/>
                  </a:lnTo>
                  <a:lnTo>
                    <a:pt x="36" y="172"/>
                  </a:lnTo>
                  <a:lnTo>
                    <a:pt x="19" y="182"/>
                  </a:lnTo>
                  <a:lnTo>
                    <a:pt x="0" y="194"/>
                  </a:lnTo>
                  <a:lnTo>
                    <a:pt x="6" y="179"/>
                  </a:lnTo>
                  <a:lnTo>
                    <a:pt x="13" y="166"/>
                  </a:lnTo>
                  <a:lnTo>
                    <a:pt x="21" y="153"/>
                  </a:lnTo>
                  <a:lnTo>
                    <a:pt x="29" y="141"/>
                  </a:lnTo>
                  <a:lnTo>
                    <a:pt x="36" y="128"/>
                  </a:lnTo>
                  <a:lnTo>
                    <a:pt x="45" y="117"/>
                  </a:lnTo>
                  <a:lnTo>
                    <a:pt x="54" y="106"/>
                  </a:lnTo>
                  <a:lnTo>
                    <a:pt x="64" y="96"/>
                  </a:lnTo>
                  <a:lnTo>
                    <a:pt x="83" y="77"/>
                  </a:lnTo>
                  <a:lnTo>
                    <a:pt x="104" y="61"/>
                  </a:lnTo>
                  <a:lnTo>
                    <a:pt x="125" y="46"/>
                  </a:lnTo>
                  <a:lnTo>
                    <a:pt x="148" y="33"/>
                  </a:lnTo>
                  <a:lnTo>
                    <a:pt x="169" y="23"/>
                  </a:lnTo>
                  <a:lnTo>
                    <a:pt x="190" y="14"/>
                  </a:lnTo>
                  <a:lnTo>
                    <a:pt x="211" y="7"/>
                  </a:lnTo>
                  <a:lnTo>
                    <a:pt x="231" y="3"/>
                  </a:lnTo>
                  <a:lnTo>
                    <a:pt x="249" y="0"/>
                  </a:lnTo>
                  <a:lnTo>
                    <a:pt x="266" y="0"/>
                  </a:lnTo>
                  <a:lnTo>
                    <a:pt x="281" y="1"/>
                  </a:lnTo>
                  <a:lnTo>
                    <a:pt x="29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4562640" y="2852640"/>
              <a:ext cx="98280" cy="160560"/>
            </a:xfrm>
            <a:custGeom>
              <a:avLst/>
              <a:gdLst/>
              <a:ahLst/>
              <a:rect l="l" t="t" r="r" b="b"/>
              <a:pathLst>
                <a:path w="311" h="504">
                  <a:moveTo>
                    <a:pt x="134" y="63"/>
                  </a:moveTo>
                  <a:lnTo>
                    <a:pt x="124" y="75"/>
                  </a:lnTo>
                  <a:lnTo>
                    <a:pt x="115" y="88"/>
                  </a:lnTo>
                  <a:lnTo>
                    <a:pt x="109" y="102"/>
                  </a:lnTo>
                  <a:lnTo>
                    <a:pt x="102" y="116"/>
                  </a:lnTo>
                  <a:lnTo>
                    <a:pt x="95" y="131"/>
                  </a:lnTo>
                  <a:lnTo>
                    <a:pt x="91" y="146"/>
                  </a:lnTo>
                  <a:lnTo>
                    <a:pt x="88" y="162"/>
                  </a:lnTo>
                  <a:lnTo>
                    <a:pt x="84" y="177"/>
                  </a:lnTo>
                  <a:lnTo>
                    <a:pt x="82" y="193"/>
                  </a:lnTo>
                  <a:lnTo>
                    <a:pt x="81" y="209"/>
                  </a:lnTo>
                  <a:lnTo>
                    <a:pt x="81" y="225"/>
                  </a:lnTo>
                  <a:lnTo>
                    <a:pt x="82" y="242"/>
                  </a:lnTo>
                  <a:lnTo>
                    <a:pt x="83" y="257"/>
                  </a:lnTo>
                  <a:lnTo>
                    <a:pt x="85" y="273"/>
                  </a:lnTo>
                  <a:lnTo>
                    <a:pt x="90" y="288"/>
                  </a:lnTo>
                  <a:lnTo>
                    <a:pt x="94" y="304"/>
                  </a:lnTo>
                  <a:lnTo>
                    <a:pt x="104" y="326"/>
                  </a:lnTo>
                  <a:lnTo>
                    <a:pt x="117" y="350"/>
                  </a:lnTo>
                  <a:lnTo>
                    <a:pt x="123" y="362"/>
                  </a:lnTo>
                  <a:lnTo>
                    <a:pt x="132" y="374"/>
                  </a:lnTo>
                  <a:lnTo>
                    <a:pt x="142" y="384"/>
                  </a:lnTo>
                  <a:lnTo>
                    <a:pt x="153" y="395"/>
                  </a:lnTo>
                  <a:lnTo>
                    <a:pt x="165" y="404"/>
                  </a:lnTo>
                  <a:lnTo>
                    <a:pt x="180" y="413"/>
                  </a:lnTo>
                  <a:lnTo>
                    <a:pt x="196" y="419"/>
                  </a:lnTo>
                  <a:lnTo>
                    <a:pt x="214" y="425"/>
                  </a:lnTo>
                  <a:lnTo>
                    <a:pt x="235" y="429"/>
                  </a:lnTo>
                  <a:lnTo>
                    <a:pt x="258" y="431"/>
                  </a:lnTo>
                  <a:lnTo>
                    <a:pt x="283" y="433"/>
                  </a:lnTo>
                  <a:lnTo>
                    <a:pt x="311" y="430"/>
                  </a:lnTo>
                  <a:lnTo>
                    <a:pt x="311" y="439"/>
                  </a:lnTo>
                  <a:lnTo>
                    <a:pt x="309" y="448"/>
                  </a:lnTo>
                  <a:lnTo>
                    <a:pt x="306" y="456"/>
                  </a:lnTo>
                  <a:lnTo>
                    <a:pt x="303" y="464"/>
                  </a:lnTo>
                  <a:lnTo>
                    <a:pt x="299" y="469"/>
                  </a:lnTo>
                  <a:lnTo>
                    <a:pt x="294" y="476"/>
                  </a:lnTo>
                  <a:lnTo>
                    <a:pt x="290" y="480"/>
                  </a:lnTo>
                  <a:lnTo>
                    <a:pt x="284" y="485"/>
                  </a:lnTo>
                  <a:lnTo>
                    <a:pt x="279" y="489"/>
                  </a:lnTo>
                  <a:lnTo>
                    <a:pt x="272" y="493"/>
                  </a:lnTo>
                  <a:lnTo>
                    <a:pt x="265" y="496"/>
                  </a:lnTo>
                  <a:lnTo>
                    <a:pt x="259" y="498"/>
                  </a:lnTo>
                  <a:lnTo>
                    <a:pt x="244" y="501"/>
                  </a:lnTo>
                  <a:lnTo>
                    <a:pt x="229" y="504"/>
                  </a:lnTo>
                  <a:lnTo>
                    <a:pt x="212" y="504"/>
                  </a:lnTo>
                  <a:lnTo>
                    <a:pt x="196" y="502"/>
                  </a:lnTo>
                  <a:lnTo>
                    <a:pt x="181" y="500"/>
                  </a:lnTo>
                  <a:lnTo>
                    <a:pt x="166" y="497"/>
                  </a:lnTo>
                  <a:lnTo>
                    <a:pt x="152" y="494"/>
                  </a:lnTo>
                  <a:lnTo>
                    <a:pt x="140" y="489"/>
                  </a:lnTo>
                  <a:lnTo>
                    <a:pt x="130" y="485"/>
                  </a:lnTo>
                  <a:lnTo>
                    <a:pt x="121" y="480"/>
                  </a:lnTo>
                  <a:lnTo>
                    <a:pt x="102" y="470"/>
                  </a:lnTo>
                  <a:lnTo>
                    <a:pt x="85" y="458"/>
                  </a:lnTo>
                  <a:lnTo>
                    <a:pt x="70" y="445"/>
                  </a:lnTo>
                  <a:lnTo>
                    <a:pt x="57" y="429"/>
                  </a:lnTo>
                  <a:lnTo>
                    <a:pt x="44" y="414"/>
                  </a:lnTo>
                  <a:lnTo>
                    <a:pt x="34" y="397"/>
                  </a:lnTo>
                  <a:lnTo>
                    <a:pt x="25" y="379"/>
                  </a:lnTo>
                  <a:lnTo>
                    <a:pt x="18" y="360"/>
                  </a:lnTo>
                  <a:lnTo>
                    <a:pt x="12" y="342"/>
                  </a:lnTo>
                  <a:lnTo>
                    <a:pt x="8" y="322"/>
                  </a:lnTo>
                  <a:lnTo>
                    <a:pt x="3" y="302"/>
                  </a:lnTo>
                  <a:lnTo>
                    <a:pt x="1" y="282"/>
                  </a:lnTo>
                  <a:lnTo>
                    <a:pt x="0" y="262"/>
                  </a:lnTo>
                  <a:lnTo>
                    <a:pt x="0" y="241"/>
                  </a:lnTo>
                  <a:lnTo>
                    <a:pt x="1" y="221"/>
                  </a:lnTo>
                  <a:lnTo>
                    <a:pt x="3" y="201"/>
                  </a:lnTo>
                  <a:lnTo>
                    <a:pt x="7" y="181"/>
                  </a:lnTo>
                  <a:lnTo>
                    <a:pt x="10" y="161"/>
                  </a:lnTo>
                  <a:lnTo>
                    <a:pt x="14" y="142"/>
                  </a:lnTo>
                  <a:lnTo>
                    <a:pt x="20" y="124"/>
                  </a:lnTo>
                  <a:lnTo>
                    <a:pt x="27" y="106"/>
                  </a:lnTo>
                  <a:lnTo>
                    <a:pt x="33" y="90"/>
                  </a:lnTo>
                  <a:lnTo>
                    <a:pt x="40" y="74"/>
                  </a:lnTo>
                  <a:lnTo>
                    <a:pt x="48" y="60"/>
                  </a:lnTo>
                  <a:lnTo>
                    <a:pt x="55" y="46"/>
                  </a:lnTo>
                  <a:lnTo>
                    <a:pt x="64" y="34"/>
                  </a:lnTo>
                  <a:lnTo>
                    <a:pt x="73" y="24"/>
                  </a:lnTo>
                  <a:lnTo>
                    <a:pt x="83" y="15"/>
                  </a:lnTo>
                  <a:lnTo>
                    <a:pt x="92" y="9"/>
                  </a:lnTo>
                  <a:lnTo>
                    <a:pt x="102" y="3"/>
                  </a:lnTo>
                  <a:lnTo>
                    <a:pt x="111" y="1"/>
                  </a:lnTo>
                  <a:lnTo>
                    <a:pt x="121" y="0"/>
                  </a:lnTo>
                  <a:lnTo>
                    <a:pt x="130" y="1"/>
                  </a:lnTo>
                  <a:lnTo>
                    <a:pt x="138" y="2"/>
                  </a:lnTo>
                  <a:lnTo>
                    <a:pt x="141" y="3"/>
                  </a:lnTo>
                  <a:lnTo>
                    <a:pt x="144" y="5"/>
                  </a:lnTo>
                  <a:lnTo>
                    <a:pt x="146" y="7"/>
                  </a:lnTo>
                  <a:lnTo>
                    <a:pt x="149" y="10"/>
                  </a:lnTo>
                  <a:lnTo>
                    <a:pt x="150" y="13"/>
                  </a:lnTo>
                  <a:lnTo>
                    <a:pt x="151" y="17"/>
                  </a:lnTo>
                  <a:lnTo>
                    <a:pt x="151" y="23"/>
                  </a:lnTo>
                  <a:lnTo>
                    <a:pt x="150" y="29"/>
                  </a:lnTo>
                  <a:lnTo>
                    <a:pt x="148" y="35"/>
                  </a:lnTo>
                  <a:lnTo>
                    <a:pt x="144" y="43"/>
                  </a:lnTo>
                  <a:lnTo>
                    <a:pt x="140" y="52"/>
                  </a:lnTo>
                  <a:lnTo>
                    <a:pt x="134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4789440" y="2949480"/>
              <a:ext cx="88920" cy="36720"/>
            </a:xfrm>
            <a:custGeom>
              <a:avLst/>
              <a:gdLst/>
              <a:ahLst/>
              <a:rect l="l" t="t" r="r" b="b"/>
              <a:pathLst>
                <a:path w="280" h="116">
                  <a:moveTo>
                    <a:pt x="267" y="12"/>
                  </a:moveTo>
                  <a:lnTo>
                    <a:pt x="271" y="15"/>
                  </a:lnTo>
                  <a:lnTo>
                    <a:pt x="275" y="20"/>
                  </a:lnTo>
                  <a:lnTo>
                    <a:pt x="277" y="24"/>
                  </a:lnTo>
                  <a:lnTo>
                    <a:pt x="278" y="29"/>
                  </a:lnTo>
                  <a:lnTo>
                    <a:pt x="278" y="34"/>
                  </a:lnTo>
                  <a:lnTo>
                    <a:pt x="279" y="40"/>
                  </a:lnTo>
                  <a:lnTo>
                    <a:pt x="279" y="45"/>
                  </a:lnTo>
                  <a:lnTo>
                    <a:pt x="280" y="50"/>
                  </a:lnTo>
                  <a:lnTo>
                    <a:pt x="275" y="58"/>
                  </a:lnTo>
                  <a:lnTo>
                    <a:pt x="268" y="65"/>
                  </a:lnTo>
                  <a:lnTo>
                    <a:pt x="261" y="73"/>
                  </a:lnTo>
                  <a:lnTo>
                    <a:pt x="255" y="80"/>
                  </a:lnTo>
                  <a:lnTo>
                    <a:pt x="248" y="85"/>
                  </a:lnTo>
                  <a:lnTo>
                    <a:pt x="240" y="92"/>
                  </a:lnTo>
                  <a:lnTo>
                    <a:pt x="233" y="96"/>
                  </a:lnTo>
                  <a:lnTo>
                    <a:pt x="225" y="101"/>
                  </a:lnTo>
                  <a:lnTo>
                    <a:pt x="217" y="105"/>
                  </a:lnTo>
                  <a:lnTo>
                    <a:pt x="209" y="109"/>
                  </a:lnTo>
                  <a:lnTo>
                    <a:pt x="200" y="112"/>
                  </a:lnTo>
                  <a:lnTo>
                    <a:pt x="193" y="114"/>
                  </a:lnTo>
                  <a:lnTo>
                    <a:pt x="184" y="115"/>
                  </a:lnTo>
                  <a:lnTo>
                    <a:pt x="175" y="116"/>
                  </a:lnTo>
                  <a:lnTo>
                    <a:pt x="167" y="116"/>
                  </a:lnTo>
                  <a:lnTo>
                    <a:pt x="158" y="116"/>
                  </a:lnTo>
                  <a:lnTo>
                    <a:pt x="149" y="113"/>
                  </a:lnTo>
                  <a:lnTo>
                    <a:pt x="138" y="110"/>
                  </a:lnTo>
                  <a:lnTo>
                    <a:pt x="127" y="104"/>
                  </a:lnTo>
                  <a:lnTo>
                    <a:pt x="116" y="97"/>
                  </a:lnTo>
                  <a:lnTo>
                    <a:pt x="91" y="81"/>
                  </a:lnTo>
                  <a:lnTo>
                    <a:pt x="67" y="62"/>
                  </a:lnTo>
                  <a:lnTo>
                    <a:pt x="45" y="43"/>
                  </a:lnTo>
                  <a:lnTo>
                    <a:pt x="25" y="25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2" y="15"/>
                  </a:lnTo>
                  <a:lnTo>
                    <a:pt x="79" y="29"/>
                  </a:lnTo>
                  <a:lnTo>
                    <a:pt x="97" y="34"/>
                  </a:lnTo>
                  <a:lnTo>
                    <a:pt x="114" y="38"/>
                  </a:lnTo>
                  <a:lnTo>
                    <a:pt x="130" y="41"/>
                  </a:lnTo>
                  <a:lnTo>
                    <a:pt x="147" y="43"/>
                  </a:lnTo>
                  <a:lnTo>
                    <a:pt x="163" y="43"/>
                  </a:lnTo>
                  <a:lnTo>
                    <a:pt x="177" y="43"/>
                  </a:lnTo>
                  <a:lnTo>
                    <a:pt x="193" y="41"/>
                  </a:lnTo>
                  <a:lnTo>
                    <a:pt x="207" y="39"/>
                  </a:lnTo>
                  <a:lnTo>
                    <a:pt x="221" y="34"/>
                  </a:lnTo>
                  <a:lnTo>
                    <a:pt x="237" y="29"/>
                  </a:lnTo>
                  <a:lnTo>
                    <a:pt x="251" y="21"/>
                  </a:lnTo>
                  <a:lnTo>
                    <a:pt x="26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4778280" y="2997360"/>
              <a:ext cx="92160" cy="28440"/>
            </a:xfrm>
            <a:custGeom>
              <a:avLst/>
              <a:gdLst/>
              <a:ahLst/>
              <a:rect l="l" t="t" r="r" b="b"/>
              <a:pathLst>
                <a:path w="292" h="92">
                  <a:moveTo>
                    <a:pt x="291" y="0"/>
                  </a:moveTo>
                  <a:lnTo>
                    <a:pt x="292" y="15"/>
                  </a:lnTo>
                  <a:lnTo>
                    <a:pt x="292" y="28"/>
                  </a:lnTo>
                  <a:lnTo>
                    <a:pt x="290" y="40"/>
                  </a:lnTo>
                  <a:lnTo>
                    <a:pt x="285" y="50"/>
                  </a:lnTo>
                  <a:lnTo>
                    <a:pt x="280" y="59"/>
                  </a:lnTo>
                  <a:lnTo>
                    <a:pt x="273" y="66"/>
                  </a:lnTo>
                  <a:lnTo>
                    <a:pt x="264" y="73"/>
                  </a:lnTo>
                  <a:lnTo>
                    <a:pt x="256" y="79"/>
                  </a:lnTo>
                  <a:lnTo>
                    <a:pt x="246" y="83"/>
                  </a:lnTo>
                  <a:lnTo>
                    <a:pt x="236" y="86"/>
                  </a:lnTo>
                  <a:lnTo>
                    <a:pt x="226" y="89"/>
                  </a:lnTo>
                  <a:lnTo>
                    <a:pt x="215" y="91"/>
                  </a:lnTo>
                  <a:lnTo>
                    <a:pt x="205" y="91"/>
                  </a:lnTo>
                  <a:lnTo>
                    <a:pt x="195" y="92"/>
                  </a:lnTo>
                  <a:lnTo>
                    <a:pt x="186" y="92"/>
                  </a:lnTo>
                  <a:lnTo>
                    <a:pt x="177" y="91"/>
                  </a:lnTo>
                  <a:lnTo>
                    <a:pt x="165" y="90"/>
                  </a:lnTo>
                  <a:lnTo>
                    <a:pt x="153" y="88"/>
                  </a:lnTo>
                  <a:lnTo>
                    <a:pt x="138" y="84"/>
                  </a:lnTo>
                  <a:lnTo>
                    <a:pt x="124" y="79"/>
                  </a:lnTo>
                  <a:lnTo>
                    <a:pt x="95" y="66"/>
                  </a:lnTo>
                  <a:lnTo>
                    <a:pt x="66" y="52"/>
                  </a:lnTo>
                  <a:lnTo>
                    <a:pt x="41" y="39"/>
                  </a:lnTo>
                  <a:lnTo>
                    <a:pt x="19" y="27"/>
                  </a:lnTo>
                  <a:lnTo>
                    <a:pt x="5" y="18"/>
                  </a:lnTo>
                  <a:lnTo>
                    <a:pt x="0" y="14"/>
                  </a:lnTo>
                  <a:lnTo>
                    <a:pt x="17" y="23"/>
                  </a:lnTo>
                  <a:lnTo>
                    <a:pt x="35" y="30"/>
                  </a:lnTo>
                  <a:lnTo>
                    <a:pt x="55" y="35"/>
                  </a:lnTo>
                  <a:lnTo>
                    <a:pt x="75" y="39"/>
                  </a:lnTo>
                  <a:lnTo>
                    <a:pt x="95" y="41"/>
                  </a:lnTo>
                  <a:lnTo>
                    <a:pt x="115" y="41"/>
                  </a:lnTo>
                  <a:lnTo>
                    <a:pt x="136" y="41"/>
                  </a:lnTo>
                  <a:lnTo>
                    <a:pt x="156" y="39"/>
                  </a:lnTo>
                  <a:lnTo>
                    <a:pt x="176" y="37"/>
                  </a:lnTo>
                  <a:lnTo>
                    <a:pt x="196" y="32"/>
                  </a:lnTo>
                  <a:lnTo>
                    <a:pt x="214" y="29"/>
                  </a:lnTo>
                  <a:lnTo>
                    <a:pt x="233" y="23"/>
                  </a:lnTo>
                  <a:lnTo>
                    <a:pt x="250" y="18"/>
                  </a:lnTo>
                  <a:lnTo>
                    <a:pt x="265" y="12"/>
                  </a:lnTo>
                  <a:lnTo>
                    <a:pt x="278" y="7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4548240" y="3027240"/>
              <a:ext cx="101520" cy="140040"/>
            </a:xfrm>
            <a:custGeom>
              <a:avLst/>
              <a:gdLst/>
              <a:ahLst/>
              <a:rect l="l" t="t" r="r" b="b"/>
              <a:pathLst>
                <a:path w="317" h="441">
                  <a:moveTo>
                    <a:pt x="306" y="30"/>
                  </a:moveTo>
                  <a:lnTo>
                    <a:pt x="291" y="51"/>
                  </a:lnTo>
                  <a:lnTo>
                    <a:pt x="272" y="72"/>
                  </a:lnTo>
                  <a:lnTo>
                    <a:pt x="249" y="96"/>
                  </a:lnTo>
                  <a:lnTo>
                    <a:pt x="226" y="119"/>
                  </a:lnTo>
                  <a:lnTo>
                    <a:pt x="201" y="145"/>
                  </a:lnTo>
                  <a:lnTo>
                    <a:pt x="175" y="173"/>
                  </a:lnTo>
                  <a:lnTo>
                    <a:pt x="162" y="188"/>
                  </a:lnTo>
                  <a:lnTo>
                    <a:pt x="150" y="204"/>
                  </a:lnTo>
                  <a:lnTo>
                    <a:pt x="136" y="221"/>
                  </a:lnTo>
                  <a:lnTo>
                    <a:pt x="124" y="239"/>
                  </a:lnTo>
                  <a:lnTo>
                    <a:pt x="112" y="262"/>
                  </a:lnTo>
                  <a:lnTo>
                    <a:pt x="95" y="293"/>
                  </a:lnTo>
                  <a:lnTo>
                    <a:pt x="76" y="327"/>
                  </a:lnTo>
                  <a:lnTo>
                    <a:pt x="57" y="360"/>
                  </a:lnTo>
                  <a:lnTo>
                    <a:pt x="40" y="391"/>
                  </a:lnTo>
                  <a:lnTo>
                    <a:pt x="24" y="416"/>
                  </a:lnTo>
                  <a:lnTo>
                    <a:pt x="14" y="434"/>
                  </a:lnTo>
                  <a:lnTo>
                    <a:pt x="10" y="441"/>
                  </a:lnTo>
                  <a:lnTo>
                    <a:pt x="5" y="429"/>
                  </a:lnTo>
                  <a:lnTo>
                    <a:pt x="2" y="416"/>
                  </a:lnTo>
                  <a:lnTo>
                    <a:pt x="0" y="404"/>
                  </a:lnTo>
                  <a:lnTo>
                    <a:pt x="0" y="390"/>
                  </a:lnTo>
                  <a:lnTo>
                    <a:pt x="0" y="375"/>
                  </a:lnTo>
                  <a:lnTo>
                    <a:pt x="1" y="361"/>
                  </a:lnTo>
                  <a:lnTo>
                    <a:pt x="4" y="345"/>
                  </a:lnTo>
                  <a:lnTo>
                    <a:pt x="7" y="330"/>
                  </a:lnTo>
                  <a:lnTo>
                    <a:pt x="12" y="314"/>
                  </a:lnTo>
                  <a:lnTo>
                    <a:pt x="17" y="298"/>
                  </a:lnTo>
                  <a:lnTo>
                    <a:pt x="24" y="282"/>
                  </a:lnTo>
                  <a:lnTo>
                    <a:pt x="31" y="266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6"/>
                  </a:lnTo>
                  <a:lnTo>
                    <a:pt x="66" y="200"/>
                  </a:lnTo>
                  <a:lnTo>
                    <a:pt x="77" y="183"/>
                  </a:lnTo>
                  <a:lnTo>
                    <a:pt x="88" y="168"/>
                  </a:lnTo>
                  <a:lnTo>
                    <a:pt x="100" y="152"/>
                  </a:lnTo>
                  <a:lnTo>
                    <a:pt x="112" y="138"/>
                  </a:lnTo>
                  <a:lnTo>
                    <a:pt x="124" y="123"/>
                  </a:lnTo>
                  <a:lnTo>
                    <a:pt x="137" y="109"/>
                  </a:lnTo>
                  <a:lnTo>
                    <a:pt x="151" y="96"/>
                  </a:lnTo>
                  <a:lnTo>
                    <a:pt x="164" y="82"/>
                  </a:lnTo>
                  <a:lnTo>
                    <a:pt x="177" y="70"/>
                  </a:lnTo>
                  <a:lnTo>
                    <a:pt x="191" y="59"/>
                  </a:lnTo>
                  <a:lnTo>
                    <a:pt x="205" y="49"/>
                  </a:lnTo>
                  <a:lnTo>
                    <a:pt x="218" y="39"/>
                  </a:lnTo>
                  <a:lnTo>
                    <a:pt x="233" y="31"/>
                  </a:lnTo>
                  <a:lnTo>
                    <a:pt x="246" y="24"/>
                  </a:lnTo>
                  <a:lnTo>
                    <a:pt x="261" y="17"/>
                  </a:lnTo>
                  <a:lnTo>
                    <a:pt x="274" y="12"/>
                  </a:lnTo>
                  <a:lnTo>
                    <a:pt x="277" y="11"/>
                  </a:lnTo>
                  <a:lnTo>
                    <a:pt x="284" y="7"/>
                  </a:lnTo>
                  <a:lnTo>
                    <a:pt x="294" y="4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0"/>
                  </a:lnTo>
                  <a:lnTo>
                    <a:pt x="315" y="1"/>
                  </a:lnTo>
                  <a:lnTo>
                    <a:pt x="317" y="4"/>
                  </a:lnTo>
                  <a:lnTo>
                    <a:pt x="317" y="8"/>
                  </a:lnTo>
                  <a:lnTo>
                    <a:pt x="315" y="14"/>
                  </a:lnTo>
                  <a:lnTo>
                    <a:pt x="312" y="21"/>
                  </a:lnTo>
                  <a:lnTo>
                    <a:pt x="306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5006880" y="3178080"/>
              <a:ext cx="81000" cy="95400"/>
            </a:xfrm>
            <a:custGeom>
              <a:avLst/>
              <a:gdLst/>
              <a:ahLst/>
              <a:rect l="l" t="t" r="r" b="b"/>
              <a:pathLst>
                <a:path w="259" h="301">
                  <a:moveTo>
                    <a:pt x="20" y="220"/>
                  </a:moveTo>
                  <a:lnTo>
                    <a:pt x="11" y="211"/>
                  </a:lnTo>
                  <a:lnTo>
                    <a:pt x="6" y="203"/>
                  </a:lnTo>
                  <a:lnTo>
                    <a:pt x="1" y="194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1" y="171"/>
                  </a:lnTo>
                  <a:lnTo>
                    <a:pt x="4" y="164"/>
                  </a:lnTo>
                  <a:lnTo>
                    <a:pt x="6" y="157"/>
                  </a:lnTo>
                  <a:lnTo>
                    <a:pt x="11" y="141"/>
                  </a:lnTo>
                  <a:lnTo>
                    <a:pt x="15" y="127"/>
                  </a:lnTo>
                  <a:lnTo>
                    <a:pt x="15" y="119"/>
                  </a:lnTo>
                  <a:lnTo>
                    <a:pt x="14" y="110"/>
                  </a:lnTo>
                  <a:lnTo>
                    <a:pt x="10" y="102"/>
                  </a:lnTo>
                  <a:lnTo>
                    <a:pt x="6" y="93"/>
                  </a:lnTo>
                  <a:lnTo>
                    <a:pt x="6" y="88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6" y="71"/>
                  </a:lnTo>
                  <a:lnTo>
                    <a:pt x="8" y="67"/>
                  </a:lnTo>
                  <a:lnTo>
                    <a:pt x="10" y="62"/>
                  </a:lnTo>
                  <a:lnTo>
                    <a:pt x="15" y="59"/>
                  </a:lnTo>
                  <a:lnTo>
                    <a:pt x="20" y="56"/>
                  </a:lnTo>
                  <a:lnTo>
                    <a:pt x="25" y="56"/>
                  </a:lnTo>
                  <a:lnTo>
                    <a:pt x="29" y="57"/>
                  </a:lnTo>
                  <a:lnTo>
                    <a:pt x="34" y="58"/>
                  </a:lnTo>
                  <a:lnTo>
                    <a:pt x="37" y="60"/>
                  </a:lnTo>
                  <a:lnTo>
                    <a:pt x="45" y="65"/>
                  </a:lnTo>
                  <a:lnTo>
                    <a:pt x="50" y="71"/>
                  </a:lnTo>
                  <a:lnTo>
                    <a:pt x="61" y="88"/>
                  </a:lnTo>
                  <a:lnTo>
                    <a:pt x="72" y="106"/>
                  </a:lnTo>
                  <a:lnTo>
                    <a:pt x="78" y="115"/>
                  </a:lnTo>
                  <a:lnTo>
                    <a:pt x="85" y="122"/>
                  </a:lnTo>
                  <a:lnTo>
                    <a:pt x="91" y="129"/>
                  </a:lnTo>
                  <a:lnTo>
                    <a:pt x="99" y="133"/>
                  </a:lnTo>
                  <a:lnTo>
                    <a:pt x="103" y="136"/>
                  </a:lnTo>
                  <a:lnTo>
                    <a:pt x="108" y="137"/>
                  </a:lnTo>
                  <a:lnTo>
                    <a:pt x="113" y="138"/>
                  </a:lnTo>
                  <a:lnTo>
                    <a:pt x="119" y="138"/>
                  </a:lnTo>
                  <a:lnTo>
                    <a:pt x="125" y="138"/>
                  </a:lnTo>
                  <a:lnTo>
                    <a:pt x="130" y="137"/>
                  </a:lnTo>
                  <a:lnTo>
                    <a:pt x="137" y="135"/>
                  </a:lnTo>
                  <a:lnTo>
                    <a:pt x="143" y="132"/>
                  </a:lnTo>
                  <a:lnTo>
                    <a:pt x="198" y="96"/>
                  </a:lnTo>
                  <a:lnTo>
                    <a:pt x="188" y="88"/>
                  </a:lnTo>
                  <a:lnTo>
                    <a:pt x="179" y="78"/>
                  </a:lnTo>
                  <a:lnTo>
                    <a:pt x="171" y="67"/>
                  </a:lnTo>
                  <a:lnTo>
                    <a:pt x="165" y="55"/>
                  </a:lnTo>
                  <a:lnTo>
                    <a:pt x="158" y="42"/>
                  </a:lnTo>
                  <a:lnTo>
                    <a:pt x="152" y="29"/>
                  </a:lnTo>
                  <a:lnTo>
                    <a:pt x="148" y="15"/>
                  </a:lnTo>
                  <a:lnTo>
                    <a:pt x="143" y="0"/>
                  </a:lnTo>
                  <a:lnTo>
                    <a:pt x="159" y="15"/>
                  </a:lnTo>
                  <a:lnTo>
                    <a:pt x="176" y="27"/>
                  </a:lnTo>
                  <a:lnTo>
                    <a:pt x="193" y="40"/>
                  </a:lnTo>
                  <a:lnTo>
                    <a:pt x="210" y="52"/>
                  </a:lnTo>
                  <a:lnTo>
                    <a:pt x="219" y="59"/>
                  </a:lnTo>
                  <a:lnTo>
                    <a:pt x="227" y="66"/>
                  </a:lnTo>
                  <a:lnTo>
                    <a:pt x="235" y="73"/>
                  </a:lnTo>
                  <a:lnTo>
                    <a:pt x="241" y="81"/>
                  </a:lnTo>
                  <a:lnTo>
                    <a:pt x="247" y="89"/>
                  </a:lnTo>
                  <a:lnTo>
                    <a:pt x="252" y="99"/>
                  </a:lnTo>
                  <a:lnTo>
                    <a:pt x="257" y="109"/>
                  </a:lnTo>
                  <a:lnTo>
                    <a:pt x="259" y="119"/>
                  </a:lnTo>
                  <a:lnTo>
                    <a:pt x="246" y="135"/>
                  </a:lnTo>
                  <a:lnTo>
                    <a:pt x="231" y="149"/>
                  </a:lnTo>
                  <a:lnTo>
                    <a:pt x="217" y="162"/>
                  </a:lnTo>
                  <a:lnTo>
                    <a:pt x="201" y="173"/>
                  </a:lnTo>
                  <a:lnTo>
                    <a:pt x="193" y="178"/>
                  </a:lnTo>
                  <a:lnTo>
                    <a:pt x="186" y="182"/>
                  </a:lnTo>
                  <a:lnTo>
                    <a:pt x="177" y="186"/>
                  </a:lnTo>
                  <a:lnTo>
                    <a:pt x="168" y="189"/>
                  </a:lnTo>
                  <a:lnTo>
                    <a:pt x="160" y="191"/>
                  </a:lnTo>
                  <a:lnTo>
                    <a:pt x="151" y="192"/>
                  </a:lnTo>
                  <a:lnTo>
                    <a:pt x="141" y="193"/>
                  </a:lnTo>
                  <a:lnTo>
                    <a:pt x="132" y="193"/>
                  </a:lnTo>
                  <a:lnTo>
                    <a:pt x="132" y="201"/>
                  </a:lnTo>
                  <a:lnTo>
                    <a:pt x="133" y="208"/>
                  </a:lnTo>
                  <a:lnTo>
                    <a:pt x="135" y="214"/>
                  </a:lnTo>
                  <a:lnTo>
                    <a:pt x="138" y="221"/>
                  </a:lnTo>
                  <a:lnTo>
                    <a:pt x="143" y="233"/>
                  </a:lnTo>
                  <a:lnTo>
                    <a:pt x="151" y="246"/>
                  </a:lnTo>
                  <a:lnTo>
                    <a:pt x="153" y="252"/>
                  </a:lnTo>
                  <a:lnTo>
                    <a:pt x="156" y="258"/>
                  </a:lnTo>
                  <a:lnTo>
                    <a:pt x="158" y="264"/>
                  </a:lnTo>
                  <a:lnTo>
                    <a:pt x="158" y="270"/>
                  </a:lnTo>
                  <a:lnTo>
                    <a:pt x="157" y="277"/>
                  </a:lnTo>
                  <a:lnTo>
                    <a:pt x="155" y="283"/>
                  </a:lnTo>
                  <a:lnTo>
                    <a:pt x="150" y="290"/>
                  </a:lnTo>
                  <a:lnTo>
                    <a:pt x="143" y="297"/>
                  </a:lnTo>
                  <a:lnTo>
                    <a:pt x="137" y="300"/>
                  </a:lnTo>
                  <a:lnTo>
                    <a:pt x="129" y="301"/>
                  </a:lnTo>
                  <a:lnTo>
                    <a:pt x="122" y="301"/>
                  </a:lnTo>
                  <a:lnTo>
                    <a:pt x="117" y="300"/>
                  </a:lnTo>
                  <a:lnTo>
                    <a:pt x="110" y="298"/>
                  </a:lnTo>
                  <a:lnTo>
                    <a:pt x="106" y="294"/>
                  </a:lnTo>
                  <a:lnTo>
                    <a:pt x="100" y="291"/>
                  </a:lnTo>
                  <a:lnTo>
                    <a:pt x="95" y="287"/>
                  </a:lnTo>
                  <a:lnTo>
                    <a:pt x="86" y="275"/>
                  </a:lnTo>
                  <a:lnTo>
                    <a:pt x="76" y="264"/>
                  </a:lnTo>
                  <a:lnTo>
                    <a:pt x="67" y="254"/>
                  </a:lnTo>
                  <a:lnTo>
                    <a:pt x="56" y="247"/>
                  </a:lnTo>
                  <a:lnTo>
                    <a:pt x="20" y="2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4968720" y="3245040"/>
              <a:ext cx="47880" cy="90360"/>
            </a:xfrm>
            <a:custGeom>
              <a:avLst/>
              <a:gdLst/>
              <a:ahLst/>
              <a:rect l="l" t="t" r="r" b="b"/>
              <a:pathLst>
                <a:path w="152" h="284">
                  <a:moveTo>
                    <a:pt x="138" y="0"/>
                  </a:moveTo>
                  <a:lnTo>
                    <a:pt x="144" y="3"/>
                  </a:lnTo>
                  <a:lnTo>
                    <a:pt x="147" y="9"/>
                  </a:lnTo>
                  <a:lnTo>
                    <a:pt x="150" y="16"/>
                  </a:lnTo>
                  <a:lnTo>
                    <a:pt x="152" y="23"/>
                  </a:lnTo>
                  <a:lnTo>
                    <a:pt x="152" y="32"/>
                  </a:lnTo>
                  <a:lnTo>
                    <a:pt x="150" y="42"/>
                  </a:lnTo>
                  <a:lnTo>
                    <a:pt x="149" y="53"/>
                  </a:lnTo>
                  <a:lnTo>
                    <a:pt x="147" y="64"/>
                  </a:lnTo>
                  <a:lnTo>
                    <a:pt x="139" y="90"/>
                  </a:lnTo>
                  <a:lnTo>
                    <a:pt x="129" y="117"/>
                  </a:lnTo>
                  <a:lnTo>
                    <a:pt x="119" y="143"/>
                  </a:lnTo>
                  <a:lnTo>
                    <a:pt x="108" y="170"/>
                  </a:lnTo>
                  <a:lnTo>
                    <a:pt x="103" y="181"/>
                  </a:lnTo>
                  <a:lnTo>
                    <a:pt x="95" y="198"/>
                  </a:lnTo>
                  <a:lnTo>
                    <a:pt x="85" y="215"/>
                  </a:lnTo>
                  <a:lnTo>
                    <a:pt x="73" y="234"/>
                  </a:lnTo>
                  <a:lnTo>
                    <a:pt x="66" y="244"/>
                  </a:lnTo>
                  <a:lnTo>
                    <a:pt x="59" y="253"/>
                  </a:lnTo>
                  <a:lnTo>
                    <a:pt x="50" y="261"/>
                  </a:lnTo>
                  <a:lnTo>
                    <a:pt x="43" y="269"/>
                  </a:lnTo>
                  <a:lnTo>
                    <a:pt x="33" y="274"/>
                  </a:lnTo>
                  <a:lnTo>
                    <a:pt x="23" y="279"/>
                  </a:lnTo>
                  <a:lnTo>
                    <a:pt x="12" y="282"/>
                  </a:lnTo>
                  <a:lnTo>
                    <a:pt x="0" y="284"/>
                  </a:lnTo>
                  <a:lnTo>
                    <a:pt x="26" y="248"/>
                  </a:lnTo>
                  <a:lnTo>
                    <a:pt x="50" y="208"/>
                  </a:lnTo>
                  <a:lnTo>
                    <a:pt x="75" y="167"/>
                  </a:lnTo>
                  <a:lnTo>
                    <a:pt x="97" y="127"/>
                  </a:lnTo>
                  <a:lnTo>
                    <a:pt x="106" y="107"/>
                  </a:lnTo>
                  <a:lnTo>
                    <a:pt x="115" y="87"/>
                  </a:lnTo>
                  <a:lnTo>
                    <a:pt x="123" y="69"/>
                  </a:lnTo>
                  <a:lnTo>
                    <a:pt x="129" y="52"/>
                  </a:lnTo>
                  <a:lnTo>
                    <a:pt x="134" y="37"/>
                  </a:lnTo>
                  <a:lnTo>
                    <a:pt x="137" y="22"/>
                  </a:lnTo>
                  <a:lnTo>
                    <a:pt x="138" y="1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4805280" y="3352680"/>
              <a:ext cx="34920" cy="1908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110" y="15"/>
                  </a:moveTo>
                  <a:lnTo>
                    <a:pt x="106" y="21"/>
                  </a:lnTo>
                  <a:lnTo>
                    <a:pt x="101" y="27"/>
                  </a:lnTo>
                  <a:lnTo>
                    <a:pt x="96" y="31"/>
                  </a:lnTo>
                  <a:lnTo>
                    <a:pt x="90" y="34"/>
                  </a:lnTo>
                  <a:lnTo>
                    <a:pt x="77" y="38"/>
                  </a:lnTo>
                  <a:lnTo>
                    <a:pt x="62" y="40"/>
                  </a:lnTo>
                  <a:lnTo>
                    <a:pt x="49" y="42"/>
                  </a:lnTo>
                  <a:lnTo>
                    <a:pt x="36" y="44"/>
                  </a:lnTo>
                  <a:lnTo>
                    <a:pt x="29" y="47"/>
                  </a:lnTo>
                  <a:lnTo>
                    <a:pt x="23" y="50"/>
                  </a:lnTo>
                  <a:lnTo>
                    <a:pt x="19" y="54"/>
                  </a:lnTo>
                  <a:lnTo>
                    <a:pt x="16" y="60"/>
                  </a:lnTo>
                  <a:lnTo>
                    <a:pt x="9" y="57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8" y="17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39" y="0"/>
                  </a:lnTo>
                  <a:lnTo>
                    <a:pt x="55" y="1"/>
                  </a:lnTo>
                  <a:lnTo>
                    <a:pt x="70" y="3"/>
                  </a:lnTo>
                  <a:lnTo>
                    <a:pt x="86" y="7"/>
                  </a:lnTo>
                  <a:lnTo>
                    <a:pt x="98" y="10"/>
                  </a:lnTo>
                  <a:lnTo>
                    <a:pt x="107" y="13"/>
                  </a:lnTo>
                  <a:lnTo>
                    <a:pt x="11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4951440" y="3384720"/>
              <a:ext cx="39600" cy="23760"/>
            </a:xfrm>
            <a:custGeom>
              <a:avLst/>
              <a:gdLst/>
              <a:ahLst/>
              <a:rect l="l" t="t" r="r" b="b"/>
              <a:pathLst>
                <a:path w="127" h="77">
                  <a:moveTo>
                    <a:pt x="127" y="64"/>
                  </a:moveTo>
                  <a:lnTo>
                    <a:pt x="119" y="70"/>
                  </a:lnTo>
                  <a:lnTo>
                    <a:pt x="111" y="74"/>
                  </a:lnTo>
                  <a:lnTo>
                    <a:pt x="102" y="76"/>
                  </a:lnTo>
                  <a:lnTo>
                    <a:pt x="94" y="77"/>
                  </a:lnTo>
                  <a:lnTo>
                    <a:pt x="87" y="77"/>
                  </a:lnTo>
                  <a:lnTo>
                    <a:pt x="79" y="76"/>
                  </a:lnTo>
                  <a:lnTo>
                    <a:pt x="71" y="75"/>
                  </a:lnTo>
                  <a:lnTo>
                    <a:pt x="62" y="73"/>
                  </a:lnTo>
                  <a:lnTo>
                    <a:pt x="47" y="66"/>
                  </a:lnTo>
                  <a:lnTo>
                    <a:pt x="31" y="61"/>
                  </a:lnTo>
                  <a:lnTo>
                    <a:pt x="15" y="55"/>
                  </a:lnTo>
                  <a:lnTo>
                    <a:pt x="0" y="51"/>
                  </a:lnTo>
                  <a:lnTo>
                    <a:pt x="3" y="43"/>
                  </a:lnTo>
                  <a:lnTo>
                    <a:pt x="7" y="34"/>
                  </a:lnTo>
                  <a:lnTo>
                    <a:pt x="10" y="28"/>
                  </a:lnTo>
                  <a:lnTo>
                    <a:pt x="13" y="20"/>
                  </a:lnTo>
                  <a:lnTo>
                    <a:pt x="18" y="14"/>
                  </a:lnTo>
                  <a:lnTo>
                    <a:pt x="23" y="9"/>
                  </a:lnTo>
                  <a:lnTo>
                    <a:pt x="30" y="4"/>
                  </a:lnTo>
                  <a:lnTo>
                    <a:pt x="39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70" y="1"/>
                  </a:lnTo>
                  <a:lnTo>
                    <a:pt x="78" y="3"/>
                  </a:lnTo>
                  <a:lnTo>
                    <a:pt x="85" y="5"/>
                  </a:lnTo>
                  <a:lnTo>
                    <a:pt x="93" y="9"/>
                  </a:lnTo>
                  <a:lnTo>
                    <a:pt x="100" y="12"/>
                  </a:lnTo>
                  <a:lnTo>
                    <a:pt x="105" y="16"/>
                  </a:lnTo>
                  <a:lnTo>
                    <a:pt x="112" y="22"/>
                  </a:lnTo>
                  <a:lnTo>
                    <a:pt x="117" y="28"/>
                  </a:lnTo>
                  <a:lnTo>
                    <a:pt x="121" y="33"/>
                  </a:lnTo>
                  <a:lnTo>
                    <a:pt x="124" y="41"/>
                  </a:lnTo>
                  <a:lnTo>
                    <a:pt x="125" y="47"/>
                  </a:lnTo>
                  <a:lnTo>
                    <a:pt x="127" y="55"/>
                  </a:lnTo>
                  <a:lnTo>
                    <a:pt x="127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4381560" y="3549600"/>
              <a:ext cx="41040" cy="141480"/>
            </a:xfrm>
            <a:custGeom>
              <a:avLst/>
              <a:gdLst/>
              <a:ahLst/>
              <a:rect l="l" t="t" r="r" b="b"/>
              <a:pathLst>
                <a:path w="131" h="445">
                  <a:moveTo>
                    <a:pt x="131" y="28"/>
                  </a:moveTo>
                  <a:lnTo>
                    <a:pt x="118" y="55"/>
                  </a:lnTo>
                  <a:lnTo>
                    <a:pt x="106" y="79"/>
                  </a:lnTo>
                  <a:lnTo>
                    <a:pt x="96" y="104"/>
                  </a:lnTo>
                  <a:lnTo>
                    <a:pt x="87" y="127"/>
                  </a:lnTo>
                  <a:lnTo>
                    <a:pt x="80" y="149"/>
                  </a:lnTo>
                  <a:lnTo>
                    <a:pt x="73" y="170"/>
                  </a:lnTo>
                  <a:lnTo>
                    <a:pt x="69" y="191"/>
                  </a:lnTo>
                  <a:lnTo>
                    <a:pt x="64" y="210"/>
                  </a:lnTo>
                  <a:lnTo>
                    <a:pt x="62" y="229"/>
                  </a:lnTo>
                  <a:lnTo>
                    <a:pt x="60" y="247"/>
                  </a:lnTo>
                  <a:lnTo>
                    <a:pt x="60" y="263"/>
                  </a:lnTo>
                  <a:lnTo>
                    <a:pt x="60" y="279"/>
                  </a:lnTo>
                  <a:lnTo>
                    <a:pt x="61" y="295"/>
                  </a:lnTo>
                  <a:lnTo>
                    <a:pt x="62" y="309"/>
                  </a:lnTo>
                  <a:lnTo>
                    <a:pt x="64" y="322"/>
                  </a:lnTo>
                  <a:lnTo>
                    <a:pt x="67" y="334"/>
                  </a:lnTo>
                  <a:lnTo>
                    <a:pt x="72" y="358"/>
                  </a:lnTo>
                  <a:lnTo>
                    <a:pt x="80" y="378"/>
                  </a:lnTo>
                  <a:lnTo>
                    <a:pt x="87" y="396"/>
                  </a:lnTo>
                  <a:lnTo>
                    <a:pt x="93" y="410"/>
                  </a:lnTo>
                  <a:lnTo>
                    <a:pt x="100" y="422"/>
                  </a:lnTo>
                  <a:lnTo>
                    <a:pt x="103" y="432"/>
                  </a:lnTo>
                  <a:lnTo>
                    <a:pt x="104" y="437"/>
                  </a:lnTo>
                  <a:lnTo>
                    <a:pt x="106" y="440"/>
                  </a:lnTo>
                  <a:lnTo>
                    <a:pt x="106" y="442"/>
                  </a:lnTo>
                  <a:lnTo>
                    <a:pt x="104" y="445"/>
                  </a:lnTo>
                  <a:lnTo>
                    <a:pt x="94" y="443"/>
                  </a:lnTo>
                  <a:lnTo>
                    <a:pt x="83" y="440"/>
                  </a:lnTo>
                  <a:lnTo>
                    <a:pt x="71" y="432"/>
                  </a:lnTo>
                  <a:lnTo>
                    <a:pt x="58" y="422"/>
                  </a:lnTo>
                  <a:lnTo>
                    <a:pt x="51" y="415"/>
                  </a:lnTo>
                  <a:lnTo>
                    <a:pt x="43" y="409"/>
                  </a:lnTo>
                  <a:lnTo>
                    <a:pt x="38" y="401"/>
                  </a:lnTo>
                  <a:lnTo>
                    <a:pt x="31" y="392"/>
                  </a:lnTo>
                  <a:lnTo>
                    <a:pt x="25" y="382"/>
                  </a:lnTo>
                  <a:lnTo>
                    <a:pt x="19" y="371"/>
                  </a:lnTo>
                  <a:lnTo>
                    <a:pt x="15" y="360"/>
                  </a:lnTo>
                  <a:lnTo>
                    <a:pt x="10" y="347"/>
                  </a:lnTo>
                  <a:lnTo>
                    <a:pt x="7" y="333"/>
                  </a:lnTo>
                  <a:lnTo>
                    <a:pt x="3" y="319"/>
                  </a:lnTo>
                  <a:lnTo>
                    <a:pt x="1" y="303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1" y="250"/>
                  </a:lnTo>
                  <a:lnTo>
                    <a:pt x="3" y="230"/>
                  </a:lnTo>
                  <a:lnTo>
                    <a:pt x="7" y="210"/>
                  </a:lnTo>
                  <a:lnTo>
                    <a:pt x="12" y="188"/>
                  </a:lnTo>
                  <a:lnTo>
                    <a:pt x="19" y="165"/>
                  </a:lnTo>
                  <a:lnTo>
                    <a:pt x="27" y="140"/>
                  </a:lnTo>
                  <a:lnTo>
                    <a:pt x="37" y="115"/>
                  </a:lnTo>
                  <a:lnTo>
                    <a:pt x="48" y="88"/>
                  </a:lnTo>
                  <a:lnTo>
                    <a:pt x="61" y="60"/>
                  </a:lnTo>
                  <a:lnTo>
                    <a:pt x="77" y="31"/>
                  </a:lnTo>
                  <a:lnTo>
                    <a:pt x="93" y="1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3"/>
                  </a:lnTo>
                  <a:lnTo>
                    <a:pt x="121" y="5"/>
                  </a:lnTo>
                  <a:lnTo>
                    <a:pt x="126" y="8"/>
                  </a:lnTo>
                  <a:lnTo>
                    <a:pt x="129" y="14"/>
                  </a:lnTo>
                  <a:lnTo>
                    <a:pt x="131" y="20"/>
                  </a:lnTo>
                  <a:lnTo>
                    <a:pt x="131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5213520" y="3897360"/>
              <a:ext cx="228600" cy="92160"/>
            </a:xfrm>
            <a:custGeom>
              <a:avLst/>
              <a:gdLst/>
              <a:ahLst/>
              <a:rect l="l" t="t" r="r" b="b"/>
              <a:pathLst>
                <a:path w="719" h="291">
                  <a:moveTo>
                    <a:pt x="537" y="197"/>
                  </a:moveTo>
                  <a:lnTo>
                    <a:pt x="532" y="189"/>
                  </a:lnTo>
                  <a:lnTo>
                    <a:pt x="524" y="179"/>
                  </a:lnTo>
                  <a:lnTo>
                    <a:pt x="517" y="170"/>
                  </a:lnTo>
                  <a:lnTo>
                    <a:pt x="507" y="161"/>
                  </a:lnTo>
                  <a:lnTo>
                    <a:pt x="486" y="143"/>
                  </a:lnTo>
                  <a:lnTo>
                    <a:pt x="465" y="126"/>
                  </a:lnTo>
                  <a:lnTo>
                    <a:pt x="456" y="119"/>
                  </a:lnTo>
                  <a:lnTo>
                    <a:pt x="448" y="110"/>
                  </a:lnTo>
                  <a:lnTo>
                    <a:pt x="445" y="105"/>
                  </a:lnTo>
                  <a:lnTo>
                    <a:pt x="441" y="101"/>
                  </a:lnTo>
                  <a:lnTo>
                    <a:pt x="440" y="96"/>
                  </a:lnTo>
                  <a:lnTo>
                    <a:pt x="438" y="92"/>
                  </a:lnTo>
                  <a:lnTo>
                    <a:pt x="438" y="86"/>
                  </a:lnTo>
                  <a:lnTo>
                    <a:pt x="438" y="82"/>
                  </a:lnTo>
                  <a:lnTo>
                    <a:pt x="439" y="78"/>
                  </a:lnTo>
                  <a:lnTo>
                    <a:pt x="440" y="72"/>
                  </a:lnTo>
                  <a:lnTo>
                    <a:pt x="443" y="66"/>
                  </a:lnTo>
                  <a:lnTo>
                    <a:pt x="447" y="62"/>
                  </a:lnTo>
                  <a:lnTo>
                    <a:pt x="451" y="56"/>
                  </a:lnTo>
                  <a:lnTo>
                    <a:pt x="458" y="51"/>
                  </a:lnTo>
                  <a:lnTo>
                    <a:pt x="471" y="68"/>
                  </a:lnTo>
                  <a:lnTo>
                    <a:pt x="486" y="84"/>
                  </a:lnTo>
                  <a:lnTo>
                    <a:pt x="499" y="100"/>
                  </a:lnTo>
                  <a:lnTo>
                    <a:pt x="513" y="114"/>
                  </a:lnTo>
                  <a:lnTo>
                    <a:pt x="528" y="127"/>
                  </a:lnTo>
                  <a:lnTo>
                    <a:pt x="543" y="141"/>
                  </a:lnTo>
                  <a:lnTo>
                    <a:pt x="558" y="153"/>
                  </a:lnTo>
                  <a:lnTo>
                    <a:pt x="573" y="164"/>
                  </a:lnTo>
                  <a:lnTo>
                    <a:pt x="589" y="174"/>
                  </a:lnTo>
                  <a:lnTo>
                    <a:pt x="606" y="184"/>
                  </a:lnTo>
                  <a:lnTo>
                    <a:pt x="622" y="193"/>
                  </a:lnTo>
                  <a:lnTo>
                    <a:pt x="639" y="201"/>
                  </a:lnTo>
                  <a:lnTo>
                    <a:pt x="657" y="208"/>
                  </a:lnTo>
                  <a:lnTo>
                    <a:pt x="676" y="215"/>
                  </a:lnTo>
                  <a:lnTo>
                    <a:pt x="694" y="222"/>
                  </a:lnTo>
                  <a:lnTo>
                    <a:pt x="713" y="227"/>
                  </a:lnTo>
                  <a:lnTo>
                    <a:pt x="718" y="236"/>
                  </a:lnTo>
                  <a:lnTo>
                    <a:pt x="719" y="242"/>
                  </a:lnTo>
                  <a:lnTo>
                    <a:pt x="719" y="245"/>
                  </a:lnTo>
                  <a:lnTo>
                    <a:pt x="718" y="246"/>
                  </a:lnTo>
                  <a:lnTo>
                    <a:pt x="715" y="248"/>
                  </a:lnTo>
                  <a:lnTo>
                    <a:pt x="714" y="250"/>
                  </a:lnTo>
                  <a:lnTo>
                    <a:pt x="709" y="252"/>
                  </a:lnTo>
                  <a:lnTo>
                    <a:pt x="702" y="253"/>
                  </a:lnTo>
                  <a:lnTo>
                    <a:pt x="694" y="253"/>
                  </a:lnTo>
                  <a:lnTo>
                    <a:pt x="687" y="254"/>
                  </a:lnTo>
                  <a:lnTo>
                    <a:pt x="678" y="254"/>
                  </a:lnTo>
                  <a:lnTo>
                    <a:pt x="669" y="255"/>
                  </a:lnTo>
                  <a:lnTo>
                    <a:pt x="661" y="257"/>
                  </a:lnTo>
                  <a:lnTo>
                    <a:pt x="653" y="261"/>
                  </a:lnTo>
                  <a:lnTo>
                    <a:pt x="650" y="263"/>
                  </a:lnTo>
                  <a:lnTo>
                    <a:pt x="647" y="265"/>
                  </a:lnTo>
                  <a:lnTo>
                    <a:pt x="643" y="268"/>
                  </a:lnTo>
                  <a:lnTo>
                    <a:pt x="641" y="272"/>
                  </a:lnTo>
                  <a:lnTo>
                    <a:pt x="639" y="275"/>
                  </a:lnTo>
                  <a:lnTo>
                    <a:pt x="638" y="280"/>
                  </a:lnTo>
                  <a:lnTo>
                    <a:pt x="637" y="285"/>
                  </a:lnTo>
                  <a:lnTo>
                    <a:pt x="637" y="291"/>
                  </a:lnTo>
                  <a:lnTo>
                    <a:pt x="617" y="286"/>
                  </a:lnTo>
                  <a:lnTo>
                    <a:pt x="598" y="282"/>
                  </a:lnTo>
                  <a:lnTo>
                    <a:pt x="578" y="276"/>
                  </a:lnTo>
                  <a:lnTo>
                    <a:pt x="559" y="272"/>
                  </a:lnTo>
                  <a:lnTo>
                    <a:pt x="540" y="266"/>
                  </a:lnTo>
                  <a:lnTo>
                    <a:pt x="521" y="262"/>
                  </a:lnTo>
                  <a:lnTo>
                    <a:pt x="502" y="257"/>
                  </a:lnTo>
                  <a:lnTo>
                    <a:pt x="483" y="254"/>
                  </a:lnTo>
                  <a:lnTo>
                    <a:pt x="471" y="256"/>
                  </a:lnTo>
                  <a:lnTo>
                    <a:pt x="458" y="257"/>
                  </a:lnTo>
                  <a:lnTo>
                    <a:pt x="446" y="257"/>
                  </a:lnTo>
                  <a:lnTo>
                    <a:pt x="432" y="257"/>
                  </a:lnTo>
                  <a:lnTo>
                    <a:pt x="420" y="256"/>
                  </a:lnTo>
                  <a:lnTo>
                    <a:pt x="407" y="254"/>
                  </a:lnTo>
                  <a:lnTo>
                    <a:pt x="393" y="252"/>
                  </a:lnTo>
                  <a:lnTo>
                    <a:pt x="380" y="250"/>
                  </a:lnTo>
                  <a:lnTo>
                    <a:pt x="355" y="242"/>
                  </a:lnTo>
                  <a:lnTo>
                    <a:pt x="329" y="234"/>
                  </a:lnTo>
                  <a:lnTo>
                    <a:pt x="305" y="225"/>
                  </a:lnTo>
                  <a:lnTo>
                    <a:pt x="280" y="217"/>
                  </a:lnTo>
                  <a:lnTo>
                    <a:pt x="240" y="199"/>
                  </a:lnTo>
                  <a:lnTo>
                    <a:pt x="199" y="179"/>
                  </a:lnTo>
                  <a:lnTo>
                    <a:pt x="179" y="169"/>
                  </a:lnTo>
                  <a:lnTo>
                    <a:pt x="159" y="157"/>
                  </a:lnTo>
                  <a:lnTo>
                    <a:pt x="139" y="146"/>
                  </a:lnTo>
                  <a:lnTo>
                    <a:pt x="120" y="134"/>
                  </a:lnTo>
                  <a:lnTo>
                    <a:pt x="101" y="122"/>
                  </a:lnTo>
                  <a:lnTo>
                    <a:pt x="84" y="107"/>
                  </a:lnTo>
                  <a:lnTo>
                    <a:pt x="66" y="93"/>
                  </a:lnTo>
                  <a:lnTo>
                    <a:pt x="50" y="78"/>
                  </a:lnTo>
                  <a:lnTo>
                    <a:pt x="36" y="60"/>
                  </a:lnTo>
                  <a:lnTo>
                    <a:pt x="23" y="41"/>
                  </a:lnTo>
                  <a:lnTo>
                    <a:pt x="16" y="32"/>
                  </a:lnTo>
                  <a:lnTo>
                    <a:pt x="10" y="21"/>
                  </a:lnTo>
                  <a:lnTo>
                    <a:pt x="5" y="11"/>
                  </a:lnTo>
                  <a:lnTo>
                    <a:pt x="0" y="0"/>
                  </a:lnTo>
                  <a:lnTo>
                    <a:pt x="64" y="35"/>
                  </a:lnTo>
                  <a:lnTo>
                    <a:pt x="128" y="71"/>
                  </a:lnTo>
                  <a:lnTo>
                    <a:pt x="160" y="89"/>
                  </a:lnTo>
                  <a:lnTo>
                    <a:pt x="194" y="105"/>
                  </a:lnTo>
                  <a:lnTo>
                    <a:pt x="227" y="122"/>
                  </a:lnTo>
                  <a:lnTo>
                    <a:pt x="260" y="137"/>
                  </a:lnTo>
                  <a:lnTo>
                    <a:pt x="293" y="152"/>
                  </a:lnTo>
                  <a:lnTo>
                    <a:pt x="328" y="164"/>
                  </a:lnTo>
                  <a:lnTo>
                    <a:pt x="362" y="175"/>
                  </a:lnTo>
                  <a:lnTo>
                    <a:pt x="397" y="185"/>
                  </a:lnTo>
                  <a:lnTo>
                    <a:pt x="415" y="189"/>
                  </a:lnTo>
                  <a:lnTo>
                    <a:pt x="431" y="192"/>
                  </a:lnTo>
                  <a:lnTo>
                    <a:pt x="449" y="194"/>
                  </a:lnTo>
                  <a:lnTo>
                    <a:pt x="467" y="196"/>
                  </a:lnTo>
                  <a:lnTo>
                    <a:pt x="483" y="197"/>
                  </a:lnTo>
                  <a:lnTo>
                    <a:pt x="501" y="199"/>
                  </a:lnTo>
                  <a:lnTo>
                    <a:pt x="519" y="199"/>
                  </a:lnTo>
                  <a:lnTo>
                    <a:pt x="537" y="1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5446800" y="3900600"/>
              <a:ext cx="127080" cy="93600"/>
            </a:xfrm>
            <a:custGeom>
              <a:avLst/>
              <a:gdLst/>
              <a:ahLst/>
              <a:rect l="l" t="t" r="r" b="b"/>
              <a:pathLst>
                <a:path w="397" h="295">
                  <a:moveTo>
                    <a:pt x="397" y="254"/>
                  </a:moveTo>
                  <a:lnTo>
                    <a:pt x="388" y="255"/>
                  </a:lnTo>
                  <a:lnTo>
                    <a:pt x="378" y="255"/>
                  </a:lnTo>
                  <a:lnTo>
                    <a:pt x="367" y="255"/>
                  </a:lnTo>
                  <a:lnTo>
                    <a:pt x="357" y="255"/>
                  </a:lnTo>
                  <a:lnTo>
                    <a:pt x="347" y="255"/>
                  </a:lnTo>
                  <a:lnTo>
                    <a:pt x="337" y="257"/>
                  </a:lnTo>
                  <a:lnTo>
                    <a:pt x="332" y="260"/>
                  </a:lnTo>
                  <a:lnTo>
                    <a:pt x="328" y="262"/>
                  </a:lnTo>
                  <a:lnTo>
                    <a:pt x="324" y="264"/>
                  </a:lnTo>
                  <a:lnTo>
                    <a:pt x="320" y="268"/>
                  </a:lnTo>
                  <a:lnTo>
                    <a:pt x="320" y="281"/>
                  </a:lnTo>
                  <a:lnTo>
                    <a:pt x="308" y="288"/>
                  </a:lnTo>
                  <a:lnTo>
                    <a:pt x="296" y="293"/>
                  </a:lnTo>
                  <a:lnTo>
                    <a:pt x="290" y="294"/>
                  </a:lnTo>
                  <a:lnTo>
                    <a:pt x="284" y="295"/>
                  </a:lnTo>
                  <a:lnTo>
                    <a:pt x="278" y="295"/>
                  </a:lnTo>
                  <a:lnTo>
                    <a:pt x="272" y="294"/>
                  </a:lnTo>
                  <a:lnTo>
                    <a:pt x="268" y="292"/>
                  </a:lnTo>
                  <a:lnTo>
                    <a:pt x="264" y="288"/>
                  </a:lnTo>
                  <a:lnTo>
                    <a:pt x="259" y="285"/>
                  </a:lnTo>
                  <a:lnTo>
                    <a:pt x="255" y="280"/>
                  </a:lnTo>
                  <a:lnTo>
                    <a:pt x="251" y="273"/>
                  </a:lnTo>
                  <a:lnTo>
                    <a:pt x="248" y="264"/>
                  </a:lnTo>
                  <a:lnTo>
                    <a:pt x="246" y="255"/>
                  </a:lnTo>
                  <a:lnTo>
                    <a:pt x="244" y="244"/>
                  </a:lnTo>
                  <a:lnTo>
                    <a:pt x="226" y="244"/>
                  </a:lnTo>
                  <a:lnTo>
                    <a:pt x="208" y="244"/>
                  </a:lnTo>
                  <a:lnTo>
                    <a:pt x="194" y="243"/>
                  </a:lnTo>
                  <a:lnTo>
                    <a:pt x="179" y="241"/>
                  </a:lnTo>
                  <a:lnTo>
                    <a:pt x="166" y="237"/>
                  </a:lnTo>
                  <a:lnTo>
                    <a:pt x="154" y="233"/>
                  </a:lnTo>
                  <a:lnTo>
                    <a:pt x="143" y="228"/>
                  </a:lnTo>
                  <a:lnTo>
                    <a:pt x="131" y="223"/>
                  </a:lnTo>
                  <a:lnTo>
                    <a:pt x="110" y="211"/>
                  </a:lnTo>
                  <a:lnTo>
                    <a:pt x="89" y="197"/>
                  </a:lnTo>
                  <a:lnTo>
                    <a:pt x="66" y="182"/>
                  </a:lnTo>
                  <a:lnTo>
                    <a:pt x="40" y="167"/>
                  </a:lnTo>
                  <a:lnTo>
                    <a:pt x="30" y="155"/>
                  </a:lnTo>
                  <a:lnTo>
                    <a:pt x="20" y="144"/>
                  </a:lnTo>
                  <a:lnTo>
                    <a:pt x="17" y="137"/>
                  </a:lnTo>
                  <a:lnTo>
                    <a:pt x="13" y="132"/>
                  </a:lnTo>
                  <a:lnTo>
                    <a:pt x="9" y="124"/>
                  </a:lnTo>
                  <a:lnTo>
                    <a:pt x="7" y="117"/>
                  </a:lnTo>
                  <a:lnTo>
                    <a:pt x="5" y="110"/>
                  </a:lnTo>
                  <a:lnTo>
                    <a:pt x="3" y="101"/>
                  </a:lnTo>
                  <a:lnTo>
                    <a:pt x="1" y="91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0" y="56"/>
                  </a:lnTo>
                  <a:lnTo>
                    <a:pt x="1" y="42"/>
                  </a:lnTo>
                  <a:lnTo>
                    <a:pt x="3" y="28"/>
                  </a:lnTo>
                  <a:lnTo>
                    <a:pt x="71" y="104"/>
                  </a:lnTo>
                  <a:lnTo>
                    <a:pt x="77" y="109"/>
                  </a:lnTo>
                  <a:lnTo>
                    <a:pt x="90" y="122"/>
                  </a:lnTo>
                  <a:lnTo>
                    <a:pt x="111" y="141"/>
                  </a:lnTo>
                  <a:lnTo>
                    <a:pt x="138" y="161"/>
                  </a:lnTo>
                  <a:lnTo>
                    <a:pt x="153" y="171"/>
                  </a:lnTo>
                  <a:lnTo>
                    <a:pt x="167" y="179"/>
                  </a:lnTo>
                  <a:lnTo>
                    <a:pt x="182" y="186"/>
                  </a:lnTo>
                  <a:lnTo>
                    <a:pt x="198" y="193"/>
                  </a:lnTo>
                  <a:lnTo>
                    <a:pt x="206" y="195"/>
                  </a:lnTo>
                  <a:lnTo>
                    <a:pt x="214" y="197"/>
                  </a:lnTo>
                  <a:lnTo>
                    <a:pt x="221" y="198"/>
                  </a:lnTo>
                  <a:lnTo>
                    <a:pt x="228" y="198"/>
                  </a:lnTo>
                  <a:lnTo>
                    <a:pt x="236" y="198"/>
                  </a:lnTo>
                  <a:lnTo>
                    <a:pt x="244" y="197"/>
                  </a:lnTo>
                  <a:lnTo>
                    <a:pt x="250" y="195"/>
                  </a:lnTo>
                  <a:lnTo>
                    <a:pt x="257" y="193"/>
                  </a:lnTo>
                  <a:lnTo>
                    <a:pt x="250" y="179"/>
                  </a:lnTo>
                  <a:lnTo>
                    <a:pt x="242" y="166"/>
                  </a:lnTo>
                  <a:lnTo>
                    <a:pt x="232" y="154"/>
                  </a:lnTo>
                  <a:lnTo>
                    <a:pt x="222" y="143"/>
                  </a:lnTo>
                  <a:lnTo>
                    <a:pt x="210" y="132"/>
                  </a:lnTo>
                  <a:lnTo>
                    <a:pt x="198" y="122"/>
                  </a:lnTo>
                  <a:lnTo>
                    <a:pt x="186" y="112"/>
                  </a:lnTo>
                  <a:lnTo>
                    <a:pt x="172" y="103"/>
                  </a:lnTo>
                  <a:lnTo>
                    <a:pt x="146" y="84"/>
                  </a:lnTo>
                  <a:lnTo>
                    <a:pt x="120" y="63"/>
                  </a:lnTo>
                  <a:lnTo>
                    <a:pt x="108" y="53"/>
                  </a:lnTo>
                  <a:lnTo>
                    <a:pt x="97" y="41"/>
                  </a:lnTo>
                  <a:lnTo>
                    <a:pt x="88" y="29"/>
                  </a:lnTo>
                  <a:lnTo>
                    <a:pt x="79" y="14"/>
                  </a:lnTo>
                  <a:lnTo>
                    <a:pt x="93" y="0"/>
                  </a:lnTo>
                  <a:lnTo>
                    <a:pt x="136" y="24"/>
                  </a:lnTo>
                  <a:lnTo>
                    <a:pt x="179" y="52"/>
                  </a:lnTo>
                  <a:lnTo>
                    <a:pt x="201" y="66"/>
                  </a:lnTo>
                  <a:lnTo>
                    <a:pt x="222" y="81"/>
                  </a:lnTo>
                  <a:lnTo>
                    <a:pt x="244" y="96"/>
                  </a:lnTo>
                  <a:lnTo>
                    <a:pt x="265" y="113"/>
                  </a:lnTo>
                  <a:lnTo>
                    <a:pt x="285" y="129"/>
                  </a:lnTo>
                  <a:lnTo>
                    <a:pt x="304" y="146"/>
                  </a:lnTo>
                  <a:lnTo>
                    <a:pt x="322" y="163"/>
                  </a:lnTo>
                  <a:lnTo>
                    <a:pt x="339" y="181"/>
                  </a:lnTo>
                  <a:lnTo>
                    <a:pt x="356" y="198"/>
                  </a:lnTo>
                  <a:lnTo>
                    <a:pt x="371" y="217"/>
                  </a:lnTo>
                  <a:lnTo>
                    <a:pt x="385" y="235"/>
                  </a:lnTo>
                  <a:lnTo>
                    <a:pt x="397" y="2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5722920" y="3932280"/>
              <a:ext cx="88920" cy="160200"/>
            </a:xfrm>
            <a:custGeom>
              <a:avLst/>
              <a:gdLst/>
              <a:ahLst/>
              <a:rect l="l" t="t" r="r" b="b"/>
              <a:pathLst>
                <a:path w="281" h="504">
                  <a:moveTo>
                    <a:pt x="281" y="5"/>
                  </a:moveTo>
                  <a:lnTo>
                    <a:pt x="269" y="35"/>
                  </a:lnTo>
                  <a:lnTo>
                    <a:pt x="261" y="65"/>
                  </a:lnTo>
                  <a:lnTo>
                    <a:pt x="253" y="96"/>
                  </a:lnTo>
                  <a:lnTo>
                    <a:pt x="246" y="126"/>
                  </a:lnTo>
                  <a:lnTo>
                    <a:pt x="242" y="156"/>
                  </a:lnTo>
                  <a:lnTo>
                    <a:pt x="237" y="187"/>
                  </a:lnTo>
                  <a:lnTo>
                    <a:pt x="235" y="218"/>
                  </a:lnTo>
                  <a:lnTo>
                    <a:pt x="234" y="248"/>
                  </a:lnTo>
                  <a:lnTo>
                    <a:pt x="233" y="279"/>
                  </a:lnTo>
                  <a:lnTo>
                    <a:pt x="233" y="310"/>
                  </a:lnTo>
                  <a:lnTo>
                    <a:pt x="234" y="341"/>
                  </a:lnTo>
                  <a:lnTo>
                    <a:pt x="235" y="374"/>
                  </a:lnTo>
                  <a:lnTo>
                    <a:pt x="238" y="437"/>
                  </a:lnTo>
                  <a:lnTo>
                    <a:pt x="244" y="501"/>
                  </a:lnTo>
                  <a:lnTo>
                    <a:pt x="233" y="504"/>
                  </a:lnTo>
                  <a:lnTo>
                    <a:pt x="222" y="502"/>
                  </a:lnTo>
                  <a:lnTo>
                    <a:pt x="213" y="501"/>
                  </a:lnTo>
                  <a:lnTo>
                    <a:pt x="205" y="498"/>
                  </a:lnTo>
                  <a:lnTo>
                    <a:pt x="197" y="495"/>
                  </a:lnTo>
                  <a:lnTo>
                    <a:pt x="191" y="489"/>
                  </a:lnTo>
                  <a:lnTo>
                    <a:pt x="185" y="482"/>
                  </a:lnTo>
                  <a:lnTo>
                    <a:pt x="179" y="475"/>
                  </a:lnTo>
                  <a:lnTo>
                    <a:pt x="177" y="468"/>
                  </a:lnTo>
                  <a:lnTo>
                    <a:pt x="171" y="452"/>
                  </a:lnTo>
                  <a:lnTo>
                    <a:pt x="160" y="428"/>
                  </a:lnTo>
                  <a:lnTo>
                    <a:pt x="144" y="401"/>
                  </a:lnTo>
                  <a:lnTo>
                    <a:pt x="135" y="387"/>
                  </a:lnTo>
                  <a:lnTo>
                    <a:pt x="125" y="373"/>
                  </a:lnTo>
                  <a:lnTo>
                    <a:pt x="115" y="358"/>
                  </a:lnTo>
                  <a:lnTo>
                    <a:pt x="104" y="346"/>
                  </a:lnTo>
                  <a:lnTo>
                    <a:pt x="92" y="335"/>
                  </a:lnTo>
                  <a:lnTo>
                    <a:pt x="80" y="325"/>
                  </a:lnTo>
                  <a:lnTo>
                    <a:pt x="73" y="320"/>
                  </a:lnTo>
                  <a:lnTo>
                    <a:pt x="66" y="317"/>
                  </a:lnTo>
                  <a:lnTo>
                    <a:pt x="60" y="314"/>
                  </a:lnTo>
                  <a:lnTo>
                    <a:pt x="53" y="312"/>
                  </a:lnTo>
                  <a:lnTo>
                    <a:pt x="51" y="308"/>
                  </a:lnTo>
                  <a:lnTo>
                    <a:pt x="44" y="298"/>
                  </a:lnTo>
                  <a:lnTo>
                    <a:pt x="34" y="285"/>
                  </a:lnTo>
                  <a:lnTo>
                    <a:pt x="24" y="268"/>
                  </a:lnTo>
                  <a:lnTo>
                    <a:pt x="13" y="250"/>
                  </a:lnTo>
                  <a:lnTo>
                    <a:pt x="5" y="234"/>
                  </a:lnTo>
                  <a:lnTo>
                    <a:pt x="2" y="226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0" y="208"/>
                  </a:lnTo>
                  <a:lnTo>
                    <a:pt x="21" y="216"/>
                  </a:lnTo>
                  <a:lnTo>
                    <a:pt x="41" y="224"/>
                  </a:lnTo>
                  <a:lnTo>
                    <a:pt x="61" y="234"/>
                  </a:lnTo>
                  <a:lnTo>
                    <a:pt x="81" y="245"/>
                  </a:lnTo>
                  <a:lnTo>
                    <a:pt x="100" y="256"/>
                  </a:lnTo>
                  <a:lnTo>
                    <a:pt x="118" y="269"/>
                  </a:lnTo>
                  <a:lnTo>
                    <a:pt x="136" y="284"/>
                  </a:lnTo>
                  <a:lnTo>
                    <a:pt x="154" y="298"/>
                  </a:lnTo>
                  <a:lnTo>
                    <a:pt x="179" y="272"/>
                  </a:lnTo>
                  <a:lnTo>
                    <a:pt x="181" y="242"/>
                  </a:lnTo>
                  <a:lnTo>
                    <a:pt x="181" y="213"/>
                  </a:lnTo>
                  <a:lnTo>
                    <a:pt x="183" y="187"/>
                  </a:lnTo>
                  <a:lnTo>
                    <a:pt x="184" y="164"/>
                  </a:lnTo>
                  <a:lnTo>
                    <a:pt x="186" y="142"/>
                  </a:lnTo>
                  <a:lnTo>
                    <a:pt x="189" y="123"/>
                  </a:lnTo>
                  <a:lnTo>
                    <a:pt x="193" y="104"/>
                  </a:lnTo>
                  <a:lnTo>
                    <a:pt x="196" y="88"/>
                  </a:lnTo>
                  <a:lnTo>
                    <a:pt x="199" y="74"/>
                  </a:lnTo>
                  <a:lnTo>
                    <a:pt x="203" y="61"/>
                  </a:lnTo>
                  <a:lnTo>
                    <a:pt x="207" y="50"/>
                  </a:lnTo>
                  <a:lnTo>
                    <a:pt x="212" y="40"/>
                  </a:lnTo>
                  <a:lnTo>
                    <a:pt x="216" y="31"/>
                  </a:lnTo>
                  <a:lnTo>
                    <a:pt x="221" y="24"/>
                  </a:lnTo>
                  <a:lnTo>
                    <a:pt x="226" y="17"/>
                  </a:lnTo>
                  <a:lnTo>
                    <a:pt x="231" y="13"/>
                  </a:lnTo>
                  <a:lnTo>
                    <a:pt x="235" y="8"/>
                  </a:lnTo>
                  <a:lnTo>
                    <a:pt x="239" y="5"/>
                  </a:lnTo>
                  <a:lnTo>
                    <a:pt x="244" y="3"/>
                  </a:lnTo>
                  <a:lnTo>
                    <a:pt x="249" y="1"/>
                  </a:lnTo>
                  <a:lnTo>
                    <a:pt x="257" y="0"/>
                  </a:lnTo>
                  <a:lnTo>
                    <a:pt x="265" y="0"/>
                  </a:lnTo>
                  <a:lnTo>
                    <a:pt x="276" y="3"/>
                  </a:lnTo>
                  <a:lnTo>
                    <a:pt x="28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5573880" y="3925800"/>
              <a:ext cx="47520" cy="86040"/>
            </a:xfrm>
            <a:custGeom>
              <a:avLst/>
              <a:gdLst/>
              <a:ahLst/>
              <a:rect l="l" t="t" r="r" b="b"/>
              <a:pathLst>
                <a:path w="153" h="273">
                  <a:moveTo>
                    <a:pt x="153" y="267"/>
                  </a:moveTo>
                  <a:lnTo>
                    <a:pt x="148" y="268"/>
                  </a:lnTo>
                  <a:lnTo>
                    <a:pt x="143" y="270"/>
                  </a:lnTo>
                  <a:lnTo>
                    <a:pt x="140" y="273"/>
                  </a:lnTo>
                  <a:lnTo>
                    <a:pt x="135" y="273"/>
                  </a:lnTo>
                  <a:lnTo>
                    <a:pt x="131" y="273"/>
                  </a:lnTo>
                  <a:lnTo>
                    <a:pt x="125" y="271"/>
                  </a:lnTo>
                  <a:lnTo>
                    <a:pt x="120" y="269"/>
                  </a:lnTo>
                  <a:lnTo>
                    <a:pt x="114" y="264"/>
                  </a:lnTo>
                  <a:lnTo>
                    <a:pt x="96" y="229"/>
                  </a:lnTo>
                  <a:lnTo>
                    <a:pt x="79" y="196"/>
                  </a:lnTo>
                  <a:lnTo>
                    <a:pt x="63" y="165"/>
                  </a:lnTo>
                  <a:lnTo>
                    <a:pt x="48" y="134"/>
                  </a:lnTo>
                  <a:lnTo>
                    <a:pt x="33" y="102"/>
                  </a:lnTo>
                  <a:lnTo>
                    <a:pt x="21" y="69"/>
                  </a:lnTo>
                  <a:lnTo>
                    <a:pt x="15" y="53"/>
                  </a:lnTo>
                  <a:lnTo>
                    <a:pt x="10" y="36"/>
                  </a:lnTo>
                  <a:lnTo>
                    <a:pt x="4" y="1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2"/>
                  </a:lnTo>
                  <a:lnTo>
                    <a:pt x="26" y="5"/>
                  </a:lnTo>
                  <a:lnTo>
                    <a:pt x="35" y="12"/>
                  </a:lnTo>
                  <a:lnTo>
                    <a:pt x="45" y="21"/>
                  </a:lnTo>
                  <a:lnTo>
                    <a:pt x="55" y="32"/>
                  </a:lnTo>
                  <a:lnTo>
                    <a:pt x="65" y="45"/>
                  </a:lnTo>
                  <a:lnTo>
                    <a:pt x="75" y="59"/>
                  </a:lnTo>
                  <a:lnTo>
                    <a:pt x="86" y="77"/>
                  </a:lnTo>
                  <a:lnTo>
                    <a:pt x="96" y="97"/>
                  </a:lnTo>
                  <a:lnTo>
                    <a:pt x="106" y="120"/>
                  </a:lnTo>
                  <a:lnTo>
                    <a:pt x="116" y="145"/>
                  </a:lnTo>
                  <a:lnTo>
                    <a:pt x="125" y="172"/>
                  </a:lnTo>
                  <a:lnTo>
                    <a:pt x="135" y="200"/>
                  </a:lnTo>
                  <a:lnTo>
                    <a:pt x="144" y="233"/>
                  </a:lnTo>
                  <a:lnTo>
                    <a:pt x="153" y="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5626080" y="3925800"/>
              <a:ext cx="52560" cy="92160"/>
            </a:xfrm>
            <a:custGeom>
              <a:avLst/>
              <a:gdLst/>
              <a:ahLst/>
              <a:rect l="l" t="t" r="r" b="b"/>
              <a:pathLst>
                <a:path w="165" h="293">
                  <a:moveTo>
                    <a:pt x="115" y="190"/>
                  </a:moveTo>
                  <a:lnTo>
                    <a:pt x="125" y="200"/>
                  </a:lnTo>
                  <a:lnTo>
                    <a:pt x="135" y="209"/>
                  </a:lnTo>
                  <a:lnTo>
                    <a:pt x="142" y="220"/>
                  </a:lnTo>
                  <a:lnTo>
                    <a:pt x="150" y="230"/>
                  </a:lnTo>
                  <a:lnTo>
                    <a:pt x="156" y="241"/>
                  </a:lnTo>
                  <a:lnTo>
                    <a:pt x="160" y="254"/>
                  </a:lnTo>
                  <a:lnTo>
                    <a:pt x="164" y="266"/>
                  </a:lnTo>
                  <a:lnTo>
                    <a:pt x="165" y="279"/>
                  </a:lnTo>
                  <a:lnTo>
                    <a:pt x="148" y="261"/>
                  </a:lnTo>
                  <a:lnTo>
                    <a:pt x="135" y="250"/>
                  </a:lnTo>
                  <a:lnTo>
                    <a:pt x="129" y="247"/>
                  </a:lnTo>
                  <a:lnTo>
                    <a:pt x="125" y="245"/>
                  </a:lnTo>
                  <a:lnTo>
                    <a:pt x="120" y="244"/>
                  </a:lnTo>
                  <a:lnTo>
                    <a:pt x="116" y="244"/>
                  </a:lnTo>
                  <a:lnTo>
                    <a:pt x="114" y="246"/>
                  </a:lnTo>
                  <a:lnTo>
                    <a:pt x="110" y="249"/>
                  </a:lnTo>
                  <a:lnTo>
                    <a:pt x="108" y="254"/>
                  </a:lnTo>
                  <a:lnTo>
                    <a:pt x="107" y="259"/>
                  </a:lnTo>
                  <a:lnTo>
                    <a:pt x="104" y="274"/>
                  </a:lnTo>
                  <a:lnTo>
                    <a:pt x="101" y="293"/>
                  </a:lnTo>
                  <a:lnTo>
                    <a:pt x="96" y="275"/>
                  </a:lnTo>
                  <a:lnTo>
                    <a:pt x="88" y="254"/>
                  </a:lnTo>
                  <a:lnTo>
                    <a:pt x="80" y="228"/>
                  </a:lnTo>
                  <a:lnTo>
                    <a:pt x="70" y="199"/>
                  </a:lnTo>
                  <a:lnTo>
                    <a:pt x="60" y="169"/>
                  </a:lnTo>
                  <a:lnTo>
                    <a:pt x="49" y="138"/>
                  </a:lnTo>
                  <a:lnTo>
                    <a:pt x="38" y="107"/>
                  </a:lnTo>
                  <a:lnTo>
                    <a:pt x="25" y="76"/>
                  </a:lnTo>
                  <a:lnTo>
                    <a:pt x="25" y="72"/>
                  </a:lnTo>
                  <a:lnTo>
                    <a:pt x="23" y="66"/>
                  </a:lnTo>
                  <a:lnTo>
                    <a:pt x="20" y="62"/>
                  </a:lnTo>
                  <a:lnTo>
                    <a:pt x="17" y="56"/>
                  </a:lnTo>
                  <a:lnTo>
                    <a:pt x="11" y="47"/>
                  </a:lnTo>
                  <a:lnTo>
                    <a:pt x="6" y="37"/>
                  </a:lnTo>
                  <a:lnTo>
                    <a:pt x="4" y="33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4" y="9"/>
                  </a:lnTo>
                  <a:lnTo>
                    <a:pt x="7" y="5"/>
                  </a:lnTo>
                  <a:lnTo>
                    <a:pt x="13" y="0"/>
                  </a:lnTo>
                  <a:lnTo>
                    <a:pt x="24" y="6"/>
                  </a:lnTo>
                  <a:lnTo>
                    <a:pt x="35" y="14"/>
                  </a:lnTo>
                  <a:lnTo>
                    <a:pt x="44" y="22"/>
                  </a:lnTo>
                  <a:lnTo>
                    <a:pt x="52" y="31"/>
                  </a:lnTo>
                  <a:lnTo>
                    <a:pt x="61" y="41"/>
                  </a:lnTo>
                  <a:lnTo>
                    <a:pt x="68" y="51"/>
                  </a:lnTo>
                  <a:lnTo>
                    <a:pt x="75" y="62"/>
                  </a:lnTo>
                  <a:lnTo>
                    <a:pt x="81" y="74"/>
                  </a:lnTo>
                  <a:lnTo>
                    <a:pt x="87" y="86"/>
                  </a:lnTo>
                  <a:lnTo>
                    <a:pt x="92" y="99"/>
                  </a:lnTo>
                  <a:lnTo>
                    <a:pt x="97" y="114"/>
                  </a:lnTo>
                  <a:lnTo>
                    <a:pt x="101" y="127"/>
                  </a:lnTo>
                  <a:lnTo>
                    <a:pt x="108" y="158"/>
                  </a:lnTo>
                  <a:lnTo>
                    <a:pt x="115" y="1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4527720" y="3978360"/>
              <a:ext cx="68040" cy="123840"/>
            </a:xfrm>
            <a:custGeom>
              <a:avLst/>
              <a:gdLst/>
              <a:ahLst/>
              <a:rect l="l" t="t" r="r" b="b"/>
              <a:pathLst>
                <a:path w="217" h="392">
                  <a:moveTo>
                    <a:pt x="217" y="344"/>
                  </a:moveTo>
                  <a:lnTo>
                    <a:pt x="217" y="357"/>
                  </a:lnTo>
                  <a:lnTo>
                    <a:pt x="214" y="367"/>
                  </a:lnTo>
                  <a:lnTo>
                    <a:pt x="213" y="372"/>
                  </a:lnTo>
                  <a:lnTo>
                    <a:pt x="211" y="376"/>
                  </a:lnTo>
                  <a:lnTo>
                    <a:pt x="209" y="380"/>
                  </a:lnTo>
                  <a:lnTo>
                    <a:pt x="205" y="383"/>
                  </a:lnTo>
                  <a:lnTo>
                    <a:pt x="199" y="387"/>
                  </a:lnTo>
                  <a:lnTo>
                    <a:pt x="192" y="391"/>
                  </a:lnTo>
                  <a:lnTo>
                    <a:pt x="183" y="392"/>
                  </a:lnTo>
                  <a:lnTo>
                    <a:pt x="174" y="392"/>
                  </a:lnTo>
                  <a:lnTo>
                    <a:pt x="164" y="392"/>
                  </a:lnTo>
                  <a:lnTo>
                    <a:pt x="154" y="390"/>
                  </a:lnTo>
                  <a:lnTo>
                    <a:pt x="145" y="387"/>
                  </a:lnTo>
                  <a:lnTo>
                    <a:pt x="135" y="384"/>
                  </a:lnTo>
                  <a:lnTo>
                    <a:pt x="118" y="377"/>
                  </a:lnTo>
                  <a:lnTo>
                    <a:pt x="104" y="370"/>
                  </a:lnTo>
                  <a:lnTo>
                    <a:pt x="103" y="346"/>
                  </a:lnTo>
                  <a:lnTo>
                    <a:pt x="101" y="324"/>
                  </a:lnTo>
                  <a:lnTo>
                    <a:pt x="98" y="302"/>
                  </a:lnTo>
                  <a:lnTo>
                    <a:pt x="94" y="280"/>
                  </a:lnTo>
                  <a:lnTo>
                    <a:pt x="90" y="258"/>
                  </a:lnTo>
                  <a:lnTo>
                    <a:pt x="84" y="236"/>
                  </a:lnTo>
                  <a:lnTo>
                    <a:pt x="79" y="215"/>
                  </a:lnTo>
                  <a:lnTo>
                    <a:pt x="72" y="194"/>
                  </a:lnTo>
                  <a:lnTo>
                    <a:pt x="65" y="173"/>
                  </a:lnTo>
                  <a:lnTo>
                    <a:pt x="58" y="153"/>
                  </a:lnTo>
                  <a:lnTo>
                    <a:pt x="49" y="133"/>
                  </a:lnTo>
                  <a:lnTo>
                    <a:pt x="41" y="113"/>
                  </a:lnTo>
                  <a:lnTo>
                    <a:pt x="21" y="75"/>
                  </a:lnTo>
                  <a:lnTo>
                    <a:pt x="0" y="37"/>
                  </a:lnTo>
                  <a:lnTo>
                    <a:pt x="13" y="0"/>
                  </a:lnTo>
                  <a:lnTo>
                    <a:pt x="32" y="17"/>
                  </a:lnTo>
                  <a:lnTo>
                    <a:pt x="50" y="34"/>
                  </a:lnTo>
                  <a:lnTo>
                    <a:pt x="67" y="53"/>
                  </a:lnTo>
                  <a:lnTo>
                    <a:pt x="82" y="73"/>
                  </a:lnTo>
                  <a:lnTo>
                    <a:pt x="97" y="93"/>
                  </a:lnTo>
                  <a:lnTo>
                    <a:pt x="111" y="114"/>
                  </a:lnTo>
                  <a:lnTo>
                    <a:pt x="124" y="137"/>
                  </a:lnTo>
                  <a:lnTo>
                    <a:pt x="137" y="158"/>
                  </a:lnTo>
                  <a:lnTo>
                    <a:pt x="148" y="181"/>
                  </a:lnTo>
                  <a:lnTo>
                    <a:pt x="159" y="203"/>
                  </a:lnTo>
                  <a:lnTo>
                    <a:pt x="170" y="226"/>
                  </a:lnTo>
                  <a:lnTo>
                    <a:pt x="180" y="250"/>
                  </a:lnTo>
                  <a:lnTo>
                    <a:pt x="199" y="297"/>
                  </a:lnTo>
                  <a:lnTo>
                    <a:pt x="217" y="3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5884920" y="4057560"/>
              <a:ext cx="39600" cy="219240"/>
            </a:xfrm>
            <a:custGeom>
              <a:avLst/>
              <a:gdLst/>
              <a:ahLst/>
              <a:rect l="l" t="t" r="r" b="b"/>
              <a:pathLst>
                <a:path w="125" h="687">
                  <a:moveTo>
                    <a:pt x="125" y="687"/>
                  </a:moveTo>
                  <a:lnTo>
                    <a:pt x="121" y="687"/>
                  </a:lnTo>
                  <a:lnTo>
                    <a:pt x="115" y="686"/>
                  </a:lnTo>
                  <a:lnTo>
                    <a:pt x="105" y="686"/>
                  </a:lnTo>
                  <a:lnTo>
                    <a:pt x="93" y="685"/>
                  </a:lnTo>
                  <a:lnTo>
                    <a:pt x="82" y="684"/>
                  </a:lnTo>
                  <a:lnTo>
                    <a:pt x="72" y="684"/>
                  </a:lnTo>
                  <a:lnTo>
                    <a:pt x="68" y="685"/>
                  </a:lnTo>
                  <a:lnTo>
                    <a:pt x="66" y="685"/>
                  </a:lnTo>
                  <a:lnTo>
                    <a:pt x="64" y="686"/>
                  </a:lnTo>
                  <a:lnTo>
                    <a:pt x="64" y="687"/>
                  </a:lnTo>
                  <a:lnTo>
                    <a:pt x="57" y="656"/>
                  </a:lnTo>
                  <a:lnTo>
                    <a:pt x="52" y="618"/>
                  </a:lnTo>
                  <a:lnTo>
                    <a:pt x="46" y="575"/>
                  </a:lnTo>
                  <a:lnTo>
                    <a:pt x="39" y="527"/>
                  </a:lnTo>
                  <a:lnTo>
                    <a:pt x="29" y="422"/>
                  </a:lnTo>
                  <a:lnTo>
                    <a:pt x="20" y="314"/>
                  </a:lnTo>
                  <a:lnTo>
                    <a:pt x="13" y="211"/>
                  </a:lnTo>
                  <a:lnTo>
                    <a:pt x="6" y="124"/>
                  </a:lnTo>
                  <a:lnTo>
                    <a:pt x="3" y="62"/>
                  </a:lnTo>
                  <a:lnTo>
                    <a:pt x="0" y="36"/>
                  </a:lnTo>
                  <a:lnTo>
                    <a:pt x="25" y="0"/>
                  </a:lnTo>
                  <a:lnTo>
                    <a:pt x="30" y="23"/>
                  </a:lnTo>
                  <a:lnTo>
                    <a:pt x="36" y="58"/>
                  </a:lnTo>
                  <a:lnTo>
                    <a:pt x="44" y="99"/>
                  </a:lnTo>
                  <a:lnTo>
                    <a:pt x="52" y="148"/>
                  </a:lnTo>
                  <a:lnTo>
                    <a:pt x="68" y="260"/>
                  </a:lnTo>
                  <a:lnTo>
                    <a:pt x="85" y="380"/>
                  </a:lnTo>
                  <a:lnTo>
                    <a:pt x="99" y="495"/>
                  </a:lnTo>
                  <a:lnTo>
                    <a:pt x="113" y="594"/>
                  </a:lnTo>
                  <a:lnTo>
                    <a:pt x="121" y="662"/>
                  </a:lnTo>
                  <a:lnTo>
                    <a:pt x="125" y="6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5722920" y="4087800"/>
              <a:ext cx="149400" cy="189000"/>
            </a:xfrm>
            <a:custGeom>
              <a:avLst/>
              <a:gdLst/>
              <a:ahLst/>
              <a:rect l="l" t="t" r="r" b="b"/>
              <a:pathLst>
                <a:path w="472" h="596">
                  <a:moveTo>
                    <a:pt x="331" y="0"/>
                  </a:moveTo>
                  <a:lnTo>
                    <a:pt x="344" y="18"/>
                  </a:lnTo>
                  <a:lnTo>
                    <a:pt x="356" y="37"/>
                  </a:lnTo>
                  <a:lnTo>
                    <a:pt x="368" y="57"/>
                  </a:lnTo>
                  <a:lnTo>
                    <a:pt x="379" y="78"/>
                  </a:lnTo>
                  <a:lnTo>
                    <a:pt x="390" y="99"/>
                  </a:lnTo>
                  <a:lnTo>
                    <a:pt x="400" y="121"/>
                  </a:lnTo>
                  <a:lnTo>
                    <a:pt x="409" y="143"/>
                  </a:lnTo>
                  <a:lnTo>
                    <a:pt x="418" y="165"/>
                  </a:lnTo>
                  <a:lnTo>
                    <a:pt x="434" y="212"/>
                  </a:lnTo>
                  <a:lnTo>
                    <a:pt x="447" y="260"/>
                  </a:lnTo>
                  <a:lnTo>
                    <a:pt x="459" y="308"/>
                  </a:lnTo>
                  <a:lnTo>
                    <a:pt x="472" y="355"/>
                  </a:lnTo>
                  <a:lnTo>
                    <a:pt x="468" y="356"/>
                  </a:lnTo>
                  <a:lnTo>
                    <a:pt x="462" y="358"/>
                  </a:lnTo>
                  <a:lnTo>
                    <a:pt x="452" y="360"/>
                  </a:lnTo>
                  <a:lnTo>
                    <a:pt x="440" y="363"/>
                  </a:lnTo>
                  <a:lnTo>
                    <a:pt x="435" y="366"/>
                  </a:lnTo>
                  <a:lnTo>
                    <a:pt x="429" y="370"/>
                  </a:lnTo>
                  <a:lnTo>
                    <a:pt x="424" y="374"/>
                  </a:lnTo>
                  <a:lnTo>
                    <a:pt x="419" y="380"/>
                  </a:lnTo>
                  <a:lnTo>
                    <a:pt x="415" y="385"/>
                  </a:lnTo>
                  <a:lnTo>
                    <a:pt x="412" y="392"/>
                  </a:lnTo>
                  <a:lnTo>
                    <a:pt x="409" y="400"/>
                  </a:lnTo>
                  <a:lnTo>
                    <a:pt x="408" y="409"/>
                  </a:lnTo>
                  <a:lnTo>
                    <a:pt x="408" y="416"/>
                  </a:lnTo>
                  <a:lnTo>
                    <a:pt x="410" y="425"/>
                  </a:lnTo>
                  <a:lnTo>
                    <a:pt x="414" y="434"/>
                  </a:lnTo>
                  <a:lnTo>
                    <a:pt x="419" y="444"/>
                  </a:lnTo>
                  <a:lnTo>
                    <a:pt x="430" y="465"/>
                  </a:lnTo>
                  <a:lnTo>
                    <a:pt x="442" y="490"/>
                  </a:lnTo>
                  <a:lnTo>
                    <a:pt x="446" y="502"/>
                  </a:lnTo>
                  <a:lnTo>
                    <a:pt x="449" y="515"/>
                  </a:lnTo>
                  <a:lnTo>
                    <a:pt x="453" y="528"/>
                  </a:lnTo>
                  <a:lnTo>
                    <a:pt x="453" y="542"/>
                  </a:lnTo>
                  <a:lnTo>
                    <a:pt x="453" y="548"/>
                  </a:lnTo>
                  <a:lnTo>
                    <a:pt x="452" y="555"/>
                  </a:lnTo>
                  <a:lnTo>
                    <a:pt x="449" y="562"/>
                  </a:lnTo>
                  <a:lnTo>
                    <a:pt x="447" y="568"/>
                  </a:lnTo>
                  <a:lnTo>
                    <a:pt x="445" y="576"/>
                  </a:lnTo>
                  <a:lnTo>
                    <a:pt x="440" y="583"/>
                  </a:lnTo>
                  <a:lnTo>
                    <a:pt x="436" y="590"/>
                  </a:lnTo>
                  <a:lnTo>
                    <a:pt x="432" y="596"/>
                  </a:lnTo>
                  <a:lnTo>
                    <a:pt x="388" y="524"/>
                  </a:lnTo>
                  <a:lnTo>
                    <a:pt x="344" y="451"/>
                  </a:lnTo>
                  <a:lnTo>
                    <a:pt x="322" y="414"/>
                  </a:lnTo>
                  <a:lnTo>
                    <a:pt x="298" y="379"/>
                  </a:lnTo>
                  <a:lnTo>
                    <a:pt x="275" y="342"/>
                  </a:lnTo>
                  <a:lnTo>
                    <a:pt x="251" y="308"/>
                  </a:lnTo>
                  <a:lnTo>
                    <a:pt x="225" y="272"/>
                  </a:lnTo>
                  <a:lnTo>
                    <a:pt x="197" y="239"/>
                  </a:lnTo>
                  <a:lnTo>
                    <a:pt x="170" y="207"/>
                  </a:lnTo>
                  <a:lnTo>
                    <a:pt x="140" y="174"/>
                  </a:lnTo>
                  <a:lnTo>
                    <a:pt x="124" y="159"/>
                  </a:lnTo>
                  <a:lnTo>
                    <a:pt x="107" y="144"/>
                  </a:lnTo>
                  <a:lnTo>
                    <a:pt x="91" y="130"/>
                  </a:lnTo>
                  <a:lnTo>
                    <a:pt x="74" y="116"/>
                  </a:lnTo>
                  <a:lnTo>
                    <a:pt x="56" y="102"/>
                  </a:lnTo>
                  <a:lnTo>
                    <a:pt x="38" y="89"/>
                  </a:lnTo>
                  <a:lnTo>
                    <a:pt x="20" y="76"/>
                  </a:lnTo>
                  <a:lnTo>
                    <a:pt x="0" y="63"/>
                  </a:lnTo>
                  <a:lnTo>
                    <a:pt x="0" y="12"/>
                  </a:lnTo>
                  <a:lnTo>
                    <a:pt x="40" y="12"/>
                  </a:lnTo>
                  <a:lnTo>
                    <a:pt x="85" y="53"/>
                  </a:lnTo>
                  <a:lnTo>
                    <a:pt x="131" y="92"/>
                  </a:lnTo>
                  <a:lnTo>
                    <a:pt x="175" y="131"/>
                  </a:lnTo>
                  <a:lnTo>
                    <a:pt x="216" y="170"/>
                  </a:lnTo>
                  <a:lnTo>
                    <a:pt x="235" y="190"/>
                  </a:lnTo>
                  <a:lnTo>
                    <a:pt x="254" y="211"/>
                  </a:lnTo>
                  <a:lnTo>
                    <a:pt x="271" y="232"/>
                  </a:lnTo>
                  <a:lnTo>
                    <a:pt x="286" y="254"/>
                  </a:lnTo>
                  <a:lnTo>
                    <a:pt x="301" y="278"/>
                  </a:lnTo>
                  <a:lnTo>
                    <a:pt x="312" y="302"/>
                  </a:lnTo>
                  <a:lnTo>
                    <a:pt x="317" y="315"/>
                  </a:lnTo>
                  <a:lnTo>
                    <a:pt x="323" y="329"/>
                  </a:lnTo>
                  <a:lnTo>
                    <a:pt x="326" y="342"/>
                  </a:lnTo>
                  <a:lnTo>
                    <a:pt x="331" y="355"/>
                  </a:lnTo>
                  <a:lnTo>
                    <a:pt x="335" y="359"/>
                  </a:lnTo>
                  <a:lnTo>
                    <a:pt x="339" y="363"/>
                  </a:lnTo>
                  <a:lnTo>
                    <a:pt x="344" y="368"/>
                  </a:lnTo>
                  <a:lnTo>
                    <a:pt x="348" y="372"/>
                  </a:lnTo>
                  <a:lnTo>
                    <a:pt x="353" y="376"/>
                  </a:lnTo>
                  <a:lnTo>
                    <a:pt x="357" y="379"/>
                  </a:lnTo>
                  <a:lnTo>
                    <a:pt x="361" y="380"/>
                  </a:lnTo>
                  <a:lnTo>
                    <a:pt x="363" y="380"/>
                  </a:lnTo>
                  <a:lnTo>
                    <a:pt x="366" y="380"/>
                  </a:lnTo>
                  <a:lnTo>
                    <a:pt x="371" y="379"/>
                  </a:lnTo>
                  <a:lnTo>
                    <a:pt x="375" y="378"/>
                  </a:lnTo>
                  <a:lnTo>
                    <a:pt x="378" y="374"/>
                  </a:lnTo>
                  <a:lnTo>
                    <a:pt x="383" y="370"/>
                  </a:lnTo>
                  <a:lnTo>
                    <a:pt x="386" y="364"/>
                  </a:lnTo>
                  <a:lnTo>
                    <a:pt x="388" y="359"/>
                  </a:lnTo>
                  <a:lnTo>
                    <a:pt x="392" y="351"/>
                  </a:lnTo>
                  <a:lnTo>
                    <a:pt x="393" y="342"/>
                  </a:lnTo>
                  <a:lnTo>
                    <a:pt x="394" y="332"/>
                  </a:lnTo>
                  <a:lnTo>
                    <a:pt x="395" y="320"/>
                  </a:lnTo>
                  <a:lnTo>
                    <a:pt x="394" y="308"/>
                  </a:lnTo>
                  <a:lnTo>
                    <a:pt x="393" y="293"/>
                  </a:lnTo>
                  <a:lnTo>
                    <a:pt x="390" y="278"/>
                  </a:lnTo>
                  <a:lnTo>
                    <a:pt x="387" y="261"/>
                  </a:lnTo>
                  <a:lnTo>
                    <a:pt x="383" y="242"/>
                  </a:lnTo>
                  <a:lnTo>
                    <a:pt x="377" y="222"/>
                  </a:lnTo>
                  <a:lnTo>
                    <a:pt x="371" y="201"/>
                  </a:lnTo>
                  <a:lnTo>
                    <a:pt x="359" y="171"/>
                  </a:lnTo>
                  <a:lnTo>
                    <a:pt x="348" y="146"/>
                  </a:lnTo>
                  <a:lnTo>
                    <a:pt x="338" y="121"/>
                  </a:lnTo>
                  <a:lnTo>
                    <a:pt x="328" y="99"/>
                  </a:lnTo>
                  <a:lnTo>
                    <a:pt x="319" y="77"/>
                  </a:lnTo>
                  <a:lnTo>
                    <a:pt x="311" y="53"/>
                  </a:lnTo>
                  <a:lnTo>
                    <a:pt x="302" y="28"/>
                  </a:lnTo>
                  <a:lnTo>
                    <a:pt x="294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5624640" y="4098960"/>
              <a:ext cx="198360" cy="184320"/>
            </a:xfrm>
            <a:custGeom>
              <a:avLst/>
              <a:gdLst/>
              <a:ahLst/>
              <a:rect l="l" t="t" r="r" b="b"/>
              <a:pathLst>
                <a:path w="623" h="576">
                  <a:moveTo>
                    <a:pt x="623" y="521"/>
                  </a:moveTo>
                  <a:lnTo>
                    <a:pt x="623" y="557"/>
                  </a:lnTo>
                  <a:lnTo>
                    <a:pt x="603" y="567"/>
                  </a:lnTo>
                  <a:lnTo>
                    <a:pt x="588" y="573"/>
                  </a:lnTo>
                  <a:lnTo>
                    <a:pt x="581" y="574"/>
                  </a:lnTo>
                  <a:lnTo>
                    <a:pt x="575" y="575"/>
                  </a:lnTo>
                  <a:lnTo>
                    <a:pt x="570" y="576"/>
                  </a:lnTo>
                  <a:lnTo>
                    <a:pt x="567" y="575"/>
                  </a:lnTo>
                  <a:lnTo>
                    <a:pt x="562" y="574"/>
                  </a:lnTo>
                  <a:lnTo>
                    <a:pt x="560" y="573"/>
                  </a:lnTo>
                  <a:lnTo>
                    <a:pt x="557" y="570"/>
                  </a:lnTo>
                  <a:lnTo>
                    <a:pt x="554" y="567"/>
                  </a:lnTo>
                  <a:lnTo>
                    <a:pt x="551" y="559"/>
                  </a:lnTo>
                  <a:lnTo>
                    <a:pt x="549" y="551"/>
                  </a:lnTo>
                  <a:lnTo>
                    <a:pt x="547" y="541"/>
                  </a:lnTo>
                  <a:lnTo>
                    <a:pt x="543" y="528"/>
                  </a:lnTo>
                  <a:lnTo>
                    <a:pt x="540" y="515"/>
                  </a:lnTo>
                  <a:lnTo>
                    <a:pt x="534" y="501"/>
                  </a:lnTo>
                  <a:lnTo>
                    <a:pt x="527" y="486"/>
                  </a:lnTo>
                  <a:lnTo>
                    <a:pt x="517" y="472"/>
                  </a:lnTo>
                  <a:lnTo>
                    <a:pt x="510" y="464"/>
                  </a:lnTo>
                  <a:lnTo>
                    <a:pt x="503" y="456"/>
                  </a:lnTo>
                  <a:lnTo>
                    <a:pt x="495" y="448"/>
                  </a:lnTo>
                  <a:lnTo>
                    <a:pt x="485" y="441"/>
                  </a:lnTo>
                  <a:lnTo>
                    <a:pt x="444" y="380"/>
                  </a:lnTo>
                  <a:lnTo>
                    <a:pt x="399" y="315"/>
                  </a:lnTo>
                  <a:lnTo>
                    <a:pt x="376" y="284"/>
                  </a:lnTo>
                  <a:lnTo>
                    <a:pt x="350" y="253"/>
                  </a:lnTo>
                  <a:lnTo>
                    <a:pt x="324" y="223"/>
                  </a:lnTo>
                  <a:lnTo>
                    <a:pt x="298" y="194"/>
                  </a:lnTo>
                  <a:lnTo>
                    <a:pt x="283" y="180"/>
                  </a:lnTo>
                  <a:lnTo>
                    <a:pt x="269" y="166"/>
                  </a:lnTo>
                  <a:lnTo>
                    <a:pt x="255" y="153"/>
                  </a:lnTo>
                  <a:lnTo>
                    <a:pt x="239" y="141"/>
                  </a:lnTo>
                  <a:lnTo>
                    <a:pt x="223" y="130"/>
                  </a:lnTo>
                  <a:lnTo>
                    <a:pt x="208" y="118"/>
                  </a:lnTo>
                  <a:lnTo>
                    <a:pt x="191" y="108"/>
                  </a:lnTo>
                  <a:lnTo>
                    <a:pt x="175" y="98"/>
                  </a:lnTo>
                  <a:lnTo>
                    <a:pt x="158" y="89"/>
                  </a:lnTo>
                  <a:lnTo>
                    <a:pt x="140" y="80"/>
                  </a:lnTo>
                  <a:lnTo>
                    <a:pt x="122" y="72"/>
                  </a:lnTo>
                  <a:lnTo>
                    <a:pt x="105" y="65"/>
                  </a:lnTo>
                  <a:lnTo>
                    <a:pt x="86" y="60"/>
                  </a:lnTo>
                  <a:lnTo>
                    <a:pt x="66" y="54"/>
                  </a:lnTo>
                  <a:lnTo>
                    <a:pt x="47" y="51"/>
                  </a:lnTo>
                  <a:lnTo>
                    <a:pt x="26" y="48"/>
                  </a:lnTo>
                  <a:lnTo>
                    <a:pt x="0" y="0"/>
                  </a:lnTo>
                  <a:lnTo>
                    <a:pt x="28" y="2"/>
                  </a:lnTo>
                  <a:lnTo>
                    <a:pt x="55" y="6"/>
                  </a:lnTo>
                  <a:lnTo>
                    <a:pt x="81" y="11"/>
                  </a:lnTo>
                  <a:lnTo>
                    <a:pt x="107" y="17"/>
                  </a:lnTo>
                  <a:lnTo>
                    <a:pt x="131" y="24"/>
                  </a:lnTo>
                  <a:lnTo>
                    <a:pt x="156" y="33"/>
                  </a:lnTo>
                  <a:lnTo>
                    <a:pt x="179" y="43"/>
                  </a:lnTo>
                  <a:lnTo>
                    <a:pt x="202" y="54"/>
                  </a:lnTo>
                  <a:lnTo>
                    <a:pt x="225" y="67"/>
                  </a:lnTo>
                  <a:lnTo>
                    <a:pt x="247" y="80"/>
                  </a:lnTo>
                  <a:lnTo>
                    <a:pt x="269" y="93"/>
                  </a:lnTo>
                  <a:lnTo>
                    <a:pt x="289" y="109"/>
                  </a:lnTo>
                  <a:lnTo>
                    <a:pt x="310" y="124"/>
                  </a:lnTo>
                  <a:lnTo>
                    <a:pt x="330" y="141"/>
                  </a:lnTo>
                  <a:lnTo>
                    <a:pt x="349" y="159"/>
                  </a:lnTo>
                  <a:lnTo>
                    <a:pt x="368" y="176"/>
                  </a:lnTo>
                  <a:lnTo>
                    <a:pt x="387" y="195"/>
                  </a:lnTo>
                  <a:lnTo>
                    <a:pt x="404" y="215"/>
                  </a:lnTo>
                  <a:lnTo>
                    <a:pt x="422" y="235"/>
                  </a:lnTo>
                  <a:lnTo>
                    <a:pt x="440" y="255"/>
                  </a:lnTo>
                  <a:lnTo>
                    <a:pt x="473" y="297"/>
                  </a:lnTo>
                  <a:lnTo>
                    <a:pt x="505" y="341"/>
                  </a:lnTo>
                  <a:lnTo>
                    <a:pt x="537" y="385"/>
                  </a:lnTo>
                  <a:lnTo>
                    <a:pt x="567" y="431"/>
                  </a:lnTo>
                  <a:lnTo>
                    <a:pt x="595" y="475"/>
                  </a:lnTo>
                  <a:lnTo>
                    <a:pt x="623" y="5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5181480" y="4145040"/>
              <a:ext cx="65160" cy="5868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50" y="18"/>
                  </a:moveTo>
                  <a:lnTo>
                    <a:pt x="158" y="27"/>
                  </a:lnTo>
                  <a:lnTo>
                    <a:pt x="165" y="37"/>
                  </a:lnTo>
                  <a:lnTo>
                    <a:pt x="171" y="48"/>
                  </a:lnTo>
                  <a:lnTo>
                    <a:pt x="177" y="59"/>
                  </a:lnTo>
                  <a:lnTo>
                    <a:pt x="186" y="84"/>
                  </a:lnTo>
                  <a:lnTo>
                    <a:pt x="193" y="106"/>
                  </a:lnTo>
                  <a:lnTo>
                    <a:pt x="198" y="127"/>
                  </a:lnTo>
                  <a:lnTo>
                    <a:pt x="201" y="145"/>
                  </a:lnTo>
                  <a:lnTo>
                    <a:pt x="203" y="156"/>
                  </a:lnTo>
                  <a:lnTo>
                    <a:pt x="203" y="160"/>
                  </a:lnTo>
                  <a:lnTo>
                    <a:pt x="199" y="163"/>
                  </a:lnTo>
                  <a:lnTo>
                    <a:pt x="195" y="168"/>
                  </a:lnTo>
                  <a:lnTo>
                    <a:pt x="190" y="172"/>
                  </a:lnTo>
                  <a:lnTo>
                    <a:pt x="186" y="177"/>
                  </a:lnTo>
                  <a:lnTo>
                    <a:pt x="181" y="180"/>
                  </a:lnTo>
                  <a:lnTo>
                    <a:pt x="177" y="182"/>
                  </a:lnTo>
                  <a:lnTo>
                    <a:pt x="171" y="185"/>
                  </a:lnTo>
                  <a:lnTo>
                    <a:pt x="165" y="183"/>
                  </a:lnTo>
                  <a:lnTo>
                    <a:pt x="165" y="178"/>
                  </a:lnTo>
                  <a:lnTo>
                    <a:pt x="162" y="166"/>
                  </a:lnTo>
                  <a:lnTo>
                    <a:pt x="158" y="147"/>
                  </a:lnTo>
                  <a:lnTo>
                    <a:pt x="152" y="126"/>
                  </a:lnTo>
                  <a:lnTo>
                    <a:pt x="148" y="116"/>
                  </a:lnTo>
                  <a:lnTo>
                    <a:pt x="143" y="105"/>
                  </a:lnTo>
                  <a:lnTo>
                    <a:pt x="137" y="95"/>
                  </a:lnTo>
                  <a:lnTo>
                    <a:pt x="130" y="86"/>
                  </a:lnTo>
                  <a:lnTo>
                    <a:pt x="122" y="78"/>
                  </a:lnTo>
                  <a:lnTo>
                    <a:pt x="114" y="71"/>
                  </a:lnTo>
                  <a:lnTo>
                    <a:pt x="109" y="69"/>
                  </a:lnTo>
                  <a:lnTo>
                    <a:pt x="104" y="67"/>
                  </a:lnTo>
                  <a:lnTo>
                    <a:pt x="98" y="65"/>
                  </a:lnTo>
                  <a:lnTo>
                    <a:pt x="92" y="65"/>
                  </a:lnTo>
                  <a:lnTo>
                    <a:pt x="77" y="68"/>
                  </a:lnTo>
                  <a:lnTo>
                    <a:pt x="64" y="71"/>
                  </a:lnTo>
                  <a:lnTo>
                    <a:pt x="50" y="75"/>
                  </a:lnTo>
                  <a:lnTo>
                    <a:pt x="38" y="78"/>
                  </a:lnTo>
                  <a:lnTo>
                    <a:pt x="28" y="79"/>
                  </a:lnTo>
                  <a:lnTo>
                    <a:pt x="18" y="78"/>
                  </a:lnTo>
                  <a:lnTo>
                    <a:pt x="12" y="78"/>
                  </a:lnTo>
                  <a:lnTo>
                    <a:pt x="8" y="76"/>
                  </a:lnTo>
                  <a:lnTo>
                    <a:pt x="5" y="74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2" y="58"/>
                  </a:lnTo>
                  <a:lnTo>
                    <a:pt x="5" y="52"/>
                  </a:lnTo>
                  <a:lnTo>
                    <a:pt x="7" y="47"/>
                  </a:lnTo>
                  <a:lnTo>
                    <a:pt x="14" y="37"/>
                  </a:lnTo>
                  <a:lnTo>
                    <a:pt x="21" y="28"/>
                  </a:lnTo>
                  <a:lnTo>
                    <a:pt x="30" y="20"/>
                  </a:lnTo>
                  <a:lnTo>
                    <a:pt x="41" y="14"/>
                  </a:lnTo>
                  <a:lnTo>
                    <a:pt x="52" y="9"/>
                  </a:lnTo>
                  <a:lnTo>
                    <a:pt x="64" y="5"/>
                  </a:lnTo>
                  <a:lnTo>
                    <a:pt x="76" y="2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11" y="1"/>
                  </a:lnTo>
                  <a:lnTo>
                    <a:pt x="122" y="4"/>
                  </a:lnTo>
                  <a:lnTo>
                    <a:pt x="134" y="7"/>
                  </a:lnTo>
                  <a:lnTo>
                    <a:pt x="142" y="11"/>
                  </a:lnTo>
                  <a:lnTo>
                    <a:pt x="15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5616720" y="4203720"/>
              <a:ext cx="134640" cy="177840"/>
            </a:xfrm>
            <a:custGeom>
              <a:avLst/>
              <a:gdLst/>
              <a:ahLst/>
              <a:rect l="l" t="t" r="r" b="b"/>
              <a:pathLst>
                <a:path w="422" h="561">
                  <a:moveTo>
                    <a:pt x="412" y="386"/>
                  </a:moveTo>
                  <a:lnTo>
                    <a:pt x="403" y="397"/>
                  </a:lnTo>
                  <a:lnTo>
                    <a:pt x="395" y="407"/>
                  </a:lnTo>
                  <a:lnTo>
                    <a:pt x="386" y="417"/>
                  </a:lnTo>
                  <a:lnTo>
                    <a:pt x="377" y="426"/>
                  </a:lnTo>
                  <a:lnTo>
                    <a:pt x="358" y="441"/>
                  </a:lnTo>
                  <a:lnTo>
                    <a:pt x="338" y="456"/>
                  </a:lnTo>
                  <a:lnTo>
                    <a:pt x="317" y="468"/>
                  </a:lnTo>
                  <a:lnTo>
                    <a:pt x="296" y="478"/>
                  </a:lnTo>
                  <a:lnTo>
                    <a:pt x="275" y="488"/>
                  </a:lnTo>
                  <a:lnTo>
                    <a:pt x="253" y="497"/>
                  </a:lnTo>
                  <a:lnTo>
                    <a:pt x="208" y="511"/>
                  </a:lnTo>
                  <a:lnTo>
                    <a:pt x="163" y="525"/>
                  </a:lnTo>
                  <a:lnTo>
                    <a:pt x="141" y="533"/>
                  </a:lnTo>
                  <a:lnTo>
                    <a:pt x="120" y="541"/>
                  </a:lnTo>
                  <a:lnTo>
                    <a:pt x="97" y="551"/>
                  </a:lnTo>
                  <a:lnTo>
                    <a:pt x="77" y="561"/>
                  </a:lnTo>
                  <a:lnTo>
                    <a:pt x="25" y="484"/>
                  </a:lnTo>
                  <a:lnTo>
                    <a:pt x="37" y="485"/>
                  </a:lnTo>
                  <a:lnTo>
                    <a:pt x="49" y="485"/>
                  </a:lnTo>
                  <a:lnTo>
                    <a:pt x="61" y="485"/>
                  </a:lnTo>
                  <a:lnTo>
                    <a:pt x="74" y="485"/>
                  </a:lnTo>
                  <a:lnTo>
                    <a:pt x="98" y="482"/>
                  </a:lnTo>
                  <a:lnTo>
                    <a:pt x="124" y="477"/>
                  </a:lnTo>
                  <a:lnTo>
                    <a:pt x="148" y="469"/>
                  </a:lnTo>
                  <a:lnTo>
                    <a:pt x="174" y="460"/>
                  </a:lnTo>
                  <a:lnTo>
                    <a:pt x="198" y="450"/>
                  </a:lnTo>
                  <a:lnTo>
                    <a:pt x="222" y="439"/>
                  </a:lnTo>
                  <a:lnTo>
                    <a:pt x="245" y="427"/>
                  </a:lnTo>
                  <a:lnTo>
                    <a:pt x="267" y="413"/>
                  </a:lnTo>
                  <a:lnTo>
                    <a:pt x="287" y="400"/>
                  </a:lnTo>
                  <a:lnTo>
                    <a:pt x="305" y="386"/>
                  </a:lnTo>
                  <a:lnTo>
                    <a:pt x="322" y="371"/>
                  </a:lnTo>
                  <a:lnTo>
                    <a:pt x="336" y="357"/>
                  </a:lnTo>
                  <a:lnTo>
                    <a:pt x="348" y="343"/>
                  </a:lnTo>
                  <a:lnTo>
                    <a:pt x="358" y="330"/>
                  </a:lnTo>
                  <a:lnTo>
                    <a:pt x="361" y="325"/>
                  </a:lnTo>
                  <a:lnTo>
                    <a:pt x="359" y="318"/>
                  </a:lnTo>
                  <a:lnTo>
                    <a:pt x="357" y="311"/>
                  </a:lnTo>
                  <a:lnTo>
                    <a:pt x="353" y="302"/>
                  </a:lnTo>
                  <a:lnTo>
                    <a:pt x="347" y="293"/>
                  </a:lnTo>
                  <a:lnTo>
                    <a:pt x="339" y="283"/>
                  </a:lnTo>
                  <a:lnTo>
                    <a:pt x="331" y="273"/>
                  </a:lnTo>
                  <a:lnTo>
                    <a:pt x="319" y="263"/>
                  </a:lnTo>
                  <a:lnTo>
                    <a:pt x="295" y="240"/>
                  </a:lnTo>
                  <a:lnTo>
                    <a:pt x="265" y="216"/>
                  </a:lnTo>
                  <a:lnTo>
                    <a:pt x="234" y="191"/>
                  </a:lnTo>
                  <a:lnTo>
                    <a:pt x="201" y="166"/>
                  </a:lnTo>
                  <a:lnTo>
                    <a:pt x="132" y="118"/>
                  </a:lnTo>
                  <a:lnTo>
                    <a:pt x="71" y="76"/>
                  </a:lnTo>
                  <a:lnTo>
                    <a:pt x="24" y="44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3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3" y="3"/>
                  </a:lnTo>
                  <a:lnTo>
                    <a:pt x="44" y="6"/>
                  </a:lnTo>
                  <a:lnTo>
                    <a:pt x="70" y="16"/>
                  </a:lnTo>
                  <a:lnTo>
                    <a:pt x="102" y="29"/>
                  </a:lnTo>
                  <a:lnTo>
                    <a:pt x="137" y="47"/>
                  </a:lnTo>
                  <a:lnTo>
                    <a:pt x="176" y="67"/>
                  </a:lnTo>
                  <a:lnTo>
                    <a:pt x="196" y="79"/>
                  </a:lnTo>
                  <a:lnTo>
                    <a:pt x="217" y="91"/>
                  </a:lnTo>
                  <a:lnTo>
                    <a:pt x="237" y="105"/>
                  </a:lnTo>
                  <a:lnTo>
                    <a:pt x="257" y="118"/>
                  </a:lnTo>
                  <a:lnTo>
                    <a:pt x="277" y="132"/>
                  </a:lnTo>
                  <a:lnTo>
                    <a:pt x="296" y="147"/>
                  </a:lnTo>
                  <a:lnTo>
                    <a:pt x="314" y="161"/>
                  </a:lnTo>
                  <a:lnTo>
                    <a:pt x="332" y="178"/>
                  </a:lnTo>
                  <a:lnTo>
                    <a:pt x="348" y="194"/>
                  </a:lnTo>
                  <a:lnTo>
                    <a:pt x="364" y="210"/>
                  </a:lnTo>
                  <a:lnTo>
                    <a:pt x="378" y="227"/>
                  </a:lnTo>
                  <a:lnTo>
                    <a:pt x="391" y="243"/>
                  </a:lnTo>
                  <a:lnTo>
                    <a:pt x="401" y="261"/>
                  </a:lnTo>
                  <a:lnTo>
                    <a:pt x="409" y="279"/>
                  </a:lnTo>
                  <a:lnTo>
                    <a:pt x="416" y="297"/>
                  </a:lnTo>
                  <a:lnTo>
                    <a:pt x="421" y="315"/>
                  </a:lnTo>
                  <a:lnTo>
                    <a:pt x="422" y="332"/>
                  </a:lnTo>
                  <a:lnTo>
                    <a:pt x="422" y="350"/>
                  </a:lnTo>
                  <a:lnTo>
                    <a:pt x="418" y="368"/>
                  </a:lnTo>
                  <a:lnTo>
                    <a:pt x="412" y="3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5600880" y="4162320"/>
              <a:ext cx="195120" cy="158760"/>
            </a:xfrm>
            <a:custGeom>
              <a:avLst/>
              <a:gdLst/>
              <a:ahLst/>
              <a:rect l="l" t="t" r="r" b="b"/>
              <a:pathLst>
                <a:path w="612" h="497">
                  <a:moveTo>
                    <a:pt x="0" y="14"/>
                  </a:moveTo>
                  <a:lnTo>
                    <a:pt x="5" y="11"/>
                  </a:lnTo>
                  <a:lnTo>
                    <a:pt x="10" y="8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1"/>
                  </a:lnTo>
                  <a:lnTo>
                    <a:pt x="69" y="3"/>
                  </a:lnTo>
                  <a:lnTo>
                    <a:pt x="82" y="6"/>
                  </a:lnTo>
                  <a:lnTo>
                    <a:pt x="95" y="11"/>
                  </a:lnTo>
                  <a:lnTo>
                    <a:pt x="123" y="22"/>
                  </a:lnTo>
                  <a:lnTo>
                    <a:pt x="151" y="33"/>
                  </a:lnTo>
                  <a:lnTo>
                    <a:pt x="165" y="39"/>
                  </a:lnTo>
                  <a:lnTo>
                    <a:pt x="178" y="44"/>
                  </a:lnTo>
                  <a:lnTo>
                    <a:pt x="192" y="47"/>
                  </a:lnTo>
                  <a:lnTo>
                    <a:pt x="205" y="51"/>
                  </a:lnTo>
                  <a:lnTo>
                    <a:pt x="232" y="67"/>
                  </a:lnTo>
                  <a:lnTo>
                    <a:pt x="261" y="86"/>
                  </a:lnTo>
                  <a:lnTo>
                    <a:pt x="288" y="105"/>
                  </a:lnTo>
                  <a:lnTo>
                    <a:pt x="317" y="127"/>
                  </a:lnTo>
                  <a:lnTo>
                    <a:pt x="346" y="150"/>
                  </a:lnTo>
                  <a:lnTo>
                    <a:pt x="374" y="173"/>
                  </a:lnTo>
                  <a:lnTo>
                    <a:pt x="403" y="197"/>
                  </a:lnTo>
                  <a:lnTo>
                    <a:pt x="429" y="223"/>
                  </a:lnTo>
                  <a:lnTo>
                    <a:pt x="457" y="248"/>
                  </a:lnTo>
                  <a:lnTo>
                    <a:pt x="483" y="275"/>
                  </a:lnTo>
                  <a:lnTo>
                    <a:pt x="508" y="302"/>
                  </a:lnTo>
                  <a:lnTo>
                    <a:pt x="532" y="328"/>
                  </a:lnTo>
                  <a:lnTo>
                    <a:pt x="554" y="355"/>
                  </a:lnTo>
                  <a:lnTo>
                    <a:pt x="575" y="382"/>
                  </a:lnTo>
                  <a:lnTo>
                    <a:pt x="594" y="408"/>
                  </a:lnTo>
                  <a:lnTo>
                    <a:pt x="612" y="434"/>
                  </a:lnTo>
                  <a:lnTo>
                    <a:pt x="610" y="442"/>
                  </a:lnTo>
                  <a:lnTo>
                    <a:pt x="610" y="449"/>
                  </a:lnTo>
                  <a:lnTo>
                    <a:pt x="612" y="458"/>
                  </a:lnTo>
                  <a:lnTo>
                    <a:pt x="612" y="468"/>
                  </a:lnTo>
                  <a:lnTo>
                    <a:pt x="612" y="476"/>
                  </a:lnTo>
                  <a:lnTo>
                    <a:pt x="609" y="485"/>
                  </a:lnTo>
                  <a:lnTo>
                    <a:pt x="608" y="488"/>
                  </a:lnTo>
                  <a:lnTo>
                    <a:pt x="606" y="491"/>
                  </a:lnTo>
                  <a:lnTo>
                    <a:pt x="603" y="495"/>
                  </a:lnTo>
                  <a:lnTo>
                    <a:pt x="598" y="497"/>
                  </a:lnTo>
                  <a:lnTo>
                    <a:pt x="592" y="494"/>
                  </a:lnTo>
                  <a:lnTo>
                    <a:pt x="586" y="488"/>
                  </a:lnTo>
                  <a:lnTo>
                    <a:pt x="579" y="483"/>
                  </a:lnTo>
                  <a:lnTo>
                    <a:pt x="573" y="476"/>
                  </a:lnTo>
                  <a:lnTo>
                    <a:pt x="558" y="459"/>
                  </a:lnTo>
                  <a:lnTo>
                    <a:pt x="543" y="440"/>
                  </a:lnTo>
                  <a:lnTo>
                    <a:pt x="524" y="417"/>
                  </a:lnTo>
                  <a:lnTo>
                    <a:pt x="503" y="392"/>
                  </a:lnTo>
                  <a:lnTo>
                    <a:pt x="478" y="364"/>
                  </a:lnTo>
                  <a:lnTo>
                    <a:pt x="451" y="333"/>
                  </a:lnTo>
                  <a:lnTo>
                    <a:pt x="417" y="299"/>
                  </a:lnTo>
                  <a:lnTo>
                    <a:pt x="378" y="264"/>
                  </a:lnTo>
                  <a:lnTo>
                    <a:pt x="357" y="245"/>
                  </a:lnTo>
                  <a:lnTo>
                    <a:pt x="334" y="226"/>
                  </a:lnTo>
                  <a:lnTo>
                    <a:pt x="310" y="207"/>
                  </a:lnTo>
                  <a:lnTo>
                    <a:pt x="283" y="187"/>
                  </a:lnTo>
                  <a:lnTo>
                    <a:pt x="255" y="166"/>
                  </a:lnTo>
                  <a:lnTo>
                    <a:pt x="224" y="146"/>
                  </a:lnTo>
                  <a:lnTo>
                    <a:pt x="193" y="125"/>
                  </a:lnTo>
                  <a:lnTo>
                    <a:pt x="158" y="103"/>
                  </a:lnTo>
                  <a:lnTo>
                    <a:pt x="122" y="82"/>
                  </a:lnTo>
                  <a:lnTo>
                    <a:pt x="84" y="60"/>
                  </a:lnTo>
                  <a:lnTo>
                    <a:pt x="43" y="3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5156280" y="4211640"/>
              <a:ext cx="60120" cy="71640"/>
            </a:xfrm>
            <a:custGeom>
              <a:avLst/>
              <a:gdLst/>
              <a:ahLst/>
              <a:rect l="l" t="t" r="r" b="b"/>
              <a:pathLst>
                <a:path w="191" h="226">
                  <a:moveTo>
                    <a:pt x="186" y="148"/>
                  </a:moveTo>
                  <a:lnTo>
                    <a:pt x="187" y="149"/>
                  </a:lnTo>
                  <a:lnTo>
                    <a:pt x="188" y="153"/>
                  </a:lnTo>
                  <a:lnTo>
                    <a:pt x="189" y="159"/>
                  </a:lnTo>
                  <a:lnTo>
                    <a:pt x="190" y="168"/>
                  </a:lnTo>
                  <a:lnTo>
                    <a:pt x="191" y="179"/>
                  </a:lnTo>
                  <a:lnTo>
                    <a:pt x="190" y="192"/>
                  </a:lnTo>
                  <a:lnTo>
                    <a:pt x="188" y="209"/>
                  </a:lnTo>
                  <a:lnTo>
                    <a:pt x="183" y="226"/>
                  </a:lnTo>
                  <a:lnTo>
                    <a:pt x="179" y="224"/>
                  </a:lnTo>
                  <a:lnTo>
                    <a:pt x="176" y="222"/>
                  </a:lnTo>
                  <a:lnTo>
                    <a:pt x="172" y="219"/>
                  </a:lnTo>
                  <a:lnTo>
                    <a:pt x="170" y="215"/>
                  </a:lnTo>
                  <a:lnTo>
                    <a:pt x="164" y="208"/>
                  </a:lnTo>
                  <a:lnTo>
                    <a:pt x="161" y="198"/>
                  </a:lnTo>
                  <a:lnTo>
                    <a:pt x="154" y="178"/>
                  </a:lnTo>
                  <a:lnTo>
                    <a:pt x="147" y="158"/>
                  </a:lnTo>
                  <a:lnTo>
                    <a:pt x="142" y="149"/>
                  </a:lnTo>
                  <a:lnTo>
                    <a:pt x="136" y="141"/>
                  </a:lnTo>
                  <a:lnTo>
                    <a:pt x="132" y="138"/>
                  </a:lnTo>
                  <a:lnTo>
                    <a:pt x="128" y="134"/>
                  </a:lnTo>
                  <a:lnTo>
                    <a:pt x="123" y="132"/>
                  </a:lnTo>
                  <a:lnTo>
                    <a:pt x="119" y="130"/>
                  </a:lnTo>
                  <a:lnTo>
                    <a:pt x="112" y="128"/>
                  </a:lnTo>
                  <a:lnTo>
                    <a:pt x="107" y="127"/>
                  </a:lnTo>
                  <a:lnTo>
                    <a:pt x="100" y="127"/>
                  </a:lnTo>
                  <a:lnTo>
                    <a:pt x="92" y="127"/>
                  </a:lnTo>
                  <a:lnTo>
                    <a:pt x="83" y="128"/>
                  </a:lnTo>
                  <a:lnTo>
                    <a:pt x="74" y="129"/>
                  </a:lnTo>
                  <a:lnTo>
                    <a:pt x="64" y="132"/>
                  </a:lnTo>
                  <a:lnTo>
                    <a:pt x="53" y="135"/>
                  </a:lnTo>
                  <a:lnTo>
                    <a:pt x="40" y="122"/>
                  </a:lnTo>
                  <a:lnTo>
                    <a:pt x="29" y="110"/>
                  </a:lnTo>
                  <a:lnTo>
                    <a:pt x="19" y="98"/>
                  </a:lnTo>
                  <a:lnTo>
                    <a:pt x="12" y="86"/>
                  </a:lnTo>
                  <a:lnTo>
                    <a:pt x="7" y="74"/>
                  </a:lnTo>
                  <a:lnTo>
                    <a:pt x="3" y="63"/>
                  </a:lnTo>
                  <a:lnTo>
                    <a:pt x="1" y="53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3" y="20"/>
                  </a:lnTo>
                  <a:lnTo>
                    <a:pt x="6" y="14"/>
                  </a:lnTo>
                  <a:lnTo>
                    <a:pt x="8" y="9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3" y="1"/>
                  </a:lnTo>
                  <a:lnTo>
                    <a:pt x="52" y="3"/>
                  </a:lnTo>
                  <a:lnTo>
                    <a:pt x="68" y="8"/>
                  </a:lnTo>
                  <a:lnTo>
                    <a:pt x="82" y="13"/>
                  </a:lnTo>
                  <a:lnTo>
                    <a:pt x="94" y="21"/>
                  </a:lnTo>
                  <a:lnTo>
                    <a:pt x="107" y="30"/>
                  </a:lnTo>
                  <a:lnTo>
                    <a:pt x="118" y="40"/>
                  </a:lnTo>
                  <a:lnTo>
                    <a:pt x="128" y="51"/>
                  </a:lnTo>
                  <a:lnTo>
                    <a:pt x="137" y="63"/>
                  </a:lnTo>
                  <a:lnTo>
                    <a:pt x="146" y="76"/>
                  </a:lnTo>
                  <a:lnTo>
                    <a:pt x="153" y="88"/>
                  </a:lnTo>
                  <a:lnTo>
                    <a:pt x="160" y="101"/>
                  </a:lnTo>
                  <a:lnTo>
                    <a:pt x="173" y="125"/>
                  </a:lnTo>
                  <a:lnTo>
                    <a:pt x="186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5362560" y="4248360"/>
              <a:ext cx="211320" cy="141120"/>
            </a:xfrm>
            <a:custGeom>
              <a:avLst/>
              <a:gdLst/>
              <a:ahLst/>
              <a:rect l="l" t="t" r="r" b="b"/>
              <a:pathLst>
                <a:path w="665" h="445">
                  <a:moveTo>
                    <a:pt x="665" y="0"/>
                  </a:moveTo>
                  <a:lnTo>
                    <a:pt x="646" y="29"/>
                  </a:lnTo>
                  <a:lnTo>
                    <a:pt x="627" y="56"/>
                  </a:lnTo>
                  <a:lnTo>
                    <a:pt x="609" y="81"/>
                  </a:lnTo>
                  <a:lnTo>
                    <a:pt x="592" y="103"/>
                  </a:lnTo>
                  <a:lnTo>
                    <a:pt x="574" y="123"/>
                  </a:lnTo>
                  <a:lnTo>
                    <a:pt x="557" y="142"/>
                  </a:lnTo>
                  <a:lnTo>
                    <a:pt x="540" y="159"/>
                  </a:lnTo>
                  <a:lnTo>
                    <a:pt x="525" y="173"/>
                  </a:lnTo>
                  <a:lnTo>
                    <a:pt x="509" y="187"/>
                  </a:lnTo>
                  <a:lnTo>
                    <a:pt x="495" y="198"/>
                  </a:lnTo>
                  <a:lnTo>
                    <a:pt x="480" y="208"/>
                  </a:lnTo>
                  <a:lnTo>
                    <a:pt x="467" y="217"/>
                  </a:lnTo>
                  <a:lnTo>
                    <a:pt x="454" y="223"/>
                  </a:lnTo>
                  <a:lnTo>
                    <a:pt x="442" y="230"/>
                  </a:lnTo>
                  <a:lnTo>
                    <a:pt x="429" y="234"/>
                  </a:lnTo>
                  <a:lnTo>
                    <a:pt x="418" y="238"/>
                  </a:lnTo>
                  <a:lnTo>
                    <a:pt x="408" y="241"/>
                  </a:lnTo>
                  <a:lnTo>
                    <a:pt x="398" y="243"/>
                  </a:lnTo>
                  <a:lnTo>
                    <a:pt x="388" y="244"/>
                  </a:lnTo>
                  <a:lnTo>
                    <a:pt x="379" y="244"/>
                  </a:lnTo>
                  <a:lnTo>
                    <a:pt x="364" y="244"/>
                  </a:lnTo>
                  <a:lnTo>
                    <a:pt x="351" y="242"/>
                  </a:lnTo>
                  <a:lnTo>
                    <a:pt x="333" y="237"/>
                  </a:lnTo>
                  <a:lnTo>
                    <a:pt x="327" y="233"/>
                  </a:lnTo>
                  <a:lnTo>
                    <a:pt x="295" y="262"/>
                  </a:lnTo>
                  <a:lnTo>
                    <a:pt x="264" y="291"/>
                  </a:lnTo>
                  <a:lnTo>
                    <a:pt x="232" y="318"/>
                  </a:lnTo>
                  <a:lnTo>
                    <a:pt x="200" y="343"/>
                  </a:lnTo>
                  <a:lnTo>
                    <a:pt x="166" y="369"/>
                  </a:lnTo>
                  <a:lnTo>
                    <a:pt x="131" y="393"/>
                  </a:lnTo>
                  <a:lnTo>
                    <a:pt x="94" y="419"/>
                  </a:lnTo>
                  <a:lnTo>
                    <a:pt x="55" y="444"/>
                  </a:lnTo>
                  <a:lnTo>
                    <a:pt x="48" y="443"/>
                  </a:lnTo>
                  <a:lnTo>
                    <a:pt x="42" y="444"/>
                  </a:lnTo>
                  <a:lnTo>
                    <a:pt x="34" y="445"/>
                  </a:lnTo>
                  <a:lnTo>
                    <a:pt x="27" y="445"/>
                  </a:lnTo>
                  <a:lnTo>
                    <a:pt x="21" y="444"/>
                  </a:lnTo>
                  <a:lnTo>
                    <a:pt x="14" y="442"/>
                  </a:lnTo>
                  <a:lnTo>
                    <a:pt x="12" y="441"/>
                  </a:lnTo>
                  <a:lnTo>
                    <a:pt x="8" y="439"/>
                  </a:lnTo>
                  <a:lnTo>
                    <a:pt x="6" y="435"/>
                  </a:lnTo>
                  <a:lnTo>
                    <a:pt x="4" y="431"/>
                  </a:lnTo>
                  <a:lnTo>
                    <a:pt x="43" y="401"/>
                  </a:lnTo>
                  <a:lnTo>
                    <a:pt x="76" y="373"/>
                  </a:lnTo>
                  <a:lnTo>
                    <a:pt x="107" y="348"/>
                  </a:lnTo>
                  <a:lnTo>
                    <a:pt x="136" y="322"/>
                  </a:lnTo>
                  <a:lnTo>
                    <a:pt x="163" y="297"/>
                  </a:lnTo>
                  <a:lnTo>
                    <a:pt x="191" y="270"/>
                  </a:lnTo>
                  <a:lnTo>
                    <a:pt x="218" y="239"/>
                  </a:lnTo>
                  <a:lnTo>
                    <a:pt x="247" y="205"/>
                  </a:lnTo>
                  <a:lnTo>
                    <a:pt x="239" y="200"/>
                  </a:lnTo>
                  <a:lnTo>
                    <a:pt x="232" y="196"/>
                  </a:lnTo>
                  <a:lnTo>
                    <a:pt x="223" y="192"/>
                  </a:lnTo>
                  <a:lnTo>
                    <a:pt x="214" y="189"/>
                  </a:lnTo>
                  <a:lnTo>
                    <a:pt x="196" y="185"/>
                  </a:lnTo>
                  <a:lnTo>
                    <a:pt x="176" y="182"/>
                  </a:lnTo>
                  <a:lnTo>
                    <a:pt x="157" y="181"/>
                  </a:lnTo>
                  <a:lnTo>
                    <a:pt x="137" y="181"/>
                  </a:lnTo>
                  <a:lnTo>
                    <a:pt x="118" y="182"/>
                  </a:lnTo>
                  <a:lnTo>
                    <a:pt x="100" y="185"/>
                  </a:lnTo>
                  <a:lnTo>
                    <a:pt x="65" y="190"/>
                  </a:lnTo>
                  <a:lnTo>
                    <a:pt x="36" y="197"/>
                  </a:lnTo>
                  <a:lnTo>
                    <a:pt x="15" y="202"/>
                  </a:lnTo>
                  <a:lnTo>
                    <a:pt x="4" y="205"/>
                  </a:lnTo>
                  <a:lnTo>
                    <a:pt x="2" y="200"/>
                  </a:lnTo>
                  <a:lnTo>
                    <a:pt x="1" y="196"/>
                  </a:lnTo>
                  <a:lnTo>
                    <a:pt x="0" y="191"/>
                  </a:lnTo>
                  <a:lnTo>
                    <a:pt x="1" y="187"/>
                  </a:lnTo>
                  <a:lnTo>
                    <a:pt x="3" y="178"/>
                  </a:lnTo>
                  <a:lnTo>
                    <a:pt x="7" y="168"/>
                  </a:lnTo>
                  <a:lnTo>
                    <a:pt x="13" y="158"/>
                  </a:lnTo>
                  <a:lnTo>
                    <a:pt x="20" y="148"/>
                  </a:lnTo>
                  <a:lnTo>
                    <a:pt x="25" y="137"/>
                  </a:lnTo>
                  <a:lnTo>
                    <a:pt x="31" y="127"/>
                  </a:lnTo>
                  <a:lnTo>
                    <a:pt x="43" y="122"/>
                  </a:lnTo>
                  <a:lnTo>
                    <a:pt x="57" y="119"/>
                  </a:lnTo>
                  <a:lnTo>
                    <a:pt x="72" y="117"/>
                  </a:lnTo>
                  <a:lnTo>
                    <a:pt x="86" y="115"/>
                  </a:lnTo>
                  <a:lnTo>
                    <a:pt x="117" y="113"/>
                  </a:lnTo>
                  <a:lnTo>
                    <a:pt x="151" y="115"/>
                  </a:lnTo>
                  <a:lnTo>
                    <a:pt x="221" y="120"/>
                  </a:lnTo>
                  <a:lnTo>
                    <a:pt x="295" y="125"/>
                  </a:lnTo>
                  <a:lnTo>
                    <a:pt x="314" y="125"/>
                  </a:lnTo>
                  <a:lnTo>
                    <a:pt x="333" y="125"/>
                  </a:lnTo>
                  <a:lnTo>
                    <a:pt x="353" y="123"/>
                  </a:lnTo>
                  <a:lnTo>
                    <a:pt x="372" y="121"/>
                  </a:lnTo>
                  <a:lnTo>
                    <a:pt x="392" y="119"/>
                  </a:lnTo>
                  <a:lnTo>
                    <a:pt x="411" y="115"/>
                  </a:lnTo>
                  <a:lnTo>
                    <a:pt x="431" y="110"/>
                  </a:lnTo>
                  <a:lnTo>
                    <a:pt x="450" y="103"/>
                  </a:lnTo>
                  <a:lnTo>
                    <a:pt x="469" y="97"/>
                  </a:lnTo>
                  <a:lnTo>
                    <a:pt x="488" y="88"/>
                  </a:lnTo>
                  <a:lnTo>
                    <a:pt x="508" y="78"/>
                  </a:lnTo>
                  <a:lnTo>
                    <a:pt x="527" y="66"/>
                  </a:lnTo>
                  <a:lnTo>
                    <a:pt x="546" y="52"/>
                  </a:lnTo>
                  <a:lnTo>
                    <a:pt x="565" y="37"/>
                  </a:lnTo>
                  <a:lnTo>
                    <a:pt x="583" y="19"/>
                  </a:lnTo>
                  <a:lnTo>
                    <a:pt x="602" y="0"/>
                  </a:lnTo>
                  <a:lnTo>
                    <a:pt x="6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5075280" y="4291200"/>
              <a:ext cx="69840" cy="106200"/>
            </a:xfrm>
            <a:custGeom>
              <a:avLst/>
              <a:gdLst/>
              <a:ahLst/>
              <a:rect l="l" t="t" r="r" b="b"/>
              <a:pathLst>
                <a:path w="221" h="335">
                  <a:moveTo>
                    <a:pt x="221" y="31"/>
                  </a:moveTo>
                  <a:lnTo>
                    <a:pt x="190" y="51"/>
                  </a:lnTo>
                  <a:lnTo>
                    <a:pt x="162" y="71"/>
                  </a:lnTo>
                  <a:lnTo>
                    <a:pt x="138" y="90"/>
                  </a:lnTo>
                  <a:lnTo>
                    <a:pt x="117" y="110"/>
                  </a:lnTo>
                  <a:lnTo>
                    <a:pt x="98" y="128"/>
                  </a:lnTo>
                  <a:lnTo>
                    <a:pt x="84" y="147"/>
                  </a:lnTo>
                  <a:lnTo>
                    <a:pt x="71" y="166"/>
                  </a:lnTo>
                  <a:lnTo>
                    <a:pt x="61" y="185"/>
                  </a:lnTo>
                  <a:lnTo>
                    <a:pt x="53" y="204"/>
                  </a:lnTo>
                  <a:lnTo>
                    <a:pt x="46" y="223"/>
                  </a:lnTo>
                  <a:lnTo>
                    <a:pt x="42" y="242"/>
                  </a:lnTo>
                  <a:lnTo>
                    <a:pt x="40" y="259"/>
                  </a:lnTo>
                  <a:lnTo>
                    <a:pt x="39" y="278"/>
                  </a:lnTo>
                  <a:lnTo>
                    <a:pt x="40" y="297"/>
                  </a:lnTo>
                  <a:lnTo>
                    <a:pt x="41" y="316"/>
                  </a:lnTo>
                  <a:lnTo>
                    <a:pt x="43" y="335"/>
                  </a:lnTo>
                  <a:lnTo>
                    <a:pt x="31" y="323"/>
                  </a:lnTo>
                  <a:lnTo>
                    <a:pt x="20" y="313"/>
                  </a:lnTo>
                  <a:lnTo>
                    <a:pt x="14" y="308"/>
                  </a:lnTo>
                  <a:lnTo>
                    <a:pt x="10" y="304"/>
                  </a:lnTo>
                  <a:lnTo>
                    <a:pt x="6" y="299"/>
                  </a:lnTo>
                  <a:lnTo>
                    <a:pt x="3" y="294"/>
                  </a:lnTo>
                  <a:lnTo>
                    <a:pt x="1" y="288"/>
                  </a:lnTo>
                  <a:lnTo>
                    <a:pt x="0" y="282"/>
                  </a:lnTo>
                  <a:lnTo>
                    <a:pt x="0" y="273"/>
                  </a:lnTo>
                  <a:lnTo>
                    <a:pt x="1" y="264"/>
                  </a:lnTo>
                  <a:lnTo>
                    <a:pt x="3" y="253"/>
                  </a:lnTo>
                  <a:lnTo>
                    <a:pt x="7" y="241"/>
                  </a:lnTo>
                  <a:lnTo>
                    <a:pt x="13" y="225"/>
                  </a:lnTo>
                  <a:lnTo>
                    <a:pt x="20" y="208"/>
                  </a:lnTo>
                  <a:lnTo>
                    <a:pt x="21" y="197"/>
                  </a:lnTo>
                  <a:lnTo>
                    <a:pt x="24" y="186"/>
                  </a:lnTo>
                  <a:lnTo>
                    <a:pt x="27" y="174"/>
                  </a:lnTo>
                  <a:lnTo>
                    <a:pt x="31" y="161"/>
                  </a:lnTo>
                  <a:lnTo>
                    <a:pt x="32" y="153"/>
                  </a:lnTo>
                  <a:lnTo>
                    <a:pt x="32" y="146"/>
                  </a:lnTo>
                  <a:lnTo>
                    <a:pt x="32" y="137"/>
                  </a:lnTo>
                  <a:lnTo>
                    <a:pt x="31" y="130"/>
                  </a:lnTo>
                  <a:lnTo>
                    <a:pt x="29" y="121"/>
                  </a:lnTo>
                  <a:lnTo>
                    <a:pt x="25" y="111"/>
                  </a:lnTo>
                  <a:lnTo>
                    <a:pt x="21" y="101"/>
                  </a:lnTo>
                  <a:lnTo>
                    <a:pt x="15" y="90"/>
                  </a:lnTo>
                  <a:lnTo>
                    <a:pt x="15" y="87"/>
                  </a:lnTo>
                  <a:lnTo>
                    <a:pt x="16" y="85"/>
                  </a:lnTo>
                  <a:lnTo>
                    <a:pt x="19" y="85"/>
                  </a:lnTo>
                  <a:lnTo>
                    <a:pt x="21" y="84"/>
                  </a:lnTo>
                  <a:lnTo>
                    <a:pt x="30" y="85"/>
                  </a:lnTo>
                  <a:lnTo>
                    <a:pt x="39" y="88"/>
                  </a:lnTo>
                  <a:lnTo>
                    <a:pt x="48" y="93"/>
                  </a:lnTo>
                  <a:lnTo>
                    <a:pt x="58" y="101"/>
                  </a:lnTo>
                  <a:lnTo>
                    <a:pt x="62" y="105"/>
                  </a:lnTo>
                  <a:lnTo>
                    <a:pt x="65" y="110"/>
                  </a:lnTo>
                  <a:lnTo>
                    <a:pt x="68" y="115"/>
                  </a:lnTo>
                  <a:lnTo>
                    <a:pt x="71" y="121"/>
                  </a:lnTo>
                  <a:lnTo>
                    <a:pt x="75" y="118"/>
                  </a:lnTo>
                  <a:lnTo>
                    <a:pt x="81" y="115"/>
                  </a:lnTo>
                  <a:lnTo>
                    <a:pt x="86" y="111"/>
                  </a:lnTo>
                  <a:lnTo>
                    <a:pt x="91" y="106"/>
                  </a:lnTo>
                  <a:lnTo>
                    <a:pt x="101" y="96"/>
                  </a:lnTo>
                  <a:lnTo>
                    <a:pt x="111" y="83"/>
                  </a:lnTo>
                  <a:lnTo>
                    <a:pt x="131" y="56"/>
                  </a:lnTo>
                  <a:lnTo>
                    <a:pt x="150" y="30"/>
                  </a:lnTo>
                  <a:lnTo>
                    <a:pt x="158" y="19"/>
                  </a:lnTo>
                  <a:lnTo>
                    <a:pt x="167" y="10"/>
                  </a:lnTo>
                  <a:lnTo>
                    <a:pt x="173" y="5"/>
                  </a:lnTo>
                  <a:lnTo>
                    <a:pt x="177" y="3"/>
                  </a:lnTo>
                  <a:lnTo>
                    <a:pt x="182" y="1"/>
                  </a:lnTo>
                  <a:lnTo>
                    <a:pt x="186" y="0"/>
                  </a:lnTo>
                  <a:lnTo>
                    <a:pt x="191" y="0"/>
                  </a:lnTo>
                  <a:lnTo>
                    <a:pt x="195" y="0"/>
                  </a:lnTo>
                  <a:lnTo>
                    <a:pt x="200" y="2"/>
                  </a:lnTo>
                  <a:lnTo>
                    <a:pt x="204" y="5"/>
                  </a:lnTo>
                  <a:lnTo>
                    <a:pt x="207" y="10"/>
                  </a:lnTo>
                  <a:lnTo>
                    <a:pt x="212" y="15"/>
                  </a:lnTo>
                  <a:lnTo>
                    <a:pt x="216" y="22"/>
                  </a:lnTo>
                  <a:lnTo>
                    <a:pt x="221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5662440" y="4313160"/>
              <a:ext cx="223920" cy="273240"/>
            </a:xfrm>
            <a:custGeom>
              <a:avLst/>
              <a:gdLst/>
              <a:ahLst/>
              <a:rect l="l" t="t" r="r" b="b"/>
              <a:pathLst>
                <a:path w="708" h="863">
                  <a:moveTo>
                    <a:pt x="708" y="57"/>
                  </a:moveTo>
                  <a:lnTo>
                    <a:pt x="696" y="73"/>
                  </a:lnTo>
                  <a:lnTo>
                    <a:pt x="688" y="85"/>
                  </a:lnTo>
                  <a:lnTo>
                    <a:pt x="683" y="95"/>
                  </a:lnTo>
                  <a:lnTo>
                    <a:pt x="680" y="103"/>
                  </a:lnTo>
                  <a:lnTo>
                    <a:pt x="679" y="111"/>
                  </a:lnTo>
                  <a:lnTo>
                    <a:pt x="680" y="116"/>
                  </a:lnTo>
                  <a:lnTo>
                    <a:pt x="683" y="123"/>
                  </a:lnTo>
                  <a:lnTo>
                    <a:pt x="686" y="128"/>
                  </a:lnTo>
                  <a:lnTo>
                    <a:pt x="688" y="135"/>
                  </a:lnTo>
                  <a:lnTo>
                    <a:pt x="692" y="143"/>
                  </a:lnTo>
                  <a:lnTo>
                    <a:pt x="694" y="153"/>
                  </a:lnTo>
                  <a:lnTo>
                    <a:pt x="694" y="164"/>
                  </a:lnTo>
                  <a:lnTo>
                    <a:pt x="694" y="178"/>
                  </a:lnTo>
                  <a:lnTo>
                    <a:pt x="690" y="195"/>
                  </a:lnTo>
                  <a:lnTo>
                    <a:pt x="685" y="215"/>
                  </a:lnTo>
                  <a:lnTo>
                    <a:pt x="677" y="239"/>
                  </a:lnTo>
                  <a:lnTo>
                    <a:pt x="662" y="283"/>
                  </a:lnTo>
                  <a:lnTo>
                    <a:pt x="644" y="325"/>
                  </a:lnTo>
                  <a:lnTo>
                    <a:pt x="625" y="367"/>
                  </a:lnTo>
                  <a:lnTo>
                    <a:pt x="604" y="408"/>
                  </a:lnTo>
                  <a:lnTo>
                    <a:pt x="582" y="448"/>
                  </a:lnTo>
                  <a:lnTo>
                    <a:pt x="557" y="488"/>
                  </a:lnTo>
                  <a:lnTo>
                    <a:pt x="531" y="527"/>
                  </a:lnTo>
                  <a:lnTo>
                    <a:pt x="503" y="566"/>
                  </a:lnTo>
                  <a:lnTo>
                    <a:pt x="474" y="604"/>
                  </a:lnTo>
                  <a:lnTo>
                    <a:pt x="443" y="642"/>
                  </a:lnTo>
                  <a:lnTo>
                    <a:pt x="411" y="680"/>
                  </a:lnTo>
                  <a:lnTo>
                    <a:pt x="377" y="717"/>
                  </a:lnTo>
                  <a:lnTo>
                    <a:pt x="342" y="753"/>
                  </a:lnTo>
                  <a:lnTo>
                    <a:pt x="306" y="790"/>
                  </a:lnTo>
                  <a:lnTo>
                    <a:pt x="268" y="826"/>
                  </a:lnTo>
                  <a:lnTo>
                    <a:pt x="230" y="863"/>
                  </a:lnTo>
                  <a:lnTo>
                    <a:pt x="226" y="848"/>
                  </a:lnTo>
                  <a:lnTo>
                    <a:pt x="221" y="833"/>
                  </a:lnTo>
                  <a:lnTo>
                    <a:pt x="214" y="818"/>
                  </a:lnTo>
                  <a:lnTo>
                    <a:pt x="210" y="803"/>
                  </a:lnTo>
                  <a:lnTo>
                    <a:pt x="207" y="795"/>
                  </a:lnTo>
                  <a:lnTo>
                    <a:pt x="206" y="789"/>
                  </a:lnTo>
                  <a:lnTo>
                    <a:pt x="206" y="782"/>
                  </a:lnTo>
                  <a:lnTo>
                    <a:pt x="208" y="774"/>
                  </a:lnTo>
                  <a:lnTo>
                    <a:pt x="211" y="768"/>
                  </a:lnTo>
                  <a:lnTo>
                    <a:pt x="215" y="761"/>
                  </a:lnTo>
                  <a:lnTo>
                    <a:pt x="222" y="755"/>
                  </a:lnTo>
                  <a:lnTo>
                    <a:pt x="230" y="749"/>
                  </a:lnTo>
                  <a:lnTo>
                    <a:pt x="244" y="737"/>
                  </a:lnTo>
                  <a:lnTo>
                    <a:pt x="281" y="701"/>
                  </a:lnTo>
                  <a:lnTo>
                    <a:pt x="305" y="675"/>
                  </a:lnTo>
                  <a:lnTo>
                    <a:pt x="333" y="647"/>
                  </a:lnTo>
                  <a:lnTo>
                    <a:pt x="364" y="613"/>
                  </a:lnTo>
                  <a:lnTo>
                    <a:pt x="396" y="576"/>
                  </a:lnTo>
                  <a:lnTo>
                    <a:pt x="428" y="536"/>
                  </a:lnTo>
                  <a:lnTo>
                    <a:pt x="462" y="492"/>
                  </a:lnTo>
                  <a:lnTo>
                    <a:pt x="477" y="470"/>
                  </a:lnTo>
                  <a:lnTo>
                    <a:pt x="493" y="448"/>
                  </a:lnTo>
                  <a:lnTo>
                    <a:pt x="508" y="425"/>
                  </a:lnTo>
                  <a:lnTo>
                    <a:pt x="524" y="400"/>
                  </a:lnTo>
                  <a:lnTo>
                    <a:pt x="537" y="377"/>
                  </a:lnTo>
                  <a:lnTo>
                    <a:pt x="552" y="352"/>
                  </a:lnTo>
                  <a:lnTo>
                    <a:pt x="564" y="328"/>
                  </a:lnTo>
                  <a:lnTo>
                    <a:pt x="575" y="303"/>
                  </a:lnTo>
                  <a:lnTo>
                    <a:pt x="586" y="278"/>
                  </a:lnTo>
                  <a:lnTo>
                    <a:pt x="596" y="253"/>
                  </a:lnTo>
                  <a:lnTo>
                    <a:pt x="604" y="228"/>
                  </a:lnTo>
                  <a:lnTo>
                    <a:pt x="610" y="203"/>
                  </a:lnTo>
                  <a:lnTo>
                    <a:pt x="598" y="189"/>
                  </a:lnTo>
                  <a:lnTo>
                    <a:pt x="587" y="209"/>
                  </a:lnTo>
                  <a:lnTo>
                    <a:pt x="575" y="228"/>
                  </a:lnTo>
                  <a:lnTo>
                    <a:pt x="563" y="247"/>
                  </a:lnTo>
                  <a:lnTo>
                    <a:pt x="551" y="265"/>
                  </a:lnTo>
                  <a:lnTo>
                    <a:pt x="537" y="283"/>
                  </a:lnTo>
                  <a:lnTo>
                    <a:pt x="524" y="299"/>
                  </a:lnTo>
                  <a:lnTo>
                    <a:pt x="509" y="316"/>
                  </a:lnTo>
                  <a:lnTo>
                    <a:pt x="494" y="331"/>
                  </a:lnTo>
                  <a:lnTo>
                    <a:pt x="479" y="347"/>
                  </a:lnTo>
                  <a:lnTo>
                    <a:pt x="464" y="361"/>
                  </a:lnTo>
                  <a:lnTo>
                    <a:pt x="447" y="376"/>
                  </a:lnTo>
                  <a:lnTo>
                    <a:pt x="431" y="390"/>
                  </a:lnTo>
                  <a:lnTo>
                    <a:pt x="397" y="417"/>
                  </a:lnTo>
                  <a:lnTo>
                    <a:pt x="362" y="441"/>
                  </a:lnTo>
                  <a:lnTo>
                    <a:pt x="325" y="465"/>
                  </a:lnTo>
                  <a:lnTo>
                    <a:pt x="287" y="487"/>
                  </a:lnTo>
                  <a:lnTo>
                    <a:pt x="250" y="508"/>
                  </a:lnTo>
                  <a:lnTo>
                    <a:pt x="211" y="527"/>
                  </a:lnTo>
                  <a:lnTo>
                    <a:pt x="171" y="546"/>
                  </a:lnTo>
                  <a:lnTo>
                    <a:pt x="131" y="563"/>
                  </a:lnTo>
                  <a:lnTo>
                    <a:pt x="91" y="580"/>
                  </a:lnTo>
                  <a:lnTo>
                    <a:pt x="50" y="597"/>
                  </a:lnTo>
                  <a:lnTo>
                    <a:pt x="41" y="591"/>
                  </a:lnTo>
                  <a:lnTo>
                    <a:pt x="33" y="587"/>
                  </a:lnTo>
                  <a:lnTo>
                    <a:pt x="25" y="582"/>
                  </a:lnTo>
                  <a:lnTo>
                    <a:pt x="20" y="578"/>
                  </a:lnTo>
                  <a:lnTo>
                    <a:pt x="14" y="572"/>
                  </a:lnTo>
                  <a:lnTo>
                    <a:pt x="9" y="566"/>
                  </a:lnTo>
                  <a:lnTo>
                    <a:pt x="4" y="557"/>
                  </a:lnTo>
                  <a:lnTo>
                    <a:pt x="0" y="546"/>
                  </a:lnTo>
                  <a:lnTo>
                    <a:pt x="54" y="521"/>
                  </a:lnTo>
                  <a:lnTo>
                    <a:pt x="106" y="498"/>
                  </a:lnTo>
                  <a:lnTo>
                    <a:pt x="154" y="475"/>
                  </a:lnTo>
                  <a:lnTo>
                    <a:pt x="198" y="451"/>
                  </a:lnTo>
                  <a:lnTo>
                    <a:pt x="242" y="428"/>
                  </a:lnTo>
                  <a:lnTo>
                    <a:pt x="282" y="402"/>
                  </a:lnTo>
                  <a:lnTo>
                    <a:pt x="321" y="376"/>
                  </a:lnTo>
                  <a:lnTo>
                    <a:pt x="358" y="348"/>
                  </a:lnTo>
                  <a:lnTo>
                    <a:pt x="377" y="333"/>
                  </a:lnTo>
                  <a:lnTo>
                    <a:pt x="396" y="317"/>
                  </a:lnTo>
                  <a:lnTo>
                    <a:pt x="414" y="300"/>
                  </a:lnTo>
                  <a:lnTo>
                    <a:pt x="433" y="284"/>
                  </a:lnTo>
                  <a:lnTo>
                    <a:pt x="471" y="247"/>
                  </a:lnTo>
                  <a:lnTo>
                    <a:pt x="508" y="207"/>
                  </a:lnTo>
                  <a:lnTo>
                    <a:pt x="547" y="163"/>
                  </a:lnTo>
                  <a:lnTo>
                    <a:pt x="587" y="113"/>
                  </a:lnTo>
                  <a:lnTo>
                    <a:pt x="629" y="59"/>
                  </a:lnTo>
                  <a:lnTo>
                    <a:pt x="674" y="0"/>
                  </a:lnTo>
                  <a:lnTo>
                    <a:pt x="708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5624640" y="4345200"/>
              <a:ext cx="158760" cy="128520"/>
            </a:xfrm>
            <a:custGeom>
              <a:avLst/>
              <a:gdLst/>
              <a:ahLst/>
              <a:rect l="l" t="t" r="r" b="b"/>
              <a:pathLst>
                <a:path w="498" h="407">
                  <a:moveTo>
                    <a:pt x="498" y="0"/>
                  </a:moveTo>
                  <a:lnTo>
                    <a:pt x="495" y="20"/>
                  </a:lnTo>
                  <a:lnTo>
                    <a:pt x="492" y="40"/>
                  </a:lnTo>
                  <a:lnTo>
                    <a:pt x="488" y="59"/>
                  </a:lnTo>
                  <a:lnTo>
                    <a:pt x="481" y="78"/>
                  </a:lnTo>
                  <a:lnTo>
                    <a:pt x="474" y="96"/>
                  </a:lnTo>
                  <a:lnTo>
                    <a:pt x="465" y="113"/>
                  </a:lnTo>
                  <a:lnTo>
                    <a:pt x="455" y="129"/>
                  </a:lnTo>
                  <a:lnTo>
                    <a:pt x="445" y="146"/>
                  </a:lnTo>
                  <a:lnTo>
                    <a:pt x="433" y="161"/>
                  </a:lnTo>
                  <a:lnTo>
                    <a:pt x="421" y="176"/>
                  </a:lnTo>
                  <a:lnTo>
                    <a:pt x="408" y="190"/>
                  </a:lnTo>
                  <a:lnTo>
                    <a:pt x="393" y="205"/>
                  </a:lnTo>
                  <a:lnTo>
                    <a:pt x="379" y="218"/>
                  </a:lnTo>
                  <a:lnTo>
                    <a:pt x="363" y="231"/>
                  </a:lnTo>
                  <a:lnTo>
                    <a:pt x="347" y="245"/>
                  </a:lnTo>
                  <a:lnTo>
                    <a:pt x="330" y="257"/>
                  </a:lnTo>
                  <a:lnTo>
                    <a:pt x="295" y="280"/>
                  </a:lnTo>
                  <a:lnTo>
                    <a:pt x="259" y="301"/>
                  </a:lnTo>
                  <a:lnTo>
                    <a:pt x="222" y="321"/>
                  </a:lnTo>
                  <a:lnTo>
                    <a:pt x="184" y="341"/>
                  </a:lnTo>
                  <a:lnTo>
                    <a:pt x="110" y="376"/>
                  </a:lnTo>
                  <a:lnTo>
                    <a:pt x="40" y="407"/>
                  </a:lnTo>
                  <a:lnTo>
                    <a:pt x="36" y="407"/>
                  </a:lnTo>
                  <a:lnTo>
                    <a:pt x="31" y="406"/>
                  </a:lnTo>
                  <a:lnTo>
                    <a:pt x="27" y="403"/>
                  </a:lnTo>
                  <a:lnTo>
                    <a:pt x="23" y="401"/>
                  </a:lnTo>
                  <a:lnTo>
                    <a:pt x="17" y="397"/>
                  </a:lnTo>
                  <a:lnTo>
                    <a:pt x="11" y="390"/>
                  </a:lnTo>
                  <a:lnTo>
                    <a:pt x="8" y="382"/>
                  </a:lnTo>
                  <a:lnTo>
                    <a:pt x="5" y="374"/>
                  </a:lnTo>
                  <a:lnTo>
                    <a:pt x="2" y="364"/>
                  </a:lnTo>
                  <a:lnTo>
                    <a:pt x="1" y="356"/>
                  </a:lnTo>
                  <a:lnTo>
                    <a:pt x="0" y="338"/>
                  </a:lnTo>
                  <a:lnTo>
                    <a:pt x="0" y="322"/>
                  </a:lnTo>
                  <a:lnTo>
                    <a:pt x="1" y="311"/>
                  </a:lnTo>
                  <a:lnTo>
                    <a:pt x="1" y="307"/>
                  </a:lnTo>
                  <a:lnTo>
                    <a:pt x="25" y="309"/>
                  </a:lnTo>
                  <a:lnTo>
                    <a:pt x="48" y="308"/>
                  </a:lnTo>
                  <a:lnTo>
                    <a:pt x="71" y="306"/>
                  </a:lnTo>
                  <a:lnTo>
                    <a:pt x="93" y="302"/>
                  </a:lnTo>
                  <a:lnTo>
                    <a:pt x="117" y="297"/>
                  </a:lnTo>
                  <a:lnTo>
                    <a:pt x="139" y="289"/>
                  </a:lnTo>
                  <a:lnTo>
                    <a:pt x="161" y="281"/>
                  </a:lnTo>
                  <a:lnTo>
                    <a:pt x="183" y="271"/>
                  </a:lnTo>
                  <a:lnTo>
                    <a:pt x="204" y="260"/>
                  </a:lnTo>
                  <a:lnTo>
                    <a:pt x="226" y="248"/>
                  </a:lnTo>
                  <a:lnTo>
                    <a:pt x="247" y="236"/>
                  </a:lnTo>
                  <a:lnTo>
                    <a:pt x="267" y="222"/>
                  </a:lnTo>
                  <a:lnTo>
                    <a:pt x="287" y="208"/>
                  </a:lnTo>
                  <a:lnTo>
                    <a:pt x="305" y="194"/>
                  </a:lnTo>
                  <a:lnTo>
                    <a:pt x="324" y="179"/>
                  </a:lnTo>
                  <a:lnTo>
                    <a:pt x="342" y="165"/>
                  </a:lnTo>
                  <a:lnTo>
                    <a:pt x="375" y="135"/>
                  </a:lnTo>
                  <a:lnTo>
                    <a:pt x="405" y="105"/>
                  </a:lnTo>
                  <a:lnTo>
                    <a:pt x="432" y="77"/>
                  </a:lnTo>
                  <a:lnTo>
                    <a:pt x="454" y="53"/>
                  </a:lnTo>
                  <a:lnTo>
                    <a:pt x="486" y="15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4341960" y="4950000"/>
              <a:ext cx="1258920" cy="822240"/>
            </a:xfrm>
            <a:custGeom>
              <a:avLst/>
              <a:gdLst/>
              <a:ahLst/>
              <a:rect l="l" t="t" r="r" b="b"/>
              <a:pathLst>
                <a:path w="3966" h="2588">
                  <a:moveTo>
                    <a:pt x="1487" y="1"/>
                  </a:moveTo>
                  <a:lnTo>
                    <a:pt x="1546" y="7"/>
                  </a:lnTo>
                  <a:lnTo>
                    <a:pt x="1601" y="14"/>
                  </a:lnTo>
                  <a:lnTo>
                    <a:pt x="1654" y="21"/>
                  </a:lnTo>
                  <a:lnTo>
                    <a:pt x="1702" y="30"/>
                  </a:lnTo>
                  <a:lnTo>
                    <a:pt x="1748" y="39"/>
                  </a:lnTo>
                  <a:lnTo>
                    <a:pt x="1791" y="48"/>
                  </a:lnTo>
                  <a:lnTo>
                    <a:pt x="1831" y="57"/>
                  </a:lnTo>
                  <a:lnTo>
                    <a:pt x="1868" y="65"/>
                  </a:lnTo>
                  <a:lnTo>
                    <a:pt x="1896" y="77"/>
                  </a:lnTo>
                  <a:lnTo>
                    <a:pt x="1922" y="89"/>
                  </a:lnTo>
                  <a:lnTo>
                    <a:pt x="1949" y="103"/>
                  </a:lnTo>
                  <a:lnTo>
                    <a:pt x="1974" y="116"/>
                  </a:lnTo>
                  <a:lnTo>
                    <a:pt x="2027" y="145"/>
                  </a:lnTo>
                  <a:lnTo>
                    <a:pt x="2077" y="175"/>
                  </a:lnTo>
                  <a:lnTo>
                    <a:pt x="2127" y="206"/>
                  </a:lnTo>
                  <a:lnTo>
                    <a:pt x="2175" y="237"/>
                  </a:lnTo>
                  <a:lnTo>
                    <a:pt x="2224" y="269"/>
                  </a:lnTo>
                  <a:lnTo>
                    <a:pt x="2273" y="301"/>
                  </a:lnTo>
                  <a:lnTo>
                    <a:pt x="2322" y="333"/>
                  </a:lnTo>
                  <a:lnTo>
                    <a:pt x="2371" y="366"/>
                  </a:lnTo>
                  <a:lnTo>
                    <a:pt x="2420" y="397"/>
                  </a:lnTo>
                  <a:lnTo>
                    <a:pt x="2471" y="428"/>
                  </a:lnTo>
                  <a:lnTo>
                    <a:pt x="2522" y="457"/>
                  </a:lnTo>
                  <a:lnTo>
                    <a:pt x="2574" y="484"/>
                  </a:lnTo>
                  <a:lnTo>
                    <a:pt x="2601" y="498"/>
                  </a:lnTo>
                  <a:lnTo>
                    <a:pt x="2627" y="511"/>
                  </a:lnTo>
                  <a:lnTo>
                    <a:pt x="2655" y="523"/>
                  </a:lnTo>
                  <a:lnTo>
                    <a:pt x="2683" y="534"/>
                  </a:lnTo>
                  <a:lnTo>
                    <a:pt x="2784" y="576"/>
                  </a:lnTo>
                  <a:lnTo>
                    <a:pt x="2881" y="620"/>
                  </a:lnTo>
                  <a:lnTo>
                    <a:pt x="2974" y="662"/>
                  </a:lnTo>
                  <a:lnTo>
                    <a:pt x="3063" y="705"/>
                  </a:lnTo>
                  <a:lnTo>
                    <a:pt x="3147" y="750"/>
                  </a:lnTo>
                  <a:lnTo>
                    <a:pt x="3229" y="794"/>
                  </a:lnTo>
                  <a:lnTo>
                    <a:pt x="3307" y="840"/>
                  </a:lnTo>
                  <a:lnTo>
                    <a:pt x="3383" y="885"/>
                  </a:lnTo>
                  <a:lnTo>
                    <a:pt x="3456" y="932"/>
                  </a:lnTo>
                  <a:lnTo>
                    <a:pt x="3526" y="979"/>
                  </a:lnTo>
                  <a:lnTo>
                    <a:pt x="3594" y="1027"/>
                  </a:lnTo>
                  <a:lnTo>
                    <a:pt x="3658" y="1077"/>
                  </a:lnTo>
                  <a:lnTo>
                    <a:pt x="3722" y="1127"/>
                  </a:lnTo>
                  <a:lnTo>
                    <a:pt x="3784" y="1178"/>
                  </a:lnTo>
                  <a:lnTo>
                    <a:pt x="3844" y="1231"/>
                  </a:lnTo>
                  <a:lnTo>
                    <a:pt x="3902" y="1285"/>
                  </a:lnTo>
                  <a:lnTo>
                    <a:pt x="3900" y="1299"/>
                  </a:lnTo>
                  <a:lnTo>
                    <a:pt x="3898" y="1312"/>
                  </a:lnTo>
                  <a:lnTo>
                    <a:pt x="3898" y="1325"/>
                  </a:lnTo>
                  <a:lnTo>
                    <a:pt x="3899" y="1337"/>
                  </a:lnTo>
                  <a:lnTo>
                    <a:pt x="3901" y="1349"/>
                  </a:lnTo>
                  <a:lnTo>
                    <a:pt x="3905" y="1360"/>
                  </a:lnTo>
                  <a:lnTo>
                    <a:pt x="3909" y="1371"/>
                  </a:lnTo>
                  <a:lnTo>
                    <a:pt x="3915" y="1382"/>
                  </a:lnTo>
                  <a:lnTo>
                    <a:pt x="3926" y="1403"/>
                  </a:lnTo>
                  <a:lnTo>
                    <a:pt x="3939" y="1423"/>
                  </a:lnTo>
                  <a:lnTo>
                    <a:pt x="3953" y="1442"/>
                  </a:lnTo>
                  <a:lnTo>
                    <a:pt x="3966" y="1461"/>
                  </a:lnTo>
                  <a:lnTo>
                    <a:pt x="3935" y="1453"/>
                  </a:lnTo>
                  <a:lnTo>
                    <a:pt x="3903" y="1444"/>
                  </a:lnTo>
                  <a:lnTo>
                    <a:pt x="3872" y="1433"/>
                  </a:lnTo>
                  <a:lnTo>
                    <a:pt x="3841" y="1420"/>
                  </a:lnTo>
                  <a:lnTo>
                    <a:pt x="3827" y="1412"/>
                  </a:lnTo>
                  <a:lnTo>
                    <a:pt x="3812" y="1405"/>
                  </a:lnTo>
                  <a:lnTo>
                    <a:pt x="3799" y="1397"/>
                  </a:lnTo>
                  <a:lnTo>
                    <a:pt x="3786" y="1388"/>
                  </a:lnTo>
                  <a:lnTo>
                    <a:pt x="3772" y="1379"/>
                  </a:lnTo>
                  <a:lnTo>
                    <a:pt x="3760" y="1369"/>
                  </a:lnTo>
                  <a:lnTo>
                    <a:pt x="3748" y="1359"/>
                  </a:lnTo>
                  <a:lnTo>
                    <a:pt x="3737" y="1349"/>
                  </a:lnTo>
                  <a:lnTo>
                    <a:pt x="3732" y="1338"/>
                  </a:lnTo>
                  <a:lnTo>
                    <a:pt x="3729" y="1326"/>
                  </a:lnTo>
                  <a:lnTo>
                    <a:pt x="3726" y="1314"/>
                  </a:lnTo>
                  <a:lnTo>
                    <a:pt x="3725" y="1300"/>
                  </a:lnTo>
                  <a:lnTo>
                    <a:pt x="3720" y="1275"/>
                  </a:lnTo>
                  <a:lnTo>
                    <a:pt x="3717" y="1250"/>
                  </a:lnTo>
                  <a:lnTo>
                    <a:pt x="3714" y="1239"/>
                  </a:lnTo>
                  <a:lnTo>
                    <a:pt x="3710" y="1229"/>
                  </a:lnTo>
                  <a:lnTo>
                    <a:pt x="3705" y="1221"/>
                  </a:lnTo>
                  <a:lnTo>
                    <a:pt x="3699" y="1214"/>
                  </a:lnTo>
                  <a:lnTo>
                    <a:pt x="3695" y="1211"/>
                  </a:lnTo>
                  <a:lnTo>
                    <a:pt x="3691" y="1209"/>
                  </a:lnTo>
                  <a:lnTo>
                    <a:pt x="3686" y="1207"/>
                  </a:lnTo>
                  <a:lnTo>
                    <a:pt x="3681" y="1206"/>
                  </a:lnTo>
                  <a:lnTo>
                    <a:pt x="3676" y="1206"/>
                  </a:lnTo>
                  <a:lnTo>
                    <a:pt x="3669" y="1206"/>
                  </a:lnTo>
                  <a:lnTo>
                    <a:pt x="3662" y="1206"/>
                  </a:lnTo>
                  <a:lnTo>
                    <a:pt x="3656" y="1207"/>
                  </a:lnTo>
                  <a:lnTo>
                    <a:pt x="3650" y="1215"/>
                  </a:lnTo>
                  <a:lnTo>
                    <a:pt x="3645" y="1221"/>
                  </a:lnTo>
                  <a:lnTo>
                    <a:pt x="3641" y="1228"/>
                  </a:lnTo>
                  <a:lnTo>
                    <a:pt x="3637" y="1236"/>
                  </a:lnTo>
                  <a:lnTo>
                    <a:pt x="3631" y="1250"/>
                  </a:lnTo>
                  <a:lnTo>
                    <a:pt x="3628" y="1266"/>
                  </a:lnTo>
                  <a:lnTo>
                    <a:pt x="3626" y="1282"/>
                  </a:lnTo>
                  <a:lnTo>
                    <a:pt x="3625" y="1298"/>
                  </a:lnTo>
                  <a:lnTo>
                    <a:pt x="3626" y="1314"/>
                  </a:lnTo>
                  <a:lnTo>
                    <a:pt x="3627" y="1329"/>
                  </a:lnTo>
                  <a:lnTo>
                    <a:pt x="3630" y="1343"/>
                  </a:lnTo>
                  <a:lnTo>
                    <a:pt x="3633" y="1357"/>
                  </a:lnTo>
                  <a:lnTo>
                    <a:pt x="3636" y="1370"/>
                  </a:lnTo>
                  <a:lnTo>
                    <a:pt x="3639" y="1381"/>
                  </a:lnTo>
                  <a:lnTo>
                    <a:pt x="3646" y="1400"/>
                  </a:lnTo>
                  <a:lnTo>
                    <a:pt x="3650" y="1412"/>
                  </a:lnTo>
                  <a:lnTo>
                    <a:pt x="3657" y="1467"/>
                  </a:lnTo>
                  <a:lnTo>
                    <a:pt x="3661" y="1520"/>
                  </a:lnTo>
                  <a:lnTo>
                    <a:pt x="3664" y="1574"/>
                  </a:lnTo>
                  <a:lnTo>
                    <a:pt x="3665" y="1628"/>
                  </a:lnTo>
                  <a:lnTo>
                    <a:pt x="3662" y="1681"/>
                  </a:lnTo>
                  <a:lnTo>
                    <a:pt x="3660" y="1734"/>
                  </a:lnTo>
                  <a:lnTo>
                    <a:pt x="3655" y="1786"/>
                  </a:lnTo>
                  <a:lnTo>
                    <a:pt x="3648" y="1839"/>
                  </a:lnTo>
                  <a:lnTo>
                    <a:pt x="3640" y="1891"/>
                  </a:lnTo>
                  <a:lnTo>
                    <a:pt x="3630" y="1942"/>
                  </a:lnTo>
                  <a:lnTo>
                    <a:pt x="3619" y="1993"/>
                  </a:lnTo>
                  <a:lnTo>
                    <a:pt x="3607" y="2043"/>
                  </a:lnTo>
                  <a:lnTo>
                    <a:pt x="3594" y="2093"/>
                  </a:lnTo>
                  <a:lnTo>
                    <a:pt x="3579" y="2142"/>
                  </a:lnTo>
                  <a:lnTo>
                    <a:pt x="3564" y="2190"/>
                  </a:lnTo>
                  <a:lnTo>
                    <a:pt x="3547" y="2238"/>
                  </a:lnTo>
                  <a:lnTo>
                    <a:pt x="3545" y="2228"/>
                  </a:lnTo>
                  <a:lnTo>
                    <a:pt x="3543" y="2213"/>
                  </a:lnTo>
                  <a:lnTo>
                    <a:pt x="3540" y="2190"/>
                  </a:lnTo>
                  <a:lnTo>
                    <a:pt x="3539" y="2163"/>
                  </a:lnTo>
                  <a:lnTo>
                    <a:pt x="3535" y="2097"/>
                  </a:lnTo>
                  <a:lnTo>
                    <a:pt x="3531" y="2023"/>
                  </a:lnTo>
                  <a:lnTo>
                    <a:pt x="3528" y="1947"/>
                  </a:lnTo>
                  <a:lnTo>
                    <a:pt x="3526" y="1879"/>
                  </a:lnTo>
                  <a:lnTo>
                    <a:pt x="3523" y="1824"/>
                  </a:lnTo>
                  <a:lnTo>
                    <a:pt x="3520" y="1793"/>
                  </a:lnTo>
                  <a:lnTo>
                    <a:pt x="3517" y="1736"/>
                  </a:lnTo>
                  <a:lnTo>
                    <a:pt x="3514" y="1679"/>
                  </a:lnTo>
                  <a:lnTo>
                    <a:pt x="3511" y="1651"/>
                  </a:lnTo>
                  <a:lnTo>
                    <a:pt x="3509" y="1622"/>
                  </a:lnTo>
                  <a:lnTo>
                    <a:pt x="3506" y="1594"/>
                  </a:lnTo>
                  <a:lnTo>
                    <a:pt x="3501" y="1567"/>
                  </a:lnTo>
                  <a:lnTo>
                    <a:pt x="3496" y="1539"/>
                  </a:lnTo>
                  <a:lnTo>
                    <a:pt x="3489" y="1512"/>
                  </a:lnTo>
                  <a:lnTo>
                    <a:pt x="3481" y="1487"/>
                  </a:lnTo>
                  <a:lnTo>
                    <a:pt x="3473" y="1461"/>
                  </a:lnTo>
                  <a:lnTo>
                    <a:pt x="3463" y="1438"/>
                  </a:lnTo>
                  <a:lnTo>
                    <a:pt x="3450" y="1415"/>
                  </a:lnTo>
                  <a:lnTo>
                    <a:pt x="3443" y="1403"/>
                  </a:lnTo>
                  <a:lnTo>
                    <a:pt x="3436" y="1392"/>
                  </a:lnTo>
                  <a:lnTo>
                    <a:pt x="3428" y="1382"/>
                  </a:lnTo>
                  <a:lnTo>
                    <a:pt x="3419" y="1372"/>
                  </a:lnTo>
                  <a:lnTo>
                    <a:pt x="3416" y="1415"/>
                  </a:lnTo>
                  <a:lnTo>
                    <a:pt x="3415" y="1458"/>
                  </a:lnTo>
                  <a:lnTo>
                    <a:pt x="3415" y="1500"/>
                  </a:lnTo>
                  <a:lnTo>
                    <a:pt x="3417" y="1543"/>
                  </a:lnTo>
                  <a:lnTo>
                    <a:pt x="3420" y="1587"/>
                  </a:lnTo>
                  <a:lnTo>
                    <a:pt x="3425" y="1629"/>
                  </a:lnTo>
                  <a:lnTo>
                    <a:pt x="3430" y="1672"/>
                  </a:lnTo>
                  <a:lnTo>
                    <a:pt x="3436" y="1714"/>
                  </a:lnTo>
                  <a:lnTo>
                    <a:pt x="3447" y="1800"/>
                  </a:lnTo>
                  <a:lnTo>
                    <a:pt x="3456" y="1883"/>
                  </a:lnTo>
                  <a:lnTo>
                    <a:pt x="3459" y="1925"/>
                  </a:lnTo>
                  <a:lnTo>
                    <a:pt x="3461" y="1966"/>
                  </a:lnTo>
                  <a:lnTo>
                    <a:pt x="3461" y="2008"/>
                  </a:lnTo>
                  <a:lnTo>
                    <a:pt x="3459" y="2048"/>
                  </a:lnTo>
                  <a:lnTo>
                    <a:pt x="3433" y="2389"/>
                  </a:lnTo>
                  <a:lnTo>
                    <a:pt x="3423" y="2359"/>
                  </a:lnTo>
                  <a:lnTo>
                    <a:pt x="3414" y="2329"/>
                  </a:lnTo>
                  <a:lnTo>
                    <a:pt x="3404" y="2299"/>
                  </a:lnTo>
                  <a:lnTo>
                    <a:pt x="3395" y="2269"/>
                  </a:lnTo>
                  <a:lnTo>
                    <a:pt x="3385" y="2238"/>
                  </a:lnTo>
                  <a:lnTo>
                    <a:pt x="3376" y="2208"/>
                  </a:lnTo>
                  <a:lnTo>
                    <a:pt x="3366" y="2178"/>
                  </a:lnTo>
                  <a:lnTo>
                    <a:pt x="3356" y="2148"/>
                  </a:lnTo>
                  <a:lnTo>
                    <a:pt x="3336" y="2075"/>
                  </a:lnTo>
                  <a:lnTo>
                    <a:pt x="3328" y="2031"/>
                  </a:lnTo>
                  <a:lnTo>
                    <a:pt x="3320" y="1987"/>
                  </a:lnTo>
                  <a:lnTo>
                    <a:pt x="3312" y="1946"/>
                  </a:lnTo>
                  <a:lnTo>
                    <a:pt x="3302" y="1904"/>
                  </a:lnTo>
                  <a:lnTo>
                    <a:pt x="3292" y="1864"/>
                  </a:lnTo>
                  <a:lnTo>
                    <a:pt x="3279" y="1823"/>
                  </a:lnTo>
                  <a:lnTo>
                    <a:pt x="3267" y="1783"/>
                  </a:lnTo>
                  <a:lnTo>
                    <a:pt x="3255" y="1743"/>
                  </a:lnTo>
                  <a:lnTo>
                    <a:pt x="3227" y="1662"/>
                  </a:lnTo>
                  <a:lnTo>
                    <a:pt x="3196" y="1578"/>
                  </a:lnTo>
                  <a:lnTo>
                    <a:pt x="3163" y="1491"/>
                  </a:lnTo>
                  <a:lnTo>
                    <a:pt x="3128" y="1398"/>
                  </a:lnTo>
                  <a:lnTo>
                    <a:pt x="3118" y="1397"/>
                  </a:lnTo>
                  <a:lnTo>
                    <a:pt x="3109" y="1398"/>
                  </a:lnTo>
                  <a:lnTo>
                    <a:pt x="3101" y="1399"/>
                  </a:lnTo>
                  <a:lnTo>
                    <a:pt x="3092" y="1401"/>
                  </a:lnTo>
                  <a:lnTo>
                    <a:pt x="3084" y="1405"/>
                  </a:lnTo>
                  <a:lnTo>
                    <a:pt x="3076" y="1410"/>
                  </a:lnTo>
                  <a:lnTo>
                    <a:pt x="3068" y="1417"/>
                  </a:lnTo>
                  <a:lnTo>
                    <a:pt x="3062" y="1425"/>
                  </a:lnTo>
                  <a:lnTo>
                    <a:pt x="3067" y="1454"/>
                  </a:lnTo>
                  <a:lnTo>
                    <a:pt x="3073" y="1482"/>
                  </a:lnTo>
                  <a:lnTo>
                    <a:pt x="3078" y="1511"/>
                  </a:lnTo>
                  <a:lnTo>
                    <a:pt x="3085" y="1538"/>
                  </a:lnTo>
                  <a:lnTo>
                    <a:pt x="3101" y="1592"/>
                  </a:lnTo>
                  <a:lnTo>
                    <a:pt x="3117" y="1644"/>
                  </a:lnTo>
                  <a:lnTo>
                    <a:pt x="3135" y="1695"/>
                  </a:lnTo>
                  <a:lnTo>
                    <a:pt x="3155" y="1745"/>
                  </a:lnTo>
                  <a:lnTo>
                    <a:pt x="3175" y="1795"/>
                  </a:lnTo>
                  <a:lnTo>
                    <a:pt x="3195" y="1844"/>
                  </a:lnTo>
                  <a:lnTo>
                    <a:pt x="3214" y="1894"/>
                  </a:lnTo>
                  <a:lnTo>
                    <a:pt x="3234" y="1944"/>
                  </a:lnTo>
                  <a:lnTo>
                    <a:pt x="3252" y="1995"/>
                  </a:lnTo>
                  <a:lnTo>
                    <a:pt x="3269" y="2047"/>
                  </a:lnTo>
                  <a:lnTo>
                    <a:pt x="3277" y="2074"/>
                  </a:lnTo>
                  <a:lnTo>
                    <a:pt x="3284" y="2102"/>
                  </a:lnTo>
                  <a:lnTo>
                    <a:pt x="3292" y="2129"/>
                  </a:lnTo>
                  <a:lnTo>
                    <a:pt x="3297" y="2157"/>
                  </a:lnTo>
                  <a:lnTo>
                    <a:pt x="3303" y="2186"/>
                  </a:lnTo>
                  <a:lnTo>
                    <a:pt x="3308" y="2215"/>
                  </a:lnTo>
                  <a:lnTo>
                    <a:pt x="3313" y="2245"/>
                  </a:lnTo>
                  <a:lnTo>
                    <a:pt x="3316" y="2276"/>
                  </a:lnTo>
                  <a:lnTo>
                    <a:pt x="3318" y="2283"/>
                  </a:lnTo>
                  <a:lnTo>
                    <a:pt x="3323" y="2303"/>
                  </a:lnTo>
                  <a:lnTo>
                    <a:pt x="3329" y="2332"/>
                  </a:lnTo>
                  <a:lnTo>
                    <a:pt x="3337" y="2368"/>
                  </a:lnTo>
                  <a:lnTo>
                    <a:pt x="3345" y="2406"/>
                  </a:lnTo>
                  <a:lnTo>
                    <a:pt x="3352" y="2445"/>
                  </a:lnTo>
                  <a:lnTo>
                    <a:pt x="3354" y="2462"/>
                  </a:lnTo>
                  <a:lnTo>
                    <a:pt x="3355" y="2478"/>
                  </a:lnTo>
                  <a:lnTo>
                    <a:pt x="3356" y="2493"/>
                  </a:lnTo>
                  <a:lnTo>
                    <a:pt x="3356" y="2506"/>
                  </a:lnTo>
                  <a:lnTo>
                    <a:pt x="3348" y="2507"/>
                  </a:lnTo>
                  <a:lnTo>
                    <a:pt x="3339" y="2509"/>
                  </a:lnTo>
                  <a:lnTo>
                    <a:pt x="3330" y="2512"/>
                  </a:lnTo>
                  <a:lnTo>
                    <a:pt x="3323" y="2515"/>
                  </a:lnTo>
                  <a:lnTo>
                    <a:pt x="3305" y="2523"/>
                  </a:lnTo>
                  <a:lnTo>
                    <a:pt x="3288" y="2533"/>
                  </a:lnTo>
                  <a:lnTo>
                    <a:pt x="3279" y="2539"/>
                  </a:lnTo>
                  <a:lnTo>
                    <a:pt x="3272" y="2546"/>
                  </a:lnTo>
                  <a:lnTo>
                    <a:pt x="3265" y="2551"/>
                  </a:lnTo>
                  <a:lnTo>
                    <a:pt x="3258" y="2559"/>
                  </a:lnTo>
                  <a:lnTo>
                    <a:pt x="3253" y="2566"/>
                  </a:lnTo>
                  <a:lnTo>
                    <a:pt x="3247" y="2572"/>
                  </a:lnTo>
                  <a:lnTo>
                    <a:pt x="3243" y="2580"/>
                  </a:lnTo>
                  <a:lnTo>
                    <a:pt x="3239" y="2588"/>
                  </a:lnTo>
                  <a:lnTo>
                    <a:pt x="3236" y="2588"/>
                  </a:lnTo>
                  <a:lnTo>
                    <a:pt x="3233" y="2587"/>
                  </a:lnTo>
                  <a:lnTo>
                    <a:pt x="3229" y="2586"/>
                  </a:lnTo>
                  <a:lnTo>
                    <a:pt x="3226" y="2583"/>
                  </a:lnTo>
                  <a:lnTo>
                    <a:pt x="3219" y="2577"/>
                  </a:lnTo>
                  <a:lnTo>
                    <a:pt x="3213" y="2569"/>
                  </a:lnTo>
                  <a:lnTo>
                    <a:pt x="3207" y="2559"/>
                  </a:lnTo>
                  <a:lnTo>
                    <a:pt x="3202" y="2547"/>
                  </a:lnTo>
                  <a:lnTo>
                    <a:pt x="3196" y="2533"/>
                  </a:lnTo>
                  <a:lnTo>
                    <a:pt x="3191" y="2519"/>
                  </a:lnTo>
                  <a:lnTo>
                    <a:pt x="3181" y="2488"/>
                  </a:lnTo>
                  <a:lnTo>
                    <a:pt x="3172" y="2457"/>
                  </a:lnTo>
                  <a:lnTo>
                    <a:pt x="3164" y="2427"/>
                  </a:lnTo>
                  <a:lnTo>
                    <a:pt x="3155" y="2402"/>
                  </a:lnTo>
                  <a:lnTo>
                    <a:pt x="3128" y="2323"/>
                  </a:lnTo>
                  <a:lnTo>
                    <a:pt x="3102" y="2247"/>
                  </a:lnTo>
                  <a:lnTo>
                    <a:pt x="3076" y="2175"/>
                  </a:lnTo>
                  <a:lnTo>
                    <a:pt x="3048" y="2105"/>
                  </a:lnTo>
                  <a:lnTo>
                    <a:pt x="3021" y="2036"/>
                  </a:lnTo>
                  <a:lnTo>
                    <a:pt x="2990" y="1967"/>
                  </a:lnTo>
                  <a:lnTo>
                    <a:pt x="2956" y="1897"/>
                  </a:lnTo>
                  <a:lnTo>
                    <a:pt x="2920" y="1824"/>
                  </a:lnTo>
                  <a:lnTo>
                    <a:pt x="2901" y="1787"/>
                  </a:lnTo>
                  <a:lnTo>
                    <a:pt x="2878" y="1750"/>
                  </a:lnTo>
                  <a:lnTo>
                    <a:pt x="2867" y="1732"/>
                  </a:lnTo>
                  <a:lnTo>
                    <a:pt x="2856" y="1713"/>
                  </a:lnTo>
                  <a:lnTo>
                    <a:pt x="2843" y="1695"/>
                  </a:lnTo>
                  <a:lnTo>
                    <a:pt x="2830" y="1678"/>
                  </a:lnTo>
                  <a:lnTo>
                    <a:pt x="2816" y="1661"/>
                  </a:lnTo>
                  <a:lnTo>
                    <a:pt x="2802" y="1645"/>
                  </a:lnTo>
                  <a:lnTo>
                    <a:pt x="2786" y="1630"/>
                  </a:lnTo>
                  <a:lnTo>
                    <a:pt x="2770" y="1617"/>
                  </a:lnTo>
                  <a:lnTo>
                    <a:pt x="2753" y="1604"/>
                  </a:lnTo>
                  <a:lnTo>
                    <a:pt x="2735" y="1593"/>
                  </a:lnTo>
                  <a:lnTo>
                    <a:pt x="2716" y="1583"/>
                  </a:lnTo>
                  <a:lnTo>
                    <a:pt x="2695" y="1575"/>
                  </a:lnTo>
                  <a:lnTo>
                    <a:pt x="2687" y="1589"/>
                  </a:lnTo>
                  <a:lnTo>
                    <a:pt x="2681" y="1604"/>
                  </a:lnTo>
                  <a:lnTo>
                    <a:pt x="2676" y="1620"/>
                  </a:lnTo>
                  <a:lnTo>
                    <a:pt x="2673" y="1635"/>
                  </a:lnTo>
                  <a:lnTo>
                    <a:pt x="2671" y="1651"/>
                  </a:lnTo>
                  <a:lnTo>
                    <a:pt x="2671" y="1668"/>
                  </a:lnTo>
                  <a:lnTo>
                    <a:pt x="2672" y="1684"/>
                  </a:lnTo>
                  <a:lnTo>
                    <a:pt x="2673" y="1701"/>
                  </a:lnTo>
                  <a:lnTo>
                    <a:pt x="2676" y="1718"/>
                  </a:lnTo>
                  <a:lnTo>
                    <a:pt x="2680" y="1734"/>
                  </a:lnTo>
                  <a:lnTo>
                    <a:pt x="2684" y="1751"/>
                  </a:lnTo>
                  <a:lnTo>
                    <a:pt x="2689" y="1768"/>
                  </a:lnTo>
                  <a:lnTo>
                    <a:pt x="2699" y="1799"/>
                  </a:lnTo>
                  <a:lnTo>
                    <a:pt x="2709" y="1829"/>
                  </a:lnTo>
                  <a:lnTo>
                    <a:pt x="2713" y="1847"/>
                  </a:lnTo>
                  <a:lnTo>
                    <a:pt x="2725" y="1895"/>
                  </a:lnTo>
                  <a:lnTo>
                    <a:pt x="2742" y="1965"/>
                  </a:lnTo>
                  <a:lnTo>
                    <a:pt x="2759" y="2046"/>
                  </a:lnTo>
                  <a:lnTo>
                    <a:pt x="2767" y="2088"/>
                  </a:lnTo>
                  <a:lnTo>
                    <a:pt x="2774" y="2129"/>
                  </a:lnTo>
                  <a:lnTo>
                    <a:pt x="2781" y="2169"/>
                  </a:lnTo>
                  <a:lnTo>
                    <a:pt x="2784" y="2207"/>
                  </a:lnTo>
                  <a:lnTo>
                    <a:pt x="2786" y="2224"/>
                  </a:lnTo>
                  <a:lnTo>
                    <a:pt x="2786" y="2240"/>
                  </a:lnTo>
                  <a:lnTo>
                    <a:pt x="2787" y="2255"/>
                  </a:lnTo>
                  <a:lnTo>
                    <a:pt x="2786" y="2268"/>
                  </a:lnTo>
                  <a:lnTo>
                    <a:pt x="2785" y="2279"/>
                  </a:lnTo>
                  <a:lnTo>
                    <a:pt x="2784" y="2289"/>
                  </a:lnTo>
                  <a:lnTo>
                    <a:pt x="2781" y="2298"/>
                  </a:lnTo>
                  <a:lnTo>
                    <a:pt x="2777" y="2304"/>
                  </a:lnTo>
                  <a:lnTo>
                    <a:pt x="2773" y="2306"/>
                  </a:lnTo>
                  <a:lnTo>
                    <a:pt x="2764" y="2309"/>
                  </a:lnTo>
                  <a:lnTo>
                    <a:pt x="2752" y="2311"/>
                  </a:lnTo>
                  <a:lnTo>
                    <a:pt x="2739" y="2316"/>
                  </a:lnTo>
                  <a:lnTo>
                    <a:pt x="2723" y="2321"/>
                  </a:lnTo>
                  <a:lnTo>
                    <a:pt x="2709" y="2330"/>
                  </a:lnTo>
                  <a:lnTo>
                    <a:pt x="2702" y="2335"/>
                  </a:lnTo>
                  <a:lnTo>
                    <a:pt x="2696" y="2340"/>
                  </a:lnTo>
                  <a:lnTo>
                    <a:pt x="2690" y="2347"/>
                  </a:lnTo>
                  <a:lnTo>
                    <a:pt x="2685" y="2355"/>
                  </a:lnTo>
                  <a:lnTo>
                    <a:pt x="2679" y="2345"/>
                  </a:lnTo>
                  <a:lnTo>
                    <a:pt x="2660" y="2316"/>
                  </a:lnTo>
                  <a:lnTo>
                    <a:pt x="2646" y="2295"/>
                  </a:lnTo>
                  <a:lnTo>
                    <a:pt x="2632" y="2269"/>
                  </a:lnTo>
                  <a:lnTo>
                    <a:pt x="2615" y="2238"/>
                  </a:lnTo>
                  <a:lnTo>
                    <a:pt x="2596" y="2204"/>
                  </a:lnTo>
                  <a:lnTo>
                    <a:pt x="2577" y="2164"/>
                  </a:lnTo>
                  <a:lnTo>
                    <a:pt x="2556" y="2120"/>
                  </a:lnTo>
                  <a:lnTo>
                    <a:pt x="2535" y="2073"/>
                  </a:lnTo>
                  <a:lnTo>
                    <a:pt x="2514" y="2022"/>
                  </a:lnTo>
                  <a:lnTo>
                    <a:pt x="2492" y="1966"/>
                  </a:lnTo>
                  <a:lnTo>
                    <a:pt x="2471" y="1907"/>
                  </a:lnTo>
                  <a:lnTo>
                    <a:pt x="2450" y="1844"/>
                  </a:lnTo>
                  <a:lnTo>
                    <a:pt x="2429" y="1779"/>
                  </a:lnTo>
                  <a:lnTo>
                    <a:pt x="2418" y="1733"/>
                  </a:lnTo>
                  <a:lnTo>
                    <a:pt x="2405" y="1691"/>
                  </a:lnTo>
                  <a:lnTo>
                    <a:pt x="2391" y="1653"/>
                  </a:lnTo>
                  <a:lnTo>
                    <a:pt x="2376" y="1618"/>
                  </a:lnTo>
                  <a:lnTo>
                    <a:pt x="2361" y="1585"/>
                  </a:lnTo>
                  <a:lnTo>
                    <a:pt x="2344" y="1555"/>
                  </a:lnTo>
                  <a:lnTo>
                    <a:pt x="2327" y="1528"/>
                  </a:lnTo>
                  <a:lnTo>
                    <a:pt x="2308" y="1502"/>
                  </a:lnTo>
                  <a:lnTo>
                    <a:pt x="2288" y="1478"/>
                  </a:lnTo>
                  <a:lnTo>
                    <a:pt x="2267" y="1456"/>
                  </a:lnTo>
                  <a:lnTo>
                    <a:pt x="2245" y="1433"/>
                  </a:lnTo>
                  <a:lnTo>
                    <a:pt x="2222" y="1413"/>
                  </a:lnTo>
                  <a:lnTo>
                    <a:pt x="2199" y="1393"/>
                  </a:lnTo>
                  <a:lnTo>
                    <a:pt x="2174" y="1373"/>
                  </a:lnTo>
                  <a:lnTo>
                    <a:pt x="2149" y="1353"/>
                  </a:lnTo>
                  <a:lnTo>
                    <a:pt x="2122" y="1333"/>
                  </a:lnTo>
                  <a:lnTo>
                    <a:pt x="2066" y="1291"/>
                  </a:lnTo>
                  <a:lnTo>
                    <a:pt x="2007" y="1245"/>
                  </a:lnTo>
                  <a:lnTo>
                    <a:pt x="1976" y="1219"/>
                  </a:lnTo>
                  <a:lnTo>
                    <a:pt x="1943" y="1193"/>
                  </a:lnTo>
                  <a:lnTo>
                    <a:pt x="1910" y="1163"/>
                  </a:lnTo>
                  <a:lnTo>
                    <a:pt x="1877" y="1130"/>
                  </a:lnTo>
                  <a:lnTo>
                    <a:pt x="1842" y="1096"/>
                  </a:lnTo>
                  <a:lnTo>
                    <a:pt x="1807" y="1057"/>
                  </a:lnTo>
                  <a:lnTo>
                    <a:pt x="1770" y="1016"/>
                  </a:lnTo>
                  <a:lnTo>
                    <a:pt x="1733" y="972"/>
                  </a:lnTo>
                  <a:lnTo>
                    <a:pt x="1696" y="923"/>
                  </a:lnTo>
                  <a:lnTo>
                    <a:pt x="1657" y="870"/>
                  </a:lnTo>
                  <a:lnTo>
                    <a:pt x="1617" y="813"/>
                  </a:lnTo>
                  <a:lnTo>
                    <a:pt x="1577" y="751"/>
                  </a:lnTo>
                  <a:lnTo>
                    <a:pt x="1572" y="726"/>
                  </a:lnTo>
                  <a:lnTo>
                    <a:pt x="1567" y="702"/>
                  </a:lnTo>
                  <a:lnTo>
                    <a:pt x="1560" y="679"/>
                  </a:lnTo>
                  <a:lnTo>
                    <a:pt x="1551" y="656"/>
                  </a:lnTo>
                  <a:lnTo>
                    <a:pt x="1541" y="634"/>
                  </a:lnTo>
                  <a:lnTo>
                    <a:pt x="1529" y="613"/>
                  </a:lnTo>
                  <a:lnTo>
                    <a:pt x="1522" y="603"/>
                  </a:lnTo>
                  <a:lnTo>
                    <a:pt x="1515" y="593"/>
                  </a:lnTo>
                  <a:lnTo>
                    <a:pt x="1507" y="584"/>
                  </a:lnTo>
                  <a:lnTo>
                    <a:pt x="1498" y="574"/>
                  </a:lnTo>
                  <a:lnTo>
                    <a:pt x="1413" y="600"/>
                  </a:lnTo>
                  <a:lnTo>
                    <a:pt x="1270" y="641"/>
                  </a:lnTo>
                  <a:lnTo>
                    <a:pt x="1087" y="692"/>
                  </a:lnTo>
                  <a:lnTo>
                    <a:pt x="877" y="750"/>
                  </a:lnTo>
                  <a:lnTo>
                    <a:pt x="658" y="807"/>
                  </a:lnTo>
                  <a:lnTo>
                    <a:pt x="446" y="862"/>
                  </a:lnTo>
                  <a:lnTo>
                    <a:pt x="348" y="886"/>
                  </a:lnTo>
                  <a:lnTo>
                    <a:pt x="255" y="908"/>
                  </a:lnTo>
                  <a:lnTo>
                    <a:pt x="173" y="926"/>
                  </a:lnTo>
                  <a:lnTo>
                    <a:pt x="103" y="941"/>
                  </a:lnTo>
                  <a:lnTo>
                    <a:pt x="0" y="955"/>
                  </a:lnTo>
                  <a:lnTo>
                    <a:pt x="28" y="841"/>
                  </a:lnTo>
                  <a:lnTo>
                    <a:pt x="55" y="726"/>
                  </a:lnTo>
                  <a:lnTo>
                    <a:pt x="70" y="670"/>
                  </a:lnTo>
                  <a:lnTo>
                    <a:pt x="85" y="613"/>
                  </a:lnTo>
                  <a:lnTo>
                    <a:pt x="102" y="558"/>
                  </a:lnTo>
                  <a:lnTo>
                    <a:pt x="121" y="502"/>
                  </a:lnTo>
                  <a:lnTo>
                    <a:pt x="140" y="447"/>
                  </a:lnTo>
                  <a:lnTo>
                    <a:pt x="161" y="393"/>
                  </a:lnTo>
                  <a:lnTo>
                    <a:pt x="173" y="367"/>
                  </a:lnTo>
                  <a:lnTo>
                    <a:pt x="185" y="340"/>
                  </a:lnTo>
                  <a:lnTo>
                    <a:pt x="198" y="313"/>
                  </a:lnTo>
                  <a:lnTo>
                    <a:pt x="211" y="288"/>
                  </a:lnTo>
                  <a:lnTo>
                    <a:pt x="224" y="262"/>
                  </a:lnTo>
                  <a:lnTo>
                    <a:pt x="239" y="237"/>
                  </a:lnTo>
                  <a:lnTo>
                    <a:pt x="254" y="211"/>
                  </a:lnTo>
                  <a:lnTo>
                    <a:pt x="271" y="187"/>
                  </a:lnTo>
                  <a:lnTo>
                    <a:pt x="288" y="162"/>
                  </a:lnTo>
                  <a:lnTo>
                    <a:pt x="305" y="138"/>
                  </a:lnTo>
                  <a:lnTo>
                    <a:pt x="323" y="114"/>
                  </a:lnTo>
                  <a:lnTo>
                    <a:pt x="343" y="90"/>
                  </a:lnTo>
                  <a:lnTo>
                    <a:pt x="373" y="84"/>
                  </a:lnTo>
                  <a:lnTo>
                    <a:pt x="410" y="77"/>
                  </a:lnTo>
                  <a:lnTo>
                    <a:pt x="452" y="70"/>
                  </a:lnTo>
                  <a:lnTo>
                    <a:pt x="500" y="64"/>
                  </a:lnTo>
                  <a:lnTo>
                    <a:pt x="605" y="50"/>
                  </a:lnTo>
                  <a:lnTo>
                    <a:pt x="716" y="38"/>
                  </a:lnTo>
                  <a:lnTo>
                    <a:pt x="824" y="28"/>
                  </a:lnTo>
                  <a:lnTo>
                    <a:pt x="921" y="20"/>
                  </a:lnTo>
                  <a:lnTo>
                    <a:pt x="962" y="17"/>
                  </a:lnTo>
                  <a:lnTo>
                    <a:pt x="996" y="15"/>
                  </a:lnTo>
                  <a:lnTo>
                    <a:pt x="1024" y="14"/>
                  </a:lnTo>
                  <a:lnTo>
                    <a:pt x="1043" y="14"/>
                  </a:lnTo>
                  <a:lnTo>
                    <a:pt x="1079" y="11"/>
                  </a:lnTo>
                  <a:lnTo>
                    <a:pt x="1115" y="9"/>
                  </a:lnTo>
                  <a:lnTo>
                    <a:pt x="1150" y="7"/>
                  </a:lnTo>
                  <a:lnTo>
                    <a:pt x="1185" y="5"/>
                  </a:lnTo>
                  <a:lnTo>
                    <a:pt x="1220" y="3"/>
                  </a:lnTo>
                  <a:lnTo>
                    <a:pt x="1257" y="1"/>
                  </a:lnTo>
                  <a:lnTo>
                    <a:pt x="1295" y="0"/>
                  </a:lnTo>
                  <a:lnTo>
                    <a:pt x="1335" y="1"/>
                  </a:lnTo>
                  <a:lnTo>
                    <a:pt x="1344" y="3"/>
                  </a:lnTo>
                  <a:lnTo>
                    <a:pt x="1357" y="3"/>
                  </a:lnTo>
                  <a:lnTo>
                    <a:pt x="1374" y="3"/>
                  </a:lnTo>
                  <a:lnTo>
                    <a:pt x="1393" y="3"/>
                  </a:lnTo>
                  <a:lnTo>
                    <a:pt x="1414" y="1"/>
                  </a:lnTo>
                  <a:lnTo>
                    <a:pt x="1436" y="0"/>
                  </a:lnTo>
                  <a:lnTo>
                    <a:pt x="1461" y="0"/>
                  </a:lnTo>
                  <a:lnTo>
                    <a:pt x="148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4886280" y="4680000"/>
              <a:ext cx="1130400" cy="425520"/>
            </a:xfrm>
            <a:custGeom>
              <a:avLst/>
              <a:gdLst/>
              <a:ahLst/>
              <a:rect l="l" t="t" r="r" b="b"/>
              <a:pathLst>
                <a:path w="3559" h="1342">
                  <a:moveTo>
                    <a:pt x="1983" y="1"/>
                  </a:moveTo>
                  <a:lnTo>
                    <a:pt x="2003" y="6"/>
                  </a:lnTo>
                  <a:lnTo>
                    <a:pt x="2026" y="10"/>
                  </a:lnTo>
                  <a:lnTo>
                    <a:pt x="2053" y="15"/>
                  </a:lnTo>
                  <a:lnTo>
                    <a:pt x="2084" y="19"/>
                  </a:lnTo>
                  <a:lnTo>
                    <a:pt x="2155" y="29"/>
                  </a:lnTo>
                  <a:lnTo>
                    <a:pt x="2236" y="40"/>
                  </a:lnTo>
                  <a:lnTo>
                    <a:pt x="2326" y="50"/>
                  </a:lnTo>
                  <a:lnTo>
                    <a:pt x="2422" y="60"/>
                  </a:lnTo>
                  <a:lnTo>
                    <a:pt x="2521" y="70"/>
                  </a:lnTo>
                  <a:lnTo>
                    <a:pt x="2621" y="80"/>
                  </a:lnTo>
                  <a:lnTo>
                    <a:pt x="2813" y="98"/>
                  </a:lnTo>
                  <a:lnTo>
                    <a:pt x="2982" y="112"/>
                  </a:lnTo>
                  <a:lnTo>
                    <a:pt x="3105" y="123"/>
                  </a:lnTo>
                  <a:lnTo>
                    <a:pt x="3166" y="128"/>
                  </a:lnTo>
                  <a:lnTo>
                    <a:pt x="3193" y="150"/>
                  </a:lnTo>
                  <a:lnTo>
                    <a:pt x="3219" y="173"/>
                  </a:lnTo>
                  <a:lnTo>
                    <a:pt x="3245" y="198"/>
                  </a:lnTo>
                  <a:lnTo>
                    <a:pt x="3270" y="223"/>
                  </a:lnTo>
                  <a:lnTo>
                    <a:pt x="3295" y="249"/>
                  </a:lnTo>
                  <a:lnTo>
                    <a:pt x="3318" y="275"/>
                  </a:lnTo>
                  <a:lnTo>
                    <a:pt x="3340" y="303"/>
                  </a:lnTo>
                  <a:lnTo>
                    <a:pt x="3361" y="331"/>
                  </a:lnTo>
                  <a:lnTo>
                    <a:pt x="3382" y="361"/>
                  </a:lnTo>
                  <a:lnTo>
                    <a:pt x="3402" y="390"/>
                  </a:lnTo>
                  <a:lnTo>
                    <a:pt x="3421" y="421"/>
                  </a:lnTo>
                  <a:lnTo>
                    <a:pt x="3438" y="452"/>
                  </a:lnTo>
                  <a:lnTo>
                    <a:pt x="3455" y="483"/>
                  </a:lnTo>
                  <a:lnTo>
                    <a:pt x="3470" y="515"/>
                  </a:lnTo>
                  <a:lnTo>
                    <a:pt x="3485" y="548"/>
                  </a:lnTo>
                  <a:lnTo>
                    <a:pt x="3498" y="582"/>
                  </a:lnTo>
                  <a:lnTo>
                    <a:pt x="3510" y="616"/>
                  </a:lnTo>
                  <a:lnTo>
                    <a:pt x="3521" y="651"/>
                  </a:lnTo>
                  <a:lnTo>
                    <a:pt x="3530" y="685"/>
                  </a:lnTo>
                  <a:lnTo>
                    <a:pt x="3539" y="721"/>
                  </a:lnTo>
                  <a:lnTo>
                    <a:pt x="3546" y="756"/>
                  </a:lnTo>
                  <a:lnTo>
                    <a:pt x="3551" y="793"/>
                  </a:lnTo>
                  <a:lnTo>
                    <a:pt x="3555" y="828"/>
                  </a:lnTo>
                  <a:lnTo>
                    <a:pt x="3558" y="866"/>
                  </a:lnTo>
                  <a:lnTo>
                    <a:pt x="3559" y="903"/>
                  </a:lnTo>
                  <a:lnTo>
                    <a:pt x="3558" y="940"/>
                  </a:lnTo>
                  <a:lnTo>
                    <a:pt x="3557" y="978"/>
                  </a:lnTo>
                  <a:lnTo>
                    <a:pt x="3552" y="1016"/>
                  </a:lnTo>
                  <a:lnTo>
                    <a:pt x="3548" y="1054"/>
                  </a:lnTo>
                  <a:lnTo>
                    <a:pt x="3541" y="1091"/>
                  </a:lnTo>
                  <a:lnTo>
                    <a:pt x="3532" y="1130"/>
                  </a:lnTo>
                  <a:lnTo>
                    <a:pt x="3522" y="1168"/>
                  </a:lnTo>
                  <a:lnTo>
                    <a:pt x="3518" y="1177"/>
                  </a:lnTo>
                  <a:lnTo>
                    <a:pt x="3512" y="1184"/>
                  </a:lnTo>
                  <a:lnTo>
                    <a:pt x="3507" y="1191"/>
                  </a:lnTo>
                  <a:lnTo>
                    <a:pt x="3501" y="1199"/>
                  </a:lnTo>
                  <a:lnTo>
                    <a:pt x="3497" y="1206"/>
                  </a:lnTo>
                  <a:lnTo>
                    <a:pt x="3495" y="1213"/>
                  </a:lnTo>
                  <a:lnTo>
                    <a:pt x="3493" y="1218"/>
                  </a:lnTo>
                  <a:lnTo>
                    <a:pt x="3493" y="1222"/>
                  </a:lnTo>
                  <a:lnTo>
                    <a:pt x="3495" y="1227"/>
                  </a:lnTo>
                  <a:lnTo>
                    <a:pt x="3496" y="1231"/>
                  </a:lnTo>
                  <a:lnTo>
                    <a:pt x="3461" y="1228"/>
                  </a:lnTo>
                  <a:lnTo>
                    <a:pt x="3428" y="1222"/>
                  </a:lnTo>
                  <a:lnTo>
                    <a:pt x="3395" y="1217"/>
                  </a:lnTo>
                  <a:lnTo>
                    <a:pt x="3361" y="1210"/>
                  </a:lnTo>
                  <a:lnTo>
                    <a:pt x="3328" y="1202"/>
                  </a:lnTo>
                  <a:lnTo>
                    <a:pt x="3296" y="1193"/>
                  </a:lnTo>
                  <a:lnTo>
                    <a:pt x="3262" y="1184"/>
                  </a:lnTo>
                  <a:lnTo>
                    <a:pt x="3231" y="1173"/>
                  </a:lnTo>
                  <a:lnTo>
                    <a:pt x="3199" y="1162"/>
                  </a:lnTo>
                  <a:lnTo>
                    <a:pt x="3168" y="1151"/>
                  </a:lnTo>
                  <a:lnTo>
                    <a:pt x="3137" y="1139"/>
                  </a:lnTo>
                  <a:lnTo>
                    <a:pt x="3106" y="1126"/>
                  </a:lnTo>
                  <a:lnTo>
                    <a:pt x="3076" y="1112"/>
                  </a:lnTo>
                  <a:lnTo>
                    <a:pt x="3046" y="1098"/>
                  </a:lnTo>
                  <a:lnTo>
                    <a:pt x="3016" y="1082"/>
                  </a:lnTo>
                  <a:lnTo>
                    <a:pt x="2986" y="1067"/>
                  </a:lnTo>
                  <a:lnTo>
                    <a:pt x="2927" y="1035"/>
                  </a:lnTo>
                  <a:lnTo>
                    <a:pt x="2869" y="1001"/>
                  </a:lnTo>
                  <a:lnTo>
                    <a:pt x="2813" y="966"/>
                  </a:lnTo>
                  <a:lnTo>
                    <a:pt x="2757" y="929"/>
                  </a:lnTo>
                  <a:lnTo>
                    <a:pt x="2702" y="891"/>
                  </a:lnTo>
                  <a:lnTo>
                    <a:pt x="2647" y="853"/>
                  </a:lnTo>
                  <a:lnTo>
                    <a:pt x="2594" y="814"/>
                  </a:lnTo>
                  <a:lnTo>
                    <a:pt x="2542" y="775"/>
                  </a:lnTo>
                  <a:lnTo>
                    <a:pt x="2526" y="760"/>
                  </a:lnTo>
                  <a:lnTo>
                    <a:pt x="2513" y="748"/>
                  </a:lnTo>
                  <a:lnTo>
                    <a:pt x="2501" y="738"/>
                  </a:lnTo>
                  <a:lnTo>
                    <a:pt x="2488" y="728"/>
                  </a:lnTo>
                  <a:lnTo>
                    <a:pt x="2476" y="719"/>
                  </a:lnTo>
                  <a:lnTo>
                    <a:pt x="2462" y="711"/>
                  </a:lnTo>
                  <a:lnTo>
                    <a:pt x="2446" y="699"/>
                  </a:lnTo>
                  <a:lnTo>
                    <a:pt x="2427" y="687"/>
                  </a:lnTo>
                  <a:lnTo>
                    <a:pt x="2375" y="737"/>
                  </a:lnTo>
                  <a:lnTo>
                    <a:pt x="2322" y="787"/>
                  </a:lnTo>
                  <a:lnTo>
                    <a:pt x="2266" y="835"/>
                  </a:lnTo>
                  <a:lnTo>
                    <a:pt x="2209" y="883"/>
                  </a:lnTo>
                  <a:lnTo>
                    <a:pt x="2180" y="905"/>
                  </a:lnTo>
                  <a:lnTo>
                    <a:pt x="2150" y="927"/>
                  </a:lnTo>
                  <a:lnTo>
                    <a:pt x="2120" y="949"/>
                  </a:lnTo>
                  <a:lnTo>
                    <a:pt x="2090" y="971"/>
                  </a:lnTo>
                  <a:lnTo>
                    <a:pt x="2059" y="992"/>
                  </a:lnTo>
                  <a:lnTo>
                    <a:pt x="2028" y="1014"/>
                  </a:lnTo>
                  <a:lnTo>
                    <a:pt x="1995" y="1034"/>
                  </a:lnTo>
                  <a:lnTo>
                    <a:pt x="1963" y="1054"/>
                  </a:lnTo>
                  <a:lnTo>
                    <a:pt x="1931" y="1072"/>
                  </a:lnTo>
                  <a:lnTo>
                    <a:pt x="1898" y="1092"/>
                  </a:lnTo>
                  <a:lnTo>
                    <a:pt x="1864" y="1110"/>
                  </a:lnTo>
                  <a:lnTo>
                    <a:pt x="1830" y="1129"/>
                  </a:lnTo>
                  <a:lnTo>
                    <a:pt x="1795" y="1147"/>
                  </a:lnTo>
                  <a:lnTo>
                    <a:pt x="1761" y="1163"/>
                  </a:lnTo>
                  <a:lnTo>
                    <a:pt x="1725" y="1180"/>
                  </a:lnTo>
                  <a:lnTo>
                    <a:pt x="1689" y="1196"/>
                  </a:lnTo>
                  <a:lnTo>
                    <a:pt x="1652" y="1211"/>
                  </a:lnTo>
                  <a:lnTo>
                    <a:pt x="1616" y="1227"/>
                  </a:lnTo>
                  <a:lnTo>
                    <a:pt x="1578" y="1241"/>
                  </a:lnTo>
                  <a:lnTo>
                    <a:pt x="1540" y="1256"/>
                  </a:lnTo>
                  <a:lnTo>
                    <a:pt x="1502" y="1269"/>
                  </a:lnTo>
                  <a:lnTo>
                    <a:pt x="1463" y="1281"/>
                  </a:lnTo>
                  <a:lnTo>
                    <a:pt x="1423" y="1293"/>
                  </a:lnTo>
                  <a:lnTo>
                    <a:pt x="1383" y="1305"/>
                  </a:lnTo>
                  <a:lnTo>
                    <a:pt x="1353" y="1314"/>
                  </a:lnTo>
                  <a:lnTo>
                    <a:pt x="1316" y="1324"/>
                  </a:lnTo>
                  <a:lnTo>
                    <a:pt x="1295" y="1330"/>
                  </a:lnTo>
                  <a:lnTo>
                    <a:pt x="1271" y="1334"/>
                  </a:lnTo>
                  <a:lnTo>
                    <a:pt x="1248" y="1338"/>
                  </a:lnTo>
                  <a:lnTo>
                    <a:pt x="1225" y="1341"/>
                  </a:lnTo>
                  <a:lnTo>
                    <a:pt x="1200" y="1342"/>
                  </a:lnTo>
                  <a:lnTo>
                    <a:pt x="1177" y="1342"/>
                  </a:lnTo>
                  <a:lnTo>
                    <a:pt x="1152" y="1340"/>
                  </a:lnTo>
                  <a:lnTo>
                    <a:pt x="1130" y="1337"/>
                  </a:lnTo>
                  <a:lnTo>
                    <a:pt x="1119" y="1333"/>
                  </a:lnTo>
                  <a:lnTo>
                    <a:pt x="1109" y="1330"/>
                  </a:lnTo>
                  <a:lnTo>
                    <a:pt x="1098" y="1325"/>
                  </a:lnTo>
                  <a:lnTo>
                    <a:pt x="1088" y="1321"/>
                  </a:lnTo>
                  <a:lnTo>
                    <a:pt x="1079" y="1315"/>
                  </a:lnTo>
                  <a:lnTo>
                    <a:pt x="1070" y="1310"/>
                  </a:lnTo>
                  <a:lnTo>
                    <a:pt x="1061" y="1303"/>
                  </a:lnTo>
                  <a:lnTo>
                    <a:pt x="1054" y="1295"/>
                  </a:lnTo>
                  <a:lnTo>
                    <a:pt x="1030" y="1270"/>
                  </a:lnTo>
                  <a:lnTo>
                    <a:pt x="1049" y="1253"/>
                  </a:lnTo>
                  <a:lnTo>
                    <a:pt x="1069" y="1237"/>
                  </a:lnTo>
                  <a:lnTo>
                    <a:pt x="1090" y="1221"/>
                  </a:lnTo>
                  <a:lnTo>
                    <a:pt x="1111" y="1206"/>
                  </a:lnTo>
                  <a:lnTo>
                    <a:pt x="1132" y="1191"/>
                  </a:lnTo>
                  <a:lnTo>
                    <a:pt x="1155" y="1177"/>
                  </a:lnTo>
                  <a:lnTo>
                    <a:pt x="1178" y="1162"/>
                  </a:lnTo>
                  <a:lnTo>
                    <a:pt x="1200" y="1149"/>
                  </a:lnTo>
                  <a:lnTo>
                    <a:pt x="1248" y="1122"/>
                  </a:lnTo>
                  <a:lnTo>
                    <a:pt x="1297" y="1096"/>
                  </a:lnTo>
                  <a:lnTo>
                    <a:pt x="1348" y="1069"/>
                  </a:lnTo>
                  <a:lnTo>
                    <a:pt x="1399" y="1041"/>
                  </a:lnTo>
                  <a:lnTo>
                    <a:pt x="1402" y="1031"/>
                  </a:lnTo>
                  <a:lnTo>
                    <a:pt x="1405" y="1022"/>
                  </a:lnTo>
                  <a:lnTo>
                    <a:pt x="1403" y="1014"/>
                  </a:lnTo>
                  <a:lnTo>
                    <a:pt x="1402" y="1007"/>
                  </a:lnTo>
                  <a:lnTo>
                    <a:pt x="1400" y="1000"/>
                  </a:lnTo>
                  <a:lnTo>
                    <a:pt x="1396" y="995"/>
                  </a:lnTo>
                  <a:lnTo>
                    <a:pt x="1391" y="989"/>
                  </a:lnTo>
                  <a:lnTo>
                    <a:pt x="1386" y="985"/>
                  </a:lnTo>
                  <a:lnTo>
                    <a:pt x="1373" y="976"/>
                  </a:lnTo>
                  <a:lnTo>
                    <a:pt x="1360" y="968"/>
                  </a:lnTo>
                  <a:lnTo>
                    <a:pt x="1347" y="960"/>
                  </a:lnTo>
                  <a:lnTo>
                    <a:pt x="1336" y="950"/>
                  </a:lnTo>
                  <a:lnTo>
                    <a:pt x="1340" y="934"/>
                  </a:lnTo>
                  <a:lnTo>
                    <a:pt x="1343" y="918"/>
                  </a:lnTo>
                  <a:lnTo>
                    <a:pt x="1345" y="903"/>
                  </a:lnTo>
                  <a:lnTo>
                    <a:pt x="1345" y="889"/>
                  </a:lnTo>
                  <a:lnTo>
                    <a:pt x="1345" y="876"/>
                  </a:lnTo>
                  <a:lnTo>
                    <a:pt x="1342" y="863"/>
                  </a:lnTo>
                  <a:lnTo>
                    <a:pt x="1339" y="851"/>
                  </a:lnTo>
                  <a:lnTo>
                    <a:pt x="1336" y="840"/>
                  </a:lnTo>
                  <a:lnTo>
                    <a:pt x="1330" y="830"/>
                  </a:lnTo>
                  <a:lnTo>
                    <a:pt x="1325" y="820"/>
                  </a:lnTo>
                  <a:lnTo>
                    <a:pt x="1319" y="812"/>
                  </a:lnTo>
                  <a:lnTo>
                    <a:pt x="1312" y="804"/>
                  </a:lnTo>
                  <a:lnTo>
                    <a:pt x="1305" y="796"/>
                  </a:lnTo>
                  <a:lnTo>
                    <a:pt x="1297" y="789"/>
                  </a:lnTo>
                  <a:lnTo>
                    <a:pt x="1288" y="783"/>
                  </a:lnTo>
                  <a:lnTo>
                    <a:pt x="1279" y="777"/>
                  </a:lnTo>
                  <a:lnTo>
                    <a:pt x="1261" y="768"/>
                  </a:lnTo>
                  <a:lnTo>
                    <a:pt x="1242" y="760"/>
                  </a:lnTo>
                  <a:lnTo>
                    <a:pt x="1224" y="754"/>
                  </a:lnTo>
                  <a:lnTo>
                    <a:pt x="1206" y="750"/>
                  </a:lnTo>
                  <a:lnTo>
                    <a:pt x="1189" y="747"/>
                  </a:lnTo>
                  <a:lnTo>
                    <a:pt x="1175" y="746"/>
                  </a:lnTo>
                  <a:lnTo>
                    <a:pt x="1162" y="745"/>
                  </a:lnTo>
                  <a:lnTo>
                    <a:pt x="1154" y="745"/>
                  </a:lnTo>
                  <a:lnTo>
                    <a:pt x="1156" y="746"/>
                  </a:lnTo>
                  <a:lnTo>
                    <a:pt x="1158" y="745"/>
                  </a:lnTo>
                  <a:lnTo>
                    <a:pt x="1161" y="745"/>
                  </a:lnTo>
                  <a:lnTo>
                    <a:pt x="1164" y="743"/>
                  </a:lnTo>
                  <a:lnTo>
                    <a:pt x="1170" y="738"/>
                  </a:lnTo>
                  <a:lnTo>
                    <a:pt x="1176" y="733"/>
                  </a:lnTo>
                  <a:lnTo>
                    <a:pt x="1182" y="727"/>
                  </a:lnTo>
                  <a:lnTo>
                    <a:pt x="1188" y="721"/>
                  </a:lnTo>
                  <a:lnTo>
                    <a:pt x="1192" y="715"/>
                  </a:lnTo>
                  <a:lnTo>
                    <a:pt x="1196" y="712"/>
                  </a:lnTo>
                  <a:lnTo>
                    <a:pt x="1197" y="702"/>
                  </a:lnTo>
                  <a:lnTo>
                    <a:pt x="1198" y="691"/>
                  </a:lnTo>
                  <a:lnTo>
                    <a:pt x="1198" y="678"/>
                  </a:lnTo>
                  <a:lnTo>
                    <a:pt x="1197" y="666"/>
                  </a:lnTo>
                  <a:lnTo>
                    <a:pt x="1196" y="661"/>
                  </a:lnTo>
                  <a:lnTo>
                    <a:pt x="1194" y="656"/>
                  </a:lnTo>
                  <a:lnTo>
                    <a:pt x="1191" y="651"/>
                  </a:lnTo>
                  <a:lnTo>
                    <a:pt x="1189" y="646"/>
                  </a:lnTo>
                  <a:lnTo>
                    <a:pt x="1185" y="642"/>
                  </a:lnTo>
                  <a:lnTo>
                    <a:pt x="1181" y="638"/>
                  </a:lnTo>
                  <a:lnTo>
                    <a:pt x="1176" y="636"/>
                  </a:lnTo>
                  <a:lnTo>
                    <a:pt x="1170" y="634"/>
                  </a:lnTo>
                  <a:lnTo>
                    <a:pt x="1132" y="654"/>
                  </a:lnTo>
                  <a:lnTo>
                    <a:pt x="1096" y="676"/>
                  </a:lnTo>
                  <a:lnTo>
                    <a:pt x="1059" y="697"/>
                  </a:lnTo>
                  <a:lnTo>
                    <a:pt x="1024" y="721"/>
                  </a:lnTo>
                  <a:lnTo>
                    <a:pt x="988" y="743"/>
                  </a:lnTo>
                  <a:lnTo>
                    <a:pt x="954" y="767"/>
                  </a:lnTo>
                  <a:lnTo>
                    <a:pt x="920" y="792"/>
                  </a:lnTo>
                  <a:lnTo>
                    <a:pt x="887" y="817"/>
                  </a:lnTo>
                  <a:lnTo>
                    <a:pt x="855" y="844"/>
                  </a:lnTo>
                  <a:lnTo>
                    <a:pt x="822" y="870"/>
                  </a:lnTo>
                  <a:lnTo>
                    <a:pt x="790" y="899"/>
                  </a:lnTo>
                  <a:lnTo>
                    <a:pt x="758" y="928"/>
                  </a:lnTo>
                  <a:lnTo>
                    <a:pt x="727" y="958"/>
                  </a:lnTo>
                  <a:lnTo>
                    <a:pt x="696" y="989"/>
                  </a:lnTo>
                  <a:lnTo>
                    <a:pt x="666" y="1021"/>
                  </a:lnTo>
                  <a:lnTo>
                    <a:pt x="635" y="1055"/>
                  </a:lnTo>
                  <a:lnTo>
                    <a:pt x="604" y="1038"/>
                  </a:lnTo>
                  <a:lnTo>
                    <a:pt x="575" y="1022"/>
                  </a:lnTo>
                  <a:lnTo>
                    <a:pt x="548" y="1007"/>
                  </a:lnTo>
                  <a:lnTo>
                    <a:pt x="524" y="990"/>
                  </a:lnTo>
                  <a:lnTo>
                    <a:pt x="501" y="975"/>
                  </a:lnTo>
                  <a:lnTo>
                    <a:pt x="477" y="958"/>
                  </a:lnTo>
                  <a:lnTo>
                    <a:pt x="453" y="941"/>
                  </a:lnTo>
                  <a:lnTo>
                    <a:pt x="427" y="925"/>
                  </a:lnTo>
                  <a:lnTo>
                    <a:pt x="483" y="861"/>
                  </a:lnTo>
                  <a:lnTo>
                    <a:pt x="542" y="797"/>
                  </a:lnTo>
                  <a:lnTo>
                    <a:pt x="573" y="765"/>
                  </a:lnTo>
                  <a:lnTo>
                    <a:pt x="605" y="733"/>
                  </a:lnTo>
                  <a:lnTo>
                    <a:pt x="637" y="701"/>
                  </a:lnTo>
                  <a:lnTo>
                    <a:pt x="670" y="669"/>
                  </a:lnTo>
                  <a:lnTo>
                    <a:pt x="705" y="638"/>
                  </a:lnTo>
                  <a:lnTo>
                    <a:pt x="739" y="608"/>
                  </a:lnTo>
                  <a:lnTo>
                    <a:pt x="776" y="580"/>
                  </a:lnTo>
                  <a:lnTo>
                    <a:pt x="813" y="552"/>
                  </a:lnTo>
                  <a:lnTo>
                    <a:pt x="849" y="525"/>
                  </a:lnTo>
                  <a:lnTo>
                    <a:pt x="888" y="501"/>
                  </a:lnTo>
                  <a:lnTo>
                    <a:pt x="927" y="479"/>
                  </a:lnTo>
                  <a:lnTo>
                    <a:pt x="967" y="457"/>
                  </a:lnTo>
                  <a:lnTo>
                    <a:pt x="975" y="447"/>
                  </a:lnTo>
                  <a:lnTo>
                    <a:pt x="984" y="439"/>
                  </a:lnTo>
                  <a:lnTo>
                    <a:pt x="994" y="430"/>
                  </a:lnTo>
                  <a:lnTo>
                    <a:pt x="1003" y="421"/>
                  </a:lnTo>
                  <a:lnTo>
                    <a:pt x="1011" y="412"/>
                  </a:lnTo>
                  <a:lnTo>
                    <a:pt x="1019" y="402"/>
                  </a:lnTo>
                  <a:lnTo>
                    <a:pt x="1026" y="392"/>
                  </a:lnTo>
                  <a:lnTo>
                    <a:pt x="1030" y="380"/>
                  </a:lnTo>
                  <a:lnTo>
                    <a:pt x="1026" y="373"/>
                  </a:lnTo>
                  <a:lnTo>
                    <a:pt x="1020" y="368"/>
                  </a:lnTo>
                  <a:lnTo>
                    <a:pt x="1016" y="362"/>
                  </a:lnTo>
                  <a:lnTo>
                    <a:pt x="1011" y="359"/>
                  </a:lnTo>
                  <a:lnTo>
                    <a:pt x="1007" y="355"/>
                  </a:lnTo>
                  <a:lnTo>
                    <a:pt x="1003" y="354"/>
                  </a:lnTo>
                  <a:lnTo>
                    <a:pt x="998" y="353"/>
                  </a:lnTo>
                  <a:lnTo>
                    <a:pt x="994" y="352"/>
                  </a:lnTo>
                  <a:lnTo>
                    <a:pt x="985" y="354"/>
                  </a:lnTo>
                  <a:lnTo>
                    <a:pt x="975" y="356"/>
                  </a:lnTo>
                  <a:lnTo>
                    <a:pt x="966" y="362"/>
                  </a:lnTo>
                  <a:lnTo>
                    <a:pt x="957" y="368"/>
                  </a:lnTo>
                  <a:lnTo>
                    <a:pt x="948" y="373"/>
                  </a:lnTo>
                  <a:lnTo>
                    <a:pt x="938" y="379"/>
                  </a:lnTo>
                  <a:lnTo>
                    <a:pt x="928" y="383"/>
                  </a:lnTo>
                  <a:lnTo>
                    <a:pt x="919" y="385"/>
                  </a:lnTo>
                  <a:lnTo>
                    <a:pt x="914" y="386"/>
                  </a:lnTo>
                  <a:lnTo>
                    <a:pt x="908" y="386"/>
                  </a:lnTo>
                  <a:lnTo>
                    <a:pt x="904" y="385"/>
                  </a:lnTo>
                  <a:lnTo>
                    <a:pt x="898" y="384"/>
                  </a:lnTo>
                  <a:lnTo>
                    <a:pt x="893" y="382"/>
                  </a:lnTo>
                  <a:lnTo>
                    <a:pt x="887" y="379"/>
                  </a:lnTo>
                  <a:lnTo>
                    <a:pt x="881" y="375"/>
                  </a:lnTo>
                  <a:lnTo>
                    <a:pt x="876" y="370"/>
                  </a:lnTo>
                  <a:lnTo>
                    <a:pt x="853" y="373"/>
                  </a:lnTo>
                  <a:lnTo>
                    <a:pt x="820" y="381"/>
                  </a:lnTo>
                  <a:lnTo>
                    <a:pt x="782" y="391"/>
                  </a:lnTo>
                  <a:lnTo>
                    <a:pt x="737" y="402"/>
                  </a:lnTo>
                  <a:lnTo>
                    <a:pt x="687" y="416"/>
                  </a:lnTo>
                  <a:lnTo>
                    <a:pt x="633" y="433"/>
                  </a:lnTo>
                  <a:lnTo>
                    <a:pt x="576" y="451"/>
                  </a:lnTo>
                  <a:lnTo>
                    <a:pt x="517" y="471"/>
                  </a:lnTo>
                  <a:lnTo>
                    <a:pt x="457" y="491"/>
                  </a:lnTo>
                  <a:lnTo>
                    <a:pt x="397" y="513"/>
                  </a:lnTo>
                  <a:lnTo>
                    <a:pt x="338" y="535"/>
                  </a:lnTo>
                  <a:lnTo>
                    <a:pt x="281" y="557"/>
                  </a:lnTo>
                  <a:lnTo>
                    <a:pt x="226" y="580"/>
                  </a:lnTo>
                  <a:lnTo>
                    <a:pt x="175" y="602"/>
                  </a:lnTo>
                  <a:lnTo>
                    <a:pt x="129" y="624"/>
                  </a:lnTo>
                  <a:lnTo>
                    <a:pt x="89" y="645"/>
                  </a:lnTo>
                  <a:lnTo>
                    <a:pt x="86" y="642"/>
                  </a:lnTo>
                  <a:lnTo>
                    <a:pt x="80" y="631"/>
                  </a:lnTo>
                  <a:lnTo>
                    <a:pt x="70" y="617"/>
                  </a:lnTo>
                  <a:lnTo>
                    <a:pt x="57" y="601"/>
                  </a:lnTo>
                  <a:lnTo>
                    <a:pt x="51" y="593"/>
                  </a:lnTo>
                  <a:lnTo>
                    <a:pt x="43" y="586"/>
                  </a:lnTo>
                  <a:lnTo>
                    <a:pt x="36" y="580"/>
                  </a:lnTo>
                  <a:lnTo>
                    <a:pt x="29" y="574"/>
                  </a:lnTo>
                  <a:lnTo>
                    <a:pt x="21" y="571"/>
                  </a:lnTo>
                  <a:lnTo>
                    <a:pt x="14" y="568"/>
                  </a:lnTo>
                  <a:lnTo>
                    <a:pt x="10" y="568"/>
                  </a:lnTo>
                  <a:lnTo>
                    <a:pt x="6" y="568"/>
                  </a:lnTo>
                  <a:lnTo>
                    <a:pt x="3" y="568"/>
                  </a:lnTo>
                  <a:lnTo>
                    <a:pt x="0" y="571"/>
                  </a:lnTo>
                  <a:lnTo>
                    <a:pt x="19" y="552"/>
                  </a:lnTo>
                  <a:lnTo>
                    <a:pt x="39" y="534"/>
                  </a:lnTo>
                  <a:lnTo>
                    <a:pt x="57" y="517"/>
                  </a:lnTo>
                  <a:lnTo>
                    <a:pt x="79" y="501"/>
                  </a:lnTo>
                  <a:lnTo>
                    <a:pt x="99" y="486"/>
                  </a:lnTo>
                  <a:lnTo>
                    <a:pt x="120" y="472"/>
                  </a:lnTo>
                  <a:lnTo>
                    <a:pt x="141" y="457"/>
                  </a:lnTo>
                  <a:lnTo>
                    <a:pt x="162" y="444"/>
                  </a:lnTo>
                  <a:lnTo>
                    <a:pt x="205" y="420"/>
                  </a:lnTo>
                  <a:lnTo>
                    <a:pt x="250" y="396"/>
                  </a:lnTo>
                  <a:lnTo>
                    <a:pt x="294" y="375"/>
                  </a:lnTo>
                  <a:lnTo>
                    <a:pt x="340" y="355"/>
                  </a:lnTo>
                  <a:lnTo>
                    <a:pt x="433" y="316"/>
                  </a:lnTo>
                  <a:lnTo>
                    <a:pt x="527" y="278"/>
                  </a:lnTo>
                  <a:lnTo>
                    <a:pt x="575" y="258"/>
                  </a:lnTo>
                  <a:lnTo>
                    <a:pt x="623" y="235"/>
                  </a:lnTo>
                  <a:lnTo>
                    <a:pt x="670" y="212"/>
                  </a:lnTo>
                  <a:lnTo>
                    <a:pt x="718" y="187"/>
                  </a:lnTo>
                  <a:lnTo>
                    <a:pt x="787" y="159"/>
                  </a:lnTo>
                  <a:lnTo>
                    <a:pt x="810" y="153"/>
                  </a:lnTo>
                  <a:lnTo>
                    <a:pt x="875" y="139"/>
                  </a:lnTo>
                  <a:lnTo>
                    <a:pt x="968" y="118"/>
                  </a:lnTo>
                  <a:lnTo>
                    <a:pt x="1079" y="94"/>
                  </a:lnTo>
                  <a:lnTo>
                    <a:pt x="1195" y="71"/>
                  </a:lnTo>
                  <a:lnTo>
                    <a:pt x="1305" y="51"/>
                  </a:lnTo>
                  <a:lnTo>
                    <a:pt x="1353" y="43"/>
                  </a:lnTo>
                  <a:lnTo>
                    <a:pt x="1397" y="38"/>
                  </a:lnTo>
                  <a:lnTo>
                    <a:pt x="1416" y="37"/>
                  </a:lnTo>
                  <a:lnTo>
                    <a:pt x="1433" y="35"/>
                  </a:lnTo>
                  <a:lnTo>
                    <a:pt x="1448" y="35"/>
                  </a:lnTo>
                  <a:lnTo>
                    <a:pt x="1460" y="35"/>
                  </a:lnTo>
                  <a:lnTo>
                    <a:pt x="1467" y="36"/>
                  </a:lnTo>
                  <a:lnTo>
                    <a:pt x="1483" y="35"/>
                  </a:lnTo>
                  <a:lnTo>
                    <a:pt x="1509" y="33"/>
                  </a:lnTo>
                  <a:lnTo>
                    <a:pt x="1541" y="31"/>
                  </a:lnTo>
                  <a:lnTo>
                    <a:pt x="1621" y="25"/>
                  </a:lnTo>
                  <a:lnTo>
                    <a:pt x="1714" y="17"/>
                  </a:lnTo>
                  <a:lnTo>
                    <a:pt x="1808" y="9"/>
                  </a:lnTo>
                  <a:lnTo>
                    <a:pt x="1891" y="3"/>
                  </a:lnTo>
                  <a:lnTo>
                    <a:pt x="1925" y="1"/>
                  </a:lnTo>
                  <a:lnTo>
                    <a:pt x="1953" y="0"/>
                  </a:lnTo>
                  <a:lnTo>
                    <a:pt x="1973" y="0"/>
                  </a:lnTo>
                  <a:lnTo>
                    <a:pt x="198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5210280" y="4938840"/>
              <a:ext cx="77760" cy="63360"/>
            </a:xfrm>
            <a:custGeom>
              <a:avLst/>
              <a:gdLst/>
              <a:ahLst/>
              <a:rect l="l" t="t" r="r" b="b"/>
              <a:pathLst>
                <a:path w="249" h="204">
                  <a:moveTo>
                    <a:pt x="218" y="204"/>
                  </a:moveTo>
                  <a:lnTo>
                    <a:pt x="216" y="193"/>
                  </a:lnTo>
                  <a:lnTo>
                    <a:pt x="215" y="183"/>
                  </a:lnTo>
                  <a:lnTo>
                    <a:pt x="212" y="173"/>
                  </a:lnTo>
                  <a:lnTo>
                    <a:pt x="210" y="163"/>
                  </a:lnTo>
                  <a:lnTo>
                    <a:pt x="206" y="153"/>
                  </a:lnTo>
                  <a:lnTo>
                    <a:pt x="202" y="144"/>
                  </a:lnTo>
                  <a:lnTo>
                    <a:pt x="198" y="135"/>
                  </a:lnTo>
                  <a:lnTo>
                    <a:pt x="192" y="126"/>
                  </a:lnTo>
                  <a:lnTo>
                    <a:pt x="181" y="110"/>
                  </a:lnTo>
                  <a:lnTo>
                    <a:pt x="168" y="94"/>
                  </a:lnTo>
                  <a:lnTo>
                    <a:pt x="153" y="81"/>
                  </a:lnTo>
                  <a:lnTo>
                    <a:pt x="138" y="67"/>
                  </a:lnTo>
                  <a:lnTo>
                    <a:pt x="121" y="57"/>
                  </a:lnTo>
                  <a:lnTo>
                    <a:pt x="104" y="47"/>
                  </a:lnTo>
                  <a:lnTo>
                    <a:pt x="86" y="40"/>
                  </a:lnTo>
                  <a:lnTo>
                    <a:pt x="69" y="33"/>
                  </a:lnTo>
                  <a:lnTo>
                    <a:pt x="51" y="29"/>
                  </a:lnTo>
                  <a:lnTo>
                    <a:pt x="33" y="25"/>
                  </a:lnTo>
                  <a:lnTo>
                    <a:pt x="17" y="24"/>
                  </a:lnTo>
                  <a:lnTo>
                    <a:pt x="0" y="25"/>
                  </a:lnTo>
                  <a:lnTo>
                    <a:pt x="18" y="20"/>
                  </a:lnTo>
                  <a:lnTo>
                    <a:pt x="34" y="14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3"/>
                  </a:lnTo>
                  <a:lnTo>
                    <a:pt x="99" y="1"/>
                  </a:lnTo>
                  <a:lnTo>
                    <a:pt x="113" y="0"/>
                  </a:lnTo>
                  <a:lnTo>
                    <a:pt x="128" y="0"/>
                  </a:lnTo>
                  <a:lnTo>
                    <a:pt x="141" y="0"/>
                  </a:lnTo>
                  <a:lnTo>
                    <a:pt x="153" y="0"/>
                  </a:lnTo>
                  <a:lnTo>
                    <a:pt x="165" y="2"/>
                  </a:lnTo>
                  <a:lnTo>
                    <a:pt x="176" y="4"/>
                  </a:lnTo>
                  <a:lnTo>
                    <a:pt x="188" y="7"/>
                  </a:lnTo>
                  <a:lnTo>
                    <a:pt x="198" y="11"/>
                  </a:lnTo>
                  <a:lnTo>
                    <a:pt x="206" y="15"/>
                  </a:lnTo>
                  <a:lnTo>
                    <a:pt x="214" y="21"/>
                  </a:lnTo>
                  <a:lnTo>
                    <a:pt x="222" y="26"/>
                  </a:lnTo>
                  <a:lnTo>
                    <a:pt x="229" y="33"/>
                  </a:lnTo>
                  <a:lnTo>
                    <a:pt x="234" y="41"/>
                  </a:lnTo>
                  <a:lnTo>
                    <a:pt x="240" y="48"/>
                  </a:lnTo>
                  <a:lnTo>
                    <a:pt x="243" y="57"/>
                  </a:lnTo>
                  <a:lnTo>
                    <a:pt x="246" y="67"/>
                  </a:lnTo>
                  <a:lnTo>
                    <a:pt x="249" y="77"/>
                  </a:lnTo>
                  <a:lnTo>
                    <a:pt x="249" y="88"/>
                  </a:lnTo>
                  <a:lnTo>
                    <a:pt x="249" y="101"/>
                  </a:lnTo>
                  <a:lnTo>
                    <a:pt x="248" y="113"/>
                  </a:lnTo>
                  <a:lnTo>
                    <a:pt x="245" y="126"/>
                  </a:lnTo>
                  <a:lnTo>
                    <a:pt x="242" y="141"/>
                  </a:lnTo>
                  <a:lnTo>
                    <a:pt x="238" y="155"/>
                  </a:lnTo>
                  <a:lnTo>
                    <a:pt x="232" y="171"/>
                  </a:lnTo>
                  <a:lnTo>
                    <a:pt x="225" y="187"/>
                  </a:lnTo>
                  <a:lnTo>
                    <a:pt x="218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5116680" y="4962600"/>
              <a:ext cx="128520" cy="108000"/>
            </a:xfrm>
            <a:custGeom>
              <a:avLst/>
              <a:gdLst/>
              <a:ahLst/>
              <a:rect l="l" t="t" r="r" b="b"/>
              <a:pathLst>
                <a:path w="406" h="342">
                  <a:moveTo>
                    <a:pt x="403" y="136"/>
                  </a:moveTo>
                  <a:lnTo>
                    <a:pt x="405" y="145"/>
                  </a:lnTo>
                  <a:lnTo>
                    <a:pt x="406" y="153"/>
                  </a:lnTo>
                  <a:lnTo>
                    <a:pt x="406" y="161"/>
                  </a:lnTo>
                  <a:lnTo>
                    <a:pt x="405" y="169"/>
                  </a:lnTo>
                  <a:lnTo>
                    <a:pt x="403" y="176"/>
                  </a:lnTo>
                  <a:lnTo>
                    <a:pt x="401" y="183"/>
                  </a:lnTo>
                  <a:lnTo>
                    <a:pt x="397" y="189"/>
                  </a:lnTo>
                  <a:lnTo>
                    <a:pt x="394" y="196"/>
                  </a:lnTo>
                  <a:lnTo>
                    <a:pt x="384" y="207"/>
                  </a:lnTo>
                  <a:lnTo>
                    <a:pt x="373" y="217"/>
                  </a:lnTo>
                  <a:lnTo>
                    <a:pt x="360" y="227"/>
                  </a:lnTo>
                  <a:lnTo>
                    <a:pt x="345" y="237"/>
                  </a:lnTo>
                  <a:lnTo>
                    <a:pt x="313" y="256"/>
                  </a:lnTo>
                  <a:lnTo>
                    <a:pt x="279" y="279"/>
                  </a:lnTo>
                  <a:lnTo>
                    <a:pt x="262" y="292"/>
                  </a:lnTo>
                  <a:lnTo>
                    <a:pt x="245" y="307"/>
                  </a:lnTo>
                  <a:lnTo>
                    <a:pt x="237" y="314"/>
                  </a:lnTo>
                  <a:lnTo>
                    <a:pt x="230" y="323"/>
                  </a:lnTo>
                  <a:lnTo>
                    <a:pt x="222" y="333"/>
                  </a:lnTo>
                  <a:lnTo>
                    <a:pt x="215" y="342"/>
                  </a:lnTo>
                  <a:lnTo>
                    <a:pt x="183" y="328"/>
                  </a:lnTo>
                  <a:lnTo>
                    <a:pt x="153" y="313"/>
                  </a:lnTo>
                  <a:lnTo>
                    <a:pt x="125" y="301"/>
                  </a:lnTo>
                  <a:lnTo>
                    <a:pt x="100" y="288"/>
                  </a:lnTo>
                  <a:lnTo>
                    <a:pt x="75" y="274"/>
                  </a:lnTo>
                  <a:lnTo>
                    <a:pt x="50" y="261"/>
                  </a:lnTo>
                  <a:lnTo>
                    <a:pt x="25" y="246"/>
                  </a:lnTo>
                  <a:lnTo>
                    <a:pt x="0" y="229"/>
                  </a:lnTo>
                  <a:lnTo>
                    <a:pt x="5" y="213"/>
                  </a:lnTo>
                  <a:lnTo>
                    <a:pt x="13" y="198"/>
                  </a:lnTo>
                  <a:lnTo>
                    <a:pt x="22" y="182"/>
                  </a:lnTo>
                  <a:lnTo>
                    <a:pt x="32" y="167"/>
                  </a:lnTo>
                  <a:lnTo>
                    <a:pt x="44" y="151"/>
                  </a:lnTo>
                  <a:lnTo>
                    <a:pt x="56" y="135"/>
                  </a:lnTo>
                  <a:lnTo>
                    <a:pt x="71" y="119"/>
                  </a:lnTo>
                  <a:lnTo>
                    <a:pt x="85" y="103"/>
                  </a:lnTo>
                  <a:lnTo>
                    <a:pt x="115" y="73"/>
                  </a:lnTo>
                  <a:lnTo>
                    <a:pt x="145" y="47"/>
                  </a:lnTo>
                  <a:lnTo>
                    <a:pt x="175" y="24"/>
                  </a:lnTo>
                  <a:lnTo>
                    <a:pt x="203" y="4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0" y="1"/>
                  </a:lnTo>
                  <a:lnTo>
                    <a:pt x="266" y="4"/>
                  </a:lnTo>
                  <a:lnTo>
                    <a:pt x="283" y="8"/>
                  </a:lnTo>
                  <a:lnTo>
                    <a:pt x="299" y="14"/>
                  </a:lnTo>
                  <a:lnTo>
                    <a:pt x="315" y="21"/>
                  </a:lnTo>
                  <a:lnTo>
                    <a:pt x="331" y="30"/>
                  </a:lnTo>
                  <a:lnTo>
                    <a:pt x="345" y="40"/>
                  </a:lnTo>
                  <a:lnTo>
                    <a:pt x="358" y="51"/>
                  </a:lnTo>
                  <a:lnTo>
                    <a:pt x="371" y="64"/>
                  </a:lnTo>
                  <a:lnTo>
                    <a:pt x="382" y="77"/>
                  </a:lnTo>
                  <a:lnTo>
                    <a:pt x="391" y="90"/>
                  </a:lnTo>
                  <a:lnTo>
                    <a:pt x="397" y="105"/>
                  </a:lnTo>
                  <a:lnTo>
                    <a:pt x="400" y="112"/>
                  </a:lnTo>
                  <a:lnTo>
                    <a:pt x="402" y="120"/>
                  </a:lnTo>
                  <a:lnTo>
                    <a:pt x="403" y="128"/>
                  </a:lnTo>
                  <a:lnTo>
                    <a:pt x="403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5289480" y="4946760"/>
              <a:ext cx="517680" cy="823680"/>
            </a:xfrm>
            <a:custGeom>
              <a:avLst/>
              <a:gdLst/>
              <a:ahLst/>
              <a:rect l="l" t="t" r="r" b="b"/>
              <a:pathLst>
                <a:path w="1630" h="2596">
                  <a:moveTo>
                    <a:pt x="1502" y="343"/>
                  </a:moveTo>
                  <a:lnTo>
                    <a:pt x="1521" y="341"/>
                  </a:lnTo>
                  <a:lnTo>
                    <a:pt x="1537" y="340"/>
                  </a:lnTo>
                  <a:lnTo>
                    <a:pt x="1552" y="340"/>
                  </a:lnTo>
                  <a:lnTo>
                    <a:pt x="1565" y="341"/>
                  </a:lnTo>
                  <a:lnTo>
                    <a:pt x="1576" y="342"/>
                  </a:lnTo>
                  <a:lnTo>
                    <a:pt x="1586" y="344"/>
                  </a:lnTo>
                  <a:lnTo>
                    <a:pt x="1595" y="348"/>
                  </a:lnTo>
                  <a:lnTo>
                    <a:pt x="1602" y="350"/>
                  </a:lnTo>
                  <a:lnTo>
                    <a:pt x="1612" y="356"/>
                  </a:lnTo>
                  <a:lnTo>
                    <a:pt x="1618" y="363"/>
                  </a:lnTo>
                  <a:lnTo>
                    <a:pt x="1622" y="368"/>
                  </a:lnTo>
                  <a:lnTo>
                    <a:pt x="1623" y="369"/>
                  </a:lnTo>
                  <a:lnTo>
                    <a:pt x="1626" y="380"/>
                  </a:lnTo>
                  <a:lnTo>
                    <a:pt x="1628" y="391"/>
                  </a:lnTo>
                  <a:lnTo>
                    <a:pt x="1629" y="403"/>
                  </a:lnTo>
                  <a:lnTo>
                    <a:pt x="1630" y="416"/>
                  </a:lnTo>
                  <a:lnTo>
                    <a:pt x="1629" y="430"/>
                  </a:lnTo>
                  <a:lnTo>
                    <a:pt x="1627" y="444"/>
                  </a:lnTo>
                  <a:lnTo>
                    <a:pt x="1624" y="457"/>
                  </a:lnTo>
                  <a:lnTo>
                    <a:pt x="1620" y="471"/>
                  </a:lnTo>
                  <a:lnTo>
                    <a:pt x="1615" y="484"/>
                  </a:lnTo>
                  <a:lnTo>
                    <a:pt x="1608" y="496"/>
                  </a:lnTo>
                  <a:lnTo>
                    <a:pt x="1602" y="507"/>
                  </a:lnTo>
                  <a:lnTo>
                    <a:pt x="1594" y="519"/>
                  </a:lnTo>
                  <a:lnTo>
                    <a:pt x="1584" y="527"/>
                  </a:lnTo>
                  <a:lnTo>
                    <a:pt x="1574" y="536"/>
                  </a:lnTo>
                  <a:lnTo>
                    <a:pt x="1563" y="542"/>
                  </a:lnTo>
                  <a:lnTo>
                    <a:pt x="1552" y="546"/>
                  </a:lnTo>
                  <a:lnTo>
                    <a:pt x="1543" y="544"/>
                  </a:lnTo>
                  <a:lnTo>
                    <a:pt x="1534" y="542"/>
                  </a:lnTo>
                  <a:lnTo>
                    <a:pt x="1527" y="539"/>
                  </a:lnTo>
                  <a:lnTo>
                    <a:pt x="1522" y="535"/>
                  </a:lnTo>
                  <a:lnTo>
                    <a:pt x="1511" y="529"/>
                  </a:lnTo>
                  <a:lnTo>
                    <a:pt x="1501" y="523"/>
                  </a:lnTo>
                  <a:lnTo>
                    <a:pt x="1496" y="520"/>
                  </a:lnTo>
                  <a:lnTo>
                    <a:pt x="1491" y="517"/>
                  </a:lnTo>
                  <a:lnTo>
                    <a:pt x="1484" y="515"/>
                  </a:lnTo>
                  <a:lnTo>
                    <a:pt x="1478" y="514"/>
                  </a:lnTo>
                  <a:lnTo>
                    <a:pt x="1471" y="513"/>
                  </a:lnTo>
                  <a:lnTo>
                    <a:pt x="1462" y="513"/>
                  </a:lnTo>
                  <a:lnTo>
                    <a:pt x="1453" y="514"/>
                  </a:lnTo>
                  <a:lnTo>
                    <a:pt x="1442" y="515"/>
                  </a:lnTo>
                  <a:lnTo>
                    <a:pt x="1463" y="532"/>
                  </a:lnTo>
                  <a:lnTo>
                    <a:pt x="1488" y="553"/>
                  </a:lnTo>
                  <a:lnTo>
                    <a:pt x="1494" y="560"/>
                  </a:lnTo>
                  <a:lnTo>
                    <a:pt x="1501" y="567"/>
                  </a:lnTo>
                  <a:lnTo>
                    <a:pt x="1506" y="575"/>
                  </a:lnTo>
                  <a:lnTo>
                    <a:pt x="1512" y="584"/>
                  </a:lnTo>
                  <a:lnTo>
                    <a:pt x="1517" y="594"/>
                  </a:lnTo>
                  <a:lnTo>
                    <a:pt x="1523" y="604"/>
                  </a:lnTo>
                  <a:lnTo>
                    <a:pt x="1527" y="616"/>
                  </a:lnTo>
                  <a:lnTo>
                    <a:pt x="1531" y="628"/>
                  </a:lnTo>
                  <a:lnTo>
                    <a:pt x="1534" y="643"/>
                  </a:lnTo>
                  <a:lnTo>
                    <a:pt x="1536" y="657"/>
                  </a:lnTo>
                  <a:lnTo>
                    <a:pt x="1538" y="674"/>
                  </a:lnTo>
                  <a:lnTo>
                    <a:pt x="1538" y="692"/>
                  </a:lnTo>
                  <a:lnTo>
                    <a:pt x="1538" y="712"/>
                  </a:lnTo>
                  <a:lnTo>
                    <a:pt x="1537" y="732"/>
                  </a:lnTo>
                  <a:lnTo>
                    <a:pt x="1536" y="754"/>
                  </a:lnTo>
                  <a:lnTo>
                    <a:pt x="1533" y="778"/>
                  </a:lnTo>
                  <a:lnTo>
                    <a:pt x="1528" y="804"/>
                  </a:lnTo>
                  <a:lnTo>
                    <a:pt x="1522" y="832"/>
                  </a:lnTo>
                  <a:lnTo>
                    <a:pt x="1515" y="860"/>
                  </a:lnTo>
                  <a:lnTo>
                    <a:pt x="1506" y="893"/>
                  </a:lnTo>
                  <a:lnTo>
                    <a:pt x="1496" y="926"/>
                  </a:lnTo>
                  <a:lnTo>
                    <a:pt x="1485" y="961"/>
                  </a:lnTo>
                  <a:lnTo>
                    <a:pt x="1472" y="998"/>
                  </a:lnTo>
                  <a:lnTo>
                    <a:pt x="1457" y="1038"/>
                  </a:lnTo>
                  <a:lnTo>
                    <a:pt x="1455" y="1019"/>
                  </a:lnTo>
                  <a:lnTo>
                    <a:pt x="1452" y="995"/>
                  </a:lnTo>
                  <a:lnTo>
                    <a:pt x="1448" y="965"/>
                  </a:lnTo>
                  <a:lnTo>
                    <a:pt x="1443" y="931"/>
                  </a:lnTo>
                  <a:lnTo>
                    <a:pt x="1436" y="895"/>
                  </a:lnTo>
                  <a:lnTo>
                    <a:pt x="1428" y="856"/>
                  </a:lnTo>
                  <a:lnTo>
                    <a:pt x="1419" y="816"/>
                  </a:lnTo>
                  <a:lnTo>
                    <a:pt x="1411" y="776"/>
                  </a:lnTo>
                  <a:lnTo>
                    <a:pt x="1401" y="736"/>
                  </a:lnTo>
                  <a:lnTo>
                    <a:pt x="1389" y="698"/>
                  </a:lnTo>
                  <a:lnTo>
                    <a:pt x="1378" y="664"/>
                  </a:lnTo>
                  <a:lnTo>
                    <a:pt x="1367" y="633"/>
                  </a:lnTo>
                  <a:lnTo>
                    <a:pt x="1361" y="620"/>
                  </a:lnTo>
                  <a:lnTo>
                    <a:pt x="1355" y="606"/>
                  </a:lnTo>
                  <a:lnTo>
                    <a:pt x="1348" y="595"/>
                  </a:lnTo>
                  <a:lnTo>
                    <a:pt x="1343" y="585"/>
                  </a:lnTo>
                  <a:lnTo>
                    <a:pt x="1336" y="577"/>
                  </a:lnTo>
                  <a:lnTo>
                    <a:pt x="1329" y="572"/>
                  </a:lnTo>
                  <a:lnTo>
                    <a:pt x="1323" y="567"/>
                  </a:lnTo>
                  <a:lnTo>
                    <a:pt x="1317" y="564"/>
                  </a:lnTo>
                  <a:lnTo>
                    <a:pt x="1298" y="522"/>
                  </a:lnTo>
                  <a:lnTo>
                    <a:pt x="1275" y="472"/>
                  </a:lnTo>
                  <a:lnTo>
                    <a:pt x="1262" y="445"/>
                  </a:lnTo>
                  <a:lnTo>
                    <a:pt x="1247" y="418"/>
                  </a:lnTo>
                  <a:lnTo>
                    <a:pt x="1232" y="390"/>
                  </a:lnTo>
                  <a:lnTo>
                    <a:pt x="1215" y="362"/>
                  </a:lnTo>
                  <a:lnTo>
                    <a:pt x="1197" y="335"/>
                  </a:lnTo>
                  <a:lnTo>
                    <a:pt x="1181" y="308"/>
                  </a:lnTo>
                  <a:lnTo>
                    <a:pt x="1162" y="282"/>
                  </a:lnTo>
                  <a:lnTo>
                    <a:pt x="1144" y="258"/>
                  </a:lnTo>
                  <a:lnTo>
                    <a:pt x="1125" y="234"/>
                  </a:lnTo>
                  <a:lnTo>
                    <a:pt x="1106" y="213"/>
                  </a:lnTo>
                  <a:lnTo>
                    <a:pt x="1087" y="194"/>
                  </a:lnTo>
                  <a:lnTo>
                    <a:pt x="1069" y="179"/>
                  </a:lnTo>
                  <a:lnTo>
                    <a:pt x="1062" y="181"/>
                  </a:lnTo>
                  <a:lnTo>
                    <a:pt x="1056" y="182"/>
                  </a:lnTo>
                  <a:lnTo>
                    <a:pt x="1050" y="184"/>
                  </a:lnTo>
                  <a:lnTo>
                    <a:pt x="1043" y="187"/>
                  </a:lnTo>
                  <a:lnTo>
                    <a:pt x="1036" y="190"/>
                  </a:lnTo>
                  <a:lnTo>
                    <a:pt x="1030" y="193"/>
                  </a:lnTo>
                  <a:lnTo>
                    <a:pt x="1024" y="198"/>
                  </a:lnTo>
                  <a:lnTo>
                    <a:pt x="1017" y="203"/>
                  </a:lnTo>
                  <a:lnTo>
                    <a:pt x="1040" y="228"/>
                  </a:lnTo>
                  <a:lnTo>
                    <a:pt x="1063" y="251"/>
                  </a:lnTo>
                  <a:lnTo>
                    <a:pt x="1085" y="273"/>
                  </a:lnTo>
                  <a:lnTo>
                    <a:pt x="1107" y="295"/>
                  </a:lnTo>
                  <a:lnTo>
                    <a:pt x="1117" y="307"/>
                  </a:lnTo>
                  <a:lnTo>
                    <a:pt x="1127" y="319"/>
                  </a:lnTo>
                  <a:lnTo>
                    <a:pt x="1136" y="330"/>
                  </a:lnTo>
                  <a:lnTo>
                    <a:pt x="1145" y="342"/>
                  </a:lnTo>
                  <a:lnTo>
                    <a:pt x="1153" y="354"/>
                  </a:lnTo>
                  <a:lnTo>
                    <a:pt x="1160" y="366"/>
                  </a:lnTo>
                  <a:lnTo>
                    <a:pt x="1165" y="380"/>
                  </a:lnTo>
                  <a:lnTo>
                    <a:pt x="1171" y="393"/>
                  </a:lnTo>
                  <a:lnTo>
                    <a:pt x="1182" y="410"/>
                  </a:lnTo>
                  <a:lnTo>
                    <a:pt x="1192" y="426"/>
                  </a:lnTo>
                  <a:lnTo>
                    <a:pt x="1202" y="443"/>
                  </a:lnTo>
                  <a:lnTo>
                    <a:pt x="1211" y="461"/>
                  </a:lnTo>
                  <a:lnTo>
                    <a:pt x="1226" y="496"/>
                  </a:lnTo>
                  <a:lnTo>
                    <a:pt x="1241" y="532"/>
                  </a:lnTo>
                  <a:lnTo>
                    <a:pt x="1254" y="567"/>
                  </a:lnTo>
                  <a:lnTo>
                    <a:pt x="1267" y="601"/>
                  </a:lnTo>
                  <a:lnTo>
                    <a:pt x="1281" y="632"/>
                  </a:lnTo>
                  <a:lnTo>
                    <a:pt x="1295" y="661"/>
                  </a:lnTo>
                  <a:lnTo>
                    <a:pt x="1007" y="330"/>
                  </a:lnTo>
                  <a:lnTo>
                    <a:pt x="999" y="327"/>
                  </a:lnTo>
                  <a:lnTo>
                    <a:pt x="991" y="324"/>
                  </a:lnTo>
                  <a:lnTo>
                    <a:pt x="983" y="323"/>
                  </a:lnTo>
                  <a:lnTo>
                    <a:pt x="977" y="323"/>
                  </a:lnTo>
                  <a:lnTo>
                    <a:pt x="971" y="323"/>
                  </a:lnTo>
                  <a:lnTo>
                    <a:pt x="966" y="325"/>
                  </a:lnTo>
                  <a:lnTo>
                    <a:pt x="962" y="329"/>
                  </a:lnTo>
                  <a:lnTo>
                    <a:pt x="957" y="332"/>
                  </a:lnTo>
                  <a:lnTo>
                    <a:pt x="955" y="335"/>
                  </a:lnTo>
                  <a:lnTo>
                    <a:pt x="953" y="340"/>
                  </a:lnTo>
                  <a:lnTo>
                    <a:pt x="951" y="344"/>
                  </a:lnTo>
                  <a:lnTo>
                    <a:pt x="951" y="350"/>
                  </a:lnTo>
                  <a:lnTo>
                    <a:pt x="951" y="354"/>
                  </a:lnTo>
                  <a:lnTo>
                    <a:pt x="951" y="360"/>
                  </a:lnTo>
                  <a:lnTo>
                    <a:pt x="952" y="364"/>
                  </a:lnTo>
                  <a:lnTo>
                    <a:pt x="954" y="369"/>
                  </a:lnTo>
                  <a:lnTo>
                    <a:pt x="1012" y="428"/>
                  </a:lnTo>
                  <a:lnTo>
                    <a:pt x="1070" y="485"/>
                  </a:lnTo>
                  <a:lnTo>
                    <a:pt x="1097" y="515"/>
                  </a:lnTo>
                  <a:lnTo>
                    <a:pt x="1125" y="544"/>
                  </a:lnTo>
                  <a:lnTo>
                    <a:pt x="1151" y="574"/>
                  </a:lnTo>
                  <a:lnTo>
                    <a:pt x="1177" y="604"/>
                  </a:lnTo>
                  <a:lnTo>
                    <a:pt x="1202" y="635"/>
                  </a:lnTo>
                  <a:lnTo>
                    <a:pt x="1224" y="667"/>
                  </a:lnTo>
                  <a:lnTo>
                    <a:pt x="1246" y="699"/>
                  </a:lnTo>
                  <a:lnTo>
                    <a:pt x="1266" y="733"/>
                  </a:lnTo>
                  <a:lnTo>
                    <a:pt x="1275" y="749"/>
                  </a:lnTo>
                  <a:lnTo>
                    <a:pt x="1284" y="767"/>
                  </a:lnTo>
                  <a:lnTo>
                    <a:pt x="1292" y="784"/>
                  </a:lnTo>
                  <a:lnTo>
                    <a:pt x="1300" y="802"/>
                  </a:lnTo>
                  <a:lnTo>
                    <a:pt x="1307" y="820"/>
                  </a:lnTo>
                  <a:lnTo>
                    <a:pt x="1314" y="838"/>
                  </a:lnTo>
                  <a:lnTo>
                    <a:pt x="1319" y="857"/>
                  </a:lnTo>
                  <a:lnTo>
                    <a:pt x="1325" y="876"/>
                  </a:lnTo>
                  <a:lnTo>
                    <a:pt x="1338" y="909"/>
                  </a:lnTo>
                  <a:lnTo>
                    <a:pt x="1352" y="943"/>
                  </a:lnTo>
                  <a:lnTo>
                    <a:pt x="1364" y="977"/>
                  </a:lnTo>
                  <a:lnTo>
                    <a:pt x="1374" y="1011"/>
                  </a:lnTo>
                  <a:lnTo>
                    <a:pt x="1384" y="1047"/>
                  </a:lnTo>
                  <a:lnTo>
                    <a:pt x="1393" y="1081"/>
                  </a:lnTo>
                  <a:lnTo>
                    <a:pt x="1401" y="1118"/>
                  </a:lnTo>
                  <a:lnTo>
                    <a:pt x="1408" y="1153"/>
                  </a:lnTo>
                  <a:lnTo>
                    <a:pt x="1422" y="1227"/>
                  </a:lnTo>
                  <a:lnTo>
                    <a:pt x="1433" y="1300"/>
                  </a:lnTo>
                  <a:lnTo>
                    <a:pt x="1443" y="1374"/>
                  </a:lnTo>
                  <a:lnTo>
                    <a:pt x="1452" y="1450"/>
                  </a:lnTo>
                  <a:lnTo>
                    <a:pt x="1453" y="1493"/>
                  </a:lnTo>
                  <a:lnTo>
                    <a:pt x="1453" y="1534"/>
                  </a:lnTo>
                  <a:lnTo>
                    <a:pt x="1452" y="1575"/>
                  </a:lnTo>
                  <a:lnTo>
                    <a:pt x="1448" y="1615"/>
                  </a:lnTo>
                  <a:lnTo>
                    <a:pt x="1443" y="1655"/>
                  </a:lnTo>
                  <a:lnTo>
                    <a:pt x="1436" y="1693"/>
                  </a:lnTo>
                  <a:lnTo>
                    <a:pt x="1428" y="1731"/>
                  </a:lnTo>
                  <a:lnTo>
                    <a:pt x="1419" y="1767"/>
                  </a:lnTo>
                  <a:lnTo>
                    <a:pt x="1408" y="1804"/>
                  </a:lnTo>
                  <a:lnTo>
                    <a:pt x="1396" y="1838"/>
                  </a:lnTo>
                  <a:lnTo>
                    <a:pt x="1383" y="1874"/>
                  </a:lnTo>
                  <a:lnTo>
                    <a:pt x="1368" y="1907"/>
                  </a:lnTo>
                  <a:lnTo>
                    <a:pt x="1352" y="1940"/>
                  </a:lnTo>
                  <a:lnTo>
                    <a:pt x="1335" y="1973"/>
                  </a:lnTo>
                  <a:lnTo>
                    <a:pt x="1316" y="2005"/>
                  </a:lnTo>
                  <a:lnTo>
                    <a:pt x="1297" y="2036"/>
                  </a:lnTo>
                  <a:lnTo>
                    <a:pt x="1276" y="2067"/>
                  </a:lnTo>
                  <a:lnTo>
                    <a:pt x="1255" y="2097"/>
                  </a:lnTo>
                  <a:lnTo>
                    <a:pt x="1232" y="2127"/>
                  </a:lnTo>
                  <a:lnTo>
                    <a:pt x="1208" y="2156"/>
                  </a:lnTo>
                  <a:lnTo>
                    <a:pt x="1184" y="2185"/>
                  </a:lnTo>
                  <a:lnTo>
                    <a:pt x="1160" y="2214"/>
                  </a:lnTo>
                  <a:lnTo>
                    <a:pt x="1133" y="2241"/>
                  </a:lnTo>
                  <a:lnTo>
                    <a:pt x="1106" y="2269"/>
                  </a:lnTo>
                  <a:lnTo>
                    <a:pt x="1079" y="2296"/>
                  </a:lnTo>
                  <a:lnTo>
                    <a:pt x="1050" y="2322"/>
                  </a:lnTo>
                  <a:lnTo>
                    <a:pt x="1021" y="2349"/>
                  </a:lnTo>
                  <a:lnTo>
                    <a:pt x="992" y="2376"/>
                  </a:lnTo>
                  <a:lnTo>
                    <a:pt x="931" y="2427"/>
                  </a:lnTo>
                  <a:lnTo>
                    <a:pt x="868" y="2478"/>
                  </a:lnTo>
                  <a:lnTo>
                    <a:pt x="866" y="2477"/>
                  </a:lnTo>
                  <a:lnTo>
                    <a:pt x="864" y="2477"/>
                  </a:lnTo>
                  <a:lnTo>
                    <a:pt x="862" y="2478"/>
                  </a:lnTo>
                  <a:lnTo>
                    <a:pt x="858" y="2479"/>
                  </a:lnTo>
                  <a:lnTo>
                    <a:pt x="849" y="2484"/>
                  </a:lnTo>
                  <a:lnTo>
                    <a:pt x="836" y="2492"/>
                  </a:lnTo>
                  <a:lnTo>
                    <a:pt x="804" y="2514"/>
                  </a:lnTo>
                  <a:lnTo>
                    <a:pt x="762" y="2539"/>
                  </a:lnTo>
                  <a:lnTo>
                    <a:pt x="738" y="2551"/>
                  </a:lnTo>
                  <a:lnTo>
                    <a:pt x="711" y="2563"/>
                  </a:lnTo>
                  <a:lnTo>
                    <a:pt x="682" y="2574"/>
                  </a:lnTo>
                  <a:lnTo>
                    <a:pt x="653" y="2583"/>
                  </a:lnTo>
                  <a:lnTo>
                    <a:pt x="638" y="2588"/>
                  </a:lnTo>
                  <a:lnTo>
                    <a:pt x="621" y="2591"/>
                  </a:lnTo>
                  <a:lnTo>
                    <a:pt x="605" y="2593"/>
                  </a:lnTo>
                  <a:lnTo>
                    <a:pt x="589" y="2595"/>
                  </a:lnTo>
                  <a:lnTo>
                    <a:pt x="572" y="2596"/>
                  </a:lnTo>
                  <a:lnTo>
                    <a:pt x="555" y="2596"/>
                  </a:lnTo>
                  <a:lnTo>
                    <a:pt x="538" y="2595"/>
                  </a:lnTo>
                  <a:lnTo>
                    <a:pt x="520" y="2594"/>
                  </a:lnTo>
                  <a:lnTo>
                    <a:pt x="497" y="2566"/>
                  </a:lnTo>
                  <a:lnTo>
                    <a:pt x="529" y="2507"/>
                  </a:lnTo>
                  <a:lnTo>
                    <a:pt x="573" y="2420"/>
                  </a:lnTo>
                  <a:lnTo>
                    <a:pt x="598" y="2369"/>
                  </a:lnTo>
                  <a:lnTo>
                    <a:pt x="624" y="2311"/>
                  </a:lnTo>
                  <a:lnTo>
                    <a:pt x="638" y="2281"/>
                  </a:lnTo>
                  <a:lnTo>
                    <a:pt x="650" y="2249"/>
                  </a:lnTo>
                  <a:lnTo>
                    <a:pt x="663" y="2216"/>
                  </a:lnTo>
                  <a:lnTo>
                    <a:pt x="675" y="2181"/>
                  </a:lnTo>
                  <a:lnTo>
                    <a:pt x="689" y="2146"/>
                  </a:lnTo>
                  <a:lnTo>
                    <a:pt x="700" y="2109"/>
                  </a:lnTo>
                  <a:lnTo>
                    <a:pt x="712" y="2071"/>
                  </a:lnTo>
                  <a:lnTo>
                    <a:pt x="723" y="2033"/>
                  </a:lnTo>
                  <a:lnTo>
                    <a:pt x="733" y="1993"/>
                  </a:lnTo>
                  <a:lnTo>
                    <a:pt x="742" y="1950"/>
                  </a:lnTo>
                  <a:lnTo>
                    <a:pt x="751" y="1908"/>
                  </a:lnTo>
                  <a:lnTo>
                    <a:pt x="759" y="1865"/>
                  </a:lnTo>
                  <a:lnTo>
                    <a:pt x="765" y="1822"/>
                  </a:lnTo>
                  <a:lnTo>
                    <a:pt x="771" y="1776"/>
                  </a:lnTo>
                  <a:lnTo>
                    <a:pt x="775" y="1731"/>
                  </a:lnTo>
                  <a:lnTo>
                    <a:pt x="779" y="1683"/>
                  </a:lnTo>
                  <a:lnTo>
                    <a:pt x="781" y="1635"/>
                  </a:lnTo>
                  <a:lnTo>
                    <a:pt x="781" y="1586"/>
                  </a:lnTo>
                  <a:lnTo>
                    <a:pt x="780" y="1538"/>
                  </a:lnTo>
                  <a:lnTo>
                    <a:pt x="776" y="1488"/>
                  </a:lnTo>
                  <a:lnTo>
                    <a:pt x="782" y="1494"/>
                  </a:lnTo>
                  <a:lnTo>
                    <a:pt x="790" y="1502"/>
                  </a:lnTo>
                  <a:lnTo>
                    <a:pt x="800" y="1510"/>
                  </a:lnTo>
                  <a:lnTo>
                    <a:pt x="811" y="1516"/>
                  </a:lnTo>
                  <a:lnTo>
                    <a:pt x="823" y="1524"/>
                  </a:lnTo>
                  <a:lnTo>
                    <a:pt x="838" y="1531"/>
                  </a:lnTo>
                  <a:lnTo>
                    <a:pt x="852" y="1538"/>
                  </a:lnTo>
                  <a:lnTo>
                    <a:pt x="868" y="1543"/>
                  </a:lnTo>
                  <a:lnTo>
                    <a:pt x="899" y="1554"/>
                  </a:lnTo>
                  <a:lnTo>
                    <a:pt x="930" y="1563"/>
                  </a:lnTo>
                  <a:lnTo>
                    <a:pt x="944" y="1566"/>
                  </a:lnTo>
                  <a:lnTo>
                    <a:pt x="957" y="1569"/>
                  </a:lnTo>
                  <a:lnTo>
                    <a:pt x="970" y="1571"/>
                  </a:lnTo>
                  <a:lnTo>
                    <a:pt x="980" y="1572"/>
                  </a:lnTo>
                  <a:lnTo>
                    <a:pt x="989" y="1573"/>
                  </a:lnTo>
                  <a:lnTo>
                    <a:pt x="999" y="1575"/>
                  </a:lnTo>
                  <a:lnTo>
                    <a:pt x="1010" y="1575"/>
                  </a:lnTo>
                  <a:lnTo>
                    <a:pt x="1021" y="1576"/>
                  </a:lnTo>
                  <a:lnTo>
                    <a:pt x="1044" y="1575"/>
                  </a:lnTo>
                  <a:lnTo>
                    <a:pt x="1070" y="1572"/>
                  </a:lnTo>
                  <a:lnTo>
                    <a:pt x="1096" y="1567"/>
                  </a:lnTo>
                  <a:lnTo>
                    <a:pt x="1122" y="1561"/>
                  </a:lnTo>
                  <a:lnTo>
                    <a:pt x="1148" y="1552"/>
                  </a:lnTo>
                  <a:lnTo>
                    <a:pt x="1173" y="1543"/>
                  </a:lnTo>
                  <a:lnTo>
                    <a:pt x="1195" y="1532"/>
                  </a:lnTo>
                  <a:lnTo>
                    <a:pt x="1216" y="1520"/>
                  </a:lnTo>
                  <a:lnTo>
                    <a:pt x="1225" y="1514"/>
                  </a:lnTo>
                  <a:lnTo>
                    <a:pt x="1233" y="1508"/>
                  </a:lnTo>
                  <a:lnTo>
                    <a:pt x="1240" y="1501"/>
                  </a:lnTo>
                  <a:lnTo>
                    <a:pt x="1246" y="1493"/>
                  </a:lnTo>
                  <a:lnTo>
                    <a:pt x="1251" y="1486"/>
                  </a:lnTo>
                  <a:lnTo>
                    <a:pt x="1254" y="1479"/>
                  </a:lnTo>
                  <a:lnTo>
                    <a:pt x="1256" y="1471"/>
                  </a:lnTo>
                  <a:lnTo>
                    <a:pt x="1257" y="1463"/>
                  </a:lnTo>
                  <a:lnTo>
                    <a:pt x="1257" y="1455"/>
                  </a:lnTo>
                  <a:lnTo>
                    <a:pt x="1255" y="1448"/>
                  </a:lnTo>
                  <a:lnTo>
                    <a:pt x="1251" y="1440"/>
                  </a:lnTo>
                  <a:lnTo>
                    <a:pt x="1246" y="1432"/>
                  </a:lnTo>
                  <a:lnTo>
                    <a:pt x="1240" y="1423"/>
                  </a:lnTo>
                  <a:lnTo>
                    <a:pt x="1233" y="1414"/>
                  </a:lnTo>
                  <a:lnTo>
                    <a:pt x="1225" y="1405"/>
                  </a:lnTo>
                  <a:lnTo>
                    <a:pt x="1216" y="1398"/>
                  </a:lnTo>
                  <a:lnTo>
                    <a:pt x="1197" y="1381"/>
                  </a:lnTo>
                  <a:lnTo>
                    <a:pt x="1176" y="1365"/>
                  </a:lnTo>
                  <a:lnTo>
                    <a:pt x="1154" y="1350"/>
                  </a:lnTo>
                  <a:lnTo>
                    <a:pt x="1131" y="1336"/>
                  </a:lnTo>
                  <a:lnTo>
                    <a:pt x="1107" y="1322"/>
                  </a:lnTo>
                  <a:lnTo>
                    <a:pt x="1084" y="1310"/>
                  </a:lnTo>
                  <a:lnTo>
                    <a:pt x="1040" y="1288"/>
                  </a:lnTo>
                  <a:lnTo>
                    <a:pt x="1002" y="1271"/>
                  </a:lnTo>
                  <a:lnTo>
                    <a:pt x="976" y="1261"/>
                  </a:lnTo>
                  <a:lnTo>
                    <a:pt x="967" y="1257"/>
                  </a:lnTo>
                  <a:lnTo>
                    <a:pt x="943" y="1231"/>
                  </a:lnTo>
                  <a:lnTo>
                    <a:pt x="916" y="1206"/>
                  </a:lnTo>
                  <a:lnTo>
                    <a:pt x="890" y="1179"/>
                  </a:lnTo>
                  <a:lnTo>
                    <a:pt x="861" y="1153"/>
                  </a:lnTo>
                  <a:lnTo>
                    <a:pt x="831" y="1127"/>
                  </a:lnTo>
                  <a:lnTo>
                    <a:pt x="801" y="1100"/>
                  </a:lnTo>
                  <a:lnTo>
                    <a:pt x="769" y="1074"/>
                  </a:lnTo>
                  <a:lnTo>
                    <a:pt x="736" y="1047"/>
                  </a:lnTo>
                  <a:lnTo>
                    <a:pt x="670" y="996"/>
                  </a:lnTo>
                  <a:lnTo>
                    <a:pt x="601" y="944"/>
                  </a:lnTo>
                  <a:lnTo>
                    <a:pt x="531" y="895"/>
                  </a:lnTo>
                  <a:lnTo>
                    <a:pt x="462" y="847"/>
                  </a:lnTo>
                  <a:lnTo>
                    <a:pt x="392" y="803"/>
                  </a:lnTo>
                  <a:lnTo>
                    <a:pt x="324" y="761"/>
                  </a:lnTo>
                  <a:lnTo>
                    <a:pt x="260" y="722"/>
                  </a:lnTo>
                  <a:lnTo>
                    <a:pt x="198" y="687"/>
                  </a:lnTo>
                  <a:lnTo>
                    <a:pt x="168" y="672"/>
                  </a:lnTo>
                  <a:lnTo>
                    <a:pt x="140" y="657"/>
                  </a:lnTo>
                  <a:lnTo>
                    <a:pt x="112" y="644"/>
                  </a:lnTo>
                  <a:lnTo>
                    <a:pt x="87" y="633"/>
                  </a:lnTo>
                  <a:lnTo>
                    <a:pt x="62" y="622"/>
                  </a:lnTo>
                  <a:lnTo>
                    <a:pt x="40" y="613"/>
                  </a:lnTo>
                  <a:lnTo>
                    <a:pt x="19" y="605"/>
                  </a:lnTo>
                  <a:lnTo>
                    <a:pt x="0" y="600"/>
                  </a:lnTo>
                  <a:lnTo>
                    <a:pt x="72" y="578"/>
                  </a:lnTo>
                  <a:lnTo>
                    <a:pt x="147" y="555"/>
                  </a:lnTo>
                  <a:lnTo>
                    <a:pt x="221" y="531"/>
                  </a:lnTo>
                  <a:lnTo>
                    <a:pt x="296" y="504"/>
                  </a:lnTo>
                  <a:lnTo>
                    <a:pt x="370" y="477"/>
                  </a:lnTo>
                  <a:lnTo>
                    <a:pt x="444" y="448"/>
                  </a:lnTo>
                  <a:lnTo>
                    <a:pt x="517" y="418"/>
                  </a:lnTo>
                  <a:lnTo>
                    <a:pt x="588" y="386"/>
                  </a:lnTo>
                  <a:lnTo>
                    <a:pt x="657" y="354"/>
                  </a:lnTo>
                  <a:lnTo>
                    <a:pt x="722" y="320"/>
                  </a:lnTo>
                  <a:lnTo>
                    <a:pt x="754" y="303"/>
                  </a:lnTo>
                  <a:lnTo>
                    <a:pt x="785" y="285"/>
                  </a:lnTo>
                  <a:lnTo>
                    <a:pt x="816" y="269"/>
                  </a:lnTo>
                  <a:lnTo>
                    <a:pt x="845" y="251"/>
                  </a:lnTo>
                  <a:lnTo>
                    <a:pt x="874" y="232"/>
                  </a:lnTo>
                  <a:lnTo>
                    <a:pt x="902" y="214"/>
                  </a:lnTo>
                  <a:lnTo>
                    <a:pt x="929" y="197"/>
                  </a:lnTo>
                  <a:lnTo>
                    <a:pt x="954" y="178"/>
                  </a:lnTo>
                  <a:lnTo>
                    <a:pt x="979" y="159"/>
                  </a:lnTo>
                  <a:lnTo>
                    <a:pt x="1002" y="140"/>
                  </a:lnTo>
                  <a:lnTo>
                    <a:pt x="1023" y="121"/>
                  </a:lnTo>
                  <a:lnTo>
                    <a:pt x="1044" y="102"/>
                  </a:lnTo>
                  <a:lnTo>
                    <a:pt x="1134" y="0"/>
                  </a:lnTo>
                  <a:lnTo>
                    <a:pt x="1148" y="9"/>
                  </a:lnTo>
                  <a:lnTo>
                    <a:pt x="1162" y="18"/>
                  </a:lnTo>
                  <a:lnTo>
                    <a:pt x="1175" y="29"/>
                  </a:lnTo>
                  <a:lnTo>
                    <a:pt x="1187" y="39"/>
                  </a:lnTo>
                  <a:lnTo>
                    <a:pt x="1198" y="51"/>
                  </a:lnTo>
                  <a:lnTo>
                    <a:pt x="1211" y="62"/>
                  </a:lnTo>
                  <a:lnTo>
                    <a:pt x="1221" y="75"/>
                  </a:lnTo>
                  <a:lnTo>
                    <a:pt x="1232" y="88"/>
                  </a:lnTo>
                  <a:lnTo>
                    <a:pt x="1271" y="141"/>
                  </a:lnTo>
                  <a:lnTo>
                    <a:pt x="1308" y="196"/>
                  </a:lnTo>
                  <a:lnTo>
                    <a:pt x="1327" y="221"/>
                  </a:lnTo>
                  <a:lnTo>
                    <a:pt x="1346" y="247"/>
                  </a:lnTo>
                  <a:lnTo>
                    <a:pt x="1356" y="258"/>
                  </a:lnTo>
                  <a:lnTo>
                    <a:pt x="1367" y="270"/>
                  </a:lnTo>
                  <a:lnTo>
                    <a:pt x="1378" y="280"/>
                  </a:lnTo>
                  <a:lnTo>
                    <a:pt x="1389" y="291"/>
                  </a:lnTo>
                  <a:lnTo>
                    <a:pt x="1402" y="300"/>
                  </a:lnTo>
                  <a:lnTo>
                    <a:pt x="1414" y="309"/>
                  </a:lnTo>
                  <a:lnTo>
                    <a:pt x="1426" y="318"/>
                  </a:lnTo>
                  <a:lnTo>
                    <a:pt x="1441" y="324"/>
                  </a:lnTo>
                  <a:lnTo>
                    <a:pt x="1455" y="331"/>
                  </a:lnTo>
                  <a:lnTo>
                    <a:pt x="1469" y="335"/>
                  </a:lnTo>
                  <a:lnTo>
                    <a:pt x="1485" y="340"/>
                  </a:lnTo>
                  <a:lnTo>
                    <a:pt x="1502" y="34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5199120" y="5697720"/>
              <a:ext cx="44280" cy="90360"/>
            </a:xfrm>
            <a:custGeom>
              <a:avLst/>
              <a:gdLst/>
              <a:ahLst/>
              <a:rect l="l" t="t" r="r" b="b"/>
              <a:pathLst>
                <a:path w="137" h="284">
                  <a:moveTo>
                    <a:pt x="101" y="278"/>
                  </a:moveTo>
                  <a:lnTo>
                    <a:pt x="93" y="283"/>
                  </a:lnTo>
                  <a:lnTo>
                    <a:pt x="84" y="284"/>
                  </a:lnTo>
                  <a:lnTo>
                    <a:pt x="76" y="284"/>
                  </a:lnTo>
                  <a:lnTo>
                    <a:pt x="70" y="283"/>
                  </a:lnTo>
                  <a:lnTo>
                    <a:pt x="62" y="279"/>
                  </a:lnTo>
                  <a:lnTo>
                    <a:pt x="54" y="275"/>
                  </a:lnTo>
                  <a:lnTo>
                    <a:pt x="47" y="269"/>
                  </a:lnTo>
                  <a:lnTo>
                    <a:pt x="41" y="263"/>
                  </a:lnTo>
                  <a:lnTo>
                    <a:pt x="35" y="254"/>
                  </a:lnTo>
                  <a:lnTo>
                    <a:pt x="30" y="245"/>
                  </a:lnTo>
                  <a:lnTo>
                    <a:pt x="24" y="235"/>
                  </a:lnTo>
                  <a:lnTo>
                    <a:pt x="19" y="224"/>
                  </a:lnTo>
                  <a:lnTo>
                    <a:pt x="14" y="213"/>
                  </a:lnTo>
                  <a:lnTo>
                    <a:pt x="11" y="200"/>
                  </a:lnTo>
                  <a:lnTo>
                    <a:pt x="7" y="188"/>
                  </a:lnTo>
                  <a:lnTo>
                    <a:pt x="4" y="175"/>
                  </a:lnTo>
                  <a:lnTo>
                    <a:pt x="3" y="162"/>
                  </a:lnTo>
                  <a:lnTo>
                    <a:pt x="1" y="148"/>
                  </a:lnTo>
                  <a:lnTo>
                    <a:pt x="0" y="135"/>
                  </a:lnTo>
                  <a:lnTo>
                    <a:pt x="0" y="122"/>
                  </a:lnTo>
                  <a:lnTo>
                    <a:pt x="1" y="108"/>
                  </a:lnTo>
                  <a:lnTo>
                    <a:pt x="2" y="95"/>
                  </a:lnTo>
                  <a:lnTo>
                    <a:pt x="4" y="82"/>
                  </a:lnTo>
                  <a:lnTo>
                    <a:pt x="7" y="70"/>
                  </a:lnTo>
                  <a:lnTo>
                    <a:pt x="12" y="58"/>
                  </a:lnTo>
                  <a:lnTo>
                    <a:pt x="16" y="47"/>
                  </a:lnTo>
                  <a:lnTo>
                    <a:pt x="22" y="37"/>
                  </a:lnTo>
                  <a:lnTo>
                    <a:pt x="30" y="27"/>
                  </a:lnTo>
                  <a:lnTo>
                    <a:pt x="37" y="18"/>
                  </a:lnTo>
                  <a:lnTo>
                    <a:pt x="46" y="12"/>
                  </a:lnTo>
                  <a:lnTo>
                    <a:pt x="56" y="5"/>
                  </a:lnTo>
                  <a:lnTo>
                    <a:pt x="67" y="1"/>
                  </a:lnTo>
                  <a:lnTo>
                    <a:pt x="73" y="0"/>
                  </a:lnTo>
                  <a:lnTo>
                    <a:pt x="79" y="1"/>
                  </a:lnTo>
                  <a:lnTo>
                    <a:pt x="84" y="3"/>
                  </a:lnTo>
                  <a:lnTo>
                    <a:pt x="90" y="6"/>
                  </a:lnTo>
                  <a:lnTo>
                    <a:pt x="94" y="11"/>
                  </a:lnTo>
                  <a:lnTo>
                    <a:pt x="100" y="15"/>
                  </a:lnTo>
                  <a:lnTo>
                    <a:pt x="104" y="22"/>
                  </a:lnTo>
                  <a:lnTo>
                    <a:pt x="108" y="28"/>
                  </a:lnTo>
                  <a:lnTo>
                    <a:pt x="116" y="45"/>
                  </a:lnTo>
                  <a:lnTo>
                    <a:pt x="124" y="63"/>
                  </a:lnTo>
                  <a:lnTo>
                    <a:pt x="130" y="84"/>
                  </a:lnTo>
                  <a:lnTo>
                    <a:pt x="133" y="106"/>
                  </a:lnTo>
                  <a:lnTo>
                    <a:pt x="136" y="129"/>
                  </a:lnTo>
                  <a:lnTo>
                    <a:pt x="137" y="154"/>
                  </a:lnTo>
                  <a:lnTo>
                    <a:pt x="136" y="177"/>
                  </a:lnTo>
                  <a:lnTo>
                    <a:pt x="133" y="200"/>
                  </a:lnTo>
                  <a:lnTo>
                    <a:pt x="131" y="213"/>
                  </a:lnTo>
                  <a:lnTo>
                    <a:pt x="128" y="223"/>
                  </a:lnTo>
                  <a:lnTo>
                    <a:pt x="125" y="234"/>
                  </a:lnTo>
                  <a:lnTo>
                    <a:pt x="122" y="244"/>
                  </a:lnTo>
                  <a:lnTo>
                    <a:pt x="117" y="254"/>
                  </a:lnTo>
                  <a:lnTo>
                    <a:pt x="112" y="263"/>
                  </a:lnTo>
                  <a:lnTo>
                    <a:pt x="106" y="272"/>
                  </a:lnTo>
                  <a:lnTo>
                    <a:pt x="101" y="2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5376960" y="5764320"/>
              <a:ext cx="46080" cy="81000"/>
            </a:xfrm>
            <a:custGeom>
              <a:avLst/>
              <a:gdLst/>
              <a:ahLst/>
              <a:rect l="l" t="t" r="r" b="b"/>
              <a:pathLst>
                <a:path w="145" h="253">
                  <a:moveTo>
                    <a:pt x="111" y="249"/>
                  </a:moveTo>
                  <a:lnTo>
                    <a:pt x="97" y="252"/>
                  </a:lnTo>
                  <a:lnTo>
                    <a:pt x="85" y="253"/>
                  </a:lnTo>
                  <a:lnTo>
                    <a:pt x="75" y="253"/>
                  </a:lnTo>
                  <a:lnTo>
                    <a:pt x="67" y="252"/>
                  </a:lnTo>
                  <a:lnTo>
                    <a:pt x="60" y="249"/>
                  </a:lnTo>
                  <a:lnTo>
                    <a:pt x="55" y="246"/>
                  </a:lnTo>
                  <a:lnTo>
                    <a:pt x="50" y="242"/>
                  </a:lnTo>
                  <a:lnTo>
                    <a:pt x="47" y="236"/>
                  </a:lnTo>
                  <a:lnTo>
                    <a:pt x="41" y="223"/>
                  </a:lnTo>
                  <a:lnTo>
                    <a:pt x="35" y="205"/>
                  </a:lnTo>
                  <a:lnTo>
                    <a:pt x="28" y="183"/>
                  </a:lnTo>
                  <a:lnTo>
                    <a:pt x="17" y="157"/>
                  </a:lnTo>
                  <a:lnTo>
                    <a:pt x="10" y="144"/>
                  </a:lnTo>
                  <a:lnTo>
                    <a:pt x="6" y="131"/>
                  </a:lnTo>
                  <a:lnTo>
                    <a:pt x="2" y="118"/>
                  </a:lnTo>
                  <a:lnTo>
                    <a:pt x="1" y="106"/>
                  </a:lnTo>
                  <a:lnTo>
                    <a:pt x="0" y="95"/>
                  </a:lnTo>
                  <a:lnTo>
                    <a:pt x="1" y="84"/>
                  </a:lnTo>
                  <a:lnTo>
                    <a:pt x="4" y="74"/>
                  </a:lnTo>
                  <a:lnTo>
                    <a:pt x="8" y="64"/>
                  </a:lnTo>
                  <a:lnTo>
                    <a:pt x="14" y="55"/>
                  </a:lnTo>
                  <a:lnTo>
                    <a:pt x="20" y="46"/>
                  </a:lnTo>
                  <a:lnTo>
                    <a:pt x="28" y="39"/>
                  </a:lnTo>
                  <a:lnTo>
                    <a:pt x="37" y="30"/>
                  </a:lnTo>
                  <a:lnTo>
                    <a:pt x="48" y="22"/>
                  </a:lnTo>
                  <a:lnTo>
                    <a:pt x="61" y="14"/>
                  </a:lnTo>
                  <a:lnTo>
                    <a:pt x="75" y="7"/>
                  </a:lnTo>
                  <a:lnTo>
                    <a:pt x="90" y="0"/>
                  </a:lnTo>
                  <a:lnTo>
                    <a:pt x="97" y="1"/>
                  </a:lnTo>
                  <a:lnTo>
                    <a:pt x="104" y="3"/>
                  </a:lnTo>
                  <a:lnTo>
                    <a:pt x="109" y="6"/>
                  </a:lnTo>
                  <a:lnTo>
                    <a:pt x="115" y="10"/>
                  </a:lnTo>
                  <a:lnTo>
                    <a:pt x="119" y="14"/>
                  </a:lnTo>
                  <a:lnTo>
                    <a:pt x="124" y="20"/>
                  </a:lnTo>
                  <a:lnTo>
                    <a:pt x="127" y="25"/>
                  </a:lnTo>
                  <a:lnTo>
                    <a:pt x="131" y="32"/>
                  </a:lnTo>
                  <a:lnTo>
                    <a:pt x="137" y="47"/>
                  </a:lnTo>
                  <a:lnTo>
                    <a:pt x="140" y="64"/>
                  </a:lnTo>
                  <a:lnTo>
                    <a:pt x="144" y="82"/>
                  </a:lnTo>
                  <a:lnTo>
                    <a:pt x="145" y="102"/>
                  </a:lnTo>
                  <a:lnTo>
                    <a:pt x="145" y="122"/>
                  </a:lnTo>
                  <a:lnTo>
                    <a:pt x="142" y="142"/>
                  </a:lnTo>
                  <a:lnTo>
                    <a:pt x="140" y="163"/>
                  </a:lnTo>
                  <a:lnTo>
                    <a:pt x="137" y="183"/>
                  </a:lnTo>
                  <a:lnTo>
                    <a:pt x="131" y="202"/>
                  </a:lnTo>
                  <a:lnTo>
                    <a:pt x="126" y="219"/>
                  </a:lnTo>
                  <a:lnTo>
                    <a:pt x="119" y="235"/>
                  </a:lnTo>
                  <a:lnTo>
                    <a:pt x="111" y="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5504040" y="5130720"/>
              <a:ext cx="118800" cy="103320"/>
            </a:xfrm>
            <a:custGeom>
              <a:avLst/>
              <a:gdLst/>
              <a:ahLst/>
              <a:rect l="l" t="t" r="r" b="b"/>
              <a:pathLst>
                <a:path w="374" h="324">
                  <a:moveTo>
                    <a:pt x="344" y="102"/>
                  </a:moveTo>
                  <a:lnTo>
                    <a:pt x="344" y="112"/>
                  </a:lnTo>
                  <a:lnTo>
                    <a:pt x="346" y="121"/>
                  </a:lnTo>
                  <a:lnTo>
                    <a:pt x="347" y="130"/>
                  </a:lnTo>
                  <a:lnTo>
                    <a:pt x="349" y="139"/>
                  </a:lnTo>
                  <a:lnTo>
                    <a:pt x="356" y="154"/>
                  </a:lnTo>
                  <a:lnTo>
                    <a:pt x="362" y="170"/>
                  </a:lnTo>
                  <a:lnTo>
                    <a:pt x="369" y="187"/>
                  </a:lnTo>
                  <a:lnTo>
                    <a:pt x="373" y="203"/>
                  </a:lnTo>
                  <a:lnTo>
                    <a:pt x="374" y="212"/>
                  </a:lnTo>
                  <a:lnTo>
                    <a:pt x="374" y="221"/>
                  </a:lnTo>
                  <a:lnTo>
                    <a:pt x="373" y="231"/>
                  </a:lnTo>
                  <a:lnTo>
                    <a:pt x="371" y="242"/>
                  </a:lnTo>
                  <a:lnTo>
                    <a:pt x="363" y="258"/>
                  </a:lnTo>
                  <a:lnTo>
                    <a:pt x="354" y="274"/>
                  </a:lnTo>
                  <a:lnTo>
                    <a:pt x="344" y="291"/>
                  </a:lnTo>
                  <a:lnTo>
                    <a:pt x="332" y="304"/>
                  </a:lnTo>
                  <a:lnTo>
                    <a:pt x="326" y="311"/>
                  </a:lnTo>
                  <a:lnTo>
                    <a:pt x="320" y="316"/>
                  </a:lnTo>
                  <a:lnTo>
                    <a:pt x="313" y="320"/>
                  </a:lnTo>
                  <a:lnTo>
                    <a:pt x="307" y="323"/>
                  </a:lnTo>
                  <a:lnTo>
                    <a:pt x="300" y="324"/>
                  </a:lnTo>
                  <a:lnTo>
                    <a:pt x="293" y="324"/>
                  </a:lnTo>
                  <a:lnTo>
                    <a:pt x="288" y="323"/>
                  </a:lnTo>
                  <a:lnTo>
                    <a:pt x="281" y="320"/>
                  </a:lnTo>
                  <a:lnTo>
                    <a:pt x="274" y="309"/>
                  </a:lnTo>
                  <a:lnTo>
                    <a:pt x="269" y="299"/>
                  </a:lnTo>
                  <a:lnTo>
                    <a:pt x="262" y="292"/>
                  </a:lnTo>
                  <a:lnTo>
                    <a:pt x="256" y="285"/>
                  </a:lnTo>
                  <a:lnTo>
                    <a:pt x="248" y="282"/>
                  </a:lnTo>
                  <a:lnTo>
                    <a:pt x="241" y="279"/>
                  </a:lnTo>
                  <a:lnTo>
                    <a:pt x="234" y="278"/>
                  </a:lnTo>
                  <a:lnTo>
                    <a:pt x="228" y="276"/>
                  </a:lnTo>
                  <a:lnTo>
                    <a:pt x="220" y="278"/>
                  </a:lnTo>
                  <a:lnTo>
                    <a:pt x="213" y="279"/>
                  </a:lnTo>
                  <a:lnTo>
                    <a:pt x="206" y="282"/>
                  </a:lnTo>
                  <a:lnTo>
                    <a:pt x="199" y="284"/>
                  </a:lnTo>
                  <a:lnTo>
                    <a:pt x="185" y="292"/>
                  </a:lnTo>
                  <a:lnTo>
                    <a:pt x="170" y="300"/>
                  </a:lnTo>
                  <a:lnTo>
                    <a:pt x="156" y="308"/>
                  </a:lnTo>
                  <a:lnTo>
                    <a:pt x="142" y="314"/>
                  </a:lnTo>
                  <a:lnTo>
                    <a:pt x="136" y="317"/>
                  </a:lnTo>
                  <a:lnTo>
                    <a:pt x="130" y="319"/>
                  </a:lnTo>
                  <a:lnTo>
                    <a:pt x="123" y="320"/>
                  </a:lnTo>
                  <a:lnTo>
                    <a:pt x="118" y="320"/>
                  </a:lnTo>
                  <a:lnTo>
                    <a:pt x="111" y="319"/>
                  </a:lnTo>
                  <a:lnTo>
                    <a:pt x="106" y="316"/>
                  </a:lnTo>
                  <a:lnTo>
                    <a:pt x="100" y="312"/>
                  </a:lnTo>
                  <a:lnTo>
                    <a:pt x="96" y="306"/>
                  </a:lnTo>
                  <a:lnTo>
                    <a:pt x="90" y="300"/>
                  </a:lnTo>
                  <a:lnTo>
                    <a:pt x="86" y="291"/>
                  </a:lnTo>
                  <a:lnTo>
                    <a:pt x="82" y="280"/>
                  </a:lnTo>
                  <a:lnTo>
                    <a:pt x="78" y="266"/>
                  </a:lnTo>
                  <a:lnTo>
                    <a:pt x="78" y="259"/>
                  </a:lnTo>
                  <a:lnTo>
                    <a:pt x="77" y="251"/>
                  </a:lnTo>
                  <a:lnTo>
                    <a:pt x="75" y="243"/>
                  </a:lnTo>
                  <a:lnTo>
                    <a:pt x="73" y="236"/>
                  </a:lnTo>
                  <a:lnTo>
                    <a:pt x="67" y="222"/>
                  </a:lnTo>
                  <a:lnTo>
                    <a:pt x="60" y="209"/>
                  </a:lnTo>
                  <a:lnTo>
                    <a:pt x="43" y="183"/>
                  </a:lnTo>
                  <a:lnTo>
                    <a:pt x="26" y="159"/>
                  </a:lnTo>
                  <a:lnTo>
                    <a:pt x="17" y="147"/>
                  </a:lnTo>
                  <a:lnTo>
                    <a:pt x="10" y="134"/>
                  </a:lnTo>
                  <a:lnTo>
                    <a:pt x="5" y="122"/>
                  </a:lnTo>
                  <a:lnTo>
                    <a:pt x="1" y="109"/>
                  </a:lnTo>
                  <a:lnTo>
                    <a:pt x="0" y="103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1" y="82"/>
                  </a:lnTo>
                  <a:lnTo>
                    <a:pt x="3" y="74"/>
                  </a:lnTo>
                  <a:lnTo>
                    <a:pt x="6" y="68"/>
                  </a:lnTo>
                  <a:lnTo>
                    <a:pt x="10" y="60"/>
                  </a:lnTo>
                  <a:lnTo>
                    <a:pt x="15" y="52"/>
                  </a:lnTo>
                  <a:lnTo>
                    <a:pt x="27" y="46"/>
                  </a:lnTo>
                  <a:lnTo>
                    <a:pt x="40" y="40"/>
                  </a:lnTo>
                  <a:lnTo>
                    <a:pt x="52" y="36"/>
                  </a:lnTo>
                  <a:lnTo>
                    <a:pt x="66" y="31"/>
                  </a:lnTo>
                  <a:lnTo>
                    <a:pt x="78" y="29"/>
                  </a:lnTo>
                  <a:lnTo>
                    <a:pt x="91" y="27"/>
                  </a:lnTo>
                  <a:lnTo>
                    <a:pt x="103" y="24"/>
                  </a:lnTo>
                  <a:lnTo>
                    <a:pt x="116" y="24"/>
                  </a:lnTo>
                  <a:lnTo>
                    <a:pt x="129" y="24"/>
                  </a:lnTo>
                  <a:lnTo>
                    <a:pt x="141" y="27"/>
                  </a:lnTo>
                  <a:lnTo>
                    <a:pt x="155" y="29"/>
                  </a:lnTo>
                  <a:lnTo>
                    <a:pt x="167" y="31"/>
                  </a:lnTo>
                  <a:lnTo>
                    <a:pt x="179" y="36"/>
                  </a:lnTo>
                  <a:lnTo>
                    <a:pt x="192" y="40"/>
                  </a:lnTo>
                  <a:lnTo>
                    <a:pt x="205" y="46"/>
                  </a:lnTo>
                  <a:lnTo>
                    <a:pt x="218" y="52"/>
                  </a:lnTo>
                  <a:lnTo>
                    <a:pt x="220" y="43"/>
                  </a:lnTo>
                  <a:lnTo>
                    <a:pt x="223" y="34"/>
                  </a:lnTo>
                  <a:lnTo>
                    <a:pt x="228" y="28"/>
                  </a:lnTo>
                  <a:lnTo>
                    <a:pt x="232" y="21"/>
                  </a:lnTo>
                  <a:lnTo>
                    <a:pt x="237" y="16"/>
                  </a:lnTo>
                  <a:lnTo>
                    <a:pt x="242" y="11"/>
                  </a:lnTo>
                  <a:lnTo>
                    <a:pt x="248" y="8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6" y="1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1"/>
                  </a:lnTo>
                  <a:lnTo>
                    <a:pt x="298" y="3"/>
                  </a:lnTo>
                  <a:lnTo>
                    <a:pt x="304" y="6"/>
                  </a:lnTo>
                  <a:lnTo>
                    <a:pt x="310" y="8"/>
                  </a:lnTo>
                  <a:lnTo>
                    <a:pt x="316" y="11"/>
                  </a:lnTo>
                  <a:lnTo>
                    <a:pt x="321" y="16"/>
                  </a:lnTo>
                  <a:lnTo>
                    <a:pt x="327" y="20"/>
                  </a:lnTo>
                  <a:lnTo>
                    <a:pt x="331" y="24"/>
                  </a:lnTo>
                  <a:lnTo>
                    <a:pt x="336" y="30"/>
                  </a:lnTo>
                  <a:lnTo>
                    <a:pt x="340" y="36"/>
                  </a:lnTo>
                  <a:lnTo>
                    <a:pt x="343" y="41"/>
                  </a:lnTo>
                  <a:lnTo>
                    <a:pt x="346" y="48"/>
                  </a:lnTo>
                  <a:lnTo>
                    <a:pt x="348" y="54"/>
                  </a:lnTo>
                  <a:lnTo>
                    <a:pt x="350" y="62"/>
                  </a:lnTo>
                  <a:lnTo>
                    <a:pt x="350" y="70"/>
                  </a:lnTo>
                  <a:lnTo>
                    <a:pt x="350" y="78"/>
                  </a:lnTo>
                  <a:lnTo>
                    <a:pt x="349" y="86"/>
                  </a:lnTo>
                  <a:lnTo>
                    <a:pt x="348" y="93"/>
                  </a:lnTo>
                  <a:lnTo>
                    <a:pt x="344" y="1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5532480" y="5156280"/>
              <a:ext cx="73080" cy="46080"/>
            </a:xfrm>
            <a:custGeom>
              <a:avLst/>
              <a:gdLst/>
              <a:ahLst/>
              <a:rect l="l" t="t" r="r" b="b"/>
              <a:pathLst>
                <a:path w="232" h="143">
                  <a:moveTo>
                    <a:pt x="191" y="141"/>
                  </a:moveTo>
                  <a:lnTo>
                    <a:pt x="165" y="143"/>
                  </a:lnTo>
                  <a:lnTo>
                    <a:pt x="143" y="143"/>
                  </a:lnTo>
                  <a:lnTo>
                    <a:pt x="122" y="142"/>
                  </a:lnTo>
                  <a:lnTo>
                    <a:pt x="103" y="140"/>
                  </a:lnTo>
                  <a:lnTo>
                    <a:pt x="85" y="138"/>
                  </a:lnTo>
                  <a:lnTo>
                    <a:pt x="70" y="134"/>
                  </a:lnTo>
                  <a:lnTo>
                    <a:pt x="57" y="130"/>
                  </a:lnTo>
                  <a:lnTo>
                    <a:pt x="44" y="125"/>
                  </a:lnTo>
                  <a:lnTo>
                    <a:pt x="33" y="120"/>
                  </a:lnTo>
                  <a:lnTo>
                    <a:pt x="24" y="113"/>
                  </a:lnTo>
                  <a:lnTo>
                    <a:pt x="18" y="107"/>
                  </a:lnTo>
                  <a:lnTo>
                    <a:pt x="11" y="100"/>
                  </a:lnTo>
                  <a:lnTo>
                    <a:pt x="7" y="93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2" y="55"/>
                  </a:lnTo>
                  <a:lnTo>
                    <a:pt x="4" y="48"/>
                  </a:lnTo>
                  <a:lnTo>
                    <a:pt x="8" y="41"/>
                  </a:lnTo>
                  <a:lnTo>
                    <a:pt x="12" y="34"/>
                  </a:lnTo>
                  <a:lnTo>
                    <a:pt x="18" y="28"/>
                  </a:lnTo>
                  <a:lnTo>
                    <a:pt x="24" y="22"/>
                  </a:lnTo>
                  <a:lnTo>
                    <a:pt x="32" y="17"/>
                  </a:lnTo>
                  <a:lnTo>
                    <a:pt x="40" y="12"/>
                  </a:lnTo>
                  <a:lnTo>
                    <a:pt x="49" y="8"/>
                  </a:lnTo>
                  <a:lnTo>
                    <a:pt x="59" y="4"/>
                  </a:lnTo>
                  <a:lnTo>
                    <a:pt x="69" y="2"/>
                  </a:lnTo>
                  <a:lnTo>
                    <a:pt x="79" y="0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14" y="1"/>
                  </a:lnTo>
                  <a:lnTo>
                    <a:pt x="138" y="6"/>
                  </a:lnTo>
                  <a:lnTo>
                    <a:pt x="158" y="12"/>
                  </a:lnTo>
                  <a:lnTo>
                    <a:pt x="175" y="19"/>
                  </a:lnTo>
                  <a:lnTo>
                    <a:pt x="191" y="27"/>
                  </a:lnTo>
                  <a:lnTo>
                    <a:pt x="204" y="35"/>
                  </a:lnTo>
                  <a:lnTo>
                    <a:pt x="214" y="44"/>
                  </a:lnTo>
                  <a:lnTo>
                    <a:pt x="222" y="54"/>
                  </a:lnTo>
                  <a:lnTo>
                    <a:pt x="228" y="64"/>
                  </a:lnTo>
                  <a:lnTo>
                    <a:pt x="230" y="69"/>
                  </a:lnTo>
                  <a:lnTo>
                    <a:pt x="231" y="74"/>
                  </a:lnTo>
                  <a:lnTo>
                    <a:pt x="232" y="80"/>
                  </a:lnTo>
                  <a:lnTo>
                    <a:pt x="232" y="85"/>
                  </a:lnTo>
                  <a:lnTo>
                    <a:pt x="232" y="90"/>
                  </a:lnTo>
                  <a:lnTo>
                    <a:pt x="231" y="95"/>
                  </a:lnTo>
                  <a:lnTo>
                    <a:pt x="229" y="100"/>
                  </a:lnTo>
                  <a:lnTo>
                    <a:pt x="226" y="105"/>
                  </a:lnTo>
                  <a:lnTo>
                    <a:pt x="221" y="115"/>
                  </a:lnTo>
                  <a:lnTo>
                    <a:pt x="213" y="124"/>
                  </a:lnTo>
                  <a:lnTo>
                    <a:pt x="203" y="133"/>
                  </a:lnTo>
                  <a:lnTo>
                    <a:pt x="191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5597640" y="5365800"/>
              <a:ext cx="69840" cy="58680"/>
            </a:xfrm>
            <a:custGeom>
              <a:avLst/>
              <a:gdLst/>
              <a:ahLst/>
              <a:rect l="l" t="t" r="r" b="b"/>
              <a:pathLst>
                <a:path w="221" h="185">
                  <a:moveTo>
                    <a:pt x="221" y="140"/>
                  </a:moveTo>
                  <a:lnTo>
                    <a:pt x="216" y="150"/>
                  </a:lnTo>
                  <a:lnTo>
                    <a:pt x="209" y="159"/>
                  </a:lnTo>
                  <a:lnTo>
                    <a:pt x="202" y="166"/>
                  </a:lnTo>
                  <a:lnTo>
                    <a:pt x="195" y="172"/>
                  </a:lnTo>
                  <a:lnTo>
                    <a:pt x="187" y="177"/>
                  </a:lnTo>
                  <a:lnTo>
                    <a:pt x="178" y="180"/>
                  </a:lnTo>
                  <a:lnTo>
                    <a:pt x="169" y="182"/>
                  </a:lnTo>
                  <a:lnTo>
                    <a:pt x="160" y="185"/>
                  </a:lnTo>
                  <a:lnTo>
                    <a:pt x="151" y="185"/>
                  </a:lnTo>
                  <a:lnTo>
                    <a:pt x="141" y="183"/>
                  </a:lnTo>
                  <a:lnTo>
                    <a:pt x="133" y="182"/>
                  </a:lnTo>
                  <a:lnTo>
                    <a:pt x="123" y="180"/>
                  </a:lnTo>
                  <a:lnTo>
                    <a:pt x="113" y="177"/>
                  </a:lnTo>
                  <a:lnTo>
                    <a:pt x="104" y="172"/>
                  </a:lnTo>
                  <a:lnTo>
                    <a:pt x="94" y="167"/>
                  </a:lnTo>
                  <a:lnTo>
                    <a:pt x="85" y="161"/>
                  </a:lnTo>
                  <a:lnTo>
                    <a:pt x="76" y="155"/>
                  </a:lnTo>
                  <a:lnTo>
                    <a:pt x="67" y="148"/>
                  </a:lnTo>
                  <a:lnTo>
                    <a:pt x="58" y="140"/>
                  </a:lnTo>
                  <a:lnTo>
                    <a:pt x="50" y="131"/>
                  </a:lnTo>
                  <a:lnTo>
                    <a:pt x="43" y="122"/>
                  </a:lnTo>
                  <a:lnTo>
                    <a:pt x="35" y="112"/>
                  </a:lnTo>
                  <a:lnTo>
                    <a:pt x="28" y="102"/>
                  </a:lnTo>
                  <a:lnTo>
                    <a:pt x="21" y="92"/>
                  </a:lnTo>
                  <a:lnTo>
                    <a:pt x="17" y="81"/>
                  </a:lnTo>
                  <a:lnTo>
                    <a:pt x="11" y="71"/>
                  </a:lnTo>
                  <a:lnTo>
                    <a:pt x="8" y="59"/>
                  </a:lnTo>
                  <a:lnTo>
                    <a:pt x="5" y="48"/>
                  </a:lnTo>
                  <a:lnTo>
                    <a:pt x="3" y="36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3" y="3"/>
                  </a:lnTo>
                  <a:lnTo>
                    <a:pt x="25" y="6"/>
                  </a:lnTo>
                  <a:lnTo>
                    <a:pt x="38" y="11"/>
                  </a:lnTo>
                  <a:lnTo>
                    <a:pt x="53" y="19"/>
                  </a:lnTo>
                  <a:lnTo>
                    <a:pt x="85" y="36"/>
                  </a:lnTo>
                  <a:lnTo>
                    <a:pt x="117" y="56"/>
                  </a:lnTo>
                  <a:lnTo>
                    <a:pt x="149" y="77"/>
                  </a:lnTo>
                  <a:lnTo>
                    <a:pt x="179" y="99"/>
                  </a:lnTo>
                  <a:lnTo>
                    <a:pt x="191" y="110"/>
                  </a:lnTo>
                  <a:lnTo>
                    <a:pt x="204" y="121"/>
                  </a:lnTo>
                  <a:lnTo>
                    <a:pt x="214" y="130"/>
                  </a:lnTo>
                  <a:lnTo>
                    <a:pt x="221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5565600" y="5510160"/>
              <a:ext cx="125640" cy="122400"/>
            </a:xfrm>
            <a:custGeom>
              <a:avLst/>
              <a:gdLst/>
              <a:ahLst/>
              <a:rect l="l" t="t" r="r" b="b"/>
              <a:pathLst>
                <a:path w="392" h="389">
                  <a:moveTo>
                    <a:pt x="378" y="81"/>
                  </a:moveTo>
                  <a:lnTo>
                    <a:pt x="385" y="97"/>
                  </a:lnTo>
                  <a:lnTo>
                    <a:pt x="390" y="111"/>
                  </a:lnTo>
                  <a:lnTo>
                    <a:pt x="392" y="124"/>
                  </a:lnTo>
                  <a:lnTo>
                    <a:pt x="392" y="138"/>
                  </a:lnTo>
                  <a:lnTo>
                    <a:pt x="391" y="151"/>
                  </a:lnTo>
                  <a:lnTo>
                    <a:pt x="387" y="164"/>
                  </a:lnTo>
                  <a:lnTo>
                    <a:pt x="384" y="179"/>
                  </a:lnTo>
                  <a:lnTo>
                    <a:pt x="378" y="195"/>
                  </a:lnTo>
                  <a:lnTo>
                    <a:pt x="372" y="208"/>
                  </a:lnTo>
                  <a:lnTo>
                    <a:pt x="365" y="220"/>
                  </a:lnTo>
                  <a:lnTo>
                    <a:pt x="357" y="232"/>
                  </a:lnTo>
                  <a:lnTo>
                    <a:pt x="350" y="243"/>
                  </a:lnTo>
                  <a:lnTo>
                    <a:pt x="342" y="254"/>
                  </a:lnTo>
                  <a:lnTo>
                    <a:pt x="333" y="264"/>
                  </a:lnTo>
                  <a:lnTo>
                    <a:pt x="323" y="274"/>
                  </a:lnTo>
                  <a:lnTo>
                    <a:pt x="313" y="283"/>
                  </a:lnTo>
                  <a:lnTo>
                    <a:pt x="303" y="292"/>
                  </a:lnTo>
                  <a:lnTo>
                    <a:pt x="292" y="301"/>
                  </a:lnTo>
                  <a:lnTo>
                    <a:pt x="280" y="310"/>
                  </a:lnTo>
                  <a:lnTo>
                    <a:pt x="267" y="318"/>
                  </a:lnTo>
                  <a:lnTo>
                    <a:pt x="254" y="325"/>
                  </a:lnTo>
                  <a:lnTo>
                    <a:pt x="241" y="332"/>
                  </a:lnTo>
                  <a:lnTo>
                    <a:pt x="226" y="339"/>
                  </a:lnTo>
                  <a:lnTo>
                    <a:pt x="211" y="345"/>
                  </a:lnTo>
                  <a:lnTo>
                    <a:pt x="205" y="343"/>
                  </a:lnTo>
                  <a:lnTo>
                    <a:pt x="200" y="341"/>
                  </a:lnTo>
                  <a:lnTo>
                    <a:pt x="194" y="341"/>
                  </a:lnTo>
                  <a:lnTo>
                    <a:pt x="190" y="341"/>
                  </a:lnTo>
                  <a:lnTo>
                    <a:pt x="180" y="342"/>
                  </a:lnTo>
                  <a:lnTo>
                    <a:pt x="170" y="346"/>
                  </a:lnTo>
                  <a:lnTo>
                    <a:pt x="152" y="359"/>
                  </a:lnTo>
                  <a:lnTo>
                    <a:pt x="133" y="372"/>
                  </a:lnTo>
                  <a:lnTo>
                    <a:pt x="123" y="379"/>
                  </a:lnTo>
                  <a:lnTo>
                    <a:pt x="112" y="384"/>
                  </a:lnTo>
                  <a:lnTo>
                    <a:pt x="106" y="386"/>
                  </a:lnTo>
                  <a:lnTo>
                    <a:pt x="101" y="387"/>
                  </a:lnTo>
                  <a:lnTo>
                    <a:pt x="94" y="389"/>
                  </a:lnTo>
                  <a:lnTo>
                    <a:pt x="87" y="389"/>
                  </a:lnTo>
                  <a:lnTo>
                    <a:pt x="81" y="389"/>
                  </a:lnTo>
                  <a:lnTo>
                    <a:pt x="73" y="387"/>
                  </a:lnTo>
                  <a:lnTo>
                    <a:pt x="65" y="385"/>
                  </a:lnTo>
                  <a:lnTo>
                    <a:pt x="57" y="382"/>
                  </a:lnTo>
                  <a:lnTo>
                    <a:pt x="49" y="377"/>
                  </a:lnTo>
                  <a:lnTo>
                    <a:pt x="40" y="373"/>
                  </a:lnTo>
                  <a:lnTo>
                    <a:pt x="31" y="367"/>
                  </a:lnTo>
                  <a:lnTo>
                    <a:pt x="21" y="360"/>
                  </a:lnTo>
                  <a:lnTo>
                    <a:pt x="13" y="342"/>
                  </a:lnTo>
                  <a:lnTo>
                    <a:pt x="6" y="325"/>
                  </a:lnTo>
                  <a:lnTo>
                    <a:pt x="3" y="310"/>
                  </a:lnTo>
                  <a:lnTo>
                    <a:pt x="1" y="295"/>
                  </a:lnTo>
                  <a:lnTo>
                    <a:pt x="0" y="281"/>
                  </a:lnTo>
                  <a:lnTo>
                    <a:pt x="1" y="269"/>
                  </a:lnTo>
                  <a:lnTo>
                    <a:pt x="4" y="256"/>
                  </a:lnTo>
                  <a:lnTo>
                    <a:pt x="8" y="245"/>
                  </a:lnTo>
                  <a:lnTo>
                    <a:pt x="13" y="235"/>
                  </a:lnTo>
                  <a:lnTo>
                    <a:pt x="20" y="227"/>
                  </a:lnTo>
                  <a:lnTo>
                    <a:pt x="29" y="218"/>
                  </a:lnTo>
                  <a:lnTo>
                    <a:pt x="37" y="209"/>
                  </a:lnTo>
                  <a:lnTo>
                    <a:pt x="47" y="202"/>
                  </a:lnTo>
                  <a:lnTo>
                    <a:pt x="59" y="194"/>
                  </a:lnTo>
                  <a:lnTo>
                    <a:pt x="71" y="189"/>
                  </a:lnTo>
                  <a:lnTo>
                    <a:pt x="84" y="182"/>
                  </a:lnTo>
                  <a:lnTo>
                    <a:pt x="95" y="181"/>
                  </a:lnTo>
                  <a:lnTo>
                    <a:pt x="106" y="179"/>
                  </a:lnTo>
                  <a:lnTo>
                    <a:pt x="115" y="174"/>
                  </a:lnTo>
                  <a:lnTo>
                    <a:pt x="123" y="170"/>
                  </a:lnTo>
                  <a:lnTo>
                    <a:pt x="130" y="164"/>
                  </a:lnTo>
                  <a:lnTo>
                    <a:pt x="136" y="158"/>
                  </a:lnTo>
                  <a:lnTo>
                    <a:pt x="141" y="150"/>
                  </a:lnTo>
                  <a:lnTo>
                    <a:pt x="145" y="142"/>
                  </a:lnTo>
                  <a:lnTo>
                    <a:pt x="153" y="124"/>
                  </a:lnTo>
                  <a:lnTo>
                    <a:pt x="159" y="106"/>
                  </a:lnTo>
                  <a:lnTo>
                    <a:pt x="164" y="87"/>
                  </a:lnTo>
                  <a:lnTo>
                    <a:pt x="169" y="68"/>
                  </a:lnTo>
                  <a:lnTo>
                    <a:pt x="174" y="49"/>
                  </a:lnTo>
                  <a:lnTo>
                    <a:pt x="182" y="32"/>
                  </a:lnTo>
                  <a:lnTo>
                    <a:pt x="186" y="26"/>
                  </a:lnTo>
                  <a:lnTo>
                    <a:pt x="191" y="19"/>
                  </a:lnTo>
                  <a:lnTo>
                    <a:pt x="196" y="13"/>
                  </a:lnTo>
                  <a:lnTo>
                    <a:pt x="204" y="8"/>
                  </a:lnTo>
                  <a:lnTo>
                    <a:pt x="211" y="5"/>
                  </a:lnTo>
                  <a:lnTo>
                    <a:pt x="220" y="1"/>
                  </a:lnTo>
                  <a:lnTo>
                    <a:pt x="230" y="0"/>
                  </a:lnTo>
                  <a:lnTo>
                    <a:pt x="241" y="0"/>
                  </a:lnTo>
                  <a:lnTo>
                    <a:pt x="254" y="1"/>
                  </a:lnTo>
                  <a:lnTo>
                    <a:pt x="267" y="5"/>
                  </a:lnTo>
                  <a:lnTo>
                    <a:pt x="283" y="9"/>
                  </a:lnTo>
                  <a:lnTo>
                    <a:pt x="301" y="16"/>
                  </a:lnTo>
                  <a:lnTo>
                    <a:pt x="306" y="20"/>
                  </a:lnTo>
                  <a:lnTo>
                    <a:pt x="311" y="24"/>
                  </a:lnTo>
                  <a:lnTo>
                    <a:pt x="315" y="31"/>
                  </a:lnTo>
                  <a:lnTo>
                    <a:pt x="320" y="38"/>
                  </a:lnTo>
                  <a:lnTo>
                    <a:pt x="327" y="51"/>
                  </a:lnTo>
                  <a:lnTo>
                    <a:pt x="335" y="64"/>
                  </a:lnTo>
                  <a:lnTo>
                    <a:pt x="340" y="71"/>
                  </a:lnTo>
                  <a:lnTo>
                    <a:pt x="344" y="77"/>
                  </a:lnTo>
                  <a:lnTo>
                    <a:pt x="348" y="81"/>
                  </a:lnTo>
                  <a:lnTo>
                    <a:pt x="353" y="84"/>
                  </a:lnTo>
                  <a:lnTo>
                    <a:pt x="358" y="86"/>
                  </a:lnTo>
                  <a:lnTo>
                    <a:pt x="365" y="87"/>
                  </a:lnTo>
                  <a:lnTo>
                    <a:pt x="371" y="84"/>
                  </a:lnTo>
                  <a:lnTo>
                    <a:pt x="378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5234040" y="5519880"/>
              <a:ext cx="112680" cy="269640"/>
            </a:xfrm>
            <a:custGeom>
              <a:avLst/>
              <a:gdLst/>
              <a:ahLst/>
              <a:rect l="l" t="t" r="r" b="b"/>
              <a:pathLst>
                <a:path w="359" h="851">
                  <a:moveTo>
                    <a:pt x="321" y="723"/>
                  </a:moveTo>
                  <a:lnTo>
                    <a:pt x="359" y="839"/>
                  </a:lnTo>
                  <a:lnTo>
                    <a:pt x="347" y="845"/>
                  </a:lnTo>
                  <a:lnTo>
                    <a:pt x="335" y="848"/>
                  </a:lnTo>
                  <a:lnTo>
                    <a:pt x="322" y="850"/>
                  </a:lnTo>
                  <a:lnTo>
                    <a:pt x="310" y="851"/>
                  </a:lnTo>
                  <a:lnTo>
                    <a:pt x="297" y="851"/>
                  </a:lnTo>
                  <a:lnTo>
                    <a:pt x="285" y="851"/>
                  </a:lnTo>
                  <a:lnTo>
                    <a:pt x="272" y="850"/>
                  </a:lnTo>
                  <a:lnTo>
                    <a:pt x="259" y="848"/>
                  </a:lnTo>
                  <a:lnTo>
                    <a:pt x="247" y="845"/>
                  </a:lnTo>
                  <a:lnTo>
                    <a:pt x="235" y="841"/>
                  </a:lnTo>
                  <a:lnTo>
                    <a:pt x="222" y="838"/>
                  </a:lnTo>
                  <a:lnTo>
                    <a:pt x="210" y="834"/>
                  </a:lnTo>
                  <a:lnTo>
                    <a:pt x="188" y="824"/>
                  </a:lnTo>
                  <a:lnTo>
                    <a:pt x="166" y="813"/>
                  </a:lnTo>
                  <a:lnTo>
                    <a:pt x="137" y="801"/>
                  </a:lnTo>
                  <a:lnTo>
                    <a:pt x="119" y="795"/>
                  </a:lnTo>
                  <a:lnTo>
                    <a:pt x="108" y="793"/>
                  </a:lnTo>
                  <a:lnTo>
                    <a:pt x="104" y="793"/>
                  </a:lnTo>
                  <a:lnTo>
                    <a:pt x="99" y="795"/>
                  </a:lnTo>
                  <a:lnTo>
                    <a:pt x="95" y="799"/>
                  </a:lnTo>
                  <a:lnTo>
                    <a:pt x="90" y="801"/>
                  </a:lnTo>
                  <a:lnTo>
                    <a:pt x="86" y="805"/>
                  </a:lnTo>
                  <a:lnTo>
                    <a:pt x="78" y="809"/>
                  </a:lnTo>
                  <a:lnTo>
                    <a:pt x="69" y="813"/>
                  </a:lnTo>
                  <a:lnTo>
                    <a:pt x="74" y="805"/>
                  </a:lnTo>
                  <a:lnTo>
                    <a:pt x="78" y="797"/>
                  </a:lnTo>
                  <a:lnTo>
                    <a:pt x="83" y="787"/>
                  </a:lnTo>
                  <a:lnTo>
                    <a:pt x="86" y="776"/>
                  </a:lnTo>
                  <a:lnTo>
                    <a:pt x="89" y="764"/>
                  </a:lnTo>
                  <a:lnTo>
                    <a:pt x="91" y="750"/>
                  </a:lnTo>
                  <a:lnTo>
                    <a:pt x="94" y="736"/>
                  </a:lnTo>
                  <a:lnTo>
                    <a:pt x="95" y="720"/>
                  </a:lnTo>
                  <a:lnTo>
                    <a:pt x="97" y="687"/>
                  </a:lnTo>
                  <a:lnTo>
                    <a:pt x="98" y="652"/>
                  </a:lnTo>
                  <a:lnTo>
                    <a:pt x="97" y="612"/>
                  </a:lnTo>
                  <a:lnTo>
                    <a:pt x="94" y="571"/>
                  </a:lnTo>
                  <a:lnTo>
                    <a:pt x="90" y="528"/>
                  </a:lnTo>
                  <a:lnTo>
                    <a:pt x="86" y="485"/>
                  </a:lnTo>
                  <a:lnTo>
                    <a:pt x="79" y="441"/>
                  </a:lnTo>
                  <a:lnTo>
                    <a:pt x="73" y="396"/>
                  </a:lnTo>
                  <a:lnTo>
                    <a:pt x="65" y="352"/>
                  </a:lnTo>
                  <a:lnTo>
                    <a:pt x="57" y="310"/>
                  </a:lnTo>
                  <a:lnTo>
                    <a:pt x="48" y="268"/>
                  </a:lnTo>
                  <a:lnTo>
                    <a:pt x="39" y="229"/>
                  </a:lnTo>
                  <a:lnTo>
                    <a:pt x="37" y="212"/>
                  </a:lnTo>
                  <a:lnTo>
                    <a:pt x="35" y="195"/>
                  </a:lnTo>
                  <a:lnTo>
                    <a:pt x="31" y="181"/>
                  </a:lnTo>
                  <a:lnTo>
                    <a:pt x="28" y="165"/>
                  </a:lnTo>
                  <a:lnTo>
                    <a:pt x="21" y="138"/>
                  </a:lnTo>
                  <a:lnTo>
                    <a:pt x="14" y="111"/>
                  </a:lnTo>
                  <a:lnTo>
                    <a:pt x="7" y="84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lnTo>
                    <a:pt x="1" y="14"/>
                  </a:lnTo>
                  <a:lnTo>
                    <a:pt x="3" y="0"/>
                  </a:lnTo>
                  <a:lnTo>
                    <a:pt x="31" y="42"/>
                  </a:lnTo>
                  <a:lnTo>
                    <a:pt x="58" y="86"/>
                  </a:lnTo>
                  <a:lnTo>
                    <a:pt x="83" y="129"/>
                  </a:lnTo>
                  <a:lnTo>
                    <a:pt x="107" y="173"/>
                  </a:lnTo>
                  <a:lnTo>
                    <a:pt x="129" y="216"/>
                  </a:lnTo>
                  <a:lnTo>
                    <a:pt x="150" y="261"/>
                  </a:lnTo>
                  <a:lnTo>
                    <a:pt x="170" y="305"/>
                  </a:lnTo>
                  <a:lnTo>
                    <a:pt x="189" y="350"/>
                  </a:lnTo>
                  <a:lnTo>
                    <a:pt x="208" y="395"/>
                  </a:lnTo>
                  <a:lnTo>
                    <a:pt x="226" y="441"/>
                  </a:lnTo>
                  <a:lnTo>
                    <a:pt x="242" y="486"/>
                  </a:lnTo>
                  <a:lnTo>
                    <a:pt x="259" y="533"/>
                  </a:lnTo>
                  <a:lnTo>
                    <a:pt x="290" y="627"/>
                  </a:lnTo>
                  <a:lnTo>
                    <a:pt x="321" y="72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5602320" y="5535720"/>
              <a:ext cx="65160" cy="68040"/>
            </a:xfrm>
            <a:custGeom>
              <a:avLst/>
              <a:gdLst/>
              <a:ahLst/>
              <a:rect l="l" t="t" r="r" b="b"/>
              <a:pathLst>
                <a:path w="205" h="215">
                  <a:moveTo>
                    <a:pt x="200" y="102"/>
                  </a:moveTo>
                  <a:lnTo>
                    <a:pt x="87" y="199"/>
                  </a:lnTo>
                  <a:lnTo>
                    <a:pt x="69" y="206"/>
                  </a:lnTo>
                  <a:lnTo>
                    <a:pt x="54" y="210"/>
                  </a:lnTo>
                  <a:lnTo>
                    <a:pt x="41" y="213"/>
                  </a:lnTo>
                  <a:lnTo>
                    <a:pt x="31" y="215"/>
                  </a:lnTo>
                  <a:lnTo>
                    <a:pt x="21" y="215"/>
                  </a:lnTo>
                  <a:lnTo>
                    <a:pt x="14" y="213"/>
                  </a:lnTo>
                  <a:lnTo>
                    <a:pt x="8" y="211"/>
                  </a:lnTo>
                  <a:lnTo>
                    <a:pt x="4" y="207"/>
                  </a:lnTo>
                  <a:lnTo>
                    <a:pt x="1" y="201"/>
                  </a:lnTo>
                  <a:lnTo>
                    <a:pt x="0" y="196"/>
                  </a:lnTo>
                  <a:lnTo>
                    <a:pt x="0" y="189"/>
                  </a:lnTo>
                  <a:lnTo>
                    <a:pt x="1" y="181"/>
                  </a:lnTo>
                  <a:lnTo>
                    <a:pt x="3" y="172"/>
                  </a:lnTo>
                  <a:lnTo>
                    <a:pt x="7" y="163"/>
                  </a:lnTo>
                  <a:lnTo>
                    <a:pt x="10" y="153"/>
                  </a:lnTo>
                  <a:lnTo>
                    <a:pt x="15" y="144"/>
                  </a:lnTo>
                  <a:lnTo>
                    <a:pt x="27" y="122"/>
                  </a:lnTo>
                  <a:lnTo>
                    <a:pt x="41" y="100"/>
                  </a:lnTo>
                  <a:lnTo>
                    <a:pt x="57" y="78"/>
                  </a:lnTo>
                  <a:lnTo>
                    <a:pt x="72" y="58"/>
                  </a:lnTo>
                  <a:lnTo>
                    <a:pt x="88" y="39"/>
                  </a:lnTo>
                  <a:lnTo>
                    <a:pt x="103" y="23"/>
                  </a:lnTo>
                  <a:lnTo>
                    <a:pt x="117" y="10"/>
                  </a:lnTo>
                  <a:lnTo>
                    <a:pt x="128" y="1"/>
                  </a:lnTo>
                  <a:lnTo>
                    <a:pt x="133" y="0"/>
                  </a:lnTo>
                  <a:lnTo>
                    <a:pt x="140" y="1"/>
                  </a:lnTo>
                  <a:lnTo>
                    <a:pt x="148" y="5"/>
                  </a:lnTo>
                  <a:lnTo>
                    <a:pt x="155" y="9"/>
                  </a:lnTo>
                  <a:lnTo>
                    <a:pt x="162" y="15"/>
                  </a:lnTo>
                  <a:lnTo>
                    <a:pt x="170" y="23"/>
                  </a:lnTo>
                  <a:lnTo>
                    <a:pt x="178" y="29"/>
                  </a:lnTo>
                  <a:lnTo>
                    <a:pt x="184" y="38"/>
                  </a:lnTo>
                  <a:lnTo>
                    <a:pt x="190" y="47"/>
                  </a:lnTo>
                  <a:lnTo>
                    <a:pt x="195" y="56"/>
                  </a:lnTo>
                  <a:lnTo>
                    <a:pt x="200" y="65"/>
                  </a:lnTo>
                  <a:lnTo>
                    <a:pt x="203" y="74"/>
                  </a:lnTo>
                  <a:lnTo>
                    <a:pt x="204" y="81"/>
                  </a:lnTo>
                  <a:lnTo>
                    <a:pt x="205" y="89"/>
                  </a:lnTo>
                  <a:lnTo>
                    <a:pt x="203" y="96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5818320" y="5076720"/>
              <a:ext cx="155520" cy="13032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488" y="109"/>
                  </a:moveTo>
                  <a:lnTo>
                    <a:pt x="481" y="131"/>
                  </a:lnTo>
                  <a:lnTo>
                    <a:pt x="472" y="152"/>
                  </a:lnTo>
                  <a:lnTo>
                    <a:pt x="463" y="172"/>
                  </a:lnTo>
                  <a:lnTo>
                    <a:pt x="454" y="191"/>
                  </a:lnTo>
                  <a:lnTo>
                    <a:pt x="444" y="210"/>
                  </a:lnTo>
                  <a:lnTo>
                    <a:pt x="433" y="228"/>
                  </a:lnTo>
                  <a:lnTo>
                    <a:pt x="422" y="244"/>
                  </a:lnTo>
                  <a:lnTo>
                    <a:pt x="411" y="260"/>
                  </a:lnTo>
                  <a:lnTo>
                    <a:pt x="398" y="275"/>
                  </a:lnTo>
                  <a:lnTo>
                    <a:pt x="385" y="290"/>
                  </a:lnTo>
                  <a:lnTo>
                    <a:pt x="373" y="303"/>
                  </a:lnTo>
                  <a:lnTo>
                    <a:pt x="360" y="315"/>
                  </a:lnTo>
                  <a:lnTo>
                    <a:pt x="345" y="327"/>
                  </a:lnTo>
                  <a:lnTo>
                    <a:pt x="332" y="339"/>
                  </a:lnTo>
                  <a:lnTo>
                    <a:pt x="317" y="349"/>
                  </a:lnTo>
                  <a:lnTo>
                    <a:pt x="302" y="357"/>
                  </a:lnTo>
                  <a:lnTo>
                    <a:pt x="287" y="366"/>
                  </a:lnTo>
                  <a:lnTo>
                    <a:pt x="272" y="374"/>
                  </a:lnTo>
                  <a:lnTo>
                    <a:pt x="257" y="381"/>
                  </a:lnTo>
                  <a:lnTo>
                    <a:pt x="242" y="387"/>
                  </a:lnTo>
                  <a:lnTo>
                    <a:pt x="226" y="393"/>
                  </a:lnTo>
                  <a:lnTo>
                    <a:pt x="211" y="397"/>
                  </a:lnTo>
                  <a:lnTo>
                    <a:pt x="195" y="401"/>
                  </a:lnTo>
                  <a:lnTo>
                    <a:pt x="179" y="404"/>
                  </a:lnTo>
                  <a:lnTo>
                    <a:pt x="163" y="406"/>
                  </a:lnTo>
                  <a:lnTo>
                    <a:pt x="147" y="407"/>
                  </a:lnTo>
                  <a:lnTo>
                    <a:pt x="132" y="408"/>
                  </a:lnTo>
                  <a:lnTo>
                    <a:pt x="116" y="408"/>
                  </a:lnTo>
                  <a:lnTo>
                    <a:pt x="101" y="407"/>
                  </a:lnTo>
                  <a:lnTo>
                    <a:pt x="85" y="406"/>
                  </a:lnTo>
                  <a:lnTo>
                    <a:pt x="70" y="404"/>
                  </a:lnTo>
                  <a:lnTo>
                    <a:pt x="54" y="401"/>
                  </a:lnTo>
                  <a:lnTo>
                    <a:pt x="41" y="388"/>
                  </a:lnTo>
                  <a:lnTo>
                    <a:pt x="29" y="376"/>
                  </a:lnTo>
                  <a:lnTo>
                    <a:pt x="20" y="364"/>
                  </a:lnTo>
                  <a:lnTo>
                    <a:pt x="12" y="352"/>
                  </a:lnTo>
                  <a:lnTo>
                    <a:pt x="6" y="340"/>
                  </a:lnTo>
                  <a:lnTo>
                    <a:pt x="3" y="327"/>
                  </a:lnTo>
                  <a:lnTo>
                    <a:pt x="1" y="315"/>
                  </a:lnTo>
                  <a:lnTo>
                    <a:pt x="0" y="302"/>
                  </a:lnTo>
                  <a:lnTo>
                    <a:pt x="1" y="290"/>
                  </a:lnTo>
                  <a:lnTo>
                    <a:pt x="3" y="277"/>
                  </a:lnTo>
                  <a:lnTo>
                    <a:pt x="5" y="264"/>
                  </a:lnTo>
                  <a:lnTo>
                    <a:pt x="10" y="252"/>
                  </a:lnTo>
                  <a:lnTo>
                    <a:pt x="20" y="226"/>
                  </a:lnTo>
                  <a:lnTo>
                    <a:pt x="33" y="201"/>
                  </a:lnTo>
                  <a:lnTo>
                    <a:pt x="62" y="151"/>
                  </a:lnTo>
                  <a:lnTo>
                    <a:pt x="87" y="100"/>
                  </a:lnTo>
                  <a:lnTo>
                    <a:pt x="93" y="88"/>
                  </a:lnTo>
                  <a:lnTo>
                    <a:pt x="97" y="74"/>
                  </a:lnTo>
                  <a:lnTo>
                    <a:pt x="101" y="62"/>
                  </a:lnTo>
                  <a:lnTo>
                    <a:pt x="103" y="50"/>
                  </a:lnTo>
                  <a:lnTo>
                    <a:pt x="104" y="37"/>
                  </a:lnTo>
                  <a:lnTo>
                    <a:pt x="104" y="24"/>
                  </a:lnTo>
                  <a:lnTo>
                    <a:pt x="103" y="12"/>
                  </a:lnTo>
                  <a:lnTo>
                    <a:pt x="100" y="0"/>
                  </a:lnTo>
                  <a:lnTo>
                    <a:pt x="114" y="11"/>
                  </a:lnTo>
                  <a:lnTo>
                    <a:pt x="132" y="22"/>
                  </a:lnTo>
                  <a:lnTo>
                    <a:pt x="152" y="32"/>
                  </a:lnTo>
                  <a:lnTo>
                    <a:pt x="176" y="43"/>
                  </a:lnTo>
                  <a:lnTo>
                    <a:pt x="202" y="53"/>
                  </a:lnTo>
                  <a:lnTo>
                    <a:pt x="230" y="63"/>
                  </a:lnTo>
                  <a:lnTo>
                    <a:pt x="259" y="72"/>
                  </a:lnTo>
                  <a:lnTo>
                    <a:pt x="289" y="81"/>
                  </a:lnTo>
                  <a:lnTo>
                    <a:pt x="318" y="89"/>
                  </a:lnTo>
                  <a:lnTo>
                    <a:pt x="347" y="95"/>
                  </a:lnTo>
                  <a:lnTo>
                    <a:pt x="376" y="101"/>
                  </a:lnTo>
                  <a:lnTo>
                    <a:pt x="404" y="105"/>
                  </a:lnTo>
                  <a:lnTo>
                    <a:pt x="428" y="109"/>
                  </a:lnTo>
                  <a:lnTo>
                    <a:pt x="452" y="110"/>
                  </a:lnTo>
                  <a:lnTo>
                    <a:pt x="472" y="110"/>
                  </a:lnTo>
                  <a:lnTo>
                    <a:pt x="488" y="109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4648320" y="3591000"/>
              <a:ext cx="137880" cy="208080"/>
            </a:xfrm>
            <a:custGeom>
              <a:avLst/>
              <a:gdLst/>
              <a:ahLst/>
              <a:rect l="l" t="t" r="r" b="b"/>
              <a:pathLst>
                <a:path w="436" h="659">
                  <a:moveTo>
                    <a:pt x="436" y="614"/>
                  </a:moveTo>
                  <a:lnTo>
                    <a:pt x="424" y="620"/>
                  </a:lnTo>
                  <a:lnTo>
                    <a:pt x="412" y="626"/>
                  </a:lnTo>
                  <a:lnTo>
                    <a:pt x="401" y="632"/>
                  </a:lnTo>
                  <a:lnTo>
                    <a:pt x="388" y="636"/>
                  </a:lnTo>
                  <a:lnTo>
                    <a:pt x="366" y="644"/>
                  </a:lnTo>
                  <a:lnTo>
                    <a:pt x="343" y="649"/>
                  </a:lnTo>
                  <a:lnTo>
                    <a:pt x="319" y="653"/>
                  </a:lnTo>
                  <a:lnTo>
                    <a:pt x="294" y="656"/>
                  </a:lnTo>
                  <a:lnTo>
                    <a:pt x="267" y="657"/>
                  </a:lnTo>
                  <a:lnTo>
                    <a:pt x="238" y="659"/>
                  </a:lnTo>
                  <a:lnTo>
                    <a:pt x="220" y="630"/>
                  </a:lnTo>
                  <a:lnTo>
                    <a:pt x="201" y="601"/>
                  </a:lnTo>
                  <a:lnTo>
                    <a:pt x="183" y="571"/>
                  </a:lnTo>
                  <a:lnTo>
                    <a:pt x="165" y="541"/>
                  </a:lnTo>
                  <a:lnTo>
                    <a:pt x="148" y="509"/>
                  </a:lnTo>
                  <a:lnTo>
                    <a:pt x="132" y="478"/>
                  </a:lnTo>
                  <a:lnTo>
                    <a:pt x="115" y="447"/>
                  </a:lnTo>
                  <a:lnTo>
                    <a:pt x="101" y="415"/>
                  </a:lnTo>
                  <a:lnTo>
                    <a:pt x="85" y="382"/>
                  </a:lnTo>
                  <a:lnTo>
                    <a:pt x="71" y="350"/>
                  </a:lnTo>
                  <a:lnTo>
                    <a:pt x="57" y="316"/>
                  </a:lnTo>
                  <a:lnTo>
                    <a:pt x="45" y="283"/>
                  </a:lnTo>
                  <a:lnTo>
                    <a:pt x="33" y="249"/>
                  </a:lnTo>
                  <a:lnTo>
                    <a:pt x="22" y="215"/>
                  </a:lnTo>
                  <a:lnTo>
                    <a:pt x="12" y="181"/>
                  </a:lnTo>
                  <a:lnTo>
                    <a:pt x="2" y="147"/>
                  </a:lnTo>
                  <a:lnTo>
                    <a:pt x="0" y="133"/>
                  </a:lnTo>
                  <a:lnTo>
                    <a:pt x="0" y="121"/>
                  </a:lnTo>
                  <a:lnTo>
                    <a:pt x="0" y="108"/>
                  </a:lnTo>
                  <a:lnTo>
                    <a:pt x="1" y="95"/>
                  </a:lnTo>
                  <a:lnTo>
                    <a:pt x="3" y="83"/>
                  </a:lnTo>
                  <a:lnTo>
                    <a:pt x="3" y="71"/>
                  </a:lnTo>
                  <a:lnTo>
                    <a:pt x="3" y="58"/>
                  </a:lnTo>
                  <a:lnTo>
                    <a:pt x="2" y="46"/>
                  </a:lnTo>
                  <a:lnTo>
                    <a:pt x="10" y="48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34" y="49"/>
                  </a:lnTo>
                  <a:lnTo>
                    <a:pt x="50" y="47"/>
                  </a:lnTo>
                  <a:lnTo>
                    <a:pt x="65" y="42"/>
                  </a:lnTo>
                  <a:lnTo>
                    <a:pt x="97" y="30"/>
                  </a:lnTo>
                  <a:lnTo>
                    <a:pt x="128" y="16"/>
                  </a:lnTo>
                  <a:lnTo>
                    <a:pt x="143" y="10"/>
                  </a:lnTo>
                  <a:lnTo>
                    <a:pt x="156" y="4"/>
                  </a:lnTo>
                  <a:lnTo>
                    <a:pt x="170" y="1"/>
                  </a:lnTo>
                  <a:lnTo>
                    <a:pt x="182" y="0"/>
                  </a:lnTo>
                  <a:lnTo>
                    <a:pt x="187" y="0"/>
                  </a:lnTo>
                  <a:lnTo>
                    <a:pt x="193" y="1"/>
                  </a:lnTo>
                  <a:lnTo>
                    <a:pt x="198" y="3"/>
                  </a:lnTo>
                  <a:lnTo>
                    <a:pt x="203" y="6"/>
                  </a:lnTo>
                  <a:lnTo>
                    <a:pt x="207" y="10"/>
                  </a:lnTo>
                  <a:lnTo>
                    <a:pt x="212" y="14"/>
                  </a:lnTo>
                  <a:lnTo>
                    <a:pt x="215" y="20"/>
                  </a:lnTo>
                  <a:lnTo>
                    <a:pt x="218" y="27"/>
                  </a:lnTo>
                  <a:lnTo>
                    <a:pt x="238" y="60"/>
                  </a:lnTo>
                  <a:lnTo>
                    <a:pt x="258" y="92"/>
                  </a:lnTo>
                  <a:lnTo>
                    <a:pt x="276" y="124"/>
                  </a:lnTo>
                  <a:lnTo>
                    <a:pt x="293" y="157"/>
                  </a:lnTo>
                  <a:lnTo>
                    <a:pt x="309" y="189"/>
                  </a:lnTo>
                  <a:lnTo>
                    <a:pt x="324" y="222"/>
                  </a:lnTo>
                  <a:lnTo>
                    <a:pt x="338" y="255"/>
                  </a:lnTo>
                  <a:lnTo>
                    <a:pt x="352" y="290"/>
                  </a:lnTo>
                  <a:lnTo>
                    <a:pt x="365" y="325"/>
                  </a:lnTo>
                  <a:lnTo>
                    <a:pt x="376" y="362"/>
                  </a:lnTo>
                  <a:lnTo>
                    <a:pt x="388" y="400"/>
                  </a:lnTo>
                  <a:lnTo>
                    <a:pt x="398" y="440"/>
                  </a:lnTo>
                  <a:lnTo>
                    <a:pt x="408" y="480"/>
                  </a:lnTo>
                  <a:lnTo>
                    <a:pt x="418" y="523"/>
                  </a:lnTo>
                  <a:lnTo>
                    <a:pt x="427" y="567"/>
                  </a:lnTo>
                  <a:lnTo>
                    <a:pt x="436" y="61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4761000" y="3614760"/>
              <a:ext cx="498240" cy="655560"/>
            </a:xfrm>
            <a:custGeom>
              <a:avLst/>
              <a:gdLst/>
              <a:ahLst/>
              <a:rect l="l" t="t" r="r" b="b"/>
              <a:pathLst>
                <a:path w="1568" h="2065">
                  <a:moveTo>
                    <a:pt x="1417" y="1344"/>
                  </a:moveTo>
                  <a:lnTo>
                    <a:pt x="1436" y="1332"/>
                  </a:lnTo>
                  <a:lnTo>
                    <a:pt x="1455" y="1318"/>
                  </a:lnTo>
                  <a:lnTo>
                    <a:pt x="1474" y="1304"/>
                  </a:lnTo>
                  <a:lnTo>
                    <a:pt x="1493" y="1291"/>
                  </a:lnTo>
                  <a:lnTo>
                    <a:pt x="1512" y="1276"/>
                  </a:lnTo>
                  <a:lnTo>
                    <a:pt x="1531" y="1262"/>
                  </a:lnTo>
                  <a:lnTo>
                    <a:pt x="1550" y="1248"/>
                  </a:lnTo>
                  <a:lnTo>
                    <a:pt x="1568" y="1234"/>
                  </a:lnTo>
                  <a:lnTo>
                    <a:pt x="1528" y="1202"/>
                  </a:lnTo>
                  <a:lnTo>
                    <a:pt x="1512" y="1191"/>
                  </a:lnTo>
                  <a:lnTo>
                    <a:pt x="1496" y="1178"/>
                  </a:lnTo>
                  <a:lnTo>
                    <a:pt x="1481" y="1166"/>
                  </a:lnTo>
                  <a:lnTo>
                    <a:pt x="1466" y="1153"/>
                  </a:lnTo>
                  <a:lnTo>
                    <a:pt x="1439" y="1125"/>
                  </a:lnTo>
                  <a:lnTo>
                    <a:pt x="1412" y="1096"/>
                  </a:lnTo>
                  <a:lnTo>
                    <a:pt x="1362" y="1036"/>
                  </a:lnTo>
                  <a:lnTo>
                    <a:pt x="1311" y="976"/>
                  </a:lnTo>
                  <a:lnTo>
                    <a:pt x="1283" y="948"/>
                  </a:lnTo>
                  <a:lnTo>
                    <a:pt x="1254" y="920"/>
                  </a:lnTo>
                  <a:lnTo>
                    <a:pt x="1240" y="906"/>
                  </a:lnTo>
                  <a:lnTo>
                    <a:pt x="1224" y="893"/>
                  </a:lnTo>
                  <a:lnTo>
                    <a:pt x="1208" y="881"/>
                  </a:lnTo>
                  <a:lnTo>
                    <a:pt x="1190" y="869"/>
                  </a:lnTo>
                  <a:lnTo>
                    <a:pt x="1172" y="858"/>
                  </a:lnTo>
                  <a:lnTo>
                    <a:pt x="1153" y="848"/>
                  </a:lnTo>
                  <a:lnTo>
                    <a:pt x="1133" y="838"/>
                  </a:lnTo>
                  <a:lnTo>
                    <a:pt x="1113" y="828"/>
                  </a:lnTo>
                  <a:lnTo>
                    <a:pt x="1091" y="820"/>
                  </a:lnTo>
                  <a:lnTo>
                    <a:pt x="1068" y="812"/>
                  </a:lnTo>
                  <a:lnTo>
                    <a:pt x="1044" y="807"/>
                  </a:lnTo>
                  <a:lnTo>
                    <a:pt x="1019" y="801"/>
                  </a:lnTo>
                  <a:lnTo>
                    <a:pt x="1010" y="809"/>
                  </a:lnTo>
                  <a:lnTo>
                    <a:pt x="1003" y="817"/>
                  </a:lnTo>
                  <a:lnTo>
                    <a:pt x="998" y="824"/>
                  </a:lnTo>
                  <a:lnTo>
                    <a:pt x="993" y="831"/>
                  </a:lnTo>
                  <a:lnTo>
                    <a:pt x="990" y="839"/>
                  </a:lnTo>
                  <a:lnTo>
                    <a:pt x="987" y="845"/>
                  </a:lnTo>
                  <a:lnTo>
                    <a:pt x="985" y="852"/>
                  </a:lnTo>
                  <a:lnTo>
                    <a:pt x="984" y="859"/>
                  </a:lnTo>
                  <a:lnTo>
                    <a:pt x="984" y="865"/>
                  </a:lnTo>
                  <a:lnTo>
                    <a:pt x="984" y="871"/>
                  </a:lnTo>
                  <a:lnTo>
                    <a:pt x="985" y="876"/>
                  </a:lnTo>
                  <a:lnTo>
                    <a:pt x="988" y="883"/>
                  </a:lnTo>
                  <a:lnTo>
                    <a:pt x="992" y="894"/>
                  </a:lnTo>
                  <a:lnTo>
                    <a:pt x="997" y="904"/>
                  </a:lnTo>
                  <a:lnTo>
                    <a:pt x="1002" y="913"/>
                  </a:lnTo>
                  <a:lnTo>
                    <a:pt x="1008" y="922"/>
                  </a:lnTo>
                  <a:lnTo>
                    <a:pt x="1012" y="931"/>
                  </a:lnTo>
                  <a:lnTo>
                    <a:pt x="1014" y="939"/>
                  </a:lnTo>
                  <a:lnTo>
                    <a:pt x="1014" y="942"/>
                  </a:lnTo>
                  <a:lnTo>
                    <a:pt x="1014" y="945"/>
                  </a:lnTo>
                  <a:lnTo>
                    <a:pt x="1013" y="949"/>
                  </a:lnTo>
                  <a:lnTo>
                    <a:pt x="1012" y="952"/>
                  </a:lnTo>
                  <a:lnTo>
                    <a:pt x="1009" y="955"/>
                  </a:lnTo>
                  <a:lnTo>
                    <a:pt x="1005" y="959"/>
                  </a:lnTo>
                  <a:lnTo>
                    <a:pt x="1001" y="961"/>
                  </a:lnTo>
                  <a:lnTo>
                    <a:pt x="995" y="964"/>
                  </a:lnTo>
                  <a:lnTo>
                    <a:pt x="993" y="965"/>
                  </a:lnTo>
                  <a:lnTo>
                    <a:pt x="991" y="966"/>
                  </a:lnTo>
                  <a:lnTo>
                    <a:pt x="988" y="966"/>
                  </a:lnTo>
                  <a:lnTo>
                    <a:pt x="983" y="966"/>
                  </a:lnTo>
                  <a:lnTo>
                    <a:pt x="974" y="964"/>
                  </a:lnTo>
                  <a:lnTo>
                    <a:pt x="964" y="960"/>
                  </a:lnTo>
                  <a:lnTo>
                    <a:pt x="953" y="955"/>
                  </a:lnTo>
                  <a:lnTo>
                    <a:pt x="941" y="949"/>
                  </a:lnTo>
                  <a:lnTo>
                    <a:pt x="930" y="941"/>
                  </a:lnTo>
                  <a:lnTo>
                    <a:pt x="919" y="932"/>
                  </a:lnTo>
                  <a:lnTo>
                    <a:pt x="909" y="923"/>
                  </a:lnTo>
                  <a:lnTo>
                    <a:pt x="900" y="913"/>
                  </a:lnTo>
                  <a:lnTo>
                    <a:pt x="898" y="909"/>
                  </a:lnTo>
                  <a:lnTo>
                    <a:pt x="894" y="903"/>
                  </a:lnTo>
                  <a:lnTo>
                    <a:pt x="892" y="899"/>
                  </a:lnTo>
                  <a:lnTo>
                    <a:pt x="891" y="894"/>
                  </a:lnTo>
                  <a:lnTo>
                    <a:pt x="891" y="890"/>
                  </a:lnTo>
                  <a:lnTo>
                    <a:pt x="891" y="885"/>
                  </a:lnTo>
                  <a:lnTo>
                    <a:pt x="892" y="881"/>
                  </a:lnTo>
                  <a:lnTo>
                    <a:pt x="895" y="878"/>
                  </a:lnTo>
                  <a:lnTo>
                    <a:pt x="899" y="873"/>
                  </a:lnTo>
                  <a:lnTo>
                    <a:pt x="903" y="870"/>
                  </a:lnTo>
                  <a:lnTo>
                    <a:pt x="909" y="867"/>
                  </a:lnTo>
                  <a:lnTo>
                    <a:pt x="915" y="864"/>
                  </a:lnTo>
                  <a:lnTo>
                    <a:pt x="923" y="855"/>
                  </a:lnTo>
                  <a:lnTo>
                    <a:pt x="929" y="847"/>
                  </a:lnTo>
                  <a:lnTo>
                    <a:pt x="932" y="838"/>
                  </a:lnTo>
                  <a:lnTo>
                    <a:pt x="933" y="830"/>
                  </a:lnTo>
                  <a:lnTo>
                    <a:pt x="933" y="821"/>
                  </a:lnTo>
                  <a:lnTo>
                    <a:pt x="932" y="813"/>
                  </a:lnTo>
                  <a:lnTo>
                    <a:pt x="929" y="804"/>
                  </a:lnTo>
                  <a:lnTo>
                    <a:pt x="924" y="797"/>
                  </a:lnTo>
                  <a:lnTo>
                    <a:pt x="919" y="788"/>
                  </a:lnTo>
                  <a:lnTo>
                    <a:pt x="912" y="780"/>
                  </a:lnTo>
                  <a:lnTo>
                    <a:pt x="904" y="771"/>
                  </a:lnTo>
                  <a:lnTo>
                    <a:pt x="897" y="762"/>
                  </a:lnTo>
                  <a:lnTo>
                    <a:pt x="878" y="744"/>
                  </a:lnTo>
                  <a:lnTo>
                    <a:pt x="858" y="727"/>
                  </a:lnTo>
                  <a:lnTo>
                    <a:pt x="837" y="707"/>
                  </a:lnTo>
                  <a:lnTo>
                    <a:pt x="815" y="687"/>
                  </a:lnTo>
                  <a:lnTo>
                    <a:pt x="806" y="676"/>
                  </a:lnTo>
                  <a:lnTo>
                    <a:pt x="797" y="663"/>
                  </a:lnTo>
                  <a:lnTo>
                    <a:pt x="787" y="652"/>
                  </a:lnTo>
                  <a:lnTo>
                    <a:pt x="779" y="640"/>
                  </a:lnTo>
                  <a:lnTo>
                    <a:pt x="771" y="627"/>
                  </a:lnTo>
                  <a:lnTo>
                    <a:pt x="764" y="613"/>
                  </a:lnTo>
                  <a:lnTo>
                    <a:pt x="759" y="600"/>
                  </a:lnTo>
                  <a:lnTo>
                    <a:pt x="754" y="586"/>
                  </a:lnTo>
                  <a:lnTo>
                    <a:pt x="752" y="570"/>
                  </a:lnTo>
                  <a:lnTo>
                    <a:pt x="750" y="555"/>
                  </a:lnTo>
                  <a:lnTo>
                    <a:pt x="750" y="538"/>
                  </a:lnTo>
                  <a:lnTo>
                    <a:pt x="751" y="521"/>
                  </a:lnTo>
                  <a:lnTo>
                    <a:pt x="748" y="505"/>
                  </a:lnTo>
                  <a:lnTo>
                    <a:pt x="742" y="488"/>
                  </a:lnTo>
                  <a:lnTo>
                    <a:pt x="736" y="471"/>
                  </a:lnTo>
                  <a:lnTo>
                    <a:pt x="727" y="455"/>
                  </a:lnTo>
                  <a:lnTo>
                    <a:pt x="716" y="438"/>
                  </a:lnTo>
                  <a:lnTo>
                    <a:pt x="704" y="421"/>
                  </a:lnTo>
                  <a:lnTo>
                    <a:pt x="692" y="406"/>
                  </a:lnTo>
                  <a:lnTo>
                    <a:pt x="678" y="391"/>
                  </a:lnTo>
                  <a:lnTo>
                    <a:pt x="664" y="378"/>
                  </a:lnTo>
                  <a:lnTo>
                    <a:pt x="649" y="366"/>
                  </a:lnTo>
                  <a:lnTo>
                    <a:pt x="634" y="355"/>
                  </a:lnTo>
                  <a:lnTo>
                    <a:pt x="619" y="345"/>
                  </a:lnTo>
                  <a:lnTo>
                    <a:pt x="604" y="338"/>
                  </a:lnTo>
                  <a:lnTo>
                    <a:pt x="589" y="333"/>
                  </a:lnTo>
                  <a:lnTo>
                    <a:pt x="582" y="330"/>
                  </a:lnTo>
                  <a:lnTo>
                    <a:pt x="575" y="329"/>
                  </a:lnTo>
                  <a:lnTo>
                    <a:pt x="568" y="328"/>
                  </a:lnTo>
                  <a:lnTo>
                    <a:pt x="561" y="328"/>
                  </a:lnTo>
                  <a:lnTo>
                    <a:pt x="516" y="320"/>
                  </a:lnTo>
                  <a:lnTo>
                    <a:pt x="475" y="312"/>
                  </a:lnTo>
                  <a:lnTo>
                    <a:pt x="438" y="303"/>
                  </a:lnTo>
                  <a:lnTo>
                    <a:pt x="405" y="293"/>
                  </a:lnTo>
                  <a:lnTo>
                    <a:pt x="376" y="282"/>
                  </a:lnTo>
                  <a:lnTo>
                    <a:pt x="349" y="270"/>
                  </a:lnTo>
                  <a:lnTo>
                    <a:pt x="325" y="258"/>
                  </a:lnTo>
                  <a:lnTo>
                    <a:pt x="302" y="245"/>
                  </a:lnTo>
                  <a:lnTo>
                    <a:pt x="281" y="230"/>
                  </a:lnTo>
                  <a:lnTo>
                    <a:pt x="261" y="215"/>
                  </a:lnTo>
                  <a:lnTo>
                    <a:pt x="241" y="199"/>
                  </a:lnTo>
                  <a:lnTo>
                    <a:pt x="221" y="182"/>
                  </a:lnTo>
                  <a:lnTo>
                    <a:pt x="179" y="144"/>
                  </a:lnTo>
                  <a:lnTo>
                    <a:pt x="130" y="101"/>
                  </a:lnTo>
                  <a:lnTo>
                    <a:pt x="118" y="84"/>
                  </a:lnTo>
                  <a:lnTo>
                    <a:pt x="106" y="67"/>
                  </a:lnTo>
                  <a:lnTo>
                    <a:pt x="94" y="53"/>
                  </a:lnTo>
                  <a:lnTo>
                    <a:pt x="81" y="40"/>
                  </a:lnTo>
                  <a:lnTo>
                    <a:pt x="68" y="26"/>
                  </a:lnTo>
                  <a:lnTo>
                    <a:pt x="53" y="16"/>
                  </a:lnTo>
                  <a:lnTo>
                    <a:pt x="44" y="11"/>
                  </a:lnTo>
                  <a:lnTo>
                    <a:pt x="35" y="6"/>
                  </a:lnTo>
                  <a:lnTo>
                    <a:pt x="25" y="3"/>
                  </a:lnTo>
                  <a:lnTo>
                    <a:pt x="15" y="0"/>
                  </a:lnTo>
                  <a:lnTo>
                    <a:pt x="0" y="14"/>
                  </a:lnTo>
                  <a:lnTo>
                    <a:pt x="29" y="72"/>
                  </a:lnTo>
                  <a:lnTo>
                    <a:pt x="58" y="133"/>
                  </a:lnTo>
                  <a:lnTo>
                    <a:pt x="71" y="164"/>
                  </a:lnTo>
                  <a:lnTo>
                    <a:pt x="85" y="196"/>
                  </a:lnTo>
                  <a:lnTo>
                    <a:pt x="97" y="228"/>
                  </a:lnTo>
                  <a:lnTo>
                    <a:pt x="108" y="262"/>
                  </a:lnTo>
                  <a:lnTo>
                    <a:pt x="119" y="295"/>
                  </a:lnTo>
                  <a:lnTo>
                    <a:pt x="128" y="328"/>
                  </a:lnTo>
                  <a:lnTo>
                    <a:pt x="137" y="363"/>
                  </a:lnTo>
                  <a:lnTo>
                    <a:pt x="144" y="397"/>
                  </a:lnTo>
                  <a:lnTo>
                    <a:pt x="149" y="431"/>
                  </a:lnTo>
                  <a:lnTo>
                    <a:pt x="153" y="466"/>
                  </a:lnTo>
                  <a:lnTo>
                    <a:pt x="155" y="500"/>
                  </a:lnTo>
                  <a:lnTo>
                    <a:pt x="155" y="534"/>
                  </a:lnTo>
                  <a:lnTo>
                    <a:pt x="156" y="532"/>
                  </a:lnTo>
                  <a:lnTo>
                    <a:pt x="158" y="530"/>
                  </a:lnTo>
                  <a:lnTo>
                    <a:pt x="161" y="529"/>
                  </a:lnTo>
                  <a:lnTo>
                    <a:pt x="165" y="528"/>
                  </a:lnTo>
                  <a:lnTo>
                    <a:pt x="175" y="527"/>
                  </a:lnTo>
                  <a:lnTo>
                    <a:pt x="185" y="526"/>
                  </a:lnTo>
                  <a:lnTo>
                    <a:pt x="196" y="528"/>
                  </a:lnTo>
                  <a:lnTo>
                    <a:pt x="207" y="530"/>
                  </a:lnTo>
                  <a:lnTo>
                    <a:pt x="211" y="532"/>
                  </a:lnTo>
                  <a:lnTo>
                    <a:pt x="216" y="535"/>
                  </a:lnTo>
                  <a:lnTo>
                    <a:pt x="220" y="538"/>
                  </a:lnTo>
                  <a:lnTo>
                    <a:pt x="224" y="541"/>
                  </a:lnTo>
                  <a:lnTo>
                    <a:pt x="232" y="555"/>
                  </a:lnTo>
                  <a:lnTo>
                    <a:pt x="240" y="568"/>
                  </a:lnTo>
                  <a:lnTo>
                    <a:pt x="247" y="581"/>
                  </a:lnTo>
                  <a:lnTo>
                    <a:pt x="251" y="593"/>
                  </a:lnTo>
                  <a:lnTo>
                    <a:pt x="254" y="607"/>
                  </a:lnTo>
                  <a:lnTo>
                    <a:pt x="255" y="619"/>
                  </a:lnTo>
                  <a:lnTo>
                    <a:pt x="255" y="631"/>
                  </a:lnTo>
                  <a:lnTo>
                    <a:pt x="252" y="643"/>
                  </a:lnTo>
                  <a:lnTo>
                    <a:pt x="250" y="656"/>
                  </a:lnTo>
                  <a:lnTo>
                    <a:pt x="247" y="668"/>
                  </a:lnTo>
                  <a:lnTo>
                    <a:pt x="242" y="680"/>
                  </a:lnTo>
                  <a:lnTo>
                    <a:pt x="238" y="692"/>
                  </a:lnTo>
                  <a:lnTo>
                    <a:pt x="227" y="717"/>
                  </a:lnTo>
                  <a:lnTo>
                    <a:pt x="216" y="742"/>
                  </a:lnTo>
                  <a:lnTo>
                    <a:pt x="204" y="767"/>
                  </a:lnTo>
                  <a:lnTo>
                    <a:pt x="195" y="792"/>
                  </a:lnTo>
                  <a:lnTo>
                    <a:pt x="190" y="804"/>
                  </a:lnTo>
                  <a:lnTo>
                    <a:pt x="187" y="818"/>
                  </a:lnTo>
                  <a:lnTo>
                    <a:pt x="185" y="831"/>
                  </a:lnTo>
                  <a:lnTo>
                    <a:pt x="184" y="844"/>
                  </a:lnTo>
                  <a:lnTo>
                    <a:pt x="184" y="859"/>
                  </a:lnTo>
                  <a:lnTo>
                    <a:pt x="186" y="872"/>
                  </a:lnTo>
                  <a:lnTo>
                    <a:pt x="188" y="886"/>
                  </a:lnTo>
                  <a:lnTo>
                    <a:pt x="192" y="901"/>
                  </a:lnTo>
                  <a:lnTo>
                    <a:pt x="199" y="915"/>
                  </a:lnTo>
                  <a:lnTo>
                    <a:pt x="208" y="930"/>
                  </a:lnTo>
                  <a:lnTo>
                    <a:pt x="218" y="945"/>
                  </a:lnTo>
                  <a:lnTo>
                    <a:pt x="231" y="961"/>
                  </a:lnTo>
                  <a:lnTo>
                    <a:pt x="274" y="1000"/>
                  </a:lnTo>
                  <a:lnTo>
                    <a:pt x="319" y="1044"/>
                  </a:lnTo>
                  <a:lnTo>
                    <a:pt x="366" y="1092"/>
                  </a:lnTo>
                  <a:lnTo>
                    <a:pt x="415" y="1145"/>
                  </a:lnTo>
                  <a:lnTo>
                    <a:pt x="438" y="1173"/>
                  </a:lnTo>
                  <a:lnTo>
                    <a:pt x="462" y="1202"/>
                  </a:lnTo>
                  <a:lnTo>
                    <a:pt x="488" y="1232"/>
                  </a:lnTo>
                  <a:lnTo>
                    <a:pt x="512" y="1263"/>
                  </a:lnTo>
                  <a:lnTo>
                    <a:pt x="537" y="1295"/>
                  </a:lnTo>
                  <a:lnTo>
                    <a:pt x="561" y="1327"/>
                  </a:lnTo>
                  <a:lnTo>
                    <a:pt x="586" y="1362"/>
                  </a:lnTo>
                  <a:lnTo>
                    <a:pt x="610" y="1396"/>
                  </a:lnTo>
                  <a:lnTo>
                    <a:pt x="633" y="1431"/>
                  </a:lnTo>
                  <a:lnTo>
                    <a:pt x="657" y="1468"/>
                  </a:lnTo>
                  <a:lnTo>
                    <a:pt x="680" y="1506"/>
                  </a:lnTo>
                  <a:lnTo>
                    <a:pt x="703" y="1544"/>
                  </a:lnTo>
                  <a:lnTo>
                    <a:pt x="726" y="1582"/>
                  </a:lnTo>
                  <a:lnTo>
                    <a:pt x="748" y="1622"/>
                  </a:lnTo>
                  <a:lnTo>
                    <a:pt x="769" y="1663"/>
                  </a:lnTo>
                  <a:lnTo>
                    <a:pt x="790" y="1705"/>
                  </a:lnTo>
                  <a:lnTo>
                    <a:pt x="810" y="1747"/>
                  </a:lnTo>
                  <a:lnTo>
                    <a:pt x="830" y="1789"/>
                  </a:lnTo>
                  <a:lnTo>
                    <a:pt x="849" y="1833"/>
                  </a:lnTo>
                  <a:lnTo>
                    <a:pt x="867" y="1877"/>
                  </a:lnTo>
                  <a:lnTo>
                    <a:pt x="883" y="1922"/>
                  </a:lnTo>
                  <a:lnTo>
                    <a:pt x="900" y="1968"/>
                  </a:lnTo>
                  <a:lnTo>
                    <a:pt x="914" y="2013"/>
                  </a:lnTo>
                  <a:lnTo>
                    <a:pt x="929" y="2060"/>
                  </a:lnTo>
                  <a:lnTo>
                    <a:pt x="945" y="2064"/>
                  </a:lnTo>
                  <a:lnTo>
                    <a:pt x="961" y="2065"/>
                  </a:lnTo>
                  <a:lnTo>
                    <a:pt x="975" y="2064"/>
                  </a:lnTo>
                  <a:lnTo>
                    <a:pt x="990" y="2061"/>
                  </a:lnTo>
                  <a:lnTo>
                    <a:pt x="1003" y="2054"/>
                  </a:lnTo>
                  <a:lnTo>
                    <a:pt x="1015" y="2045"/>
                  </a:lnTo>
                  <a:lnTo>
                    <a:pt x="1027" y="2034"/>
                  </a:lnTo>
                  <a:lnTo>
                    <a:pt x="1038" y="2022"/>
                  </a:lnTo>
                  <a:lnTo>
                    <a:pt x="1049" y="2008"/>
                  </a:lnTo>
                  <a:lnTo>
                    <a:pt x="1058" y="1991"/>
                  </a:lnTo>
                  <a:lnTo>
                    <a:pt x="1068" y="1974"/>
                  </a:lnTo>
                  <a:lnTo>
                    <a:pt x="1075" y="1955"/>
                  </a:lnTo>
                  <a:lnTo>
                    <a:pt x="1083" y="1937"/>
                  </a:lnTo>
                  <a:lnTo>
                    <a:pt x="1091" y="1915"/>
                  </a:lnTo>
                  <a:lnTo>
                    <a:pt x="1098" y="1894"/>
                  </a:lnTo>
                  <a:lnTo>
                    <a:pt x="1104" y="1873"/>
                  </a:lnTo>
                  <a:lnTo>
                    <a:pt x="1116" y="1830"/>
                  </a:lnTo>
                  <a:lnTo>
                    <a:pt x="1126" y="1788"/>
                  </a:lnTo>
                  <a:lnTo>
                    <a:pt x="1135" y="1747"/>
                  </a:lnTo>
                  <a:lnTo>
                    <a:pt x="1143" y="1709"/>
                  </a:lnTo>
                  <a:lnTo>
                    <a:pt x="1150" y="1676"/>
                  </a:lnTo>
                  <a:lnTo>
                    <a:pt x="1155" y="1649"/>
                  </a:lnTo>
                  <a:lnTo>
                    <a:pt x="1159" y="1638"/>
                  </a:lnTo>
                  <a:lnTo>
                    <a:pt x="1162" y="1630"/>
                  </a:lnTo>
                  <a:lnTo>
                    <a:pt x="1164" y="1624"/>
                  </a:lnTo>
                  <a:lnTo>
                    <a:pt x="1168" y="1620"/>
                  </a:lnTo>
                  <a:lnTo>
                    <a:pt x="1175" y="1607"/>
                  </a:lnTo>
                  <a:lnTo>
                    <a:pt x="1183" y="1595"/>
                  </a:lnTo>
                  <a:lnTo>
                    <a:pt x="1189" y="1581"/>
                  </a:lnTo>
                  <a:lnTo>
                    <a:pt x="1194" y="1569"/>
                  </a:lnTo>
                  <a:lnTo>
                    <a:pt x="1199" y="1558"/>
                  </a:lnTo>
                  <a:lnTo>
                    <a:pt x="1203" y="1547"/>
                  </a:lnTo>
                  <a:lnTo>
                    <a:pt x="1206" y="1536"/>
                  </a:lnTo>
                  <a:lnTo>
                    <a:pt x="1209" y="1525"/>
                  </a:lnTo>
                  <a:lnTo>
                    <a:pt x="1212" y="1504"/>
                  </a:lnTo>
                  <a:lnTo>
                    <a:pt x="1213" y="1485"/>
                  </a:lnTo>
                  <a:lnTo>
                    <a:pt x="1212" y="1467"/>
                  </a:lnTo>
                  <a:lnTo>
                    <a:pt x="1209" y="1450"/>
                  </a:lnTo>
                  <a:lnTo>
                    <a:pt x="1205" y="1435"/>
                  </a:lnTo>
                  <a:lnTo>
                    <a:pt x="1200" y="1420"/>
                  </a:lnTo>
                  <a:lnTo>
                    <a:pt x="1194" y="1407"/>
                  </a:lnTo>
                  <a:lnTo>
                    <a:pt x="1189" y="1395"/>
                  </a:lnTo>
                  <a:lnTo>
                    <a:pt x="1178" y="1374"/>
                  </a:lnTo>
                  <a:lnTo>
                    <a:pt x="1170" y="1358"/>
                  </a:lnTo>
                  <a:lnTo>
                    <a:pt x="1163" y="1347"/>
                  </a:lnTo>
                  <a:lnTo>
                    <a:pt x="1162" y="1345"/>
                  </a:lnTo>
                  <a:lnTo>
                    <a:pt x="1162" y="1344"/>
                  </a:lnTo>
                  <a:lnTo>
                    <a:pt x="1161" y="1342"/>
                  </a:lnTo>
                  <a:lnTo>
                    <a:pt x="1161" y="1340"/>
                  </a:lnTo>
                  <a:lnTo>
                    <a:pt x="1160" y="1339"/>
                  </a:lnTo>
                  <a:lnTo>
                    <a:pt x="1160" y="1337"/>
                  </a:lnTo>
                  <a:lnTo>
                    <a:pt x="1159" y="1336"/>
                  </a:lnTo>
                  <a:lnTo>
                    <a:pt x="1159" y="1334"/>
                  </a:lnTo>
                  <a:lnTo>
                    <a:pt x="1159" y="1335"/>
                  </a:lnTo>
                  <a:lnTo>
                    <a:pt x="1159" y="1336"/>
                  </a:lnTo>
                  <a:lnTo>
                    <a:pt x="1159" y="1337"/>
                  </a:lnTo>
                  <a:lnTo>
                    <a:pt x="1159" y="1338"/>
                  </a:lnTo>
                  <a:lnTo>
                    <a:pt x="1159" y="1338"/>
                  </a:lnTo>
                  <a:lnTo>
                    <a:pt x="1159" y="1339"/>
                  </a:lnTo>
                  <a:lnTo>
                    <a:pt x="1159" y="1340"/>
                  </a:lnTo>
                  <a:lnTo>
                    <a:pt x="1159" y="1342"/>
                  </a:lnTo>
                  <a:lnTo>
                    <a:pt x="1155" y="1352"/>
                  </a:lnTo>
                  <a:lnTo>
                    <a:pt x="1152" y="1373"/>
                  </a:lnTo>
                  <a:lnTo>
                    <a:pt x="1148" y="1394"/>
                  </a:lnTo>
                  <a:lnTo>
                    <a:pt x="1143" y="1414"/>
                  </a:lnTo>
                  <a:lnTo>
                    <a:pt x="1136" y="1434"/>
                  </a:lnTo>
                  <a:lnTo>
                    <a:pt x="1130" y="1454"/>
                  </a:lnTo>
                  <a:lnTo>
                    <a:pt x="1122" y="1474"/>
                  </a:lnTo>
                  <a:lnTo>
                    <a:pt x="1113" y="1494"/>
                  </a:lnTo>
                  <a:lnTo>
                    <a:pt x="1104" y="1513"/>
                  </a:lnTo>
                  <a:lnTo>
                    <a:pt x="1094" y="1531"/>
                  </a:lnTo>
                  <a:lnTo>
                    <a:pt x="1083" y="1550"/>
                  </a:lnTo>
                  <a:lnTo>
                    <a:pt x="1072" y="1568"/>
                  </a:lnTo>
                  <a:lnTo>
                    <a:pt x="1060" y="1586"/>
                  </a:lnTo>
                  <a:lnTo>
                    <a:pt x="1048" y="1602"/>
                  </a:lnTo>
                  <a:lnTo>
                    <a:pt x="1034" y="1619"/>
                  </a:lnTo>
                  <a:lnTo>
                    <a:pt x="1020" y="1636"/>
                  </a:lnTo>
                  <a:lnTo>
                    <a:pt x="1005" y="1651"/>
                  </a:lnTo>
                  <a:lnTo>
                    <a:pt x="1002" y="1655"/>
                  </a:lnTo>
                  <a:lnTo>
                    <a:pt x="999" y="1658"/>
                  </a:lnTo>
                  <a:lnTo>
                    <a:pt x="994" y="1660"/>
                  </a:lnTo>
                  <a:lnTo>
                    <a:pt x="990" y="1662"/>
                  </a:lnTo>
                  <a:lnTo>
                    <a:pt x="980" y="1665"/>
                  </a:lnTo>
                  <a:lnTo>
                    <a:pt x="969" y="1665"/>
                  </a:lnTo>
                  <a:lnTo>
                    <a:pt x="958" y="1663"/>
                  </a:lnTo>
                  <a:lnTo>
                    <a:pt x="948" y="1660"/>
                  </a:lnTo>
                  <a:lnTo>
                    <a:pt x="938" y="1657"/>
                  </a:lnTo>
                  <a:lnTo>
                    <a:pt x="929" y="1651"/>
                  </a:lnTo>
                  <a:lnTo>
                    <a:pt x="925" y="1615"/>
                  </a:lnTo>
                  <a:lnTo>
                    <a:pt x="923" y="1578"/>
                  </a:lnTo>
                  <a:lnTo>
                    <a:pt x="921" y="1542"/>
                  </a:lnTo>
                  <a:lnTo>
                    <a:pt x="921" y="1506"/>
                  </a:lnTo>
                  <a:lnTo>
                    <a:pt x="922" y="1468"/>
                  </a:lnTo>
                  <a:lnTo>
                    <a:pt x="925" y="1429"/>
                  </a:lnTo>
                  <a:lnTo>
                    <a:pt x="930" y="1390"/>
                  </a:lnTo>
                  <a:lnTo>
                    <a:pt x="937" y="1349"/>
                  </a:lnTo>
                  <a:lnTo>
                    <a:pt x="939" y="1336"/>
                  </a:lnTo>
                  <a:lnTo>
                    <a:pt x="943" y="1312"/>
                  </a:lnTo>
                  <a:lnTo>
                    <a:pt x="945" y="1283"/>
                  </a:lnTo>
                  <a:lnTo>
                    <a:pt x="948" y="1251"/>
                  </a:lnTo>
                  <a:lnTo>
                    <a:pt x="949" y="1216"/>
                  </a:lnTo>
                  <a:lnTo>
                    <a:pt x="949" y="1182"/>
                  </a:lnTo>
                  <a:lnTo>
                    <a:pt x="948" y="1146"/>
                  </a:lnTo>
                  <a:lnTo>
                    <a:pt x="945" y="1113"/>
                  </a:lnTo>
                  <a:lnTo>
                    <a:pt x="942" y="1080"/>
                  </a:lnTo>
                  <a:lnTo>
                    <a:pt x="982" y="1107"/>
                  </a:lnTo>
                  <a:lnTo>
                    <a:pt x="989" y="1132"/>
                  </a:lnTo>
                  <a:lnTo>
                    <a:pt x="993" y="1158"/>
                  </a:lnTo>
                  <a:lnTo>
                    <a:pt x="998" y="1186"/>
                  </a:lnTo>
                  <a:lnTo>
                    <a:pt x="1001" y="1215"/>
                  </a:lnTo>
                  <a:lnTo>
                    <a:pt x="1004" y="1245"/>
                  </a:lnTo>
                  <a:lnTo>
                    <a:pt x="1005" y="1275"/>
                  </a:lnTo>
                  <a:lnTo>
                    <a:pt x="1005" y="1306"/>
                  </a:lnTo>
                  <a:lnTo>
                    <a:pt x="1005" y="1336"/>
                  </a:lnTo>
                  <a:lnTo>
                    <a:pt x="1005" y="1352"/>
                  </a:lnTo>
                  <a:lnTo>
                    <a:pt x="1008" y="1369"/>
                  </a:lnTo>
                  <a:lnTo>
                    <a:pt x="1009" y="1386"/>
                  </a:lnTo>
                  <a:lnTo>
                    <a:pt x="1010" y="1403"/>
                  </a:lnTo>
                  <a:lnTo>
                    <a:pt x="1012" y="1420"/>
                  </a:lnTo>
                  <a:lnTo>
                    <a:pt x="1013" y="1437"/>
                  </a:lnTo>
                  <a:lnTo>
                    <a:pt x="1014" y="1454"/>
                  </a:lnTo>
                  <a:lnTo>
                    <a:pt x="1017" y="1471"/>
                  </a:lnTo>
                  <a:lnTo>
                    <a:pt x="1019" y="1488"/>
                  </a:lnTo>
                  <a:lnTo>
                    <a:pt x="1030" y="1471"/>
                  </a:lnTo>
                  <a:lnTo>
                    <a:pt x="1041" y="1455"/>
                  </a:lnTo>
                  <a:lnTo>
                    <a:pt x="1051" y="1438"/>
                  </a:lnTo>
                  <a:lnTo>
                    <a:pt x="1060" y="1420"/>
                  </a:lnTo>
                  <a:lnTo>
                    <a:pt x="1069" y="1404"/>
                  </a:lnTo>
                  <a:lnTo>
                    <a:pt x="1076" y="1386"/>
                  </a:lnTo>
                  <a:lnTo>
                    <a:pt x="1084" y="1369"/>
                  </a:lnTo>
                  <a:lnTo>
                    <a:pt x="1092" y="1352"/>
                  </a:lnTo>
                  <a:lnTo>
                    <a:pt x="1098" y="1339"/>
                  </a:lnTo>
                  <a:lnTo>
                    <a:pt x="1105" y="1314"/>
                  </a:lnTo>
                  <a:lnTo>
                    <a:pt x="1115" y="1287"/>
                  </a:lnTo>
                  <a:lnTo>
                    <a:pt x="1125" y="1263"/>
                  </a:lnTo>
                  <a:lnTo>
                    <a:pt x="1138" y="1237"/>
                  </a:lnTo>
                  <a:lnTo>
                    <a:pt x="1150" y="1213"/>
                  </a:lnTo>
                  <a:lnTo>
                    <a:pt x="1164" y="1190"/>
                  </a:lnTo>
                  <a:lnTo>
                    <a:pt x="1181" y="1166"/>
                  </a:lnTo>
                  <a:lnTo>
                    <a:pt x="1199" y="1144"/>
                  </a:lnTo>
                  <a:lnTo>
                    <a:pt x="1206" y="1153"/>
                  </a:lnTo>
                  <a:lnTo>
                    <a:pt x="1214" y="1162"/>
                  </a:lnTo>
                  <a:lnTo>
                    <a:pt x="1221" y="1173"/>
                  </a:lnTo>
                  <a:lnTo>
                    <a:pt x="1228" y="1183"/>
                  </a:lnTo>
                  <a:lnTo>
                    <a:pt x="1234" y="1195"/>
                  </a:lnTo>
                  <a:lnTo>
                    <a:pt x="1239" y="1207"/>
                  </a:lnTo>
                  <a:lnTo>
                    <a:pt x="1243" y="1219"/>
                  </a:lnTo>
                  <a:lnTo>
                    <a:pt x="1247" y="1232"/>
                  </a:lnTo>
                  <a:lnTo>
                    <a:pt x="1251" y="1245"/>
                  </a:lnTo>
                  <a:lnTo>
                    <a:pt x="1253" y="1259"/>
                  </a:lnTo>
                  <a:lnTo>
                    <a:pt x="1254" y="1273"/>
                  </a:lnTo>
                  <a:lnTo>
                    <a:pt x="1255" y="1287"/>
                  </a:lnTo>
                  <a:lnTo>
                    <a:pt x="1255" y="1302"/>
                  </a:lnTo>
                  <a:lnTo>
                    <a:pt x="1254" y="1316"/>
                  </a:lnTo>
                  <a:lnTo>
                    <a:pt x="1252" y="1329"/>
                  </a:lnTo>
                  <a:lnTo>
                    <a:pt x="1249" y="1344"/>
                  </a:lnTo>
                  <a:lnTo>
                    <a:pt x="1246" y="1362"/>
                  </a:lnTo>
                  <a:lnTo>
                    <a:pt x="1245" y="1368"/>
                  </a:lnTo>
                  <a:lnTo>
                    <a:pt x="1244" y="1376"/>
                  </a:lnTo>
                  <a:lnTo>
                    <a:pt x="1243" y="1384"/>
                  </a:lnTo>
                  <a:lnTo>
                    <a:pt x="1242" y="1392"/>
                  </a:lnTo>
                  <a:lnTo>
                    <a:pt x="1241" y="1399"/>
                  </a:lnTo>
                  <a:lnTo>
                    <a:pt x="1240" y="1408"/>
                  </a:lnTo>
                  <a:lnTo>
                    <a:pt x="1238" y="1416"/>
                  </a:lnTo>
                  <a:lnTo>
                    <a:pt x="1236" y="1425"/>
                  </a:lnTo>
                  <a:lnTo>
                    <a:pt x="1236" y="1428"/>
                  </a:lnTo>
                  <a:lnTo>
                    <a:pt x="1239" y="1436"/>
                  </a:lnTo>
                  <a:lnTo>
                    <a:pt x="1243" y="1447"/>
                  </a:lnTo>
                  <a:lnTo>
                    <a:pt x="1250" y="1457"/>
                  </a:lnTo>
                  <a:lnTo>
                    <a:pt x="1253" y="1461"/>
                  </a:lnTo>
                  <a:lnTo>
                    <a:pt x="1259" y="1465"/>
                  </a:lnTo>
                  <a:lnTo>
                    <a:pt x="1263" y="1467"/>
                  </a:lnTo>
                  <a:lnTo>
                    <a:pt x="1270" y="1468"/>
                  </a:lnTo>
                  <a:lnTo>
                    <a:pt x="1275" y="1466"/>
                  </a:lnTo>
                  <a:lnTo>
                    <a:pt x="1283" y="1463"/>
                  </a:lnTo>
                  <a:lnTo>
                    <a:pt x="1291" y="1457"/>
                  </a:lnTo>
                  <a:lnTo>
                    <a:pt x="1300" y="1448"/>
                  </a:lnTo>
                  <a:lnTo>
                    <a:pt x="1313" y="1436"/>
                  </a:lnTo>
                  <a:lnTo>
                    <a:pt x="1326" y="1424"/>
                  </a:lnTo>
                  <a:lnTo>
                    <a:pt x="1340" y="1412"/>
                  </a:lnTo>
                  <a:lnTo>
                    <a:pt x="1353" y="1399"/>
                  </a:lnTo>
                  <a:lnTo>
                    <a:pt x="1365" y="1388"/>
                  </a:lnTo>
                  <a:lnTo>
                    <a:pt x="1379" y="1377"/>
                  </a:lnTo>
                  <a:lnTo>
                    <a:pt x="1392" y="1366"/>
                  </a:lnTo>
                  <a:lnTo>
                    <a:pt x="1404" y="1356"/>
                  </a:lnTo>
                  <a:lnTo>
                    <a:pt x="1417" y="134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3121200" y="3272040"/>
              <a:ext cx="1382400" cy="2479680"/>
            </a:xfrm>
            <a:custGeom>
              <a:avLst/>
              <a:gdLst/>
              <a:ahLst/>
              <a:rect l="l" t="t" r="r" b="b"/>
              <a:pathLst>
                <a:path w="4354" h="7812">
                  <a:moveTo>
                    <a:pt x="4047" y="3891"/>
                  </a:moveTo>
                  <a:lnTo>
                    <a:pt x="4068" y="3949"/>
                  </a:lnTo>
                  <a:lnTo>
                    <a:pt x="4092" y="4014"/>
                  </a:lnTo>
                  <a:lnTo>
                    <a:pt x="4115" y="4087"/>
                  </a:lnTo>
                  <a:lnTo>
                    <a:pt x="4138" y="4164"/>
                  </a:lnTo>
                  <a:lnTo>
                    <a:pt x="4162" y="4246"/>
                  </a:lnTo>
                  <a:lnTo>
                    <a:pt x="4185" y="4333"/>
                  </a:lnTo>
                  <a:lnTo>
                    <a:pt x="4207" y="4423"/>
                  </a:lnTo>
                  <a:lnTo>
                    <a:pt x="4229" y="4514"/>
                  </a:lnTo>
                  <a:lnTo>
                    <a:pt x="4251" y="4606"/>
                  </a:lnTo>
                  <a:lnTo>
                    <a:pt x="4271" y="4699"/>
                  </a:lnTo>
                  <a:lnTo>
                    <a:pt x="4290" y="4791"/>
                  </a:lnTo>
                  <a:lnTo>
                    <a:pt x="4307" y="4881"/>
                  </a:lnTo>
                  <a:lnTo>
                    <a:pt x="4323" y="4969"/>
                  </a:lnTo>
                  <a:lnTo>
                    <a:pt x="4335" y="5055"/>
                  </a:lnTo>
                  <a:lnTo>
                    <a:pt x="4346" y="5134"/>
                  </a:lnTo>
                  <a:lnTo>
                    <a:pt x="4354" y="5210"/>
                  </a:lnTo>
                  <a:lnTo>
                    <a:pt x="4340" y="5235"/>
                  </a:lnTo>
                  <a:lnTo>
                    <a:pt x="4321" y="5220"/>
                  </a:lnTo>
                  <a:lnTo>
                    <a:pt x="4303" y="5205"/>
                  </a:lnTo>
                  <a:lnTo>
                    <a:pt x="4283" y="5193"/>
                  </a:lnTo>
                  <a:lnTo>
                    <a:pt x="4263" y="5181"/>
                  </a:lnTo>
                  <a:lnTo>
                    <a:pt x="4253" y="5177"/>
                  </a:lnTo>
                  <a:lnTo>
                    <a:pt x="4243" y="5172"/>
                  </a:lnTo>
                  <a:lnTo>
                    <a:pt x="4232" y="5169"/>
                  </a:lnTo>
                  <a:lnTo>
                    <a:pt x="4220" y="5166"/>
                  </a:lnTo>
                  <a:lnTo>
                    <a:pt x="4209" y="5162"/>
                  </a:lnTo>
                  <a:lnTo>
                    <a:pt x="4198" y="5161"/>
                  </a:lnTo>
                  <a:lnTo>
                    <a:pt x="4186" y="5160"/>
                  </a:lnTo>
                  <a:lnTo>
                    <a:pt x="4174" y="5159"/>
                  </a:lnTo>
                  <a:lnTo>
                    <a:pt x="4125" y="5152"/>
                  </a:lnTo>
                  <a:lnTo>
                    <a:pt x="4074" y="5147"/>
                  </a:lnTo>
                  <a:lnTo>
                    <a:pt x="4018" y="5143"/>
                  </a:lnTo>
                  <a:lnTo>
                    <a:pt x="3962" y="5140"/>
                  </a:lnTo>
                  <a:lnTo>
                    <a:pt x="3904" y="5138"/>
                  </a:lnTo>
                  <a:lnTo>
                    <a:pt x="3844" y="5138"/>
                  </a:lnTo>
                  <a:lnTo>
                    <a:pt x="3784" y="5138"/>
                  </a:lnTo>
                  <a:lnTo>
                    <a:pt x="3724" y="5139"/>
                  </a:lnTo>
                  <a:lnTo>
                    <a:pt x="3664" y="5141"/>
                  </a:lnTo>
                  <a:lnTo>
                    <a:pt x="3606" y="5143"/>
                  </a:lnTo>
                  <a:lnTo>
                    <a:pt x="3549" y="5147"/>
                  </a:lnTo>
                  <a:lnTo>
                    <a:pt x="3494" y="5151"/>
                  </a:lnTo>
                  <a:lnTo>
                    <a:pt x="3443" y="5156"/>
                  </a:lnTo>
                  <a:lnTo>
                    <a:pt x="3394" y="5161"/>
                  </a:lnTo>
                  <a:lnTo>
                    <a:pt x="3350" y="5167"/>
                  </a:lnTo>
                  <a:lnTo>
                    <a:pt x="3310" y="5172"/>
                  </a:lnTo>
                  <a:lnTo>
                    <a:pt x="3285" y="5159"/>
                  </a:lnTo>
                  <a:lnTo>
                    <a:pt x="3300" y="5153"/>
                  </a:lnTo>
                  <a:lnTo>
                    <a:pt x="3313" y="5147"/>
                  </a:lnTo>
                  <a:lnTo>
                    <a:pt x="3326" y="5140"/>
                  </a:lnTo>
                  <a:lnTo>
                    <a:pt x="3340" y="5132"/>
                  </a:lnTo>
                  <a:lnTo>
                    <a:pt x="3353" y="5124"/>
                  </a:lnTo>
                  <a:lnTo>
                    <a:pt x="3365" y="5116"/>
                  </a:lnTo>
                  <a:lnTo>
                    <a:pt x="3377" y="5106"/>
                  </a:lnTo>
                  <a:lnTo>
                    <a:pt x="3390" y="5096"/>
                  </a:lnTo>
                  <a:lnTo>
                    <a:pt x="3412" y="5074"/>
                  </a:lnTo>
                  <a:lnTo>
                    <a:pt x="3433" y="5052"/>
                  </a:lnTo>
                  <a:lnTo>
                    <a:pt x="3452" y="5028"/>
                  </a:lnTo>
                  <a:lnTo>
                    <a:pt x="3470" y="5002"/>
                  </a:lnTo>
                  <a:lnTo>
                    <a:pt x="3486" y="4976"/>
                  </a:lnTo>
                  <a:lnTo>
                    <a:pt x="3502" y="4949"/>
                  </a:lnTo>
                  <a:lnTo>
                    <a:pt x="3516" y="4920"/>
                  </a:lnTo>
                  <a:lnTo>
                    <a:pt x="3529" y="4892"/>
                  </a:lnTo>
                  <a:lnTo>
                    <a:pt x="3540" y="4864"/>
                  </a:lnTo>
                  <a:lnTo>
                    <a:pt x="3549" y="4835"/>
                  </a:lnTo>
                  <a:lnTo>
                    <a:pt x="3557" y="4807"/>
                  </a:lnTo>
                  <a:lnTo>
                    <a:pt x="3564" y="4779"/>
                  </a:lnTo>
                  <a:lnTo>
                    <a:pt x="3556" y="4776"/>
                  </a:lnTo>
                  <a:lnTo>
                    <a:pt x="3547" y="4771"/>
                  </a:lnTo>
                  <a:lnTo>
                    <a:pt x="3540" y="4768"/>
                  </a:lnTo>
                  <a:lnTo>
                    <a:pt x="3531" y="4766"/>
                  </a:lnTo>
                  <a:lnTo>
                    <a:pt x="3526" y="4765"/>
                  </a:lnTo>
                  <a:lnTo>
                    <a:pt x="3522" y="4765"/>
                  </a:lnTo>
                  <a:lnTo>
                    <a:pt x="3517" y="4765"/>
                  </a:lnTo>
                  <a:lnTo>
                    <a:pt x="3514" y="4766"/>
                  </a:lnTo>
                  <a:lnTo>
                    <a:pt x="3510" y="4768"/>
                  </a:lnTo>
                  <a:lnTo>
                    <a:pt x="3506" y="4770"/>
                  </a:lnTo>
                  <a:lnTo>
                    <a:pt x="3503" y="4774"/>
                  </a:lnTo>
                  <a:lnTo>
                    <a:pt x="3501" y="4779"/>
                  </a:lnTo>
                  <a:lnTo>
                    <a:pt x="3490" y="4796"/>
                  </a:lnTo>
                  <a:lnTo>
                    <a:pt x="3461" y="4844"/>
                  </a:lnTo>
                  <a:lnTo>
                    <a:pt x="3439" y="4875"/>
                  </a:lnTo>
                  <a:lnTo>
                    <a:pt x="3413" y="4910"/>
                  </a:lnTo>
                  <a:lnTo>
                    <a:pt x="3382" y="4948"/>
                  </a:lnTo>
                  <a:lnTo>
                    <a:pt x="3348" y="4988"/>
                  </a:lnTo>
                  <a:lnTo>
                    <a:pt x="3329" y="5008"/>
                  </a:lnTo>
                  <a:lnTo>
                    <a:pt x="3309" y="5028"/>
                  </a:lnTo>
                  <a:lnTo>
                    <a:pt x="3289" y="5048"/>
                  </a:lnTo>
                  <a:lnTo>
                    <a:pt x="3266" y="5067"/>
                  </a:lnTo>
                  <a:lnTo>
                    <a:pt x="3244" y="5086"/>
                  </a:lnTo>
                  <a:lnTo>
                    <a:pt x="3221" y="5104"/>
                  </a:lnTo>
                  <a:lnTo>
                    <a:pt x="3196" y="5122"/>
                  </a:lnTo>
                  <a:lnTo>
                    <a:pt x="3171" y="5139"/>
                  </a:lnTo>
                  <a:lnTo>
                    <a:pt x="3144" y="5154"/>
                  </a:lnTo>
                  <a:lnTo>
                    <a:pt x="3118" y="5169"/>
                  </a:lnTo>
                  <a:lnTo>
                    <a:pt x="3090" y="5182"/>
                  </a:lnTo>
                  <a:lnTo>
                    <a:pt x="3061" y="5193"/>
                  </a:lnTo>
                  <a:lnTo>
                    <a:pt x="3032" y="5203"/>
                  </a:lnTo>
                  <a:lnTo>
                    <a:pt x="3002" y="5212"/>
                  </a:lnTo>
                  <a:lnTo>
                    <a:pt x="2971" y="5219"/>
                  </a:lnTo>
                  <a:lnTo>
                    <a:pt x="2940" y="5223"/>
                  </a:lnTo>
                  <a:lnTo>
                    <a:pt x="2933" y="5224"/>
                  </a:lnTo>
                  <a:lnTo>
                    <a:pt x="2928" y="5224"/>
                  </a:lnTo>
                  <a:lnTo>
                    <a:pt x="2922" y="5223"/>
                  </a:lnTo>
                  <a:lnTo>
                    <a:pt x="2917" y="5222"/>
                  </a:lnTo>
                  <a:lnTo>
                    <a:pt x="2912" y="5220"/>
                  </a:lnTo>
                  <a:lnTo>
                    <a:pt x="2908" y="5217"/>
                  </a:lnTo>
                  <a:lnTo>
                    <a:pt x="2903" y="5213"/>
                  </a:lnTo>
                  <a:lnTo>
                    <a:pt x="2899" y="5209"/>
                  </a:lnTo>
                  <a:lnTo>
                    <a:pt x="2891" y="5200"/>
                  </a:lnTo>
                  <a:lnTo>
                    <a:pt x="2886" y="5190"/>
                  </a:lnTo>
                  <a:lnTo>
                    <a:pt x="2881" y="5181"/>
                  </a:lnTo>
                  <a:lnTo>
                    <a:pt x="2879" y="5172"/>
                  </a:lnTo>
                  <a:lnTo>
                    <a:pt x="2874" y="5160"/>
                  </a:lnTo>
                  <a:lnTo>
                    <a:pt x="2872" y="5147"/>
                  </a:lnTo>
                  <a:lnTo>
                    <a:pt x="2870" y="5132"/>
                  </a:lnTo>
                  <a:lnTo>
                    <a:pt x="2868" y="5116"/>
                  </a:lnTo>
                  <a:lnTo>
                    <a:pt x="2867" y="5099"/>
                  </a:lnTo>
                  <a:lnTo>
                    <a:pt x="2867" y="5081"/>
                  </a:lnTo>
                  <a:lnTo>
                    <a:pt x="2868" y="5062"/>
                  </a:lnTo>
                  <a:lnTo>
                    <a:pt x="2869" y="5042"/>
                  </a:lnTo>
                  <a:lnTo>
                    <a:pt x="2870" y="5022"/>
                  </a:lnTo>
                  <a:lnTo>
                    <a:pt x="2873" y="5001"/>
                  </a:lnTo>
                  <a:lnTo>
                    <a:pt x="2877" y="4979"/>
                  </a:lnTo>
                  <a:lnTo>
                    <a:pt x="2881" y="4957"/>
                  </a:lnTo>
                  <a:lnTo>
                    <a:pt x="2886" y="4935"/>
                  </a:lnTo>
                  <a:lnTo>
                    <a:pt x="2891" y="4911"/>
                  </a:lnTo>
                  <a:lnTo>
                    <a:pt x="2898" y="4888"/>
                  </a:lnTo>
                  <a:lnTo>
                    <a:pt x="2904" y="4865"/>
                  </a:lnTo>
                  <a:lnTo>
                    <a:pt x="2912" y="4841"/>
                  </a:lnTo>
                  <a:lnTo>
                    <a:pt x="2921" y="4819"/>
                  </a:lnTo>
                  <a:lnTo>
                    <a:pt x="2931" y="4796"/>
                  </a:lnTo>
                  <a:lnTo>
                    <a:pt x="2941" y="4773"/>
                  </a:lnTo>
                  <a:lnTo>
                    <a:pt x="2952" y="4750"/>
                  </a:lnTo>
                  <a:lnTo>
                    <a:pt x="2964" y="4728"/>
                  </a:lnTo>
                  <a:lnTo>
                    <a:pt x="2977" y="4707"/>
                  </a:lnTo>
                  <a:lnTo>
                    <a:pt x="2991" y="4686"/>
                  </a:lnTo>
                  <a:lnTo>
                    <a:pt x="3005" y="4665"/>
                  </a:lnTo>
                  <a:lnTo>
                    <a:pt x="3020" y="4645"/>
                  </a:lnTo>
                  <a:lnTo>
                    <a:pt x="3037" y="4627"/>
                  </a:lnTo>
                  <a:lnTo>
                    <a:pt x="3053" y="4608"/>
                  </a:lnTo>
                  <a:lnTo>
                    <a:pt x="3071" y="4592"/>
                  </a:lnTo>
                  <a:lnTo>
                    <a:pt x="3090" y="4576"/>
                  </a:lnTo>
                  <a:lnTo>
                    <a:pt x="3110" y="4562"/>
                  </a:lnTo>
                  <a:lnTo>
                    <a:pt x="3130" y="4548"/>
                  </a:lnTo>
                  <a:lnTo>
                    <a:pt x="3127" y="4535"/>
                  </a:lnTo>
                  <a:lnTo>
                    <a:pt x="3122" y="4522"/>
                  </a:lnTo>
                  <a:lnTo>
                    <a:pt x="3118" y="4508"/>
                  </a:lnTo>
                  <a:lnTo>
                    <a:pt x="3112" y="4495"/>
                  </a:lnTo>
                  <a:lnTo>
                    <a:pt x="3108" y="4488"/>
                  </a:lnTo>
                  <a:lnTo>
                    <a:pt x="3104" y="4483"/>
                  </a:lnTo>
                  <a:lnTo>
                    <a:pt x="3100" y="4477"/>
                  </a:lnTo>
                  <a:lnTo>
                    <a:pt x="3095" y="4473"/>
                  </a:lnTo>
                  <a:lnTo>
                    <a:pt x="3090" y="4468"/>
                  </a:lnTo>
                  <a:lnTo>
                    <a:pt x="3083" y="4464"/>
                  </a:lnTo>
                  <a:lnTo>
                    <a:pt x="3077" y="4462"/>
                  </a:lnTo>
                  <a:lnTo>
                    <a:pt x="3069" y="4460"/>
                  </a:lnTo>
                  <a:lnTo>
                    <a:pt x="3067" y="4462"/>
                  </a:lnTo>
                  <a:lnTo>
                    <a:pt x="3059" y="4471"/>
                  </a:lnTo>
                  <a:lnTo>
                    <a:pt x="3047" y="4482"/>
                  </a:lnTo>
                  <a:lnTo>
                    <a:pt x="3033" y="4493"/>
                  </a:lnTo>
                  <a:lnTo>
                    <a:pt x="3025" y="4498"/>
                  </a:lnTo>
                  <a:lnTo>
                    <a:pt x="3018" y="4503"/>
                  </a:lnTo>
                  <a:lnTo>
                    <a:pt x="3011" y="4506"/>
                  </a:lnTo>
                  <a:lnTo>
                    <a:pt x="3003" y="4508"/>
                  </a:lnTo>
                  <a:lnTo>
                    <a:pt x="2997" y="4508"/>
                  </a:lnTo>
                  <a:lnTo>
                    <a:pt x="2990" y="4507"/>
                  </a:lnTo>
                  <a:lnTo>
                    <a:pt x="2988" y="4506"/>
                  </a:lnTo>
                  <a:lnTo>
                    <a:pt x="2984" y="4505"/>
                  </a:lnTo>
                  <a:lnTo>
                    <a:pt x="2982" y="4502"/>
                  </a:lnTo>
                  <a:lnTo>
                    <a:pt x="2980" y="4500"/>
                  </a:lnTo>
                  <a:lnTo>
                    <a:pt x="3001" y="4463"/>
                  </a:lnTo>
                  <a:lnTo>
                    <a:pt x="3021" y="4427"/>
                  </a:lnTo>
                  <a:lnTo>
                    <a:pt x="3040" y="4391"/>
                  </a:lnTo>
                  <a:lnTo>
                    <a:pt x="3059" y="4353"/>
                  </a:lnTo>
                  <a:lnTo>
                    <a:pt x="3075" y="4316"/>
                  </a:lnTo>
                  <a:lnTo>
                    <a:pt x="3092" y="4279"/>
                  </a:lnTo>
                  <a:lnTo>
                    <a:pt x="3108" y="4241"/>
                  </a:lnTo>
                  <a:lnTo>
                    <a:pt x="3123" y="4203"/>
                  </a:lnTo>
                  <a:lnTo>
                    <a:pt x="3138" y="4165"/>
                  </a:lnTo>
                  <a:lnTo>
                    <a:pt x="3150" y="4127"/>
                  </a:lnTo>
                  <a:lnTo>
                    <a:pt x="3163" y="4088"/>
                  </a:lnTo>
                  <a:lnTo>
                    <a:pt x="3174" y="4049"/>
                  </a:lnTo>
                  <a:lnTo>
                    <a:pt x="3185" y="4010"/>
                  </a:lnTo>
                  <a:lnTo>
                    <a:pt x="3195" y="3971"/>
                  </a:lnTo>
                  <a:lnTo>
                    <a:pt x="3205" y="3932"/>
                  </a:lnTo>
                  <a:lnTo>
                    <a:pt x="3214" y="3893"/>
                  </a:lnTo>
                  <a:lnTo>
                    <a:pt x="3219" y="3860"/>
                  </a:lnTo>
                  <a:lnTo>
                    <a:pt x="3226" y="3829"/>
                  </a:lnTo>
                  <a:lnTo>
                    <a:pt x="3232" y="3797"/>
                  </a:lnTo>
                  <a:lnTo>
                    <a:pt x="3238" y="3766"/>
                  </a:lnTo>
                  <a:lnTo>
                    <a:pt x="3243" y="3735"/>
                  </a:lnTo>
                  <a:lnTo>
                    <a:pt x="3248" y="3704"/>
                  </a:lnTo>
                  <a:lnTo>
                    <a:pt x="3251" y="3671"/>
                  </a:lnTo>
                  <a:lnTo>
                    <a:pt x="3255" y="3640"/>
                  </a:lnTo>
                  <a:lnTo>
                    <a:pt x="3260" y="3608"/>
                  </a:lnTo>
                  <a:lnTo>
                    <a:pt x="3246" y="3596"/>
                  </a:lnTo>
                  <a:lnTo>
                    <a:pt x="3285" y="3187"/>
                  </a:lnTo>
                  <a:lnTo>
                    <a:pt x="3280" y="3183"/>
                  </a:lnTo>
                  <a:lnTo>
                    <a:pt x="3274" y="3177"/>
                  </a:lnTo>
                  <a:lnTo>
                    <a:pt x="3268" y="3173"/>
                  </a:lnTo>
                  <a:lnTo>
                    <a:pt x="3262" y="3169"/>
                  </a:lnTo>
                  <a:lnTo>
                    <a:pt x="3255" y="3165"/>
                  </a:lnTo>
                  <a:lnTo>
                    <a:pt x="3249" y="3163"/>
                  </a:lnTo>
                  <a:lnTo>
                    <a:pt x="3241" y="3163"/>
                  </a:lnTo>
                  <a:lnTo>
                    <a:pt x="3232" y="3164"/>
                  </a:lnTo>
                  <a:lnTo>
                    <a:pt x="3222" y="3254"/>
                  </a:lnTo>
                  <a:lnTo>
                    <a:pt x="3212" y="3343"/>
                  </a:lnTo>
                  <a:lnTo>
                    <a:pt x="3201" y="3433"/>
                  </a:lnTo>
                  <a:lnTo>
                    <a:pt x="3189" y="3522"/>
                  </a:lnTo>
                  <a:lnTo>
                    <a:pt x="3175" y="3609"/>
                  </a:lnTo>
                  <a:lnTo>
                    <a:pt x="3160" y="3697"/>
                  </a:lnTo>
                  <a:lnTo>
                    <a:pt x="3143" y="3784"/>
                  </a:lnTo>
                  <a:lnTo>
                    <a:pt x="3124" y="3870"/>
                  </a:lnTo>
                  <a:lnTo>
                    <a:pt x="3124" y="3883"/>
                  </a:lnTo>
                  <a:lnTo>
                    <a:pt x="3119" y="3906"/>
                  </a:lnTo>
                  <a:lnTo>
                    <a:pt x="3112" y="3930"/>
                  </a:lnTo>
                  <a:lnTo>
                    <a:pt x="3105" y="3954"/>
                  </a:lnTo>
                  <a:lnTo>
                    <a:pt x="3099" y="3979"/>
                  </a:lnTo>
                  <a:lnTo>
                    <a:pt x="3092" y="4003"/>
                  </a:lnTo>
                  <a:lnTo>
                    <a:pt x="3084" y="4029"/>
                  </a:lnTo>
                  <a:lnTo>
                    <a:pt x="3077" y="4053"/>
                  </a:lnTo>
                  <a:lnTo>
                    <a:pt x="3069" y="4079"/>
                  </a:lnTo>
                  <a:lnTo>
                    <a:pt x="3060" y="4105"/>
                  </a:lnTo>
                  <a:lnTo>
                    <a:pt x="3051" y="4133"/>
                  </a:lnTo>
                  <a:lnTo>
                    <a:pt x="3041" y="4160"/>
                  </a:lnTo>
                  <a:lnTo>
                    <a:pt x="3031" y="4185"/>
                  </a:lnTo>
                  <a:lnTo>
                    <a:pt x="3010" y="4236"/>
                  </a:lnTo>
                  <a:lnTo>
                    <a:pt x="2987" y="4287"/>
                  </a:lnTo>
                  <a:lnTo>
                    <a:pt x="2962" y="4336"/>
                  </a:lnTo>
                  <a:lnTo>
                    <a:pt x="2937" y="4385"/>
                  </a:lnTo>
                  <a:lnTo>
                    <a:pt x="2910" y="4433"/>
                  </a:lnTo>
                  <a:lnTo>
                    <a:pt x="2882" y="4481"/>
                  </a:lnTo>
                  <a:lnTo>
                    <a:pt x="2827" y="4575"/>
                  </a:lnTo>
                  <a:lnTo>
                    <a:pt x="2770" y="4669"/>
                  </a:lnTo>
                  <a:lnTo>
                    <a:pt x="2742" y="4717"/>
                  </a:lnTo>
                  <a:lnTo>
                    <a:pt x="2715" y="4766"/>
                  </a:lnTo>
                  <a:lnTo>
                    <a:pt x="2688" y="4815"/>
                  </a:lnTo>
                  <a:lnTo>
                    <a:pt x="2662" y="4866"/>
                  </a:lnTo>
                  <a:lnTo>
                    <a:pt x="2659" y="4864"/>
                  </a:lnTo>
                  <a:lnTo>
                    <a:pt x="2657" y="4861"/>
                  </a:lnTo>
                  <a:lnTo>
                    <a:pt x="2653" y="4858"/>
                  </a:lnTo>
                  <a:lnTo>
                    <a:pt x="2651" y="4856"/>
                  </a:lnTo>
                  <a:lnTo>
                    <a:pt x="2649" y="4852"/>
                  </a:lnTo>
                  <a:lnTo>
                    <a:pt x="2648" y="4849"/>
                  </a:lnTo>
                  <a:lnTo>
                    <a:pt x="2648" y="4846"/>
                  </a:lnTo>
                  <a:lnTo>
                    <a:pt x="2648" y="4842"/>
                  </a:lnTo>
                  <a:lnTo>
                    <a:pt x="2653" y="4823"/>
                  </a:lnTo>
                  <a:lnTo>
                    <a:pt x="2658" y="4805"/>
                  </a:lnTo>
                  <a:lnTo>
                    <a:pt x="2660" y="4788"/>
                  </a:lnTo>
                  <a:lnTo>
                    <a:pt x="2662" y="4771"/>
                  </a:lnTo>
                  <a:lnTo>
                    <a:pt x="2663" y="4756"/>
                  </a:lnTo>
                  <a:lnTo>
                    <a:pt x="2662" y="4741"/>
                  </a:lnTo>
                  <a:lnTo>
                    <a:pt x="2661" y="4728"/>
                  </a:lnTo>
                  <a:lnTo>
                    <a:pt x="2660" y="4716"/>
                  </a:lnTo>
                  <a:lnTo>
                    <a:pt x="2657" y="4704"/>
                  </a:lnTo>
                  <a:lnTo>
                    <a:pt x="2655" y="4693"/>
                  </a:lnTo>
                  <a:lnTo>
                    <a:pt x="2650" y="4682"/>
                  </a:lnTo>
                  <a:lnTo>
                    <a:pt x="2647" y="4672"/>
                  </a:lnTo>
                  <a:lnTo>
                    <a:pt x="2638" y="4654"/>
                  </a:lnTo>
                  <a:lnTo>
                    <a:pt x="2630" y="4638"/>
                  </a:lnTo>
                  <a:lnTo>
                    <a:pt x="2621" y="4624"/>
                  </a:lnTo>
                  <a:lnTo>
                    <a:pt x="2615" y="4612"/>
                  </a:lnTo>
                  <a:lnTo>
                    <a:pt x="2612" y="4605"/>
                  </a:lnTo>
                  <a:lnTo>
                    <a:pt x="2610" y="4599"/>
                  </a:lnTo>
                  <a:lnTo>
                    <a:pt x="2609" y="4594"/>
                  </a:lnTo>
                  <a:lnTo>
                    <a:pt x="2609" y="4589"/>
                  </a:lnTo>
                  <a:lnTo>
                    <a:pt x="2609" y="4584"/>
                  </a:lnTo>
                  <a:lnTo>
                    <a:pt x="2611" y="4579"/>
                  </a:lnTo>
                  <a:lnTo>
                    <a:pt x="2613" y="4574"/>
                  </a:lnTo>
                  <a:lnTo>
                    <a:pt x="2618" y="4569"/>
                  </a:lnTo>
                  <a:lnTo>
                    <a:pt x="2623" y="4564"/>
                  </a:lnTo>
                  <a:lnTo>
                    <a:pt x="2630" y="4559"/>
                  </a:lnTo>
                  <a:lnTo>
                    <a:pt x="2638" y="4554"/>
                  </a:lnTo>
                  <a:lnTo>
                    <a:pt x="2648" y="4548"/>
                  </a:lnTo>
                  <a:lnTo>
                    <a:pt x="2678" y="4491"/>
                  </a:lnTo>
                  <a:lnTo>
                    <a:pt x="2705" y="4435"/>
                  </a:lnTo>
                  <a:lnTo>
                    <a:pt x="2728" y="4384"/>
                  </a:lnTo>
                  <a:lnTo>
                    <a:pt x="2750" y="4335"/>
                  </a:lnTo>
                  <a:lnTo>
                    <a:pt x="2769" y="4290"/>
                  </a:lnTo>
                  <a:lnTo>
                    <a:pt x="2787" y="4246"/>
                  </a:lnTo>
                  <a:lnTo>
                    <a:pt x="2801" y="4205"/>
                  </a:lnTo>
                  <a:lnTo>
                    <a:pt x="2814" y="4165"/>
                  </a:lnTo>
                  <a:lnTo>
                    <a:pt x="2827" y="4129"/>
                  </a:lnTo>
                  <a:lnTo>
                    <a:pt x="2837" y="4092"/>
                  </a:lnTo>
                  <a:lnTo>
                    <a:pt x="2846" y="4058"/>
                  </a:lnTo>
                  <a:lnTo>
                    <a:pt x="2852" y="4024"/>
                  </a:lnTo>
                  <a:lnTo>
                    <a:pt x="2859" y="3992"/>
                  </a:lnTo>
                  <a:lnTo>
                    <a:pt x="2864" y="3960"/>
                  </a:lnTo>
                  <a:lnTo>
                    <a:pt x="2869" y="3928"/>
                  </a:lnTo>
                  <a:lnTo>
                    <a:pt x="2873" y="3896"/>
                  </a:lnTo>
                  <a:lnTo>
                    <a:pt x="2876" y="3860"/>
                  </a:lnTo>
                  <a:lnTo>
                    <a:pt x="2884" y="3781"/>
                  </a:lnTo>
                  <a:lnTo>
                    <a:pt x="2893" y="3705"/>
                  </a:lnTo>
                  <a:lnTo>
                    <a:pt x="2904" y="3631"/>
                  </a:lnTo>
                  <a:lnTo>
                    <a:pt x="2916" y="3559"/>
                  </a:lnTo>
                  <a:lnTo>
                    <a:pt x="2929" y="3491"/>
                  </a:lnTo>
                  <a:lnTo>
                    <a:pt x="2942" y="3424"/>
                  </a:lnTo>
                  <a:lnTo>
                    <a:pt x="2957" y="3360"/>
                  </a:lnTo>
                  <a:lnTo>
                    <a:pt x="2972" y="3297"/>
                  </a:lnTo>
                  <a:lnTo>
                    <a:pt x="2988" y="3237"/>
                  </a:lnTo>
                  <a:lnTo>
                    <a:pt x="3004" y="3181"/>
                  </a:lnTo>
                  <a:lnTo>
                    <a:pt x="3022" y="3125"/>
                  </a:lnTo>
                  <a:lnTo>
                    <a:pt x="3040" y="3072"/>
                  </a:lnTo>
                  <a:lnTo>
                    <a:pt x="3058" y="3021"/>
                  </a:lnTo>
                  <a:lnTo>
                    <a:pt x="3077" y="2972"/>
                  </a:lnTo>
                  <a:lnTo>
                    <a:pt x="3095" y="2926"/>
                  </a:lnTo>
                  <a:lnTo>
                    <a:pt x="3114" y="2881"/>
                  </a:lnTo>
                  <a:lnTo>
                    <a:pt x="3133" y="2839"/>
                  </a:lnTo>
                  <a:lnTo>
                    <a:pt x="3152" y="2799"/>
                  </a:lnTo>
                  <a:lnTo>
                    <a:pt x="3170" y="2760"/>
                  </a:lnTo>
                  <a:lnTo>
                    <a:pt x="3189" y="2725"/>
                  </a:lnTo>
                  <a:lnTo>
                    <a:pt x="3208" y="2690"/>
                  </a:lnTo>
                  <a:lnTo>
                    <a:pt x="3225" y="2658"/>
                  </a:lnTo>
                  <a:lnTo>
                    <a:pt x="3243" y="2628"/>
                  </a:lnTo>
                  <a:lnTo>
                    <a:pt x="3260" y="2599"/>
                  </a:lnTo>
                  <a:lnTo>
                    <a:pt x="3292" y="2549"/>
                  </a:lnTo>
                  <a:lnTo>
                    <a:pt x="3321" y="2506"/>
                  </a:lnTo>
                  <a:lnTo>
                    <a:pt x="3346" y="2469"/>
                  </a:lnTo>
                  <a:lnTo>
                    <a:pt x="3369" y="2442"/>
                  </a:lnTo>
                  <a:lnTo>
                    <a:pt x="3379" y="2424"/>
                  </a:lnTo>
                  <a:lnTo>
                    <a:pt x="3380" y="2423"/>
                  </a:lnTo>
                  <a:lnTo>
                    <a:pt x="3381" y="2420"/>
                  </a:lnTo>
                  <a:lnTo>
                    <a:pt x="3382" y="2419"/>
                  </a:lnTo>
                  <a:lnTo>
                    <a:pt x="3382" y="2418"/>
                  </a:lnTo>
                  <a:lnTo>
                    <a:pt x="3383" y="2417"/>
                  </a:lnTo>
                  <a:lnTo>
                    <a:pt x="3384" y="2416"/>
                  </a:lnTo>
                  <a:lnTo>
                    <a:pt x="3385" y="2415"/>
                  </a:lnTo>
                  <a:lnTo>
                    <a:pt x="3386" y="2414"/>
                  </a:lnTo>
                  <a:lnTo>
                    <a:pt x="3381" y="2410"/>
                  </a:lnTo>
                  <a:lnTo>
                    <a:pt x="3377" y="2405"/>
                  </a:lnTo>
                  <a:lnTo>
                    <a:pt x="3375" y="2400"/>
                  </a:lnTo>
                  <a:lnTo>
                    <a:pt x="3374" y="2394"/>
                  </a:lnTo>
                  <a:lnTo>
                    <a:pt x="3373" y="2382"/>
                  </a:lnTo>
                  <a:lnTo>
                    <a:pt x="3374" y="2369"/>
                  </a:lnTo>
                  <a:lnTo>
                    <a:pt x="3374" y="2363"/>
                  </a:lnTo>
                  <a:lnTo>
                    <a:pt x="3373" y="2357"/>
                  </a:lnTo>
                  <a:lnTo>
                    <a:pt x="3372" y="2352"/>
                  </a:lnTo>
                  <a:lnTo>
                    <a:pt x="3370" y="2347"/>
                  </a:lnTo>
                  <a:lnTo>
                    <a:pt x="3366" y="2343"/>
                  </a:lnTo>
                  <a:lnTo>
                    <a:pt x="3362" y="2341"/>
                  </a:lnTo>
                  <a:lnTo>
                    <a:pt x="3355" y="2338"/>
                  </a:lnTo>
                  <a:lnTo>
                    <a:pt x="3346" y="2337"/>
                  </a:lnTo>
                  <a:lnTo>
                    <a:pt x="3333" y="2351"/>
                  </a:lnTo>
                  <a:lnTo>
                    <a:pt x="3324" y="2358"/>
                  </a:lnTo>
                  <a:lnTo>
                    <a:pt x="3315" y="2367"/>
                  </a:lnTo>
                  <a:lnTo>
                    <a:pt x="3306" y="2376"/>
                  </a:lnTo>
                  <a:lnTo>
                    <a:pt x="3298" y="2386"/>
                  </a:lnTo>
                  <a:lnTo>
                    <a:pt x="3289" y="2395"/>
                  </a:lnTo>
                  <a:lnTo>
                    <a:pt x="3280" y="2404"/>
                  </a:lnTo>
                  <a:lnTo>
                    <a:pt x="3271" y="2413"/>
                  </a:lnTo>
                  <a:lnTo>
                    <a:pt x="3262" y="2422"/>
                  </a:lnTo>
                  <a:lnTo>
                    <a:pt x="3254" y="2436"/>
                  </a:lnTo>
                  <a:lnTo>
                    <a:pt x="3231" y="2464"/>
                  </a:lnTo>
                  <a:lnTo>
                    <a:pt x="3208" y="2493"/>
                  </a:lnTo>
                  <a:lnTo>
                    <a:pt x="3186" y="2523"/>
                  </a:lnTo>
                  <a:lnTo>
                    <a:pt x="3166" y="2554"/>
                  </a:lnTo>
                  <a:lnTo>
                    <a:pt x="3147" y="2585"/>
                  </a:lnTo>
                  <a:lnTo>
                    <a:pt x="3128" y="2616"/>
                  </a:lnTo>
                  <a:lnTo>
                    <a:pt x="3110" y="2648"/>
                  </a:lnTo>
                  <a:lnTo>
                    <a:pt x="3092" y="2681"/>
                  </a:lnTo>
                  <a:lnTo>
                    <a:pt x="3059" y="2747"/>
                  </a:lnTo>
                  <a:lnTo>
                    <a:pt x="3028" y="2813"/>
                  </a:lnTo>
                  <a:lnTo>
                    <a:pt x="2997" y="2881"/>
                  </a:lnTo>
                  <a:lnTo>
                    <a:pt x="2965" y="2947"/>
                  </a:lnTo>
                  <a:lnTo>
                    <a:pt x="2960" y="2919"/>
                  </a:lnTo>
                  <a:lnTo>
                    <a:pt x="2954" y="2891"/>
                  </a:lnTo>
                  <a:lnTo>
                    <a:pt x="2950" y="2862"/>
                  </a:lnTo>
                  <a:lnTo>
                    <a:pt x="2945" y="2833"/>
                  </a:lnTo>
                  <a:lnTo>
                    <a:pt x="2939" y="2776"/>
                  </a:lnTo>
                  <a:lnTo>
                    <a:pt x="2934" y="2717"/>
                  </a:lnTo>
                  <a:lnTo>
                    <a:pt x="2930" y="2657"/>
                  </a:lnTo>
                  <a:lnTo>
                    <a:pt x="2926" y="2597"/>
                  </a:lnTo>
                  <a:lnTo>
                    <a:pt x="2921" y="2537"/>
                  </a:lnTo>
                  <a:lnTo>
                    <a:pt x="2917" y="2477"/>
                  </a:lnTo>
                  <a:lnTo>
                    <a:pt x="2917" y="2473"/>
                  </a:lnTo>
                  <a:lnTo>
                    <a:pt x="2917" y="2468"/>
                  </a:lnTo>
                  <a:lnTo>
                    <a:pt x="2917" y="2464"/>
                  </a:lnTo>
                  <a:lnTo>
                    <a:pt x="2917" y="2459"/>
                  </a:lnTo>
                  <a:lnTo>
                    <a:pt x="2917" y="2455"/>
                  </a:lnTo>
                  <a:lnTo>
                    <a:pt x="2917" y="2452"/>
                  </a:lnTo>
                  <a:lnTo>
                    <a:pt x="2917" y="2447"/>
                  </a:lnTo>
                  <a:lnTo>
                    <a:pt x="2917" y="2444"/>
                  </a:lnTo>
                  <a:lnTo>
                    <a:pt x="2917" y="2422"/>
                  </a:lnTo>
                  <a:lnTo>
                    <a:pt x="2914" y="2391"/>
                  </a:lnTo>
                  <a:lnTo>
                    <a:pt x="2911" y="2359"/>
                  </a:lnTo>
                  <a:lnTo>
                    <a:pt x="2908" y="2328"/>
                  </a:lnTo>
                  <a:lnTo>
                    <a:pt x="2903" y="2297"/>
                  </a:lnTo>
                  <a:lnTo>
                    <a:pt x="2894" y="2234"/>
                  </a:lnTo>
                  <a:lnTo>
                    <a:pt x="2886" y="2171"/>
                  </a:lnTo>
                  <a:lnTo>
                    <a:pt x="2881" y="2139"/>
                  </a:lnTo>
                  <a:lnTo>
                    <a:pt x="2878" y="2107"/>
                  </a:lnTo>
                  <a:lnTo>
                    <a:pt x="2876" y="2075"/>
                  </a:lnTo>
                  <a:lnTo>
                    <a:pt x="2873" y="2043"/>
                  </a:lnTo>
                  <a:lnTo>
                    <a:pt x="2872" y="2011"/>
                  </a:lnTo>
                  <a:lnTo>
                    <a:pt x="2873" y="1980"/>
                  </a:lnTo>
                  <a:lnTo>
                    <a:pt x="2876" y="1949"/>
                  </a:lnTo>
                  <a:lnTo>
                    <a:pt x="2879" y="1917"/>
                  </a:lnTo>
                  <a:lnTo>
                    <a:pt x="2874" y="1909"/>
                  </a:lnTo>
                  <a:lnTo>
                    <a:pt x="2870" y="1903"/>
                  </a:lnTo>
                  <a:lnTo>
                    <a:pt x="2866" y="1899"/>
                  </a:lnTo>
                  <a:lnTo>
                    <a:pt x="2860" y="1895"/>
                  </a:lnTo>
                  <a:lnTo>
                    <a:pt x="2854" y="1893"/>
                  </a:lnTo>
                  <a:lnTo>
                    <a:pt x="2849" y="1893"/>
                  </a:lnTo>
                  <a:lnTo>
                    <a:pt x="2843" y="1893"/>
                  </a:lnTo>
                  <a:lnTo>
                    <a:pt x="2837" y="1894"/>
                  </a:lnTo>
                  <a:lnTo>
                    <a:pt x="2824" y="1897"/>
                  </a:lnTo>
                  <a:lnTo>
                    <a:pt x="2812" y="1900"/>
                  </a:lnTo>
                  <a:lnTo>
                    <a:pt x="2800" y="1903"/>
                  </a:lnTo>
                  <a:lnTo>
                    <a:pt x="2789" y="1904"/>
                  </a:lnTo>
                  <a:lnTo>
                    <a:pt x="2787" y="1920"/>
                  </a:lnTo>
                  <a:lnTo>
                    <a:pt x="2784" y="1935"/>
                  </a:lnTo>
                  <a:lnTo>
                    <a:pt x="2783" y="1951"/>
                  </a:lnTo>
                  <a:lnTo>
                    <a:pt x="2783" y="1966"/>
                  </a:lnTo>
                  <a:lnTo>
                    <a:pt x="2783" y="1998"/>
                  </a:lnTo>
                  <a:lnTo>
                    <a:pt x="2784" y="2028"/>
                  </a:lnTo>
                  <a:lnTo>
                    <a:pt x="2788" y="2058"/>
                  </a:lnTo>
                  <a:lnTo>
                    <a:pt x="2792" y="2087"/>
                  </a:lnTo>
                  <a:lnTo>
                    <a:pt x="2797" y="2116"/>
                  </a:lnTo>
                  <a:lnTo>
                    <a:pt x="2802" y="2146"/>
                  </a:lnTo>
                  <a:lnTo>
                    <a:pt x="2813" y="2205"/>
                  </a:lnTo>
                  <a:lnTo>
                    <a:pt x="2822" y="2265"/>
                  </a:lnTo>
                  <a:lnTo>
                    <a:pt x="2826" y="2295"/>
                  </a:lnTo>
                  <a:lnTo>
                    <a:pt x="2827" y="2326"/>
                  </a:lnTo>
                  <a:lnTo>
                    <a:pt x="2828" y="2358"/>
                  </a:lnTo>
                  <a:lnTo>
                    <a:pt x="2826" y="2391"/>
                  </a:lnTo>
                  <a:lnTo>
                    <a:pt x="2826" y="2395"/>
                  </a:lnTo>
                  <a:lnTo>
                    <a:pt x="2826" y="2398"/>
                  </a:lnTo>
                  <a:lnTo>
                    <a:pt x="2826" y="2403"/>
                  </a:lnTo>
                  <a:lnTo>
                    <a:pt x="2826" y="2406"/>
                  </a:lnTo>
                  <a:lnTo>
                    <a:pt x="2827" y="2410"/>
                  </a:lnTo>
                  <a:lnTo>
                    <a:pt x="2827" y="2415"/>
                  </a:lnTo>
                  <a:lnTo>
                    <a:pt x="2828" y="2419"/>
                  </a:lnTo>
                  <a:lnTo>
                    <a:pt x="2828" y="2424"/>
                  </a:lnTo>
                  <a:lnTo>
                    <a:pt x="2828" y="2442"/>
                  </a:lnTo>
                  <a:lnTo>
                    <a:pt x="2832" y="2520"/>
                  </a:lnTo>
                  <a:lnTo>
                    <a:pt x="2838" y="2603"/>
                  </a:lnTo>
                  <a:lnTo>
                    <a:pt x="2843" y="2686"/>
                  </a:lnTo>
                  <a:lnTo>
                    <a:pt x="2848" y="2771"/>
                  </a:lnTo>
                  <a:lnTo>
                    <a:pt x="2850" y="2813"/>
                  </a:lnTo>
                  <a:lnTo>
                    <a:pt x="2851" y="2857"/>
                  </a:lnTo>
                  <a:lnTo>
                    <a:pt x="2852" y="2900"/>
                  </a:lnTo>
                  <a:lnTo>
                    <a:pt x="2851" y="2942"/>
                  </a:lnTo>
                  <a:lnTo>
                    <a:pt x="2850" y="2985"/>
                  </a:lnTo>
                  <a:lnTo>
                    <a:pt x="2848" y="3029"/>
                  </a:lnTo>
                  <a:lnTo>
                    <a:pt x="2843" y="3072"/>
                  </a:lnTo>
                  <a:lnTo>
                    <a:pt x="2839" y="3114"/>
                  </a:lnTo>
                  <a:lnTo>
                    <a:pt x="2812" y="3292"/>
                  </a:lnTo>
                  <a:lnTo>
                    <a:pt x="2810" y="3308"/>
                  </a:lnTo>
                  <a:lnTo>
                    <a:pt x="2802" y="3355"/>
                  </a:lnTo>
                  <a:lnTo>
                    <a:pt x="2791" y="3424"/>
                  </a:lnTo>
                  <a:lnTo>
                    <a:pt x="2773" y="3508"/>
                  </a:lnTo>
                  <a:lnTo>
                    <a:pt x="2763" y="3555"/>
                  </a:lnTo>
                  <a:lnTo>
                    <a:pt x="2752" y="3603"/>
                  </a:lnTo>
                  <a:lnTo>
                    <a:pt x="2740" y="3650"/>
                  </a:lnTo>
                  <a:lnTo>
                    <a:pt x="2727" y="3698"/>
                  </a:lnTo>
                  <a:lnTo>
                    <a:pt x="2712" y="3745"/>
                  </a:lnTo>
                  <a:lnTo>
                    <a:pt x="2697" y="3790"/>
                  </a:lnTo>
                  <a:lnTo>
                    <a:pt x="2689" y="3811"/>
                  </a:lnTo>
                  <a:lnTo>
                    <a:pt x="2680" y="3831"/>
                  </a:lnTo>
                  <a:lnTo>
                    <a:pt x="2671" y="3851"/>
                  </a:lnTo>
                  <a:lnTo>
                    <a:pt x="2662" y="3870"/>
                  </a:lnTo>
                  <a:lnTo>
                    <a:pt x="2655" y="3886"/>
                  </a:lnTo>
                  <a:lnTo>
                    <a:pt x="2652" y="3889"/>
                  </a:lnTo>
                  <a:lnTo>
                    <a:pt x="2650" y="3892"/>
                  </a:lnTo>
                  <a:lnTo>
                    <a:pt x="2648" y="3896"/>
                  </a:lnTo>
                  <a:lnTo>
                    <a:pt x="2646" y="3899"/>
                  </a:lnTo>
                  <a:lnTo>
                    <a:pt x="2643" y="3902"/>
                  </a:lnTo>
                  <a:lnTo>
                    <a:pt x="2640" y="3906"/>
                  </a:lnTo>
                  <a:lnTo>
                    <a:pt x="2638" y="3909"/>
                  </a:lnTo>
                  <a:lnTo>
                    <a:pt x="2636" y="3911"/>
                  </a:lnTo>
                  <a:lnTo>
                    <a:pt x="2635" y="3911"/>
                  </a:lnTo>
                  <a:lnTo>
                    <a:pt x="2635" y="3910"/>
                  </a:lnTo>
                  <a:lnTo>
                    <a:pt x="2635" y="3908"/>
                  </a:lnTo>
                  <a:lnTo>
                    <a:pt x="2633" y="3905"/>
                  </a:lnTo>
                  <a:lnTo>
                    <a:pt x="2633" y="3900"/>
                  </a:lnTo>
                  <a:lnTo>
                    <a:pt x="2633" y="3896"/>
                  </a:lnTo>
                  <a:lnTo>
                    <a:pt x="2632" y="3891"/>
                  </a:lnTo>
                  <a:lnTo>
                    <a:pt x="2632" y="3886"/>
                  </a:lnTo>
                  <a:lnTo>
                    <a:pt x="2625" y="3860"/>
                  </a:lnTo>
                  <a:lnTo>
                    <a:pt x="2620" y="3836"/>
                  </a:lnTo>
                  <a:lnTo>
                    <a:pt x="2616" y="3810"/>
                  </a:lnTo>
                  <a:lnTo>
                    <a:pt x="2611" y="3785"/>
                  </a:lnTo>
                  <a:lnTo>
                    <a:pt x="2607" y="3761"/>
                  </a:lnTo>
                  <a:lnTo>
                    <a:pt x="2602" y="3740"/>
                  </a:lnTo>
                  <a:lnTo>
                    <a:pt x="2599" y="3724"/>
                  </a:lnTo>
                  <a:lnTo>
                    <a:pt x="2597" y="3713"/>
                  </a:lnTo>
                  <a:lnTo>
                    <a:pt x="2597" y="3708"/>
                  </a:lnTo>
                  <a:lnTo>
                    <a:pt x="2578" y="3610"/>
                  </a:lnTo>
                  <a:lnTo>
                    <a:pt x="2563" y="3524"/>
                  </a:lnTo>
                  <a:lnTo>
                    <a:pt x="2557" y="3484"/>
                  </a:lnTo>
                  <a:lnTo>
                    <a:pt x="2552" y="3446"/>
                  </a:lnTo>
                  <a:lnTo>
                    <a:pt x="2549" y="3409"/>
                  </a:lnTo>
                  <a:lnTo>
                    <a:pt x="2546" y="3374"/>
                  </a:lnTo>
                  <a:lnTo>
                    <a:pt x="2543" y="3340"/>
                  </a:lnTo>
                  <a:lnTo>
                    <a:pt x="2542" y="3306"/>
                  </a:lnTo>
                  <a:lnTo>
                    <a:pt x="2541" y="3273"/>
                  </a:lnTo>
                  <a:lnTo>
                    <a:pt x="2541" y="3240"/>
                  </a:lnTo>
                  <a:lnTo>
                    <a:pt x="2542" y="3206"/>
                  </a:lnTo>
                  <a:lnTo>
                    <a:pt x="2543" y="3172"/>
                  </a:lnTo>
                  <a:lnTo>
                    <a:pt x="2546" y="3138"/>
                  </a:lnTo>
                  <a:lnTo>
                    <a:pt x="2548" y="3101"/>
                  </a:lnTo>
                  <a:lnTo>
                    <a:pt x="2542" y="3096"/>
                  </a:lnTo>
                  <a:lnTo>
                    <a:pt x="2537" y="3091"/>
                  </a:lnTo>
                  <a:lnTo>
                    <a:pt x="2531" y="3085"/>
                  </a:lnTo>
                  <a:lnTo>
                    <a:pt x="2525" y="3080"/>
                  </a:lnTo>
                  <a:lnTo>
                    <a:pt x="2518" y="3075"/>
                  </a:lnTo>
                  <a:lnTo>
                    <a:pt x="2511" y="3073"/>
                  </a:lnTo>
                  <a:lnTo>
                    <a:pt x="2508" y="3072"/>
                  </a:lnTo>
                  <a:lnTo>
                    <a:pt x="2503" y="3072"/>
                  </a:lnTo>
                  <a:lnTo>
                    <a:pt x="2499" y="3073"/>
                  </a:lnTo>
                  <a:lnTo>
                    <a:pt x="2496" y="3074"/>
                  </a:lnTo>
                  <a:lnTo>
                    <a:pt x="2486" y="3093"/>
                  </a:lnTo>
                  <a:lnTo>
                    <a:pt x="2477" y="3115"/>
                  </a:lnTo>
                  <a:lnTo>
                    <a:pt x="2469" y="3138"/>
                  </a:lnTo>
                  <a:lnTo>
                    <a:pt x="2464" y="3162"/>
                  </a:lnTo>
                  <a:lnTo>
                    <a:pt x="2458" y="3187"/>
                  </a:lnTo>
                  <a:lnTo>
                    <a:pt x="2455" y="3214"/>
                  </a:lnTo>
                  <a:lnTo>
                    <a:pt x="2451" y="3241"/>
                  </a:lnTo>
                  <a:lnTo>
                    <a:pt x="2449" y="3270"/>
                  </a:lnTo>
                  <a:lnTo>
                    <a:pt x="2448" y="3298"/>
                  </a:lnTo>
                  <a:lnTo>
                    <a:pt x="2447" y="3328"/>
                  </a:lnTo>
                  <a:lnTo>
                    <a:pt x="2447" y="3360"/>
                  </a:lnTo>
                  <a:lnTo>
                    <a:pt x="2448" y="3390"/>
                  </a:lnTo>
                  <a:lnTo>
                    <a:pt x="2450" y="3421"/>
                  </a:lnTo>
                  <a:lnTo>
                    <a:pt x="2452" y="3452"/>
                  </a:lnTo>
                  <a:lnTo>
                    <a:pt x="2455" y="3482"/>
                  </a:lnTo>
                  <a:lnTo>
                    <a:pt x="2458" y="3513"/>
                  </a:lnTo>
                  <a:lnTo>
                    <a:pt x="2467" y="3573"/>
                  </a:lnTo>
                  <a:lnTo>
                    <a:pt x="2476" y="3630"/>
                  </a:lnTo>
                  <a:lnTo>
                    <a:pt x="2486" y="3686"/>
                  </a:lnTo>
                  <a:lnTo>
                    <a:pt x="2497" y="3736"/>
                  </a:lnTo>
                  <a:lnTo>
                    <a:pt x="2507" y="3780"/>
                  </a:lnTo>
                  <a:lnTo>
                    <a:pt x="2518" y="3818"/>
                  </a:lnTo>
                  <a:lnTo>
                    <a:pt x="2527" y="3848"/>
                  </a:lnTo>
                  <a:lnTo>
                    <a:pt x="2536" y="3870"/>
                  </a:lnTo>
                  <a:lnTo>
                    <a:pt x="2540" y="3886"/>
                  </a:lnTo>
                  <a:lnTo>
                    <a:pt x="2550" y="3929"/>
                  </a:lnTo>
                  <a:lnTo>
                    <a:pt x="2558" y="3970"/>
                  </a:lnTo>
                  <a:lnTo>
                    <a:pt x="2565" y="4008"/>
                  </a:lnTo>
                  <a:lnTo>
                    <a:pt x="2570" y="4043"/>
                  </a:lnTo>
                  <a:lnTo>
                    <a:pt x="2575" y="4077"/>
                  </a:lnTo>
                  <a:lnTo>
                    <a:pt x="2577" y="4109"/>
                  </a:lnTo>
                  <a:lnTo>
                    <a:pt x="2579" y="4138"/>
                  </a:lnTo>
                  <a:lnTo>
                    <a:pt x="2579" y="4164"/>
                  </a:lnTo>
                  <a:lnTo>
                    <a:pt x="2579" y="4189"/>
                  </a:lnTo>
                  <a:lnTo>
                    <a:pt x="2578" y="4212"/>
                  </a:lnTo>
                  <a:lnTo>
                    <a:pt x="2575" y="4232"/>
                  </a:lnTo>
                  <a:lnTo>
                    <a:pt x="2572" y="4251"/>
                  </a:lnTo>
                  <a:lnTo>
                    <a:pt x="2568" y="4268"/>
                  </a:lnTo>
                  <a:lnTo>
                    <a:pt x="2563" y="4283"/>
                  </a:lnTo>
                  <a:lnTo>
                    <a:pt x="2558" y="4296"/>
                  </a:lnTo>
                  <a:lnTo>
                    <a:pt x="2552" y="4309"/>
                  </a:lnTo>
                  <a:lnTo>
                    <a:pt x="2546" y="4319"/>
                  </a:lnTo>
                  <a:lnTo>
                    <a:pt x="2539" y="4327"/>
                  </a:lnTo>
                  <a:lnTo>
                    <a:pt x="2531" y="4334"/>
                  </a:lnTo>
                  <a:lnTo>
                    <a:pt x="2525" y="4340"/>
                  </a:lnTo>
                  <a:lnTo>
                    <a:pt x="2517" y="4344"/>
                  </a:lnTo>
                  <a:lnTo>
                    <a:pt x="2508" y="4347"/>
                  </a:lnTo>
                  <a:lnTo>
                    <a:pt x="2500" y="4349"/>
                  </a:lnTo>
                  <a:lnTo>
                    <a:pt x="2492" y="4350"/>
                  </a:lnTo>
                  <a:lnTo>
                    <a:pt x="2484" y="4349"/>
                  </a:lnTo>
                  <a:lnTo>
                    <a:pt x="2476" y="4347"/>
                  </a:lnTo>
                  <a:lnTo>
                    <a:pt x="2468" y="4345"/>
                  </a:lnTo>
                  <a:lnTo>
                    <a:pt x="2460" y="4341"/>
                  </a:lnTo>
                  <a:lnTo>
                    <a:pt x="2452" y="4337"/>
                  </a:lnTo>
                  <a:lnTo>
                    <a:pt x="2445" y="4332"/>
                  </a:lnTo>
                  <a:lnTo>
                    <a:pt x="2438" y="4326"/>
                  </a:lnTo>
                  <a:lnTo>
                    <a:pt x="2431" y="4320"/>
                  </a:lnTo>
                  <a:lnTo>
                    <a:pt x="2414" y="4302"/>
                  </a:lnTo>
                  <a:lnTo>
                    <a:pt x="2398" y="4284"/>
                  </a:lnTo>
                  <a:lnTo>
                    <a:pt x="2384" y="4268"/>
                  </a:lnTo>
                  <a:lnTo>
                    <a:pt x="2371" y="4249"/>
                  </a:lnTo>
                  <a:lnTo>
                    <a:pt x="2361" y="4229"/>
                  </a:lnTo>
                  <a:lnTo>
                    <a:pt x="2351" y="4208"/>
                  </a:lnTo>
                  <a:lnTo>
                    <a:pt x="2341" y="4182"/>
                  </a:lnTo>
                  <a:lnTo>
                    <a:pt x="2332" y="4154"/>
                  </a:lnTo>
                  <a:lnTo>
                    <a:pt x="2269" y="4205"/>
                  </a:lnTo>
                  <a:lnTo>
                    <a:pt x="2269" y="4224"/>
                  </a:lnTo>
                  <a:lnTo>
                    <a:pt x="2273" y="4241"/>
                  </a:lnTo>
                  <a:lnTo>
                    <a:pt x="2278" y="4259"/>
                  </a:lnTo>
                  <a:lnTo>
                    <a:pt x="2284" y="4274"/>
                  </a:lnTo>
                  <a:lnTo>
                    <a:pt x="2299" y="4306"/>
                  </a:lnTo>
                  <a:lnTo>
                    <a:pt x="2316" y="4336"/>
                  </a:lnTo>
                  <a:lnTo>
                    <a:pt x="2325" y="4352"/>
                  </a:lnTo>
                  <a:lnTo>
                    <a:pt x="2332" y="4367"/>
                  </a:lnTo>
                  <a:lnTo>
                    <a:pt x="2340" y="4383"/>
                  </a:lnTo>
                  <a:lnTo>
                    <a:pt x="2346" y="4400"/>
                  </a:lnTo>
                  <a:lnTo>
                    <a:pt x="2351" y="4416"/>
                  </a:lnTo>
                  <a:lnTo>
                    <a:pt x="2355" y="4434"/>
                  </a:lnTo>
                  <a:lnTo>
                    <a:pt x="2356" y="4443"/>
                  </a:lnTo>
                  <a:lnTo>
                    <a:pt x="2356" y="4453"/>
                  </a:lnTo>
                  <a:lnTo>
                    <a:pt x="2356" y="4462"/>
                  </a:lnTo>
                  <a:lnTo>
                    <a:pt x="2356" y="4472"/>
                  </a:lnTo>
                  <a:lnTo>
                    <a:pt x="2374" y="4513"/>
                  </a:lnTo>
                  <a:lnTo>
                    <a:pt x="2392" y="4558"/>
                  </a:lnTo>
                  <a:lnTo>
                    <a:pt x="2411" y="4609"/>
                  </a:lnTo>
                  <a:lnTo>
                    <a:pt x="2430" y="4663"/>
                  </a:lnTo>
                  <a:lnTo>
                    <a:pt x="2448" y="4718"/>
                  </a:lnTo>
                  <a:lnTo>
                    <a:pt x="2466" y="4775"/>
                  </a:lnTo>
                  <a:lnTo>
                    <a:pt x="2481" y="4830"/>
                  </a:lnTo>
                  <a:lnTo>
                    <a:pt x="2497" y="4885"/>
                  </a:lnTo>
                  <a:lnTo>
                    <a:pt x="2510" y="4936"/>
                  </a:lnTo>
                  <a:lnTo>
                    <a:pt x="2521" y="4983"/>
                  </a:lnTo>
                  <a:lnTo>
                    <a:pt x="2530" y="5026"/>
                  </a:lnTo>
                  <a:lnTo>
                    <a:pt x="2537" y="5062"/>
                  </a:lnTo>
                  <a:lnTo>
                    <a:pt x="2541" y="5091"/>
                  </a:lnTo>
                  <a:lnTo>
                    <a:pt x="2542" y="5111"/>
                  </a:lnTo>
                  <a:lnTo>
                    <a:pt x="2542" y="5118"/>
                  </a:lnTo>
                  <a:lnTo>
                    <a:pt x="2541" y="5122"/>
                  </a:lnTo>
                  <a:lnTo>
                    <a:pt x="2539" y="5123"/>
                  </a:lnTo>
                  <a:lnTo>
                    <a:pt x="2536" y="5122"/>
                  </a:lnTo>
                  <a:lnTo>
                    <a:pt x="2496" y="5092"/>
                  </a:lnTo>
                  <a:lnTo>
                    <a:pt x="2452" y="5068"/>
                  </a:lnTo>
                  <a:lnTo>
                    <a:pt x="2408" y="5049"/>
                  </a:lnTo>
                  <a:lnTo>
                    <a:pt x="2361" y="5036"/>
                  </a:lnTo>
                  <a:lnTo>
                    <a:pt x="2312" y="5026"/>
                  </a:lnTo>
                  <a:lnTo>
                    <a:pt x="2264" y="5020"/>
                  </a:lnTo>
                  <a:lnTo>
                    <a:pt x="2213" y="5019"/>
                  </a:lnTo>
                  <a:lnTo>
                    <a:pt x="2161" y="5021"/>
                  </a:lnTo>
                  <a:lnTo>
                    <a:pt x="2109" y="5027"/>
                  </a:lnTo>
                  <a:lnTo>
                    <a:pt x="2057" y="5036"/>
                  </a:lnTo>
                  <a:lnTo>
                    <a:pt x="2004" y="5047"/>
                  </a:lnTo>
                  <a:lnTo>
                    <a:pt x="1953" y="5061"/>
                  </a:lnTo>
                  <a:lnTo>
                    <a:pt x="1900" y="5077"/>
                  </a:lnTo>
                  <a:lnTo>
                    <a:pt x="1850" y="5094"/>
                  </a:lnTo>
                  <a:lnTo>
                    <a:pt x="1801" y="5113"/>
                  </a:lnTo>
                  <a:lnTo>
                    <a:pt x="1753" y="5134"/>
                  </a:lnTo>
                  <a:lnTo>
                    <a:pt x="1706" y="5156"/>
                  </a:lnTo>
                  <a:lnTo>
                    <a:pt x="1662" y="5177"/>
                  </a:lnTo>
                  <a:lnTo>
                    <a:pt x="1620" y="5199"/>
                  </a:lnTo>
                  <a:lnTo>
                    <a:pt x="1581" y="5221"/>
                  </a:lnTo>
                  <a:lnTo>
                    <a:pt x="1544" y="5242"/>
                  </a:lnTo>
                  <a:lnTo>
                    <a:pt x="1511" y="5263"/>
                  </a:lnTo>
                  <a:lnTo>
                    <a:pt x="1480" y="5283"/>
                  </a:lnTo>
                  <a:lnTo>
                    <a:pt x="1453" y="5302"/>
                  </a:lnTo>
                  <a:lnTo>
                    <a:pt x="1431" y="5319"/>
                  </a:lnTo>
                  <a:lnTo>
                    <a:pt x="1413" y="5334"/>
                  </a:lnTo>
                  <a:lnTo>
                    <a:pt x="1399" y="5348"/>
                  </a:lnTo>
                  <a:lnTo>
                    <a:pt x="1390" y="5358"/>
                  </a:lnTo>
                  <a:lnTo>
                    <a:pt x="1385" y="5365"/>
                  </a:lnTo>
                  <a:lnTo>
                    <a:pt x="1386" y="5370"/>
                  </a:lnTo>
                  <a:lnTo>
                    <a:pt x="1393" y="5371"/>
                  </a:lnTo>
                  <a:lnTo>
                    <a:pt x="1406" y="5368"/>
                  </a:lnTo>
                  <a:lnTo>
                    <a:pt x="1572" y="5319"/>
                  </a:lnTo>
                  <a:lnTo>
                    <a:pt x="1717" y="5278"/>
                  </a:lnTo>
                  <a:lnTo>
                    <a:pt x="1782" y="5261"/>
                  </a:lnTo>
                  <a:lnTo>
                    <a:pt x="1842" y="5244"/>
                  </a:lnTo>
                  <a:lnTo>
                    <a:pt x="1897" y="5231"/>
                  </a:lnTo>
                  <a:lnTo>
                    <a:pt x="1947" y="5219"/>
                  </a:lnTo>
                  <a:lnTo>
                    <a:pt x="1993" y="5209"/>
                  </a:lnTo>
                  <a:lnTo>
                    <a:pt x="2033" y="5201"/>
                  </a:lnTo>
                  <a:lnTo>
                    <a:pt x="2068" y="5195"/>
                  </a:lnTo>
                  <a:lnTo>
                    <a:pt x="2100" y="5191"/>
                  </a:lnTo>
                  <a:lnTo>
                    <a:pt x="2127" y="5189"/>
                  </a:lnTo>
                  <a:lnTo>
                    <a:pt x="2149" y="5188"/>
                  </a:lnTo>
                  <a:lnTo>
                    <a:pt x="2158" y="5189"/>
                  </a:lnTo>
                  <a:lnTo>
                    <a:pt x="2167" y="5190"/>
                  </a:lnTo>
                  <a:lnTo>
                    <a:pt x="2175" y="5191"/>
                  </a:lnTo>
                  <a:lnTo>
                    <a:pt x="2180" y="5193"/>
                  </a:lnTo>
                  <a:lnTo>
                    <a:pt x="2184" y="5195"/>
                  </a:lnTo>
                  <a:lnTo>
                    <a:pt x="2186" y="5198"/>
                  </a:lnTo>
                  <a:lnTo>
                    <a:pt x="2186" y="5200"/>
                  </a:lnTo>
                  <a:lnTo>
                    <a:pt x="2184" y="5204"/>
                  </a:lnTo>
                  <a:lnTo>
                    <a:pt x="2176" y="5212"/>
                  </a:lnTo>
                  <a:lnTo>
                    <a:pt x="2163" y="5222"/>
                  </a:lnTo>
                  <a:lnTo>
                    <a:pt x="2124" y="5245"/>
                  </a:lnTo>
                  <a:lnTo>
                    <a:pt x="2075" y="5275"/>
                  </a:lnTo>
                  <a:lnTo>
                    <a:pt x="2049" y="5292"/>
                  </a:lnTo>
                  <a:lnTo>
                    <a:pt x="2024" y="5310"/>
                  </a:lnTo>
                  <a:lnTo>
                    <a:pt x="1999" y="5329"/>
                  </a:lnTo>
                  <a:lnTo>
                    <a:pt x="1976" y="5349"/>
                  </a:lnTo>
                  <a:lnTo>
                    <a:pt x="1966" y="5359"/>
                  </a:lnTo>
                  <a:lnTo>
                    <a:pt x="1957" y="5370"/>
                  </a:lnTo>
                  <a:lnTo>
                    <a:pt x="1948" y="5380"/>
                  </a:lnTo>
                  <a:lnTo>
                    <a:pt x="1940" y="5391"/>
                  </a:lnTo>
                  <a:lnTo>
                    <a:pt x="1935" y="5402"/>
                  </a:lnTo>
                  <a:lnTo>
                    <a:pt x="1929" y="5413"/>
                  </a:lnTo>
                  <a:lnTo>
                    <a:pt x="1926" y="5425"/>
                  </a:lnTo>
                  <a:lnTo>
                    <a:pt x="1924" y="5436"/>
                  </a:lnTo>
                  <a:lnTo>
                    <a:pt x="1950" y="5420"/>
                  </a:lnTo>
                  <a:lnTo>
                    <a:pt x="1978" y="5404"/>
                  </a:lnTo>
                  <a:lnTo>
                    <a:pt x="2005" y="5390"/>
                  </a:lnTo>
                  <a:lnTo>
                    <a:pt x="2032" y="5378"/>
                  </a:lnTo>
                  <a:lnTo>
                    <a:pt x="2057" y="5365"/>
                  </a:lnTo>
                  <a:lnTo>
                    <a:pt x="2084" y="5355"/>
                  </a:lnTo>
                  <a:lnTo>
                    <a:pt x="2109" y="5345"/>
                  </a:lnTo>
                  <a:lnTo>
                    <a:pt x="2135" y="5338"/>
                  </a:lnTo>
                  <a:lnTo>
                    <a:pt x="2160" y="5331"/>
                  </a:lnTo>
                  <a:lnTo>
                    <a:pt x="2185" y="5324"/>
                  </a:lnTo>
                  <a:lnTo>
                    <a:pt x="2209" y="5319"/>
                  </a:lnTo>
                  <a:lnTo>
                    <a:pt x="2234" y="5314"/>
                  </a:lnTo>
                  <a:lnTo>
                    <a:pt x="2257" y="5311"/>
                  </a:lnTo>
                  <a:lnTo>
                    <a:pt x="2279" y="5308"/>
                  </a:lnTo>
                  <a:lnTo>
                    <a:pt x="2301" y="5305"/>
                  </a:lnTo>
                  <a:lnTo>
                    <a:pt x="2322" y="5304"/>
                  </a:lnTo>
                  <a:lnTo>
                    <a:pt x="2362" y="5302"/>
                  </a:lnTo>
                  <a:lnTo>
                    <a:pt x="2399" y="5302"/>
                  </a:lnTo>
                  <a:lnTo>
                    <a:pt x="2431" y="5303"/>
                  </a:lnTo>
                  <a:lnTo>
                    <a:pt x="2459" y="5305"/>
                  </a:lnTo>
                  <a:lnTo>
                    <a:pt x="2501" y="5310"/>
                  </a:lnTo>
                  <a:lnTo>
                    <a:pt x="2521" y="5312"/>
                  </a:lnTo>
                  <a:lnTo>
                    <a:pt x="2527" y="5311"/>
                  </a:lnTo>
                  <a:lnTo>
                    <a:pt x="2535" y="5310"/>
                  </a:lnTo>
                  <a:lnTo>
                    <a:pt x="2543" y="5308"/>
                  </a:lnTo>
                  <a:lnTo>
                    <a:pt x="2555" y="5306"/>
                  </a:lnTo>
                  <a:lnTo>
                    <a:pt x="2566" y="5305"/>
                  </a:lnTo>
                  <a:lnTo>
                    <a:pt x="2575" y="5304"/>
                  </a:lnTo>
                  <a:lnTo>
                    <a:pt x="2582" y="5304"/>
                  </a:lnTo>
                  <a:lnTo>
                    <a:pt x="2587" y="5304"/>
                  </a:lnTo>
                  <a:lnTo>
                    <a:pt x="2794" y="5302"/>
                  </a:lnTo>
                  <a:lnTo>
                    <a:pt x="2806" y="5299"/>
                  </a:lnTo>
                  <a:lnTo>
                    <a:pt x="2828" y="5296"/>
                  </a:lnTo>
                  <a:lnTo>
                    <a:pt x="2859" y="5294"/>
                  </a:lnTo>
                  <a:lnTo>
                    <a:pt x="2897" y="5292"/>
                  </a:lnTo>
                  <a:lnTo>
                    <a:pt x="2918" y="5292"/>
                  </a:lnTo>
                  <a:lnTo>
                    <a:pt x="2939" y="5292"/>
                  </a:lnTo>
                  <a:lnTo>
                    <a:pt x="2960" y="5293"/>
                  </a:lnTo>
                  <a:lnTo>
                    <a:pt x="2981" y="5295"/>
                  </a:lnTo>
                  <a:lnTo>
                    <a:pt x="3001" y="5298"/>
                  </a:lnTo>
                  <a:lnTo>
                    <a:pt x="3021" y="5302"/>
                  </a:lnTo>
                  <a:lnTo>
                    <a:pt x="3039" y="5306"/>
                  </a:lnTo>
                  <a:lnTo>
                    <a:pt x="3057" y="5312"/>
                  </a:lnTo>
                  <a:lnTo>
                    <a:pt x="3081" y="5305"/>
                  </a:lnTo>
                  <a:lnTo>
                    <a:pt x="3108" y="5298"/>
                  </a:lnTo>
                  <a:lnTo>
                    <a:pt x="3139" y="5292"/>
                  </a:lnTo>
                  <a:lnTo>
                    <a:pt x="3171" y="5285"/>
                  </a:lnTo>
                  <a:lnTo>
                    <a:pt x="3244" y="5273"/>
                  </a:lnTo>
                  <a:lnTo>
                    <a:pt x="3324" y="5262"/>
                  </a:lnTo>
                  <a:lnTo>
                    <a:pt x="3410" y="5253"/>
                  </a:lnTo>
                  <a:lnTo>
                    <a:pt x="3500" y="5244"/>
                  </a:lnTo>
                  <a:lnTo>
                    <a:pt x="3591" y="5238"/>
                  </a:lnTo>
                  <a:lnTo>
                    <a:pt x="3682" y="5232"/>
                  </a:lnTo>
                  <a:lnTo>
                    <a:pt x="3772" y="5228"/>
                  </a:lnTo>
                  <a:lnTo>
                    <a:pt x="3857" y="5225"/>
                  </a:lnTo>
                  <a:lnTo>
                    <a:pt x="3937" y="5224"/>
                  </a:lnTo>
                  <a:lnTo>
                    <a:pt x="4009" y="5225"/>
                  </a:lnTo>
                  <a:lnTo>
                    <a:pt x="4043" y="5227"/>
                  </a:lnTo>
                  <a:lnTo>
                    <a:pt x="4073" y="5228"/>
                  </a:lnTo>
                  <a:lnTo>
                    <a:pt x="4100" y="5230"/>
                  </a:lnTo>
                  <a:lnTo>
                    <a:pt x="4125" y="5233"/>
                  </a:lnTo>
                  <a:lnTo>
                    <a:pt x="4146" y="5237"/>
                  </a:lnTo>
                  <a:lnTo>
                    <a:pt x="4163" y="5240"/>
                  </a:lnTo>
                  <a:lnTo>
                    <a:pt x="4177" y="5244"/>
                  </a:lnTo>
                  <a:lnTo>
                    <a:pt x="4187" y="5249"/>
                  </a:lnTo>
                  <a:lnTo>
                    <a:pt x="4179" y="5254"/>
                  </a:lnTo>
                  <a:lnTo>
                    <a:pt x="4173" y="5261"/>
                  </a:lnTo>
                  <a:lnTo>
                    <a:pt x="4166" y="5268"/>
                  </a:lnTo>
                  <a:lnTo>
                    <a:pt x="4159" y="5274"/>
                  </a:lnTo>
                  <a:lnTo>
                    <a:pt x="4153" y="5281"/>
                  </a:lnTo>
                  <a:lnTo>
                    <a:pt x="4145" y="5288"/>
                  </a:lnTo>
                  <a:lnTo>
                    <a:pt x="4138" y="5294"/>
                  </a:lnTo>
                  <a:lnTo>
                    <a:pt x="4130" y="5302"/>
                  </a:lnTo>
                  <a:lnTo>
                    <a:pt x="4087" y="5352"/>
                  </a:lnTo>
                  <a:lnTo>
                    <a:pt x="4062" y="5381"/>
                  </a:lnTo>
                  <a:lnTo>
                    <a:pt x="4038" y="5410"/>
                  </a:lnTo>
                  <a:lnTo>
                    <a:pt x="4016" y="5440"/>
                  </a:lnTo>
                  <a:lnTo>
                    <a:pt x="3996" y="5470"/>
                  </a:lnTo>
                  <a:lnTo>
                    <a:pt x="3976" y="5501"/>
                  </a:lnTo>
                  <a:lnTo>
                    <a:pt x="3958" y="5532"/>
                  </a:lnTo>
                  <a:lnTo>
                    <a:pt x="3942" y="5563"/>
                  </a:lnTo>
                  <a:lnTo>
                    <a:pt x="3927" y="5594"/>
                  </a:lnTo>
                  <a:lnTo>
                    <a:pt x="3913" y="5626"/>
                  </a:lnTo>
                  <a:lnTo>
                    <a:pt x="3899" y="5659"/>
                  </a:lnTo>
                  <a:lnTo>
                    <a:pt x="3886" y="5692"/>
                  </a:lnTo>
                  <a:lnTo>
                    <a:pt x="3875" y="5725"/>
                  </a:lnTo>
                  <a:lnTo>
                    <a:pt x="3853" y="5792"/>
                  </a:lnTo>
                  <a:lnTo>
                    <a:pt x="3833" y="5859"/>
                  </a:lnTo>
                  <a:lnTo>
                    <a:pt x="3797" y="5995"/>
                  </a:lnTo>
                  <a:lnTo>
                    <a:pt x="3761" y="6132"/>
                  </a:lnTo>
                  <a:lnTo>
                    <a:pt x="3751" y="6167"/>
                  </a:lnTo>
                  <a:lnTo>
                    <a:pt x="3741" y="6201"/>
                  </a:lnTo>
                  <a:lnTo>
                    <a:pt x="3730" y="6236"/>
                  </a:lnTo>
                  <a:lnTo>
                    <a:pt x="3718" y="6269"/>
                  </a:lnTo>
                  <a:lnTo>
                    <a:pt x="3706" y="6303"/>
                  </a:lnTo>
                  <a:lnTo>
                    <a:pt x="3693" y="6337"/>
                  </a:lnTo>
                  <a:lnTo>
                    <a:pt x="3678" y="6370"/>
                  </a:lnTo>
                  <a:lnTo>
                    <a:pt x="3663" y="6403"/>
                  </a:lnTo>
                  <a:lnTo>
                    <a:pt x="3644" y="6435"/>
                  </a:lnTo>
                  <a:lnTo>
                    <a:pt x="3626" y="6470"/>
                  </a:lnTo>
                  <a:lnTo>
                    <a:pt x="3607" y="6504"/>
                  </a:lnTo>
                  <a:lnTo>
                    <a:pt x="3590" y="6537"/>
                  </a:lnTo>
                  <a:lnTo>
                    <a:pt x="3580" y="6554"/>
                  </a:lnTo>
                  <a:lnTo>
                    <a:pt x="3571" y="6571"/>
                  </a:lnTo>
                  <a:lnTo>
                    <a:pt x="3560" y="6587"/>
                  </a:lnTo>
                  <a:lnTo>
                    <a:pt x="3550" y="6602"/>
                  </a:lnTo>
                  <a:lnTo>
                    <a:pt x="3539" y="6617"/>
                  </a:lnTo>
                  <a:lnTo>
                    <a:pt x="3526" y="6631"/>
                  </a:lnTo>
                  <a:lnTo>
                    <a:pt x="3514" y="6644"/>
                  </a:lnTo>
                  <a:lnTo>
                    <a:pt x="3501" y="6657"/>
                  </a:lnTo>
                  <a:lnTo>
                    <a:pt x="3479" y="6693"/>
                  </a:lnTo>
                  <a:lnTo>
                    <a:pt x="3454" y="6729"/>
                  </a:lnTo>
                  <a:lnTo>
                    <a:pt x="3425" y="6767"/>
                  </a:lnTo>
                  <a:lnTo>
                    <a:pt x="3392" y="6806"/>
                  </a:lnTo>
                  <a:lnTo>
                    <a:pt x="3356" y="6845"/>
                  </a:lnTo>
                  <a:lnTo>
                    <a:pt x="3318" y="6886"/>
                  </a:lnTo>
                  <a:lnTo>
                    <a:pt x="3275" y="6927"/>
                  </a:lnTo>
                  <a:lnTo>
                    <a:pt x="3231" y="6968"/>
                  </a:lnTo>
                  <a:lnTo>
                    <a:pt x="3184" y="7010"/>
                  </a:lnTo>
                  <a:lnTo>
                    <a:pt x="3135" y="7053"/>
                  </a:lnTo>
                  <a:lnTo>
                    <a:pt x="3084" y="7095"/>
                  </a:lnTo>
                  <a:lnTo>
                    <a:pt x="3031" y="7137"/>
                  </a:lnTo>
                  <a:lnTo>
                    <a:pt x="2977" y="7179"/>
                  </a:lnTo>
                  <a:lnTo>
                    <a:pt x="2920" y="7221"/>
                  </a:lnTo>
                  <a:lnTo>
                    <a:pt x="2863" y="7262"/>
                  </a:lnTo>
                  <a:lnTo>
                    <a:pt x="2804" y="7303"/>
                  </a:lnTo>
                  <a:lnTo>
                    <a:pt x="2746" y="7344"/>
                  </a:lnTo>
                  <a:lnTo>
                    <a:pt x="2686" y="7384"/>
                  </a:lnTo>
                  <a:lnTo>
                    <a:pt x="2626" y="7423"/>
                  </a:lnTo>
                  <a:lnTo>
                    <a:pt x="2566" y="7462"/>
                  </a:lnTo>
                  <a:lnTo>
                    <a:pt x="2506" y="7500"/>
                  </a:lnTo>
                  <a:lnTo>
                    <a:pt x="2447" y="7535"/>
                  </a:lnTo>
                  <a:lnTo>
                    <a:pt x="2387" y="7571"/>
                  </a:lnTo>
                  <a:lnTo>
                    <a:pt x="2329" y="7604"/>
                  </a:lnTo>
                  <a:lnTo>
                    <a:pt x="2271" y="7636"/>
                  </a:lnTo>
                  <a:lnTo>
                    <a:pt x="2215" y="7667"/>
                  </a:lnTo>
                  <a:lnTo>
                    <a:pt x="2160" y="7696"/>
                  </a:lnTo>
                  <a:lnTo>
                    <a:pt x="2107" y="7723"/>
                  </a:lnTo>
                  <a:lnTo>
                    <a:pt x="2056" y="7748"/>
                  </a:lnTo>
                  <a:lnTo>
                    <a:pt x="2006" y="7772"/>
                  </a:lnTo>
                  <a:lnTo>
                    <a:pt x="1958" y="7793"/>
                  </a:lnTo>
                  <a:lnTo>
                    <a:pt x="1914" y="7812"/>
                  </a:lnTo>
                  <a:lnTo>
                    <a:pt x="1876" y="7791"/>
                  </a:lnTo>
                  <a:lnTo>
                    <a:pt x="1826" y="7673"/>
                  </a:lnTo>
                  <a:lnTo>
                    <a:pt x="1774" y="7561"/>
                  </a:lnTo>
                  <a:lnTo>
                    <a:pt x="1718" y="7455"/>
                  </a:lnTo>
                  <a:lnTo>
                    <a:pt x="1661" y="7354"/>
                  </a:lnTo>
                  <a:lnTo>
                    <a:pt x="1602" y="7260"/>
                  </a:lnTo>
                  <a:lnTo>
                    <a:pt x="1541" y="7170"/>
                  </a:lnTo>
                  <a:lnTo>
                    <a:pt x="1477" y="7085"/>
                  </a:lnTo>
                  <a:lnTo>
                    <a:pt x="1413" y="7004"/>
                  </a:lnTo>
                  <a:lnTo>
                    <a:pt x="1349" y="6926"/>
                  </a:lnTo>
                  <a:lnTo>
                    <a:pt x="1282" y="6853"/>
                  </a:lnTo>
                  <a:lnTo>
                    <a:pt x="1215" y="6784"/>
                  </a:lnTo>
                  <a:lnTo>
                    <a:pt x="1149" y="6717"/>
                  </a:lnTo>
                  <a:lnTo>
                    <a:pt x="1081" y="6653"/>
                  </a:lnTo>
                  <a:lnTo>
                    <a:pt x="1014" y="6592"/>
                  </a:lnTo>
                  <a:lnTo>
                    <a:pt x="948" y="6533"/>
                  </a:lnTo>
                  <a:lnTo>
                    <a:pt x="881" y="6476"/>
                  </a:lnTo>
                  <a:lnTo>
                    <a:pt x="751" y="6368"/>
                  </a:lnTo>
                  <a:lnTo>
                    <a:pt x="627" y="6262"/>
                  </a:lnTo>
                  <a:lnTo>
                    <a:pt x="567" y="6211"/>
                  </a:lnTo>
                  <a:lnTo>
                    <a:pt x="509" y="6160"/>
                  </a:lnTo>
                  <a:lnTo>
                    <a:pt x="453" y="6108"/>
                  </a:lnTo>
                  <a:lnTo>
                    <a:pt x="400" y="6056"/>
                  </a:lnTo>
                  <a:lnTo>
                    <a:pt x="350" y="6004"/>
                  </a:lnTo>
                  <a:lnTo>
                    <a:pt x="302" y="5950"/>
                  </a:lnTo>
                  <a:lnTo>
                    <a:pt x="258" y="5895"/>
                  </a:lnTo>
                  <a:lnTo>
                    <a:pt x="217" y="5838"/>
                  </a:lnTo>
                  <a:lnTo>
                    <a:pt x="179" y="5779"/>
                  </a:lnTo>
                  <a:lnTo>
                    <a:pt x="145" y="5718"/>
                  </a:lnTo>
                  <a:lnTo>
                    <a:pt x="116" y="5655"/>
                  </a:lnTo>
                  <a:lnTo>
                    <a:pt x="90" y="5590"/>
                  </a:lnTo>
                  <a:lnTo>
                    <a:pt x="76" y="5544"/>
                  </a:lnTo>
                  <a:lnTo>
                    <a:pt x="64" y="5497"/>
                  </a:lnTo>
                  <a:lnTo>
                    <a:pt x="53" y="5447"/>
                  </a:lnTo>
                  <a:lnTo>
                    <a:pt x="43" y="5395"/>
                  </a:lnTo>
                  <a:lnTo>
                    <a:pt x="34" y="5341"/>
                  </a:lnTo>
                  <a:lnTo>
                    <a:pt x="26" y="5285"/>
                  </a:lnTo>
                  <a:lnTo>
                    <a:pt x="20" y="5228"/>
                  </a:lnTo>
                  <a:lnTo>
                    <a:pt x="15" y="5168"/>
                  </a:lnTo>
                  <a:lnTo>
                    <a:pt x="10" y="5108"/>
                  </a:lnTo>
                  <a:lnTo>
                    <a:pt x="6" y="5047"/>
                  </a:lnTo>
                  <a:lnTo>
                    <a:pt x="4" y="4985"/>
                  </a:lnTo>
                  <a:lnTo>
                    <a:pt x="1" y="4921"/>
                  </a:lnTo>
                  <a:lnTo>
                    <a:pt x="0" y="4859"/>
                  </a:lnTo>
                  <a:lnTo>
                    <a:pt x="0" y="4796"/>
                  </a:lnTo>
                  <a:lnTo>
                    <a:pt x="0" y="4733"/>
                  </a:lnTo>
                  <a:lnTo>
                    <a:pt x="0" y="4670"/>
                  </a:lnTo>
                  <a:lnTo>
                    <a:pt x="3" y="4547"/>
                  </a:lnTo>
                  <a:lnTo>
                    <a:pt x="7" y="4427"/>
                  </a:lnTo>
                  <a:lnTo>
                    <a:pt x="11" y="4314"/>
                  </a:lnTo>
                  <a:lnTo>
                    <a:pt x="17" y="4209"/>
                  </a:lnTo>
                  <a:lnTo>
                    <a:pt x="27" y="4027"/>
                  </a:lnTo>
                  <a:lnTo>
                    <a:pt x="33" y="3896"/>
                  </a:lnTo>
                  <a:lnTo>
                    <a:pt x="34" y="3829"/>
                  </a:lnTo>
                  <a:lnTo>
                    <a:pt x="38" y="3766"/>
                  </a:lnTo>
                  <a:lnTo>
                    <a:pt x="44" y="3706"/>
                  </a:lnTo>
                  <a:lnTo>
                    <a:pt x="50" y="3649"/>
                  </a:lnTo>
                  <a:lnTo>
                    <a:pt x="58" y="3595"/>
                  </a:lnTo>
                  <a:lnTo>
                    <a:pt x="67" y="3544"/>
                  </a:lnTo>
                  <a:lnTo>
                    <a:pt x="76" y="3494"/>
                  </a:lnTo>
                  <a:lnTo>
                    <a:pt x="86" y="3446"/>
                  </a:lnTo>
                  <a:lnTo>
                    <a:pt x="104" y="3352"/>
                  </a:lnTo>
                  <a:lnTo>
                    <a:pt x="120" y="3257"/>
                  </a:lnTo>
                  <a:lnTo>
                    <a:pt x="127" y="3211"/>
                  </a:lnTo>
                  <a:lnTo>
                    <a:pt x="131" y="3162"/>
                  </a:lnTo>
                  <a:lnTo>
                    <a:pt x="136" y="3111"/>
                  </a:lnTo>
                  <a:lnTo>
                    <a:pt x="137" y="3059"/>
                  </a:lnTo>
                  <a:lnTo>
                    <a:pt x="136" y="3041"/>
                  </a:lnTo>
                  <a:lnTo>
                    <a:pt x="134" y="3020"/>
                  </a:lnTo>
                  <a:lnTo>
                    <a:pt x="131" y="2995"/>
                  </a:lnTo>
                  <a:lnTo>
                    <a:pt x="128" y="2971"/>
                  </a:lnTo>
                  <a:lnTo>
                    <a:pt x="126" y="2946"/>
                  </a:lnTo>
                  <a:lnTo>
                    <a:pt x="124" y="2921"/>
                  </a:lnTo>
                  <a:lnTo>
                    <a:pt x="124" y="2909"/>
                  </a:lnTo>
                  <a:lnTo>
                    <a:pt x="124" y="2899"/>
                  </a:lnTo>
                  <a:lnTo>
                    <a:pt x="125" y="2888"/>
                  </a:lnTo>
                  <a:lnTo>
                    <a:pt x="127" y="2879"/>
                  </a:lnTo>
                  <a:lnTo>
                    <a:pt x="135" y="2837"/>
                  </a:lnTo>
                  <a:lnTo>
                    <a:pt x="140" y="2797"/>
                  </a:lnTo>
                  <a:lnTo>
                    <a:pt x="145" y="2760"/>
                  </a:lnTo>
                  <a:lnTo>
                    <a:pt x="149" y="2724"/>
                  </a:lnTo>
                  <a:lnTo>
                    <a:pt x="151" y="2690"/>
                  </a:lnTo>
                  <a:lnTo>
                    <a:pt x="154" y="2657"/>
                  </a:lnTo>
                  <a:lnTo>
                    <a:pt x="155" y="2625"/>
                  </a:lnTo>
                  <a:lnTo>
                    <a:pt x="155" y="2593"/>
                  </a:lnTo>
                  <a:lnTo>
                    <a:pt x="156" y="2528"/>
                  </a:lnTo>
                  <a:lnTo>
                    <a:pt x="157" y="2460"/>
                  </a:lnTo>
                  <a:lnTo>
                    <a:pt x="158" y="2425"/>
                  </a:lnTo>
                  <a:lnTo>
                    <a:pt x="160" y="2388"/>
                  </a:lnTo>
                  <a:lnTo>
                    <a:pt x="162" y="2348"/>
                  </a:lnTo>
                  <a:lnTo>
                    <a:pt x="167" y="2306"/>
                  </a:lnTo>
                  <a:lnTo>
                    <a:pt x="185" y="2144"/>
                  </a:lnTo>
                  <a:lnTo>
                    <a:pt x="184" y="2109"/>
                  </a:lnTo>
                  <a:lnTo>
                    <a:pt x="184" y="2075"/>
                  </a:lnTo>
                  <a:lnTo>
                    <a:pt x="184" y="2044"/>
                  </a:lnTo>
                  <a:lnTo>
                    <a:pt x="184" y="2015"/>
                  </a:lnTo>
                  <a:lnTo>
                    <a:pt x="185" y="1989"/>
                  </a:lnTo>
                  <a:lnTo>
                    <a:pt x="187" y="1963"/>
                  </a:lnTo>
                  <a:lnTo>
                    <a:pt x="189" y="1941"/>
                  </a:lnTo>
                  <a:lnTo>
                    <a:pt x="191" y="1920"/>
                  </a:lnTo>
                  <a:lnTo>
                    <a:pt x="195" y="1900"/>
                  </a:lnTo>
                  <a:lnTo>
                    <a:pt x="199" y="1882"/>
                  </a:lnTo>
                  <a:lnTo>
                    <a:pt x="202" y="1867"/>
                  </a:lnTo>
                  <a:lnTo>
                    <a:pt x="207" y="1851"/>
                  </a:lnTo>
                  <a:lnTo>
                    <a:pt x="212" y="1837"/>
                  </a:lnTo>
                  <a:lnTo>
                    <a:pt x="218" y="1824"/>
                  </a:lnTo>
                  <a:lnTo>
                    <a:pt x="224" y="1812"/>
                  </a:lnTo>
                  <a:lnTo>
                    <a:pt x="230" y="1801"/>
                  </a:lnTo>
                  <a:lnTo>
                    <a:pt x="244" y="1780"/>
                  </a:lnTo>
                  <a:lnTo>
                    <a:pt x="259" y="1761"/>
                  </a:lnTo>
                  <a:lnTo>
                    <a:pt x="276" y="1743"/>
                  </a:lnTo>
                  <a:lnTo>
                    <a:pt x="294" y="1725"/>
                  </a:lnTo>
                  <a:lnTo>
                    <a:pt x="311" y="1705"/>
                  </a:lnTo>
                  <a:lnTo>
                    <a:pt x="331" y="1682"/>
                  </a:lnTo>
                  <a:lnTo>
                    <a:pt x="351" y="1657"/>
                  </a:lnTo>
                  <a:lnTo>
                    <a:pt x="372" y="1627"/>
                  </a:lnTo>
                  <a:lnTo>
                    <a:pt x="409" y="1574"/>
                  </a:lnTo>
                  <a:lnTo>
                    <a:pt x="447" y="1522"/>
                  </a:lnTo>
                  <a:lnTo>
                    <a:pt x="483" y="1474"/>
                  </a:lnTo>
                  <a:lnTo>
                    <a:pt x="520" y="1428"/>
                  </a:lnTo>
                  <a:lnTo>
                    <a:pt x="557" y="1385"/>
                  </a:lnTo>
                  <a:lnTo>
                    <a:pt x="594" y="1345"/>
                  </a:lnTo>
                  <a:lnTo>
                    <a:pt x="631" y="1306"/>
                  </a:lnTo>
                  <a:lnTo>
                    <a:pt x="668" y="1269"/>
                  </a:lnTo>
                  <a:lnTo>
                    <a:pt x="704" y="1236"/>
                  </a:lnTo>
                  <a:lnTo>
                    <a:pt x="741" y="1204"/>
                  </a:lnTo>
                  <a:lnTo>
                    <a:pt x="778" y="1174"/>
                  </a:lnTo>
                  <a:lnTo>
                    <a:pt x="814" y="1146"/>
                  </a:lnTo>
                  <a:lnTo>
                    <a:pt x="850" y="1120"/>
                  </a:lnTo>
                  <a:lnTo>
                    <a:pt x="885" y="1094"/>
                  </a:lnTo>
                  <a:lnTo>
                    <a:pt x="921" y="1071"/>
                  </a:lnTo>
                  <a:lnTo>
                    <a:pt x="957" y="1050"/>
                  </a:lnTo>
                  <a:lnTo>
                    <a:pt x="991" y="1029"/>
                  </a:lnTo>
                  <a:lnTo>
                    <a:pt x="1025" y="1010"/>
                  </a:lnTo>
                  <a:lnTo>
                    <a:pt x="1059" y="992"/>
                  </a:lnTo>
                  <a:lnTo>
                    <a:pt x="1092" y="975"/>
                  </a:lnTo>
                  <a:lnTo>
                    <a:pt x="1158" y="944"/>
                  </a:lnTo>
                  <a:lnTo>
                    <a:pt x="1221" y="916"/>
                  </a:lnTo>
                  <a:lnTo>
                    <a:pt x="1340" y="866"/>
                  </a:lnTo>
                  <a:lnTo>
                    <a:pt x="1446" y="821"/>
                  </a:lnTo>
                  <a:lnTo>
                    <a:pt x="1521" y="783"/>
                  </a:lnTo>
                  <a:lnTo>
                    <a:pt x="1594" y="745"/>
                  </a:lnTo>
                  <a:lnTo>
                    <a:pt x="1630" y="726"/>
                  </a:lnTo>
                  <a:lnTo>
                    <a:pt x="1666" y="706"/>
                  </a:lnTo>
                  <a:lnTo>
                    <a:pt x="1702" y="684"/>
                  </a:lnTo>
                  <a:lnTo>
                    <a:pt x="1736" y="663"/>
                  </a:lnTo>
                  <a:lnTo>
                    <a:pt x="1772" y="641"/>
                  </a:lnTo>
                  <a:lnTo>
                    <a:pt x="1806" y="618"/>
                  </a:lnTo>
                  <a:lnTo>
                    <a:pt x="1839" y="593"/>
                  </a:lnTo>
                  <a:lnTo>
                    <a:pt x="1873" y="569"/>
                  </a:lnTo>
                  <a:lnTo>
                    <a:pt x="1906" y="542"/>
                  </a:lnTo>
                  <a:lnTo>
                    <a:pt x="1938" y="516"/>
                  </a:lnTo>
                  <a:lnTo>
                    <a:pt x="1969" y="487"/>
                  </a:lnTo>
                  <a:lnTo>
                    <a:pt x="2000" y="457"/>
                  </a:lnTo>
                  <a:lnTo>
                    <a:pt x="2016" y="465"/>
                  </a:lnTo>
                  <a:lnTo>
                    <a:pt x="2032" y="475"/>
                  </a:lnTo>
                  <a:lnTo>
                    <a:pt x="2047" y="485"/>
                  </a:lnTo>
                  <a:lnTo>
                    <a:pt x="2062" y="496"/>
                  </a:lnTo>
                  <a:lnTo>
                    <a:pt x="2090" y="520"/>
                  </a:lnTo>
                  <a:lnTo>
                    <a:pt x="2119" y="545"/>
                  </a:lnTo>
                  <a:lnTo>
                    <a:pt x="2148" y="568"/>
                  </a:lnTo>
                  <a:lnTo>
                    <a:pt x="2178" y="590"/>
                  </a:lnTo>
                  <a:lnTo>
                    <a:pt x="2194" y="600"/>
                  </a:lnTo>
                  <a:lnTo>
                    <a:pt x="2209" y="609"/>
                  </a:lnTo>
                  <a:lnTo>
                    <a:pt x="2225" y="617"/>
                  </a:lnTo>
                  <a:lnTo>
                    <a:pt x="2241" y="622"/>
                  </a:lnTo>
                  <a:lnTo>
                    <a:pt x="2227" y="658"/>
                  </a:lnTo>
                  <a:lnTo>
                    <a:pt x="2215" y="696"/>
                  </a:lnTo>
                  <a:lnTo>
                    <a:pt x="2206" y="735"/>
                  </a:lnTo>
                  <a:lnTo>
                    <a:pt x="2198" y="779"/>
                  </a:lnTo>
                  <a:lnTo>
                    <a:pt x="2194" y="823"/>
                  </a:lnTo>
                  <a:lnTo>
                    <a:pt x="2190" y="870"/>
                  </a:lnTo>
                  <a:lnTo>
                    <a:pt x="2188" y="918"/>
                  </a:lnTo>
                  <a:lnTo>
                    <a:pt x="2189" y="967"/>
                  </a:lnTo>
                  <a:lnTo>
                    <a:pt x="2190" y="1017"/>
                  </a:lnTo>
                  <a:lnTo>
                    <a:pt x="2195" y="1070"/>
                  </a:lnTo>
                  <a:lnTo>
                    <a:pt x="2199" y="1122"/>
                  </a:lnTo>
                  <a:lnTo>
                    <a:pt x="2205" y="1175"/>
                  </a:lnTo>
                  <a:lnTo>
                    <a:pt x="2213" y="1228"/>
                  </a:lnTo>
                  <a:lnTo>
                    <a:pt x="2221" y="1283"/>
                  </a:lnTo>
                  <a:lnTo>
                    <a:pt x="2230" y="1336"/>
                  </a:lnTo>
                  <a:lnTo>
                    <a:pt x="2240" y="1389"/>
                  </a:lnTo>
                  <a:lnTo>
                    <a:pt x="2251" y="1443"/>
                  </a:lnTo>
                  <a:lnTo>
                    <a:pt x="2263" y="1495"/>
                  </a:lnTo>
                  <a:lnTo>
                    <a:pt x="2275" y="1547"/>
                  </a:lnTo>
                  <a:lnTo>
                    <a:pt x="2287" y="1597"/>
                  </a:lnTo>
                  <a:lnTo>
                    <a:pt x="2311" y="1695"/>
                  </a:lnTo>
                  <a:lnTo>
                    <a:pt x="2337" y="1784"/>
                  </a:lnTo>
                  <a:lnTo>
                    <a:pt x="2361" y="1865"/>
                  </a:lnTo>
                  <a:lnTo>
                    <a:pt x="2384" y="1938"/>
                  </a:lnTo>
                  <a:lnTo>
                    <a:pt x="2402" y="1998"/>
                  </a:lnTo>
                  <a:lnTo>
                    <a:pt x="2419" y="2044"/>
                  </a:lnTo>
                  <a:lnTo>
                    <a:pt x="2432" y="2061"/>
                  </a:lnTo>
                  <a:lnTo>
                    <a:pt x="2447" y="2076"/>
                  </a:lnTo>
                  <a:lnTo>
                    <a:pt x="2455" y="2083"/>
                  </a:lnTo>
                  <a:lnTo>
                    <a:pt x="2461" y="2089"/>
                  </a:lnTo>
                  <a:lnTo>
                    <a:pt x="2468" y="2093"/>
                  </a:lnTo>
                  <a:lnTo>
                    <a:pt x="2475" y="2096"/>
                  </a:lnTo>
                  <a:lnTo>
                    <a:pt x="2480" y="2097"/>
                  </a:lnTo>
                  <a:lnTo>
                    <a:pt x="2486" y="2096"/>
                  </a:lnTo>
                  <a:lnTo>
                    <a:pt x="2487" y="2095"/>
                  </a:lnTo>
                  <a:lnTo>
                    <a:pt x="2489" y="2093"/>
                  </a:lnTo>
                  <a:lnTo>
                    <a:pt x="2490" y="2091"/>
                  </a:lnTo>
                  <a:lnTo>
                    <a:pt x="2491" y="2087"/>
                  </a:lnTo>
                  <a:lnTo>
                    <a:pt x="2491" y="2079"/>
                  </a:lnTo>
                  <a:lnTo>
                    <a:pt x="2490" y="2066"/>
                  </a:lnTo>
                  <a:lnTo>
                    <a:pt x="2488" y="2052"/>
                  </a:lnTo>
                  <a:lnTo>
                    <a:pt x="2482" y="2033"/>
                  </a:lnTo>
                  <a:lnTo>
                    <a:pt x="2475" y="2013"/>
                  </a:lnTo>
                  <a:lnTo>
                    <a:pt x="2467" y="1988"/>
                  </a:lnTo>
                  <a:lnTo>
                    <a:pt x="2459" y="1959"/>
                  </a:lnTo>
                  <a:lnTo>
                    <a:pt x="2451" y="1925"/>
                  </a:lnTo>
                  <a:lnTo>
                    <a:pt x="2444" y="1888"/>
                  </a:lnTo>
                  <a:lnTo>
                    <a:pt x="2436" y="1848"/>
                  </a:lnTo>
                  <a:lnTo>
                    <a:pt x="2428" y="1804"/>
                  </a:lnTo>
                  <a:lnTo>
                    <a:pt x="2420" y="1758"/>
                  </a:lnTo>
                  <a:lnTo>
                    <a:pt x="2405" y="1659"/>
                  </a:lnTo>
                  <a:lnTo>
                    <a:pt x="2391" y="1552"/>
                  </a:lnTo>
                  <a:lnTo>
                    <a:pt x="2379" y="1441"/>
                  </a:lnTo>
                  <a:lnTo>
                    <a:pt x="2368" y="1328"/>
                  </a:lnTo>
                  <a:lnTo>
                    <a:pt x="2364" y="1273"/>
                  </a:lnTo>
                  <a:lnTo>
                    <a:pt x="2359" y="1216"/>
                  </a:lnTo>
                  <a:lnTo>
                    <a:pt x="2356" y="1162"/>
                  </a:lnTo>
                  <a:lnTo>
                    <a:pt x="2354" y="1107"/>
                  </a:lnTo>
                  <a:lnTo>
                    <a:pt x="2351" y="1055"/>
                  </a:lnTo>
                  <a:lnTo>
                    <a:pt x="2350" y="1004"/>
                  </a:lnTo>
                  <a:lnTo>
                    <a:pt x="2350" y="955"/>
                  </a:lnTo>
                  <a:lnTo>
                    <a:pt x="2350" y="909"/>
                  </a:lnTo>
                  <a:lnTo>
                    <a:pt x="2351" y="864"/>
                  </a:lnTo>
                  <a:lnTo>
                    <a:pt x="2355" y="824"/>
                  </a:lnTo>
                  <a:lnTo>
                    <a:pt x="2358" y="787"/>
                  </a:lnTo>
                  <a:lnTo>
                    <a:pt x="2362" y="752"/>
                  </a:lnTo>
                  <a:lnTo>
                    <a:pt x="2368" y="723"/>
                  </a:lnTo>
                  <a:lnTo>
                    <a:pt x="2375" y="697"/>
                  </a:lnTo>
                  <a:lnTo>
                    <a:pt x="2382" y="676"/>
                  </a:lnTo>
                  <a:lnTo>
                    <a:pt x="2391" y="660"/>
                  </a:lnTo>
                  <a:lnTo>
                    <a:pt x="2406" y="673"/>
                  </a:lnTo>
                  <a:lnTo>
                    <a:pt x="2418" y="679"/>
                  </a:lnTo>
                  <a:lnTo>
                    <a:pt x="2430" y="683"/>
                  </a:lnTo>
                  <a:lnTo>
                    <a:pt x="2442" y="686"/>
                  </a:lnTo>
                  <a:lnTo>
                    <a:pt x="2454" y="687"/>
                  </a:lnTo>
                  <a:lnTo>
                    <a:pt x="2466" y="687"/>
                  </a:lnTo>
                  <a:lnTo>
                    <a:pt x="2477" y="684"/>
                  </a:lnTo>
                  <a:lnTo>
                    <a:pt x="2488" y="682"/>
                  </a:lnTo>
                  <a:lnTo>
                    <a:pt x="2500" y="678"/>
                  </a:lnTo>
                  <a:lnTo>
                    <a:pt x="2521" y="669"/>
                  </a:lnTo>
                  <a:lnTo>
                    <a:pt x="2543" y="658"/>
                  </a:lnTo>
                  <a:lnTo>
                    <a:pt x="2563" y="646"/>
                  </a:lnTo>
                  <a:lnTo>
                    <a:pt x="2585" y="634"/>
                  </a:lnTo>
                  <a:lnTo>
                    <a:pt x="2561" y="617"/>
                  </a:lnTo>
                  <a:lnTo>
                    <a:pt x="2537" y="600"/>
                  </a:lnTo>
                  <a:lnTo>
                    <a:pt x="2511" y="585"/>
                  </a:lnTo>
                  <a:lnTo>
                    <a:pt x="2486" y="570"/>
                  </a:lnTo>
                  <a:lnTo>
                    <a:pt x="2432" y="543"/>
                  </a:lnTo>
                  <a:lnTo>
                    <a:pt x="2376" y="518"/>
                  </a:lnTo>
                  <a:lnTo>
                    <a:pt x="2317" y="491"/>
                  </a:lnTo>
                  <a:lnTo>
                    <a:pt x="2256" y="462"/>
                  </a:lnTo>
                  <a:lnTo>
                    <a:pt x="2224" y="448"/>
                  </a:lnTo>
                  <a:lnTo>
                    <a:pt x="2193" y="431"/>
                  </a:lnTo>
                  <a:lnTo>
                    <a:pt x="2160" y="412"/>
                  </a:lnTo>
                  <a:lnTo>
                    <a:pt x="2127" y="394"/>
                  </a:lnTo>
                  <a:lnTo>
                    <a:pt x="2183" y="349"/>
                  </a:lnTo>
                  <a:lnTo>
                    <a:pt x="2236" y="304"/>
                  </a:lnTo>
                  <a:lnTo>
                    <a:pt x="2289" y="259"/>
                  </a:lnTo>
                  <a:lnTo>
                    <a:pt x="2340" y="216"/>
                  </a:lnTo>
                  <a:lnTo>
                    <a:pt x="2390" y="172"/>
                  </a:lnTo>
                  <a:lnTo>
                    <a:pt x="2440" y="128"/>
                  </a:lnTo>
                  <a:lnTo>
                    <a:pt x="2489" y="86"/>
                  </a:lnTo>
                  <a:lnTo>
                    <a:pt x="2538" y="44"/>
                  </a:lnTo>
                  <a:lnTo>
                    <a:pt x="2578" y="124"/>
                  </a:lnTo>
                  <a:lnTo>
                    <a:pt x="2608" y="186"/>
                  </a:lnTo>
                  <a:lnTo>
                    <a:pt x="2621" y="214"/>
                  </a:lnTo>
                  <a:lnTo>
                    <a:pt x="2632" y="240"/>
                  </a:lnTo>
                  <a:lnTo>
                    <a:pt x="2643" y="267"/>
                  </a:lnTo>
                  <a:lnTo>
                    <a:pt x="2652" y="295"/>
                  </a:lnTo>
                  <a:lnTo>
                    <a:pt x="2661" y="325"/>
                  </a:lnTo>
                  <a:lnTo>
                    <a:pt x="2670" y="358"/>
                  </a:lnTo>
                  <a:lnTo>
                    <a:pt x="2679" y="396"/>
                  </a:lnTo>
                  <a:lnTo>
                    <a:pt x="2688" y="438"/>
                  </a:lnTo>
                  <a:lnTo>
                    <a:pt x="2707" y="545"/>
                  </a:lnTo>
                  <a:lnTo>
                    <a:pt x="2731" y="686"/>
                  </a:lnTo>
                  <a:lnTo>
                    <a:pt x="2736" y="677"/>
                  </a:lnTo>
                  <a:lnTo>
                    <a:pt x="2741" y="667"/>
                  </a:lnTo>
                  <a:lnTo>
                    <a:pt x="2746" y="656"/>
                  </a:lnTo>
                  <a:lnTo>
                    <a:pt x="2749" y="643"/>
                  </a:lnTo>
                  <a:lnTo>
                    <a:pt x="2757" y="616"/>
                  </a:lnTo>
                  <a:lnTo>
                    <a:pt x="2762" y="583"/>
                  </a:lnTo>
                  <a:lnTo>
                    <a:pt x="2766" y="549"/>
                  </a:lnTo>
                  <a:lnTo>
                    <a:pt x="2769" y="512"/>
                  </a:lnTo>
                  <a:lnTo>
                    <a:pt x="2770" y="474"/>
                  </a:lnTo>
                  <a:lnTo>
                    <a:pt x="2769" y="434"/>
                  </a:lnTo>
                  <a:lnTo>
                    <a:pt x="2767" y="393"/>
                  </a:lnTo>
                  <a:lnTo>
                    <a:pt x="2763" y="351"/>
                  </a:lnTo>
                  <a:lnTo>
                    <a:pt x="2758" y="311"/>
                  </a:lnTo>
                  <a:lnTo>
                    <a:pt x="2751" y="272"/>
                  </a:lnTo>
                  <a:lnTo>
                    <a:pt x="2747" y="253"/>
                  </a:lnTo>
                  <a:lnTo>
                    <a:pt x="2742" y="234"/>
                  </a:lnTo>
                  <a:lnTo>
                    <a:pt x="2737" y="216"/>
                  </a:lnTo>
                  <a:lnTo>
                    <a:pt x="2731" y="198"/>
                  </a:lnTo>
                  <a:lnTo>
                    <a:pt x="2724" y="182"/>
                  </a:lnTo>
                  <a:lnTo>
                    <a:pt x="2718" y="166"/>
                  </a:lnTo>
                  <a:lnTo>
                    <a:pt x="2711" y="152"/>
                  </a:lnTo>
                  <a:lnTo>
                    <a:pt x="2703" y="137"/>
                  </a:lnTo>
                  <a:lnTo>
                    <a:pt x="2697" y="123"/>
                  </a:lnTo>
                  <a:lnTo>
                    <a:pt x="2690" y="107"/>
                  </a:lnTo>
                  <a:lnTo>
                    <a:pt x="2683" y="92"/>
                  </a:lnTo>
                  <a:lnTo>
                    <a:pt x="2676" y="76"/>
                  </a:lnTo>
                  <a:lnTo>
                    <a:pt x="2669" y="60"/>
                  </a:lnTo>
                  <a:lnTo>
                    <a:pt x="2661" y="43"/>
                  </a:lnTo>
                  <a:lnTo>
                    <a:pt x="2653" y="25"/>
                  </a:lnTo>
                  <a:lnTo>
                    <a:pt x="2646" y="7"/>
                  </a:lnTo>
                  <a:lnTo>
                    <a:pt x="2645" y="5"/>
                  </a:lnTo>
                  <a:lnTo>
                    <a:pt x="2646" y="4"/>
                  </a:lnTo>
                  <a:lnTo>
                    <a:pt x="2646" y="4"/>
                  </a:lnTo>
                  <a:lnTo>
                    <a:pt x="2647" y="5"/>
                  </a:lnTo>
                  <a:lnTo>
                    <a:pt x="2648" y="5"/>
                  </a:lnTo>
                  <a:lnTo>
                    <a:pt x="2648" y="4"/>
                  </a:lnTo>
                  <a:lnTo>
                    <a:pt x="2649" y="3"/>
                  </a:lnTo>
                  <a:lnTo>
                    <a:pt x="2648" y="0"/>
                  </a:lnTo>
                  <a:lnTo>
                    <a:pt x="2681" y="26"/>
                  </a:lnTo>
                  <a:lnTo>
                    <a:pt x="2713" y="55"/>
                  </a:lnTo>
                  <a:lnTo>
                    <a:pt x="2747" y="85"/>
                  </a:lnTo>
                  <a:lnTo>
                    <a:pt x="2779" y="117"/>
                  </a:lnTo>
                  <a:lnTo>
                    <a:pt x="2810" y="151"/>
                  </a:lnTo>
                  <a:lnTo>
                    <a:pt x="2842" y="186"/>
                  </a:lnTo>
                  <a:lnTo>
                    <a:pt x="2873" y="223"/>
                  </a:lnTo>
                  <a:lnTo>
                    <a:pt x="2903" y="259"/>
                  </a:lnTo>
                  <a:lnTo>
                    <a:pt x="2933" y="297"/>
                  </a:lnTo>
                  <a:lnTo>
                    <a:pt x="2962" y="336"/>
                  </a:lnTo>
                  <a:lnTo>
                    <a:pt x="2991" y="375"/>
                  </a:lnTo>
                  <a:lnTo>
                    <a:pt x="3019" y="414"/>
                  </a:lnTo>
                  <a:lnTo>
                    <a:pt x="3072" y="491"/>
                  </a:lnTo>
                  <a:lnTo>
                    <a:pt x="3121" y="568"/>
                  </a:lnTo>
                  <a:lnTo>
                    <a:pt x="3166" y="641"/>
                  </a:lnTo>
                  <a:lnTo>
                    <a:pt x="3208" y="710"/>
                  </a:lnTo>
                  <a:lnTo>
                    <a:pt x="3243" y="772"/>
                  </a:lnTo>
                  <a:lnTo>
                    <a:pt x="3273" y="827"/>
                  </a:lnTo>
                  <a:lnTo>
                    <a:pt x="3315" y="905"/>
                  </a:lnTo>
                  <a:lnTo>
                    <a:pt x="3331" y="934"/>
                  </a:lnTo>
                  <a:lnTo>
                    <a:pt x="3356" y="986"/>
                  </a:lnTo>
                  <a:lnTo>
                    <a:pt x="3384" y="1047"/>
                  </a:lnTo>
                  <a:lnTo>
                    <a:pt x="3415" y="1116"/>
                  </a:lnTo>
                  <a:lnTo>
                    <a:pt x="3447" y="1194"/>
                  </a:lnTo>
                  <a:lnTo>
                    <a:pt x="3482" y="1276"/>
                  </a:lnTo>
                  <a:lnTo>
                    <a:pt x="3517" y="1363"/>
                  </a:lnTo>
                  <a:lnTo>
                    <a:pt x="3553" y="1453"/>
                  </a:lnTo>
                  <a:lnTo>
                    <a:pt x="3588" y="1544"/>
                  </a:lnTo>
                  <a:lnTo>
                    <a:pt x="3658" y="1727"/>
                  </a:lnTo>
                  <a:lnTo>
                    <a:pt x="3723" y="1900"/>
                  </a:lnTo>
                  <a:lnTo>
                    <a:pt x="3778" y="2052"/>
                  </a:lnTo>
                  <a:lnTo>
                    <a:pt x="3821" y="2173"/>
                  </a:lnTo>
                  <a:lnTo>
                    <a:pt x="3817" y="2205"/>
                  </a:lnTo>
                  <a:lnTo>
                    <a:pt x="3814" y="2236"/>
                  </a:lnTo>
                  <a:lnTo>
                    <a:pt x="3809" y="2267"/>
                  </a:lnTo>
                  <a:lnTo>
                    <a:pt x="3804" y="2298"/>
                  </a:lnTo>
                  <a:lnTo>
                    <a:pt x="3798" y="2328"/>
                  </a:lnTo>
                  <a:lnTo>
                    <a:pt x="3792" y="2358"/>
                  </a:lnTo>
                  <a:lnTo>
                    <a:pt x="3785" y="2387"/>
                  </a:lnTo>
                  <a:lnTo>
                    <a:pt x="3777" y="2416"/>
                  </a:lnTo>
                  <a:lnTo>
                    <a:pt x="3772" y="2432"/>
                  </a:lnTo>
                  <a:lnTo>
                    <a:pt x="3765" y="2457"/>
                  </a:lnTo>
                  <a:lnTo>
                    <a:pt x="3757" y="2483"/>
                  </a:lnTo>
                  <a:lnTo>
                    <a:pt x="3748" y="2509"/>
                  </a:lnTo>
                  <a:lnTo>
                    <a:pt x="3738" y="2535"/>
                  </a:lnTo>
                  <a:lnTo>
                    <a:pt x="3728" y="2560"/>
                  </a:lnTo>
                  <a:lnTo>
                    <a:pt x="3716" y="2587"/>
                  </a:lnTo>
                  <a:lnTo>
                    <a:pt x="3704" y="2613"/>
                  </a:lnTo>
                  <a:lnTo>
                    <a:pt x="3692" y="2638"/>
                  </a:lnTo>
                  <a:lnTo>
                    <a:pt x="3665" y="2689"/>
                  </a:lnTo>
                  <a:lnTo>
                    <a:pt x="3638" y="2740"/>
                  </a:lnTo>
                  <a:lnTo>
                    <a:pt x="3611" y="2789"/>
                  </a:lnTo>
                  <a:lnTo>
                    <a:pt x="3584" y="2838"/>
                  </a:lnTo>
                  <a:lnTo>
                    <a:pt x="3559" y="2883"/>
                  </a:lnTo>
                  <a:lnTo>
                    <a:pt x="3535" y="2928"/>
                  </a:lnTo>
                  <a:lnTo>
                    <a:pt x="3524" y="2949"/>
                  </a:lnTo>
                  <a:lnTo>
                    <a:pt x="3515" y="2969"/>
                  </a:lnTo>
                  <a:lnTo>
                    <a:pt x="3506" y="2989"/>
                  </a:lnTo>
                  <a:lnTo>
                    <a:pt x="3499" y="3008"/>
                  </a:lnTo>
                  <a:lnTo>
                    <a:pt x="3492" y="3025"/>
                  </a:lnTo>
                  <a:lnTo>
                    <a:pt x="3486" y="3043"/>
                  </a:lnTo>
                  <a:lnTo>
                    <a:pt x="3483" y="3060"/>
                  </a:lnTo>
                  <a:lnTo>
                    <a:pt x="3480" y="3075"/>
                  </a:lnTo>
                  <a:lnTo>
                    <a:pt x="3479" y="3090"/>
                  </a:lnTo>
                  <a:lnTo>
                    <a:pt x="3480" y="3103"/>
                  </a:lnTo>
                  <a:lnTo>
                    <a:pt x="3482" y="3115"/>
                  </a:lnTo>
                  <a:lnTo>
                    <a:pt x="3486" y="3128"/>
                  </a:lnTo>
                  <a:lnTo>
                    <a:pt x="3491" y="3150"/>
                  </a:lnTo>
                  <a:lnTo>
                    <a:pt x="3495" y="3170"/>
                  </a:lnTo>
                  <a:lnTo>
                    <a:pt x="3502" y="3186"/>
                  </a:lnTo>
                  <a:lnTo>
                    <a:pt x="3509" y="3200"/>
                  </a:lnTo>
                  <a:lnTo>
                    <a:pt x="3516" y="3212"/>
                  </a:lnTo>
                  <a:lnTo>
                    <a:pt x="3524" y="3221"/>
                  </a:lnTo>
                  <a:lnTo>
                    <a:pt x="3533" y="3227"/>
                  </a:lnTo>
                  <a:lnTo>
                    <a:pt x="3543" y="3233"/>
                  </a:lnTo>
                  <a:lnTo>
                    <a:pt x="3553" y="3236"/>
                  </a:lnTo>
                  <a:lnTo>
                    <a:pt x="3563" y="3237"/>
                  </a:lnTo>
                  <a:lnTo>
                    <a:pt x="3574" y="3237"/>
                  </a:lnTo>
                  <a:lnTo>
                    <a:pt x="3585" y="3236"/>
                  </a:lnTo>
                  <a:lnTo>
                    <a:pt x="3596" y="3233"/>
                  </a:lnTo>
                  <a:lnTo>
                    <a:pt x="3608" y="3230"/>
                  </a:lnTo>
                  <a:lnTo>
                    <a:pt x="3621" y="3225"/>
                  </a:lnTo>
                  <a:lnTo>
                    <a:pt x="3632" y="3221"/>
                  </a:lnTo>
                  <a:lnTo>
                    <a:pt x="3656" y="3210"/>
                  </a:lnTo>
                  <a:lnTo>
                    <a:pt x="3681" y="3199"/>
                  </a:lnTo>
                  <a:lnTo>
                    <a:pt x="3705" y="3189"/>
                  </a:lnTo>
                  <a:lnTo>
                    <a:pt x="3728" y="3181"/>
                  </a:lnTo>
                  <a:lnTo>
                    <a:pt x="3740" y="3177"/>
                  </a:lnTo>
                  <a:lnTo>
                    <a:pt x="3751" y="3176"/>
                  </a:lnTo>
                  <a:lnTo>
                    <a:pt x="3761" y="3176"/>
                  </a:lnTo>
                  <a:lnTo>
                    <a:pt x="3771" y="3177"/>
                  </a:lnTo>
                  <a:lnTo>
                    <a:pt x="3781" y="3181"/>
                  </a:lnTo>
                  <a:lnTo>
                    <a:pt x="3790" y="3185"/>
                  </a:lnTo>
                  <a:lnTo>
                    <a:pt x="3798" y="3192"/>
                  </a:lnTo>
                  <a:lnTo>
                    <a:pt x="3806" y="3201"/>
                  </a:lnTo>
                  <a:lnTo>
                    <a:pt x="3806" y="3210"/>
                  </a:lnTo>
                  <a:lnTo>
                    <a:pt x="3805" y="3217"/>
                  </a:lnTo>
                  <a:lnTo>
                    <a:pt x="3804" y="3225"/>
                  </a:lnTo>
                  <a:lnTo>
                    <a:pt x="3802" y="3232"/>
                  </a:lnTo>
                  <a:lnTo>
                    <a:pt x="3800" y="3237"/>
                  </a:lnTo>
                  <a:lnTo>
                    <a:pt x="3796" y="3243"/>
                  </a:lnTo>
                  <a:lnTo>
                    <a:pt x="3793" y="3247"/>
                  </a:lnTo>
                  <a:lnTo>
                    <a:pt x="3788" y="3252"/>
                  </a:lnTo>
                  <a:lnTo>
                    <a:pt x="3778" y="3261"/>
                  </a:lnTo>
                  <a:lnTo>
                    <a:pt x="3767" y="3270"/>
                  </a:lnTo>
                  <a:lnTo>
                    <a:pt x="3755" y="3280"/>
                  </a:lnTo>
                  <a:lnTo>
                    <a:pt x="3743" y="3292"/>
                  </a:lnTo>
                  <a:lnTo>
                    <a:pt x="3731" y="3298"/>
                  </a:lnTo>
                  <a:lnTo>
                    <a:pt x="3722" y="3306"/>
                  </a:lnTo>
                  <a:lnTo>
                    <a:pt x="3715" y="3314"/>
                  </a:lnTo>
                  <a:lnTo>
                    <a:pt x="3711" y="3322"/>
                  </a:lnTo>
                  <a:lnTo>
                    <a:pt x="3708" y="3330"/>
                  </a:lnTo>
                  <a:lnTo>
                    <a:pt x="3708" y="3338"/>
                  </a:lnTo>
                  <a:lnTo>
                    <a:pt x="3710" y="3347"/>
                  </a:lnTo>
                  <a:lnTo>
                    <a:pt x="3712" y="3355"/>
                  </a:lnTo>
                  <a:lnTo>
                    <a:pt x="3716" y="3364"/>
                  </a:lnTo>
                  <a:lnTo>
                    <a:pt x="3721" y="3373"/>
                  </a:lnTo>
                  <a:lnTo>
                    <a:pt x="3726" y="3381"/>
                  </a:lnTo>
                  <a:lnTo>
                    <a:pt x="3732" y="3388"/>
                  </a:lnTo>
                  <a:lnTo>
                    <a:pt x="3744" y="3404"/>
                  </a:lnTo>
                  <a:lnTo>
                    <a:pt x="3754" y="3418"/>
                  </a:lnTo>
                  <a:lnTo>
                    <a:pt x="3776" y="3443"/>
                  </a:lnTo>
                  <a:lnTo>
                    <a:pt x="3797" y="3468"/>
                  </a:lnTo>
                  <a:lnTo>
                    <a:pt x="3818" y="3495"/>
                  </a:lnTo>
                  <a:lnTo>
                    <a:pt x="3838" y="3520"/>
                  </a:lnTo>
                  <a:lnTo>
                    <a:pt x="3858" y="3547"/>
                  </a:lnTo>
                  <a:lnTo>
                    <a:pt x="3876" y="3574"/>
                  </a:lnTo>
                  <a:lnTo>
                    <a:pt x="3895" y="3602"/>
                  </a:lnTo>
                  <a:lnTo>
                    <a:pt x="3912" y="3628"/>
                  </a:lnTo>
                  <a:lnTo>
                    <a:pt x="3928" y="3656"/>
                  </a:lnTo>
                  <a:lnTo>
                    <a:pt x="3945" y="3685"/>
                  </a:lnTo>
                  <a:lnTo>
                    <a:pt x="3961" y="3713"/>
                  </a:lnTo>
                  <a:lnTo>
                    <a:pt x="3976" y="3741"/>
                  </a:lnTo>
                  <a:lnTo>
                    <a:pt x="4005" y="3799"/>
                  </a:lnTo>
                  <a:lnTo>
                    <a:pt x="4032" y="3857"/>
                  </a:lnTo>
                  <a:lnTo>
                    <a:pt x="4047" y="389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3992400" y="3178080"/>
              <a:ext cx="160560" cy="258840"/>
            </a:xfrm>
            <a:custGeom>
              <a:avLst/>
              <a:gdLst/>
              <a:ahLst/>
              <a:rect l="l" t="t" r="r" b="b"/>
              <a:pathLst>
                <a:path w="505" h="815">
                  <a:moveTo>
                    <a:pt x="505" y="815"/>
                  </a:moveTo>
                  <a:lnTo>
                    <a:pt x="482" y="779"/>
                  </a:lnTo>
                  <a:lnTo>
                    <a:pt x="460" y="742"/>
                  </a:lnTo>
                  <a:lnTo>
                    <a:pt x="437" y="707"/>
                  </a:lnTo>
                  <a:lnTo>
                    <a:pt x="413" y="674"/>
                  </a:lnTo>
                  <a:lnTo>
                    <a:pt x="390" y="642"/>
                  </a:lnTo>
                  <a:lnTo>
                    <a:pt x="367" y="612"/>
                  </a:lnTo>
                  <a:lnTo>
                    <a:pt x="344" y="582"/>
                  </a:lnTo>
                  <a:lnTo>
                    <a:pt x="321" y="554"/>
                  </a:lnTo>
                  <a:lnTo>
                    <a:pt x="277" y="501"/>
                  </a:lnTo>
                  <a:lnTo>
                    <a:pt x="234" y="453"/>
                  </a:lnTo>
                  <a:lnTo>
                    <a:pt x="193" y="410"/>
                  </a:lnTo>
                  <a:lnTo>
                    <a:pt x="156" y="370"/>
                  </a:lnTo>
                  <a:lnTo>
                    <a:pt x="89" y="305"/>
                  </a:lnTo>
                  <a:lnTo>
                    <a:pt x="38" y="255"/>
                  </a:lnTo>
                  <a:lnTo>
                    <a:pt x="20" y="235"/>
                  </a:lnTo>
                  <a:lnTo>
                    <a:pt x="8" y="219"/>
                  </a:lnTo>
                  <a:lnTo>
                    <a:pt x="3" y="212"/>
                  </a:lnTo>
                  <a:lnTo>
                    <a:pt x="1" y="206"/>
                  </a:lnTo>
                  <a:lnTo>
                    <a:pt x="0" y="201"/>
                  </a:lnTo>
                  <a:lnTo>
                    <a:pt x="0" y="197"/>
                  </a:lnTo>
                  <a:lnTo>
                    <a:pt x="21" y="178"/>
                  </a:lnTo>
                  <a:lnTo>
                    <a:pt x="45" y="156"/>
                  </a:lnTo>
                  <a:lnTo>
                    <a:pt x="70" y="133"/>
                  </a:lnTo>
                  <a:lnTo>
                    <a:pt x="100" y="106"/>
                  </a:lnTo>
                  <a:lnTo>
                    <a:pt x="131" y="79"/>
                  </a:lnTo>
                  <a:lnTo>
                    <a:pt x="165" y="53"/>
                  </a:lnTo>
                  <a:lnTo>
                    <a:pt x="182" y="39"/>
                  </a:lnTo>
                  <a:lnTo>
                    <a:pt x="201" y="26"/>
                  </a:lnTo>
                  <a:lnTo>
                    <a:pt x="219" y="13"/>
                  </a:lnTo>
                  <a:lnTo>
                    <a:pt x="239" y="0"/>
                  </a:lnTo>
                  <a:lnTo>
                    <a:pt x="248" y="8"/>
                  </a:lnTo>
                  <a:lnTo>
                    <a:pt x="272" y="34"/>
                  </a:lnTo>
                  <a:lnTo>
                    <a:pt x="288" y="54"/>
                  </a:lnTo>
                  <a:lnTo>
                    <a:pt x="307" y="80"/>
                  </a:lnTo>
                  <a:lnTo>
                    <a:pt x="317" y="97"/>
                  </a:lnTo>
                  <a:lnTo>
                    <a:pt x="328" y="115"/>
                  </a:lnTo>
                  <a:lnTo>
                    <a:pt x="338" y="134"/>
                  </a:lnTo>
                  <a:lnTo>
                    <a:pt x="349" y="155"/>
                  </a:lnTo>
                  <a:lnTo>
                    <a:pt x="360" y="178"/>
                  </a:lnTo>
                  <a:lnTo>
                    <a:pt x="371" y="204"/>
                  </a:lnTo>
                  <a:lnTo>
                    <a:pt x="383" y="231"/>
                  </a:lnTo>
                  <a:lnTo>
                    <a:pt x="394" y="261"/>
                  </a:lnTo>
                  <a:lnTo>
                    <a:pt x="406" y="293"/>
                  </a:lnTo>
                  <a:lnTo>
                    <a:pt x="417" y="328"/>
                  </a:lnTo>
                  <a:lnTo>
                    <a:pt x="428" y="364"/>
                  </a:lnTo>
                  <a:lnTo>
                    <a:pt x="438" y="403"/>
                  </a:lnTo>
                  <a:lnTo>
                    <a:pt x="449" y="446"/>
                  </a:lnTo>
                  <a:lnTo>
                    <a:pt x="458" y="490"/>
                  </a:lnTo>
                  <a:lnTo>
                    <a:pt x="468" y="537"/>
                  </a:lnTo>
                  <a:lnTo>
                    <a:pt x="477" y="586"/>
                  </a:lnTo>
                  <a:lnTo>
                    <a:pt x="484" y="640"/>
                  </a:lnTo>
                  <a:lnTo>
                    <a:pt x="492" y="695"/>
                  </a:lnTo>
                  <a:lnTo>
                    <a:pt x="499" y="753"/>
                  </a:lnTo>
                  <a:lnTo>
                    <a:pt x="505" y="81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4262400" y="4033800"/>
              <a:ext cx="358920" cy="905040"/>
            </a:xfrm>
            <a:custGeom>
              <a:avLst/>
              <a:gdLst/>
              <a:ahLst/>
              <a:rect l="l" t="t" r="r" b="b"/>
              <a:pathLst>
                <a:path w="1127" h="2849">
                  <a:moveTo>
                    <a:pt x="556" y="358"/>
                  </a:moveTo>
                  <a:lnTo>
                    <a:pt x="570" y="393"/>
                  </a:lnTo>
                  <a:lnTo>
                    <a:pt x="583" y="428"/>
                  </a:lnTo>
                  <a:lnTo>
                    <a:pt x="596" y="463"/>
                  </a:lnTo>
                  <a:lnTo>
                    <a:pt x="608" y="498"/>
                  </a:lnTo>
                  <a:lnTo>
                    <a:pt x="619" y="532"/>
                  </a:lnTo>
                  <a:lnTo>
                    <a:pt x="628" y="567"/>
                  </a:lnTo>
                  <a:lnTo>
                    <a:pt x="631" y="584"/>
                  </a:lnTo>
                  <a:lnTo>
                    <a:pt x="634" y="602"/>
                  </a:lnTo>
                  <a:lnTo>
                    <a:pt x="636" y="620"/>
                  </a:lnTo>
                  <a:lnTo>
                    <a:pt x="638" y="638"/>
                  </a:lnTo>
                  <a:lnTo>
                    <a:pt x="635" y="655"/>
                  </a:lnTo>
                  <a:lnTo>
                    <a:pt x="632" y="672"/>
                  </a:lnTo>
                  <a:lnTo>
                    <a:pt x="630" y="690"/>
                  </a:lnTo>
                  <a:lnTo>
                    <a:pt x="628" y="706"/>
                  </a:lnTo>
                  <a:lnTo>
                    <a:pt x="625" y="725"/>
                  </a:lnTo>
                  <a:lnTo>
                    <a:pt x="623" y="744"/>
                  </a:lnTo>
                  <a:lnTo>
                    <a:pt x="620" y="765"/>
                  </a:lnTo>
                  <a:lnTo>
                    <a:pt x="618" y="787"/>
                  </a:lnTo>
                  <a:lnTo>
                    <a:pt x="623" y="802"/>
                  </a:lnTo>
                  <a:lnTo>
                    <a:pt x="628" y="816"/>
                  </a:lnTo>
                  <a:lnTo>
                    <a:pt x="632" y="830"/>
                  </a:lnTo>
                  <a:lnTo>
                    <a:pt x="635" y="844"/>
                  </a:lnTo>
                  <a:lnTo>
                    <a:pt x="639" y="857"/>
                  </a:lnTo>
                  <a:lnTo>
                    <a:pt x="642" y="871"/>
                  </a:lnTo>
                  <a:lnTo>
                    <a:pt x="645" y="885"/>
                  </a:lnTo>
                  <a:lnTo>
                    <a:pt x="649" y="900"/>
                  </a:lnTo>
                  <a:lnTo>
                    <a:pt x="645" y="913"/>
                  </a:lnTo>
                  <a:lnTo>
                    <a:pt x="643" y="928"/>
                  </a:lnTo>
                  <a:lnTo>
                    <a:pt x="641" y="944"/>
                  </a:lnTo>
                  <a:lnTo>
                    <a:pt x="640" y="960"/>
                  </a:lnTo>
                  <a:lnTo>
                    <a:pt x="639" y="994"/>
                  </a:lnTo>
                  <a:lnTo>
                    <a:pt x="640" y="1029"/>
                  </a:lnTo>
                  <a:lnTo>
                    <a:pt x="642" y="1067"/>
                  </a:lnTo>
                  <a:lnTo>
                    <a:pt x="646" y="1106"/>
                  </a:lnTo>
                  <a:lnTo>
                    <a:pt x="652" y="1144"/>
                  </a:lnTo>
                  <a:lnTo>
                    <a:pt x="659" y="1183"/>
                  </a:lnTo>
                  <a:lnTo>
                    <a:pt x="666" y="1220"/>
                  </a:lnTo>
                  <a:lnTo>
                    <a:pt x="676" y="1257"/>
                  </a:lnTo>
                  <a:lnTo>
                    <a:pt x="686" y="1291"/>
                  </a:lnTo>
                  <a:lnTo>
                    <a:pt x="696" y="1325"/>
                  </a:lnTo>
                  <a:lnTo>
                    <a:pt x="707" y="1354"/>
                  </a:lnTo>
                  <a:lnTo>
                    <a:pt x="720" y="1380"/>
                  </a:lnTo>
                  <a:lnTo>
                    <a:pt x="725" y="1392"/>
                  </a:lnTo>
                  <a:lnTo>
                    <a:pt x="732" y="1404"/>
                  </a:lnTo>
                  <a:lnTo>
                    <a:pt x="737" y="1414"/>
                  </a:lnTo>
                  <a:lnTo>
                    <a:pt x="744" y="1422"/>
                  </a:lnTo>
                  <a:lnTo>
                    <a:pt x="783" y="1465"/>
                  </a:lnTo>
                  <a:lnTo>
                    <a:pt x="780" y="1477"/>
                  </a:lnTo>
                  <a:lnTo>
                    <a:pt x="777" y="1489"/>
                  </a:lnTo>
                  <a:lnTo>
                    <a:pt x="777" y="1502"/>
                  </a:lnTo>
                  <a:lnTo>
                    <a:pt x="779" y="1517"/>
                  </a:lnTo>
                  <a:lnTo>
                    <a:pt x="782" y="1546"/>
                  </a:lnTo>
                  <a:lnTo>
                    <a:pt x="784" y="1577"/>
                  </a:lnTo>
                  <a:lnTo>
                    <a:pt x="784" y="1591"/>
                  </a:lnTo>
                  <a:lnTo>
                    <a:pt x="783" y="1607"/>
                  </a:lnTo>
                  <a:lnTo>
                    <a:pt x="781" y="1621"/>
                  </a:lnTo>
                  <a:lnTo>
                    <a:pt x="776" y="1634"/>
                  </a:lnTo>
                  <a:lnTo>
                    <a:pt x="773" y="1641"/>
                  </a:lnTo>
                  <a:lnTo>
                    <a:pt x="770" y="1647"/>
                  </a:lnTo>
                  <a:lnTo>
                    <a:pt x="765" y="1653"/>
                  </a:lnTo>
                  <a:lnTo>
                    <a:pt x="761" y="1659"/>
                  </a:lnTo>
                  <a:lnTo>
                    <a:pt x="755" y="1664"/>
                  </a:lnTo>
                  <a:lnTo>
                    <a:pt x="749" y="1669"/>
                  </a:lnTo>
                  <a:lnTo>
                    <a:pt x="741" y="1674"/>
                  </a:lnTo>
                  <a:lnTo>
                    <a:pt x="733" y="1679"/>
                  </a:lnTo>
                  <a:lnTo>
                    <a:pt x="722" y="1687"/>
                  </a:lnTo>
                  <a:lnTo>
                    <a:pt x="713" y="1695"/>
                  </a:lnTo>
                  <a:lnTo>
                    <a:pt x="705" y="1705"/>
                  </a:lnTo>
                  <a:lnTo>
                    <a:pt x="699" y="1718"/>
                  </a:lnTo>
                  <a:lnTo>
                    <a:pt x="693" y="1730"/>
                  </a:lnTo>
                  <a:lnTo>
                    <a:pt x="689" y="1743"/>
                  </a:lnTo>
                  <a:lnTo>
                    <a:pt x="685" y="1758"/>
                  </a:lnTo>
                  <a:lnTo>
                    <a:pt x="684" y="1772"/>
                  </a:lnTo>
                  <a:lnTo>
                    <a:pt x="683" y="1788"/>
                  </a:lnTo>
                  <a:lnTo>
                    <a:pt x="684" y="1802"/>
                  </a:lnTo>
                  <a:lnTo>
                    <a:pt x="686" y="1819"/>
                  </a:lnTo>
                  <a:lnTo>
                    <a:pt x="690" y="1834"/>
                  </a:lnTo>
                  <a:lnTo>
                    <a:pt x="695" y="1850"/>
                  </a:lnTo>
                  <a:lnTo>
                    <a:pt x="702" y="1865"/>
                  </a:lnTo>
                  <a:lnTo>
                    <a:pt x="710" y="1880"/>
                  </a:lnTo>
                  <a:lnTo>
                    <a:pt x="720" y="1894"/>
                  </a:lnTo>
                  <a:lnTo>
                    <a:pt x="724" y="1909"/>
                  </a:lnTo>
                  <a:lnTo>
                    <a:pt x="731" y="1922"/>
                  </a:lnTo>
                  <a:lnTo>
                    <a:pt x="737" y="1934"/>
                  </a:lnTo>
                  <a:lnTo>
                    <a:pt x="745" y="1945"/>
                  </a:lnTo>
                  <a:lnTo>
                    <a:pt x="754" y="1955"/>
                  </a:lnTo>
                  <a:lnTo>
                    <a:pt x="763" y="1965"/>
                  </a:lnTo>
                  <a:lnTo>
                    <a:pt x="773" y="1975"/>
                  </a:lnTo>
                  <a:lnTo>
                    <a:pt x="783" y="1984"/>
                  </a:lnTo>
                  <a:lnTo>
                    <a:pt x="827" y="2017"/>
                  </a:lnTo>
                  <a:lnTo>
                    <a:pt x="872" y="2051"/>
                  </a:lnTo>
                  <a:lnTo>
                    <a:pt x="883" y="2061"/>
                  </a:lnTo>
                  <a:lnTo>
                    <a:pt x="893" y="2071"/>
                  </a:lnTo>
                  <a:lnTo>
                    <a:pt x="902" y="2081"/>
                  </a:lnTo>
                  <a:lnTo>
                    <a:pt x="911" y="2093"/>
                  </a:lnTo>
                  <a:lnTo>
                    <a:pt x="920" y="2105"/>
                  </a:lnTo>
                  <a:lnTo>
                    <a:pt x="926" y="2118"/>
                  </a:lnTo>
                  <a:lnTo>
                    <a:pt x="933" y="2132"/>
                  </a:lnTo>
                  <a:lnTo>
                    <a:pt x="938" y="2147"/>
                  </a:lnTo>
                  <a:lnTo>
                    <a:pt x="943" y="2164"/>
                  </a:lnTo>
                  <a:lnTo>
                    <a:pt x="946" y="2183"/>
                  </a:lnTo>
                  <a:lnTo>
                    <a:pt x="948" y="2202"/>
                  </a:lnTo>
                  <a:lnTo>
                    <a:pt x="950" y="2223"/>
                  </a:lnTo>
                  <a:lnTo>
                    <a:pt x="948" y="2246"/>
                  </a:lnTo>
                  <a:lnTo>
                    <a:pt x="946" y="2270"/>
                  </a:lnTo>
                  <a:lnTo>
                    <a:pt x="943" y="2297"/>
                  </a:lnTo>
                  <a:lnTo>
                    <a:pt x="937" y="2326"/>
                  </a:lnTo>
                  <a:lnTo>
                    <a:pt x="933" y="2337"/>
                  </a:lnTo>
                  <a:lnTo>
                    <a:pt x="931" y="2349"/>
                  </a:lnTo>
                  <a:lnTo>
                    <a:pt x="928" y="2360"/>
                  </a:lnTo>
                  <a:lnTo>
                    <a:pt x="927" y="2373"/>
                  </a:lnTo>
                  <a:lnTo>
                    <a:pt x="927" y="2385"/>
                  </a:lnTo>
                  <a:lnTo>
                    <a:pt x="928" y="2398"/>
                  </a:lnTo>
                  <a:lnTo>
                    <a:pt x="930" y="2410"/>
                  </a:lnTo>
                  <a:lnTo>
                    <a:pt x="932" y="2423"/>
                  </a:lnTo>
                  <a:lnTo>
                    <a:pt x="937" y="2448"/>
                  </a:lnTo>
                  <a:lnTo>
                    <a:pt x="945" y="2474"/>
                  </a:lnTo>
                  <a:lnTo>
                    <a:pt x="954" y="2499"/>
                  </a:lnTo>
                  <a:lnTo>
                    <a:pt x="965" y="2524"/>
                  </a:lnTo>
                  <a:lnTo>
                    <a:pt x="983" y="2544"/>
                  </a:lnTo>
                  <a:lnTo>
                    <a:pt x="998" y="2561"/>
                  </a:lnTo>
                  <a:lnTo>
                    <a:pt x="1013" y="2579"/>
                  </a:lnTo>
                  <a:lnTo>
                    <a:pt x="1025" y="2595"/>
                  </a:lnTo>
                  <a:lnTo>
                    <a:pt x="1036" y="2610"/>
                  </a:lnTo>
                  <a:lnTo>
                    <a:pt x="1045" y="2623"/>
                  </a:lnTo>
                  <a:lnTo>
                    <a:pt x="1054" y="2637"/>
                  </a:lnTo>
                  <a:lnTo>
                    <a:pt x="1061" y="2648"/>
                  </a:lnTo>
                  <a:lnTo>
                    <a:pt x="1071" y="2669"/>
                  </a:lnTo>
                  <a:lnTo>
                    <a:pt x="1077" y="2688"/>
                  </a:lnTo>
                  <a:lnTo>
                    <a:pt x="1081" y="2702"/>
                  </a:lnTo>
                  <a:lnTo>
                    <a:pt x="1083" y="2716"/>
                  </a:lnTo>
                  <a:lnTo>
                    <a:pt x="1084" y="2728"/>
                  </a:lnTo>
                  <a:lnTo>
                    <a:pt x="1084" y="2738"/>
                  </a:lnTo>
                  <a:lnTo>
                    <a:pt x="1085" y="2747"/>
                  </a:lnTo>
                  <a:lnTo>
                    <a:pt x="1087" y="2756"/>
                  </a:lnTo>
                  <a:lnTo>
                    <a:pt x="1089" y="2760"/>
                  </a:lnTo>
                  <a:lnTo>
                    <a:pt x="1092" y="2764"/>
                  </a:lnTo>
                  <a:lnTo>
                    <a:pt x="1095" y="2769"/>
                  </a:lnTo>
                  <a:lnTo>
                    <a:pt x="1099" y="2773"/>
                  </a:lnTo>
                  <a:lnTo>
                    <a:pt x="1112" y="2784"/>
                  </a:lnTo>
                  <a:lnTo>
                    <a:pt x="1127" y="2795"/>
                  </a:lnTo>
                  <a:lnTo>
                    <a:pt x="1111" y="2803"/>
                  </a:lnTo>
                  <a:lnTo>
                    <a:pt x="1094" y="2810"/>
                  </a:lnTo>
                  <a:lnTo>
                    <a:pt x="1076" y="2814"/>
                  </a:lnTo>
                  <a:lnTo>
                    <a:pt x="1058" y="2819"/>
                  </a:lnTo>
                  <a:lnTo>
                    <a:pt x="1040" y="2821"/>
                  </a:lnTo>
                  <a:lnTo>
                    <a:pt x="1021" y="2823"/>
                  </a:lnTo>
                  <a:lnTo>
                    <a:pt x="1002" y="2824"/>
                  </a:lnTo>
                  <a:lnTo>
                    <a:pt x="982" y="2825"/>
                  </a:lnTo>
                  <a:lnTo>
                    <a:pt x="943" y="2828"/>
                  </a:lnTo>
                  <a:lnTo>
                    <a:pt x="905" y="2831"/>
                  </a:lnTo>
                  <a:lnTo>
                    <a:pt x="886" y="2833"/>
                  </a:lnTo>
                  <a:lnTo>
                    <a:pt x="868" y="2838"/>
                  </a:lnTo>
                  <a:lnTo>
                    <a:pt x="851" y="2842"/>
                  </a:lnTo>
                  <a:lnTo>
                    <a:pt x="833" y="2849"/>
                  </a:lnTo>
                  <a:lnTo>
                    <a:pt x="837" y="2837"/>
                  </a:lnTo>
                  <a:lnTo>
                    <a:pt x="839" y="2821"/>
                  </a:lnTo>
                  <a:lnTo>
                    <a:pt x="840" y="2802"/>
                  </a:lnTo>
                  <a:lnTo>
                    <a:pt x="840" y="2781"/>
                  </a:lnTo>
                  <a:lnTo>
                    <a:pt x="839" y="2756"/>
                  </a:lnTo>
                  <a:lnTo>
                    <a:pt x="837" y="2728"/>
                  </a:lnTo>
                  <a:lnTo>
                    <a:pt x="834" y="2698"/>
                  </a:lnTo>
                  <a:lnTo>
                    <a:pt x="831" y="2666"/>
                  </a:lnTo>
                  <a:lnTo>
                    <a:pt x="821" y="2595"/>
                  </a:lnTo>
                  <a:lnTo>
                    <a:pt x="809" y="2517"/>
                  </a:lnTo>
                  <a:lnTo>
                    <a:pt x="794" y="2435"/>
                  </a:lnTo>
                  <a:lnTo>
                    <a:pt x="777" y="2350"/>
                  </a:lnTo>
                  <a:lnTo>
                    <a:pt x="761" y="2264"/>
                  </a:lnTo>
                  <a:lnTo>
                    <a:pt x="743" y="2179"/>
                  </a:lnTo>
                  <a:lnTo>
                    <a:pt x="724" y="2096"/>
                  </a:lnTo>
                  <a:lnTo>
                    <a:pt x="706" y="2018"/>
                  </a:lnTo>
                  <a:lnTo>
                    <a:pt x="690" y="1946"/>
                  </a:lnTo>
                  <a:lnTo>
                    <a:pt x="674" y="1883"/>
                  </a:lnTo>
                  <a:lnTo>
                    <a:pt x="660" y="1830"/>
                  </a:lnTo>
                  <a:lnTo>
                    <a:pt x="649" y="1788"/>
                  </a:lnTo>
                  <a:lnTo>
                    <a:pt x="631" y="1728"/>
                  </a:lnTo>
                  <a:lnTo>
                    <a:pt x="614" y="1672"/>
                  </a:lnTo>
                  <a:lnTo>
                    <a:pt x="599" y="1619"/>
                  </a:lnTo>
                  <a:lnTo>
                    <a:pt x="584" y="1567"/>
                  </a:lnTo>
                  <a:lnTo>
                    <a:pt x="569" y="1515"/>
                  </a:lnTo>
                  <a:lnTo>
                    <a:pt x="553" y="1461"/>
                  </a:lnTo>
                  <a:lnTo>
                    <a:pt x="535" y="1407"/>
                  </a:lnTo>
                  <a:lnTo>
                    <a:pt x="516" y="1348"/>
                  </a:lnTo>
                  <a:lnTo>
                    <a:pt x="505" y="1318"/>
                  </a:lnTo>
                  <a:lnTo>
                    <a:pt x="493" y="1289"/>
                  </a:lnTo>
                  <a:lnTo>
                    <a:pt x="481" y="1261"/>
                  </a:lnTo>
                  <a:lnTo>
                    <a:pt x="468" y="1234"/>
                  </a:lnTo>
                  <a:lnTo>
                    <a:pt x="454" y="1206"/>
                  </a:lnTo>
                  <a:lnTo>
                    <a:pt x="440" y="1179"/>
                  </a:lnTo>
                  <a:lnTo>
                    <a:pt x="425" y="1154"/>
                  </a:lnTo>
                  <a:lnTo>
                    <a:pt x="410" y="1128"/>
                  </a:lnTo>
                  <a:lnTo>
                    <a:pt x="378" y="1078"/>
                  </a:lnTo>
                  <a:lnTo>
                    <a:pt x="343" y="1028"/>
                  </a:lnTo>
                  <a:lnTo>
                    <a:pt x="309" y="980"/>
                  </a:lnTo>
                  <a:lnTo>
                    <a:pt x="273" y="931"/>
                  </a:lnTo>
                  <a:lnTo>
                    <a:pt x="284" y="906"/>
                  </a:lnTo>
                  <a:lnTo>
                    <a:pt x="297" y="885"/>
                  </a:lnTo>
                  <a:lnTo>
                    <a:pt x="309" y="865"/>
                  </a:lnTo>
                  <a:lnTo>
                    <a:pt x="320" y="845"/>
                  </a:lnTo>
                  <a:lnTo>
                    <a:pt x="323" y="834"/>
                  </a:lnTo>
                  <a:lnTo>
                    <a:pt x="327" y="824"/>
                  </a:lnTo>
                  <a:lnTo>
                    <a:pt x="330" y="813"/>
                  </a:lnTo>
                  <a:lnTo>
                    <a:pt x="331" y="801"/>
                  </a:lnTo>
                  <a:lnTo>
                    <a:pt x="331" y="789"/>
                  </a:lnTo>
                  <a:lnTo>
                    <a:pt x="330" y="775"/>
                  </a:lnTo>
                  <a:lnTo>
                    <a:pt x="328" y="760"/>
                  </a:lnTo>
                  <a:lnTo>
                    <a:pt x="323" y="744"/>
                  </a:lnTo>
                  <a:lnTo>
                    <a:pt x="321" y="735"/>
                  </a:lnTo>
                  <a:lnTo>
                    <a:pt x="318" y="726"/>
                  </a:lnTo>
                  <a:lnTo>
                    <a:pt x="311" y="715"/>
                  </a:lnTo>
                  <a:lnTo>
                    <a:pt x="304" y="705"/>
                  </a:lnTo>
                  <a:lnTo>
                    <a:pt x="294" y="694"/>
                  </a:lnTo>
                  <a:lnTo>
                    <a:pt x="282" y="684"/>
                  </a:lnTo>
                  <a:lnTo>
                    <a:pt x="275" y="680"/>
                  </a:lnTo>
                  <a:lnTo>
                    <a:pt x="269" y="675"/>
                  </a:lnTo>
                  <a:lnTo>
                    <a:pt x="260" y="672"/>
                  </a:lnTo>
                  <a:lnTo>
                    <a:pt x="252" y="669"/>
                  </a:lnTo>
                  <a:lnTo>
                    <a:pt x="242" y="665"/>
                  </a:lnTo>
                  <a:lnTo>
                    <a:pt x="232" y="663"/>
                  </a:lnTo>
                  <a:lnTo>
                    <a:pt x="222" y="661"/>
                  </a:lnTo>
                  <a:lnTo>
                    <a:pt x="210" y="660"/>
                  </a:lnTo>
                  <a:lnTo>
                    <a:pt x="198" y="660"/>
                  </a:lnTo>
                  <a:lnTo>
                    <a:pt x="186" y="661"/>
                  </a:lnTo>
                  <a:lnTo>
                    <a:pt x="171" y="662"/>
                  </a:lnTo>
                  <a:lnTo>
                    <a:pt x="157" y="664"/>
                  </a:lnTo>
                  <a:lnTo>
                    <a:pt x="142" y="668"/>
                  </a:lnTo>
                  <a:lnTo>
                    <a:pt x="126" y="671"/>
                  </a:lnTo>
                  <a:lnTo>
                    <a:pt x="109" y="676"/>
                  </a:lnTo>
                  <a:lnTo>
                    <a:pt x="91" y="683"/>
                  </a:lnTo>
                  <a:lnTo>
                    <a:pt x="72" y="691"/>
                  </a:lnTo>
                  <a:lnTo>
                    <a:pt x="53" y="700"/>
                  </a:lnTo>
                  <a:lnTo>
                    <a:pt x="32" y="710"/>
                  </a:lnTo>
                  <a:lnTo>
                    <a:pt x="11" y="722"/>
                  </a:lnTo>
                  <a:lnTo>
                    <a:pt x="4" y="708"/>
                  </a:lnTo>
                  <a:lnTo>
                    <a:pt x="1" y="692"/>
                  </a:lnTo>
                  <a:lnTo>
                    <a:pt x="0" y="675"/>
                  </a:lnTo>
                  <a:lnTo>
                    <a:pt x="1" y="659"/>
                  </a:lnTo>
                  <a:lnTo>
                    <a:pt x="4" y="641"/>
                  </a:lnTo>
                  <a:lnTo>
                    <a:pt x="10" y="623"/>
                  </a:lnTo>
                  <a:lnTo>
                    <a:pt x="17" y="603"/>
                  </a:lnTo>
                  <a:lnTo>
                    <a:pt x="26" y="583"/>
                  </a:lnTo>
                  <a:lnTo>
                    <a:pt x="34" y="563"/>
                  </a:lnTo>
                  <a:lnTo>
                    <a:pt x="47" y="542"/>
                  </a:lnTo>
                  <a:lnTo>
                    <a:pt x="59" y="521"/>
                  </a:lnTo>
                  <a:lnTo>
                    <a:pt x="72" y="499"/>
                  </a:lnTo>
                  <a:lnTo>
                    <a:pt x="101" y="453"/>
                  </a:lnTo>
                  <a:lnTo>
                    <a:pt x="132" y="406"/>
                  </a:lnTo>
                  <a:lnTo>
                    <a:pt x="163" y="358"/>
                  </a:lnTo>
                  <a:lnTo>
                    <a:pt x="194" y="308"/>
                  </a:lnTo>
                  <a:lnTo>
                    <a:pt x="210" y="282"/>
                  </a:lnTo>
                  <a:lnTo>
                    <a:pt x="224" y="257"/>
                  </a:lnTo>
                  <a:lnTo>
                    <a:pt x="238" y="231"/>
                  </a:lnTo>
                  <a:lnTo>
                    <a:pt x="250" y="206"/>
                  </a:lnTo>
                  <a:lnTo>
                    <a:pt x="262" y="180"/>
                  </a:lnTo>
                  <a:lnTo>
                    <a:pt x="272" y="155"/>
                  </a:lnTo>
                  <a:lnTo>
                    <a:pt x="281" y="129"/>
                  </a:lnTo>
                  <a:lnTo>
                    <a:pt x="289" y="103"/>
                  </a:lnTo>
                  <a:lnTo>
                    <a:pt x="294" y="77"/>
                  </a:lnTo>
                  <a:lnTo>
                    <a:pt x="299" y="52"/>
                  </a:lnTo>
                  <a:lnTo>
                    <a:pt x="300" y="26"/>
                  </a:lnTo>
                  <a:lnTo>
                    <a:pt x="300" y="0"/>
                  </a:lnTo>
                  <a:lnTo>
                    <a:pt x="327" y="42"/>
                  </a:lnTo>
                  <a:lnTo>
                    <a:pt x="355" y="86"/>
                  </a:lnTo>
                  <a:lnTo>
                    <a:pt x="387" y="131"/>
                  </a:lnTo>
                  <a:lnTo>
                    <a:pt x="419" y="178"/>
                  </a:lnTo>
                  <a:lnTo>
                    <a:pt x="452" y="226"/>
                  </a:lnTo>
                  <a:lnTo>
                    <a:pt x="486" y="272"/>
                  </a:lnTo>
                  <a:lnTo>
                    <a:pt x="521" y="317"/>
                  </a:lnTo>
                  <a:lnTo>
                    <a:pt x="556" y="358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3262320" y="3606840"/>
              <a:ext cx="247680" cy="455760"/>
            </a:xfrm>
            <a:custGeom>
              <a:avLst/>
              <a:gdLst/>
              <a:ahLst/>
              <a:rect l="l" t="t" r="r" b="b"/>
              <a:pathLst>
                <a:path w="778" h="1437">
                  <a:moveTo>
                    <a:pt x="778" y="13"/>
                  </a:moveTo>
                  <a:lnTo>
                    <a:pt x="766" y="77"/>
                  </a:lnTo>
                  <a:lnTo>
                    <a:pt x="716" y="136"/>
                  </a:lnTo>
                  <a:lnTo>
                    <a:pt x="666" y="195"/>
                  </a:lnTo>
                  <a:lnTo>
                    <a:pt x="617" y="255"/>
                  </a:lnTo>
                  <a:lnTo>
                    <a:pt x="569" y="315"/>
                  </a:lnTo>
                  <a:lnTo>
                    <a:pt x="523" y="377"/>
                  </a:lnTo>
                  <a:lnTo>
                    <a:pt x="478" y="441"/>
                  </a:lnTo>
                  <a:lnTo>
                    <a:pt x="456" y="473"/>
                  </a:lnTo>
                  <a:lnTo>
                    <a:pt x="434" y="506"/>
                  </a:lnTo>
                  <a:lnTo>
                    <a:pt x="413" y="539"/>
                  </a:lnTo>
                  <a:lnTo>
                    <a:pt x="393" y="574"/>
                  </a:lnTo>
                  <a:lnTo>
                    <a:pt x="344" y="655"/>
                  </a:lnTo>
                  <a:lnTo>
                    <a:pt x="294" y="736"/>
                  </a:lnTo>
                  <a:lnTo>
                    <a:pt x="269" y="778"/>
                  </a:lnTo>
                  <a:lnTo>
                    <a:pt x="245" y="819"/>
                  </a:lnTo>
                  <a:lnTo>
                    <a:pt x="222" y="860"/>
                  </a:lnTo>
                  <a:lnTo>
                    <a:pt x="199" y="902"/>
                  </a:lnTo>
                  <a:lnTo>
                    <a:pt x="178" y="943"/>
                  </a:lnTo>
                  <a:lnTo>
                    <a:pt x="158" y="986"/>
                  </a:lnTo>
                  <a:lnTo>
                    <a:pt x="141" y="1027"/>
                  </a:lnTo>
                  <a:lnTo>
                    <a:pt x="126" y="1069"/>
                  </a:lnTo>
                  <a:lnTo>
                    <a:pt x="119" y="1089"/>
                  </a:lnTo>
                  <a:lnTo>
                    <a:pt x="114" y="1110"/>
                  </a:lnTo>
                  <a:lnTo>
                    <a:pt x="108" y="1131"/>
                  </a:lnTo>
                  <a:lnTo>
                    <a:pt x="104" y="1152"/>
                  </a:lnTo>
                  <a:lnTo>
                    <a:pt x="101" y="1172"/>
                  </a:lnTo>
                  <a:lnTo>
                    <a:pt x="97" y="1193"/>
                  </a:lnTo>
                  <a:lnTo>
                    <a:pt x="96" y="1213"/>
                  </a:lnTo>
                  <a:lnTo>
                    <a:pt x="95" y="1234"/>
                  </a:lnTo>
                  <a:lnTo>
                    <a:pt x="85" y="1245"/>
                  </a:lnTo>
                  <a:lnTo>
                    <a:pt x="77" y="1258"/>
                  </a:lnTo>
                  <a:lnTo>
                    <a:pt x="70" y="1270"/>
                  </a:lnTo>
                  <a:lnTo>
                    <a:pt x="63" y="1282"/>
                  </a:lnTo>
                  <a:lnTo>
                    <a:pt x="51" y="1306"/>
                  </a:lnTo>
                  <a:lnTo>
                    <a:pt x="41" y="1333"/>
                  </a:lnTo>
                  <a:lnTo>
                    <a:pt x="32" y="1359"/>
                  </a:lnTo>
                  <a:lnTo>
                    <a:pt x="23" y="1385"/>
                  </a:lnTo>
                  <a:lnTo>
                    <a:pt x="14" y="1411"/>
                  </a:lnTo>
                  <a:lnTo>
                    <a:pt x="4" y="1437"/>
                  </a:lnTo>
                  <a:lnTo>
                    <a:pt x="5" y="1416"/>
                  </a:lnTo>
                  <a:lnTo>
                    <a:pt x="5" y="1396"/>
                  </a:lnTo>
                  <a:lnTo>
                    <a:pt x="3" y="1376"/>
                  </a:lnTo>
                  <a:lnTo>
                    <a:pt x="1" y="1359"/>
                  </a:lnTo>
                  <a:lnTo>
                    <a:pt x="0" y="1341"/>
                  </a:lnTo>
                  <a:lnTo>
                    <a:pt x="1" y="1324"/>
                  </a:lnTo>
                  <a:lnTo>
                    <a:pt x="2" y="1315"/>
                  </a:lnTo>
                  <a:lnTo>
                    <a:pt x="4" y="1306"/>
                  </a:lnTo>
                  <a:lnTo>
                    <a:pt x="7" y="1299"/>
                  </a:lnTo>
                  <a:lnTo>
                    <a:pt x="12" y="1290"/>
                  </a:lnTo>
                  <a:lnTo>
                    <a:pt x="11" y="1284"/>
                  </a:lnTo>
                  <a:lnTo>
                    <a:pt x="10" y="1280"/>
                  </a:lnTo>
                  <a:lnTo>
                    <a:pt x="10" y="1274"/>
                  </a:lnTo>
                  <a:lnTo>
                    <a:pt x="11" y="1269"/>
                  </a:lnTo>
                  <a:lnTo>
                    <a:pt x="15" y="1258"/>
                  </a:lnTo>
                  <a:lnTo>
                    <a:pt x="20" y="1245"/>
                  </a:lnTo>
                  <a:lnTo>
                    <a:pt x="26" y="1233"/>
                  </a:lnTo>
                  <a:lnTo>
                    <a:pt x="32" y="1221"/>
                  </a:lnTo>
                  <a:lnTo>
                    <a:pt x="37" y="1208"/>
                  </a:lnTo>
                  <a:lnTo>
                    <a:pt x="42" y="1195"/>
                  </a:lnTo>
                  <a:lnTo>
                    <a:pt x="42" y="1169"/>
                  </a:lnTo>
                  <a:lnTo>
                    <a:pt x="43" y="1145"/>
                  </a:lnTo>
                  <a:lnTo>
                    <a:pt x="44" y="1123"/>
                  </a:lnTo>
                  <a:lnTo>
                    <a:pt x="47" y="1102"/>
                  </a:lnTo>
                  <a:lnTo>
                    <a:pt x="50" y="1084"/>
                  </a:lnTo>
                  <a:lnTo>
                    <a:pt x="53" y="1068"/>
                  </a:lnTo>
                  <a:lnTo>
                    <a:pt x="57" y="1052"/>
                  </a:lnTo>
                  <a:lnTo>
                    <a:pt x="61" y="1039"/>
                  </a:lnTo>
                  <a:lnTo>
                    <a:pt x="68" y="1018"/>
                  </a:lnTo>
                  <a:lnTo>
                    <a:pt x="75" y="1002"/>
                  </a:lnTo>
                  <a:lnTo>
                    <a:pt x="80" y="993"/>
                  </a:lnTo>
                  <a:lnTo>
                    <a:pt x="82" y="991"/>
                  </a:lnTo>
                  <a:lnTo>
                    <a:pt x="151" y="858"/>
                  </a:lnTo>
                  <a:lnTo>
                    <a:pt x="219" y="720"/>
                  </a:lnTo>
                  <a:lnTo>
                    <a:pt x="254" y="652"/>
                  </a:lnTo>
                  <a:lnTo>
                    <a:pt x="291" y="583"/>
                  </a:lnTo>
                  <a:lnTo>
                    <a:pt x="327" y="514"/>
                  </a:lnTo>
                  <a:lnTo>
                    <a:pt x="366" y="447"/>
                  </a:lnTo>
                  <a:lnTo>
                    <a:pt x="386" y="414"/>
                  </a:lnTo>
                  <a:lnTo>
                    <a:pt x="406" y="382"/>
                  </a:lnTo>
                  <a:lnTo>
                    <a:pt x="427" y="350"/>
                  </a:lnTo>
                  <a:lnTo>
                    <a:pt x="448" y="317"/>
                  </a:lnTo>
                  <a:lnTo>
                    <a:pt x="470" y="286"/>
                  </a:lnTo>
                  <a:lnTo>
                    <a:pt x="494" y="256"/>
                  </a:lnTo>
                  <a:lnTo>
                    <a:pt x="517" y="226"/>
                  </a:lnTo>
                  <a:lnTo>
                    <a:pt x="541" y="198"/>
                  </a:lnTo>
                  <a:lnTo>
                    <a:pt x="566" y="170"/>
                  </a:lnTo>
                  <a:lnTo>
                    <a:pt x="591" y="142"/>
                  </a:lnTo>
                  <a:lnTo>
                    <a:pt x="618" y="117"/>
                  </a:lnTo>
                  <a:lnTo>
                    <a:pt x="646" y="91"/>
                  </a:lnTo>
                  <a:lnTo>
                    <a:pt x="675" y="67"/>
                  </a:lnTo>
                  <a:lnTo>
                    <a:pt x="704" y="43"/>
                  </a:lnTo>
                  <a:lnTo>
                    <a:pt x="734" y="21"/>
                  </a:lnTo>
                  <a:lnTo>
                    <a:pt x="766" y="0"/>
                  </a:lnTo>
                  <a:lnTo>
                    <a:pt x="77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3422520" y="3727440"/>
              <a:ext cx="262080" cy="912960"/>
            </a:xfrm>
            <a:custGeom>
              <a:avLst/>
              <a:gdLst/>
              <a:ahLst/>
              <a:rect l="l" t="t" r="r" b="b"/>
              <a:pathLst>
                <a:path w="823" h="2876">
                  <a:moveTo>
                    <a:pt x="172" y="38"/>
                  </a:moveTo>
                  <a:lnTo>
                    <a:pt x="166" y="85"/>
                  </a:lnTo>
                  <a:lnTo>
                    <a:pt x="154" y="192"/>
                  </a:lnTo>
                  <a:lnTo>
                    <a:pt x="147" y="264"/>
                  </a:lnTo>
                  <a:lnTo>
                    <a:pt x="142" y="346"/>
                  </a:lnTo>
                  <a:lnTo>
                    <a:pt x="137" y="436"/>
                  </a:lnTo>
                  <a:lnTo>
                    <a:pt x="134" y="532"/>
                  </a:lnTo>
                  <a:lnTo>
                    <a:pt x="133" y="580"/>
                  </a:lnTo>
                  <a:lnTo>
                    <a:pt x="133" y="631"/>
                  </a:lnTo>
                  <a:lnTo>
                    <a:pt x="134" y="683"/>
                  </a:lnTo>
                  <a:lnTo>
                    <a:pt x="135" y="734"/>
                  </a:lnTo>
                  <a:lnTo>
                    <a:pt x="137" y="786"/>
                  </a:lnTo>
                  <a:lnTo>
                    <a:pt x="141" y="837"/>
                  </a:lnTo>
                  <a:lnTo>
                    <a:pt x="145" y="888"/>
                  </a:lnTo>
                  <a:lnTo>
                    <a:pt x="150" y="939"/>
                  </a:lnTo>
                  <a:lnTo>
                    <a:pt x="156" y="989"/>
                  </a:lnTo>
                  <a:lnTo>
                    <a:pt x="164" y="1039"/>
                  </a:lnTo>
                  <a:lnTo>
                    <a:pt x="173" y="1087"/>
                  </a:lnTo>
                  <a:lnTo>
                    <a:pt x="184" y="1133"/>
                  </a:lnTo>
                  <a:lnTo>
                    <a:pt x="195" y="1178"/>
                  </a:lnTo>
                  <a:lnTo>
                    <a:pt x="209" y="1221"/>
                  </a:lnTo>
                  <a:lnTo>
                    <a:pt x="224" y="1262"/>
                  </a:lnTo>
                  <a:lnTo>
                    <a:pt x="241" y="1300"/>
                  </a:lnTo>
                  <a:lnTo>
                    <a:pt x="273" y="1365"/>
                  </a:lnTo>
                  <a:lnTo>
                    <a:pt x="305" y="1427"/>
                  </a:lnTo>
                  <a:lnTo>
                    <a:pt x="338" y="1487"/>
                  </a:lnTo>
                  <a:lnTo>
                    <a:pt x="372" y="1545"/>
                  </a:lnTo>
                  <a:lnTo>
                    <a:pt x="438" y="1658"/>
                  </a:lnTo>
                  <a:lnTo>
                    <a:pt x="505" y="1768"/>
                  </a:lnTo>
                  <a:lnTo>
                    <a:pt x="536" y="1823"/>
                  </a:lnTo>
                  <a:lnTo>
                    <a:pt x="567" y="1878"/>
                  </a:lnTo>
                  <a:lnTo>
                    <a:pt x="597" y="1934"/>
                  </a:lnTo>
                  <a:lnTo>
                    <a:pt x="625" y="1991"/>
                  </a:lnTo>
                  <a:lnTo>
                    <a:pt x="638" y="2020"/>
                  </a:lnTo>
                  <a:lnTo>
                    <a:pt x="652" y="2049"/>
                  </a:lnTo>
                  <a:lnTo>
                    <a:pt x="664" y="2079"/>
                  </a:lnTo>
                  <a:lnTo>
                    <a:pt x="676" y="2109"/>
                  </a:lnTo>
                  <a:lnTo>
                    <a:pt x="688" y="2140"/>
                  </a:lnTo>
                  <a:lnTo>
                    <a:pt x="698" y="2171"/>
                  </a:lnTo>
                  <a:lnTo>
                    <a:pt x="709" y="2203"/>
                  </a:lnTo>
                  <a:lnTo>
                    <a:pt x="718" y="2237"/>
                  </a:lnTo>
                  <a:lnTo>
                    <a:pt x="737" y="2259"/>
                  </a:lnTo>
                  <a:lnTo>
                    <a:pt x="756" y="2281"/>
                  </a:lnTo>
                  <a:lnTo>
                    <a:pt x="775" y="2305"/>
                  </a:lnTo>
                  <a:lnTo>
                    <a:pt x="792" y="2330"/>
                  </a:lnTo>
                  <a:lnTo>
                    <a:pt x="799" y="2342"/>
                  </a:lnTo>
                  <a:lnTo>
                    <a:pt x="806" y="2354"/>
                  </a:lnTo>
                  <a:lnTo>
                    <a:pt x="812" y="2366"/>
                  </a:lnTo>
                  <a:lnTo>
                    <a:pt x="816" y="2379"/>
                  </a:lnTo>
                  <a:lnTo>
                    <a:pt x="819" y="2392"/>
                  </a:lnTo>
                  <a:lnTo>
                    <a:pt x="822" y="2404"/>
                  </a:lnTo>
                  <a:lnTo>
                    <a:pt x="823" y="2416"/>
                  </a:lnTo>
                  <a:lnTo>
                    <a:pt x="823" y="2429"/>
                  </a:lnTo>
                  <a:lnTo>
                    <a:pt x="818" y="2431"/>
                  </a:lnTo>
                  <a:lnTo>
                    <a:pt x="813" y="2431"/>
                  </a:lnTo>
                  <a:lnTo>
                    <a:pt x="806" y="2430"/>
                  </a:lnTo>
                  <a:lnTo>
                    <a:pt x="797" y="2429"/>
                  </a:lnTo>
                  <a:lnTo>
                    <a:pt x="788" y="2426"/>
                  </a:lnTo>
                  <a:lnTo>
                    <a:pt x="777" y="2422"/>
                  </a:lnTo>
                  <a:lnTo>
                    <a:pt x="766" y="2417"/>
                  </a:lnTo>
                  <a:lnTo>
                    <a:pt x="754" y="2412"/>
                  </a:lnTo>
                  <a:lnTo>
                    <a:pt x="742" y="2405"/>
                  </a:lnTo>
                  <a:lnTo>
                    <a:pt x="727" y="2398"/>
                  </a:lnTo>
                  <a:lnTo>
                    <a:pt x="713" y="2389"/>
                  </a:lnTo>
                  <a:lnTo>
                    <a:pt x="698" y="2379"/>
                  </a:lnTo>
                  <a:lnTo>
                    <a:pt x="683" y="2368"/>
                  </a:lnTo>
                  <a:lnTo>
                    <a:pt x="667" y="2355"/>
                  </a:lnTo>
                  <a:lnTo>
                    <a:pt x="652" y="2342"/>
                  </a:lnTo>
                  <a:lnTo>
                    <a:pt x="635" y="2329"/>
                  </a:lnTo>
                  <a:lnTo>
                    <a:pt x="619" y="2313"/>
                  </a:lnTo>
                  <a:lnTo>
                    <a:pt x="603" y="2296"/>
                  </a:lnTo>
                  <a:lnTo>
                    <a:pt x="587" y="2279"/>
                  </a:lnTo>
                  <a:lnTo>
                    <a:pt x="571" y="2261"/>
                  </a:lnTo>
                  <a:lnTo>
                    <a:pt x="555" y="2241"/>
                  </a:lnTo>
                  <a:lnTo>
                    <a:pt x="539" y="2220"/>
                  </a:lnTo>
                  <a:lnTo>
                    <a:pt x="525" y="2198"/>
                  </a:lnTo>
                  <a:lnTo>
                    <a:pt x="511" y="2176"/>
                  </a:lnTo>
                  <a:lnTo>
                    <a:pt x="496" y="2151"/>
                  </a:lnTo>
                  <a:lnTo>
                    <a:pt x="484" y="2126"/>
                  </a:lnTo>
                  <a:lnTo>
                    <a:pt x="471" y="2099"/>
                  </a:lnTo>
                  <a:lnTo>
                    <a:pt x="460" y="2072"/>
                  </a:lnTo>
                  <a:lnTo>
                    <a:pt x="448" y="2043"/>
                  </a:lnTo>
                  <a:lnTo>
                    <a:pt x="440" y="2013"/>
                  </a:lnTo>
                  <a:lnTo>
                    <a:pt x="431" y="1982"/>
                  </a:lnTo>
                  <a:lnTo>
                    <a:pt x="424" y="1950"/>
                  </a:lnTo>
                  <a:lnTo>
                    <a:pt x="416" y="1954"/>
                  </a:lnTo>
                  <a:lnTo>
                    <a:pt x="407" y="1961"/>
                  </a:lnTo>
                  <a:lnTo>
                    <a:pt x="398" y="1971"/>
                  </a:lnTo>
                  <a:lnTo>
                    <a:pt x="390" y="1985"/>
                  </a:lnTo>
                  <a:lnTo>
                    <a:pt x="381" y="2001"/>
                  </a:lnTo>
                  <a:lnTo>
                    <a:pt x="372" y="2020"/>
                  </a:lnTo>
                  <a:lnTo>
                    <a:pt x="363" y="2041"/>
                  </a:lnTo>
                  <a:lnTo>
                    <a:pt x="353" y="2066"/>
                  </a:lnTo>
                  <a:lnTo>
                    <a:pt x="344" y="2091"/>
                  </a:lnTo>
                  <a:lnTo>
                    <a:pt x="335" y="2119"/>
                  </a:lnTo>
                  <a:lnTo>
                    <a:pt x="327" y="2149"/>
                  </a:lnTo>
                  <a:lnTo>
                    <a:pt x="318" y="2180"/>
                  </a:lnTo>
                  <a:lnTo>
                    <a:pt x="311" y="2212"/>
                  </a:lnTo>
                  <a:lnTo>
                    <a:pt x="304" y="2247"/>
                  </a:lnTo>
                  <a:lnTo>
                    <a:pt x="296" y="2282"/>
                  </a:lnTo>
                  <a:lnTo>
                    <a:pt x="291" y="2318"/>
                  </a:lnTo>
                  <a:lnTo>
                    <a:pt x="285" y="2354"/>
                  </a:lnTo>
                  <a:lnTo>
                    <a:pt x="281" y="2392"/>
                  </a:lnTo>
                  <a:lnTo>
                    <a:pt x="277" y="2430"/>
                  </a:lnTo>
                  <a:lnTo>
                    <a:pt x="275" y="2467"/>
                  </a:lnTo>
                  <a:lnTo>
                    <a:pt x="273" y="2505"/>
                  </a:lnTo>
                  <a:lnTo>
                    <a:pt x="273" y="2543"/>
                  </a:lnTo>
                  <a:lnTo>
                    <a:pt x="273" y="2581"/>
                  </a:lnTo>
                  <a:lnTo>
                    <a:pt x="275" y="2617"/>
                  </a:lnTo>
                  <a:lnTo>
                    <a:pt x="278" y="2654"/>
                  </a:lnTo>
                  <a:lnTo>
                    <a:pt x="284" y="2689"/>
                  </a:lnTo>
                  <a:lnTo>
                    <a:pt x="291" y="2724"/>
                  </a:lnTo>
                  <a:lnTo>
                    <a:pt x="298" y="2757"/>
                  </a:lnTo>
                  <a:lnTo>
                    <a:pt x="308" y="2789"/>
                  </a:lnTo>
                  <a:lnTo>
                    <a:pt x="320" y="2820"/>
                  </a:lnTo>
                  <a:lnTo>
                    <a:pt x="333" y="2848"/>
                  </a:lnTo>
                  <a:lnTo>
                    <a:pt x="348" y="2876"/>
                  </a:lnTo>
                  <a:lnTo>
                    <a:pt x="343" y="2874"/>
                  </a:lnTo>
                  <a:lnTo>
                    <a:pt x="336" y="2869"/>
                  </a:lnTo>
                  <a:lnTo>
                    <a:pt x="328" y="2864"/>
                  </a:lnTo>
                  <a:lnTo>
                    <a:pt x="320" y="2857"/>
                  </a:lnTo>
                  <a:lnTo>
                    <a:pt x="301" y="2838"/>
                  </a:lnTo>
                  <a:lnTo>
                    <a:pt x="281" y="2819"/>
                  </a:lnTo>
                  <a:lnTo>
                    <a:pt x="261" y="2800"/>
                  </a:lnTo>
                  <a:lnTo>
                    <a:pt x="243" y="2787"/>
                  </a:lnTo>
                  <a:lnTo>
                    <a:pt x="235" y="2782"/>
                  </a:lnTo>
                  <a:lnTo>
                    <a:pt x="229" y="2779"/>
                  </a:lnTo>
                  <a:lnTo>
                    <a:pt x="225" y="2779"/>
                  </a:lnTo>
                  <a:lnTo>
                    <a:pt x="223" y="2779"/>
                  </a:lnTo>
                  <a:lnTo>
                    <a:pt x="221" y="2780"/>
                  </a:lnTo>
                  <a:lnTo>
                    <a:pt x="219" y="2783"/>
                  </a:lnTo>
                  <a:lnTo>
                    <a:pt x="196" y="2748"/>
                  </a:lnTo>
                  <a:lnTo>
                    <a:pt x="177" y="2713"/>
                  </a:lnTo>
                  <a:lnTo>
                    <a:pt x="161" y="2677"/>
                  </a:lnTo>
                  <a:lnTo>
                    <a:pt x="146" y="2639"/>
                  </a:lnTo>
                  <a:lnTo>
                    <a:pt x="135" y="2603"/>
                  </a:lnTo>
                  <a:lnTo>
                    <a:pt x="126" y="2565"/>
                  </a:lnTo>
                  <a:lnTo>
                    <a:pt x="120" y="2527"/>
                  </a:lnTo>
                  <a:lnTo>
                    <a:pt x="115" y="2489"/>
                  </a:lnTo>
                  <a:lnTo>
                    <a:pt x="113" y="2451"/>
                  </a:lnTo>
                  <a:lnTo>
                    <a:pt x="112" y="2412"/>
                  </a:lnTo>
                  <a:lnTo>
                    <a:pt x="113" y="2373"/>
                  </a:lnTo>
                  <a:lnTo>
                    <a:pt x="115" y="2335"/>
                  </a:lnTo>
                  <a:lnTo>
                    <a:pt x="119" y="2298"/>
                  </a:lnTo>
                  <a:lnTo>
                    <a:pt x="123" y="2260"/>
                  </a:lnTo>
                  <a:lnTo>
                    <a:pt x="129" y="2223"/>
                  </a:lnTo>
                  <a:lnTo>
                    <a:pt x="134" y="2187"/>
                  </a:lnTo>
                  <a:lnTo>
                    <a:pt x="149" y="2117"/>
                  </a:lnTo>
                  <a:lnTo>
                    <a:pt x="164" y="2051"/>
                  </a:lnTo>
                  <a:lnTo>
                    <a:pt x="180" y="1989"/>
                  </a:lnTo>
                  <a:lnTo>
                    <a:pt x="193" y="1934"/>
                  </a:lnTo>
                  <a:lnTo>
                    <a:pt x="200" y="1908"/>
                  </a:lnTo>
                  <a:lnTo>
                    <a:pt x="204" y="1885"/>
                  </a:lnTo>
                  <a:lnTo>
                    <a:pt x="209" y="1862"/>
                  </a:lnTo>
                  <a:lnTo>
                    <a:pt x="212" y="1843"/>
                  </a:lnTo>
                  <a:lnTo>
                    <a:pt x="213" y="1825"/>
                  </a:lnTo>
                  <a:lnTo>
                    <a:pt x="213" y="1809"/>
                  </a:lnTo>
                  <a:lnTo>
                    <a:pt x="212" y="1796"/>
                  </a:lnTo>
                  <a:lnTo>
                    <a:pt x="209" y="1785"/>
                  </a:lnTo>
                  <a:lnTo>
                    <a:pt x="175" y="1702"/>
                  </a:lnTo>
                  <a:lnTo>
                    <a:pt x="146" y="1619"/>
                  </a:lnTo>
                  <a:lnTo>
                    <a:pt x="120" y="1537"/>
                  </a:lnTo>
                  <a:lnTo>
                    <a:pt x="96" y="1456"/>
                  </a:lnTo>
                  <a:lnTo>
                    <a:pt x="76" y="1375"/>
                  </a:lnTo>
                  <a:lnTo>
                    <a:pt x="59" y="1295"/>
                  </a:lnTo>
                  <a:lnTo>
                    <a:pt x="44" y="1218"/>
                  </a:lnTo>
                  <a:lnTo>
                    <a:pt x="31" y="1140"/>
                  </a:lnTo>
                  <a:lnTo>
                    <a:pt x="21" y="1064"/>
                  </a:lnTo>
                  <a:lnTo>
                    <a:pt x="13" y="989"/>
                  </a:lnTo>
                  <a:lnTo>
                    <a:pt x="8" y="917"/>
                  </a:lnTo>
                  <a:lnTo>
                    <a:pt x="3" y="846"/>
                  </a:lnTo>
                  <a:lnTo>
                    <a:pt x="1" y="776"/>
                  </a:lnTo>
                  <a:lnTo>
                    <a:pt x="0" y="709"/>
                  </a:lnTo>
                  <a:lnTo>
                    <a:pt x="0" y="644"/>
                  </a:lnTo>
                  <a:lnTo>
                    <a:pt x="2" y="582"/>
                  </a:lnTo>
                  <a:lnTo>
                    <a:pt x="4" y="520"/>
                  </a:lnTo>
                  <a:lnTo>
                    <a:pt x="8" y="463"/>
                  </a:lnTo>
                  <a:lnTo>
                    <a:pt x="12" y="408"/>
                  </a:lnTo>
                  <a:lnTo>
                    <a:pt x="18" y="356"/>
                  </a:lnTo>
                  <a:lnTo>
                    <a:pt x="23" y="306"/>
                  </a:lnTo>
                  <a:lnTo>
                    <a:pt x="29" y="261"/>
                  </a:lnTo>
                  <a:lnTo>
                    <a:pt x="34" y="217"/>
                  </a:lnTo>
                  <a:lnTo>
                    <a:pt x="41" y="179"/>
                  </a:lnTo>
                  <a:lnTo>
                    <a:pt x="62" y="57"/>
                  </a:lnTo>
                  <a:lnTo>
                    <a:pt x="71" y="1"/>
                  </a:lnTo>
                  <a:lnTo>
                    <a:pt x="86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4"/>
                  </a:lnTo>
                  <a:lnTo>
                    <a:pt x="135" y="7"/>
                  </a:lnTo>
                  <a:lnTo>
                    <a:pt x="142" y="9"/>
                  </a:lnTo>
                  <a:lnTo>
                    <a:pt x="147" y="12"/>
                  </a:lnTo>
                  <a:lnTo>
                    <a:pt x="153" y="17"/>
                  </a:lnTo>
                  <a:lnTo>
                    <a:pt x="159" y="21"/>
                  </a:lnTo>
                  <a:lnTo>
                    <a:pt x="163" y="25"/>
                  </a:lnTo>
                  <a:lnTo>
                    <a:pt x="167" y="31"/>
                  </a:lnTo>
                  <a:lnTo>
                    <a:pt x="172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4805280" y="3427560"/>
              <a:ext cx="31680" cy="46080"/>
            </a:xfrm>
            <a:custGeom>
              <a:avLst/>
              <a:gdLst/>
              <a:ahLst/>
              <a:rect l="l" t="t" r="r" b="b"/>
              <a:pathLst>
                <a:path w="99" h="145">
                  <a:moveTo>
                    <a:pt x="99" y="64"/>
                  </a:moveTo>
                  <a:lnTo>
                    <a:pt x="89" y="78"/>
                  </a:lnTo>
                  <a:lnTo>
                    <a:pt x="81" y="89"/>
                  </a:lnTo>
                  <a:lnTo>
                    <a:pt x="75" y="100"/>
                  </a:lnTo>
                  <a:lnTo>
                    <a:pt x="68" y="109"/>
                  </a:lnTo>
                  <a:lnTo>
                    <a:pt x="62" y="118"/>
                  </a:lnTo>
                  <a:lnTo>
                    <a:pt x="56" y="127"/>
                  </a:lnTo>
                  <a:lnTo>
                    <a:pt x="50" y="135"/>
                  </a:lnTo>
                  <a:lnTo>
                    <a:pt x="42" y="145"/>
                  </a:lnTo>
                  <a:lnTo>
                    <a:pt x="41" y="142"/>
                  </a:lnTo>
                  <a:lnTo>
                    <a:pt x="38" y="135"/>
                  </a:lnTo>
                  <a:lnTo>
                    <a:pt x="32" y="126"/>
                  </a:lnTo>
                  <a:lnTo>
                    <a:pt x="26" y="113"/>
                  </a:lnTo>
                  <a:lnTo>
                    <a:pt x="19" y="100"/>
                  </a:lnTo>
                  <a:lnTo>
                    <a:pt x="13" y="87"/>
                  </a:lnTo>
                  <a:lnTo>
                    <a:pt x="6" y="74"/>
                  </a:lnTo>
                  <a:lnTo>
                    <a:pt x="1" y="64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4" y="20"/>
                  </a:lnTo>
                  <a:lnTo>
                    <a:pt x="20" y="11"/>
                  </a:lnTo>
                  <a:lnTo>
                    <a:pt x="28" y="3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2" y="8"/>
                  </a:lnTo>
                  <a:lnTo>
                    <a:pt x="50" y="17"/>
                  </a:lnTo>
                  <a:lnTo>
                    <a:pt x="60" y="27"/>
                  </a:lnTo>
                  <a:lnTo>
                    <a:pt x="71" y="38"/>
                  </a:lnTo>
                  <a:lnTo>
                    <a:pt x="81" y="48"/>
                  </a:lnTo>
                  <a:lnTo>
                    <a:pt x="90" y="57"/>
                  </a:lnTo>
                  <a:lnTo>
                    <a:pt x="97" y="62"/>
                  </a:lnTo>
                  <a:lnTo>
                    <a:pt x="99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4830840" y="4875120"/>
              <a:ext cx="63360" cy="46080"/>
            </a:xfrm>
            <a:custGeom>
              <a:avLst/>
              <a:gdLst/>
              <a:ahLst/>
              <a:rect l="l" t="t" r="r" b="b"/>
              <a:pathLst>
                <a:path w="200" h="145">
                  <a:moveTo>
                    <a:pt x="190" y="35"/>
                  </a:moveTo>
                  <a:lnTo>
                    <a:pt x="195" y="40"/>
                  </a:lnTo>
                  <a:lnTo>
                    <a:pt x="199" y="45"/>
                  </a:lnTo>
                  <a:lnTo>
                    <a:pt x="200" y="52"/>
                  </a:lnTo>
                  <a:lnTo>
                    <a:pt x="200" y="59"/>
                  </a:lnTo>
                  <a:lnTo>
                    <a:pt x="199" y="66"/>
                  </a:lnTo>
                  <a:lnTo>
                    <a:pt x="197" y="74"/>
                  </a:lnTo>
                  <a:lnTo>
                    <a:pt x="192" y="82"/>
                  </a:lnTo>
                  <a:lnTo>
                    <a:pt x="189" y="90"/>
                  </a:lnTo>
                  <a:lnTo>
                    <a:pt x="178" y="106"/>
                  </a:lnTo>
                  <a:lnTo>
                    <a:pt x="165" y="121"/>
                  </a:lnTo>
                  <a:lnTo>
                    <a:pt x="152" y="134"/>
                  </a:lnTo>
                  <a:lnTo>
                    <a:pt x="140" y="145"/>
                  </a:lnTo>
                  <a:lnTo>
                    <a:pt x="0" y="124"/>
                  </a:lnTo>
                  <a:lnTo>
                    <a:pt x="1" y="116"/>
                  </a:lnTo>
                  <a:lnTo>
                    <a:pt x="3" y="109"/>
                  </a:lnTo>
                  <a:lnTo>
                    <a:pt x="7" y="101"/>
                  </a:lnTo>
                  <a:lnTo>
                    <a:pt x="10" y="93"/>
                  </a:lnTo>
                  <a:lnTo>
                    <a:pt x="19" y="78"/>
                  </a:lnTo>
                  <a:lnTo>
                    <a:pt x="30" y="62"/>
                  </a:lnTo>
                  <a:lnTo>
                    <a:pt x="42" y="49"/>
                  </a:lnTo>
                  <a:lnTo>
                    <a:pt x="56" y="35"/>
                  </a:lnTo>
                  <a:lnTo>
                    <a:pt x="71" y="24"/>
                  </a:lnTo>
                  <a:lnTo>
                    <a:pt x="86" y="15"/>
                  </a:lnTo>
                  <a:lnTo>
                    <a:pt x="101" y="8"/>
                  </a:lnTo>
                  <a:lnTo>
                    <a:pt x="117" y="2"/>
                  </a:lnTo>
                  <a:lnTo>
                    <a:pt x="124" y="1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53" y="1"/>
                  </a:lnTo>
                  <a:lnTo>
                    <a:pt x="160" y="3"/>
                  </a:lnTo>
                  <a:lnTo>
                    <a:pt x="167" y="7"/>
                  </a:lnTo>
                  <a:lnTo>
                    <a:pt x="172" y="10"/>
                  </a:lnTo>
                  <a:lnTo>
                    <a:pt x="178" y="14"/>
                  </a:lnTo>
                  <a:lnTo>
                    <a:pt x="182" y="21"/>
                  </a:lnTo>
                  <a:lnTo>
                    <a:pt x="187" y="28"/>
                  </a:lnTo>
                  <a:lnTo>
                    <a:pt x="19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4519440" y="4502160"/>
              <a:ext cx="617760" cy="414360"/>
            </a:xfrm>
            <a:custGeom>
              <a:avLst/>
              <a:gdLst/>
              <a:ahLst/>
              <a:rect l="l" t="t" r="r" b="b"/>
              <a:pathLst>
                <a:path w="1948" h="1302">
                  <a:moveTo>
                    <a:pt x="763" y="0"/>
                  </a:moveTo>
                  <a:lnTo>
                    <a:pt x="776" y="5"/>
                  </a:lnTo>
                  <a:lnTo>
                    <a:pt x="788" y="12"/>
                  </a:lnTo>
                  <a:lnTo>
                    <a:pt x="799" y="20"/>
                  </a:lnTo>
                  <a:lnTo>
                    <a:pt x="809" y="27"/>
                  </a:lnTo>
                  <a:lnTo>
                    <a:pt x="818" y="36"/>
                  </a:lnTo>
                  <a:lnTo>
                    <a:pt x="827" y="45"/>
                  </a:lnTo>
                  <a:lnTo>
                    <a:pt x="834" y="54"/>
                  </a:lnTo>
                  <a:lnTo>
                    <a:pt x="842" y="64"/>
                  </a:lnTo>
                  <a:lnTo>
                    <a:pt x="849" y="74"/>
                  </a:lnTo>
                  <a:lnTo>
                    <a:pt x="856" y="85"/>
                  </a:lnTo>
                  <a:lnTo>
                    <a:pt x="861" y="96"/>
                  </a:lnTo>
                  <a:lnTo>
                    <a:pt x="867" y="107"/>
                  </a:lnTo>
                  <a:lnTo>
                    <a:pt x="876" y="131"/>
                  </a:lnTo>
                  <a:lnTo>
                    <a:pt x="884" y="154"/>
                  </a:lnTo>
                  <a:lnTo>
                    <a:pt x="898" y="205"/>
                  </a:lnTo>
                  <a:lnTo>
                    <a:pt x="910" y="256"/>
                  </a:lnTo>
                  <a:lnTo>
                    <a:pt x="917" y="282"/>
                  </a:lnTo>
                  <a:lnTo>
                    <a:pt x="923" y="307"/>
                  </a:lnTo>
                  <a:lnTo>
                    <a:pt x="931" y="332"/>
                  </a:lnTo>
                  <a:lnTo>
                    <a:pt x="941" y="355"/>
                  </a:lnTo>
                  <a:lnTo>
                    <a:pt x="923" y="354"/>
                  </a:lnTo>
                  <a:lnTo>
                    <a:pt x="908" y="355"/>
                  </a:lnTo>
                  <a:lnTo>
                    <a:pt x="894" y="357"/>
                  </a:lnTo>
                  <a:lnTo>
                    <a:pt x="881" y="360"/>
                  </a:lnTo>
                  <a:lnTo>
                    <a:pt x="859" y="370"/>
                  </a:lnTo>
                  <a:lnTo>
                    <a:pt x="838" y="383"/>
                  </a:lnTo>
                  <a:lnTo>
                    <a:pt x="827" y="388"/>
                  </a:lnTo>
                  <a:lnTo>
                    <a:pt x="816" y="393"/>
                  </a:lnTo>
                  <a:lnTo>
                    <a:pt x="804" y="397"/>
                  </a:lnTo>
                  <a:lnTo>
                    <a:pt x="791" y="399"/>
                  </a:lnTo>
                  <a:lnTo>
                    <a:pt x="778" y="402"/>
                  </a:lnTo>
                  <a:lnTo>
                    <a:pt x="762" y="400"/>
                  </a:lnTo>
                  <a:lnTo>
                    <a:pt x="746" y="398"/>
                  </a:lnTo>
                  <a:lnTo>
                    <a:pt x="727" y="393"/>
                  </a:lnTo>
                  <a:lnTo>
                    <a:pt x="724" y="390"/>
                  </a:lnTo>
                  <a:lnTo>
                    <a:pt x="720" y="388"/>
                  </a:lnTo>
                  <a:lnTo>
                    <a:pt x="713" y="386"/>
                  </a:lnTo>
                  <a:lnTo>
                    <a:pt x="707" y="385"/>
                  </a:lnTo>
                  <a:lnTo>
                    <a:pt x="699" y="385"/>
                  </a:lnTo>
                  <a:lnTo>
                    <a:pt x="691" y="386"/>
                  </a:lnTo>
                  <a:lnTo>
                    <a:pt x="683" y="388"/>
                  </a:lnTo>
                  <a:lnTo>
                    <a:pt x="676" y="390"/>
                  </a:lnTo>
                  <a:lnTo>
                    <a:pt x="670" y="395"/>
                  </a:lnTo>
                  <a:lnTo>
                    <a:pt x="666" y="400"/>
                  </a:lnTo>
                  <a:lnTo>
                    <a:pt x="665" y="404"/>
                  </a:lnTo>
                  <a:lnTo>
                    <a:pt x="663" y="407"/>
                  </a:lnTo>
                  <a:lnTo>
                    <a:pt x="663" y="411"/>
                  </a:lnTo>
                  <a:lnTo>
                    <a:pt x="665" y="416"/>
                  </a:lnTo>
                  <a:lnTo>
                    <a:pt x="666" y="421"/>
                  </a:lnTo>
                  <a:lnTo>
                    <a:pt x="668" y="427"/>
                  </a:lnTo>
                  <a:lnTo>
                    <a:pt x="670" y="433"/>
                  </a:lnTo>
                  <a:lnTo>
                    <a:pt x="675" y="439"/>
                  </a:lnTo>
                  <a:lnTo>
                    <a:pt x="685" y="453"/>
                  </a:lnTo>
                  <a:lnTo>
                    <a:pt x="700" y="469"/>
                  </a:lnTo>
                  <a:lnTo>
                    <a:pt x="714" y="471"/>
                  </a:lnTo>
                  <a:lnTo>
                    <a:pt x="729" y="474"/>
                  </a:lnTo>
                  <a:lnTo>
                    <a:pt x="743" y="475"/>
                  </a:lnTo>
                  <a:lnTo>
                    <a:pt x="759" y="476"/>
                  </a:lnTo>
                  <a:lnTo>
                    <a:pt x="788" y="475"/>
                  </a:lnTo>
                  <a:lnTo>
                    <a:pt x="818" y="471"/>
                  </a:lnTo>
                  <a:lnTo>
                    <a:pt x="878" y="464"/>
                  </a:lnTo>
                  <a:lnTo>
                    <a:pt x="935" y="458"/>
                  </a:lnTo>
                  <a:lnTo>
                    <a:pt x="950" y="458"/>
                  </a:lnTo>
                  <a:lnTo>
                    <a:pt x="963" y="458"/>
                  </a:lnTo>
                  <a:lnTo>
                    <a:pt x="978" y="459"/>
                  </a:lnTo>
                  <a:lnTo>
                    <a:pt x="991" y="460"/>
                  </a:lnTo>
                  <a:lnTo>
                    <a:pt x="1004" y="463"/>
                  </a:lnTo>
                  <a:lnTo>
                    <a:pt x="1018" y="466"/>
                  </a:lnTo>
                  <a:lnTo>
                    <a:pt x="1031" y="470"/>
                  </a:lnTo>
                  <a:lnTo>
                    <a:pt x="1043" y="476"/>
                  </a:lnTo>
                  <a:lnTo>
                    <a:pt x="1055" y="483"/>
                  </a:lnTo>
                  <a:lnTo>
                    <a:pt x="1068" y="490"/>
                  </a:lnTo>
                  <a:lnTo>
                    <a:pt x="1080" y="499"/>
                  </a:lnTo>
                  <a:lnTo>
                    <a:pt x="1091" y="510"/>
                  </a:lnTo>
                  <a:lnTo>
                    <a:pt x="1102" y="522"/>
                  </a:lnTo>
                  <a:lnTo>
                    <a:pt x="1113" y="537"/>
                  </a:lnTo>
                  <a:lnTo>
                    <a:pt x="1123" y="552"/>
                  </a:lnTo>
                  <a:lnTo>
                    <a:pt x="1134" y="570"/>
                  </a:lnTo>
                  <a:lnTo>
                    <a:pt x="1130" y="570"/>
                  </a:lnTo>
                  <a:lnTo>
                    <a:pt x="1121" y="571"/>
                  </a:lnTo>
                  <a:lnTo>
                    <a:pt x="1105" y="575"/>
                  </a:lnTo>
                  <a:lnTo>
                    <a:pt x="1087" y="579"/>
                  </a:lnTo>
                  <a:lnTo>
                    <a:pt x="1074" y="582"/>
                  </a:lnTo>
                  <a:lnTo>
                    <a:pt x="1063" y="587"/>
                  </a:lnTo>
                  <a:lnTo>
                    <a:pt x="1050" y="592"/>
                  </a:lnTo>
                  <a:lnTo>
                    <a:pt x="1037" y="599"/>
                  </a:lnTo>
                  <a:lnTo>
                    <a:pt x="1023" y="607"/>
                  </a:lnTo>
                  <a:lnTo>
                    <a:pt x="1010" y="615"/>
                  </a:lnTo>
                  <a:lnTo>
                    <a:pt x="995" y="625"/>
                  </a:lnTo>
                  <a:lnTo>
                    <a:pt x="981" y="636"/>
                  </a:lnTo>
                  <a:lnTo>
                    <a:pt x="979" y="643"/>
                  </a:lnTo>
                  <a:lnTo>
                    <a:pt x="978" y="650"/>
                  </a:lnTo>
                  <a:lnTo>
                    <a:pt x="977" y="657"/>
                  </a:lnTo>
                  <a:lnTo>
                    <a:pt x="978" y="663"/>
                  </a:lnTo>
                  <a:lnTo>
                    <a:pt x="978" y="669"/>
                  </a:lnTo>
                  <a:lnTo>
                    <a:pt x="980" y="675"/>
                  </a:lnTo>
                  <a:lnTo>
                    <a:pt x="982" y="680"/>
                  </a:lnTo>
                  <a:lnTo>
                    <a:pt x="985" y="686"/>
                  </a:lnTo>
                  <a:lnTo>
                    <a:pt x="989" y="690"/>
                  </a:lnTo>
                  <a:lnTo>
                    <a:pt x="992" y="693"/>
                  </a:lnTo>
                  <a:lnTo>
                    <a:pt x="998" y="698"/>
                  </a:lnTo>
                  <a:lnTo>
                    <a:pt x="1002" y="700"/>
                  </a:lnTo>
                  <a:lnTo>
                    <a:pt x="1009" y="703"/>
                  </a:lnTo>
                  <a:lnTo>
                    <a:pt x="1014" y="705"/>
                  </a:lnTo>
                  <a:lnTo>
                    <a:pt x="1021" y="707"/>
                  </a:lnTo>
                  <a:lnTo>
                    <a:pt x="1029" y="707"/>
                  </a:lnTo>
                  <a:lnTo>
                    <a:pt x="1071" y="687"/>
                  </a:lnTo>
                  <a:lnTo>
                    <a:pt x="1112" y="669"/>
                  </a:lnTo>
                  <a:lnTo>
                    <a:pt x="1132" y="661"/>
                  </a:lnTo>
                  <a:lnTo>
                    <a:pt x="1153" y="655"/>
                  </a:lnTo>
                  <a:lnTo>
                    <a:pt x="1173" y="649"/>
                  </a:lnTo>
                  <a:lnTo>
                    <a:pt x="1193" y="646"/>
                  </a:lnTo>
                  <a:lnTo>
                    <a:pt x="1213" y="643"/>
                  </a:lnTo>
                  <a:lnTo>
                    <a:pt x="1233" y="642"/>
                  </a:lnTo>
                  <a:lnTo>
                    <a:pt x="1252" y="645"/>
                  </a:lnTo>
                  <a:lnTo>
                    <a:pt x="1272" y="648"/>
                  </a:lnTo>
                  <a:lnTo>
                    <a:pt x="1282" y="651"/>
                  </a:lnTo>
                  <a:lnTo>
                    <a:pt x="1291" y="655"/>
                  </a:lnTo>
                  <a:lnTo>
                    <a:pt x="1301" y="658"/>
                  </a:lnTo>
                  <a:lnTo>
                    <a:pt x="1311" y="663"/>
                  </a:lnTo>
                  <a:lnTo>
                    <a:pt x="1320" y="669"/>
                  </a:lnTo>
                  <a:lnTo>
                    <a:pt x="1330" y="675"/>
                  </a:lnTo>
                  <a:lnTo>
                    <a:pt x="1340" y="681"/>
                  </a:lnTo>
                  <a:lnTo>
                    <a:pt x="1349" y="689"/>
                  </a:lnTo>
                  <a:lnTo>
                    <a:pt x="1350" y="693"/>
                  </a:lnTo>
                  <a:lnTo>
                    <a:pt x="1351" y="698"/>
                  </a:lnTo>
                  <a:lnTo>
                    <a:pt x="1351" y="702"/>
                  </a:lnTo>
                  <a:lnTo>
                    <a:pt x="1351" y="707"/>
                  </a:lnTo>
                  <a:lnTo>
                    <a:pt x="1348" y="715"/>
                  </a:lnTo>
                  <a:lnTo>
                    <a:pt x="1343" y="722"/>
                  </a:lnTo>
                  <a:lnTo>
                    <a:pt x="1331" y="736"/>
                  </a:lnTo>
                  <a:lnTo>
                    <a:pt x="1318" y="750"/>
                  </a:lnTo>
                  <a:lnTo>
                    <a:pt x="1311" y="757"/>
                  </a:lnTo>
                  <a:lnTo>
                    <a:pt x="1306" y="764"/>
                  </a:lnTo>
                  <a:lnTo>
                    <a:pt x="1302" y="772"/>
                  </a:lnTo>
                  <a:lnTo>
                    <a:pt x="1301" y="781"/>
                  </a:lnTo>
                  <a:lnTo>
                    <a:pt x="1301" y="786"/>
                  </a:lnTo>
                  <a:lnTo>
                    <a:pt x="1302" y="791"/>
                  </a:lnTo>
                  <a:lnTo>
                    <a:pt x="1303" y="796"/>
                  </a:lnTo>
                  <a:lnTo>
                    <a:pt x="1305" y="801"/>
                  </a:lnTo>
                  <a:lnTo>
                    <a:pt x="1309" y="807"/>
                  </a:lnTo>
                  <a:lnTo>
                    <a:pt x="1313" y="813"/>
                  </a:lnTo>
                  <a:lnTo>
                    <a:pt x="1318" y="820"/>
                  </a:lnTo>
                  <a:lnTo>
                    <a:pt x="1324" y="827"/>
                  </a:lnTo>
                  <a:lnTo>
                    <a:pt x="1331" y="827"/>
                  </a:lnTo>
                  <a:lnTo>
                    <a:pt x="1338" y="827"/>
                  </a:lnTo>
                  <a:lnTo>
                    <a:pt x="1343" y="827"/>
                  </a:lnTo>
                  <a:lnTo>
                    <a:pt x="1350" y="824"/>
                  </a:lnTo>
                  <a:lnTo>
                    <a:pt x="1361" y="821"/>
                  </a:lnTo>
                  <a:lnTo>
                    <a:pt x="1371" y="814"/>
                  </a:lnTo>
                  <a:lnTo>
                    <a:pt x="1391" y="800"/>
                  </a:lnTo>
                  <a:lnTo>
                    <a:pt x="1409" y="782"/>
                  </a:lnTo>
                  <a:lnTo>
                    <a:pt x="1419" y="774"/>
                  </a:lnTo>
                  <a:lnTo>
                    <a:pt x="1427" y="767"/>
                  </a:lnTo>
                  <a:lnTo>
                    <a:pt x="1437" y="761"/>
                  </a:lnTo>
                  <a:lnTo>
                    <a:pt x="1449" y="757"/>
                  </a:lnTo>
                  <a:lnTo>
                    <a:pt x="1454" y="754"/>
                  </a:lnTo>
                  <a:lnTo>
                    <a:pt x="1461" y="753"/>
                  </a:lnTo>
                  <a:lnTo>
                    <a:pt x="1466" y="753"/>
                  </a:lnTo>
                  <a:lnTo>
                    <a:pt x="1473" y="753"/>
                  </a:lnTo>
                  <a:lnTo>
                    <a:pt x="1480" y="754"/>
                  </a:lnTo>
                  <a:lnTo>
                    <a:pt x="1486" y="757"/>
                  </a:lnTo>
                  <a:lnTo>
                    <a:pt x="1494" y="759"/>
                  </a:lnTo>
                  <a:lnTo>
                    <a:pt x="1502" y="763"/>
                  </a:lnTo>
                  <a:lnTo>
                    <a:pt x="1507" y="749"/>
                  </a:lnTo>
                  <a:lnTo>
                    <a:pt x="1515" y="736"/>
                  </a:lnTo>
                  <a:lnTo>
                    <a:pt x="1523" y="723"/>
                  </a:lnTo>
                  <a:lnTo>
                    <a:pt x="1532" y="711"/>
                  </a:lnTo>
                  <a:lnTo>
                    <a:pt x="1541" y="700"/>
                  </a:lnTo>
                  <a:lnTo>
                    <a:pt x="1551" y="690"/>
                  </a:lnTo>
                  <a:lnTo>
                    <a:pt x="1562" y="680"/>
                  </a:lnTo>
                  <a:lnTo>
                    <a:pt x="1573" y="671"/>
                  </a:lnTo>
                  <a:lnTo>
                    <a:pt x="1585" y="663"/>
                  </a:lnTo>
                  <a:lnTo>
                    <a:pt x="1597" y="656"/>
                  </a:lnTo>
                  <a:lnTo>
                    <a:pt x="1610" y="649"/>
                  </a:lnTo>
                  <a:lnTo>
                    <a:pt x="1623" y="642"/>
                  </a:lnTo>
                  <a:lnTo>
                    <a:pt x="1650" y="630"/>
                  </a:lnTo>
                  <a:lnTo>
                    <a:pt x="1677" y="621"/>
                  </a:lnTo>
                  <a:lnTo>
                    <a:pt x="1706" y="614"/>
                  </a:lnTo>
                  <a:lnTo>
                    <a:pt x="1734" y="608"/>
                  </a:lnTo>
                  <a:lnTo>
                    <a:pt x="1762" y="605"/>
                  </a:lnTo>
                  <a:lnTo>
                    <a:pt x="1788" y="601"/>
                  </a:lnTo>
                  <a:lnTo>
                    <a:pt x="1814" y="600"/>
                  </a:lnTo>
                  <a:lnTo>
                    <a:pt x="1838" y="599"/>
                  </a:lnTo>
                  <a:lnTo>
                    <a:pt x="1861" y="600"/>
                  </a:lnTo>
                  <a:lnTo>
                    <a:pt x="1879" y="601"/>
                  </a:lnTo>
                  <a:lnTo>
                    <a:pt x="1948" y="614"/>
                  </a:lnTo>
                  <a:lnTo>
                    <a:pt x="1932" y="628"/>
                  </a:lnTo>
                  <a:lnTo>
                    <a:pt x="1914" y="641"/>
                  </a:lnTo>
                  <a:lnTo>
                    <a:pt x="1895" y="655"/>
                  </a:lnTo>
                  <a:lnTo>
                    <a:pt x="1876" y="667"/>
                  </a:lnTo>
                  <a:lnTo>
                    <a:pt x="1855" y="678"/>
                  </a:lnTo>
                  <a:lnTo>
                    <a:pt x="1834" y="689"/>
                  </a:lnTo>
                  <a:lnTo>
                    <a:pt x="1813" y="700"/>
                  </a:lnTo>
                  <a:lnTo>
                    <a:pt x="1791" y="710"/>
                  </a:lnTo>
                  <a:lnTo>
                    <a:pt x="1745" y="730"/>
                  </a:lnTo>
                  <a:lnTo>
                    <a:pt x="1697" y="749"/>
                  </a:lnTo>
                  <a:lnTo>
                    <a:pt x="1648" y="767"/>
                  </a:lnTo>
                  <a:lnTo>
                    <a:pt x="1598" y="784"/>
                  </a:lnTo>
                  <a:lnTo>
                    <a:pt x="1547" y="803"/>
                  </a:lnTo>
                  <a:lnTo>
                    <a:pt x="1497" y="821"/>
                  </a:lnTo>
                  <a:lnTo>
                    <a:pt x="1447" y="841"/>
                  </a:lnTo>
                  <a:lnTo>
                    <a:pt x="1399" y="861"/>
                  </a:lnTo>
                  <a:lnTo>
                    <a:pt x="1374" y="872"/>
                  </a:lnTo>
                  <a:lnTo>
                    <a:pt x="1350" y="883"/>
                  </a:lnTo>
                  <a:lnTo>
                    <a:pt x="1326" y="895"/>
                  </a:lnTo>
                  <a:lnTo>
                    <a:pt x="1304" y="908"/>
                  </a:lnTo>
                  <a:lnTo>
                    <a:pt x="1282" y="921"/>
                  </a:lnTo>
                  <a:lnTo>
                    <a:pt x="1260" y="934"/>
                  </a:lnTo>
                  <a:lnTo>
                    <a:pt x="1239" y="949"/>
                  </a:lnTo>
                  <a:lnTo>
                    <a:pt x="1218" y="963"/>
                  </a:lnTo>
                  <a:lnTo>
                    <a:pt x="1174" y="994"/>
                  </a:lnTo>
                  <a:lnTo>
                    <a:pt x="1132" y="1025"/>
                  </a:lnTo>
                  <a:lnTo>
                    <a:pt x="1091" y="1055"/>
                  </a:lnTo>
                  <a:lnTo>
                    <a:pt x="1050" y="1086"/>
                  </a:lnTo>
                  <a:lnTo>
                    <a:pt x="1010" y="1117"/>
                  </a:lnTo>
                  <a:lnTo>
                    <a:pt x="971" y="1150"/>
                  </a:lnTo>
                  <a:lnTo>
                    <a:pt x="932" y="1184"/>
                  </a:lnTo>
                  <a:lnTo>
                    <a:pt x="893" y="1220"/>
                  </a:lnTo>
                  <a:lnTo>
                    <a:pt x="886" y="1231"/>
                  </a:lnTo>
                  <a:lnTo>
                    <a:pt x="879" y="1241"/>
                  </a:lnTo>
                  <a:lnTo>
                    <a:pt x="876" y="1250"/>
                  </a:lnTo>
                  <a:lnTo>
                    <a:pt x="872" y="1260"/>
                  </a:lnTo>
                  <a:lnTo>
                    <a:pt x="870" y="1268"/>
                  </a:lnTo>
                  <a:lnTo>
                    <a:pt x="869" y="1277"/>
                  </a:lnTo>
                  <a:lnTo>
                    <a:pt x="868" y="1286"/>
                  </a:lnTo>
                  <a:lnTo>
                    <a:pt x="867" y="1296"/>
                  </a:lnTo>
                  <a:lnTo>
                    <a:pt x="844" y="1294"/>
                  </a:lnTo>
                  <a:lnTo>
                    <a:pt x="822" y="1293"/>
                  </a:lnTo>
                  <a:lnTo>
                    <a:pt x="799" y="1293"/>
                  </a:lnTo>
                  <a:lnTo>
                    <a:pt x="776" y="1294"/>
                  </a:lnTo>
                  <a:lnTo>
                    <a:pt x="751" y="1296"/>
                  </a:lnTo>
                  <a:lnTo>
                    <a:pt x="727" y="1297"/>
                  </a:lnTo>
                  <a:lnTo>
                    <a:pt x="702" y="1297"/>
                  </a:lnTo>
                  <a:lnTo>
                    <a:pt x="677" y="1296"/>
                  </a:lnTo>
                  <a:lnTo>
                    <a:pt x="675" y="1273"/>
                  </a:lnTo>
                  <a:lnTo>
                    <a:pt x="675" y="1250"/>
                  </a:lnTo>
                  <a:lnTo>
                    <a:pt x="675" y="1226"/>
                  </a:lnTo>
                  <a:lnTo>
                    <a:pt x="676" y="1203"/>
                  </a:lnTo>
                  <a:lnTo>
                    <a:pt x="677" y="1179"/>
                  </a:lnTo>
                  <a:lnTo>
                    <a:pt x="679" y="1155"/>
                  </a:lnTo>
                  <a:lnTo>
                    <a:pt x="682" y="1132"/>
                  </a:lnTo>
                  <a:lnTo>
                    <a:pt x="687" y="1109"/>
                  </a:lnTo>
                  <a:lnTo>
                    <a:pt x="691" y="1085"/>
                  </a:lnTo>
                  <a:lnTo>
                    <a:pt x="696" y="1061"/>
                  </a:lnTo>
                  <a:lnTo>
                    <a:pt x="701" y="1039"/>
                  </a:lnTo>
                  <a:lnTo>
                    <a:pt x="708" y="1015"/>
                  </a:lnTo>
                  <a:lnTo>
                    <a:pt x="716" y="992"/>
                  </a:lnTo>
                  <a:lnTo>
                    <a:pt x="722" y="969"/>
                  </a:lnTo>
                  <a:lnTo>
                    <a:pt x="731" y="947"/>
                  </a:lnTo>
                  <a:lnTo>
                    <a:pt x="740" y="924"/>
                  </a:lnTo>
                  <a:lnTo>
                    <a:pt x="749" y="902"/>
                  </a:lnTo>
                  <a:lnTo>
                    <a:pt x="759" y="880"/>
                  </a:lnTo>
                  <a:lnTo>
                    <a:pt x="769" y="858"/>
                  </a:lnTo>
                  <a:lnTo>
                    <a:pt x="780" y="837"/>
                  </a:lnTo>
                  <a:lnTo>
                    <a:pt x="803" y="794"/>
                  </a:lnTo>
                  <a:lnTo>
                    <a:pt x="828" y="754"/>
                  </a:lnTo>
                  <a:lnTo>
                    <a:pt x="854" y="715"/>
                  </a:lnTo>
                  <a:lnTo>
                    <a:pt x="882" y="678"/>
                  </a:lnTo>
                  <a:lnTo>
                    <a:pt x="911" y="642"/>
                  </a:lnTo>
                  <a:lnTo>
                    <a:pt x="941" y="609"/>
                  </a:lnTo>
                  <a:lnTo>
                    <a:pt x="952" y="597"/>
                  </a:lnTo>
                  <a:lnTo>
                    <a:pt x="961" y="587"/>
                  </a:lnTo>
                  <a:lnTo>
                    <a:pt x="964" y="582"/>
                  </a:lnTo>
                  <a:lnTo>
                    <a:pt x="967" y="578"/>
                  </a:lnTo>
                  <a:lnTo>
                    <a:pt x="968" y="575"/>
                  </a:lnTo>
                  <a:lnTo>
                    <a:pt x="968" y="571"/>
                  </a:lnTo>
                  <a:lnTo>
                    <a:pt x="967" y="569"/>
                  </a:lnTo>
                  <a:lnTo>
                    <a:pt x="964" y="567"/>
                  </a:lnTo>
                  <a:lnTo>
                    <a:pt x="961" y="565"/>
                  </a:lnTo>
                  <a:lnTo>
                    <a:pt x="955" y="562"/>
                  </a:lnTo>
                  <a:lnTo>
                    <a:pt x="940" y="560"/>
                  </a:lnTo>
                  <a:lnTo>
                    <a:pt x="918" y="560"/>
                  </a:lnTo>
                  <a:lnTo>
                    <a:pt x="903" y="564"/>
                  </a:lnTo>
                  <a:lnTo>
                    <a:pt x="890" y="568"/>
                  </a:lnTo>
                  <a:lnTo>
                    <a:pt x="878" y="574"/>
                  </a:lnTo>
                  <a:lnTo>
                    <a:pt x="867" y="578"/>
                  </a:lnTo>
                  <a:lnTo>
                    <a:pt x="857" y="584"/>
                  </a:lnTo>
                  <a:lnTo>
                    <a:pt x="847" y="589"/>
                  </a:lnTo>
                  <a:lnTo>
                    <a:pt x="838" y="596"/>
                  </a:lnTo>
                  <a:lnTo>
                    <a:pt x="829" y="602"/>
                  </a:lnTo>
                  <a:lnTo>
                    <a:pt x="821" y="610"/>
                  </a:lnTo>
                  <a:lnTo>
                    <a:pt x="814" y="617"/>
                  </a:lnTo>
                  <a:lnTo>
                    <a:pt x="809" y="625"/>
                  </a:lnTo>
                  <a:lnTo>
                    <a:pt x="803" y="633"/>
                  </a:lnTo>
                  <a:lnTo>
                    <a:pt x="798" y="641"/>
                  </a:lnTo>
                  <a:lnTo>
                    <a:pt x="794" y="650"/>
                  </a:lnTo>
                  <a:lnTo>
                    <a:pt x="791" y="660"/>
                  </a:lnTo>
                  <a:lnTo>
                    <a:pt x="788" y="670"/>
                  </a:lnTo>
                  <a:lnTo>
                    <a:pt x="773" y="709"/>
                  </a:lnTo>
                  <a:lnTo>
                    <a:pt x="757" y="747"/>
                  </a:lnTo>
                  <a:lnTo>
                    <a:pt x="740" y="783"/>
                  </a:lnTo>
                  <a:lnTo>
                    <a:pt x="722" y="820"/>
                  </a:lnTo>
                  <a:lnTo>
                    <a:pt x="685" y="890"/>
                  </a:lnTo>
                  <a:lnTo>
                    <a:pt x="649" y="960"/>
                  </a:lnTo>
                  <a:lnTo>
                    <a:pt x="632" y="996"/>
                  </a:lnTo>
                  <a:lnTo>
                    <a:pt x="617" y="1033"/>
                  </a:lnTo>
                  <a:lnTo>
                    <a:pt x="610" y="1052"/>
                  </a:lnTo>
                  <a:lnTo>
                    <a:pt x="603" y="1071"/>
                  </a:lnTo>
                  <a:lnTo>
                    <a:pt x="597" y="1091"/>
                  </a:lnTo>
                  <a:lnTo>
                    <a:pt x="592" y="1111"/>
                  </a:lnTo>
                  <a:lnTo>
                    <a:pt x="587" y="1131"/>
                  </a:lnTo>
                  <a:lnTo>
                    <a:pt x="582" y="1152"/>
                  </a:lnTo>
                  <a:lnTo>
                    <a:pt x="579" y="1174"/>
                  </a:lnTo>
                  <a:lnTo>
                    <a:pt x="576" y="1196"/>
                  </a:lnTo>
                  <a:lnTo>
                    <a:pt x="575" y="1218"/>
                  </a:lnTo>
                  <a:lnTo>
                    <a:pt x="572" y="1242"/>
                  </a:lnTo>
                  <a:lnTo>
                    <a:pt x="572" y="1266"/>
                  </a:lnTo>
                  <a:lnTo>
                    <a:pt x="573" y="1291"/>
                  </a:lnTo>
                  <a:lnTo>
                    <a:pt x="558" y="1296"/>
                  </a:lnTo>
                  <a:lnTo>
                    <a:pt x="542" y="1299"/>
                  </a:lnTo>
                  <a:lnTo>
                    <a:pt x="527" y="1302"/>
                  </a:lnTo>
                  <a:lnTo>
                    <a:pt x="511" y="1302"/>
                  </a:lnTo>
                  <a:lnTo>
                    <a:pt x="497" y="1301"/>
                  </a:lnTo>
                  <a:lnTo>
                    <a:pt x="481" y="1298"/>
                  </a:lnTo>
                  <a:lnTo>
                    <a:pt x="467" y="1295"/>
                  </a:lnTo>
                  <a:lnTo>
                    <a:pt x="454" y="1291"/>
                  </a:lnTo>
                  <a:lnTo>
                    <a:pt x="440" y="1285"/>
                  </a:lnTo>
                  <a:lnTo>
                    <a:pt x="428" y="1278"/>
                  </a:lnTo>
                  <a:lnTo>
                    <a:pt x="417" y="1271"/>
                  </a:lnTo>
                  <a:lnTo>
                    <a:pt x="408" y="1262"/>
                  </a:lnTo>
                  <a:lnTo>
                    <a:pt x="400" y="1253"/>
                  </a:lnTo>
                  <a:lnTo>
                    <a:pt x="394" y="1243"/>
                  </a:lnTo>
                  <a:lnTo>
                    <a:pt x="389" y="1232"/>
                  </a:lnTo>
                  <a:lnTo>
                    <a:pt x="387" y="1220"/>
                  </a:lnTo>
                  <a:lnTo>
                    <a:pt x="384" y="1210"/>
                  </a:lnTo>
                  <a:lnTo>
                    <a:pt x="380" y="1200"/>
                  </a:lnTo>
                  <a:lnTo>
                    <a:pt x="377" y="1190"/>
                  </a:lnTo>
                  <a:lnTo>
                    <a:pt x="371" y="1180"/>
                  </a:lnTo>
                  <a:lnTo>
                    <a:pt x="360" y="1161"/>
                  </a:lnTo>
                  <a:lnTo>
                    <a:pt x="347" y="1142"/>
                  </a:lnTo>
                  <a:lnTo>
                    <a:pt x="316" y="1103"/>
                  </a:lnTo>
                  <a:lnTo>
                    <a:pt x="282" y="1063"/>
                  </a:lnTo>
                  <a:lnTo>
                    <a:pt x="268" y="1042"/>
                  </a:lnTo>
                  <a:lnTo>
                    <a:pt x="254" y="1019"/>
                  </a:lnTo>
                  <a:lnTo>
                    <a:pt x="247" y="1006"/>
                  </a:lnTo>
                  <a:lnTo>
                    <a:pt x="241" y="994"/>
                  </a:lnTo>
                  <a:lnTo>
                    <a:pt x="237" y="981"/>
                  </a:lnTo>
                  <a:lnTo>
                    <a:pt x="233" y="968"/>
                  </a:lnTo>
                  <a:lnTo>
                    <a:pt x="228" y="954"/>
                  </a:lnTo>
                  <a:lnTo>
                    <a:pt x="226" y="940"/>
                  </a:lnTo>
                  <a:lnTo>
                    <a:pt x="224" y="924"/>
                  </a:lnTo>
                  <a:lnTo>
                    <a:pt x="223" y="909"/>
                  </a:lnTo>
                  <a:lnTo>
                    <a:pt x="223" y="892"/>
                  </a:lnTo>
                  <a:lnTo>
                    <a:pt x="224" y="875"/>
                  </a:lnTo>
                  <a:lnTo>
                    <a:pt x="226" y="858"/>
                  </a:lnTo>
                  <a:lnTo>
                    <a:pt x="230" y="839"/>
                  </a:lnTo>
                  <a:lnTo>
                    <a:pt x="236" y="791"/>
                  </a:lnTo>
                  <a:lnTo>
                    <a:pt x="240" y="746"/>
                  </a:lnTo>
                  <a:lnTo>
                    <a:pt x="243" y="722"/>
                  </a:lnTo>
                  <a:lnTo>
                    <a:pt x="246" y="698"/>
                  </a:lnTo>
                  <a:lnTo>
                    <a:pt x="250" y="672"/>
                  </a:lnTo>
                  <a:lnTo>
                    <a:pt x="256" y="646"/>
                  </a:lnTo>
                  <a:lnTo>
                    <a:pt x="264" y="617"/>
                  </a:lnTo>
                  <a:lnTo>
                    <a:pt x="272" y="586"/>
                  </a:lnTo>
                  <a:lnTo>
                    <a:pt x="285" y="552"/>
                  </a:lnTo>
                  <a:lnTo>
                    <a:pt x="298" y="517"/>
                  </a:lnTo>
                  <a:lnTo>
                    <a:pt x="316" y="477"/>
                  </a:lnTo>
                  <a:lnTo>
                    <a:pt x="336" y="434"/>
                  </a:lnTo>
                  <a:lnTo>
                    <a:pt x="359" y="386"/>
                  </a:lnTo>
                  <a:lnTo>
                    <a:pt x="387" y="335"/>
                  </a:lnTo>
                  <a:lnTo>
                    <a:pt x="385" y="325"/>
                  </a:lnTo>
                  <a:lnTo>
                    <a:pt x="382" y="317"/>
                  </a:lnTo>
                  <a:lnTo>
                    <a:pt x="379" y="310"/>
                  </a:lnTo>
                  <a:lnTo>
                    <a:pt x="375" y="306"/>
                  </a:lnTo>
                  <a:lnTo>
                    <a:pt x="369" y="303"/>
                  </a:lnTo>
                  <a:lnTo>
                    <a:pt x="362" y="302"/>
                  </a:lnTo>
                  <a:lnTo>
                    <a:pt x="355" y="303"/>
                  </a:lnTo>
                  <a:lnTo>
                    <a:pt x="347" y="306"/>
                  </a:lnTo>
                  <a:lnTo>
                    <a:pt x="330" y="314"/>
                  </a:lnTo>
                  <a:lnTo>
                    <a:pt x="315" y="323"/>
                  </a:lnTo>
                  <a:lnTo>
                    <a:pt x="301" y="334"/>
                  </a:lnTo>
                  <a:lnTo>
                    <a:pt x="289" y="346"/>
                  </a:lnTo>
                  <a:lnTo>
                    <a:pt x="278" y="358"/>
                  </a:lnTo>
                  <a:lnTo>
                    <a:pt x="268" y="373"/>
                  </a:lnTo>
                  <a:lnTo>
                    <a:pt x="259" y="388"/>
                  </a:lnTo>
                  <a:lnTo>
                    <a:pt x="251" y="404"/>
                  </a:lnTo>
                  <a:lnTo>
                    <a:pt x="236" y="436"/>
                  </a:lnTo>
                  <a:lnTo>
                    <a:pt x="223" y="469"/>
                  </a:lnTo>
                  <a:lnTo>
                    <a:pt x="208" y="501"/>
                  </a:lnTo>
                  <a:lnTo>
                    <a:pt x="194" y="532"/>
                  </a:lnTo>
                  <a:lnTo>
                    <a:pt x="166" y="532"/>
                  </a:lnTo>
                  <a:lnTo>
                    <a:pt x="156" y="519"/>
                  </a:lnTo>
                  <a:lnTo>
                    <a:pt x="145" y="507"/>
                  </a:lnTo>
                  <a:lnTo>
                    <a:pt x="133" y="495"/>
                  </a:lnTo>
                  <a:lnTo>
                    <a:pt x="119" y="484"/>
                  </a:lnTo>
                  <a:lnTo>
                    <a:pt x="94" y="460"/>
                  </a:lnTo>
                  <a:lnTo>
                    <a:pt x="67" y="436"/>
                  </a:lnTo>
                  <a:lnTo>
                    <a:pt x="55" y="424"/>
                  </a:lnTo>
                  <a:lnTo>
                    <a:pt x="44" y="410"/>
                  </a:lnTo>
                  <a:lnTo>
                    <a:pt x="33" y="397"/>
                  </a:lnTo>
                  <a:lnTo>
                    <a:pt x="24" y="384"/>
                  </a:lnTo>
                  <a:lnTo>
                    <a:pt x="15" y="368"/>
                  </a:lnTo>
                  <a:lnTo>
                    <a:pt x="8" y="352"/>
                  </a:lnTo>
                  <a:lnTo>
                    <a:pt x="4" y="335"/>
                  </a:lnTo>
                  <a:lnTo>
                    <a:pt x="0" y="316"/>
                  </a:lnTo>
                  <a:lnTo>
                    <a:pt x="5" y="307"/>
                  </a:lnTo>
                  <a:lnTo>
                    <a:pt x="8" y="297"/>
                  </a:lnTo>
                  <a:lnTo>
                    <a:pt x="14" y="288"/>
                  </a:lnTo>
                  <a:lnTo>
                    <a:pt x="19" y="279"/>
                  </a:lnTo>
                  <a:lnTo>
                    <a:pt x="32" y="263"/>
                  </a:lnTo>
                  <a:lnTo>
                    <a:pt x="47" y="246"/>
                  </a:lnTo>
                  <a:lnTo>
                    <a:pt x="55" y="239"/>
                  </a:lnTo>
                  <a:lnTo>
                    <a:pt x="63" y="232"/>
                  </a:lnTo>
                  <a:lnTo>
                    <a:pt x="70" y="226"/>
                  </a:lnTo>
                  <a:lnTo>
                    <a:pt x="79" y="219"/>
                  </a:lnTo>
                  <a:lnTo>
                    <a:pt x="88" y="214"/>
                  </a:lnTo>
                  <a:lnTo>
                    <a:pt x="97" y="209"/>
                  </a:lnTo>
                  <a:lnTo>
                    <a:pt x="107" y="206"/>
                  </a:lnTo>
                  <a:lnTo>
                    <a:pt x="116" y="203"/>
                  </a:lnTo>
                  <a:lnTo>
                    <a:pt x="119" y="198"/>
                  </a:lnTo>
                  <a:lnTo>
                    <a:pt x="124" y="195"/>
                  </a:lnTo>
                  <a:lnTo>
                    <a:pt x="128" y="193"/>
                  </a:lnTo>
                  <a:lnTo>
                    <a:pt x="133" y="191"/>
                  </a:lnTo>
                  <a:lnTo>
                    <a:pt x="145" y="187"/>
                  </a:lnTo>
                  <a:lnTo>
                    <a:pt x="157" y="185"/>
                  </a:lnTo>
                  <a:lnTo>
                    <a:pt x="171" y="184"/>
                  </a:lnTo>
                  <a:lnTo>
                    <a:pt x="187" y="185"/>
                  </a:lnTo>
                  <a:lnTo>
                    <a:pt x="201" y="187"/>
                  </a:lnTo>
                  <a:lnTo>
                    <a:pt x="217" y="189"/>
                  </a:lnTo>
                  <a:lnTo>
                    <a:pt x="233" y="193"/>
                  </a:lnTo>
                  <a:lnTo>
                    <a:pt x="247" y="197"/>
                  </a:lnTo>
                  <a:lnTo>
                    <a:pt x="260" y="203"/>
                  </a:lnTo>
                  <a:lnTo>
                    <a:pt x="272" y="207"/>
                  </a:lnTo>
                  <a:lnTo>
                    <a:pt x="282" y="213"/>
                  </a:lnTo>
                  <a:lnTo>
                    <a:pt x="290" y="218"/>
                  </a:lnTo>
                  <a:lnTo>
                    <a:pt x="296" y="223"/>
                  </a:lnTo>
                  <a:lnTo>
                    <a:pt x="298" y="228"/>
                  </a:lnTo>
                  <a:lnTo>
                    <a:pt x="314" y="229"/>
                  </a:lnTo>
                  <a:lnTo>
                    <a:pt x="328" y="229"/>
                  </a:lnTo>
                  <a:lnTo>
                    <a:pt x="344" y="228"/>
                  </a:lnTo>
                  <a:lnTo>
                    <a:pt x="359" y="226"/>
                  </a:lnTo>
                  <a:lnTo>
                    <a:pt x="375" y="224"/>
                  </a:lnTo>
                  <a:lnTo>
                    <a:pt x="391" y="221"/>
                  </a:lnTo>
                  <a:lnTo>
                    <a:pt x="407" y="216"/>
                  </a:lnTo>
                  <a:lnTo>
                    <a:pt x="424" y="211"/>
                  </a:lnTo>
                  <a:lnTo>
                    <a:pt x="455" y="199"/>
                  </a:lnTo>
                  <a:lnTo>
                    <a:pt x="487" y="186"/>
                  </a:lnTo>
                  <a:lnTo>
                    <a:pt x="518" y="170"/>
                  </a:lnTo>
                  <a:lnTo>
                    <a:pt x="548" y="153"/>
                  </a:lnTo>
                  <a:lnTo>
                    <a:pt x="577" y="134"/>
                  </a:lnTo>
                  <a:lnTo>
                    <a:pt x="605" y="115"/>
                  </a:lnTo>
                  <a:lnTo>
                    <a:pt x="629" y="95"/>
                  </a:lnTo>
                  <a:lnTo>
                    <a:pt x="652" y="75"/>
                  </a:lnTo>
                  <a:lnTo>
                    <a:pt x="672" y="55"/>
                  </a:lnTo>
                  <a:lnTo>
                    <a:pt x="690" y="35"/>
                  </a:lnTo>
                  <a:lnTo>
                    <a:pt x="697" y="26"/>
                  </a:lnTo>
                  <a:lnTo>
                    <a:pt x="703" y="16"/>
                  </a:lnTo>
                  <a:lnTo>
                    <a:pt x="709" y="7"/>
                  </a:lnTo>
                  <a:lnTo>
                    <a:pt x="714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4610160" y="4205160"/>
              <a:ext cx="36360" cy="44640"/>
            </a:xfrm>
            <a:custGeom>
              <a:avLst/>
              <a:gdLst/>
              <a:ahLst/>
              <a:rect l="l" t="t" r="r" b="b"/>
              <a:pathLst>
                <a:path w="115" h="137">
                  <a:moveTo>
                    <a:pt x="113" y="117"/>
                  </a:moveTo>
                  <a:lnTo>
                    <a:pt x="103" y="122"/>
                  </a:lnTo>
                  <a:lnTo>
                    <a:pt x="93" y="128"/>
                  </a:lnTo>
                  <a:lnTo>
                    <a:pt x="84" y="131"/>
                  </a:lnTo>
                  <a:lnTo>
                    <a:pt x="75" y="134"/>
                  </a:lnTo>
                  <a:lnTo>
                    <a:pt x="68" y="136"/>
                  </a:lnTo>
                  <a:lnTo>
                    <a:pt x="60" y="137"/>
                  </a:lnTo>
                  <a:lnTo>
                    <a:pt x="53" y="137"/>
                  </a:lnTo>
                  <a:lnTo>
                    <a:pt x="46" y="136"/>
                  </a:lnTo>
                  <a:lnTo>
                    <a:pt x="41" y="134"/>
                  </a:lnTo>
                  <a:lnTo>
                    <a:pt x="35" y="132"/>
                  </a:lnTo>
                  <a:lnTo>
                    <a:pt x="31" y="129"/>
                  </a:lnTo>
                  <a:lnTo>
                    <a:pt x="26" y="126"/>
                  </a:lnTo>
                  <a:lnTo>
                    <a:pt x="19" y="118"/>
                  </a:lnTo>
                  <a:lnTo>
                    <a:pt x="13" y="109"/>
                  </a:lnTo>
                  <a:lnTo>
                    <a:pt x="9" y="99"/>
                  </a:lnTo>
                  <a:lnTo>
                    <a:pt x="4" y="88"/>
                  </a:lnTo>
                  <a:lnTo>
                    <a:pt x="2" y="78"/>
                  </a:lnTo>
                  <a:lnTo>
                    <a:pt x="1" y="69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8" y="21"/>
                  </a:lnTo>
                  <a:lnTo>
                    <a:pt x="12" y="17"/>
                  </a:lnTo>
                  <a:lnTo>
                    <a:pt x="15" y="13"/>
                  </a:lnTo>
                  <a:lnTo>
                    <a:pt x="20" y="10"/>
                  </a:lnTo>
                  <a:lnTo>
                    <a:pt x="24" y="7"/>
                  </a:lnTo>
                  <a:lnTo>
                    <a:pt x="30" y="5"/>
                  </a:lnTo>
                  <a:lnTo>
                    <a:pt x="35" y="4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4" y="6"/>
                  </a:lnTo>
                  <a:lnTo>
                    <a:pt x="80" y="9"/>
                  </a:lnTo>
                  <a:lnTo>
                    <a:pt x="85" y="12"/>
                  </a:lnTo>
                  <a:lnTo>
                    <a:pt x="91" y="17"/>
                  </a:lnTo>
                  <a:lnTo>
                    <a:pt x="95" y="22"/>
                  </a:lnTo>
                  <a:lnTo>
                    <a:pt x="100" y="28"/>
                  </a:lnTo>
                  <a:lnTo>
                    <a:pt x="103" y="35"/>
                  </a:lnTo>
                  <a:lnTo>
                    <a:pt x="106" y="41"/>
                  </a:lnTo>
                  <a:lnTo>
                    <a:pt x="110" y="50"/>
                  </a:lnTo>
                  <a:lnTo>
                    <a:pt x="112" y="59"/>
                  </a:lnTo>
                  <a:lnTo>
                    <a:pt x="114" y="69"/>
                  </a:lnTo>
                  <a:lnTo>
                    <a:pt x="115" y="79"/>
                  </a:lnTo>
                  <a:lnTo>
                    <a:pt x="115" y="91"/>
                  </a:lnTo>
                  <a:lnTo>
                    <a:pt x="114" y="103"/>
                  </a:lnTo>
                  <a:lnTo>
                    <a:pt x="11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4529160" y="4237200"/>
              <a:ext cx="33480" cy="38160"/>
            </a:xfrm>
            <a:custGeom>
              <a:avLst/>
              <a:gdLst/>
              <a:ahLst/>
              <a:rect l="l" t="t" r="r" b="b"/>
              <a:pathLst>
                <a:path w="102" h="120">
                  <a:moveTo>
                    <a:pt x="87" y="21"/>
                  </a:moveTo>
                  <a:lnTo>
                    <a:pt x="94" y="38"/>
                  </a:lnTo>
                  <a:lnTo>
                    <a:pt x="99" y="53"/>
                  </a:lnTo>
                  <a:lnTo>
                    <a:pt x="101" y="65"/>
                  </a:lnTo>
                  <a:lnTo>
                    <a:pt x="102" y="76"/>
                  </a:lnTo>
                  <a:lnTo>
                    <a:pt x="101" y="86"/>
                  </a:lnTo>
                  <a:lnTo>
                    <a:pt x="99" y="94"/>
                  </a:lnTo>
                  <a:lnTo>
                    <a:pt x="95" y="101"/>
                  </a:lnTo>
                  <a:lnTo>
                    <a:pt x="91" y="106"/>
                  </a:lnTo>
                  <a:lnTo>
                    <a:pt x="85" y="111"/>
                  </a:lnTo>
                  <a:lnTo>
                    <a:pt x="80" y="113"/>
                  </a:lnTo>
                  <a:lnTo>
                    <a:pt x="73" y="116"/>
                  </a:lnTo>
                  <a:lnTo>
                    <a:pt x="66" y="118"/>
                  </a:lnTo>
                  <a:lnTo>
                    <a:pt x="54" y="119"/>
                  </a:lnTo>
                  <a:lnTo>
                    <a:pt x="43" y="120"/>
                  </a:lnTo>
                  <a:lnTo>
                    <a:pt x="36" y="116"/>
                  </a:lnTo>
                  <a:lnTo>
                    <a:pt x="31" y="112"/>
                  </a:lnTo>
                  <a:lnTo>
                    <a:pt x="25" y="105"/>
                  </a:lnTo>
                  <a:lnTo>
                    <a:pt x="19" y="99"/>
                  </a:lnTo>
                  <a:lnTo>
                    <a:pt x="14" y="91"/>
                  </a:lnTo>
                  <a:lnTo>
                    <a:pt x="9" y="82"/>
                  </a:lnTo>
                  <a:lnTo>
                    <a:pt x="5" y="73"/>
                  </a:lnTo>
                  <a:lnTo>
                    <a:pt x="2" y="6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2" y="28"/>
                  </a:lnTo>
                  <a:lnTo>
                    <a:pt x="5" y="20"/>
                  </a:lnTo>
                  <a:lnTo>
                    <a:pt x="11" y="13"/>
                  </a:lnTo>
                  <a:lnTo>
                    <a:pt x="19" y="8"/>
                  </a:lnTo>
                  <a:lnTo>
                    <a:pt x="27" y="3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5" y="2"/>
                  </a:lnTo>
                  <a:lnTo>
                    <a:pt x="73" y="5"/>
                  </a:lnTo>
                  <a:lnTo>
                    <a:pt x="77" y="9"/>
                  </a:lnTo>
                  <a:lnTo>
                    <a:pt x="81" y="12"/>
                  </a:lnTo>
                  <a:lnTo>
                    <a:pt x="84" y="17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4570560" y="4224240"/>
              <a:ext cx="28440" cy="34920"/>
            </a:xfrm>
            <a:custGeom>
              <a:avLst/>
              <a:gdLst/>
              <a:ahLst/>
              <a:rect l="l" t="t" r="r" b="b"/>
              <a:pathLst>
                <a:path w="93" h="112">
                  <a:moveTo>
                    <a:pt x="69" y="108"/>
                  </a:moveTo>
                  <a:lnTo>
                    <a:pt x="64" y="111"/>
                  </a:lnTo>
                  <a:lnTo>
                    <a:pt x="59" y="112"/>
                  </a:lnTo>
                  <a:lnTo>
                    <a:pt x="54" y="112"/>
                  </a:lnTo>
                  <a:lnTo>
                    <a:pt x="48" y="112"/>
                  </a:lnTo>
                  <a:lnTo>
                    <a:pt x="43" y="111"/>
                  </a:lnTo>
                  <a:lnTo>
                    <a:pt x="37" y="110"/>
                  </a:lnTo>
                  <a:lnTo>
                    <a:pt x="32" y="107"/>
                  </a:lnTo>
                  <a:lnTo>
                    <a:pt x="27" y="104"/>
                  </a:lnTo>
                  <a:lnTo>
                    <a:pt x="22" y="100"/>
                  </a:lnTo>
                  <a:lnTo>
                    <a:pt x="17" y="95"/>
                  </a:lnTo>
                  <a:lnTo>
                    <a:pt x="13" y="88"/>
                  </a:lnTo>
                  <a:lnTo>
                    <a:pt x="8" y="82"/>
                  </a:lnTo>
                  <a:lnTo>
                    <a:pt x="6" y="75"/>
                  </a:lnTo>
                  <a:lnTo>
                    <a:pt x="3" y="66"/>
                  </a:lnTo>
                  <a:lnTo>
                    <a:pt x="2" y="57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4"/>
                  </a:lnTo>
                  <a:lnTo>
                    <a:pt x="7" y="17"/>
                  </a:lnTo>
                  <a:lnTo>
                    <a:pt x="12" y="12"/>
                  </a:lnTo>
                  <a:lnTo>
                    <a:pt x="17" y="9"/>
                  </a:lnTo>
                  <a:lnTo>
                    <a:pt x="23" y="5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0" y="3"/>
                  </a:lnTo>
                  <a:lnTo>
                    <a:pt x="66" y="5"/>
                  </a:lnTo>
                  <a:lnTo>
                    <a:pt x="70" y="9"/>
                  </a:lnTo>
                  <a:lnTo>
                    <a:pt x="74" y="13"/>
                  </a:lnTo>
                  <a:lnTo>
                    <a:pt x="79" y="21"/>
                  </a:lnTo>
                  <a:lnTo>
                    <a:pt x="84" y="29"/>
                  </a:lnTo>
                  <a:lnTo>
                    <a:pt x="87" y="36"/>
                  </a:lnTo>
                  <a:lnTo>
                    <a:pt x="89" y="43"/>
                  </a:lnTo>
                  <a:lnTo>
                    <a:pt x="90" y="51"/>
                  </a:lnTo>
                  <a:lnTo>
                    <a:pt x="92" y="57"/>
                  </a:lnTo>
                  <a:lnTo>
                    <a:pt x="93" y="64"/>
                  </a:lnTo>
                  <a:lnTo>
                    <a:pt x="92" y="71"/>
                  </a:lnTo>
                  <a:lnTo>
                    <a:pt x="90" y="76"/>
                  </a:lnTo>
                  <a:lnTo>
                    <a:pt x="89" y="83"/>
                  </a:lnTo>
                  <a:lnTo>
                    <a:pt x="87" y="87"/>
                  </a:lnTo>
                  <a:lnTo>
                    <a:pt x="84" y="93"/>
                  </a:lnTo>
                  <a:lnTo>
                    <a:pt x="80" y="97"/>
                  </a:lnTo>
                  <a:lnTo>
                    <a:pt x="77" y="102"/>
                  </a:lnTo>
                  <a:lnTo>
                    <a:pt x="74" y="105"/>
                  </a:lnTo>
                  <a:lnTo>
                    <a:pt x="69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4492800" y="4259160"/>
              <a:ext cx="242640" cy="219240"/>
            </a:xfrm>
            <a:custGeom>
              <a:avLst/>
              <a:gdLst/>
              <a:ahLst/>
              <a:rect l="l" t="t" r="r" b="b"/>
              <a:pathLst>
                <a:path w="763" h="690">
                  <a:moveTo>
                    <a:pt x="503" y="15"/>
                  </a:moveTo>
                  <a:lnTo>
                    <a:pt x="510" y="32"/>
                  </a:lnTo>
                  <a:lnTo>
                    <a:pt x="518" y="54"/>
                  </a:lnTo>
                  <a:lnTo>
                    <a:pt x="527" y="80"/>
                  </a:lnTo>
                  <a:lnTo>
                    <a:pt x="535" y="108"/>
                  </a:lnTo>
                  <a:lnTo>
                    <a:pt x="543" y="140"/>
                  </a:lnTo>
                  <a:lnTo>
                    <a:pt x="552" y="170"/>
                  </a:lnTo>
                  <a:lnTo>
                    <a:pt x="560" y="198"/>
                  </a:lnTo>
                  <a:lnTo>
                    <a:pt x="567" y="224"/>
                  </a:lnTo>
                  <a:lnTo>
                    <a:pt x="575" y="231"/>
                  </a:lnTo>
                  <a:lnTo>
                    <a:pt x="585" y="235"/>
                  </a:lnTo>
                  <a:lnTo>
                    <a:pt x="595" y="237"/>
                  </a:lnTo>
                  <a:lnTo>
                    <a:pt x="604" y="237"/>
                  </a:lnTo>
                  <a:lnTo>
                    <a:pt x="614" y="236"/>
                  </a:lnTo>
                  <a:lnTo>
                    <a:pt x="625" y="233"/>
                  </a:lnTo>
                  <a:lnTo>
                    <a:pt x="635" y="229"/>
                  </a:lnTo>
                  <a:lnTo>
                    <a:pt x="646" y="223"/>
                  </a:lnTo>
                  <a:lnTo>
                    <a:pt x="656" y="216"/>
                  </a:lnTo>
                  <a:lnTo>
                    <a:pt x="668" y="208"/>
                  </a:lnTo>
                  <a:lnTo>
                    <a:pt x="678" y="199"/>
                  </a:lnTo>
                  <a:lnTo>
                    <a:pt x="689" y="189"/>
                  </a:lnTo>
                  <a:lnTo>
                    <a:pt x="710" y="168"/>
                  </a:lnTo>
                  <a:lnTo>
                    <a:pt x="731" y="145"/>
                  </a:lnTo>
                  <a:lnTo>
                    <a:pt x="738" y="142"/>
                  </a:lnTo>
                  <a:lnTo>
                    <a:pt x="744" y="141"/>
                  </a:lnTo>
                  <a:lnTo>
                    <a:pt x="749" y="141"/>
                  </a:lnTo>
                  <a:lnTo>
                    <a:pt x="753" y="143"/>
                  </a:lnTo>
                  <a:lnTo>
                    <a:pt x="756" y="147"/>
                  </a:lnTo>
                  <a:lnTo>
                    <a:pt x="760" y="152"/>
                  </a:lnTo>
                  <a:lnTo>
                    <a:pt x="761" y="158"/>
                  </a:lnTo>
                  <a:lnTo>
                    <a:pt x="763" y="166"/>
                  </a:lnTo>
                  <a:lnTo>
                    <a:pt x="763" y="175"/>
                  </a:lnTo>
                  <a:lnTo>
                    <a:pt x="763" y="185"/>
                  </a:lnTo>
                  <a:lnTo>
                    <a:pt x="763" y="195"/>
                  </a:lnTo>
                  <a:lnTo>
                    <a:pt x="761" y="206"/>
                  </a:lnTo>
                  <a:lnTo>
                    <a:pt x="758" y="231"/>
                  </a:lnTo>
                  <a:lnTo>
                    <a:pt x="751" y="257"/>
                  </a:lnTo>
                  <a:lnTo>
                    <a:pt x="743" y="285"/>
                  </a:lnTo>
                  <a:lnTo>
                    <a:pt x="734" y="312"/>
                  </a:lnTo>
                  <a:lnTo>
                    <a:pt x="723" y="338"/>
                  </a:lnTo>
                  <a:lnTo>
                    <a:pt x="711" y="362"/>
                  </a:lnTo>
                  <a:lnTo>
                    <a:pt x="705" y="374"/>
                  </a:lnTo>
                  <a:lnTo>
                    <a:pt x="699" y="384"/>
                  </a:lnTo>
                  <a:lnTo>
                    <a:pt x="692" y="394"/>
                  </a:lnTo>
                  <a:lnTo>
                    <a:pt x="684" y="401"/>
                  </a:lnTo>
                  <a:lnTo>
                    <a:pt x="678" y="409"/>
                  </a:lnTo>
                  <a:lnTo>
                    <a:pt x="671" y="415"/>
                  </a:lnTo>
                  <a:lnTo>
                    <a:pt x="663" y="420"/>
                  </a:lnTo>
                  <a:lnTo>
                    <a:pt x="656" y="424"/>
                  </a:lnTo>
                  <a:lnTo>
                    <a:pt x="658" y="433"/>
                  </a:lnTo>
                  <a:lnTo>
                    <a:pt x="659" y="444"/>
                  </a:lnTo>
                  <a:lnTo>
                    <a:pt x="659" y="457"/>
                  </a:lnTo>
                  <a:lnTo>
                    <a:pt x="658" y="470"/>
                  </a:lnTo>
                  <a:lnTo>
                    <a:pt x="656" y="484"/>
                  </a:lnTo>
                  <a:lnTo>
                    <a:pt x="655" y="496"/>
                  </a:lnTo>
                  <a:lnTo>
                    <a:pt x="655" y="506"/>
                  </a:lnTo>
                  <a:lnTo>
                    <a:pt x="656" y="512"/>
                  </a:lnTo>
                  <a:lnTo>
                    <a:pt x="636" y="521"/>
                  </a:lnTo>
                  <a:lnTo>
                    <a:pt x="621" y="528"/>
                  </a:lnTo>
                  <a:lnTo>
                    <a:pt x="609" y="530"/>
                  </a:lnTo>
                  <a:lnTo>
                    <a:pt x="600" y="530"/>
                  </a:lnTo>
                  <a:lnTo>
                    <a:pt x="595" y="530"/>
                  </a:lnTo>
                  <a:lnTo>
                    <a:pt x="593" y="528"/>
                  </a:lnTo>
                  <a:lnTo>
                    <a:pt x="591" y="527"/>
                  </a:lnTo>
                  <a:lnTo>
                    <a:pt x="589" y="525"/>
                  </a:lnTo>
                  <a:lnTo>
                    <a:pt x="585" y="518"/>
                  </a:lnTo>
                  <a:lnTo>
                    <a:pt x="584" y="510"/>
                  </a:lnTo>
                  <a:lnTo>
                    <a:pt x="581" y="493"/>
                  </a:lnTo>
                  <a:lnTo>
                    <a:pt x="576" y="473"/>
                  </a:lnTo>
                  <a:lnTo>
                    <a:pt x="572" y="463"/>
                  </a:lnTo>
                  <a:lnTo>
                    <a:pt x="565" y="453"/>
                  </a:lnTo>
                  <a:lnTo>
                    <a:pt x="561" y="448"/>
                  </a:lnTo>
                  <a:lnTo>
                    <a:pt x="555" y="444"/>
                  </a:lnTo>
                  <a:lnTo>
                    <a:pt x="550" y="440"/>
                  </a:lnTo>
                  <a:lnTo>
                    <a:pt x="543" y="436"/>
                  </a:lnTo>
                  <a:lnTo>
                    <a:pt x="529" y="435"/>
                  </a:lnTo>
                  <a:lnTo>
                    <a:pt x="515" y="435"/>
                  </a:lnTo>
                  <a:lnTo>
                    <a:pt x="502" y="435"/>
                  </a:lnTo>
                  <a:lnTo>
                    <a:pt x="490" y="437"/>
                  </a:lnTo>
                  <a:lnTo>
                    <a:pt x="479" y="439"/>
                  </a:lnTo>
                  <a:lnTo>
                    <a:pt x="468" y="443"/>
                  </a:lnTo>
                  <a:lnTo>
                    <a:pt x="458" y="447"/>
                  </a:lnTo>
                  <a:lnTo>
                    <a:pt x="448" y="453"/>
                  </a:lnTo>
                  <a:lnTo>
                    <a:pt x="438" y="457"/>
                  </a:lnTo>
                  <a:lnTo>
                    <a:pt x="429" y="464"/>
                  </a:lnTo>
                  <a:lnTo>
                    <a:pt x="421" y="469"/>
                  </a:lnTo>
                  <a:lnTo>
                    <a:pt x="413" y="476"/>
                  </a:lnTo>
                  <a:lnTo>
                    <a:pt x="398" y="490"/>
                  </a:lnTo>
                  <a:lnTo>
                    <a:pt x="384" y="504"/>
                  </a:lnTo>
                  <a:lnTo>
                    <a:pt x="372" y="517"/>
                  </a:lnTo>
                  <a:lnTo>
                    <a:pt x="361" y="529"/>
                  </a:lnTo>
                  <a:lnTo>
                    <a:pt x="351" y="539"/>
                  </a:lnTo>
                  <a:lnTo>
                    <a:pt x="340" y="547"/>
                  </a:lnTo>
                  <a:lnTo>
                    <a:pt x="336" y="550"/>
                  </a:lnTo>
                  <a:lnTo>
                    <a:pt x="331" y="551"/>
                  </a:lnTo>
                  <a:lnTo>
                    <a:pt x="326" y="552"/>
                  </a:lnTo>
                  <a:lnTo>
                    <a:pt x="321" y="552"/>
                  </a:lnTo>
                  <a:lnTo>
                    <a:pt x="316" y="550"/>
                  </a:lnTo>
                  <a:lnTo>
                    <a:pt x="310" y="548"/>
                  </a:lnTo>
                  <a:lnTo>
                    <a:pt x="306" y="544"/>
                  </a:lnTo>
                  <a:lnTo>
                    <a:pt x="300" y="538"/>
                  </a:lnTo>
                  <a:lnTo>
                    <a:pt x="287" y="536"/>
                  </a:lnTo>
                  <a:lnTo>
                    <a:pt x="273" y="535"/>
                  </a:lnTo>
                  <a:lnTo>
                    <a:pt x="262" y="535"/>
                  </a:lnTo>
                  <a:lnTo>
                    <a:pt x="252" y="537"/>
                  </a:lnTo>
                  <a:lnTo>
                    <a:pt x="243" y="539"/>
                  </a:lnTo>
                  <a:lnTo>
                    <a:pt x="236" y="544"/>
                  </a:lnTo>
                  <a:lnTo>
                    <a:pt x="229" y="549"/>
                  </a:lnTo>
                  <a:lnTo>
                    <a:pt x="222" y="555"/>
                  </a:lnTo>
                  <a:lnTo>
                    <a:pt x="218" y="561"/>
                  </a:lnTo>
                  <a:lnTo>
                    <a:pt x="213" y="569"/>
                  </a:lnTo>
                  <a:lnTo>
                    <a:pt x="209" y="576"/>
                  </a:lnTo>
                  <a:lnTo>
                    <a:pt x="206" y="584"/>
                  </a:lnTo>
                  <a:lnTo>
                    <a:pt x="201" y="598"/>
                  </a:lnTo>
                  <a:lnTo>
                    <a:pt x="199" y="612"/>
                  </a:lnTo>
                  <a:lnTo>
                    <a:pt x="199" y="629"/>
                  </a:lnTo>
                  <a:lnTo>
                    <a:pt x="197" y="643"/>
                  </a:lnTo>
                  <a:lnTo>
                    <a:pt x="194" y="650"/>
                  </a:lnTo>
                  <a:lnTo>
                    <a:pt x="192" y="656"/>
                  </a:lnTo>
                  <a:lnTo>
                    <a:pt x="190" y="661"/>
                  </a:lnTo>
                  <a:lnTo>
                    <a:pt x="187" y="666"/>
                  </a:lnTo>
                  <a:lnTo>
                    <a:pt x="183" y="670"/>
                  </a:lnTo>
                  <a:lnTo>
                    <a:pt x="180" y="675"/>
                  </a:lnTo>
                  <a:lnTo>
                    <a:pt x="176" y="678"/>
                  </a:lnTo>
                  <a:lnTo>
                    <a:pt x="171" y="681"/>
                  </a:lnTo>
                  <a:lnTo>
                    <a:pt x="161" y="687"/>
                  </a:lnTo>
                  <a:lnTo>
                    <a:pt x="150" y="690"/>
                  </a:lnTo>
                  <a:lnTo>
                    <a:pt x="141" y="686"/>
                  </a:lnTo>
                  <a:lnTo>
                    <a:pt x="131" y="681"/>
                  </a:lnTo>
                  <a:lnTo>
                    <a:pt x="122" y="675"/>
                  </a:lnTo>
                  <a:lnTo>
                    <a:pt x="115" y="667"/>
                  </a:lnTo>
                  <a:lnTo>
                    <a:pt x="106" y="659"/>
                  </a:lnTo>
                  <a:lnTo>
                    <a:pt x="97" y="649"/>
                  </a:lnTo>
                  <a:lnTo>
                    <a:pt x="89" y="639"/>
                  </a:lnTo>
                  <a:lnTo>
                    <a:pt x="80" y="628"/>
                  </a:lnTo>
                  <a:lnTo>
                    <a:pt x="72" y="616"/>
                  </a:lnTo>
                  <a:lnTo>
                    <a:pt x="65" y="604"/>
                  </a:lnTo>
                  <a:lnTo>
                    <a:pt x="58" y="590"/>
                  </a:lnTo>
                  <a:lnTo>
                    <a:pt x="50" y="576"/>
                  </a:lnTo>
                  <a:lnTo>
                    <a:pt x="43" y="560"/>
                  </a:lnTo>
                  <a:lnTo>
                    <a:pt x="37" y="545"/>
                  </a:lnTo>
                  <a:lnTo>
                    <a:pt x="31" y="529"/>
                  </a:lnTo>
                  <a:lnTo>
                    <a:pt x="26" y="512"/>
                  </a:lnTo>
                  <a:lnTo>
                    <a:pt x="21" y="496"/>
                  </a:lnTo>
                  <a:lnTo>
                    <a:pt x="16" y="478"/>
                  </a:lnTo>
                  <a:lnTo>
                    <a:pt x="12" y="461"/>
                  </a:lnTo>
                  <a:lnTo>
                    <a:pt x="8" y="444"/>
                  </a:lnTo>
                  <a:lnTo>
                    <a:pt x="6" y="425"/>
                  </a:lnTo>
                  <a:lnTo>
                    <a:pt x="3" y="407"/>
                  </a:lnTo>
                  <a:lnTo>
                    <a:pt x="1" y="389"/>
                  </a:lnTo>
                  <a:lnTo>
                    <a:pt x="0" y="370"/>
                  </a:lnTo>
                  <a:lnTo>
                    <a:pt x="0" y="352"/>
                  </a:lnTo>
                  <a:lnTo>
                    <a:pt x="0" y="334"/>
                  </a:lnTo>
                  <a:lnTo>
                    <a:pt x="1" y="316"/>
                  </a:lnTo>
                  <a:lnTo>
                    <a:pt x="2" y="297"/>
                  </a:lnTo>
                  <a:lnTo>
                    <a:pt x="5" y="279"/>
                  </a:lnTo>
                  <a:lnTo>
                    <a:pt x="8" y="262"/>
                  </a:lnTo>
                  <a:lnTo>
                    <a:pt x="12" y="245"/>
                  </a:lnTo>
                  <a:lnTo>
                    <a:pt x="18" y="227"/>
                  </a:lnTo>
                  <a:lnTo>
                    <a:pt x="23" y="219"/>
                  </a:lnTo>
                  <a:lnTo>
                    <a:pt x="31" y="212"/>
                  </a:lnTo>
                  <a:lnTo>
                    <a:pt x="39" y="206"/>
                  </a:lnTo>
                  <a:lnTo>
                    <a:pt x="49" y="201"/>
                  </a:lnTo>
                  <a:lnTo>
                    <a:pt x="59" y="197"/>
                  </a:lnTo>
                  <a:lnTo>
                    <a:pt x="71" y="195"/>
                  </a:lnTo>
                  <a:lnTo>
                    <a:pt x="86" y="193"/>
                  </a:lnTo>
                  <a:lnTo>
                    <a:pt x="101" y="193"/>
                  </a:lnTo>
                  <a:lnTo>
                    <a:pt x="105" y="206"/>
                  </a:lnTo>
                  <a:lnTo>
                    <a:pt x="107" y="218"/>
                  </a:lnTo>
                  <a:lnTo>
                    <a:pt x="110" y="232"/>
                  </a:lnTo>
                  <a:lnTo>
                    <a:pt x="113" y="244"/>
                  </a:lnTo>
                  <a:lnTo>
                    <a:pt x="118" y="257"/>
                  </a:lnTo>
                  <a:lnTo>
                    <a:pt x="126" y="269"/>
                  </a:lnTo>
                  <a:lnTo>
                    <a:pt x="130" y="275"/>
                  </a:lnTo>
                  <a:lnTo>
                    <a:pt x="135" y="282"/>
                  </a:lnTo>
                  <a:lnTo>
                    <a:pt x="140" y="287"/>
                  </a:lnTo>
                  <a:lnTo>
                    <a:pt x="147" y="294"/>
                  </a:lnTo>
                  <a:lnTo>
                    <a:pt x="152" y="293"/>
                  </a:lnTo>
                  <a:lnTo>
                    <a:pt x="157" y="293"/>
                  </a:lnTo>
                  <a:lnTo>
                    <a:pt x="159" y="292"/>
                  </a:lnTo>
                  <a:lnTo>
                    <a:pt x="160" y="292"/>
                  </a:lnTo>
                  <a:lnTo>
                    <a:pt x="162" y="290"/>
                  </a:lnTo>
                  <a:lnTo>
                    <a:pt x="164" y="288"/>
                  </a:lnTo>
                  <a:lnTo>
                    <a:pt x="169" y="285"/>
                  </a:lnTo>
                  <a:lnTo>
                    <a:pt x="176" y="279"/>
                  </a:lnTo>
                  <a:lnTo>
                    <a:pt x="168" y="254"/>
                  </a:lnTo>
                  <a:lnTo>
                    <a:pt x="162" y="232"/>
                  </a:lnTo>
                  <a:lnTo>
                    <a:pt x="159" y="212"/>
                  </a:lnTo>
                  <a:lnTo>
                    <a:pt x="156" y="195"/>
                  </a:lnTo>
                  <a:lnTo>
                    <a:pt x="154" y="181"/>
                  </a:lnTo>
                  <a:lnTo>
                    <a:pt x="153" y="168"/>
                  </a:lnTo>
                  <a:lnTo>
                    <a:pt x="153" y="157"/>
                  </a:lnTo>
                  <a:lnTo>
                    <a:pt x="154" y="148"/>
                  </a:lnTo>
                  <a:lnTo>
                    <a:pt x="157" y="135"/>
                  </a:lnTo>
                  <a:lnTo>
                    <a:pt x="160" y="124"/>
                  </a:lnTo>
                  <a:lnTo>
                    <a:pt x="162" y="114"/>
                  </a:lnTo>
                  <a:lnTo>
                    <a:pt x="162" y="104"/>
                  </a:lnTo>
                  <a:lnTo>
                    <a:pt x="169" y="95"/>
                  </a:lnTo>
                  <a:lnTo>
                    <a:pt x="174" y="88"/>
                  </a:lnTo>
                  <a:lnTo>
                    <a:pt x="182" y="82"/>
                  </a:lnTo>
                  <a:lnTo>
                    <a:pt x="189" y="76"/>
                  </a:lnTo>
                  <a:lnTo>
                    <a:pt x="198" y="73"/>
                  </a:lnTo>
                  <a:lnTo>
                    <a:pt x="207" y="70"/>
                  </a:lnTo>
                  <a:lnTo>
                    <a:pt x="217" y="68"/>
                  </a:lnTo>
                  <a:lnTo>
                    <a:pt x="229" y="68"/>
                  </a:lnTo>
                  <a:lnTo>
                    <a:pt x="233" y="73"/>
                  </a:lnTo>
                  <a:lnTo>
                    <a:pt x="238" y="77"/>
                  </a:lnTo>
                  <a:lnTo>
                    <a:pt x="240" y="83"/>
                  </a:lnTo>
                  <a:lnTo>
                    <a:pt x="242" y="87"/>
                  </a:lnTo>
                  <a:lnTo>
                    <a:pt x="244" y="98"/>
                  </a:lnTo>
                  <a:lnTo>
                    <a:pt x="246" y="110"/>
                  </a:lnTo>
                  <a:lnTo>
                    <a:pt x="246" y="121"/>
                  </a:lnTo>
                  <a:lnTo>
                    <a:pt x="246" y="131"/>
                  </a:lnTo>
                  <a:lnTo>
                    <a:pt x="247" y="141"/>
                  </a:lnTo>
                  <a:lnTo>
                    <a:pt x="249" y="151"/>
                  </a:lnTo>
                  <a:lnTo>
                    <a:pt x="257" y="233"/>
                  </a:lnTo>
                  <a:lnTo>
                    <a:pt x="287" y="233"/>
                  </a:lnTo>
                  <a:lnTo>
                    <a:pt x="290" y="205"/>
                  </a:lnTo>
                  <a:lnTo>
                    <a:pt x="290" y="177"/>
                  </a:lnTo>
                  <a:lnTo>
                    <a:pt x="289" y="151"/>
                  </a:lnTo>
                  <a:lnTo>
                    <a:pt x="287" y="126"/>
                  </a:lnTo>
                  <a:lnTo>
                    <a:pt x="284" y="104"/>
                  </a:lnTo>
                  <a:lnTo>
                    <a:pt x="283" y="85"/>
                  </a:lnTo>
                  <a:lnTo>
                    <a:pt x="282" y="70"/>
                  </a:lnTo>
                  <a:lnTo>
                    <a:pt x="284" y="59"/>
                  </a:lnTo>
                  <a:lnTo>
                    <a:pt x="287" y="53"/>
                  </a:lnTo>
                  <a:lnTo>
                    <a:pt x="291" y="47"/>
                  </a:lnTo>
                  <a:lnTo>
                    <a:pt x="297" y="42"/>
                  </a:lnTo>
                  <a:lnTo>
                    <a:pt x="304" y="39"/>
                  </a:lnTo>
                  <a:lnTo>
                    <a:pt x="312" y="35"/>
                  </a:lnTo>
                  <a:lnTo>
                    <a:pt x="321" y="34"/>
                  </a:lnTo>
                  <a:lnTo>
                    <a:pt x="330" y="33"/>
                  </a:lnTo>
                  <a:lnTo>
                    <a:pt x="340" y="35"/>
                  </a:lnTo>
                  <a:lnTo>
                    <a:pt x="344" y="35"/>
                  </a:lnTo>
                  <a:lnTo>
                    <a:pt x="348" y="37"/>
                  </a:lnTo>
                  <a:lnTo>
                    <a:pt x="351" y="40"/>
                  </a:lnTo>
                  <a:lnTo>
                    <a:pt x="353" y="42"/>
                  </a:lnTo>
                  <a:lnTo>
                    <a:pt x="357" y="47"/>
                  </a:lnTo>
                  <a:lnTo>
                    <a:pt x="359" y="55"/>
                  </a:lnTo>
                  <a:lnTo>
                    <a:pt x="360" y="64"/>
                  </a:lnTo>
                  <a:lnTo>
                    <a:pt x="361" y="73"/>
                  </a:lnTo>
                  <a:lnTo>
                    <a:pt x="361" y="81"/>
                  </a:lnTo>
                  <a:lnTo>
                    <a:pt x="361" y="90"/>
                  </a:lnTo>
                  <a:lnTo>
                    <a:pt x="361" y="98"/>
                  </a:lnTo>
                  <a:lnTo>
                    <a:pt x="360" y="110"/>
                  </a:lnTo>
                  <a:lnTo>
                    <a:pt x="360" y="121"/>
                  </a:lnTo>
                  <a:lnTo>
                    <a:pt x="359" y="133"/>
                  </a:lnTo>
                  <a:lnTo>
                    <a:pt x="359" y="145"/>
                  </a:lnTo>
                  <a:lnTo>
                    <a:pt x="360" y="157"/>
                  </a:lnTo>
                  <a:lnTo>
                    <a:pt x="361" y="164"/>
                  </a:lnTo>
                  <a:lnTo>
                    <a:pt x="363" y="171"/>
                  </a:lnTo>
                  <a:lnTo>
                    <a:pt x="365" y="176"/>
                  </a:lnTo>
                  <a:lnTo>
                    <a:pt x="369" y="183"/>
                  </a:lnTo>
                  <a:lnTo>
                    <a:pt x="374" y="181"/>
                  </a:lnTo>
                  <a:lnTo>
                    <a:pt x="380" y="179"/>
                  </a:lnTo>
                  <a:lnTo>
                    <a:pt x="384" y="177"/>
                  </a:lnTo>
                  <a:lnTo>
                    <a:pt x="389" y="175"/>
                  </a:lnTo>
                  <a:lnTo>
                    <a:pt x="395" y="168"/>
                  </a:lnTo>
                  <a:lnTo>
                    <a:pt x="401" y="162"/>
                  </a:lnTo>
                  <a:lnTo>
                    <a:pt x="404" y="154"/>
                  </a:lnTo>
                  <a:lnTo>
                    <a:pt x="405" y="145"/>
                  </a:lnTo>
                  <a:lnTo>
                    <a:pt x="407" y="135"/>
                  </a:lnTo>
                  <a:lnTo>
                    <a:pt x="407" y="125"/>
                  </a:lnTo>
                  <a:lnTo>
                    <a:pt x="404" y="104"/>
                  </a:lnTo>
                  <a:lnTo>
                    <a:pt x="402" y="82"/>
                  </a:lnTo>
                  <a:lnTo>
                    <a:pt x="401" y="72"/>
                  </a:lnTo>
                  <a:lnTo>
                    <a:pt x="401" y="62"/>
                  </a:lnTo>
                  <a:lnTo>
                    <a:pt x="401" y="52"/>
                  </a:lnTo>
                  <a:lnTo>
                    <a:pt x="403" y="43"/>
                  </a:lnTo>
                  <a:lnTo>
                    <a:pt x="410" y="35"/>
                  </a:lnTo>
                  <a:lnTo>
                    <a:pt x="415" y="27"/>
                  </a:lnTo>
                  <a:lnTo>
                    <a:pt x="422" y="22"/>
                  </a:lnTo>
                  <a:lnTo>
                    <a:pt x="430" y="16"/>
                  </a:lnTo>
                  <a:lnTo>
                    <a:pt x="437" y="11"/>
                  </a:lnTo>
                  <a:lnTo>
                    <a:pt x="444" y="7"/>
                  </a:lnTo>
                  <a:lnTo>
                    <a:pt x="451" y="4"/>
                  </a:lnTo>
                  <a:lnTo>
                    <a:pt x="458" y="2"/>
                  </a:lnTo>
                  <a:lnTo>
                    <a:pt x="465" y="0"/>
                  </a:lnTo>
                  <a:lnTo>
                    <a:pt x="472" y="0"/>
                  </a:lnTo>
                  <a:lnTo>
                    <a:pt x="479" y="0"/>
                  </a:lnTo>
                  <a:lnTo>
                    <a:pt x="484" y="1"/>
                  </a:lnTo>
                  <a:lnTo>
                    <a:pt x="490" y="3"/>
                  </a:lnTo>
                  <a:lnTo>
                    <a:pt x="495" y="6"/>
                  </a:lnTo>
                  <a:lnTo>
                    <a:pt x="500" y="10"/>
                  </a:lnTo>
                  <a:lnTo>
                    <a:pt x="503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4487760" y="4270320"/>
              <a:ext cx="31680" cy="39960"/>
            </a:xfrm>
            <a:custGeom>
              <a:avLst/>
              <a:gdLst/>
              <a:ahLst/>
              <a:rect l="l" t="t" r="r" b="b"/>
              <a:pathLst>
                <a:path w="98" h="125">
                  <a:moveTo>
                    <a:pt x="96" y="69"/>
                  </a:moveTo>
                  <a:lnTo>
                    <a:pt x="98" y="75"/>
                  </a:lnTo>
                  <a:lnTo>
                    <a:pt x="98" y="80"/>
                  </a:lnTo>
                  <a:lnTo>
                    <a:pt x="96" y="86"/>
                  </a:lnTo>
                  <a:lnTo>
                    <a:pt x="95" y="90"/>
                  </a:lnTo>
                  <a:lnTo>
                    <a:pt x="93" y="96"/>
                  </a:lnTo>
                  <a:lnTo>
                    <a:pt x="90" y="101"/>
                  </a:lnTo>
                  <a:lnTo>
                    <a:pt x="86" y="106"/>
                  </a:lnTo>
                  <a:lnTo>
                    <a:pt x="82" y="110"/>
                  </a:lnTo>
                  <a:lnTo>
                    <a:pt x="76" y="115"/>
                  </a:lnTo>
                  <a:lnTo>
                    <a:pt x="71" y="118"/>
                  </a:lnTo>
                  <a:lnTo>
                    <a:pt x="65" y="120"/>
                  </a:lnTo>
                  <a:lnTo>
                    <a:pt x="59" y="123"/>
                  </a:lnTo>
                  <a:lnTo>
                    <a:pt x="51" y="125"/>
                  </a:lnTo>
                  <a:lnTo>
                    <a:pt x="44" y="125"/>
                  </a:lnTo>
                  <a:lnTo>
                    <a:pt x="36" y="125"/>
                  </a:lnTo>
                  <a:lnTo>
                    <a:pt x="28" y="124"/>
                  </a:lnTo>
                  <a:lnTo>
                    <a:pt x="21" y="115"/>
                  </a:lnTo>
                  <a:lnTo>
                    <a:pt x="14" y="104"/>
                  </a:lnTo>
                  <a:lnTo>
                    <a:pt x="8" y="90"/>
                  </a:lnTo>
                  <a:lnTo>
                    <a:pt x="3" y="76"/>
                  </a:lnTo>
                  <a:lnTo>
                    <a:pt x="2" y="68"/>
                  </a:lnTo>
                  <a:lnTo>
                    <a:pt x="1" y="60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5" y="25"/>
                  </a:lnTo>
                  <a:lnTo>
                    <a:pt x="9" y="18"/>
                  </a:lnTo>
                  <a:lnTo>
                    <a:pt x="11" y="15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19" y="6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59" y="6"/>
                  </a:lnTo>
                  <a:lnTo>
                    <a:pt x="65" y="13"/>
                  </a:lnTo>
                  <a:lnTo>
                    <a:pt x="72" y="19"/>
                  </a:lnTo>
                  <a:lnTo>
                    <a:pt x="78" y="27"/>
                  </a:lnTo>
                  <a:lnTo>
                    <a:pt x="83" y="35"/>
                  </a:lnTo>
                  <a:lnTo>
                    <a:pt x="88" y="43"/>
                  </a:lnTo>
                  <a:lnTo>
                    <a:pt x="91" y="51"/>
                  </a:lnTo>
                  <a:lnTo>
                    <a:pt x="94" y="60"/>
                  </a:lnTo>
                  <a:lnTo>
                    <a:pt x="96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4530600" y="4429080"/>
              <a:ext cx="198720" cy="123840"/>
            </a:xfrm>
            <a:custGeom>
              <a:avLst/>
              <a:gdLst/>
              <a:ahLst/>
              <a:rect l="l" t="t" r="r" b="b"/>
              <a:pathLst>
                <a:path w="622" h="389">
                  <a:moveTo>
                    <a:pt x="452" y="99"/>
                  </a:moveTo>
                  <a:lnTo>
                    <a:pt x="457" y="90"/>
                  </a:lnTo>
                  <a:lnTo>
                    <a:pt x="461" y="82"/>
                  </a:lnTo>
                  <a:lnTo>
                    <a:pt x="467" y="76"/>
                  </a:lnTo>
                  <a:lnTo>
                    <a:pt x="471" y="71"/>
                  </a:lnTo>
                  <a:lnTo>
                    <a:pt x="477" y="68"/>
                  </a:lnTo>
                  <a:lnTo>
                    <a:pt x="481" y="64"/>
                  </a:lnTo>
                  <a:lnTo>
                    <a:pt x="487" y="62"/>
                  </a:lnTo>
                  <a:lnTo>
                    <a:pt x="492" y="62"/>
                  </a:lnTo>
                  <a:lnTo>
                    <a:pt x="498" y="61"/>
                  </a:lnTo>
                  <a:lnTo>
                    <a:pt x="502" y="62"/>
                  </a:lnTo>
                  <a:lnTo>
                    <a:pt x="508" y="62"/>
                  </a:lnTo>
                  <a:lnTo>
                    <a:pt x="513" y="64"/>
                  </a:lnTo>
                  <a:lnTo>
                    <a:pt x="523" y="68"/>
                  </a:lnTo>
                  <a:lnTo>
                    <a:pt x="534" y="73"/>
                  </a:lnTo>
                  <a:lnTo>
                    <a:pt x="544" y="79"/>
                  </a:lnTo>
                  <a:lnTo>
                    <a:pt x="554" y="83"/>
                  </a:lnTo>
                  <a:lnTo>
                    <a:pt x="563" y="86"/>
                  </a:lnTo>
                  <a:lnTo>
                    <a:pt x="572" y="89"/>
                  </a:lnTo>
                  <a:lnTo>
                    <a:pt x="576" y="89"/>
                  </a:lnTo>
                  <a:lnTo>
                    <a:pt x="580" y="87"/>
                  </a:lnTo>
                  <a:lnTo>
                    <a:pt x="583" y="86"/>
                  </a:lnTo>
                  <a:lnTo>
                    <a:pt x="587" y="84"/>
                  </a:lnTo>
                  <a:lnTo>
                    <a:pt x="590" y="80"/>
                  </a:lnTo>
                  <a:lnTo>
                    <a:pt x="592" y="75"/>
                  </a:lnTo>
                  <a:lnTo>
                    <a:pt x="596" y="70"/>
                  </a:lnTo>
                  <a:lnTo>
                    <a:pt x="598" y="63"/>
                  </a:lnTo>
                  <a:lnTo>
                    <a:pt x="601" y="66"/>
                  </a:lnTo>
                  <a:lnTo>
                    <a:pt x="604" y="71"/>
                  </a:lnTo>
                  <a:lnTo>
                    <a:pt x="608" y="78"/>
                  </a:lnTo>
                  <a:lnTo>
                    <a:pt x="611" y="84"/>
                  </a:lnTo>
                  <a:lnTo>
                    <a:pt x="617" y="101"/>
                  </a:lnTo>
                  <a:lnTo>
                    <a:pt x="620" y="120"/>
                  </a:lnTo>
                  <a:lnTo>
                    <a:pt x="622" y="139"/>
                  </a:lnTo>
                  <a:lnTo>
                    <a:pt x="622" y="156"/>
                  </a:lnTo>
                  <a:lnTo>
                    <a:pt x="621" y="165"/>
                  </a:lnTo>
                  <a:lnTo>
                    <a:pt x="620" y="172"/>
                  </a:lnTo>
                  <a:lnTo>
                    <a:pt x="618" y="177"/>
                  </a:lnTo>
                  <a:lnTo>
                    <a:pt x="614" y="182"/>
                  </a:lnTo>
                  <a:lnTo>
                    <a:pt x="607" y="194"/>
                  </a:lnTo>
                  <a:lnTo>
                    <a:pt x="599" y="205"/>
                  </a:lnTo>
                  <a:lnTo>
                    <a:pt x="590" y="217"/>
                  </a:lnTo>
                  <a:lnTo>
                    <a:pt x="581" y="228"/>
                  </a:lnTo>
                  <a:lnTo>
                    <a:pt x="560" y="252"/>
                  </a:lnTo>
                  <a:lnTo>
                    <a:pt x="538" y="273"/>
                  </a:lnTo>
                  <a:lnTo>
                    <a:pt x="513" y="294"/>
                  </a:lnTo>
                  <a:lnTo>
                    <a:pt x="488" y="313"/>
                  </a:lnTo>
                  <a:lnTo>
                    <a:pt x="461" y="332"/>
                  </a:lnTo>
                  <a:lnTo>
                    <a:pt x="436" y="347"/>
                  </a:lnTo>
                  <a:lnTo>
                    <a:pt x="409" y="361"/>
                  </a:lnTo>
                  <a:lnTo>
                    <a:pt x="383" y="373"/>
                  </a:lnTo>
                  <a:lnTo>
                    <a:pt x="370" y="377"/>
                  </a:lnTo>
                  <a:lnTo>
                    <a:pt x="358" y="382"/>
                  </a:lnTo>
                  <a:lnTo>
                    <a:pt x="346" y="385"/>
                  </a:lnTo>
                  <a:lnTo>
                    <a:pt x="335" y="387"/>
                  </a:lnTo>
                  <a:lnTo>
                    <a:pt x="323" y="388"/>
                  </a:lnTo>
                  <a:lnTo>
                    <a:pt x="312" y="389"/>
                  </a:lnTo>
                  <a:lnTo>
                    <a:pt x="302" y="389"/>
                  </a:lnTo>
                  <a:lnTo>
                    <a:pt x="293" y="388"/>
                  </a:lnTo>
                  <a:lnTo>
                    <a:pt x="285" y="387"/>
                  </a:lnTo>
                  <a:lnTo>
                    <a:pt x="276" y="384"/>
                  </a:lnTo>
                  <a:lnTo>
                    <a:pt x="269" y="381"/>
                  </a:lnTo>
                  <a:lnTo>
                    <a:pt x="262" y="375"/>
                  </a:lnTo>
                  <a:lnTo>
                    <a:pt x="256" y="372"/>
                  </a:lnTo>
                  <a:lnTo>
                    <a:pt x="239" y="363"/>
                  </a:lnTo>
                  <a:lnTo>
                    <a:pt x="227" y="357"/>
                  </a:lnTo>
                  <a:lnTo>
                    <a:pt x="212" y="351"/>
                  </a:lnTo>
                  <a:lnTo>
                    <a:pt x="197" y="345"/>
                  </a:lnTo>
                  <a:lnTo>
                    <a:pt x="179" y="341"/>
                  </a:lnTo>
                  <a:lnTo>
                    <a:pt x="159" y="336"/>
                  </a:lnTo>
                  <a:lnTo>
                    <a:pt x="139" y="333"/>
                  </a:lnTo>
                  <a:lnTo>
                    <a:pt x="117" y="332"/>
                  </a:lnTo>
                  <a:lnTo>
                    <a:pt x="95" y="332"/>
                  </a:lnTo>
                  <a:lnTo>
                    <a:pt x="84" y="333"/>
                  </a:lnTo>
                  <a:lnTo>
                    <a:pt x="71" y="335"/>
                  </a:lnTo>
                  <a:lnTo>
                    <a:pt x="60" y="337"/>
                  </a:lnTo>
                  <a:lnTo>
                    <a:pt x="48" y="341"/>
                  </a:lnTo>
                  <a:lnTo>
                    <a:pt x="36" y="345"/>
                  </a:lnTo>
                  <a:lnTo>
                    <a:pt x="25" y="349"/>
                  </a:lnTo>
                  <a:lnTo>
                    <a:pt x="13" y="356"/>
                  </a:lnTo>
                  <a:lnTo>
                    <a:pt x="0" y="363"/>
                  </a:lnTo>
                  <a:lnTo>
                    <a:pt x="4" y="354"/>
                  </a:lnTo>
                  <a:lnTo>
                    <a:pt x="7" y="345"/>
                  </a:lnTo>
                  <a:lnTo>
                    <a:pt x="9" y="335"/>
                  </a:lnTo>
                  <a:lnTo>
                    <a:pt x="11" y="323"/>
                  </a:lnTo>
                  <a:lnTo>
                    <a:pt x="15" y="300"/>
                  </a:lnTo>
                  <a:lnTo>
                    <a:pt x="18" y="274"/>
                  </a:lnTo>
                  <a:lnTo>
                    <a:pt x="21" y="263"/>
                  </a:lnTo>
                  <a:lnTo>
                    <a:pt x="24" y="252"/>
                  </a:lnTo>
                  <a:lnTo>
                    <a:pt x="28" y="242"/>
                  </a:lnTo>
                  <a:lnTo>
                    <a:pt x="32" y="233"/>
                  </a:lnTo>
                  <a:lnTo>
                    <a:pt x="38" y="225"/>
                  </a:lnTo>
                  <a:lnTo>
                    <a:pt x="46" y="220"/>
                  </a:lnTo>
                  <a:lnTo>
                    <a:pt x="49" y="217"/>
                  </a:lnTo>
                  <a:lnTo>
                    <a:pt x="54" y="216"/>
                  </a:lnTo>
                  <a:lnTo>
                    <a:pt x="59" y="215"/>
                  </a:lnTo>
                  <a:lnTo>
                    <a:pt x="64" y="215"/>
                  </a:lnTo>
                  <a:lnTo>
                    <a:pt x="70" y="217"/>
                  </a:lnTo>
                  <a:lnTo>
                    <a:pt x="76" y="218"/>
                  </a:lnTo>
                  <a:lnTo>
                    <a:pt x="80" y="218"/>
                  </a:lnTo>
                  <a:lnTo>
                    <a:pt x="85" y="217"/>
                  </a:lnTo>
                  <a:lnTo>
                    <a:pt x="89" y="216"/>
                  </a:lnTo>
                  <a:lnTo>
                    <a:pt x="92" y="214"/>
                  </a:lnTo>
                  <a:lnTo>
                    <a:pt x="96" y="211"/>
                  </a:lnTo>
                  <a:lnTo>
                    <a:pt x="98" y="206"/>
                  </a:lnTo>
                  <a:lnTo>
                    <a:pt x="102" y="197"/>
                  </a:lnTo>
                  <a:lnTo>
                    <a:pt x="106" y="186"/>
                  </a:lnTo>
                  <a:lnTo>
                    <a:pt x="109" y="173"/>
                  </a:lnTo>
                  <a:lnTo>
                    <a:pt x="112" y="160"/>
                  </a:lnTo>
                  <a:lnTo>
                    <a:pt x="115" y="145"/>
                  </a:lnTo>
                  <a:lnTo>
                    <a:pt x="119" y="132"/>
                  </a:lnTo>
                  <a:lnTo>
                    <a:pt x="124" y="119"/>
                  </a:lnTo>
                  <a:lnTo>
                    <a:pt x="129" y="106"/>
                  </a:lnTo>
                  <a:lnTo>
                    <a:pt x="132" y="101"/>
                  </a:lnTo>
                  <a:lnTo>
                    <a:pt x="136" y="96"/>
                  </a:lnTo>
                  <a:lnTo>
                    <a:pt x="140" y="92"/>
                  </a:lnTo>
                  <a:lnTo>
                    <a:pt x="145" y="89"/>
                  </a:lnTo>
                  <a:lnTo>
                    <a:pt x="150" y="86"/>
                  </a:lnTo>
                  <a:lnTo>
                    <a:pt x="156" y="84"/>
                  </a:lnTo>
                  <a:lnTo>
                    <a:pt x="162" y="83"/>
                  </a:lnTo>
                  <a:lnTo>
                    <a:pt x="170" y="83"/>
                  </a:lnTo>
                  <a:lnTo>
                    <a:pt x="178" y="89"/>
                  </a:lnTo>
                  <a:lnTo>
                    <a:pt x="185" y="93"/>
                  </a:lnTo>
                  <a:lnTo>
                    <a:pt x="191" y="96"/>
                  </a:lnTo>
                  <a:lnTo>
                    <a:pt x="198" y="97"/>
                  </a:lnTo>
                  <a:lnTo>
                    <a:pt x="205" y="99"/>
                  </a:lnTo>
                  <a:lnTo>
                    <a:pt x="211" y="99"/>
                  </a:lnTo>
                  <a:lnTo>
                    <a:pt x="217" y="97"/>
                  </a:lnTo>
                  <a:lnTo>
                    <a:pt x="222" y="95"/>
                  </a:lnTo>
                  <a:lnTo>
                    <a:pt x="229" y="93"/>
                  </a:lnTo>
                  <a:lnTo>
                    <a:pt x="235" y="90"/>
                  </a:lnTo>
                  <a:lnTo>
                    <a:pt x="240" y="85"/>
                  </a:lnTo>
                  <a:lnTo>
                    <a:pt x="245" y="81"/>
                  </a:lnTo>
                  <a:lnTo>
                    <a:pt x="256" y="70"/>
                  </a:lnTo>
                  <a:lnTo>
                    <a:pt x="266" y="59"/>
                  </a:lnTo>
                  <a:lnTo>
                    <a:pt x="277" y="46"/>
                  </a:lnTo>
                  <a:lnTo>
                    <a:pt x="288" y="34"/>
                  </a:lnTo>
                  <a:lnTo>
                    <a:pt x="299" y="23"/>
                  </a:lnTo>
                  <a:lnTo>
                    <a:pt x="311" y="14"/>
                  </a:lnTo>
                  <a:lnTo>
                    <a:pt x="317" y="10"/>
                  </a:lnTo>
                  <a:lnTo>
                    <a:pt x="323" y="6"/>
                  </a:lnTo>
                  <a:lnTo>
                    <a:pt x="330" y="3"/>
                  </a:lnTo>
                  <a:lnTo>
                    <a:pt x="338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60" y="1"/>
                  </a:lnTo>
                  <a:lnTo>
                    <a:pt x="368" y="2"/>
                  </a:lnTo>
                  <a:lnTo>
                    <a:pt x="369" y="20"/>
                  </a:lnTo>
                  <a:lnTo>
                    <a:pt x="372" y="36"/>
                  </a:lnTo>
                  <a:lnTo>
                    <a:pt x="375" y="44"/>
                  </a:lnTo>
                  <a:lnTo>
                    <a:pt x="378" y="53"/>
                  </a:lnTo>
                  <a:lnTo>
                    <a:pt x="381" y="60"/>
                  </a:lnTo>
                  <a:lnTo>
                    <a:pt x="386" y="68"/>
                  </a:lnTo>
                  <a:lnTo>
                    <a:pt x="391" y="74"/>
                  </a:lnTo>
                  <a:lnTo>
                    <a:pt x="397" y="80"/>
                  </a:lnTo>
                  <a:lnTo>
                    <a:pt x="403" y="85"/>
                  </a:lnTo>
                  <a:lnTo>
                    <a:pt x="411" y="90"/>
                  </a:lnTo>
                  <a:lnTo>
                    <a:pt x="420" y="93"/>
                  </a:lnTo>
                  <a:lnTo>
                    <a:pt x="430" y="96"/>
                  </a:lnTo>
                  <a:lnTo>
                    <a:pt x="440" y="97"/>
                  </a:lnTo>
                  <a:lnTo>
                    <a:pt x="452" y="99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4668840" y="4664160"/>
              <a:ext cx="109440" cy="147600"/>
            </a:xfrm>
            <a:custGeom>
              <a:avLst/>
              <a:gdLst/>
              <a:ahLst/>
              <a:rect l="l" t="t" r="r" b="b"/>
              <a:pathLst>
                <a:path w="345" h="467">
                  <a:moveTo>
                    <a:pt x="329" y="0"/>
                  </a:moveTo>
                  <a:lnTo>
                    <a:pt x="335" y="4"/>
                  </a:lnTo>
                  <a:lnTo>
                    <a:pt x="339" y="8"/>
                  </a:lnTo>
                  <a:lnTo>
                    <a:pt x="343" y="11"/>
                  </a:lnTo>
                  <a:lnTo>
                    <a:pt x="344" y="16"/>
                  </a:lnTo>
                  <a:lnTo>
                    <a:pt x="345" y="20"/>
                  </a:lnTo>
                  <a:lnTo>
                    <a:pt x="344" y="25"/>
                  </a:lnTo>
                  <a:lnTo>
                    <a:pt x="343" y="29"/>
                  </a:lnTo>
                  <a:lnTo>
                    <a:pt x="339" y="33"/>
                  </a:lnTo>
                  <a:lnTo>
                    <a:pt x="332" y="43"/>
                  </a:lnTo>
                  <a:lnTo>
                    <a:pt x="320" y="53"/>
                  </a:lnTo>
                  <a:lnTo>
                    <a:pt x="307" y="65"/>
                  </a:lnTo>
                  <a:lnTo>
                    <a:pt x="292" y="77"/>
                  </a:lnTo>
                  <a:lnTo>
                    <a:pt x="258" y="102"/>
                  </a:lnTo>
                  <a:lnTo>
                    <a:pt x="224" y="130"/>
                  </a:lnTo>
                  <a:lnTo>
                    <a:pt x="207" y="146"/>
                  </a:lnTo>
                  <a:lnTo>
                    <a:pt x="193" y="161"/>
                  </a:lnTo>
                  <a:lnTo>
                    <a:pt x="186" y="170"/>
                  </a:lnTo>
                  <a:lnTo>
                    <a:pt x="181" y="178"/>
                  </a:lnTo>
                  <a:lnTo>
                    <a:pt x="176" y="187"/>
                  </a:lnTo>
                  <a:lnTo>
                    <a:pt x="172" y="196"/>
                  </a:lnTo>
                  <a:lnTo>
                    <a:pt x="154" y="226"/>
                  </a:lnTo>
                  <a:lnTo>
                    <a:pt x="138" y="255"/>
                  </a:lnTo>
                  <a:lnTo>
                    <a:pt x="125" y="285"/>
                  </a:lnTo>
                  <a:lnTo>
                    <a:pt x="112" y="318"/>
                  </a:lnTo>
                  <a:lnTo>
                    <a:pt x="101" y="351"/>
                  </a:lnTo>
                  <a:lnTo>
                    <a:pt x="91" y="386"/>
                  </a:lnTo>
                  <a:lnTo>
                    <a:pt x="82" y="425"/>
                  </a:lnTo>
                  <a:lnTo>
                    <a:pt x="73" y="467"/>
                  </a:lnTo>
                  <a:lnTo>
                    <a:pt x="65" y="449"/>
                  </a:lnTo>
                  <a:lnTo>
                    <a:pt x="56" y="434"/>
                  </a:lnTo>
                  <a:lnTo>
                    <a:pt x="49" y="423"/>
                  </a:lnTo>
                  <a:lnTo>
                    <a:pt x="43" y="416"/>
                  </a:lnTo>
                  <a:lnTo>
                    <a:pt x="37" y="411"/>
                  </a:lnTo>
                  <a:lnTo>
                    <a:pt x="32" y="409"/>
                  </a:lnTo>
                  <a:lnTo>
                    <a:pt x="27" y="408"/>
                  </a:lnTo>
                  <a:lnTo>
                    <a:pt x="23" y="409"/>
                  </a:lnTo>
                  <a:lnTo>
                    <a:pt x="19" y="409"/>
                  </a:lnTo>
                  <a:lnTo>
                    <a:pt x="16" y="410"/>
                  </a:lnTo>
                  <a:lnTo>
                    <a:pt x="13" y="410"/>
                  </a:lnTo>
                  <a:lnTo>
                    <a:pt x="10" y="409"/>
                  </a:lnTo>
                  <a:lnTo>
                    <a:pt x="7" y="405"/>
                  </a:lnTo>
                  <a:lnTo>
                    <a:pt x="4" y="400"/>
                  </a:lnTo>
                  <a:lnTo>
                    <a:pt x="2" y="392"/>
                  </a:lnTo>
                  <a:lnTo>
                    <a:pt x="0" y="381"/>
                  </a:lnTo>
                  <a:lnTo>
                    <a:pt x="11" y="351"/>
                  </a:lnTo>
                  <a:lnTo>
                    <a:pt x="22" y="320"/>
                  </a:lnTo>
                  <a:lnTo>
                    <a:pt x="34" y="290"/>
                  </a:lnTo>
                  <a:lnTo>
                    <a:pt x="47" y="259"/>
                  </a:lnTo>
                  <a:lnTo>
                    <a:pt x="62" y="229"/>
                  </a:lnTo>
                  <a:lnTo>
                    <a:pt x="77" y="199"/>
                  </a:lnTo>
                  <a:lnTo>
                    <a:pt x="94" y="171"/>
                  </a:lnTo>
                  <a:lnTo>
                    <a:pt x="112" y="143"/>
                  </a:lnTo>
                  <a:lnTo>
                    <a:pt x="122" y="130"/>
                  </a:lnTo>
                  <a:lnTo>
                    <a:pt x="132" y="118"/>
                  </a:lnTo>
                  <a:lnTo>
                    <a:pt x="143" y="106"/>
                  </a:lnTo>
                  <a:lnTo>
                    <a:pt x="153" y="93"/>
                  </a:lnTo>
                  <a:lnTo>
                    <a:pt x="165" y="82"/>
                  </a:lnTo>
                  <a:lnTo>
                    <a:pt x="177" y="71"/>
                  </a:lnTo>
                  <a:lnTo>
                    <a:pt x="189" y="61"/>
                  </a:lnTo>
                  <a:lnTo>
                    <a:pt x="203" y="51"/>
                  </a:lnTo>
                  <a:lnTo>
                    <a:pt x="216" y="42"/>
                  </a:lnTo>
                  <a:lnTo>
                    <a:pt x="231" y="35"/>
                  </a:lnTo>
                  <a:lnTo>
                    <a:pt x="245" y="27"/>
                  </a:lnTo>
                  <a:lnTo>
                    <a:pt x="260" y="20"/>
                  </a:lnTo>
                  <a:lnTo>
                    <a:pt x="277" y="13"/>
                  </a:lnTo>
                  <a:lnTo>
                    <a:pt x="294" y="8"/>
                  </a:lnTo>
                  <a:lnTo>
                    <a:pt x="312" y="4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4906800" y="4845240"/>
              <a:ext cx="201600" cy="117360"/>
            </a:xfrm>
            <a:custGeom>
              <a:avLst/>
              <a:gdLst/>
              <a:ahLst/>
              <a:rect l="l" t="t" r="r" b="b"/>
              <a:pathLst>
                <a:path w="633" h="369">
                  <a:moveTo>
                    <a:pt x="633" y="0"/>
                  </a:moveTo>
                  <a:lnTo>
                    <a:pt x="618" y="19"/>
                  </a:lnTo>
                  <a:lnTo>
                    <a:pt x="600" y="39"/>
                  </a:lnTo>
                  <a:lnTo>
                    <a:pt x="580" y="59"/>
                  </a:lnTo>
                  <a:lnTo>
                    <a:pt x="558" y="79"/>
                  </a:lnTo>
                  <a:lnTo>
                    <a:pt x="511" y="123"/>
                  </a:lnTo>
                  <a:lnTo>
                    <a:pt x="462" y="168"/>
                  </a:lnTo>
                  <a:lnTo>
                    <a:pt x="438" y="192"/>
                  </a:lnTo>
                  <a:lnTo>
                    <a:pt x="413" y="216"/>
                  </a:lnTo>
                  <a:lnTo>
                    <a:pt x="389" y="241"/>
                  </a:lnTo>
                  <a:lnTo>
                    <a:pt x="367" y="266"/>
                  </a:lnTo>
                  <a:lnTo>
                    <a:pt x="345" y="292"/>
                  </a:lnTo>
                  <a:lnTo>
                    <a:pt x="325" y="317"/>
                  </a:lnTo>
                  <a:lnTo>
                    <a:pt x="307" y="343"/>
                  </a:lnTo>
                  <a:lnTo>
                    <a:pt x="290" y="369"/>
                  </a:lnTo>
                  <a:lnTo>
                    <a:pt x="257" y="352"/>
                  </a:lnTo>
                  <a:lnTo>
                    <a:pt x="221" y="335"/>
                  </a:lnTo>
                  <a:lnTo>
                    <a:pt x="186" y="321"/>
                  </a:lnTo>
                  <a:lnTo>
                    <a:pt x="149" y="307"/>
                  </a:lnTo>
                  <a:lnTo>
                    <a:pt x="112" y="295"/>
                  </a:lnTo>
                  <a:lnTo>
                    <a:pt x="76" y="285"/>
                  </a:lnTo>
                  <a:lnTo>
                    <a:pt x="38" y="275"/>
                  </a:lnTo>
                  <a:lnTo>
                    <a:pt x="0" y="267"/>
                  </a:lnTo>
                  <a:lnTo>
                    <a:pt x="10" y="257"/>
                  </a:lnTo>
                  <a:lnTo>
                    <a:pt x="21" y="248"/>
                  </a:lnTo>
                  <a:lnTo>
                    <a:pt x="35" y="238"/>
                  </a:lnTo>
                  <a:lnTo>
                    <a:pt x="50" y="228"/>
                  </a:lnTo>
                  <a:lnTo>
                    <a:pt x="85" y="208"/>
                  </a:lnTo>
                  <a:lnTo>
                    <a:pt x="126" y="187"/>
                  </a:lnTo>
                  <a:lnTo>
                    <a:pt x="169" y="165"/>
                  </a:lnTo>
                  <a:lnTo>
                    <a:pt x="217" y="144"/>
                  </a:lnTo>
                  <a:lnTo>
                    <a:pt x="267" y="124"/>
                  </a:lnTo>
                  <a:lnTo>
                    <a:pt x="317" y="103"/>
                  </a:lnTo>
                  <a:lnTo>
                    <a:pt x="368" y="84"/>
                  </a:lnTo>
                  <a:lnTo>
                    <a:pt x="417" y="66"/>
                  </a:lnTo>
                  <a:lnTo>
                    <a:pt x="464" y="50"/>
                  </a:lnTo>
                  <a:lnTo>
                    <a:pt x="509" y="35"/>
                  </a:lnTo>
                  <a:lnTo>
                    <a:pt x="549" y="22"/>
                  </a:lnTo>
                  <a:lnTo>
                    <a:pt x="584" y="12"/>
                  </a:lnTo>
                  <a:lnTo>
                    <a:pt x="612" y="4"/>
                  </a:lnTo>
                  <a:lnTo>
                    <a:pt x="633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5156280" y="4548240"/>
              <a:ext cx="590400" cy="135000"/>
            </a:xfrm>
            <a:custGeom>
              <a:avLst/>
              <a:gdLst/>
              <a:ahLst/>
              <a:rect l="l" t="t" r="r" b="b"/>
              <a:pathLst>
                <a:path w="1858" h="426">
                  <a:moveTo>
                    <a:pt x="1196" y="213"/>
                  </a:moveTo>
                  <a:lnTo>
                    <a:pt x="1206" y="207"/>
                  </a:lnTo>
                  <a:lnTo>
                    <a:pt x="1215" y="201"/>
                  </a:lnTo>
                  <a:lnTo>
                    <a:pt x="1223" y="192"/>
                  </a:lnTo>
                  <a:lnTo>
                    <a:pt x="1230" y="184"/>
                  </a:lnTo>
                  <a:lnTo>
                    <a:pt x="1242" y="165"/>
                  </a:lnTo>
                  <a:lnTo>
                    <a:pt x="1253" y="147"/>
                  </a:lnTo>
                  <a:lnTo>
                    <a:pt x="1260" y="139"/>
                  </a:lnTo>
                  <a:lnTo>
                    <a:pt x="1265" y="131"/>
                  </a:lnTo>
                  <a:lnTo>
                    <a:pt x="1273" y="124"/>
                  </a:lnTo>
                  <a:lnTo>
                    <a:pt x="1281" y="119"/>
                  </a:lnTo>
                  <a:lnTo>
                    <a:pt x="1290" y="114"/>
                  </a:lnTo>
                  <a:lnTo>
                    <a:pt x="1300" y="111"/>
                  </a:lnTo>
                  <a:lnTo>
                    <a:pt x="1311" y="110"/>
                  </a:lnTo>
                  <a:lnTo>
                    <a:pt x="1324" y="111"/>
                  </a:lnTo>
                  <a:lnTo>
                    <a:pt x="1332" y="124"/>
                  </a:lnTo>
                  <a:lnTo>
                    <a:pt x="1339" y="136"/>
                  </a:lnTo>
                  <a:lnTo>
                    <a:pt x="1346" y="147"/>
                  </a:lnTo>
                  <a:lnTo>
                    <a:pt x="1354" y="156"/>
                  </a:lnTo>
                  <a:lnTo>
                    <a:pt x="1357" y="161"/>
                  </a:lnTo>
                  <a:lnTo>
                    <a:pt x="1362" y="164"/>
                  </a:lnTo>
                  <a:lnTo>
                    <a:pt x="1367" y="167"/>
                  </a:lnTo>
                  <a:lnTo>
                    <a:pt x="1373" y="170"/>
                  </a:lnTo>
                  <a:lnTo>
                    <a:pt x="1379" y="172"/>
                  </a:lnTo>
                  <a:lnTo>
                    <a:pt x="1385" y="173"/>
                  </a:lnTo>
                  <a:lnTo>
                    <a:pt x="1392" y="174"/>
                  </a:lnTo>
                  <a:lnTo>
                    <a:pt x="1400" y="174"/>
                  </a:lnTo>
                  <a:lnTo>
                    <a:pt x="1410" y="165"/>
                  </a:lnTo>
                  <a:lnTo>
                    <a:pt x="1417" y="157"/>
                  </a:lnTo>
                  <a:lnTo>
                    <a:pt x="1424" y="151"/>
                  </a:lnTo>
                  <a:lnTo>
                    <a:pt x="1431" y="144"/>
                  </a:lnTo>
                  <a:lnTo>
                    <a:pt x="1436" y="137"/>
                  </a:lnTo>
                  <a:lnTo>
                    <a:pt x="1444" y="133"/>
                  </a:lnTo>
                  <a:lnTo>
                    <a:pt x="1453" y="129"/>
                  </a:lnTo>
                  <a:lnTo>
                    <a:pt x="1464" y="124"/>
                  </a:lnTo>
                  <a:lnTo>
                    <a:pt x="1465" y="130"/>
                  </a:lnTo>
                  <a:lnTo>
                    <a:pt x="1471" y="146"/>
                  </a:lnTo>
                  <a:lnTo>
                    <a:pt x="1479" y="168"/>
                  </a:lnTo>
                  <a:lnTo>
                    <a:pt x="1491" y="193"/>
                  </a:lnTo>
                  <a:lnTo>
                    <a:pt x="1497" y="205"/>
                  </a:lnTo>
                  <a:lnTo>
                    <a:pt x="1505" y="217"/>
                  </a:lnTo>
                  <a:lnTo>
                    <a:pt x="1513" y="228"/>
                  </a:lnTo>
                  <a:lnTo>
                    <a:pt x="1522" y="237"/>
                  </a:lnTo>
                  <a:lnTo>
                    <a:pt x="1526" y="242"/>
                  </a:lnTo>
                  <a:lnTo>
                    <a:pt x="1532" y="245"/>
                  </a:lnTo>
                  <a:lnTo>
                    <a:pt x="1536" y="247"/>
                  </a:lnTo>
                  <a:lnTo>
                    <a:pt x="1542" y="250"/>
                  </a:lnTo>
                  <a:lnTo>
                    <a:pt x="1547" y="252"/>
                  </a:lnTo>
                  <a:lnTo>
                    <a:pt x="1553" y="252"/>
                  </a:lnTo>
                  <a:lnTo>
                    <a:pt x="1558" y="252"/>
                  </a:lnTo>
                  <a:lnTo>
                    <a:pt x="1565" y="251"/>
                  </a:lnTo>
                  <a:lnTo>
                    <a:pt x="1582" y="254"/>
                  </a:lnTo>
                  <a:lnTo>
                    <a:pt x="1601" y="256"/>
                  </a:lnTo>
                  <a:lnTo>
                    <a:pt x="1611" y="257"/>
                  </a:lnTo>
                  <a:lnTo>
                    <a:pt x="1620" y="257"/>
                  </a:lnTo>
                  <a:lnTo>
                    <a:pt x="1630" y="256"/>
                  </a:lnTo>
                  <a:lnTo>
                    <a:pt x="1638" y="255"/>
                  </a:lnTo>
                  <a:lnTo>
                    <a:pt x="1647" y="253"/>
                  </a:lnTo>
                  <a:lnTo>
                    <a:pt x="1655" y="250"/>
                  </a:lnTo>
                  <a:lnTo>
                    <a:pt x="1663" y="245"/>
                  </a:lnTo>
                  <a:lnTo>
                    <a:pt x="1671" y="240"/>
                  </a:lnTo>
                  <a:lnTo>
                    <a:pt x="1677" y="232"/>
                  </a:lnTo>
                  <a:lnTo>
                    <a:pt x="1683" y="223"/>
                  </a:lnTo>
                  <a:lnTo>
                    <a:pt x="1687" y="213"/>
                  </a:lnTo>
                  <a:lnTo>
                    <a:pt x="1692" y="201"/>
                  </a:lnTo>
                  <a:lnTo>
                    <a:pt x="1695" y="195"/>
                  </a:lnTo>
                  <a:lnTo>
                    <a:pt x="1700" y="192"/>
                  </a:lnTo>
                  <a:lnTo>
                    <a:pt x="1704" y="190"/>
                  </a:lnTo>
                  <a:lnTo>
                    <a:pt x="1710" y="188"/>
                  </a:lnTo>
                  <a:lnTo>
                    <a:pt x="1714" y="188"/>
                  </a:lnTo>
                  <a:lnTo>
                    <a:pt x="1720" y="188"/>
                  </a:lnTo>
                  <a:lnTo>
                    <a:pt x="1725" y="188"/>
                  </a:lnTo>
                  <a:lnTo>
                    <a:pt x="1732" y="187"/>
                  </a:lnTo>
                  <a:lnTo>
                    <a:pt x="1732" y="196"/>
                  </a:lnTo>
                  <a:lnTo>
                    <a:pt x="1732" y="205"/>
                  </a:lnTo>
                  <a:lnTo>
                    <a:pt x="1733" y="213"/>
                  </a:lnTo>
                  <a:lnTo>
                    <a:pt x="1734" y="220"/>
                  </a:lnTo>
                  <a:lnTo>
                    <a:pt x="1736" y="227"/>
                  </a:lnTo>
                  <a:lnTo>
                    <a:pt x="1738" y="234"/>
                  </a:lnTo>
                  <a:lnTo>
                    <a:pt x="1742" y="240"/>
                  </a:lnTo>
                  <a:lnTo>
                    <a:pt x="1746" y="246"/>
                  </a:lnTo>
                  <a:lnTo>
                    <a:pt x="1754" y="257"/>
                  </a:lnTo>
                  <a:lnTo>
                    <a:pt x="1764" y="267"/>
                  </a:lnTo>
                  <a:lnTo>
                    <a:pt x="1775" y="277"/>
                  </a:lnTo>
                  <a:lnTo>
                    <a:pt x="1786" y="286"/>
                  </a:lnTo>
                  <a:lnTo>
                    <a:pt x="1798" y="295"/>
                  </a:lnTo>
                  <a:lnTo>
                    <a:pt x="1809" y="305"/>
                  </a:lnTo>
                  <a:lnTo>
                    <a:pt x="1821" y="315"/>
                  </a:lnTo>
                  <a:lnTo>
                    <a:pt x="1832" y="325"/>
                  </a:lnTo>
                  <a:lnTo>
                    <a:pt x="1841" y="337"/>
                  </a:lnTo>
                  <a:lnTo>
                    <a:pt x="1848" y="349"/>
                  </a:lnTo>
                  <a:lnTo>
                    <a:pt x="1852" y="356"/>
                  </a:lnTo>
                  <a:lnTo>
                    <a:pt x="1855" y="364"/>
                  </a:lnTo>
                  <a:lnTo>
                    <a:pt x="1857" y="372"/>
                  </a:lnTo>
                  <a:lnTo>
                    <a:pt x="1858" y="380"/>
                  </a:lnTo>
                  <a:lnTo>
                    <a:pt x="1857" y="379"/>
                  </a:lnTo>
                  <a:lnTo>
                    <a:pt x="1855" y="380"/>
                  </a:lnTo>
                  <a:lnTo>
                    <a:pt x="1855" y="382"/>
                  </a:lnTo>
                  <a:lnTo>
                    <a:pt x="1854" y="384"/>
                  </a:lnTo>
                  <a:lnTo>
                    <a:pt x="1855" y="390"/>
                  </a:lnTo>
                  <a:lnTo>
                    <a:pt x="1856" y="399"/>
                  </a:lnTo>
                  <a:lnTo>
                    <a:pt x="1857" y="407"/>
                  </a:lnTo>
                  <a:lnTo>
                    <a:pt x="1858" y="416"/>
                  </a:lnTo>
                  <a:lnTo>
                    <a:pt x="1858" y="422"/>
                  </a:lnTo>
                  <a:lnTo>
                    <a:pt x="1856" y="426"/>
                  </a:lnTo>
                  <a:lnTo>
                    <a:pt x="1798" y="416"/>
                  </a:lnTo>
                  <a:lnTo>
                    <a:pt x="1727" y="406"/>
                  </a:lnTo>
                  <a:lnTo>
                    <a:pt x="1646" y="395"/>
                  </a:lnTo>
                  <a:lnTo>
                    <a:pt x="1556" y="384"/>
                  </a:lnTo>
                  <a:lnTo>
                    <a:pt x="1461" y="372"/>
                  </a:lnTo>
                  <a:lnTo>
                    <a:pt x="1362" y="358"/>
                  </a:lnTo>
                  <a:lnTo>
                    <a:pt x="1311" y="349"/>
                  </a:lnTo>
                  <a:lnTo>
                    <a:pt x="1261" y="342"/>
                  </a:lnTo>
                  <a:lnTo>
                    <a:pt x="1211" y="332"/>
                  </a:lnTo>
                  <a:lnTo>
                    <a:pt x="1161" y="322"/>
                  </a:lnTo>
                  <a:lnTo>
                    <a:pt x="1090" y="328"/>
                  </a:lnTo>
                  <a:lnTo>
                    <a:pt x="1018" y="335"/>
                  </a:lnTo>
                  <a:lnTo>
                    <a:pt x="944" y="342"/>
                  </a:lnTo>
                  <a:lnTo>
                    <a:pt x="870" y="347"/>
                  </a:lnTo>
                  <a:lnTo>
                    <a:pt x="794" y="353"/>
                  </a:lnTo>
                  <a:lnTo>
                    <a:pt x="719" y="357"/>
                  </a:lnTo>
                  <a:lnTo>
                    <a:pt x="643" y="362"/>
                  </a:lnTo>
                  <a:lnTo>
                    <a:pt x="569" y="365"/>
                  </a:lnTo>
                  <a:lnTo>
                    <a:pt x="545" y="368"/>
                  </a:lnTo>
                  <a:lnTo>
                    <a:pt x="480" y="378"/>
                  </a:lnTo>
                  <a:lnTo>
                    <a:pt x="438" y="385"/>
                  </a:lnTo>
                  <a:lnTo>
                    <a:pt x="390" y="392"/>
                  </a:lnTo>
                  <a:lnTo>
                    <a:pt x="339" y="397"/>
                  </a:lnTo>
                  <a:lnTo>
                    <a:pt x="287" y="403"/>
                  </a:lnTo>
                  <a:lnTo>
                    <a:pt x="234" y="406"/>
                  </a:lnTo>
                  <a:lnTo>
                    <a:pt x="183" y="409"/>
                  </a:lnTo>
                  <a:lnTo>
                    <a:pt x="158" y="409"/>
                  </a:lnTo>
                  <a:lnTo>
                    <a:pt x="135" y="409"/>
                  </a:lnTo>
                  <a:lnTo>
                    <a:pt x="113" y="409"/>
                  </a:lnTo>
                  <a:lnTo>
                    <a:pt x="91" y="408"/>
                  </a:lnTo>
                  <a:lnTo>
                    <a:pt x="71" y="406"/>
                  </a:lnTo>
                  <a:lnTo>
                    <a:pt x="55" y="403"/>
                  </a:lnTo>
                  <a:lnTo>
                    <a:pt x="39" y="399"/>
                  </a:lnTo>
                  <a:lnTo>
                    <a:pt x="26" y="395"/>
                  </a:lnTo>
                  <a:lnTo>
                    <a:pt x="16" y="389"/>
                  </a:lnTo>
                  <a:lnTo>
                    <a:pt x="7" y="383"/>
                  </a:lnTo>
                  <a:lnTo>
                    <a:pt x="3" y="376"/>
                  </a:lnTo>
                  <a:lnTo>
                    <a:pt x="0" y="367"/>
                  </a:lnTo>
                  <a:lnTo>
                    <a:pt x="5" y="358"/>
                  </a:lnTo>
                  <a:lnTo>
                    <a:pt x="18" y="336"/>
                  </a:lnTo>
                  <a:lnTo>
                    <a:pt x="28" y="323"/>
                  </a:lnTo>
                  <a:lnTo>
                    <a:pt x="40" y="308"/>
                  </a:lnTo>
                  <a:lnTo>
                    <a:pt x="53" y="294"/>
                  </a:lnTo>
                  <a:lnTo>
                    <a:pt x="67" y="281"/>
                  </a:lnTo>
                  <a:lnTo>
                    <a:pt x="75" y="275"/>
                  </a:lnTo>
                  <a:lnTo>
                    <a:pt x="84" y="269"/>
                  </a:lnTo>
                  <a:lnTo>
                    <a:pt x="91" y="265"/>
                  </a:lnTo>
                  <a:lnTo>
                    <a:pt x="100" y="261"/>
                  </a:lnTo>
                  <a:lnTo>
                    <a:pt x="109" y="258"/>
                  </a:lnTo>
                  <a:lnTo>
                    <a:pt x="118" y="256"/>
                  </a:lnTo>
                  <a:lnTo>
                    <a:pt x="127" y="255"/>
                  </a:lnTo>
                  <a:lnTo>
                    <a:pt x="137" y="255"/>
                  </a:lnTo>
                  <a:lnTo>
                    <a:pt x="146" y="257"/>
                  </a:lnTo>
                  <a:lnTo>
                    <a:pt x="156" y="260"/>
                  </a:lnTo>
                  <a:lnTo>
                    <a:pt x="166" y="265"/>
                  </a:lnTo>
                  <a:lnTo>
                    <a:pt x="176" y="271"/>
                  </a:lnTo>
                  <a:lnTo>
                    <a:pt x="186" y="278"/>
                  </a:lnTo>
                  <a:lnTo>
                    <a:pt x="196" y="288"/>
                  </a:lnTo>
                  <a:lnTo>
                    <a:pt x="206" y="301"/>
                  </a:lnTo>
                  <a:lnTo>
                    <a:pt x="217" y="314"/>
                  </a:lnTo>
                  <a:lnTo>
                    <a:pt x="232" y="312"/>
                  </a:lnTo>
                  <a:lnTo>
                    <a:pt x="247" y="307"/>
                  </a:lnTo>
                  <a:lnTo>
                    <a:pt x="259" y="302"/>
                  </a:lnTo>
                  <a:lnTo>
                    <a:pt x="269" y="296"/>
                  </a:lnTo>
                  <a:lnTo>
                    <a:pt x="279" y="288"/>
                  </a:lnTo>
                  <a:lnTo>
                    <a:pt x="287" y="281"/>
                  </a:lnTo>
                  <a:lnTo>
                    <a:pt x="292" y="271"/>
                  </a:lnTo>
                  <a:lnTo>
                    <a:pt x="298" y="262"/>
                  </a:lnTo>
                  <a:lnTo>
                    <a:pt x="301" y="251"/>
                  </a:lnTo>
                  <a:lnTo>
                    <a:pt x="305" y="241"/>
                  </a:lnTo>
                  <a:lnTo>
                    <a:pt x="307" y="230"/>
                  </a:lnTo>
                  <a:lnTo>
                    <a:pt x="308" y="218"/>
                  </a:lnTo>
                  <a:lnTo>
                    <a:pt x="308" y="196"/>
                  </a:lnTo>
                  <a:lnTo>
                    <a:pt x="307" y="174"/>
                  </a:lnTo>
                  <a:lnTo>
                    <a:pt x="318" y="184"/>
                  </a:lnTo>
                  <a:lnTo>
                    <a:pt x="329" y="192"/>
                  </a:lnTo>
                  <a:lnTo>
                    <a:pt x="339" y="198"/>
                  </a:lnTo>
                  <a:lnTo>
                    <a:pt x="349" y="203"/>
                  </a:lnTo>
                  <a:lnTo>
                    <a:pt x="358" y="207"/>
                  </a:lnTo>
                  <a:lnTo>
                    <a:pt x="367" y="210"/>
                  </a:lnTo>
                  <a:lnTo>
                    <a:pt x="376" y="211"/>
                  </a:lnTo>
                  <a:lnTo>
                    <a:pt x="385" y="212"/>
                  </a:lnTo>
                  <a:lnTo>
                    <a:pt x="392" y="212"/>
                  </a:lnTo>
                  <a:lnTo>
                    <a:pt x="401" y="211"/>
                  </a:lnTo>
                  <a:lnTo>
                    <a:pt x="408" y="208"/>
                  </a:lnTo>
                  <a:lnTo>
                    <a:pt x="416" y="205"/>
                  </a:lnTo>
                  <a:lnTo>
                    <a:pt x="422" y="202"/>
                  </a:lnTo>
                  <a:lnTo>
                    <a:pt x="429" y="198"/>
                  </a:lnTo>
                  <a:lnTo>
                    <a:pt x="435" y="194"/>
                  </a:lnTo>
                  <a:lnTo>
                    <a:pt x="440" y="190"/>
                  </a:lnTo>
                  <a:lnTo>
                    <a:pt x="451" y="180"/>
                  </a:lnTo>
                  <a:lnTo>
                    <a:pt x="460" y="168"/>
                  </a:lnTo>
                  <a:lnTo>
                    <a:pt x="468" y="157"/>
                  </a:lnTo>
                  <a:lnTo>
                    <a:pt x="475" y="147"/>
                  </a:lnTo>
                  <a:lnTo>
                    <a:pt x="483" y="131"/>
                  </a:lnTo>
                  <a:lnTo>
                    <a:pt x="486" y="124"/>
                  </a:lnTo>
                  <a:lnTo>
                    <a:pt x="495" y="131"/>
                  </a:lnTo>
                  <a:lnTo>
                    <a:pt x="502" y="139"/>
                  </a:lnTo>
                  <a:lnTo>
                    <a:pt x="508" y="147"/>
                  </a:lnTo>
                  <a:lnTo>
                    <a:pt x="513" y="156"/>
                  </a:lnTo>
                  <a:lnTo>
                    <a:pt x="522" y="177"/>
                  </a:lnTo>
                  <a:lnTo>
                    <a:pt x="531" y="197"/>
                  </a:lnTo>
                  <a:lnTo>
                    <a:pt x="536" y="207"/>
                  </a:lnTo>
                  <a:lnTo>
                    <a:pt x="541" y="215"/>
                  </a:lnTo>
                  <a:lnTo>
                    <a:pt x="548" y="223"/>
                  </a:lnTo>
                  <a:lnTo>
                    <a:pt x="555" y="230"/>
                  </a:lnTo>
                  <a:lnTo>
                    <a:pt x="559" y="233"/>
                  </a:lnTo>
                  <a:lnTo>
                    <a:pt x="563" y="235"/>
                  </a:lnTo>
                  <a:lnTo>
                    <a:pt x="568" y="236"/>
                  </a:lnTo>
                  <a:lnTo>
                    <a:pt x="573" y="238"/>
                  </a:lnTo>
                  <a:lnTo>
                    <a:pt x="579" y="238"/>
                  </a:lnTo>
                  <a:lnTo>
                    <a:pt x="586" y="240"/>
                  </a:lnTo>
                  <a:lnTo>
                    <a:pt x="592" y="238"/>
                  </a:lnTo>
                  <a:lnTo>
                    <a:pt x="600" y="237"/>
                  </a:lnTo>
                  <a:lnTo>
                    <a:pt x="611" y="217"/>
                  </a:lnTo>
                  <a:lnTo>
                    <a:pt x="622" y="196"/>
                  </a:lnTo>
                  <a:lnTo>
                    <a:pt x="635" y="176"/>
                  </a:lnTo>
                  <a:lnTo>
                    <a:pt x="648" y="156"/>
                  </a:lnTo>
                  <a:lnTo>
                    <a:pt x="661" y="139"/>
                  </a:lnTo>
                  <a:lnTo>
                    <a:pt x="676" y="123"/>
                  </a:lnTo>
                  <a:lnTo>
                    <a:pt x="683" y="116"/>
                  </a:lnTo>
                  <a:lnTo>
                    <a:pt x="691" y="111"/>
                  </a:lnTo>
                  <a:lnTo>
                    <a:pt x="699" y="105"/>
                  </a:lnTo>
                  <a:lnTo>
                    <a:pt x="707" y="101"/>
                  </a:lnTo>
                  <a:lnTo>
                    <a:pt x="716" y="96"/>
                  </a:lnTo>
                  <a:lnTo>
                    <a:pt x="723" y="94"/>
                  </a:lnTo>
                  <a:lnTo>
                    <a:pt x="733" y="93"/>
                  </a:lnTo>
                  <a:lnTo>
                    <a:pt x="742" y="93"/>
                  </a:lnTo>
                  <a:lnTo>
                    <a:pt x="751" y="93"/>
                  </a:lnTo>
                  <a:lnTo>
                    <a:pt x="761" y="95"/>
                  </a:lnTo>
                  <a:lnTo>
                    <a:pt x="771" y="99"/>
                  </a:lnTo>
                  <a:lnTo>
                    <a:pt x="782" y="104"/>
                  </a:lnTo>
                  <a:lnTo>
                    <a:pt x="792" y="111"/>
                  </a:lnTo>
                  <a:lnTo>
                    <a:pt x="803" y="119"/>
                  </a:lnTo>
                  <a:lnTo>
                    <a:pt x="814" y="129"/>
                  </a:lnTo>
                  <a:lnTo>
                    <a:pt x="827" y="140"/>
                  </a:lnTo>
                  <a:lnTo>
                    <a:pt x="839" y="152"/>
                  </a:lnTo>
                  <a:lnTo>
                    <a:pt x="851" y="167"/>
                  </a:lnTo>
                  <a:lnTo>
                    <a:pt x="863" y="184"/>
                  </a:lnTo>
                  <a:lnTo>
                    <a:pt x="877" y="203"/>
                  </a:lnTo>
                  <a:lnTo>
                    <a:pt x="887" y="204"/>
                  </a:lnTo>
                  <a:lnTo>
                    <a:pt x="894" y="204"/>
                  </a:lnTo>
                  <a:lnTo>
                    <a:pt x="902" y="202"/>
                  </a:lnTo>
                  <a:lnTo>
                    <a:pt x="909" y="198"/>
                  </a:lnTo>
                  <a:lnTo>
                    <a:pt x="914" y="195"/>
                  </a:lnTo>
                  <a:lnTo>
                    <a:pt x="920" y="190"/>
                  </a:lnTo>
                  <a:lnTo>
                    <a:pt x="924" y="183"/>
                  </a:lnTo>
                  <a:lnTo>
                    <a:pt x="929" y="175"/>
                  </a:lnTo>
                  <a:lnTo>
                    <a:pt x="931" y="167"/>
                  </a:lnTo>
                  <a:lnTo>
                    <a:pt x="934" y="158"/>
                  </a:lnTo>
                  <a:lnTo>
                    <a:pt x="937" y="149"/>
                  </a:lnTo>
                  <a:lnTo>
                    <a:pt x="939" y="139"/>
                  </a:lnTo>
                  <a:lnTo>
                    <a:pt x="942" y="119"/>
                  </a:lnTo>
                  <a:lnTo>
                    <a:pt x="944" y="96"/>
                  </a:lnTo>
                  <a:lnTo>
                    <a:pt x="947" y="75"/>
                  </a:lnTo>
                  <a:lnTo>
                    <a:pt x="950" y="55"/>
                  </a:lnTo>
                  <a:lnTo>
                    <a:pt x="953" y="38"/>
                  </a:lnTo>
                  <a:lnTo>
                    <a:pt x="958" y="22"/>
                  </a:lnTo>
                  <a:lnTo>
                    <a:pt x="961" y="16"/>
                  </a:lnTo>
                  <a:lnTo>
                    <a:pt x="964" y="11"/>
                  </a:lnTo>
                  <a:lnTo>
                    <a:pt x="969" y="6"/>
                  </a:lnTo>
                  <a:lnTo>
                    <a:pt x="974" y="4"/>
                  </a:lnTo>
                  <a:lnTo>
                    <a:pt x="980" y="3"/>
                  </a:lnTo>
                  <a:lnTo>
                    <a:pt x="985" y="3"/>
                  </a:lnTo>
                  <a:lnTo>
                    <a:pt x="993" y="4"/>
                  </a:lnTo>
                  <a:lnTo>
                    <a:pt x="1001" y="8"/>
                  </a:lnTo>
                  <a:lnTo>
                    <a:pt x="1018" y="3"/>
                  </a:lnTo>
                  <a:lnTo>
                    <a:pt x="1032" y="1"/>
                  </a:lnTo>
                  <a:lnTo>
                    <a:pt x="1044" y="0"/>
                  </a:lnTo>
                  <a:lnTo>
                    <a:pt x="1054" y="1"/>
                  </a:lnTo>
                  <a:lnTo>
                    <a:pt x="1063" y="2"/>
                  </a:lnTo>
                  <a:lnTo>
                    <a:pt x="1070" y="6"/>
                  </a:lnTo>
                  <a:lnTo>
                    <a:pt x="1074" y="11"/>
                  </a:lnTo>
                  <a:lnTo>
                    <a:pt x="1079" y="16"/>
                  </a:lnTo>
                  <a:lnTo>
                    <a:pt x="1081" y="23"/>
                  </a:lnTo>
                  <a:lnTo>
                    <a:pt x="1083" y="31"/>
                  </a:lnTo>
                  <a:lnTo>
                    <a:pt x="1083" y="40"/>
                  </a:lnTo>
                  <a:lnTo>
                    <a:pt x="1083" y="49"/>
                  </a:lnTo>
                  <a:lnTo>
                    <a:pt x="1082" y="69"/>
                  </a:lnTo>
                  <a:lnTo>
                    <a:pt x="1081" y="91"/>
                  </a:lnTo>
                  <a:lnTo>
                    <a:pt x="1080" y="113"/>
                  </a:lnTo>
                  <a:lnTo>
                    <a:pt x="1080" y="134"/>
                  </a:lnTo>
                  <a:lnTo>
                    <a:pt x="1081" y="145"/>
                  </a:lnTo>
                  <a:lnTo>
                    <a:pt x="1083" y="155"/>
                  </a:lnTo>
                  <a:lnTo>
                    <a:pt x="1088" y="165"/>
                  </a:lnTo>
                  <a:lnTo>
                    <a:pt x="1092" y="174"/>
                  </a:lnTo>
                  <a:lnTo>
                    <a:pt x="1099" y="183"/>
                  </a:lnTo>
                  <a:lnTo>
                    <a:pt x="1106" y="191"/>
                  </a:lnTo>
                  <a:lnTo>
                    <a:pt x="1115" y="197"/>
                  </a:lnTo>
                  <a:lnTo>
                    <a:pt x="1128" y="203"/>
                  </a:lnTo>
                  <a:lnTo>
                    <a:pt x="1141" y="207"/>
                  </a:lnTo>
                  <a:lnTo>
                    <a:pt x="1158" y="211"/>
                  </a:lnTo>
                  <a:lnTo>
                    <a:pt x="1175" y="213"/>
                  </a:lnTo>
                  <a:lnTo>
                    <a:pt x="1196" y="21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4911840" y="4632480"/>
              <a:ext cx="218880" cy="75960"/>
            </a:xfrm>
            <a:custGeom>
              <a:avLst/>
              <a:gdLst/>
              <a:ahLst/>
              <a:rect l="l" t="t" r="r" b="b"/>
              <a:pathLst>
                <a:path w="688" h="243">
                  <a:moveTo>
                    <a:pt x="688" y="99"/>
                  </a:moveTo>
                  <a:lnTo>
                    <a:pt x="626" y="110"/>
                  </a:lnTo>
                  <a:lnTo>
                    <a:pt x="565" y="119"/>
                  </a:lnTo>
                  <a:lnTo>
                    <a:pt x="504" y="129"/>
                  </a:lnTo>
                  <a:lnTo>
                    <a:pt x="444" y="140"/>
                  </a:lnTo>
                  <a:lnTo>
                    <a:pt x="415" y="147"/>
                  </a:lnTo>
                  <a:lnTo>
                    <a:pt x="386" y="156"/>
                  </a:lnTo>
                  <a:lnTo>
                    <a:pt x="357" y="166"/>
                  </a:lnTo>
                  <a:lnTo>
                    <a:pt x="329" y="177"/>
                  </a:lnTo>
                  <a:lnTo>
                    <a:pt x="302" y="190"/>
                  </a:lnTo>
                  <a:lnTo>
                    <a:pt x="275" y="206"/>
                  </a:lnTo>
                  <a:lnTo>
                    <a:pt x="262" y="214"/>
                  </a:lnTo>
                  <a:lnTo>
                    <a:pt x="249" y="223"/>
                  </a:lnTo>
                  <a:lnTo>
                    <a:pt x="236" y="233"/>
                  </a:lnTo>
                  <a:lnTo>
                    <a:pt x="224" y="243"/>
                  </a:lnTo>
                  <a:lnTo>
                    <a:pt x="213" y="239"/>
                  </a:lnTo>
                  <a:lnTo>
                    <a:pt x="203" y="234"/>
                  </a:lnTo>
                  <a:lnTo>
                    <a:pt x="192" y="228"/>
                  </a:lnTo>
                  <a:lnTo>
                    <a:pt x="182" y="221"/>
                  </a:lnTo>
                  <a:lnTo>
                    <a:pt x="161" y="208"/>
                  </a:lnTo>
                  <a:lnTo>
                    <a:pt x="139" y="193"/>
                  </a:lnTo>
                  <a:lnTo>
                    <a:pt x="128" y="187"/>
                  </a:lnTo>
                  <a:lnTo>
                    <a:pt x="117" y="180"/>
                  </a:lnTo>
                  <a:lnTo>
                    <a:pt x="106" y="174"/>
                  </a:lnTo>
                  <a:lnTo>
                    <a:pt x="95" y="170"/>
                  </a:lnTo>
                  <a:lnTo>
                    <a:pt x="83" y="166"/>
                  </a:lnTo>
                  <a:lnTo>
                    <a:pt x="72" y="163"/>
                  </a:lnTo>
                  <a:lnTo>
                    <a:pt x="60" y="162"/>
                  </a:lnTo>
                  <a:lnTo>
                    <a:pt x="47" y="162"/>
                  </a:lnTo>
                  <a:lnTo>
                    <a:pt x="43" y="154"/>
                  </a:lnTo>
                  <a:lnTo>
                    <a:pt x="37" y="146"/>
                  </a:lnTo>
                  <a:lnTo>
                    <a:pt x="33" y="138"/>
                  </a:lnTo>
                  <a:lnTo>
                    <a:pt x="26" y="129"/>
                  </a:lnTo>
                  <a:lnTo>
                    <a:pt x="21" y="120"/>
                  </a:lnTo>
                  <a:lnTo>
                    <a:pt x="14" y="111"/>
                  </a:lnTo>
                  <a:lnTo>
                    <a:pt x="7" y="103"/>
                  </a:lnTo>
                  <a:lnTo>
                    <a:pt x="0" y="96"/>
                  </a:lnTo>
                  <a:lnTo>
                    <a:pt x="4" y="95"/>
                  </a:lnTo>
                  <a:lnTo>
                    <a:pt x="11" y="96"/>
                  </a:lnTo>
                  <a:lnTo>
                    <a:pt x="18" y="97"/>
                  </a:lnTo>
                  <a:lnTo>
                    <a:pt x="26" y="99"/>
                  </a:lnTo>
                  <a:lnTo>
                    <a:pt x="34" y="101"/>
                  </a:lnTo>
                  <a:lnTo>
                    <a:pt x="42" y="105"/>
                  </a:lnTo>
                  <a:lnTo>
                    <a:pt x="48" y="107"/>
                  </a:lnTo>
                  <a:lnTo>
                    <a:pt x="53" y="109"/>
                  </a:lnTo>
                  <a:lnTo>
                    <a:pt x="66" y="114"/>
                  </a:lnTo>
                  <a:lnTo>
                    <a:pt x="81" y="119"/>
                  </a:lnTo>
                  <a:lnTo>
                    <a:pt x="95" y="123"/>
                  </a:lnTo>
                  <a:lnTo>
                    <a:pt x="111" y="127"/>
                  </a:lnTo>
                  <a:lnTo>
                    <a:pt x="125" y="130"/>
                  </a:lnTo>
                  <a:lnTo>
                    <a:pt x="141" y="132"/>
                  </a:lnTo>
                  <a:lnTo>
                    <a:pt x="156" y="134"/>
                  </a:lnTo>
                  <a:lnTo>
                    <a:pt x="172" y="136"/>
                  </a:lnTo>
                  <a:lnTo>
                    <a:pt x="187" y="137"/>
                  </a:lnTo>
                  <a:lnTo>
                    <a:pt x="203" y="137"/>
                  </a:lnTo>
                  <a:lnTo>
                    <a:pt x="218" y="137"/>
                  </a:lnTo>
                  <a:lnTo>
                    <a:pt x="233" y="136"/>
                  </a:lnTo>
                  <a:lnTo>
                    <a:pt x="248" y="134"/>
                  </a:lnTo>
                  <a:lnTo>
                    <a:pt x="264" y="132"/>
                  </a:lnTo>
                  <a:lnTo>
                    <a:pt x="278" y="129"/>
                  </a:lnTo>
                  <a:lnTo>
                    <a:pt x="294" y="126"/>
                  </a:lnTo>
                  <a:lnTo>
                    <a:pt x="308" y="122"/>
                  </a:lnTo>
                  <a:lnTo>
                    <a:pt x="323" y="118"/>
                  </a:lnTo>
                  <a:lnTo>
                    <a:pt x="336" y="113"/>
                  </a:lnTo>
                  <a:lnTo>
                    <a:pt x="349" y="108"/>
                  </a:lnTo>
                  <a:lnTo>
                    <a:pt x="363" y="101"/>
                  </a:lnTo>
                  <a:lnTo>
                    <a:pt x="376" y="96"/>
                  </a:lnTo>
                  <a:lnTo>
                    <a:pt x="388" y="88"/>
                  </a:lnTo>
                  <a:lnTo>
                    <a:pt x="399" y="80"/>
                  </a:lnTo>
                  <a:lnTo>
                    <a:pt x="410" y="72"/>
                  </a:lnTo>
                  <a:lnTo>
                    <a:pt x="422" y="63"/>
                  </a:lnTo>
                  <a:lnTo>
                    <a:pt x="430" y="55"/>
                  </a:lnTo>
                  <a:lnTo>
                    <a:pt x="440" y="45"/>
                  </a:lnTo>
                  <a:lnTo>
                    <a:pt x="448" y="35"/>
                  </a:lnTo>
                  <a:lnTo>
                    <a:pt x="456" y="23"/>
                  </a:lnTo>
                  <a:lnTo>
                    <a:pt x="464" y="12"/>
                  </a:lnTo>
                  <a:lnTo>
                    <a:pt x="469" y="0"/>
                  </a:lnTo>
                  <a:lnTo>
                    <a:pt x="483" y="6"/>
                  </a:lnTo>
                  <a:lnTo>
                    <a:pt x="497" y="11"/>
                  </a:lnTo>
                  <a:lnTo>
                    <a:pt x="509" y="19"/>
                  </a:lnTo>
                  <a:lnTo>
                    <a:pt x="523" y="27"/>
                  </a:lnTo>
                  <a:lnTo>
                    <a:pt x="549" y="43"/>
                  </a:lnTo>
                  <a:lnTo>
                    <a:pt x="575" y="60"/>
                  </a:lnTo>
                  <a:lnTo>
                    <a:pt x="588" y="69"/>
                  </a:lnTo>
                  <a:lnTo>
                    <a:pt x="601" y="77"/>
                  </a:lnTo>
                  <a:lnTo>
                    <a:pt x="615" y="83"/>
                  </a:lnTo>
                  <a:lnTo>
                    <a:pt x="629" y="89"/>
                  </a:lnTo>
                  <a:lnTo>
                    <a:pt x="644" y="93"/>
                  </a:lnTo>
                  <a:lnTo>
                    <a:pt x="658" y="97"/>
                  </a:lnTo>
                  <a:lnTo>
                    <a:pt x="673" y="99"/>
                  </a:lnTo>
                  <a:lnTo>
                    <a:pt x="688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3976560" y="4803840"/>
              <a:ext cx="34920" cy="90360"/>
            </a:xfrm>
            <a:custGeom>
              <a:avLst/>
              <a:gdLst/>
              <a:ahLst/>
              <a:rect l="l" t="t" r="r" b="b"/>
              <a:pathLst>
                <a:path w="109" h="283">
                  <a:moveTo>
                    <a:pt x="18" y="282"/>
                  </a:moveTo>
                  <a:lnTo>
                    <a:pt x="22" y="283"/>
                  </a:lnTo>
                  <a:lnTo>
                    <a:pt x="23" y="283"/>
                  </a:lnTo>
                  <a:lnTo>
                    <a:pt x="24" y="281"/>
                  </a:lnTo>
                  <a:lnTo>
                    <a:pt x="24" y="279"/>
                  </a:lnTo>
                  <a:lnTo>
                    <a:pt x="23" y="270"/>
                  </a:lnTo>
                  <a:lnTo>
                    <a:pt x="19" y="257"/>
                  </a:lnTo>
                  <a:lnTo>
                    <a:pt x="15" y="241"/>
                  </a:lnTo>
                  <a:lnTo>
                    <a:pt x="9" y="223"/>
                  </a:lnTo>
                  <a:lnTo>
                    <a:pt x="5" y="202"/>
                  </a:lnTo>
                  <a:lnTo>
                    <a:pt x="2" y="179"/>
                  </a:lnTo>
                  <a:lnTo>
                    <a:pt x="0" y="168"/>
                  </a:lnTo>
                  <a:lnTo>
                    <a:pt x="0" y="155"/>
                  </a:lnTo>
                  <a:lnTo>
                    <a:pt x="0" y="143"/>
                  </a:lnTo>
                  <a:lnTo>
                    <a:pt x="2" y="131"/>
                  </a:lnTo>
                  <a:lnTo>
                    <a:pt x="4" y="119"/>
                  </a:lnTo>
                  <a:lnTo>
                    <a:pt x="6" y="107"/>
                  </a:lnTo>
                  <a:lnTo>
                    <a:pt x="10" y="94"/>
                  </a:lnTo>
                  <a:lnTo>
                    <a:pt x="15" y="82"/>
                  </a:lnTo>
                  <a:lnTo>
                    <a:pt x="22" y="70"/>
                  </a:lnTo>
                  <a:lnTo>
                    <a:pt x="29" y="59"/>
                  </a:lnTo>
                  <a:lnTo>
                    <a:pt x="38" y="48"/>
                  </a:lnTo>
                  <a:lnTo>
                    <a:pt x="49" y="37"/>
                  </a:lnTo>
                  <a:lnTo>
                    <a:pt x="61" y="27"/>
                  </a:lnTo>
                  <a:lnTo>
                    <a:pt x="76" y="17"/>
                  </a:lnTo>
                  <a:lnTo>
                    <a:pt x="91" y="8"/>
                  </a:lnTo>
                  <a:lnTo>
                    <a:pt x="109" y="0"/>
                  </a:lnTo>
                  <a:lnTo>
                    <a:pt x="18" y="282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3965400" y="2687760"/>
              <a:ext cx="162000" cy="236520"/>
            </a:xfrm>
            <a:custGeom>
              <a:avLst/>
              <a:gdLst/>
              <a:ahLst/>
              <a:rect l="l" t="t" r="r" b="b"/>
              <a:pathLst>
                <a:path w="512" h="748">
                  <a:moveTo>
                    <a:pt x="512" y="685"/>
                  </a:moveTo>
                  <a:lnTo>
                    <a:pt x="484" y="698"/>
                  </a:lnTo>
                  <a:lnTo>
                    <a:pt x="456" y="710"/>
                  </a:lnTo>
                  <a:lnTo>
                    <a:pt x="427" y="722"/>
                  </a:lnTo>
                  <a:lnTo>
                    <a:pt x="397" y="730"/>
                  </a:lnTo>
                  <a:lnTo>
                    <a:pt x="367" y="737"/>
                  </a:lnTo>
                  <a:lnTo>
                    <a:pt x="336" y="743"/>
                  </a:lnTo>
                  <a:lnTo>
                    <a:pt x="305" y="747"/>
                  </a:lnTo>
                  <a:lnTo>
                    <a:pt x="275" y="748"/>
                  </a:lnTo>
                  <a:lnTo>
                    <a:pt x="260" y="748"/>
                  </a:lnTo>
                  <a:lnTo>
                    <a:pt x="244" y="747"/>
                  </a:lnTo>
                  <a:lnTo>
                    <a:pt x="229" y="746"/>
                  </a:lnTo>
                  <a:lnTo>
                    <a:pt x="213" y="744"/>
                  </a:lnTo>
                  <a:lnTo>
                    <a:pt x="197" y="742"/>
                  </a:lnTo>
                  <a:lnTo>
                    <a:pt x="183" y="739"/>
                  </a:lnTo>
                  <a:lnTo>
                    <a:pt x="167" y="735"/>
                  </a:lnTo>
                  <a:lnTo>
                    <a:pt x="153" y="730"/>
                  </a:lnTo>
                  <a:lnTo>
                    <a:pt x="139" y="726"/>
                  </a:lnTo>
                  <a:lnTo>
                    <a:pt x="124" y="720"/>
                  </a:lnTo>
                  <a:lnTo>
                    <a:pt x="110" y="714"/>
                  </a:lnTo>
                  <a:lnTo>
                    <a:pt x="95" y="707"/>
                  </a:lnTo>
                  <a:lnTo>
                    <a:pt x="82" y="699"/>
                  </a:lnTo>
                  <a:lnTo>
                    <a:pt x="67" y="690"/>
                  </a:lnTo>
                  <a:lnTo>
                    <a:pt x="54" y="682"/>
                  </a:lnTo>
                  <a:lnTo>
                    <a:pt x="42" y="672"/>
                  </a:lnTo>
                  <a:lnTo>
                    <a:pt x="29" y="642"/>
                  </a:lnTo>
                  <a:lnTo>
                    <a:pt x="19" y="611"/>
                  </a:lnTo>
                  <a:lnTo>
                    <a:pt x="11" y="581"/>
                  </a:lnTo>
                  <a:lnTo>
                    <a:pt x="5" y="551"/>
                  </a:lnTo>
                  <a:lnTo>
                    <a:pt x="2" y="520"/>
                  </a:lnTo>
                  <a:lnTo>
                    <a:pt x="0" y="490"/>
                  </a:lnTo>
                  <a:lnTo>
                    <a:pt x="0" y="461"/>
                  </a:lnTo>
                  <a:lnTo>
                    <a:pt x="2" y="431"/>
                  </a:lnTo>
                  <a:lnTo>
                    <a:pt x="5" y="402"/>
                  </a:lnTo>
                  <a:lnTo>
                    <a:pt x="11" y="373"/>
                  </a:lnTo>
                  <a:lnTo>
                    <a:pt x="16" y="345"/>
                  </a:lnTo>
                  <a:lnTo>
                    <a:pt x="24" y="318"/>
                  </a:lnTo>
                  <a:lnTo>
                    <a:pt x="33" y="291"/>
                  </a:lnTo>
                  <a:lnTo>
                    <a:pt x="42" y="264"/>
                  </a:lnTo>
                  <a:lnTo>
                    <a:pt x="52" y="240"/>
                  </a:lnTo>
                  <a:lnTo>
                    <a:pt x="62" y="215"/>
                  </a:lnTo>
                  <a:lnTo>
                    <a:pt x="73" y="191"/>
                  </a:lnTo>
                  <a:lnTo>
                    <a:pt x="84" y="169"/>
                  </a:lnTo>
                  <a:lnTo>
                    <a:pt x="96" y="148"/>
                  </a:lnTo>
                  <a:lnTo>
                    <a:pt x="107" y="128"/>
                  </a:lnTo>
                  <a:lnTo>
                    <a:pt x="130" y="91"/>
                  </a:lnTo>
                  <a:lnTo>
                    <a:pt x="151" y="60"/>
                  </a:lnTo>
                  <a:lnTo>
                    <a:pt x="183" y="16"/>
                  </a:lnTo>
                  <a:lnTo>
                    <a:pt x="195" y="0"/>
                  </a:lnTo>
                  <a:lnTo>
                    <a:pt x="192" y="22"/>
                  </a:lnTo>
                  <a:lnTo>
                    <a:pt x="187" y="44"/>
                  </a:lnTo>
                  <a:lnTo>
                    <a:pt x="184" y="68"/>
                  </a:lnTo>
                  <a:lnTo>
                    <a:pt x="182" y="91"/>
                  </a:lnTo>
                  <a:lnTo>
                    <a:pt x="180" y="114"/>
                  </a:lnTo>
                  <a:lnTo>
                    <a:pt x="179" y="138"/>
                  </a:lnTo>
                  <a:lnTo>
                    <a:pt x="177" y="162"/>
                  </a:lnTo>
                  <a:lnTo>
                    <a:pt x="177" y="185"/>
                  </a:lnTo>
                  <a:lnTo>
                    <a:pt x="179" y="210"/>
                  </a:lnTo>
                  <a:lnTo>
                    <a:pt x="180" y="234"/>
                  </a:lnTo>
                  <a:lnTo>
                    <a:pt x="183" y="259"/>
                  </a:lnTo>
                  <a:lnTo>
                    <a:pt x="186" y="283"/>
                  </a:lnTo>
                  <a:lnTo>
                    <a:pt x="191" y="306"/>
                  </a:lnTo>
                  <a:lnTo>
                    <a:pt x="196" y="331"/>
                  </a:lnTo>
                  <a:lnTo>
                    <a:pt x="202" y="354"/>
                  </a:lnTo>
                  <a:lnTo>
                    <a:pt x="210" y="379"/>
                  </a:lnTo>
                  <a:lnTo>
                    <a:pt x="219" y="402"/>
                  </a:lnTo>
                  <a:lnTo>
                    <a:pt x="229" y="424"/>
                  </a:lnTo>
                  <a:lnTo>
                    <a:pt x="240" y="447"/>
                  </a:lnTo>
                  <a:lnTo>
                    <a:pt x="252" y="470"/>
                  </a:lnTo>
                  <a:lnTo>
                    <a:pt x="265" y="491"/>
                  </a:lnTo>
                  <a:lnTo>
                    <a:pt x="280" y="512"/>
                  </a:lnTo>
                  <a:lnTo>
                    <a:pt x="296" y="533"/>
                  </a:lnTo>
                  <a:lnTo>
                    <a:pt x="314" y="553"/>
                  </a:lnTo>
                  <a:lnTo>
                    <a:pt x="333" y="572"/>
                  </a:lnTo>
                  <a:lnTo>
                    <a:pt x="354" y="591"/>
                  </a:lnTo>
                  <a:lnTo>
                    <a:pt x="376" y="608"/>
                  </a:lnTo>
                  <a:lnTo>
                    <a:pt x="400" y="625"/>
                  </a:lnTo>
                  <a:lnTo>
                    <a:pt x="425" y="642"/>
                  </a:lnTo>
                  <a:lnTo>
                    <a:pt x="453" y="657"/>
                  </a:lnTo>
                  <a:lnTo>
                    <a:pt x="481" y="672"/>
                  </a:lnTo>
                  <a:lnTo>
                    <a:pt x="512" y="6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5324400" y="2436840"/>
              <a:ext cx="68400" cy="168120"/>
            </a:xfrm>
            <a:custGeom>
              <a:avLst/>
              <a:gdLst/>
              <a:ahLst/>
              <a:rect l="l" t="t" r="r" b="b"/>
              <a:pathLst>
                <a:path w="213" h="528">
                  <a:moveTo>
                    <a:pt x="205" y="377"/>
                  </a:moveTo>
                  <a:lnTo>
                    <a:pt x="213" y="528"/>
                  </a:lnTo>
                  <a:lnTo>
                    <a:pt x="201" y="492"/>
                  </a:lnTo>
                  <a:lnTo>
                    <a:pt x="178" y="429"/>
                  </a:lnTo>
                  <a:lnTo>
                    <a:pt x="148" y="349"/>
                  </a:lnTo>
                  <a:lnTo>
                    <a:pt x="113" y="261"/>
                  </a:lnTo>
                  <a:lnTo>
                    <a:pt x="78" y="173"/>
                  </a:lnTo>
                  <a:lnTo>
                    <a:pt x="46" y="94"/>
                  </a:lnTo>
                  <a:lnTo>
                    <a:pt x="30" y="61"/>
                  </a:lnTo>
                  <a:lnTo>
                    <a:pt x="18" y="34"/>
                  </a:lnTo>
                  <a:lnTo>
                    <a:pt x="8" y="13"/>
                  </a:lnTo>
                  <a:lnTo>
                    <a:pt x="0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8" y="21"/>
                  </a:lnTo>
                  <a:lnTo>
                    <a:pt x="12" y="30"/>
                  </a:lnTo>
                  <a:lnTo>
                    <a:pt x="24" y="50"/>
                  </a:lnTo>
                  <a:lnTo>
                    <a:pt x="40" y="74"/>
                  </a:lnTo>
                  <a:lnTo>
                    <a:pt x="78" y="129"/>
                  </a:lnTo>
                  <a:lnTo>
                    <a:pt x="119" y="188"/>
                  </a:lnTo>
                  <a:lnTo>
                    <a:pt x="139" y="218"/>
                  </a:lnTo>
                  <a:lnTo>
                    <a:pt x="158" y="248"/>
                  </a:lnTo>
                  <a:lnTo>
                    <a:pt x="174" y="275"/>
                  </a:lnTo>
                  <a:lnTo>
                    <a:pt x="189" y="302"/>
                  </a:lnTo>
                  <a:lnTo>
                    <a:pt x="195" y="314"/>
                  </a:lnTo>
                  <a:lnTo>
                    <a:pt x="200" y="326"/>
                  </a:lnTo>
                  <a:lnTo>
                    <a:pt x="204" y="338"/>
                  </a:lnTo>
                  <a:lnTo>
                    <a:pt x="207" y="348"/>
                  </a:lnTo>
                  <a:lnTo>
                    <a:pt x="209" y="356"/>
                  </a:lnTo>
                  <a:lnTo>
                    <a:pt x="209" y="364"/>
                  </a:lnTo>
                  <a:lnTo>
                    <a:pt x="208" y="372"/>
                  </a:lnTo>
                  <a:lnTo>
                    <a:pt x="205" y="3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5788080" y="4549680"/>
              <a:ext cx="347760" cy="641520"/>
            </a:xfrm>
            <a:custGeom>
              <a:avLst/>
              <a:gdLst/>
              <a:ahLst/>
              <a:rect l="l" t="t" r="r" b="b"/>
              <a:pathLst>
                <a:path w="1099" h="2019">
                  <a:moveTo>
                    <a:pt x="351" y="377"/>
                  </a:moveTo>
                  <a:lnTo>
                    <a:pt x="353" y="379"/>
                  </a:lnTo>
                  <a:lnTo>
                    <a:pt x="355" y="381"/>
                  </a:lnTo>
                  <a:lnTo>
                    <a:pt x="359" y="384"/>
                  </a:lnTo>
                  <a:lnTo>
                    <a:pt x="361" y="386"/>
                  </a:lnTo>
                  <a:lnTo>
                    <a:pt x="364" y="388"/>
                  </a:lnTo>
                  <a:lnTo>
                    <a:pt x="367" y="390"/>
                  </a:lnTo>
                  <a:lnTo>
                    <a:pt x="370" y="392"/>
                  </a:lnTo>
                  <a:lnTo>
                    <a:pt x="374" y="396"/>
                  </a:lnTo>
                  <a:lnTo>
                    <a:pt x="375" y="397"/>
                  </a:lnTo>
                  <a:lnTo>
                    <a:pt x="379" y="401"/>
                  </a:lnTo>
                  <a:lnTo>
                    <a:pt x="384" y="408"/>
                  </a:lnTo>
                  <a:lnTo>
                    <a:pt x="392" y="417"/>
                  </a:lnTo>
                  <a:lnTo>
                    <a:pt x="400" y="428"/>
                  </a:lnTo>
                  <a:lnTo>
                    <a:pt x="409" y="440"/>
                  </a:lnTo>
                  <a:lnTo>
                    <a:pt x="418" y="455"/>
                  </a:lnTo>
                  <a:lnTo>
                    <a:pt x="426" y="469"/>
                  </a:lnTo>
                  <a:lnTo>
                    <a:pt x="449" y="485"/>
                  </a:lnTo>
                  <a:lnTo>
                    <a:pt x="470" y="502"/>
                  </a:lnTo>
                  <a:lnTo>
                    <a:pt x="491" y="521"/>
                  </a:lnTo>
                  <a:lnTo>
                    <a:pt x="512" y="542"/>
                  </a:lnTo>
                  <a:lnTo>
                    <a:pt x="532" y="565"/>
                  </a:lnTo>
                  <a:lnTo>
                    <a:pt x="551" y="587"/>
                  </a:lnTo>
                  <a:lnTo>
                    <a:pt x="570" y="611"/>
                  </a:lnTo>
                  <a:lnTo>
                    <a:pt x="589" y="637"/>
                  </a:lnTo>
                  <a:lnTo>
                    <a:pt x="605" y="663"/>
                  </a:lnTo>
                  <a:lnTo>
                    <a:pt x="623" y="690"/>
                  </a:lnTo>
                  <a:lnTo>
                    <a:pt x="640" y="718"/>
                  </a:lnTo>
                  <a:lnTo>
                    <a:pt x="655" y="747"/>
                  </a:lnTo>
                  <a:lnTo>
                    <a:pt x="671" y="775"/>
                  </a:lnTo>
                  <a:lnTo>
                    <a:pt x="685" y="805"/>
                  </a:lnTo>
                  <a:lnTo>
                    <a:pt x="699" y="834"/>
                  </a:lnTo>
                  <a:lnTo>
                    <a:pt x="712" y="864"/>
                  </a:lnTo>
                  <a:lnTo>
                    <a:pt x="724" y="894"/>
                  </a:lnTo>
                  <a:lnTo>
                    <a:pt x="736" y="924"/>
                  </a:lnTo>
                  <a:lnTo>
                    <a:pt x="747" y="954"/>
                  </a:lnTo>
                  <a:lnTo>
                    <a:pt x="757" y="984"/>
                  </a:lnTo>
                  <a:lnTo>
                    <a:pt x="766" y="1013"/>
                  </a:lnTo>
                  <a:lnTo>
                    <a:pt x="775" y="1042"/>
                  </a:lnTo>
                  <a:lnTo>
                    <a:pt x="783" y="1071"/>
                  </a:lnTo>
                  <a:lnTo>
                    <a:pt x="790" y="1098"/>
                  </a:lnTo>
                  <a:lnTo>
                    <a:pt x="796" y="1125"/>
                  </a:lnTo>
                  <a:lnTo>
                    <a:pt x="801" y="1152"/>
                  </a:lnTo>
                  <a:lnTo>
                    <a:pt x="805" y="1176"/>
                  </a:lnTo>
                  <a:lnTo>
                    <a:pt x="809" y="1201"/>
                  </a:lnTo>
                  <a:lnTo>
                    <a:pt x="812" y="1223"/>
                  </a:lnTo>
                  <a:lnTo>
                    <a:pt x="813" y="1245"/>
                  </a:lnTo>
                  <a:lnTo>
                    <a:pt x="813" y="1265"/>
                  </a:lnTo>
                  <a:lnTo>
                    <a:pt x="813" y="1284"/>
                  </a:lnTo>
                  <a:lnTo>
                    <a:pt x="815" y="1326"/>
                  </a:lnTo>
                  <a:lnTo>
                    <a:pt x="819" y="1340"/>
                  </a:lnTo>
                  <a:lnTo>
                    <a:pt x="821" y="1356"/>
                  </a:lnTo>
                  <a:lnTo>
                    <a:pt x="823" y="1374"/>
                  </a:lnTo>
                  <a:lnTo>
                    <a:pt x="823" y="1393"/>
                  </a:lnTo>
                  <a:lnTo>
                    <a:pt x="823" y="1411"/>
                  </a:lnTo>
                  <a:lnTo>
                    <a:pt x="822" y="1433"/>
                  </a:lnTo>
                  <a:lnTo>
                    <a:pt x="820" y="1454"/>
                  </a:lnTo>
                  <a:lnTo>
                    <a:pt x="817" y="1477"/>
                  </a:lnTo>
                  <a:lnTo>
                    <a:pt x="814" y="1500"/>
                  </a:lnTo>
                  <a:lnTo>
                    <a:pt x="810" y="1524"/>
                  </a:lnTo>
                  <a:lnTo>
                    <a:pt x="804" y="1549"/>
                  </a:lnTo>
                  <a:lnTo>
                    <a:pt x="799" y="1574"/>
                  </a:lnTo>
                  <a:lnTo>
                    <a:pt x="792" y="1599"/>
                  </a:lnTo>
                  <a:lnTo>
                    <a:pt x="785" y="1625"/>
                  </a:lnTo>
                  <a:lnTo>
                    <a:pt x="776" y="1650"/>
                  </a:lnTo>
                  <a:lnTo>
                    <a:pt x="769" y="1677"/>
                  </a:lnTo>
                  <a:lnTo>
                    <a:pt x="759" y="1702"/>
                  </a:lnTo>
                  <a:lnTo>
                    <a:pt x="749" y="1728"/>
                  </a:lnTo>
                  <a:lnTo>
                    <a:pt x="739" y="1753"/>
                  </a:lnTo>
                  <a:lnTo>
                    <a:pt x="727" y="1778"/>
                  </a:lnTo>
                  <a:lnTo>
                    <a:pt x="715" y="1803"/>
                  </a:lnTo>
                  <a:lnTo>
                    <a:pt x="703" y="1827"/>
                  </a:lnTo>
                  <a:lnTo>
                    <a:pt x="691" y="1850"/>
                  </a:lnTo>
                  <a:lnTo>
                    <a:pt x="677" y="1873"/>
                  </a:lnTo>
                  <a:lnTo>
                    <a:pt x="663" y="1894"/>
                  </a:lnTo>
                  <a:lnTo>
                    <a:pt x="650" y="1915"/>
                  </a:lnTo>
                  <a:lnTo>
                    <a:pt x="634" y="1935"/>
                  </a:lnTo>
                  <a:lnTo>
                    <a:pt x="619" y="1954"/>
                  </a:lnTo>
                  <a:lnTo>
                    <a:pt x="603" y="1971"/>
                  </a:lnTo>
                  <a:lnTo>
                    <a:pt x="588" y="1988"/>
                  </a:lnTo>
                  <a:lnTo>
                    <a:pt x="571" y="2002"/>
                  </a:lnTo>
                  <a:lnTo>
                    <a:pt x="554" y="2015"/>
                  </a:lnTo>
                  <a:lnTo>
                    <a:pt x="564" y="2016"/>
                  </a:lnTo>
                  <a:lnTo>
                    <a:pt x="574" y="2018"/>
                  </a:lnTo>
                  <a:lnTo>
                    <a:pt x="585" y="2019"/>
                  </a:lnTo>
                  <a:lnTo>
                    <a:pt x="596" y="2019"/>
                  </a:lnTo>
                  <a:lnTo>
                    <a:pt x="619" y="2019"/>
                  </a:lnTo>
                  <a:lnTo>
                    <a:pt x="642" y="2016"/>
                  </a:lnTo>
                  <a:lnTo>
                    <a:pt x="666" y="2013"/>
                  </a:lnTo>
                  <a:lnTo>
                    <a:pt x="690" y="2009"/>
                  </a:lnTo>
                  <a:lnTo>
                    <a:pt x="713" y="2004"/>
                  </a:lnTo>
                  <a:lnTo>
                    <a:pt x="736" y="2000"/>
                  </a:lnTo>
                  <a:lnTo>
                    <a:pt x="759" y="1994"/>
                  </a:lnTo>
                  <a:lnTo>
                    <a:pt x="779" y="1988"/>
                  </a:lnTo>
                  <a:lnTo>
                    <a:pt x="797" y="1981"/>
                  </a:lnTo>
                  <a:lnTo>
                    <a:pt x="816" y="1972"/>
                  </a:lnTo>
                  <a:lnTo>
                    <a:pt x="833" y="1963"/>
                  </a:lnTo>
                  <a:lnTo>
                    <a:pt x="848" y="1954"/>
                  </a:lnTo>
                  <a:lnTo>
                    <a:pt x="863" y="1943"/>
                  </a:lnTo>
                  <a:lnTo>
                    <a:pt x="877" y="1932"/>
                  </a:lnTo>
                  <a:lnTo>
                    <a:pt x="890" y="1921"/>
                  </a:lnTo>
                  <a:lnTo>
                    <a:pt x="902" y="1909"/>
                  </a:lnTo>
                  <a:lnTo>
                    <a:pt x="913" y="1897"/>
                  </a:lnTo>
                  <a:lnTo>
                    <a:pt x="924" y="1883"/>
                  </a:lnTo>
                  <a:lnTo>
                    <a:pt x="933" y="1870"/>
                  </a:lnTo>
                  <a:lnTo>
                    <a:pt x="942" y="1857"/>
                  </a:lnTo>
                  <a:lnTo>
                    <a:pt x="951" y="1842"/>
                  </a:lnTo>
                  <a:lnTo>
                    <a:pt x="957" y="1829"/>
                  </a:lnTo>
                  <a:lnTo>
                    <a:pt x="971" y="1801"/>
                  </a:lnTo>
                  <a:lnTo>
                    <a:pt x="983" y="1773"/>
                  </a:lnTo>
                  <a:lnTo>
                    <a:pt x="993" y="1747"/>
                  </a:lnTo>
                  <a:lnTo>
                    <a:pt x="1001" y="1721"/>
                  </a:lnTo>
                  <a:lnTo>
                    <a:pt x="1008" y="1697"/>
                  </a:lnTo>
                  <a:lnTo>
                    <a:pt x="1016" y="1676"/>
                  </a:lnTo>
                  <a:lnTo>
                    <a:pt x="1023" y="1657"/>
                  </a:lnTo>
                  <a:lnTo>
                    <a:pt x="1031" y="1640"/>
                  </a:lnTo>
                  <a:lnTo>
                    <a:pt x="1035" y="1620"/>
                  </a:lnTo>
                  <a:lnTo>
                    <a:pt x="1040" y="1598"/>
                  </a:lnTo>
                  <a:lnTo>
                    <a:pt x="1043" y="1577"/>
                  </a:lnTo>
                  <a:lnTo>
                    <a:pt x="1045" y="1556"/>
                  </a:lnTo>
                  <a:lnTo>
                    <a:pt x="1046" y="1534"/>
                  </a:lnTo>
                  <a:lnTo>
                    <a:pt x="1046" y="1512"/>
                  </a:lnTo>
                  <a:lnTo>
                    <a:pt x="1046" y="1490"/>
                  </a:lnTo>
                  <a:lnTo>
                    <a:pt x="1045" y="1468"/>
                  </a:lnTo>
                  <a:lnTo>
                    <a:pt x="1042" y="1425"/>
                  </a:lnTo>
                  <a:lnTo>
                    <a:pt x="1038" y="1380"/>
                  </a:lnTo>
                  <a:lnTo>
                    <a:pt x="1034" y="1337"/>
                  </a:lnTo>
                  <a:lnTo>
                    <a:pt x="1031" y="1294"/>
                  </a:lnTo>
                  <a:lnTo>
                    <a:pt x="1031" y="1278"/>
                  </a:lnTo>
                  <a:lnTo>
                    <a:pt x="1030" y="1262"/>
                  </a:lnTo>
                  <a:lnTo>
                    <a:pt x="1030" y="1244"/>
                  </a:lnTo>
                  <a:lnTo>
                    <a:pt x="1030" y="1227"/>
                  </a:lnTo>
                  <a:lnTo>
                    <a:pt x="1031" y="1211"/>
                  </a:lnTo>
                  <a:lnTo>
                    <a:pt x="1032" y="1194"/>
                  </a:lnTo>
                  <a:lnTo>
                    <a:pt x="1034" y="1177"/>
                  </a:lnTo>
                  <a:lnTo>
                    <a:pt x="1036" y="1161"/>
                  </a:lnTo>
                  <a:lnTo>
                    <a:pt x="1040" y="1145"/>
                  </a:lnTo>
                  <a:lnTo>
                    <a:pt x="1044" y="1128"/>
                  </a:lnTo>
                  <a:lnTo>
                    <a:pt x="1048" y="1113"/>
                  </a:lnTo>
                  <a:lnTo>
                    <a:pt x="1054" y="1097"/>
                  </a:lnTo>
                  <a:lnTo>
                    <a:pt x="1061" y="1082"/>
                  </a:lnTo>
                  <a:lnTo>
                    <a:pt x="1067" y="1065"/>
                  </a:lnTo>
                  <a:lnTo>
                    <a:pt x="1075" y="1050"/>
                  </a:lnTo>
                  <a:lnTo>
                    <a:pt x="1083" y="1035"/>
                  </a:lnTo>
                  <a:lnTo>
                    <a:pt x="1093" y="1020"/>
                  </a:lnTo>
                  <a:lnTo>
                    <a:pt x="1096" y="1011"/>
                  </a:lnTo>
                  <a:lnTo>
                    <a:pt x="1098" y="1002"/>
                  </a:lnTo>
                  <a:lnTo>
                    <a:pt x="1099" y="992"/>
                  </a:lnTo>
                  <a:lnTo>
                    <a:pt x="1099" y="982"/>
                  </a:lnTo>
                  <a:lnTo>
                    <a:pt x="1099" y="971"/>
                  </a:lnTo>
                  <a:lnTo>
                    <a:pt x="1097" y="959"/>
                  </a:lnTo>
                  <a:lnTo>
                    <a:pt x="1095" y="946"/>
                  </a:lnTo>
                  <a:lnTo>
                    <a:pt x="1092" y="933"/>
                  </a:lnTo>
                  <a:lnTo>
                    <a:pt x="1083" y="905"/>
                  </a:lnTo>
                  <a:lnTo>
                    <a:pt x="1071" y="876"/>
                  </a:lnTo>
                  <a:lnTo>
                    <a:pt x="1056" y="846"/>
                  </a:lnTo>
                  <a:lnTo>
                    <a:pt x="1041" y="815"/>
                  </a:lnTo>
                  <a:lnTo>
                    <a:pt x="1023" y="784"/>
                  </a:lnTo>
                  <a:lnTo>
                    <a:pt x="1004" y="752"/>
                  </a:lnTo>
                  <a:lnTo>
                    <a:pt x="984" y="721"/>
                  </a:lnTo>
                  <a:lnTo>
                    <a:pt x="964" y="690"/>
                  </a:lnTo>
                  <a:lnTo>
                    <a:pt x="924" y="631"/>
                  </a:lnTo>
                  <a:lnTo>
                    <a:pt x="886" y="578"/>
                  </a:lnTo>
                  <a:lnTo>
                    <a:pt x="870" y="552"/>
                  </a:lnTo>
                  <a:lnTo>
                    <a:pt x="851" y="528"/>
                  </a:lnTo>
                  <a:lnTo>
                    <a:pt x="832" y="505"/>
                  </a:lnTo>
                  <a:lnTo>
                    <a:pt x="812" y="481"/>
                  </a:lnTo>
                  <a:lnTo>
                    <a:pt x="791" y="459"/>
                  </a:lnTo>
                  <a:lnTo>
                    <a:pt x="769" y="438"/>
                  </a:lnTo>
                  <a:lnTo>
                    <a:pt x="745" y="418"/>
                  </a:lnTo>
                  <a:lnTo>
                    <a:pt x="722" y="399"/>
                  </a:lnTo>
                  <a:lnTo>
                    <a:pt x="697" y="381"/>
                  </a:lnTo>
                  <a:lnTo>
                    <a:pt x="672" y="366"/>
                  </a:lnTo>
                  <a:lnTo>
                    <a:pt x="646" y="350"/>
                  </a:lnTo>
                  <a:lnTo>
                    <a:pt x="620" y="336"/>
                  </a:lnTo>
                  <a:lnTo>
                    <a:pt x="593" y="324"/>
                  </a:lnTo>
                  <a:lnTo>
                    <a:pt x="565" y="311"/>
                  </a:lnTo>
                  <a:lnTo>
                    <a:pt x="538" y="301"/>
                  </a:lnTo>
                  <a:lnTo>
                    <a:pt x="509" y="294"/>
                  </a:lnTo>
                  <a:lnTo>
                    <a:pt x="502" y="285"/>
                  </a:lnTo>
                  <a:lnTo>
                    <a:pt x="496" y="277"/>
                  </a:lnTo>
                  <a:lnTo>
                    <a:pt x="492" y="268"/>
                  </a:lnTo>
                  <a:lnTo>
                    <a:pt x="488" y="258"/>
                  </a:lnTo>
                  <a:lnTo>
                    <a:pt x="481" y="239"/>
                  </a:lnTo>
                  <a:lnTo>
                    <a:pt x="475" y="220"/>
                  </a:lnTo>
                  <a:lnTo>
                    <a:pt x="468" y="179"/>
                  </a:lnTo>
                  <a:lnTo>
                    <a:pt x="462" y="138"/>
                  </a:lnTo>
                  <a:lnTo>
                    <a:pt x="459" y="118"/>
                  </a:lnTo>
                  <a:lnTo>
                    <a:pt x="454" y="99"/>
                  </a:lnTo>
                  <a:lnTo>
                    <a:pt x="449" y="81"/>
                  </a:lnTo>
                  <a:lnTo>
                    <a:pt x="441" y="62"/>
                  </a:lnTo>
                  <a:lnTo>
                    <a:pt x="438" y="54"/>
                  </a:lnTo>
                  <a:lnTo>
                    <a:pt x="432" y="45"/>
                  </a:lnTo>
                  <a:lnTo>
                    <a:pt x="426" y="37"/>
                  </a:lnTo>
                  <a:lnTo>
                    <a:pt x="421" y="31"/>
                  </a:lnTo>
                  <a:lnTo>
                    <a:pt x="413" y="23"/>
                  </a:lnTo>
                  <a:lnTo>
                    <a:pt x="405" y="16"/>
                  </a:lnTo>
                  <a:lnTo>
                    <a:pt x="398" y="11"/>
                  </a:lnTo>
                  <a:lnTo>
                    <a:pt x="388" y="5"/>
                  </a:lnTo>
                  <a:lnTo>
                    <a:pt x="335" y="0"/>
                  </a:lnTo>
                  <a:lnTo>
                    <a:pt x="323" y="20"/>
                  </a:lnTo>
                  <a:lnTo>
                    <a:pt x="311" y="39"/>
                  </a:lnTo>
                  <a:lnTo>
                    <a:pt x="298" y="62"/>
                  </a:lnTo>
                  <a:lnTo>
                    <a:pt x="282" y="83"/>
                  </a:lnTo>
                  <a:lnTo>
                    <a:pt x="267" y="106"/>
                  </a:lnTo>
                  <a:lnTo>
                    <a:pt x="249" y="129"/>
                  </a:lnTo>
                  <a:lnTo>
                    <a:pt x="230" y="153"/>
                  </a:lnTo>
                  <a:lnTo>
                    <a:pt x="210" y="177"/>
                  </a:lnTo>
                  <a:lnTo>
                    <a:pt x="189" y="202"/>
                  </a:lnTo>
                  <a:lnTo>
                    <a:pt x="167" y="227"/>
                  </a:lnTo>
                  <a:lnTo>
                    <a:pt x="142" y="253"/>
                  </a:lnTo>
                  <a:lnTo>
                    <a:pt x="117" y="278"/>
                  </a:lnTo>
                  <a:lnTo>
                    <a:pt x="90" y="304"/>
                  </a:lnTo>
                  <a:lnTo>
                    <a:pt x="61" y="330"/>
                  </a:lnTo>
                  <a:lnTo>
                    <a:pt x="31" y="356"/>
                  </a:lnTo>
                  <a:lnTo>
                    <a:pt x="0" y="382"/>
                  </a:lnTo>
                  <a:lnTo>
                    <a:pt x="4" y="392"/>
                  </a:lnTo>
                  <a:lnTo>
                    <a:pt x="10" y="400"/>
                  </a:lnTo>
                  <a:lnTo>
                    <a:pt x="17" y="408"/>
                  </a:lnTo>
                  <a:lnTo>
                    <a:pt x="22" y="414"/>
                  </a:lnTo>
                  <a:lnTo>
                    <a:pt x="28" y="418"/>
                  </a:lnTo>
                  <a:lnTo>
                    <a:pt x="34" y="422"/>
                  </a:lnTo>
                  <a:lnTo>
                    <a:pt x="41" y="425"/>
                  </a:lnTo>
                  <a:lnTo>
                    <a:pt x="48" y="427"/>
                  </a:lnTo>
                  <a:lnTo>
                    <a:pt x="53" y="428"/>
                  </a:lnTo>
                  <a:lnTo>
                    <a:pt x="61" y="429"/>
                  </a:lnTo>
                  <a:lnTo>
                    <a:pt x="68" y="428"/>
                  </a:lnTo>
                  <a:lnTo>
                    <a:pt x="74" y="427"/>
                  </a:lnTo>
                  <a:lnTo>
                    <a:pt x="89" y="424"/>
                  </a:lnTo>
                  <a:lnTo>
                    <a:pt x="103" y="418"/>
                  </a:lnTo>
                  <a:lnTo>
                    <a:pt x="134" y="401"/>
                  </a:lnTo>
                  <a:lnTo>
                    <a:pt x="167" y="382"/>
                  </a:lnTo>
                  <a:lnTo>
                    <a:pt x="183" y="374"/>
                  </a:lnTo>
                  <a:lnTo>
                    <a:pt x="200" y="365"/>
                  </a:lnTo>
                  <a:lnTo>
                    <a:pt x="217" y="357"/>
                  </a:lnTo>
                  <a:lnTo>
                    <a:pt x="234" y="351"/>
                  </a:lnTo>
                  <a:lnTo>
                    <a:pt x="242" y="346"/>
                  </a:lnTo>
                  <a:lnTo>
                    <a:pt x="271" y="334"/>
                  </a:lnTo>
                  <a:lnTo>
                    <a:pt x="301" y="317"/>
                  </a:lnTo>
                  <a:lnTo>
                    <a:pt x="318" y="309"/>
                  </a:lnTo>
                  <a:lnTo>
                    <a:pt x="334" y="303"/>
                  </a:lnTo>
                  <a:lnTo>
                    <a:pt x="351" y="297"/>
                  </a:lnTo>
                  <a:lnTo>
                    <a:pt x="370" y="294"/>
                  </a:lnTo>
                  <a:lnTo>
                    <a:pt x="379" y="293"/>
                  </a:lnTo>
                  <a:lnTo>
                    <a:pt x="389" y="293"/>
                  </a:lnTo>
                  <a:lnTo>
                    <a:pt x="399" y="293"/>
                  </a:lnTo>
                  <a:lnTo>
                    <a:pt x="410" y="295"/>
                  </a:lnTo>
                  <a:lnTo>
                    <a:pt x="420" y="296"/>
                  </a:lnTo>
                  <a:lnTo>
                    <a:pt x="431" y="299"/>
                  </a:lnTo>
                  <a:lnTo>
                    <a:pt x="442" y="304"/>
                  </a:lnTo>
                  <a:lnTo>
                    <a:pt x="453" y="308"/>
                  </a:lnTo>
                  <a:lnTo>
                    <a:pt x="465" y="315"/>
                  </a:lnTo>
                  <a:lnTo>
                    <a:pt x="478" y="323"/>
                  </a:lnTo>
                  <a:lnTo>
                    <a:pt x="490" y="331"/>
                  </a:lnTo>
                  <a:lnTo>
                    <a:pt x="503" y="341"/>
                  </a:lnTo>
                  <a:lnTo>
                    <a:pt x="516" y="353"/>
                  </a:lnTo>
                  <a:lnTo>
                    <a:pt x="530" y="365"/>
                  </a:lnTo>
                  <a:lnTo>
                    <a:pt x="544" y="379"/>
                  </a:lnTo>
                  <a:lnTo>
                    <a:pt x="559" y="396"/>
                  </a:lnTo>
                  <a:lnTo>
                    <a:pt x="533" y="400"/>
                  </a:lnTo>
                  <a:lnTo>
                    <a:pt x="508" y="392"/>
                  </a:lnTo>
                  <a:lnTo>
                    <a:pt x="483" y="386"/>
                  </a:lnTo>
                  <a:lnTo>
                    <a:pt x="460" y="379"/>
                  </a:lnTo>
                  <a:lnTo>
                    <a:pt x="436" y="375"/>
                  </a:lnTo>
                  <a:lnTo>
                    <a:pt x="414" y="371"/>
                  </a:lnTo>
                  <a:lnTo>
                    <a:pt x="394" y="370"/>
                  </a:lnTo>
                  <a:lnTo>
                    <a:pt x="384" y="371"/>
                  </a:lnTo>
                  <a:lnTo>
                    <a:pt x="374" y="372"/>
                  </a:lnTo>
                  <a:lnTo>
                    <a:pt x="364" y="375"/>
                  </a:lnTo>
                  <a:lnTo>
                    <a:pt x="355" y="377"/>
                  </a:lnTo>
                  <a:lnTo>
                    <a:pt x="351" y="37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3828960" y="5172120"/>
              <a:ext cx="1368360" cy="915840"/>
            </a:xfrm>
            <a:custGeom>
              <a:avLst/>
              <a:gdLst/>
              <a:ahLst/>
              <a:rect l="l" t="t" r="r" b="b"/>
              <a:pathLst>
                <a:path w="4312" h="2885">
                  <a:moveTo>
                    <a:pt x="2584" y="2114"/>
                  </a:moveTo>
                  <a:lnTo>
                    <a:pt x="2564" y="2116"/>
                  </a:lnTo>
                  <a:lnTo>
                    <a:pt x="2545" y="2117"/>
                  </a:lnTo>
                  <a:lnTo>
                    <a:pt x="2526" y="2119"/>
                  </a:lnTo>
                  <a:lnTo>
                    <a:pt x="2506" y="2121"/>
                  </a:lnTo>
                  <a:lnTo>
                    <a:pt x="2488" y="2124"/>
                  </a:lnTo>
                  <a:lnTo>
                    <a:pt x="2469" y="2128"/>
                  </a:lnTo>
                  <a:lnTo>
                    <a:pt x="2450" y="2133"/>
                  </a:lnTo>
                  <a:lnTo>
                    <a:pt x="2431" y="2138"/>
                  </a:lnTo>
                  <a:lnTo>
                    <a:pt x="2412" y="2143"/>
                  </a:lnTo>
                  <a:lnTo>
                    <a:pt x="2394" y="2150"/>
                  </a:lnTo>
                  <a:lnTo>
                    <a:pt x="2377" y="2157"/>
                  </a:lnTo>
                  <a:lnTo>
                    <a:pt x="2359" y="2164"/>
                  </a:lnTo>
                  <a:lnTo>
                    <a:pt x="2323" y="2180"/>
                  </a:lnTo>
                  <a:lnTo>
                    <a:pt x="2290" y="2198"/>
                  </a:lnTo>
                  <a:lnTo>
                    <a:pt x="2258" y="2218"/>
                  </a:lnTo>
                  <a:lnTo>
                    <a:pt x="2228" y="2238"/>
                  </a:lnTo>
                  <a:lnTo>
                    <a:pt x="2213" y="2249"/>
                  </a:lnTo>
                  <a:lnTo>
                    <a:pt x="2200" y="2260"/>
                  </a:lnTo>
                  <a:lnTo>
                    <a:pt x="2187" y="2272"/>
                  </a:lnTo>
                  <a:lnTo>
                    <a:pt x="2173" y="2283"/>
                  </a:lnTo>
                  <a:lnTo>
                    <a:pt x="2161" y="2295"/>
                  </a:lnTo>
                  <a:lnTo>
                    <a:pt x="2150" y="2308"/>
                  </a:lnTo>
                  <a:lnTo>
                    <a:pt x="2139" y="2320"/>
                  </a:lnTo>
                  <a:lnTo>
                    <a:pt x="2129" y="2333"/>
                  </a:lnTo>
                  <a:lnTo>
                    <a:pt x="2119" y="2345"/>
                  </a:lnTo>
                  <a:lnTo>
                    <a:pt x="2110" y="2359"/>
                  </a:lnTo>
                  <a:lnTo>
                    <a:pt x="2102" y="2372"/>
                  </a:lnTo>
                  <a:lnTo>
                    <a:pt x="2094" y="2385"/>
                  </a:lnTo>
                  <a:lnTo>
                    <a:pt x="2083" y="2409"/>
                  </a:lnTo>
                  <a:lnTo>
                    <a:pt x="2073" y="2432"/>
                  </a:lnTo>
                  <a:lnTo>
                    <a:pt x="2066" y="2457"/>
                  </a:lnTo>
                  <a:lnTo>
                    <a:pt x="2058" y="2483"/>
                  </a:lnTo>
                  <a:lnTo>
                    <a:pt x="2046" y="2534"/>
                  </a:lnTo>
                  <a:lnTo>
                    <a:pt x="2033" y="2587"/>
                  </a:lnTo>
                  <a:lnTo>
                    <a:pt x="2028" y="2614"/>
                  </a:lnTo>
                  <a:lnTo>
                    <a:pt x="2021" y="2639"/>
                  </a:lnTo>
                  <a:lnTo>
                    <a:pt x="2013" y="2665"/>
                  </a:lnTo>
                  <a:lnTo>
                    <a:pt x="2005" y="2691"/>
                  </a:lnTo>
                  <a:lnTo>
                    <a:pt x="1995" y="2715"/>
                  </a:lnTo>
                  <a:lnTo>
                    <a:pt x="1983" y="2738"/>
                  </a:lnTo>
                  <a:lnTo>
                    <a:pt x="1977" y="2750"/>
                  </a:lnTo>
                  <a:lnTo>
                    <a:pt x="1970" y="2762"/>
                  </a:lnTo>
                  <a:lnTo>
                    <a:pt x="1962" y="2773"/>
                  </a:lnTo>
                  <a:lnTo>
                    <a:pt x="1955" y="2784"/>
                  </a:lnTo>
                  <a:lnTo>
                    <a:pt x="1939" y="2802"/>
                  </a:lnTo>
                  <a:lnTo>
                    <a:pt x="1925" y="2817"/>
                  </a:lnTo>
                  <a:lnTo>
                    <a:pt x="1908" y="2830"/>
                  </a:lnTo>
                  <a:lnTo>
                    <a:pt x="1891" y="2843"/>
                  </a:lnTo>
                  <a:lnTo>
                    <a:pt x="1873" y="2853"/>
                  </a:lnTo>
                  <a:lnTo>
                    <a:pt x="1857" y="2861"/>
                  </a:lnTo>
                  <a:lnTo>
                    <a:pt x="1838" y="2869"/>
                  </a:lnTo>
                  <a:lnTo>
                    <a:pt x="1819" y="2875"/>
                  </a:lnTo>
                  <a:lnTo>
                    <a:pt x="1800" y="2879"/>
                  </a:lnTo>
                  <a:lnTo>
                    <a:pt x="1781" y="2881"/>
                  </a:lnTo>
                  <a:lnTo>
                    <a:pt x="1761" y="2884"/>
                  </a:lnTo>
                  <a:lnTo>
                    <a:pt x="1741" y="2885"/>
                  </a:lnTo>
                  <a:lnTo>
                    <a:pt x="1720" y="2885"/>
                  </a:lnTo>
                  <a:lnTo>
                    <a:pt x="1700" y="2883"/>
                  </a:lnTo>
                  <a:lnTo>
                    <a:pt x="1679" y="2881"/>
                  </a:lnTo>
                  <a:lnTo>
                    <a:pt x="1658" y="2878"/>
                  </a:lnTo>
                  <a:lnTo>
                    <a:pt x="1615" y="2870"/>
                  </a:lnTo>
                  <a:lnTo>
                    <a:pt x="1571" y="2860"/>
                  </a:lnTo>
                  <a:lnTo>
                    <a:pt x="1528" y="2849"/>
                  </a:lnTo>
                  <a:lnTo>
                    <a:pt x="1485" y="2837"/>
                  </a:lnTo>
                  <a:lnTo>
                    <a:pt x="1441" y="2825"/>
                  </a:lnTo>
                  <a:lnTo>
                    <a:pt x="1398" y="2813"/>
                  </a:lnTo>
                  <a:lnTo>
                    <a:pt x="1356" y="2803"/>
                  </a:lnTo>
                  <a:lnTo>
                    <a:pt x="1315" y="2794"/>
                  </a:lnTo>
                  <a:lnTo>
                    <a:pt x="1296" y="2792"/>
                  </a:lnTo>
                  <a:lnTo>
                    <a:pt x="1276" y="2788"/>
                  </a:lnTo>
                  <a:lnTo>
                    <a:pt x="1256" y="2787"/>
                  </a:lnTo>
                  <a:lnTo>
                    <a:pt x="1237" y="2786"/>
                  </a:lnTo>
                  <a:lnTo>
                    <a:pt x="1218" y="2786"/>
                  </a:lnTo>
                  <a:lnTo>
                    <a:pt x="1200" y="2788"/>
                  </a:lnTo>
                  <a:lnTo>
                    <a:pt x="1192" y="2790"/>
                  </a:lnTo>
                  <a:lnTo>
                    <a:pt x="1183" y="2793"/>
                  </a:lnTo>
                  <a:lnTo>
                    <a:pt x="1175" y="2796"/>
                  </a:lnTo>
                  <a:lnTo>
                    <a:pt x="1167" y="2799"/>
                  </a:lnTo>
                  <a:lnTo>
                    <a:pt x="1138" y="2814"/>
                  </a:lnTo>
                  <a:lnTo>
                    <a:pt x="1109" y="2826"/>
                  </a:lnTo>
                  <a:lnTo>
                    <a:pt x="1081" y="2838"/>
                  </a:lnTo>
                  <a:lnTo>
                    <a:pt x="1052" y="2848"/>
                  </a:lnTo>
                  <a:lnTo>
                    <a:pt x="1022" y="2856"/>
                  </a:lnTo>
                  <a:lnTo>
                    <a:pt x="993" y="2863"/>
                  </a:lnTo>
                  <a:lnTo>
                    <a:pt x="963" y="2868"/>
                  </a:lnTo>
                  <a:lnTo>
                    <a:pt x="933" y="2873"/>
                  </a:lnTo>
                  <a:lnTo>
                    <a:pt x="904" y="2875"/>
                  </a:lnTo>
                  <a:lnTo>
                    <a:pt x="874" y="2876"/>
                  </a:lnTo>
                  <a:lnTo>
                    <a:pt x="845" y="2876"/>
                  </a:lnTo>
                  <a:lnTo>
                    <a:pt x="815" y="2874"/>
                  </a:lnTo>
                  <a:lnTo>
                    <a:pt x="786" y="2870"/>
                  </a:lnTo>
                  <a:lnTo>
                    <a:pt x="757" y="2866"/>
                  </a:lnTo>
                  <a:lnTo>
                    <a:pt x="730" y="2859"/>
                  </a:lnTo>
                  <a:lnTo>
                    <a:pt x="702" y="2851"/>
                  </a:lnTo>
                  <a:lnTo>
                    <a:pt x="674" y="2843"/>
                  </a:lnTo>
                  <a:lnTo>
                    <a:pt x="646" y="2833"/>
                  </a:lnTo>
                  <a:lnTo>
                    <a:pt x="620" y="2820"/>
                  </a:lnTo>
                  <a:lnTo>
                    <a:pt x="594" y="2808"/>
                  </a:lnTo>
                  <a:lnTo>
                    <a:pt x="569" y="2794"/>
                  </a:lnTo>
                  <a:lnTo>
                    <a:pt x="544" y="2777"/>
                  </a:lnTo>
                  <a:lnTo>
                    <a:pt x="520" y="2760"/>
                  </a:lnTo>
                  <a:lnTo>
                    <a:pt x="496" y="2742"/>
                  </a:lnTo>
                  <a:lnTo>
                    <a:pt x="474" y="2722"/>
                  </a:lnTo>
                  <a:lnTo>
                    <a:pt x="453" y="2701"/>
                  </a:lnTo>
                  <a:lnTo>
                    <a:pt x="432" y="2678"/>
                  </a:lnTo>
                  <a:lnTo>
                    <a:pt x="413" y="2654"/>
                  </a:lnTo>
                  <a:lnTo>
                    <a:pt x="394" y="2628"/>
                  </a:lnTo>
                  <a:lnTo>
                    <a:pt x="376" y="2603"/>
                  </a:lnTo>
                  <a:lnTo>
                    <a:pt x="360" y="2575"/>
                  </a:lnTo>
                  <a:lnTo>
                    <a:pt x="344" y="2545"/>
                  </a:lnTo>
                  <a:lnTo>
                    <a:pt x="338" y="2532"/>
                  </a:lnTo>
                  <a:lnTo>
                    <a:pt x="330" y="2520"/>
                  </a:lnTo>
                  <a:lnTo>
                    <a:pt x="320" y="2507"/>
                  </a:lnTo>
                  <a:lnTo>
                    <a:pt x="310" y="2495"/>
                  </a:lnTo>
                  <a:lnTo>
                    <a:pt x="298" y="2484"/>
                  </a:lnTo>
                  <a:lnTo>
                    <a:pt x="285" y="2473"/>
                  </a:lnTo>
                  <a:lnTo>
                    <a:pt x="273" y="2462"/>
                  </a:lnTo>
                  <a:lnTo>
                    <a:pt x="259" y="2451"/>
                  </a:lnTo>
                  <a:lnTo>
                    <a:pt x="230" y="2430"/>
                  </a:lnTo>
                  <a:lnTo>
                    <a:pt x="201" y="2410"/>
                  </a:lnTo>
                  <a:lnTo>
                    <a:pt x="171" y="2389"/>
                  </a:lnTo>
                  <a:lnTo>
                    <a:pt x="141" y="2369"/>
                  </a:lnTo>
                  <a:lnTo>
                    <a:pt x="131" y="2361"/>
                  </a:lnTo>
                  <a:lnTo>
                    <a:pt x="115" y="2349"/>
                  </a:lnTo>
                  <a:lnTo>
                    <a:pt x="97" y="2332"/>
                  </a:lnTo>
                  <a:lnTo>
                    <a:pt x="75" y="2310"/>
                  </a:lnTo>
                  <a:lnTo>
                    <a:pt x="65" y="2298"/>
                  </a:lnTo>
                  <a:lnTo>
                    <a:pt x="54" y="2283"/>
                  </a:lnTo>
                  <a:lnTo>
                    <a:pt x="44" y="2269"/>
                  </a:lnTo>
                  <a:lnTo>
                    <a:pt x="34" y="2252"/>
                  </a:lnTo>
                  <a:lnTo>
                    <a:pt x="26" y="2234"/>
                  </a:lnTo>
                  <a:lnTo>
                    <a:pt x="18" y="2215"/>
                  </a:lnTo>
                  <a:lnTo>
                    <a:pt x="11" y="2195"/>
                  </a:lnTo>
                  <a:lnTo>
                    <a:pt x="6" y="2173"/>
                  </a:lnTo>
                  <a:lnTo>
                    <a:pt x="1" y="2151"/>
                  </a:lnTo>
                  <a:lnTo>
                    <a:pt x="0" y="2127"/>
                  </a:lnTo>
                  <a:lnTo>
                    <a:pt x="0" y="2101"/>
                  </a:lnTo>
                  <a:lnTo>
                    <a:pt x="2" y="2074"/>
                  </a:lnTo>
                  <a:lnTo>
                    <a:pt x="7" y="2047"/>
                  </a:lnTo>
                  <a:lnTo>
                    <a:pt x="14" y="2017"/>
                  </a:lnTo>
                  <a:lnTo>
                    <a:pt x="24" y="1987"/>
                  </a:lnTo>
                  <a:lnTo>
                    <a:pt x="38" y="1955"/>
                  </a:lnTo>
                  <a:lnTo>
                    <a:pt x="54" y="1921"/>
                  </a:lnTo>
                  <a:lnTo>
                    <a:pt x="74" y="1887"/>
                  </a:lnTo>
                  <a:lnTo>
                    <a:pt x="99" y="1850"/>
                  </a:lnTo>
                  <a:lnTo>
                    <a:pt x="127" y="1813"/>
                  </a:lnTo>
                  <a:lnTo>
                    <a:pt x="159" y="1774"/>
                  </a:lnTo>
                  <a:lnTo>
                    <a:pt x="194" y="1734"/>
                  </a:lnTo>
                  <a:lnTo>
                    <a:pt x="235" y="1693"/>
                  </a:lnTo>
                  <a:lnTo>
                    <a:pt x="281" y="1649"/>
                  </a:lnTo>
                  <a:lnTo>
                    <a:pt x="326" y="1624"/>
                  </a:lnTo>
                  <a:lnTo>
                    <a:pt x="371" y="1597"/>
                  </a:lnTo>
                  <a:lnTo>
                    <a:pt x="416" y="1571"/>
                  </a:lnTo>
                  <a:lnTo>
                    <a:pt x="462" y="1542"/>
                  </a:lnTo>
                  <a:lnTo>
                    <a:pt x="509" y="1513"/>
                  </a:lnTo>
                  <a:lnTo>
                    <a:pt x="554" y="1483"/>
                  </a:lnTo>
                  <a:lnTo>
                    <a:pt x="600" y="1452"/>
                  </a:lnTo>
                  <a:lnTo>
                    <a:pt x="645" y="1420"/>
                  </a:lnTo>
                  <a:lnTo>
                    <a:pt x="691" y="1387"/>
                  </a:lnTo>
                  <a:lnTo>
                    <a:pt x="736" y="1354"/>
                  </a:lnTo>
                  <a:lnTo>
                    <a:pt x="781" y="1320"/>
                  </a:lnTo>
                  <a:lnTo>
                    <a:pt x="825" y="1284"/>
                  </a:lnTo>
                  <a:lnTo>
                    <a:pt x="870" y="1249"/>
                  </a:lnTo>
                  <a:lnTo>
                    <a:pt x="913" y="1212"/>
                  </a:lnTo>
                  <a:lnTo>
                    <a:pt x="956" y="1174"/>
                  </a:lnTo>
                  <a:lnTo>
                    <a:pt x="998" y="1137"/>
                  </a:lnTo>
                  <a:lnTo>
                    <a:pt x="1039" y="1098"/>
                  </a:lnTo>
                  <a:lnTo>
                    <a:pt x="1081" y="1058"/>
                  </a:lnTo>
                  <a:lnTo>
                    <a:pt x="1121" y="1018"/>
                  </a:lnTo>
                  <a:lnTo>
                    <a:pt x="1159" y="977"/>
                  </a:lnTo>
                  <a:lnTo>
                    <a:pt x="1197" y="935"/>
                  </a:lnTo>
                  <a:lnTo>
                    <a:pt x="1234" y="892"/>
                  </a:lnTo>
                  <a:lnTo>
                    <a:pt x="1270" y="849"/>
                  </a:lnTo>
                  <a:lnTo>
                    <a:pt x="1305" y="805"/>
                  </a:lnTo>
                  <a:lnTo>
                    <a:pt x="1337" y="760"/>
                  </a:lnTo>
                  <a:lnTo>
                    <a:pt x="1369" y="715"/>
                  </a:lnTo>
                  <a:lnTo>
                    <a:pt x="1399" y="669"/>
                  </a:lnTo>
                  <a:lnTo>
                    <a:pt x="1428" y="623"/>
                  </a:lnTo>
                  <a:lnTo>
                    <a:pt x="1456" y="575"/>
                  </a:lnTo>
                  <a:lnTo>
                    <a:pt x="1481" y="527"/>
                  </a:lnTo>
                  <a:lnTo>
                    <a:pt x="1505" y="478"/>
                  </a:lnTo>
                  <a:lnTo>
                    <a:pt x="1527" y="429"/>
                  </a:lnTo>
                  <a:lnTo>
                    <a:pt x="1549" y="426"/>
                  </a:lnTo>
                  <a:lnTo>
                    <a:pt x="1576" y="421"/>
                  </a:lnTo>
                  <a:lnTo>
                    <a:pt x="1608" y="414"/>
                  </a:lnTo>
                  <a:lnTo>
                    <a:pt x="1644" y="406"/>
                  </a:lnTo>
                  <a:lnTo>
                    <a:pt x="1728" y="385"/>
                  </a:lnTo>
                  <a:lnTo>
                    <a:pt x="1826" y="361"/>
                  </a:lnTo>
                  <a:lnTo>
                    <a:pt x="1935" y="332"/>
                  </a:lnTo>
                  <a:lnTo>
                    <a:pt x="2050" y="300"/>
                  </a:lnTo>
                  <a:lnTo>
                    <a:pt x="2172" y="265"/>
                  </a:lnTo>
                  <a:lnTo>
                    <a:pt x="2297" y="230"/>
                  </a:lnTo>
                  <a:lnTo>
                    <a:pt x="2541" y="158"/>
                  </a:lnTo>
                  <a:lnTo>
                    <a:pt x="2764" y="91"/>
                  </a:lnTo>
                  <a:lnTo>
                    <a:pt x="2942" y="35"/>
                  </a:lnTo>
                  <a:lnTo>
                    <a:pt x="3054" y="0"/>
                  </a:lnTo>
                  <a:lnTo>
                    <a:pt x="3064" y="8"/>
                  </a:lnTo>
                  <a:lnTo>
                    <a:pt x="3074" y="17"/>
                  </a:lnTo>
                  <a:lnTo>
                    <a:pt x="3081" y="27"/>
                  </a:lnTo>
                  <a:lnTo>
                    <a:pt x="3087" y="37"/>
                  </a:lnTo>
                  <a:lnTo>
                    <a:pt x="3091" y="49"/>
                  </a:lnTo>
                  <a:lnTo>
                    <a:pt x="3093" y="61"/>
                  </a:lnTo>
                  <a:lnTo>
                    <a:pt x="3093" y="74"/>
                  </a:lnTo>
                  <a:lnTo>
                    <a:pt x="3092" y="89"/>
                  </a:lnTo>
                  <a:lnTo>
                    <a:pt x="3066" y="105"/>
                  </a:lnTo>
                  <a:lnTo>
                    <a:pt x="3040" y="121"/>
                  </a:lnTo>
                  <a:lnTo>
                    <a:pt x="3013" y="135"/>
                  </a:lnTo>
                  <a:lnTo>
                    <a:pt x="2985" y="148"/>
                  </a:lnTo>
                  <a:lnTo>
                    <a:pt x="2957" y="160"/>
                  </a:lnTo>
                  <a:lnTo>
                    <a:pt x="2930" y="171"/>
                  </a:lnTo>
                  <a:lnTo>
                    <a:pt x="2901" y="182"/>
                  </a:lnTo>
                  <a:lnTo>
                    <a:pt x="2872" y="192"/>
                  </a:lnTo>
                  <a:lnTo>
                    <a:pt x="2815" y="211"/>
                  </a:lnTo>
                  <a:lnTo>
                    <a:pt x="2757" y="232"/>
                  </a:lnTo>
                  <a:lnTo>
                    <a:pt x="2730" y="242"/>
                  </a:lnTo>
                  <a:lnTo>
                    <a:pt x="2702" y="253"/>
                  </a:lnTo>
                  <a:lnTo>
                    <a:pt x="2674" y="265"/>
                  </a:lnTo>
                  <a:lnTo>
                    <a:pt x="2648" y="279"/>
                  </a:lnTo>
                  <a:lnTo>
                    <a:pt x="2603" y="301"/>
                  </a:lnTo>
                  <a:lnTo>
                    <a:pt x="2558" y="321"/>
                  </a:lnTo>
                  <a:lnTo>
                    <a:pt x="2511" y="340"/>
                  </a:lnTo>
                  <a:lnTo>
                    <a:pt x="2465" y="357"/>
                  </a:lnTo>
                  <a:lnTo>
                    <a:pt x="2372" y="392"/>
                  </a:lnTo>
                  <a:lnTo>
                    <a:pt x="2278" y="424"/>
                  </a:lnTo>
                  <a:lnTo>
                    <a:pt x="2186" y="457"/>
                  </a:lnTo>
                  <a:lnTo>
                    <a:pt x="2094" y="492"/>
                  </a:lnTo>
                  <a:lnTo>
                    <a:pt x="2050" y="509"/>
                  </a:lnTo>
                  <a:lnTo>
                    <a:pt x="2007" y="528"/>
                  </a:lnTo>
                  <a:lnTo>
                    <a:pt x="1965" y="548"/>
                  </a:lnTo>
                  <a:lnTo>
                    <a:pt x="1923" y="569"/>
                  </a:lnTo>
                  <a:lnTo>
                    <a:pt x="1912" y="569"/>
                  </a:lnTo>
                  <a:lnTo>
                    <a:pt x="1902" y="572"/>
                  </a:lnTo>
                  <a:lnTo>
                    <a:pt x="1892" y="575"/>
                  </a:lnTo>
                  <a:lnTo>
                    <a:pt x="1881" y="578"/>
                  </a:lnTo>
                  <a:lnTo>
                    <a:pt x="1862" y="588"/>
                  </a:lnTo>
                  <a:lnTo>
                    <a:pt x="1843" y="598"/>
                  </a:lnTo>
                  <a:lnTo>
                    <a:pt x="1835" y="603"/>
                  </a:lnTo>
                  <a:lnTo>
                    <a:pt x="1825" y="607"/>
                  </a:lnTo>
                  <a:lnTo>
                    <a:pt x="1816" y="610"/>
                  </a:lnTo>
                  <a:lnTo>
                    <a:pt x="1807" y="613"/>
                  </a:lnTo>
                  <a:lnTo>
                    <a:pt x="1797" y="614"/>
                  </a:lnTo>
                  <a:lnTo>
                    <a:pt x="1788" y="614"/>
                  </a:lnTo>
                  <a:lnTo>
                    <a:pt x="1779" y="613"/>
                  </a:lnTo>
                  <a:lnTo>
                    <a:pt x="1769" y="609"/>
                  </a:lnTo>
                  <a:lnTo>
                    <a:pt x="1772" y="600"/>
                  </a:lnTo>
                  <a:lnTo>
                    <a:pt x="1777" y="593"/>
                  </a:lnTo>
                  <a:lnTo>
                    <a:pt x="1781" y="585"/>
                  </a:lnTo>
                  <a:lnTo>
                    <a:pt x="1786" y="579"/>
                  </a:lnTo>
                  <a:lnTo>
                    <a:pt x="1797" y="567"/>
                  </a:lnTo>
                  <a:lnTo>
                    <a:pt x="1808" y="557"/>
                  </a:lnTo>
                  <a:lnTo>
                    <a:pt x="1812" y="552"/>
                  </a:lnTo>
                  <a:lnTo>
                    <a:pt x="1817" y="545"/>
                  </a:lnTo>
                  <a:lnTo>
                    <a:pt x="1820" y="538"/>
                  </a:lnTo>
                  <a:lnTo>
                    <a:pt x="1822" y="532"/>
                  </a:lnTo>
                  <a:lnTo>
                    <a:pt x="1823" y="524"/>
                  </a:lnTo>
                  <a:lnTo>
                    <a:pt x="1825" y="515"/>
                  </a:lnTo>
                  <a:lnTo>
                    <a:pt x="1822" y="504"/>
                  </a:lnTo>
                  <a:lnTo>
                    <a:pt x="1820" y="493"/>
                  </a:lnTo>
                  <a:lnTo>
                    <a:pt x="1784" y="493"/>
                  </a:lnTo>
                  <a:lnTo>
                    <a:pt x="1762" y="509"/>
                  </a:lnTo>
                  <a:lnTo>
                    <a:pt x="1739" y="528"/>
                  </a:lnTo>
                  <a:lnTo>
                    <a:pt x="1715" y="548"/>
                  </a:lnTo>
                  <a:lnTo>
                    <a:pt x="1690" y="572"/>
                  </a:lnTo>
                  <a:lnTo>
                    <a:pt x="1637" y="622"/>
                  </a:lnTo>
                  <a:lnTo>
                    <a:pt x="1580" y="678"/>
                  </a:lnTo>
                  <a:lnTo>
                    <a:pt x="1521" y="739"/>
                  </a:lnTo>
                  <a:lnTo>
                    <a:pt x="1461" y="806"/>
                  </a:lnTo>
                  <a:lnTo>
                    <a:pt x="1401" y="876"/>
                  </a:lnTo>
                  <a:lnTo>
                    <a:pt x="1342" y="948"/>
                  </a:lnTo>
                  <a:lnTo>
                    <a:pt x="1282" y="1022"/>
                  </a:lnTo>
                  <a:lnTo>
                    <a:pt x="1225" y="1097"/>
                  </a:lnTo>
                  <a:lnTo>
                    <a:pt x="1197" y="1134"/>
                  </a:lnTo>
                  <a:lnTo>
                    <a:pt x="1170" y="1172"/>
                  </a:lnTo>
                  <a:lnTo>
                    <a:pt x="1144" y="1210"/>
                  </a:lnTo>
                  <a:lnTo>
                    <a:pt x="1119" y="1248"/>
                  </a:lnTo>
                  <a:lnTo>
                    <a:pt x="1096" y="1284"/>
                  </a:lnTo>
                  <a:lnTo>
                    <a:pt x="1073" y="1321"/>
                  </a:lnTo>
                  <a:lnTo>
                    <a:pt x="1052" y="1356"/>
                  </a:lnTo>
                  <a:lnTo>
                    <a:pt x="1032" y="1392"/>
                  </a:lnTo>
                  <a:lnTo>
                    <a:pt x="1014" y="1426"/>
                  </a:lnTo>
                  <a:lnTo>
                    <a:pt x="997" y="1460"/>
                  </a:lnTo>
                  <a:lnTo>
                    <a:pt x="982" y="1492"/>
                  </a:lnTo>
                  <a:lnTo>
                    <a:pt x="968" y="1523"/>
                  </a:lnTo>
                  <a:lnTo>
                    <a:pt x="968" y="1528"/>
                  </a:lnTo>
                  <a:lnTo>
                    <a:pt x="967" y="1534"/>
                  </a:lnTo>
                  <a:lnTo>
                    <a:pt x="965" y="1539"/>
                  </a:lnTo>
                  <a:lnTo>
                    <a:pt x="963" y="1544"/>
                  </a:lnTo>
                  <a:lnTo>
                    <a:pt x="957" y="1552"/>
                  </a:lnTo>
                  <a:lnTo>
                    <a:pt x="951" y="1557"/>
                  </a:lnTo>
                  <a:lnTo>
                    <a:pt x="943" y="1563"/>
                  </a:lnTo>
                  <a:lnTo>
                    <a:pt x="934" y="1567"/>
                  </a:lnTo>
                  <a:lnTo>
                    <a:pt x="925" y="1571"/>
                  </a:lnTo>
                  <a:lnTo>
                    <a:pt x="916" y="1574"/>
                  </a:lnTo>
                  <a:lnTo>
                    <a:pt x="907" y="1578"/>
                  </a:lnTo>
                  <a:lnTo>
                    <a:pt x="900" y="1582"/>
                  </a:lnTo>
                  <a:lnTo>
                    <a:pt x="892" y="1586"/>
                  </a:lnTo>
                  <a:lnTo>
                    <a:pt x="886" y="1591"/>
                  </a:lnTo>
                  <a:lnTo>
                    <a:pt x="883" y="1594"/>
                  </a:lnTo>
                  <a:lnTo>
                    <a:pt x="881" y="1597"/>
                  </a:lnTo>
                  <a:lnTo>
                    <a:pt x="880" y="1601"/>
                  </a:lnTo>
                  <a:lnTo>
                    <a:pt x="878" y="1604"/>
                  </a:lnTo>
                  <a:lnTo>
                    <a:pt x="877" y="1608"/>
                  </a:lnTo>
                  <a:lnTo>
                    <a:pt x="877" y="1613"/>
                  </a:lnTo>
                  <a:lnTo>
                    <a:pt x="878" y="1618"/>
                  </a:lnTo>
                  <a:lnTo>
                    <a:pt x="880" y="1624"/>
                  </a:lnTo>
                  <a:lnTo>
                    <a:pt x="872" y="1632"/>
                  </a:lnTo>
                  <a:lnTo>
                    <a:pt x="852" y="1652"/>
                  </a:lnTo>
                  <a:lnTo>
                    <a:pt x="838" y="1666"/>
                  </a:lnTo>
                  <a:lnTo>
                    <a:pt x="823" y="1683"/>
                  </a:lnTo>
                  <a:lnTo>
                    <a:pt x="807" y="1703"/>
                  </a:lnTo>
                  <a:lnTo>
                    <a:pt x="791" y="1724"/>
                  </a:lnTo>
                  <a:lnTo>
                    <a:pt x="775" y="1746"/>
                  </a:lnTo>
                  <a:lnTo>
                    <a:pt x="760" y="1770"/>
                  </a:lnTo>
                  <a:lnTo>
                    <a:pt x="745" y="1796"/>
                  </a:lnTo>
                  <a:lnTo>
                    <a:pt x="733" y="1823"/>
                  </a:lnTo>
                  <a:lnTo>
                    <a:pt x="727" y="1836"/>
                  </a:lnTo>
                  <a:lnTo>
                    <a:pt x="723" y="1849"/>
                  </a:lnTo>
                  <a:lnTo>
                    <a:pt x="720" y="1862"/>
                  </a:lnTo>
                  <a:lnTo>
                    <a:pt x="716" y="1876"/>
                  </a:lnTo>
                  <a:lnTo>
                    <a:pt x="714" y="1890"/>
                  </a:lnTo>
                  <a:lnTo>
                    <a:pt x="712" y="1904"/>
                  </a:lnTo>
                  <a:lnTo>
                    <a:pt x="712" y="1917"/>
                  </a:lnTo>
                  <a:lnTo>
                    <a:pt x="713" y="1930"/>
                  </a:lnTo>
                  <a:lnTo>
                    <a:pt x="816" y="1827"/>
                  </a:lnTo>
                  <a:lnTo>
                    <a:pt x="818" y="1841"/>
                  </a:lnTo>
                  <a:lnTo>
                    <a:pt x="820" y="1856"/>
                  </a:lnTo>
                  <a:lnTo>
                    <a:pt x="820" y="1870"/>
                  </a:lnTo>
                  <a:lnTo>
                    <a:pt x="818" y="1885"/>
                  </a:lnTo>
                  <a:lnTo>
                    <a:pt x="814" y="1915"/>
                  </a:lnTo>
                  <a:lnTo>
                    <a:pt x="808" y="1946"/>
                  </a:lnTo>
                  <a:lnTo>
                    <a:pt x="806" y="1961"/>
                  </a:lnTo>
                  <a:lnTo>
                    <a:pt x="804" y="1977"/>
                  </a:lnTo>
                  <a:lnTo>
                    <a:pt x="803" y="1992"/>
                  </a:lnTo>
                  <a:lnTo>
                    <a:pt x="803" y="2008"/>
                  </a:lnTo>
                  <a:lnTo>
                    <a:pt x="804" y="2023"/>
                  </a:lnTo>
                  <a:lnTo>
                    <a:pt x="806" y="2039"/>
                  </a:lnTo>
                  <a:lnTo>
                    <a:pt x="810" y="2055"/>
                  </a:lnTo>
                  <a:lnTo>
                    <a:pt x="816" y="2070"/>
                  </a:lnTo>
                  <a:lnTo>
                    <a:pt x="842" y="2070"/>
                  </a:lnTo>
                  <a:lnTo>
                    <a:pt x="847" y="2023"/>
                  </a:lnTo>
                  <a:lnTo>
                    <a:pt x="854" y="1981"/>
                  </a:lnTo>
                  <a:lnTo>
                    <a:pt x="861" y="1941"/>
                  </a:lnTo>
                  <a:lnTo>
                    <a:pt x="867" y="1905"/>
                  </a:lnTo>
                  <a:lnTo>
                    <a:pt x="875" y="1871"/>
                  </a:lnTo>
                  <a:lnTo>
                    <a:pt x="883" y="1840"/>
                  </a:lnTo>
                  <a:lnTo>
                    <a:pt x="891" y="1813"/>
                  </a:lnTo>
                  <a:lnTo>
                    <a:pt x="898" y="1787"/>
                  </a:lnTo>
                  <a:lnTo>
                    <a:pt x="907" y="1765"/>
                  </a:lnTo>
                  <a:lnTo>
                    <a:pt x="915" y="1744"/>
                  </a:lnTo>
                  <a:lnTo>
                    <a:pt x="924" y="1726"/>
                  </a:lnTo>
                  <a:lnTo>
                    <a:pt x="933" y="1709"/>
                  </a:lnTo>
                  <a:lnTo>
                    <a:pt x="942" y="1695"/>
                  </a:lnTo>
                  <a:lnTo>
                    <a:pt x="949" y="1683"/>
                  </a:lnTo>
                  <a:lnTo>
                    <a:pt x="958" y="1672"/>
                  </a:lnTo>
                  <a:lnTo>
                    <a:pt x="966" y="1662"/>
                  </a:lnTo>
                  <a:lnTo>
                    <a:pt x="982" y="1646"/>
                  </a:lnTo>
                  <a:lnTo>
                    <a:pt x="995" y="1635"/>
                  </a:lnTo>
                  <a:lnTo>
                    <a:pt x="1006" y="1626"/>
                  </a:lnTo>
                  <a:lnTo>
                    <a:pt x="1016" y="1619"/>
                  </a:lnTo>
                  <a:lnTo>
                    <a:pt x="1019" y="1616"/>
                  </a:lnTo>
                  <a:lnTo>
                    <a:pt x="1022" y="1614"/>
                  </a:lnTo>
                  <a:lnTo>
                    <a:pt x="1024" y="1611"/>
                  </a:lnTo>
                  <a:lnTo>
                    <a:pt x="1025" y="1606"/>
                  </a:lnTo>
                  <a:lnTo>
                    <a:pt x="1025" y="1603"/>
                  </a:lnTo>
                  <a:lnTo>
                    <a:pt x="1024" y="1598"/>
                  </a:lnTo>
                  <a:lnTo>
                    <a:pt x="1023" y="1593"/>
                  </a:lnTo>
                  <a:lnTo>
                    <a:pt x="1019" y="1586"/>
                  </a:lnTo>
                  <a:lnTo>
                    <a:pt x="1027" y="1573"/>
                  </a:lnTo>
                  <a:lnTo>
                    <a:pt x="1037" y="1559"/>
                  </a:lnTo>
                  <a:lnTo>
                    <a:pt x="1046" y="1546"/>
                  </a:lnTo>
                  <a:lnTo>
                    <a:pt x="1056" y="1532"/>
                  </a:lnTo>
                  <a:lnTo>
                    <a:pt x="1065" y="1517"/>
                  </a:lnTo>
                  <a:lnTo>
                    <a:pt x="1073" y="1503"/>
                  </a:lnTo>
                  <a:lnTo>
                    <a:pt x="1078" y="1488"/>
                  </a:lnTo>
                  <a:lnTo>
                    <a:pt x="1083" y="1473"/>
                  </a:lnTo>
                  <a:lnTo>
                    <a:pt x="1139" y="1384"/>
                  </a:lnTo>
                  <a:lnTo>
                    <a:pt x="1197" y="1299"/>
                  </a:lnTo>
                  <a:lnTo>
                    <a:pt x="1225" y="1258"/>
                  </a:lnTo>
                  <a:lnTo>
                    <a:pt x="1254" y="1218"/>
                  </a:lnTo>
                  <a:lnTo>
                    <a:pt x="1284" y="1178"/>
                  </a:lnTo>
                  <a:lnTo>
                    <a:pt x="1313" y="1138"/>
                  </a:lnTo>
                  <a:lnTo>
                    <a:pt x="1343" y="1099"/>
                  </a:lnTo>
                  <a:lnTo>
                    <a:pt x="1374" y="1060"/>
                  </a:lnTo>
                  <a:lnTo>
                    <a:pt x="1406" y="1021"/>
                  </a:lnTo>
                  <a:lnTo>
                    <a:pt x="1438" y="982"/>
                  </a:lnTo>
                  <a:lnTo>
                    <a:pt x="1471" y="943"/>
                  </a:lnTo>
                  <a:lnTo>
                    <a:pt x="1506" y="905"/>
                  </a:lnTo>
                  <a:lnTo>
                    <a:pt x="1541" y="865"/>
                  </a:lnTo>
                  <a:lnTo>
                    <a:pt x="1579" y="826"/>
                  </a:lnTo>
                  <a:lnTo>
                    <a:pt x="1626" y="798"/>
                  </a:lnTo>
                  <a:lnTo>
                    <a:pt x="1672" y="772"/>
                  </a:lnTo>
                  <a:lnTo>
                    <a:pt x="1719" y="748"/>
                  </a:lnTo>
                  <a:lnTo>
                    <a:pt x="1767" y="724"/>
                  </a:lnTo>
                  <a:lnTo>
                    <a:pt x="1815" y="699"/>
                  </a:lnTo>
                  <a:lnTo>
                    <a:pt x="1863" y="677"/>
                  </a:lnTo>
                  <a:lnTo>
                    <a:pt x="1911" y="655"/>
                  </a:lnTo>
                  <a:lnTo>
                    <a:pt x="1960" y="633"/>
                  </a:lnTo>
                  <a:lnTo>
                    <a:pt x="2058" y="590"/>
                  </a:lnTo>
                  <a:lnTo>
                    <a:pt x="2157" y="550"/>
                  </a:lnTo>
                  <a:lnTo>
                    <a:pt x="2257" y="513"/>
                  </a:lnTo>
                  <a:lnTo>
                    <a:pt x="2357" y="475"/>
                  </a:lnTo>
                  <a:lnTo>
                    <a:pt x="2556" y="403"/>
                  </a:lnTo>
                  <a:lnTo>
                    <a:pt x="2757" y="330"/>
                  </a:lnTo>
                  <a:lnTo>
                    <a:pt x="2857" y="293"/>
                  </a:lnTo>
                  <a:lnTo>
                    <a:pt x="2957" y="255"/>
                  </a:lnTo>
                  <a:lnTo>
                    <a:pt x="3056" y="216"/>
                  </a:lnTo>
                  <a:lnTo>
                    <a:pt x="3155" y="175"/>
                  </a:lnTo>
                  <a:lnTo>
                    <a:pt x="3163" y="183"/>
                  </a:lnTo>
                  <a:lnTo>
                    <a:pt x="3171" y="192"/>
                  </a:lnTo>
                  <a:lnTo>
                    <a:pt x="3177" y="199"/>
                  </a:lnTo>
                  <a:lnTo>
                    <a:pt x="3185" y="206"/>
                  </a:lnTo>
                  <a:lnTo>
                    <a:pt x="3193" y="212"/>
                  </a:lnTo>
                  <a:lnTo>
                    <a:pt x="3201" y="217"/>
                  </a:lnTo>
                  <a:lnTo>
                    <a:pt x="3209" y="222"/>
                  </a:lnTo>
                  <a:lnTo>
                    <a:pt x="3218" y="226"/>
                  </a:lnTo>
                  <a:lnTo>
                    <a:pt x="3223" y="240"/>
                  </a:lnTo>
                  <a:lnTo>
                    <a:pt x="3229" y="255"/>
                  </a:lnTo>
                  <a:lnTo>
                    <a:pt x="3238" y="272"/>
                  </a:lnTo>
                  <a:lnTo>
                    <a:pt x="3251" y="290"/>
                  </a:lnTo>
                  <a:lnTo>
                    <a:pt x="3264" y="310"/>
                  </a:lnTo>
                  <a:lnTo>
                    <a:pt x="3279" y="330"/>
                  </a:lnTo>
                  <a:lnTo>
                    <a:pt x="3297" y="352"/>
                  </a:lnTo>
                  <a:lnTo>
                    <a:pt x="3316" y="374"/>
                  </a:lnTo>
                  <a:lnTo>
                    <a:pt x="3358" y="422"/>
                  </a:lnTo>
                  <a:lnTo>
                    <a:pt x="3405" y="471"/>
                  </a:lnTo>
                  <a:lnTo>
                    <a:pt x="3455" y="520"/>
                  </a:lnTo>
                  <a:lnTo>
                    <a:pt x="3507" y="570"/>
                  </a:lnTo>
                  <a:lnTo>
                    <a:pt x="3560" y="619"/>
                  </a:lnTo>
                  <a:lnTo>
                    <a:pt x="3613" y="666"/>
                  </a:lnTo>
                  <a:lnTo>
                    <a:pt x="3664" y="709"/>
                  </a:lnTo>
                  <a:lnTo>
                    <a:pt x="3711" y="749"/>
                  </a:lnTo>
                  <a:lnTo>
                    <a:pt x="3755" y="784"/>
                  </a:lnTo>
                  <a:lnTo>
                    <a:pt x="3792" y="812"/>
                  </a:lnTo>
                  <a:lnTo>
                    <a:pt x="3808" y="825"/>
                  </a:lnTo>
                  <a:lnTo>
                    <a:pt x="3822" y="834"/>
                  </a:lnTo>
                  <a:lnTo>
                    <a:pt x="3835" y="841"/>
                  </a:lnTo>
                  <a:lnTo>
                    <a:pt x="3845" y="847"/>
                  </a:lnTo>
                  <a:lnTo>
                    <a:pt x="3861" y="869"/>
                  </a:lnTo>
                  <a:lnTo>
                    <a:pt x="3876" y="891"/>
                  </a:lnTo>
                  <a:lnTo>
                    <a:pt x="3888" y="913"/>
                  </a:lnTo>
                  <a:lnTo>
                    <a:pt x="3899" y="935"/>
                  </a:lnTo>
                  <a:lnTo>
                    <a:pt x="3909" y="957"/>
                  </a:lnTo>
                  <a:lnTo>
                    <a:pt x="3918" y="978"/>
                  </a:lnTo>
                  <a:lnTo>
                    <a:pt x="3926" y="1000"/>
                  </a:lnTo>
                  <a:lnTo>
                    <a:pt x="3932" y="1021"/>
                  </a:lnTo>
                  <a:lnTo>
                    <a:pt x="3947" y="1066"/>
                  </a:lnTo>
                  <a:lnTo>
                    <a:pt x="3960" y="1110"/>
                  </a:lnTo>
                  <a:lnTo>
                    <a:pt x="3968" y="1132"/>
                  </a:lnTo>
                  <a:lnTo>
                    <a:pt x="3976" y="1155"/>
                  </a:lnTo>
                  <a:lnTo>
                    <a:pt x="3985" y="1179"/>
                  </a:lnTo>
                  <a:lnTo>
                    <a:pt x="3996" y="1203"/>
                  </a:lnTo>
                  <a:lnTo>
                    <a:pt x="4011" y="1250"/>
                  </a:lnTo>
                  <a:lnTo>
                    <a:pt x="4029" y="1294"/>
                  </a:lnTo>
                  <a:lnTo>
                    <a:pt x="4047" y="1337"/>
                  </a:lnTo>
                  <a:lnTo>
                    <a:pt x="4067" y="1379"/>
                  </a:lnTo>
                  <a:lnTo>
                    <a:pt x="4107" y="1460"/>
                  </a:lnTo>
                  <a:lnTo>
                    <a:pt x="4150" y="1542"/>
                  </a:lnTo>
                  <a:lnTo>
                    <a:pt x="4171" y="1583"/>
                  </a:lnTo>
                  <a:lnTo>
                    <a:pt x="4193" y="1626"/>
                  </a:lnTo>
                  <a:lnTo>
                    <a:pt x="4214" y="1670"/>
                  </a:lnTo>
                  <a:lnTo>
                    <a:pt x="4236" y="1717"/>
                  </a:lnTo>
                  <a:lnTo>
                    <a:pt x="4256" y="1766"/>
                  </a:lnTo>
                  <a:lnTo>
                    <a:pt x="4276" y="1817"/>
                  </a:lnTo>
                  <a:lnTo>
                    <a:pt x="4294" y="1872"/>
                  </a:lnTo>
                  <a:lnTo>
                    <a:pt x="4312" y="1930"/>
                  </a:lnTo>
                  <a:lnTo>
                    <a:pt x="4290" y="1939"/>
                  </a:lnTo>
                  <a:lnTo>
                    <a:pt x="4264" y="1948"/>
                  </a:lnTo>
                  <a:lnTo>
                    <a:pt x="4236" y="1956"/>
                  </a:lnTo>
                  <a:lnTo>
                    <a:pt x="4204" y="1963"/>
                  </a:lnTo>
                  <a:lnTo>
                    <a:pt x="4171" y="1970"/>
                  </a:lnTo>
                  <a:lnTo>
                    <a:pt x="4137" y="1977"/>
                  </a:lnTo>
                  <a:lnTo>
                    <a:pt x="4100" y="1982"/>
                  </a:lnTo>
                  <a:lnTo>
                    <a:pt x="4065" y="1987"/>
                  </a:lnTo>
                  <a:lnTo>
                    <a:pt x="3991" y="1996"/>
                  </a:lnTo>
                  <a:lnTo>
                    <a:pt x="3920" y="2002"/>
                  </a:lnTo>
                  <a:lnTo>
                    <a:pt x="3856" y="2006"/>
                  </a:lnTo>
                  <a:lnTo>
                    <a:pt x="3800" y="2007"/>
                  </a:lnTo>
                  <a:lnTo>
                    <a:pt x="3740" y="2007"/>
                  </a:lnTo>
                  <a:lnTo>
                    <a:pt x="3683" y="2006"/>
                  </a:lnTo>
                  <a:lnTo>
                    <a:pt x="3627" y="2005"/>
                  </a:lnTo>
                  <a:lnTo>
                    <a:pt x="3574" y="2002"/>
                  </a:lnTo>
                  <a:lnTo>
                    <a:pt x="3523" y="1999"/>
                  </a:lnTo>
                  <a:lnTo>
                    <a:pt x="3474" y="1996"/>
                  </a:lnTo>
                  <a:lnTo>
                    <a:pt x="3427" y="1992"/>
                  </a:lnTo>
                  <a:lnTo>
                    <a:pt x="3382" y="1988"/>
                  </a:lnTo>
                  <a:lnTo>
                    <a:pt x="3338" y="1982"/>
                  </a:lnTo>
                  <a:lnTo>
                    <a:pt x="3296" y="1977"/>
                  </a:lnTo>
                  <a:lnTo>
                    <a:pt x="3256" y="1971"/>
                  </a:lnTo>
                  <a:lnTo>
                    <a:pt x="3217" y="1965"/>
                  </a:lnTo>
                  <a:lnTo>
                    <a:pt x="3181" y="1957"/>
                  </a:lnTo>
                  <a:lnTo>
                    <a:pt x="3144" y="1950"/>
                  </a:lnTo>
                  <a:lnTo>
                    <a:pt x="3109" y="1941"/>
                  </a:lnTo>
                  <a:lnTo>
                    <a:pt x="3076" y="1934"/>
                  </a:lnTo>
                  <a:lnTo>
                    <a:pt x="3043" y="1925"/>
                  </a:lnTo>
                  <a:lnTo>
                    <a:pt x="3012" y="1915"/>
                  </a:lnTo>
                  <a:lnTo>
                    <a:pt x="2981" y="1905"/>
                  </a:lnTo>
                  <a:lnTo>
                    <a:pt x="2951" y="1895"/>
                  </a:lnTo>
                  <a:lnTo>
                    <a:pt x="2892" y="1874"/>
                  </a:lnTo>
                  <a:lnTo>
                    <a:pt x="2835" y="1850"/>
                  </a:lnTo>
                  <a:lnTo>
                    <a:pt x="2781" y="1825"/>
                  </a:lnTo>
                  <a:lnTo>
                    <a:pt x="2725" y="1799"/>
                  </a:lnTo>
                  <a:lnTo>
                    <a:pt x="2671" y="1771"/>
                  </a:lnTo>
                  <a:lnTo>
                    <a:pt x="2615" y="1743"/>
                  </a:lnTo>
                  <a:lnTo>
                    <a:pt x="2404" y="1724"/>
                  </a:lnTo>
                  <a:lnTo>
                    <a:pt x="2434" y="1747"/>
                  </a:lnTo>
                  <a:lnTo>
                    <a:pt x="2465" y="1770"/>
                  </a:lnTo>
                  <a:lnTo>
                    <a:pt x="2498" y="1791"/>
                  </a:lnTo>
                  <a:lnTo>
                    <a:pt x="2530" y="1811"/>
                  </a:lnTo>
                  <a:lnTo>
                    <a:pt x="2563" y="1830"/>
                  </a:lnTo>
                  <a:lnTo>
                    <a:pt x="2596" y="1848"/>
                  </a:lnTo>
                  <a:lnTo>
                    <a:pt x="2632" y="1865"/>
                  </a:lnTo>
                  <a:lnTo>
                    <a:pt x="2666" y="1880"/>
                  </a:lnTo>
                  <a:lnTo>
                    <a:pt x="2702" y="1895"/>
                  </a:lnTo>
                  <a:lnTo>
                    <a:pt x="2739" y="1908"/>
                  </a:lnTo>
                  <a:lnTo>
                    <a:pt x="2775" y="1920"/>
                  </a:lnTo>
                  <a:lnTo>
                    <a:pt x="2813" y="1931"/>
                  </a:lnTo>
                  <a:lnTo>
                    <a:pt x="2850" y="1941"/>
                  </a:lnTo>
                  <a:lnTo>
                    <a:pt x="2887" y="1950"/>
                  </a:lnTo>
                  <a:lnTo>
                    <a:pt x="2926" y="1959"/>
                  </a:lnTo>
                  <a:lnTo>
                    <a:pt x="2965" y="1967"/>
                  </a:lnTo>
                  <a:lnTo>
                    <a:pt x="2957" y="1979"/>
                  </a:lnTo>
                  <a:lnTo>
                    <a:pt x="2950" y="1991"/>
                  </a:lnTo>
                  <a:lnTo>
                    <a:pt x="2941" y="2002"/>
                  </a:lnTo>
                  <a:lnTo>
                    <a:pt x="2930" y="2012"/>
                  </a:lnTo>
                  <a:lnTo>
                    <a:pt x="2918" y="2022"/>
                  </a:lnTo>
                  <a:lnTo>
                    <a:pt x="2906" y="2031"/>
                  </a:lnTo>
                  <a:lnTo>
                    <a:pt x="2893" y="2040"/>
                  </a:lnTo>
                  <a:lnTo>
                    <a:pt x="2879" y="2048"/>
                  </a:lnTo>
                  <a:lnTo>
                    <a:pt x="2863" y="2056"/>
                  </a:lnTo>
                  <a:lnTo>
                    <a:pt x="2849" y="2062"/>
                  </a:lnTo>
                  <a:lnTo>
                    <a:pt x="2832" y="2068"/>
                  </a:lnTo>
                  <a:lnTo>
                    <a:pt x="2816" y="2073"/>
                  </a:lnTo>
                  <a:lnTo>
                    <a:pt x="2783" y="2083"/>
                  </a:lnTo>
                  <a:lnTo>
                    <a:pt x="2751" y="2092"/>
                  </a:lnTo>
                  <a:lnTo>
                    <a:pt x="2719" y="2099"/>
                  </a:lnTo>
                  <a:lnTo>
                    <a:pt x="2687" y="2104"/>
                  </a:lnTo>
                  <a:lnTo>
                    <a:pt x="2660" y="2108"/>
                  </a:lnTo>
                  <a:lnTo>
                    <a:pt x="2634" y="2111"/>
                  </a:lnTo>
                  <a:lnTo>
                    <a:pt x="2598" y="2113"/>
                  </a:lnTo>
                  <a:lnTo>
                    <a:pt x="2584" y="2114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4840200" y="5560920"/>
              <a:ext cx="123840" cy="123840"/>
            </a:xfrm>
            <a:custGeom>
              <a:avLst/>
              <a:gdLst/>
              <a:ahLst/>
              <a:rect l="l" t="t" r="r" b="b"/>
              <a:pathLst>
                <a:path w="388" h="393">
                  <a:moveTo>
                    <a:pt x="237" y="80"/>
                  </a:moveTo>
                  <a:lnTo>
                    <a:pt x="253" y="70"/>
                  </a:lnTo>
                  <a:lnTo>
                    <a:pt x="270" y="62"/>
                  </a:lnTo>
                  <a:lnTo>
                    <a:pt x="278" y="60"/>
                  </a:lnTo>
                  <a:lnTo>
                    <a:pt x="286" y="58"/>
                  </a:lnTo>
                  <a:lnTo>
                    <a:pt x="293" y="57"/>
                  </a:lnTo>
                  <a:lnTo>
                    <a:pt x="301" y="57"/>
                  </a:lnTo>
                  <a:lnTo>
                    <a:pt x="308" y="57"/>
                  </a:lnTo>
                  <a:lnTo>
                    <a:pt x="316" y="58"/>
                  </a:lnTo>
                  <a:lnTo>
                    <a:pt x="323" y="59"/>
                  </a:lnTo>
                  <a:lnTo>
                    <a:pt x="331" y="62"/>
                  </a:lnTo>
                  <a:lnTo>
                    <a:pt x="340" y="66"/>
                  </a:lnTo>
                  <a:lnTo>
                    <a:pt x="348" y="69"/>
                  </a:lnTo>
                  <a:lnTo>
                    <a:pt x="356" y="74"/>
                  </a:lnTo>
                  <a:lnTo>
                    <a:pt x="364" y="80"/>
                  </a:lnTo>
                  <a:lnTo>
                    <a:pt x="368" y="81"/>
                  </a:lnTo>
                  <a:lnTo>
                    <a:pt x="371" y="82"/>
                  </a:lnTo>
                  <a:lnTo>
                    <a:pt x="373" y="85"/>
                  </a:lnTo>
                  <a:lnTo>
                    <a:pt x="376" y="88"/>
                  </a:lnTo>
                  <a:lnTo>
                    <a:pt x="380" y="94"/>
                  </a:lnTo>
                  <a:lnTo>
                    <a:pt x="383" y="103"/>
                  </a:lnTo>
                  <a:lnTo>
                    <a:pt x="387" y="113"/>
                  </a:lnTo>
                  <a:lnTo>
                    <a:pt x="388" y="123"/>
                  </a:lnTo>
                  <a:lnTo>
                    <a:pt x="388" y="134"/>
                  </a:lnTo>
                  <a:lnTo>
                    <a:pt x="388" y="145"/>
                  </a:lnTo>
                  <a:lnTo>
                    <a:pt x="386" y="158"/>
                  </a:lnTo>
                  <a:lnTo>
                    <a:pt x="383" y="168"/>
                  </a:lnTo>
                  <a:lnTo>
                    <a:pt x="380" y="178"/>
                  </a:lnTo>
                  <a:lnTo>
                    <a:pt x="376" y="186"/>
                  </a:lnTo>
                  <a:lnTo>
                    <a:pt x="371" y="194"/>
                  </a:lnTo>
                  <a:lnTo>
                    <a:pt x="366" y="201"/>
                  </a:lnTo>
                  <a:lnTo>
                    <a:pt x="362" y="203"/>
                  </a:lnTo>
                  <a:lnTo>
                    <a:pt x="359" y="204"/>
                  </a:lnTo>
                  <a:lnTo>
                    <a:pt x="356" y="205"/>
                  </a:lnTo>
                  <a:lnTo>
                    <a:pt x="351" y="206"/>
                  </a:lnTo>
                  <a:lnTo>
                    <a:pt x="340" y="208"/>
                  </a:lnTo>
                  <a:lnTo>
                    <a:pt x="330" y="211"/>
                  </a:lnTo>
                  <a:lnTo>
                    <a:pt x="321" y="214"/>
                  </a:lnTo>
                  <a:lnTo>
                    <a:pt x="313" y="220"/>
                  </a:lnTo>
                  <a:lnTo>
                    <a:pt x="308" y="225"/>
                  </a:lnTo>
                  <a:lnTo>
                    <a:pt x="301" y="233"/>
                  </a:lnTo>
                  <a:lnTo>
                    <a:pt x="297" y="240"/>
                  </a:lnTo>
                  <a:lnTo>
                    <a:pt x="292" y="249"/>
                  </a:lnTo>
                  <a:lnTo>
                    <a:pt x="287" y="268"/>
                  </a:lnTo>
                  <a:lnTo>
                    <a:pt x="281" y="286"/>
                  </a:lnTo>
                  <a:lnTo>
                    <a:pt x="278" y="307"/>
                  </a:lnTo>
                  <a:lnTo>
                    <a:pt x="273" y="327"/>
                  </a:lnTo>
                  <a:lnTo>
                    <a:pt x="269" y="346"/>
                  </a:lnTo>
                  <a:lnTo>
                    <a:pt x="262" y="363"/>
                  </a:lnTo>
                  <a:lnTo>
                    <a:pt x="259" y="370"/>
                  </a:lnTo>
                  <a:lnTo>
                    <a:pt x="253" y="376"/>
                  </a:lnTo>
                  <a:lnTo>
                    <a:pt x="249" y="382"/>
                  </a:lnTo>
                  <a:lnTo>
                    <a:pt x="242" y="386"/>
                  </a:lnTo>
                  <a:lnTo>
                    <a:pt x="235" y="390"/>
                  </a:lnTo>
                  <a:lnTo>
                    <a:pt x="227" y="392"/>
                  </a:lnTo>
                  <a:lnTo>
                    <a:pt x="217" y="393"/>
                  </a:lnTo>
                  <a:lnTo>
                    <a:pt x="206" y="392"/>
                  </a:lnTo>
                  <a:lnTo>
                    <a:pt x="193" y="390"/>
                  </a:lnTo>
                  <a:lnTo>
                    <a:pt x="180" y="385"/>
                  </a:lnTo>
                  <a:lnTo>
                    <a:pt x="165" y="380"/>
                  </a:lnTo>
                  <a:lnTo>
                    <a:pt x="148" y="372"/>
                  </a:lnTo>
                  <a:lnTo>
                    <a:pt x="122" y="372"/>
                  </a:lnTo>
                  <a:lnTo>
                    <a:pt x="99" y="370"/>
                  </a:lnTo>
                  <a:lnTo>
                    <a:pt x="79" y="366"/>
                  </a:lnTo>
                  <a:lnTo>
                    <a:pt x="61" y="362"/>
                  </a:lnTo>
                  <a:lnTo>
                    <a:pt x="47" y="356"/>
                  </a:lnTo>
                  <a:lnTo>
                    <a:pt x="35" y="350"/>
                  </a:lnTo>
                  <a:lnTo>
                    <a:pt x="24" y="342"/>
                  </a:lnTo>
                  <a:lnTo>
                    <a:pt x="16" y="333"/>
                  </a:lnTo>
                  <a:lnTo>
                    <a:pt x="9" y="324"/>
                  </a:lnTo>
                  <a:lnTo>
                    <a:pt x="5" y="314"/>
                  </a:lnTo>
                  <a:lnTo>
                    <a:pt x="1" y="303"/>
                  </a:lnTo>
                  <a:lnTo>
                    <a:pt x="0" y="291"/>
                  </a:lnTo>
                  <a:lnTo>
                    <a:pt x="0" y="279"/>
                  </a:lnTo>
                  <a:lnTo>
                    <a:pt x="0" y="266"/>
                  </a:lnTo>
                  <a:lnTo>
                    <a:pt x="2" y="253"/>
                  </a:lnTo>
                  <a:lnTo>
                    <a:pt x="6" y="241"/>
                  </a:lnTo>
                  <a:lnTo>
                    <a:pt x="14" y="213"/>
                  </a:lnTo>
                  <a:lnTo>
                    <a:pt x="24" y="186"/>
                  </a:lnTo>
                  <a:lnTo>
                    <a:pt x="35" y="159"/>
                  </a:lnTo>
                  <a:lnTo>
                    <a:pt x="46" y="133"/>
                  </a:lnTo>
                  <a:lnTo>
                    <a:pt x="54" y="109"/>
                  </a:lnTo>
                  <a:lnTo>
                    <a:pt x="60" y="87"/>
                  </a:lnTo>
                  <a:lnTo>
                    <a:pt x="62" y="77"/>
                  </a:lnTo>
                  <a:lnTo>
                    <a:pt x="62" y="68"/>
                  </a:lnTo>
                  <a:lnTo>
                    <a:pt x="62" y="60"/>
                  </a:lnTo>
                  <a:lnTo>
                    <a:pt x="60" y="52"/>
                  </a:lnTo>
                  <a:lnTo>
                    <a:pt x="79" y="36"/>
                  </a:lnTo>
                  <a:lnTo>
                    <a:pt x="98" y="22"/>
                  </a:lnTo>
                  <a:lnTo>
                    <a:pt x="115" y="12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43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8" y="1"/>
                  </a:lnTo>
                  <a:lnTo>
                    <a:pt x="173" y="2"/>
                  </a:lnTo>
                  <a:lnTo>
                    <a:pt x="179" y="3"/>
                  </a:lnTo>
                  <a:lnTo>
                    <a:pt x="188" y="9"/>
                  </a:lnTo>
                  <a:lnTo>
                    <a:pt x="197" y="16"/>
                  </a:lnTo>
                  <a:lnTo>
                    <a:pt x="206" y="24"/>
                  </a:lnTo>
                  <a:lnTo>
                    <a:pt x="212" y="33"/>
                  </a:lnTo>
                  <a:lnTo>
                    <a:pt x="220" y="44"/>
                  </a:lnTo>
                  <a:lnTo>
                    <a:pt x="226" y="56"/>
                  </a:lnTo>
                  <a:lnTo>
                    <a:pt x="232" y="68"/>
                  </a:lnTo>
                  <a:lnTo>
                    <a:pt x="237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4402080" y="5448240"/>
              <a:ext cx="109440" cy="119160"/>
            </a:xfrm>
            <a:custGeom>
              <a:avLst/>
              <a:gdLst/>
              <a:ahLst/>
              <a:rect l="l" t="t" r="r" b="b"/>
              <a:pathLst>
                <a:path w="343" h="372">
                  <a:moveTo>
                    <a:pt x="320" y="80"/>
                  </a:moveTo>
                  <a:lnTo>
                    <a:pt x="327" y="100"/>
                  </a:lnTo>
                  <a:lnTo>
                    <a:pt x="333" y="118"/>
                  </a:lnTo>
                  <a:lnTo>
                    <a:pt x="337" y="132"/>
                  </a:lnTo>
                  <a:lnTo>
                    <a:pt x="341" y="145"/>
                  </a:lnTo>
                  <a:lnTo>
                    <a:pt x="343" y="158"/>
                  </a:lnTo>
                  <a:lnTo>
                    <a:pt x="343" y="168"/>
                  </a:lnTo>
                  <a:lnTo>
                    <a:pt x="342" y="177"/>
                  </a:lnTo>
                  <a:lnTo>
                    <a:pt x="340" y="184"/>
                  </a:lnTo>
                  <a:lnTo>
                    <a:pt x="337" y="192"/>
                  </a:lnTo>
                  <a:lnTo>
                    <a:pt x="333" y="200"/>
                  </a:lnTo>
                  <a:lnTo>
                    <a:pt x="327" y="206"/>
                  </a:lnTo>
                  <a:lnTo>
                    <a:pt x="322" y="213"/>
                  </a:lnTo>
                  <a:lnTo>
                    <a:pt x="309" y="229"/>
                  </a:lnTo>
                  <a:lnTo>
                    <a:pt x="293" y="248"/>
                  </a:lnTo>
                  <a:lnTo>
                    <a:pt x="274" y="266"/>
                  </a:lnTo>
                  <a:lnTo>
                    <a:pt x="257" y="283"/>
                  </a:lnTo>
                  <a:lnTo>
                    <a:pt x="241" y="299"/>
                  </a:lnTo>
                  <a:lnTo>
                    <a:pt x="225" y="312"/>
                  </a:lnTo>
                  <a:lnTo>
                    <a:pt x="211" y="324"/>
                  </a:lnTo>
                  <a:lnTo>
                    <a:pt x="196" y="334"/>
                  </a:lnTo>
                  <a:lnTo>
                    <a:pt x="183" y="343"/>
                  </a:lnTo>
                  <a:lnTo>
                    <a:pt x="171" y="351"/>
                  </a:lnTo>
                  <a:lnTo>
                    <a:pt x="159" y="357"/>
                  </a:lnTo>
                  <a:lnTo>
                    <a:pt x="148" y="362"/>
                  </a:lnTo>
                  <a:lnTo>
                    <a:pt x="138" y="366"/>
                  </a:lnTo>
                  <a:lnTo>
                    <a:pt x="128" y="369"/>
                  </a:lnTo>
                  <a:lnTo>
                    <a:pt x="119" y="371"/>
                  </a:lnTo>
                  <a:lnTo>
                    <a:pt x="111" y="372"/>
                  </a:lnTo>
                  <a:lnTo>
                    <a:pt x="103" y="372"/>
                  </a:lnTo>
                  <a:lnTo>
                    <a:pt x="95" y="372"/>
                  </a:lnTo>
                  <a:lnTo>
                    <a:pt x="89" y="371"/>
                  </a:lnTo>
                  <a:lnTo>
                    <a:pt x="82" y="370"/>
                  </a:lnTo>
                  <a:lnTo>
                    <a:pt x="76" y="367"/>
                  </a:lnTo>
                  <a:lnTo>
                    <a:pt x="71" y="364"/>
                  </a:lnTo>
                  <a:lnTo>
                    <a:pt x="62" y="359"/>
                  </a:lnTo>
                  <a:lnTo>
                    <a:pt x="54" y="353"/>
                  </a:lnTo>
                  <a:lnTo>
                    <a:pt x="43" y="341"/>
                  </a:lnTo>
                  <a:lnTo>
                    <a:pt x="36" y="334"/>
                  </a:lnTo>
                  <a:lnTo>
                    <a:pt x="26" y="324"/>
                  </a:lnTo>
                  <a:lnTo>
                    <a:pt x="18" y="313"/>
                  </a:lnTo>
                  <a:lnTo>
                    <a:pt x="10" y="301"/>
                  </a:lnTo>
                  <a:lnTo>
                    <a:pt x="4" y="289"/>
                  </a:lnTo>
                  <a:lnTo>
                    <a:pt x="2" y="282"/>
                  </a:lnTo>
                  <a:lnTo>
                    <a:pt x="1" y="274"/>
                  </a:lnTo>
                  <a:lnTo>
                    <a:pt x="0" y="268"/>
                  </a:lnTo>
                  <a:lnTo>
                    <a:pt x="1" y="261"/>
                  </a:lnTo>
                  <a:lnTo>
                    <a:pt x="2" y="254"/>
                  </a:lnTo>
                  <a:lnTo>
                    <a:pt x="4" y="248"/>
                  </a:lnTo>
                  <a:lnTo>
                    <a:pt x="8" y="241"/>
                  </a:lnTo>
                  <a:lnTo>
                    <a:pt x="13" y="234"/>
                  </a:lnTo>
                  <a:lnTo>
                    <a:pt x="21" y="230"/>
                  </a:lnTo>
                  <a:lnTo>
                    <a:pt x="26" y="223"/>
                  </a:lnTo>
                  <a:lnTo>
                    <a:pt x="31" y="216"/>
                  </a:lnTo>
                  <a:lnTo>
                    <a:pt x="34" y="210"/>
                  </a:lnTo>
                  <a:lnTo>
                    <a:pt x="35" y="201"/>
                  </a:lnTo>
                  <a:lnTo>
                    <a:pt x="36" y="192"/>
                  </a:lnTo>
                  <a:lnTo>
                    <a:pt x="35" y="183"/>
                  </a:lnTo>
                  <a:lnTo>
                    <a:pt x="34" y="173"/>
                  </a:lnTo>
                  <a:lnTo>
                    <a:pt x="24" y="131"/>
                  </a:lnTo>
                  <a:lnTo>
                    <a:pt x="14" y="88"/>
                  </a:lnTo>
                  <a:lnTo>
                    <a:pt x="12" y="78"/>
                  </a:lnTo>
                  <a:lnTo>
                    <a:pt x="12" y="68"/>
                  </a:lnTo>
                  <a:lnTo>
                    <a:pt x="12" y="58"/>
                  </a:lnTo>
                  <a:lnTo>
                    <a:pt x="14" y="49"/>
                  </a:lnTo>
                  <a:lnTo>
                    <a:pt x="16" y="40"/>
                  </a:lnTo>
                  <a:lnTo>
                    <a:pt x="21" y="32"/>
                  </a:lnTo>
                  <a:lnTo>
                    <a:pt x="26" y="24"/>
                  </a:lnTo>
                  <a:lnTo>
                    <a:pt x="34" y="18"/>
                  </a:lnTo>
                  <a:lnTo>
                    <a:pt x="43" y="12"/>
                  </a:lnTo>
                  <a:lnTo>
                    <a:pt x="55" y="8"/>
                  </a:lnTo>
                  <a:lnTo>
                    <a:pt x="69" y="4"/>
                  </a:lnTo>
                  <a:lnTo>
                    <a:pt x="85" y="1"/>
                  </a:lnTo>
                  <a:lnTo>
                    <a:pt x="104" y="0"/>
                  </a:lnTo>
                  <a:lnTo>
                    <a:pt x="125" y="0"/>
                  </a:lnTo>
                  <a:lnTo>
                    <a:pt x="150" y="1"/>
                  </a:lnTo>
                  <a:lnTo>
                    <a:pt x="178" y="4"/>
                  </a:lnTo>
                  <a:lnTo>
                    <a:pt x="182" y="6"/>
                  </a:lnTo>
                  <a:lnTo>
                    <a:pt x="194" y="9"/>
                  </a:lnTo>
                  <a:lnTo>
                    <a:pt x="212" y="14"/>
                  </a:lnTo>
                  <a:lnTo>
                    <a:pt x="234" y="23"/>
                  </a:lnTo>
                  <a:lnTo>
                    <a:pt x="246" y="28"/>
                  </a:lnTo>
                  <a:lnTo>
                    <a:pt x="259" y="33"/>
                  </a:lnTo>
                  <a:lnTo>
                    <a:pt x="270" y="40"/>
                  </a:lnTo>
                  <a:lnTo>
                    <a:pt x="282" y="47"/>
                  </a:lnTo>
                  <a:lnTo>
                    <a:pt x="293" y="54"/>
                  </a:lnTo>
                  <a:lnTo>
                    <a:pt x="303" y="62"/>
                  </a:lnTo>
                  <a:lnTo>
                    <a:pt x="312" y="71"/>
                  </a:lnTo>
                  <a:lnTo>
                    <a:pt x="320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4427640" y="5467320"/>
              <a:ext cx="44280" cy="74520"/>
            </a:xfrm>
            <a:custGeom>
              <a:avLst/>
              <a:gdLst/>
              <a:ahLst/>
              <a:rect l="l" t="t" r="r" b="b"/>
              <a:pathLst>
                <a:path w="140" h="237">
                  <a:moveTo>
                    <a:pt x="135" y="62"/>
                  </a:moveTo>
                  <a:lnTo>
                    <a:pt x="138" y="80"/>
                  </a:lnTo>
                  <a:lnTo>
                    <a:pt x="140" y="98"/>
                  </a:lnTo>
                  <a:lnTo>
                    <a:pt x="140" y="114"/>
                  </a:lnTo>
                  <a:lnTo>
                    <a:pt x="138" y="130"/>
                  </a:lnTo>
                  <a:lnTo>
                    <a:pt x="134" y="145"/>
                  </a:lnTo>
                  <a:lnTo>
                    <a:pt x="131" y="160"/>
                  </a:lnTo>
                  <a:lnTo>
                    <a:pt x="125" y="173"/>
                  </a:lnTo>
                  <a:lnTo>
                    <a:pt x="120" y="185"/>
                  </a:lnTo>
                  <a:lnTo>
                    <a:pt x="112" y="196"/>
                  </a:lnTo>
                  <a:lnTo>
                    <a:pt x="104" y="205"/>
                  </a:lnTo>
                  <a:lnTo>
                    <a:pt x="97" y="214"/>
                  </a:lnTo>
                  <a:lnTo>
                    <a:pt x="88" y="222"/>
                  </a:lnTo>
                  <a:lnTo>
                    <a:pt x="80" y="227"/>
                  </a:lnTo>
                  <a:lnTo>
                    <a:pt x="70" y="233"/>
                  </a:lnTo>
                  <a:lnTo>
                    <a:pt x="61" y="235"/>
                  </a:lnTo>
                  <a:lnTo>
                    <a:pt x="53" y="237"/>
                  </a:lnTo>
                  <a:lnTo>
                    <a:pt x="44" y="237"/>
                  </a:lnTo>
                  <a:lnTo>
                    <a:pt x="35" y="236"/>
                  </a:lnTo>
                  <a:lnTo>
                    <a:pt x="29" y="233"/>
                  </a:lnTo>
                  <a:lnTo>
                    <a:pt x="21" y="227"/>
                  </a:lnTo>
                  <a:lnTo>
                    <a:pt x="15" y="221"/>
                  </a:lnTo>
                  <a:lnTo>
                    <a:pt x="10" y="213"/>
                  </a:lnTo>
                  <a:lnTo>
                    <a:pt x="5" y="202"/>
                  </a:lnTo>
                  <a:lnTo>
                    <a:pt x="2" y="190"/>
                  </a:lnTo>
                  <a:lnTo>
                    <a:pt x="1" y="175"/>
                  </a:lnTo>
                  <a:lnTo>
                    <a:pt x="0" y="159"/>
                  </a:lnTo>
                  <a:lnTo>
                    <a:pt x="1" y="140"/>
                  </a:lnTo>
                  <a:lnTo>
                    <a:pt x="4" y="119"/>
                  </a:lnTo>
                  <a:lnTo>
                    <a:pt x="9" y="95"/>
                  </a:lnTo>
                  <a:lnTo>
                    <a:pt x="15" y="70"/>
                  </a:lnTo>
                  <a:lnTo>
                    <a:pt x="24" y="42"/>
                  </a:lnTo>
                  <a:lnTo>
                    <a:pt x="35" y="11"/>
                  </a:lnTo>
                  <a:lnTo>
                    <a:pt x="39" y="7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1" y="1"/>
                  </a:lnTo>
                  <a:lnTo>
                    <a:pt x="79" y="4"/>
                  </a:lnTo>
                  <a:lnTo>
                    <a:pt x="88" y="8"/>
                  </a:lnTo>
                  <a:lnTo>
                    <a:pt x="95" y="12"/>
                  </a:lnTo>
                  <a:lnTo>
                    <a:pt x="103" y="18"/>
                  </a:lnTo>
                  <a:lnTo>
                    <a:pt x="111" y="23"/>
                  </a:lnTo>
                  <a:lnTo>
                    <a:pt x="118" y="30"/>
                  </a:lnTo>
                  <a:lnTo>
                    <a:pt x="124" y="38"/>
                  </a:lnTo>
                  <a:lnTo>
                    <a:pt x="129" y="45"/>
                  </a:lnTo>
                  <a:lnTo>
                    <a:pt x="133" y="53"/>
                  </a:lnTo>
                  <a:lnTo>
                    <a:pt x="135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4865760" y="5600880"/>
              <a:ext cx="63360" cy="6012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28" y="181"/>
                  </a:moveTo>
                  <a:lnTo>
                    <a:pt x="73" y="189"/>
                  </a:lnTo>
                  <a:lnTo>
                    <a:pt x="64" y="189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9" y="182"/>
                  </a:lnTo>
                  <a:lnTo>
                    <a:pt x="32" y="176"/>
                  </a:lnTo>
                  <a:lnTo>
                    <a:pt x="25" y="169"/>
                  </a:lnTo>
                  <a:lnTo>
                    <a:pt x="20" y="162"/>
                  </a:lnTo>
                  <a:lnTo>
                    <a:pt x="14" y="154"/>
                  </a:lnTo>
                  <a:lnTo>
                    <a:pt x="10" y="144"/>
                  </a:lnTo>
                  <a:lnTo>
                    <a:pt x="7" y="135"/>
                  </a:lnTo>
                  <a:lnTo>
                    <a:pt x="4" y="125"/>
                  </a:lnTo>
                  <a:lnTo>
                    <a:pt x="2" y="114"/>
                  </a:lnTo>
                  <a:lnTo>
                    <a:pt x="1" y="104"/>
                  </a:lnTo>
                  <a:lnTo>
                    <a:pt x="0" y="93"/>
                  </a:lnTo>
                  <a:lnTo>
                    <a:pt x="1" y="82"/>
                  </a:lnTo>
                  <a:lnTo>
                    <a:pt x="2" y="72"/>
                  </a:lnTo>
                  <a:lnTo>
                    <a:pt x="4" y="61"/>
                  </a:lnTo>
                  <a:lnTo>
                    <a:pt x="7" y="51"/>
                  </a:lnTo>
                  <a:lnTo>
                    <a:pt x="11" y="42"/>
                  </a:lnTo>
                  <a:lnTo>
                    <a:pt x="15" y="33"/>
                  </a:lnTo>
                  <a:lnTo>
                    <a:pt x="21" y="25"/>
                  </a:lnTo>
                  <a:lnTo>
                    <a:pt x="28" y="17"/>
                  </a:lnTo>
                  <a:lnTo>
                    <a:pt x="34" y="12"/>
                  </a:lnTo>
                  <a:lnTo>
                    <a:pt x="43" y="6"/>
                  </a:lnTo>
                  <a:lnTo>
                    <a:pt x="52" y="3"/>
                  </a:lnTo>
                  <a:lnTo>
                    <a:pt x="62" y="1"/>
                  </a:lnTo>
                  <a:lnTo>
                    <a:pt x="73" y="0"/>
                  </a:lnTo>
                  <a:lnTo>
                    <a:pt x="85" y="1"/>
                  </a:lnTo>
                  <a:lnTo>
                    <a:pt x="99" y="3"/>
                  </a:lnTo>
                  <a:lnTo>
                    <a:pt x="113" y="7"/>
                  </a:lnTo>
                  <a:lnTo>
                    <a:pt x="129" y="14"/>
                  </a:lnTo>
                  <a:lnTo>
                    <a:pt x="144" y="23"/>
                  </a:lnTo>
                  <a:lnTo>
                    <a:pt x="156" y="15"/>
                  </a:lnTo>
                  <a:lnTo>
                    <a:pt x="166" y="10"/>
                  </a:lnTo>
                  <a:lnTo>
                    <a:pt x="175" y="6"/>
                  </a:lnTo>
                  <a:lnTo>
                    <a:pt x="183" y="4"/>
                  </a:lnTo>
                  <a:lnTo>
                    <a:pt x="190" y="3"/>
                  </a:lnTo>
                  <a:lnTo>
                    <a:pt x="194" y="4"/>
                  </a:lnTo>
                  <a:lnTo>
                    <a:pt x="199" y="5"/>
                  </a:lnTo>
                  <a:lnTo>
                    <a:pt x="201" y="9"/>
                  </a:lnTo>
                  <a:lnTo>
                    <a:pt x="203" y="13"/>
                  </a:lnTo>
                  <a:lnTo>
                    <a:pt x="203" y="17"/>
                  </a:lnTo>
                  <a:lnTo>
                    <a:pt x="203" y="24"/>
                  </a:lnTo>
                  <a:lnTo>
                    <a:pt x="202" y="31"/>
                  </a:lnTo>
                  <a:lnTo>
                    <a:pt x="199" y="46"/>
                  </a:lnTo>
                  <a:lnTo>
                    <a:pt x="192" y="63"/>
                  </a:lnTo>
                  <a:lnTo>
                    <a:pt x="184" y="82"/>
                  </a:lnTo>
                  <a:lnTo>
                    <a:pt x="175" y="101"/>
                  </a:lnTo>
                  <a:lnTo>
                    <a:pt x="165" y="120"/>
                  </a:lnTo>
                  <a:lnTo>
                    <a:pt x="155" y="137"/>
                  </a:lnTo>
                  <a:lnTo>
                    <a:pt x="139" y="166"/>
                  </a:lnTo>
                  <a:lnTo>
                    <a:pt x="12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4265640" y="5702400"/>
              <a:ext cx="144360" cy="123840"/>
            </a:xfrm>
            <a:custGeom>
              <a:avLst/>
              <a:gdLst/>
              <a:ahLst/>
              <a:rect l="l" t="t" r="r" b="b"/>
              <a:pathLst>
                <a:path w="452" h="394">
                  <a:moveTo>
                    <a:pt x="368" y="60"/>
                  </a:moveTo>
                  <a:lnTo>
                    <a:pt x="373" y="67"/>
                  </a:lnTo>
                  <a:lnTo>
                    <a:pt x="379" y="73"/>
                  </a:lnTo>
                  <a:lnTo>
                    <a:pt x="384" y="80"/>
                  </a:lnTo>
                  <a:lnTo>
                    <a:pt x="389" y="85"/>
                  </a:lnTo>
                  <a:lnTo>
                    <a:pt x="393" y="92"/>
                  </a:lnTo>
                  <a:lnTo>
                    <a:pt x="398" y="99"/>
                  </a:lnTo>
                  <a:lnTo>
                    <a:pt x="402" y="104"/>
                  </a:lnTo>
                  <a:lnTo>
                    <a:pt x="406" y="111"/>
                  </a:lnTo>
                  <a:lnTo>
                    <a:pt x="423" y="134"/>
                  </a:lnTo>
                  <a:lnTo>
                    <a:pt x="438" y="157"/>
                  </a:lnTo>
                  <a:lnTo>
                    <a:pt x="443" y="167"/>
                  </a:lnTo>
                  <a:lnTo>
                    <a:pt x="448" y="177"/>
                  </a:lnTo>
                  <a:lnTo>
                    <a:pt x="450" y="186"/>
                  </a:lnTo>
                  <a:lnTo>
                    <a:pt x="452" y="196"/>
                  </a:lnTo>
                  <a:lnTo>
                    <a:pt x="451" y="206"/>
                  </a:lnTo>
                  <a:lnTo>
                    <a:pt x="449" y="216"/>
                  </a:lnTo>
                  <a:lnTo>
                    <a:pt x="445" y="225"/>
                  </a:lnTo>
                  <a:lnTo>
                    <a:pt x="439" y="235"/>
                  </a:lnTo>
                  <a:lnTo>
                    <a:pt x="431" y="245"/>
                  </a:lnTo>
                  <a:lnTo>
                    <a:pt x="420" y="254"/>
                  </a:lnTo>
                  <a:lnTo>
                    <a:pt x="407" y="264"/>
                  </a:lnTo>
                  <a:lnTo>
                    <a:pt x="391" y="275"/>
                  </a:lnTo>
                  <a:lnTo>
                    <a:pt x="386" y="281"/>
                  </a:lnTo>
                  <a:lnTo>
                    <a:pt x="379" y="286"/>
                  </a:lnTo>
                  <a:lnTo>
                    <a:pt x="372" y="291"/>
                  </a:lnTo>
                  <a:lnTo>
                    <a:pt x="366" y="295"/>
                  </a:lnTo>
                  <a:lnTo>
                    <a:pt x="351" y="303"/>
                  </a:lnTo>
                  <a:lnTo>
                    <a:pt x="337" y="307"/>
                  </a:lnTo>
                  <a:lnTo>
                    <a:pt x="304" y="315"/>
                  </a:lnTo>
                  <a:lnTo>
                    <a:pt x="273" y="321"/>
                  </a:lnTo>
                  <a:lnTo>
                    <a:pt x="257" y="324"/>
                  </a:lnTo>
                  <a:lnTo>
                    <a:pt x="242" y="329"/>
                  </a:lnTo>
                  <a:lnTo>
                    <a:pt x="228" y="333"/>
                  </a:lnTo>
                  <a:lnTo>
                    <a:pt x="214" y="341"/>
                  </a:lnTo>
                  <a:lnTo>
                    <a:pt x="208" y="344"/>
                  </a:lnTo>
                  <a:lnTo>
                    <a:pt x="202" y="350"/>
                  </a:lnTo>
                  <a:lnTo>
                    <a:pt x="197" y="354"/>
                  </a:lnTo>
                  <a:lnTo>
                    <a:pt x="191" y="361"/>
                  </a:lnTo>
                  <a:lnTo>
                    <a:pt x="187" y="367"/>
                  </a:lnTo>
                  <a:lnTo>
                    <a:pt x="182" y="374"/>
                  </a:lnTo>
                  <a:lnTo>
                    <a:pt x="178" y="383"/>
                  </a:lnTo>
                  <a:lnTo>
                    <a:pt x="175" y="392"/>
                  </a:lnTo>
                  <a:lnTo>
                    <a:pt x="168" y="393"/>
                  </a:lnTo>
                  <a:lnTo>
                    <a:pt x="160" y="394"/>
                  </a:lnTo>
                  <a:lnTo>
                    <a:pt x="152" y="394"/>
                  </a:lnTo>
                  <a:lnTo>
                    <a:pt x="146" y="393"/>
                  </a:lnTo>
                  <a:lnTo>
                    <a:pt x="139" y="391"/>
                  </a:lnTo>
                  <a:lnTo>
                    <a:pt x="131" y="389"/>
                  </a:lnTo>
                  <a:lnTo>
                    <a:pt x="126" y="386"/>
                  </a:lnTo>
                  <a:lnTo>
                    <a:pt x="119" y="383"/>
                  </a:lnTo>
                  <a:lnTo>
                    <a:pt x="113" y="379"/>
                  </a:lnTo>
                  <a:lnTo>
                    <a:pt x="108" y="374"/>
                  </a:lnTo>
                  <a:lnTo>
                    <a:pt x="102" y="370"/>
                  </a:lnTo>
                  <a:lnTo>
                    <a:pt x="98" y="364"/>
                  </a:lnTo>
                  <a:lnTo>
                    <a:pt x="95" y="359"/>
                  </a:lnTo>
                  <a:lnTo>
                    <a:pt x="91" y="353"/>
                  </a:lnTo>
                  <a:lnTo>
                    <a:pt x="88" y="347"/>
                  </a:lnTo>
                  <a:lnTo>
                    <a:pt x="86" y="341"/>
                  </a:lnTo>
                  <a:lnTo>
                    <a:pt x="90" y="331"/>
                  </a:lnTo>
                  <a:lnTo>
                    <a:pt x="92" y="321"/>
                  </a:lnTo>
                  <a:lnTo>
                    <a:pt x="93" y="312"/>
                  </a:lnTo>
                  <a:lnTo>
                    <a:pt x="93" y="304"/>
                  </a:lnTo>
                  <a:lnTo>
                    <a:pt x="92" y="296"/>
                  </a:lnTo>
                  <a:lnTo>
                    <a:pt x="90" y="289"/>
                  </a:lnTo>
                  <a:lnTo>
                    <a:pt x="87" y="281"/>
                  </a:lnTo>
                  <a:lnTo>
                    <a:pt x="82" y="274"/>
                  </a:lnTo>
                  <a:lnTo>
                    <a:pt x="71" y="261"/>
                  </a:lnTo>
                  <a:lnTo>
                    <a:pt x="59" y="249"/>
                  </a:lnTo>
                  <a:lnTo>
                    <a:pt x="46" y="236"/>
                  </a:lnTo>
                  <a:lnTo>
                    <a:pt x="32" y="224"/>
                  </a:lnTo>
                  <a:lnTo>
                    <a:pt x="20" y="211"/>
                  </a:lnTo>
                  <a:lnTo>
                    <a:pt x="10" y="198"/>
                  </a:lnTo>
                  <a:lnTo>
                    <a:pt x="7" y="191"/>
                  </a:lnTo>
                  <a:lnTo>
                    <a:pt x="3" y="183"/>
                  </a:lnTo>
                  <a:lnTo>
                    <a:pt x="1" y="175"/>
                  </a:lnTo>
                  <a:lnTo>
                    <a:pt x="0" y="167"/>
                  </a:lnTo>
                  <a:lnTo>
                    <a:pt x="0" y="159"/>
                  </a:lnTo>
                  <a:lnTo>
                    <a:pt x="2" y="149"/>
                  </a:lnTo>
                  <a:lnTo>
                    <a:pt x="6" y="139"/>
                  </a:lnTo>
                  <a:lnTo>
                    <a:pt x="10" y="129"/>
                  </a:lnTo>
                  <a:lnTo>
                    <a:pt x="17" y="118"/>
                  </a:lnTo>
                  <a:lnTo>
                    <a:pt x="26" y="105"/>
                  </a:lnTo>
                  <a:lnTo>
                    <a:pt x="36" y="93"/>
                  </a:lnTo>
                  <a:lnTo>
                    <a:pt x="48" y="80"/>
                  </a:lnTo>
                  <a:lnTo>
                    <a:pt x="56" y="69"/>
                  </a:lnTo>
                  <a:lnTo>
                    <a:pt x="65" y="59"/>
                  </a:lnTo>
                  <a:lnTo>
                    <a:pt x="75" y="51"/>
                  </a:lnTo>
                  <a:lnTo>
                    <a:pt x="86" y="44"/>
                  </a:lnTo>
                  <a:lnTo>
                    <a:pt x="97" y="40"/>
                  </a:lnTo>
                  <a:lnTo>
                    <a:pt x="109" y="37"/>
                  </a:lnTo>
                  <a:lnTo>
                    <a:pt x="120" y="34"/>
                  </a:lnTo>
                  <a:lnTo>
                    <a:pt x="132" y="34"/>
                  </a:lnTo>
                  <a:lnTo>
                    <a:pt x="139" y="30"/>
                  </a:lnTo>
                  <a:lnTo>
                    <a:pt x="158" y="22"/>
                  </a:lnTo>
                  <a:lnTo>
                    <a:pt x="170" y="17"/>
                  </a:lnTo>
                  <a:lnTo>
                    <a:pt x="186" y="11"/>
                  </a:lnTo>
                  <a:lnTo>
                    <a:pt x="201" y="7"/>
                  </a:lnTo>
                  <a:lnTo>
                    <a:pt x="219" y="3"/>
                  </a:lnTo>
                  <a:lnTo>
                    <a:pt x="238" y="1"/>
                  </a:lnTo>
                  <a:lnTo>
                    <a:pt x="258" y="0"/>
                  </a:lnTo>
                  <a:lnTo>
                    <a:pt x="268" y="1"/>
                  </a:lnTo>
                  <a:lnTo>
                    <a:pt x="277" y="2"/>
                  </a:lnTo>
                  <a:lnTo>
                    <a:pt x="287" y="3"/>
                  </a:lnTo>
                  <a:lnTo>
                    <a:pt x="297" y="7"/>
                  </a:lnTo>
                  <a:lnTo>
                    <a:pt x="307" y="10"/>
                  </a:lnTo>
                  <a:lnTo>
                    <a:pt x="316" y="14"/>
                  </a:lnTo>
                  <a:lnTo>
                    <a:pt x="326" y="19"/>
                  </a:lnTo>
                  <a:lnTo>
                    <a:pt x="334" y="26"/>
                  </a:lnTo>
                  <a:lnTo>
                    <a:pt x="343" y="32"/>
                  </a:lnTo>
                  <a:lnTo>
                    <a:pt x="352" y="40"/>
                  </a:lnTo>
                  <a:lnTo>
                    <a:pt x="360" y="50"/>
                  </a:lnTo>
                  <a:lnTo>
                    <a:pt x="36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4297320" y="5726160"/>
              <a:ext cx="73080" cy="68400"/>
            </a:xfrm>
            <a:custGeom>
              <a:avLst/>
              <a:gdLst/>
              <a:ahLst/>
              <a:rect l="l" t="t" r="r" b="b"/>
              <a:pathLst>
                <a:path w="232" h="212">
                  <a:moveTo>
                    <a:pt x="214" y="14"/>
                  </a:moveTo>
                  <a:lnTo>
                    <a:pt x="216" y="19"/>
                  </a:lnTo>
                  <a:lnTo>
                    <a:pt x="220" y="22"/>
                  </a:lnTo>
                  <a:lnTo>
                    <a:pt x="223" y="26"/>
                  </a:lnTo>
                  <a:lnTo>
                    <a:pt x="225" y="30"/>
                  </a:lnTo>
                  <a:lnTo>
                    <a:pt x="228" y="34"/>
                  </a:lnTo>
                  <a:lnTo>
                    <a:pt x="230" y="37"/>
                  </a:lnTo>
                  <a:lnTo>
                    <a:pt x="232" y="42"/>
                  </a:lnTo>
                  <a:lnTo>
                    <a:pt x="232" y="45"/>
                  </a:lnTo>
                  <a:lnTo>
                    <a:pt x="226" y="53"/>
                  </a:lnTo>
                  <a:lnTo>
                    <a:pt x="221" y="59"/>
                  </a:lnTo>
                  <a:lnTo>
                    <a:pt x="214" y="63"/>
                  </a:lnTo>
                  <a:lnTo>
                    <a:pt x="207" y="66"/>
                  </a:lnTo>
                  <a:lnTo>
                    <a:pt x="200" y="70"/>
                  </a:lnTo>
                  <a:lnTo>
                    <a:pt x="193" y="74"/>
                  </a:lnTo>
                  <a:lnTo>
                    <a:pt x="186" y="77"/>
                  </a:lnTo>
                  <a:lnTo>
                    <a:pt x="180" y="83"/>
                  </a:lnTo>
                  <a:lnTo>
                    <a:pt x="178" y="90"/>
                  </a:lnTo>
                  <a:lnTo>
                    <a:pt x="177" y="95"/>
                  </a:lnTo>
                  <a:lnTo>
                    <a:pt x="177" y="101"/>
                  </a:lnTo>
                  <a:lnTo>
                    <a:pt x="178" y="106"/>
                  </a:lnTo>
                  <a:lnTo>
                    <a:pt x="182" y="116"/>
                  </a:lnTo>
                  <a:lnTo>
                    <a:pt x="186" y="125"/>
                  </a:lnTo>
                  <a:lnTo>
                    <a:pt x="192" y="133"/>
                  </a:lnTo>
                  <a:lnTo>
                    <a:pt x="198" y="142"/>
                  </a:lnTo>
                  <a:lnTo>
                    <a:pt x="203" y="151"/>
                  </a:lnTo>
                  <a:lnTo>
                    <a:pt x="206" y="160"/>
                  </a:lnTo>
                  <a:lnTo>
                    <a:pt x="191" y="172"/>
                  </a:lnTo>
                  <a:lnTo>
                    <a:pt x="176" y="182"/>
                  </a:lnTo>
                  <a:lnTo>
                    <a:pt x="163" y="191"/>
                  </a:lnTo>
                  <a:lnTo>
                    <a:pt x="151" y="197"/>
                  </a:lnTo>
                  <a:lnTo>
                    <a:pt x="138" y="203"/>
                  </a:lnTo>
                  <a:lnTo>
                    <a:pt x="127" y="206"/>
                  </a:lnTo>
                  <a:lnTo>
                    <a:pt x="116" y="210"/>
                  </a:lnTo>
                  <a:lnTo>
                    <a:pt x="106" y="211"/>
                  </a:lnTo>
                  <a:lnTo>
                    <a:pt x="97" y="212"/>
                  </a:lnTo>
                  <a:lnTo>
                    <a:pt x="89" y="211"/>
                  </a:lnTo>
                  <a:lnTo>
                    <a:pt x="81" y="208"/>
                  </a:lnTo>
                  <a:lnTo>
                    <a:pt x="73" y="206"/>
                  </a:lnTo>
                  <a:lnTo>
                    <a:pt x="65" y="203"/>
                  </a:lnTo>
                  <a:lnTo>
                    <a:pt x="59" y="198"/>
                  </a:lnTo>
                  <a:lnTo>
                    <a:pt x="53" y="194"/>
                  </a:lnTo>
                  <a:lnTo>
                    <a:pt x="47" y="188"/>
                  </a:lnTo>
                  <a:lnTo>
                    <a:pt x="37" y="176"/>
                  </a:lnTo>
                  <a:lnTo>
                    <a:pt x="30" y="163"/>
                  </a:lnTo>
                  <a:lnTo>
                    <a:pt x="22" y="150"/>
                  </a:lnTo>
                  <a:lnTo>
                    <a:pt x="16" y="135"/>
                  </a:lnTo>
                  <a:lnTo>
                    <a:pt x="9" y="112"/>
                  </a:lnTo>
                  <a:lnTo>
                    <a:pt x="3" y="96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1" y="76"/>
                  </a:lnTo>
                  <a:lnTo>
                    <a:pt x="5" y="69"/>
                  </a:lnTo>
                  <a:lnTo>
                    <a:pt x="12" y="61"/>
                  </a:lnTo>
                  <a:lnTo>
                    <a:pt x="20" y="54"/>
                  </a:lnTo>
                  <a:lnTo>
                    <a:pt x="29" y="47"/>
                  </a:lnTo>
                  <a:lnTo>
                    <a:pt x="35" y="41"/>
                  </a:lnTo>
                  <a:lnTo>
                    <a:pt x="42" y="33"/>
                  </a:lnTo>
                  <a:lnTo>
                    <a:pt x="47" y="30"/>
                  </a:lnTo>
                  <a:lnTo>
                    <a:pt x="63" y="24"/>
                  </a:lnTo>
                  <a:lnTo>
                    <a:pt x="85" y="15"/>
                  </a:lnTo>
                  <a:lnTo>
                    <a:pt x="113" y="7"/>
                  </a:lnTo>
                  <a:lnTo>
                    <a:pt x="127" y="4"/>
                  </a:lnTo>
                  <a:lnTo>
                    <a:pt x="142" y="2"/>
                  </a:lnTo>
                  <a:lnTo>
                    <a:pt x="156" y="0"/>
                  </a:lnTo>
                  <a:lnTo>
                    <a:pt x="170" y="0"/>
                  </a:lnTo>
                  <a:lnTo>
                    <a:pt x="183" y="1"/>
                  </a:lnTo>
                  <a:lnTo>
                    <a:pt x="195" y="3"/>
                  </a:lnTo>
                  <a:lnTo>
                    <a:pt x="200" y="5"/>
                  </a:lnTo>
                  <a:lnTo>
                    <a:pt x="205" y="7"/>
                  </a:lnTo>
                  <a:lnTo>
                    <a:pt x="210" y="11"/>
                  </a:lnTo>
                  <a:lnTo>
                    <a:pt x="21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3681360" y="4997520"/>
              <a:ext cx="173160" cy="119160"/>
            </a:xfrm>
            <a:custGeom>
              <a:avLst/>
              <a:gdLst/>
              <a:ahLst/>
              <a:rect l="l" t="t" r="r" b="b"/>
              <a:pathLst>
                <a:path w="546" h="376">
                  <a:moveTo>
                    <a:pt x="0" y="364"/>
                  </a:moveTo>
                  <a:lnTo>
                    <a:pt x="2" y="356"/>
                  </a:lnTo>
                  <a:lnTo>
                    <a:pt x="6" y="348"/>
                  </a:lnTo>
                  <a:lnTo>
                    <a:pt x="11" y="336"/>
                  </a:lnTo>
                  <a:lnTo>
                    <a:pt x="17" y="325"/>
                  </a:lnTo>
                  <a:lnTo>
                    <a:pt x="33" y="301"/>
                  </a:lnTo>
                  <a:lnTo>
                    <a:pt x="54" y="273"/>
                  </a:lnTo>
                  <a:lnTo>
                    <a:pt x="78" y="244"/>
                  </a:lnTo>
                  <a:lnTo>
                    <a:pt x="106" y="214"/>
                  </a:lnTo>
                  <a:lnTo>
                    <a:pt x="136" y="184"/>
                  </a:lnTo>
                  <a:lnTo>
                    <a:pt x="168" y="153"/>
                  </a:lnTo>
                  <a:lnTo>
                    <a:pt x="203" y="124"/>
                  </a:lnTo>
                  <a:lnTo>
                    <a:pt x="237" y="97"/>
                  </a:lnTo>
                  <a:lnTo>
                    <a:pt x="255" y="83"/>
                  </a:lnTo>
                  <a:lnTo>
                    <a:pt x="273" y="71"/>
                  </a:lnTo>
                  <a:lnTo>
                    <a:pt x="291" y="60"/>
                  </a:lnTo>
                  <a:lnTo>
                    <a:pt x="308" y="49"/>
                  </a:lnTo>
                  <a:lnTo>
                    <a:pt x="326" y="40"/>
                  </a:lnTo>
                  <a:lnTo>
                    <a:pt x="343" y="31"/>
                  </a:lnTo>
                  <a:lnTo>
                    <a:pt x="359" y="23"/>
                  </a:lnTo>
                  <a:lnTo>
                    <a:pt x="376" y="17"/>
                  </a:lnTo>
                  <a:lnTo>
                    <a:pt x="393" y="12"/>
                  </a:lnTo>
                  <a:lnTo>
                    <a:pt x="408" y="8"/>
                  </a:lnTo>
                  <a:lnTo>
                    <a:pt x="424" y="6"/>
                  </a:lnTo>
                  <a:lnTo>
                    <a:pt x="438" y="5"/>
                  </a:lnTo>
                  <a:lnTo>
                    <a:pt x="463" y="5"/>
                  </a:lnTo>
                  <a:lnTo>
                    <a:pt x="487" y="2"/>
                  </a:lnTo>
                  <a:lnTo>
                    <a:pt x="509" y="1"/>
                  </a:lnTo>
                  <a:lnTo>
                    <a:pt x="527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44" y="0"/>
                  </a:lnTo>
                  <a:lnTo>
                    <a:pt x="546" y="1"/>
                  </a:lnTo>
                  <a:lnTo>
                    <a:pt x="546" y="3"/>
                  </a:lnTo>
                  <a:lnTo>
                    <a:pt x="544" y="6"/>
                  </a:lnTo>
                  <a:lnTo>
                    <a:pt x="538" y="9"/>
                  </a:lnTo>
                  <a:lnTo>
                    <a:pt x="530" y="12"/>
                  </a:lnTo>
                  <a:lnTo>
                    <a:pt x="512" y="22"/>
                  </a:lnTo>
                  <a:lnTo>
                    <a:pt x="490" y="33"/>
                  </a:lnTo>
                  <a:lnTo>
                    <a:pt x="470" y="46"/>
                  </a:lnTo>
                  <a:lnTo>
                    <a:pt x="448" y="58"/>
                  </a:lnTo>
                  <a:lnTo>
                    <a:pt x="404" y="87"/>
                  </a:lnTo>
                  <a:lnTo>
                    <a:pt x="359" y="119"/>
                  </a:lnTo>
                  <a:lnTo>
                    <a:pt x="314" y="152"/>
                  </a:lnTo>
                  <a:lnTo>
                    <a:pt x="268" y="187"/>
                  </a:lnTo>
                  <a:lnTo>
                    <a:pt x="225" y="220"/>
                  </a:lnTo>
                  <a:lnTo>
                    <a:pt x="183" y="253"/>
                  </a:lnTo>
                  <a:lnTo>
                    <a:pt x="144" y="284"/>
                  </a:lnTo>
                  <a:lnTo>
                    <a:pt x="107" y="312"/>
                  </a:lnTo>
                  <a:lnTo>
                    <a:pt x="75" y="336"/>
                  </a:lnTo>
                  <a:lnTo>
                    <a:pt x="48" y="355"/>
                  </a:lnTo>
                  <a:lnTo>
                    <a:pt x="36" y="363"/>
                  </a:lnTo>
                  <a:lnTo>
                    <a:pt x="26" y="369"/>
                  </a:lnTo>
                  <a:lnTo>
                    <a:pt x="17" y="373"/>
                  </a:lnTo>
                  <a:lnTo>
                    <a:pt x="11" y="375"/>
                  </a:lnTo>
                  <a:lnTo>
                    <a:pt x="5" y="376"/>
                  </a:lnTo>
                  <a:lnTo>
                    <a:pt x="2" y="374"/>
                  </a:lnTo>
                  <a:lnTo>
                    <a:pt x="0" y="371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3659040" y="4984920"/>
              <a:ext cx="617760" cy="534960"/>
            </a:xfrm>
            <a:custGeom>
              <a:avLst/>
              <a:gdLst/>
              <a:ahLst/>
              <a:rect l="l" t="t" r="r" b="b"/>
              <a:pathLst>
                <a:path w="1947" h="1686">
                  <a:moveTo>
                    <a:pt x="1054" y="72"/>
                  </a:moveTo>
                  <a:lnTo>
                    <a:pt x="1074" y="61"/>
                  </a:lnTo>
                  <a:lnTo>
                    <a:pt x="1094" y="52"/>
                  </a:lnTo>
                  <a:lnTo>
                    <a:pt x="1114" y="43"/>
                  </a:lnTo>
                  <a:lnTo>
                    <a:pt x="1135" y="36"/>
                  </a:lnTo>
                  <a:lnTo>
                    <a:pt x="1155" y="29"/>
                  </a:lnTo>
                  <a:lnTo>
                    <a:pt x="1175" y="23"/>
                  </a:lnTo>
                  <a:lnTo>
                    <a:pt x="1196" y="19"/>
                  </a:lnTo>
                  <a:lnTo>
                    <a:pt x="1216" y="15"/>
                  </a:lnTo>
                  <a:lnTo>
                    <a:pt x="1255" y="8"/>
                  </a:lnTo>
                  <a:lnTo>
                    <a:pt x="1292" y="3"/>
                  </a:lnTo>
                  <a:lnTo>
                    <a:pt x="1329" y="1"/>
                  </a:lnTo>
                  <a:lnTo>
                    <a:pt x="1364" y="0"/>
                  </a:lnTo>
                  <a:lnTo>
                    <a:pt x="1396" y="1"/>
                  </a:lnTo>
                  <a:lnTo>
                    <a:pt x="1425" y="3"/>
                  </a:lnTo>
                  <a:lnTo>
                    <a:pt x="1450" y="6"/>
                  </a:lnTo>
                  <a:lnTo>
                    <a:pt x="1471" y="9"/>
                  </a:lnTo>
                  <a:lnTo>
                    <a:pt x="1502" y="13"/>
                  </a:lnTo>
                  <a:lnTo>
                    <a:pt x="1513" y="17"/>
                  </a:lnTo>
                  <a:lnTo>
                    <a:pt x="1509" y="20"/>
                  </a:lnTo>
                  <a:lnTo>
                    <a:pt x="1502" y="25"/>
                  </a:lnTo>
                  <a:lnTo>
                    <a:pt x="1497" y="30"/>
                  </a:lnTo>
                  <a:lnTo>
                    <a:pt x="1490" y="37"/>
                  </a:lnTo>
                  <a:lnTo>
                    <a:pt x="1483" y="42"/>
                  </a:lnTo>
                  <a:lnTo>
                    <a:pt x="1478" y="49"/>
                  </a:lnTo>
                  <a:lnTo>
                    <a:pt x="1473" y="56"/>
                  </a:lnTo>
                  <a:lnTo>
                    <a:pt x="1470" y="60"/>
                  </a:lnTo>
                  <a:lnTo>
                    <a:pt x="1450" y="69"/>
                  </a:lnTo>
                  <a:lnTo>
                    <a:pt x="1430" y="80"/>
                  </a:lnTo>
                  <a:lnTo>
                    <a:pt x="1410" y="93"/>
                  </a:lnTo>
                  <a:lnTo>
                    <a:pt x="1391" y="108"/>
                  </a:lnTo>
                  <a:lnTo>
                    <a:pt x="1371" y="123"/>
                  </a:lnTo>
                  <a:lnTo>
                    <a:pt x="1352" y="140"/>
                  </a:lnTo>
                  <a:lnTo>
                    <a:pt x="1334" y="159"/>
                  </a:lnTo>
                  <a:lnTo>
                    <a:pt x="1315" y="178"/>
                  </a:lnTo>
                  <a:lnTo>
                    <a:pt x="1296" y="198"/>
                  </a:lnTo>
                  <a:lnTo>
                    <a:pt x="1278" y="219"/>
                  </a:lnTo>
                  <a:lnTo>
                    <a:pt x="1260" y="241"/>
                  </a:lnTo>
                  <a:lnTo>
                    <a:pt x="1244" y="263"/>
                  </a:lnTo>
                  <a:lnTo>
                    <a:pt x="1211" y="309"/>
                  </a:lnTo>
                  <a:lnTo>
                    <a:pt x="1181" y="354"/>
                  </a:lnTo>
                  <a:lnTo>
                    <a:pt x="1154" y="399"/>
                  </a:lnTo>
                  <a:lnTo>
                    <a:pt x="1129" y="441"/>
                  </a:lnTo>
                  <a:lnTo>
                    <a:pt x="1109" y="480"/>
                  </a:lnTo>
                  <a:lnTo>
                    <a:pt x="1091" y="515"/>
                  </a:lnTo>
                  <a:lnTo>
                    <a:pt x="1079" y="545"/>
                  </a:lnTo>
                  <a:lnTo>
                    <a:pt x="1070" y="568"/>
                  </a:lnTo>
                  <a:lnTo>
                    <a:pt x="1068" y="576"/>
                  </a:lnTo>
                  <a:lnTo>
                    <a:pt x="1067" y="583"/>
                  </a:lnTo>
                  <a:lnTo>
                    <a:pt x="1067" y="587"/>
                  </a:lnTo>
                  <a:lnTo>
                    <a:pt x="1069" y="590"/>
                  </a:lnTo>
                  <a:lnTo>
                    <a:pt x="1106" y="533"/>
                  </a:lnTo>
                  <a:lnTo>
                    <a:pt x="1144" y="481"/>
                  </a:lnTo>
                  <a:lnTo>
                    <a:pt x="1183" y="431"/>
                  </a:lnTo>
                  <a:lnTo>
                    <a:pt x="1220" y="386"/>
                  </a:lnTo>
                  <a:lnTo>
                    <a:pt x="1258" y="344"/>
                  </a:lnTo>
                  <a:lnTo>
                    <a:pt x="1297" y="305"/>
                  </a:lnTo>
                  <a:lnTo>
                    <a:pt x="1335" y="270"/>
                  </a:lnTo>
                  <a:lnTo>
                    <a:pt x="1372" y="239"/>
                  </a:lnTo>
                  <a:lnTo>
                    <a:pt x="1410" y="209"/>
                  </a:lnTo>
                  <a:lnTo>
                    <a:pt x="1447" y="183"/>
                  </a:lnTo>
                  <a:lnTo>
                    <a:pt x="1483" y="160"/>
                  </a:lnTo>
                  <a:lnTo>
                    <a:pt x="1520" y="139"/>
                  </a:lnTo>
                  <a:lnTo>
                    <a:pt x="1555" y="120"/>
                  </a:lnTo>
                  <a:lnTo>
                    <a:pt x="1589" y="105"/>
                  </a:lnTo>
                  <a:lnTo>
                    <a:pt x="1622" y="90"/>
                  </a:lnTo>
                  <a:lnTo>
                    <a:pt x="1655" y="78"/>
                  </a:lnTo>
                  <a:lnTo>
                    <a:pt x="1686" y="68"/>
                  </a:lnTo>
                  <a:lnTo>
                    <a:pt x="1716" y="60"/>
                  </a:lnTo>
                  <a:lnTo>
                    <a:pt x="1744" y="53"/>
                  </a:lnTo>
                  <a:lnTo>
                    <a:pt x="1771" y="48"/>
                  </a:lnTo>
                  <a:lnTo>
                    <a:pt x="1797" y="45"/>
                  </a:lnTo>
                  <a:lnTo>
                    <a:pt x="1821" y="42"/>
                  </a:lnTo>
                  <a:lnTo>
                    <a:pt x="1843" y="41"/>
                  </a:lnTo>
                  <a:lnTo>
                    <a:pt x="1863" y="41"/>
                  </a:lnTo>
                  <a:lnTo>
                    <a:pt x="1882" y="41"/>
                  </a:lnTo>
                  <a:lnTo>
                    <a:pt x="1898" y="42"/>
                  </a:lnTo>
                  <a:lnTo>
                    <a:pt x="1912" y="45"/>
                  </a:lnTo>
                  <a:lnTo>
                    <a:pt x="1924" y="47"/>
                  </a:lnTo>
                  <a:lnTo>
                    <a:pt x="1933" y="49"/>
                  </a:lnTo>
                  <a:lnTo>
                    <a:pt x="1941" y="52"/>
                  </a:lnTo>
                  <a:lnTo>
                    <a:pt x="1945" y="55"/>
                  </a:lnTo>
                  <a:lnTo>
                    <a:pt x="1947" y="58"/>
                  </a:lnTo>
                  <a:lnTo>
                    <a:pt x="1921" y="164"/>
                  </a:lnTo>
                  <a:lnTo>
                    <a:pt x="1894" y="269"/>
                  </a:lnTo>
                  <a:lnTo>
                    <a:pt x="1881" y="320"/>
                  </a:lnTo>
                  <a:lnTo>
                    <a:pt x="1867" y="371"/>
                  </a:lnTo>
                  <a:lnTo>
                    <a:pt x="1852" y="421"/>
                  </a:lnTo>
                  <a:lnTo>
                    <a:pt x="1836" y="471"/>
                  </a:lnTo>
                  <a:lnTo>
                    <a:pt x="1817" y="520"/>
                  </a:lnTo>
                  <a:lnTo>
                    <a:pt x="1797" y="568"/>
                  </a:lnTo>
                  <a:lnTo>
                    <a:pt x="1786" y="593"/>
                  </a:lnTo>
                  <a:lnTo>
                    <a:pt x="1773" y="616"/>
                  </a:lnTo>
                  <a:lnTo>
                    <a:pt x="1761" y="641"/>
                  </a:lnTo>
                  <a:lnTo>
                    <a:pt x="1748" y="664"/>
                  </a:lnTo>
                  <a:lnTo>
                    <a:pt x="1734" y="688"/>
                  </a:lnTo>
                  <a:lnTo>
                    <a:pt x="1720" y="712"/>
                  </a:lnTo>
                  <a:lnTo>
                    <a:pt x="1704" y="735"/>
                  </a:lnTo>
                  <a:lnTo>
                    <a:pt x="1688" y="758"/>
                  </a:lnTo>
                  <a:lnTo>
                    <a:pt x="1671" y="782"/>
                  </a:lnTo>
                  <a:lnTo>
                    <a:pt x="1653" y="805"/>
                  </a:lnTo>
                  <a:lnTo>
                    <a:pt x="1635" y="828"/>
                  </a:lnTo>
                  <a:lnTo>
                    <a:pt x="1615" y="852"/>
                  </a:lnTo>
                  <a:lnTo>
                    <a:pt x="1571" y="898"/>
                  </a:lnTo>
                  <a:lnTo>
                    <a:pt x="1529" y="943"/>
                  </a:lnTo>
                  <a:lnTo>
                    <a:pt x="1487" y="987"/>
                  </a:lnTo>
                  <a:lnTo>
                    <a:pt x="1445" y="1030"/>
                  </a:lnTo>
                  <a:lnTo>
                    <a:pt x="1401" y="1071"/>
                  </a:lnTo>
                  <a:lnTo>
                    <a:pt x="1359" y="1112"/>
                  </a:lnTo>
                  <a:lnTo>
                    <a:pt x="1317" y="1151"/>
                  </a:lnTo>
                  <a:lnTo>
                    <a:pt x="1275" y="1189"/>
                  </a:lnTo>
                  <a:lnTo>
                    <a:pt x="1231" y="1226"/>
                  </a:lnTo>
                  <a:lnTo>
                    <a:pt x="1189" y="1261"/>
                  </a:lnTo>
                  <a:lnTo>
                    <a:pt x="1146" y="1296"/>
                  </a:lnTo>
                  <a:lnTo>
                    <a:pt x="1104" y="1329"/>
                  </a:lnTo>
                  <a:lnTo>
                    <a:pt x="1060" y="1360"/>
                  </a:lnTo>
                  <a:lnTo>
                    <a:pt x="1017" y="1390"/>
                  </a:lnTo>
                  <a:lnTo>
                    <a:pt x="974" y="1419"/>
                  </a:lnTo>
                  <a:lnTo>
                    <a:pt x="930" y="1446"/>
                  </a:lnTo>
                  <a:lnTo>
                    <a:pt x="886" y="1472"/>
                  </a:lnTo>
                  <a:lnTo>
                    <a:pt x="843" y="1498"/>
                  </a:lnTo>
                  <a:lnTo>
                    <a:pt x="798" y="1521"/>
                  </a:lnTo>
                  <a:lnTo>
                    <a:pt x="754" y="1542"/>
                  </a:lnTo>
                  <a:lnTo>
                    <a:pt x="709" y="1563"/>
                  </a:lnTo>
                  <a:lnTo>
                    <a:pt x="664" y="1582"/>
                  </a:lnTo>
                  <a:lnTo>
                    <a:pt x="619" y="1599"/>
                  </a:lnTo>
                  <a:lnTo>
                    <a:pt x="574" y="1615"/>
                  </a:lnTo>
                  <a:lnTo>
                    <a:pt x="527" y="1630"/>
                  </a:lnTo>
                  <a:lnTo>
                    <a:pt x="481" y="1642"/>
                  </a:lnTo>
                  <a:lnTo>
                    <a:pt x="434" y="1653"/>
                  </a:lnTo>
                  <a:lnTo>
                    <a:pt x="387" y="1663"/>
                  </a:lnTo>
                  <a:lnTo>
                    <a:pt x="340" y="1671"/>
                  </a:lnTo>
                  <a:lnTo>
                    <a:pt x="292" y="1677"/>
                  </a:lnTo>
                  <a:lnTo>
                    <a:pt x="244" y="1683"/>
                  </a:lnTo>
                  <a:lnTo>
                    <a:pt x="195" y="1686"/>
                  </a:lnTo>
                  <a:lnTo>
                    <a:pt x="165" y="1677"/>
                  </a:lnTo>
                  <a:lnTo>
                    <a:pt x="139" y="1668"/>
                  </a:lnTo>
                  <a:lnTo>
                    <a:pt x="115" y="1659"/>
                  </a:lnTo>
                  <a:lnTo>
                    <a:pt x="94" y="1647"/>
                  </a:lnTo>
                  <a:lnTo>
                    <a:pt x="75" y="1636"/>
                  </a:lnTo>
                  <a:lnTo>
                    <a:pt x="59" y="1625"/>
                  </a:lnTo>
                  <a:lnTo>
                    <a:pt x="44" y="1613"/>
                  </a:lnTo>
                  <a:lnTo>
                    <a:pt x="32" y="1601"/>
                  </a:lnTo>
                  <a:lnTo>
                    <a:pt x="22" y="1587"/>
                  </a:lnTo>
                  <a:lnTo>
                    <a:pt x="14" y="1574"/>
                  </a:lnTo>
                  <a:lnTo>
                    <a:pt x="8" y="1561"/>
                  </a:lnTo>
                  <a:lnTo>
                    <a:pt x="3" y="1548"/>
                  </a:lnTo>
                  <a:lnTo>
                    <a:pt x="1" y="1534"/>
                  </a:lnTo>
                  <a:lnTo>
                    <a:pt x="0" y="1520"/>
                  </a:lnTo>
                  <a:lnTo>
                    <a:pt x="0" y="1506"/>
                  </a:lnTo>
                  <a:lnTo>
                    <a:pt x="2" y="1492"/>
                  </a:lnTo>
                  <a:lnTo>
                    <a:pt x="5" y="1479"/>
                  </a:lnTo>
                  <a:lnTo>
                    <a:pt x="10" y="1465"/>
                  </a:lnTo>
                  <a:lnTo>
                    <a:pt x="15" y="1452"/>
                  </a:lnTo>
                  <a:lnTo>
                    <a:pt x="22" y="1439"/>
                  </a:lnTo>
                  <a:lnTo>
                    <a:pt x="29" y="1425"/>
                  </a:lnTo>
                  <a:lnTo>
                    <a:pt x="38" y="1412"/>
                  </a:lnTo>
                  <a:lnTo>
                    <a:pt x="46" y="1400"/>
                  </a:lnTo>
                  <a:lnTo>
                    <a:pt x="56" y="1388"/>
                  </a:lnTo>
                  <a:lnTo>
                    <a:pt x="66" y="1377"/>
                  </a:lnTo>
                  <a:lnTo>
                    <a:pt x="76" y="1365"/>
                  </a:lnTo>
                  <a:lnTo>
                    <a:pt x="88" y="1355"/>
                  </a:lnTo>
                  <a:lnTo>
                    <a:pt x="99" y="1345"/>
                  </a:lnTo>
                  <a:lnTo>
                    <a:pt x="110" y="1337"/>
                  </a:lnTo>
                  <a:lnTo>
                    <a:pt x="122" y="1328"/>
                  </a:lnTo>
                  <a:lnTo>
                    <a:pt x="133" y="1320"/>
                  </a:lnTo>
                  <a:lnTo>
                    <a:pt x="144" y="1313"/>
                  </a:lnTo>
                  <a:lnTo>
                    <a:pt x="191" y="1283"/>
                  </a:lnTo>
                  <a:lnTo>
                    <a:pt x="232" y="1258"/>
                  </a:lnTo>
                  <a:lnTo>
                    <a:pt x="269" y="1236"/>
                  </a:lnTo>
                  <a:lnTo>
                    <a:pt x="302" y="1216"/>
                  </a:lnTo>
                  <a:lnTo>
                    <a:pt x="333" y="1200"/>
                  </a:lnTo>
                  <a:lnTo>
                    <a:pt x="362" y="1186"/>
                  </a:lnTo>
                  <a:lnTo>
                    <a:pt x="390" y="1173"/>
                  </a:lnTo>
                  <a:lnTo>
                    <a:pt x="418" y="1163"/>
                  </a:lnTo>
                  <a:lnTo>
                    <a:pt x="447" y="1153"/>
                  </a:lnTo>
                  <a:lnTo>
                    <a:pt x="478" y="1146"/>
                  </a:lnTo>
                  <a:lnTo>
                    <a:pt x="513" y="1138"/>
                  </a:lnTo>
                  <a:lnTo>
                    <a:pt x="550" y="1130"/>
                  </a:lnTo>
                  <a:lnTo>
                    <a:pt x="638" y="1115"/>
                  </a:lnTo>
                  <a:lnTo>
                    <a:pt x="752" y="1096"/>
                  </a:lnTo>
                  <a:lnTo>
                    <a:pt x="860" y="1108"/>
                  </a:lnTo>
                  <a:lnTo>
                    <a:pt x="987" y="1128"/>
                  </a:lnTo>
                  <a:lnTo>
                    <a:pt x="965" y="1131"/>
                  </a:lnTo>
                  <a:lnTo>
                    <a:pt x="905" y="1142"/>
                  </a:lnTo>
                  <a:lnTo>
                    <a:pt x="864" y="1150"/>
                  </a:lnTo>
                  <a:lnTo>
                    <a:pt x="816" y="1159"/>
                  </a:lnTo>
                  <a:lnTo>
                    <a:pt x="765" y="1170"/>
                  </a:lnTo>
                  <a:lnTo>
                    <a:pt x="711" y="1182"/>
                  </a:lnTo>
                  <a:lnTo>
                    <a:pt x="654" y="1197"/>
                  </a:lnTo>
                  <a:lnTo>
                    <a:pt x="596" y="1212"/>
                  </a:lnTo>
                  <a:lnTo>
                    <a:pt x="540" y="1229"/>
                  </a:lnTo>
                  <a:lnTo>
                    <a:pt x="484" y="1248"/>
                  </a:lnTo>
                  <a:lnTo>
                    <a:pt x="457" y="1257"/>
                  </a:lnTo>
                  <a:lnTo>
                    <a:pt x="432" y="1267"/>
                  </a:lnTo>
                  <a:lnTo>
                    <a:pt x="407" y="1278"/>
                  </a:lnTo>
                  <a:lnTo>
                    <a:pt x="385" y="1288"/>
                  </a:lnTo>
                  <a:lnTo>
                    <a:pt x="363" y="1299"/>
                  </a:lnTo>
                  <a:lnTo>
                    <a:pt x="343" y="1310"/>
                  </a:lnTo>
                  <a:lnTo>
                    <a:pt x="324" y="1322"/>
                  </a:lnTo>
                  <a:lnTo>
                    <a:pt x="307" y="1334"/>
                  </a:lnTo>
                  <a:lnTo>
                    <a:pt x="269" y="1355"/>
                  </a:lnTo>
                  <a:lnTo>
                    <a:pt x="234" y="1374"/>
                  </a:lnTo>
                  <a:lnTo>
                    <a:pt x="205" y="1394"/>
                  </a:lnTo>
                  <a:lnTo>
                    <a:pt x="181" y="1412"/>
                  </a:lnTo>
                  <a:lnTo>
                    <a:pt x="162" y="1429"/>
                  </a:lnTo>
                  <a:lnTo>
                    <a:pt x="148" y="1445"/>
                  </a:lnTo>
                  <a:lnTo>
                    <a:pt x="136" y="1460"/>
                  </a:lnTo>
                  <a:lnTo>
                    <a:pt x="130" y="1474"/>
                  </a:lnTo>
                  <a:lnTo>
                    <a:pt x="126" y="1488"/>
                  </a:lnTo>
                  <a:lnTo>
                    <a:pt x="128" y="1500"/>
                  </a:lnTo>
                  <a:lnTo>
                    <a:pt x="131" y="1511"/>
                  </a:lnTo>
                  <a:lnTo>
                    <a:pt x="138" y="1521"/>
                  </a:lnTo>
                  <a:lnTo>
                    <a:pt x="148" y="1530"/>
                  </a:lnTo>
                  <a:lnTo>
                    <a:pt x="160" y="1539"/>
                  </a:lnTo>
                  <a:lnTo>
                    <a:pt x="174" y="1545"/>
                  </a:lnTo>
                  <a:lnTo>
                    <a:pt x="191" y="1552"/>
                  </a:lnTo>
                  <a:lnTo>
                    <a:pt x="210" y="1556"/>
                  </a:lnTo>
                  <a:lnTo>
                    <a:pt x="230" y="1561"/>
                  </a:lnTo>
                  <a:lnTo>
                    <a:pt x="251" y="1564"/>
                  </a:lnTo>
                  <a:lnTo>
                    <a:pt x="274" y="1566"/>
                  </a:lnTo>
                  <a:lnTo>
                    <a:pt x="297" y="1567"/>
                  </a:lnTo>
                  <a:lnTo>
                    <a:pt x="322" y="1567"/>
                  </a:lnTo>
                  <a:lnTo>
                    <a:pt x="346" y="1566"/>
                  </a:lnTo>
                  <a:lnTo>
                    <a:pt x="372" y="1564"/>
                  </a:lnTo>
                  <a:lnTo>
                    <a:pt x="396" y="1561"/>
                  </a:lnTo>
                  <a:lnTo>
                    <a:pt x="422" y="1556"/>
                  </a:lnTo>
                  <a:lnTo>
                    <a:pt x="446" y="1551"/>
                  </a:lnTo>
                  <a:lnTo>
                    <a:pt x="470" y="1545"/>
                  </a:lnTo>
                  <a:lnTo>
                    <a:pt x="493" y="1538"/>
                  </a:lnTo>
                  <a:lnTo>
                    <a:pt x="514" y="1529"/>
                  </a:lnTo>
                  <a:lnTo>
                    <a:pt x="535" y="1520"/>
                  </a:lnTo>
                  <a:lnTo>
                    <a:pt x="554" y="1509"/>
                  </a:lnTo>
                  <a:lnTo>
                    <a:pt x="598" y="1492"/>
                  </a:lnTo>
                  <a:lnTo>
                    <a:pt x="644" y="1473"/>
                  </a:lnTo>
                  <a:lnTo>
                    <a:pt x="689" y="1452"/>
                  </a:lnTo>
                  <a:lnTo>
                    <a:pt x="737" y="1429"/>
                  </a:lnTo>
                  <a:lnTo>
                    <a:pt x="785" y="1403"/>
                  </a:lnTo>
                  <a:lnTo>
                    <a:pt x="833" y="1377"/>
                  </a:lnTo>
                  <a:lnTo>
                    <a:pt x="882" y="1348"/>
                  </a:lnTo>
                  <a:lnTo>
                    <a:pt x="930" y="1318"/>
                  </a:lnTo>
                  <a:lnTo>
                    <a:pt x="980" y="1284"/>
                  </a:lnTo>
                  <a:lnTo>
                    <a:pt x="1029" y="1251"/>
                  </a:lnTo>
                  <a:lnTo>
                    <a:pt x="1078" y="1215"/>
                  </a:lnTo>
                  <a:lnTo>
                    <a:pt x="1127" y="1177"/>
                  </a:lnTo>
                  <a:lnTo>
                    <a:pt x="1176" y="1138"/>
                  </a:lnTo>
                  <a:lnTo>
                    <a:pt x="1224" y="1097"/>
                  </a:lnTo>
                  <a:lnTo>
                    <a:pt x="1271" y="1055"/>
                  </a:lnTo>
                  <a:lnTo>
                    <a:pt x="1318" y="1010"/>
                  </a:lnTo>
                  <a:lnTo>
                    <a:pt x="1365" y="965"/>
                  </a:lnTo>
                  <a:lnTo>
                    <a:pt x="1409" y="918"/>
                  </a:lnTo>
                  <a:lnTo>
                    <a:pt x="1454" y="869"/>
                  </a:lnTo>
                  <a:lnTo>
                    <a:pt x="1496" y="820"/>
                  </a:lnTo>
                  <a:lnTo>
                    <a:pt x="1537" y="769"/>
                  </a:lnTo>
                  <a:lnTo>
                    <a:pt x="1577" y="717"/>
                  </a:lnTo>
                  <a:lnTo>
                    <a:pt x="1615" y="663"/>
                  </a:lnTo>
                  <a:lnTo>
                    <a:pt x="1651" y="608"/>
                  </a:lnTo>
                  <a:lnTo>
                    <a:pt x="1686" y="553"/>
                  </a:lnTo>
                  <a:lnTo>
                    <a:pt x="1719" y="495"/>
                  </a:lnTo>
                  <a:lnTo>
                    <a:pt x="1749" y="438"/>
                  </a:lnTo>
                  <a:lnTo>
                    <a:pt x="1778" y="379"/>
                  </a:lnTo>
                  <a:lnTo>
                    <a:pt x="1803" y="318"/>
                  </a:lnTo>
                  <a:lnTo>
                    <a:pt x="1827" y="257"/>
                  </a:lnTo>
                  <a:lnTo>
                    <a:pt x="1848" y="194"/>
                  </a:lnTo>
                  <a:lnTo>
                    <a:pt x="1866" y="131"/>
                  </a:lnTo>
                  <a:lnTo>
                    <a:pt x="1851" y="124"/>
                  </a:lnTo>
                  <a:lnTo>
                    <a:pt x="1837" y="120"/>
                  </a:lnTo>
                  <a:lnTo>
                    <a:pt x="1821" y="117"/>
                  </a:lnTo>
                  <a:lnTo>
                    <a:pt x="1807" y="113"/>
                  </a:lnTo>
                  <a:lnTo>
                    <a:pt x="1791" y="112"/>
                  </a:lnTo>
                  <a:lnTo>
                    <a:pt x="1776" y="112"/>
                  </a:lnTo>
                  <a:lnTo>
                    <a:pt x="1761" y="114"/>
                  </a:lnTo>
                  <a:lnTo>
                    <a:pt x="1746" y="116"/>
                  </a:lnTo>
                  <a:lnTo>
                    <a:pt x="1730" y="119"/>
                  </a:lnTo>
                  <a:lnTo>
                    <a:pt x="1714" y="123"/>
                  </a:lnTo>
                  <a:lnTo>
                    <a:pt x="1700" y="128"/>
                  </a:lnTo>
                  <a:lnTo>
                    <a:pt x="1684" y="133"/>
                  </a:lnTo>
                  <a:lnTo>
                    <a:pt x="1656" y="146"/>
                  </a:lnTo>
                  <a:lnTo>
                    <a:pt x="1629" y="159"/>
                  </a:lnTo>
                  <a:lnTo>
                    <a:pt x="1603" y="173"/>
                  </a:lnTo>
                  <a:lnTo>
                    <a:pt x="1579" y="189"/>
                  </a:lnTo>
                  <a:lnTo>
                    <a:pt x="1558" y="203"/>
                  </a:lnTo>
                  <a:lnTo>
                    <a:pt x="1540" y="217"/>
                  </a:lnTo>
                  <a:lnTo>
                    <a:pt x="1515" y="238"/>
                  </a:lnTo>
                  <a:lnTo>
                    <a:pt x="1506" y="245"/>
                  </a:lnTo>
                  <a:lnTo>
                    <a:pt x="1481" y="263"/>
                  </a:lnTo>
                  <a:lnTo>
                    <a:pt x="1456" y="283"/>
                  </a:lnTo>
                  <a:lnTo>
                    <a:pt x="1429" y="307"/>
                  </a:lnTo>
                  <a:lnTo>
                    <a:pt x="1401" y="331"/>
                  </a:lnTo>
                  <a:lnTo>
                    <a:pt x="1374" y="358"/>
                  </a:lnTo>
                  <a:lnTo>
                    <a:pt x="1346" y="385"/>
                  </a:lnTo>
                  <a:lnTo>
                    <a:pt x="1318" y="414"/>
                  </a:lnTo>
                  <a:lnTo>
                    <a:pt x="1290" y="444"/>
                  </a:lnTo>
                  <a:lnTo>
                    <a:pt x="1262" y="474"/>
                  </a:lnTo>
                  <a:lnTo>
                    <a:pt x="1236" y="505"/>
                  </a:lnTo>
                  <a:lnTo>
                    <a:pt x="1210" y="535"/>
                  </a:lnTo>
                  <a:lnTo>
                    <a:pt x="1186" y="566"/>
                  </a:lnTo>
                  <a:lnTo>
                    <a:pt x="1161" y="596"/>
                  </a:lnTo>
                  <a:lnTo>
                    <a:pt x="1140" y="625"/>
                  </a:lnTo>
                  <a:lnTo>
                    <a:pt x="1119" y="653"/>
                  </a:lnTo>
                  <a:lnTo>
                    <a:pt x="1101" y="679"/>
                  </a:lnTo>
                  <a:lnTo>
                    <a:pt x="1095" y="685"/>
                  </a:lnTo>
                  <a:lnTo>
                    <a:pt x="1087" y="691"/>
                  </a:lnTo>
                  <a:lnTo>
                    <a:pt x="1080" y="696"/>
                  </a:lnTo>
                  <a:lnTo>
                    <a:pt x="1073" y="699"/>
                  </a:lnTo>
                  <a:lnTo>
                    <a:pt x="1065" y="704"/>
                  </a:lnTo>
                  <a:lnTo>
                    <a:pt x="1057" y="706"/>
                  </a:lnTo>
                  <a:lnTo>
                    <a:pt x="1049" y="708"/>
                  </a:lnTo>
                  <a:lnTo>
                    <a:pt x="1043" y="709"/>
                  </a:lnTo>
                  <a:lnTo>
                    <a:pt x="1036" y="709"/>
                  </a:lnTo>
                  <a:lnTo>
                    <a:pt x="1029" y="707"/>
                  </a:lnTo>
                  <a:lnTo>
                    <a:pt x="1023" y="705"/>
                  </a:lnTo>
                  <a:lnTo>
                    <a:pt x="1018" y="702"/>
                  </a:lnTo>
                  <a:lnTo>
                    <a:pt x="1014" y="697"/>
                  </a:lnTo>
                  <a:lnTo>
                    <a:pt x="1009" y="691"/>
                  </a:lnTo>
                  <a:lnTo>
                    <a:pt x="1007" y="683"/>
                  </a:lnTo>
                  <a:lnTo>
                    <a:pt x="1006" y="674"/>
                  </a:lnTo>
                  <a:lnTo>
                    <a:pt x="1007" y="657"/>
                  </a:lnTo>
                  <a:lnTo>
                    <a:pt x="1009" y="641"/>
                  </a:lnTo>
                  <a:lnTo>
                    <a:pt x="1012" y="623"/>
                  </a:lnTo>
                  <a:lnTo>
                    <a:pt x="1016" y="604"/>
                  </a:lnTo>
                  <a:lnTo>
                    <a:pt x="1020" y="584"/>
                  </a:lnTo>
                  <a:lnTo>
                    <a:pt x="1026" y="564"/>
                  </a:lnTo>
                  <a:lnTo>
                    <a:pt x="1033" y="544"/>
                  </a:lnTo>
                  <a:lnTo>
                    <a:pt x="1039" y="523"/>
                  </a:lnTo>
                  <a:lnTo>
                    <a:pt x="1055" y="481"/>
                  </a:lnTo>
                  <a:lnTo>
                    <a:pt x="1074" y="436"/>
                  </a:lnTo>
                  <a:lnTo>
                    <a:pt x="1094" y="393"/>
                  </a:lnTo>
                  <a:lnTo>
                    <a:pt x="1116" y="349"/>
                  </a:lnTo>
                  <a:lnTo>
                    <a:pt x="1139" y="305"/>
                  </a:lnTo>
                  <a:lnTo>
                    <a:pt x="1164" y="264"/>
                  </a:lnTo>
                  <a:lnTo>
                    <a:pt x="1190" y="224"/>
                  </a:lnTo>
                  <a:lnTo>
                    <a:pt x="1217" y="187"/>
                  </a:lnTo>
                  <a:lnTo>
                    <a:pt x="1230" y="169"/>
                  </a:lnTo>
                  <a:lnTo>
                    <a:pt x="1244" y="152"/>
                  </a:lnTo>
                  <a:lnTo>
                    <a:pt x="1257" y="136"/>
                  </a:lnTo>
                  <a:lnTo>
                    <a:pt x="1270" y="121"/>
                  </a:lnTo>
                  <a:lnTo>
                    <a:pt x="1284" y="107"/>
                  </a:lnTo>
                  <a:lnTo>
                    <a:pt x="1297" y="95"/>
                  </a:lnTo>
                  <a:lnTo>
                    <a:pt x="1310" y="82"/>
                  </a:lnTo>
                  <a:lnTo>
                    <a:pt x="1322" y="72"/>
                  </a:lnTo>
                  <a:lnTo>
                    <a:pt x="1320" y="69"/>
                  </a:lnTo>
                  <a:lnTo>
                    <a:pt x="1318" y="66"/>
                  </a:lnTo>
                  <a:lnTo>
                    <a:pt x="1315" y="65"/>
                  </a:lnTo>
                  <a:lnTo>
                    <a:pt x="1311" y="63"/>
                  </a:lnTo>
                  <a:lnTo>
                    <a:pt x="1302" y="61"/>
                  </a:lnTo>
                  <a:lnTo>
                    <a:pt x="1294" y="62"/>
                  </a:lnTo>
                  <a:lnTo>
                    <a:pt x="1285" y="63"/>
                  </a:lnTo>
                  <a:lnTo>
                    <a:pt x="1276" y="65"/>
                  </a:lnTo>
                  <a:lnTo>
                    <a:pt x="1267" y="67"/>
                  </a:lnTo>
                  <a:lnTo>
                    <a:pt x="1259" y="68"/>
                  </a:lnTo>
                  <a:lnTo>
                    <a:pt x="1235" y="76"/>
                  </a:lnTo>
                  <a:lnTo>
                    <a:pt x="1210" y="86"/>
                  </a:lnTo>
                  <a:lnTo>
                    <a:pt x="1186" y="96"/>
                  </a:lnTo>
                  <a:lnTo>
                    <a:pt x="1163" y="108"/>
                  </a:lnTo>
                  <a:lnTo>
                    <a:pt x="1139" y="120"/>
                  </a:lnTo>
                  <a:lnTo>
                    <a:pt x="1116" y="134"/>
                  </a:lnTo>
                  <a:lnTo>
                    <a:pt x="1094" y="150"/>
                  </a:lnTo>
                  <a:lnTo>
                    <a:pt x="1070" y="166"/>
                  </a:lnTo>
                  <a:lnTo>
                    <a:pt x="1048" y="183"/>
                  </a:lnTo>
                  <a:lnTo>
                    <a:pt x="1027" y="201"/>
                  </a:lnTo>
                  <a:lnTo>
                    <a:pt x="1005" y="219"/>
                  </a:lnTo>
                  <a:lnTo>
                    <a:pt x="984" y="239"/>
                  </a:lnTo>
                  <a:lnTo>
                    <a:pt x="943" y="279"/>
                  </a:lnTo>
                  <a:lnTo>
                    <a:pt x="903" y="321"/>
                  </a:lnTo>
                  <a:lnTo>
                    <a:pt x="864" y="363"/>
                  </a:lnTo>
                  <a:lnTo>
                    <a:pt x="826" y="408"/>
                  </a:lnTo>
                  <a:lnTo>
                    <a:pt x="791" y="451"/>
                  </a:lnTo>
                  <a:lnTo>
                    <a:pt x="756" y="494"/>
                  </a:lnTo>
                  <a:lnTo>
                    <a:pt x="693" y="575"/>
                  </a:lnTo>
                  <a:lnTo>
                    <a:pt x="635" y="647"/>
                  </a:lnTo>
                  <a:lnTo>
                    <a:pt x="631" y="651"/>
                  </a:lnTo>
                  <a:lnTo>
                    <a:pt x="626" y="656"/>
                  </a:lnTo>
                  <a:lnTo>
                    <a:pt x="622" y="663"/>
                  </a:lnTo>
                  <a:lnTo>
                    <a:pt x="617" y="671"/>
                  </a:lnTo>
                  <a:lnTo>
                    <a:pt x="609" y="688"/>
                  </a:lnTo>
                  <a:lnTo>
                    <a:pt x="602" y="709"/>
                  </a:lnTo>
                  <a:lnTo>
                    <a:pt x="588" y="758"/>
                  </a:lnTo>
                  <a:lnTo>
                    <a:pt x="574" y="810"/>
                  </a:lnTo>
                  <a:lnTo>
                    <a:pt x="565" y="835"/>
                  </a:lnTo>
                  <a:lnTo>
                    <a:pt x="556" y="859"/>
                  </a:lnTo>
                  <a:lnTo>
                    <a:pt x="551" y="870"/>
                  </a:lnTo>
                  <a:lnTo>
                    <a:pt x="545" y="880"/>
                  </a:lnTo>
                  <a:lnTo>
                    <a:pt x="538" y="890"/>
                  </a:lnTo>
                  <a:lnTo>
                    <a:pt x="533" y="899"/>
                  </a:lnTo>
                  <a:lnTo>
                    <a:pt x="525" y="907"/>
                  </a:lnTo>
                  <a:lnTo>
                    <a:pt x="518" y="914"/>
                  </a:lnTo>
                  <a:lnTo>
                    <a:pt x="511" y="919"/>
                  </a:lnTo>
                  <a:lnTo>
                    <a:pt x="502" y="924"/>
                  </a:lnTo>
                  <a:lnTo>
                    <a:pt x="493" y="927"/>
                  </a:lnTo>
                  <a:lnTo>
                    <a:pt x="483" y="929"/>
                  </a:lnTo>
                  <a:lnTo>
                    <a:pt x="473" y="929"/>
                  </a:lnTo>
                  <a:lnTo>
                    <a:pt x="462" y="928"/>
                  </a:lnTo>
                  <a:lnTo>
                    <a:pt x="457" y="927"/>
                  </a:lnTo>
                  <a:lnTo>
                    <a:pt x="452" y="926"/>
                  </a:lnTo>
                  <a:lnTo>
                    <a:pt x="447" y="923"/>
                  </a:lnTo>
                  <a:lnTo>
                    <a:pt x="443" y="919"/>
                  </a:lnTo>
                  <a:lnTo>
                    <a:pt x="434" y="909"/>
                  </a:lnTo>
                  <a:lnTo>
                    <a:pt x="426" y="896"/>
                  </a:lnTo>
                  <a:lnTo>
                    <a:pt x="417" y="880"/>
                  </a:lnTo>
                  <a:lnTo>
                    <a:pt x="410" y="862"/>
                  </a:lnTo>
                  <a:lnTo>
                    <a:pt x="403" y="843"/>
                  </a:lnTo>
                  <a:lnTo>
                    <a:pt x="396" y="823"/>
                  </a:lnTo>
                  <a:lnTo>
                    <a:pt x="384" y="784"/>
                  </a:lnTo>
                  <a:lnTo>
                    <a:pt x="376" y="751"/>
                  </a:lnTo>
                  <a:lnTo>
                    <a:pt x="371" y="726"/>
                  </a:lnTo>
                  <a:lnTo>
                    <a:pt x="369" y="716"/>
                  </a:lnTo>
                  <a:lnTo>
                    <a:pt x="373" y="699"/>
                  </a:lnTo>
                  <a:lnTo>
                    <a:pt x="387" y="654"/>
                  </a:lnTo>
                  <a:lnTo>
                    <a:pt x="400" y="622"/>
                  </a:lnTo>
                  <a:lnTo>
                    <a:pt x="415" y="585"/>
                  </a:lnTo>
                  <a:lnTo>
                    <a:pt x="425" y="565"/>
                  </a:lnTo>
                  <a:lnTo>
                    <a:pt x="435" y="544"/>
                  </a:lnTo>
                  <a:lnTo>
                    <a:pt x="447" y="523"/>
                  </a:lnTo>
                  <a:lnTo>
                    <a:pt x="460" y="500"/>
                  </a:lnTo>
                  <a:lnTo>
                    <a:pt x="474" y="476"/>
                  </a:lnTo>
                  <a:lnTo>
                    <a:pt x="490" y="453"/>
                  </a:lnTo>
                  <a:lnTo>
                    <a:pt x="506" y="429"/>
                  </a:lnTo>
                  <a:lnTo>
                    <a:pt x="525" y="404"/>
                  </a:lnTo>
                  <a:lnTo>
                    <a:pt x="544" y="379"/>
                  </a:lnTo>
                  <a:lnTo>
                    <a:pt x="565" y="354"/>
                  </a:lnTo>
                  <a:lnTo>
                    <a:pt x="588" y="329"/>
                  </a:lnTo>
                  <a:lnTo>
                    <a:pt x="612" y="304"/>
                  </a:lnTo>
                  <a:lnTo>
                    <a:pt x="638" y="279"/>
                  </a:lnTo>
                  <a:lnTo>
                    <a:pt x="665" y="254"/>
                  </a:lnTo>
                  <a:lnTo>
                    <a:pt x="695" y="230"/>
                  </a:lnTo>
                  <a:lnTo>
                    <a:pt x="726" y="206"/>
                  </a:lnTo>
                  <a:lnTo>
                    <a:pt x="758" y="182"/>
                  </a:lnTo>
                  <a:lnTo>
                    <a:pt x="793" y="160"/>
                  </a:lnTo>
                  <a:lnTo>
                    <a:pt x="829" y="138"/>
                  </a:lnTo>
                  <a:lnTo>
                    <a:pt x="868" y="116"/>
                  </a:lnTo>
                  <a:lnTo>
                    <a:pt x="854" y="133"/>
                  </a:lnTo>
                  <a:lnTo>
                    <a:pt x="814" y="179"/>
                  </a:lnTo>
                  <a:lnTo>
                    <a:pt x="757" y="244"/>
                  </a:lnTo>
                  <a:lnTo>
                    <a:pt x="691" y="322"/>
                  </a:lnTo>
                  <a:lnTo>
                    <a:pt x="657" y="363"/>
                  </a:lnTo>
                  <a:lnTo>
                    <a:pt x="624" y="404"/>
                  </a:lnTo>
                  <a:lnTo>
                    <a:pt x="593" y="443"/>
                  </a:lnTo>
                  <a:lnTo>
                    <a:pt x="564" y="481"/>
                  </a:lnTo>
                  <a:lnTo>
                    <a:pt x="538" y="515"/>
                  </a:lnTo>
                  <a:lnTo>
                    <a:pt x="518" y="545"/>
                  </a:lnTo>
                  <a:lnTo>
                    <a:pt x="511" y="557"/>
                  </a:lnTo>
                  <a:lnTo>
                    <a:pt x="504" y="570"/>
                  </a:lnTo>
                  <a:lnTo>
                    <a:pt x="498" y="580"/>
                  </a:lnTo>
                  <a:lnTo>
                    <a:pt x="495" y="587"/>
                  </a:lnTo>
                  <a:lnTo>
                    <a:pt x="492" y="594"/>
                  </a:lnTo>
                  <a:lnTo>
                    <a:pt x="484" y="614"/>
                  </a:lnTo>
                  <a:lnTo>
                    <a:pt x="473" y="642"/>
                  </a:lnTo>
                  <a:lnTo>
                    <a:pt x="461" y="674"/>
                  </a:lnTo>
                  <a:lnTo>
                    <a:pt x="456" y="692"/>
                  </a:lnTo>
                  <a:lnTo>
                    <a:pt x="452" y="708"/>
                  </a:lnTo>
                  <a:lnTo>
                    <a:pt x="448" y="725"/>
                  </a:lnTo>
                  <a:lnTo>
                    <a:pt x="446" y="741"/>
                  </a:lnTo>
                  <a:lnTo>
                    <a:pt x="446" y="755"/>
                  </a:lnTo>
                  <a:lnTo>
                    <a:pt x="448" y="767"/>
                  </a:lnTo>
                  <a:lnTo>
                    <a:pt x="450" y="773"/>
                  </a:lnTo>
                  <a:lnTo>
                    <a:pt x="453" y="777"/>
                  </a:lnTo>
                  <a:lnTo>
                    <a:pt x="455" y="782"/>
                  </a:lnTo>
                  <a:lnTo>
                    <a:pt x="460" y="785"/>
                  </a:lnTo>
                  <a:lnTo>
                    <a:pt x="463" y="787"/>
                  </a:lnTo>
                  <a:lnTo>
                    <a:pt x="467" y="786"/>
                  </a:lnTo>
                  <a:lnTo>
                    <a:pt x="472" y="784"/>
                  </a:lnTo>
                  <a:lnTo>
                    <a:pt x="476" y="778"/>
                  </a:lnTo>
                  <a:lnTo>
                    <a:pt x="488" y="763"/>
                  </a:lnTo>
                  <a:lnTo>
                    <a:pt x="503" y="738"/>
                  </a:lnTo>
                  <a:lnTo>
                    <a:pt x="520" y="707"/>
                  </a:lnTo>
                  <a:lnTo>
                    <a:pt x="541" y="669"/>
                  </a:lnTo>
                  <a:lnTo>
                    <a:pt x="566" y="626"/>
                  </a:lnTo>
                  <a:lnTo>
                    <a:pt x="595" y="577"/>
                  </a:lnTo>
                  <a:lnTo>
                    <a:pt x="612" y="552"/>
                  </a:lnTo>
                  <a:lnTo>
                    <a:pt x="631" y="524"/>
                  </a:lnTo>
                  <a:lnTo>
                    <a:pt x="649" y="496"/>
                  </a:lnTo>
                  <a:lnTo>
                    <a:pt x="671" y="466"/>
                  </a:lnTo>
                  <a:lnTo>
                    <a:pt x="693" y="436"/>
                  </a:lnTo>
                  <a:lnTo>
                    <a:pt x="716" y="406"/>
                  </a:lnTo>
                  <a:lnTo>
                    <a:pt x="742" y="374"/>
                  </a:lnTo>
                  <a:lnTo>
                    <a:pt x="768" y="342"/>
                  </a:lnTo>
                  <a:lnTo>
                    <a:pt x="797" y="310"/>
                  </a:lnTo>
                  <a:lnTo>
                    <a:pt x="828" y="277"/>
                  </a:lnTo>
                  <a:lnTo>
                    <a:pt x="860" y="243"/>
                  </a:lnTo>
                  <a:lnTo>
                    <a:pt x="895" y="209"/>
                  </a:lnTo>
                  <a:lnTo>
                    <a:pt x="932" y="176"/>
                  </a:lnTo>
                  <a:lnTo>
                    <a:pt x="970" y="141"/>
                  </a:lnTo>
                  <a:lnTo>
                    <a:pt x="1010" y="107"/>
                  </a:lnTo>
                  <a:lnTo>
                    <a:pt x="1054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2" name=""/>
          <p:cNvSpPr/>
          <p:nvPr/>
        </p:nvSpPr>
        <p:spPr>
          <a:xfrm>
            <a:off x="2796120" y="504720"/>
            <a:ext cx="3463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f1a17"/>
                </a:solidFill>
                <a:latin typeface="Geometr231 Hv BT"/>
              </a:rPr>
              <a:t>HIV TESTING 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"/>
          <p:cNvSpPr/>
          <p:nvPr/>
        </p:nvSpPr>
        <p:spPr>
          <a:xfrm>
            <a:off x="2595960" y="1039680"/>
            <a:ext cx="38854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f1a17"/>
                </a:solidFill>
                <a:latin typeface="Geometr231 Hv BT"/>
              </a:rPr>
              <a:t>YOUNG CHILDRE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4" name=""/>
          <p:cNvGrpSpPr/>
          <p:nvPr/>
        </p:nvGrpSpPr>
        <p:grpSpPr>
          <a:xfrm>
            <a:off x="4567320" y="1587600"/>
            <a:ext cx="1882800" cy="3752640"/>
            <a:chOff x="4567320" y="1587600"/>
            <a:chExt cx="1882800" cy="3752640"/>
          </a:xfrm>
        </p:grpSpPr>
        <p:sp>
          <p:nvSpPr>
            <p:cNvPr id="5635" name=""/>
            <p:cNvSpPr/>
            <p:nvPr/>
          </p:nvSpPr>
          <p:spPr>
            <a:xfrm>
              <a:off x="5484960" y="1878120"/>
              <a:ext cx="69840" cy="58680"/>
            </a:xfrm>
            <a:custGeom>
              <a:avLst/>
              <a:gdLst/>
              <a:ahLst/>
              <a:rect l="l" t="t" r="r" b="b"/>
              <a:pathLst>
                <a:path w="220" h="186">
                  <a:moveTo>
                    <a:pt x="220" y="0"/>
                  </a:moveTo>
                  <a:lnTo>
                    <a:pt x="0" y="186"/>
                  </a:lnTo>
                  <a:lnTo>
                    <a:pt x="23" y="160"/>
                  </a:lnTo>
                  <a:lnTo>
                    <a:pt x="47" y="135"/>
                  </a:lnTo>
                  <a:lnTo>
                    <a:pt x="73" y="111"/>
                  </a:lnTo>
                  <a:lnTo>
                    <a:pt x="100" y="87"/>
                  </a:lnTo>
                  <a:lnTo>
                    <a:pt x="128" y="65"/>
                  </a:lnTo>
                  <a:lnTo>
                    <a:pt x="157" y="42"/>
                  </a:lnTo>
                  <a:lnTo>
                    <a:pt x="188" y="2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5465880" y="1862280"/>
              <a:ext cx="115920" cy="96840"/>
            </a:xfrm>
            <a:custGeom>
              <a:avLst/>
              <a:gdLst/>
              <a:ahLst/>
              <a:rect l="l" t="t" r="r" b="b"/>
              <a:pathLst>
                <a:path w="365" h="306">
                  <a:moveTo>
                    <a:pt x="365" y="0"/>
                  </a:moveTo>
                  <a:lnTo>
                    <a:pt x="0" y="306"/>
                  </a:lnTo>
                  <a:lnTo>
                    <a:pt x="17" y="283"/>
                  </a:lnTo>
                  <a:lnTo>
                    <a:pt x="35" y="262"/>
                  </a:lnTo>
                  <a:lnTo>
                    <a:pt x="53" y="240"/>
                  </a:lnTo>
                  <a:lnTo>
                    <a:pt x="73" y="219"/>
                  </a:lnTo>
                  <a:lnTo>
                    <a:pt x="92" y="198"/>
                  </a:lnTo>
                  <a:lnTo>
                    <a:pt x="112" y="178"/>
                  </a:lnTo>
                  <a:lnTo>
                    <a:pt x="134" y="158"/>
                  </a:lnTo>
                  <a:lnTo>
                    <a:pt x="157" y="139"/>
                  </a:lnTo>
                  <a:lnTo>
                    <a:pt x="179" y="119"/>
                  </a:lnTo>
                  <a:lnTo>
                    <a:pt x="203" y="101"/>
                  </a:lnTo>
                  <a:lnTo>
                    <a:pt x="228" y="82"/>
                  </a:lnTo>
                  <a:lnTo>
                    <a:pt x="253" y="65"/>
                  </a:lnTo>
                  <a:lnTo>
                    <a:pt x="280" y="48"/>
                  </a:lnTo>
                  <a:lnTo>
                    <a:pt x="307" y="32"/>
                  </a:lnTo>
                  <a:lnTo>
                    <a:pt x="335" y="15"/>
                  </a:lnTo>
                  <a:lnTo>
                    <a:pt x="365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5452920" y="1852560"/>
              <a:ext cx="147960" cy="123840"/>
            </a:xfrm>
            <a:custGeom>
              <a:avLst/>
              <a:gdLst/>
              <a:ahLst/>
              <a:rect l="l" t="t" r="r" b="b"/>
              <a:pathLst>
                <a:path w="466" h="391">
                  <a:moveTo>
                    <a:pt x="98" y="264"/>
                  </a:moveTo>
                  <a:lnTo>
                    <a:pt x="318" y="78"/>
                  </a:lnTo>
                  <a:lnTo>
                    <a:pt x="335" y="67"/>
                  </a:lnTo>
                  <a:lnTo>
                    <a:pt x="352" y="57"/>
                  </a:lnTo>
                  <a:lnTo>
                    <a:pt x="371" y="48"/>
                  </a:lnTo>
                  <a:lnTo>
                    <a:pt x="389" y="38"/>
                  </a:lnTo>
                  <a:lnTo>
                    <a:pt x="407" y="28"/>
                  </a:lnTo>
                  <a:lnTo>
                    <a:pt x="427" y="18"/>
                  </a:lnTo>
                  <a:lnTo>
                    <a:pt x="446" y="9"/>
                  </a:lnTo>
                  <a:lnTo>
                    <a:pt x="466" y="0"/>
                  </a:lnTo>
                  <a:lnTo>
                    <a:pt x="0" y="391"/>
                  </a:lnTo>
                  <a:lnTo>
                    <a:pt x="11" y="374"/>
                  </a:lnTo>
                  <a:lnTo>
                    <a:pt x="22" y="358"/>
                  </a:lnTo>
                  <a:lnTo>
                    <a:pt x="34" y="342"/>
                  </a:lnTo>
                  <a:lnTo>
                    <a:pt x="46" y="325"/>
                  </a:lnTo>
                  <a:lnTo>
                    <a:pt x="59" y="310"/>
                  </a:lnTo>
                  <a:lnTo>
                    <a:pt x="71" y="294"/>
                  </a:lnTo>
                  <a:lnTo>
                    <a:pt x="84" y="279"/>
                  </a:lnTo>
                  <a:lnTo>
                    <a:pt x="98" y="264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5443560" y="1844640"/>
              <a:ext cx="174600" cy="147600"/>
            </a:xfrm>
            <a:custGeom>
              <a:avLst/>
              <a:gdLst/>
              <a:ahLst/>
              <a:rect l="l" t="t" r="r" b="b"/>
              <a:pathLst>
                <a:path w="551" h="463">
                  <a:moveTo>
                    <a:pt x="68" y="359"/>
                  </a:moveTo>
                  <a:lnTo>
                    <a:pt x="433" y="53"/>
                  </a:lnTo>
                  <a:lnTo>
                    <a:pt x="446" y="46"/>
                  </a:lnTo>
                  <a:lnTo>
                    <a:pt x="461" y="39"/>
                  </a:lnTo>
                  <a:lnTo>
                    <a:pt x="475" y="33"/>
                  </a:lnTo>
                  <a:lnTo>
                    <a:pt x="489" y="25"/>
                  </a:lnTo>
                  <a:lnTo>
                    <a:pt x="504" y="19"/>
                  </a:lnTo>
                  <a:lnTo>
                    <a:pt x="519" y="13"/>
                  </a:lnTo>
                  <a:lnTo>
                    <a:pt x="534" y="7"/>
                  </a:lnTo>
                  <a:lnTo>
                    <a:pt x="551" y="0"/>
                  </a:lnTo>
                  <a:lnTo>
                    <a:pt x="0" y="463"/>
                  </a:lnTo>
                  <a:lnTo>
                    <a:pt x="8" y="449"/>
                  </a:lnTo>
                  <a:lnTo>
                    <a:pt x="16" y="436"/>
                  </a:lnTo>
                  <a:lnTo>
                    <a:pt x="24" y="423"/>
                  </a:lnTo>
                  <a:lnTo>
                    <a:pt x="33" y="410"/>
                  </a:lnTo>
                  <a:lnTo>
                    <a:pt x="41" y="397"/>
                  </a:lnTo>
                  <a:lnTo>
                    <a:pt x="50" y="384"/>
                  </a:lnTo>
                  <a:lnTo>
                    <a:pt x="60" y="371"/>
                  </a:lnTo>
                  <a:lnTo>
                    <a:pt x="68" y="359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5435640" y="1841400"/>
              <a:ext cx="191880" cy="165240"/>
            </a:xfrm>
            <a:custGeom>
              <a:avLst/>
              <a:gdLst/>
              <a:ahLst/>
              <a:rect l="l" t="t" r="r" b="b"/>
              <a:pathLst>
                <a:path w="605" h="516">
                  <a:moveTo>
                    <a:pt x="54" y="424"/>
                  </a:moveTo>
                  <a:lnTo>
                    <a:pt x="520" y="33"/>
                  </a:lnTo>
                  <a:lnTo>
                    <a:pt x="529" y="29"/>
                  </a:lnTo>
                  <a:lnTo>
                    <a:pt x="539" y="24"/>
                  </a:lnTo>
                  <a:lnTo>
                    <a:pt x="550" y="20"/>
                  </a:lnTo>
                  <a:lnTo>
                    <a:pt x="560" y="16"/>
                  </a:lnTo>
                  <a:lnTo>
                    <a:pt x="569" y="13"/>
                  </a:lnTo>
                  <a:lnTo>
                    <a:pt x="580" y="8"/>
                  </a:lnTo>
                  <a:lnTo>
                    <a:pt x="590" y="4"/>
                  </a:lnTo>
                  <a:lnTo>
                    <a:pt x="601" y="0"/>
                  </a:lnTo>
                  <a:lnTo>
                    <a:pt x="601" y="0"/>
                  </a:lnTo>
                  <a:lnTo>
                    <a:pt x="602" y="1"/>
                  </a:lnTo>
                  <a:lnTo>
                    <a:pt x="602" y="2"/>
                  </a:lnTo>
                  <a:lnTo>
                    <a:pt x="603" y="3"/>
                  </a:lnTo>
                  <a:lnTo>
                    <a:pt x="603" y="4"/>
                  </a:lnTo>
                  <a:lnTo>
                    <a:pt x="604" y="5"/>
                  </a:lnTo>
                  <a:lnTo>
                    <a:pt x="604" y="6"/>
                  </a:lnTo>
                  <a:lnTo>
                    <a:pt x="605" y="7"/>
                  </a:lnTo>
                  <a:lnTo>
                    <a:pt x="605" y="7"/>
                  </a:lnTo>
                  <a:lnTo>
                    <a:pt x="0" y="516"/>
                  </a:lnTo>
                  <a:lnTo>
                    <a:pt x="7" y="504"/>
                  </a:lnTo>
                  <a:lnTo>
                    <a:pt x="13" y="492"/>
                  </a:lnTo>
                  <a:lnTo>
                    <a:pt x="20" y="480"/>
                  </a:lnTo>
                  <a:lnTo>
                    <a:pt x="26" y="470"/>
                  </a:lnTo>
                  <a:lnTo>
                    <a:pt x="33" y="458"/>
                  </a:lnTo>
                  <a:lnTo>
                    <a:pt x="40" y="447"/>
                  </a:lnTo>
                  <a:lnTo>
                    <a:pt x="47" y="435"/>
                  </a:lnTo>
                  <a:lnTo>
                    <a:pt x="54" y="424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5429160" y="1841400"/>
              <a:ext cx="201600" cy="177840"/>
            </a:xfrm>
            <a:custGeom>
              <a:avLst/>
              <a:gdLst/>
              <a:ahLst/>
              <a:rect l="l" t="t" r="r" b="b"/>
              <a:pathLst>
                <a:path w="634" h="556">
                  <a:moveTo>
                    <a:pt x="44" y="473"/>
                  </a:moveTo>
                  <a:lnTo>
                    <a:pt x="595" y="10"/>
                  </a:lnTo>
                  <a:lnTo>
                    <a:pt x="598" y="9"/>
                  </a:lnTo>
                  <a:lnTo>
                    <a:pt x="601" y="8"/>
                  </a:lnTo>
                  <a:lnTo>
                    <a:pt x="604" y="6"/>
                  </a:lnTo>
                  <a:lnTo>
                    <a:pt x="608" y="5"/>
                  </a:lnTo>
                  <a:lnTo>
                    <a:pt x="611" y="4"/>
                  </a:lnTo>
                  <a:lnTo>
                    <a:pt x="614" y="3"/>
                  </a:lnTo>
                  <a:lnTo>
                    <a:pt x="617" y="2"/>
                  </a:lnTo>
                  <a:lnTo>
                    <a:pt x="621" y="0"/>
                  </a:lnTo>
                  <a:lnTo>
                    <a:pt x="621" y="1"/>
                  </a:lnTo>
                  <a:lnTo>
                    <a:pt x="623" y="3"/>
                  </a:lnTo>
                  <a:lnTo>
                    <a:pt x="624" y="6"/>
                  </a:lnTo>
                  <a:lnTo>
                    <a:pt x="626" y="9"/>
                  </a:lnTo>
                  <a:lnTo>
                    <a:pt x="627" y="11"/>
                  </a:lnTo>
                  <a:lnTo>
                    <a:pt x="629" y="15"/>
                  </a:lnTo>
                  <a:lnTo>
                    <a:pt x="630" y="18"/>
                  </a:lnTo>
                  <a:lnTo>
                    <a:pt x="632" y="20"/>
                  </a:lnTo>
                  <a:lnTo>
                    <a:pt x="634" y="23"/>
                  </a:lnTo>
                  <a:lnTo>
                    <a:pt x="0" y="556"/>
                  </a:lnTo>
                  <a:lnTo>
                    <a:pt x="5" y="545"/>
                  </a:lnTo>
                  <a:lnTo>
                    <a:pt x="10" y="536"/>
                  </a:lnTo>
                  <a:lnTo>
                    <a:pt x="15" y="525"/>
                  </a:lnTo>
                  <a:lnTo>
                    <a:pt x="22" y="514"/>
                  </a:lnTo>
                  <a:lnTo>
                    <a:pt x="27" y="503"/>
                  </a:lnTo>
                  <a:lnTo>
                    <a:pt x="32" y="493"/>
                  </a:lnTo>
                  <a:lnTo>
                    <a:pt x="38" y="483"/>
                  </a:lnTo>
                  <a:lnTo>
                    <a:pt x="44" y="473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5424480" y="1844640"/>
              <a:ext cx="209520" cy="185760"/>
            </a:xfrm>
            <a:custGeom>
              <a:avLst/>
              <a:gdLst/>
              <a:ahLst/>
              <a:rect l="l" t="t" r="r" b="b"/>
              <a:pathLst>
                <a:path w="660" h="588">
                  <a:moveTo>
                    <a:pt x="38" y="509"/>
                  </a:moveTo>
                  <a:lnTo>
                    <a:pt x="643" y="0"/>
                  </a:lnTo>
                  <a:lnTo>
                    <a:pt x="645" y="4"/>
                  </a:lnTo>
                  <a:lnTo>
                    <a:pt x="647" y="9"/>
                  </a:lnTo>
                  <a:lnTo>
                    <a:pt x="649" y="12"/>
                  </a:lnTo>
                  <a:lnTo>
                    <a:pt x="652" y="16"/>
                  </a:lnTo>
                  <a:lnTo>
                    <a:pt x="654" y="21"/>
                  </a:lnTo>
                  <a:lnTo>
                    <a:pt x="656" y="24"/>
                  </a:lnTo>
                  <a:lnTo>
                    <a:pt x="658" y="28"/>
                  </a:lnTo>
                  <a:lnTo>
                    <a:pt x="660" y="33"/>
                  </a:lnTo>
                  <a:lnTo>
                    <a:pt x="0" y="588"/>
                  </a:lnTo>
                  <a:lnTo>
                    <a:pt x="4" y="577"/>
                  </a:lnTo>
                  <a:lnTo>
                    <a:pt x="8" y="567"/>
                  </a:lnTo>
                  <a:lnTo>
                    <a:pt x="14" y="558"/>
                  </a:lnTo>
                  <a:lnTo>
                    <a:pt x="18" y="548"/>
                  </a:lnTo>
                  <a:lnTo>
                    <a:pt x="23" y="538"/>
                  </a:lnTo>
                  <a:lnTo>
                    <a:pt x="28" y="529"/>
                  </a:lnTo>
                  <a:lnTo>
                    <a:pt x="33" y="519"/>
                  </a:lnTo>
                  <a:lnTo>
                    <a:pt x="38" y="509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5418000" y="1849320"/>
              <a:ext cx="219240" cy="193680"/>
            </a:xfrm>
            <a:custGeom>
              <a:avLst/>
              <a:gdLst/>
              <a:ahLst/>
              <a:rect l="l" t="t" r="r" b="b"/>
              <a:pathLst>
                <a:path w="686" h="609">
                  <a:moveTo>
                    <a:pt x="35" y="533"/>
                  </a:moveTo>
                  <a:lnTo>
                    <a:pt x="669" y="0"/>
                  </a:lnTo>
                  <a:lnTo>
                    <a:pt x="671" y="5"/>
                  </a:lnTo>
                  <a:lnTo>
                    <a:pt x="673" y="8"/>
                  </a:lnTo>
                  <a:lnTo>
                    <a:pt x="675" y="12"/>
                  </a:lnTo>
                  <a:lnTo>
                    <a:pt x="677" y="17"/>
                  </a:lnTo>
                  <a:lnTo>
                    <a:pt x="679" y="20"/>
                  </a:lnTo>
                  <a:lnTo>
                    <a:pt x="681" y="24"/>
                  </a:lnTo>
                  <a:lnTo>
                    <a:pt x="684" y="28"/>
                  </a:lnTo>
                  <a:lnTo>
                    <a:pt x="686" y="33"/>
                  </a:lnTo>
                  <a:lnTo>
                    <a:pt x="0" y="609"/>
                  </a:lnTo>
                  <a:lnTo>
                    <a:pt x="4" y="599"/>
                  </a:lnTo>
                  <a:lnTo>
                    <a:pt x="8" y="589"/>
                  </a:lnTo>
                  <a:lnTo>
                    <a:pt x="12" y="580"/>
                  </a:lnTo>
                  <a:lnTo>
                    <a:pt x="17" y="571"/>
                  </a:lnTo>
                  <a:lnTo>
                    <a:pt x="21" y="561"/>
                  </a:lnTo>
                  <a:lnTo>
                    <a:pt x="25" y="551"/>
                  </a:lnTo>
                  <a:lnTo>
                    <a:pt x="30" y="543"/>
                  </a:lnTo>
                  <a:lnTo>
                    <a:pt x="35" y="533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5413320" y="1854360"/>
              <a:ext cx="225360" cy="199800"/>
            </a:xfrm>
            <a:custGeom>
              <a:avLst/>
              <a:gdLst/>
              <a:ahLst/>
              <a:rect l="l" t="t" r="r" b="b"/>
              <a:pathLst>
                <a:path w="709" h="626">
                  <a:moveTo>
                    <a:pt x="32" y="555"/>
                  </a:moveTo>
                  <a:lnTo>
                    <a:pt x="692" y="0"/>
                  </a:lnTo>
                  <a:lnTo>
                    <a:pt x="694" y="4"/>
                  </a:lnTo>
                  <a:lnTo>
                    <a:pt x="696" y="7"/>
                  </a:lnTo>
                  <a:lnTo>
                    <a:pt x="699" y="11"/>
                  </a:lnTo>
                  <a:lnTo>
                    <a:pt x="701" y="15"/>
                  </a:lnTo>
                  <a:lnTo>
                    <a:pt x="703" y="19"/>
                  </a:lnTo>
                  <a:lnTo>
                    <a:pt x="705" y="23"/>
                  </a:lnTo>
                  <a:lnTo>
                    <a:pt x="707" y="28"/>
                  </a:lnTo>
                  <a:lnTo>
                    <a:pt x="709" y="31"/>
                  </a:lnTo>
                  <a:lnTo>
                    <a:pt x="0" y="626"/>
                  </a:lnTo>
                  <a:lnTo>
                    <a:pt x="5" y="618"/>
                  </a:lnTo>
                  <a:lnTo>
                    <a:pt x="8" y="609"/>
                  </a:lnTo>
                  <a:lnTo>
                    <a:pt x="12" y="599"/>
                  </a:lnTo>
                  <a:lnTo>
                    <a:pt x="15" y="591"/>
                  </a:lnTo>
                  <a:lnTo>
                    <a:pt x="20" y="582"/>
                  </a:lnTo>
                  <a:lnTo>
                    <a:pt x="23" y="572"/>
                  </a:lnTo>
                  <a:lnTo>
                    <a:pt x="27" y="564"/>
                  </a:lnTo>
                  <a:lnTo>
                    <a:pt x="32" y="55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5410080" y="1860480"/>
              <a:ext cx="231840" cy="204840"/>
            </a:xfrm>
            <a:custGeom>
              <a:avLst/>
              <a:gdLst/>
              <a:ahLst/>
              <a:rect l="l" t="t" r="r" b="b"/>
              <a:pathLst>
                <a:path w="731" h="645">
                  <a:moveTo>
                    <a:pt x="28" y="576"/>
                  </a:moveTo>
                  <a:lnTo>
                    <a:pt x="714" y="0"/>
                  </a:lnTo>
                  <a:lnTo>
                    <a:pt x="716" y="3"/>
                  </a:lnTo>
                  <a:lnTo>
                    <a:pt x="718" y="7"/>
                  </a:lnTo>
                  <a:lnTo>
                    <a:pt x="720" y="12"/>
                  </a:lnTo>
                  <a:lnTo>
                    <a:pt x="722" y="15"/>
                  </a:lnTo>
                  <a:lnTo>
                    <a:pt x="725" y="19"/>
                  </a:lnTo>
                  <a:lnTo>
                    <a:pt x="727" y="24"/>
                  </a:lnTo>
                  <a:lnTo>
                    <a:pt x="729" y="27"/>
                  </a:lnTo>
                  <a:lnTo>
                    <a:pt x="731" y="31"/>
                  </a:lnTo>
                  <a:lnTo>
                    <a:pt x="0" y="645"/>
                  </a:lnTo>
                  <a:lnTo>
                    <a:pt x="4" y="636"/>
                  </a:lnTo>
                  <a:lnTo>
                    <a:pt x="7" y="628"/>
                  </a:lnTo>
                  <a:lnTo>
                    <a:pt x="10" y="619"/>
                  </a:lnTo>
                  <a:lnTo>
                    <a:pt x="13" y="610"/>
                  </a:lnTo>
                  <a:lnTo>
                    <a:pt x="18" y="602"/>
                  </a:lnTo>
                  <a:lnTo>
                    <a:pt x="21" y="593"/>
                  </a:lnTo>
                  <a:lnTo>
                    <a:pt x="24" y="584"/>
                  </a:lnTo>
                  <a:lnTo>
                    <a:pt x="28" y="576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5407200" y="1865160"/>
              <a:ext cx="237960" cy="209880"/>
            </a:xfrm>
            <a:custGeom>
              <a:avLst/>
              <a:gdLst/>
              <a:ahLst/>
              <a:rect l="l" t="t" r="r" b="b"/>
              <a:pathLst>
                <a:path w="751" h="663">
                  <a:moveTo>
                    <a:pt x="24" y="595"/>
                  </a:moveTo>
                  <a:lnTo>
                    <a:pt x="733" y="0"/>
                  </a:lnTo>
                  <a:lnTo>
                    <a:pt x="24" y="595"/>
                  </a:lnTo>
                  <a:close/>
                  <a:moveTo>
                    <a:pt x="751" y="32"/>
                  </a:moveTo>
                  <a:lnTo>
                    <a:pt x="0" y="663"/>
                  </a:lnTo>
                  <a:lnTo>
                    <a:pt x="2" y="655"/>
                  </a:lnTo>
                  <a:lnTo>
                    <a:pt x="5" y="646"/>
                  </a:lnTo>
                  <a:lnTo>
                    <a:pt x="8" y="637"/>
                  </a:lnTo>
                  <a:lnTo>
                    <a:pt x="11" y="630"/>
                  </a:lnTo>
                  <a:lnTo>
                    <a:pt x="15" y="621"/>
                  </a:lnTo>
                  <a:lnTo>
                    <a:pt x="18" y="613"/>
                  </a:lnTo>
                  <a:lnTo>
                    <a:pt x="21" y="604"/>
                  </a:lnTo>
                  <a:lnTo>
                    <a:pt x="24" y="595"/>
                  </a:lnTo>
                  <a:lnTo>
                    <a:pt x="751" y="32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5402160" y="1870200"/>
              <a:ext cx="244440" cy="215640"/>
            </a:xfrm>
            <a:custGeom>
              <a:avLst/>
              <a:gdLst/>
              <a:ahLst/>
              <a:rect l="l" t="t" r="r" b="b"/>
              <a:pathLst>
                <a:path w="771" h="680">
                  <a:moveTo>
                    <a:pt x="23" y="614"/>
                  </a:moveTo>
                  <a:lnTo>
                    <a:pt x="754" y="0"/>
                  </a:lnTo>
                  <a:lnTo>
                    <a:pt x="756" y="4"/>
                  </a:lnTo>
                  <a:lnTo>
                    <a:pt x="758" y="8"/>
                  </a:lnTo>
                  <a:lnTo>
                    <a:pt x="761" y="12"/>
                  </a:lnTo>
                  <a:lnTo>
                    <a:pt x="763" y="16"/>
                  </a:lnTo>
                  <a:lnTo>
                    <a:pt x="765" y="20"/>
                  </a:lnTo>
                  <a:lnTo>
                    <a:pt x="767" y="24"/>
                  </a:lnTo>
                  <a:lnTo>
                    <a:pt x="769" y="28"/>
                  </a:lnTo>
                  <a:lnTo>
                    <a:pt x="771" y="31"/>
                  </a:lnTo>
                  <a:lnTo>
                    <a:pt x="0" y="680"/>
                  </a:lnTo>
                  <a:lnTo>
                    <a:pt x="2" y="672"/>
                  </a:lnTo>
                  <a:lnTo>
                    <a:pt x="5" y="664"/>
                  </a:lnTo>
                  <a:lnTo>
                    <a:pt x="8" y="655"/>
                  </a:lnTo>
                  <a:lnTo>
                    <a:pt x="12" y="647"/>
                  </a:lnTo>
                  <a:lnTo>
                    <a:pt x="14" y="639"/>
                  </a:lnTo>
                  <a:lnTo>
                    <a:pt x="17" y="630"/>
                  </a:lnTo>
                  <a:lnTo>
                    <a:pt x="20" y="623"/>
                  </a:lnTo>
                  <a:lnTo>
                    <a:pt x="23" y="614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5398920" y="1874880"/>
              <a:ext cx="250920" cy="220680"/>
            </a:xfrm>
            <a:custGeom>
              <a:avLst/>
              <a:gdLst/>
              <a:ahLst/>
              <a:rect l="l" t="t" r="r" b="b"/>
              <a:pathLst>
                <a:path w="791" h="696">
                  <a:moveTo>
                    <a:pt x="23" y="631"/>
                  </a:moveTo>
                  <a:lnTo>
                    <a:pt x="774" y="0"/>
                  </a:lnTo>
                  <a:lnTo>
                    <a:pt x="776" y="4"/>
                  </a:lnTo>
                  <a:lnTo>
                    <a:pt x="778" y="8"/>
                  </a:lnTo>
                  <a:lnTo>
                    <a:pt x="780" y="12"/>
                  </a:lnTo>
                  <a:lnTo>
                    <a:pt x="782" y="15"/>
                  </a:lnTo>
                  <a:lnTo>
                    <a:pt x="784" y="20"/>
                  </a:lnTo>
                  <a:lnTo>
                    <a:pt x="787" y="24"/>
                  </a:lnTo>
                  <a:lnTo>
                    <a:pt x="789" y="28"/>
                  </a:lnTo>
                  <a:lnTo>
                    <a:pt x="791" y="32"/>
                  </a:lnTo>
                  <a:lnTo>
                    <a:pt x="0" y="696"/>
                  </a:lnTo>
                  <a:lnTo>
                    <a:pt x="2" y="689"/>
                  </a:lnTo>
                  <a:lnTo>
                    <a:pt x="5" y="680"/>
                  </a:lnTo>
                  <a:lnTo>
                    <a:pt x="7" y="672"/>
                  </a:lnTo>
                  <a:lnTo>
                    <a:pt x="11" y="664"/>
                  </a:lnTo>
                  <a:lnTo>
                    <a:pt x="14" y="656"/>
                  </a:lnTo>
                  <a:lnTo>
                    <a:pt x="16" y="648"/>
                  </a:lnTo>
                  <a:lnTo>
                    <a:pt x="19" y="640"/>
                  </a:lnTo>
                  <a:lnTo>
                    <a:pt x="23" y="631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5396040" y="1879560"/>
              <a:ext cx="257040" cy="227160"/>
            </a:xfrm>
            <a:custGeom>
              <a:avLst/>
              <a:gdLst/>
              <a:ahLst/>
              <a:rect l="l" t="t" r="r" b="b"/>
              <a:pathLst>
                <a:path w="810" h="713">
                  <a:moveTo>
                    <a:pt x="21" y="649"/>
                  </a:moveTo>
                  <a:lnTo>
                    <a:pt x="792" y="0"/>
                  </a:lnTo>
                  <a:lnTo>
                    <a:pt x="794" y="5"/>
                  </a:lnTo>
                  <a:lnTo>
                    <a:pt x="797" y="9"/>
                  </a:lnTo>
                  <a:lnTo>
                    <a:pt x="799" y="13"/>
                  </a:lnTo>
                  <a:lnTo>
                    <a:pt x="801" y="17"/>
                  </a:lnTo>
                  <a:lnTo>
                    <a:pt x="803" y="21"/>
                  </a:lnTo>
                  <a:lnTo>
                    <a:pt x="805" y="25"/>
                  </a:lnTo>
                  <a:lnTo>
                    <a:pt x="807" y="29"/>
                  </a:lnTo>
                  <a:lnTo>
                    <a:pt x="810" y="33"/>
                  </a:lnTo>
                  <a:lnTo>
                    <a:pt x="0" y="713"/>
                  </a:lnTo>
                  <a:lnTo>
                    <a:pt x="2" y="705"/>
                  </a:lnTo>
                  <a:lnTo>
                    <a:pt x="4" y="697"/>
                  </a:lnTo>
                  <a:lnTo>
                    <a:pt x="8" y="689"/>
                  </a:lnTo>
                  <a:lnTo>
                    <a:pt x="10" y="681"/>
                  </a:lnTo>
                  <a:lnTo>
                    <a:pt x="12" y="674"/>
                  </a:lnTo>
                  <a:lnTo>
                    <a:pt x="15" y="665"/>
                  </a:lnTo>
                  <a:lnTo>
                    <a:pt x="17" y="657"/>
                  </a:lnTo>
                  <a:lnTo>
                    <a:pt x="21" y="649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5392800" y="1884240"/>
              <a:ext cx="263520" cy="231840"/>
            </a:xfrm>
            <a:custGeom>
              <a:avLst/>
              <a:gdLst/>
              <a:ahLst/>
              <a:rect l="l" t="t" r="r" b="b"/>
              <a:pathLst>
                <a:path w="828" h="727">
                  <a:moveTo>
                    <a:pt x="20" y="664"/>
                  </a:moveTo>
                  <a:lnTo>
                    <a:pt x="811" y="0"/>
                  </a:lnTo>
                  <a:lnTo>
                    <a:pt x="813" y="4"/>
                  </a:lnTo>
                  <a:lnTo>
                    <a:pt x="815" y="8"/>
                  </a:lnTo>
                  <a:lnTo>
                    <a:pt x="817" y="12"/>
                  </a:lnTo>
                  <a:lnTo>
                    <a:pt x="820" y="16"/>
                  </a:lnTo>
                  <a:lnTo>
                    <a:pt x="822" y="20"/>
                  </a:lnTo>
                  <a:lnTo>
                    <a:pt x="824" y="23"/>
                  </a:lnTo>
                  <a:lnTo>
                    <a:pt x="826" y="28"/>
                  </a:lnTo>
                  <a:lnTo>
                    <a:pt x="828" y="32"/>
                  </a:lnTo>
                  <a:lnTo>
                    <a:pt x="0" y="727"/>
                  </a:lnTo>
                  <a:lnTo>
                    <a:pt x="3" y="719"/>
                  </a:lnTo>
                  <a:lnTo>
                    <a:pt x="5" y="712"/>
                  </a:lnTo>
                  <a:lnTo>
                    <a:pt x="7" y="703"/>
                  </a:lnTo>
                  <a:lnTo>
                    <a:pt x="10" y="696"/>
                  </a:lnTo>
                  <a:lnTo>
                    <a:pt x="12" y="688"/>
                  </a:lnTo>
                  <a:lnTo>
                    <a:pt x="14" y="680"/>
                  </a:lnTo>
                  <a:lnTo>
                    <a:pt x="17" y="672"/>
                  </a:lnTo>
                  <a:lnTo>
                    <a:pt x="20" y="66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5389560" y="1890720"/>
              <a:ext cx="268200" cy="235080"/>
            </a:xfrm>
            <a:custGeom>
              <a:avLst/>
              <a:gdLst/>
              <a:ahLst/>
              <a:rect l="l" t="t" r="r" b="b"/>
              <a:pathLst>
                <a:path w="845" h="742">
                  <a:moveTo>
                    <a:pt x="19" y="680"/>
                  </a:moveTo>
                  <a:lnTo>
                    <a:pt x="829" y="0"/>
                  </a:lnTo>
                  <a:lnTo>
                    <a:pt x="831" y="4"/>
                  </a:lnTo>
                  <a:lnTo>
                    <a:pt x="833" y="7"/>
                  </a:lnTo>
                  <a:lnTo>
                    <a:pt x="835" y="12"/>
                  </a:lnTo>
                  <a:lnTo>
                    <a:pt x="837" y="16"/>
                  </a:lnTo>
                  <a:lnTo>
                    <a:pt x="838" y="19"/>
                  </a:lnTo>
                  <a:lnTo>
                    <a:pt x="840" y="24"/>
                  </a:lnTo>
                  <a:lnTo>
                    <a:pt x="843" y="28"/>
                  </a:lnTo>
                  <a:lnTo>
                    <a:pt x="845" y="32"/>
                  </a:lnTo>
                  <a:lnTo>
                    <a:pt x="0" y="742"/>
                  </a:lnTo>
                  <a:lnTo>
                    <a:pt x="2" y="735"/>
                  </a:lnTo>
                  <a:lnTo>
                    <a:pt x="4" y="726"/>
                  </a:lnTo>
                  <a:lnTo>
                    <a:pt x="7" y="719"/>
                  </a:lnTo>
                  <a:lnTo>
                    <a:pt x="9" y="711"/>
                  </a:lnTo>
                  <a:lnTo>
                    <a:pt x="12" y="703"/>
                  </a:lnTo>
                  <a:lnTo>
                    <a:pt x="14" y="696"/>
                  </a:lnTo>
                  <a:lnTo>
                    <a:pt x="16" y="688"/>
                  </a:lnTo>
                  <a:lnTo>
                    <a:pt x="19" y="68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5386320" y="1895400"/>
              <a:ext cx="274680" cy="239760"/>
            </a:xfrm>
            <a:custGeom>
              <a:avLst/>
              <a:gdLst/>
              <a:ahLst/>
              <a:rect l="l" t="t" r="r" b="b"/>
              <a:pathLst>
                <a:path w="862" h="757">
                  <a:moveTo>
                    <a:pt x="18" y="695"/>
                  </a:moveTo>
                  <a:lnTo>
                    <a:pt x="846" y="0"/>
                  </a:lnTo>
                  <a:lnTo>
                    <a:pt x="847" y="3"/>
                  </a:lnTo>
                  <a:lnTo>
                    <a:pt x="849" y="8"/>
                  </a:lnTo>
                  <a:lnTo>
                    <a:pt x="852" y="12"/>
                  </a:lnTo>
                  <a:lnTo>
                    <a:pt x="854" y="16"/>
                  </a:lnTo>
                  <a:lnTo>
                    <a:pt x="856" y="20"/>
                  </a:lnTo>
                  <a:lnTo>
                    <a:pt x="858" y="24"/>
                  </a:lnTo>
                  <a:lnTo>
                    <a:pt x="860" y="28"/>
                  </a:lnTo>
                  <a:lnTo>
                    <a:pt x="862" y="31"/>
                  </a:lnTo>
                  <a:lnTo>
                    <a:pt x="0" y="757"/>
                  </a:lnTo>
                  <a:lnTo>
                    <a:pt x="2" y="749"/>
                  </a:lnTo>
                  <a:lnTo>
                    <a:pt x="4" y="741"/>
                  </a:lnTo>
                  <a:lnTo>
                    <a:pt x="7" y="734"/>
                  </a:lnTo>
                  <a:lnTo>
                    <a:pt x="9" y="726"/>
                  </a:lnTo>
                  <a:lnTo>
                    <a:pt x="11" y="719"/>
                  </a:lnTo>
                  <a:lnTo>
                    <a:pt x="13" y="710"/>
                  </a:lnTo>
                  <a:lnTo>
                    <a:pt x="15" y="703"/>
                  </a:lnTo>
                  <a:lnTo>
                    <a:pt x="18" y="695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5384880" y="1900080"/>
              <a:ext cx="279360" cy="244800"/>
            </a:xfrm>
            <a:custGeom>
              <a:avLst/>
              <a:gdLst/>
              <a:ahLst/>
              <a:rect l="l" t="t" r="r" b="b"/>
              <a:pathLst>
                <a:path w="880" h="771">
                  <a:moveTo>
                    <a:pt x="18" y="710"/>
                  </a:moveTo>
                  <a:lnTo>
                    <a:pt x="863" y="0"/>
                  </a:lnTo>
                  <a:lnTo>
                    <a:pt x="865" y="4"/>
                  </a:lnTo>
                  <a:lnTo>
                    <a:pt x="867" y="8"/>
                  </a:lnTo>
                  <a:lnTo>
                    <a:pt x="869" y="12"/>
                  </a:lnTo>
                  <a:lnTo>
                    <a:pt x="871" y="15"/>
                  </a:lnTo>
                  <a:lnTo>
                    <a:pt x="874" y="20"/>
                  </a:lnTo>
                  <a:lnTo>
                    <a:pt x="876" y="24"/>
                  </a:lnTo>
                  <a:lnTo>
                    <a:pt x="878" y="28"/>
                  </a:lnTo>
                  <a:lnTo>
                    <a:pt x="880" y="32"/>
                  </a:lnTo>
                  <a:lnTo>
                    <a:pt x="0" y="771"/>
                  </a:lnTo>
                  <a:lnTo>
                    <a:pt x="3" y="763"/>
                  </a:lnTo>
                  <a:lnTo>
                    <a:pt x="5" y="756"/>
                  </a:lnTo>
                  <a:lnTo>
                    <a:pt x="7" y="748"/>
                  </a:lnTo>
                  <a:lnTo>
                    <a:pt x="9" y="741"/>
                  </a:lnTo>
                  <a:lnTo>
                    <a:pt x="11" y="733"/>
                  </a:lnTo>
                  <a:lnTo>
                    <a:pt x="13" y="725"/>
                  </a:lnTo>
                  <a:lnTo>
                    <a:pt x="16" y="718"/>
                  </a:lnTo>
                  <a:lnTo>
                    <a:pt x="18" y="71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5381640" y="1905120"/>
              <a:ext cx="284040" cy="249120"/>
            </a:xfrm>
            <a:custGeom>
              <a:avLst/>
              <a:gdLst/>
              <a:ahLst/>
              <a:rect l="l" t="t" r="r" b="b"/>
              <a:pathLst>
                <a:path w="896" h="786">
                  <a:moveTo>
                    <a:pt x="16" y="726"/>
                  </a:moveTo>
                  <a:lnTo>
                    <a:pt x="878" y="0"/>
                  </a:lnTo>
                  <a:lnTo>
                    <a:pt x="881" y="5"/>
                  </a:lnTo>
                  <a:lnTo>
                    <a:pt x="883" y="9"/>
                  </a:lnTo>
                  <a:lnTo>
                    <a:pt x="885" y="12"/>
                  </a:lnTo>
                  <a:lnTo>
                    <a:pt x="887" y="17"/>
                  </a:lnTo>
                  <a:lnTo>
                    <a:pt x="889" y="21"/>
                  </a:lnTo>
                  <a:lnTo>
                    <a:pt x="891" y="25"/>
                  </a:lnTo>
                  <a:lnTo>
                    <a:pt x="894" y="29"/>
                  </a:lnTo>
                  <a:lnTo>
                    <a:pt x="896" y="33"/>
                  </a:lnTo>
                  <a:lnTo>
                    <a:pt x="0" y="786"/>
                  </a:lnTo>
                  <a:lnTo>
                    <a:pt x="1" y="778"/>
                  </a:lnTo>
                  <a:lnTo>
                    <a:pt x="3" y="771"/>
                  </a:lnTo>
                  <a:lnTo>
                    <a:pt x="5" y="763"/>
                  </a:lnTo>
                  <a:lnTo>
                    <a:pt x="7" y="756"/>
                  </a:lnTo>
                  <a:lnTo>
                    <a:pt x="10" y="748"/>
                  </a:lnTo>
                  <a:lnTo>
                    <a:pt x="12" y="741"/>
                  </a:lnTo>
                  <a:lnTo>
                    <a:pt x="14" y="733"/>
                  </a:lnTo>
                  <a:lnTo>
                    <a:pt x="16" y="72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5378400" y="1909800"/>
              <a:ext cx="290520" cy="253800"/>
            </a:xfrm>
            <a:custGeom>
              <a:avLst/>
              <a:gdLst/>
              <a:ahLst/>
              <a:rect l="l" t="t" r="r" b="b"/>
              <a:pathLst>
                <a:path w="913" h="798">
                  <a:moveTo>
                    <a:pt x="16" y="739"/>
                  </a:moveTo>
                  <a:lnTo>
                    <a:pt x="896" y="0"/>
                  </a:lnTo>
                  <a:lnTo>
                    <a:pt x="898" y="4"/>
                  </a:lnTo>
                  <a:lnTo>
                    <a:pt x="900" y="8"/>
                  </a:lnTo>
                  <a:lnTo>
                    <a:pt x="903" y="12"/>
                  </a:lnTo>
                  <a:lnTo>
                    <a:pt x="905" y="16"/>
                  </a:lnTo>
                  <a:lnTo>
                    <a:pt x="907" y="20"/>
                  </a:lnTo>
                  <a:lnTo>
                    <a:pt x="909" y="23"/>
                  </a:lnTo>
                  <a:lnTo>
                    <a:pt x="911" y="28"/>
                  </a:lnTo>
                  <a:lnTo>
                    <a:pt x="913" y="32"/>
                  </a:lnTo>
                  <a:lnTo>
                    <a:pt x="0" y="798"/>
                  </a:lnTo>
                  <a:lnTo>
                    <a:pt x="2" y="791"/>
                  </a:lnTo>
                  <a:lnTo>
                    <a:pt x="5" y="783"/>
                  </a:lnTo>
                  <a:lnTo>
                    <a:pt x="7" y="777"/>
                  </a:lnTo>
                  <a:lnTo>
                    <a:pt x="9" y="769"/>
                  </a:lnTo>
                  <a:lnTo>
                    <a:pt x="10" y="761"/>
                  </a:lnTo>
                  <a:lnTo>
                    <a:pt x="12" y="754"/>
                  </a:lnTo>
                  <a:lnTo>
                    <a:pt x="14" y="746"/>
                  </a:lnTo>
                  <a:lnTo>
                    <a:pt x="16" y="739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5376960" y="1916280"/>
              <a:ext cx="295200" cy="257040"/>
            </a:xfrm>
            <a:custGeom>
              <a:avLst/>
              <a:gdLst/>
              <a:ahLst/>
              <a:rect l="l" t="t" r="r" b="b"/>
              <a:pathLst>
                <a:path w="928" h="812">
                  <a:moveTo>
                    <a:pt x="16" y="753"/>
                  </a:moveTo>
                  <a:lnTo>
                    <a:pt x="912" y="0"/>
                  </a:lnTo>
                  <a:lnTo>
                    <a:pt x="914" y="4"/>
                  </a:lnTo>
                  <a:lnTo>
                    <a:pt x="916" y="7"/>
                  </a:lnTo>
                  <a:lnTo>
                    <a:pt x="918" y="12"/>
                  </a:lnTo>
                  <a:lnTo>
                    <a:pt x="920" y="16"/>
                  </a:lnTo>
                  <a:lnTo>
                    <a:pt x="922" y="20"/>
                  </a:lnTo>
                  <a:lnTo>
                    <a:pt x="925" y="24"/>
                  </a:lnTo>
                  <a:lnTo>
                    <a:pt x="926" y="28"/>
                  </a:lnTo>
                  <a:lnTo>
                    <a:pt x="928" y="32"/>
                  </a:lnTo>
                  <a:lnTo>
                    <a:pt x="0" y="812"/>
                  </a:lnTo>
                  <a:lnTo>
                    <a:pt x="2" y="805"/>
                  </a:lnTo>
                  <a:lnTo>
                    <a:pt x="4" y="797"/>
                  </a:lnTo>
                  <a:lnTo>
                    <a:pt x="5" y="790"/>
                  </a:lnTo>
                  <a:lnTo>
                    <a:pt x="7" y="782"/>
                  </a:lnTo>
                  <a:lnTo>
                    <a:pt x="9" y="775"/>
                  </a:lnTo>
                  <a:lnTo>
                    <a:pt x="12" y="767"/>
                  </a:lnTo>
                  <a:lnTo>
                    <a:pt x="14" y="761"/>
                  </a:lnTo>
                  <a:lnTo>
                    <a:pt x="16" y="753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5373720" y="1920960"/>
              <a:ext cx="299880" cy="261720"/>
            </a:xfrm>
            <a:custGeom>
              <a:avLst/>
              <a:gdLst/>
              <a:ahLst/>
              <a:rect l="l" t="t" r="r" b="b"/>
              <a:pathLst>
                <a:path w="945" h="826">
                  <a:moveTo>
                    <a:pt x="15" y="766"/>
                  </a:moveTo>
                  <a:lnTo>
                    <a:pt x="928" y="0"/>
                  </a:lnTo>
                  <a:lnTo>
                    <a:pt x="930" y="4"/>
                  </a:lnTo>
                  <a:lnTo>
                    <a:pt x="933" y="8"/>
                  </a:lnTo>
                  <a:lnTo>
                    <a:pt x="934" y="12"/>
                  </a:lnTo>
                  <a:lnTo>
                    <a:pt x="936" y="16"/>
                  </a:lnTo>
                  <a:lnTo>
                    <a:pt x="938" y="21"/>
                  </a:lnTo>
                  <a:lnTo>
                    <a:pt x="940" y="24"/>
                  </a:lnTo>
                  <a:lnTo>
                    <a:pt x="942" y="28"/>
                  </a:lnTo>
                  <a:lnTo>
                    <a:pt x="945" y="32"/>
                  </a:lnTo>
                  <a:lnTo>
                    <a:pt x="0" y="826"/>
                  </a:lnTo>
                  <a:lnTo>
                    <a:pt x="2" y="818"/>
                  </a:lnTo>
                  <a:lnTo>
                    <a:pt x="3" y="812"/>
                  </a:lnTo>
                  <a:lnTo>
                    <a:pt x="6" y="804"/>
                  </a:lnTo>
                  <a:lnTo>
                    <a:pt x="8" y="796"/>
                  </a:lnTo>
                  <a:lnTo>
                    <a:pt x="10" y="789"/>
                  </a:lnTo>
                  <a:lnTo>
                    <a:pt x="12" y="781"/>
                  </a:lnTo>
                  <a:lnTo>
                    <a:pt x="13" y="774"/>
                  </a:lnTo>
                  <a:lnTo>
                    <a:pt x="15" y="766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5372280" y="1925640"/>
              <a:ext cx="304560" cy="266760"/>
            </a:xfrm>
            <a:custGeom>
              <a:avLst/>
              <a:gdLst/>
              <a:ahLst/>
              <a:rect l="l" t="t" r="r" b="b"/>
              <a:pathLst>
                <a:path w="960" h="840">
                  <a:moveTo>
                    <a:pt x="15" y="780"/>
                  </a:moveTo>
                  <a:lnTo>
                    <a:pt x="943" y="0"/>
                  </a:lnTo>
                  <a:lnTo>
                    <a:pt x="945" y="5"/>
                  </a:lnTo>
                  <a:lnTo>
                    <a:pt x="947" y="8"/>
                  </a:lnTo>
                  <a:lnTo>
                    <a:pt x="949" y="12"/>
                  </a:lnTo>
                  <a:lnTo>
                    <a:pt x="952" y="16"/>
                  </a:lnTo>
                  <a:lnTo>
                    <a:pt x="954" y="20"/>
                  </a:lnTo>
                  <a:lnTo>
                    <a:pt x="956" y="24"/>
                  </a:lnTo>
                  <a:lnTo>
                    <a:pt x="958" y="28"/>
                  </a:lnTo>
                  <a:lnTo>
                    <a:pt x="960" y="33"/>
                  </a:lnTo>
                  <a:lnTo>
                    <a:pt x="0" y="840"/>
                  </a:lnTo>
                  <a:lnTo>
                    <a:pt x="1" y="832"/>
                  </a:lnTo>
                  <a:lnTo>
                    <a:pt x="3" y="825"/>
                  </a:lnTo>
                  <a:lnTo>
                    <a:pt x="5" y="817"/>
                  </a:lnTo>
                  <a:lnTo>
                    <a:pt x="7" y="810"/>
                  </a:lnTo>
                  <a:lnTo>
                    <a:pt x="9" y="802"/>
                  </a:lnTo>
                  <a:lnTo>
                    <a:pt x="10" y="796"/>
                  </a:lnTo>
                  <a:lnTo>
                    <a:pt x="13" y="788"/>
                  </a:lnTo>
                  <a:lnTo>
                    <a:pt x="15" y="78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5369040" y="1930320"/>
              <a:ext cx="311040" cy="271440"/>
            </a:xfrm>
            <a:custGeom>
              <a:avLst/>
              <a:gdLst/>
              <a:ahLst/>
              <a:rect l="l" t="t" r="r" b="b"/>
              <a:pathLst>
                <a:path w="977" h="853">
                  <a:moveTo>
                    <a:pt x="15" y="794"/>
                  </a:moveTo>
                  <a:lnTo>
                    <a:pt x="960" y="0"/>
                  </a:lnTo>
                  <a:lnTo>
                    <a:pt x="962" y="4"/>
                  </a:lnTo>
                  <a:lnTo>
                    <a:pt x="964" y="8"/>
                  </a:lnTo>
                  <a:lnTo>
                    <a:pt x="966" y="12"/>
                  </a:lnTo>
                  <a:lnTo>
                    <a:pt x="968" y="17"/>
                  </a:lnTo>
                  <a:lnTo>
                    <a:pt x="970" y="20"/>
                  </a:lnTo>
                  <a:lnTo>
                    <a:pt x="972" y="24"/>
                  </a:lnTo>
                  <a:lnTo>
                    <a:pt x="975" y="29"/>
                  </a:lnTo>
                  <a:lnTo>
                    <a:pt x="977" y="32"/>
                  </a:lnTo>
                  <a:lnTo>
                    <a:pt x="0" y="853"/>
                  </a:lnTo>
                  <a:lnTo>
                    <a:pt x="1" y="846"/>
                  </a:lnTo>
                  <a:lnTo>
                    <a:pt x="3" y="838"/>
                  </a:lnTo>
                  <a:lnTo>
                    <a:pt x="5" y="830"/>
                  </a:lnTo>
                  <a:lnTo>
                    <a:pt x="8" y="824"/>
                  </a:lnTo>
                  <a:lnTo>
                    <a:pt x="9" y="816"/>
                  </a:lnTo>
                  <a:lnTo>
                    <a:pt x="11" y="809"/>
                  </a:lnTo>
                  <a:lnTo>
                    <a:pt x="13" y="801"/>
                  </a:lnTo>
                  <a:lnTo>
                    <a:pt x="15" y="794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5367240" y="1936800"/>
              <a:ext cx="314280" cy="274680"/>
            </a:xfrm>
            <a:custGeom>
              <a:avLst/>
              <a:gdLst/>
              <a:ahLst/>
              <a:rect l="l" t="t" r="r" b="b"/>
              <a:pathLst>
                <a:path w="992" h="865">
                  <a:moveTo>
                    <a:pt x="16" y="807"/>
                  </a:moveTo>
                  <a:lnTo>
                    <a:pt x="976" y="0"/>
                  </a:lnTo>
                  <a:lnTo>
                    <a:pt x="978" y="3"/>
                  </a:lnTo>
                  <a:lnTo>
                    <a:pt x="980" y="7"/>
                  </a:lnTo>
                  <a:lnTo>
                    <a:pt x="983" y="12"/>
                  </a:lnTo>
                  <a:lnTo>
                    <a:pt x="985" y="15"/>
                  </a:lnTo>
                  <a:lnTo>
                    <a:pt x="987" y="19"/>
                  </a:lnTo>
                  <a:lnTo>
                    <a:pt x="988" y="23"/>
                  </a:lnTo>
                  <a:lnTo>
                    <a:pt x="990" y="28"/>
                  </a:lnTo>
                  <a:lnTo>
                    <a:pt x="992" y="31"/>
                  </a:lnTo>
                  <a:lnTo>
                    <a:pt x="0" y="865"/>
                  </a:lnTo>
                  <a:lnTo>
                    <a:pt x="2" y="858"/>
                  </a:lnTo>
                  <a:lnTo>
                    <a:pt x="4" y="851"/>
                  </a:lnTo>
                  <a:lnTo>
                    <a:pt x="6" y="844"/>
                  </a:lnTo>
                  <a:lnTo>
                    <a:pt x="8" y="836"/>
                  </a:lnTo>
                  <a:lnTo>
                    <a:pt x="9" y="829"/>
                  </a:lnTo>
                  <a:lnTo>
                    <a:pt x="11" y="821"/>
                  </a:lnTo>
                  <a:lnTo>
                    <a:pt x="13" y="813"/>
                  </a:lnTo>
                  <a:lnTo>
                    <a:pt x="16" y="807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5364000" y="1941480"/>
              <a:ext cx="320760" cy="277920"/>
            </a:xfrm>
            <a:custGeom>
              <a:avLst/>
              <a:gdLst/>
              <a:ahLst/>
              <a:rect l="l" t="t" r="r" b="b"/>
              <a:pathLst>
                <a:path w="1009" h="879">
                  <a:moveTo>
                    <a:pt x="16" y="821"/>
                  </a:moveTo>
                  <a:lnTo>
                    <a:pt x="993" y="0"/>
                  </a:lnTo>
                  <a:lnTo>
                    <a:pt x="995" y="4"/>
                  </a:lnTo>
                  <a:lnTo>
                    <a:pt x="996" y="8"/>
                  </a:lnTo>
                  <a:lnTo>
                    <a:pt x="998" y="13"/>
                  </a:lnTo>
                  <a:lnTo>
                    <a:pt x="1000" y="16"/>
                  </a:lnTo>
                  <a:lnTo>
                    <a:pt x="1002" y="20"/>
                  </a:lnTo>
                  <a:lnTo>
                    <a:pt x="1005" y="25"/>
                  </a:lnTo>
                  <a:lnTo>
                    <a:pt x="1007" y="29"/>
                  </a:lnTo>
                  <a:lnTo>
                    <a:pt x="1009" y="32"/>
                  </a:lnTo>
                  <a:lnTo>
                    <a:pt x="0" y="879"/>
                  </a:lnTo>
                  <a:lnTo>
                    <a:pt x="2" y="873"/>
                  </a:lnTo>
                  <a:lnTo>
                    <a:pt x="4" y="865"/>
                  </a:lnTo>
                  <a:lnTo>
                    <a:pt x="6" y="858"/>
                  </a:lnTo>
                  <a:lnTo>
                    <a:pt x="8" y="850"/>
                  </a:lnTo>
                  <a:lnTo>
                    <a:pt x="10" y="843"/>
                  </a:lnTo>
                  <a:lnTo>
                    <a:pt x="12" y="836"/>
                  </a:lnTo>
                  <a:lnTo>
                    <a:pt x="14" y="829"/>
                  </a:lnTo>
                  <a:lnTo>
                    <a:pt x="16" y="82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5362560" y="1946160"/>
              <a:ext cx="325440" cy="284400"/>
            </a:xfrm>
            <a:custGeom>
              <a:avLst/>
              <a:gdLst/>
              <a:ahLst/>
              <a:rect l="l" t="t" r="r" b="b"/>
              <a:pathLst>
                <a:path w="1026" h="894">
                  <a:moveTo>
                    <a:pt x="16" y="834"/>
                  </a:moveTo>
                  <a:lnTo>
                    <a:pt x="1008" y="0"/>
                  </a:lnTo>
                  <a:lnTo>
                    <a:pt x="1010" y="4"/>
                  </a:lnTo>
                  <a:lnTo>
                    <a:pt x="1013" y="9"/>
                  </a:lnTo>
                  <a:lnTo>
                    <a:pt x="1015" y="13"/>
                  </a:lnTo>
                  <a:lnTo>
                    <a:pt x="1017" y="16"/>
                  </a:lnTo>
                  <a:lnTo>
                    <a:pt x="1019" y="21"/>
                  </a:lnTo>
                  <a:lnTo>
                    <a:pt x="1021" y="25"/>
                  </a:lnTo>
                  <a:lnTo>
                    <a:pt x="1023" y="29"/>
                  </a:lnTo>
                  <a:lnTo>
                    <a:pt x="1026" y="32"/>
                  </a:lnTo>
                  <a:lnTo>
                    <a:pt x="0" y="894"/>
                  </a:lnTo>
                  <a:lnTo>
                    <a:pt x="2" y="886"/>
                  </a:lnTo>
                  <a:lnTo>
                    <a:pt x="5" y="879"/>
                  </a:lnTo>
                  <a:lnTo>
                    <a:pt x="7" y="871"/>
                  </a:lnTo>
                  <a:lnTo>
                    <a:pt x="8" y="865"/>
                  </a:lnTo>
                  <a:lnTo>
                    <a:pt x="10" y="857"/>
                  </a:lnTo>
                  <a:lnTo>
                    <a:pt x="12" y="849"/>
                  </a:lnTo>
                  <a:lnTo>
                    <a:pt x="14" y="842"/>
                  </a:lnTo>
                  <a:lnTo>
                    <a:pt x="16" y="834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5359320" y="1951200"/>
              <a:ext cx="330120" cy="287280"/>
            </a:xfrm>
            <a:custGeom>
              <a:avLst/>
              <a:gdLst/>
              <a:ahLst/>
              <a:rect l="l" t="t" r="r" b="b"/>
              <a:pathLst>
                <a:path w="1040" h="907">
                  <a:moveTo>
                    <a:pt x="15" y="847"/>
                  </a:moveTo>
                  <a:lnTo>
                    <a:pt x="1024" y="0"/>
                  </a:lnTo>
                  <a:lnTo>
                    <a:pt x="1026" y="5"/>
                  </a:lnTo>
                  <a:lnTo>
                    <a:pt x="1028" y="9"/>
                  </a:lnTo>
                  <a:lnTo>
                    <a:pt x="1030" y="13"/>
                  </a:lnTo>
                  <a:lnTo>
                    <a:pt x="1033" y="16"/>
                  </a:lnTo>
                  <a:lnTo>
                    <a:pt x="1035" y="21"/>
                  </a:lnTo>
                  <a:lnTo>
                    <a:pt x="1036" y="25"/>
                  </a:lnTo>
                  <a:lnTo>
                    <a:pt x="1038" y="29"/>
                  </a:lnTo>
                  <a:lnTo>
                    <a:pt x="1040" y="33"/>
                  </a:lnTo>
                  <a:lnTo>
                    <a:pt x="0" y="907"/>
                  </a:lnTo>
                  <a:lnTo>
                    <a:pt x="2" y="900"/>
                  </a:lnTo>
                  <a:lnTo>
                    <a:pt x="4" y="893"/>
                  </a:lnTo>
                  <a:lnTo>
                    <a:pt x="6" y="885"/>
                  </a:lnTo>
                  <a:lnTo>
                    <a:pt x="7" y="878"/>
                  </a:lnTo>
                  <a:lnTo>
                    <a:pt x="9" y="870"/>
                  </a:lnTo>
                  <a:lnTo>
                    <a:pt x="12" y="863"/>
                  </a:lnTo>
                  <a:lnTo>
                    <a:pt x="14" y="855"/>
                  </a:lnTo>
                  <a:lnTo>
                    <a:pt x="15" y="847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5357880" y="1955880"/>
              <a:ext cx="334800" cy="291960"/>
            </a:xfrm>
            <a:custGeom>
              <a:avLst/>
              <a:gdLst/>
              <a:ahLst/>
              <a:rect l="l" t="t" r="r" b="b"/>
              <a:pathLst>
                <a:path w="1057" h="921">
                  <a:moveTo>
                    <a:pt x="15" y="862"/>
                  </a:moveTo>
                  <a:lnTo>
                    <a:pt x="1041" y="0"/>
                  </a:lnTo>
                  <a:lnTo>
                    <a:pt x="1043" y="5"/>
                  </a:lnTo>
                  <a:lnTo>
                    <a:pt x="1045" y="9"/>
                  </a:lnTo>
                  <a:lnTo>
                    <a:pt x="1046" y="13"/>
                  </a:lnTo>
                  <a:lnTo>
                    <a:pt x="1048" y="17"/>
                  </a:lnTo>
                  <a:lnTo>
                    <a:pt x="1050" y="21"/>
                  </a:lnTo>
                  <a:lnTo>
                    <a:pt x="1052" y="25"/>
                  </a:lnTo>
                  <a:lnTo>
                    <a:pt x="1055" y="30"/>
                  </a:lnTo>
                  <a:lnTo>
                    <a:pt x="1057" y="33"/>
                  </a:lnTo>
                  <a:lnTo>
                    <a:pt x="0" y="921"/>
                  </a:lnTo>
                  <a:lnTo>
                    <a:pt x="2" y="914"/>
                  </a:lnTo>
                  <a:lnTo>
                    <a:pt x="3" y="906"/>
                  </a:lnTo>
                  <a:lnTo>
                    <a:pt x="6" y="898"/>
                  </a:lnTo>
                  <a:lnTo>
                    <a:pt x="8" y="891"/>
                  </a:lnTo>
                  <a:lnTo>
                    <a:pt x="10" y="884"/>
                  </a:lnTo>
                  <a:lnTo>
                    <a:pt x="12" y="877"/>
                  </a:lnTo>
                  <a:lnTo>
                    <a:pt x="14" y="869"/>
                  </a:lnTo>
                  <a:lnTo>
                    <a:pt x="15" y="862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5354640" y="1962000"/>
              <a:ext cx="341280" cy="295560"/>
            </a:xfrm>
            <a:custGeom>
              <a:avLst/>
              <a:gdLst/>
              <a:ahLst/>
              <a:rect l="l" t="t" r="r" b="b"/>
              <a:pathLst>
                <a:path w="1073" h="934">
                  <a:moveTo>
                    <a:pt x="16" y="874"/>
                  </a:moveTo>
                  <a:lnTo>
                    <a:pt x="1056" y="0"/>
                  </a:lnTo>
                  <a:lnTo>
                    <a:pt x="1058" y="4"/>
                  </a:lnTo>
                  <a:lnTo>
                    <a:pt x="1060" y="8"/>
                  </a:lnTo>
                  <a:lnTo>
                    <a:pt x="1063" y="13"/>
                  </a:lnTo>
                  <a:lnTo>
                    <a:pt x="1065" y="16"/>
                  </a:lnTo>
                  <a:lnTo>
                    <a:pt x="1067" y="20"/>
                  </a:lnTo>
                  <a:lnTo>
                    <a:pt x="1069" y="25"/>
                  </a:lnTo>
                  <a:lnTo>
                    <a:pt x="1071" y="29"/>
                  </a:lnTo>
                  <a:lnTo>
                    <a:pt x="1073" y="32"/>
                  </a:lnTo>
                  <a:lnTo>
                    <a:pt x="0" y="934"/>
                  </a:lnTo>
                  <a:lnTo>
                    <a:pt x="2" y="927"/>
                  </a:lnTo>
                  <a:lnTo>
                    <a:pt x="4" y="919"/>
                  </a:lnTo>
                  <a:lnTo>
                    <a:pt x="6" y="912"/>
                  </a:lnTo>
                  <a:lnTo>
                    <a:pt x="8" y="904"/>
                  </a:lnTo>
                  <a:lnTo>
                    <a:pt x="10" y="897"/>
                  </a:lnTo>
                  <a:lnTo>
                    <a:pt x="11" y="889"/>
                  </a:lnTo>
                  <a:lnTo>
                    <a:pt x="14" y="881"/>
                  </a:lnTo>
                  <a:lnTo>
                    <a:pt x="16" y="87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5351400" y="1967040"/>
              <a:ext cx="345960" cy="301320"/>
            </a:xfrm>
            <a:custGeom>
              <a:avLst/>
              <a:gdLst/>
              <a:ahLst/>
              <a:rect l="l" t="t" r="r" b="b"/>
              <a:pathLst>
                <a:path w="1090" h="949">
                  <a:moveTo>
                    <a:pt x="17" y="888"/>
                  </a:moveTo>
                  <a:lnTo>
                    <a:pt x="1074" y="0"/>
                  </a:lnTo>
                  <a:lnTo>
                    <a:pt x="1076" y="4"/>
                  </a:lnTo>
                  <a:lnTo>
                    <a:pt x="1078" y="9"/>
                  </a:lnTo>
                  <a:lnTo>
                    <a:pt x="1080" y="13"/>
                  </a:lnTo>
                  <a:lnTo>
                    <a:pt x="1081" y="16"/>
                  </a:lnTo>
                  <a:lnTo>
                    <a:pt x="1084" y="20"/>
                  </a:lnTo>
                  <a:lnTo>
                    <a:pt x="1086" y="25"/>
                  </a:lnTo>
                  <a:lnTo>
                    <a:pt x="1088" y="29"/>
                  </a:lnTo>
                  <a:lnTo>
                    <a:pt x="1090" y="32"/>
                  </a:lnTo>
                  <a:lnTo>
                    <a:pt x="0" y="949"/>
                  </a:lnTo>
                  <a:lnTo>
                    <a:pt x="2" y="941"/>
                  </a:lnTo>
                  <a:lnTo>
                    <a:pt x="4" y="934"/>
                  </a:lnTo>
                  <a:lnTo>
                    <a:pt x="6" y="926"/>
                  </a:lnTo>
                  <a:lnTo>
                    <a:pt x="9" y="918"/>
                  </a:lnTo>
                  <a:lnTo>
                    <a:pt x="11" y="911"/>
                  </a:lnTo>
                  <a:lnTo>
                    <a:pt x="13" y="903"/>
                  </a:lnTo>
                  <a:lnTo>
                    <a:pt x="15" y="896"/>
                  </a:lnTo>
                  <a:lnTo>
                    <a:pt x="17" y="88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5348160" y="1971720"/>
              <a:ext cx="352440" cy="306360"/>
            </a:xfrm>
            <a:custGeom>
              <a:avLst/>
              <a:gdLst/>
              <a:ahLst/>
              <a:rect l="l" t="t" r="r" b="b"/>
              <a:pathLst>
                <a:path w="1108" h="963">
                  <a:moveTo>
                    <a:pt x="18" y="902"/>
                  </a:moveTo>
                  <a:lnTo>
                    <a:pt x="1091" y="0"/>
                  </a:lnTo>
                  <a:lnTo>
                    <a:pt x="1093" y="4"/>
                  </a:lnTo>
                  <a:lnTo>
                    <a:pt x="1095" y="9"/>
                  </a:lnTo>
                  <a:lnTo>
                    <a:pt x="1097" y="13"/>
                  </a:lnTo>
                  <a:lnTo>
                    <a:pt x="1099" y="16"/>
                  </a:lnTo>
                  <a:lnTo>
                    <a:pt x="1101" y="21"/>
                  </a:lnTo>
                  <a:lnTo>
                    <a:pt x="1103" y="25"/>
                  </a:lnTo>
                  <a:lnTo>
                    <a:pt x="1105" y="29"/>
                  </a:lnTo>
                  <a:lnTo>
                    <a:pt x="1108" y="33"/>
                  </a:lnTo>
                  <a:lnTo>
                    <a:pt x="0" y="963"/>
                  </a:lnTo>
                  <a:lnTo>
                    <a:pt x="2" y="955"/>
                  </a:lnTo>
                  <a:lnTo>
                    <a:pt x="5" y="948"/>
                  </a:lnTo>
                  <a:lnTo>
                    <a:pt x="7" y="940"/>
                  </a:lnTo>
                  <a:lnTo>
                    <a:pt x="9" y="933"/>
                  </a:lnTo>
                  <a:lnTo>
                    <a:pt x="11" y="925"/>
                  </a:lnTo>
                  <a:lnTo>
                    <a:pt x="13" y="918"/>
                  </a:lnTo>
                  <a:lnTo>
                    <a:pt x="15" y="910"/>
                  </a:lnTo>
                  <a:lnTo>
                    <a:pt x="18" y="902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5346720" y="1976400"/>
              <a:ext cx="355680" cy="311040"/>
            </a:xfrm>
            <a:custGeom>
              <a:avLst/>
              <a:gdLst/>
              <a:ahLst/>
              <a:rect l="l" t="t" r="r" b="b"/>
              <a:pathLst>
                <a:path w="1123" h="977">
                  <a:moveTo>
                    <a:pt x="17" y="917"/>
                  </a:moveTo>
                  <a:lnTo>
                    <a:pt x="1107" y="0"/>
                  </a:lnTo>
                  <a:lnTo>
                    <a:pt x="1109" y="5"/>
                  </a:lnTo>
                  <a:lnTo>
                    <a:pt x="1111" y="9"/>
                  </a:lnTo>
                  <a:lnTo>
                    <a:pt x="1113" y="13"/>
                  </a:lnTo>
                  <a:lnTo>
                    <a:pt x="1116" y="17"/>
                  </a:lnTo>
                  <a:lnTo>
                    <a:pt x="1117" y="21"/>
                  </a:lnTo>
                  <a:lnTo>
                    <a:pt x="1119" y="25"/>
                  </a:lnTo>
                  <a:lnTo>
                    <a:pt x="1121" y="29"/>
                  </a:lnTo>
                  <a:lnTo>
                    <a:pt x="1123" y="34"/>
                  </a:lnTo>
                  <a:lnTo>
                    <a:pt x="0" y="977"/>
                  </a:lnTo>
                  <a:lnTo>
                    <a:pt x="2" y="970"/>
                  </a:lnTo>
                  <a:lnTo>
                    <a:pt x="4" y="962"/>
                  </a:lnTo>
                  <a:lnTo>
                    <a:pt x="6" y="954"/>
                  </a:lnTo>
                  <a:lnTo>
                    <a:pt x="8" y="947"/>
                  </a:lnTo>
                  <a:lnTo>
                    <a:pt x="10" y="939"/>
                  </a:lnTo>
                  <a:lnTo>
                    <a:pt x="13" y="932"/>
                  </a:lnTo>
                  <a:lnTo>
                    <a:pt x="15" y="924"/>
                  </a:lnTo>
                  <a:lnTo>
                    <a:pt x="17" y="917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5343480" y="1982880"/>
              <a:ext cx="362160" cy="314280"/>
            </a:xfrm>
            <a:custGeom>
              <a:avLst/>
              <a:gdLst/>
              <a:ahLst/>
              <a:rect l="l" t="t" r="r" b="b"/>
              <a:pathLst>
                <a:path w="1142" h="992">
                  <a:moveTo>
                    <a:pt x="18" y="930"/>
                  </a:moveTo>
                  <a:lnTo>
                    <a:pt x="1126" y="0"/>
                  </a:lnTo>
                  <a:lnTo>
                    <a:pt x="1127" y="4"/>
                  </a:lnTo>
                  <a:lnTo>
                    <a:pt x="1129" y="8"/>
                  </a:lnTo>
                  <a:lnTo>
                    <a:pt x="1131" y="12"/>
                  </a:lnTo>
                  <a:lnTo>
                    <a:pt x="1133" y="16"/>
                  </a:lnTo>
                  <a:lnTo>
                    <a:pt x="1135" y="20"/>
                  </a:lnTo>
                  <a:lnTo>
                    <a:pt x="1137" y="24"/>
                  </a:lnTo>
                  <a:lnTo>
                    <a:pt x="1140" y="29"/>
                  </a:lnTo>
                  <a:lnTo>
                    <a:pt x="1142" y="33"/>
                  </a:lnTo>
                  <a:lnTo>
                    <a:pt x="0" y="992"/>
                  </a:lnTo>
                  <a:lnTo>
                    <a:pt x="2" y="984"/>
                  </a:lnTo>
                  <a:lnTo>
                    <a:pt x="4" y="976"/>
                  </a:lnTo>
                  <a:lnTo>
                    <a:pt x="7" y="969"/>
                  </a:lnTo>
                  <a:lnTo>
                    <a:pt x="10" y="961"/>
                  </a:lnTo>
                  <a:lnTo>
                    <a:pt x="12" y="953"/>
                  </a:lnTo>
                  <a:lnTo>
                    <a:pt x="14" y="945"/>
                  </a:lnTo>
                  <a:lnTo>
                    <a:pt x="16" y="937"/>
                  </a:lnTo>
                  <a:lnTo>
                    <a:pt x="18" y="93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5340240" y="1987560"/>
              <a:ext cx="368280" cy="318960"/>
            </a:xfrm>
            <a:custGeom>
              <a:avLst/>
              <a:gdLst/>
              <a:ahLst/>
              <a:rect l="l" t="t" r="r" b="b"/>
              <a:pathLst>
                <a:path w="1159" h="1006">
                  <a:moveTo>
                    <a:pt x="20" y="943"/>
                  </a:moveTo>
                  <a:lnTo>
                    <a:pt x="1143" y="0"/>
                  </a:lnTo>
                  <a:lnTo>
                    <a:pt x="1145" y="3"/>
                  </a:lnTo>
                  <a:lnTo>
                    <a:pt x="1147" y="7"/>
                  </a:lnTo>
                  <a:lnTo>
                    <a:pt x="1150" y="12"/>
                  </a:lnTo>
                  <a:lnTo>
                    <a:pt x="1152" y="16"/>
                  </a:lnTo>
                  <a:lnTo>
                    <a:pt x="1153" y="19"/>
                  </a:lnTo>
                  <a:lnTo>
                    <a:pt x="1155" y="24"/>
                  </a:lnTo>
                  <a:lnTo>
                    <a:pt x="1157" y="28"/>
                  </a:lnTo>
                  <a:lnTo>
                    <a:pt x="1159" y="32"/>
                  </a:lnTo>
                  <a:lnTo>
                    <a:pt x="0" y="1006"/>
                  </a:lnTo>
                  <a:lnTo>
                    <a:pt x="2" y="998"/>
                  </a:lnTo>
                  <a:lnTo>
                    <a:pt x="5" y="991"/>
                  </a:lnTo>
                  <a:lnTo>
                    <a:pt x="8" y="983"/>
                  </a:lnTo>
                  <a:lnTo>
                    <a:pt x="10" y="975"/>
                  </a:lnTo>
                  <a:lnTo>
                    <a:pt x="12" y="967"/>
                  </a:lnTo>
                  <a:lnTo>
                    <a:pt x="14" y="959"/>
                  </a:lnTo>
                  <a:lnTo>
                    <a:pt x="17" y="952"/>
                  </a:lnTo>
                  <a:lnTo>
                    <a:pt x="20" y="943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5337000" y="1992240"/>
              <a:ext cx="373320" cy="325440"/>
            </a:xfrm>
            <a:custGeom>
              <a:avLst/>
              <a:gdLst/>
              <a:ahLst/>
              <a:rect l="l" t="t" r="r" b="b"/>
              <a:pathLst>
                <a:path w="1179" h="1022">
                  <a:moveTo>
                    <a:pt x="21" y="959"/>
                  </a:moveTo>
                  <a:lnTo>
                    <a:pt x="1163" y="0"/>
                  </a:lnTo>
                  <a:lnTo>
                    <a:pt x="1164" y="3"/>
                  </a:lnTo>
                  <a:lnTo>
                    <a:pt x="1166" y="8"/>
                  </a:lnTo>
                  <a:lnTo>
                    <a:pt x="1168" y="12"/>
                  </a:lnTo>
                  <a:lnTo>
                    <a:pt x="1170" y="16"/>
                  </a:lnTo>
                  <a:lnTo>
                    <a:pt x="1173" y="21"/>
                  </a:lnTo>
                  <a:lnTo>
                    <a:pt x="1175" y="24"/>
                  </a:lnTo>
                  <a:lnTo>
                    <a:pt x="1177" y="28"/>
                  </a:lnTo>
                  <a:lnTo>
                    <a:pt x="1179" y="32"/>
                  </a:lnTo>
                  <a:lnTo>
                    <a:pt x="0" y="1022"/>
                  </a:lnTo>
                  <a:lnTo>
                    <a:pt x="3" y="1015"/>
                  </a:lnTo>
                  <a:lnTo>
                    <a:pt x="6" y="1006"/>
                  </a:lnTo>
                  <a:lnTo>
                    <a:pt x="8" y="998"/>
                  </a:lnTo>
                  <a:lnTo>
                    <a:pt x="11" y="991"/>
                  </a:lnTo>
                  <a:lnTo>
                    <a:pt x="13" y="982"/>
                  </a:lnTo>
                  <a:lnTo>
                    <a:pt x="16" y="975"/>
                  </a:lnTo>
                  <a:lnTo>
                    <a:pt x="19" y="967"/>
                  </a:lnTo>
                  <a:lnTo>
                    <a:pt x="21" y="959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5332320" y="1996920"/>
              <a:ext cx="381240" cy="330480"/>
            </a:xfrm>
            <a:custGeom>
              <a:avLst/>
              <a:gdLst/>
              <a:ahLst/>
              <a:rect l="l" t="t" r="r" b="b"/>
              <a:pathLst>
                <a:path w="1198" h="1039">
                  <a:moveTo>
                    <a:pt x="22" y="974"/>
                  </a:moveTo>
                  <a:lnTo>
                    <a:pt x="1181" y="0"/>
                  </a:lnTo>
                  <a:lnTo>
                    <a:pt x="1184" y="5"/>
                  </a:lnTo>
                  <a:lnTo>
                    <a:pt x="1186" y="8"/>
                  </a:lnTo>
                  <a:lnTo>
                    <a:pt x="1188" y="12"/>
                  </a:lnTo>
                  <a:lnTo>
                    <a:pt x="1190" y="16"/>
                  </a:lnTo>
                  <a:lnTo>
                    <a:pt x="1191" y="21"/>
                  </a:lnTo>
                  <a:lnTo>
                    <a:pt x="1193" y="24"/>
                  </a:lnTo>
                  <a:lnTo>
                    <a:pt x="1195" y="28"/>
                  </a:lnTo>
                  <a:lnTo>
                    <a:pt x="1198" y="33"/>
                  </a:lnTo>
                  <a:lnTo>
                    <a:pt x="0" y="1039"/>
                  </a:lnTo>
                  <a:lnTo>
                    <a:pt x="3" y="1031"/>
                  </a:lnTo>
                  <a:lnTo>
                    <a:pt x="5" y="1022"/>
                  </a:lnTo>
                  <a:lnTo>
                    <a:pt x="8" y="1015"/>
                  </a:lnTo>
                  <a:lnTo>
                    <a:pt x="11" y="1006"/>
                  </a:lnTo>
                  <a:lnTo>
                    <a:pt x="14" y="999"/>
                  </a:lnTo>
                  <a:lnTo>
                    <a:pt x="17" y="990"/>
                  </a:lnTo>
                  <a:lnTo>
                    <a:pt x="19" y="982"/>
                  </a:lnTo>
                  <a:lnTo>
                    <a:pt x="22" y="974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5329080" y="2003400"/>
              <a:ext cx="385920" cy="335160"/>
            </a:xfrm>
            <a:custGeom>
              <a:avLst/>
              <a:gdLst/>
              <a:ahLst/>
              <a:rect l="l" t="t" r="r" b="b"/>
              <a:pathLst>
                <a:path w="1217" h="1056">
                  <a:moveTo>
                    <a:pt x="23" y="990"/>
                  </a:moveTo>
                  <a:lnTo>
                    <a:pt x="1202" y="0"/>
                  </a:lnTo>
                  <a:lnTo>
                    <a:pt x="1203" y="5"/>
                  </a:lnTo>
                  <a:lnTo>
                    <a:pt x="1205" y="8"/>
                  </a:lnTo>
                  <a:lnTo>
                    <a:pt x="1207" y="12"/>
                  </a:lnTo>
                  <a:lnTo>
                    <a:pt x="1210" y="17"/>
                  </a:lnTo>
                  <a:lnTo>
                    <a:pt x="1212" y="21"/>
                  </a:lnTo>
                  <a:lnTo>
                    <a:pt x="1214" y="25"/>
                  </a:lnTo>
                  <a:lnTo>
                    <a:pt x="1216" y="29"/>
                  </a:lnTo>
                  <a:lnTo>
                    <a:pt x="1217" y="33"/>
                  </a:lnTo>
                  <a:lnTo>
                    <a:pt x="0" y="1056"/>
                  </a:lnTo>
                  <a:lnTo>
                    <a:pt x="3" y="1049"/>
                  </a:lnTo>
                  <a:lnTo>
                    <a:pt x="6" y="1040"/>
                  </a:lnTo>
                  <a:lnTo>
                    <a:pt x="8" y="1031"/>
                  </a:lnTo>
                  <a:lnTo>
                    <a:pt x="12" y="1024"/>
                  </a:lnTo>
                  <a:lnTo>
                    <a:pt x="15" y="1015"/>
                  </a:lnTo>
                  <a:lnTo>
                    <a:pt x="17" y="1006"/>
                  </a:lnTo>
                  <a:lnTo>
                    <a:pt x="20" y="999"/>
                  </a:lnTo>
                  <a:lnTo>
                    <a:pt x="23" y="99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5324400" y="2008080"/>
              <a:ext cx="393840" cy="341280"/>
            </a:xfrm>
            <a:custGeom>
              <a:avLst/>
              <a:gdLst/>
              <a:ahLst/>
              <a:rect l="l" t="t" r="r" b="b"/>
              <a:pathLst>
                <a:path w="1239" h="1074">
                  <a:moveTo>
                    <a:pt x="25" y="1006"/>
                  </a:moveTo>
                  <a:lnTo>
                    <a:pt x="1223" y="0"/>
                  </a:lnTo>
                  <a:lnTo>
                    <a:pt x="1225" y="4"/>
                  </a:lnTo>
                  <a:lnTo>
                    <a:pt x="1227" y="8"/>
                  </a:lnTo>
                  <a:lnTo>
                    <a:pt x="1229" y="12"/>
                  </a:lnTo>
                  <a:lnTo>
                    <a:pt x="1230" y="16"/>
                  </a:lnTo>
                  <a:lnTo>
                    <a:pt x="1232" y="20"/>
                  </a:lnTo>
                  <a:lnTo>
                    <a:pt x="1234" y="24"/>
                  </a:lnTo>
                  <a:lnTo>
                    <a:pt x="1237" y="29"/>
                  </a:lnTo>
                  <a:lnTo>
                    <a:pt x="1239" y="32"/>
                  </a:lnTo>
                  <a:lnTo>
                    <a:pt x="0" y="1074"/>
                  </a:lnTo>
                  <a:lnTo>
                    <a:pt x="3" y="1065"/>
                  </a:lnTo>
                  <a:lnTo>
                    <a:pt x="6" y="1056"/>
                  </a:lnTo>
                  <a:lnTo>
                    <a:pt x="9" y="1048"/>
                  </a:lnTo>
                  <a:lnTo>
                    <a:pt x="13" y="1040"/>
                  </a:lnTo>
                  <a:lnTo>
                    <a:pt x="16" y="1032"/>
                  </a:lnTo>
                  <a:lnTo>
                    <a:pt x="18" y="1023"/>
                  </a:lnTo>
                  <a:lnTo>
                    <a:pt x="21" y="1014"/>
                  </a:lnTo>
                  <a:lnTo>
                    <a:pt x="25" y="1006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5319720" y="2013120"/>
              <a:ext cx="401760" cy="347400"/>
            </a:xfrm>
            <a:custGeom>
              <a:avLst/>
              <a:gdLst/>
              <a:ahLst/>
              <a:rect l="l" t="t" r="r" b="b"/>
              <a:pathLst>
                <a:path w="1261" h="1092">
                  <a:moveTo>
                    <a:pt x="28" y="1023"/>
                  </a:moveTo>
                  <a:lnTo>
                    <a:pt x="1245" y="0"/>
                  </a:lnTo>
                  <a:lnTo>
                    <a:pt x="1247" y="4"/>
                  </a:lnTo>
                  <a:lnTo>
                    <a:pt x="1249" y="8"/>
                  </a:lnTo>
                  <a:lnTo>
                    <a:pt x="1252" y="13"/>
                  </a:lnTo>
                  <a:lnTo>
                    <a:pt x="1254" y="16"/>
                  </a:lnTo>
                  <a:lnTo>
                    <a:pt x="1256" y="20"/>
                  </a:lnTo>
                  <a:lnTo>
                    <a:pt x="1257" y="25"/>
                  </a:lnTo>
                  <a:lnTo>
                    <a:pt x="1259" y="29"/>
                  </a:lnTo>
                  <a:lnTo>
                    <a:pt x="1261" y="33"/>
                  </a:lnTo>
                  <a:lnTo>
                    <a:pt x="0" y="1092"/>
                  </a:lnTo>
                  <a:lnTo>
                    <a:pt x="3" y="1085"/>
                  </a:lnTo>
                  <a:lnTo>
                    <a:pt x="7" y="1076"/>
                  </a:lnTo>
                  <a:lnTo>
                    <a:pt x="10" y="1067"/>
                  </a:lnTo>
                  <a:lnTo>
                    <a:pt x="14" y="1058"/>
                  </a:lnTo>
                  <a:lnTo>
                    <a:pt x="18" y="1049"/>
                  </a:lnTo>
                  <a:lnTo>
                    <a:pt x="21" y="1040"/>
                  </a:lnTo>
                  <a:lnTo>
                    <a:pt x="24" y="1032"/>
                  </a:lnTo>
                  <a:lnTo>
                    <a:pt x="28" y="1023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5315040" y="2017800"/>
              <a:ext cx="407880" cy="353880"/>
            </a:xfrm>
            <a:custGeom>
              <a:avLst/>
              <a:gdLst/>
              <a:ahLst/>
              <a:rect l="l" t="t" r="r" b="b"/>
              <a:pathLst>
                <a:path w="1286" h="1113">
                  <a:moveTo>
                    <a:pt x="32" y="1042"/>
                  </a:moveTo>
                  <a:lnTo>
                    <a:pt x="1271" y="0"/>
                  </a:lnTo>
                  <a:lnTo>
                    <a:pt x="1273" y="4"/>
                  </a:lnTo>
                  <a:lnTo>
                    <a:pt x="1274" y="9"/>
                  </a:lnTo>
                  <a:lnTo>
                    <a:pt x="1276" y="13"/>
                  </a:lnTo>
                  <a:lnTo>
                    <a:pt x="1278" y="17"/>
                  </a:lnTo>
                  <a:lnTo>
                    <a:pt x="1280" y="21"/>
                  </a:lnTo>
                  <a:lnTo>
                    <a:pt x="1283" y="25"/>
                  </a:lnTo>
                  <a:lnTo>
                    <a:pt x="1285" y="29"/>
                  </a:lnTo>
                  <a:lnTo>
                    <a:pt x="1286" y="34"/>
                  </a:lnTo>
                  <a:lnTo>
                    <a:pt x="0" y="1113"/>
                  </a:lnTo>
                  <a:lnTo>
                    <a:pt x="5" y="1104"/>
                  </a:lnTo>
                  <a:lnTo>
                    <a:pt x="9" y="1096"/>
                  </a:lnTo>
                  <a:lnTo>
                    <a:pt x="12" y="1087"/>
                  </a:lnTo>
                  <a:lnTo>
                    <a:pt x="17" y="1077"/>
                  </a:lnTo>
                  <a:lnTo>
                    <a:pt x="20" y="1069"/>
                  </a:lnTo>
                  <a:lnTo>
                    <a:pt x="24" y="1060"/>
                  </a:lnTo>
                  <a:lnTo>
                    <a:pt x="27" y="1050"/>
                  </a:lnTo>
                  <a:lnTo>
                    <a:pt x="32" y="1042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5310360" y="2023920"/>
              <a:ext cx="415800" cy="360360"/>
            </a:xfrm>
            <a:custGeom>
              <a:avLst/>
              <a:gdLst/>
              <a:ahLst/>
              <a:rect l="l" t="t" r="r" b="b"/>
              <a:pathLst>
                <a:path w="1311" h="1135">
                  <a:moveTo>
                    <a:pt x="34" y="1059"/>
                  </a:moveTo>
                  <a:lnTo>
                    <a:pt x="1295" y="0"/>
                  </a:lnTo>
                  <a:lnTo>
                    <a:pt x="1297" y="4"/>
                  </a:lnTo>
                  <a:lnTo>
                    <a:pt x="1300" y="8"/>
                  </a:lnTo>
                  <a:lnTo>
                    <a:pt x="1302" y="12"/>
                  </a:lnTo>
                  <a:lnTo>
                    <a:pt x="1303" y="17"/>
                  </a:lnTo>
                  <a:lnTo>
                    <a:pt x="1305" y="21"/>
                  </a:lnTo>
                  <a:lnTo>
                    <a:pt x="1307" y="25"/>
                  </a:lnTo>
                  <a:lnTo>
                    <a:pt x="1309" y="28"/>
                  </a:lnTo>
                  <a:lnTo>
                    <a:pt x="1311" y="33"/>
                  </a:lnTo>
                  <a:lnTo>
                    <a:pt x="0" y="1135"/>
                  </a:lnTo>
                  <a:lnTo>
                    <a:pt x="4" y="1125"/>
                  </a:lnTo>
                  <a:lnTo>
                    <a:pt x="9" y="1117"/>
                  </a:lnTo>
                  <a:lnTo>
                    <a:pt x="13" y="1107"/>
                  </a:lnTo>
                  <a:lnTo>
                    <a:pt x="17" y="1097"/>
                  </a:lnTo>
                  <a:lnTo>
                    <a:pt x="22" y="1089"/>
                  </a:lnTo>
                  <a:lnTo>
                    <a:pt x="26" y="1079"/>
                  </a:lnTo>
                  <a:lnTo>
                    <a:pt x="29" y="1069"/>
                  </a:lnTo>
                  <a:lnTo>
                    <a:pt x="34" y="1059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5303880" y="2028960"/>
              <a:ext cx="423720" cy="368280"/>
            </a:xfrm>
            <a:custGeom>
              <a:avLst/>
              <a:gdLst/>
              <a:ahLst/>
              <a:rect l="l" t="t" r="r" b="b"/>
              <a:pathLst>
                <a:path w="1339" h="1158">
                  <a:moveTo>
                    <a:pt x="37" y="1079"/>
                  </a:moveTo>
                  <a:lnTo>
                    <a:pt x="1323" y="0"/>
                  </a:lnTo>
                  <a:lnTo>
                    <a:pt x="1325" y="4"/>
                  </a:lnTo>
                  <a:lnTo>
                    <a:pt x="1327" y="8"/>
                  </a:lnTo>
                  <a:lnTo>
                    <a:pt x="1329" y="11"/>
                  </a:lnTo>
                  <a:lnTo>
                    <a:pt x="1331" y="16"/>
                  </a:lnTo>
                  <a:lnTo>
                    <a:pt x="1334" y="20"/>
                  </a:lnTo>
                  <a:lnTo>
                    <a:pt x="1335" y="24"/>
                  </a:lnTo>
                  <a:lnTo>
                    <a:pt x="1337" y="29"/>
                  </a:lnTo>
                  <a:lnTo>
                    <a:pt x="1339" y="32"/>
                  </a:lnTo>
                  <a:lnTo>
                    <a:pt x="0" y="1158"/>
                  </a:lnTo>
                  <a:lnTo>
                    <a:pt x="4" y="1148"/>
                  </a:lnTo>
                  <a:lnTo>
                    <a:pt x="9" y="1139"/>
                  </a:lnTo>
                  <a:lnTo>
                    <a:pt x="15" y="1129"/>
                  </a:lnTo>
                  <a:lnTo>
                    <a:pt x="19" y="1119"/>
                  </a:lnTo>
                  <a:lnTo>
                    <a:pt x="24" y="1109"/>
                  </a:lnTo>
                  <a:lnTo>
                    <a:pt x="29" y="1100"/>
                  </a:lnTo>
                  <a:lnTo>
                    <a:pt x="33" y="1090"/>
                  </a:lnTo>
                  <a:lnTo>
                    <a:pt x="37" y="1079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5111640" y="2033640"/>
              <a:ext cx="619200" cy="528480"/>
            </a:xfrm>
            <a:custGeom>
              <a:avLst/>
              <a:gdLst/>
              <a:ahLst/>
              <a:rect l="l" t="t" r="r" b="b"/>
              <a:pathLst>
                <a:path w="1952" h="1665">
                  <a:moveTo>
                    <a:pt x="625" y="1102"/>
                  </a:moveTo>
                  <a:lnTo>
                    <a:pt x="1936" y="0"/>
                  </a:lnTo>
                  <a:lnTo>
                    <a:pt x="1939" y="4"/>
                  </a:lnTo>
                  <a:lnTo>
                    <a:pt x="1940" y="8"/>
                  </a:lnTo>
                  <a:lnTo>
                    <a:pt x="1942" y="13"/>
                  </a:lnTo>
                  <a:lnTo>
                    <a:pt x="1944" y="16"/>
                  </a:lnTo>
                  <a:lnTo>
                    <a:pt x="1946" y="20"/>
                  </a:lnTo>
                  <a:lnTo>
                    <a:pt x="1948" y="25"/>
                  </a:lnTo>
                  <a:lnTo>
                    <a:pt x="1949" y="29"/>
                  </a:lnTo>
                  <a:lnTo>
                    <a:pt x="1952" y="33"/>
                  </a:lnTo>
                  <a:lnTo>
                    <a:pt x="581" y="1185"/>
                  </a:lnTo>
                  <a:lnTo>
                    <a:pt x="586" y="1174"/>
                  </a:lnTo>
                  <a:lnTo>
                    <a:pt x="593" y="1165"/>
                  </a:lnTo>
                  <a:lnTo>
                    <a:pt x="598" y="1154"/>
                  </a:lnTo>
                  <a:lnTo>
                    <a:pt x="604" y="1144"/>
                  </a:lnTo>
                  <a:lnTo>
                    <a:pt x="609" y="1133"/>
                  </a:lnTo>
                  <a:lnTo>
                    <a:pt x="614" y="1123"/>
                  </a:lnTo>
                  <a:lnTo>
                    <a:pt x="620" y="1112"/>
                  </a:lnTo>
                  <a:lnTo>
                    <a:pt x="625" y="1102"/>
                  </a:lnTo>
                  <a:close/>
                  <a:moveTo>
                    <a:pt x="21" y="1655"/>
                  </a:moveTo>
                  <a:lnTo>
                    <a:pt x="10" y="1665"/>
                  </a:lnTo>
                  <a:lnTo>
                    <a:pt x="9" y="1664"/>
                  </a:lnTo>
                  <a:lnTo>
                    <a:pt x="8" y="1664"/>
                  </a:lnTo>
                  <a:lnTo>
                    <a:pt x="7" y="1664"/>
                  </a:lnTo>
                  <a:lnTo>
                    <a:pt x="5" y="1664"/>
                  </a:lnTo>
                  <a:lnTo>
                    <a:pt x="3" y="1664"/>
                  </a:lnTo>
                  <a:lnTo>
                    <a:pt x="2" y="1664"/>
                  </a:lnTo>
                  <a:lnTo>
                    <a:pt x="1" y="1664"/>
                  </a:lnTo>
                  <a:lnTo>
                    <a:pt x="0" y="1663"/>
                  </a:lnTo>
                  <a:lnTo>
                    <a:pt x="2" y="1662"/>
                  </a:lnTo>
                  <a:lnTo>
                    <a:pt x="6" y="1662"/>
                  </a:lnTo>
                  <a:lnTo>
                    <a:pt x="8" y="1661"/>
                  </a:lnTo>
                  <a:lnTo>
                    <a:pt x="11" y="1660"/>
                  </a:lnTo>
                  <a:lnTo>
                    <a:pt x="13" y="1659"/>
                  </a:lnTo>
                  <a:lnTo>
                    <a:pt x="15" y="1657"/>
                  </a:lnTo>
                  <a:lnTo>
                    <a:pt x="19" y="1656"/>
                  </a:lnTo>
                  <a:lnTo>
                    <a:pt x="21" y="1655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5111640" y="2039760"/>
              <a:ext cx="622440" cy="524160"/>
            </a:xfrm>
            <a:custGeom>
              <a:avLst/>
              <a:gdLst/>
              <a:ahLst/>
              <a:rect l="l" t="t" r="r" b="b"/>
              <a:pathLst>
                <a:path w="1960" h="1652">
                  <a:moveTo>
                    <a:pt x="605" y="1126"/>
                  </a:moveTo>
                  <a:lnTo>
                    <a:pt x="1944" y="0"/>
                  </a:lnTo>
                  <a:lnTo>
                    <a:pt x="1946" y="4"/>
                  </a:lnTo>
                  <a:lnTo>
                    <a:pt x="1948" y="9"/>
                  </a:lnTo>
                  <a:lnTo>
                    <a:pt x="1951" y="13"/>
                  </a:lnTo>
                  <a:lnTo>
                    <a:pt x="1952" y="17"/>
                  </a:lnTo>
                  <a:lnTo>
                    <a:pt x="1954" y="22"/>
                  </a:lnTo>
                  <a:lnTo>
                    <a:pt x="1956" y="25"/>
                  </a:lnTo>
                  <a:lnTo>
                    <a:pt x="1958" y="29"/>
                  </a:lnTo>
                  <a:lnTo>
                    <a:pt x="1960" y="33"/>
                  </a:lnTo>
                  <a:lnTo>
                    <a:pt x="552" y="1216"/>
                  </a:lnTo>
                  <a:lnTo>
                    <a:pt x="559" y="1205"/>
                  </a:lnTo>
                  <a:lnTo>
                    <a:pt x="566" y="1194"/>
                  </a:lnTo>
                  <a:lnTo>
                    <a:pt x="572" y="1183"/>
                  </a:lnTo>
                  <a:lnTo>
                    <a:pt x="579" y="1171"/>
                  </a:lnTo>
                  <a:lnTo>
                    <a:pt x="585" y="1161"/>
                  </a:lnTo>
                  <a:lnTo>
                    <a:pt x="592" y="1149"/>
                  </a:lnTo>
                  <a:lnTo>
                    <a:pt x="598" y="1138"/>
                  </a:lnTo>
                  <a:lnTo>
                    <a:pt x="605" y="1126"/>
                  </a:lnTo>
                  <a:close/>
                  <a:moveTo>
                    <a:pt x="75" y="1618"/>
                  </a:moveTo>
                  <a:lnTo>
                    <a:pt x="34" y="1652"/>
                  </a:lnTo>
                  <a:lnTo>
                    <a:pt x="29" y="1651"/>
                  </a:lnTo>
                  <a:lnTo>
                    <a:pt x="25" y="1651"/>
                  </a:lnTo>
                  <a:lnTo>
                    <a:pt x="21" y="1650"/>
                  </a:lnTo>
                  <a:lnTo>
                    <a:pt x="16" y="1649"/>
                  </a:lnTo>
                  <a:lnTo>
                    <a:pt x="13" y="1649"/>
                  </a:lnTo>
                  <a:lnTo>
                    <a:pt x="9" y="1648"/>
                  </a:lnTo>
                  <a:lnTo>
                    <a:pt x="5" y="1648"/>
                  </a:lnTo>
                  <a:lnTo>
                    <a:pt x="0" y="1647"/>
                  </a:lnTo>
                  <a:lnTo>
                    <a:pt x="10" y="1644"/>
                  </a:lnTo>
                  <a:lnTo>
                    <a:pt x="20" y="1640"/>
                  </a:lnTo>
                  <a:lnTo>
                    <a:pt x="28" y="1636"/>
                  </a:lnTo>
                  <a:lnTo>
                    <a:pt x="38" y="1633"/>
                  </a:lnTo>
                  <a:lnTo>
                    <a:pt x="48" y="1628"/>
                  </a:lnTo>
                  <a:lnTo>
                    <a:pt x="56" y="1625"/>
                  </a:lnTo>
                  <a:lnTo>
                    <a:pt x="66" y="1621"/>
                  </a:lnTo>
                  <a:lnTo>
                    <a:pt x="75" y="161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5114880" y="2044800"/>
              <a:ext cx="620640" cy="519120"/>
            </a:xfrm>
            <a:custGeom>
              <a:avLst/>
              <a:gdLst/>
              <a:ahLst/>
              <a:rect l="l" t="t" r="r" b="b"/>
              <a:pathLst>
                <a:path w="1958" h="1637">
                  <a:moveTo>
                    <a:pt x="0" y="1632"/>
                  </a:moveTo>
                  <a:lnTo>
                    <a:pt x="11" y="1622"/>
                  </a:lnTo>
                  <a:lnTo>
                    <a:pt x="26" y="1616"/>
                  </a:lnTo>
                  <a:lnTo>
                    <a:pt x="41" y="1610"/>
                  </a:lnTo>
                  <a:lnTo>
                    <a:pt x="56" y="1604"/>
                  </a:lnTo>
                  <a:lnTo>
                    <a:pt x="70" y="1597"/>
                  </a:lnTo>
                  <a:lnTo>
                    <a:pt x="85" y="1591"/>
                  </a:lnTo>
                  <a:lnTo>
                    <a:pt x="99" y="1584"/>
                  </a:lnTo>
                  <a:lnTo>
                    <a:pt x="113" y="1578"/>
                  </a:lnTo>
                  <a:lnTo>
                    <a:pt x="126" y="1571"/>
                  </a:lnTo>
                  <a:lnTo>
                    <a:pt x="47" y="1637"/>
                  </a:lnTo>
                  <a:lnTo>
                    <a:pt x="41" y="1637"/>
                  </a:lnTo>
                  <a:lnTo>
                    <a:pt x="36" y="1636"/>
                  </a:lnTo>
                  <a:lnTo>
                    <a:pt x="29" y="1635"/>
                  </a:lnTo>
                  <a:lnTo>
                    <a:pt x="24" y="1635"/>
                  </a:lnTo>
                  <a:lnTo>
                    <a:pt x="17" y="1634"/>
                  </a:lnTo>
                  <a:lnTo>
                    <a:pt x="12" y="1633"/>
                  </a:lnTo>
                  <a:lnTo>
                    <a:pt x="5" y="1632"/>
                  </a:lnTo>
                  <a:lnTo>
                    <a:pt x="0" y="1632"/>
                  </a:lnTo>
                  <a:close/>
                  <a:moveTo>
                    <a:pt x="571" y="1152"/>
                  </a:moveTo>
                  <a:lnTo>
                    <a:pt x="1942" y="0"/>
                  </a:lnTo>
                  <a:lnTo>
                    <a:pt x="1944" y="5"/>
                  </a:lnTo>
                  <a:lnTo>
                    <a:pt x="1946" y="8"/>
                  </a:lnTo>
                  <a:lnTo>
                    <a:pt x="1948" y="12"/>
                  </a:lnTo>
                  <a:lnTo>
                    <a:pt x="1950" y="16"/>
                  </a:lnTo>
                  <a:lnTo>
                    <a:pt x="1951" y="21"/>
                  </a:lnTo>
                  <a:lnTo>
                    <a:pt x="1953" y="25"/>
                  </a:lnTo>
                  <a:lnTo>
                    <a:pt x="1956" y="29"/>
                  </a:lnTo>
                  <a:lnTo>
                    <a:pt x="1958" y="33"/>
                  </a:lnTo>
                  <a:lnTo>
                    <a:pt x="505" y="1254"/>
                  </a:lnTo>
                  <a:lnTo>
                    <a:pt x="514" y="1242"/>
                  </a:lnTo>
                  <a:lnTo>
                    <a:pt x="522" y="1229"/>
                  </a:lnTo>
                  <a:lnTo>
                    <a:pt x="531" y="1216"/>
                  </a:lnTo>
                  <a:lnTo>
                    <a:pt x="539" y="1204"/>
                  </a:lnTo>
                  <a:lnTo>
                    <a:pt x="547" y="1191"/>
                  </a:lnTo>
                  <a:lnTo>
                    <a:pt x="555" y="1178"/>
                  </a:lnTo>
                  <a:lnTo>
                    <a:pt x="563" y="1165"/>
                  </a:lnTo>
                  <a:lnTo>
                    <a:pt x="571" y="1152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5121360" y="2049480"/>
              <a:ext cx="617400" cy="515880"/>
            </a:xfrm>
            <a:custGeom>
              <a:avLst/>
              <a:gdLst/>
              <a:ahLst/>
              <a:rect l="l" t="t" r="r" b="b"/>
              <a:pathLst>
                <a:path w="1941" h="1625">
                  <a:moveTo>
                    <a:pt x="0" y="1619"/>
                  </a:moveTo>
                  <a:lnTo>
                    <a:pt x="41" y="1585"/>
                  </a:lnTo>
                  <a:lnTo>
                    <a:pt x="60" y="1576"/>
                  </a:lnTo>
                  <a:lnTo>
                    <a:pt x="78" y="1567"/>
                  </a:lnTo>
                  <a:lnTo>
                    <a:pt x="97" y="1558"/>
                  </a:lnTo>
                  <a:lnTo>
                    <a:pt x="115" y="1549"/>
                  </a:lnTo>
                  <a:lnTo>
                    <a:pt x="132" y="1539"/>
                  </a:lnTo>
                  <a:lnTo>
                    <a:pt x="150" y="1531"/>
                  </a:lnTo>
                  <a:lnTo>
                    <a:pt x="167" y="1521"/>
                  </a:lnTo>
                  <a:lnTo>
                    <a:pt x="183" y="1510"/>
                  </a:lnTo>
                  <a:lnTo>
                    <a:pt x="47" y="1625"/>
                  </a:lnTo>
                  <a:lnTo>
                    <a:pt x="41" y="1625"/>
                  </a:lnTo>
                  <a:lnTo>
                    <a:pt x="35" y="1624"/>
                  </a:lnTo>
                  <a:lnTo>
                    <a:pt x="29" y="1622"/>
                  </a:lnTo>
                  <a:lnTo>
                    <a:pt x="23" y="1622"/>
                  </a:lnTo>
                  <a:lnTo>
                    <a:pt x="17" y="1621"/>
                  </a:lnTo>
                  <a:lnTo>
                    <a:pt x="12" y="1620"/>
                  </a:lnTo>
                  <a:lnTo>
                    <a:pt x="5" y="1619"/>
                  </a:lnTo>
                  <a:lnTo>
                    <a:pt x="0" y="1619"/>
                  </a:lnTo>
                  <a:close/>
                  <a:moveTo>
                    <a:pt x="518" y="1183"/>
                  </a:moveTo>
                  <a:lnTo>
                    <a:pt x="1926" y="0"/>
                  </a:lnTo>
                  <a:lnTo>
                    <a:pt x="1927" y="5"/>
                  </a:lnTo>
                  <a:lnTo>
                    <a:pt x="1929" y="9"/>
                  </a:lnTo>
                  <a:lnTo>
                    <a:pt x="1932" y="13"/>
                  </a:lnTo>
                  <a:lnTo>
                    <a:pt x="1934" y="17"/>
                  </a:lnTo>
                  <a:lnTo>
                    <a:pt x="1936" y="21"/>
                  </a:lnTo>
                  <a:lnTo>
                    <a:pt x="1937" y="25"/>
                  </a:lnTo>
                  <a:lnTo>
                    <a:pt x="1939" y="30"/>
                  </a:lnTo>
                  <a:lnTo>
                    <a:pt x="1941" y="34"/>
                  </a:lnTo>
                  <a:lnTo>
                    <a:pt x="425" y="1307"/>
                  </a:lnTo>
                  <a:lnTo>
                    <a:pt x="438" y="1293"/>
                  </a:lnTo>
                  <a:lnTo>
                    <a:pt x="451" y="1278"/>
                  </a:lnTo>
                  <a:lnTo>
                    <a:pt x="463" y="1263"/>
                  </a:lnTo>
                  <a:lnTo>
                    <a:pt x="475" y="1246"/>
                  </a:lnTo>
                  <a:lnTo>
                    <a:pt x="485" y="1231"/>
                  </a:lnTo>
                  <a:lnTo>
                    <a:pt x="496" y="1215"/>
                  </a:lnTo>
                  <a:lnTo>
                    <a:pt x="507" y="1199"/>
                  </a:lnTo>
                  <a:lnTo>
                    <a:pt x="518" y="1183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5129280" y="2055960"/>
              <a:ext cx="611280" cy="511200"/>
            </a:xfrm>
            <a:custGeom>
              <a:avLst/>
              <a:gdLst/>
              <a:ahLst/>
              <a:rect l="l" t="t" r="r" b="b"/>
              <a:pathLst>
                <a:path w="1926" h="1611">
                  <a:moveTo>
                    <a:pt x="0" y="1604"/>
                  </a:moveTo>
                  <a:lnTo>
                    <a:pt x="79" y="1538"/>
                  </a:lnTo>
                  <a:lnTo>
                    <a:pt x="111" y="1522"/>
                  </a:lnTo>
                  <a:lnTo>
                    <a:pt x="140" y="1506"/>
                  </a:lnTo>
                  <a:lnTo>
                    <a:pt x="169" y="1489"/>
                  </a:lnTo>
                  <a:lnTo>
                    <a:pt x="196" y="1471"/>
                  </a:lnTo>
                  <a:lnTo>
                    <a:pt x="223" y="1453"/>
                  </a:lnTo>
                  <a:lnTo>
                    <a:pt x="249" y="1434"/>
                  </a:lnTo>
                  <a:lnTo>
                    <a:pt x="274" y="1415"/>
                  </a:lnTo>
                  <a:lnTo>
                    <a:pt x="297" y="1395"/>
                  </a:lnTo>
                  <a:lnTo>
                    <a:pt x="320" y="1375"/>
                  </a:lnTo>
                  <a:lnTo>
                    <a:pt x="342" y="1354"/>
                  </a:lnTo>
                  <a:lnTo>
                    <a:pt x="363" y="1333"/>
                  </a:lnTo>
                  <a:lnTo>
                    <a:pt x="384" y="1312"/>
                  </a:lnTo>
                  <a:lnTo>
                    <a:pt x="403" y="1289"/>
                  </a:lnTo>
                  <a:lnTo>
                    <a:pt x="422" y="1267"/>
                  </a:lnTo>
                  <a:lnTo>
                    <a:pt x="440" y="1245"/>
                  </a:lnTo>
                  <a:lnTo>
                    <a:pt x="458" y="1221"/>
                  </a:lnTo>
                  <a:lnTo>
                    <a:pt x="1911" y="0"/>
                  </a:lnTo>
                  <a:lnTo>
                    <a:pt x="1912" y="4"/>
                  </a:lnTo>
                  <a:lnTo>
                    <a:pt x="1914" y="8"/>
                  </a:lnTo>
                  <a:lnTo>
                    <a:pt x="1916" y="13"/>
                  </a:lnTo>
                  <a:lnTo>
                    <a:pt x="1918" y="17"/>
                  </a:lnTo>
                  <a:lnTo>
                    <a:pt x="1920" y="21"/>
                  </a:lnTo>
                  <a:lnTo>
                    <a:pt x="1922" y="26"/>
                  </a:lnTo>
                  <a:lnTo>
                    <a:pt x="1924" y="29"/>
                  </a:lnTo>
                  <a:lnTo>
                    <a:pt x="1926" y="33"/>
                  </a:lnTo>
                  <a:lnTo>
                    <a:pt x="48" y="1611"/>
                  </a:lnTo>
                  <a:lnTo>
                    <a:pt x="41" y="1611"/>
                  </a:lnTo>
                  <a:lnTo>
                    <a:pt x="36" y="1610"/>
                  </a:lnTo>
                  <a:lnTo>
                    <a:pt x="30" y="1609"/>
                  </a:lnTo>
                  <a:lnTo>
                    <a:pt x="24" y="1608"/>
                  </a:lnTo>
                  <a:lnTo>
                    <a:pt x="18" y="1608"/>
                  </a:lnTo>
                  <a:lnTo>
                    <a:pt x="12" y="1607"/>
                  </a:lnTo>
                  <a:lnTo>
                    <a:pt x="6" y="1605"/>
                  </a:lnTo>
                  <a:lnTo>
                    <a:pt x="0" y="1604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5137200" y="2060640"/>
              <a:ext cx="606240" cy="506520"/>
            </a:xfrm>
            <a:custGeom>
              <a:avLst/>
              <a:gdLst/>
              <a:ahLst/>
              <a:rect l="l" t="t" r="r" b="b"/>
              <a:pathLst>
                <a:path w="1909" h="1597">
                  <a:moveTo>
                    <a:pt x="0" y="1591"/>
                  </a:moveTo>
                  <a:lnTo>
                    <a:pt x="136" y="1476"/>
                  </a:lnTo>
                  <a:lnTo>
                    <a:pt x="172" y="1454"/>
                  </a:lnTo>
                  <a:lnTo>
                    <a:pt x="205" y="1431"/>
                  </a:lnTo>
                  <a:lnTo>
                    <a:pt x="238" y="1407"/>
                  </a:lnTo>
                  <a:lnTo>
                    <a:pt x="269" y="1381"/>
                  </a:lnTo>
                  <a:lnTo>
                    <a:pt x="298" y="1355"/>
                  </a:lnTo>
                  <a:lnTo>
                    <a:pt x="326" y="1329"/>
                  </a:lnTo>
                  <a:lnTo>
                    <a:pt x="353" y="1301"/>
                  </a:lnTo>
                  <a:lnTo>
                    <a:pt x="378" y="1273"/>
                  </a:lnTo>
                  <a:lnTo>
                    <a:pt x="1894" y="0"/>
                  </a:lnTo>
                  <a:lnTo>
                    <a:pt x="1896" y="4"/>
                  </a:lnTo>
                  <a:lnTo>
                    <a:pt x="1898" y="9"/>
                  </a:lnTo>
                  <a:lnTo>
                    <a:pt x="1900" y="12"/>
                  </a:lnTo>
                  <a:lnTo>
                    <a:pt x="1902" y="16"/>
                  </a:lnTo>
                  <a:lnTo>
                    <a:pt x="1904" y="20"/>
                  </a:lnTo>
                  <a:lnTo>
                    <a:pt x="1906" y="25"/>
                  </a:lnTo>
                  <a:lnTo>
                    <a:pt x="1907" y="29"/>
                  </a:lnTo>
                  <a:lnTo>
                    <a:pt x="1909" y="33"/>
                  </a:lnTo>
                  <a:lnTo>
                    <a:pt x="48" y="1597"/>
                  </a:lnTo>
                  <a:lnTo>
                    <a:pt x="41" y="1597"/>
                  </a:lnTo>
                  <a:lnTo>
                    <a:pt x="36" y="1596"/>
                  </a:lnTo>
                  <a:lnTo>
                    <a:pt x="29" y="1595"/>
                  </a:lnTo>
                  <a:lnTo>
                    <a:pt x="24" y="1594"/>
                  </a:lnTo>
                  <a:lnTo>
                    <a:pt x="17" y="1594"/>
                  </a:lnTo>
                  <a:lnTo>
                    <a:pt x="12" y="1593"/>
                  </a:lnTo>
                  <a:lnTo>
                    <a:pt x="6" y="1592"/>
                  </a:lnTo>
                  <a:lnTo>
                    <a:pt x="0" y="1591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5145120" y="2065320"/>
              <a:ext cx="600120" cy="503280"/>
            </a:xfrm>
            <a:custGeom>
              <a:avLst/>
              <a:gdLst/>
              <a:ahLst/>
              <a:rect l="l" t="t" r="r" b="b"/>
              <a:pathLst>
                <a:path w="1893" h="1584">
                  <a:moveTo>
                    <a:pt x="0" y="1578"/>
                  </a:moveTo>
                  <a:lnTo>
                    <a:pt x="1878" y="0"/>
                  </a:lnTo>
                  <a:lnTo>
                    <a:pt x="1880" y="4"/>
                  </a:lnTo>
                  <a:lnTo>
                    <a:pt x="1882" y="9"/>
                  </a:lnTo>
                  <a:lnTo>
                    <a:pt x="1883" y="13"/>
                  </a:lnTo>
                  <a:lnTo>
                    <a:pt x="1885" y="17"/>
                  </a:lnTo>
                  <a:lnTo>
                    <a:pt x="1888" y="22"/>
                  </a:lnTo>
                  <a:lnTo>
                    <a:pt x="1890" y="25"/>
                  </a:lnTo>
                  <a:lnTo>
                    <a:pt x="1891" y="29"/>
                  </a:lnTo>
                  <a:lnTo>
                    <a:pt x="1893" y="34"/>
                  </a:lnTo>
                  <a:lnTo>
                    <a:pt x="47" y="1584"/>
                  </a:lnTo>
                  <a:lnTo>
                    <a:pt x="41" y="1584"/>
                  </a:lnTo>
                  <a:lnTo>
                    <a:pt x="36" y="1583"/>
                  </a:lnTo>
                  <a:lnTo>
                    <a:pt x="29" y="1582"/>
                  </a:lnTo>
                  <a:lnTo>
                    <a:pt x="24" y="1581"/>
                  </a:lnTo>
                  <a:lnTo>
                    <a:pt x="17" y="1581"/>
                  </a:lnTo>
                  <a:lnTo>
                    <a:pt x="12" y="1580"/>
                  </a:lnTo>
                  <a:lnTo>
                    <a:pt x="5" y="1579"/>
                  </a:lnTo>
                  <a:lnTo>
                    <a:pt x="0" y="1578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5151600" y="2071800"/>
              <a:ext cx="596880" cy="498240"/>
            </a:xfrm>
            <a:custGeom>
              <a:avLst/>
              <a:gdLst/>
              <a:ahLst/>
              <a:rect l="l" t="t" r="r" b="b"/>
              <a:pathLst>
                <a:path w="1877" h="1571">
                  <a:moveTo>
                    <a:pt x="0" y="1564"/>
                  </a:moveTo>
                  <a:lnTo>
                    <a:pt x="1861" y="0"/>
                  </a:lnTo>
                  <a:lnTo>
                    <a:pt x="1864" y="4"/>
                  </a:lnTo>
                  <a:lnTo>
                    <a:pt x="1866" y="8"/>
                  </a:lnTo>
                  <a:lnTo>
                    <a:pt x="1867" y="12"/>
                  </a:lnTo>
                  <a:lnTo>
                    <a:pt x="1869" y="17"/>
                  </a:lnTo>
                  <a:lnTo>
                    <a:pt x="1871" y="21"/>
                  </a:lnTo>
                  <a:lnTo>
                    <a:pt x="1873" y="25"/>
                  </a:lnTo>
                  <a:lnTo>
                    <a:pt x="1875" y="30"/>
                  </a:lnTo>
                  <a:lnTo>
                    <a:pt x="1877" y="34"/>
                  </a:lnTo>
                  <a:lnTo>
                    <a:pt x="47" y="1571"/>
                  </a:lnTo>
                  <a:lnTo>
                    <a:pt x="41" y="1570"/>
                  </a:lnTo>
                  <a:lnTo>
                    <a:pt x="35" y="1570"/>
                  </a:lnTo>
                  <a:lnTo>
                    <a:pt x="29" y="1568"/>
                  </a:lnTo>
                  <a:lnTo>
                    <a:pt x="23" y="1567"/>
                  </a:lnTo>
                  <a:lnTo>
                    <a:pt x="17" y="1567"/>
                  </a:lnTo>
                  <a:lnTo>
                    <a:pt x="12" y="1566"/>
                  </a:lnTo>
                  <a:lnTo>
                    <a:pt x="5" y="1565"/>
                  </a:lnTo>
                  <a:lnTo>
                    <a:pt x="0" y="156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5159520" y="2076480"/>
              <a:ext cx="590400" cy="493560"/>
            </a:xfrm>
            <a:custGeom>
              <a:avLst/>
              <a:gdLst/>
              <a:ahLst/>
              <a:rect l="l" t="t" r="r" b="b"/>
              <a:pathLst>
                <a:path w="1861" h="1557">
                  <a:moveTo>
                    <a:pt x="0" y="1550"/>
                  </a:moveTo>
                  <a:lnTo>
                    <a:pt x="1846" y="0"/>
                  </a:lnTo>
                  <a:lnTo>
                    <a:pt x="1848" y="4"/>
                  </a:lnTo>
                  <a:lnTo>
                    <a:pt x="1850" y="8"/>
                  </a:lnTo>
                  <a:lnTo>
                    <a:pt x="1851" y="13"/>
                  </a:lnTo>
                  <a:lnTo>
                    <a:pt x="1854" y="17"/>
                  </a:lnTo>
                  <a:lnTo>
                    <a:pt x="1856" y="20"/>
                  </a:lnTo>
                  <a:lnTo>
                    <a:pt x="1858" y="25"/>
                  </a:lnTo>
                  <a:lnTo>
                    <a:pt x="1860" y="29"/>
                  </a:lnTo>
                  <a:lnTo>
                    <a:pt x="1861" y="33"/>
                  </a:lnTo>
                  <a:lnTo>
                    <a:pt x="48" y="1557"/>
                  </a:lnTo>
                  <a:lnTo>
                    <a:pt x="41" y="1556"/>
                  </a:lnTo>
                  <a:lnTo>
                    <a:pt x="36" y="1556"/>
                  </a:lnTo>
                  <a:lnTo>
                    <a:pt x="30" y="1555"/>
                  </a:lnTo>
                  <a:lnTo>
                    <a:pt x="24" y="1554"/>
                  </a:lnTo>
                  <a:lnTo>
                    <a:pt x="18" y="1554"/>
                  </a:lnTo>
                  <a:lnTo>
                    <a:pt x="12" y="1553"/>
                  </a:lnTo>
                  <a:lnTo>
                    <a:pt x="6" y="1551"/>
                  </a:lnTo>
                  <a:lnTo>
                    <a:pt x="0" y="155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5167440" y="2081160"/>
              <a:ext cx="585720" cy="490680"/>
            </a:xfrm>
            <a:custGeom>
              <a:avLst/>
              <a:gdLst/>
              <a:ahLst/>
              <a:rect l="l" t="t" r="r" b="b"/>
              <a:pathLst>
                <a:path w="1845" h="1543">
                  <a:moveTo>
                    <a:pt x="0" y="1537"/>
                  </a:moveTo>
                  <a:lnTo>
                    <a:pt x="1830" y="0"/>
                  </a:lnTo>
                  <a:lnTo>
                    <a:pt x="1832" y="3"/>
                  </a:lnTo>
                  <a:lnTo>
                    <a:pt x="1834" y="8"/>
                  </a:lnTo>
                  <a:lnTo>
                    <a:pt x="1836" y="12"/>
                  </a:lnTo>
                  <a:lnTo>
                    <a:pt x="1837" y="16"/>
                  </a:lnTo>
                  <a:lnTo>
                    <a:pt x="1839" y="20"/>
                  </a:lnTo>
                  <a:lnTo>
                    <a:pt x="1841" y="25"/>
                  </a:lnTo>
                  <a:lnTo>
                    <a:pt x="1844" y="29"/>
                  </a:lnTo>
                  <a:lnTo>
                    <a:pt x="1845" y="33"/>
                  </a:lnTo>
                  <a:lnTo>
                    <a:pt x="48" y="1543"/>
                  </a:lnTo>
                  <a:lnTo>
                    <a:pt x="41" y="1542"/>
                  </a:lnTo>
                  <a:lnTo>
                    <a:pt x="36" y="1542"/>
                  </a:lnTo>
                  <a:lnTo>
                    <a:pt x="29" y="1541"/>
                  </a:lnTo>
                  <a:lnTo>
                    <a:pt x="24" y="1540"/>
                  </a:lnTo>
                  <a:lnTo>
                    <a:pt x="17" y="1539"/>
                  </a:lnTo>
                  <a:lnTo>
                    <a:pt x="12" y="1539"/>
                  </a:lnTo>
                  <a:lnTo>
                    <a:pt x="6" y="1538"/>
                  </a:lnTo>
                  <a:lnTo>
                    <a:pt x="0" y="1537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5175360" y="2087640"/>
              <a:ext cx="579240" cy="485640"/>
            </a:xfrm>
            <a:custGeom>
              <a:avLst/>
              <a:gdLst/>
              <a:ahLst/>
              <a:rect l="l" t="t" r="r" b="b"/>
              <a:pathLst>
                <a:path w="1828" h="1530">
                  <a:moveTo>
                    <a:pt x="0" y="1524"/>
                  </a:moveTo>
                  <a:lnTo>
                    <a:pt x="1813" y="0"/>
                  </a:lnTo>
                  <a:lnTo>
                    <a:pt x="1815" y="4"/>
                  </a:lnTo>
                  <a:lnTo>
                    <a:pt x="1817" y="9"/>
                  </a:lnTo>
                  <a:lnTo>
                    <a:pt x="1820" y="13"/>
                  </a:lnTo>
                  <a:lnTo>
                    <a:pt x="1821" y="17"/>
                  </a:lnTo>
                  <a:lnTo>
                    <a:pt x="1823" y="21"/>
                  </a:lnTo>
                  <a:lnTo>
                    <a:pt x="1825" y="25"/>
                  </a:lnTo>
                  <a:lnTo>
                    <a:pt x="1827" y="29"/>
                  </a:lnTo>
                  <a:lnTo>
                    <a:pt x="1828" y="34"/>
                  </a:lnTo>
                  <a:lnTo>
                    <a:pt x="47" y="1530"/>
                  </a:lnTo>
                  <a:lnTo>
                    <a:pt x="41" y="1529"/>
                  </a:lnTo>
                  <a:lnTo>
                    <a:pt x="36" y="1529"/>
                  </a:lnTo>
                  <a:lnTo>
                    <a:pt x="29" y="1528"/>
                  </a:lnTo>
                  <a:lnTo>
                    <a:pt x="24" y="1527"/>
                  </a:lnTo>
                  <a:lnTo>
                    <a:pt x="17" y="1526"/>
                  </a:lnTo>
                  <a:lnTo>
                    <a:pt x="12" y="1526"/>
                  </a:lnTo>
                  <a:lnTo>
                    <a:pt x="5" y="1525"/>
                  </a:lnTo>
                  <a:lnTo>
                    <a:pt x="0" y="1524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5181480" y="2092320"/>
              <a:ext cx="576360" cy="480960"/>
            </a:xfrm>
            <a:custGeom>
              <a:avLst/>
              <a:gdLst/>
              <a:ahLst/>
              <a:rect l="l" t="t" r="r" b="b"/>
              <a:pathLst>
                <a:path w="1812" h="1517">
                  <a:moveTo>
                    <a:pt x="0" y="1510"/>
                  </a:moveTo>
                  <a:lnTo>
                    <a:pt x="1797" y="0"/>
                  </a:lnTo>
                  <a:lnTo>
                    <a:pt x="1799" y="4"/>
                  </a:lnTo>
                  <a:lnTo>
                    <a:pt x="1801" y="8"/>
                  </a:lnTo>
                  <a:lnTo>
                    <a:pt x="1802" y="12"/>
                  </a:lnTo>
                  <a:lnTo>
                    <a:pt x="1804" y="17"/>
                  </a:lnTo>
                  <a:lnTo>
                    <a:pt x="1806" y="21"/>
                  </a:lnTo>
                  <a:lnTo>
                    <a:pt x="1809" y="25"/>
                  </a:lnTo>
                  <a:lnTo>
                    <a:pt x="1810" y="30"/>
                  </a:lnTo>
                  <a:lnTo>
                    <a:pt x="1812" y="34"/>
                  </a:lnTo>
                  <a:lnTo>
                    <a:pt x="47" y="1517"/>
                  </a:lnTo>
                  <a:lnTo>
                    <a:pt x="41" y="1515"/>
                  </a:lnTo>
                  <a:lnTo>
                    <a:pt x="35" y="1515"/>
                  </a:lnTo>
                  <a:lnTo>
                    <a:pt x="29" y="1514"/>
                  </a:lnTo>
                  <a:lnTo>
                    <a:pt x="23" y="1513"/>
                  </a:lnTo>
                  <a:lnTo>
                    <a:pt x="17" y="1512"/>
                  </a:lnTo>
                  <a:lnTo>
                    <a:pt x="12" y="1512"/>
                  </a:lnTo>
                  <a:lnTo>
                    <a:pt x="5" y="1511"/>
                  </a:lnTo>
                  <a:lnTo>
                    <a:pt x="0" y="151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5189400" y="2097000"/>
              <a:ext cx="569880" cy="478080"/>
            </a:xfrm>
            <a:custGeom>
              <a:avLst/>
              <a:gdLst/>
              <a:ahLst/>
              <a:rect l="l" t="t" r="r" b="b"/>
              <a:pathLst>
                <a:path w="1796" h="1503">
                  <a:moveTo>
                    <a:pt x="0" y="1496"/>
                  </a:moveTo>
                  <a:lnTo>
                    <a:pt x="1781" y="0"/>
                  </a:lnTo>
                  <a:lnTo>
                    <a:pt x="1783" y="4"/>
                  </a:lnTo>
                  <a:lnTo>
                    <a:pt x="1786" y="8"/>
                  </a:lnTo>
                  <a:lnTo>
                    <a:pt x="1787" y="13"/>
                  </a:lnTo>
                  <a:lnTo>
                    <a:pt x="1789" y="17"/>
                  </a:lnTo>
                  <a:lnTo>
                    <a:pt x="1791" y="21"/>
                  </a:lnTo>
                  <a:lnTo>
                    <a:pt x="1793" y="25"/>
                  </a:lnTo>
                  <a:lnTo>
                    <a:pt x="1794" y="29"/>
                  </a:lnTo>
                  <a:lnTo>
                    <a:pt x="1796" y="33"/>
                  </a:lnTo>
                  <a:lnTo>
                    <a:pt x="48" y="1503"/>
                  </a:lnTo>
                  <a:lnTo>
                    <a:pt x="41" y="1502"/>
                  </a:lnTo>
                  <a:lnTo>
                    <a:pt x="36" y="1501"/>
                  </a:lnTo>
                  <a:lnTo>
                    <a:pt x="30" y="1501"/>
                  </a:lnTo>
                  <a:lnTo>
                    <a:pt x="24" y="1500"/>
                  </a:lnTo>
                  <a:lnTo>
                    <a:pt x="18" y="1498"/>
                  </a:lnTo>
                  <a:lnTo>
                    <a:pt x="12" y="1497"/>
                  </a:lnTo>
                  <a:lnTo>
                    <a:pt x="6" y="1497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5197320" y="2103480"/>
              <a:ext cx="565200" cy="473040"/>
            </a:xfrm>
            <a:custGeom>
              <a:avLst/>
              <a:gdLst/>
              <a:ahLst/>
              <a:rect l="l" t="t" r="r" b="b"/>
              <a:pathLst>
                <a:path w="1780" h="1489">
                  <a:moveTo>
                    <a:pt x="0" y="1483"/>
                  </a:moveTo>
                  <a:lnTo>
                    <a:pt x="1765" y="0"/>
                  </a:lnTo>
                  <a:lnTo>
                    <a:pt x="1767" y="4"/>
                  </a:lnTo>
                  <a:lnTo>
                    <a:pt x="1769" y="8"/>
                  </a:lnTo>
                  <a:lnTo>
                    <a:pt x="1770" y="12"/>
                  </a:lnTo>
                  <a:lnTo>
                    <a:pt x="1772" y="16"/>
                  </a:lnTo>
                  <a:lnTo>
                    <a:pt x="1774" y="20"/>
                  </a:lnTo>
                  <a:lnTo>
                    <a:pt x="1777" y="25"/>
                  </a:lnTo>
                  <a:lnTo>
                    <a:pt x="1778" y="29"/>
                  </a:lnTo>
                  <a:lnTo>
                    <a:pt x="1780" y="33"/>
                  </a:lnTo>
                  <a:lnTo>
                    <a:pt x="48" y="1489"/>
                  </a:lnTo>
                  <a:lnTo>
                    <a:pt x="41" y="1488"/>
                  </a:lnTo>
                  <a:lnTo>
                    <a:pt x="36" y="1487"/>
                  </a:lnTo>
                  <a:lnTo>
                    <a:pt x="29" y="1487"/>
                  </a:lnTo>
                  <a:lnTo>
                    <a:pt x="24" y="1486"/>
                  </a:lnTo>
                  <a:lnTo>
                    <a:pt x="17" y="1485"/>
                  </a:lnTo>
                  <a:lnTo>
                    <a:pt x="12" y="1484"/>
                  </a:lnTo>
                  <a:lnTo>
                    <a:pt x="6" y="1484"/>
                  </a:lnTo>
                  <a:lnTo>
                    <a:pt x="0" y="1483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5205240" y="2108160"/>
              <a:ext cx="559080" cy="468360"/>
            </a:xfrm>
            <a:custGeom>
              <a:avLst/>
              <a:gdLst/>
              <a:ahLst/>
              <a:rect l="l" t="t" r="r" b="b"/>
              <a:pathLst>
                <a:path w="1763" h="1476">
                  <a:moveTo>
                    <a:pt x="0" y="1470"/>
                  </a:moveTo>
                  <a:lnTo>
                    <a:pt x="1748" y="0"/>
                  </a:lnTo>
                  <a:lnTo>
                    <a:pt x="1750" y="4"/>
                  </a:lnTo>
                  <a:lnTo>
                    <a:pt x="1753" y="9"/>
                  </a:lnTo>
                  <a:lnTo>
                    <a:pt x="1754" y="13"/>
                  </a:lnTo>
                  <a:lnTo>
                    <a:pt x="1756" y="17"/>
                  </a:lnTo>
                  <a:lnTo>
                    <a:pt x="1758" y="22"/>
                  </a:lnTo>
                  <a:lnTo>
                    <a:pt x="1759" y="26"/>
                  </a:lnTo>
                  <a:lnTo>
                    <a:pt x="1761" y="30"/>
                  </a:lnTo>
                  <a:lnTo>
                    <a:pt x="1763" y="35"/>
                  </a:lnTo>
                  <a:lnTo>
                    <a:pt x="46" y="1476"/>
                  </a:lnTo>
                  <a:lnTo>
                    <a:pt x="41" y="1475"/>
                  </a:lnTo>
                  <a:lnTo>
                    <a:pt x="36" y="1474"/>
                  </a:lnTo>
                  <a:lnTo>
                    <a:pt x="29" y="1474"/>
                  </a:lnTo>
                  <a:lnTo>
                    <a:pt x="24" y="1473"/>
                  </a:lnTo>
                  <a:lnTo>
                    <a:pt x="17" y="1472"/>
                  </a:lnTo>
                  <a:lnTo>
                    <a:pt x="12" y="1471"/>
                  </a:lnTo>
                  <a:lnTo>
                    <a:pt x="5" y="1471"/>
                  </a:lnTo>
                  <a:lnTo>
                    <a:pt x="0" y="147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5211720" y="2112840"/>
              <a:ext cx="555840" cy="465120"/>
            </a:xfrm>
            <a:custGeom>
              <a:avLst/>
              <a:gdLst/>
              <a:ahLst/>
              <a:rect l="l" t="t" r="r" b="b"/>
              <a:pathLst>
                <a:path w="1747" h="1463">
                  <a:moveTo>
                    <a:pt x="0" y="1456"/>
                  </a:moveTo>
                  <a:lnTo>
                    <a:pt x="1732" y="0"/>
                  </a:lnTo>
                  <a:lnTo>
                    <a:pt x="1734" y="5"/>
                  </a:lnTo>
                  <a:lnTo>
                    <a:pt x="1735" y="9"/>
                  </a:lnTo>
                  <a:lnTo>
                    <a:pt x="1737" y="13"/>
                  </a:lnTo>
                  <a:lnTo>
                    <a:pt x="1739" y="18"/>
                  </a:lnTo>
                  <a:lnTo>
                    <a:pt x="1742" y="21"/>
                  </a:lnTo>
                  <a:lnTo>
                    <a:pt x="1743" y="25"/>
                  </a:lnTo>
                  <a:lnTo>
                    <a:pt x="1745" y="30"/>
                  </a:lnTo>
                  <a:lnTo>
                    <a:pt x="1747" y="34"/>
                  </a:lnTo>
                  <a:lnTo>
                    <a:pt x="46" y="1463"/>
                  </a:lnTo>
                  <a:lnTo>
                    <a:pt x="41" y="1461"/>
                  </a:lnTo>
                  <a:lnTo>
                    <a:pt x="34" y="1460"/>
                  </a:lnTo>
                  <a:lnTo>
                    <a:pt x="29" y="1460"/>
                  </a:lnTo>
                  <a:lnTo>
                    <a:pt x="23" y="1459"/>
                  </a:lnTo>
                  <a:lnTo>
                    <a:pt x="17" y="1458"/>
                  </a:lnTo>
                  <a:lnTo>
                    <a:pt x="12" y="1457"/>
                  </a:lnTo>
                  <a:lnTo>
                    <a:pt x="5" y="145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5219640" y="2119320"/>
              <a:ext cx="549360" cy="460440"/>
            </a:xfrm>
            <a:custGeom>
              <a:avLst/>
              <a:gdLst/>
              <a:ahLst/>
              <a:rect l="l" t="t" r="r" b="b"/>
              <a:pathLst>
                <a:path w="1733" h="1448">
                  <a:moveTo>
                    <a:pt x="0" y="1441"/>
                  </a:moveTo>
                  <a:lnTo>
                    <a:pt x="1717" y="0"/>
                  </a:lnTo>
                  <a:lnTo>
                    <a:pt x="1720" y="3"/>
                  </a:lnTo>
                  <a:lnTo>
                    <a:pt x="1721" y="7"/>
                  </a:lnTo>
                  <a:lnTo>
                    <a:pt x="1723" y="12"/>
                  </a:lnTo>
                  <a:lnTo>
                    <a:pt x="1725" y="16"/>
                  </a:lnTo>
                  <a:lnTo>
                    <a:pt x="1726" y="20"/>
                  </a:lnTo>
                  <a:lnTo>
                    <a:pt x="1728" y="25"/>
                  </a:lnTo>
                  <a:lnTo>
                    <a:pt x="1730" y="29"/>
                  </a:lnTo>
                  <a:lnTo>
                    <a:pt x="1733" y="33"/>
                  </a:lnTo>
                  <a:lnTo>
                    <a:pt x="48" y="1448"/>
                  </a:lnTo>
                  <a:lnTo>
                    <a:pt x="42" y="1447"/>
                  </a:lnTo>
                  <a:lnTo>
                    <a:pt x="36" y="1447"/>
                  </a:lnTo>
                  <a:lnTo>
                    <a:pt x="31" y="1446"/>
                  </a:lnTo>
                  <a:lnTo>
                    <a:pt x="24" y="1445"/>
                  </a:lnTo>
                  <a:lnTo>
                    <a:pt x="19" y="1443"/>
                  </a:lnTo>
                  <a:lnTo>
                    <a:pt x="12" y="1443"/>
                  </a:lnTo>
                  <a:lnTo>
                    <a:pt x="7" y="1442"/>
                  </a:lnTo>
                  <a:lnTo>
                    <a:pt x="0" y="1441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5227560" y="2124000"/>
              <a:ext cx="544680" cy="455760"/>
            </a:xfrm>
            <a:custGeom>
              <a:avLst/>
              <a:gdLst/>
              <a:ahLst/>
              <a:rect l="l" t="t" r="r" b="b"/>
              <a:pathLst>
                <a:path w="1715" h="1435">
                  <a:moveTo>
                    <a:pt x="0" y="1429"/>
                  </a:moveTo>
                  <a:lnTo>
                    <a:pt x="1701" y="0"/>
                  </a:lnTo>
                  <a:lnTo>
                    <a:pt x="1702" y="4"/>
                  </a:lnTo>
                  <a:lnTo>
                    <a:pt x="1704" y="9"/>
                  </a:lnTo>
                  <a:lnTo>
                    <a:pt x="1706" y="13"/>
                  </a:lnTo>
                  <a:lnTo>
                    <a:pt x="1707" y="17"/>
                  </a:lnTo>
                  <a:lnTo>
                    <a:pt x="1710" y="22"/>
                  </a:lnTo>
                  <a:lnTo>
                    <a:pt x="1712" y="26"/>
                  </a:lnTo>
                  <a:lnTo>
                    <a:pt x="1714" y="30"/>
                  </a:lnTo>
                  <a:lnTo>
                    <a:pt x="1715" y="35"/>
                  </a:lnTo>
                  <a:lnTo>
                    <a:pt x="48" y="1435"/>
                  </a:lnTo>
                  <a:lnTo>
                    <a:pt x="42" y="1434"/>
                  </a:lnTo>
                  <a:lnTo>
                    <a:pt x="36" y="1434"/>
                  </a:lnTo>
                  <a:lnTo>
                    <a:pt x="30" y="1433"/>
                  </a:lnTo>
                  <a:lnTo>
                    <a:pt x="24" y="1432"/>
                  </a:lnTo>
                  <a:lnTo>
                    <a:pt x="18" y="1431"/>
                  </a:lnTo>
                  <a:lnTo>
                    <a:pt x="12" y="1431"/>
                  </a:lnTo>
                  <a:lnTo>
                    <a:pt x="7" y="1430"/>
                  </a:lnTo>
                  <a:lnTo>
                    <a:pt x="0" y="1429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5234040" y="2130480"/>
              <a:ext cx="539640" cy="450720"/>
            </a:xfrm>
            <a:custGeom>
              <a:avLst/>
              <a:gdLst/>
              <a:ahLst/>
              <a:rect l="l" t="t" r="r" b="b"/>
              <a:pathLst>
                <a:path w="1699" h="1421">
                  <a:moveTo>
                    <a:pt x="0" y="1415"/>
                  </a:moveTo>
                  <a:lnTo>
                    <a:pt x="1685" y="0"/>
                  </a:lnTo>
                  <a:lnTo>
                    <a:pt x="1686" y="5"/>
                  </a:lnTo>
                  <a:lnTo>
                    <a:pt x="1688" y="9"/>
                  </a:lnTo>
                  <a:lnTo>
                    <a:pt x="1690" y="13"/>
                  </a:lnTo>
                  <a:lnTo>
                    <a:pt x="1691" y="18"/>
                  </a:lnTo>
                  <a:lnTo>
                    <a:pt x="1693" y="22"/>
                  </a:lnTo>
                  <a:lnTo>
                    <a:pt x="1695" y="25"/>
                  </a:lnTo>
                  <a:lnTo>
                    <a:pt x="1696" y="29"/>
                  </a:lnTo>
                  <a:lnTo>
                    <a:pt x="1699" y="34"/>
                  </a:lnTo>
                  <a:lnTo>
                    <a:pt x="47" y="1421"/>
                  </a:lnTo>
                  <a:lnTo>
                    <a:pt x="41" y="1420"/>
                  </a:lnTo>
                  <a:lnTo>
                    <a:pt x="35" y="1420"/>
                  </a:lnTo>
                  <a:lnTo>
                    <a:pt x="30" y="1419"/>
                  </a:lnTo>
                  <a:lnTo>
                    <a:pt x="24" y="1418"/>
                  </a:lnTo>
                  <a:lnTo>
                    <a:pt x="18" y="1417"/>
                  </a:lnTo>
                  <a:lnTo>
                    <a:pt x="12" y="1417"/>
                  </a:lnTo>
                  <a:lnTo>
                    <a:pt x="6" y="1416"/>
                  </a:lnTo>
                  <a:lnTo>
                    <a:pt x="0" y="1415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5241960" y="2135160"/>
              <a:ext cx="534960" cy="447840"/>
            </a:xfrm>
            <a:custGeom>
              <a:avLst/>
              <a:gdLst/>
              <a:ahLst/>
              <a:rect l="l" t="t" r="r" b="b"/>
              <a:pathLst>
                <a:path w="1682" h="1407">
                  <a:moveTo>
                    <a:pt x="0" y="1400"/>
                  </a:moveTo>
                  <a:lnTo>
                    <a:pt x="1667" y="0"/>
                  </a:lnTo>
                  <a:lnTo>
                    <a:pt x="1669" y="4"/>
                  </a:lnTo>
                  <a:lnTo>
                    <a:pt x="1671" y="7"/>
                  </a:lnTo>
                  <a:lnTo>
                    <a:pt x="1672" y="11"/>
                  </a:lnTo>
                  <a:lnTo>
                    <a:pt x="1675" y="16"/>
                  </a:lnTo>
                  <a:lnTo>
                    <a:pt x="1677" y="20"/>
                  </a:lnTo>
                  <a:lnTo>
                    <a:pt x="1678" y="24"/>
                  </a:lnTo>
                  <a:lnTo>
                    <a:pt x="1680" y="29"/>
                  </a:lnTo>
                  <a:lnTo>
                    <a:pt x="1682" y="33"/>
                  </a:lnTo>
                  <a:lnTo>
                    <a:pt x="47" y="1407"/>
                  </a:lnTo>
                  <a:lnTo>
                    <a:pt x="41" y="1407"/>
                  </a:lnTo>
                  <a:lnTo>
                    <a:pt x="35" y="1405"/>
                  </a:lnTo>
                  <a:lnTo>
                    <a:pt x="29" y="1404"/>
                  </a:lnTo>
                  <a:lnTo>
                    <a:pt x="23" y="1403"/>
                  </a:lnTo>
                  <a:lnTo>
                    <a:pt x="18" y="1402"/>
                  </a:lnTo>
                  <a:lnTo>
                    <a:pt x="11" y="1402"/>
                  </a:lnTo>
                  <a:lnTo>
                    <a:pt x="6" y="1401"/>
                  </a:lnTo>
                  <a:lnTo>
                    <a:pt x="0" y="140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5249880" y="2139840"/>
              <a:ext cx="528480" cy="443160"/>
            </a:xfrm>
            <a:custGeom>
              <a:avLst/>
              <a:gdLst/>
              <a:ahLst/>
              <a:rect l="l" t="t" r="r" b="b"/>
              <a:pathLst>
                <a:path w="1666" h="1394">
                  <a:moveTo>
                    <a:pt x="0" y="1387"/>
                  </a:moveTo>
                  <a:lnTo>
                    <a:pt x="1652" y="0"/>
                  </a:lnTo>
                  <a:lnTo>
                    <a:pt x="1654" y="4"/>
                  </a:lnTo>
                  <a:lnTo>
                    <a:pt x="1655" y="8"/>
                  </a:lnTo>
                  <a:lnTo>
                    <a:pt x="1657" y="13"/>
                  </a:lnTo>
                  <a:lnTo>
                    <a:pt x="1659" y="17"/>
                  </a:lnTo>
                  <a:lnTo>
                    <a:pt x="1660" y="21"/>
                  </a:lnTo>
                  <a:lnTo>
                    <a:pt x="1662" y="26"/>
                  </a:lnTo>
                  <a:lnTo>
                    <a:pt x="1665" y="30"/>
                  </a:lnTo>
                  <a:lnTo>
                    <a:pt x="1666" y="34"/>
                  </a:lnTo>
                  <a:lnTo>
                    <a:pt x="48" y="1394"/>
                  </a:lnTo>
                  <a:lnTo>
                    <a:pt x="41" y="1394"/>
                  </a:lnTo>
                  <a:lnTo>
                    <a:pt x="36" y="1393"/>
                  </a:lnTo>
                  <a:lnTo>
                    <a:pt x="29" y="1392"/>
                  </a:lnTo>
                  <a:lnTo>
                    <a:pt x="24" y="1391"/>
                  </a:lnTo>
                  <a:lnTo>
                    <a:pt x="18" y="1391"/>
                  </a:lnTo>
                  <a:lnTo>
                    <a:pt x="12" y="1389"/>
                  </a:lnTo>
                  <a:lnTo>
                    <a:pt x="6" y="1388"/>
                  </a:lnTo>
                  <a:lnTo>
                    <a:pt x="0" y="1387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5257800" y="2146320"/>
              <a:ext cx="522360" cy="438120"/>
            </a:xfrm>
            <a:custGeom>
              <a:avLst/>
              <a:gdLst/>
              <a:ahLst/>
              <a:rect l="l" t="t" r="r" b="b"/>
              <a:pathLst>
                <a:path w="1649" h="1380">
                  <a:moveTo>
                    <a:pt x="0" y="1374"/>
                  </a:moveTo>
                  <a:lnTo>
                    <a:pt x="1635" y="0"/>
                  </a:lnTo>
                  <a:lnTo>
                    <a:pt x="1636" y="4"/>
                  </a:lnTo>
                  <a:lnTo>
                    <a:pt x="1638" y="9"/>
                  </a:lnTo>
                  <a:lnTo>
                    <a:pt x="1641" y="13"/>
                  </a:lnTo>
                  <a:lnTo>
                    <a:pt x="1642" y="17"/>
                  </a:lnTo>
                  <a:lnTo>
                    <a:pt x="1644" y="22"/>
                  </a:lnTo>
                  <a:lnTo>
                    <a:pt x="1646" y="26"/>
                  </a:lnTo>
                  <a:lnTo>
                    <a:pt x="1647" y="30"/>
                  </a:lnTo>
                  <a:lnTo>
                    <a:pt x="1649" y="35"/>
                  </a:lnTo>
                  <a:lnTo>
                    <a:pt x="46" y="1380"/>
                  </a:lnTo>
                  <a:lnTo>
                    <a:pt x="41" y="1380"/>
                  </a:lnTo>
                  <a:lnTo>
                    <a:pt x="36" y="1379"/>
                  </a:lnTo>
                  <a:lnTo>
                    <a:pt x="29" y="1378"/>
                  </a:lnTo>
                  <a:lnTo>
                    <a:pt x="24" y="1377"/>
                  </a:lnTo>
                  <a:lnTo>
                    <a:pt x="17" y="1377"/>
                  </a:lnTo>
                  <a:lnTo>
                    <a:pt x="12" y="1376"/>
                  </a:lnTo>
                  <a:lnTo>
                    <a:pt x="5" y="1375"/>
                  </a:lnTo>
                  <a:lnTo>
                    <a:pt x="0" y="1374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5264280" y="2151000"/>
              <a:ext cx="519120" cy="434880"/>
            </a:xfrm>
            <a:custGeom>
              <a:avLst/>
              <a:gdLst/>
              <a:ahLst/>
              <a:rect l="l" t="t" r="r" b="b"/>
              <a:pathLst>
                <a:path w="1633" h="1367">
                  <a:moveTo>
                    <a:pt x="0" y="1360"/>
                  </a:moveTo>
                  <a:lnTo>
                    <a:pt x="1618" y="0"/>
                  </a:lnTo>
                  <a:lnTo>
                    <a:pt x="1620" y="5"/>
                  </a:lnTo>
                  <a:lnTo>
                    <a:pt x="1622" y="9"/>
                  </a:lnTo>
                  <a:lnTo>
                    <a:pt x="1623" y="13"/>
                  </a:lnTo>
                  <a:lnTo>
                    <a:pt x="1625" y="18"/>
                  </a:lnTo>
                  <a:lnTo>
                    <a:pt x="1627" y="22"/>
                  </a:lnTo>
                  <a:lnTo>
                    <a:pt x="1628" y="26"/>
                  </a:lnTo>
                  <a:lnTo>
                    <a:pt x="1631" y="31"/>
                  </a:lnTo>
                  <a:lnTo>
                    <a:pt x="1633" y="35"/>
                  </a:lnTo>
                  <a:lnTo>
                    <a:pt x="46" y="1367"/>
                  </a:lnTo>
                  <a:lnTo>
                    <a:pt x="41" y="1366"/>
                  </a:lnTo>
                  <a:lnTo>
                    <a:pt x="34" y="1365"/>
                  </a:lnTo>
                  <a:lnTo>
                    <a:pt x="29" y="1364"/>
                  </a:lnTo>
                  <a:lnTo>
                    <a:pt x="22" y="1364"/>
                  </a:lnTo>
                  <a:lnTo>
                    <a:pt x="17" y="1363"/>
                  </a:lnTo>
                  <a:lnTo>
                    <a:pt x="12" y="1362"/>
                  </a:lnTo>
                  <a:lnTo>
                    <a:pt x="5" y="1361"/>
                  </a:lnTo>
                  <a:lnTo>
                    <a:pt x="0" y="136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5272200" y="2157480"/>
              <a:ext cx="512640" cy="428400"/>
            </a:xfrm>
            <a:custGeom>
              <a:avLst/>
              <a:gdLst/>
              <a:ahLst/>
              <a:rect l="l" t="t" r="r" b="b"/>
              <a:pathLst>
                <a:path w="1617" h="1353">
                  <a:moveTo>
                    <a:pt x="0" y="1345"/>
                  </a:moveTo>
                  <a:lnTo>
                    <a:pt x="1603" y="0"/>
                  </a:lnTo>
                  <a:lnTo>
                    <a:pt x="1605" y="4"/>
                  </a:lnTo>
                  <a:lnTo>
                    <a:pt x="1606" y="8"/>
                  </a:lnTo>
                  <a:lnTo>
                    <a:pt x="1609" y="13"/>
                  </a:lnTo>
                  <a:lnTo>
                    <a:pt x="1611" y="17"/>
                  </a:lnTo>
                  <a:lnTo>
                    <a:pt x="1612" y="21"/>
                  </a:lnTo>
                  <a:lnTo>
                    <a:pt x="1614" y="26"/>
                  </a:lnTo>
                  <a:lnTo>
                    <a:pt x="1615" y="30"/>
                  </a:lnTo>
                  <a:lnTo>
                    <a:pt x="1617" y="33"/>
                  </a:lnTo>
                  <a:lnTo>
                    <a:pt x="48" y="1353"/>
                  </a:lnTo>
                  <a:lnTo>
                    <a:pt x="41" y="1351"/>
                  </a:lnTo>
                  <a:lnTo>
                    <a:pt x="36" y="1350"/>
                  </a:lnTo>
                  <a:lnTo>
                    <a:pt x="31" y="1349"/>
                  </a:lnTo>
                  <a:lnTo>
                    <a:pt x="24" y="1349"/>
                  </a:lnTo>
                  <a:lnTo>
                    <a:pt x="19" y="1348"/>
                  </a:lnTo>
                  <a:lnTo>
                    <a:pt x="12" y="1347"/>
                  </a:lnTo>
                  <a:lnTo>
                    <a:pt x="7" y="1346"/>
                  </a:lnTo>
                  <a:lnTo>
                    <a:pt x="0" y="1345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5280120" y="2162160"/>
              <a:ext cx="507960" cy="425520"/>
            </a:xfrm>
            <a:custGeom>
              <a:avLst/>
              <a:gdLst/>
              <a:ahLst/>
              <a:rect l="l" t="t" r="r" b="b"/>
              <a:pathLst>
                <a:path w="1601" h="1339">
                  <a:moveTo>
                    <a:pt x="0" y="1332"/>
                  </a:moveTo>
                  <a:lnTo>
                    <a:pt x="1587" y="0"/>
                  </a:lnTo>
                  <a:lnTo>
                    <a:pt x="1588" y="4"/>
                  </a:lnTo>
                  <a:lnTo>
                    <a:pt x="1590" y="9"/>
                  </a:lnTo>
                  <a:lnTo>
                    <a:pt x="1591" y="13"/>
                  </a:lnTo>
                  <a:lnTo>
                    <a:pt x="1593" y="17"/>
                  </a:lnTo>
                  <a:lnTo>
                    <a:pt x="1595" y="22"/>
                  </a:lnTo>
                  <a:lnTo>
                    <a:pt x="1596" y="26"/>
                  </a:lnTo>
                  <a:lnTo>
                    <a:pt x="1599" y="30"/>
                  </a:lnTo>
                  <a:lnTo>
                    <a:pt x="1601" y="33"/>
                  </a:lnTo>
                  <a:lnTo>
                    <a:pt x="47" y="1339"/>
                  </a:lnTo>
                  <a:lnTo>
                    <a:pt x="41" y="1338"/>
                  </a:lnTo>
                  <a:lnTo>
                    <a:pt x="36" y="1337"/>
                  </a:lnTo>
                  <a:lnTo>
                    <a:pt x="29" y="1337"/>
                  </a:lnTo>
                  <a:lnTo>
                    <a:pt x="24" y="1336"/>
                  </a:lnTo>
                  <a:lnTo>
                    <a:pt x="17" y="1334"/>
                  </a:lnTo>
                  <a:lnTo>
                    <a:pt x="12" y="1333"/>
                  </a:lnTo>
                  <a:lnTo>
                    <a:pt x="6" y="1332"/>
                  </a:lnTo>
                  <a:lnTo>
                    <a:pt x="0" y="1332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5286240" y="2166840"/>
              <a:ext cx="503280" cy="422280"/>
            </a:xfrm>
            <a:custGeom>
              <a:avLst/>
              <a:gdLst/>
              <a:ahLst/>
              <a:rect l="l" t="t" r="r" b="b"/>
              <a:pathLst>
                <a:path w="1583" h="1326">
                  <a:moveTo>
                    <a:pt x="0" y="1320"/>
                  </a:moveTo>
                  <a:lnTo>
                    <a:pt x="1569" y="0"/>
                  </a:lnTo>
                  <a:lnTo>
                    <a:pt x="1571" y="4"/>
                  </a:lnTo>
                  <a:lnTo>
                    <a:pt x="1572" y="9"/>
                  </a:lnTo>
                  <a:lnTo>
                    <a:pt x="1575" y="13"/>
                  </a:lnTo>
                  <a:lnTo>
                    <a:pt x="1577" y="17"/>
                  </a:lnTo>
                  <a:lnTo>
                    <a:pt x="1578" y="22"/>
                  </a:lnTo>
                  <a:lnTo>
                    <a:pt x="1580" y="26"/>
                  </a:lnTo>
                  <a:lnTo>
                    <a:pt x="1581" y="30"/>
                  </a:lnTo>
                  <a:lnTo>
                    <a:pt x="1583" y="35"/>
                  </a:lnTo>
                  <a:lnTo>
                    <a:pt x="46" y="1326"/>
                  </a:lnTo>
                  <a:lnTo>
                    <a:pt x="41" y="1325"/>
                  </a:lnTo>
                  <a:lnTo>
                    <a:pt x="34" y="1325"/>
                  </a:lnTo>
                  <a:lnTo>
                    <a:pt x="29" y="1324"/>
                  </a:lnTo>
                  <a:lnTo>
                    <a:pt x="23" y="1323"/>
                  </a:lnTo>
                  <a:lnTo>
                    <a:pt x="17" y="1322"/>
                  </a:lnTo>
                  <a:lnTo>
                    <a:pt x="12" y="1321"/>
                  </a:lnTo>
                  <a:lnTo>
                    <a:pt x="5" y="1321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5294160" y="2173320"/>
              <a:ext cx="498600" cy="415800"/>
            </a:xfrm>
            <a:custGeom>
              <a:avLst/>
              <a:gdLst/>
              <a:ahLst/>
              <a:rect l="l" t="t" r="r" b="b"/>
              <a:pathLst>
                <a:path w="1568" h="1313">
                  <a:moveTo>
                    <a:pt x="0" y="1306"/>
                  </a:moveTo>
                  <a:lnTo>
                    <a:pt x="1554" y="0"/>
                  </a:lnTo>
                  <a:lnTo>
                    <a:pt x="1555" y="5"/>
                  </a:lnTo>
                  <a:lnTo>
                    <a:pt x="1557" y="9"/>
                  </a:lnTo>
                  <a:lnTo>
                    <a:pt x="1558" y="13"/>
                  </a:lnTo>
                  <a:lnTo>
                    <a:pt x="1560" y="18"/>
                  </a:lnTo>
                  <a:lnTo>
                    <a:pt x="1562" y="22"/>
                  </a:lnTo>
                  <a:lnTo>
                    <a:pt x="1563" y="26"/>
                  </a:lnTo>
                  <a:lnTo>
                    <a:pt x="1566" y="31"/>
                  </a:lnTo>
                  <a:lnTo>
                    <a:pt x="1568" y="35"/>
                  </a:lnTo>
                  <a:lnTo>
                    <a:pt x="47" y="1313"/>
                  </a:lnTo>
                  <a:lnTo>
                    <a:pt x="41" y="1312"/>
                  </a:lnTo>
                  <a:lnTo>
                    <a:pt x="35" y="1311"/>
                  </a:lnTo>
                  <a:lnTo>
                    <a:pt x="29" y="1310"/>
                  </a:lnTo>
                  <a:lnTo>
                    <a:pt x="23" y="1309"/>
                  </a:lnTo>
                  <a:lnTo>
                    <a:pt x="18" y="1309"/>
                  </a:lnTo>
                  <a:lnTo>
                    <a:pt x="11" y="1308"/>
                  </a:lnTo>
                  <a:lnTo>
                    <a:pt x="6" y="1307"/>
                  </a:lnTo>
                  <a:lnTo>
                    <a:pt x="0" y="1306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5302080" y="2178000"/>
              <a:ext cx="492120" cy="412920"/>
            </a:xfrm>
            <a:custGeom>
              <a:avLst/>
              <a:gdLst/>
              <a:ahLst/>
              <a:rect l="l" t="t" r="r" b="b"/>
              <a:pathLst>
                <a:path w="1551" h="1299">
                  <a:moveTo>
                    <a:pt x="0" y="1291"/>
                  </a:moveTo>
                  <a:lnTo>
                    <a:pt x="1537" y="0"/>
                  </a:lnTo>
                  <a:lnTo>
                    <a:pt x="1539" y="4"/>
                  </a:lnTo>
                  <a:lnTo>
                    <a:pt x="1540" y="8"/>
                  </a:lnTo>
                  <a:lnTo>
                    <a:pt x="1543" y="13"/>
                  </a:lnTo>
                  <a:lnTo>
                    <a:pt x="1545" y="17"/>
                  </a:lnTo>
                  <a:lnTo>
                    <a:pt x="1546" y="21"/>
                  </a:lnTo>
                  <a:lnTo>
                    <a:pt x="1548" y="26"/>
                  </a:lnTo>
                  <a:lnTo>
                    <a:pt x="1549" y="30"/>
                  </a:lnTo>
                  <a:lnTo>
                    <a:pt x="1551" y="34"/>
                  </a:lnTo>
                  <a:lnTo>
                    <a:pt x="47" y="1299"/>
                  </a:lnTo>
                  <a:lnTo>
                    <a:pt x="41" y="1298"/>
                  </a:lnTo>
                  <a:lnTo>
                    <a:pt x="35" y="1296"/>
                  </a:lnTo>
                  <a:lnTo>
                    <a:pt x="29" y="1296"/>
                  </a:lnTo>
                  <a:lnTo>
                    <a:pt x="24" y="1295"/>
                  </a:lnTo>
                  <a:lnTo>
                    <a:pt x="18" y="1294"/>
                  </a:lnTo>
                  <a:lnTo>
                    <a:pt x="12" y="1293"/>
                  </a:lnTo>
                  <a:lnTo>
                    <a:pt x="6" y="1292"/>
                  </a:lnTo>
                  <a:lnTo>
                    <a:pt x="0" y="1291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5308560" y="2184480"/>
              <a:ext cx="487440" cy="407880"/>
            </a:xfrm>
            <a:custGeom>
              <a:avLst/>
              <a:gdLst/>
              <a:ahLst/>
              <a:rect l="l" t="t" r="r" b="b"/>
              <a:pathLst>
                <a:path w="1534" h="1285">
                  <a:moveTo>
                    <a:pt x="0" y="1278"/>
                  </a:moveTo>
                  <a:lnTo>
                    <a:pt x="1521" y="0"/>
                  </a:lnTo>
                  <a:lnTo>
                    <a:pt x="1522" y="4"/>
                  </a:lnTo>
                  <a:lnTo>
                    <a:pt x="1524" y="9"/>
                  </a:lnTo>
                  <a:lnTo>
                    <a:pt x="1525" y="13"/>
                  </a:lnTo>
                  <a:lnTo>
                    <a:pt x="1527" y="17"/>
                  </a:lnTo>
                  <a:lnTo>
                    <a:pt x="1529" y="22"/>
                  </a:lnTo>
                  <a:lnTo>
                    <a:pt x="1530" y="26"/>
                  </a:lnTo>
                  <a:lnTo>
                    <a:pt x="1533" y="30"/>
                  </a:lnTo>
                  <a:lnTo>
                    <a:pt x="1534" y="35"/>
                  </a:lnTo>
                  <a:lnTo>
                    <a:pt x="46" y="1285"/>
                  </a:lnTo>
                  <a:lnTo>
                    <a:pt x="40" y="1284"/>
                  </a:lnTo>
                  <a:lnTo>
                    <a:pt x="35" y="1284"/>
                  </a:lnTo>
                  <a:lnTo>
                    <a:pt x="29" y="1283"/>
                  </a:lnTo>
                  <a:lnTo>
                    <a:pt x="23" y="1282"/>
                  </a:lnTo>
                  <a:lnTo>
                    <a:pt x="17" y="1281"/>
                  </a:lnTo>
                  <a:lnTo>
                    <a:pt x="11" y="1279"/>
                  </a:lnTo>
                  <a:lnTo>
                    <a:pt x="5" y="1278"/>
                  </a:lnTo>
                  <a:lnTo>
                    <a:pt x="0" y="1278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5316480" y="2189160"/>
              <a:ext cx="482760" cy="404640"/>
            </a:xfrm>
            <a:custGeom>
              <a:avLst/>
              <a:gdLst/>
              <a:ahLst/>
              <a:rect l="l" t="t" r="r" b="b"/>
              <a:pathLst>
                <a:path w="1518" h="1272">
                  <a:moveTo>
                    <a:pt x="0" y="1265"/>
                  </a:moveTo>
                  <a:lnTo>
                    <a:pt x="1504" y="0"/>
                  </a:lnTo>
                  <a:lnTo>
                    <a:pt x="1506" y="5"/>
                  </a:lnTo>
                  <a:lnTo>
                    <a:pt x="1507" y="9"/>
                  </a:lnTo>
                  <a:lnTo>
                    <a:pt x="1510" y="13"/>
                  </a:lnTo>
                  <a:lnTo>
                    <a:pt x="1511" y="18"/>
                  </a:lnTo>
                  <a:lnTo>
                    <a:pt x="1513" y="22"/>
                  </a:lnTo>
                  <a:lnTo>
                    <a:pt x="1515" y="26"/>
                  </a:lnTo>
                  <a:lnTo>
                    <a:pt x="1516" y="31"/>
                  </a:lnTo>
                  <a:lnTo>
                    <a:pt x="1518" y="35"/>
                  </a:lnTo>
                  <a:lnTo>
                    <a:pt x="46" y="1272"/>
                  </a:lnTo>
                  <a:lnTo>
                    <a:pt x="41" y="1271"/>
                  </a:lnTo>
                  <a:lnTo>
                    <a:pt x="34" y="1270"/>
                  </a:lnTo>
                  <a:lnTo>
                    <a:pt x="29" y="1269"/>
                  </a:lnTo>
                  <a:lnTo>
                    <a:pt x="23" y="1268"/>
                  </a:lnTo>
                  <a:lnTo>
                    <a:pt x="17" y="1267"/>
                  </a:lnTo>
                  <a:lnTo>
                    <a:pt x="12" y="1267"/>
                  </a:lnTo>
                  <a:lnTo>
                    <a:pt x="6" y="126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5324400" y="2195640"/>
              <a:ext cx="476280" cy="398160"/>
            </a:xfrm>
            <a:custGeom>
              <a:avLst/>
              <a:gdLst/>
              <a:ahLst/>
              <a:rect l="l" t="t" r="r" b="b"/>
              <a:pathLst>
                <a:path w="1502" h="1257">
                  <a:moveTo>
                    <a:pt x="0" y="1250"/>
                  </a:moveTo>
                  <a:lnTo>
                    <a:pt x="1488" y="0"/>
                  </a:lnTo>
                  <a:lnTo>
                    <a:pt x="1490" y="4"/>
                  </a:lnTo>
                  <a:lnTo>
                    <a:pt x="1492" y="8"/>
                  </a:lnTo>
                  <a:lnTo>
                    <a:pt x="1493" y="13"/>
                  </a:lnTo>
                  <a:lnTo>
                    <a:pt x="1495" y="17"/>
                  </a:lnTo>
                  <a:lnTo>
                    <a:pt x="1496" y="22"/>
                  </a:lnTo>
                  <a:lnTo>
                    <a:pt x="1499" y="27"/>
                  </a:lnTo>
                  <a:lnTo>
                    <a:pt x="1501" y="31"/>
                  </a:lnTo>
                  <a:lnTo>
                    <a:pt x="1502" y="35"/>
                  </a:lnTo>
                  <a:lnTo>
                    <a:pt x="47" y="1257"/>
                  </a:lnTo>
                  <a:lnTo>
                    <a:pt x="40" y="1256"/>
                  </a:lnTo>
                  <a:lnTo>
                    <a:pt x="35" y="1255"/>
                  </a:lnTo>
                  <a:lnTo>
                    <a:pt x="29" y="1255"/>
                  </a:lnTo>
                  <a:lnTo>
                    <a:pt x="23" y="1254"/>
                  </a:lnTo>
                  <a:lnTo>
                    <a:pt x="18" y="1253"/>
                  </a:lnTo>
                  <a:lnTo>
                    <a:pt x="11" y="1252"/>
                  </a:lnTo>
                  <a:lnTo>
                    <a:pt x="6" y="1251"/>
                  </a:lnTo>
                  <a:lnTo>
                    <a:pt x="0" y="125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5330880" y="2200320"/>
              <a:ext cx="471600" cy="395280"/>
            </a:xfrm>
            <a:custGeom>
              <a:avLst/>
              <a:gdLst/>
              <a:ahLst/>
              <a:rect l="l" t="t" r="r" b="b"/>
              <a:pathLst>
                <a:path w="1485" h="1245">
                  <a:moveTo>
                    <a:pt x="0" y="1237"/>
                  </a:moveTo>
                  <a:lnTo>
                    <a:pt x="1472" y="0"/>
                  </a:lnTo>
                  <a:lnTo>
                    <a:pt x="1473" y="4"/>
                  </a:lnTo>
                  <a:lnTo>
                    <a:pt x="1476" y="9"/>
                  </a:lnTo>
                  <a:lnTo>
                    <a:pt x="1478" y="14"/>
                  </a:lnTo>
                  <a:lnTo>
                    <a:pt x="1479" y="18"/>
                  </a:lnTo>
                  <a:lnTo>
                    <a:pt x="1481" y="23"/>
                  </a:lnTo>
                  <a:lnTo>
                    <a:pt x="1482" y="27"/>
                  </a:lnTo>
                  <a:lnTo>
                    <a:pt x="1484" y="31"/>
                  </a:lnTo>
                  <a:lnTo>
                    <a:pt x="1485" y="36"/>
                  </a:lnTo>
                  <a:lnTo>
                    <a:pt x="47" y="1245"/>
                  </a:lnTo>
                  <a:lnTo>
                    <a:pt x="40" y="1244"/>
                  </a:lnTo>
                  <a:lnTo>
                    <a:pt x="35" y="1243"/>
                  </a:lnTo>
                  <a:lnTo>
                    <a:pt x="29" y="1241"/>
                  </a:lnTo>
                  <a:lnTo>
                    <a:pt x="24" y="1240"/>
                  </a:lnTo>
                  <a:lnTo>
                    <a:pt x="17" y="1239"/>
                  </a:lnTo>
                  <a:lnTo>
                    <a:pt x="12" y="1238"/>
                  </a:lnTo>
                  <a:lnTo>
                    <a:pt x="6" y="1238"/>
                  </a:lnTo>
                  <a:lnTo>
                    <a:pt x="0" y="1237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5338800" y="2206800"/>
              <a:ext cx="466560" cy="390240"/>
            </a:xfrm>
            <a:custGeom>
              <a:avLst/>
              <a:gdLst/>
              <a:ahLst/>
              <a:rect l="l" t="t" r="r" b="b"/>
              <a:pathLst>
                <a:path w="1469" h="1230">
                  <a:moveTo>
                    <a:pt x="0" y="1222"/>
                  </a:moveTo>
                  <a:lnTo>
                    <a:pt x="1455" y="0"/>
                  </a:lnTo>
                  <a:lnTo>
                    <a:pt x="1457" y="5"/>
                  </a:lnTo>
                  <a:lnTo>
                    <a:pt x="1458" y="9"/>
                  </a:lnTo>
                  <a:lnTo>
                    <a:pt x="1460" y="13"/>
                  </a:lnTo>
                  <a:lnTo>
                    <a:pt x="1461" y="18"/>
                  </a:lnTo>
                  <a:lnTo>
                    <a:pt x="1463" y="22"/>
                  </a:lnTo>
                  <a:lnTo>
                    <a:pt x="1464" y="26"/>
                  </a:lnTo>
                  <a:lnTo>
                    <a:pt x="1467" y="30"/>
                  </a:lnTo>
                  <a:lnTo>
                    <a:pt x="1469" y="35"/>
                  </a:lnTo>
                  <a:lnTo>
                    <a:pt x="45" y="1230"/>
                  </a:lnTo>
                  <a:lnTo>
                    <a:pt x="40" y="1229"/>
                  </a:lnTo>
                  <a:lnTo>
                    <a:pt x="34" y="1228"/>
                  </a:lnTo>
                  <a:lnTo>
                    <a:pt x="28" y="1227"/>
                  </a:lnTo>
                  <a:lnTo>
                    <a:pt x="23" y="1227"/>
                  </a:lnTo>
                  <a:lnTo>
                    <a:pt x="17" y="1226"/>
                  </a:lnTo>
                  <a:lnTo>
                    <a:pt x="11" y="1225"/>
                  </a:lnTo>
                  <a:lnTo>
                    <a:pt x="5" y="1223"/>
                  </a:lnTo>
                  <a:lnTo>
                    <a:pt x="0" y="1222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5346720" y="2211480"/>
              <a:ext cx="460440" cy="387360"/>
            </a:xfrm>
            <a:custGeom>
              <a:avLst/>
              <a:gdLst/>
              <a:ahLst/>
              <a:rect l="l" t="t" r="r" b="b"/>
              <a:pathLst>
                <a:path w="1452" h="1216">
                  <a:moveTo>
                    <a:pt x="0" y="1209"/>
                  </a:moveTo>
                  <a:lnTo>
                    <a:pt x="1438" y="0"/>
                  </a:lnTo>
                  <a:lnTo>
                    <a:pt x="1440" y="4"/>
                  </a:lnTo>
                  <a:lnTo>
                    <a:pt x="1443" y="8"/>
                  </a:lnTo>
                  <a:lnTo>
                    <a:pt x="1444" y="12"/>
                  </a:lnTo>
                  <a:lnTo>
                    <a:pt x="1446" y="17"/>
                  </a:lnTo>
                  <a:lnTo>
                    <a:pt x="1447" y="21"/>
                  </a:lnTo>
                  <a:lnTo>
                    <a:pt x="1449" y="25"/>
                  </a:lnTo>
                  <a:lnTo>
                    <a:pt x="1450" y="30"/>
                  </a:lnTo>
                  <a:lnTo>
                    <a:pt x="1452" y="34"/>
                  </a:lnTo>
                  <a:lnTo>
                    <a:pt x="45" y="1216"/>
                  </a:lnTo>
                  <a:lnTo>
                    <a:pt x="39" y="1215"/>
                  </a:lnTo>
                  <a:lnTo>
                    <a:pt x="34" y="1214"/>
                  </a:lnTo>
                  <a:lnTo>
                    <a:pt x="28" y="1213"/>
                  </a:lnTo>
                  <a:lnTo>
                    <a:pt x="22" y="1212"/>
                  </a:lnTo>
                  <a:lnTo>
                    <a:pt x="17" y="1211"/>
                  </a:lnTo>
                  <a:lnTo>
                    <a:pt x="10" y="1210"/>
                  </a:lnTo>
                  <a:lnTo>
                    <a:pt x="5" y="1209"/>
                  </a:lnTo>
                  <a:lnTo>
                    <a:pt x="0" y="1209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5353200" y="2217600"/>
              <a:ext cx="455400" cy="381240"/>
            </a:xfrm>
            <a:custGeom>
              <a:avLst/>
              <a:gdLst/>
              <a:ahLst/>
              <a:rect l="l" t="t" r="r" b="b"/>
              <a:pathLst>
                <a:path w="1437" h="1203">
                  <a:moveTo>
                    <a:pt x="0" y="1195"/>
                  </a:moveTo>
                  <a:lnTo>
                    <a:pt x="1424" y="0"/>
                  </a:lnTo>
                  <a:lnTo>
                    <a:pt x="1425" y="4"/>
                  </a:lnTo>
                  <a:lnTo>
                    <a:pt x="1427" y="8"/>
                  </a:lnTo>
                  <a:lnTo>
                    <a:pt x="1428" y="13"/>
                  </a:lnTo>
                  <a:lnTo>
                    <a:pt x="1430" y="17"/>
                  </a:lnTo>
                  <a:lnTo>
                    <a:pt x="1431" y="21"/>
                  </a:lnTo>
                  <a:lnTo>
                    <a:pt x="1434" y="26"/>
                  </a:lnTo>
                  <a:lnTo>
                    <a:pt x="1435" y="30"/>
                  </a:lnTo>
                  <a:lnTo>
                    <a:pt x="1437" y="34"/>
                  </a:lnTo>
                  <a:lnTo>
                    <a:pt x="47" y="1203"/>
                  </a:lnTo>
                  <a:lnTo>
                    <a:pt x="40" y="1201"/>
                  </a:lnTo>
                  <a:lnTo>
                    <a:pt x="35" y="1200"/>
                  </a:lnTo>
                  <a:lnTo>
                    <a:pt x="29" y="1200"/>
                  </a:lnTo>
                  <a:lnTo>
                    <a:pt x="23" y="1199"/>
                  </a:lnTo>
                  <a:lnTo>
                    <a:pt x="17" y="1198"/>
                  </a:lnTo>
                  <a:lnTo>
                    <a:pt x="12" y="1197"/>
                  </a:lnTo>
                  <a:lnTo>
                    <a:pt x="6" y="1196"/>
                  </a:lnTo>
                  <a:lnTo>
                    <a:pt x="0" y="1195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5361120" y="2222640"/>
              <a:ext cx="450720" cy="377640"/>
            </a:xfrm>
            <a:custGeom>
              <a:avLst/>
              <a:gdLst/>
              <a:ahLst/>
              <a:rect l="l" t="t" r="r" b="b"/>
              <a:pathLst>
                <a:path w="1420" h="1190">
                  <a:moveTo>
                    <a:pt x="0" y="1182"/>
                  </a:moveTo>
                  <a:lnTo>
                    <a:pt x="1407" y="0"/>
                  </a:lnTo>
                  <a:lnTo>
                    <a:pt x="1408" y="4"/>
                  </a:lnTo>
                  <a:lnTo>
                    <a:pt x="1411" y="9"/>
                  </a:lnTo>
                  <a:lnTo>
                    <a:pt x="1412" y="13"/>
                  </a:lnTo>
                  <a:lnTo>
                    <a:pt x="1414" y="17"/>
                  </a:lnTo>
                  <a:lnTo>
                    <a:pt x="1416" y="22"/>
                  </a:lnTo>
                  <a:lnTo>
                    <a:pt x="1417" y="26"/>
                  </a:lnTo>
                  <a:lnTo>
                    <a:pt x="1419" y="30"/>
                  </a:lnTo>
                  <a:lnTo>
                    <a:pt x="1420" y="35"/>
                  </a:lnTo>
                  <a:lnTo>
                    <a:pt x="46" y="1190"/>
                  </a:lnTo>
                  <a:lnTo>
                    <a:pt x="40" y="1189"/>
                  </a:lnTo>
                  <a:lnTo>
                    <a:pt x="34" y="1188"/>
                  </a:lnTo>
                  <a:lnTo>
                    <a:pt x="29" y="1187"/>
                  </a:lnTo>
                  <a:lnTo>
                    <a:pt x="24" y="1186"/>
                  </a:lnTo>
                  <a:lnTo>
                    <a:pt x="17" y="1184"/>
                  </a:lnTo>
                  <a:lnTo>
                    <a:pt x="12" y="1184"/>
                  </a:lnTo>
                  <a:lnTo>
                    <a:pt x="6" y="1183"/>
                  </a:lnTo>
                  <a:lnTo>
                    <a:pt x="0" y="1182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5367240" y="2228760"/>
              <a:ext cx="446040" cy="373320"/>
            </a:xfrm>
            <a:custGeom>
              <a:avLst/>
              <a:gdLst/>
              <a:ahLst/>
              <a:rect l="l" t="t" r="r" b="b"/>
              <a:pathLst>
                <a:path w="1403" h="1177">
                  <a:moveTo>
                    <a:pt x="0" y="1169"/>
                  </a:moveTo>
                  <a:lnTo>
                    <a:pt x="1390" y="0"/>
                  </a:lnTo>
                  <a:lnTo>
                    <a:pt x="1392" y="5"/>
                  </a:lnTo>
                  <a:lnTo>
                    <a:pt x="1393" y="9"/>
                  </a:lnTo>
                  <a:lnTo>
                    <a:pt x="1395" y="13"/>
                  </a:lnTo>
                  <a:lnTo>
                    <a:pt x="1396" y="18"/>
                  </a:lnTo>
                  <a:lnTo>
                    <a:pt x="1398" y="22"/>
                  </a:lnTo>
                  <a:lnTo>
                    <a:pt x="1399" y="27"/>
                  </a:lnTo>
                  <a:lnTo>
                    <a:pt x="1402" y="32"/>
                  </a:lnTo>
                  <a:lnTo>
                    <a:pt x="1403" y="36"/>
                  </a:lnTo>
                  <a:lnTo>
                    <a:pt x="45" y="1177"/>
                  </a:lnTo>
                  <a:lnTo>
                    <a:pt x="38" y="1176"/>
                  </a:lnTo>
                  <a:lnTo>
                    <a:pt x="33" y="1175"/>
                  </a:lnTo>
                  <a:lnTo>
                    <a:pt x="28" y="1174"/>
                  </a:lnTo>
                  <a:lnTo>
                    <a:pt x="22" y="1173"/>
                  </a:lnTo>
                  <a:lnTo>
                    <a:pt x="16" y="1172"/>
                  </a:lnTo>
                  <a:lnTo>
                    <a:pt x="10" y="1171"/>
                  </a:lnTo>
                  <a:lnTo>
                    <a:pt x="5" y="1170"/>
                  </a:lnTo>
                  <a:lnTo>
                    <a:pt x="0" y="1169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5375160" y="2233440"/>
              <a:ext cx="439920" cy="370080"/>
            </a:xfrm>
            <a:custGeom>
              <a:avLst/>
              <a:gdLst/>
              <a:ahLst/>
              <a:rect l="l" t="t" r="r" b="b"/>
              <a:pathLst>
                <a:path w="1387" h="1164">
                  <a:moveTo>
                    <a:pt x="0" y="1155"/>
                  </a:moveTo>
                  <a:lnTo>
                    <a:pt x="1374" y="0"/>
                  </a:lnTo>
                  <a:lnTo>
                    <a:pt x="1376" y="4"/>
                  </a:lnTo>
                  <a:lnTo>
                    <a:pt x="1377" y="9"/>
                  </a:lnTo>
                  <a:lnTo>
                    <a:pt x="1380" y="14"/>
                  </a:lnTo>
                  <a:lnTo>
                    <a:pt x="1381" y="18"/>
                  </a:lnTo>
                  <a:lnTo>
                    <a:pt x="1383" y="22"/>
                  </a:lnTo>
                  <a:lnTo>
                    <a:pt x="1384" y="27"/>
                  </a:lnTo>
                  <a:lnTo>
                    <a:pt x="1386" y="31"/>
                  </a:lnTo>
                  <a:lnTo>
                    <a:pt x="1387" y="35"/>
                  </a:lnTo>
                  <a:lnTo>
                    <a:pt x="46" y="1164"/>
                  </a:lnTo>
                  <a:lnTo>
                    <a:pt x="39" y="1162"/>
                  </a:lnTo>
                  <a:lnTo>
                    <a:pt x="34" y="1161"/>
                  </a:lnTo>
                  <a:lnTo>
                    <a:pt x="28" y="1160"/>
                  </a:lnTo>
                  <a:lnTo>
                    <a:pt x="23" y="1159"/>
                  </a:lnTo>
                  <a:lnTo>
                    <a:pt x="16" y="1158"/>
                  </a:lnTo>
                  <a:lnTo>
                    <a:pt x="11" y="1157"/>
                  </a:lnTo>
                  <a:lnTo>
                    <a:pt x="6" y="1156"/>
                  </a:lnTo>
                  <a:lnTo>
                    <a:pt x="0" y="1155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5381640" y="2239920"/>
              <a:ext cx="436680" cy="365040"/>
            </a:xfrm>
            <a:custGeom>
              <a:avLst/>
              <a:gdLst/>
              <a:ahLst/>
              <a:rect l="l" t="t" r="r" b="b"/>
              <a:pathLst>
                <a:path w="1371" h="1149">
                  <a:moveTo>
                    <a:pt x="0" y="1141"/>
                  </a:moveTo>
                  <a:lnTo>
                    <a:pt x="1358" y="0"/>
                  </a:lnTo>
                  <a:lnTo>
                    <a:pt x="1360" y="4"/>
                  </a:lnTo>
                  <a:lnTo>
                    <a:pt x="1361" y="9"/>
                  </a:lnTo>
                  <a:lnTo>
                    <a:pt x="1363" y="13"/>
                  </a:lnTo>
                  <a:lnTo>
                    <a:pt x="1364" y="17"/>
                  </a:lnTo>
                  <a:lnTo>
                    <a:pt x="1366" y="22"/>
                  </a:lnTo>
                  <a:lnTo>
                    <a:pt x="1367" y="26"/>
                  </a:lnTo>
                  <a:lnTo>
                    <a:pt x="1370" y="30"/>
                  </a:lnTo>
                  <a:lnTo>
                    <a:pt x="1371" y="35"/>
                  </a:lnTo>
                  <a:lnTo>
                    <a:pt x="45" y="1149"/>
                  </a:lnTo>
                  <a:lnTo>
                    <a:pt x="39" y="1149"/>
                  </a:lnTo>
                  <a:lnTo>
                    <a:pt x="33" y="1148"/>
                  </a:lnTo>
                  <a:lnTo>
                    <a:pt x="28" y="1147"/>
                  </a:lnTo>
                  <a:lnTo>
                    <a:pt x="23" y="1146"/>
                  </a:lnTo>
                  <a:lnTo>
                    <a:pt x="16" y="1144"/>
                  </a:lnTo>
                  <a:lnTo>
                    <a:pt x="11" y="1143"/>
                  </a:lnTo>
                  <a:lnTo>
                    <a:pt x="5" y="1142"/>
                  </a:lnTo>
                  <a:lnTo>
                    <a:pt x="0" y="1141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5389560" y="2244600"/>
              <a:ext cx="430200" cy="360360"/>
            </a:xfrm>
            <a:custGeom>
              <a:avLst/>
              <a:gdLst/>
              <a:ahLst/>
              <a:rect l="l" t="t" r="r" b="b"/>
              <a:pathLst>
                <a:path w="1354" h="1136">
                  <a:moveTo>
                    <a:pt x="0" y="1129"/>
                  </a:moveTo>
                  <a:lnTo>
                    <a:pt x="1341" y="0"/>
                  </a:lnTo>
                  <a:lnTo>
                    <a:pt x="1343" y="5"/>
                  </a:lnTo>
                  <a:lnTo>
                    <a:pt x="1344" y="9"/>
                  </a:lnTo>
                  <a:lnTo>
                    <a:pt x="1347" y="13"/>
                  </a:lnTo>
                  <a:lnTo>
                    <a:pt x="1348" y="18"/>
                  </a:lnTo>
                  <a:lnTo>
                    <a:pt x="1350" y="22"/>
                  </a:lnTo>
                  <a:lnTo>
                    <a:pt x="1351" y="27"/>
                  </a:lnTo>
                  <a:lnTo>
                    <a:pt x="1353" y="32"/>
                  </a:lnTo>
                  <a:lnTo>
                    <a:pt x="1354" y="36"/>
                  </a:lnTo>
                  <a:lnTo>
                    <a:pt x="44" y="1136"/>
                  </a:lnTo>
                  <a:lnTo>
                    <a:pt x="38" y="1135"/>
                  </a:lnTo>
                  <a:lnTo>
                    <a:pt x="33" y="1134"/>
                  </a:lnTo>
                  <a:lnTo>
                    <a:pt x="28" y="1133"/>
                  </a:lnTo>
                  <a:lnTo>
                    <a:pt x="22" y="1132"/>
                  </a:lnTo>
                  <a:lnTo>
                    <a:pt x="16" y="1132"/>
                  </a:lnTo>
                  <a:lnTo>
                    <a:pt x="10" y="1131"/>
                  </a:lnTo>
                  <a:lnTo>
                    <a:pt x="5" y="1130"/>
                  </a:lnTo>
                  <a:lnTo>
                    <a:pt x="0" y="1129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5396040" y="2251080"/>
              <a:ext cx="425160" cy="355680"/>
            </a:xfrm>
            <a:custGeom>
              <a:avLst/>
              <a:gdLst/>
              <a:ahLst/>
              <a:rect l="l" t="t" r="r" b="b"/>
              <a:pathLst>
                <a:path w="1339" h="1122">
                  <a:moveTo>
                    <a:pt x="0" y="1114"/>
                  </a:moveTo>
                  <a:lnTo>
                    <a:pt x="1326" y="0"/>
                  </a:lnTo>
                  <a:lnTo>
                    <a:pt x="1328" y="4"/>
                  </a:lnTo>
                  <a:lnTo>
                    <a:pt x="1329" y="8"/>
                  </a:lnTo>
                  <a:lnTo>
                    <a:pt x="1331" y="14"/>
                  </a:lnTo>
                  <a:lnTo>
                    <a:pt x="1332" y="18"/>
                  </a:lnTo>
                  <a:lnTo>
                    <a:pt x="1334" y="22"/>
                  </a:lnTo>
                  <a:lnTo>
                    <a:pt x="1335" y="27"/>
                  </a:lnTo>
                  <a:lnTo>
                    <a:pt x="1338" y="31"/>
                  </a:lnTo>
                  <a:lnTo>
                    <a:pt x="1339" y="35"/>
                  </a:lnTo>
                  <a:lnTo>
                    <a:pt x="45" y="1122"/>
                  </a:lnTo>
                  <a:lnTo>
                    <a:pt x="39" y="1121"/>
                  </a:lnTo>
                  <a:lnTo>
                    <a:pt x="34" y="1120"/>
                  </a:lnTo>
                  <a:lnTo>
                    <a:pt x="27" y="1119"/>
                  </a:lnTo>
                  <a:lnTo>
                    <a:pt x="22" y="1118"/>
                  </a:lnTo>
                  <a:lnTo>
                    <a:pt x="16" y="1117"/>
                  </a:lnTo>
                  <a:lnTo>
                    <a:pt x="11" y="1116"/>
                  </a:lnTo>
                  <a:lnTo>
                    <a:pt x="6" y="1115"/>
                  </a:lnTo>
                  <a:lnTo>
                    <a:pt x="0" y="1114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5403960" y="2255760"/>
              <a:ext cx="419040" cy="352440"/>
            </a:xfrm>
            <a:custGeom>
              <a:avLst/>
              <a:gdLst/>
              <a:ahLst/>
              <a:rect l="l" t="t" r="r" b="b"/>
              <a:pathLst>
                <a:path w="1323" h="1110">
                  <a:moveTo>
                    <a:pt x="0" y="1100"/>
                  </a:moveTo>
                  <a:lnTo>
                    <a:pt x="1310" y="0"/>
                  </a:lnTo>
                  <a:lnTo>
                    <a:pt x="1312" y="4"/>
                  </a:lnTo>
                  <a:lnTo>
                    <a:pt x="1313" y="9"/>
                  </a:lnTo>
                  <a:lnTo>
                    <a:pt x="1316" y="13"/>
                  </a:lnTo>
                  <a:lnTo>
                    <a:pt x="1317" y="17"/>
                  </a:lnTo>
                  <a:lnTo>
                    <a:pt x="1319" y="22"/>
                  </a:lnTo>
                  <a:lnTo>
                    <a:pt x="1320" y="26"/>
                  </a:lnTo>
                  <a:lnTo>
                    <a:pt x="1322" y="30"/>
                  </a:lnTo>
                  <a:lnTo>
                    <a:pt x="1323" y="35"/>
                  </a:lnTo>
                  <a:lnTo>
                    <a:pt x="45" y="1110"/>
                  </a:lnTo>
                  <a:lnTo>
                    <a:pt x="39" y="1109"/>
                  </a:lnTo>
                  <a:lnTo>
                    <a:pt x="33" y="1108"/>
                  </a:lnTo>
                  <a:lnTo>
                    <a:pt x="28" y="1107"/>
                  </a:lnTo>
                  <a:lnTo>
                    <a:pt x="23" y="1104"/>
                  </a:lnTo>
                  <a:lnTo>
                    <a:pt x="17" y="1103"/>
                  </a:lnTo>
                  <a:lnTo>
                    <a:pt x="12" y="1102"/>
                  </a:lnTo>
                  <a:lnTo>
                    <a:pt x="5" y="1101"/>
                  </a:lnTo>
                  <a:lnTo>
                    <a:pt x="0" y="110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5410080" y="2262240"/>
              <a:ext cx="416160" cy="347760"/>
            </a:xfrm>
            <a:custGeom>
              <a:avLst/>
              <a:gdLst/>
              <a:ahLst/>
              <a:rect l="l" t="t" r="r" b="b"/>
              <a:pathLst>
                <a:path w="1307" h="1097">
                  <a:moveTo>
                    <a:pt x="0" y="1087"/>
                  </a:moveTo>
                  <a:lnTo>
                    <a:pt x="1294" y="0"/>
                  </a:lnTo>
                  <a:lnTo>
                    <a:pt x="1296" y="5"/>
                  </a:lnTo>
                  <a:lnTo>
                    <a:pt x="1297" y="9"/>
                  </a:lnTo>
                  <a:lnTo>
                    <a:pt x="1299" y="13"/>
                  </a:lnTo>
                  <a:lnTo>
                    <a:pt x="1300" y="19"/>
                  </a:lnTo>
                  <a:lnTo>
                    <a:pt x="1302" y="23"/>
                  </a:lnTo>
                  <a:lnTo>
                    <a:pt x="1303" y="27"/>
                  </a:lnTo>
                  <a:lnTo>
                    <a:pt x="1305" y="32"/>
                  </a:lnTo>
                  <a:lnTo>
                    <a:pt x="1307" y="36"/>
                  </a:lnTo>
                  <a:lnTo>
                    <a:pt x="44" y="1097"/>
                  </a:lnTo>
                  <a:lnTo>
                    <a:pt x="38" y="1096"/>
                  </a:lnTo>
                  <a:lnTo>
                    <a:pt x="33" y="1095"/>
                  </a:lnTo>
                  <a:lnTo>
                    <a:pt x="28" y="1094"/>
                  </a:lnTo>
                  <a:lnTo>
                    <a:pt x="22" y="1093"/>
                  </a:lnTo>
                  <a:lnTo>
                    <a:pt x="16" y="1092"/>
                  </a:lnTo>
                  <a:lnTo>
                    <a:pt x="10" y="1091"/>
                  </a:lnTo>
                  <a:lnTo>
                    <a:pt x="5" y="1090"/>
                  </a:lnTo>
                  <a:lnTo>
                    <a:pt x="0" y="1087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5418000" y="2266920"/>
              <a:ext cx="409680" cy="344520"/>
            </a:xfrm>
            <a:custGeom>
              <a:avLst/>
              <a:gdLst/>
              <a:ahLst/>
              <a:rect l="l" t="t" r="r" b="b"/>
              <a:pathLst>
                <a:path w="1291" h="1083">
                  <a:moveTo>
                    <a:pt x="0" y="1075"/>
                  </a:moveTo>
                  <a:lnTo>
                    <a:pt x="1278" y="0"/>
                  </a:lnTo>
                  <a:lnTo>
                    <a:pt x="1280" y="5"/>
                  </a:lnTo>
                  <a:lnTo>
                    <a:pt x="1281" y="9"/>
                  </a:lnTo>
                  <a:lnTo>
                    <a:pt x="1283" y="14"/>
                  </a:lnTo>
                  <a:lnTo>
                    <a:pt x="1285" y="18"/>
                  </a:lnTo>
                  <a:lnTo>
                    <a:pt x="1287" y="22"/>
                  </a:lnTo>
                  <a:lnTo>
                    <a:pt x="1288" y="27"/>
                  </a:lnTo>
                  <a:lnTo>
                    <a:pt x="1289" y="31"/>
                  </a:lnTo>
                  <a:lnTo>
                    <a:pt x="1291" y="35"/>
                  </a:lnTo>
                  <a:lnTo>
                    <a:pt x="44" y="1083"/>
                  </a:lnTo>
                  <a:lnTo>
                    <a:pt x="38" y="1082"/>
                  </a:lnTo>
                  <a:lnTo>
                    <a:pt x="33" y="1081"/>
                  </a:lnTo>
                  <a:lnTo>
                    <a:pt x="27" y="1080"/>
                  </a:lnTo>
                  <a:lnTo>
                    <a:pt x="22" y="1079"/>
                  </a:lnTo>
                  <a:lnTo>
                    <a:pt x="16" y="1078"/>
                  </a:lnTo>
                  <a:lnTo>
                    <a:pt x="11" y="1077"/>
                  </a:lnTo>
                  <a:lnTo>
                    <a:pt x="6" y="1076"/>
                  </a:lnTo>
                  <a:lnTo>
                    <a:pt x="0" y="1075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5424480" y="2273400"/>
              <a:ext cx="405000" cy="339480"/>
            </a:xfrm>
            <a:custGeom>
              <a:avLst/>
              <a:gdLst/>
              <a:ahLst/>
              <a:rect l="l" t="t" r="r" b="b"/>
              <a:pathLst>
                <a:path w="1276" h="1070">
                  <a:moveTo>
                    <a:pt x="0" y="1061"/>
                  </a:moveTo>
                  <a:lnTo>
                    <a:pt x="1263" y="0"/>
                  </a:lnTo>
                  <a:lnTo>
                    <a:pt x="1265" y="4"/>
                  </a:lnTo>
                  <a:lnTo>
                    <a:pt x="1266" y="9"/>
                  </a:lnTo>
                  <a:lnTo>
                    <a:pt x="1267" y="13"/>
                  </a:lnTo>
                  <a:lnTo>
                    <a:pt x="1269" y="17"/>
                  </a:lnTo>
                  <a:lnTo>
                    <a:pt x="1270" y="23"/>
                  </a:lnTo>
                  <a:lnTo>
                    <a:pt x="1272" y="27"/>
                  </a:lnTo>
                  <a:lnTo>
                    <a:pt x="1273" y="31"/>
                  </a:lnTo>
                  <a:lnTo>
                    <a:pt x="1276" y="36"/>
                  </a:lnTo>
                  <a:lnTo>
                    <a:pt x="44" y="1070"/>
                  </a:lnTo>
                  <a:lnTo>
                    <a:pt x="39" y="1069"/>
                  </a:lnTo>
                  <a:lnTo>
                    <a:pt x="33" y="1068"/>
                  </a:lnTo>
                  <a:lnTo>
                    <a:pt x="28" y="1067"/>
                  </a:lnTo>
                  <a:lnTo>
                    <a:pt x="22" y="1065"/>
                  </a:lnTo>
                  <a:lnTo>
                    <a:pt x="16" y="1064"/>
                  </a:lnTo>
                  <a:lnTo>
                    <a:pt x="11" y="1063"/>
                  </a:lnTo>
                  <a:lnTo>
                    <a:pt x="5" y="1062"/>
                  </a:lnTo>
                  <a:lnTo>
                    <a:pt x="0" y="1061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5432400" y="2278080"/>
              <a:ext cx="398520" cy="336600"/>
            </a:xfrm>
            <a:custGeom>
              <a:avLst/>
              <a:gdLst/>
              <a:ahLst/>
              <a:rect l="l" t="t" r="r" b="b"/>
              <a:pathLst>
                <a:path w="1259" h="1058">
                  <a:moveTo>
                    <a:pt x="0" y="1048"/>
                  </a:moveTo>
                  <a:lnTo>
                    <a:pt x="1247" y="0"/>
                  </a:lnTo>
                  <a:lnTo>
                    <a:pt x="1248" y="6"/>
                  </a:lnTo>
                  <a:lnTo>
                    <a:pt x="1250" y="10"/>
                  </a:lnTo>
                  <a:lnTo>
                    <a:pt x="1251" y="14"/>
                  </a:lnTo>
                  <a:lnTo>
                    <a:pt x="1254" y="19"/>
                  </a:lnTo>
                  <a:lnTo>
                    <a:pt x="1255" y="23"/>
                  </a:lnTo>
                  <a:lnTo>
                    <a:pt x="1257" y="27"/>
                  </a:lnTo>
                  <a:lnTo>
                    <a:pt x="1258" y="32"/>
                  </a:lnTo>
                  <a:lnTo>
                    <a:pt x="1259" y="37"/>
                  </a:lnTo>
                  <a:lnTo>
                    <a:pt x="44" y="1058"/>
                  </a:lnTo>
                  <a:lnTo>
                    <a:pt x="38" y="1057"/>
                  </a:lnTo>
                  <a:lnTo>
                    <a:pt x="33" y="1055"/>
                  </a:lnTo>
                  <a:lnTo>
                    <a:pt x="27" y="1054"/>
                  </a:lnTo>
                  <a:lnTo>
                    <a:pt x="22" y="1053"/>
                  </a:lnTo>
                  <a:lnTo>
                    <a:pt x="17" y="1052"/>
                  </a:lnTo>
                  <a:lnTo>
                    <a:pt x="11" y="1051"/>
                  </a:lnTo>
                  <a:lnTo>
                    <a:pt x="6" y="1050"/>
                  </a:lnTo>
                  <a:lnTo>
                    <a:pt x="0" y="1048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5438880" y="2284560"/>
              <a:ext cx="395280" cy="331560"/>
            </a:xfrm>
            <a:custGeom>
              <a:avLst/>
              <a:gdLst/>
              <a:ahLst/>
              <a:rect l="l" t="t" r="r" b="b"/>
              <a:pathLst>
                <a:path w="1243" h="1043">
                  <a:moveTo>
                    <a:pt x="0" y="1034"/>
                  </a:moveTo>
                  <a:lnTo>
                    <a:pt x="1232" y="0"/>
                  </a:lnTo>
                  <a:lnTo>
                    <a:pt x="1233" y="4"/>
                  </a:lnTo>
                  <a:lnTo>
                    <a:pt x="1235" y="8"/>
                  </a:lnTo>
                  <a:lnTo>
                    <a:pt x="1236" y="13"/>
                  </a:lnTo>
                  <a:lnTo>
                    <a:pt x="1237" y="18"/>
                  </a:lnTo>
                  <a:lnTo>
                    <a:pt x="1239" y="22"/>
                  </a:lnTo>
                  <a:lnTo>
                    <a:pt x="1240" y="27"/>
                  </a:lnTo>
                  <a:lnTo>
                    <a:pt x="1242" y="31"/>
                  </a:lnTo>
                  <a:lnTo>
                    <a:pt x="1243" y="35"/>
                  </a:lnTo>
                  <a:lnTo>
                    <a:pt x="43" y="1043"/>
                  </a:lnTo>
                  <a:lnTo>
                    <a:pt x="38" y="1042"/>
                  </a:lnTo>
                  <a:lnTo>
                    <a:pt x="32" y="1041"/>
                  </a:lnTo>
                  <a:lnTo>
                    <a:pt x="27" y="1040"/>
                  </a:lnTo>
                  <a:lnTo>
                    <a:pt x="22" y="1039"/>
                  </a:lnTo>
                  <a:lnTo>
                    <a:pt x="16" y="1038"/>
                  </a:lnTo>
                  <a:lnTo>
                    <a:pt x="11" y="1037"/>
                  </a:lnTo>
                  <a:lnTo>
                    <a:pt x="5" y="1035"/>
                  </a:lnTo>
                  <a:lnTo>
                    <a:pt x="0" y="1034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5445000" y="2290680"/>
              <a:ext cx="390600" cy="327240"/>
            </a:xfrm>
            <a:custGeom>
              <a:avLst/>
              <a:gdLst/>
              <a:ahLst/>
              <a:rect l="l" t="t" r="r" b="b"/>
              <a:pathLst>
                <a:path w="1228" h="1031">
                  <a:moveTo>
                    <a:pt x="0" y="1021"/>
                  </a:moveTo>
                  <a:lnTo>
                    <a:pt x="1215" y="0"/>
                  </a:lnTo>
                  <a:lnTo>
                    <a:pt x="1217" y="4"/>
                  </a:lnTo>
                  <a:lnTo>
                    <a:pt x="1218" y="9"/>
                  </a:lnTo>
                  <a:lnTo>
                    <a:pt x="1220" y="13"/>
                  </a:lnTo>
                  <a:lnTo>
                    <a:pt x="1221" y="17"/>
                  </a:lnTo>
                  <a:lnTo>
                    <a:pt x="1224" y="22"/>
                  </a:lnTo>
                  <a:lnTo>
                    <a:pt x="1225" y="27"/>
                  </a:lnTo>
                  <a:lnTo>
                    <a:pt x="1226" y="31"/>
                  </a:lnTo>
                  <a:lnTo>
                    <a:pt x="1228" y="36"/>
                  </a:lnTo>
                  <a:lnTo>
                    <a:pt x="43" y="1031"/>
                  </a:lnTo>
                  <a:lnTo>
                    <a:pt x="37" y="1030"/>
                  </a:lnTo>
                  <a:lnTo>
                    <a:pt x="32" y="1028"/>
                  </a:lnTo>
                  <a:lnTo>
                    <a:pt x="27" y="1027"/>
                  </a:lnTo>
                  <a:lnTo>
                    <a:pt x="21" y="1025"/>
                  </a:lnTo>
                  <a:lnTo>
                    <a:pt x="16" y="1024"/>
                  </a:lnTo>
                  <a:lnTo>
                    <a:pt x="10" y="1023"/>
                  </a:lnTo>
                  <a:lnTo>
                    <a:pt x="5" y="1022"/>
                  </a:lnTo>
                  <a:lnTo>
                    <a:pt x="0" y="1021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5452920" y="2295360"/>
              <a:ext cx="384480" cy="324000"/>
            </a:xfrm>
            <a:custGeom>
              <a:avLst/>
              <a:gdLst/>
              <a:ahLst/>
              <a:rect l="l" t="t" r="r" b="b"/>
              <a:pathLst>
                <a:path w="1213" h="1018">
                  <a:moveTo>
                    <a:pt x="0" y="1008"/>
                  </a:moveTo>
                  <a:lnTo>
                    <a:pt x="1200" y="0"/>
                  </a:lnTo>
                  <a:lnTo>
                    <a:pt x="1203" y="5"/>
                  </a:lnTo>
                  <a:lnTo>
                    <a:pt x="1204" y="10"/>
                  </a:lnTo>
                  <a:lnTo>
                    <a:pt x="1205" y="14"/>
                  </a:lnTo>
                  <a:lnTo>
                    <a:pt x="1207" y="19"/>
                  </a:lnTo>
                  <a:lnTo>
                    <a:pt x="1208" y="23"/>
                  </a:lnTo>
                  <a:lnTo>
                    <a:pt x="1210" y="27"/>
                  </a:lnTo>
                  <a:lnTo>
                    <a:pt x="1211" y="32"/>
                  </a:lnTo>
                  <a:lnTo>
                    <a:pt x="1213" y="36"/>
                  </a:lnTo>
                  <a:lnTo>
                    <a:pt x="43" y="1018"/>
                  </a:lnTo>
                  <a:lnTo>
                    <a:pt x="38" y="1017"/>
                  </a:lnTo>
                  <a:lnTo>
                    <a:pt x="33" y="1016"/>
                  </a:lnTo>
                  <a:lnTo>
                    <a:pt x="27" y="1015"/>
                  </a:lnTo>
                  <a:lnTo>
                    <a:pt x="22" y="1014"/>
                  </a:lnTo>
                  <a:lnTo>
                    <a:pt x="16" y="1013"/>
                  </a:lnTo>
                  <a:lnTo>
                    <a:pt x="11" y="1011"/>
                  </a:lnTo>
                  <a:lnTo>
                    <a:pt x="6" y="1010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5459400" y="2301840"/>
              <a:ext cx="379440" cy="318960"/>
            </a:xfrm>
            <a:custGeom>
              <a:avLst/>
              <a:gdLst/>
              <a:ahLst/>
              <a:rect l="l" t="t" r="r" b="b"/>
              <a:pathLst>
                <a:path w="1197" h="1005">
                  <a:moveTo>
                    <a:pt x="0" y="995"/>
                  </a:moveTo>
                  <a:lnTo>
                    <a:pt x="1185" y="0"/>
                  </a:lnTo>
                  <a:lnTo>
                    <a:pt x="1186" y="4"/>
                  </a:lnTo>
                  <a:lnTo>
                    <a:pt x="1188" y="8"/>
                  </a:lnTo>
                  <a:lnTo>
                    <a:pt x="1189" y="13"/>
                  </a:lnTo>
                  <a:lnTo>
                    <a:pt x="1190" y="17"/>
                  </a:lnTo>
                  <a:lnTo>
                    <a:pt x="1192" y="22"/>
                  </a:lnTo>
                  <a:lnTo>
                    <a:pt x="1193" y="27"/>
                  </a:lnTo>
                  <a:lnTo>
                    <a:pt x="1196" y="31"/>
                  </a:lnTo>
                  <a:lnTo>
                    <a:pt x="1197" y="35"/>
                  </a:lnTo>
                  <a:lnTo>
                    <a:pt x="43" y="1005"/>
                  </a:lnTo>
                  <a:lnTo>
                    <a:pt x="38" y="1004"/>
                  </a:lnTo>
                  <a:lnTo>
                    <a:pt x="32" y="1002"/>
                  </a:lnTo>
                  <a:lnTo>
                    <a:pt x="27" y="1001"/>
                  </a:lnTo>
                  <a:lnTo>
                    <a:pt x="21" y="999"/>
                  </a:lnTo>
                  <a:lnTo>
                    <a:pt x="16" y="998"/>
                  </a:lnTo>
                  <a:lnTo>
                    <a:pt x="11" y="997"/>
                  </a:lnTo>
                  <a:lnTo>
                    <a:pt x="5" y="996"/>
                  </a:lnTo>
                  <a:lnTo>
                    <a:pt x="0" y="995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5465880" y="2306520"/>
              <a:ext cx="376200" cy="316080"/>
            </a:xfrm>
            <a:custGeom>
              <a:avLst/>
              <a:gdLst/>
              <a:ahLst/>
              <a:rect l="l" t="t" r="r" b="b"/>
              <a:pathLst>
                <a:path w="1182" h="993">
                  <a:moveTo>
                    <a:pt x="0" y="982"/>
                  </a:moveTo>
                  <a:lnTo>
                    <a:pt x="1170" y="0"/>
                  </a:lnTo>
                  <a:lnTo>
                    <a:pt x="1171" y="5"/>
                  </a:lnTo>
                  <a:lnTo>
                    <a:pt x="1172" y="10"/>
                  </a:lnTo>
                  <a:lnTo>
                    <a:pt x="1175" y="14"/>
                  </a:lnTo>
                  <a:lnTo>
                    <a:pt x="1176" y="18"/>
                  </a:lnTo>
                  <a:lnTo>
                    <a:pt x="1177" y="23"/>
                  </a:lnTo>
                  <a:lnTo>
                    <a:pt x="1179" y="28"/>
                  </a:lnTo>
                  <a:lnTo>
                    <a:pt x="1180" y="32"/>
                  </a:lnTo>
                  <a:lnTo>
                    <a:pt x="1182" y="37"/>
                  </a:lnTo>
                  <a:lnTo>
                    <a:pt x="44" y="993"/>
                  </a:lnTo>
                  <a:lnTo>
                    <a:pt x="38" y="992"/>
                  </a:lnTo>
                  <a:lnTo>
                    <a:pt x="33" y="991"/>
                  </a:lnTo>
                  <a:lnTo>
                    <a:pt x="27" y="990"/>
                  </a:lnTo>
                  <a:lnTo>
                    <a:pt x="22" y="988"/>
                  </a:lnTo>
                  <a:lnTo>
                    <a:pt x="17" y="987"/>
                  </a:lnTo>
                  <a:lnTo>
                    <a:pt x="11" y="985"/>
                  </a:lnTo>
                  <a:lnTo>
                    <a:pt x="6" y="984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5473800" y="2313000"/>
              <a:ext cx="369720" cy="311040"/>
            </a:xfrm>
            <a:custGeom>
              <a:avLst/>
              <a:gdLst/>
              <a:ahLst/>
              <a:rect l="l" t="t" r="r" b="b"/>
              <a:pathLst>
                <a:path w="1166" h="980">
                  <a:moveTo>
                    <a:pt x="0" y="970"/>
                  </a:moveTo>
                  <a:lnTo>
                    <a:pt x="1154" y="0"/>
                  </a:lnTo>
                  <a:lnTo>
                    <a:pt x="1155" y="5"/>
                  </a:lnTo>
                  <a:lnTo>
                    <a:pt x="1157" y="10"/>
                  </a:lnTo>
                  <a:lnTo>
                    <a:pt x="1158" y="14"/>
                  </a:lnTo>
                  <a:lnTo>
                    <a:pt x="1160" y="19"/>
                  </a:lnTo>
                  <a:lnTo>
                    <a:pt x="1161" y="23"/>
                  </a:lnTo>
                  <a:lnTo>
                    <a:pt x="1162" y="27"/>
                  </a:lnTo>
                  <a:lnTo>
                    <a:pt x="1165" y="33"/>
                  </a:lnTo>
                  <a:lnTo>
                    <a:pt x="1166" y="37"/>
                  </a:lnTo>
                  <a:lnTo>
                    <a:pt x="42" y="980"/>
                  </a:lnTo>
                  <a:lnTo>
                    <a:pt x="37" y="979"/>
                  </a:lnTo>
                  <a:lnTo>
                    <a:pt x="31" y="978"/>
                  </a:lnTo>
                  <a:lnTo>
                    <a:pt x="27" y="976"/>
                  </a:lnTo>
                  <a:lnTo>
                    <a:pt x="22" y="975"/>
                  </a:lnTo>
                  <a:lnTo>
                    <a:pt x="16" y="974"/>
                  </a:lnTo>
                  <a:lnTo>
                    <a:pt x="11" y="973"/>
                  </a:lnTo>
                  <a:lnTo>
                    <a:pt x="5" y="971"/>
                  </a:lnTo>
                  <a:lnTo>
                    <a:pt x="0" y="97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5479920" y="2319480"/>
              <a:ext cx="365400" cy="306360"/>
            </a:xfrm>
            <a:custGeom>
              <a:avLst/>
              <a:gdLst/>
              <a:ahLst/>
              <a:rect l="l" t="t" r="r" b="b"/>
              <a:pathLst>
                <a:path w="1150" h="967">
                  <a:moveTo>
                    <a:pt x="0" y="956"/>
                  </a:moveTo>
                  <a:lnTo>
                    <a:pt x="1138" y="0"/>
                  </a:lnTo>
                  <a:lnTo>
                    <a:pt x="1139" y="4"/>
                  </a:lnTo>
                  <a:lnTo>
                    <a:pt x="1140" y="8"/>
                  </a:lnTo>
                  <a:lnTo>
                    <a:pt x="1143" y="14"/>
                  </a:lnTo>
                  <a:lnTo>
                    <a:pt x="1144" y="18"/>
                  </a:lnTo>
                  <a:lnTo>
                    <a:pt x="1145" y="22"/>
                  </a:lnTo>
                  <a:lnTo>
                    <a:pt x="1147" y="27"/>
                  </a:lnTo>
                  <a:lnTo>
                    <a:pt x="1148" y="31"/>
                  </a:lnTo>
                  <a:lnTo>
                    <a:pt x="1150" y="35"/>
                  </a:lnTo>
                  <a:lnTo>
                    <a:pt x="42" y="967"/>
                  </a:lnTo>
                  <a:lnTo>
                    <a:pt x="36" y="966"/>
                  </a:lnTo>
                  <a:lnTo>
                    <a:pt x="31" y="965"/>
                  </a:lnTo>
                  <a:lnTo>
                    <a:pt x="25" y="963"/>
                  </a:lnTo>
                  <a:lnTo>
                    <a:pt x="20" y="961"/>
                  </a:lnTo>
                  <a:lnTo>
                    <a:pt x="15" y="960"/>
                  </a:lnTo>
                  <a:lnTo>
                    <a:pt x="9" y="959"/>
                  </a:lnTo>
                  <a:lnTo>
                    <a:pt x="5" y="957"/>
                  </a:lnTo>
                  <a:lnTo>
                    <a:pt x="0" y="956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5486400" y="2324160"/>
              <a:ext cx="360360" cy="303120"/>
            </a:xfrm>
            <a:custGeom>
              <a:avLst/>
              <a:gdLst/>
              <a:ahLst/>
              <a:rect l="l" t="t" r="r" b="b"/>
              <a:pathLst>
                <a:path w="1135" h="954">
                  <a:moveTo>
                    <a:pt x="0" y="943"/>
                  </a:moveTo>
                  <a:lnTo>
                    <a:pt x="1124" y="0"/>
                  </a:lnTo>
                  <a:lnTo>
                    <a:pt x="1125" y="4"/>
                  </a:lnTo>
                  <a:lnTo>
                    <a:pt x="1127" y="9"/>
                  </a:lnTo>
                  <a:lnTo>
                    <a:pt x="1128" y="13"/>
                  </a:lnTo>
                  <a:lnTo>
                    <a:pt x="1130" y="18"/>
                  </a:lnTo>
                  <a:lnTo>
                    <a:pt x="1131" y="23"/>
                  </a:lnTo>
                  <a:lnTo>
                    <a:pt x="1132" y="27"/>
                  </a:lnTo>
                  <a:lnTo>
                    <a:pt x="1134" y="31"/>
                  </a:lnTo>
                  <a:lnTo>
                    <a:pt x="1135" y="36"/>
                  </a:lnTo>
                  <a:lnTo>
                    <a:pt x="42" y="954"/>
                  </a:lnTo>
                  <a:lnTo>
                    <a:pt x="37" y="953"/>
                  </a:lnTo>
                  <a:lnTo>
                    <a:pt x="31" y="952"/>
                  </a:lnTo>
                  <a:lnTo>
                    <a:pt x="26" y="951"/>
                  </a:lnTo>
                  <a:lnTo>
                    <a:pt x="22" y="949"/>
                  </a:lnTo>
                  <a:lnTo>
                    <a:pt x="16" y="948"/>
                  </a:lnTo>
                  <a:lnTo>
                    <a:pt x="11" y="947"/>
                  </a:lnTo>
                  <a:lnTo>
                    <a:pt x="5" y="945"/>
                  </a:lnTo>
                  <a:lnTo>
                    <a:pt x="0" y="943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5492880" y="2330280"/>
              <a:ext cx="355320" cy="300240"/>
            </a:xfrm>
            <a:custGeom>
              <a:avLst/>
              <a:gdLst/>
              <a:ahLst/>
              <a:rect l="l" t="t" r="r" b="b"/>
              <a:pathLst>
                <a:path w="1119" h="944">
                  <a:moveTo>
                    <a:pt x="0" y="932"/>
                  </a:moveTo>
                  <a:lnTo>
                    <a:pt x="1108" y="0"/>
                  </a:lnTo>
                  <a:lnTo>
                    <a:pt x="1109" y="6"/>
                  </a:lnTo>
                  <a:lnTo>
                    <a:pt x="1110" y="10"/>
                  </a:lnTo>
                  <a:lnTo>
                    <a:pt x="1112" y="14"/>
                  </a:lnTo>
                  <a:lnTo>
                    <a:pt x="1113" y="19"/>
                  </a:lnTo>
                  <a:lnTo>
                    <a:pt x="1115" y="24"/>
                  </a:lnTo>
                  <a:lnTo>
                    <a:pt x="1117" y="28"/>
                  </a:lnTo>
                  <a:lnTo>
                    <a:pt x="1118" y="33"/>
                  </a:lnTo>
                  <a:lnTo>
                    <a:pt x="1119" y="37"/>
                  </a:lnTo>
                  <a:lnTo>
                    <a:pt x="41" y="944"/>
                  </a:lnTo>
                  <a:lnTo>
                    <a:pt x="35" y="942"/>
                  </a:lnTo>
                  <a:lnTo>
                    <a:pt x="30" y="940"/>
                  </a:lnTo>
                  <a:lnTo>
                    <a:pt x="26" y="939"/>
                  </a:lnTo>
                  <a:lnTo>
                    <a:pt x="20" y="937"/>
                  </a:lnTo>
                  <a:lnTo>
                    <a:pt x="15" y="936"/>
                  </a:lnTo>
                  <a:lnTo>
                    <a:pt x="9" y="935"/>
                  </a:lnTo>
                  <a:lnTo>
                    <a:pt x="4" y="934"/>
                  </a:lnTo>
                  <a:lnTo>
                    <a:pt x="0" y="932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5499000" y="2336760"/>
              <a:ext cx="351000" cy="295200"/>
            </a:xfrm>
            <a:custGeom>
              <a:avLst/>
              <a:gdLst/>
              <a:ahLst/>
              <a:rect l="l" t="t" r="r" b="b"/>
              <a:pathLst>
                <a:path w="1105" h="930">
                  <a:moveTo>
                    <a:pt x="0" y="918"/>
                  </a:moveTo>
                  <a:lnTo>
                    <a:pt x="1093" y="0"/>
                  </a:lnTo>
                  <a:lnTo>
                    <a:pt x="1095" y="5"/>
                  </a:lnTo>
                  <a:lnTo>
                    <a:pt x="1097" y="9"/>
                  </a:lnTo>
                  <a:lnTo>
                    <a:pt x="1098" y="14"/>
                  </a:lnTo>
                  <a:lnTo>
                    <a:pt x="1099" y="18"/>
                  </a:lnTo>
                  <a:lnTo>
                    <a:pt x="1101" y="23"/>
                  </a:lnTo>
                  <a:lnTo>
                    <a:pt x="1102" y="28"/>
                  </a:lnTo>
                  <a:lnTo>
                    <a:pt x="1103" y="32"/>
                  </a:lnTo>
                  <a:lnTo>
                    <a:pt x="1105" y="36"/>
                  </a:lnTo>
                  <a:lnTo>
                    <a:pt x="41" y="930"/>
                  </a:lnTo>
                  <a:lnTo>
                    <a:pt x="36" y="929"/>
                  </a:lnTo>
                  <a:lnTo>
                    <a:pt x="31" y="927"/>
                  </a:lnTo>
                  <a:lnTo>
                    <a:pt x="26" y="926"/>
                  </a:lnTo>
                  <a:lnTo>
                    <a:pt x="21" y="925"/>
                  </a:lnTo>
                  <a:lnTo>
                    <a:pt x="15" y="923"/>
                  </a:lnTo>
                  <a:lnTo>
                    <a:pt x="11" y="921"/>
                  </a:lnTo>
                  <a:lnTo>
                    <a:pt x="6" y="920"/>
                  </a:lnTo>
                  <a:lnTo>
                    <a:pt x="0" y="91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5506920" y="2341440"/>
              <a:ext cx="346320" cy="292320"/>
            </a:xfrm>
            <a:custGeom>
              <a:avLst/>
              <a:gdLst/>
              <a:ahLst/>
              <a:rect l="l" t="t" r="r" b="b"/>
              <a:pathLst>
                <a:path w="1090" h="919">
                  <a:moveTo>
                    <a:pt x="0" y="907"/>
                  </a:moveTo>
                  <a:lnTo>
                    <a:pt x="1078" y="0"/>
                  </a:lnTo>
                  <a:lnTo>
                    <a:pt x="1080" y="4"/>
                  </a:lnTo>
                  <a:lnTo>
                    <a:pt x="1081" y="10"/>
                  </a:lnTo>
                  <a:lnTo>
                    <a:pt x="1082" y="14"/>
                  </a:lnTo>
                  <a:lnTo>
                    <a:pt x="1084" y="18"/>
                  </a:lnTo>
                  <a:lnTo>
                    <a:pt x="1085" y="23"/>
                  </a:lnTo>
                  <a:lnTo>
                    <a:pt x="1086" y="28"/>
                  </a:lnTo>
                  <a:lnTo>
                    <a:pt x="1089" y="32"/>
                  </a:lnTo>
                  <a:lnTo>
                    <a:pt x="1090" y="37"/>
                  </a:lnTo>
                  <a:lnTo>
                    <a:pt x="41" y="919"/>
                  </a:lnTo>
                  <a:lnTo>
                    <a:pt x="35" y="916"/>
                  </a:lnTo>
                  <a:lnTo>
                    <a:pt x="30" y="915"/>
                  </a:lnTo>
                  <a:lnTo>
                    <a:pt x="26" y="914"/>
                  </a:lnTo>
                  <a:lnTo>
                    <a:pt x="20" y="912"/>
                  </a:lnTo>
                  <a:lnTo>
                    <a:pt x="15" y="911"/>
                  </a:lnTo>
                  <a:lnTo>
                    <a:pt x="10" y="910"/>
                  </a:lnTo>
                  <a:lnTo>
                    <a:pt x="5" y="908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5513400" y="2347920"/>
              <a:ext cx="341280" cy="287280"/>
            </a:xfrm>
            <a:custGeom>
              <a:avLst/>
              <a:gdLst/>
              <a:ahLst/>
              <a:rect l="l" t="t" r="r" b="b"/>
              <a:pathLst>
                <a:path w="1075" h="906">
                  <a:moveTo>
                    <a:pt x="0" y="894"/>
                  </a:moveTo>
                  <a:lnTo>
                    <a:pt x="1064" y="0"/>
                  </a:lnTo>
                  <a:lnTo>
                    <a:pt x="1065" y="5"/>
                  </a:lnTo>
                  <a:lnTo>
                    <a:pt x="1066" y="10"/>
                  </a:lnTo>
                  <a:lnTo>
                    <a:pt x="1069" y="14"/>
                  </a:lnTo>
                  <a:lnTo>
                    <a:pt x="1070" y="19"/>
                  </a:lnTo>
                  <a:lnTo>
                    <a:pt x="1071" y="23"/>
                  </a:lnTo>
                  <a:lnTo>
                    <a:pt x="1073" y="29"/>
                  </a:lnTo>
                  <a:lnTo>
                    <a:pt x="1074" y="33"/>
                  </a:lnTo>
                  <a:lnTo>
                    <a:pt x="1075" y="37"/>
                  </a:lnTo>
                  <a:lnTo>
                    <a:pt x="41" y="906"/>
                  </a:lnTo>
                  <a:lnTo>
                    <a:pt x="36" y="905"/>
                  </a:lnTo>
                  <a:lnTo>
                    <a:pt x="30" y="904"/>
                  </a:lnTo>
                  <a:lnTo>
                    <a:pt x="26" y="902"/>
                  </a:lnTo>
                  <a:lnTo>
                    <a:pt x="21" y="901"/>
                  </a:lnTo>
                  <a:lnTo>
                    <a:pt x="15" y="898"/>
                  </a:lnTo>
                  <a:lnTo>
                    <a:pt x="11" y="897"/>
                  </a:lnTo>
                  <a:lnTo>
                    <a:pt x="6" y="896"/>
                  </a:lnTo>
                  <a:lnTo>
                    <a:pt x="0" y="894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5519880" y="2354400"/>
              <a:ext cx="336240" cy="282600"/>
            </a:xfrm>
            <a:custGeom>
              <a:avLst/>
              <a:gdLst/>
              <a:ahLst/>
              <a:rect l="l" t="t" r="r" b="b"/>
              <a:pathLst>
                <a:path w="1060" h="893">
                  <a:moveTo>
                    <a:pt x="0" y="882"/>
                  </a:moveTo>
                  <a:lnTo>
                    <a:pt x="1049" y="0"/>
                  </a:lnTo>
                  <a:lnTo>
                    <a:pt x="1050" y="4"/>
                  </a:lnTo>
                  <a:lnTo>
                    <a:pt x="1052" y="10"/>
                  </a:lnTo>
                  <a:lnTo>
                    <a:pt x="1053" y="14"/>
                  </a:lnTo>
                  <a:lnTo>
                    <a:pt x="1054" y="18"/>
                  </a:lnTo>
                  <a:lnTo>
                    <a:pt x="1055" y="23"/>
                  </a:lnTo>
                  <a:lnTo>
                    <a:pt x="1057" y="28"/>
                  </a:lnTo>
                  <a:lnTo>
                    <a:pt x="1058" y="32"/>
                  </a:lnTo>
                  <a:lnTo>
                    <a:pt x="1060" y="37"/>
                  </a:lnTo>
                  <a:lnTo>
                    <a:pt x="40" y="893"/>
                  </a:lnTo>
                  <a:lnTo>
                    <a:pt x="35" y="892"/>
                  </a:lnTo>
                  <a:lnTo>
                    <a:pt x="30" y="890"/>
                  </a:lnTo>
                  <a:lnTo>
                    <a:pt x="24" y="889"/>
                  </a:lnTo>
                  <a:lnTo>
                    <a:pt x="20" y="887"/>
                  </a:lnTo>
                  <a:lnTo>
                    <a:pt x="15" y="886"/>
                  </a:lnTo>
                  <a:lnTo>
                    <a:pt x="9" y="885"/>
                  </a:lnTo>
                  <a:lnTo>
                    <a:pt x="5" y="883"/>
                  </a:lnTo>
                  <a:lnTo>
                    <a:pt x="0" y="882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5526000" y="2359080"/>
              <a:ext cx="331920" cy="280800"/>
            </a:xfrm>
            <a:custGeom>
              <a:avLst/>
              <a:gdLst/>
              <a:ahLst/>
              <a:rect l="l" t="t" r="r" b="b"/>
              <a:pathLst>
                <a:path w="1046" h="882">
                  <a:moveTo>
                    <a:pt x="0" y="869"/>
                  </a:moveTo>
                  <a:lnTo>
                    <a:pt x="1034" y="0"/>
                  </a:lnTo>
                  <a:lnTo>
                    <a:pt x="1035" y="5"/>
                  </a:lnTo>
                  <a:lnTo>
                    <a:pt x="1037" y="10"/>
                  </a:lnTo>
                  <a:lnTo>
                    <a:pt x="1038" y="14"/>
                  </a:lnTo>
                  <a:lnTo>
                    <a:pt x="1040" y="19"/>
                  </a:lnTo>
                  <a:lnTo>
                    <a:pt x="1042" y="23"/>
                  </a:lnTo>
                  <a:lnTo>
                    <a:pt x="1043" y="28"/>
                  </a:lnTo>
                  <a:lnTo>
                    <a:pt x="1044" y="33"/>
                  </a:lnTo>
                  <a:lnTo>
                    <a:pt x="1046" y="37"/>
                  </a:lnTo>
                  <a:lnTo>
                    <a:pt x="40" y="882"/>
                  </a:lnTo>
                  <a:lnTo>
                    <a:pt x="35" y="881"/>
                  </a:lnTo>
                  <a:lnTo>
                    <a:pt x="30" y="879"/>
                  </a:lnTo>
                  <a:lnTo>
                    <a:pt x="25" y="878"/>
                  </a:lnTo>
                  <a:lnTo>
                    <a:pt x="20" y="875"/>
                  </a:lnTo>
                  <a:lnTo>
                    <a:pt x="15" y="874"/>
                  </a:lnTo>
                  <a:lnTo>
                    <a:pt x="10" y="872"/>
                  </a:lnTo>
                  <a:lnTo>
                    <a:pt x="4" y="871"/>
                  </a:lnTo>
                  <a:lnTo>
                    <a:pt x="0" y="869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5532480" y="2365200"/>
              <a:ext cx="326880" cy="276480"/>
            </a:xfrm>
            <a:custGeom>
              <a:avLst/>
              <a:gdLst/>
              <a:ahLst/>
              <a:rect l="l" t="t" r="r" b="b"/>
              <a:pathLst>
                <a:path w="1031" h="869">
                  <a:moveTo>
                    <a:pt x="0" y="856"/>
                  </a:moveTo>
                  <a:lnTo>
                    <a:pt x="1020" y="0"/>
                  </a:lnTo>
                  <a:lnTo>
                    <a:pt x="1022" y="4"/>
                  </a:lnTo>
                  <a:lnTo>
                    <a:pt x="1023" y="9"/>
                  </a:lnTo>
                  <a:lnTo>
                    <a:pt x="1024" y="14"/>
                  </a:lnTo>
                  <a:lnTo>
                    <a:pt x="1026" y="18"/>
                  </a:lnTo>
                  <a:lnTo>
                    <a:pt x="1027" y="23"/>
                  </a:lnTo>
                  <a:lnTo>
                    <a:pt x="1028" y="28"/>
                  </a:lnTo>
                  <a:lnTo>
                    <a:pt x="1029" y="32"/>
                  </a:lnTo>
                  <a:lnTo>
                    <a:pt x="1031" y="36"/>
                  </a:lnTo>
                  <a:lnTo>
                    <a:pt x="40" y="869"/>
                  </a:lnTo>
                  <a:lnTo>
                    <a:pt x="34" y="868"/>
                  </a:lnTo>
                  <a:lnTo>
                    <a:pt x="30" y="866"/>
                  </a:lnTo>
                  <a:lnTo>
                    <a:pt x="24" y="865"/>
                  </a:lnTo>
                  <a:lnTo>
                    <a:pt x="20" y="863"/>
                  </a:lnTo>
                  <a:lnTo>
                    <a:pt x="15" y="862"/>
                  </a:lnTo>
                  <a:lnTo>
                    <a:pt x="9" y="860"/>
                  </a:lnTo>
                  <a:lnTo>
                    <a:pt x="5" y="859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5538960" y="2371680"/>
              <a:ext cx="322200" cy="271440"/>
            </a:xfrm>
            <a:custGeom>
              <a:avLst/>
              <a:gdLst/>
              <a:ahLst/>
              <a:rect l="l" t="t" r="r" b="b"/>
              <a:pathLst>
                <a:path w="1017" h="858">
                  <a:moveTo>
                    <a:pt x="0" y="845"/>
                  </a:moveTo>
                  <a:lnTo>
                    <a:pt x="1006" y="0"/>
                  </a:lnTo>
                  <a:lnTo>
                    <a:pt x="1007" y="5"/>
                  </a:lnTo>
                  <a:lnTo>
                    <a:pt x="1008" y="10"/>
                  </a:lnTo>
                  <a:lnTo>
                    <a:pt x="1009" y="14"/>
                  </a:lnTo>
                  <a:lnTo>
                    <a:pt x="1011" y="18"/>
                  </a:lnTo>
                  <a:lnTo>
                    <a:pt x="1012" y="24"/>
                  </a:lnTo>
                  <a:lnTo>
                    <a:pt x="1014" y="28"/>
                  </a:lnTo>
                  <a:lnTo>
                    <a:pt x="1015" y="32"/>
                  </a:lnTo>
                  <a:lnTo>
                    <a:pt x="1017" y="38"/>
                  </a:lnTo>
                  <a:lnTo>
                    <a:pt x="39" y="858"/>
                  </a:lnTo>
                  <a:lnTo>
                    <a:pt x="35" y="857"/>
                  </a:lnTo>
                  <a:lnTo>
                    <a:pt x="29" y="855"/>
                  </a:lnTo>
                  <a:lnTo>
                    <a:pt x="25" y="854"/>
                  </a:lnTo>
                  <a:lnTo>
                    <a:pt x="20" y="851"/>
                  </a:lnTo>
                  <a:lnTo>
                    <a:pt x="14" y="850"/>
                  </a:lnTo>
                  <a:lnTo>
                    <a:pt x="10" y="848"/>
                  </a:lnTo>
                  <a:lnTo>
                    <a:pt x="4" y="847"/>
                  </a:lnTo>
                  <a:lnTo>
                    <a:pt x="0" y="845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5545080" y="2376360"/>
              <a:ext cx="317520" cy="270000"/>
            </a:xfrm>
            <a:custGeom>
              <a:avLst/>
              <a:gdLst/>
              <a:ahLst/>
              <a:rect l="l" t="t" r="r" b="b"/>
              <a:pathLst>
                <a:path w="1002" h="848">
                  <a:moveTo>
                    <a:pt x="0" y="833"/>
                  </a:moveTo>
                  <a:lnTo>
                    <a:pt x="991" y="0"/>
                  </a:lnTo>
                  <a:lnTo>
                    <a:pt x="992" y="6"/>
                  </a:lnTo>
                  <a:lnTo>
                    <a:pt x="994" y="10"/>
                  </a:lnTo>
                  <a:lnTo>
                    <a:pt x="995" y="14"/>
                  </a:lnTo>
                  <a:lnTo>
                    <a:pt x="997" y="20"/>
                  </a:lnTo>
                  <a:lnTo>
                    <a:pt x="998" y="24"/>
                  </a:lnTo>
                  <a:lnTo>
                    <a:pt x="999" y="28"/>
                  </a:lnTo>
                  <a:lnTo>
                    <a:pt x="1000" y="33"/>
                  </a:lnTo>
                  <a:lnTo>
                    <a:pt x="1002" y="38"/>
                  </a:lnTo>
                  <a:lnTo>
                    <a:pt x="38" y="848"/>
                  </a:lnTo>
                  <a:lnTo>
                    <a:pt x="34" y="845"/>
                  </a:lnTo>
                  <a:lnTo>
                    <a:pt x="29" y="843"/>
                  </a:lnTo>
                  <a:lnTo>
                    <a:pt x="24" y="842"/>
                  </a:lnTo>
                  <a:lnTo>
                    <a:pt x="19" y="840"/>
                  </a:lnTo>
                  <a:lnTo>
                    <a:pt x="15" y="839"/>
                  </a:lnTo>
                  <a:lnTo>
                    <a:pt x="9" y="837"/>
                  </a:lnTo>
                  <a:lnTo>
                    <a:pt x="5" y="836"/>
                  </a:lnTo>
                  <a:lnTo>
                    <a:pt x="0" y="833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5551560" y="2382840"/>
              <a:ext cx="312840" cy="264960"/>
            </a:xfrm>
            <a:custGeom>
              <a:avLst/>
              <a:gdLst/>
              <a:ahLst/>
              <a:rect l="l" t="t" r="r" b="b"/>
              <a:pathLst>
                <a:path w="989" h="834">
                  <a:moveTo>
                    <a:pt x="0" y="820"/>
                  </a:moveTo>
                  <a:lnTo>
                    <a:pt x="978" y="0"/>
                  </a:lnTo>
                  <a:lnTo>
                    <a:pt x="979" y="4"/>
                  </a:lnTo>
                  <a:lnTo>
                    <a:pt x="980" y="8"/>
                  </a:lnTo>
                  <a:lnTo>
                    <a:pt x="981" y="13"/>
                  </a:lnTo>
                  <a:lnTo>
                    <a:pt x="983" y="18"/>
                  </a:lnTo>
                  <a:lnTo>
                    <a:pt x="984" y="22"/>
                  </a:lnTo>
                  <a:lnTo>
                    <a:pt x="985" y="27"/>
                  </a:lnTo>
                  <a:lnTo>
                    <a:pt x="986" y="32"/>
                  </a:lnTo>
                  <a:lnTo>
                    <a:pt x="989" y="36"/>
                  </a:lnTo>
                  <a:lnTo>
                    <a:pt x="39" y="834"/>
                  </a:lnTo>
                  <a:lnTo>
                    <a:pt x="35" y="832"/>
                  </a:lnTo>
                  <a:lnTo>
                    <a:pt x="29" y="831"/>
                  </a:lnTo>
                  <a:lnTo>
                    <a:pt x="25" y="829"/>
                  </a:lnTo>
                  <a:lnTo>
                    <a:pt x="19" y="828"/>
                  </a:lnTo>
                  <a:lnTo>
                    <a:pt x="15" y="825"/>
                  </a:lnTo>
                  <a:lnTo>
                    <a:pt x="10" y="823"/>
                  </a:lnTo>
                  <a:lnTo>
                    <a:pt x="5" y="822"/>
                  </a:lnTo>
                  <a:lnTo>
                    <a:pt x="0" y="82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5556240" y="2389320"/>
              <a:ext cx="309600" cy="261720"/>
            </a:xfrm>
            <a:custGeom>
              <a:avLst/>
              <a:gdLst/>
              <a:ahLst/>
              <a:rect l="l" t="t" r="r" b="b"/>
              <a:pathLst>
                <a:path w="975" h="824">
                  <a:moveTo>
                    <a:pt x="0" y="810"/>
                  </a:moveTo>
                  <a:lnTo>
                    <a:pt x="964" y="0"/>
                  </a:lnTo>
                  <a:lnTo>
                    <a:pt x="965" y="4"/>
                  </a:lnTo>
                  <a:lnTo>
                    <a:pt x="966" y="9"/>
                  </a:lnTo>
                  <a:lnTo>
                    <a:pt x="967" y="14"/>
                  </a:lnTo>
                  <a:lnTo>
                    <a:pt x="970" y="18"/>
                  </a:lnTo>
                  <a:lnTo>
                    <a:pt x="971" y="23"/>
                  </a:lnTo>
                  <a:lnTo>
                    <a:pt x="972" y="28"/>
                  </a:lnTo>
                  <a:lnTo>
                    <a:pt x="973" y="33"/>
                  </a:lnTo>
                  <a:lnTo>
                    <a:pt x="975" y="37"/>
                  </a:lnTo>
                  <a:lnTo>
                    <a:pt x="39" y="824"/>
                  </a:lnTo>
                  <a:lnTo>
                    <a:pt x="34" y="821"/>
                  </a:lnTo>
                  <a:lnTo>
                    <a:pt x="30" y="819"/>
                  </a:lnTo>
                  <a:lnTo>
                    <a:pt x="24" y="818"/>
                  </a:lnTo>
                  <a:lnTo>
                    <a:pt x="20" y="816"/>
                  </a:lnTo>
                  <a:lnTo>
                    <a:pt x="14" y="814"/>
                  </a:lnTo>
                  <a:lnTo>
                    <a:pt x="10" y="813"/>
                  </a:lnTo>
                  <a:lnTo>
                    <a:pt x="6" y="811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5562720" y="2394000"/>
              <a:ext cx="304560" cy="258840"/>
            </a:xfrm>
            <a:custGeom>
              <a:avLst/>
              <a:gdLst/>
              <a:ahLst/>
              <a:rect l="l" t="t" r="r" b="b"/>
              <a:pathLst>
                <a:path w="959" h="812">
                  <a:moveTo>
                    <a:pt x="0" y="798"/>
                  </a:moveTo>
                  <a:lnTo>
                    <a:pt x="950" y="0"/>
                  </a:lnTo>
                  <a:lnTo>
                    <a:pt x="951" y="5"/>
                  </a:lnTo>
                  <a:lnTo>
                    <a:pt x="952" y="10"/>
                  </a:lnTo>
                  <a:lnTo>
                    <a:pt x="953" y="15"/>
                  </a:lnTo>
                  <a:lnTo>
                    <a:pt x="954" y="19"/>
                  </a:lnTo>
                  <a:lnTo>
                    <a:pt x="956" y="24"/>
                  </a:lnTo>
                  <a:lnTo>
                    <a:pt x="957" y="29"/>
                  </a:lnTo>
                  <a:lnTo>
                    <a:pt x="958" y="33"/>
                  </a:lnTo>
                  <a:lnTo>
                    <a:pt x="959" y="38"/>
                  </a:lnTo>
                  <a:lnTo>
                    <a:pt x="38" y="812"/>
                  </a:lnTo>
                  <a:lnTo>
                    <a:pt x="33" y="811"/>
                  </a:lnTo>
                  <a:lnTo>
                    <a:pt x="28" y="809"/>
                  </a:lnTo>
                  <a:lnTo>
                    <a:pt x="24" y="807"/>
                  </a:lnTo>
                  <a:lnTo>
                    <a:pt x="19" y="806"/>
                  </a:lnTo>
                  <a:lnTo>
                    <a:pt x="14" y="803"/>
                  </a:lnTo>
                  <a:lnTo>
                    <a:pt x="10" y="801"/>
                  </a:lnTo>
                  <a:lnTo>
                    <a:pt x="4" y="800"/>
                  </a:lnTo>
                  <a:lnTo>
                    <a:pt x="0" y="79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5568840" y="2400480"/>
              <a:ext cx="300240" cy="253800"/>
            </a:xfrm>
            <a:custGeom>
              <a:avLst/>
              <a:gdLst/>
              <a:ahLst/>
              <a:rect l="l" t="t" r="r" b="b"/>
              <a:pathLst>
                <a:path w="946" h="801">
                  <a:moveTo>
                    <a:pt x="0" y="787"/>
                  </a:moveTo>
                  <a:lnTo>
                    <a:pt x="936" y="0"/>
                  </a:lnTo>
                  <a:lnTo>
                    <a:pt x="937" y="5"/>
                  </a:lnTo>
                  <a:lnTo>
                    <a:pt x="938" y="10"/>
                  </a:lnTo>
                  <a:lnTo>
                    <a:pt x="939" y="14"/>
                  </a:lnTo>
                  <a:lnTo>
                    <a:pt x="940" y="19"/>
                  </a:lnTo>
                  <a:lnTo>
                    <a:pt x="942" y="24"/>
                  </a:lnTo>
                  <a:lnTo>
                    <a:pt x="944" y="28"/>
                  </a:lnTo>
                  <a:lnTo>
                    <a:pt x="945" y="33"/>
                  </a:lnTo>
                  <a:lnTo>
                    <a:pt x="946" y="38"/>
                  </a:lnTo>
                  <a:lnTo>
                    <a:pt x="37" y="801"/>
                  </a:lnTo>
                  <a:lnTo>
                    <a:pt x="33" y="798"/>
                  </a:lnTo>
                  <a:lnTo>
                    <a:pt x="28" y="797"/>
                  </a:lnTo>
                  <a:lnTo>
                    <a:pt x="23" y="795"/>
                  </a:lnTo>
                  <a:lnTo>
                    <a:pt x="19" y="793"/>
                  </a:lnTo>
                  <a:lnTo>
                    <a:pt x="14" y="792"/>
                  </a:lnTo>
                  <a:lnTo>
                    <a:pt x="9" y="790"/>
                  </a:lnTo>
                  <a:lnTo>
                    <a:pt x="5" y="788"/>
                  </a:lnTo>
                  <a:lnTo>
                    <a:pt x="0" y="787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5575320" y="2406600"/>
              <a:ext cx="295200" cy="250920"/>
            </a:xfrm>
            <a:custGeom>
              <a:avLst/>
              <a:gdLst/>
              <a:ahLst/>
              <a:rect l="l" t="t" r="r" b="b"/>
              <a:pathLst>
                <a:path w="932" h="789">
                  <a:moveTo>
                    <a:pt x="0" y="774"/>
                  </a:moveTo>
                  <a:lnTo>
                    <a:pt x="921" y="0"/>
                  </a:lnTo>
                  <a:lnTo>
                    <a:pt x="923" y="5"/>
                  </a:lnTo>
                  <a:lnTo>
                    <a:pt x="925" y="9"/>
                  </a:lnTo>
                  <a:lnTo>
                    <a:pt x="926" y="14"/>
                  </a:lnTo>
                  <a:lnTo>
                    <a:pt x="927" y="19"/>
                  </a:lnTo>
                  <a:lnTo>
                    <a:pt x="928" y="23"/>
                  </a:lnTo>
                  <a:lnTo>
                    <a:pt x="930" y="28"/>
                  </a:lnTo>
                  <a:lnTo>
                    <a:pt x="931" y="33"/>
                  </a:lnTo>
                  <a:lnTo>
                    <a:pt x="932" y="37"/>
                  </a:lnTo>
                  <a:lnTo>
                    <a:pt x="37" y="789"/>
                  </a:lnTo>
                  <a:lnTo>
                    <a:pt x="32" y="787"/>
                  </a:lnTo>
                  <a:lnTo>
                    <a:pt x="28" y="786"/>
                  </a:lnTo>
                  <a:lnTo>
                    <a:pt x="23" y="784"/>
                  </a:lnTo>
                  <a:lnTo>
                    <a:pt x="19" y="782"/>
                  </a:lnTo>
                  <a:lnTo>
                    <a:pt x="14" y="779"/>
                  </a:lnTo>
                  <a:lnTo>
                    <a:pt x="9" y="778"/>
                  </a:lnTo>
                  <a:lnTo>
                    <a:pt x="4" y="776"/>
                  </a:lnTo>
                  <a:lnTo>
                    <a:pt x="0" y="774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5581800" y="2413080"/>
              <a:ext cx="290520" cy="245880"/>
            </a:xfrm>
            <a:custGeom>
              <a:avLst/>
              <a:gdLst/>
              <a:ahLst/>
              <a:rect l="l" t="t" r="r" b="b"/>
              <a:pathLst>
                <a:path w="919" h="778">
                  <a:moveTo>
                    <a:pt x="0" y="763"/>
                  </a:moveTo>
                  <a:lnTo>
                    <a:pt x="909" y="0"/>
                  </a:lnTo>
                  <a:lnTo>
                    <a:pt x="910" y="4"/>
                  </a:lnTo>
                  <a:lnTo>
                    <a:pt x="911" y="9"/>
                  </a:lnTo>
                  <a:lnTo>
                    <a:pt x="913" y="14"/>
                  </a:lnTo>
                  <a:lnTo>
                    <a:pt x="914" y="18"/>
                  </a:lnTo>
                  <a:lnTo>
                    <a:pt x="915" y="23"/>
                  </a:lnTo>
                  <a:lnTo>
                    <a:pt x="916" y="28"/>
                  </a:lnTo>
                  <a:lnTo>
                    <a:pt x="917" y="32"/>
                  </a:lnTo>
                  <a:lnTo>
                    <a:pt x="919" y="38"/>
                  </a:lnTo>
                  <a:lnTo>
                    <a:pt x="38" y="778"/>
                  </a:lnTo>
                  <a:lnTo>
                    <a:pt x="32" y="777"/>
                  </a:lnTo>
                  <a:lnTo>
                    <a:pt x="28" y="774"/>
                  </a:lnTo>
                  <a:lnTo>
                    <a:pt x="24" y="772"/>
                  </a:lnTo>
                  <a:lnTo>
                    <a:pt x="19" y="770"/>
                  </a:lnTo>
                  <a:lnTo>
                    <a:pt x="14" y="768"/>
                  </a:lnTo>
                  <a:lnTo>
                    <a:pt x="10" y="767"/>
                  </a:lnTo>
                  <a:lnTo>
                    <a:pt x="5" y="765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5586480" y="2417760"/>
              <a:ext cx="287280" cy="244440"/>
            </a:xfrm>
            <a:custGeom>
              <a:avLst/>
              <a:gdLst/>
              <a:ahLst/>
              <a:rect l="l" t="t" r="r" b="b"/>
              <a:pathLst>
                <a:path w="905" h="767">
                  <a:moveTo>
                    <a:pt x="0" y="752"/>
                  </a:moveTo>
                  <a:lnTo>
                    <a:pt x="895" y="0"/>
                  </a:lnTo>
                  <a:lnTo>
                    <a:pt x="896" y="5"/>
                  </a:lnTo>
                  <a:lnTo>
                    <a:pt x="897" y="10"/>
                  </a:lnTo>
                  <a:lnTo>
                    <a:pt x="898" y="14"/>
                  </a:lnTo>
                  <a:lnTo>
                    <a:pt x="900" y="20"/>
                  </a:lnTo>
                  <a:lnTo>
                    <a:pt x="902" y="24"/>
                  </a:lnTo>
                  <a:lnTo>
                    <a:pt x="903" y="29"/>
                  </a:lnTo>
                  <a:lnTo>
                    <a:pt x="904" y="34"/>
                  </a:lnTo>
                  <a:lnTo>
                    <a:pt x="905" y="38"/>
                  </a:lnTo>
                  <a:lnTo>
                    <a:pt x="37" y="767"/>
                  </a:lnTo>
                  <a:lnTo>
                    <a:pt x="32" y="766"/>
                  </a:lnTo>
                  <a:lnTo>
                    <a:pt x="27" y="764"/>
                  </a:lnTo>
                  <a:lnTo>
                    <a:pt x="23" y="762"/>
                  </a:lnTo>
                  <a:lnTo>
                    <a:pt x="19" y="760"/>
                  </a:lnTo>
                  <a:lnTo>
                    <a:pt x="13" y="758"/>
                  </a:lnTo>
                  <a:lnTo>
                    <a:pt x="9" y="756"/>
                  </a:lnTo>
                  <a:lnTo>
                    <a:pt x="5" y="754"/>
                  </a:lnTo>
                  <a:lnTo>
                    <a:pt x="0" y="752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5592600" y="2424240"/>
              <a:ext cx="282600" cy="241200"/>
            </a:xfrm>
            <a:custGeom>
              <a:avLst/>
              <a:gdLst/>
              <a:ahLst/>
              <a:rect l="l" t="t" r="r" b="b"/>
              <a:pathLst>
                <a:path w="891" h="756">
                  <a:moveTo>
                    <a:pt x="0" y="740"/>
                  </a:moveTo>
                  <a:lnTo>
                    <a:pt x="881" y="0"/>
                  </a:lnTo>
                  <a:lnTo>
                    <a:pt x="883" y="4"/>
                  </a:lnTo>
                  <a:lnTo>
                    <a:pt x="884" y="9"/>
                  </a:lnTo>
                  <a:lnTo>
                    <a:pt x="885" y="14"/>
                  </a:lnTo>
                  <a:lnTo>
                    <a:pt x="886" y="18"/>
                  </a:lnTo>
                  <a:lnTo>
                    <a:pt x="887" y="23"/>
                  </a:lnTo>
                  <a:lnTo>
                    <a:pt x="889" y="28"/>
                  </a:lnTo>
                  <a:lnTo>
                    <a:pt x="890" y="33"/>
                  </a:lnTo>
                  <a:lnTo>
                    <a:pt x="891" y="37"/>
                  </a:lnTo>
                  <a:lnTo>
                    <a:pt x="35" y="756"/>
                  </a:lnTo>
                  <a:lnTo>
                    <a:pt x="31" y="754"/>
                  </a:lnTo>
                  <a:lnTo>
                    <a:pt x="27" y="752"/>
                  </a:lnTo>
                  <a:lnTo>
                    <a:pt x="22" y="749"/>
                  </a:lnTo>
                  <a:lnTo>
                    <a:pt x="18" y="747"/>
                  </a:lnTo>
                  <a:lnTo>
                    <a:pt x="13" y="746"/>
                  </a:lnTo>
                  <a:lnTo>
                    <a:pt x="8" y="744"/>
                  </a:lnTo>
                  <a:lnTo>
                    <a:pt x="4" y="742"/>
                  </a:lnTo>
                  <a:lnTo>
                    <a:pt x="0" y="74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5599080" y="2430360"/>
              <a:ext cx="277920" cy="236520"/>
            </a:xfrm>
            <a:custGeom>
              <a:avLst/>
              <a:gdLst/>
              <a:ahLst/>
              <a:rect l="l" t="t" r="r" b="b"/>
              <a:pathLst>
                <a:path w="878" h="746">
                  <a:moveTo>
                    <a:pt x="0" y="729"/>
                  </a:moveTo>
                  <a:lnTo>
                    <a:pt x="868" y="0"/>
                  </a:lnTo>
                  <a:lnTo>
                    <a:pt x="869" y="5"/>
                  </a:lnTo>
                  <a:lnTo>
                    <a:pt x="871" y="10"/>
                  </a:lnTo>
                  <a:lnTo>
                    <a:pt x="872" y="14"/>
                  </a:lnTo>
                  <a:lnTo>
                    <a:pt x="873" y="19"/>
                  </a:lnTo>
                  <a:lnTo>
                    <a:pt x="874" y="24"/>
                  </a:lnTo>
                  <a:lnTo>
                    <a:pt x="875" y="29"/>
                  </a:lnTo>
                  <a:lnTo>
                    <a:pt x="876" y="33"/>
                  </a:lnTo>
                  <a:lnTo>
                    <a:pt x="878" y="38"/>
                  </a:lnTo>
                  <a:lnTo>
                    <a:pt x="36" y="746"/>
                  </a:lnTo>
                  <a:lnTo>
                    <a:pt x="31" y="744"/>
                  </a:lnTo>
                  <a:lnTo>
                    <a:pt x="27" y="742"/>
                  </a:lnTo>
                  <a:lnTo>
                    <a:pt x="22" y="740"/>
                  </a:lnTo>
                  <a:lnTo>
                    <a:pt x="17" y="738"/>
                  </a:lnTo>
                  <a:lnTo>
                    <a:pt x="13" y="736"/>
                  </a:lnTo>
                  <a:lnTo>
                    <a:pt x="9" y="734"/>
                  </a:lnTo>
                  <a:lnTo>
                    <a:pt x="4" y="731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5603760" y="2436840"/>
              <a:ext cx="274680" cy="233280"/>
            </a:xfrm>
            <a:custGeom>
              <a:avLst/>
              <a:gdLst/>
              <a:ahLst/>
              <a:rect l="l" t="t" r="r" b="b"/>
              <a:pathLst>
                <a:path w="866" h="735">
                  <a:moveTo>
                    <a:pt x="0" y="719"/>
                  </a:moveTo>
                  <a:lnTo>
                    <a:pt x="856" y="0"/>
                  </a:lnTo>
                  <a:lnTo>
                    <a:pt x="857" y="5"/>
                  </a:lnTo>
                  <a:lnTo>
                    <a:pt x="858" y="10"/>
                  </a:lnTo>
                  <a:lnTo>
                    <a:pt x="859" y="14"/>
                  </a:lnTo>
                  <a:lnTo>
                    <a:pt x="861" y="19"/>
                  </a:lnTo>
                  <a:lnTo>
                    <a:pt x="863" y="24"/>
                  </a:lnTo>
                  <a:lnTo>
                    <a:pt x="864" y="28"/>
                  </a:lnTo>
                  <a:lnTo>
                    <a:pt x="865" y="34"/>
                  </a:lnTo>
                  <a:lnTo>
                    <a:pt x="866" y="38"/>
                  </a:lnTo>
                  <a:lnTo>
                    <a:pt x="36" y="735"/>
                  </a:lnTo>
                  <a:lnTo>
                    <a:pt x="32" y="733"/>
                  </a:lnTo>
                  <a:lnTo>
                    <a:pt x="27" y="731"/>
                  </a:lnTo>
                  <a:lnTo>
                    <a:pt x="23" y="729"/>
                  </a:lnTo>
                  <a:lnTo>
                    <a:pt x="19" y="727"/>
                  </a:lnTo>
                  <a:lnTo>
                    <a:pt x="14" y="725"/>
                  </a:lnTo>
                  <a:lnTo>
                    <a:pt x="9" y="723"/>
                  </a:lnTo>
                  <a:lnTo>
                    <a:pt x="5" y="721"/>
                  </a:lnTo>
                  <a:lnTo>
                    <a:pt x="0" y="719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5610240" y="2443320"/>
              <a:ext cx="270000" cy="230040"/>
            </a:xfrm>
            <a:custGeom>
              <a:avLst/>
              <a:gdLst/>
              <a:ahLst/>
              <a:rect l="l" t="t" r="r" b="b"/>
              <a:pathLst>
                <a:path w="851" h="725">
                  <a:moveTo>
                    <a:pt x="0" y="708"/>
                  </a:moveTo>
                  <a:lnTo>
                    <a:pt x="842" y="0"/>
                  </a:lnTo>
                  <a:lnTo>
                    <a:pt x="844" y="5"/>
                  </a:lnTo>
                  <a:lnTo>
                    <a:pt x="845" y="9"/>
                  </a:lnTo>
                  <a:lnTo>
                    <a:pt x="846" y="15"/>
                  </a:lnTo>
                  <a:lnTo>
                    <a:pt x="847" y="19"/>
                  </a:lnTo>
                  <a:lnTo>
                    <a:pt x="848" y="23"/>
                  </a:lnTo>
                  <a:lnTo>
                    <a:pt x="849" y="29"/>
                  </a:lnTo>
                  <a:lnTo>
                    <a:pt x="850" y="33"/>
                  </a:lnTo>
                  <a:lnTo>
                    <a:pt x="851" y="39"/>
                  </a:lnTo>
                  <a:lnTo>
                    <a:pt x="34" y="725"/>
                  </a:lnTo>
                  <a:lnTo>
                    <a:pt x="30" y="723"/>
                  </a:lnTo>
                  <a:lnTo>
                    <a:pt x="26" y="720"/>
                  </a:lnTo>
                  <a:lnTo>
                    <a:pt x="21" y="718"/>
                  </a:lnTo>
                  <a:lnTo>
                    <a:pt x="17" y="716"/>
                  </a:lnTo>
                  <a:lnTo>
                    <a:pt x="13" y="714"/>
                  </a:lnTo>
                  <a:lnTo>
                    <a:pt x="8" y="712"/>
                  </a:lnTo>
                  <a:lnTo>
                    <a:pt x="4" y="710"/>
                  </a:lnTo>
                  <a:lnTo>
                    <a:pt x="0" y="708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5614920" y="2448000"/>
              <a:ext cx="266760" cy="226800"/>
            </a:xfrm>
            <a:custGeom>
              <a:avLst/>
              <a:gdLst/>
              <a:ahLst/>
              <a:rect l="l" t="t" r="r" b="b"/>
              <a:pathLst>
                <a:path w="840" h="714">
                  <a:moveTo>
                    <a:pt x="0" y="697"/>
                  </a:moveTo>
                  <a:lnTo>
                    <a:pt x="830" y="0"/>
                  </a:lnTo>
                  <a:lnTo>
                    <a:pt x="831" y="6"/>
                  </a:lnTo>
                  <a:lnTo>
                    <a:pt x="832" y="10"/>
                  </a:lnTo>
                  <a:lnTo>
                    <a:pt x="833" y="14"/>
                  </a:lnTo>
                  <a:lnTo>
                    <a:pt x="834" y="20"/>
                  </a:lnTo>
                  <a:lnTo>
                    <a:pt x="835" y="24"/>
                  </a:lnTo>
                  <a:lnTo>
                    <a:pt x="837" y="29"/>
                  </a:lnTo>
                  <a:lnTo>
                    <a:pt x="839" y="34"/>
                  </a:lnTo>
                  <a:lnTo>
                    <a:pt x="840" y="38"/>
                  </a:lnTo>
                  <a:lnTo>
                    <a:pt x="34" y="714"/>
                  </a:lnTo>
                  <a:lnTo>
                    <a:pt x="30" y="712"/>
                  </a:lnTo>
                  <a:lnTo>
                    <a:pt x="26" y="710"/>
                  </a:lnTo>
                  <a:lnTo>
                    <a:pt x="22" y="708"/>
                  </a:lnTo>
                  <a:lnTo>
                    <a:pt x="17" y="706"/>
                  </a:lnTo>
                  <a:lnTo>
                    <a:pt x="13" y="704"/>
                  </a:lnTo>
                  <a:lnTo>
                    <a:pt x="9" y="701"/>
                  </a:lnTo>
                  <a:lnTo>
                    <a:pt x="4" y="699"/>
                  </a:lnTo>
                  <a:lnTo>
                    <a:pt x="0" y="697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5621400" y="2454120"/>
              <a:ext cx="261720" cy="223920"/>
            </a:xfrm>
            <a:custGeom>
              <a:avLst/>
              <a:gdLst/>
              <a:ahLst/>
              <a:rect l="l" t="t" r="r" b="b"/>
              <a:pathLst>
                <a:path w="827" h="703">
                  <a:moveTo>
                    <a:pt x="0" y="686"/>
                  </a:moveTo>
                  <a:lnTo>
                    <a:pt x="817" y="0"/>
                  </a:lnTo>
                  <a:lnTo>
                    <a:pt x="818" y="4"/>
                  </a:lnTo>
                  <a:lnTo>
                    <a:pt x="820" y="9"/>
                  </a:lnTo>
                  <a:lnTo>
                    <a:pt x="822" y="14"/>
                  </a:lnTo>
                  <a:lnTo>
                    <a:pt x="823" y="18"/>
                  </a:lnTo>
                  <a:lnTo>
                    <a:pt x="824" y="23"/>
                  </a:lnTo>
                  <a:lnTo>
                    <a:pt x="825" y="28"/>
                  </a:lnTo>
                  <a:lnTo>
                    <a:pt x="826" y="33"/>
                  </a:lnTo>
                  <a:lnTo>
                    <a:pt x="827" y="37"/>
                  </a:lnTo>
                  <a:lnTo>
                    <a:pt x="35" y="703"/>
                  </a:lnTo>
                  <a:lnTo>
                    <a:pt x="30" y="701"/>
                  </a:lnTo>
                  <a:lnTo>
                    <a:pt x="26" y="699"/>
                  </a:lnTo>
                  <a:lnTo>
                    <a:pt x="22" y="697"/>
                  </a:lnTo>
                  <a:lnTo>
                    <a:pt x="17" y="694"/>
                  </a:lnTo>
                  <a:lnTo>
                    <a:pt x="13" y="692"/>
                  </a:lnTo>
                  <a:lnTo>
                    <a:pt x="9" y="690"/>
                  </a:lnTo>
                  <a:lnTo>
                    <a:pt x="5" y="688"/>
                  </a:lnTo>
                  <a:lnTo>
                    <a:pt x="0" y="68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5626080" y="2460600"/>
              <a:ext cx="258840" cy="220680"/>
            </a:xfrm>
            <a:custGeom>
              <a:avLst/>
              <a:gdLst/>
              <a:ahLst/>
              <a:rect l="l" t="t" r="r" b="b"/>
              <a:pathLst>
                <a:path w="814" h="694">
                  <a:moveTo>
                    <a:pt x="0" y="676"/>
                  </a:moveTo>
                  <a:lnTo>
                    <a:pt x="806" y="0"/>
                  </a:lnTo>
                  <a:lnTo>
                    <a:pt x="807" y="5"/>
                  </a:lnTo>
                  <a:lnTo>
                    <a:pt x="808" y="10"/>
                  </a:lnTo>
                  <a:lnTo>
                    <a:pt x="809" y="15"/>
                  </a:lnTo>
                  <a:lnTo>
                    <a:pt x="810" y="19"/>
                  </a:lnTo>
                  <a:lnTo>
                    <a:pt x="811" y="25"/>
                  </a:lnTo>
                  <a:lnTo>
                    <a:pt x="812" y="29"/>
                  </a:lnTo>
                  <a:lnTo>
                    <a:pt x="813" y="35"/>
                  </a:lnTo>
                  <a:lnTo>
                    <a:pt x="814" y="39"/>
                  </a:lnTo>
                  <a:lnTo>
                    <a:pt x="35" y="694"/>
                  </a:lnTo>
                  <a:lnTo>
                    <a:pt x="31" y="692"/>
                  </a:lnTo>
                  <a:lnTo>
                    <a:pt x="26" y="689"/>
                  </a:lnTo>
                  <a:lnTo>
                    <a:pt x="22" y="687"/>
                  </a:lnTo>
                  <a:lnTo>
                    <a:pt x="18" y="685"/>
                  </a:lnTo>
                  <a:lnTo>
                    <a:pt x="13" y="683"/>
                  </a:lnTo>
                  <a:lnTo>
                    <a:pt x="9" y="681"/>
                  </a:lnTo>
                  <a:lnTo>
                    <a:pt x="5" y="679"/>
                  </a:lnTo>
                  <a:lnTo>
                    <a:pt x="0" y="6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5632560" y="2467080"/>
              <a:ext cx="253800" cy="217440"/>
            </a:xfrm>
            <a:custGeom>
              <a:avLst/>
              <a:gdLst/>
              <a:ahLst/>
              <a:rect l="l" t="t" r="r" b="b"/>
              <a:pathLst>
                <a:path w="802" h="684">
                  <a:moveTo>
                    <a:pt x="0" y="666"/>
                  </a:moveTo>
                  <a:lnTo>
                    <a:pt x="792" y="0"/>
                  </a:lnTo>
                  <a:lnTo>
                    <a:pt x="793" y="6"/>
                  </a:lnTo>
                  <a:lnTo>
                    <a:pt x="794" y="10"/>
                  </a:lnTo>
                  <a:lnTo>
                    <a:pt x="795" y="16"/>
                  </a:lnTo>
                  <a:lnTo>
                    <a:pt x="796" y="20"/>
                  </a:lnTo>
                  <a:lnTo>
                    <a:pt x="797" y="24"/>
                  </a:lnTo>
                  <a:lnTo>
                    <a:pt x="798" y="30"/>
                  </a:lnTo>
                  <a:lnTo>
                    <a:pt x="800" y="34"/>
                  </a:lnTo>
                  <a:lnTo>
                    <a:pt x="802" y="39"/>
                  </a:lnTo>
                  <a:lnTo>
                    <a:pt x="33" y="684"/>
                  </a:lnTo>
                  <a:lnTo>
                    <a:pt x="29" y="681"/>
                  </a:lnTo>
                  <a:lnTo>
                    <a:pt x="26" y="679"/>
                  </a:lnTo>
                  <a:lnTo>
                    <a:pt x="21" y="677"/>
                  </a:lnTo>
                  <a:lnTo>
                    <a:pt x="17" y="675"/>
                  </a:lnTo>
                  <a:lnTo>
                    <a:pt x="13" y="673"/>
                  </a:lnTo>
                  <a:lnTo>
                    <a:pt x="8" y="670"/>
                  </a:lnTo>
                  <a:lnTo>
                    <a:pt x="4" y="668"/>
                  </a:lnTo>
                  <a:lnTo>
                    <a:pt x="0" y="666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5637240" y="2473200"/>
              <a:ext cx="250920" cy="212760"/>
            </a:xfrm>
            <a:custGeom>
              <a:avLst/>
              <a:gdLst/>
              <a:ahLst/>
              <a:rect l="l" t="t" r="r" b="b"/>
              <a:pathLst>
                <a:path w="789" h="673">
                  <a:moveTo>
                    <a:pt x="0" y="655"/>
                  </a:moveTo>
                  <a:lnTo>
                    <a:pt x="779" y="0"/>
                  </a:lnTo>
                  <a:lnTo>
                    <a:pt x="780" y="4"/>
                  </a:lnTo>
                  <a:lnTo>
                    <a:pt x="781" y="10"/>
                  </a:lnTo>
                  <a:lnTo>
                    <a:pt x="783" y="14"/>
                  </a:lnTo>
                  <a:lnTo>
                    <a:pt x="785" y="19"/>
                  </a:lnTo>
                  <a:lnTo>
                    <a:pt x="786" y="24"/>
                  </a:lnTo>
                  <a:lnTo>
                    <a:pt x="787" y="29"/>
                  </a:lnTo>
                  <a:lnTo>
                    <a:pt x="788" y="33"/>
                  </a:lnTo>
                  <a:lnTo>
                    <a:pt x="789" y="39"/>
                  </a:lnTo>
                  <a:lnTo>
                    <a:pt x="33" y="673"/>
                  </a:lnTo>
                  <a:lnTo>
                    <a:pt x="29" y="671"/>
                  </a:lnTo>
                  <a:lnTo>
                    <a:pt x="25" y="669"/>
                  </a:lnTo>
                  <a:lnTo>
                    <a:pt x="21" y="667"/>
                  </a:lnTo>
                  <a:lnTo>
                    <a:pt x="16" y="664"/>
                  </a:lnTo>
                  <a:lnTo>
                    <a:pt x="12" y="662"/>
                  </a:lnTo>
                  <a:lnTo>
                    <a:pt x="8" y="659"/>
                  </a:lnTo>
                  <a:lnTo>
                    <a:pt x="4" y="657"/>
                  </a:lnTo>
                  <a:lnTo>
                    <a:pt x="0" y="655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5641920" y="2479680"/>
              <a:ext cx="247680" cy="209520"/>
            </a:xfrm>
            <a:custGeom>
              <a:avLst/>
              <a:gdLst/>
              <a:ahLst/>
              <a:rect l="l" t="t" r="r" b="b"/>
              <a:pathLst>
                <a:path w="777" h="664">
                  <a:moveTo>
                    <a:pt x="0" y="645"/>
                  </a:moveTo>
                  <a:lnTo>
                    <a:pt x="769" y="0"/>
                  </a:lnTo>
                  <a:lnTo>
                    <a:pt x="770" y="5"/>
                  </a:lnTo>
                  <a:lnTo>
                    <a:pt x="771" y="10"/>
                  </a:lnTo>
                  <a:lnTo>
                    <a:pt x="772" y="14"/>
                  </a:lnTo>
                  <a:lnTo>
                    <a:pt x="773" y="20"/>
                  </a:lnTo>
                  <a:lnTo>
                    <a:pt x="774" y="24"/>
                  </a:lnTo>
                  <a:lnTo>
                    <a:pt x="775" y="30"/>
                  </a:lnTo>
                  <a:lnTo>
                    <a:pt x="776" y="34"/>
                  </a:lnTo>
                  <a:lnTo>
                    <a:pt x="777" y="39"/>
                  </a:lnTo>
                  <a:lnTo>
                    <a:pt x="34" y="664"/>
                  </a:lnTo>
                  <a:lnTo>
                    <a:pt x="29" y="662"/>
                  </a:lnTo>
                  <a:lnTo>
                    <a:pt x="25" y="658"/>
                  </a:lnTo>
                  <a:lnTo>
                    <a:pt x="21" y="656"/>
                  </a:lnTo>
                  <a:lnTo>
                    <a:pt x="17" y="654"/>
                  </a:lnTo>
                  <a:lnTo>
                    <a:pt x="13" y="652"/>
                  </a:lnTo>
                  <a:lnTo>
                    <a:pt x="9" y="650"/>
                  </a:lnTo>
                  <a:lnTo>
                    <a:pt x="5" y="648"/>
                  </a:lnTo>
                  <a:lnTo>
                    <a:pt x="0" y="64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5648400" y="2486160"/>
              <a:ext cx="242640" cy="206280"/>
            </a:xfrm>
            <a:custGeom>
              <a:avLst/>
              <a:gdLst/>
              <a:ahLst/>
              <a:rect l="l" t="t" r="r" b="b"/>
              <a:pathLst>
                <a:path w="765" h="654">
                  <a:moveTo>
                    <a:pt x="0" y="634"/>
                  </a:moveTo>
                  <a:lnTo>
                    <a:pt x="756" y="0"/>
                  </a:lnTo>
                  <a:lnTo>
                    <a:pt x="757" y="4"/>
                  </a:lnTo>
                  <a:lnTo>
                    <a:pt x="758" y="10"/>
                  </a:lnTo>
                  <a:lnTo>
                    <a:pt x="759" y="14"/>
                  </a:lnTo>
                  <a:lnTo>
                    <a:pt x="760" y="19"/>
                  </a:lnTo>
                  <a:lnTo>
                    <a:pt x="761" y="24"/>
                  </a:lnTo>
                  <a:lnTo>
                    <a:pt x="762" y="29"/>
                  </a:lnTo>
                  <a:lnTo>
                    <a:pt x="764" y="33"/>
                  </a:lnTo>
                  <a:lnTo>
                    <a:pt x="765" y="39"/>
                  </a:lnTo>
                  <a:lnTo>
                    <a:pt x="33" y="654"/>
                  </a:lnTo>
                  <a:lnTo>
                    <a:pt x="29" y="650"/>
                  </a:lnTo>
                  <a:lnTo>
                    <a:pt x="24" y="648"/>
                  </a:lnTo>
                  <a:lnTo>
                    <a:pt x="20" y="646"/>
                  </a:lnTo>
                  <a:lnTo>
                    <a:pt x="17" y="644"/>
                  </a:lnTo>
                  <a:lnTo>
                    <a:pt x="12" y="642"/>
                  </a:lnTo>
                  <a:lnTo>
                    <a:pt x="8" y="638"/>
                  </a:lnTo>
                  <a:lnTo>
                    <a:pt x="4" y="636"/>
                  </a:lnTo>
                  <a:lnTo>
                    <a:pt x="0" y="634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5653080" y="2490840"/>
              <a:ext cx="239760" cy="204840"/>
            </a:xfrm>
            <a:custGeom>
              <a:avLst/>
              <a:gdLst/>
              <a:ahLst/>
              <a:rect l="l" t="t" r="r" b="b"/>
              <a:pathLst>
                <a:path w="752" h="644">
                  <a:moveTo>
                    <a:pt x="0" y="625"/>
                  </a:moveTo>
                  <a:lnTo>
                    <a:pt x="743" y="0"/>
                  </a:lnTo>
                  <a:lnTo>
                    <a:pt x="744" y="5"/>
                  </a:lnTo>
                  <a:lnTo>
                    <a:pt x="745" y="10"/>
                  </a:lnTo>
                  <a:lnTo>
                    <a:pt x="747" y="14"/>
                  </a:lnTo>
                  <a:lnTo>
                    <a:pt x="748" y="20"/>
                  </a:lnTo>
                  <a:lnTo>
                    <a:pt x="749" y="24"/>
                  </a:lnTo>
                  <a:lnTo>
                    <a:pt x="750" y="29"/>
                  </a:lnTo>
                  <a:lnTo>
                    <a:pt x="751" y="34"/>
                  </a:lnTo>
                  <a:lnTo>
                    <a:pt x="752" y="39"/>
                  </a:lnTo>
                  <a:lnTo>
                    <a:pt x="32" y="644"/>
                  </a:lnTo>
                  <a:lnTo>
                    <a:pt x="28" y="641"/>
                  </a:lnTo>
                  <a:lnTo>
                    <a:pt x="23" y="639"/>
                  </a:lnTo>
                  <a:lnTo>
                    <a:pt x="19" y="637"/>
                  </a:lnTo>
                  <a:lnTo>
                    <a:pt x="16" y="635"/>
                  </a:lnTo>
                  <a:lnTo>
                    <a:pt x="12" y="631"/>
                  </a:lnTo>
                  <a:lnTo>
                    <a:pt x="7" y="629"/>
                  </a:lnTo>
                  <a:lnTo>
                    <a:pt x="4" y="627"/>
                  </a:lnTo>
                  <a:lnTo>
                    <a:pt x="0" y="62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5657760" y="2496960"/>
              <a:ext cx="235080" cy="201960"/>
            </a:xfrm>
            <a:custGeom>
              <a:avLst/>
              <a:gdLst/>
              <a:ahLst/>
              <a:rect l="l" t="t" r="r" b="b"/>
              <a:pathLst>
                <a:path w="740" h="634">
                  <a:moveTo>
                    <a:pt x="0" y="615"/>
                  </a:moveTo>
                  <a:lnTo>
                    <a:pt x="732" y="0"/>
                  </a:lnTo>
                  <a:lnTo>
                    <a:pt x="733" y="4"/>
                  </a:lnTo>
                  <a:lnTo>
                    <a:pt x="734" y="9"/>
                  </a:lnTo>
                  <a:lnTo>
                    <a:pt x="735" y="14"/>
                  </a:lnTo>
                  <a:lnTo>
                    <a:pt x="736" y="19"/>
                  </a:lnTo>
                  <a:lnTo>
                    <a:pt x="737" y="23"/>
                  </a:lnTo>
                  <a:lnTo>
                    <a:pt x="738" y="29"/>
                  </a:lnTo>
                  <a:lnTo>
                    <a:pt x="739" y="33"/>
                  </a:lnTo>
                  <a:lnTo>
                    <a:pt x="740" y="39"/>
                  </a:lnTo>
                  <a:lnTo>
                    <a:pt x="31" y="634"/>
                  </a:lnTo>
                  <a:lnTo>
                    <a:pt x="28" y="631"/>
                  </a:lnTo>
                  <a:lnTo>
                    <a:pt x="24" y="629"/>
                  </a:lnTo>
                  <a:lnTo>
                    <a:pt x="19" y="626"/>
                  </a:lnTo>
                  <a:lnTo>
                    <a:pt x="16" y="624"/>
                  </a:lnTo>
                  <a:lnTo>
                    <a:pt x="12" y="621"/>
                  </a:lnTo>
                  <a:lnTo>
                    <a:pt x="7" y="619"/>
                  </a:lnTo>
                  <a:lnTo>
                    <a:pt x="3" y="617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5664240" y="2503440"/>
              <a:ext cx="230040" cy="198360"/>
            </a:xfrm>
            <a:custGeom>
              <a:avLst/>
              <a:gdLst/>
              <a:ahLst/>
              <a:rect l="l" t="t" r="r" b="b"/>
              <a:pathLst>
                <a:path w="729" h="625">
                  <a:moveTo>
                    <a:pt x="0" y="605"/>
                  </a:moveTo>
                  <a:lnTo>
                    <a:pt x="720" y="0"/>
                  </a:lnTo>
                  <a:lnTo>
                    <a:pt x="721" y="4"/>
                  </a:lnTo>
                  <a:lnTo>
                    <a:pt x="722" y="10"/>
                  </a:lnTo>
                  <a:lnTo>
                    <a:pt x="723" y="14"/>
                  </a:lnTo>
                  <a:lnTo>
                    <a:pt x="724" y="20"/>
                  </a:lnTo>
                  <a:lnTo>
                    <a:pt x="725" y="24"/>
                  </a:lnTo>
                  <a:lnTo>
                    <a:pt x="726" y="29"/>
                  </a:lnTo>
                  <a:lnTo>
                    <a:pt x="727" y="34"/>
                  </a:lnTo>
                  <a:lnTo>
                    <a:pt x="729" y="39"/>
                  </a:lnTo>
                  <a:lnTo>
                    <a:pt x="31" y="625"/>
                  </a:lnTo>
                  <a:lnTo>
                    <a:pt x="27" y="623"/>
                  </a:lnTo>
                  <a:lnTo>
                    <a:pt x="24" y="619"/>
                  </a:lnTo>
                  <a:lnTo>
                    <a:pt x="19" y="617"/>
                  </a:lnTo>
                  <a:lnTo>
                    <a:pt x="15" y="615"/>
                  </a:lnTo>
                  <a:lnTo>
                    <a:pt x="12" y="612"/>
                  </a:lnTo>
                  <a:lnTo>
                    <a:pt x="8" y="610"/>
                  </a:lnTo>
                  <a:lnTo>
                    <a:pt x="3" y="60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5668920" y="2509920"/>
              <a:ext cx="227160" cy="195120"/>
            </a:xfrm>
            <a:custGeom>
              <a:avLst/>
              <a:gdLst/>
              <a:ahLst/>
              <a:rect l="l" t="t" r="r" b="b"/>
              <a:pathLst>
                <a:path w="717" h="614">
                  <a:moveTo>
                    <a:pt x="0" y="595"/>
                  </a:moveTo>
                  <a:lnTo>
                    <a:pt x="709" y="0"/>
                  </a:lnTo>
                  <a:lnTo>
                    <a:pt x="710" y="4"/>
                  </a:lnTo>
                  <a:lnTo>
                    <a:pt x="711" y="9"/>
                  </a:lnTo>
                  <a:lnTo>
                    <a:pt x="712" y="15"/>
                  </a:lnTo>
                  <a:lnTo>
                    <a:pt x="714" y="19"/>
                  </a:lnTo>
                  <a:lnTo>
                    <a:pt x="715" y="24"/>
                  </a:lnTo>
                  <a:lnTo>
                    <a:pt x="716" y="29"/>
                  </a:lnTo>
                  <a:lnTo>
                    <a:pt x="716" y="34"/>
                  </a:lnTo>
                  <a:lnTo>
                    <a:pt x="717" y="38"/>
                  </a:lnTo>
                  <a:lnTo>
                    <a:pt x="31" y="614"/>
                  </a:lnTo>
                  <a:lnTo>
                    <a:pt x="28" y="612"/>
                  </a:lnTo>
                  <a:lnTo>
                    <a:pt x="24" y="610"/>
                  </a:lnTo>
                  <a:lnTo>
                    <a:pt x="20" y="607"/>
                  </a:lnTo>
                  <a:lnTo>
                    <a:pt x="16" y="605"/>
                  </a:lnTo>
                  <a:lnTo>
                    <a:pt x="12" y="603"/>
                  </a:lnTo>
                  <a:lnTo>
                    <a:pt x="8" y="599"/>
                  </a:lnTo>
                  <a:lnTo>
                    <a:pt x="4" y="597"/>
                  </a:lnTo>
                  <a:lnTo>
                    <a:pt x="0" y="595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5673600" y="2516040"/>
              <a:ext cx="223920" cy="192240"/>
            </a:xfrm>
            <a:custGeom>
              <a:avLst/>
              <a:gdLst/>
              <a:ahLst/>
              <a:rect l="l" t="t" r="r" b="b"/>
              <a:pathLst>
                <a:path w="705" h="606">
                  <a:moveTo>
                    <a:pt x="0" y="586"/>
                  </a:moveTo>
                  <a:lnTo>
                    <a:pt x="698" y="0"/>
                  </a:lnTo>
                  <a:lnTo>
                    <a:pt x="699" y="5"/>
                  </a:lnTo>
                  <a:lnTo>
                    <a:pt x="700" y="10"/>
                  </a:lnTo>
                  <a:lnTo>
                    <a:pt x="700" y="15"/>
                  </a:lnTo>
                  <a:lnTo>
                    <a:pt x="701" y="19"/>
                  </a:lnTo>
                  <a:lnTo>
                    <a:pt x="702" y="25"/>
                  </a:lnTo>
                  <a:lnTo>
                    <a:pt x="703" y="29"/>
                  </a:lnTo>
                  <a:lnTo>
                    <a:pt x="704" y="35"/>
                  </a:lnTo>
                  <a:lnTo>
                    <a:pt x="705" y="39"/>
                  </a:lnTo>
                  <a:lnTo>
                    <a:pt x="31" y="606"/>
                  </a:lnTo>
                  <a:lnTo>
                    <a:pt x="27" y="603"/>
                  </a:lnTo>
                  <a:lnTo>
                    <a:pt x="23" y="601"/>
                  </a:lnTo>
                  <a:lnTo>
                    <a:pt x="20" y="599"/>
                  </a:lnTo>
                  <a:lnTo>
                    <a:pt x="15" y="595"/>
                  </a:lnTo>
                  <a:lnTo>
                    <a:pt x="12" y="593"/>
                  </a:lnTo>
                  <a:lnTo>
                    <a:pt x="8" y="591"/>
                  </a:lnTo>
                  <a:lnTo>
                    <a:pt x="4" y="588"/>
                  </a:lnTo>
                  <a:lnTo>
                    <a:pt x="0" y="586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5678640" y="2522520"/>
              <a:ext cx="220680" cy="189000"/>
            </a:xfrm>
            <a:custGeom>
              <a:avLst/>
              <a:gdLst/>
              <a:ahLst/>
              <a:rect l="l" t="t" r="r" b="b"/>
              <a:pathLst>
                <a:path w="694" h="597">
                  <a:moveTo>
                    <a:pt x="0" y="576"/>
                  </a:moveTo>
                  <a:lnTo>
                    <a:pt x="686" y="0"/>
                  </a:lnTo>
                  <a:lnTo>
                    <a:pt x="687" y="6"/>
                  </a:lnTo>
                  <a:lnTo>
                    <a:pt x="688" y="10"/>
                  </a:lnTo>
                  <a:lnTo>
                    <a:pt x="689" y="16"/>
                  </a:lnTo>
                  <a:lnTo>
                    <a:pt x="690" y="20"/>
                  </a:lnTo>
                  <a:lnTo>
                    <a:pt x="691" y="25"/>
                  </a:lnTo>
                  <a:lnTo>
                    <a:pt x="692" y="31"/>
                  </a:lnTo>
                  <a:lnTo>
                    <a:pt x="693" y="35"/>
                  </a:lnTo>
                  <a:lnTo>
                    <a:pt x="694" y="40"/>
                  </a:lnTo>
                  <a:lnTo>
                    <a:pt x="31" y="597"/>
                  </a:lnTo>
                  <a:lnTo>
                    <a:pt x="27" y="595"/>
                  </a:lnTo>
                  <a:lnTo>
                    <a:pt x="23" y="592"/>
                  </a:lnTo>
                  <a:lnTo>
                    <a:pt x="20" y="589"/>
                  </a:lnTo>
                  <a:lnTo>
                    <a:pt x="16" y="587"/>
                  </a:lnTo>
                  <a:lnTo>
                    <a:pt x="12" y="584"/>
                  </a:lnTo>
                  <a:lnTo>
                    <a:pt x="8" y="582"/>
                  </a:lnTo>
                  <a:lnTo>
                    <a:pt x="5" y="580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5683320" y="2529000"/>
              <a:ext cx="217440" cy="185760"/>
            </a:xfrm>
            <a:custGeom>
              <a:avLst/>
              <a:gdLst/>
              <a:ahLst/>
              <a:rect l="l" t="t" r="r" b="b"/>
              <a:pathLst>
                <a:path w="683" h="588">
                  <a:moveTo>
                    <a:pt x="0" y="567"/>
                  </a:moveTo>
                  <a:lnTo>
                    <a:pt x="674" y="0"/>
                  </a:lnTo>
                  <a:lnTo>
                    <a:pt x="675" y="5"/>
                  </a:lnTo>
                  <a:lnTo>
                    <a:pt x="676" y="11"/>
                  </a:lnTo>
                  <a:lnTo>
                    <a:pt x="677" y="15"/>
                  </a:lnTo>
                  <a:lnTo>
                    <a:pt x="678" y="20"/>
                  </a:lnTo>
                  <a:lnTo>
                    <a:pt x="680" y="25"/>
                  </a:lnTo>
                  <a:lnTo>
                    <a:pt x="681" y="30"/>
                  </a:lnTo>
                  <a:lnTo>
                    <a:pt x="682" y="36"/>
                  </a:lnTo>
                  <a:lnTo>
                    <a:pt x="683" y="40"/>
                  </a:lnTo>
                  <a:lnTo>
                    <a:pt x="30" y="588"/>
                  </a:lnTo>
                  <a:lnTo>
                    <a:pt x="27" y="586"/>
                  </a:lnTo>
                  <a:lnTo>
                    <a:pt x="22" y="582"/>
                  </a:lnTo>
                  <a:lnTo>
                    <a:pt x="19" y="580"/>
                  </a:lnTo>
                  <a:lnTo>
                    <a:pt x="15" y="577"/>
                  </a:lnTo>
                  <a:lnTo>
                    <a:pt x="11" y="575"/>
                  </a:lnTo>
                  <a:lnTo>
                    <a:pt x="7" y="572"/>
                  </a:lnTo>
                  <a:lnTo>
                    <a:pt x="4" y="569"/>
                  </a:lnTo>
                  <a:lnTo>
                    <a:pt x="0" y="567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5688000" y="2535120"/>
              <a:ext cx="212760" cy="184320"/>
            </a:xfrm>
            <a:custGeom>
              <a:avLst/>
              <a:gdLst/>
              <a:ahLst/>
              <a:rect l="l" t="t" r="r" b="b"/>
              <a:pathLst>
                <a:path w="671" h="579">
                  <a:moveTo>
                    <a:pt x="0" y="557"/>
                  </a:moveTo>
                  <a:lnTo>
                    <a:pt x="663" y="0"/>
                  </a:lnTo>
                  <a:lnTo>
                    <a:pt x="665" y="5"/>
                  </a:lnTo>
                  <a:lnTo>
                    <a:pt x="666" y="10"/>
                  </a:lnTo>
                  <a:lnTo>
                    <a:pt x="667" y="15"/>
                  </a:lnTo>
                  <a:lnTo>
                    <a:pt x="667" y="20"/>
                  </a:lnTo>
                  <a:lnTo>
                    <a:pt x="668" y="25"/>
                  </a:lnTo>
                  <a:lnTo>
                    <a:pt x="669" y="30"/>
                  </a:lnTo>
                  <a:lnTo>
                    <a:pt x="670" y="35"/>
                  </a:lnTo>
                  <a:lnTo>
                    <a:pt x="671" y="39"/>
                  </a:lnTo>
                  <a:lnTo>
                    <a:pt x="30" y="579"/>
                  </a:lnTo>
                  <a:lnTo>
                    <a:pt x="27" y="575"/>
                  </a:lnTo>
                  <a:lnTo>
                    <a:pt x="22" y="573"/>
                  </a:lnTo>
                  <a:lnTo>
                    <a:pt x="19" y="570"/>
                  </a:lnTo>
                  <a:lnTo>
                    <a:pt x="15" y="568"/>
                  </a:lnTo>
                  <a:lnTo>
                    <a:pt x="12" y="566"/>
                  </a:lnTo>
                  <a:lnTo>
                    <a:pt x="7" y="562"/>
                  </a:lnTo>
                  <a:lnTo>
                    <a:pt x="4" y="560"/>
                  </a:lnTo>
                  <a:lnTo>
                    <a:pt x="0" y="557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5692680" y="2541600"/>
              <a:ext cx="209520" cy="181080"/>
            </a:xfrm>
            <a:custGeom>
              <a:avLst/>
              <a:gdLst/>
              <a:ahLst/>
              <a:rect l="l" t="t" r="r" b="b"/>
              <a:pathLst>
                <a:path w="660" h="569">
                  <a:moveTo>
                    <a:pt x="0" y="548"/>
                  </a:moveTo>
                  <a:lnTo>
                    <a:pt x="653" y="0"/>
                  </a:lnTo>
                  <a:lnTo>
                    <a:pt x="653" y="5"/>
                  </a:lnTo>
                  <a:lnTo>
                    <a:pt x="654" y="10"/>
                  </a:lnTo>
                  <a:lnTo>
                    <a:pt x="655" y="15"/>
                  </a:lnTo>
                  <a:lnTo>
                    <a:pt x="656" y="19"/>
                  </a:lnTo>
                  <a:lnTo>
                    <a:pt x="657" y="25"/>
                  </a:lnTo>
                  <a:lnTo>
                    <a:pt x="658" y="30"/>
                  </a:lnTo>
                  <a:lnTo>
                    <a:pt x="659" y="34"/>
                  </a:lnTo>
                  <a:lnTo>
                    <a:pt x="660" y="40"/>
                  </a:lnTo>
                  <a:lnTo>
                    <a:pt x="30" y="569"/>
                  </a:lnTo>
                  <a:lnTo>
                    <a:pt x="26" y="566"/>
                  </a:lnTo>
                  <a:lnTo>
                    <a:pt x="22" y="564"/>
                  </a:lnTo>
                  <a:lnTo>
                    <a:pt x="18" y="561"/>
                  </a:lnTo>
                  <a:lnTo>
                    <a:pt x="15" y="559"/>
                  </a:lnTo>
                  <a:lnTo>
                    <a:pt x="12" y="555"/>
                  </a:lnTo>
                  <a:lnTo>
                    <a:pt x="7" y="553"/>
                  </a:lnTo>
                  <a:lnTo>
                    <a:pt x="4" y="550"/>
                  </a:lnTo>
                  <a:lnTo>
                    <a:pt x="0" y="548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5697360" y="2548080"/>
              <a:ext cx="206640" cy="177480"/>
            </a:xfrm>
            <a:custGeom>
              <a:avLst/>
              <a:gdLst/>
              <a:ahLst/>
              <a:rect l="l" t="t" r="r" b="b"/>
              <a:pathLst>
                <a:path w="649" h="561">
                  <a:moveTo>
                    <a:pt x="0" y="540"/>
                  </a:moveTo>
                  <a:lnTo>
                    <a:pt x="641" y="0"/>
                  </a:lnTo>
                  <a:lnTo>
                    <a:pt x="642" y="6"/>
                  </a:lnTo>
                  <a:lnTo>
                    <a:pt x="643" y="11"/>
                  </a:lnTo>
                  <a:lnTo>
                    <a:pt x="644" y="15"/>
                  </a:lnTo>
                  <a:lnTo>
                    <a:pt x="645" y="21"/>
                  </a:lnTo>
                  <a:lnTo>
                    <a:pt x="645" y="26"/>
                  </a:lnTo>
                  <a:lnTo>
                    <a:pt x="646" y="31"/>
                  </a:lnTo>
                  <a:lnTo>
                    <a:pt x="647" y="36"/>
                  </a:lnTo>
                  <a:lnTo>
                    <a:pt x="649" y="40"/>
                  </a:lnTo>
                  <a:lnTo>
                    <a:pt x="29" y="561"/>
                  </a:lnTo>
                  <a:lnTo>
                    <a:pt x="26" y="559"/>
                  </a:lnTo>
                  <a:lnTo>
                    <a:pt x="21" y="556"/>
                  </a:lnTo>
                  <a:lnTo>
                    <a:pt x="18" y="553"/>
                  </a:lnTo>
                  <a:lnTo>
                    <a:pt x="15" y="550"/>
                  </a:lnTo>
                  <a:lnTo>
                    <a:pt x="11" y="547"/>
                  </a:lnTo>
                  <a:lnTo>
                    <a:pt x="7" y="545"/>
                  </a:lnTo>
                  <a:lnTo>
                    <a:pt x="3" y="542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5702400" y="2554200"/>
              <a:ext cx="201600" cy="174600"/>
            </a:xfrm>
            <a:custGeom>
              <a:avLst/>
              <a:gdLst/>
              <a:ahLst/>
              <a:rect l="l" t="t" r="r" b="b"/>
              <a:pathLst>
                <a:path w="637" h="551">
                  <a:moveTo>
                    <a:pt x="0" y="529"/>
                  </a:moveTo>
                  <a:lnTo>
                    <a:pt x="630" y="0"/>
                  </a:lnTo>
                  <a:lnTo>
                    <a:pt x="630" y="5"/>
                  </a:lnTo>
                  <a:lnTo>
                    <a:pt x="631" y="10"/>
                  </a:lnTo>
                  <a:lnTo>
                    <a:pt x="632" y="15"/>
                  </a:lnTo>
                  <a:lnTo>
                    <a:pt x="634" y="19"/>
                  </a:lnTo>
                  <a:lnTo>
                    <a:pt x="635" y="25"/>
                  </a:lnTo>
                  <a:lnTo>
                    <a:pt x="636" y="30"/>
                  </a:lnTo>
                  <a:lnTo>
                    <a:pt x="636" y="34"/>
                  </a:lnTo>
                  <a:lnTo>
                    <a:pt x="637" y="40"/>
                  </a:lnTo>
                  <a:lnTo>
                    <a:pt x="28" y="551"/>
                  </a:lnTo>
                  <a:lnTo>
                    <a:pt x="25" y="549"/>
                  </a:lnTo>
                  <a:lnTo>
                    <a:pt x="22" y="546"/>
                  </a:lnTo>
                  <a:lnTo>
                    <a:pt x="17" y="542"/>
                  </a:lnTo>
                  <a:lnTo>
                    <a:pt x="14" y="540"/>
                  </a:lnTo>
                  <a:lnTo>
                    <a:pt x="11" y="537"/>
                  </a:lnTo>
                  <a:lnTo>
                    <a:pt x="6" y="535"/>
                  </a:lnTo>
                  <a:lnTo>
                    <a:pt x="3" y="532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5707080" y="2560680"/>
              <a:ext cx="198360" cy="171360"/>
            </a:xfrm>
            <a:custGeom>
              <a:avLst/>
              <a:gdLst/>
              <a:ahLst/>
              <a:rect l="l" t="t" r="r" b="b"/>
              <a:pathLst>
                <a:path w="627" h="544">
                  <a:moveTo>
                    <a:pt x="0" y="521"/>
                  </a:moveTo>
                  <a:lnTo>
                    <a:pt x="620" y="0"/>
                  </a:lnTo>
                  <a:lnTo>
                    <a:pt x="621" y="6"/>
                  </a:lnTo>
                  <a:lnTo>
                    <a:pt x="622" y="11"/>
                  </a:lnTo>
                  <a:lnTo>
                    <a:pt x="622" y="15"/>
                  </a:lnTo>
                  <a:lnTo>
                    <a:pt x="623" y="21"/>
                  </a:lnTo>
                  <a:lnTo>
                    <a:pt x="624" y="26"/>
                  </a:lnTo>
                  <a:lnTo>
                    <a:pt x="625" y="31"/>
                  </a:lnTo>
                  <a:lnTo>
                    <a:pt x="626" y="36"/>
                  </a:lnTo>
                  <a:lnTo>
                    <a:pt x="627" y="41"/>
                  </a:lnTo>
                  <a:lnTo>
                    <a:pt x="29" y="544"/>
                  </a:lnTo>
                  <a:lnTo>
                    <a:pt x="25" y="541"/>
                  </a:lnTo>
                  <a:lnTo>
                    <a:pt x="22" y="537"/>
                  </a:lnTo>
                  <a:lnTo>
                    <a:pt x="18" y="535"/>
                  </a:lnTo>
                  <a:lnTo>
                    <a:pt x="14" y="532"/>
                  </a:lnTo>
                  <a:lnTo>
                    <a:pt x="11" y="530"/>
                  </a:lnTo>
                  <a:lnTo>
                    <a:pt x="8" y="527"/>
                  </a:lnTo>
                  <a:lnTo>
                    <a:pt x="3" y="524"/>
                  </a:lnTo>
                  <a:lnTo>
                    <a:pt x="0" y="521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5711760" y="2567160"/>
              <a:ext cx="195480" cy="169560"/>
            </a:xfrm>
            <a:custGeom>
              <a:avLst/>
              <a:gdLst/>
              <a:ahLst/>
              <a:rect l="l" t="t" r="r" b="b"/>
              <a:pathLst>
                <a:path w="616" h="534">
                  <a:moveTo>
                    <a:pt x="0" y="511"/>
                  </a:moveTo>
                  <a:lnTo>
                    <a:pt x="609" y="0"/>
                  </a:lnTo>
                  <a:lnTo>
                    <a:pt x="610" y="5"/>
                  </a:lnTo>
                  <a:lnTo>
                    <a:pt x="611" y="10"/>
                  </a:lnTo>
                  <a:lnTo>
                    <a:pt x="612" y="15"/>
                  </a:lnTo>
                  <a:lnTo>
                    <a:pt x="613" y="20"/>
                  </a:lnTo>
                  <a:lnTo>
                    <a:pt x="613" y="25"/>
                  </a:lnTo>
                  <a:lnTo>
                    <a:pt x="614" y="30"/>
                  </a:lnTo>
                  <a:lnTo>
                    <a:pt x="615" y="36"/>
                  </a:lnTo>
                  <a:lnTo>
                    <a:pt x="616" y="40"/>
                  </a:lnTo>
                  <a:lnTo>
                    <a:pt x="28" y="534"/>
                  </a:lnTo>
                  <a:lnTo>
                    <a:pt x="25" y="530"/>
                  </a:lnTo>
                  <a:lnTo>
                    <a:pt x="22" y="528"/>
                  </a:lnTo>
                  <a:lnTo>
                    <a:pt x="18" y="525"/>
                  </a:lnTo>
                  <a:lnTo>
                    <a:pt x="14" y="523"/>
                  </a:lnTo>
                  <a:lnTo>
                    <a:pt x="11" y="520"/>
                  </a:lnTo>
                  <a:lnTo>
                    <a:pt x="8" y="516"/>
                  </a:lnTo>
                  <a:lnTo>
                    <a:pt x="4" y="514"/>
                  </a:lnTo>
                  <a:lnTo>
                    <a:pt x="0" y="511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5716440" y="2573280"/>
              <a:ext cx="192240" cy="166680"/>
            </a:xfrm>
            <a:custGeom>
              <a:avLst/>
              <a:gdLst/>
              <a:ahLst/>
              <a:rect l="l" t="t" r="r" b="b"/>
              <a:pathLst>
                <a:path w="605" h="526">
                  <a:moveTo>
                    <a:pt x="0" y="503"/>
                  </a:moveTo>
                  <a:lnTo>
                    <a:pt x="598" y="0"/>
                  </a:lnTo>
                  <a:lnTo>
                    <a:pt x="598" y="5"/>
                  </a:lnTo>
                  <a:lnTo>
                    <a:pt x="599" y="10"/>
                  </a:lnTo>
                  <a:lnTo>
                    <a:pt x="600" y="16"/>
                  </a:lnTo>
                  <a:lnTo>
                    <a:pt x="601" y="20"/>
                  </a:lnTo>
                  <a:lnTo>
                    <a:pt x="602" y="25"/>
                  </a:lnTo>
                  <a:lnTo>
                    <a:pt x="602" y="31"/>
                  </a:lnTo>
                  <a:lnTo>
                    <a:pt x="603" y="35"/>
                  </a:lnTo>
                  <a:lnTo>
                    <a:pt x="605" y="40"/>
                  </a:lnTo>
                  <a:lnTo>
                    <a:pt x="27" y="526"/>
                  </a:lnTo>
                  <a:lnTo>
                    <a:pt x="24" y="522"/>
                  </a:lnTo>
                  <a:lnTo>
                    <a:pt x="21" y="519"/>
                  </a:lnTo>
                  <a:lnTo>
                    <a:pt x="17" y="517"/>
                  </a:lnTo>
                  <a:lnTo>
                    <a:pt x="13" y="514"/>
                  </a:lnTo>
                  <a:lnTo>
                    <a:pt x="10" y="510"/>
                  </a:lnTo>
                  <a:lnTo>
                    <a:pt x="7" y="508"/>
                  </a:lnTo>
                  <a:lnTo>
                    <a:pt x="3" y="505"/>
                  </a:lnTo>
                  <a:lnTo>
                    <a:pt x="0" y="503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5719680" y="2579760"/>
              <a:ext cx="189000" cy="163440"/>
            </a:xfrm>
            <a:custGeom>
              <a:avLst/>
              <a:gdLst/>
              <a:ahLst/>
              <a:rect l="l" t="t" r="r" b="b"/>
              <a:pathLst>
                <a:path w="595" h="516">
                  <a:moveTo>
                    <a:pt x="0" y="494"/>
                  </a:moveTo>
                  <a:lnTo>
                    <a:pt x="588" y="0"/>
                  </a:lnTo>
                  <a:lnTo>
                    <a:pt x="589" y="5"/>
                  </a:lnTo>
                  <a:lnTo>
                    <a:pt x="589" y="11"/>
                  </a:lnTo>
                  <a:lnTo>
                    <a:pt x="590" y="15"/>
                  </a:lnTo>
                  <a:lnTo>
                    <a:pt x="592" y="20"/>
                  </a:lnTo>
                  <a:lnTo>
                    <a:pt x="593" y="26"/>
                  </a:lnTo>
                  <a:lnTo>
                    <a:pt x="594" y="30"/>
                  </a:lnTo>
                  <a:lnTo>
                    <a:pt x="594" y="36"/>
                  </a:lnTo>
                  <a:lnTo>
                    <a:pt x="595" y="41"/>
                  </a:lnTo>
                  <a:lnTo>
                    <a:pt x="28" y="516"/>
                  </a:lnTo>
                  <a:lnTo>
                    <a:pt x="25" y="514"/>
                  </a:lnTo>
                  <a:lnTo>
                    <a:pt x="22" y="511"/>
                  </a:lnTo>
                  <a:lnTo>
                    <a:pt x="17" y="508"/>
                  </a:lnTo>
                  <a:lnTo>
                    <a:pt x="14" y="506"/>
                  </a:lnTo>
                  <a:lnTo>
                    <a:pt x="11" y="502"/>
                  </a:lnTo>
                  <a:lnTo>
                    <a:pt x="8" y="499"/>
                  </a:lnTo>
                  <a:lnTo>
                    <a:pt x="4" y="497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5724360" y="2585880"/>
              <a:ext cx="185760" cy="160560"/>
            </a:xfrm>
            <a:custGeom>
              <a:avLst/>
              <a:gdLst/>
              <a:ahLst/>
              <a:rect l="l" t="t" r="r" b="b"/>
              <a:pathLst>
                <a:path w="584" h="508">
                  <a:moveTo>
                    <a:pt x="0" y="486"/>
                  </a:moveTo>
                  <a:lnTo>
                    <a:pt x="578" y="0"/>
                  </a:lnTo>
                  <a:lnTo>
                    <a:pt x="579" y="6"/>
                  </a:lnTo>
                  <a:lnTo>
                    <a:pt x="580" y="10"/>
                  </a:lnTo>
                  <a:lnTo>
                    <a:pt x="580" y="16"/>
                  </a:lnTo>
                  <a:lnTo>
                    <a:pt x="581" y="21"/>
                  </a:lnTo>
                  <a:lnTo>
                    <a:pt x="582" y="26"/>
                  </a:lnTo>
                  <a:lnTo>
                    <a:pt x="583" y="31"/>
                  </a:lnTo>
                  <a:lnTo>
                    <a:pt x="583" y="36"/>
                  </a:lnTo>
                  <a:lnTo>
                    <a:pt x="584" y="41"/>
                  </a:lnTo>
                  <a:lnTo>
                    <a:pt x="28" y="508"/>
                  </a:lnTo>
                  <a:lnTo>
                    <a:pt x="25" y="505"/>
                  </a:lnTo>
                  <a:lnTo>
                    <a:pt x="21" y="503"/>
                  </a:lnTo>
                  <a:lnTo>
                    <a:pt x="17" y="500"/>
                  </a:lnTo>
                  <a:lnTo>
                    <a:pt x="14" y="496"/>
                  </a:lnTo>
                  <a:lnTo>
                    <a:pt x="11" y="494"/>
                  </a:lnTo>
                  <a:lnTo>
                    <a:pt x="8" y="491"/>
                  </a:lnTo>
                  <a:lnTo>
                    <a:pt x="3" y="488"/>
                  </a:lnTo>
                  <a:lnTo>
                    <a:pt x="0" y="486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5729400" y="2592360"/>
              <a:ext cx="180720" cy="158760"/>
            </a:xfrm>
            <a:custGeom>
              <a:avLst/>
              <a:gdLst/>
              <a:ahLst/>
              <a:rect l="l" t="t" r="r" b="b"/>
              <a:pathLst>
                <a:path w="573" h="499">
                  <a:moveTo>
                    <a:pt x="0" y="475"/>
                  </a:moveTo>
                  <a:lnTo>
                    <a:pt x="567" y="0"/>
                  </a:lnTo>
                  <a:lnTo>
                    <a:pt x="568" y="5"/>
                  </a:lnTo>
                  <a:lnTo>
                    <a:pt x="569" y="10"/>
                  </a:lnTo>
                  <a:lnTo>
                    <a:pt x="569" y="15"/>
                  </a:lnTo>
                  <a:lnTo>
                    <a:pt x="570" y="20"/>
                  </a:lnTo>
                  <a:lnTo>
                    <a:pt x="571" y="26"/>
                  </a:lnTo>
                  <a:lnTo>
                    <a:pt x="572" y="30"/>
                  </a:lnTo>
                  <a:lnTo>
                    <a:pt x="572" y="36"/>
                  </a:lnTo>
                  <a:lnTo>
                    <a:pt x="573" y="41"/>
                  </a:lnTo>
                  <a:lnTo>
                    <a:pt x="27" y="499"/>
                  </a:lnTo>
                  <a:lnTo>
                    <a:pt x="24" y="496"/>
                  </a:lnTo>
                  <a:lnTo>
                    <a:pt x="21" y="494"/>
                  </a:lnTo>
                  <a:lnTo>
                    <a:pt x="17" y="491"/>
                  </a:lnTo>
                  <a:lnTo>
                    <a:pt x="14" y="487"/>
                  </a:lnTo>
                  <a:lnTo>
                    <a:pt x="10" y="484"/>
                  </a:lnTo>
                  <a:lnTo>
                    <a:pt x="7" y="482"/>
                  </a:lnTo>
                  <a:lnTo>
                    <a:pt x="3" y="479"/>
                  </a:lnTo>
                  <a:lnTo>
                    <a:pt x="0" y="475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5734080" y="2598840"/>
              <a:ext cx="177840" cy="155520"/>
            </a:xfrm>
            <a:custGeom>
              <a:avLst/>
              <a:gdLst/>
              <a:ahLst/>
              <a:rect l="l" t="t" r="r" b="b"/>
              <a:pathLst>
                <a:path w="563" h="491">
                  <a:moveTo>
                    <a:pt x="0" y="467"/>
                  </a:moveTo>
                  <a:lnTo>
                    <a:pt x="556" y="0"/>
                  </a:lnTo>
                  <a:lnTo>
                    <a:pt x="557" y="5"/>
                  </a:lnTo>
                  <a:lnTo>
                    <a:pt x="558" y="10"/>
                  </a:lnTo>
                  <a:lnTo>
                    <a:pt x="558" y="16"/>
                  </a:lnTo>
                  <a:lnTo>
                    <a:pt x="559" y="21"/>
                  </a:lnTo>
                  <a:lnTo>
                    <a:pt x="560" y="25"/>
                  </a:lnTo>
                  <a:lnTo>
                    <a:pt x="560" y="31"/>
                  </a:lnTo>
                  <a:lnTo>
                    <a:pt x="561" y="36"/>
                  </a:lnTo>
                  <a:lnTo>
                    <a:pt x="563" y="42"/>
                  </a:lnTo>
                  <a:lnTo>
                    <a:pt x="27" y="491"/>
                  </a:lnTo>
                  <a:lnTo>
                    <a:pt x="23" y="488"/>
                  </a:lnTo>
                  <a:lnTo>
                    <a:pt x="20" y="486"/>
                  </a:lnTo>
                  <a:lnTo>
                    <a:pt x="16" y="482"/>
                  </a:lnTo>
                  <a:lnTo>
                    <a:pt x="13" y="479"/>
                  </a:lnTo>
                  <a:lnTo>
                    <a:pt x="10" y="476"/>
                  </a:lnTo>
                  <a:lnTo>
                    <a:pt x="7" y="474"/>
                  </a:lnTo>
                  <a:lnTo>
                    <a:pt x="3" y="471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5737320" y="2604960"/>
              <a:ext cx="176040" cy="154080"/>
            </a:xfrm>
            <a:custGeom>
              <a:avLst/>
              <a:gdLst/>
              <a:ahLst/>
              <a:rect l="l" t="t" r="r" b="b"/>
              <a:pathLst>
                <a:path w="553" h="482">
                  <a:moveTo>
                    <a:pt x="0" y="458"/>
                  </a:moveTo>
                  <a:lnTo>
                    <a:pt x="546" y="0"/>
                  </a:lnTo>
                  <a:lnTo>
                    <a:pt x="547" y="4"/>
                  </a:lnTo>
                  <a:lnTo>
                    <a:pt x="547" y="10"/>
                  </a:lnTo>
                  <a:lnTo>
                    <a:pt x="548" y="15"/>
                  </a:lnTo>
                  <a:lnTo>
                    <a:pt x="550" y="21"/>
                  </a:lnTo>
                  <a:lnTo>
                    <a:pt x="551" y="25"/>
                  </a:lnTo>
                  <a:lnTo>
                    <a:pt x="551" y="30"/>
                  </a:lnTo>
                  <a:lnTo>
                    <a:pt x="552" y="36"/>
                  </a:lnTo>
                  <a:lnTo>
                    <a:pt x="553" y="41"/>
                  </a:lnTo>
                  <a:lnTo>
                    <a:pt x="27" y="482"/>
                  </a:lnTo>
                  <a:lnTo>
                    <a:pt x="24" y="480"/>
                  </a:lnTo>
                  <a:lnTo>
                    <a:pt x="20" y="477"/>
                  </a:lnTo>
                  <a:lnTo>
                    <a:pt x="16" y="473"/>
                  </a:lnTo>
                  <a:lnTo>
                    <a:pt x="13" y="470"/>
                  </a:lnTo>
                  <a:lnTo>
                    <a:pt x="10" y="467"/>
                  </a:lnTo>
                  <a:lnTo>
                    <a:pt x="7" y="465"/>
                  </a:lnTo>
                  <a:lnTo>
                    <a:pt x="3" y="461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5742000" y="2611440"/>
              <a:ext cx="171360" cy="150840"/>
            </a:xfrm>
            <a:custGeom>
              <a:avLst/>
              <a:gdLst/>
              <a:ahLst/>
              <a:rect l="l" t="t" r="r" b="b"/>
              <a:pathLst>
                <a:path w="542" h="474">
                  <a:moveTo>
                    <a:pt x="0" y="449"/>
                  </a:moveTo>
                  <a:lnTo>
                    <a:pt x="536" y="0"/>
                  </a:lnTo>
                  <a:lnTo>
                    <a:pt x="537" y="4"/>
                  </a:lnTo>
                  <a:lnTo>
                    <a:pt x="537" y="9"/>
                  </a:lnTo>
                  <a:lnTo>
                    <a:pt x="538" y="15"/>
                  </a:lnTo>
                  <a:lnTo>
                    <a:pt x="539" y="20"/>
                  </a:lnTo>
                  <a:lnTo>
                    <a:pt x="539" y="24"/>
                  </a:lnTo>
                  <a:lnTo>
                    <a:pt x="540" y="30"/>
                  </a:lnTo>
                  <a:lnTo>
                    <a:pt x="541" y="35"/>
                  </a:lnTo>
                  <a:lnTo>
                    <a:pt x="542" y="41"/>
                  </a:lnTo>
                  <a:lnTo>
                    <a:pt x="26" y="474"/>
                  </a:lnTo>
                  <a:lnTo>
                    <a:pt x="23" y="471"/>
                  </a:lnTo>
                  <a:lnTo>
                    <a:pt x="20" y="467"/>
                  </a:lnTo>
                  <a:lnTo>
                    <a:pt x="16" y="464"/>
                  </a:lnTo>
                  <a:lnTo>
                    <a:pt x="13" y="461"/>
                  </a:lnTo>
                  <a:lnTo>
                    <a:pt x="10" y="459"/>
                  </a:lnTo>
                  <a:lnTo>
                    <a:pt x="7" y="456"/>
                  </a:lnTo>
                  <a:lnTo>
                    <a:pt x="3" y="452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5746680" y="2617920"/>
              <a:ext cx="168480" cy="149040"/>
            </a:xfrm>
            <a:custGeom>
              <a:avLst/>
              <a:gdLst/>
              <a:ahLst/>
              <a:rect l="l" t="t" r="r" b="b"/>
              <a:pathLst>
                <a:path w="531" h="466">
                  <a:moveTo>
                    <a:pt x="0" y="441"/>
                  </a:moveTo>
                  <a:lnTo>
                    <a:pt x="526" y="0"/>
                  </a:lnTo>
                  <a:lnTo>
                    <a:pt x="526" y="4"/>
                  </a:lnTo>
                  <a:lnTo>
                    <a:pt x="527" y="10"/>
                  </a:lnTo>
                  <a:lnTo>
                    <a:pt x="528" y="15"/>
                  </a:lnTo>
                  <a:lnTo>
                    <a:pt x="529" y="21"/>
                  </a:lnTo>
                  <a:lnTo>
                    <a:pt x="529" y="26"/>
                  </a:lnTo>
                  <a:lnTo>
                    <a:pt x="530" y="30"/>
                  </a:lnTo>
                  <a:lnTo>
                    <a:pt x="530" y="36"/>
                  </a:lnTo>
                  <a:lnTo>
                    <a:pt x="531" y="41"/>
                  </a:lnTo>
                  <a:lnTo>
                    <a:pt x="26" y="466"/>
                  </a:lnTo>
                  <a:lnTo>
                    <a:pt x="23" y="463"/>
                  </a:lnTo>
                  <a:lnTo>
                    <a:pt x="20" y="459"/>
                  </a:lnTo>
                  <a:lnTo>
                    <a:pt x="16" y="456"/>
                  </a:lnTo>
                  <a:lnTo>
                    <a:pt x="13" y="454"/>
                  </a:lnTo>
                  <a:lnTo>
                    <a:pt x="10" y="451"/>
                  </a:lnTo>
                  <a:lnTo>
                    <a:pt x="7" y="447"/>
                  </a:lnTo>
                  <a:lnTo>
                    <a:pt x="3" y="444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5749920" y="2625840"/>
              <a:ext cx="165240" cy="144360"/>
            </a:xfrm>
            <a:custGeom>
              <a:avLst/>
              <a:gdLst/>
              <a:ahLst/>
              <a:rect l="l" t="t" r="r" b="b"/>
              <a:pathLst>
                <a:path w="521" h="457">
                  <a:moveTo>
                    <a:pt x="0" y="433"/>
                  </a:moveTo>
                  <a:lnTo>
                    <a:pt x="516" y="0"/>
                  </a:lnTo>
                  <a:lnTo>
                    <a:pt x="516" y="5"/>
                  </a:lnTo>
                  <a:lnTo>
                    <a:pt x="517" y="9"/>
                  </a:lnTo>
                  <a:lnTo>
                    <a:pt x="517" y="15"/>
                  </a:lnTo>
                  <a:lnTo>
                    <a:pt x="518" y="20"/>
                  </a:lnTo>
                  <a:lnTo>
                    <a:pt x="519" y="26"/>
                  </a:lnTo>
                  <a:lnTo>
                    <a:pt x="519" y="31"/>
                  </a:lnTo>
                  <a:lnTo>
                    <a:pt x="520" y="35"/>
                  </a:lnTo>
                  <a:lnTo>
                    <a:pt x="521" y="41"/>
                  </a:lnTo>
                  <a:lnTo>
                    <a:pt x="26" y="457"/>
                  </a:lnTo>
                  <a:lnTo>
                    <a:pt x="23" y="455"/>
                  </a:lnTo>
                  <a:lnTo>
                    <a:pt x="20" y="451"/>
                  </a:lnTo>
                  <a:lnTo>
                    <a:pt x="16" y="448"/>
                  </a:lnTo>
                  <a:lnTo>
                    <a:pt x="13" y="445"/>
                  </a:lnTo>
                  <a:lnTo>
                    <a:pt x="10" y="442"/>
                  </a:lnTo>
                  <a:lnTo>
                    <a:pt x="7" y="438"/>
                  </a:lnTo>
                  <a:lnTo>
                    <a:pt x="3" y="435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5754600" y="2631960"/>
              <a:ext cx="162000" cy="142920"/>
            </a:xfrm>
            <a:custGeom>
              <a:avLst/>
              <a:gdLst/>
              <a:ahLst/>
              <a:rect l="l" t="t" r="r" b="b"/>
              <a:pathLst>
                <a:path w="511" h="450">
                  <a:moveTo>
                    <a:pt x="0" y="425"/>
                  </a:moveTo>
                  <a:lnTo>
                    <a:pt x="505" y="0"/>
                  </a:lnTo>
                  <a:lnTo>
                    <a:pt x="506" y="6"/>
                  </a:lnTo>
                  <a:lnTo>
                    <a:pt x="506" y="11"/>
                  </a:lnTo>
                  <a:lnTo>
                    <a:pt x="507" y="15"/>
                  </a:lnTo>
                  <a:lnTo>
                    <a:pt x="508" y="21"/>
                  </a:lnTo>
                  <a:lnTo>
                    <a:pt x="508" y="26"/>
                  </a:lnTo>
                  <a:lnTo>
                    <a:pt x="509" y="31"/>
                  </a:lnTo>
                  <a:lnTo>
                    <a:pt x="511" y="37"/>
                  </a:lnTo>
                  <a:lnTo>
                    <a:pt x="511" y="41"/>
                  </a:lnTo>
                  <a:lnTo>
                    <a:pt x="25" y="450"/>
                  </a:lnTo>
                  <a:lnTo>
                    <a:pt x="22" y="446"/>
                  </a:lnTo>
                  <a:lnTo>
                    <a:pt x="18" y="443"/>
                  </a:lnTo>
                  <a:lnTo>
                    <a:pt x="15" y="440"/>
                  </a:lnTo>
                  <a:lnTo>
                    <a:pt x="12" y="437"/>
                  </a:lnTo>
                  <a:lnTo>
                    <a:pt x="9" y="435"/>
                  </a:lnTo>
                  <a:lnTo>
                    <a:pt x="7" y="431"/>
                  </a:lnTo>
                  <a:lnTo>
                    <a:pt x="3" y="428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5757840" y="2638440"/>
              <a:ext cx="160200" cy="139680"/>
            </a:xfrm>
            <a:custGeom>
              <a:avLst/>
              <a:gdLst/>
              <a:ahLst/>
              <a:rect l="l" t="t" r="r" b="b"/>
              <a:pathLst>
                <a:path w="501" h="442">
                  <a:moveTo>
                    <a:pt x="0" y="416"/>
                  </a:moveTo>
                  <a:lnTo>
                    <a:pt x="495" y="0"/>
                  </a:lnTo>
                  <a:lnTo>
                    <a:pt x="495" y="5"/>
                  </a:lnTo>
                  <a:lnTo>
                    <a:pt x="496" y="10"/>
                  </a:lnTo>
                  <a:lnTo>
                    <a:pt x="498" y="16"/>
                  </a:lnTo>
                  <a:lnTo>
                    <a:pt x="498" y="20"/>
                  </a:lnTo>
                  <a:lnTo>
                    <a:pt x="499" y="26"/>
                  </a:lnTo>
                  <a:lnTo>
                    <a:pt x="499" y="31"/>
                  </a:lnTo>
                  <a:lnTo>
                    <a:pt x="500" y="36"/>
                  </a:lnTo>
                  <a:lnTo>
                    <a:pt x="501" y="42"/>
                  </a:lnTo>
                  <a:lnTo>
                    <a:pt x="25" y="442"/>
                  </a:lnTo>
                  <a:lnTo>
                    <a:pt x="22" y="438"/>
                  </a:lnTo>
                  <a:lnTo>
                    <a:pt x="18" y="435"/>
                  </a:lnTo>
                  <a:lnTo>
                    <a:pt x="15" y="432"/>
                  </a:lnTo>
                  <a:lnTo>
                    <a:pt x="12" y="429"/>
                  </a:lnTo>
                  <a:lnTo>
                    <a:pt x="9" y="425"/>
                  </a:lnTo>
                  <a:lnTo>
                    <a:pt x="5" y="422"/>
                  </a:lnTo>
                  <a:lnTo>
                    <a:pt x="2" y="419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5762520" y="2644920"/>
              <a:ext cx="155520" cy="137880"/>
            </a:xfrm>
            <a:custGeom>
              <a:avLst/>
              <a:gdLst/>
              <a:ahLst/>
              <a:rect l="l" t="t" r="r" b="b"/>
              <a:pathLst>
                <a:path w="491" h="434">
                  <a:moveTo>
                    <a:pt x="0" y="409"/>
                  </a:moveTo>
                  <a:lnTo>
                    <a:pt x="486" y="0"/>
                  </a:lnTo>
                  <a:lnTo>
                    <a:pt x="487" y="6"/>
                  </a:lnTo>
                  <a:lnTo>
                    <a:pt x="487" y="11"/>
                  </a:lnTo>
                  <a:lnTo>
                    <a:pt x="488" y="16"/>
                  </a:lnTo>
                  <a:lnTo>
                    <a:pt x="489" y="22"/>
                  </a:lnTo>
                  <a:lnTo>
                    <a:pt x="489" y="27"/>
                  </a:lnTo>
                  <a:lnTo>
                    <a:pt x="490" y="33"/>
                  </a:lnTo>
                  <a:lnTo>
                    <a:pt x="490" y="37"/>
                  </a:lnTo>
                  <a:lnTo>
                    <a:pt x="491" y="42"/>
                  </a:lnTo>
                  <a:lnTo>
                    <a:pt x="25" y="434"/>
                  </a:lnTo>
                  <a:lnTo>
                    <a:pt x="23" y="430"/>
                  </a:lnTo>
                  <a:lnTo>
                    <a:pt x="19" y="427"/>
                  </a:lnTo>
                  <a:lnTo>
                    <a:pt x="16" y="425"/>
                  </a:lnTo>
                  <a:lnTo>
                    <a:pt x="13" y="422"/>
                  </a:lnTo>
                  <a:lnTo>
                    <a:pt x="10" y="418"/>
                  </a:lnTo>
                  <a:lnTo>
                    <a:pt x="6" y="415"/>
                  </a:lnTo>
                  <a:lnTo>
                    <a:pt x="3" y="412"/>
                  </a:lnTo>
                  <a:lnTo>
                    <a:pt x="0" y="409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5765760" y="2651040"/>
              <a:ext cx="152280" cy="135000"/>
            </a:xfrm>
            <a:custGeom>
              <a:avLst/>
              <a:gdLst/>
              <a:ahLst/>
              <a:rect l="l" t="t" r="r" b="b"/>
              <a:pathLst>
                <a:path w="480" h="424">
                  <a:moveTo>
                    <a:pt x="0" y="400"/>
                  </a:moveTo>
                  <a:lnTo>
                    <a:pt x="476" y="0"/>
                  </a:lnTo>
                  <a:lnTo>
                    <a:pt x="476" y="5"/>
                  </a:lnTo>
                  <a:lnTo>
                    <a:pt x="477" y="11"/>
                  </a:lnTo>
                  <a:lnTo>
                    <a:pt x="477" y="15"/>
                  </a:lnTo>
                  <a:lnTo>
                    <a:pt x="478" y="20"/>
                  </a:lnTo>
                  <a:lnTo>
                    <a:pt x="479" y="26"/>
                  </a:lnTo>
                  <a:lnTo>
                    <a:pt x="479" y="31"/>
                  </a:lnTo>
                  <a:lnTo>
                    <a:pt x="480" y="37"/>
                  </a:lnTo>
                  <a:lnTo>
                    <a:pt x="480" y="42"/>
                  </a:lnTo>
                  <a:lnTo>
                    <a:pt x="25" y="424"/>
                  </a:lnTo>
                  <a:lnTo>
                    <a:pt x="21" y="421"/>
                  </a:lnTo>
                  <a:lnTo>
                    <a:pt x="18" y="418"/>
                  </a:lnTo>
                  <a:lnTo>
                    <a:pt x="15" y="415"/>
                  </a:lnTo>
                  <a:lnTo>
                    <a:pt x="12" y="412"/>
                  </a:lnTo>
                  <a:lnTo>
                    <a:pt x="8" y="408"/>
                  </a:lnTo>
                  <a:lnTo>
                    <a:pt x="6" y="405"/>
                  </a:lnTo>
                  <a:lnTo>
                    <a:pt x="3" y="403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5770440" y="2657520"/>
              <a:ext cx="149400" cy="133200"/>
            </a:xfrm>
            <a:custGeom>
              <a:avLst/>
              <a:gdLst/>
              <a:ahLst/>
              <a:rect l="l" t="t" r="r" b="b"/>
              <a:pathLst>
                <a:path w="470" h="417">
                  <a:moveTo>
                    <a:pt x="0" y="392"/>
                  </a:moveTo>
                  <a:lnTo>
                    <a:pt x="466" y="0"/>
                  </a:lnTo>
                  <a:lnTo>
                    <a:pt x="467" y="6"/>
                  </a:lnTo>
                  <a:lnTo>
                    <a:pt x="467" y="11"/>
                  </a:lnTo>
                  <a:lnTo>
                    <a:pt x="468" y="17"/>
                  </a:lnTo>
                  <a:lnTo>
                    <a:pt x="468" y="22"/>
                  </a:lnTo>
                  <a:lnTo>
                    <a:pt x="469" y="27"/>
                  </a:lnTo>
                  <a:lnTo>
                    <a:pt x="469" y="33"/>
                  </a:lnTo>
                  <a:lnTo>
                    <a:pt x="470" y="37"/>
                  </a:lnTo>
                  <a:lnTo>
                    <a:pt x="470" y="42"/>
                  </a:lnTo>
                  <a:lnTo>
                    <a:pt x="25" y="417"/>
                  </a:lnTo>
                  <a:lnTo>
                    <a:pt x="21" y="414"/>
                  </a:lnTo>
                  <a:lnTo>
                    <a:pt x="18" y="411"/>
                  </a:lnTo>
                  <a:lnTo>
                    <a:pt x="16" y="408"/>
                  </a:lnTo>
                  <a:lnTo>
                    <a:pt x="13" y="404"/>
                  </a:lnTo>
                  <a:lnTo>
                    <a:pt x="9" y="401"/>
                  </a:lnTo>
                  <a:lnTo>
                    <a:pt x="6" y="398"/>
                  </a:lnTo>
                  <a:lnTo>
                    <a:pt x="3" y="395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5773680" y="2665440"/>
              <a:ext cx="147600" cy="128520"/>
            </a:xfrm>
            <a:custGeom>
              <a:avLst/>
              <a:gdLst/>
              <a:ahLst/>
              <a:rect l="l" t="t" r="r" b="b"/>
              <a:pathLst>
                <a:path w="461" h="408">
                  <a:moveTo>
                    <a:pt x="0" y="382"/>
                  </a:moveTo>
                  <a:lnTo>
                    <a:pt x="455" y="0"/>
                  </a:lnTo>
                  <a:lnTo>
                    <a:pt x="456" y="5"/>
                  </a:lnTo>
                  <a:lnTo>
                    <a:pt x="456" y="10"/>
                  </a:lnTo>
                  <a:lnTo>
                    <a:pt x="457" y="15"/>
                  </a:lnTo>
                  <a:lnTo>
                    <a:pt x="457" y="20"/>
                  </a:lnTo>
                  <a:lnTo>
                    <a:pt x="458" y="26"/>
                  </a:lnTo>
                  <a:lnTo>
                    <a:pt x="459" y="31"/>
                  </a:lnTo>
                  <a:lnTo>
                    <a:pt x="459" y="37"/>
                  </a:lnTo>
                  <a:lnTo>
                    <a:pt x="461" y="42"/>
                  </a:lnTo>
                  <a:lnTo>
                    <a:pt x="23" y="408"/>
                  </a:lnTo>
                  <a:lnTo>
                    <a:pt x="20" y="405"/>
                  </a:lnTo>
                  <a:lnTo>
                    <a:pt x="18" y="402"/>
                  </a:lnTo>
                  <a:lnTo>
                    <a:pt x="15" y="399"/>
                  </a:lnTo>
                  <a:lnTo>
                    <a:pt x="12" y="395"/>
                  </a:lnTo>
                  <a:lnTo>
                    <a:pt x="8" y="392"/>
                  </a:lnTo>
                  <a:lnTo>
                    <a:pt x="5" y="389"/>
                  </a:lnTo>
                  <a:lnTo>
                    <a:pt x="3" y="386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5778360" y="2671920"/>
              <a:ext cx="142920" cy="126720"/>
            </a:xfrm>
            <a:custGeom>
              <a:avLst/>
              <a:gdLst/>
              <a:ahLst/>
              <a:rect l="l" t="t" r="r" b="b"/>
              <a:pathLst>
                <a:path w="451" h="401">
                  <a:moveTo>
                    <a:pt x="0" y="375"/>
                  </a:moveTo>
                  <a:lnTo>
                    <a:pt x="445" y="0"/>
                  </a:lnTo>
                  <a:lnTo>
                    <a:pt x="446" y="6"/>
                  </a:lnTo>
                  <a:lnTo>
                    <a:pt x="446" y="11"/>
                  </a:lnTo>
                  <a:lnTo>
                    <a:pt x="447" y="17"/>
                  </a:lnTo>
                  <a:lnTo>
                    <a:pt x="449" y="22"/>
                  </a:lnTo>
                  <a:lnTo>
                    <a:pt x="449" y="27"/>
                  </a:lnTo>
                  <a:lnTo>
                    <a:pt x="450" y="33"/>
                  </a:lnTo>
                  <a:lnTo>
                    <a:pt x="450" y="38"/>
                  </a:lnTo>
                  <a:lnTo>
                    <a:pt x="451" y="44"/>
                  </a:lnTo>
                  <a:lnTo>
                    <a:pt x="23" y="401"/>
                  </a:lnTo>
                  <a:lnTo>
                    <a:pt x="20" y="398"/>
                  </a:lnTo>
                  <a:lnTo>
                    <a:pt x="18" y="395"/>
                  </a:lnTo>
                  <a:lnTo>
                    <a:pt x="15" y="392"/>
                  </a:lnTo>
                  <a:lnTo>
                    <a:pt x="11" y="388"/>
                  </a:lnTo>
                  <a:lnTo>
                    <a:pt x="8" y="385"/>
                  </a:lnTo>
                  <a:lnTo>
                    <a:pt x="6" y="382"/>
                  </a:lnTo>
                  <a:lnTo>
                    <a:pt x="3" y="379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5781600" y="2678040"/>
              <a:ext cx="139680" cy="123840"/>
            </a:xfrm>
            <a:custGeom>
              <a:avLst/>
              <a:gdLst/>
              <a:ahLst/>
              <a:rect l="l" t="t" r="r" b="b"/>
              <a:pathLst>
                <a:path w="442" h="392">
                  <a:moveTo>
                    <a:pt x="0" y="366"/>
                  </a:moveTo>
                  <a:lnTo>
                    <a:pt x="438" y="0"/>
                  </a:lnTo>
                  <a:lnTo>
                    <a:pt x="438" y="5"/>
                  </a:lnTo>
                  <a:lnTo>
                    <a:pt x="439" y="11"/>
                  </a:lnTo>
                  <a:lnTo>
                    <a:pt x="439" y="16"/>
                  </a:lnTo>
                  <a:lnTo>
                    <a:pt x="440" y="22"/>
                  </a:lnTo>
                  <a:lnTo>
                    <a:pt x="440" y="27"/>
                  </a:lnTo>
                  <a:lnTo>
                    <a:pt x="441" y="31"/>
                  </a:lnTo>
                  <a:lnTo>
                    <a:pt x="441" y="37"/>
                  </a:lnTo>
                  <a:lnTo>
                    <a:pt x="442" y="42"/>
                  </a:lnTo>
                  <a:lnTo>
                    <a:pt x="24" y="392"/>
                  </a:lnTo>
                  <a:lnTo>
                    <a:pt x="21" y="389"/>
                  </a:lnTo>
                  <a:lnTo>
                    <a:pt x="19" y="386"/>
                  </a:lnTo>
                  <a:lnTo>
                    <a:pt x="16" y="383"/>
                  </a:lnTo>
                  <a:lnTo>
                    <a:pt x="12" y="379"/>
                  </a:lnTo>
                  <a:lnTo>
                    <a:pt x="9" y="376"/>
                  </a:lnTo>
                  <a:lnTo>
                    <a:pt x="7" y="373"/>
                  </a:lnTo>
                  <a:lnTo>
                    <a:pt x="4" y="370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5784840" y="2684520"/>
              <a:ext cx="138240" cy="122040"/>
            </a:xfrm>
            <a:custGeom>
              <a:avLst/>
              <a:gdLst/>
              <a:ahLst/>
              <a:rect l="l" t="t" r="r" b="b"/>
              <a:pathLst>
                <a:path w="431" h="384">
                  <a:moveTo>
                    <a:pt x="0" y="357"/>
                  </a:moveTo>
                  <a:lnTo>
                    <a:pt x="428" y="0"/>
                  </a:lnTo>
                  <a:lnTo>
                    <a:pt x="428" y="5"/>
                  </a:lnTo>
                  <a:lnTo>
                    <a:pt x="429" y="9"/>
                  </a:lnTo>
                  <a:lnTo>
                    <a:pt x="429" y="15"/>
                  </a:lnTo>
                  <a:lnTo>
                    <a:pt x="430" y="20"/>
                  </a:lnTo>
                  <a:lnTo>
                    <a:pt x="430" y="26"/>
                  </a:lnTo>
                  <a:lnTo>
                    <a:pt x="430" y="31"/>
                  </a:lnTo>
                  <a:lnTo>
                    <a:pt x="431" y="36"/>
                  </a:lnTo>
                  <a:lnTo>
                    <a:pt x="431" y="42"/>
                  </a:lnTo>
                  <a:lnTo>
                    <a:pt x="24" y="384"/>
                  </a:lnTo>
                  <a:lnTo>
                    <a:pt x="21" y="381"/>
                  </a:lnTo>
                  <a:lnTo>
                    <a:pt x="19" y="378"/>
                  </a:lnTo>
                  <a:lnTo>
                    <a:pt x="15" y="375"/>
                  </a:lnTo>
                  <a:lnTo>
                    <a:pt x="12" y="370"/>
                  </a:lnTo>
                  <a:lnTo>
                    <a:pt x="9" y="367"/>
                  </a:lnTo>
                  <a:lnTo>
                    <a:pt x="7" y="364"/>
                  </a:lnTo>
                  <a:lnTo>
                    <a:pt x="4" y="361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5789520" y="2690640"/>
              <a:ext cx="133560" cy="120960"/>
            </a:xfrm>
            <a:custGeom>
              <a:avLst/>
              <a:gdLst/>
              <a:ahLst/>
              <a:rect l="l" t="t" r="r" b="b"/>
              <a:pathLst>
                <a:path w="421" h="377">
                  <a:moveTo>
                    <a:pt x="0" y="350"/>
                  </a:moveTo>
                  <a:lnTo>
                    <a:pt x="418" y="0"/>
                  </a:lnTo>
                  <a:lnTo>
                    <a:pt x="418" y="6"/>
                  </a:lnTo>
                  <a:lnTo>
                    <a:pt x="418" y="11"/>
                  </a:lnTo>
                  <a:lnTo>
                    <a:pt x="419" y="16"/>
                  </a:lnTo>
                  <a:lnTo>
                    <a:pt x="419" y="22"/>
                  </a:lnTo>
                  <a:lnTo>
                    <a:pt x="420" y="27"/>
                  </a:lnTo>
                  <a:lnTo>
                    <a:pt x="420" y="33"/>
                  </a:lnTo>
                  <a:lnTo>
                    <a:pt x="421" y="38"/>
                  </a:lnTo>
                  <a:lnTo>
                    <a:pt x="421" y="43"/>
                  </a:lnTo>
                  <a:lnTo>
                    <a:pt x="24" y="377"/>
                  </a:lnTo>
                  <a:lnTo>
                    <a:pt x="21" y="374"/>
                  </a:lnTo>
                  <a:lnTo>
                    <a:pt x="17" y="371"/>
                  </a:lnTo>
                  <a:lnTo>
                    <a:pt x="15" y="368"/>
                  </a:lnTo>
                  <a:lnTo>
                    <a:pt x="12" y="364"/>
                  </a:lnTo>
                  <a:lnTo>
                    <a:pt x="9" y="361"/>
                  </a:lnTo>
                  <a:lnTo>
                    <a:pt x="7" y="358"/>
                  </a:lnTo>
                  <a:lnTo>
                    <a:pt x="3" y="355"/>
                  </a:lnTo>
                  <a:lnTo>
                    <a:pt x="0" y="35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5792760" y="2698920"/>
              <a:ext cx="130320" cy="115560"/>
            </a:xfrm>
            <a:custGeom>
              <a:avLst/>
              <a:gdLst/>
              <a:ahLst/>
              <a:rect l="l" t="t" r="r" b="b"/>
              <a:pathLst>
                <a:path w="411" h="368">
                  <a:moveTo>
                    <a:pt x="0" y="342"/>
                  </a:moveTo>
                  <a:lnTo>
                    <a:pt x="407" y="0"/>
                  </a:lnTo>
                  <a:lnTo>
                    <a:pt x="408" y="5"/>
                  </a:lnTo>
                  <a:lnTo>
                    <a:pt x="408" y="11"/>
                  </a:lnTo>
                  <a:lnTo>
                    <a:pt x="409" y="16"/>
                  </a:lnTo>
                  <a:lnTo>
                    <a:pt x="409" y="21"/>
                  </a:lnTo>
                  <a:lnTo>
                    <a:pt x="410" y="27"/>
                  </a:lnTo>
                  <a:lnTo>
                    <a:pt x="410" y="32"/>
                  </a:lnTo>
                  <a:lnTo>
                    <a:pt x="410" y="38"/>
                  </a:lnTo>
                  <a:lnTo>
                    <a:pt x="411" y="43"/>
                  </a:lnTo>
                  <a:lnTo>
                    <a:pt x="24" y="368"/>
                  </a:lnTo>
                  <a:lnTo>
                    <a:pt x="21" y="365"/>
                  </a:lnTo>
                  <a:lnTo>
                    <a:pt x="17" y="362"/>
                  </a:lnTo>
                  <a:lnTo>
                    <a:pt x="14" y="359"/>
                  </a:lnTo>
                  <a:lnTo>
                    <a:pt x="12" y="355"/>
                  </a:lnTo>
                  <a:lnTo>
                    <a:pt x="9" y="352"/>
                  </a:lnTo>
                  <a:lnTo>
                    <a:pt x="5" y="349"/>
                  </a:lnTo>
                  <a:lnTo>
                    <a:pt x="3" y="346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5797440" y="2705040"/>
              <a:ext cx="127080" cy="114480"/>
            </a:xfrm>
            <a:custGeom>
              <a:avLst/>
              <a:gdLst/>
              <a:ahLst/>
              <a:rect l="l" t="t" r="r" b="b"/>
              <a:pathLst>
                <a:path w="400" h="361">
                  <a:moveTo>
                    <a:pt x="0" y="334"/>
                  </a:moveTo>
                  <a:lnTo>
                    <a:pt x="397" y="0"/>
                  </a:lnTo>
                  <a:lnTo>
                    <a:pt x="398" y="6"/>
                  </a:lnTo>
                  <a:lnTo>
                    <a:pt x="398" y="11"/>
                  </a:lnTo>
                  <a:lnTo>
                    <a:pt x="398" y="17"/>
                  </a:lnTo>
                  <a:lnTo>
                    <a:pt x="399" y="22"/>
                  </a:lnTo>
                  <a:lnTo>
                    <a:pt x="399" y="27"/>
                  </a:lnTo>
                  <a:lnTo>
                    <a:pt x="400" y="33"/>
                  </a:lnTo>
                  <a:lnTo>
                    <a:pt x="400" y="38"/>
                  </a:lnTo>
                  <a:lnTo>
                    <a:pt x="400" y="44"/>
                  </a:lnTo>
                  <a:lnTo>
                    <a:pt x="23" y="361"/>
                  </a:lnTo>
                  <a:lnTo>
                    <a:pt x="19" y="358"/>
                  </a:lnTo>
                  <a:lnTo>
                    <a:pt x="17" y="355"/>
                  </a:lnTo>
                  <a:lnTo>
                    <a:pt x="14" y="352"/>
                  </a:lnTo>
                  <a:lnTo>
                    <a:pt x="12" y="347"/>
                  </a:lnTo>
                  <a:lnTo>
                    <a:pt x="9" y="344"/>
                  </a:lnTo>
                  <a:lnTo>
                    <a:pt x="5" y="341"/>
                  </a:lnTo>
                  <a:lnTo>
                    <a:pt x="3" y="338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5800680" y="2711520"/>
              <a:ext cx="123840" cy="112680"/>
            </a:xfrm>
            <a:custGeom>
              <a:avLst/>
              <a:gdLst/>
              <a:ahLst/>
              <a:rect l="l" t="t" r="r" b="b"/>
              <a:pathLst>
                <a:path w="390" h="353">
                  <a:moveTo>
                    <a:pt x="0" y="325"/>
                  </a:moveTo>
                  <a:lnTo>
                    <a:pt x="387" y="0"/>
                  </a:lnTo>
                  <a:lnTo>
                    <a:pt x="387" y="5"/>
                  </a:lnTo>
                  <a:lnTo>
                    <a:pt x="388" y="11"/>
                  </a:lnTo>
                  <a:lnTo>
                    <a:pt x="388" y="16"/>
                  </a:lnTo>
                  <a:lnTo>
                    <a:pt x="388" y="22"/>
                  </a:lnTo>
                  <a:lnTo>
                    <a:pt x="389" y="27"/>
                  </a:lnTo>
                  <a:lnTo>
                    <a:pt x="389" y="32"/>
                  </a:lnTo>
                  <a:lnTo>
                    <a:pt x="390" y="38"/>
                  </a:lnTo>
                  <a:lnTo>
                    <a:pt x="390" y="43"/>
                  </a:lnTo>
                  <a:lnTo>
                    <a:pt x="22" y="353"/>
                  </a:lnTo>
                  <a:lnTo>
                    <a:pt x="19" y="349"/>
                  </a:lnTo>
                  <a:lnTo>
                    <a:pt x="16" y="346"/>
                  </a:lnTo>
                  <a:lnTo>
                    <a:pt x="14" y="343"/>
                  </a:lnTo>
                  <a:lnTo>
                    <a:pt x="11" y="339"/>
                  </a:lnTo>
                  <a:lnTo>
                    <a:pt x="7" y="336"/>
                  </a:lnTo>
                  <a:lnTo>
                    <a:pt x="5" y="333"/>
                  </a:lnTo>
                  <a:lnTo>
                    <a:pt x="2" y="330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5803920" y="2719440"/>
              <a:ext cx="120600" cy="109440"/>
            </a:xfrm>
            <a:custGeom>
              <a:avLst/>
              <a:gdLst/>
              <a:ahLst/>
              <a:rect l="l" t="t" r="r" b="b"/>
              <a:pathLst>
                <a:path w="381" h="344">
                  <a:moveTo>
                    <a:pt x="0" y="317"/>
                  </a:moveTo>
                  <a:lnTo>
                    <a:pt x="377" y="0"/>
                  </a:lnTo>
                  <a:lnTo>
                    <a:pt x="378" y="5"/>
                  </a:lnTo>
                  <a:lnTo>
                    <a:pt x="378" y="10"/>
                  </a:lnTo>
                  <a:lnTo>
                    <a:pt x="379" y="16"/>
                  </a:lnTo>
                  <a:lnTo>
                    <a:pt x="379" y="21"/>
                  </a:lnTo>
                  <a:lnTo>
                    <a:pt x="379" y="27"/>
                  </a:lnTo>
                  <a:lnTo>
                    <a:pt x="381" y="32"/>
                  </a:lnTo>
                  <a:lnTo>
                    <a:pt x="381" y="38"/>
                  </a:lnTo>
                  <a:lnTo>
                    <a:pt x="381" y="43"/>
                  </a:lnTo>
                  <a:lnTo>
                    <a:pt x="22" y="344"/>
                  </a:lnTo>
                  <a:lnTo>
                    <a:pt x="19" y="341"/>
                  </a:lnTo>
                  <a:lnTo>
                    <a:pt x="17" y="338"/>
                  </a:lnTo>
                  <a:lnTo>
                    <a:pt x="14" y="335"/>
                  </a:lnTo>
                  <a:lnTo>
                    <a:pt x="11" y="331"/>
                  </a:lnTo>
                  <a:lnTo>
                    <a:pt x="8" y="327"/>
                  </a:lnTo>
                  <a:lnTo>
                    <a:pt x="5" y="324"/>
                  </a:lnTo>
                  <a:lnTo>
                    <a:pt x="3" y="321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5807160" y="2725560"/>
              <a:ext cx="118800" cy="106560"/>
            </a:xfrm>
            <a:custGeom>
              <a:avLst/>
              <a:gdLst/>
              <a:ahLst/>
              <a:rect l="l" t="t" r="r" b="b"/>
              <a:pathLst>
                <a:path w="372" h="337">
                  <a:moveTo>
                    <a:pt x="0" y="310"/>
                  </a:moveTo>
                  <a:lnTo>
                    <a:pt x="368" y="0"/>
                  </a:lnTo>
                  <a:lnTo>
                    <a:pt x="368" y="6"/>
                  </a:lnTo>
                  <a:lnTo>
                    <a:pt x="370" y="11"/>
                  </a:lnTo>
                  <a:lnTo>
                    <a:pt x="370" y="17"/>
                  </a:lnTo>
                  <a:lnTo>
                    <a:pt x="370" y="22"/>
                  </a:lnTo>
                  <a:lnTo>
                    <a:pt x="371" y="28"/>
                  </a:lnTo>
                  <a:lnTo>
                    <a:pt x="371" y="34"/>
                  </a:lnTo>
                  <a:lnTo>
                    <a:pt x="371" y="39"/>
                  </a:lnTo>
                  <a:lnTo>
                    <a:pt x="372" y="45"/>
                  </a:lnTo>
                  <a:lnTo>
                    <a:pt x="22" y="337"/>
                  </a:lnTo>
                  <a:lnTo>
                    <a:pt x="20" y="334"/>
                  </a:lnTo>
                  <a:lnTo>
                    <a:pt x="17" y="331"/>
                  </a:lnTo>
                  <a:lnTo>
                    <a:pt x="14" y="327"/>
                  </a:lnTo>
                  <a:lnTo>
                    <a:pt x="11" y="323"/>
                  </a:lnTo>
                  <a:lnTo>
                    <a:pt x="8" y="320"/>
                  </a:lnTo>
                  <a:lnTo>
                    <a:pt x="6" y="317"/>
                  </a:lnTo>
                  <a:lnTo>
                    <a:pt x="3" y="314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5811840" y="2732040"/>
              <a:ext cx="114120" cy="104760"/>
            </a:xfrm>
            <a:custGeom>
              <a:avLst/>
              <a:gdLst/>
              <a:ahLst/>
              <a:rect l="l" t="t" r="r" b="b"/>
              <a:pathLst>
                <a:path w="362" h="329">
                  <a:moveTo>
                    <a:pt x="0" y="301"/>
                  </a:moveTo>
                  <a:lnTo>
                    <a:pt x="359" y="0"/>
                  </a:lnTo>
                  <a:lnTo>
                    <a:pt x="360" y="6"/>
                  </a:lnTo>
                  <a:lnTo>
                    <a:pt x="360" y="12"/>
                  </a:lnTo>
                  <a:lnTo>
                    <a:pt x="360" y="17"/>
                  </a:lnTo>
                  <a:lnTo>
                    <a:pt x="361" y="23"/>
                  </a:lnTo>
                  <a:lnTo>
                    <a:pt x="361" y="28"/>
                  </a:lnTo>
                  <a:lnTo>
                    <a:pt x="361" y="33"/>
                  </a:lnTo>
                  <a:lnTo>
                    <a:pt x="362" y="39"/>
                  </a:lnTo>
                  <a:lnTo>
                    <a:pt x="362" y="44"/>
                  </a:lnTo>
                  <a:lnTo>
                    <a:pt x="23" y="329"/>
                  </a:lnTo>
                  <a:lnTo>
                    <a:pt x="20" y="326"/>
                  </a:lnTo>
                  <a:lnTo>
                    <a:pt x="16" y="322"/>
                  </a:lnTo>
                  <a:lnTo>
                    <a:pt x="14" y="319"/>
                  </a:lnTo>
                  <a:lnTo>
                    <a:pt x="11" y="315"/>
                  </a:lnTo>
                  <a:lnTo>
                    <a:pt x="9" y="312"/>
                  </a:lnTo>
                  <a:lnTo>
                    <a:pt x="6" y="309"/>
                  </a:lnTo>
                  <a:lnTo>
                    <a:pt x="3" y="305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5815080" y="2739960"/>
              <a:ext cx="110880" cy="101520"/>
            </a:xfrm>
            <a:custGeom>
              <a:avLst/>
              <a:gdLst/>
              <a:ahLst/>
              <a:rect l="l" t="t" r="r" b="b"/>
              <a:pathLst>
                <a:path w="352" h="321">
                  <a:moveTo>
                    <a:pt x="0" y="292"/>
                  </a:moveTo>
                  <a:lnTo>
                    <a:pt x="350" y="0"/>
                  </a:lnTo>
                  <a:lnTo>
                    <a:pt x="350" y="5"/>
                  </a:lnTo>
                  <a:lnTo>
                    <a:pt x="350" y="10"/>
                  </a:lnTo>
                  <a:lnTo>
                    <a:pt x="351" y="16"/>
                  </a:lnTo>
                  <a:lnTo>
                    <a:pt x="351" y="21"/>
                  </a:lnTo>
                  <a:lnTo>
                    <a:pt x="351" y="27"/>
                  </a:lnTo>
                  <a:lnTo>
                    <a:pt x="351" y="32"/>
                  </a:lnTo>
                  <a:lnTo>
                    <a:pt x="352" y="37"/>
                  </a:lnTo>
                  <a:lnTo>
                    <a:pt x="352" y="44"/>
                  </a:lnTo>
                  <a:lnTo>
                    <a:pt x="23" y="321"/>
                  </a:lnTo>
                  <a:lnTo>
                    <a:pt x="19" y="316"/>
                  </a:lnTo>
                  <a:lnTo>
                    <a:pt x="17" y="313"/>
                  </a:lnTo>
                  <a:lnTo>
                    <a:pt x="14" y="310"/>
                  </a:lnTo>
                  <a:lnTo>
                    <a:pt x="12" y="306"/>
                  </a:lnTo>
                  <a:lnTo>
                    <a:pt x="9" y="303"/>
                  </a:lnTo>
                  <a:lnTo>
                    <a:pt x="6" y="299"/>
                  </a:lnTo>
                  <a:lnTo>
                    <a:pt x="3" y="296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5818320" y="2746440"/>
              <a:ext cx="107640" cy="100080"/>
            </a:xfrm>
            <a:custGeom>
              <a:avLst/>
              <a:gdLst/>
              <a:ahLst/>
              <a:rect l="l" t="t" r="r" b="b"/>
              <a:pathLst>
                <a:path w="341" h="314">
                  <a:moveTo>
                    <a:pt x="0" y="285"/>
                  </a:moveTo>
                  <a:lnTo>
                    <a:pt x="339" y="0"/>
                  </a:lnTo>
                  <a:lnTo>
                    <a:pt x="339" y="6"/>
                  </a:lnTo>
                  <a:lnTo>
                    <a:pt x="339" y="11"/>
                  </a:lnTo>
                  <a:lnTo>
                    <a:pt x="340" y="18"/>
                  </a:lnTo>
                  <a:lnTo>
                    <a:pt x="340" y="23"/>
                  </a:lnTo>
                  <a:lnTo>
                    <a:pt x="340" y="28"/>
                  </a:lnTo>
                  <a:lnTo>
                    <a:pt x="340" y="34"/>
                  </a:lnTo>
                  <a:lnTo>
                    <a:pt x="341" y="39"/>
                  </a:lnTo>
                  <a:lnTo>
                    <a:pt x="341" y="45"/>
                  </a:lnTo>
                  <a:lnTo>
                    <a:pt x="21" y="314"/>
                  </a:lnTo>
                  <a:lnTo>
                    <a:pt x="18" y="309"/>
                  </a:lnTo>
                  <a:lnTo>
                    <a:pt x="16" y="306"/>
                  </a:lnTo>
                  <a:lnTo>
                    <a:pt x="13" y="303"/>
                  </a:lnTo>
                  <a:lnTo>
                    <a:pt x="11" y="300"/>
                  </a:lnTo>
                  <a:lnTo>
                    <a:pt x="7" y="295"/>
                  </a:lnTo>
                  <a:lnTo>
                    <a:pt x="5" y="292"/>
                  </a:lnTo>
                  <a:lnTo>
                    <a:pt x="2" y="289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5821200" y="2754360"/>
              <a:ext cx="106560" cy="96840"/>
            </a:xfrm>
            <a:custGeom>
              <a:avLst/>
              <a:gdLst/>
              <a:ahLst/>
              <a:rect l="l" t="t" r="r" b="b"/>
              <a:pathLst>
                <a:path w="331" h="305">
                  <a:moveTo>
                    <a:pt x="0" y="277"/>
                  </a:moveTo>
                  <a:lnTo>
                    <a:pt x="329" y="0"/>
                  </a:lnTo>
                  <a:lnTo>
                    <a:pt x="329" y="5"/>
                  </a:lnTo>
                  <a:lnTo>
                    <a:pt x="329" y="11"/>
                  </a:lnTo>
                  <a:lnTo>
                    <a:pt x="330" y="16"/>
                  </a:lnTo>
                  <a:lnTo>
                    <a:pt x="330" y="22"/>
                  </a:lnTo>
                  <a:lnTo>
                    <a:pt x="330" y="27"/>
                  </a:lnTo>
                  <a:lnTo>
                    <a:pt x="330" y="32"/>
                  </a:lnTo>
                  <a:lnTo>
                    <a:pt x="331" y="39"/>
                  </a:lnTo>
                  <a:lnTo>
                    <a:pt x="331" y="44"/>
                  </a:lnTo>
                  <a:lnTo>
                    <a:pt x="21" y="305"/>
                  </a:lnTo>
                  <a:lnTo>
                    <a:pt x="18" y="300"/>
                  </a:lnTo>
                  <a:lnTo>
                    <a:pt x="16" y="297"/>
                  </a:lnTo>
                  <a:lnTo>
                    <a:pt x="13" y="294"/>
                  </a:lnTo>
                  <a:lnTo>
                    <a:pt x="10" y="291"/>
                  </a:lnTo>
                  <a:lnTo>
                    <a:pt x="7" y="286"/>
                  </a:lnTo>
                  <a:lnTo>
                    <a:pt x="5" y="283"/>
                  </a:lnTo>
                  <a:lnTo>
                    <a:pt x="2" y="280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5824440" y="2760840"/>
              <a:ext cx="103320" cy="95040"/>
            </a:xfrm>
            <a:custGeom>
              <a:avLst/>
              <a:gdLst/>
              <a:ahLst/>
              <a:rect l="l" t="t" r="r" b="b"/>
              <a:pathLst>
                <a:path w="322" h="297">
                  <a:moveTo>
                    <a:pt x="0" y="269"/>
                  </a:moveTo>
                  <a:lnTo>
                    <a:pt x="320" y="0"/>
                  </a:lnTo>
                  <a:lnTo>
                    <a:pt x="320" y="5"/>
                  </a:lnTo>
                  <a:lnTo>
                    <a:pt x="320" y="11"/>
                  </a:lnTo>
                  <a:lnTo>
                    <a:pt x="321" y="17"/>
                  </a:lnTo>
                  <a:lnTo>
                    <a:pt x="321" y="22"/>
                  </a:lnTo>
                  <a:lnTo>
                    <a:pt x="321" y="28"/>
                  </a:lnTo>
                  <a:lnTo>
                    <a:pt x="321" y="33"/>
                  </a:lnTo>
                  <a:lnTo>
                    <a:pt x="321" y="38"/>
                  </a:lnTo>
                  <a:lnTo>
                    <a:pt x="322" y="44"/>
                  </a:lnTo>
                  <a:lnTo>
                    <a:pt x="22" y="297"/>
                  </a:lnTo>
                  <a:lnTo>
                    <a:pt x="19" y="292"/>
                  </a:lnTo>
                  <a:lnTo>
                    <a:pt x="17" y="289"/>
                  </a:lnTo>
                  <a:lnTo>
                    <a:pt x="13" y="286"/>
                  </a:lnTo>
                  <a:lnTo>
                    <a:pt x="11" y="283"/>
                  </a:lnTo>
                  <a:lnTo>
                    <a:pt x="8" y="278"/>
                  </a:lnTo>
                  <a:lnTo>
                    <a:pt x="6" y="275"/>
                  </a:lnTo>
                  <a:lnTo>
                    <a:pt x="3" y="272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5829480" y="2768760"/>
              <a:ext cx="98280" cy="90360"/>
            </a:xfrm>
            <a:custGeom>
              <a:avLst/>
              <a:gdLst/>
              <a:ahLst/>
              <a:rect l="l" t="t" r="r" b="b"/>
              <a:pathLst>
                <a:path w="311" h="289">
                  <a:moveTo>
                    <a:pt x="0" y="261"/>
                  </a:moveTo>
                  <a:lnTo>
                    <a:pt x="310" y="0"/>
                  </a:lnTo>
                  <a:lnTo>
                    <a:pt x="310" y="6"/>
                  </a:lnTo>
                  <a:lnTo>
                    <a:pt x="310" y="11"/>
                  </a:lnTo>
                  <a:lnTo>
                    <a:pt x="311" y="16"/>
                  </a:lnTo>
                  <a:lnTo>
                    <a:pt x="311" y="22"/>
                  </a:lnTo>
                  <a:lnTo>
                    <a:pt x="311" y="28"/>
                  </a:lnTo>
                  <a:lnTo>
                    <a:pt x="311" y="34"/>
                  </a:lnTo>
                  <a:lnTo>
                    <a:pt x="311" y="39"/>
                  </a:lnTo>
                  <a:lnTo>
                    <a:pt x="311" y="45"/>
                  </a:lnTo>
                  <a:lnTo>
                    <a:pt x="22" y="289"/>
                  </a:lnTo>
                  <a:lnTo>
                    <a:pt x="19" y="284"/>
                  </a:lnTo>
                  <a:lnTo>
                    <a:pt x="16" y="281"/>
                  </a:lnTo>
                  <a:lnTo>
                    <a:pt x="13" y="278"/>
                  </a:lnTo>
                  <a:lnTo>
                    <a:pt x="11" y="275"/>
                  </a:lnTo>
                  <a:lnTo>
                    <a:pt x="8" y="270"/>
                  </a:lnTo>
                  <a:lnTo>
                    <a:pt x="6" y="267"/>
                  </a:lnTo>
                  <a:lnTo>
                    <a:pt x="2" y="264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5832360" y="2774880"/>
              <a:ext cx="95400" cy="88920"/>
            </a:xfrm>
            <a:custGeom>
              <a:avLst/>
              <a:gdLst/>
              <a:ahLst/>
              <a:rect l="l" t="t" r="r" b="b"/>
              <a:pathLst>
                <a:path w="301" h="281">
                  <a:moveTo>
                    <a:pt x="0" y="253"/>
                  </a:moveTo>
                  <a:lnTo>
                    <a:pt x="300" y="0"/>
                  </a:lnTo>
                  <a:lnTo>
                    <a:pt x="300" y="6"/>
                  </a:lnTo>
                  <a:lnTo>
                    <a:pt x="300" y="12"/>
                  </a:lnTo>
                  <a:lnTo>
                    <a:pt x="300" y="17"/>
                  </a:lnTo>
                  <a:lnTo>
                    <a:pt x="300" y="23"/>
                  </a:lnTo>
                  <a:lnTo>
                    <a:pt x="301" y="28"/>
                  </a:lnTo>
                  <a:lnTo>
                    <a:pt x="301" y="34"/>
                  </a:lnTo>
                  <a:lnTo>
                    <a:pt x="301" y="40"/>
                  </a:lnTo>
                  <a:lnTo>
                    <a:pt x="301" y="45"/>
                  </a:lnTo>
                  <a:lnTo>
                    <a:pt x="21" y="281"/>
                  </a:lnTo>
                  <a:lnTo>
                    <a:pt x="18" y="278"/>
                  </a:lnTo>
                  <a:lnTo>
                    <a:pt x="16" y="273"/>
                  </a:lnTo>
                  <a:lnTo>
                    <a:pt x="13" y="270"/>
                  </a:lnTo>
                  <a:lnTo>
                    <a:pt x="11" y="267"/>
                  </a:lnTo>
                  <a:lnTo>
                    <a:pt x="8" y="262"/>
                  </a:lnTo>
                  <a:lnTo>
                    <a:pt x="5" y="259"/>
                  </a:lnTo>
                  <a:lnTo>
                    <a:pt x="2" y="256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5835600" y="2782800"/>
              <a:ext cx="92160" cy="85680"/>
            </a:xfrm>
            <a:custGeom>
              <a:avLst/>
              <a:gdLst/>
              <a:ahLst/>
              <a:rect l="l" t="t" r="r" b="b"/>
              <a:pathLst>
                <a:path w="290" h="272">
                  <a:moveTo>
                    <a:pt x="0" y="244"/>
                  </a:moveTo>
                  <a:lnTo>
                    <a:pt x="289" y="0"/>
                  </a:lnTo>
                  <a:lnTo>
                    <a:pt x="290" y="6"/>
                  </a:lnTo>
                  <a:lnTo>
                    <a:pt x="290" y="11"/>
                  </a:lnTo>
                  <a:lnTo>
                    <a:pt x="290" y="17"/>
                  </a:lnTo>
                  <a:lnTo>
                    <a:pt x="290" y="22"/>
                  </a:lnTo>
                  <a:lnTo>
                    <a:pt x="290" y="29"/>
                  </a:lnTo>
                  <a:lnTo>
                    <a:pt x="290" y="34"/>
                  </a:lnTo>
                  <a:lnTo>
                    <a:pt x="290" y="40"/>
                  </a:lnTo>
                  <a:lnTo>
                    <a:pt x="290" y="45"/>
                  </a:lnTo>
                  <a:lnTo>
                    <a:pt x="20" y="272"/>
                  </a:lnTo>
                  <a:lnTo>
                    <a:pt x="18" y="269"/>
                  </a:lnTo>
                  <a:lnTo>
                    <a:pt x="15" y="265"/>
                  </a:lnTo>
                  <a:lnTo>
                    <a:pt x="13" y="261"/>
                  </a:lnTo>
                  <a:lnTo>
                    <a:pt x="10" y="258"/>
                  </a:lnTo>
                  <a:lnTo>
                    <a:pt x="7" y="255"/>
                  </a:lnTo>
                  <a:lnTo>
                    <a:pt x="5" y="250"/>
                  </a:lnTo>
                  <a:lnTo>
                    <a:pt x="2" y="247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5838840" y="2789280"/>
              <a:ext cx="88920" cy="84240"/>
            </a:xfrm>
            <a:custGeom>
              <a:avLst/>
              <a:gdLst/>
              <a:ahLst/>
              <a:rect l="l" t="t" r="r" b="b"/>
              <a:pathLst>
                <a:path w="281" h="264">
                  <a:moveTo>
                    <a:pt x="0" y="236"/>
                  </a:moveTo>
                  <a:lnTo>
                    <a:pt x="280" y="0"/>
                  </a:lnTo>
                  <a:lnTo>
                    <a:pt x="280" y="6"/>
                  </a:lnTo>
                  <a:lnTo>
                    <a:pt x="280" y="12"/>
                  </a:lnTo>
                  <a:lnTo>
                    <a:pt x="280" y="18"/>
                  </a:lnTo>
                  <a:lnTo>
                    <a:pt x="281" y="23"/>
                  </a:lnTo>
                  <a:lnTo>
                    <a:pt x="281" y="28"/>
                  </a:lnTo>
                  <a:lnTo>
                    <a:pt x="281" y="35"/>
                  </a:lnTo>
                  <a:lnTo>
                    <a:pt x="281" y="40"/>
                  </a:lnTo>
                  <a:lnTo>
                    <a:pt x="281" y="46"/>
                  </a:lnTo>
                  <a:lnTo>
                    <a:pt x="21" y="264"/>
                  </a:lnTo>
                  <a:lnTo>
                    <a:pt x="18" y="261"/>
                  </a:lnTo>
                  <a:lnTo>
                    <a:pt x="16" y="257"/>
                  </a:lnTo>
                  <a:lnTo>
                    <a:pt x="14" y="254"/>
                  </a:lnTo>
                  <a:lnTo>
                    <a:pt x="10" y="250"/>
                  </a:lnTo>
                  <a:lnTo>
                    <a:pt x="8" y="247"/>
                  </a:lnTo>
                  <a:lnTo>
                    <a:pt x="5" y="243"/>
                  </a:lnTo>
                  <a:lnTo>
                    <a:pt x="3" y="239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5842080" y="2797200"/>
              <a:ext cx="85680" cy="81000"/>
            </a:xfrm>
            <a:custGeom>
              <a:avLst/>
              <a:gdLst/>
              <a:ahLst/>
              <a:rect l="l" t="t" r="r" b="b"/>
              <a:pathLst>
                <a:path w="271" h="256">
                  <a:moveTo>
                    <a:pt x="0" y="227"/>
                  </a:moveTo>
                  <a:lnTo>
                    <a:pt x="270" y="0"/>
                  </a:lnTo>
                  <a:lnTo>
                    <a:pt x="271" y="5"/>
                  </a:lnTo>
                  <a:lnTo>
                    <a:pt x="271" y="12"/>
                  </a:lnTo>
                  <a:lnTo>
                    <a:pt x="271" y="17"/>
                  </a:lnTo>
                  <a:lnTo>
                    <a:pt x="271" y="23"/>
                  </a:lnTo>
                  <a:lnTo>
                    <a:pt x="271" y="29"/>
                  </a:lnTo>
                  <a:lnTo>
                    <a:pt x="271" y="34"/>
                  </a:lnTo>
                  <a:lnTo>
                    <a:pt x="271" y="40"/>
                  </a:lnTo>
                  <a:lnTo>
                    <a:pt x="271" y="45"/>
                  </a:lnTo>
                  <a:lnTo>
                    <a:pt x="21" y="256"/>
                  </a:lnTo>
                  <a:lnTo>
                    <a:pt x="19" y="253"/>
                  </a:lnTo>
                  <a:lnTo>
                    <a:pt x="17" y="248"/>
                  </a:lnTo>
                  <a:lnTo>
                    <a:pt x="13" y="245"/>
                  </a:lnTo>
                  <a:lnTo>
                    <a:pt x="11" y="241"/>
                  </a:lnTo>
                  <a:lnTo>
                    <a:pt x="8" y="238"/>
                  </a:lnTo>
                  <a:lnTo>
                    <a:pt x="6" y="234"/>
                  </a:lnTo>
                  <a:lnTo>
                    <a:pt x="4" y="231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5845320" y="2803680"/>
              <a:ext cx="82440" cy="7920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0" y="218"/>
                  </a:moveTo>
                  <a:lnTo>
                    <a:pt x="260" y="0"/>
                  </a:lnTo>
                  <a:lnTo>
                    <a:pt x="260" y="6"/>
                  </a:lnTo>
                  <a:lnTo>
                    <a:pt x="260" y="11"/>
                  </a:lnTo>
                  <a:lnTo>
                    <a:pt x="260" y="17"/>
                  </a:lnTo>
                  <a:lnTo>
                    <a:pt x="260" y="22"/>
                  </a:lnTo>
                  <a:lnTo>
                    <a:pt x="260" y="29"/>
                  </a:lnTo>
                  <a:lnTo>
                    <a:pt x="260" y="34"/>
                  </a:lnTo>
                  <a:lnTo>
                    <a:pt x="260" y="40"/>
                  </a:lnTo>
                  <a:lnTo>
                    <a:pt x="260" y="46"/>
                  </a:lnTo>
                  <a:lnTo>
                    <a:pt x="21" y="247"/>
                  </a:lnTo>
                  <a:lnTo>
                    <a:pt x="18" y="244"/>
                  </a:lnTo>
                  <a:lnTo>
                    <a:pt x="15" y="241"/>
                  </a:lnTo>
                  <a:lnTo>
                    <a:pt x="13" y="236"/>
                  </a:lnTo>
                  <a:lnTo>
                    <a:pt x="10" y="233"/>
                  </a:lnTo>
                  <a:lnTo>
                    <a:pt x="8" y="230"/>
                  </a:lnTo>
                  <a:lnTo>
                    <a:pt x="6" y="225"/>
                  </a:lnTo>
                  <a:lnTo>
                    <a:pt x="2" y="22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5848200" y="2811600"/>
              <a:ext cx="79560" cy="75960"/>
            </a:xfrm>
            <a:custGeom>
              <a:avLst/>
              <a:gdLst/>
              <a:ahLst/>
              <a:rect l="l" t="t" r="r" b="b"/>
              <a:pathLst>
                <a:path w="250" h="240">
                  <a:moveTo>
                    <a:pt x="0" y="211"/>
                  </a:moveTo>
                  <a:lnTo>
                    <a:pt x="250" y="0"/>
                  </a:lnTo>
                  <a:lnTo>
                    <a:pt x="250" y="7"/>
                  </a:lnTo>
                  <a:lnTo>
                    <a:pt x="250" y="12"/>
                  </a:lnTo>
                  <a:lnTo>
                    <a:pt x="250" y="18"/>
                  </a:lnTo>
                  <a:lnTo>
                    <a:pt x="250" y="24"/>
                  </a:lnTo>
                  <a:lnTo>
                    <a:pt x="250" y="29"/>
                  </a:lnTo>
                  <a:lnTo>
                    <a:pt x="250" y="35"/>
                  </a:lnTo>
                  <a:lnTo>
                    <a:pt x="250" y="41"/>
                  </a:lnTo>
                  <a:lnTo>
                    <a:pt x="250" y="47"/>
                  </a:lnTo>
                  <a:lnTo>
                    <a:pt x="20" y="240"/>
                  </a:lnTo>
                  <a:lnTo>
                    <a:pt x="18" y="236"/>
                  </a:lnTo>
                  <a:lnTo>
                    <a:pt x="16" y="233"/>
                  </a:lnTo>
                  <a:lnTo>
                    <a:pt x="13" y="229"/>
                  </a:lnTo>
                  <a:lnTo>
                    <a:pt x="11" y="225"/>
                  </a:lnTo>
                  <a:lnTo>
                    <a:pt x="8" y="222"/>
                  </a:lnTo>
                  <a:lnTo>
                    <a:pt x="5" y="219"/>
                  </a:lnTo>
                  <a:lnTo>
                    <a:pt x="3" y="214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5851440" y="2817720"/>
              <a:ext cx="76320" cy="73080"/>
            </a:xfrm>
            <a:custGeom>
              <a:avLst/>
              <a:gdLst/>
              <a:ahLst/>
              <a:rect l="l" t="t" r="r" b="b"/>
              <a:pathLst>
                <a:path w="239" h="230">
                  <a:moveTo>
                    <a:pt x="0" y="201"/>
                  </a:moveTo>
                  <a:lnTo>
                    <a:pt x="239" y="0"/>
                  </a:lnTo>
                  <a:lnTo>
                    <a:pt x="239" y="5"/>
                  </a:lnTo>
                  <a:lnTo>
                    <a:pt x="239" y="11"/>
                  </a:lnTo>
                  <a:lnTo>
                    <a:pt x="239" y="17"/>
                  </a:lnTo>
                  <a:lnTo>
                    <a:pt x="239" y="23"/>
                  </a:lnTo>
                  <a:lnTo>
                    <a:pt x="239" y="28"/>
                  </a:lnTo>
                  <a:lnTo>
                    <a:pt x="239" y="35"/>
                  </a:lnTo>
                  <a:lnTo>
                    <a:pt x="239" y="40"/>
                  </a:lnTo>
                  <a:lnTo>
                    <a:pt x="239" y="45"/>
                  </a:lnTo>
                  <a:lnTo>
                    <a:pt x="20" y="230"/>
                  </a:lnTo>
                  <a:lnTo>
                    <a:pt x="17" y="227"/>
                  </a:lnTo>
                  <a:lnTo>
                    <a:pt x="15" y="223"/>
                  </a:lnTo>
                  <a:lnTo>
                    <a:pt x="13" y="219"/>
                  </a:lnTo>
                  <a:lnTo>
                    <a:pt x="9" y="216"/>
                  </a:lnTo>
                  <a:lnTo>
                    <a:pt x="7" y="212"/>
                  </a:lnTo>
                  <a:lnTo>
                    <a:pt x="5" y="209"/>
                  </a:lnTo>
                  <a:lnTo>
                    <a:pt x="2" y="205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5854680" y="2825640"/>
              <a:ext cx="73080" cy="69840"/>
            </a:xfrm>
            <a:custGeom>
              <a:avLst/>
              <a:gdLst/>
              <a:ahLst/>
              <a:rect l="l" t="t" r="r" b="b"/>
              <a:pathLst>
                <a:path w="230" h="222">
                  <a:moveTo>
                    <a:pt x="0" y="193"/>
                  </a:moveTo>
                  <a:lnTo>
                    <a:pt x="230" y="0"/>
                  </a:lnTo>
                  <a:lnTo>
                    <a:pt x="230" y="5"/>
                  </a:lnTo>
                  <a:lnTo>
                    <a:pt x="230" y="12"/>
                  </a:lnTo>
                  <a:lnTo>
                    <a:pt x="230" y="17"/>
                  </a:lnTo>
                  <a:lnTo>
                    <a:pt x="230" y="24"/>
                  </a:lnTo>
                  <a:lnTo>
                    <a:pt x="230" y="29"/>
                  </a:lnTo>
                  <a:lnTo>
                    <a:pt x="230" y="34"/>
                  </a:lnTo>
                  <a:lnTo>
                    <a:pt x="230" y="41"/>
                  </a:lnTo>
                  <a:lnTo>
                    <a:pt x="230" y="46"/>
                  </a:lnTo>
                  <a:lnTo>
                    <a:pt x="21" y="222"/>
                  </a:lnTo>
                  <a:lnTo>
                    <a:pt x="19" y="218"/>
                  </a:lnTo>
                  <a:lnTo>
                    <a:pt x="15" y="215"/>
                  </a:lnTo>
                  <a:lnTo>
                    <a:pt x="13" y="212"/>
                  </a:lnTo>
                  <a:lnTo>
                    <a:pt x="11" y="207"/>
                  </a:lnTo>
                  <a:lnTo>
                    <a:pt x="8" y="204"/>
                  </a:lnTo>
                  <a:lnTo>
                    <a:pt x="6" y="200"/>
                  </a:lnTo>
                  <a:lnTo>
                    <a:pt x="4" y="196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5857920" y="2832120"/>
              <a:ext cx="69840" cy="68400"/>
            </a:xfrm>
            <a:custGeom>
              <a:avLst/>
              <a:gdLst/>
              <a:ahLst/>
              <a:rect l="l" t="t" r="r" b="b"/>
              <a:pathLst>
                <a:path w="219" h="214">
                  <a:moveTo>
                    <a:pt x="0" y="185"/>
                  </a:moveTo>
                  <a:lnTo>
                    <a:pt x="219" y="0"/>
                  </a:lnTo>
                  <a:lnTo>
                    <a:pt x="219" y="7"/>
                  </a:lnTo>
                  <a:lnTo>
                    <a:pt x="219" y="12"/>
                  </a:lnTo>
                  <a:lnTo>
                    <a:pt x="219" y="19"/>
                  </a:lnTo>
                  <a:lnTo>
                    <a:pt x="219" y="24"/>
                  </a:lnTo>
                  <a:lnTo>
                    <a:pt x="219" y="30"/>
                  </a:lnTo>
                  <a:lnTo>
                    <a:pt x="219" y="36"/>
                  </a:lnTo>
                  <a:lnTo>
                    <a:pt x="219" y="42"/>
                  </a:lnTo>
                  <a:lnTo>
                    <a:pt x="219" y="48"/>
                  </a:lnTo>
                  <a:lnTo>
                    <a:pt x="20" y="214"/>
                  </a:lnTo>
                  <a:lnTo>
                    <a:pt x="17" y="211"/>
                  </a:lnTo>
                  <a:lnTo>
                    <a:pt x="15" y="208"/>
                  </a:lnTo>
                  <a:lnTo>
                    <a:pt x="12" y="204"/>
                  </a:lnTo>
                  <a:lnTo>
                    <a:pt x="10" y="200"/>
                  </a:lnTo>
                  <a:lnTo>
                    <a:pt x="8" y="196"/>
                  </a:lnTo>
                  <a:lnTo>
                    <a:pt x="4" y="193"/>
                  </a:lnTo>
                  <a:lnTo>
                    <a:pt x="2" y="19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5861160" y="2840040"/>
              <a:ext cx="66600" cy="65160"/>
            </a:xfrm>
            <a:custGeom>
              <a:avLst/>
              <a:gdLst/>
              <a:ahLst/>
              <a:rect l="l" t="t" r="r" b="b"/>
              <a:pathLst>
                <a:path w="209" h="206">
                  <a:moveTo>
                    <a:pt x="0" y="176"/>
                  </a:moveTo>
                  <a:lnTo>
                    <a:pt x="209" y="0"/>
                  </a:lnTo>
                  <a:lnTo>
                    <a:pt x="209" y="6"/>
                  </a:lnTo>
                  <a:lnTo>
                    <a:pt x="209" y="12"/>
                  </a:lnTo>
                  <a:lnTo>
                    <a:pt x="209" y="18"/>
                  </a:lnTo>
                  <a:lnTo>
                    <a:pt x="209" y="24"/>
                  </a:lnTo>
                  <a:lnTo>
                    <a:pt x="209" y="29"/>
                  </a:lnTo>
                  <a:lnTo>
                    <a:pt x="209" y="36"/>
                  </a:lnTo>
                  <a:lnTo>
                    <a:pt x="209" y="41"/>
                  </a:lnTo>
                  <a:lnTo>
                    <a:pt x="208" y="47"/>
                  </a:lnTo>
                  <a:lnTo>
                    <a:pt x="20" y="206"/>
                  </a:lnTo>
                  <a:lnTo>
                    <a:pt x="17" y="202"/>
                  </a:lnTo>
                  <a:lnTo>
                    <a:pt x="15" y="198"/>
                  </a:lnTo>
                  <a:lnTo>
                    <a:pt x="13" y="195"/>
                  </a:lnTo>
                  <a:lnTo>
                    <a:pt x="10" y="190"/>
                  </a:lnTo>
                  <a:lnTo>
                    <a:pt x="7" y="187"/>
                  </a:lnTo>
                  <a:lnTo>
                    <a:pt x="5" y="184"/>
                  </a:lnTo>
                  <a:lnTo>
                    <a:pt x="2" y="18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5864400" y="2847960"/>
              <a:ext cx="63360" cy="61920"/>
            </a:xfrm>
            <a:custGeom>
              <a:avLst/>
              <a:gdLst/>
              <a:ahLst/>
              <a:rect l="l" t="t" r="r" b="b"/>
              <a:pathLst>
                <a:path w="199" h="197">
                  <a:moveTo>
                    <a:pt x="0" y="166"/>
                  </a:moveTo>
                  <a:lnTo>
                    <a:pt x="199" y="0"/>
                  </a:lnTo>
                  <a:lnTo>
                    <a:pt x="199" y="5"/>
                  </a:lnTo>
                  <a:lnTo>
                    <a:pt x="199" y="12"/>
                  </a:lnTo>
                  <a:lnTo>
                    <a:pt x="198" y="17"/>
                  </a:lnTo>
                  <a:lnTo>
                    <a:pt x="198" y="23"/>
                  </a:lnTo>
                  <a:lnTo>
                    <a:pt x="198" y="29"/>
                  </a:lnTo>
                  <a:lnTo>
                    <a:pt x="198" y="35"/>
                  </a:lnTo>
                  <a:lnTo>
                    <a:pt x="198" y="41"/>
                  </a:lnTo>
                  <a:lnTo>
                    <a:pt x="198" y="46"/>
                  </a:lnTo>
                  <a:lnTo>
                    <a:pt x="20" y="197"/>
                  </a:lnTo>
                  <a:lnTo>
                    <a:pt x="17" y="192"/>
                  </a:lnTo>
                  <a:lnTo>
                    <a:pt x="15" y="189"/>
                  </a:lnTo>
                  <a:lnTo>
                    <a:pt x="13" y="185"/>
                  </a:lnTo>
                  <a:lnTo>
                    <a:pt x="10" y="182"/>
                  </a:lnTo>
                  <a:lnTo>
                    <a:pt x="7" y="178"/>
                  </a:lnTo>
                  <a:lnTo>
                    <a:pt x="5" y="174"/>
                  </a:lnTo>
                  <a:lnTo>
                    <a:pt x="3" y="171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5867280" y="2855880"/>
              <a:ext cx="60480" cy="5868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0" y="159"/>
                  </a:moveTo>
                  <a:lnTo>
                    <a:pt x="188" y="0"/>
                  </a:lnTo>
                  <a:lnTo>
                    <a:pt x="188" y="6"/>
                  </a:lnTo>
                  <a:lnTo>
                    <a:pt x="188" y="12"/>
                  </a:lnTo>
                  <a:lnTo>
                    <a:pt x="188" y="18"/>
                  </a:lnTo>
                  <a:lnTo>
                    <a:pt x="188" y="23"/>
                  </a:lnTo>
                  <a:lnTo>
                    <a:pt x="188" y="30"/>
                  </a:lnTo>
                  <a:lnTo>
                    <a:pt x="187" y="35"/>
                  </a:lnTo>
                  <a:lnTo>
                    <a:pt x="187" y="42"/>
                  </a:lnTo>
                  <a:lnTo>
                    <a:pt x="187" y="47"/>
                  </a:lnTo>
                  <a:lnTo>
                    <a:pt x="20" y="188"/>
                  </a:lnTo>
                  <a:lnTo>
                    <a:pt x="18" y="184"/>
                  </a:lnTo>
                  <a:lnTo>
                    <a:pt x="14" y="181"/>
                  </a:lnTo>
                  <a:lnTo>
                    <a:pt x="12" y="177"/>
                  </a:lnTo>
                  <a:lnTo>
                    <a:pt x="10" y="174"/>
                  </a:lnTo>
                  <a:lnTo>
                    <a:pt x="7" y="169"/>
                  </a:lnTo>
                  <a:lnTo>
                    <a:pt x="5" y="166"/>
                  </a:lnTo>
                  <a:lnTo>
                    <a:pt x="3" y="162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5870520" y="2862360"/>
              <a:ext cx="57240" cy="56880"/>
            </a:xfrm>
            <a:custGeom>
              <a:avLst/>
              <a:gdLst/>
              <a:ahLst/>
              <a:rect l="l" t="t" r="r" b="b"/>
              <a:pathLst>
                <a:path w="178" h="180">
                  <a:moveTo>
                    <a:pt x="0" y="151"/>
                  </a:moveTo>
                  <a:lnTo>
                    <a:pt x="178" y="0"/>
                  </a:lnTo>
                  <a:lnTo>
                    <a:pt x="178" y="7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7" y="24"/>
                  </a:lnTo>
                  <a:lnTo>
                    <a:pt x="177" y="31"/>
                  </a:lnTo>
                  <a:lnTo>
                    <a:pt x="177" y="36"/>
                  </a:lnTo>
                  <a:lnTo>
                    <a:pt x="177" y="43"/>
                  </a:lnTo>
                  <a:lnTo>
                    <a:pt x="176" y="48"/>
                  </a:lnTo>
                  <a:lnTo>
                    <a:pt x="20" y="180"/>
                  </a:lnTo>
                  <a:lnTo>
                    <a:pt x="17" y="177"/>
                  </a:lnTo>
                  <a:lnTo>
                    <a:pt x="14" y="172"/>
                  </a:lnTo>
                  <a:lnTo>
                    <a:pt x="12" y="169"/>
                  </a:lnTo>
                  <a:lnTo>
                    <a:pt x="10" y="165"/>
                  </a:lnTo>
                  <a:lnTo>
                    <a:pt x="8" y="161"/>
                  </a:lnTo>
                  <a:lnTo>
                    <a:pt x="4" y="158"/>
                  </a:lnTo>
                  <a:lnTo>
                    <a:pt x="2" y="154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5873760" y="2870280"/>
              <a:ext cx="54000" cy="54000"/>
            </a:xfrm>
            <a:custGeom>
              <a:avLst/>
              <a:gdLst/>
              <a:ahLst/>
              <a:rect l="l" t="t" r="r" b="b"/>
              <a:pathLst>
                <a:path w="167" h="171">
                  <a:moveTo>
                    <a:pt x="0" y="141"/>
                  </a:moveTo>
                  <a:lnTo>
                    <a:pt x="167" y="0"/>
                  </a:lnTo>
                  <a:lnTo>
                    <a:pt x="167" y="7"/>
                  </a:lnTo>
                  <a:lnTo>
                    <a:pt x="167" y="12"/>
                  </a:lnTo>
                  <a:lnTo>
                    <a:pt x="167" y="19"/>
                  </a:lnTo>
                  <a:lnTo>
                    <a:pt x="166" y="24"/>
                  </a:lnTo>
                  <a:lnTo>
                    <a:pt x="166" y="30"/>
                  </a:lnTo>
                  <a:lnTo>
                    <a:pt x="166" y="36"/>
                  </a:lnTo>
                  <a:lnTo>
                    <a:pt x="166" y="42"/>
                  </a:lnTo>
                  <a:lnTo>
                    <a:pt x="165" y="48"/>
                  </a:lnTo>
                  <a:lnTo>
                    <a:pt x="19" y="171"/>
                  </a:lnTo>
                  <a:lnTo>
                    <a:pt x="17" y="168"/>
                  </a:lnTo>
                  <a:lnTo>
                    <a:pt x="14" y="163"/>
                  </a:lnTo>
                  <a:lnTo>
                    <a:pt x="12" y="160"/>
                  </a:lnTo>
                  <a:lnTo>
                    <a:pt x="10" y="156"/>
                  </a:lnTo>
                  <a:lnTo>
                    <a:pt x="7" y="153"/>
                  </a:lnTo>
                  <a:lnTo>
                    <a:pt x="4" y="148"/>
                  </a:lnTo>
                  <a:lnTo>
                    <a:pt x="2" y="145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5877000" y="2878200"/>
              <a:ext cx="50760" cy="5076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0" y="132"/>
                  </a:moveTo>
                  <a:lnTo>
                    <a:pt x="156" y="0"/>
                  </a:lnTo>
                  <a:lnTo>
                    <a:pt x="156" y="6"/>
                  </a:lnTo>
                  <a:lnTo>
                    <a:pt x="156" y="12"/>
                  </a:lnTo>
                  <a:lnTo>
                    <a:pt x="156" y="18"/>
                  </a:lnTo>
                  <a:lnTo>
                    <a:pt x="155" y="25"/>
                  </a:lnTo>
                  <a:lnTo>
                    <a:pt x="155" y="30"/>
                  </a:lnTo>
                  <a:lnTo>
                    <a:pt x="155" y="37"/>
                  </a:lnTo>
                  <a:lnTo>
                    <a:pt x="155" y="42"/>
                  </a:lnTo>
                  <a:lnTo>
                    <a:pt x="154" y="49"/>
                  </a:lnTo>
                  <a:lnTo>
                    <a:pt x="19" y="162"/>
                  </a:lnTo>
                  <a:lnTo>
                    <a:pt x="17" y="159"/>
                  </a:lnTo>
                  <a:lnTo>
                    <a:pt x="14" y="155"/>
                  </a:lnTo>
                  <a:lnTo>
                    <a:pt x="11" y="151"/>
                  </a:lnTo>
                  <a:lnTo>
                    <a:pt x="9" y="147"/>
                  </a:lnTo>
                  <a:lnTo>
                    <a:pt x="7" y="144"/>
                  </a:lnTo>
                  <a:lnTo>
                    <a:pt x="4" y="139"/>
                  </a:lnTo>
                  <a:lnTo>
                    <a:pt x="2" y="136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5880240" y="2886120"/>
              <a:ext cx="45720" cy="47520"/>
            </a:xfrm>
            <a:custGeom>
              <a:avLst/>
              <a:gdLst/>
              <a:ahLst/>
              <a:rect l="l" t="t" r="r" b="b"/>
              <a:pathLst>
                <a:path w="146" h="153">
                  <a:moveTo>
                    <a:pt x="0" y="123"/>
                  </a:moveTo>
                  <a:lnTo>
                    <a:pt x="146" y="0"/>
                  </a:lnTo>
                  <a:lnTo>
                    <a:pt x="146" y="6"/>
                  </a:lnTo>
                  <a:lnTo>
                    <a:pt x="146" y="13"/>
                  </a:lnTo>
                  <a:lnTo>
                    <a:pt x="146" y="18"/>
                  </a:lnTo>
                  <a:lnTo>
                    <a:pt x="145" y="25"/>
                  </a:lnTo>
                  <a:lnTo>
                    <a:pt x="145" y="30"/>
                  </a:lnTo>
                  <a:lnTo>
                    <a:pt x="145" y="37"/>
                  </a:lnTo>
                  <a:lnTo>
                    <a:pt x="144" y="43"/>
                  </a:lnTo>
                  <a:lnTo>
                    <a:pt x="144" y="48"/>
                  </a:lnTo>
                  <a:lnTo>
                    <a:pt x="20" y="153"/>
                  </a:lnTo>
                  <a:lnTo>
                    <a:pt x="18" y="149"/>
                  </a:lnTo>
                  <a:lnTo>
                    <a:pt x="14" y="146"/>
                  </a:lnTo>
                  <a:lnTo>
                    <a:pt x="12" y="141"/>
                  </a:lnTo>
                  <a:lnTo>
                    <a:pt x="10" y="138"/>
                  </a:lnTo>
                  <a:lnTo>
                    <a:pt x="8" y="134"/>
                  </a:lnTo>
                  <a:lnTo>
                    <a:pt x="5" y="131"/>
                  </a:lnTo>
                  <a:lnTo>
                    <a:pt x="2" y="127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5883120" y="2894040"/>
              <a:ext cx="42840" cy="44280"/>
            </a:xfrm>
            <a:custGeom>
              <a:avLst/>
              <a:gdLst/>
              <a:ahLst/>
              <a:rect l="l" t="t" r="r" b="b"/>
              <a:pathLst>
                <a:path w="135" h="143">
                  <a:moveTo>
                    <a:pt x="0" y="113"/>
                  </a:moveTo>
                  <a:lnTo>
                    <a:pt x="135" y="0"/>
                  </a:lnTo>
                  <a:lnTo>
                    <a:pt x="135" y="5"/>
                  </a:lnTo>
                  <a:lnTo>
                    <a:pt x="135" y="12"/>
                  </a:lnTo>
                  <a:lnTo>
                    <a:pt x="134" y="18"/>
                  </a:lnTo>
                  <a:lnTo>
                    <a:pt x="134" y="23"/>
                  </a:lnTo>
                  <a:lnTo>
                    <a:pt x="134" y="30"/>
                  </a:lnTo>
                  <a:lnTo>
                    <a:pt x="133" y="36"/>
                  </a:lnTo>
                  <a:lnTo>
                    <a:pt x="133" y="42"/>
                  </a:lnTo>
                  <a:lnTo>
                    <a:pt x="133" y="48"/>
                  </a:lnTo>
                  <a:lnTo>
                    <a:pt x="19" y="143"/>
                  </a:lnTo>
                  <a:lnTo>
                    <a:pt x="16" y="139"/>
                  </a:lnTo>
                  <a:lnTo>
                    <a:pt x="14" y="136"/>
                  </a:lnTo>
                  <a:lnTo>
                    <a:pt x="12" y="131"/>
                  </a:lnTo>
                  <a:lnTo>
                    <a:pt x="10" y="128"/>
                  </a:lnTo>
                  <a:lnTo>
                    <a:pt x="8" y="124"/>
                  </a:lnTo>
                  <a:lnTo>
                    <a:pt x="4" y="121"/>
                  </a:lnTo>
                  <a:lnTo>
                    <a:pt x="2" y="116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5886360" y="2900520"/>
              <a:ext cx="39600" cy="42840"/>
            </a:xfrm>
            <a:custGeom>
              <a:avLst/>
              <a:gdLst/>
              <a:ahLst/>
              <a:rect l="l" t="t" r="r" b="b"/>
              <a:pathLst>
                <a:path w="124" h="135">
                  <a:moveTo>
                    <a:pt x="0" y="105"/>
                  </a:moveTo>
                  <a:lnTo>
                    <a:pt x="124" y="0"/>
                  </a:lnTo>
                  <a:lnTo>
                    <a:pt x="124" y="7"/>
                  </a:lnTo>
                  <a:lnTo>
                    <a:pt x="123" y="12"/>
                  </a:lnTo>
                  <a:lnTo>
                    <a:pt x="123" y="19"/>
                  </a:lnTo>
                  <a:lnTo>
                    <a:pt x="123" y="25"/>
                  </a:lnTo>
                  <a:lnTo>
                    <a:pt x="122" y="31"/>
                  </a:lnTo>
                  <a:lnTo>
                    <a:pt x="122" y="37"/>
                  </a:lnTo>
                  <a:lnTo>
                    <a:pt x="122" y="44"/>
                  </a:lnTo>
                  <a:lnTo>
                    <a:pt x="121" y="49"/>
                  </a:lnTo>
                  <a:lnTo>
                    <a:pt x="19" y="135"/>
                  </a:lnTo>
                  <a:lnTo>
                    <a:pt x="16" y="131"/>
                  </a:lnTo>
                  <a:lnTo>
                    <a:pt x="14" y="128"/>
                  </a:lnTo>
                  <a:lnTo>
                    <a:pt x="12" y="124"/>
                  </a:lnTo>
                  <a:lnTo>
                    <a:pt x="9" y="120"/>
                  </a:lnTo>
                  <a:lnTo>
                    <a:pt x="6" y="116"/>
                  </a:lnTo>
                  <a:lnTo>
                    <a:pt x="4" y="113"/>
                  </a:lnTo>
                  <a:lnTo>
                    <a:pt x="2" y="108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5889600" y="2908440"/>
              <a:ext cx="36360" cy="39600"/>
            </a:xfrm>
            <a:custGeom>
              <a:avLst/>
              <a:gdLst/>
              <a:ahLst/>
              <a:rect l="l" t="t" r="r" b="b"/>
              <a:pathLst>
                <a:path w="114" h="126">
                  <a:moveTo>
                    <a:pt x="0" y="95"/>
                  </a:moveTo>
                  <a:lnTo>
                    <a:pt x="114" y="0"/>
                  </a:lnTo>
                  <a:lnTo>
                    <a:pt x="113" y="6"/>
                  </a:lnTo>
                  <a:lnTo>
                    <a:pt x="113" y="12"/>
                  </a:lnTo>
                  <a:lnTo>
                    <a:pt x="113" y="19"/>
                  </a:lnTo>
                  <a:lnTo>
                    <a:pt x="112" y="24"/>
                  </a:lnTo>
                  <a:lnTo>
                    <a:pt x="112" y="31"/>
                  </a:lnTo>
                  <a:lnTo>
                    <a:pt x="110" y="37"/>
                  </a:lnTo>
                  <a:lnTo>
                    <a:pt x="110" y="43"/>
                  </a:lnTo>
                  <a:lnTo>
                    <a:pt x="110" y="49"/>
                  </a:lnTo>
                  <a:lnTo>
                    <a:pt x="19" y="126"/>
                  </a:lnTo>
                  <a:lnTo>
                    <a:pt x="17" y="121"/>
                  </a:lnTo>
                  <a:lnTo>
                    <a:pt x="14" y="118"/>
                  </a:lnTo>
                  <a:lnTo>
                    <a:pt x="12" y="114"/>
                  </a:lnTo>
                  <a:lnTo>
                    <a:pt x="9" y="110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3" y="99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5892840" y="2916360"/>
              <a:ext cx="31680" cy="36360"/>
            </a:xfrm>
            <a:custGeom>
              <a:avLst/>
              <a:gdLst/>
              <a:ahLst/>
              <a:rect l="l" t="t" r="r" b="b"/>
              <a:pathLst>
                <a:path w="102" h="117">
                  <a:moveTo>
                    <a:pt x="0" y="86"/>
                  </a:moveTo>
                  <a:lnTo>
                    <a:pt x="102" y="0"/>
                  </a:lnTo>
                  <a:lnTo>
                    <a:pt x="102" y="7"/>
                  </a:lnTo>
                  <a:lnTo>
                    <a:pt x="100" y="13"/>
                  </a:lnTo>
                  <a:lnTo>
                    <a:pt x="100" y="19"/>
                  </a:lnTo>
                  <a:lnTo>
                    <a:pt x="100" y="25"/>
                  </a:lnTo>
                  <a:lnTo>
                    <a:pt x="99" y="31"/>
                  </a:lnTo>
                  <a:lnTo>
                    <a:pt x="99" y="38"/>
                  </a:lnTo>
                  <a:lnTo>
                    <a:pt x="98" y="43"/>
                  </a:lnTo>
                  <a:lnTo>
                    <a:pt x="98" y="50"/>
                  </a:lnTo>
                  <a:lnTo>
                    <a:pt x="18" y="117"/>
                  </a:lnTo>
                  <a:lnTo>
                    <a:pt x="16" y="112"/>
                  </a:lnTo>
                  <a:lnTo>
                    <a:pt x="14" y="109"/>
                  </a:lnTo>
                  <a:lnTo>
                    <a:pt x="11" y="105"/>
                  </a:lnTo>
                  <a:lnTo>
                    <a:pt x="9" y="102"/>
                  </a:lnTo>
                  <a:lnTo>
                    <a:pt x="7" y="97"/>
                  </a:lnTo>
                  <a:lnTo>
                    <a:pt x="4" y="94"/>
                  </a:lnTo>
                  <a:lnTo>
                    <a:pt x="2" y="9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5896080" y="2924280"/>
              <a:ext cx="28440" cy="33120"/>
            </a:xfrm>
            <a:custGeom>
              <a:avLst/>
              <a:gdLst/>
              <a:ahLst/>
              <a:rect l="l" t="t" r="r" b="b"/>
              <a:pathLst>
                <a:path w="91" h="107">
                  <a:moveTo>
                    <a:pt x="0" y="77"/>
                  </a:moveTo>
                  <a:lnTo>
                    <a:pt x="91" y="0"/>
                  </a:lnTo>
                  <a:lnTo>
                    <a:pt x="90" y="6"/>
                  </a:lnTo>
                  <a:lnTo>
                    <a:pt x="90" y="13"/>
                  </a:lnTo>
                  <a:lnTo>
                    <a:pt x="89" y="18"/>
                  </a:lnTo>
                  <a:lnTo>
                    <a:pt x="89" y="25"/>
                  </a:lnTo>
                  <a:lnTo>
                    <a:pt x="88" y="31"/>
                  </a:lnTo>
                  <a:lnTo>
                    <a:pt x="88" y="38"/>
                  </a:lnTo>
                  <a:lnTo>
                    <a:pt x="87" y="43"/>
                  </a:lnTo>
                  <a:lnTo>
                    <a:pt x="87" y="50"/>
                  </a:lnTo>
                  <a:lnTo>
                    <a:pt x="19" y="107"/>
                  </a:lnTo>
                  <a:lnTo>
                    <a:pt x="17" y="104"/>
                  </a:lnTo>
                  <a:lnTo>
                    <a:pt x="14" y="99"/>
                  </a:lnTo>
                  <a:lnTo>
                    <a:pt x="12" y="95"/>
                  </a:lnTo>
                  <a:lnTo>
                    <a:pt x="9" y="92"/>
                  </a:lnTo>
                  <a:lnTo>
                    <a:pt x="7" y="87"/>
                  </a:lnTo>
                  <a:lnTo>
                    <a:pt x="5" y="84"/>
                  </a:lnTo>
                  <a:lnTo>
                    <a:pt x="2" y="8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5899320" y="2932200"/>
              <a:ext cx="25200" cy="3024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0" y="67"/>
                  </a:moveTo>
                  <a:lnTo>
                    <a:pt x="80" y="0"/>
                  </a:lnTo>
                  <a:lnTo>
                    <a:pt x="79" y="6"/>
                  </a:lnTo>
                  <a:lnTo>
                    <a:pt x="79" y="13"/>
                  </a:lnTo>
                  <a:lnTo>
                    <a:pt x="78" y="18"/>
                  </a:lnTo>
                  <a:lnTo>
                    <a:pt x="78" y="25"/>
                  </a:lnTo>
                  <a:lnTo>
                    <a:pt x="77" y="31"/>
                  </a:lnTo>
                  <a:lnTo>
                    <a:pt x="77" y="38"/>
                  </a:lnTo>
                  <a:lnTo>
                    <a:pt x="76" y="44"/>
                  </a:lnTo>
                  <a:lnTo>
                    <a:pt x="76" y="49"/>
                  </a:lnTo>
                  <a:lnTo>
                    <a:pt x="19" y="97"/>
                  </a:lnTo>
                  <a:lnTo>
                    <a:pt x="17" y="94"/>
                  </a:lnTo>
                  <a:lnTo>
                    <a:pt x="14" y="89"/>
                  </a:lnTo>
                  <a:lnTo>
                    <a:pt x="12" y="86"/>
                  </a:lnTo>
                  <a:lnTo>
                    <a:pt x="10" y="82"/>
                  </a:lnTo>
                  <a:lnTo>
                    <a:pt x="7" y="78"/>
                  </a:lnTo>
                  <a:lnTo>
                    <a:pt x="5" y="74"/>
                  </a:lnTo>
                  <a:lnTo>
                    <a:pt x="3" y="7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5902200" y="2940120"/>
              <a:ext cx="20880" cy="27000"/>
            </a:xfrm>
            <a:custGeom>
              <a:avLst/>
              <a:gdLst/>
              <a:ahLst/>
              <a:rect l="l" t="t" r="r" b="b"/>
              <a:pathLst>
                <a:path w="68" h="87">
                  <a:moveTo>
                    <a:pt x="0" y="57"/>
                  </a:moveTo>
                  <a:lnTo>
                    <a:pt x="68" y="0"/>
                  </a:lnTo>
                  <a:lnTo>
                    <a:pt x="67" y="6"/>
                  </a:lnTo>
                  <a:lnTo>
                    <a:pt x="67" y="13"/>
                  </a:lnTo>
                  <a:lnTo>
                    <a:pt x="66" y="19"/>
                  </a:lnTo>
                  <a:lnTo>
                    <a:pt x="66" y="24"/>
                  </a:lnTo>
                  <a:lnTo>
                    <a:pt x="65" y="31"/>
                  </a:lnTo>
                  <a:lnTo>
                    <a:pt x="64" y="37"/>
                  </a:lnTo>
                  <a:lnTo>
                    <a:pt x="64" y="44"/>
                  </a:lnTo>
                  <a:lnTo>
                    <a:pt x="63" y="50"/>
                  </a:lnTo>
                  <a:lnTo>
                    <a:pt x="18" y="87"/>
                  </a:lnTo>
                  <a:lnTo>
                    <a:pt x="16" y="84"/>
                  </a:lnTo>
                  <a:lnTo>
                    <a:pt x="14" y="80"/>
                  </a:lnTo>
                  <a:lnTo>
                    <a:pt x="11" y="76"/>
                  </a:lnTo>
                  <a:lnTo>
                    <a:pt x="9" y="72"/>
                  </a:lnTo>
                  <a:lnTo>
                    <a:pt x="7" y="69"/>
                  </a:lnTo>
                  <a:lnTo>
                    <a:pt x="4" y="64"/>
                  </a:lnTo>
                  <a:lnTo>
                    <a:pt x="2" y="61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5904000" y="2948040"/>
              <a:ext cx="19080" cy="2520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0" y="48"/>
                  </a:moveTo>
                  <a:lnTo>
                    <a:pt x="57" y="0"/>
                  </a:lnTo>
                  <a:lnTo>
                    <a:pt x="56" y="7"/>
                  </a:lnTo>
                  <a:lnTo>
                    <a:pt x="56" y="13"/>
                  </a:lnTo>
                  <a:lnTo>
                    <a:pt x="55" y="20"/>
                  </a:lnTo>
                  <a:lnTo>
                    <a:pt x="54" y="26"/>
                  </a:lnTo>
                  <a:lnTo>
                    <a:pt x="54" y="33"/>
                  </a:lnTo>
                  <a:lnTo>
                    <a:pt x="53" y="38"/>
                  </a:lnTo>
                  <a:lnTo>
                    <a:pt x="53" y="45"/>
                  </a:lnTo>
                  <a:lnTo>
                    <a:pt x="52" y="51"/>
                  </a:lnTo>
                  <a:lnTo>
                    <a:pt x="19" y="79"/>
                  </a:lnTo>
                  <a:lnTo>
                    <a:pt x="16" y="75"/>
                  </a:lnTo>
                  <a:lnTo>
                    <a:pt x="14" y="71"/>
                  </a:lnTo>
                  <a:lnTo>
                    <a:pt x="12" y="67"/>
                  </a:lnTo>
                  <a:lnTo>
                    <a:pt x="9" y="63"/>
                  </a:lnTo>
                  <a:lnTo>
                    <a:pt x="7" y="60"/>
                  </a:lnTo>
                  <a:lnTo>
                    <a:pt x="5" y="56"/>
                  </a:lnTo>
                  <a:lnTo>
                    <a:pt x="2" y="5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5907240" y="2955960"/>
              <a:ext cx="14040" cy="2232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0" y="37"/>
                  </a:moveTo>
                  <a:lnTo>
                    <a:pt x="45" y="0"/>
                  </a:lnTo>
                  <a:lnTo>
                    <a:pt x="45" y="7"/>
                  </a:lnTo>
                  <a:lnTo>
                    <a:pt x="44" y="12"/>
                  </a:lnTo>
                  <a:lnTo>
                    <a:pt x="43" y="19"/>
                  </a:lnTo>
                  <a:lnTo>
                    <a:pt x="43" y="25"/>
                  </a:lnTo>
                  <a:lnTo>
                    <a:pt x="42" y="32"/>
                  </a:lnTo>
                  <a:lnTo>
                    <a:pt x="42" y="38"/>
                  </a:lnTo>
                  <a:lnTo>
                    <a:pt x="40" y="45"/>
                  </a:lnTo>
                  <a:lnTo>
                    <a:pt x="39" y="51"/>
                  </a:lnTo>
                  <a:lnTo>
                    <a:pt x="19" y="68"/>
                  </a:lnTo>
                  <a:lnTo>
                    <a:pt x="17" y="64"/>
                  </a:lnTo>
                  <a:lnTo>
                    <a:pt x="15" y="61"/>
                  </a:lnTo>
                  <a:lnTo>
                    <a:pt x="12" y="57"/>
                  </a:lnTo>
                  <a:lnTo>
                    <a:pt x="9" y="53"/>
                  </a:lnTo>
                  <a:lnTo>
                    <a:pt x="7" y="49"/>
                  </a:lnTo>
                  <a:lnTo>
                    <a:pt x="5" y="45"/>
                  </a:lnTo>
                  <a:lnTo>
                    <a:pt x="3" y="4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5910120" y="2963880"/>
              <a:ext cx="11160" cy="1908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0" y="28"/>
                  </a:moveTo>
                  <a:lnTo>
                    <a:pt x="33" y="0"/>
                  </a:lnTo>
                  <a:lnTo>
                    <a:pt x="32" y="7"/>
                  </a:lnTo>
                  <a:lnTo>
                    <a:pt x="32" y="13"/>
                  </a:lnTo>
                  <a:lnTo>
                    <a:pt x="30" y="20"/>
                  </a:lnTo>
                  <a:lnTo>
                    <a:pt x="29" y="26"/>
                  </a:lnTo>
                  <a:lnTo>
                    <a:pt x="29" y="33"/>
                  </a:lnTo>
                  <a:lnTo>
                    <a:pt x="28" y="39"/>
                  </a:lnTo>
                  <a:lnTo>
                    <a:pt x="27" y="45"/>
                  </a:lnTo>
                  <a:lnTo>
                    <a:pt x="27" y="51"/>
                  </a:lnTo>
                  <a:lnTo>
                    <a:pt x="19" y="59"/>
                  </a:lnTo>
                  <a:lnTo>
                    <a:pt x="15" y="55"/>
                  </a:lnTo>
                  <a:lnTo>
                    <a:pt x="13" y="51"/>
                  </a:lnTo>
                  <a:lnTo>
                    <a:pt x="11" y="47"/>
                  </a:lnTo>
                  <a:lnTo>
                    <a:pt x="9" y="43"/>
                  </a:lnTo>
                  <a:lnTo>
                    <a:pt x="7" y="39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5913360" y="2971800"/>
              <a:ext cx="6480" cy="1440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17"/>
                  </a:moveTo>
                  <a:lnTo>
                    <a:pt x="20" y="0"/>
                  </a:lnTo>
                  <a:lnTo>
                    <a:pt x="20" y="6"/>
                  </a:lnTo>
                  <a:lnTo>
                    <a:pt x="19" y="11"/>
                  </a:lnTo>
                  <a:lnTo>
                    <a:pt x="19" y="16"/>
                  </a:lnTo>
                  <a:lnTo>
                    <a:pt x="18" y="22"/>
                  </a:lnTo>
                  <a:lnTo>
                    <a:pt x="17" y="27"/>
                  </a:lnTo>
                  <a:lnTo>
                    <a:pt x="17" y="33"/>
                  </a:lnTo>
                  <a:lnTo>
                    <a:pt x="16" y="38"/>
                  </a:lnTo>
                  <a:lnTo>
                    <a:pt x="16" y="43"/>
                  </a:lnTo>
                  <a:lnTo>
                    <a:pt x="14" y="40"/>
                  </a:lnTo>
                  <a:lnTo>
                    <a:pt x="12" y="37"/>
                  </a:lnTo>
                  <a:lnTo>
                    <a:pt x="10" y="34"/>
                  </a:lnTo>
                  <a:lnTo>
                    <a:pt x="7" y="30"/>
                  </a:lnTo>
                  <a:lnTo>
                    <a:pt x="5" y="27"/>
                  </a:lnTo>
                  <a:lnTo>
                    <a:pt x="4" y="24"/>
                  </a:lnTo>
                  <a:lnTo>
                    <a:pt x="2" y="2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5916600" y="2979720"/>
              <a:ext cx="3240" cy="648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0" y="8"/>
                  </a:moveTo>
                  <a:lnTo>
                    <a:pt x="8" y="0"/>
                  </a:lnTo>
                  <a:lnTo>
                    <a:pt x="7" y="2"/>
                  </a:lnTo>
                  <a:lnTo>
                    <a:pt x="7" y="5"/>
                  </a:lnTo>
                  <a:lnTo>
                    <a:pt x="7" y="8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4713120" y="1587600"/>
              <a:ext cx="979560" cy="979560"/>
            </a:xfrm>
            <a:custGeom>
              <a:avLst/>
              <a:gdLst/>
              <a:ahLst/>
              <a:rect l="l" t="t" r="r" b="b"/>
              <a:pathLst>
                <a:path w="3085" h="3088">
                  <a:moveTo>
                    <a:pt x="1669" y="4"/>
                  </a:moveTo>
                  <a:lnTo>
                    <a:pt x="1747" y="13"/>
                  </a:lnTo>
                  <a:lnTo>
                    <a:pt x="1825" y="26"/>
                  </a:lnTo>
                  <a:lnTo>
                    <a:pt x="1901" y="42"/>
                  </a:lnTo>
                  <a:lnTo>
                    <a:pt x="1975" y="61"/>
                  </a:lnTo>
                  <a:lnTo>
                    <a:pt x="2049" y="85"/>
                  </a:lnTo>
                  <a:lnTo>
                    <a:pt x="2120" y="111"/>
                  </a:lnTo>
                  <a:lnTo>
                    <a:pt x="2189" y="141"/>
                  </a:lnTo>
                  <a:lnTo>
                    <a:pt x="2256" y="175"/>
                  </a:lnTo>
                  <a:lnTo>
                    <a:pt x="2322" y="211"/>
                  </a:lnTo>
                  <a:lnTo>
                    <a:pt x="2385" y="251"/>
                  </a:lnTo>
                  <a:lnTo>
                    <a:pt x="2447" y="294"/>
                  </a:lnTo>
                  <a:lnTo>
                    <a:pt x="2505" y="339"/>
                  </a:lnTo>
                  <a:lnTo>
                    <a:pt x="2562" y="386"/>
                  </a:lnTo>
                  <a:lnTo>
                    <a:pt x="2616" y="437"/>
                  </a:lnTo>
                  <a:lnTo>
                    <a:pt x="2668" y="490"/>
                  </a:lnTo>
                  <a:lnTo>
                    <a:pt x="2718" y="545"/>
                  </a:lnTo>
                  <a:lnTo>
                    <a:pt x="2764" y="604"/>
                  </a:lnTo>
                  <a:lnTo>
                    <a:pt x="2808" y="663"/>
                  </a:lnTo>
                  <a:lnTo>
                    <a:pt x="2849" y="725"/>
                  </a:lnTo>
                  <a:lnTo>
                    <a:pt x="2887" y="788"/>
                  </a:lnTo>
                  <a:lnTo>
                    <a:pt x="2922" y="854"/>
                  </a:lnTo>
                  <a:lnTo>
                    <a:pt x="2954" y="922"/>
                  </a:lnTo>
                  <a:lnTo>
                    <a:pt x="2982" y="992"/>
                  </a:lnTo>
                  <a:lnTo>
                    <a:pt x="3008" y="1062"/>
                  </a:lnTo>
                  <a:lnTo>
                    <a:pt x="3030" y="1134"/>
                  </a:lnTo>
                  <a:lnTo>
                    <a:pt x="3048" y="1208"/>
                  </a:lnTo>
                  <a:lnTo>
                    <a:pt x="3063" y="1282"/>
                  </a:lnTo>
                  <a:lnTo>
                    <a:pt x="3074" y="1358"/>
                  </a:lnTo>
                  <a:lnTo>
                    <a:pt x="3081" y="1435"/>
                  </a:lnTo>
                  <a:lnTo>
                    <a:pt x="3085" y="1512"/>
                  </a:lnTo>
                  <a:lnTo>
                    <a:pt x="3085" y="1591"/>
                  </a:lnTo>
                  <a:lnTo>
                    <a:pt x="3079" y="1670"/>
                  </a:lnTo>
                  <a:lnTo>
                    <a:pt x="3072" y="1749"/>
                  </a:lnTo>
                  <a:lnTo>
                    <a:pt x="3059" y="1827"/>
                  </a:lnTo>
                  <a:lnTo>
                    <a:pt x="3043" y="1903"/>
                  </a:lnTo>
                  <a:lnTo>
                    <a:pt x="3023" y="1977"/>
                  </a:lnTo>
                  <a:lnTo>
                    <a:pt x="2999" y="2050"/>
                  </a:lnTo>
                  <a:lnTo>
                    <a:pt x="2972" y="2121"/>
                  </a:lnTo>
                  <a:lnTo>
                    <a:pt x="2942" y="2191"/>
                  </a:lnTo>
                  <a:lnTo>
                    <a:pt x="2910" y="2258"/>
                  </a:lnTo>
                  <a:lnTo>
                    <a:pt x="2873" y="2324"/>
                  </a:lnTo>
                  <a:lnTo>
                    <a:pt x="2833" y="2388"/>
                  </a:lnTo>
                  <a:lnTo>
                    <a:pt x="2791" y="2449"/>
                  </a:lnTo>
                  <a:lnTo>
                    <a:pt x="2746" y="2508"/>
                  </a:lnTo>
                  <a:lnTo>
                    <a:pt x="2698" y="2565"/>
                  </a:lnTo>
                  <a:lnTo>
                    <a:pt x="2648" y="2619"/>
                  </a:lnTo>
                  <a:lnTo>
                    <a:pt x="2595" y="2671"/>
                  </a:lnTo>
                  <a:lnTo>
                    <a:pt x="2540" y="2721"/>
                  </a:lnTo>
                  <a:lnTo>
                    <a:pt x="2481" y="2767"/>
                  </a:lnTo>
                  <a:lnTo>
                    <a:pt x="2422" y="2811"/>
                  </a:lnTo>
                  <a:lnTo>
                    <a:pt x="2359" y="2852"/>
                  </a:lnTo>
                  <a:lnTo>
                    <a:pt x="2296" y="2890"/>
                  </a:lnTo>
                  <a:lnTo>
                    <a:pt x="2231" y="2925"/>
                  </a:lnTo>
                  <a:lnTo>
                    <a:pt x="2163" y="2957"/>
                  </a:lnTo>
                  <a:lnTo>
                    <a:pt x="2094" y="2985"/>
                  </a:lnTo>
                  <a:lnTo>
                    <a:pt x="2024" y="3010"/>
                  </a:lnTo>
                  <a:lnTo>
                    <a:pt x="1951" y="3033"/>
                  </a:lnTo>
                  <a:lnTo>
                    <a:pt x="1878" y="3051"/>
                  </a:lnTo>
                  <a:lnTo>
                    <a:pt x="1804" y="3065"/>
                  </a:lnTo>
                  <a:lnTo>
                    <a:pt x="1728" y="3077"/>
                  </a:lnTo>
                  <a:lnTo>
                    <a:pt x="1651" y="3084"/>
                  </a:lnTo>
                  <a:lnTo>
                    <a:pt x="1574" y="3088"/>
                  </a:lnTo>
                  <a:lnTo>
                    <a:pt x="1495" y="3087"/>
                  </a:lnTo>
                  <a:lnTo>
                    <a:pt x="1416" y="3083"/>
                  </a:lnTo>
                  <a:lnTo>
                    <a:pt x="1337" y="3074"/>
                  </a:lnTo>
                  <a:lnTo>
                    <a:pt x="1260" y="3062"/>
                  </a:lnTo>
                  <a:lnTo>
                    <a:pt x="1184" y="3046"/>
                  </a:lnTo>
                  <a:lnTo>
                    <a:pt x="1110" y="3026"/>
                  </a:lnTo>
                  <a:lnTo>
                    <a:pt x="1036" y="3003"/>
                  </a:lnTo>
                  <a:lnTo>
                    <a:pt x="965" y="2976"/>
                  </a:lnTo>
                  <a:lnTo>
                    <a:pt x="896" y="2945"/>
                  </a:lnTo>
                  <a:lnTo>
                    <a:pt x="829" y="2912"/>
                  </a:lnTo>
                  <a:lnTo>
                    <a:pt x="763" y="2876"/>
                  </a:lnTo>
                  <a:lnTo>
                    <a:pt x="699" y="2836"/>
                  </a:lnTo>
                  <a:lnTo>
                    <a:pt x="638" y="2794"/>
                  </a:lnTo>
                  <a:lnTo>
                    <a:pt x="580" y="2749"/>
                  </a:lnTo>
                  <a:lnTo>
                    <a:pt x="522" y="2701"/>
                  </a:lnTo>
                  <a:lnTo>
                    <a:pt x="468" y="2650"/>
                  </a:lnTo>
                  <a:lnTo>
                    <a:pt x="416" y="2597"/>
                  </a:lnTo>
                  <a:lnTo>
                    <a:pt x="367" y="2541"/>
                  </a:lnTo>
                  <a:lnTo>
                    <a:pt x="321" y="2484"/>
                  </a:lnTo>
                  <a:lnTo>
                    <a:pt x="276" y="2425"/>
                  </a:lnTo>
                  <a:lnTo>
                    <a:pt x="235" y="2362"/>
                  </a:lnTo>
                  <a:lnTo>
                    <a:pt x="198" y="2298"/>
                  </a:lnTo>
                  <a:lnTo>
                    <a:pt x="163" y="2232"/>
                  </a:lnTo>
                  <a:lnTo>
                    <a:pt x="131" y="2165"/>
                  </a:lnTo>
                  <a:lnTo>
                    <a:pt x="103" y="2096"/>
                  </a:lnTo>
                  <a:lnTo>
                    <a:pt x="77" y="2025"/>
                  </a:lnTo>
                  <a:lnTo>
                    <a:pt x="55" y="1953"/>
                  </a:lnTo>
                  <a:lnTo>
                    <a:pt x="37" y="1880"/>
                  </a:lnTo>
                  <a:lnTo>
                    <a:pt x="22" y="1805"/>
                  </a:lnTo>
                  <a:lnTo>
                    <a:pt x="11" y="1730"/>
                  </a:lnTo>
                  <a:lnTo>
                    <a:pt x="3" y="1652"/>
                  </a:lnTo>
                  <a:lnTo>
                    <a:pt x="0" y="1575"/>
                  </a:lnTo>
                  <a:lnTo>
                    <a:pt x="0" y="1496"/>
                  </a:lnTo>
                  <a:lnTo>
                    <a:pt x="5" y="1417"/>
                  </a:lnTo>
                  <a:lnTo>
                    <a:pt x="14" y="1339"/>
                  </a:lnTo>
                  <a:lnTo>
                    <a:pt x="26" y="1261"/>
                  </a:lnTo>
                  <a:lnTo>
                    <a:pt x="42" y="1185"/>
                  </a:lnTo>
                  <a:lnTo>
                    <a:pt x="62" y="1111"/>
                  </a:lnTo>
                  <a:lnTo>
                    <a:pt x="85" y="1037"/>
                  </a:lnTo>
                  <a:lnTo>
                    <a:pt x="112" y="966"/>
                  </a:lnTo>
                  <a:lnTo>
                    <a:pt x="141" y="897"/>
                  </a:lnTo>
                  <a:lnTo>
                    <a:pt x="175" y="828"/>
                  </a:lnTo>
                  <a:lnTo>
                    <a:pt x="212" y="764"/>
                  </a:lnTo>
                  <a:lnTo>
                    <a:pt x="252" y="700"/>
                  </a:lnTo>
                  <a:lnTo>
                    <a:pt x="294" y="638"/>
                  </a:lnTo>
                  <a:lnTo>
                    <a:pt x="339" y="579"/>
                  </a:lnTo>
                  <a:lnTo>
                    <a:pt x="386" y="523"/>
                  </a:lnTo>
                  <a:lnTo>
                    <a:pt x="437" y="468"/>
                  </a:lnTo>
                  <a:lnTo>
                    <a:pt x="490" y="416"/>
                  </a:lnTo>
                  <a:lnTo>
                    <a:pt x="545" y="367"/>
                  </a:lnTo>
                  <a:lnTo>
                    <a:pt x="603" y="321"/>
                  </a:lnTo>
                  <a:lnTo>
                    <a:pt x="663" y="276"/>
                  </a:lnTo>
                  <a:lnTo>
                    <a:pt x="724" y="235"/>
                  </a:lnTo>
                  <a:lnTo>
                    <a:pt x="789" y="197"/>
                  </a:lnTo>
                  <a:lnTo>
                    <a:pt x="854" y="163"/>
                  </a:lnTo>
                  <a:lnTo>
                    <a:pt x="922" y="130"/>
                  </a:lnTo>
                  <a:lnTo>
                    <a:pt x="991" y="102"/>
                  </a:lnTo>
                  <a:lnTo>
                    <a:pt x="1061" y="76"/>
                  </a:lnTo>
                  <a:lnTo>
                    <a:pt x="1133" y="55"/>
                  </a:lnTo>
                  <a:lnTo>
                    <a:pt x="1207" y="36"/>
                  </a:lnTo>
                  <a:lnTo>
                    <a:pt x="1281" y="21"/>
                  </a:lnTo>
                  <a:lnTo>
                    <a:pt x="1357" y="10"/>
                  </a:lnTo>
                  <a:lnTo>
                    <a:pt x="1433" y="3"/>
                  </a:lnTo>
                  <a:lnTo>
                    <a:pt x="1511" y="0"/>
                  </a:lnTo>
                  <a:lnTo>
                    <a:pt x="1590" y="0"/>
                  </a:lnTo>
                  <a:lnTo>
                    <a:pt x="1669" y="4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4754520" y="1849320"/>
              <a:ext cx="65160" cy="28800"/>
            </a:xfrm>
            <a:custGeom>
              <a:avLst/>
              <a:gdLst/>
              <a:ahLst/>
              <a:rect l="l" t="t" r="r" b="b"/>
              <a:pathLst>
                <a:path w="205" h="92">
                  <a:moveTo>
                    <a:pt x="20" y="85"/>
                  </a:moveTo>
                  <a:lnTo>
                    <a:pt x="12" y="81"/>
                  </a:lnTo>
                  <a:lnTo>
                    <a:pt x="4" y="81"/>
                  </a:lnTo>
                  <a:lnTo>
                    <a:pt x="7" y="76"/>
                  </a:lnTo>
                  <a:lnTo>
                    <a:pt x="10" y="70"/>
                  </a:lnTo>
                  <a:lnTo>
                    <a:pt x="13" y="65"/>
                  </a:lnTo>
                  <a:lnTo>
                    <a:pt x="15" y="60"/>
                  </a:lnTo>
                  <a:lnTo>
                    <a:pt x="17" y="54"/>
                  </a:lnTo>
                  <a:lnTo>
                    <a:pt x="20" y="48"/>
                  </a:lnTo>
                  <a:lnTo>
                    <a:pt x="22" y="42"/>
                  </a:lnTo>
                  <a:lnTo>
                    <a:pt x="26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59" y="39"/>
                  </a:lnTo>
                  <a:lnTo>
                    <a:pt x="58" y="27"/>
                  </a:lnTo>
                  <a:lnTo>
                    <a:pt x="54" y="27"/>
                  </a:lnTo>
                  <a:lnTo>
                    <a:pt x="54" y="14"/>
                  </a:lnTo>
                  <a:lnTo>
                    <a:pt x="46" y="14"/>
                  </a:lnTo>
                  <a:lnTo>
                    <a:pt x="29" y="36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7" y="36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28" y="33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29" y="30"/>
                  </a:lnTo>
                  <a:lnTo>
                    <a:pt x="49" y="2"/>
                  </a:lnTo>
                  <a:lnTo>
                    <a:pt x="54" y="0"/>
                  </a:lnTo>
                  <a:lnTo>
                    <a:pt x="59" y="2"/>
                  </a:lnTo>
                  <a:lnTo>
                    <a:pt x="62" y="6"/>
                  </a:lnTo>
                  <a:lnTo>
                    <a:pt x="65" y="48"/>
                  </a:lnTo>
                  <a:lnTo>
                    <a:pt x="134" y="48"/>
                  </a:lnTo>
                  <a:lnTo>
                    <a:pt x="140" y="45"/>
                  </a:lnTo>
                  <a:lnTo>
                    <a:pt x="189" y="43"/>
                  </a:lnTo>
                  <a:lnTo>
                    <a:pt x="193" y="36"/>
                  </a:lnTo>
                  <a:lnTo>
                    <a:pt x="202" y="36"/>
                  </a:lnTo>
                  <a:lnTo>
                    <a:pt x="202" y="43"/>
                  </a:lnTo>
                  <a:lnTo>
                    <a:pt x="205" y="43"/>
                  </a:lnTo>
                  <a:lnTo>
                    <a:pt x="205" y="63"/>
                  </a:lnTo>
                  <a:lnTo>
                    <a:pt x="192" y="63"/>
                  </a:lnTo>
                  <a:lnTo>
                    <a:pt x="185" y="60"/>
                  </a:lnTo>
                  <a:lnTo>
                    <a:pt x="65" y="60"/>
                  </a:lnTo>
                  <a:lnTo>
                    <a:pt x="65" y="66"/>
                  </a:lnTo>
                  <a:lnTo>
                    <a:pt x="54" y="66"/>
                  </a:lnTo>
                  <a:lnTo>
                    <a:pt x="54" y="63"/>
                  </a:lnTo>
                  <a:lnTo>
                    <a:pt x="34" y="63"/>
                  </a:lnTo>
                  <a:lnTo>
                    <a:pt x="34" y="74"/>
                  </a:lnTo>
                  <a:lnTo>
                    <a:pt x="27" y="74"/>
                  </a:lnTo>
                  <a:lnTo>
                    <a:pt x="20" y="85"/>
                  </a:lnTo>
                  <a:close/>
                  <a:moveTo>
                    <a:pt x="1" y="89"/>
                  </a:moveTo>
                  <a:lnTo>
                    <a:pt x="14" y="90"/>
                  </a:lnTo>
                  <a:lnTo>
                    <a:pt x="8" y="92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1" y="89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4795920" y="1808280"/>
              <a:ext cx="250920" cy="291960"/>
            </a:xfrm>
            <a:custGeom>
              <a:avLst/>
              <a:gdLst/>
              <a:ahLst/>
              <a:rect l="l" t="t" r="r" b="b"/>
              <a:pathLst>
                <a:path w="788" h="918">
                  <a:moveTo>
                    <a:pt x="417" y="450"/>
                  </a:moveTo>
                  <a:lnTo>
                    <a:pt x="432" y="440"/>
                  </a:lnTo>
                  <a:lnTo>
                    <a:pt x="445" y="432"/>
                  </a:lnTo>
                  <a:lnTo>
                    <a:pt x="458" y="424"/>
                  </a:lnTo>
                  <a:lnTo>
                    <a:pt x="472" y="418"/>
                  </a:lnTo>
                  <a:lnTo>
                    <a:pt x="446" y="402"/>
                  </a:lnTo>
                  <a:lnTo>
                    <a:pt x="434" y="393"/>
                  </a:lnTo>
                  <a:lnTo>
                    <a:pt x="421" y="383"/>
                  </a:lnTo>
                  <a:lnTo>
                    <a:pt x="422" y="401"/>
                  </a:lnTo>
                  <a:lnTo>
                    <a:pt x="420" y="416"/>
                  </a:lnTo>
                  <a:lnTo>
                    <a:pt x="417" y="450"/>
                  </a:lnTo>
                  <a:close/>
                  <a:moveTo>
                    <a:pt x="569" y="446"/>
                  </a:moveTo>
                  <a:lnTo>
                    <a:pt x="570" y="482"/>
                  </a:lnTo>
                  <a:lnTo>
                    <a:pt x="570" y="524"/>
                  </a:lnTo>
                  <a:lnTo>
                    <a:pt x="566" y="572"/>
                  </a:lnTo>
                  <a:lnTo>
                    <a:pt x="557" y="620"/>
                  </a:lnTo>
                  <a:lnTo>
                    <a:pt x="546" y="666"/>
                  </a:lnTo>
                  <a:lnTo>
                    <a:pt x="538" y="699"/>
                  </a:lnTo>
                  <a:lnTo>
                    <a:pt x="529" y="704"/>
                  </a:lnTo>
                  <a:lnTo>
                    <a:pt x="519" y="712"/>
                  </a:lnTo>
                  <a:lnTo>
                    <a:pt x="512" y="745"/>
                  </a:lnTo>
                  <a:lnTo>
                    <a:pt x="512" y="752"/>
                  </a:lnTo>
                  <a:lnTo>
                    <a:pt x="516" y="757"/>
                  </a:lnTo>
                  <a:lnTo>
                    <a:pt x="516" y="764"/>
                  </a:lnTo>
                  <a:lnTo>
                    <a:pt x="511" y="771"/>
                  </a:lnTo>
                  <a:lnTo>
                    <a:pt x="518" y="777"/>
                  </a:lnTo>
                  <a:lnTo>
                    <a:pt x="523" y="783"/>
                  </a:lnTo>
                  <a:lnTo>
                    <a:pt x="526" y="792"/>
                  </a:lnTo>
                  <a:lnTo>
                    <a:pt x="533" y="795"/>
                  </a:lnTo>
                  <a:lnTo>
                    <a:pt x="538" y="798"/>
                  </a:lnTo>
                  <a:lnTo>
                    <a:pt x="541" y="805"/>
                  </a:lnTo>
                  <a:lnTo>
                    <a:pt x="544" y="810"/>
                  </a:lnTo>
                  <a:lnTo>
                    <a:pt x="548" y="817"/>
                  </a:lnTo>
                  <a:lnTo>
                    <a:pt x="568" y="827"/>
                  </a:lnTo>
                  <a:lnTo>
                    <a:pt x="582" y="833"/>
                  </a:lnTo>
                  <a:lnTo>
                    <a:pt x="587" y="838"/>
                  </a:lnTo>
                  <a:lnTo>
                    <a:pt x="590" y="844"/>
                  </a:lnTo>
                  <a:lnTo>
                    <a:pt x="590" y="854"/>
                  </a:lnTo>
                  <a:lnTo>
                    <a:pt x="579" y="858"/>
                  </a:lnTo>
                  <a:lnTo>
                    <a:pt x="565" y="860"/>
                  </a:lnTo>
                  <a:lnTo>
                    <a:pt x="542" y="859"/>
                  </a:lnTo>
                  <a:lnTo>
                    <a:pt x="522" y="854"/>
                  </a:lnTo>
                  <a:lnTo>
                    <a:pt x="499" y="848"/>
                  </a:lnTo>
                  <a:lnTo>
                    <a:pt x="483" y="839"/>
                  </a:lnTo>
                  <a:lnTo>
                    <a:pt x="469" y="831"/>
                  </a:lnTo>
                  <a:lnTo>
                    <a:pt x="456" y="830"/>
                  </a:lnTo>
                  <a:lnTo>
                    <a:pt x="445" y="829"/>
                  </a:lnTo>
                  <a:lnTo>
                    <a:pt x="434" y="825"/>
                  </a:lnTo>
                  <a:lnTo>
                    <a:pt x="424" y="821"/>
                  </a:lnTo>
                  <a:lnTo>
                    <a:pt x="422" y="809"/>
                  </a:lnTo>
                  <a:lnTo>
                    <a:pt x="423" y="799"/>
                  </a:lnTo>
                  <a:lnTo>
                    <a:pt x="424" y="790"/>
                  </a:lnTo>
                  <a:lnTo>
                    <a:pt x="427" y="782"/>
                  </a:lnTo>
                  <a:lnTo>
                    <a:pt x="431" y="773"/>
                  </a:lnTo>
                  <a:lnTo>
                    <a:pt x="434" y="765"/>
                  </a:lnTo>
                  <a:lnTo>
                    <a:pt x="438" y="757"/>
                  </a:lnTo>
                  <a:lnTo>
                    <a:pt x="438" y="750"/>
                  </a:lnTo>
                  <a:lnTo>
                    <a:pt x="438" y="741"/>
                  </a:lnTo>
                  <a:lnTo>
                    <a:pt x="442" y="735"/>
                  </a:lnTo>
                  <a:lnTo>
                    <a:pt x="445" y="729"/>
                  </a:lnTo>
                  <a:lnTo>
                    <a:pt x="445" y="700"/>
                  </a:lnTo>
                  <a:lnTo>
                    <a:pt x="434" y="696"/>
                  </a:lnTo>
                  <a:lnTo>
                    <a:pt x="435" y="688"/>
                  </a:lnTo>
                  <a:lnTo>
                    <a:pt x="437" y="680"/>
                  </a:lnTo>
                  <a:lnTo>
                    <a:pt x="437" y="672"/>
                  </a:lnTo>
                  <a:lnTo>
                    <a:pt x="435" y="661"/>
                  </a:lnTo>
                  <a:lnTo>
                    <a:pt x="437" y="645"/>
                  </a:lnTo>
                  <a:lnTo>
                    <a:pt x="442" y="623"/>
                  </a:lnTo>
                  <a:lnTo>
                    <a:pt x="447" y="602"/>
                  </a:lnTo>
                  <a:lnTo>
                    <a:pt x="456" y="579"/>
                  </a:lnTo>
                  <a:lnTo>
                    <a:pt x="442" y="596"/>
                  </a:lnTo>
                  <a:lnTo>
                    <a:pt x="426" y="612"/>
                  </a:lnTo>
                  <a:lnTo>
                    <a:pt x="413" y="625"/>
                  </a:lnTo>
                  <a:lnTo>
                    <a:pt x="397" y="641"/>
                  </a:lnTo>
                  <a:lnTo>
                    <a:pt x="383" y="651"/>
                  </a:lnTo>
                  <a:lnTo>
                    <a:pt x="367" y="664"/>
                  </a:lnTo>
                  <a:lnTo>
                    <a:pt x="352" y="676"/>
                  </a:lnTo>
                  <a:lnTo>
                    <a:pt x="333" y="687"/>
                  </a:lnTo>
                  <a:lnTo>
                    <a:pt x="314" y="698"/>
                  </a:lnTo>
                  <a:lnTo>
                    <a:pt x="298" y="703"/>
                  </a:lnTo>
                  <a:lnTo>
                    <a:pt x="281" y="711"/>
                  </a:lnTo>
                  <a:lnTo>
                    <a:pt x="266" y="716"/>
                  </a:lnTo>
                  <a:lnTo>
                    <a:pt x="251" y="772"/>
                  </a:lnTo>
                  <a:lnTo>
                    <a:pt x="250" y="787"/>
                  </a:lnTo>
                  <a:lnTo>
                    <a:pt x="247" y="805"/>
                  </a:lnTo>
                  <a:lnTo>
                    <a:pt x="245" y="818"/>
                  </a:lnTo>
                  <a:lnTo>
                    <a:pt x="241" y="831"/>
                  </a:lnTo>
                  <a:lnTo>
                    <a:pt x="237" y="844"/>
                  </a:lnTo>
                  <a:lnTo>
                    <a:pt x="229" y="859"/>
                  </a:lnTo>
                  <a:lnTo>
                    <a:pt x="223" y="870"/>
                  </a:lnTo>
                  <a:lnTo>
                    <a:pt x="214" y="878"/>
                  </a:lnTo>
                  <a:lnTo>
                    <a:pt x="212" y="888"/>
                  </a:lnTo>
                  <a:lnTo>
                    <a:pt x="205" y="898"/>
                  </a:lnTo>
                  <a:lnTo>
                    <a:pt x="196" y="906"/>
                  </a:lnTo>
                  <a:lnTo>
                    <a:pt x="182" y="913"/>
                  </a:lnTo>
                  <a:lnTo>
                    <a:pt x="161" y="918"/>
                  </a:lnTo>
                  <a:lnTo>
                    <a:pt x="143" y="918"/>
                  </a:lnTo>
                  <a:lnTo>
                    <a:pt x="126" y="915"/>
                  </a:lnTo>
                  <a:lnTo>
                    <a:pt x="113" y="910"/>
                  </a:lnTo>
                  <a:lnTo>
                    <a:pt x="102" y="902"/>
                  </a:lnTo>
                  <a:lnTo>
                    <a:pt x="94" y="894"/>
                  </a:lnTo>
                  <a:lnTo>
                    <a:pt x="86" y="892"/>
                  </a:lnTo>
                  <a:lnTo>
                    <a:pt x="76" y="876"/>
                  </a:lnTo>
                  <a:lnTo>
                    <a:pt x="70" y="859"/>
                  </a:lnTo>
                  <a:lnTo>
                    <a:pt x="65" y="843"/>
                  </a:lnTo>
                  <a:lnTo>
                    <a:pt x="62" y="823"/>
                  </a:lnTo>
                  <a:lnTo>
                    <a:pt x="62" y="806"/>
                  </a:lnTo>
                  <a:lnTo>
                    <a:pt x="60" y="775"/>
                  </a:lnTo>
                  <a:lnTo>
                    <a:pt x="69" y="756"/>
                  </a:lnTo>
                  <a:lnTo>
                    <a:pt x="73" y="733"/>
                  </a:lnTo>
                  <a:lnTo>
                    <a:pt x="80" y="724"/>
                  </a:lnTo>
                  <a:lnTo>
                    <a:pt x="77" y="711"/>
                  </a:lnTo>
                  <a:lnTo>
                    <a:pt x="75" y="699"/>
                  </a:lnTo>
                  <a:lnTo>
                    <a:pt x="54" y="684"/>
                  </a:lnTo>
                  <a:lnTo>
                    <a:pt x="64" y="670"/>
                  </a:lnTo>
                  <a:lnTo>
                    <a:pt x="75" y="641"/>
                  </a:lnTo>
                  <a:lnTo>
                    <a:pt x="67" y="642"/>
                  </a:lnTo>
                  <a:lnTo>
                    <a:pt x="60" y="639"/>
                  </a:lnTo>
                  <a:lnTo>
                    <a:pt x="54" y="636"/>
                  </a:lnTo>
                  <a:lnTo>
                    <a:pt x="51" y="631"/>
                  </a:lnTo>
                  <a:lnTo>
                    <a:pt x="50" y="625"/>
                  </a:lnTo>
                  <a:lnTo>
                    <a:pt x="43" y="626"/>
                  </a:lnTo>
                  <a:lnTo>
                    <a:pt x="37" y="625"/>
                  </a:lnTo>
                  <a:lnTo>
                    <a:pt x="31" y="622"/>
                  </a:lnTo>
                  <a:lnTo>
                    <a:pt x="24" y="618"/>
                  </a:lnTo>
                  <a:lnTo>
                    <a:pt x="20" y="609"/>
                  </a:lnTo>
                  <a:lnTo>
                    <a:pt x="15" y="602"/>
                  </a:lnTo>
                  <a:lnTo>
                    <a:pt x="13" y="593"/>
                  </a:lnTo>
                  <a:lnTo>
                    <a:pt x="8" y="591"/>
                  </a:lnTo>
                  <a:lnTo>
                    <a:pt x="1" y="543"/>
                  </a:lnTo>
                  <a:lnTo>
                    <a:pt x="7" y="542"/>
                  </a:lnTo>
                  <a:lnTo>
                    <a:pt x="7" y="522"/>
                  </a:lnTo>
                  <a:lnTo>
                    <a:pt x="0" y="521"/>
                  </a:lnTo>
                  <a:lnTo>
                    <a:pt x="1" y="509"/>
                  </a:lnTo>
                  <a:lnTo>
                    <a:pt x="6" y="499"/>
                  </a:lnTo>
                  <a:lnTo>
                    <a:pt x="7" y="492"/>
                  </a:lnTo>
                  <a:lnTo>
                    <a:pt x="10" y="488"/>
                  </a:lnTo>
                  <a:lnTo>
                    <a:pt x="13" y="480"/>
                  </a:lnTo>
                  <a:lnTo>
                    <a:pt x="14" y="474"/>
                  </a:lnTo>
                  <a:lnTo>
                    <a:pt x="16" y="470"/>
                  </a:lnTo>
                  <a:lnTo>
                    <a:pt x="29" y="467"/>
                  </a:lnTo>
                  <a:lnTo>
                    <a:pt x="24" y="457"/>
                  </a:lnTo>
                  <a:lnTo>
                    <a:pt x="28" y="442"/>
                  </a:lnTo>
                  <a:lnTo>
                    <a:pt x="29" y="437"/>
                  </a:lnTo>
                  <a:lnTo>
                    <a:pt x="31" y="435"/>
                  </a:lnTo>
                  <a:lnTo>
                    <a:pt x="35" y="435"/>
                  </a:lnTo>
                  <a:lnTo>
                    <a:pt x="35" y="431"/>
                  </a:lnTo>
                  <a:lnTo>
                    <a:pt x="54" y="431"/>
                  </a:lnTo>
                  <a:lnTo>
                    <a:pt x="54" y="435"/>
                  </a:lnTo>
                  <a:lnTo>
                    <a:pt x="58" y="435"/>
                  </a:lnTo>
                  <a:lnTo>
                    <a:pt x="60" y="437"/>
                  </a:lnTo>
                  <a:lnTo>
                    <a:pt x="61" y="442"/>
                  </a:lnTo>
                  <a:lnTo>
                    <a:pt x="62" y="449"/>
                  </a:lnTo>
                  <a:lnTo>
                    <a:pt x="62" y="457"/>
                  </a:lnTo>
                  <a:lnTo>
                    <a:pt x="61" y="461"/>
                  </a:lnTo>
                  <a:lnTo>
                    <a:pt x="59" y="464"/>
                  </a:lnTo>
                  <a:lnTo>
                    <a:pt x="62" y="467"/>
                  </a:lnTo>
                  <a:lnTo>
                    <a:pt x="67" y="467"/>
                  </a:lnTo>
                  <a:lnTo>
                    <a:pt x="70" y="464"/>
                  </a:lnTo>
                  <a:lnTo>
                    <a:pt x="73" y="460"/>
                  </a:lnTo>
                  <a:lnTo>
                    <a:pt x="72" y="456"/>
                  </a:lnTo>
                  <a:lnTo>
                    <a:pt x="62" y="457"/>
                  </a:lnTo>
                  <a:lnTo>
                    <a:pt x="62" y="449"/>
                  </a:lnTo>
                  <a:lnTo>
                    <a:pt x="74" y="448"/>
                  </a:lnTo>
                  <a:lnTo>
                    <a:pt x="77" y="449"/>
                  </a:lnTo>
                  <a:lnTo>
                    <a:pt x="81" y="450"/>
                  </a:lnTo>
                  <a:lnTo>
                    <a:pt x="84" y="454"/>
                  </a:lnTo>
                  <a:lnTo>
                    <a:pt x="82" y="438"/>
                  </a:lnTo>
                  <a:lnTo>
                    <a:pt x="78" y="424"/>
                  </a:lnTo>
                  <a:lnTo>
                    <a:pt x="100" y="334"/>
                  </a:lnTo>
                  <a:lnTo>
                    <a:pt x="105" y="317"/>
                  </a:lnTo>
                  <a:lnTo>
                    <a:pt x="109" y="307"/>
                  </a:lnTo>
                  <a:lnTo>
                    <a:pt x="117" y="297"/>
                  </a:lnTo>
                  <a:lnTo>
                    <a:pt x="110" y="275"/>
                  </a:lnTo>
                  <a:lnTo>
                    <a:pt x="108" y="261"/>
                  </a:lnTo>
                  <a:lnTo>
                    <a:pt x="109" y="248"/>
                  </a:lnTo>
                  <a:lnTo>
                    <a:pt x="115" y="232"/>
                  </a:lnTo>
                  <a:lnTo>
                    <a:pt x="126" y="214"/>
                  </a:lnTo>
                  <a:lnTo>
                    <a:pt x="136" y="197"/>
                  </a:lnTo>
                  <a:lnTo>
                    <a:pt x="151" y="183"/>
                  </a:lnTo>
                  <a:lnTo>
                    <a:pt x="168" y="174"/>
                  </a:lnTo>
                  <a:lnTo>
                    <a:pt x="176" y="164"/>
                  </a:lnTo>
                  <a:lnTo>
                    <a:pt x="186" y="159"/>
                  </a:lnTo>
                  <a:lnTo>
                    <a:pt x="196" y="155"/>
                  </a:lnTo>
                  <a:lnTo>
                    <a:pt x="205" y="155"/>
                  </a:lnTo>
                  <a:lnTo>
                    <a:pt x="216" y="159"/>
                  </a:lnTo>
                  <a:lnTo>
                    <a:pt x="240" y="153"/>
                  </a:lnTo>
                  <a:lnTo>
                    <a:pt x="242" y="145"/>
                  </a:lnTo>
                  <a:lnTo>
                    <a:pt x="239" y="130"/>
                  </a:lnTo>
                  <a:lnTo>
                    <a:pt x="241" y="129"/>
                  </a:lnTo>
                  <a:lnTo>
                    <a:pt x="239" y="114"/>
                  </a:lnTo>
                  <a:lnTo>
                    <a:pt x="238" y="98"/>
                  </a:lnTo>
                  <a:lnTo>
                    <a:pt x="238" y="82"/>
                  </a:lnTo>
                  <a:lnTo>
                    <a:pt x="241" y="65"/>
                  </a:lnTo>
                  <a:lnTo>
                    <a:pt x="247" y="47"/>
                  </a:lnTo>
                  <a:lnTo>
                    <a:pt x="257" y="33"/>
                  </a:lnTo>
                  <a:lnTo>
                    <a:pt x="266" y="26"/>
                  </a:lnTo>
                  <a:lnTo>
                    <a:pt x="288" y="13"/>
                  </a:lnTo>
                  <a:lnTo>
                    <a:pt x="305" y="7"/>
                  </a:lnTo>
                  <a:lnTo>
                    <a:pt x="322" y="2"/>
                  </a:lnTo>
                  <a:lnTo>
                    <a:pt x="339" y="0"/>
                  </a:lnTo>
                  <a:lnTo>
                    <a:pt x="353" y="0"/>
                  </a:lnTo>
                  <a:lnTo>
                    <a:pt x="367" y="2"/>
                  </a:lnTo>
                  <a:lnTo>
                    <a:pt x="378" y="6"/>
                  </a:lnTo>
                  <a:lnTo>
                    <a:pt x="388" y="11"/>
                  </a:lnTo>
                  <a:lnTo>
                    <a:pt x="397" y="20"/>
                  </a:lnTo>
                  <a:lnTo>
                    <a:pt x="405" y="32"/>
                  </a:lnTo>
                  <a:lnTo>
                    <a:pt x="417" y="56"/>
                  </a:lnTo>
                  <a:lnTo>
                    <a:pt x="431" y="85"/>
                  </a:lnTo>
                  <a:lnTo>
                    <a:pt x="436" y="93"/>
                  </a:lnTo>
                  <a:lnTo>
                    <a:pt x="438" y="98"/>
                  </a:lnTo>
                  <a:lnTo>
                    <a:pt x="437" y="103"/>
                  </a:lnTo>
                  <a:lnTo>
                    <a:pt x="432" y="108"/>
                  </a:lnTo>
                  <a:lnTo>
                    <a:pt x="414" y="114"/>
                  </a:lnTo>
                  <a:lnTo>
                    <a:pt x="416" y="129"/>
                  </a:lnTo>
                  <a:lnTo>
                    <a:pt x="417" y="143"/>
                  </a:lnTo>
                  <a:lnTo>
                    <a:pt x="417" y="154"/>
                  </a:lnTo>
                  <a:lnTo>
                    <a:pt x="426" y="155"/>
                  </a:lnTo>
                  <a:lnTo>
                    <a:pt x="436" y="176"/>
                  </a:lnTo>
                  <a:lnTo>
                    <a:pt x="518" y="262"/>
                  </a:lnTo>
                  <a:lnTo>
                    <a:pt x="522" y="269"/>
                  </a:lnTo>
                  <a:lnTo>
                    <a:pt x="523" y="274"/>
                  </a:lnTo>
                  <a:lnTo>
                    <a:pt x="522" y="281"/>
                  </a:lnTo>
                  <a:lnTo>
                    <a:pt x="518" y="284"/>
                  </a:lnTo>
                  <a:lnTo>
                    <a:pt x="514" y="285"/>
                  </a:lnTo>
                  <a:lnTo>
                    <a:pt x="514" y="291"/>
                  </a:lnTo>
                  <a:lnTo>
                    <a:pt x="512" y="297"/>
                  </a:lnTo>
                  <a:lnTo>
                    <a:pt x="509" y="301"/>
                  </a:lnTo>
                  <a:lnTo>
                    <a:pt x="512" y="304"/>
                  </a:lnTo>
                  <a:lnTo>
                    <a:pt x="514" y="310"/>
                  </a:lnTo>
                  <a:lnTo>
                    <a:pt x="519" y="316"/>
                  </a:lnTo>
                  <a:lnTo>
                    <a:pt x="529" y="323"/>
                  </a:lnTo>
                  <a:lnTo>
                    <a:pt x="536" y="327"/>
                  </a:lnTo>
                  <a:lnTo>
                    <a:pt x="543" y="334"/>
                  </a:lnTo>
                  <a:lnTo>
                    <a:pt x="551" y="338"/>
                  </a:lnTo>
                  <a:lnTo>
                    <a:pt x="569" y="333"/>
                  </a:lnTo>
                  <a:lnTo>
                    <a:pt x="580" y="329"/>
                  </a:lnTo>
                  <a:lnTo>
                    <a:pt x="591" y="327"/>
                  </a:lnTo>
                  <a:lnTo>
                    <a:pt x="598" y="325"/>
                  </a:lnTo>
                  <a:lnTo>
                    <a:pt x="628" y="304"/>
                  </a:lnTo>
                  <a:lnTo>
                    <a:pt x="666" y="262"/>
                  </a:lnTo>
                  <a:lnTo>
                    <a:pt x="672" y="263"/>
                  </a:lnTo>
                  <a:lnTo>
                    <a:pt x="693" y="240"/>
                  </a:lnTo>
                  <a:lnTo>
                    <a:pt x="694" y="234"/>
                  </a:lnTo>
                  <a:lnTo>
                    <a:pt x="698" y="228"/>
                  </a:lnTo>
                  <a:lnTo>
                    <a:pt x="704" y="220"/>
                  </a:lnTo>
                  <a:lnTo>
                    <a:pt x="788" y="218"/>
                  </a:lnTo>
                  <a:lnTo>
                    <a:pt x="732" y="250"/>
                  </a:lnTo>
                  <a:lnTo>
                    <a:pt x="721" y="262"/>
                  </a:lnTo>
                  <a:lnTo>
                    <a:pt x="705" y="290"/>
                  </a:lnTo>
                  <a:lnTo>
                    <a:pt x="707" y="297"/>
                  </a:lnTo>
                  <a:lnTo>
                    <a:pt x="664" y="370"/>
                  </a:lnTo>
                  <a:lnTo>
                    <a:pt x="651" y="409"/>
                  </a:lnTo>
                  <a:lnTo>
                    <a:pt x="634" y="422"/>
                  </a:lnTo>
                  <a:lnTo>
                    <a:pt x="618" y="433"/>
                  </a:lnTo>
                  <a:lnTo>
                    <a:pt x="596" y="443"/>
                  </a:lnTo>
                  <a:lnTo>
                    <a:pt x="582" y="445"/>
                  </a:lnTo>
                  <a:lnTo>
                    <a:pt x="569" y="446"/>
                  </a:lnTo>
                  <a:close/>
                  <a:moveTo>
                    <a:pt x="83" y="467"/>
                  </a:moveTo>
                  <a:lnTo>
                    <a:pt x="77" y="472"/>
                  </a:lnTo>
                  <a:lnTo>
                    <a:pt x="80" y="476"/>
                  </a:lnTo>
                  <a:lnTo>
                    <a:pt x="82" y="481"/>
                  </a:lnTo>
                  <a:lnTo>
                    <a:pt x="83" y="476"/>
                  </a:lnTo>
                  <a:lnTo>
                    <a:pt x="84" y="471"/>
                  </a:lnTo>
                  <a:lnTo>
                    <a:pt x="83" y="46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4795920" y="1808280"/>
              <a:ext cx="250920" cy="291960"/>
            </a:xfrm>
            <a:custGeom>
              <a:avLst/>
              <a:gdLst/>
              <a:ahLst/>
              <a:rect l="l" t="t" r="r" b="b"/>
              <a:pathLst>
                <a:path w="788" h="918">
                  <a:moveTo>
                    <a:pt x="569" y="446"/>
                  </a:moveTo>
                  <a:lnTo>
                    <a:pt x="570" y="482"/>
                  </a:lnTo>
                  <a:lnTo>
                    <a:pt x="570" y="524"/>
                  </a:lnTo>
                  <a:lnTo>
                    <a:pt x="566" y="572"/>
                  </a:lnTo>
                  <a:lnTo>
                    <a:pt x="557" y="620"/>
                  </a:lnTo>
                  <a:lnTo>
                    <a:pt x="546" y="666"/>
                  </a:lnTo>
                  <a:lnTo>
                    <a:pt x="538" y="699"/>
                  </a:lnTo>
                  <a:lnTo>
                    <a:pt x="529" y="704"/>
                  </a:lnTo>
                  <a:lnTo>
                    <a:pt x="519" y="712"/>
                  </a:lnTo>
                  <a:lnTo>
                    <a:pt x="512" y="745"/>
                  </a:lnTo>
                  <a:lnTo>
                    <a:pt x="512" y="752"/>
                  </a:lnTo>
                  <a:lnTo>
                    <a:pt x="516" y="757"/>
                  </a:lnTo>
                  <a:lnTo>
                    <a:pt x="516" y="764"/>
                  </a:lnTo>
                  <a:lnTo>
                    <a:pt x="511" y="771"/>
                  </a:lnTo>
                  <a:lnTo>
                    <a:pt x="518" y="777"/>
                  </a:lnTo>
                  <a:lnTo>
                    <a:pt x="523" y="783"/>
                  </a:lnTo>
                  <a:lnTo>
                    <a:pt x="526" y="792"/>
                  </a:lnTo>
                  <a:lnTo>
                    <a:pt x="533" y="795"/>
                  </a:lnTo>
                  <a:lnTo>
                    <a:pt x="538" y="798"/>
                  </a:lnTo>
                  <a:lnTo>
                    <a:pt x="541" y="805"/>
                  </a:lnTo>
                  <a:lnTo>
                    <a:pt x="544" y="810"/>
                  </a:lnTo>
                  <a:lnTo>
                    <a:pt x="548" y="817"/>
                  </a:lnTo>
                  <a:lnTo>
                    <a:pt x="568" y="827"/>
                  </a:lnTo>
                  <a:lnTo>
                    <a:pt x="582" y="833"/>
                  </a:lnTo>
                  <a:lnTo>
                    <a:pt x="587" y="838"/>
                  </a:lnTo>
                  <a:lnTo>
                    <a:pt x="590" y="844"/>
                  </a:lnTo>
                  <a:lnTo>
                    <a:pt x="590" y="854"/>
                  </a:lnTo>
                  <a:lnTo>
                    <a:pt x="579" y="858"/>
                  </a:lnTo>
                  <a:lnTo>
                    <a:pt x="565" y="860"/>
                  </a:lnTo>
                  <a:lnTo>
                    <a:pt x="542" y="859"/>
                  </a:lnTo>
                  <a:lnTo>
                    <a:pt x="522" y="854"/>
                  </a:lnTo>
                  <a:lnTo>
                    <a:pt x="499" y="848"/>
                  </a:lnTo>
                  <a:lnTo>
                    <a:pt x="483" y="839"/>
                  </a:lnTo>
                  <a:lnTo>
                    <a:pt x="469" y="831"/>
                  </a:lnTo>
                  <a:lnTo>
                    <a:pt x="456" y="830"/>
                  </a:lnTo>
                  <a:lnTo>
                    <a:pt x="445" y="829"/>
                  </a:lnTo>
                  <a:lnTo>
                    <a:pt x="434" y="825"/>
                  </a:lnTo>
                  <a:lnTo>
                    <a:pt x="424" y="821"/>
                  </a:lnTo>
                  <a:lnTo>
                    <a:pt x="422" y="809"/>
                  </a:lnTo>
                  <a:lnTo>
                    <a:pt x="423" y="799"/>
                  </a:lnTo>
                  <a:lnTo>
                    <a:pt x="424" y="790"/>
                  </a:lnTo>
                  <a:lnTo>
                    <a:pt x="427" y="782"/>
                  </a:lnTo>
                  <a:lnTo>
                    <a:pt x="431" y="773"/>
                  </a:lnTo>
                  <a:lnTo>
                    <a:pt x="434" y="765"/>
                  </a:lnTo>
                  <a:lnTo>
                    <a:pt x="438" y="757"/>
                  </a:lnTo>
                  <a:lnTo>
                    <a:pt x="438" y="750"/>
                  </a:lnTo>
                  <a:lnTo>
                    <a:pt x="438" y="741"/>
                  </a:lnTo>
                  <a:lnTo>
                    <a:pt x="442" y="735"/>
                  </a:lnTo>
                  <a:lnTo>
                    <a:pt x="445" y="729"/>
                  </a:lnTo>
                  <a:lnTo>
                    <a:pt x="445" y="700"/>
                  </a:lnTo>
                  <a:lnTo>
                    <a:pt x="434" y="696"/>
                  </a:lnTo>
                  <a:lnTo>
                    <a:pt x="435" y="688"/>
                  </a:lnTo>
                  <a:lnTo>
                    <a:pt x="437" y="680"/>
                  </a:lnTo>
                  <a:lnTo>
                    <a:pt x="437" y="672"/>
                  </a:lnTo>
                  <a:lnTo>
                    <a:pt x="435" y="661"/>
                  </a:lnTo>
                  <a:lnTo>
                    <a:pt x="437" y="645"/>
                  </a:lnTo>
                  <a:lnTo>
                    <a:pt x="442" y="623"/>
                  </a:lnTo>
                  <a:lnTo>
                    <a:pt x="447" y="602"/>
                  </a:lnTo>
                  <a:lnTo>
                    <a:pt x="456" y="579"/>
                  </a:lnTo>
                  <a:lnTo>
                    <a:pt x="442" y="596"/>
                  </a:lnTo>
                  <a:lnTo>
                    <a:pt x="426" y="612"/>
                  </a:lnTo>
                  <a:lnTo>
                    <a:pt x="413" y="625"/>
                  </a:lnTo>
                  <a:lnTo>
                    <a:pt x="397" y="641"/>
                  </a:lnTo>
                  <a:lnTo>
                    <a:pt x="383" y="651"/>
                  </a:lnTo>
                  <a:lnTo>
                    <a:pt x="367" y="664"/>
                  </a:lnTo>
                  <a:lnTo>
                    <a:pt x="352" y="676"/>
                  </a:lnTo>
                  <a:lnTo>
                    <a:pt x="333" y="687"/>
                  </a:lnTo>
                  <a:lnTo>
                    <a:pt x="314" y="698"/>
                  </a:lnTo>
                  <a:lnTo>
                    <a:pt x="298" y="703"/>
                  </a:lnTo>
                  <a:lnTo>
                    <a:pt x="281" y="711"/>
                  </a:lnTo>
                  <a:lnTo>
                    <a:pt x="266" y="716"/>
                  </a:lnTo>
                  <a:lnTo>
                    <a:pt x="251" y="772"/>
                  </a:lnTo>
                  <a:lnTo>
                    <a:pt x="250" y="787"/>
                  </a:lnTo>
                  <a:lnTo>
                    <a:pt x="247" y="805"/>
                  </a:lnTo>
                  <a:lnTo>
                    <a:pt x="245" y="818"/>
                  </a:lnTo>
                  <a:lnTo>
                    <a:pt x="241" y="831"/>
                  </a:lnTo>
                  <a:lnTo>
                    <a:pt x="237" y="844"/>
                  </a:lnTo>
                  <a:lnTo>
                    <a:pt x="229" y="859"/>
                  </a:lnTo>
                  <a:lnTo>
                    <a:pt x="223" y="870"/>
                  </a:lnTo>
                  <a:lnTo>
                    <a:pt x="214" y="878"/>
                  </a:lnTo>
                  <a:lnTo>
                    <a:pt x="212" y="888"/>
                  </a:lnTo>
                  <a:lnTo>
                    <a:pt x="205" y="898"/>
                  </a:lnTo>
                  <a:lnTo>
                    <a:pt x="196" y="906"/>
                  </a:lnTo>
                  <a:lnTo>
                    <a:pt x="182" y="913"/>
                  </a:lnTo>
                  <a:lnTo>
                    <a:pt x="161" y="918"/>
                  </a:lnTo>
                  <a:lnTo>
                    <a:pt x="143" y="918"/>
                  </a:lnTo>
                  <a:lnTo>
                    <a:pt x="126" y="915"/>
                  </a:lnTo>
                  <a:lnTo>
                    <a:pt x="113" y="910"/>
                  </a:lnTo>
                  <a:lnTo>
                    <a:pt x="102" y="902"/>
                  </a:lnTo>
                  <a:lnTo>
                    <a:pt x="94" y="894"/>
                  </a:lnTo>
                  <a:lnTo>
                    <a:pt x="86" y="892"/>
                  </a:lnTo>
                  <a:lnTo>
                    <a:pt x="76" y="876"/>
                  </a:lnTo>
                  <a:lnTo>
                    <a:pt x="70" y="859"/>
                  </a:lnTo>
                  <a:lnTo>
                    <a:pt x="65" y="843"/>
                  </a:lnTo>
                  <a:lnTo>
                    <a:pt x="62" y="823"/>
                  </a:lnTo>
                  <a:lnTo>
                    <a:pt x="62" y="806"/>
                  </a:lnTo>
                  <a:lnTo>
                    <a:pt x="60" y="775"/>
                  </a:lnTo>
                  <a:lnTo>
                    <a:pt x="69" y="756"/>
                  </a:lnTo>
                  <a:lnTo>
                    <a:pt x="73" y="733"/>
                  </a:lnTo>
                  <a:lnTo>
                    <a:pt x="80" y="724"/>
                  </a:lnTo>
                  <a:lnTo>
                    <a:pt x="77" y="711"/>
                  </a:lnTo>
                  <a:lnTo>
                    <a:pt x="75" y="699"/>
                  </a:lnTo>
                  <a:lnTo>
                    <a:pt x="54" y="684"/>
                  </a:lnTo>
                  <a:lnTo>
                    <a:pt x="64" y="670"/>
                  </a:lnTo>
                  <a:lnTo>
                    <a:pt x="75" y="641"/>
                  </a:lnTo>
                  <a:lnTo>
                    <a:pt x="67" y="642"/>
                  </a:lnTo>
                  <a:lnTo>
                    <a:pt x="60" y="639"/>
                  </a:lnTo>
                  <a:lnTo>
                    <a:pt x="54" y="636"/>
                  </a:lnTo>
                  <a:lnTo>
                    <a:pt x="51" y="631"/>
                  </a:lnTo>
                  <a:lnTo>
                    <a:pt x="50" y="625"/>
                  </a:lnTo>
                  <a:lnTo>
                    <a:pt x="43" y="626"/>
                  </a:lnTo>
                  <a:lnTo>
                    <a:pt x="37" y="625"/>
                  </a:lnTo>
                  <a:lnTo>
                    <a:pt x="31" y="622"/>
                  </a:lnTo>
                  <a:lnTo>
                    <a:pt x="24" y="618"/>
                  </a:lnTo>
                  <a:lnTo>
                    <a:pt x="20" y="609"/>
                  </a:lnTo>
                  <a:lnTo>
                    <a:pt x="15" y="602"/>
                  </a:lnTo>
                  <a:lnTo>
                    <a:pt x="13" y="593"/>
                  </a:lnTo>
                  <a:lnTo>
                    <a:pt x="8" y="591"/>
                  </a:lnTo>
                  <a:lnTo>
                    <a:pt x="1" y="543"/>
                  </a:lnTo>
                  <a:lnTo>
                    <a:pt x="7" y="542"/>
                  </a:lnTo>
                  <a:lnTo>
                    <a:pt x="7" y="522"/>
                  </a:lnTo>
                  <a:lnTo>
                    <a:pt x="0" y="521"/>
                  </a:lnTo>
                  <a:lnTo>
                    <a:pt x="1" y="509"/>
                  </a:lnTo>
                  <a:lnTo>
                    <a:pt x="6" y="499"/>
                  </a:lnTo>
                  <a:lnTo>
                    <a:pt x="7" y="492"/>
                  </a:lnTo>
                  <a:lnTo>
                    <a:pt x="10" y="488"/>
                  </a:lnTo>
                  <a:lnTo>
                    <a:pt x="13" y="480"/>
                  </a:lnTo>
                  <a:lnTo>
                    <a:pt x="14" y="474"/>
                  </a:lnTo>
                  <a:lnTo>
                    <a:pt x="16" y="470"/>
                  </a:lnTo>
                  <a:lnTo>
                    <a:pt x="29" y="467"/>
                  </a:lnTo>
                  <a:lnTo>
                    <a:pt x="24" y="457"/>
                  </a:lnTo>
                  <a:lnTo>
                    <a:pt x="28" y="442"/>
                  </a:lnTo>
                  <a:lnTo>
                    <a:pt x="29" y="437"/>
                  </a:lnTo>
                  <a:lnTo>
                    <a:pt x="31" y="435"/>
                  </a:lnTo>
                  <a:lnTo>
                    <a:pt x="35" y="435"/>
                  </a:lnTo>
                  <a:lnTo>
                    <a:pt x="35" y="431"/>
                  </a:lnTo>
                  <a:lnTo>
                    <a:pt x="54" y="431"/>
                  </a:lnTo>
                  <a:lnTo>
                    <a:pt x="54" y="435"/>
                  </a:lnTo>
                  <a:lnTo>
                    <a:pt x="58" y="435"/>
                  </a:lnTo>
                  <a:lnTo>
                    <a:pt x="60" y="437"/>
                  </a:lnTo>
                  <a:lnTo>
                    <a:pt x="61" y="442"/>
                  </a:lnTo>
                  <a:lnTo>
                    <a:pt x="62" y="449"/>
                  </a:lnTo>
                  <a:lnTo>
                    <a:pt x="62" y="457"/>
                  </a:lnTo>
                  <a:lnTo>
                    <a:pt x="61" y="461"/>
                  </a:lnTo>
                  <a:lnTo>
                    <a:pt x="59" y="464"/>
                  </a:lnTo>
                  <a:lnTo>
                    <a:pt x="62" y="467"/>
                  </a:lnTo>
                  <a:lnTo>
                    <a:pt x="67" y="467"/>
                  </a:lnTo>
                  <a:lnTo>
                    <a:pt x="70" y="464"/>
                  </a:lnTo>
                  <a:lnTo>
                    <a:pt x="73" y="460"/>
                  </a:lnTo>
                  <a:lnTo>
                    <a:pt x="72" y="456"/>
                  </a:lnTo>
                  <a:lnTo>
                    <a:pt x="62" y="457"/>
                  </a:lnTo>
                  <a:lnTo>
                    <a:pt x="62" y="449"/>
                  </a:lnTo>
                  <a:lnTo>
                    <a:pt x="74" y="448"/>
                  </a:lnTo>
                  <a:lnTo>
                    <a:pt x="77" y="449"/>
                  </a:lnTo>
                  <a:lnTo>
                    <a:pt x="81" y="450"/>
                  </a:lnTo>
                  <a:lnTo>
                    <a:pt x="84" y="454"/>
                  </a:lnTo>
                  <a:lnTo>
                    <a:pt x="82" y="438"/>
                  </a:lnTo>
                  <a:lnTo>
                    <a:pt x="78" y="424"/>
                  </a:lnTo>
                  <a:lnTo>
                    <a:pt x="100" y="334"/>
                  </a:lnTo>
                  <a:lnTo>
                    <a:pt x="105" y="317"/>
                  </a:lnTo>
                  <a:lnTo>
                    <a:pt x="109" y="307"/>
                  </a:lnTo>
                  <a:lnTo>
                    <a:pt x="117" y="297"/>
                  </a:lnTo>
                  <a:lnTo>
                    <a:pt x="110" y="275"/>
                  </a:lnTo>
                  <a:lnTo>
                    <a:pt x="108" y="261"/>
                  </a:lnTo>
                  <a:lnTo>
                    <a:pt x="109" y="248"/>
                  </a:lnTo>
                  <a:lnTo>
                    <a:pt x="115" y="232"/>
                  </a:lnTo>
                  <a:lnTo>
                    <a:pt x="126" y="214"/>
                  </a:lnTo>
                  <a:lnTo>
                    <a:pt x="136" y="197"/>
                  </a:lnTo>
                  <a:lnTo>
                    <a:pt x="151" y="183"/>
                  </a:lnTo>
                  <a:lnTo>
                    <a:pt x="168" y="174"/>
                  </a:lnTo>
                  <a:lnTo>
                    <a:pt x="176" y="164"/>
                  </a:lnTo>
                  <a:lnTo>
                    <a:pt x="186" y="159"/>
                  </a:lnTo>
                  <a:lnTo>
                    <a:pt x="196" y="155"/>
                  </a:lnTo>
                  <a:lnTo>
                    <a:pt x="205" y="155"/>
                  </a:lnTo>
                  <a:lnTo>
                    <a:pt x="216" y="159"/>
                  </a:lnTo>
                  <a:lnTo>
                    <a:pt x="240" y="153"/>
                  </a:lnTo>
                  <a:lnTo>
                    <a:pt x="242" y="145"/>
                  </a:lnTo>
                  <a:lnTo>
                    <a:pt x="239" y="130"/>
                  </a:lnTo>
                  <a:lnTo>
                    <a:pt x="241" y="129"/>
                  </a:lnTo>
                  <a:lnTo>
                    <a:pt x="239" y="114"/>
                  </a:lnTo>
                  <a:lnTo>
                    <a:pt x="238" y="98"/>
                  </a:lnTo>
                  <a:lnTo>
                    <a:pt x="238" y="82"/>
                  </a:lnTo>
                  <a:lnTo>
                    <a:pt x="241" y="65"/>
                  </a:lnTo>
                  <a:lnTo>
                    <a:pt x="247" y="47"/>
                  </a:lnTo>
                  <a:lnTo>
                    <a:pt x="257" y="33"/>
                  </a:lnTo>
                  <a:lnTo>
                    <a:pt x="266" y="26"/>
                  </a:lnTo>
                  <a:lnTo>
                    <a:pt x="288" y="13"/>
                  </a:lnTo>
                  <a:lnTo>
                    <a:pt x="305" y="7"/>
                  </a:lnTo>
                  <a:lnTo>
                    <a:pt x="322" y="2"/>
                  </a:lnTo>
                  <a:lnTo>
                    <a:pt x="339" y="0"/>
                  </a:lnTo>
                  <a:lnTo>
                    <a:pt x="353" y="0"/>
                  </a:lnTo>
                  <a:lnTo>
                    <a:pt x="367" y="2"/>
                  </a:lnTo>
                  <a:lnTo>
                    <a:pt x="378" y="6"/>
                  </a:lnTo>
                  <a:lnTo>
                    <a:pt x="388" y="11"/>
                  </a:lnTo>
                  <a:lnTo>
                    <a:pt x="397" y="20"/>
                  </a:lnTo>
                  <a:lnTo>
                    <a:pt x="405" y="32"/>
                  </a:lnTo>
                  <a:lnTo>
                    <a:pt x="417" y="56"/>
                  </a:lnTo>
                  <a:lnTo>
                    <a:pt x="431" y="85"/>
                  </a:lnTo>
                  <a:lnTo>
                    <a:pt x="436" y="93"/>
                  </a:lnTo>
                  <a:lnTo>
                    <a:pt x="438" y="98"/>
                  </a:lnTo>
                  <a:lnTo>
                    <a:pt x="437" y="103"/>
                  </a:lnTo>
                  <a:lnTo>
                    <a:pt x="432" y="108"/>
                  </a:lnTo>
                  <a:lnTo>
                    <a:pt x="414" y="114"/>
                  </a:lnTo>
                  <a:lnTo>
                    <a:pt x="416" y="129"/>
                  </a:lnTo>
                  <a:lnTo>
                    <a:pt x="417" y="143"/>
                  </a:lnTo>
                  <a:lnTo>
                    <a:pt x="417" y="154"/>
                  </a:lnTo>
                  <a:lnTo>
                    <a:pt x="426" y="155"/>
                  </a:lnTo>
                  <a:lnTo>
                    <a:pt x="436" y="176"/>
                  </a:lnTo>
                  <a:lnTo>
                    <a:pt x="518" y="262"/>
                  </a:lnTo>
                  <a:lnTo>
                    <a:pt x="522" y="269"/>
                  </a:lnTo>
                  <a:lnTo>
                    <a:pt x="523" y="274"/>
                  </a:lnTo>
                  <a:lnTo>
                    <a:pt x="522" y="281"/>
                  </a:lnTo>
                  <a:lnTo>
                    <a:pt x="518" y="284"/>
                  </a:lnTo>
                  <a:lnTo>
                    <a:pt x="514" y="285"/>
                  </a:lnTo>
                  <a:lnTo>
                    <a:pt x="514" y="291"/>
                  </a:lnTo>
                  <a:lnTo>
                    <a:pt x="512" y="297"/>
                  </a:lnTo>
                  <a:lnTo>
                    <a:pt x="509" y="301"/>
                  </a:lnTo>
                  <a:lnTo>
                    <a:pt x="512" y="304"/>
                  </a:lnTo>
                  <a:lnTo>
                    <a:pt x="514" y="310"/>
                  </a:lnTo>
                  <a:lnTo>
                    <a:pt x="519" y="316"/>
                  </a:lnTo>
                  <a:lnTo>
                    <a:pt x="529" y="323"/>
                  </a:lnTo>
                  <a:lnTo>
                    <a:pt x="536" y="327"/>
                  </a:lnTo>
                  <a:lnTo>
                    <a:pt x="543" y="334"/>
                  </a:lnTo>
                  <a:lnTo>
                    <a:pt x="551" y="338"/>
                  </a:lnTo>
                  <a:lnTo>
                    <a:pt x="569" y="333"/>
                  </a:lnTo>
                  <a:lnTo>
                    <a:pt x="580" y="329"/>
                  </a:lnTo>
                  <a:lnTo>
                    <a:pt x="591" y="327"/>
                  </a:lnTo>
                  <a:lnTo>
                    <a:pt x="598" y="325"/>
                  </a:lnTo>
                  <a:lnTo>
                    <a:pt x="628" y="304"/>
                  </a:lnTo>
                  <a:lnTo>
                    <a:pt x="666" y="262"/>
                  </a:lnTo>
                  <a:lnTo>
                    <a:pt x="672" y="263"/>
                  </a:lnTo>
                  <a:lnTo>
                    <a:pt x="693" y="240"/>
                  </a:lnTo>
                  <a:lnTo>
                    <a:pt x="694" y="234"/>
                  </a:lnTo>
                  <a:lnTo>
                    <a:pt x="698" y="228"/>
                  </a:lnTo>
                  <a:lnTo>
                    <a:pt x="704" y="220"/>
                  </a:lnTo>
                  <a:lnTo>
                    <a:pt x="788" y="218"/>
                  </a:lnTo>
                  <a:lnTo>
                    <a:pt x="732" y="250"/>
                  </a:lnTo>
                  <a:lnTo>
                    <a:pt x="721" y="262"/>
                  </a:lnTo>
                  <a:lnTo>
                    <a:pt x="705" y="290"/>
                  </a:lnTo>
                  <a:lnTo>
                    <a:pt x="707" y="297"/>
                  </a:lnTo>
                  <a:lnTo>
                    <a:pt x="664" y="370"/>
                  </a:lnTo>
                  <a:lnTo>
                    <a:pt x="651" y="409"/>
                  </a:lnTo>
                  <a:lnTo>
                    <a:pt x="634" y="422"/>
                  </a:lnTo>
                  <a:lnTo>
                    <a:pt x="618" y="433"/>
                  </a:lnTo>
                  <a:lnTo>
                    <a:pt x="596" y="443"/>
                  </a:lnTo>
                  <a:lnTo>
                    <a:pt x="582" y="445"/>
                  </a:lnTo>
                  <a:lnTo>
                    <a:pt x="569" y="446"/>
                  </a:lnTo>
                </a:path>
              </a:pathLst>
            </a:custGeom>
            <a:noFill/>
            <a:ln w="0">
              <a:solidFill>
                <a:srgbClr val="a9a8a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4933800" y="1849320"/>
              <a:ext cx="196920" cy="55800"/>
            </a:xfrm>
            <a:custGeom>
              <a:avLst/>
              <a:gdLst/>
              <a:ahLst/>
              <a:rect l="l" t="t" r="r" b="b"/>
              <a:pathLst>
                <a:path w="621" h="176">
                  <a:moveTo>
                    <a:pt x="436" y="85"/>
                  </a:moveTo>
                  <a:lnTo>
                    <a:pt x="427" y="81"/>
                  </a:lnTo>
                  <a:lnTo>
                    <a:pt x="364" y="83"/>
                  </a:lnTo>
                  <a:lnTo>
                    <a:pt x="360" y="88"/>
                  </a:lnTo>
                  <a:lnTo>
                    <a:pt x="430" y="90"/>
                  </a:lnTo>
                  <a:lnTo>
                    <a:pt x="424" y="92"/>
                  </a:lnTo>
                  <a:lnTo>
                    <a:pt x="353" y="92"/>
                  </a:lnTo>
                  <a:lnTo>
                    <a:pt x="268" y="94"/>
                  </a:lnTo>
                  <a:lnTo>
                    <a:pt x="247" y="94"/>
                  </a:lnTo>
                  <a:lnTo>
                    <a:pt x="176" y="123"/>
                  </a:lnTo>
                  <a:lnTo>
                    <a:pt x="176" y="166"/>
                  </a:lnTo>
                  <a:lnTo>
                    <a:pt x="128" y="176"/>
                  </a:lnTo>
                  <a:lnTo>
                    <a:pt x="128" y="136"/>
                  </a:lnTo>
                  <a:lnTo>
                    <a:pt x="124" y="126"/>
                  </a:lnTo>
                  <a:lnTo>
                    <a:pt x="124" y="116"/>
                  </a:lnTo>
                  <a:lnTo>
                    <a:pt x="122" y="113"/>
                  </a:lnTo>
                  <a:lnTo>
                    <a:pt x="120" y="110"/>
                  </a:lnTo>
                  <a:lnTo>
                    <a:pt x="118" y="109"/>
                  </a:lnTo>
                  <a:lnTo>
                    <a:pt x="116" y="109"/>
                  </a:lnTo>
                  <a:lnTo>
                    <a:pt x="97" y="107"/>
                  </a:lnTo>
                  <a:lnTo>
                    <a:pt x="104" y="117"/>
                  </a:lnTo>
                  <a:lnTo>
                    <a:pt x="105" y="122"/>
                  </a:lnTo>
                  <a:lnTo>
                    <a:pt x="105" y="126"/>
                  </a:lnTo>
                  <a:lnTo>
                    <a:pt x="103" y="128"/>
                  </a:lnTo>
                  <a:lnTo>
                    <a:pt x="99" y="131"/>
                  </a:lnTo>
                  <a:lnTo>
                    <a:pt x="119" y="131"/>
                  </a:lnTo>
                  <a:lnTo>
                    <a:pt x="121" y="131"/>
                  </a:lnTo>
                  <a:lnTo>
                    <a:pt x="122" y="128"/>
                  </a:lnTo>
                  <a:lnTo>
                    <a:pt x="124" y="126"/>
                  </a:lnTo>
                  <a:lnTo>
                    <a:pt x="128" y="136"/>
                  </a:lnTo>
                  <a:lnTo>
                    <a:pt x="82" y="136"/>
                  </a:lnTo>
                  <a:lnTo>
                    <a:pt x="0" y="50"/>
                  </a:lnTo>
                  <a:lnTo>
                    <a:pt x="32" y="50"/>
                  </a:lnTo>
                  <a:lnTo>
                    <a:pt x="32" y="39"/>
                  </a:lnTo>
                  <a:lnTo>
                    <a:pt x="42" y="39"/>
                  </a:lnTo>
                  <a:lnTo>
                    <a:pt x="49" y="18"/>
                  </a:lnTo>
                  <a:lnTo>
                    <a:pt x="52" y="18"/>
                  </a:lnTo>
                  <a:lnTo>
                    <a:pt x="54" y="9"/>
                  </a:lnTo>
                  <a:lnTo>
                    <a:pt x="60" y="5"/>
                  </a:lnTo>
                  <a:lnTo>
                    <a:pt x="66" y="3"/>
                  </a:lnTo>
                  <a:lnTo>
                    <a:pt x="180" y="13"/>
                  </a:lnTo>
                  <a:lnTo>
                    <a:pt x="184" y="15"/>
                  </a:lnTo>
                  <a:lnTo>
                    <a:pt x="189" y="19"/>
                  </a:lnTo>
                  <a:lnTo>
                    <a:pt x="191" y="24"/>
                  </a:lnTo>
                  <a:lnTo>
                    <a:pt x="191" y="29"/>
                  </a:lnTo>
                  <a:lnTo>
                    <a:pt x="190" y="35"/>
                  </a:lnTo>
                  <a:lnTo>
                    <a:pt x="189" y="37"/>
                  </a:lnTo>
                  <a:lnTo>
                    <a:pt x="182" y="37"/>
                  </a:lnTo>
                  <a:lnTo>
                    <a:pt x="183" y="34"/>
                  </a:lnTo>
                  <a:lnTo>
                    <a:pt x="185" y="28"/>
                  </a:lnTo>
                  <a:lnTo>
                    <a:pt x="185" y="24"/>
                  </a:lnTo>
                  <a:lnTo>
                    <a:pt x="182" y="20"/>
                  </a:lnTo>
                  <a:lnTo>
                    <a:pt x="176" y="18"/>
                  </a:lnTo>
                  <a:lnTo>
                    <a:pt x="92" y="18"/>
                  </a:lnTo>
                  <a:lnTo>
                    <a:pt x="88" y="23"/>
                  </a:lnTo>
                  <a:lnTo>
                    <a:pt x="86" y="27"/>
                  </a:lnTo>
                  <a:lnTo>
                    <a:pt x="85" y="33"/>
                  </a:lnTo>
                  <a:lnTo>
                    <a:pt x="85" y="36"/>
                  </a:lnTo>
                  <a:lnTo>
                    <a:pt x="86" y="38"/>
                  </a:lnTo>
                  <a:lnTo>
                    <a:pt x="89" y="39"/>
                  </a:lnTo>
                  <a:lnTo>
                    <a:pt x="176" y="39"/>
                  </a:lnTo>
                  <a:lnTo>
                    <a:pt x="182" y="37"/>
                  </a:lnTo>
                  <a:lnTo>
                    <a:pt x="189" y="37"/>
                  </a:lnTo>
                  <a:lnTo>
                    <a:pt x="441" y="37"/>
                  </a:lnTo>
                  <a:lnTo>
                    <a:pt x="446" y="38"/>
                  </a:lnTo>
                  <a:lnTo>
                    <a:pt x="447" y="39"/>
                  </a:lnTo>
                  <a:lnTo>
                    <a:pt x="475" y="39"/>
                  </a:lnTo>
                  <a:lnTo>
                    <a:pt x="474" y="27"/>
                  </a:lnTo>
                  <a:lnTo>
                    <a:pt x="470" y="27"/>
                  </a:lnTo>
                  <a:lnTo>
                    <a:pt x="470" y="14"/>
                  </a:lnTo>
                  <a:lnTo>
                    <a:pt x="462" y="14"/>
                  </a:lnTo>
                  <a:lnTo>
                    <a:pt x="445" y="36"/>
                  </a:lnTo>
                  <a:lnTo>
                    <a:pt x="445" y="38"/>
                  </a:lnTo>
                  <a:lnTo>
                    <a:pt x="446" y="38"/>
                  </a:lnTo>
                  <a:lnTo>
                    <a:pt x="441" y="37"/>
                  </a:lnTo>
                  <a:lnTo>
                    <a:pt x="466" y="2"/>
                  </a:lnTo>
                  <a:lnTo>
                    <a:pt x="470" y="0"/>
                  </a:lnTo>
                  <a:lnTo>
                    <a:pt x="475" y="2"/>
                  </a:lnTo>
                  <a:lnTo>
                    <a:pt x="478" y="6"/>
                  </a:lnTo>
                  <a:lnTo>
                    <a:pt x="481" y="48"/>
                  </a:lnTo>
                  <a:lnTo>
                    <a:pt x="550" y="48"/>
                  </a:lnTo>
                  <a:lnTo>
                    <a:pt x="556" y="45"/>
                  </a:lnTo>
                  <a:lnTo>
                    <a:pt x="605" y="43"/>
                  </a:lnTo>
                  <a:lnTo>
                    <a:pt x="609" y="36"/>
                  </a:lnTo>
                  <a:lnTo>
                    <a:pt x="618" y="36"/>
                  </a:lnTo>
                  <a:lnTo>
                    <a:pt x="618" y="43"/>
                  </a:lnTo>
                  <a:lnTo>
                    <a:pt x="621" y="43"/>
                  </a:lnTo>
                  <a:lnTo>
                    <a:pt x="621" y="63"/>
                  </a:lnTo>
                  <a:lnTo>
                    <a:pt x="608" y="63"/>
                  </a:lnTo>
                  <a:lnTo>
                    <a:pt x="601" y="60"/>
                  </a:lnTo>
                  <a:lnTo>
                    <a:pt x="481" y="60"/>
                  </a:lnTo>
                  <a:lnTo>
                    <a:pt x="481" y="66"/>
                  </a:lnTo>
                  <a:lnTo>
                    <a:pt x="470" y="66"/>
                  </a:lnTo>
                  <a:lnTo>
                    <a:pt x="470" y="63"/>
                  </a:lnTo>
                  <a:lnTo>
                    <a:pt x="449" y="63"/>
                  </a:lnTo>
                  <a:lnTo>
                    <a:pt x="449" y="74"/>
                  </a:lnTo>
                  <a:lnTo>
                    <a:pt x="443" y="74"/>
                  </a:lnTo>
                  <a:lnTo>
                    <a:pt x="436" y="8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4714920" y="2124000"/>
              <a:ext cx="141120" cy="201600"/>
            </a:xfrm>
            <a:custGeom>
              <a:avLst/>
              <a:gdLst/>
              <a:ahLst/>
              <a:rect l="l" t="t" r="r" b="b"/>
              <a:pathLst>
                <a:path w="443" h="637">
                  <a:moveTo>
                    <a:pt x="104" y="428"/>
                  </a:moveTo>
                  <a:lnTo>
                    <a:pt x="112" y="423"/>
                  </a:lnTo>
                  <a:lnTo>
                    <a:pt x="126" y="418"/>
                  </a:lnTo>
                  <a:lnTo>
                    <a:pt x="100" y="401"/>
                  </a:lnTo>
                  <a:lnTo>
                    <a:pt x="91" y="394"/>
                  </a:lnTo>
                  <a:lnTo>
                    <a:pt x="74" y="348"/>
                  </a:lnTo>
                  <a:lnTo>
                    <a:pt x="59" y="299"/>
                  </a:lnTo>
                  <a:lnTo>
                    <a:pt x="45" y="250"/>
                  </a:lnTo>
                  <a:lnTo>
                    <a:pt x="33" y="202"/>
                  </a:lnTo>
                  <a:lnTo>
                    <a:pt x="22" y="152"/>
                  </a:lnTo>
                  <a:lnTo>
                    <a:pt x="12" y="101"/>
                  </a:lnTo>
                  <a:lnTo>
                    <a:pt x="6" y="51"/>
                  </a:lnTo>
                  <a:lnTo>
                    <a:pt x="0" y="0"/>
                  </a:lnTo>
                  <a:lnTo>
                    <a:pt x="7" y="0"/>
                  </a:lnTo>
                  <a:lnTo>
                    <a:pt x="21" y="2"/>
                  </a:lnTo>
                  <a:lnTo>
                    <a:pt x="32" y="5"/>
                  </a:lnTo>
                  <a:lnTo>
                    <a:pt x="42" y="11"/>
                  </a:lnTo>
                  <a:lnTo>
                    <a:pt x="51" y="19"/>
                  </a:lnTo>
                  <a:lnTo>
                    <a:pt x="60" y="31"/>
                  </a:lnTo>
                  <a:lnTo>
                    <a:pt x="72" y="56"/>
                  </a:lnTo>
                  <a:lnTo>
                    <a:pt x="85" y="84"/>
                  </a:lnTo>
                  <a:lnTo>
                    <a:pt x="90" y="92"/>
                  </a:lnTo>
                  <a:lnTo>
                    <a:pt x="93" y="97"/>
                  </a:lnTo>
                  <a:lnTo>
                    <a:pt x="91" y="102"/>
                  </a:lnTo>
                  <a:lnTo>
                    <a:pt x="86" y="107"/>
                  </a:lnTo>
                  <a:lnTo>
                    <a:pt x="68" y="113"/>
                  </a:lnTo>
                  <a:lnTo>
                    <a:pt x="70" y="128"/>
                  </a:lnTo>
                  <a:lnTo>
                    <a:pt x="72" y="143"/>
                  </a:lnTo>
                  <a:lnTo>
                    <a:pt x="72" y="154"/>
                  </a:lnTo>
                  <a:lnTo>
                    <a:pt x="79" y="155"/>
                  </a:lnTo>
                  <a:lnTo>
                    <a:pt x="90" y="176"/>
                  </a:lnTo>
                  <a:lnTo>
                    <a:pt x="172" y="262"/>
                  </a:lnTo>
                  <a:lnTo>
                    <a:pt x="175" y="268"/>
                  </a:lnTo>
                  <a:lnTo>
                    <a:pt x="177" y="274"/>
                  </a:lnTo>
                  <a:lnTo>
                    <a:pt x="175" y="280"/>
                  </a:lnTo>
                  <a:lnTo>
                    <a:pt x="172" y="283"/>
                  </a:lnTo>
                  <a:lnTo>
                    <a:pt x="169" y="285"/>
                  </a:lnTo>
                  <a:lnTo>
                    <a:pt x="169" y="290"/>
                  </a:lnTo>
                  <a:lnTo>
                    <a:pt x="166" y="297"/>
                  </a:lnTo>
                  <a:lnTo>
                    <a:pt x="162" y="300"/>
                  </a:lnTo>
                  <a:lnTo>
                    <a:pt x="166" y="303"/>
                  </a:lnTo>
                  <a:lnTo>
                    <a:pt x="169" y="309"/>
                  </a:lnTo>
                  <a:lnTo>
                    <a:pt x="173" y="316"/>
                  </a:lnTo>
                  <a:lnTo>
                    <a:pt x="183" y="322"/>
                  </a:lnTo>
                  <a:lnTo>
                    <a:pt x="189" y="326"/>
                  </a:lnTo>
                  <a:lnTo>
                    <a:pt x="197" y="333"/>
                  </a:lnTo>
                  <a:lnTo>
                    <a:pt x="205" y="337"/>
                  </a:lnTo>
                  <a:lnTo>
                    <a:pt x="223" y="331"/>
                  </a:lnTo>
                  <a:lnTo>
                    <a:pt x="235" y="329"/>
                  </a:lnTo>
                  <a:lnTo>
                    <a:pt x="246" y="326"/>
                  </a:lnTo>
                  <a:lnTo>
                    <a:pt x="252" y="324"/>
                  </a:lnTo>
                  <a:lnTo>
                    <a:pt x="282" y="303"/>
                  </a:lnTo>
                  <a:lnTo>
                    <a:pt x="320" y="262"/>
                  </a:lnTo>
                  <a:lnTo>
                    <a:pt x="325" y="263"/>
                  </a:lnTo>
                  <a:lnTo>
                    <a:pt x="347" y="240"/>
                  </a:lnTo>
                  <a:lnTo>
                    <a:pt x="348" y="233"/>
                  </a:lnTo>
                  <a:lnTo>
                    <a:pt x="351" y="227"/>
                  </a:lnTo>
                  <a:lnTo>
                    <a:pt x="358" y="220"/>
                  </a:lnTo>
                  <a:lnTo>
                    <a:pt x="443" y="217"/>
                  </a:lnTo>
                  <a:lnTo>
                    <a:pt x="386" y="249"/>
                  </a:lnTo>
                  <a:lnTo>
                    <a:pt x="375" y="262"/>
                  </a:lnTo>
                  <a:lnTo>
                    <a:pt x="359" y="289"/>
                  </a:lnTo>
                  <a:lnTo>
                    <a:pt x="361" y="297"/>
                  </a:lnTo>
                  <a:lnTo>
                    <a:pt x="318" y="369"/>
                  </a:lnTo>
                  <a:lnTo>
                    <a:pt x="305" y="408"/>
                  </a:lnTo>
                  <a:lnTo>
                    <a:pt x="288" y="421"/>
                  </a:lnTo>
                  <a:lnTo>
                    <a:pt x="271" y="432"/>
                  </a:lnTo>
                  <a:lnTo>
                    <a:pt x="250" y="442"/>
                  </a:lnTo>
                  <a:lnTo>
                    <a:pt x="236" y="444"/>
                  </a:lnTo>
                  <a:lnTo>
                    <a:pt x="223" y="445"/>
                  </a:lnTo>
                  <a:lnTo>
                    <a:pt x="225" y="482"/>
                  </a:lnTo>
                  <a:lnTo>
                    <a:pt x="225" y="523"/>
                  </a:lnTo>
                  <a:lnTo>
                    <a:pt x="220" y="572"/>
                  </a:lnTo>
                  <a:lnTo>
                    <a:pt x="211" y="619"/>
                  </a:lnTo>
                  <a:lnTo>
                    <a:pt x="208" y="637"/>
                  </a:lnTo>
                  <a:lnTo>
                    <a:pt x="193" y="612"/>
                  </a:lnTo>
                  <a:lnTo>
                    <a:pt x="179" y="586"/>
                  </a:lnTo>
                  <a:lnTo>
                    <a:pt x="165" y="561"/>
                  </a:lnTo>
                  <a:lnTo>
                    <a:pt x="152" y="535"/>
                  </a:lnTo>
                  <a:lnTo>
                    <a:pt x="140" y="509"/>
                  </a:lnTo>
                  <a:lnTo>
                    <a:pt x="127" y="482"/>
                  </a:lnTo>
                  <a:lnTo>
                    <a:pt x="115" y="455"/>
                  </a:lnTo>
                  <a:lnTo>
                    <a:pt x="104" y="428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4781520" y="2265480"/>
              <a:ext cx="4680" cy="60120"/>
            </a:xfrm>
            <a:custGeom>
              <a:avLst/>
              <a:gdLst/>
              <a:ahLst/>
              <a:rect l="l" t="t" r="r" b="b"/>
              <a:pathLst>
                <a:path w="17" h="192">
                  <a:moveTo>
                    <a:pt x="15" y="0"/>
                  </a:moveTo>
                  <a:lnTo>
                    <a:pt x="17" y="37"/>
                  </a:lnTo>
                  <a:lnTo>
                    <a:pt x="17" y="78"/>
                  </a:lnTo>
                  <a:lnTo>
                    <a:pt x="12" y="127"/>
                  </a:lnTo>
                  <a:lnTo>
                    <a:pt x="3" y="174"/>
                  </a:lnTo>
                  <a:lnTo>
                    <a:pt x="0" y="192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4714920" y="2124000"/>
              <a:ext cx="141120" cy="141480"/>
            </a:xfrm>
            <a:custGeom>
              <a:avLst/>
              <a:gdLst/>
              <a:ahLst/>
              <a:rect l="l" t="t" r="r" b="b"/>
              <a:pathLst>
                <a:path w="443" h="445">
                  <a:moveTo>
                    <a:pt x="0" y="0"/>
                  </a:moveTo>
                  <a:lnTo>
                    <a:pt x="7" y="0"/>
                  </a:lnTo>
                  <a:lnTo>
                    <a:pt x="21" y="2"/>
                  </a:lnTo>
                  <a:lnTo>
                    <a:pt x="32" y="5"/>
                  </a:lnTo>
                  <a:lnTo>
                    <a:pt x="42" y="11"/>
                  </a:lnTo>
                  <a:lnTo>
                    <a:pt x="51" y="19"/>
                  </a:lnTo>
                  <a:lnTo>
                    <a:pt x="60" y="31"/>
                  </a:lnTo>
                  <a:lnTo>
                    <a:pt x="72" y="56"/>
                  </a:lnTo>
                  <a:lnTo>
                    <a:pt x="85" y="84"/>
                  </a:lnTo>
                  <a:lnTo>
                    <a:pt x="90" y="92"/>
                  </a:lnTo>
                  <a:lnTo>
                    <a:pt x="93" y="97"/>
                  </a:lnTo>
                  <a:lnTo>
                    <a:pt x="91" y="102"/>
                  </a:lnTo>
                  <a:lnTo>
                    <a:pt x="86" y="107"/>
                  </a:lnTo>
                  <a:lnTo>
                    <a:pt x="68" y="113"/>
                  </a:lnTo>
                  <a:lnTo>
                    <a:pt x="70" y="128"/>
                  </a:lnTo>
                  <a:lnTo>
                    <a:pt x="72" y="143"/>
                  </a:lnTo>
                  <a:lnTo>
                    <a:pt x="72" y="154"/>
                  </a:lnTo>
                  <a:lnTo>
                    <a:pt x="79" y="155"/>
                  </a:lnTo>
                  <a:lnTo>
                    <a:pt x="90" y="176"/>
                  </a:lnTo>
                  <a:lnTo>
                    <a:pt x="172" y="262"/>
                  </a:lnTo>
                  <a:lnTo>
                    <a:pt x="175" y="268"/>
                  </a:lnTo>
                  <a:lnTo>
                    <a:pt x="177" y="274"/>
                  </a:lnTo>
                  <a:lnTo>
                    <a:pt x="175" y="280"/>
                  </a:lnTo>
                  <a:lnTo>
                    <a:pt x="172" y="283"/>
                  </a:lnTo>
                  <a:lnTo>
                    <a:pt x="169" y="285"/>
                  </a:lnTo>
                  <a:lnTo>
                    <a:pt x="169" y="290"/>
                  </a:lnTo>
                  <a:lnTo>
                    <a:pt x="166" y="297"/>
                  </a:lnTo>
                  <a:lnTo>
                    <a:pt x="162" y="300"/>
                  </a:lnTo>
                  <a:lnTo>
                    <a:pt x="166" y="303"/>
                  </a:lnTo>
                  <a:lnTo>
                    <a:pt x="169" y="309"/>
                  </a:lnTo>
                  <a:lnTo>
                    <a:pt x="173" y="316"/>
                  </a:lnTo>
                  <a:lnTo>
                    <a:pt x="183" y="322"/>
                  </a:lnTo>
                  <a:lnTo>
                    <a:pt x="189" y="326"/>
                  </a:lnTo>
                  <a:lnTo>
                    <a:pt x="197" y="333"/>
                  </a:lnTo>
                  <a:lnTo>
                    <a:pt x="205" y="337"/>
                  </a:lnTo>
                  <a:lnTo>
                    <a:pt x="223" y="331"/>
                  </a:lnTo>
                  <a:lnTo>
                    <a:pt x="235" y="329"/>
                  </a:lnTo>
                  <a:lnTo>
                    <a:pt x="246" y="326"/>
                  </a:lnTo>
                  <a:lnTo>
                    <a:pt x="252" y="324"/>
                  </a:lnTo>
                  <a:lnTo>
                    <a:pt x="282" y="303"/>
                  </a:lnTo>
                  <a:lnTo>
                    <a:pt x="320" y="262"/>
                  </a:lnTo>
                  <a:lnTo>
                    <a:pt x="325" y="263"/>
                  </a:lnTo>
                  <a:lnTo>
                    <a:pt x="347" y="240"/>
                  </a:lnTo>
                  <a:lnTo>
                    <a:pt x="348" y="233"/>
                  </a:lnTo>
                  <a:lnTo>
                    <a:pt x="351" y="227"/>
                  </a:lnTo>
                  <a:lnTo>
                    <a:pt x="358" y="220"/>
                  </a:lnTo>
                  <a:lnTo>
                    <a:pt x="443" y="217"/>
                  </a:lnTo>
                  <a:lnTo>
                    <a:pt x="386" y="249"/>
                  </a:lnTo>
                  <a:lnTo>
                    <a:pt x="375" y="262"/>
                  </a:lnTo>
                  <a:lnTo>
                    <a:pt x="359" y="289"/>
                  </a:lnTo>
                  <a:lnTo>
                    <a:pt x="361" y="297"/>
                  </a:lnTo>
                  <a:lnTo>
                    <a:pt x="318" y="369"/>
                  </a:lnTo>
                  <a:lnTo>
                    <a:pt x="305" y="408"/>
                  </a:lnTo>
                  <a:lnTo>
                    <a:pt x="288" y="421"/>
                  </a:lnTo>
                  <a:lnTo>
                    <a:pt x="271" y="432"/>
                  </a:lnTo>
                  <a:lnTo>
                    <a:pt x="250" y="442"/>
                  </a:lnTo>
                  <a:lnTo>
                    <a:pt x="236" y="444"/>
                  </a:lnTo>
                  <a:lnTo>
                    <a:pt x="223" y="445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8" name=""/>
            <p:cNvGrpSpPr/>
            <p:nvPr/>
          </p:nvGrpSpPr>
          <p:grpSpPr>
            <a:xfrm>
              <a:off x="4567320" y="1587600"/>
              <a:ext cx="1882800" cy="3752640"/>
              <a:chOff x="4567320" y="1587600"/>
              <a:chExt cx="1882800" cy="3752640"/>
            </a:xfrm>
          </p:grpSpPr>
          <p:sp>
            <p:nvSpPr>
              <p:cNvPr id="5839" name=""/>
              <p:cNvSpPr/>
              <p:nvPr/>
            </p:nvSpPr>
            <p:spPr>
              <a:xfrm>
                <a:off x="4743360" y="2163600"/>
                <a:ext cx="196920" cy="55800"/>
              </a:xfrm>
              <a:custGeom>
                <a:avLst/>
                <a:gdLst/>
                <a:ahLst/>
                <a:rect l="l" t="t" r="r" b="b"/>
                <a:pathLst>
                  <a:path w="620" h="176">
                    <a:moveTo>
                      <a:pt x="435" y="86"/>
                    </a:moveTo>
                    <a:lnTo>
                      <a:pt x="427" y="81"/>
                    </a:lnTo>
                    <a:lnTo>
                      <a:pt x="363" y="84"/>
                    </a:lnTo>
                    <a:lnTo>
                      <a:pt x="359" y="88"/>
                    </a:lnTo>
                    <a:lnTo>
                      <a:pt x="429" y="90"/>
                    </a:lnTo>
                    <a:lnTo>
                      <a:pt x="423" y="92"/>
                    </a:lnTo>
                    <a:lnTo>
                      <a:pt x="352" y="92"/>
                    </a:lnTo>
                    <a:lnTo>
                      <a:pt x="267" y="95"/>
                    </a:lnTo>
                    <a:lnTo>
                      <a:pt x="246" y="95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7" y="176"/>
                    </a:lnTo>
                    <a:lnTo>
                      <a:pt x="127" y="136"/>
                    </a:lnTo>
                    <a:lnTo>
                      <a:pt x="123" y="126"/>
                    </a:lnTo>
                    <a:lnTo>
                      <a:pt x="123" y="117"/>
                    </a:lnTo>
                    <a:lnTo>
                      <a:pt x="122" y="113"/>
                    </a:lnTo>
                    <a:lnTo>
                      <a:pt x="120" y="110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96" y="108"/>
                    </a:lnTo>
                    <a:lnTo>
                      <a:pt x="103" y="118"/>
                    </a:lnTo>
                    <a:lnTo>
                      <a:pt x="104" y="122"/>
                    </a:lnTo>
                    <a:lnTo>
                      <a:pt x="104" y="126"/>
                    </a:lnTo>
                    <a:lnTo>
                      <a:pt x="102" y="129"/>
                    </a:lnTo>
                    <a:lnTo>
                      <a:pt x="97" y="131"/>
                    </a:lnTo>
                    <a:lnTo>
                      <a:pt x="118" y="131"/>
                    </a:lnTo>
                    <a:lnTo>
                      <a:pt x="121" y="131"/>
                    </a:lnTo>
                    <a:lnTo>
                      <a:pt x="122" y="129"/>
                    </a:lnTo>
                    <a:lnTo>
                      <a:pt x="123" y="126"/>
                    </a:lnTo>
                    <a:lnTo>
                      <a:pt x="127" y="136"/>
                    </a:lnTo>
                    <a:lnTo>
                      <a:pt x="81" y="136"/>
                    </a:lnTo>
                    <a:lnTo>
                      <a:pt x="0" y="50"/>
                    </a:lnTo>
                    <a:lnTo>
                      <a:pt x="30" y="50"/>
                    </a:lnTo>
                    <a:lnTo>
                      <a:pt x="30" y="39"/>
                    </a:lnTo>
                    <a:lnTo>
                      <a:pt x="41" y="39"/>
                    </a:lnTo>
                    <a:lnTo>
                      <a:pt x="48" y="19"/>
                    </a:lnTo>
                    <a:lnTo>
                      <a:pt x="51" y="19"/>
                    </a:lnTo>
                    <a:lnTo>
                      <a:pt x="53" y="10"/>
                    </a:lnTo>
                    <a:lnTo>
                      <a:pt x="59" y="4"/>
                    </a:lnTo>
                    <a:lnTo>
                      <a:pt x="66" y="3"/>
                    </a:lnTo>
                    <a:lnTo>
                      <a:pt x="178" y="13"/>
                    </a:lnTo>
                    <a:lnTo>
                      <a:pt x="183" y="15"/>
                    </a:lnTo>
                    <a:lnTo>
                      <a:pt x="188" y="20"/>
                    </a:lnTo>
                    <a:lnTo>
                      <a:pt x="190" y="24"/>
                    </a:lnTo>
                    <a:lnTo>
                      <a:pt x="190" y="30"/>
                    </a:lnTo>
                    <a:lnTo>
                      <a:pt x="189" y="35"/>
                    </a:lnTo>
                    <a:lnTo>
                      <a:pt x="188" y="37"/>
                    </a:lnTo>
                    <a:lnTo>
                      <a:pt x="180" y="37"/>
                    </a:lnTo>
                    <a:lnTo>
                      <a:pt x="182" y="34"/>
                    </a:lnTo>
                    <a:lnTo>
                      <a:pt x="184" y="29"/>
                    </a:lnTo>
                    <a:lnTo>
                      <a:pt x="184" y="24"/>
                    </a:lnTo>
                    <a:lnTo>
                      <a:pt x="180" y="21"/>
                    </a:lnTo>
                    <a:lnTo>
                      <a:pt x="176" y="19"/>
                    </a:lnTo>
                    <a:lnTo>
                      <a:pt x="91" y="19"/>
                    </a:lnTo>
                    <a:lnTo>
                      <a:pt x="87" y="23"/>
                    </a:lnTo>
                    <a:lnTo>
                      <a:pt x="84" y="27"/>
                    </a:lnTo>
                    <a:lnTo>
                      <a:pt x="83" y="33"/>
                    </a:lnTo>
                    <a:lnTo>
                      <a:pt x="83" y="36"/>
                    </a:lnTo>
                    <a:lnTo>
                      <a:pt x="84" y="38"/>
                    </a:lnTo>
                    <a:lnTo>
                      <a:pt x="89" y="39"/>
                    </a:lnTo>
                    <a:lnTo>
                      <a:pt x="176" y="39"/>
                    </a:lnTo>
                    <a:lnTo>
                      <a:pt x="180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5" y="38"/>
                    </a:lnTo>
                    <a:lnTo>
                      <a:pt x="446" y="39"/>
                    </a:lnTo>
                    <a:lnTo>
                      <a:pt x="474" y="39"/>
                    </a:lnTo>
                    <a:lnTo>
                      <a:pt x="473" y="27"/>
                    </a:lnTo>
                    <a:lnTo>
                      <a:pt x="469" y="27"/>
                    </a:lnTo>
                    <a:lnTo>
                      <a:pt x="469" y="14"/>
                    </a:lnTo>
                    <a:lnTo>
                      <a:pt x="461" y="14"/>
                    </a:lnTo>
                    <a:lnTo>
                      <a:pt x="444" y="36"/>
                    </a:lnTo>
                    <a:lnTo>
                      <a:pt x="444" y="38"/>
                    </a:lnTo>
                    <a:lnTo>
                      <a:pt x="445" y="38"/>
                    </a:lnTo>
                    <a:lnTo>
                      <a:pt x="440" y="37"/>
                    </a:lnTo>
                    <a:lnTo>
                      <a:pt x="464" y="2"/>
                    </a:lnTo>
                    <a:lnTo>
                      <a:pt x="469" y="0"/>
                    </a:lnTo>
                    <a:lnTo>
                      <a:pt x="474" y="2"/>
                    </a:lnTo>
                    <a:lnTo>
                      <a:pt x="477" y="6"/>
                    </a:lnTo>
                    <a:lnTo>
                      <a:pt x="479" y="48"/>
                    </a:lnTo>
                    <a:lnTo>
                      <a:pt x="549" y="48"/>
                    </a:lnTo>
                    <a:lnTo>
                      <a:pt x="555" y="44"/>
                    </a:lnTo>
                    <a:lnTo>
                      <a:pt x="604" y="43"/>
                    </a:lnTo>
                    <a:lnTo>
                      <a:pt x="608" y="36"/>
                    </a:lnTo>
                    <a:lnTo>
                      <a:pt x="617" y="36"/>
                    </a:lnTo>
                    <a:lnTo>
                      <a:pt x="617" y="43"/>
                    </a:lnTo>
                    <a:lnTo>
                      <a:pt x="620" y="43"/>
                    </a:lnTo>
                    <a:lnTo>
                      <a:pt x="620" y="64"/>
                    </a:lnTo>
                    <a:lnTo>
                      <a:pt x="607" y="64"/>
                    </a:lnTo>
                    <a:lnTo>
                      <a:pt x="600" y="60"/>
                    </a:lnTo>
                    <a:lnTo>
                      <a:pt x="479" y="60"/>
                    </a:lnTo>
                    <a:lnTo>
                      <a:pt x="479" y="66"/>
                    </a:lnTo>
                    <a:lnTo>
                      <a:pt x="469" y="66"/>
                    </a:lnTo>
                    <a:lnTo>
                      <a:pt x="469" y="64"/>
                    </a:lnTo>
                    <a:lnTo>
                      <a:pt x="449" y="64"/>
                    </a:lnTo>
                    <a:lnTo>
                      <a:pt x="449" y="75"/>
                    </a:lnTo>
                    <a:lnTo>
                      <a:pt x="442" y="75"/>
                    </a:lnTo>
                    <a:lnTo>
                      <a:pt x="435" y="86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4879800" y="2438280"/>
                <a:ext cx="167040" cy="93960"/>
              </a:xfrm>
              <a:custGeom>
                <a:avLst/>
                <a:gdLst/>
                <a:ahLst/>
                <a:rect l="l" t="t" r="r" b="b"/>
                <a:pathLst>
                  <a:path w="522" h="296">
                    <a:moveTo>
                      <a:pt x="441" y="296"/>
                    </a:moveTo>
                    <a:lnTo>
                      <a:pt x="435" y="294"/>
                    </a:lnTo>
                    <a:lnTo>
                      <a:pt x="428" y="290"/>
                    </a:lnTo>
                    <a:lnTo>
                      <a:pt x="422" y="288"/>
                    </a:lnTo>
                    <a:lnTo>
                      <a:pt x="415" y="285"/>
                    </a:lnTo>
                    <a:lnTo>
                      <a:pt x="409" y="283"/>
                    </a:lnTo>
                    <a:lnTo>
                      <a:pt x="402" y="280"/>
                    </a:lnTo>
                    <a:lnTo>
                      <a:pt x="396" y="277"/>
                    </a:lnTo>
                    <a:lnTo>
                      <a:pt x="389" y="274"/>
                    </a:lnTo>
                    <a:lnTo>
                      <a:pt x="400" y="262"/>
                    </a:lnTo>
                    <a:lnTo>
                      <a:pt x="406" y="263"/>
                    </a:lnTo>
                    <a:lnTo>
                      <a:pt x="427" y="240"/>
                    </a:lnTo>
                    <a:lnTo>
                      <a:pt x="428" y="233"/>
                    </a:lnTo>
                    <a:lnTo>
                      <a:pt x="432" y="228"/>
                    </a:lnTo>
                    <a:lnTo>
                      <a:pt x="438" y="220"/>
                    </a:lnTo>
                    <a:lnTo>
                      <a:pt x="522" y="218"/>
                    </a:lnTo>
                    <a:lnTo>
                      <a:pt x="466" y="250"/>
                    </a:lnTo>
                    <a:lnTo>
                      <a:pt x="455" y="262"/>
                    </a:lnTo>
                    <a:lnTo>
                      <a:pt x="439" y="289"/>
                    </a:lnTo>
                    <a:lnTo>
                      <a:pt x="441" y="296"/>
                    </a:lnTo>
                    <a:close/>
                    <a:moveTo>
                      <a:pt x="151" y="141"/>
                    </a:moveTo>
                    <a:lnTo>
                      <a:pt x="131" y="128"/>
                    </a:lnTo>
                    <a:lnTo>
                      <a:pt x="112" y="114"/>
                    </a:lnTo>
                    <a:lnTo>
                      <a:pt x="93" y="100"/>
                    </a:lnTo>
                    <a:lnTo>
                      <a:pt x="73" y="85"/>
                    </a:lnTo>
                    <a:lnTo>
                      <a:pt x="55" y="71"/>
                    </a:lnTo>
                    <a:lnTo>
                      <a:pt x="37" y="56"/>
                    </a:lnTo>
                    <a:lnTo>
                      <a:pt x="18" y="40"/>
                    </a:lnTo>
                    <a:lnTo>
                      <a:pt x="0" y="25"/>
                    </a:lnTo>
                    <a:lnTo>
                      <a:pt x="22" y="13"/>
                    </a:lnTo>
                    <a:lnTo>
                      <a:pt x="39" y="6"/>
                    </a:lnTo>
                    <a:lnTo>
                      <a:pt x="56" y="2"/>
                    </a:lnTo>
                    <a:lnTo>
                      <a:pt x="73" y="0"/>
                    </a:lnTo>
                    <a:lnTo>
                      <a:pt x="87" y="0"/>
                    </a:lnTo>
                    <a:lnTo>
                      <a:pt x="101" y="2"/>
                    </a:lnTo>
                    <a:lnTo>
                      <a:pt x="112" y="5"/>
                    </a:lnTo>
                    <a:lnTo>
                      <a:pt x="122" y="10"/>
                    </a:lnTo>
                    <a:lnTo>
                      <a:pt x="131" y="20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65" y="85"/>
                    </a:lnTo>
                    <a:lnTo>
                      <a:pt x="170" y="92"/>
                    </a:lnTo>
                    <a:lnTo>
                      <a:pt x="172" y="98"/>
                    </a:lnTo>
                    <a:lnTo>
                      <a:pt x="171" y="102"/>
                    </a:lnTo>
                    <a:lnTo>
                      <a:pt x="166" y="108"/>
                    </a:lnTo>
                    <a:lnTo>
                      <a:pt x="148" y="113"/>
                    </a:lnTo>
                    <a:lnTo>
                      <a:pt x="150" y="129"/>
                    </a:lnTo>
                    <a:lnTo>
                      <a:pt x="151" y="14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4944960" y="2478240"/>
                <a:ext cx="185760" cy="41040"/>
              </a:xfrm>
              <a:custGeom>
                <a:avLst/>
                <a:gdLst/>
                <a:ahLst/>
                <a:rect l="l" t="t" r="r" b="b"/>
                <a:pathLst>
                  <a:path w="589" h="130">
                    <a:moveTo>
                      <a:pt x="404" y="84"/>
                    </a:moveTo>
                    <a:lnTo>
                      <a:pt x="395" y="81"/>
                    </a:lnTo>
                    <a:lnTo>
                      <a:pt x="332" y="83"/>
                    </a:lnTo>
                    <a:lnTo>
                      <a:pt x="328" y="88"/>
                    </a:lnTo>
                    <a:lnTo>
                      <a:pt x="398" y="90"/>
                    </a:lnTo>
                    <a:lnTo>
                      <a:pt x="392" y="92"/>
                    </a:lnTo>
                    <a:lnTo>
                      <a:pt x="321" y="92"/>
                    </a:lnTo>
                    <a:lnTo>
                      <a:pt x="236" y="94"/>
                    </a:lnTo>
                    <a:lnTo>
                      <a:pt x="215" y="94"/>
                    </a:lnTo>
                    <a:lnTo>
                      <a:pt x="144" y="123"/>
                    </a:lnTo>
                    <a:lnTo>
                      <a:pt x="144" y="130"/>
                    </a:lnTo>
                    <a:lnTo>
                      <a:pt x="126" y="120"/>
                    </a:lnTo>
                    <a:lnTo>
                      <a:pt x="108" y="111"/>
                    </a:lnTo>
                    <a:lnTo>
                      <a:pt x="89" y="102"/>
                    </a:lnTo>
                    <a:lnTo>
                      <a:pt x="71" y="92"/>
                    </a:lnTo>
                    <a:lnTo>
                      <a:pt x="53" y="81"/>
                    </a:lnTo>
                    <a:lnTo>
                      <a:pt x="35" y="71"/>
                    </a:lnTo>
                    <a:lnTo>
                      <a:pt x="17" y="61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10" y="39"/>
                    </a:lnTo>
                    <a:lnTo>
                      <a:pt x="17" y="17"/>
                    </a:lnTo>
                    <a:lnTo>
                      <a:pt x="20" y="17"/>
                    </a:lnTo>
                    <a:lnTo>
                      <a:pt x="22" y="9"/>
                    </a:lnTo>
                    <a:lnTo>
                      <a:pt x="28" y="4"/>
                    </a:lnTo>
                    <a:lnTo>
                      <a:pt x="34" y="3"/>
                    </a:lnTo>
                    <a:lnTo>
                      <a:pt x="148" y="13"/>
                    </a:lnTo>
                    <a:lnTo>
                      <a:pt x="152" y="15"/>
                    </a:lnTo>
                    <a:lnTo>
                      <a:pt x="157" y="18"/>
                    </a:lnTo>
                    <a:lnTo>
                      <a:pt x="159" y="24"/>
                    </a:lnTo>
                    <a:lnTo>
                      <a:pt x="159" y="29"/>
                    </a:lnTo>
                    <a:lnTo>
                      <a:pt x="158" y="35"/>
                    </a:lnTo>
                    <a:lnTo>
                      <a:pt x="157" y="37"/>
                    </a:lnTo>
                    <a:lnTo>
                      <a:pt x="150" y="37"/>
                    </a:lnTo>
                    <a:lnTo>
                      <a:pt x="151" y="34"/>
                    </a:lnTo>
                    <a:lnTo>
                      <a:pt x="153" y="28"/>
                    </a:lnTo>
                    <a:lnTo>
                      <a:pt x="153" y="24"/>
                    </a:lnTo>
                    <a:lnTo>
                      <a:pt x="150" y="19"/>
                    </a:lnTo>
                    <a:lnTo>
                      <a:pt x="144" y="17"/>
                    </a:lnTo>
                    <a:lnTo>
                      <a:pt x="60" y="17"/>
                    </a:lnTo>
                    <a:lnTo>
                      <a:pt x="56" y="23"/>
                    </a:lnTo>
                    <a:lnTo>
                      <a:pt x="54" y="27"/>
                    </a:lnTo>
                    <a:lnTo>
                      <a:pt x="53" y="31"/>
                    </a:lnTo>
                    <a:lnTo>
                      <a:pt x="53" y="36"/>
                    </a:lnTo>
                    <a:lnTo>
                      <a:pt x="54" y="38"/>
                    </a:lnTo>
                    <a:lnTo>
                      <a:pt x="57" y="39"/>
                    </a:lnTo>
                    <a:lnTo>
                      <a:pt x="144" y="39"/>
                    </a:lnTo>
                    <a:lnTo>
                      <a:pt x="150" y="37"/>
                    </a:lnTo>
                    <a:lnTo>
                      <a:pt x="157" y="37"/>
                    </a:lnTo>
                    <a:lnTo>
                      <a:pt x="409" y="37"/>
                    </a:lnTo>
                    <a:lnTo>
                      <a:pt x="414" y="38"/>
                    </a:lnTo>
                    <a:lnTo>
                      <a:pt x="415" y="39"/>
                    </a:lnTo>
                    <a:lnTo>
                      <a:pt x="443" y="39"/>
                    </a:lnTo>
                    <a:lnTo>
                      <a:pt x="442" y="27"/>
                    </a:lnTo>
                    <a:lnTo>
                      <a:pt x="438" y="27"/>
                    </a:lnTo>
                    <a:lnTo>
                      <a:pt x="438" y="14"/>
                    </a:lnTo>
                    <a:lnTo>
                      <a:pt x="430" y="14"/>
                    </a:lnTo>
                    <a:lnTo>
                      <a:pt x="413" y="36"/>
                    </a:lnTo>
                    <a:lnTo>
                      <a:pt x="413" y="38"/>
                    </a:lnTo>
                    <a:lnTo>
                      <a:pt x="414" y="38"/>
                    </a:lnTo>
                    <a:lnTo>
                      <a:pt x="409" y="37"/>
                    </a:lnTo>
                    <a:lnTo>
                      <a:pt x="434" y="2"/>
                    </a:lnTo>
                    <a:lnTo>
                      <a:pt x="438" y="0"/>
                    </a:lnTo>
                    <a:lnTo>
                      <a:pt x="443" y="2"/>
                    </a:lnTo>
                    <a:lnTo>
                      <a:pt x="446" y="5"/>
                    </a:lnTo>
                    <a:lnTo>
                      <a:pt x="449" y="48"/>
                    </a:lnTo>
                    <a:lnTo>
                      <a:pt x="518" y="48"/>
                    </a:lnTo>
                    <a:lnTo>
                      <a:pt x="524" y="44"/>
                    </a:lnTo>
                    <a:lnTo>
                      <a:pt x="573" y="43"/>
                    </a:lnTo>
                    <a:lnTo>
                      <a:pt x="577" y="36"/>
                    </a:lnTo>
                    <a:lnTo>
                      <a:pt x="586" y="36"/>
                    </a:lnTo>
                    <a:lnTo>
                      <a:pt x="586" y="43"/>
                    </a:lnTo>
                    <a:lnTo>
                      <a:pt x="589" y="43"/>
                    </a:lnTo>
                    <a:lnTo>
                      <a:pt x="589" y="63"/>
                    </a:lnTo>
                    <a:lnTo>
                      <a:pt x="576" y="63"/>
                    </a:lnTo>
                    <a:lnTo>
                      <a:pt x="569" y="59"/>
                    </a:lnTo>
                    <a:lnTo>
                      <a:pt x="449" y="59"/>
                    </a:lnTo>
                    <a:lnTo>
                      <a:pt x="449" y="66"/>
                    </a:lnTo>
                    <a:lnTo>
                      <a:pt x="438" y="66"/>
                    </a:lnTo>
                    <a:lnTo>
                      <a:pt x="438" y="63"/>
                    </a:lnTo>
                    <a:lnTo>
                      <a:pt x="417" y="63"/>
                    </a:lnTo>
                    <a:lnTo>
                      <a:pt x="417" y="73"/>
                    </a:lnTo>
                    <a:lnTo>
                      <a:pt x="411" y="73"/>
                    </a:lnTo>
                    <a:lnTo>
                      <a:pt x="404" y="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5106960" y="1808280"/>
                <a:ext cx="250920" cy="291960"/>
              </a:xfrm>
              <a:custGeom>
                <a:avLst/>
                <a:gdLst/>
                <a:ahLst/>
                <a:rect l="l" t="t" r="r" b="b"/>
                <a:pathLst>
                  <a:path w="788" h="918">
                    <a:moveTo>
                      <a:pt x="417" y="450"/>
                    </a:moveTo>
                    <a:lnTo>
                      <a:pt x="432" y="440"/>
                    </a:lnTo>
                    <a:lnTo>
                      <a:pt x="445" y="432"/>
                    </a:lnTo>
                    <a:lnTo>
                      <a:pt x="458" y="424"/>
                    </a:lnTo>
                    <a:lnTo>
                      <a:pt x="472" y="418"/>
                    </a:lnTo>
                    <a:lnTo>
                      <a:pt x="446" y="402"/>
                    </a:lnTo>
                    <a:lnTo>
                      <a:pt x="434" y="393"/>
                    </a:lnTo>
                    <a:lnTo>
                      <a:pt x="421" y="383"/>
                    </a:lnTo>
                    <a:lnTo>
                      <a:pt x="422" y="401"/>
                    </a:lnTo>
                    <a:lnTo>
                      <a:pt x="420" y="416"/>
                    </a:lnTo>
                    <a:lnTo>
                      <a:pt x="417" y="450"/>
                    </a:lnTo>
                    <a:close/>
                    <a:moveTo>
                      <a:pt x="569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2"/>
                    </a:lnTo>
                    <a:lnTo>
                      <a:pt x="557" y="620"/>
                    </a:lnTo>
                    <a:lnTo>
                      <a:pt x="546" y="666"/>
                    </a:lnTo>
                    <a:lnTo>
                      <a:pt x="537" y="699"/>
                    </a:lnTo>
                    <a:lnTo>
                      <a:pt x="529" y="704"/>
                    </a:lnTo>
                    <a:lnTo>
                      <a:pt x="520" y="712"/>
                    </a:lnTo>
                    <a:lnTo>
                      <a:pt x="512" y="745"/>
                    </a:lnTo>
                    <a:lnTo>
                      <a:pt x="512" y="752"/>
                    </a:lnTo>
                    <a:lnTo>
                      <a:pt x="515" y="757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3"/>
                    </a:lnTo>
                    <a:lnTo>
                      <a:pt x="526" y="792"/>
                    </a:lnTo>
                    <a:lnTo>
                      <a:pt x="534" y="795"/>
                    </a:lnTo>
                    <a:lnTo>
                      <a:pt x="537" y="798"/>
                    </a:lnTo>
                    <a:lnTo>
                      <a:pt x="541" y="805"/>
                    </a:lnTo>
                    <a:lnTo>
                      <a:pt x="544" y="810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2" y="833"/>
                    </a:lnTo>
                    <a:lnTo>
                      <a:pt x="588" y="838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8"/>
                    </a:lnTo>
                    <a:lnTo>
                      <a:pt x="565" y="860"/>
                    </a:lnTo>
                    <a:lnTo>
                      <a:pt x="542" y="859"/>
                    </a:lnTo>
                    <a:lnTo>
                      <a:pt x="522" y="854"/>
                    </a:lnTo>
                    <a:lnTo>
                      <a:pt x="499" y="848"/>
                    </a:lnTo>
                    <a:lnTo>
                      <a:pt x="482" y="839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09"/>
                    </a:lnTo>
                    <a:lnTo>
                      <a:pt x="423" y="799"/>
                    </a:lnTo>
                    <a:lnTo>
                      <a:pt x="425" y="790"/>
                    </a:lnTo>
                    <a:lnTo>
                      <a:pt x="427" y="782"/>
                    </a:lnTo>
                    <a:lnTo>
                      <a:pt x="430" y="773"/>
                    </a:lnTo>
                    <a:lnTo>
                      <a:pt x="434" y="765"/>
                    </a:lnTo>
                    <a:lnTo>
                      <a:pt x="439" y="757"/>
                    </a:lnTo>
                    <a:lnTo>
                      <a:pt x="439" y="750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29"/>
                    </a:lnTo>
                    <a:lnTo>
                      <a:pt x="445" y="700"/>
                    </a:lnTo>
                    <a:lnTo>
                      <a:pt x="434" y="696"/>
                    </a:lnTo>
                    <a:lnTo>
                      <a:pt x="435" y="688"/>
                    </a:lnTo>
                    <a:lnTo>
                      <a:pt x="437" y="680"/>
                    </a:lnTo>
                    <a:lnTo>
                      <a:pt x="437" y="672"/>
                    </a:lnTo>
                    <a:lnTo>
                      <a:pt x="435" y="661"/>
                    </a:lnTo>
                    <a:lnTo>
                      <a:pt x="437" y="645"/>
                    </a:lnTo>
                    <a:lnTo>
                      <a:pt x="442" y="623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2"/>
                    </a:lnTo>
                    <a:lnTo>
                      <a:pt x="413" y="625"/>
                    </a:lnTo>
                    <a:lnTo>
                      <a:pt x="398" y="641"/>
                    </a:lnTo>
                    <a:lnTo>
                      <a:pt x="384" y="651"/>
                    </a:lnTo>
                    <a:lnTo>
                      <a:pt x="367" y="664"/>
                    </a:lnTo>
                    <a:lnTo>
                      <a:pt x="351" y="676"/>
                    </a:lnTo>
                    <a:lnTo>
                      <a:pt x="333" y="687"/>
                    </a:lnTo>
                    <a:lnTo>
                      <a:pt x="314" y="698"/>
                    </a:lnTo>
                    <a:lnTo>
                      <a:pt x="297" y="703"/>
                    </a:lnTo>
                    <a:lnTo>
                      <a:pt x="281" y="711"/>
                    </a:lnTo>
                    <a:lnTo>
                      <a:pt x="266" y="716"/>
                    </a:lnTo>
                    <a:lnTo>
                      <a:pt x="251" y="772"/>
                    </a:lnTo>
                    <a:lnTo>
                      <a:pt x="250" y="787"/>
                    </a:lnTo>
                    <a:lnTo>
                      <a:pt x="248" y="805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9"/>
                    </a:lnTo>
                    <a:lnTo>
                      <a:pt x="222" y="870"/>
                    </a:lnTo>
                    <a:lnTo>
                      <a:pt x="214" y="878"/>
                    </a:lnTo>
                    <a:lnTo>
                      <a:pt x="212" y="888"/>
                    </a:lnTo>
                    <a:lnTo>
                      <a:pt x="205" y="898"/>
                    </a:lnTo>
                    <a:lnTo>
                      <a:pt x="196" y="906"/>
                    </a:lnTo>
                    <a:lnTo>
                      <a:pt x="182" y="913"/>
                    </a:lnTo>
                    <a:lnTo>
                      <a:pt x="161" y="918"/>
                    </a:lnTo>
                    <a:lnTo>
                      <a:pt x="143" y="918"/>
                    </a:lnTo>
                    <a:lnTo>
                      <a:pt x="126" y="915"/>
                    </a:lnTo>
                    <a:lnTo>
                      <a:pt x="113" y="910"/>
                    </a:lnTo>
                    <a:lnTo>
                      <a:pt x="102" y="902"/>
                    </a:lnTo>
                    <a:lnTo>
                      <a:pt x="94" y="894"/>
                    </a:lnTo>
                    <a:lnTo>
                      <a:pt x="86" y="892"/>
                    </a:lnTo>
                    <a:lnTo>
                      <a:pt x="76" y="876"/>
                    </a:lnTo>
                    <a:lnTo>
                      <a:pt x="71" y="859"/>
                    </a:lnTo>
                    <a:lnTo>
                      <a:pt x="65" y="843"/>
                    </a:lnTo>
                    <a:lnTo>
                      <a:pt x="62" y="823"/>
                    </a:lnTo>
                    <a:lnTo>
                      <a:pt x="62" y="806"/>
                    </a:lnTo>
                    <a:lnTo>
                      <a:pt x="60" y="775"/>
                    </a:lnTo>
                    <a:lnTo>
                      <a:pt x="68" y="756"/>
                    </a:lnTo>
                    <a:lnTo>
                      <a:pt x="73" y="733"/>
                    </a:lnTo>
                    <a:lnTo>
                      <a:pt x="80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1"/>
                    </a:lnTo>
                    <a:lnTo>
                      <a:pt x="66" y="642"/>
                    </a:lnTo>
                    <a:lnTo>
                      <a:pt x="60" y="639"/>
                    </a:lnTo>
                    <a:lnTo>
                      <a:pt x="54" y="636"/>
                    </a:lnTo>
                    <a:lnTo>
                      <a:pt x="51" y="631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2"/>
                    </a:lnTo>
                    <a:lnTo>
                      <a:pt x="24" y="618"/>
                    </a:lnTo>
                    <a:lnTo>
                      <a:pt x="20" y="609"/>
                    </a:lnTo>
                    <a:lnTo>
                      <a:pt x="15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3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6" y="499"/>
                    </a:lnTo>
                    <a:lnTo>
                      <a:pt x="7" y="492"/>
                    </a:lnTo>
                    <a:lnTo>
                      <a:pt x="10" y="488"/>
                    </a:lnTo>
                    <a:lnTo>
                      <a:pt x="12" y="480"/>
                    </a:lnTo>
                    <a:lnTo>
                      <a:pt x="13" y="474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8" y="442"/>
                    </a:lnTo>
                    <a:lnTo>
                      <a:pt x="30" y="437"/>
                    </a:lnTo>
                    <a:lnTo>
                      <a:pt x="31" y="435"/>
                    </a:lnTo>
                    <a:lnTo>
                      <a:pt x="34" y="435"/>
                    </a:lnTo>
                    <a:lnTo>
                      <a:pt x="34" y="431"/>
                    </a:lnTo>
                    <a:lnTo>
                      <a:pt x="54" y="431"/>
                    </a:lnTo>
                    <a:lnTo>
                      <a:pt x="54" y="435"/>
                    </a:lnTo>
                    <a:lnTo>
                      <a:pt x="58" y="435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7"/>
                    </a:lnTo>
                    <a:lnTo>
                      <a:pt x="61" y="461"/>
                    </a:lnTo>
                    <a:lnTo>
                      <a:pt x="59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6"/>
                    </a:lnTo>
                    <a:lnTo>
                      <a:pt x="62" y="457"/>
                    </a:lnTo>
                    <a:lnTo>
                      <a:pt x="62" y="449"/>
                    </a:lnTo>
                    <a:lnTo>
                      <a:pt x="74" y="448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5" y="454"/>
                    </a:lnTo>
                    <a:lnTo>
                      <a:pt x="82" y="438"/>
                    </a:lnTo>
                    <a:lnTo>
                      <a:pt x="78" y="424"/>
                    </a:lnTo>
                    <a:lnTo>
                      <a:pt x="100" y="334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1"/>
                    </a:lnTo>
                    <a:lnTo>
                      <a:pt x="109" y="248"/>
                    </a:lnTo>
                    <a:lnTo>
                      <a:pt x="114" y="232"/>
                    </a:lnTo>
                    <a:lnTo>
                      <a:pt x="126" y="214"/>
                    </a:lnTo>
                    <a:lnTo>
                      <a:pt x="136" y="197"/>
                    </a:lnTo>
                    <a:lnTo>
                      <a:pt x="151" y="183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9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30"/>
                    </a:lnTo>
                    <a:lnTo>
                      <a:pt x="241" y="129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3"/>
                    </a:lnTo>
                    <a:lnTo>
                      <a:pt x="265" y="26"/>
                    </a:lnTo>
                    <a:lnTo>
                      <a:pt x="289" y="13"/>
                    </a:lnTo>
                    <a:lnTo>
                      <a:pt x="305" y="7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6"/>
                    </a:lnTo>
                    <a:lnTo>
                      <a:pt x="388" y="11"/>
                    </a:lnTo>
                    <a:lnTo>
                      <a:pt x="396" y="20"/>
                    </a:lnTo>
                    <a:lnTo>
                      <a:pt x="405" y="32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3"/>
                    </a:lnTo>
                    <a:lnTo>
                      <a:pt x="439" y="98"/>
                    </a:lnTo>
                    <a:lnTo>
                      <a:pt x="437" y="103"/>
                    </a:lnTo>
                    <a:lnTo>
                      <a:pt x="432" y="108"/>
                    </a:lnTo>
                    <a:lnTo>
                      <a:pt x="414" y="114"/>
                    </a:lnTo>
                    <a:lnTo>
                      <a:pt x="416" y="129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9"/>
                    </a:lnTo>
                    <a:lnTo>
                      <a:pt x="523" y="274"/>
                    </a:lnTo>
                    <a:lnTo>
                      <a:pt x="522" y="281"/>
                    </a:lnTo>
                    <a:lnTo>
                      <a:pt x="518" y="284"/>
                    </a:lnTo>
                    <a:lnTo>
                      <a:pt x="514" y="285"/>
                    </a:lnTo>
                    <a:lnTo>
                      <a:pt x="514" y="291"/>
                    </a:lnTo>
                    <a:lnTo>
                      <a:pt x="512" y="297"/>
                    </a:lnTo>
                    <a:lnTo>
                      <a:pt x="509" y="301"/>
                    </a:lnTo>
                    <a:lnTo>
                      <a:pt x="512" y="304"/>
                    </a:lnTo>
                    <a:lnTo>
                      <a:pt x="514" y="310"/>
                    </a:lnTo>
                    <a:lnTo>
                      <a:pt x="520" y="316"/>
                    </a:lnTo>
                    <a:lnTo>
                      <a:pt x="529" y="323"/>
                    </a:lnTo>
                    <a:lnTo>
                      <a:pt x="536" y="327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3"/>
                    </a:lnTo>
                    <a:lnTo>
                      <a:pt x="580" y="329"/>
                    </a:lnTo>
                    <a:lnTo>
                      <a:pt x="591" y="327"/>
                    </a:lnTo>
                    <a:lnTo>
                      <a:pt x="598" y="325"/>
                    </a:lnTo>
                    <a:lnTo>
                      <a:pt x="629" y="304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2" y="240"/>
                    </a:lnTo>
                    <a:lnTo>
                      <a:pt x="694" y="234"/>
                    </a:lnTo>
                    <a:lnTo>
                      <a:pt x="698" y="228"/>
                    </a:lnTo>
                    <a:lnTo>
                      <a:pt x="703" y="220"/>
                    </a:lnTo>
                    <a:lnTo>
                      <a:pt x="788" y="218"/>
                    </a:lnTo>
                    <a:lnTo>
                      <a:pt x="732" y="250"/>
                    </a:lnTo>
                    <a:lnTo>
                      <a:pt x="721" y="262"/>
                    </a:lnTo>
                    <a:lnTo>
                      <a:pt x="705" y="290"/>
                    </a:lnTo>
                    <a:lnTo>
                      <a:pt x="707" y="297"/>
                    </a:lnTo>
                    <a:lnTo>
                      <a:pt x="664" y="370"/>
                    </a:lnTo>
                    <a:lnTo>
                      <a:pt x="651" y="409"/>
                    </a:lnTo>
                    <a:lnTo>
                      <a:pt x="634" y="422"/>
                    </a:lnTo>
                    <a:lnTo>
                      <a:pt x="618" y="433"/>
                    </a:lnTo>
                    <a:lnTo>
                      <a:pt x="596" y="443"/>
                    </a:lnTo>
                    <a:lnTo>
                      <a:pt x="581" y="445"/>
                    </a:lnTo>
                    <a:lnTo>
                      <a:pt x="569" y="446"/>
                    </a:lnTo>
                    <a:close/>
                    <a:moveTo>
                      <a:pt x="83" y="467"/>
                    </a:moveTo>
                    <a:lnTo>
                      <a:pt x="77" y="472"/>
                    </a:lnTo>
                    <a:lnTo>
                      <a:pt x="80" y="476"/>
                    </a:lnTo>
                    <a:lnTo>
                      <a:pt x="82" y="481"/>
                    </a:lnTo>
                    <a:lnTo>
                      <a:pt x="83" y="476"/>
                    </a:lnTo>
                    <a:lnTo>
                      <a:pt x="85" y="471"/>
                    </a:lnTo>
                    <a:lnTo>
                      <a:pt x="83" y="46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5106960" y="1808280"/>
                <a:ext cx="250920" cy="291960"/>
              </a:xfrm>
              <a:custGeom>
                <a:avLst/>
                <a:gdLst/>
                <a:ahLst/>
                <a:rect l="l" t="t" r="r" b="b"/>
                <a:pathLst>
                  <a:path w="788" h="918">
                    <a:moveTo>
                      <a:pt x="569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2"/>
                    </a:lnTo>
                    <a:lnTo>
                      <a:pt x="557" y="620"/>
                    </a:lnTo>
                    <a:lnTo>
                      <a:pt x="546" y="666"/>
                    </a:lnTo>
                    <a:lnTo>
                      <a:pt x="537" y="699"/>
                    </a:lnTo>
                    <a:lnTo>
                      <a:pt x="529" y="704"/>
                    </a:lnTo>
                    <a:lnTo>
                      <a:pt x="520" y="712"/>
                    </a:lnTo>
                    <a:lnTo>
                      <a:pt x="512" y="745"/>
                    </a:lnTo>
                    <a:lnTo>
                      <a:pt x="512" y="752"/>
                    </a:lnTo>
                    <a:lnTo>
                      <a:pt x="515" y="757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3"/>
                    </a:lnTo>
                    <a:lnTo>
                      <a:pt x="526" y="792"/>
                    </a:lnTo>
                    <a:lnTo>
                      <a:pt x="534" y="795"/>
                    </a:lnTo>
                    <a:lnTo>
                      <a:pt x="537" y="798"/>
                    </a:lnTo>
                    <a:lnTo>
                      <a:pt x="541" y="805"/>
                    </a:lnTo>
                    <a:lnTo>
                      <a:pt x="544" y="810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2" y="833"/>
                    </a:lnTo>
                    <a:lnTo>
                      <a:pt x="588" y="838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8"/>
                    </a:lnTo>
                    <a:lnTo>
                      <a:pt x="565" y="860"/>
                    </a:lnTo>
                    <a:lnTo>
                      <a:pt x="542" y="859"/>
                    </a:lnTo>
                    <a:lnTo>
                      <a:pt x="522" y="854"/>
                    </a:lnTo>
                    <a:lnTo>
                      <a:pt x="499" y="848"/>
                    </a:lnTo>
                    <a:lnTo>
                      <a:pt x="482" y="839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09"/>
                    </a:lnTo>
                    <a:lnTo>
                      <a:pt x="423" y="799"/>
                    </a:lnTo>
                    <a:lnTo>
                      <a:pt x="425" y="790"/>
                    </a:lnTo>
                    <a:lnTo>
                      <a:pt x="427" y="782"/>
                    </a:lnTo>
                    <a:lnTo>
                      <a:pt x="430" y="773"/>
                    </a:lnTo>
                    <a:lnTo>
                      <a:pt x="434" y="765"/>
                    </a:lnTo>
                    <a:lnTo>
                      <a:pt x="439" y="757"/>
                    </a:lnTo>
                    <a:lnTo>
                      <a:pt x="439" y="750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29"/>
                    </a:lnTo>
                    <a:lnTo>
                      <a:pt x="445" y="700"/>
                    </a:lnTo>
                    <a:lnTo>
                      <a:pt x="434" y="696"/>
                    </a:lnTo>
                    <a:lnTo>
                      <a:pt x="435" y="688"/>
                    </a:lnTo>
                    <a:lnTo>
                      <a:pt x="437" y="680"/>
                    </a:lnTo>
                    <a:lnTo>
                      <a:pt x="437" y="672"/>
                    </a:lnTo>
                    <a:lnTo>
                      <a:pt x="435" y="661"/>
                    </a:lnTo>
                    <a:lnTo>
                      <a:pt x="437" y="645"/>
                    </a:lnTo>
                    <a:lnTo>
                      <a:pt x="442" y="623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2"/>
                    </a:lnTo>
                    <a:lnTo>
                      <a:pt x="413" y="625"/>
                    </a:lnTo>
                    <a:lnTo>
                      <a:pt x="398" y="641"/>
                    </a:lnTo>
                    <a:lnTo>
                      <a:pt x="384" y="651"/>
                    </a:lnTo>
                    <a:lnTo>
                      <a:pt x="367" y="664"/>
                    </a:lnTo>
                    <a:lnTo>
                      <a:pt x="351" y="676"/>
                    </a:lnTo>
                    <a:lnTo>
                      <a:pt x="333" y="687"/>
                    </a:lnTo>
                    <a:lnTo>
                      <a:pt x="314" y="698"/>
                    </a:lnTo>
                    <a:lnTo>
                      <a:pt x="297" y="703"/>
                    </a:lnTo>
                    <a:lnTo>
                      <a:pt x="281" y="711"/>
                    </a:lnTo>
                    <a:lnTo>
                      <a:pt x="266" y="716"/>
                    </a:lnTo>
                    <a:lnTo>
                      <a:pt x="251" y="772"/>
                    </a:lnTo>
                    <a:lnTo>
                      <a:pt x="250" y="787"/>
                    </a:lnTo>
                    <a:lnTo>
                      <a:pt x="248" y="805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9"/>
                    </a:lnTo>
                    <a:lnTo>
                      <a:pt x="222" y="870"/>
                    </a:lnTo>
                    <a:lnTo>
                      <a:pt x="214" y="878"/>
                    </a:lnTo>
                    <a:lnTo>
                      <a:pt x="212" y="888"/>
                    </a:lnTo>
                    <a:lnTo>
                      <a:pt x="205" y="898"/>
                    </a:lnTo>
                    <a:lnTo>
                      <a:pt x="196" y="906"/>
                    </a:lnTo>
                    <a:lnTo>
                      <a:pt x="182" y="913"/>
                    </a:lnTo>
                    <a:lnTo>
                      <a:pt x="161" y="918"/>
                    </a:lnTo>
                    <a:lnTo>
                      <a:pt x="143" y="918"/>
                    </a:lnTo>
                    <a:lnTo>
                      <a:pt x="126" y="915"/>
                    </a:lnTo>
                    <a:lnTo>
                      <a:pt x="113" y="910"/>
                    </a:lnTo>
                    <a:lnTo>
                      <a:pt x="102" y="902"/>
                    </a:lnTo>
                    <a:lnTo>
                      <a:pt x="94" y="894"/>
                    </a:lnTo>
                    <a:lnTo>
                      <a:pt x="86" y="892"/>
                    </a:lnTo>
                    <a:lnTo>
                      <a:pt x="76" y="876"/>
                    </a:lnTo>
                    <a:lnTo>
                      <a:pt x="71" y="859"/>
                    </a:lnTo>
                    <a:lnTo>
                      <a:pt x="65" y="843"/>
                    </a:lnTo>
                    <a:lnTo>
                      <a:pt x="62" y="823"/>
                    </a:lnTo>
                    <a:lnTo>
                      <a:pt x="62" y="806"/>
                    </a:lnTo>
                    <a:lnTo>
                      <a:pt x="60" y="775"/>
                    </a:lnTo>
                    <a:lnTo>
                      <a:pt x="68" y="756"/>
                    </a:lnTo>
                    <a:lnTo>
                      <a:pt x="73" y="733"/>
                    </a:lnTo>
                    <a:lnTo>
                      <a:pt x="80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1"/>
                    </a:lnTo>
                    <a:lnTo>
                      <a:pt x="66" y="642"/>
                    </a:lnTo>
                    <a:lnTo>
                      <a:pt x="60" y="639"/>
                    </a:lnTo>
                    <a:lnTo>
                      <a:pt x="54" y="636"/>
                    </a:lnTo>
                    <a:lnTo>
                      <a:pt x="51" y="631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2"/>
                    </a:lnTo>
                    <a:lnTo>
                      <a:pt x="24" y="618"/>
                    </a:lnTo>
                    <a:lnTo>
                      <a:pt x="20" y="609"/>
                    </a:lnTo>
                    <a:lnTo>
                      <a:pt x="15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3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6" y="499"/>
                    </a:lnTo>
                    <a:lnTo>
                      <a:pt x="7" y="492"/>
                    </a:lnTo>
                    <a:lnTo>
                      <a:pt x="10" y="488"/>
                    </a:lnTo>
                    <a:lnTo>
                      <a:pt x="12" y="480"/>
                    </a:lnTo>
                    <a:lnTo>
                      <a:pt x="13" y="474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8" y="442"/>
                    </a:lnTo>
                    <a:lnTo>
                      <a:pt x="30" y="437"/>
                    </a:lnTo>
                    <a:lnTo>
                      <a:pt x="31" y="435"/>
                    </a:lnTo>
                    <a:lnTo>
                      <a:pt x="34" y="435"/>
                    </a:lnTo>
                    <a:lnTo>
                      <a:pt x="34" y="431"/>
                    </a:lnTo>
                    <a:lnTo>
                      <a:pt x="54" y="431"/>
                    </a:lnTo>
                    <a:lnTo>
                      <a:pt x="54" y="435"/>
                    </a:lnTo>
                    <a:lnTo>
                      <a:pt x="58" y="435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7"/>
                    </a:lnTo>
                    <a:lnTo>
                      <a:pt x="61" y="461"/>
                    </a:lnTo>
                    <a:lnTo>
                      <a:pt x="59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6"/>
                    </a:lnTo>
                    <a:lnTo>
                      <a:pt x="62" y="457"/>
                    </a:lnTo>
                    <a:lnTo>
                      <a:pt x="62" y="449"/>
                    </a:lnTo>
                    <a:lnTo>
                      <a:pt x="74" y="448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5" y="454"/>
                    </a:lnTo>
                    <a:lnTo>
                      <a:pt x="82" y="438"/>
                    </a:lnTo>
                    <a:lnTo>
                      <a:pt x="78" y="424"/>
                    </a:lnTo>
                    <a:lnTo>
                      <a:pt x="100" y="334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1"/>
                    </a:lnTo>
                    <a:lnTo>
                      <a:pt x="109" y="248"/>
                    </a:lnTo>
                    <a:lnTo>
                      <a:pt x="114" y="232"/>
                    </a:lnTo>
                    <a:lnTo>
                      <a:pt x="126" y="214"/>
                    </a:lnTo>
                    <a:lnTo>
                      <a:pt x="136" y="197"/>
                    </a:lnTo>
                    <a:lnTo>
                      <a:pt x="151" y="183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9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30"/>
                    </a:lnTo>
                    <a:lnTo>
                      <a:pt x="241" y="129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3"/>
                    </a:lnTo>
                    <a:lnTo>
                      <a:pt x="265" y="26"/>
                    </a:lnTo>
                    <a:lnTo>
                      <a:pt x="289" y="13"/>
                    </a:lnTo>
                    <a:lnTo>
                      <a:pt x="305" y="7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6"/>
                    </a:lnTo>
                    <a:lnTo>
                      <a:pt x="388" y="11"/>
                    </a:lnTo>
                    <a:lnTo>
                      <a:pt x="396" y="20"/>
                    </a:lnTo>
                    <a:lnTo>
                      <a:pt x="405" y="32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3"/>
                    </a:lnTo>
                    <a:lnTo>
                      <a:pt x="439" y="98"/>
                    </a:lnTo>
                    <a:lnTo>
                      <a:pt x="437" y="103"/>
                    </a:lnTo>
                    <a:lnTo>
                      <a:pt x="432" y="108"/>
                    </a:lnTo>
                    <a:lnTo>
                      <a:pt x="414" y="114"/>
                    </a:lnTo>
                    <a:lnTo>
                      <a:pt x="416" y="129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9"/>
                    </a:lnTo>
                    <a:lnTo>
                      <a:pt x="523" y="274"/>
                    </a:lnTo>
                    <a:lnTo>
                      <a:pt x="522" y="281"/>
                    </a:lnTo>
                    <a:lnTo>
                      <a:pt x="518" y="284"/>
                    </a:lnTo>
                    <a:lnTo>
                      <a:pt x="514" y="285"/>
                    </a:lnTo>
                    <a:lnTo>
                      <a:pt x="514" y="291"/>
                    </a:lnTo>
                    <a:lnTo>
                      <a:pt x="512" y="297"/>
                    </a:lnTo>
                    <a:lnTo>
                      <a:pt x="509" y="301"/>
                    </a:lnTo>
                    <a:lnTo>
                      <a:pt x="512" y="304"/>
                    </a:lnTo>
                    <a:lnTo>
                      <a:pt x="514" y="310"/>
                    </a:lnTo>
                    <a:lnTo>
                      <a:pt x="520" y="316"/>
                    </a:lnTo>
                    <a:lnTo>
                      <a:pt x="529" y="323"/>
                    </a:lnTo>
                    <a:lnTo>
                      <a:pt x="536" y="327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3"/>
                    </a:lnTo>
                    <a:lnTo>
                      <a:pt x="580" y="329"/>
                    </a:lnTo>
                    <a:lnTo>
                      <a:pt x="591" y="327"/>
                    </a:lnTo>
                    <a:lnTo>
                      <a:pt x="598" y="325"/>
                    </a:lnTo>
                    <a:lnTo>
                      <a:pt x="629" y="304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2" y="240"/>
                    </a:lnTo>
                    <a:lnTo>
                      <a:pt x="694" y="234"/>
                    </a:lnTo>
                    <a:lnTo>
                      <a:pt x="698" y="228"/>
                    </a:lnTo>
                    <a:lnTo>
                      <a:pt x="703" y="220"/>
                    </a:lnTo>
                    <a:lnTo>
                      <a:pt x="788" y="218"/>
                    </a:lnTo>
                    <a:lnTo>
                      <a:pt x="732" y="250"/>
                    </a:lnTo>
                    <a:lnTo>
                      <a:pt x="721" y="262"/>
                    </a:lnTo>
                    <a:lnTo>
                      <a:pt x="705" y="290"/>
                    </a:lnTo>
                    <a:lnTo>
                      <a:pt x="707" y="297"/>
                    </a:lnTo>
                    <a:lnTo>
                      <a:pt x="664" y="370"/>
                    </a:lnTo>
                    <a:lnTo>
                      <a:pt x="651" y="409"/>
                    </a:lnTo>
                    <a:lnTo>
                      <a:pt x="634" y="422"/>
                    </a:lnTo>
                    <a:lnTo>
                      <a:pt x="618" y="433"/>
                    </a:lnTo>
                    <a:lnTo>
                      <a:pt x="596" y="443"/>
                    </a:lnTo>
                    <a:lnTo>
                      <a:pt x="581" y="445"/>
                    </a:lnTo>
                    <a:lnTo>
                      <a:pt x="569" y="446"/>
                    </a:lnTo>
                  </a:path>
                </a:pathLst>
              </a:custGeom>
              <a:noFill/>
              <a:ln w="0">
                <a:solidFill>
                  <a:srgbClr val="a9a8a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5245200" y="1849320"/>
                <a:ext cx="198360" cy="55800"/>
              </a:xfrm>
              <a:custGeom>
                <a:avLst/>
                <a:gdLst/>
                <a:ahLst/>
                <a:rect l="l" t="t" r="r" b="b"/>
                <a:pathLst>
                  <a:path w="621" h="176">
                    <a:moveTo>
                      <a:pt x="436" y="85"/>
                    </a:moveTo>
                    <a:lnTo>
                      <a:pt x="427" y="81"/>
                    </a:lnTo>
                    <a:lnTo>
                      <a:pt x="363" y="83"/>
                    </a:lnTo>
                    <a:lnTo>
                      <a:pt x="360" y="88"/>
                    </a:lnTo>
                    <a:lnTo>
                      <a:pt x="430" y="90"/>
                    </a:lnTo>
                    <a:lnTo>
                      <a:pt x="425" y="92"/>
                    </a:lnTo>
                    <a:lnTo>
                      <a:pt x="352" y="92"/>
                    </a:lnTo>
                    <a:lnTo>
                      <a:pt x="268" y="94"/>
                    </a:lnTo>
                    <a:lnTo>
                      <a:pt x="248" y="94"/>
                    </a:lnTo>
                    <a:lnTo>
                      <a:pt x="176" y="123"/>
                    </a:lnTo>
                    <a:lnTo>
                      <a:pt x="176" y="166"/>
                    </a:lnTo>
                    <a:lnTo>
                      <a:pt x="128" y="176"/>
                    </a:lnTo>
                    <a:lnTo>
                      <a:pt x="128" y="136"/>
                    </a:lnTo>
                    <a:lnTo>
                      <a:pt x="125" y="126"/>
                    </a:lnTo>
                    <a:lnTo>
                      <a:pt x="125" y="116"/>
                    </a:lnTo>
                    <a:lnTo>
                      <a:pt x="122" y="113"/>
                    </a:lnTo>
                    <a:lnTo>
                      <a:pt x="120" y="110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8" y="107"/>
                    </a:lnTo>
                    <a:lnTo>
                      <a:pt x="104" y="117"/>
                    </a:lnTo>
                    <a:lnTo>
                      <a:pt x="105" y="122"/>
                    </a:lnTo>
                    <a:lnTo>
                      <a:pt x="105" y="126"/>
                    </a:lnTo>
                    <a:lnTo>
                      <a:pt x="103" y="128"/>
                    </a:lnTo>
                    <a:lnTo>
                      <a:pt x="99" y="131"/>
                    </a:lnTo>
                    <a:lnTo>
                      <a:pt x="119" y="131"/>
                    </a:lnTo>
                    <a:lnTo>
                      <a:pt x="121" y="131"/>
                    </a:lnTo>
                    <a:lnTo>
                      <a:pt x="122" y="128"/>
                    </a:lnTo>
                    <a:lnTo>
                      <a:pt x="125" y="126"/>
                    </a:lnTo>
                    <a:lnTo>
                      <a:pt x="128" y="136"/>
                    </a:lnTo>
                    <a:lnTo>
                      <a:pt x="82" y="136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39"/>
                    </a:lnTo>
                    <a:lnTo>
                      <a:pt x="42" y="39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4" y="9"/>
                    </a:lnTo>
                    <a:lnTo>
                      <a:pt x="60" y="5"/>
                    </a:lnTo>
                    <a:lnTo>
                      <a:pt x="66" y="3"/>
                    </a:lnTo>
                    <a:lnTo>
                      <a:pt x="180" y="13"/>
                    </a:lnTo>
                    <a:lnTo>
                      <a:pt x="184" y="15"/>
                    </a:lnTo>
                    <a:lnTo>
                      <a:pt x="188" y="19"/>
                    </a:lnTo>
                    <a:lnTo>
                      <a:pt x="191" y="24"/>
                    </a:lnTo>
                    <a:lnTo>
                      <a:pt x="191" y="29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4"/>
                    </a:lnTo>
                    <a:lnTo>
                      <a:pt x="185" y="28"/>
                    </a:lnTo>
                    <a:lnTo>
                      <a:pt x="185" y="24"/>
                    </a:lnTo>
                    <a:lnTo>
                      <a:pt x="182" y="20"/>
                    </a:lnTo>
                    <a:lnTo>
                      <a:pt x="176" y="18"/>
                    </a:lnTo>
                    <a:lnTo>
                      <a:pt x="92" y="18"/>
                    </a:lnTo>
                    <a:lnTo>
                      <a:pt x="88" y="23"/>
                    </a:lnTo>
                    <a:lnTo>
                      <a:pt x="86" y="27"/>
                    </a:lnTo>
                    <a:lnTo>
                      <a:pt x="85" y="33"/>
                    </a:lnTo>
                    <a:lnTo>
                      <a:pt x="85" y="36"/>
                    </a:lnTo>
                    <a:lnTo>
                      <a:pt x="86" y="38"/>
                    </a:lnTo>
                    <a:lnTo>
                      <a:pt x="89" y="39"/>
                    </a:lnTo>
                    <a:lnTo>
                      <a:pt x="176" y="39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39"/>
                    </a:lnTo>
                    <a:lnTo>
                      <a:pt x="475" y="39"/>
                    </a:lnTo>
                    <a:lnTo>
                      <a:pt x="474" y="27"/>
                    </a:lnTo>
                    <a:lnTo>
                      <a:pt x="470" y="27"/>
                    </a:lnTo>
                    <a:lnTo>
                      <a:pt x="470" y="14"/>
                    </a:lnTo>
                    <a:lnTo>
                      <a:pt x="461" y="14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6" y="2"/>
                    </a:lnTo>
                    <a:lnTo>
                      <a:pt x="470" y="0"/>
                    </a:lnTo>
                    <a:lnTo>
                      <a:pt x="475" y="2"/>
                    </a:lnTo>
                    <a:lnTo>
                      <a:pt x="479" y="6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5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3"/>
                    </a:lnTo>
                    <a:lnTo>
                      <a:pt x="608" y="63"/>
                    </a:lnTo>
                    <a:lnTo>
                      <a:pt x="602" y="60"/>
                    </a:lnTo>
                    <a:lnTo>
                      <a:pt x="481" y="60"/>
                    </a:lnTo>
                    <a:lnTo>
                      <a:pt x="481" y="66"/>
                    </a:lnTo>
                    <a:lnTo>
                      <a:pt x="470" y="66"/>
                    </a:lnTo>
                    <a:lnTo>
                      <a:pt x="470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3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4916520" y="2124000"/>
                <a:ext cx="250920" cy="290520"/>
              </a:xfrm>
              <a:custGeom>
                <a:avLst/>
                <a:gdLst/>
                <a:ahLst/>
                <a:rect l="l" t="t" r="r" b="b"/>
                <a:pathLst>
                  <a:path w="788" h="917">
                    <a:moveTo>
                      <a:pt x="417" y="450"/>
                    </a:moveTo>
                    <a:lnTo>
                      <a:pt x="432" y="440"/>
                    </a:lnTo>
                    <a:lnTo>
                      <a:pt x="445" y="431"/>
                    </a:lnTo>
                    <a:lnTo>
                      <a:pt x="458" y="423"/>
                    </a:lnTo>
                    <a:lnTo>
                      <a:pt x="472" y="418"/>
                    </a:lnTo>
                    <a:lnTo>
                      <a:pt x="446" y="401"/>
                    </a:lnTo>
                    <a:lnTo>
                      <a:pt x="434" y="392"/>
                    </a:lnTo>
                    <a:lnTo>
                      <a:pt x="421" y="383"/>
                    </a:lnTo>
                    <a:lnTo>
                      <a:pt x="422" y="400"/>
                    </a:lnTo>
                    <a:lnTo>
                      <a:pt x="420" y="416"/>
                    </a:lnTo>
                    <a:lnTo>
                      <a:pt x="417" y="450"/>
                    </a:lnTo>
                    <a:close/>
                    <a:moveTo>
                      <a:pt x="569" y="445"/>
                    </a:moveTo>
                    <a:lnTo>
                      <a:pt x="571" y="482"/>
                    </a:lnTo>
                    <a:lnTo>
                      <a:pt x="571" y="523"/>
                    </a:lnTo>
                    <a:lnTo>
                      <a:pt x="566" y="572"/>
                    </a:lnTo>
                    <a:lnTo>
                      <a:pt x="557" y="619"/>
                    </a:lnTo>
                    <a:lnTo>
                      <a:pt x="546" y="665"/>
                    </a:lnTo>
                    <a:lnTo>
                      <a:pt x="538" y="698"/>
                    </a:lnTo>
                    <a:lnTo>
                      <a:pt x="529" y="704"/>
                    </a:lnTo>
                    <a:lnTo>
                      <a:pt x="519" y="711"/>
                    </a:lnTo>
                    <a:lnTo>
                      <a:pt x="512" y="745"/>
                    </a:lnTo>
                    <a:lnTo>
                      <a:pt x="512" y="751"/>
                    </a:lnTo>
                    <a:lnTo>
                      <a:pt x="516" y="757"/>
                    </a:lnTo>
                    <a:lnTo>
                      <a:pt x="516" y="763"/>
                    </a:lnTo>
                    <a:lnTo>
                      <a:pt x="511" y="770"/>
                    </a:lnTo>
                    <a:lnTo>
                      <a:pt x="518" y="777"/>
                    </a:lnTo>
                    <a:lnTo>
                      <a:pt x="523" y="782"/>
                    </a:lnTo>
                    <a:lnTo>
                      <a:pt x="526" y="792"/>
                    </a:lnTo>
                    <a:lnTo>
                      <a:pt x="533" y="794"/>
                    </a:lnTo>
                    <a:lnTo>
                      <a:pt x="538" y="797"/>
                    </a:lnTo>
                    <a:lnTo>
                      <a:pt x="541" y="804"/>
                    </a:lnTo>
                    <a:lnTo>
                      <a:pt x="544" y="809"/>
                    </a:lnTo>
                    <a:lnTo>
                      <a:pt x="547" y="816"/>
                    </a:lnTo>
                    <a:lnTo>
                      <a:pt x="569" y="826"/>
                    </a:lnTo>
                    <a:lnTo>
                      <a:pt x="582" y="832"/>
                    </a:lnTo>
                    <a:lnTo>
                      <a:pt x="587" y="837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7"/>
                    </a:lnTo>
                    <a:lnTo>
                      <a:pt x="565" y="859"/>
                    </a:lnTo>
                    <a:lnTo>
                      <a:pt x="542" y="858"/>
                    </a:lnTo>
                    <a:lnTo>
                      <a:pt x="522" y="854"/>
                    </a:lnTo>
                    <a:lnTo>
                      <a:pt x="499" y="847"/>
                    </a:lnTo>
                    <a:lnTo>
                      <a:pt x="483" y="838"/>
                    </a:lnTo>
                    <a:lnTo>
                      <a:pt x="469" y="831"/>
                    </a:lnTo>
                    <a:lnTo>
                      <a:pt x="456" y="829"/>
                    </a:lnTo>
                    <a:lnTo>
                      <a:pt x="445" y="827"/>
                    </a:lnTo>
                    <a:lnTo>
                      <a:pt x="434" y="824"/>
                    </a:lnTo>
                    <a:lnTo>
                      <a:pt x="424" y="820"/>
                    </a:lnTo>
                    <a:lnTo>
                      <a:pt x="422" y="808"/>
                    </a:lnTo>
                    <a:lnTo>
                      <a:pt x="423" y="799"/>
                    </a:lnTo>
                    <a:lnTo>
                      <a:pt x="424" y="790"/>
                    </a:lnTo>
                    <a:lnTo>
                      <a:pt x="427" y="781"/>
                    </a:lnTo>
                    <a:lnTo>
                      <a:pt x="431" y="772"/>
                    </a:lnTo>
                    <a:lnTo>
                      <a:pt x="434" y="764"/>
                    </a:lnTo>
                    <a:lnTo>
                      <a:pt x="439" y="757"/>
                    </a:lnTo>
                    <a:lnTo>
                      <a:pt x="439" y="749"/>
                    </a:lnTo>
                    <a:lnTo>
                      <a:pt x="439" y="740"/>
                    </a:lnTo>
                    <a:lnTo>
                      <a:pt x="442" y="733"/>
                    </a:lnTo>
                    <a:lnTo>
                      <a:pt x="445" y="728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7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0"/>
                    </a:lnTo>
                    <a:lnTo>
                      <a:pt x="438" y="644"/>
                    </a:lnTo>
                    <a:lnTo>
                      <a:pt x="442" y="622"/>
                    </a:lnTo>
                    <a:lnTo>
                      <a:pt x="447" y="601"/>
                    </a:lnTo>
                    <a:lnTo>
                      <a:pt x="456" y="578"/>
                    </a:lnTo>
                    <a:lnTo>
                      <a:pt x="442" y="595"/>
                    </a:lnTo>
                    <a:lnTo>
                      <a:pt x="425" y="611"/>
                    </a:lnTo>
                    <a:lnTo>
                      <a:pt x="413" y="625"/>
                    </a:lnTo>
                    <a:lnTo>
                      <a:pt x="397" y="639"/>
                    </a:lnTo>
                    <a:lnTo>
                      <a:pt x="384" y="650"/>
                    </a:lnTo>
                    <a:lnTo>
                      <a:pt x="367" y="663"/>
                    </a:lnTo>
                    <a:lnTo>
                      <a:pt x="352" y="675"/>
                    </a:lnTo>
                    <a:lnTo>
                      <a:pt x="333" y="686"/>
                    </a:lnTo>
                    <a:lnTo>
                      <a:pt x="314" y="697"/>
                    </a:lnTo>
                    <a:lnTo>
                      <a:pt x="298" y="703"/>
                    </a:lnTo>
                    <a:lnTo>
                      <a:pt x="281" y="710"/>
                    </a:lnTo>
                    <a:lnTo>
                      <a:pt x="266" y="715"/>
                    </a:lnTo>
                    <a:lnTo>
                      <a:pt x="251" y="771"/>
                    </a:lnTo>
                    <a:lnTo>
                      <a:pt x="250" y="786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3" y="869"/>
                    </a:lnTo>
                    <a:lnTo>
                      <a:pt x="214" y="878"/>
                    </a:lnTo>
                    <a:lnTo>
                      <a:pt x="212" y="887"/>
                    </a:lnTo>
                    <a:lnTo>
                      <a:pt x="205" y="898"/>
                    </a:lnTo>
                    <a:lnTo>
                      <a:pt x="196" y="905"/>
                    </a:lnTo>
                    <a:lnTo>
                      <a:pt x="182" y="913"/>
                    </a:lnTo>
                    <a:lnTo>
                      <a:pt x="161" y="917"/>
                    </a:lnTo>
                    <a:lnTo>
                      <a:pt x="143" y="917"/>
                    </a:lnTo>
                    <a:lnTo>
                      <a:pt x="125" y="914"/>
                    </a:lnTo>
                    <a:lnTo>
                      <a:pt x="112" y="910"/>
                    </a:lnTo>
                    <a:lnTo>
                      <a:pt x="102" y="901"/>
                    </a:lnTo>
                    <a:lnTo>
                      <a:pt x="94" y="893"/>
                    </a:lnTo>
                    <a:lnTo>
                      <a:pt x="85" y="891"/>
                    </a:lnTo>
                    <a:lnTo>
                      <a:pt x="76" y="876"/>
                    </a:lnTo>
                    <a:lnTo>
                      <a:pt x="70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60" y="773"/>
                    </a:lnTo>
                    <a:lnTo>
                      <a:pt x="69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7" y="641"/>
                    </a:lnTo>
                    <a:lnTo>
                      <a:pt x="60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7" y="625"/>
                    </a:lnTo>
                    <a:lnTo>
                      <a:pt x="30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3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3" y="478"/>
                    </a:lnTo>
                    <a:lnTo>
                      <a:pt x="14" y="474"/>
                    </a:lnTo>
                    <a:lnTo>
                      <a:pt x="16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0" y="434"/>
                    </a:lnTo>
                    <a:lnTo>
                      <a:pt x="35" y="434"/>
                    </a:lnTo>
                    <a:lnTo>
                      <a:pt x="35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7" y="434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8" y="463"/>
                    </a:lnTo>
                    <a:lnTo>
                      <a:pt x="62" y="465"/>
                    </a:lnTo>
                    <a:lnTo>
                      <a:pt x="67" y="465"/>
                    </a:lnTo>
                    <a:lnTo>
                      <a:pt x="70" y="463"/>
                    </a:lnTo>
                    <a:lnTo>
                      <a:pt x="73" y="460"/>
                    </a:lnTo>
                    <a:lnTo>
                      <a:pt x="71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4" y="452"/>
                    </a:lnTo>
                    <a:lnTo>
                      <a:pt x="82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5" y="232"/>
                    </a:lnTo>
                    <a:lnTo>
                      <a:pt x="125" y="213"/>
                    </a:lnTo>
                    <a:lnTo>
                      <a:pt x="136" y="197"/>
                    </a:lnTo>
                    <a:lnTo>
                      <a:pt x="151" y="182"/>
                    </a:lnTo>
                    <a:lnTo>
                      <a:pt x="168" y="173"/>
                    </a:lnTo>
                    <a:lnTo>
                      <a:pt x="177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3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7" y="46"/>
                    </a:lnTo>
                    <a:lnTo>
                      <a:pt x="257" y="33"/>
                    </a:lnTo>
                    <a:lnTo>
                      <a:pt x="266" y="25"/>
                    </a:lnTo>
                    <a:lnTo>
                      <a:pt x="288" y="13"/>
                    </a:lnTo>
                    <a:lnTo>
                      <a:pt x="305" y="6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3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8" y="11"/>
                    </a:lnTo>
                    <a:lnTo>
                      <a:pt x="397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1" y="84"/>
                    </a:lnTo>
                    <a:lnTo>
                      <a:pt x="436" y="92"/>
                    </a:lnTo>
                    <a:lnTo>
                      <a:pt x="439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5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8"/>
                    </a:lnTo>
                    <a:lnTo>
                      <a:pt x="523" y="274"/>
                    </a:lnTo>
                    <a:lnTo>
                      <a:pt x="522" y="280"/>
                    </a:lnTo>
                    <a:lnTo>
                      <a:pt x="518" y="283"/>
                    </a:lnTo>
                    <a:lnTo>
                      <a:pt x="514" y="285"/>
                    </a:lnTo>
                    <a:lnTo>
                      <a:pt x="514" y="290"/>
                    </a:lnTo>
                    <a:lnTo>
                      <a:pt x="512" y="297"/>
                    </a:lnTo>
                    <a:lnTo>
                      <a:pt x="509" y="300"/>
                    </a:lnTo>
                    <a:lnTo>
                      <a:pt x="512" y="303"/>
                    </a:lnTo>
                    <a:lnTo>
                      <a:pt x="514" y="309"/>
                    </a:lnTo>
                    <a:lnTo>
                      <a:pt x="519" y="316"/>
                    </a:lnTo>
                    <a:lnTo>
                      <a:pt x="529" y="322"/>
                    </a:lnTo>
                    <a:lnTo>
                      <a:pt x="536" y="326"/>
                    </a:lnTo>
                    <a:lnTo>
                      <a:pt x="543" y="333"/>
                    </a:lnTo>
                    <a:lnTo>
                      <a:pt x="551" y="337"/>
                    </a:lnTo>
                    <a:lnTo>
                      <a:pt x="569" y="331"/>
                    </a:lnTo>
                    <a:lnTo>
                      <a:pt x="580" y="329"/>
                    </a:lnTo>
                    <a:lnTo>
                      <a:pt x="591" y="326"/>
                    </a:lnTo>
                    <a:lnTo>
                      <a:pt x="598" y="324"/>
                    </a:lnTo>
                    <a:lnTo>
                      <a:pt x="628" y="303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3" y="240"/>
                    </a:lnTo>
                    <a:lnTo>
                      <a:pt x="694" y="233"/>
                    </a:lnTo>
                    <a:lnTo>
                      <a:pt x="697" y="227"/>
                    </a:lnTo>
                    <a:lnTo>
                      <a:pt x="704" y="220"/>
                    </a:lnTo>
                    <a:lnTo>
                      <a:pt x="788" y="217"/>
                    </a:lnTo>
                    <a:lnTo>
                      <a:pt x="732" y="249"/>
                    </a:lnTo>
                    <a:lnTo>
                      <a:pt x="721" y="262"/>
                    </a:lnTo>
                    <a:lnTo>
                      <a:pt x="705" y="289"/>
                    </a:lnTo>
                    <a:lnTo>
                      <a:pt x="707" y="297"/>
                    </a:lnTo>
                    <a:lnTo>
                      <a:pt x="664" y="369"/>
                    </a:lnTo>
                    <a:lnTo>
                      <a:pt x="651" y="408"/>
                    </a:lnTo>
                    <a:lnTo>
                      <a:pt x="634" y="421"/>
                    </a:lnTo>
                    <a:lnTo>
                      <a:pt x="618" y="432"/>
                    </a:lnTo>
                    <a:lnTo>
                      <a:pt x="596" y="442"/>
                    </a:lnTo>
                    <a:lnTo>
                      <a:pt x="582" y="444"/>
                    </a:lnTo>
                    <a:lnTo>
                      <a:pt x="569" y="445"/>
                    </a:lnTo>
                    <a:close/>
                    <a:moveTo>
                      <a:pt x="83" y="465"/>
                    </a:moveTo>
                    <a:lnTo>
                      <a:pt x="77" y="471"/>
                    </a:lnTo>
                    <a:lnTo>
                      <a:pt x="80" y="475"/>
                    </a:lnTo>
                    <a:lnTo>
                      <a:pt x="82" y="480"/>
                    </a:lnTo>
                    <a:lnTo>
                      <a:pt x="83" y="475"/>
                    </a:lnTo>
                    <a:lnTo>
                      <a:pt x="84" y="471"/>
                    </a:lnTo>
                    <a:lnTo>
                      <a:pt x="83" y="465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4916520" y="2124000"/>
                <a:ext cx="250920" cy="290520"/>
              </a:xfrm>
              <a:custGeom>
                <a:avLst/>
                <a:gdLst/>
                <a:ahLst/>
                <a:rect l="l" t="t" r="r" b="b"/>
                <a:pathLst>
                  <a:path w="788" h="917">
                    <a:moveTo>
                      <a:pt x="569" y="445"/>
                    </a:moveTo>
                    <a:lnTo>
                      <a:pt x="571" y="482"/>
                    </a:lnTo>
                    <a:lnTo>
                      <a:pt x="571" y="523"/>
                    </a:lnTo>
                    <a:lnTo>
                      <a:pt x="566" y="572"/>
                    </a:lnTo>
                    <a:lnTo>
                      <a:pt x="557" y="619"/>
                    </a:lnTo>
                    <a:lnTo>
                      <a:pt x="546" y="665"/>
                    </a:lnTo>
                    <a:lnTo>
                      <a:pt x="538" y="698"/>
                    </a:lnTo>
                    <a:lnTo>
                      <a:pt x="529" y="704"/>
                    </a:lnTo>
                    <a:lnTo>
                      <a:pt x="519" y="711"/>
                    </a:lnTo>
                    <a:lnTo>
                      <a:pt x="512" y="745"/>
                    </a:lnTo>
                    <a:lnTo>
                      <a:pt x="512" y="751"/>
                    </a:lnTo>
                    <a:lnTo>
                      <a:pt x="516" y="757"/>
                    </a:lnTo>
                    <a:lnTo>
                      <a:pt x="516" y="763"/>
                    </a:lnTo>
                    <a:lnTo>
                      <a:pt x="511" y="770"/>
                    </a:lnTo>
                    <a:lnTo>
                      <a:pt x="518" y="777"/>
                    </a:lnTo>
                    <a:lnTo>
                      <a:pt x="523" y="782"/>
                    </a:lnTo>
                    <a:lnTo>
                      <a:pt x="526" y="792"/>
                    </a:lnTo>
                    <a:lnTo>
                      <a:pt x="533" y="794"/>
                    </a:lnTo>
                    <a:lnTo>
                      <a:pt x="538" y="797"/>
                    </a:lnTo>
                    <a:lnTo>
                      <a:pt x="541" y="804"/>
                    </a:lnTo>
                    <a:lnTo>
                      <a:pt x="544" y="809"/>
                    </a:lnTo>
                    <a:lnTo>
                      <a:pt x="547" y="816"/>
                    </a:lnTo>
                    <a:lnTo>
                      <a:pt x="569" y="826"/>
                    </a:lnTo>
                    <a:lnTo>
                      <a:pt x="582" y="832"/>
                    </a:lnTo>
                    <a:lnTo>
                      <a:pt x="587" y="837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7"/>
                    </a:lnTo>
                    <a:lnTo>
                      <a:pt x="565" y="859"/>
                    </a:lnTo>
                    <a:lnTo>
                      <a:pt x="542" y="858"/>
                    </a:lnTo>
                    <a:lnTo>
                      <a:pt x="522" y="854"/>
                    </a:lnTo>
                    <a:lnTo>
                      <a:pt x="499" y="847"/>
                    </a:lnTo>
                    <a:lnTo>
                      <a:pt x="483" y="838"/>
                    </a:lnTo>
                    <a:lnTo>
                      <a:pt x="469" y="831"/>
                    </a:lnTo>
                    <a:lnTo>
                      <a:pt x="456" y="829"/>
                    </a:lnTo>
                    <a:lnTo>
                      <a:pt x="445" y="827"/>
                    </a:lnTo>
                    <a:lnTo>
                      <a:pt x="434" y="824"/>
                    </a:lnTo>
                    <a:lnTo>
                      <a:pt x="424" y="820"/>
                    </a:lnTo>
                    <a:lnTo>
                      <a:pt x="422" y="808"/>
                    </a:lnTo>
                    <a:lnTo>
                      <a:pt x="423" y="799"/>
                    </a:lnTo>
                    <a:lnTo>
                      <a:pt x="424" y="790"/>
                    </a:lnTo>
                    <a:lnTo>
                      <a:pt x="427" y="781"/>
                    </a:lnTo>
                    <a:lnTo>
                      <a:pt x="431" y="772"/>
                    </a:lnTo>
                    <a:lnTo>
                      <a:pt x="434" y="764"/>
                    </a:lnTo>
                    <a:lnTo>
                      <a:pt x="439" y="757"/>
                    </a:lnTo>
                    <a:lnTo>
                      <a:pt x="439" y="749"/>
                    </a:lnTo>
                    <a:lnTo>
                      <a:pt x="439" y="740"/>
                    </a:lnTo>
                    <a:lnTo>
                      <a:pt x="442" y="733"/>
                    </a:lnTo>
                    <a:lnTo>
                      <a:pt x="445" y="728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7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0"/>
                    </a:lnTo>
                    <a:lnTo>
                      <a:pt x="438" y="644"/>
                    </a:lnTo>
                    <a:lnTo>
                      <a:pt x="442" y="622"/>
                    </a:lnTo>
                    <a:lnTo>
                      <a:pt x="447" y="601"/>
                    </a:lnTo>
                    <a:lnTo>
                      <a:pt x="456" y="578"/>
                    </a:lnTo>
                    <a:lnTo>
                      <a:pt x="442" y="595"/>
                    </a:lnTo>
                    <a:lnTo>
                      <a:pt x="425" y="611"/>
                    </a:lnTo>
                    <a:lnTo>
                      <a:pt x="413" y="625"/>
                    </a:lnTo>
                    <a:lnTo>
                      <a:pt x="397" y="639"/>
                    </a:lnTo>
                    <a:lnTo>
                      <a:pt x="384" y="650"/>
                    </a:lnTo>
                    <a:lnTo>
                      <a:pt x="367" y="663"/>
                    </a:lnTo>
                    <a:lnTo>
                      <a:pt x="352" y="675"/>
                    </a:lnTo>
                    <a:lnTo>
                      <a:pt x="333" y="686"/>
                    </a:lnTo>
                    <a:lnTo>
                      <a:pt x="314" y="697"/>
                    </a:lnTo>
                    <a:lnTo>
                      <a:pt x="298" y="703"/>
                    </a:lnTo>
                    <a:lnTo>
                      <a:pt x="281" y="710"/>
                    </a:lnTo>
                    <a:lnTo>
                      <a:pt x="266" y="715"/>
                    </a:lnTo>
                    <a:lnTo>
                      <a:pt x="251" y="771"/>
                    </a:lnTo>
                    <a:lnTo>
                      <a:pt x="250" y="786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3" y="869"/>
                    </a:lnTo>
                    <a:lnTo>
                      <a:pt x="214" y="878"/>
                    </a:lnTo>
                    <a:lnTo>
                      <a:pt x="212" y="887"/>
                    </a:lnTo>
                    <a:lnTo>
                      <a:pt x="205" y="898"/>
                    </a:lnTo>
                    <a:lnTo>
                      <a:pt x="196" y="905"/>
                    </a:lnTo>
                    <a:lnTo>
                      <a:pt x="182" y="913"/>
                    </a:lnTo>
                    <a:lnTo>
                      <a:pt x="161" y="917"/>
                    </a:lnTo>
                    <a:lnTo>
                      <a:pt x="143" y="917"/>
                    </a:lnTo>
                    <a:lnTo>
                      <a:pt x="125" y="914"/>
                    </a:lnTo>
                    <a:lnTo>
                      <a:pt x="112" y="910"/>
                    </a:lnTo>
                    <a:lnTo>
                      <a:pt x="102" y="901"/>
                    </a:lnTo>
                    <a:lnTo>
                      <a:pt x="94" y="893"/>
                    </a:lnTo>
                    <a:lnTo>
                      <a:pt x="85" y="891"/>
                    </a:lnTo>
                    <a:lnTo>
                      <a:pt x="76" y="876"/>
                    </a:lnTo>
                    <a:lnTo>
                      <a:pt x="70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60" y="773"/>
                    </a:lnTo>
                    <a:lnTo>
                      <a:pt x="69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7" y="641"/>
                    </a:lnTo>
                    <a:lnTo>
                      <a:pt x="60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7" y="625"/>
                    </a:lnTo>
                    <a:lnTo>
                      <a:pt x="30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3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3" y="478"/>
                    </a:lnTo>
                    <a:lnTo>
                      <a:pt x="14" y="474"/>
                    </a:lnTo>
                    <a:lnTo>
                      <a:pt x="16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0" y="434"/>
                    </a:lnTo>
                    <a:lnTo>
                      <a:pt x="35" y="434"/>
                    </a:lnTo>
                    <a:lnTo>
                      <a:pt x="35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7" y="434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8" y="463"/>
                    </a:lnTo>
                    <a:lnTo>
                      <a:pt x="62" y="465"/>
                    </a:lnTo>
                    <a:lnTo>
                      <a:pt x="67" y="465"/>
                    </a:lnTo>
                    <a:lnTo>
                      <a:pt x="70" y="463"/>
                    </a:lnTo>
                    <a:lnTo>
                      <a:pt x="73" y="460"/>
                    </a:lnTo>
                    <a:lnTo>
                      <a:pt x="71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4" y="452"/>
                    </a:lnTo>
                    <a:lnTo>
                      <a:pt x="82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5" y="232"/>
                    </a:lnTo>
                    <a:lnTo>
                      <a:pt x="125" y="213"/>
                    </a:lnTo>
                    <a:lnTo>
                      <a:pt x="136" y="197"/>
                    </a:lnTo>
                    <a:lnTo>
                      <a:pt x="151" y="182"/>
                    </a:lnTo>
                    <a:lnTo>
                      <a:pt x="168" y="173"/>
                    </a:lnTo>
                    <a:lnTo>
                      <a:pt x="177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3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7" y="46"/>
                    </a:lnTo>
                    <a:lnTo>
                      <a:pt x="257" y="33"/>
                    </a:lnTo>
                    <a:lnTo>
                      <a:pt x="266" y="25"/>
                    </a:lnTo>
                    <a:lnTo>
                      <a:pt x="288" y="13"/>
                    </a:lnTo>
                    <a:lnTo>
                      <a:pt x="305" y="6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3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8" y="11"/>
                    </a:lnTo>
                    <a:lnTo>
                      <a:pt x="397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1" y="84"/>
                    </a:lnTo>
                    <a:lnTo>
                      <a:pt x="436" y="92"/>
                    </a:lnTo>
                    <a:lnTo>
                      <a:pt x="439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5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8"/>
                    </a:lnTo>
                    <a:lnTo>
                      <a:pt x="523" y="274"/>
                    </a:lnTo>
                    <a:lnTo>
                      <a:pt x="522" y="280"/>
                    </a:lnTo>
                    <a:lnTo>
                      <a:pt x="518" y="283"/>
                    </a:lnTo>
                    <a:lnTo>
                      <a:pt x="514" y="285"/>
                    </a:lnTo>
                    <a:lnTo>
                      <a:pt x="514" y="290"/>
                    </a:lnTo>
                    <a:lnTo>
                      <a:pt x="512" y="297"/>
                    </a:lnTo>
                    <a:lnTo>
                      <a:pt x="509" y="300"/>
                    </a:lnTo>
                    <a:lnTo>
                      <a:pt x="512" y="303"/>
                    </a:lnTo>
                    <a:lnTo>
                      <a:pt x="514" y="309"/>
                    </a:lnTo>
                    <a:lnTo>
                      <a:pt x="519" y="316"/>
                    </a:lnTo>
                    <a:lnTo>
                      <a:pt x="529" y="322"/>
                    </a:lnTo>
                    <a:lnTo>
                      <a:pt x="536" y="326"/>
                    </a:lnTo>
                    <a:lnTo>
                      <a:pt x="543" y="333"/>
                    </a:lnTo>
                    <a:lnTo>
                      <a:pt x="551" y="337"/>
                    </a:lnTo>
                    <a:lnTo>
                      <a:pt x="569" y="331"/>
                    </a:lnTo>
                    <a:lnTo>
                      <a:pt x="580" y="329"/>
                    </a:lnTo>
                    <a:lnTo>
                      <a:pt x="591" y="326"/>
                    </a:lnTo>
                    <a:lnTo>
                      <a:pt x="598" y="324"/>
                    </a:lnTo>
                    <a:lnTo>
                      <a:pt x="628" y="303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3" y="240"/>
                    </a:lnTo>
                    <a:lnTo>
                      <a:pt x="694" y="233"/>
                    </a:lnTo>
                    <a:lnTo>
                      <a:pt x="697" y="227"/>
                    </a:lnTo>
                    <a:lnTo>
                      <a:pt x="704" y="220"/>
                    </a:lnTo>
                    <a:lnTo>
                      <a:pt x="788" y="217"/>
                    </a:lnTo>
                    <a:lnTo>
                      <a:pt x="732" y="249"/>
                    </a:lnTo>
                    <a:lnTo>
                      <a:pt x="721" y="262"/>
                    </a:lnTo>
                    <a:lnTo>
                      <a:pt x="705" y="289"/>
                    </a:lnTo>
                    <a:lnTo>
                      <a:pt x="707" y="297"/>
                    </a:lnTo>
                    <a:lnTo>
                      <a:pt x="664" y="369"/>
                    </a:lnTo>
                    <a:lnTo>
                      <a:pt x="651" y="408"/>
                    </a:lnTo>
                    <a:lnTo>
                      <a:pt x="634" y="421"/>
                    </a:lnTo>
                    <a:lnTo>
                      <a:pt x="618" y="432"/>
                    </a:lnTo>
                    <a:lnTo>
                      <a:pt x="596" y="442"/>
                    </a:lnTo>
                    <a:lnTo>
                      <a:pt x="582" y="444"/>
                    </a:lnTo>
                    <a:lnTo>
                      <a:pt x="569" y="445"/>
                    </a:lnTo>
                  </a:path>
                </a:pathLst>
              </a:custGeom>
              <a:noFill/>
              <a:ln w="0">
                <a:solidFill>
                  <a:srgbClr val="83818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5054760" y="2163600"/>
                <a:ext cx="196560" cy="55800"/>
              </a:xfrm>
              <a:custGeom>
                <a:avLst/>
                <a:gdLst/>
                <a:ahLst/>
                <a:rect l="l" t="t" r="r" b="b"/>
                <a:pathLst>
                  <a:path w="621" h="176">
                    <a:moveTo>
                      <a:pt x="436" y="86"/>
                    </a:moveTo>
                    <a:lnTo>
                      <a:pt x="427" y="81"/>
                    </a:lnTo>
                    <a:lnTo>
                      <a:pt x="364" y="84"/>
                    </a:lnTo>
                    <a:lnTo>
                      <a:pt x="360" y="88"/>
                    </a:lnTo>
                    <a:lnTo>
                      <a:pt x="430" y="90"/>
                    </a:lnTo>
                    <a:lnTo>
                      <a:pt x="424" y="92"/>
                    </a:lnTo>
                    <a:lnTo>
                      <a:pt x="353" y="92"/>
                    </a:lnTo>
                    <a:lnTo>
                      <a:pt x="268" y="95"/>
                    </a:lnTo>
                    <a:lnTo>
                      <a:pt x="247" y="95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8" y="176"/>
                    </a:lnTo>
                    <a:lnTo>
                      <a:pt x="128" y="136"/>
                    </a:lnTo>
                    <a:lnTo>
                      <a:pt x="124" y="126"/>
                    </a:lnTo>
                    <a:lnTo>
                      <a:pt x="124" y="117"/>
                    </a:lnTo>
                    <a:lnTo>
                      <a:pt x="123" y="113"/>
                    </a:lnTo>
                    <a:lnTo>
                      <a:pt x="120" y="110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7" y="108"/>
                    </a:lnTo>
                    <a:lnTo>
                      <a:pt x="104" y="118"/>
                    </a:lnTo>
                    <a:lnTo>
                      <a:pt x="105" y="122"/>
                    </a:lnTo>
                    <a:lnTo>
                      <a:pt x="105" y="126"/>
                    </a:lnTo>
                    <a:lnTo>
                      <a:pt x="103" y="129"/>
                    </a:lnTo>
                    <a:lnTo>
                      <a:pt x="98" y="131"/>
                    </a:lnTo>
                    <a:lnTo>
                      <a:pt x="119" y="131"/>
                    </a:lnTo>
                    <a:lnTo>
                      <a:pt x="121" y="131"/>
                    </a:lnTo>
                    <a:lnTo>
                      <a:pt x="123" y="129"/>
                    </a:lnTo>
                    <a:lnTo>
                      <a:pt x="124" y="126"/>
                    </a:lnTo>
                    <a:lnTo>
                      <a:pt x="128" y="136"/>
                    </a:lnTo>
                    <a:lnTo>
                      <a:pt x="82" y="136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39"/>
                    </a:lnTo>
                    <a:lnTo>
                      <a:pt x="42" y="39"/>
                    </a:lnTo>
                    <a:lnTo>
                      <a:pt x="49" y="19"/>
                    </a:lnTo>
                    <a:lnTo>
                      <a:pt x="52" y="19"/>
                    </a:lnTo>
                    <a:lnTo>
                      <a:pt x="54" y="10"/>
                    </a:lnTo>
                    <a:lnTo>
                      <a:pt x="60" y="4"/>
                    </a:lnTo>
                    <a:lnTo>
                      <a:pt x="66" y="3"/>
                    </a:lnTo>
                    <a:lnTo>
                      <a:pt x="179" y="13"/>
                    </a:lnTo>
                    <a:lnTo>
                      <a:pt x="184" y="15"/>
                    </a:lnTo>
                    <a:lnTo>
                      <a:pt x="189" y="20"/>
                    </a:lnTo>
                    <a:lnTo>
                      <a:pt x="191" y="24"/>
                    </a:lnTo>
                    <a:lnTo>
                      <a:pt x="191" y="30"/>
                    </a:lnTo>
                    <a:lnTo>
                      <a:pt x="190" y="35"/>
                    </a:lnTo>
                    <a:lnTo>
                      <a:pt x="189" y="37"/>
                    </a:lnTo>
                    <a:lnTo>
                      <a:pt x="182" y="37"/>
                    </a:lnTo>
                    <a:lnTo>
                      <a:pt x="183" y="34"/>
                    </a:lnTo>
                    <a:lnTo>
                      <a:pt x="185" y="29"/>
                    </a:lnTo>
                    <a:lnTo>
                      <a:pt x="185" y="24"/>
                    </a:lnTo>
                    <a:lnTo>
                      <a:pt x="182" y="21"/>
                    </a:lnTo>
                    <a:lnTo>
                      <a:pt x="176" y="19"/>
                    </a:lnTo>
                    <a:lnTo>
                      <a:pt x="92" y="19"/>
                    </a:lnTo>
                    <a:lnTo>
                      <a:pt x="88" y="23"/>
                    </a:lnTo>
                    <a:lnTo>
                      <a:pt x="86" y="27"/>
                    </a:lnTo>
                    <a:lnTo>
                      <a:pt x="84" y="33"/>
                    </a:lnTo>
                    <a:lnTo>
                      <a:pt x="84" y="36"/>
                    </a:lnTo>
                    <a:lnTo>
                      <a:pt x="86" y="38"/>
                    </a:lnTo>
                    <a:lnTo>
                      <a:pt x="90" y="39"/>
                    </a:lnTo>
                    <a:lnTo>
                      <a:pt x="176" y="39"/>
                    </a:lnTo>
                    <a:lnTo>
                      <a:pt x="182" y="37"/>
                    </a:lnTo>
                    <a:lnTo>
                      <a:pt x="189" y="37"/>
                    </a:lnTo>
                    <a:lnTo>
                      <a:pt x="441" y="37"/>
                    </a:lnTo>
                    <a:lnTo>
                      <a:pt x="446" y="38"/>
                    </a:lnTo>
                    <a:lnTo>
                      <a:pt x="447" y="39"/>
                    </a:lnTo>
                    <a:lnTo>
                      <a:pt x="475" y="39"/>
                    </a:lnTo>
                    <a:lnTo>
                      <a:pt x="474" y="27"/>
                    </a:lnTo>
                    <a:lnTo>
                      <a:pt x="470" y="27"/>
                    </a:lnTo>
                    <a:lnTo>
                      <a:pt x="470" y="14"/>
                    </a:lnTo>
                    <a:lnTo>
                      <a:pt x="462" y="14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1" y="37"/>
                    </a:lnTo>
                    <a:lnTo>
                      <a:pt x="465" y="2"/>
                    </a:lnTo>
                    <a:lnTo>
                      <a:pt x="470" y="0"/>
                    </a:lnTo>
                    <a:lnTo>
                      <a:pt x="475" y="2"/>
                    </a:lnTo>
                    <a:lnTo>
                      <a:pt x="478" y="6"/>
                    </a:lnTo>
                    <a:lnTo>
                      <a:pt x="481" y="48"/>
                    </a:lnTo>
                    <a:lnTo>
                      <a:pt x="550" y="48"/>
                    </a:lnTo>
                    <a:lnTo>
                      <a:pt x="556" y="44"/>
                    </a:lnTo>
                    <a:lnTo>
                      <a:pt x="605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4"/>
                    </a:lnTo>
                    <a:lnTo>
                      <a:pt x="608" y="64"/>
                    </a:lnTo>
                    <a:lnTo>
                      <a:pt x="601" y="60"/>
                    </a:lnTo>
                    <a:lnTo>
                      <a:pt x="481" y="60"/>
                    </a:lnTo>
                    <a:lnTo>
                      <a:pt x="481" y="66"/>
                    </a:lnTo>
                    <a:lnTo>
                      <a:pt x="470" y="66"/>
                    </a:lnTo>
                    <a:lnTo>
                      <a:pt x="470" y="64"/>
                    </a:lnTo>
                    <a:lnTo>
                      <a:pt x="450" y="64"/>
                    </a:lnTo>
                    <a:lnTo>
                      <a:pt x="450" y="75"/>
                    </a:lnTo>
                    <a:lnTo>
                      <a:pt x="443" y="75"/>
                    </a:lnTo>
                    <a:lnTo>
                      <a:pt x="436" y="86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5133960" y="2438280"/>
                <a:ext cx="223920" cy="128880"/>
              </a:xfrm>
              <a:custGeom>
                <a:avLst/>
                <a:gdLst/>
                <a:ahLst/>
                <a:rect l="l" t="t" r="r" b="b"/>
                <a:pathLst>
                  <a:path w="702" h="407">
                    <a:moveTo>
                      <a:pt x="359" y="401"/>
                    </a:moveTo>
                    <a:lnTo>
                      <a:pt x="348" y="393"/>
                    </a:lnTo>
                    <a:lnTo>
                      <a:pt x="335" y="383"/>
                    </a:lnTo>
                    <a:lnTo>
                      <a:pt x="336" y="399"/>
                    </a:lnTo>
                    <a:lnTo>
                      <a:pt x="335" y="402"/>
                    </a:lnTo>
                    <a:lnTo>
                      <a:pt x="305" y="404"/>
                    </a:lnTo>
                    <a:lnTo>
                      <a:pt x="274" y="406"/>
                    </a:lnTo>
                    <a:lnTo>
                      <a:pt x="244" y="407"/>
                    </a:lnTo>
                    <a:lnTo>
                      <a:pt x="212" y="407"/>
                    </a:lnTo>
                    <a:lnTo>
                      <a:pt x="181" y="407"/>
                    </a:lnTo>
                    <a:lnTo>
                      <a:pt x="150" y="406"/>
                    </a:lnTo>
                    <a:lnTo>
                      <a:pt x="118" y="404"/>
                    </a:lnTo>
                    <a:lnTo>
                      <a:pt x="87" y="402"/>
                    </a:lnTo>
                    <a:lnTo>
                      <a:pt x="76" y="401"/>
                    </a:lnTo>
                    <a:lnTo>
                      <a:pt x="65" y="399"/>
                    </a:lnTo>
                    <a:lnTo>
                      <a:pt x="54" y="398"/>
                    </a:lnTo>
                    <a:lnTo>
                      <a:pt x="43" y="397"/>
                    </a:lnTo>
                    <a:lnTo>
                      <a:pt x="32" y="396"/>
                    </a:lnTo>
                    <a:lnTo>
                      <a:pt x="21" y="395"/>
                    </a:lnTo>
                    <a:lnTo>
                      <a:pt x="10" y="394"/>
                    </a:lnTo>
                    <a:lnTo>
                      <a:pt x="0" y="392"/>
                    </a:lnTo>
                    <a:lnTo>
                      <a:pt x="14" y="332"/>
                    </a:lnTo>
                    <a:lnTo>
                      <a:pt x="19" y="317"/>
                    </a:lnTo>
                    <a:lnTo>
                      <a:pt x="23" y="307"/>
                    </a:lnTo>
                    <a:lnTo>
                      <a:pt x="31" y="297"/>
                    </a:lnTo>
                    <a:lnTo>
                      <a:pt x="24" y="275"/>
                    </a:lnTo>
                    <a:lnTo>
                      <a:pt x="22" y="261"/>
                    </a:lnTo>
                    <a:lnTo>
                      <a:pt x="23" y="248"/>
                    </a:lnTo>
                    <a:lnTo>
                      <a:pt x="28" y="232"/>
                    </a:lnTo>
                    <a:lnTo>
                      <a:pt x="40" y="213"/>
                    </a:lnTo>
                    <a:lnTo>
                      <a:pt x="50" y="197"/>
                    </a:lnTo>
                    <a:lnTo>
                      <a:pt x="65" y="183"/>
                    </a:lnTo>
                    <a:lnTo>
                      <a:pt x="81" y="174"/>
                    </a:lnTo>
                    <a:lnTo>
                      <a:pt x="90" y="164"/>
                    </a:lnTo>
                    <a:lnTo>
                      <a:pt x="100" y="157"/>
                    </a:lnTo>
                    <a:lnTo>
                      <a:pt x="110" y="155"/>
                    </a:lnTo>
                    <a:lnTo>
                      <a:pt x="119" y="155"/>
                    </a:lnTo>
                    <a:lnTo>
                      <a:pt x="130" y="157"/>
                    </a:lnTo>
                    <a:lnTo>
                      <a:pt x="154" y="153"/>
                    </a:lnTo>
                    <a:lnTo>
                      <a:pt x="156" y="144"/>
                    </a:lnTo>
                    <a:lnTo>
                      <a:pt x="153" y="130"/>
                    </a:lnTo>
                    <a:lnTo>
                      <a:pt x="155" y="129"/>
                    </a:lnTo>
                    <a:lnTo>
                      <a:pt x="153" y="113"/>
                    </a:lnTo>
                    <a:lnTo>
                      <a:pt x="152" y="98"/>
                    </a:lnTo>
                    <a:lnTo>
                      <a:pt x="152" y="81"/>
                    </a:lnTo>
                    <a:lnTo>
                      <a:pt x="155" y="64"/>
                    </a:lnTo>
                    <a:lnTo>
                      <a:pt x="162" y="46"/>
                    </a:lnTo>
                    <a:lnTo>
                      <a:pt x="171" y="33"/>
                    </a:lnTo>
                    <a:lnTo>
                      <a:pt x="179" y="25"/>
                    </a:lnTo>
                    <a:lnTo>
                      <a:pt x="203" y="13"/>
                    </a:lnTo>
                    <a:lnTo>
                      <a:pt x="219" y="6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66" y="0"/>
                    </a:lnTo>
                    <a:lnTo>
                      <a:pt x="281" y="2"/>
                    </a:lnTo>
                    <a:lnTo>
                      <a:pt x="292" y="5"/>
                    </a:lnTo>
                    <a:lnTo>
                      <a:pt x="302" y="10"/>
                    </a:lnTo>
                    <a:lnTo>
                      <a:pt x="310" y="20"/>
                    </a:lnTo>
                    <a:lnTo>
                      <a:pt x="319" y="32"/>
                    </a:lnTo>
                    <a:lnTo>
                      <a:pt x="331" y="56"/>
                    </a:lnTo>
                    <a:lnTo>
                      <a:pt x="344" y="85"/>
                    </a:lnTo>
                    <a:lnTo>
                      <a:pt x="350" y="92"/>
                    </a:lnTo>
                    <a:lnTo>
                      <a:pt x="353" y="98"/>
                    </a:lnTo>
                    <a:lnTo>
                      <a:pt x="351" y="102"/>
                    </a:lnTo>
                    <a:lnTo>
                      <a:pt x="346" y="108"/>
                    </a:lnTo>
                    <a:lnTo>
                      <a:pt x="328" y="113"/>
                    </a:lnTo>
                    <a:lnTo>
                      <a:pt x="330" y="129"/>
                    </a:lnTo>
                    <a:lnTo>
                      <a:pt x="331" y="143"/>
                    </a:lnTo>
                    <a:lnTo>
                      <a:pt x="331" y="154"/>
                    </a:lnTo>
                    <a:lnTo>
                      <a:pt x="340" y="155"/>
                    </a:lnTo>
                    <a:lnTo>
                      <a:pt x="350" y="176"/>
                    </a:lnTo>
                    <a:lnTo>
                      <a:pt x="432" y="262"/>
                    </a:lnTo>
                    <a:lnTo>
                      <a:pt x="436" y="268"/>
                    </a:lnTo>
                    <a:lnTo>
                      <a:pt x="437" y="274"/>
                    </a:lnTo>
                    <a:lnTo>
                      <a:pt x="436" y="281"/>
                    </a:lnTo>
                    <a:lnTo>
                      <a:pt x="432" y="284"/>
                    </a:lnTo>
                    <a:lnTo>
                      <a:pt x="428" y="285"/>
                    </a:lnTo>
                    <a:lnTo>
                      <a:pt x="428" y="291"/>
                    </a:lnTo>
                    <a:lnTo>
                      <a:pt x="426" y="297"/>
                    </a:lnTo>
                    <a:lnTo>
                      <a:pt x="423" y="300"/>
                    </a:lnTo>
                    <a:lnTo>
                      <a:pt x="426" y="304"/>
                    </a:lnTo>
                    <a:lnTo>
                      <a:pt x="428" y="309"/>
                    </a:lnTo>
                    <a:lnTo>
                      <a:pt x="434" y="316"/>
                    </a:lnTo>
                    <a:lnTo>
                      <a:pt x="443" y="322"/>
                    </a:lnTo>
                    <a:lnTo>
                      <a:pt x="450" y="327"/>
                    </a:lnTo>
                    <a:lnTo>
                      <a:pt x="457" y="332"/>
                    </a:lnTo>
                    <a:lnTo>
                      <a:pt x="464" y="338"/>
                    </a:lnTo>
                    <a:lnTo>
                      <a:pt x="483" y="331"/>
                    </a:lnTo>
                    <a:lnTo>
                      <a:pt x="494" y="329"/>
                    </a:lnTo>
                    <a:lnTo>
                      <a:pt x="505" y="327"/>
                    </a:lnTo>
                    <a:lnTo>
                      <a:pt x="512" y="324"/>
                    </a:lnTo>
                    <a:lnTo>
                      <a:pt x="543" y="304"/>
                    </a:lnTo>
                    <a:lnTo>
                      <a:pt x="580" y="262"/>
                    </a:lnTo>
                    <a:lnTo>
                      <a:pt x="586" y="263"/>
                    </a:lnTo>
                    <a:lnTo>
                      <a:pt x="606" y="240"/>
                    </a:lnTo>
                    <a:lnTo>
                      <a:pt x="608" y="233"/>
                    </a:lnTo>
                    <a:lnTo>
                      <a:pt x="612" y="228"/>
                    </a:lnTo>
                    <a:lnTo>
                      <a:pt x="617" y="220"/>
                    </a:lnTo>
                    <a:lnTo>
                      <a:pt x="702" y="218"/>
                    </a:lnTo>
                    <a:lnTo>
                      <a:pt x="646" y="250"/>
                    </a:lnTo>
                    <a:lnTo>
                      <a:pt x="635" y="262"/>
                    </a:lnTo>
                    <a:lnTo>
                      <a:pt x="619" y="289"/>
                    </a:lnTo>
                    <a:lnTo>
                      <a:pt x="621" y="297"/>
                    </a:lnTo>
                    <a:lnTo>
                      <a:pt x="582" y="362"/>
                    </a:lnTo>
                    <a:lnTo>
                      <a:pt x="555" y="368"/>
                    </a:lnTo>
                    <a:lnTo>
                      <a:pt x="527" y="375"/>
                    </a:lnTo>
                    <a:lnTo>
                      <a:pt x="499" y="380"/>
                    </a:lnTo>
                    <a:lnTo>
                      <a:pt x="472" y="385"/>
                    </a:lnTo>
                    <a:lnTo>
                      <a:pt x="443" y="390"/>
                    </a:lnTo>
                    <a:lnTo>
                      <a:pt x="415" y="394"/>
                    </a:lnTo>
                    <a:lnTo>
                      <a:pt x="387" y="397"/>
                    </a:lnTo>
                    <a:lnTo>
                      <a:pt x="359" y="40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5133960" y="2438280"/>
                <a:ext cx="223920" cy="123840"/>
              </a:xfrm>
              <a:custGeom>
                <a:avLst/>
                <a:gdLst/>
                <a:ahLst/>
                <a:rect l="l" t="t" r="r" b="b"/>
                <a:pathLst>
                  <a:path w="702" h="392">
                    <a:moveTo>
                      <a:pt x="0" y="392"/>
                    </a:moveTo>
                    <a:lnTo>
                      <a:pt x="14" y="332"/>
                    </a:lnTo>
                    <a:lnTo>
                      <a:pt x="19" y="317"/>
                    </a:lnTo>
                    <a:lnTo>
                      <a:pt x="23" y="307"/>
                    </a:lnTo>
                    <a:lnTo>
                      <a:pt x="31" y="297"/>
                    </a:lnTo>
                    <a:lnTo>
                      <a:pt x="24" y="275"/>
                    </a:lnTo>
                    <a:lnTo>
                      <a:pt x="22" y="261"/>
                    </a:lnTo>
                    <a:lnTo>
                      <a:pt x="23" y="248"/>
                    </a:lnTo>
                    <a:lnTo>
                      <a:pt x="28" y="232"/>
                    </a:lnTo>
                    <a:lnTo>
                      <a:pt x="40" y="213"/>
                    </a:lnTo>
                    <a:lnTo>
                      <a:pt x="50" y="197"/>
                    </a:lnTo>
                    <a:lnTo>
                      <a:pt x="65" y="183"/>
                    </a:lnTo>
                    <a:lnTo>
                      <a:pt x="81" y="174"/>
                    </a:lnTo>
                    <a:lnTo>
                      <a:pt x="90" y="164"/>
                    </a:lnTo>
                    <a:lnTo>
                      <a:pt x="100" y="157"/>
                    </a:lnTo>
                    <a:lnTo>
                      <a:pt x="110" y="155"/>
                    </a:lnTo>
                    <a:lnTo>
                      <a:pt x="119" y="155"/>
                    </a:lnTo>
                    <a:lnTo>
                      <a:pt x="130" y="157"/>
                    </a:lnTo>
                    <a:lnTo>
                      <a:pt x="154" y="153"/>
                    </a:lnTo>
                    <a:lnTo>
                      <a:pt x="156" y="144"/>
                    </a:lnTo>
                    <a:lnTo>
                      <a:pt x="153" y="130"/>
                    </a:lnTo>
                    <a:lnTo>
                      <a:pt x="155" y="129"/>
                    </a:lnTo>
                    <a:lnTo>
                      <a:pt x="153" y="113"/>
                    </a:lnTo>
                    <a:lnTo>
                      <a:pt x="152" y="98"/>
                    </a:lnTo>
                    <a:lnTo>
                      <a:pt x="152" y="81"/>
                    </a:lnTo>
                    <a:lnTo>
                      <a:pt x="155" y="64"/>
                    </a:lnTo>
                    <a:lnTo>
                      <a:pt x="162" y="46"/>
                    </a:lnTo>
                    <a:lnTo>
                      <a:pt x="171" y="33"/>
                    </a:lnTo>
                    <a:lnTo>
                      <a:pt x="179" y="25"/>
                    </a:lnTo>
                    <a:lnTo>
                      <a:pt x="203" y="13"/>
                    </a:lnTo>
                    <a:lnTo>
                      <a:pt x="219" y="6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66" y="0"/>
                    </a:lnTo>
                    <a:lnTo>
                      <a:pt x="281" y="2"/>
                    </a:lnTo>
                    <a:lnTo>
                      <a:pt x="292" y="5"/>
                    </a:lnTo>
                    <a:lnTo>
                      <a:pt x="302" y="10"/>
                    </a:lnTo>
                    <a:lnTo>
                      <a:pt x="310" y="20"/>
                    </a:lnTo>
                    <a:lnTo>
                      <a:pt x="319" y="32"/>
                    </a:lnTo>
                    <a:lnTo>
                      <a:pt x="331" y="56"/>
                    </a:lnTo>
                    <a:lnTo>
                      <a:pt x="344" y="85"/>
                    </a:lnTo>
                    <a:lnTo>
                      <a:pt x="350" y="92"/>
                    </a:lnTo>
                    <a:lnTo>
                      <a:pt x="353" y="98"/>
                    </a:lnTo>
                    <a:lnTo>
                      <a:pt x="351" y="102"/>
                    </a:lnTo>
                    <a:lnTo>
                      <a:pt x="346" y="108"/>
                    </a:lnTo>
                    <a:lnTo>
                      <a:pt x="328" y="113"/>
                    </a:lnTo>
                    <a:lnTo>
                      <a:pt x="330" y="129"/>
                    </a:lnTo>
                    <a:lnTo>
                      <a:pt x="331" y="143"/>
                    </a:lnTo>
                    <a:lnTo>
                      <a:pt x="331" y="154"/>
                    </a:lnTo>
                    <a:lnTo>
                      <a:pt x="340" y="155"/>
                    </a:lnTo>
                    <a:lnTo>
                      <a:pt x="350" y="176"/>
                    </a:lnTo>
                    <a:lnTo>
                      <a:pt x="432" y="262"/>
                    </a:lnTo>
                    <a:lnTo>
                      <a:pt x="436" y="268"/>
                    </a:lnTo>
                    <a:lnTo>
                      <a:pt x="437" y="274"/>
                    </a:lnTo>
                    <a:lnTo>
                      <a:pt x="436" y="281"/>
                    </a:lnTo>
                    <a:lnTo>
                      <a:pt x="432" y="284"/>
                    </a:lnTo>
                    <a:lnTo>
                      <a:pt x="428" y="285"/>
                    </a:lnTo>
                    <a:lnTo>
                      <a:pt x="428" y="291"/>
                    </a:lnTo>
                    <a:lnTo>
                      <a:pt x="426" y="297"/>
                    </a:lnTo>
                    <a:lnTo>
                      <a:pt x="423" y="300"/>
                    </a:lnTo>
                    <a:lnTo>
                      <a:pt x="426" y="304"/>
                    </a:lnTo>
                    <a:lnTo>
                      <a:pt x="428" y="309"/>
                    </a:lnTo>
                    <a:lnTo>
                      <a:pt x="434" y="316"/>
                    </a:lnTo>
                    <a:lnTo>
                      <a:pt x="443" y="322"/>
                    </a:lnTo>
                    <a:lnTo>
                      <a:pt x="450" y="327"/>
                    </a:lnTo>
                    <a:lnTo>
                      <a:pt x="457" y="332"/>
                    </a:lnTo>
                    <a:lnTo>
                      <a:pt x="464" y="338"/>
                    </a:lnTo>
                    <a:lnTo>
                      <a:pt x="483" y="331"/>
                    </a:lnTo>
                    <a:lnTo>
                      <a:pt x="494" y="329"/>
                    </a:lnTo>
                    <a:lnTo>
                      <a:pt x="505" y="327"/>
                    </a:lnTo>
                    <a:lnTo>
                      <a:pt x="512" y="324"/>
                    </a:lnTo>
                    <a:lnTo>
                      <a:pt x="543" y="304"/>
                    </a:lnTo>
                    <a:lnTo>
                      <a:pt x="580" y="262"/>
                    </a:lnTo>
                    <a:lnTo>
                      <a:pt x="586" y="263"/>
                    </a:lnTo>
                    <a:lnTo>
                      <a:pt x="606" y="240"/>
                    </a:lnTo>
                    <a:lnTo>
                      <a:pt x="608" y="233"/>
                    </a:lnTo>
                    <a:lnTo>
                      <a:pt x="612" y="228"/>
                    </a:lnTo>
                    <a:lnTo>
                      <a:pt x="617" y="220"/>
                    </a:lnTo>
                    <a:lnTo>
                      <a:pt x="702" y="218"/>
                    </a:lnTo>
                    <a:lnTo>
                      <a:pt x="646" y="250"/>
                    </a:lnTo>
                    <a:lnTo>
                      <a:pt x="635" y="262"/>
                    </a:lnTo>
                    <a:lnTo>
                      <a:pt x="619" y="289"/>
                    </a:lnTo>
                    <a:lnTo>
                      <a:pt x="621" y="297"/>
                    </a:lnTo>
                    <a:lnTo>
                      <a:pt x="582" y="3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5245200" y="2478240"/>
                <a:ext cx="198360" cy="55440"/>
              </a:xfrm>
              <a:custGeom>
                <a:avLst/>
                <a:gdLst/>
                <a:ahLst/>
                <a:rect l="l" t="t" r="r" b="b"/>
                <a:pathLst>
                  <a:path w="621" h="176">
                    <a:moveTo>
                      <a:pt x="436" y="84"/>
                    </a:moveTo>
                    <a:lnTo>
                      <a:pt x="427" y="81"/>
                    </a:lnTo>
                    <a:lnTo>
                      <a:pt x="363" y="83"/>
                    </a:lnTo>
                    <a:lnTo>
                      <a:pt x="360" y="88"/>
                    </a:lnTo>
                    <a:lnTo>
                      <a:pt x="430" y="90"/>
                    </a:lnTo>
                    <a:lnTo>
                      <a:pt x="425" y="92"/>
                    </a:lnTo>
                    <a:lnTo>
                      <a:pt x="352" y="92"/>
                    </a:lnTo>
                    <a:lnTo>
                      <a:pt x="268" y="94"/>
                    </a:lnTo>
                    <a:lnTo>
                      <a:pt x="248" y="94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8" y="176"/>
                    </a:lnTo>
                    <a:lnTo>
                      <a:pt x="128" y="136"/>
                    </a:lnTo>
                    <a:lnTo>
                      <a:pt x="125" y="125"/>
                    </a:lnTo>
                    <a:lnTo>
                      <a:pt x="125" y="116"/>
                    </a:lnTo>
                    <a:lnTo>
                      <a:pt x="122" y="112"/>
                    </a:lnTo>
                    <a:lnTo>
                      <a:pt x="120" y="110"/>
                    </a:lnTo>
                    <a:lnTo>
                      <a:pt x="118" y="108"/>
                    </a:lnTo>
                    <a:lnTo>
                      <a:pt x="116" y="108"/>
                    </a:lnTo>
                    <a:lnTo>
                      <a:pt x="98" y="107"/>
                    </a:lnTo>
                    <a:lnTo>
                      <a:pt x="104" y="117"/>
                    </a:lnTo>
                    <a:lnTo>
                      <a:pt x="105" y="122"/>
                    </a:lnTo>
                    <a:lnTo>
                      <a:pt x="105" y="125"/>
                    </a:lnTo>
                    <a:lnTo>
                      <a:pt x="103" y="128"/>
                    </a:lnTo>
                    <a:lnTo>
                      <a:pt x="99" y="130"/>
                    </a:lnTo>
                    <a:lnTo>
                      <a:pt x="119" y="130"/>
                    </a:lnTo>
                    <a:lnTo>
                      <a:pt x="121" y="130"/>
                    </a:lnTo>
                    <a:lnTo>
                      <a:pt x="122" y="128"/>
                    </a:lnTo>
                    <a:lnTo>
                      <a:pt x="125" y="125"/>
                    </a:lnTo>
                    <a:lnTo>
                      <a:pt x="128" y="136"/>
                    </a:lnTo>
                    <a:lnTo>
                      <a:pt x="82" y="136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39"/>
                    </a:lnTo>
                    <a:lnTo>
                      <a:pt x="42" y="39"/>
                    </a:lnTo>
                    <a:lnTo>
                      <a:pt x="49" y="17"/>
                    </a:lnTo>
                    <a:lnTo>
                      <a:pt x="52" y="17"/>
                    </a:lnTo>
                    <a:lnTo>
                      <a:pt x="54" y="9"/>
                    </a:lnTo>
                    <a:lnTo>
                      <a:pt x="60" y="4"/>
                    </a:lnTo>
                    <a:lnTo>
                      <a:pt x="66" y="3"/>
                    </a:lnTo>
                    <a:lnTo>
                      <a:pt x="180" y="13"/>
                    </a:lnTo>
                    <a:lnTo>
                      <a:pt x="184" y="15"/>
                    </a:lnTo>
                    <a:lnTo>
                      <a:pt x="188" y="18"/>
                    </a:lnTo>
                    <a:lnTo>
                      <a:pt x="191" y="24"/>
                    </a:lnTo>
                    <a:lnTo>
                      <a:pt x="191" y="29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4"/>
                    </a:lnTo>
                    <a:lnTo>
                      <a:pt x="185" y="28"/>
                    </a:lnTo>
                    <a:lnTo>
                      <a:pt x="185" y="24"/>
                    </a:lnTo>
                    <a:lnTo>
                      <a:pt x="182" y="19"/>
                    </a:lnTo>
                    <a:lnTo>
                      <a:pt x="176" y="17"/>
                    </a:lnTo>
                    <a:lnTo>
                      <a:pt x="92" y="17"/>
                    </a:lnTo>
                    <a:lnTo>
                      <a:pt x="88" y="23"/>
                    </a:lnTo>
                    <a:lnTo>
                      <a:pt x="86" y="27"/>
                    </a:lnTo>
                    <a:lnTo>
                      <a:pt x="85" y="31"/>
                    </a:lnTo>
                    <a:lnTo>
                      <a:pt x="85" y="36"/>
                    </a:lnTo>
                    <a:lnTo>
                      <a:pt x="86" y="38"/>
                    </a:lnTo>
                    <a:lnTo>
                      <a:pt x="89" y="39"/>
                    </a:lnTo>
                    <a:lnTo>
                      <a:pt x="176" y="39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39"/>
                    </a:lnTo>
                    <a:lnTo>
                      <a:pt x="475" y="39"/>
                    </a:lnTo>
                    <a:lnTo>
                      <a:pt x="474" y="27"/>
                    </a:lnTo>
                    <a:lnTo>
                      <a:pt x="470" y="27"/>
                    </a:lnTo>
                    <a:lnTo>
                      <a:pt x="470" y="14"/>
                    </a:lnTo>
                    <a:lnTo>
                      <a:pt x="461" y="14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6" y="2"/>
                    </a:lnTo>
                    <a:lnTo>
                      <a:pt x="470" y="0"/>
                    </a:lnTo>
                    <a:lnTo>
                      <a:pt x="475" y="2"/>
                    </a:lnTo>
                    <a:lnTo>
                      <a:pt x="479" y="5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4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3"/>
                    </a:lnTo>
                    <a:lnTo>
                      <a:pt x="608" y="63"/>
                    </a:lnTo>
                    <a:lnTo>
                      <a:pt x="602" y="59"/>
                    </a:lnTo>
                    <a:lnTo>
                      <a:pt x="481" y="59"/>
                    </a:lnTo>
                    <a:lnTo>
                      <a:pt x="481" y="66"/>
                    </a:lnTo>
                    <a:lnTo>
                      <a:pt x="470" y="66"/>
                    </a:lnTo>
                    <a:lnTo>
                      <a:pt x="470" y="63"/>
                    </a:lnTo>
                    <a:lnTo>
                      <a:pt x="449" y="63"/>
                    </a:lnTo>
                    <a:lnTo>
                      <a:pt x="449" y="73"/>
                    </a:lnTo>
                    <a:lnTo>
                      <a:pt x="443" y="73"/>
                    </a:lnTo>
                    <a:lnTo>
                      <a:pt x="436" y="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5418000" y="1808280"/>
                <a:ext cx="235080" cy="291960"/>
              </a:xfrm>
              <a:custGeom>
                <a:avLst/>
                <a:gdLst/>
                <a:ahLst/>
                <a:rect l="l" t="t" r="r" b="b"/>
                <a:pathLst>
                  <a:path w="740" h="918">
                    <a:moveTo>
                      <a:pt x="417" y="450"/>
                    </a:moveTo>
                    <a:lnTo>
                      <a:pt x="432" y="440"/>
                    </a:lnTo>
                    <a:lnTo>
                      <a:pt x="445" y="432"/>
                    </a:lnTo>
                    <a:lnTo>
                      <a:pt x="458" y="424"/>
                    </a:lnTo>
                    <a:lnTo>
                      <a:pt x="472" y="418"/>
                    </a:lnTo>
                    <a:lnTo>
                      <a:pt x="446" y="402"/>
                    </a:lnTo>
                    <a:lnTo>
                      <a:pt x="434" y="393"/>
                    </a:lnTo>
                    <a:lnTo>
                      <a:pt x="421" y="383"/>
                    </a:lnTo>
                    <a:lnTo>
                      <a:pt x="422" y="401"/>
                    </a:lnTo>
                    <a:lnTo>
                      <a:pt x="419" y="416"/>
                    </a:lnTo>
                    <a:lnTo>
                      <a:pt x="417" y="450"/>
                    </a:lnTo>
                    <a:close/>
                    <a:moveTo>
                      <a:pt x="728" y="220"/>
                    </a:moveTo>
                    <a:lnTo>
                      <a:pt x="729" y="223"/>
                    </a:lnTo>
                    <a:lnTo>
                      <a:pt x="731" y="227"/>
                    </a:lnTo>
                    <a:lnTo>
                      <a:pt x="732" y="230"/>
                    </a:lnTo>
                    <a:lnTo>
                      <a:pt x="733" y="233"/>
                    </a:lnTo>
                    <a:lnTo>
                      <a:pt x="735" y="236"/>
                    </a:lnTo>
                    <a:lnTo>
                      <a:pt x="737" y="240"/>
                    </a:lnTo>
                    <a:lnTo>
                      <a:pt x="738" y="243"/>
                    </a:lnTo>
                    <a:lnTo>
                      <a:pt x="740" y="246"/>
                    </a:lnTo>
                    <a:lnTo>
                      <a:pt x="732" y="250"/>
                    </a:lnTo>
                    <a:lnTo>
                      <a:pt x="721" y="262"/>
                    </a:lnTo>
                    <a:lnTo>
                      <a:pt x="705" y="290"/>
                    </a:lnTo>
                    <a:lnTo>
                      <a:pt x="707" y="297"/>
                    </a:lnTo>
                    <a:lnTo>
                      <a:pt x="664" y="370"/>
                    </a:lnTo>
                    <a:lnTo>
                      <a:pt x="651" y="409"/>
                    </a:lnTo>
                    <a:lnTo>
                      <a:pt x="634" y="422"/>
                    </a:lnTo>
                    <a:lnTo>
                      <a:pt x="617" y="433"/>
                    </a:lnTo>
                    <a:lnTo>
                      <a:pt x="596" y="443"/>
                    </a:lnTo>
                    <a:lnTo>
                      <a:pt x="581" y="445"/>
                    </a:lnTo>
                    <a:lnTo>
                      <a:pt x="568" y="446"/>
                    </a:ln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2"/>
                    </a:lnTo>
                    <a:lnTo>
                      <a:pt x="557" y="620"/>
                    </a:lnTo>
                    <a:lnTo>
                      <a:pt x="547" y="666"/>
                    </a:lnTo>
                    <a:lnTo>
                      <a:pt x="537" y="699"/>
                    </a:lnTo>
                    <a:lnTo>
                      <a:pt x="528" y="704"/>
                    </a:lnTo>
                    <a:lnTo>
                      <a:pt x="520" y="712"/>
                    </a:lnTo>
                    <a:lnTo>
                      <a:pt x="512" y="745"/>
                    </a:lnTo>
                    <a:lnTo>
                      <a:pt x="512" y="752"/>
                    </a:lnTo>
                    <a:lnTo>
                      <a:pt x="515" y="757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3"/>
                    </a:lnTo>
                    <a:lnTo>
                      <a:pt x="526" y="792"/>
                    </a:lnTo>
                    <a:lnTo>
                      <a:pt x="534" y="795"/>
                    </a:lnTo>
                    <a:lnTo>
                      <a:pt x="537" y="798"/>
                    </a:lnTo>
                    <a:lnTo>
                      <a:pt x="541" y="805"/>
                    </a:lnTo>
                    <a:lnTo>
                      <a:pt x="544" y="810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8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8"/>
                    </a:lnTo>
                    <a:lnTo>
                      <a:pt x="565" y="860"/>
                    </a:lnTo>
                    <a:lnTo>
                      <a:pt x="542" y="859"/>
                    </a:lnTo>
                    <a:lnTo>
                      <a:pt x="522" y="854"/>
                    </a:lnTo>
                    <a:lnTo>
                      <a:pt x="499" y="848"/>
                    </a:lnTo>
                    <a:lnTo>
                      <a:pt x="482" y="839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09"/>
                    </a:lnTo>
                    <a:lnTo>
                      <a:pt x="424" y="799"/>
                    </a:lnTo>
                    <a:lnTo>
                      <a:pt x="425" y="790"/>
                    </a:lnTo>
                    <a:lnTo>
                      <a:pt x="427" y="782"/>
                    </a:lnTo>
                    <a:lnTo>
                      <a:pt x="430" y="773"/>
                    </a:lnTo>
                    <a:lnTo>
                      <a:pt x="434" y="765"/>
                    </a:lnTo>
                    <a:lnTo>
                      <a:pt x="439" y="757"/>
                    </a:lnTo>
                    <a:lnTo>
                      <a:pt x="439" y="750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29"/>
                    </a:lnTo>
                    <a:lnTo>
                      <a:pt x="445" y="700"/>
                    </a:lnTo>
                    <a:lnTo>
                      <a:pt x="434" y="696"/>
                    </a:lnTo>
                    <a:lnTo>
                      <a:pt x="435" y="688"/>
                    </a:lnTo>
                    <a:lnTo>
                      <a:pt x="438" y="680"/>
                    </a:lnTo>
                    <a:lnTo>
                      <a:pt x="438" y="672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2" y="623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2"/>
                    </a:lnTo>
                    <a:lnTo>
                      <a:pt x="413" y="625"/>
                    </a:lnTo>
                    <a:lnTo>
                      <a:pt x="397" y="641"/>
                    </a:lnTo>
                    <a:lnTo>
                      <a:pt x="384" y="651"/>
                    </a:lnTo>
                    <a:lnTo>
                      <a:pt x="367" y="664"/>
                    </a:lnTo>
                    <a:lnTo>
                      <a:pt x="351" y="676"/>
                    </a:lnTo>
                    <a:lnTo>
                      <a:pt x="333" y="687"/>
                    </a:lnTo>
                    <a:lnTo>
                      <a:pt x="315" y="698"/>
                    </a:lnTo>
                    <a:lnTo>
                      <a:pt x="297" y="703"/>
                    </a:lnTo>
                    <a:lnTo>
                      <a:pt x="281" y="711"/>
                    </a:lnTo>
                    <a:lnTo>
                      <a:pt x="265" y="716"/>
                    </a:lnTo>
                    <a:lnTo>
                      <a:pt x="251" y="772"/>
                    </a:lnTo>
                    <a:lnTo>
                      <a:pt x="250" y="787"/>
                    </a:lnTo>
                    <a:lnTo>
                      <a:pt x="248" y="805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9"/>
                    </a:lnTo>
                    <a:lnTo>
                      <a:pt x="222" y="870"/>
                    </a:lnTo>
                    <a:lnTo>
                      <a:pt x="214" y="878"/>
                    </a:lnTo>
                    <a:lnTo>
                      <a:pt x="211" y="888"/>
                    </a:lnTo>
                    <a:lnTo>
                      <a:pt x="206" y="898"/>
                    </a:lnTo>
                    <a:lnTo>
                      <a:pt x="196" y="906"/>
                    </a:lnTo>
                    <a:lnTo>
                      <a:pt x="182" y="913"/>
                    </a:lnTo>
                    <a:lnTo>
                      <a:pt x="161" y="918"/>
                    </a:lnTo>
                    <a:lnTo>
                      <a:pt x="143" y="918"/>
                    </a:lnTo>
                    <a:lnTo>
                      <a:pt x="126" y="915"/>
                    </a:lnTo>
                    <a:lnTo>
                      <a:pt x="112" y="910"/>
                    </a:lnTo>
                    <a:lnTo>
                      <a:pt x="102" y="902"/>
                    </a:lnTo>
                    <a:lnTo>
                      <a:pt x="94" y="894"/>
                    </a:lnTo>
                    <a:lnTo>
                      <a:pt x="86" y="892"/>
                    </a:lnTo>
                    <a:lnTo>
                      <a:pt x="76" y="876"/>
                    </a:lnTo>
                    <a:lnTo>
                      <a:pt x="71" y="859"/>
                    </a:lnTo>
                    <a:lnTo>
                      <a:pt x="65" y="843"/>
                    </a:lnTo>
                    <a:lnTo>
                      <a:pt x="62" y="823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6"/>
                    </a:lnTo>
                    <a:lnTo>
                      <a:pt x="73" y="733"/>
                    </a:lnTo>
                    <a:lnTo>
                      <a:pt x="79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1"/>
                    </a:lnTo>
                    <a:lnTo>
                      <a:pt x="66" y="642"/>
                    </a:lnTo>
                    <a:lnTo>
                      <a:pt x="59" y="639"/>
                    </a:lnTo>
                    <a:lnTo>
                      <a:pt x="54" y="636"/>
                    </a:lnTo>
                    <a:lnTo>
                      <a:pt x="51" y="631"/>
                    </a:lnTo>
                    <a:lnTo>
                      <a:pt x="49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2"/>
                    </a:lnTo>
                    <a:lnTo>
                      <a:pt x="24" y="618"/>
                    </a:lnTo>
                    <a:lnTo>
                      <a:pt x="20" y="609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2" y="543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2" y="509"/>
                    </a:lnTo>
                    <a:lnTo>
                      <a:pt x="6" y="499"/>
                    </a:lnTo>
                    <a:lnTo>
                      <a:pt x="7" y="492"/>
                    </a:lnTo>
                    <a:lnTo>
                      <a:pt x="10" y="488"/>
                    </a:lnTo>
                    <a:lnTo>
                      <a:pt x="12" y="480"/>
                    </a:lnTo>
                    <a:lnTo>
                      <a:pt x="13" y="474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9" y="442"/>
                    </a:lnTo>
                    <a:lnTo>
                      <a:pt x="30" y="437"/>
                    </a:lnTo>
                    <a:lnTo>
                      <a:pt x="31" y="435"/>
                    </a:lnTo>
                    <a:lnTo>
                      <a:pt x="34" y="435"/>
                    </a:lnTo>
                    <a:lnTo>
                      <a:pt x="34" y="431"/>
                    </a:lnTo>
                    <a:lnTo>
                      <a:pt x="54" y="431"/>
                    </a:lnTo>
                    <a:lnTo>
                      <a:pt x="54" y="435"/>
                    </a:lnTo>
                    <a:lnTo>
                      <a:pt x="57" y="435"/>
                    </a:lnTo>
                    <a:lnTo>
                      <a:pt x="59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7"/>
                    </a:lnTo>
                    <a:lnTo>
                      <a:pt x="61" y="461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6"/>
                    </a:lnTo>
                    <a:lnTo>
                      <a:pt x="62" y="457"/>
                    </a:lnTo>
                    <a:lnTo>
                      <a:pt x="62" y="449"/>
                    </a:lnTo>
                    <a:lnTo>
                      <a:pt x="74" y="448"/>
                    </a:lnTo>
                    <a:lnTo>
                      <a:pt x="77" y="449"/>
                    </a:lnTo>
                    <a:lnTo>
                      <a:pt x="80" y="450"/>
                    </a:lnTo>
                    <a:lnTo>
                      <a:pt x="85" y="454"/>
                    </a:lnTo>
                    <a:lnTo>
                      <a:pt x="81" y="438"/>
                    </a:lnTo>
                    <a:lnTo>
                      <a:pt x="78" y="424"/>
                    </a:lnTo>
                    <a:lnTo>
                      <a:pt x="100" y="334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1" y="275"/>
                    </a:lnTo>
                    <a:lnTo>
                      <a:pt x="108" y="261"/>
                    </a:lnTo>
                    <a:lnTo>
                      <a:pt x="109" y="248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7"/>
                    </a:lnTo>
                    <a:lnTo>
                      <a:pt x="152" y="183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5"/>
                    </a:lnTo>
                    <a:lnTo>
                      <a:pt x="206" y="155"/>
                    </a:lnTo>
                    <a:lnTo>
                      <a:pt x="216" y="159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30"/>
                    </a:lnTo>
                    <a:lnTo>
                      <a:pt x="241" y="129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3"/>
                    </a:lnTo>
                    <a:lnTo>
                      <a:pt x="265" y="26"/>
                    </a:lnTo>
                    <a:lnTo>
                      <a:pt x="288" y="13"/>
                    </a:lnTo>
                    <a:lnTo>
                      <a:pt x="305" y="7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6"/>
                    </a:lnTo>
                    <a:lnTo>
                      <a:pt x="387" y="11"/>
                    </a:lnTo>
                    <a:lnTo>
                      <a:pt x="397" y="20"/>
                    </a:lnTo>
                    <a:lnTo>
                      <a:pt x="405" y="32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3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1" y="108"/>
                    </a:lnTo>
                    <a:lnTo>
                      <a:pt x="414" y="114"/>
                    </a:lnTo>
                    <a:lnTo>
                      <a:pt x="416" y="129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7" y="262"/>
                    </a:lnTo>
                    <a:lnTo>
                      <a:pt x="522" y="269"/>
                    </a:lnTo>
                    <a:lnTo>
                      <a:pt x="523" y="274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1"/>
                    </a:lnTo>
                    <a:lnTo>
                      <a:pt x="512" y="297"/>
                    </a:lnTo>
                    <a:lnTo>
                      <a:pt x="509" y="301"/>
                    </a:lnTo>
                    <a:lnTo>
                      <a:pt x="512" y="304"/>
                    </a:lnTo>
                    <a:lnTo>
                      <a:pt x="514" y="310"/>
                    </a:lnTo>
                    <a:lnTo>
                      <a:pt x="520" y="316"/>
                    </a:lnTo>
                    <a:lnTo>
                      <a:pt x="528" y="323"/>
                    </a:lnTo>
                    <a:lnTo>
                      <a:pt x="536" y="327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3"/>
                    </a:lnTo>
                    <a:lnTo>
                      <a:pt x="580" y="329"/>
                    </a:lnTo>
                    <a:lnTo>
                      <a:pt x="591" y="327"/>
                    </a:lnTo>
                    <a:lnTo>
                      <a:pt x="598" y="325"/>
                    </a:lnTo>
                    <a:lnTo>
                      <a:pt x="629" y="304"/>
                    </a:lnTo>
                    <a:lnTo>
                      <a:pt x="666" y="262"/>
                    </a:lnTo>
                    <a:lnTo>
                      <a:pt x="671" y="263"/>
                    </a:lnTo>
                    <a:lnTo>
                      <a:pt x="692" y="240"/>
                    </a:lnTo>
                    <a:lnTo>
                      <a:pt x="693" y="234"/>
                    </a:lnTo>
                    <a:lnTo>
                      <a:pt x="698" y="228"/>
                    </a:lnTo>
                    <a:lnTo>
                      <a:pt x="703" y="220"/>
                    </a:lnTo>
                    <a:lnTo>
                      <a:pt x="728" y="220"/>
                    </a:lnTo>
                    <a:close/>
                    <a:moveTo>
                      <a:pt x="84" y="467"/>
                    </a:moveTo>
                    <a:lnTo>
                      <a:pt x="77" y="472"/>
                    </a:lnTo>
                    <a:lnTo>
                      <a:pt x="79" y="476"/>
                    </a:lnTo>
                    <a:lnTo>
                      <a:pt x="81" y="481"/>
                    </a:lnTo>
                    <a:lnTo>
                      <a:pt x="84" y="476"/>
                    </a:lnTo>
                    <a:lnTo>
                      <a:pt x="85" y="471"/>
                    </a:lnTo>
                    <a:lnTo>
                      <a:pt x="84" y="46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5418000" y="1808280"/>
                <a:ext cx="231840" cy="291960"/>
              </a:xfrm>
              <a:custGeom>
                <a:avLst/>
                <a:gdLst/>
                <a:ahLst/>
                <a:rect l="l" t="t" r="r" b="b"/>
                <a:pathLst>
                  <a:path w="728" h="918"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2"/>
                    </a:lnTo>
                    <a:lnTo>
                      <a:pt x="557" y="620"/>
                    </a:lnTo>
                    <a:lnTo>
                      <a:pt x="547" y="666"/>
                    </a:lnTo>
                    <a:lnTo>
                      <a:pt x="537" y="699"/>
                    </a:lnTo>
                    <a:lnTo>
                      <a:pt x="528" y="704"/>
                    </a:lnTo>
                    <a:lnTo>
                      <a:pt x="520" y="712"/>
                    </a:lnTo>
                    <a:lnTo>
                      <a:pt x="512" y="745"/>
                    </a:lnTo>
                    <a:lnTo>
                      <a:pt x="512" y="752"/>
                    </a:lnTo>
                    <a:lnTo>
                      <a:pt x="515" y="757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3"/>
                    </a:lnTo>
                    <a:lnTo>
                      <a:pt x="526" y="792"/>
                    </a:lnTo>
                    <a:lnTo>
                      <a:pt x="534" y="795"/>
                    </a:lnTo>
                    <a:lnTo>
                      <a:pt x="537" y="798"/>
                    </a:lnTo>
                    <a:lnTo>
                      <a:pt x="541" y="805"/>
                    </a:lnTo>
                    <a:lnTo>
                      <a:pt x="544" y="810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8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8"/>
                    </a:lnTo>
                    <a:lnTo>
                      <a:pt x="565" y="860"/>
                    </a:lnTo>
                    <a:lnTo>
                      <a:pt x="542" y="859"/>
                    </a:lnTo>
                    <a:lnTo>
                      <a:pt x="522" y="854"/>
                    </a:lnTo>
                    <a:lnTo>
                      <a:pt x="499" y="848"/>
                    </a:lnTo>
                    <a:lnTo>
                      <a:pt x="482" y="839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09"/>
                    </a:lnTo>
                    <a:lnTo>
                      <a:pt x="424" y="799"/>
                    </a:lnTo>
                    <a:lnTo>
                      <a:pt x="425" y="790"/>
                    </a:lnTo>
                    <a:lnTo>
                      <a:pt x="427" y="782"/>
                    </a:lnTo>
                    <a:lnTo>
                      <a:pt x="430" y="773"/>
                    </a:lnTo>
                    <a:lnTo>
                      <a:pt x="434" y="765"/>
                    </a:lnTo>
                    <a:lnTo>
                      <a:pt x="439" y="757"/>
                    </a:lnTo>
                    <a:lnTo>
                      <a:pt x="439" y="750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29"/>
                    </a:lnTo>
                    <a:lnTo>
                      <a:pt x="445" y="700"/>
                    </a:lnTo>
                    <a:lnTo>
                      <a:pt x="434" y="696"/>
                    </a:lnTo>
                    <a:lnTo>
                      <a:pt x="435" y="688"/>
                    </a:lnTo>
                    <a:lnTo>
                      <a:pt x="438" y="680"/>
                    </a:lnTo>
                    <a:lnTo>
                      <a:pt x="438" y="672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2" y="623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2"/>
                    </a:lnTo>
                    <a:lnTo>
                      <a:pt x="413" y="625"/>
                    </a:lnTo>
                    <a:lnTo>
                      <a:pt x="397" y="641"/>
                    </a:lnTo>
                    <a:lnTo>
                      <a:pt x="384" y="651"/>
                    </a:lnTo>
                    <a:lnTo>
                      <a:pt x="367" y="664"/>
                    </a:lnTo>
                    <a:lnTo>
                      <a:pt x="351" y="676"/>
                    </a:lnTo>
                    <a:lnTo>
                      <a:pt x="333" y="687"/>
                    </a:lnTo>
                    <a:lnTo>
                      <a:pt x="315" y="698"/>
                    </a:lnTo>
                    <a:lnTo>
                      <a:pt x="297" y="703"/>
                    </a:lnTo>
                    <a:lnTo>
                      <a:pt x="281" y="711"/>
                    </a:lnTo>
                    <a:lnTo>
                      <a:pt x="265" y="716"/>
                    </a:lnTo>
                    <a:lnTo>
                      <a:pt x="251" y="772"/>
                    </a:lnTo>
                    <a:lnTo>
                      <a:pt x="250" y="787"/>
                    </a:lnTo>
                    <a:lnTo>
                      <a:pt x="248" y="805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9"/>
                    </a:lnTo>
                    <a:lnTo>
                      <a:pt x="222" y="870"/>
                    </a:lnTo>
                    <a:lnTo>
                      <a:pt x="214" y="878"/>
                    </a:lnTo>
                    <a:lnTo>
                      <a:pt x="211" y="888"/>
                    </a:lnTo>
                    <a:lnTo>
                      <a:pt x="206" y="898"/>
                    </a:lnTo>
                    <a:lnTo>
                      <a:pt x="196" y="906"/>
                    </a:lnTo>
                    <a:lnTo>
                      <a:pt x="182" y="913"/>
                    </a:lnTo>
                    <a:lnTo>
                      <a:pt x="161" y="918"/>
                    </a:lnTo>
                    <a:lnTo>
                      <a:pt x="143" y="918"/>
                    </a:lnTo>
                    <a:lnTo>
                      <a:pt x="126" y="915"/>
                    </a:lnTo>
                    <a:lnTo>
                      <a:pt x="112" y="910"/>
                    </a:lnTo>
                    <a:lnTo>
                      <a:pt x="102" y="902"/>
                    </a:lnTo>
                    <a:lnTo>
                      <a:pt x="94" y="894"/>
                    </a:lnTo>
                    <a:lnTo>
                      <a:pt x="86" y="892"/>
                    </a:lnTo>
                    <a:lnTo>
                      <a:pt x="76" y="876"/>
                    </a:lnTo>
                    <a:lnTo>
                      <a:pt x="71" y="859"/>
                    </a:lnTo>
                    <a:lnTo>
                      <a:pt x="65" y="843"/>
                    </a:lnTo>
                    <a:lnTo>
                      <a:pt x="62" y="823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6"/>
                    </a:lnTo>
                    <a:lnTo>
                      <a:pt x="73" y="733"/>
                    </a:lnTo>
                    <a:lnTo>
                      <a:pt x="79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1"/>
                    </a:lnTo>
                    <a:lnTo>
                      <a:pt x="66" y="642"/>
                    </a:lnTo>
                    <a:lnTo>
                      <a:pt x="59" y="639"/>
                    </a:lnTo>
                    <a:lnTo>
                      <a:pt x="54" y="636"/>
                    </a:lnTo>
                    <a:lnTo>
                      <a:pt x="51" y="631"/>
                    </a:lnTo>
                    <a:lnTo>
                      <a:pt x="49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2"/>
                    </a:lnTo>
                    <a:lnTo>
                      <a:pt x="24" y="618"/>
                    </a:lnTo>
                    <a:lnTo>
                      <a:pt x="20" y="609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2" y="543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2" y="509"/>
                    </a:lnTo>
                    <a:lnTo>
                      <a:pt x="6" y="499"/>
                    </a:lnTo>
                    <a:lnTo>
                      <a:pt x="7" y="492"/>
                    </a:lnTo>
                    <a:lnTo>
                      <a:pt x="10" y="488"/>
                    </a:lnTo>
                    <a:lnTo>
                      <a:pt x="12" y="480"/>
                    </a:lnTo>
                    <a:lnTo>
                      <a:pt x="13" y="474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9" y="442"/>
                    </a:lnTo>
                    <a:lnTo>
                      <a:pt x="30" y="437"/>
                    </a:lnTo>
                    <a:lnTo>
                      <a:pt x="31" y="435"/>
                    </a:lnTo>
                    <a:lnTo>
                      <a:pt x="34" y="435"/>
                    </a:lnTo>
                    <a:lnTo>
                      <a:pt x="34" y="431"/>
                    </a:lnTo>
                    <a:lnTo>
                      <a:pt x="54" y="431"/>
                    </a:lnTo>
                    <a:lnTo>
                      <a:pt x="54" y="435"/>
                    </a:lnTo>
                    <a:lnTo>
                      <a:pt x="57" y="435"/>
                    </a:lnTo>
                    <a:lnTo>
                      <a:pt x="59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7"/>
                    </a:lnTo>
                    <a:lnTo>
                      <a:pt x="61" y="461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6"/>
                    </a:lnTo>
                    <a:lnTo>
                      <a:pt x="62" y="457"/>
                    </a:lnTo>
                    <a:lnTo>
                      <a:pt x="62" y="449"/>
                    </a:lnTo>
                    <a:lnTo>
                      <a:pt x="74" y="448"/>
                    </a:lnTo>
                    <a:lnTo>
                      <a:pt x="77" y="449"/>
                    </a:lnTo>
                    <a:lnTo>
                      <a:pt x="80" y="450"/>
                    </a:lnTo>
                    <a:lnTo>
                      <a:pt x="85" y="454"/>
                    </a:lnTo>
                    <a:lnTo>
                      <a:pt x="81" y="438"/>
                    </a:lnTo>
                    <a:lnTo>
                      <a:pt x="78" y="424"/>
                    </a:lnTo>
                    <a:lnTo>
                      <a:pt x="100" y="334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1" y="275"/>
                    </a:lnTo>
                    <a:lnTo>
                      <a:pt x="108" y="261"/>
                    </a:lnTo>
                    <a:lnTo>
                      <a:pt x="109" y="248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7"/>
                    </a:lnTo>
                    <a:lnTo>
                      <a:pt x="152" y="183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5"/>
                    </a:lnTo>
                    <a:lnTo>
                      <a:pt x="206" y="155"/>
                    </a:lnTo>
                    <a:lnTo>
                      <a:pt x="216" y="159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30"/>
                    </a:lnTo>
                    <a:lnTo>
                      <a:pt x="241" y="129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3"/>
                    </a:lnTo>
                    <a:lnTo>
                      <a:pt x="265" y="26"/>
                    </a:lnTo>
                    <a:lnTo>
                      <a:pt x="288" y="13"/>
                    </a:lnTo>
                    <a:lnTo>
                      <a:pt x="305" y="7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6"/>
                    </a:lnTo>
                    <a:lnTo>
                      <a:pt x="387" y="11"/>
                    </a:lnTo>
                    <a:lnTo>
                      <a:pt x="397" y="20"/>
                    </a:lnTo>
                    <a:lnTo>
                      <a:pt x="405" y="32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3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1" y="108"/>
                    </a:lnTo>
                    <a:lnTo>
                      <a:pt x="414" y="114"/>
                    </a:lnTo>
                    <a:lnTo>
                      <a:pt x="416" y="129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7" y="262"/>
                    </a:lnTo>
                    <a:lnTo>
                      <a:pt x="522" y="269"/>
                    </a:lnTo>
                    <a:lnTo>
                      <a:pt x="523" y="274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1"/>
                    </a:lnTo>
                    <a:lnTo>
                      <a:pt x="512" y="297"/>
                    </a:lnTo>
                    <a:lnTo>
                      <a:pt x="509" y="301"/>
                    </a:lnTo>
                    <a:lnTo>
                      <a:pt x="512" y="304"/>
                    </a:lnTo>
                    <a:lnTo>
                      <a:pt x="514" y="310"/>
                    </a:lnTo>
                    <a:lnTo>
                      <a:pt x="520" y="316"/>
                    </a:lnTo>
                    <a:lnTo>
                      <a:pt x="528" y="323"/>
                    </a:lnTo>
                    <a:lnTo>
                      <a:pt x="536" y="327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3"/>
                    </a:lnTo>
                    <a:lnTo>
                      <a:pt x="580" y="329"/>
                    </a:lnTo>
                    <a:lnTo>
                      <a:pt x="591" y="327"/>
                    </a:lnTo>
                    <a:lnTo>
                      <a:pt x="598" y="325"/>
                    </a:lnTo>
                    <a:lnTo>
                      <a:pt x="629" y="304"/>
                    </a:lnTo>
                    <a:lnTo>
                      <a:pt x="666" y="262"/>
                    </a:lnTo>
                    <a:lnTo>
                      <a:pt x="671" y="263"/>
                    </a:lnTo>
                    <a:lnTo>
                      <a:pt x="692" y="240"/>
                    </a:lnTo>
                    <a:lnTo>
                      <a:pt x="693" y="234"/>
                    </a:lnTo>
                    <a:lnTo>
                      <a:pt x="698" y="228"/>
                    </a:lnTo>
                    <a:lnTo>
                      <a:pt x="703" y="220"/>
                    </a:lnTo>
                    <a:lnTo>
                      <a:pt x="728" y="220"/>
                    </a:lnTo>
                  </a:path>
                </a:pathLst>
              </a:custGeom>
              <a:noFill/>
              <a:ln w="0">
                <a:solidFill>
                  <a:srgbClr val="a9a8a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5599080" y="1886040"/>
                <a:ext cx="54000" cy="63360"/>
              </a:xfrm>
              <a:custGeom>
                <a:avLst/>
                <a:gdLst/>
                <a:ahLst/>
                <a:rect l="l" t="t" r="r" b="b"/>
                <a:pathLst>
                  <a:path w="172" h="200">
                    <a:moveTo>
                      <a:pt x="172" y="0"/>
                    </a:moveTo>
                    <a:lnTo>
                      <a:pt x="164" y="4"/>
                    </a:lnTo>
                    <a:lnTo>
                      <a:pt x="153" y="16"/>
                    </a:lnTo>
                    <a:lnTo>
                      <a:pt x="137" y="44"/>
                    </a:lnTo>
                    <a:lnTo>
                      <a:pt x="139" y="51"/>
                    </a:lnTo>
                    <a:lnTo>
                      <a:pt x="96" y="124"/>
                    </a:lnTo>
                    <a:lnTo>
                      <a:pt x="83" y="163"/>
                    </a:lnTo>
                    <a:lnTo>
                      <a:pt x="66" y="176"/>
                    </a:lnTo>
                    <a:lnTo>
                      <a:pt x="49" y="187"/>
                    </a:lnTo>
                    <a:lnTo>
                      <a:pt x="28" y="197"/>
                    </a:lnTo>
                    <a:lnTo>
                      <a:pt x="13" y="199"/>
                    </a:lnTo>
                    <a:lnTo>
                      <a:pt x="0" y="200"/>
                    </a:lnTo>
                  </a:path>
                </a:pathLst>
              </a:custGeom>
              <a:noFill/>
              <a:ln w="0">
                <a:solidFill>
                  <a:srgbClr val="a9a8a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5557680" y="1849320"/>
                <a:ext cx="92160" cy="55800"/>
              </a:xfrm>
              <a:custGeom>
                <a:avLst/>
                <a:gdLst/>
                <a:ahLst/>
                <a:rect l="l" t="t" r="r" b="b"/>
                <a:pathLst>
                  <a:path w="292" h="173">
                    <a:moveTo>
                      <a:pt x="292" y="91"/>
                    </a:moveTo>
                    <a:lnTo>
                      <a:pt x="268" y="91"/>
                    </a:lnTo>
                    <a:lnTo>
                      <a:pt x="248" y="91"/>
                    </a:lnTo>
                    <a:lnTo>
                      <a:pt x="176" y="120"/>
                    </a:lnTo>
                    <a:lnTo>
                      <a:pt x="176" y="163"/>
                    </a:lnTo>
                    <a:lnTo>
                      <a:pt x="128" y="173"/>
                    </a:lnTo>
                    <a:lnTo>
                      <a:pt x="128" y="133"/>
                    </a:lnTo>
                    <a:lnTo>
                      <a:pt x="124" y="123"/>
                    </a:lnTo>
                    <a:lnTo>
                      <a:pt x="124" y="113"/>
                    </a:lnTo>
                    <a:lnTo>
                      <a:pt x="122" y="110"/>
                    </a:lnTo>
                    <a:lnTo>
                      <a:pt x="120" y="107"/>
                    </a:lnTo>
                    <a:lnTo>
                      <a:pt x="118" y="106"/>
                    </a:lnTo>
                    <a:lnTo>
                      <a:pt x="116" y="106"/>
                    </a:lnTo>
                    <a:lnTo>
                      <a:pt x="98" y="104"/>
                    </a:lnTo>
                    <a:lnTo>
                      <a:pt x="104" y="114"/>
                    </a:lnTo>
                    <a:lnTo>
                      <a:pt x="105" y="119"/>
                    </a:lnTo>
                    <a:lnTo>
                      <a:pt x="105" y="123"/>
                    </a:lnTo>
                    <a:lnTo>
                      <a:pt x="102" y="125"/>
                    </a:lnTo>
                    <a:lnTo>
                      <a:pt x="99" y="128"/>
                    </a:lnTo>
                    <a:lnTo>
                      <a:pt x="119" y="128"/>
                    </a:lnTo>
                    <a:lnTo>
                      <a:pt x="121" y="128"/>
                    </a:lnTo>
                    <a:lnTo>
                      <a:pt x="122" y="125"/>
                    </a:lnTo>
                    <a:lnTo>
                      <a:pt x="124" y="123"/>
                    </a:lnTo>
                    <a:lnTo>
                      <a:pt x="128" y="133"/>
                    </a:lnTo>
                    <a:lnTo>
                      <a:pt x="82" y="133"/>
                    </a:lnTo>
                    <a:lnTo>
                      <a:pt x="0" y="47"/>
                    </a:lnTo>
                    <a:lnTo>
                      <a:pt x="32" y="47"/>
                    </a:lnTo>
                    <a:lnTo>
                      <a:pt x="32" y="36"/>
                    </a:lnTo>
                    <a:lnTo>
                      <a:pt x="43" y="36"/>
                    </a:lnTo>
                    <a:lnTo>
                      <a:pt x="49" y="15"/>
                    </a:lnTo>
                    <a:lnTo>
                      <a:pt x="52" y="15"/>
                    </a:lnTo>
                    <a:lnTo>
                      <a:pt x="54" y="6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179" y="10"/>
                    </a:lnTo>
                    <a:lnTo>
                      <a:pt x="184" y="12"/>
                    </a:lnTo>
                    <a:lnTo>
                      <a:pt x="188" y="16"/>
                    </a:lnTo>
                    <a:lnTo>
                      <a:pt x="192" y="21"/>
                    </a:lnTo>
                    <a:lnTo>
                      <a:pt x="192" y="26"/>
                    </a:lnTo>
                    <a:lnTo>
                      <a:pt x="189" y="32"/>
                    </a:lnTo>
                    <a:lnTo>
                      <a:pt x="188" y="34"/>
                    </a:lnTo>
                    <a:lnTo>
                      <a:pt x="182" y="34"/>
                    </a:lnTo>
                    <a:lnTo>
                      <a:pt x="183" y="31"/>
                    </a:lnTo>
                    <a:lnTo>
                      <a:pt x="185" y="25"/>
                    </a:lnTo>
                    <a:lnTo>
                      <a:pt x="185" y="21"/>
                    </a:lnTo>
                    <a:lnTo>
                      <a:pt x="182" y="17"/>
                    </a:lnTo>
                    <a:lnTo>
                      <a:pt x="176" y="15"/>
                    </a:lnTo>
                    <a:lnTo>
                      <a:pt x="91" y="15"/>
                    </a:lnTo>
                    <a:lnTo>
                      <a:pt x="88" y="20"/>
                    </a:lnTo>
                    <a:lnTo>
                      <a:pt x="86" y="24"/>
                    </a:lnTo>
                    <a:lnTo>
                      <a:pt x="85" y="30"/>
                    </a:lnTo>
                    <a:lnTo>
                      <a:pt x="85" y="33"/>
                    </a:lnTo>
                    <a:lnTo>
                      <a:pt x="86" y="35"/>
                    </a:lnTo>
                    <a:lnTo>
                      <a:pt x="89" y="36"/>
                    </a:lnTo>
                    <a:lnTo>
                      <a:pt x="176" y="36"/>
                    </a:lnTo>
                    <a:lnTo>
                      <a:pt x="182" y="34"/>
                    </a:lnTo>
                    <a:lnTo>
                      <a:pt x="188" y="34"/>
                    </a:lnTo>
                    <a:lnTo>
                      <a:pt x="266" y="34"/>
                    </a:lnTo>
                    <a:lnTo>
                      <a:pt x="269" y="42"/>
                    </a:lnTo>
                    <a:lnTo>
                      <a:pt x="272" y="48"/>
                    </a:lnTo>
                    <a:lnTo>
                      <a:pt x="276" y="56"/>
                    </a:lnTo>
                    <a:lnTo>
                      <a:pt x="279" y="62"/>
                    </a:lnTo>
                    <a:lnTo>
                      <a:pt x="282" y="70"/>
                    </a:lnTo>
                    <a:lnTo>
                      <a:pt x="285" y="76"/>
                    </a:lnTo>
                    <a:lnTo>
                      <a:pt x="289" y="84"/>
                    </a:lnTo>
                    <a:lnTo>
                      <a:pt x="292" y="9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5227560" y="2124000"/>
                <a:ext cx="250920" cy="290520"/>
              </a:xfrm>
              <a:custGeom>
                <a:avLst/>
                <a:gdLst/>
                <a:ahLst/>
                <a:rect l="l" t="t" r="r" b="b"/>
                <a:pathLst>
                  <a:path w="788" h="917">
                    <a:moveTo>
                      <a:pt x="417" y="450"/>
                    </a:moveTo>
                    <a:lnTo>
                      <a:pt x="432" y="440"/>
                    </a:lnTo>
                    <a:lnTo>
                      <a:pt x="445" y="431"/>
                    </a:lnTo>
                    <a:lnTo>
                      <a:pt x="458" y="423"/>
                    </a:lnTo>
                    <a:lnTo>
                      <a:pt x="472" y="418"/>
                    </a:lnTo>
                    <a:lnTo>
                      <a:pt x="446" y="401"/>
                    </a:lnTo>
                    <a:lnTo>
                      <a:pt x="434" y="392"/>
                    </a:lnTo>
                    <a:lnTo>
                      <a:pt x="421" y="383"/>
                    </a:lnTo>
                    <a:lnTo>
                      <a:pt x="422" y="400"/>
                    </a:lnTo>
                    <a:lnTo>
                      <a:pt x="420" y="416"/>
                    </a:lnTo>
                    <a:lnTo>
                      <a:pt x="417" y="450"/>
                    </a:lnTo>
                    <a:close/>
                    <a:moveTo>
                      <a:pt x="569" y="445"/>
                    </a:moveTo>
                    <a:lnTo>
                      <a:pt x="570" y="482"/>
                    </a:lnTo>
                    <a:lnTo>
                      <a:pt x="570" y="523"/>
                    </a:lnTo>
                    <a:lnTo>
                      <a:pt x="566" y="572"/>
                    </a:lnTo>
                    <a:lnTo>
                      <a:pt x="557" y="619"/>
                    </a:lnTo>
                    <a:lnTo>
                      <a:pt x="546" y="665"/>
                    </a:lnTo>
                    <a:lnTo>
                      <a:pt x="537" y="698"/>
                    </a:lnTo>
                    <a:lnTo>
                      <a:pt x="529" y="704"/>
                    </a:lnTo>
                    <a:lnTo>
                      <a:pt x="519" y="711"/>
                    </a:lnTo>
                    <a:lnTo>
                      <a:pt x="512" y="745"/>
                    </a:lnTo>
                    <a:lnTo>
                      <a:pt x="512" y="751"/>
                    </a:lnTo>
                    <a:lnTo>
                      <a:pt x="515" y="757"/>
                    </a:lnTo>
                    <a:lnTo>
                      <a:pt x="515" y="763"/>
                    </a:lnTo>
                    <a:lnTo>
                      <a:pt x="511" y="770"/>
                    </a:lnTo>
                    <a:lnTo>
                      <a:pt x="518" y="777"/>
                    </a:lnTo>
                    <a:lnTo>
                      <a:pt x="523" y="782"/>
                    </a:lnTo>
                    <a:lnTo>
                      <a:pt x="526" y="792"/>
                    </a:lnTo>
                    <a:lnTo>
                      <a:pt x="533" y="794"/>
                    </a:lnTo>
                    <a:lnTo>
                      <a:pt x="537" y="797"/>
                    </a:lnTo>
                    <a:lnTo>
                      <a:pt x="541" y="804"/>
                    </a:lnTo>
                    <a:lnTo>
                      <a:pt x="544" y="809"/>
                    </a:lnTo>
                    <a:lnTo>
                      <a:pt x="547" y="816"/>
                    </a:lnTo>
                    <a:lnTo>
                      <a:pt x="568" y="826"/>
                    </a:lnTo>
                    <a:lnTo>
                      <a:pt x="582" y="832"/>
                    </a:lnTo>
                    <a:lnTo>
                      <a:pt x="587" y="837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7"/>
                    </a:lnTo>
                    <a:lnTo>
                      <a:pt x="565" y="859"/>
                    </a:lnTo>
                    <a:lnTo>
                      <a:pt x="542" y="858"/>
                    </a:lnTo>
                    <a:lnTo>
                      <a:pt x="522" y="854"/>
                    </a:lnTo>
                    <a:lnTo>
                      <a:pt x="499" y="847"/>
                    </a:lnTo>
                    <a:lnTo>
                      <a:pt x="483" y="838"/>
                    </a:lnTo>
                    <a:lnTo>
                      <a:pt x="469" y="831"/>
                    </a:lnTo>
                    <a:lnTo>
                      <a:pt x="456" y="829"/>
                    </a:lnTo>
                    <a:lnTo>
                      <a:pt x="445" y="827"/>
                    </a:lnTo>
                    <a:lnTo>
                      <a:pt x="434" y="824"/>
                    </a:lnTo>
                    <a:lnTo>
                      <a:pt x="424" y="820"/>
                    </a:lnTo>
                    <a:lnTo>
                      <a:pt x="422" y="808"/>
                    </a:lnTo>
                    <a:lnTo>
                      <a:pt x="423" y="799"/>
                    </a:lnTo>
                    <a:lnTo>
                      <a:pt x="424" y="790"/>
                    </a:lnTo>
                    <a:lnTo>
                      <a:pt x="427" y="781"/>
                    </a:lnTo>
                    <a:lnTo>
                      <a:pt x="430" y="772"/>
                    </a:lnTo>
                    <a:lnTo>
                      <a:pt x="434" y="764"/>
                    </a:lnTo>
                    <a:lnTo>
                      <a:pt x="438" y="757"/>
                    </a:lnTo>
                    <a:lnTo>
                      <a:pt x="438" y="749"/>
                    </a:lnTo>
                    <a:lnTo>
                      <a:pt x="438" y="740"/>
                    </a:lnTo>
                    <a:lnTo>
                      <a:pt x="442" y="733"/>
                    </a:lnTo>
                    <a:lnTo>
                      <a:pt x="445" y="728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7"/>
                    </a:lnTo>
                    <a:lnTo>
                      <a:pt x="437" y="681"/>
                    </a:lnTo>
                    <a:lnTo>
                      <a:pt x="437" y="671"/>
                    </a:lnTo>
                    <a:lnTo>
                      <a:pt x="435" y="660"/>
                    </a:lnTo>
                    <a:lnTo>
                      <a:pt x="437" y="644"/>
                    </a:lnTo>
                    <a:lnTo>
                      <a:pt x="442" y="622"/>
                    </a:lnTo>
                    <a:lnTo>
                      <a:pt x="447" y="601"/>
                    </a:lnTo>
                    <a:lnTo>
                      <a:pt x="456" y="578"/>
                    </a:lnTo>
                    <a:lnTo>
                      <a:pt x="442" y="595"/>
                    </a:lnTo>
                    <a:lnTo>
                      <a:pt x="426" y="611"/>
                    </a:lnTo>
                    <a:lnTo>
                      <a:pt x="413" y="625"/>
                    </a:lnTo>
                    <a:lnTo>
                      <a:pt x="397" y="639"/>
                    </a:lnTo>
                    <a:lnTo>
                      <a:pt x="383" y="650"/>
                    </a:lnTo>
                    <a:lnTo>
                      <a:pt x="367" y="663"/>
                    </a:lnTo>
                    <a:lnTo>
                      <a:pt x="352" y="675"/>
                    </a:lnTo>
                    <a:lnTo>
                      <a:pt x="333" y="686"/>
                    </a:lnTo>
                    <a:lnTo>
                      <a:pt x="314" y="697"/>
                    </a:lnTo>
                    <a:lnTo>
                      <a:pt x="298" y="703"/>
                    </a:lnTo>
                    <a:lnTo>
                      <a:pt x="281" y="710"/>
                    </a:lnTo>
                    <a:lnTo>
                      <a:pt x="266" y="715"/>
                    </a:lnTo>
                    <a:lnTo>
                      <a:pt x="251" y="771"/>
                    </a:lnTo>
                    <a:lnTo>
                      <a:pt x="250" y="786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69"/>
                    </a:lnTo>
                    <a:lnTo>
                      <a:pt x="214" y="878"/>
                    </a:lnTo>
                    <a:lnTo>
                      <a:pt x="212" y="887"/>
                    </a:lnTo>
                    <a:lnTo>
                      <a:pt x="205" y="898"/>
                    </a:lnTo>
                    <a:lnTo>
                      <a:pt x="196" y="905"/>
                    </a:lnTo>
                    <a:lnTo>
                      <a:pt x="182" y="913"/>
                    </a:lnTo>
                    <a:lnTo>
                      <a:pt x="161" y="917"/>
                    </a:lnTo>
                    <a:lnTo>
                      <a:pt x="143" y="917"/>
                    </a:lnTo>
                    <a:lnTo>
                      <a:pt x="125" y="914"/>
                    </a:lnTo>
                    <a:lnTo>
                      <a:pt x="113" y="910"/>
                    </a:lnTo>
                    <a:lnTo>
                      <a:pt x="102" y="901"/>
                    </a:lnTo>
                    <a:lnTo>
                      <a:pt x="94" y="893"/>
                    </a:lnTo>
                    <a:lnTo>
                      <a:pt x="86" y="891"/>
                    </a:lnTo>
                    <a:lnTo>
                      <a:pt x="76" y="876"/>
                    </a:lnTo>
                    <a:lnTo>
                      <a:pt x="70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60" y="773"/>
                    </a:lnTo>
                    <a:lnTo>
                      <a:pt x="68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6" y="641"/>
                    </a:lnTo>
                    <a:lnTo>
                      <a:pt x="60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3" y="626"/>
                    </a:lnTo>
                    <a:lnTo>
                      <a:pt x="37" y="625"/>
                    </a:lnTo>
                    <a:lnTo>
                      <a:pt x="31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2" y="478"/>
                    </a:lnTo>
                    <a:lnTo>
                      <a:pt x="13" y="474"/>
                    </a:lnTo>
                    <a:lnTo>
                      <a:pt x="16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1" y="434"/>
                    </a:lnTo>
                    <a:lnTo>
                      <a:pt x="35" y="434"/>
                    </a:lnTo>
                    <a:lnTo>
                      <a:pt x="35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7" y="434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9" y="463"/>
                    </a:lnTo>
                    <a:lnTo>
                      <a:pt x="62" y="465"/>
                    </a:lnTo>
                    <a:lnTo>
                      <a:pt x="66" y="465"/>
                    </a:lnTo>
                    <a:lnTo>
                      <a:pt x="70" y="463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4" y="452"/>
                    </a:lnTo>
                    <a:lnTo>
                      <a:pt x="82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5" y="232"/>
                    </a:lnTo>
                    <a:lnTo>
                      <a:pt x="125" y="213"/>
                    </a:lnTo>
                    <a:lnTo>
                      <a:pt x="136" y="197"/>
                    </a:lnTo>
                    <a:lnTo>
                      <a:pt x="151" y="182"/>
                    </a:lnTo>
                    <a:lnTo>
                      <a:pt x="168" y="173"/>
                    </a:lnTo>
                    <a:lnTo>
                      <a:pt x="176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7" y="46"/>
                    </a:lnTo>
                    <a:lnTo>
                      <a:pt x="257" y="33"/>
                    </a:lnTo>
                    <a:lnTo>
                      <a:pt x="265" y="25"/>
                    </a:lnTo>
                    <a:lnTo>
                      <a:pt x="288" y="13"/>
                    </a:lnTo>
                    <a:lnTo>
                      <a:pt x="305" y="6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8" y="11"/>
                    </a:lnTo>
                    <a:lnTo>
                      <a:pt x="396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0" y="84"/>
                    </a:lnTo>
                    <a:lnTo>
                      <a:pt x="436" y="92"/>
                    </a:lnTo>
                    <a:lnTo>
                      <a:pt x="438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8"/>
                    </a:lnTo>
                    <a:lnTo>
                      <a:pt x="523" y="274"/>
                    </a:lnTo>
                    <a:lnTo>
                      <a:pt x="522" y="280"/>
                    </a:lnTo>
                    <a:lnTo>
                      <a:pt x="518" y="283"/>
                    </a:lnTo>
                    <a:lnTo>
                      <a:pt x="514" y="285"/>
                    </a:lnTo>
                    <a:lnTo>
                      <a:pt x="514" y="290"/>
                    </a:lnTo>
                    <a:lnTo>
                      <a:pt x="512" y="297"/>
                    </a:lnTo>
                    <a:lnTo>
                      <a:pt x="509" y="300"/>
                    </a:lnTo>
                    <a:lnTo>
                      <a:pt x="512" y="303"/>
                    </a:lnTo>
                    <a:lnTo>
                      <a:pt x="514" y="309"/>
                    </a:lnTo>
                    <a:lnTo>
                      <a:pt x="519" y="316"/>
                    </a:lnTo>
                    <a:lnTo>
                      <a:pt x="529" y="322"/>
                    </a:lnTo>
                    <a:lnTo>
                      <a:pt x="536" y="326"/>
                    </a:lnTo>
                    <a:lnTo>
                      <a:pt x="543" y="333"/>
                    </a:lnTo>
                    <a:lnTo>
                      <a:pt x="550" y="337"/>
                    </a:lnTo>
                    <a:lnTo>
                      <a:pt x="569" y="331"/>
                    </a:lnTo>
                    <a:lnTo>
                      <a:pt x="580" y="329"/>
                    </a:lnTo>
                    <a:lnTo>
                      <a:pt x="591" y="326"/>
                    </a:lnTo>
                    <a:lnTo>
                      <a:pt x="598" y="324"/>
                    </a:lnTo>
                    <a:lnTo>
                      <a:pt x="628" y="303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3" y="240"/>
                    </a:lnTo>
                    <a:lnTo>
                      <a:pt x="694" y="233"/>
                    </a:lnTo>
                    <a:lnTo>
                      <a:pt x="697" y="227"/>
                    </a:lnTo>
                    <a:lnTo>
                      <a:pt x="704" y="220"/>
                    </a:lnTo>
                    <a:lnTo>
                      <a:pt x="788" y="217"/>
                    </a:lnTo>
                    <a:lnTo>
                      <a:pt x="732" y="249"/>
                    </a:lnTo>
                    <a:lnTo>
                      <a:pt x="721" y="262"/>
                    </a:lnTo>
                    <a:lnTo>
                      <a:pt x="705" y="289"/>
                    </a:lnTo>
                    <a:lnTo>
                      <a:pt x="707" y="297"/>
                    </a:lnTo>
                    <a:lnTo>
                      <a:pt x="664" y="369"/>
                    </a:lnTo>
                    <a:lnTo>
                      <a:pt x="651" y="408"/>
                    </a:lnTo>
                    <a:lnTo>
                      <a:pt x="634" y="421"/>
                    </a:lnTo>
                    <a:lnTo>
                      <a:pt x="618" y="432"/>
                    </a:lnTo>
                    <a:lnTo>
                      <a:pt x="596" y="442"/>
                    </a:lnTo>
                    <a:lnTo>
                      <a:pt x="581" y="444"/>
                    </a:lnTo>
                    <a:lnTo>
                      <a:pt x="569" y="445"/>
                    </a:lnTo>
                    <a:close/>
                    <a:moveTo>
                      <a:pt x="83" y="465"/>
                    </a:moveTo>
                    <a:lnTo>
                      <a:pt x="77" y="471"/>
                    </a:lnTo>
                    <a:lnTo>
                      <a:pt x="80" y="475"/>
                    </a:lnTo>
                    <a:lnTo>
                      <a:pt x="82" y="480"/>
                    </a:lnTo>
                    <a:lnTo>
                      <a:pt x="83" y="475"/>
                    </a:lnTo>
                    <a:lnTo>
                      <a:pt x="84" y="471"/>
                    </a:lnTo>
                    <a:lnTo>
                      <a:pt x="83" y="465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5227560" y="2124000"/>
                <a:ext cx="250920" cy="290520"/>
              </a:xfrm>
              <a:custGeom>
                <a:avLst/>
                <a:gdLst/>
                <a:ahLst/>
                <a:rect l="l" t="t" r="r" b="b"/>
                <a:pathLst>
                  <a:path w="788" h="917">
                    <a:moveTo>
                      <a:pt x="569" y="445"/>
                    </a:moveTo>
                    <a:lnTo>
                      <a:pt x="570" y="482"/>
                    </a:lnTo>
                    <a:lnTo>
                      <a:pt x="570" y="523"/>
                    </a:lnTo>
                    <a:lnTo>
                      <a:pt x="566" y="572"/>
                    </a:lnTo>
                    <a:lnTo>
                      <a:pt x="557" y="619"/>
                    </a:lnTo>
                    <a:lnTo>
                      <a:pt x="546" y="665"/>
                    </a:lnTo>
                    <a:lnTo>
                      <a:pt x="537" y="698"/>
                    </a:lnTo>
                    <a:lnTo>
                      <a:pt x="529" y="704"/>
                    </a:lnTo>
                    <a:lnTo>
                      <a:pt x="519" y="711"/>
                    </a:lnTo>
                    <a:lnTo>
                      <a:pt x="512" y="745"/>
                    </a:lnTo>
                    <a:lnTo>
                      <a:pt x="512" y="751"/>
                    </a:lnTo>
                    <a:lnTo>
                      <a:pt x="515" y="757"/>
                    </a:lnTo>
                    <a:lnTo>
                      <a:pt x="515" y="763"/>
                    </a:lnTo>
                    <a:lnTo>
                      <a:pt x="511" y="770"/>
                    </a:lnTo>
                    <a:lnTo>
                      <a:pt x="518" y="777"/>
                    </a:lnTo>
                    <a:lnTo>
                      <a:pt x="523" y="782"/>
                    </a:lnTo>
                    <a:lnTo>
                      <a:pt x="526" y="792"/>
                    </a:lnTo>
                    <a:lnTo>
                      <a:pt x="533" y="794"/>
                    </a:lnTo>
                    <a:lnTo>
                      <a:pt x="537" y="797"/>
                    </a:lnTo>
                    <a:lnTo>
                      <a:pt x="541" y="804"/>
                    </a:lnTo>
                    <a:lnTo>
                      <a:pt x="544" y="809"/>
                    </a:lnTo>
                    <a:lnTo>
                      <a:pt x="547" y="816"/>
                    </a:lnTo>
                    <a:lnTo>
                      <a:pt x="568" y="826"/>
                    </a:lnTo>
                    <a:lnTo>
                      <a:pt x="582" y="832"/>
                    </a:lnTo>
                    <a:lnTo>
                      <a:pt x="587" y="837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7"/>
                    </a:lnTo>
                    <a:lnTo>
                      <a:pt x="565" y="859"/>
                    </a:lnTo>
                    <a:lnTo>
                      <a:pt x="542" y="858"/>
                    </a:lnTo>
                    <a:lnTo>
                      <a:pt x="522" y="854"/>
                    </a:lnTo>
                    <a:lnTo>
                      <a:pt x="499" y="847"/>
                    </a:lnTo>
                    <a:lnTo>
                      <a:pt x="483" y="838"/>
                    </a:lnTo>
                    <a:lnTo>
                      <a:pt x="469" y="831"/>
                    </a:lnTo>
                    <a:lnTo>
                      <a:pt x="456" y="829"/>
                    </a:lnTo>
                    <a:lnTo>
                      <a:pt x="445" y="827"/>
                    </a:lnTo>
                    <a:lnTo>
                      <a:pt x="434" y="824"/>
                    </a:lnTo>
                    <a:lnTo>
                      <a:pt x="424" y="820"/>
                    </a:lnTo>
                    <a:lnTo>
                      <a:pt x="422" y="808"/>
                    </a:lnTo>
                    <a:lnTo>
                      <a:pt x="423" y="799"/>
                    </a:lnTo>
                    <a:lnTo>
                      <a:pt x="424" y="790"/>
                    </a:lnTo>
                    <a:lnTo>
                      <a:pt x="427" y="781"/>
                    </a:lnTo>
                    <a:lnTo>
                      <a:pt x="430" y="772"/>
                    </a:lnTo>
                    <a:lnTo>
                      <a:pt x="434" y="764"/>
                    </a:lnTo>
                    <a:lnTo>
                      <a:pt x="438" y="757"/>
                    </a:lnTo>
                    <a:lnTo>
                      <a:pt x="438" y="749"/>
                    </a:lnTo>
                    <a:lnTo>
                      <a:pt x="438" y="740"/>
                    </a:lnTo>
                    <a:lnTo>
                      <a:pt x="442" y="733"/>
                    </a:lnTo>
                    <a:lnTo>
                      <a:pt x="445" y="728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7"/>
                    </a:lnTo>
                    <a:lnTo>
                      <a:pt x="437" y="681"/>
                    </a:lnTo>
                    <a:lnTo>
                      <a:pt x="437" y="671"/>
                    </a:lnTo>
                    <a:lnTo>
                      <a:pt x="435" y="660"/>
                    </a:lnTo>
                    <a:lnTo>
                      <a:pt x="437" y="644"/>
                    </a:lnTo>
                    <a:lnTo>
                      <a:pt x="442" y="622"/>
                    </a:lnTo>
                    <a:lnTo>
                      <a:pt x="447" y="601"/>
                    </a:lnTo>
                    <a:lnTo>
                      <a:pt x="456" y="578"/>
                    </a:lnTo>
                    <a:lnTo>
                      <a:pt x="442" y="595"/>
                    </a:lnTo>
                    <a:lnTo>
                      <a:pt x="426" y="611"/>
                    </a:lnTo>
                    <a:lnTo>
                      <a:pt x="413" y="625"/>
                    </a:lnTo>
                    <a:lnTo>
                      <a:pt x="397" y="639"/>
                    </a:lnTo>
                    <a:lnTo>
                      <a:pt x="383" y="650"/>
                    </a:lnTo>
                    <a:lnTo>
                      <a:pt x="367" y="663"/>
                    </a:lnTo>
                    <a:lnTo>
                      <a:pt x="352" y="675"/>
                    </a:lnTo>
                    <a:lnTo>
                      <a:pt x="333" y="686"/>
                    </a:lnTo>
                    <a:lnTo>
                      <a:pt x="314" y="697"/>
                    </a:lnTo>
                    <a:lnTo>
                      <a:pt x="298" y="703"/>
                    </a:lnTo>
                    <a:lnTo>
                      <a:pt x="281" y="710"/>
                    </a:lnTo>
                    <a:lnTo>
                      <a:pt x="266" y="715"/>
                    </a:lnTo>
                    <a:lnTo>
                      <a:pt x="251" y="771"/>
                    </a:lnTo>
                    <a:lnTo>
                      <a:pt x="250" y="786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69"/>
                    </a:lnTo>
                    <a:lnTo>
                      <a:pt x="214" y="878"/>
                    </a:lnTo>
                    <a:lnTo>
                      <a:pt x="212" y="887"/>
                    </a:lnTo>
                    <a:lnTo>
                      <a:pt x="205" y="898"/>
                    </a:lnTo>
                    <a:lnTo>
                      <a:pt x="196" y="905"/>
                    </a:lnTo>
                    <a:lnTo>
                      <a:pt x="182" y="913"/>
                    </a:lnTo>
                    <a:lnTo>
                      <a:pt x="161" y="917"/>
                    </a:lnTo>
                    <a:lnTo>
                      <a:pt x="143" y="917"/>
                    </a:lnTo>
                    <a:lnTo>
                      <a:pt x="125" y="914"/>
                    </a:lnTo>
                    <a:lnTo>
                      <a:pt x="113" y="910"/>
                    </a:lnTo>
                    <a:lnTo>
                      <a:pt x="102" y="901"/>
                    </a:lnTo>
                    <a:lnTo>
                      <a:pt x="94" y="893"/>
                    </a:lnTo>
                    <a:lnTo>
                      <a:pt x="86" y="891"/>
                    </a:lnTo>
                    <a:lnTo>
                      <a:pt x="76" y="876"/>
                    </a:lnTo>
                    <a:lnTo>
                      <a:pt x="70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60" y="773"/>
                    </a:lnTo>
                    <a:lnTo>
                      <a:pt x="68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6" y="641"/>
                    </a:lnTo>
                    <a:lnTo>
                      <a:pt x="60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3" y="626"/>
                    </a:lnTo>
                    <a:lnTo>
                      <a:pt x="37" y="625"/>
                    </a:lnTo>
                    <a:lnTo>
                      <a:pt x="31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2" y="478"/>
                    </a:lnTo>
                    <a:lnTo>
                      <a:pt x="13" y="474"/>
                    </a:lnTo>
                    <a:lnTo>
                      <a:pt x="16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1" y="434"/>
                    </a:lnTo>
                    <a:lnTo>
                      <a:pt x="35" y="434"/>
                    </a:lnTo>
                    <a:lnTo>
                      <a:pt x="35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7" y="434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9" y="463"/>
                    </a:lnTo>
                    <a:lnTo>
                      <a:pt x="62" y="465"/>
                    </a:lnTo>
                    <a:lnTo>
                      <a:pt x="66" y="465"/>
                    </a:lnTo>
                    <a:lnTo>
                      <a:pt x="70" y="463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4" y="452"/>
                    </a:lnTo>
                    <a:lnTo>
                      <a:pt x="82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5" y="232"/>
                    </a:lnTo>
                    <a:lnTo>
                      <a:pt x="125" y="213"/>
                    </a:lnTo>
                    <a:lnTo>
                      <a:pt x="136" y="197"/>
                    </a:lnTo>
                    <a:lnTo>
                      <a:pt x="151" y="182"/>
                    </a:lnTo>
                    <a:lnTo>
                      <a:pt x="168" y="173"/>
                    </a:lnTo>
                    <a:lnTo>
                      <a:pt x="176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7" y="46"/>
                    </a:lnTo>
                    <a:lnTo>
                      <a:pt x="257" y="33"/>
                    </a:lnTo>
                    <a:lnTo>
                      <a:pt x="265" y="25"/>
                    </a:lnTo>
                    <a:lnTo>
                      <a:pt x="288" y="13"/>
                    </a:lnTo>
                    <a:lnTo>
                      <a:pt x="305" y="6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8" y="11"/>
                    </a:lnTo>
                    <a:lnTo>
                      <a:pt x="396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0" y="84"/>
                    </a:lnTo>
                    <a:lnTo>
                      <a:pt x="436" y="92"/>
                    </a:lnTo>
                    <a:lnTo>
                      <a:pt x="438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8"/>
                    </a:lnTo>
                    <a:lnTo>
                      <a:pt x="523" y="274"/>
                    </a:lnTo>
                    <a:lnTo>
                      <a:pt x="522" y="280"/>
                    </a:lnTo>
                    <a:lnTo>
                      <a:pt x="518" y="283"/>
                    </a:lnTo>
                    <a:lnTo>
                      <a:pt x="514" y="285"/>
                    </a:lnTo>
                    <a:lnTo>
                      <a:pt x="514" y="290"/>
                    </a:lnTo>
                    <a:lnTo>
                      <a:pt x="512" y="297"/>
                    </a:lnTo>
                    <a:lnTo>
                      <a:pt x="509" y="300"/>
                    </a:lnTo>
                    <a:lnTo>
                      <a:pt x="512" y="303"/>
                    </a:lnTo>
                    <a:lnTo>
                      <a:pt x="514" y="309"/>
                    </a:lnTo>
                    <a:lnTo>
                      <a:pt x="519" y="316"/>
                    </a:lnTo>
                    <a:lnTo>
                      <a:pt x="529" y="322"/>
                    </a:lnTo>
                    <a:lnTo>
                      <a:pt x="536" y="326"/>
                    </a:lnTo>
                    <a:lnTo>
                      <a:pt x="543" y="333"/>
                    </a:lnTo>
                    <a:lnTo>
                      <a:pt x="550" y="337"/>
                    </a:lnTo>
                    <a:lnTo>
                      <a:pt x="569" y="331"/>
                    </a:lnTo>
                    <a:lnTo>
                      <a:pt x="580" y="329"/>
                    </a:lnTo>
                    <a:lnTo>
                      <a:pt x="591" y="326"/>
                    </a:lnTo>
                    <a:lnTo>
                      <a:pt x="598" y="324"/>
                    </a:lnTo>
                    <a:lnTo>
                      <a:pt x="628" y="303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3" y="240"/>
                    </a:lnTo>
                    <a:lnTo>
                      <a:pt x="694" y="233"/>
                    </a:lnTo>
                    <a:lnTo>
                      <a:pt x="697" y="227"/>
                    </a:lnTo>
                    <a:lnTo>
                      <a:pt x="704" y="220"/>
                    </a:lnTo>
                    <a:lnTo>
                      <a:pt x="788" y="217"/>
                    </a:lnTo>
                    <a:lnTo>
                      <a:pt x="732" y="249"/>
                    </a:lnTo>
                    <a:lnTo>
                      <a:pt x="721" y="262"/>
                    </a:lnTo>
                    <a:lnTo>
                      <a:pt x="705" y="289"/>
                    </a:lnTo>
                    <a:lnTo>
                      <a:pt x="707" y="297"/>
                    </a:lnTo>
                    <a:lnTo>
                      <a:pt x="664" y="369"/>
                    </a:lnTo>
                    <a:lnTo>
                      <a:pt x="651" y="408"/>
                    </a:lnTo>
                    <a:lnTo>
                      <a:pt x="634" y="421"/>
                    </a:lnTo>
                    <a:lnTo>
                      <a:pt x="618" y="432"/>
                    </a:lnTo>
                    <a:lnTo>
                      <a:pt x="596" y="442"/>
                    </a:lnTo>
                    <a:lnTo>
                      <a:pt x="581" y="444"/>
                    </a:lnTo>
                    <a:lnTo>
                      <a:pt x="569" y="445"/>
                    </a:lnTo>
                  </a:path>
                </a:pathLst>
              </a:custGeom>
              <a:noFill/>
              <a:ln w="0">
                <a:solidFill>
                  <a:srgbClr val="83818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5365800" y="2163600"/>
                <a:ext cx="198360" cy="55800"/>
              </a:xfrm>
              <a:custGeom>
                <a:avLst/>
                <a:gdLst/>
                <a:ahLst/>
                <a:rect l="l" t="t" r="r" b="b"/>
                <a:pathLst>
                  <a:path w="621" h="176">
                    <a:moveTo>
                      <a:pt x="436" y="86"/>
                    </a:moveTo>
                    <a:lnTo>
                      <a:pt x="427" y="81"/>
                    </a:lnTo>
                    <a:lnTo>
                      <a:pt x="363" y="84"/>
                    </a:lnTo>
                    <a:lnTo>
                      <a:pt x="360" y="88"/>
                    </a:lnTo>
                    <a:lnTo>
                      <a:pt x="430" y="90"/>
                    </a:lnTo>
                    <a:lnTo>
                      <a:pt x="424" y="92"/>
                    </a:lnTo>
                    <a:lnTo>
                      <a:pt x="352" y="92"/>
                    </a:lnTo>
                    <a:lnTo>
                      <a:pt x="268" y="95"/>
                    </a:lnTo>
                    <a:lnTo>
                      <a:pt x="247" y="95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8" y="176"/>
                    </a:lnTo>
                    <a:lnTo>
                      <a:pt x="128" y="136"/>
                    </a:lnTo>
                    <a:lnTo>
                      <a:pt x="124" y="126"/>
                    </a:lnTo>
                    <a:lnTo>
                      <a:pt x="124" y="117"/>
                    </a:lnTo>
                    <a:lnTo>
                      <a:pt x="122" y="113"/>
                    </a:lnTo>
                    <a:lnTo>
                      <a:pt x="120" y="110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7" y="108"/>
                    </a:lnTo>
                    <a:lnTo>
                      <a:pt x="104" y="118"/>
                    </a:lnTo>
                    <a:lnTo>
                      <a:pt x="105" y="122"/>
                    </a:lnTo>
                    <a:lnTo>
                      <a:pt x="105" y="126"/>
                    </a:lnTo>
                    <a:lnTo>
                      <a:pt x="103" y="129"/>
                    </a:lnTo>
                    <a:lnTo>
                      <a:pt x="99" y="131"/>
                    </a:lnTo>
                    <a:lnTo>
                      <a:pt x="119" y="131"/>
                    </a:lnTo>
                    <a:lnTo>
                      <a:pt x="121" y="131"/>
                    </a:lnTo>
                    <a:lnTo>
                      <a:pt x="122" y="129"/>
                    </a:lnTo>
                    <a:lnTo>
                      <a:pt x="124" y="126"/>
                    </a:lnTo>
                    <a:lnTo>
                      <a:pt x="128" y="136"/>
                    </a:lnTo>
                    <a:lnTo>
                      <a:pt x="82" y="136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39"/>
                    </a:lnTo>
                    <a:lnTo>
                      <a:pt x="42" y="39"/>
                    </a:lnTo>
                    <a:lnTo>
                      <a:pt x="49" y="19"/>
                    </a:lnTo>
                    <a:lnTo>
                      <a:pt x="52" y="19"/>
                    </a:lnTo>
                    <a:lnTo>
                      <a:pt x="54" y="10"/>
                    </a:lnTo>
                    <a:lnTo>
                      <a:pt x="60" y="4"/>
                    </a:lnTo>
                    <a:lnTo>
                      <a:pt x="66" y="3"/>
                    </a:lnTo>
                    <a:lnTo>
                      <a:pt x="179" y="13"/>
                    </a:lnTo>
                    <a:lnTo>
                      <a:pt x="184" y="15"/>
                    </a:lnTo>
                    <a:lnTo>
                      <a:pt x="188" y="20"/>
                    </a:lnTo>
                    <a:lnTo>
                      <a:pt x="191" y="24"/>
                    </a:lnTo>
                    <a:lnTo>
                      <a:pt x="191" y="30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4"/>
                    </a:lnTo>
                    <a:lnTo>
                      <a:pt x="185" y="29"/>
                    </a:lnTo>
                    <a:lnTo>
                      <a:pt x="185" y="24"/>
                    </a:lnTo>
                    <a:lnTo>
                      <a:pt x="182" y="21"/>
                    </a:lnTo>
                    <a:lnTo>
                      <a:pt x="176" y="19"/>
                    </a:lnTo>
                    <a:lnTo>
                      <a:pt x="92" y="19"/>
                    </a:lnTo>
                    <a:lnTo>
                      <a:pt x="88" y="23"/>
                    </a:lnTo>
                    <a:lnTo>
                      <a:pt x="86" y="27"/>
                    </a:lnTo>
                    <a:lnTo>
                      <a:pt x="84" y="33"/>
                    </a:lnTo>
                    <a:lnTo>
                      <a:pt x="84" y="36"/>
                    </a:lnTo>
                    <a:lnTo>
                      <a:pt x="86" y="38"/>
                    </a:lnTo>
                    <a:lnTo>
                      <a:pt x="89" y="39"/>
                    </a:lnTo>
                    <a:lnTo>
                      <a:pt x="176" y="39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39"/>
                    </a:lnTo>
                    <a:lnTo>
                      <a:pt x="475" y="39"/>
                    </a:lnTo>
                    <a:lnTo>
                      <a:pt x="474" y="27"/>
                    </a:lnTo>
                    <a:lnTo>
                      <a:pt x="470" y="27"/>
                    </a:lnTo>
                    <a:lnTo>
                      <a:pt x="470" y="14"/>
                    </a:lnTo>
                    <a:lnTo>
                      <a:pt x="461" y="14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5" y="2"/>
                    </a:lnTo>
                    <a:lnTo>
                      <a:pt x="470" y="0"/>
                    </a:lnTo>
                    <a:lnTo>
                      <a:pt x="475" y="2"/>
                    </a:lnTo>
                    <a:lnTo>
                      <a:pt x="478" y="6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4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4"/>
                    </a:lnTo>
                    <a:lnTo>
                      <a:pt x="608" y="64"/>
                    </a:lnTo>
                    <a:lnTo>
                      <a:pt x="601" y="60"/>
                    </a:lnTo>
                    <a:lnTo>
                      <a:pt x="481" y="60"/>
                    </a:lnTo>
                    <a:lnTo>
                      <a:pt x="481" y="66"/>
                    </a:lnTo>
                    <a:lnTo>
                      <a:pt x="470" y="66"/>
                    </a:lnTo>
                    <a:lnTo>
                      <a:pt x="470" y="64"/>
                    </a:lnTo>
                    <a:lnTo>
                      <a:pt x="449" y="64"/>
                    </a:lnTo>
                    <a:lnTo>
                      <a:pt x="449" y="75"/>
                    </a:lnTo>
                    <a:lnTo>
                      <a:pt x="443" y="75"/>
                    </a:lnTo>
                    <a:lnTo>
                      <a:pt x="436" y="86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5494320" y="2438280"/>
                <a:ext cx="38160" cy="32040"/>
              </a:xfrm>
              <a:custGeom>
                <a:avLst/>
                <a:gdLst/>
                <a:ahLst/>
                <a:rect l="l" t="t" r="r" b="b"/>
                <a:pathLst>
                  <a:path w="121" h="101">
                    <a:moveTo>
                      <a:pt x="121" y="1"/>
                    </a:moveTo>
                    <a:lnTo>
                      <a:pt x="107" y="14"/>
                    </a:lnTo>
                    <a:lnTo>
                      <a:pt x="92" y="27"/>
                    </a:lnTo>
                    <a:lnTo>
                      <a:pt x="77" y="40"/>
                    </a:lnTo>
                    <a:lnTo>
                      <a:pt x="61" y="53"/>
                    </a:lnTo>
                    <a:lnTo>
                      <a:pt x="46" y="64"/>
                    </a:lnTo>
                    <a:lnTo>
                      <a:pt x="31" y="77"/>
                    </a:lnTo>
                    <a:lnTo>
                      <a:pt x="16" y="89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81"/>
                    </a:lnTo>
                    <a:lnTo>
                      <a:pt x="3" y="64"/>
                    </a:lnTo>
                    <a:lnTo>
                      <a:pt x="10" y="46"/>
                    </a:lnTo>
                    <a:lnTo>
                      <a:pt x="19" y="33"/>
                    </a:lnTo>
                    <a:lnTo>
                      <a:pt x="27" y="25"/>
                    </a:lnTo>
                    <a:lnTo>
                      <a:pt x="50" y="13"/>
                    </a:lnTo>
                    <a:lnTo>
                      <a:pt x="67" y="6"/>
                    </a:lnTo>
                    <a:lnTo>
                      <a:pt x="83" y="2"/>
                    </a:lnTo>
                    <a:lnTo>
                      <a:pt x="101" y="0"/>
                    </a:lnTo>
                    <a:lnTo>
                      <a:pt x="114" y="0"/>
                    </a:lnTo>
                    <a:lnTo>
                      <a:pt x="121" y="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5538960" y="2124000"/>
                <a:ext cx="141120" cy="281160"/>
              </a:xfrm>
              <a:custGeom>
                <a:avLst/>
                <a:gdLst/>
                <a:ahLst/>
                <a:rect l="l" t="t" r="r" b="b"/>
                <a:pathLst>
                  <a:path w="445" h="887">
                    <a:moveTo>
                      <a:pt x="445" y="185"/>
                    </a:moveTo>
                    <a:lnTo>
                      <a:pt x="433" y="234"/>
                    </a:lnTo>
                    <a:lnTo>
                      <a:pt x="420" y="284"/>
                    </a:lnTo>
                    <a:lnTo>
                      <a:pt x="405" y="333"/>
                    </a:lnTo>
                    <a:lnTo>
                      <a:pt x="389" y="380"/>
                    </a:lnTo>
                    <a:lnTo>
                      <a:pt x="371" y="428"/>
                    </a:lnTo>
                    <a:lnTo>
                      <a:pt x="351" y="473"/>
                    </a:lnTo>
                    <a:lnTo>
                      <a:pt x="331" y="519"/>
                    </a:lnTo>
                    <a:lnTo>
                      <a:pt x="308" y="564"/>
                    </a:lnTo>
                    <a:lnTo>
                      <a:pt x="284" y="607"/>
                    </a:lnTo>
                    <a:lnTo>
                      <a:pt x="259" y="650"/>
                    </a:lnTo>
                    <a:lnTo>
                      <a:pt x="232" y="692"/>
                    </a:lnTo>
                    <a:lnTo>
                      <a:pt x="205" y="733"/>
                    </a:lnTo>
                    <a:lnTo>
                      <a:pt x="176" y="773"/>
                    </a:lnTo>
                    <a:lnTo>
                      <a:pt x="146" y="812"/>
                    </a:lnTo>
                    <a:lnTo>
                      <a:pt x="115" y="850"/>
                    </a:lnTo>
                    <a:lnTo>
                      <a:pt x="83" y="887"/>
                    </a:lnTo>
                    <a:lnTo>
                      <a:pt x="76" y="876"/>
                    </a:lnTo>
                    <a:lnTo>
                      <a:pt x="71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59" y="773"/>
                    </a:lnTo>
                    <a:lnTo>
                      <a:pt x="68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6" y="641"/>
                    </a:lnTo>
                    <a:lnTo>
                      <a:pt x="59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2" y="478"/>
                    </a:lnTo>
                    <a:lnTo>
                      <a:pt x="13" y="474"/>
                    </a:lnTo>
                    <a:lnTo>
                      <a:pt x="17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1" y="434"/>
                    </a:lnTo>
                    <a:lnTo>
                      <a:pt x="34" y="434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6" y="434"/>
                    </a:lnTo>
                    <a:lnTo>
                      <a:pt x="59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8" y="463"/>
                    </a:lnTo>
                    <a:lnTo>
                      <a:pt x="62" y="465"/>
                    </a:lnTo>
                    <a:lnTo>
                      <a:pt x="66" y="465"/>
                    </a:lnTo>
                    <a:lnTo>
                      <a:pt x="71" y="463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0" y="450"/>
                    </a:lnTo>
                    <a:lnTo>
                      <a:pt x="85" y="452"/>
                    </a:lnTo>
                    <a:lnTo>
                      <a:pt x="81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4" y="232"/>
                    </a:lnTo>
                    <a:lnTo>
                      <a:pt x="124" y="213"/>
                    </a:lnTo>
                    <a:lnTo>
                      <a:pt x="135" y="197"/>
                    </a:lnTo>
                    <a:lnTo>
                      <a:pt x="151" y="182"/>
                    </a:lnTo>
                    <a:lnTo>
                      <a:pt x="167" y="173"/>
                    </a:lnTo>
                    <a:lnTo>
                      <a:pt x="176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8" y="46"/>
                    </a:lnTo>
                    <a:lnTo>
                      <a:pt x="257" y="33"/>
                    </a:lnTo>
                    <a:lnTo>
                      <a:pt x="265" y="25"/>
                    </a:lnTo>
                    <a:lnTo>
                      <a:pt x="289" y="13"/>
                    </a:lnTo>
                    <a:lnTo>
                      <a:pt x="305" y="6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7" y="11"/>
                    </a:lnTo>
                    <a:lnTo>
                      <a:pt x="396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0" y="84"/>
                    </a:lnTo>
                    <a:lnTo>
                      <a:pt x="436" y="92"/>
                    </a:lnTo>
                    <a:lnTo>
                      <a:pt x="439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445" y="185"/>
                    </a:lnTo>
                    <a:close/>
                    <a:moveTo>
                      <a:pt x="83" y="465"/>
                    </a:moveTo>
                    <a:lnTo>
                      <a:pt x="77" y="471"/>
                    </a:lnTo>
                    <a:lnTo>
                      <a:pt x="80" y="475"/>
                    </a:lnTo>
                    <a:lnTo>
                      <a:pt x="81" y="480"/>
                    </a:lnTo>
                    <a:lnTo>
                      <a:pt x="83" y="475"/>
                    </a:lnTo>
                    <a:lnTo>
                      <a:pt x="85" y="471"/>
                    </a:lnTo>
                    <a:lnTo>
                      <a:pt x="83" y="465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5538960" y="2124000"/>
                <a:ext cx="141120" cy="281160"/>
              </a:xfrm>
              <a:custGeom>
                <a:avLst/>
                <a:gdLst/>
                <a:ahLst/>
                <a:rect l="l" t="t" r="r" b="b"/>
                <a:pathLst>
                  <a:path w="445" h="887">
                    <a:moveTo>
                      <a:pt x="83" y="887"/>
                    </a:moveTo>
                    <a:lnTo>
                      <a:pt x="76" y="876"/>
                    </a:lnTo>
                    <a:lnTo>
                      <a:pt x="71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59" y="773"/>
                    </a:lnTo>
                    <a:lnTo>
                      <a:pt x="68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6" y="641"/>
                    </a:lnTo>
                    <a:lnTo>
                      <a:pt x="59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2" y="478"/>
                    </a:lnTo>
                    <a:lnTo>
                      <a:pt x="13" y="474"/>
                    </a:lnTo>
                    <a:lnTo>
                      <a:pt x="17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1" y="434"/>
                    </a:lnTo>
                    <a:lnTo>
                      <a:pt x="34" y="434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6" y="434"/>
                    </a:lnTo>
                    <a:lnTo>
                      <a:pt x="59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8" y="463"/>
                    </a:lnTo>
                    <a:lnTo>
                      <a:pt x="62" y="465"/>
                    </a:lnTo>
                    <a:lnTo>
                      <a:pt x="66" y="465"/>
                    </a:lnTo>
                    <a:lnTo>
                      <a:pt x="71" y="463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0" y="450"/>
                    </a:lnTo>
                    <a:lnTo>
                      <a:pt x="85" y="452"/>
                    </a:lnTo>
                    <a:lnTo>
                      <a:pt x="81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4" y="232"/>
                    </a:lnTo>
                    <a:lnTo>
                      <a:pt x="124" y="213"/>
                    </a:lnTo>
                    <a:lnTo>
                      <a:pt x="135" y="197"/>
                    </a:lnTo>
                    <a:lnTo>
                      <a:pt x="151" y="182"/>
                    </a:lnTo>
                    <a:lnTo>
                      <a:pt x="167" y="173"/>
                    </a:lnTo>
                    <a:lnTo>
                      <a:pt x="176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8" y="46"/>
                    </a:lnTo>
                    <a:lnTo>
                      <a:pt x="257" y="33"/>
                    </a:lnTo>
                    <a:lnTo>
                      <a:pt x="265" y="25"/>
                    </a:lnTo>
                    <a:lnTo>
                      <a:pt x="289" y="13"/>
                    </a:lnTo>
                    <a:lnTo>
                      <a:pt x="305" y="6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7" y="11"/>
                    </a:lnTo>
                    <a:lnTo>
                      <a:pt x="396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0" y="84"/>
                    </a:lnTo>
                    <a:lnTo>
                      <a:pt x="436" y="92"/>
                    </a:lnTo>
                    <a:lnTo>
                      <a:pt x="439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445" y="185"/>
                    </a:lnTo>
                  </a:path>
                </a:pathLst>
              </a:custGeom>
              <a:noFill/>
              <a:ln w="0">
                <a:solidFill>
                  <a:srgbClr val="83818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5678640" y="2179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4713120" y="1587600"/>
                <a:ext cx="979560" cy="979560"/>
              </a:xfrm>
              <a:custGeom>
                <a:avLst/>
                <a:gdLst/>
                <a:ahLst/>
                <a:rect l="l" t="t" r="r" b="b"/>
                <a:pathLst>
                  <a:path w="3085" h="3088">
                    <a:moveTo>
                      <a:pt x="1669" y="4"/>
                    </a:moveTo>
                    <a:lnTo>
                      <a:pt x="1747" y="13"/>
                    </a:lnTo>
                    <a:lnTo>
                      <a:pt x="1825" y="26"/>
                    </a:lnTo>
                    <a:lnTo>
                      <a:pt x="1901" y="42"/>
                    </a:lnTo>
                    <a:lnTo>
                      <a:pt x="1975" y="61"/>
                    </a:lnTo>
                    <a:lnTo>
                      <a:pt x="2049" y="85"/>
                    </a:lnTo>
                    <a:lnTo>
                      <a:pt x="2120" y="111"/>
                    </a:lnTo>
                    <a:lnTo>
                      <a:pt x="2189" y="141"/>
                    </a:lnTo>
                    <a:lnTo>
                      <a:pt x="2256" y="175"/>
                    </a:lnTo>
                    <a:lnTo>
                      <a:pt x="2322" y="211"/>
                    </a:lnTo>
                    <a:lnTo>
                      <a:pt x="2385" y="251"/>
                    </a:lnTo>
                    <a:lnTo>
                      <a:pt x="2447" y="294"/>
                    </a:lnTo>
                    <a:lnTo>
                      <a:pt x="2505" y="339"/>
                    </a:lnTo>
                    <a:lnTo>
                      <a:pt x="2562" y="386"/>
                    </a:lnTo>
                    <a:lnTo>
                      <a:pt x="2616" y="437"/>
                    </a:lnTo>
                    <a:lnTo>
                      <a:pt x="2668" y="490"/>
                    </a:lnTo>
                    <a:lnTo>
                      <a:pt x="2718" y="545"/>
                    </a:lnTo>
                    <a:lnTo>
                      <a:pt x="2764" y="604"/>
                    </a:lnTo>
                    <a:lnTo>
                      <a:pt x="2808" y="663"/>
                    </a:lnTo>
                    <a:lnTo>
                      <a:pt x="2849" y="725"/>
                    </a:lnTo>
                    <a:lnTo>
                      <a:pt x="2887" y="788"/>
                    </a:lnTo>
                    <a:lnTo>
                      <a:pt x="2922" y="854"/>
                    </a:lnTo>
                    <a:lnTo>
                      <a:pt x="2954" y="922"/>
                    </a:lnTo>
                    <a:lnTo>
                      <a:pt x="2982" y="992"/>
                    </a:lnTo>
                    <a:lnTo>
                      <a:pt x="3008" y="1062"/>
                    </a:lnTo>
                    <a:lnTo>
                      <a:pt x="3030" y="1134"/>
                    </a:lnTo>
                    <a:lnTo>
                      <a:pt x="3048" y="1208"/>
                    </a:lnTo>
                    <a:lnTo>
                      <a:pt x="3063" y="1282"/>
                    </a:lnTo>
                    <a:lnTo>
                      <a:pt x="3074" y="1358"/>
                    </a:lnTo>
                    <a:lnTo>
                      <a:pt x="3081" y="1435"/>
                    </a:lnTo>
                    <a:lnTo>
                      <a:pt x="3085" y="1512"/>
                    </a:lnTo>
                    <a:lnTo>
                      <a:pt x="3085" y="1591"/>
                    </a:lnTo>
                    <a:lnTo>
                      <a:pt x="3079" y="1670"/>
                    </a:lnTo>
                    <a:lnTo>
                      <a:pt x="3072" y="1749"/>
                    </a:lnTo>
                    <a:lnTo>
                      <a:pt x="3059" y="1827"/>
                    </a:lnTo>
                    <a:lnTo>
                      <a:pt x="3043" y="1903"/>
                    </a:lnTo>
                    <a:lnTo>
                      <a:pt x="3023" y="1977"/>
                    </a:lnTo>
                    <a:lnTo>
                      <a:pt x="2999" y="2050"/>
                    </a:lnTo>
                    <a:lnTo>
                      <a:pt x="2972" y="2121"/>
                    </a:lnTo>
                    <a:lnTo>
                      <a:pt x="2942" y="2191"/>
                    </a:lnTo>
                    <a:lnTo>
                      <a:pt x="2910" y="2258"/>
                    </a:lnTo>
                    <a:lnTo>
                      <a:pt x="2873" y="2324"/>
                    </a:lnTo>
                    <a:lnTo>
                      <a:pt x="2833" y="2388"/>
                    </a:lnTo>
                    <a:lnTo>
                      <a:pt x="2791" y="2449"/>
                    </a:lnTo>
                    <a:lnTo>
                      <a:pt x="2746" y="2508"/>
                    </a:lnTo>
                    <a:lnTo>
                      <a:pt x="2698" y="2565"/>
                    </a:lnTo>
                    <a:lnTo>
                      <a:pt x="2648" y="2619"/>
                    </a:lnTo>
                    <a:lnTo>
                      <a:pt x="2595" y="2671"/>
                    </a:lnTo>
                    <a:lnTo>
                      <a:pt x="2540" y="2721"/>
                    </a:lnTo>
                    <a:lnTo>
                      <a:pt x="2481" y="2767"/>
                    </a:lnTo>
                    <a:lnTo>
                      <a:pt x="2422" y="2811"/>
                    </a:lnTo>
                    <a:lnTo>
                      <a:pt x="2359" y="2852"/>
                    </a:lnTo>
                    <a:lnTo>
                      <a:pt x="2296" y="2890"/>
                    </a:lnTo>
                    <a:lnTo>
                      <a:pt x="2231" y="2925"/>
                    </a:lnTo>
                    <a:lnTo>
                      <a:pt x="2163" y="2957"/>
                    </a:lnTo>
                    <a:lnTo>
                      <a:pt x="2094" y="2985"/>
                    </a:lnTo>
                    <a:lnTo>
                      <a:pt x="2024" y="3010"/>
                    </a:lnTo>
                    <a:lnTo>
                      <a:pt x="1951" y="3033"/>
                    </a:lnTo>
                    <a:lnTo>
                      <a:pt x="1878" y="3051"/>
                    </a:lnTo>
                    <a:lnTo>
                      <a:pt x="1804" y="3065"/>
                    </a:lnTo>
                    <a:lnTo>
                      <a:pt x="1728" y="3077"/>
                    </a:lnTo>
                    <a:lnTo>
                      <a:pt x="1651" y="3084"/>
                    </a:lnTo>
                    <a:lnTo>
                      <a:pt x="1574" y="3088"/>
                    </a:lnTo>
                    <a:lnTo>
                      <a:pt x="1495" y="3087"/>
                    </a:lnTo>
                    <a:lnTo>
                      <a:pt x="1416" y="3083"/>
                    </a:lnTo>
                    <a:lnTo>
                      <a:pt x="1337" y="3074"/>
                    </a:lnTo>
                    <a:lnTo>
                      <a:pt x="1260" y="3062"/>
                    </a:lnTo>
                    <a:lnTo>
                      <a:pt x="1184" y="3046"/>
                    </a:lnTo>
                    <a:lnTo>
                      <a:pt x="1110" y="3026"/>
                    </a:lnTo>
                    <a:lnTo>
                      <a:pt x="1036" y="3003"/>
                    </a:lnTo>
                    <a:lnTo>
                      <a:pt x="965" y="2976"/>
                    </a:lnTo>
                    <a:lnTo>
                      <a:pt x="896" y="2945"/>
                    </a:lnTo>
                    <a:lnTo>
                      <a:pt x="829" y="2912"/>
                    </a:lnTo>
                    <a:lnTo>
                      <a:pt x="763" y="2876"/>
                    </a:lnTo>
                    <a:lnTo>
                      <a:pt x="699" y="2836"/>
                    </a:lnTo>
                    <a:lnTo>
                      <a:pt x="638" y="2794"/>
                    </a:lnTo>
                    <a:lnTo>
                      <a:pt x="580" y="2749"/>
                    </a:lnTo>
                    <a:lnTo>
                      <a:pt x="522" y="2701"/>
                    </a:lnTo>
                    <a:lnTo>
                      <a:pt x="468" y="2650"/>
                    </a:lnTo>
                    <a:lnTo>
                      <a:pt x="416" y="2597"/>
                    </a:lnTo>
                    <a:lnTo>
                      <a:pt x="367" y="2541"/>
                    </a:lnTo>
                    <a:lnTo>
                      <a:pt x="321" y="2484"/>
                    </a:lnTo>
                    <a:lnTo>
                      <a:pt x="276" y="2425"/>
                    </a:lnTo>
                    <a:lnTo>
                      <a:pt x="235" y="2362"/>
                    </a:lnTo>
                    <a:lnTo>
                      <a:pt x="198" y="2298"/>
                    </a:lnTo>
                    <a:lnTo>
                      <a:pt x="163" y="2232"/>
                    </a:lnTo>
                    <a:lnTo>
                      <a:pt x="131" y="2165"/>
                    </a:lnTo>
                    <a:lnTo>
                      <a:pt x="103" y="2096"/>
                    </a:lnTo>
                    <a:lnTo>
                      <a:pt x="77" y="2025"/>
                    </a:lnTo>
                    <a:lnTo>
                      <a:pt x="55" y="1953"/>
                    </a:lnTo>
                    <a:lnTo>
                      <a:pt x="37" y="1880"/>
                    </a:lnTo>
                    <a:lnTo>
                      <a:pt x="22" y="1805"/>
                    </a:lnTo>
                    <a:lnTo>
                      <a:pt x="11" y="1730"/>
                    </a:lnTo>
                    <a:lnTo>
                      <a:pt x="3" y="1652"/>
                    </a:lnTo>
                    <a:lnTo>
                      <a:pt x="0" y="1575"/>
                    </a:lnTo>
                    <a:lnTo>
                      <a:pt x="0" y="1496"/>
                    </a:lnTo>
                    <a:lnTo>
                      <a:pt x="5" y="1417"/>
                    </a:lnTo>
                    <a:lnTo>
                      <a:pt x="14" y="1339"/>
                    </a:lnTo>
                    <a:lnTo>
                      <a:pt x="26" y="1261"/>
                    </a:lnTo>
                    <a:lnTo>
                      <a:pt x="42" y="1185"/>
                    </a:lnTo>
                    <a:lnTo>
                      <a:pt x="62" y="1111"/>
                    </a:lnTo>
                    <a:lnTo>
                      <a:pt x="85" y="1037"/>
                    </a:lnTo>
                    <a:lnTo>
                      <a:pt x="112" y="966"/>
                    </a:lnTo>
                    <a:lnTo>
                      <a:pt x="141" y="897"/>
                    </a:lnTo>
                    <a:lnTo>
                      <a:pt x="175" y="828"/>
                    </a:lnTo>
                    <a:lnTo>
                      <a:pt x="212" y="764"/>
                    </a:lnTo>
                    <a:lnTo>
                      <a:pt x="252" y="700"/>
                    </a:lnTo>
                    <a:lnTo>
                      <a:pt x="294" y="638"/>
                    </a:lnTo>
                    <a:lnTo>
                      <a:pt x="339" y="579"/>
                    </a:lnTo>
                    <a:lnTo>
                      <a:pt x="386" y="523"/>
                    </a:lnTo>
                    <a:lnTo>
                      <a:pt x="437" y="468"/>
                    </a:lnTo>
                    <a:lnTo>
                      <a:pt x="490" y="416"/>
                    </a:lnTo>
                    <a:lnTo>
                      <a:pt x="545" y="367"/>
                    </a:lnTo>
                    <a:lnTo>
                      <a:pt x="603" y="321"/>
                    </a:lnTo>
                    <a:lnTo>
                      <a:pt x="663" y="276"/>
                    </a:lnTo>
                    <a:lnTo>
                      <a:pt x="724" y="235"/>
                    </a:lnTo>
                    <a:lnTo>
                      <a:pt x="789" y="197"/>
                    </a:lnTo>
                    <a:lnTo>
                      <a:pt x="854" y="163"/>
                    </a:lnTo>
                    <a:lnTo>
                      <a:pt x="922" y="130"/>
                    </a:lnTo>
                    <a:lnTo>
                      <a:pt x="991" y="102"/>
                    </a:lnTo>
                    <a:lnTo>
                      <a:pt x="1061" y="76"/>
                    </a:lnTo>
                    <a:lnTo>
                      <a:pt x="1133" y="55"/>
                    </a:lnTo>
                    <a:lnTo>
                      <a:pt x="1207" y="36"/>
                    </a:lnTo>
                    <a:lnTo>
                      <a:pt x="1281" y="21"/>
                    </a:lnTo>
                    <a:lnTo>
                      <a:pt x="1357" y="10"/>
                    </a:lnTo>
                    <a:lnTo>
                      <a:pt x="1433" y="3"/>
                    </a:lnTo>
                    <a:lnTo>
                      <a:pt x="1511" y="0"/>
                    </a:lnTo>
                    <a:lnTo>
                      <a:pt x="1590" y="0"/>
                    </a:lnTo>
                    <a:lnTo>
                      <a:pt x="1669" y="4"/>
                    </a:lnTo>
                  </a:path>
                </a:pathLst>
              </a:custGeom>
              <a:noFill/>
              <a:ln w="237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5276880" y="2959200"/>
                <a:ext cx="1163520" cy="2367000"/>
              </a:xfrm>
              <a:custGeom>
                <a:avLst/>
                <a:gdLst/>
                <a:ahLst/>
                <a:rect l="l" t="t" r="r" b="b"/>
                <a:pathLst>
                  <a:path w="3662" h="7455">
                    <a:moveTo>
                      <a:pt x="2433" y="0"/>
                    </a:moveTo>
                    <a:lnTo>
                      <a:pt x="2357" y="45"/>
                    </a:lnTo>
                    <a:lnTo>
                      <a:pt x="2291" y="100"/>
                    </a:lnTo>
                    <a:lnTo>
                      <a:pt x="2268" y="132"/>
                    </a:lnTo>
                    <a:lnTo>
                      <a:pt x="2248" y="176"/>
                    </a:lnTo>
                    <a:lnTo>
                      <a:pt x="2323" y="121"/>
                    </a:lnTo>
                    <a:lnTo>
                      <a:pt x="2412" y="110"/>
                    </a:lnTo>
                    <a:lnTo>
                      <a:pt x="2477" y="121"/>
                    </a:lnTo>
                    <a:lnTo>
                      <a:pt x="2400" y="132"/>
                    </a:lnTo>
                    <a:lnTo>
                      <a:pt x="2323" y="176"/>
                    </a:lnTo>
                    <a:lnTo>
                      <a:pt x="2313" y="209"/>
                    </a:lnTo>
                    <a:lnTo>
                      <a:pt x="2291" y="242"/>
                    </a:lnTo>
                    <a:lnTo>
                      <a:pt x="2400" y="287"/>
                    </a:lnTo>
                    <a:lnTo>
                      <a:pt x="2488" y="341"/>
                    </a:lnTo>
                    <a:lnTo>
                      <a:pt x="2565" y="408"/>
                    </a:lnTo>
                    <a:lnTo>
                      <a:pt x="2631" y="440"/>
                    </a:lnTo>
                    <a:lnTo>
                      <a:pt x="2784" y="549"/>
                    </a:lnTo>
                    <a:lnTo>
                      <a:pt x="2894" y="704"/>
                    </a:lnTo>
                    <a:lnTo>
                      <a:pt x="2916" y="759"/>
                    </a:lnTo>
                    <a:lnTo>
                      <a:pt x="2927" y="813"/>
                    </a:lnTo>
                    <a:lnTo>
                      <a:pt x="2959" y="945"/>
                    </a:lnTo>
                    <a:lnTo>
                      <a:pt x="3003" y="1066"/>
                    </a:lnTo>
                    <a:lnTo>
                      <a:pt x="3048" y="1142"/>
                    </a:lnTo>
                    <a:lnTo>
                      <a:pt x="3069" y="1208"/>
                    </a:lnTo>
                    <a:lnTo>
                      <a:pt x="3103" y="1395"/>
                    </a:lnTo>
                    <a:lnTo>
                      <a:pt x="3080" y="1581"/>
                    </a:lnTo>
                    <a:lnTo>
                      <a:pt x="3058" y="1659"/>
                    </a:lnTo>
                    <a:lnTo>
                      <a:pt x="3048" y="1736"/>
                    </a:lnTo>
                    <a:lnTo>
                      <a:pt x="3015" y="1944"/>
                    </a:lnTo>
                    <a:lnTo>
                      <a:pt x="2959" y="2131"/>
                    </a:lnTo>
                    <a:lnTo>
                      <a:pt x="2861" y="2251"/>
                    </a:lnTo>
                    <a:lnTo>
                      <a:pt x="2807" y="2383"/>
                    </a:lnTo>
                    <a:lnTo>
                      <a:pt x="2772" y="2570"/>
                    </a:lnTo>
                    <a:lnTo>
                      <a:pt x="2772" y="2756"/>
                    </a:lnTo>
                    <a:lnTo>
                      <a:pt x="2894" y="2844"/>
                    </a:lnTo>
                    <a:lnTo>
                      <a:pt x="2948" y="2877"/>
                    </a:lnTo>
                    <a:lnTo>
                      <a:pt x="2992" y="2910"/>
                    </a:lnTo>
                    <a:lnTo>
                      <a:pt x="3036" y="2955"/>
                    </a:lnTo>
                    <a:lnTo>
                      <a:pt x="3069" y="2998"/>
                    </a:lnTo>
                    <a:lnTo>
                      <a:pt x="3103" y="3053"/>
                    </a:lnTo>
                    <a:lnTo>
                      <a:pt x="3157" y="3151"/>
                    </a:lnTo>
                    <a:lnTo>
                      <a:pt x="3201" y="3260"/>
                    </a:lnTo>
                    <a:lnTo>
                      <a:pt x="3222" y="3338"/>
                    </a:lnTo>
                    <a:lnTo>
                      <a:pt x="3244" y="3427"/>
                    </a:lnTo>
                    <a:lnTo>
                      <a:pt x="3267" y="3514"/>
                    </a:lnTo>
                    <a:lnTo>
                      <a:pt x="3288" y="3602"/>
                    </a:lnTo>
                    <a:lnTo>
                      <a:pt x="3332" y="3766"/>
                    </a:lnTo>
                    <a:lnTo>
                      <a:pt x="3366" y="3932"/>
                    </a:lnTo>
                    <a:lnTo>
                      <a:pt x="3376" y="3975"/>
                    </a:lnTo>
                    <a:lnTo>
                      <a:pt x="3387" y="4041"/>
                    </a:lnTo>
                    <a:lnTo>
                      <a:pt x="3443" y="4415"/>
                    </a:lnTo>
                    <a:lnTo>
                      <a:pt x="3486" y="4798"/>
                    </a:lnTo>
                    <a:lnTo>
                      <a:pt x="3475" y="5073"/>
                    </a:lnTo>
                    <a:lnTo>
                      <a:pt x="3431" y="5347"/>
                    </a:lnTo>
                    <a:lnTo>
                      <a:pt x="3376" y="5600"/>
                    </a:lnTo>
                    <a:lnTo>
                      <a:pt x="3201" y="5775"/>
                    </a:lnTo>
                    <a:lnTo>
                      <a:pt x="3091" y="5830"/>
                    </a:lnTo>
                    <a:lnTo>
                      <a:pt x="3048" y="5864"/>
                    </a:lnTo>
                    <a:lnTo>
                      <a:pt x="3003" y="5885"/>
                    </a:lnTo>
                    <a:lnTo>
                      <a:pt x="2939" y="5930"/>
                    </a:lnTo>
                    <a:lnTo>
                      <a:pt x="2850" y="5973"/>
                    </a:lnTo>
                    <a:lnTo>
                      <a:pt x="2763" y="6006"/>
                    </a:lnTo>
                    <a:lnTo>
                      <a:pt x="2752" y="6028"/>
                    </a:lnTo>
                    <a:lnTo>
                      <a:pt x="3003" y="6039"/>
                    </a:lnTo>
                    <a:lnTo>
                      <a:pt x="3244" y="6071"/>
                    </a:lnTo>
                    <a:lnTo>
                      <a:pt x="3299" y="6083"/>
                    </a:lnTo>
                    <a:lnTo>
                      <a:pt x="3354" y="6094"/>
                    </a:lnTo>
                    <a:lnTo>
                      <a:pt x="3443" y="6127"/>
                    </a:lnTo>
                    <a:lnTo>
                      <a:pt x="3507" y="6182"/>
                    </a:lnTo>
                    <a:lnTo>
                      <a:pt x="3552" y="6226"/>
                    </a:lnTo>
                    <a:lnTo>
                      <a:pt x="3574" y="6280"/>
                    </a:lnTo>
                    <a:lnTo>
                      <a:pt x="3596" y="6314"/>
                    </a:lnTo>
                    <a:lnTo>
                      <a:pt x="3607" y="6347"/>
                    </a:lnTo>
                    <a:lnTo>
                      <a:pt x="3628" y="6390"/>
                    </a:lnTo>
                    <a:lnTo>
                      <a:pt x="3639" y="6445"/>
                    </a:lnTo>
                    <a:lnTo>
                      <a:pt x="3662" y="6698"/>
                    </a:lnTo>
                    <a:lnTo>
                      <a:pt x="3596" y="6928"/>
                    </a:lnTo>
                    <a:lnTo>
                      <a:pt x="3552" y="6983"/>
                    </a:lnTo>
                    <a:lnTo>
                      <a:pt x="3519" y="7016"/>
                    </a:lnTo>
                    <a:lnTo>
                      <a:pt x="3498" y="7048"/>
                    </a:lnTo>
                    <a:lnTo>
                      <a:pt x="3453" y="7092"/>
                    </a:lnTo>
                    <a:lnTo>
                      <a:pt x="3354" y="7158"/>
                    </a:lnTo>
                    <a:lnTo>
                      <a:pt x="3299" y="7180"/>
                    </a:lnTo>
                    <a:lnTo>
                      <a:pt x="3244" y="7203"/>
                    </a:lnTo>
                    <a:lnTo>
                      <a:pt x="3179" y="7235"/>
                    </a:lnTo>
                    <a:lnTo>
                      <a:pt x="3112" y="7268"/>
                    </a:lnTo>
                    <a:lnTo>
                      <a:pt x="3048" y="7290"/>
                    </a:lnTo>
                    <a:lnTo>
                      <a:pt x="2959" y="7324"/>
                    </a:lnTo>
                    <a:lnTo>
                      <a:pt x="2904" y="7334"/>
                    </a:lnTo>
                    <a:lnTo>
                      <a:pt x="2839" y="7346"/>
                    </a:lnTo>
                    <a:lnTo>
                      <a:pt x="2697" y="7379"/>
                    </a:lnTo>
                    <a:lnTo>
                      <a:pt x="2543" y="7411"/>
                    </a:lnTo>
                    <a:lnTo>
                      <a:pt x="1962" y="7411"/>
                    </a:lnTo>
                    <a:lnTo>
                      <a:pt x="1403" y="7367"/>
                    </a:lnTo>
                    <a:lnTo>
                      <a:pt x="1381" y="7390"/>
                    </a:lnTo>
                    <a:lnTo>
                      <a:pt x="1348" y="7411"/>
                    </a:lnTo>
                    <a:lnTo>
                      <a:pt x="1205" y="7455"/>
                    </a:lnTo>
                    <a:lnTo>
                      <a:pt x="1063" y="7434"/>
                    </a:lnTo>
                    <a:lnTo>
                      <a:pt x="942" y="7367"/>
                    </a:lnTo>
                    <a:lnTo>
                      <a:pt x="789" y="7334"/>
                    </a:lnTo>
                    <a:lnTo>
                      <a:pt x="789" y="6906"/>
                    </a:lnTo>
                    <a:lnTo>
                      <a:pt x="1030" y="6785"/>
                    </a:lnTo>
                    <a:lnTo>
                      <a:pt x="1063" y="6764"/>
                    </a:lnTo>
                    <a:lnTo>
                      <a:pt x="1030" y="6708"/>
                    </a:lnTo>
                    <a:lnTo>
                      <a:pt x="963" y="6664"/>
                    </a:lnTo>
                    <a:lnTo>
                      <a:pt x="887" y="6687"/>
                    </a:lnTo>
                    <a:lnTo>
                      <a:pt x="789" y="6742"/>
                    </a:lnTo>
                    <a:lnTo>
                      <a:pt x="789" y="6335"/>
                    </a:lnTo>
                    <a:lnTo>
                      <a:pt x="251" y="6335"/>
                    </a:lnTo>
                    <a:lnTo>
                      <a:pt x="470" y="5292"/>
                    </a:lnTo>
                    <a:lnTo>
                      <a:pt x="657" y="5359"/>
                    </a:lnTo>
                    <a:lnTo>
                      <a:pt x="865" y="4711"/>
                    </a:lnTo>
                    <a:lnTo>
                      <a:pt x="942" y="4634"/>
                    </a:lnTo>
                    <a:lnTo>
                      <a:pt x="1030" y="4568"/>
                    </a:lnTo>
                    <a:lnTo>
                      <a:pt x="1018" y="4469"/>
                    </a:lnTo>
                    <a:lnTo>
                      <a:pt x="1041" y="4370"/>
                    </a:lnTo>
                    <a:lnTo>
                      <a:pt x="1063" y="4348"/>
                    </a:lnTo>
                    <a:lnTo>
                      <a:pt x="1074" y="4327"/>
                    </a:lnTo>
                    <a:lnTo>
                      <a:pt x="1008" y="4260"/>
                    </a:lnTo>
                    <a:lnTo>
                      <a:pt x="997" y="4228"/>
                    </a:lnTo>
                    <a:lnTo>
                      <a:pt x="986" y="4206"/>
                    </a:lnTo>
                    <a:lnTo>
                      <a:pt x="909" y="4183"/>
                    </a:lnTo>
                    <a:lnTo>
                      <a:pt x="844" y="4128"/>
                    </a:lnTo>
                    <a:lnTo>
                      <a:pt x="822" y="4084"/>
                    </a:lnTo>
                    <a:lnTo>
                      <a:pt x="799" y="4041"/>
                    </a:lnTo>
                    <a:lnTo>
                      <a:pt x="767" y="3996"/>
                    </a:lnTo>
                    <a:lnTo>
                      <a:pt x="646" y="4041"/>
                    </a:lnTo>
                    <a:lnTo>
                      <a:pt x="514" y="4041"/>
                    </a:lnTo>
                    <a:lnTo>
                      <a:pt x="492" y="4019"/>
                    </a:lnTo>
                    <a:lnTo>
                      <a:pt x="492" y="3975"/>
                    </a:lnTo>
                    <a:lnTo>
                      <a:pt x="526" y="3932"/>
                    </a:lnTo>
                    <a:lnTo>
                      <a:pt x="559" y="3876"/>
                    </a:lnTo>
                    <a:lnTo>
                      <a:pt x="559" y="3855"/>
                    </a:lnTo>
                    <a:lnTo>
                      <a:pt x="482" y="3876"/>
                    </a:lnTo>
                    <a:lnTo>
                      <a:pt x="404" y="3909"/>
                    </a:lnTo>
                    <a:lnTo>
                      <a:pt x="360" y="3898"/>
                    </a:lnTo>
                    <a:lnTo>
                      <a:pt x="328" y="3898"/>
                    </a:lnTo>
                    <a:lnTo>
                      <a:pt x="317" y="3887"/>
                    </a:lnTo>
                    <a:lnTo>
                      <a:pt x="306" y="3876"/>
                    </a:lnTo>
                    <a:lnTo>
                      <a:pt x="228" y="3920"/>
                    </a:lnTo>
                    <a:lnTo>
                      <a:pt x="152" y="3920"/>
                    </a:lnTo>
                    <a:lnTo>
                      <a:pt x="131" y="3909"/>
                    </a:lnTo>
                    <a:lnTo>
                      <a:pt x="109" y="3887"/>
                    </a:lnTo>
                    <a:lnTo>
                      <a:pt x="131" y="3821"/>
                    </a:lnTo>
                    <a:lnTo>
                      <a:pt x="76" y="3832"/>
                    </a:lnTo>
                    <a:lnTo>
                      <a:pt x="10" y="3832"/>
                    </a:lnTo>
                    <a:lnTo>
                      <a:pt x="0" y="3800"/>
                    </a:lnTo>
                    <a:lnTo>
                      <a:pt x="10" y="3778"/>
                    </a:lnTo>
                    <a:lnTo>
                      <a:pt x="43" y="3723"/>
                    </a:lnTo>
                    <a:lnTo>
                      <a:pt x="98" y="3679"/>
                    </a:lnTo>
                    <a:lnTo>
                      <a:pt x="142" y="3646"/>
                    </a:lnTo>
                    <a:lnTo>
                      <a:pt x="174" y="3613"/>
                    </a:lnTo>
                    <a:lnTo>
                      <a:pt x="263" y="3591"/>
                    </a:lnTo>
                    <a:lnTo>
                      <a:pt x="350" y="3602"/>
                    </a:lnTo>
                    <a:lnTo>
                      <a:pt x="395" y="3613"/>
                    </a:lnTo>
                    <a:lnTo>
                      <a:pt x="438" y="3613"/>
                    </a:lnTo>
                    <a:lnTo>
                      <a:pt x="526" y="3591"/>
                    </a:lnTo>
                    <a:lnTo>
                      <a:pt x="602" y="3613"/>
                    </a:lnTo>
                    <a:lnTo>
                      <a:pt x="657" y="3624"/>
                    </a:lnTo>
                    <a:lnTo>
                      <a:pt x="701" y="3646"/>
                    </a:lnTo>
                    <a:lnTo>
                      <a:pt x="822" y="3634"/>
                    </a:lnTo>
                    <a:lnTo>
                      <a:pt x="963" y="3591"/>
                    </a:lnTo>
                    <a:lnTo>
                      <a:pt x="1051" y="3568"/>
                    </a:lnTo>
                    <a:lnTo>
                      <a:pt x="1118" y="3547"/>
                    </a:lnTo>
                    <a:lnTo>
                      <a:pt x="1150" y="3470"/>
                    </a:lnTo>
                    <a:lnTo>
                      <a:pt x="1183" y="3415"/>
                    </a:lnTo>
                    <a:lnTo>
                      <a:pt x="1238" y="3338"/>
                    </a:lnTo>
                    <a:lnTo>
                      <a:pt x="1314" y="3283"/>
                    </a:lnTo>
                    <a:lnTo>
                      <a:pt x="1369" y="3240"/>
                    </a:lnTo>
                    <a:lnTo>
                      <a:pt x="1435" y="3196"/>
                    </a:lnTo>
                    <a:lnTo>
                      <a:pt x="1501" y="3163"/>
                    </a:lnTo>
                    <a:lnTo>
                      <a:pt x="1391" y="3096"/>
                    </a:lnTo>
                    <a:lnTo>
                      <a:pt x="1348" y="3042"/>
                    </a:lnTo>
                    <a:lnTo>
                      <a:pt x="1304" y="2987"/>
                    </a:lnTo>
                    <a:lnTo>
                      <a:pt x="1282" y="2943"/>
                    </a:lnTo>
                    <a:lnTo>
                      <a:pt x="1238" y="2900"/>
                    </a:lnTo>
                    <a:lnTo>
                      <a:pt x="1162" y="2614"/>
                    </a:lnTo>
                    <a:lnTo>
                      <a:pt x="1162" y="2340"/>
                    </a:lnTo>
                    <a:lnTo>
                      <a:pt x="1139" y="2328"/>
                    </a:lnTo>
                    <a:lnTo>
                      <a:pt x="1129" y="2306"/>
                    </a:lnTo>
                    <a:lnTo>
                      <a:pt x="1139" y="2295"/>
                    </a:lnTo>
                    <a:lnTo>
                      <a:pt x="1150" y="2295"/>
                    </a:lnTo>
                    <a:lnTo>
                      <a:pt x="1118" y="2251"/>
                    </a:lnTo>
                    <a:lnTo>
                      <a:pt x="1095" y="2228"/>
                    </a:lnTo>
                    <a:lnTo>
                      <a:pt x="1030" y="2153"/>
                    </a:lnTo>
                    <a:lnTo>
                      <a:pt x="986" y="2076"/>
                    </a:lnTo>
                    <a:lnTo>
                      <a:pt x="931" y="1944"/>
                    </a:lnTo>
                    <a:lnTo>
                      <a:pt x="876" y="1801"/>
                    </a:lnTo>
                    <a:lnTo>
                      <a:pt x="844" y="1538"/>
                    </a:lnTo>
                    <a:lnTo>
                      <a:pt x="887" y="1285"/>
                    </a:lnTo>
                    <a:lnTo>
                      <a:pt x="899" y="1219"/>
                    </a:lnTo>
                    <a:lnTo>
                      <a:pt x="899" y="1164"/>
                    </a:lnTo>
                    <a:lnTo>
                      <a:pt x="844" y="1176"/>
                    </a:lnTo>
                    <a:lnTo>
                      <a:pt x="799" y="1164"/>
                    </a:lnTo>
                    <a:lnTo>
                      <a:pt x="854" y="1121"/>
                    </a:lnTo>
                    <a:lnTo>
                      <a:pt x="909" y="1087"/>
                    </a:lnTo>
                    <a:lnTo>
                      <a:pt x="778" y="1066"/>
                    </a:lnTo>
                    <a:lnTo>
                      <a:pt x="701" y="978"/>
                    </a:lnTo>
                    <a:lnTo>
                      <a:pt x="668" y="945"/>
                    </a:lnTo>
                    <a:lnTo>
                      <a:pt x="755" y="989"/>
                    </a:lnTo>
                    <a:lnTo>
                      <a:pt x="865" y="989"/>
                    </a:lnTo>
                    <a:lnTo>
                      <a:pt x="919" y="967"/>
                    </a:lnTo>
                    <a:lnTo>
                      <a:pt x="942" y="935"/>
                    </a:lnTo>
                    <a:lnTo>
                      <a:pt x="876" y="935"/>
                    </a:lnTo>
                    <a:lnTo>
                      <a:pt x="810" y="912"/>
                    </a:lnTo>
                    <a:lnTo>
                      <a:pt x="887" y="891"/>
                    </a:lnTo>
                    <a:lnTo>
                      <a:pt x="963" y="846"/>
                    </a:lnTo>
                    <a:lnTo>
                      <a:pt x="1074" y="769"/>
                    </a:lnTo>
                    <a:lnTo>
                      <a:pt x="1173" y="671"/>
                    </a:lnTo>
                    <a:lnTo>
                      <a:pt x="1282" y="572"/>
                    </a:lnTo>
                    <a:lnTo>
                      <a:pt x="1403" y="472"/>
                    </a:lnTo>
                    <a:lnTo>
                      <a:pt x="1545" y="385"/>
                    </a:lnTo>
                    <a:lnTo>
                      <a:pt x="1611" y="341"/>
                    </a:lnTo>
                    <a:lnTo>
                      <a:pt x="1709" y="308"/>
                    </a:lnTo>
                    <a:lnTo>
                      <a:pt x="1896" y="253"/>
                    </a:lnTo>
                    <a:lnTo>
                      <a:pt x="2017" y="221"/>
                    </a:lnTo>
                    <a:lnTo>
                      <a:pt x="2137" y="221"/>
                    </a:lnTo>
                    <a:lnTo>
                      <a:pt x="2170" y="144"/>
                    </a:lnTo>
                    <a:lnTo>
                      <a:pt x="2236" y="89"/>
                    </a:lnTo>
                    <a:lnTo>
                      <a:pt x="2268" y="55"/>
                    </a:lnTo>
                    <a:lnTo>
                      <a:pt x="2323" y="34"/>
                    </a:lnTo>
                    <a:lnTo>
                      <a:pt x="243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4567320" y="4780080"/>
                <a:ext cx="689040" cy="376200"/>
              </a:xfrm>
              <a:custGeom>
                <a:avLst/>
                <a:gdLst/>
                <a:ahLst/>
                <a:rect l="l" t="t" r="r" b="b"/>
                <a:pathLst>
                  <a:path w="2171" h="1185">
                    <a:moveTo>
                      <a:pt x="186" y="0"/>
                    </a:moveTo>
                    <a:lnTo>
                      <a:pt x="253" y="11"/>
                    </a:lnTo>
                    <a:lnTo>
                      <a:pt x="296" y="55"/>
                    </a:lnTo>
                    <a:lnTo>
                      <a:pt x="340" y="120"/>
                    </a:lnTo>
                    <a:lnTo>
                      <a:pt x="428" y="153"/>
                    </a:lnTo>
                    <a:lnTo>
                      <a:pt x="549" y="219"/>
                    </a:lnTo>
                    <a:lnTo>
                      <a:pt x="668" y="284"/>
                    </a:lnTo>
                    <a:lnTo>
                      <a:pt x="702" y="307"/>
                    </a:lnTo>
                    <a:lnTo>
                      <a:pt x="735" y="339"/>
                    </a:lnTo>
                    <a:lnTo>
                      <a:pt x="780" y="362"/>
                    </a:lnTo>
                    <a:lnTo>
                      <a:pt x="812" y="383"/>
                    </a:lnTo>
                    <a:lnTo>
                      <a:pt x="833" y="406"/>
                    </a:lnTo>
                    <a:lnTo>
                      <a:pt x="921" y="460"/>
                    </a:lnTo>
                    <a:lnTo>
                      <a:pt x="1008" y="504"/>
                    </a:lnTo>
                    <a:lnTo>
                      <a:pt x="1195" y="504"/>
                    </a:lnTo>
                    <a:lnTo>
                      <a:pt x="1371" y="439"/>
                    </a:lnTo>
                    <a:lnTo>
                      <a:pt x="2171" y="592"/>
                    </a:lnTo>
                    <a:lnTo>
                      <a:pt x="691" y="592"/>
                    </a:lnTo>
                    <a:lnTo>
                      <a:pt x="691" y="1185"/>
                    </a:lnTo>
                    <a:lnTo>
                      <a:pt x="559" y="1043"/>
                    </a:lnTo>
                    <a:lnTo>
                      <a:pt x="449" y="801"/>
                    </a:lnTo>
                    <a:lnTo>
                      <a:pt x="241" y="647"/>
                    </a:lnTo>
                    <a:lnTo>
                      <a:pt x="164" y="504"/>
                    </a:lnTo>
                    <a:lnTo>
                      <a:pt x="109" y="351"/>
                    </a:lnTo>
                    <a:lnTo>
                      <a:pt x="109" y="296"/>
                    </a:lnTo>
                    <a:lnTo>
                      <a:pt x="88" y="241"/>
                    </a:lnTo>
                    <a:lnTo>
                      <a:pt x="33" y="198"/>
                    </a:lnTo>
                    <a:lnTo>
                      <a:pt x="0" y="132"/>
                    </a:lnTo>
                    <a:lnTo>
                      <a:pt x="12" y="77"/>
                    </a:lnTo>
                    <a:lnTo>
                      <a:pt x="33" y="43"/>
                    </a:lnTo>
                    <a:lnTo>
                      <a:pt x="98" y="32"/>
                    </a:lnTo>
                    <a:lnTo>
                      <a:pt x="142" y="21"/>
                    </a:lnTo>
                    <a:lnTo>
                      <a:pt x="164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5133960" y="4189320"/>
                <a:ext cx="466920" cy="471600"/>
              </a:xfrm>
              <a:custGeom>
                <a:avLst/>
                <a:gdLst/>
                <a:ahLst/>
                <a:rect l="l" t="t" r="r" b="b"/>
                <a:pathLst>
                  <a:path w="1468" h="1483">
                    <a:moveTo>
                      <a:pt x="1468" y="374"/>
                    </a:moveTo>
                    <a:lnTo>
                      <a:pt x="373" y="0"/>
                    </a:lnTo>
                    <a:lnTo>
                      <a:pt x="0" y="1098"/>
                    </a:lnTo>
                    <a:lnTo>
                      <a:pt x="1107" y="1483"/>
                    </a:lnTo>
                    <a:lnTo>
                      <a:pt x="1468" y="37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5133960" y="4189320"/>
                <a:ext cx="466920" cy="471600"/>
              </a:xfrm>
              <a:custGeom>
                <a:avLst/>
                <a:gdLst/>
                <a:ahLst/>
                <a:rect l="l" t="t" r="r" b="b"/>
                <a:pathLst>
                  <a:path w="1468" h="1483">
                    <a:moveTo>
                      <a:pt x="1468" y="374"/>
                    </a:moveTo>
                    <a:lnTo>
                      <a:pt x="373" y="0"/>
                    </a:lnTo>
                    <a:lnTo>
                      <a:pt x="0" y="1098"/>
                    </a:lnTo>
                    <a:lnTo>
                      <a:pt x="1107" y="1483"/>
                    </a:lnTo>
                    <a:lnTo>
                      <a:pt x="1468" y="374"/>
                    </a:lnTo>
                  </a:path>
                </a:pathLst>
              </a:custGeom>
              <a:noFill/>
              <a:ln w="0">
                <a:solidFill>
                  <a:srgbClr val="340d7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4987800" y="4549680"/>
                <a:ext cx="438120" cy="438120"/>
              </a:xfrm>
              <a:custGeom>
                <a:avLst/>
                <a:gdLst/>
                <a:ahLst/>
                <a:rect l="l" t="t" r="r" b="b"/>
                <a:pathLst>
                  <a:path w="1381" h="1383">
                    <a:moveTo>
                      <a:pt x="1381" y="241"/>
                    </a:moveTo>
                    <a:lnTo>
                      <a:pt x="240" y="0"/>
                    </a:lnTo>
                    <a:lnTo>
                      <a:pt x="0" y="1153"/>
                    </a:lnTo>
                    <a:lnTo>
                      <a:pt x="1151" y="1383"/>
                    </a:lnTo>
                    <a:lnTo>
                      <a:pt x="1381" y="241"/>
                    </a:lnTo>
                    <a:close/>
                  </a:path>
                </a:pathLst>
              </a:custGeom>
              <a:solidFill>
                <a:srgbClr val="df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4987800" y="4549680"/>
                <a:ext cx="438120" cy="438120"/>
              </a:xfrm>
              <a:custGeom>
                <a:avLst/>
                <a:gdLst/>
                <a:ahLst/>
                <a:rect l="l" t="t" r="r" b="b"/>
                <a:pathLst>
                  <a:path w="1381" h="1383">
                    <a:moveTo>
                      <a:pt x="1381" y="241"/>
                    </a:moveTo>
                    <a:lnTo>
                      <a:pt x="240" y="0"/>
                    </a:lnTo>
                    <a:lnTo>
                      <a:pt x="0" y="1153"/>
                    </a:lnTo>
                    <a:lnTo>
                      <a:pt x="1151" y="1383"/>
                    </a:lnTo>
                    <a:lnTo>
                      <a:pt x="1381" y="241"/>
                    </a:lnTo>
                  </a:path>
                </a:pathLst>
              </a:custGeom>
              <a:noFill/>
              <a:ln w="0">
                <a:solidFill>
                  <a:srgbClr val="ee2f7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4786200" y="4970520"/>
                <a:ext cx="371520" cy="369720"/>
              </a:xfrm>
              <a:prstGeom prst="rect">
                <a:avLst/>
              </a:prstGeom>
              <a:solidFill>
                <a:srgbClr val="324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4786200" y="4970520"/>
                <a:ext cx="371520" cy="369720"/>
              </a:xfrm>
              <a:prstGeom prst="rect">
                <a:avLst/>
              </a:prstGeom>
              <a:noFill/>
              <a:ln w="0">
                <a:solidFill>
                  <a:srgbClr val="1b549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213600" y="462924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746" h="1042">
                    <a:moveTo>
                      <a:pt x="582" y="0"/>
                    </a:moveTo>
                    <a:lnTo>
                      <a:pt x="604" y="32"/>
                    </a:lnTo>
                    <a:lnTo>
                      <a:pt x="626" y="66"/>
                    </a:lnTo>
                    <a:lnTo>
                      <a:pt x="648" y="87"/>
                    </a:lnTo>
                    <a:lnTo>
                      <a:pt x="659" y="110"/>
                    </a:lnTo>
                    <a:lnTo>
                      <a:pt x="648" y="230"/>
                    </a:lnTo>
                    <a:lnTo>
                      <a:pt x="669" y="340"/>
                    </a:lnTo>
                    <a:lnTo>
                      <a:pt x="648" y="527"/>
                    </a:lnTo>
                    <a:lnTo>
                      <a:pt x="669" y="691"/>
                    </a:lnTo>
                    <a:lnTo>
                      <a:pt x="703" y="746"/>
                    </a:lnTo>
                    <a:lnTo>
                      <a:pt x="735" y="811"/>
                    </a:lnTo>
                    <a:lnTo>
                      <a:pt x="746" y="932"/>
                    </a:lnTo>
                    <a:lnTo>
                      <a:pt x="746" y="1042"/>
                    </a:lnTo>
                    <a:lnTo>
                      <a:pt x="680" y="932"/>
                    </a:lnTo>
                    <a:lnTo>
                      <a:pt x="593" y="834"/>
                    </a:lnTo>
                    <a:lnTo>
                      <a:pt x="308" y="724"/>
                    </a:lnTo>
                    <a:lnTo>
                      <a:pt x="0" y="713"/>
                    </a:lnTo>
                    <a:lnTo>
                      <a:pt x="121" y="647"/>
                    </a:lnTo>
                    <a:lnTo>
                      <a:pt x="264" y="582"/>
                    </a:lnTo>
                    <a:lnTo>
                      <a:pt x="418" y="472"/>
                    </a:lnTo>
                    <a:lnTo>
                      <a:pt x="516" y="296"/>
                    </a:lnTo>
                    <a:lnTo>
                      <a:pt x="527" y="142"/>
                    </a:lnTo>
                    <a:lnTo>
                      <a:pt x="571" y="22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008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5154480" y="4211640"/>
                <a:ext cx="425520" cy="428760"/>
              </a:xfrm>
              <a:custGeom>
                <a:avLst/>
                <a:gdLst/>
                <a:ahLst/>
                <a:rect l="l" t="t" r="r" b="b"/>
                <a:pathLst>
                  <a:path w="1339" h="1350">
                    <a:moveTo>
                      <a:pt x="1339" y="341"/>
                    </a:moveTo>
                    <a:lnTo>
                      <a:pt x="340" y="0"/>
                    </a:lnTo>
                    <a:lnTo>
                      <a:pt x="0" y="999"/>
                    </a:lnTo>
                    <a:lnTo>
                      <a:pt x="1008" y="1350"/>
                    </a:lnTo>
                    <a:lnTo>
                      <a:pt x="1339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5154480" y="4211640"/>
                <a:ext cx="425520" cy="428760"/>
              </a:xfrm>
              <a:custGeom>
                <a:avLst/>
                <a:gdLst/>
                <a:ahLst/>
                <a:rect l="l" t="t" r="r" b="b"/>
                <a:pathLst>
                  <a:path w="1339" h="1350">
                    <a:moveTo>
                      <a:pt x="1339" y="341"/>
                    </a:moveTo>
                    <a:lnTo>
                      <a:pt x="340" y="0"/>
                    </a:lnTo>
                    <a:lnTo>
                      <a:pt x="0" y="999"/>
                    </a:lnTo>
                    <a:lnTo>
                      <a:pt x="1008" y="1350"/>
                    </a:lnTo>
                    <a:lnTo>
                      <a:pt x="1339" y="341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5011560" y="4570560"/>
                <a:ext cx="397080" cy="396720"/>
              </a:xfrm>
              <a:custGeom>
                <a:avLst/>
                <a:gdLst/>
                <a:ahLst/>
                <a:rect l="l" t="t" r="r" b="b"/>
                <a:pathLst>
                  <a:path w="1250" h="1251">
                    <a:moveTo>
                      <a:pt x="1250" y="219"/>
                    </a:moveTo>
                    <a:lnTo>
                      <a:pt x="209" y="0"/>
                    </a:lnTo>
                    <a:lnTo>
                      <a:pt x="0" y="1042"/>
                    </a:lnTo>
                    <a:lnTo>
                      <a:pt x="1042" y="1251"/>
                    </a:lnTo>
                    <a:lnTo>
                      <a:pt x="1250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5011560" y="4570560"/>
                <a:ext cx="397080" cy="396720"/>
              </a:xfrm>
              <a:custGeom>
                <a:avLst/>
                <a:gdLst/>
                <a:ahLst/>
                <a:rect l="l" t="t" r="r" b="b"/>
                <a:pathLst>
                  <a:path w="1250" h="1251">
                    <a:moveTo>
                      <a:pt x="1250" y="219"/>
                    </a:moveTo>
                    <a:lnTo>
                      <a:pt x="209" y="0"/>
                    </a:lnTo>
                    <a:lnTo>
                      <a:pt x="0" y="1042"/>
                    </a:lnTo>
                    <a:lnTo>
                      <a:pt x="1042" y="1251"/>
                    </a:lnTo>
                    <a:lnTo>
                      <a:pt x="1250" y="21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5157720" y="4970520"/>
                <a:ext cx="370080" cy="36972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5157720" y="4970520"/>
                <a:ext cx="370080" cy="369720"/>
              </a:xfrm>
              <a:prstGeom prst="rect">
                <a:avLst/>
              </a:prstGeom>
              <a:noFill/>
              <a:ln w="0">
                <a:solidFill>
                  <a:srgbClr val="eb3d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5175360" y="4984920"/>
                <a:ext cx="33804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5175360" y="4984920"/>
                <a:ext cx="338040" cy="334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4803840" y="4984920"/>
                <a:ext cx="33660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4803840" y="4984920"/>
                <a:ext cx="336600" cy="334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5219640" y="5057640"/>
                <a:ext cx="241200" cy="216000"/>
              </a:xfrm>
              <a:custGeom>
                <a:avLst/>
                <a:gdLst/>
                <a:ahLst/>
                <a:rect l="l" t="t" r="r" b="b"/>
                <a:pathLst>
                  <a:path w="760" h="680">
                    <a:moveTo>
                      <a:pt x="258" y="351"/>
                    </a:moveTo>
                    <a:lnTo>
                      <a:pt x="258" y="563"/>
                    </a:lnTo>
                    <a:lnTo>
                      <a:pt x="258" y="576"/>
                    </a:lnTo>
                    <a:lnTo>
                      <a:pt x="258" y="589"/>
                    </a:lnTo>
                    <a:lnTo>
                      <a:pt x="259" y="599"/>
                    </a:lnTo>
                    <a:lnTo>
                      <a:pt x="259" y="609"/>
                    </a:lnTo>
                    <a:lnTo>
                      <a:pt x="260" y="616"/>
                    </a:lnTo>
                    <a:lnTo>
                      <a:pt x="260" y="622"/>
                    </a:lnTo>
                    <a:lnTo>
                      <a:pt x="262" y="626"/>
                    </a:lnTo>
                    <a:lnTo>
                      <a:pt x="262" y="628"/>
                    </a:lnTo>
                    <a:lnTo>
                      <a:pt x="262" y="631"/>
                    </a:lnTo>
                    <a:lnTo>
                      <a:pt x="264" y="635"/>
                    </a:lnTo>
                    <a:lnTo>
                      <a:pt x="265" y="639"/>
                    </a:lnTo>
                    <a:lnTo>
                      <a:pt x="268" y="642"/>
                    </a:lnTo>
                    <a:lnTo>
                      <a:pt x="271" y="644"/>
                    </a:lnTo>
                    <a:lnTo>
                      <a:pt x="275" y="648"/>
                    </a:lnTo>
                    <a:lnTo>
                      <a:pt x="278" y="650"/>
                    </a:lnTo>
                    <a:lnTo>
                      <a:pt x="281" y="652"/>
                    </a:lnTo>
                    <a:lnTo>
                      <a:pt x="284" y="653"/>
                    </a:lnTo>
                    <a:lnTo>
                      <a:pt x="290" y="655"/>
                    </a:lnTo>
                    <a:lnTo>
                      <a:pt x="296" y="656"/>
                    </a:lnTo>
                    <a:lnTo>
                      <a:pt x="303" y="657"/>
                    </a:lnTo>
                    <a:lnTo>
                      <a:pt x="310" y="659"/>
                    </a:lnTo>
                    <a:lnTo>
                      <a:pt x="318" y="659"/>
                    </a:lnTo>
                    <a:lnTo>
                      <a:pt x="324" y="660"/>
                    </a:lnTo>
                    <a:lnTo>
                      <a:pt x="332" y="660"/>
                    </a:lnTo>
                    <a:lnTo>
                      <a:pt x="354" y="660"/>
                    </a:lnTo>
                    <a:lnTo>
                      <a:pt x="354" y="680"/>
                    </a:lnTo>
                    <a:lnTo>
                      <a:pt x="0" y="680"/>
                    </a:lnTo>
                    <a:lnTo>
                      <a:pt x="0" y="660"/>
                    </a:lnTo>
                    <a:lnTo>
                      <a:pt x="18" y="660"/>
                    </a:lnTo>
                    <a:lnTo>
                      <a:pt x="24" y="660"/>
                    </a:lnTo>
                    <a:lnTo>
                      <a:pt x="32" y="659"/>
                    </a:lnTo>
                    <a:lnTo>
                      <a:pt x="39" y="659"/>
                    </a:lnTo>
                    <a:lnTo>
                      <a:pt x="47" y="657"/>
                    </a:lnTo>
                    <a:lnTo>
                      <a:pt x="53" y="656"/>
                    </a:lnTo>
                    <a:lnTo>
                      <a:pt x="59" y="655"/>
                    </a:lnTo>
                    <a:lnTo>
                      <a:pt x="64" y="653"/>
                    </a:lnTo>
                    <a:lnTo>
                      <a:pt x="68" y="652"/>
                    </a:lnTo>
                    <a:lnTo>
                      <a:pt x="72" y="652"/>
                    </a:lnTo>
                    <a:lnTo>
                      <a:pt x="75" y="650"/>
                    </a:lnTo>
                    <a:lnTo>
                      <a:pt x="78" y="648"/>
                    </a:lnTo>
                    <a:lnTo>
                      <a:pt x="81" y="643"/>
                    </a:lnTo>
                    <a:lnTo>
                      <a:pt x="83" y="640"/>
                    </a:lnTo>
                    <a:lnTo>
                      <a:pt x="86" y="636"/>
                    </a:lnTo>
                    <a:lnTo>
                      <a:pt x="87" y="631"/>
                    </a:lnTo>
                    <a:lnTo>
                      <a:pt x="87" y="628"/>
                    </a:lnTo>
                    <a:lnTo>
                      <a:pt x="89" y="624"/>
                    </a:lnTo>
                    <a:lnTo>
                      <a:pt x="91" y="618"/>
                    </a:lnTo>
                    <a:lnTo>
                      <a:pt x="92" y="612"/>
                    </a:lnTo>
                    <a:lnTo>
                      <a:pt x="93" y="604"/>
                    </a:lnTo>
                    <a:lnTo>
                      <a:pt x="94" y="596"/>
                    </a:lnTo>
                    <a:lnTo>
                      <a:pt x="95" y="586"/>
                    </a:lnTo>
                    <a:lnTo>
                      <a:pt x="95" y="575"/>
                    </a:lnTo>
                    <a:lnTo>
                      <a:pt x="95" y="563"/>
                    </a:lnTo>
                    <a:lnTo>
                      <a:pt x="95" y="116"/>
                    </a:lnTo>
                    <a:lnTo>
                      <a:pt x="95" y="104"/>
                    </a:lnTo>
                    <a:lnTo>
                      <a:pt x="95" y="94"/>
                    </a:lnTo>
                    <a:lnTo>
                      <a:pt x="94" y="85"/>
                    </a:lnTo>
                    <a:lnTo>
                      <a:pt x="94" y="76"/>
                    </a:lnTo>
                    <a:lnTo>
                      <a:pt x="93" y="68"/>
                    </a:lnTo>
                    <a:lnTo>
                      <a:pt x="93" y="63"/>
                    </a:lnTo>
                    <a:lnTo>
                      <a:pt x="92" y="59"/>
                    </a:lnTo>
                    <a:lnTo>
                      <a:pt x="92" y="56"/>
                    </a:lnTo>
                    <a:lnTo>
                      <a:pt x="90" y="52"/>
                    </a:lnTo>
                    <a:lnTo>
                      <a:pt x="88" y="49"/>
                    </a:lnTo>
                    <a:lnTo>
                      <a:pt x="85" y="46"/>
                    </a:lnTo>
                    <a:lnTo>
                      <a:pt x="82" y="42"/>
                    </a:lnTo>
                    <a:lnTo>
                      <a:pt x="79" y="39"/>
                    </a:lnTo>
                    <a:lnTo>
                      <a:pt x="76" y="37"/>
                    </a:lnTo>
                    <a:lnTo>
                      <a:pt x="72" y="34"/>
                    </a:lnTo>
                    <a:lnTo>
                      <a:pt x="68" y="32"/>
                    </a:lnTo>
                    <a:lnTo>
                      <a:pt x="64" y="29"/>
                    </a:lnTo>
                    <a:lnTo>
                      <a:pt x="59" y="26"/>
                    </a:lnTo>
                    <a:lnTo>
                      <a:pt x="53" y="24"/>
                    </a:lnTo>
                    <a:lnTo>
                      <a:pt x="47" y="23"/>
                    </a:lnTo>
                    <a:lnTo>
                      <a:pt x="39" y="22"/>
                    </a:lnTo>
                    <a:lnTo>
                      <a:pt x="32" y="21"/>
                    </a:lnTo>
                    <a:lnTo>
                      <a:pt x="24" y="20"/>
                    </a:lnTo>
                    <a:lnTo>
                      <a:pt x="18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354" y="0"/>
                    </a:lnTo>
                    <a:lnTo>
                      <a:pt x="354" y="20"/>
                    </a:lnTo>
                    <a:lnTo>
                      <a:pt x="332" y="20"/>
                    </a:lnTo>
                    <a:lnTo>
                      <a:pt x="324" y="20"/>
                    </a:lnTo>
                    <a:lnTo>
                      <a:pt x="318" y="21"/>
                    </a:lnTo>
                    <a:lnTo>
                      <a:pt x="310" y="22"/>
                    </a:lnTo>
                    <a:lnTo>
                      <a:pt x="303" y="23"/>
                    </a:lnTo>
                    <a:lnTo>
                      <a:pt x="296" y="24"/>
                    </a:lnTo>
                    <a:lnTo>
                      <a:pt x="290" y="26"/>
                    </a:lnTo>
                    <a:lnTo>
                      <a:pt x="284" y="29"/>
                    </a:lnTo>
                    <a:lnTo>
                      <a:pt x="281" y="32"/>
                    </a:lnTo>
                    <a:lnTo>
                      <a:pt x="278" y="33"/>
                    </a:lnTo>
                    <a:lnTo>
                      <a:pt x="275" y="35"/>
                    </a:lnTo>
                    <a:lnTo>
                      <a:pt x="271" y="37"/>
                    </a:lnTo>
                    <a:lnTo>
                      <a:pt x="268" y="40"/>
                    </a:lnTo>
                    <a:lnTo>
                      <a:pt x="265" y="45"/>
                    </a:lnTo>
                    <a:lnTo>
                      <a:pt x="264" y="48"/>
                    </a:lnTo>
                    <a:lnTo>
                      <a:pt x="262" y="52"/>
                    </a:lnTo>
                    <a:lnTo>
                      <a:pt x="262" y="56"/>
                    </a:lnTo>
                    <a:lnTo>
                      <a:pt x="262" y="61"/>
                    </a:lnTo>
                    <a:lnTo>
                      <a:pt x="260" y="65"/>
                    </a:lnTo>
                    <a:lnTo>
                      <a:pt x="260" y="72"/>
                    </a:lnTo>
                    <a:lnTo>
                      <a:pt x="259" y="79"/>
                    </a:lnTo>
                    <a:lnTo>
                      <a:pt x="259" y="87"/>
                    </a:lnTo>
                    <a:lnTo>
                      <a:pt x="258" y="96"/>
                    </a:lnTo>
                    <a:lnTo>
                      <a:pt x="258" y="106"/>
                    </a:lnTo>
                    <a:lnTo>
                      <a:pt x="258" y="116"/>
                    </a:lnTo>
                    <a:lnTo>
                      <a:pt x="258" y="304"/>
                    </a:lnTo>
                    <a:lnTo>
                      <a:pt x="502" y="304"/>
                    </a:lnTo>
                    <a:lnTo>
                      <a:pt x="502" y="116"/>
                    </a:lnTo>
                    <a:lnTo>
                      <a:pt x="502" y="104"/>
                    </a:lnTo>
                    <a:lnTo>
                      <a:pt x="501" y="94"/>
                    </a:lnTo>
                    <a:lnTo>
                      <a:pt x="500" y="85"/>
                    </a:lnTo>
                    <a:lnTo>
                      <a:pt x="500" y="76"/>
                    </a:lnTo>
                    <a:lnTo>
                      <a:pt x="499" y="68"/>
                    </a:lnTo>
                    <a:lnTo>
                      <a:pt x="498" y="63"/>
                    </a:lnTo>
                    <a:lnTo>
                      <a:pt x="497" y="59"/>
                    </a:lnTo>
                    <a:lnTo>
                      <a:pt x="497" y="56"/>
                    </a:lnTo>
                    <a:lnTo>
                      <a:pt x="496" y="52"/>
                    </a:lnTo>
                    <a:lnTo>
                      <a:pt x="494" y="49"/>
                    </a:lnTo>
                    <a:lnTo>
                      <a:pt x="490" y="46"/>
                    </a:lnTo>
                    <a:lnTo>
                      <a:pt x="487" y="42"/>
                    </a:lnTo>
                    <a:lnTo>
                      <a:pt x="484" y="39"/>
                    </a:lnTo>
                    <a:lnTo>
                      <a:pt x="481" y="37"/>
                    </a:lnTo>
                    <a:lnTo>
                      <a:pt x="477" y="34"/>
                    </a:lnTo>
                    <a:lnTo>
                      <a:pt x="474" y="32"/>
                    </a:lnTo>
                    <a:lnTo>
                      <a:pt x="471" y="29"/>
                    </a:lnTo>
                    <a:lnTo>
                      <a:pt x="466" y="26"/>
                    </a:lnTo>
                    <a:lnTo>
                      <a:pt x="459" y="24"/>
                    </a:lnTo>
                    <a:lnTo>
                      <a:pt x="453" y="23"/>
                    </a:lnTo>
                    <a:lnTo>
                      <a:pt x="446" y="22"/>
                    </a:lnTo>
                    <a:lnTo>
                      <a:pt x="439" y="21"/>
                    </a:lnTo>
                    <a:lnTo>
                      <a:pt x="431" y="20"/>
                    </a:lnTo>
                    <a:lnTo>
                      <a:pt x="423" y="20"/>
                    </a:lnTo>
                    <a:lnTo>
                      <a:pt x="405" y="20"/>
                    </a:lnTo>
                    <a:lnTo>
                      <a:pt x="405" y="0"/>
                    </a:lnTo>
                    <a:lnTo>
                      <a:pt x="760" y="0"/>
                    </a:lnTo>
                    <a:lnTo>
                      <a:pt x="760" y="20"/>
                    </a:lnTo>
                    <a:lnTo>
                      <a:pt x="738" y="20"/>
                    </a:lnTo>
                    <a:lnTo>
                      <a:pt x="730" y="20"/>
                    </a:lnTo>
                    <a:lnTo>
                      <a:pt x="723" y="21"/>
                    </a:lnTo>
                    <a:lnTo>
                      <a:pt x="716" y="22"/>
                    </a:lnTo>
                    <a:lnTo>
                      <a:pt x="708" y="23"/>
                    </a:lnTo>
                    <a:lnTo>
                      <a:pt x="702" y="24"/>
                    </a:lnTo>
                    <a:lnTo>
                      <a:pt x="697" y="26"/>
                    </a:lnTo>
                    <a:lnTo>
                      <a:pt x="691" y="29"/>
                    </a:lnTo>
                    <a:lnTo>
                      <a:pt x="687" y="32"/>
                    </a:lnTo>
                    <a:lnTo>
                      <a:pt x="684" y="33"/>
                    </a:lnTo>
                    <a:lnTo>
                      <a:pt x="679" y="35"/>
                    </a:lnTo>
                    <a:lnTo>
                      <a:pt x="676" y="37"/>
                    </a:lnTo>
                    <a:lnTo>
                      <a:pt x="674" y="40"/>
                    </a:lnTo>
                    <a:lnTo>
                      <a:pt x="672" y="45"/>
                    </a:lnTo>
                    <a:lnTo>
                      <a:pt x="670" y="48"/>
                    </a:lnTo>
                    <a:lnTo>
                      <a:pt x="668" y="52"/>
                    </a:lnTo>
                    <a:lnTo>
                      <a:pt x="668" y="56"/>
                    </a:lnTo>
                    <a:lnTo>
                      <a:pt x="667" y="61"/>
                    </a:lnTo>
                    <a:lnTo>
                      <a:pt x="667" y="65"/>
                    </a:lnTo>
                    <a:lnTo>
                      <a:pt x="666" y="72"/>
                    </a:lnTo>
                    <a:lnTo>
                      <a:pt x="665" y="79"/>
                    </a:lnTo>
                    <a:lnTo>
                      <a:pt x="664" y="87"/>
                    </a:lnTo>
                    <a:lnTo>
                      <a:pt x="663" y="96"/>
                    </a:lnTo>
                    <a:lnTo>
                      <a:pt x="663" y="106"/>
                    </a:lnTo>
                    <a:lnTo>
                      <a:pt x="663" y="116"/>
                    </a:lnTo>
                    <a:lnTo>
                      <a:pt x="663" y="563"/>
                    </a:lnTo>
                    <a:lnTo>
                      <a:pt x="663" y="576"/>
                    </a:lnTo>
                    <a:lnTo>
                      <a:pt x="663" y="589"/>
                    </a:lnTo>
                    <a:lnTo>
                      <a:pt x="664" y="599"/>
                    </a:lnTo>
                    <a:lnTo>
                      <a:pt x="665" y="609"/>
                    </a:lnTo>
                    <a:lnTo>
                      <a:pt x="666" y="616"/>
                    </a:lnTo>
                    <a:lnTo>
                      <a:pt x="667" y="622"/>
                    </a:lnTo>
                    <a:lnTo>
                      <a:pt x="667" y="626"/>
                    </a:lnTo>
                    <a:lnTo>
                      <a:pt x="668" y="628"/>
                    </a:lnTo>
                    <a:lnTo>
                      <a:pt x="668" y="631"/>
                    </a:lnTo>
                    <a:lnTo>
                      <a:pt x="670" y="635"/>
                    </a:lnTo>
                    <a:lnTo>
                      <a:pt x="672" y="639"/>
                    </a:lnTo>
                    <a:lnTo>
                      <a:pt x="674" y="642"/>
                    </a:lnTo>
                    <a:lnTo>
                      <a:pt x="676" y="644"/>
                    </a:lnTo>
                    <a:lnTo>
                      <a:pt x="679" y="648"/>
                    </a:lnTo>
                    <a:lnTo>
                      <a:pt x="684" y="650"/>
                    </a:lnTo>
                    <a:lnTo>
                      <a:pt x="687" y="652"/>
                    </a:lnTo>
                    <a:lnTo>
                      <a:pt x="691" y="653"/>
                    </a:lnTo>
                    <a:lnTo>
                      <a:pt x="697" y="655"/>
                    </a:lnTo>
                    <a:lnTo>
                      <a:pt x="702" y="656"/>
                    </a:lnTo>
                    <a:lnTo>
                      <a:pt x="708" y="657"/>
                    </a:lnTo>
                    <a:lnTo>
                      <a:pt x="716" y="659"/>
                    </a:lnTo>
                    <a:lnTo>
                      <a:pt x="723" y="659"/>
                    </a:lnTo>
                    <a:lnTo>
                      <a:pt x="730" y="660"/>
                    </a:lnTo>
                    <a:lnTo>
                      <a:pt x="738" y="660"/>
                    </a:lnTo>
                    <a:lnTo>
                      <a:pt x="760" y="660"/>
                    </a:lnTo>
                    <a:lnTo>
                      <a:pt x="760" y="680"/>
                    </a:lnTo>
                    <a:lnTo>
                      <a:pt x="405" y="680"/>
                    </a:lnTo>
                    <a:lnTo>
                      <a:pt x="405" y="660"/>
                    </a:lnTo>
                    <a:lnTo>
                      <a:pt x="423" y="660"/>
                    </a:lnTo>
                    <a:lnTo>
                      <a:pt x="431" y="660"/>
                    </a:lnTo>
                    <a:lnTo>
                      <a:pt x="439" y="659"/>
                    </a:lnTo>
                    <a:lnTo>
                      <a:pt x="446" y="659"/>
                    </a:lnTo>
                    <a:lnTo>
                      <a:pt x="453" y="657"/>
                    </a:lnTo>
                    <a:lnTo>
                      <a:pt x="459" y="656"/>
                    </a:lnTo>
                    <a:lnTo>
                      <a:pt x="466" y="655"/>
                    </a:lnTo>
                    <a:lnTo>
                      <a:pt x="471" y="653"/>
                    </a:lnTo>
                    <a:lnTo>
                      <a:pt x="474" y="652"/>
                    </a:lnTo>
                    <a:lnTo>
                      <a:pt x="477" y="652"/>
                    </a:lnTo>
                    <a:lnTo>
                      <a:pt x="481" y="650"/>
                    </a:lnTo>
                    <a:lnTo>
                      <a:pt x="484" y="648"/>
                    </a:lnTo>
                    <a:lnTo>
                      <a:pt x="487" y="643"/>
                    </a:lnTo>
                    <a:lnTo>
                      <a:pt x="489" y="640"/>
                    </a:lnTo>
                    <a:lnTo>
                      <a:pt x="491" y="636"/>
                    </a:lnTo>
                    <a:lnTo>
                      <a:pt x="493" y="631"/>
                    </a:lnTo>
                    <a:lnTo>
                      <a:pt x="494" y="628"/>
                    </a:lnTo>
                    <a:lnTo>
                      <a:pt x="495" y="624"/>
                    </a:lnTo>
                    <a:lnTo>
                      <a:pt x="497" y="618"/>
                    </a:lnTo>
                    <a:lnTo>
                      <a:pt x="498" y="612"/>
                    </a:lnTo>
                    <a:lnTo>
                      <a:pt x="499" y="604"/>
                    </a:lnTo>
                    <a:lnTo>
                      <a:pt x="500" y="596"/>
                    </a:lnTo>
                    <a:lnTo>
                      <a:pt x="501" y="586"/>
                    </a:lnTo>
                    <a:lnTo>
                      <a:pt x="502" y="575"/>
                    </a:lnTo>
                    <a:lnTo>
                      <a:pt x="502" y="563"/>
                    </a:lnTo>
                    <a:lnTo>
                      <a:pt x="502" y="351"/>
                    </a:lnTo>
                    <a:lnTo>
                      <a:pt x="258" y="351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4857840" y="5052960"/>
                <a:ext cx="234720" cy="223920"/>
              </a:xfrm>
              <a:custGeom>
                <a:avLst/>
                <a:gdLst/>
                <a:ahLst/>
                <a:rect l="l" t="t" r="r" b="b"/>
                <a:pathLst>
                  <a:path w="738" h="706">
                    <a:moveTo>
                      <a:pt x="663" y="0"/>
                    </a:moveTo>
                    <a:lnTo>
                      <a:pt x="663" y="237"/>
                    </a:lnTo>
                    <a:lnTo>
                      <a:pt x="645" y="237"/>
                    </a:lnTo>
                    <a:lnTo>
                      <a:pt x="636" y="213"/>
                    </a:lnTo>
                    <a:lnTo>
                      <a:pt x="626" y="190"/>
                    </a:lnTo>
                    <a:lnTo>
                      <a:pt x="614" y="170"/>
                    </a:lnTo>
                    <a:lnTo>
                      <a:pt x="602" y="150"/>
                    </a:lnTo>
                    <a:lnTo>
                      <a:pt x="588" y="132"/>
                    </a:lnTo>
                    <a:lnTo>
                      <a:pt x="574" y="116"/>
                    </a:lnTo>
                    <a:lnTo>
                      <a:pt x="559" y="101"/>
                    </a:lnTo>
                    <a:lnTo>
                      <a:pt x="545" y="88"/>
                    </a:lnTo>
                    <a:lnTo>
                      <a:pt x="526" y="75"/>
                    </a:lnTo>
                    <a:lnTo>
                      <a:pt x="508" y="64"/>
                    </a:lnTo>
                    <a:lnTo>
                      <a:pt x="490" y="54"/>
                    </a:lnTo>
                    <a:lnTo>
                      <a:pt x="471" y="47"/>
                    </a:lnTo>
                    <a:lnTo>
                      <a:pt x="453" y="41"/>
                    </a:lnTo>
                    <a:lnTo>
                      <a:pt x="433" y="37"/>
                    </a:lnTo>
                    <a:lnTo>
                      <a:pt x="415" y="35"/>
                    </a:lnTo>
                    <a:lnTo>
                      <a:pt x="396" y="34"/>
                    </a:lnTo>
                    <a:lnTo>
                      <a:pt x="378" y="35"/>
                    </a:lnTo>
                    <a:lnTo>
                      <a:pt x="362" y="36"/>
                    </a:lnTo>
                    <a:lnTo>
                      <a:pt x="345" y="39"/>
                    </a:lnTo>
                    <a:lnTo>
                      <a:pt x="329" y="43"/>
                    </a:lnTo>
                    <a:lnTo>
                      <a:pt x="314" y="49"/>
                    </a:lnTo>
                    <a:lnTo>
                      <a:pt x="299" y="56"/>
                    </a:lnTo>
                    <a:lnTo>
                      <a:pt x="285" y="64"/>
                    </a:lnTo>
                    <a:lnTo>
                      <a:pt x="273" y="74"/>
                    </a:lnTo>
                    <a:lnTo>
                      <a:pt x="260" y="86"/>
                    </a:lnTo>
                    <a:lnTo>
                      <a:pt x="249" y="99"/>
                    </a:lnTo>
                    <a:lnTo>
                      <a:pt x="238" y="113"/>
                    </a:lnTo>
                    <a:lnTo>
                      <a:pt x="228" y="129"/>
                    </a:lnTo>
                    <a:lnTo>
                      <a:pt x="220" y="145"/>
                    </a:lnTo>
                    <a:lnTo>
                      <a:pt x="212" y="162"/>
                    </a:lnTo>
                    <a:lnTo>
                      <a:pt x="207" y="181"/>
                    </a:lnTo>
                    <a:lnTo>
                      <a:pt x="202" y="200"/>
                    </a:lnTo>
                    <a:lnTo>
                      <a:pt x="197" y="218"/>
                    </a:lnTo>
                    <a:lnTo>
                      <a:pt x="193" y="238"/>
                    </a:lnTo>
                    <a:lnTo>
                      <a:pt x="190" y="258"/>
                    </a:lnTo>
                    <a:lnTo>
                      <a:pt x="186" y="278"/>
                    </a:lnTo>
                    <a:lnTo>
                      <a:pt x="183" y="298"/>
                    </a:lnTo>
                    <a:lnTo>
                      <a:pt x="181" y="319"/>
                    </a:lnTo>
                    <a:lnTo>
                      <a:pt x="180" y="339"/>
                    </a:lnTo>
                    <a:lnTo>
                      <a:pt x="180" y="360"/>
                    </a:lnTo>
                    <a:lnTo>
                      <a:pt x="180" y="385"/>
                    </a:lnTo>
                    <a:lnTo>
                      <a:pt x="181" y="408"/>
                    </a:lnTo>
                    <a:lnTo>
                      <a:pt x="183" y="431"/>
                    </a:lnTo>
                    <a:lnTo>
                      <a:pt x="186" y="453"/>
                    </a:lnTo>
                    <a:lnTo>
                      <a:pt x="190" y="475"/>
                    </a:lnTo>
                    <a:lnTo>
                      <a:pt x="193" y="495"/>
                    </a:lnTo>
                    <a:lnTo>
                      <a:pt x="197" y="513"/>
                    </a:lnTo>
                    <a:lnTo>
                      <a:pt x="202" y="532"/>
                    </a:lnTo>
                    <a:lnTo>
                      <a:pt x="208" y="548"/>
                    </a:lnTo>
                    <a:lnTo>
                      <a:pt x="215" y="564"/>
                    </a:lnTo>
                    <a:lnTo>
                      <a:pt x="223" y="580"/>
                    </a:lnTo>
                    <a:lnTo>
                      <a:pt x="233" y="595"/>
                    </a:lnTo>
                    <a:lnTo>
                      <a:pt x="242" y="607"/>
                    </a:lnTo>
                    <a:lnTo>
                      <a:pt x="253" y="619"/>
                    </a:lnTo>
                    <a:lnTo>
                      <a:pt x="264" y="630"/>
                    </a:lnTo>
                    <a:lnTo>
                      <a:pt x="276" y="638"/>
                    </a:lnTo>
                    <a:lnTo>
                      <a:pt x="289" y="646"/>
                    </a:lnTo>
                    <a:lnTo>
                      <a:pt x="302" y="653"/>
                    </a:lnTo>
                    <a:lnTo>
                      <a:pt x="316" y="659"/>
                    </a:lnTo>
                    <a:lnTo>
                      <a:pt x="331" y="665"/>
                    </a:lnTo>
                    <a:lnTo>
                      <a:pt x="347" y="669"/>
                    </a:lnTo>
                    <a:lnTo>
                      <a:pt x="362" y="672"/>
                    </a:lnTo>
                    <a:lnTo>
                      <a:pt x="379" y="674"/>
                    </a:lnTo>
                    <a:lnTo>
                      <a:pt x="396" y="674"/>
                    </a:lnTo>
                    <a:lnTo>
                      <a:pt x="401" y="674"/>
                    </a:lnTo>
                    <a:lnTo>
                      <a:pt x="408" y="673"/>
                    </a:lnTo>
                    <a:lnTo>
                      <a:pt x="413" y="673"/>
                    </a:lnTo>
                    <a:lnTo>
                      <a:pt x="419" y="672"/>
                    </a:lnTo>
                    <a:lnTo>
                      <a:pt x="426" y="671"/>
                    </a:lnTo>
                    <a:lnTo>
                      <a:pt x="432" y="670"/>
                    </a:lnTo>
                    <a:lnTo>
                      <a:pt x="440" y="670"/>
                    </a:lnTo>
                    <a:lnTo>
                      <a:pt x="446" y="669"/>
                    </a:lnTo>
                    <a:lnTo>
                      <a:pt x="454" y="669"/>
                    </a:lnTo>
                    <a:lnTo>
                      <a:pt x="460" y="668"/>
                    </a:lnTo>
                    <a:lnTo>
                      <a:pt x="468" y="667"/>
                    </a:lnTo>
                    <a:lnTo>
                      <a:pt x="474" y="665"/>
                    </a:lnTo>
                    <a:lnTo>
                      <a:pt x="481" y="663"/>
                    </a:lnTo>
                    <a:lnTo>
                      <a:pt x="488" y="660"/>
                    </a:lnTo>
                    <a:lnTo>
                      <a:pt x="495" y="657"/>
                    </a:lnTo>
                    <a:lnTo>
                      <a:pt x="503" y="655"/>
                    </a:lnTo>
                    <a:lnTo>
                      <a:pt x="503" y="504"/>
                    </a:lnTo>
                    <a:lnTo>
                      <a:pt x="503" y="495"/>
                    </a:lnTo>
                    <a:lnTo>
                      <a:pt x="501" y="488"/>
                    </a:lnTo>
                    <a:lnTo>
                      <a:pt x="500" y="480"/>
                    </a:lnTo>
                    <a:lnTo>
                      <a:pt x="499" y="473"/>
                    </a:lnTo>
                    <a:lnTo>
                      <a:pt x="499" y="468"/>
                    </a:lnTo>
                    <a:lnTo>
                      <a:pt x="498" y="464"/>
                    </a:lnTo>
                    <a:lnTo>
                      <a:pt x="497" y="461"/>
                    </a:lnTo>
                    <a:lnTo>
                      <a:pt x="497" y="458"/>
                    </a:lnTo>
                    <a:lnTo>
                      <a:pt x="495" y="454"/>
                    </a:lnTo>
                    <a:lnTo>
                      <a:pt x="493" y="451"/>
                    </a:lnTo>
                    <a:lnTo>
                      <a:pt x="491" y="448"/>
                    </a:lnTo>
                    <a:lnTo>
                      <a:pt x="487" y="444"/>
                    </a:lnTo>
                    <a:lnTo>
                      <a:pt x="484" y="441"/>
                    </a:lnTo>
                    <a:lnTo>
                      <a:pt x="481" y="439"/>
                    </a:lnTo>
                    <a:lnTo>
                      <a:pt x="478" y="437"/>
                    </a:lnTo>
                    <a:lnTo>
                      <a:pt x="474" y="436"/>
                    </a:lnTo>
                    <a:lnTo>
                      <a:pt x="471" y="434"/>
                    </a:lnTo>
                    <a:lnTo>
                      <a:pt x="466" y="431"/>
                    </a:lnTo>
                    <a:lnTo>
                      <a:pt x="460" y="430"/>
                    </a:lnTo>
                    <a:lnTo>
                      <a:pt x="455" y="428"/>
                    </a:lnTo>
                    <a:lnTo>
                      <a:pt x="449" y="427"/>
                    </a:lnTo>
                    <a:lnTo>
                      <a:pt x="442" y="426"/>
                    </a:lnTo>
                    <a:lnTo>
                      <a:pt x="435" y="425"/>
                    </a:lnTo>
                    <a:lnTo>
                      <a:pt x="427" y="425"/>
                    </a:lnTo>
                    <a:lnTo>
                      <a:pt x="415" y="425"/>
                    </a:lnTo>
                    <a:lnTo>
                      <a:pt x="415" y="408"/>
                    </a:lnTo>
                    <a:lnTo>
                      <a:pt x="738" y="408"/>
                    </a:lnTo>
                    <a:lnTo>
                      <a:pt x="738" y="425"/>
                    </a:lnTo>
                    <a:lnTo>
                      <a:pt x="729" y="426"/>
                    </a:lnTo>
                    <a:lnTo>
                      <a:pt x="721" y="427"/>
                    </a:lnTo>
                    <a:lnTo>
                      <a:pt x="713" y="428"/>
                    </a:lnTo>
                    <a:lnTo>
                      <a:pt x="707" y="430"/>
                    </a:lnTo>
                    <a:lnTo>
                      <a:pt x="701" y="432"/>
                    </a:lnTo>
                    <a:lnTo>
                      <a:pt x="696" y="434"/>
                    </a:lnTo>
                    <a:lnTo>
                      <a:pt x="691" y="435"/>
                    </a:lnTo>
                    <a:lnTo>
                      <a:pt x="687" y="436"/>
                    </a:lnTo>
                    <a:lnTo>
                      <a:pt x="684" y="437"/>
                    </a:lnTo>
                    <a:lnTo>
                      <a:pt x="680" y="440"/>
                    </a:lnTo>
                    <a:lnTo>
                      <a:pt x="676" y="443"/>
                    </a:lnTo>
                    <a:lnTo>
                      <a:pt x="673" y="446"/>
                    </a:lnTo>
                    <a:lnTo>
                      <a:pt x="670" y="451"/>
                    </a:lnTo>
                    <a:lnTo>
                      <a:pt x="668" y="454"/>
                    </a:lnTo>
                    <a:lnTo>
                      <a:pt x="665" y="458"/>
                    </a:lnTo>
                    <a:lnTo>
                      <a:pt x="663" y="462"/>
                    </a:lnTo>
                    <a:lnTo>
                      <a:pt x="663" y="464"/>
                    </a:lnTo>
                    <a:lnTo>
                      <a:pt x="663" y="468"/>
                    </a:lnTo>
                    <a:lnTo>
                      <a:pt x="663" y="472"/>
                    </a:lnTo>
                    <a:lnTo>
                      <a:pt x="663" y="478"/>
                    </a:lnTo>
                    <a:lnTo>
                      <a:pt x="663" y="484"/>
                    </a:lnTo>
                    <a:lnTo>
                      <a:pt x="663" y="491"/>
                    </a:lnTo>
                    <a:lnTo>
                      <a:pt x="663" y="497"/>
                    </a:lnTo>
                    <a:lnTo>
                      <a:pt x="663" y="504"/>
                    </a:lnTo>
                    <a:lnTo>
                      <a:pt x="663" y="655"/>
                    </a:lnTo>
                    <a:lnTo>
                      <a:pt x="646" y="663"/>
                    </a:lnTo>
                    <a:lnTo>
                      <a:pt x="629" y="669"/>
                    </a:lnTo>
                    <a:lnTo>
                      <a:pt x="612" y="674"/>
                    </a:lnTo>
                    <a:lnTo>
                      <a:pt x="594" y="680"/>
                    </a:lnTo>
                    <a:lnTo>
                      <a:pt x="577" y="684"/>
                    </a:lnTo>
                    <a:lnTo>
                      <a:pt x="560" y="689"/>
                    </a:lnTo>
                    <a:lnTo>
                      <a:pt x="542" y="692"/>
                    </a:lnTo>
                    <a:lnTo>
                      <a:pt x="525" y="694"/>
                    </a:lnTo>
                    <a:lnTo>
                      <a:pt x="508" y="697"/>
                    </a:lnTo>
                    <a:lnTo>
                      <a:pt x="490" y="699"/>
                    </a:lnTo>
                    <a:lnTo>
                      <a:pt x="472" y="702"/>
                    </a:lnTo>
                    <a:lnTo>
                      <a:pt x="454" y="704"/>
                    </a:lnTo>
                    <a:lnTo>
                      <a:pt x="436" y="705"/>
                    </a:lnTo>
                    <a:lnTo>
                      <a:pt x="417" y="706"/>
                    </a:lnTo>
                    <a:lnTo>
                      <a:pt x="399" y="706"/>
                    </a:lnTo>
                    <a:lnTo>
                      <a:pt x="382" y="706"/>
                    </a:lnTo>
                    <a:lnTo>
                      <a:pt x="358" y="706"/>
                    </a:lnTo>
                    <a:lnTo>
                      <a:pt x="335" y="705"/>
                    </a:lnTo>
                    <a:lnTo>
                      <a:pt x="314" y="703"/>
                    </a:lnTo>
                    <a:lnTo>
                      <a:pt x="293" y="700"/>
                    </a:lnTo>
                    <a:lnTo>
                      <a:pt x="273" y="697"/>
                    </a:lnTo>
                    <a:lnTo>
                      <a:pt x="254" y="693"/>
                    </a:lnTo>
                    <a:lnTo>
                      <a:pt x="237" y="689"/>
                    </a:lnTo>
                    <a:lnTo>
                      <a:pt x="222" y="683"/>
                    </a:lnTo>
                    <a:lnTo>
                      <a:pt x="206" y="677"/>
                    </a:lnTo>
                    <a:lnTo>
                      <a:pt x="191" y="669"/>
                    </a:lnTo>
                    <a:lnTo>
                      <a:pt x="176" y="662"/>
                    </a:lnTo>
                    <a:lnTo>
                      <a:pt x="160" y="653"/>
                    </a:lnTo>
                    <a:lnTo>
                      <a:pt x="146" y="644"/>
                    </a:lnTo>
                    <a:lnTo>
                      <a:pt x="133" y="635"/>
                    </a:lnTo>
                    <a:lnTo>
                      <a:pt x="122" y="625"/>
                    </a:lnTo>
                    <a:lnTo>
                      <a:pt x="110" y="615"/>
                    </a:lnTo>
                    <a:lnTo>
                      <a:pt x="98" y="604"/>
                    </a:lnTo>
                    <a:lnTo>
                      <a:pt x="87" y="593"/>
                    </a:lnTo>
                    <a:lnTo>
                      <a:pt x="76" y="582"/>
                    </a:lnTo>
                    <a:lnTo>
                      <a:pt x="66" y="570"/>
                    </a:lnTo>
                    <a:lnTo>
                      <a:pt x="57" y="558"/>
                    </a:lnTo>
                    <a:lnTo>
                      <a:pt x="47" y="545"/>
                    </a:lnTo>
                    <a:lnTo>
                      <a:pt x="40" y="531"/>
                    </a:lnTo>
                    <a:lnTo>
                      <a:pt x="32" y="518"/>
                    </a:lnTo>
                    <a:lnTo>
                      <a:pt x="25" y="501"/>
                    </a:lnTo>
                    <a:lnTo>
                      <a:pt x="19" y="482"/>
                    </a:lnTo>
                    <a:lnTo>
                      <a:pt x="14" y="464"/>
                    </a:lnTo>
                    <a:lnTo>
                      <a:pt x="9" y="445"/>
                    </a:lnTo>
                    <a:lnTo>
                      <a:pt x="5" y="426"/>
                    </a:lnTo>
                    <a:lnTo>
                      <a:pt x="3" y="406"/>
                    </a:lnTo>
                    <a:lnTo>
                      <a:pt x="1" y="386"/>
                    </a:lnTo>
                    <a:lnTo>
                      <a:pt x="0" y="365"/>
                    </a:lnTo>
                    <a:lnTo>
                      <a:pt x="1" y="347"/>
                    </a:lnTo>
                    <a:lnTo>
                      <a:pt x="2" y="329"/>
                    </a:lnTo>
                    <a:lnTo>
                      <a:pt x="4" y="310"/>
                    </a:lnTo>
                    <a:lnTo>
                      <a:pt x="7" y="292"/>
                    </a:lnTo>
                    <a:lnTo>
                      <a:pt x="10" y="275"/>
                    </a:lnTo>
                    <a:lnTo>
                      <a:pt x="15" y="257"/>
                    </a:lnTo>
                    <a:lnTo>
                      <a:pt x="20" y="240"/>
                    </a:lnTo>
                    <a:lnTo>
                      <a:pt x="27" y="224"/>
                    </a:lnTo>
                    <a:lnTo>
                      <a:pt x="34" y="208"/>
                    </a:lnTo>
                    <a:lnTo>
                      <a:pt x="42" y="193"/>
                    </a:lnTo>
                    <a:lnTo>
                      <a:pt x="50" y="177"/>
                    </a:lnTo>
                    <a:lnTo>
                      <a:pt x="60" y="162"/>
                    </a:lnTo>
                    <a:lnTo>
                      <a:pt x="70" y="147"/>
                    </a:lnTo>
                    <a:lnTo>
                      <a:pt x="81" y="133"/>
                    </a:lnTo>
                    <a:lnTo>
                      <a:pt x="92" y="120"/>
                    </a:lnTo>
                    <a:lnTo>
                      <a:pt x="104" y="107"/>
                    </a:lnTo>
                    <a:lnTo>
                      <a:pt x="118" y="94"/>
                    </a:lnTo>
                    <a:lnTo>
                      <a:pt x="132" y="82"/>
                    </a:lnTo>
                    <a:lnTo>
                      <a:pt x="146" y="71"/>
                    </a:lnTo>
                    <a:lnTo>
                      <a:pt x="161" y="61"/>
                    </a:lnTo>
                    <a:lnTo>
                      <a:pt x="177" y="51"/>
                    </a:lnTo>
                    <a:lnTo>
                      <a:pt x="193" y="42"/>
                    </a:lnTo>
                    <a:lnTo>
                      <a:pt x="209" y="35"/>
                    </a:lnTo>
                    <a:lnTo>
                      <a:pt x="225" y="27"/>
                    </a:lnTo>
                    <a:lnTo>
                      <a:pt x="242" y="22"/>
                    </a:lnTo>
                    <a:lnTo>
                      <a:pt x="260" y="16"/>
                    </a:lnTo>
                    <a:lnTo>
                      <a:pt x="278" y="11"/>
                    </a:lnTo>
                    <a:lnTo>
                      <a:pt x="296" y="8"/>
                    </a:lnTo>
                    <a:lnTo>
                      <a:pt x="315" y="4"/>
                    </a:lnTo>
                    <a:lnTo>
                      <a:pt x="334" y="2"/>
                    </a:lnTo>
                    <a:lnTo>
                      <a:pt x="354" y="1"/>
                    </a:lnTo>
                    <a:lnTo>
                      <a:pt x="373" y="0"/>
                    </a:lnTo>
                    <a:lnTo>
                      <a:pt x="385" y="1"/>
                    </a:lnTo>
                    <a:lnTo>
                      <a:pt x="397" y="1"/>
                    </a:lnTo>
                    <a:lnTo>
                      <a:pt x="409" y="2"/>
                    </a:lnTo>
                    <a:lnTo>
                      <a:pt x="421" y="3"/>
                    </a:lnTo>
                    <a:lnTo>
                      <a:pt x="432" y="6"/>
                    </a:lnTo>
                    <a:lnTo>
                      <a:pt x="444" y="7"/>
                    </a:lnTo>
                    <a:lnTo>
                      <a:pt x="455" y="8"/>
                    </a:lnTo>
                    <a:lnTo>
                      <a:pt x="466" y="9"/>
                    </a:lnTo>
                    <a:lnTo>
                      <a:pt x="471" y="10"/>
                    </a:lnTo>
                    <a:lnTo>
                      <a:pt x="479" y="11"/>
                    </a:lnTo>
                    <a:lnTo>
                      <a:pt x="486" y="13"/>
                    </a:lnTo>
                    <a:lnTo>
                      <a:pt x="495" y="15"/>
                    </a:lnTo>
                    <a:lnTo>
                      <a:pt x="504" y="19"/>
                    </a:lnTo>
                    <a:lnTo>
                      <a:pt x="513" y="22"/>
                    </a:lnTo>
                    <a:lnTo>
                      <a:pt x="523" y="25"/>
                    </a:lnTo>
                    <a:lnTo>
                      <a:pt x="534" y="28"/>
                    </a:lnTo>
                    <a:lnTo>
                      <a:pt x="546" y="32"/>
                    </a:lnTo>
                    <a:lnTo>
                      <a:pt x="556" y="35"/>
                    </a:lnTo>
                    <a:lnTo>
                      <a:pt x="566" y="38"/>
                    </a:lnTo>
                    <a:lnTo>
                      <a:pt x="575" y="40"/>
                    </a:lnTo>
                    <a:lnTo>
                      <a:pt x="582" y="42"/>
                    </a:lnTo>
                    <a:lnTo>
                      <a:pt x="588" y="44"/>
                    </a:lnTo>
                    <a:lnTo>
                      <a:pt x="592" y="46"/>
                    </a:lnTo>
                    <a:lnTo>
                      <a:pt x="595" y="46"/>
                    </a:lnTo>
                    <a:lnTo>
                      <a:pt x="599" y="46"/>
                    </a:lnTo>
                    <a:lnTo>
                      <a:pt x="602" y="46"/>
                    </a:lnTo>
                    <a:lnTo>
                      <a:pt x="604" y="44"/>
                    </a:lnTo>
                    <a:lnTo>
                      <a:pt x="607" y="43"/>
                    </a:lnTo>
                    <a:lnTo>
                      <a:pt x="610" y="42"/>
                    </a:lnTo>
                    <a:lnTo>
                      <a:pt x="613" y="41"/>
                    </a:lnTo>
                    <a:lnTo>
                      <a:pt x="616" y="39"/>
                    </a:lnTo>
                    <a:lnTo>
                      <a:pt x="618" y="37"/>
                    </a:lnTo>
                    <a:lnTo>
                      <a:pt x="621" y="36"/>
                    </a:lnTo>
                    <a:lnTo>
                      <a:pt x="624" y="33"/>
                    </a:lnTo>
                    <a:lnTo>
                      <a:pt x="628" y="29"/>
                    </a:lnTo>
                    <a:lnTo>
                      <a:pt x="631" y="25"/>
                    </a:lnTo>
                    <a:lnTo>
                      <a:pt x="634" y="20"/>
                    </a:lnTo>
                    <a:lnTo>
                      <a:pt x="637" y="14"/>
                    </a:lnTo>
                    <a:lnTo>
                      <a:pt x="642" y="8"/>
                    </a:lnTo>
                    <a:lnTo>
                      <a:pt x="645" y="0"/>
                    </a:lnTo>
                    <a:lnTo>
                      <a:pt x="663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5097600" y="4651200"/>
                <a:ext cx="215640" cy="231840"/>
              </a:xfrm>
              <a:custGeom>
                <a:avLst/>
                <a:gdLst/>
                <a:ahLst/>
                <a:rect l="l" t="t" r="r" b="b"/>
                <a:pathLst>
                  <a:path w="682" h="731">
                    <a:moveTo>
                      <a:pt x="367" y="90"/>
                    </a:moveTo>
                    <a:lnTo>
                      <a:pt x="318" y="358"/>
                    </a:lnTo>
                    <a:lnTo>
                      <a:pt x="341" y="363"/>
                    </a:lnTo>
                    <a:lnTo>
                      <a:pt x="351" y="364"/>
                    </a:lnTo>
                    <a:lnTo>
                      <a:pt x="361" y="365"/>
                    </a:lnTo>
                    <a:lnTo>
                      <a:pt x="370" y="366"/>
                    </a:lnTo>
                    <a:lnTo>
                      <a:pt x="379" y="367"/>
                    </a:lnTo>
                    <a:lnTo>
                      <a:pt x="388" y="367"/>
                    </a:lnTo>
                    <a:lnTo>
                      <a:pt x="395" y="367"/>
                    </a:lnTo>
                    <a:lnTo>
                      <a:pt x="403" y="366"/>
                    </a:lnTo>
                    <a:lnTo>
                      <a:pt x="410" y="366"/>
                    </a:lnTo>
                    <a:lnTo>
                      <a:pt x="418" y="364"/>
                    </a:lnTo>
                    <a:lnTo>
                      <a:pt x="425" y="361"/>
                    </a:lnTo>
                    <a:lnTo>
                      <a:pt x="433" y="356"/>
                    </a:lnTo>
                    <a:lnTo>
                      <a:pt x="440" y="352"/>
                    </a:lnTo>
                    <a:lnTo>
                      <a:pt x="447" y="346"/>
                    </a:lnTo>
                    <a:lnTo>
                      <a:pt x="453" y="341"/>
                    </a:lnTo>
                    <a:lnTo>
                      <a:pt x="459" y="336"/>
                    </a:lnTo>
                    <a:lnTo>
                      <a:pt x="464" y="329"/>
                    </a:lnTo>
                    <a:lnTo>
                      <a:pt x="470" y="321"/>
                    </a:lnTo>
                    <a:lnTo>
                      <a:pt x="475" y="311"/>
                    </a:lnTo>
                    <a:lnTo>
                      <a:pt x="480" y="301"/>
                    </a:lnTo>
                    <a:lnTo>
                      <a:pt x="487" y="291"/>
                    </a:lnTo>
                    <a:lnTo>
                      <a:pt x="492" y="279"/>
                    </a:lnTo>
                    <a:lnTo>
                      <a:pt x="498" y="269"/>
                    </a:lnTo>
                    <a:lnTo>
                      <a:pt x="503" y="256"/>
                    </a:lnTo>
                    <a:lnTo>
                      <a:pt x="507" y="243"/>
                    </a:lnTo>
                    <a:lnTo>
                      <a:pt x="525" y="246"/>
                    </a:lnTo>
                    <a:lnTo>
                      <a:pt x="464" y="586"/>
                    </a:lnTo>
                    <a:lnTo>
                      <a:pt x="447" y="583"/>
                    </a:lnTo>
                    <a:lnTo>
                      <a:pt x="449" y="560"/>
                    </a:lnTo>
                    <a:lnTo>
                      <a:pt x="449" y="539"/>
                    </a:lnTo>
                    <a:lnTo>
                      <a:pt x="448" y="518"/>
                    </a:lnTo>
                    <a:lnTo>
                      <a:pt x="445" y="500"/>
                    </a:lnTo>
                    <a:lnTo>
                      <a:pt x="440" y="484"/>
                    </a:lnTo>
                    <a:lnTo>
                      <a:pt x="435" y="470"/>
                    </a:lnTo>
                    <a:lnTo>
                      <a:pt x="432" y="463"/>
                    </a:lnTo>
                    <a:lnTo>
                      <a:pt x="429" y="458"/>
                    </a:lnTo>
                    <a:lnTo>
                      <a:pt x="424" y="452"/>
                    </a:lnTo>
                    <a:lnTo>
                      <a:pt x="420" y="447"/>
                    </a:lnTo>
                    <a:lnTo>
                      <a:pt x="410" y="438"/>
                    </a:lnTo>
                    <a:lnTo>
                      <a:pt x="400" y="431"/>
                    </a:lnTo>
                    <a:lnTo>
                      <a:pt x="391" y="423"/>
                    </a:lnTo>
                    <a:lnTo>
                      <a:pt x="380" y="417"/>
                    </a:lnTo>
                    <a:lnTo>
                      <a:pt x="369" y="411"/>
                    </a:lnTo>
                    <a:lnTo>
                      <a:pt x="357" y="407"/>
                    </a:lnTo>
                    <a:lnTo>
                      <a:pt x="347" y="403"/>
                    </a:lnTo>
                    <a:lnTo>
                      <a:pt x="335" y="401"/>
                    </a:lnTo>
                    <a:lnTo>
                      <a:pt x="312" y="396"/>
                    </a:lnTo>
                    <a:lnTo>
                      <a:pt x="276" y="599"/>
                    </a:lnTo>
                    <a:lnTo>
                      <a:pt x="274" y="612"/>
                    </a:lnTo>
                    <a:lnTo>
                      <a:pt x="272" y="624"/>
                    </a:lnTo>
                    <a:lnTo>
                      <a:pt x="271" y="635"/>
                    </a:lnTo>
                    <a:lnTo>
                      <a:pt x="270" y="644"/>
                    </a:lnTo>
                    <a:lnTo>
                      <a:pt x="269" y="651"/>
                    </a:lnTo>
                    <a:lnTo>
                      <a:pt x="269" y="658"/>
                    </a:lnTo>
                    <a:lnTo>
                      <a:pt x="269" y="661"/>
                    </a:lnTo>
                    <a:lnTo>
                      <a:pt x="268" y="663"/>
                    </a:lnTo>
                    <a:lnTo>
                      <a:pt x="268" y="667"/>
                    </a:lnTo>
                    <a:lnTo>
                      <a:pt x="269" y="671"/>
                    </a:lnTo>
                    <a:lnTo>
                      <a:pt x="270" y="675"/>
                    </a:lnTo>
                    <a:lnTo>
                      <a:pt x="271" y="678"/>
                    </a:lnTo>
                    <a:lnTo>
                      <a:pt x="273" y="681"/>
                    </a:lnTo>
                    <a:lnTo>
                      <a:pt x="276" y="685"/>
                    </a:lnTo>
                    <a:lnTo>
                      <a:pt x="280" y="688"/>
                    </a:lnTo>
                    <a:lnTo>
                      <a:pt x="283" y="691"/>
                    </a:lnTo>
                    <a:lnTo>
                      <a:pt x="286" y="693"/>
                    </a:lnTo>
                    <a:lnTo>
                      <a:pt x="291" y="696"/>
                    </a:lnTo>
                    <a:lnTo>
                      <a:pt x="297" y="698"/>
                    </a:lnTo>
                    <a:lnTo>
                      <a:pt x="303" y="700"/>
                    </a:lnTo>
                    <a:lnTo>
                      <a:pt x="310" y="703"/>
                    </a:lnTo>
                    <a:lnTo>
                      <a:pt x="316" y="705"/>
                    </a:lnTo>
                    <a:lnTo>
                      <a:pt x="324" y="706"/>
                    </a:lnTo>
                    <a:lnTo>
                      <a:pt x="331" y="708"/>
                    </a:lnTo>
                    <a:lnTo>
                      <a:pt x="353" y="713"/>
                    </a:lnTo>
                    <a:lnTo>
                      <a:pt x="350" y="731"/>
                    </a:lnTo>
                    <a:lnTo>
                      <a:pt x="0" y="669"/>
                    </a:lnTo>
                    <a:lnTo>
                      <a:pt x="3" y="650"/>
                    </a:lnTo>
                    <a:lnTo>
                      <a:pt x="22" y="653"/>
                    </a:lnTo>
                    <a:lnTo>
                      <a:pt x="29" y="654"/>
                    </a:lnTo>
                    <a:lnTo>
                      <a:pt x="37" y="654"/>
                    </a:lnTo>
                    <a:lnTo>
                      <a:pt x="44" y="656"/>
                    </a:lnTo>
                    <a:lnTo>
                      <a:pt x="51" y="656"/>
                    </a:lnTo>
                    <a:lnTo>
                      <a:pt x="58" y="656"/>
                    </a:lnTo>
                    <a:lnTo>
                      <a:pt x="64" y="654"/>
                    </a:lnTo>
                    <a:lnTo>
                      <a:pt x="69" y="654"/>
                    </a:lnTo>
                    <a:lnTo>
                      <a:pt x="73" y="653"/>
                    </a:lnTo>
                    <a:lnTo>
                      <a:pt x="77" y="653"/>
                    </a:lnTo>
                    <a:lnTo>
                      <a:pt x="80" y="652"/>
                    </a:lnTo>
                    <a:lnTo>
                      <a:pt x="84" y="650"/>
                    </a:lnTo>
                    <a:lnTo>
                      <a:pt x="87" y="648"/>
                    </a:lnTo>
                    <a:lnTo>
                      <a:pt x="91" y="645"/>
                    </a:lnTo>
                    <a:lnTo>
                      <a:pt x="93" y="640"/>
                    </a:lnTo>
                    <a:lnTo>
                      <a:pt x="95" y="637"/>
                    </a:lnTo>
                    <a:lnTo>
                      <a:pt x="96" y="633"/>
                    </a:lnTo>
                    <a:lnTo>
                      <a:pt x="98" y="630"/>
                    </a:lnTo>
                    <a:lnTo>
                      <a:pt x="100" y="624"/>
                    </a:lnTo>
                    <a:lnTo>
                      <a:pt x="104" y="618"/>
                    </a:lnTo>
                    <a:lnTo>
                      <a:pt x="106" y="611"/>
                    </a:lnTo>
                    <a:lnTo>
                      <a:pt x="109" y="603"/>
                    </a:lnTo>
                    <a:lnTo>
                      <a:pt x="111" y="593"/>
                    </a:lnTo>
                    <a:lnTo>
                      <a:pt x="114" y="582"/>
                    </a:lnTo>
                    <a:lnTo>
                      <a:pt x="117" y="570"/>
                    </a:lnTo>
                    <a:lnTo>
                      <a:pt x="194" y="130"/>
                    </a:lnTo>
                    <a:lnTo>
                      <a:pt x="197" y="120"/>
                    </a:lnTo>
                    <a:lnTo>
                      <a:pt x="198" y="109"/>
                    </a:lnTo>
                    <a:lnTo>
                      <a:pt x="199" y="99"/>
                    </a:lnTo>
                    <a:lnTo>
                      <a:pt x="199" y="90"/>
                    </a:lnTo>
                    <a:lnTo>
                      <a:pt x="200" y="83"/>
                    </a:lnTo>
                    <a:lnTo>
                      <a:pt x="200" y="77"/>
                    </a:lnTo>
                    <a:lnTo>
                      <a:pt x="200" y="73"/>
                    </a:lnTo>
                    <a:lnTo>
                      <a:pt x="200" y="71"/>
                    </a:lnTo>
                    <a:lnTo>
                      <a:pt x="199" y="67"/>
                    </a:lnTo>
                    <a:lnTo>
                      <a:pt x="198" y="63"/>
                    </a:lnTo>
                    <a:lnTo>
                      <a:pt x="195" y="59"/>
                    </a:lnTo>
                    <a:lnTo>
                      <a:pt x="193" y="56"/>
                    </a:lnTo>
                    <a:lnTo>
                      <a:pt x="190" y="53"/>
                    </a:lnTo>
                    <a:lnTo>
                      <a:pt x="188" y="48"/>
                    </a:lnTo>
                    <a:lnTo>
                      <a:pt x="185" y="46"/>
                    </a:lnTo>
                    <a:lnTo>
                      <a:pt x="181" y="43"/>
                    </a:lnTo>
                    <a:lnTo>
                      <a:pt x="178" y="40"/>
                    </a:lnTo>
                    <a:lnTo>
                      <a:pt x="174" y="36"/>
                    </a:lnTo>
                    <a:lnTo>
                      <a:pt x="168" y="33"/>
                    </a:lnTo>
                    <a:lnTo>
                      <a:pt x="163" y="30"/>
                    </a:lnTo>
                    <a:lnTo>
                      <a:pt x="155" y="28"/>
                    </a:lnTo>
                    <a:lnTo>
                      <a:pt x="149" y="26"/>
                    </a:lnTo>
                    <a:lnTo>
                      <a:pt x="141" y="23"/>
                    </a:lnTo>
                    <a:lnTo>
                      <a:pt x="134" y="22"/>
                    </a:lnTo>
                    <a:lnTo>
                      <a:pt x="116" y="19"/>
                    </a:lnTo>
                    <a:lnTo>
                      <a:pt x="119" y="0"/>
                    </a:lnTo>
                    <a:lnTo>
                      <a:pt x="682" y="100"/>
                    </a:lnTo>
                    <a:lnTo>
                      <a:pt x="645" y="305"/>
                    </a:lnTo>
                    <a:lnTo>
                      <a:pt x="628" y="302"/>
                    </a:lnTo>
                    <a:lnTo>
                      <a:pt x="629" y="285"/>
                    </a:lnTo>
                    <a:lnTo>
                      <a:pt x="629" y="269"/>
                    </a:lnTo>
                    <a:lnTo>
                      <a:pt x="627" y="252"/>
                    </a:lnTo>
                    <a:lnTo>
                      <a:pt x="626" y="238"/>
                    </a:lnTo>
                    <a:lnTo>
                      <a:pt x="623" y="225"/>
                    </a:lnTo>
                    <a:lnTo>
                      <a:pt x="620" y="215"/>
                    </a:lnTo>
                    <a:lnTo>
                      <a:pt x="615" y="204"/>
                    </a:lnTo>
                    <a:lnTo>
                      <a:pt x="610" y="195"/>
                    </a:lnTo>
                    <a:lnTo>
                      <a:pt x="603" y="187"/>
                    </a:lnTo>
                    <a:lnTo>
                      <a:pt x="597" y="177"/>
                    </a:lnTo>
                    <a:lnTo>
                      <a:pt x="588" y="168"/>
                    </a:lnTo>
                    <a:lnTo>
                      <a:pt x="580" y="160"/>
                    </a:lnTo>
                    <a:lnTo>
                      <a:pt x="570" y="151"/>
                    </a:lnTo>
                    <a:lnTo>
                      <a:pt x="559" y="143"/>
                    </a:lnTo>
                    <a:lnTo>
                      <a:pt x="548" y="137"/>
                    </a:lnTo>
                    <a:lnTo>
                      <a:pt x="536" y="131"/>
                    </a:lnTo>
                    <a:lnTo>
                      <a:pt x="529" y="128"/>
                    </a:lnTo>
                    <a:lnTo>
                      <a:pt x="519" y="124"/>
                    </a:lnTo>
                    <a:lnTo>
                      <a:pt x="508" y="121"/>
                    </a:lnTo>
                    <a:lnTo>
                      <a:pt x="495" y="116"/>
                    </a:lnTo>
                    <a:lnTo>
                      <a:pt x="481" y="113"/>
                    </a:lnTo>
                    <a:lnTo>
                      <a:pt x="465" y="109"/>
                    </a:lnTo>
                    <a:lnTo>
                      <a:pt x="448" y="106"/>
                    </a:lnTo>
                    <a:lnTo>
                      <a:pt x="431" y="101"/>
                    </a:lnTo>
                    <a:lnTo>
                      <a:pt x="367" y="90"/>
                    </a:lnTo>
                    <a:close/>
                  </a:path>
                </a:pathLst>
              </a:custGeom>
              <a:solidFill>
                <a:srgbClr val="df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5245200" y="4300560"/>
                <a:ext cx="236520" cy="262080"/>
              </a:xfrm>
              <a:custGeom>
                <a:avLst/>
                <a:gdLst/>
                <a:ahLst/>
                <a:rect l="l" t="t" r="r" b="b"/>
                <a:pathLst>
                  <a:path w="743" h="825">
                    <a:moveTo>
                      <a:pt x="439" y="122"/>
                    </a:moveTo>
                    <a:lnTo>
                      <a:pt x="355" y="382"/>
                    </a:lnTo>
                    <a:lnTo>
                      <a:pt x="366" y="385"/>
                    </a:lnTo>
                    <a:lnTo>
                      <a:pt x="380" y="389"/>
                    </a:lnTo>
                    <a:lnTo>
                      <a:pt x="394" y="392"/>
                    </a:lnTo>
                    <a:lnTo>
                      <a:pt x="407" y="393"/>
                    </a:lnTo>
                    <a:lnTo>
                      <a:pt x="420" y="393"/>
                    </a:lnTo>
                    <a:lnTo>
                      <a:pt x="432" y="390"/>
                    </a:lnTo>
                    <a:lnTo>
                      <a:pt x="444" y="387"/>
                    </a:lnTo>
                    <a:lnTo>
                      <a:pt x="454" y="384"/>
                    </a:lnTo>
                    <a:lnTo>
                      <a:pt x="463" y="378"/>
                    </a:lnTo>
                    <a:lnTo>
                      <a:pt x="473" y="370"/>
                    </a:lnTo>
                    <a:lnTo>
                      <a:pt x="484" y="360"/>
                    </a:lnTo>
                    <a:lnTo>
                      <a:pt x="495" y="349"/>
                    </a:lnTo>
                    <a:lnTo>
                      <a:pt x="504" y="338"/>
                    </a:lnTo>
                    <a:lnTo>
                      <a:pt x="514" y="323"/>
                    </a:lnTo>
                    <a:lnTo>
                      <a:pt x="524" y="308"/>
                    </a:lnTo>
                    <a:lnTo>
                      <a:pt x="532" y="291"/>
                    </a:lnTo>
                    <a:lnTo>
                      <a:pt x="541" y="273"/>
                    </a:lnTo>
                    <a:lnTo>
                      <a:pt x="559" y="278"/>
                    </a:lnTo>
                    <a:lnTo>
                      <a:pt x="452" y="616"/>
                    </a:lnTo>
                    <a:lnTo>
                      <a:pt x="433" y="610"/>
                    </a:lnTo>
                    <a:lnTo>
                      <a:pt x="435" y="597"/>
                    </a:lnTo>
                    <a:lnTo>
                      <a:pt x="438" y="584"/>
                    </a:lnTo>
                    <a:lnTo>
                      <a:pt x="438" y="571"/>
                    </a:lnTo>
                    <a:lnTo>
                      <a:pt x="438" y="559"/>
                    </a:lnTo>
                    <a:lnTo>
                      <a:pt x="438" y="547"/>
                    </a:lnTo>
                    <a:lnTo>
                      <a:pt x="436" y="535"/>
                    </a:lnTo>
                    <a:lnTo>
                      <a:pt x="435" y="526"/>
                    </a:lnTo>
                    <a:lnTo>
                      <a:pt x="434" y="515"/>
                    </a:lnTo>
                    <a:lnTo>
                      <a:pt x="434" y="505"/>
                    </a:lnTo>
                    <a:lnTo>
                      <a:pt x="432" y="494"/>
                    </a:lnTo>
                    <a:lnTo>
                      <a:pt x="430" y="486"/>
                    </a:lnTo>
                    <a:lnTo>
                      <a:pt x="428" y="476"/>
                    </a:lnTo>
                    <a:lnTo>
                      <a:pt x="425" y="468"/>
                    </a:lnTo>
                    <a:lnTo>
                      <a:pt x="421" y="461"/>
                    </a:lnTo>
                    <a:lnTo>
                      <a:pt x="417" y="455"/>
                    </a:lnTo>
                    <a:lnTo>
                      <a:pt x="413" y="450"/>
                    </a:lnTo>
                    <a:lnTo>
                      <a:pt x="406" y="445"/>
                    </a:lnTo>
                    <a:lnTo>
                      <a:pt x="400" y="439"/>
                    </a:lnTo>
                    <a:lnTo>
                      <a:pt x="392" y="435"/>
                    </a:lnTo>
                    <a:lnTo>
                      <a:pt x="384" y="429"/>
                    </a:lnTo>
                    <a:lnTo>
                      <a:pt x="375" y="425"/>
                    </a:lnTo>
                    <a:lnTo>
                      <a:pt x="365" y="421"/>
                    </a:lnTo>
                    <a:lnTo>
                      <a:pt x="355" y="417"/>
                    </a:lnTo>
                    <a:lnTo>
                      <a:pt x="346" y="413"/>
                    </a:lnTo>
                    <a:lnTo>
                      <a:pt x="285" y="603"/>
                    </a:lnTo>
                    <a:lnTo>
                      <a:pt x="282" y="616"/>
                    </a:lnTo>
                    <a:lnTo>
                      <a:pt x="279" y="627"/>
                    </a:lnTo>
                    <a:lnTo>
                      <a:pt x="276" y="638"/>
                    </a:lnTo>
                    <a:lnTo>
                      <a:pt x="275" y="647"/>
                    </a:lnTo>
                    <a:lnTo>
                      <a:pt x="272" y="654"/>
                    </a:lnTo>
                    <a:lnTo>
                      <a:pt x="271" y="661"/>
                    </a:lnTo>
                    <a:lnTo>
                      <a:pt x="270" y="666"/>
                    </a:lnTo>
                    <a:lnTo>
                      <a:pt x="269" y="669"/>
                    </a:lnTo>
                    <a:lnTo>
                      <a:pt x="269" y="674"/>
                    </a:lnTo>
                    <a:lnTo>
                      <a:pt x="269" y="677"/>
                    </a:lnTo>
                    <a:lnTo>
                      <a:pt x="269" y="680"/>
                    </a:lnTo>
                    <a:lnTo>
                      <a:pt x="270" y="683"/>
                    </a:lnTo>
                    <a:lnTo>
                      <a:pt x="271" y="687"/>
                    </a:lnTo>
                    <a:lnTo>
                      <a:pt x="273" y="690"/>
                    </a:lnTo>
                    <a:lnTo>
                      <a:pt x="276" y="691"/>
                    </a:lnTo>
                    <a:lnTo>
                      <a:pt x="277" y="692"/>
                    </a:lnTo>
                    <a:lnTo>
                      <a:pt x="280" y="695"/>
                    </a:lnTo>
                    <a:lnTo>
                      <a:pt x="283" y="697"/>
                    </a:lnTo>
                    <a:lnTo>
                      <a:pt x="287" y="701"/>
                    </a:lnTo>
                    <a:lnTo>
                      <a:pt x="292" y="703"/>
                    </a:lnTo>
                    <a:lnTo>
                      <a:pt x="296" y="706"/>
                    </a:lnTo>
                    <a:lnTo>
                      <a:pt x="302" y="708"/>
                    </a:lnTo>
                    <a:lnTo>
                      <a:pt x="308" y="711"/>
                    </a:lnTo>
                    <a:lnTo>
                      <a:pt x="314" y="714"/>
                    </a:lnTo>
                    <a:lnTo>
                      <a:pt x="352" y="725"/>
                    </a:lnTo>
                    <a:lnTo>
                      <a:pt x="374" y="732"/>
                    </a:lnTo>
                    <a:lnTo>
                      <a:pt x="395" y="735"/>
                    </a:lnTo>
                    <a:lnTo>
                      <a:pt x="416" y="738"/>
                    </a:lnTo>
                    <a:lnTo>
                      <a:pt x="435" y="738"/>
                    </a:lnTo>
                    <a:lnTo>
                      <a:pt x="455" y="737"/>
                    </a:lnTo>
                    <a:lnTo>
                      <a:pt x="473" y="735"/>
                    </a:lnTo>
                    <a:lnTo>
                      <a:pt x="491" y="732"/>
                    </a:lnTo>
                    <a:lnTo>
                      <a:pt x="508" y="728"/>
                    </a:lnTo>
                    <a:lnTo>
                      <a:pt x="524" y="721"/>
                    </a:lnTo>
                    <a:lnTo>
                      <a:pt x="540" y="711"/>
                    </a:lnTo>
                    <a:lnTo>
                      <a:pt x="557" y="702"/>
                    </a:lnTo>
                    <a:lnTo>
                      <a:pt x="572" y="689"/>
                    </a:lnTo>
                    <a:lnTo>
                      <a:pt x="589" y="675"/>
                    </a:lnTo>
                    <a:lnTo>
                      <a:pt x="603" y="660"/>
                    </a:lnTo>
                    <a:lnTo>
                      <a:pt x="616" y="642"/>
                    </a:lnTo>
                    <a:lnTo>
                      <a:pt x="629" y="625"/>
                    </a:lnTo>
                    <a:lnTo>
                      <a:pt x="650" y="631"/>
                    </a:lnTo>
                    <a:lnTo>
                      <a:pt x="554" y="825"/>
                    </a:lnTo>
                    <a:lnTo>
                      <a:pt x="0" y="648"/>
                    </a:lnTo>
                    <a:lnTo>
                      <a:pt x="6" y="629"/>
                    </a:lnTo>
                    <a:lnTo>
                      <a:pt x="24" y="636"/>
                    </a:lnTo>
                    <a:lnTo>
                      <a:pt x="31" y="637"/>
                    </a:lnTo>
                    <a:lnTo>
                      <a:pt x="38" y="639"/>
                    </a:lnTo>
                    <a:lnTo>
                      <a:pt x="45" y="640"/>
                    </a:lnTo>
                    <a:lnTo>
                      <a:pt x="52" y="641"/>
                    </a:lnTo>
                    <a:lnTo>
                      <a:pt x="60" y="642"/>
                    </a:lnTo>
                    <a:lnTo>
                      <a:pt x="65" y="642"/>
                    </a:lnTo>
                    <a:lnTo>
                      <a:pt x="71" y="642"/>
                    </a:lnTo>
                    <a:lnTo>
                      <a:pt x="75" y="642"/>
                    </a:lnTo>
                    <a:lnTo>
                      <a:pt x="78" y="643"/>
                    </a:lnTo>
                    <a:lnTo>
                      <a:pt x="81" y="642"/>
                    </a:lnTo>
                    <a:lnTo>
                      <a:pt x="86" y="641"/>
                    </a:lnTo>
                    <a:lnTo>
                      <a:pt x="89" y="638"/>
                    </a:lnTo>
                    <a:lnTo>
                      <a:pt x="92" y="636"/>
                    </a:lnTo>
                    <a:lnTo>
                      <a:pt x="95" y="631"/>
                    </a:lnTo>
                    <a:lnTo>
                      <a:pt x="98" y="628"/>
                    </a:lnTo>
                    <a:lnTo>
                      <a:pt x="100" y="625"/>
                    </a:lnTo>
                    <a:lnTo>
                      <a:pt x="102" y="622"/>
                    </a:lnTo>
                    <a:lnTo>
                      <a:pt x="105" y="617"/>
                    </a:lnTo>
                    <a:lnTo>
                      <a:pt x="109" y="611"/>
                    </a:lnTo>
                    <a:lnTo>
                      <a:pt x="113" y="604"/>
                    </a:lnTo>
                    <a:lnTo>
                      <a:pt x="117" y="597"/>
                    </a:lnTo>
                    <a:lnTo>
                      <a:pt x="121" y="587"/>
                    </a:lnTo>
                    <a:lnTo>
                      <a:pt x="125" y="577"/>
                    </a:lnTo>
                    <a:lnTo>
                      <a:pt x="129" y="567"/>
                    </a:lnTo>
                    <a:lnTo>
                      <a:pt x="265" y="140"/>
                    </a:lnTo>
                    <a:lnTo>
                      <a:pt x="267" y="131"/>
                    </a:lnTo>
                    <a:lnTo>
                      <a:pt x="269" y="121"/>
                    </a:lnTo>
                    <a:lnTo>
                      <a:pt x="271" y="114"/>
                    </a:lnTo>
                    <a:lnTo>
                      <a:pt x="272" y="106"/>
                    </a:lnTo>
                    <a:lnTo>
                      <a:pt x="273" y="100"/>
                    </a:lnTo>
                    <a:lnTo>
                      <a:pt x="275" y="94"/>
                    </a:lnTo>
                    <a:lnTo>
                      <a:pt x="276" y="89"/>
                    </a:lnTo>
                    <a:lnTo>
                      <a:pt x="277" y="86"/>
                    </a:lnTo>
                    <a:lnTo>
                      <a:pt x="277" y="82"/>
                    </a:lnTo>
                    <a:lnTo>
                      <a:pt x="277" y="79"/>
                    </a:lnTo>
                    <a:lnTo>
                      <a:pt x="277" y="75"/>
                    </a:lnTo>
                    <a:lnTo>
                      <a:pt x="276" y="72"/>
                    </a:lnTo>
                    <a:lnTo>
                      <a:pt x="273" y="68"/>
                    </a:lnTo>
                    <a:lnTo>
                      <a:pt x="271" y="65"/>
                    </a:lnTo>
                    <a:lnTo>
                      <a:pt x="269" y="62"/>
                    </a:lnTo>
                    <a:lnTo>
                      <a:pt x="267" y="59"/>
                    </a:lnTo>
                    <a:lnTo>
                      <a:pt x="264" y="54"/>
                    </a:lnTo>
                    <a:lnTo>
                      <a:pt x="259" y="49"/>
                    </a:lnTo>
                    <a:lnTo>
                      <a:pt x="254" y="45"/>
                    </a:lnTo>
                    <a:lnTo>
                      <a:pt x="249" y="40"/>
                    </a:lnTo>
                    <a:lnTo>
                      <a:pt x="241" y="35"/>
                    </a:lnTo>
                    <a:lnTo>
                      <a:pt x="235" y="32"/>
                    </a:lnTo>
                    <a:lnTo>
                      <a:pt x="227" y="27"/>
                    </a:lnTo>
                    <a:lnTo>
                      <a:pt x="218" y="25"/>
                    </a:lnTo>
                    <a:lnTo>
                      <a:pt x="201" y="19"/>
                    </a:lnTo>
                    <a:lnTo>
                      <a:pt x="207" y="0"/>
                    </a:lnTo>
                    <a:lnTo>
                      <a:pt x="743" y="172"/>
                    </a:lnTo>
                    <a:lnTo>
                      <a:pt x="680" y="370"/>
                    </a:lnTo>
                    <a:lnTo>
                      <a:pt x="662" y="365"/>
                    </a:lnTo>
                    <a:lnTo>
                      <a:pt x="663" y="347"/>
                    </a:lnTo>
                    <a:lnTo>
                      <a:pt x="664" y="330"/>
                    </a:lnTo>
                    <a:lnTo>
                      <a:pt x="664" y="315"/>
                    </a:lnTo>
                    <a:lnTo>
                      <a:pt x="662" y="300"/>
                    </a:lnTo>
                    <a:lnTo>
                      <a:pt x="661" y="287"/>
                    </a:lnTo>
                    <a:lnTo>
                      <a:pt x="659" y="274"/>
                    </a:lnTo>
                    <a:lnTo>
                      <a:pt x="656" y="264"/>
                    </a:lnTo>
                    <a:lnTo>
                      <a:pt x="652" y="255"/>
                    </a:lnTo>
                    <a:lnTo>
                      <a:pt x="648" y="246"/>
                    </a:lnTo>
                    <a:lnTo>
                      <a:pt x="643" y="236"/>
                    </a:lnTo>
                    <a:lnTo>
                      <a:pt x="637" y="226"/>
                    </a:lnTo>
                    <a:lnTo>
                      <a:pt x="630" y="216"/>
                    </a:lnTo>
                    <a:lnTo>
                      <a:pt x="622" y="208"/>
                    </a:lnTo>
                    <a:lnTo>
                      <a:pt x="613" y="198"/>
                    </a:lnTo>
                    <a:lnTo>
                      <a:pt x="604" y="191"/>
                    </a:lnTo>
                    <a:lnTo>
                      <a:pt x="593" y="183"/>
                    </a:lnTo>
                    <a:lnTo>
                      <a:pt x="586" y="179"/>
                    </a:lnTo>
                    <a:lnTo>
                      <a:pt x="579" y="174"/>
                    </a:lnTo>
                    <a:lnTo>
                      <a:pt x="569" y="169"/>
                    </a:lnTo>
                    <a:lnTo>
                      <a:pt x="558" y="164"/>
                    </a:lnTo>
                    <a:lnTo>
                      <a:pt x="545" y="158"/>
                    </a:lnTo>
                    <a:lnTo>
                      <a:pt x="531" y="153"/>
                    </a:lnTo>
                    <a:lnTo>
                      <a:pt x="516" y="147"/>
                    </a:lnTo>
                    <a:lnTo>
                      <a:pt x="500" y="142"/>
                    </a:lnTo>
                    <a:lnTo>
                      <a:pt x="439" y="12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86" name=""/>
          <p:cNvSpPr/>
          <p:nvPr/>
        </p:nvSpPr>
        <p:spPr>
          <a:xfrm>
            <a:off x="2577240" y="5645160"/>
            <a:ext cx="392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1a17"/>
                </a:solidFill>
                <a:latin typeface="Geometr231 BT"/>
              </a:rPr>
              <a:t>CHILD'S TEST WILL BE MORE ACCU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3292920" y="5892840"/>
            <a:ext cx="248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1a17"/>
                </a:solidFill>
                <a:latin typeface="Geometr231 BT"/>
              </a:rPr>
              <a:t>AFTER SEVERAL MON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8" name=""/>
          <p:cNvGrpSpPr/>
          <p:nvPr/>
        </p:nvGrpSpPr>
        <p:grpSpPr>
          <a:xfrm>
            <a:off x="2693880" y="1746360"/>
            <a:ext cx="1882800" cy="3752640"/>
            <a:chOff x="2693880" y="1746360"/>
            <a:chExt cx="1882800" cy="3752640"/>
          </a:xfrm>
        </p:grpSpPr>
        <p:sp>
          <p:nvSpPr>
            <p:cNvPr id="5889" name=""/>
            <p:cNvSpPr/>
            <p:nvPr/>
          </p:nvSpPr>
          <p:spPr>
            <a:xfrm>
              <a:off x="3522600" y="2033640"/>
              <a:ext cx="79560" cy="65160"/>
            </a:xfrm>
            <a:custGeom>
              <a:avLst/>
              <a:gdLst/>
              <a:ahLst/>
              <a:rect l="l" t="t" r="r" b="b"/>
              <a:pathLst>
                <a:path w="247" h="207">
                  <a:moveTo>
                    <a:pt x="247" y="207"/>
                  </a:moveTo>
                  <a:lnTo>
                    <a:pt x="0" y="0"/>
                  </a:lnTo>
                  <a:lnTo>
                    <a:pt x="36" y="23"/>
                  </a:lnTo>
                  <a:lnTo>
                    <a:pt x="71" y="47"/>
                  </a:lnTo>
                  <a:lnTo>
                    <a:pt x="103" y="71"/>
                  </a:lnTo>
                  <a:lnTo>
                    <a:pt x="136" y="97"/>
                  </a:lnTo>
                  <a:lnTo>
                    <a:pt x="165" y="123"/>
                  </a:lnTo>
                  <a:lnTo>
                    <a:pt x="194" y="150"/>
                  </a:lnTo>
                  <a:lnTo>
                    <a:pt x="221" y="178"/>
                  </a:lnTo>
                  <a:lnTo>
                    <a:pt x="247" y="207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3497400" y="2019240"/>
              <a:ext cx="120600" cy="101520"/>
            </a:xfrm>
            <a:custGeom>
              <a:avLst/>
              <a:gdLst/>
              <a:ahLst/>
              <a:rect l="l" t="t" r="r" b="b"/>
              <a:pathLst>
                <a:path w="381" h="319">
                  <a:moveTo>
                    <a:pt x="381" y="319"/>
                  </a:moveTo>
                  <a:lnTo>
                    <a:pt x="0" y="0"/>
                  </a:lnTo>
                  <a:lnTo>
                    <a:pt x="31" y="16"/>
                  </a:lnTo>
                  <a:lnTo>
                    <a:pt x="61" y="33"/>
                  </a:lnTo>
                  <a:lnTo>
                    <a:pt x="89" y="50"/>
                  </a:lnTo>
                  <a:lnTo>
                    <a:pt x="118" y="68"/>
                  </a:lnTo>
                  <a:lnTo>
                    <a:pt x="145" y="87"/>
                  </a:lnTo>
                  <a:lnTo>
                    <a:pt x="170" y="105"/>
                  </a:lnTo>
                  <a:lnTo>
                    <a:pt x="195" y="125"/>
                  </a:lnTo>
                  <a:lnTo>
                    <a:pt x="219" y="144"/>
                  </a:lnTo>
                  <a:lnTo>
                    <a:pt x="243" y="165"/>
                  </a:lnTo>
                  <a:lnTo>
                    <a:pt x="264" y="185"/>
                  </a:lnTo>
                  <a:lnTo>
                    <a:pt x="286" y="207"/>
                  </a:lnTo>
                  <a:lnTo>
                    <a:pt x="306" y="228"/>
                  </a:lnTo>
                  <a:lnTo>
                    <a:pt x="327" y="251"/>
                  </a:lnTo>
                  <a:lnTo>
                    <a:pt x="345" y="273"/>
                  </a:lnTo>
                  <a:lnTo>
                    <a:pt x="364" y="296"/>
                  </a:lnTo>
                  <a:lnTo>
                    <a:pt x="381" y="319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3478320" y="2009880"/>
              <a:ext cx="152280" cy="128520"/>
            </a:xfrm>
            <a:custGeom>
              <a:avLst/>
              <a:gdLst/>
              <a:ahLst/>
              <a:rect l="l" t="t" r="r" b="b"/>
              <a:pathLst>
                <a:path w="481" h="401">
                  <a:moveTo>
                    <a:pt x="142" y="72"/>
                  </a:moveTo>
                  <a:lnTo>
                    <a:pt x="389" y="279"/>
                  </a:lnTo>
                  <a:lnTo>
                    <a:pt x="401" y="293"/>
                  </a:lnTo>
                  <a:lnTo>
                    <a:pt x="414" y="308"/>
                  </a:lnTo>
                  <a:lnTo>
                    <a:pt x="426" y="323"/>
                  </a:lnTo>
                  <a:lnTo>
                    <a:pt x="436" y="338"/>
                  </a:lnTo>
                  <a:lnTo>
                    <a:pt x="448" y="355"/>
                  </a:lnTo>
                  <a:lnTo>
                    <a:pt x="459" y="370"/>
                  </a:lnTo>
                  <a:lnTo>
                    <a:pt x="470" y="386"/>
                  </a:lnTo>
                  <a:lnTo>
                    <a:pt x="481" y="401"/>
                  </a:lnTo>
                  <a:lnTo>
                    <a:pt x="0" y="0"/>
                  </a:lnTo>
                  <a:lnTo>
                    <a:pt x="20" y="8"/>
                  </a:lnTo>
                  <a:lnTo>
                    <a:pt x="38" y="16"/>
                  </a:lnTo>
                  <a:lnTo>
                    <a:pt x="57" y="25"/>
                  </a:lnTo>
                  <a:lnTo>
                    <a:pt x="74" y="35"/>
                  </a:lnTo>
                  <a:lnTo>
                    <a:pt x="91" y="43"/>
                  </a:lnTo>
                  <a:lnTo>
                    <a:pt x="108" y="53"/>
                  </a:lnTo>
                  <a:lnTo>
                    <a:pt x="126" y="6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3460680" y="2003400"/>
              <a:ext cx="179280" cy="149400"/>
            </a:xfrm>
            <a:custGeom>
              <a:avLst/>
              <a:gdLst/>
              <a:ahLst/>
              <a:rect l="l" t="t" r="r" b="b"/>
              <a:pathLst>
                <a:path w="563" h="472">
                  <a:moveTo>
                    <a:pt x="116" y="51"/>
                  </a:moveTo>
                  <a:lnTo>
                    <a:pt x="497" y="370"/>
                  </a:lnTo>
                  <a:lnTo>
                    <a:pt x="507" y="383"/>
                  </a:lnTo>
                  <a:lnTo>
                    <a:pt x="515" y="395"/>
                  </a:lnTo>
                  <a:lnTo>
                    <a:pt x="523" y="408"/>
                  </a:lnTo>
                  <a:lnTo>
                    <a:pt x="531" y="420"/>
                  </a:lnTo>
                  <a:lnTo>
                    <a:pt x="540" y="433"/>
                  </a:lnTo>
                  <a:lnTo>
                    <a:pt x="548" y="446"/>
                  </a:lnTo>
                  <a:lnTo>
                    <a:pt x="555" y="459"/>
                  </a:lnTo>
                  <a:lnTo>
                    <a:pt x="563" y="472"/>
                  </a:lnTo>
                  <a:lnTo>
                    <a:pt x="0" y="0"/>
                  </a:lnTo>
                  <a:lnTo>
                    <a:pt x="16" y="7"/>
                  </a:lnTo>
                  <a:lnTo>
                    <a:pt x="31" y="12"/>
                  </a:lnTo>
                  <a:lnTo>
                    <a:pt x="46" y="19"/>
                  </a:lnTo>
                  <a:lnTo>
                    <a:pt x="60" y="25"/>
                  </a:lnTo>
                  <a:lnTo>
                    <a:pt x="75" y="32"/>
                  </a:lnTo>
                  <a:lnTo>
                    <a:pt x="89" y="38"/>
                  </a:lnTo>
                  <a:lnTo>
                    <a:pt x="103" y="45"/>
                  </a:lnTo>
                  <a:lnTo>
                    <a:pt x="116" y="51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3454560" y="2001960"/>
              <a:ext cx="191880" cy="164880"/>
            </a:xfrm>
            <a:custGeom>
              <a:avLst/>
              <a:gdLst/>
              <a:ahLst/>
              <a:rect l="l" t="t" r="r" b="b"/>
              <a:pathLst>
                <a:path w="608" h="521">
                  <a:moveTo>
                    <a:pt x="76" y="29"/>
                  </a:moveTo>
                  <a:lnTo>
                    <a:pt x="557" y="430"/>
                  </a:lnTo>
                  <a:lnTo>
                    <a:pt x="563" y="442"/>
                  </a:lnTo>
                  <a:lnTo>
                    <a:pt x="570" y="453"/>
                  </a:lnTo>
                  <a:lnTo>
                    <a:pt x="577" y="464"/>
                  </a:lnTo>
                  <a:lnTo>
                    <a:pt x="584" y="475"/>
                  </a:lnTo>
                  <a:lnTo>
                    <a:pt x="590" y="486"/>
                  </a:lnTo>
                  <a:lnTo>
                    <a:pt x="597" y="497"/>
                  </a:lnTo>
                  <a:lnTo>
                    <a:pt x="602" y="509"/>
                  </a:lnTo>
                  <a:lnTo>
                    <a:pt x="608" y="521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15" y="3"/>
                  </a:lnTo>
                  <a:lnTo>
                    <a:pt x="24" y="6"/>
                  </a:lnTo>
                  <a:lnTo>
                    <a:pt x="32" y="11"/>
                  </a:lnTo>
                  <a:lnTo>
                    <a:pt x="42" y="14"/>
                  </a:lnTo>
                  <a:lnTo>
                    <a:pt x="50" y="17"/>
                  </a:lnTo>
                  <a:lnTo>
                    <a:pt x="59" y="22"/>
                  </a:lnTo>
                  <a:lnTo>
                    <a:pt x="68" y="25"/>
                  </a:lnTo>
                  <a:lnTo>
                    <a:pt x="76" y="29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3451320" y="2001960"/>
              <a:ext cx="201600" cy="177840"/>
            </a:xfrm>
            <a:custGeom>
              <a:avLst/>
              <a:gdLst/>
              <a:ahLst/>
              <a:rect l="l" t="t" r="r" b="b"/>
              <a:pathLst>
                <a:path w="638" h="561">
                  <a:moveTo>
                    <a:pt x="31" y="6"/>
                  </a:moveTo>
                  <a:lnTo>
                    <a:pt x="594" y="478"/>
                  </a:lnTo>
                  <a:lnTo>
                    <a:pt x="600" y="487"/>
                  </a:lnTo>
                  <a:lnTo>
                    <a:pt x="606" y="498"/>
                  </a:lnTo>
                  <a:lnTo>
                    <a:pt x="611" y="508"/>
                  </a:lnTo>
                  <a:lnTo>
                    <a:pt x="616" y="519"/>
                  </a:lnTo>
                  <a:lnTo>
                    <a:pt x="622" y="530"/>
                  </a:lnTo>
                  <a:lnTo>
                    <a:pt x="627" y="539"/>
                  </a:lnTo>
                  <a:lnTo>
                    <a:pt x="633" y="550"/>
                  </a:lnTo>
                  <a:lnTo>
                    <a:pt x="638" y="561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3" y="19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2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3448080" y="2004840"/>
              <a:ext cx="210960" cy="185760"/>
            </a:xfrm>
            <a:custGeom>
              <a:avLst/>
              <a:gdLst/>
              <a:ahLst/>
              <a:rect l="l" t="t" r="r" b="b"/>
              <a:pathLst>
                <a:path w="665" h="588">
                  <a:moveTo>
                    <a:pt x="18" y="0"/>
                  </a:moveTo>
                  <a:lnTo>
                    <a:pt x="626" y="510"/>
                  </a:lnTo>
                  <a:lnTo>
                    <a:pt x="632" y="520"/>
                  </a:lnTo>
                  <a:lnTo>
                    <a:pt x="636" y="528"/>
                  </a:lnTo>
                  <a:lnTo>
                    <a:pt x="642" y="538"/>
                  </a:lnTo>
                  <a:lnTo>
                    <a:pt x="646" y="548"/>
                  </a:lnTo>
                  <a:lnTo>
                    <a:pt x="651" y="559"/>
                  </a:lnTo>
                  <a:lnTo>
                    <a:pt x="656" y="568"/>
                  </a:lnTo>
                  <a:lnTo>
                    <a:pt x="660" y="578"/>
                  </a:lnTo>
                  <a:lnTo>
                    <a:pt x="665" y="588"/>
                  </a:lnTo>
                  <a:lnTo>
                    <a:pt x="0" y="31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7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3444840" y="2009880"/>
              <a:ext cx="219240" cy="193680"/>
            </a:xfrm>
            <a:custGeom>
              <a:avLst/>
              <a:gdLst/>
              <a:ahLst/>
              <a:rect l="l" t="t" r="r" b="b"/>
              <a:pathLst>
                <a:path w="688" h="608">
                  <a:moveTo>
                    <a:pt x="17" y="0"/>
                  </a:moveTo>
                  <a:lnTo>
                    <a:pt x="655" y="534"/>
                  </a:lnTo>
                  <a:lnTo>
                    <a:pt x="659" y="543"/>
                  </a:lnTo>
                  <a:lnTo>
                    <a:pt x="664" y="552"/>
                  </a:lnTo>
                  <a:lnTo>
                    <a:pt x="668" y="561"/>
                  </a:lnTo>
                  <a:lnTo>
                    <a:pt x="672" y="571"/>
                  </a:lnTo>
                  <a:lnTo>
                    <a:pt x="677" y="580"/>
                  </a:lnTo>
                  <a:lnTo>
                    <a:pt x="681" y="589"/>
                  </a:lnTo>
                  <a:lnTo>
                    <a:pt x="685" y="599"/>
                  </a:lnTo>
                  <a:lnTo>
                    <a:pt x="688" y="608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3443400" y="2014560"/>
              <a:ext cx="225360" cy="200160"/>
            </a:xfrm>
            <a:custGeom>
              <a:avLst/>
              <a:gdLst/>
              <a:ahLst/>
              <a:rect l="l" t="t" r="r" b="b"/>
              <a:pathLst>
                <a:path w="713" h="628">
                  <a:moveTo>
                    <a:pt x="17" y="0"/>
                  </a:moveTo>
                  <a:lnTo>
                    <a:pt x="682" y="557"/>
                  </a:lnTo>
                  <a:lnTo>
                    <a:pt x="686" y="565"/>
                  </a:lnTo>
                  <a:lnTo>
                    <a:pt x="690" y="574"/>
                  </a:lnTo>
                  <a:lnTo>
                    <a:pt x="693" y="584"/>
                  </a:lnTo>
                  <a:lnTo>
                    <a:pt x="697" y="592"/>
                  </a:lnTo>
                  <a:lnTo>
                    <a:pt x="702" y="601"/>
                  </a:lnTo>
                  <a:lnTo>
                    <a:pt x="705" y="611"/>
                  </a:lnTo>
                  <a:lnTo>
                    <a:pt x="708" y="619"/>
                  </a:lnTo>
                  <a:lnTo>
                    <a:pt x="713" y="628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3440160" y="2019240"/>
              <a:ext cx="233280" cy="206280"/>
            </a:xfrm>
            <a:custGeom>
              <a:avLst/>
              <a:gdLst/>
              <a:ahLst/>
              <a:rect l="l" t="t" r="r" b="b"/>
              <a:pathLst>
                <a:path w="734" h="647">
                  <a:moveTo>
                    <a:pt x="17" y="0"/>
                  </a:moveTo>
                  <a:lnTo>
                    <a:pt x="705" y="577"/>
                  </a:lnTo>
                  <a:lnTo>
                    <a:pt x="710" y="586"/>
                  </a:lnTo>
                  <a:lnTo>
                    <a:pt x="713" y="595"/>
                  </a:lnTo>
                  <a:lnTo>
                    <a:pt x="716" y="603"/>
                  </a:lnTo>
                  <a:lnTo>
                    <a:pt x="719" y="612"/>
                  </a:lnTo>
                  <a:lnTo>
                    <a:pt x="724" y="621"/>
                  </a:lnTo>
                  <a:lnTo>
                    <a:pt x="727" y="629"/>
                  </a:lnTo>
                  <a:lnTo>
                    <a:pt x="730" y="638"/>
                  </a:lnTo>
                  <a:lnTo>
                    <a:pt x="734" y="647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7"/>
                  </a:lnTo>
                  <a:lnTo>
                    <a:pt x="10" y="12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3436920" y="2025720"/>
              <a:ext cx="239760" cy="209520"/>
            </a:xfrm>
            <a:custGeom>
              <a:avLst/>
              <a:gdLst/>
              <a:ahLst/>
              <a:rect l="l" t="t" r="r" b="b"/>
              <a:pathLst>
                <a:path w="754" h="663">
                  <a:moveTo>
                    <a:pt x="17" y="0"/>
                  </a:moveTo>
                  <a:lnTo>
                    <a:pt x="730" y="595"/>
                  </a:lnTo>
                  <a:lnTo>
                    <a:pt x="733" y="604"/>
                  </a:lnTo>
                  <a:lnTo>
                    <a:pt x="736" y="612"/>
                  </a:lnTo>
                  <a:lnTo>
                    <a:pt x="739" y="621"/>
                  </a:lnTo>
                  <a:lnTo>
                    <a:pt x="743" y="629"/>
                  </a:lnTo>
                  <a:lnTo>
                    <a:pt x="746" y="637"/>
                  </a:lnTo>
                  <a:lnTo>
                    <a:pt x="749" y="646"/>
                  </a:lnTo>
                  <a:lnTo>
                    <a:pt x="751" y="654"/>
                  </a:lnTo>
                  <a:lnTo>
                    <a:pt x="754" y="663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5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3433680" y="2030400"/>
              <a:ext cx="246240" cy="216000"/>
            </a:xfrm>
            <a:custGeom>
              <a:avLst/>
              <a:gdLst/>
              <a:ahLst/>
              <a:rect l="l" t="t" r="r" b="b"/>
              <a:pathLst>
                <a:path w="775" h="681">
                  <a:moveTo>
                    <a:pt x="18" y="0"/>
                  </a:moveTo>
                  <a:lnTo>
                    <a:pt x="752" y="615"/>
                  </a:lnTo>
                  <a:lnTo>
                    <a:pt x="755" y="622"/>
                  </a:lnTo>
                  <a:lnTo>
                    <a:pt x="758" y="631"/>
                  </a:lnTo>
                  <a:lnTo>
                    <a:pt x="760" y="638"/>
                  </a:lnTo>
                  <a:lnTo>
                    <a:pt x="763" y="647"/>
                  </a:lnTo>
                  <a:lnTo>
                    <a:pt x="767" y="656"/>
                  </a:lnTo>
                  <a:lnTo>
                    <a:pt x="769" y="663"/>
                  </a:lnTo>
                  <a:lnTo>
                    <a:pt x="772" y="672"/>
                  </a:lnTo>
                  <a:lnTo>
                    <a:pt x="775" y="681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3432240" y="2035080"/>
              <a:ext cx="252360" cy="220680"/>
            </a:xfrm>
            <a:custGeom>
              <a:avLst/>
              <a:gdLst/>
              <a:ahLst/>
              <a:rect l="l" t="t" r="r" b="b"/>
              <a:pathLst>
                <a:path w="794" h="696">
                  <a:moveTo>
                    <a:pt x="17" y="0"/>
                  </a:moveTo>
                  <a:lnTo>
                    <a:pt x="771" y="632"/>
                  </a:lnTo>
                  <a:lnTo>
                    <a:pt x="775" y="640"/>
                  </a:lnTo>
                  <a:lnTo>
                    <a:pt x="777" y="647"/>
                  </a:lnTo>
                  <a:lnTo>
                    <a:pt x="780" y="656"/>
                  </a:lnTo>
                  <a:lnTo>
                    <a:pt x="783" y="663"/>
                  </a:lnTo>
                  <a:lnTo>
                    <a:pt x="785" y="672"/>
                  </a:lnTo>
                  <a:lnTo>
                    <a:pt x="789" y="680"/>
                  </a:lnTo>
                  <a:lnTo>
                    <a:pt x="791" y="688"/>
                  </a:lnTo>
                  <a:lnTo>
                    <a:pt x="794" y="696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7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3429000" y="2039760"/>
              <a:ext cx="258840" cy="225720"/>
            </a:xfrm>
            <a:custGeom>
              <a:avLst/>
              <a:gdLst/>
              <a:ahLst/>
              <a:rect l="l" t="t" r="r" b="b"/>
              <a:pathLst>
                <a:path w="812" h="711">
                  <a:moveTo>
                    <a:pt x="16" y="0"/>
                  </a:moveTo>
                  <a:lnTo>
                    <a:pt x="791" y="649"/>
                  </a:lnTo>
                  <a:lnTo>
                    <a:pt x="793" y="656"/>
                  </a:lnTo>
                  <a:lnTo>
                    <a:pt x="797" y="664"/>
                  </a:lnTo>
                  <a:lnTo>
                    <a:pt x="799" y="672"/>
                  </a:lnTo>
                  <a:lnTo>
                    <a:pt x="802" y="680"/>
                  </a:lnTo>
                  <a:lnTo>
                    <a:pt x="804" y="687"/>
                  </a:lnTo>
                  <a:lnTo>
                    <a:pt x="806" y="696"/>
                  </a:lnTo>
                  <a:lnTo>
                    <a:pt x="810" y="704"/>
                  </a:lnTo>
                  <a:lnTo>
                    <a:pt x="812" y="711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3427560" y="2044800"/>
              <a:ext cx="261720" cy="231840"/>
            </a:xfrm>
            <a:custGeom>
              <a:avLst/>
              <a:gdLst/>
              <a:ahLst/>
              <a:rect l="l" t="t" r="r" b="b"/>
              <a:pathLst>
                <a:path w="829" h="727">
                  <a:moveTo>
                    <a:pt x="16" y="0"/>
                  </a:moveTo>
                  <a:lnTo>
                    <a:pt x="810" y="664"/>
                  </a:lnTo>
                  <a:lnTo>
                    <a:pt x="812" y="671"/>
                  </a:lnTo>
                  <a:lnTo>
                    <a:pt x="814" y="680"/>
                  </a:lnTo>
                  <a:lnTo>
                    <a:pt x="817" y="688"/>
                  </a:lnTo>
                  <a:lnTo>
                    <a:pt x="820" y="695"/>
                  </a:lnTo>
                  <a:lnTo>
                    <a:pt x="822" y="703"/>
                  </a:lnTo>
                  <a:lnTo>
                    <a:pt x="824" y="711"/>
                  </a:lnTo>
                  <a:lnTo>
                    <a:pt x="826" y="719"/>
                  </a:lnTo>
                  <a:lnTo>
                    <a:pt x="829" y="727"/>
                  </a:lnTo>
                  <a:lnTo>
                    <a:pt x="0" y="32"/>
                  </a:lnTo>
                  <a:lnTo>
                    <a:pt x="2" y="27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3424320" y="2049480"/>
              <a:ext cx="268200" cy="236520"/>
            </a:xfrm>
            <a:custGeom>
              <a:avLst/>
              <a:gdLst/>
              <a:ahLst/>
              <a:rect l="l" t="t" r="r" b="b"/>
              <a:pathLst>
                <a:path w="847" h="742">
                  <a:moveTo>
                    <a:pt x="17" y="0"/>
                  </a:moveTo>
                  <a:lnTo>
                    <a:pt x="829" y="680"/>
                  </a:lnTo>
                  <a:lnTo>
                    <a:pt x="831" y="689"/>
                  </a:lnTo>
                  <a:lnTo>
                    <a:pt x="833" y="696"/>
                  </a:lnTo>
                  <a:lnTo>
                    <a:pt x="835" y="704"/>
                  </a:lnTo>
                  <a:lnTo>
                    <a:pt x="838" y="712"/>
                  </a:lnTo>
                  <a:lnTo>
                    <a:pt x="841" y="719"/>
                  </a:lnTo>
                  <a:lnTo>
                    <a:pt x="843" y="727"/>
                  </a:lnTo>
                  <a:lnTo>
                    <a:pt x="845" y="734"/>
                  </a:lnTo>
                  <a:lnTo>
                    <a:pt x="847" y="742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1"/>
                  </a:lnTo>
                  <a:lnTo>
                    <a:pt x="9" y="17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3421080" y="2055960"/>
              <a:ext cx="274680" cy="239400"/>
            </a:xfrm>
            <a:custGeom>
              <a:avLst/>
              <a:gdLst/>
              <a:ahLst/>
              <a:rect l="l" t="t" r="r" b="b"/>
              <a:pathLst>
                <a:path w="865" h="756">
                  <a:moveTo>
                    <a:pt x="18" y="0"/>
                  </a:moveTo>
                  <a:lnTo>
                    <a:pt x="847" y="695"/>
                  </a:lnTo>
                  <a:lnTo>
                    <a:pt x="850" y="702"/>
                  </a:lnTo>
                  <a:lnTo>
                    <a:pt x="852" y="710"/>
                  </a:lnTo>
                  <a:lnTo>
                    <a:pt x="854" y="717"/>
                  </a:lnTo>
                  <a:lnTo>
                    <a:pt x="856" y="725"/>
                  </a:lnTo>
                  <a:lnTo>
                    <a:pt x="858" y="732"/>
                  </a:lnTo>
                  <a:lnTo>
                    <a:pt x="860" y="740"/>
                  </a:lnTo>
                  <a:lnTo>
                    <a:pt x="863" y="749"/>
                  </a:lnTo>
                  <a:lnTo>
                    <a:pt x="865" y="756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3417840" y="2060640"/>
              <a:ext cx="281160" cy="244440"/>
            </a:xfrm>
            <a:custGeom>
              <a:avLst/>
              <a:gdLst/>
              <a:ahLst/>
              <a:rect l="l" t="t" r="r" b="b"/>
              <a:pathLst>
                <a:path w="881" h="769">
                  <a:moveTo>
                    <a:pt x="17" y="0"/>
                  </a:moveTo>
                  <a:lnTo>
                    <a:pt x="864" y="709"/>
                  </a:lnTo>
                  <a:lnTo>
                    <a:pt x="866" y="716"/>
                  </a:lnTo>
                  <a:lnTo>
                    <a:pt x="868" y="724"/>
                  </a:lnTo>
                  <a:lnTo>
                    <a:pt x="871" y="731"/>
                  </a:lnTo>
                  <a:lnTo>
                    <a:pt x="873" y="739"/>
                  </a:lnTo>
                  <a:lnTo>
                    <a:pt x="875" y="747"/>
                  </a:lnTo>
                  <a:lnTo>
                    <a:pt x="877" y="754"/>
                  </a:lnTo>
                  <a:lnTo>
                    <a:pt x="879" y="762"/>
                  </a:lnTo>
                  <a:lnTo>
                    <a:pt x="881" y="769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7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3416400" y="2065320"/>
              <a:ext cx="284040" cy="249120"/>
            </a:xfrm>
            <a:custGeom>
              <a:avLst/>
              <a:gdLst/>
              <a:ahLst/>
              <a:rect l="l" t="t" r="r" b="b"/>
              <a:pathLst>
                <a:path w="899" h="784">
                  <a:moveTo>
                    <a:pt x="17" y="0"/>
                  </a:moveTo>
                  <a:lnTo>
                    <a:pt x="882" y="724"/>
                  </a:lnTo>
                  <a:lnTo>
                    <a:pt x="884" y="732"/>
                  </a:lnTo>
                  <a:lnTo>
                    <a:pt x="886" y="738"/>
                  </a:lnTo>
                  <a:lnTo>
                    <a:pt x="888" y="746"/>
                  </a:lnTo>
                  <a:lnTo>
                    <a:pt x="890" y="753"/>
                  </a:lnTo>
                  <a:lnTo>
                    <a:pt x="893" y="761"/>
                  </a:lnTo>
                  <a:lnTo>
                    <a:pt x="895" y="768"/>
                  </a:lnTo>
                  <a:lnTo>
                    <a:pt x="897" y="776"/>
                  </a:lnTo>
                  <a:lnTo>
                    <a:pt x="899" y="784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3413160" y="2070000"/>
              <a:ext cx="290520" cy="254160"/>
            </a:xfrm>
            <a:custGeom>
              <a:avLst/>
              <a:gdLst/>
              <a:ahLst/>
              <a:rect l="l" t="t" r="r" b="b"/>
              <a:pathLst>
                <a:path w="915" h="799">
                  <a:moveTo>
                    <a:pt x="17" y="0"/>
                  </a:moveTo>
                  <a:lnTo>
                    <a:pt x="898" y="738"/>
                  </a:lnTo>
                  <a:lnTo>
                    <a:pt x="901" y="746"/>
                  </a:lnTo>
                  <a:lnTo>
                    <a:pt x="903" y="753"/>
                  </a:lnTo>
                  <a:lnTo>
                    <a:pt x="905" y="761"/>
                  </a:lnTo>
                  <a:lnTo>
                    <a:pt x="907" y="769"/>
                  </a:lnTo>
                  <a:lnTo>
                    <a:pt x="908" y="776"/>
                  </a:lnTo>
                  <a:lnTo>
                    <a:pt x="910" y="784"/>
                  </a:lnTo>
                  <a:lnTo>
                    <a:pt x="912" y="791"/>
                  </a:lnTo>
                  <a:lnTo>
                    <a:pt x="915" y="799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5" y="25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3409920" y="2075040"/>
              <a:ext cx="295200" cy="258480"/>
            </a:xfrm>
            <a:custGeom>
              <a:avLst/>
              <a:gdLst/>
              <a:ahLst/>
              <a:rect l="l" t="t" r="r" b="b"/>
              <a:pathLst>
                <a:path w="930" h="812">
                  <a:moveTo>
                    <a:pt x="16" y="0"/>
                  </a:moveTo>
                  <a:lnTo>
                    <a:pt x="915" y="753"/>
                  </a:lnTo>
                  <a:lnTo>
                    <a:pt x="916" y="760"/>
                  </a:lnTo>
                  <a:lnTo>
                    <a:pt x="918" y="768"/>
                  </a:lnTo>
                  <a:lnTo>
                    <a:pt x="920" y="775"/>
                  </a:lnTo>
                  <a:lnTo>
                    <a:pt x="923" y="783"/>
                  </a:lnTo>
                  <a:lnTo>
                    <a:pt x="925" y="789"/>
                  </a:lnTo>
                  <a:lnTo>
                    <a:pt x="927" y="797"/>
                  </a:lnTo>
                  <a:lnTo>
                    <a:pt x="928" y="804"/>
                  </a:lnTo>
                  <a:lnTo>
                    <a:pt x="930" y="812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3408480" y="2081160"/>
              <a:ext cx="299880" cy="260280"/>
            </a:xfrm>
            <a:custGeom>
              <a:avLst/>
              <a:gdLst/>
              <a:ahLst/>
              <a:rect l="l" t="t" r="r" b="b"/>
              <a:pathLst>
                <a:path w="947" h="824">
                  <a:moveTo>
                    <a:pt x="17" y="0"/>
                  </a:moveTo>
                  <a:lnTo>
                    <a:pt x="932" y="766"/>
                  </a:lnTo>
                  <a:lnTo>
                    <a:pt x="934" y="772"/>
                  </a:lnTo>
                  <a:lnTo>
                    <a:pt x="936" y="780"/>
                  </a:lnTo>
                  <a:lnTo>
                    <a:pt x="937" y="787"/>
                  </a:lnTo>
                  <a:lnTo>
                    <a:pt x="939" y="795"/>
                  </a:lnTo>
                  <a:lnTo>
                    <a:pt x="941" y="803"/>
                  </a:lnTo>
                  <a:lnTo>
                    <a:pt x="943" y="810"/>
                  </a:lnTo>
                  <a:lnTo>
                    <a:pt x="946" y="817"/>
                  </a:lnTo>
                  <a:lnTo>
                    <a:pt x="947" y="824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3405240" y="2085840"/>
              <a:ext cx="304920" cy="265320"/>
            </a:xfrm>
            <a:custGeom>
              <a:avLst/>
              <a:gdLst/>
              <a:ahLst/>
              <a:rect l="l" t="t" r="r" b="b"/>
              <a:pathLst>
                <a:path w="962" h="837">
                  <a:moveTo>
                    <a:pt x="17" y="0"/>
                  </a:moveTo>
                  <a:lnTo>
                    <a:pt x="947" y="779"/>
                  </a:lnTo>
                  <a:lnTo>
                    <a:pt x="949" y="787"/>
                  </a:lnTo>
                  <a:lnTo>
                    <a:pt x="951" y="794"/>
                  </a:lnTo>
                  <a:lnTo>
                    <a:pt x="953" y="801"/>
                  </a:lnTo>
                  <a:lnTo>
                    <a:pt x="955" y="808"/>
                  </a:lnTo>
                  <a:lnTo>
                    <a:pt x="957" y="816"/>
                  </a:lnTo>
                  <a:lnTo>
                    <a:pt x="959" y="823"/>
                  </a:lnTo>
                  <a:lnTo>
                    <a:pt x="961" y="831"/>
                  </a:lnTo>
                  <a:lnTo>
                    <a:pt x="962" y="837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3402000" y="2090880"/>
              <a:ext cx="311040" cy="269640"/>
            </a:xfrm>
            <a:custGeom>
              <a:avLst/>
              <a:gdLst/>
              <a:ahLst/>
              <a:rect l="l" t="t" r="r" b="b"/>
              <a:pathLst>
                <a:path w="978" h="852">
                  <a:moveTo>
                    <a:pt x="16" y="0"/>
                  </a:moveTo>
                  <a:lnTo>
                    <a:pt x="963" y="792"/>
                  </a:lnTo>
                  <a:lnTo>
                    <a:pt x="965" y="800"/>
                  </a:lnTo>
                  <a:lnTo>
                    <a:pt x="967" y="807"/>
                  </a:lnTo>
                  <a:lnTo>
                    <a:pt x="968" y="815"/>
                  </a:lnTo>
                  <a:lnTo>
                    <a:pt x="970" y="821"/>
                  </a:lnTo>
                  <a:lnTo>
                    <a:pt x="972" y="829"/>
                  </a:lnTo>
                  <a:lnTo>
                    <a:pt x="975" y="836"/>
                  </a:lnTo>
                  <a:lnTo>
                    <a:pt x="977" y="844"/>
                  </a:lnTo>
                  <a:lnTo>
                    <a:pt x="978" y="852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3400560" y="2095560"/>
              <a:ext cx="314280" cy="274680"/>
            </a:xfrm>
            <a:custGeom>
              <a:avLst/>
              <a:gdLst/>
              <a:ahLst/>
              <a:rect l="l" t="t" r="r" b="b"/>
              <a:pathLst>
                <a:path w="994" h="865">
                  <a:moveTo>
                    <a:pt x="17" y="0"/>
                  </a:moveTo>
                  <a:lnTo>
                    <a:pt x="979" y="805"/>
                  </a:lnTo>
                  <a:lnTo>
                    <a:pt x="981" y="813"/>
                  </a:lnTo>
                  <a:lnTo>
                    <a:pt x="984" y="820"/>
                  </a:lnTo>
                  <a:lnTo>
                    <a:pt x="986" y="828"/>
                  </a:lnTo>
                  <a:lnTo>
                    <a:pt x="987" y="836"/>
                  </a:lnTo>
                  <a:lnTo>
                    <a:pt x="989" y="843"/>
                  </a:lnTo>
                  <a:lnTo>
                    <a:pt x="991" y="850"/>
                  </a:lnTo>
                  <a:lnTo>
                    <a:pt x="993" y="857"/>
                  </a:lnTo>
                  <a:lnTo>
                    <a:pt x="994" y="865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4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3397320" y="2100240"/>
              <a:ext cx="320760" cy="279360"/>
            </a:xfrm>
            <a:custGeom>
              <a:avLst/>
              <a:gdLst/>
              <a:ahLst/>
              <a:rect l="l" t="t" r="r" b="b"/>
              <a:pathLst>
                <a:path w="1010" h="878">
                  <a:moveTo>
                    <a:pt x="17" y="0"/>
                  </a:moveTo>
                  <a:lnTo>
                    <a:pt x="995" y="820"/>
                  </a:lnTo>
                  <a:lnTo>
                    <a:pt x="997" y="827"/>
                  </a:lnTo>
                  <a:lnTo>
                    <a:pt x="999" y="834"/>
                  </a:lnTo>
                  <a:lnTo>
                    <a:pt x="1001" y="841"/>
                  </a:lnTo>
                  <a:lnTo>
                    <a:pt x="1002" y="849"/>
                  </a:lnTo>
                  <a:lnTo>
                    <a:pt x="1004" y="856"/>
                  </a:lnTo>
                  <a:lnTo>
                    <a:pt x="1007" y="864"/>
                  </a:lnTo>
                  <a:lnTo>
                    <a:pt x="1009" y="870"/>
                  </a:lnTo>
                  <a:lnTo>
                    <a:pt x="1010" y="878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7"/>
                  </a:lnTo>
                  <a:lnTo>
                    <a:pt x="10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3394080" y="2106720"/>
              <a:ext cx="326880" cy="282600"/>
            </a:xfrm>
            <a:custGeom>
              <a:avLst/>
              <a:gdLst/>
              <a:ahLst/>
              <a:rect l="l" t="t" r="r" b="b"/>
              <a:pathLst>
                <a:path w="1027" h="890">
                  <a:moveTo>
                    <a:pt x="16" y="0"/>
                  </a:moveTo>
                  <a:lnTo>
                    <a:pt x="1010" y="832"/>
                  </a:lnTo>
                  <a:lnTo>
                    <a:pt x="1012" y="839"/>
                  </a:lnTo>
                  <a:lnTo>
                    <a:pt x="1015" y="847"/>
                  </a:lnTo>
                  <a:lnTo>
                    <a:pt x="1017" y="853"/>
                  </a:lnTo>
                  <a:lnTo>
                    <a:pt x="1018" y="861"/>
                  </a:lnTo>
                  <a:lnTo>
                    <a:pt x="1020" y="869"/>
                  </a:lnTo>
                  <a:lnTo>
                    <a:pt x="1022" y="876"/>
                  </a:lnTo>
                  <a:lnTo>
                    <a:pt x="1024" y="884"/>
                  </a:lnTo>
                  <a:lnTo>
                    <a:pt x="1027" y="890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3392640" y="2111400"/>
              <a:ext cx="330120" cy="287280"/>
            </a:xfrm>
            <a:custGeom>
              <a:avLst/>
              <a:gdLst/>
              <a:ahLst/>
              <a:rect l="l" t="t" r="r" b="b"/>
              <a:pathLst>
                <a:path w="1043" h="904">
                  <a:moveTo>
                    <a:pt x="17" y="0"/>
                  </a:moveTo>
                  <a:lnTo>
                    <a:pt x="1027" y="845"/>
                  </a:lnTo>
                  <a:lnTo>
                    <a:pt x="1029" y="853"/>
                  </a:lnTo>
                  <a:lnTo>
                    <a:pt x="1031" y="860"/>
                  </a:lnTo>
                  <a:lnTo>
                    <a:pt x="1033" y="868"/>
                  </a:lnTo>
                  <a:lnTo>
                    <a:pt x="1036" y="875"/>
                  </a:lnTo>
                  <a:lnTo>
                    <a:pt x="1037" y="882"/>
                  </a:lnTo>
                  <a:lnTo>
                    <a:pt x="1039" y="889"/>
                  </a:lnTo>
                  <a:lnTo>
                    <a:pt x="1041" y="897"/>
                  </a:lnTo>
                  <a:lnTo>
                    <a:pt x="1043" y="904"/>
                  </a:lnTo>
                  <a:lnTo>
                    <a:pt x="0" y="31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3" y="7"/>
                  </a:lnTo>
                  <a:lnTo>
                    <a:pt x="15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3389400" y="2116080"/>
              <a:ext cx="336600" cy="292320"/>
            </a:xfrm>
            <a:custGeom>
              <a:avLst/>
              <a:gdLst/>
              <a:ahLst/>
              <a:rect l="l" t="t" r="r" b="b"/>
              <a:pathLst>
                <a:path w="1058" h="919">
                  <a:moveTo>
                    <a:pt x="16" y="0"/>
                  </a:moveTo>
                  <a:lnTo>
                    <a:pt x="1043" y="859"/>
                  </a:lnTo>
                  <a:lnTo>
                    <a:pt x="1044" y="867"/>
                  </a:lnTo>
                  <a:lnTo>
                    <a:pt x="1046" y="874"/>
                  </a:lnTo>
                  <a:lnTo>
                    <a:pt x="1048" y="882"/>
                  </a:lnTo>
                  <a:lnTo>
                    <a:pt x="1050" y="889"/>
                  </a:lnTo>
                  <a:lnTo>
                    <a:pt x="1052" y="897"/>
                  </a:lnTo>
                  <a:lnTo>
                    <a:pt x="1054" y="905"/>
                  </a:lnTo>
                  <a:lnTo>
                    <a:pt x="1055" y="912"/>
                  </a:lnTo>
                  <a:lnTo>
                    <a:pt x="1058" y="919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3386160" y="2120760"/>
              <a:ext cx="341280" cy="297000"/>
            </a:xfrm>
            <a:custGeom>
              <a:avLst/>
              <a:gdLst/>
              <a:ahLst/>
              <a:rect l="l" t="t" r="r" b="b"/>
              <a:pathLst>
                <a:path w="1075" h="933">
                  <a:moveTo>
                    <a:pt x="16" y="0"/>
                  </a:moveTo>
                  <a:lnTo>
                    <a:pt x="1059" y="873"/>
                  </a:lnTo>
                  <a:lnTo>
                    <a:pt x="1061" y="881"/>
                  </a:lnTo>
                  <a:lnTo>
                    <a:pt x="1062" y="889"/>
                  </a:lnTo>
                  <a:lnTo>
                    <a:pt x="1064" y="896"/>
                  </a:lnTo>
                  <a:lnTo>
                    <a:pt x="1067" y="903"/>
                  </a:lnTo>
                  <a:lnTo>
                    <a:pt x="1069" y="910"/>
                  </a:lnTo>
                  <a:lnTo>
                    <a:pt x="1071" y="918"/>
                  </a:lnTo>
                  <a:lnTo>
                    <a:pt x="1073" y="925"/>
                  </a:lnTo>
                  <a:lnTo>
                    <a:pt x="1075" y="933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3384720" y="2125800"/>
              <a:ext cx="345960" cy="301320"/>
            </a:xfrm>
            <a:custGeom>
              <a:avLst/>
              <a:gdLst/>
              <a:ahLst/>
              <a:rect l="l" t="t" r="r" b="b"/>
              <a:pathLst>
                <a:path w="1092" h="947">
                  <a:moveTo>
                    <a:pt x="17" y="0"/>
                  </a:moveTo>
                  <a:lnTo>
                    <a:pt x="1075" y="887"/>
                  </a:lnTo>
                  <a:lnTo>
                    <a:pt x="1077" y="894"/>
                  </a:lnTo>
                  <a:lnTo>
                    <a:pt x="1079" y="902"/>
                  </a:lnTo>
                  <a:lnTo>
                    <a:pt x="1081" y="909"/>
                  </a:lnTo>
                  <a:lnTo>
                    <a:pt x="1083" y="917"/>
                  </a:lnTo>
                  <a:lnTo>
                    <a:pt x="1085" y="924"/>
                  </a:lnTo>
                  <a:lnTo>
                    <a:pt x="1088" y="932"/>
                  </a:lnTo>
                  <a:lnTo>
                    <a:pt x="1090" y="940"/>
                  </a:lnTo>
                  <a:lnTo>
                    <a:pt x="1092" y="947"/>
                  </a:lnTo>
                  <a:lnTo>
                    <a:pt x="0" y="33"/>
                  </a:lnTo>
                  <a:lnTo>
                    <a:pt x="2" y="30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3381480" y="2131920"/>
              <a:ext cx="352440" cy="304920"/>
            </a:xfrm>
            <a:custGeom>
              <a:avLst/>
              <a:gdLst/>
              <a:ahLst/>
              <a:rect l="l" t="t" r="r" b="b"/>
              <a:pathLst>
                <a:path w="1109" h="960">
                  <a:moveTo>
                    <a:pt x="16" y="0"/>
                  </a:moveTo>
                  <a:lnTo>
                    <a:pt x="1091" y="900"/>
                  </a:lnTo>
                  <a:lnTo>
                    <a:pt x="1093" y="907"/>
                  </a:lnTo>
                  <a:lnTo>
                    <a:pt x="1096" y="915"/>
                  </a:lnTo>
                  <a:lnTo>
                    <a:pt x="1098" y="923"/>
                  </a:lnTo>
                  <a:lnTo>
                    <a:pt x="1100" y="930"/>
                  </a:lnTo>
                  <a:lnTo>
                    <a:pt x="1102" y="938"/>
                  </a:lnTo>
                  <a:lnTo>
                    <a:pt x="1104" y="945"/>
                  </a:lnTo>
                  <a:lnTo>
                    <a:pt x="1106" y="953"/>
                  </a:lnTo>
                  <a:lnTo>
                    <a:pt x="1109" y="960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3378240" y="2136600"/>
              <a:ext cx="358560" cy="309600"/>
            </a:xfrm>
            <a:custGeom>
              <a:avLst/>
              <a:gdLst/>
              <a:ahLst/>
              <a:rect l="l" t="t" r="r" b="b"/>
              <a:pathLst>
                <a:path w="1126" h="975">
                  <a:moveTo>
                    <a:pt x="17" y="0"/>
                  </a:moveTo>
                  <a:lnTo>
                    <a:pt x="1109" y="914"/>
                  </a:lnTo>
                  <a:lnTo>
                    <a:pt x="1111" y="922"/>
                  </a:lnTo>
                  <a:lnTo>
                    <a:pt x="1113" y="929"/>
                  </a:lnTo>
                  <a:lnTo>
                    <a:pt x="1115" y="937"/>
                  </a:lnTo>
                  <a:lnTo>
                    <a:pt x="1118" y="944"/>
                  </a:lnTo>
                  <a:lnTo>
                    <a:pt x="1120" y="952"/>
                  </a:lnTo>
                  <a:lnTo>
                    <a:pt x="1122" y="959"/>
                  </a:lnTo>
                  <a:lnTo>
                    <a:pt x="1124" y="967"/>
                  </a:lnTo>
                  <a:lnTo>
                    <a:pt x="1126" y="975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6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3376440" y="2141640"/>
              <a:ext cx="363600" cy="314280"/>
            </a:xfrm>
            <a:custGeom>
              <a:avLst/>
              <a:gdLst/>
              <a:ahLst/>
              <a:rect l="l" t="t" r="r" b="b"/>
              <a:pathLst>
                <a:path w="1143" h="989">
                  <a:moveTo>
                    <a:pt x="16" y="0"/>
                  </a:moveTo>
                  <a:lnTo>
                    <a:pt x="1125" y="927"/>
                  </a:lnTo>
                  <a:lnTo>
                    <a:pt x="1127" y="935"/>
                  </a:lnTo>
                  <a:lnTo>
                    <a:pt x="1129" y="942"/>
                  </a:lnTo>
                  <a:lnTo>
                    <a:pt x="1131" y="951"/>
                  </a:lnTo>
                  <a:lnTo>
                    <a:pt x="1133" y="959"/>
                  </a:lnTo>
                  <a:lnTo>
                    <a:pt x="1135" y="966"/>
                  </a:lnTo>
                  <a:lnTo>
                    <a:pt x="1137" y="974"/>
                  </a:lnTo>
                  <a:lnTo>
                    <a:pt x="1141" y="981"/>
                  </a:lnTo>
                  <a:lnTo>
                    <a:pt x="1143" y="989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4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3373560" y="2147760"/>
              <a:ext cx="369720" cy="317520"/>
            </a:xfrm>
            <a:custGeom>
              <a:avLst/>
              <a:gdLst/>
              <a:ahLst/>
              <a:rect l="l" t="t" r="r" b="b"/>
              <a:pathLst>
                <a:path w="1162" h="1004">
                  <a:moveTo>
                    <a:pt x="16" y="0"/>
                  </a:moveTo>
                  <a:lnTo>
                    <a:pt x="1142" y="942"/>
                  </a:lnTo>
                  <a:lnTo>
                    <a:pt x="1144" y="950"/>
                  </a:lnTo>
                  <a:lnTo>
                    <a:pt x="1146" y="958"/>
                  </a:lnTo>
                  <a:lnTo>
                    <a:pt x="1150" y="965"/>
                  </a:lnTo>
                  <a:lnTo>
                    <a:pt x="1152" y="973"/>
                  </a:lnTo>
                  <a:lnTo>
                    <a:pt x="1154" y="982"/>
                  </a:lnTo>
                  <a:lnTo>
                    <a:pt x="1156" y="989"/>
                  </a:lnTo>
                  <a:lnTo>
                    <a:pt x="1159" y="997"/>
                  </a:lnTo>
                  <a:lnTo>
                    <a:pt x="1162" y="1004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9" y="17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3371760" y="2152800"/>
              <a:ext cx="374760" cy="323640"/>
            </a:xfrm>
            <a:custGeom>
              <a:avLst/>
              <a:gdLst/>
              <a:ahLst/>
              <a:rect l="l" t="t" r="r" b="b"/>
              <a:pathLst>
                <a:path w="1179" h="1020">
                  <a:moveTo>
                    <a:pt x="16" y="0"/>
                  </a:moveTo>
                  <a:lnTo>
                    <a:pt x="1159" y="956"/>
                  </a:lnTo>
                  <a:lnTo>
                    <a:pt x="1161" y="963"/>
                  </a:lnTo>
                  <a:lnTo>
                    <a:pt x="1163" y="972"/>
                  </a:lnTo>
                  <a:lnTo>
                    <a:pt x="1166" y="980"/>
                  </a:lnTo>
                  <a:lnTo>
                    <a:pt x="1169" y="988"/>
                  </a:lnTo>
                  <a:lnTo>
                    <a:pt x="1172" y="996"/>
                  </a:lnTo>
                  <a:lnTo>
                    <a:pt x="1174" y="1003"/>
                  </a:lnTo>
                  <a:lnTo>
                    <a:pt x="1177" y="1012"/>
                  </a:lnTo>
                  <a:lnTo>
                    <a:pt x="1179" y="1020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20"/>
                  </a:lnTo>
                  <a:lnTo>
                    <a:pt x="7" y="16"/>
                  </a:lnTo>
                  <a:lnTo>
                    <a:pt x="9" y="11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3368520" y="2157480"/>
              <a:ext cx="381240" cy="328680"/>
            </a:xfrm>
            <a:custGeom>
              <a:avLst/>
              <a:gdLst/>
              <a:ahLst/>
              <a:rect l="l" t="t" r="r" b="b"/>
              <a:pathLst>
                <a:path w="1199" h="1036">
                  <a:moveTo>
                    <a:pt x="15" y="0"/>
                  </a:moveTo>
                  <a:lnTo>
                    <a:pt x="1177" y="971"/>
                  </a:lnTo>
                  <a:lnTo>
                    <a:pt x="1180" y="980"/>
                  </a:lnTo>
                  <a:lnTo>
                    <a:pt x="1182" y="987"/>
                  </a:lnTo>
                  <a:lnTo>
                    <a:pt x="1185" y="996"/>
                  </a:lnTo>
                  <a:lnTo>
                    <a:pt x="1187" y="1004"/>
                  </a:lnTo>
                  <a:lnTo>
                    <a:pt x="1191" y="1012"/>
                  </a:lnTo>
                  <a:lnTo>
                    <a:pt x="1193" y="1020"/>
                  </a:lnTo>
                  <a:lnTo>
                    <a:pt x="1196" y="1029"/>
                  </a:lnTo>
                  <a:lnTo>
                    <a:pt x="1199" y="1036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3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4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3367080" y="2162160"/>
              <a:ext cx="385920" cy="334800"/>
            </a:xfrm>
            <a:custGeom>
              <a:avLst/>
              <a:gdLst/>
              <a:ahLst/>
              <a:rect l="l" t="t" r="r" b="b"/>
              <a:pathLst>
                <a:path w="1219" h="1054">
                  <a:moveTo>
                    <a:pt x="16" y="0"/>
                  </a:moveTo>
                  <a:lnTo>
                    <a:pt x="1195" y="988"/>
                  </a:lnTo>
                  <a:lnTo>
                    <a:pt x="1199" y="996"/>
                  </a:lnTo>
                  <a:lnTo>
                    <a:pt x="1201" y="1004"/>
                  </a:lnTo>
                  <a:lnTo>
                    <a:pt x="1204" y="1013"/>
                  </a:lnTo>
                  <a:lnTo>
                    <a:pt x="1207" y="1020"/>
                  </a:lnTo>
                  <a:lnTo>
                    <a:pt x="1209" y="1029"/>
                  </a:lnTo>
                  <a:lnTo>
                    <a:pt x="1213" y="1037"/>
                  </a:lnTo>
                  <a:lnTo>
                    <a:pt x="1216" y="1045"/>
                  </a:lnTo>
                  <a:lnTo>
                    <a:pt x="1219" y="1054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9" y="12"/>
                  </a:lnTo>
                  <a:lnTo>
                    <a:pt x="11" y="9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3363840" y="2168640"/>
              <a:ext cx="393840" cy="339480"/>
            </a:xfrm>
            <a:custGeom>
              <a:avLst/>
              <a:gdLst/>
              <a:ahLst/>
              <a:rect l="l" t="t" r="r" b="b"/>
              <a:pathLst>
                <a:path w="1240" h="1071">
                  <a:moveTo>
                    <a:pt x="16" y="0"/>
                  </a:moveTo>
                  <a:lnTo>
                    <a:pt x="1215" y="1004"/>
                  </a:lnTo>
                  <a:lnTo>
                    <a:pt x="1217" y="1013"/>
                  </a:lnTo>
                  <a:lnTo>
                    <a:pt x="1221" y="1021"/>
                  </a:lnTo>
                  <a:lnTo>
                    <a:pt x="1224" y="1029"/>
                  </a:lnTo>
                  <a:lnTo>
                    <a:pt x="1227" y="1038"/>
                  </a:lnTo>
                  <a:lnTo>
                    <a:pt x="1230" y="1046"/>
                  </a:lnTo>
                  <a:lnTo>
                    <a:pt x="1234" y="1055"/>
                  </a:lnTo>
                  <a:lnTo>
                    <a:pt x="1237" y="1064"/>
                  </a:lnTo>
                  <a:lnTo>
                    <a:pt x="1240" y="1071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3360600" y="2173320"/>
              <a:ext cx="401760" cy="345960"/>
            </a:xfrm>
            <a:custGeom>
              <a:avLst/>
              <a:gdLst/>
              <a:ahLst/>
              <a:rect l="l" t="t" r="r" b="b"/>
              <a:pathLst>
                <a:path w="1263" h="1091">
                  <a:moveTo>
                    <a:pt x="17" y="0"/>
                  </a:moveTo>
                  <a:lnTo>
                    <a:pt x="1236" y="1022"/>
                  </a:lnTo>
                  <a:lnTo>
                    <a:pt x="1239" y="1030"/>
                  </a:lnTo>
                  <a:lnTo>
                    <a:pt x="1243" y="1039"/>
                  </a:lnTo>
                  <a:lnTo>
                    <a:pt x="1246" y="1048"/>
                  </a:lnTo>
                  <a:lnTo>
                    <a:pt x="1249" y="1056"/>
                  </a:lnTo>
                  <a:lnTo>
                    <a:pt x="1252" y="1065"/>
                  </a:lnTo>
                  <a:lnTo>
                    <a:pt x="1257" y="1073"/>
                  </a:lnTo>
                  <a:lnTo>
                    <a:pt x="1260" y="1082"/>
                  </a:lnTo>
                  <a:lnTo>
                    <a:pt x="1263" y="1091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3359160" y="2178000"/>
              <a:ext cx="407880" cy="352440"/>
            </a:xfrm>
            <a:custGeom>
              <a:avLst/>
              <a:gdLst/>
              <a:ahLst/>
              <a:rect l="l" t="t" r="r" b="b"/>
              <a:pathLst>
                <a:path w="1286" h="1109">
                  <a:moveTo>
                    <a:pt x="16" y="0"/>
                  </a:moveTo>
                  <a:lnTo>
                    <a:pt x="1256" y="1038"/>
                  </a:lnTo>
                  <a:lnTo>
                    <a:pt x="1259" y="1048"/>
                  </a:lnTo>
                  <a:lnTo>
                    <a:pt x="1264" y="1056"/>
                  </a:lnTo>
                  <a:lnTo>
                    <a:pt x="1267" y="1065"/>
                  </a:lnTo>
                  <a:lnTo>
                    <a:pt x="1271" y="1075"/>
                  </a:lnTo>
                  <a:lnTo>
                    <a:pt x="1274" y="1083"/>
                  </a:lnTo>
                  <a:lnTo>
                    <a:pt x="1279" y="1092"/>
                  </a:lnTo>
                  <a:lnTo>
                    <a:pt x="1282" y="1101"/>
                  </a:lnTo>
                  <a:lnTo>
                    <a:pt x="1286" y="1109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3355920" y="2184480"/>
              <a:ext cx="417600" cy="358560"/>
            </a:xfrm>
            <a:custGeom>
              <a:avLst/>
              <a:gdLst/>
              <a:ahLst/>
              <a:rect l="l" t="t" r="r" b="b"/>
              <a:pathLst>
                <a:path w="1313" h="1131">
                  <a:moveTo>
                    <a:pt x="15" y="0"/>
                  </a:moveTo>
                  <a:lnTo>
                    <a:pt x="1278" y="1057"/>
                  </a:lnTo>
                  <a:lnTo>
                    <a:pt x="1282" y="1065"/>
                  </a:lnTo>
                  <a:lnTo>
                    <a:pt x="1287" y="1075"/>
                  </a:lnTo>
                  <a:lnTo>
                    <a:pt x="1291" y="1085"/>
                  </a:lnTo>
                  <a:lnTo>
                    <a:pt x="1295" y="1094"/>
                  </a:lnTo>
                  <a:lnTo>
                    <a:pt x="1299" y="1103"/>
                  </a:lnTo>
                  <a:lnTo>
                    <a:pt x="1303" y="1113"/>
                  </a:lnTo>
                  <a:lnTo>
                    <a:pt x="1307" y="1122"/>
                  </a:lnTo>
                  <a:lnTo>
                    <a:pt x="1313" y="1131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3354480" y="2189160"/>
              <a:ext cx="425520" cy="366840"/>
            </a:xfrm>
            <a:custGeom>
              <a:avLst/>
              <a:gdLst/>
              <a:ahLst/>
              <a:rect l="l" t="t" r="r" b="b"/>
              <a:pathLst>
                <a:path w="1339" h="1155">
                  <a:moveTo>
                    <a:pt x="15" y="0"/>
                  </a:moveTo>
                  <a:lnTo>
                    <a:pt x="1301" y="1076"/>
                  </a:lnTo>
                  <a:lnTo>
                    <a:pt x="1306" y="1087"/>
                  </a:lnTo>
                  <a:lnTo>
                    <a:pt x="1310" y="1097"/>
                  </a:lnTo>
                  <a:lnTo>
                    <a:pt x="1315" y="1107"/>
                  </a:lnTo>
                  <a:lnTo>
                    <a:pt x="1320" y="1116"/>
                  </a:lnTo>
                  <a:lnTo>
                    <a:pt x="1325" y="1126"/>
                  </a:lnTo>
                  <a:lnTo>
                    <a:pt x="1329" y="1136"/>
                  </a:lnTo>
                  <a:lnTo>
                    <a:pt x="1335" y="1146"/>
                  </a:lnTo>
                  <a:lnTo>
                    <a:pt x="1339" y="1155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9" y="12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3351240" y="2193840"/>
              <a:ext cx="620640" cy="527040"/>
            </a:xfrm>
            <a:custGeom>
              <a:avLst/>
              <a:gdLst/>
              <a:ahLst/>
              <a:rect l="l" t="t" r="r" b="b"/>
              <a:pathLst>
                <a:path w="1954" h="1662">
                  <a:moveTo>
                    <a:pt x="16" y="0"/>
                  </a:moveTo>
                  <a:lnTo>
                    <a:pt x="1329" y="1099"/>
                  </a:lnTo>
                  <a:lnTo>
                    <a:pt x="1333" y="1109"/>
                  </a:lnTo>
                  <a:lnTo>
                    <a:pt x="1338" y="1120"/>
                  </a:lnTo>
                  <a:lnTo>
                    <a:pt x="1344" y="1131"/>
                  </a:lnTo>
                  <a:lnTo>
                    <a:pt x="1349" y="1140"/>
                  </a:lnTo>
                  <a:lnTo>
                    <a:pt x="1355" y="1151"/>
                  </a:lnTo>
                  <a:lnTo>
                    <a:pt x="1360" y="1161"/>
                  </a:lnTo>
                  <a:lnTo>
                    <a:pt x="1366" y="1172"/>
                  </a:lnTo>
                  <a:lnTo>
                    <a:pt x="1372" y="1181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  <a:moveTo>
                    <a:pt x="1946" y="1662"/>
                  </a:moveTo>
                  <a:lnTo>
                    <a:pt x="1938" y="1656"/>
                  </a:lnTo>
                  <a:lnTo>
                    <a:pt x="1940" y="1656"/>
                  </a:lnTo>
                  <a:lnTo>
                    <a:pt x="1942" y="1657"/>
                  </a:lnTo>
                  <a:lnTo>
                    <a:pt x="1944" y="1658"/>
                  </a:lnTo>
                  <a:lnTo>
                    <a:pt x="1946" y="1658"/>
                  </a:lnTo>
                  <a:lnTo>
                    <a:pt x="1947" y="1659"/>
                  </a:lnTo>
                  <a:lnTo>
                    <a:pt x="1949" y="1660"/>
                  </a:lnTo>
                  <a:lnTo>
                    <a:pt x="1951" y="1661"/>
                  </a:lnTo>
                  <a:lnTo>
                    <a:pt x="1954" y="1661"/>
                  </a:lnTo>
                  <a:lnTo>
                    <a:pt x="1952" y="1661"/>
                  </a:lnTo>
                  <a:lnTo>
                    <a:pt x="1951" y="1661"/>
                  </a:lnTo>
                  <a:lnTo>
                    <a:pt x="1950" y="1661"/>
                  </a:lnTo>
                  <a:lnTo>
                    <a:pt x="1949" y="1662"/>
                  </a:lnTo>
                  <a:lnTo>
                    <a:pt x="1949" y="1662"/>
                  </a:lnTo>
                  <a:lnTo>
                    <a:pt x="1948" y="1662"/>
                  </a:lnTo>
                  <a:lnTo>
                    <a:pt x="1947" y="1662"/>
                  </a:lnTo>
                  <a:lnTo>
                    <a:pt x="1946" y="1662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3349800" y="2198520"/>
              <a:ext cx="622080" cy="524160"/>
            </a:xfrm>
            <a:custGeom>
              <a:avLst/>
              <a:gdLst/>
              <a:ahLst/>
              <a:rect l="l" t="t" r="r" b="b"/>
              <a:pathLst>
                <a:path w="1961" h="1649">
                  <a:moveTo>
                    <a:pt x="16" y="0"/>
                  </a:moveTo>
                  <a:lnTo>
                    <a:pt x="1355" y="1122"/>
                  </a:lnTo>
                  <a:lnTo>
                    <a:pt x="1362" y="1133"/>
                  </a:lnTo>
                  <a:lnTo>
                    <a:pt x="1368" y="1145"/>
                  </a:lnTo>
                  <a:lnTo>
                    <a:pt x="1373" y="1156"/>
                  </a:lnTo>
                  <a:lnTo>
                    <a:pt x="1380" y="1167"/>
                  </a:lnTo>
                  <a:lnTo>
                    <a:pt x="1386" y="1178"/>
                  </a:lnTo>
                  <a:lnTo>
                    <a:pt x="1394" y="1189"/>
                  </a:lnTo>
                  <a:lnTo>
                    <a:pt x="1400" y="1200"/>
                  </a:lnTo>
                  <a:lnTo>
                    <a:pt x="1407" y="1211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4" y="4"/>
                  </a:lnTo>
                  <a:lnTo>
                    <a:pt x="16" y="0"/>
                  </a:lnTo>
                  <a:close/>
                  <a:moveTo>
                    <a:pt x="1929" y="1649"/>
                  </a:moveTo>
                  <a:lnTo>
                    <a:pt x="1891" y="1617"/>
                  </a:lnTo>
                  <a:lnTo>
                    <a:pt x="1900" y="1620"/>
                  </a:lnTo>
                  <a:lnTo>
                    <a:pt x="1909" y="1624"/>
                  </a:lnTo>
                  <a:lnTo>
                    <a:pt x="1916" y="1628"/>
                  </a:lnTo>
                  <a:lnTo>
                    <a:pt x="1925" y="1631"/>
                  </a:lnTo>
                  <a:lnTo>
                    <a:pt x="1934" y="1635"/>
                  </a:lnTo>
                  <a:lnTo>
                    <a:pt x="1942" y="1638"/>
                  </a:lnTo>
                  <a:lnTo>
                    <a:pt x="1951" y="1641"/>
                  </a:lnTo>
                  <a:lnTo>
                    <a:pt x="1961" y="1644"/>
                  </a:lnTo>
                  <a:lnTo>
                    <a:pt x="1956" y="1645"/>
                  </a:lnTo>
                  <a:lnTo>
                    <a:pt x="1952" y="1645"/>
                  </a:lnTo>
                  <a:lnTo>
                    <a:pt x="1949" y="1646"/>
                  </a:lnTo>
                  <a:lnTo>
                    <a:pt x="1944" y="1646"/>
                  </a:lnTo>
                  <a:lnTo>
                    <a:pt x="1941" y="1647"/>
                  </a:lnTo>
                  <a:lnTo>
                    <a:pt x="1937" y="1647"/>
                  </a:lnTo>
                  <a:lnTo>
                    <a:pt x="1934" y="1649"/>
                  </a:lnTo>
                  <a:lnTo>
                    <a:pt x="1929" y="164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3346560" y="2205000"/>
              <a:ext cx="622080" cy="519120"/>
            </a:xfrm>
            <a:custGeom>
              <a:avLst/>
              <a:gdLst/>
              <a:ahLst/>
              <a:rect l="l" t="t" r="r" b="b"/>
              <a:pathLst>
                <a:path w="1961" h="1635">
                  <a:moveTo>
                    <a:pt x="15" y="0"/>
                  </a:moveTo>
                  <a:lnTo>
                    <a:pt x="1387" y="1147"/>
                  </a:lnTo>
                  <a:lnTo>
                    <a:pt x="1394" y="1160"/>
                  </a:lnTo>
                  <a:lnTo>
                    <a:pt x="1402" y="1173"/>
                  </a:lnTo>
                  <a:lnTo>
                    <a:pt x="1409" y="1186"/>
                  </a:lnTo>
                  <a:lnTo>
                    <a:pt x="1418" y="1198"/>
                  </a:lnTo>
                  <a:lnTo>
                    <a:pt x="1427" y="1211"/>
                  </a:lnTo>
                  <a:lnTo>
                    <a:pt x="1434" y="1224"/>
                  </a:lnTo>
                  <a:lnTo>
                    <a:pt x="1443" y="1236"/>
                  </a:lnTo>
                  <a:lnTo>
                    <a:pt x="1452" y="1248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5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4" y="4"/>
                  </a:lnTo>
                  <a:lnTo>
                    <a:pt x="15" y="0"/>
                  </a:lnTo>
                  <a:close/>
                  <a:moveTo>
                    <a:pt x="1953" y="1622"/>
                  </a:moveTo>
                  <a:lnTo>
                    <a:pt x="1961" y="1628"/>
                  </a:lnTo>
                  <a:lnTo>
                    <a:pt x="1956" y="1629"/>
                  </a:lnTo>
                  <a:lnTo>
                    <a:pt x="1949" y="1629"/>
                  </a:lnTo>
                  <a:lnTo>
                    <a:pt x="1944" y="1630"/>
                  </a:lnTo>
                  <a:lnTo>
                    <a:pt x="1937" y="1632"/>
                  </a:lnTo>
                  <a:lnTo>
                    <a:pt x="1932" y="1633"/>
                  </a:lnTo>
                  <a:lnTo>
                    <a:pt x="1925" y="1633"/>
                  </a:lnTo>
                  <a:lnTo>
                    <a:pt x="1920" y="1634"/>
                  </a:lnTo>
                  <a:lnTo>
                    <a:pt x="1914" y="1635"/>
                  </a:lnTo>
                  <a:lnTo>
                    <a:pt x="1838" y="1571"/>
                  </a:lnTo>
                  <a:lnTo>
                    <a:pt x="1852" y="1579"/>
                  </a:lnTo>
                  <a:lnTo>
                    <a:pt x="1866" y="1585"/>
                  </a:lnTo>
                  <a:lnTo>
                    <a:pt x="1880" y="1592"/>
                  </a:lnTo>
                  <a:lnTo>
                    <a:pt x="1894" y="1597"/>
                  </a:lnTo>
                  <a:lnTo>
                    <a:pt x="1908" y="1603"/>
                  </a:lnTo>
                  <a:lnTo>
                    <a:pt x="1923" y="1610"/>
                  </a:lnTo>
                  <a:lnTo>
                    <a:pt x="1938" y="1615"/>
                  </a:lnTo>
                  <a:lnTo>
                    <a:pt x="1953" y="1622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3343320" y="2209680"/>
              <a:ext cx="617400" cy="514440"/>
            </a:xfrm>
            <a:custGeom>
              <a:avLst/>
              <a:gdLst/>
              <a:ahLst/>
              <a:rect l="l" t="t" r="r" b="b"/>
              <a:pathLst>
                <a:path w="1945" h="1622">
                  <a:moveTo>
                    <a:pt x="16" y="0"/>
                  </a:moveTo>
                  <a:lnTo>
                    <a:pt x="1423" y="1178"/>
                  </a:lnTo>
                  <a:lnTo>
                    <a:pt x="1434" y="1194"/>
                  </a:lnTo>
                  <a:lnTo>
                    <a:pt x="1443" y="1209"/>
                  </a:lnTo>
                  <a:lnTo>
                    <a:pt x="1454" y="1225"/>
                  </a:lnTo>
                  <a:lnTo>
                    <a:pt x="1466" y="1241"/>
                  </a:lnTo>
                  <a:lnTo>
                    <a:pt x="1477" y="1256"/>
                  </a:lnTo>
                  <a:lnTo>
                    <a:pt x="1489" y="1271"/>
                  </a:lnTo>
                  <a:lnTo>
                    <a:pt x="1501" y="1285"/>
                  </a:lnTo>
                  <a:lnTo>
                    <a:pt x="1514" y="1300"/>
                  </a:lnTo>
                  <a:lnTo>
                    <a:pt x="0" y="34"/>
                  </a:lnTo>
                  <a:lnTo>
                    <a:pt x="3" y="29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3" y="4"/>
                  </a:lnTo>
                  <a:lnTo>
                    <a:pt x="16" y="0"/>
                  </a:lnTo>
                  <a:close/>
                  <a:moveTo>
                    <a:pt x="1907" y="1584"/>
                  </a:moveTo>
                  <a:lnTo>
                    <a:pt x="1945" y="1616"/>
                  </a:lnTo>
                  <a:lnTo>
                    <a:pt x="1940" y="1617"/>
                  </a:lnTo>
                  <a:lnTo>
                    <a:pt x="1933" y="1617"/>
                  </a:lnTo>
                  <a:lnTo>
                    <a:pt x="1928" y="1618"/>
                  </a:lnTo>
                  <a:lnTo>
                    <a:pt x="1922" y="1619"/>
                  </a:lnTo>
                  <a:lnTo>
                    <a:pt x="1916" y="1620"/>
                  </a:lnTo>
                  <a:lnTo>
                    <a:pt x="1910" y="1620"/>
                  </a:lnTo>
                  <a:lnTo>
                    <a:pt x="1904" y="1621"/>
                  </a:lnTo>
                  <a:lnTo>
                    <a:pt x="1898" y="1622"/>
                  </a:lnTo>
                  <a:lnTo>
                    <a:pt x="1768" y="1513"/>
                  </a:lnTo>
                  <a:lnTo>
                    <a:pt x="1784" y="1523"/>
                  </a:lnTo>
                  <a:lnTo>
                    <a:pt x="1801" y="1532"/>
                  </a:lnTo>
                  <a:lnTo>
                    <a:pt x="1818" y="1541"/>
                  </a:lnTo>
                  <a:lnTo>
                    <a:pt x="1835" y="1550"/>
                  </a:lnTo>
                  <a:lnTo>
                    <a:pt x="1852" y="1558"/>
                  </a:lnTo>
                  <a:lnTo>
                    <a:pt x="1871" y="1567"/>
                  </a:lnTo>
                  <a:lnTo>
                    <a:pt x="1889" y="1576"/>
                  </a:lnTo>
                  <a:lnTo>
                    <a:pt x="1907" y="1584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3341520" y="2214720"/>
              <a:ext cx="613080" cy="510840"/>
            </a:xfrm>
            <a:custGeom>
              <a:avLst/>
              <a:gdLst/>
              <a:ahLst/>
              <a:rect l="l" t="t" r="r" b="b"/>
              <a:pathLst>
                <a:path w="1929" h="1609">
                  <a:moveTo>
                    <a:pt x="15" y="0"/>
                  </a:moveTo>
                  <a:lnTo>
                    <a:pt x="1467" y="1216"/>
                  </a:lnTo>
                  <a:lnTo>
                    <a:pt x="1485" y="1240"/>
                  </a:lnTo>
                  <a:lnTo>
                    <a:pt x="1503" y="1263"/>
                  </a:lnTo>
                  <a:lnTo>
                    <a:pt x="1523" y="1286"/>
                  </a:lnTo>
                  <a:lnTo>
                    <a:pt x="1542" y="1309"/>
                  </a:lnTo>
                  <a:lnTo>
                    <a:pt x="1563" y="1330"/>
                  </a:lnTo>
                  <a:lnTo>
                    <a:pt x="1584" y="1352"/>
                  </a:lnTo>
                  <a:lnTo>
                    <a:pt x="1607" y="1374"/>
                  </a:lnTo>
                  <a:lnTo>
                    <a:pt x="1631" y="1394"/>
                  </a:lnTo>
                  <a:lnTo>
                    <a:pt x="1654" y="1414"/>
                  </a:lnTo>
                  <a:lnTo>
                    <a:pt x="1680" y="1433"/>
                  </a:lnTo>
                  <a:lnTo>
                    <a:pt x="1706" y="1453"/>
                  </a:lnTo>
                  <a:lnTo>
                    <a:pt x="1734" y="1471"/>
                  </a:lnTo>
                  <a:lnTo>
                    <a:pt x="1762" y="1489"/>
                  </a:lnTo>
                  <a:lnTo>
                    <a:pt x="1791" y="1507"/>
                  </a:lnTo>
                  <a:lnTo>
                    <a:pt x="1822" y="1523"/>
                  </a:lnTo>
                  <a:lnTo>
                    <a:pt x="1853" y="1539"/>
                  </a:lnTo>
                  <a:lnTo>
                    <a:pt x="1929" y="1603"/>
                  </a:lnTo>
                  <a:lnTo>
                    <a:pt x="1923" y="1604"/>
                  </a:lnTo>
                  <a:lnTo>
                    <a:pt x="1917" y="1604"/>
                  </a:lnTo>
                  <a:lnTo>
                    <a:pt x="1911" y="1605"/>
                  </a:lnTo>
                  <a:lnTo>
                    <a:pt x="1905" y="1606"/>
                  </a:lnTo>
                  <a:lnTo>
                    <a:pt x="1899" y="1607"/>
                  </a:lnTo>
                  <a:lnTo>
                    <a:pt x="1893" y="1607"/>
                  </a:lnTo>
                  <a:lnTo>
                    <a:pt x="1888" y="1608"/>
                  </a:lnTo>
                  <a:lnTo>
                    <a:pt x="1881" y="1609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10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3338640" y="2220840"/>
              <a:ext cx="608040" cy="506520"/>
            </a:xfrm>
            <a:custGeom>
              <a:avLst/>
              <a:gdLst/>
              <a:ahLst/>
              <a:rect l="l" t="t" r="r" b="b"/>
              <a:pathLst>
                <a:path w="1913" h="1595">
                  <a:moveTo>
                    <a:pt x="15" y="0"/>
                  </a:moveTo>
                  <a:lnTo>
                    <a:pt x="1529" y="1266"/>
                  </a:lnTo>
                  <a:lnTo>
                    <a:pt x="1554" y="1295"/>
                  </a:lnTo>
                  <a:lnTo>
                    <a:pt x="1583" y="1324"/>
                  </a:lnTo>
                  <a:lnTo>
                    <a:pt x="1612" y="1352"/>
                  </a:lnTo>
                  <a:lnTo>
                    <a:pt x="1643" y="1379"/>
                  </a:lnTo>
                  <a:lnTo>
                    <a:pt x="1675" y="1405"/>
                  </a:lnTo>
                  <a:lnTo>
                    <a:pt x="1710" y="1431"/>
                  </a:lnTo>
                  <a:lnTo>
                    <a:pt x="1745" y="1455"/>
                  </a:lnTo>
                  <a:lnTo>
                    <a:pt x="1783" y="1479"/>
                  </a:lnTo>
                  <a:lnTo>
                    <a:pt x="1913" y="1588"/>
                  </a:lnTo>
                  <a:lnTo>
                    <a:pt x="1907" y="1589"/>
                  </a:lnTo>
                  <a:lnTo>
                    <a:pt x="1901" y="1589"/>
                  </a:lnTo>
                  <a:lnTo>
                    <a:pt x="1896" y="1590"/>
                  </a:lnTo>
                  <a:lnTo>
                    <a:pt x="1889" y="1591"/>
                  </a:lnTo>
                  <a:lnTo>
                    <a:pt x="1884" y="1592"/>
                  </a:lnTo>
                  <a:lnTo>
                    <a:pt x="1877" y="1592"/>
                  </a:lnTo>
                  <a:lnTo>
                    <a:pt x="1872" y="1593"/>
                  </a:lnTo>
                  <a:lnTo>
                    <a:pt x="1865" y="1595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9" y="11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3336840" y="2225520"/>
              <a:ext cx="601920" cy="501840"/>
            </a:xfrm>
            <a:custGeom>
              <a:avLst/>
              <a:gdLst/>
              <a:ahLst/>
              <a:rect l="l" t="t" r="r" b="b"/>
              <a:pathLst>
                <a:path w="1896" h="1582">
                  <a:moveTo>
                    <a:pt x="15" y="0"/>
                  </a:moveTo>
                  <a:lnTo>
                    <a:pt x="1896" y="1575"/>
                  </a:lnTo>
                  <a:lnTo>
                    <a:pt x="1891" y="1576"/>
                  </a:lnTo>
                  <a:lnTo>
                    <a:pt x="1884" y="1576"/>
                  </a:lnTo>
                  <a:lnTo>
                    <a:pt x="1879" y="1577"/>
                  </a:lnTo>
                  <a:lnTo>
                    <a:pt x="1872" y="1579"/>
                  </a:lnTo>
                  <a:lnTo>
                    <a:pt x="1867" y="1580"/>
                  </a:lnTo>
                  <a:lnTo>
                    <a:pt x="1860" y="1580"/>
                  </a:lnTo>
                  <a:lnTo>
                    <a:pt x="1855" y="1581"/>
                  </a:lnTo>
                  <a:lnTo>
                    <a:pt x="1849" y="1582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3333600" y="2230560"/>
              <a:ext cx="596880" cy="498240"/>
            </a:xfrm>
            <a:custGeom>
              <a:avLst/>
              <a:gdLst/>
              <a:ahLst/>
              <a:rect l="l" t="t" r="r" b="b"/>
              <a:pathLst>
                <a:path w="1881" h="1569">
                  <a:moveTo>
                    <a:pt x="16" y="0"/>
                  </a:moveTo>
                  <a:lnTo>
                    <a:pt x="1881" y="1563"/>
                  </a:lnTo>
                  <a:lnTo>
                    <a:pt x="1876" y="1563"/>
                  </a:lnTo>
                  <a:lnTo>
                    <a:pt x="1869" y="1564"/>
                  </a:lnTo>
                  <a:lnTo>
                    <a:pt x="1864" y="1565"/>
                  </a:lnTo>
                  <a:lnTo>
                    <a:pt x="1858" y="1566"/>
                  </a:lnTo>
                  <a:lnTo>
                    <a:pt x="1852" y="1566"/>
                  </a:lnTo>
                  <a:lnTo>
                    <a:pt x="1846" y="1567"/>
                  </a:lnTo>
                  <a:lnTo>
                    <a:pt x="1840" y="1568"/>
                  </a:lnTo>
                  <a:lnTo>
                    <a:pt x="1834" y="1569"/>
                  </a:lnTo>
                  <a:lnTo>
                    <a:pt x="0" y="33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7" y="22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3332160" y="2236680"/>
              <a:ext cx="592200" cy="493920"/>
            </a:xfrm>
            <a:custGeom>
              <a:avLst/>
              <a:gdLst/>
              <a:ahLst/>
              <a:rect l="l" t="t" r="r" b="b"/>
              <a:pathLst>
                <a:path w="1865" h="1555">
                  <a:moveTo>
                    <a:pt x="16" y="0"/>
                  </a:moveTo>
                  <a:lnTo>
                    <a:pt x="1865" y="1549"/>
                  </a:lnTo>
                  <a:lnTo>
                    <a:pt x="1859" y="1549"/>
                  </a:lnTo>
                  <a:lnTo>
                    <a:pt x="1853" y="1550"/>
                  </a:lnTo>
                  <a:lnTo>
                    <a:pt x="1847" y="1551"/>
                  </a:lnTo>
                  <a:lnTo>
                    <a:pt x="1841" y="1552"/>
                  </a:lnTo>
                  <a:lnTo>
                    <a:pt x="1835" y="1552"/>
                  </a:lnTo>
                  <a:lnTo>
                    <a:pt x="1829" y="1553"/>
                  </a:lnTo>
                  <a:lnTo>
                    <a:pt x="1824" y="1554"/>
                  </a:lnTo>
                  <a:lnTo>
                    <a:pt x="1817" y="1555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3328920" y="2241720"/>
              <a:ext cx="587520" cy="488880"/>
            </a:xfrm>
            <a:custGeom>
              <a:avLst/>
              <a:gdLst/>
              <a:ahLst/>
              <a:rect l="l" t="t" r="r" b="b"/>
              <a:pathLst>
                <a:path w="1849" h="1541">
                  <a:moveTo>
                    <a:pt x="15" y="0"/>
                  </a:moveTo>
                  <a:lnTo>
                    <a:pt x="1849" y="1536"/>
                  </a:lnTo>
                  <a:lnTo>
                    <a:pt x="1843" y="1536"/>
                  </a:lnTo>
                  <a:lnTo>
                    <a:pt x="1837" y="1537"/>
                  </a:lnTo>
                  <a:lnTo>
                    <a:pt x="1832" y="1538"/>
                  </a:lnTo>
                  <a:lnTo>
                    <a:pt x="1825" y="1539"/>
                  </a:lnTo>
                  <a:lnTo>
                    <a:pt x="1820" y="1539"/>
                  </a:lnTo>
                  <a:lnTo>
                    <a:pt x="1813" y="1540"/>
                  </a:lnTo>
                  <a:lnTo>
                    <a:pt x="1808" y="1541"/>
                  </a:lnTo>
                  <a:lnTo>
                    <a:pt x="1801" y="1541"/>
                  </a:lnTo>
                  <a:lnTo>
                    <a:pt x="0" y="34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3327480" y="2246400"/>
              <a:ext cx="581040" cy="485640"/>
            </a:xfrm>
            <a:custGeom>
              <a:avLst/>
              <a:gdLst/>
              <a:ahLst/>
              <a:rect l="l" t="t" r="r" b="b"/>
              <a:pathLst>
                <a:path w="1831" h="1527">
                  <a:moveTo>
                    <a:pt x="14" y="0"/>
                  </a:moveTo>
                  <a:lnTo>
                    <a:pt x="1831" y="1521"/>
                  </a:lnTo>
                  <a:lnTo>
                    <a:pt x="1826" y="1521"/>
                  </a:lnTo>
                  <a:lnTo>
                    <a:pt x="1819" y="1522"/>
                  </a:lnTo>
                  <a:lnTo>
                    <a:pt x="1813" y="1523"/>
                  </a:lnTo>
                  <a:lnTo>
                    <a:pt x="1807" y="1525"/>
                  </a:lnTo>
                  <a:lnTo>
                    <a:pt x="1801" y="1525"/>
                  </a:lnTo>
                  <a:lnTo>
                    <a:pt x="1795" y="1526"/>
                  </a:lnTo>
                  <a:lnTo>
                    <a:pt x="1790" y="1527"/>
                  </a:lnTo>
                  <a:lnTo>
                    <a:pt x="1784" y="1527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3324240" y="2252520"/>
              <a:ext cx="576360" cy="479520"/>
            </a:xfrm>
            <a:custGeom>
              <a:avLst/>
              <a:gdLst/>
              <a:ahLst/>
              <a:rect l="l" t="t" r="r" b="b"/>
              <a:pathLst>
                <a:path w="1815" h="1514">
                  <a:moveTo>
                    <a:pt x="14" y="0"/>
                  </a:moveTo>
                  <a:lnTo>
                    <a:pt x="1815" y="1507"/>
                  </a:lnTo>
                  <a:lnTo>
                    <a:pt x="1810" y="1509"/>
                  </a:lnTo>
                  <a:lnTo>
                    <a:pt x="1803" y="1510"/>
                  </a:lnTo>
                  <a:lnTo>
                    <a:pt x="1798" y="1511"/>
                  </a:lnTo>
                  <a:lnTo>
                    <a:pt x="1792" y="1511"/>
                  </a:lnTo>
                  <a:lnTo>
                    <a:pt x="1786" y="1512"/>
                  </a:lnTo>
                  <a:lnTo>
                    <a:pt x="1780" y="1513"/>
                  </a:lnTo>
                  <a:lnTo>
                    <a:pt x="1774" y="1514"/>
                  </a:lnTo>
                  <a:lnTo>
                    <a:pt x="1768" y="1514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3322800" y="2257560"/>
              <a:ext cx="571320" cy="476280"/>
            </a:xfrm>
            <a:custGeom>
              <a:avLst/>
              <a:gdLst/>
              <a:ahLst/>
              <a:rect l="l" t="t" r="r" b="b"/>
              <a:pathLst>
                <a:path w="1800" h="1500">
                  <a:moveTo>
                    <a:pt x="16" y="0"/>
                  </a:moveTo>
                  <a:lnTo>
                    <a:pt x="1800" y="1494"/>
                  </a:lnTo>
                  <a:lnTo>
                    <a:pt x="1794" y="1495"/>
                  </a:lnTo>
                  <a:lnTo>
                    <a:pt x="1788" y="1496"/>
                  </a:lnTo>
                  <a:lnTo>
                    <a:pt x="1782" y="1497"/>
                  </a:lnTo>
                  <a:lnTo>
                    <a:pt x="1776" y="1497"/>
                  </a:lnTo>
                  <a:lnTo>
                    <a:pt x="1770" y="1498"/>
                  </a:lnTo>
                  <a:lnTo>
                    <a:pt x="1764" y="1499"/>
                  </a:lnTo>
                  <a:lnTo>
                    <a:pt x="1759" y="1500"/>
                  </a:lnTo>
                  <a:lnTo>
                    <a:pt x="1752" y="1500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3319560" y="2262240"/>
              <a:ext cx="566640" cy="473040"/>
            </a:xfrm>
            <a:custGeom>
              <a:avLst/>
              <a:gdLst/>
              <a:ahLst/>
              <a:rect l="l" t="t" r="r" b="b"/>
              <a:pathLst>
                <a:path w="1783" h="1487">
                  <a:moveTo>
                    <a:pt x="15" y="0"/>
                  </a:moveTo>
                  <a:lnTo>
                    <a:pt x="1783" y="1481"/>
                  </a:lnTo>
                  <a:lnTo>
                    <a:pt x="1777" y="1482"/>
                  </a:lnTo>
                  <a:lnTo>
                    <a:pt x="1771" y="1483"/>
                  </a:lnTo>
                  <a:lnTo>
                    <a:pt x="1766" y="1484"/>
                  </a:lnTo>
                  <a:lnTo>
                    <a:pt x="1759" y="1484"/>
                  </a:lnTo>
                  <a:lnTo>
                    <a:pt x="1754" y="1485"/>
                  </a:lnTo>
                  <a:lnTo>
                    <a:pt x="1747" y="1486"/>
                  </a:lnTo>
                  <a:lnTo>
                    <a:pt x="1742" y="1487"/>
                  </a:lnTo>
                  <a:lnTo>
                    <a:pt x="1735" y="1487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3317760" y="2268360"/>
              <a:ext cx="560520" cy="466920"/>
            </a:xfrm>
            <a:custGeom>
              <a:avLst/>
              <a:gdLst/>
              <a:ahLst/>
              <a:rect l="l" t="t" r="r" b="b"/>
              <a:pathLst>
                <a:path w="1767" h="1473">
                  <a:moveTo>
                    <a:pt x="15" y="0"/>
                  </a:moveTo>
                  <a:lnTo>
                    <a:pt x="1767" y="1466"/>
                  </a:lnTo>
                  <a:lnTo>
                    <a:pt x="1762" y="1467"/>
                  </a:lnTo>
                  <a:lnTo>
                    <a:pt x="1755" y="1468"/>
                  </a:lnTo>
                  <a:lnTo>
                    <a:pt x="1750" y="1469"/>
                  </a:lnTo>
                  <a:lnTo>
                    <a:pt x="1743" y="1469"/>
                  </a:lnTo>
                  <a:lnTo>
                    <a:pt x="1738" y="1470"/>
                  </a:lnTo>
                  <a:lnTo>
                    <a:pt x="1731" y="1472"/>
                  </a:lnTo>
                  <a:lnTo>
                    <a:pt x="1726" y="1473"/>
                  </a:lnTo>
                  <a:lnTo>
                    <a:pt x="1720" y="1473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7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3314880" y="2273400"/>
              <a:ext cx="555480" cy="463320"/>
            </a:xfrm>
            <a:custGeom>
              <a:avLst/>
              <a:gdLst/>
              <a:ahLst/>
              <a:rect l="l" t="t" r="r" b="b"/>
              <a:pathLst>
                <a:path w="1750" h="1459">
                  <a:moveTo>
                    <a:pt x="15" y="0"/>
                  </a:moveTo>
                  <a:lnTo>
                    <a:pt x="1750" y="1452"/>
                  </a:lnTo>
                  <a:lnTo>
                    <a:pt x="1745" y="1453"/>
                  </a:lnTo>
                  <a:lnTo>
                    <a:pt x="1738" y="1455"/>
                  </a:lnTo>
                  <a:lnTo>
                    <a:pt x="1733" y="1456"/>
                  </a:lnTo>
                  <a:lnTo>
                    <a:pt x="1727" y="1456"/>
                  </a:lnTo>
                  <a:lnTo>
                    <a:pt x="1721" y="1457"/>
                  </a:lnTo>
                  <a:lnTo>
                    <a:pt x="1715" y="1458"/>
                  </a:lnTo>
                  <a:lnTo>
                    <a:pt x="1709" y="1459"/>
                  </a:lnTo>
                  <a:lnTo>
                    <a:pt x="1703" y="1459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3313080" y="2278080"/>
              <a:ext cx="550800" cy="460440"/>
            </a:xfrm>
            <a:custGeom>
              <a:avLst/>
              <a:gdLst/>
              <a:ahLst/>
              <a:rect l="l" t="t" r="r" b="b"/>
              <a:pathLst>
                <a:path w="1735" h="1446">
                  <a:moveTo>
                    <a:pt x="15" y="0"/>
                  </a:moveTo>
                  <a:lnTo>
                    <a:pt x="1735" y="1440"/>
                  </a:lnTo>
                  <a:lnTo>
                    <a:pt x="1729" y="1441"/>
                  </a:lnTo>
                  <a:lnTo>
                    <a:pt x="1723" y="1442"/>
                  </a:lnTo>
                  <a:lnTo>
                    <a:pt x="1717" y="1443"/>
                  </a:lnTo>
                  <a:lnTo>
                    <a:pt x="1711" y="1443"/>
                  </a:lnTo>
                  <a:lnTo>
                    <a:pt x="1705" y="1444"/>
                  </a:lnTo>
                  <a:lnTo>
                    <a:pt x="1699" y="1445"/>
                  </a:lnTo>
                  <a:lnTo>
                    <a:pt x="1694" y="1446"/>
                  </a:lnTo>
                  <a:lnTo>
                    <a:pt x="1688" y="1446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3311640" y="2284560"/>
              <a:ext cx="544320" cy="453960"/>
            </a:xfrm>
            <a:custGeom>
              <a:avLst/>
              <a:gdLst/>
              <a:ahLst/>
              <a:rect l="l" t="t" r="r" b="b"/>
              <a:pathLst>
                <a:path w="1717" h="1432">
                  <a:moveTo>
                    <a:pt x="14" y="0"/>
                  </a:moveTo>
                  <a:lnTo>
                    <a:pt x="1717" y="1425"/>
                  </a:lnTo>
                  <a:lnTo>
                    <a:pt x="1711" y="1426"/>
                  </a:lnTo>
                  <a:lnTo>
                    <a:pt x="1705" y="1427"/>
                  </a:lnTo>
                  <a:lnTo>
                    <a:pt x="1700" y="1428"/>
                  </a:lnTo>
                  <a:lnTo>
                    <a:pt x="1693" y="1429"/>
                  </a:lnTo>
                  <a:lnTo>
                    <a:pt x="1688" y="1429"/>
                  </a:lnTo>
                  <a:lnTo>
                    <a:pt x="1682" y="1430"/>
                  </a:lnTo>
                  <a:lnTo>
                    <a:pt x="1676" y="1431"/>
                  </a:lnTo>
                  <a:lnTo>
                    <a:pt x="1670" y="1432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4"/>
                  </a:lnTo>
                  <a:lnTo>
                    <a:pt x="5" y="20"/>
                  </a:lnTo>
                  <a:lnTo>
                    <a:pt x="6" y="17"/>
                  </a:lnTo>
                  <a:lnTo>
                    <a:pt x="8" y="12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3308400" y="2289240"/>
              <a:ext cx="539640" cy="450720"/>
            </a:xfrm>
            <a:custGeom>
              <a:avLst/>
              <a:gdLst/>
              <a:ahLst/>
              <a:rect l="l" t="t" r="r" b="b"/>
              <a:pathLst>
                <a:path w="1702" h="1419">
                  <a:moveTo>
                    <a:pt x="14" y="0"/>
                  </a:moveTo>
                  <a:lnTo>
                    <a:pt x="1702" y="1411"/>
                  </a:lnTo>
                  <a:lnTo>
                    <a:pt x="1696" y="1412"/>
                  </a:lnTo>
                  <a:lnTo>
                    <a:pt x="1689" y="1413"/>
                  </a:lnTo>
                  <a:lnTo>
                    <a:pt x="1684" y="1414"/>
                  </a:lnTo>
                  <a:lnTo>
                    <a:pt x="1678" y="1415"/>
                  </a:lnTo>
                  <a:lnTo>
                    <a:pt x="1672" y="1415"/>
                  </a:lnTo>
                  <a:lnTo>
                    <a:pt x="1667" y="1417"/>
                  </a:lnTo>
                  <a:lnTo>
                    <a:pt x="1660" y="1418"/>
                  </a:lnTo>
                  <a:lnTo>
                    <a:pt x="1655" y="1419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9" y="12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3306600" y="2295360"/>
              <a:ext cx="535320" cy="446400"/>
            </a:xfrm>
            <a:custGeom>
              <a:avLst/>
              <a:gdLst/>
              <a:ahLst/>
              <a:rect l="l" t="t" r="r" b="b"/>
              <a:pathLst>
                <a:path w="1685" h="1406">
                  <a:moveTo>
                    <a:pt x="15" y="0"/>
                  </a:moveTo>
                  <a:lnTo>
                    <a:pt x="1685" y="1399"/>
                  </a:lnTo>
                  <a:lnTo>
                    <a:pt x="1679" y="1399"/>
                  </a:lnTo>
                  <a:lnTo>
                    <a:pt x="1674" y="1401"/>
                  </a:lnTo>
                  <a:lnTo>
                    <a:pt x="1667" y="1402"/>
                  </a:lnTo>
                  <a:lnTo>
                    <a:pt x="1662" y="1403"/>
                  </a:lnTo>
                  <a:lnTo>
                    <a:pt x="1655" y="1403"/>
                  </a:lnTo>
                  <a:lnTo>
                    <a:pt x="1650" y="1404"/>
                  </a:lnTo>
                  <a:lnTo>
                    <a:pt x="1643" y="1405"/>
                  </a:lnTo>
                  <a:lnTo>
                    <a:pt x="1638" y="1406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0" y="9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3303720" y="2300400"/>
              <a:ext cx="529920" cy="441360"/>
            </a:xfrm>
            <a:custGeom>
              <a:avLst/>
              <a:gdLst/>
              <a:ahLst/>
              <a:rect l="l" t="t" r="r" b="b"/>
              <a:pathLst>
                <a:path w="1669" h="1392">
                  <a:moveTo>
                    <a:pt x="14" y="0"/>
                  </a:moveTo>
                  <a:lnTo>
                    <a:pt x="1669" y="1386"/>
                  </a:lnTo>
                  <a:lnTo>
                    <a:pt x="1662" y="1386"/>
                  </a:lnTo>
                  <a:lnTo>
                    <a:pt x="1657" y="1387"/>
                  </a:lnTo>
                  <a:lnTo>
                    <a:pt x="1650" y="1388"/>
                  </a:lnTo>
                  <a:lnTo>
                    <a:pt x="1645" y="1389"/>
                  </a:lnTo>
                  <a:lnTo>
                    <a:pt x="1638" y="1389"/>
                  </a:lnTo>
                  <a:lnTo>
                    <a:pt x="1633" y="1390"/>
                  </a:lnTo>
                  <a:lnTo>
                    <a:pt x="1628" y="1391"/>
                  </a:lnTo>
                  <a:lnTo>
                    <a:pt x="1621" y="139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6" y="22"/>
                  </a:lnTo>
                  <a:lnTo>
                    <a:pt x="7" y="18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301920" y="2306520"/>
              <a:ext cx="523800" cy="436680"/>
            </a:xfrm>
            <a:custGeom>
              <a:avLst/>
              <a:gdLst/>
              <a:ahLst/>
              <a:rect l="l" t="t" r="r" b="b"/>
              <a:pathLst>
                <a:path w="1652" h="1377">
                  <a:moveTo>
                    <a:pt x="14" y="0"/>
                  </a:moveTo>
                  <a:lnTo>
                    <a:pt x="1652" y="1371"/>
                  </a:lnTo>
                  <a:lnTo>
                    <a:pt x="1645" y="1371"/>
                  </a:lnTo>
                  <a:lnTo>
                    <a:pt x="1640" y="1372"/>
                  </a:lnTo>
                  <a:lnTo>
                    <a:pt x="1634" y="1373"/>
                  </a:lnTo>
                  <a:lnTo>
                    <a:pt x="1628" y="1374"/>
                  </a:lnTo>
                  <a:lnTo>
                    <a:pt x="1623" y="1375"/>
                  </a:lnTo>
                  <a:lnTo>
                    <a:pt x="1616" y="1375"/>
                  </a:lnTo>
                  <a:lnTo>
                    <a:pt x="1611" y="1376"/>
                  </a:lnTo>
                  <a:lnTo>
                    <a:pt x="1604" y="1377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3298680" y="2311560"/>
              <a:ext cx="519120" cy="433080"/>
            </a:xfrm>
            <a:custGeom>
              <a:avLst/>
              <a:gdLst/>
              <a:ahLst/>
              <a:rect l="l" t="t" r="r" b="b"/>
              <a:pathLst>
                <a:path w="1636" h="1365">
                  <a:moveTo>
                    <a:pt x="15" y="0"/>
                  </a:moveTo>
                  <a:lnTo>
                    <a:pt x="1636" y="1358"/>
                  </a:lnTo>
                  <a:lnTo>
                    <a:pt x="1631" y="1359"/>
                  </a:lnTo>
                  <a:lnTo>
                    <a:pt x="1624" y="1359"/>
                  </a:lnTo>
                  <a:lnTo>
                    <a:pt x="1619" y="1360"/>
                  </a:lnTo>
                  <a:lnTo>
                    <a:pt x="1612" y="1361"/>
                  </a:lnTo>
                  <a:lnTo>
                    <a:pt x="1607" y="1362"/>
                  </a:lnTo>
                  <a:lnTo>
                    <a:pt x="1601" y="1364"/>
                  </a:lnTo>
                  <a:lnTo>
                    <a:pt x="1595" y="1364"/>
                  </a:lnTo>
                  <a:lnTo>
                    <a:pt x="1590" y="1365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5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3297240" y="2316240"/>
              <a:ext cx="514440" cy="428400"/>
            </a:xfrm>
            <a:custGeom>
              <a:avLst/>
              <a:gdLst/>
              <a:ahLst/>
              <a:rect l="l" t="t" r="r" b="b"/>
              <a:pathLst>
                <a:path w="1618" h="1351">
                  <a:moveTo>
                    <a:pt x="14" y="0"/>
                  </a:moveTo>
                  <a:lnTo>
                    <a:pt x="1618" y="1344"/>
                  </a:lnTo>
                  <a:lnTo>
                    <a:pt x="1613" y="1345"/>
                  </a:lnTo>
                  <a:lnTo>
                    <a:pt x="1607" y="1347"/>
                  </a:lnTo>
                  <a:lnTo>
                    <a:pt x="1601" y="1347"/>
                  </a:lnTo>
                  <a:lnTo>
                    <a:pt x="1595" y="1348"/>
                  </a:lnTo>
                  <a:lnTo>
                    <a:pt x="1589" y="1349"/>
                  </a:lnTo>
                  <a:lnTo>
                    <a:pt x="1584" y="1350"/>
                  </a:lnTo>
                  <a:lnTo>
                    <a:pt x="1577" y="1351"/>
                  </a:lnTo>
                  <a:lnTo>
                    <a:pt x="1572" y="1351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1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3294000" y="2322360"/>
              <a:ext cx="509760" cy="424080"/>
            </a:xfrm>
            <a:custGeom>
              <a:avLst/>
              <a:gdLst/>
              <a:ahLst/>
              <a:rect l="l" t="t" r="r" b="b"/>
              <a:pathLst>
                <a:path w="1604" h="1338">
                  <a:moveTo>
                    <a:pt x="14" y="0"/>
                  </a:moveTo>
                  <a:lnTo>
                    <a:pt x="1604" y="1331"/>
                  </a:lnTo>
                  <a:lnTo>
                    <a:pt x="1597" y="1332"/>
                  </a:lnTo>
                  <a:lnTo>
                    <a:pt x="1592" y="1333"/>
                  </a:lnTo>
                  <a:lnTo>
                    <a:pt x="1585" y="1334"/>
                  </a:lnTo>
                  <a:lnTo>
                    <a:pt x="1580" y="1334"/>
                  </a:lnTo>
                  <a:lnTo>
                    <a:pt x="1574" y="1335"/>
                  </a:lnTo>
                  <a:lnTo>
                    <a:pt x="1568" y="1336"/>
                  </a:lnTo>
                  <a:lnTo>
                    <a:pt x="1563" y="1337"/>
                  </a:lnTo>
                  <a:lnTo>
                    <a:pt x="1556" y="1338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8" y="18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3292560" y="2327400"/>
              <a:ext cx="503280" cy="420480"/>
            </a:xfrm>
            <a:custGeom>
              <a:avLst/>
              <a:gdLst/>
              <a:ahLst/>
              <a:rect l="l" t="t" r="r" b="b"/>
              <a:pathLst>
                <a:path w="1586" h="1323">
                  <a:moveTo>
                    <a:pt x="14" y="0"/>
                  </a:moveTo>
                  <a:lnTo>
                    <a:pt x="1586" y="1316"/>
                  </a:lnTo>
                  <a:lnTo>
                    <a:pt x="1580" y="1317"/>
                  </a:lnTo>
                  <a:lnTo>
                    <a:pt x="1574" y="1318"/>
                  </a:lnTo>
                  <a:lnTo>
                    <a:pt x="1568" y="1319"/>
                  </a:lnTo>
                  <a:lnTo>
                    <a:pt x="1562" y="1320"/>
                  </a:lnTo>
                  <a:lnTo>
                    <a:pt x="1557" y="1320"/>
                  </a:lnTo>
                  <a:lnTo>
                    <a:pt x="1550" y="1321"/>
                  </a:lnTo>
                  <a:lnTo>
                    <a:pt x="1545" y="1322"/>
                  </a:lnTo>
                  <a:lnTo>
                    <a:pt x="1540" y="1323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1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1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3290760" y="2333520"/>
              <a:ext cx="498600" cy="416160"/>
            </a:xfrm>
            <a:custGeom>
              <a:avLst/>
              <a:gdLst/>
              <a:ahLst/>
              <a:rect l="l" t="t" r="r" b="b"/>
              <a:pathLst>
                <a:path w="1570" h="1310">
                  <a:moveTo>
                    <a:pt x="14" y="0"/>
                  </a:moveTo>
                  <a:lnTo>
                    <a:pt x="1570" y="1303"/>
                  </a:lnTo>
                  <a:lnTo>
                    <a:pt x="1565" y="1303"/>
                  </a:lnTo>
                  <a:lnTo>
                    <a:pt x="1558" y="1304"/>
                  </a:lnTo>
                  <a:lnTo>
                    <a:pt x="1553" y="1305"/>
                  </a:lnTo>
                  <a:lnTo>
                    <a:pt x="1547" y="1306"/>
                  </a:lnTo>
                  <a:lnTo>
                    <a:pt x="1541" y="1308"/>
                  </a:lnTo>
                  <a:lnTo>
                    <a:pt x="1536" y="1308"/>
                  </a:lnTo>
                  <a:lnTo>
                    <a:pt x="1529" y="1309"/>
                  </a:lnTo>
                  <a:lnTo>
                    <a:pt x="1524" y="1310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8" y="17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3287880" y="2338560"/>
              <a:ext cx="493560" cy="411120"/>
            </a:xfrm>
            <a:custGeom>
              <a:avLst/>
              <a:gdLst/>
              <a:ahLst/>
              <a:rect l="l" t="t" r="r" b="b"/>
              <a:pathLst>
                <a:path w="1555" h="1296">
                  <a:moveTo>
                    <a:pt x="15" y="0"/>
                  </a:moveTo>
                  <a:lnTo>
                    <a:pt x="1555" y="1289"/>
                  </a:lnTo>
                  <a:lnTo>
                    <a:pt x="1548" y="1291"/>
                  </a:lnTo>
                  <a:lnTo>
                    <a:pt x="1543" y="1291"/>
                  </a:lnTo>
                  <a:lnTo>
                    <a:pt x="1536" y="1292"/>
                  </a:lnTo>
                  <a:lnTo>
                    <a:pt x="1531" y="1293"/>
                  </a:lnTo>
                  <a:lnTo>
                    <a:pt x="1524" y="1294"/>
                  </a:lnTo>
                  <a:lnTo>
                    <a:pt x="1519" y="1295"/>
                  </a:lnTo>
                  <a:lnTo>
                    <a:pt x="1514" y="1296"/>
                  </a:lnTo>
                  <a:lnTo>
                    <a:pt x="1507" y="1296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7" y="18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3286080" y="2344680"/>
              <a:ext cx="487440" cy="406440"/>
            </a:xfrm>
            <a:custGeom>
              <a:avLst/>
              <a:gdLst/>
              <a:ahLst/>
              <a:rect l="l" t="t" r="r" b="b"/>
              <a:pathLst>
                <a:path w="1537" h="1282">
                  <a:moveTo>
                    <a:pt x="13" y="0"/>
                  </a:moveTo>
                  <a:lnTo>
                    <a:pt x="1537" y="1275"/>
                  </a:lnTo>
                  <a:lnTo>
                    <a:pt x="1530" y="1276"/>
                  </a:lnTo>
                  <a:lnTo>
                    <a:pt x="1525" y="1277"/>
                  </a:lnTo>
                  <a:lnTo>
                    <a:pt x="1520" y="1278"/>
                  </a:lnTo>
                  <a:lnTo>
                    <a:pt x="1513" y="1278"/>
                  </a:lnTo>
                  <a:lnTo>
                    <a:pt x="1508" y="1279"/>
                  </a:lnTo>
                  <a:lnTo>
                    <a:pt x="1502" y="1280"/>
                  </a:lnTo>
                  <a:lnTo>
                    <a:pt x="1496" y="1281"/>
                  </a:lnTo>
                  <a:lnTo>
                    <a:pt x="1490" y="1282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9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3282840" y="2349360"/>
              <a:ext cx="484200" cy="403200"/>
            </a:xfrm>
            <a:custGeom>
              <a:avLst/>
              <a:gdLst/>
              <a:ahLst/>
              <a:rect l="l" t="t" r="r" b="b"/>
              <a:pathLst>
                <a:path w="1521" h="1269">
                  <a:moveTo>
                    <a:pt x="14" y="0"/>
                  </a:moveTo>
                  <a:lnTo>
                    <a:pt x="1521" y="1261"/>
                  </a:lnTo>
                  <a:lnTo>
                    <a:pt x="1516" y="1262"/>
                  </a:lnTo>
                  <a:lnTo>
                    <a:pt x="1510" y="1263"/>
                  </a:lnTo>
                  <a:lnTo>
                    <a:pt x="1504" y="1264"/>
                  </a:lnTo>
                  <a:lnTo>
                    <a:pt x="1498" y="1265"/>
                  </a:lnTo>
                  <a:lnTo>
                    <a:pt x="1492" y="1266"/>
                  </a:lnTo>
                  <a:lnTo>
                    <a:pt x="1487" y="1266"/>
                  </a:lnTo>
                  <a:lnTo>
                    <a:pt x="1481" y="1267"/>
                  </a:lnTo>
                  <a:lnTo>
                    <a:pt x="1475" y="1269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3281400" y="2354400"/>
              <a:ext cx="477720" cy="398160"/>
            </a:xfrm>
            <a:custGeom>
              <a:avLst/>
              <a:gdLst/>
              <a:ahLst/>
              <a:rect l="l" t="t" r="r" b="b"/>
              <a:pathLst>
                <a:path w="1504" h="1255">
                  <a:moveTo>
                    <a:pt x="14" y="0"/>
                  </a:moveTo>
                  <a:lnTo>
                    <a:pt x="1504" y="1248"/>
                  </a:lnTo>
                  <a:lnTo>
                    <a:pt x="1498" y="1249"/>
                  </a:lnTo>
                  <a:lnTo>
                    <a:pt x="1493" y="1249"/>
                  </a:lnTo>
                  <a:lnTo>
                    <a:pt x="1487" y="1250"/>
                  </a:lnTo>
                  <a:lnTo>
                    <a:pt x="1481" y="1252"/>
                  </a:lnTo>
                  <a:lnTo>
                    <a:pt x="1475" y="1253"/>
                  </a:lnTo>
                  <a:lnTo>
                    <a:pt x="1470" y="1254"/>
                  </a:lnTo>
                  <a:lnTo>
                    <a:pt x="1463" y="1255"/>
                  </a:lnTo>
                  <a:lnTo>
                    <a:pt x="1458" y="1255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9" y="13"/>
                  </a:lnTo>
                  <a:lnTo>
                    <a:pt x="10" y="9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3279600" y="2360520"/>
              <a:ext cx="471600" cy="393840"/>
            </a:xfrm>
            <a:custGeom>
              <a:avLst/>
              <a:gdLst/>
              <a:ahLst/>
              <a:rect l="l" t="t" r="r" b="b"/>
              <a:pathLst>
                <a:path w="1488" h="1242">
                  <a:moveTo>
                    <a:pt x="13" y="0"/>
                  </a:moveTo>
                  <a:lnTo>
                    <a:pt x="1488" y="1235"/>
                  </a:lnTo>
                  <a:lnTo>
                    <a:pt x="1482" y="1236"/>
                  </a:lnTo>
                  <a:lnTo>
                    <a:pt x="1477" y="1237"/>
                  </a:lnTo>
                  <a:lnTo>
                    <a:pt x="1470" y="1238"/>
                  </a:lnTo>
                  <a:lnTo>
                    <a:pt x="1465" y="1239"/>
                  </a:lnTo>
                  <a:lnTo>
                    <a:pt x="1459" y="1239"/>
                  </a:lnTo>
                  <a:lnTo>
                    <a:pt x="1453" y="1240"/>
                  </a:lnTo>
                  <a:lnTo>
                    <a:pt x="1448" y="1241"/>
                  </a:lnTo>
                  <a:lnTo>
                    <a:pt x="1442" y="1242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3276720" y="2365200"/>
              <a:ext cx="468360" cy="390600"/>
            </a:xfrm>
            <a:custGeom>
              <a:avLst/>
              <a:gdLst/>
              <a:ahLst/>
              <a:rect l="l" t="t" r="r" b="b"/>
              <a:pathLst>
                <a:path w="1472" h="1227">
                  <a:moveTo>
                    <a:pt x="14" y="0"/>
                  </a:moveTo>
                  <a:lnTo>
                    <a:pt x="1472" y="1220"/>
                  </a:lnTo>
                  <a:lnTo>
                    <a:pt x="1467" y="1221"/>
                  </a:lnTo>
                  <a:lnTo>
                    <a:pt x="1460" y="1222"/>
                  </a:lnTo>
                  <a:lnTo>
                    <a:pt x="1455" y="1223"/>
                  </a:lnTo>
                  <a:lnTo>
                    <a:pt x="1448" y="1224"/>
                  </a:lnTo>
                  <a:lnTo>
                    <a:pt x="1443" y="1225"/>
                  </a:lnTo>
                  <a:lnTo>
                    <a:pt x="1438" y="1226"/>
                  </a:lnTo>
                  <a:lnTo>
                    <a:pt x="1432" y="1227"/>
                  </a:lnTo>
                  <a:lnTo>
                    <a:pt x="1426" y="1227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3" y="26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3274920" y="2371680"/>
              <a:ext cx="461880" cy="385920"/>
            </a:xfrm>
            <a:custGeom>
              <a:avLst/>
              <a:gdLst/>
              <a:ahLst/>
              <a:rect l="l" t="t" r="r" b="b"/>
              <a:pathLst>
                <a:path w="1456" h="1215">
                  <a:moveTo>
                    <a:pt x="14" y="0"/>
                  </a:moveTo>
                  <a:lnTo>
                    <a:pt x="1456" y="1207"/>
                  </a:lnTo>
                  <a:lnTo>
                    <a:pt x="1450" y="1208"/>
                  </a:lnTo>
                  <a:lnTo>
                    <a:pt x="1445" y="1209"/>
                  </a:lnTo>
                  <a:lnTo>
                    <a:pt x="1439" y="1210"/>
                  </a:lnTo>
                  <a:lnTo>
                    <a:pt x="1433" y="1211"/>
                  </a:lnTo>
                  <a:lnTo>
                    <a:pt x="1427" y="1211"/>
                  </a:lnTo>
                  <a:lnTo>
                    <a:pt x="1422" y="1212"/>
                  </a:lnTo>
                  <a:lnTo>
                    <a:pt x="1415" y="1214"/>
                  </a:lnTo>
                  <a:lnTo>
                    <a:pt x="1410" y="1215"/>
                  </a:lnTo>
                  <a:lnTo>
                    <a:pt x="0" y="35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3273480" y="2376360"/>
              <a:ext cx="457200" cy="382680"/>
            </a:xfrm>
            <a:custGeom>
              <a:avLst/>
              <a:gdLst/>
              <a:ahLst/>
              <a:rect l="l" t="t" r="r" b="b"/>
              <a:pathLst>
                <a:path w="1439" h="1202">
                  <a:moveTo>
                    <a:pt x="13" y="0"/>
                  </a:moveTo>
                  <a:lnTo>
                    <a:pt x="1439" y="1193"/>
                  </a:lnTo>
                  <a:lnTo>
                    <a:pt x="1433" y="1194"/>
                  </a:lnTo>
                  <a:lnTo>
                    <a:pt x="1428" y="1195"/>
                  </a:lnTo>
                  <a:lnTo>
                    <a:pt x="1421" y="1197"/>
                  </a:lnTo>
                  <a:lnTo>
                    <a:pt x="1416" y="1198"/>
                  </a:lnTo>
                  <a:lnTo>
                    <a:pt x="1411" y="1199"/>
                  </a:lnTo>
                  <a:lnTo>
                    <a:pt x="1404" y="1200"/>
                  </a:lnTo>
                  <a:lnTo>
                    <a:pt x="1399" y="1201"/>
                  </a:lnTo>
                  <a:lnTo>
                    <a:pt x="1393" y="1202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8"/>
                  </a:lnTo>
                  <a:lnTo>
                    <a:pt x="9" y="13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3271680" y="2382840"/>
              <a:ext cx="451080" cy="376200"/>
            </a:xfrm>
            <a:custGeom>
              <a:avLst/>
              <a:gdLst/>
              <a:ahLst/>
              <a:rect l="l" t="t" r="r" b="b"/>
              <a:pathLst>
                <a:path w="1422" h="1187">
                  <a:moveTo>
                    <a:pt x="12" y="0"/>
                  </a:moveTo>
                  <a:lnTo>
                    <a:pt x="1422" y="1180"/>
                  </a:lnTo>
                  <a:lnTo>
                    <a:pt x="1417" y="1181"/>
                  </a:lnTo>
                  <a:lnTo>
                    <a:pt x="1410" y="1182"/>
                  </a:lnTo>
                  <a:lnTo>
                    <a:pt x="1405" y="1183"/>
                  </a:lnTo>
                  <a:lnTo>
                    <a:pt x="1399" y="1184"/>
                  </a:lnTo>
                  <a:lnTo>
                    <a:pt x="1393" y="1185"/>
                  </a:lnTo>
                  <a:lnTo>
                    <a:pt x="1387" y="1186"/>
                  </a:lnTo>
                  <a:lnTo>
                    <a:pt x="1382" y="1187"/>
                  </a:lnTo>
                  <a:lnTo>
                    <a:pt x="1377" y="1187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3268800" y="2387520"/>
              <a:ext cx="446040" cy="373320"/>
            </a:xfrm>
            <a:custGeom>
              <a:avLst/>
              <a:gdLst/>
              <a:ahLst/>
              <a:rect l="l" t="t" r="r" b="b"/>
              <a:pathLst>
                <a:path w="1406" h="1175">
                  <a:moveTo>
                    <a:pt x="13" y="0"/>
                  </a:moveTo>
                  <a:lnTo>
                    <a:pt x="1406" y="1167"/>
                  </a:lnTo>
                  <a:lnTo>
                    <a:pt x="1401" y="1168"/>
                  </a:lnTo>
                  <a:lnTo>
                    <a:pt x="1394" y="1169"/>
                  </a:lnTo>
                  <a:lnTo>
                    <a:pt x="1389" y="1170"/>
                  </a:lnTo>
                  <a:lnTo>
                    <a:pt x="1384" y="1170"/>
                  </a:lnTo>
                  <a:lnTo>
                    <a:pt x="1377" y="1171"/>
                  </a:lnTo>
                  <a:lnTo>
                    <a:pt x="1372" y="1172"/>
                  </a:lnTo>
                  <a:lnTo>
                    <a:pt x="1366" y="1173"/>
                  </a:lnTo>
                  <a:lnTo>
                    <a:pt x="1361" y="1175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3267000" y="2394000"/>
              <a:ext cx="441360" cy="368280"/>
            </a:xfrm>
            <a:custGeom>
              <a:avLst/>
              <a:gdLst/>
              <a:ahLst/>
              <a:rect l="l" t="t" r="r" b="b"/>
              <a:pathLst>
                <a:path w="1390" h="1161">
                  <a:moveTo>
                    <a:pt x="13" y="0"/>
                  </a:moveTo>
                  <a:lnTo>
                    <a:pt x="1390" y="1152"/>
                  </a:lnTo>
                  <a:lnTo>
                    <a:pt x="1383" y="1153"/>
                  </a:lnTo>
                  <a:lnTo>
                    <a:pt x="1378" y="1154"/>
                  </a:lnTo>
                  <a:lnTo>
                    <a:pt x="1372" y="1155"/>
                  </a:lnTo>
                  <a:lnTo>
                    <a:pt x="1367" y="1157"/>
                  </a:lnTo>
                  <a:lnTo>
                    <a:pt x="1361" y="1158"/>
                  </a:lnTo>
                  <a:lnTo>
                    <a:pt x="1355" y="1159"/>
                  </a:lnTo>
                  <a:lnTo>
                    <a:pt x="1350" y="1160"/>
                  </a:lnTo>
                  <a:lnTo>
                    <a:pt x="1344" y="1161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3265560" y="2398680"/>
              <a:ext cx="434880" cy="365040"/>
            </a:xfrm>
            <a:custGeom>
              <a:avLst/>
              <a:gdLst/>
              <a:ahLst/>
              <a:rect l="l" t="t" r="r" b="b"/>
              <a:pathLst>
                <a:path w="1374" h="1147">
                  <a:moveTo>
                    <a:pt x="13" y="0"/>
                  </a:moveTo>
                  <a:lnTo>
                    <a:pt x="1374" y="1139"/>
                  </a:lnTo>
                  <a:lnTo>
                    <a:pt x="1368" y="1140"/>
                  </a:lnTo>
                  <a:lnTo>
                    <a:pt x="1362" y="1141"/>
                  </a:lnTo>
                  <a:lnTo>
                    <a:pt x="1357" y="1142"/>
                  </a:lnTo>
                  <a:lnTo>
                    <a:pt x="1351" y="1143"/>
                  </a:lnTo>
                  <a:lnTo>
                    <a:pt x="1345" y="1144"/>
                  </a:lnTo>
                  <a:lnTo>
                    <a:pt x="1339" y="1145"/>
                  </a:lnTo>
                  <a:lnTo>
                    <a:pt x="1334" y="1146"/>
                  </a:lnTo>
                  <a:lnTo>
                    <a:pt x="1329" y="1147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5"/>
                  </a:lnTo>
                  <a:lnTo>
                    <a:pt x="4" y="21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1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3262320" y="2405160"/>
              <a:ext cx="431640" cy="360360"/>
            </a:xfrm>
            <a:custGeom>
              <a:avLst/>
              <a:gdLst/>
              <a:ahLst/>
              <a:rect l="l" t="t" r="r" b="b"/>
              <a:pathLst>
                <a:path w="1357" h="1134">
                  <a:moveTo>
                    <a:pt x="13" y="0"/>
                  </a:moveTo>
                  <a:lnTo>
                    <a:pt x="1357" y="1126"/>
                  </a:lnTo>
                  <a:lnTo>
                    <a:pt x="1351" y="1127"/>
                  </a:lnTo>
                  <a:lnTo>
                    <a:pt x="1345" y="1128"/>
                  </a:lnTo>
                  <a:lnTo>
                    <a:pt x="1340" y="1129"/>
                  </a:lnTo>
                  <a:lnTo>
                    <a:pt x="1335" y="1130"/>
                  </a:lnTo>
                  <a:lnTo>
                    <a:pt x="1329" y="1131"/>
                  </a:lnTo>
                  <a:lnTo>
                    <a:pt x="1323" y="1132"/>
                  </a:lnTo>
                  <a:lnTo>
                    <a:pt x="1317" y="1133"/>
                  </a:lnTo>
                  <a:lnTo>
                    <a:pt x="1312" y="1134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9" y="8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3260880" y="2409840"/>
              <a:ext cx="425160" cy="357120"/>
            </a:xfrm>
            <a:custGeom>
              <a:avLst/>
              <a:gdLst/>
              <a:ahLst/>
              <a:rect l="l" t="t" r="r" b="b"/>
              <a:pathLst>
                <a:path w="1342" h="1121">
                  <a:moveTo>
                    <a:pt x="13" y="0"/>
                  </a:moveTo>
                  <a:lnTo>
                    <a:pt x="1342" y="1112"/>
                  </a:lnTo>
                  <a:lnTo>
                    <a:pt x="1336" y="1113"/>
                  </a:lnTo>
                  <a:lnTo>
                    <a:pt x="1330" y="1114"/>
                  </a:lnTo>
                  <a:lnTo>
                    <a:pt x="1324" y="1115"/>
                  </a:lnTo>
                  <a:lnTo>
                    <a:pt x="1319" y="1116"/>
                  </a:lnTo>
                  <a:lnTo>
                    <a:pt x="1314" y="1118"/>
                  </a:lnTo>
                  <a:lnTo>
                    <a:pt x="1308" y="1119"/>
                  </a:lnTo>
                  <a:lnTo>
                    <a:pt x="1302" y="1120"/>
                  </a:lnTo>
                  <a:lnTo>
                    <a:pt x="1296" y="1121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4" y="22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3259080" y="2416320"/>
              <a:ext cx="420840" cy="350640"/>
            </a:xfrm>
            <a:custGeom>
              <a:avLst/>
              <a:gdLst/>
              <a:ahLst/>
              <a:rect l="l" t="t" r="r" b="b"/>
              <a:pathLst>
                <a:path w="1325" h="1108">
                  <a:moveTo>
                    <a:pt x="13" y="0"/>
                  </a:moveTo>
                  <a:lnTo>
                    <a:pt x="1325" y="1099"/>
                  </a:lnTo>
                  <a:lnTo>
                    <a:pt x="1320" y="1101"/>
                  </a:lnTo>
                  <a:lnTo>
                    <a:pt x="1314" y="1102"/>
                  </a:lnTo>
                  <a:lnTo>
                    <a:pt x="1308" y="1103"/>
                  </a:lnTo>
                  <a:lnTo>
                    <a:pt x="1302" y="1104"/>
                  </a:lnTo>
                  <a:lnTo>
                    <a:pt x="1297" y="1105"/>
                  </a:lnTo>
                  <a:lnTo>
                    <a:pt x="1292" y="1106"/>
                  </a:lnTo>
                  <a:lnTo>
                    <a:pt x="1286" y="1107"/>
                  </a:lnTo>
                  <a:lnTo>
                    <a:pt x="1281" y="1108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3" y="26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3255840" y="2421000"/>
              <a:ext cx="416160" cy="347760"/>
            </a:xfrm>
            <a:custGeom>
              <a:avLst/>
              <a:gdLst/>
              <a:ahLst/>
              <a:rect l="l" t="t" r="r" b="b"/>
              <a:pathLst>
                <a:path w="1309" h="1094">
                  <a:moveTo>
                    <a:pt x="13" y="0"/>
                  </a:moveTo>
                  <a:lnTo>
                    <a:pt x="1309" y="1086"/>
                  </a:lnTo>
                  <a:lnTo>
                    <a:pt x="1304" y="1087"/>
                  </a:lnTo>
                  <a:lnTo>
                    <a:pt x="1299" y="1088"/>
                  </a:lnTo>
                  <a:lnTo>
                    <a:pt x="1293" y="1089"/>
                  </a:lnTo>
                  <a:lnTo>
                    <a:pt x="1288" y="1090"/>
                  </a:lnTo>
                  <a:lnTo>
                    <a:pt x="1281" y="1091"/>
                  </a:lnTo>
                  <a:lnTo>
                    <a:pt x="1276" y="1092"/>
                  </a:lnTo>
                  <a:lnTo>
                    <a:pt x="1270" y="1093"/>
                  </a:lnTo>
                  <a:lnTo>
                    <a:pt x="1265" y="1094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1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3254400" y="2427120"/>
              <a:ext cx="411120" cy="343080"/>
            </a:xfrm>
            <a:custGeom>
              <a:avLst/>
              <a:gdLst/>
              <a:ahLst/>
              <a:rect l="l" t="t" r="r" b="b"/>
              <a:pathLst>
                <a:path w="1294" h="1081">
                  <a:moveTo>
                    <a:pt x="13" y="0"/>
                  </a:moveTo>
                  <a:lnTo>
                    <a:pt x="1294" y="1072"/>
                  </a:lnTo>
                  <a:lnTo>
                    <a:pt x="1287" y="1073"/>
                  </a:lnTo>
                  <a:lnTo>
                    <a:pt x="1282" y="1074"/>
                  </a:lnTo>
                  <a:lnTo>
                    <a:pt x="1276" y="1075"/>
                  </a:lnTo>
                  <a:lnTo>
                    <a:pt x="1271" y="1076"/>
                  </a:lnTo>
                  <a:lnTo>
                    <a:pt x="1266" y="1078"/>
                  </a:lnTo>
                  <a:lnTo>
                    <a:pt x="1260" y="1079"/>
                  </a:lnTo>
                  <a:lnTo>
                    <a:pt x="1255" y="1080"/>
                  </a:lnTo>
                  <a:lnTo>
                    <a:pt x="1250" y="1081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3252960" y="2432160"/>
              <a:ext cx="404640" cy="339480"/>
            </a:xfrm>
            <a:custGeom>
              <a:avLst/>
              <a:gdLst/>
              <a:ahLst/>
              <a:rect l="l" t="t" r="r" b="b"/>
              <a:pathLst>
                <a:path w="1278" h="1069">
                  <a:moveTo>
                    <a:pt x="13" y="0"/>
                  </a:moveTo>
                  <a:lnTo>
                    <a:pt x="1278" y="1059"/>
                  </a:lnTo>
                  <a:lnTo>
                    <a:pt x="1273" y="1061"/>
                  </a:lnTo>
                  <a:lnTo>
                    <a:pt x="1267" y="1062"/>
                  </a:lnTo>
                  <a:lnTo>
                    <a:pt x="1262" y="1063"/>
                  </a:lnTo>
                  <a:lnTo>
                    <a:pt x="1257" y="1064"/>
                  </a:lnTo>
                  <a:lnTo>
                    <a:pt x="1251" y="1066"/>
                  </a:lnTo>
                  <a:lnTo>
                    <a:pt x="1245" y="1067"/>
                  </a:lnTo>
                  <a:lnTo>
                    <a:pt x="1239" y="1068"/>
                  </a:lnTo>
                  <a:lnTo>
                    <a:pt x="1234" y="1069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6" y="23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3251160" y="2438280"/>
              <a:ext cx="399960" cy="335160"/>
            </a:xfrm>
            <a:custGeom>
              <a:avLst/>
              <a:gdLst/>
              <a:ahLst/>
              <a:rect l="l" t="t" r="r" b="b"/>
              <a:pathLst>
                <a:path w="1262" h="1055">
                  <a:moveTo>
                    <a:pt x="12" y="0"/>
                  </a:moveTo>
                  <a:lnTo>
                    <a:pt x="1262" y="1045"/>
                  </a:lnTo>
                  <a:lnTo>
                    <a:pt x="1256" y="1046"/>
                  </a:lnTo>
                  <a:lnTo>
                    <a:pt x="1250" y="1048"/>
                  </a:lnTo>
                  <a:lnTo>
                    <a:pt x="1244" y="1049"/>
                  </a:lnTo>
                  <a:lnTo>
                    <a:pt x="1239" y="1050"/>
                  </a:lnTo>
                  <a:lnTo>
                    <a:pt x="1233" y="1051"/>
                  </a:lnTo>
                  <a:lnTo>
                    <a:pt x="1228" y="1052"/>
                  </a:lnTo>
                  <a:lnTo>
                    <a:pt x="1223" y="1053"/>
                  </a:lnTo>
                  <a:lnTo>
                    <a:pt x="1217" y="1055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4" y="21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8" y="8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3247920" y="2444760"/>
              <a:ext cx="397080" cy="330120"/>
            </a:xfrm>
            <a:custGeom>
              <a:avLst/>
              <a:gdLst/>
              <a:ahLst/>
              <a:rect l="l" t="t" r="r" b="b"/>
              <a:pathLst>
                <a:path w="1246" h="1043">
                  <a:moveTo>
                    <a:pt x="12" y="0"/>
                  </a:moveTo>
                  <a:lnTo>
                    <a:pt x="1246" y="1033"/>
                  </a:lnTo>
                  <a:lnTo>
                    <a:pt x="1240" y="1034"/>
                  </a:lnTo>
                  <a:lnTo>
                    <a:pt x="1235" y="1035"/>
                  </a:lnTo>
                  <a:lnTo>
                    <a:pt x="1230" y="1036"/>
                  </a:lnTo>
                  <a:lnTo>
                    <a:pt x="1224" y="1038"/>
                  </a:lnTo>
                  <a:lnTo>
                    <a:pt x="1219" y="1039"/>
                  </a:lnTo>
                  <a:lnTo>
                    <a:pt x="1213" y="1040"/>
                  </a:lnTo>
                  <a:lnTo>
                    <a:pt x="1208" y="1041"/>
                  </a:lnTo>
                  <a:lnTo>
                    <a:pt x="1203" y="1043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10" y="9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3246480" y="2449440"/>
              <a:ext cx="390600" cy="327240"/>
            </a:xfrm>
            <a:custGeom>
              <a:avLst/>
              <a:gdLst/>
              <a:ahLst/>
              <a:rect l="l" t="t" r="r" b="b"/>
              <a:pathLst>
                <a:path w="1230" h="1029">
                  <a:moveTo>
                    <a:pt x="13" y="0"/>
                  </a:moveTo>
                  <a:lnTo>
                    <a:pt x="1230" y="1020"/>
                  </a:lnTo>
                  <a:lnTo>
                    <a:pt x="1225" y="1021"/>
                  </a:lnTo>
                  <a:lnTo>
                    <a:pt x="1219" y="1022"/>
                  </a:lnTo>
                  <a:lnTo>
                    <a:pt x="1214" y="1023"/>
                  </a:lnTo>
                  <a:lnTo>
                    <a:pt x="1209" y="1025"/>
                  </a:lnTo>
                  <a:lnTo>
                    <a:pt x="1203" y="1026"/>
                  </a:lnTo>
                  <a:lnTo>
                    <a:pt x="1198" y="1027"/>
                  </a:lnTo>
                  <a:lnTo>
                    <a:pt x="1192" y="1028"/>
                  </a:lnTo>
                  <a:lnTo>
                    <a:pt x="1187" y="1029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5" y="22"/>
                  </a:lnTo>
                  <a:lnTo>
                    <a:pt x="6" y="18"/>
                  </a:lnTo>
                  <a:lnTo>
                    <a:pt x="7" y="13"/>
                  </a:lnTo>
                  <a:lnTo>
                    <a:pt x="10" y="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3244680" y="2455920"/>
              <a:ext cx="385920" cy="322200"/>
            </a:xfrm>
            <a:custGeom>
              <a:avLst/>
              <a:gdLst/>
              <a:ahLst/>
              <a:rect l="l" t="t" r="r" b="b"/>
              <a:pathLst>
                <a:path w="1215" h="1017">
                  <a:moveTo>
                    <a:pt x="12" y="0"/>
                  </a:moveTo>
                  <a:lnTo>
                    <a:pt x="1215" y="1007"/>
                  </a:lnTo>
                  <a:lnTo>
                    <a:pt x="1209" y="1008"/>
                  </a:lnTo>
                  <a:lnTo>
                    <a:pt x="1204" y="1009"/>
                  </a:lnTo>
                  <a:lnTo>
                    <a:pt x="1198" y="1010"/>
                  </a:lnTo>
                  <a:lnTo>
                    <a:pt x="1193" y="1011"/>
                  </a:lnTo>
                  <a:lnTo>
                    <a:pt x="1188" y="1012"/>
                  </a:lnTo>
                  <a:lnTo>
                    <a:pt x="1182" y="1014"/>
                  </a:lnTo>
                  <a:lnTo>
                    <a:pt x="1177" y="1016"/>
                  </a:lnTo>
                  <a:lnTo>
                    <a:pt x="1172" y="1017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2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3243240" y="2460600"/>
              <a:ext cx="380880" cy="318960"/>
            </a:xfrm>
            <a:custGeom>
              <a:avLst/>
              <a:gdLst/>
              <a:ahLst/>
              <a:rect l="l" t="t" r="r" b="b"/>
              <a:pathLst>
                <a:path w="1199" h="1004">
                  <a:moveTo>
                    <a:pt x="12" y="0"/>
                  </a:moveTo>
                  <a:lnTo>
                    <a:pt x="1199" y="993"/>
                  </a:lnTo>
                  <a:lnTo>
                    <a:pt x="1194" y="994"/>
                  </a:lnTo>
                  <a:lnTo>
                    <a:pt x="1188" y="995"/>
                  </a:lnTo>
                  <a:lnTo>
                    <a:pt x="1183" y="998"/>
                  </a:lnTo>
                  <a:lnTo>
                    <a:pt x="1178" y="999"/>
                  </a:lnTo>
                  <a:lnTo>
                    <a:pt x="1172" y="1000"/>
                  </a:lnTo>
                  <a:lnTo>
                    <a:pt x="1167" y="1001"/>
                  </a:lnTo>
                  <a:lnTo>
                    <a:pt x="1161" y="1002"/>
                  </a:lnTo>
                  <a:lnTo>
                    <a:pt x="1156" y="1004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3241800" y="2467080"/>
              <a:ext cx="374400" cy="314280"/>
            </a:xfrm>
            <a:custGeom>
              <a:avLst/>
              <a:gdLst/>
              <a:ahLst/>
              <a:rect l="l" t="t" r="r" b="b"/>
              <a:pathLst>
                <a:path w="1183" h="992">
                  <a:moveTo>
                    <a:pt x="11" y="0"/>
                  </a:moveTo>
                  <a:lnTo>
                    <a:pt x="1183" y="982"/>
                  </a:lnTo>
                  <a:lnTo>
                    <a:pt x="1177" y="983"/>
                  </a:lnTo>
                  <a:lnTo>
                    <a:pt x="1172" y="984"/>
                  </a:lnTo>
                  <a:lnTo>
                    <a:pt x="1166" y="985"/>
                  </a:lnTo>
                  <a:lnTo>
                    <a:pt x="1161" y="987"/>
                  </a:lnTo>
                  <a:lnTo>
                    <a:pt x="1156" y="988"/>
                  </a:lnTo>
                  <a:lnTo>
                    <a:pt x="1150" y="989"/>
                  </a:lnTo>
                  <a:lnTo>
                    <a:pt x="1145" y="990"/>
                  </a:lnTo>
                  <a:lnTo>
                    <a:pt x="1140" y="992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3238560" y="2473200"/>
              <a:ext cx="371520" cy="309600"/>
            </a:xfrm>
            <a:custGeom>
              <a:avLst/>
              <a:gdLst/>
              <a:ahLst/>
              <a:rect l="l" t="t" r="r" b="b"/>
              <a:pathLst>
                <a:path w="1168" h="978">
                  <a:moveTo>
                    <a:pt x="12" y="0"/>
                  </a:moveTo>
                  <a:lnTo>
                    <a:pt x="1168" y="968"/>
                  </a:lnTo>
                  <a:lnTo>
                    <a:pt x="1163" y="969"/>
                  </a:lnTo>
                  <a:lnTo>
                    <a:pt x="1157" y="970"/>
                  </a:lnTo>
                  <a:lnTo>
                    <a:pt x="1152" y="971"/>
                  </a:lnTo>
                  <a:lnTo>
                    <a:pt x="1146" y="973"/>
                  </a:lnTo>
                  <a:lnTo>
                    <a:pt x="1141" y="975"/>
                  </a:lnTo>
                  <a:lnTo>
                    <a:pt x="1137" y="976"/>
                  </a:lnTo>
                  <a:lnTo>
                    <a:pt x="1131" y="977"/>
                  </a:lnTo>
                  <a:lnTo>
                    <a:pt x="1126" y="978"/>
                  </a:lnTo>
                  <a:lnTo>
                    <a:pt x="0" y="37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9" y="10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3236760" y="2478240"/>
              <a:ext cx="366840" cy="306360"/>
            </a:xfrm>
            <a:custGeom>
              <a:avLst/>
              <a:gdLst/>
              <a:ahLst/>
              <a:rect l="l" t="t" r="r" b="b"/>
              <a:pathLst>
                <a:path w="1152" h="966">
                  <a:moveTo>
                    <a:pt x="12" y="0"/>
                  </a:moveTo>
                  <a:lnTo>
                    <a:pt x="1152" y="955"/>
                  </a:lnTo>
                  <a:lnTo>
                    <a:pt x="1147" y="957"/>
                  </a:lnTo>
                  <a:lnTo>
                    <a:pt x="1142" y="958"/>
                  </a:lnTo>
                  <a:lnTo>
                    <a:pt x="1136" y="959"/>
                  </a:lnTo>
                  <a:lnTo>
                    <a:pt x="1131" y="961"/>
                  </a:lnTo>
                  <a:lnTo>
                    <a:pt x="1125" y="962"/>
                  </a:lnTo>
                  <a:lnTo>
                    <a:pt x="1120" y="963"/>
                  </a:lnTo>
                  <a:lnTo>
                    <a:pt x="1115" y="964"/>
                  </a:lnTo>
                  <a:lnTo>
                    <a:pt x="1109" y="966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6" y="13"/>
                  </a:lnTo>
                  <a:lnTo>
                    <a:pt x="8" y="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3235320" y="2484360"/>
              <a:ext cx="361800" cy="303120"/>
            </a:xfrm>
            <a:custGeom>
              <a:avLst/>
              <a:gdLst/>
              <a:ahLst/>
              <a:rect l="l" t="t" r="r" b="b"/>
              <a:pathLst>
                <a:path w="1138" h="953">
                  <a:moveTo>
                    <a:pt x="12" y="0"/>
                  </a:moveTo>
                  <a:lnTo>
                    <a:pt x="1138" y="941"/>
                  </a:lnTo>
                  <a:lnTo>
                    <a:pt x="1132" y="943"/>
                  </a:lnTo>
                  <a:lnTo>
                    <a:pt x="1127" y="944"/>
                  </a:lnTo>
                  <a:lnTo>
                    <a:pt x="1122" y="945"/>
                  </a:lnTo>
                  <a:lnTo>
                    <a:pt x="1116" y="947"/>
                  </a:lnTo>
                  <a:lnTo>
                    <a:pt x="1112" y="948"/>
                  </a:lnTo>
                  <a:lnTo>
                    <a:pt x="1107" y="949"/>
                  </a:lnTo>
                  <a:lnTo>
                    <a:pt x="1101" y="952"/>
                  </a:lnTo>
                  <a:lnTo>
                    <a:pt x="1096" y="953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2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233880" y="2489040"/>
              <a:ext cx="355320" cy="300240"/>
            </a:xfrm>
            <a:custGeom>
              <a:avLst/>
              <a:gdLst/>
              <a:ahLst/>
              <a:rect l="l" t="t" r="r" b="b"/>
              <a:pathLst>
                <a:path w="1121" h="941">
                  <a:moveTo>
                    <a:pt x="12" y="0"/>
                  </a:moveTo>
                  <a:lnTo>
                    <a:pt x="1121" y="930"/>
                  </a:lnTo>
                  <a:lnTo>
                    <a:pt x="1117" y="931"/>
                  </a:lnTo>
                  <a:lnTo>
                    <a:pt x="1112" y="932"/>
                  </a:lnTo>
                  <a:lnTo>
                    <a:pt x="1106" y="935"/>
                  </a:lnTo>
                  <a:lnTo>
                    <a:pt x="1101" y="936"/>
                  </a:lnTo>
                  <a:lnTo>
                    <a:pt x="1095" y="937"/>
                  </a:lnTo>
                  <a:lnTo>
                    <a:pt x="1090" y="939"/>
                  </a:lnTo>
                  <a:lnTo>
                    <a:pt x="1086" y="940"/>
                  </a:lnTo>
                  <a:lnTo>
                    <a:pt x="1080" y="941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3232080" y="2495520"/>
              <a:ext cx="351000" cy="295200"/>
            </a:xfrm>
            <a:custGeom>
              <a:avLst/>
              <a:gdLst/>
              <a:ahLst/>
              <a:rect l="l" t="t" r="r" b="b"/>
              <a:pathLst>
                <a:path w="1107" h="928">
                  <a:moveTo>
                    <a:pt x="11" y="0"/>
                  </a:moveTo>
                  <a:lnTo>
                    <a:pt x="1107" y="918"/>
                  </a:lnTo>
                  <a:lnTo>
                    <a:pt x="1101" y="919"/>
                  </a:lnTo>
                  <a:lnTo>
                    <a:pt x="1096" y="920"/>
                  </a:lnTo>
                  <a:lnTo>
                    <a:pt x="1092" y="922"/>
                  </a:lnTo>
                  <a:lnTo>
                    <a:pt x="1086" y="923"/>
                  </a:lnTo>
                  <a:lnTo>
                    <a:pt x="1081" y="925"/>
                  </a:lnTo>
                  <a:lnTo>
                    <a:pt x="1075" y="926"/>
                  </a:lnTo>
                  <a:lnTo>
                    <a:pt x="1071" y="927"/>
                  </a:lnTo>
                  <a:lnTo>
                    <a:pt x="1066" y="928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3230640" y="2502000"/>
              <a:ext cx="345960" cy="290520"/>
            </a:xfrm>
            <a:custGeom>
              <a:avLst/>
              <a:gdLst/>
              <a:ahLst/>
              <a:rect l="l" t="t" r="r" b="b"/>
              <a:pathLst>
                <a:path w="1092" h="916">
                  <a:moveTo>
                    <a:pt x="12" y="0"/>
                  </a:moveTo>
                  <a:lnTo>
                    <a:pt x="1092" y="904"/>
                  </a:lnTo>
                  <a:lnTo>
                    <a:pt x="1087" y="906"/>
                  </a:lnTo>
                  <a:lnTo>
                    <a:pt x="1081" y="907"/>
                  </a:lnTo>
                  <a:lnTo>
                    <a:pt x="1077" y="908"/>
                  </a:lnTo>
                  <a:lnTo>
                    <a:pt x="1072" y="911"/>
                  </a:lnTo>
                  <a:lnTo>
                    <a:pt x="1066" y="912"/>
                  </a:lnTo>
                  <a:lnTo>
                    <a:pt x="1061" y="913"/>
                  </a:lnTo>
                  <a:lnTo>
                    <a:pt x="1057" y="915"/>
                  </a:lnTo>
                  <a:lnTo>
                    <a:pt x="1051" y="91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3228840" y="2506680"/>
              <a:ext cx="341280" cy="287280"/>
            </a:xfrm>
            <a:custGeom>
              <a:avLst/>
              <a:gdLst/>
              <a:ahLst/>
              <a:rect l="l" t="t" r="r" b="b"/>
              <a:pathLst>
                <a:path w="1077" h="904">
                  <a:moveTo>
                    <a:pt x="11" y="0"/>
                  </a:moveTo>
                  <a:lnTo>
                    <a:pt x="1077" y="891"/>
                  </a:lnTo>
                  <a:lnTo>
                    <a:pt x="1071" y="894"/>
                  </a:lnTo>
                  <a:lnTo>
                    <a:pt x="1066" y="895"/>
                  </a:lnTo>
                  <a:lnTo>
                    <a:pt x="1062" y="897"/>
                  </a:lnTo>
                  <a:lnTo>
                    <a:pt x="1056" y="898"/>
                  </a:lnTo>
                  <a:lnTo>
                    <a:pt x="1051" y="899"/>
                  </a:lnTo>
                  <a:lnTo>
                    <a:pt x="1047" y="901"/>
                  </a:lnTo>
                  <a:lnTo>
                    <a:pt x="1041" y="902"/>
                  </a:lnTo>
                  <a:lnTo>
                    <a:pt x="1036" y="904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3225960" y="2513160"/>
              <a:ext cx="338040" cy="284040"/>
            </a:xfrm>
            <a:custGeom>
              <a:avLst/>
              <a:gdLst/>
              <a:ahLst/>
              <a:rect l="l" t="t" r="r" b="b"/>
              <a:pathLst>
                <a:path w="1062" h="893">
                  <a:moveTo>
                    <a:pt x="11" y="0"/>
                  </a:moveTo>
                  <a:lnTo>
                    <a:pt x="1062" y="880"/>
                  </a:lnTo>
                  <a:lnTo>
                    <a:pt x="1057" y="882"/>
                  </a:lnTo>
                  <a:lnTo>
                    <a:pt x="1053" y="883"/>
                  </a:lnTo>
                  <a:lnTo>
                    <a:pt x="1047" y="884"/>
                  </a:lnTo>
                  <a:lnTo>
                    <a:pt x="1042" y="886"/>
                  </a:lnTo>
                  <a:lnTo>
                    <a:pt x="1037" y="888"/>
                  </a:lnTo>
                  <a:lnTo>
                    <a:pt x="1032" y="890"/>
                  </a:lnTo>
                  <a:lnTo>
                    <a:pt x="1027" y="891"/>
                  </a:lnTo>
                  <a:lnTo>
                    <a:pt x="1022" y="893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3224160" y="2519280"/>
              <a:ext cx="333360" cy="279360"/>
            </a:xfrm>
            <a:custGeom>
              <a:avLst/>
              <a:gdLst/>
              <a:ahLst/>
              <a:rect l="l" t="t" r="r" b="b"/>
              <a:pathLst>
                <a:path w="1047" h="879">
                  <a:moveTo>
                    <a:pt x="11" y="0"/>
                  </a:moveTo>
                  <a:lnTo>
                    <a:pt x="1047" y="867"/>
                  </a:lnTo>
                  <a:lnTo>
                    <a:pt x="1042" y="869"/>
                  </a:lnTo>
                  <a:lnTo>
                    <a:pt x="1037" y="871"/>
                  </a:lnTo>
                  <a:lnTo>
                    <a:pt x="1032" y="872"/>
                  </a:lnTo>
                  <a:lnTo>
                    <a:pt x="1027" y="874"/>
                  </a:lnTo>
                  <a:lnTo>
                    <a:pt x="1022" y="875"/>
                  </a:lnTo>
                  <a:lnTo>
                    <a:pt x="1016" y="876"/>
                  </a:lnTo>
                  <a:lnTo>
                    <a:pt x="1012" y="878"/>
                  </a:lnTo>
                  <a:lnTo>
                    <a:pt x="1007" y="879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6" y="14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3222720" y="2523960"/>
              <a:ext cx="328680" cy="276480"/>
            </a:xfrm>
            <a:custGeom>
              <a:avLst/>
              <a:gdLst/>
              <a:ahLst/>
              <a:rect l="l" t="t" r="r" b="b"/>
              <a:pathLst>
                <a:path w="1033" h="868">
                  <a:moveTo>
                    <a:pt x="11" y="0"/>
                  </a:moveTo>
                  <a:lnTo>
                    <a:pt x="1033" y="856"/>
                  </a:lnTo>
                  <a:lnTo>
                    <a:pt x="1028" y="857"/>
                  </a:lnTo>
                  <a:lnTo>
                    <a:pt x="1022" y="859"/>
                  </a:lnTo>
                  <a:lnTo>
                    <a:pt x="1018" y="860"/>
                  </a:lnTo>
                  <a:lnTo>
                    <a:pt x="1013" y="861"/>
                  </a:lnTo>
                  <a:lnTo>
                    <a:pt x="1008" y="863"/>
                  </a:lnTo>
                  <a:lnTo>
                    <a:pt x="1003" y="865"/>
                  </a:lnTo>
                  <a:lnTo>
                    <a:pt x="998" y="867"/>
                  </a:lnTo>
                  <a:lnTo>
                    <a:pt x="993" y="868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10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3220920" y="2530440"/>
              <a:ext cx="324000" cy="271440"/>
            </a:xfrm>
            <a:custGeom>
              <a:avLst/>
              <a:gdLst/>
              <a:ahLst/>
              <a:rect l="l" t="t" r="r" b="b"/>
              <a:pathLst>
                <a:path w="1018" h="857">
                  <a:moveTo>
                    <a:pt x="11" y="0"/>
                  </a:moveTo>
                  <a:lnTo>
                    <a:pt x="1018" y="843"/>
                  </a:lnTo>
                  <a:lnTo>
                    <a:pt x="1013" y="845"/>
                  </a:lnTo>
                  <a:lnTo>
                    <a:pt x="1008" y="847"/>
                  </a:lnTo>
                  <a:lnTo>
                    <a:pt x="1003" y="849"/>
                  </a:lnTo>
                  <a:lnTo>
                    <a:pt x="998" y="850"/>
                  </a:lnTo>
                  <a:lnTo>
                    <a:pt x="993" y="852"/>
                  </a:lnTo>
                  <a:lnTo>
                    <a:pt x="989" y="854"/>
                  </a:lnTo>
                  <a:lnTo>
                    <a:pt x="983" y="855"/>
                  </a:lnTo>
                  <a:lnTo>
                    <a:pt x="979" y="857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6" y="14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3219480" y="2536920"/>
              <a:ext cx="318960" cy="268200"/>
            </a:xfrm>
            <a:custGeom>
              <a:avLst/>
              <a:gdLst/>
              <a:ahLst/>
              <a:rect l="l" t="t" r="r" b="b"/>
              <a:pathLst>
                <a:path w="1003" h="845">
                  <a:moveTo>
                    <a:pt x="10" y="0"/>
                  </a:moveTo>
                  <a:lnTo>
                    <a:pt x="1003" y="831"/>
                  </a:lnTo>
                  <a:lnTo>
                    <a:pt x="998" y="833"/>
                  </a:lnTo>
                  <a:lnTo>
                    <a:pt x="994" y="835"/>
                  </a:lnTo>
                  <a:lnTo>
                    <a:pt x="988" y="836"/>
                  </a:lnTo>
                  <a:lnTo>
                    <a:pt x="984" y="838"/>
                  </a:lnTo>
                  <a:lnTo>
                    <a:pt x="979" y="839"/>
                  </a:lnTo>
                  <a:lnTo>
                    <a:pt x="974" y="842"/>
                  </a:lnTo>
                  <a:lnTo>
                    <a:pt x="969" y="843"/>
                  </a:lnTo>
                  <a:lnTo>
                    <a:pt x="964" y="845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5" y="18"/>
                  </a:lnTo>
                  <a:lnTo>
                    <a:pt x="6" y="14"/>
                  </a:lnTo>
                  <a:lnTo>
                    <a:pt x="7" y="10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3218040" y="2541600"/>
              <a:ext cx="314280" cy="264960"/>
            </a:xfrm>
            <a:custGeom>
              <a:avLst/>
              <a:gdLst/>
              <a:ahLst/>
              <a:rect l="l" t="t" r="r" b="b"/>
              <a:pathLst>
                <a:path w="990" h="833">
                  <a:moveTo>
                    <a:pt x="11" y="0"/>
                  </a:moveTo>
                  <a:lnTo>
                    <a:pt x="990" y="820"/>
                  </a:lnTo>
                  <a:lnTo>
                    <a:pt x="985" y="821"/>
                  </a:lnTo>
                  <a:lnTo>
                    <a:pt x="980" y="824"/>
                  </a:lnTo>
                  <a:lnTo>
                    <a:pt x="975" y="825"/>
                  </a:lnTo>
                  <a:lnTo>
                    <a:pt x="970" y="827"/>
                  </a:lnTo>
                  <a:lnTo>
                    <a:pt x="965" y="828"/>
                  </a:lnTo>
                  <a:lnTo>
                    <a:pt x="961" y="830"/>
                  </a:lnTo>
                  <a:lnTo>
                    <a:pt x="955" y="832"/>
                  </a:lnTo>
                  <a:lnTo>
                    <a:pt x="951" y="833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3216240" y="2548080"/>
              <a:ext cx="309600" cy="261720"/>
            </a:xfrm>
            <a:custGeom>
              <a:avLst/>
              <a:gdLst/>
              <a:ahLst/>
              <a:rect l="l" t="t" r="r" b="b"/>
              <a:pathLst>
                <a:path w="975" h="822">
                  <a:moveTo>
                    <a:pt x="11" y="0"/>
                  </a:moveTo>
                  <a:lnTo>
                    <a:pt x="975" y="808"/>
                  </a:lnTo>
                  <a:lnTo>
                    <a:pt x="970" y="810"/>
                  </a:lnTo>
                  <a:lnTo>
                    <a:pt x="966" y="811"/>
                  </a:lnTo>
                  <a:lnTo>
                    <a:pt x="960" y="813"/>
                  </a:lnTo>
                  <a:lnTo>
                    <a:pt x="956" y="814"/>
                  </a:lnTo>
                  <a:lnTo>
                    <a:pt x="951" y="816"/>
                  </a:lnTo>
                  <a:lnTo>
                    <a:pt x="946" y="819"/>
                  </a:lnTo>
                  <a:lnTo>
                    <a:pt x="942" y="820"/>
                  </a:lnTo>
                  <a:lnTo>
                    <a:pt x="937" y="822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6" y="14"/>
                  </a:lnTo>
                  <a:lnTo>
                    <a:pt x="7" y="9"/>
                  </a:lnTo>
                  <a:lnTo>
                    <a:pt x="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3214800" y="2554200"/>
              <a:ext cx="304560" cy="257400"/>
            </a:xfrm>
            <a:custGeom>
              <a:avLst/>
              <a:gdLst/>
              <a:ahLst/>
              <a:rect l="l" t="t" r="r" b="b"/>
              <a:pathLst>
                <a:path w="962" h="810">
                  <a:moveTo>
                    <a:pt x="11" y="0"/>
                  </a:moveTo>
                  <a:lnTo>
                    <a:pt x="962" y="795"/>
                  </a:lnTo>
                  <a:lnTo>
                    <a:pt x="957" y="797"/>
                  </a:lnTo>
                  <a:lnTo>
                    <a:pt x="952" y="800"/>
                  </a:lnTo>
                  <a:lnTo>
                    <a:pt x="948" y="801"/>
                  </a:lnTo>
                  <a:lnTo>
                    <a:pt x="943" y="803"/>
                  </a:lnTo>
                  <a:lnTo>
                    <a:pt x="938" y="805"/>
                  </a:lnTo>
                  <a:lnTo>
                    <a:pt x="933" y="806"/>
                  </a:lnTo>
                  <a:lnTo>
                    <a:pt x="929" y="808"/>
                  </a:lnTo>
                  <a:lnTo>
                    <a:pt x="924" y="810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3213000" y="2560680"/>
              <a:ext cx="300240" cy="252360"/>
            </a:xfrm>
            <a:custGeom>
              <a:avLst/>
              <a:gdLst/>
              <a:ahLst/>
              <a:rect l="l" t="t" r="r" b="b"/>
              <a:pathLst>
                <a:path w="948" h="799">
                  <a:moveTo>
                    <a:pt x="11" y="0"/>
                  </a:moveTo>
                  <a:lnTo>
                    <a:pt x="948" y="785"/>
                  </a:lnTo>
                  <a:lnTo>
                    <a:pt x="943" y="787"/>
                  </a:lnTo>
                  <a:lnTo>
                    <a:pt x="938" y="788"/>
                  </a:lnTo>
                  <a:lnTo>
                    <a:pt x="934" y="790"/>
                  </a:lnTo>
                  <a:lnTo>
                    <a:pt x="929" y="792"/>
                  </a:lnTo>
                  <a:lnTo>
                    <a:pt x="924" y="794"/>
                  </a:lnTo>
                  <a:lnTo>
                    <a:pt x="920" y="796"/>
                  </a:lnTo>
                  <a:lnTo>
                    <a:pt x="915" y="798"/>
                  </a:lnTo>
                  <a:lnTo>
                    <a:pt x="910" y="799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5" y="19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3211560" y="2565360"/>
              <a:ext cx="296640" cy="250920"/>
            </a:xfrm>
            <a:custGeom>
              <a:avLst/>
              <a:gdLst/>
              <a:ahLst/>
              <a:rect l="l" t="t" r="r" b="b"/>
              <a:pathLst>
                <a:path w="933" h="787">
                  <a:moveTo>
                    <a:pt x="9" y="0"/>
                  </a:moveTo>
                  <a:lnTo>
                    <a:pt x="933" y="773"/>
                  </a:lnTo>
                  <a:lnTo>
                    <a:pt x="928" y="775"/>
                  </a:lnTo>
                  <a:lnTo>
                    <a:pt x="924" y="777"/>
                  </a:lnTo>
                  <a:lnTo>
                    <a:pt x="919" y="779"/>
                  </a:lnTo>
                  <a:lnTo>
                    <a:pt x="914" y="780"/>
                  </a:lnTo>
                  <a:lnTo>
                    <a:pt x="910" y="782"/>
                  </a:lnTo>
                  <a:lnTo>
                    <a:pt x="905" y="784"/>
                  </a:lnTo>
                  <a:lnTo>
                    <a:pt x="900" y="786"/>
                  </a:lnTo>
                  <a:lnTo>
                    <a:pt x="896" y="787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4" y="19"/>
                  </a:lnTo>
                  <a:lnTo>
                    <a:pt x="5" y="14"/>
                  </a:lnTo>
                  <a:lnTo>
                    <a:pt x="7" y="9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3209760" y="2571840"/>
              <a:ext cx="292320" cy="245880"/>
            </a:xfrm>
            <a:custGeom>
              <a:avLst/>
              <a:gdLst/>
              <a:ahLst/>
              <a:rect l="l" t="t" r="r" b="b"/>
              <a:pathLst>
                <a:path w="920" h="776">
                  <a:moveTo>
                    <a:pt x="10" y="0"/>
                  </a:moveTo>
                  <a:lnTo>
                    <a:pt x="920" y="761"/>
                  </a:lnTo>
                  <a:lnTo>
                    <a:pt x="916" y="763"/>
                  </a:lnTo>
                  <a:lnTo>
                    <a:pt x="911" y="765"/>
                  </a:lnTo>
                  <a:lnTo>
                    <a:pt x="906" y="767"/>
                  </a:lnTo>
                  <a:lnTo>
                    <a:pt x="902" y="768"/>
                  </a:lnTo>
                  <a:lnTo>
                    <a:pt x="897" y="771"/>
                  </a:lnTo>
                  <a:lnTo>
                    <a:pt x="893" y="773"/>
                  </a:lnTo>
                  <a:lnTo>
                    <a:pt x="887" y="775"/>
                  </a:lnTo>
                  <a:lnTo>
                    <a:pt x="883" y="776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8" y="9"/>
                  </a:lnTo>
                  <a:lnTo>
                    <a:pt x="9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3208320" y="2577960"/>
              <a:ext cx="287280" cy="243000"/>
            </a:xfrm>
            <a:custGeom>
              <a:avLst/>
              <a:gdLst/>
              <a:ahLst/>
              <a:rect l="l" t="t" r="r" b="b"/>
              <a:pathLst>
                <a:path w="907" h="766">
                  <a:moveTo>
                    <a:pt x="11" y="0"/>
                  </a:moveTo>
                  <a:lnTo>
                    <a:pt x="907" y="749"/>
                  </a:lnTo>
                  <a:lnTo>
                    <a:pt x="902" y="752"/>
                  </a:lnTo>
                  <a:lnTo>
                    <a:pt x="898" y="754"/>
                  </a:lnTo>
                  <a:lnTo>
                    <a:pt x="892" y="756"/>
                  </a:lnTo>
                  <a:lnTo>
                    <a:pt x="888" y="757"/>
                  </a:lnTo>
                  <a:lnTo>
                    <a:pt x="884" y="759"/>
                  </a:lnTo>
                  <a:lnTo>
                    <a:pt x="880" y="761"/>
                  </a:lnTo>
                  <a:lnTo>
                    <a:pt x="874" y="764"/>
                  </a:lnTo>
                  <a:lnTo>
                    <a:pt x="870" y="766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3" y="28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4"/>
                  </a:lnTo>
                  <a:lnTo>
                    <a:pt x="7" y="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206880" y="2584440"/>
              <a:ext cx="282600" cy="239760"/>
            </a:xfrm>
            <a:custGeom>
              <a:avLst/>
              <a:gdLst/>
              <a:ahLst/>
              <a:rect l="l" t="t" r="r" b="b"/>
              <a:pathLst>
                <a:path w="892" h="755">
                  <a:moveTo>
                    <a:pt x="9" y="0"/>
                  </a:moveTo>
                  <a:lnTo>
                    <a:pt x="892" y="739"/>
                  </a:lnTo>
                  <a:lnTo>
                    <a:pt x="888" y="741"/>
                  </a:lnTo>
                  <a:lnTo>
                    <a:pt x="884" y="743"/>
                  </a:lnTo>
                  <a:lnTo>
                    <a:pt x="878" y="746"/>
                  </a:lnTo>
                  <a:lnTo>
                    <a:pt x="874" y="748"/>
                  </a:lnTo>
                  <a:lnTo>
                    <a:pt x="870" y="750"/>
                  </a:lnTo>
                  <a:lnTo>
                    <a:pt x="865" y="751"/>
                  </a:lnTo>
                  <a:lnTo>
                    <a:pt x="861" y="753"/>
                  </a:lnTo>
                  <a:lnTo>
                    <a:pt x="855" y="755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3205080" y="2589120"/>
              <a:ext cx="279360" cy="236520"/>
            </a:xfrm>
            <a:custGeom>
              <a:avLst/>
              <a:gdLst/>
              <a:ahLst/>
              <a:rect l="l" t="t" r="r" b="b"/>
              <a:pathLst>
                <a:path w="880" h="745">
                  <a:moveTo>
                    <a:pt x="10" y="0"/>
                  </a:moveTo>
                  <a:lnTo>
                    <a:pt x="880" y="729"/>
                  </a:lnTo>
                  <a:lnTo>
                    <a:pt x="876" y="731"/>
                  </a:lnTo>
                  <a:lnTo>
                    <a:pt x="871" y="732"/>
                  </a:lnTo>
                  <a:lnTo>
                    <a:pt x="867" y="734"/>
                  </a:lnTo>
                  <a:lnTo>
                    <a:pt x="861" y="736"/>
                  </a:lnTo>
                  <a:lnTo>
                    <a:pt x="857" y="738"/>
                  </a:lnTo>
                  <a:lnTo>
                    <a:pt x="853" y="741"/>
                  </a:lnTo>
                  <a:lnTo>
                    <a:pt x="849" y="743"/>
                  </a:lnTo>
                  <a:lnTo>
                    <a:pt x="844" y="745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3203640" y="2595600"/>
              <a:ext cx="274680" cy="233280"/>
            </a:xfrm>
            <a:custGeom>
              <a:avLst/>
              <a:gdLst/>
              <a:ahLst/>
              <a:rect l="l" t="t" r="r" b="b"/>
              <a:pathLst>
                <a:path w="865" h="733">
                  <a:moveTo>
                    <a:pt x="10" y="0"/>
                  </a:moveTo>
                  <a:lnTo>
                    <a:pt x="865" y="717"/>
                  </a:lnTo>
                  <a:lnTo>
                    <a:pt x="861" y="719"/>
                  </a:lnTo>
                  <a:lnTo>
                    <a:pt x="857" y="722"/>
                  </a:lnTo>
                  <a:lnTo>
                    <a:pt x="853" y="724"/>
                  </a:lnTo>
                  <a:lnTo>
                    <a:pt x="848" y="726"/>
                  </a:lnTo>
                  <a:lnTo>
                    <a:pt x="844" y="728"/>
                  </a:lnTo>
                  <a:lnTo>
                    <a:pt x="840" y="730"/>
                  </a:lnTo>
                  <a:lnTo>
                    <a:pt x="835" y="731"/>
                  </a:lnTo>
                  <a:lnTo>
                    <a:pt x="831" y="733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9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3201840" y="2602080"/>
              <a:ext cx="271440" cy="230040"/>
            </a:xfrm>
            <a:custGeom>
              <a:avLst/>
              <a:gdLst/>
              <a:ahLst/>
              <a:rect l="l" t="t" r="r" b="b"/>
              <a:pathLst>
                <a:path w="854" h="723">
                  <a:moveTo>
                    <a:pt x="10" y="0"/>
                  </a:moveTo>
                  <a:lnTo>
                    <a:pt x="854" y="707"/>
                  </a:lnTo>
                  <a:lnTo>
                    <a:pt x="850" y="709"/>
                  </a:lnTo>
                  <a:lnTo>
                    <a:pt x="846" y="710"/>
                  </a:lnTo>
                  <a:lnTo>
                    <a:pt x="841" y="712"/>
                  </a:lnTo>
                  <a:lnTo>
                    <a:pt x="837" y="714"/>
                  </a:lnTo>
                  <a:lnTo>
                    <a:pt x="832" y="717"/>
                  </a:lnTo>
                  <a:lnTo>
                    <a:pt x="827" y="719"/>
                  </a:lnTo>
                  <a:lnTo>
                    <a:pt x="823" y="721"/>
                  </a:lnTo>
                  <a:lnTo>
                    <a:pt x="819" y="723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3200400" y="2608200"/>
              <a:ext cx="266760" cy="225360"/>
            </a:xfrm>
            <a:custGeom>
              <a:avLst/>
              <a:gdLst/>
              <a:ahLst/>
              <a:rect l="l" t="t" r="r" b="b"/>
              <a:pathLst>
                <a:path w="841" h="712">
                  <a:moveTo>
                    <a:pt x="10" y="0"/>
                  </a:moveTo>
                  <a:lnTo>
                    <a:pt x="841" y="694"/>
                  </a:lnTo>
                  <a:lnTo>
                    <a:pt x="837" y="697"/>
                  </a:lnTo>
                  <a:lnTo>
                    <a:pt x="832" y="699"/>
                  </a:lnTo>
                  <a:lnTo>
                    <a:pt x="827" y="701"/>
                  </a:lnTo>
                  <a:lnTo>
                    <a:pt x="823" y="703"/>
                  </a:lnTo>
                  <a:lnTo>
                    <a:pt x="818" y="705"/>
                  </a:lnTo>
                  <a:lnTo>
                    <a:pt x="814" y="707"/>
                  </a:lnTo>
                  <a:lnTo>
                    <a:pt x="810" y="710"/>
                  </a:lnTo>
                  <a:lnTo>
                    <a:pt x="805" y="71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4"/>
                  </a:lnTo>
                  <a:lnTo>
                    <a:pt x="7" y="8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3198960" y="2614680"/>
              <a:ext cx="263520" cy="222120"/>
            </a:xfrm>
            <a:custGeom>
              <a:avLst/>
              <a:gdLst/>
              <a:ahLst/>
              <a:rect l="l" t="t" r="r" b="b"/>
              <a:pathLst>
                <a:path w="828" h="702">
                  <a:moveTo>
                    <a:pt x="9" y="0"/>
                  </a:moveTo>
                  <a:lnTo>
                    <a:pt x="828" y="685"/>
                  </a:lnTo>
                  <a:lnTo>
                    <a:pt x="823" y="687"/>
                  </a:lnTo>
                  <a:lnTo>
                    <a:pt x="819" y="689"/>
                  </a:lnTo>
                  <a:lnTo>
                    <a:pt x="815" y="692"/>
                  </a:lnTo>
                  <a:lnTo>
                    <a:pt x="810" y="694"/>
                  </a:lnTo>
                  <a:lnTo>
                    <a:pt x="806" y="696"/>
                  </a:lnTo>
                  <a:lnTo>
                    <a:pt x="802" y="698"/>
                  </a:lnTo>
                  <a:lnTo>
                    <a:pt x="797" y="700"/>
                  </a:lnTo>
                  <a:lnTo>
                    <a:pt x="794" y="702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5" y="19"/>
                  </a:lnTo>
                  <a:lnTo>
                    <a:pt x="6" y="14"/>
                  </a:lnTo>
                  <a:lnTo>
                    <a:pt x="7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3197160" y="2619360"/>
              <a:ext cx="258840" cy="220680"/>
            </a:xfrm>
            <a:custGeom>
              <a:avLst/>
              <a:gdLst/>
              <a:ahLst/>
              <a:rect l="l" t="t" r="r" b="b"/>
              <a:pathLst>
                <a:path w="815" h="692">
                  <a:moveTo>
                    <a:pt x="10" y="0"/>
                  </a:moveTo>
                  <a:lnTo>
                    <a:pt x="815" y="675"/>
                  </a:lnTo>
                  <a:lnTo>
                    <a:pt x="811" y="677"/>
                  </a:lnTo>
                  <a:lnTo>
                    <a:pt x="807" y="679"/>
                  </a:lnTo>
                  <a:lnTo>
                    <a:pt x="802" y="681"/>
                  </a:lnTo>
                  <a:lnTo>
                    <a:pt x="799" y="683"/>
                  </a:lnTo>
                  <a:lnTo>
                    <a:pt x="795" y="686"/>
                  </a:lnTo>
                  <a:lnTo>
                    <a:pt x="790" y="688"/>
                  </a:lnTo>
                  <a:lnTo>
                    <a:pt x="786" y="690"/>
                  </a:lnTo>
                  <a:lnTo>
                    <a:pt x="782" y="69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5" y="20"/>
                  </a:lnTo>
                  <a:lnTo>
                    <a:pt x="6" y="15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3195720" y="2625840"/>
              <a:ext cx="255600" cy="217440"/>
            </a:xfrm>
            <a:custGeom>
              <a:avLst/>
              <a:gdLst/>
              <a:ahLst/>
              <a:rect l="l" t="t" r="r" b="b"/>
              <a:pathLst>
                <a:path w="803" h="682">
                  <a:moveTo>
                    <a:pt x="9" y="0"/>
                  </a:moveTo>
                  <a:lnTo>
                    <a:pt x="803" y="663"/>
                  </a:lnTo>
                  <a:lnTo>
                    <a:pt x="799" y="666"/>
                  </a:lnTo>
                  <a:lnTo>
                    <a:pt x="794" y="668"/>
                  </a:lnTo>
                  <a:lnTo>
                    <a:pt x="790" y="670"/>
                  </a:lnTo>
                  <a:lnTo>
                    <a:pt x="786" y="672"/>
                  </a:lnTo>
                  <a:lnTo>
                    <a:pt x="782" y="674"/>
                  </a:lnTo>
                  <a:lnTo>
                    <a:pt x="777" y="677"/>
                  </a:lnTo>
                  <a:lnTo>
                    <a:pt x="773" y="680"/>
                  </a:lnTo>
                  <a:lnTo>
                    <a:pt x="769" y="682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4" y="18"/>
                  </a:lnTo>
                  <a:lnTo>
                    <a:pt x="6" y="14"/>
                  </a:lnTo>
                  <a:lnTo>
                    <a:pt x="7" y="9"/>
                  </a:lnTo>
                  <a:lnTo>
                    <a:pt x="8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3193920" y="2631960"/>
              <a:ext cx="250920" cy="212760"/>
            </a:xfrm>
            <a:custGeom>
              <a:avLst/>
              <a:gdLst/>
              <a:ahLst/>
              <a:rect l="l" t="t" r="r" b="b"/>
              <a:pathLst>
                <a:path w="790" h="672">
                  <a:moveTo>
                    <a:pt x="8" y="0"/>
                  </a:moveTo>
                  <a:lnTo>
                    <a:pt x="790" y="654"/>
                  </a:lnTo>
                  <a:lnTo>
                    <a:pt x="786" y="657"/>
                  </a:lnTo>
                  <a:lnTo>
                    <a:pt x="781" y="659"/>
                  </a:lnTo>
                  <a:lnTo>
                    <a:pt x="777" y="662"/>
                  </a:lnTo>
                  <a:lnTo>
                    <a:pt x="773" y="664"/>
                  </a:lnTo>
                  <a:lnTo>
                    <a:pt x="769" y="666"/>
                  </a:lnTo>
                  <a:lnTo>
                    <a:pt x="765" y="668"/>
                  </a:lnTo>
                  <a:lnTo>
                    <a:pt x="761" y="670"/>
                  </a:lnTo>
                  <a:lnTo>
                    <a:pt x="756" y="672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7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3193920" y="2638440"/>
              <a:ext cx="246240" cy="209520"/>
            </a:xfrm>
            <a:custGeom>
              <a:avLst/>
              <a:gdLst/>
              <a:ahLst/>
              <a:rect l="l" t="t" r="r" b="b"/>
              <a:pathLst>
                <a:path w="777" h="662">
                  <a:moveTo>
                    <a:pt x="8" y="0"/>
                  </a:moveTo>
                  <a:lnTo>
                    <a:pt x="777" y="644"/>
                  </a:lnTo>
                  <a:lnTo>
                    <a:pt x="772" y="646"/>
                  </a:lnTo>
                  <a:lnTo>
                    <a:pt x="769" y="648"/>
                  </a:lnTo>
                  <a:lnTo>
                    <a:pt x="765" y="650"/>
                  </a:lnTo>
                  <a:lnTo>
                    <a:pt x="760" y="652"/>
                  </a:lnTo>
                  <a:lnTo>
                    <a:pt x="756" y="655"/>
                  </a:lnTo>
                  <a:lnTo>
                    <a:pt x="752" y="658"/>
                  </a:lnTo>
                  <a:lnTo>
                    <a:pt x="749" y="660"/>
                  </a:lnTo>
                  <a:lnTo>
                    <a:pt x="744" y="662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9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3192480" y="2644920"/>
              <a:ext cx="243000" cy="206280"/>
            </a:xfrm>
            <a:custGeom>
              <a:avLst/>
              <a:gdLst/>
              <a:ahLst/>
              <a:rect l="l" t="t" r="r" b="b"/>
              <a:pathLst>
                <a:path w="765" h="653">
                  <a:moveTo>
                    <a:pt x="9" y="0"/>
                  </a:moveTo>
                  <a:lnTo>
                    <a:pt x="765" y="633"/>
                  </a:lnTo>
                  <a:lnTo>
                    <a:pt x="761" y="637"/>
                  </a:lnTo>
                  <a:lnTo>
                    <a:pt x="757" y="639"/>
                  </a:lnTo>
                  <a:lnTo>
                    <a:pt x="754" y="641"/>
                  </a:lnTo>
                  <a:lnTo>
                    <a:pt x="749" y="643"/>
                  </a:lnTo>
                  <a:lnTo>
                    <a:pt x="745" y="645"/>
                  </a:lnTo>
                  <a:lnTo>
                    <a:pt x="741" y="647"/>
                  </a:lnTo>
                  <a:lnTo>
                    <a:pt x="737" y="651"/>
                  </a:lnTo>
                  <a:lnTo>
                    <a:pt x="733" y="653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6" y="15"/>
                  </a:lnTo>
                  <a:lnTo>
                    <a:pt x="7" y="10"/>
                  </a:lnTo>
                  <a:lnTo>
                    <a:pt x="8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3191040" y="2651040"/>
              <a:ext cx="237960" cy="203400"/>
            </a:xfrm>
            <a:custGeom>
              <a:avLst/>
              <a:gdLst/>
              <a:ahLst/>
              <a:rect l="l" t="t" r="r" b="b"/>
              <a:pathLst>
                <a:path w="753" h="643">
                  <a:moveTo>
                    <a:pt x="9" y="0"/>
                  </a:moveTo>
                  <a:lnTo>
                    <a:pt x="753" y="623"/>
                  </a:lnTo>
                  <a:lnTo>
                    <a:pt x="749" y="625"/>
                  </a:lnTo>
                  <a:lnTo>
                    <a:pt x="745" y="627"/>
                  </a:lnTo>
                  <a:lnTo>
                    <a:pt x="741" y="631"/>
                  </a:lnTo>
                  <a:lnTo>
                    <a:pt x="737" y="633"/>
                  </a:lnTo>
                  <a:lnTo>
                    <a:pt x="733" y="635"/>
                  </a:lnTo>
                  <a:lnTo>
                    <a:pt x="728" y="637"/>
                  </a:lnTo>
                  <a:lnTo>
                    <a:pt x="725" y="639"/>
                  </a:lnTo>
                  <a:lnTo>
                    <a:pt x="721" y="643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9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3189240" y="2657520"/>
              <a:ext cx="235080" cy="200160"/>
            </a:xfrm>
            <a:custGeom>
              <a:avLst/>
              <a:gdLst/>
              <a:ahLst/>
              <a:rect l="l" t="t" r="r" b="b"/>
              <a:pathLst>
                <a:path w="741" h="633">
                  <a:moveTo>
                    <a:pt x="8" y="0"/>
                  </a:moveTo>
                  <a:lnTo>
                    <a:pt x="741" y="614"/>
                  </a:lnTo>
                  <a:lnTo>
                    <a:pt x="737" y="616"/>
                  </a:lnTo>
                  <a:lnTo>
                    <a:pt x="732" y="618"/>
                  </a:lnTo>
                  <a:lnTo>
                    <a:pt x="729" y="621"/>
                  </a:lnTo>
                  <a:lnTo>
                    <a:pt x="725" y="624"/>
                  </a:lnTo>
                  <a:lnTo>
                    <a:pt x="721" y="626"/>
                  </a:lnTo>
                  <a:lnTo>
                    <a:pt x="717" y="628"/>
                  </a:lnTo>
                  <a:lnTo>
                    <a:pt x="713" y="631"/>
                  </a:lnTo>
                  <a:lnTo>
                    <a:pt x="709" y="633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4" y="20"/>
                  </a:lnTo>
                  <a:lnTo>
                    <a:pt x="5" y="14"/>
                  </a:lnTo>
                  <a:lnTo>
                    <a:pt x="6" y="10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3187800" y="2664000"/>
              <a:ext cx="231840" cy="196560"/>
            </a:xfrm>
            <a:custGeom>
              <a:avLst/>
              <a:gdLst/>
              <a:ahLst/>
              <a:rect l="l" t="t" r="r" b="b"/>
              <a:pathLst>
                <a:path w="730" h="623">
                  <a:moveTo>
                    <a:pt x="9" y="0"/>
                  </a:moveTo>
                  <a:lnTo>
                    <a:pt x="730" y="604"/>
                  </a:lnTo>
                  <a:lnTo>
                    <a:pt x="726" y="606"/>
                  </a:lnTo>
                  <a:lnTo>
                    <a:pt x="722" y="608"/>
                  </a:lnTo>
                  <a:lnTo>
                    <a:pt x="718" y="611"/>
                  </a:lnTo>
                  <a:lnTo>
                    <a:pt x="714" y="613"/>
                  </a:lnTo>
                  <a:lnTo>
                    <a:pt x="710" y="615"/>
                  </a:lnTo>
                  <a:lnTo>
                    <a:pt x="706" y="618"/>
                  </a:lnTo>
                  <a:lnTo>
                    <a:pt x="702" y="621"/>
                  </a:lnTo>
                  <a:lnTo>
                    <a:pt x="699" y="623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5" y="19"/>
                  </a:lnTo>
                  <a:lnTo>
                    <a:pt x="6" y="15"/>
                  </a:lnTo>
                  <a:lnTo>
                    <a:pt x="7" y="9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3186000" y="2668680"/>
              <a:ext cx="228600" cy="195120"/>
            </a:xfrm>
            <a:custGeom>
              <a:avLst/>
              <a:gdLst/>
              <a:ahLst/>
              <a:rect l="l" t="t" r="r" b="b"/>
              <a:pathLst>
                <a:path w="718" h="614">
                  <a:moveTo>
                    <a:pt x="9" y="0"/>
                  </a:moveTo>
                  <a:lnTo>
                    <a:pt x="718" y="594"/>
                  </a:lnTo>
                  <a:lnTo>
                    <a:pt x="714" y="596"/>
                  </a:lnTo>
                  <a:lnTo>
                    <a:pt x="710" y="599"/>
                  </a:lnTo>
                  <a:lnTo>
                    <a:pt x="706" y="602"/>
                  </a:lnTo>
                  <a:lnTo>
                    <a:pt x="703" y="604"/>
                  </a:lnTo>
                  <a:lnTo>
                    <a:pt x="698" y="606"/>
                  </a:lnTo>
                  <a:lnTo>
                    <a:pt x="695" y="609"/>
                  </a:lnTo>
                  <a:lnTo>
                    <a:pt x="691" y="612"/>
                  </a:lnTo>
                  <a:lnTo>
                    <a:pt x="686" y="614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3186000" y="2674800"/>
              <a:ext cx="223920" cy="192240"/>
            </a:xfrm>
            <a:custGeom>
              <a:avLst/>
              <a:gdLst/>
              <a:ahLst/>
              <a:rect l="l" t="t" r="r" b="b"/>
              <a:pathLst>
                <a:path w="706" h="606">
                  <a:moveTo>
                    <a:pt x="7" y="0"/>
                  </a:moveTo>
                  <a:lnTo>
                    <a:pt x="706" y="585"/>
                  </a:lnTo>
                  <a:lnTo>
                    <a:pt x="701" y="587"/>
                  </a:lnTo>
                  <a:lnTo>
                    <a:pt x="698" y="590"/>
                  </a:lnTo>
                  <a:lnTo>
                    <a:pt x="694" y="593"/>
                  </a:lnTo>
                  <a:lnTo>
                    <a:pt x="689" y="595"/>
                  </a:lnTo>
                  <a:lnTo>
                    <a:pt x="686" y="598"/>
                  </a:lnTo>
                  <a:lnTo>
                    <a:pt x="682" y="600"/>
                  </a:lnTo>
                  <a:lnTo>
                    <a:pt x="679" y="602"/>
                  </a:lnTo>
                  <a:lnTo>
                    <a:pt x="674" y="60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5" y="10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3184560" y="2681280"/>
              <a:ext cx="218880" cy="189000"/>
            </a:xfrm>
            <a:custGeom>
              <a:avLst/>
              <a:gdLst/>
              <a:ahLst/>
              <a:rect l="l" t="t" r="r" b="b"/>
              <a:pathLst>
                <a:path w="694" h="595">
                  <a:moveTo>
                    <a:pt x="8" y="0"/>
                  </a:moveTo>
                  <a:lnTo>
                    <a:pt x="694" y="575"/>
                  </a:lnTo>
                  <a:lnTo>
                    <a:pt x="691" y="578"/>
                  </a:lnTo>
                  <a:lnTo>
                    <a:pt x="687" y="580"/>
                  </a:lnTo>
                  <a:lnTo>
                    <a:pt x="684" y="582"/>
                  </a:lnTo>
                  <a:lnTo>
                    <a:pt x="679" y="586"/>
                  </a:lnTo>
                  <a:lnTo>
                    <a:pt x="676" y="588"/>
                  </a:lnTo>
                  <a:lnTo>
                    <a:pt x="672" y="591"/>
                  </a:lnTo>
                  <a:lnTo>
                    <a:pt x="668" y="593"/>
                  </a:lnTo>
                  <a:lnTo>
                    <a:pt x="664" y="595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3182760" y="2687760"/>
              <a:ext cx="216000" cy="185760"/>
            </a:xfrm>
            <a:custGeom>
              <a:avLst/>
              <a:gdLst/>
              <a:ahLst/>
              <a:rect l="l" t="t" r="r" b="b"/>
              <a:pathLst>
                <a:path w="683" h="586">
                  <a:moveTo>
                    <a:pt x="9" y="0"/>
                  </a:moveTo>
                  <a:lnTo>
                    <a:pt x="683" y="566"/>
                  </a:lnTo>
                  <a:lnTo>
                    <a:pt x="680" y="568"/>
                  </a:lnTo>
                  <a:lnTo>
                    <a:pt x="676" y="571"/>
                  </a:lnTo>
                  <a:lnTo>
                    <a:pt x="672" y="573"/>
                  </a:lnTo>
                  <a:lnTo>
                    <a:pt x="668" y="575"/>
                  </a:lnTo>
                  <a:lnTo>
                    <a:pt x="665" y="579"/>
                  </a:lnTo>
                  <a:lnTo>
                    <a:pt x="661" y="581"/>
                  </a:lnTo>
                  <a:lnTo>
                    <a:pt x="657" y="584"/>
                  </a:lnTo>
                  <a:lnTo>
                    <a:pt x="653" y="586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5" y="14"/>
                  </a:lnTo>
                  <a:lnTo>
                    <a:pt x="7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3181320" y="2693880"/>
              <a:ext cx="212760" cy="184320"/>
            </a:xfrm>
            <a:custGeom>
              <a:avLst/>
              <a:gdLst/>
              <a:ahLst/>
              <a:rect l="l" t="t" r="r" b="b"/>
              <a:pathLst>
                <a:path w="671" h="577">
                  <a:moveTo>
                    <a:pt x="7" y="0"/>
                  </a:moveTo>
                  <a:lnTo>
                    <a:pt x="671" y="555"/>
                  </a:lnTo>
                  <a:lnTo>
                    <a:pt x="668" y="559"/>
                  </a:lnTo>
                  <a:lnTo>
                    <a:pt x="664" y="561"/>
                  </a:lnTo>
                  <a:lnTo>
                    <a:pt x="660" y="564"/>
                  </a:lnTo>
                  <a:lnTo>
                    <a:pt x="656" y="566"/>
                  </a:lnTo>
                  <a:lnTo>
                    <a:pt x="653" y="569"/>
                  </a:lnTo>
                  <a:lnTo>
                    <a:pt x="648" y="572"/>
                  </a:lnTo>
                  <a:lnTo>
                    <a:pt x="645" y="575"/>
                  </a:lnTo>
                  <a:lnTo>
                    <a:pt x="642" y="577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5" y="10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3179880" y="2700360"/>
              <a:ext cx="209520" cy="181080"/>
            </a:xfrm>
            <a:custGeom>
              <a:avLst/>
              <a:gdLst/>
              <a:ahLst/>
              <a:rect l="l" t="t" r="r" b="b"/>
              <a:pathLst>
                <a:path w="661" h="569">
                  <a:moveTo>
                    <a:pt x="8" y="0"/>
                  </a:moveTo>
                  <a:lnTo>
                    <a:pt x="661" y="547"/>
                  </a:lnTo>
                  <a:lnTo>
                    <a:pt x="658" y="550"/>
                  </a:lnTo>
                  <a:lnTo>
                    <a:pt x="653" y="553"/>
                  </a:lnTo>
                  <a:lnTo>
                    <a:pt x="650" y="555"/>
                  </a:lnTo>
                  <a:lnTo>
                    <a:pt x="647" y="558"/>
                  </a:lnTo>
                  <a:lnTo>
                    <a:pt x="643" y="560"/>
                  </a:lnTo>
                  <a:lnTo>
                    <a:pt x="639" y="563"/>
                  </a:lnTo>
                  <a:lnTo>
                    <a:pt x="635" y="565"/>
                  </a:lnTo>
                  <a:lnTo>
                    <a:pt x="632" y="569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3" y="31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7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3179880" y="2706840"/>
              <a:ext cx="206280" cy="177480"/>
            </a:xfrm>
            <a:custGeom>
              <a:avLst/>
              <a:gdLst/>
              <a:ahLst/>
              <a:rect l="l" t="t" r="r" b="b"/>
              <a:pathLst>
                <a:path w="650" h="559">
                  <a:moveTo>
                    <a:pt x="8" y="0"/>
                  </a:moveTo>
                  <a:lnTo>
                    <a:pt x="650" y="537"/>
                  </a:lnTo>
                  <a:lnTo>
                    <a:pt x="646" y="539"/>
                  </a:lnTo>
                  <a:lnTo>
                    <a:pt x="642" y="542"/>
                  </a:lnTo>
                  <a:lnTo>
                    <a:pt x="638" y="544"/>
                  </a:lnTo>
                  <a:lnTo>
                    <a:pt x="635" y="548"/>
                  </a:lnTo>
                  <a:lnTo>
                    <a:pt x="632" y="551"/>
                  </a:lnTo>
                  <a:lnTo>
                    <a:pt x="627" y="553"/>
                  </a:lnTo>
                  <a:lnTo>
                    <a:pt x="624" y="556"/>
                  </a:lnTo>
                  <a:lnTo>
                    <a:pt x="621" y="559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9"/>
                  </a:lnTo>
                  <a:lnTo>
                    <a:pt x="5" y="14"/>
                  </a:lnTo>
                  <a:lnTo>
                    <a:pt x="6" y="10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3178080" y="2712960"/>
              <a:ext cx="203400" cy="174600"/>
            </a:xfrm>
            <a:custGeom>
              <a:avLst/>
              <a:gdLst/>
              <a:ahLst/>
              <a:rect l="l" t="t" r="r" b="b"/>
              <a:pathLst>
                <a:path w="639" h="550">
                  <a:moveTo>
                    <a:pt x="7" y="0"/>
                  </a:moveTo>
                  <a:lnTo>
                    <a:pt x="639" y="529"/>
                  </a:lnTo>
                  <a:lnTo>
                    <a:pt x="636" y="531"/>
                  </a:lnTo>
                  <a:lnTo>
                    <a:pt x="631" y="534"/>
                  </a:lnTo>
                  <a:lnTo>
                    <a:pt x="628" y="536"/>
                  </a:lnTo>
                  <a:lnTo>
                    <a:pt x="625" y="540"/>
                  </a:lnTo>
                  <a:lnTo>
                    <a:pt x="621" y="543"/>
                  </a:lnTo>
                  <a:lnTo>
                    <a:pt x="617" y="545"/>
                  </a:lnTo>
                  <a:lnTo>
                    <a:pt x="614" y="548"/>
                  </a:lnTo>
                  <a:lnTo>
                    <a:pt x="610" y="550"/>
                  </a:lnTo>
                  <a:lnTo>
                    <a:pt x="0" y="40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3" y="25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5" y="10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3176640" y="2719440"/>
              <a:ext cx="199800" cy="171360"/>
            </a:xfrm>
            <a:custGeom>
              <a:avLst/>
              <a:gdLst/>
              <a:ahLst/>
              <a:rect l="l" t="t" r="r" b="b"/>
              <a:pathLst>
                <a:path w="628" h="542">
                  <a:moveTo>
                    <a:pt x="7" y="0"/>
                  </a:moveTo>
                  <a:lnTo>
                    <a:pt x="628" y="520"/>
                  </a:lnTo>
                  <a:lnTo>
                    <a:pt x="624" y="523"/>
                  </a:lnTo>
                  <a:lnTo>
                    <a:pt x="620" y="525"/>
                  </a:lnTo>
                  <a:lnTo>
                    <a:pt x="617" y="528"/>
                  </a:lnTo>
                  <a:lnTo>
                    <a:pt x="613" y="530"/>
                  </a:lnTo>
                  <a:lnTo>
                    <a:pt x="610" y="534"/>
                  </a:lnTo>
                  <a:lnTo>
                    <a:pt x="606" y="536"/>
                  </a:lnTo>
                  <a:lnTo>
                    <a:pt x="602" y="539"/>
                  </a:lnTo>
                  <a:lnTo>
                    <a:pt x="599" y="542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3" y="20"/>
                  </a:lnTo>
                  <a:lnTo>
                    <a:pt x="4" y="15"/>
                  </a:lnTo>
                  <a:lnTo>
                    <a:pt x="5" y="1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3174840" y="2725560"/>
              <a:ext cx="196920" cy="169920"/>
            </a:xfrm>
            <a:custGeom>
              <a:avLst/>
              <a:gdLst/>
              <a:ahLst/>
              <a:rect l="l" t="t" r="r" b="b"/>
              <a:pathLst>
                <a:path w="617" h="533">
                  <a:moveTo>
                    <a:pt x="7" y="0"/>
                  </a:moveTo>
                  <a:lnTo>
                    <a:pt x="617" y="510"/>
                  </a:lnTo>
                  <a:lnTo>
                    <a:pt x="614" y="514"/>
                  </a:lnTo>
                  <a:lnTo>
                    <a:pt x="610" y="516"/>
                  </a:lnTo>
                  <a:lnTo>
                    <a:pt x="606" y="519"/>
                  </a:lnTo>
                  <a:lnTo>
                    <a:pt x="603" y="522"/>
                  </a:lnTo>
                  <a:lnTo>
                    <a:pt x="599" y="524"/>
                  </a:lnTo>
                  <a:lnTo>
                    <a:pt x="596" y="528"/>
                  </a:lnTo>
                  <a:lnTo>
                    <a:pt x="592" y="530"/>
                  </a:lnTo>
                  <a:lnTo>
                    <a:pt x="589" y="533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2" y="31"/>
                  </a:lnTo>
                  <a:lnTo>
                    <a:pt x="3" y="25"/>
                  </a:lnTo>
                  <a:lnTo>
                    <a:pt x="4" y="21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3174840" y="2732040"/>
              <a:ext cx="192240" cy="166680"/>
            </a:xfrm>
            <a:custGeom>
              <a:avLst/>
              <a:gdLst/>
              <a:ahLst/>
              <a:rect l="l" t="t" r="r" b="b"/>
              <a:pathLst>
                <a:path w="606" h="524">
                  <a:moveTo>
                    <a:pt x="7" y="0"/>
                  </a:moveTo>
                  <a:lnTo>
                    <a:pt x="606" y="501"/>
                  </a:lnTo>
                  <a:lnTo>
                    <a:pt x="602" y="503"/>
                  </a:lnTo>
                  <a:lnTo>
                    <a:pt x="599" y="507"/>
                  </a:lnTo>
                  <a:lnTo>
                    <a:pt x="595" y="509"/>
                  </a:lnTo>
                  <a:lnTo>
                    <a:pt x="592" y="512"/>
                  </a:lnTo>
                  <a:lnTo>
                    <a:pt x="588" y="515"/>
                  </a:lnTo>
                  <a:lnTo>
                    <a:pt x="585" y="517"/>
                  </a:lnTo>
                  <a:lnTo>
                    <a:pt x="581" y="521"/>
                  </a:lnTo>
                  <a:lnTo>
                    <a:pt x="578" y="52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3" y="19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3173400" y="2738520"/>
              <a:ext cx="189000" cy="163440"/>
            </a:xfrm>
            <a:custGeom>
              <a:avLst/>
              <a:gdLst/>
              <a:ahLst/>
              <a:rect l="l" t="t" r="r" b="b"/>
              <a:pathLst>
                <a:path w="595" h="516">
                  <a:moveTo>
                    <a:pt x="6" y="0"/>
                  </a:moveTo>
                  <a:lnTo>
                    <a:pt x="595" y="493"/>
                  </a:lnTo>
                  <a:lnTo>
                    <a:pt x="591" y="496"/>
                  </a:lnTo>
                  <a:lnTo>
                    <a:pt x="588" y="498"/>
                  </a:lnTo>
                  <a:lnTo>
                    <a:pt x="584" y="502"/>
                  </a:lnTo>
                  <a:lnTo>
                    <a:pt x="581" y="505"/>
                  </a:lnTo>
                  <a:lnTo>
                    <a:pt x="577" y="507"/>
                  </a:lnTo>
                  <a:lnTo>
                    <a:pt x="574" y="510"/>
                  </a:lnTo>
                  <a:lnTo>
                    <a:pt x="571" y="514"/>
                  </a:lnTo>
                  <a:lnTo>
                    <a:pt x="568" y="51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3" y="21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3173400" y="2744640"/>
              <a:ext cx="184320" cy="162000"/>
            </a:xfrm>
            <a:custGeom>
              <a:avLst/>
              <a:gdLst/>
              <a:ahLst/>
              <a:rect l="l" t="t" r="r" b="b"/>
              <a:pathLst>
                <a:path w="584" h="507">
                  <a:moveTo>
                    <a:pt x="6" y="0"/>
                  </a:moveTo>
                  <a:lnTo>
                    <a:pt x="584" y="484"/>
                  </a:lnTo>
                  <a:lnTo>
                    <a:pt x="580" y="486"/>
                  </a:lnTo>
                  <a:lnTo>
                    <a:pt x="577" y="489"/>
                  </a:lnTo>
                  <a:lnTo>
                    <a:pt x="574" y="493"/>
                  </a:lnTo>
                  <a:lnTo>
                    <a:pt x="571" y="495"/>
                  </a:lnTo>
                  <a:lnTo>
                    <a:pt x="566" y="498"/>
                  </a:lnTo>
                  <a:lnTo>
                    <a:pt x="563" y="501"/>
                  </a:lnTo>
                  <a:lnTo>
                    <a:pt x="560" y="503"/>
                  </a:lnTo>
                  <a:lnTo>
                    <a:pt x="557" y="507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3171960" y="2751120"/>
              <a:ext cx="182520" cy="158760"/>
            </a:xfrm>
            <a:custGeom>
              <a:avLst/>
              <a:gdLst/>
              <a:ahLst/>
              <a:rect l="l" t="t" r="r" b="b"/>
              <a:pathLst>
                <a:path w="574" h="499">
                  <a:moveTo>
                    <a:pt x="6" y="0"/>
                  </a:moveTo>
                  <a:lnTo>
                    <a:pt x="574" y="475"/>
                  </a:lnTo>
                  <a:lnTo>
                    <a:pt x="569" y="478"/>
                  </a:lnTo>
                  <a:lnTo>
                    <a:pt x="566" y="481"/>
                  </a:lnTo>
                  <a:lnTo>
                    <a:pt x="563" y="483"/>
                  </a:lnTo>
                  <a:lnTo>
                    <a:pt x="560" y="487"/>
                  </a:lnTo>
                  <a:lnTo>
                    <a:pt x="556" y="490"/>
                  </a:lnTo>
                  <a:lnTo>
                    <a:pt x="553" y="493"/>
                  </a:lnTo>
                  <a:lnTo>
                    <a:pt x="550" y="495"/>
                  </a:lnTo>
                  <a:lnTo>
                    <a:pt x="546" y="499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3170160" y="2757600"/>
              <a:ext cx="179640" cy="155520"/>
            </a:xfrm>
            <a:custGeom>
              <a:avLst/>
              <a:gdLst/>
              <a:ahLst/>
              <a:rect l="l" t="t" r="r" b="b"/>
              <a:pathLst>
                <a:path w="564" h="490">
                  <a:moveTo>
                    <a:pt x="7" y="0"/>
                  </a:moveTo>
                  <a:lnTo>
                    <a:pt x="564" y="467"/>
                  </a:lnTo>
                  <a:lnTo>
                    <a:pt x="560" y="470"/>
                  </a:lnTo>
                  <a:lnTo>
                    <a:pt x="557" y="473"/>
                  </a:lnTo>
                  <a:lnTo>
                    <a:pt x="554" y="475"/>
                  </a:lnTo>
                  <a:lnTo>
                    <a:pt x="550" y="479"/>
                  </a:lnTo>
                  <a:lnTo>
                    <a:pt x="546" y="482"/>
                  </a:lnTo>
                  <a:lnTo>
                    <a:pt x="543" y="485"/>
                  </a:lnTo>
                  <a:lnTo>
                    <a:pt x="540" y="487"/>
                  </a:lnTo>
                  <a:lnTo>
                    <a:pt x="537" y="490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4" y="20"/>
                  </a:lnTo>
                  <a:lnTo>
                    <a:pt x="4" y="16"/>
                  </a:lnTo>
                  <a:lnTo>
                    <a:pt x="5" y="1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3170160" y="2763720"/>
              <a:ext cx="174600" cy="154080"/>
            </a:xfrm>
            <a:custGeom>
              <a:avLst/>
              <a:gdLst/>
              <a:ahLst/>
              <a:rect l="l" t="t" r="r" b="b"/>
              <a:pathLst>
                <a:path w="553" h="482">
                  <a:moveTo>
                    <a:pt x="7" y="0"/>
                  </a:moveTo>
                  <a:lnTo>
                    <a:pt x="553" y="459"/>
                  </a:lnTo>
                  <a:lnTo>
                    <a:pt x="549" y="462"/>
                  </a:lnTo>
                  <a:lnTo>
                    <a:pt x="546" y="465"/>
                  </a:lnTo>
                  <a:lnTo>
                    <a:pt x="543" y="467"/>
                  </a:lnTo>
                  <a:lnTo>
                    <a:pt x="540" y="470"/>
                  </a:lnTo>
                  <a:lnTo>
                    <a:pt x="536" y="474"/>
                  </a:lnTo>
                  <a:lnTo>
                    <a:pt x="533" y="477"/>
                  </a:lnTo>
                  <a:lnTo>
                    <a:pt x="530" y="480"/>
                  </a:lnTo>
                  <a:lnTo>
                    <a:pt x="527" y="482"/>
                  </a:lnTo>
                  <a:lnTo>
                    <a:pt x="0" y="41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2" y="26"/>
                  </a:lnTo>
                  <a:lnTo>
                    <a:pt x="3" y="21"/>
                  </a:lnTo>
                  <a:lnTo>
                    <a:pt x="3" y="17"/>
                  </a:lnTo>
                  <a:lnTo>
                    <a:pt x="4" y="11"/>
                  </a:lnTo>
                  <a:lnTo>
                    <a:pt x="5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3168720" y="2770200"/>
              <a:ext cx="172800" cy="150840"/>
            </a:xfrm>
            <a:custGeom>
              <a:avLst/>
              <a:gdLst/>
              <a:ahLst/>
              <a:rect l="l" t="t" r="r" b="b"/>
              <a:pathLst>
                <a:path w="543" h="474">
                  <a:moveTo>
                    <a:pt x="6" y="0"/>
                  </a:moveTo>
                  <a:lnTo>
                    <a:pt x="543" y="449"/>
                  </a:lnTo>
                  <a:lnTo>
                    <a:pt x="539" y="453"/>
                  </a:lnTo>
                  <a:lnTo>
                    <a:pt x="536" y="456"/>
                  </a:lnTo>
                  <a:lnTo>
                    <a:pt x="533" y="458"/>
                  </a:lnTo>
                  <a:lnTo>
                    <a:pt x="530" y="461"/>
                  </a:lnTo>
                  <a:lnTo>
                    <a:pt x="526" y="465"/>
                  </a:lnTo>
                  <a:lnTo>
                    <a:pt x="523" y="468"/>
                  </a:lnTo>
                  <a:lnTo>
                    <a:pt x="520" y="471"/>
                  </a:lnTo>
                  <a:lnTo>
                    <a:pt x="517" y="474"/>
                  </a:lnTo>
                  <a:lnTo>
                    <a:pt x="0" y="41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4" y="11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3168720" y="2776680"/>
              <a:ext cx="168120" cy="149040"/>
            </a:xfrm>
            <a:custGeom>
              <a:avLst/>
              <a:gdLst/>
              <a:ahLst/>
              <a:rect l="l" t="t" r="r" b="b"/>
              <a:pathLst>
                <a:path w="532" h="466">
                  <a:moveTo>
                    <a:pt x="5" y="0"/>
                  </a:moveTo>
                  <a:lnTo>
                    <a:pt x="532" y="441"/>
                  </a:lnTo>
                  <a:lnTo>
                    <a:pt x="528" y="445"/>
                  </a:lnTo>
                  <a:lnTo>
                    <a:pt x="525" y="448"/>
                  </a:lnTo>
                  <a:lnTo>
                    <a:pt x="522" y="451"/>
                  </a:lnTo>
                  <a:lnTo>
                    <a:pt x="519" y="454"/>
                  </a:lnTo>
                  <a:lnTo>
                    <a:pt x="516" y="456"/>
                  </a:lnTo>
                  <a:lnTo>
                    <a:pt x="512" y="460"/>
                  </a:lnTo>
                  <a:lnTo>
                    <a:pt x="509" y="463"/>
                  </a:lnTo>
                  <a:lnTo>
                    <a:pt x="506" y="466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2" y="21"/>
                  </a:lnTo>
                  <a:lnTo>
                    <a:pt x="3" y="17"/>
                  </a:lnTo>
                  <a:lnTo>
                    <a:pt x="3" y="11"/>
                  </a:lnTo>
                  <a:lnTo>
                    <a:pt x="4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166920" y="2784600"/>
              <a:ext cx="165240" cy="144360"/>
            </a:xfrm>
            <a:custGeom>
              <a:avLst/>
              <a:gdLst/>
              <a:ahLst/>
              <a:rect l="l" t="t" r="r" b="b"/>
              <a:pathLst>
                <a:path w="523" h="457">
                  <a:moveTo>
                    <a:pt x="6" y="0"/>
                  </a:moveTo>
                  <a:lnTo>
                    <a:pt x="523" y="433"/>
                  </a:lnTo>
                  <a:lnTo>
                    <a:pt x="520" y="435"/>
                  </a:lnTo>
                  <a:lnTo>
                    <a:pt x="516" y="439"/>
                  </a:lnTo>
                  <a:lnTo>
                    <a:pt x="513" y="442"/>
                  </a:lnTo>
                  <a:lnTo>
                    <a:pt x="510" y="445"/>
                  </a:lnTo>
                  <a:lnTo>
                    <a:pt x="507" y="448"/>
                  </a:lnTo>
                  <a:lnTo>
                    <a:pt x="503" y="452"/>
                  </a:lnTo>
                  <a:lnTo>
                    <a:pt x="500" y="454"/>
                  </a:lnTo>
                  <a:lnTo>
                    <a:pt x="497" y="457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4" y="22"/>
                  </a:lnTo>
                  <a:lnTo>
                    <a:pt x="4" y="16"/>
                  </a:lnTo>
                  <a:lnTo>
                    <a:pt x="5" y="11"/>
                  </a:lnTo>
                  <a:lnTo>
                    <a:pt x="6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3165480" y="2790720"/>
              <a:ext cx="163440" cy="142920"/>
            </a:xfrm>
            <a:custGeom>
              <a:avLst/>
              <a:gdLst/>
              <a:ahLst/>
              <a:rect l="l" t="t" r="r" b="b"/>
              <a:pathLst>
                <a:path w="513" h="448">
                  <a:moveTo>
                    <a:pt x="7" y="0"/>
                  </a:moveTo>
                  <a:lnTo>
                    <a:pt x="513" y="423"/>
                  </a:lnTo>
                  <a:lnTo>
                    <a:pt x="510" y="426"/>
                  </a:lnTo>
                  <a:lnTo>
                    <a:pt x="506" y="430"/>
                  </a:lnTo>
                  <a:lnTo>
                    <a:pt x="503" y="432"/>
                  </a:lnTo>
                  <a:lnTo>
                    <a:pt x="500" y="435"/>
                  </a:lnTo>
                  <a:lnTo>
                    <a:pt x="497" y="438"/>
                  </a:lnTo>
                  <a:lnTo>
                    <a:pt x="493" y="442"/>
                  </a:lnTo>
                  <a:lnTo>
                    <a:pt x="490" y="445"/>
                  </a:lnTo>
                  <a:lnTo>
                    <a:pt x="487" y="448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2" y="25"/>
                  </a:lnTo>
                  <a:lnTo>
                    <a:pt x="3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3165480" y="2797200"/>
              <a:ext cx="158760" cy="139680"/>
            </a:xfrm>
            <a:custGeom>
              <a:avLst/>
              <a:gdLst/>
              <a:ahLst/>
              <a:rect l="l" t="t" r="r" b="b"/>
              <a:pathLst>
                <a:path w="502" h="440">
                  <a:moveTo>
                    <a:pt x="5" y="0"/>
                  </a:moveTo>
                  <a:lnTo>
                    <a:pt x="502" y="415"/>
                  </a:lnTo>
                  <a:lnTo>
                    <a:pt x="499" y="418"/>
                  </a:lnTo>
                  <a:lnTo>
                    <a:pt x="495" y="422"/>
                  </a:lnTo>
                  <a:lnTo>
                    <a:pt x="492" y="425"/>
                  </a:lnTo>
                  <a:lnTo>
                    <a:pt x="489" y="428"/>
                  </a:lnTo>
                  <a:lnTo>
                    <a:pt x="486" y="431"/>
                  </a:lnTo>
                  <a:lnTo>
                    <a:pt x="482" y="434"/>
                  </a:lnTo>
                  <a:lnTo>
                    <a:pt x="480" y="438"/>
                  </a:lnTo>
                  <a:lnTo>
                    <a:pt x="477" y="440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3164040" y="2803680"/>
              <a:ext cx="156960" cy="137880"/>
            </a:xfrm>
            <a:custGeom>
              <a:avLst/>
              <a:gdLst/>
              <a:ahLst/>
              <a:rect l="l" t="t" r="r" b="b"/>
              <a:pathLst>
                <a:path w="491" h="432">
                  <a:moveTo>
                    <a:pt x="4" y="0"/>
                  </a:moveTo>
                  <a:lnTo>
                    <a:pt x="491" y="407"/>
                  </a:lnTo>
                  <a:lnTo>
                    <a:pt x="488" y="410"/>
                  </a:lnTo>
                  <a:lnTo>
                    <a:pt x="484" y="413"/>
                  </a:lnTo>
                  <a:lnTo>
                    <a:pt x="482" y="417"/>
                  </a:lnTo>
                  <a:lnTo>
                    <a:pt x="479" y="419"/>
                  </a:lnTo>
                  <a:lnTo>
                    <a:pt x="476" y="422"/>
                  </a:lnTo>
                  <a:lnTo>
                    <a:pt x="473" y="425"/>
                  </a:lnTo>
                  <a:lnTo>
                    <a:pt x="469" y="429"/>
                  </a:lnTo>
                  <a:lnTo>
                    <a:pt x="466" y="43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2" y="20"/>
                  </a:lnTo>
                  <a:lnTo>
                    <a:pt x="3" y="16"/>
                  </a:lnTo>
                  <a:lnTo>
                    <a:pt x="3" y="10"/>
                  </a:lnTo>
                  <a:lnTo>
                    <a:pt x="4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3164040" y="2809800"/>
              <a:ext cx="152280" cy="135000"/>
            </a:xfrm>
            <a:custGeom>
              <a:avLst/>
              <a:gdLst/>
              <a:ahLst/>
              <a:rect l="l" t="t" r="r" b="b"/>
              <a:pathLst>
                <a:path w="482" h="425">
                  <a:moveTo>
                    <a:pt x="5" y="0"/>
                  </a:moveTo>
                  <a:lnTo>
                    <a:pt x="482" y="399"/>
                  </a:lnTo>
                  <a:lnTo>
                    <a:pt x="479" y="402"/>
                  </a:lnTo>
                  <a:lnTo>
                    <a:pt x="476" y="405"/>
                  </a:lnTo>
                  <a:lnTo>
                    <a:pt x="472" y="409"/>
                  </a:lnTo>
                  <a:lnTo>
                    <a:pt x="469" y="412"/>
                  </a:lnTo>
                  <a:lnTo>
                    <a:pt x="466" y="415"/>
                  </a:lnTo>
                  <a:lnTo>
                    <a:pt x="463" y="418"/>
                  </a:lnTo>
                  <a:lnTo>
                    <a:pt x="460" y="422"/>
                  </a:lnTo>
                  <a:lnTo>
                    <a:pt x="457" y="425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3" y="22"/>
                  </a:lnTo>
                  <a:lnTo>
                    <a:pt x="3" y="16"/>
                  </a:lnTo>
                  <a:lnTo>
                    <a:pt x="4" y="11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3162240" y="2817720"/>
              <a:ext cx="150840" cy="131760"/>
            </a:xfrm>
            <a:custGeom>
              <a:avLst/>
              <a:gdLst/>
              <a:ahLst/>
              <a:rect l="l" t="t" r="r" b="b"/>
              <a:pathLst>
                <a:path w="472" h="416">
                  <a:moveTo>
                    <a:pt x="6" y="0"/>
                  </a:moveTo>
                  <a:lnTo>
                    <a:pt x="472" y="390"/>
                  </a:lnTo>
                  <a:lnTo>
                    <a:pt x="469" y="393"/>
                  </a:lnTo>
                  <a:lnTo>
                    <a:pt x="466" y="396"/>
                  </a:lnTo>
                  <a:lnTo>
                    <a:pt x="463" y="400"/>
                  </a:lnTo>
                  <a:lnTo>
                    <a:pt x="460" y="403"/>
                  </a:lnTo>
                  <a:lnTo>
                    <a:pt x="457" y="406"/>
                  </a:lnTo>
                  <a:lnTo>
                    <a:pt x="454" y="409"/>
                  </a:lnTo>
                  <a:lnTo>
                    <a:pt x="451" y="413"/>
                  </a:lnTo>
                  <a:lnTo>
                    <a:pt x="448" y="416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3" y="20"/>
                  </a:lnTo>
                  <a:lnTo>
                    <a:pt x="4" y="15"/>
                  </a:lnTo>
                  <a:lnTo>
                    <a:pt x="5" y="9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3162240" y="2824200"/>
              <a:ext cx="146160" cy="128520"/>
            </a:xfrm>
            <a:custGeom>
              <a:avLst/>
              <a:gdLst/>
              <a:ahLst/>
              <a:rect l="l" t="t" r="r" b="b"/>
              <a:pathLst>
                <a:path w="462" h="409">
                  <a:moveTo>
                    <a:pt x="5" y="0"/>
                  </a:moveTo>
                  <a:lnTo>
                    <a:pt x="462" y="383"/>
                  </a:lnTo>
                  <a:lnTo>
                    <a:pt x="459" y="386"/>
                  </a:lnTo>
                  <a:lnTo>
                    <a:pt x="456" y="389"/>
                  </a:lnTo>
                  <a:lnTo>
                    <a:pt x="453" y="393"/>
                  </a:lnTo>
                  <a:lnTo>
                    <a:pt x="450" y="396"/>
                  </a:lnTo>
                  <a:lnTo>
                    <a:pt x="447" y="399"/>
                  </a:lnTo>
                  <a:lnTo>
                    <a:pt x="444" y="402"/>
                  </a:lnTo>
                  <a:lnTo>
                    <a:pt x="441" y="406"/>
                  </a:lnTo>
                  <a:lnTo>
                    <a:pt x="437" y="409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4" y="11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3160800" y="2830680"/>
              <a:ext cx="144360" cy="126720"/>
            </a:xfrm>
            <a:custGeom>
              <a:avLst/>
              <a:gdLst/>
              <a:ahLst/>
              <a:rect l="l" t="t" r="r" b="b"/>
              <a:pathLst>
                <a:path w="452" h="400">
                  <a:moveTo>
                    <a:pt x="4" y="0"/>
                  </a:moveTo>
                  <a:lnTo>
                    <a:pt x="452" y="374"/>
                  </a:lnTo>
                  <a:lnTo>
                    <a:pt x="449" y="377"/>
                  </a:lnTo>
                  <a:lnTo>
                    <a:pt x="446" y="380"/>
                  </a:lnTo>
                  <a:lnTo>
                    <a:pt x="443" y="384"/>
                  </a:lnTo>
                  <a:lnTo>
                    <a:pt x="439" y="387"/>
                  </a:lnTo>
                  <a:lnTo>
                    <a:pt x="437" y="390"/>
                  </a:lnTo>
                  <a:lnTo>
                    <a:pt x="434" y="393"/>
                  </a:lnTo>
                  <a:lnTo>
                    <a:pt x="431" y="396"/>
                  </a:lnTo>
                  <a:lnTo>
                    <a:pt x="428" y="400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3" y="10"/>
                  </a:lnTo>
                  <a:lnTo>
                    <a:pt x="4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3160800" y="2836800"/>
              <a:ext cx="139680" cy="125640"/>
            </a:xfrm>
            <a:custGeom>
              <a:avLst/>
              <a:gdLst/>
              <a:ahLst/>
              <a:rect l="l" t="t" r="r" b="b"/>
              <a:pathLst>
                <a:path w="441" h="393">
                  <a:moveTo>
                    <a:pt x="4" y="0"/>
                  </a:moveTo>
                  <a:lnTo>
                    <a:pt x="441" y="367"/>
                  </a:lnTo>
                  <a:lnTo>
                    <a:pt x="439" y="370"/>
                  </a:lnTo>
                  <a:lnTo>
                    <a:pt x="436" y="373"/>
                  </a:lnTo>
                  <a:lnTo>
                    <a:pt x="433" y="376"/>
                  </a:lnTo>
                  <a:lnTo>
                    <a:pt x="430" y="380"/>
                  </a:lnTo>
                  <a:lnTo>
                    <a:pt x="426" y="383"/>
                  </a:lnTo>
                  <a:lnTo>
                    <a:pt x="424" y="386"/>
                  </a:lnTo>
                  <a:lnTo>
                    <a:pt x="421" y="389"/>
                  </a:lnTo>
                  <a:lnTo>
                    <a:pt x="418" y="393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2" y="27"/>
                  </a:lnTo>
                  <a:lnTo>
                    <a:pt x="2" y="22"/>
                  </a:lnTo>
                  <a:lnTo>
                    <a:pt x="3" y="17"/>
                  </a:lnTo>
                  <a:lnTo>
                    <a:pt x="3" y="11"/>
                  </a:lnTo>
                  <a:lnTo>
                    <a:pt x="4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3160800" y="2843280"/>
              <a:ext cx="136440" cy="122040"/>
            </a:xfrm>
            <a:custGeom>
              <a:avLst/>
              <a:gdLst/>
              <a:ahLst/>
              <a:rect l="l" t="t" r="r" b="b"/>
              <a:pathLst>
                <a:path w="432" h="385">
                  <a:moveTo>
                    <a:pt x="4" y="0"/>
                  </a:moveTo>
                  <a:lnTo>
                    <a:pt x="432" y="358"/>
                  </a:lnTo>
                  <a:lnTo>
                    <a:pt x="429" y="361"/>
                  </a:lnTo>
                  <a:lnTo>
                    <a:pt x="426" y="364"/>
                  </a:lnTo>
                  <a:lnTo>
                    <a:pt x="423" y="367"/>
                  </a:lnTo>
                  <a:lnTo>
                    <a:pt x="420" y="371"/>
                  </a:lnTo>
                  <a:lnTo>
                    <a:pt x="418" y="374"/>
                  </a:lnTo>
                  <a:lnTo>
                    <a:pt x="414" y="377"/>
                  </a:lnTo>
                  <a:lnTo>
                    <a:pt x="411" y="381"/>
                  </a:lnTo>
                  <a:lnTo>
                    <a:pt x="408" y="385"/>
                  </a:lnTo>
                  <a:lnTo>
                    <a:pt x="0" y="42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2" y="22"/>
                  </a:lnTo>
                  <a:lnTo>
                    <a:pt x="3" y="16"/>
                  </a:lnTo>
                  <a:lnTo>
                    <a:pt x="3" y="11"/>
                  </a:lnTo>
                  <a:lnTo>
                    <a:pt x="4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3159000" y="2851200"/>
              <a:ext cx="135000" cy="119160"/>
            </a:xfrm>
            <a:custGeom>
              <a:avLst/>
              <a:gdLst/>
              <a:ahLst/>
              <a:rect l="l" t="t" r="r" b="b"/>
              <a:pathLst>
                <a:path w="421" h="376">
                  <a:moveTo>
                    <a:pt x="3" y="0"/>
                  </a:moveTo>
                  <a:lnTo>
                    <a:pt x="421" y="349"/>
                  </a:lnTo>
                  <a:lnTo>
                    <a:pt x="419" y="352"/>
                  </a:lnTo>
                  <a:lnTo>
                    <a:pt x="415" y="355"/>
                  </a:lnTo>
                  <a:lnTo>
                    <a:pt x="412" y="358"/>
                  </a:lnTo>
                  <a:lnTo>
                    <a:pt x="409" y="362"/>
                  </a:lnTo>
                  <a:lnTo>
                    <a:pt x="407" y="366"/>
                  </a:lnTo>
                  <a:lnTo>
                    <a:pt x="403" y="369"/>
                  </a:lnTo>
                  <a:lnTo>
                    <a:pt x="400" y="372"/>
                  </a:lnTo>
                  <a:lnTo>
                    <a:pt x="398" y="37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3159000" y="2857680"/>
              <a:ext cx="130320" cy="117360"/>
            </a:xfrm>
            <a:custGeom>
              <a:avLst/>
              <a:gdLst/>
              <a:ahLst/>
              <a:rect l="l" t="t" r="r" b="b"/>
              <a:pathLst>
                <a:path w="411" h="369">
                  <a:moveTo>
                    <a:pt x="3" y="0"/>
                  </a:moveTo>
                  <a:lnTo>
                    <a:pt x="411" y="343"/>
                  </a:lnTo>
                  <a:lnTo>
                    <a:pt x="409" y="346"/>
                  </a:lnTo>
                  <a:lnTo>
                    <a:pt x="405" y="349"/>
                  </a:lnTo>
                  <a:lnTo>
                    <a:pt x="402" y="352"/>
                  </a:lnTo>
                  <a:lnTo>
                    <a:pt x="400" y="356"/>
                  </a:lnTo>
                  <a:lnTo>
                    <a:pt x="397" y="359"/>
                  </a:lnTo>
                  <a:lnTo>
                    <a:pt x="394" y="362"/>
                  </a:lnTo>
                  <a:lnTo>
                    <a:pt x="391" y="365"/>
                  </a:lnTo>
                  <a:lnTo>
                    <a:pt x="388" y="369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3157560" y="2863800"/>
              <a:ext cx="128520" cy="114480"/>
            </a:xfrm>
            <a:custGeom>
              <a:avLst/>
              <a:gdLst/>
              <a:ahLst/>
              <a:rect l="l" t="t" r="r" b="b"/>
              <a:pathLst>
                <a:path w="403" h="361">
                  <a:moveTo>
                    <a:pt x="5" y="0"/>
                  </a:moveTo>
                  <a:lnTo>
                    <a:pt x="403" y="334"/>
                  </a:lnTo>
                  <a:lnTo>
                    <a:pt x="400" y="337"/>
                  </a:lnTo>
                  <a:lnTo>
                    <a:pt x="397" y="340"/>
                  </a:lnTo>
                  <a:lnTo>
                    <a:pt x="394" y="343"/>
                  </a:lnTo>
                  <a:lnTo>
                    <a:pt x="391" y="347"/>
                  </a:lnTo>
                  <a:lnTo>
                    <a:pt x="388" y="350"/>
                  </a:lnTo>
                  <a:lnTo>
                    <a:pt x="386" y="354"/>
                  </a:lnTo>
                  <a:lnTo>
                    <a:pt x="382" y="357"/>
                  </a:lnTo>
                  <a:lnTo>
                    <a:pt x="379" y="361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4" y="11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3157560" y="2870280"/>
              <a:ext cx="125280" cy="112680"/>
            </a:xfrm>
            <a:custGeom>
              <a:avLst/>
              <a:gdLst/>
              <a:ahLst/>
              <a:rect l="l" t="t" r="r" b="b"/>
              <a:pathLst>
                <a:path w="392" h="353">
                  <a:moveTo>
                    <a:pt x="4" y="0"/>
                  </a:moveTo>
                  <a:lnTo>
                    <a:pt x="392" y="326"/>
                  </a:lnTo>
                  <a:lnTo>
                    <a:pt x="389" y="329"/>
                  </a:lnTo>
                  <a:lnTo>
                    <a:pt x="387" y="333"/>
                  </a:lnTo>
                  <a:lnTo>
                    <a:pt x="383" y="336"/>
                  </a:lnTo>
                  <a:lnTo>
                    <a:pt x="380" y="340"/>
                  </a:lnTo>
                  <a:lnTo>
                    <a:pt x="378" y="343"/>
                  </a:lnTo>
                  <a:lnTo>
                    <a:pt x="375" y="346"/>
                  </a:lnTo>
                  <a:lnTo>
                    <a:pt x="372" y="349"/>
                  </a:lnTo>
                  <a:lnTo>
                    <a:pt x="369" y="353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3" y="17"/>
                  </a:lnTo>
                  <a:lnTo>
                    <a:pt x="3" y="11"/>
                  </a:lnTo>
                  <a:lnTo>
                    <a:pt x="4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3157560" y="2878200"/>
              <a:ext cx="120600" cy="109440"/>
            </a:xfrm>
            <a:custGeom>
              <a:avLst/>
              <a:gdLst/>
              <a:ahLst/>
              <a:rect l="l" t="t" r="r" b="b"/>
              <a:pathLst>
                <a:path w="382" h="345">
                  <a:moveTo>
                    <a:pt x="3" y="0"/>
                  </a:moveTo>
                  <a:lnTo>
                    <a:pt x="382" y="318"/>
                  </a:lnTo>
                  <a:lnTo>
                    <a:pt x="380" y="321"/>
                  </a:lnTo>
                  <a:lnTo>
                    <a:pt x="377" y="324"/>
                  </a:lnTo>
                  <a:lnTo>
                    <a:pt x="375" y="327"/>
                  </a:lnTo>
                  <a:lnTo>
                    <a:pt x="371" y="331"/>
                  </a:lnTo>
                  <a:lnTo>
                    <a:pt x="368" y="335"/>
                  </a:lnTo>
                  <a:lnTo>
                    <a:pt x="366" y="338"/>
                  </a:lnTo>
                  <a:lnTo>
                    <a:pt x="363" y="341"/>
                  </a:lnTo>
                  <a:lnTo>
                    <a:pt x="361" y="345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2"/>
                  </a:lnTo>
                  <a:lnTo>
                    <a:pt x="1" y="27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3" y="11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3157560" y="2884320"/>
              <a:ext cx="117360" cy="108000"/>
            </a:xfrm>
            <a:custGeom>
              <a:avLst/>
              <a:gdLst/>
              <a:ahLst/>
              <a:rect l="l" t="t" r="r" b="b"/>
              <a:pathLst>
                <a:path w="372" h="337">
                  <a:moveTo>
                    <a:pt x="3" y="0"/>
                  </a:moveTo>
                  <a:lnTo>
                    <a:pt x="372" y="309"/>
                  </a:lnTo>
                  <a:lnTo>
                    <a:pt x="369" y="312"/>
                  </a:lnTo>
                  <a:lnTo>
                    <a:pt x="367" y="316"/>
                  </a:lnTo>
                  <a:lnTo>
                    <a:pt x="364" y="319"/>
                  </a:lnTo>
                  <a:lnTo>
                    <a:pt x="361" y="323"/>
                  </a:lnTo>
                  <a:lnTo>
                    <a:pt x="358" y="326"/>
                  </a:lnTo>
                  <a:lnTo>
                    <a:pt x="355" y="329"/>
                  </a:lnTo>
                  <a:lnTo>
                    <a:pt x="353" y="334"/>
                  </a:lnTo>
                  <a:lnTo>
                    <a:pt x="350" y="337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3156120" y="2892600"/>
              <a:ext cx="115560" cy="102960"/>
            </a:xfrm>
            <a:custGeom>
              <a:avLst/>
              <a:gdLst/>
              <a:ahLst/>
              <a:rect l="l" t="t" r="r" b="b"/>
              <a:pathLst>
                <a:path w="363" h="328">
                  <a:moveTo>
                    <a:pt x="2" y="0"/>
                  </a:moveTo>
                  <a:lnTo>
                    <a:pt x="363" y="301"/>
                  </a:lnTo>
                  <a:lnTo>
                    <a:pt x="359" y="304"/>
                  </a:lnTo>
                  <a:lnTo>
                    <a:pt x="356" y="307"/>
                  </a:lnTo>
                  <a:lnTo>
                    <a:pt x="354" y="312"/>
                  </a:lnTo>
                  <a:lnTo>
                    <a:pt x="351" y="315"/>
                  </a:lnTo>
                  <a:lnTo>
                    <a:pt x="349" y="318"/>
                  </a:lnTo>
                  <a:lnTo>
                    <a:pt x="345" y="321"/>
                  </a:lnTo>
                  <a:lnTo>
                    <a:pt x="342" y="325"/>
                  </a:lnTo>
                  <a:lnTo>
                    <a:pt x="340" y="328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3156120" y="2898720"/>
              <a:ext cx="112680" cy="101520"/>
            </a:xfrm>
            <a:custGeom>
              <a:avLst/>
              <a:gdLst/>
              <a:ahLst/>
              <a:rect l="l" t="t" r="r" b="b"/>
              <a:pathLst>
                <a:path w="352" h="320">
                  <a:moveTo>
                    <a:pt x="2" y="0"/>
                  </a:moveTo>
                  <a:lnTo>
                    <a:pt x="352" y="293"/>
                  </a:lnTo>
                  <a:lnTo>
                    <a:pt x="350" y="296"/>
                  </a:lnTo>
                  <a:lnTo>
                    <a:pt x="346" y="299"/>
                  </a:lnTo>
                  <a:lnTo>
                    <a:pt x="343" y="303"/>
                  </a:lnTo>
                  <a:lnTo>
                    <a:pt x="341" y="306"/>
                  </a:lnTo>
                  <a:lnTo>
                    <a:pt x="338" y="310"/>
                  </a:lnTo>
                  <a:lnTo>
                    <a:pt x="336" y="313"/>
                  </a:lnTo>
                  <a:lnTo>
                    <a:pt x="332" y="317"/>
                  </a:lnTo>
                  <a:lnTo>
                    <a:pt x="330" y="32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3156120" y="2905200"/>
              <a:ext cx="107640" cy="100080"/>
            </a:xfrm>
            <a:custGeom>
              <a:avLst/>
              <a:gdLst/>
              <a:ahLst/>
              <a:rect l="l" t="t" r="r" b="b"/>
              <a:pathLst>
                <a:path w="342" h="312">
                  <a:moveTo>
                    <a:pt x="2" y="0"/>
                  </a:moveTo>
                  <a:lnTo>
                    <a:pt x="342" y="284"/>
                  </a:lnTo>
                  <a:lnTo>
                    <a:pt x="339" y="288"/>
                  </a:lnTo>
                  <a:lnTo>
                    <a:pt x="337" y="291"/>
                  </a:lnTo>
                  <a:lnTo>
                    <a:pt x="333" y="295"/>
                  </a:lnTo>
                  <a:lnTo>
                    <a:pt x="331" y="298"/>
                  </a:lnTo>
                  <a:lnTo>
                    <a:pt x="328" y="302"/>
                  </a:lnTo>
                  <a:lnTo>
                    <a:pt x="326" y="305"/>
                  </a:lnTo>
                  <a:lnTo>
                    <a:pt x="323" y="309"/>
                  </a:lnTo>
                  <a:lnTo>
                    <a:pt x="320" y="312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3156120" y="2913120"/>
              <a:ext cx="104760" cy="96840"/>
            </a:xfrm>
            <a:custGeom>
              <a:avLst/>
              <a:gdLst/>
              <a:ahLst/>
              <a:rect l="l" t="t" r="r" b="b"/>
              <a:pathLst>
                <a:path w="332" h="304">
                  <a:moveTo>
                    <a:pt x="2" y="0"/>
                  </a:moveTo>
                  <a:lnTo>
                    <a:pt x="332" y="276"/>
                  </a:lnTo>
                  <a:lnTo>
                    <a:pt x="329" y="280"/>
                  </a:lnTo>
                  <a:lnTo>
                    <a:pt x="327" y="283"/>
                  </a:lnTo>
                  <a:lnTo>
                    <a:pt x="324" y="287"/>
                  </a:lnTo>
                  <a:lnTo>
                    <a:pt x="321" y="290"/>
                  </a:lnTo>
                  <a:lnTo>
                    <a:pt x="318" y="294"/>
                  </a:lnTo>
                  <a:lnTo>
                    <a:pt x="316" y="297"/>
                  </a:lnTo>
                  <a:lnTo>
                    <a:pt x="313" y="301"/>
                  </a:lnTo>
                  <a:lnTo>
                    <a:pt x="311" y="304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3156120" y="2919240"/>
              <a:ext cx="101520" cy="93960"/>
            </a:xfrm>
            <a:custGeom>
              <a:avLst/>
              <a:gdLst/>
              <a:ahLst/>
              <a:rect l="l" t="t" r="r" b="b"/>
              <a:pathLst>
                <a:path w="322" h="296">
                  <a:moveTo>
                    <a:pt x="2" y="0"/>
                  </a:moveTo>
                  <a:lnTo>
                    <a:pt x="322" y="268"/>
                  </a:lnTo>
                  <a:lnTo>
                    <a:pt x="319" y="271"/>
                  </a:lnTo>
                  <a:lnTo>
                    <a:pt x="317" y="275"/>
                  </a:lnTo>
                  <a:lnTo>
                    <a:pt x="314" y="279"/>
                  </a:lnTo>
                  <a:lnTo>
                    <a:pt x="312" y="282"/>
                  </a:lnTo>
                  <a:lnTo>
                    <a:pt x="308" y="285"/>
                  </a:lnTo>
                  <a:lnTo>
                    <a:pt x="306" y="289"/>
                  </a:lnTo>
                  <a:lnTo>
                    <a:pt x="303" y="293"/>
                  </a:lnTo>
                  <a:lnTo>
                    <a:pt x="301" y="296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1" y="17"/>
                  </a:lnTo>
                  <a:lnTo>
                    <a:pt x="1" y="11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3154320" y="2927520"/>
              <a:ext cx="100080" cy="90360"/>
            </a:xfrm>
            <a:custGeom>
              <a:avLst/>
              <a:gdLst/>
              <a:ahLst/>
              <a:rect l="l" t="t" r="r" b="b"/>
              <a:pathLst>
                <a:path w="313" h="287">
                  <a:moveTo>
                    <a:pt x="2" y="0"/>
                  </a:moveTo>
                  <a:lnTo>
                    <a:pt x="313" y="259"/>
                  </a:lnTo>
                  <a:lnTo>
                    <a:pt x="309" y="263"/>
                  </a:lnTo>
                  <a:lnTo>
                    <a:pt x="307" y="266"/>
                  </a:lnTo>
                  <a:lnTo>
                    <a:pt x="304" y="270"/>
                  </a:lnTo>
                  <a:lnTo>
                    <a:pt x="302" y="273"/>
                  </a:lnTo>
                  <a:lnTo>
                    <a:pt x="299" y="276"/>
                  </a:lnTo>
                  <a:lnTo>
                    <a:pt x="296" y="281"/>
                  </a:lnTo>
                  <a:lnTo>
                    <a:pt x="293" y="284"/>
                  </a:lnTo>
                  <a:lnTo>
                    <a:pt x="291" y="287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3154320" y="2933640"/>
              <a:ext cx="96840" cy="88920"/>
            </a:xfrm>
            <a:custGeom>
              <a:avLst/>
              <a:gdLst/>
              <a:ahLst/>
              <a:rect l="l" t="t" r="r" b="b"/>
              <a:pathLst>
                <a:path w="302" h="280">
                  <a:moveTo>
                    <a:pt x="1" y="0"/>
                  </a:moveTo>
                  <a:lnTo>
                    <a:pt x="302" y="252"/>
                  </a:lnTo>
                  <a:lnTo>
                    <a:pt x="299" y="256"/>
                  </a:lnTo>
                  <a:lnTo>
                    <a:pt x="296" y="260"/>
                  </a:lnTo>
                  <a:lnTo>
                    <a:pt x="293" y="263"/>
                  </a:lnTo>
                  <a:lnTo>
                    <a:pt x="291" y="266"/>
                  </a:lnTo>
                  <a:lnTo>
                    <a:pt x="288" y="270"/>
                  </a:lnTo>
                  <a:lnTo>
                    <a:pt x="286" y="274"/>
                  </a:lnTo>
                  <a:lnTo>
                    <a:pt x="283" y="277"/>
                  </a:lnTo>
                  <a:lnTo>
                    <a:pt x="280" y="280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3154320" y="2941560"/>
              <a:ext cx="93600" cy="85680"/>
            </a:xfrm>
            <a:custGeom>
              <a:avLst/>
              <a:gdLst/>
              <a:ahLst/>
              <a:rect l="l" t="t" r="r" b="b"/>
              <a:pathLst>
                <a:path w="292" h="272">
                  <a:moveTo>
                    <a:pt x="1" y="0"/>
                  </a:moveTo>
                  <a:lnTo>
                    <a:pt x="292" y="243"/>
                  </a:lnTo>
                  <a:lnTo>
                    <a:pt x="289" y="247"/>
                  </a:lnTo>
                  <a:lnTo>
                    <a:pt x="287" y="251"/>
                  </a:lnTo>
                  <a:lnTo>
                    <a:pt x="283" y="254"/>
                  </a:lnTo>
                  <a:lnTo>
                    <a:pt x="281" y="257"/>
                  </a:lnTo>
                  <a:lnTo>
                    <a:pt x="279" y="261"/>
                  </a:lnTo>
                  <a:lnTo>
                    <a:pt x="276" y="265"/>
                  </a:lnTo>
                  <a:lnTo>
                    <a:pt x="274" y="268"/>
                  </a:lnTo>
                  <a:lnTo>
                    <a:pt x="270" y="27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3154320" y="2948040"/>
              <a:ext cx="88920" cy="84240"/>
            </a:xfrm>
            <a:custGeom>
              <a:avLst/>
              <a:gdLst/>
              <a:ahLst/>
              <a:rect l="l" t="t" r="r" b="b"/>
              <a:pathLst>
                <a:path w="281" h="263">
                  <a:moveTo>
                    <a:pt x="1" y="0"/>
                  </a:moveTo>
                  <a:lnTo>
                    <a:pt x="281" y="234"/>
                  </a:lnTo>
                  <a:lnTo>
                    <a:pt x="279" y="238"/>
                  </a:lnTo>
                  <a:lnTo>
                    <a:pt x="276" y="242"/>
                  </a:lnTo>
                  <a:lnTo>
                    <a:pt x="274" y="245"/>
                  </a:lnTo>
                  <a:lnTo>
                    <a:pt x="270" y="249"/>
                  </a:lnTo>
                  <a:lnTo>
                    <a:pt x="268" y="252"/>
                  </a:lnTo>
                  <a:lnTo>
                    <a:pt x="265" y="256"/>
                  </a:lnTo>
                  <a:lnTo>
                    <a:pt x="263" y="260"/>
                  </a:lnTo>
                  <a:lnTo>
                    <a:pt x="261" y="263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1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3154320" y="2955960"/>
              <a:ext cx="85680" cy="81000"/>
            </a:xfrm>
            <a:custGeom>
              <a:avLst/>
              <a:gdLst/>
              <a:ahLst/>
              <a:rect l="l" t="t" r="r" b="b"/>
              <a:pathLst>
                <a:path w="272" h="255">
                  <a:moveTo>
                    <a:pt x="2" y="0"/>
                  </a:moveTo>
                  <a:lnTo>
                    <a:pt x="272" y="227"/>
                  </a:lnTo>
                  <a:lnTo>
                    <a:pt x="270" y="230"/>
                  </a:lnTo>
                  <a:lnTo>
                    <a:pt x="268" y="234"/>
                  </a:lnTo>
                  <a:lnTo>
                    <a:pt x="265" y="238"/>
                  </a:lnTo>
                  <a:lnTo>
                    <a:pt x="263" y="241"/>
                  </a:lnTo>
                  <a:lnTo>
                    <a:pt x="260" y="244"/>
                  </a:lnTo>
                  <a:lnTo>
                    <a:pt x="257" y="249"/>
                  </a:lnTo>
                  <a:lnTo>
                    <a:pt x="255" y="252"/>
                  </a:lnTo>
                  <a:lnTo>
                    <a:pt x="252" y="255"/>
                  </a:lnTo>
                  <a:lnTo>
                    <a:pt x="0" y="46"/>
                  </a:lnTo>
                  <a:lnTo>
                    <a:pt x="2" y="40"/>
                  </a:lnTo>
                  <a:lnTo>
                    <a:pt x="2" y="34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2" y="18"/>
                  </a:lnTo>
                  <a:lnTo>
                    <a:pt x="2" y="11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3154320" y="2962440"/>
              <a:ext cx="82440" cy="79200"/>
            </a:xfrm>
            <a:custGeom>
              <a:avLst/>
              <a:gdLst/>
              <a:ahLst/>
              <a:rect l="l" t="t" r="r" b="b"/>
              <a:pathLst>
                <a:path w="263" h="247">
                  <a:moveTo>
                    <a:pt x="2" y="0"/>
                  </a:moveTo>
                  <a:lnTo>
                    <a:pt x="263" y="218"/>
                  </a:lnTo>
                  <a:lnTo>
                    <a:pt x="260" y="221"/>
                  </a:lnTo>
                  <a:lnTo>
                    <a:pt x="257" y="226"/>
                  </a:lnTo>
                  <a:lnTo>
                    <a:pt x="255" y="229"/>
                  </a:lnTo>
                  <a:lnTo>
                    <a:pt x="252" y="232"/>
                  </a:lnTo>
                  <a:lnTo>
                    <a:pt x="250" y="237"/>
                  </a:lnTo>
                  <a:lnTo>
                    <a:pt x="247" y="240"/>
                  </a:lnTo>
                  <a:lnTo>
                    <a:pt x="244" y="243"/>
                  </a:lnTo>
                  <a:lnTo>
                    <a:pt x="242" y="247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3154320" y="2970360"/>
              <a:ext cx="79560" cy="74520"/>
            </a:xfrm>
            <a:custGeom>
              <a:avLst/>
              <a:gdLst/>
              <a:ahLst/>
              <a:rect l="l" t="t" r="r" b="b"/>
              <a:pathLst>
                <a:path w="252" h="238">
                  <a:moveTo>
                    <a:pt x="0" y="0"/>
                  </a:moveTo>
                  <a:lnTo>
                    <a:pt x="252" y="209"/>
                  </a:lnTo>
                  <a:lnTo>
                    <a:pt x="250" y="214"/>
                  </a:lnTo>
                  <a:lnTo>
                    <a:pt x="247" y="217"/>
                  </a:lnTo>
                  <a:lnTo>
                    <a:pt x="244" y="220"/>
                  </a:lnTo>
                  <a:lnTo>
                    <a:pt x="242" y="224"/>
                  </a:lnTo>
                  <a:lnTo>
                    <a:pt x="239" y="228"/>
                  </a:lnTo>
                  <a:lnTo>
                    <a:pt x="237" y="231"/>
                  </a:lnTo>
                  <a:lnTo>
                    <a:pt x="235" y="235"/>
                  </a:lnTo>
                  <a:lnTo>
                    <a:pt x="231" y="238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3154320" y="2976480"/>
              <a:ext cx="76320" cy="74520"/>
            </a:xfrm>
            <a:custGeom>
              <a:avLst/>
              <a:gdLst/>
              <a:ahLst/>
              <a:rect l="l" t="t" r="r" b="b"/>
              <a:pathLst>
                <a:path w="242" h="232">
                  <a:moveTo>
                    <a:pt x="0" y="0"/>
                  </a:moveTo>
                  <a:lnTo>
                    <a:pt x="242" y="202"/>
                  </a:lnTo>
                  <a:lnTo>
                    <a:pt x="239" y="206"/>
                  </a:lnTo>
                  <a:lnTo>
                    <a:pt x="237" y="209"/>
                  </a:lnTo>
                  <a:lnTo>
                    <a:pt x="235" y="213"/>
                  </a:lnTo>
                  <a:lnTo>
                    <a:pt x="231" y="216"/>
                  </a:lnTo>
                  <a:lnTo>
                    <a:pt x="229" y="221"/>
                  </a:lnTo>
                  <a:lnTo>
                    <a:pt x="227" y="224"/>
                  </a:lnTo>
                  <a:lnTo>
                    <a:pt x="224" y="227"/>
                  </a:lnTo>
                  <a:lnTo>
                    <a:pt x="222" y="232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3154320" y="2984400"/>
              <a:ext cx="73080" cy="69840"/>
            </a:xfrm>
            <a:custGeom>
              <a:avLst/>
              <a:gdLst/>
              <a:ahLst/>
              <a:rect l="l" t="t" r="r" b="b"/>
              <a:pathLst>
                <a:path w="231" h="223">
                  <a:moveTo>
                    <a:pt x="0" y="0"/>
                  </a:moveTo>
                  <a:lnTo>
                    <a:pt x="231" y="193"/>
                  </a:lnTo>
                  <a:lnTo>
                    <a:pt x="229" y="198"/>
                  </a:lnTo>
                  <a:lnTo>
                    <a:pt x="227" y="201"/>
                  </a:lnTo>
                  <a:lnTo>
                    <a:pt x="224" y="204"/>
                  </a:lnTo>
                  <a:lnTo>
                    <a:pt x="222" y="209"/>
                  </a:lnTo>
                  <a:lnTo>
                    <a:pt x="218" y="212"/>
                  </a:lnTo>
                  <a:lnTo>
                    <a:pt x="216" y="215"/>
                  </a:lnTo>
                  <a:lnTo>
                    <a:pt x="214" y="219"/>
                  </a:lnTo>
                  <a:lnTo>
                    <a:pt x="211" y="223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3154320" y="2992320"/>
              <a:ext cx="69840" cy="66960"/>
            </a:xfrm>
            <a:custGeom>
              <a:avLst/>
              <a:gdLst/>
              <a:ahLst/>
              <a:rect l="l" t="t" r="r" b="b"/>
              <a:pathLst>
                <a:path w="222" h="214">
                  <a:moveTo>
                    <a:pt x="0" y="0"/>
                  </a:moveTo>
                  <a:lnTo>
                    <a:pt x="222" y="185"/>
                  </a:lnTo>
                  <a:lnTo>
                    <a:pt x="218" y="188"/>
                  </a:lnTo>
                  <a:lnTo>
                    <a:pt x="216" y="191"/>
                  </a:lnTo>
                  <a:lnTo>
                    <a:pt x="214" y="195"/>
                  </a:lnTo>
                  <a:lnTo>
                    <a:pt x="212" y="199"/>
                  </a:lnTo>
                  <a:lnTo>
                    <a:pt x="209" y="203"/>
                  </a:lnTo>
                  <a:lnTo>
                    <a:pt x="207" y="206"/>
                  </a:lnTo>
                  <a:lnTo>
                    <a:pt x="204" y="209"/>
                  </a:lnTo>
                  <a:lnTo>
                    <a:pt x="201" y="214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4"/>
                  </a:lnTo>
                  <a:lnTo>
                    <a:pt x="2" y="29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3154320" y="2998800"/>
              <a:ext cx="66600" cy="65160"/>
            </a:xfrm>
            <a:custGeom>
              <a:avLst/>
              <a:gdLst/>
              <a:ahLst/>
              <a:rect l="l" t="t" r="r" b="b"/>
              <a:pathLst>
                <a:path w="209" h="206">
                  <a:moveTo>
                    <a:pt x="0" y="0"/>
                  </a:moveTo>
                  <a:lnTo>
                    <a:pt x="209" y="177"/>
                  </a:lnTo>
                  <a:lnTo>
                    <a:pt x="207" y="181"/>
                  </a:lnTo>
                  <a:lnTo>
                    <a:pt x="205" y="184"/>
                  </a:lnTo>
                  <a:lnTo>
                    <a:pt x="201" y="187"/>
                  </a:lnTo>
                  <a:lnTo>
                    <a:pt x="199" y="192"/>
                  </a:lnTo>
                  <a:lnTo>
                    <a:pt x="197" y="195"/>
                  </a:lnTo>
                  <a:lnTo>
                    <a:pt x="195" y="199"/>
                  </a:lnTo>
                  <a:lnTo>
                    <a:pt x="192" y="203"/>
                  </a:lnTo>
                  <a:lnTo>
                    <a:pt x="190" y="206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3154320" y="3006720"/>
              <a:ext cx="63720" cy="61920"/>
            </a:xfrm>
            <a:custGeom>
              <a:avLst/>
              <a:gdLst/>
              <a:ahLst/>
              <a:rect l="l" t="t" r="r" b="b"/>
              <a:pathLst>
                <a:path w="199" h="197">
                  <a:moveTo>
                    <a:pt x="0" y="0"/>
                  </a:moveTo>
                  <a:lnTo>
                    <a:pt x="199" y="168"/>
                  </a:lnTo>
                  <a:lnTo>
                    <a:pt x="197" y="171"/>
                  </a:lnTo>
                  <a:lnTo>
                    <a:pt x="195" y="175"/>
                  </a:lnTo>
                  <a:lnTo>
                    <a:pt x="192" y="179"/>
                  </a:lnTo>
                  <a:lnTo>
                    <a:pt x="190" y="182"/>
                  </a:lnTo>
                  <a:lnTo>
                    <a:pt x="187" y="186"/>
                  </a:lnTo>
                  <a:lnTo>
                    <a:pt x="184" y="189"/>
                  </a:lnTo>
                  <a:lnTo>
                    <a:pt x="182" y="194"/>
                  </a:lnTo>
                  <a:lnTo>
                    <a:pt x="180" y="197"/>
                  </a:lnTo>
                  <a:lnTo>
                    <a:pt x="1" y="47"/>
                  </a:lnTo>
                  <a:lnTo>
                    <a:pt x="1" y="41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3154320" y="3013200"/>
              <a:ext cx="60480" cy="6012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0" y="0"/>
                  </a:moveTo>
                  <a:lnTo>
                    <a:pt x="190" y="159"/>
                  </a:lnTo>
                  <a:lnTo>
                    <a:pt x="187" y="163"/>
                  </a:lnTo>
                  <a:lnTo>
                    <a:pt x="184" y="166"/>
                  </a:lnTo>
                  <a:lnTo>
                    <a:pt x="182" y="171"/>
                  </a:lnTo>
                  <a:lnTo>
                    <a:pt x="180" y="174"/>
                  </a:lnTo>
                  <a:lnTo>
                    <a:pt x="178" y="178"/>
                  </a:lnTo>
                  <a:lnTo>
                    <a:pt x="174" y="181"/>
                  </a:lnTo>
                  <a:lnTo>
                    <a:pt x="172" y="185"/>
                  </a:lnTo>
                  <a:lnTo>
                    <a:pt x="170" y="189"/>
                  </a:lnTo>
                  <a:lnTo>
                    <a:pt x="2" y="47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1" y="30"/>
                  </a:lnTo>
                  <a:lnTo>
                    <a:pt x="1" y="24"/>
                  </a:lnTo>
                  <a:lnTo>
                    <a:pt x="1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3154320" y="3021120"/>
              <a:ext cx="57240" cy="56880"/>
            </a:xfrm>
            <a:custGeom>
              <a:avLst/>
              <a:gdLst/>
              <a:ahLst/>
              <a:rect l="l" t="t" r="r" b="b"/>
              <a:pathLst>
                <a:path w="179" h="180">
                  <a:moveTo>
                    <a:pt x="0" y="0"/>
                  </a:moveTo>
                  <a:lnTo>
                    <a:pt x="179" y="150"/>
                  </a:lnTo>
                  <a:lnTo>
                    <a:pt x="177" y="154"/>
                  </a:lnTo>
                  <a:lnTo>
                    <a:pt x="173" y="157"/>
                  </a:lnTo>
                  <a:lnTo>
                    <a:pt x="171" y="161"/>
                  </a:lnTo>
                  <a:lnTo>
                    <a:pt x="169" y="165"/>
                  </a:lnTo>
                  <a:lnTo>
                    <a:pt x="166" y="168"/>
                  </a:lnTo>
                  <a:lnTo>
                    <a:pt x="164" y="173"/>
                  </a:lnTo>
                  <a:lnTo>
                    <a:pt x="162" y="176"/>
                  </a:lnTo>
                  <a:lnTo>
                    <a:pt x="159" y="180"/>
                  </a:lnTo>
                  <a:lnTo>
                    <a:pt x="1" y="47"/>
                  </a:lnTo>
                  <a:lnTo>
                    <a:pt x="1" y="42"/>
                  </a:lnTo>
                  <a:lnTo>
                    <a:pt x="1" y="35"/>
                  </a:lnTo>
                  <a:lnTo>
                    <a:pt x="1" y="30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3156120" y="3029040"/>
              <a:ext cx="52200" cy="54000"/>
            </a:xfrm>
            <a:custGeom>
              <a:avLst/>
              <a:gdLst/>
              <a:ahLst/>
              <a:rect l="l" t="t" r="r" b="b"/>
              <a:pathLst>
                <a:path w="168" h="171">
                  <a:moveTo>
                    <a:pt x="0" y="0"/>
                  </a:moveTo>
                  <a:lnTo>
                    <a:pt x="168" y="142"/>
                  </a:lnTo>
                  <a:lnTo>
                    <a:pt x="165" y="145"/>
                  </a:lnTo>
                  <a:lnTo>
                    <a:pt x="163" y="150"/>
                  </a:lnTo>
                  <a:lnTo>
                    <a:pt x="161" y="153"/>
                  </a:lnTo>
                  <a:lnTo>
                    <a:pt x="158" y="157"/>
                  </a:lnTo>
                  <a:lnTo>
                    <a:pt x="155" y="160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71"/>
                  </a:lnTo>
                  <a:lnTo>
                    <a:pt x="1" y="48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3156120" y="3036960"/>
              <a:ext cx="48960" cy="50760"/>
            </a:xfrm>
            <a:custGeom>
              <a:avLst/>
              <a:gdLst/>
              <a:ahLst/>
              <a:rect l="l" t="t" r="r" b="b"/>
              <a:pathLst>
                <a:path w="158" h="162">
                  <a:moveTo>
                    <a:pt x="0" y="0"/>
                  </a:moveTo>
                  <a:lnTo>
                    <a:pt x="158" y="133"/>
                  </a:lnTo>
                  <a:lnTo>
                    <a:pt x="155" y="136"/>
                  </a:lnTo>
                  <a:lnTo>
                    <a:pt x="153" y="140"/>
                  </a:lnTo>
                  <a:lnTo>
                    <a:pt x="151" y="144"/>
                  </a:lnTo>
                  <a:lnTo>
                    <a:pt x="149" y="147"/>
                  </a:lnTo>
                  <a:lnTo>
                    <a:pt x="145" y="152"/>
                  </a:lnTo>
                  <a:lnTo>
                    <a:pt x="143" y="155"/>
                  </a:lnTo>
                  <a:lnTo>
                    <a:pt x="141" y="159"/>
                  </a:lnTo>
                  <a:lnTo>
                    <a:pt x="139" y="162"/>
                  </a:lnTo>
                  <a:lnTo>
                    <a:pt x="2" y="49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4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3156120" y="3043080"/>
              <a:ext cx="45720" cy="49320"/>
            </a:xfrm>
            <a:custGeom>
              <a:avLst/>
              <a:gdLst/>
              <a:ahLst/>
              <a:rect l="l" t="t" r="r" b="b"/>
              <a:pathLst>
                <a:path w="148" h="153">
                  <a:moveTo>
                    <a:pt x="0" y="0"/>
                  </a:moveTo>
                  <a:lnTo>
                    <a:pt x="148" y="123"/>
                  </a:lnTo>
                  <a:lnTo>
                    <a:pt x="144" y="128"/>
                  </a:lnTo>
                  <a:lnTo>
                    <a:pt x="142" y="131"/>
                  </a:lnTo>
                  <a:lnTo>
                    <a:pt x="140" y="135"/>
                  </a:lnTo>
                  <a:lnTo>
                    <a:pt x="138" y="138"/>
                  </a:lnTo>
                  <a:lnTo>
                    <a:pt x="135" y="143"/>
                  </a:lnTo>
                  <a:lnTo>
                    <a:pt x="133" y="146"/>
                  </a:lnTo>
                  <a:lnTo>
                    <a:pt x="130" y="150"/>
                  </a:lnTo>
                  <a:lnTo>
                    <a:pt x="128" y="153"/>
                  </a:lnTo>
                  <a:lnTo>
                    <a:pt x="2" y="49"/>
                  </a:lnTo>
                  <a:lnTo>
                    <a:pt x="2" y="42"/>
                  </a:lnTo>
                  <a:lnTo>
                    <a:pt x="2" y="37"/>
                  </a:lnTo>
                  <a:lnTo>
                    <a:pt x="2" y="30"/>
                  </a:lnTo>
                  <a:lnTo>
                    <a:pt x="1" y="25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3156120" y="3051000"/>
              <a:ext cx="42840" cy="4608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0"/>
                  </a:moveTo>
                  <a:lnTo>
                    <a:pt x="137" y="113"/>
                  </a:lnTo>
                  <a:lnTo>
                    <a:pt x="134" y="118"/>
                  </a:lnTo>
                  <a:lnTo>
                    <a:pt x="132" y="121"/>
                  </a:lnTo>
                  <a:lnTo>
                    <a:pt x="129" y="125"/>
                  </a:lnTo>
                  <a:lnTo>
                    <a:pt x="127" y="128"/>
                  </a:lnTo>
                  <a:lnTo>
                    <a:pt x="124" y="133"/>
                  </a:lnTo>
                  <a:lnTo>
                    <a:pt x="122" y="136"/>
                  </a:lnTo>
                  <a:lnTo>
                    <a:pt x="120" y="140"/>
                  </a:lnTo>
                  <a:lnTo>
                    <a:pt x="118" y="144"/>
                  </a:lnTo>
                  <a:lnTo>
                    <a:pt x="3" y="47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3156120" y="3059280"/>
              <a:ext cx="39600" cy="42840"/>
            </a:xfrm>
            <a:custGeom>
              <a:avLst/>
              <a:gdLst/>
              <a:ahLst/>
              <a:rect l="l" t="t" r="r" b="b"/>
              <a:pathLst>
                <a:path w="126" h="135">
                  <a:moveTo>
                    <a:pt x="0" y="0"/>
                  </a:moveTo>
                  <a:lnTo>
                    <a:pt x="126" y="104"/>
                  </a:lnTo>
                  <a:lnTo>
                    <a:pt x="123" y="109"/>
                  </a:lnTo>
                  <a:lnTo>
                    <a:pt x="121" y="112"/>
                  </a:lnTo>
                  <a:lnTo>
                    <a:pt x="119" y="116"/>
                  </a:lnTo>
                  <a:lnTo>
                    <a:pt x="117" y="120"/>
                  </a:lnTo>
                  <a:lnTo>
                    <a:pt x="114" y="124"/>
                  </a:lnTo>
                  <a:lnTo>
                    <a:pt x="111" y="127"/>
                  </a:lnTo>
                  <a:lnTo>
                    <a:pt x="109" y="131"/>
                  </a:lnTo>
                  <a:lnTo>
                    <a:pt x="107" y="135"/>
                  </a:lnTo>
                  <a:lnTo>
                    <a:pt x="3" y="48"/>
                  </a:lnTo>
                  <a:lnTo>
                    <a:pt x="3" y="42"/>
                  </a:lnTo>
                  <a:lnTo>
                    <a:pt x="3" y="36"/>
                  </a:lnTo>
                  <a:lnTo>
                    <a:pt x="2" y="30"/>
                  </a:lnTo>
                  <a:lnTo>
                    <a:pt x="2" y="23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3157560" y="3067200"/>
              <a:ext cx="36360" cy="39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0" y="0"/>
                  </a:moveTo>
                  <a:lnTo>
                    <a:pt x="115" y="97"/>
                  </a:lnTo>
                  <a:lnTo>
                    <a:pt x="112" y="101"/>
                  </a:lnTo>
                  <a:lnTo>
                    <a:pt x="109" y="104"/>
                  </a:lnTo>
                  <a:lnTo>
                    <a:pt x="107" y="108"/>
                  </a:lnTo>
                  <a:lnTo>
                    <a:pt x="105" y="112"/>
                  </a:lnTo>
                  <a:lnTo>
                    <a:pt x="103" y="116"/>
                  </a:lnTo>
                  <a:lnTo>
                    <a:pt x="100" y="119"/>
                  </a:lnTo>
                  <a:lnTo>
                    <a:pt x="98" y="124"/>
                  </a:lnTo>
                  <a:lnTo>
                    <a:pt x="95" y="127"/>
                  </a:lnTo>
                  <a:lnTo>
                    <a:pt x="3" y="50"/>
                  </a:lnTo>
                  <a:lnTo>
                    <a:pt x="3" y="44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1" y="25"/>
                  </a:lnTo>
                  <a:lnTo>
                    <a:pt x="1" y="20"/>
                  </a:lnTo>
                  <a:lnTo>
                    <a:pt x="1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3157560" y="3075120"/>
              <a:ext cx="33480" cy="3636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0" y="0"/>
                  </a:moveTo>
                  <a:lnTo>
                    <a:pt x="104" y="87"/>
                  </a:lnTo>
                  <a:lnTo>
                    <a:pt x="102" y="91"/>
                  </a:lnTo>
                  <a:lnTo>
                    <a:pt x="99" y="94"/>
                  </a:lnTo>
                  <a:lnTo>
                    <a:pt x="97" y="99"/>
                  </a:lnTo>
                  <a:lnTo>
                    <a:pt x="94" y="102"/>
                  </a:lnTo>
                  <a:lnTo>
                    <a:pt x="92" y="106"/>
                  </a:lnTo>
                  <a:lnTo>
                    <a:pt x="90" y="109"/>
                  </a:lnTo>
                  <a:lnTo>
                    <a:pt x="88" y="114"/>
                  </a:lnTo>
                  <a:lnTo>
                    <a:pt x="85" y="117"/>
                  </a:lnTo>
                  <a:lnTo>
                    <a:pt x="5" y="50"/>
                  </a:lnTo>
                  <a:lnTo>
                    <a:pt x="3" y="44"/>
                  </a:lnTo>
                  <a:lnTo>
                    <a:pt x="3" y="37"/>
                  </a:lnTo>
                  <a:lnTo>
                    <a:pt x="2" y="32"/>
                  </a:lnTo>
                  <a:lnTo>
                    <a:pt x="2" y="25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3157560" y="3083040"/>
              <a:ext cx="30240" cy="3312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0" y="0"/>
                  </a:moveTo>
                  <a:lnTo>
                    <a:pt x="92" y="77"/>
                  </a:lnTo>
                  <a:lnTo>
                    <a:pt x="90" y="81"/>
                  </a:lnTo>
                  <a:lnTo>
                    <a:pt x="88" y="84"/>
                  </a:lnTo>
                  <a:lnTo>
                    <a:pt x="86" y="89"/>
                  </a:lnTo>
                  <a:lnTo>
                    <a:pt x="83" y="92"/>
                  </a:lnTo>
                  <a:lnTo>
                    <a:pt x="80" y="96"/>
                  </a:lnTo>
                  <a:lnTo>
                    <a:pt x="78" y="100"/>
                  </a:lnTo>
                  <a:lnTo>
                    <a:pt x="76" y="104"/>
                  </a:lnTo>
                  <a:lnTo>
                    <a:pt x="74" y="107"/>
                  </a:lnTo>
                  <a:lnTo>
                    <a:pt x="5" y="50"/>
                  </a:lnTo>
                  <a:lnTo>
                    <a:pt x="4" y="43"/>
                  </a:lnTo>
                  <a:lnTo>
                    <a:pt x="4" y="37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3159000" y="3090960"/>
              <a:ext cx="25560" cy="3024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0" y="0"/>
                  </a:moveTo>
                  <a:lnTo>
                    <a:pt x="80" y="67"/>
                  </a:lnTo>
                  <a:lnTo>
                    <a:pt x="77" y="71"/>
                  </a:lnTo>
                  <a:lnTo>
                    <a:pt x="75" y="75"/>
                  </a:lnTo>
                  <a:lnTo>
                    <a:pt x="73" y="79"/>
                  </a:lnTo>
                  <a:lnTo>
                    <a:pt x="71" y="82"/>
                  </a:lnTo>
                  <a:lnTo>
                    <a:pt x="69" y="86"/>
                  </a:lnTo>
                  <a:lnTo>
                    <a:pt x="66" y="90"/>
                  </a:lnTo>
                  <a:lnTo>
                    <a:pt x="63" y="94"/>
                  </a:lnTo>
                  <a:lnTo>
                    <a:pt x="61" y="97"/>
                  </a:lnTo>
                  <a:lnTo>
                    <a:pt x="4" y="50"/>
                  </a:lnTo>
                  <a:lnTo>
                    <a:pt x="3" y="43"/>
                  </a:lnTo>
                  <a:lnTo>
                    <a:pt x="3" y="37"/>
                  </a:lnTo>
                  <a:lnTo>
                    <a:pt x="2" y="30"/>
                  </a:lnTo>
                  <a:lnTo>
                    <a:pt x="2" y="25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3159000" y="3098880"/>
              <a:ext cx="22320" cy="2700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0" y="0"/>
                  </a:moveTo>
                  <a:lnTo>
                    <a:pt x="69" y="57"/>
                  </a:lnTo>
                  <a:lnTo>
                    <a:pt x="67" y="61"/>
                  </a:lnTo>
                  <a:lnTo>
                    <a:pt x="64" y="65"/>
                  </a:lnTo>
                  <a:lnTo>
                    <a:pt x="61" y="69"/>
                  </a:lnTo>
                  <a:lnTo>
                    <a:pt x="59" y="72"/>
                  </a:lnTo>
                  <a:lnTo>
                    <a:pt x="57" y="77"/>
                  </a:lnTo>
                  <a:lnTo>
                    <a:pt x="55" y="80"/>
                  </a:lnTo>
                  <a:lnTo>
                    <a:pt x="53" y="84"/>
                  </a:lnTo>
                  <a:lnTo>
                    <a:pt x="50" y="87"/>
                  </a:lnTo>
                  <a:lnTo>
                    <a:pt x="4" y="50"/>
                  </a:lnTo>
                  <a:lnTo>
                    <a:pt x="3" y="43"/>
                  </a:lnTo>
                  <a:lnTo>
                    <a:pt x="3" y="37"/>
                  </a:lnTo>
                  <a:lnTo>
                    <a:pt x="2" y="30"/>
                  </a:lnTo>
                  <a:lnTo>
                    <a:pt x="2" y="25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3160800" y="3106800"/>
              <a:ext cx="17280" cy="2520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0" y="0"/>
                  </a:moveTo>
                  <a:lnTo>
                    <a:pt x="57" y="47"/>
                  </a:lnTo>
                  <a:lnTo>
                    <a:pt x="55" y="52"/>
                  </a:lnTo>
                  <a:lnTo>
                    <a:pt x="53" y="55"/>
                  </a:lnTo>
                  <a:lnTo>
                    <a:pt x="51" y="59"/>
                  </a:lnTo>
                  <a:lnTo>
                    <a:pt x="48" y="63"/>
                  </a:lnTo>
                  <a:lnTo>
                    <a:pt x="45" y="67"/>
                  </a:lnTo>
                  <a:lnTo>
                    <a:pt x="43" y="71"/>
                  </a:lnTo>
                  <a:lnTo>
                    <a:pt x="41" y="74"/>
                  </a:lnTo>
                  <a:lnTo>
                    <a:pt x="39" y="79"/>
                  </a:lnTo>
                  <a:lnTo>
                    <a:pt x="4" y="49"/>
                  </a:lnTo>
                  <a:lnTo>
                    <a:pt x="4" y="43"/>
                  </a:lnTo>
                  <a:lnTo>
                    <a:pt x="3" y="38"/>
                  </a:lnTo>
                  <a:lnTo>
                    <a:pt x="3" y="31"/>
                  </a:lnTo>
                  <a:lnTo>
                    <a:pt x="2" y="25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3160800" y="3114720"/>
              <a:ext cx="14040" cy="2232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0" y="0"/>
                  </a:moveTo>
                  <a:lnTo>
                    <a:pt x="46" y="37"/>
                  </a:lnTo>
                  <a:lnTo>
                    <a:pt x="43" y="42"/>
                  </a:lnTo>
                  <a:lnTo>
                    <a:pt x="41" y="46"/>
                  </a:lnTo>
                  <a:lnTo>
                    <a:pt x="39" y="49"/>
                  </a:lnTo>
                  <a:lnTo>
                    <a:pt x="37" y="54"/>
                  </a:lnTo>
                  <a:lnTo>
                    <a:pt x="35" y="57"/>
                  </a:lnTo>
                  <a:lnTo>
                    <a:pt x="32" y="61"/>
                  </a:lnTo>
                  <a:lnTo>
                    <a:pt x="30" y="64"/>
                  </a:lnTo>
                  <a:lnTo>
                    <a:pt x="28" y="69"/>
                  </a:lnTo>
                  <a:lnTo>
                    <a:pt x="5" y="50"/>
                  </a:lnTo>
                  <a:lnTo>
                    <a:pt x="4" y="44"/>
                  </a:lnTo>
                  <a:lnTo>
                    <a:pt x="4" y="37"/>
                  </a:lnTo>
                  <a:lnTo>
                    <a:pt x="3" y="31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1" y="13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3160800" y="3122640"/>
              <a:ext cx="11160" cy="1908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0"/>
                  </a:moveTo>
                  <a:lnTo>
                    <a:pt x="35" y="30"/>
                  </a:lnTo>
                  <a:lnTo>
                    <a:pt x="33" y="33"/>
                  </a:lnTo>
                  <a:lnTo>
                    <a:pt x="30" y="37"/>
                  </a:lnTo>
                  <a:lnTo>
                    <a:pt x="28" y="40"/>
                  </a:lnTo>
                  <a:lnTo>
                    <a:pt x="26" y="45"/>
                  </a:lnTo>
                  <a:lnTo>
                    <a:pt x="23" y="48"/>
                  </a:lnTo>
                  <a:lnTo>
                    <a:pt x="21" y="52"/>
                  </a:lnTo>
                  <a:lnTo>
                    <a:pt x="18" y="57"/>
                  </a:lnTo>
                  <a:lnTo>
                    <a:pt x="16" y="60"/>
                  </a:lnTo>
                  <a:lnTo>
                    <a:pt x="7" y="51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3" y="26"/>
                  </a:lnTo>
                  <a:lnTo>
                    <a:pt x="2" y="20"/>
                  </a:lnTo>
                  <a:lnTo>
                    <a:pt x="2" y="13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3162240" y="3130560"/>
              <a:ext cx="7920" cy="1440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0"/>
                  </a:moveTo>
                  <a:lnTo>
                    <a:pt x="23" y="19"/>
                  </a:lnTo>
                  <a:lnTo>
                    <a:pt x="21" y="22"/>
                  </a:lnTo>
                  <a:lnTo>
                    <a:pt x="19" y="25"/>
                  </a:lnTo>
                  <a:lnTo>
                    <a:pt x="17" y="30"/>
                  </a:lnTo>
                  <a:lnTo>
                    <a:pt x="14" y="33"/>
                  </a:lnTo>
                  <a:lnTo>
                    <a:pt x="12" y="36"/>
                  </a:lnTo>
                  <a:lnTo>
                    <a:pt x="10" y="39"/>
                  </a:lnTo>
                  <a:lnTo>
                    <a:pt x="8" y="44"/>
                  </a:lnTo>
                  <a:lnTo>
                    <a:pt x="6" y="47"/>
                  </a:lnTo>
                  <a:lnTo>
                    <a:pt x="5" y="41"/>
                  </a:lnTo>
                  <a:lnTo>
                    <a:pt x="5" y="35"/>
                  </a:lnTo>
                  <a:lnTo>
                    <a:pt x="4" y="30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1" y="12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3164040" y="3138480"/>
              <a:ext cx="2880" cy="648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0" y="0"/>
                  </a:moveTo>
                  <a:lnTo>
                    <a:pt x="9" y="9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5" y="17"/>
                  </a:lnTo>
                  <a:lnTo>
                    <a:pt x="4" y="19"/>
                  </a:lnTo>
                  <a:lnTo>
                    <a:pt x="3" y="20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4" name=""/>
            <p:cNvGrpSpPr/>
            <p:nvPr/>
          </p:nvGrpSpPr>
          <p:grpSpPr>
            <a:xfrm>
              <a:off x="2693880" y="1746360"/>
              <a:ext cx="1882800" cy="3752640"/>
              <a:chOff x="2693880" y="1746360"/>
              <a:chExt cx="1882800" cy="3752640"/>
            </a:xfrm>
          </p:grpSpPr>
          <p:sp>
            <p:nvSpPr>
              <p:cNvPr id="6085" name=""/>
              <p:cNvSpPr/>
              <p:nvPr/>
            </p:nvSpPr>
            <p:spPr>
              <a:xfrm>
                <a:off x="3390840" y="1746360"/>
                <a:ext cx="979560" cy="979200"/>
              </a:xfrm>
              <a:custGeom>
                <a:avLst/>
                <a:gdLst/>
                <a:ahLst/>
                <a:rect l="l" t="t" r="r" b="b"/>
                <a:pathLst>
                  <a:path w="3084" h="3087">
                    <a:moveTo>
                      <a:pt x="1415" y="4"/>
                    </a:moveTo>
                    <a:lnTo>
                      <a:pt x="1336" y="13"/>
                    </a:lnTo>
                    <a:lnTo>
                      <a:pt x="1260" y="26"/>
                    </a:lnTo>
                    <a:lnTo>
                      <a:pt x="1183" y="41"/>
                    </a:lnTo>
                    <a:lnTo>
                      <a:pt x="1109" y="62"/>
                    </a:lnTo>
                    <a:lnTo>
                      <a:pt x="1036" y="84"/>
                    </a:lnTo>
                    <a:lnTo>
                      <a:pt x="965" y="111"/>
                    </a:lnTo>
                    <a:lnTo>
                      <a:pt x="896" y="142"/>
                    </a:lnTo>
                    <a:lnTo>
                      <a:pt x="828" y="175"/>
                    </a:lnTo>
                    <a:lnTo>
                      <a:pt x="762" y="212"/>
                    </a:lnTo>
                    <a:lnTo>
                      <a:pt x="700" y="251"/>
                    </a:lnTo>
                    <a:lnTo>
                      <a:pt x="638" y="294"/>
                    </a:lnTo>
                    <a:lnTo>
                      <a:pt x="579" y="338"/>
                    </a:lnTo>
                    <a:lnTo>
                      <a:pt x="521" y="387"/>
                    </a:lnTo>
                    <a:lnTo>
                      <a:pt x="468" y="438"/>
                    </a:lnTo>
                    <a:lnTo>
                      <a:pt x="416" y="491"/>
                    </a:lnTo>
                    <a:lnTo>
                      <a:pt x="366" y="546"/>
                    </a:lnTo>
                    <a:lnTo>
                      <a:pt x="320" y="603"/>
                    </a:lnTo>
                    <a:lnTo>
                      <a:pt x="276" y="664"/>
                    </a:lnTo>
                    <a:lnTo>
                      <a:pt x="235" y="725"/>
                    </a:lnTo>
                    <a:lnTo>
                      <a:pt x="198" y="789"/>
                    </a:lnTo>
                    <a:lnTo>
                      <a:pt x="162" y="855"/>
                    </a:lnTo>
                    <a:lnTo>
                      <a:pt x="131" y="923"/>
                    </a:lnTo>
                    <a:lnTo>
                      <a:pt x="102" y="992"/>
                    </a:lnTo>
                    <a:lnTo>
                      <a:pt x="77" y="1062"/>
                    </a:lnTo>
                    <a:lnTo>
                      <a:pt x="55" y="1135"/>
                    </a:lnTo>
                    <a:lnTo>
                      <a:pt x="37" y="1208"/>
                    </a:lnTo>
                    <a:lnTo>
                      <a:pt x="22" y="1283"/>
                    </a:lnTo>
                    <a:lnTo>
                      <a:pt x="11" y="1358"/>
                    </a:lnTo>
                    <a:lnTo>
                      <a:pt x="3" y="1435"/>
                    </a:lnTo>
                    <a:lnTo>
                      <a:pt x="0" y="1513"/>
                    </a:lnTo>
                    <a:lnTo>
                      <a:pt x="0" y="1591"/>
                    </a:lnTo>
                    <a:lnTo>
                      <a:pt x="4" y="1671"/>
                    </a:lnTo>
                    <a:lnTo>
                      <a:pt x="13" y="1750"/>
                    </a:lnTo>
                    <a:lnTo>
                      <a:pt x="25" y="1826"/>
                    </a:lnTo>
                    <a:lnTo>
                      <a:pt x="41" y="1903"/>
                    </a:lnTo>
                    <a:lnTo>
                      <a:pt x="62" y="1978"/>
                    </a:lnTo>
                    <a:lnTo>
                      <a:pt x="84" y="2050"/>
                    </a:lnTo>
                    <a:lnTo>
                      <a:pt x="111" y="2121"/>
                    </a:lnTo>
                    <a:lnTo>
                      <a:pt x="142" y="2190"/>
                    </a:lnTo>
                    <a:lnTo>
                      <a:pt x="175" y="2259"/>
                    </a:lnTo>
                    <a:lnTo>
                      <a:pt x="212" y="2324"/>
                    </a:lnTo>
                    <a:lnTo>
                      <a:pt x="251" y="2387"/>
                    </a:lnTo>
                    <a:lnTo>
                      <a:pt x="293" y="2449"/>
                    </a:lnTo>
                    <a:lnTo>
                      <a:pt x="338" y="2508"/>
                    </a:lnTo>
                    <a:lnTo>
                      <a:pt x="387" y="2565"/>
                    </a:lnTo>
                    <a:lnTo>
                      <a:pt x="436" y="2619"/>
                    </a:lnTo>
                    <a:lnTo>
                      <a:pt x="490" y="2671"/>
                    </a:lnTo>
                    <a:lnTo>
                      <a:pt x="545" y="2721"/>
                    </a:lnTo>
                    <a:lnTo>
                      <a:pt x="602" y="2768"/>
                    </a:lnTo>
                    <a:lnTo>
                      <a:pt x="663" y="2811"/>
                    </a:lnTo>
                    <a:lnTo>
                      <a:pt x="724" y="2852"/>
                    </a:lnTo>
                    <a:lnTo>
                      <a:pt x="788" y="2890"/>
                    </a:lnTo>
                    <a:lnTo>
                      <a:pt x="854" y="2925"/>
                    </a:lnTo>
                    <a:lnTo>
                      <a:pt x="921" y="2957"/>
                    </a:lnTo>
                    <a:lnTo>
                      <a:pt x="990" y="2986"/>
                    </a:lnTo>
                    <a:lnTo>
                      <a:pt x="1061" y="3011"/>
                    </a:lnTo>
                    <a:lnTo>
                      <a:pt x="1133" y="3032"/>
                    </a:lnTo>
                    <a:lnTo>
                      <a:pt x="1207" y="3051"/>
                    </a:lnTo>
                    <a:lnTo>
                      <a:pt x="1281" y="3066"/>
                    </a:lnTo>
                    <a:lnTo>
                      <a:pt x="1357" y="3077"/>
                    </a:lnTo>
                    <a:lnTo>
                      <a:pt x="1433" y="3084"/>
                    </a:lnTo>
                    <a:lnTo>
                      <a:pt x="1511" y="3087"/>
                    </a:lnTo>
                    <a:lnTo>
                      <a:pt x="1589" y="3087"/>
                    </a:lnTo>
                    <a:lnTo>
                      <a:pt x="1669" y="3083"/>
                    </a:lnTo>
                    <a:lnTo>
                      <a:pt x="1748" y="3074"/>
                    </a:lnTo>
                    <a:lnTo>
                      <a:pt x="1824" y="3063"/>
                    </a:lnTo>
                    <a:lnTo>
                      <a:pt x="1901" y="3046"/>
                    </a:lnTo>
                    <a:lnTo>
                      <a:pt x="1975" y="3026"/>
                    </a:lnTo>
                    <a:lnTo>
                      <a:pt x="2048" y="3003"/>
                    </a:lnTo>
                    <a:lnTo>
                      <a:pt x="2119" y="2976"/>
                    </a:lnTo>
                    <a:lnTo>
                      <a:pt x="2188" y="2946"/>
                    </a:lnTo>
                    <a:lnTo>
                      <a:pt x="2256" y="2912"/>
                    </a:lnTo>
                    <a:lnTo>
                      <a:pt x="2322" y="2876"/>
                    </a:lnTo>
                    <a:lnTo>
                      <a:pt x="2384" y="2837"/>
                    </a:lnTo>
                    <a:lnTo>
                      <a:pt x="2446" y="2795"/>
                    </a:lnTo>
                    <a:lnTo>
                      <a:pt x="2505" y="2749"/>
                    </a:lnTo>
                    <a:lnTo>
                      <a:pt x="2562" y="2701"/>
                    </a:lnTo>
                    <a:lnTo>
                      <a:pt x="2616" y="2651"/>
                    </a:lnTo>
                    <a:lnTo>
                      <a:pt x="2668" y="2597"/>
                    </a:lnTo>
                    <a:lnTo>
                      <a:pt x="2718" y="2542"/>
                    </a:lnTo>
                    <a:lnTo>
                      <a:pt x="2764" y="2484"/>
                    </a:lnTo>
                    <a:lnTo>
                      <a:pt x="2807" y="2424"/>
                    </a:lnTo>
                    <a:lnTo>
                      <a:pt x="2848" y="2362"/>
                    </a:lnTo>
                    <a:lnTo>
                      <a:pt x="2886" y="2299"/>
                    </a:lnTo>
                    <a:lnTo>
                      <a:pt x="2922" y="2233"/>
                    </a:lnTo>
                    <a:lnTo>
                      <a:pt x="2953" y="2166"/>
                    </a:lnTo>
                    <a:lnTo>
                      <a:pt x="2982" y="2096"/>
                    </a:lnTo>
                    <a:lnTo>
                      <a:pt x="3007" y="2025"/>
                    </a:lnTo>
                    <a:lnTo>
                      <a:pt x="3029" y="1953"/>
                    </a:lnTo>
                    <a:lnTo>
                      <a:pt x="3047" y="1879"/>
                    </a:lnTo>
                    <a:lnTo>
                      <a:pt x="3062" y="1805"/>
                    </a:lnTo>
                    <a:lnTo>
                      <a:pt x="3073" y="1729"/>
                    </a:lnTo>
                    <a:lnTo>
                      <a:pt x="3080" y="1652"/>
                    </a:lnTo>
                    <a:lnTo>
                      <a:pt x="3084" y="1575"/>
                    </a:lnTo>
                    <a:lnTo>
                      <a:pt x="3084" y="1497"/>
                    </a:lnTo>
                    <a:lnTo>
                      <a:pt x="3079" y="1417"/>
                    </a:lnTo>
                    <a:lnTo>
                      <a:pt x="3071" y="1338"/>
                    </a:lnTo>
                    <a:lnTo>
                      <a:pt x="3059" y="1261"/>
                    </a:lnTo>
                    <a:lnTo>
                      <a:pt x="3043" y="1184"/>
                    </a:lnTo>
                    <a:lnTo>
                      <a:pt x="3022" y="1110"/>
                    </a:lnTo>
                    <a:lnTo>
                      <a:pt x="3000" y="1037"/>
                    </a:lnTo>
                    <a:lnTo>
                      <a:pt x="2973" y="966"/>
                    </a:lnTo>
                    <a:lnTo>
                      <a:pt x="2942" y="897"/>
                    </a:lnTo>
                    <a:lnTo>
                      <a:pt x="2909" y="829"/>
                    </a:lnTo>
                    <a:lnTo>
                      <a:pt x="2872" y="763"/>
                    </a:lnTo>
                    <a:lnTo>
                      <a:pt x="2833" y="700"/>
                    </a:lnTo>
                    <a:lnTo>
                      <a:pt x="2790" y="639"/>
                    </a:lnTo>
                    <a:lnTo>
                      <a:pt x="2746" y="579"/>
                    </a:lnTo>
                    <a:lnTo>
                      <a:pt x="2697" y="522"/>
                    </a:lnTo>
                    <a:lnTo>
                      <a:pt x="2647" y="468"/>
                    </a:lnTo>
                    <a:lnTo>
                      <a:pt x="2594" y="416"/>
                    </a:lnTo>
                    <a:lnTo>
                      <a:pt x="2539" y="366"/>
                    </a:lnTo>
                    <a:lnTo>
                      <a:pt x="2481" y="320"/>
                    </a:lnTo>
                    <a:lnTo>
                      <a:pt x="2421" y="277"/>
                    </a:lnTo>
                    <a:lnTo>
                      <a:pt x="2359" y="236"/>
                    </a:lnTo>
                    <a:lnTo>
                      <a:pt x="2296" y="198"/>
                    </a:lnTo>
                    <a:lnTo>
                      <a:pt x="2230" y="162"/>
                    </a:lnTo>
                    <a:lnTo>
                      <a:pt x="2163" y="131"/>
                    </a:lnTo>
                    <a:lnTo>
                      <a:pt x="2094" y="102"/>
                    </a:lnTo>
                    <a:lnTo>
                      <a:pt x="2023" y="77"/>
                    </a:lnTo>
                    <a:lnTo>
                      <a:pt x="1950" y="55"/>
                    </a:lnTo>
                    <a:lnTo>
                      <a:pt x="1877" y="37"/>
                    </a:lnTo>
                    <a:lnTo>
                      <a:pt x="1803" y="22"/>
                    </a:lnTo>
                    <a:lnTo>
                      <a:pt x="1727" y="11"/>
                    </a:lnTo>
                    <a:lnTo>
                      <a:pt x="1650" y="3"/>
                    </a:lnTo>
                    <a:lnTo>
                      <a:pt x="1573" y="0"/>
                    </a:lnTo>
                    <a:lnTo>
                      <a:pt x="1495" y="0"/>
                    </a:lnTo>
                    <a:lnTo>
                      <a:pt x="1415" y="4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3438360" y="2436840"/>
                <a:ext cx="90720" cy="30240"/>
              </a:xfrm>
              <a:custGeom>
                <a:avLst/>
                <a:gdLst/>
                <a:ahLst/>
                <a:rect l="l" t="t" r="r" b="b"/>
                <a:pathLst>
                  <a:path w="282" h="93">
                    <a:moveTo>
                      <a:pt x="97" y="86"/>
                    </a:moveTo>
                    <a:lnTo>
                      <a:pt x="88" y="83"/>
                    </a:lnTo>
                    <a:lnTo>
                      <a:pt x="24" y="85"/>
                    </a:lnTo>
                    <a:lnTo>
                      <a:pt x="24" y="85"/>
                    </a:lnTo>
                    <a:lnTo>
                      <a:pt x="21" y="79"/>
                    </a:lnTo>
                    <a:lnTo>
                      <a:pt x="18" y="73"/>
                    </a:lnTo>
                    <a:lnTo>
                      <a:pt x="15" y="67"/>
                    </a:lnTo>
                    <a:lnTo>
                      <a:pt x="12" y="61"/>
                    </a:lnTo>
                    <a:lnTo>
                      <a:pt x="9" y="56"/>
                    </a:lnTo>
                    <a:lnTo>
                      <a:pt x="7" y="49"/>
                    </a:lnTo>
                    <a:lnTo>
                      <a:pt x="4" y="44"/>
                    </a:lnTo>
                    <a:lnTo>
                      <a:pt x="0" y="37"/>
                    </a:lnTo>
                    <a:lnTo>
                      <a:pt x="101" y="37"/>
                    </a:lnTo>
                    <a:lnTo>
                      <a:pt x="107" y="39"/>
                    </a:lnTo>
                    <a:lnTo>
                      <a:pt x="108" y="40"/>
                    </a:lnTo>
                    <a:lnTo>
                      <a:pt x="136" y="40"/>
                    </a:lnTo>
                    <a:lnTo>
                      <a:pt x="135" y="29"/>
                    </a:lnTo>
                    <a:lnTo>
                      <a:pt x="131" y="29"/>
                    </a:lnTo>
                    <a:lnTo>
                      <a:pt x="131" y="14"/>
                    </a:lnTo>
                    <a:lnTo>
                      <a:pt x="122" y="14"/>
                    </a:lnTo>
                    <a:lnTo>
                      <a:pt x="106" y="36"/>
                    </a:lnTo>
                    <a:lnTo>
                      <a:pt x="106" y="39"/>
                    </a:lnTo>
                    <a:lnTo>
                      <a:pt x="107" y="39"/>
                    </a:lnTo>
                    <a:lnTo>
                      <a:pt x="101" y="37"/>
                    </a:lnTo>
                    <a:lnTo>
                      <a:pt x="127" y="3"/>
                    </a:lnTo>
                    <a:lnTo>
                      <a:pt x="131" y="0"/>
                    </a:lnTo>
                    <a:lnTo>
                      <a:pt x="136" y="3"/>
                    </a:lnTo>
                    <a:lnTo>
                      <a:pt x="140" y="7"/>
                    </a:lnTo>
                    <a:lnTo>
                      <a:pt x="142" y="48"/>
                    </a:lnTo>
                    <a:lnTo>
                      <a:pt x="210" y="48"/>
                    </a:lnTo>
                    <a:lnTo>
                      <a:pt x="217" y="45"/>
                    </a:lnTo>
                    <a:lnTo>
                      <a:pt x="265" y="44"/>
                    </a:lnTo>
                    <a:lnTo>
                      <a:pt x="270" y="36"/>
                    </a:lnTo>
                    <a:lnTo>
                      <a:pt x="279" y="36"/>
                    </a:lnTo>
                    <a:lnTo>
                      <a:pt x="279" y="44"/>
                    </a:lnTo>
                    <a:lnTo>
                      <a:pt x="282" y="44"/>
                    </a:lnTo>
                    <a:lnTo>
                      <a:pt x="282" y="64"/>
                    </a:lnTo>
                    <a:lnTo>
                      <a:pt x="269" y="64"/>
                    </a:lnTo>
                    <a:lnTo>
                      <a:pt x="263" y="61"/>
                    </a:lnTo>
                    <a:lnTo>
                      <a:pt x="142" y="61"/>
                    </a:lnTo>
                    <a:lnTo>
                      <a:pt x="142" y="66"/>
                    </a:lnTo>
                    <a:lnTo>
                      <a:pt x="131" y="66"/>
                    </a:lnTo>
                    <a:lnTo>
                      <a:pt x="131" y="64"/>
                    </a:lnTo>
                    <a:lnTo>
                      <a:pt x="110" y="64"/>
                    </a:lnTo>
                    <a:lnTo>
                      <a:pt x="110" y="75"/>
                    </a:lnTo>
                    <a:lnTo>
                      <a:pt x="104" y="75"/>
                    </a:lnTo>
                    <a:lnTo>
                      <a:pt x="97" y="86"/>
                    </a:lnTo>
                    <a:close/>
                    <a:moveTo>
                      <a:pt x="26" y="88"/>
                    </a:moveTo>
                    <a:lnTo>
                      <a:pt x="91" y="90"/>
                    </a:lnTo>
                    <a:lnTo>
                      <a:pt x="86" y="93"/>
                    </a:lnTo>
                    <a:lnTo>
                      <a:pt x="28" y="93"/>
                    </a:lnTo>
                    <a:lnTo>
                      <a:pt x="28" y="92"/>
                    </a:lnTo>
                    <a:lnTo>
                      <a:pt x="28" y="91"/>
                    </a:lnTo>
                    <a:lnTo>
                      <a:pt x="27" y="91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6" y="89"/>
                    </a:lnTo>
                    <a:lnTo>
                      <a:pt x="26" y="89"/>
                    </a:lnTo>
                    <a:lnTo>
                      <a:pt x="26" y="8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3503520" y="1811160"/>
                <a:ext cx="250920" cy="247680"/>
              </a:xfrm>
              <a:custGeom>
                <a:avLst/>
                <a:gdLst/>
                <a:ahLst/>
                <a:rect l="l" t="t" r="r" b="b"/>
                <a:pathLst>
                  <a:path w="788" h="784">
                    <a:moveTo>
                      <a:pt x="417" y="316"/>
                    </a:moveTo>
                    <a:lnTo>
                      <a:pt x="432" y="305"/>
                    </a:lnTo>
                    <a:lnTo>
                      <a:pt x="445" y="296"/>
                    </a:lnTo>
                    <a:lnTo>
                      <a:pt x="458" y="290"/>
                    </a:lnTo>
                    <a:lnTo>
                      <a:pt x="472" y="283"/>
                    </a:lnTo>
                    <a:lnTo>
                      <a:pt x="446" y="267"/>
                    </a:lnTo>
                    <a:lnTo>
                      <a:pt x="434" y="259"/>
                    </a:lnTo>
                    <a:lnTo>
                      <a:pt x="421" y="249"/>
                    </a:lnTo>
                    <a:lnTo>
                      <a:pt x="422" y="265"/>
                    </a:lnTo>
                    <a:lnTo>
                      <a:pt x="419" y="281"/>
                    </a:lnTo>
                    <a:lnTo>
                      <a:pt x="417" y="316"/>
                    </a:lnTo>
                    <a:close/>
                    <a:moveTo>
                      <a:pt x="417" y="0"/>
                    </a:moveTo>
                    <a:lnTo>
                      <a:pt x="372" y="28"/>
                    </a:lnTo>
                    <a:lnTo>
                      <a:pt x="328" y="56"/>
                    </a:lnTo>
                    <a:lnTo>
                      <a:pt x="284" y="87"/>
                    </a:lnTo>
                    <a:lnTo>
                      <a:pt x="242" y="118"/>
                    </a:lnTo>
                    <a:lnTo>
                      <a:pt x="201" y="150"/>
                    </a:lnTo>
                    <a:lnTo>
                      <a:pt x="161" y="185"/>
                    </a:lnTo>
                    <a:lnTo>
                      <a:pt x="124" y="221"/>
                    </a:lnTo>
                    <a:lnTo>
                      <a:pt x="86" y="256"/>
                    </a:lnTo>
                    <a:lnTo>
                      <a:pt x="78" y="290"/>
                    </a:lnTo>
                    <a:lnTo>
                      <a:pt x="81" y="304"/>
                    </a:lnTo>
                    <a:lnTo>
                      <a:pt x="85" y="318"/>
                    </a:lnTo>
                    <a:lnTo>
                      <a:pt x="80" y="316"/>
                    </a:lnTo>
                    <a:lnTo>
                      <a:pt x="77" y="315"/>
                    </a:lnTo>
                    <a:lnTo>
                      <a:pt x="74" y="314"/>
                    </a:lnTo>
                    <a:lnTo>
                      <a:pt x="62" y="315"/>
                    </a:lnTo>
                    <a:lnTo>
                      <a:pt x="62" y="321"/>
                    </a:lnTo>
                    <a:lnTo>
                      <a:pt x="72" y="320"/>
                    </a:lnTo>
                    <a:lnTo>
                      <a:pt x="73" y="326"/>
                    </a:lnTo>
                    <a:lnTo>
                      <a:pt x="71" y="329"/>
                    </a:lnTo>
                    <a:lnTo>
                      <a:pt x="66" y="331"/>
                    </a:lnTo>
                    <a:lnTo>
                      <a:pt x="62" y="331"/>
                    </a:lnTo>
                    <a:lnTo>
                      <a:pt x="58" y="329"/>
                    </a:lnTo>
                    <a:lnTo>
                      <a:pt x="61" y="327"/>
                    </a:lnTo>
                    <a:lnTo>
                      <a:pt x="62" y="321"/>
                    </a:lnTo>
                    <a:lnTo>
                      <a:pt x="62" y="315"/>
                    </a:lnTo>
                    <a:lnTo>
                      <a:pt x="61" y="307"/>
                    </a:lnTo>
                    <a:lnTo>
                      <a:pt x="59" y="303"/>
                    </a:lnTo>
                    <a:lnTo>
                      <a:pt x="57" y="300"/>
                    </a:lnTo>
                    <a:lnTo>
                      <a:pt x="54" y="300"/>
                    </a:lnTo>
                    <a:lnTo>
                      <a:pt x="54" y="295"/>
                    </a:lnTo>
                    <a:lnTo>
                      <a:pt x="49" y="295"/>
                    </a:lnTo>
                    <a:lnTo>
                      <a:pt x="47" y="299"/>
                    </a:lnTo>
                    <a:lnTo>
                      <a:pt x="44" y="303"/>
                    </a:lnTo>
                    <a:lnTo>
                      <a:pt x="40" y="306"/>
                    </a:lnTo>
                    <a:lnTo>
                      <a:pt x="37" y="309"/>
                    </a:lnTo>
                    <a:lnTo>
                      <a:pt x="34" y="313"/>
                    </a:lnTo>
                    <a:lnTo>
                      <a:pt x="31" y="316"/>
                    </a:lnTo>
                    <a:lnTo>
                      <a:pt x="27" y="319"/>
                    </a:lnTo>
                    <a:lnTo>
                      <a:pt x="25" y="322"/>
                    </a:lnTo>
                    <a:lnTo>
                      <a:pt x="30" y="331"/>
                    </a:lnTo>
                    <a:lnTo>
                      <a:pt x="17" y="335"/>
                    </a:lnTo>
                    <a:lnTo>
                      <a:pt x="13" y="340"/>
                    </a:lnTo>
                    <a:lnTo>
                      <a:pt x="12" y="345"/>
                    </a:lnTo>
                    <a:lnTo>
                      <a:pt x="10" y="353"/>
                    </a:lnTo>
                    <a:lnTo>
                      <a:pt x="7" y="358"/>
                    </a:lnTo>
                    <a:lnTo>
                      <a:pt x="6" y="363"/>
                    </a:lnTo>
                    <a:lnTo>
                      <a:pt x="2" y="373"/>
                    </a:lnTo>
                    <a:lnTo>
                      <a:pt x="0" y="385"/>
                    </a:lnTo>
                    <a:lnTo>
                      <a:pt x="7" y="386"/>
                    </a:lnTo>
                    <a:lnTo>
                      <a:pt x="7" y="407"/>
                    </a:lnTo>
                    <a:lnTo>
                      <a:pt x="2" y="408"/>
                    </a:lnTo>
                    <a:lnTo>
                      <a:pt x="8" y="456"/>
                    </a:lnTo>
                    <a:lnTo>
                      <a:pt x="12" y="458"/>
                    </a:lnTo>
                    <a:lnTo>
                      <a:pt x="16" y="467"/>
                    </a:lnTo>
                    <a:lnTo>
                      <a:pt x="20" y="474"/>
                    </a:lnTo>
                    <a:lnTo>
                      <a:pt x="24" y="482"/>
                    </a:lnTo>
                    <a:lnTo>
                      <a:pt x="31" y="487"/>
                    </a:lnTo>
                    <a:lnTo>
                      <a:pt x="36" y="491"/>
                    </a:lnTo>
                    <a:lnTo>
                      <a:pt x="44" y="492"/>
                    </a:lnTo>
                    <a:lnTo>
                      <a:pt x="50" y="491"/>
                    </a:lnTo>
                    <a:lnTo>
                      <a:pt x="51" y="495"/>
                    </a:lnTo>
                    <a:lnTo>
                      <a:pt x="54" y="502"/>
                    </a:lnTo>
                    <a:lnTo>
                      <a:pt x="59" y="504"/>
                    </a:lnTo>
                    <a:lnTo>
                      <a:pt x="66" y="506"/>
                    </a:lnTo>
                    <a:lnTo>
                      <a:pt x="75" y="505"/>
                    </a:lnTo>
                    <a:lnTo>
                      <a:pt x="64" y="535"/>
                    </a:lnTo>
                    <a:lnTo>
                      <a:pt x="54" y="548"/>
                    </a:lnTo>
                    <a:lnTo>
                      <a:pt x="75" y="563"/>
                    </a:lnTo>
                    <a:lnTo>
                      <a:pt x="77" y="576"/>
                    </a:lnTo>
                    <a:lnTo>
                      <a:pt x="79" y="589"/>
                    </a:lnTo>
                    <a:lnTo>
                      <a:pt x="73" y="599"/>
                    </a:lnTo>
                    <a:lnTo>
                      <a:pt x="68" y="622"/>
                    </a:lnTo>
                    <a:lnTo>
                      <a:pt x="59" y="639"/>
                    </a:lnTo>
                    <a:lnTo>
                      <a:pt x="62" y="670"/>
                    </a:lnTo>
                    <a:lnTo>
                      <a:pt x="62" y="689"/>
                    </a:lnTo>
                    <a:lnTo>
                      <a:pt x="65" y="708"/>
                    </a:lnTo>
                    <a:lnTo>
                      <a:pt x="71" y="723"/>
                    </a:lnTo>
                    <a:lnTo>
                      <a:pt x="76" y="742"/>
                    </a:lnTo>
                    <a:lnTo>
                      <a:pt x="86" y="757"/>
                    </a:lnTo>
                    <a:lnTo>
                      <a:pt x="94" y="760"/>
                    </a:lnTo>
                    <a:lnTo>
                      <a:pt x="102" y="766"/>
                    </a:lnTo>
                    <a:lnTo>
                      <a:pt x="112" y="775"/>
                    </a:lnTo>
                    <a:lnTo>
                      <a:pt x="126" y="779"/>
                    </a:lnTo>
                    <a:lnTo>
                      <a:pt x="143" y="784"/>
                    </a:lnTo>
                    <a:lnTo>
                      <a:pt x="161" y="784"/>
                    </a:lnTo>
                    <a:lnTo>
                      <a:pt x="182" y="778"/>
                    </a:lnTo>
                    <a:lnTo>
                      <a:pt x="196" y="771"/>
                    </a:lnTo>
                    <a:lnTo>
                      <a:pt x="206" y="763"/>
                    </a:lnTo>
                    <a:lnTo>
                      <a:pt x="211" y="753"/>
                    </a:lnTo>
                    <a:lnTo>
                      <a:pt x="214" y="744"/>
                    </a:lnTo>
                    <a:lnTo>
                      <a:pt x="222" y="734"/>
                    </a:lnTo>
                    <a:lnTo>
                      <a:pt x="229" y="723"/>
                    </a:lnTo>
                    <a:lnTo>
                      <a:pt x="237" y="709"/>
                    </a:lnTo>
                    <a:lnTo>
                      <a:pt x="241" y="696"/>
                    </a:lnTo>
                    <a:lnTo>
                      <a:pt x="245" y="682"/>
                    </a:lnTo>
                    <a:lnTo>
                      <a:pt x="248" y="669"/>
                    </a:lnTo>
                    <a:lnTo>
                      <a:pt x="250" y="653"/>
                    </a:lnTo>
                    <a:lnTo>
                      <a:pt x="251" y="637"/>
                    </a:lnTo>
                    <a:lnTo>
                      <a:pt x="265" y="581"/>
                    </a:lnTo>
                    <a:lnTo>
                      <a:pt x="281" y="576"/>
                    </a:lnTo>
                    <a:lnTo>
                      <a:pt x="297" y="569"/>
                    </a:lnTo>
                    <a:lnTo>
                      <a:pt x="315" y="562"/>
                    </a:lnTo>
                    <a:lnTo>
                      <a:pt x="333" y="552"/>
                    </a:lnTo>
                    <a:lnTo>
                      <a:pt x="351" y="541"/>
                    </a:lnTo>
                    <a:lnTo>
                      <a:pt x="367" y="530"/>
                    </a:lnTo>
                    <a:lnTo>
                      <a:pt x="384" y="516"/>
                    </a:lnTo>
                    <a:lnTo>
                      <a:pt x="397" y="505"/>
                    </a:lnTo>
                    <a:lnTo>
                      <a:pt x="413" y="491"/>
                    </a:lnTo>
                    <a:lnTo>
                      <a:pt x="426" y="478"/>
                    </a:lnTo>
                    <a:lnTo>
                      <a:pt x="442" y="461"/>
                    </a:lnTo>
                    <a:lnTo>
                      <a:pt x="456" y="444"/>
                    </a:lnTo>
                    <a:lnTo>
                      <a:pt x="447" y="467"/>
                    </a:lnTo>
                    <a:lnTo>
                      <a:pt x="442" y="489"/>
                    </a:lnTo>
                    <a:lnTo>
                      <a:pt x="438" y="509"/>
                    </a:lnTo>
                    <a:lnTo>
                      <a:pt x="435" y="525"/>
                    </a:lnTo>
                    <a:lnTo>
                      <a:pt x="438" y="536"/>
                    </a:lnTo>
                    <a:lnTo>
                      <a:pt x="438" y="546"/>
                    </a:lnTo>
                    <a:lnTo>
                      <a:pt x="435" y="554"/>
                    </a:lnTo>
                    <a:lnTo>
                      <a:pt x="434" y="560"/>
                    </a:lnTo>
                    <a:lnTo>
                      <a:pt x="445" y="565"/>
                    </a:lnTo>
                    <a:lnTo>
                      <a:pt x="445" y="594"/>
                    </a:lnTo>
                    <a:lnTo>
                      <a:pt x="442" y="600"/>
                    </a:lnTo>
                    <a:lnTo>
                      <a:pt x="439" y="605"/>
                    </a:lnTo>
                    <a:lnTo>
                      <a:pt x="439" y="614"/>
                    </a:lnTo>
                    <a:lnTo>
                      <a:pt x="439" y="623"/>
                    </a:lnTo>
                    <a:lnTo>
                      <a:pt x="434" y="630"/>
                    </a:lnTo>
                    <a:lnTo>
                      <a:pt x="430" y="638"/>
                    </a:lnTo>
                    <a:lnTo>
                      <a:pt x="427" y="646"/>
                    </a:lnTo>
                    <a:lnTo>
                      <a:pt x="425" y="655"/>
                    </a:lnTo>
                    <a:lnTo>
                      <a:pt x="424" y="665"/>
                    </a:lnTo>
                    <a:lnTo>
                      <a:pt x="422" y="675"/>
                    </a:lnTo>
                    <a:lnTo>
                      <a:pt x="425" y="686"/>
                    </a:lnTo>
                    <a:lnTo>
                      <a:pt x="434" y="690"/>
                    </a:lnTo>
                    <a:lnTo>
                      <a:pt x="445" y="693"/>
                    </a:lnTo>
                    <a:lnTo>
                      <a:pt x="456" y="694"/>
                    </a:lnTo>
                    <a:lnTo>
                      <a:pt x="469" y="696"/>
                    </a:lnTo>
                    <a:lnTo>
                      <a:pt x="482" y="704"/>
                    </a:lnTo>
                    <a:lnTo>
                      <a:pt x="499" y="712"/>
                    </a:lnTo>
                    <a:lnTo>
                      <a:pt x="522" y="720"/>
                    </a:lnTo>
                    <a:lnTo>
                      <a:pt x="542" y="723"/>
                    </a:lnTo>
                    <a:lnTo>
                      <a:pt x="565" y="724"/>
                    </a:lnTo>
                    <a:lnTo>
                      <a:pt x="579" y="722"/>
                    </a:lnTo>
                    <a:lnTo>
                      <a:pt x="590" y="720"/>
                    </a:lnTo>
                    <a:lnTo>
                      <a:pt x="590" y="709"/>
                    </a:lnTo>
                    <a:lnTo>
                      <a:pt x="588" y="703"/>
                    </a:lnTo>
                    <a:lnTo>
                      <a:pt x="581" y="698"/>
                    </a:lnTo>
                    <a:lnTo>
                      <a:pt x="568" y="692"/>
                    </a:lnTo>
                    <a:lnTo>
                      <a:pt x="548" y="681"/>
                    </a:lnTo>
                    <a:lnTo>
                      <a:pt x="544" y="676"/>
                    </a:lnTo>
                    <a:lnTo>
                      <a:pt x="541" y="669"/>
                    </a:lnTo>
                    <a:lnTo>
                      <a:pt x="537" y="663"/>
                    </a:lnTo>
                    <a:lnTo>
                      <a:pt x="534" y="659"/>
                    </a:lnTo>
                    <a:lnTo>
                      <a:pt x="526" y="657"/>
                    </a:lnTo>
                    <a:lnTo>
                      <a:pt x="523" y="648"/>
                    </a:lnTo>
                    <a:lnTo>
                      <a:pt x="519" y="642"/>
                    </a:lnTo>
                    <a:lnTo>
                      <a:pt x="511" y="636"/>
                    </a:lnTo>
                    <a:lnTo>
                      <a:pt x="515" y="628"/>
                    </a:lnTo>
                    <a:lnTo>
                      <a:pt x="515" y="623"/>
                    </a:lnTo>
                    <a:lnTo>
                      <a:pt x="512" y="616"/>
                    </a:lnTo>
                    <a:lnTo>
                      <a:pt x="512" y="611"/>
                    </a:lnTo>
                    <a:lnTo>
                      <a:pt x="520" y="577"/>
                    </a:lnTo>
                    <a:lnTo>
                      <a:pt x="528" y="570"/>
                    </a:lnTo>
                    <a:lnTo>
                      <a:pt x="537" y="563"/>
                    </a:lnTo>
                    <a:lnTo>
                      <a:pt x="547" y="531"/>
                    </a:lnTo>
                    <a:lnTo>
                      <a:pt x="557" y="484"/>
                    </a:lnTo>
                    <a:lnTo>
                      <a:pt x="566" y="438"/>
                    </a:lnTo>
                    <a:lnTo>
                      <a:pt x="570" y="389"/>
                    </a:lnTo>
                    <a:lnTo>
                      <a:pt x="570" y="347"/>
                    </a:lnTo>
                    <a:lnTo>
                      <a:pt x="568" y="310"/>
                    </a:lnTo>
                    <a:lnTo>
                      <a:pt x="581" y="309"/>
                    </a:lnTo>
                    <a:lnTo>
                      <a:pt x="596" y="307"/>
                    </a:lnTo>
                    <a:lnTo>
                      <a:pt x="617" y="297"/>
                    </a:lnTo>
                    <a:lnTo>
                      <a:pt x="634" y="287"/>
                    </a:lnTo>
                    <a:lnTo>
                      <a:pt x="651" y="274"/>
                    </a:lnTo>
                    <a:lnTo>
                      <a:pt x="664" y="236"/>
                    </a:lnTo>
                    <a:lnTo>
                      <a:pt x="707" y="162"/>
                    </a:lnTo>
                    <a:lnTo>
                      <a:pt x="705" y="155"/>
                    </a:lnTo>
                    <a:lnTo>
                      <a:pt x="721" y="128"/>
                    </a:lnTo>
                    <a:lnTo>
                      <a:pt x="732" y="116"/>
                    </a:lnTo>
                    <a:lnTo>
                      <a:pt x="788" y="83"/>
                    </a:lnTo>
                    <a:lnTo>
                      <a:pt x="703" y="86"/>
                    </a:lnTo>
                    <a:lnTo>
                      <a:pt x="698" y="93"/>
                    </a:lnTo>
                    <a:lnTo>
                      <a:pt x="694" y="99"/>
                    </a:lnTo>
                    <a:lnTo>
                      <a:pt x="692" y="105"/>
                    </a:lnTo>
                    <a:lnTo>
                      <a:pt x="671" y="129"/>
                    </a:lnTo>
                    <a:lnTo>
                      <a:pt x="666" y="128"/>
                    </a:lnTo>
                    <a:lnTo>
                      <a:pt x="629" y="170"/>
                    </a:lnTo>
                    <a:lnTo>
                      <a:pt x="598" y="189"/>
                    </a:lnTo>
                    <a:lnTo>
                      <a:pt x="591" y="193"/>
                    </a:lnTo>
                    <a:lnTo>
                      <a:pt x="580" y="195"/>
                    </a:lnTo>
                    <a:lnTo>
                      <a:pt x="569" y="197"/>
                    </a:lnTo>
                    <a:lnTo>
                      <a:pt x="550" y="203"/>
                    </a:lnTo>
                    <a:lnTo>
                      <a:pt x="543" y="198"/>
                    </a:lnTo>
                    <a:lnTo>
                      <a:pt x="536" y="193"/>
                    </a:lnTo>
                    <a:lnTo>
                      <a:pt x="528" y="187"/>
                    </a:lnTo>
                    <a:lnTo>
                      <a:pt x="520" y="182"/>
                    </a:lnTo>
                    <a:lnTo>
                      <a:pt x="514" y="174"/>
                    </a:lnTo>
                    <a:lnTo>
                      <a:pt x="512" y="170"/>
                    </a:lnTo>
                    <a:lnTo>
                      <a:pt x="509" y="166"/>
                    </a:lnTo>
                    <a:lnTo>
                      <a:pt x="512" y="162"/>
                    </a:lnTo>
                    <a:lnTo>
                      <a:pt x="514" y="156"/>
                    </a:lnTo>
                    <a:lnTo>
                      <a:pt x="514" y="150"/>
                    </a:lnTo>
                    <a:lnTo>
                      <a:pt x="517" y="149"/>
                    </a:lnTo>
                    <a:lnTo>
                      <a:pt x="522" y="145"/>
                    </a:lnTo>
                    <a:lnTo>
                      <a:pt x="523" y="140"/>
                    </a:lnTo>
                    <a:lnTo>
                      <a:pt x="522" y="133"/>
                    </a:lnTo>
                    <a:lnTo>
                      <a:pt x="517" y="128"/>
                    </a:lnTo>
                    <a:lnTo>
                      <a:pt x="437" y="41"/>
                    </a:lnTo>
                    <a:lnTo>
                      <a:pt x="426" y="21"/>
                    </a:lnTo>
                    <a:lnTo>
                      <a:pt x="417" y="20"/>
                    </a:lnTo>
                    <a:lnTo>
                      <a:pt x="417" y="9"/>
                    </a:lnTo>
                    <a:lnTo>
                      <a:pt x="417" y="0"/>
                    </a:lnTo>
                    <a:close/>
                    <a:moveTo>
                      <a:pt x="84" y="332"/>
                    </a:moveTo>
                    <a:lnTo>
                      <a:pt x="77" y="337"/>
                    </a:lnTo>
                    <a:lnTo>
                      <a:pt x="79" y="341"/>
                    </a:lnTo>
                    <a:lnTo>
                      <a:pt x="81" y="345"/>
                    </a:lnTo>
                    <a:lnTo>
                      <a:pt x="84" y="341"/>
                    </a:lnTo>
                    <a:lnTo>
                      <a:pt x="85" y="336"/>
                    </a:lnTo>
                    <a:lnTo>
                      <a:pt x="84" y="33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3503520" y="1909800"/>
                <a:ext cx="187560" cy="149040"/>
              </a:xfrm>
              <a:custGeom>
                <a:avLst/>
                <a:gdLst/>
                <a:ahLst/>
                <a:rect l="l" t="t" r="r" b="b"/>
                <a:pathLst>
                  <a:path w="590" h="474">
                    <a:moveTo>
                      <a:pt x="568" y="0"/>
                    </a:moveTo>
                    <a:lnTo>
                      <a:pt x="570" y="37"/>
                    </a:lnTo>
                    <a:lnTo>
                      <a:pt x="570" y="79"/>
                    </a:lnTo>
                    <a:lnTo>
                      <a:pt x="566" y="128"/>
                    </a:lnTo>
                    <a:lnTo>
                      <a:pt x="557" y="174"/>
                    </a:lnTo>
                    <a:lnTo>
                      <a:pt x="547" y="221"/>
                    </a:lnTo>
                    <a:lnTo>
                      <a:pt x="537" y="253"/>
                    </a:lnTo>
                    <a:lnTo>
                      <a:pt x="528" y="260"/>
                    </a:lnTo>
                    <a:lnTo>
                      <a:pt x="520" y="267"/>
                    </a:lnTo>
                    <a:lnTo>
                      <a:pt x="512" y="301"/>
                    </a:lnTo>
                    <a:lnTo>
                      <a:pt x="512" y="306"/>
                    </a:lnTo>
                    <a:lnTo>
                      <a:pt x="515" y="313"/>
                    </a:lnTo>
                    <a:lnTo>
                      <a:pt x="515" y="318"/>
                    </a:lnTo>
                    <a:lnTo>
                      <a:pt x="511" y="326"/>
                    </a:lnTo>
                    <a:lnTo>
                      <a:pt x="519" y="332"/>
                    </a:lnTo>
                    <a:lnTo>
                      <a:pt x="523" y="338"/>
                    </a:lnTo>
                    <a:lnTo>
                      <a:pt x="526" y="347"/>
                    </a:lnTo>
                    <a:lnTo>
                      <a:pt x="534" y="349"/>
                    </a:lnTo>
                    <a:lnTo>
                      <a:pt x="537" y="353"/>
                    </a:lnTo>
                    <a:lnTo>
                      <a:pt x="541" y="359"/>
                    </a:lnTo>
                    <a:lnTo>
                      <a:pt x="544" y="366"/>
                    </a:lnTo>
                    <a:lnTo>
                      <a:pt x="548" y="371"/>
                    </a:lnTo>
                    <a:lnTo>
                      <a:pt x="568" y="382"/>
                    </a:lnTo>
                    <a:lnTo>
                      <a:pt x="581" y="388"/>
                    </a:lnTo>
                    <a:lnTo>
                      <a:pt x="588" y="393"/>
                    </a:lnTo>
                    <a:lnTo>
                      <a:pt x="590" y="399"/>
                    </a:lnTo>
                    <a:lnTo>
                      <a:pt x="590" y="410"/>
                    </a:lnTo>
                    <a:lnTo>
                      <a:pt x="579" y="412"/>
                    </a:lnTo>
                    <a:lnTo>
                      <a:pt x="565" y="414"/>
                    </a:lnTo>
                    <a:lnTo>
                      <a:pt x="542" y="413"/>
                    </a:lnTo>
                    <a:lnTo>
                      <a:pt x="522" y="410"/>
                    </a:lnTo>
                    <a:lnTo>
                      <a:pt x="499" y="402"/>
                    </a:lnTo>
                    <a:lnTo>
                      <a:pt x="482" y="394"/>
                    </a:lnTo>
                    <a:lnTo>
                      <a:pt x="469" y="386"/>
                    </a:lnTo>
                    <a:lnTo>
                      <a:pt x="456" y="384"/>
                    </a:lnTo>
                    <a:lnTo>
                      <a:pt x="445" y="383"/>
                    </a:lnTo>
                    <a:lnTo>
                      <a:pt x="434" y="380"/>
                    </a:lnTo>
                    <a:lnTo>
                      <a:pt x="425" y="376"/>
                    </a:lnTo>
                    <a:lnTo>
                      <a:pt x="422" y="365"/>
                    </a:lnTo>
                    <a:lnTo>
                      <a:pt x="424" y="355"/>
                    </a:lnTo>
                    <a:lnTo>
                      <a:pt x="425" y="345"/>
                    </a:lnTo>
                    <a:lnTo>
                      <a:pt x="427" y="336"/>
                    </a:lnTo>
                    <a:lnTo>
                      <a:pt x="430" y="328"/>
                    </a:lnTo>
                    <a:lnTo>
                      <a:pt x="434" y="320"/>
                    </a:lnTo>
                    <a:lnTo>
                      <a:pt x="439" y="313"/>
                    </a:lnTo>
                    <a:lnTo>
                      <a:pt x="439" y="304"/>
                    </a:lnTo>
                    <a:lnTo>
                      <a:pt x="439" y="295"/>
                    </a:lnTo>
                    <a:lnTo>
                      <a:pt x="442" y="290"/>
                    </a:lnTo>
                    <a:lnTo>
                      <a:pt x="445" y="284"/>
                    </a:lnTo>
                    <a:lnTo>
                      <a:pt x="445" y="255"/>
                    </a:lnTo>
                    <a:lnTo>
                      <a:pt x="434" y="250"/>
                    </a:lnTo>
                    <a:lnTo>
                      <a:pt x="435" y="244"/>
                    </a:lnTo>
                    <a:lnTo>
                      <a:pt x="438" y="236"/>
                    </a:lnTo>
                    <a:lnTo>
                      <a:pt x="438" y="226"/>
                    </a:lnTo>
                    <a:lnTo>
                      <a:pt x="435" y="215"/>
                    </a:lnTo>
                    <a:lnTo>
                      <a:pt x="438" y="199"/>
                    </a:lnTo>
                    <a:lnTo>
                      <a:pt x="442" y="179"/>
                    </a:lnTo>
                    <a:lnTo>
                      <a:pt x="447" y="157"/>
                    </a:lnTo>
                    <a:lnTo>
                      <a:pt x="456" y="134"/>
                    </a:lnTo>
                    <a:lnTo>
                      <a:pt x="442" y="151"/>
                    </a:lnTo>
                    <a:lnTo>
                      <a:pt x="426" y="168"/>
                    </a:lnTo>
                    <a:lnTo>
                      <a:pt x="413" y="181"/>
                    </a:lnTo>
                    <a:lnTo>
                      <a:pt x="397" y="195"/>
                    </a:lnTo>
                    <a:lnTo>
                      <a:pt x="384" y="206"/>
                    </a:lnTo>
                    <a:lnTo>
                      <a:pt x="367" y="220"/>
                    </a:lnTo>
                    <a:lnTo>
                      <a:pt x="351" y="231"/>
                    </a:lnTo>
                    <a:lnTo>
                      <a:pt x="333" y="242"/>
                    </a:lnTo>
                    <a:lnTo>
                      <a:pt x="315" y="252"/>
                    </a:lnTo>
                    <a:lnTo>
                      <a:pt x="297" y="259"/>
                    </a:lnTo>
                    <a:lnTo>
                      <a:pt x="281" y="266"/>
                    </a:lnTo>
                    <a:lnTo>
                      <a:pt x="265" y="271"/>
                    </a:lnTo>
                    <a:lnTo>
                      <a:pt x="251" y="327"/>
                    </a:lnTo>
                    <a:lnTo>
                      <a:pt x="250" y="343"/>
                    </a:lnTo>
                    <a:lnTo>
                      <a:pt x="248" y="359"/>
                    </a:lnTo>
                    <a:lnTo>
                      <a:pt x="245" y="372"/>
                    </a:lnTo>
                    <a:lnTo>
                      <a:pt x="241" y="386"/>
                    </a:lnTo>
                    <a:lnTo>
                      <a:pt x="237" y="399"/>
                    </a:lnTo>
                    <a:lnTo>
                      <a:pt x="229" y="413"/>
                    </a:lnTo>
                    <a:lnTo>
                      <a:pt x="222" y="424"/>
                    </a:lnTo>
                    <a:lnTo>
                      <a:pt x="214" y="434"/>
                    </a:lnTo>
                    <a:lnTo>
                      <a:pt x="211" y="443"/>
                    </a:lnTo>
                    <a:lnTo>
                      <a:pt x="206" y="453"/>
                    </a:lnTo>
                    <a:lnTo>
                      <a:pt x="196" y="461"/>
                    </a:lnTo>
                    <a:lnTo>
                      <a:pt x="182" y="468"/>
                    </a:lnTo>
                    <a:lnTo>
                      <a:pt x="161" y="474"/>
                    </a:lnTo>
                    <a:lnTo>
                      <a:pt x="143" y="474"/>
                    </a:lnTo>
                    <a:lnTo>
                      <a:pt x="126" y="469"/>
                    </a:lnTo>
                    <a:lnTo>
                      <a:pt x="112" y="465"/>
                    </a:lnTo>
                    <a:lnTo>
                      <a:pt x="102" y="456"/>
                    </a:lnTo>
                    <a:lnTo>
                      <a:pt x="94" y="450"/>
                    </a:lnTo>
                    <a:lnTo>
                      <a:pt x="86" y="447"/>
                    </a:lnTo>
                    <a:lnTo>
                      <a:pt x="76" y="432"/>
                    </a:lnTo>
                    <a:lnTo>
                      <a:pt x="71" y="413"/>
                    </a:lnTo>
                    <a:lnTo>
                      <a:pt x="65" y="398"/>
                    </a:lnTo>
                    <a:lnTo>
                      <a:pt x="62" y="379"/>
                    </a:lnTo>
                    <a:lnTo>
                      <a:pt x="62" y="360"/>
                    </a:lnTo>
                    <a:lnTo>
                      <a:pt x="59" y="329"/>
                    </a:lnTo>
                    <a:lnTo>
                      <a:pt x="68" y="312"/>
                    </a:lnTo>
                    <a:lnTo>
                      <a:pt x="73" y="289"/>
                    </a:lnTo>
                    <a:lnTo>
                      <a:pt x="79" y="279"/>
                    </a:lnTo>
                    <a:lnTo>
                      <a:pt x="77" y="266"/>
                    </a:lnTo>
                    <a:lnTo>
                      <a:pt x="75" y="253"/>
                    </a:lnTo>
                    <a:lnTo>
                      <a:pt x="54" y="238"/>
                    </a:lnTo>
                    <a:lnTo>
                      <a:pt x="64" y="225"/>
                    </a:lnTo>
                    <a:lnTo>
                      <a:pt x="75" y="195"/>
                    </a:lnTo>
                    <a:lnTo>
                      <a:pt x="66" y="196"/>
                    </a:lnTo>
                    <a:lnTo>
                      <a:pt x="59" y="194"/>
                    </a:lnTo>
                    <a:lnTo>
                      <a:pt x="54" y="192"/>
                    </a:lnTo>
                    <a:lnTo>
                      <a:pt x="51" y="185"/>
                    </a:lnTo>
                    <a:lnTo>
                      <a:pt x="50" y="181"/>
                    </a:lnTo>
                    <a:lnTo>
                      <a:pt x="44" y="182"/>
                    </a:lnTo>
                    <a:lnTo>
                      <a:pt x="36" y="181"/>
                    </a:lnTo>
                    <a:lnTo>
                      <a:pt x="31" y="177"/>
                    </a:lnTo>
                    <a:lnTo>
                      <a:pt x="24" y="172"/>
                    </a:lnTo>
                    <a:lnTo>
                      <a:pt x="20" y="164"/>
                    </a:lnTo>
                    <a:lnTo>
                      <a:pt x="16" y="157"/>
                    </a:lnTo>
                    <a:lnTo>
                      <a:pt x="12" y="148"/>
                    </a:lnTo>
                    <a:lnTo>
                      <a:pt x="8" y="146"/>
                    </a:lnTo>
                    <a:lnTo>
                      <a:pt x="2" y="98"/>
                    </a:lnTo>
                    <a:lnTo>
                      <a:pt x="7" y="97"/>
                    </a:lnTo>
                    <a:lnTo>
                      <a:pt x="7" y="76"/>
                    </a:lnTo>
                    <a:lnTo>
                      <a:pt x="0" y="75"/>
                    </a:lnTo>
                    <a:lnTo>
                      <a:pt x="2" y="63"/>
                    </a:lnTo>
                    <a:lnTo>
                      <a:pt x="6" y="53"/>
                    </a:lnTo>
                    <a:lnTo>
                      <a:pt x="7" y="48"/>
                    </a:lnTo>
                    <a:lnTo>
                      <a:pt x="10" y="43"/>
                    </a:lnTo>
                    <a:lnTo>
                      <a:pt x="12" y="35"/>
                    </a:lnTo>
                    <a:lnTo>
                      <a:pt x="13" y="30"/>
                    </a:lnTo>
                    <a:lnTo>
                      <a:pt x="17" y="25"/>
                    </a:lnTo>
                    <a:lnTo>
                      <a:pt x="30" y="21"/>
                    </a:lnTo>
                    <a:lnTo>
                      <a:pt x="25" y="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3637080" y="1811160"/>
                <a:ext cx="117360" cy="98640"/>
              </a:xfrm>
              <a:custGeom>
                <a:avLst/>
                <a:gdLst/>
                <a:ahLst/>
                <a:rect l="l" t="t" r="r" b="b"/>
                <a:pathLst>
                  <a:path w="371" h="310">
                    <a:moveTo>
                      <a:pt x="0" y="0"/>
                    </a:moveTo>
                    <a:lnTo>
                      <a:pt x="0" y="9"/>
                    </a:lnTo>
                    <a:lnTo>
                      <a:pt x="0" y="20"/>
                    </a:lnTo>
                    <a:lnTo>
                      <a:pt x="9" y="21"/>
                    </a:lnTo>
                    <a:lnTo>
                      <a:pt x="20" y="41"/>
                    </a:lnTo>
                    <a:lnTo>
                      <a:pt x="100" y="128"/>
                    </a:lnTo>
                    <a:lnTo>
                      <a:pt x="105" y="133"/>
                    </a:lnTo>
                    <a:lnTo>
                      <a:pt x="106" y="140"/>
                    </a:lnTo>
                    <a:lnTo>
                      <a:pt x="105" y="145"/>
                    </a:lnTo>
                    <a:lnTo>
                      <a:pt x="100" y="149"/>
                    </a:lnTo>
                    <a:lnTo>
                      <a:pt x="97" y="150"/>
                    </a:lnTo>
                    <a:lnTo>
                      <a:pt x="97" y="156"/>
                    </a:lnTo>
                    <a:lnTo>
                      <a:pt x="95" y="162"/>
                    </a:lnTo>
                    <a:lnTo>
                      <a:pt x="92" y="166"/>
                    </a:lnTo>
                    <a:lnTo>
                      <a:pt x="95" y="170"/>
                    </a:lnTo>
                    <a:lnTo>
                      <a:pt x="97" y="174"/>
                    </a:lnTo>
                    <a:lnTo>
                      <a:pt x="103" y="182"/>
                    </a:lnTo>
                    <a:lnTo>
                      <a:pt x="111" y="187"/>
                    </a:lnTo>
                    <a:lnTo>
                      <a:pt x="119" y="193"/>
                    </a:lnTo>
                    <a:lnTo>
                      <a:pt x="126" y="198"/>
                    </a:lnTo>
                    <a:lnTo>
                      <a:pt x="133" y="203"/>
                    </a:lnTo>
                    <a:lnTo>
                      <a:pt x="152" y="197"/>
                    </a:lnTo>
                    <a:lnTo>
                      <a:pt x="163" y="195"/>
                    </a:lnTo>
                    <a:lnTo>
                      <a:pt x="174" y="193"/>
                    </a:lnTo>
                    <a:lnTo>
                      <a:pt x="181" y="189"/>
                    </a:lnTo>
                    <a:lnTo>
                      <a:pt x="212" y="170"/>
                    </a:lnTo>
                    <a:lnTo>
                      <a:pt x="249" y="128"/>
                    </a:lnTo>
                    <a:lnTo>
                      <a:pt x="254" y="129"/>
                    </a:lnTo>
                    <a:lnTo>
                      <a:pt x="275" y="105"/>
                    </a:lnTo>
                    <a:lnTo>
                      <a:pt x="277" y="99"/>
                    </a:lnTo>
                    <a:lnTo>
                      <a:pt x="281" y="93"/>
                    </a:lnTo>
                    <a:lnTo>
                      <a:pt x="286" y="86"/>
                    </a:lnTo>
                    <a:lnTo>
                      <a:pt x="371" y="83"/>
                    </a:lnTo>
                    <a:lnTo>
                      <a:pt x="315" y="116"/>
                    </a:lnTo>
                    <a:lnTo>
                      <a:pt x="304" y="128"/>
                    </a:lnTo>
                    <a:lnTo>
                      <a:pt x="288" y="155"/>
                    </a:lnTo>
                    <a:lnTo>
                      <a:pt x="290" y="162"/>
                    </a:lnTo>
                    <a:lnTo>
                      <a:pt x="247" y="236"/>
                    </a:lnTo>
                    <a:lnTo>
                      <a:pt x="234" y="274"/>
                    </a:lnTo>
                    <a:lnTo>
                      <a:pt x="217" y="287"/>
                    </a:lnTo>
                    <a:lnTo>
                      <a:pt x="200" y="297"/>
                    </a:lnTo>
                    <a:lnTo>
                      <a:pt x="179" y="307"/>
                    </a:lnTo>
                    <a:lnTo>
                      <a:pt x="164" y="309"/>
                    </a:lnTo>
                    <a:lnTo>
                      <a:pt x="151" y="31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3643200" y="1808280"/>
                <a:ext cx="196920" cy="55440"/>
              </a:xfrm>
              <a:custGeom>
                <a:avLst/>
                <a:gdLst/>
                <a:ahLst/>
                <a:rect l="l" t="t" r="r" b="b"/>
                <a:pathLst>
                  <a:path w="620" h="176">
                    <a:moveTo>
                      <a:pt x="436" y="85"/>
                    </a:moveTo>
                    <a:lnTo>
                      <a:pt x="426" y="82"/>
                    </a:lnTo>
                    <a:lnTo>
                      <a:pt x="362" y="84"/>
                    </a:lnTo>
                    <a:lnTo>
                      <a:pt x="359" y="87"/>
                    </a:lnTo>
                    <a:lnTo>
                      <a:pt x="428" y="89"/>
                    </a:lnTo>
                    <a:lnTo>
                      <a:pt x="424" y="93"/>
                    </a:lnTo>
                    <a:lnTo>
                      <a:pt x="351" y="93"/>
                    </a:lnTo>
                    <a:lnTo>
                      <a:pt x="267" y="95"/>
                    </a:lnTo>
                    <a:lnTo>
                      <a:pt x="247" y="95"/>
                    </a:lnTo>
                    <a:lnTo>
                      <a:pt x="175" y="123"/>
                    </a:lnTo>
                    <a:lnTo>
                      <a:pt x="175" y="165"/>
                    </a:lnTo>
                    <a:lnTo>
                      <a:pt x="127" y="176"/>
                    </a:lnTo>
                    <a:lnTo>
                      <a:pt x="127" y="137"/>
                    </a:lnTo>
                    <a:lnTo>
                      <a:pt x="123" y="126"/>
                    </a:lnTo>
                    <a:lnTo>
                      <a:pt x="123" y="116"/>
                    </a:lnTo>
                    <a:lnTo>
                      <a:pt x="121" y="112"/>
                    </a:lnTo>
                    <a:lnTo>
                      <a:pt x="119" y="110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97" y="108"/>
                    </a:lnTo>
                    <a:lnTo>
                      <a:pt x="103" y="117"/>
                    </a:lnTo>
                    <a:lnTo>
                      <a:pt x="104" y="122"/>
                    </a:lnTo>
                    <a:lnTo>
                      <a:pt x="104" y="126"/>
                    </a:lnTo>
                    <a:lnTo>
                      <a:pt x="101" y="128"/>
                    </a:lnTo>
                    <a:lnTo>
                      <a:pt x="98" y="130"/>
                    </a:lnTo>
                    <a:lnTo>
                      <a:pt x="118" y="130"/>
                    </a:lnTo>
                    <a:lnTo>
                      <a:pt x="120" y="130"/>
                    </a:lnTo>
                    <a:lnTo>
                      <a:pt x="121" y="128"/>
                    </a:lnTo>
                    <a:lnTo>
                      <a:pt x="123" y="126"/>
                    </a:lnTo>
                    <a:lnTo>
                      <a:pt x="127" y="137"/>
                    </a:lnTo>
                    <a:lnTo>
                      <a:pt x="82" y="137"/>
                    </a:lnTo>
                    <a:lnTo>
                      <a:pt x="0" y="50"/>
                    </a:lnTo>
                    <a:lnTo>
                      <a:pt x="31" y="50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8" y="18"/>
                    </a:lnTo>
                    <a:lnTo>
                      <a:pt x="51" y="18"/>
                    </a:lnTo>
                    <a:lnTo>
                      <a:pt x="53" y="9"/>
                    </a:lnTo>
                    <a:lnTo>
                      <a:pt x="58" y="5"/>
                    </a:lnTo>
                    <a:lnTo>
                      <a:pt x="65" y="3"/>
                    </a:lnTo>
                    <a:lnTo>
                      <a:pt x="178" y="13"/>
                    </a:lnTo>
                    <a:lnTo>
                      <a:pt x="183" y="16"/>
                    </a:lnTo>
                    <a:lnTo>
                      <a:pt x="187" y="19"/>
                    </a:lnTo>
                    <a:lnTo>
                      <a:pt x="191" y="23"/>
                    </a:lnTo>
                    <a:lnTo>
                      <a:pt x="191" y="30"/>
                    </a:lnTo>
                    <a:lnTo>
                      <a:pt x="188" y="34"/>
                    </a:lnTo>
                    <a:lnTo>
                      <a:pt x="187" y="36"/>
                    </a:lnTo>
                    <a:lnTo>
                      <a:pt x="181" y="36"/>
                    </a:lnTo>
                    <a:lnTo>
                      <a:pt x="182" y="33"/>
                    </a:lnTo>
                    <a:lnTo>
                      <a:pt x="184" y="29"/>
                    </a:lnTo>
                    <a:lnTo>
                      <a:pt x="184" y="23"/>
                    </a:lnTo>
                    <a:lnTo>
                      <a:pt x="181" y="20"/>
                    </a:lnTo>
                    <a:lnTo>
                      <a:pt x="175" y="18"/>
                    </a:lnTo>
                    <a:lnTo>
                      <a:pt x="90" y="18"/>
                    </a:lnTo>
                    <a:lnTo>
                      <a:pt x="87" y="22"/>
                    </a:lnTo>
                    <a:lnTo>
                      <a:pt x="85" y="28"/>
                    </a:lnTo>
                    <a:lnTo>
                      <a:pt x="84" y="32"/>
                    </a:lnTo>
                    <a:lnTo>
                      <a:pt x="84" y="35"/>
                    </a:lnTo>
                    <a:lnTo>
                      <a:pt x="85" y="39"/>
                    </a:lnTo>
                    <a:lnTo>
                      <a:pt x="88" y="40"/>
                    </a:lnTo>
                    <a:lnTo>
                      <a:pt x="175" y="40"/>
                    </a:lnTo>
                    <a:lnTo>
                      <a:pt x="181" y="36"/>
                    </a:lnTo>
                    <a:lnTo>
                      <a:pt x="187" y="36"/>
                    </a:lnTo>
                    <a:lnTo>
                      <a:pt x="439" y="36"/>
                    </a:lnTo>
                    <a:lnTo>
                      <a:pt x="445" y="39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8"/>
                    </a:lnTo>
                    <a:lnTo>
                      <a:pt x="469" y="28"/>
                    </a:lnTo>
                    <a:lnTo>
                      <a:pt x="469" y="14"/>
                    </a:lnTo>
                    <a:lnTo>
                      <a:pt x="460" y="14"/>
                    </a:lnTo>
                    <a:lnTo>
                      <a:pt x="444" y="35"/>
                    </a:lnTo>
                    <a:lnTo>
                      <a:pt x="444" y="39"/>
                    </a:lnTo>
                    <a:lnTo>
                      <a:pt x="445" y="39"/>
                    </a:lnTo>
                    <a:lnTo>
                      <a:pt x="439" y="36"/>
                    </a:lnTo>
                    <a:lnTo>
                      <a:pt x="465" y="2"/>
                    </a:lnTo>
                    <a:lnTo>
                      <a:pt x="469" y="0"/>
                    </a:lnTo>
                    <a:lnTo>
                      <a:pt x="473" y="2"/>
                    </a:lnTo>
                    <a:lnTo>
                      <a:pt x="478" y="6"/>
                    </a:lnTo>
                    <a:lnTo>
                      <a:pt x="480" y="47"/>
                    </a:lnTo>
                    <a:lnTo>
                      <a:pt x="548" y="47"/>
                    </a:lnTo>
                    <a:lnTo>
                      <a:pt x="555" y="44"/>
                    </a:lnTo>
                    <a:lnTo>
                      <a:pt x="603" y="43"/>
                    </a:lnTo>
                    <a:lnTo>
                      <a:pt x="608" y="35"/>
                    </a:lnTo>
                    <a:lnTo>
                      <a:pt x="617" y="35"/>
                    </a:lnTo>
                    <a:lnTo>
                      <a:pt x="617" y="43"/>
                    </a:lnTo>
                    <a:lnTo>
                      <a:pt x="620" y="43"/>
                    </a:lnTo>
                    <a:lnTo>
                      <a:pt x="620" y="63"/>
                    </a:lnTo>
                    <a:lnTo>
                      <a:pt x="607" y="63"/>
                    </a:lnTo>
                    <a:lnTo>
                      <a:pt x="601" y="60"/>
                    </a:lnTo>
                    <a:lnTo>
                      <a:pt x="480" y="60"/>
                    </a:lnTo>
                    <a:lnTo>
                      <a:pt x="480" y="66"/>
                    </a:lnTo>
                    <a:lnTo>
                      <a:pt x="469" y="66"/>
                    </a:lnTo>
                    <a:lnTo>
                      <a:pt x="469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2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3390840" y="2082960"/>
                <a:ext cx="173160" cy="272880"/>
              </a:xfrm>
              <a:custGeom>
                <a:avLst/>
                <a:gdLst/>
                <a:ahLst/>
                <a:rect l="l" t="t" r="r" b="b"/>
                <a:pathLst>
                  <a:path w="546" h="860">
                    <a:moveTo>
                      <a:pt x="175" y="451"/>
                    </a:moveTo>
                    <a:lnTo>
                      <a:pt x="190" y="440"/>
                    </a:lnTo>
                    <a:lnTo>
                      <a:pt x="203" y="431"/>
                    </a:lnTo>
                    <a:lnTo>
                      <a:pt x="216" y="425"/>
                    </a:lnTo>
                    <a:lnTo>
                      <a:pt x="230" y="418"/>
                    </a:lnTo>
                    <a:lnTo>
                      <a:pt x="204" y="402"/>
                    </a:lnTo>
                    <a:lnTo>
                      <a:pt x="192" y="393"/>
                    </a:lnTo>
                    <a:lnTo>
                      <a:pt x="179" y="384"/>
                    </a:lnTo>
                    <a:lnTo>
                      <a:pt x="180" y="401"/>
                    </a:lnTo>
                    <a:lnTo>
                      <a:pt x="178" y="416"/>
                    </a:lnTo>
                    <a:lnTo>
                      <a:pt x="175" y="451"/>
                    </a:lnTo>
                    <a:close/>
                    <a:moveTo>
                      <a:pt x="78" y="3"/>
                    </a:moveTo>
                    <a:lnTo>
                      <a:pt x="66" y="39"/>
                    </a:lnTo>
                    <a:lnTo>
                      <a:pt x="55" y="75"/>
                    </a:lnTo>
                    <a:lnTo>
                      <a:pt x="47" y="111"/>
                    </a:lnTo>
                    <a:lnTo>
                      <a:pt x="38" y="148"/>
                    </a:lnTo>
                    <a:lnTo>
                      <a:pt x="29" y="186"/>
                    </a:lnTo>
                    <a:lnTo>
                      <a:pt x="23" y="223"/>
                    </a:lnTo>
                    <a:lnTo>
                      <a:pt x="16" y="261"/>
                    </a:lnTo>
                    <a:lnTo>
                      <a:pt x="12" y="298"/>
                    </a:lnTo>
                    <a:lnTo>
                      <a:pt x="8" y="337"/>
                    </a:lnTo>
                    <a:lnTo>
                      <a:pt x="4" y="375"/>
                    </a:lnTo>
                    <a:lnTo>
                      <a:pt x="2" y="414"/>
                    </a:lnTo>
                    <a:lnTo>
                      <a:pt x="1" y="453"/>
                    </a:lnTo>
                    <a:lnTo>
                      <a:pt x="0" y="492"/>
                    </a:lnTo>
                    <a:lnTo>
                      <a:pt x="1" y="531"/>
                    </a:lnTo>
                    <a:lnTo>
                      <a:pt x="3" y="571"/>
                    </a:lnTo>
                    <a:lnTo>
                      <a:pt x="5" y="611"/>
                    </a:lnTo>
                    <a:lnTo>
                      <a:pt x="7" y="625"/>
                    </a:lnTo>
                    <a:lnTo>
                      <a:pt x="9" y="640"/>
                    </a:lnTo>
                    <a:lnTo>
                      <a:pt x="10" y="655"/>
                    </a:lnTo>
                    <a:lnTo>
                      <a:pt x="12" y="670"/>
                    </a:lnTo>
                    <a:lnTo>
                      <a:pt x="14" y="685"/>
                    </a:lnTo>
                    <a:lnTo>
                      <a:pt x="15" y="699"/>
                    </a:lnTo>
                    <a:lnTo>
                      <a:pt x="17" y="714"/>
                    </a:lnTo>
                    <a:lnTo>
                      <a:pt x="21" y="728"/>
                    </a:lnTo>
                    <a:lnTo>
                      <a:pt x="24" y="715"/>
                    </a:lnTo>
                    <a:lnTo>
                      <a:pt x="39" y="711"/>
                    </a:lnTo>
                    <a:lnTo>
                      <a:pt x="56" y="704"/>
                    </a:lnTo>
                    <a:lnTo>
                      <a:pt x="72" y="698"/>
                    </a:lnTo>
                    <a:lnTo>
                      <a:pt x="91" y="687"/>
                    </a:lnTo>
                    <a:lnTo>
                      <a:pt x="110" y="677"/>
                    </a:lnTo>
                    <a:lnTo>
                      <a:pt x="125" y="665"/>
                    </a:lnTo>
                    <a:lnTo>
                      <a:pt x="141" y="651"/>
                    </a:lnTo>
                    <a:lnTo>
                      <a:pt x="156" y="640"/>
                    </a:lnTo>
                    <a:lnTo>
                      <a:pt x="171" y="626"/>
                    </a:lnTo>
                    <a:lnTo>
                      <a:pt x="184" y="613"/>
                    </a:lnTo>
                    <a:lnTo>
                      <a:pt x="200" y="596"/>
                    </a:lnTo>
                    <a:lnTo>
                      <a:pt x="214" y="579"/>
                    </a:lnTo>
                    <a:lnTo>
                      <a:pt x="205" y="602"/>
                    </a:lnTo>
                    <a:lnTo>
                      <a:pt x="200" y="624"/>
                    </a:lnTo>
                    <a:lnTo>
                      <a:pt x="195" y="645"/>
                    </a:lnTo>
                    <a:lnTo>
                      <a:pt x="193" y="661"/>
                    </a:lnTo>
                    <a:lnTo>
                      <a:pt x="195" y="671"/>
                    </a:lnTo>
                    <a:lnTo>
                      <a:pt x="195" y="681"/>
                    </a:lnTo>
                    <a:lnTo>
                      <a:pt x="193" y="688"/>
                    </a:lnTo>
                    <a:lnTo>
                      <a:pt x="192" y="695"/>
                    </a:lnTo>
                    <a:lnTo>
                      <a:pt x="203" y="700"/>
                    </a:lnTo>
                    <a:lnTo>
                      <a:pt x="203" y="730"/>
                    </a:lnTo>
                    <a:lnTo>
                      <a:pt x="200" y="735"/>
                    </a:lnTo>
                    <a:lnTo>
                      <a:pt x="197" y="741"/>
                    </a:lnTo>
                    <a:lnTo>
                      <a:pt x="197" y="749"/>
                    </a:lnTo>
                    <a:lnTo>
                      <a:pt x="197" y="758"/>
                    </a:lnTo>
                    <a:lnTo>
                      <a:pt x="192" y="765"/>
                    </a:lnTo>
                    <a:lnTo>
                      <a:pt x="188" y="774"/>
                    </a:lnTo>
                    <a:lnTo>
                      <a:pt x="185" y="781"/>
                    </a:lnTo>
                    <a:lnTo>
                      <a:pt x="182" y="790"/>
                    </a:lnTo>
                    <a:lnTo>
                      <a:pt x="181" y="800"/>
                    </a:lnTo>
                    <a:lnTo>
                      <a:pt x="180" y="810"/>
                    </a:lnTo>
                    <a:lnTo>
                      <a:pt x="182" y="821"/>
                    </a:lnTo>
                    <a:lnTo>
                      <a:pt x="192" y="825"/>
                    </a:lnTo>
                    <a:lnTo>
                      <a:pt x="203" y="829"/>
                    </a:lnTo>
                    <a:lnTo>
                      <a:pt x="214" y="830"/>
                    </a:lnTo>
                    <a:lnTo>
                      <a:pt x="227" y="831"/>
                    </a:lnTo>
                    <a:lnTo>
                      <a:pt x="241" y="840"/>
                    </a:lnTo>
                    <a:lnTo>
                      <a:pt x="257" y="847"/>
                    </a:lnTo>
                    <a:lnTo>
                      <a:pt x="280" y="855"/>
                    </a:lnTo>
                    <a:lnTo>
                      <a:pt x="300" y="858"/>
                    </a:lnTo>
                    <a:lnTo>
                      <a:pt x="323" y="860"/>
                    </a:lnTo>
                    <a:lnTo>
                      <a:pt x="337" y="857"/>
                    </a:lnTo>
                    <a:lnTo>
                      <a:pt x="348" y="855"/>
                    </a:lnTo>
                    <a:lnTo>
                      <a:pt x="348" y="844"/>
                    </a:lnTo>
                    <a:lnTo>
                      <a:pt x="345" y="839"/>
                    </a:lnTo>
                    <a:lnTo>
                      <a:pt x="340" y="833"/>
                    </a:lnTo>
                    <a:lnTo>
                      <a:pt x="326" y="827"/>
                    </a:lnTo>
                    <a:lnTo>
                      <a:pt x="306" y="817"/>
                    </a:lnTo>
                    <a:lnTo>
                      <a:pt x="302" y="811"/>
                    </a:lnTo>
                    <a:lnTo>
                      <a:pt x="299" y="804"/>
                    </a:lnTo>
                    <a:lnTo>
                      <a:pt x="295" y="799"/>
                    </a:lnTo>
                    <a:lnTo>
                      <a:pt x="292" y="794"/>
                    </a:lnTo>
                    <a:lnTo>
                      <a:pt x="284" y="792"/>
                    </a:lnTo>
                    <a:lnTo>
                      <a:pt x="281" y="784"/>
                    </a:lnTo>
                    <a:lnTo>
                      <a:pt x="276" y="777"/>
                    </a:lnTo>
                    <a:lnTo>
                      <a:pt x="269" y="771"/>
                    </a:lnTo>
                    <a:lnTo>
                      <a:pt x="273" y="764"/>
                    </a:lnTo>
                    <a:lnTo>
                      <a:pt x="273" y="758"/>
                    </a:lnTo>
                    <a:lnTo>
                      <a:pt x="270" y="752"/>
                    </a:lnTo>
                    <a:lnTo>
                      <a:pt x="270" y="746"/>
                    </a:lnTo>
                    <a:lnTo>
                      <a:pt x="277" y="712"/>
                    </a:lnTo>
                    <a:lnTo>
                      <a:pt x="287" y="705"/>
                    </a:lnTo>
                    <a:lnTo>
                      <a:pt x="295" y="699"/>
                    </a:lnTo>
                    <a:lnTo>
                      <a:pt x="304" y="667"/>
                    </a:lnTo>
                    <a:lnTo>
                      <a:pt x="315" y="620"/>
                    </a:lnTo>
                    <a:lnTo>
                      <a:pt x="324" y="573"/>
                    </a:lnTo>
                    <a:lnTo>
                      <a:pt x="328" y="524"/>
                    </a:lnTo>
                    <a:lnTo>
                      <a:pt x="328" y="482"/>
                    </a:lnTo>
                    <a:lnTo>
                      <a:pt x="327" y="446"/>
                    </a:lnTo>
                    <a:lnTo>
                      <a:pt x="339" y="445"/>
                    </a:lnTo>
                    <a:lnTo>
                      <a:pt x="354" y="442"/>
                    </a:lnTo>
                    <a:lnTo>
                      <a:pt x="376" y="433"/>
                    </a:lnTo>
                    <a:lnTo>
                      <a:pt x="392" y="423"/>
                    </a:lnTo>
                    <a:lnTo>
                      <a:pt x="409" y="409"/>
                    </a:lnTo>
                    <a:lnTo>
                      <a:pt x="422" y="371"/>
                    </a:lnTo>
                    <a:lnTo>
                      <a:pt x="465" y="297"/>
                    </a:lnTo>
                    <a:lnTo>
                      <a:pt x="463" y="291"/>
                    </a:lnTo>
                    <a:lnTo>
                      <a:pt x="479" y="263"/>
                    </a:lnTo>
                    <a:lnTo>
                      <a:pt x="490" y="251"/>
                    </a:lnTo>
                    <a:lnTo>
                      <a:pt x="546" y="218"/>
                    </a:lnTo>
                    <a:lnTo>
                      <a:pt x="462" y="221"/>
                    </a:lnTo>
                    <a:lnTo>
                      <a:pt x="456" y="228"/>
                    </a:lnTo>
                    <a:lnTo>
                      <a:pt x="452" y="234"/>
                    </a:lnTo>
                    <a:lnTo>
                      <a:pt x="451" y="240"/>
                    </a:lnTo>
                    <a:lnTo>
                      <a:pt x="430" y="264"/>
                    </a:lnTo>
                    <a:lnTo>
                      <a:pt x="424" y="263"/>
                    </a:lnTo>
                    <a:lnTo>
                      <a:pt x="386" y="305"/>
                    </a:lnTo>
                    <a:lnTo>
                      <a:pt x="356" y="325"/>
                    </a:lnTo>
                    <a:lnTo>
                      <a:pt x="349" y="328"/>
                    </a:lnTo>
                    <a:lnTo>
                      <a:pt x="338" y="330"/>
                    </a:lnTo>
                    <a:lnTo>
                      <a:pt x="327" y="332"/>
                    </a:lnTo>
                    <a:lnTo>
                      <a:pt x="308" y="338"/>
                    </a:lnTo>
                    <a:lnTo>
                      <a:pt x="301" y="334"/>
                    </a:lnTo>
                    <a:lnTo>
                      <a:pt x="294" y="328"/>
                    </a:lnTo>
                    <a:lnTo>
                      <a:pt x="287" y="323"/>
                    </a:lnTo>
                    <a:lnTo>
                      <a:pt x="277" y="317"/>
                    </a:lnTo>
                    <a:lnTo>
                      <a:pt x="272" y="309"/>
                    </a:lnTo>
                    <a:lnTo>
                      <a:pt x="270" y="305"/>
                    </a:lnTo>
                    <a:lnTo>
                      <a:pt x="267" y="302"/>
                    </a:lnTo>
                    <a:lnTo>
                      <a:pt x="270" y="297"/>
                    </a:lnTo>
                    <a:lnTo>
                      <a:pt x="272" y="292"/>
                    </a:lnTo>
                    <a:lnTo>
                      <a:pt x="272" y="285"/>
                    </a:lnTo>
                    <a:lnTo>
                      <a:pt x="276" y="284"/>
                    </a:lnTo>
                    <a:lnTo>
                      <a:pt x="280" y="281"/>
                    </a:lnTo>
                    <a:lnTo>
                      <a:pt x="281" y="275"/>
                    </a:lnTo>
                    <a:lnTo>
                      <a:pt x="280" y="269"/>
                    </a:lnTo>
                    <a:lnTo>
                      <a:pt x="276" y="263"/>
                    </a:lnTo>
                    <a:lnTo>
                      <a:pt x="194" y="176"/>
                    </a:lnTo>
                    <a:lnTo>
                      <a:pt x="184" y="156"/>
                    </a:lnTo>
                    <a:lnTo>
                      <a:pt x="175" y="155"/>
                    </a:lnTo>
                    <a:lnTo>
                      <a:pt x="175" y="144"/>
                    </a:lnTo>
                    <a:lnTo>
                      <a:pt x="174" y="130"/>
                    </a:lnTo>
                    <a:lnTo>
                      <a:pt x="172" y="114"/>
                    </a:lnTo>
                    <a:lnTo>
                      <a:pt x="190" y="108"/>
                    </a:lnTo>
                    <a:lnTo>
                      <a:pt x="195" y="103"/>
                    </a:lnTo>
                    <a:lnTo>
                      <a:pt x="197" y="98"/>
                    </a:lnTo>
                    <a:lnTo>
                      <a:pt x="194" y="92"/>
                    </a:lnTo>
                    <a:lnTo>
                      <a:pt x="188" y="85"/>
                    </a:lnTo>
                    <a:lnTo>
                      <a:pt x="175" y="56"/>
                    </a:lnTo>
                    <a:lnTo>
                      <a:pt x="163" y="33"/>
                    </a:lnTo>
                    <a:lnTo>
                      <a:pt x="154" y="21"/>
                    </a:lnTo>
                    <a:lnTo>
                      <a:pt x="146" y="11"/>
                    </a:lnTo>
                    <a:lnTo>
                      <a:pt x="136" y="7"/>
                    </a:lnTo>
                    <a:lnTo>
                      <a:pt x="125" y="2"/>
                    </a:lnTo>
                    <a:lnTo>
                      <a:pt x="111" y="0"/>
                    </a:lnTo>
                    <a:lnTo>
                      <a:pt x="97" y="0"/>
                    </a:lnTo>
                    <a:lnTo>
                      <a:pt x="80" y="2"/>
                    </a:lnTo>
                    <a:lnTo>
                      <a:pt x="78" y="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3397320" y="2224080"/>
                <a:ext cx="102960" cy="131760"/>
              </a:xfrm>
              <a:custGeom>
                <a:avLst/>
                <a:gdLst/>
                <a:ahLst/>
                <a:rect l="l" t="t" r="r" b="b"/>
                <a:pathLst>
                  <a:path w="327" h="414">
                    <a:moveTo>
                      <a:pt x="306" y="0"/>
                    </a:moveTo>
                    <a:lnTo>
                      <a:pt x="307" y="36"/>
                    </a:lnTo>
                    <a:lnTo>
                      <a:pt x="307" y="78"/>
                    </a:lnTo>
                    <a:lnTo>
                      <a:pt x="303" y="127"/>
                    </a:lnTo>
                    <a:lnTo>
                      <a:pt x="294" y="174"/>
                    </a:lnTo>
                    <a:lnTo>
                      <a:pt x="283" y="221"/>
                    </a:lnTo>
                    <a:lnTo>
                      <a:pt x="274" y="253"/>
                    </a:lnTo>
                    <a:lnTo>
                      <a:pt x="266" y="259"/>
                    </a:lnTo>
                    <a:lnTo>
                      <a:pt x="256" y="266"/>
                    </a:lnTo>
                    <a:lnTo>
                      <a:pt x="249" y="300"/>
                    </a:lnTo>
                    <a:lnTo>
                      <a:pt x="249" y="306"/>
                    </a:lnTo>
                    <a:lnTo>
                      <a:pt x="252" y="312"/>
                    </a:lnTo>
                    <a:lnTo>
                      <a:pt x="252" y="318"/>
                    </a:lnTo>
                    <a:lnTo>
                      <a:pt x="248" y="325"/>
                    </a:lnTo>
                    <a:lnTo>
                      <a:pt x="255" y="331"/>
                    </a:lnTo>
                    <a:lnTo>
                      <a:pt x="260" y="338"/>
                    </a:lnTo>
                    <a:lnTo>
                      <a:pt x="263" y="346"/>
                    </a:lnTo>
                    <a:lnTo>
                      <a:pt x="271" y="348"/>
                    </a:lnTo>
                    <a:lnTo>
                      <a:pt x="274" y="353"/>
                    </a:lnTo>
                    <a:lnTo>
                      <a:pt x="278" y="358"/>
                    </a:lnTo>
                    <a:lnTo>
                      <a:pt x="281" y="365"/>
                    </a:lnTo>
                    <a:lnTo>
                      <a:pt x="285" y="371"/>
                    </a:lnTo>
                    <a:lnTo>
                      <a:pt x="305" y="381"/>
                    </a:lnTo>
                    <a:lnTo>
                      <a:pt x="319" y="387"/>
                    </a:lnTo>
                    <a:lnTo>
                      <a:pt x="324" y="393"/>
                    </a:lnTo>
                    <a:lnTo>
                      <a:pt x="327" y="398"/>
                    </a:lnTo>
                    <a:lnTo>
                      <a:pt x="327" y="409"/>
                    </a:lnTo>
                    <a:lnTo>
                      <a:pt x="316" y="411"/>
                    </a:lnTo>
                    <a:lnTo>
                      <a:pt x="302" y="414"/>
                    </a:lnTo>
                    <a:lnTo>
                      <a:pt x="279" y="412"/>
                    </a:lnTo>
                    <a:lnTo>
                      <a:pt x="259" y="409"/>
                    </a:lnTo>
                    <a:lnTo>
                      <a:pt x="236" y="401"/>
                    </a:lnTo>
                    <a:lnTo>
                      <a:pt x="220" y="394"/>
                    </a:lnTo>
                    <a:lnTo>
                      <a:pt x="206" y="385"/>
                    </a:lnTo>
                    <a:lnTo>
                      <a:pt x="193" y="384"/>
                    </a:lnTo>
                    <a:lnTo>
                      <a:pt x="182" y="383"/>
                    </a:lnTo>
                    <a:lnTo>
                      <a:pt x="171" y="379"/>
                    </a:lnTo>
                    <a:lnTo>
                      <a:pt x="161" y="375"/>
                    </a:lnTo>
                    <a:lnTo>
                      <a:pt x="159" y="364"/>
                    </a:lnTo>
                    <a:lnTo>
                      <a:pt x="160" y="354"/>
                    </a:lnTo>
                    <a:lnTo>
                      <a:pt x="161" y="344"/>
                    </a:lnTo>
                    <a:lnTo>
                      <a:pt x="164" y="335"/>
                    </a:lnTo>
                    <a:lnTo>
                      <a:pt x="167" y="328"/>
                    </a:lnTo>
                    <a:lnTo>
                      <a:pt x="171" y="319"/>
                    </a:lnTo>
                    <a:lnTo>
                      <a:pt x="176" y="312"/>
                    </a:lnTo>
                    <a:lnTo>
                      <a:pt x="176" y="303"/>
                    </a:lnTo>
                    <a:lnTo>
                      <a:pt x="176" y="295"/>
                    </a:lnTo>
                    <a:lnTo>
                      <a:pt x="179" y="289"/>
                    </a:lnTo>
                    <a:lnTo>
                      <a:pt x="182" y="284"/>
                    </a:lnTo>
                    <a:lnTo>
                      <a:pt x="182" y="254"/>
                    </a:lnTo>
                    <a:lnTo>
                      <a:pt x="171" y="249"/>
                    </a:lnTo>
                    <a:lnTo>
                      <a:pt x="172" y="242"/>
                    </a:lnTo>
                    <a:lnTo>
                      <a:pt x="174" y="235"/>
                    </a:lnTo>
                    <a:lnTo>
                      <a:pt x="174" y="225"/>
                    </a:lnTo>
                    <a:lnTo>
                      <a:pt x="172" y="215"/>
                    </a:lnTo>
                    <a:lnTo>
                      <a:pt x="174" y="199"/>
                    </a:lnTo>
                    <a:lnTo>
                      <a:pt x="179" y="178"/>
                    </a:lnTo>
                    <a:lnTo>
                      <a:pt x="184" y="156"/>
                    </a:lnTo>
                    <a:lnTo>
                      <a:pt x="193" y="133"/>
                    </a:lnTo>
                    <a:lnTo>
                      <a:pt x="179" y="150"/>
                    </a:lnTo>
                    <a:lnTo>
                      <a:pt x="163" y="167"/>
                    </a:lnTo>
                    <a:lnTo>
                      <a:pt x="150" y="180"/>
                    </a:lnTo>
                    <a:lnTo>
                      <a:pt x="135" y="194"/>
                    </a:lnTo>
                    <a:lnTo>
                      <a:pt x="120" y="205"/>
                    </a:lnTo>
                    <a:lnTo>
                      <a:pt x="104" y="219"/>
                    </a:lnTo>
                    <a:lnTo>
                      <a:pt x="89" y="231"/>
                    </a:lnTo>
                    <a:lnTo>
                      <a:pt x="70" y="241"/>
                    </a:lnTo>
                    <a:lnTo>
                      <a:pt x="51" y="252"/>
                    </a:lnTo>
                    <a:lnTo>
                      <a:pt x="35" y="258"/>
                    </a:lnTo>
                    <a:lnTo>
                      <a:pt x="18" y="265"/>
                    </a:lnTo>
                    <a:lnTo>
                      <a:pt x="3" y="269"/>
                    </a:lnTo>
                    <a:lnTo>
                      <a:pt x="0" y="2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3414600" y="2082960"/>
                <a:ext cx="149400" cy="141120"/>
              </a:xfrm>
              <a:custGeom>
                <a:avLst/>
                <a:gdLst/>
                <a:ahLst/>
                <a:rect l="l" t="t" r="r" b="b"/>
                <a:pathLst>
                  <a:path w="468" h="446">
                    <a:moveTo>
                      <a:pt x="0" y="3"/>
                    </a:moveTo>
                    <a:lnTo>
                      <a:pt x="2" y="2"/>
                    </a:lnTo>
                    <a:lnTo>
                      <a:pt x="19" y="0"/>
                    </a:lnTo>
                    <a:lnTo>
                      <a:pt x="33" y="0"/>
                    </a:lnTo>
                    <a:lnTo>
                      <a:pt x="47" y="2"/>
                    </a:lnTo>
                    <a:lnTo>
                      <a:pt x="58" y="7"/>
                    </a:lnTo>
                    <a:lnTo>
                      <a:pt x="68" y="11"/>
                    </a:lnTo>
                    <a:lnTo>
                      <a:pt x="76" y="21"/>
                    </a:lnTo>
                    <a:lnTo>
                      <a:pt x="85" y="33"/>
                    </a:lnTo>
                    <a:lnTo>
                      <a:pt x="97" y="56"/>
                    </a:lnTo>
                    <a:lnTo>
                      <a:pt x="110" y="85"/>
                    </a:lnTo>
                    <a:lnTo>
                      <a:pt x="116" y="92"/>
                    </a:lnTo>
                    <a:lnTo>
                      <a:pt x="119" y="98"/>
                    </a:lnTo>
                    <a:lnTo>
                      <a:pt x="117" y="103"/>
                    </a:lnTo>
                    <a:lnTo>
                      <a:pt x="112" y="108"/>
                    </a:lnTo>
                    <a:lnTo>
                      <a:pt x="94" y="114"/>
                    </a:lnTo>
                    <a:lnTo>
                      <a:pt x="96" y="130"/>
                    </a:lnTo>
                    <a:lnTo>
                      <a:pt x="97" y="144"/>
                    </a:lnTo>
                    <a:lnTo>
                      <a:pt x="97" y="155"/>
                    </a:lnTo>
                    <a:lnTo>
                      <a:pt x="106" y="156"/>
                    </a:lnTo>
                    <a:lnTo>
                      <a:pt x="116" y="176"/>
                    </a:lnTo>
                    <a:lnTo>
                      <a:pt x="198" y="263"/>
                    </a:lnTo>
                    <a:lnTo>
                      <a:pt x="202" y="269"/>
                    </a:lnTo>
                    <a:lnTo>
                      <a:pt x="203" y="275"/>
                    </a:lnTo>
                    <a:lnTo>
                      <a:pt x="202" y="281"/>
                    </a:lnTo>
                    <a:lnTo>
                      <a:pt x="198" y="284"/>
                    </a:lnTo>
                    <a:lnTo>
                      <a:pt x="194" y="285"/>
                    </a:lnTo>
                    <a:lnTo>
                      <a:pt x="194" y="292"/>
                    </a:lnTo>
                    <a:lnTo>
                      <a:pt x="192" y="297"/>
                    </a:lnTo>
                    <a:lnTo>
                      <a:pt x="189" y="302"/>
                    </a:lnTo>
                    <a:lnTo>
                      <a:pt x="192" y="305"/>
                    </a:lnTo>
                    <a:lnTo>
                      <a:pt x="194" y="309"/>
                    </a:lnTo>
                    <a:lnTo>
                      <a:pt x="199" y="317"/>
                    </a:lnTo>
                    <a:lnTo>
                      <a:pt x="209" y="323"/>
                    </a:lnTo>
                    <a:lnTo>
                      <a:pt x="216" y="328"/>
                    </a:lnTo>
                    <a:lnTo>
                      <a:pt x="223" y="334"/>
                    </a:lnTo>
                    <a:lnTo>
                      <a:pt x="230" y="338"/>
                    </a:lnTo>
                    <a:lnTo>
                      <a:pt x="249" y="332"/>
                    </a:lnTo>
                    <a:lnTo>
                      <a:pt x="260" y="330"/>
                    </a:lnTo>
                    <a:lnTo>
                      <a:pt x="271" y="328"/>
                    </a:lnTo>
                    <a:lnTo>
                      <a:pt x="278" y="325"/>
                    </a:lnTo>
                    <a:lnTo>
                      <a:pt x="308" y="305"/>
                    </a:lnTo>
                    <a:lnTo>
                      <a:pt x="346" y="263"/>
                    </a:lnTo>
                    <a:lnTo>
                      <a:pt x="352" y="264"/>
                    </a:lnTo>
                    <a:lnTo>
                      <a:pt x="373" y="240"/>
                    </a:lnTo>
                    <a:lnTo>
                      <a:pt x="374" y="234"/>
                    </a:lnTo>
                    <a:lnTo>
                      <a:pt x="378" y="228"/>
                    </a:lnTo>
                    <a:lnTo>
                      <a:pt x="384" y="221"/>
                    </a:lnTo>
                    <a:lnTo>
                      <a:pt x="468" y="218"/>
                    </a:lnTo>
                    <a:lnTo>
                      <a:pt x="412" y="251"/>
                    </a:lnTo>
                    <a:lnTo>
                      <a:pt x="401" y="263"/>
                    </a:lnTo>
                    <a:lnTo>
                      <a:pt x="385" y="291"/>
                    </a:lnTo>
                    <a:lnTo>
                      <a:pt x="387" y="297"/>
                    </a:lnTo>
                    <a:lnTo>
                      <a:pt x="344" y="371"/>
                    </a:lnTo>
                    <a:lnTo>
                      <a:pt x="331" y="409"/>
                    </a:lnTo>
                    <a:lnTo>
                      <a:pt x="314" y="423"/>
                    </a:lnTo>
                    <a:lnTo>
                      <a:pt x="298" y="433"/>
                    </a:lnTo>
                    <a:lnTo>
                      <a:pt x="276" y="442"/>
                    </a:lnTo>
                    <a:lnTo>
                      <a:pt x="261" y="445"/>
                    </a:lnTo>
                    <a:lnTo>
                      <a:pt x="249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3451320" y="2122560"/>
                <a:ext cx="198360" cy="57240"/>
              </a:xfrm>
              <a:custGeom>
                <a:avLst/>
                <a:gdLst/>
                <a:ahLst/>
                <a:rect l="l" t="t" r="r" b="b"/>
                <a:pathLst>
                  <a:path w="621" h="177">
                    <a:moveTo>
                      <a:pt x="436" y="85"/>
                    </a:moveTo>
                    <a:lnTo>
                      <a:pt x="427" y="82"/>
                    </a:lnTo>
                    <a:lnTo>
                      <a:pt x="364" y="84"/>
                    </a:lnTo>
                    <a:lnTo>
                      <a:pt x="360" y="87"/>
                    </a:lnTo>
                    <a:lnTo>
                      <a:pt x="430" y="90"/>
                    </a:lnTo>
                    <a:lnTo>
                      <a:pt x="425" y="92"/>
                    </a:lnTo>
                    <a:lnTo>
                      <a:pt x="353" y="92"/>
                    </a:lnTo>
                    <a:lnTo>
                      <a:pt x="268" y="95"/>
                    </a:lnTo>
                    <a:lnTo>
                      <a:pt x="248" y="95"/>
                    </a:lnTo>
                    <a:lnTo>
                      <a:pt x="176" y="124"/>
                    </a:lnTo>
                    <a:lnTo>
                      <a:pt x="176" y="166"/>
                    </a:lnTo>
                    <a:lnTo>
                      <a:pt x="128" y="177"/>
                    </a:lnTo>
                    <a:lnTo>
                      <a:pt x="128" y="137"/>
                    </a:lnTo>
                    <a:lnTo>
                      <a:pt x="124" y="126"/>
                    </a:lnTo>
                    <a:lnTo>
                      <a:pt x="124" y="116"/>
                    </a:lnTo>
                    <a:lnTo>
                      <a:pt x="122" y="113"/>
                    </a:lnTo>
                    <a:lnTo>
                      <a:pt x="120" y="111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8" y="108"/>
                    </a:lnTo>
                    <a:lnTo>
                      <a:pt x="104" y="117"/>
                    </a:lnTo>
                    <a:lnTo>
                      <a:pt x="105" y="123"/>
                    </a:lnTo>
                    <a:lnTo>
                      <a:pt x="105" y="126"/>
                    </a:lnTo>
                    <a:lnTo>
                      <a:pt x="103" y="128"/>
                    </a:lnTo>
                    <a:lnTo>
                      <a:pt x="99" y="130"/>
                    </a:lnTo>
                    <a:lnTo>
                      <a:pt x="119" y="130"/>
                    </a:lnTo>
                    <a:lnTo>
                      <a:pt x="121" y="130"/>
                    </a:lnTo>
                    <a:lnTo>
                      <a:pt x="122" y="128"/>
                    </a:lnTo>
                    <a:lnTo>
                      <a:pt x="124" y="126"/>
                    </a:lnTo>
                    <a:lnTo>
                      <a:pt x="128" y="137"/>
                    </a:lnTo>
                    <a:lnTo>
                      <a:pt x="82" y="137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40"/>
                    </a:lnTo>
                    <a:lnTo>
                      <a:pt x="42" y="40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4" y="9"/>
                    </a:lnTo>
                    <a:lnTo>
                      <a:pt x="60" y="5"/>
                    </a:lnTo>
                    <a:lnTo>
                      <a:pt x="66" y="4"/>
                    </a:lnTo>
                    <a:lnTo>
                      <a:pt x="180" y="14"/>
                    </a:lnTo>
                    <a:lnTo>
                      <a:pt x="184" y="16"/>
                    </a:lnTo>
                    <a:lnTo>
                      <a:pt x="188" y="19"/>
                    </a:lnTo>
                    <a:lnTo>
                      <a:pt x="191" y="24"/>
                    </a:lnTo>
                    <a:lnTo>
                      <a:pt x="191" y="30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3"/>
                    </a:lnTo>
                    <a:lnTo>
                      <a:pt x="185" y="29"/>
                    </a:lnTo>
                    <a:lnTo>
                      <a:pt x="185" y="24"/>
                    </a:lnTo>
                    <a:lnTo>
                      <a:pt x="182" y="20"/>
                    </a:lnTo>
                    <a:lnTo>
                      <a:pt x="176" y="18"/>
                    </a:lnTo>
                    <a:lnTo>
                      <a:pt x="92" y="18"/>
                    </a:lnTo>
                    <a:lnTo>
                      <a:pt x="88" y="22"/>
                    </a:lnTo>
                    <a:lnTo>
                      <a:pt x="86" y="28"/>
                    </a:lnTo>
                    <a:lnTo>
                      <a:pt x="85" y="32"/>
                    </a:lnTo>
                    <a:lnTo>
                      <a:pt x="85" y="36"/>
                    </a:lnTo>
                    <a:lnTo>
                      <a:pt x="86" y="38"/>
                    </a:lnTo>
                    <a:lnTo>
                      <a:pt x="89" y="40"/>
                    </a:lnTo>
                    <a:lnTo>
                      <a:pt x="176" y="40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40"/>
                    </a:lnTo>
                    <a:lnTo>
                      <a:pt x="475" y="40"/>
                    </a:lnTo>
                    <a:lnTo>
                      <a:pt x="474" y="28"/>
                    </a:lnTo>
                    <a:lnTo>
                      <a:pt x="470" y="28"/>
                    </a:lnTo>
                    <a:lnTo>
                      <a:pt x="470" y="15"/>
                    </a:lnTo>
                    <a:lnTo>
                      <a:pt x="461" y="15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6" y="3"/>
                    </a:lnTo>
                    <a:lnTo>
                      <a:pt x="470" y="0"/>
                    </a:lnTo>
                    <a:lnTo>
                      <a:pt x="475" y="3"/>
                    </a:lnTo>
                    <a:lnTo>
                      <a:pt x="478" y="6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4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3"/>
                    </a:lnTo>
                    <a:lnTo>
                      <a:pt x="608" y="63"/>
                    </a:lnTo>
                    <a:lnTo>
                      <a:pt x="602" y="60"/>
                    </a:lnTo>
                    <a:lnTo>
                      <a:pt x="481" y="60"/>
                    </a:lnTo>
                    <a:lnTo>
                      <a:pt x="481" y="65"/>
                    </a:lnTo>
                    <a:lnTo>
                      <a:pt x="470" y="65"/>
                    </a:lnTo>
                    <a:lnTo>
                      <a:pt x="470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3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3506760" y="2397240"/>
                <a:ext cx="247680" cy="272880"/>
              </a:xfrm>
              <a:custGeom>
                <a:avLst/>
                <a:gdLst/>
                <a:ahLst/>
                <a:rect l="l" t="t" r="r" b="b"/>
                <a:pathLst>
                  <a:path w="780" h="860">
                    <a:moveTo>
                      <a:pt x="409" y="452"/>
                    </a:moveTo>
                    <a:lnTo>
                      <a:pt x="424" y="440"/>
                    </a:lnTo>
                    <a:lnTo>
                      <a:pt x="437" y="432"/>
                    </a:lnTo>
                    <a:lnTo>
                      <a:pt x="450" y="425"/>
                    </a:lnTo>
                    <a:lnTo>
                      <a:pt x="464" y="419"/>
                    </a:lnTo>
                    <a:lnTo>
                      <a:pt x="438" y="402"/>
                    </a:lnTo>
                    <a:lnTo>
                      <a:pt x="426" y="393"/>
                    </a:lnTo>
                    <a:lnTo>
                      <a:pt x="413" y="384"/>
                    </a:lnTo>
                    <a:lnTo>
                      <a:pt x="414" y="401"/>
                    </a:lnTo>
                    <a:lnTo>
                      <a:pt x="411" y="416"/>
                    </a:lnTo>
                    <a:lnTo>
                      <a:pt x="409" y="452"/>
                    </a:lnTo>
                    <a:close/>
                    <a:moveTo>
                      <a:pt x="0" y="491"/>
                    </a:moveTo>
                    <a:lnTo>
                      <a:pt x="29" y="524"/>
                    </a:lnTo>
                    <a:lnTo>
                      <a:pt x="58" y="555"/>
                    </a:lnTo>
                    <a:lnTo>
                      <a:pt x="90" y="587"/>
                    </a:lnTo>
                    <a:lnTo>
                      <a:pt x="121" y="617"/>
                    </a:lnTo>
                    <a:lnTo>
                      <a:pt x="152" y="646"/>
                    </a:lnTo>
                    <a:lnTo>
                      <a:pt x="186" y="675"/>
                    </a:lnTo>
                    <a:lnTo>
                      <a:pt x="219" y="702"/>
                    </a:lnTo>
                    <a:lnTo>
                      <a:pt x="254" y="729"/>
                    </a:lnTo>
                    <a:lnTo>
                      <a:pt x="257" y="717"/>
                    </a:lnTo>
                    <a:lnTo>
                      <a:pt x="273" y="711"/>
                    </a:lnTo>
                    <a:lnTo>
                      <a:pt x="289" y="705"/>
                    </a:lnTo>
                    <a:lnTo>
                      <a:pt x="307" y="698"/>
                    </a:lnTo>
                    <a:lnTo>
                      <a:pt x="325" y="687"/>
                    </a:lnTo>
                    <a:lnTo>
                      <a:pt x="343" y="677"/>
                    </a:lnTo>
                    <a:lnTo>
                      <a:pt x="359" y="665"/>
                    </a:lnTo>
                    <a:lnTo>
                      <a:pt x="376" y="652"/>
                    </a:lnTo>
                    <a:lnTo>
                      <a:pt x="389" y="641"/>
                    </a:lnTo>
                    <a:lnTo>
                      <a:pt x="405" y="627"/>
                    </a:lnTo>
                    <a:lnTo>
                      <a:pt x="418" y="613"/>
                    </a:lnTo>
                    <a:lnTo>
                      <a:pt x="434" y="597"/>
                    </a:lnTo>
                    <a:lnTo>
                      <a:pt x="448" y="579"/>
                    </a:lnTo>
                    <a:lnTo>
                      <a:pt x="439" y="602"/>
                    </a:lnTo>
                    <a:lnTo>
                      <a:pt x="434" y="624"/>
                    </a:lnTo>
                    <a:lnTo>
                      <a:pt x="430" y="645"/>
                    </a:lnTo>
                    <a:lnTo>
                      <a:pt x="427" y="661"/>
                    </a:lnTo>
                    <a:lnTo>
                      <a:pt x="430" y="672"/>
                    </a:lnTo>
                    <a:lnTo>
                      <a:pt x="430" y="682"/>
                    </a:lnTo>
                    <a:lnTo>
                      <a:pt x="427" y="688"/>
                    </a:lnTo>
                    <a:lnTo>
                      <a:pt x="426" y="696"/>
                    </a:lnTo>
                    <a:lnTo>
                      <a:pt x="437" y="700"/>
                    </a:lnTo>
                    <a:lnTo>
                      <a:pt x="437" y="729"/>
                    </a:lnTo>
                    <a:lnTo>
                      <a:pt x="434" y="735"/>
                    </a:lnTo>
                    <a:lnTo>
                      <a:pt x="431" y="741"/>
                    </a:lnTo>
                    <a:lnTo>
                      <a:pt x="431" y="750"/>
                    </a:lnTo>
                    <a:lnTo>
                      <a:pt x="431" y="759"/>
                    </a:lnTo>
                    <a:lnTo>
                      <a:pt x="426" y="765"/>
                    </a:lnTo>
                    <a:lnTo>
                      <a:pt x="422" y="774"/>
                    </a:lnTo>
                    <a:lnTo>
                      <a:pt x="419" y="782"/>
                    </a:lnTo>
                    <a:lnTo>
                      <a:pt x="417" y="791"/>
                    </a:lnTo>
                    <a:lnTo>
                      <a:pt x="416" y="800"/>
                    </a:lnTo>
                    <a:lnTo>
                      <a:pt x="414" y="809"/>
                    </a:lnTo>
                    <a:lnTo>
                      <a:pt x="417" y="821"/>
                    </a:lnTo>
                    <a:lnTo>
                      <a:pt x="426" y="826"/>
                    </a:lnTo>
                    <a:lnTo>
                      <a:pt x="437" y="829"/>
                    </a:lnTo>
                    <a:lnTo>
                      <a:pt x="448" y="830"/>
                    </a:lnTo>
                    <a:lnTo>
                      <a:pt x="461" y="831"/>
                    </a:lnTo>
                    <a:lnTo>
                      <a:pt x="474" y="840"/>
                    </a:lnTo>
                    <a:lnTo>
                      <a:pt x="491" y="848"/>
                    </a:lnTo>
                    <a:lnTo>
                      <a:pt x="514" y="855"/>
                    </a:lnTo>
                    <a:lnTo>
                      <a:pt x="534" y="859"/>
                    </a:lnTo>
                    <a:lnTo>
                      <a:pt x="557" y="860"/>
                    </a:lnTo>
                    <a:lnTo>
                      <a:pt x="571" y="858"/>
                    </a:lnTo>
                    <a:lnTo>
                      <a:pt x="582" y="855"/>
                    </a:lnTo>
                    <a:lnTo>
                      <a:pt x="582" y="845"/>
                    </a:lnTo>
                    <a:lnTo>
                      <a:pt x="580" y="839"/>
                    </a:lnTo>
                    <a:lnTo>
                      <a:pt x="573" y="833"/>
                    </a:lnTo>
                    <a:lnTo>
                      <a:pt x="560" y="828"/>
                    </a:lnTo>
                    <a:lnTo>
                      <a:pt x="540" y="817"/>
                    </a:lnTo>
                    <a:lnTo>
                      <a:pt x="536" y="811"/>
                    </a:lnTo>
                    <a:lnTo>
                      <a:pt x="533" y="805"/>
                    </a:lnTo>
                    <a:lnTo>
                      <a:pt x="529" y="799"/>
                    </a:lnTo>
                    <a:lnTo>
                      <a:pt x="526" y="795"/>
                    </a:lnTo>
                    <a:lnTo>
                      <a:pt x="518" y="793"/>
                    </a:lnTo>
                    <a:lnTo>
                      <a:pt x="515" y="784"/>
                    </a:lnTo>
                    <a:lnTo>
                      <a:pt x="511" y="777"/>
                    </a:lnTo>
                    <a:lnTo>
                      <a:pt x="503" y="772"/>
                    </a:lnTo>
                    <a:lnTo>
                      <a:pt x="507" y="764"/>
                    </a:lnTo>
                    <a:lnTo>
                      <a:pt x="507" y="759"/>
                    </a:lnTo>
                    <a:lnTo>
                      <a:pt x="504" y="752"/>
                    </a:lnTo>
                    <a:lnTo>
                      <a:pt x="504" y="746"/>
                    </a:lnTo>
                    <a:lnTo>
                      <a:pt x="512" y="712"/>
                    </a:lnTo>
                    <a:lnTo>
                      <a:pt x="520" y="706"/>
                    </a:lnTo>
                    <a:lnTo>
                      <a:pt x="529" y="699"/>
                    </a:lnTo>
                    <a:lnTo>
                      <a:pt x="539" y="667"/>
                    </a:lnTo>
                    <a:lnTo>
                      <a:pt x="549" y="620"/>
                    </a:lnTo>
                    <a:lnTo>
                      <a:pt x="558" y="574"/>
                    </a:lnTo>
                    <a:lnTo>
                      <a:pt x="562" y="524"/>
                    </a:lnTo>
                    <a:lnTo>
                      <a:pt x="562" y="482"/>
                    </a:lnTo>
                    <a:lnTo>
                      <a:pt x="560" y="446"/>
                    </a:lnTo>
                    <a:lnTo>
                      <a:pt x="573" y="445"/>
                    </a:lnTo>
                    <a:lnTo>
                      <a:pt x="588" y="443"/>
                    </a:lnTo>
                    <a:lnTo>
                      <a:pt x="609" y="433"/>
                    </a:lnTo>
                    <a:lnTo>
                      <a:pt x="626" y="423"/>
                    </a:lnTo>
                    <a:lnTo>
                      <a:pt x="643" y="410"/>
                    </a:lnTo>
                    <a:lnTo>
                      <a:pt x="656" y="371"/>
                    </a:lnTo>
                    <a:lnTo>
                      <a:pt x="699" y="298"/>
                    </a:lnTo>
                    <a:lnTo>
                      <a:pt x="697" y="291"/>
                    </a:lnTo>
                    <a:lnTo>
                      <a:pt x="713" y="263"/>
                    </a:lnTo>
                    <a:lnTo>
                      <a:pt x="724" y="251"/>
                    </a:lnTo>
                    <a:lnTo>
                      <a:pt x="780" y="218"/>
                    </a:lnTo>
                    <a:lnTo>
                      <a:pt x="695" y="221"/>
                    </a:lnTo>
                    <a:lnTo>
                      <a:pt x="690" y="228"/>
                    </a:lnTo>
                    <a:lnTo>
                      <a:pt x="686" y="235"/>
                    </a:lnTo>
                    <a:lnTo>
                      <a:pt x="684" y="240"/>
                    </a:lnTo>
                    <a:lnTo>
                      <a:pt x="663" y="264"/>
                    </a:lnTo>
                    <a:lnTo>
                      <a:pt x="658" y="263"/>
                    </a:lnTo>
                    <a:lnTo>
                      <a:pt x="621" y="305"/>
                    </a:lnTo>
                    <a:lnTo>
                      <a:pt x="590" y="325"/>
                    </a:lnTo>
                    <a:lnTo>
                      <a:pt x="583" y="327"/>
                    </a:lnTo>
                    <a:lnTo>
                      <a:pt x="572" y="331"/>
                    </a:lnTo>
                    <a:lnTo>
                      <a:pt x="561" y="333"/>
                    </a:lnTo>
                    <a:lnTo>
                      <a:pt x="542" y="338"/>
                    </a:lnTo>
                    <a:lnTo>
                      <a:pt x="535" y="334"/>
                    </a:lnTo>
                    <a:lnTo>
                      <a:pt x="528" y="327"/>
                    </a:lnTo>
                    <a:lnTo>
                      <a:pt x="520" y="323"/>
                    </a:lnTo>
                    <a:lnTo>
                      <a:pt x="512" y="317"/>
                    </a:lnTo>
                    <a:lnTo>
                      <a:pt x="506" y="310"/>
                    </a:lnTo>
                    <a:lnTo>
                      <a:pt x="504" y="305"/>
                    </a:lnTo>
                    <a:lnTo>
                      <a:pt x="501" y="302"/>
                    </a:lnTo>
                    <a:lnTo>
                      <a:pt x="504" y="298"/>
                    </a:lnTo>
                    <a:lnTo>
                      <a:pt x="506" y="292"/>
                    </a:lnTo>
                    <a:lnTo>
                      <a:pt x="506" y="285"/>
                    </a:lnTo>
                    <a:lnTo>
                      <a:pt x="509" y="284"/>
                    </a:lnTo>
                    <a:lnTo>
                      <a:pt x="514" y="281"/>
                    </a:lnTo>
                    <a:lnTo>
                      <a:pt x="515" y="275"/>
                    </a:lnTo>
                    <a:lnTo>
                      <a:pt x="514" y="269"/>
                    </a:lnTo>
                    <a:lnTo>
                      <a:pt x="509" y="263"/>
                    </a:lnTo>
                    <a:lnTo>
                      <a:pt x="429" y="177"/>
                    </a:lnTo>
                    <a:lnTo>
                      <a:pt x="418" y="157"/>
                    </a:lnTo>
                    <a:lnTo>
                      <a:pt x="409" y="156"/>
                    </a:lnTo>
                    <a:lnTo>
                      <a:pt x="409" y="145"/>
                    </a:lnTo>
                    <a:lnTo>
                      <a:pt x="408" y="130"/>
                    </a:lnTo>
                    <a:lnTo>
                      <a:pt x="406" y="115"/>
                    </a:lnTo>
                    <a:lnTo>
                      <a:pt x="423" y="108"/>
                    </a:lnTo>
                    <a:lnTo>
                      <a:pt x="430" y="104"/>
                    </a:lnTo>
                    <a:lnTo>
                      <a:pt x="431" y="98"/>
                    </a:lnTo>
                    <a:lnTo>
                      <a:pt x="429" y="93"/>
                    </a:lnTo>
                    <a:lnTo>
                      <a:pt x="422" y="85"/>
                    </a:lnTo>
                    <a:lnTo>
                      <a:pt x="409" y="57"/>
                    </a:lnTo>
                    <a:lnTo>
                      <a:pt x="397" y="32"/>
                    </a:lnTo>
                    <a:lnTo>
                      <a:pt x="389" y="21"/>
                    </a:lnTo>
                    <a:lnTo>
                      <a:pt x="379" y="11"/>
                    </a:lnTo>
                    <a:lnTo>
                      <a:pt x="370" y="7"/>
                    </a:lnTo>
                    <a:lnTo>
                      <a:pt x="359" y="3"/>
                    </a:lnTo>
                    <a:lnTo>
                      <a:pt x="344" y="0"/>
                    </a:lnTo>
                    <a:lnTo>
                      <a:pt x="331" y="0"/>
                    </a:lnTo>
                    <a:lnTo>
                      <a:pt x="313" y="3"/>
                    </a:lnTo>
                    <a:lnTo>
                      <a:pt x="297" y="8"/>
                    </a:lnTo>
                    <a:lnTo>
                      <a:pt x="280" y="14"/>
                    </a:lnTo>
                    <a:lnTo>
                      <a:pt x="257" y="26"/>
                    </a:lnTo>
                    <a:lnTo>
                      <a:pt x="249" y="35"/>
                    </a:lnTo>
                    <a:lnTo>
                      <a:pt x="240" y="48"/>
                    </a:lnTo>
                    <a:lnTo>
                      <a:pt x="233" y="65"/>
                    </a:lnTo>
                    <a:lnTo>
                      <a:pt x="230" y="82"/>
                    </a:lnTo>
                    <a:lnTo>
                      <a:pt x="230" y="98"/>
                    </a:lnTo>
                    <a:lnTo>
                      <a:pt x="231" y="115"/>
                    </a:lnTo>
                    <a:lnTo>
                      <a:pt x="233" y="130"/>
                    </a:lnTo>
                    <a:lnTo>
                      <a:pt x="231" y="131"/>
                    </a:lnTo>
                    <a:lnTo>
                      <a:pt x="234" y="146"/>
                    </a:lnTo>
                    <a:lnTo>
                      <a:pt x="232" y="154"/>
                    </a:lnTo>
                    <a:lnTo>
                      <a:pt x="208" y="159"/>
                    </a:lnTo>
                    <a:lnTo>
                      <a:pt x="198" y="157"/>
                    </a:lnTo>
                    <a:lnTo>
                      <a:pt x="188" y="157"/>
                    </a:lnTo>
                    <a:lnTo>
                      <a:pt x="178" y="159"/>
                    </a:lnTo>
                    <a:lnTo>
                      <a:pt x="168" y="164"/>
                    </a:lnTo>
                    <a:lnTo>
                      <a:pt x="159" y="174"/>
                    </a:lnTo>
                    <a:lnTo>
                      <a:pt x="144" y="184"/>
                    </a:lnTo>
                    <a:lnTo>
                      <a:pt x="127" y="198"/>
                    </a:lnTo>
                    <a:lnTo>
                      <a:pt x="117" y="214"/>
                    </a:lnTo>
                    <a:lnTo>
                      <a:pt x="106" y="233"/>
                    </a:lnTo>
                    <a:lnTo>
                      <a:pt x="102" y="249"/>
                    </a:lnTo>
                    <a:lnTo>
                      <a:pt x="100" y="262"/>
                    </a:lnTo>
                    <a:lnTo>
                      <a:pt x="103" y="277"/>
                    </a:lnTo>
                    <a:lnTo>
                      <a:pt x="109" y="298"/>
                    </a:lnTo>
                    <a:lnTo>
                      <a:pt x="102" y="307"/>
                    </a:lnTo>
                    <a:lnTo>
                      <a:pt x="97" y="318"/>
                    </a:lnTo>
                    <a:lnTo>
                      <a:pt x="92" y="334"/>
                    </a:lnTo>
                    <a:lnTo>
                      <a:pt x="70" y="425"/>
                    </a:lnTo>
                    <a:lnTo>
                      <a:pt x="73" y="440"/>
                    </a:lnTo>
                    <a:lnTo>
                      <a:pt x="77" y="454"/>
                    </a:lnTo>
                    <a:lnTo>
                      <a:pt x="72" y="452"/>
                    </a:lnTo>
                    <a:lnTo>
                      <a:pt x="69" y="451"/>
                    </a:lnTo>
                    <a:lnTo>
                      <a:pt x="66" y="449"/>
                    </a:lnTo>
                    <a:lnTo>
                      <a:pt x="54" y="451"/>
                    </a:lnTo>
                    <a:lnTo>
                      <a:pt x="54" y="457"/>
                    </a:lnTo>
                    <a:lnTo>
                      <a:pt x="64" y="456"/>
                    </a:lnTo>
                    <a:lnTo>
                      <a:pt x="65" y="460"/>
                    </a:lnTo>
                    <a:lnTo>
                      <a:pt x="63" y="465"/>
                    </a:lnTo>
                    <a:lnTo>
                      <a:pt x="58" y="467"/>
                    </a:lnTo>
                    <a:lnTo>
                      <a:pt x="54" y="467"/>
                    </a:lnTo>
                    <a:lnTo>
                      <a:pt x="50" y="465"/>
                    </a:lnTo>
                    <a:lnTo>
                      <a:pt x="53" y="461"/>
                    </a:lnTo>
                    <a:lnTo>
                      <a:pt x="54" y="457"/>
                    </a:lnTo>
                    <a:lnTo>
                      <a:pt x="54" y="451"/>
                    </a:lnTo>
                    <a:lnTo>
                      <a:pt x="53" y="443"/>
                    </a:lnTo>
                    <a:lnTo>
                      <a:pt x="51" y="438"/>
                    </a:lnTo>
                    <a:lnTo>
                      <a:pt x="49" y="436"/>
                    </a:lnTo>
                    <a:lnTo>
                      <a:pt x="46" y="436"/>
                    </a:lnTo>
                    <a:lnTo>
                      <a:pt x="46" y="431"/>
                    </a:lnTo>
                    <a:lnTo>
                      <a:pt x="26" y="431"/>
                    </a:lnTo>
                    <a:lnTo>
                      <a:pt x="26" y="436"/>
                    </a:lnTo>
                    <a:lnTo>
                      <a:pt x="23" y="436"/>
                    </a:lnTo>
                    <a:lnTo>
                      <a:pt x="22" y="438"/>
                    </a:lnTo>
                    <a:lnTo>
                      <a:pt x="21" y="442"/>
                    </a:lnTo>
                    <a:lnTo>
                      <a:pt x="16" y="457"/>
                    </a:lnTo>
                    <a:lnTo>
                      <a:pt x="22" y="467"/>
                    </a:lnTo>
                    <a:lnTo>
                      <a:pt x="9" y="470"/>
                    </a:lnTo>
                    <a:lnTo>
                      <a:pt x="5" y="476"/>
                    </a:lnTo>
                    <a:lnTo>
                      <a:pt x="4" y="480"/>
                    </a:lnTo>
                    <a:lnTo>
                      <a:pt x="2" y="488"/>
                    </a:lnTo>
                    <a:lnTo>
                      <a:pt x="0" y="491"/>
                    </a:lnTo>
                    <a:close/>
                    <a:moveTo>
                      <a:pt x="76" y="467"/>
                    </a:moveTo>
                    <a:lnTo>
                      <a:pt x="69" y="472"/>
                    </a:lnTo>
                    <a:lnTo>
                      <a:pt x="71" y="477"/>
                    </a:lnTo>
                    <a:lnTo>
                      <a:pt x="73" y="481"/>
                    </a:lnTo>
                    <a:lnTo>
                      <a:pt x="76" y="477"/>
                    </a:lnTo>
                    <a:lnTo>
                      <a:pt x="77" y="471"/>
                    </a:lnTo>
                    <a:lnTo>
                      <a:pt x="76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3587760" y="2538360"/>
                <a:ext cx="103320" cy="131760"/>
              </a:xfrm>
              <a:custGeom>
                <a:avLst/>
                <a:gdLst/>
                <a:ahLst/>
                <a:rect l="l" t="t" r="r" b="b"/>
                <a:pathLst>
                  <a:path w="328" h="414">
                    <a:moveTo>
                      <a:pt x="306" y="0"/>
                    </a:moveTo>
                    <a:lnTo>
                      <a:pt x="308" y="36"/>
                    </a:lnTo>
                    <a:lnTo>
                      <a:pt x="308" y="78"/>
                    </a:lnTo>
                    <a:lnTo>
                      <a:pt x="304" y="128"/>
                    </a:lnTo>
                    <a:lnTo>
                      <a:pt x="295" y="174"/>
                    </a:lnTo>
                    <a:lnTo>
                      <a:pt x="285" y="221"/>
                    </a:lnTo>
                    <a:lnTo>
                      <a:pt x="275" y="253"/>
                    </a:lnTo>
                    <a:lnTo>
                      <a:pt x="266" y="260"/>
                    </a:lnTo>
                    <a:lnTo>
                      <a:pt x="258" y="266"/>
                    </a:lnTo>
                    <a:lnTo>
                      <a:pt x="250" y="300"/>
                    </a:lnTo>
                    <a:lnTo>
                      <a:pt x="250" y="306"/>
                    </a:lnTo>
                    <a:lnTo>
                      <a:pt x="253" y="313"/>
                    </a:lnTo>
                    <a:lnTo>
                      <a:pt x="253" y="318"/>
                    </a:lnTo>
                    <a:lnTo>
                      <a:pt x="249" y="326"/>
                    </a:lnTo>
                    <a:lnTo>
                      <a:pt x="257" y="331"/>
                    </a:lnTo>
                    <a:lnTo>
                      <a:pt x="261" y="338"/>
                    </a:lnTo>
                    <a:lnTo>
                      <a:pt x="264" y="347"/>
                    </a:lnTo>
                    <a:lnTo>
                      <a:pt x="272" y="349"/>
                    </a:lnTo>
                    <a:lnTo>
                      <a:pt x="275" y="353"/>
                    </a:lnTo>
                    <a:lnTo>
                      <a:pt x="279" y="359"/>
                    </a:lnTo>
                    <a:lnTo>
                      <a:pt x="282" y="365"/>
                    </a:lnTo>
                    <a:lnTo>
                      <a:pt x="286" y="371"/>
                    </a:lnTo>
                    <a:lnTo>
                      <a:pt x="306" y="382"/>
                    </a:lnTo>
                    <a:lnTo>
                      <a:pt x="319" y="387"/>
                    </a:lnTo>
                    <a:lnTo>
                      <a:pt x="326" y="393"/>
                    </a:lnTo>
                    <a:lnTo>
                      <a:pt x="328" y="399"/>
                    </a:lnTo>
                    <a:lnTo>
                      <a:pt x="328" y="409"/>
                    </a:lnTo>
                    <a:lnTo>
                      <a:pt x="317" y="412"/>
                    </a:lnTo>
                    <a:lnTo>
                      <a:pt x="303" y="414"/>
                    </a:lnTo>
                    <a:lnTo>
                      <a:pt x="280" y="413"/>
                    </a:lnTo>
                    <a:lnTo>
                      <a:pt x="260" y="409"/>
                    </a:lnTo>
                    <a:lnTo>
                      <a:pt x="237" y="402"/>
                    </a:lnTo>
                    <a:lnTo>
                      <a:pt x="220" y="394"/>
                    </a:lnTo>
                    <a:lnTo>
                      <a:pt x="207" y="385"/>
                    </a:lnTo>
                    <a:lnTo>
                      <a:pt x="194" y="384"/>
                    </a:lnTo>
                    <a:lnTo>
                      <a:pt x="183" y="383"/>
                    </a:lnTo>
                    <a:lnTo>
                      <a:pt x="172" y="380"/>
                    </a:lnTo>
                    <a:lnTo>
                      <a:pt x="163" y="375"/>
                    </a:lnTo>
                    <a:lnTo>
                      <a:pt x="160" y="363"/>
                    </a:lnTo>
                    <a:lnTo>
                      <a:pt x="162" y="354"/>
                    </a:lnTo>
                    <a:lnTo>
                      <a:pt x="163" y="345"/>
                    </a:lnTo>
                    <a:lnTo>
                      <a:pt x="165" y="336"/>
                    </a:lnTo>
                    <a:lnTo>
                      <a:pt x="168" y="328"/>
                    </a:lnTo>
                    <a:lnTo>
                      <a:pt x="172" y="319"/>
                    </a:lnTo>
                    <a:lnTo>
                      <a:pt x="177" y="313"/>
                    </a:lnTo>
                    <a:lnTo>
                      <a:pt x="177" y="304"/>
                    </a:lnTo>
                    <a:lnTo>
                      <a:pt x="177" y="295"/>
                    </a:lnTo>
                    <a:lnTo>
                      <a:pt x="180" y="289"/>
                    </a:lnTo>
                    <a:lnTo>
                      <a:pt x="183" y="283"/>
                    </a:lnTo>
                    <a:lnTo>
                      <a:pt x="183" y="254"/>
                    </a:lnTo>
                    <a:lnTo>
                      <a:pt x="172" y="250"/>
                    </a:lnTo>
                    <a:lnTo>
                      <a:pt x="173" y="242"/>
                    </a:lnTo>
                    <a:lnTo>
                      <a:pt x="176" y="236"/>
                    </a:lnTo>
                    <a:lnTo>
                      <a:pt x="176" y="226"/>
                    </a:lnTo>
                    <a:lnTo>
                      <a:pt x="173" y="215"/>
                    </a:lnTo>
                    <a:lnTo>
                      <a:pt x="176" y="199"/>
                    </a:lnTo>
                    <a:lnTo>
                      <a:pt x="180" y="178"/>
                    </a:lnTo>
                    <a:lnTo>
                      <a:pt x="185" y="156"/>
                    </a:lnTo>
                    <a:lnTo>
                      <a:pt x="194" y="133"/>
                    </a:lnTo>
                    <a:lnTo>
                      <a:pt x="180" y="151"/>
                    </a:lnTo>
                    <a:lnTo>
                      <a:pt x="164" y="167"/>
                    </a:lnTo>
                    <a:lnTo>
                      <a:pt x="151" y="181"/>
                    </a:lnTo>
                    <a:lnTo>
                      <a:pt x="135" y="195"/>
                    </a:lnTo>
                    <a:lnTo>
                      <a:pt x="122" y="206"/>
                    </a:lnTo>
                    <a:lnTo>
                      <a:pt x="105" y="219"/>
                    </a:lnTo>
                    <a:lnTo>
                      <a:pt x="89" y="231"/>
                    </a:lnTo>
                    <a:lnTo>
                      <a:pt x="71" y="241"/>
                    </a:lnTo>
                    <a:lnTo>
                      <a:pt x="53" y="252"/>
                    </a:lnTo>
                    <a:lnTo>
                      <a:pt x="35" y="259"/>
                    </a:lnTo>
                    <a:lnTo>
                      <a:pt x="19" y="265"/>
                    </a:lnTo>
                    <a:lnTo>
                      <a:pt x="3" y="271"/>
                    </a:lnTo>
                    <a:lnTo>
                      <a:pt x="0" y="2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3506760" y="2397240"/>
                <a:ext cx="247680" cy="155520"/>
              </a:xfrm>
              <a:custGeom>
                <a:avLst/>
                <a:gdLst/>
                <a:ahLst/>
                <a:rect l="l" t="t" r="r" b="b"/>
                <a:pathLst>
                  <a:path w="780" h="491">
                    <a:moveTo>
                      <a:pt x="0" y="491"/>
                    </a:moveTo>
                    <a:lnTo>
                      <a:pt x="2" y="488"/>
                    </a:lnTo>
                    <a:lnTo>
                      <a:pt x="4" y="480"/>
                    </a:lnTo>
                    <a:lnTo>
                      <a:pt x="5" y="476"/>
                    </a:lnTo>
                    <a:lnTo>
                      <a:pt x="9" y="470"/>
                    </a:lnTo>
                    <a:lnTo>
                      <a:pt x="22" y="467"/>
                    </a:lnTo>
                    <a:lnTo>
                      <a:pt x="16" y="457"/>
                    </a:lnTo>
                    <a:lnTo>
                      <a:pt x="21" y="442"/>
                    </a:lnTo>
                    <a:lnTo>
                      <a:pt x="22" y="438"/>
                    </a:lnTo>
                    <a:lnTo>
                      <a:pt x="23" y="436"/>
                    </a:lnTo>
                    <a:lnTo>
                      <a:pt x="26" y="436"/>
                    </a:lnTo>
                    <a:lnTo>
                      <a:pt x="26" y="431"/>
                    </a:lnTo>
                    <a:lnTo>
                      <a:pt x="46" y="431"/>
                    </a:lnTo>
                    <a:lnTo>
                      <a:pt x="46" y="436"/>
                    </a:lnTo>
                    <a:lnTo>
                      <a:pt x="49" y="436"/>
                    </a:lnTo>
                    <a:lnTo>
                      <a:pt x="51" y="438"/>
                    </a:lnTo>
                    <a:lnTo>
                      <a:pt x="53" y="443"/>
                    </a:lnTo>
                    <a:lnTo>
                      <a:pt x="54" y="451"/>
                    </a:lnTo>
                    <a:lnTo>
                      <a:pt x="54" y="457"/>
                    </a:lnTo>
                    <a:lnTo>
                      <a:pt x="53" y="461"/>
                    </a:lnTo>
                    <a:lnTo>
                      <a:pt x="50" y="465"/>
                    </a:lnTo>
                    <a:lnTo>
                      <a:pt x="54" y="467"/>
                    </a:lnTo>
                    <a:lnTo>
                      <a:pt x="58" y="467"/>
                    </a:lnTo>
                    <a:lnTo>
                      <a:pt x="63" y="465"/>
                    </a:lnTo>
                    <a:lnTo>
                      <a:pt x="65" y="460"/>
                    </a:lnTo>
                    <a:lnTo>
                      <a:pt x="64" y="456"/>
                    </a:lnTo>
                    <a:lnTo>
                      <a:pt x="54" y="457"/>
                    </a:lnTo>
                    <a:lnTo>
                      <a:pt x="54" y="451"/>
                    </a:lnTo>
                    <a:lnTo>
                      <a:pt x="66" y="449"/>
                    </a:lnTo>
                    <a:lnTo>
                      <a:pt x="69" y="451"/>
                    </a:lnTo>
                    <a:lnTo>
                      <a:pt x="72" y="452"/>
                    </a:lnTo>
                    <a:lnTo>
                      <a:pt x="77" y="454"/>
                    </a:lnTo>
                    <a:lnTo>
                      <a:pt x="73" y="440"/>
                    </a:lnTo>
                    <a:lnTo>
                      <a:pt x="70" y="425"/>
                    </a:lnTo>
                    <a:lnTo>
                      <a:pt x="92" y="334"/>
                    </a:lnTo>
                    <a:lnTo>
                      <a:pt x="97" y="318"/>
                    </a:lnTo>
                    <a:lnTo>
                      <a:pt x="102" y="307"/>
                    </a:lnTo>
                    <a:lnTo>
                      <a:pt x="109" y="298"/>
                    </a:lnTo>
                    <a:lnTo>
                      <a:pt x="103" y="277"/>
                    </a:lnTo>
                    <a:lnTo>
                      <a:pt x="100" y="262"/>
                    </a:lnTo>
                    <a:lnTo>
                      <a:pt x="102" y="249"/>
                    </a:lnTo>
                    <a:lnTo>
                      <a:pt x="106" y="233"/>
                    </a:lnTo>
                    <a:lnTo>
                      <a:pt x="117" y="214"/>
                    </a:lnTo>
                    <a:lnTo>
                      <a:pt x="127" y="198"/>
                    </a:lnTo>
                    <a:lnTo>
                      <a:pt x="144" y="184"/>
                    </a:lnTo>
                    <a:lnTo>
                      <a:pt x="159" y="174"/>
                    </a:lnTo>
                    <a:lnTo>
                      <a:pt x="168" y="164"/>
                    </a:lnTo>
                    <a:lnTo>
                      <a:pt x="178" y="159"/>
                    </a:lnTo>
                    <a:lnTo>
                      <a:pt x="188" y="157"/>
                    </a:lnTo>
                    <a:lnTo>
                      <a:pt x="198" y="157"/>
                    </a:lnTo>
                    <a:lnTo>
                      <a:pt x="208" y="159"/>
                    </a:lnTo>
                    <a:lnTo>
                      <a:pt x="232" y="154"/>
                    </a:lnTo>
                    <a:lnTo>
                      <a:pt x="234" y="146"/>
                    </a:lnTo>
                    <a:lnTo>
                      <a:pt x="231" y="131"/>
                    </a:lnTo>
                    <a:lnTo>
                      <a:pt x="233" y="130"/>
                    </a:lnTo>
                    <a:lnTo>
                      <a:pt x="231" y="115"/>
                    </a:lnTo>
                    <a:lnTo>
                      <a:pt x="230" y="98"/>
                    </a:lnTo>
                    <a:lnTo>
                      <a:pt x="230" y="82"/>
                    </a:lnTo>
                    <a:lnTo>
                      <a:pt x="233" y="65"/>
                    </a:lnTo>
                    <a:lnTo>
                      <a:pt x="240" y="48"/>
                    </a:lnTo>
                    <a:lnTo>
                      <a:pt x="249" y="35"/>
                    </a:lnTo>
                    <a:lnTo>
                      <a:pt x="257" y="26"/>
                    </a:lnTo>
                    <a:lnTo>
                      <a:pt x="280" y="14"/>
                    </a:lnTo>
                    <a:lnTo>
                      <a:pt x="297" y="8"/>
                    </a:lnTo>
                    <a:lnTo>
                      <a:pt x="313" y="3"/>
                    </a:lnTo>
                    <a:lnTo>
                      <a:pt x="331" y="0"/>
                    </a:lnTo>
                    <a:lnTo>
                      <a:pt x="344" y="0"/>
                    </a:lnTo>
                    <a:lnTo>
                      <a:pt x="359" y="3"/>
                    </a:lnTo>
                    <a:lnTo>
                      <a:pt x="370" y="7"/>
                    </a:lnTo>
                    <a:lnTo>
                      <a:pt x="379" y="11"/>
                    </a:lnTo>
                    <a:lnTo>
                      <a:pt x="389" y="21"/>
                    </a:lnTo>
                    <a:lnTo>
                      <a:pt x="397" y="32"/>
                    </a:lnTo>
                    <a:lnTo>
                      <a:pt x="409" y="57"/>
                    </a:lnTo>
                    <a:lnTo>
                      <a:pt x="422" y="85"/>
                    </a:lnTo>
                    <a:lnTo>
                      <a:pt x="429" y="93"/>
                    </a:lnTo>
                    <a:lnTo>
                      <a:pt x="431" y="98"/>
                    </a:lnTo>
                    <a:lnTo>
                      <a:pt x="430" y="104"/>
                    </a:lnTo>
                    <a:lnTo>
                      <a:pt x="423" y="108"/>
                    </a:lnTo>
                    <a:lnTo>
                      <a:pt x="406" y="115"/>
                    </a:lnTo>
                    <a:lnTo>
                      <a:pt x="408" y="130"/>
                    </a:lnTo>
                    <a:lnTo>
                      <a:pt x="409" y="145"/>
                    </a:lnTo>
                    <a:lnTo>
                      <a:pt x="409" y="156"/>
                    </a:lnTo>
                    <a:lnTo>
                      <a:pt x="418" y="157"/>
                    </a:lnTo>
                    <a:lnTo>
                      <a:pt x="429" y="177"/>
                    </a:lnTo>
                    <a:lnTo>
                      <a:pt x="509" y="263"/>
                    </a:lnTo>
                    <a:lnTo>
                      <a:pt x="514" y="269"/>
                    </a:lnTo>
                    <a:lnTo>
                      <a:pt x="515" y="275"/>
                    </a:lnTo>
                    <a:lnTo>
                      <a:pt x="514" y="281"/>
                    </a:lnTo>
                    <a:lnTo>
                      <a:pt x="509" y="284"/>
                    </a:lnTo>
                    <a:lnTo>
                      <a:pt x="506" y="285"/>
                    </a:lnTo>
                    <a:lnTo>
                      <a:pt x="506" y="292"/>
                    </a:lnTo>
                    <a:lnTo>
                      <a:pt x="504" y="298"/>
                    </a:lnTo>
                    <a:lnTo>
                      <a:pt x="501" y="302"/>
                    </a:lnTo>
                    <a:lnTo>
                      <a:pt x="504" y="305"/>
                    </a:lnTo>
                    <a:lnTo>
                      <a:pt x="506" y="310"/>
                    </a:lnTo>
                    <a:lnTo>
                      <a:pt x="512" y="317"/>
                    </a:lnTo>
                    <a:lnTo>
                      <a:pt x="520" y="323"/>
                    </a:lnTo>
                    <a:lnTo>
                      <a:pt x="528" y="327"/>
                    </a:lnTo>
                    <a:lnTo>
                      <a:pt x="535" y="334"/>
                    </a:lnTo>
                    <a:lnTo>
                      <a:pt x="542" y="338"/>
                    </a:lnTo>
                    <a:lnTo>
                      <a:pt x="561" y="333"/>
                    </a:lnTo>
                    <a:lnTo>
                      <a:pt x="572" y="331"/>
                    </a:lnTo>
                    <a:lnTo>
                      <a:pt x="583" y="327"/>
                    </a:lnTo>
                    <a:lnTo>
                      <a:pt x="590" y="325"/>
                    </a:lnTo>
                    <a:lnTo>
                      <a:pt x="621" y="305"/>
                    </a:lnTo>
                    <a:lnTo>
                      <a:pt x="658" y="263"/>
                    </a:lnTo>
                    <a:lnTo>
                      <a:pt x="663" y="264"/>
                    </a:lnTo>
                    <a:lnTo>
                      <a:pt x="684" y="240"/>
                    </a:lnTo>
                    <a:lnTo>
                      <a:pt x="686" y="235"/>
                    </a:lnTo>
                    <a:lnTo>
                      <a:pt x="690" y="228"/>
                    </a:lnTo>
                    <a:lnTo>
                      <a:pt x="695" y="221"/>
                    </a:lnTo>
                    <a:lnTo>
                      <a:pt x="780" y="218"/>
                    </a:lnTo>
                    <a:lnTo>
                      <a:pt x="724" y="251"/>
                    </a:lnTo>
                    <a:lnTo>
                      <a:pt x="713" y="263"/>
                    </a:lnTo>
                    <a:lnTo>
                      <a:pt x="697" y="291"/>
                    </a:lnTo>
                    <a:lnTo>
                      <a:pt x="699" y="298"/>
                    </a:lnTo>
                    <a:lnTo>
                      <a:pt x="656" y="371"/>
                    </a:lnTo>
                    <a:lnTo>
                      <a:pt x="643" y="410"/>
                    </a:lnTo>
                    <a:lnTo>
                      <a:pt x="626" y="423"/>
                    </a:lnTo>
                    <a:lnTo>
                      <a:pt x="609" y="433"/>
                    </a:lnTo>
                    <a:lnTo>
                      <a:pt x="588" y="443"/>
                    </a:lnTo>
                    <a:lnTo>
                      <a:pt x="573" y="445"/>
                    </a:lnTo>
                    <a:lnTo>
                      <a:pt x="560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3643200" y="2436840"/>
                <a:ext cx="196920" cy="55440"/>
              </a:xfrm>
              <a:custGeom>
                <a:avLst/>
                <a:gdLst/>
                <a:ahLst/>
                <a:rect l="l" t="t" r="r" b="b"/>
                <a:pathLst>
                  <a:path w="620" h="177">
                    <a:moveTo>
                      <a:pt x="436" y="86"/>
                    </a:moveTo>
                    <a:lnTo>
                      <a:pt x="426" y="83"/>
                    </a:lnTo>
                    <a:lnTo>
                      <a:pt x="362" y="85"/>
                    </a:lnTo>
                    <a:lnTo>
                      <a:pt x="359" y="88"/>
                    </a:lnTo>
                    <a:lnTo>
                      <a:pt x="428" y="90"/>
                    </a:lnTo>
                    <a:lnTo>
                      <a:pt x="424" y="93"/>
                    </a:lnTo>
                    <a:lnTo>
                      <a:pt x="351" y="93"/>
                    </a:lnTo>
                    <a:lnTo>
                      <a:pt x="267" y="96"/>
                    </a:lnTo>
                    <a:lnTo>
                      <a:pt x="247" y="96"/>
                    </a:lnTo>
                    <a:lnTo>
                      <a:pt x="175" y="124"/>
                    </a:lnTo>
                    <a:lnTo>
                      <a:pt x="175" y="166"/>
                    </a:lnTo>
                    <a:lnTo>
                      <a:pt x="127" y="177"/>
                    </a:lnTo>
                    <a:lnTo>
                      <a:pt x="127" y="138"/>
                    </a:lnTo>
                    <a:lnTo>
                      <a:pt x="123" y="127"/>
                    </a:lnTo>
                    <a:lnTo>
                      <a:pt x="123" y="117"/>
                    </a:lnTo>
                    <a:lnTo>
                      <a:pt x="121" y="113"/>
                    </a:lnTo>
                    <a:lnTo>
                      <a:pt x="119" y="111"/>
                    </a:lnTo>
                    <a:lnTo>
                      <a:pt x="117" y="110"/>
                    </a:lnTo>
                    <a:lnTo>
                      <a:pt x="115" y="110"/>
                    </a:lnTo>
                    <a:lnTo>
                      <a:pt x="97" y="108"/>
                    </a:lnTo>
                    <a:lnTo>
                      <a:pt x="103" y="118"/>
                    </a:lnTo>
                    <a:lnTo>
                      <a:pt x="104" y="123"/>
                    </a:lnTo>
                    <a:lnTo>
                      <a:pt x="104" y="127"/>
                    </a:lnTo>
                    <a:lnTo>
                      <a:pt x="101" y="129"/>
                    </a:lnTo>
                    <a:lnTo>
                      <a:pt x="98" y="131"/>
                    </a:lnTo>
                    <a:lnTo>
                      <a:pt x="118" y="131"/>
                    </a:lnTo>
                    <a:lnTo>
                      <a:pt x="120" y="131"/>
                    </a:lnTo>
                    <a:lnTo>
                      <a:pt x="121" y="129"/>
                    </a:lnTo>
                    <a:lnTo>
                      <a:pt x="123" y="127"/>
                    </a:lnTo>
                    <a:lnTo>
                      <a:pt x="127" y="138"/>
                    </a:lnTo>
                    <a:lnTo>
                      <a:pt x="82" y="138"/>
                    </a:lnTo>
                    <a:lnTo>
                      <a:pt x="0" y="51"/>
                    </a:lnTo>
                    <a:lnTo>
                      <a:pt x="31" y="51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8" y="19"/>
                    </a:lnTo>
                    <a:lnTo>
                      <a:pt x="51" y="19"/>
                    </a:lnTo>
                    <a:lnTo>
                      <a:pt x="53" y="10"/>
                    </a:lnTo>
                    <a:lnTo>
                      <a:pt x="58" y="5"/>
                    </a:lnTo>
                    <a:lnTo>
                      <a:pt x="65" y="4"/>
                    </a:lnTo>
                    <a:lnTo>
                      <a:pt x="178" y="13"/>
                    </a:lnTo>
                    <a:lnTo>
                      <a:pt x="183" y="16"/>
                    </a:lnTo>
                    <a:lnTo>
                      <a:pt x="187" y="20"/>
                    </a:lnTo>
                    <a:lnTo>
                      <a:pt x="191" y="24"/>
                    </a:lnTo>
                    <a:lnTo>
                      <a:pt x="191" y="31"/>
                    </a:lnTo>
                    <a:lnTo>
                      <a:pt x="188" y="35"/>
                    </a:lnTo>
                    <a:lnTo>
                      <a:pt x="187" y="37"/>
                    </a:lnTo>
                    <a:lnTo>
                      <a:pt x="181" y="37"/>
                    </a:lnTo>
                    <a:lnTo>
                      <a:pt x="182" y="34"/>
                    </a:lnTo>
                    <a:lnTo>
                      <a:pt x="184" y="30"/>
                    </a:lnTo>
                    <a:lnTo>
                      <a:pt x="184" y="24"/>
                    </a:lnTo>
                    <a:lnTo>
                      <a:pt x="181" y="21"/>
                    </a:lnTo>
                    <a:lnTo>
                      <a:pt x="175" y="19"/>
                    </a:lnTo>
                    <a:lnTo>
                      <a:pt x="90" y="19"/>
                    </a:lnTo>
                    <a:lnTo>
                      <a:pt x="87" y="23"/>
                    </a:lnTo>
                    <a:lnTo>
                      <a:pt x="85" y="29"/>
                    </a:lnTo>
                    <a:lnTo>
                      <a:pt x="84" y="33"/>
                    </a:lnTo>
                    <a:lnTo>
                      <a:pt x="84" y="36"/>
                    </a:lnTo>
                    <a:lnTo>
                      <a:pt x="85" y="39"/>
                    </a:lnTo>
                    <a:lnTo>
                      <a:pt x="88" y="40"/>
                    </a:lnTo>
                    <a:lnTo>
                      <a:pt x="175" y="40"/>
                    </a:lnTo>
                    <a:lnTo>
                      <a:pt x="181" y="37"/>
                    </a:lnTo>
                    <a:lnTo>
                      <a:pt x="187" y="37"/>
                    </a:lnTo>
                    <a:lnTo>
                      <a:pt x="439" y="37"/>
                    </a:lnTo>
                    <a:lnTo>
                      <a:pt x="445" y="39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9"/>
                    </a:lnTo>
                    <a:lnTo>
                      <a:pt x="469" y="29"/>
                    </a:lnTo>
                    <a:lnTo>
                      <a:pt x="469" y="14"/>
                    </a:lnTo>
                    <a:lnTo>
                      <a:pt x="460" y="14"/>
                    </a:lnTo>
                    <a:lnTo>
                      <a:pt x="444" y="36"/>
                    </a:lnTo>
                    <a:lnTo>
                      <a:pt x="444" y="39"/>
                    </a:lnTo>
                    <a:lnTo>
                      <a:pt x="445" y="39"/>
                    </a:lnTo>
                    <a:lnTo>
                      <a:pt x="439" y="37"/>
                    </a:lnTo>
                    <a:lnTo>
                      <a:pt x="465" y="3"/>
                    </a:lnTo>
                    <a:lnTo>
                      <a:pt x="469" y="0"/>
                    </a:lnTo>
                    <a:lnTo>
                      <a:pt x="473" y="3"/>
                    </a:lnTo>
                    <a:lnTo>
                      <a:pt x="478" y="7"/>
                    </a:lnTo>
                    <a:lnTo>
                      <a:pt x="480" y="48"/>
                    </a:lnTo>
                    <a:lnTo>
                      <a:pt x="548" y="48"/>
                    </a:lnTo>
                    <a:lnTo>
                      <a:pt x="555" y="45"/>
                    </a:lnTo>
                    <a:lnTo>
                      <a:pt x="603" y="44"/>
                    </a:lnTo>
                    <a:lnTo>
                      <a:pt x="608" y="36"/>
                    </a:lnTo>
                    <a:lnTo>
                      <a:pt x="617" y="36"/>
                    </a:lnTo>
                    <a:lnTo>
                      <a:pt x="617" y="44"/>
                    </a:lnTo>
                    <a:lnTo>
                      <a:pt x="620" y="44"/>
                    </a:lnTo>
                    <a:lnTo>
                      <a:pt x="620" y="64"/>
                    </a:lnTo>
                    <a:lnTo>
                      <a:pt x="607" y="64"/>
                    </a:lnTo>
                    <a:lnTo>
                      <a:pt x="601" y="61"/>
                    </a:lnTo>
                    <a:lnTo>
                      <a:pt x="480" y="61"/>
                    </a:lnTo>
                    <a:lnTo>
                      <a:pt x="480" y="66"/>
                    </a:lnTo>
                    <a:lnTo>
                      <a:pt x="469" y="66"/>
                    </a:lnTo>
                    <a:lnTo>
                      <a:pt x="469" y="64"/>
                    </a:lnTo>
                    <a:lnTo>
                      <a:pt x="449" y="64"/>
                    </a:lnTo>
                    <a:lnTo>
                      <a:pt x="449" y="75"/>
                    </a:lnTo>
                    <a:lnTo>
                      <a:pt x="442" y="75"/>
                    </a:lnTo>
                    <a:lnTo>
                      <a:pt x="436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3816360" y="1768320"/>
                <a:ext cx="249120" cy="290520"/>
              </a:xfrm>
              <a:custGeom>
                <a:avLst/>
                <a:gdLst/>
                <a:ahLst/>
                <a:rect l="l" t="t" r="r" b="b"/>
                <a:pathLst>
                  <a:path w="787" h="919">
                    <a:moveTo>
                      <a:pt x="416" y="451"/>
                    </a:moveTo>
                    <a:lnTo>
                      <a:pt x="431" y="440"/>
                    </a:lnTo>
                    <a:lnTo>
                      <a:pt x="444" y="431"/>
                    </a:lnTo>
                    <a:lnTo>
                      <a:pt x="457" y="425"/>
                    </a:lnTo>
                    <a:lnTo>
                      <a:pt x="471" y="418"/>
                    </a:lnTo>
                    <a:lnTo>
                      <a:pt x="445" y="402"/>
                    </a:lnTo>
                    <a:lnTo>
                      <a:pt x="433" y="394"/>
                    </a:lnTo>
                    <a:lnTo>
                      <a:pt x="420" y="384"/>
                    </a:lnTo>
                    <a:lnTo>
                      <a:pt x="420" y="400"/>
                    </a:lnTo>
                    <a:lnTo>
                      <a:pt x="418" y="416"/>
                    </a:lnTo>
                    <a:lnTo>
                      <a:pt x="416" y="451"/>
                    </a:lnTo>
                    <a:close/>
                    <a:moveTo>
                      <a:pt x="567" y="445"/>
                    </a:moveTo>
                    <a:lnTo>
                      <a:pt x="569" y="482"/>
                    </a:lnTo>
                    <a:lnTo>
                      <a:pt x="569" y="524"/>
                    </a:lnTo>
                    <a:lnTo>
                      <a:pt x="565" y="573"/>
                    </a:lnTo>
                    <a:lnTo>
                      <a:pt x="556" y="619"/>
                    </a:lnTo>
                    <a:lnTo>
                      <a:pt x="546" y="666"/>
                    </a:lnTo>
                    <a:lnTo>
                      <a:pt x="536" y="698"/>
                    </a:lnTo>
                    <a:lnTo>
                      <a:pt x="527" y="705"/>
                    </a:lnTo>
                    <a:lnTo>
                      <a:pt x="518" y="712"/>
                    </a:lnTo>
                    <a:lnTo>
                      <a:pt x="511" y="746"/>
                    </a:lnTo>
                    <a:lnTo>
                      <a:pt x="511" y="751"/>
                    </a:lnTo>
                    <a:lnTo>
                      <a:pt x="514" y="758"/>
                    </a:lnTo>
                    <a:lnTo>
                      <a:pt x="514" y="763"/>
                    </a:lnTo>
                    <a:lnTo>
                      <a:pt x="510" y="771"/>
                    </a:lnTo>
                    <a:lnTo>
                      <a:pt x="517" y="777"/>
                    </a:lnTo>
                    <a:lnTo>
                      <a:pt x="522" y="783"/>
                    </a:lnTo>
                    <a:lnTo>
                      <a:pt x="525" y="792"/>
                    </a:lnTo>
                    <a:lnTo>
                      <a:pt x="533" y="794"/>
                    </a:lnTo>
                    <a:lnTo>
                      <a:pt x="536" y="798"/>
                    </a:lnTo>
                    <a:lnTo>
                      <a:pt x="540" y="804"/>
                    </a:lnTo>
                    <a:lnTo>
                      <a:pt x="544" y="811"/>
                    </a:lnTo>
                    <a:lnTo>
                      <a:pt x="547" y="816"/>
                    </a:lnTo>
                    <a:lnTo>
                      <a:pt x="567" y="827"/>
                    </a:lnTo>
                    <a:lnTo>
                      <a:pt x="580" y="833"/>
                    </a:lnTo>
                    <a:lnTo>
                      <a:pt x="587" y="838"/>
                    </a:lnTo>
                    <a:lnTo>
                      <a:pt x="589" y="844"/>
                    </a:lnTo>
                    <a:lnTo>
                      <a:pt x="589" y="855"/>
                    </a:lnTo>
                    <a:lnTo>
                      <a:pt x="578" y="857"/>
                    </a:lnTo>
                    <a:lnTo>
                      <a:pt x="564" y="859"/>
                    </a:lnTo>
                    <a:lnTo>
                      <a:pt x="540" y="858"/>
                    </a:lnTo>
                    <a:lnTo>
                      <a:pt x="521" y="855"/>
                    </a:lnTo>
                    <a:lnTo>
                      <a:pt x="498" y="847"/>
                    </a:lnTo>
                    <a:lnTo>
                      <a:pt x="481" y="839"/>
                    </a:lnTo>
                    <a:lnTo>
                      <a:pt x="468" y="831"/>
                    </a:lnTo>
                    <a:lnTo>
                      <a:pt x="455" y="829"/>
                    </a:lnTo>
                    <a:lnTo>
                      <a:pt x="444" y="828"/>
                    </a:lnTo>
                    <a:lnTo>
                      <a:pt x="433" y="825"/>
                    </a:lnTo>
                    <a:lnTo>
                      <a:pt x="424" y="821"/>
                    </a:lnTo>
                    <a:lnTo>
                      <a:pt x="422" y="810"/>
                    </a:lnTo>
                    <a:lnTo>
                      <a:pt x="423" y="800"/>
                    </a:lnTo>
                    <a:lnTo>
                      <a:pt x="424" y="790"/>
                    </a:lnTo>
                    <a:lnTo>
                      <a:pt x="426" y="781"/>
                    </a:lnTo>
                    <a:lnTo>
                      <a:pt x="429" y="773"/>
                    </a:lnTo>
                    <a:lnTo>
                      <a:pt x="433" y="765"/>
                    </a:lnTo>
                    <a:lnTo>
                      <a:pt x="438" y="758"/>
                    </a:lnTo>
                    <a:lnTo>
                      <a:pt x="438" y="749"/>
                    </a:lnTo>
                    <a:lnTo>
                      <a:pt x="438" y="740"/>
                    </a:lnTo>
                    <a:lnTo>
                      <a:pt x="440" y="735"/>
                    </a:lnTo>
                    <a:lnTo>
                      <a:pt x="444" y="729"/>
                    </a:lnTo>
                    <a:lnTo>
                      <a:pt x="444" y="700"/>
                    </a:lnTo>
                    <a:lnTo>
                      <a:pt x="433" y="695"/>
                    </a:lnTo>
                    <a:lnTo>
                      <a:pt x="435" y="689"/>
                    </a:lnTo>
                    <a:lnTo>
                      <a:pt x="437" y="681"/>
                    </a:lnTo>
                    <a:lnTo>
                      <a:pt x="437" y="671"/>
                    </a:lnTo>
                    <a:lnTo>
                      <a:pt x="435" y="660"/>
                    </a:lnTo>
                    <a:lnTo>
                      <a:pt x="437" y="644"/>
                    </a:lnTo>
                    <a:lnTo>
                      <a:pt x="440" y="624"/>
                    </a:lnTo>
                    <a:lnTo>
                      <a:pt x="446" y="602"/>
                    </a:lnTo>
                    <a:lnTo>
                      <a:pt x="455" y="579"/>
                    </a:lnTo>
                    <a:lnTo>
                      <a:pt x="440" y="596"/>
                    </a:lnTo>
                    <a:lnTo>
                      <a:pt x="425" y="613"/>
                    </a:lnTo>
                    <a:lnTo>
                      <a:pt x="412" y="626"/>
                    </a:lnTo>
                    <a:lnTo>
                      <a:pt x="396" y="640"/>
                    </a:lnTo>
                    <a:lnTo>
                      <a:pt x="383" y="651"/>
                    </a:lnTo>
                    <a:lnTo>
                      <a:pt x="367" y="665"/>
                    </a:lnTo>
                    <a:lnTo>
                      <a:pt x="350" y="676"/>
                    </a:lnTo>
                    <a:lnTo>
                      <a:pt x="331" y="687"/>
                    </a:lnTo>
                    <a:lnTo>
                      <a:pt x="314" y="697"/>
                    </a:lnTo>
                    <a:lnTo>
                      <a:pt x="296" y="704"/>
                    </a:lnTo>
                    <a:lnTo>
                      <a:pt x="280" y="711"/>
                    </a:lnTo>
                    <a:lnTo>
                      <a:pt x="264" y="716"/>
                    </a:lnTo>
                    <a:lnTo>
                      <a:pt x="250" y="772"/>
                    </a:lnTo>
                    <a:lnTo>
                      <a:pt x="249" y="788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0" y="831"/>
                    </a:lnTo>
                    <a:lnTo>
                      <a:pt x="236" y="844"/>
                    </a:lnTo>
                    <a:lnTo>
                      <a:pt x="228" y="858"/>
                    </a:lnTo>
                    <a:lnTo>
                      <a:pt x="221" y="869"/>
                    </a:lnTo>
                    <a:lnTo>
                      <a:pt x="213" y="879"/>
                    </a:lnTo>
                    <a:lnTo>
                      <a:pt x="210" y="888"/>
                    </a:lnTo>
                    <a:lnTo>
                      <a:pt x="205" y="898"/>
                    </a:lnTo>
                    <a:lnTo>
                      <a:pt x="195" y="906"/>
                    </a:lnTo>
                    <a:lnTo>
                      <a:pt x="181" y="913"/>
                    </a:lnTo>
                    <a:lnTo>
                      <a:pt x="160" y="919"/>
                    </a:lnTo>
                    <a:lnTo>
                      <a:pt x="142" y="919"/>
                    </a:lnTo>
                    <a:lnTo>
                      <a:pt x="124" y="914"/>
                    </a:lnTo>
                    <a:lnTo>
                      <a:pt x="111" y="910"/>
                    </a:lnTo>
                    <a:lnTo>
                      <a:pt x="100" y="901"/>
                    </a:lnTo>
                    <a:lnTo>
                      <a:pt x="93" y="895"/>
                    </a:lnTo>
                    <a:lnTo>
                      <a:pt x="85" y="892"/>
                    </a:lnTo>
                    <a:lnTo>
                      <a:pt x="75" y="877"/>
                    </a:lnTo>
                    <a:lnTo>
                      <a:pt x="69" y="858"/>
                    </a:lnTo>
                    <a:lnTo>
                      <a:pt x="64" y="843"/>
                    </a:lnTo>
                    <a:lnTo>
                      <a:pt x="61" y="824"/>
                    </a:lnTo>
                    <a:lnTo>
                      <a:pt x="61" y="805"/>
                    </a:lnTo>
                    <a:lnTo>
                      <a:pt x="58" y="774"/>
                    </a:lnTo>
                    <a:lnTo>
                      <a:pt x="68" y="757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8"/>
                    </a:lnTo>
                    <a:lnTo>
                      <a:pt x="54" y="683"/>
                    </a:lnTo>
                    <a:lnTo>
                      <a:pt x="63" y="670"/>
                    </a:lnTo>
                    <a:lnTo>
                      <a:pt x="74" y="640"/>
                    </a:lnTo>
                    <a:lnTo>
                      <a:pt x="65" y="641"/>
                    </a:lnTo>
                    <a:lnTo>
                      <a:pt x="58" y="639"/>
                    </a:lnTo>
                    <a:lnTo>
                      <a:pt x="54" y="637"/>
                    </a:lnTo>
                    <a:lnTo>
                      <a:pt x="50" y="630"/>
                    </a:lnTo>
                    <a:lnTo>
                      <a:pt x="48" y="626"/>
                    </a:lnTo>
                    <a:lnTo>
                      <a:pt x="43" y="627"/>
                    </a:lnTo>
                    <a:lnTo>
                      <a:pt x="35" y="626"/>
                    </a:lnTo>
                    <a:lnTo>
                      <a:pt x="30" y="622"/>
                    </a:lnTo>
                    <a:lnTo>
                      <a:pt x="23" y="617"/>
                    </a:lnTo>
                    <a:lnTo>
                      <a:pt x="19" y="609"/>
                    </a:lnTo>
                    <a:lnTo>
                      <a:pt x="15" y="602"/>
                    </a:lnTo>
                    <a:lnTo>
                      <a:pt x="11" y="593"/>
                    </a:lnTo>
                    <a:lnTo>
                      <a:pt x="7" y="591"/>
                    </a:lnTo>
                    <a:lnTo>
                      <a:pt x="1" y="543"/>
                    </a:lnTo>
                    <a:lnTo>
                      <a:pt x="6" y="542"/>
                    </a:lnTo>
                    <a:lnTo>
                      <a:pt x="6" y="521"/>
                    </a:lnTo>
                    <a:lnTo>
                      <a:pt x="0" y="520"/>
                    </a:lnTo>
                    <a:lnTo>
                      <a:pt x="1" y="508"/>
                    </a:lnTo>
                    <a:lnTo>
                      <a:pt x="5" y="498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1" y="480"/>
                    </a:lnTo>
                    <a:lnTo>
                      <a:pt x="13" y="475"/>
                    </a:lnTo>
                    <a:lnTo>
                      <a:pt x="16" y="470"/>
                    </a:lnTo>
                    <a:lnTo>
                      <a:pt x="29" y="466"/>
                    </a:lnTo>
                    <a:lnTo>
                      <a:pt x="23" y="456"/>
                    </a:lnTo>
                    <a:lnTo>
                      <a:pt x="28" y="441"/>
                    </a:lnTo>
                    <a:lnTo>
                      <a:pt x="29" y="438"/>
                    </a:lnTo>
                    <a:lnTo>
                      <a:pt x="30" y="435"/>
                    </a:lnTo>
                    <a:lnTo>
                      <a:pt x="33" y="435"/>
                    </a:lnTo>
                    <a:lnTo>
                      <a:pt x="33" y="430"/>
                    </a:lnTo>
                    <a:lnTo>
                      <a:pt x="54" y="430"/>
                    </a:lnTo>
                    <a:lnTo>
                      <a:pt x="54" y="435"/>
                    </a:lnTo>
                    <a:lnTo>
                      <a:pt x="56" y="435"/>
                    </a:lnTo>
                    <a:lnTo>
                      <a:pt x="58" y="438"/>
                    </a:lnTo>
                    <a:lnTo>
                      <a:pt x="60" y="442"/>
                    </a:lnTo>
                    <a:lnTo>
                      <a:pt x="61" y="450"/>
                    </a:lnTo>
                    <a:lnTo>
                      <a:pt x="61" y="456"/>
                    </a:lnTo>
                    <a:lnTo>
                      <a:pt x="60" y="462"/>
                    </a:lnTo>
                    <a:lnTo>
                      <a:pt x="57" y="464"/>
                    </a:lnTo>
                    <a:lnTo>
                      <a:pt x="61" y="466"/>
                    </a:lnTo>
                    <a:lnTo>
                      <a:pt x="65" y="466"/>
                    </a:lnTo>
                    <a:lnTo>
                      <a:pt x="69" y="464"/>
                    </a:lnTo>
                    <a:lnTo>
                      <a:pt x="72" y="461"/>
                    </a:lnTo>
                    <a:lnTo>
                      <a:pt x="70" y="455"/>
                    </a:lnTo>
                    <a:lnTo>
                      <a:pt x="61" y="456"/>
                    </a:lnTo>
                    <a:lnTo>
                      <a:pt x="61" y="450"/>
                    </a:lnTo>
                    <a:lnTo>
                      <a:pt x="73" y="449"/>
                    </a:lnTo>
                    <a:lnTo>
                      <a:pt x="76" y="450"/>
                    </a:lnTo>
                    <a:lnTo>
                      <a:pt x="79" y="451"/>
                    </a:lnTo>
                    <a:lnTo>
                      <a:pt x="83" y="453"/>
                    </a:lnTo>
                    <a:lnTo>
                      <a:pt x="81" y="439"/>
                    </a:lnTo>
                    <a:lnTo>
                      <a:pt x="77" y="425"/>
                    </a:lnTo>
                    <a:lnTo>
                      <a:pt x="99" y="333"/>
                    </a:lnTo>
                    <a:lnTo>
                      <a:pt x="104" y="318"/>
                    </a:lnTo>
                    <a:lnTo>
                      <a:pt x="109" y="307"/>
                    </a:lnTo>
                    <a:lnTo>
                      <a:pt x="116" y="297"/>
                    </a:lnTo>
                    <a:lnTo>
                      <a:pt x="110" y="276"/>
                    </a:lnTo>
                    <a:lnTo>
                      <a:pt x="107" y="262"/>
                    </a:lnTo>
                    <a:lnTo>
                      <a:pt x="109" y="248"/>
                    </a:lnTo>
                    <a:lnTo>
                      <a:pt x="113" y="233"/>
                    </a:lnTo>
                    <a:lnTo>
                      <a:pt x="124" y="213"/>
                    </a:lnTo>
                    <a:lnTo>
                      <a:pt x="134" y="198"/>
                    </a:lnTo>
                    <a:lnTo>
                      <a:pt x="151" y="183"/>
                    </a:lnTo>
                    <a:lnTo>
                      <a:pt x="166" y="174"/>
                    </a:lnTo>
                    <a:lnTo>
                      <a:pt x="175" y="164"/>
                    </a:lnTo>
                    <a:lnTo>
                      <a:pt x="185" y="158"/>
                    </a:lnTo>
                    <a:lnTo>
                      <a:pt x="195" y="156"/>
                    </a:lnTo>
                    <a:lnTo>
                      <a:pt x="205" y="156"/>
                    </a:lnTo>
                    <a:lnTo>
                      <a:pt x="215" y="158"/>
                    </a:lnTo>
                    <a:lnTo>
                      <a:pt x="239" y="154"/>
                    </a:lnTo>
                    <a:lnTo>
                      <a:pt x="241" y="145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4"/>
                    </a:lnTo>
                    <a:lnTo>
                      <a:pt x="237" y="99"/>
                    </a:lnTo>
                    <a:lnTo>
                      <a:pt x="237" y="81"/>
                    </a:lnTo>
                    <a:lnTo>
                      <a:pt x="240" y="65"/>
                    </a:lnTo>
                    <a:lnTo>
                      <a:pt x="247" y="47"/>
                    </a:lnTo>
                    <a:lnTo>
                      <a:pt x="255" y="34"/>
                    </a:lnTo>
                    <a:lnTo>
                      <a:pt x="264" y="25"/>
                    </a:lnTo>
                    <a:lnTo>
                      <a:pt x="287" y="13"/>
                    </a:lnTo>
                    <a:lnTo>
                      <a:pt x="304" y="7"/>
                    </a:lnTo>
                    <a:lnTo>
                      <a:pt x="320" y="2"/>
                    </a:lnTo>
                    <a:lnTo>
                      <a:pt x="338" y="0"/>
                    </a:lnTo>
                    <a:lnTo>
                      <a:pt x="351" y="0"/>
                    </a:lnTo>
                    <a:lnTo>
                      <a:pt x="367" y="2"/>
                    </a:lnTo>
                    <a:lnTo>
                      <a:pt x="377" y="6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3"/>
                    </a:lnTo>
                    <a:lnTo>
                      <a:pt x="416" y="56"/>
                    </a:lnTo>
                    <a:lnTo>
                      <a:pt x="429" y="86"/>
                    </a:lnTo>
                    <a:lnTo>
                      <a:pt x="436" y="92"/>
                    </a:lnTo>
                    <a:lnTo>
                      <a:pt x="438" y="99"/>
                    </a:lnTo>
                    <a:lnTo>
                      <a:pt x="437" y="103"/>
                    </a:lnTo>
                    <a:lnTo>
                      <a:pt x="430" y="108"/>
                    </a:lnTo>
                    <a:lnTo>
                      <a:pt x="413" y="114"/>
                    </a:lnTo>
                    <a:lnTo>
                      <a:pt x="415" y="130"/>
                    </a:lnTo>
                    <a:lnTo>
                      <a:pt x="416" y="144"/>
                    </a:lnTo>
                    <a:lnTo>
                      <a:pt x="416" y="155"/>
                    </a:lnTo>
                    <a:lnTo>
                      <a:pt x="425" y="156"/>
                    </a:lnTo>
                    <a:lnTo>
                      <a:pt x="436" y="176"/>
                    </a:lnTo>
                    <a:lnTo>
                      <a:pt x="517" y="263"/>
                    </a:lnTo>
                    <a:lnTo>
                      <a:pt x="521" y="268"/>
                    </a:lnTo>
                    <a:lnTo>
                      <a:pt x="522" y="275"/>
                    </a:lnTo>
                    <a:lnTo>
                      <a:pt x="521" y="280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1"/>
                    </a:lnTo>
                    <a:lnTo>
                      <a:pt x="511" y="297"/>
                    </a:lnTo>
                    <a:lnTo>
                      <a:pt x="507" y="301"/>
                    </a:lnTo>
                    <a:lnTo>
                      <a:pt x="511" y="305"/>
                    </a:lnTo>
                    <a:lnTo>
                      <a:pt x="513" y="309"/>
                    </a:lnTo>
                    <a:lnTo>
                      <a:pt x="518" y="317"/>
                    </a:lnTo>
                    <a:lnTo>
                      <a:pt x="527" y="322"/>
                    </a:lnTo>
                    <a:lnTo>
                      <a:pt x="535" y="328"/>
                    </a:lnTo>
                    <a:lnTo>
                      <a:pt x="542" y="333"/>
                    </a:lnTo>
                    <a:lnTo>
                      <a:pt x="549" y="338"/>
                    </a:lnTo>
                    <a:lnTo>
                      <a:pt x="568" y="332"/>
                    </a:lnTo>
                    <a:lnTo>
                      <a:pt x="579" y="330"/>
                    </a:lnTo>
                    <a:lnTo>
                      <a:pt x="590" y="328"/>
                    </a:lnTo>
                    <a:lnTo>
                      <a:pt x="597" y="324"/>
                    </a:lnTo>
                    <a:lnTo>
                      <a:pt x="627" y="305"/>
                    </a:lnTo>
                    <a:lnTo>
                      <a:pt x="665" y="263"/>
                    </a:lnTo>
                    <a:lnTo>
                      <a:pt x="670" y="264"/>
                    </a:lnTo>
                    <a:lnTo>
                      <a:pt x="691" y="240"/>
                    </a:lnTo>
                    <a:lnTo>
                      <a:pt x="692" y="234"/>
                    </a:lnTo>
                    <a:lnTo>
                      <a:pt x="697" y="228"/>
                    </a:lnTo>
                    <a:lnTo>
                      <a:pt x="702" y="221"/>
                    </a:lnTo>
                    <a:lnTo>
                      <a:pt x="787" y="218"/>
                    </a:lnTo>
                    <a:lnTo>
                      <a:pt x="731" y="251"/>
                    </a:lnTo>
                    <a:lnTo>
                      <a:pt x="721" y="263"/>
                    </a:lnTo>
                    <a:lnTo>
                      <a:pt x="703" y="290"/>
                    </a:lnTo>
                    <a:lnTo>
                      <a:pt x="706" y="297"/>
                    </a:lnTo>
                    <a:lnTo>
                      <a:pt x="663" y="371"/>
                    </a:lnTo>
                    <a:lnTo>
                      <a:pt x="649" y="409"/>
                    </a:lnTo>
                    <a:lnTo>
                      <a:pt x="633" y="422"/>
                    </a:lnTo>
                    <a:lnTo>
                      <a:pt x="616" y="432"/>
                    </a:lnTo>
                    <a:lnTo>
                      <a:pt x="594" y="442"/>
                    </a:lnTo>
                    <a:lnTo>
                      <a:pt x="580" y="444"/>
                    </a:lnTo>
                    <a:lnTo>
                      <a:pt x="567" y="445"/>
                    </a:lnTo>
                    <a:close/>
                    <a:moveTo>
                      <a:pt x="82" y="467"/>
                    </a:moveTo>
                    <a:lnTo>
                      <a:pt x="76" y="472"/>
                    </a:lnTo>
                    <a:lnTo>
                      <a:pt x="78" y="476"/>
                    </a:lnTo>
                    <a:lnTo>
                      <a:pt x="81" y="480"/>
                    </a:lnTo>
                    <a:lnTo>
                      <a:pt x="82" y="476"/>
                    </a:lnTo>
                    <a:lnTo>
                      <a:pt x="84" y="471"/>
                    </a:lnTo>
                    <a:lnTo>
                      <a:pt x="82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3816360" y="1768320"/>
                <a:ext cx="249120" cy="290520"/>
              </a:xfrm>
              <a:custGeom>
                <a:avLst/>
                <a:gdLst/>
                <a:ahLst/>
                <a:rect l="l" t="t" r="r" b="b"/>
                <a:pathLst>
                  <a:path w="787" h="919">
                    <a:moveTo>
                      <a:pt x="567" y="445"/>
                    </a:moveTo>
                    <a:lnTo>
                      <a:pt x="569" y="482"/>
                    </a:lnTo>
                    <a:lnTo>
                      <a:pt x="569" y="524"/>
                    </a:lnTo>
                    <a:lnTo>
                      <a:pt x="565" y="573"/>
                    </a:lnTo>
                    <a:lnTo>
                      <a:pt x="556" y="619"/>
                    </a:lnTo>
                    <a:lnTo>
                      <a:pt x="546" y="666"/>
                    </a:lnTo>
                    <a:lnTo>
                      <a:pt x="536" y="698"/>
                    </a:lnTo>
                    <a:lnTo>
                      <a:pt x="527" y="705"/>
                    </a:lnTo>
                    <a:lnTo>
                      <a:pt x="518" y="712"/>
                    </a:lnTo>
                    <a:lnTo>
                      <a:pt x="511" y="746"/>
                    </a:lnTo>
                    <a:lnTo>
                      <a:pt x="511" y="751"/>
                    </a:lnTo>
                    <a:lnTo>
                      <a:pt x="514" y="758"/>
                    </a:lnTo>
                    <a:lnTo>
                      <a:pt x="514" y="763"/>
                    </a:lnTo>
                    <a:lnTo>
                      <a:pt x="510" y="771"/>
                    </a:lnTo>
                    <a:lnTo>
                      <a:pt x="517" y="777"/>
                    </a:lnTo>
                    <a:lnTo>
                      <a:pt x="522" y="783"/>
                    </a:lnTo>
                    <a:lnTo>
                      <a:pt x="525" y="792"/>
                    </a:lnTo>
                    <a:lnTo>
                      <a:pt x="533" y="794"/>
                    </a:lnTo>
                    <a:lnTo>
                      <a:pt x="536" y="798"/>
                    </a:lnTo>
                    <a:lnTo>
                      <a:pt x="540" y="804"/>
                    </a:lnTo>
                    <a:lnTo>
                      <a:pt x="544" y="811"/>
                    </a:lnTo>
                    <a:lnTo>
                      <a:pt x="547" y="816"/>
                    </a:lnTo>
                    <a:lnTo>
                      <a:pt x="567" y="827"/>
                    </a:lnTo>
                    <a:lnTo>
                      <a:pt x="580" y="833"/>
                    </a:lnTo>
                    <a:lnTo>
                      <a:pt x="587" y="838"/>
                    </a:lnTo>
                    <a:lnTo>
                      <a:pt x="589" y="844"/>
                    </a:lnTo>
                    <a:lnTo>
                      <a:pt x="589" y="855"/>
                    </a:lnTo>
                    <a:lnTo>
                      <a:pt x="578" y="857"/>
                    </a:lnTo>
                    <a:lnTo>
                      <a:pt x="564" y="859"/>
                    </a:lnTo>
                    <a:lnTo>
                      <a:pt x="540" y="858"/>
                    </a:lnTo>
                    <a:lnTo>
                      <a:pt x="521" y="855"/>
                    </a:lnTo>
                    <a:lnTo>
                      <a:pt x="498" y="847"/>
                    </a:lnTo>
                    <a:lnTo>
                      <a:pt x="481" y="839"/>
                    </a:lnTo>
                    <a:lnTo>
                      <a:pt x="468" y="831"/>
                    </a:lnTo>
                    <a:lnTo>
                      <a:pt x="455" y="829"/>
                    </a:lnTo>
                    <a:lnTo>
                      <a:pt x="444" y="828"/>
                    </a:lnTo>
                    <a:lnTo>
                      <a:pt x="433" y="825"/>
                    </a:lnTo>
                    <a:lnTo>
                      <a:pt x="424" y="821"/>
                    </a:lnTo>
                    <a:lnTo>
                      <a:pt x="422" y="810"/>
                    </a:lnTo>
                    <a:lnTo>
                      <a:pt x="423" y="800"/>
                    </a:lnTo>
                    <a:lnTo>
                      <a:pt x="424" y="790"/>
                    </a:lnTo>
                    <a:lnTo>
                      <a:pt x="426" y="781"/>
                    </a:lnTo>
                    <a:lnTo>
                      <a:pt x="429" y="773"/>
                    </a:lnTo>
                    <a:lnTo>
                      <a:pt x="433" y="765"/>
                    </a:lnTo>
                    <a:lnTo>
                      <a:pt x="438" y="758"/>
                    </a:lnTo>
                    <a:lnTo>
                      <a:pt x="438" y="749"/>
                    </a:lnTo>
                    <a:lnTo>
                      <a:pt x="438" y="740"/>
                    </a:lnTo>
                    <a:lnTo>
                      <a:pt x="440" y="735"/>
                    </a:lnTo>
                    <a:lnTo>
                      <a:pt x="444" y="729"/>
                    </a:lnTo>
                    <a:lnTo>
                      <a:pt x="444" y="700"/>
                    </a:lnTo>
                    <a:lnTo>
                      <a:pt x="433" y="695"/>
                    </a:lnTo>
                    <a:lnTo>
                      <a:pt x="435" y="689"/>
                    </a:lnTo>
                    <a:lnTo>
                      <a:pt x="437" y="681"/>
                    </a:lnTo>
                    <a:lnTo>
                      <a:pt x="437" y="671"/>
                    </a:lnTo>
                    <a:lnTo>
                      <a:pt x="435" y="660"/>
                    </a:lnTo>
                    <a:lnTo>
                      <a:pt x="437" y="644"/>
                    </a:lnTo>
                    <a:lnTo>
                      <a:pt x="440" y="624"/>
                    </a:lnTo>
                    <a:lnTo>
                      <a:pt x="446" y="602"/>
                    </a:lnTo>
                    <a:lnTo>
                      <a:pt x="455" y="579"/>
                    </a:lnTo>
                    <a:lnTo>
                      <a:pt x="440" y="596"/>
                    </a:lnTo>
                    <a:lnTo>
                      <a:pt x="425" y="613"/>
                    </a:lnTo>
                    <a:lnTo>
                      <a:pt x="412" y="626"/>
                    </a:lnTo>
                    <a:lnTo>
                      <a:pt x="396" y="640"/>
                    </a:lnTo>
                    <a:lnTo>
                      <a:pt x="383" y="651"/>
                    </a:lnTo>
                    <a:lnTo>
                      <a:pt x="367" y="665"/>
                    </a:lnTo>
                    <a:lnTo>
                      <a:pt x="350" y="676"/>
                    </a:lnTo>
                    <a:lnTo>
                      <a:pt x="331" y="687"/>
                    </a:lnTo>
                    <a:lnTo>
                      <a:pt x="314" y="697"/>
                    </a:lnTo>
                    <a:lnTo>
                      <a:pt x="296" y="704"/>
                    </a:lnTo>
                    <a:lnTo>
                      <a:pt x="280" y="711"/>
                    </a:lnTo>
                    <a:lnTo>
                      <a:pt x="264" y="716"/>
                    </a:lnTo>
                    <a:lnTo>
                      <a:pt x="250" y="772"/>
                    </a:lnTo>
                    <a:lnTo>
                      <a:pt x="249" y="788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0" y="831"/>
                    </a:lnTo>
                    <a:lnTo>
                      <a:pt x="236" y="844"/>
                    </a:lnTo>
                    <a:lnTo>
                      <a:pt x="228" y="858"/>
                    </a:lnTo>
                    <a:lnTo>
                      <a:pt x="221" y="869"/>
                    </a:lnTo>
                    <a:lnTo>
                      <a:pt x="213" y="879"/>
                    </a:lnTo>
                    <a:lnTo>
                      <a:pt x="210" y="888"/>
                    </a:lnTo>
                    <a:lnTo>
                      <a:pt x="205" y="898"/>
                    </a:lnTo>
                    <a:lnTo>
                      <a:pt x="195" y="906"/>
                    </a:lnTo>
                    <a:lnTo>
                      <a:pt x="181" y="913"/>
                    </a:lnTo>
                    <a:lnTo>
                      <a:pt x="160" y="919"/>
                    </a:lnTo>
                    <a:lnTo>
                      <a:pt x="142" y="919"/>
                    </a:lnTo>
                    <a:lnTo>
                      <a:pt x="124" y="914"/>
                    </a:lnTo>
                    <a:lnTo>
                      <a:pt x="111" y="910"/>
                    </a:lnTo>
                    <a:lnTo>
                      <a:pt x="100" y="901"/>
                    </a:lnTo>
                    <a:lnTo>
                      <a:pt x="93" y="895"/>
                    </a:lnTo>
                    <a:lnTo>
                      <a:pt x="85" y="892"/>
                    </a:lnTo>
                    <a:lnTo>
                      <a:pt x="75" y="877"/>
                    </a:lnTo>
                    <a:lnTo>
                      <a:pt x="69" y="858"/>
                    </a:lnTo>
                    <a:lnTo>
                      <a:pt x="64" y="843"/>
                    </a:lnTo>
                    <a:lnTo>
                      <a:pt x="61" y="824"/>
                    </a:lnTo>
                    <a:lnTo>
                      <a:pt x="61" y="805"/>
                    </a:lnTo>
                    <a:lnTo>
                      <a:pt x="58" y="774"/>
                    </a:lnTo>
                    <a:lnTo>
                      <a:pt x="68" y="757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8"/>
                    </a:lnTo>
                    <a:lnTo>
                      <a:pt x="54" y="683"/>
                    </a:lnTo>
                    <a:lnTo>
                      <a:pt x="63" y="670"/>
                    </a:lnTo>
                    <a:lnTo>
                      <a:pt x="74" y="640"/>
                    </a:lnTo>
                    <a:lnTo>
                      <a:pt x="65" y="641"/>
                    </a:lnTo>
                    <a:lnTo>
                      <a:pt x="58" y="639"/>
                    </a:lnTo>
                    <a:lnTo>
                      <a:pt x="54" y="637"/>
                    </a:lnTo>
                    <a:lnTo>
                      <a:pt x="50" y="630"/>
                    </a:lnTo>
                    <a:lnTo>
                      <a:pt x="48" y="626"/>
                    </a:lnTo>
                    <a:lnTo>
                      <a:pt x="43" y="627"/>
                    </a:lnTo>
                    <a:lnTo>
                      <a:pt x="35" y="626"/>
                    </a:lnTo>
                    <a:lnTo>
                      <a:pt x="30" y="622"/>
                    </a:lnTo>
                    <a:lnTo>
                      <a:pt x="23" y="617"/>
                    </a:lnTo>
                    <a:lnTo>
                      <a:pt x="19" y="609"/>
                    </a:lnTo>
                    <a:lnTo>
                      <a:pt x="15" y="602"/>
                    </a:lnTo>
                    <a:lnTo>
                      <a:pt x="11" y="593"/>
                    </a:lnTo>
                    <a:lnTo>
                      <a:pt x="7" y="591"/>
                    </a:lnTo>
                    <a:lnTo>
                      <a:pt x="1" y="543"/>
                    </a:lnTo>
                    <a:lnTo>
                      <a:pt x="6" y="542"/>
                    </a:lnTo>
                    <a:lnTo>
                      <a:pt x="6" y="521"/>
                    </a:lnTo>
                    <a:lnTo>
                      <a:pt x="0" y="520"/>
                    </a:lnTo>
                    <a:lnTo>
                      <a:pt x="1" y="508"/>
                    </a:lnTo>
                    <a:lnTo>
                      <a:pt x="5" y="498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1" y="480"/>
                    </a:lnTo>
                    <a:lnTo>
                      <a:pt x="13" y="475"/>
                    </a:lnTo>
                    <a:lnTo>
                      <a:pt x="16" y="470"/>
                    </a:lnTo>
                    <a:lnTo>
                      <a:pt x="29" y="466"/>
                    </a:lnTo>
                    <a:lnTo>
                      <a:pt x="23" y="456"/>
                    </a:lnTo>
                    <a:lnTo>
                      <a:pt x="28" y="441"/>
                    </a:lnTo>
                    <a:lnTo>
                      <a:pt x="29" y="438"/>
                    </a:lnTo>
                    <a:lnTo>
                      <a:pt x="30" y="435"/>
                    </a:lnTo>
                    <a:lnTo>
                      <a:pt x="33" y="435"/>
                    </a:lnTo>
                    <a:lnTo>
                      <a:pt x="33" y="430"/>
                    </a:lnTo>
                    <a:lnTo>
                      <a:pt x="54" y="430"/>
                    </a:lnTo>
                    <a:lnTo>
                      <a:pt x="54" y="435"/>
                    </a:lnTo>
                    <a:lnTo>
                      <a:pt x="56" y="435"/>
                    </a:lnTo>
                    <a:lnTo>
                      <a:pt x="58" y="438"/>
                    </a:lnTo>
                    <a:lnTo>
                      <a:pt x="60" y="442"/>
                    </a:lnTo>
                    <a:lnTo>
                      <a:pt x="61" y="450"/>
                    </a:lnTo>
                    <a:lnTo>
                      <a:pt x="61" y="456"/>
                    </a:lnTo>
                    <a:lnTo>
                      <a:pt x="60" y="462"/>
                    </a:lnTo>
                    <a:lnTo>
                      <a:pt x="57" y="464"/>
                    </a:lnTo>
                    <a:lnTo>
                      <a:pt x="61" y="466"/>
                    </a:lnTo>
                    <a:lnTo>
                      <a:pt x="65" y="466"/>
                    </a:lnTo>
                    <a:lnTo>
                      <a:pt x="69" y="464"/>
                    </a:lnTo>
                    <a:lnTo>
                      <a:pt x="72" y="461"/>
                    </a:lnTo>
                    <a:lnTo>
                      <a:pt x="70" y="455"/>
                    </a:lnTo>
                    <a:lnTo>
                      <a:pt x="61" y="456"/>
                    </a:lnTo>
                    <a:lnTo>
                      <a:pt x="61" y="450"/>
                    </a:lnTo>
                    <a:lnTo>
                      <a:pt x="73" y="449"/>
                    </a:lnTo>
                    <a:lnTo>
                      <a:pt x="76" y="450"/>
                    </a:lnTo>
                    <a:lnTo>
                      <a:pt x="79" y="451"/>
                    </a:lnTo>
                    <a:lnTo>
                      <a:pt x="83" y="453"/>
                    </a:lnTo>
                    <a:lnTo>
                      <a:pt x="81" y="439"/>
                    </a:lnTo>
                    <a:lnTo>
                      <a:pt x="77" y="425"/>
                    </a:lnTo>
                    <a:lnTo>
                      <a:pt x="99" y="333"/>
                    </a:lnTo>
                    <a:lnTo>
                      <a:pt x="104" y="318"/>
                    </a:lnTo>
                    <a:lnTo>
                      <a:pt x="109" y="307"/>
                    </a:lnTo>
                    <a:lnTo>
                      <a:pt x="116" y="297"/>
                    </a:lnTo>
                    <a:lnTo>
                      <a:pt x="110" y="276"/>
                    </a:lnTo>
                    <a:lnTo>
                      <a:pt x="107" y="262"/>
                    </a:lnTo>
                    <a:lnTo>
                      <a:pt x="109" y="248"/>
                    </a:lnTo>
                    <a:lnTo>
                      <a:pt x="113" y="233"/>
                    </a:lnTo>
                    <a:lnTo>
                      <a:pt x="124" y="213"/>
                    </a:lnTo>
                    <a:lnTo>
                      <a:pt x="134" y="198"/>
                    </a:lnTo>
                    <a:lnTo>
                      <a:pt x="151" y="183"/>
                    </a:lnTo>
                    <a:lnTo>
                      <a:pt x="166" y="174"/>
                    </a:lnTo>
                    <a:lnTo>
                      <a:pt x="175" y="164"/>
                    </a:lnTo>
                    <a:lnTo>
                      <a:pt x="185" y="158"/>
                    </a:lnTo>
                    <a:lnTo>
                      <a:pt x="195" y="156"/>
                    </a:lnTo>
                    <a:lnTo>
                      <a:pt x="205" y="156"/>
                    </a:lnTo>
                    <a:lnTo>
                      <a:pt x="215" y="158"/>
                    </a:lnTo>
                    <a:lnTo>
                      <a:pt x="239" y="154"/>
                    </a:lnTo>
                    <a:lnTo>
                      <a:pt x="241" y="145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4"/>
                    </a:lnTo>
                    <a:lnTo>
                      <a:pt x="237" y="99"/>
                    </a:lnTo>
                    <a:lnTo>
                      <a:pt x="237" y="81"/>
                    </a:lnTo>
                    <a:lnTo>
                      <a:pt x="240" y="65"/>
                    </a:lnTo>
                    <a:lnTo>
                      <a:pt x="247" y="47"/>
                    </a:lnTo>
                    <a:lnTo>
                      <a:pt x="255" y="34"/>
                    </a:lnTo>
                    <a:lnTo>
                      <a:pt x="264" y="25"/>
                    </a:lnTo>
                    <a:lnTo>
                      <a:pt x="287" y="13"/>
                    </a:lnTo>
                    <a:lnTo>
                      <a:pt x="304" y="7"/>
                    </a:lnTo>
                    <a:lnTo>
                      <a:pt x="320" y="2"/>
                    </a:lnTo>
                    <a:lnTo>
                      <a:pt x="338" y="0"/>
                    </a:lnTo>
                    <a:lnTo>
                      <a:pt x="351" y="0"/>
                    </a:lnTo>
                    <a:lnTo>
                      <a:pt x="367" y="2"/>
                    </a:lnTo>
                    <a:lnTo>
                      <a:pt x="377" y="6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3"/>
                    </a:lnTo>
                    <a:lnTo>
                      <a:pt x="416" y="56"/>
                    </a:lnTo>
                    <a:lnTo>
                      <a:pt x="429" y="86"/>
                    </a:lnTo>
                    <a:lnTo>
                      <a:pt x="436" y="92"/>
                    </a:lnTo>
                    <a:lnTo>
                      <a:pt x="438" y="99"/>
                    </a:lnTo>
                    <a:lnTo>
                      <a:pt x="437" y="103"/>
                    </a:lnTo>
                    <a:lnTo>
                      <a:pt x="430" y="108"/>
                    </a:lnTo>
                    <a:lnTo>
                      <a:pt x="413" y="114"/>
                    </a:lnTo>
                    <a:lnTo>
                      <a:pt x="415" y="130"/>
                    </a:lnTo>
                    <a:lnTo>
                      <a:pt x="416" y="144"/>
                    </a:lnTo>
                    <a:lnTo>
                      <a:pt x="416" y="155"/>
                    </a:lnTo>
                    <a:lnTo>
                      <a:pt x="425" y="156"/>
                    </a:lnTo>
                    <a:lnTo>
                      <a:pt x="436" y="176"/>
                    </a:lnTo>
                    <a:lnTo>
                      <a:pt x="517" y="263"/>
                    </a:lnTo>
                    <a:lnTo>
                      <a:pt x="521" y="268"/>
                    </a:lnTo>
                    <a:lnTo>
                      <a:pt x="522" y="275"/>
                    </a:lnTo>
                    <a:lnTo>
                      <a:pt x="521" y="280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1"/>
                    </a:lnTo>
                    <a:lnTo>
                      <a:pt x="511" y="297"/>
                    </a:lnTo>
                    <a:lnTo>
                      <a:pt x="507" y="301"/>
                    </a:lnTo>
                    <a:lnTo>
                      <a:pt x="511" y="305"/>
                    </a:lnTo>
                    <a:lnTo>
                      <a:pt x="513" y="309"/>
                    </a:lnTo>
                    <a:lnTo>
                      <a:pt x="518" y="317"/>
                    </a:lnTo>
                    <a:lnTo>
                      <a:pt x="527" y="322"/>
                    </a:lnTo>
                    <a:lnTo>
                      <a:pt x="535" y="328"/>
                    </a:lnTo>
                    <a:lnTo>
                      <a:pt x="542" y="333"/>
                    </a:lnTo>
                    <a:lnTo>
                      <a:pt x="549" y="338"/>
                    </a:lnTo>
                    <a:lnTo>
                      <a:pt x="568" y="332"/>
                    </a:lnTo>
                    <a:lnTo>
                      <a:pt x="579" y="330"/>
                    </a:lnTo>
                    <a:lnTo>
                      <a:pt x="590" y="328"/>
                    </a:lnTo>
                    <a:lnTo>
                      <a:pt x="597" y="324"/>
                    </a:lnTo>
                    <a:lnTo>
                      <a:pt x="627" y="305"/>
                    </a:lnTo>
                    <a:lnTo>
                      <a:pt x="665" y="263"/>
                    </a:lnTo>
                    <a:lnTo>
                      <a:pt x="670" y="264"/>
                    </a:lnTo>
                    <a:lnTo>
                      <a:pt x="691" y="240"/>
                    </a:lnTo>
                    <a:lnTo>
                      <a:pt x="692" y="234"/>
                    </a:lnTo>
                    <a:lnTo>
                      <a:pt x="697" y="228"/>
                    </a:lnTo>
                    <a:lnTo>
                      <a:pt x="702" y="221"/>
                    </a:lnTo>
                    <a:lnTo>
                      <a:pt x="787" y="218"/>
                    </a:lnTo>
                    <a:lnTo>
                      <a:pt x="731" y="251"/>
                    </a:lnTo>
                    <a:lnTo>
                      <a:pt x="721" y="263"/>
                    </a:lnTo>
                    <a:lnTo>
                      <a:pt x="703" y="290"/>
                    </a:lnTo>
                    <a:lnTo>
                      <a:pt x="706" y="297"/>
                    </a:lnTo>
                    <a:lnTo>
                      <a:pt x="663" y="371"/>
                    </a:lnTo>
                    <a:lnTo>
                      <a:pt x="649" y="409"/>
                    </a:lnTo>
                    <a:lnTo>
                      <a:pt x="633" y="422"/>
                    </a:lnTo>
                    <a:lnTo>
                      <a:pt x="616" y="432"/>
                    </a:lnTo>
                    <a:lnTo>
                      <a:pt x="594" y="442"/>
                    </a:lnTo>
                    <a:lnTo>
                      <a:pt x="580" y="444"/>
                    </a:lnTo>
                    <a:lnTo>
                      <a:pt x="567" y="4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3954600" y="1808280"/>
                <a:ext cx="196560" cy="55440"/>
              </a:xfrm>
              <a:custGeom>
                <a:avLst/>
                <a:gdLst/>
                <a:ahLst/>
                <a:rect l="l" t="t" r="r" b="b"/>
                <a:pathLst>
                  <a:path w="620" h="176">
                    <a:moveTo>
                      <a:pt x="436" y="85"/>
                    </a:moveTo>
                    <a:lnTo>
                      <a:pt x="426" y="82"/>
                    </a:lnTo>
                    <a:lnTo>
                      <a:pt x="362" y="84"/>
                    </a:lnTo>
                    <a:lnTo>
                      <a:pt x="359" y="87"/>
                    </a:lnTo>
                    <a:lnTo>
                      <a:pt x="428" y="89"/>
                    </a:lnTo>
                    <a:lnTo>
                      <a:pt x="424" y="93"/>
                    </a:lnTo>
                    <a:lnTo>
                      <a:pt x="351" y="93"/>
                    </a:lnTo>
                    <a:lnTo>
                      <a:pt x="266" y="95"/>
                    </a:lnTo>
                    <a:lnTo>
                      <a:pt x="247" y="95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7" y="176"/>
                    </a:lnTo>
                    <a:lnTo>
                      <a:pt x="127" y="137"/>
                    </a:lnTo>
                    <a:lnTo>
                      <a:pt x="123" y="126"/>
                    </a:lnTo>
                    <a:lnTo>
                      <a:pt x="123" y="116"/>
                    </a:lnTo>
                    <a:lnTo>
                      <a:pt x="122" y="112"/>
                    </a:lnTo>
                    <a:lnTo>
                      <a:pt x="119" y="110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97" y="108"/>
                    </a:lnTo>
                    <a:lnTo>
                      <a:pt x="102" y="117"/>
                    </a:lnTo>
                    <a:lnTo>
                      <a:pt x="104" y="122"/>
                    </a:lnTo>
                    <a:lnTo>
                      <a:pt x="104" y="126"/>
                    </a:lnTo>
                    <a:lnTo>
                      <a:pt x="101" y="128"/>
                    </a:lnTo>
                    <a:lnTo>
                      <a:pt x="98" y="130"/>
                    </a:lnTo>
                    <a:lnTo>
                      <a:pt x="118" y="130"/>
                    </a:lnTo>
                    <a:lnTo>
                      <a:pt x="120" y="130"/>
                    </a:lnTo>
                    <a:lnTo>
                      <a:pt x="122" y="128"/>
                    </a:lnTo>
                    <a:lnTo>
                      <a:pt x="123" y="126"/>
                    </a:lnTo>
                    <a:lnTo>
                      <a:pt x="127" y="137"/>
                    </a:lnTo>
                    <a:lnTo>
                      <a:pt x="81" y="137"/>
                    </a:lnTo>
                    <a:lnTo>
                      <a:pt x="0" y="50"/>
                    </a:lnTo>
                    <a:lnTo>
                      <a:pt x="31" y="50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7" y="18"/>
                    </a:lnTo>
                    <a:lnTo>
                      <a:pt x="51" y="18"/>
                    </a:lnTo>
                    <a:lnTo>
                      <a:pt x="54" y="9"/>
                    </a:lnTo>
                    <a:lnTo>
                      <a:pt x="58" y="5"/>
                    </a:lnTo>
                    <a:lnTo>
                      <a:pt x="65" y="3"/>
                    </a:lnTo>
                    <a:lnTo>
                      <a:pt x="178" y="13"/>
                    </a:lnTo>
                    <a:lnTo>
                      <a:pt x="183" y="16"/>
                    </a:lnTo>
                    <a:lnTo>
                      <a:pt x="187" y="19"/>
                    </a:lnTo>
                    <a:lnTo>
                      <a:pt x="190" y="23"/>
                    </a:lnTo>
                    <a:lnTo>
                      <a:pt x="190" y="30"/>
                    </a:lnTo>
                    <a:lnTo>
                      <a:pt x="188" y="34"/>
                    </a:lnTo>
                    <a:lnTo>
                      <a:pt x="187" y="36"/>
                    </a:lnTo>
                    <a:lnTo>
                      <a:pt x="181" y="36"/>
                    </a:lnTo>
                    <a:lnTo>
                      <a:pt x="182" y="33"/>
                    </a:lnTo>
                    <a:lnTo>
                      <a:pt x="184" y="29"/>
                    </a:lnTo>
                    <a:lnTo>
                      <a:pt x="184" y="23"/>
                    </a:lnTo>
                    <a:lnTo>
                      <a:pt x="181" y="20"/>
                    </a:lnTo>
                    <a:lnTo>
                      <a:pt x="176" y="18"/>
                    </a:lnTo>
                    <a:lnTo>
                      <a:pt x="90" y="18"/>
                    </a:lnTo>
                    <a:lnTo>
                      <a:pt x="87" y="22"/>
                    </a:lnTo>
                    <a:lnTo>
                      <a:pt x="85" y="28"/>
                    </a:lnTo>
                    <a:lnTo>
                      <a:pt x="84" y="32"/>
                    </a:lnTo>
                    <a:lnTo>
                      <a:pt x="84" y="35"/>
                    </a:lnTo>
                    <a:lnTo>
                      <a:pt x="85" y="39"/>
                    </a:lnTo>
                    <a:lnTo>
                      <a:pt x="88" y="40"/>
                    </a:lnTo>
                    <a:lnTo>
                      <a:pt x="176" y="40"/>
                    </a:lnTo>
                    <a:lnTo>
                      <a:pt x="181" y="36"/>
                    </a:lnTo>
                    <a:lnTo>
                      <a:pt x="187" y="36"/>
                    </a:lnTo>
                    <a:lnTo>
                      <a:pt x="439" y="36"/>
                    </a:lnTo>
                    <a:lnTo>
                      <a:pt x="445" y="39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8"/>
                    </a:lnTo>
                    <a:lnTo>
                      <a:pt x="469" y="28"/>
                    </a:lnTo>
                    <a:lnTo>
                      <a:pt x="469" y="14"/>
                    </a:lnTo>
                    <a:lnTo>
                      <a:pt x="460" y="14"/>
                    </a:lnTo>
                    <a:lnTo>
                      <a:pt x="444" y="35"/>
                    </a:lnTo>
                    <a:lnTo>
                      <a:pt x="444" y="39"/>
                    </a:lnTo>
                    <a:lnTo>
                      <a:pt x="445" y="39"/>
                    </a:lnTo>
                    <a:lnTo>
                      <a:pt x="439" y="36"/>
                    </a:lnTo>
                    <a:lnTo>
                      <a:pt x="465" y="2"/>
                    </a:lnTo>
                    <a:lnTo>
                      <a:pt x="469" y="0"/>
                    </a:lnTo>
                    <a:lnTo>
                      <a:pt x="473" y="2"/>
                    </a:lnTo>
                    <a:lnTo>
                      <a:pt x="478" y="6"/>
                    </a:lnTo>
                    <a:lnTo>
                      <a:pt x="480" y="47"/>
                    </a:lnTo>
                    <a:lnTo>
                      <a:pt x="548" y="47"/>
                    </a:lnTo>
                    <a:lnTo>
                      <a:pt x="555" y="44"/>
                    </a:lnTo>
                    <a:lnTo>
                      <a:pt x="590" y="43"/>
                    </a:lnTo>
                    <a:lnTo>
                      <a:pt x="593" y="46"/>
                    </a:lnTo>
                    <a:lnTo>
                      <a:pt x="598" y="48"/>
                    </a:lnTo>
                    <a:lnTo>
                      <a:pt x="601" y="50"/>
                    </a:lnTo>
                    <a:lnTo>
                      <a:pt x="605" y="54"/>
                    </a:lnTo>
                    <a:lnTo>
                      <a:pt x="608" y="56"/>
                    </a:lnTo>
                    <a:lnTo>
                      <a:pt x="613" y="58"/>
                    </a:lnTo>
                    <a:lnTo>
                      <a:pt x="616" y="60"/>
                    </a:lnTo>
                    <a:lnTo>
                      <a:pt x="620" y="63"/>
                    </a:lnTo>
                    <a:lnTo>
                      <a:pt x="620" y="63"/>
                    </a:lnTo>
                    <a:lnTo>
                      <a:pt x="607" y="63"/>
                    </a:lnTo>
                    <a:lnTo>
                      <a:pt x="601" y="60"/>
                    </a:lnTo>
                    <a:lnTo>
                      <a:pt x="480" y="60"/>
                    </a:lnTo>
                    <a:lnTo>
                      <a:pt x="480" y="66"/>
                    </a:lnTo>
                    <a:lnTo>
                      <a:pt x="469" y="66"/>
                    </a:lnTo>
                    <a:lnTo>
                      <a:pt x="469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1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3624120" y="2082960"/>
                <a:ext cx="250920" cy="291960"/>
              </a:xfrm>
              <a:custGeom>
                <a:avLst/>
                <a:gdLst/>
                <a:ahLst/>
                <a:rect l="l" t="t" r="r" b="b"/>
                <a:pathLst>
                  <a:path w="788" h="919">
                    <a:moveTo>
                      <a:pt x="417" y="451"/>
                    </a:moveTo>
                    <a:lnTo>
                      <a:pt x="432" y="440"/>
                    </a:lnTo>
                    <a:lnTo>
                      <a:pt x="445" y="431"/>
                    </a:lnTo>
                    <a:lnTo>
                      <a:pt x="458" y="425"/>
                    </a:lnTo>
                    <a:lnTo>
                      <a:pt x="472" y="418"/>
                    </a:lnTo>
                    <a:lnTo>
                      <a:pt x="446" y="402"/>
                    </a:lnTo>
                    <a:lnTo>
                      <a:pt x="434" y="393"/>
                    </a:lnTo>
                    <a:lnTo>
                      <a:pt x="421" y="384"/>
                    </a:lnTo>
                    <a:lnTo>
                      <a:pt x="422" y="401"/>
                    </a:lnTo>
                    <a:lnTo>
                      <a:pt x="420" y="416"/>
                    </a:lnTo>
                    <a:lnTo>
                      <a:pt x="417" y="451"/>
                    </a:lnTo>
                    <a:close/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3"/>
                    </a:lnTo>
                    <a:lnTo>
                      <a:pt x="557" y="620"/>
                    </a:lnTo>
                    <a:lnTo>
                      <a:pt x="547" y="667"/>
                    </a:lnTo>
                    <a:lnTo>
                      <a:pt x="537" y="699"/>
                    </a:lnTo>
                    <a:lnTo>
                      <a:pt x="528" y="705"/>
                    </a:lnTo>
                    <a:lnTo>
                      <a:pt x="520" y="712"/>
                    </a:lnTo>
                    <a:lnTo>
                      <a:pt x="512" y="746"/>
                    </a:lnTo>
                    <a:lnTo>
                      <a:pt x="512" y="752"/>
                    </a:lnTo>
                    <a:lnTo>
                      <a:pt x="515" y="758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4"/>
                    </a:lnTo>
                    <a:lnTo>
                      <a:pt x="526" y="792"/>
                    </a:lnTo>
                    <a:lnTo>
                      <a:pt x="534" y="794"/>
                    </a:lnTo>
                    <a:lnTo>
                      <a:pt x="537" y="799"/>
                    </a:lnTo>
                    <a:lnTo>
                      <a:pt x="541" y="804"/>
                    </a:lnTo>
                    <a:lnTo>
                      <a:pt x="544" y="811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9"/>
                    </a:lnTo>
                    <a:lnTo>
                      <a:pt x="590" y="844"/>
                    </a:lnTo>
                    <a:lnTo>
                      <a:pt x="590" y="855"/>
                    </a:lnTo>
                    <a:lnTo>
                      <a:pt x="579" y="857"/>
                    </a:lnTo>
                    <a:lnTo>
                      <a:pt x="565" y="860"/>
                    </a:lnTo>
                    <a:lnTo>
                      <a:pt x="542" y="858"/>
                    </a:lnTo>
                    <a:lnTo>
                      <a:pt x="522" y="855"/>
                    </a:lnTo>
                    <a:lnTo>
                      <a:pt x="499" y="847"/>
                    </a:lnTo>
                    <a:lnTo>
                      <a:pt x="482" y="840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10"/>
                    </a:lnTo>
                    <a:lnTo>
                      <a:pt x="423" y="800"/>
                    </a:lnTo>
                    <a:lnTo>
                      <a:pt x="425" y="790"/>
                    </a:lnTo>
                    <a:lnTo>
                      <a:pt x="427" y="781"/>
                    </a:lnTo>
                    <a:lnTo>
                      <a:pt x="430" y="774"/>
                    </a:lnTo>
                    <a:lnTo>
                      <a:pt x="434" y="765"/>
                    </a:lnTo>
                    <a:lnTo>
                      <a:pt x="439" y="758"/>
                    </a:lnTo>
                    <a:lnTo>
                      <a:pt x="439" y="749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30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8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2" y="624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3"/>
                    </a:lnTo>
                    <a:lnTo>
                      <a:pt x="413" y="626"/>
                    </a:lnTo>
                    <a:lnTo>
                      <a:pt x="397" y="640"/>
                    </a:lnTo>
                    <a:lnTo>
                      <a:pt x="384" y="651"/>
                    </a:lnTo>
                    <a:lnTo>
                      <a:pt x="367" y="665"/>
                    </a:lnTo>
                    <a:lnTo>
                      <a:pt x="351" y="677"/>
                    </a:lnTo>
                    <a:lnTo>
                      <a:pt x="333" y="687"/>
                    </a:lnTo>
                    <a:lnTo>
                      <a:pt x="314" y="698"/>
                    </a:lnTo>
                    <a:lnTo>
                      <a:pt x="297" y="704"/>
                    </a:lnTo>
                    <a:lnTo>
                      <a:pt x="281" y="711"/>
                    </a:lnTo>
                    <a:lnTo>
                      <a:pt x="266" y="715"/>
                    </a:lnTo>
                    <a:lnTo>
                      <a:pt x="251" y="772"/>
                    </a:lnTo>
                    <a:lnTo>
                      <a:pt x="250" y="788"/>
                    </a:lnTo>
                    <a:lnTo>
                      <a:pt x="248" y="804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70"/>
                    </a:lnTo>
                    <a:lnTo>
                      <a:pt x="214" y="879"/>
                    </a:lnTo>
                    <a:lnTo>
                      <a:pt x="212" y="888"/>
                    </a:lnTo>
                    <a:lnTo>
                      <a:pt x="205" y="898"/>
                    </a:lnTo>
                    <a:lnTo>
                      <a:pt x="196" y="907"/>
                    </a:lnTo>
                    <a:lnTo>
                      <a:pt x="182" y="913"/>
                    </a:lnTo>
                    <a:lnTo>
                      <a:pt x="161" y="919"/>
                    </a:lnTo>
                    <a:lnTo>
                      <a:pt x="143" y="919"/>
                    </a:lnTo>
                    <a:lnTo>
                      <a:pt x="126" y="915"/>
                    </a:lnTo>
                    <a:lnTo>
                      <a:pt x="112" y="910"/>
                    </a:lnTo>
                    <a:lnTo>
                      <a:pt x="102" y="901"/>
                    </a:lnTo>
                    <a:lnTo>
                      <a:pt x="94" y="895"/>
                    </a:lnTo>
                    <a:lnTo>
                      <a:pt x="86" y="893"/>
                    </a:lnTo>
                    <a:lnTo>
                      <a:pt x="76" y="877"/>
                    </a:lnTo>
                    <a:lnTo>
                      <a:pt x="71" y="858"/>
                    </a:lnTo>
                    <a:lnTo>
                      <a:pt x="65" y="843"/>
                    </a:lnTo>
                    <a:lnTo>
                      <a:pt x="62" y="824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7"/>
                    </a:lnTo>
                    <a:lnTo>
                      <a:pt x="73" y="734"/>
                    </a:lnTo>
                    <a:lnTo>
                      <a:pt x="80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0"/>
                    </a:lnTo>
                    <a:lnTo>
                      <a:pt x="66" y="641"/>
                    </a:lnTo>
                    <a:lnTo>
                      <a:pt x="59" y="639"/>
                    </a:lnTo>
                    <a:lnTo>
                      <a:pt x="54" y="637"/>
                    </a:lnTo>
                    <a:lnTo>
                      <a:pt x="51" y="631"/>
                    </a:lnTo>
                    <a:lnTo>
                      <a:pt x="50" y="626"/>
                    </a:lnTo>
                    <a:lnTo>
                      <a:pt x="44" y="627"/>
                    </a:lnTo>
                    <a:lnTo>
                      <a:pt x="36" y="626"/>
                    </a:lnTo>
                    <a:lnTo>
                      <a:pt x="31" y="623"/>
                    </a:lnTo>
                    <a:lnTo>
                      <a:pt x="24" y="617"/>
                    </a:lnTo>
                    <a:lnTo>
                      <a:pt x="20" y="610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4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1" y="508"/>
                    </a:lnTo>
                    <a:lnTo>
                      <a:pt x="6" y="499"/>
                    </a:lnTo>
                    <a:lnTo>
                      <a:pt x="7" y="493"/>
                    </a:lnTo>
                    <a:lnTo>
                      <a:pt x="10" y="489"/>
                    </a:lnTo>
                    <a:lnTo>
                      <a:pt x="12" y="480"/>
                    </a:lnTo>
                    <a:lnTo>
                      <a:pt x="13" y="475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8" y="441"/>
                    </a:lnTo>
                    <a:lnTo>
                      <a:pt x="30" y="438"/>
                    </a:lnTo>
                    <a:lnTo>
                      <a:pt x="31" y="436"/>
                    </a:lnTo>
                    <a:lnTo>
                      <a:pt x="34" y="436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6"/>
                    </a:lnTo>
                    <a:lnTo>
                      <a:pt x="57" y="436"/>
                    </a:lnTo>
                    <a:lnTo>
                      <a:pt x="59" y="438"/>
                    </a:lnTo>
                    <a:lnTo>
                      <a:pt x="61" y="442"/>
                    </a:lnTo>
                    <a:lnTo>
                      <a:pt x="62" y="450"/>
                    </a:lnTo>
                    <a:lnTo>
                      <a:pt x="62" y="457"/>
                    </a:lnTo>
                    <a:lnTo>
                      <a:pt x="61" y="462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7"/>
                    </a:lnTo>
                    <a:lnTo>
                      <a:pt x="62" y="450"/>
                    </a:lnTo>
                    <a:lnTo>
                      <a:pt x="74" y="449"/>
                    </a:lnTo>
                    <a:lnTo>
                      <a:pt x="77" y="450"/>
                    </a:lnTo>
                    <a:lnTo>
                      <a:pt x="81" y="451"/>
                    </a:lnTo>
                    <a:lnTo>
                      <a:pt x="85" y="453"/>
                    </a:lnTo>
                    <a:lnTo>
                      <a:pt x="81" y="439"/>
                    </a:lnTo>
                    <a:lnTo>
                      <a:pt x="78" y="425"/>
                    </a:lnTo>
                    <a:lnTo>
                      <a:pt x="100" y="334"/>
                    </a:lnTo>
                    <a:lnTo>
                      <a:pt x="105" y="318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6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8"/>
                    </a:lnTo>
                    <a:lnTo>
                      <a:pt x="152" y="184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6"/>
                    </a:lnTo>
                    <a:lnTo>
                      <a:pt x="205" y="156"/>
                    </a:lnTo>
                    <a:lnTo>
                      <a:pt x="216" y="159"/>
                    </a:lnTo>
                    <a:lnTo>
                      <a:pt x="240" y="154"/>
                    </a:lnTo>
                    <a:lnTo>
                      <a:pt x="242" y="145"/>
                    </a:lnTo>
                    <a:lnTo>
                      <a:pt x="239" y="131"/>
                    </a:lnTo>
                    <a:lnTo>
                      <a:pt x="241" y="130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4"/>
                    </a:lnTo>
                    <a:lnTo>
                      <a:pt x="265" y="25"/>
                    </a:lnTo>
                    <a:lnTo>
                      <a:pt x="289" y="13"/>
                    </a:lnTo>
                    <a:lnTo>
                      <a:pt x="305" y="8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7"/>
                    </a:lnTo>
                    <a:lnTo>
                      <a:pt x="387" y="11"/>
                    </a:lnTo>
                    <a:lnTo>
                      <a:pt x="397" y="21"/>
                    </a:lnTo>
                    <a:lnTo>
                      <a:pt x="405" y="33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2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2" y="108"/>
                    </a:lnTo>
                    <a:lnTo>
                      <a:pt x="414" y="114"/>
                    </a:lnTo>
                    <a:lnTo>
                      <a:pt x="416" y="130"/>
                    </a:lnTo>
                    <a:lnTo>
                      <a:pt x="417" y="144"/>
                    </a:lnTo>
                    <a:lnTo>
                      <a:pt x="417" y="155"/>
                    </a:lnTo>
                    <a:lnTo>
                      <a:pt x="426" y="156"/>
                    </a:lnTo>
                    <a:lnTo>
                      <a:pt x="436" y="176"/>
                    </a:lnTo>
                    <a:lnTo>
                      <a:pt x="517" y="263"/>
                    </a:lnTo>
                    <a:lnTo>
                      <a:pt x="522" y="269"/>
                    </a:lnTo>
                    <a:lnTo>
                      <a:pt x="523" y="275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2"/>
                    </a:lnTo>
                    <a:lnTo>
                      <a:pt x="512" y="297"/>
                    </a:lnTo>
                    <a:lnTo>
                      <a:pt x="509" y="302"/>
                    </a:lnTo>
                    <a:lnTo>
                      <a:pt x="512" y="305"/>
                    </a:lnTo>
                    <a:lnTo>
                      <a:pt x="514" y="309"/>
                    </a:lnTo>
                    <a:lnTo>
                      <a:pt x="520" y="317"/>
                    </a:lnTo>
                    <a:lnTo>
                      <a:pt x="528" y="323"/>
                    </a:lnTo>
                    <a:lnTo>
                      <a:pt x="536" y="328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2"/>
                    </a:lnTo>
                    <a:lnTo>
                      <a:pt x="580" y="330"/>
                    </a:lnTo>
                    <a:lnTo>
                      <a:pt x="591" y="328"/>
                    </a:lnTo>
                    <a:lnTo>
                      <a:pt x="598" y="325"/>
                    </a:lnTo>
                    <a:lnTo>
                      <a:pt x="629" y="305"/>
                    </a:lnTo>
                    <a:lnTo>
                      <a:pt x="666" y="263"/>
                    </a:lnTo>
                    <a:lnTo>
                      <a:pt x="671" y="264"/>
                    </a:lnTo>
                    <a:lnTo>
                      <a:pt x="692" y="240"/>
                    </a:lnTo>
                    <a:lnTo>
                      <a:pt x="694" y="234"/>
                    </a:lnTo>
                    <a:lnTo>
                      <a:pt x="698" y="228"/>
                    </a:lnTo>
                    <a:lnTo>
                      <a:pt x="703" y="221"/>
                    </a:lnTo>
                    <a:lnTo>
                      <a:pt x="788" y="218"/>
                    </a:lnTo>
                    <a:lnTo>
                      <a:pt x="732" y="251"/>
                    </a:lnTo>
                    <a:lnTo>
                      <a:pt x="721" y="263"/>
                    </a:lnTo>
                    <a:lnTo>
                      <a:pt x="705" y="291"/>
                    </a:lnTo>
                    <a:lnTo>
                      <a:pt x="707" y="297"/>
                    </a:lnTo>
                    <a:lnTo>
                      <a:pt x="664" y="371"/>
                    </a:lnTo>
                    <a:lnTo>
                      <a:pt x="651" y="409"/>
                    </a:lnTo>
                    <a:lnTo>
                      <a:pt x="634" y="423"/>
                    </a:lnTo>
                    <a:lnTo>
                      <a:pt x="618" y="433"/>
                    </a:lnTo>
                    <a:lnTo>
                      <a:pt x="596" y="442"/>
                    </a:lnTo>
                    <a:lnTo>
                      <a:pt x="581" y="445"/>
                    </a:lnTo>
                    <a:lnTo>
                      <a:pt x="568" y="446"/>
                    </a:lnTo>
                    <a:close/>
                    <a:moveTo>
                      <a:pt x="84" y="467"/>
                    </a:moveTo>
                    <a:lnTo>
                      <a:pt x="77" y="472"/>
                    </a:lnTo>
                    <a:lnTo>
                      <a:pt x="80" y="477"/>
                    </a:lnTo>
                    <a:lnTo>
                      <a:pt x="81" y="481"/>
                    </a:lnTo>
                    <a:lnTo>
                      <a:pt x="84" y="477"/>
                    </a:lnTo>
                    <a:lnTo>
                      <a:pt x="85" y="471"/>
                    </a:lnTo>
                    <a:lnTo>
                      <a:pt x="84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3624120" y="2082960"/>
                <a:ext cx="250920" cy="291960"/>
              </a:xfrm>
              <a:custGeom>
                <a:avLst/>
                <a:gdLst/>
                <a:ahLst/>
                <a:rect l="l" t="t" r="r" b="b"/>
                <a:pathLst>
                  <a:path w="788" h="919"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3"/>
                    </a:lnTo>
                    <a:lnTo>
                      <a:pt x="557" y="620"/>
                    </a:lnTo>
                    <a:lnTo>
                      <a:pt x="547" y="667"/>
                    </a:lnTo>
                    <a:lnTo>
                      <a:pt x="537" y="699"/>
                    </a:lnTo>
                    <a:lnTo>
                      <a:pt x="528" y="705"/>
                    </a:lnTo>
                    <a:lnTo>
                      <a:pt x="520" y="712"/>
                    </a:lnTo>
                    <a:lnTo>
                      <a:pt x="512" y="746"/>
                    </a:lnTo>
                    <a:lnTo>
                      <a:pt x="512" y="752"/>
                    </a:lnTo>
                    <a:lnTo>
                      <a:pt x="515" y="758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4"/>
                    </a:lnTo>
                    <a:lnTo>
                      <a:pt x="526" y="792"/>
                    </a:lnTo>
                    <a:lnTo>
                      <a:pt x="534" y="794"/>
                    </a:lnTo>
                    <a:lnTo>
                      <a:pt x="537" y="799"/>
                    </a:lnTo>
                    <a:lnTo>
                      <a:pt x="541" y="804"/>
                    </a:lnTo>
                    <a:lnTo>
                      <a:pt x="544" y="811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9"/>
                    </a:lnTo>
                    <a:lnTo>
                      <a:pt x="590" y="844"/>
                    </a:lnTo>
                    <a:lnTo>
                      <a:pt x="590" y="855"/>
                    </a:lnTo>
                    <a:lnTo>
                      <a:pt x="579" y="857"/>
                    </a:lnTo>
                    <a:lnTo>
                      <a:pt x="565" y="860"/>
                    </a:lnTo>
                    <a:lnTo>
                      <a:pt x="542" y="858"/>
                    </a:lnTo>
                    <a:lnTo>
                      <a:pt x="522" y="855"/>
                    </a:lnTo>
                    <a:lnTo>
                      <a:pt x="499" y="847"/>
                    </a:lnTo>
                    <a:lnTo>
                      <a:pt x="482" y="840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10"/>
                    </a:lnTo>
                    <a:lnTo>
                      <a:pt x="423" y="800"/>
                    </a:lnTo>
                    <a:lnTo>
                      <a:pt x="425" y="790"/>
                    </a:lnTo>
                    <a:lnTo>
                      <a:pt x="427" y="781"/>
                    </a:lnTo>
                    <a:lnTo>
                      <a:pt x="430" y="774"/>
                    </a:lnTo>
                    <a:lnTo>
                      <a:pt x="434" y="765"/>
                    </a:lnTo>
                    <a:lnTo>
                      <a:pt x="439" y="758"/>
                    </a:lnTo>
                    <a:lnTo>
                      <a:pt x="439" y="749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30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8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2" y="624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3"/>
                    </a:lnTo>
                    <a:lnTo>
                      <a:pt x="413" y="626"/>
                    </a:lnTo>
                    <a:lnTo>
                      <a:pt x="397" y="640"/>
                    </a:lnTo>
                    <a:lnTo>
                      <a:pt x="384" y="651"/>
                    </a:lnTo>
                    <a:lnTo>
                      <a:pt x="367" y="665"/>
                    </a:lnTo>
                    <a:lnTo>
                      <a:pt x="351" y="677"/>
                    </a:lnTo>
                    <a:lnTo>
                      <a:pt x="333" y="687"/>
                    </a:lnTo>
                    <a:lnTo>
                      <a:pt x="314" y="698"/>
                    </a:lnTo>
                    <a:lnTo>
                      <a:pt x="297" y="704"/>
                    </a:lnTo>
                    <a:lnTo>
                      <a:pt x="281" y="711"/>
                    </a:lnTo>
                    <a:lnTo>
                      <a:pt x="266" y="715"/>
                    </a:lnTo>
                    <a:lnTo>
                      <a:pt x="251" y="772"/>
                    </a:lnTo>
                    <a:lnTo>
                      <a:pt x="250" y="788"/>
                    </a:lnTo>
                    <a:lnTo>
                      <a:pt x="248" y="804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70"/>
                    </a:lnTo>
                    <a:lnTo>
                      <a:pt x="214" y="879"/>
                    </a:lnTo>
                    <a:lnTo>
                      <a:pt x="212" y="888"/>
                    </a:lnTo>
                    <a:lnTo>
                      <a:pt x="205" y="898"/>
                    </a:lnTo>
                    <a:lnTo>
                      <a:pt x="196" y="907"/>
                    </a:lnTo>
                    <a:lnTo>
                      <a:pt x="182" y="913"/>
                    </a:lnTo>
                    <a:lnTo>
                      <a:pt x="161" y="919"/>
                    </a:lnTo>
                    <a:lnTo>
                      <a:pt x="143" y="919"/>
                    </a:lnTo>
                    <a:lnTo>
                      <a:pt x="126" y="915"/>
                    </a:lnTo>
                    <a:lnTo>
                      <a:pt x="112" y="910"/>
                    </a:lnTo>
                    <a:lnTo>
                      <a:pt x="102" y="901"/>
                    </a:lnTo>
                    <a:lnTo>
                      <a:pt x="94" y="895"/>
                    </a:lnTo>
                    <a:lnTo>
                      <a:pt x="86" y="893"/>
                    </a:lnTo>
                    <a:lnTo>
                      <a:pt x="76" y="877"/>
                    </a:lnTo>
                    <a:lnTo>
                      <a:pt x="71" y="858"/>
                    </a:lnTo>
                    <a:lnTo>
                      <a:pt x="65" y="843"/>
                    </a:lnTo>
                    <a:lnTo>
                      <a:pt x="62" y="824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7"/>
                    </a:lnTo>
                    <a:lnTo>
                      <a:pt x="73" y="734"/>
                    </a:lnTo>
                    <a:lnTo>
                      <a:pt x="80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0"/>
                    </a:lnTo>
                    <a:lnTo>
                      <a:pt x="66" y="641"/>
                    </a:lnTo>
                    <a:lnTo>
                      <a:pt x="59" y="639"/>
                    </a:lnTo>
                    <a:lnTo>
                      <a:pt x="54" y="637"/>
                    </a:lnTo>
                    <a:lnTo>
                      <a:pt x="51" y="631"/>
                    </a:lnTo>
                    <a:lnTo>
                      <a:pt x="50" y="626"/>
                    </a:lnTo>
                    <a:lnTo>
                      <a:pt x="44" y="627"/>
                    </a:lnTo>
                    <a:lnTo>
                      <a:pt x="36" y="626"/>
                    </a:lnTo>
                    <a:lnTo>
                      <a:pt x="31" y="623"/>
                    </a:lnTo>
                    <a:lnTo>
                      <a:pt x="24" y="617"/>
                    </a:lnTo>
                    <a:lnTo>
                      <a:pt x="20" y="610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4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1" y="508"/>
                    </a:lnTo>
                    <a:lnTo>
                      <a:pt x="6" y="499"/>
                    </a:lnTo>
                    <a:lnTo>
                      <a:pt x="7" y="493"/>
                    </a:lnTo>
                    <a:lnTo>
                      <a:pt x="10" y="489"/>
                    </a:lnTo>
                    <a:lnTo>
                      <a:pt x="12" y="480"/>
                    </a:lnTo>
                    <a:lnTo>
                      <a:pt x="13" y="475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8" y="441"/>
                    </a:lnTo>
                    <a:lnTo>
                      <a:pt x="30" y="438"/>
                    </a:lnTo>
                    <a:lnTo>
                      <a:pt x="31" y="436"/>
                    </a:lnTo>
                    <a:lnTo>
                      <a:pt x="34" y="436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6"/>
                    </a:lnTo>
                    <a:lnTo>
                      <a:pt x="57" y="436"/>
                    </a:lnTo>
                    <a:lnTo>
                      <a:pt x="59" y="438"/>
                    </a:lnTo>
                    <a:lnTo>
                      <a:pt x="61" y="442"/>
                    </a:lnTo>
                    <a:lnTo>
                      <a:pt x="62" y="450"/>
                    </a:lnTo>
                    <a:lnTo>
                      <a:pt x="62" y="457"/>
                    </a:lnTo>
                    <a:lnTo>
                      <a:pt x="61" y="462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7"/>
                    </a:lnTo>
                    <a:lnTo>
                      <a:pt x="62" y="450"/>
                    </a:lnTo>
                    <a:lnTo>
                      <a:pt x="74" y="449"/>
                    </a:lnTo>
                    <a:lnTo>
                      <a:pt x="77" y="450"/>
                    </a:lnTo>
                    <a:lnTo>
                      <a:pt x="81" y="451"/>
                    </a:lnTo>
                    <a:lnTo>
                      <a:pt x="85" y="453"/>
                    </a:lnTo>
                    <a:lnTo>
                      <a:pt x="81" y="439"/>
                    </a:lnTo>
                    <a:lnTo>
                      <a:pt x="78" y="425"/>
                    </a:lnTo>
                    <a:lnTo>
                      <a:pt x="100" y="334"/>
                    </a:lnTo>
                    <a:lnTo>
                      <a:pt x="105" y="318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6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8"/>
                    </a:lnTo>
                    <a:lnTo>
                      <a:pt x="152" y="184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6"/>
                    </a:lnTo>
                    <a:lnTo>
                      <a:pt x="205" y="156"/>
                    </a:lnTo>
                    <a:lnTo>
                      <a:pt x="216" y="159"/>
                    </a:lnTo>
                    <a:lnTo>
                      <a:pt x="240" y="154"/>
                    </a:lnTo>
                    <a:lnTo>
                      <a:pt x="242" y="145"/>
                    </a:lnTo>
                    <a:lnTo>
                      <a:pt x="239" y="131"/>
                    </a:lnTo>
                    <a:lnTo>
                      <a:pt x="241" y="130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4"/>
                    </a:lnTo>
                    <a:lnTo>
                      <a:pt x="265" y="25"/>
                    </a:lnTo>
                    <a:lnTo>
                      <a:pt x="289" y="13"/>
                    </a:lnTo>
                    <a:lnTo>
                      <a:pt x="305" y="8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7"/>
                    </a:lnTo>
                    <a:lnTo>
                      <a:pt x="387" y="11"/>
                    </a:lnTo>
                    <a:lnTo>
                      <a:pt x="397" y="21"/>
                    </a:lnTo>
                    <a:lnTo>
                      <a:pt x="405" y="33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2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2" y="108"/>
                    </a:lnTo>
                    <a:lnTo>
                      <a:pt x="414" y="114"/>
                    </a:lnTo>
                    <a:lnTo>
                      <a:pt x="416" y="130"/>
                    </a:lnTo>
                    <a:lnTo>
                      <a:pt x="417" y="144"/>
                    </a:lnTo>
                    <a:lnTo>
                      <a:pt x="417" y="155"/>
                    </a:lnTo>
                    <a:lnTo>
                      <a:pt x="426" y="156"/>
                    </a:lnTo>
                    <a:lnTo>
                      <a:pt x="436" y="176"/>
                    </a:lnTo>
                    <a:lnTo>
                      <a:pt x="517" y="263"/>
                    </a:lnTo>
                    <a:lnTo>
                      <a:pt x="522" y="269"/>
                    </a:lnTo>
                    <a:lnTo>
                      <a:pt x="523" y="275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2"/>
                    </a:lnTo>
                    <a:lnTo>
                      <a:pt x="512" y="297"/>
                    </a:lnTo>
                    <a:lnTo>
                      <a:pt x="509" y="302"/>
                    </a:lnTo>
                    <a:lnTo>
                      <a:pt x="512" y="305"/>
                    </a:lnTo>
                    <a:lnTo>
                      <a:pt x="514" y="309"/>
                    </a:lnTo>
                    <a:lnTo>
                      <a:pt x="520" y="317"/>
                    </a:lnTo>
                    <a:lnTo>
                      <a:pt x="528" y="323"/>
                    </a:lnTo>
                    <a:lnTo>
                      <a:pt x="536" y="328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2"/>
                    </a:lnTo>
                    <a:lnTo>
                      <a:pt x="580" y="330"/>
                    </a:lnTo>
                    <a:lnTo>
                      <a:pt x="591" y="328"/>
                    </a:lnTo>
                    <a:lnTo>
                      <a:pt x="598" y="325"/>
                    </a:lnTo>
                    <a:lnTo>
                      <a:pt x="629" y="305"/>
                    </a:lnTo>
                    <a:lnTo>
                      <a:pt x="666" y="263"/>
                    </a:lnTo>
                    <a:lnTo>
                      <a:pt x="671" y="264"/>
                    </a:lnTo>
                    <a:lnTo>
                      <a:pt x="692" y="240"/>
                    </a:lnTo>
                    <a:lnTo>
                      <a:pt x="694" y="234"/>
                    </a:lnTo>
                    <a:lnTo>
                      <a:pt x="698" y="228"/>
                    </a:lnTo>
                    <a:lnTo>
                      <a:pt x="703" y="221"/>
                    </a:lnTo>
                    <a:lnTo>
                      <a:pt x="788" y="218"/>
                    </a:lnTo>
                    <a:lnTo>
                      <a:pt x="732" y="251"/>
                    </a:lnTo>
                    <a:lnTo>
                      <a:pt x="721" y="263"/>
                    </a:lnTo>
                    <a:lnTo>
                      <a:pt x="705" y="291"/>
                    </a:lnTo>
                    <a:lnTo>
                      <a:pt x="707" y="297"/>
                    </a:lnTo>
                    <a:lnTo>
                      <a:pt x="664" y="371"/>
                    </a:lnTo>
                    <a:lnTo>
                      <a:pt x="651" y="409"/>
                    </a:lnTo>
                    <a:lnTo>
                      <a:pt x="634" y="423"/>
                    </a:lnTo>
                    <a:lnTo>
                      <a:pt x="618" y="433"/>
                    </a:lnTo>
                    <a:lnTo>
                      <a:pt x="596" y="442"/>
                    </a:lnTo>
                    <a:lnTo>
                      <a:pt x="581" y="445"/>
                    </a:lnTo>
                    <a:lnTo>
                      <a:pt x="568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3763800" y="2122560"/>
                <a:ext cx="196920" cy="57240"/>
              </a:xfrm>
              <a:custGeom>
                <a:avLst/>
                <a:gdLst/>
                <a:ahLst/>
                <a:rect l="l" t="t" r="r" b="b"/>
                <a:pathLst>
                  <a:path w="621" h="177">
                    <a:moveTo>
                      <a:pt x="436" y="85"/>
                    </a:moveTo>
                    <a:lnTo>
                      <a:pt x="427" y="82"/>
                    </a:lnTo>
                    <a:lnTo>
                      <a:pt x="363" y="84"/>
                    </a:lnTo>
                    <a:lnTo>
                      <a:pt x="360" y="87"/>
                    </a:lnTo>
                    <a:lnTo>
                      <a:pt x="429" y="90"/>
                    </a:lnTo>
                    <a:lnTo>
                      <a:pt x="425" y="92"/>
                    </a:lnTo>
                    <a:lnTo>
                      <a:pt x="352" y="92"/>
                    </a:lnTo>
                    <a:lnTo>
                      <a:pt x="268" y="95"/>
                    </a:lnTo>
                    <a:lnTo>
                      <a:pt x="248" y="95"/>
                    </a:lnTo>
                    <a:lnTo>
                      <a:pt x="176" y="124"/>
                    </a:lnTo>
                    <a:lnTo>
                      <a:pt x="176" y="166"/>
                    </a:lnTo>
                    <a:lnTo>
                      <a:pt x="128" y="177"/>
                    </a:lnTo>
                    <a:lnTo>
                      <a:pt x="128" y="137"/>
                    </a:lnTo>
                    <a:lnTo>
                      <a:pt x="123" y="126"/>
                    </a:lnTo>
                    <a:lnTo>
                      <a:pt x="123" y="116"/>
                    </a:lnTo>
                    <a:lnTo>
                      <a:pt x="122" y="113"/>
                    </a:lnTo>
                    <a:lnTo>
                      <a:pt x="120" y="111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8" y="108"/>
                    </a:lnTo>
                    <a:lnTo>
                      <a:pt x="104" y="117"/>
                    </a:lnTo>
                    <a:lnTo>
                      <a:pt x="105" y="123"/>
                    </a:lnTo>
                    <a:lnTo>
                      <a:pt x="105" y="126"/>
                    </a:lnTo>
                    <a:lnTo>
                      <a:pt x="102" y="128"/>
                    </a:lnTo>
                    <a:lnTo>
                      <a:pt x="99" y="130"/>
                    </a:lnTo>
                    <a:lnTo>
                      <a:pt x="119" y="130"/>
                    </a:lnTo>
                    <a:lnTo>
                      <a:pt x="121" y="130"/>
                    </a:lnTo>
                    <a:lnTo>
                      <a:pt x="122" y="128"/>
                    </a:lnTo>
                    <a:lnTo>
                      <a:pt x="123" y="126"/>
                    </a:lnTo>
                    <a:lnTo>
                      <a:pt x="128" y="137"/>
                    </a:lnTo>
                    <a:lnTo>
                      <a:pt x="82" y="137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40"/>
                    </a:lnTo>
                    <a:lnTo>
                      <a:pt x="43" y="40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4" y="9"/>
                    </a:lnTo>
                    <a:lnTo>
                      <a:pt x="59" y="5"/>
                    </a:lnTo>
                    <a:lnTo>
                      <a:pt x="66" y="4"/>
                    </a:lnTo>
                    <a:lnTo>
                      <a:pt x="180" y="14"/>
                    </a:lnTo>
                    <a:lnTo>
                      <a:pt x="184" y="16"/>
                    </a:lnTo>
                    <a:lnTo>
                      <a:pt x="188" y="19"/>
                    </a:lnTo>
                    <a:lnTo>
                      <a:pt x="191" y="24"/>
                    </a:lnTo>
                    <a:lnTo>
                      <a:pt x="191" y="30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3"/>
                    </a:lnTo>
                    <a:lnTo>
                      <a:pt x="185" y="29"/>
                    </a:lnTo>
                    <a:lnTo>
                      <a:pt x="185" y="24"/>
                    </a:lnTo>
                    <a:lnTo>
                      <a:pt x="182" y="20"/>
                    </a:lnTo>
                    <a:lnTo>
                      <a:pt x="176" y="18"/>
                    </a:lnTo>
                    <a:lnTo>
                      <a:pt x="92" y="18"/>
                    </a:lnTo>
                    <a:lnTo>
                      <a:pt x="88" y="22"/>
                    </a:lnTo>
                    <a:lnTo>
                      <a:pt x="86" y="28"/>
                    </a:lnTo>
                    <a:lnTo>
                      <a:pt x="85" y="32"/>
                    </a:lnTo>
                    <a:lnTo>
                      <a:pt x="85" y="36"/>
                    </a:lnTo>
                    <a:lnTo>
                      <a:pt x="86" y="38"/>
                    </a:lnTo>
                    <a:lnTo>
                      <a:pt x="89" y="40"/>
                    </a:lnTo>
                    <a:lnTo>
                      <a:pt x="176" y="40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40"/>
                    </a:lnTo>
                    <a:lnTo>
                      <a:pt x="475" y="40"/>
                    </a:lnTo>
                    <a:lnTo>
                      <a:pt x="473" y="28"/>
                    </a:lnTo>
                    <a:lnTo>
                      <a:pt x="470" y="28"/>
                    </a:lnTo>
                    <a:lnTo>
                      <a:pt x="470" y="15"/>
                    </a:lnTo>
                    <a:lnTo>
                      <a:pt x="461" y="15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6" y="3"/>
                    </a:lnTo>
                    <a:lnTo>
                      <a:pt x="470" y="0"/>
                    </a:lnTo>
                    <a:lnTo>
                      <a:pt x="475" y="3"/>
                    </a:lnTo>
                    <a:lnTo>
                      <a:pt x="479" y="6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4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3"/>
                    </a:lnTo>
                    <a:lnTo>
                      <a:pt x="608" y="63"/>
                    </a:lnTo>
                    <a:lnTo>
                      <a:pt x="602" y="60"/>
                    </a:lnTo>
                    <a:lnTo>
                      <a:pt x="481" y="60"/>
                    </a:lnTo>
                    <a:lnTo>
                      <a:pt x="481" y="65"/>
                    </a:lnTo>
                    <a:lnTo>
                      <a:pt x="470" y="65"/>
                    </a:lnTo>
                    <a:lnTo>
                      <a:pt x="470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3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3816360" y="2397240"/>
                <a:ext cx="249120" cy="291960"/>
              </a:xfrm>
              <a:custGeom>
                <a:avLst/>
                <a:gdLst/>
                <a:ahLst/>
                <a:rect l="l" t="t" r="r" b="b"/>
                <a:pathLst>
                  <a:path w="787" h="919">
                    <a:moveTo>
                      <a:pt x="416" y="452"/>
                    </a:moveTo>
                    <a:lnTo>
                      <a:pt x="431" y="440"/>
                    </a:lnTo>
                    <a:lnTo>
                      <a:pt x="444" y="432"/>
                    </a:lnTo>
                    <a:lnTo>
                      <a:pt x="457" y="425"/>
                    </a:lnTo>
                    <a:lnTo>
                      <a:pt x="471" y="419"/>
                    </a:lnTo>
                    <a:lnTo>
                      <a:pt x="445" y="402"/>
                    </a:lnTo>
                    <a:lnTo>
                      <a:pt x="433" y="393"/>
                    </a:lnTo>
                    <a:lnTo>
                      <a:pt x="420" y="384"/>
                    </a:lnTo>
                    <a:lnTo>
                      <a:pt x="420" y="401"/>
                    </a:lnTo>
                    <a:lnTo>
                      <a:pt x="418" y="416"/>
                    </a:lnTo>
                    <a:lnTo>
                      <a:pt x="416" y="452"/>
                    </a:lnTo>
                    <a:close/>
                    <a:moveTo>
                      <a:pt x="567" y="446"/>
                    </a:moveTo>
                    <a:lnTo>
                      <a:pt x="569" y="482"/>
                    </a:lnTo>
                    <a:lnTo>
                      <a:pt x="569" y="524"/>
                    </a:lnTo>
                    <a:lnTo>
                      <a:pt x="565" y="574"/>
                    </a:lnTo>
                    <a:lnTo>
                      <a:pt x="556" y="620"/>
                    </a:lnTo>
                    <a:lnTo>
                      <a:pt x="546" y="667"/>
                    </a:lnTo>
                    <a:lnTo>
                      <a:pt x="536" y="699"/>
                    </a:lnTo>
                    <a:lnTo>
                      <a:pt x="527" y="706"/>
                    </a:lnTo>
                    <a:lnTo>
                      <a:pt x="518" y="712"/>
                    </a:lnTo>
                    <a:lnTo>
                      <a:pt x="511" y="746"/>
                    </a:lnTo>
                    <a:lnTo>
                      <a:pt x="511" y="752"/>
                    </a:lnTo>
                    <a:lnTo>
                      <a:pt x="514" y="759"/>
                    </a:lnTo>
                    <a:lnTo>
                      <a:pt x="514" y="764"/>
                    </a:lnTo>
                    <a:lnTo>
                      <a:pt x="510" y="772"/>
                    </a:lnTo>
                    <a:lnTo>
                      <a:pt x="517" y="777"/>
                    </a:lnTo>
                    <a:lnTo>
                      <a:pt x="522" y="784"/>
                    </a:lnTo>
                    <a:lnTo>
                      <a:pt x="525" y="793"/>
                    </a:lnTo>
                    <a:lnTo>
                      <a:pt x="533" y="795"/>
                    </a:lnTo>
                    <a:lnTo>
                      <a:pt x="536" y="799"/>
                    </a:lnTo>
                    <a:lnTo>
                      <a:pt x="540" y="805"/>
                    </a:lnTo>
                    <a:lnTo>
                      <a:pt x="544" y="811"/>
                    </a:lnTo>
                    <a:lnTo>
                      <a:pt x="547" y="817"/>
                    </a:lnTo>
                    <a:lnTo>
                      <a:pt x="567" y="828"/>
                    </a:lnTo>
                    <a:lnTo>
                      <a:pt x="580" y="833"/>
                    </a:lnTo>
                    <a:lnTo>
                      <a:pt x="587" y="839"/>
                    </a:lnTo>
                    <a:lnTo>
                      <a:pt x="589" y="845"/>
                    </a:lnTo>
                    <a:lnTo>
                      <a:pt x="589" y="855"/>
                    </a:lnTo>
                    <a:lnTo>
                      <a:pt x="578" y="858"/>
                    </a:lnTo>
                    <a:lnTo>
                      <a:pt x="564" y="860"/>
                    </a:lnTo>
                    <a:lnTo>
                      <a:pt x="540" y="859"/>
                    </a:lnTo>
                    <a:lnTo>
                      <a:pt x="521" y="855"/>
                    </a:lnTo>
                    <a:lnTo>
                      <a:pt x="498" y="848"/>
                    </a:lnTo>
                    <a:lnTo>
                      <a:pt x="481" y="840"/>
                    </a:lnTo>
                    <a:lnTo>
                      <a:pt x="468" y="831"/>
                    </a:lnTo>
                    <a:lnTo>
                      <a:pt x="455" y="830"/>
                    </a:lnTo>
                    <a:lnTo>
                      <a:pt x="444" y="829"/>
                    </a:lnTo>
                    <a:lnTo>
                      <a:pt x="433" y="826"/>
                    </a:lnTo>
                    <a:lnTo>
                      <a:pt x="424" y="821"/>
                    </a:lnTo>
                    <a:lnTo>
                      <a:pt x="422" y="809"/>
                    </a:lnTo>
                    <a:lnTo>
                      <a:pt x="423" y="800"/>
                    </a:lnTo>
                    <a:lnTo>
                      <a:pt x="424" y="791"/>
                    </a:lnTo>
                    <a:lnTo>
                      <a:pt x="426" y="782"/>
                    </a:lnTo>
                    <a:lnTo>
                      <a:pt x="429" y="774"/>
                    </a:lnTo>
                    <a:lnTo>
                      <a:pt x="433" y="765"/>
                    </a:lnTo>
                    <a:lnTo>
                      <a:pt x="438" y="759"/>
                    </a:lnTo>
                    <a:lnTo>
                      <a:pt x="438" y="750"/>
                    </a:lnTo>
                    <a:lnTo>
                      <a:pt x="438" y="741"/>
                    </a:lnTo>
                    <a:lnTo>
                      <a:pt x="440" y="735"/>
                    </a:lnTo>
                    <a:lnTo>
                      <a:pt x="444" y="729"/>
                    </a:lnTo>
                    <a:lnTo>
                      <a:pt x="444" y="700"/>
                    </a:lnTo>
                    <a:lnTo>
                      <a:pt x="433" y="696"/>
                    </a:lnTo>
                    <a:lnTo>
                      <a:pt x="435" y="688"/>
                    </a:lnTo>
                    <a:lnTo>
                      <a:pt x="437" y="682"/>
                    </a:lnTo>
                    <a:lnTo>
                      <a:pt x="437" y="672"/>
                    </a:lnTo>
                    <a:lnTo>
                      <a:pt x="435" y="661"/>
                    </a:lnTo>
                    <a:lnTo>
                      <a:pt x="437" y="645"/>
                    </a:lnTo>
                    <a:lnTo>
                      <a:pt x="440" y="624"/>
                    </a:lnTo>
                    <a:lnTo>
                      <a:pt x="446" y="602"/>
                    </a:lnTo>
                    <a:lnTo>
                      <a:pt x="455" y="579"/>
                    </a:lnTo>
                    <a:lnTo>
                      <a:pt x="440" y="597"/>
                    </a:lnTo>
                    <a:lnTo>
                      <a:pt x="425" y="613"/>
                    </a:lnTo>
                    <a:lnTo>
                      <a:pt x="412" y="627"/>
                    </a:lnTo>
                    <a:lnTo>
                      <a:pt x="396" y="641"/>
                    </a:lnTo>
                    <a:lnTo>
                      <a:pt x="383" y="652"/>
                    </a:lnTo>
                    <a:lnTo>
                      <a:pt x="367" y="665"/>
                    </a:lnTo>
                    <a:lnTo>
                      <a:pt x="350" y="677"/>
                    </a:lnTo>
                    <a:lnTo>
                      <a:pt x="331" y="687"/>
                    </a:lnTo>
                    <a:lnTo>
                      <a:pt x="314" y="698"/>
                    </a:lnTo>
                    <a:lnTo>
                      <a:pt x="296" y="705"/>
                    </a:lnTo>
                    <a:lnTo>
                      <a:pt x="280" y="711"/>
                    </a:lnTo>
                    <a:lnTo>
                      <a:pt x="264" y="717"/>
                    </a:lnTo>
                    <a:lnTo>
                      <a:pt x="250" y="773"/>
                    </a:lnTo>
                    <a:lnTo>
                      <a:pt x="249" y="788"/>
                    </a:lnTo>
                    <a:lnTo>
                      <a:pt x="247" y="805"/>
                    </a:lnTo>
                    <a:lnTo>
                      <a:pt x="245" y="818"/>
                    </a:lnTo>
                    <a:lnTo>
                      <a:pt x="240" y="831"/>
                    </a:lnTo>
                    <a:lnTo>
                      <a:pt x="236" y="845"/>
                    </a:lnTo>
                    <a:lnTo>
                      <a:pt x="228" y="859"/>
                    </a:lnTo>
                    <a:lnTo>
                      <a:pt x="221" y="870"/>
                    </a:lnTo>
                    <a:lnTo>
                      <a:pt x="213" y="879"/>
                    </a:lnTo>
                    <a:lnTo>
                      <a:pt x="210" y="888"/>
                    </a:lnTo>
                    <a:lnTo>
                      <a:pt x="205" y="898"/>
                    </a:lnTo>
                    <a:lnTo>
                      <a:pt x="195" y="907"/>
                    </a:lnTo>
                    <a:lnTo>
                      <a:pt x="181" y="914"/>
                    </a:lnTo>
                    <a:lnTo>
                      <a:pt x="160" y="919"/>
                    </a:lnTo>
                    <a:lnTo>
                      <a:pt x="142" y="919"/>
                    </a:lnTo>
                    <a:lnTo>
                      <a:pt x="124" y="915"/>
                    </a:lnTo>
                    <a:lnTo>
                      <a:pt x="111" y="910"/>
                    </a:lnTo>
                    <a:lnTo>
                      <a:pt x="100" y="902"/>
                    </a:lnTo>
                    <a:lnTo>
                      <a:pt x="93" y="895"/>
                    </a:lnTo>
                    <a:lnTo>
                      <a:pt x="85" y="893"/>
                    </a:lnTo>
                    <a:lnTo>
                      <a:pt x="75" y="876"/>
                    </a:lnTo>
                    <a:lnTo>
                      <a:pt x="69" y="859"/>
                    </a:lnTo>
                    <a:lnTo>
                      <a:pt x="64" y="843"/>
                    </a:lnTo>
                    <a:lnTo>
                      <a:pt x="61" y="823"/>
                    </a:lnTo>
                    <a:lnTo>
                      <a:pt x="61" y="806"/>
                    </a:lnTo>
                    <a:lnTo>
                      <a:pt x="58" y="775"/>
                    </a:lnTo>
                    <a:lnTo>
                      <a:pt x="68" y="756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9"/>
                    </a:lnTo>
                    <a:lnTo>
                      <a:pt x="54" y="684"/>
                    </a:lnTo>
                    <a:lnTo>
                      <a:pt x="63" y="670"/>
                    </a:lnTo>
                    <a:lnTo>
                      <a:pt x="74" y="641"/>
                    </a:lnTo>
                    <a:lnTo>
                      <a:pt x="65" y="642"/>
                    </a:lnTo>
                    <a:lnTo>
                      <a:pt x="58" y="640"/>
                    </a:lnTo>
                    <a:lnTo>
                      <a:pt x="54" y="637"/>
                    </a:lnTo>
                    <a:lnTo>
                      <a:pt x="50" y="631"/>
                    </a:lnTo>
                    <a:lnTo>
                      <a:pt x="48" y="627"/>
                    </a:lnTo>
                    <a:lnTo>
                      <a:pt x="43" y="628"/>
                    </a:lnTo>
                    <a:lnTo>
                      <a:pt x="35" y="627"/>
                    </a:lnTo>
                    <a:lnTo>
                      <a:pt x="30" y="622"/>
                    </a:lnTo>
                    <a:lnTo>
                      <a:pt x="23" y="618"/>
                    </a:lnTo>
                    <a:lnTo>
                      <a:pt x="19" y="610"/>
                    </a:lnTo>
                    <a:lnTo>
                      <a:pt x="15" y="602"/>
                    </a:lnTo>
                    <a:lnTo>
                      <a:pt x="11" y="593"/>
                    </a:lnTo>
                    <a:lnTo>
                      <a:pt x="7" y="591"/>
                    </a:lnTo>
                    <a:lnTo>
                      <a:pt x="1" y="544"/>
                    </a:lnTo>
                    <a:lnTo>
                      <a:pt x="6" y="543"/>
                    </a:lnTo>
                    <a:lnTo>
                      <a:pt x="6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5" y="499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1" y="480"/>
                    </a:lnTo>
                    <a:lnTo>
                      <a:pt x="13" y="476"/>
                    </a:lnTo>
                    <a:lnTo>
                      <a:pt x="16" y="470"/>
                    </a:lnTo>
                    <a:lnTo>
                      <a:pt x="29" y="467"/>
                    </a:lnTo>
                    <a:lnTo>
                      <a:pt x="23" y="457"/>
                    </a:lnTo>
                    <a:lnTo>
                      <a:pt x="28" y="442"/>
                    </a:lnTo>
                    <a:lnTo>
                      <a:pt x="29" y="438"/>
                    </a:lnTo>
                    <a:lnTo>
                      <a:pt x="30" y="436"/>
                    </a:lnTo>
                    <a:lnTo>
                      <a:pt x="33" y="436"/>
                    </a:lnTo>
                    <a:lnTo>
                      <a:pt x="33" y="431"/>
                    </a:lnTo>
                    <a:lnTo>
                      <a:pt x="54" y="431"/>
                    </a:lnTo>
                    <a:lnTo>
                      <a:pt x="54" y="436"/>
                    </a:lnTo>
                    <a:lnTo>
                      <a:pt x="56" y="436"/>
                    </a:lnTo>
                    <a:lnTo>
                      <a:pt x="58" y="438"/>
                    </a:lnTo>
                    <a:lnTo>
                      <a:pt x="60" y="443"/>
                    </a:lnTo>
                    <a:lnTo>
                      <a:pt x="61" y="451"/>
                    </a:lnTo>
                    <a:lnTo>
                      <a:pt x="61" y="457"/>
                    </a:lnTo>
                    <a:lnTo>
                      <a:pt x="60" y="461"/>
                    </a:lnTo>
                    <a:lnTo>
                      <a:pt x="57" y="465"/>
                    </a:lnTo>
                    <a:lnTo>
                      <a:pt x="61" y="467"/>
                    </a:lnTo>
                    <a:lnTo>
                      <a:pt x="65" y="467"/>
                    </a:lnTo>
                    <a:lnTo>
                      <a:pt x="69" y="465"/>
                    </a:lnTo>
                    <a:lnTo>
                      <a:pt x="72" y="460"/>
                    </a:lnTo>
                    <a:lnTo>
                      <a:pt x="70" y="456"/>
                    </a:lnTo>
                    <a:lnTo>
                      <a:pt x="61" y="457"/>
                    </a:lnTo>
                    <a:lnTo>
                      <a:pt x="61" y="451"/>
                    </a:lnTo>
                    <a:lnTo>
                      <a:pt x="73" y="449"/>
                    </a:lnTo>
                    <a:lnTo>
                      <a:pt x="76" y="451"/>
                    </a:lnTo>
                    <a:lnTo>
                      <a:pt x="79" y="452"/>
                    </a:lnTo>
                    <a:lnTo>
                      <a:pt x="83" y="454"/>
                    </a:lnTo>
                    <a:lnTo>
                      <a:pt x="81" y="440"/>
                    </a:lnTo>
                    <a:lnTo>
                      <a:pt x="77" y="425"/>
                    </a:lnTo>
                    <a:lnTo>
                      <a:pt x="99" y="334"/>
                    </a:lnTo>
                    <a:lnTo>
                      <a:pt x="104" y="318"/>
                    </a:lnTo>
                    <a:lnTo>
                      <a:pt x="109" y="307"/>
                    </a:lnTo>
                    <a:lnTo>
                      <a:pt x="116" y="298"/>
                    </a:lnTo>
                    <a:lnTo>
                      <a:pt x="110" y="277"/>
                    </a:lnTo>
                    <a:lnTo>
                      <a:pt x="107" y="262"/>
                    </a:lnTo>
                    <a:lnTo>
                      <a:pt x="109" y="249"/>
                    </a:lnTo>
                    <a:lnTo>
                      <a:pt x="113" y="233"/>
                    </a:lnTo>
                    <a:lnTo>
                      <a:pt x="124" y="214"/>
                    </a:lnTo>
                    <a:lnTo>
                      <a:pt x="134" y="198"/>
                    </a:lnTo>
                    <a:lnTo>
                      <a:pt x="151" y="184"/>
                    </a:lnTo>
                    <a:lnTo>
                      <a:pt x="166" y="174"/>
                    </a:lnTo>
                    <a:lnTo>
                      <a:pt x="175" y="164"/>
                    </a:lnTo>
                    <a:lnTo>
                      <a:pt x="185" y="159"/>
                    </a:lnTo>
                    <a:lnTo>
                      <a:pt x="195" y="157"/>
                    </a:lnTo>
                    <a:lnTo>
                      <a:pt x="205" y="157"/>
                    </a:lnTo>
                    <a:lnTo>
                      <a:pt x="215" y="159"/>
                    </a:lnTo>
                    <a:lnTo>
                      <a:pt x="239" y="154"/>
                    </a:lnTo>
                    <a:lnTo>
                      <a:pt x="241" y="146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5"/>
                    </a:lnTo>
                    <a:lnTo>
                      <a:pt x="237" y="98"/>
                    </a:lnTo>
                    <a:lnTo>
                      <a:pt x="237" y="82"/>
                    </a:lnTo>
                    <a:lnTo>
                      <a:pt x="240" y="65"/>
                    </a:lnTo>
                    <a:lnTo>
                      <a:pt x="247" y="48"/>
                    </a:lnTo>
                    <a:lnTo>
                      <a:pt x="255" y="35"/>
                    </a:lnTo>
                    <a:lnTo>
                      <a:pt x="264" y="26"/>
                    </a:lnTo>
                    <a:lnTo>
                      <a:pt x="287" y="14"/>
                    </a:lnTo>
                    <a:lnTo>
                      <a:pt x="304" y="8"/>
                    </a:lnTo>
                    <a:lnTo>
                      <a:pt x="320" y="3"/>
                    </a:lnTo>
                    <a:lnTo>
                      <a:pt x="338" y="0"/>
                    </a:lnTo>
                    <a:lnTo>
                      <a:pt x="351" y="0"/>
                    </a:lnTo>
                    <a:lnTo>
                      <a:pt x="367" y="3"/>
                    </a:lnTo>
                    <a:lnTo>
                      <a:pt x="377" y="7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2"/>
                    </a:lnTo>
                    <a:lnTo>
                      <a:pt x="416" y="57"/>
                    </a:lnTo>
                    <a:lnTo>
                      <a:pt x="429" y="85"/>
                    </a:lnTo>
                    <a:lnTo>
                      <a:pt x="436" y="93"/>
                    </a:lnTo>
                    <a:lnTo>
                      <a:pt x="438" y="98"/>
                    </a:lnTo>
                    <a:lnTo>
                      <a:pt x="437" y="104"/>
                    </a:lnTo>
                    <a:lnTo>
                      <a:pt x="430" y="108"/>
                    </a:lnTo>
                    <a:lnTo>
                      <a:pt x="413" y="115"/>
                    </a:lnTo>
                    <a:lnTo>
                      <a:pt x="415" y="130"/>
                    </a:lnTo>
                    <a:lnTo>
                      <a:pt x="416" y="145"/>
                    </a:lnTo>
                    <a:lnTo>
                      <a:pt x="416" y="156"/>
                    </a:lnTo>
                    <a:lnTo>
                      <a:pt x="425" y="157"/>
                    </a:lnTo>
                    <a:lnTo>
                      <a:pt x="436" y="177"/>
                    </a:lnTo>
                    <a:lnTo>
                      <a:pt x="517" y="263"/>
                    </a:lnTo>
                    <a:lnTo>
                      <a:pt x="521" y="269"/>
                    </a:lnTo>
                    <a:lnTo>
                      <a:pt x="522" y="275"/>
                    </a:lnTo>
                    <a:lnTo>
                      <a:pt x="521" y="281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2"/>
                    </a:lnTo>
                    <a:lnTo>
                      <a:pt x="511" y="298"/>
                    </a:lnTo>
                    <a:lnTo>
                      <a:pt x="507" y="302"/>
                    </a:lnTo>
                    <a:lnTo>
                      <a:pt x="511" y="305"/>
                    </a:lnTo>
                    <a:lnTo>
                      <a:pt x="513" y="310"/>
                    </a:lnTo>
                    <a:lnTo>
                      <a:pt x="518" y="317"/>
                    </a:lnTo>
                    <a:lnTo>
                      <a:pt x="527" y="323"/>
                    </a:lnTo>
                    <a:lnTo>
                      <a:pt x="535" y="327"/>
                    </a:lnTo>
                    <a:lnTo>
                      <a:pt x="542" y="334"/>
                    </a:lnTo>
                    <a:lnTo>
                      <a:pt x="549" y="338"/>
                    </a:lnTo>
                    <a:lnTo>
                      <a:pt x="568" y="333"/>
                    </a:lnTo>
                    <a:lnTo>
                      <a:pt x="579" y="331"/>
                    </a:lnTo>
                    <a:lnTo>
                      <a:pt x="590" y="327"/>
                    </a:lnTo>
                    <a:lnTo>
                      <a:pt x="597" y="325"/>
                    </a:lnTo>
                    <a:lnTo>
                      <a:pt x="627" y="305"/>
                    </a:lnTo>
                    <a:lnTo>
                      <a:pt x="665" y="263"/>
                    </a:lnTo>
                    <a:lnTo>
                      <a:pt x="670" y="264"/>
                    </a:lnTo>
                    <a:lnTo>
                      <a:pt x="691" y="240"/>
                    </a:lnTo>
                    <a:lnTo>
                      <a:pt x="692" y="235"/>
                    </a:lnTo>
                    <a:lnTo>
                      <a:pt x="697" y="228"/>
                    </a:lnTo>
                    <a:lnTo>
                      <a:pt x="702" y="221"/>
                    </a:lnTo>
                    <a:lnTo>
                      <a:pt x="787" y="218"/>
                    </a:lnTo>
                    <a:lnTo>
                      <a:pt x="731" y="251"/>
                    </a:lnTo>
                    <a:lnTo>
                      <a:pt x="721" y="263"/>
                    </a:lnTo>
                    <a:lnTo>
                      <a:pt x="703" y="291"/>
                    </a:lnTo>
                    <a:lnTo>
                      <a:pt x="706" y="298"/>
                    </a:lnTo>
                    <a:lnTo>
                      <a:pt x="663" y="371"/>
                    </a:lnTo>
                    <a:lnTo>
                      <a:pt x="649" y="410"/>
                    </a:lnTo>
                    <a:lnTo>
                      <a:pt x="633" y="423"/>
                    </a:lnTo>
                    <a:lnTo>
                      <a:pt x="616" y="433"/>
                    </a:lnTo>
                    <a:lnTo>
                      <a:pt x="594" y="443"/>
                    </a:lnTo>
                    <a:lnTo>
                      <a:pt x="580" y="445"/>
                    </a:lnTo>
                    <a:lnTo>
                      <a:pt x="567" y="446"/>
                    </a:lnTo>
                    <a:close/>
                    <a:moveTo>
                      <a:pt x="82" y="467"/>
                    </a:moveTo>
                    <a:lnTo>
                      <a:pt x="76" y="472"/>
                    </a:lnTo>
                    <a:lnTo>
                      <a:pt x="78" y="477"/>
                    </a:lnTo>
                    <a:lnTo>
                      <a:pt x="81" y="481"/>
                    </a:lnTo>
                    <a:lnTo>
                      <a:pt x="82" y="477"/>
                    </a:lnTo>
                    <a:lnTo>
                      <a:pt x="84" y="471"/>
                    </a:lnTo>
                    <a:lnTo>
                      <a:pt x="82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3816360" y="2397240"/>
                <a:ext cx="249120" cy="291960"/>
              </a:xfrm>
              <a:custGeom>
                <a:avLst/>
                <a:gdLst/>
                <a:ahLst/>
                <a:rect l="l" t="t" r="r" b="b"/>
                <a:pathLst>
                  <a:path w="787" h="919">
                    <a:moveTo>
                      <a:pt x="567" y="446"/>
                    </a:moveTo>
                    <a:lnTo>
                      <a:pt x="569" y="482"/>
                    </a:lnTo>
                    <a:lnTo>
                      <a:pt x="569" y="524"/>
                    </a:lnTo>
                    <a:lnTo>
                      <a:pt x="565" y="574"/>
                    </a:lnTo>
                    <a:lnTo>
                      <a:pt x="556" y="620"/>
                    </a:lnTo>
                    <a:lnTo>
                      <a:pt x="546" y="667"/>
                    </a:lnTo>
                    <a:lnTo>
                      <a:pt x="536" y="699"/>
                    </a:lnTo>
                    <a:lnTo>
                      <a:pt x="527" y="706"/>
                    </a:lnTo>
                    <a:lnTo>
                      <a:pt x="518" y="712"/>
                    </a:lnTo>
                    <a:lnTo>
                      <a:pt x="511" y="746"/>
                    </a:lnTo>
                    <a:lnTo>
                      <a:pt x="511" y="752"/>
                    </a:lnTo>
                    <a:lnTo>
                      <a:pt x="514" y="759"/>
                    </a:lnTo>
                    <a:lnTo>
                      <a:pt x="514" y="764"/>
                    </a:lnTo>
                    <a:lnTo>
                      <a:pt x="510" y="772"/>
                    </a:lnTo>
                    <a:lnTo>
                      <a:pt x="517" y="777"/>
                    </a:lnTo>
                    <a:lnTo>
                      <a:pt x="522" y="784"/>
                    </a:lnTo>
                    <a:lnTo>
                      <a:pt x="525" y="793"/>
                    </a:lnTo>
                    <a:lnTo>
                      <a:pt x="533" y="795"/>
                    </a:lnTo>
                    <a:lnTo>
                      <a:pt x="536" y="799"/>
                    </a:lnTo>
                    <a:lnTo>
                      <a:pt x="540" y="805"/>
                    </a:lnTo>
                    <a:lnTo>
                      <a:pt x="544" y="811"/>
                    </a:lnTo>
                    <a:lnTo>
                      <a:pt x="547" y="817"/>
                    </a:lnTo>
                    <a:lnTo>
                      <a:pt x="567" y="828"/>
                    </a:lnTo>
                    <a:lnTo>
                      <a:pt x="580" y="833"/>
                    </a:lnTo>
                    <a:lnTo>
                      <a:pt x="587" y="839"/>
                    </a:lnTo>
                    <a:lnTo>
                      <a:pt x="589" y="845"/>
                    </a:lnTo>
                    <a:lnTo>
                      <a:pt x="589" y="855"/>
                    </a:lnTo>
                    <a:lnTo>
                      <a:pt x="578" y="858"/>
                    </a:lnTo>
                    <a:lnTo>
                      <a:pt x="564" y="860"/>
                    </a:lnTo>
                    <a:lnTo>
                      <a:pt x="540" y="859"/>
                    </a:lnTo>
                    <a:lnTo>
                      <a:pt x="521" y="855"/>
                    </a:lnTo>
                    <a:lnTo>
                      <a:pt x="498" y="848"/>
                    </a:lnTo>
                    <a:lnTo>
                      <a:pt x="481" y="840"/>
                    </a:lnTo>
                    <a:lnTo>
                      <a:pt x="468" y="831"/>
                    </a:lnTo>
                    <a:lnTo>
                      <a:pt x="455" y="830"/>
                    </a:lnTo>
                    <a:lnTo>
                      <a:pt x="444" y="829"/>
                    </a:lnTo>
                    <a:lnTo>
                      <a:pt x="433" y="826"/>
                    </a:lnTo>
                    <a:lnTo>
                      <a:pt x="424" y="821"/>
                    </a:lnTo>
                    <a:lnTo>
                      <a:pt x="422" y="809"/>
                    </a:lnTo>
                    <a:lnTo>
                      <a:pt x="423" y="800"/>
                    </a:lnTo>
                    <a:lnTo>
                      <a:pt x="424" y="791"/>
                    </a:lnTo>
                    <a:lnTo>
                      <a:pt x="426" y="782"/>
                    </a:lnTo>
                    <a:lnTo>
                      <a:pt x="429" y="774"/>
                    </a:lnTo>
                    <a:lnTo>
                      <a:pt x="433" y="765"/>
                    </a:lnTo>
                    <a:lnTo>
                      <a:pt x="438" y="759"/>
                    </a:lnTo>
                    <a:lnTo>
                      <a:pt x="438" y="750"/>
                    </a:lnTo>
                    <a:lnTo>
                      <a:pt x="438" y="741"/>
                    </a:lnTo>
                    <a:lnTo>
                      <a:pt x="440" y="735"/>
                    </a:lnTo>
                    <a:lnTo>
                      <a:pt x="444" y="729"/>
                    </a:lnTo>
                    <a:lnTo>
                      <a:pt x="444" y="700"/>
                    </a:lnTo>
                    <a:lnTo>
                      <a:pt x="433" y="696"/>
                    </a:lnTo>
                    <a:lnTo>
                      <a:pt x="435" y="688"/>
                    </a:lnTo>
                    <a:lnTo>
                      <a:pt x="437" y="682"/>
                    </a:lnTo>
                    <a:lnTo>
                      <a:pt x="437" y="672"/>
                    </a:lnTo>
                    <a:lnTo>
                      <a:pt x="435" y="661"/>
                    </a:lnTo>
                    <a:lnTo>
                      <a:pt x="437" y="645"/>
                    </a:lnTo>
                    <a:lnTo>
                      <a:pt x="440" y="624"/>
                    </a:lnTo>
                    <a:lnTo>
                      <a:pt x="446" y="602"/>
                    </a:lnTo>
                    <a:lnTo>
                      <a:pt x="455" y="579"/>
                    </a:lnTo>
                    <a:lnTo>
                      <a:pt x="440" y="597"/>
                    </a:lnTo>
                    <a:lnTo>
                      <a:pt x="425" y="613"/>
                    </a:lnTo>
                    <a:lnTo>
                      <a:pt x="412" y="627"/>
                    </a:lnTo>
                    <a:lnTo>
                      <a:pt x="396" y="641"/>
                    </a:lnTo>
                    <a:lnTo>
                      <a:pt x="383" y="652"/>
                    </a:lnTo>
                    <a:lnTo>
                      <a:pt x="367" y="665"/>
                    </a:lnTo>
                    <a:lnTo>
                      <a:pt x="350" y="677"/>
                    </a:lnTo>
                    <a:lnTo>
                      <a:pt x="331" y="687"/>
                    </a:lnTo>
                    <a:lnTo>
                      <a:pt x="314" y="698"/>
                    </a:lnTo>
                    <a:lnTo>
                      <a:pt x="296" y="705"/>
                    </a:lnTo>
                    <a:lnTo>
                      <a:pt x="280" y="711"/>
                    </a:lnTo>
                    <a:lnTo>
                      <a:pt x="264" y="717"/>
                    </a:lnTo>
                    <a:lnTo>
                      <a:pt x="250" y="773"/>
                    </a:lnTo>
                    <a:lnTo>
                      <a:pt x="249" y="788"/>
                    </a:lnTo>
                    <a:lnTo>
                      <a:pt x="247" y="805"/>
                    </a:lnTo>
                    <a:lnTo>
                      <a:pt x="245" y="818"/>
                    </a:lnTo>
                    <a:lnTo>
                      <a:pt x="240" y="831"/>
                    </a:lnTo>
                    <a:lnTo>
                      <a:pt x="236" y="845"/>
                    </a:lnTo>
                    <a:lnTo>
                      <a:pt x="228" y="859"/>
                    </a:lnTo>
                    <a:lnTo>
                      <a:pt x="221" y="870"/>
                    </a:lnTo>
                    <a:lnTo>
                      <a:pt x="213" y="879"/>
                    </a:lnTo>
                    <a:lnTo>
                      <a:pt x="210" y="888"/>
                    </a:lnTo>
                    <a:lnTo>
                      <a:pt x="205" y="898"/>
                    </a:lnTo>
                    <a:lnTo>
                      <a:pt x="195" y="907"/>
                    </a:lnTo>
                    <a:lnTo>
                      <a:pt x="181" y="914"/>
                    </a:lnTo>
                    <a:lnTo>
                      <a:pt x="160" y="919"/>
                    </a:lnTo>
                    <a:lnTo>
                      <a:pt x="142" y="919"/>
                    </a:lnTo>
                    <a:lnTo>
                      <a:pt x="124" y="915"/>
                    </a:lnTo>
                    <a:lnTo>
                      <a:pt x="111" y="910"/>
                    </a:lnTo>
                    <a:lnTo>
                      <a:pt x="100" y="902"/>
                    </a:lnTo>
                    <a:lnTo>
                      <a:pt x="93" y="895"/>
                    </a:lnTo>
                    <a:lnTo>
                      <a:pt x="85" y="893"/>
                    </a:lnTo>
                    <a:lnTo>
                      <a:pt x="75" y="876"/>
                    </a:lnTo>
                    <a:lnTo>
                      <a:pt x="69" y="859"/>
                    </a:lnTo>
                    <a:lnTo>
                      <a:pt x="64" y="843"/>
                    </a:lnTo>
                    <a:lnTo>
                      <a:pt x="61" y="823"/>
                    </a:lnTo>
                    <a:lnTo>
                      <a:pt x="61" y="806"/>
                    </a:lnTo>
                    <a:lnTo>
                      <a:pt x="58" y="775"/>
                    </a:lnTo>
                    <a:lnTo>
                      <a:pt x="68" y="756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9"/>
                    </a:lnTo>
                    <a:lnTo>
                      <a:pt x="54" y="684"/>
                    </a:lnTo>
                    <a:lnTo>
                      <a:pt x="63" y="670"/>
                    </a:lnTo>
                    <a:lnTo>
                      <a:pt x="74" y="641"/>
                    </a:lnTo>
                    <a:lnTo>
                      <a:pt x="65" y="642"/>
                    </a:lnTo>
                    <a:lnTo>
                      <a:pt x="58" y="640"/>
                    </a:lnTo>
                    <a:lnTo>
                      <a:pt x="54" y="637"/>
                    </a:lnTo>
                    <a:lnTo>
                      <a:pt x="50" y="631"/>
                    </a:lnTo>
                    <a:lnTo>
                      <a:pt x="48" y="627"/>
                    </a:lnTo>
                    <a:lnTo>
                      <a:pt x="43" y="628"/>
                    </a:lnTo>
                    <a:lnTo>
                      <a:pt x="35" y="627"/>
                    </a:lnTo>
                    <a:lnTo>
                      <a:pt x="30" y="622"/>
                    </a:lnTo>
                    <a:lnTo>
                      <a:pt x="23" y="618"/>
                    </a:lnTo>
                    <a:lnTo>
                      <a:pt x="19" y="610"/>
                    </a:lnTo>
                    <a:lnTo>
                      <a:pt x="15" y="602"/>
                    </a:lnTo>
                    <a:lnTo>
                      <a:pt x="11" y="593"/>
                    </a:lnTo>
                    <a:lnTo>
                      <a:pt x="7" y="591"/>
                    </a:lnTo>
                    <a:lnTo>
                      <a:pt x="1" y="544"/>
                    </a:lnTo>
                    <a:lnTo>
                      <a:pt x="6" y="543"/>
                    </a:lnTo>
                    <a:lnTo>
                      <a:pt x="6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5" y="499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1" y="480"/>
                    </a:lnTo>
                    <a:lnTo>
                      <a:pt x="13" y="476"/>
                    </a:lnTo>
                    <a:lnTo>
                      <a:pt x="16" y="470"/>
                    </a:lnTo>
                    <a:lnTo>
                      <a:pt x="29" y="467"/>
                    </a:lnTo>
                    <a:lnTo>
                      <a:pt x="23" y="457"/>
                    </a:lnTo>
                    <a:lnTo>
                      <a:pt x="28" y="442"/>
                    </a:lnTo>
                    <a:lnTo>
                      <a:pt x="29" y="438"/>
                    </a:lnTo>
                    <a:lnTo>
                      <a:pt x="30" y="436"/>
                    </a:lnTo>
                    <a:lnTo>
                      <a:pt x="33" y="436"/>
                    </a:lnTo>
                    <a:lnTo>
                      <a:pt x="33" y="431"/>
                    </a:lnTo>
                    <a:lnTo>
                      <a:pt x="54" y="431"/>
                    </a:lnTo>
                    <a:lnTo>
                      <a:pt x="54" y="436"/>
                    </a:lnTo>
                    <a:lnTo>
                      <a:pt x="56" y="436"/>
                    </a:lnTo>
                    <a:lnTo>
                      <a:pt x="58" y="438"/>
                    </a:lnTo>
                    <a:lnTo>
                      <a:pt x="60" y="443"/>
                    </a:lnTo>
                    <a:lnTo>
                      <a:pt x="61" y="451"/>
                    </a:lnTo>
                    <a:lnTo>
                      <a:pt x="61" y="457"/>
                    </a:lnTo>
                    <a:lnTo>
                      <a:pt x="60" y="461"/>
                    </a:lnTo>
                    <a:lnTo>
                      <a:pt x="57" y="465"/>
                    </a:lnTo>
                    <a:lnTo>
                      <a:pt x="61" y="467"/>
                    </a:lnTo>
                    <a:lnTo>
                      <a:pt x="65" y="467"/>
                    </a:lnTo>
                    <a:lnTo>
                      <a:pt x="69" y="465"/>
                    </a:lnTo>
                    <a:lnTo>
                      <a:pt x="72" y="460"/>
                    </a:lnTo>
                    <a:lnTo>
                      <a:pt x="70" y="456"/>
                    </a:lnTo>
                    <a:lnTo>
                      <a:pt x="61" y="457"/>
                    </a:lnTo>
                    <a:lnTo>
                      <a:pt x="61" y="451"/>
                    </a:lnTo>
                    <a:lnTo>
                      <a:pt x="73" y="449"/>
                    </a:lnTo>
                    <a:lnTo>
                      <a:pt x="76" y="451"/>
                    </a:lnTo>
                    <a:lnTo>
                      <a:pt x="79" y="452"/>
                    </a:lnTo>
                    <a:lnTo>
                      <a:pt x="83" y="454"/>
                    </a:lnTo>
                    <a:lnTo>
                      <a:pt x="81" y="440"/>
                    </a:lnTo>
                    <a:lnTo>
                      <a:pt x="77" y="425"/>
                    </a:lnTo>
                    <a:lnTo>
                      <a:pt x="99" y="334"/>
                    </a:lnTo>
                    <a:lnTo>
                      <a:pt x="104" y="318"/>
                    </a:lnTo>
                    <a:lnTo>
                      <a:pt x="109" y="307"/>
                    </a:lnTo>
                    <a:lnTo>
                      <a:pt x="116" y="298"/>
                    </a:lnTo>
                    <a:lnTo>
                      <a:pt x="110" y="277"/>
                    </a:lnTo>
                    <a:lnTo>
                      <a:pt x="107" y="262"/>
                    </a:lnTo>
                    <a:lnTo>
                      <a:pt x="109" y="249"/>
                    </a:lnTo>
                    <a:lnTo>
                      <a:pt x="113" y="233"/>
                    </a:lnTo>
                    <a:lnTo>
                      <a:pt x="124" y="214"/>
                    </a:lnTo>
                    <a:lnTo>
                      <a:pt x="134" y="198"/>
                    </a:lnTo>
                    <a:lnTo>
                      <a:pt x="151" y="184"/>
                    </a:lnTo>
                    <a:lnTo>
                      <a:pt x="166" y="174"/>
                    </a:lnTo>
                    <a:lnTo>
                      <a:pt x="175" y="164"/>
                    </a:lnTo>
                    <a:lnTo>
                      <a:pt x="185" y="159"/>
                    </a:lnTo>
                    <a:lnTo>
                      <a:pt x="195" y="157"/>
                    </a:lnTo>
                    <a:lnTo>
                      <a:pt x="205" y="157"/>
                    </a:lnTo>
                    <a:lnTo>
                      <a:pt x="215" y="159"/>
                    </a:lnTo>
                    <a:lnTo>
                      <a:pt x="239" y="154"/>
                    </a:lnTo>
                    <a:lnTo>
                      <a:pt x="241" y="146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5"/>
                    </a:lnTo>
                    <a:lnTo>
                      <a:pt x="237" y="98"/>
                    </a:lnTo>
                    <a:lnTo>
                      <a:pt x="237" y="82"/>
                    </a:lnTo>
                    <a:lnTo>
                      <a:pt x="240" y="65"/>
                    </a:lnTo>
                    <a:lnTo>
                      <a:pt x="247" y="48"/>
                    </a:lnTo>
                    <a:lnTo>
                      <a:pt x="255" y="35"/>
                    </a:lnTo>
                    <a:lnTo>
                      <a:pt x="264" y="26"/>
                    </a:lnTo>
                    <a:lnTo>
                      <a:pt x="287" y="14"/>
                    </a:lnTo>
                    <a:lnTo>
                      <a:pt x="304" y="8"/>
                    </a:lnTo>
                    <a:lnTo>
                      <a:pt x="320" y="3"/>
                    </a:lnTo>
                    <a:lnTo>
                      <a:pt x="338" y="0"/>
                    </a:lnTo>
                    <a:lnTo>
                      <a:pt x="351" y="0"/>
                    </a:lnTo>
                    <a:lnTo>
                      <a:pt x="367" y="3"/>
                    </a:lnTo>
                    <a:lnTo>
                      <a:pt x="377" y="7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2"/>
                    </a:lnTo>
                    <a:lnTo>
                      <a:pt x="416" y="57"/>
                    </a:lnTo>
                    <a:lnTo>
                      <a:pt x="429" y="85"/>
                    </a:lnTo>
                    <a:lnTo>
                      <a:pt x="436" y="93"/>
                    </a:lnTo>
                    <a:lnTo>
                      <a:pt x="438" y="98"/>
                    </a:lnTo>
                    <a:lnTo>
                      <a:pt x="437" y="104"/>
                    </a:lnTo>
                    <a:lnTo>
                      <a:pt x="430" y="108"/>
                    </a:lnTo>
                    <a:lnTo>
                      <a:pt x="413" y="115"/>
                    </a:lnTo>
                    <a:lnTo>
                      <a:pt x="415" y="130"/>
                    </a:lnTo>
                    <a:lnTo>
                      <a:pt x="416" y="145"/>
                    </a:lnTo>
                    <a:lnTo>
                      <a:pt x="416" y="156"/>
                    </a:lnTo>
                    <a:lnTo>
                      <a:pt x="425" y="157"/>
                    </a:lnTo>
                    <a:lnTo>
                      <a:pt x="436" y="177"/>
                    </a:lnTo>
                    <a:lnTo>
                      <a:pt x="517" y="263"/>
                    </a:lnTo>
                    <a:lnTo>
                      <a:pt x="521" y="269"/>
                    </a:lnTo>
                    <a:lnTo>
                      <a:pt x="522" y="275"/>
                    </a:lnTo>
                    <a:lnTo>
                      <a:pt x="521" y="281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2"/>
                    </a:lnTo>
                    <a:lnTo>
                      <a:pt x="511" y="298"/>
                    </a:lnTo>
                    <a:lnTo>
                      <a:pt x="507" y="302"/>
                    </a:lnTo>
                    <a:lnTo>
                      <a:pt x="511" y="305"/>
                    </a:lnTo>
                    <a:lnTo>
                      <a:pt x="513" y="310"/>
                    </a:lnTo>
                    <a:lnTo>
                      <a:pt x="518" y="317"/>
                    </a:lnTo>
                    <a:lnTo>
                      <a:pt x="527" y="323"/>
                    </a:lnTo>
                    <a:lnTo>
                      <a:pt x="535" y="327"/>
                    </a:lnTo>
                    <a:lnTo>
                      <a:pt x="542" y="334"/>
                    </a:lnTo>
                    <a:lnTo>
                      <a:pt x="549" y="338"/>
                    </a:lnTo>
                    <a:lnTo>
                      <a:pt x="568" y="333"/>
                    </a:lnTo>
                    <a:lnTo>
                      <a:pt x="579" y="331"/>
                    </a:lnTo>
                    <a:lnTo>
                      <a:pt x="590" y="327"/>
                    </a:lnTo>
                    <a:lnTo>
                      <a:pt x="597" y="325"/>
                    </a:lnTo>
                    <a:lnTo>
                      <a:pt x="627" y="305"/>
                    </a:lnTo>
                    <a:lnTo>
                      <a:pt x="665" y="263"/>
                    </a:lnTo>
                    <a:lnTo>
                      <a:pt x="670" y="264"/>
                    </a:lnTo>
                    <a:lnTo>
                      <a:pt x="691" y="240"/>
                    </a:lnTo>
                    <a:lnTo>
                      <a:pt x="692" y="235"/>
                    </a:lnTo>
                    <a:lnTo>
                      <a:pt x="697" y="228"/>
                    </a:lnTo>
                    <a:lnTo>
                      <a:pt x="702" y="221"/>
                    </a:lnTo>
                    <a:lnTo>
                      <a:pt x="787" y="218"/>
                    </a:lnTo>
                    <a:lnTo>
                      <a:pt x="731" y="251"/>
                    </a:lnTo>
                    <a:lnTo>
                      <a:pt x="721" y="263"/>
                    </a:lnTo>
                    <a:lnTo>
                      <a:pt x="703" y="291"/>
                    </a:lnTo>
                    <a:lnTo>
                      <a:pt x="706" y="298"/>
                    </a:lnTo>
                    <a:lnTo>
                      <a:pt x="663" y="371"/>
                    </a:lnTo>
                    <a:lnTo>
                      <a:pt x="649" y="410"/>
                    </a:lnTo>
                    <a:lnTo>
                      <a:pt x="633" y="423"/>
                    </a:lnTo>
                    <a:lnTo>
                      <a:pt x="616" y="433"/>
                    </a:lnTo>
                    <a:lnTo>
                      <a:pt x="594" y="443"/>
                    </a:lnTo>
                    <a:lnTo>
                      <a:pt x="580" y="445"/>
                    </a:lnTo>
                    <a:lnTo>
                      <a:pt x="567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3954600" y="2436840"/>
                <a:ext cx="196560" cy="55440"/>
              </a:xfrm>
              <a:custGeom>
                <a:avLst/>
                <a:gdLst/>
                <a:ahLst/>
                <a:rect l="l" t="t" r="r" b="b"/>
                <a:pathLst>
                  <a:path w="620" h="177">
                    <a:moveTo>
                      <a:pt x="436" y="86"/>
                    </a:moveTo>
                    <a:lnTo>
                      <a:pt x="426" y="83"/>
                    </a:lnTo>
                    <a:lnTo>
                      <a:pt x="362" y="85"/>
                    </a:lnTo>
                    <a:lnTo>
                      <a:pt x="359" y="88"/>
                    </a:lnTo>
                    <a:lnTo>
                      <a:pt x="428" y="90"/>
                    </a:lnTo>
                    <a:lnTo>
                      <a:pt x="424" y="93"/>
                    </a:lnTo>
                    <a:lnTo>
                      <a:pt x="351" y="93"/>
                    </a:lnTo>
                    <a:lnTo>
                      <a:pt x="266" y="96"/>
                    </a:lnTo>
                    <a:lnTo>
                      <a:pt x="247" y="96"/>
                    </a:lnTo>
                    <a:lnTo>
                      <a:pt x="176" y="124"/>
                    </a:lnTo>
                    <a:lnTo>
                      <a:pt x="176" y="166"/>
                    </a:lnTo>
                    <a:lnTo>
                      <a:pt x="127" y="177"/>
                    </a:lnTo>
                    <a:lnTo>
                      <a:pt x="127" y="138"/>
                    </a:lnTo>
                    <a:lnTo>
                      <a:pt x="123" y="127"/>
                    </a:lnTo>
                    <a:lnTo>
                      <a:pt x="123" y="117"/>
                    </a:lnTo>
                    <a:lnTo>
                      <a:pt x="122" y="113"/>
                    </a:lnTo>
                    <a:lnTo>
                      <a:pt x="119" y="111"/>
                    </a:lnTo>
                    <a:lnTo>
                      <a:pt x="117" y="110"/>
                    </a:lnTo>
                    <a:lnTo>
                      <a:pt x="115" y="110"/>
                    </a:lnTo>
                    <a:lnTo>
                      <a:pt x="97" y="108"/>
                    </a:lnTo>
                    <a:lnTo>
                      <a:pt x="102" y="118"/>
                    </a:lnTo>
                    <a:lnTo>
                      <a:pt x="104" y="123"/>
                    </a:lnTo>
                    <a:lnTo>
                      <a:pt x="104" y="127"/>
                    </a:lnTo>
                    <a:lnTo>
                      <a:pt x="101" y="129"/>
                    </a:lnTo>
                    <a:lnTo>
                      <a:pt x="98" y="131"/>
                    </a:lnTo>
                    <a:lnTo>
                      <a:pt x="118" y="131"/>
                    </a:lnTo>
                    <a:lnTo>
                      <a:pt x="120" y="131"/>
                    </a:lnTo>
                    <a:lnTo>
                      <a:pt x="122" y="129"/>
                    </a:lnTo>
                    <a:lnTo>
                      <a:pt x="123" y="127"/>
                    </a:lnTo>
                    <a:lnTo>
                      <a:pt x="127" y="138"/>
                    </a:lnTo>
                    <a:lnTo>
                      <a:pt x="81" y="138"/>
                    </a:lnTo>
                    <a:lnTo>
                      <a:pt x="0" y="51"/>
                    </a:lnTo>
                    <a:lnTo>
                      <a:pt x="31" y="51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7" y="19"/>
                    </a:lnTo>
                    <a:lnTo>
                      <a:pt x="51" y="19"/>
                    </a:lnTo>
                    <a:lnTo>
                      <a:pt x="54" y="10"/>
                    </a:lnTo>
                    <a:lnTo>
                      <a:pt x="58" y="5"/>
                    </a:lnTo>
                    <a:lnTo>
                      <a:pt x="65" y="4"/>
                    </a:lnTo>
                    <a:lnTo>
                      <a:pt x="178" y="13"/>
                    </a:lnTo>
                    <a:lnTo>
                      <a:pt x="183" y="16"/>
                    </a:lnTo>
                    <a:lnTo>
                      <a:pt x="187" y="20"/>
                    </a:lnTo>
                    <a:lnTo>
                      <a:pt x="190" y="24"/>
                    </a:lnTo>
                    <a:lnTo>
                      <a:pt x="190" y="31"/>
                    </a:lnTo>
                    <a:lnTo>
                      <a:pt x="188" y="35"/>
                    </a:lnTo>
                    <a:lnTo>
                      <a:pt x="187" y="37"/>
                    </a:lnTo>
                    <a:lnTo>
                      <a:pt x="181" y="37"/>
                    </a:lnTo>
                    <a:lnTo>
                      <a:pt x="182" y="34"/>
                    </a:lnTo>
                    <a:lnTo>
                      <a:pt x="184" y="30"/>
                    </a:lnTo>
                    <a:lnTo>
                      <a:pt x="184" y="24"/>
                    </a:lnTo>
                    <a:lnTo>
                      <a:pt x="181" y="21"/>
                    </a:lnTo>
                    <a:lnTo>
                      <a:pt x="176" y="19"/>
                    </a:lnTo>
                    <a:lnTo>
                      <a:pt x="90" y="19"/>
                    </a:lnTo>
                    <a:lnTo>
                      <a:pt x="87" y="23"/>
                    </a:lnTo>
                    <a:lnTo>
                      <a:pt x="85" y="29"/>
                    </a:lnTo>
                    <a:lnTo>
                      <a:pt x="84" y="33"/>
                    </a:lnTo>
                    <a:lnTo>
                      <a:pt x="84" y="36"/>
                    </a:lnTo>
                    <a:lnTo>
                      <a:pt x="85" y="39"/>
                    </a:lnTo>
                    <a:lnTo>
                      <a:pt x="88" y="40"/>
                    </a:lnTo>
                    <a:lnTo>
                      <a:pt x="176" y="40"/>
                    </a:lnTo>
                    <a:lnTo>
                      <a:pt x="181" y="37"/>
                    </a:lnTo>
                    <a:lnTo>
                      <a:pt x="187" y="37"/>
                    </a:lnTo>
                    <a:lnTo>
                      <a:pt x="439" y="37"/>
                    </a:lnTo>
                    <a:lnTo>
                      <a:pt x="445" y="39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9"/>
                    </a:lnTo>
                    <a:lnTo>
                      <a:pt x="469" y="29"/>
                    </a:lnTo>
                    <a:lnTo>
                      <a:pt x="469" y="14"/>
                    </a:lnTo>
                    <a:lnTo>
                      <a:pt x="460" y="14"/>
                    </a:lnTo>
                    <a:lnTo>
                      <a:pt x="444" y="36"/>
                    </a:lnTo>
                    <a:lnTo>
                      <a:pt x="444" y="39"/>
                    </a:lnTo>
                    <a:lnTo>
                      <a:pt x="445" y="39"/>
                    </a:lnTo>
                    <a:lnTo>
                      <a:pt x="439" y="37"/>
                    </a:lnTo>
                    <a:lnTo>
                      <a:pt x="465" y="3"/>
                    </a:lnTo>
                    <a:lnTo>
                      <a:pt x="469" y="0"/>
                    </a:lnTo>
                    <a:lnTo>
                      <a:pt x="473" y="3"/>
                    </a:lnTo>
                    <a:lnTo>
                      <a:pt x="478" y="7"/>
                    </a:lnTo>
                    <a:lnTo>
                      <a:pt x="480" y="48"/>
                    </a:lnTo>
                    <a:lnTo>
                      <a:pt x="548" y="48"/>
                    </a:lnTo>
                    <a:lnTo>
                      <a:pt x="555" y="45"/>
                    </a:lnTo>
                    <a:lnTo>
                      <a:pt x="603" y="44"/>
                    </a:lnTo>
                    <a:lnTo>
                      <a:pt x="608" y="36"/>
                    </a:lnTo>
                    <a:lnTo>
                      <a:pt x="616" y="36"/>
                    </a:lnTo>
                    <a:lnTo>
                      <a:pt x="616" y="44"/>
                    </a:lnTo>
                    <a:lnTo>
                      <a:pt x="620" y="44"/>
                    </a:lnTo>
                    <a:lnTo>
                      <a:pt x="620" y="64"/>
                    </a:lnTo>
                    <a:lnTo>
                      <a:pt x="607" y="64"/>
                    </a:lnTo>
                    <a:lnTo>
                      <a:pt x="601" y="61"/>
                    </a:lnTo>
                    <a:lnTo>
                      <a:pt x="480" y="61"/>
                    </a:lnTo>
                    <a:lnTo>
                      <a:pt x="480" y="66"/>
                    </a:lnTo>
                    <a:lnTo>
                      <a:pt x="469" y="66"/>
                    </a:lnTo>
                    <a:lnTo>
                      <a:pt x="469" y="64"/>
                    </a:lnTo>
                    <a:lnTo>
                      <a:pt x="449" y="64"/>
                    </a:lnTo>
                    <a:lnTo>
                      <a:pt x="449" y="75"/>
                    </a:lnTo>
                    <a:lnTo>
                      <a:pt x="441" y="75"/>
                    </a:lnTo>
                    <a:lnTo>
                      <a:pt x="436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4127400" y="1838160"/>
                <a:ext cx="187560" cy="220680"/>
              </a:xfrm>
              <a:custGeom>
                <a:avLst/>
                <a:gdLst/>
                <a:ahLst/>
                <a:rect l="l" t="t" r="r" b="b"/>
                <a:pathLst>
                  <a:path w="589" h="698">
                    <a:moveTo>
                      <a:pt x="543" y="458"/>
                    </a:moveTo>
                    <a:lnTo>
                      <a:pt x="521" y="424"/>
                    </a:lnTo>
                    <a:lnTo>
                      <a:pt x="499" y="391"/>
                    </a:lnTo>
                    <a:lnTo>
                      <a:pt x="477" y="359"/>
                    </a:lnTo>
                    <a:lnTo>
                      <a:pt x="454" y="327"/>
                    </a:lnTo>
                    <a:lnTo>
                      <a:pt x="430" y="297"/>
                    </a:lnTo>
                    <a:lnTo>
                      <a:pt x="405" y="265"/>
                    </a:lnTo>
                    <a:lnTo>
                      <a:pt x="380" y="236"/>
                    </a:lnTo>
                    <a:lnTo>
                      <a:pt x="354" y="207"/>
                    </a:lnTo>
                    <a:lnTo>
                      <a:pt x="327" y="179"/>
                    </a:lnTo>
                    <a:lnTo>
                      <a:pt x="299" y="151"/>
                    </a:lnTo>
                    <a:lnTo>
                      <a:pt x="271" y="124"/>
                    </a:lnTo>
                    <a:lnTo>
                      <a:pt x="241" y="98"/>
                    </a:lnTo>
                    <a:lnTo>
                      <a:pt x="212" y="72"/>
                    </a:lnTo>
                    <a:lnTo>
                      <a:pt x="182" y="47"/>
                    </a:lnTo>
                    <a:lnTo>
                      <a:pt x="151" y="23"/>
                    </a:lnTo>
                    <a:lnTo>
                      <a:pt x="119" y="0"/>
                    </a:lnTo>
                    <a:lnTo>
                      <a:pt x="113" y="12"/>
                    </a:lnTo>
                    <a:lnTo>
                      <a:pt x="109" y="27"/>
                    </a:lnTo>
                    <a:lnTo>
                      <a:pt x="108" y="41"/>
                    </a:lnTo>
                    <a:lnTo>
                      <a:pt x="110" y="55"/>
                    </a:lnTo>
                    <a:lnTo>
                      <a:pt x="115" y="76"/>
                    </a:lnTo>
                    <a:lnTo>
                      <a:pt x="109" y="86"/>
                    </a:lnTo>
                    <a:lnTo>
                      <a:pt x="103" y="97"/>
                    </a:lnTo>
                    <a:lnTo>
                      <a:pt x="99" y="112"/>
                    </a:lnTo>
                    <a:lnTo>
                      <a:pt x="77" y="204"/>
                    </a:lnTo>
                    <a:lnTo>
                      <a:pt x="81" y="218"/>
                    </a:lnTo>
                    <a:lnTo>
                      <a:pt x="83" y="232"/>
                    </a:lnTo>
                    <a:lnTo>
                      <a:pt x="79" y="230"/>
                    </a:lnTo>
                    <a:lnTo>
                      <a:pt x="76" y="229"/>
                    </a:lnTo>
                    <a:lnTo>
                      <a:pt x="73" y="228"/>
                    </a:lnTo>
                    <a:lnTo>
                      <a:pt x="60" y="229"/>
                    </a:lnTo>
                    <a:lnTo>
                      <a:pt x="60" y="235"/>
                    </a:lnTo>
                    <a:lnTo>
                      <a:pt x="70" y="234"/>
                    </a:lnTo>
                    <a:lnTo>
                      <a:pt x="72" y="240"/>
                    </a:lnTo>
                    <a:lnTo>
                      <a:pt x="69" y="243"/>
                    </a:lnTo>
                    <a:lnTo>
                      <a:pt x="65" y="245"/>
                    </a:lnTo>
                    <a:lnTo>
                      <a:pt x="60" y="245"/>
                    </a:lnTo>
                    <a:lnTo>
                      <a:pt x="57" y="243"/>
                    </a:lnTo>
                    <a:lnTo>
                      <a:pt x="59" y="241"/>
                    </a:lnTo>
                    <a:lnTo>
                      <a:pt x="60" y="235"/>
                    </a:lnTo>
                    <a:lnTo>
                      <a:pt x="60" y="229"/>
                    </a:lnTo>
                    <a:lnTo>
                      <a:pt x="59" y="221"/>
                    </a:lnTo>
                    <a:lnTo>
                      <a:pt x="58" y="217"/>
                    </a:lnTo>
                    <a:lnTo>
                      <a:pt x="56" y="214"/>
                    </a:lnTo>
                    <a:lnTo>
                      <a:pt x="54" y="214"/>
                    </a:lnTo>
                    <a:lnTo>
                      <a:pt x="54" y="209"/>
                    </a:lnTo>
                    <a:lnTo>
                      <a:pt x="33" y="209"/>
                    </a:lnTo>
                    <a:lnTo>
                      <a:pt x="33" y="214"/>
                    </a:lnTo>
                    <a:lnTo>
                      <a:pt x="30" y="214"/>
                    </a:lnTo>
                    <a:lnTo>
                      <a:pt x="29" y="217"/>
                    </a:lnTo>
                    <a:lnTo>
                      <a:pt x="28" y="220"/>
                    </a:lnTo>
                    <a:lnTo>
                      <a:pt x="23" y="235"/>
                    </a:lnTo>
                    <a:lnTo>
                      <a:pt x="29" y="245"/>
                    </a:lnTo>
                    <a:lnTo>
                      <a:pt x="15" y="249"/>
                    </a:lnTo>
                    <a:lnTo>
                      <a:pt x="13" y="254"/>
                    </a:lnTo>
                    <a:lnTo>
                      <a:pt x="12" y="259"/>
                    </a:lnTo>
                    <a:lnTo>
                      <a:pt x="9" y="267"/>
                    </a:lnTo>
                    <a:lnTo>
                      <a:pt x="6" y="272"/>
                    </a:lnTo>
                    <a:lnTo>
                      <a:pt x="5" y="277"/>
                    </a:lnTo>
                    <a:lnTo>
                      <a:pt x="1" y="287"/>
                    </a:lnTo>
                    <a:lnTo>
                      <a:pt x="0" y="299"/>
                    </a:lnTo>
                    <a:lnTo>
                      <a:pt x="6" y="300"/>
                    </a:lnTo>
                    <a:lnTo>
                      <a:pt x="6" y="321"/>
                    </a:lnTo>
                    <a:lnTo>
                      <a:pt x="1" y="322"/>
                    </a:lnTo>
                    <a:lnTo>
                      <a:pt x="6" y="370"/>
                    </a:lnTo>
                    <a:lnTo>
                      <a:pt x="12" y="372"/>
                    </a:lnTo>
                    <a:lnTo>
                      <a:pt x="14" y="381"/>
                    </a:lnTo>
                    <a:lnTo>
                      <a:pt x="19" y="388"/>
                    </a:lnTo>
                    <a:lnTo>
                      <a:pt x="23" y="396"/>
                    </a:lnTo>
                    <a:lnTo>
                      <a:pt x="30" y="401"/>
                    </a:lnTo>
                    <a:lnTo>
                      <a:pt x="35" y="405"/>
                    </a:lnTo>
                    <a:lnTo>
                      <a:pt x="43" y="406"/>
                    </a:lnTo>
                    <a:lnTo>
                      <a:pt x="48" y="405"/>
                    </a:lnTo>
                    <a:lnTo>
                      <a:pt x="50" y="409"/>
                    </a:lnTo>
                    <a:lnTo>
                      <a:pt x="54" y="416"/>
                    </a:lnTo>
                    <a:lnTo>
                      <a:pt x="58" y="418"/>
                    </a:lnTo>
                    <a:lnTo>
                      <a:pt x="65" y="420"/>
                    </a:lnTo>
                    <a:lnTo>
                      <a:pt x="74" y="419"/>
                    </a:lnTo>
                    <a:lnTo>
                      <a:pt x="63" y="449"/>
                    </a:lnTo>
                    <a:lnTo>
                      <a:pt x="54" y="462"/>
                    </a:lnTo>
                    <a:lnTo>
                      <a:pt x="74" y="477"/>
                    </a:lnTo>
                    <a:lnTo>
                      <a:pt x="76" y="490"/>
                    </a:lnTo>
                    <a:lnTo>
                      <a:pt x="78" y="503"/>
                    </a:lnTo>
                    <a:lnTo>
                      <a:pt x="72" y="513"/>
                    </a:lnTo>
                    <a:lnTo>
                      <a:pt x="68" y="536"/>
                    </a:lnTo>
                    <a:lnTo>
                      <a:pt x="58" y="553"/>
                    </a:lnTo>
                    <a:lnTo>
                      <a:pt x="60" y="584"/>
                    </a:lnTo>
                    <a:lnTo>
                      <a:pt x="60" y="603"/>
                    </a:lnTo>
                    <a:lnTo>
                      <a:pt x="64" y="622"/>
                    </a:lnTo>
                    <a:lnTo>
                      <a:pt x="69" y="637"/>
                    </a:lnTo>
                    <a:lnTo>
                      <a:pt x="75" y="656"/>
                    </a:lnTo>
                    <a:lnTo>
                      <a:pt x="85" y="671"/>
                    </a:lnTo>
                    <a:lnTo>
                      <a:pt x="92" y="674"/>
                    </a:lnTo>
                    <a:lnTo>
                      <a:pt x="100" y="680"/>
                    </a:lnTo>
                    <a:lnTo>
                      <a:pt x="111" y="689"/>
                    </a:lnTo>
                    <a:lnTo>
                      <a:pt x="124" y="693"/>
                    </a:lnTo>
                    <a:lnTo>
                      <a:pt x="142" y="698"/>
                    </a:lnTo>
                    <a:lnTo>
                      <a:pt x="160" y="698"/>
                    </a:lnTo>
                    <a:lnTo>
                      <a:pt x="181" y="692"/>
                    </a:lnTo>
                    <a:lnTo>
                      <a:pt x="195" y="685"/>
                    </a:lnTo>
                    <a:lnTo>
                      <a:pt x="205" y="677"/>
                    </a:lnTo>
                    <a:lnTo>
                      <a:pt x="210" y="667"/>
                    </a:lnTo>
                    <a:lnTo>
                      <a:pt x="213" y="658"/>
                    </a:lnTo>
                    <a:lnTo>
                      <a:pt x="221" y="648"/>
                    </a:lnTo>
                    <a:lnTo>
                      <a:pt x="228" y="637"/>
                    </a:lnTo>
                    <a:lnTo>
                      <a:pt x="236" y="623"/>
                    </a:lnTo>
                    <a:lnTo>
                      <a:pt x="240" y="610"/>
                    </a:lnTo>
                    <a:lnTo>
                      <a:pt x="244" y="596"/>
                    </a:lnTo>
                    <a:lnTo>
                      <a:pt x="246" y="583"/>
                    </a:lnTo>
                    <a:lnTo>
                      <a:pt x="249" y="567"/>
                    </a:lnTo>
                    <a:lnTo>
                      <a:pt x="250" y="551"/>
                    </a:lnTo>
                    <a:lnTo>
                      <a:pt x="264" y="495"/>
                    </a:lnTo>
                    <a:lnTo>
                      <a:pt x="280" y="490"/>
                    </a:lnTo>
                    <a:lnTo>
                      <a:pt x="296" y="483"/>
                    </a:lnTo>
                    <a:lnTo>
                      <a:pt x="314" y="476"/>
                    </a:lnTo>
                    <a:lnTo>
                      <a:pt x="331" y="466"/>
                    </a:lnTo>
                    <a:lnTo>
                      <a:pt x="350" y="455"/>
                    </a:lnTo>
                    <a:lnTo>
                      <a:pt x="367" y="444"/>
                    </a:lnTo>
                    <a:lnTo>
                      <a:pt x="383" y="430"/>
                    </a:lnTo>
                    <a:lnTo>
                      <a:pt x="396" y="419"/>
                    </a:lnTo>
                    <a:lnTo>
                      <a:pt x="412" y="405"/>
                    </a:lnTo>
                    <a:lnTo>
                      <a:pt x="425" y="392"/>
                    </a:lnTo>
                    <a:lnTo>
                      <a:pt x="440" y="375"/>
                    </a:lnTo>
                    <a:lnTo>
                      <a:pt x="454" y="358"/>
                    </a:lnTo>
                    <a:lnTo>
                      <a:pt x="446" y="381"/>
                    </a:lnTo>
                    <a:lnTo>
                      <a:pt x="440" y="403"/>
                    </a:lnTo>
                    <a:lnTo>
                      <a:pt x="437" y="423"/>
                    </a:lnTo>
                    <a:lnTo>
                      <a:pt x="435" y="439"/>
                    </a:lnTo>
                    <a:lnTo>
                      <a:pt x="437" y="450"/>
                    </a:lnTo>
                    <a:lnTo>
                      <a:pt x="437" y="460"/>
                    </a:lnTo>
                    <a:lnTo>
                      <a:pt x="435" y="468"/>
                    </a:lnTo>
                    <a:lnTo>
                      <a:pt x="434" y="474"/>
                    </a:lnTo>
                    <a:lnTo>
                      <a:pt x="444" y="479"/>
                    </a:lnTo>
                    <a:lnTo>
                      <a:pt x="444" y="508"/>
                    </a:lnTo>
                    <a:lnTo>
                      <a:pt x="440" y="514"/>
                    </a:lnTo>
                    <a:lnTo>
                      <a:pt x="438" y="519"/>
                    </a:lnTo>
                    <a:lnTo>
                      <a:pt x="438" y="528"/>
                    </a:lnTo>
                    <a:lnTo>
                      <a:pt x="438" y="537"/>
                    </a:lnTo>
                    <a:lnTo>
                      <a:pt x="434" y="544"/>
                    </a:lnTo>
                    <a:lnTo>
                      <a:pt x="429" y="552"/>
                    </a:lnTo>
                    <a:lnTo>
                      <a:pt x="426" y="560"/>
                    </a:lnTo>
                    <a:lnTo>
                      <a:pt x="424" y="569"/>
                    </a:lnTo>
                    <a:lnTo>
                      <a:pt x="423" y="579"/>
                    </a:lnTo>
                    <a:lnTo>
                      <a:pt x="422" y="589"/>
                    </a:lnTo>
                    <a:lnTo>
                      <a:pt x="424" y="600"/>
                    </a:lnTo>
                    <a:lnTo>
                      <a:pt x="434" y="604"/>
                    </a:lnTo>
                    <a:lnTo>
                      <a:pt x="444" y="607"/>
                    </a:lnTo>
                    <a:lnTo>
                      <a:pt x="454" y="608"/>
                    </a:lnTo>
                    <a:lnTo>
                      <a:pt x="468" y="610"/>
                    </a:lnTo>
                    <a:lnTo>
                      <a:pt x="481" y="618"/>
                    </a:lnTo>
                    <a:lnTo>
                      <a:pt x="498" y="626"/>
                    </a:lnTo>
                    <a:lnTo>
                      <a:pt x="521" y="634"/>
                    </a:lnTo>
                    <a:lnTo>
                      <a:pt x="540" y="637"/>
                    </a:lnTo>
                    <a:lnTo>
                      <a:pt x="563" y="638"/>
                    </a:lnTo>
                    <a:lnTo>
                      <a:pt x="578" y="636"/>
                    </a:lnTo>
                    <a:lnTo>
                      <a:pt x="589" y="634"/>
                    </a:lnTo>
                    <a:lnTo>
                      <a:pt x="589" y="623"/>
                    </a:lnTo>
                    <a:lnTo>
                      <a:pt x="586" y="617"/>
                    </a:lnTo>
                    <a:lnTo>
                      <a:pt x="580" y="612"/>
                    </a:lnTo>
                    <a:lnTo>
                      <a:pt x="567" y="606"/>
                    </a:lnTo>
                    <a:lnTo>
                      <a:pt x="547" y="595"/>
                    </a:lnTo>
                    <a:lnTo>
                      <a:pt x="544" y="590"/>
                    </a:lnTo>
                    <a:lnTo>
                      <a:pt x="539" y="583"/>
                    </a:lnTo>
                    <a:lnTo>
                      <a:pt x="536" y="577"/>
                    </a:lnTo>
                    <a:lnTo>
                      <a:pt x="533" y="573"/>
                    </a:lnTo>
                    <a:lnTo>
                      <a:pt x="525" y="571"/>
                    </a:lnTo>
                    <a:lnTo>
                      <a:pt x="522" y="562"/>
                    </a:lnTo>
                    <a:lnTo>
                      <a:pt x="517" y="556"/>
                    </a:lnTo>
                    <a:lnTo>
                      <a:pt x="510" y="550"/>
                    </a:lnTo>
                    <a:lnTo>
                      <a:pt x="514" y="542"/>
                    </a:lnTo>
                    <a:lnTo>
                      <a:pt x="514" y="537"/>
                    </a:lnTo>
                    <a:lnTo>
                      <a:pt x="511" y="530"/>
                    </a:lnTo>
                    <a:lnTo>
                      <a:pt x="511" y="525"/>
                    </a:lnTo>
                    <a:lnTo>
                      <a:pt x="518" y="491"/>
                    </a:lnTo>
                    <a:lnTo>
                      <a:pt x="527" y="484"/>
                    </a:lnTo>
                    <a:lnTo>
                      <a:pt x="536" y="477"/>
                    </a:lnTo>
                    <a:lnTo>
                      <a:pt x="543" y="458"/>
                    </a:lnTo>
                    <a:close/>
                    <a:moveTo>
                      <a:pt x="82" y="246"/>
                    </a:moveTo>
                    <a:lnTo>
                      <a:pt x="76" y="251"/>
                    </a:lnTo>
                    <a:lnTo>
                      <a:pt x="78" y="255"/>
                    </a:lnTo>
                    <a:lnTo>
                      <a:pt x="81" y="259"/>
                    </a:lnTo>
                    <a:lnTo>
                      <a:pt x="82" y="255"/>
                    </a:lnTo>
                    <a:lnTo>
                      <a:pt x="84" y="250"/>
                    </a:lnTo>
                    <a:lnTo>
                      <a:pt x="82" y="24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4127400" y="1838160"/>
                <a:ext cx="187560" cy="220680"/>
              </a:xfrm>
              <a:custGeom>
                <a:avLst/>
                <a:gdLst/>
                <a:ahLst/>
                <a:rect l="l" t="t" r="r" b="b"/>
                <a:pathLst>
                  <a:path w="589" h="698">
                    <a:moveTo>
                      <a:pt x="543" y="458"/>
                    </a:moveTo>
                    <a:lnTo>
                      <a:pt x="536" y="477"/>
                    </a:lnTo>
                    <a:lnTo>
                      <a:pt x="527" y="484"/>
                    </a:lnTo>
                    <a:lnTo>
                      <a:pt x="518" y="491"/>
                    </a:lnTo>
                    <a:lnTo>
                      <a:pt x="511" y="525"/>
                    </a:lnTo>
                    <a:lnTo>
                      <a:pt x="511" y="530"/>
                    </a:lnTo>
                    <a:lnTo>
                      <a:pt x="514" y="537"/>
                    </a:lnTo>
                    <a:lnTo>
                      <a:pt x="514" y="542"/>
                    </a:lnTo>
                    <a:lnTo>
                      <a:pt x="510" y="550"/>
                    </a:lnTo>
                    <a:lnTo>
                      <a:pt x="517" y="556"/>
                    </a:lnTo>
                    <a:lnTo>
                      <a:pt x="522" y="562"/>
                    </a:lnTo>
                    <a:lnTo>
                      <a:pt x="525" y="571"/>
                    </a:lnTo>
                    <a:lnTo>
                      <a:pt x="533" y="573"/>
                    </a:lnTo>
                    <a:lnTo>
                      <a:pt x="536" y="577"/>
                    </a:lnTo>
                    <a:lnTo>
                      <a:pt x="539" y="583"/>
                    </a:lnTo>
                    <a:lnTo>
                      <a:pt x="544" y="590"/>
                    </a:lnTo>
                    <a:lnTo>
                      <a:pt x="547" y="595"/>
                    </a:lnTo>
                    <a:lnTo>
                      <a:pt x="567" y="606"/>
                    </a:lnTo>
                    <a:lnTo>
                      <a:pt x="580" y="612"/>
                    </a:lnTo>
                    <a:lnTo>
                      <a:pt x="586" y="617"/>
                    </a:lnTo>
                    <a:lnTo>
                      <a:pt x="589" y="623"/>
                    </a:lnTo>
                    <a:lnTo>
                      <a:pt x="589" y="634"/>
                    </a:lnTo>
                    <a:lnTo>
                      <a:pt x="578" y="636"/>
                    </a:lnTo>
                    <a:lnTo>
                      <a:pt x="563" y="638"/>
                    </a:lnTo>
                    <a:lnTo>
                      <a:pt x="540" y="637"/>
                    </a:lnTo>
                    <a:lnTo>
                      <a:pt x="521" y="634"/>
                    </a:lnTo>
                    <a:lnTo>
                      <a:pt x="498" y="626"/>
                    </a:lnTo>
                    <a:lnTo>
                      <a:pt x="481" y="618"/>
                    </a:lnTo>
                    <a:lnTo>
                      <a:pt x="468" y="610"/>
                    </a:lnTo>
                    <a:lnTo>
                      <a:pt x="454" y="608"/>
                    </a:lnTo>
                    <a:lnTo>
                      <a:pt x="444" y="607"/>
                    </a:lnTo>
                    <a:lnTo>
                      <a:pt x="434" y="604"/>
                    </a:lnTo>
                    <a:lnTo>
                      <a:pt x="424" y="600"/>
                    </a:lnTo>
                    <a:lnTo>
                      <a:pt x="422" y="589"/>
                    </a:lnTo>
                    <a:lnTo>
                      <a:pt x="423" y="579"/>
                    </a:lnTo>
                    <a:lnTo>
                      <a:pt x="424" y="569"/>
                    </a:lnTo>
                    <a:lnTo>
                      <a:pt x="426" y="560"/>
                    </a:lnTo>
                    <a:lnTo>
                      <a:pt x="429" y="552"/>
                    </a:lnTo>
                    <a:lnTo>
                      <a:pt x="434" y="544"/>
                    </a:lnTo>
                    <a:lnTo>
                      <a:pt x="438" y="537"/>
                    </a:lnTo>
                    <a:lnTo>
                      <a:pt x="438" y="528"/>
                    </a:lnTo>
                    <a:lnTo>
                      <a:pt x="438" y="519"/>
                    </a:lnTo>
                    <a:lnTo>
                      <a:pt x="440" y="514"/>
                    </a:lnTo>
                    <a:lnTo>
                      <a:pt x="444" y="508"/>
                    </a:lnTo>
                    <a:lnTo>
                      <a:pt x="444" y="479"/>
                    </a:lnTo>
                    <a:lnTo>
                      <a:pt x="434" y="474"/>
                    </a:lnTo>
                    <a:lnTo>
                      <a:pt x="435" y="468"/>
                    </a:lnTo>
                    <a:lnTo>
                      <a:pt x="437" y="460"/>
                    </a:lnTo>
                    <a:lnTo>
                      <a:pt x="437" y="450"/>
                    </a:lnTo>
                    <a:lnTo>
                      <a:pt x="435" y="439"/>
                    </a:lnTo>
                    <a:lnTo>
                      <a:pt x="437" y="423"/>
                    </a:lnTo>
                    <a:lnTo>
                      <a:pt x="440" y="403"/>
                    </a:lnTo>
                    <a:lnTo>
                      <a:pt x="446" y="381"/>
                    </a:lnTo>
                    <a:lnTo>
                      <a:pt x="454" y="358"/>
                    </a:lnTo>
                    <a:lnTo>
                      <a:pt x="440" y="375"/>
                    </a:lnTo>
                    <a:lnTo>
                      <a:pt x="425" y="392"/>
                    </a:lnTo>
                    <a:lnTo>
                      <a:pt x="412" y="405"/>
                    </a:lnTo>
                    <a:lnTo>
                      <a:pt x="396" y="419"/>
                    </a:lnTo>
                    <a:lnTo>
                      <a:pt x="383" y="430"/>
                    </a:lnTo>
                    <a:lnTo>
                      <a:pt x="367" y="444"/>
                    </a:lnTo>
                    <a:lnTo>
                      <a:pt x="350" y="455"/>
                    </a:lnTo>
                    <a:lnTo>
                      <a:pt x="331" y="466"/>
                    </a:lnTo>
                    <a:lnTo>
                      <a:pt x="314" y="476"/>
                    </a:lnTo>
                    <a:lnTo>
                      <a:pt x="296" y="483"/>
                    </a:lnTo>
                    <a:lnTo>
                      <a:pt x="280" y="490"/>
                    </a:lnTo>
                    <a:lnTo>
                      <a:pt x="264" y="495"/>
                    </a:lnTo>
                    <a:lnTo>
                      <a:pt x="250" y="551"/>
                    </a:lnTo>
                    <a:lnTo>
                      <a:pt x="249" y="567"/>
                    </a:lnTo>
                    <a:lnTo>
                      <a:pt x="246" y="583"/>
                    </a:lnTo>
                    <a:lnTo>
                      <a:pt x="244" y="596"/>
                    </a:lnTo>
                    <a:lnTo>
                      <a:pt x="240" y="610"/>
                    </a:lnTo>
                    <a:lnTo>
                      <a:pt x="236" y="623"/>
                    </a:lnTo>
                    <a:lnTo>
                      <a:pt x="228" y="637"/>
                    </a:lnTo>
                    <a:lnTo>
                      <a:pt x="221" y="648"/>
                    </a:lnTo>
                    <a:lnTo>
                      <a:pt x="213" y="658"/>
                    </a:lnTo>
                    <a:lnTo>
                      <a:pt x="210" y="667"/>
                    </a:lnTo>
                    <a:lnTo>
                      <a:pt x="205" y="677"/>
                    </a:lnTo>
                    <a:lnTo>
                      <a:pt x="195" y="685"/>
                    </a:lnTo>
                    <a:lnTo>
                      <a:pt x="181" y="692"/>
                    </a:lnTo>
                    <a:lnTo>
                      <a:pt x="160" y="698"/>
                    </a:lnTo>
                    <a:lnTo>
                      <a:pt x="142" y="698"/>
                    </a:lnTo>
                    <a:lnTo>
                      <a:pt x="124" y="693"/>
                    </a:lnTo>
                    <a:lnTo>
                      <a:pt x="111" y="689"/>
                    </a:lnTo>
                    <a:lnTo>
                      <a:pt x="100" y="680"/>
                    </a:lnTo>
                    <a:lnTo>
                      <a:pt x="92" y="674"/>
                    </a:lnTo>
                    <a:lnTo>
                      <a:pt x="85" y="671"/>
                    </a:lnTo>
                    <a:lnTo>
                      <a:pt x="75" y="656"/>
                    </a:lnTo>
                    <a:lnTo>
                      <a:pt x="69" y="637"/>
                    </a:lnTo>
                    <a:lnTo>
                      <a:pt x="64" y="622"/>
                    </a:lnTo>
                    <a:lnTo>
                      <a:pt x="60" y="603"/>
                    </a:lnTo>
                    <a:lnTo>
                      <a:pt x="60" y="584"/>
                    </a:lnTo>
                    <a:lnTo>
                      <a:pt x="58" y="553"/>
                    </a:lnTo>
                    <a:lnTo>
                      <a:pt x="68" y="536"/>
                    </a:lnTo>
                    <a:lnTo>
                      <a:pt x="72" y="513"/>
                    </a:lnTo>
                    <a:lnTo>
                      <a:pt x="78" y="503"/>
                    </a:lnTo>
                    <a:lnTo>
                      <a:pt x="76" y="490"/>
                    </a:lnTo>
                    <a:lnTo>
                      <a:pt x="74" y="477"/>
                    </a:lnTo>
                    <a:lnTo>
                      <a:pt x="54" y="462"/>
                    </a:lnTo>
                    <a:lnTo>
                      <a:pt x="63" y="449"/>
                    </a:lnTo>
                    <a:lnTo>
                      <a:pt x="74" y="419"/>
                    </a:lnTo>
                    <a:lnTo>
                      <a:pt x="65" y="420"/>
                    </a:lnTo>
                    <a:lnTo>
                      <a:pt x="58" y="418"/>
                    </a:lnTo>
                    <a:lnTo>
                      <a:pt x="54" y="416"/>
                    </a:lnTo>
                    <a:lnTo>
                      <a:pt x="50" y="409"/>
                    </a:lnTo>
                    <a:lnTo>
                      <a:pt x="48" y="405"/>
                    </a:lnTo>
                    <a:lnTo>
                      <a:pt x="43" y="406"/>
                    </a:lnTo>
                    <a:lnTo>
                      <a:pt x="35" y="405"/>
                    </a:lnTo>
                    <a:lnTo>
                      <a:pt x="30" y="401"/>
                    </a:lnTo>
                    <a:lnTo>
                      <a:pt x="23" y="396"/>
                    </a:lnTo>
                    <a:lnTo>
                      <a:pt x="19" y="388"/>
                    </a:lnTo>
                    <a:lnTo>
                      <a:pt x="14" y="381"/>
                    </a:lnTo>
                    <a:lnTo>
                      <a:pt x="12" y="372"/>
                    </a:lnTo>
                    <a:lnTo>
                      <a:pt x="6" y="370"/>
                    </a:lnTo>
                    <a:lnTo>
                      <a:pt x="1" y="322"/>
                    </a:lnTo>
                    <a:lnTo>
                      <a:pt x="6" y="321"/>
                    </a:lnTo>
                    <a:lnTo>
                      <a:pt x="6" y="300"/>
                    </a:lnTo>
                    <a:lnTo>
                      <a:pt x="0" y="299"/>
                    </a:lnTo>
                    <a:lnTo>
                      <a:pt x="1" y="287"/>
                    </a:lnTo>
                    <a:lnTo>
                      <a:pt x="5" y="277"/>
                    </a:lnTo>
                    <a:lnTo>
                      <a:pt x="6" y="272"/>
                    </a:lnTo>
                    <a:lnTo>
                      <a:pt x="9" y="267"/>
                    </a:lnTo>
                    <a:lnTo>
                      <a:pt x="12" y="259"/>
                    </a:lnTo>
                    <a:lnTo>
                      <a:pt x="13" y="254"/>
                    </a:lnTo>
                    <a:lnTo>
                      <a:pt x="15" y="249"/>
                    </a:lnTo>
                    <a:lnTo>
                      <a:pt x="29" y="245"/>
                    </a:lnTo>
                    <a:lnTo>
                      <a:pt x="23" y="235"/>
                    </a:lnTo>
                    <a:lnTo>
                      <a:pt x="28" y="220"/>
                    </a:lnTo>
                    <a:lnTo>
                      <a:pt x="29" y="217"/>
                    </a:lnTo>
                    <a:lnTo>
                      <a:pt x="30" y="214"/>
                    </a:lnTo>
                    <a:lnTo>
                      <a:pt x="33" y="214"/>
                    </a:lnTo>
                    <a:lnTo>
                      <a:pt x="33" y="209"/>
                    </a:lnTo>
                    <a:lnTo>
                      <a:pt x="54" y="209"/>
                    </a:lnTo>
                    <a:lnTo>
                      <a:pt x="54" y="214"/>
                    </a:lnTo>
                    <a:lnTo>
                      <a:pt x="56" y="214"/>
                    </a:lnTo>
                    <a:lnTo>
                      <a:pt x="58" y="217"/>
                    </a:lnTo>
                    <a:lnTo>
                      <a:pt x="59" y="221"/>
                    </a:lnTo>
                    <a:lnTo>
                      <a:pt x="60" y="229"/>
                    </a:lnTo>
                    <a:lnTo>
                      <a:pt x="60" y="235"/>
                    </a:lnTo>
                    <a:lnTo>
                      <a:pt x="59" y="241"/>
                    </a:lnTo>
                    <a:lnTo>
                      <a:pt x="57" y="243"/>
                    </a:lnTo>
                    <a:lnTo>
                      <a:pt x="60" y="245"/>
                    </a:lnTo>
                    <a:lnTo>
                      <a:pt x="65" y="245"/>
                    </a:lnTo>
                    <a:lnTo>
                      <a:pt x="69" y="243"/>
                    </a:lnTo>
                    <a:lnTo>
                      <a:pt x="72" y="240"/>
                    </a:lnTo>
                    <a:lnTo>
                      <a:pt x="70" y="234"/>
                    </a:lnTo>
                    <a:lnTo>
                      <a:pt x="60" y="235"/>
                    </a:lnTo>
                    <a:lnTo>
                      <a:pt x="60" y="229"/>
                    </a:lnTo>
                    <a:lnTo>
                      <a:pt x="73" y="228"/>
                    </a:lnTo>
                    <a:lnTo>
                      <a:pt x="76" y="229"/>
                    </a:lnTo>
                    <a:lnTo>
                      <a:pt x="79" y="230"/>
                    </a:lnTo>
                    <a:lnTo>
                      <a:pt x="83" y="232"/>
                    </a:lnTo>
                    <a:lnTo>
                      <a:pt x="81" y="218"/>
                    </a:lnTo>
                    <a:lnTo>
                      <a:pt x="77" y="204"/>
                    </a:lnTo>
                    <a:lnTo>
                      <a:pt x="99" y="112"/>
                    </a:lnTo>
                    <a:lnTo>
                      <a:pt x="103" y="97"/>
                    </a:lnTo>
                    <a:lnTo>
                      <a:pt x="109" y="86"/>
                    </a:lnTo>
                    <a:lnTo>
                      <a:pt x="115" y="76"/>
                    </a:lnTo>
                    <a:lnTo>
                      <a:pt x="110" y="55"/>
                    </a:lnTo>
                    <a:lnTo>
                      <a:pt x="108" y="41"/>
                    </a:lnTo>
                    <a:lnTo>
                      <a:pt x="109" y="27"/>
                    </a:lnTo>
                    <a:lnTo>
                      <a:pt x="113" y="12"/>
                    </a:lnTo>
                    <a:lnTo>
                      <a:pt x="11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3936960" y="2082960"/>
                <a:ext cx="249120" cy="291960"/>
              </a:xfrm>
              <a:custGeom>
                <a:avLst/>
                <a:gdLst/>
                <a:ahLst/>
                <a:rect l="l" t="t" r="r" b="b"/>
                <a:pathLst>
                  <a:path w="788" h="919">
                    <a:moveTo>
                      <a:pt x="417" y="451"/>
                    </a:moveTo>
                    <a:lnTo>
                      <a:pt x="432" y="440"/>
                    </a:lnTo>
                    <a:lnTo>
                      <a:pt x="445" y="431"/>
                    </a:lnTo>
                    <a:lnTo>
                      <a:pt x="458" y="425"/>
                    </a:lnTo>
                    <a:lnTo>
                      <a:pt x="472" y="418"/>
                    </a:lnTo>
                    <a:lnTo>
                      <a:pt x="446" y="402"/>
                    </a:lnTo>
                    <a:lnTo>
                      <a:pt x="434" y="393"/>
                    </a:lnTo>
                    <a:lnTo>
                      <a:pt x="421" y="384"/>
                    </a:lnTo>
                    <a:lnTo>
                      <a:pt x="422" y="401"/>
                    </a:lnTo>
                    <a:lnTo>
                      <a:pt x="419" y="416"/>
                    </a:lnTo>
                    <a:lnTo>
                      <a:pt x="417" y="451"/>
                    </a:lnTo>
                    <a:close/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3"/>
                    </a:lnTo>
                    <a:lnTo>
                      <a:pt x="557" y="620"/>
                    </a:lnTo>
                    <a:lnTo>
                      <a:pt x="547" y="667"/>
                    </a:lnTo>
                    <a:lnTo>
                      <a:pt x="537" y="699"/>
                    </a:lnTo>
                    <a:lnTo>
                      <a:pt x="528" y="705"/>
                    </a:lnTo>
                    <a:lnTo>
                      <a:pt x="519" y="712"/>
                    </a:lnTo>
                    <a:lnTo>
                      <a:pt x="512" y="746"/>
                    </a:lnTo>
                    <a:lnTo>
                      <a:pt x="512" y="752"/>
                    </a:lnTo>
                    <a:lnTo>
                      <a:pt x="515" y="758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7" y="777"/>
                    </a:lnTo>
                    <a:lnTo>
                      <a:pt x="523" y="784"/>
                    </a:lnTo>
                    <a:lnTo>
                      <a:pt x="526" y="792"/>
                    </a:lnTo>
                    <a:lnTo>
                      <a:pt x="534" y="794"/>
                    </a:lnTo>
                    <a:lnTo>
                      <a:pt x="537" y="799"/>
                    </a:lnTo>
                    <a:lnTo>
                      <a:pt x="541" y="804"/>
                    </a:lnTo>
                    <a:lnTo>
                      <a:pt x="544" y="811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9"/>
                    </a:lnTo>
                    <a:lnTo>
                      <a:pt x="590" y="844"/>
                    </a:lnTo>
                    <a:lnTo>
                      <a:pt x="590" y="855"/>
                    </a:lnTo>
                    <a:lnTo>
                      <a:pt x="579" y="857"/>
                    </a:lnTo>
                    <a:lnTo>
                      <a:pt x="565" y="860"/>
                    </a:lnTo>
                    <a:lnTo>
                      <a:pt x="542" y="858"/>
                    </a:lnTo>
                    <a:lnTo>
                      <a:pt x="522" y="855"/>
                    </a:lnTo>
                    <a:lnTo>
                      <a:pt x="499" y="847"/>
                    </a:lnTo>
                    <a:lnTo>
                      <a:pt x="482" y="840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10"/>
                    </a:lnTo>
                    <a:lnTo>
                      <a:pt x="424" y="800"/>
                    </a:lnTo>
                    <a:lnTo>
                      <a:pt x="425" y="790"/>
                    </a:lnTo>
                    <a:lnTo>
                      <a:pt x="427" y="781"/>
                    </a:lnTo>
                    <a:lnTo>
                      <a:pt x="430" y="774"/>
                    </a:lnTo>
                    <a:lnTo>
                      <a:pt x="434" y="765"/>
                    </a:lnTo>
                    <a:lnTo>
                      <a:pt x="439" y="758"/>
                    </a:lnTo>
                    <a:lnTo>
                      <a:pt x="439" y="749"/>
                    </a:lnTo>
                    <a:lnTo>
                      <a:pt x="439" y="741"/>
                    </a:lnTo>
                    <a:lnTo>
                      <a:pt x="441" y="735"/>
                    </a:lnTo>
                    <a:lnTo>
                      <a:pt x="445" y="730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8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1" y="624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1" y="596"/>
                    </a:lnTo>
                    <a:lnTo>
                      <a:pt x="426" y="613"/>
                    </a:lnTo>
                    <a:lnTo>
                      <a:pt x="413" y="626"/>
                    </a:lnTo>
                    <a:lnTo>
                      <a:pt x="397" y="640"/>
                    </a:lnTo>
                    <a:lnTo>
                      <a:pt x="384" y="651"/>
                    </a:lnTo>
                    <a:lnTo>
                      <a:pt x="367" y="665"/>
                    </a:lnTo>
                    <a:lnTo>
                      <a:pt x="351" y="677"/>
                    </a:lnTo>
                    <a:lnTo>
                      <a:pt x="333" y="687"/>
                    </a:lnTo>
                    <a:lnTo>
                      <a:pt x="315" y="698"/>
                    </a:lnTo>
                    <a:lnTo>
                      <a:pt x="297" y="704"/>
                    </a:lnTo>
                    <a:lnTo>
                      <a:pt x="281" y="711"/>
                    </a:lnTo>
                    <a:lnTo>
                      <a:pt x="265" y="715"/>
                    </a:lnTo>
                    <a:lnTo>
                      <a:pt x="251" y="772"/>
                    </a:lnTo>
                    <a:lnTo>
                      <a:pt x="250" y="788"/>
                    </a:lnTo>
                    <a:lnTo>
                      <a:pt x="248" y="804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70"/>
                    </a:lnTo>
                    <a:lnTo>
                      <a:pt x="214" y="879"/>
                    </a:lnTo>
                    <a:lnTo>
                      <a:pt x="211" y="888"/>
                    </a:lnTo>
                    <a:lnTo>
                      <a:pt x="206" y="898"/>
                    </a:lnTo>
                    <a:lnTo>
                      <a:pt x="196" y="907"/>
                    </a:lnTo>
                    <a:lnTo>
                      <a:pt x="182" y="913"/>
                    </a:lnTo>
                    <a:lnTo>
                      <a:pt x="161" y="919"/>
                    </a:lnTo>
                    <a:lnTo>
                      <a:pt x="143" y="919"/>
                    </a:lnTo>
                    <a:lnTo>
                      <a:pt x="125" y="915"/>
                    </a:lnTo>
                    <a:lnTo>
                      <a:pt x="112" y="910"/>
                    </a:lnTo>
                    <a:lnTo>
                      <a:pt x="101" y="901"/>
                    </a:lnTo>
                    <a:lnTo>
                      <a:pt x="94" y="895"/>
                    </a:lnTo>
                    <a:lnTo>
                      <a:pt x="86" y="893"/>
                    </a:lnTo>
                    <a:lnTo>
                      <a:pt x="76" y="877"/>
                    </a:lnTo>
                    <a:lnTo>
                      <a:pt x="71" y="858"/>
                    </a:lnTo>
                    <a:lnTo>
                      <a:pt x="65" y="843"/>
                    </a:lnTo>
                    <a:lnTo>
                      <a:pt x="62" y="824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7"/>
                    </a:lnTo>
                    <a:lnTo>
                      <a:pt x="73" y="734"/>
                    </a:lnTo>
                    <a:lnTo>
                      <a:pt x="79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0"/>
                    </a:lnTo>
                    <a:lnTo>
                      <a:pt x="66" y="641"/>
                    </a:lnTo>
                    <a:lnTo>
                      <a:pt x="59" y="639"/>
                    </a:lnTo>
                    <a:lnTo>
                      <a:pt x="54" y="637"/>
                    </a:lnTo>
                    <a:lnTo>
                      <a:pt x="51" y="631"/>
                    </a:lnTo>
                    <a:lnTo>
                      <a:pt x="49" y="626"/>
                    </a:lnTo>
                    <a:lnTo>
                      <a:pt x="44" y="627"/>
                    </a:lnTo>
                    <a:lnTo>
                      <a:pt x="36" y="626"/>
                    </a:lnTo>
                    <a:lnTo>
                      <a:pt x="31" y="623"/>
                    </a:lnTo>
                    <a:lnTo>
                      <a:pt x="24" y="617"/>
                    </a:lnTo>
                    <a:lnTo>
                      <a:pt x="20" y="610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2" y="544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2" y="508"/>
                    </a:lnTo>
                    <a:lnTo>
                      <a:pt x="6" y="499"/>
                    </a:lnTo>
                    <a:lnTo>
                      <a:pt x="7" y="493"/>
                    </a:lnTo>
                    <a:lnTo>
                      <a:pt x="10" y="489"/>
                    </a:lnTo>
                    <a:lnTo>
                      <a:pt x="12" y="480"/>
                    </a:lnTo>
                    <a:lnTo>
                      <a:pt x="13" y="475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9" y="441"/>
                    </a:lnTo>
                    <a:lnTo>
                      <a:pt x="30" y="438"/>
                    </a:lnTo>
                    <a:lnTo>
                      <a:pt x="31" y="436"/>
                    </a:lnTo>
                    <a:lnTo>
                      <a:pt x="34" y="436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6"/>
                    </a:lnTo>
                    <a:lnTo>
                      <a:pt x="57" y="436"/>
                    </a:lnTo>
                    <a:lnTo>
                      <a:pt x="59" y="438"/>
                    </a:lnTo>
                    <a:lnTo>
                      <a:pt x="61" y="442"/>
                    </a:lnTo>
                    <a:lnTo>
                      <a:pt x="62" y="450"/>
                    </a:lnTo>
                    <a:lnTo>
                      <a:pt x="62" y="457"/>
                    </a:lnTo>
                    <a:lnTo>
                      <a:pt x="61" y="462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7"/>
                    </a:lnTo>
                    <a:lnTo>
                      <a:pt x="62" y="450"/>
                    </a:lnTo>
                    <a:lnTo>
                      <a:pt x="74" y="449"/>
                    </a:lnTo>
                    <a:lnTo>
                      <a:pt x="77" y="450"/>
                    </a:lnTo>
                    <a:lnTo>
                      <a:pt x="80" y="451"/>
                    </a:lnTo>
                    <a:lnTo>
                      <a:pt x="85" y="453"/>
                    </a:lnTo>
                    <a:lnTo>
                      <a:pt x="81" y="439"/>
                    </a:lnTo>
                    <a:lnTo>
                      <a:pt x="78" y="425"/>
                    </a:lnTo>
                    <a:lnTo>
                      <a:pt x="100" y="334"/>
                    </a:lnTo>
                    <a:lnTo>
                      <a:pt x="105" y="318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1" y="276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8"/>
                    </a:lnTo>
                    <a:lnTo>
                      <a:pt x="152" y="184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6"/>
                    </a:lnTo>
                    <a:lnTo>
                      <a:pt x="206" y="156"/>
                    </a:lnTo>
                    <a:lnTo>
                      <a:pt x="216" y="159"/>
                    </a:lnTo>
                    <a:lnTo>
                      <a:pt x="240" y="154"/>
                    </a:lnTo>
                    <a:lnTo>
                      <a:pt x="242" y="145"/>
                    </a:lnTo>
                    <a:lnTo>
                      <a:pt x="239" y="131"/>
                    </a:lnTo>
                    <a:lnTo>
                      <a:pt x="241" y="130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6" y="34"/>
                    </a:lnTo>
                    <a:lnTo>
                      <a:pt x="265" y="25"/>
                    </a:lnTo>
                    <a:lnTo>
                      <a:pt x="288" y="13"/>
                    </a:lnTo>
                    <a:lnTo>
                      <a:pt x="305" y="8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7"/>
                    </a:lnTo>
                    <a:lnTo>
                      <a:pt x="387" y="11"/>
                    </a:lnTo>
                    <a:lnTo>
                      <a:pt x="397" y="21"/>
                    </a:lnTo>
                    <a:lnTo>
                      <a:pt x="405" y="33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7" y="92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1" y="108"/>
                    </a:lnTo>
                    <a:lnTo>
                      <a:pt x="414" y="114"/>
                    </a:lnTo>
                    <a:lnTo>
                      <a:pt x="416" y="130"/>
                    </a:lnTo>
                    <a:lnTo>
                      <a:pt x="417" y="144"/>
                    </a:lnTo>
                    <a:lnTo>
                      <a:pt x="417" y="155"/>
                    </a:lnTo>
                    <a:lnTo>
                      <a:pt x="426" y="156"/>
                    </a:lnTo>
                    <a:lnTo>
                      <a:pt x="437" y="176"/>
                    </a:lnTo>
                    <a:lnTo>
                      <a:pt x="517" y="263"/>
                    </a:lnTo>
                    <a:lnTo>
                      <a:pt x="522" y="269"/>
                    </a:lnTo>
                    <a:lnTo>
                      <a:pt x="523" y="275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2"/>
                    </a:lnTo>
                    <a:lnTo>
                      <a:pt x="512" y="297"/>
                    </a:lnTo>
                    <a:lnTo>
                      <a:pt x="508" y="302"/>
                    </a:lnTo>
                    <a:lnTo>
                      <a:pt x="512" y="305"/>
                    </a:lnTo>
                    <a:lnTo>
                      <a:pt x="514" y="309"/>
                    </a:lnTo>
                    <a:lnTo>
                      <a:pt x="519" y="317"/>
                    </a:lnTo>
                    <a:lnTo>
                      <a:pt x="528" y="323"/>
                    </a:lnTo>
                    <a:lnTo>
                      <a:pt x="536" y="328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2"/>
                    </a:lnTo>
                    <a:lnTo>
                      <a:pt x="580" y="330"/>
                    </a:lnTo>
                    <a:lnTo>
                      <a:pt x="591" y="328"/>
                    </a:lnTo>
                    <a:lnTo>
                      <a:pt x="598" y="325"/>
                    </a:lnTo>
                    <a:lnTo>
                      <a:pt x="628" y="305"/>
                    </a:lnTo>
                    <a:lnTo>
                      <a:pt x="666" y="263"/>
                    </a:lnTo>
                    <a:lnTo>
                      <a:pt x="671" y="264"/>
                    </a:lnTo>
                    <a:lnTo>
                      <a:pt x="692" y="240"/>
                    </a:lnTo>
                    <a:lnTo>
                      <a:pt x="693" y="234"/>
                    </a:lnTo>
                    <a:lnTo>
                      <a:pt x="698" y="228"/>
                    </a:lnTo>
                    <a:lnTo>
                      <a:pt x="703" y="221"/>
                    </a:lnTo>
                    <a:lnTo>
                      <a:pt x="788" y="218"/>
                    </a:lnTo>
                    <a:lnTo>
                      <a:pt x="732" y="251"/>
                    </a:lnTo>
                    <a:lnTo>
                      <a:pt x="721" y="263"/>
                    </a:lnTo>
                    <a:lnTo>
                      <a:pt x="704" y="291"/>
                    </a:lnTo>
                    <a:lnTo>
                      <a:pt x="707" y="297"/>
                    </a:lnTo>
                    <a:lnTo>
                      <a:pt x="664" y="371"/>
                    </a:lnTo>
                    <a:lnTo>
                      <a:pt x="650" y="409"/>
                    </a:lnTo>
                    <a:lnTo>
                      <a:pt x="634" y="423"/>
                    </a:lnTo>
                    <a:lnTo>
                      <a:pt x="617" y="433"/>
                    </a:lnTo>
                    <a:lnTo>
                      <a:pt x="596" y="442"/>
                    </a:lnTo>
                    <a:lnTo>
                      <a:pt x="581" y="445"/>
                    </a:lnTo>
                    <a:lnTo>
                      <a:pt x="568" y="446"/>
                    </a:lnTo>
                    <a:close/>
                    <a:moveTo>
                      <a:pt x="84" y="467"/>
                    </a:moveTo>
                    <a:lnTo>
                      <a:pt x="77" y="472"/>
                    </a:lnTo>
                    <a:lnTo>
                      <a:pt x="79" y="477"/>
                    </a:lnTo>
                    <a:lnTo>
                      <a:pt x="81" y="481"/>
                    </a:lnTo>
                    <a:lnTo>
                      <a:pt x="84" y="477"/>
                    </a:lnTo>
                    <a:lnTo>
                      <a:pt x="85" y="471"/>
                    </a:lnTo>
                    <a:lnTo>
                      <a:pt x="84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3936960" y="2082960"/>
                <a:ext cx="249120" cy="291960"/>
              </a:xfrm>
              <a:custGeom>
                <a:avLst/>
                <a:gdLst/>
                <a:ahLst/>
                <a:rect l="l" t="t" r="r" b="b"/>
                <a:pathLst>
                  <a:path w="788" h="919"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3"/>
                    </a:lnTo>
                    <a:lnTo>
                      <a:pt x="557" y="620"/>
                    </a:lnTo>
                    <a:lnTo>
                      <a:pt x="547" y="667"/>
                    </a:lnTo>
                    <a:lnTo>
                      <a:pt x="537" y="699"/>
                    </a:lnTo>
                    <a:lnTo>
                      <a:pt x="528" y="705"/>
                    </a:lnTo>
                    <a:lnTo>
                      <a:pt x="519" y="712"/>
                    </a:lnTo>
                    <a:lnTo>
                      <a:pt x="512" y="746"/>
                    </a:lnTo>
                    <a:lnTo>
                      <a:pt x="512" y="752"/>
                    </a:lnTo>
                    <a:lnTo>
                      <a:pt x="515" y="758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7" y="777"/>
                    </a:lnTo>
                    <a:lnTo>
                      <a:pt x="523" y="784"/>
                    </a:lnTo>
                    <a:lnTo>
                      <a:pt x="526" y="792"/>
                    </a:lnTo>
                    <a:lnTo>
                      <a:pt x="534" y="794"/>
                    </a:lnTo>
                    <a:lnTo>
                      <a:pt x="537" y="799"/>
                    </a:lnTo>
                    <a:lnTo>
                      <a:pt x="541" y="804"/>
                    </a:lnTo>
                    <a:lnTo>
                      <a:pt x="544" y="811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9"/>
                    </a:lnTo>
                    <a:lnTo>
                      <a:pt x="590" y="844"/>
                    </a:lnTo>
                    <a:lnTo>
                      <a:pt x="590" y="855"/>
                    </a:lnTo>
                    <a:lnTo>
                      <a:pt x="579" y="857"/>
                    </a:lnTo>
                    <a:lnTo>
                      <a:pt x="565" y="860"/>
                    </a:lnTo>
                    <a:lnTo>
                      <a:pt x="542" y="858"/>
                    </a:lnTo>
                    <a:lnTo>
                      <a:pt x="522" y="855"/>
                    </a:lnTo>
                    <a:lnTo>
                      <a:pt x="499" y="847"/>
                    </a:lnTo>
                    <a:lnTo>
                      <a:pt x="482" y="840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10"/>
                    </a:lnTo>
                    <a:lnTo>
                      <a:pt x="424" y="800"/>
                    </a:lnTo>
                    <a:lnTo>
                      <a:pt x="425" y="790"/>
                    </a:lnTo>
                    <a:lnTo>
                      <a:pt x="427" y="781"/>
                    </a:lnTo>
                    <a:lnTo>
                      <a:pt x="430" y="774"/>
                    </a:lnTo>
                    <a:lnTo>
                      <a:pt x="434" y="765"/>
                    </a:lnTo>
                    <a:lnTo>
                      <a:pt x="439" y="758"/>
                    </a:lnTo>
                    <a:lnTo>
                      <a:pt x="439" y="749"/>
                    </a:lnTo>
                    <a:lnTo>
                      <a:pt x="439" y="741"/>
                    </a:lnTo>
                    <a:lnTo>
                      <a:pt x="441" y="735"/>
                    </a:lnTo>
                    <a:lnTo>
                      <a:pt x="445" y="730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8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1" y="624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1" y="596"/>
                    </a:lnTo>
                    <a:lnTo>
                      <a:pt x="426" y="613"/>
                    </a:lnTo>
                    <a:lnTo>
                      <a:pt x="413" y="626"/>
                    </a:lnTo>
                    <a:lnTo>
                      <a:pt x="397" y="640"/>
                    </a:lnTo>
                    <a:lnTo>
                      <a:pt x="384" y="651"/>
                    </a:lnTo>
                    <a:lnTo>
                      <a:pt x="367" y="665"/>
                    </a:lnTo>
                    <a:lnTo>
                      <a:pt x="351" y="677"/>
                    </a:lnTo>
                    <a:lnTo>
                      <a:pt x="333" y="687"/>
                    </a:lnTo>
                    <a:lnTo>
                      <a:pt x="315" y="698"/>
                    </a:lnTo>
                    <a:lnTo>
                      <a:pt x="297" y="704"/>
                    </a:lnTo>
                    <a:lnTo>
                      <a:pt x="281" y="711"/>
                    </a:lnTo>
                    <a:lnTo>
                      <a:pt x="265" y="715"/>
                    </a:lnTo>
                    <a:lnTo>
                      <a:pt x="251" y="772"/>
                    </a:lnTo>
                    <a:lnTo>
                      <a:pt x="250" y="788"/>
                    </a:lnTo>
                    <a:lnTo>
                      <a:pt x="248" y="804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70"/>
                    </a:lnTo>
                    <a:lnTo>
                      <a:pt x="214" y="879"/>
                    </a:lnTo>
                    <a:lnTo>
                      <a:pt x="211" y="888"/>
                    </a:lnTo>
                    <a:lnTo>
                      <a:pt x="206" y="898"/>
                    </a:lnTo>
                    <a:lnTo>
                      <a:pt x="196" y="907"/>
                    </a:lnTo>
                    <a:lnTo>
                      <a:pt x="182" y="913"/>
                    </a:lnTo>
                    <a:lnTo>
                      <a:pt x="161" y="919"/>
                    </a:lnTo>
                    <a:lnTo>
                      <a:pt x="143" y="919"/>
                    </a:lnTo>
                    <a:lnTo>
                      <a:pt x="125" y="915"/>
                    </a:lnTo>
                    <a:lnTo>
                      <a:pt x="112" y="910"/>
                    </a:lnTo>
                    <a:lnTo>
                      <a:pt x="101" y="901"/>
                    </a:lnTo>
                    <a:lnTo>
                      <a:pt x="94" y="895"/>
                    </a:lnTo>
                    <a:lnTo>
                      <a:pt x="86" y="893"/>
                    </a:lnTo>
                    <a:lnTo>
                      <a:pt x="76" y="877"/>
                    </a:lnTo>
                    <a:lnTo>
                      <a:pt x="71" y="858"/>
                    </a:lnTo>
                    <a:lnTo>
                      <a:pt x="65" y="843"/>
                    </a:lnTo>
                    <a:lnTo>
                      <a:pt x="62" y="824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7"/>
                    </a:lnTo>
                    <a:lnTo>
                      <a:pt x="73" y="734"/>
                    </a:lnTo>
                    <a:lnTo>
                      <a:pt x="79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0"/>
                    </a:lnTo>
                    <a:lnTo>
                      <a:pt x="66" y="641"/>
                    </a:lnTo>
                    <a:lnTo>
                      <a:pt x="59" y="639"/>
                    </a:lnTo>
                    <a:lnTo>
                      <a:pt x="54" y="637"/>
                    </a:lnTo>
                    <a:lnTo>
                      <a:pt x="51" y="631"/>
                    </a:lnTo>
                    <a:lnTo>
                      <a:pt x="49" y="626"/>
                    </a:lnTo>
                    <a:lnTo>
                      <a:pt x="44" y="627"/>
                    </a:lnTo>
                    <a:lnTo>
                      <a:pt x="36" y="626"/>
                    </a:lnTo>
                    <a:lnTo>
                      <a:pt x="31" y="623"/>
                    </a:lnTo>
                    <a:lnTo>
                      <a:pt x="24" y="617"/>
                    </a:lnTo>
                    <a:lnTo>
                      <a:pt x="20" y="610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2" y="544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2" y="508"/>
                    </a:lnTo>
                    <a:lnTo>
                      <a:pt x="6" y="499"/>
                    </a:lnTo>
                    <a:lnTo>
                      <a:pt x="7" y="493"/>
                    </a:lnTo>
                    <a:lnTo>
                      <a:pt x="10" y="489"/>
                    </a:lnTo>
                    <a:lnTo>
                      <a:pt x="12" y="480"/>
                    </a:lnTo>
                    <a:lnTo>
                      <a:pt x="13" y="475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9" y="441"/>
                    </a:lnTo>
                    <a:lnTo>
                      <a:pt x="30" y="438"/>
                    </a:lnTo>
                    <a:lnTo>
                      <a:pt x="31" y="436"/>
                    </a:lnTo>
                    <a:lnTo>
                      <a:pt x="34" y="436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6"/>
                    </a:lnTo>
                    <a:lnTo>
                      <a:pt x="57" y="436"/>
                    </a:lnTo>
                    <a:lnTo>
                      <a:pt x="59" y="438"/>
                    </a:lnTo>
                    <a:lnTo>
                      <a:pt x="61" y="442"/>
                    </a:lnTo>
                    <a:lnTo>
                      <a:pt x="62" y="450"/>
                    </a:lnTo>
                    <a:lnTo>
                      <a:pt x="62" y="457"/>
                    </a:lnTo>
                    <a:lnTo>
                      <a:pt x="61" y="462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7"/>
                    </a:lnTo>
                    <a:lnTo>
                      <a:pt x="62" y="450"/>
                    </a:lnTo>
                    <a:lnTo>
                      <a:pt x="74" y="449"/>
                    </a:lnTo>
                    <a:lnTo>
                      <a:pt x="77" y="450"/>
                    </a:lnTo>
                    <a:lnTo>
                      <a:pt x="80" y="451"/>
                    </a:lnTo>
                    <a:lnTo>
                      <a:pt x="85" y="453"/>
                    </a:lnTo>
                    <a:lnTo>
                      <a:pt x="81" y="439"/>
                    </a:lnTo>
                    <a:lnTo>
                      <a:pt x="78" y="425"/>
                    </a:lnTo>
                    <a:lnTo>
                      <a:pt x="100" y="334"/>
                    </a:lnTo>
                    <a:lnTo>
                      <a:pt x="105" y="318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1" y="276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8"/>
                    </a:lnTo>
                    <a:lnTo>
                      <a:pt x="152" y="184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6"/>
                    </a:lnTo>
                    <a:lnTo>
                      <a:pt x="206" y="156"/>
                    </a:lnTo>
                    <a:lnTo>
                      <a:pt x="216" y="159"/>
                    </a:lnTo>
                    <a:lnTo>
                      <a:pt x="240" y="154"/>
                    </a:lnTo>
                    <a:lnTo>
                      <a:pt x="242" y="145"/>
                    </a:lnTo>
                    <a:lnTo>
                      <a:pt x="239" y="131"/>
                    </a:lnTo>
                    <a:lnTo>
                      <a:pt x="241" y="130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6" y="34"/>
                    </a:lnTo>
                    <a:lnTo>
                      <a:pt x="265" y="25"/>
                    </a:lnTo>
                    <a:lnTo>
                      <a:pt x="288" y="13"/>
                    </a:lnTo>
                    <a:lnTo>
                      <a:pt x="305" y="8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7"/>
                    </a:lnTo>
                    <a:lnTo>
                      <a:pt x="387" y="11"/>
                    </a:lnTo>
                    <a:lnTo>
                      <a:pt x="397" y="21"/>
                    </a:lnTo>
                    <a:lnTo>
                      <a:pt x="405" y="33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7" y="92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1" y="108"/>
                    </a:lnTo>
                    <a:lnTo>
                      <a:pt x="414" y="114"/>
                    </a:lnTo>
                    <a:lnTo>
                      <a:pt x="416" y="130"/>
                    </a:lnTo>
                    <a:lnTo>
                      <a:pt x="417" y="144"/>
                    </a:lnTo>
                    <a:lnTo>
                      <a:pt x="417" y="155"/>
                    </a:lnTo>
                    <a:lnTo>
                      <a:pt x="426" y="156"/>
                    </a:lnTo>
                    <a:lnTo>
                      <a:pt x="437" y="176"/>
                    </a:lnTo>
                    <a:lnTo>
                      <a:pt x="517" y="263"/>
                    </a:lnTo>
                    <a:lnTo>
                      <a:pt x="522" y="269"/>
                    </a:lnTo>
                    <a:lnTo>
                      <a:pt x="523" y="275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2"/>
                    </a:lnTo>
                    <a:lnTo>
                      <a:pt x="512" y="297"/>
                    </a:lnTo>
                    <a:lnTo>
                      <a:pt x="508" y="302"/>
                    </a:lnTo>
                    <a:lnTo>
                      <a:pt x="512" y="305"/>
                    </a:lnTo>
                    <a:lnTo>
                      <a:pt x="514" y="309"/>
                    </a:lnTo>
                    <a:lnTo>
                      <a:pt x="519" y="317"/>
                    </a:lnTo>
                    <a:lnTo>
                      <a:pt x="528" y="323"/>
                    </a:lnTo>
                    <a:lnTo>
                      <a:pt x="536" y="328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2"/>
                    </a:lnTo>
                    <a:lnTo>
                      <a:pt x="580" y="330"/>
                    </a:lnTo>
                    <a:lnTo>
                      <a:pt x="591" y="328"/>
                    </a:lnTo>
                    <a:lnTo>
                      <a:pt x="598" y="325"/>
                    </a:lnTo>
                    <a:lnTo>
                      <a:pt x="628" y="305"/>
                    </a:lnTo>
                    <a:lnTo>
                      <a:pt x="666" y="263"/>
                    </a:lnTo>
                    <a:lnTo>
                      <a:pt x="671" y="264"/>
                    </a:lnTo>
                    <a:lnTo>
                      <a:pt x="692" y="240"/>
                    </a:lnTo>
                    <a:lnTo>
                      <a:pt x="693" y="234"/>
                    </a:lnTo>
                    <a:lnTo>
                      <a:pt x="698" y="228"/>
                    </a:lnTo>
                    <a:lnTo>
                      <a:pt x="703" y="221"/>
                    </a:lnTo>
                    <a:lnTo>
                      <a:pt x="788" y="218"/>
                    </a:lnTo>
                    <a:lnTo>
                      <a:pt x="732" y="251"/>
                    </a:lnTo>
                    <a:lnTo>
                      <a:pt x="721" y="263"/>
                    </a:lnTo>
                    <a:lnTo>
                      <a:pt x="704" y="291"/>
                    </a:lnTo>
                    <a:lnTo>
                      <a:pt x="707" y="297"/>
                    </a:lnTo>
                    <a:lnTo>
                      <a:pt x="664" y="371"/>
                    </a:lnTo>
                    <a:lnTo>
                      <a:pt x="650" y="409"/>
                    </a:lnTo>
                    <a:lnTo>
                      <a:pt x="634" y="423"/>
                    </a:lnTo>
                    <a:lnTo>
                      <a:pt x="617" y="433"/>
                    </a:lnTo>
                    <a:lnTo>
                      <a:pt x="596" y="442"/>
                    </a:lnTo>
                    <a:lnTo>
                      <a:pt x="581" y="445"/>
                    </a:lnTo>
                    <a:lnTo>
                      <a:pt x="568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4075200" y="2122560"/>
                <a:ext cx="196920" cy="57240"/>
              </a:xfrm>
              <a:custGeom>
                <a:avLst/>
                <a:gdLst/>
                <a:ahLst/>
                <a:rect l="l" t="t" r="r" b="b"/>
                <a:pathLst>
                  <a:path w="620" h="177">
                    <a:moveTo>
                      <a:pt x="436" y="85"/>
                    </a:moveTo>
                    <a:lnTo>
                      <a:pt x="426" y="82"/>
                    </a:lnTo>
                    <a:lnTo>
                      <a:pt x="362" y="84"/>
                    </a:lnTo>
                    <a:lnTo>
                      <a:pt x="359" y="87"/>
                    </a:lnTo>
                    <a:lnTo>
                      <a:pt x="428" y="90"/>
                    </a:lnTo>
                    <a:lnTo>
                      <a:pt x="424" y="92"/>
                    </a:lnTo>
                    <a:lnTo>
                      <a:pt x="351" y="92"/>
                    </a:lnTo>
                    <a:lnTo>
                      <a:pt x="267" y="95"/>
                    </a:lnTo>
                    <a:lnTo>
                      <a:pt x="247" y="95"/>
                    </a:lnTo>
                    <a:lnTo>
                      <a:pt x="175" y="124"/>
                    </a:lnTo>
                    <a:lnTo>
                      <a:pt x="175" y="166"/>
                    </a:lnTo>
                    <a:lnTo>
                      <a:pt x="127" y="177"/>
                    </a:lnTo>
                    <a:lnTo>
                      <a:pt x="127" y="137"/>
                    </a:lnTo>
                    <a:lnTo>
                      <a:pt x="123" y="126"/>
                    </a:lnTo>
                    <a:lnTo>
                      <a:pt x="123" y="116"/>
                    </a:lnTo>
                    <a:lnTo>
                      <a:pt x="121" y="113"/>
                    </a:lnTo>
                    <a:lnTo>
                      <a:pt x="119" y="111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97" y="108"/>
                    </a:lnTo>
                    <a:lnTo>
                      <a:pt x="103" y="117"/>
                    </a:lnTo>
                    <a:lnTo>
                      <a:pt x="104" y="123"/>
                    </a:lnTo>
                    <a:lnTo>
                      <a:pt x="104" y="126"/>
                    </a:lnTo>
                    <a:lnTo>
                      <a:pt x="101" y="128"/>
                    </a:lnTo>
                    <a:lnTo>
                      <a:pt x="98" y="130"/>
                    </a:lnTo>
                    <a:lnTo>
                      <a:pt x="118" y="130"/>
                    </a:lnTo>
                    <a:lnTo>
                      <a:pt x="120" y="130"/>
                    </a:lnTo>
                    <a:lnTo>
                      <a:pt x="121" y="128"/>
                    </a:lnTo>
                    <a:lnTo>
                      <a:pt x="123" y="126"/>
                    </a:lnTo>
                    <a:lnTo>
                      <a:pt x="127" y="137"/>
                    </a:lnTo>
                    <a:lnTo>
                      <a:pt x="80" y="137"/>
                    </a:lnTo>
                    <a:lnTo>
                      <a:pt x="0" y="50"/>
                    </a:lnTo>
                    <a:lnTo>
                      <a:pt x="31" y="50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7" y="18"/>
                    </a:lnTo>
                    <a:lnTo>
                      <a:pt x="51" y="18"/>
                    </a:lnTo>
                    <a:lnTo>
                      <a:pt x="53" y="9"/>
                    </a:lnTo>
                    <a:lnTo>
                      <a:pt x="58" y="5"/>
                    </a:lnTo>
                    <a:lnTo>
                      <a:pt x="65" y="4"/>
                    </a:lnTo>
                    <a:lnTo>
                      <a:pt x="178" y="14"/>
                    </a:lnTo>
                    <a:lnTo>
                      <a:pt x="183" y="16"/>
                    </a:lnTo>
                    <a:lnTo>
                      <a:pt x="187" y="19"/>
                    </a:lnTo>
                    <a:lnTo>
                      <a:pt x="189" y="24"/>
                    </a:lnTo>
                    <a:lnTo>
                      <a:pt x="189" y="30"/>
                    </a:lnTo>
                    <a:lnTo>
                      <a:pt x="188" y="35"/>
                    </a:lnTo>
                    <a:lnTo>
                      <a:pt x="187" y="37"/>
                    </a:lnTo>
                    <a:lnTo>
                      <a:pt x="181" y="37"/>
                    </a:lnTo>
                    <a:lnTo>
                      <a:pt x="182" y="33"/>
                    </a:lnTo>
                    <a:lnTo>
                      <a:pt x="184" y="29"/>
                    </a:lnTo>
                    <a:lnTo>
                      <a:pt x="184" y="24"/>
                    </a:lnTo>
                    <a:lnTo>
                      <a:pt x="181" y="20"/>
                    </a:lnTo>
                    <a:lnTo>
                      <a:pt x="175" y="18"/>
                    </a:lnTo>
                    <a:lnTo>
                      <a:pt x="90" y="18"/>
                    </a:lnTo>
                    <a:lnTo>
                      <a:pt x="87" y="22"/>
                    </a:lnTo>
                    <a:lnTo>
                      <a:pt x="85" y="28"/>
                    </a:lnTo>
                    <a:lnTo>
                      <a:pt x="84" y="32"/>
                    </a:lnTo>
                    <a:lnTo>
                      <a:pt x="84" y="36"/>
                    </a:lnTo>
                    <a:lnTo>
                      <a:pt x="85" y="38"/>
                    </a:lnTo>
                    <a:lnTo>
                      <a:pt x="88" y="40"/>
                    </a:lnTo>
                    <a:lnTo>
                      <a:pt x="175" y="40"/>
                    </a:lnTo>
                    <a:lnTo>
                      <a:pt x="181" y="37"/>
                    </a:lnTo>
                    <a:lnTo>
                      <a:pt x="187" y="37"/>
                    </a:lnTo>
                    <a:lnTo>
                      <a:pt x="439" y="37"/>
                    </a:lnTo>
                    <a:lnTo>
                      <a:pt x="445" y="38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8"/>
                    </a:lnTo>
                    <a:lnTo>
                      <a:pt x="469" y="28"/>
                    </a:lnTo>
                    <a:lnTo>
                      <a:pt x="469" y="15"/>
                    </a:lnTo>
                    <a:lnTo>
                      <a:pt x="460" y="15"/>
                    </a:lnTo>
                    <a:lnTo>
                      <a:pt x="444" y="36"/>
                    </a:lnTo>
                    <a:lnTo>
                      <a:pt x="444" y="38"/>
                    </a:lnTo>
                    <a:lnTo>
                      <a:pt x="445" y="38"/>
                    </a:lnTo>
                    <a:lnTo>
                      <a:pt x="439" y="37"/>
                    </a:lnTo>
                    <a:lnTo>
                      <a:pt x="465" y="3"/>
                    </a:lnTo>
                    <a:lnTo>
                      <a:pt x="469" y="0"/>
                    </a:lnTo>
                    <a:lnTo>
                      <a:pt x="473" y="3"/>
                    </a:lnTo>
                    <a:lnTo>
                      <a:pt x="478" y="6"/>
                    </a:lnTo>
                    <a:lnTo>
                      <a:pt x="480" y="48"/>
                    </a:lnTo>
                    <a:lnTo>
                      <a:pt x="548" y="48"/>
                    </a:lnTo>
                    <a:lnTo>
                      <a:pt x="555" y="44"/>
                    </a:lnTo>
                    <a:lnTo>
                      <a:pt x="603" y="43"/>
                    </a:lnTo>
                    <a:lnTo>
                      <a:pt x="608" y="36"/>
                    </a:lnTo>
                    <a:lnTo>
                      <a:pt x="617" y="36"/>
                    </a:lnTo>
                    <a:lnTo>
                      <a:pt x="617" y="43"/>
                    </a:lnTo>
                    <a:lnTo>
                      <a:pt x="620" y="43"/>
                    </a:lnTo>
                    <a:lnTo>
                      <a:pt x="620" y="63"/>
                    </a:lnTo>
                    <a:lnTo>
                      <a:pt x="607" y="63"/>
                    </a:lnTo>
                    <a:lnTo>
                      <a:pt x="601" y="60"/>
                    </a:lnTo>
                    <a:lnTo>
                      <a:pt x="480" y="60"/>
                    </a:lnTo>
                    <a:lnTo>
                      <a:pt x="480" y="65"/>
                    </a:lnTo>
                    <a:lnTo>
                      <a:pt x="469" y="65"/>
                    </a:lnTo>
                    <a:lnTo>
                      <a:pt x="469" y="63"/>
                    </a:lnTo>
                    <a:lnTo>
                      <a:pt x="448" y="63"/>
                    </a:lnTo>
                    <a:lnTo>
                      <a:pt x="448" y="74"/>
                    </a:lnTo>
                    <a:lnTo>
                      <a:pt x="441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4127400" y="2397240"/>
                <a:ext cx="165240" cy="250560"/>
              </a:xfrm>
              <a:custGeom>
                <a:avLst/>
                <a:gdLst/>
                <a:ahLst/>
                <a:rect l="l" t="t" r="r" b="b"/>
                <a:pathLst>
                  <a:path w="522" h="789">
                    <a:moveTo>
                      <a:pt x="416" y="452"/>
                    </a:moveTo>
                    <a:lnTo>
                      <a:pt x="430" y="440"/>
                    </a:lnTo>
                    <a:lnTo>
                      <a:pt x="444" y="432"/>
                    </a:lnTo>
                    <a:lnTo>
                      <a:pt x="444" y="432"/>
                    </a:lnTo>
                    <a:lnTo>
                      <a:pt x="424" y="458"/>
                    </a:lnTo>
                    <a:lnTo>
                      <a:pt x="402" y="483"/>
                    </a:lnTo>
                    <a:lnTo>
                      <a:pt x="382" y="508"/>
                    </a:lnTo>
                    <a:lnTo>
                      <a:pt x="359" y="533"/>
                    </a:lnTo>
                    <a:lnTo>
                      <a:pt x="337" y="557"/>
                    </a:lnTo>
                    <a:lnTo>
                      <a:pt x="314" y="580"/>
                    </a:lnTo>
                    <a:lnTo>
                      <a:pt x="291" y="604"/>
                    </a:lnTo>
                    <a:lnTo>
                      <a:pt x="267" y="626"/>
                    </a:lnTo>
                    <a:lnTo>
                      <a:pt x="242" y="648"/>
                    </a:lnTo>
                    <a:lnTo>
                      <a:pt x="218" y="670"/>
                    </a:lnTo>
                    <a:lnTo>
                      <a:pt x="193" y="692"/>
                    </a:lnTo>
                    <a:lnTo>
                      <a:pt x="167" y="712"/>
                    </a:lnTo>
                    <a:lnTo>
                      <a:pt x="140" y="732"/>
                    </a:lnTo>
                    <a:lnTo>
                      <a:pt x="114" y="751"/>
                    </a:lnTo>
                    <a:lnTo>
                      <a:pt x="87" y="771"/>
                    </a:lnTo>
                    <a:lnTo>
                      <a:pt x="59" y="789"/>
                    </a:lnTo>
                    <a:lnTo>
                      <a:pt x="58" y="775"/>
                    </a:lnTo>
                    <a:lnTo>
                      <a:pt x="68" y="756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9"/>
                    </a:lnTo>
                    <a:lnTo>
                      <a:pt x="54" y="684"/>
                    </a:lnTo>
                    <a:lnTo>
                      <a:pt x="63" y="670"/>
                    </a:lnTo>
                    <a:lnTo>
                      <a:pt x="74" y="641"/>
                    </a:lnTo>
                    <a:lnTo>
                      <a:pt x="65" y="642"/>
                    </a:lnTo>
                    <a:lnTo>
                      <a:pt x="58" y="640"/>
                    </a:lnTo>
                    <a:lnTo>
                      <a:pt x="54" y="637"/>
                    </a:lnTo>
                    <a:lnTo>
                      <a:pt x="50" y="631"/>
                    </a:lnTo>
                    <a:lnTo>
                      <a:pt x="48" y="627"/>
                    </a:lnTo>
                    <a:lnTo>
                      <a:pt x="43" y="628"/>
                    </a:lnTo>
                    <a:lnTo>
                      <a:pt x="35" y="627"/>
                    </a:lnTo>
                    <a:lnTo>
                      <a:pt x="30" y="622"/>
                    </a:lnTo>
                    <a:lnTo>
                      <a:pt x="23" y="618"/>
                    </a:lnTo>
                    <a:lnTo>
                      <a:pt x="19" y="610"/>
                    </a:lnTo>
                    <a:lnTo>
                      <a:pt x="14" y="602"/>
                    </a:lnTo>
                    <a:lnTo>
                      <a:pt x="12" y="593"/>
                    </a:lnTo>
                    <a:lnTo>
                      <a:pt x="6" y="591"/>
                    </a:lnTo>
                    <a:lnTo>
                      <a:pt x="1" y="544"/>
                    </a:lnTo>
                    <a:lnTo>
                      <a:pt x="6" y="543"/>
                    </a:lnTo>
                    <a:lnTo>
                      <a:pt x="6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5" y="499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2" y="480"/>
                    </a:lnTo>
                    <a:lnTo>
                      <a:pt x="13" y="476"/>
                    </a:lnTo>
                    <a:lnTo>
                      <a:pt x="15" y="470"/>
                    </a:lnTo>
                    <a:lnTo>
                      <a:pt x="29" y="467"/>
                    </a:lnTo>
                    <a:lnTo>
                      <a:pt x="23" y="457"/>
                    </a:lnTo>
                    <a:lnTo>
                      <a:pt x="28" y="442"/>
                    </a:lnTo>
                    <a:lnTo>
                      <a:pt x="29" y="438"/>
                    </a:lnTo>
                    <a:lnTo>
                      <a:pt x="30" y="436"/>
                    </a:lnTo>
                    <a:lnTo>
                      <a:pt x="33" y="436"/>
                    </a:lnTo>
                    <a:lnTo>
                      <a:pt x="33" y="431"/>
                    </a:lnTo>
                    <a:lnTo>
                      <a:pt x="54" y="431"/>
                    </a:lnTo>
                    <a:lnTo>
                      <a:pt x="54" y="436"/>
                    </a:lnTo>
                    <a:lnTo>
                      <a:pt x="56" y="436"/>
                    </a:lnTo>
                    <a:lnTo>
                      <a:pt x="58" y="438"/>
                    </a:lnTo>
                    <a:lnTo>
                      <a:pt x="59" y="443"/>
                    </a:lnTo>
                    <a:lnTo>
                      <a:pt x="60" y="451"/>
                    </a:lnTo>
                    <a:lnTo>
                      <a:pt x="60" y="457"/>
                    </a:lnTo>
                    <a:lnTo>
                      <a:pt x="59" y="461"/>
                    </a:lnTo>
                    <a:lnTo>
                      <a:pt x="57" y="465"/>
                    </a:lnTo>
                    <a:lnTo>
                      <a:pt x="60" y="467"/>
                    </a:lnTo>
                    <a:lnTo>
                      <a:pt x="65" y="467"/>
                    </a:lnTo>
                    <a:lnTo>
                      <a:pt x="69" y="465"/>
                    </a:lnTo>
                    <a:lnTo>
                      <a:pt x="72" y="460"/>
                    </a:lnTo>
                    <a:lnTo>
                      <a:pt x="70" y="456"/>
                    </a:lnTo>
                    <a:lnTo>
                      <a:pt x="60" y="457"/>
                    </a:lnTo>
                    <a:lnTo>
                      <a:pt x="60" y="451"/>
                    </a:lnTo>
                    <a:lnTo>
                      <a:pt x="73" y="449"/>
                    </a:lnTo>
                    <a:lnTo>
                      <a:pt x="76" y="451"/>
                    </a:lnTo>
                    <a:lnTo>
                      <a:pt x="79" y="452"/>
                    </a:lnTo>
                    <a:lnTo>
                      <a:pt x="83" y="454"/>
                    </a:lnTo>
                    <a:lnTo>
                      <a:pt x="81" y="440"/>
                    </a:lnTo>
                    <a:lnTo>
                      <a:pt x="77" y="425"/>
                    </a:lnTo>
                    <a:lnTo>
                      <a:pt x="99" y="334"/>
                    </a:lnTo>
                    <a:lnTo>
                      <a:pt x="103" y="318"/>
                    </a:lnTo>
                    <a:lnTo>
                      <a:pt x="109" y="307"/>
                    </a:lnTo>
                    <a:lnTo>
                      <a:pt x="115" y="298"/>
                    </a:lnTo>
                    <a:lnTo>
                      <a:pt x="110" y="277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3" y="233"/>
                    </a:lnTo>
                    <a:lnTo>
                      <a:pt x="124" y="214"/>
                    </a:lnTo>
                    <a:lnTo>
                      <a:pt x="135" y="198"/>
                    </a:lnTo>
                    <a:lnTo>
                      <a:pt x="151" y="184"/>
                    </a:lnTo>
                    <a:lnTo>
                      <a:pt x="166" y="174"/>
                    </a:lnTo>
                    <a:lnTo>
                      <a:pt x="176" y="164"/>
                    </a:lnTo>
                    <a:lnTo>
                      <a:pt x="185" y="159"/>
                    </a:lnTo>
                    <a:lnTo>
                      <a:pt x="195" y="157"/>
                    </a:lnTo>
                    <a:lnTo>
                      <a:pt x="205" y="157"/>
                    </a:lnTo>
                    <a:lnTo>
                      <a:pt x="215" y="159"/>
                    </a:lnTo>
                    <a:lnTo>
                      <a:pt x="239" y="154"/>
                    </a:lnTo>
                    <a:lnTo>
                      <a:pt x="241" y="146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5"/>
                    </a:lnTo>
                    <a:lnTo>
                      <a:pt x="237" y="98"/>
                    </a:lnTo>
                    <a:lnTo>
                      <a:pt x="237" y="82"/>
                    </a:lnTo>
                    <a:lnTo>
                      <a:pt x="240" y="65"/>
                    </a:lnTo>
                    <a:lnTo>
                      <a:pt x="246" y="48"/>
                    </a:lnTo>
                    <a:lnTo>
                      <a:pt x="255" y="35"/>
                    </a:lnTo>
                    <a:lnTo>
                      <a:pt x="264" y="26"/>
                    </a:lnTo>
                    <a:lnTo>
                      <a:pt x="287" y="14"/>
                    </a:lnTo>
                    <a:lnTo>
                      <a:pt x="304" y="8"/>
                    </a:lnTo>
                    <a:lnTo>
                      <a:pt x="320" y="3"/>
                    </a:lnTo>
                    <a:lnTo>
                      <a:pt x="339" y="0"/>
                    </a:lnTo>
                    <a:lnTo>
                      <a:pt x="351" y="0"/>
                    </a:lnTo>
                    <a:lnTo>
                      <a:pt x="366" y="3"/>
                    </a:lnTo>
                    <a:lnTo>
                      <a:pt x="376" y="7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2"/>
                    </a:lnTo>
                    <a:lnTo>
                      <a:pt x="416" y="57"/>
                    </a:lnTo>
                    <a:lnTo>
                      <a:pt x="429" y="85"/>
                    </a:lnTo>
                    <a:lnTo>
                      <a:pt x="436" y="93"/>
                    </a:lnTo>
                    <a:lnTo>
                      <a:pt x="438" y="98"/>
                    </a:lnTo>
                    <a:lnTo>
                      <a:pt x="437" y="104"/>
                    </a:lnTo>
                    <a:lnTo>
                      <a:pt x="430" y="108"/>
                    </a:lnTo>
                    <a:lnTo>
                      <a:pt x="413" y="115"/>
                    </a:lnTo>
                    <a:lnTo>
                      <a:pt x="415" y="130"/>
                    </a:lnTo>
                    <a:lnTo>
                      <a:pt x="416" y="145"/>
                    </a:lnTo>
                    <a:lnTo>
                      <a:pt x="416" y="156"/>
                    </a:lnTo>
                    <a:lnTo>
                      <a:pt x="425" y="157"/>
                    </a:lnTo>
                    <a:lnTo>
                      <a:pt x="436" y="177"/>
                    </a:lnTo>
                    <a:lnTo>
                      <a:pt x="517" y="263"/>
                    </a:lnTo>
                    <a:lnTo>
                      <a:pt x="521" y="269"/>
                    </a:lnTo>
                    <a:lnTo>
                      <a:pt x="522" y="275"/>
                    </a:lnTo>
                    <a:lnTo>
                      <a:pt x="521" y="281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2"/>
                    </a:lnTo>
                    <a:lnTo>
                      <a:pt x="511" y="298"/>
                    </a:lnTo>
                    <a:lnTo>
                      <a:pt x="507" y="302"/>
                    </a:lnTo>
                    <a:lnTo>
                      <a:pt x="511" y="305"/>
                    </a:lnTo>
                    <a:lnTo>
                      <a:pt x="513" y="310"/>
                    </a:lnTo>
                    <a:lnTo>
                      <a:pt x="518" y="317"/>
                    </a:lnTo>
                    <a:lnTo>
                      <a:pt x="522" y="320"/>
                    </a:lnTo>
                    <a:lnTo>
                      <a:pt x="514" y="332"/>
                    </a:lnTo>
                    <a:lnTo>
                      <a:pt x="507" y="343"/>
                    </a:lnTo>
                    <a:lnTo>
                      <a:pt x="499" y="355"/>
                    </a:lnTo>
                    <a:lnTo>
                      <a:pt x="492" y="366"/>
                    </a:lnTo>
                    <a:lnTo>
                      <a:pt x="483" y="377"/>
                    </a:lnTo>
                    <a:lnTo>
                      <a:pt x="476" y="389"/>
                    </a:lnTo>
                    <a:lnTo>
                      <a:pt x="468" y="400"/>
                    </a:lnTo>
                    <a:lnTo>
                      <a:pt x="459" y="412"/>
                    </a:lnTo>
                    <a:lnTo>
                      <a:pt x="445" y="402"/>
                    </a:lnTo>
                    <a:lnTo>
                      <a:pt x="434" y="393"/>
                    </a:lnTo>
                    <a:lnTo>
                      <a:pt x="419" y="384"/>
                    </a:lnTo>
                    <a:lnTo>
                      <a:pt x="421" y="401"/>
                    </a:lnTo>
                    <a:lnTo>
                      <a:pt x="418" y="416"/>
                    </a:lnTo>
                    <a:lnTo>
                      <a:pt x="416" y="452"/>
                    </a:lnTo>
                    <a:close/>
                    <a:moveTo>
                      <a:pt x="82" y="467"/>
                    </a:moveTo>
                    <a:lnTo>
                      <a:pt x="76" y="472"/>
                    </a:lnTo>
                    <a:lnTo>
                      <a:pt x="78" y="477"/>
                    </a:lnTo>
                    <a:lnTo>
                      <a:pt x="81" y="481"/>
                    </a:lnTo>
                    <a:lnTo>
                      <a:pt x="82" y="477"/>
                    </a:lnTo>
                    <a:lnTo>
                      <a:pt x="84" y="471"/>
                    </a:lnTo>
                    <a:lnTo>
                      <a:pt x="82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4127400" y="2397240"/>
                <a:ext cx="165240" cy="250560"/>
              </a:xfrm>
              <a:custGeom>
                <a:avLst/>
                <a:gdLst/>
                <a:ahLst/>
                <a:rect l="l" t="t" r="r" b="b"/>
                <a:pathLst>
                  <a:path w="522" h="789">
                    <a:moveTo>
                      <a:pt x="59" y="789"/>
                    </a:moveTo>
                    <a:lnTo>
                      <a:pt x="58" y="775"/>
                    </a:lnTo>
                    <a:lnTo>
                      <a:pt x="68" y="756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9"/>
                    </a:lnTo>
                    <a:lnTo>
                      <a:pt x="54" y="684"/>
                    </a:lnTo>
                    <a:lnTo>
                      <a:pt x="63" y="670"/>
                    </a:lnTo>
                    <a:lnTo>
                      <a:pt x="74" y="641"/>
                    </a:lnTo>
                    <a:lnTo>
                      <a:pt x="65" y="642"/>
                    </a:lnTo>
                    <a:lnTo>
                      <a:pt x="58" y="640"/>
                    </a:lnTo>
                    <a:lnTo>
                      <a:pt x="54" y="637"/>
                    </a:lnTo>
                    <a:lnTo>
                      <a:pt x="50" y="631"/>
                    </a:lnTo>
                    <a:lnTo>
                      <a:pt x="48" y="627"/>
                    </a:lnTo>
                    <a:lnTo>
                      <a:pt x="43" y="628"/>
                    </a:lnTo>
                    <a:lnTo>
                      <a:pt x="35" y="627"/>
                    </a:lnTo>
                    <a:lnTo>
                      <a:pt x="30" y="622"/>
                    </a:lnTo>
                    <a:lnTo>
                      <a:pt x="23" y="618"/>
                    </a:lnTo>
                    <a:lnTo>
                      <a:pt x="19" y="610"/>
                    </a:lnTo>
                    <a:lnTo>
                      <a:pt x="14" y="602"/>
                    </a:lnTo>
                    <a:lnTo>
                      <a:pt x="12" y="593"/>
                    </a:lnTo>
                    <a:lnTo>
                      <a:pt x="6" y="591"/>
                    </a:lnTo>
                    <a:lnTo>
                      <a:pt x="1" y="544"/>
                    </a:lnTo>
                    <a:lnTo>
                      <a:pt x="6" y="543"/>
                    </a:lnTo>
                    <a:lnTo>
                      <a:pt x="6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5" y="499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2" y="480"/>
                    </a:lnTo>
                    <a:lnTo>
                      <a:pt x="13" y="476"/>
                    </a:lnTo>
                    <a:lnTo>
                      <a:pt x="15" y="470"/>
                    </a:lnTo>
                    <a:lnTo>
                      <a:pt x="29" y="467"/>
                    </a:lnTo>
                    <a:lnTo>
                      <a:pt x="23" y="457"/>
                    </a:lnTo>
                    <a:lnTo>
                      <a:pt x="28" y="442"/>
                    </a:lnTo>
                    <a:lnTo>
                      <a:pt x="29" y="438"/>
                    </a:lnTo>
                    <a:lnTo>
                      <a:pt x="30" y="436"/>
                    </a:lnTo>
                    <a:lnTo>
                      <a:pt x="33" y="436"/>
                    </a:lnTo>
                    <a:lnTo>
                      <a:pt x="33" y="431"/>
                    </a:lnTo>
                    <a:lnTo>
                      <a:pt x="54" y="431"/>
                    </a:lnTo>
                    <a:lnTo>
                      <a:pt x="54" y="436"/>
                    </a:lnTo>
                    <a:lnTo>
                      <a:pt x="56" y="436"/>
                    </a:lnTo>
                    <a:lnTo>
                      <a:pt x="58" y="438"/>
                    </a:lnTo>
                    <a:lnTo>
                      <a:pt x="59" y="443"/>
                    </a:lnTo>
                    <a:lnTo>
                      <a:pt x="60" y="451"/>
                    </a:lnTo>
                    <a:lnTo>
                      <a:pt x="60" y="457"/>
                    </a:lnTo>
                    <a:lnTo>
                      <a:pt x="59" y="461"/>
                    </a:lnTo>
                    <a:lnTo>
                      <a:pt x="57" y="465"/>
                    </a:lnTo>
                    <a:lnTo>
                      <a:pt x="60" y="467"/>
                    </a:lnTo>
                    <a:lnTo>
                      <a:pt x="65" y="467"/>
                    </a:lnTo>
                    <a:lnTo>
                      <a:pt x="69" y="465"/>
                    </a:lnTo>
                    <a:lnTo>
                      <a:pt x="72" y="460"/>
                    </a:lnTo>
                    <a:lnTo>
                      <a:pt x="70" y="456"/>
                    </a:lnTo>
                    <a:lnTo>
                      <a:pt x="60" y="457"/>
                    </a:lnTo>
                    <a:lnTo>
                      <a:pt x="60" y="451"/>
                    </a:lnTo>
                    <a:lnTo>
                      <a:pt x="73" y="449"/>
                    </a:lnTo>
                    <a:lnTo>
                      <a:pt x="76" y="451"/>
                    </a:lnTo>
                    <a:lnTo>
                      <a:pt x="79" y="452"/>
                    </a:lnTo>
                    <a:lnTo>
                      <a:pt x="83" y="454"/>
                    </a:lnTo>
                    <a:lnTo>
                      <a:pt x="81" y="440"/>
                    </a:lnTo>
                    <a:lnTo>
                      <a:pt x="77" y="425"/>
                    </a:lnTo>
                    <a:lnTo>
                      <a:pt x="99" y="334"/>
                    </a:lnTo>
                    <a:lnTo>
                      <a:pt x="103" y="318"/>
                    </a:lnTo>
                    <a:lnTo>
                      <a:pt x="109" y="307"/>
                    </a:lnTo>
                    <a:lnTo>
                      <a:pt x="115" y="298"/>
                    </a:lnTo>
                    <a:lnTo>
                      <a:pt x="110" y="277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3" y="233"/>
                    </a:lnTo>
                    <a:lnTo>
                      <a:pt x="124" y="214"/>
                    </a:lnTo>
                    <a:lnTo>
                      <a:pt x="135" y="198"/>
                    </a:lnTo>
                    <a:lnTo>
                      <a:pt x="151" y="184"/>
                    </a:lnTo>
                    <a:lnTo>
                      <a:pt x="166" y="174"/>
                    </a:lnTo>
                    <a:lnTo>
                      <a:pt x="176" y="164"/>
                    </a:lnTo>
                    <a:lnTo>
                      <a:pt x="185" y="159"/>
                    </a:lnTo>
                    <a:lnTo>
                      <a:pt x="195" y="157"/>
                    </a:lnTo>
                    <a:lnTo>
                      <a:pt x="205" y="157"/>
                    </a:lnTo>
                    <a:lnTo>
                      <a:pt x="215" y="159"/>
                    </a:lnTo>
                    <a:lnTo>
                      <a:pt x="239" y="154"/>
                    </a:lnTo>
                    <a:lnTo>
                      <a:pt x="241" y="146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5"/>
                    </a:lnTo>
                    <a:lnTo>
                      <a:pt x="237" y="98"/>
                    </a:lnTo>
                    <a:lnTo>
                      <a:pt x="237" y="82"/>
                    </a:lnTo>
                    <a:lnTo>
                      <a:pt x="240" y="65"/>
                    </a:lnTo>
                    <a:lnTo>
                      <a:pt x="246" y="48"/>
                    </a:lnTo>
                    <a:lnTo>
                      <a:pt x="255" y="35"/>
                    </a:lnTo>
                    <a:lnTo>
                      <a:pt x="264" y="26"/>
                    </a:lnTo>
                    <a:lnTo>
                      <a:pt x="287" y="14"/>
                    </a:lnTo>
                    <a:lnTo>
                      <a:pt x="304" y="8"/>
                    </a:lnTo>
                    <a:lnTo>
                      <a:pt x="320" y="3"/>
                    </a:lnTo>
                    <a:lnTo>
                      <a:pt x="339" y="0"/>
                    </a:lnTo>
                    <a:lnTo>
                      <a:pt x="351" y="0"/>
                    </a:lnTo>
                    <a:lnTo>
                      <a:pt x="366" y="3"/>
                    </a:lnTo>
                    <a:lnTo>
                      <a:pt x="376" y="7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2"/>
                    </a:lnTo>
                    <a:lnTo>
                      <a:pt x="416" y="57"/>
                    </a:lnTo>
                    <a:lnTo>
                      <a:pt x="429" y="85"/>
                    </a:lnTo>
                    <a:lnTo>
                      <a:pt x="436" y="93"/>
                    </a:lnTo>
                    <a:lnTo>
                      <a:pt x="438" y="98"/>
                    </a:lnTo>
                    <a:lnTo>
                      <a:pt x="437" y="104"/>
                    </a:lnTo>
                    <a:lnTo>
                      <a:pt x="430" y="108"/>
                    </a:lnTo>
                    <a:lnTo>
                      <a:pt x="413" y="115"/>
                    </a:lnTo>
                    <a:lnTo>
                      <a:pt x="415" y="130"/>
                    </a:lnTo>
                    <a:lnTo>
                      <a:pt x="416" y="145"/>
                    </a:lnTo>
                    <a:lnTo>
                      <a:pt x="416" y="156"/>
                    </a:lnTo>
                    <a:lnTo>
                      <a:pt x="425" y="157"/>
                    </a:lnTo>
                    <a:lnTo>
                      <a:pt x="436" y="177"/>
                    </a:lnTo>
                    <a:lnTo>
                      <a:pt x="517" y="263"/>
                    </a:lnTo>
                    <a:lnTo>
                      <a:pt x="521" y="269"/>
                    </a:lnTo>
                    <a:lnTo>
                      <a:pt x="522" y="275"/>
                    </a:lnTo>
                    <a:lnTo>
                      <a:pt x="521" y="281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2"/>
                    </a:lnTo>
                    <a:lnTo>
                      <a:pt x="511" y="298"/>
                    </a:lnTo>
                    <a:lnTo>
                      <a:pt x="507" y="302"/>
                    </a:lnTo>
                    <a:lnTo>
                      <a:pt x="511" y="305"/>
                    </a:lnTo>
                    <a:lnTo>
                      <a:pt x="513" y="310"/>
                    </a:lnTo>
                    <a:lnTo>
                      <a:pt x="518" y="317"/>
                    </a:lnTo>
                    <a:lnTo>
                      <a:pt x="522" y="3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4265640" y="2438280"/>
                <a:ext cx="58680" cy="42840"/>
              </a:xfrm>
              <a:custGeom>
                <a:avLst/>
                <a:gdLst/>
                <a:ahLst/>
                <a:rect l="l" t="t" r="r" b="b"/>
                <a:pathLst>
                  <a:path w="184" h="134">
                    <a:moveTo>
                      <a:pt x="125" y="127"/>
                    </a:moveTo>
                    <a:lnTo>
                      <a:pt x="123" y="123"/>
                    </a:lnTo>
                    <a:lnTo>
                      <a:pt x="123" y="113"/>
                    </a:lnTo>
                    <a:lnTo>
                      <a:pt x="122" y="109"/>
                    </a:lnTo>
                    <a:lnTo>
                      <a:pt x="119" y="107"/>
                    </a:lnTo>
                    <a:lnTo>
                      <a:pt x="117" y="106"/>
                    </a:lnTo>
                    <a:lnTo>
                      <a:pt x="114" y="106"/>
                    </a:lnTo>
                    <a:lnTo>
                      <a:pt x="97" y="104"/>
                    </a:lnTo>
                    <a:lnTo>
                      <a:pt x="102" y="114"/>
                    </a:lnTo>
                    <a:lnTo>
                      <a:pt x="103" y="119"/>
                    </a:lnTo>
                    <a:lnTo>
                      <a:pt x="103" y="123"/>
                    </a:lnTo>
                    <a:lnTo>
                      <a:pt x="101" y="125"/>
                    </a:lnTo>
                    <a:lnTo>
                      <a:pt x="98" y="127"/>
                    </a:lnTo>
                    <a:lnTo>
                      <a:pt x="118" y="127"/>
                    </a:lnTo>
                    <a:lnTo>
                      <a:pt x="121" y="127"/>
                    </a:lnTo>
                    <a:lnTo>
                      <a:pt x="122" y="125"/>
                    </a:lnTo>
                    <a:lnTo>
                      <a:pt x="123" y="123"/>
                    </a:lnTo>
                    <a:lnTo>
                      <a:pt x="125" y="127"/>
                    </a:lnTo>
                    <a:lnTo>
                      <a:pt x="131" y="116"/>
                    </a:lnTo>
                    <a:lnTo>
                      <a:pt x="137" y="104"/>
                    </a:lnTo>
                    <a:lnTo>
                      <a:pt x="143" y="94"/>
                    </a:lnTo>
                    <a:lnTo>
                      <a:pt x="150" y="82"/>
                    </a:lnTo>
                    <a:lnTo>
                      <a:pt x="155" y="71"/>
                    </a:lnTo>
                    <a:lnTo>
                      <a:pt x="162" y="59"/>
                    </a:lnTo>
                    <a:lnTo>
                      <a:pt x="167" y="47"/>
                    </a:lnTo>
                    <a:lnTo>
                      <a:pt x="172" y="36"/>
                    </a:lnTo>
                    <a:lnTo>
                      <a:pt x="88" y="36"/>
                    </a:lnTo>
                    <a:lnTo>
                      <a:pt x="85" y="35"/>
                    </a:lnTo>
                    <a:lnTo>
                      <a:pt x="84" y="32"/>
                    </a:lnTo>
                    <a:lnTo>
                      <a:pt x="84" y="29"/>
                    </a:lnTo>
                    <a:lnTo>
                      <a:pt x="85" y="25"/>
                    </a:lnTo>
                    <a:lnTo>
                      <a:pt x="87" y="19"/>
                    </a:lnTo>
                    <a:lnTo>
                      <a:pt x="90" y="15"/>
                    </a:lnTo>
                    <a:lnTo>
                      <a:pt x="176" y="15"/>
                    </a:lnTo>
                    <a:lnTo>
                      <a:pt x="180" y="17"/>
                    </a:lnTo>
                    <a:lnTo>
                      <a:pt x="182" y="18"/>
                    </a:lnTo>
                    <a:lnTo>
                      <a:pt x="182" y="17"/>
                    </a:lnTo>
                    <a:lnTo>
                      <a:pt x="182" y="17"/>
                    </a:lnTo>
                    <a:lnTo>
                      <a:pt x="182" y="16"/>
                    </a:lnTo>
                    <a:lnTo>
                      <a:pt x="183" y="16"/>
                    </a:lnTo>
                    <a:lnTo>
                      <a:pt x="183" y="15"/>
                    </a:lnTo>
                    <a:lnTo>
                      <a:pt x="183" y="14"/>
                    </a:lnTo>
                    <a:lnTo>
                      <a:pt x="183" y="14"/>
                    </a:lnTo>
                    <a:lnTo>
                      <a:pt x="184" y="13"/>
                    </a:lnTo>
                    <a:lnTo>
                      <a:pt x="183" y="12"/>
                    </a:lnTo>
                    <a:lnTo>
                      <a:pt x="178" y="9"/>
                    </a:lnTo>
                    <a:lnTo>
                      <a:pt x="65" y="0"/>
                    </a:lnTo>
                    <a:lnTo>
                      <a:pt x="58" y="1"/>
                    </a:lnTo>
                    <a:lnTo>
                      <a:pt x="54" y="6"/>
                    </a:lnTo>
                    <a:lnTo>
                      <a:pt x="51" y="15"/>
                    </a:lnTo>
                    <a:lnTo>
                      <a:pt x="47" y="15"/>
                    </a:lnTo>
                    <a:lnTo>
                      <a:pt x="42" y="36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0" y="47"/>
                    </a:lnTo>
                    <a:lnTo>
                      <a:pt x="81" y="134"/>
                    </a:lnTo>
                    <a:lnTo>
                      <a:pt x="122" y="134"/>
                    </a:lnTo>
                    <a:lnTo>
                      <a:pt x="122" y="133"/>
                    </a:lnTo>
                    <a:lnTo>
                      <a:pt x="122" y="131"/>
                    </a:lnTo>
                    <a:lnTo>
                      <a:pt x="123" y="131"/>
                    </a:lnTo>
                    <a:lnTo>
                      <a:pt x="123" y="130"/>
                    </a:lnTo>
                    <a:lnTo>
                      <a:pt x="124" y="129"/>
                    </a:lnTo>
                    <a:lnTo>
                      <a:pt x="124" y="129"/>
                    </a:lnTo>
                    <a:lnTo>
                      <a:pt x="124" y="128"/>
                    </a:lnTo>
                    <a:lnTo>
                      <a:pt x="125" y="12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4248000" y="2084400"/>
                <a:ext cx="122400" cy="290520"/>
              </a:xfrm>
              <a:custGeom>
                <a:avLst/>
                <a:gdLst/>
                <a:ahLst/>
                <a:rect l="l" t="t" r="r" b="b"/>
                <a:pathLst>
                  <a:path w="384" h="912">
                    <a:moveTo>
                      <a:pt x="374" y="651"/>
                    </a:moveTo>
                    <a:lnTo>
                      <a:pt x="377" y="614"/>
                    </a:lnTo>
                    <a:lnTo>
                      <a:pt x="381" y="578"/>
                    </a:lnTo>
                    <a:lnTo>
                      <a:pt x="382" y="540"/>
                    </a:lnTo>
                    <a:lnTo>
                      <a:pt x="384" y="502"/>
                    </a:lnTo>
                    <a:lnTo>
                      <a:pt x="384" y="464"/>
                    </a:lnTo>
                    <a:lnTo>
                      <a:pt x="383" y="426"/>
                    </a:lnTo>
                    <a:lnTo>
                      <a:pt x="381" y="389"/>
                    </a:lnTo>
                    <a:lnTo>
                      <a:pt x="378" y="350"/>
                    </a:lnTo>
                    <a:lnTo>
                      <a:pt x="374" y="304"/>
                    </a:lnTo>
                    <a:lnTo>
                      <a:pt x="369" y="260"/>
                    </a:lnTo>
                    <a:lnTo>
                      <a:pt x="361" y="215"/>
                    </a:lnTo>
                    <a:lnTo>
                      <a:pt x="352" y="170"/>
                    </a:lnTo>
                    <a:lnTo>
                      <a:pt x="344" y="127"/>
                    </a:lnTo>
                    <a:lnTo>
                      <a:pt x="333" y="84"/>
                    </a:lnTo>
                    <a:lnTo>
                      <a:pt x="321" y="42"/>
                    </a:lnTo>
                    <a:lnTo>
                      <a:pt x="308" y="0"/>
                    </a:lnTo>
                    <a:lnTo>
                      <a:pt x="304" y="1"/>
                    </a:lnTo>
                    <a:lnTo>
                      <a:pt x="287" y="6"/>
                    </a:lnTo>
                    <a:lnTo>
                      <a:pt x="264" y="18"/>
                    </a:lnTo>
                    <a:lnTo>
                      <a:pt x="255" y="27"/>
                    </a:lnTo>
                    <a:lnTo>
                      <a:pt x="246" y="40"/>
                    </a:lnTo>
                    <a:lnTo>
                      <a:pt x="240" y="58"/>
                    </a:lnTo>
                    <a:lnTo>
                      <a:pt x="237" y="75"/>
                    </a:lnTo>
                    <a:lnTo>
                      <a:pt x="237" y="91"/>
                    </a:lnTo>
                    <a:lnTo>
                      <a:pt x="238" y="107"/>
                    </a:lnTo>
                    <a:lnTo>
                      <a:pt x="240" y="123"/>
                    </a:lnTo>
                    <a:lnTo>
                      <a:pt x="238" y="124"/>
                    </a:lnTo>
                    <a:lnTo>
                      <a:pt x="241" y="138"/>
                    </a:lnTo>
                    <a:lnTo>
                      <a:pt x="239" y="147"/>
                    </a:lnTo>
                    <a:lnTo>
                      <a:pt x="215" y="152"/>
                    </a:lnTo>
                    <a:lnTo>
                      <a:pt x="205" y="149"/>
                    </a:lnTo>
                    <a:lnTo>
                      <a:pt x="195" y="149"/>
                    </a:lnTo>
                    <a:lnTo>
                      <a:pt x="185" y="152"/>
                    </a:lnTo>
                    <a:lnTo>
                      <a:pt x="175" y="157"/>
                    </a:lnTo>
                    <a:lnTo>
                      <a:pt x="166" y="167"/>
                    </a:lnTo>
                    <a:lnTo>
                      <a:pt x="151" y="177"/>
                    </a:lnTo>
                    <a:lnTo>
                      <a:pt x="134" y="191"/>
                    </a:lnTo>
                    <a:lnTo>
                      <a:pt x="124" y="207"/>
                    </a:lnTo>
                    <a:lnTo>
                      <a:pt x="113" y="225"/>
                    </a:lnTo>
                    <a:lnTo>
                      <a:pt x="109" y="242"/>
                    </a:lnTo>
                    <a:lnTo>
                      <a:pt x="107" y="255"/>
                    </a:lnTo>
                    <a:lnTo>
                      <a:pt x="110" y="269"/>
                    </a:lnTo>
                    <a:lnTo>
                      <a:pt x="115" y="290"/>
                    </a:lnTo>
                    <a:lnTo>
                      <a:pt x="109" y="300"/>
                    </a:lnTo>
                    <a:lnTo>
                      <a:pt x="103" y="311"/>
                    </a:lnTo>
                    <a:lnTo>
                      <a:pt x="99" y="327"/>
                    </a:lnTo>
                    <a:lnTo>
                      <a:pt x="77" y="418"/>
                    </a:lnTo>
                    <a:lnTo>
                      <a:pt x="80" y="432"/>
                    </a:lnTo>
                    <a:lnTo>
                      <a:pt x="83" y="446"/>
                    </a:lnTo>
                    <a:lnTo>
                      <a:pt x="79" y="444"/>
                    </a:lnTo>
                    <a:lnTo>
                      <a:pt x="76" y="443"/>
                    </a:lnTo>
                    <a:lnTo>
                      <a:pt x="73" y="442"/>
                    </a:lnTo>
                    <a:lnTo>
                      <a:pt x="61" y="443"/>
                    </a:lnTo>
                    <a:lnTo>
                      <a:pt x="61" y="450"/>
                    </a:lnTo>
                    <a:lnTo>
                      <a:pt x="70" y="448"/>
                    </a:lnTo>
                    <a:lnTo>
                      <a:pt x="72" y="453"/>
                    </a:lnTo>
                    <a:lnTo>
                      <a:pt x="69" y="457"/>
                    </a:lnTo>
                    <a:lnTo>
                      <a:pt x="65" y="460"/>
                    </a:lnTo>
                    <a:lnTo>
                      <a:pt x="61" y="460"/>
                    </a:lnTo>
                    <a:lnTo>
                      <a:pt x="57" y="457"/>
                    </a:lnTo>
                    <a:lnTo>
                      <a:pt x="60" y="455"/>
                    </a:lnTo>
                    <a:lnTo>
                      <a:pt x="61" y="450"/>
                    </a:lnTo>
                    <a:lnTo>
                      <a:pt x="61" y="443"/>
                    </a:lnTo>
                    <a:lnTo>
                      <a:pt x="60" y="435"/>
                    </a:lnTo>
                    <a:lnTo>
                      <a:pt x="58" y="431"/>
                    </a:lnTo>
                    <a:lnTo>
                      <a:pt x="56" y="429"/>
                    </a:lnTo>
                    <a:lnTo>
                      <a:pt x="54" y="429"/>
                    </a:lnTo>
                    <a:lnTo>
                      <a:pt x="54" y="423"/>
                    </a:lnTo>
                    <a:lnTo>
                      <a:pt x="33" y="423"/>
                    </a:lnTo>
                    <a:lnTo>
                      <a:pt x="33" y="429"/>
                    </a:lnTo>
                    <a:lnTo>
                      <a:pt x="30" y="429"/>
                    </a:lnTo>
                    <a:lnTo>
                      <a:pt x="29" y="431"/>
                    </a:lnTo>
                    <a:lnTo>
                      <a:pt x="28" y="434"/>
                    </a:lnTo>
                    <a:lnTo>
                      <a:pt x="23" y="450"/>
                    </a:lnTo>
                    <a:lnTo>
                      <a:pt x="29" y="460"/>
                    </a:lnTo>
                    <a:lnTo>
                      <a:pt x="15" y="463"/>
                    </a:lnTo>
                    <a:lnTo>
                      <a:pt x="12" y="468"/>
                    </a:lnTo>
                    <a:lnTo>
                      <a:pt x="11" y="473"/>
                    </a:lnTo>
                    <a:lnTo>
                      <a:pt x="9" y="482"/>
                    </a:lnTo>
                    <a:lnTo>
                      <a:pt x="6" y="486"/>
                    </a:lnTo>
                    <a:lnTo>
                      <a:pt x="5" y="492"/>
                    </a:lnTo>
                    <a:lnTo>
                      <a:pt x="1" y="501"/>
                    </a:lnTo>
                    <a:lnTo>
                      <a:pt x="0" y="514"/>
                    </a:lnTo>
                    <a:lnTo>
                      <a:pt x="6" y="515"/>
                    </a:lnTo>
                    <a:lnTo>
                      <a:pt x="6" y="535"/>
                    </a:lnTo>
                    <a:lnTo>
                      <a:pt x="1" y="537"/>
                    </a:lnTo>
                    <a:lnTo>
                      <a:pt x="7" y="584"/>
                    </a:lnTo>
                    <a:lnTo>
                      <a:pt x="11" y="586"/>
                    </a:lnTo>
                    <a:lnTo>
                      <a:pt x="14" y="595"/>
                    </a:lnTo>
                    <a:lnTo>
                      <a:pt x="19" y="603"/>
                    </a:lnTo>
                    <a:lnTo>
                      <a:pt x="23" y="610"/>
                    </a:lnTo>
                    <a:lnTo>
                      <a:pt x="30" y="616"/>
                    </a:lnTo>
                    <a:lnTo>
                      <a:pt x="35" y="619"/>
                    </a:lnTo>
                    <a:lnTo>
                      <a:pt x="43" y="620"/>
                    </a:lnTo>
                    <a:lnTo>
                      <a:pt x="48" y="619"/>
                    </a:lnTo>
                    <a:lnTo>
                      <a:pt x="50" y="624"/>
                    </a:lnTo>
                    <a:lnTo>
                      <a:pt x="54" y="630"/>
                    </a:lnTo>
                    <a:lnTo>
                      <a:pt x="58" y="632"/>
                    </a:lnTo>
                    <a:lnTo>
                      <a:pt x="65" y="634"/>
                    </a:lnTo>
                    <a:lnTo>
                      <a:pt x="74" y="633"/>
                    </a:lnTo>
                    <a:lnTo>
                      <a:pt x="63" y="663"/>
                    </a:lnTo>
                    <a:lnTo>
                      <a:pt x="54" y="677"/>
                    </a:lnTo>
                    <a:lnTo>
                      <a:pt x="74" y="692"/>
                    </a:lnTo>
                    <a:lnTo>
                      <a:pt x="76" y="704"/>
                    </a:lnTo>
                    <a:lnTo>
                      <a:pt x="78" y="717"/>
                    </a:lnTo>
                    <a:lnTo>
                      <a:pt x="72" y="727"/>
                    </a:lnTo>
                    <a:lnTo>
                      <a:pt x="68" y="750"/>
                    </a:lnTo>
                    <a:lnTo>
                      <a:pt x="58" y="768"/>
                    </a:lnTo>
                    <a:lnTo>
                      <a:pt x="61" y="799"/>
                    </a:lnTo>
                    <a:lnTo>
                      <a:pt x="61" y="817"/>
                    </a:lnTo>
                    <a:lnTo>
                      <a:pt x="64" y="836"/>
                    </a:lnTo>
                    <a:lnTo>
                      <a:pt x="69" y="851"/>
                    </a:lnTo>
                    <a:lnTo>
                      <a:pt x="75" y="870"/>
                    </a:lnTo>
                    <a:lnTo>
                      <a:pt x="85" y="886"/>
                    </a:lnTo>
                    <a:lnTo>
                      <a:pt x="92" y="888"/>
                    </a:lnTo>
                    <a:lnTo>
                      <a:pt x="100" y="894"/>
                    </a:lnTo>
                    <a:lnTo>
                      <a:pt x="111" y="903"/>
                    </a:lnTo>
                    <a:lnTo>
                      <a:pt x="124" y="908"/>
                    </a:lnTo>
                    <a:lnTo>
                      <a:pt x="142" y="912"/>
                    </a:lnTo>
                    <a:lnTo>
                      <a:pt x="160" y="912"/>
                    </a:lnTo>
                    <a:lnTo>
                      <a:pt x="181" y="906"/>
                    </a:lnTo>
                    <a:lnTo>
                      <a:pt x="195" y="900"/>
                    </a:lnTo>
                    <a:lnTo>
                      <a:pt x="205" y="891"/>
                    </a:lnTo>
                    <a:lnTo>
                      <a:pt x="210" y="881"/>
                    </a:lnTo>
                    <a:lnTo>
                      <a:pt x="213" y="872"/>
                    </a:lnTo>
                    <a:lnTo>
                      <a:pt x="221" y="863"/>
                    </a:lnTo>
                    <a:lnTo>
                      <a:pt x="228" y="851"/>
                    </a:lnTo>
                    <a:lnTo>
                      <a:pt x="236" y="837"/>
                    </a:lnTo>
                    <a:lnTo>
                      <a:pt x="240" y="824"/>
                    </a:lnTo>
                    <a:lnTo>
                      <a:pt x="243" y="811"/>
                    </a:lnTo>
                    <a:lnTo>
                      <a:pt x="246" y="797"/>
                    </a:lnTo>
                    <a:lnTo>
                      <a:pt x="249" y="781"/>
                    </a:lnTo>
                    <a:lnTo>
                      <a:pt x="250" y="765"/>
                    </a:lnTo>
                    <a:lnTo>
                      <a:pt x="264" y="708"/>
                    </a:lnTo>
                    <a:lnTo>
                      <a:pt x="280" y="704"/>
                    </a:lnTo>
                    <a:lnTo>
                      <a:pt x="296" y="697"/>
                    </a:lnTo>
                    <a:lnTo>
                      <a:pt x="314" y="691"/>
                    </a:lnTo>
                    <a:lnTo>
                      <a:pt x="331" y="680"/>
                    </a:lnTo>
                    <a:lnTo>
                      <a:pt x="350" y="670"/>
                    </a:lnTo>
                    <a:lnTo>
                      <a:pt x="366" y="658"/>
                    </a:lnTo>
                    <a:lnTo>
                      <a:pt x="374" y="651"/>
                    </a:lnTo>
                    <a:close/>
                    <a:moveTo>
                      <a:pt x="82" y="460"/>
                    </a:moveTo>
                    <a:lnTo>
                      <a:pt x="76" y="465"/>
                    </a:lnTo>
                    <a:lnTo>
                      <a:pt x="78" y="470"/>
                    </a:lnTo>
                    <a:lnTo>
                      <a:pt x="80" y="474"/>
                    </a:lnTo>
                    <a:lnTo>
                      <a:pt x="82" y="470"/>
                    </a:lnTo>
                    <a:lnTo>
                      <a:pt x="84" y="464"/>
                    </a:lnTo>
                    <a:lnTo>
                      <a:pt x="82" y="46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4248000" y="2084400"/>
                <a:ext cx="119160" cy="290520"/>
              </a:xfrm>
              <a:custGeom>
                <a:avLst/>
                <a:gdLst/>
                <a:ahLst/>
                <a:rect l="l" t="t" r="r" b="b"/>
                <a:pathLst>
                  <a:path w="374" h="912">
                    <a:moveTo>
                      <a:pt x="374" y="651"/>
                    </a:moveTo>
                    <a:lnTo>
                      <a:pt x="366" y="658"/>
                    </a:lnTo>
                    <a:lnTo>
                      <a:pt x="350" y="670"/>
                    </a:lnTo>
                    <a:lnTo>
                      <a:pt x="331" y="680"/>
                    </a:lnTo>
                    <a:lnTo>
                      <a:pt x="314" y="691"/>
                    </a:lnTo>
                    <a:lnTo>
                      <a:pt x="296" y="697"/>
                    </a:lnTo>
                    <a:lnTo>
                      <a:pt x="280" y="704"/>
                    </a:lnTo>
                    <a:lnTo>
                      <a:pt x="264" y="708"/>
                    </a:lnTo>
                    <a:lnTo>
                      <a:pt x="250" y="765"/>
                    </a:lnTo>
                    <a:lnTo>
                      <a:pt x="249" y="781"/>
                    </a:lnTo>
                    <a:lnTo>
                      <a:pt x="246" y="797"/>
                    </a:lnTo>
                    <a:lnTo>
                      <a:pt x="243" y="811"/>
                    </a:lnTo>
                    <a:lnTo>
                      <a:pt x="240" y="824"/>
                    </a:lnTo>
                    <a:lnTo>
                      <a:pt x="236" y="837"/>
                    </a:lnTo>
                    <a:lnTo>
                      <a:pt x="228" y="851"/>
                    </a:lnTo>
                    <a:lnTo>
                      <a:pt x="221" y="863"/>
                    </a:lnTo>
                    <a:lnTo>
                      <a:pt x="213" y="872"/>
                    </a:lnTo>
                    <a:lnTo>
                      <a:pt x="210" y="881"/>
                    </a:lnTo>
                    <a:lnTo>
                      <a:pt x="205" y="891"/>
                    </a:lnTo>
                    <a:lnTo>
                      <a:pt x="195" y="900"/>
                    </a:lnTo>
                    <a:lnTo>
                      <a:pt x="181" y="906"/>
                    </a:lnTo>
                    <a:lnTo>
                      <a:pt x="160" y="912"/>
                    </a:lnTo>
                    <a:lnTo>
                      <a:pt x="142" y="912"/>
                    </a:lnTo>
                    <a:lnTo>
                      <a:pt x="124" y="908"/>
                    </a:lnTo>
                    <a:lnTo>
                      <a:pt x="111" y="903"/>
                    </a:lnTo>
                    <a:lnTo>
                      <a:pt x="100" y="894"/>
                    </a:lnTo>
                    <a:lnTo>
                      <a:pt x="92" y="888"/>
                    </a:lnTo>
                    <a:lnTo>
                      <a:pt x="85" y="886"/>
                    </a:lnTo>
                    <a:lnTo>
                      <a:pt x="75" y="870"/>
                    </a:lnTo>
                    <a:lnTo>
                      <a:pt x="69" y="851"/>
                    </a:lnTo>
                    <a:lnTo>
                      <a:pt x="64" y="836"/>
                    </a:lnTo>
                    <a:lnTo>
                      <a:pt x="61" y="817"/>
                    </a:lnTo>
                    <a:lnTo>
                      <a:pt x="61" y="799"/>
                    </a:lnTo>
                    <a:lnTo>
                      <a:pt x="58" y="768"/>
                    </a:lnTo>
                    <a:lnTo>
                      <a:pt x="68" y="750"/>
                    </a:lnTo>
                    <a:lnTo>
                      <a:pt x="72" y="727"/>
                    </a:lnTo>
                    <a:lnTo>
                      <a:pt x="78" y="717"/>
                    </a:lnTo>
                    <a:lnTo>
                      <a:pt x="76" y="704"/>
                    </a:lnTo>
                    <a:lnTo>
                      <a:pt x="74" y="692"/>
                    </a:lnTo>
                    <a:lnTo>
                      <a:pt x="54" y="677"/>
                    </a:lnTo>
                    <a:lnTo>
                      <a:pt x="63" y="663"/>
                    </a:lnTo>
                    <a:lnTo>
                      <a:pt x="74" y="633"/>
                    </a:lnTo>
                    <a:lnTo>
                      <a:pt x="65" y="634"/>
                    </a:lnTo>
                    <a:lnTo>
                      <a:pt x="58" y="632"/>
                    </a:lnTo>
                    <a:lnTo>
                      <a:pt x="54" y="630"/>
                    </a:lnTo>
                    <a:lnTo>
                      <a:pt x="50" y="624"/>
                    </a:lnTo>
                    <a:lnTo>
                      <a:pt x="48" y="619"/>
                    </a:lnTo>
                    <a:lnTo>
                      <a:pt x="43" y="620"/>
                    </a:lnTo>
                    <a:lnTo>
                      <a:pt x="35" y="619"/>
                    </a:lnTo>
                    <a:lnTo>
                      <a:pt x="30" y="616"/>
                    </a:lnTo>
                    <a:lnTo>
                      <a:pt x="23" y="610"/>
                    </a:lnTo>
                    <a:lnTo>
                      <a:pt x="19" y="603"/>
                    </a:lnTo>
                    <a:lnTo>
                      <a:pt x="14" y="595"/>
                    </a:lnTo>
                    <a:lnTo>
                      <a:pt x="11" y="586"/>
                    </a:lnTo>
                    <a:lnTo>
                      <a:pt x="7" y="584"/>
                    </a:lnTo>
                    <a:lnTo>
                      <a:pt x="1" y="537"/>
                    </a:lnTo>
                    <a:lnTo>
                      <a:pt x="6" y="535"/>
                    </a:lnTo>
                    <a:lnTo>
                      <a:pt x="6" y="515"/>
                    </a:lnTo>
                    <a:lnTo>
                      <a:pt x="0" y="514"/>
                    </a:lnTo>
                    <a:lnTo>
                      <a:pt x="1" y="501"/>
                    </a:lnTo>
                    <a:lnTo>
                      <a:pt x="5" y="492"/>
                    </a:lnTo>
                    <a:lnTo>
                      <a:pt x="6" y="486"/>
                    </a:lnTo>
                    <a:lnTo>
                      <a:pt x="9" y="482"/>
                    </a:lnTo>
                    <a:lnTo>
                      <a:pt x="11" y="473"/>
                    </a:lnTo>
                    <a:lnTo>
                      <a:pt x="12" y="468"/>
                    </a:lnTo>
                    <a:lnTo>
                      <a:pt x="15" y="463"/>
                    </a:lnTo>
                    <a:lnTo>
                      <a:pt x="29" y="460"/>
                    </a:lnTo>
                    <a:lnTo>
                      <a:pt x="23" y="450"/>
                    </a:lnTo>
                    <a:lnTo>
                      <a:pt x="28" y="434"/>
                    </a:lnTo>
                    <a:lnTo>
                      <a:pt x="29" y="431"/>
                    </a:lnTo>
                    <a:lnTo>
                      <a:pt x="30" y="429"/>
                    </a:lnTo>
                    <a:lnTo>
                      <a:pt x="33" y="429"/>
                    </a:lnTo>
                    <a:lnTo>
                      <a:pt x="33" y="423"/>
                    </a:lnTo>
                    <a:lnTo>
                      <a:pt x="54" y="423"/>
                    </a:lnTo>
                    <a:lnTo>
                      <a:pt x="54" y="429"/>
                    </a:lnTo>
                    <a:lnTo>
                      <a:pt x="56" y="429"/>
                    </a:lnTo>
                    <a:lnTo>
                      <a:pt x="58" y="431"/>
                    </a:lnTo>
                    <a:lnTo>
                      <a:pt x="60" y="435"/>
                    </a:lnTo>
                    <a:lnTo>
                      <a:pt x="61" y="443"/>
                    </a:lnTo>
                    <a:lnTo>
                      <a:pt x="61" y="450"/>
                    </a:lnTo>
                    <a:lnTo>
                      <a:pt x="60" y="455"/>
                    </a:lnTo>
                    <a:lnTo>
                      <a:pt x="57" y="457"/>
                    </a:lnTo>
                    <a:lnTo>
                      <a:pt x="61" y="460"/>
                    </a:lnTo>
                    <a:lnTo>
                      <a:pt x="65" y="460"/>
                    </a:lnTo>
                    <a:lnTo>
                      <a:pt x="69" y="457"/>
                    </a:lnTo>
                    <a:lnTo>
                      <a:pt x="72" y="453"/>
                    </a:lnTo>
                    <a:lnTo>
                      <a:pt x="70" y="448"/>
                    </a:lnTo>
                    <a:lnTo>
                      <a:pt x="61" y="450"/>
                    </a:lnTo>
                    <a:lnTo>
                      <a:pt x="61" y="443"/>
                    </a:lnTo>
                    <a:lnTo>
                      <a:pt x="73" y="442"/>
                    </a:lnTo>
                    <a:lnTo>
                      <a:pt x="76" y="443"/>
                    </a:lnTo>
                    <a:lnTo>
                      <a:pt x="79" y="444"/>
                    </a:lnTo>
                    <a:lnTo>
                      <a:pt x="83" y="446"/>
                    </a:lnTo>
                    <a:lnTo>
                      <a:pt x="80" y="432"/>
                    </a:lnTo>
                    <a:lnTo>
                      <a:pt x="77" y="418"/>
                    </a:lnTo>
                    <a:lnTo>
                      <a:pt x="99" y="327"/>
                    </a:lnTo>
                    <a:lnTo>
                      <a:pt x="103" y="311"/>
                    </a:lnTo>
                    <a:lnTo>
                      <a:pt x="109" y="300"/>
                    </a:lnTo>
                    <a:lnTo>
                      <a:pt x="115" y="290"/>
                    </a:lnTo>
                    <a:lnTo>
                      <a:pt x="110" y="269"/>
                    </a:lnTo>
                    <a:lnTo>
                      <a:pt x="107" y="255"/>
                    </a:lnTo>
                    <a:lnTo>
                      <a:pt x="109" y="242"/>
                    </a:lnTo>
                    <a:lnTo>
                      <a:pt x="113" y="225"/>
                    </a:lnTo>
                    <a:lnTo>
                      <a:pt x="124" y="207"/>
                    </a:lnTo>
                    <a:lnTo>
                      <a:pt x="134" y="191"/>
                    </a:lnTo>
                    <a:lnTo>
                      <a:pt x="151" y="177"/>
                    </a:lnTo>
                    <a:lnTo>
                      <a:pt x="166" y="167"/>
                    </a:lnTo>
                    <a:lnTo>
                      <a:pt x="175" y="157"/>
                    </a:lnTo>
                    <a:lnTo>
                      <a:pt x="185" y="152"/>
                    </a:lnTo>
                    <a:lnTo>
                      <a:pt x="195" y="149"/>
                    </a:lnTo>
                    <a:lnTo>
                      <a:pt x="205" y="149"/>
                    </a:lnTo>
                    <a:lnTo>
                      <a:pt x="215" y="152"/>
                    </a:lnTo>
                    <a:lnTo>
                      <a:pt x="239" y="147"/>
                    </a:lnTo>
                    <a:lnTo>
                      <a:pt x="241" y="138"/>
                    </a:lnTo>
                    <a:lnTo>
                      <a:pt x="238" y="124"/>
                    </a:lnTo>
                    <a:lnTo>
                      <a:pt x="240" y="123"/>
                    </a:lnTo>
                    <a:lnTo>
                      <a:pt x="238" y="107"/>
                    </a:lnTo>
                    <a:lnTo>
                      <a:pt x="237" y="91"/>
                    </a:lnTo>
                    <a:lnTo>
                      <a:pt x="237" y="75"/>
                    </a:lnTo>
                    <a:lnTo>
                      <a:pt x="240" y="58"/>
                    </a:lnTo>
                    <a:lnTo>
                      <a:pt x="246" y="40"/>
                    </a:lnTo>
                    <a:lnTo>
                      <a:pt x="255" y="27"/>
                    </a:lnTo>
                    <a:lnTo>
                      <a:pt x="264" y="18"/>
                    </a:lnTo>
                    <a:lnTo>
                      <a:pt x="287" y="6"/>
                    </a:lnTo>
                    <a:lnTo>
                      <a:pt x="304" y="1"/>
                    </a:lnTo>
                    <a:lnTo>
                      <a:pt x="30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3390840" y="1746360"/>
                <a:ext cx="979560" cy="979200"/>
              </a:xfrm>
              <a:custGeom>
                <a:avLst/>
                <a:gdLst/>
                <a:ahLst/>
                <a:rect l="l" t="t" r="r" b="b"/>
                <a:pathLst>
                  <a:path w="3084" h="3087">
                    <a:moveTo>
                      <a:pt x="1415" y="4"/>
                    </a:moveTo>
                    <a:lnTo>
                      <a:pt x="1336" y="13"/>
                    </a:lnTo>
                    <a:lnTo>
                      <a:pt x="1260" y="26"/>
                    </a:lnTo>
                    <a:lnTo>
                      <a:pt x="1183" y="41"/>
                    </a:lnTo>
                    <a:lnTo>
                      <a:pt x="1109" y="62"/>
                    </a:lnTo>
                    <a:lnTo>
                      <a:pt x="1036" y="84"/>
                    </a:lnTo>
                    <a:lnTo>
                      <a:pt x="965" y="111"/>
                    </a:lnTo>
                    <a:lnTo>
                      <a:pt x="896" y="142"/>
                    </a:lnTo>
                    <a:lnTo>
                      <a:pt x="828" y="175"/>
                    </a:lnTo>
                    <a:lnTo>
                      <a:pt x="762" y="212"/>
                    </a:lnTo>
                    <a:lnTo>
                      <a:pt x="700" y="251"/>
                    </a:lnTo>
                    <a:lnTo>
                      <a:pt x="638" y="294"/>
                    </a:lnTo>
                    <a:lnTo>
                      <a:pt x="579" y="338"/>
                    </a:lnTo>
                    <a:lnTo>
                      <a:pt x="521" y="387"/>
                    </a:lnTo>
                    <a:lnTo>
                      <a:pt x="468" y="438"/>
                    </a:lnTo>
                    <a:lnTo>
                      <a:pt x="416" y="491"/>
                    </a:lnTo>
                    <a:lnTo>
                      <a:pt x="366" y="546"/>
                    </a:lnTo>
                    <a:lnTo>
                      <a:pt x="320" y="603"/>
                    </a:lnTo>
                    <a:lnTo>
                      <a:pt x="276" y="664"/>
                    </a:lnTo>
                    <a:lnTo>
                      <a:pt x="235" y="725"/>
                    </a:lnTo>
                    <a:lnTo>
                      <a:pt x="198" y="789"/>
                    </a:lnTo>
                    <a:lnTo>
                      <a:pt x="162" y="855"/>
                    </a:lnTo>
                    <a:lnTo>
                      <a:pt x="131" y="923"/>
                    </a:lnTo>
                    <a:lnTo>
                      <a:pt x="102" y="992"/>
                    </a:lnTo>
                    <a:lnTo>
                      <a:pt x="77" y="1062"/>
                    </a:lnTo>
                    <a:lnTo>
                      <a:pt x="55" y="1135"/>
                    </a:lnTo>
                    <a:lnTo>
                      <a:pt x="37" y="1208"/>
                    </a:lnTo>
                    <a:lnTo>
                      <a:pt x="22" y="1283"/>
                    </a:lnTo>
                    <a:lnTo>
                      <a:pt x="11" y="1358"/>
                    </a:lnTo>
                    <a:lnTo>
                      <a:pt x="3" y="1435"/>
                    </a:lnTo>
                    <a:lnTo>
                      <a:pt x="0" y="1513"/>
                    </a:lnTo>
                    <a:lnTo>
                      <a:pt x="0" y="1591"/>
                    </a:lnTo>
                    <a:lnTo>
                      <a:pt x="4" y="1671"/>
                    </a:lnTo>
                    <a:lnTo>
                      <a:pt x="13" y="1750"/>
                    </a:lnTo>
                    <a:lnTo>
                      <a:pt x="25" y="1826"/>
                    </a:lnTo>
                    <a:lnTo>
                      <a:pt x="41" y="1903"/>
                    </a:lnTo>
                    <a:lnTo>
                      <a:pt x="62" y="1978"/>
                    </a:lnTo>
                    <a:lnTo>
                      <a:pt x="84" y="2050"/>
                    </a:lnTo>
                    <a:lnTo>
                      <a:pt x="111" y="2121"/>
                    </a:lnTo>
                    <a:lnTo>
                      <a:pt x="142" y="2190"/>
                    </a:lnTo>
                    <a:lnTo>
                      <a:pt x="175" y="2259"/>
                    </a:lnTo>
                    <a:lnTo>
                      <a:pt x="212" y="2324"/>
                    </a:lnTo>
                    <a:lnTo>
                      <a:pt x="251" y="2387"/>
                    </a:lnTo>
                    <a:lnTo>
                      <a:pt x="293" y="2449"/>
                    </a:lnTo>
                    <a:lnTo>
                      <a:pt x="338" y="2508"/>
                    </a:lnTo>
                    <a:lnTo>
                      <a:pt x="387" y="2565"/>
                    </a:lnTo>
                    <a:lnTo>
                      <a:pt x="436" y="2619"/>
                    </a:lnTo>
                    <a:lnTo>
                      <a:pt x="490" y="2671"/>
                    </a:lnTo>
                    <a:lnTo>
                      <a:pt x="545" y="2721"/>
                    </a:lnTo>
                    <a:lnTo>
                      <a:pt x="602" y="2768"/>
                    </a:lnTo>
                    <a:lnTo>
                      <a:pt x="663" y="2811"/>
                    </a:lnTo>
                    <a:lnTo>
                      <a:pt x="724" y="2852"/>
                    </a:lnTo>
                    <a:lnTo>
                      <a:pt x="788" y="2890"/>
                    </a:lnTo>
                    <a:lnTo>
                      <a:pt x="854" y="2925"/>
                    </a:lnTo>
                    <a:lnTo>
                      <a:pt x="921" y="2957"/>
                    </a:lnTo>
                    <a:lnTo>
                      <a:pt x="990" y="2986"/>
                    </a:lnTo>
                    <a:lnTo>
                      <a:pt x="1061" y="3011"/>
                    </a:lnTo>
                    <a:lnTo>
                      <a:pt x="1133" y="3032"/>
                    </a:lnTo>
                    <a:lnTo>
                      <a:pt x="1207" y="3051"/>
                    </a:lnTo>
                    <a:lnTo>
                      <a:pt x="1281" y="3066"/>
                    </a:lnTo>
                    <a:lnTo>
                      <a:pt x="1357" y="3077"/>
                    </a:lnTo>
                    <a:lnTo>
                      <a:pt x="1433" y="3084"/>
                    </a:lnTo>
                    <a:lnTo>
                      <a:pt x="1511" y="3087"/>
                    </a:lnTo>
                    <a:lnTo>
                      <a:pt x="1589" y="3087"/>
                    </a:lnTo>
                    <a:lnTo>
                      <a:pt x="1669" y="3083"/>
                    </a:lnTo>
                    <a:lnTo>
                      <a:pt x="1748" y="3074"/>
                    </a:lnTo>
                    <a:lnTo>
                      <a:pt x="1824" y="3063"/>
                    </a:lnTo>
                    <a:lnTo>
                      <a:pt x="1901" y="3046"/>
                    </a:lnTo>
                    <a:lnTo>
                      <a:pt x="1975" y="3026"/>
                    </a:lnTo>
                    <a:lnTo>
                      <a:pt x="2048" y="3003"/>
                    </a:lnTo>
                    <a:lnTo>
                      <a:pt x="2119" y="2976"/>
                    </a:lnTo>
                    <a:lnTo>
                      <a:pt x="2188" y="2946"/>
                    </a:lnTo>
                    <a:lnTo>
                      <a:pt x="2256" y="2912"/>
                    </a:lnTo>
                    <a:lnTo>
                      <a:pt x="2322" y="2876"/>
                    </a:lnTo>
                    <a:lnTo>
                      <a:pt x="2384" y="2837"/>
                    </a:lnTo>
                    <a:lnTo>
                      <a:pt x="2446" y="2795"/>
                    </a:lnTo>
                    <a:lnTo>
                      <a:pt x="2505" y="2749"/>
                    </a:lnTo>
                    <a:lnTo>
                      <a:pt x="2562" y="2701"/>
                    </a:lnTo>
                    <a:lnTo>
                      <a:pt x="2616" y="2651"/>
                    </a:lnTo>
                    <a:lnTo>
                      <a:pt x="2668" y="2597"/>
                    </a:lnTo>
                    <a:lnTo>
                      <a:pt x="2718" y="2542"/>
                    </a:lnTo>
                    <a:lnTo>
                      <a:pt x="2764" y="2484"/>
                    </a:lnTo>
                    <a:lnTo>
                      <a:pt x="2807" y="2424"/>
                    </a:lnTo>
                    <a:lnTo>
                      <a:pt x="2848" y="2362"/>
                    </a:lnTo>
                    <a:lnTo>
                      <a:pt x="2886" y="2299"/>
                    </a:lnTo>
                    <a:lnTo>
                      <a:pt x="2922" y="2233"/>
                    </a:lnTo>
                    <a:lnTo>
                      <a:pt x="2953" y="2166"/>
                    </a:lnTo>
                    <a:lnTo>
                      <a:pt x="2982" y="2096"/>
                    </a:lnTo>
                    <a:lnTo>
                      <a:pt x="3007" y="2025"/>
                    </a:lnTo>
                    <a:lnTo>
                      <a:pt x="3029" y="1953"/>
                    </a:lnTo>
                    <a:lnTo>
                      <a:pt x="3047" y="1879"/>
                    </a:lnTo>
                    <a:lnTo>
                      <a:pt x="3062" y="1805"/>
                    </a:lnTo>
                    <a:lnTo>
                      <a:pt x="3073" y="1729"/>
                    </a:lnTo>
                    <a:lnTo>
                      <a:pt x="3080" y="1652"/>
                    </a:lnTo>
                    <a:lnTo>
                      <a:pt x="3084" y="1575"/>
                    </a:lnTo>
                    <a:lnTo>
                      <a:pt x="3084" y="1497"/>
                    </a:lnTo>
                    <a:lnTo>
                      <a:pt x="3079" y="1417"/>
                    </a:lnTo>
                    <a:lnTo>
                      <a:pt x="3071" y="1338"/>
                    </a:lnTo>
                    <a:lnTo>
                      <a:pt x="3059" y="1261"/>
                    </a:lnTo>
                    <a:lnTo>
                      <a:pt x="3043" y="1184"/>
                    </a:lnTo>
                    <a:lnTo>
                      <a:pt x="3022" y="1110"/>
                    </a:lnTo>
                    <a:lnTo>
                      <a:pt x="3000" y="1037"/>
                    </a:lnTo>
                    <a:lnTo>
                      <a:pt x="2973" y="966"/>
                    </a:lnTo>
                    <a:lnTo>
                      <a:pt x="2942" y="897"/>
                    </a:lnTo>
                    <a:lnTo>
                      <a:pt x="2909" y="829"/>
                    </a:lnTo>
                    <a:lnTo>
                      <a:pt x="2872" y="763"/>
                    </a:lnTo>
                    <a:lnTo>
                      <a:pt x="2833" y="700"/>
                    </a:lnTo>
                    <a:lnTo>
                      <a:pt x="2790" y="639"/>
                    </a:lnTo>
                    <a:lnTo>
                      <a:pt x="2746" y="579"/>
                    </a:lnTo>
                    <a:lnTo>
                      <a:pt x="2697" y="522"/>
                    </a:lnTo>
                    <a:lnTo>
                      <a:pt x="2647" y="468"/>
                    </a:lnTo>
                    <a:lnTo>
                      <a:pt x="2594" y="416"/>
                    </a:lnTo>
                    <a:lnTo>
                      <a:pt x="2539" y="366"/>
                    </a:lnTo>
                    <a:lnTo>
                      <a:pt x="2481" y="320"/>
                    </a:lnTo>
                    <a:lnTo>
                      <a:pt x="2421" y="277"/>
                    </a:lnTo>
                    <a:lnTo>
                      <a:pt x="2359" y="236"/>
                    </a:lnTo>
                    <a:lnTo>
                      <a:pt x="2296" y="198"/>
                    </a:lnTo>
                    <a:lnTo>
                      <a:pt x="2230" y="162"/>
                    </a:lnTo>
                    <a:lnTo>
                      <a:pt x="2163" y="131"/>
                    </a:lnTo>
                    <a:lnTo>
                      <a:pt x="2094" y="102"/>
                    </a:lnTo>
                    <a:lnTo>
                      <a:pt x="2023" y="77"/>
                    </a:lnTo>
                    <a:lnTo>
                      <a:pt x="1950" y="55"/>
                    </a:lnTo>
                    <a:lnTo>
                      <a:pt x="1877" y="37"/>
                    </a:lnTo>
                    <a:lnTo>
                      <a:pt x="1803" y="22"/>
                    </a:lnTo>
                    <a:lnTo>
                      <a:pt x="1727" y="11"/>
                    </a:lnTo>
                    <a:lnTo>
                      <a:pt x="1650" y="3"/>
                    </a:lnTo>
                    <a:lnTo>
                      <a:pt x="1573" y="0"/>
                    </a:lnTo>
                    <a:lnTo>
                      <a:pt x="1495" y="0"/>
                    </a:lnTo>
                    <a:lnTo>
                      <a:pt x="1415" y="4"/>
                    </a:lnTo>
                  </a:path>
                </a:pathLst>
              </a:custGeom>
              <a:noFill/>
              <a:ln w="237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2703600" y="3117960"/>
                <a:ext cx="1163520" cy="2367000"/>
              </a:xfrm>
              <a:custGeom>
                <a:avLst/>
                <a:gdLst/>
                <a:ahLst/>
                <a:rect l="l" t="t" r="r" b="b"/>
                <a:pathLst>
                  <a:path w="3662" h="7456">
                    <a:moveTo>
                      <a:pt x="1229" y="0"/>
                    </a:moveTo>
                    <a:lnTo>
                      <a:pt x="1305" y="45"/>
                    </a:lnTo>
                    <a:lnTo>
                      <a:pt x="1371" y="100"/>
                    </a:lnTo>
                    <a:lnTo>
                      <a:pt x="1394" y="132"/>
                    </a:lnTo>
                    <a:lnTo>
                      <a:pt x="1414" y="177"/>
                    </a:lnTo>
                    <a:lnTo>
                      <a:pt x="1339" y="121"/>
                    </a:lnTo>
                    <a:lnTo>
                      <a:pt x="1250" y="111"/>
                    </a:lnTo>
                    <a:lnTo>
                      <a:pt x="1185" y="121"/>
                    </a:lnTo>
                    <a:lnTo>
                      <a:pt x="1262" y="132"/>
                    </a:lnTo>
                    <a:lnTo>
                      <a:pt x="1339" y="177"/>
                    </a:lnTo>
                    <a:lnTo>
                      <a:pt x="1349" y="209"/>
                    </a:lnTo>
                    <a:lnTo>
                      <a:pt x="1371" y="243"/>
                    </a:lnTo>
                    <a:lnTo>
                      <a:pt x="1262" y="287"/>
                    </a:lnTo>
                    <a:lnTo>
                      <a:pt x="1174" y="341"/>
                    </a:lnTo>
                    <a:lnTo>
                      <a:pt x="1097" y="408"/>
                    </a:lnTo>
                    <a:lnTo>
                      <a:pt x="1031" y="440"/>
                    </a:lnTo>
                    <a:lnTo>
                      <a:pt x="878" y="550"/>
                    </a:lnTo>
                    <a:lnTo>
                      <a:pt x="768" y="704"/>
                    </a:lnTo>
                    <a:lnTo>
                      <a:pt x="746" y="759"/>
                    </a:lnTo>
                    <a:lnTo>
                      <a:pt x="735" y="813"/>
                    </a:lnTo>
                    <a:lnTo>
                      <a:pt x="703" y="945"/>
                    </a:lnTo>
                    <a:lnTo>
                      <a:pt x="659" y="1067"/>
                    </a:lnTo>
                    <a:lnTo>
                      <a:pt x="614" y="1143"/>
                    </a:lnTo>
                    <a:lnTo>
                      <a:pt x="592" y="1209"/>
                    </a:lnTo>
                    <a:lnTo>
                      <a:pt x="559" y="1396"/>
                    </a:lnTo>
                    <a:lnTo>
                      <a:pt x="582" y="1582"/>
                    </a:lnTo>
                    <a:lnTo>
                      <a:pt x="604" y="1659"/>
                    </a:lnTo>
                    <a:lnTo>
                      <a:pt x="614" y="1736"/>
                    </a:lnTo>
                    <a:lnTo>
                      <a:pt x="647" y="1944"/>
                    </a:lnTo>
                    <a:lnTo>
                      <a:pt x="703" y="2131"/>
                    </a:lnTo>
                    <a:lnTo>
                      <a:pt x="801" y="2251"/>
                    </a:lnTo>
                    <a:lnTo>
                      <a:pt x="855" y="2383"/>
                    </a:lnTo>
                    <a:lnTo>
                      <a:pt x="890" y="2570"/>
                    </a:lnTo>
                    <a:lnTo>
                      <a:pt x="890" y="2756"/>
                    </a:lnTo>
                    <a:lnTo>
                      <a:pt x="768" y="2845"/>
                    </a:lnTo>
                    <a:lnTo>
                      <a:pt x="714" y="2877"/>
                    </a:lnTo>
                    <a:lnTo>
                      <a:pt x="670" y="2911"/>
                    </a:lnTo>
                    <a:lnTo>
                      <a:pt x="626" y="2955"/>
                    </a:lnTo>
                    <a:lnTo>
                      <a:pt x="592" y="2998"/>
                    </a:lnTo>
                    <a:lnTo>
                      <a:pt x="559" y="3053"/>
                    </a:lnTo>
                    <a:lnTo>
                      <a:pt x="505" y="3152"/>
                    </a:lnTo>
                    <a:lnTo>
                      <a:pt x="461" y="3262"/>
                    </a:lnTo>
                    <a:lnTo>
                      <a:pt x="440" y="3339"/>
                    </a:lnTo>
                    <a:lnTo>
                      <a:pt x="418" y="3427"/>
                    </a:lnTo>
                    <a:lnTo>
                      <a:pt x="395" y="3515"/>
                    </a:lnTo>
                    <a:lnTo>
                      <a:pt x="374" y="3602"/>
                    </a:lnTo>
                    <a:lnTo>
                      <a:pt x="330" y="3766"/>
                    </a:lnTo>
                    <a:lnTo>
                      <a:pt x="296" y="3932"/>
                    </a:lnTo>
                    <a:lnTo>
                      <a:pt x="286" y="3975"/>
                    </a:lnTo>
                    <a:lnTo>
                      <a:pt x="275" y="4041"/>
                    </a:lnTo>
                    <a:lnTo>
                      <a:pt x="219" y="4415"/>
                    </a:lnTo>
                    <a:lnTo>
                      <a:pt x="176" y="4798"/>
                    </a:lnTo>
                    <a:lnTo>
                      <a:pt x="187" y="5073"/>
                    </a:lnTo>
                    <a:lnTo>
                      <a:pt x="231" y="5347"/>
                    </a:lnTo>
                    <a:lnTo>
                      <a:pt x="286" y="5600"/>
                    </a:lnTo>
                    <a:lnTo>
                      <a:pt x="461" y="5775"/>
                    </a:lnTo>
                    <a:lnTo>
                      <a:pt x="571" y="5830"/>
                    </a:lnTo>
                    <a:lnTo>
                      <a:pt x="614" y="5864"/>
                    </a:lnTo>
                    <a:lnTo>
                      <a:pt x="659" y="5886"/>
                    </a:lnTo>
                    <a:lnTo>
                      <a:pt x="723" y="5930"/>
                    </a:lnTo>
                    <a:lnTo>
                      <a:pt x="812" y="5974"/>
                    </a:lnTo>
                    <a:lnTo>
                      <a:pt x="899" y="6007"/>
                    </a:lnTo>
                    <a:lnTo>
                      <a:pt x="910" y="6028"/>
                    </a:lnTo>
                    <a:lnTo>
                      <a:pt x="659" y="6039"/>
                    </a:lnTo>
                    <a:lnTo>
                      <a:pt x="418" y="6071"/>
                    </a:lnTo>
                    <a:lnTo>
                      <a:pt x="363" y="6083"/>
                    </a:lnTo>
                    <a:lnTo>
                      <a:pt x="308" y="6094"/>
                    </a:lnTo>
                    <a:lnTo>
                      <a:pt x="219" y="6128"/>
                    </a:lnTo>
                    <a:lnTo>
                      <a:pt x="155" y="6183"/>
                    </a:lnTo>
                    <a:lnTo>
                      <a:pt x="110" y="6226"/>
                    </a:lnTo>
                    <a:lnTo>
                      <a:pt x="88" y="6280"/>
                    </a:lnTo>
                    <a:lnTo>
                      <a:pt x="66" y="6315"/>
                    </a:lnTo>
                    <a:lnTo>
                      <a:pt x="55" y="6347"/>
                    </a:lnTo>
                    <a:lnTo>
                      <a:pt x="34" y="6390"/>
                    </a:lnTo>
                    <a:lnTo>
                      <a:pt x="23" y="6446"/>
                    </a:lnTo>
                    <a:lnTo>
                      <a:pt x="0" y="6698"/>
                    </a:lnTo>
                    <a:lnTo>
                      <a:pt x="66" y="6928"/>
                    </a:lnTo>
                    <a:lnTo>
                      <a:pt x="110" y="6983"/>
                    </a:lnTo>
                    <a:lnTo>
                      <a:pt x="143" y="7016"/>
                    </a:lnTo>
                    <a:lnTo>
                      <a:pt x="164" y="7049"/>
                    </a:lnTo>
                    <a:lnTo>
                      <a:pt x="209" y="7094"/>
                    </a:lnTo>
                    <a:lnTo>
                      <a:pt x="308" y="7159"/>
                    </a:lnTo>
                    <a:lnTo>
                      <a:pt x="363" y="7180"/>
                    </a:lnTo>
                    <a:lnTo>
                      <a:pt x="418" y="7203"/>
                    </a:lnTo>
                    <a:lnTo>
                      <a:pt x="483" y="7235"/>
                    </a:lnTo>
                    <a:lnTo>
                      <a:pt x="550" y="7269"/>
                    </a:lnTo>
                    <a:lnTo>
                      <a:pt x="614" y="7290"/>
                    </a:lnTo>
                    <a:lnTo>
                      <a:pt x="703" y="7324"/>
                    </a:lnTo>
                    <a:lnTo>
                      <a:pt x="758" y="7335"/>
                    </a:lnTo>
                    <a:lnTo>
                      <a:pt x="823" y="7347"/>
                    </a:lnTo>
                    <a:lnTo>
                      <a:pt x="965" y="7379"/>
                    </a:lnTo>
                    <a:lnTo>
                      <a:pt x="1119" y="7411"/>
                    </a:lnTo>
                    <a:lnTo>
                      <a:pt x="1700" y="7411"/>
                    </a:lnTo>
                    <a:lnTo>
                      <a:pt x="2259" y="7367"/>
                    </a:lnTo>
                    <a:lnTo>
                      <a:pt x="2281" y="7390"/>
                    </a:lnTo>
                    <a:lnTo>
                      <a:pt x="2314" y="7411"/>
                    </a:lnTo>
                    <a:lnTo>
                      <a:pt x="2457" y="7456"/>
                    </a:lnTo>
                    <a:lnTo>
                      <a:pt x="2599" y="7434"/>
                    </a:lnTo>
                    <a:lnTo>
                      <a:pt x="2720" y="7367"/>
                    </a:lnTo>
                    <a:lnTo>
                      <a:pt x="2873" y="7335"/>
                    </a:lnTo>
                    <a:lnTo>
                      <a:pt x="2873" y="6907"/>
                    </a:lnTo>
                    <a:lnTo>
                      <a:pt x="2632" y="6786"/>
                    </a:lnTo>
                    <a:lnTo>
                      <a:pt x="2599" y="6764"/>
                    </a:lnTo>
                    <a:lnTo>
                      <a:pt x="2632" y="6708"/>
                    </a:lnTo>
                    <a:lnTo>
                      <a:pt x="2699" y="6665"/>
                    </a:lnTo>
                    <a:lnTo>
                      <a:pt x="2775" y="6687"/>
                    </a:lnTo>
                    <a:lnTo>
                      <a:pt x="2873" y="6742"/>
                    </a:lnTo>
                    <a:lnTo>
                      <a:pt x="2873" y="6335"/>
                    </a:lnTo>
                    <a:lnTo>
                      <a:pt x="3411" y="6335"/>
                    </a:lnTo>
                    <a:lnTo>
                      <a:pt x="3192" y="5292"/>
                    </a:lnTo>
                    <a:lnTo>
                      <a:pt x="3005" y="5359"/>
                    </a:lnTo>
                    <a:lnTo>
                      <a:pt x="2797" y="4711"/>
                    </a:lnTo>
                    <a:lnTo>
                      <a:pt x="2720" y="4634"/>
                    </a:lnTo>
                    <a:lnTo>
                      <a:pt x="2632" y="4568"/>
                    </a:lnTo>
                    <a:lnTo>
                      <a:pt x="2644" y="4469"/>
                    </a:lnTo>
                    <a:lnTo>
                      <a:pt x="2621" y="4370"/>
                    </a:lnTo>
                    <a:lnTo>
                      <a:pt x="2599" y="4348"/>
                    </a:lnTo>
                    <a:lnTo>
                      <a:pt x="2588" y="4327"/>
                    </a:lnTo>
                    <a:lnTo>
                      <a:pt x="2654" y="4260"/>
                    </a:lnTo>
                    <a:lnTo>
                      <a:pt x="2665" y="4228"/>
                    </a:lnTo>
                    <a:lnTo>
                      <a:pt x="2676" y="4206"/>
                    </a:lnTo>
                    <a:lnTo>
                      <a:pt x="2753" y="4184"/>
                    </a:lnTo>
                    <a:lnTo>
                      <a:pt x="2818" y="4128"/>
                    </a:lnTo>
                    <a:lnTo>
                      <a:pt x="2840" y="4084"/>
                    </a:lnTo>
                    <a:lnTo>
                      <a:pt x="2863" y="4041"/>
                    </a:lnTo>
                    <a:lnTo>
                      <a:pt x="2895" y="3997"/>
                    </a:lnTo>
                    <a:lnTo>
                      <a:pt x="3016" y="4041"/>
                    </a:lnTo>
                    <a:lnTo>
                      <a:pt x="3148" y="4041"/>
                    </a:lnTo>
                    <a:lnTo>
                      <a:pt x="3170" y="4019"/>
                    </a:lnTo>
                    <a:lnTo>
                      <a:pt x="3170" y="3975"/>
                    </a:lnTo>
                    <a:lnTo>
                      <a:pt x="3136" y="3932"/>
                    </a:lnTo>
                    <a:lnTo>
                      <a:pt x="3103" y="3877"/>
                    </a:lnTo>
                    <a:lnTo>
                      <a:pt x="3103" y="3855"/>
                    </a:lnTo>
                    <a:lnTo>
                      <a:pt x="3180" y="3877"/>
                    </a:lnTo>
                    <a:lnTo>
                      <a:pt x="3258" y="3909"/>
                    </a:lnTo>
                    <a:lnTo>
                      <a:pt x="3302" y="3898"/>
                    </a:lnTo>
                    <a:lnTo>
                      <a:pt x="3334" y="3898"/>
                    </a:lnTo>
                    <a:lnTo>
                      <a:pt x="3345" y="3887"/>
                    </a:lnTo>
                    <a:lnTo>
                      <a:pt x="3356" y="3877"/>
                    </a:lnTo>
                    <a:lnTo>
                      <a:pt x="3434" y="3920"/>
                    </a:lnTo>
                    <a:lnTo>
                      <a:pt x="3510" y="3920"/>
                    </a:lnTo>
                    <a:lnTo>
                      <a:pt x="3531" y="3909"/>
                    </a:lnTo>
                    <a:lnTo>
                      <a:pt x="3553" y="3887"/>
                    </a:lnTo>
                    <a:lnTo>
                      <a:pt x="3531" y="3823"/>
                    </a:lnTo>
                    <a:lnTo>
                      <a:pt x="3586" y="3832"/>
                    </a:lnTo>
                    <a:lnTo>
                      <a:pt x="3652" y="3832"/>
                    </a:lnTo>
                    <a:lnTo>
                      <a:pt x="3662" y="3800"/>
                    </a:lnTo>
                    <a:lnTo>
                      <a:pt x="3652" y="3778"/>
                    </a:lnTo>
                    <a:lnTo>
                      <a:pt x="3619" y="3723"/>
                    </a:lnTo>
                    <a:lnTo>
                      <a:pt x="3564" y="3679"/>
                    </a:lnTo>
                    <a:lnTo>
                      <a:pt x="3520" y="3646"/>
                    </a:lnTo>
                    <a:lnTo>
                      <a:pt x="3488" y="3613"/>
                    </a:lnTo>
                    <a:lnTo>
                      <a:pt x="3399" y="3591"/>
                    </a:lnTo>
                    <a:lnTo>
                      <a:pt x="3312" y="3602"/>
                    </a:lnTo>
                    <a:lnTo>
                      <a:pt x="3267" y="3613"/>
                    </a:lnTo>
                    <a:lnTo>
                      <a:pt x="3224" y="3613"/>
                    </a:lnTo>
                    <a:lnTo>
                      <a:pt x="3136" y="3591"/>
                    </a:lnTo>
                    <a:lnTo>
                      <a:pt x="3060" y="3613"/>
                    </a:lnTo>
                    <a:lnTo>
                      <a:pt x="3005" y="3624"/>
                    </a:lnTo>
                    <a:lnTo>
                      <a:pt x="2961" y="3646"/>
                    </a:lnTo>
                    <a:lnTo>
                      <a:pt x="2840" y="3635"/>
                    </a:lnTo>
                    <a:lnTo>
                      <a:pt x="2699" y="3591"/>
                    </a:lnTo>
                    <a:lnTo>
                      <a:pt x="2611" y="3569"/>
                    </a:lnTo>
                    <a:lnTo>
                      <a:pt x="2544" y="3547"/>
                    </a:lnTo>
                    <a:lnTo>
                      <a:pt x="2512" y="3470"/>
                    </a:lnTo>
                    <a:lnTo>
                      <a:pt x="2479" y="3415"/>
                    </a:lnTo>
                    <a:lnTo>
                      <a:pt x="2424" y="3339"/>
                    </a:lnTo>
                    <a:lnTo>
                      <a:pt x="2348" y="3283"/>
                    </a:lnTo>
                    <a:lnTo>
                      <a:pt x="2293" y="3240"/>
                    </a:lnTo>
                    <a:lnTo>
                      <a:pt x="2227" y="3196"/>
                    </a:lnTo>
                    <a:lnTo>
                      <a:pt x="2161" y="3163"/>
                    </a:lnTo>
                    <a:lnTo>
                      <a:pt x="2271" y="3096"/>
                    </a:lnTo>
                    <a:lnTo>
                      <a:pt x="2314" y="3042"/>
                    </a:lnTo>
                    <a:lnTo>
                      <a:pt x="2358" y="2987"/>
                    </a:lnTo>
                    <a:lnTo>
                      <a:pt x="2380" y="2943"/>
                    </a:lnTo>
                    <a:lnTo>
                      <a:pt x="2424" y="2900"/>
                    </a:lnTo>
                    <a:lnTo>
                      <a:pt x="2500" y="2614"/>
                    </a:lnTo>
                    <a:lnTo>
                      <a:pt x="2500" y="2340"/>
                    </a:lnTo>
                    <a:lnTo>
                      <a:pt x="2523" y="2328"/>
                    </a:lnTo>
                    <a:lnTo>
                      <a:pt x="2533" y="2307"/>
                    </a:lnTo>
                    <a:lnTo>
                      <a:pt x="2523" y="2296"/>
                    </a:lnTo>
                    <a:lnTo>
                      <a:pt x="2512" y="2296"/>
                    </a:lnTo>
                    <a:lnTo>
                      <a:pt x="2544" y="2251"/>
                    </a:lnTo>
                    <a:lnTo>
                      <a:pt x="2567" y="2230"/>
                    </a:lnTo>
                    <a:lnTo>
                      <a:pt x="2632" y="2153"/>
                    </a:lnTo>
                    <a:lnTo>
                      <a:pt x="2676" y="2076"/>
                    </a:lnTo>
                    <a:lnTo>
                      <a:pt x="2731" y="1944"/>
                    </a:lnTo>
                    <a:lnTo>
                      <a:pt x="2786" y="1801"/>
                    </a:lnTo>
                    <a:lnTo>
                      <a:pt x="2818" y="1538"/>
                    </a:lnTo>
                    <a:lnTo>
                      <a:pt x="2775" y="1285"/>
                    </a:lnTo>
                    <a:lnTo>
                      <a:pt x="2763" y="1219"/>
                    </a:lnTo>
                    <a:lnTo>
                      <a:pt x="2763" y="1164"/>
                    </a:lnTo>
                    <a:lnTo>
                      <a:pt x="2818" y="1176"/>
                    </a:lnTo>
                    <a:lnTo>
                      <a:pt x="2863" y="1164"/>
                    </a:lnTo>
                    <a:lnTo>
                      <a:pt x="2808" y="1121"/>
                    </a:lnTo>
                    <a:lnTo>
                      <a:pt x="2753" y="1088"/>
                    </a:lnTo>
                    <a:lnTo>
                      <a:pt x="2884" y="1067"/>
                    </a:lnTo>
                    <a:lnTo>
                      <a:pt x="2961" y="978"/>
                    </a:lnTo>
                    <a:lnTo>
                      <a:pt x="2994" y="945"/>
                    </a:lnTo>
                    <a:lnTo>
                      <a:pt x="2907" y="989"/>
                    </a:lnTo>
                    <a:lnTo>
                      <a:pt x="2797" y="989"/>
                    </a:lnTo>
                    <a:lnTo>
                      <a:pt x="2743" y="968"/>
                    </a:lnTo>
                    <a:lnTo>
                      <a:pt x="2720" y="935"/>
                    </a:lnTo>
                    <a:lnTo>
                      <a:pt x="2786" y="935"/>
                    </a:lnTo>
                    <a:lnTo>
                      <a:pt x="2852" y="912"/>
                    </a:lnTo>
                    <a:lnTo>
                      <a:pt x="2775" y="891"/>
                    </a:lnTo>
                    <a:lnTo>
                      <a:pt x="2699" y="847"/>
                    </a:lnTo>
                    <a:lnTo>
                      <a:pt x="2588" y="769"/>
                    </a:lnTo>
                    <a:lnTo>
                      <a:pt x="2489" y="672"/>
                    </a:lnTo>
                    <a:lnTo>
                      <a:pt x="2380" y="572"/>
                    </a:lnTo>
                    <a:lnTo>
                      <a:pt x="2259" y="473"/>
                    </a:lnTo>
                    <a:lnTo>
                      <a:pt x="2117" y="385"/>
                    </a:lnTo>
                    <a:lnTo>
                      <a:pt x="2051" y="341"/>
                    </a:lnTo>
                    <a:lnTo>
                      <a:pt x="1953" y="308"/>
                    </a:lnTo>
                    <a:lnTo>
                      <a:pt x="1766" y="253"/>
                    </a:lnTo>
                    <a:lnTo>
                      <a:pt x="1645" y="221"/>
                    </a:lnTo>
                    <a:lnTo>
                      <a:pt x="1525" y="221"/>
                    </a:lnTo>
                    <a:lnTo>
                      <a:pt x="1492" y="144"/>
                    </a:lnTo>
                    <a:lnTo>
                      <a:pt x="1426" y="89"/>
                    </a:lnTo>
                    <a:lnTo>
                      <a:pt x="1394" y="56"/>
                    </a:lnTo>
                    <a:lnTo>
                      <a:pt x="1339" y="34"/>
                    </a:lnTo>
                    <a:lnTo>
                      <a:pt x="12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3887640" y="4937040"/>
                <a:ext cx="689040" cy="378000"/>
              </a:xfrm>
              <a:custGeom>
                <a:avLst/>
                <a:gdLst/>
                <a:ahLst/>
                <a:rect l="l" t="t" r="r" b="b"/>
                <a:pathLst>
                  <a:path w="2171" h="1186">
                    <a:moveTo>
                      <a:pt x="1985" y="0"/>
                    </a:moveTo>
                    <a:lnTo>
                      <a:pt x="1918" y="11"/>
                    </a:lnTo>
                    <a:lnTo>
                      <a:pt x="1875" y="55"/>
                    </a:lnTo>
                    <a:lnTo>
                      <a:pt x="1831" y="120"/>
                    </a:lnTo>
                    <a:lnTo>
                      <a:pt x="1743" y="154"/>
                    </a:lnTo>
                    <a:lnTo>
                      <a:pt x="1622" y="219"/>
                    </a:lnTo>
                    <a:lnTo>
                      <a:pt x="1503" y="285"/>
                    </a:lnTo>
                    <a:lnTo>
                      <a:pt x="1469" y="307"/>
                    </a:lnTo>
                    <a:lnTo>
                      <a:pt x="1436" y="339"/>
                    </a:lnTo>
                    <a:lnTo>
                      <a:pt x="1391" y="362"/>
                    </a:lnTo>
                    <a:lnTo>
                      <a:pt x="1359" y="384"/>
                    </a:lnTo>
                    <a:lnTo>
                      <a:pt x="1338" y="406"/>
                    </a:lnTo>
                    <a:lnTo>
                      <a:pt x="1250" y="460"/>
                    </a:lnTo>
                    <a:lnTo>
                      <a:pt x="1163" y="505"/>
                    </a:lnTo>
                    <a:lnTo>
                      <a:pt x="976" y="505"/>
                    </a:lnTo>
                    <a:lnTo>
                      <a:pt x="800" y="439"/>
                    </a:lnTo>
                    <a:lnTo>
                      <a:pt x="0" y="592"/>
                    </a:lnTo>
                    <a:lnTo>
                      <a:pt x="1480" y="592"/>
                    </a:lnTo>
                    <a:lnTo>
                      <a:pt x="1480" y="1186"/>
                    </a:lnTo>
                    <a:lnTo>
                      <a:pt x="1612" y="1043"/>
                    </a:lnTo>
                    <a:lnTo>
                      <a:pt x="1722" y="802"/>
                    </a:lnTo>
                    <a:lnTo>
                      <a:pt x="1930" y="647"/>
                    </a:lnTo>
                    <a:lnTo>
                      <a:pt x="2007" y="505"/>
                    </a:lnTo>
                    <a:lnTo>
                      <a:pt x="2062" y="351"/>
                    </a:lnTo>
                    <a:lnTo>
                      <a:pt x="2062" y="296"/>
                    </a:lnTo>
                    <a:lnTo>
                      <a:pt x="2083" y="242"/>
                    </a:lnTo>
                    <a:lnTo>
                      <a:pt x="2138" y="198"/>
                    </a:lnTo>
                    <a:lnTo>
                      <a:pt x="2171" y="132"/>
                    </a:lnTo>
                    <a:lnTo>
                      <a:pt x="2159" y="77"/>
                    </a:lnTo>
                    <a:lnTo>
                      <a:pt x="2138" y="43"/>
                    </a:lnTo>
                    <a:lnTo>
                      <a:pt x="2073" y="33"/>
                    </a:lnTo>
                    <a:lnTo>
                      <a:pt x="2029" y="22"/>
                    </a:lnTo>
                    <a:lnTo>
                      <a:pt x="2007" y="0"/>
                    </a:lnTo>
                    <a:lnTo>
                      <a:pt x="198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3543480" y="4348080"/>
                <a:ext cx="466560" cy="471600"/>
              </a:xfrm>
              <a:custGeom>
                <a:avLst/>
                <a:gdLst/>
                <a:ahLst/>
                <a:rect l="l" t="t" r="r" b="b"/>
                <a:pathLst>
                  <a:path w="1468" h="1482">
                    <a:moveTo>
                      <a:pt x="0" y="374"/>
                    </a:moveTo>
                    <a:lnTo>
                      <a:pt x="1095" y="0"/>
                    </a:lnTo>
                    <a:lnTo>
                      <a:pt x="1468" y="1098"/>
                    </a:lnTo>
                    <a:lnTo>
                      <a:pt x="361" y="1482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dd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3543480" y="4348080"/>
                <a:ext cx="466560" cy="471600"/>
              </a:xfrm>
              <a:custGeom>
                <a:avLst/>
                <a:gdLst/>
                <a:ahLst/>
                <a:rect l="l" t="t" r="r" b="b"/>
                <a:pathLst>
                  <a:path w="1468" h="1482">
                    <a:moveTo>
                      <a:pt x="0" y="374"/>
                    </a:moveTo>
                    <a:lnTo>
                      <a:pt x="1095" y="0"/>
                    </a:lnTo>
                    <a:lnTo>
                      <a:pt x="1468" y="1098"/>
                    </a:lnTo>
                    <a:lnTo>
                      <a:pt x="361" y="1482"/>
                    </a:lnTo>
                    <a:lnTo>
                      <a:pt x="0" y="374"/>
                    </a:lnTo>
                  </a:path>
                </a:pathLst>
              </a:custGeom>
              <a:noFill/>
              <a:ln w="0">
                <a:solidFill>
                  <a:srgbClr val="e5491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3718080" y="4707000"/>
                <a:ext cx="438120" cy="439560"/>
              </a:xfrm>
              <a:custGeom>
                <a:avLst/>
                <a:gdLst/>
                <a:ahLst/>
                <a:rect l="l" t="t" r="r" b="b"/>
                <a:pathLst>
                  <a:path w="1381" h="1383">
                    <a:moveTo>
                      <a:pt x="0" y="241"/>
                    </a:moveTo>
                    <a:lnTo>
                      <a:pt x="1141" y="0"/>
                    </a:lnTo>
                    <a:lnTo>
                      <a:pt x="1381" y="1153"/>
                    </a:lnTo>
                    <a:lnTo>
                      <a:pt x="230" y="1383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e04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3718080" y="4707000"/>
                <a:ext cx="438120" cy="439560"/>
              </a:xfrm>
              <a:custGeom>
                <a:avLst/>
                <a:gdLst/>
                <a:ahLst/>
                <a:rect l="l" t="t" r="r" b="b"/>
                <a:pathLst>
                  <a:path w="1381" h="1383">
                    <a:moveTo>
                      <a:pt x="0" y="241"/>
                    </a:moveTo>
                    <a:lnTo>
                      <a:pt x="1141" y="0"/>
                    </a:lnTo>
                    <a:lnTo>
                      <a:pt x="1381" y="1153"/>
                    </a:lnTo>
                    <a:lnTo>
                      <a:pt x="230" y="1383"/>
                    </a:lnTo>
                    <a:lnTo>
                      <a:pt x="0" y="241"/>
                    </a:lnTo>
                  </a:path>
                </a:pathLst>
              </a:custGeom>
              <a:noFill/>
              <a:ln w="0">
                <a:solidFill>
                  <a:srgbClr val="e7511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3986280" y="5129280"/>
                <a:ext cx="371520" cy="369720"/>
              </a:xfrm>
              <a:prstGeom prst="rect">
                <a:avLst/>
              </a:prstGeom>
              <a:solidFill>
                <a:srgbClr val="324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3986280" y="5129280"/>
                <a:ext cx="371520" cy="369720"/>
              </a:xfrm>
              <a:prstGeom prst="rect">
                <a:avLst/>
              </a:prstGeom>
              <a:noFill/>
              <a:ln w="0">
                <a:solidFill>
                  <a:srgbClr val="1b549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2693880" y="478800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746" h="1043">
                    <a:moveTo>
                      <a:pt x="164" y="0"/>
                    </a:moveTo>
                    <a:lnTo>
                      <a:pt x="142" y="32"/>
                    </a:lnTo>
                    <a:lnTo>
                      <a:pt x="120" y="66"/>
                    </a:lnTo>
                    <a:lnTo>
                      <a:pt x="98" y="87"/>
                    </a:lnTo>
                    <a:lnTo>
                      <a:pt x="87" y="110"/>
                    </a:lnTo>
                    <a:lnTo>
                      <a:pt x="98" y="230"/>
                    </a:lnTo>
                    <a:lnTo>
                      <a:pt x="77" y="340"/>
                    </a:lnTo>
                    <a:lnTo>
                      <a:pt x="98" y="527"/>
                    </a:lnTo>
                    <a:lnTo>
                      <a:pt x="77" y="691"/>
                    </a:lnTo>
                    <a:lnTo>
                      <a:pt x="43" y="747"/>
                    </a:lnTo>
                    <a:lnTo>
                      <a:pt x="11" y="811"/>
                    </a:lnTo>
                    <a:lnTo>
                      <a:pt x="0" y="932"/>
                    </a:lnTo>
                    <a:lnTo>
                      <a:pt x="0" y="1043"/>
                    </a:lnTo>
                    <a:lnTo>
                      <a:pt x="66" y="932"/>
                    </a:lnTo>
                    <a:lnTo>
                      <a:pt x="153" y="834"/>
                    </a:lnTo>
                    <a:lnTo>
                      <a:pt x="438" y="724"/>
                    </a:lnTo>
                    <a:lnTo>
                      <a:pt x="746" y="714"/>
                    </a:lnTo>
                    <a:lnTo>
                      <a:pt x="624" y="647"/>
                    </a:lnTo>
                    <a:lnTo>
                      <a:pt x="482" y="582"/>
                    </a:lnTo>
                    <a:lnTo>
                      <a:pt x="328" y="472"/>
                    </a:lnTo>
                    <a:lnTo>
                      <a:pt x="230" y="296"/>
                    </a:lnTo>
                    <a:lnTo>
                      <a:pt x="219" y="142"/>
                    </a:lnTo>
                    <a:lnTo>
                      <a:pt x="175" y="23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df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3564000" y="4370400"/>
                <a:ext cx="425520" cy="426960"/>
              </a:xfrm>
              <a:custGeom>
                <a:avLst/>
                <a:gdLst/>
                <a:ahLst/>
                <a:rect l="l" t="t" r="r" b="b"/>
                <a:pathLst>
                  <a:path w="1339" h="1349">
                    <a:moveTo>
                      <a:pt x="0" y="340"/>
                    </a:moveTo>
                    <a:lnTo>
                      <a:pt x="999" y="0"/>
                    </a:lnTo>
                    <a:lnTo>
                      <a:pt x="1339" y="999"/>
                    </a:lnTo>
                    <a:lnTo>
                      <a:pt x="331" y="1349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3564000" y="4370400"/>
                <a:ext cx="425520" cy="426960"/>
              </a:xfrm>
              <a:custGeom>
                <a:avLst/>
                <a:gdLst/>
                <a:ahLst/>
                <a:rect l="l" t="t" r="r" b="b"/>
                <a:pathLst>
                  <a:path w="1339" h="1349">
                    <a:moveTo>
                      <a:pt x="0" y="340"/>
                    </a:moveTo>
                    <a:lnTo>
                      <a:pt x="999" y="0"/>
                    </a:lnTo>
                    <a:lnTo>
                      <a:pt x="1339" y="999"/>
                    </a:lnTo>
                    <a:lnTo>
                      <a:pt x="331" y="1349"/>
                    </a:lnTo>
                    <a:lnTo>
                      <a:pt x="0" y="34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3697200" y="4467240"/>
                <a:ext cx="236520" cy="268200"/>
              </a:xfrm>
              <a:custGeom>
                <a:avLst/>
                <a:gdLst/>
                <a:ahLst/>
                <a:rect l="l" t="t" r="r" b="b"/>
                <a:pathLst>
                  <a:path w="745" h="845">
                    <a:moveTo>
                      <a:pt x="362" y="492"/>
                    </a:moveTo>
                    <a:lnTo>
                      <a:pt x="121" y="581"/>
                    </a:lnTo>
                    <a:lnTo>
                      <a:pt x="121" y="668"/>
                    </a:lnTo>
                    <a:lnTo>
                      <a:pt x="121" y="701"/>
                    </a:lnTo>
                    <a:lnTo>
                      <a:pt x="121" y="733"/>
                    </a:lnTo>
                    <a:lnTo>
                      <a:pt x="141" y="756"/>
                    </a:lnTo>
                    <a:lnTo>
                      <a:pt x="164" y="768"/>
                    </a:lnTo>
                    <a:lnTo>
                      <a:pt x="186" y="756"/>
                    </a:lnTo>
                    <a:lnTo>
                      <a:pt x="230" y="756"/>
                    </a:lnTo>
                    <a:lnTo>
                      <a:pt x="241" y="768"/>
                    </a:lnTo>
                    <a:lnTo>
                      <a:pt x="10" y="845"/>
                    </a:lnTo>
                    <a:lnTo>
                      <a:pt x="0" y="833"/>
                    </a:lnTo>
                    <a:lnTo>
                      <a:pt x="32" y="811"/>
                    </a:lnTo>
                    <a:lnTo>
                      <a:pt x="54" y="778"/>
                    </a:lnTo>
                    <a:lnTo>
                      <a:pt x="66" y="733"/>
                    </a:lnTo>
                    <a:lnTo>
                      <a:pt x="77" y="658"/>
                    </a:lnTo>
                    <a:lnTo>
                      <a:pt x="132" y="0"/>
                    </a:lnTo>
                    <a:lnTo>
                      <a:pt x="141" y="0"/>
                    </a:lnTo>
                    <a:lnTo>
                      <a:pt x="591" y="492"/>
                    </a:lnTo>
                    <a:lnTo>
                      <a:pt x="648" y="547"/>
                    </a:lnTo>
                    <a:lnTo>
                      <a:pt x="680" y="569"/>
                    </a:lnTo>
                    <a:lnTo>
                      <a:pt x="712" y="581"/>
                    </a:lnTo>
                    <a:lnTo>
                      <a:pt x="735" y="569"/>
                    </a:lnTo>
                    <a:lnTo>
                      <a:pt x="745" y="592"/>
                    </a:lnTo>
                    <a:lnTo>
                      <a:pt x="405" y="701"/>
                    </a:lnTo>
                    <a:lnTo>
                      <a:pt x="405" y="691"/>
                    </a:lnTo>
                    <a:lnTo>
                      <a:pt x="417" y="679"/>
                    </a:lnTo>
                    <a:lnTo>
                      <a:pt x="449" y="668"/>
                    </a:lnTo>
                    <a:lnTo>
                      <a:pt x="472" y="658"/>
                    </a:lnTo>
                    <a:lnTo>
                      <a:pt x="472" y="647"/>
                    </a:lnTo>
                    <a:lnTo>
                      <a:pt x="472" y="624"/>
                    </a:lnTo>
                    <a:lnTo>
                      <a:pt x="460" y="613"/>
                    </a:lnTo>
                    <a:lnTo>
                      <a:pt x="438" y="581"/>
                    </a:lnTo>
                    <a:lnTo>
                      <a:pt x="362" y="492"/>
                    </a:lnTo>
                    <a:close/>
                  </a:path>
                </a:pathLst>
              </a:custGeom>
              <a:solidFill>
                <a:srgbClr val="dd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3697200" y="4467240"/>
                <a:ext cx="236520" cy="268200"/>
              </a:xfrm>
              <a:custGeom>
                <a:avLst/>
                <a:gdLst/>
                <a:ahLst/>
                <a:rect l="l" t="t" r="r" b="b"/>
                <a:pathLst>
                  <a:path w="745" h="845">
                    <a:moveTo>
                      <a:pt x="362" y="492"/>
                    </a:moveTo>
                    <a:lnTo>
                      <a:pt x="121" y="581"/>
                    </a:lnTo>
                    <a:lnTo>
                      <a:pt x="121" y="668"/>
                    </a:lnTo>
                    <a:lnTo>
                      <a:pt x="121" y="701"/>
                    </a:lnTo>
                    <a:lnTo>
                      <a:pt x="121" y="733"/>
                    </a:lnTo>
                    <a:lnTo>
                      <a:pt x="141" y="756"/>
                    </a:lnTo>
                    <a:lnTo>
                      <a:pt x="164" y="768"/>
                    </a:lnTo>
                    <a:lnTo>
                      <a:pt x="186" y="756"/>
                    </a:lnTo>
                    <a:lnTo>
                      <a:pt x="230" y="756"/>
                    </a:lnTo>
                    <a:lnTo>
                      <a:pt x="241" y="768"/>
                    </a:lnTo>
                    <a:lnTo>
                      <a:pt x="10" y="845"/>
                    </a:lnTo>
                    <a:lnTo>
                      <a:pt x="0" y="833"/>
                    </a:lnTo>
                    <a:lnTo>
                      <a:pt x="32" y="811"/>
                    </a:lnTo>
                    <a:lnTo>
                      <a:pt x="54" y="778"/>
                    </a:lnTo>
                    <a:lnTo>
                      <a:pt x="66" y="733"/>
                    </a:lnTo>
                    <a:lnTo>
                      <a:pt x="77" y="658"/>
                    </a:lnTo>
                    <a:lnTo>
                      <a:pt x="132" y="0"/>
                    </a:lnTo>
                    <a:lnTo>
                      <a:pt x="141" y="0"/>
                    </a:lnTo>
                    <a:lnTo>
                      <a:pt x="591" y="492"/>
                    </a:lnTo>
                    <a:lnTo>
                      <a:pt x="648" y="547"/>
                    </a:lnTo>
                    <a:lnTo>
                      <a:pt x="680" y="569"/>
                    </a:lnTo>
                    <a:lnTo>
                      <a:pt x="712" y="581"/>
                    </a:lnTo>
                    <a:lnTo>
                      <a:pt x="735" y="569"/>
                    </a:lnTo>
                    <a:lnTo>
                      <a:pt x="745" y="592"/>
                    </a:lnTo>
                    <a:lnTo>
                      <a:pt x="405" y="701"/>
                    </a:lnTo>
                    <a:lnTo>
                      <a:pt x="405" y="691"/>
                    </a:lnTo>
                    <a:lnTo>
                      <a:pt x="417" y="679"/>
                    </a:lnTo>
                    <a:lnTo>
                      <a:pt x="449" y="668"/>
                    </a:lnTo>
                    <a:lnTo>
                      <a:pt x="472" y="658"/>
                    </a:lnTo>
                    <a:lnTo>
                      <a:pt x="472" y="647"/>
                    </a:lnTo>
                    <a:lnTo>
                      <a:pt x="472" y="624"/>
                    </a:lnTo>
                    <a:lnTo>
                      <a:pt x="460" y="613"/>
                    </a:lnTo>
                    <a:lnTo>
                      <a:pt x="438" y="581"/>
                    </a:lnTo>
                    <a:lnTo>
                      <a:pt x="362" y="492"/>
                    </a:lnTo>
                  </a:path>
                </a:pathLst>
              </a:custGeom>
              <a:noFill/>
              <a:ln w="0">
                <a:solidFill>
                  <a:srgbClr val="e5491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3738600" y="4551480"/>
                <a:ext cx="61920" cy="87120"/>
              </a:xfrm>
              <a:custGeom>
                <a:avLst/>
                <a:gdLst/>
                <a:ahLst/>
                <a:rect l="l" t="t" r="r" b="b"/>
                <a:pathLst>
                  <a:path w="197" h="275">
                    <a:moveTo>
                      <a:pt x="197" y="198"/>
                    </a:moveTo>
                    <a:lnTo>
                      <a:pt x="21" y="0"/>
                    </a:lnTo>
                    <a:lnTo>
                      <a:pt x="0" y="275"/>
                    </a:lnTo>
                    <a:lnTo>
                      <a:pt x="197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3738600" y="4551480"/>
                <a:ext cx="61920" cy="87120"/>
              </a:xfrm>
              <a:custGeom>
                <a:avLst/>
                <a:gdLst/>
                <a:ahLst/>
                <a:rect l="l" t="t" r="r" b="b"/>
                <a:pathLst>
                  <a:path w="197" h="275">
                    <a:moveTo>
                      <a:pt x="197" y="198"/>
                    </a:moveTo>
                    <a:lnTo>
                      <a:pt x="21" y="0"/>
                    </a:lnTo>
                    <a:lnTo>
                      <a:pt x="0" y="275"/>
                    </a:lnTo>
                    <a:lnTo>
                      <a:pt x="197" y="19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3735360" y="4729320"/>
                <a:ext cx="397080" cy="396720"/>
              </a:xfrm>
              <a:custGeom>
                <a:avLst/>
                <a:gdLst/>
                <a:ahLst/>
                <a:rect l="l" t="t" r="r" b="b"/>
                <a:pathLst>
                  <a:path w="1250" h="1251">
                    <a:moveTo>
                      <a:pt x="0" y="219"/>
                    </a:moveTo>
                    <a:lnTo>
                      <a:pt x="1041" y="0"/>
                    </a:lnTo>
                    <a:lnTo>
                      <a:pt x="1250" y="1043"/>
                    </a:lnTo>
                    <a:lnTo>
                      <a:pt x="208" y="125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3735360" y="4729320"/>
                <a:ext cx="397080" cy="396720"/>
              </a:xfrm>
              <a:custGeom>
                <a:avLst/>
                <a:gdLst/>
                <a:ahLst/>
                <a:rect l="l" t="t" r="r" b="b"/>
                <a:pathLst>
                  <a:path w="1250" h="1251">
                    <a:moveTo>
                      <a:pt x="0" y="219"/>
                    </a:moveTo>
                    <a:lnTo>
                      <a:pt x="1041" y="0"/>
                    </a:lnTo>
                    <a:lnTo>
                      <a:pt x="1250" y="1043"/>
                    </a:lnTo>
                    <a:lnTo>
                      <a:pt x="208" y="1251"/>
                    </a:lnTo>
                    <a:lnTo>
                      <a:pt x="0" y="21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3794040" y="4811760"/>
                <a:ext cx="247680" cy="255600"/>
              </a:xfrm>
              <a:custGeom>
                <a:avLst/>
                <a:gdLst/>
                <a:ahLst/>
                <a:rect l="l" t="t" r="r" b="b"/>
                <a:pathLst>
                  <a:path w="777" h="801">
                    <a:moveTo>
                      <a:pt x="536" y="329"/>
                    </a:moveTo>
                    <a:lnTo>
                      <a:pt x="613" y="285"/>
                    </a:lnTo>
                    <a:lnTo>
                      <a:pt x="657" y="242"/>
                    </a:lnTo>
                    <a:lnTo>
                      <a:pt x="678" y="187"/>
                    </a:lnTo>
                    <a:lnTo>
                      <a:pt x="678" y="131"/>
                    </a:lnTo>
                    <a:lnTo>
                      <a:pt x="668" y="87"/>
                    </a:lnTo>
                    <a:lnTo>
                      <a:pt x="635" y="55"/>
                    </a:lnTo>
                    <a:lnTo>
                      <a:pt x="580" y="22"/>
                    </a:lnTo>
                    <a:lnTo>
                      <a:pt x="536" y="0"/>
                    </a:lnTo>
                    <a:lnTo>
                      <a:pt x="459" y="0"/>
                    </a:lnTo>
                    <a:lnTo>
                      <a:pt x="349" y="22"/>
                    </a:lnTo>
                    <a:lnTo>
                      <a:pt x="0" y="87"/>
                    </a:lnTo>
                    <a:lnTo>
                      <a:pt x="0" y="110"/>
                    </a:lnTo>
                    <a:lnTo>
                      <a:pt x="54" y="98"/>
                    </a:lnTo>
                    <a:lnTo>
                      <a:pt x="86" y="98"/>
                    </a:lnTo>
                    <a:lnTo>
                      <a:pt x="97" y="110"/>
                    </a:lnTo>
                    <a:lnTo>
                      <a:pt x="109" y="121"/>
                    </a:lnTo>
                    <a:lnTo>
                      <a:pt x="119" y="142"/>
                    </a:lnTo>
                    <a:lnTo>
                      <a:pt x="130" y="187"/>
                    </a:lnTo>
                    <a:lnTo>
                      <a:pt x="218" y="659"/>
                    </a:lnTo>
                    <a:lnTo>
                      <a:pt x="228" y="714"/>
                    </a:lnTo>
                    <a:lnTo>
                      <a:pt x="218" y="734"/>
                    </a:lnTo>
                    <a:lnTo>
                      <a:pt x="218" y="757"/>
                    </a:lnTo>
                    <a:lnTo>
                      <a:pt x="208" y="757"/>
                    </a:lnTo>
                    <a:lnTo>
                      <a:pt x="185" y="779"/>
                    </a:lnTo>
                    <a:lnTo>
                      <a:pt x="141" y="791"/>
                    </a:lnTo>
                    <a:lnTo>
                      <a:pt x="141" y="801"/>
                    </a:lnTo>
                    <a:lnTo>
                      <a:pt x="514" y="724"/>
                    </a:lnTo>
                    <a:lnTo>
                      <a:pt x="645" y="691"/>
                    </a:lnTo>
                    <a:lnTo>
                      <a:pt x="744" y="625"/>
                    </a:lnTo>
                    <a:lnTo>
                      <a:pt x="777" y="549"/>
                    </a:lnTo>
                    <a:lnTo>
                      <a:pt x="777" y="472"/>
                    </a:lnTo>
                    <a:lnTo>
                      <a:pt x="755" y="406"/>
                    </a:lnTo>
                    <a:lnTo>
                      <a:pt x="700" y="362"/>
                    </a:lnTo>
                    <a:lnTo>
                      <a:pt x="635" y="340"/>
                    </a:lnTo>
                    <a:lnTo>
                      <a:pt x="536" y="329"/>
                    </a:lnTo>
                    <a:close/>
                  </a:path>
                </a:pathLst>
              </a:custGeom>
              <a:solidFill>
                <a:srgbClr val="e04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3794040" y="4811760"/>
                <a:ext cx="247680" cy="255600"/>
              </a:xfrm>
              <a:custGeom>
                <a:avLst/>
                <a:gdLst/>
                <a:ahLst/>
                <a:rect l="l" t="t" r="r" b="b"/>
                <a:pathLst>
                  <a:path w="777" h="801">
                    <a:moveTo>
                      <a:pt x="536" y="329"/>
                    </a:moveTo>
                    <a:lnTo>
                      <a:pt x="613" y="285"/>
                    </a:lnTo>
                    <a:lnTo>
                      <a:pt x="657" y="242"/>
                    </a:lnTo>
                    <a:lnTo>
                      <a:pt x="678" y="187"/>
                    </a:lnTo>
                    <a:lnTo>
                      <a:pt x="678" y="131"/>
                    </a:lnTo>
                    <a:lnTo>
                      <a:pt x="668" y="87"/>
                    </a:lnTo>
                    <a:lnTo>
                      <a:pt x="635" y="55"/>
                    </a:lnTo>
                    <a:lnTo>
                      <a:pt x="580" y="22"/>
                    </a:lnTo>
                    <a:lnTo>
                      <a:pt x="536" y="0"/>
                    </a:lnTo>
                    <a:lnTo>
                      <a:pt x="459" y="0"/>
                    </a:lnTo>
                    <a:lnTo>
                      <a:pt x="349" y="22"/>
                    </a:lnTo>
                    <a:lnTo>
                      <a:pt x="0" y="87"/>
                    </a:lnTo>
                    <a:lnTo>
                      <a:pt x="0" y="110"/>
                    </a:lnTo>
                    <a:lnTo>
                      <a:pt x="54" y="98"/>
                    </a:lnTo>
                    <a:lnTo>
                      <a:pt x="86" y="98"/>
                    </a:lnTo>
                    <a:lnTo>
                      <a:pt x="97" y="110"/>
                    </a:lnTo>
                    <a:lnTo>
                      <a:pt x="109" y="121"/>
                    </a:lnTo>
                    <a:lnTo>
                      <a:pt x="119" y="142"/>
                    </a:lnTo>
                    <a:lnTo>
                      <a:pt x="130" y="187"/>
                    </a:lnTo>
                    <a:lnTo>
                      <a:pt x="218" y="659"/>
                    </a:lnTo>
                    <a:lnTo>
                      <a:pt x="228" y="714"/>
                    </a:lnTo>
                    <a:lnTo>
                      <a:pt x="218" y="734"/>
                    </a:lnTo>
                    <a:lnTo>
                      <a:pt x="218" y="757"/>
                    </a:lnTo>
                    <a:lnTo>
                      <a:pt x="208" y="757"/>
                    </a:lnTo>
                    <a:lnTo>
                      <a:pt x="185" y="779"/>
                    </a:lnTo>
                    <a:lnTo>
                      <a:pt x="141" y="791"/>
                    </a:lnTo>
                    <a:lnTo>
                      <a:pt x="141" y="801"/>
                    </a:lnTo>
                    <a:lnTo>
                      <a:pt x="514" y="724"/>
                    </a:lnTo>
                    <a:lnTo>
                      <a:pt x="645" y="691"/>
                    </a:lnTo>
                    <a:lnTo>
                      <a:pt x="744" y="625"/>
                    </a:lnTo>
                    <a:lnTo>
                      <a:pt x="777" y="549"/>
                    </a:lnTo>
                    <a:lnTo>
                      <a:pt x="777" y="472"/>
                    </a:lnTo>
                    <a:lnTo>
                      <a:pt x="755" y="406"/>
                    </a:lnTo>
                    <a:lnTo>
                      <a:pt x="700" y="362"/>
                    </a:lnTo>
                    <a:lnTo>
                      <a:pt x="635" y="340"/>
                    </a:lnTo>
                    <a:lnTo>
                      <a:pt x="536" y="329"/>
                    </a:lnTo>
                  </a:path>
                </a:pathLst>
              </a:custGeom>
              <a:noFill/>
              <a:ln w="0">
                <a:solidFill>
                  <a:srgbClr val="e7511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3902040" y="4933800"/>
                <a:ext cx="76320" cy="101880"/>
              </a:xfrm>
              <a:custGeom>
                <a:avLst/>
                <a:gdLst/>
                <a:ahLst/>
                <a:rect l="l" t="t" r="r" b="b"/>
                <a:pathLst>
                  <a:path w="240" h="319">
                    <a:moveTo>
                      <a:pt x="0" y="12"/>
                    </a:moveTo>
                    <a:lnTo>
                      <a:pt x="75" y="0"/>
                    </a:lnTo>
                    <a:lnTo>
                      <a:pt x="130" y="12"/>
                    </a:lnTo>
                    <a:lnTo>
                      <a:pt x="185" y="12"/>
                    </a:lnTo>
                    <a:lnTo>
                      <a:pt x="207" y="45"/>
                    </a:lnTo>
                    <a:lnTo>
                      <a:pt x="228" y="89"/>
                    </a:lnTo>
                    <a:lnTo>
                      <a:pt x="240" y="132"/>
                    </a:lnTo>
                    <a:lnTo>
                      <a:pt x="240" y="176"/>
                    </a:lnTo>
                    <a:lnTo>
                      <a:pt x="240" y="220"/>
                    </a:lnTo>
                    <a:lnTo>
                      <a:pt x="228" y="264"/>
                    </a:lnTo>
                    <a:lnTo>
                      <a:pt x="196" y="287"/>
                    </a:lnTo>
                    <a:lnTo>
                      <a:pt x="164" y="308"/>
                    </a:lnTo>
                    <a:lnTo>
                      <a:pt x="119" y="319"/>
                    </a:lnTo>
                    <a:lnTo>
                      <a:pt x="97" y="319"/>
                    </a:lnTo>
                    <a:lnTo>
                      <a:pt x="75" y="319"/>
                    </a:lnTo>
                    <a:lnTo>
                      <a:pt x="64" y="308"/>
                    </a:lnTo>
                    <a:lnTo>
                      <a:pt x="54" y="276"/>
                    </a:lnTo>
                    <a:lnTo>
                      <a:pt x="43" y="25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3902040" y="4933800"/>
                <a:ext cx="76320" cy="101880"/>
              </a:xfrm>
              <a:custGeom>
                <a:avLst/>
                <a:gdLst/>
                <a:ahLst/>
                <a:rect l="l" t="t" r="r" b="b"/>
                <a:pathLst>
                  <a:path w="240" h="319">
                    <a:moveTo>
                      <a:pt x="0" y="12"/>
                    </a:moveTo>
                    <a:lnTo>
                      <a:pt x="75" y="0"/>
                    </a:lnTo>
                    <a:lnTo>
                      <a:pt x="130" y="12"/>
                    </a:lnTo>
                    <a:lnTo>
                      <a:pt x="185" y="12"/>
                    </a:lnTo>
                    <a:lnTo>
                      <a:pt x="207" y="45"/>
                    </a:lnTo>
                    <a:lnTo>
                      <a:pt x="228" y="89"/>
                    </a:lnTo>
                    <a:lnTo>
                      <a:pt x="240" y="132"/>
                    </a:lnTo>
                    <a:lnTo>
                      <a:pt x="240" y="176"/>
                    </a:lnTo>
                    <a:lnTo>
                      <a:pt x="240" y="220"/>
                    </a:lnTo>
                    <a:lnTo>
                      <a:pt x="228" y="264"/>
                    </a:lnTo>
                    <a:lnTo>
                      <a:pt x="196" y="287"/>
                    </a:lnTo>
                    <a:lnTo>
                      <a:pt x="164" y="308"/>
                    </a:lnTo>
                    <a:lnTo>
                      <a:pt x="119" y="319"/>
                    </a:lnTo>
                    <a:lnTo>
                      <a:pt x="97" y="319"/>
                    </a:lnTo>
                    <a:lnTo>
                      <a:pt x="75" y="319"/>
                    </a:lnTo>
                    <a:lnTo>
                      <a:pt x="64" y="308"/>
                    </a:lnTo>
                    <a:lnTo>
                      <a:pt x="54" y="276"/>
                    </a:lnTo>
                    <a:lnTo>
                      <a:pt x="43" y="254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3881520" y="4832280"/>
                <a:ext cx="73080" cy="95400"/>
              </a:xfrm>
              <a:custGeom>
                <a:avLst/>
                <a:gdLst/>
                <a:ahLst/>
                <a:rect l="l" t="t" r="r" b="b"/>
                <a:pathLst>
                  <a:path w="231" h="297">
                    <a:moveTo>
                      <a:pt x="55" y="297"/>
                    </a:moveTo>
                    <a:lnTo>
                      <a:pt x="131" y="275"/>
                    </a:lnTo>
                    <a:lnTo>
                      <a:pt x="176" y="253"/>
                    </a:lnTo>
                    <a:lnTo>
                      <a:pt x="208" y="220"/>
                    </a:lnTo>
                    <a:lnTo>
                      <a:pt x="231" y="198"/>
                    </a:lnTo>
                    <a:lnTo>
                      <a:pt x="231" y="154"/>
                    </a:lnTo>
                    <a:lnTo>
                      <a:pt x="231" y="110"/>
                    </a:lnTo>
                    <a:lnTo>
                      <a:pt x="219" y="66"/>
                    </a:lnTo>
                    <a:lnTo>
                      <a:pt x="197" y="33"/>
                    </a:lnTo>
                    <a:lnTo>
                      <a:pt x="164" y="12"/>
                    </a:lnTo>
                    <a:lnTo>
                      <a:pt x="131" y="0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55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3881520" y="4832280"/>
                <a:ext cx="73080" cy="95400"/>
              </a:xfrm>
              <a:custGeom>
                <a:avLst/>
                <a:gdLst/>
                <a:ahLst/>
                <a:rect l="l" t="t" r="r" b="b"/>
                <a:pathLst>
                  <a:path w="231" h="297">
                    <a:moveTo>
                      <a:pt x="55" y="297"/>
                    </a:moveTo>
                    <a:lnTo>
                      <a:pt x="131" y="275"/>
                    </a:lnTo>
                    <a:lnTo>
                      <a:pt x="176" y="253"/>
                    </a:lnTo>
                    <a:lnTo>
                      <a:pt x="208" y="220"/>
                    </a:lnTo>
                    <a:lnTo>
                      <a:pt x="231" y="198"/>
                    </a:lnTo>
                    <a:lnTo>
                      <a:pt x="231" y="154"/>
                    </a:lnTo>
                    <a:lnTo>
                      <a:pt x="231" y="110"/>
                    </a:lnTo>
                    <a:lnTo>
                      <a:pt x="219" y="66"/>
                    </a:lnTo>
                    <a:lnTo>
                      <a:pt x="197" y="33"/>
                    </a:lnTo>
                    <a:lnTo>
                      <a:pt x="164" y="12"/>
                    </a:lnTo>
                    <a:lnTo>
                      <a:pt x="131" y="0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55" y="297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3616200" y="5129280"/>
                <a:ext cx="370080" cy="369720"/>
              </a:xfrm>
              <a:prstGeom prst="rect">
                <a:avLst/>
              </a:prstGeom>
              <a:solidFill>
                <a:srgbClr val="298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3616200" y="5129280"/>
                <a:ext cx="370080" cy="369720"/>
              </a:xfrm>
              <a:prstGeom prst="rect">
                <a:avLst/>
              </a:prstGeom>
              <a:noFill/>
              <a:ln w="0">
                <a:solidFill>
                  <a:srgbClr val="00894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3630600" y="5143680"/>
                <a:ext cx="33804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3630600" y="5143680"/>
                <a:ext cx="338040" cy="334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3689280" y="5192640"/>
                <a:ext cx="223920" cy="243000"/>
              </a:xfrm>
              <a:custGeom>
                <a:avLst/>
                <a:gdLst/>
                <a:ahLst/>
                <a:rect l="l" t="t" r="r" b="b"/>
                <a:pathLst>
                  <a:path w="703" h="768">
                    <a:moveTo>
                      <a:pt x="703" y="0"/>
                    </a:moveTo>
                    <a:lnTo>
                      <a:pt x="680" y="0"/>
                    </a:lnTo>
                    <a:lnTo>
                      <a:pt x="680" y="22"/>
                    </a:lnTo>
                    <a:lnTo>
                      <a:pt x="659" y="43"/>
                    </a:lnTo>
                    <a:lnTo>
                      <a:pt x="614" y="43"/>
                    </a:lnTo>
                    <a:lnTo>
                      <a:pt x="571" y="32"/>
                    </a:lnTo>
                    <a:lnTo>
                      <a:pt x="483" y="0"/>
                    </a:lnTo>
                    <a:lnTo>
                      <a:pt x="407" y="0"/>
                    </a:lnTo>
                    <a:lnTo>
                      <a:pt x="296" y="10"/>
                    </a:lnTo>
                    <a:lnTo>
                      <a:pt x="199" y="54"/>
                    </a:lnTo>
                    <a:lnTo>
                      <a:pt x="121" y="120"/>
                    </a:lnTo>
                    <a:lnTo>
                      <a:pt x="55" y="197"/>
                    </a:lnTo>
                    <a:lnTo>
                      <a:pt x="12" y="296"/>
                    </a:lnTo>
                    <a:lnTo>
                      <a:pt x="0" y="405"/>
                    </a:lnTo>
                    <a:lnTo>
                      <a:pt x="12" y="505"/>
                    </a:lnTo>
                    <a:lnTo>
                      <a:pt x="45" y="592"/>
                    </a:lnTo>
                    <a:lnTo>
                      <a:pt x="110" y="669"/>
                    </a:lnTo>
                    <a:lnTo>
                      <a:pt x="187" y="724"/>
                    </a:lnTo>
                    <a:lnTo>
                      <a:pt x="286" y="756"/>
                    </a:lnTo>
                    <a:lnTo>
                      <a:pt x="395" y="768"/>
                    </a:lnTo>
                    <a:lnTo>
                      <a:pt x="483" y="756"/>
                    </a:lnTo>
                    <a:lnTo>
                      <a:pt x="549" y="746"/>
                    </a:lnTo>
                    <a:lnTo>
                      <a:pt x="626" y="713"/>
                    </a:lnTo>
                    <a:lnTo>
                      <a:pt x="680" y="658"/>
                    </a:lnTo>
                    <a:lnTo>
                      <a:pt x="680" y="592"/>
                    </a:lnTo>
                    <a:lnTo>
                      <a:pt x="626" y="658"/>
                    </a:lnTo>
                    <a:lnTo>
                      <a:pt x="559" y="701"/>
                    </a:lnTo>
                    <a:lnTo>
                      <a:pt x="504" y="724"/>
                    </a:lnTo>
                    <a:lnTo>
                      <a:pt x="440" y="724"/>
                    </a:lnTo>
                    <a:lnTo>
                      <a:pt x="363" y="713"/>
                    </a:lnTo>
                    <a:lnTo>
                      <a:pt x="296" y="681"/>
                    </a:lnTo>
                    <a:lnTo>
                      <a:pt x="253" y="636"/>
                    </a:lnTo>
                    <a:lnTo>
                      <a:pt x="220" y="560"/>
                    </a:lnTo>
                    <a:lnTo>
                      <a:pt x="199" y="472"/>
                    </a:lnTo>
                    <a:lnTo>
                      <a:pt x="199" y="373"/>
                    </a:lnTo>
                    <a:lnTo>
                      <a:pt x="209" y="285"/>
                    </a:lnTo>
                    <a:lnTo>
                      <a:pt x="231" y="197"/>
                    </a:lnTo>
                    <a:lnTo>
                      <a:pt x="264" y="131"/>
                    </a:lnTo>
                    <a:lnTo>
                      <a:pt x="319" y="86"/>
                    </a:lnTo>
                    <a:lnTo>
                      <a:pt x="385" y="54"/>
                    </a:lnTo>
                    <a:lnTo>
                      <a:pt x="440" y="43"/>
                    </a:lnTo>
                    <a:lnTo>
                      <a:pt x="527" y="65"/>
                    </a:lnTo>
                    <a:lnTo>
                      <a:pt x="593" y="98"/>
                    </a:lnTo>
                    <a:lnTo>
                      <a:pt x="648" y="164"/>
                    </a:lnTo>
                    <a:lnTo>
                      <a:pt x="680" y="252"/>
                    </a:lnTo>
                    <a:lnTo>
                      <a:pt x="703" y="252"/>
                    </a:lnTo>
                    <a:lnTo>
                      <a:pt x="703" y="0"/>
                    </a:lnTo>
                    <a:close/>
                  </a:path>
                </a:pathLst>
              </a:custGeom>
              <a:solidFill>
                <a:srgbClr val="298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3689280" y="5192640"/>
                <a:ext cx="223920" cy="243000"/>
              </a:xfrm>
              <a:custGeom>
                <a:avLst/>
                <a:gdLst/>
                <a:ahLst/>
                <a:rect l="l" t="t" r="r" b="b"/>
                <a:pathLst>
                  <a:path w="703" h="768">
                    <a:moveTo>
                      <a:pt x="703" y="0"/>
                    </a:moveTo>
                    <a:lnTo>
                      <a:pt x="680" y="0"/>
                    </a:lnTo>
                    <a:lnTo>
                      <a:pt x="680" y="22"/>
                    </a:lnTo>
                    <a:lnTo>
                      <a:pt x="659" y="43"/>
                    </a:lnTo>
                    <a:lnTo>
                      <a:pt x="614" y="43"/>
                    </a:lnTo>
                    <a:lnTo>
                      <a:pt x="571" y="32"/>
                    </a:lnTo>
                    <a:lnTo>
                      <a:pt x="483" y="0"/>
                    </a:lnTo>
                    <a:lnTo>
                      <a:pt x="407" y="0"/>
                    </a:lnTo>
                    <a:lnTo>
                      <a:pt x="296" y="10"/>
                    </a:lnTo>
                    <a:lnTo>
                      <a:pt x="199" y="54"/>
                    </a:lnTo>
                    <a:lnTo>
                      <a:pt x="121" y="120"/>
                    </a:lnTo>
                    <a:lnTo>
                      <a:pt x="55" y="197"/>
                    </a:lnTo>
                    <a:lnTo>
                      <a:pt x="12" y="296"/>
                    </a:lnTo>
                    <a:lnTo>
                      <a:pt x="0" y="405"/>
                    </a:lnTo>
                    <a:lnTo>
                      <a:pt x="12" y="505"/>
                    </a:lnTo>
                    <a:lnTo>
                      <a:pt x="45" y="592"/>
                    </a:lnTo>
                    <a:lnTo>
                      <a:pt x="110" y="669"/>
                    </a:lnTo>
                    <a:lnTo>
                      <a:pt x="187" y="724"/>
                    </a:lnTo>
                    <a:lnTo>
                      <a:pt x="286" y="756"/>
                    </a:lnTo>
                    <a:lnTo>
                      <a:pt x="395" y="768"/>
                    </a:lnTo>
                    <a:lnTo>
                      <a:pt x="483" y="756"/>
                    </a:lnTo>
                    <a:lnTo>
                      <a:pt x="549" y="746"/>
                    </a:lnTo>
                    <a:lnTo>
                      <a:pt x="626" y="713"/>
                    </a:lnTo>
                    <a:lnTo>
                      <a:pt x="680" y="658"/>
                    </a:lnTo>
                    <a:lnTo>
                      <a:pt x="680" y="592"/>
                    </a:lnTo>
                    <a:lnTo>
                      <a:pt x="626" y="658"/>
                    </a:lnTo>
                    <a:lnTo>
                      <a:pt x="559" y="701"/>
                    </a:lnTo>
                    <a:lnTo>
                      <a:pt x="504" y="724"/>
                    </a:lnTo>
                    <a:lnTo>
                      <a:pt x="440" y="724"/>
                    </a:lnTo>
                    <a:lnTo>
                      <a:pt x="363" y="713"/>
                    </a:lnTo>
                    <a:lnTo>
                      <a:pt x="296" y="681"/>
                    </a:lnTo>
                    <a:lnTo>
                      <a:pt x="253" y="636"/>
                    </a:lnTo>
                    <a:lnTo>
                      <a:pt x="220" y="560"/>
                    </a:lnTo>
                    <a:lnTo>
                      <a:pt x="199" y="472"/>
                    </a:lnTo>
                    <a:lnTo>
                      <a:pt x="199" y="373"/>
                    </a:lnTo>
                    <a:lnTo>
                      <a:pt x="209" y="285"/>
                    </a:lnTo>
                    <a:lnTo>
                      <a:pt x="231" y="197"/>
                    </a:lnTo>
                    <a:lnTo>
                      <a:pt x="264" y="131"/>
                    </a:lnTo>
                    <a:lnTo>
                      <a:pt x="319" y="86"/>
                    </a:lnTo>
                    <a:lnTo>
                      <a:pt x="385" y="54"/>
                    </a:lnTo>
                    <a:lnTo>
                      <a:pt x="440" y="43"/>
                    </a:lnTo>
                    <a:lnTo>
                      <a:pt x="527" y="65"/>
                    </a:lnTo>
                    <a:lnTo>
                      <a:pt x="593" y="98"/>
                    </a:lnTo>
                    <a:lnTo>
                      <a:pt x="648" y="164"/>
                    </a:lnTo>
                    <a:lnTo>
                      <a:pt x="680" y="252"/>
                    </a:lnTo>
                    <a:lnTo>
                      <a:pt x="703" y="252"/>
                    </a:lnTo>
                    <a:lnTo>
                      <a:pt x="703" y="0"/>
                    </a:lnTo>
                  </a:path>
                </a:pathLst>
              </a:custGeom>
              <a:noFill/>
              <a:ln w="0">
                <a:solidFill>
                  <a:srgbClr val="00894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4003560" y="5143680"/>
                <a:ext cx="33660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4003560" y="5143680"/>
                <a:ext cx="336600" cy="334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4054320" y="5195880"/>
                <a:ext cx="233640" cy="236520"/>
              </a:xfrm>
              <a:custGeom>
                <a:avLst/>
                <a:gdLst/>
                <a:ahLst/>
                <a:rect l="l" t="t" r="r" b="b"/>
                <a:pathLst>
                  <a:path w="735" h="746">
                    <a:moveTo>
                      <a:pt x="0" y="746"/>
                    </a:moveTo>
                    <a:lnTo>
                      <a:pt x="427" y="746"/>
                    </a:lnTo>
                    <a:lnTo>
                      <a:pt x="493" y="725"/>
                    </a:lnTo>
                    <a:lnTo>
                      <a:pt x="559" y="703"/>
                    </a:lnTo>
                    <a:lnTo>
                      <a:pt x="603" y="671"/>
                    </a:lnTo>
                    <a:lnTo>
                      <a:pt x="637" y="626"/>
                    </a:lnTo>
                    <a:lnTo>
                      <a:pt x="680" y="582"/>
                    </a:lnTo>
                    <a:lnTo>
                      <a:pt x="713" y="527"/>
                    </a:lnTo>
                    <a:lnTo>
                      <a:pt x="724" y="450"/>
                    </a:lnTo>
                    <a:lnTo>
                      <a:pt x="735" y="374"/>
                    </a:lnTo>
                    <a:lnTo>
                      <a:pt x="713" y="275"/>
                    </a:lnTo>
                    <a:lnTo>
                      <a:pt x="680" y="176"/>
                    </a:lnTo>
                    <a:lnTo>
                      <a:pt x="614" y="99"/>
                    </a:lnTo>
                    <a:lnTo>
                      <a:pt x="527" y="44"/>
                    </a:lnTo>
                    <a:lnTo>
                      <a:pt x="438" y="22"/>
                    </a:lnTo>
                    <a:lnTo>
                      <a:pt x="318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23" y="22"/>
                    </a:lnTo>
                    <a:lnTo>
                      <a:pt x="43" y="33"/>
                    </a:lnTo>
                    <a:lnTo>
                      <a:pt x="66" y="33"/>
                    </a:lnTo>
                    <a:lnTo>
                      <a:pt x="78" y="44"/>
                    </a:lnTo>
                    <a:lnTo>
                      <a:pt x="87" y="55"/>
                    </a:lnTo>
                    <a:lnTo>
                      <a:pt x="98" y="88"/>
                    </a:lnTo>
                    <a:lnTo>
                      <a:pt x="98" y="671"/>
                    </a:lnTo>
                    <a:lnTo>
                      <a:pt x="87" y="691"/>
                    </a:lnTo>
                    <a:lnTo>
                      <a:pt x="78" y="703"/>
                    </a:lnTo>
                    <a:lnTo>
                      <a:pt x="66" y="725"/>
                    </a:lnTo>
                    <a:lnTo>
                      <a:pt x="43" y="725"/>
                    </a:lnTo>
                    <a:lnTo>
                      <a:pt x="0" y="725"/>
                    </a:lnTo>
                    <a:lnTo>
                      <a:pt x="0" y="746"/>
                    </a:lnTo>
                    <a:close/>
                  </a:path>
                </a:pathLst>
              </a:custGeom>
              <a:solidFill>
                <a:srgbClr val="324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4054320" y="5195880"/>
                <a:ext cx="233640" cy="236520"/>
              </a:xfrm>
              <a:custGeom>
                <a:avLst/>
                <a:gdLst/>
                <a:ahLst/>
                <a:rect l="l" t="t" r="r" b="b"/>
                <a:pathLst>
                  <a:path w="735" h="746">
                    <a:moveTo>
                      <a:pt x="0" y="746"/>
                    </a:moveTo>
                    <a:lnTo>
                      <a:pt x="427" y="746"/>
                    </a:lnTo>
                    <a:lnTo>
                      <a:pt x="493" y="725"/>
                    </a:lnTo>
                    <a:lnTo>
                      <a:pt x="559" y="703"/>
                    </a:lnTo>
                    <a:lnTo>
                      <a:pt x="603" y="671"/>
                    </a:lnTo>
                    <a:lnTo>
                      <a:pt x="637" y="626"/>
                    </a:lnTo>
                    <a:lnTo>
                      <a:pt x="680" y="582"/>
                    </a:lnTo>
                    <a:lnTo>
                      <a:pt x="713" y="527"/>
                    </a:lnTo>
                    <a:lnTo>
                      <a:pt x="724" y="450"/>
                    </a:lnTo>
                    <a:lnTo>
                      <a:pt x="735" y="374"/>
                    </a:lnTo>
                    <a:lnTo>
                      <a:pt x="713" y="275"/>
                    </a:lnTo>
                    <a:lnTo>
                      <a:pt x="680" y="176"/>
                    </a:lnTo>
                    <a:lnTo>
                      <a:pt x="614" y="99"/>
                    </a:lnTo>
                    <a:lnTo>
                      <a:pt x="527" y="44"/>
                    </a:lnTo>
                    <a:lnTo>
                      <a:pt x="438" y="22"/>
                    </a:lnTo>
                    <a:lnTo>
                      <a:pt x="318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23" y="22"/>
                    </a:lnTo>
                    <a:lnTo>
                      <a:pt x="43" y="33"/>
                    </a:lnTo>
                    <a:lnTo>
                      <a:pt x="66" y="33"/>
                    </a:lnTo>
                    <a:lnTo>
                      <a:pt x="78" y="44"/>
                    </a:lnTo>
                    <a:lnTo>
                      <a:pt x="87" y="55"/>
                    </a:lnTo>
                    <a:lnTo>
                      <a:pt x="98" y="88"/>
                    </a:lnTo>
                    <a:lnTo>
                      <a:pt x="98" y="671"/>
                    </a:lnTo>
                    <a:lnTo>
                      <a:pt x="87" y="691"/>
                    </a:lnTo>
                    <a:lnTo>
                      <a:pt x="78" y="703"/>
                    </a:lnTo>
                    <a:lnTo>
                      <a:pt x="66" y="725"/>
                    </a:lnTo>
                    <a:lnTo>
                      <a:pt x="43" y="725"/>
                    </a:lnTo>
                    <a:lnTo>
                      <a:pt x="0" y="725"/>
                    </a:lnTo>
                    <a:lnTo>
                      <a:pt x="0" y="746"/>
                    </a:lnTo>
                  </a:path>
                </a:pathLst>
              </a:custGeom>
              <a:noFill/>
              <a:ln w="0">
                <a:solidFill>
                  <a:srgbClr val="1b549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4141800" y="5210280"/>
                <a:ext cx="84240" cy="207720"/>
              </a:xfrm>
              <a:custGeom>
                <a:avLst/>
                <a:gdLst/>
                <a:ahLst/>
                <a:rect l="l" t="t" r="r" b="b"/>
                <a:pathLst>
                  <a:path w="263" h="659">
                    <a:moveTo>
                      <a:pt x="0" y="0"/>
                    </a:moveTo>
                    <a:lnTo>
                      <a:pt x="0" y="615"/>
                    </a:lnTo>
                    <a:lnTo>
                      <a:pt x="12" y="636"/>
                    </a:lnTo>
                    <a:lnTo>
                      <a:pt x="12" y="647"/>
                    </a:lnTo>
                    <a:lnTo>
                      <a:pt x="23" y="659"/>
                    </a:lnTo>
                    <a:lnTo>
                      <a:pt x="32" y="659"/>
                    </a:lnTo>
                    <a:lnTo>
                      <a:pt x="67" y="659"/>
                    </a:lnTo>
                    <a:lnTo>
                      <a:pt x="132" y="647"/>
                    </a:lnTo>
                    <a:lnTo>
                      <a:pt x="198" y="604"/>
                    </a:lnTo>
                    <a:lnTo>
                      <a:pt x="241" y="495"/>
                    </a:lnTo>
                    <a:lnTo>
                      <a:pt x="263" y="340"/>
                    </a:lnTo>
                    <a:lnTo>
                      <a:pt x="253" y="209"/>
                    </a:lnTo>
                    <a:lnTo>
                      <a:pt x="219" y="110"/>
                    </a:lnTo>
                    <a:lnTo>
                      <a:pt x="176" y="55"/>
                    </a:lnTo>
                    <a:lnTo>
                      <a:pt x="132" y="23"/>
                    </a:lnTo>
                    <a:lnTo>
                      <a:pt x="77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4141800" y="5210280"/>
                <a:ext cx="84240" cy="207720"/>
              </a:xfrm>
              <a:custGeom>
                <a:avLst/>
                <a:gdLst/>
                <a:ahLst/>
                <a:rect l="l" t="t" r="r" b="b"/>
                <a:pathLst>
                  <a:path w="263" h="659">
                    <a:moveTo>
                      <a:pt x="0" y="0"/>
                    </a:moveTo>
                    <a:lnTo>
                      <a:pt x="0" y="615"/>
                    </a:lnTo>
                    <a:lnTo>
                      <a:pt x="12" y="636"/>
                    </a:lnTo>
                    <a:lnTo>
                      <a:pt x="12" y="647"/>
                    </a:lnTo>
                    <a:lnTo>
                      <a:pt x="23" y="659"/>
                    </a:lnTo>
                    <a:lnTo>
                      <a:pt x="32" y="659"/>
                    </a:lnTo>
                    <a:lnTo>
                      <a:pt x="67" y="659"/>
                    </a:lnTo>
                    <a:lnTo>
                      <a:pt x="132" y="647"/>
                    </a:lnTo>
                    <a:lnTo>
                      <a:pt x="198" y="604"/>
                    </a:lnTo>
                    <a:lnTo>
                      <a:pt x="241" y="495"/>
                    </a:lnTo>
                    <a:lnTo>
                      <a:pt x="263" y="340"/>
                    </a:lnTo>
                    <a:lnTo>
                      <a:pt x="253" y="209"/>
                    </a:lnTo>
                    <a:lnTo>
                      <a:pt x="219" y="110"/>
                    </a:lnTo>
                    <a:lnTo>
                      <a:pt x="176" y="55"/>
                    </a:lnTo>
                    <a:lnTo>
                      <a:pt x="132" y="23"/>
                    </a:lnTo>
                    <a:lnTo>
                      <a:pt x="77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3006720" y="430056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206" h="213">
                    <a:moveTo>
                      <a:pt x="128" y="0"/>
                    </a:moveTo>
                    <a:lnTo>
                      <a:pt x="128" y="0"/>
                    </a:lnTo>
                    <a:lnTo>
                      <a:pt x="110" y="10"/>
                    </a:lnTo>
                    <a:lnTo>
                      <a:pt x="94" y="21"/>
                    </a:lnTo>
                    <a:lnTo>
                      <a:pt x="78" y="32"/>
                    </a:lnTo>
                    <a:lnTo>
                      <a:pt x="62" y="42"/>
                    </a:lnTo>
                    <a:lnTo>
                      <a:pt x="46" y="54"/>
                    </a:lnTo>
                    <a:lnTo>
                      <a:pt x="30" y="66"/>
                    </a:lnTo>
                    <a:lnTo>
                      <a:pt x="15" y="79"/>
                    </a:lnTo>
                    <a:lnTo>
                      <a:pt x="0" y="92"/>
                    </a:lnTo>
                    <a:lnTo>
                      <a:pt x="111" y="213"/>
                    </a:lnTo>
                    <a:lnTo>
                      <a:pt x="122" y="203"/>
                    </a:lnTo>
                    <a:lnTo>
                      <a:pt x="134" y="194"/>
                    </a:lnTo>
                    <a:lnTo>
                      <a:pt x="145" y="185"/>
                    </a:lnTo>
                    <a:lnTo>
                      <a:pt x="157" y="176"/>
                    </a:lnTo>
                    <a:lnTo>
                      <a:pt x="170" y="168"/>
                    </a:lnTo>
                    <a:lnTo>
                      <a:pt x="182" y="159"/>
                    </a:lnTo>
                    <a:lnTo>
                      <a:pt x="194" y="152"/>
                    </a:lnTo>
                    <a:lnTo>
                      <a:pt x="206" y="144"/>
                    </a:lnTo>
                    <a:lnTo>
                      <a:pt x="206" y="144"/>
                    </a:lnTo>
                    <a:lnTo>
                      <a:pt x="206" y="144"/>
                    </a:lnTo>
                    <a:lnTo>
                      <a:pt x="206" y="144"/>
                    </a:lnTo>
                    <a:lnTo>
                      <a:pt x="206" y="144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3046320" y="4299120"/>
                <a:ext cx="52560" cy="47520"/>
              </a:xfrm>
              <a:custGeom>
                <a:avLst/>
                <a:gdLst/>
                <a:ahLst/>
                <a:rect l="l" t="t" r="r" b="b"/>
                <a:pathLst>
                  <a:path w="164" h="150">
                    <a:moveTo>
                      <a:pt x="123" y="31"/>
                    </a:moveTo>
                    <a:lnTo>
                      <a:pt x="11" y="0"/>
                    </a:lnTo>
                    <a:lnTo>
                      <a:pt x="0" y="6"/>
                    </a:lnTo>
                    <a:lnTo>
                      <a:pt x="78" y="150"/>
                    </a:lnTo>
                    <a:lnTo>
                      <a:pt x="91" y="144"/>
                    </a:lnTo>
                    <a:lnTo>
                      <a:pt x="123" y="31"/>
                    </a:lnTo>
                    <a:lnTo>
                      <a:pt x="91" y="144"/>
                    </a:lnTo>
                    <a:lnTo>
                      <a:pt x="164" y="102"/>
                    </a:lnTo>
                    <a:lnTo>
                      <a:pt x="123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3032280" y="4294080"/>
                <a:ext cx="54000" cy="39960"/>
              </a:xfrm>
              <a:custGeom>
                <a:avLst/>
                <a:gdLst/>
                <a:ahLst/>
                <a:rect l="l" t="t" r="r" b="b"/>
                <a:pathLst>
                  <a:path w="170" h="124">
                    <a:moveTo>
                      <a:pt x="0" y="61"/>
                    </a:moveTo>
                    <a:lnTo>
                      <a:pt x="2" y="65"/>
                    </a:lnTo>
                    <a:lnTo>
                      <a:pt x="4" y="69"/>
                    </a:lnTo>
                    <a:lnTo>
                      <a:pt x="6" y="73"/>
                    </a:lnTo>
                    <a:lnTo>
                      <a:pt x="8" y="80"/>
                    </a:lnTo>
                    <a:lnTo>
                      <a:pt x="10" y="86"/>
                    </a:lnTo>
                    <a:lnTo>
                      <a:pt x="13" y="94"/>
                    </a:lnTo>
                    <a:lnTo>
                      <a:pt x="17" y="104"/>
                    </a:lnTo>
                    <a:lnTo>
                      <a:pt x="22" y="113"/>
                    </a:lnTo>
                    <a:lnTo>
                      <a:pt x="27" y="124"/>
                    </a:lnTo>
                    <a:lnTo>
                      <a:pt x="170" y="42"/>
                    </a:lnTo>
                    <a:lnTo>
                      <a:pt x="169" y="40"/>
                    </a:lnTo>
                    <a:lnTo>
                      <a:pt x="167" y="38"/>
                    </a:lnTo>
                    <a:lnTo>
                      <a:pt x="166" y="36"/>
                    </a:lnTo>
                    <a:lnTo>
                      <a:pt x="165" y="31"/>
                    </a:lnTo>
                    <a:lnTo>
                      <a:pt x="163" y="26"/>
                    </a:lnTo>
                    <a:lnTo>
                      <a:pt x="161" y="18"/>
                    </a:lnTo>
                    <a:lnTo>
                      <a:pt x="157" y="10"/>
                    </a:lnTo>
                    <a:lnTo>
                      <a:pt x="153" y="0"/>
                    </a:lnTo>
                    <a:lnTo>
                      <a:pt x="156" y="4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3027240" y="4262400"/>
                <a:ext cx="54000" cy="52560"/>
              </a:xfrm>
              <a:custGeom>
                <a:avLst/>
                <a:gdLst/>
                <a:ahLst/>
                <a:rect l="l" t="t" r="r" b="b"/>
                <a:pathLst>
                  <a:path w="168" h="162">
                    <a:moveTo>
                      <a:pt x="60" y="0"/>
                    </a:moveTo>
                    <a:lnTo>
                      <a:pt x="58" y="2"/>
                    </a:lnTo>
                    <a:lnTo>
                      <a:pt x="38" y="13"/>
                    </a:lnTo>
                    <a:lnTo>
                      <a:pt x="23" y="28"/>
                    </a:lnTo>
                    <a:lnTo>
                      <a:pt x="12" y="45"/>
                    </a:lnTo>
                    <a:lnTo>
                      <a:pt x="4" y="65"/>
                    </a:lnTo>
                    <a:lnTo>
                      <a:pt x="0" y="86"/>
                    </a:lnTo>
                    <a:lnTo>
                      <a:pt x="0" y="105"/>
                    </a:lnTo>
                    <a:lnTo>
                      <a:pt x="2" y="122"/>
                    </a:lnTo>
                    <a:lnTo>
                      <a:pt x="5" y="137"/>
                    </a:lnTo>
                    <a:lnTo>
                      <a:pt x="9" y="150"/>
                    </a:lnTo>
                    <a:lnTo>
                      <a:pt x="12" y="162"/>
                    </a:lnTo>
                    <a:lnTo>
                      <a:pt x="168" y="105"/>
                    </a:lnTo>
                    <a:lnTo>
                      <a:pt x="167" y="102"/>
                    </a:lnTo>
                    <a:lnTo>
                      <a:pt x="165" y="99"/>
                    </a:lnTo>
                    <a:lnTo>
                      <a:pt x="164" y="96"/>
                    </a:lnTo>
                    <a:lnTo>
                      <a:pt x="164" y="96"/>
                    </a:lnTo>
                    <a:lnTo>
                      <a:pt x="164" y="100"/>
                    </a:lnTo>
                    <a:lnTo>
                      <a:pt x="163" y="106"/>
                    </a:lnTo>
                    <a:lnTo>
                      <a:pt x="158" y="120"/>
                    </a:lnTo>
                    <a:lnTo>
                      <a:pt x="150" y="132"/>
                    </a:lnTo>
                    <a:lnTo>
                      <a:pt x="140" y="143"/>
                    </a:lnTo>
                    <a:lnTo>
                      <a:pt x="125" y="151"/>
                    </a:lnTo>
                    <a:lnTo>
                      <a:pt x="123" y="152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3046320" y="4259160"/>
                <a:ext cx="57240" cy="87480"/>
              </a:xfrm>
              <a:custGeom>
                <a:avLst/>
                <a:gdLst/>
                <a:ahLst/>
                <a:rect l="l" t="t" r="r" b="b"/>
                <a:pathLst>
                  <a:path w="179" h="275">
                    <a:moveTo>
                      <a:pt x="72" y="94"/>
                    </a:moveTo>
                    <a:lnTo>
                      <a:pt x="179" y="131"/>
                    </a:lnTo>
                    <a:lnTo>
                      <a:pt x="169" y="111"/>
                    </a:lnTo>
                    <a:lnTo>
                      <a:pt x="160" y="93"/>
                    </a:lnTo>
                    <a:lnTo>
                      <a:pt x="152" y="74"/>
                    </a:lnTo>
                    <a:lnTo>
                      <a:pt x="141" y="56"/>
                    </a:lnTo>
                    <a:lnTo>
                      <a:pt x="130" y="42"/>
                    </a:lnTo>
                    <a:lnTo>
                      <a:pt x="119" y="29"/>
                    </a:lnTo>
                    <a:lnTo>
                      <a:pt x="103" y="16"/>
                    </a:lnTo>
                    <a:lnTo>
                      <a:pt x="83" y="6"/>
                    </a:lnTo>
                    <a:lnTo>
                      <a:pt x="59" y="0"/>
                    </a:lnTo>
                    <a:lnTo>
                      <a:pt x="36" y="0"/>
                    </a:lnTo>
                    <a:lnTo>
                      <a:pt x="17" y="4"/>
                    </a:lnTo>
                    <a:lnTo>
                      <a:pt x="0" y="9"/>
                    </a:lnTo>
                    <a:lnTo>
                      <a:pt x="63" y="161"/>
                    </a:lnTo>
                    <a:lnTo>
                      <a:pt x="59" y="162"/>
                    </a:lnTo>
                    <a:lnTo>
                      <a:pt x="51" y="164"/>
                    </a:lnTo>
                    <a:lnTo>
                      <a:pt x="41" y="164"/>
                    </a:lnTo>
                    <a:lnTo>
                      <a:pt x="27" y="161"/>
                    </a:lnTo>
                    <a:lnTo>
                      <a:pt x="15" y="154"/>
                    </a:lnTo>
                    <a:lnTo>
                      <a:pt x="7" y="149"/>
                    </a:lnTo>
                    <a:lnTo>
                      <a:pt x="4" y="145"/>
                    </a:lnTo>
                    <a:lnTo>
                      <a:pt x="1" y="141"/>
                    </a:lnTo>
                    <a:lnTo>
                      <a:pt x="5" y="149"/>
                    </a:lnTo>
                    <a:lnTo>
                      <a:pt x="13" y="163"/>
                    </a:lnTo>
                    <a:lnTo>
                      <a:pt x="21" y="182"/>
                    </a:lnTo>
                    <a:lnTo>
                      <a:pt x="33" y="206"/>
                    </a:lnTo>
                    <a:lnTo>
                      <a:pt x="140" y="243"/>
                    </a:lnTo>
                    <a:lnTo>
                      <a:pt x="33" y="206"/>
                    </a:lnTo>
                    <a:lnTo>
                      <a:pt x="69" y="275"/>
                    </a:lnTo>
                    <a:lnTo>
                      <a:pt x="140" y="243"/>
                    </a:lnTo>
                    <a:lnTo>
                      <a:pt x="72" y="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3070080" y="428616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86" h="160">
                    <a:moveTo>
                      <a:pt x="24" y="0"/>
                    </a:moveTo>
                    <a:lnTo>
                      <a:pt x="17" y="2"/>
                    </a:lnTo>
                    <a:lnTo>
                      <a:pt x="0" y="11"/>
                    </a:lnTo>
                    <a:lnTo>
                      <a:pt x="68" y="160"/>
                    </a:lnTo>
                    <a:lnTo>
                      <a:pt x="86" y="15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3078000" y="4272120"/>
                <a:ext cx="76320" cy="63360"/>
              </a:xfrm>
              <a:custGeom>
                <a:avLst/>
                <a:gdLst/>
                <a:ahLst/>
                <a:rect l="l" t="t" r="r" b="b"/>
                <a:pathLst>
                  <a:path w="240" h="198">
                    <a:moveTo>
                      <a:pt x="240" y="0"/>
                    </a:moveTo>
                    <a:lnTo>
                      <a:pt x="240" y="0"/>
                    </a:lnTo>
                    <a:lnTo>
                      <a:pt x="209" y="1"/>
                    </a:lnTo>
                    <a:lnTo>
                      <a:pt x="178" y="3"/>
                    </a:lnTo>
                    <a:lnTo>
                      <a:pt x="146" y="6"/>
                    </a:lnTo>
                    <a:lnTo>
                      <a:pt x="116" y="12"/>
                    </a:lnTo>
                    <a:lnTo>
                      <a:pt x="86" y="17"/>
                    </a:lnTo>
                    <a:lnTo>
                      <a:pt x="57" y="25"/>
                    </a:lnTo>
                    <a:lnTo>
                      <a:pt x="28" y="33"/>
                    </a:lnTo>
                    <a:lnTo>
                      <a:pt x="0" y="43"/>
                    </a:lnTo>
                    <a:lnTo>
                      <a:pt x="56" y="198"/>
                    </a:lnTo>
                    <a:lnTo>
                      <a:pt x="77" y="190"/>
                    </a:lnTo>
                    <a:lnTo>
                      <a:pt x="100" y="183"/>
                    </a:lnTo>
                    <a:lnTo>
                      <a:pt x="123" y="178"/>
                    </a:lnTo>
                    <a:lnTo>
                      <a:pt x="145" y="173"/>
                    </a:lnTo>
                    <a:lnTo>
                      <a:pt x="169" y="169"/>
                    </a:lnTo>
                    <a:lnTo>
                      <a:pt x="192" y="166"/>
                    </a:lnTo>
                    <a:lnTo>
                      <a:pt x="216" y="165"/>
                    </a:lnTo>
                    <a:lnTo>
                      <a:pt x="240" y="164"/>
                    </a:lnTo>
                    <a:lnTo>
                      <a:pt x="240" y="164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3154320" y="4272120"/>
                <a:ext cx="63720" cy="58680"/>
              </a:xfrm>
              <a:custGeom>
                <a:avLst/>
                <a:gdLst/>
                <a:ahLst/>
                <a:rect l="l" t="t" r="r" b="b"/>
                <a:pathLst>
                  <a:path w="204" h="181">
                    <a:moveTo>
                      <a:pt x="204" y="35"/>
                    </a:moveTo>
                    <a:lnTo>
                      <a:pt x="174" y="21"/>
                    </a:lnTo>
                    <a:lnTo>
                      <a:pt x="154" y="17"/>
                    </a:lnTo>
                    <a:lnTo>
                      <a:pt x="132" y="13"/>
                    </a:lnTo>
                    <a:lnTo>
                      <a:pt x="110" y="8"/>
                    </a:lnTo>
                    <a:lnTo>
                      <a:pt x="89" y="5"/>
                    </a:lnTo>
                    <a:lnTo>
                      <a:pt x="67" y="3"/>
                    </a:lnTo>
                    <a:lnTo>
                      <a:pt x="45" y="2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164"/>
                    </a:lnTo>
                    <a:lnTo>
                      <a:pt x="18" y="165"/>
                    </a:lnTo>
                    <a:lnTo>
                      <a:pt x="35" y="165"/>
                    </a:lnTo>
                    <a:lnTo>
                      <a:pt x="51" y="167"/>
                    </a:lnTo>
                    <a:lnTo>
                      <a:pt x="68" y="168"/>
                    </a:lnTo>
                    <a:lnTo>
                      <a:pt x="86" y="172"/>
                    </a:lnTo>
                    <a:lnTo>
                      <a:pt x="102" y="174"/>
                    </a:lnTo>
                    <a:lnTo>
                      <a:pt x="119" y="177"/>
                    </a:lnTo>
                    <a:lnTo>
                      <a:pt x="135" y="181"/>
                    </a:lnTo>
                    <a:lnTo>
                      <a:pt x="105" y="167"/>
                    </a:lnTo>
                    <a:lnTo>
                      <a:pt x="204" y="35"/>
                    </a:lnTo>
                    <a:lnTo>
                      <a:pt x="190" y="26"/>
                    </a:lnTo>
                    <a:lnTo>
                      <a:pt x="174" y="21"/>
                    </a:lnTo>
                    <a:lnTo>
                      <a:pt x="204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3187800" y="4282920"/>
                <a:ext cx="42840" cy="68400"/>
              </a:xfrm>
              <a:custGeom>
                <a:avLst/>
                <a:gdLst/>
                <a:ahLst/>
                <a:rect l="l" t="t" r="r" b="b"/>
                <a:pathLst>
                  <a:path w="136" h="213">
                    <a:moveTo>
                      <a:pt x="136" y="87"/>
                    </a:moveTo>
                    <a:lnTo>
                      <a:pt x="105" y="5"/>
                    </a:lnTo>
                    <a:lnTo>
                      <a:pt x="99" y="0"/>
                    </a:lnTo>
                    <a:lnTo>
                      <a:pt x="0" y="132"/>
                    </a:lnTo>
                    <a:lnTo>
                      <a:pt x="7" y="135"/>
                    </a:lnTo>
                    <a:lnTo>
                      <a:pt x="136" y="87"/>
                    </a:lnTo>
                    <a:lnTo>
                      <a:pt x="7" y="135"/>
                    </a:lnTo>
                    <a:lnTo>
                      <a:pt x="109" y="213"/>
                    </a:lnTo>
                    <a:lnTo>
                      <a:pt x="136" y="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3179880" y="428292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176" h="88">
                    <a:moveTo>
                      <a:pt x="16" y="0"/>
                    </a:moveTo>
                    <a:lnTo>
                      <a:pt x="14" y="7"/>
                    </a:lnTo>
                    <a:lnTo>
                      <a:pt x="14" y="9"/>
                    </a:lnTo>
                    <a:lnTo>
                      <a:pt x="13" y="11"/>
                    </a:lnTo>
                    <a:lnTo>
                      <a:pt x="12" y="14"/>
                    </a:lnTo>
                    <a:lnTo>
                      <a:pt x="11" y="19"/>
                    </a:lnTo>
                    <a:lnTo>
                      <a:pt x="9" y="25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4"/>
                    </a:lnTo>
                    <a:lnTo>
                      <a:pt x="161" y="88"/>
                    </a:lnTo>
                    <a:lnTo>
                      <a:pt x="161" y="86"/>
                    </a:lnTo>
                    <a:lnTo>
                      <a:pt x="162" y="84"/>
                    </a:lnTo>
                    <a:lnTo>
                      <a:pt x="163" y="80"/>
                    </a:lnTo>
                    <a:lnTo>
                      <a:pt x="165" y="76"/>
                    </a:lnTo>
                    <a:lnTo>
                      <a:pt x="168" y="69"/>
                    </a:lnTo>
                    <a:lnTo>
                      <a:pt x="170" y="61"/>
                    </a:lnTo>
                    <a:lnTo>
                      <a:pt x="173" y="50"/>
                    </a:lnTo>
                    <a:lnTo>
                      <a:pt x="176" y="38"/>
                    </a:lnTo>
                    <a:lnTo>
                      <a:pt x="174" y="4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3184560" y="42498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162" h="165">
                    <a:moveTo>
                      <a:pt x="122" y="1"/>
                    </a:moveTo>
                    <a:lnTo>
                      <a:pt x="128" y="1"/>
                    </a:lnTo>
                    <a:lnTo>
                      <a:pt x="103" y="0"/>
                    </a:lnTo>
                    <a:lnTo>
                      <a:pt x="81" y="6"/>
                    </a:lnTo>
                    <a:lnTo>
                      <a:pt x="64" y="13"/>
                    </a:lnTo>
                    <a:lnTo>
                      <a:pt x="47" y="26"/>
                    </a:lnTo>
                    <a:lnTo>
                      <a:pt x="34" y="40"/>
                    </a:lnTo>
                    <a:lnTo>
                      <a:pt x="23" y="55"/>
                    </a:lnTo>
                    <a:lnTo>
                      <a:pt x="14" y="69"/>
                    </a:lnTo>
                    <a:lnTo>
                      <a:pt x="9" y="83"/>
                    </a:lnTo>
                    <a:lnTo>
                      <a:pt x="4" y="96"/>
                    </a:lnTo>
                    <a:lnTo>
                      <a:pt x="0" y="108"/>
                    </a:lnTo>
                    <a:lnTo>
                      <a:pt x="158" y="153"/>
                    </a:lnTo>
                    <a:lnTo>
                      <a:pt x="159" y="149"/>
                    </a:lnTo>
                    <a:lnTo>
                      <a:pt x="160" y="146"/>
                    </a:lnTo>
                    <a:lnTo>
                      <a:pt x="162" y="143"/>
                    </a:lnTo>
                    <a:lnTo>
                      <a:pt x="162" y="141"/>
                    </a:lnTo>
                    <a:lnTo>
                      <a:pt x="161" y="143"/>
                    </a:lnTo>
                    <a:lnTo>
                      <a:pt x="158" y="147"/>
                    </a:lnTo>
                    <a:lnTo>
                      <a:pt x="146" y="156"/>
                    </a:lnTo>
                    <a:lnTo>
                      <a:pt x="134" y="161"/>
                    </a:lnTo>
                    <a:lnTo>
                      <a:pt x="118" y="165"/>
                    </a:lnTo>
                    <a:lnTo>
                      <a:pt x="99" y="163"/>
                    </a:lnTo>
                    <a:lnTo>
                      <a:pt x="104" y="165"/>
                    </a:lnTo>
                    <a:lnTo>
                      <a:pt x="122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3191040" y="4249800"/>
                <a:ext cx="64800" cy="85680"/>
              </a:xfrm>
              <a:custGeom>
                <a:avLst/>
                <a:gdLst/>
                <a:ahLst/>
                <a:rect l="l" t="t" r="r" b="b"/>
                <a:pathLst>
                  <a:path w="203" h="271">
                    <a:moveTo>
                      <a:pt x="133" y="119"/>
                    </a:moveTo>
                    <a:lnTo>
                      <a:pt x="179" y="220"/>
                    </a:lnTo>
                    <a:lnTo>
                      <a:pt x="187" y="196"/>
                    </a:lnTo>
                    <a:lnTo>
                      <a:pt x="193" y="172"/>
                    </a:lnTo>
                    <a:lnTo>
                      <a:pt x="200" y="147"/>
                    </a:lnTo>
                    <a:lnTo>
                      <a:pt x="203" y="124"/>
                    </a:lnTo>
                    <a:lnTo>
                      <a:pt x="203" y="103"/>
                    </a:lnTo>
                    <a:lnTo>
                      <a:pt x="200" y="84"/>
                    </a:lnTo>
                    <a:lnTo>
                      <a:pt x="192" y="63"/>
                    </a:lnTo>
                    <a:lnTo>
                      <a:pt x="179" y="41"/>
                    </a:lnTo>
                    <a:lnTo>
                      <a:pt x="161" y="23"/>
                    </a:lnTo>
                    <a:lnTo>
                      <a:pt x="140" y="11"/>
                    </a:lnTo>
                    <a:lnTo>
                      <a:pt x="120" y="4"/>
                    </a:lnTo>
                    <a:lnTo>
                      <a:pt x="100" y="0"/>
                    </a:lnTo>
                    <a:lnTo>
                      <a:pt x="82" y="164"/>
                    </a:lnTo>
                    <a:lnTo>
                      <a:pt x="79" y="162"/>
                    </a:lnTo>
                    <a:lnTo>
                      <a:pt x="71" y="160"/>
                    </a:lnTo>
                    <a:lnTo>
                      <a:pt x="62" y="154"/>
                    </a:lnTo>
                    <a:lnTo>
                      <a:pt x="51" y="144"/>
                    </a:lnTo>
                    <a:lnTo>
                      <a:pt x="43" y="132"/>
                    </a:lnTo>
                    <a:lnTo>
                      <a:pt x="40" y="122"/>
                    </a:lnTo>
                    <a:lnTo>
                      <a:pt x="39" y="116"/>
                    </a:lnTo>
                    <a:lnTo>
                      <a:pt x="39" y="109"/>
                    </a:lnTo>
                    <a:lnTo>
                      <a:pt x="38" y="117"/>
                    </a:lnTo>
                    <a:lnTo>
                      <a:pt x="35" y="129"/>
                    </a:lnTo>
                    <a:lnTo>
                      <a:pt x="30" y="147"/>
                    </a:lnTo>
                    <a:lnTo>
                      <a:pt x="23" y="170"/>
                    </a:lnTo>
                    <a:lnTo>
                      <a:pt x="69" y="271"/>
                    </a:lnTo>
                    <a:lnTo>
                      <a:pt x="23" y="170"/>
                    </a:lnTo>
                    <a:lnTo>
                      <a:pt x="0" y="241"/>
                    </a:lnTo>
                    <a:lnTo>
                      <a:pt x="69" y="271"/>
                    </a:lnTo>
                    <a:lnTo>
                      <a:pt x="133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3213000" y="4287960"/>
                <a:ext cx="23760" cy="48960"/>
              </a:xfrm>
              <a:custGeom>
                <a:avLst/>
                <a:gdLst/>
                <a:ahLst/>
                <a:rect l="l" t="t" r="r" b="b"/>
                <a:pathLst>
                  <a:path w="74" h="156">
                    <a:moveTo>
                      <a:pt x="11" y="156"/>
                    </a:moveTo>
                    <a:lnTo>
                      <a:pt x="74" y="5"/>
                    </a:lnTo>
                    <a:lnTo>
                      <a:pt x="64" y="0"/>
                    </a:lnTo>
                    <a:lnTo>
                      <a:pt x="0" y="152"/>
                    </a:lnTo>
                    <a:lnTo>
                      <a:pt x="9" y="155"/>
                    </a:lnTo>
                    <a:lnTo>
                      <a:pt x="11" y="156"/>
                    </a:lnTo>
                    <a:lnTo>
                      <a:pt x="9" y="155"/>
                    </a:lnTo>
                    <a:lnTo>
                      <a:pt x="10" y="156"/>
                    </a:lnTo>
                    <a:lnTo>
                      <a:pt x="11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3216240" y="4287960"/>
                <a:ext cx="147600" cy="153720"/>
              </a:xfrm>
              <a:custGeom>
                <a:avLst/>
                <a:gdLst/>
                <a:ahLst/>
                <a:rect l="l" t="t" r="r" b="b"/>
                <a:pathLst>
                  <a:path w="465" h="485">
                    <a:moveTo>
                      <a:pt x="465" y="437"/>
                    </a:moveTo>
                    <a:lnTo>
                      <a:pt x="464" y="435"/>
                    </a:lnTo>
                    <a:lnTo>
                      <a:pt x="451" y="398"/>
                    </a:lnTo>
                    <a:lnTo>
                      <a:pt x="436" y="362"/>
                    </a:lnTo>
                    <a:lnTo>
                      <a:pt x="420" y="328"/>
                    </a:lnTo>
                    <a:lnTo>
                      <a:pt x="401" y="294"/>
                    </a:lnTo>
                    <a:lnTo>
                      <a:pt x="381" y="262"/>
                    </a:lnTo>
                    <a:lnTo>
                      <a:pt x="359" y="231"/>
                    </a:lnTo>
                    <a:lnTo>
                      <a:pt x="336" y="201"/>
                    </a:lnTo>
                    <a:lnTo>
                      <a:pt x="310" y="172"/>
                    </a:lnTo>
                    <a:lnTo>
                      <a:pt x="284" y="145"/>
                    </a:lnTo>
                    <a:lnTo>
                      <a:pt x="256" y="119"/>
                    </a:lnTo>
                    <a:lnTo>
                      <a:pt x="227" y="96"/>
                    </a:lnTo>
                    <a:lnTo>
                      <a:pt x="195" y="73"/>
                    </a:lnTo>
                    <a:lnTo>
                      <a:pt x="163" y="52"/>
                    </a:lnTo>
                    <a:lnTo>
                      <a:pt x="130" y="33"/>
                    </a:lnTo>
                    <a:lnTo>
                      <a:pt x="96" y="16"/>
                    </a:lnTo>
                    <a:lnTo>
                      <a:pt x="60" y="0"/>
                    </a:lnTo>
                    <a:lnTo>
                      <a:pt x="0" y="153"/>
                    </a:lnTo>
                    <a:lnTo>
                      <a:pt x="26" y="165"/>
                    </a:lnTo>
                    <a:lnTo>
                      <a:pt x="53" y="178"/>
                    </a:lnTo>
                    <a:lnTo>
                      <a:pt x="78" y="193"/>
                    </a:lnTo>
                    <a:lnTo>
                      <a:pt x="102" y="208"/>
                    </a:lnTo>
                    <a:lnTo>
                      <a:pt x="126" y="225"/>
                    </a:lnTo>
                    <a:lnTo>
                      <a:pt x="148" y="244"/>
                    </a:lnTo>
                    <a:lnTo>
                      <a:pt x="169" y="264"/>
                    </a:lnTo>
                    <a:lnTo>
                      <a:pt x="190" y="285"/>
                    </a:lnTo>
                    <a:lnTo>
                      <a:pt x="209" y="306"/>
                    </a:lnTo>
                    <a:lnTo>
                      <a:pt x="228" y="329"/>
                    </a:lnTo>
                    <a:lnTo>
                      <a:pt x="244" y="353"/>
                    </a:lnTo>
                    <a:lnTo>
                      <a:pt x="260" y="378"/>
                    </a:lnTo>
                    <a:lnTo>
                      <a:pt x="274" y="404"/>
                    </a:lnTo>
                    <a:lnTo>
                      <a:pt x="286" y="429"/>
                    </a:lnTo>
                    <a:lnTo>
                      <a:pt x="298" y="456"/>
                    </a:lnTo>
                    <a:lnTo>
                      <a:pt x="307" y="485"/>
                    </a:lnTo>
                    <a:lnTo>
                      <a:pt x="306" y="482"/>
                    </a:lnTo>
                    <a:lnTo>
                      <a:pt x="465" y="437"/>
                    </a:lnTo>
                    <a:lnTo>
                      <a:pt x="464" y="436"/>
                    </a:lnTo>
                    <a:lnTo>
                      <a:pt x="464" y="435"/>
                    </a:lnTo>
                    <a:lnTo>
                      <a:pt x="465" y="4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3313080" y="4427640"/>
                <a:ext cx="52560" cy="44280"/>
              </a:xfrm>
              <a:custGeom>
                <a:avLst/>
                <a:gdLst/>
                <a:ahLst/>
                <a:rect l="l" t="t" r="r" b="b"/>
                <a:pathLst>
                  <a:path w="161" h="141">
                    <a:moveTo>
                      <a:pt x="112" y="108"/>
                    </a:moveTo>
                    <a:lnTo>
                      <a:pt x="161" y="10"/>
                    </a:lnTo>
                    <a:lnTo>
                      <a:pt x="159" y="0"/>
                    </a:lnTo>
                    <a:lnTo>
                      <a:pt x="0" y="45"/>
                    </a:lnTo>
                    <a:lnTo>
                      <a:pt x="4" y="55"/>
                    </a:lnTo>
                    <a:lnTo>
                      <a:pt x="112" y="108"/>
                    </a:lnTo>
                    <a:lnTo>
                      <a:pt x="4" y="55"/>
                    </a:lnTo>
                    <a:lnTo>
                      <a:pt x="28" y="141"/>
                    </a:lnTo>
                    <a:lnTo>
                      <a:pt x="112" y="1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3330720" y="4408560"/>
                <a:ext cx="28440" cy="5220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77" y="0"/>
                    </a:moveTo>
                    <a:lnTo>
                      <a:pt x="77" y="0"/>
                    </a:lnTo>
                    <a:lnTo>
                      <a:pt x="69" y="0"/>
                    </a:lnTo>
                    <a:lnTo>
                      <a:pt x="63" y="1"/>
                    </a:lnTo>
                    <a:lnTo>
                      <a:pt x="54" y="2"/>
                    </a:lnTo>
                    <a:lnTo>
                      <a:pt x="45" y="2"/>
                    </a:lnTo>
                    <a:lnTo>
                      <a:pt x="35" y="4"/>
                    </a:lnTo>
                    <a:lnTo>
                      <a:pt x="24" y="6"/>
                    </a:lnTo>
                    <a:lnTo>
                      <a:pt x="12" y="9"/>
                    </a:lnTo>
                    <a:lnTo>
                      <a:pt x="0" y="14"/>
                    </a:lnTo>
                    <a:lnTo>
                      <a:pt x="59" y="166"/>
                    </a:lnTo>
                    <a:lnTo>
                      <a:pt x="60" y="166"/>
                    </a:lnTo>
                    <a:lnTo>
                      <a:pt x="61" y="166"/>
                    </a:lnTo>
                    <a:lnTo>
                      <a:pt x="62" y="166"/>
                    </a:lnTo>
                    <a:lnTo>
                      <a:pt x="65" y="166"/>
                    </a:lnTo>
                    <a:lnTo>
                      <a:pt x="68" y="165"/>
                    </a:lnTo>
                    <a:lnTo>
                      <a:pt x="74" y="165"/>
                    </a:lnTo>
                    <a:lnTo>
                      <a:pt x="80" y="165"/>
                    </a:lnTo>
                    <a:lnTo>
                      <a:pt x="88" y="164"/>
                    </a:lnTo>
                    <a:lnTo>
                      <a:pt x="88" y="164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3346560" y="4406760"/>
                <a:ext cx="50760" cy="54000"/>
              </a:xfrm>
              <a:custGeom>
                <a:avLst/>
                <a:gdLst/>
                <a:ahLst/>
                <a:rect l="l" t="t" r="r" b="b"/>
                <a:pathLst>
                  <a:path w="160" h="168">
                    <a:moveTo>
                      <a:pt x="160" y="74"/>
                    </a:moveTo>
                    <a:lnTo>
                      <a:pt x="159" y="71"/>
                    </a:lnTo>
                    <a:lnTo>
                      <a:pt x="140" y="36"/>
                    </a:lnTo>
                    <a:lnTo>
                      <a:pt x="110" y="12"/>
                    </a:lnTo>
                    <a:lnTo>
                      <a:pt x="83" y="3"/>
                    </a:lnTo>
                    <a:lnTo>
                      <a:pt x="64" y="0"/>
                    </a:lnTo>
                    <a:lnTo>
                      <a:pt x="50" y="2"/>
                    </a:lnTo>
                    <a:lnTo>
                      <a:pt x="40" y="3"/>
                    </a:lnTo>
                    <a:lnTo>
                      <a:pt x="33" y="4"/>
                    </a:lnTo>
                    <a:lnTo>
                      <a:pt x="28" y="4"/>
                    </a:lnTo>
                    <a:lnTo>
                      <a:pt x="39" y="168"/>
                    </a:lnTo>
                    <a:lnTo>
                      <a:pt x="48" y="167"/>
                    </a:lnTo>
                    <a:lnTo>
                      <a:pt x="57" y="166"/>
                    </a:lnTo>
                    <a:lnTo>
                      <a:pt x="62" y="166"/>
                    </a:lnTo>
                    <a:lnTo>
                      <a:pt x="61" y="166"/>
                    </a:lnTo>
                    <a:lnTo>
                      <a:pt x="54" y="165"/>
                    </a:lnTo>
                    <a:lnTo>
                      <a:pt x="35" y="158"/>
                    </a:lnTo>
                    <a:lnTo>
                      <a:pt x="14" y="140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160" y="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3319560" y="4425840"/>
                <a:ext cx="79200" cy="55800"/>
              </a:xfrm>
              <a:custGeom>
                <a:avLst/>
                <a:gdLst/>
                <a:ahLst/>
                <a:rect l="l" t="t" r="r" b="b"/>
                <a:pathLst>
                  <a:path w="247" h="174">
                    <a:moveTo>
                      <a:pt x="163" y="105"/>
                    </a:moveTo>
                    <a:lnTo>
                      <a:pt x="102" y="174"/>
                    </a:lnTo>
                    <a:lnTo>
                      <a:pt x="124" y="168"/>
                    </a:lnTo>
                    <a:lnTo>
                      <a:pt x="145" y="162"/>
                    </a:lnTo>
                    <a:lnTo>
                      <a:pt x="166" y="155"/>
                    </a:lnTo>
                    <a:lnTo>
                      <a:pt x="186" y="147"/>
                    </a:lnTo>
                    <a:lnTo>
                      <a:pt x="204" y="136"/>
                    </a:lnTo>
                    <a:lnTo>
                      <a:pt x="219" y="123"/>
                    </a:lnTo>
                    <a:lnTo>
                      <a:pt x="231" y="106"/>
                    </a:lnTo>
                    <a:lnTo>
                      <a:pt x="240" y="86"/>
                    </a:lnTo>
                    <a:lnTo>
                      <a:pt x="246" y="66"/>
                    </a:lnTo>
                    <a:lnTo>
                      <a:pt x="247" y="47"/>
                    </a:lnTo>
                    <a:lnTo>
                      <a:pt x="245" y="31"/>
                    </a:lnTo>
                    <a:lnTo>
                      <a:pt x="243" y="16"/>
                    </a:lnTo>
                    <a:lnTo>
                      <a:pt x="83" y="54"/>
                    </a:lnTo>
                    <a:lnTo>
                      <a:pt x="83" y="53"/>
                    </a:lnTo>
                    <a:lnTo>
                      <a:pt x="82" y="49"/>
                    </a:lnTo>
                    <a:lnTo>
                      <a:pt x="83" y="43"/>
                    </a:lnTo>
                    <a:lnTo>
                      <a:pt x="85" y="32"/>
                    </a:lnTo>
                    <a:lnTo>
                      <a:pt x="90" y="21"/>
                    </a:lnTo>
                    <a:lnTo>
                      <a:pt x="97" y="12"/>
                    </a:lnTo>
                    <a:lnTo>
                      <a:pt x="104" y="5"/>
                    </a:lnTo>
                    <a:lnTo>
                      <a:pt x="113" y="0"/>
                    </a:lnTo>
                    <a:lnTo>
                      <a:pt x="109" y="2"/>
                    </a:lnTo>
                    <a:lnTo>
                      <a:pt x="100" y="5"/>
                    </a:lnTo>
                    <a:lnTo>
                      <a:pt x="83" y="9"/>
                    </a:lnTo>
                    <a:lnTo>
                      <a:pt x="59" y="15"/>
                    </a:lnTo>
                    <a:lnTo>
                      <a:pt x="0" y="84"/>
                    </a:lnTo>
                    <a:lnTo>
                      <a:pt x="59" y="15"/>
                    </a:lnTo>
                    <a:lnTo>
                      <a:pt x="6" y="30"/>
                    </a:lnTo>
                    <a:lnTo>
                      <a:pt x="0" y="84"/>
                    </a:lnTo>
                    <a:lnTo>
                      <a:pt x="163" y="1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3319560" y="4452840"/>
                <a:ext cx="52200" cy="11160"/>
              </a:xfrm>
              <a:custGeom>
                <a:avLst/>
                <a:gdLst/>
                <a:ahLst/>
                <a:rect l="l" t="t" r="r" b="b"/>
                <a:pathLst>
                  <a:path w="166" h="38">
                    <a:moveTo>
                      <a:pt x="2" y="38"/>
                    </a:moveTo>
                    <a:lnTo>
                      <a:pt x="165" y="31"/>
                    </a:lnTo>
                    <a:lnTo>
                      <a:pt x="166" y="21"/>
                    </a:lnTo>
                    <a:lnTo>
                      <a:pt x="3" y="0"/>
                    </a:lnTo>
                    <a:lnTo>
                      <a:pt x="1" y="11"/>
                    </a:lnTo>
                    <a:lnTo>
                      <a:pt x="2" y="38"/>
                    </a:lnTo>
                    <a:lnTo>
                      <a:pt x="1" y="11"/>
                    </a:lnTo>
                    <a:lnTo>
                      <a:pt x="0" y="24"/>
                    </a:lnTo>
                    <a:lnTo>
                      <a:pt x="2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3319560" y="445464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172" h="123">
                    <a:moveTo>
                      <a:pt x="172" y="123"/>
                    </a:moveTo>
                    <a:lnTo>
                      <a:pt x="172" y="123"/>
                    </a:lnTo>
                    <a:lnTo>
                      <a:pt x="172" y="107"/>
                    </a:lnTo>
                    <a:lnTo>
                      <a:pt x="171" y="92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68" y="47"/>
                    </a:lnTo>
                    <a:lnTo>
                      <a:pt x="166" y="32"/>
                    </a:lnTo>
                    <a:lnTo>
                      <a:pt x="164" y="16"/>
                    </a:lnTo>
                    <a:lnTo>
                      <a:pt x="162" y="0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4" y="53"/>
                    </a:lnTo>
                    <a:lnTo>
                      <a:pt x="5" y="64"/>
                    </a:lnTo>
                    <a:lnTo>
                      <a:pt x="6" y="76"/>
                    </a:lnTo>
                    <a:lnTo>
                      <a:pt x="7" y="87"/>
                    </a:lnTo>
                    <a:lnTo>
                      <a:pt x="7" y="99"/>
                    </a:lnTo>
                    <a:lnTo>
                      <a:pt x="7" y="111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72" y="1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3300480" y="449280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231" h="341">
                    <a:moveTo>
                      <a:pt x="141" y="341"/>
                    </a:moveTo>
                    <a:lnTo>
                      <a:pt x="144" y="337"/>
                    </a:lnTo>
                    <a:lnTo>
                      <a:pt x="154" y="317"/>
                    </a:lnTo>
                    <a:lnTo>
                      <a:pt x="163" y="299"/>
                    </a:lnTo>
                    <a:lnTo>
                      <a:pt x="172" y="279"/>
                    </a:lnTo>
                    <a:lnTo>
                      <a:pt x="181" y="259"/>
                    </a:lnTo>
                    <a:lnTo>
                      <a:pt x="188" y="239"/>
                    </a:lnTo>
                    <a:lnTo>
                      <a:pt x="196" y="219"/>
                    </a:lnTo>
                    <a:lnTo>
                      <a:pt x="202" y="197"/>
                    </a:lnTo>
                    <a:lnTo>
                      <a:pt x="208" y="177"/>
                    </a:lnTo>
                    <a:lnTo>
                      <a:pt x="213" y="155"/>
                    </a:lnTo>
                    <a:lnTo>
                      <a:pt x="218" y="134"/>
                    </a:lnTo>
                    <a:lnTo>
                      <a:pt x="222" y="112"/>
                    </a:lnTo>
                    <a:lnTo>
                      <a:pt x="225" y="90"/>
                    </a:lnTo>
                    <a:lnTo>
                      <a:pt x="228" y="68"/>
                    </a:lnTo>
                    <a:lnTo>
                      <a:pt x="229" y="45"/>
                    </a:lnTo>
                    <a:lnTo>
                      <a:pt x="231" y="22"/>
                    </a:lnTo>
                    <a:lnTo>
                      <a:pt x="231" y="0"/>
                    </a:lnTo>
                    <a:lnTo>
                      <a:pt x="67" y="0"/>
                    </a:lnTo>
                    <a:lnTo>
                      <a:pt x="66" y="17"/>
                    </a:lnTo>
                    <a:lnTo>
                      <a:pt x="66" y="34"/>
                    </a:lnTo>
                    <a:lnTo>
                      <a:pt x="64" y="51"/>
                    </a:lnTo>
                    <a:lnTo>
                      <a:pt x="63" y="69"/>
                    </a:lnTo>
                    <a:lnTo>
                      <a:pt x="60" y="86"/>
                    </a:lnTo>
                    <a:lnTo>
                      <a:pt x="57" y="102"/>
                    </a:lnTo>
                    <a:lnTo>
                      <a:pt x="53" y="118"/>
                    </a:lnTo>
                    <a:lnTo>
                      <a:pt x="49" y="135"/>
                    </a:lnTo>
                    <a:lnTo>
                      <a:pt x="45" y="151"/>
                    </a:lnTo>
                    <a:lnTo>
                      <a:pt x="40" y="166"/>
                    </a:lnTo>
                    <a:lnTo>
                      <a:pt x="34" y="182"/>
                    </a:lnTo>
                    <a:lnTo>
                      <a:pt x="28" y="197"/>
                    </a:lnTo>
                    <a:lnTo>
                      <a:pt x="22" y="212"/>
                    </a:lnTo>
                    <a:lnTo>
                      <a:pt x="14" y="228"/>
                    </a:lnTo>
                    <a:lnTo>
                      <a:pt x="8" y="243"/>
                    </a:lnTo>
                    <a:lnTo>
                      <a:pt x="0" y="257"/>
                    </a:lnTo>
                    <a:lnTo>
                      <a:pt x="3" y="252"/>
                    </a:lnTo>
                    <a:lnTo>
                      <a:pt x="141" y="341"/>
                    </a:lnTo>
                    <a:lnTo>
                      <a:pt x="143" y="339"/>
                    </a:lnTo>
                    <a:lnTo>
                      <a:pt x="144" y="337"/>
                    </a:lnTo>
                    <a:lnTo>
                      <a:pt x="141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3279600" y="4573440"/>
                <a:ext cx="65160" cy="42840"/>
              </a:xfrm>
              <a:custGeom>
                <a:avLst/>
                <a:gdLst/>
                <a:ahLst/>
                <a:rect l="l" t="t" r="r" b="b"/>
                <a:pathLst>
                  <a:path w="205" h="139">
                    <a:moveTo>
                      <a:pt x="102" y="139"/>
                    </a:moveTo>
                    <a:lnTo>
                      <a:pt x="195" y="104"/>
                    </a:lnTo>
                    <a:lnTo>
                      <a:pt x="205" y="89"/>
                    </a:lnTo>
                    <a:lnTo>
                      <a:pt x="67" y="0"/>
                    </a:lnTo>
                    <a:lnTo>
                      <a:pt x="57" y="16"/>
                    </a:lnTo>
                    <a:lnTo>
                      <a:pt x="102" y="139"/>
                    </a:lnTo>
                    <a:lnTo>
                      <a:pt x="57" y="16"/>
                    </a:lnTo>
                    <a:lnTo>
                      <a:pt x="0" y="107"/>
                    </a:lnTo>
                    <a:lnTo>
                      <a:pt x="102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3313080" y="4567320"/>
                <a:ext cx="34920" cy="55440"/>
              </a:xfrm>
              <a:custGeom>
                <a:avLst/>
                <a:gdLst/>
                <a:ahLst/>
                <a:rect l="l" t="t" r="r" b="b"/>
                <a:pathLst>
                  <a:path w="113" h="177">
                    <a:moveTo>
                      <a:pt x="113" y="35"/>
                    </a:moveTo>
                    <a:lnTo>
                      <a:pt x="113" y="35"/>
                    </a:lnTo>
                    <a:lnTo>
                      <a:pt x="109" y="32"/>
                    </a:lnTo>
                    <a:lnTo>
                      <a:pt x="105" y="29"/>
                    </a:lnTo>
                    <a:lnTo>
                      <a:pt x="99" y="26"/>
                    </a:lnTo>
                    <a:lnTo>
                      <a:pt x="93" y="22"/>
                    </a:lnTo>
                    <a:lnTo>
                      <a:pt x="84" y="16"/>
                    </a:lnTo>
                    <a:lnTo>
                      <a:pt x="75" y="11"/>
                    </a:lnTo>
                    <a:lnTo>
                      <a:pt x="63" y="4"/>
                    </a:lnTo>
                    <a:lnTo>
                      <a:pt x="50" y="0"/>
                    </a:lnTo>
                    <a:lnTo>
                      <a:pt x="1" y="158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1" y="158"/>
                    </a:lnTo>
                    <a:lnTo>
                      <a:pt x="4" y="159"/>
                    </a:lnTo>
                    <a:lnTo>
                      <a:pt x="9" y="162"/>
                    </a:lnTo>
                    <a:lnTo>
                      <a:pt x="14" y="166"/>
                    </a:lnTo>
                    <a:lnTo>
                      <a:pt x="23" y="172"/>
                    </a:lnTo>
                    <a:lnTo>
                      <a:pt x="32" y="177"/>
                    </a:lnTo>
                    <a:lnTo>
                      <a:pt x="32" y="177"/>
                    </a:lnTo>
                    <a:lnTo>
                      <a:pt x="113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3319560" y="457848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164" h="146">
                    <a:moveTo>
                      <a:pt x="155" y="142"/>
                    </a:moveTo>
                    <a:lnTo>
                      <a:pt x="157" y="138"/>
                    </a:lnTo>
                    <a:lnTo>
                      <a:pt x="164" y="104"/>
                    </a:lnTo>
                    <a:lnTo>
                      <a:pt x="159" y="72"/>
                    </a:lnTo>
                    <a:lnTo>
                      <a:pt x="148" y="49"/>
                    </a:lnTo>
                    <a:lnTo>
                      <a:pt x="135" y="32"/>
                    </a:lnTo>
                    <a:lnTo>
                      <a:pt x="123" y="20"/>
                    </a:lnTo>
                    <a:lnTo>
                      <a:pt x="112" y="12"/>
                    </a:lnTo>
                    <a:lnTo>
                      <a:pt x="101" y="5"/>
                    </a:lnTo>
                    <a:lnTo>
                      <a:pt x="91" y="0"/>
                    </a:lnTo>
                    <a:lnTo>
                      <a:pt x="10" y="142"/>
                    </a:lnTo>
                    <a:lnTo>
                      <a:pt x="14" y="144"/>
                    </a:lnTo>
                    <a:lnTo>
                      <a:pt x="17" y="146"/>
                    </a:lnTo>
                    <a:lnTo>
                      <a:pt x="17" y="146"/>
                    </a:lnTo>
                    <a:lnTo>
                      <a:pt x="15" y="144"/>
                    </a:lnTo>
                    <a:lnTo>
                      <a:pt x="9" y="137"/>
                    </a:lnTo>
                    <a:lnTo>
                      <a:pt x="3" y="123"/>
                    </a:lnTo>
                    <a:lnTo>
                      <a:pt x="0" y="100"/>
                    </a:lnTo>
                    <a:lnTo>
                      <a:pt x="4" y="77"/>
                    </a:lnTo>
                    <a:lnTo>
                      <a:pt x="6" y="73"/>
                    </a:lnTo>
                    <a:lnTo>
                      <a:pt x="155" y="1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3300480" y="4583160"/>
                <a:ext cx="68040" cy="61920"/>
              </a:xfrm>
              <a:custGeom>
                <a:avLst/>
                <a:gdLst/>
                <a:ahLst/>
                <a:rect l="l" t="t" r="r" b="b"/>
                <a:pathLst>
                  <a:path w="213" h="196">
                    <a:moveTo>
                      <a:pt x="33" y="164"/>
                    </a:moveTo>
                    <a:lnTo>
                      <a:pt x="0" y="156"/>
                    </a:lnTo>
                    <a:lnTo>
                      <a:pt x="20" y="166"/>
                    </a:lnTo>
                    <a:lnTo>
                      <a:pt x="38" y="175"/>
                    </a:lnTo>
                    <a:lnTo>
                      <a:pt x="58" y="183"/>
                    </a:lnTo>
                    <a:lnTo>
                      <a:pt x="77" y="191"/>
                    </a:lnTo>
                    <a:lnTo>
                      <a:pt x="97" y="195"/>
                    </a:lnTo>
                    <a:lnTo>
                      <a:pt x="116" y="196"/>
                    </a:lnTo>
                    <a:lnTo>
                      <a:pt x="138" y="193"/>
                    </a:lnTo>
                    <a:lnTo>
                      <a:pt x="160" y="186"/>
                    </a:lnTo>
                    <a:lnTo>
                      <a:pt x="180" y="171"/>
                    </a:lnTo>
                    <a:lnTo>
                      <a:pt x="195" y="157"/>
                    </a:lnTo>
                    <a:lnTo>
                      <a:pt x="206" y="142"/>
                    </a:lnTo>
                    <a:lnTo>
                      <a:pt x="213" y="127"/>
                    </a:lnTo>
                    <a:lnTo>
                      <a:pt x="64" y="58"/>
                    </a:lnTo>
                    <a:lnTo>
                      <a:pt x="64" y="57"/>
                    </a:lnTo>
                    <a:lnTo>
                      <a:pt x="67" y="53"/>
                    </a:lnTo>
                    <a:lnTo>
                      <a:pt x="75" y="46"/>
                    </a:lnTo>
                    <a:lnTo>
                      <a:pt x="86" y="39"/>
                    </a:lnTo>
                    <a:lnTo>
                      <a:pt x="99" y="34"/>
                    </a:lnTo>
                    <a:lnTo>
                      <a:pt x="111" y="32"/>
                    </a:lnTo>
                    <a:lnTo>
                      <a:pt x="119" y="32"/>
                    </a:lnTo>
                    <a:lnTo>
                      <a:pt x="127" y="34"/>
                    </a:lnTo>
                    <a:lnTo>
                      <a:pt x="120" y="32"/>
                    </a:lnTo>
                    <a:lnTo>
                      <a:pt x="108" y="27"/>
                    </a:lnTo>
                    <a:lnTo>
                      <a:pt x="89" y="17"/>
                    </a:lnTo>
                    <a:lnTo>
                      <a:pt x="65" y="6"/>
                    </a:lnTo>
                    <a:lnTo>
                      <a:pt x="33" y="0"/>
                    </a:lnTo>
                    <a:lnTo>
                      <a:pt x="65" y="6"/>
                    </a:lnTo>
                    <a:lnTo>
                      <a:pt x="50" y="0"/>
                    </a:lnTo>
                    <a:lnTo>
                      <a:pt x="33" y="0"/>
                    </a:lnTo>
                    <a:lnTo>
                      <a:pt x="33" y="1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3289320" y="4583160"/>
                <a:ext cx="22320" cy="52200"/>
              </a:xfrm>
              <a:custGeom>
                <a:avLst/>
                <a:gdLst/>
                <a:ahLst/>
                <a:rect l="l" t="t" r="r" b="b"/>
                <a:pathLst>
                  <a:path w="71" h="164">
                    <a:moveTo>
                      <a:pt x="0" y="33"/>
                    </a:moveTo>
                    <a:lnTo>
                      <a:pt x="65" y="164"/>
                    </a:lnTo>
                    <a:lnTo>
                      <a:pt x="71" y="164"/>
                    </a:lnTo>
                    <a:lnTo>
                      <a:pt x="71" y="0"/>
                    </a:lnTo>
                    <a:lnTo>
                      <a:pt x="65" y="0"/>
                    </a:lnTo>
                    <a:lnTo>
                      <a:pt x="0" y="33"/>
                    </a:lnTo>
                    <a:lnTo>
                      <a:pt x="65" y="0"/>
                    </a:lnTo>
                    <a:lnTo>
                      <a:pt x="24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3243240" y="459252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275" h="275">
                    <a:moveTo>
                      <a:pt x="83" y="275"/>
                    </a:moveTo>
                    <a:lnTo>
                      <a:pt x="88" y="271"/>
                    </a:lnTo>
                    <a:lnTo>
                      <a:pt x="114" y="253"/>
                    </a:lnTo>
                    <a:lnTo>
                      <a:pt x="140" y="235"/>
                    </a:lnTo>
                    <a:lnTo>
                      <a:pt x="165" y="214"/>
                    </a:lnTo>
                    <a:lnTo>
                      <a:pt x="189" y="194"/>
                    </a:lnTo>
                    <a:lnTo>
                      <a:pt x="213" y="171"/>
                    </a:lnTo>
                    <a:lnTo>
                      <a:pt x="234" y="147"/>
                    </a:lnTo>
                    <a:lnTo>
                      <a:pt x="256" y="123"/>
                    </a:lnTo>
                    <a:lnTo>
                      <a:pt x="275" y="97"/>
                    </a:lnTo>
                    <a:lnTo>
                      <a:pt x="144" y="0"/>
                    </a:lnTo>
                    <a:lnTo>
                      <a:pt x="129" y="20"/>
                    </a:lnTo>
                    <a:lnTo>
                      <a:pt x="112" y="38"/>
                    </a:lnTo>
                    <a:lnTo>
                      <a:pt x="96" y="55"/>
                    </a:lnTo>
                    <a:lnTo>
                      <a:pt x="78" y="73"/>
                    </a:lnTo>
                    <a:lnTo>
                      <a:pt x="59" y="89"/>
                    </a:lnTo>
                    <a:lnTo>
                      <a:pt x="41" y="104"/>
                    </a:lnTo>
                    <a:lnTo>
                      <a:pt x="21" y="119"/>
                    </a:lnTo>
                    <a:lnTo>
                      <a:pt x="0" y="133"/>
                    </a:lnTo>
                    <a:lnTo>
                      <a:pt x="4" y="130"/>
                    </a:lnTo>
                    <a:lnTo>
                      <a:pt x="83" y="275"/>
                    </a:lnTo>
                    <a:lnTo>
                      <a:pt x="85" y="272"/>
                    </a:lnTo>
                    <a:lnTo>
                      <a:pt x="88" y="271"/>
                    </a:lnTo>
                    <a:lnTo>
                      <a:pt x="83" y="27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3218040" y="4633920"/>
                <a:ext cx="52200" cy="49320"/>
              </a:xfrm>
              <a:custGeom>
                <a:avLst/>
                <a:gdLst/>
                <a:ahLst/>
                <a:rect l="l" t="t" r="r" b="b"/>
                <a:pathLst>
                  <a:path w="163" h="152">
                    <a:moveTo>
                      <a:pt x="36" y="117"/>
                    </a:moveTo>
                    <a:lnTo>
                      <a:pt x="148" y="152"/>
                    </a:lnTo>
                    <a:lnTo>
                      <a:pt x="163" y="145"/>
                    </a:lnTo>
                    <a:lnTo>
                      <a:pt x="84" y="0"/>
                    </a:lnTo>
                    <a:lnTo>
                      <a:pt x="70" y="7"/>
                    </a:lnTo>
                    <a:lnTo>
                      <a:pt x="36" y="117"/>
                    </a:lnTo>
                    <a:lnTo>
                      <a:pt x="70" y="7"/>
                    </a:lnTo>
                    <a:lnTo>
                      <a:pt x="0" y="46"/>
                    </a:lnTo>
                    <a:lnTo>
                      <a:pt x="36" y="1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3228840" y="4648320"/>
                <a:ext cx="54000" cy="41040"/>
              </a:xfrm>
              <a:custGeom>
                <a:avLst/>
                <a:gdLst/>
                <a:ahLst/>
                <a:rect l="l" t="t" r="r" b="b"/>
                <a:pathLst>
                  <a:path w="168" h="128">
                    <a:moveTo>
                      <a:pt x="167" y="41"/>
                    </a:moveTo>
                    <a:lnTo>
                      <a:pt x="168" y="43"/>
                    </a:lnTo>
                    <a:lnTo>
                      <a:pt x="166" y="39"/>
                    </a:lnTo>
                    <a:lnTo>
                      <a:pt x="163" y="34"/>
                    </a:lnTo>
                    <a:lnTo>
                      <a:pt x="161" y="29"/>
                    </a:lnTo>
                    <a:lnTo>
                      <a:pt x="158" y="24"/>
                    </a:lnTo>
                    <a:lnTo>
                      <a:pt x="155" y="18"/>
                    </a:lnTo>
                    <a:lnTo>
                      <a:pt x="153" y="13"/>
                    </a:lnTo>
                    <a:lnTo>
                      <a:pt x="150" y="8"/>
                    </a:lnTo>
                    <a:lnTo>
                      <a:pt x="147" y="0"/>
                    </a:lnTo>
                    <a:lnTo>
                      <a:pt x="0" y="74"/>
                    </a:lnTo>
                    <a:lnTo>
                      <a:pt x="2" y="79"/>
                    </a:lnTo>
                    <a:lnTo>
                      <a:pt x="5" y="85"/>
                    </a:lnTo>
                    <a:lnTo>
                      <a:pt x="8" y="92"/>
                    </a:lnTo>
                    <a:lnTo>
                      <a:pt x="11" y="97"/>
                    </a:lnTo>
                    <a:lnTo>
                      <a:pt x="15" y="105"/>
                    </a:lnTo>
                    <a:lnTo>
                      <a:pt x="18" y="111"/>
                    </a:lnTo>
                    <a:lnTo>
                      <a:pt x="23" y="119"/>
                    </a:lnTo>
                    <a:lnTo>
                      <a:pt x="27" y="125"/>
                    </a:lnTo>
                    <a:lnTo>
                      <a:pt x="28" y="128"/>
                    </a:lnTo>
                    <a:lnTo>
                      <a:pt x="167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3238560" y="466092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174" h="155">
                    <a:moveTo>
                      <a:pt x="146" y="155"/>
                    </a:moveTo>
                    <a:lnTo>
                      <a:pt x="147" y="154"/>
                    </a:lnTo>
                    <a:lnTo>
                      <a:pt x="161" y="135"/>
                    </a:lnTo>
                    <a:lnTo>
                      <a:pt x="169" y="115"/>
                    </a:lnTo>
                    <a:lnTo>
                      <a:pt x="174" y="94"/>
                    </a:lnTo>
                    <a:lnTo>
                      <a:pt x="173" y="71"/>
                    </a:lnTo>
                    <a:lnTo>
                      <a:pt x="167" y="52"/>
                    </a:lnTo>
                    <a:lnTo>
                      <a:pt x="161" y="36"/>
                    </a:lnTo>
                    <a:lnTo>
                      <a:pt x="153" y="23"/>
                    </a:lnTo>
                    <a:lnTo>
                      <a:pt x="148" y="13"/>
                    </a:lnTo>
                    <a:lnTo>
                      <a:pt x="142" y="6"/>
                    </a:lnTo>
                    <a:lnTo>
                      <a:pt x="139" y="0"/>
                    </a:lnTo>
                    <a:lnTo>
                      <a:pt x="0" y="87"/>
                    </a:lnTo>
                    <a:lnTo>
                      <a:pt x="4" y="95"/>
                    </a:lnTo>
                    <a:lnTo>
                      <a:pt x="10" y="102"/>
                    </a:lnTo>
                    <a:lnTo>
                      <a:pt x="13" y="107"/>
                    </a:lnTo>
                    <a:lnTo>
                      <a:pt x="14" y="108"/>
                    </a:lnTo>
                    <a:lnTo>
                      <a:pt x="12" y="106"/>
                    </a:lnTo>
                    <a:lnTo>
                      <a:pt x="11" y="98"/>
                    </a:lnTo>
                    <a:lnTo>
                      <a:pt x="10" y="82"/>
                    </a:lnTo>
                    <a:lnTo>
                      <a:pt x="13" y="67"/>
                    </a:lnTo>
                    <a:lnTo>
                      <a:pt x="19" y="51"/>
                    </a:lnTo>
                    <a:lnTo>
                      <a:pt x="30" y="37"/>
                    </a:lnTo>
                    <a:lnTo>
                      <a:pt x="31" y="36"/>
                    </a:lnTo>
                    <a:lnTo>
                      <a:pt x="146" y="1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3214800" y="4637160"/>
                <a:ext cx="69840" cy="84240"/>
              </a:xfrm>
              <a:custGeom>
                <a:avLst/>
                <a:gdLst/>
                <a:ahLst/>
                <a:rect l="l" t="t" r="r" b="b"/>
                <a:pathLst>
                  <a:path w="222" h="262">
                    <a:moveTo>
                      <a:pt x="99" y="176"/>
                    </a:moveTo>
                    <a:lnTo>
                      <a:pt x="0" y="147"/>
                    </a:lnTo>
                    <a:lnTo>
                      <a:pt x="13" y="166"/>
                    </a:lnTo>
                    <a:lnTo>
                      <a:pt x="27" y="186"/>
                    </a:lnTo>
                    <a:lnTo>
                      <a:pt x="42" y="207"/>
                    </a:lnTo>
                    <a:lnTo>
                      <a:pt x="59" y="225"/>
                    </a:lnTo>
                    <a:lnTo>
                      <a:pt x="74" y="238"/>
                    </a:lnTo>
                    <a:lnTo>
                      <a:pt x="89" y="248"/>
                    </a:lnTo>
                    <a:lnTo>
                      <a:pt x="109" y="258"/>
                    </a:lnTo>
                    <a:lnTo>
                      <a:pt x="134" y="262"/>
                    </a:lnTo>
                    <a:lnTo>
                      <a:pt x="160" y="261"/>
                    </a:lnTo>
                    <a:lnTo>
                      <a:pt x="185" y="253"/>
                    </a:lnTo>
                    <a:lnTo>
                      <a:pt x="205" y="242"/>
                    </a:lnTo>
                    <a:lnTo>
                      <a:pt x="222" y="229"/>
                    </a:lnTo>
                    <a:lnTo>
                      <a:pt x="107" y="110"/>
                    </a:lnTo>
                    <a:lnTo>
                      <a:pt x="110" y="108"/>
                    </a:lnTo>
                    <a:lnTo>
                      <a:pt x="119" y="102"/>
                    </a:lnTo>
                    <a:lnTo>
                      <a:pt x="132" y="99"/>
                    </a:lnTo>
                    <a:lnTo>
                      <a:pt x="147" y="98"/>
                    </a:lnTo>
                    <a:lnTo>
                      <a:pt x="160" y="100"/>
                    </a:lnTo>
                    <a:lnTo>
                      <a:pt x="169" y="104"/>
                    </a:lnTo>
                    <a:lnTo>
                      <a:pt x="173" y="108"/>
                    </a:lnTo>
                    <a:lnTo>
                      <a:pt x="176" y="111"/>
                    </a:lnTo>
                    <a:lnTo>
                      <a:pt x="170" y="103"/>
                    </a:lnTo>
                    <a:lnTo>
                      <a:pt x="161" y="91"/>
                    </a:lnTo>
                    <a:lnTo>
                      <a:pt x="149" y="74"/>
                    </a:lnTo>
                    <a:lnTo>
                      <a:pt x="136" y="54"/>
                    </a:lnTo>
                    <a:lnTo>
                      <a:pt x="38" y="23"/>
                    </a:lnTo>
                    <a:lnTo>
                      <a:pt x="136" y="54"/>
                    </a:lnTo>
                    <a:lnTo>
                      <a:pt x="99" y="0"/>
                    </a:lnTo>
                    <a:lnTo>
                      <a:pt x="38" y="23"/>
                    </a:lnTo>
                    <a:lnTo>
                      <a:pt x="99" y="1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3220920" y="4645080"/>
                <a:ext cx="23760" cy="50760"/>
              </a:xfrm>
              <a:custGeom>
                <a:avLst/>
                <a:gdLst/>
                <a:ahLst/>
                <a:rect l="l" t="t" r="r" b="b"/>
                <a:pathLst>
                  <a:path w="77" h="159">
                    <a:moveTo>
                      <a:pt x="0" y="7"/>
                    </a:moveTo>
                    <a:lnTo>
                      <a:pt x="63" y="159"/>
                    </a:lnTo>
                    <a:lnTo>
                      <a:pt x="77" y="153"/>
                    </a:lnTo>
                    <a:lnTo>
                      <a:pt x="16" y="0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3154320" y="4646520"/>
                <a:ext cx="87480" cy="66600"/>
              </a:xfrm>
              <a:custGeom>
                <a:avLst/>
                <a:gdLst/>
                <a:ahLst/>
                <a:rect l="l" t="t" r="r" b="b"/>
                <a:pathLst>
                  <a:path w="278" h="208">
                    <a:moveTo>
                      <a:pt x="0" y="208"/>
                    </a:moveTo>
                    <a:lnTo>
                      <a:pt x="0" y="208"/>
                    </a:lnTo>
                    <a:lnTo>
                      <a:pt x="37" y="207"/>
                    </a:lnTo>
                    <a:lnTo>
                      <a:pt x="73" y="204"/>
                    </a:lnTo>
                    <a:lnTo>
                      <a:pt x="108" y="200"/>
                    </a:lnTo>
                    <a:lnTo>
                      <a:pt x="143" y="193"/>
                    </a:lnTo>
                    <a:lnTo>
                      <a:pt x="177" y="186"/>
                    </a:lnTo>
                    <a:lnTo>
                      <a:pt x="212" y="176"/>
                    </a:lnTo>
                    <a:lnTo>
                      <a:pt x="245" y="164"/>
                    </a:lnTo>
                    <a:lnTo>
                      <a:pt x="278" y="151"/>
                    </a:lnTo>
                    <a:lnTo>
                      <a:pt x="212" y="0"/>
                    </a:lnTo>
                    <a:lnTo>
                      <a:pt x="187" y="11"/>
                    </a:lnTo>
                    <a:lnTo>
                      <a:pt x="162" y="18"/>
                    </a:lnTo>
                    <a:lnTo>
                      <a:pt x="136" y="27"/>
                    </a:lnTo>
                    <a:lnTo>
                      <a:pt x="110" y="32"/>
                    </a:lnTo>
                    <a:lnTo>
                      <a:pt x="83" y="38"/>
                    </a:lnTo>
                    <a:lnTo>
                      <a:pt x="57" y="41"/>
                    </a:lnTo>
                    <a:lnTo>
                      <a:pt x="28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3052800" y="4641840"/>
                <a:ext cx="101520" cy="71280"/>
              </a:xfrm>
              <a:custGeom>
                <a:avLst/>
                <a:gdLst/>
                <a:ahLst/>
                <a:rect l="l" t="t" r="r" b="b"/>
                <a:pathLst>
                  <a:path w="320" h="223">
                    <a:moveTo>
                      <a:pt x="0" y="144"/>
                    </a:moveTo>
                    <a:lnTo>
                      <a:pt x="2" y="146"/>
                    </a:lnTo>
                    <a:lnTo>
                      <a:pt x="20" y="154"/>
                    </a:lnTo>
                    <a:lnTo>
                      <a:pt x="39" y="164"/>
                    </a:lnTo>
                    <a:lnTo>
                      <a:pt x="57" y="171"/>
                    </a:lnTo>
                    <a:lnTo>
                      <a:pt x="76" y="179"/>
                    </a:lnTo>
                    <a:lnTo>
                      <a:pt x="96" y="186"/>
                    </a:lnTo>
                    <a:lnTo>
                      <a:pt x="115" y="192"/>
                    </a:lnTo>
                    <a:lnTo>
                      <a:pt x="135" y="197"/>
                    </a:lnTo>
                    <a:lnTo>
                      <a:pt x="154" y="203"/>
                    </a:lnTo>
                    <a:lnTo>
                      <a:pt x="175" y="207"/>
                    </a:lnTo>
                    <a:lnTo>
                      <a:pt x="195" y="211"/>
                    </a:lnTo>
                    <a:lnTo>
                      <a:pt x="216" y="215"/>
                    </a:lnTo>
                    <a:lnTo>
                      <a:pt x="236" y="218"/>
                    </a:lnTo>
                    <a:lnTo>
                      <a:pt x="257" y="220"/>
                    </a:lnTo>
                    <a:lnTo>
                      <a:pt x="278" y="221"/>
                    </a:lnTo>
                    <a:lnTo>
                      <a:pt x="299" y="222"/>
                    </a:lnTo>
                    <a:lnTo>
                      <a:pt x="320" y="223"/>
                    </a:lnTo>
                    <a:lnTo>
                      <a:pt x="320" y="58"/>
                    </a:lnTo>
                    <a:lnTo>
                      <a:pt x="304" y="58"/>
                    </a:lnTo>
                    <a:lnTo>
                      <a:pt x="288" y="58"/>
                    </a:lnTo>
                    <a:lnTo>
                      <a:pt x="272" y="56"/>
                    </a:lnTo>
                    <a:lnTo>
                      <a:pt x="256" y="55"/>
                    </a:lnTo>
                    <a:lnTo>
                      <a:pt x="239" y="53"/>
                    </a:lnTo>
                    <a:lnTo>
                      <a:pt x="224" y="50"/>
                    </a:lnTo>
                    <a:lnTo>
                      <a:pt x="208" y="47"/>
                    </a:lnTo>
                    <a:lnTo>
                      <a:pt x="193" y="43"/>
                    </a:lnTo>
                    <a:lnTo>
                      <a:pt x="178" y="40"/>
                    </a:lnTo>
                    <a:lnTo>
                      <a:pt x="163" y="35"/>
                    </a:lnTo>
                    <a:lnTo>
                      <a:pt x="148" y="30"/>
                    </a:lnTo>
                    <a:lnTo>
                      <a:pt x="134" y="25"/>
                    </a:lnTo>
                    <a:lnTo>
                      <a:pt x="119" y="19"/>
                    </a:lnTo>
                    <a:lnTo>
                      <a:pt x="105" y="13"/>
                    </a:lnTo>
                    <a:lnTo>
                      <a:pt x="92" y="7"/>
                    </a:lnTo>
                    <a:lnTo>
                      <a:pt x="78" y="0"/>
                    </a:lnTo>
                    <a:lnTo>
                      <a:pt x="80" y="1"/>
                    </a:lnTo>
                    <a:lnTo>
                      <a:pt x="0" y="144"/>
                    </a:lnTo>
                    <a:lnTo>
                      <a:pt x="1" y="146"/>
                    </a:lnTo>
                    <a:lnTo>
                      <a:pt x="2" y="146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3036960" y="4627440"/>
                <a:ext cx="41040" cy="60480"/>
              </a:xfrm>
              <a:custGeom>
                <a:avLst/>
                <a:gdLst/>
                <a:ahLst/>
                <a:rect l="l" t="t" r="r" b="b"/>
                <a:pathLst>
                  <a:path w="127" h="193">
                    <a:moveTo>
                      <a:pt x="0" y="81"/>
                    </a:moveTo>
                    <a:lnTo>
                      <a:pt x="35" y="187"/>
                    </a:lnTo>
                    <a:lnTo>
                      <a:pt x="47" y="193"/>
                    </a:lnTo>
                    <a:lnTo>
                      <a:pt x="127" y="50"/>
                    </a:lnTo>
                    <a:lnTo>
                      <a:pt x="114" y="43"/>
                    </a:lnTo>
                    <a:lnTo>
                      <a:pt x="0" y="81"/>
                    </a:lnTo>
                    <a:lnTo>
                      <a:pt x="114" y="43"/>
                    </a:lnTo>
                    <a:lnTo>
                      <a:pt x="37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3030480" y="465300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168" h="128">
                    <a:moveTo>
                      <a:pt x="138" y="127"/>
                    </a:moveTo>
                    <a:lnTo>
                      <a:pt x="137" y="128"/>
                    </a:lnTo>
                    <a:lnTo>
                      <a:pt x="142" y="119"/>
                    </a:lnTo>
                    <a:lnTo>
                      <a:pt x="148" y="110"/>
                    </a:lnTo>
                    <a:lnTo>
                      <a:pt x="152" y="102"/>
                    </a:lnTo>
                    <a:lnTo>
                      <a:pt x="155" y="95"/>
                    </a:lnTo>
                    <a:lnTo>
                      <a:pt x="160" y="88"/>
                    </a:lnTo>
                    <a:lnTo>
                      <a:pt x="163" y="81"/>
                    </a:lnTo>
                    <a:lnTo>
                      <a:pt x="165" y="75"/>
                    </a:lnTo>
                    <a:lnTo>
                      <a:pt x="168" y="68"/>
                    </a:lnTo>
                    <a:lnTo>
                      <a:pt x="19" y="0"/>
                    </a:lnTo>
                    <a:lnTo>
                      <a:pt x="15" y="7"/>
                    </a:lnTo>
                    <a:lnTo>
                      <a:pt x="13" y="13"/>
                    </a:lnTo>
                    <a:lnTo>
                      <a:pt x="11" y="17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4" y="29"/>
                    </a:lnTo>
                    <a:lnTo>
                      <a:pt x="3" y="33"/>
                    </a:lnTo>
                    <a:lnTo>
                      <a:pt x="1" y="36"/>
                    </a:lnTo>
                    <a:lnTo>
                      <a:pt x="0" y="37"/>
                    </a:lnTo>
                    <a:lnTo>
                      <a:pt x="138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3029040" y="4664160"/>
                <a:ext cx="46080" cy="52200"/>
              </a:xfrm>
              <a:custGeom>
                <a:avLst/>
                <a:gdLst/>
                <a:ahLst/>
                <a:rect l="l" t="t" r="r" b="b"/>
                <a:pathLst>
                  <a:path w="147" h="164">
                    <a:moveTo>
                      <a:pt x="6" y="159"/>
                    </a:moveTo>
                    <a:lnTo>
                      <a:pt x="12" y="161"/>
                    </a:lnTo>
                    <a:lnTo>
                      <a:pt x="44" y="164"/>
                    </a:lnTo>
                    <a:lnTo>
                      <a:pt x="74" y="158"/>
                    </a:lnTo>
                    <a:lnTo>
                      <a:pt x="95" y="147"/>
                    </a:lnTo>
                    <a:lnTo>
                      <a:pt x="110" y="134"/>
                    </a:lnTo>
                    <a:lnTo>
                      <a:pt x="122" y="122"/>
                    </a:lnTo>
                    <a:lnTo>
                      <a:pt x="132" y="111"/>
                    </a:lnTo>
                    <a:lnTo>
                      <a:pt x="140" y="100"/>
                    </a:lnTo>
                    <a:lnTo>
                      <a:pt x="147" y="90"/>
                    </a:lnTo>
                    <a:lnTo>
                      <a:pt x="9" y="0"/>
                    </a:lnTo>
                    <a:lnTo>
                      <a:pt x="6" y="6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5" y="4"/>
                    </a:lnTo>
                    <a:lnTo>
                      <a:pt x="34" y="0"/>
                    </a:lnTo>
                    <a:lnTo>
                      <a:pt x="54" y="2"/>
                    </a:lnTo>
                    <a:lnTo>
                      <a:pt x="61" y="4"/>
                    </a:lnTo>
                    <a:lnTo>
                      <a:pt x="6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3005280" y="4630680"/>
                <a:ext cx="74520" cy="84240"/>
              </a:xfrm>
              <a:custGeom>
                <a:avLst/>
                <a:gdLst/>
                <a:ahLst/>
                <a:rect l="l" t="t" r="r" b="b"/>
                <a:pathLst>
                  <a:path w="236" h="266">
                    <a:moveTo>
                      <a:pt x="83" y="142"/>
                    </a:moveTo>
                    <a:lnTo>
                      <a:pt x="53" y="30"/>
                    </a:lnTo>
                    <a:lnTo>
                      <a:pt x="41" y="52"/>
                    </a:lnTo>
                    <a:lnTo>
                      <a:pt x="29" y="73"/>
                    </a:lnTo>
                    <a:lnTo>
                      <a:pt x="17" y="95"/>
                    </a:lnTo>
                    <a:lnTo>
                      <a:pt x="8" y="119"/>
                    </a:lnTo>
                    <a:lnTo>
                      <a:pt x="3" y="137"/>
                    </a:lnTo>
                    <a:lnTo>
                      <a:pt x="0" y="157"/>
                    </a:lnTo>
                    <a:lnTo>
                      <a:pt x="2" y="179"/>
                    </a:lnTo>
                    <a:lnTo>
                      <a:pt x="9" y="203"/>
                    </a:lnTo>
                    <a:lnTo>
                      <a:pt x="22" y="226"/>
                    </a:lnTo>
                    <a:lnTo>
                      <a:pt x="39" y="244"/>
                    </a:lnTo>
                    <a:lnTo>
                      <a:pt x="58" y="257"/>
                    </a:lnTo>
                    <a:lnTo>
                      <a:pt x="78" y="266"/>
                    </a:lnTo>
                    <a:lnTo>
                      <a:pt x="133" y="111"/>
                    </a:lnTo>
                    <a:lnTo>
                      <a:pt x="136" y="112"/>
                    </a:lnTo>
                    <a:lnTo>
                      <a:pt x="144" y="118"/>
                    </a:lnTo>
                    <a:lnTo>
                      <a:pt x="153" y="127"/>
                    </a:lnTo>
                    <a:lnTo>
                      <a:pt x="160" y="139"/>
                    </a:lnTo>
                    <a:lnTo>
                      <a:pt x="164" y="152"/>
                    </a:lnTo>
                    <a:lnTo>
                      <a:pt x="165" y="162"/>
                    </a:lnTo>
                    <a:lnTo>
                      <a:pt x="164" y="168"/>
                    </a:lnTo>
                    <a:lnTo>
                      <a:pt x="163" y="173"/>
                    </a:lnTo>
                    <a:lnTo>
                      <a:pt x="166" y="164"/>
                    </a:lnTo>
                    <a:lnTo>
                      <a:pt x="173" y="151"/>
                    </a:lnTo>
                    <a:lnTo>
                      <a:pt x="182" y="134"/>
                    </a:lnTo>
                    <a:lnTo>
                      <a:pt x="195" y="112"/>
                    </a:lnTo>
                    <a:lnTo>
                      <a:pt x="165" y="0"/>
                    </a:lnTo>
                    <a:lnTo>
                      <a:pt x="195" y="112"/>
                    </a:lnTo>
                    <a:lnTo>
                      <a:pt x="236" y="41"/>
                    </a:lnTo>
                    <a:lnTo>
                      <a:pt x="165" y="0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3027240" y="4629240"/>
                <a:ext cx="30240" cy="4608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0" y="139"/>
                    </a:moveTo>
                    <a:lnTo>
                      <a:pt x="5" y="143"/>
                    </a:lnTo>
                    <a:lnTo>
                      <a:pt x="15" y="148"/>
                    </a:lnTo>
                    <a:lnTo>
                      <a:pt x="97" y="6"/>
                    </a:lnTo>
                    <a:lnTo>
                      <a:pt x="87" y="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3" y="141"/>
                    </a:lnTo>
                    <a:lnTo>
                      <a:pt x="5" y="143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2938320" y="4525920"/>
                <a:ext cx="119160" cy="146160"/>
              </a:xfrm>
              <a:custGeom>
                <a:avLst/>
                <a:gdLst/>
                <a:ahLst/>
                <a:rect l="l" t="t" r="r" b="b"/>
                <a:pathLst>
                  <a:path w="371" h="464">
                    <a:moveTo>
                      <a:pt x="3" y="55"/>
                    </a:moveTo>
                    <a:lnTo>
                      <a:pt x="0" y="44"/>
                    </a:lnTo>
                    <a:lnTo>
                      <a:pt x="7" y="77"/>
                    </a:lnTo>
                    <a:lnTo>
                      <a:pt x="16" y="108"/>
                    </a:lnTo>
                    <a:lnTo>
                      <a:pt x="27" y="140"/>
                    </a:lnTo>
                    <a:lnTo>
                      <a:pt x="39" y="170"/>
                    </a:lnTo>
                    <a:lnTo>
                      <a:pt x="53" y="199"/>
                    </a:lnTo>
                    <a:lnTo>
                      <a:pt x="67" y="228"/>
                    </a:lnTo>
                    <a:lnTo>
                      <a:pt x="83" y="256"/>
                    </a:lnTo>
                    <a:lnTo>
                      <a:pt x="100" y="282"/>
                    </a:lnTo>
                    <a:lnTo>
                      <a:pt x="118" y="309"/>
                    </a:lnTo>
                    <a:lnTo>
                      <a:pt x="138" y="334"/>
                    </a:lnTo>
                    <a:lnTo>
                      <a:pt x="158" y="359"/>
                    </a:lnTo>
                    <a:lnTo>
                      <a:pt x="180" y="382"/>
                    </a:lnTo>
                    <a:lnTo>
                      <a:pt x="203" y="404"/>
                    </a:lnTo>
                    <a:lnTo>
                      <a:pt x="226" y="426"/>
                    </a:lnTo>
                    <a:lnTo>
                      <a:pt x="251" y="445"/>
                    </a:lnTo>
                    <a:lnTo>
                      <a:pt x="277" y="464"/>
                    </a:lnTo>
                    <a:lnTo>
                      <a:pt x="371" y="330"/>
                    </a:lnTo>
                    <a:lnTo>
                      <a:pt x="352" y="316"/>
                    </a:lnTo>
                    <a:lnTo>
                      <a:pt x="332" y="301"/>
                    </a:lnTo>
                    <a:lnTo>
                      <a:pt x="315" y="284"/>
                    </a:lnTo>
                    <a:lnTo>
                      <a:pt x="298" y="267"/>
                    </a:lnTo>
                    <a:lnTo>
                      <a:pt x="281" y="250"/>
                    </a:lnTo>
                    <a:lnTo>
                      <a:pt x="265" y="231"/>
                    </a:lnTo>
                    <a:lnTo>
                      <a:pt x="250" y="212"/>
                    </a:lnTo>
                    <a:lnTo>
                      <a:pt x="236" y="191"/>
                    </a:lnTo>
                    <a:lnTo>
                      <a:pt x="223" y="171"/>
                    </a:lnTo>
                    <a:lnTo>
                      <a:pt x="211" y="150"/>
                    </a:lnTo>
                    <a:lnTo>
                      <a:pt x="199" y="128"/>
                    </a:lnTo>
                    <a:lnTo>
                      <a:pt x="190" y="105"/>
                    </a:lnTo>
                    <a:lnTo>
                      <a:pt x="181" y="82"/>
                    </a:lnTo>
                    <a:lnTo>
                      <a:pt x="172" y="59"/>
                    </a:lnTo>
                    <a:lnTo>
                      <a:pt x="166" y="35"/>
                    </a:lnTo>
                    <a:lnTo>
                      <a:pt x="159" y="11"/>
                    </a:lnTo>
                    <a:lnTo>
                      <a:pt x="156" y="0"/>
                    </a:lnTo>
                    <a:lnTo>
                      <a:pt x="159" y="11"/>
                    </a:lnTo>
                    <a:lnTo>
                      <a:pt x="158" y="6"/>
                    </a:lnTo>
                    <a:lnTo>
                      <a:pt x="156" y="0"/>
                    </a:lnTo>
                    <a:lnTo>
                      <a:pt x="3" y="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2938320" y="4497480"/>
                <a:ext cx="51120" cy="46080"/>
              </a:xfrm>
              <a:custGeom>
                <a:avLst/>
                <a:gdLst/>
                <a:ahLst/>
                <a:rect l="l" t="t" r="r" b="b"/>
                <a:pathLst>
                  <a:path w="158" h="142">
                    <a:moveTo>
                      <a:pt x="53" y="20"/>
                    </a:moveTo>
                    <a:lnTo>
                      <a:pt x="0" y="127"/>
                    </a:lnTo>
                    <a:lnTo>
                      <a:pt x="5" y="142"/>
                    </a:lnTo>
                    <a:lnTo>
                      <a:pt x="158" y="87"/>
                    </a:lnTo>
                    <a:lnTo>
                      <a:pt x="153" y="72"/>
                    </a:lnTo>
                    <a:lnTo>
                      <a:pt x="53" y="20"/>
                    </a:lnTo>
                    <a:lnTo>
                      <a:pt x="153" y="72"/>
                    </a:lnTo>
                    <a:lnTo>
                      <a:pt x="127" y="0"/>
                    </a:lnTo>
                    <a:lnTo>
                      <a:pt x="5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2944800" y="4503600"/>
                <a:ext cx="25560" cy="55800"/>
              </a:xfrm>
              <a:custGeom>
                <a:avLst/>
                <a:gdLst/>
                <a:ahLst/>
                <a:rect l="l" t="t" r="r" b="b"/>
                <a:pathLst>
                  <a:path w="80" h="172">
                    <a:moveTo>
                      <a:pt x="16" y="172"/>
                    </a:moveTo>
                    <a:lnTo>
                      <a:pt x="23" y="172"/>
                    </a:lnTo>
                    <a:lnTo>
                      <a:pt x="30" y="171"/>
                    </a:lnTo>
                    <a:lnTo>
                      <a:pt x="39" y="169"/>
                    </a:lnTo>
                    <a:lnTo>
                      <a:pt x="46" y="168"/>
                    </a:lnTo>
                    <a:lnTo>
                      <a:pt x="54" y="167"/>
                    </a:lnTo>
                    <a:lnTo>
                      <a:pt x="60" y="164"/>
                    </a:lnTo>
                    <a:lnTo>
                      <a:pt x="67" y="162"/>
                    </a:lnTo>
                    <a:lnTo>
                      <a:pt x="73" y="161"/>
                    </a:lnTo>
                    <a:lnTo>
                      <a:pt x="80" y="159"/>
                    </a:lnTo>
                    <a:lnTo>
                      <a:pt x="34" y="0"/>
                    </a:lnTo>
                    <a:lnTo>
                      <a:pt x="28" y="2"/>
                    </a:lnTo>
                    <a:lnTo>
                      <a:pt x="23" y="4"/>
                    </a:lnTo>
                    <a:lnTo>
                      <a:pt x="18" y="6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16" y="1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2905200" y="4506840"/>
                <a:ext cx="48960" cy="52560"/>
              </a:xfrm>
              <a:custGeom>
                <a:avLst/>
                <a:gdLst/>
                <a:ahLst/>
                <a:rect l="l" t="t" r="r" b="b"/>
                <a:pathLst>
                  <a:path w="153" h="165">
                    <a:moveTo>
                      <a:pt x="0" y="100"/>
                    </a:moveTo>
                    <a:lnTo>
                      <a:pt x="2" y="106"/>
                    </a:lnTo>
                    <a:lnTo>
                      <a:pt x="12" y="124"/>
                    </a:lnTo>
                    <a:lnTo>
                      <a:pt x="26" y="139"/>
                    </a:lnTo>
                    <a:lnTo>
                      <a:pt x="41" y="150"/>
                    </a:lnTo>
                    <a:lnTo>
                      <a:pt x="59" y="158"/>
                    </a:lnTo>
                    <a:lnTo>
                      <a:pt x="78" y="163"/>
                    </a:lnTo>
                    <a:lnTo>
                      <a:pt x="96" y="165"/>
                    </a:lnTo>
                    <a:lnTo>
                      <a:pt x="110" y="165"/>
                    </a:lnTo>
                    <a:lnTo>
                      <a:pt x="123" y="165"/>
                    </a:lnTo>
                    <a:lnTo>
                      <a:pt x="133" y="164"/>
                    </a:lnTo>
                    <a:lnTo>
                      <a:pt x="140" y="163"/>
                    </a:lnTo>
                    <a:lnTo>
                      <a:pt x="129" y="0"/>
                    </a:lnTo>
                    <a:lnTo>
                      <a:pt x="121" y="0"/>
                    </a:lnTo>
                    <a:lnTo>
                      <a:pt x="114" y="1"/>
                    </a:lnTo>
                    <a:lnTo>
                      <a:pt x="109" y="1"/>
                    </a:lnTo>
                    <a:lnTo>
                      <a:pt x="106" y="1"/>
                    </a:lnTo>
                    <a:lnTo>
                      <a:pt x="108" y="1"/>
                    </a:lnTo>
                    <a:lnTo>
                      <a:pt x="112" y="2"/>
                    </a:lnTo>
                    <a:lnTo>
                      <a:pt x="125" y="7"/>
                    </a:lnTo>
                    <a:lnTo>
                      <a:pt x="135" y="15"/>
                    </a:lnTo>
                    <a:lnTo>
                      <a:pt x="144" y="26"/>
                    </a:lnTo>
                    <a:lnTo>
                      <a:pt x="152" y="39"/>
                    </a:lnTo>
                    <a:lnTo>
                      <a:pt x="153" y="4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2901960" y="4484520"/>
                <a:ext cx="98280" cy="57240"/>
              </a:xfrm>
              <a:custGeom>
                <a:avLst/>
                <a:gdLst/>
                <a:ahLst/>
                <a:rect l="l" t="t" r="r" b="b"/>
                <a:pathLst>
                  <a:path w="309" h="176">
                    <a:moveTo>
                      <a:pt x="115" y="116"/>
                    </a:moveTo>
                    <a:lnTo>
                      <a:pt x="173" y="0"/>
                    </a:lnTo>
                    <a:lnTo>
                      <a:pt x="149" y="4"/>
                    </a:lnTo>
                    <a:lnTo>
                      <a:pt x="124" y="8"/>
                    </a:lnTo>
                    <a:lnTo>
                      <a:pt x="101" y="14"/>
                    </a:lnTo>
                    <a:lnTo>
                      <a:pt x="77" y="21"/>
                    </a:lnTo>
                    <a:lnTo>
                      <a:pt x="58" y="30"/>
                    </a:lnTo>
                    <a:lnTo>
                      <a:pt x="43" y="40"/>
                    </a:lnTo>
                    <a:lnTo>
                      <a:pt x="27" y="55"/>
                    </a:lnTo>
                    <a:lnTo>
                      <a:pt x="13" y="75"/>
                    </a:lnTo>
                    <a:lnTo>
                      <a:pt x="3" y="100"/>
                    </a:lnTo>
                    <a:lnTo>
                      <a:pt x="0" y="126"/>
                    </a:lnTo>
                    <a:lnTo>
                      <a:pt x="3" y="150"/>
                    </a:lnTo>
                    <a:lnTo>
                      <a:pt x="9" y="168"/>
                    </a:lnTo>
                    <a:lnTo>
                      <a:pt x="162" y="111"/>
                    </a:lnTo>
                    <a:lnTo>
                      <a:pt x="163" y="115"/>
                    </a:lnTo>
                    <a:lnTo>
                      <a:pt x="165" y="125"/>
                    </a:lnTo>
                    <a:lnTo>
                      <a:pt x="163" y="138"/>
                    </a:lnTo>
                    <a:lnTo>
                      <a:pt x="158" y="152"/>
                    </a:lnTo>
                    <a:lnTo>
                      <a:pt x="150" y="164"/>
                    </a:lnTo>
                    <a:lnTo>
                      <a:pt x="143" y="170"/>
                    </a:lnTo>
                    <a:lnTo>
                      <a:pt x="138" y="174"/>
                    </a:lnTo>
                    <a:lnTo>
                      <a:pt x="134" y="176"/>
                    </a:lnTo>
                    <a:lnTo>
                      <a:pt x="144" y="173"/>
                    </a:lnTo>
                    <a:lnTo>
                      <a:pt x="158" y="169"/>
                    </a:lnTo>
                    <a:lnTo>
                      <a:pt x="177" y="165"/>
                    </a:lnTo>
                    <a:lnTo>
                      <a:pt x="202" y="161"/>
                    </a:lnTo>
                    <a:lnTo>
                      <a:pt x="260" y="44"/>
                    </a:lnTo>
                    <a:lnTo>
                      <a:pt x="202" y="161"/>
                    </a:lnTo>
                    <a:lnTo>
                      <a:pt x="309" y="141"/>
                    </a:lnTo>
                    <a:lnTo>
                      <a:pt x="260" y="44"/>
                    </a:lnTo>
                    <a:lnTo>
                      <a:pt x="115" y="1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2935440" y="4495680"/>
                <a:ext cx="48960" cy="27000"/>
              </a:xfrm>
              <a:custGeom>
                <a:avLst/>
                <a:gdLst/>
                <a:ahLst/>
                <a:rect l="l" t="t" r="r" b="b"/>
                <a:pathLst>
                  <a:path w="158" h="81">
                    <a:moveTo>
                      <a:pt x="0" y="44"/>
                    </a:moveTo>
                    <a:lnTo>
                      <a:pt x="8" y="74"/>
                    </a:lnTo>
                    <a:lnTo>
                      <a:pt x="13" y="81"/>
                    </a:lnTo>
                    <a:lnTo>
                      <a:pt x="158" y="9"/>
                    </a:lnTo>
                    <a:lnTo>
                      <a:pt x="155" y="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" y="59"/>
                    </a:lnTo>
                    <a:lnTo>
                      <a:pt x="8" y="7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2933640" y="449280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167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2" y="32"/>
                    </a:lnTo>
                    <a:lnTo>
                      <a:pt x="2" y="39"/>
                    </a:lnTo>
                    <a:lnTo>
                      <a:pt x="2" y="47"/>
                    </a:lnTo>
                    <a:lnTo>
                      <a:pt x="3" y="55"/>
                    </a:lnTo>
                    <a:lnTo>
                      <a:pt x="167" y="42"/>
                    </a:lnTo>
                    <a:lnTo>
                      <a:pt x="166" y="36"/>
                    </a:lnTo>
                    <a:lnTo>
                      <a:pt x="166" y="32"/>
                    </a:lnTo>
                    <a:lnTo>
                      <a:pt x="166" y="28"/>
                    </a:lnTo>
                    <a:lnTo>
                      <a:pt x="166" y="22"/>
                    </a:lnTo>
                    <a:lnTo>
                      <a:pt x="166" y="17"/>
                    </a:lnTo>
                    <a:lnTo>
                      <a:pt x="166" y="11"/>
                    </a:lnTo>
                    <a:lnTo>
                      <a:pt x="166" y="5"/>
                    </a:lnTo>
                    <a:lnTo>
                      <a:pt x="166" y="0"/>
                    </a:lnTo>
                    <a:lnTo>
                      <a:pt x="1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2933640" y="4349880"/>
                <a:ext cx="100080" cy="142920"/>
              </a:xfrm>
              <a:custGeom>
                <a:avLst/>
                <a:gdLst/>
                <a:ahLst/>
                <a:rect l="l" t="t" r="r" b="b"/>
                <a:pathLst>
                  <a:path w="317" h="453">
                    <a:moveTo>
                      <a:pt x="149" y="63"/>
                    </a:moveTo>
                    <a:lnTo>
                      <a:pt x="169" y="0"/>
                    </a:lnTo>
                    <a:lnTo>
                      <a:pt x="149" y="22"/>
                    </a:lnTo>
                    <a:lnTo>
                      <a:pt x="131" y="47"/>
                    </a:lnTo>
                    <a:lnTo>
                      <a:pt x="114" y="72"/>
                    </a:lnTo>
                    <a:lnTo>
                      <a:pt x="98" y="97"/>
                    </a:lnTo>
                    <a:lnTo>
                      <a:pt x="84" y="124"/>
                    </a:lnTo>
                    <a:lnTo>
                      <a:pt x="70" y="151"/>
                    </a:lnTo>
                    <a:lnTo>
                      <a:pt x="57" y="179"/>
                    </a:lnTo>
                    <a:lnTo>
                      <a:pt x="46" y="207"/>
                    </a:lnTo>
                    <a:lnTo>
                      <a:pt x="35" y="236"/>
                    </a:lnTo>
                    <a:lnTo>
                      <a:pt x="26" y="266"/>
                    </a:lnTo>
                    <a:lnTo>
                      <a:pt x="19" y="296"/>
                    </a:lnTo>
                    <a:lnTo>
                      <a:pt x="12" y="326"/>
                    </a:lnTo>
                    <a:lnTo>
                      <a:pt x="7" y="357"/>
                    </a:lnTo>
                    <a:lnTo>
                      <a:pt x="4" y="389"/>
                    </a:lnTo>
                    <a:lnTo>
                      <a:pt x="2" y="420"/>
                    </a:lnTo>
                    <a:lnTo>
                      <a:pt x="0" y="453"/>
                    </a:lnTo>
                    <a:lnTo>
                      <a:pt x="166" y="453"/>
                    </a:lnTo>
                    <a:lnTo>
                      <a:pt x="166" y="428"/>
                    </a:lnTo>
                    <a:lnTo>
                      <a:pt x="168" y="403"/>
                    </a:lnTo>
                    <a:lnTo>
                      <a:pt x="170" y="379"/>
                    </a:lnTo>
                    <a:lnTo>
                      <a:pt x="174" y="355"/>
                    </a:lnTo>
                    <a:lnTo>
                      <a:pt x="179" y="333"/>
                    </a:lnTo>
                    <a:lnTo>
                      <a:pt x="184" y="309"/>
                    </a:lnTo>
                    <a:lnTo>
                      <a:pt x="192" y="287"/>
                    </a:lnTo>
                    <a:lnTo>
                      <a:pt x="199" y="264"/>
                    </a:lnTo>
                    <a:lnTo>
                      <a:pt x="208" y="243"/>
                    </a:lnTo>
                    <a:lnTo>
                      <a:pt x="217" y="222"/>
                    </a:lnTo>
                    <a:lnTo>
                      <a:pt x="228" y="202"/>
                    </a:lnTo>
                    <a:lnTo>
                      <a:pt x="239" y="181"/>
                    </a:lnTo>
                    <a:lnTo>
                      <a:pt x="252" y="162"/>
                    </a:lnTo>
                    <a:lnTo>
                      <a:pt x="265" y="142"/>
                    </a:lnTo>
                    <a:lnTo>
                      <a:pt x="279" y="124"/>
                    </a:lnTo>
                    <a:lnTo>
                      <a:pt x="293" y="107"/>
                    </a:lnTo>
                    <a:lnTo>
                      <a:pt x="312" y="43"/>
                    </a:lnTo>
                    <a:lnTo>
                      <a:pt x="293" y="107"/>
                    </a:lnTo>
                    <a:lnTo>
                      <a:pt x="317" y="79"/>
                    </a:lnTo>
                    <a:lnTo>
                      <a:pt x="312" y="43"/>
                    </a:lnTo>
                    <a:lnTo>
                      <a:pt x="149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2981160" y="4341960"/>
                <a:ext cx="51120" cy="27000"/>
              </a:xfrm>
              <a:custGeom>
                <a:avLst/>
                <a:gdLst/>
                <a:ahLst/>
                <a:rect l="l" t="t" r="r" b="b"/>
                <a:pathLst>
                  <a:path w="164" h="87">
                    <a:moveTo>
                      <a:pt x="130" y="0"/>
                    </a:moveTo>
                    <a:lnTo>
                      <a:pt x="0" y="77"/>
                    </a:lnTo>
                    <a:lnTo>
                      <a:pt x="1" y="87"/>
                    </a:lnTo>
                    <a:lnTo>
                      <a:pt x="164" y="67"/>
                    </a:lnTo>
                    <a:lnTo>
                      <a:pt x="163" y="56"/>
                    </a:lnTo>
                    <a:lnTo>
                      <a:pt x="130" y="0"/>
                    </a:lnTo>
                    <a:lnTo>
                      <a:pt x="163" y="56"/>
                    </a:lnTo>
                    <a:lnTo>
                      <a:pt x="159" y="20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2975040" y="4334040"/>
                <a:ext cx="47520" cy="48960"/>
              </a:xfrm>
              <a:custGeom>
                <a:avLst/>
                <a:gdLst/>
                <a:ahLst/>
                <a:rect l="l" t="t" r="r" b="b"/>
                <a:pathLst>
                  <a:path w="148" h="158">
                    <a:moveTo>
                      <a:pt x="1" y="111"/>
                    </a:moveTo>
                    <a:lnTo>
                      <a:pt x="0" y="110"/>
                    </a:lnTo>
                    <a:lnTo>
                      <a:pt x="5" y="117"/>
                    </a:lnTo>
                    <a:lnTo>
                      <a:pt x="11" y="122"/>
                    </a:lnTo>
                    <a:lnTo>
                      <a:pt x="17" y="129"/>
                    </a:lnTo>
                    <a:lnTo>
                      <a:pt x="24" y="134"/>
                    </a:lnTo>
                    <a:lnTo>
                      <a:pt x="29" y="141"/>
                    </a:lnTo>
                    <a:lnTo>
                      <a:pt x="37" y="146"/>
                    </a:lnTo>
                    <a:lnTo>
                      <a:pt x="43" y="152"/>
                    </a:lnTo>
                    <a:lnTo>
                      <a:pt x="51" y="158"/>
                    </a:lnTo>
                    <a:lnTo>
                      <a:pt x="148" y="25"/>
                    </a:lnTo>
                    <a:lnTo>
                      <a:pt x="145" y="22"/>
                    </a:lnTo>
                    <a:lnTo>
                      <a:pt x="141" y="20"/>
                    </a:lnTo>
                    <a:lnTo>
                      <a:pt x="139" y="17"/>
                    </a:lnTo>
                    <a:lnTo>
                      <a:pt x="136" y="14"/>
                    </a:lnTo>
                    <a:lnTo>
                      <a:pt x="133" y="12"/>
                    </a:lnTo>
                    <a:lnTo>
                      <a:pt x="130" y="9"/>
                    </a:lnTo>
                    <a:lnTo>
                      <a:pt x="126" y="6"/>
                    </a:lnTo>
                    <a:lnTo>
                      <a:pt x="123" y="1"/>
                    </a:lnTo>
                    <a:lnTo>
                      <a:pt x="122" y="0"/>
                    </a:lnTo>
                    <a:lnTo>
                      <a:pt x="1" y="1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2957400" y="4322880"/>
                <a:ext cx="55800" cy="46080"/>
              </a:xfrm>
              <a:custGeom>
                <a:avLst/>
                <a:gdLst/>
                <a:ahLst/>
                <a:rect l="l" t="t" r="r" b="b"/>
                <a:pathLst>
                  <a:path w="175" h="143">
                    <a:moveTo>
                      <a:pt x="12" y="0"/>
                    </a:moveTo>
                    <a:lnTo>
                      <a:pt x="10" y="4"/>
                    </a:lnTo>
                    <a:lnTo>
                      <a:pt x="2" y="25"/>
                    </a:lnTo>
                    <a:lnTo>
                      <a:pt x="0" y="46"/>
                    </a:lnTo>
                    <a:lnTo>
                      <a:pt x="2" y="67"/>
                    </a:lnTo>
                    <a:lnTo>
                      <a:pt x="9" y="86"/>
                    </a:lnTo>
                    <a:lnTo>
                      <a:pt x="17" y="102"/>
                    </a:lnTo>
                    <a:lnTo>
                      <a:pt x="28" y="116"/>
                    </a:lnTo>
                    <a:lnTo>
                      <a:pt x="37" y="126"/>
                    </a:lnTo>
                    <a:lnTo>
                      <a:pt x="44" y="134"/>
                    </a:lnTo>
                    <a:lnTo>
                      <a:pt x="51" y="139"/>
                    </a:lnTo>
                    <a:lnTo>
                      <a:pt x="54" y="143"/>
                    </a:lnTo>
                    <a:lnTo>
                      <a:pt x="175" y="32"/>
                    </a:lnTo>
                    <a:lnTo>
                      <a:pt x="167" y="25"/>
                    </a:lnTo>
                    <a:lnTo>
                      <a:pt x="161" y="18"/>
                    </a:lnTo>
                    <a:lnTo>
                      <a:pt x="157" y="14"/>
                    </a:lnTo>
                    <a:lnTo>
                      <a:pt x="154" y="10"/>
                    </a:lnTo>
                    <a:lnTo>
                      <a:pt x="156" y="13"/>
                    </a:lnTo>
                    <a:lnTo>
                      <a:pt x="158" y="17"/>
                    </a:lnTo>
                    <a:lnTo>
                      <a:pt x="163" y="31"/>
                    </a:lnTo>
                    <a:lnTo>
                      <a:pt x="164" y="45"/>
                    </a:lnTo>
                    <a:lnTo>
                      <a:pt x="163" y="61"/>
                    </a:lnTo>
                    <a:lnTo>
                      <a:pt x="157" y="76"/>
                    </a:lnTo>
                    <a:lnTo>
                      <a:pt x="154" y="8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2962440" y="4303800"/>
                <a:ext cx="74520" cy="71280"/>
              </a:xfrm>
              <a:custGeom>
                <a:avLst/>
                <a:gdLst/>
                <a:ahLst/>
                <a:rect l="l" t="t" r="r" b="b"/>
                <a:pathLst>
                  <a:path w="235" h="222">
                    <a:moveTo>
                      <a:pt x="182" y="58"/>
                    </a:moveTo>
                    <a:lnTo>
                      <a:pt x="235" y="77"/>
                    </a:lnTo>
                    <a:lnTo>
                      <a:pt x="217" y="61"/>
                    </a:lnTo>
                    <a:lnTo>
                      <a:pt x="198" y="46"/>
                    </a:lnTo>
                    <a:lnTo>
                      <a:pt x="177" y="29"/>
                    </a:lnTo>
                    <a:lnTo>
                      <a:pt x="156" y="16"/>
                    </a:lnTo>
                    <a:lnTo>
                      <a:pt x="138" y="9"/>
                    </a:lnTo>
                    <a:lnTo>
                      <a:pt x="121" y="3"/>
                    </a:lnTo>
                    <a:lnTo>
                      <a:pt x="99" y="0"/>
                    </a:lnTo>
                    <a:lnTo>
                      <a:pt x="74" y="2"/>
                    </a:lnTo>
                    <a:lnTo>
                      <a:pt x="49" y="12"/>
                    </a:lnTo>
                    <a:lnTo>
                      <a:pt x="27" y="26"/>
                    </a:lnTo>
                    <a:lnTo>
                      <a:pt x="11" y="42"/>
                    </a:lnTo>
                    <a:lnTo>
                      <a:pt x="0" y="60"/>
                    </a:lnTo>
                    <a:lnTo>
                      <a:pt x="142" y="141"/>
                    </a:lnTo>
                    <a:lnTo>
                      <a:pt x="140" y="144"/>
                    </a:lnTo>
                    <a:lnTo>
                      <a:pt x="134" y="152"/>
                    </a:lnTo>
                    <a:lnTo>
                      <a:pt x="123" y="158"/>
                    </a:lnTo>
                    <a:lnTo>
                      <a:pt x="108" y="163"/>
                    </a:lnTo>
                    <a:lnTo>
                      <a:pt x="95" y="165"/>
                    </a:lnTo>
                    <a:lnTo>
                      <a:pt x="85" y="163"/>
                    </a:lnTo>
                    <a:lnTo>
                      <a:pt x="81" y="162"/>
                    </a:lnTo>
                    <a:lnTo>
                      <a:pt x="77" y="160"/>
                    </a:lnTo>
                    <a:lnTo>
                      <a:pt x="84" y="165"/>
                    </a:lnTo>
                    <a:lnTo>
                      <a:pt x="96" y="174"/>
                    </a:lnTo>
                    <a:lnTo>
                      <a:pt x="111" y="187"/>
                    </a:lnTo>
                    <a:lnTo>
                      <a:pt x="130" y="202"/>
                    </a:lnTo>
                    <a:lnTo>
                      <a:pt x="182" y="222"/>
                    </a:lnTo>
                    <a:lnTo>
                      <a:pt x="130" y="202"/>
                    </a:lnTo>
                    <a:lnTo>
                      <a:pt x="153" y="222"/>
                    </a:lnTo>
                    <a:lnTo>
                      <a:pt x="182" y="222"/>
                    </a:lnTo>
                    <a:lnTo>
                      <a:pt x="182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3019320" y="4322880"/>
                <a:ext cx="22320" cy="52200"/>
              </a:xfrm>
              <a:custGeom>
                <a:avLst/>
                <a:gdLst/>
                <a:ahLst/>
                <a:rect l="l" t="t" r="r" b="b"/>
                <a:pathLst>
                  <a:path w="68" h="164">
                    <a:moveTo>
                      <a:pt x="68" y="142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0" y="164"/>
                    </a:lnTo>
                    <a:lnTo>
                      <a:pt x="12" y="164"/>
                    </a:lnTo>
                    <a:lnTo>
                      <a:pt x="68" y="142"/>
                    </a:lnTo>
                    <a:lnTo>
                      <a:pt x="12" y="164"/>
                    </a:lnTo>
                    <a:lnTo>
                      <a:pt x="45" y="164"/>
                    </a:lnTo>
                    <a:lnTo>
                      <a:pt x="68" y="1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3083040" y="4408560"/>
                <a:ext cx="137880" cy="117360"/>
              </a:xfrm>
              <a:custGeom>
                <a:avLst/>
                <a:gdLst/>
                <a:ahLst/>
                <a:rect l="l" t="t" r="r" b="b"/>
                <a:pathLst>
                  <a:path w="432" h="373">
                    <a:moveTo>
                      <a:pt x="228" y="0"/>
                    </a:moveTo>
                    <a:lnTo>
                      <a:pt x="0" y="369"/>
                    </a:lnTo>
                    <a:lnTo>
                      <a:pt x="432" y="373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ec8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3083040" y="4408560"/>
                <a:ext cx="137880" cy="117360"/>
              </a:xfrm>
              <a:custGeom>
                <a:avLst/>
                <a:gdLst/>
                <a:ahLst/>
                <a:rect l="l" t="t" r="r" b="b"/>
                <a:pathLst>
                  <a:path w="432" h="373">
                    <a:moveTo>
                      <a:pt x="228" y="0"/>
                    </a:moveTo>
                    <a:lnTo>
                      <a:pt x="0" y="369"/>
                    </a:lnTo>
                    <a:lnTo>
                      <a:pt x="432" y="373"/>
                    </a:lnTo>
                    <a:lnTo>
                      <a:pt x="228" y="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3156120" y="4408560"/>
                <a:ext cx="122040" cy="117360"/>
              </a:xfrm>
              <a:custGeom>
                <a:avLst/>
                <a:gdLst/>
                <a:ahLst/>
                <a:rect l="l" t="t" r="r" b="b"/>
                <a:pathLst>
                  <a:path w="384" h="373">
                    <a:moveTo>
                      <a:pt x="0" y="0"/>
                    </a:moveTo>
                    <a:lnTo>
                      <a:pt x="384" y="54"/>
                    </a:lnTo>
                    <a:lnTo>
                      <a:pt x="204" y="3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3156120" y="4408560"/>
                <a:ext cx="122040" cy="117360"/>
              </a:xfrm>
              <a:custGeom>
                <a:avLst/>
                <a:gdLst/>
                <a:ahLst/>
                <a:rect l="l" t="t" r="r" b="b"/>
                <a:pathLst>
                  <a:path w="384" h="373">
                    <a:moveTo>
                      <a:pt x="0" y="0"/>
                    </a:moveTo>
                    <a:lnTo>
                      <a:pt x="384" y="54"/>
                    </a:lnTo>
                    <a:lnTo>
                      <a:pt x="204" y="373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3220920" y="4424400"/>
                <a:ext cx="57240" cy="141120"/>
              </a:xfrm>
              <a:custGeom>
                <a:avLst/>
                <a:gdLst/>
                <a:ahLst/>
                <a:rect l="l" t="t" r="r" b="b"/>
                <a:pathLst>
                  <a:path w="180" h="442">
                    <a:moveTo>
                      <a:pt x="180" y="0"/>
                    </a:moveTo>
                    <a:lnTo>
                      <a:pt x="165" y="442"/>
                    </a:lnTo>
                    <a:lnTo>
                      <a:pt x="0" y="319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d1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3220920" y="4424400"/>
                <a:ext cx="57240" cy="141120"/>
              </a:xfrm>
              <a:custGeom>
                <a:avLst/>
                <a:gdLst/>
                <a:ahLst/>
                <a:rect l="l" t="t" r="r" b="b"/>
                <a:pathLst>
                  <a:path w="180" h="442">
                    <a:moveTo>
                      <a:pt x="180" y="0"/>
                    </a:moveTo>
                    <a:lnTo>
                      <a:pt x="165" y="442"/>
                    </a:lnTo>
                    <a:lnTo>
                      <a:pt x="0" y="319"/>
                    </a:lnTo>
                    <a:lnTo>
                      <a:pt x="180" y="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3156120" y="4348080"/>
                <a:ext cx="122040" cy="76320"/>
              </a:xfrm>
              <a:custGeom>
                <a:avLst/>
                <a:gdLst/>
                <a:ahLst/>
                <a:rect l="l" t="t" r="r" b="b"/>
                <a:pathLst>
                  <a:path w="384" h="244">
                    <a:moveTo>
                      <a:pt x="8" y="0"/>
                    </a:moveTo>
                    <a:lnTo>
                      <a:pt x="384" y="244"/>
                    </a:lnTo>
                    <a:lnTo>
                      <a:pt x="0" y="19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d1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3156120" y="4348080"/>
                <a:ext cx="122040" cy="76320"/>
              </a:xfrm>
              <a:custGeom>
                <a:avLst/>
                <a:gdLst/>
                <a:ahLst/>
                <a:rect l="l" t="t" r="r" b="b"/>
                <a:pathLst>
                  <a:path w="384" h="244">
                    <a:moveTo>
                      <a:pt x="8" y="0"/>
                    </a:moveTo>
                    <a:lnTo>
                      <a:pt x="384" y="244"/>
                    </a:lnTo>
                    <a:lnTo>
                      <a:pt x="0" y="190"/>
                    </a:lnTo>
                    <a:lnTo>
                      <a:pt x="8" y="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3035160" y="434808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388" h="211">
                    <a:moveTo>
                      <a:pt x="0" y="211"/>
                    </a:moveTo>
                    <a:lnTo>
                      <a:pt x="388" y="0"/>
                    </a:lnTo>
                    <a:lnTo>
                      <a:pt x="380" y="190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f3a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3035160" y="434808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388" h="211">
                    <a:moveTo>
                      <a:pt x="0" y="211"/>
                    </a:moveTo>
                    <a:lnTo>
                      <a:pt x="388" y="0"/>
                    </a:lnTo>
                    <a:lnTo>
                      <a:pt x="380" y="190"/>
                    </a:lnTo>
                    <a:lnTo>
                      <a:pt x="0" y="211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3035160" y="4408560"/>
                <a:ext cx="120960" cy="115920"/>
              </a:xfrm>
              <a:custGeom>
                <a:avLst/>
                <a:gdLst/>
                <a:ahLst/>
                <a:rect l="l" t="t" r="r" b="b"/>
                <a:pathLst>
                  <a:path w="380" h="369">
                    <a:moveTo>
                      <a:pt x="152" y="369"/>
                    </a:moveTo>
                    <a:lnTo>
                      <a:pt x="0" y="21"/>
                    </a:lnTo>
                    <a:lnTo>
                      <a:pt x="380" y="0"/>
                    </a:lnTo>
                    <a:lnTo>
                      <a:pt x="152" y="369"/>
                    </a:lnTo>
                    <a:close/>
                  </a:path>
                </a:pathLst>
              </a:custGeom>
              <a:solidFill>
                <a:srgbClr val="f3a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3035160" y="4408560"/>
                <a:ext cx="120960" cy="115920"/>
              </a:xfrm>
              <a:custGeom>
                <a:avLst/>
                <a:gdLst/>
                <a:ahLst/>
                <a:rect l="l" t="t" r="r" b="b"/>
                <a:pathLst>
                  <a:path w="380" h="369">
                    <a:moveTo>
                      <a:pt x="152" y="369"/>
                    </a:moveTo>
                    <a:lnTo>
                      <a:pt x="0" y="21"/>
                    </a:lnTo>
                    <a:lnTo>
                      <a:pt x="380" y="0"/>
                    </a:lnTo>
                    <a:lnTo>
                      <a:pt x="152" y="369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3032280" y="4414680"/>
                <a:ext cx="50760" cy="133560"/>
              </a:xfrm>
              <a:custGeom>
                <a:avLst/>
                <a:gdLst/>
                <a:ahLst/>
                <a:rect l="l" t="t" r="r" b="b"/>
                <a:pathLst>
                  <a:path w="163" h="420">
                    <a:moveTo>
                      <a:pt x="0" y="420"/>
                    </a:moveTo>
                    <a:lnTo>
                      <a:pt x="11" y="0"/>
                    </a:lnTo>
                    <a:lnTo>
                      <a:pt x="163" y="348"/>
                    </a:lnTo>
                    <a:lnTo>
                      <a:pt x="0" y="420"/>
                    </a:lnTo>
                    <a:close/>
                  </a:path>
                </a:pathLst>
              </a:custGeom>
              <a:solidFill>
                <a:srgbClr val="ec8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3032280" y="4414680"/>
                <a:ext cx="50760" cy="133560"/>
              </a:xfrm>
              <a:custGeom>
                <a:avLst/>
                <a:gdLst/>
                <a:ahLst/>
                <a:rect l="l" t="t" r="r" b="b"/>
                <a:pathLst>
                  <a:path w="163" h="420">
                    <a:moveTo>
                      <a:pt x="0" y="420"/>
                    </a:moveTo>
                    <a:lnTo>
                      <a:pt x="11" y="0"/>
                    </a:lnTo>
                    <a:lnTo>
                      <a:pt x="163" y="348"/>
                    </a:lnTo>
                    <a:lnTo>
                      <a:pt x="0" y="42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3083040" y="4524480"/>
                <a:ext cx="137880" cy="104760"/>
              </a:xfrm>
              <a:custGeom>
                <a:avLst/>
                <a:gdLst/>
                <a:ahLst/>
                <a:rect l="l" t="t" r="r" b="b"/>
                <a:pathLst>
                  <a:path w="432" h="330">
                    <a:moveTo>
                      <a:pt x="211" y="330"/>
                    </a:moveTo>
                    <a:lnTo>
                      <a:pt x="0" y="0"/>
                    </a:lnTo>
                    <a:lnTo>
                      <a:pt x="432" y="4"/>
                    </a:lnTo>
                    <a:lnTo>
                      <a:pt x="211" y="330"/>
                    </a:lnTo>
                    <a:close/>
                  </a:path>
                </a:pathLst>
              </a:custGeom>
              <a:solidFill>
                <a:srgbClr val="d1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3083040" y="4524480"/>
                <a:ext cx="137880" cy="104760"/>
              </a:xfrm>
              <a:custGeom>
                <a:avLst/>
                <a:gdLst/>
                <a:ahLst/>
                <a:rect l="l" t="t" r="r" b="b"/>
                <a:pathLst>
                  <a:path w="432" h="330">
                    <a:moveTo>
                      <a:pt x="211" y="330"/>
                    </a:moveTo>
                    <a:lnTo>
                      <a:pt x="0" y="0"/>
                    </a:lnTo>
                    <a:lnTo>
                      <a:pt x="432" y="4"/>
                    </a:lnTo>
                    <a:lnTo>
                      <a:pt x="211" y="33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3149640" y="4525920"/>
                <a:ext cx="123840" cy="103320"/>
              </a:xfrm>
              <a:custGeom>
                <a:avLst/>
                <a:gdLst/>
                <a:ahLst/>
                <a:rect l="l" t="t" r="r" b="b"/>
                <a:pathLst>
                  <a:path w="386" h="326">
                    <a:moveTo>
                      <a:pt x="386" y="123"/>
                    </a:moveTo>
                    <a:lnTo>
                      <a:pt x="0" y="326"/>
                    </a:lnTo>
                    <a:lnTo>
                      <a:pt x="221" y="0"/>
                    </a:lnTo>
                    <a:lnTo>
                      <a:pt x="386" y="123"/>
                    </a:lnTo>
                    <a:close/>
                  </a:path>
                </a:pathLst>
              </a:custGeom>
              <a:solidFill>
                <a:srgbClr val="cf71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3149640" y="4525920"/>
                <a:ext cx="123840" cy="103320"/>
              </a:xfrm>
              <a:custGeom>
                <a:avLst/>
                <a:gdLst/>
                <a:ahLst/>
                <a:rect l="l" t="t" r="r" b="b"/>
                <a:pathLst>
                  <a:path w="386" h="326">
                    <a:moveTo>
                      <a:pt x="386" y="123"/>
                    </a:moveTo>
                    <a:lnTo>
                      <a:pt x="0" y="326"/>
                    </a:lnTo>
                    <a:lnTo>
                      <a:pt x="221" y="0"/>
                    </a:lnTo>
                    <a:lnTo>
                      <a:pt x="386" y="123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3032280" y="4524480"/>
                <a:ext cx="117360" cy="104760"/>
              </a:xfrm>
              <a:custGeom>
                <a:avLst/>
                <a:gdLst/>
                <a:ahLst/>
                <a:rect l="l" t="t" r="r" b="b"/>
                <a:pathLst>
                  <a:path w="374" h="330">
                    <a:moveTo>
                      <a:pt x="0" y="72"/>
                    </a:moveTo>
                    <a:lnTo>
                      <a:pt x="163" y="0"/>
                    </a:lnTo>
                    <a:lnTo>
                      <a:pt x="374" y="3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ec8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3032280" y="4524480"/>
                <a:ext cx="117360" cy="104760"/>
              </a:xfrm>
              <a:custGeom>
                <a:avLst/>
                <a:gdLst/>
                <a:ahLst/>
                <a:rect l="l" t="t" r="r" b="b"/>
                <a:pathLst>
                  <a:path w="374" h="330">
                    <a:moveTo>
                      <a:pt x="0" y="72"/>
                    </a:moveTo>
                    <a:lnTo>
                      <a:pt x="163" y="0"/>
                    </a:lnTo>
                    <a:lnTo>
                      <a:pt x="374" y="330"/>
                    </a:lnTo>
                    <a:lnTo>
                      <a:pt x="0" y="72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2928960" y="4275000"/>
                <a:ext cx="442800" cy="419400"/>
              </a:xfrm>
              <a:custGeom>
                <a:avLst/>
                <a:gdLst/>
                <a:ahLst/>
                <a:rect l="l" t="t" r="r" b="b"/>
                <a:pathLst>
                  <a:path w="1397" h="1322">
                    <a:moveTo>
                      <a:pt x="300" y="232"/>
                    </a:moveTo>
                    <a:lnTo>
                      <a:pt x="313" y="220"/>
                    </a:lnTo>
                    <a:lnTo>
                      <a:pt x="327" y="209"/>
                    </a:lnTo>
                    <a:lnTo>
                      <a:pt x="340" y="198"/>
                    </a:lnTo>
                    <a:lnTo>
                      <a:pt x="354" y="188"/>
                    </a:lnTo>
                    <a:lnTo>
                      <a:pt x="368" y="179"/>
                    </a:lnTo>
                    <a:lnTo>
                      <a:pt x="382" y="169"/>
                    </a:lnTo>
                    <a:lnTo>
                      <a:pt x="397" y="160"/>
                    </a:lnTo>
                    <a:lnTo>
                      <a:pt x="413" y="152"/>
                    </a:lnTo>
                    <a:lnTo>
                      <a:pt x="424" y="145"/>
                    </a:lnTo>
                    <a:lnTo>
                      <a:pt x="421" y="139"/>
                    </a:lnTo>
                    <a:lnTo>
                      <a:pt x="418" y="132"/>
                    </a:lnTo>
                    <a:lnTo>
                      <a:pt x="416" y="127"/>
                    </a:lnTo>
                    <a:lnTo>
                      <a:pt x="414" y="120"/>
                    </a:lnTo>
                    <a:lnTo>
                      <a:pt x="411" y="115"/>
                    </a:lnTo>
                    <a:lnTo>
                      <a:pt x="409" y="108"/>
                    </a:lnTo>
                    <a:lnTo>
                      <a:pt x="407" y="102"/>
                    </a:lnTo>
                    <a:lnTo>
                      <a:pt x="404" y="94"/>
                    </a:lnTo>
                    <a:lnTo>
                      <a:pt x="402" y="87"/>
                    </a:lnTo>
                    <a:lnTo>
                      <a:pt x="400" y="78"/>
                    </a:lnTo>
                    <a:lnTo>
                      <a:pt x="397" y="70"/>
                    </a:lnTo>
                    <a:lnTo>
                      <a:pt x="396" y="61"/>
                    </a:lnTo>
                    <a:lnTo>
                      <a:pt x="396" y="53"/>
                    </a:lnTo>
                    <a:lnTo>
                      <a:pt x="397" y="47"/>
                    </a:lnTo>
                    <a:lnTo>
                      <a:pt x="398" y="44"/>
                    </a:lnTo>
                    <a:lnTo>
                      <a:pt x="401" y="41"/>
                    </a:lnTo>
                    <a:lnTo>
                      <a:pt x="403" y="39"/>
                    </a:lnTo>
                    <a:lnTo>
                      <a:pt x="405" y="37"/>
                    </a:lnTo>
                    <a:lnTo>
                      <a:pt x="411" y="35"/>
                    </a:lnTo>
                    <a:lnTo>
                      <a:pt x="418" y="34"/>
                    </a:lnTo>
                    <a:lnTo>
                      <a:pt x="423" y="34"/>
                    </a:lnTo>
                    <a:lnTo>
                      <a:pt x="429" y="35"/>
                    </a:lnTo>
                    <a:lnTo>
                      <a:pt x="433" y="37"/>
                    </a:lnTo>
                    <a:lnTo>
                      <a:pt x="437" y="40"/>
                    </a:lnTo>
                    <a:lnTo>
                      <a:pt x="442" y="45"/>
                    </a:lnTo>
                    <a:lnTo>
                      <a:pt x="445" y="50"/>
                    </a:lnTo>
                    <a:lnTo>
                      <a:pt x="452" y="63"/>
                    </a:lnTo>
                    <a:lnTo>
                      <a:pt x="460" y="80"/>
                    </a:lnTo>
                    <a:lnTo>
                      <a:pt x="469" y="99"/>
                    </a:lnTo>
                    <a:lnTo>
                      <a:pt x="479" y="120"/>
                    </a:lnTo>
                    <a:lnTo>
                      <a:pt x="498" y="112"/>
                    </a:lnTo>
                    <a:lnTo>
                      <a:pt x="523" y="103"/>
                    </a:lnTo>
                    <a:lnTo>
                      <a:pt x="549" y="95"/>
                    </a:lnTo>
                    <a:lnTo>
                      <a:pt x="574" y="89"/>
                    </a:lnTo>
                    <a:lnTo>
                      <a:pt x="601" y="84"/>
                    </a:lnTo>
                    <a:lnTo>
                      <a:pt x="627" y="79"/>
                    </a:lnTo>
                    <a:lnTo>
                      <a:pt x="655" y="77"/>
                    </a:lnTo>
                    <a:lnTo>
                      <a:pt x="682" y="75"/>
                    </a:lnTo>
                    <a:lnTo>
                      <a:pt x="710" y="74"/>
                    </a:lnTo>
                    <a:lnTo>
                      <a:pt x="730" y="75"/>
                    </a:lnTo>
                    <a:lnTo>
                      <a:pt x="750" y="75"/>
                    </a:lnTo>
                    <a:lnTo>
                      <a:pt x="770" y="77"/>
                    </a:lnTo>
                    <a:lnTo>
                      <a:pt x="789" y="79"/>
                    </a:lnTo>
                    <a:lnTo>
                      <a:pt x="808" y="81"/>
                    </a:lnTo>
                    <a:lnTo>
                      <a:pt x="827" y="85"/>
                    </a:lnTo>
                    <a:lnTo>
                      <a:pt x="846" y="89"/>
                    </a:lnTo>
                    <a:lnTo>
                      <a:pt x="865" y="93"/>
                    </a:lnTo>
                    <a:lnTo>
                      <a:pt x="870" y="98"/>
                    </a:lnTo>
                    <a:lnTo>
                      <a:pt x="872" y="90"/>
                    </a:lnTo>
                    <a:lnTo>
                      <a:pt x="873" y="85"/>
                    </a:lnTo>
                    <a:lnTo>
                      <a:pt x="876" y="79"/>
                    </a:lnTo>
                    <a:lnTo>
                      <a:pt x="878" y="73"/>
                    </a:lnTo>
                    <a:lnTo>
                      <a:pt x="880" y="67"/>
                    </a:lnTo>
                    <a:lnTo>
                      <a:pt x="882" y="62"/>
                    </a:lnTo>
                    <a:lnTo>
                      <a:pt x="884" y="56"/>
                    </a:lnTo>
                    <a:lnTo>
                      <a:pt x="885" y="48"/>
                    </a:lnTo>
                    <a:lnTo>
                      <a:pt x="887" y="40"/>
                    </a:lnTo>
                    <a:lnTo>
                      <a:pt x="891" y="33"/>
                    </a:lnTo>
                    <a:lnTo>
                      <a:pt x="895" y="24"/>
                    </a:lnTo>
                    <a:lnTo>
                      <a:pt x="899" y="17"/>
                    </a:lnTo>
                    <a:lnTo>
                      <a:pt x="904" y="10"/>
                    </a:lnTo>
                    <a:lnTo>
                      <a:pt x="908" y="5"/>
                    </a:lnTo>
                    <a:lnTo>
                      <a:pt x="911" y="3"/>
                    </a:lnTo>
                    <a:lnTo>
                      <a:pt x="913" y="1"/>
                    </a:lnTo>
                    <a:lnTo>
                      <a:pt x="917" y="0"/>
                    </a:lnTo>
                    <a:lnTo>
                      <a:pt x="920" y="0"/>
                    </a:lnTo>
                    <a:lnTo>
                      <a:pt x="927" y="3"/>
                    </a:lnTo>
                    <a:lnTo>
                      <a:pt x="934" y="5"/>
                    </a:lnTo>
                    <a:lnTo>
                      <a:pt x="939" y="8"/>
                    </a:lnTo>
                    <a:lnTo>
                      <a:pt x="944" y="12"/>
                    </a:lnTo>
                    <a:lnTo>
                      <a:pt x="946" y="17"/>
                    </a:lnTo>
                    <a:lnTo>
                      <a:pt x="948" y="22"/>
                    </a:lnTo>
                    <a:lnTo>
                      <a:pt x="949" y="28"/>
                    </a:lnTo>
                    <a:lnTo>
                      <a:pt x="949" y="35"/>
                    </a:lnTo>
                    <a:lnTo>
                      <a:pt x="947" y="51"/>
                    </a:lnTo>
                    <a:lnTo>
                      <a:pt x="942" y="70"/>
                    </a:lnTo>
                    <a:lnTo>
                      <a:pt x="936" y="90"/>
                    </a:lnTo>
                    <a:lnTo>
                      <a:pt x="928" y="114"/>
                    </a:lnTo>
                    <a:lnTo>
                      <a:pt x="938" y="117"/>
                    </a:lnTo>
                    <a:lnTo>
                      <a:pt x="969" y="131"/>
                    </a:lnTo>
                    <a:lnTo>
                      <a:pt x="1000" y="146"/>
                    </a:lnTo>
                    <a:lnTo>
                      <a:pt x="1029" y="164"/>
                    </a:lnTo>
                    <a:lnTo>
                      <a:pt x="1057" y="182"/>
                    </a:lnTo>
                    <a:lnTo>
                      <a:pt x="1084" y="201"/>
                    </a:lnTo>
                    <a:lnTo>
                      <a:pt x="1110" y="223"/>
                    </a:lnTo>
                    <a:lnTo>
                      <a:pt x="1135" y="246"/>
                    </a:lnTo>
                    <a:lnTo>
                      <a:pt x="1158" y="269"/>
                    </a:lnTo>
                    <a:lnTo>
                      <a:pt x="1180" y="294"/>
                    </a:lnTo>
                    <a:lnTo>
                      <a:pt x="1201" y="321"/>
                    </a:lnTo>
                    <a:lnTo>
                      <a:pt x="1220" y="348"/>
                    </a:lnTo>
                    <a:lnTo>
                      <a:pt x="1238" y="376"/>
                    </a:lnTo>
                    <a:lnTo>
                      <a:pt x="1254" y="407"/>
                    </a:lnTo>
                    <a:lnTo>
                      <a:pt x="1269" y="437"/>
                    </a:lnTo>
                    <a:lnTo>
                      <a:pt x="1282" y="468"/>
                    </a:lnTo>
                    <a:lnTo>
                      <a:pt x="1293" y="501"/>
                    </a:lnTo>
                    <a:lnTo>
                      <a:pt x="1296" y="510"/>
                    </a:lnTo>
                    <a:lnTo>
                      <a:pt x="1303" y="508"/>
                    </a:lnTo>
                    <a:lnTo>
                      <a:pt x="1309" y="506"/>
                    </a:lnTo>
                    <a:lnTo>
                      <a:pt x="1316" y="505"/>
                    </a:lnTo>
                    <a:lnTo>
                      <a:pt x="1321" y="504"/>
                    </a:lnTo>
                    <a:lnTo>
                      <a:pt x="1328" y="503"/>
                    </a:lnTo>
                    <a:lnTo>
                      <a:pt x="1335" y="503"/>
                    </a:lnTo>
                    <a:lnTo>
                      <a:pt x="1342" y="503"/>
                    </a:lnTo>
                    <a:lnTo>
                      <a:pt x="1349" y="502"/>
                    </a:lnTo>
                    <a:lnTo>
                      <a:pt x="1357" y="501"/>
                    </a:lnTo>
                    <a:lnTo>
                      <a:pt x="1364" y="501"/>
                    </a:lnTo>
                    <a:lnTo>
                      <a:pt x="1372" y="500"/>
                    </a:lnTo>
                    <a:lnTo>
                      <a:pt x="1378" y="500"/>
                    </a:lnTo>
                    <a:lnTo>
                      <a:pt x="1384" y="500"/>
                    </a:lnTo>
                    <a:lnTo>
                      <a:pt x="1389" y="501"/>
                    </a:lnTo>
                    <a:lnTo>
                      <a:pt x="1393" y="504"/>
                    </a:lnTo>
                    <a:lnTo>
                      <a:pt x="1396" y="508"/>
                    </a:lnTo>
                    <a:lnTo>
                      <a:pt x="1397" y="516"/>
                    </a:lnTo>
                    <a:lnTo>
                      <a:pt x="1397" y="522"/>
                    </a:lnTo>
                    <a:lnTo>
                      <a:pt x="1397" y="528"/>
                    </a:lnTo>
                    <a:lnTo>
                      <a:pt x="1396" y="533"/>
                    </a:lnTo>
                    <a:lnTo>
                      <a:pt x="1394" y="537"/>
                    </a:lnTo>
                    <a:lnTo>
                      <a:pt x="1391" y="541"/>
                    </a:lnTo>
                    <a:lnTo>
                      <a:pt x="1387" y="544"/>
                    </a:lnTo>
                    <a:lnTo>
                      <a:pt x="1383" y="547"/>
                    </a:lnTo>
                    <a:lnTo>
                      <a:pt x="1371" y="553"/>
                    </a:lnTo>
                    <a:lnTo>
                      <a:pt x="1356" y="557"/>
                    </a:lnTo>
                    <a:lnTo>
                      <a:pt x="1336" y="562"/>
                    </a:lnTo>
                    <a:lnTo>
                      <a:pt x="1314" y="569"/>
                    </a:lnTo>
                    <a:lnTo>
                      <a:pt x="1313" y="580"/>
                    </a:lnTo>
                    <a:lnTo>
                      <a:pt x="1315" y="593"/>
                    </a:lnTo>
                    <a:lnTo>
                      <a:pt x="1317" y="606"/>
                    </a:lnTo>
                    <a:lnTo>
                      <a:pt x="1319" y="619"/>
                    </a:lnTo>
                    <a:lnTo>
                      <a:pt x="1320" y="631"/>
                    </a:lnTo>
                    <a:lnTo>
                      <a:pt x="1321" y="646"/>
                    </a:lnTo>
                    <a:lnTo>
                      <a:pt x="1321" y="658"/>
                    </a:lnTo>
                    <a:lnTo>
                      <a:pt x="1322" y="671"/>
                    </a:lnTo>
                    <a:lnTo>
                      <a:pt x="1322" y="686"/>
                    </a:lnTo>
                    <a:lnTo>
                      <a:pt x="1321" y="706"/>
                    </a:lnTo>
                    <a:lnTo>
                      <a:pt x="1321" y="725"/>
                    </a:lnTo>
                    <a:lnTo>
                      <a:pt x="1319" y="746"/>
                    </a:lnTo>
                    <a:lnTo>
                      <a:pt x="1317" y="765"/>
                    </a:lnTo>
                    <a:lnTo>
                      <a:pt x="1314" y="785"/>
                    </a:lnTo>
                    <a:lnTo>
                      <a:pt x="1310" y="804"/>
                    </a:lnTo>
                    <a:lnTo>
                      <a:pt x="1306" y="823"/>
                    </a:lnTo>
                    <a:lnTo>
                      <a:pt x="1302" y="841"/>
                    </a:lnTo>
                    <a:lnTo>
                      <a:pt x="1296" y="861"/>
                    </a:lnTo>
                    <a:lnTo>
                      <a:pt x="1291" y="879"/>
                    </a:lnTo>
                    <a:lnTo>
                      <a:pt x="1285" y="896"/>
                    </a:lnTo>
                    <a:lnTo>
                      <a:pt x="1277" y="915"/>
                    </a:lnTo>
                    <a:lnTo>
                      <a:pt x="1271" y="932"/>
                    </a:lnTo>
                    <a:lnTo>
                      <a:pt x="1262" y="949"/>
                    </a:lnTo>
                    <a:lnTo>
                      <a:pt x="1253" y="966"/>
                    </a:lnTo>
                    <a:lnTo>
                      <a:pt x="1245" y="983"/>
                    </a:lnTo>
                    <a:lnTo>
                      <a:pt x="1235" y="998"/>
                    </a:lnTo>
                    <a:lnTo>
                      <a:pt x="1241" y="1000"/>
                    </a:lnTo>
                    <a:lnTo>
                      <a:pt x="1248" y="1002"/>
                    </a:lnTo>
                    <a:lnTo>
                      <a:pt x="1253" y="1005"/>
                    </a:lnTo>
                    <a:lnTo>
                      <a:pt x="1259" y="1009"/>
                    </a:lnTo>
                    <a:lnTo>
                      <a:pt x="1264" y="1013"/>
                    </a:lnTo>
                    <a:lnTo>
                      <a:pt x="1269" y="1017"/>
                    </a:lnTo>
                    <a:lnTo>
                      <a:pt x="1276" y="1021"/>
                    </a:lnTo>
                    <a:lnTo>
                      <a:pt x="1282" y="1025"/>
                    </a:lnTo>
                    <a:lnTo>
                      <a:pt x="1290" y="1029"/>
                    </a:lnTo>
                    <a:lnTo>
                      <a:pt x="1296" y="1033"/>
                    </a:lnTo>
                    <a:lnTo>
                      <a:pt x="1302" y="1038"/>
                    </a:lnTo>
                    <a:lnTo>
                      <a:pt x="1307" y="1042"/>
                    </a:lnTo>
                    <a:lnTo>
                      <a:pt x="1310" y="1046"/>
                    </a:lnTo>
                    <a:lnTo>
                      <a:pt x="1313" y="1052"/>
                    </a:lnTo>
                    <a:lnTo>
                      <a:pt x="1314" y="1056"/>
                    </a:lnTo>
                    <a:lnTo>
                      <a:pt x="1313" y="1062"/>
                    </a:lnTo>
                    <a:lnTo>
                      <a:pt x="1309" y="1068"/>
                    </a:lnTo>
                    <a:lnTo>
                      <a:pt x="1305" y="1073"/>
                    </a:lnTo>
                    <a:lnTo>
                      <a:pt x="1301" y="1078"/>
                    </a:lnTo>
                    <a:lnTo>
                      <a:pt x="1296" y="1081"/>
                    </a:lnTo>
                    <a:lnTo>
                      <a:pt x="1292" y="1082"/>
                    </a:lnTo>
                    <a:lnTo>
                      <a:pt x="1287" y="1083"/>
                    </a:lnTo>
                    <a:lnTo>
                      <a:pt x="1281" y="1083"/>
                    </a:lnTo>
                    <a:lnTo>
                      <a:pt x="1276" y="1081"/>
                    </a:lnTo>
                    <a:lnTo>
                      <a:pt x="1263" y="1077"/>
                    </a:lnTo>
                    <a:lnTo>
                      <a:pt x="1247" y="1069"/>
                    </a:lnTo>
                    <a:lnTo>
                      <a:pt x="1228" y="1060"/>
                    </a:lnTo>
                    <a:lnTo>
                      <a:pt x="1207" y="1051"/>
                    </a:lnTo>
                    <a:lnTo>
                      <a:pt x="1201" y="1051"/>
                    </a:lnTo>
                    <a:lnTo>
                      <a:pt x="1184" y="1073"/>
                    </a:lnTo>
                    <a:lnTo>
                      <a:pt x="1166" y="1095"/>
                    </a:lnTo>
                    <a:lnTo>
                      <a:pt x="1146" y="1116"/>
                    </a:lnTo>
                    <a:lnTo>
                      <a:pt x="1126" y="1135"/>
                    </a:lnTo>
                    <a:lnTo>
                      <a:pt x="1104" y="1153"/>
                    </a:lnTo>
                    <a:lnTo>
                      <a:pt x="1083" y="1172"/>
                    </a:lnTo>
                    <a:lnTo>
                      <a:pt x="1059" y="1188"/>
                    </a:lnTo>
                    <a:lnTo>
                      <a:pt x="1036" y="1204"/>
                    </a:lnTo>
                    <a:lnTo>
                      <a:pt x="1021" y="1212"/>
                    </a:lnTo>
                    <a:lnTo>
                      <a:pt x="1024" y="1218"/>
                    </a:lnTo>
                    <a:lnTo>
                      <a:pt x="1027" y="1225"/>
                    </a:lnTo>
                    <a:lnTo>
                      <a:pt x="1030" y="1230"/>
                    </a:lnTo>
                    <a:lnTo>
                      <a:pt x="1033" y="1236"/>
                    </a:lnTo>
                    <a:lnTo>
                      <a:pt x="1035" y="1242"/>
                    </a:lnTo>
                    <a:lnTo>
                      <a:pt x="1038" y="1247"/>
                    </a:lnTo>
                    <a:lnTo>
                      <a:pt x="1042" y="1254"/>
                    </a:lnTo>
                    <a:lnTo>
                      <a:pt x="1045" y="1259"/>
                    </a:lnTo>
                    <a:lnTo>
                      <a:pt x="1049" y="1267"/>
                    </a:lnTo>
                    <a:lnTo>
                      <a:pt x="1055" y="1273"/>
                    </a:lnTo>
                    <a:lnTo>
                      <a:pt x="1059" y="1281"/>
                    </a:lnTo>
                    <a:lnTo>
                      <a:pt x="1063" y="1289"/>
                    </a:lnTo>
                    <a:lnTo>
                      <a:pt x="1065" y="1295"/>
                    </a:lnTo>
                    <a:lnTo>
                      <a:pt x="1068" y="1301"/>
                    </a:lnTo>
                    <a:lnTo>
                      <a:pt x="1068" y="1304"/>
                    </a:lnTo>
                    <a:lnTo>
                      <a:pt x="1068" y="1307"/>
                    </a:lnTo>
                    <a:lnTo>
                      <a:pt x="1067" y="1309"/>
                    </a:lnTo>
                    <a:lnTo>
                      <a:pt x="1064" y="1311"/>
                    </a:lnTo>
                    <a:lnTo>
                      <a:pt x="1058" y="1317"/>
                    </a:lnTo>
                    <a:lnTo>
                      <a:pt x="1053" y="1320"/>
                    </a:lnTo>
                    <a:lnTo>
                      <a:pt x="1046" y="1322"/>
                    </a:lnTo>
                    <a:lnTo>
                      <a:pt x="1041" y="1322"/>
                    </a:lnTo>
                    <a:lnTo>
                      <a:pt x="1034" y="1321"/>
                    </a:lnTo>
                    <a:lnTo>
                      <a:pt x="1029" y="1319"/>
                    </a:lnTo>
                    <a:lnTo>
                      <a:pt x="1023" y="1314"/>
                    </a:lnTo>
                    <a:lnTo>
                      <a:pt x="1018" y="1310"/>
                    </a:lnTo>
                    <a:lnTo>
                      <a:pt x="1006" y="1297"/>
                    </a:lnTo>
                    <a:lnTo>
                      <a:pt x="994" y="1281"/>
                    </a:lnTo>
                    <a:lnTo>
                      <a:pt x="981" y="1263"/>
                    </a:lnTo>
                    <a:lnTo>
                      <a:pt x="968" y="1242"/>
                    </a:lnTo>
                    <a:lnTo>
                      <a:pt x="954" y="1247"/>
                    </a:lnTo>
                    <a:lnTo>
                      <a:pt x="926" y="1259"/>
                    </a:lnTo>
                    <a:lnTo>
                      <a:pt x="897" y="1269"/>
                    </a:lnTo>
                    <a:lnTo>
                      <a:pt x="867" y="1278"/>
                    </a:lnTo>
                    <a:lnTo>
                      <a:pt x="837" y="1285"/>
                    </a:lnTo>
                    <a:lnTo>
                      <a:pt x="806" y="1291"/>
                    </a:lnTo>
                    <a:lnTo>
                      <a:pt x="775" y="1295"/>
                    </a:lnTo>
                    <a:lnTo>
                      <a:pt x="743" y="1297"/>
                    </a:lnTo>
                    <a:lnTo>
                      <a:pt x="710" y="1298"/>
                    </a:lnTo>
                    <a:lnTo>
                      <a:pt x="692" y="1297"/>
                    </a:lnTo>
                    <a:lnTo>
                      <a:pt x="673" y="1296"/>
                    </a:lnTo>
                    <a:lnTo>
                      <a:pt x="654" y="1295"/>
                    </a:lnTo>
                    <a:lnTo>
                      <a:pt x="636" y="1293"/>
                    </a:lnTo>
                    <a:lnTo>
                      <a:pt x="618" y="1291"/>
                    </a:lnTo>
                    <a:lnTo>
                      <a:pt x="599" y="1287"/>
                    </a:lnTo>
                    <a:lnTo>
                      <a:pt x="582" y="1284"/>
                    </a:lnTo>
                    <a:lnTo>
                      <a:pt x="564" y="1280"/>
                    </a:lnTo>
                    <a:lnTo>
                      <a:pt x="546" y="1276"/>
                    </a:lnTo>
                    <a:lnTo>
                      <a:pt x="529" y="1270"/>
                    </a:lnTo>
                    <a:lnTo>
                      <a:pt x="512" y="1265"/>
                    </a:lnTo>
                    <a:lnTo>
                      <a:pt x="495" y="1258"/>
                    </a:lnTo>
                    <a:lnTo>
                      <a:pt x="478" y="1252"/>
                    </a:lnTo>
                    <a:lnTo>
                      <a:pt x="462" y="1245"/>
                    </a:lnTo>
                    <a:lnTo>
                      <a:pt x="446" y="1238"/>
                    </a:lnTo>
                    <a:lnTo>
                      <a:pt x="430" y="1230"/>
                    </a:lnTo>
                    <a:lnTo>
                      <a:pt x="418" y="1223"/>
                    </a:lnTo>
                    <a:lnTo>
                      <a:pt x="415" y="1229"/>
                    </a:lnTo>
                    <a:lnTo>
                      <a:pt x="411" y="1236"/>
                    </a:lnTo>
                    <a:lnTo>
                      <a:pt x="409" y="1242"/>
                    </a:lnTo>
                    <a:lnTo>
                      <a:pt x="406" y="1247"/>
                    </a:lnTo>
                    <a:lnTo>
                      <a:pt x="403" y="1253"/>
                    </a:lnTo>
                    <a:lnTo>
                      <a:pt x="401" y="1258"/>
                    </a:lnTo>
                    <a:lnTo>
                      <a:pt x="396" y="1265"/>
                    </a:lnTo>
                    <a:lnTo>
                      <a:pt x="393" y="1270"/>
                    </a:lnTo>
                    <a:lnTo>
                      <a:pt x="388" y="1279"/>
                    </a:lnTo>
                    <a:lnTo>
                      <a:pt x="382" y="1286"/>
                    </a:lnTo>
                    <a:lnTo>
                      <a:pt x="376" y="1294"/>
                    </a:lnTo>
                    <a:lnTo>
                      <a:pt x="370" y="1299"/>
                    </a:lnTo>
                    <a:lnTo>
                      <a:pt x="365" y="1304"/>
                    </a:lnTo>
                    <a:lnTo>
                      <a:pt x="360" y="1307"/>
                    </a:lnTo>
                    <a:lnTo>
                      <a:pt x="354" y="1308"/>
                    </a:lnTo>
                    <a:lnTo>
                      <a:pt x="348" y="1307"/>
                    </a:lnTo>
                    <a:lnTo>
                      <a:pt x="340" y="1304"/>
                    </a:lnTo>
                    <a:lnTo>
                      <a:pt x="335" y="1300"/>
                    </a:lnTo>
                    <a:lnTo>
                      <a:pt x="330" y="1295"/>
                    </a:lnTo>
                    <a:lnTo>
                      <a:pt x="327" y="1291"/>
                    </a:lnTo>
                    <a:lnTo>
                      <a:pt x="326" y="1285"/>
                    </a:lnTo>
                    <a:lnTo>
                      <a:pt x="325" y="1279"/>
                    </a:lnTo>
                    <a:lnTo>
                      <a:pt x="326" y="1272"/>
                    </a:lnTo>
                    <a:lnTo>
                      <a:pt x="328" y="1265"/>
                    </a:lnTo>
                    <a:lnTo>
                      <a:pt x="335" y="1249"/>
                    </a:lnTo>
                    <a:lnTo>
                      <a:pt x="343" y="1231"/>
                    </a:lnTo>
                    <a:lnTo>
                      <a:pt x="355" y="1212"/>
                    </a:lnTo>
                    <a:lnTo>
                      <a:pt x="367" y="1190"/>
                    </a:lnTo>
                    <a:lnTo>
                      <a:pt x="357" y="1185"/>
                    </a:lnTo>
                    <a:lnTo>
                      <a:pt x="335" y="1169"/>
                    </a:lnTo>
                    <a:lnTo>
                      <a:pt x="313" y="1151"/>
                    </a:lnTo>
                    <a:lnTo>
                      <a:pt x="293" y="1132"/>
                    </a:lnTo>
                    <a:lnTo>
                      <a:pt x="272" y="1112"/>
                    </a:lnTo>
                    <a:lnTo>
                      <a:pt x="254" y="1092"/>
                    </a:lnTo>
                    <a:lnTo>
                      <a:pt x="236" y="1070"/>
                    </a:lnTo>
                    <a:lnTo>
                      <a:pt x="218" y="1049"/>
                    </a:lnTo>
                    <a:lnTo>
                      <a:pt x="202" y="1025"/>
                    </a:lnTo>
                    <a:lnTo>
                      <a:pt x="187" y="1001"/>
                    </a:lnTo>
                    <a:lnTo>
                      <a:pt x="173" y="977"/>
                    </a:lnTo>
                    <a:lnTo>
                      <a:pt x="160" y="951"/>
                    </a:lnTo>
                    <a:lnTo>
                      <a:pt x="148" y="925"/>
                    </a:lnTo>
                    <a:lnTo>
                      <a:pt x="137" y="898"/>
                    </a:lnTo>
                    <a:lnTo>
                      <a:pt x="129" y="871"/>
                    </a:lnTo>
                    <a:lnTo>
                      <a:pt x="120" y="844"/>
                    </a:lnTo>
                    <a:lnTo>
                      <a:pt x="114" y="815"/>
                    </a:lnTo>
                    <a:lnTo>
                      <a:pt x="108" y="801"/>
                    </a:lnTo>
                    <a:lnTo>
                      <a:pt x="102" y="802"/>
                    </a:lnTo>
                    <a:lnTo>
                      <a:pt x="95" y="804"/>
                    </a:lnTo>
                    <a:lnTo>
                      <a:pt x="90" y="805"/>
                    </a:lnTo>
                    <a:lnTo>
                      <a:pt x="85" y="808"/>
                    </a:lnTo>
                    <a:lnTo>
                      <a:pt x="80" y="809"/>
                    </a:lnTo>
                    <a:lnTo>
                      <a:pt x="75" y="810"/>
                    </a:lnTo>
                    <a:lnTo>
                      <a:pt x="68" y="811"/>
                    </a:lnTo>
                    <a:lnTo>
                      <a:pt x="62" y="812"/>
                    </a:lnTo>
                    <a:lnTo>
                      <a:pt x="54" y="812"/>
                    </a:lnTo>
                    <a:lnTo>
                      <a:pt x="46" y="813"/>
                    </a:lnTo>
                    <a:lnTo>
                      <a:pt x="37" y="813"/>
                    </a:lnTo>
                    <a:lnTo>
                      <a:pt x="28" y="813"/>
                    </a:lnTo>
                    <a:lnTo>
                      <a:pt x="20" y="812"/>
                    </a:lnTo>
                    <a:lnTo>
                      <a:pt x="13" y="810"/>
                    </a:lnTo>
                    <a:lnTo>
                      <a:pt x="10" y="809"/>
                    </a:lnTo>
                    <a:lnTo>
                      <a:pt x="8" y="807"/>
                    </a:lnTo>
                    <a:lnTo>
                      <a:pt x="6" y="804"/>
                    </a:lnTo>
                    <a:lnTo>
                      <a:pt x="3" y="802"/>
                    </a:lnTo>
                    <a:lnTo>
                      <a:pt x="1" y="795"/>
                    </a:lnTo>
                    <a:lnTo>
                      <a:pt x="0" y="787"/>
                    </a:lnTo>
                    <a:lnTo>
                      <a:pt x="1" y="782"/>
                    </a:lnTo>
                    <a:lnTo>
                      <a:pt x="3" y="776"/>
                    </a:lnTo>
                    <a:lnTo>
                      <a:pt x="7" y="772"/>
                    </a:lnTo>
                    <a:lnTo>
                      <a:pt x="11" y="768"/>
                    </a:lnTo>
                    <a:lnTo>
                      <a:pt x="16" y="763"/>
                    </a:lnTo>
                    <a:lnTo>
                      <a:pt x="24" y="760"/>
                    </a:lnTo>
                    <a:lnTo>
                      <a:pt x="40" y="755"/>
                    </a:lnTo>
                    <a:lnTo>
                      <a:pt x="60" y="750"/>
                    </a:lnTo>
                    <a:lnTo>
                      <a:pt x="81" y="747"/>
                    </a:lnTo>
                    <a:lnTo>
                      <a:pt x="106" y="743"/>
                    </a:lnTo>
                    <a:lnTo>
                      <a:pt x="102" y="734"/>
                    </a:lnTo>
                    <a:lnTo>
                      <a:pt x="101" y="728"/>
                    </a:lnTo>
                    <a:lnTo>
                      <a:pt x="101" y="722"/>
                    </a:lnTo>
                    <a:lnTo>
                      <a:pt x="101" y="716"/>
                    </a:lnTo>
                    <a:lnTo>
                      <a:pt x="101" y="709"/>
                    </a:lnTo>
                    <a:lnTo>
                      <a:pt x="101" y="704"/>
                    </a:lnTo>
                    <a:lnTo>
                      <a:pt x="100" y="697"/>
                    </a:lnTo>
                    <a:lnTo>
                      <a:pt x="100" y="691"/>
                    </a:lnTo>
                    <a:lnTo>
                      <a:pt x="100" y="686"/>
                    </a:lnTo>
                    <a:lnTo>
                      <a:pt x="101" y="657"/>
                    </a:lnTo>
                    <a:lnTo>
                      <a:pt x="103" y="629"/>
                    </a:lnTo>
                    <a:lnTo>
                      <a:pt x="106" y="601"/>
                    </a:lnTo>
                    <a:lnTo>
                      <a:pt x="110" y="574"/>
                    </a:lnTo>
                    <a:lnTo>
                      <a:pt x="116" y="547"/>
                    </a:lnTo>
                    <a:lnTo>
                      <a:pt x="122" y="520"/>
                    </a:lnTo>
                    <a:lnTo>
                      <a:pt x="131" y="494"/>
                    </a:lnTo>
                    <a:lnTo>
                      <a:pt x="139" y="468"/>
                    </a:lnTo>
                    <a:lnTo>
                      <a:pt x="149" y="443"/>
                    </a:lnTo>
                    <a:lnTo>
                      <a:pt x="160" y="420"/>
                    </a:lnTo>
                    <a:lnTo>
                      <a:pt x="173" y="396"/>
                    </a:lnTo>
                    <a:lnTo>
                      <a:pt x="186" y="372"/>
                    </a:lnTo>
                    <a:lnTo>
                      <a:pt x="200" y="349"/>
                    </a:lnTo>
                    <a:lnTo>
                      <a:pt x="215" y="328"/>
                    </a:lnTo>
                    <a:lnTo>
                      <a:pt x="231" y="306"/>
                    </a:lnTo>
                    <a:lnTo>
                      <a:pt x="247" y="286"/>
                    </a:lnTo>
                    <a:lnTo>
                      <a:pt x="246" y="275"/>
                    </a:lnTo>
                    <a:lnTo>
                      <a:pt x="241" y="271"/>
                    </a:lnTo>
                    <a:lnTo>
                      <a:pt x="236" y="267"/>
                    </a:lnTo>
                    <a:lnTo>
                      <a:pt x="231" y="263"/>
                    </a:lnTo>
                    <a:lnTo>
                      <a:pt x="227" y="259"/>
                    </a:lnTo>
                    <a:lnTo>
                      <a:pt x="221" y="254"/>
                    </a:lnTo>
                    <a:lnTo>
                      <a:pt x="217" y="250"/>
                    </a:lnTo>
                    <a:lnTo>
                      <a:pt x="213" y="245"/>
                    </a:lnTo>
                    <a:lnTo>
                      <a:pt x="209" y="240"/>
                    </a:lnTo>
                    <a:lnTo>
                      <a:pt x="203" y="234"/>
                    </a:lnTo>
                    <a:lnTo>
                      <a:pt x="197" y="228"/>
                    </a:lnTo>
                    <a:lnTo>
                      <a:pt x="191" y="222"/>
                    </a:lnTo>
                    <a:lnTo>
                      <a:pt x="185" y="215"/>
                    </a:lnTo>
                    <a:lnTo>
                      <a:pt x="180" y="209"/>
                    </a:lnTo>
                    <a:lnTo>
                      <a:pt x="177" y="204"/>
                    </a:lnTo>
                    <a:lnTo>
                      <a:pt x="176" y="200"/>
                    </a:lnTo>
                    <a:lnTo>
                      <a:pt x="176" y="198"/>
                    </a:lnTo>
                    <a:lnTo>
                      <a:pt x="176" y="195"/>
                    </a:lnTo>
                    <a:lnTo>
                      <a:pt x="177" y="193"/>
                    </a:lnTo>
                    <a:lnTo>
                      <a:pt x="182" y="185"/>
                    </a:lnTo>
                    <a:lnTo>
                      <a:pt x="187" y="181"/>
                    </a:lnTo>
                    <a:lnTo>
                      <a:pt x="191" y="178"/>
                    </a:lnTo>
                    <a:lnTo>
                      <a:pt x="197" y="175"/>
                    </a:lnTo>
                    <a:lnTo>
                      <a:pt x="203" y="174"/>
                    </a:lnTo>
                    <a:lnTo>
                      <a:pt x="209" y="175"/>
                    </a:lnTo>
                    <a:lnTo>
                      <a:pt x="215" y="178"/>
                    </a:lnTo>
                    <a:lnTo>
                      <a:pt x="223" y="181"/>
                    </a:lnTo>
                    <a:lnTo>
                      <a:pt x="237" y="190"/>
                    </a:lnTo>
                    <a:lnTo>
                      <a:pt x="253" y="201"/>
                    </a:lnTo>
                    <a:lnTo>
                      <a:pt x="270" y="215"/>
                    </a:lnTo>
                    <a:lnTo>
                      <a:pt x="288" y="232"/>
                    </a:lnTo>
                    <a:lnTo>
                      <a:pt x="300" y="232"/>
                    </a:ln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5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5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7" name=""/>
          <p:cNvSpPr/>
          <p:nvPr/>
        </p:nvSpPr>
        <p:spPr>
          <a:xfrm>
            <a:off x="2235960" y="1047600"/>
            <a:ext cx="46990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1f1a17"/>
                </a:solidFill>
                <a:latin typeface="Geometr231 Hv BT"/>
              </a:rPr>
              <a:t>GOD CAN HEA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8" name=""/>
          <p:cNvSpPr/>
          <p:nvPr/>
        </p:nvSpPr>
        <p:spPr>
          <a:xfrm>
            <a:off x="1444320" y="1825560"/>
            <a:ext cx="628416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1f1a17"/>
                </a:solidFill>
                <a:latin typeface="Geometr231 Hv BT"/>
              </a:rPr>
              <a:t>HIV INFECTION AID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9" name=""/>
          <p:cNvGrpSpPr/>
          <p:nvPr/>
        </p:nvGrpSpPr>
        <p:grpSpPr>
          <a:xfrm>
            <a:off x="2567160" y="3060720"/>
            <a:ext cx="3963960" cy="2598840"/>
            <a:chOff x="2567160" y="3060720"/>
            <a:chExt cx="3963960" cy="2598840"/>
          </a:xfrm>
        </p:grpSpPr>
        <p:sp>
          <p:nvSpPr>
            <p:cNvPr id="6230" name=""/>
            <p:cNvSpPr/>
            <p:nvPr/>
          </p:nvSpPr>
          <p:spPr>
            <a:xfrm>
              <a:off x="2592360" y="3083040"/>
              <a:ext cx="3916440" cy="255420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2592360" y="3060720"/>
              <a:ext cx="3938760" cy="44280"/>
            </a:xfrm>
            <a:custGeom>
              <a:avLst/>
              <a:gdLst/>
              <a:ahLst/>
              <a:rect l="l" t="t" r="r" b="b"/>
              <a:pathLst>
                <a:path w="12406" h="138">
                  <a:moveTo>
                    <a:pt x="12406" y="69"/>
                  </a:moveTo>
                  <a:lnTo>
                    <a:pt x="12337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2337" y="138"/>
                  </a:lnTo>
                  <a:lnTo>
                    <a:pt x="12406" y="69"/>
                  </a:lnTo>
                  <a:lnTo>
                    <a:pt x="12406" y="69"/>
                  </a:lnTo>
                  <a:lnTo>
                    <a:pt x="12406" y="0"/>
                  </a:lnTo>
                  <a:lnTo>
                    <a:pt x="12337" y="0"/>
                  </a:lnTo>
                  <a:lnTo>
                    <a:pt x="12406" y="6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6486480" y="3083040"/>
              <a:ext cx="44640" cy="2576520"/>
            </a:xfrm>
            <a:custGeom>
              <a:avLst/>
              <a:gdLst/>
              <a:ahLst/>
              <a:rect l="l" t="t" r="r" b="b"/>
              <a:pathLst>
                <a:path w="138" h="8116">
                  <a:moveTo>
                    <a:pt x="69" y="8116"/>
                  </a:moveTo>
                  <a:lnTo>
                    <a:pt x="138" y="8048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8048"/>
                  </a:lnTo>
                  <a:lnTo>
                    <a:pt x="69" y="8116"/>
                  </a:lnTo>
                  <a:lnTo>
                    <a:pt x="69" y="8116"/>
                  </a:lnTo>
                  <a:lnTo>
                    <a:pt x="138" y="8116"/>
                  </a:lnTo>
                  <a:lnTo>
                    <a:pt x="138" y="8048"/>
                  </a:lnTo>
                  <a:lnTo>
                    <a:pt x="69" y="811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2570040" y="5614920"/>
              <a:ext cx="3938760" cy="44640"/>
            </a:xfrm>
            <a:custGeom>
              <a:avLst/>
              <a:gdLst/>
              <a:ahLst/>
              <a:rect l="l" t="t" r="r" b="b"/>
              <a:pathLst>
                <a:path w="12406" h="138">
                  <a:moveTo>
                    <a:pt x="0" y="70"/>
                  </a:moveTo>
                  <a:lnTo>
                    <a:pt x="69" y="138"/>
                  </a:lnTo>
                  <a:lnTo>
                    <a:pt x="12406" y="138"/>
                  </a:lnTo>
                  <a:lnTo>
                    <a:pt x="12406" y="0"/>
                  </a:lnTo>
                  <a:lnTo>
                    <a:pt x="69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138"/>
                  </a:lnTo>
                  <a:lnTo>
                    <a:pt x="69" y="138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2570040" y="3060720"/>
              <a:ext cx="42840" cy="2576520"/>
            </a:xfrm>
            <a:custGeom>
              <a:avLst/>
              <a:gdLst/>
              <a:ahLst/>
              <a:rect l="l" t="t" r="r" b="b"/>
              <a:pathLst>
                <a:path w="137" h="8117">
                  <a:moveTo>
                    <a:pt x="69" y="0"/>
                  </a:moveTo>
                  <a:lnTo>
                    <a:pt x="0" y="69"/>
                  </a:lnTo>
                  <a:lnTo>
                    <a:pt x="0" y="8117"/>
                  </a:lnTo>
                  <a:lnTo>
                    <a:pt x="137" y="8117"/>
                  </a:lnTo>
                  <a:lnTo>
                    <a:pt x="137" y="69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0" y="0"/>
                  </a:lnTo>
                  <a:lnTo>
                    <a:pt x="0" y="6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4440240" y="3859200"/>
              <a:ext cx="395280" cy="527040"/>
            </a:xfrm>
            <a:custGeom>
              <a:avLst/>
              <a:gdLst/>
              <a:ahLst/>
              <a:rect l="l" t="t" r="r" b="b"/>
              <a:pathLst>
                <a:path w="1244" h="1659">
                  <a:moveTo>
                    <a:pt x="0" y="1659"/>
                  </a:moveTo>
                  <a:lnTo>
                    <a:pt x="66" y="1624"/>
                  </a:lnTo>
                  <a:lnTo>
                    <a:pt x="132" y="1584"/>
                  </a:lnTo>
                  <a:lnTo>
                    <a:pt x="198" y="1540"/>
                  </a:lnTo>
                  <a:lnTo>
                    <a:pt x="263" y="1491"/>
                  </a:lnTo>
                  <a:lnTo>
                    <a:pt x="327" y="1437"/>
                  </a:lnTo>
                  <a:lnTo>
                    <a:pt x="390" y="1381"/>
                  </a:lnTo>
                  <a:lnTo>
                    <a:pt x="452" y="1322"/>
                  </a:lnTo>
                  <a:lnTo>
                    <a:pt x="513" y="1259"/>
                  </a:lnTo>
                  <a:lnTo>
                    <a:pt x="572" y="1194"/>
                  </a:lnTo>
                  <a:lnTo>
                    <a:pt x="630" y="1128"/>
                  </a:lnTo>
                  <a:lnTo>
                    <a:pt x="687" y="1060"/>
                  </a:lnTo>
                  <a:lnTo>
                    <a:pt x="741" y="990"/>
                  </a:lnTo>
                  <a:lnTo>
                    <a:pt x="794" y="920"/>
                  </a:lnTo>
                  <a:lnTo>
                    <a:pt x="845" y="851"/>
                  </a:lnTo>
                  <a:lnTo>
                    <a:pt x="893" y="780"/>
                  </a:lnTo>
                  <a:lnTo>
                    <a:pt x="938" y="711"/>
                  </a:lnTo>
                  <a:lnTo>
                    <a:pt x="981" y="642"/>
                  </a:lnTo>
                  <a:lnTo>
                    <a:pt x="1021" y="575"/>
                  </a:lnTo>
                  <a:lnTo>
                    <a:pt x="1059" y="509"/>
                  </a:lnTo>
                  <a:lnTo>
                    <a:pt x="1094" y="446"/>
                  </a:lnTo>
                  <a:lnTo>
                    <a:pt x="1125" y="384"/>
                  </a:lnTo>
                  <a:lnTo>
                    <a:pt x="1154" y="327"/>
                  </a:lnTo>
                  <a:lnTo>
                    <a:pt x="1178" y="272"/>
                  </a:lnTo>
                  <a:lnTo>
                    <a:pt x="1199" y="221"/>
                  </a:lnTo>
                  <a:lnTo>
                    <a:pt x="1216" y="174"/>
                  </a:lnTo>
                  <a:lnTo>
                    <a:pt x="1229" y="133"/>
                  </a:lnTo>
                  <a:lnTo>
                    <a:pt x="1238" y="96"/>
                  </a:lnTo>
                  <a:lnTo>
                    <a:pt x="1244" y="64"/>
                  </a:lnTo>
                  <a:lnTo>
                    <a:pt x="1244" y="39"/>
                  </a:lnTo>
                  <a:lnTo>
                    <a:pt x="1240" y="19"/>
                  </a:lnTo>
                  <a:lnTo>
                    <a:pt x="1231" y="6"/>
                  </a:lnTo>
                  <a:lnTo>
                    <a:pt x="1219" y="0"/>
                  </a:lnTo>
                  <a:lnTo>
                    <a:pt x="1221" y="2"/>
                  </a:lnTo>
                  <a:lnTo>
                    <a:pt x="1217" y="15"/>
                  </a:lnTo>
                  <a:lnTo>
                    <a:pt x="1208" y="35"/>
                  </a:lnTo>
                  <a:lnTo>
                    <a:pt x="1193" y="64"/>
                  </a:lnTo>
                  <a:lnTo>
                    <a:pt x="1173" y="100"/>
                  </a:lnTo>
                  <a:lnTo>
                    <a:pt x="1148" y="144"/>
                  </a:lnTo>
                  <a:lnTo>
                    <a:pt x="1118" y="194"/>
                  </a:lnTo>
                  <a:lnTo>
                    <a:pt x="1085" y="249"/>
                  </a:lnTo>
                  <a:lnTo>
                    <a:pt x="1007" y="374"/>
                  </a:lnTo>
                  <a:lnTo>
                    <a:pt x="916" y="514"/>
                  </a:lnTo>
                  <a:lnTo>
                    <a:pt x="817" y="665"/>
                  </a:lnTo>
                  <a:lnTo>
                    <a:pt x="711" y="820"/>
                  </a:lnTo>
                  <a:lnTo>
                    <a:pt x="657" y="899"/>
                  </a:lnTo>
                  <a:lnTo>
                    <a:pt x="602" y="976"/>
                  </a:lnTo>
                  <a:lnTo>
                    <a:pt x="547" y="1053"/>
                  </a:lnTo>
                  <a:lnTo>
                    <a:pt x="494" y="1127"/>
                  </a:lnTo>
                  <a:lnTo>
                    <a:pt x="440" y="1200"/>
                  </a:lnTo>
                  <a:lnTo>
                    <a:pt x="386" y="1268"/>
                  </a:lnTo>
                  <a:lnTo>
                    <a:pt x="335" y="1335"/>
                  </a:lnTo>
                  <a:lnTo>
                    <a:pt x="286" y="1396"/>
                  </a:lnTo>
                  <a:lnTo>
                    <a:pt x="239" y="1452"/>
                  </a:lnTo>
                  <a:lnTo>
                    <a:pt x="194" y="1503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79" y="1618"/>
                  </a:lnTo>
                  <a:lnTo>
                    <a:pt x="48" y="1639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4427640" y="3846600"/>
              <a:ext cx="420480" cy="552240"/>
            </a:xfrm>
            <a:custGeom>
              <a:avLst/>
              <a:gdLst/>
              <a:ahLst/>
              <a:rect l="l" t="t" r="r" b="b"/>
              <a:pathLst>
                <a:path w="1327" h="1741">
                  <a:moveTo>
                    <a:pt x="1219" y="0"/>
                  </a:moveTo>
                  <a:lnTo>
                    <a:pt x="1298" y="82"/>
                  </a:lnTo>
                  <a:lnTo>
                    <a:pt x="1304" y="83"/>
                  </a:lnTo>
                  <a:lnTo>
                    <a:pt x="1289" y="72"/>
                  </a:lnTo>
                  <a:lnTo>
                    <a:pt x="1240" y="20"/>
                  </a:lnTo>
                  <a:lnTo>
                    <a:pt x="1240" y="21"/>
                  </a:lnTo>
                  <a:lnTo>
                    <a:pt x="1242" y="29"/>
                  </a:lnTo>
                  <a:lnTo>
                    <a:pt x="1244" y="40"/>
                  </a:lnTo>
                  <a:lnTo>
                    <a:pt x="1244" y="51"/>
                  </a:lnTo>
                  <a:lnTo>
                    <a:pt x="1244" y="65"/>
                  </a:lnTo>
                  <a:lnTo>
                    <a:pt x="1241" y="80"/>
                  </a:lnTo>
                  <a:lnTo>
                    <a:pt x="1238" y="97"/>
                  </a:lnTo>
                  <a:lnTo>
                    <a:pt x="1234" y="114"/>
                  </a:lnTo>
                  <a:lnTo>
                    <a:pt x="1229" y="133"/>
                  </a:lnTo>
                  <a:lnTo>
                    <a:pt x="1216" y="175"/>
                  </a:lnTo>
                  <a:lnTo>
                    <a:pt x="1199" y="222"/>
                  </a:lnTo>
                  <a:lnTo>
                    <a:pt x="1177" y="272"/>
                  </a:lnTo>
                  <a:lnTo>
                    <a:pt x="1154" y="327"/>
                  </a:lnTo>
                  <a:lnTo>
                    <a:pt x="1125" y="385"/>
                  </a:lnTo>
                  <a:lnTo>
                    <a:pt x="1094" y="446"/>
                  </a:lnTo>
                  <a:lnTo>
                    <a:pt x="1059" y="510"/>
                  </a:lnTo>
                  <a:lnTo>
                    <a:pt x="1021" y="575"/>
                  </a:lnTo>
                  <a:lnTo>
                    <a:pt x="981" y="642"/>
                  </a:lnTo>
                  <a:lnTo>
                    <a:pt x="938" y="711"/>
                  </a:lnTo>
                  <a:lnTo>
                    <a:pt x="892" y="780"/>
                  </a:lnTo>
                  <a:lnTo>
                    <a:pt x="845" y="851"/>
                  </a:lnTo>
                  <a:lnTo>
                    <a:pt x="794" y="920"/>
                  </a:lnTo>
                  <a:lnTo>
                    <a:pt x="742" y="991"/>
                  </a:lnTo>
                  <a:lnTo>
                    <a:pt x="687" y="1060"/>
                  </a:lnTo>
                  <a:lnTo>
                    <a:pt x="630" y="1128"/>
                  </a:lnTo>
                  <a:lnTo>
                    <a:pt x="602" y="1161"/>
                  </a:lnTo>
                  <a:lnTo>
                    <a:pt x="573" y="1194"/>
                  </a:lnTo>
                  <a:lnTo>
                    <a:pt x="543" y="1227"/>
                  </a:lnTo>
                  <a:lnTo>
                    <a:pt x="513" y="1259"/>
                  </a:lnTo>
                  <a:lnTo>
                    <a:pt x="483" y="1291"/>
                  </a:lnTo>
                  <a:lnTo>
                    <a:pt x="452" y="1322"/>
                  </a:lnTo>
                  <a:lnTo>
                    <a:pt x="422" y="1352"/>
                  </a:lnTo>
                  <a:lnTo>
                    <a:pt x="390" y="1381"/>
                  </a:lnTo>
                  <a:lnTo>
                    <a:pt x="359" y="1410"/>
                  </a:lnTo>
                  <a:lnTo>
                    <a:pt x="327" y="1438"/>
                  </a:lnTo>
                  <a:lnTo>
                    <a:pt x="295" y="1465"/>
                  </a:lnTo>
                  <a:lnTo>
                    <a:pt x="263" y="1491"/>
                  </a:lnTo>
                  <a:lnTo>
                    <a:pt x="230" y="1516"/>
                  </a:lnTo>
                  <a:lnTo>
                    <a:pt x="198" y="1540"/>
                  </a:lnTo>
                  <a:lnTo>
                    <a:pt x="165" y="1563"/>
                  </a:lnTo>
                  <a:lnTo>
                    <a:pt x="132" y="1584"/>
                  </a:lnTo>
                  <a:lnTo>
                    <a:pt x="99" y="1605"/>
                  </a:lnTo>
                  <a:lnTo>
                    <a:pt x="66" y="1624"/>
                  </a:lnTo>
                  <a:lnTo>
                    <a:pt x="33" y="1641"/>
                  </a:lnTo>
                  <a:lnTo>
                    <a:pt x="0" y="1659"/>
                  </a:lnTo>
                  <a:lnTo>
                    <a:pt x="82" y="1741"/>
                  </a:lnTo>
                  <a:lnTo>
                    <a:pt x="115" y="1724"/>
                  </a:lnTo>
                  <a:lnTo>
                    <a:pt x="148" y="1705"/>
                  </a:lnTo>
                  <a:lnTo>
                    <a:pt x="181" y="1687"/>
                  </a:lnTo>
                  <a:lnTo>
                    <a:pt x="214" y="1667"/>
                  </a:lnTo>
                  <a:lnTo>
                    <a:pt x="247" y="1645"/>
                  </a:lnTo>
                  <a:lnTo>
                    <a:pt x="279" y="1621"/>
                  </a:lnTo>
                  <a:lnTo>
                    <a:pt x="312" y="1597"/>
                  </a:lnTo>
                  <a:lnTo>
                    <a:pt x="344" y="1573"/>
                  </a:lnTo>
                  <a:lnTo>
                    <a:pt x="376" y="1547"/>
                  </a:lnTo>
                  <a:lnTo>
                    <a:pt x="409" y="1519"/>
                  </a:lnTo>
                  <a:lnTo>
                    <a:pt x="440" y="1492"/>
                  </a:lnTo>
                  <a:lnTo>
                    <a:pt x="472" y="1463"/>
                  </a:lnTo>
                  <a:lnTo>
                    <a:pt x="503" y="1434"/>
                  </a:lnTo>
                  <a:lnTo>
                    <a:pt x="535" y="1403"/>
                  </a:lnTo>
                  <a:lnTo>
                    <a:pt x="564" y="1372"/>
                  </a:lnTo>
                  <a:lnTo>
                    <a:pt x="595" y="1341"/>
                  </a:lnTo>
                  <a:lnTo>
                    <a:pt x="625" y="1309"/>
                  </a:lnTo>
                  <a:lnTo>
                    <a:pt x="654" y="1276"/>
                  </a:lnTo>
                  <a:lnTo>
                    <a:pt x="684" y="1243"/>
                  </a:lnTo>
                  <a:lnTo>
                    <a:pt x="712" y="1210"/>
                  </a:lnTo>
                  <a:lnTo>
                    <a:pt x="768" y="1142"/>
                  </a:lnTo>
                  <a:lnTo>
                    <a:pt x="823" y="1072"/>
                  </a:lnTo>
                  <a:lnTo>
                    <a:pt x="875" y="1003"/>
                  </a:lnTo>
                  <a:lnTo>
                    <a:pt x="927" y="932"/>
                  </a:lnTo>
                  <a:lnTo>
                    <a:pt x="975" y="862"/>
                  </a:lnTo>
                  <a:lnTo>
                    <a:pt x="1020" y="793"/>
                  </a:lnTo>
                  <a:lnTo>
                    <a:pt x="1063" y="724"/>
                  </a:lnTo>
                  <a:lnTo>
                    <a:pt x="1103" y="657"/>
                  </a:lnTo>
                  <a:lnTo>
                    <a:pt x="1141" y="591"/>
                  </a:lnTo>
                  <a:lnTo>
                    <a:pt x="1176" y="527"/>
                  </a:lnTo>
                  <a:lnTo>
                    <a:pt x="1207" y="466"/>
                  </a:lnTo>
                  <a:lnTo>
                    <a:pt x="1236" y="408"/>
                  </a:lnTo>
                  <a:lnTo>
                    <a:pt x="1260" y="353"/>
                  </a:lnTo>
                  <a:lnTo>
                    <a:pt x="1281" y="303"/>
                  </a:lnTo>
                  <a:lnTo>
                    <a:pt x="1298" y="256"/>
                  </a:lnTo>
                  <a:lnTo>
                    <a:pt x="1311" y="214"/>
                  </a:lnTo>
                  <a:lnTo>
                    <a:pt x="1317" y="195"/>
                  </a:lnTo>
                  <a:lnTo>
                    <a:pt x="1320" y="178"/>
                  </a:lnTo>
                  <a:lnTo>
                    <a:pt x="1323" y="161"/>
                  </a:lnTo>
                  <a:lnTo>
                    <a:pt x="1326" y="146"/>
                  </a:lnTo>
                  <a:lnTo>
                    <a:pt x="1327" y="132"/>
                  </a:lnTo>
                  <a:lnTo>
                    <a:pt x="1326" y="120"/>
                  </a:lnTo>
                  <a:lnTo>
                    <a:pt x="1325" y="108"/>
                  </a:lnTo>
                  <a:lnTo>
                    <a:pt x="1322" y="98"/>
                  </a:lnTo>
                  <a:lnTo>
                    <a:pt x="1315" y="85"/>
                  </a:lnTo>
                  <a:lnTo>
                    <a:pt x="1256" y="21"/>
                  </a:lnTo>
                  <a:lnTo>
                    <a:pt x="1229" y="2"/>
                  </a:lnTo>
                  <a:lnTo>
                    <a:pt x="1220" y="0"/>
                  </a:lnTo>
                  <a:lnTo>
                    <a:pt x="1299" y="82"/>
                  </a:lnTo>
                  <a:lnTo>
                    <a:pt x="1219" y="0"/>
                  </a:lnTo>
                  <a:lnTo>
                    <a:pt x="1170" y="43"/>
                  </a:lnTo>
                  <a:lnTo>
                    <a:pt x="1298" y="82"/>
                  </a:lnTo>
                  <a:lnTo>
                    <a:pt x="121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4416480" y="3846600"/>
              <a:ext cx="423720" cy="552240"/>
            </a:xfrm>
            <a:custGeom>
              <a:avLst/>
              <a:gdLst/>
              <a:ahLst/>
              <a:rect l="l" t="t" r="r" b="b"/>
              <a:pathLst>
                <a:path w="1338" h="1741">
                  <a:moveTo>
                    <a:pt x="35" y="1659"/>
                  </a:moveTo>
                  <a:lnTo>
                    <a:pt x="116" y="1741"/>
                  </a:lnTo>
                  <a:lnTo>
                    <a:pt x="126" y="1740"/>
                  </a:lnTo>
                  <a:lnTo>
                    <a:pt x="139" y="1736"/>
                  </a:lnTo>
                  <a:lnTo>
                    <a:pt x="151" y="1729"/>
                  </a:lnTo>
                  <a:lnTo>
                    <a:pt x="165" y="1721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9"/>
                  </a:lnTo>
                  <a:lnTo>
                    <a:pt x="249" y="1651"/>
                  </a:lnTo>
                  <a:lnTo>
                    <a:pt x="270" y="1630"/>
                  </a:lnTo>
                  <a:lnTo>
                    <a:pt x="290" y="1608"/>
                  </a:lnTo>
                  <a:lnTo>
                    <a:pt x="311" y="1586"/>
                  </a:lnTo>
                  <a:lnTo>
                    <a:pt x="355" y="1534"/>
                  </a:lnTo>
                  <a:lnTo>
                    <a:pt x="403" y="1478"/>
                  </a:lnTo>
                  <a:lnTo>
                    <a:pt x="452" y="1417"/>
                  </a:lnTo>
                  <a:lnTo>
                    <a:pt x="503" y="1351"/>
                  </a:lnTo>
                  <a:lnTo>
                    <a:pt x="556" y="1281"/>
                  </a:lnTo>
                  <a:lnTo>
                    <a:pt x="611" y="1209"/>
                  </a:lnTo>
                  <a:lnTo>
                    <a:pt x="664" y="1135"/>
                  </a:lnTo>
                  <a:lnTo>
                    <a:pt x="719" y="1057"/>
                  </a:lnTo>
                  <a:lnTo>
                    <a:pt x="774" y="980"/>
                  </a:lnTo>
                  <a:lnTo>
                    <a:pt x="828" y="902"/>
                  </a:lnTo>
                  <a:lnTo>
                    <a:pt x="933" y="746"/>
                  </a:lnTo>
                  <a:lnTo>
                    <a:pt x="1034" y="596"/>
                  </a:lnTo>
                  <a:lnTo>
                    <a:pt x="1124" y="456"/>
                  </a:lnTo>
                  <a:lnTo>
                    <a:pt x="1202" y="331"/>
                  </a:lnTo>
                  <a:lnTo>
                    <a:pt x="1235" y="276"/>
                  </a:lnTo>
                  <a:lnTo>
                    <a:pt x="1265" y="226"/>
                  </a:lnTo>
                  <a:lnTo>
                    <a:pt x="1290" y="182"/>
                  </a:lnTo>
                  <a:lnTo>
                    <a:pt x="1311" y="146"/>
                  </a:lnTo>
                  <a:lnTo>
                    <a:pt x="1325" y="117"/>
                  </a:lnTo>
                  <a:lnTo>
                    <a:pt x="1334" y="96"/>
                  </a:lnTo>
                  <a:lnTo>
                    <a:pt x="1337" y="89"/>
                  </a:lnTo>
                  <a:lnTo>
                    <a:pt x="1338" y="84"/>
                  </a:lnTo>
                  <a:lnTo>
                    <a:pt x="1338" y="81"/>
                  </a:lnTo>
                  <a:lnTo>
                    <a:pt x="1287" y="23"/>
                  </a:lnTo>
                  <a:lnTo>
                    <a:pt x="1256" y="0"/>
                  </a:lnTo>
                  <a:lnTo>
                    <a:pt x="1254" y="0"/>
                  </a:lnTo>
                  <a:lnTo>
                    <a:pt x="1334" y="82"/>
                  </a:lnTo>
                  <a:lnTo>
                    <a:pt x="1336" y="82"/>
                  </a:lnTo>
                  <a:lnTo>
                    <a:pt x="1306" y="60"/>
                  </a:lnTo>
                  <a:lnTo>
                    <a:pt x="1256" y="3"/>
                  </a:lnTo>
                  <a:lnTo>
                    <a:pt x="1256" y="3"/>
                  </a:lnTo>
                  <a:lnTo>
                    <a:pt x="1255" y="8"/>
                  </a:lnTo>
                  <a:lnTo>
                    <a:pt x="1252" y="15"/>
                  </a:lnTo>
                  <a:lnTo>
                    <a:pt x="1243" y="36"/>
                  </a:lnTo>
                  <a:lnTo>
                    <a:pt x="1228" y="65"/>
                  </a:lnTo>
                  <a:lnTo>
                    <a:pt x="1208" y="101"/>
                  </a:lnTo>
                  <a:lnTo>
                    <a:pt x="1183" y="145"/>
                  </a:lnTo>
                  <a:lnTo>
                    <a:pt x="1154" y="194"/>
                  </a:lnTo>
                  <a:lnTo>
                    <a:pt x="1120" y="250"/>
                  </a:lnTo>
                  <a:lnTo>
                    <a:pt x="1041" y="374"/>
                  </a:lnTo>
                  <a:lnTo>
                    <a:pt x="951" y="514"/>
                  </a:lnTo>
                  <a:lnTo>
                    <a:pt x="852" y="665"/>
                  </a:lnTo>
                  <a:lnTo>
                    <a:pt x="746" y="820"/>
                  </a:lnTo>
                  <a:lnTo>
                    <a:pt x="692" y="899"/>
                  </a:lnTo>
                  <a:lnTo>
                    <a:pt x="638" y="976"/>
                  </a:lnTo>
                  <a:lnTo>
                    <a:pt x="583" y="1053"/>
                  </a:lnTo>
                  <a:lnTo>
                    <a:pt x="528" y="1128"/>
                  </a:lnTo>
                  <a:lnTo>
                    <a:pt x="475" y="1200"/>
                  </a:lnTo>
                  <a:lnTo>
                    <a:pt x="422" y="1270"/>
                  </a:lnTo>
                  <a:lnTo>
                    <a:pt x="371" y="1335"/>
                  </a:lnTo>
                  <a:lnTo>
                    <a:pt x="321" y="1396"/>
                  </a:lnTo>
                  <a:lnTo>
                    <a:pt x="274" y="1453"/>
                  </a:lnTo>
                  <a:lnTo>
                    <a:pt x="230" y="1503"/>
                  </a:lnTo>
                  <a:lnTo>
                    <a:pt x="208" y="1526"/>
                  </a:lnTo>
                  <a:lnTo>
                    <a:pt x="188" y="1548"/>
                  </a:lnTo>
                  <a:lnTo>
                    <a:pt x="167" y="1568"/>
                  </a:lnTo>
                  <a:lnTo>
                    <a:pt x="149" y="1587"/>
                  </a:lnTo>
                  <a:lnTo>
                    <a:pt x="131" y="1603"/>
                  </a:lnTo>
                  <a:lnTo>
                    <a:pt x="115" y="1618"/>
                  </a:lnTo>
                  <a:lnTo>
                    <a:pt x="99" y="1630"/>
                  </a:lnTo>
                  <a:lnTo>
                    <a:pt x="84" y="1640"/>
                  </a:lnTo>
                  <a:lnTo>
                    <a:pt x="69" y="1648"/>
                  </a:lnTo>
                  <a:lnTo>
                    <a:pt x="57" y="1654"/>
                  </a:lnTo>
                  <a:lnTo>
                    <a:pt x="45" y="1657"/>
                  </a:lnTo>
                  <a:lnTo>
                    <a:pt x="36" y="1659"/>
                  </a:lnTo>
                  <a:lnTo>
                    <a:pt x="117" y="1741"/>
                  </a:lnTo>
                  <a:lnTo>
                    <a:pt x="35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5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4348080" y="3865680"/>
              <a:ext cx="395280" cy="527040"/>
            </a:xfrm>
            <a:custGeom>
              <a:avLst/>
              <a:gdLst/>
              <a:ahLst/>
              <a:rect l="l" t="t" r="r" b="b"/>
              <a:pathLst>
                <a:path w="1244" h="1659">
                  <a:moveTo>
                    <a:pt x="0" y="1659"/>
                  </a:moveTo>
                  <a:lnTo>
                    <a:pt x="66" y="1625"/>
                  </a:lnTo>
                  <a:lnTo>
                    <a:pt x="133" y="1585"/>
                  </a:lnTo>
                  <a:lnTo>
                    <a:pt x="199" y="1540"/>
                  </a:lnTo>
                  <a:lnTo>
                    <a:pt x="264" y="1491"/>
                  </a:lnTo>
                  <a:lnTo>
                    <a:pt x="328" y="1438"/>
                  </a:lnTo>
                  <a:lnTo>
                    <a:pt x="390" y="1382"/>
                  </a:lnTo>
                  <a:lnTo>
                    <a:pt x="453" y="1322"/>
                  </a:lnTo>
                  <a:lnTo>
                    <a:pt x="513" y="1260"/>
                  </a:lnTo>
                  <a:lnTo>
                    <a:pt x="573" y="1195"/>
                  </a:lnTo>
                  <a:lnTo>
                    <a:pt x="631" y="1129"/>
                  </a:lnTo>
                  <a:lnTo>
                    <a:pt x="688" y="1060"/>
                  </a:lnTo>
                  <a:lnTo>
                    <a:pt x="742" y="990"/>
                  </a:lnTo>
                  <a:lnTo>
                    <a:pt x="795" y="921"/>
                  </a:lnTo>
                  <a:lnTo>
                    <a:pt x="845" y="850"/>
                  </a:lnTo>
                  <a:lnTo>
                    <a:pt x="893" y="781"/>
                  </a:lnTo>
                  <a:lnTo>
                    <a:pt x="939" y="711"/>
                  </a:lnTo>
                  <a:lnTo>
                    <a:pt x="982" y="643"/>
                  </a:lnTo>
                  <a:lnTo>
                    <a:pt x="1022" y="575"/>
                  </a:lnTo>
                  <a:lnTo>
                    <a:pt x="1059" y="509"/>
                  </a:lnTo>
                  <a:lnTo>
                    <a:pt x="1095" y="446"/>
                  </a:lnTo>
                  <a:lnTo>
                    <a:pt x="1126" y="385"/>
                  </a:lnTo>
                  <a:lnTo>
                    <a:pt x="1154" y="326"/>
                  </a:lnTo>
                  <a:lnTo>
                    <a:pt x="1178" y="273"/>
                  </a:lnTo>
                  <a:lnTo>
                    <a:pt x="1200" y="222"/>
                  </a:lnTo>
                  <a:lnTo>
                    <a:pt x="1217" y="175"/>
                  </a:lnTo>
                  <a:lnTo>
                    <a:pt x="1229" y="133"/>
                  </a:lnTo>
                  <a:lnTo>
                    <a:pt x="1238" y="96"/>
                  </a:lnTo>
                  <a:lnTo>
                    <a:pt x="1244" y="64"/>
                  </a:lnTo>
                  <a:lnTo>
                    <a:pt x="1244" y="39"/>
                  </a:lnTo>
                  <a:lnTo>
                    <a:pt x="1241" y="20"/>
                  </a:lnTo>
                  <a:lnTo>
                    <a:pt x="1232" y="6"/>
                  </a:lnTo>
                  <a:lnTo>
                    <a:pt x="1219" y="0"/>
                  </a:lnTo>
                  <a:lnTo>
                    <a:pt x="1221" y="2"/>
                  </a:lnTo>
                  <a:lnTo>
                    <a:pt x="1218" y="15"/>
                  </a:lnTo>
                  <a:lnTo>
                    <a:pt x="1209" y="36"/>
                  </a:lnTo>
                  <a:lnTo>
                    <a:pt x="1194" y="64"/>
                  </a:lnTo>
                  <a:lnTo>
                    <a:pt x="1173" y="101"/>
                  </a:lnTo>
                  <a:lnTo>
                    <a:pt x="1148" y="144"/>
                  </a:lnTo>
                  <a:lnTo>
                    <a:pt x="1119" y="194"/>
                  </a:lnTo>
                  <a:lnTo>
                    <a:pt x="1086" y="249"/>
                  </a:lnTo>
                  <a:lnTo>
                    <a:pt x="1007" y="374"/>
                  </a:lnTo>
                  <a:lnTo>
                    <a:pt x="917" y="515"/>
                  </a:lnTo>
                  <a:lnTo>
                    <a:pt x="818" y="665"/>
                  </a:lnTo>
                  <a:lnTo>
                    <a:pt x="712" y="820"/>
                  </a:lnTo>
                  <a:lnTo>
                    <a:pt x="657" y="899"/>
                  </a:lnTo>
                  <a:lnTo>
                    <a:pt x="602" y="977"/>
                  </a:lnTo>
                  <a:lnTo>
                    <a:pt x="548" y="1053"/>
                  </a:lnTo>
                  <a:lnTo>
                    <a:pt x="494" y="1127"/>
                  </a:lnTo>
                  <a:lnTo>
                    <a:pt x="440" y="1200"/>
                  </a:lnTo>
                  <a:lnTo>
                    <a:pt x="387" y="1269"/>
                  </a:lnTo>
                  <a:lnTo>
                    <a:pt x="336" y="1335"/>
                  </a:lnTo>
                  <a:lnTo>
                    <a:pt x="286" y="1397"/>
                  </a:lnTo>
                  <a:lnTo>
                    <a:pt x="240" y="1453"/>
                  </a:lnTo>
                  <a:lnTo>
                    <a:pt x="194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79" y="1617"/>
                  </a:lnTo>
                  <a:lnTo>
                    <a:pt x="48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4335480" y="3852720"/>
              <a:ext cx="420840" cy="552600"/>
            </a:xfrm>
            <a:custGeom>
              <a:avLst/>
              <a:gdLst/>
              <a:ahLst/>
              <a:rect l="l" t="t" r="r" b="b"/>
              <a:pathLst>
                <a:path w="1327" h="1741">
                  <a:moveTo>
                    <a:pt x="1219" y="0"/>
                  </a:moveTo>
                  <a:lnTo>
                    <a:pt x="1299" y="82"/>
                  </a:lnTo>
                  <a:lnTo>
                    <a:pt x="1304" y="83"/>
                  </a:lnTo>
                  <a:lnTo>
                    <a:pt x="1290" y="72"/>
                  </a:lnTo>
                  <a:lnTo>
                    <a:pt x="1241" y="20"/>
                  </a:lnTo>
                  <a:lnTo>
                    <a:pt x="1241" y="22"/>
                  </a:lnTo>
                  <a:lnTo>
                    <a:pt x="1243" y="30"/>
                  </a:lnTo>
                  <a:lnTo>
                    <a:pt x="1244" y="40"/>
                  </a:lnTo>
                  <a:lnTo>
                    <a:pt x="1244" y="51"/>
                  </a:lnTo>
                  <a:lnTo>
                    <a:pt x="1244" y="65"/>
                  </a:lnTo>
                  <a:lnTo>
                    <a:pt x="1242" y="80"/>
                  </a:lnTo>
                  <a:lnTo>
                    <a:pt x="1238" y="97"/>
                  </a:lnTo>
                  <a:lnTo>
                    <a:pt x="1235" y="114"/>
                  </a:lnTo>
                  <a:lnTo>
                    <a:pt x="1229" y="134"/>
                  </a:lnTo>
                  <a:lnTo>
                    <a:pt x="1217" y="176"/>
                  </a:lnTo>
                  <a:lnTo>
                    <a:pt x="1200" y="223"/>
                  </a:lnTo>
                  <a:lnTo>
                    <a:pt x="1178" y="273"/>
                  </a:lnTo>
                  <a:lnTo>
                    <a:pt x="1154" y="328"/>
                  </a:lnTo>
                  <a:lnTo>
                    <a:pt x="1125" y="386"/>
                  </a:lnTo>
                  <a:lnTo>
                    <a:pt x="1095" y="446"/>
                  </a:lnTo>
                  <a:lnTo>
                    <a:pt x="1059" y="510"/>
                  </a:lnTo>
                  <a:lnTo>
                    <a:pt x="1023" y="575"/>
                  </a:lnTo>
                  <a:lnTo>
                    <a:pt x="982" y="642"/>
                  </a:lnTo>
                  <a:lnTo>
                    <a:pt x="939" y="711"/>
                  </a:lnTo>
                  <a:lnTo>
                    <a:pt x="893" y="780"/>
                  </a:lnTo>
                  <a:lnTo>
                    <a:pt x="845" y="851"/>
                  </a:lnTo>
                  <a:lnTo>
                    <a:pt x="795" y="921"/>
                  </a:lnTo>
                  <a:lnTo>
                    <a:pt x="742" y="992"/>
                  </a:lnTo>
                  <a:lnTo>
                    <a:pt x="688" y="1060"/>
                  </a:lnTo>
                  <a:lnTo>
                    <a:pt x="631" y="1128"/>
                  </a:lnTo>
                  <a:lnTo>
                    <a:pt x="602" y="1162"/>
                  </a:lnTo>
                  <a:lnTo>
                    <a:pt x="574" y="1195"/>
                  </a:lnTo>
                  <a:lnTo>
                    <a:pt x="544" y="1228"/>
                  </a:lnTo>
                  <a:lnTo>
                    <a:pt x="513" y="1260"/>
                  </a:lnTo>
                  <a:lnTo>
                    <a:pt x="484" y="1292"/>
                  </a:lnTo>
                  <a:lnTo>
                    <a:pt x="453" y="1322"/>
                  </a:lnTo>
                  <a:lnTo>
                    <a:pt x="422" y="1352"/>
                  </a:lnTo>
                  <a:lnTo>
                    <a:pt x="390" y="1382"/>
                  </a:lnTo>
                  <a:lnTo>
                    <a:pt x="359" y="1410"/>
                  </a:lnTo>
                  <a:lnTo>
                    <a:pt x="327" y="1438"/>
                  </a:lnTo>
                  <a:lnTo>
                    <a:pt x="296" y="1465"/>
                  </a:lnTo>
                  <a:lnTo>
                    <a:pt x="264" y="1491"/>
                  </a:lnTo>
                  <a:lnTo>
                    <a:pt x="231" y="1516"/>
                  </a:lnTo>
                  <a:lnTo>
                    <a:pt x="199" y="1540"/>
                  </a:lnTo>
                  <a:lnTo>
                    <a:pt x="166" y="1563"/>
                  </a:lnTo>
                  <a:lnTo>
                    <a:pt x="133" y="1585"/>
                  </a:lnTo>
                  <a:lnTo>
                    <a:pt x="101" y="1605"/>
                  </a:lnTo>
                  <a:lnTo>
                    <a:pt x="68" y="1625"/>
                  </a:lnTo>
                  <a:lnTo>
                    <a:pt x="33" y="1642"/>
                  </a:lnTo>
                  <a:lnTo>
                    <a:pt x="0" y="1659"/>
                  </a:lnTo>
                  <a:lnTo>
                    <a:pt x="82" y="1741"/>
                  </a:lnTo>
                  <a:lnTo>
                    <a:pt x="115" y="1724"/>
                  </a:lnTo>
                  <a:lnTo>
                    <a:pt x="149" y="1706"/>
                  </a:lnTo>
                  <a:lnTo>
                    <a:pt x="182" y="1687"/>
                  </a:lnTo>
                  <a:lnTo>
                    <a:pt x="215" y="1666"/>
                  </a:lnTo>
                  <a:lnTo>
                    <a:pt x="248" y="1644"/>
                  </a:lnTo>
                  <a:lnTo>
                    <a:pt x="280" y="1621"/>
                  </a:lnTo>
                  <a:lnTo>
                    <a:pt x="313" y="1597"/>
                  </a:lnTo>
                  <a:lnTo>
                    <a:pt x="345" y="1572"/>
                  </a:lnTo>
                  <a:lnTo>
                    <a:pt x="378" y="1547"/>
                  </a:lnTo>
                  <a:lnTo>
                    <a:pt x="410" y="1520"/>
                  </a:lnTo>
                  <a:lnTo>
                    <a:pt x="440" y="1492"/>
                  </a:lnTo>
                  <a:lnTo>
                    <a:pt x="472" y="1464"/>
                  </a:lnTo>
                  <a:lnTo>
                    <a:pt x="503" y="1434"/>
                  </a:lnTo>
                  <a:lnTo>
                    <a:pt x="535" y="1403"/>
                  </a:lnTo>
                  <a:lnTo>
                    <a:pt x="566" y="1373"/>
                  </a:lnTo>
                  <a:lnTo>
                    <a:pt x="595" y="1342"/>
                  </a:lnTo>
                  <a:lnTo>
                    <a:pt x="625" y="1310"/>
                  </a:lnTo>
                  <a:lnTo>
                    <a:pt x="655" y="1277"/>
                  </a:lnTo>
                  <a:lnTo>
                    <a:pt x="684" y="1244"/>
                  </a:lnTo>
                  <a:lnTo>
                    <a:pt x="713" y="1209"/>
                  </a:lnTo>
                  <a:lnTo>
                    <a:pt x="770" y="1142"/>
                  </a:lnTo>
                  <a:lnTo>
                    <a:pt x="823" y="1073"/>
                  </a:lnTo>
                  <a:lnTo>
                    <a:pt x="876" y="1003"/>
                  </a:lnTo>
                  <a:lnTo>
                    <a:pt x="927" y="932"/>
                  </a:lnTo>
                  <a:lnTo>
                    <a:pt x="975" y="863"/>
                  </a:lnTo>
                  <a:lnTo>
                    <a:pt x="1021" y="793"/>
                  </a:lnTo>
                  <a:lnTo>
                    <a:pt x="1064" y="723"/>
                  </a:lnTo>
                  <a:lnTo>
                    <a:pt x="1104" y="656"/>
                  </a:lnTo>
                  <a:lnTo>
                    <a:pt x="1141" y="591"/>
                  </a:lnTo>
                  <a:lnTo>
                    <a:pt x="1177" y="527"/>
                  </a:lnTo>
                  <a:lnTo>
                    <a:pt x="1208" y="467"/>
                  </a:lnTo>
                  <a:lnTo>
                    <a:pt x="1236" y="409"/>
                  </a:lnTo>
                  <a:lnTo>
                    <a:pt x="1260" y="354"/>
                  </a:lnTo>
                  <a:lnTo>
                    <a:pt x="1282" y="304"/>
                  </a:lnTo>
                  <a:lnTo>
                    <a:pt x="1299" y="257"/>
                  </a:lnTo>
                  <a:lnTo>
                    <a:pt x="1311" y="215"/>
                  </a:lnTo>
                  <a:lnTo>
                    <a:pt x="1317" y="195"/>
                  </a:lnTo>
                  <a:lnTo>
                    <a:pt x="1320" y="177"/>
                  </a:lnTo>
                  <a:lnTo>
                    <a:pt x="1324" y="161"/>
                  </a:lnTo>
                  <a:lnTo>
                    <a:pt x="1326" y="145"/>
                  </a:lnTo>
                  <a:lnTo>
                    <a:pt x="1327" y="131"/>
                  </a:lnTo>
                  <a:lnTo>
                    <a:pt x="1326" y="120"/>
                  </a:lnTo>
                  <a:lnTo>
                    <a:pt x="1325" y="109"/>
                  </a:lnTo>
                  <a:lnTo>
                    <a:pt x="1323" y="98"/>
                  </a:lnTo>
                  <a:lnTo>
                    <a:pt x="1316" y="86"/>
                  </a:lnTo>
                  <a:lnTo>
                    <a:pt x="1257" y="22"/>
                  </a:lnTo>
                  <a:lnTo>
                    <a:pt x="1229" y="2"/>
                  </a:lnTo>
                  <a:lnTo>
                    <a:pt x="1220" y="0"/>
                  </a:lnTo>
                  <a:lnTo>
                    <a:pt x="1300" y="82"/>
                  </a:lnTo>
                  <a:lnTo>
                    <a:pt x="1219" y="0"/>
                  </a:lnTo>
                  <a:lnTo>
                    <a:pt x="1170" y="43"/>
                  </a:lnTo>
                  <a:lnTo>
                    <a:pt x="1299" y="82"/>
                  </a:lnTo>
                  <a:lnTo>
                    <a:pt x="121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4324320" y="3852720"/>
              <a:ext cx="423720" cy="552600"/>
            </a:xfrm>
            <a:custGeom>
              <a:avLst/>
              <a:gdLst/>
              <a:ahLst/>
              <a:rect l="l" t="t" r="r" b="b"/>
              <a:pathLst>
                <a:path w="1338" h="1741">
                  <a:moveTo>
                    <a:pt x="35" y="1659"/>
                  </a:moveTo>
                  <a:lnTo>
                    <a:pt x="116" y="1741"/>
                  </a:lnTo>
                  <a:lnTo>
                    <a:pt x="127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8"/>
                  </a:lnTo>
                  <a:lnTo>
                    <a:pt x="250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1" y="1586"/>
                  </a:lnTo>
                  <a:lnTo>
                    <a:pt x="356" y="1535"/>
                  </a:lnTo>
                  <a:lnTo>
                    <a:pt x="404" y="1478"/>
                  </a:lnTo>
                  <a:lnTo>
                    <a:pt x="453" y="1417"/>
                  </a:lnTo>
                  <a:lnTo>
                    <a:pt x="504" y="1351"/>
                  </a:lnTo>
                  <a:lnTo>
                    <a:pt x="556" y="1281"/>
                  </a:lnTo>
                  <a:lnTo>
                    <a:pt x="611" y="1209"/>
                  </a:lnTo>
                  <a:lnTo>
                    <a:pt x="665" y="1135"/>
                  </a:lnTo>
                  <a:lnTo>
                    <a:pt x="719" y="1058"/>
                  </a:lnTo>
                  <a:lnTo>
                    <a:pt x="774" y="980"/>
                  </a:lnTo>
                  <a:lnTo>
                    <a:pt x="829" y="903"/>
                  </a:lnTo>
                  <a:lnTo>
                    <a:pt x="935" y="746"/>
                  </a:lnTo>
                  <a:lnTo>
                    <a:pt x="1034" y="596"/>
                  </a:lnTo>
                  <a:lnTo>
                    <a:pt x="1124" y="456"/>
                  </a:lnTo>
                  <a:lnTo>
                    <a:pt x="1203" y="331"/>
                  </a:lnTo>
                  <a:lnTo>
                    <a:pt x="1236" y="275"/>
                  </a:lnTo>
                  <a:lnTo>
                    <a:pt x="1265" y="226"/>
                  </a:lnTo>
                  <a:lnTo>
                    <a:pt x="1290" y="183"/>
                  </a:lnTo>
                  <a:lnTo>
                    <a:pt x="1311" y="146"/>
                  </a:lnTo>
                  <a:lnTo>
                    <a:pt x="1326" y="118"/>
                  </a:lnTo>
                  <a:lnTo>
                    <a:pt x="1335" y="96"/>
                  </a:lnTo>
                  <a:lnTo>
                    <a:pt x="1338" y="89"/>
                  </a:lnTo>
                  <a:lnTo>
                    <a:pt x="1338" y="85"/>
                  </a:lnTo>
                  <a:lnTo>
                    <a:pt x="1338" y="81"/>
                  </a:lnTo>
                  <a:lnTo>
                    <a:pt x="1287" y="23"/>
                  </a:lnTo>
                  <a:lnTo>
                    <a:pt x="1256" y="0"/>
                  </a:lnTo>
                  <a:lnTo>
                    <a:pt x="1254" y="0"/>
                  </a:lnTo>
                  <a:lnTo>
                    <a:pt x="1335" y="82"/>
                  </a:lnTo>
                  <a:lnTo>
                    <a:pt x="1336" y="82"/>
                  </a:lnTo>
                  <a:lnTo>
                    <a:pt x="1306" y="61"/>
                  </a:lnTo>
                  <a:lnTo>
                    <a:pt x="1256" y="4"/>
                  </a:lnTo>
                  <a:lnTo>
                    <a:pt x="1256" y="4"/>
                  </a:lnTo>
                  <a:lnTo>
                    <a:pt x="1255" y="8"/>
                  </a:lnTo>
                  <a:lnTo>
                    <a:pt x="1253" y="15"/>
                  </a:lnTo>
                  <a:lnTo>
                    <a:pt x="1244" y="35"/>
                  </a:lnTo>
                  <a:lnTo>
                    <a:pt x="1229" y="65"/>
                  </a:lnTo>
                  <a:lnTo>
                    <a:pt x="1208" y="102"/>
                  </a:lnTo>
                  <a:lnTo>
                    <a:pt x="1184" y="145"/>
                  </a:lnTo>
                  <a:lnTo>
                    <a:pt x="1155" y="194"/>
                  </a:lnTo>
                  <a:lnTo>
                    <a:pt x="1121" y="250"/>
                  </a:lnTo>
                  <a:lnTo>
                    <a:pt x="1042" y="374"/>
                  </a:lnTo>
                  <a:lnTo>
                    <a:pt x="952" y="515"/>
                  </a:lnTo>
                  <a:lnTo>
                    <a:pt x="853" y="665"/>
                  </a:lnTo>
                  <a:lnTo>
                    <a:pt x="747" y="820"/>
                  </a:lnTo>
                  <a:lnTo>
                    <a:pt x="693" y="899"/>
                  </a:lnTo>
                  <a:lnTo>
                    <a:pt x="638" y="977"/>
                  </a:lnTo>
                  <a:lnTo>
                    <a:pt x="584" y="1053"/>
                  </a:lnTo>
                  <a:lnTo>
                    <a:pt x="529" y="1128"/>
                  </a:lnTo>
                  <a:lnTo>
                    <a:pt x="475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1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1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0" y="1649"/>
                  </a:lnTo>
                  <a:lnTo>
                    <a:pt x="57" y="1654"/>
                  </a:lnTo>
                  <a:lnTo>
                    <a:pt x="46" y="1658"/>
                  </a:lnTo>
                  <a:lnTo>
                    <a:pt x="36" y="1659"/>
                  </a:lnTo>
                  <a:lnTo>
                    <a:pt x="117" y="1741"/>
                  </a:lnTo>
                  <a:lnTo>
                    <a:pt x="35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5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4262400" y="3865680"/>
              <a:ext cx="395280" cy="527040"/>
            </a:xfrm>
            <a:custGeom>
              <a:avLst/>
              <a:gdLst/>
              <a:ahLst/>
              <a:rect l="l" t="t" r="r" b="b"/>
              <a:pathLst>
                <a:path w="1244" h="1659">
                  <a:moveTo>
                    <a:pt x="0" y="1659"/>
                  </a:moveTo>
                  <a:lnTo>
                    <a:pt x="67" y="1625"/>
                  </a:lnTo>
                  <a:lnTo>
                    <a:pt x="134" y="1585"/>
                  </a:lnTo>
                  <a:lnTo>
                    <a:pt x="199" y="1540"/>
                  </a:lnTo>
                  <a:lnTo>
                    <a:pt x="264" y="1491"/>
                  </a:lnTo>
                  <a:lnTo>
                    <a:pt x="329" y="1438"/>
                  </a:lnTo>
                  <a:lnTo>
                    <a:pt x="391" y="1382"/>
                  </a:lnTo>
                  <a:lnTo>
                    <a:pt x="454" y="1322"/>
                  </a:lnTo>
                  <a:lnTo>
                    <a:pt x="515" y="1260"/>
                  </a:lnTo>
                  <a:lnTo>
                    <a:pt x="574" y="1195"/>
                  </a:lnTo>
                  <a:lnTo>
                    <a:pt x="632" y="1129"/>
                  </a:lnTo>
                  <a:lnTo>
                    <a:pt x="689" y="1060"/>
                  </a:lnTo>
                  <a:lnTo>
                    <a:pt x="744" y="990"/>
                  </a:lnTo>
                  <a:lnTo>
                    <a:pt x="796" y="921"/>
                  </a:lnTo>
                  <a:lnTo>
                    <a:pt x="846" y="850"/>
                  </a:lnTo>
                  <a:lnTo>
                    <a:pt x="894" y="781"/>
                  </a:lnTo>
                  <a:lnTo>
                    <a:pt x="940" y="711"/>
                  </a:lnTo>
                  <a:lnTo>
                    <a:pt x="983" y="643"/>
                  </a:lnTo>
                  <a:lnTo>
                    <a:pt x="1023" y="575"/>
                  </a:lnTo>
                  <a:lnTo>
                    <a:pt x="1061" y="509"/>
                  </a:lnTo>
                  <a:lnTo>
                    <a:pt x="1095" y="446"/>
                  </a:lnTo>
                  <a:lnTo>
                    <a:pt x="1127" y="385"/>
                  </a:lnTo>
                  <a:lnTo>
                    <a:pt x="1154" y="326"/>
                  </a:lnTo>
                  <a:lnTo>
                    <a:pt x="1179" y="273"/>
                  </a:lnTo>
                  <a:lnTo>
                    <a:pt x="1200" y="222"/>
                  </a:lnTo>
                  <a:lnTo>
                    <a:pt x="1217" y="175"/>
                  </a:lnTo>
                  <a:lnTo>
                    <a:pt x="1231" y="133"/>
                  </a:lnTo>
                  <a:lnTo>
                    <a:pt x="1240" y="96"/>
                  </a:lnTo>
                  <a:lnTo>
                    <a:pt x="1244" y="64"/>
                  </a:lnTo>
                  <a:lnTo>
                    <a:pt x="1244" y="39"/>
                  </a:lnTo>
                  <a:lnTo>
                    <a:pt x="1241" y="20"/>
                  </a:lnTo>
                  <a:lnTo>
                    <a:pt x="1232" y="6"/>
                  </a:lnTo>
                  <a:lnTo>
                    <a:pt x="1219" y="0"/>
                  </a:lnTo>
                  <a:lnTo>
                    <a:pt x="1221" y="2"/>
                  </a:lnTo>
                  <a:lnTo>
                    <a:pt x="1218" y="15"/>
                  </a:lnTo>
                  <a:lnTo>
                    <a:pt x="1209" y="36"/>
                  </a:lnTo>
                  <a:lnTo>
                    <a:pt x="1194" y="64"/>
                  </a:lnTo>
                  <a:lnTo>
                    <a:pt x="1174" y="101"/>
                  </a:lnTo>
                  <a:lnTo>
                    <a:pt x="1150" y="144"/>
                  </a:lnTo>
                  <a:lnTo>
                    <a:pt x="1120" y="194"/>
                  </a:lnTo>
                  <a:lnTo>
                    <a:pt x="1086" y="249"/>
                  </a:lnTo>
                  <a:lnTo>
                    <a:pt x="1007" y="374"/>
                  </a:lnTo>
                  <a:lnTo>
                    <a:pt x="917" y="515"/>
                  </a:lnTo>
                  <a:lnTo>
                    <a:pt x="818" y="665"/>
                  </a:lnTo>
                  <a:lnTo>
                    <a:pt x="712" y="820"/>
                  </a:lnTo>
                  <a:lnTo>
                    <a:pt x="658" y="899"/>
                  </a:lnTo>
                  <a:lnTo>
                    <a:pt x="604" y="977"/>
                  </a:lnTo>
                  <a:lnTo>
                    <a:pt x="549" y="1053"/>
                  </a:lnTo>
                  <a:lnTo>
                    <a:pt x="494" y="1127"/>
                  </a:lnTo>
                  <a:lnTo>
                    <a:pt x="440" y="1200"/>
                  </a:lnTo>
                  <a:lnTo>
                    <a:pt x="388" y="1269"/>
                  </a:lnTo>
                  <a:lnTo>
                    <a:pt x="337" y="1335"/>
                  </a:lnTo>
                  <a:lnTo>
                    <a:pt x="287" y="1397"/>
                  </a:lnTo>
                  <a:lnTo>
                    <a:pt x="240" y="1453"/>
                  </a:lnTo>
                  <a:lnTo>
                    <a:pt x="195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79" y="1617"/>
                  </a:lnTo>
                  <a:lnTo>
                    <a:pt x="48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4249800" y="3852720"/>
              <a:ext cx="420480" cy="552600"/>
            </a:xfrm>
            <a:custGeom>
              <a:avLst/>
              <a:gdLst/>
              <a:ahLst/>
              <a:rect l="l" t="t" r="r" b="b"/>
              <a:pathLst>
                <a:path w="1325" h="1741">
                  <a:moveTo>
                    <a:pt x="1217" y="0"/>
                  </a:moveTo>
                  <a:lnTo>
                    <a:pt x="1297" y="82"/>
                  </a:lnTo>
                  <a:lnTo>
                    <a:pt x="1303" y="83"/>
                  </a:lnTo>
                  <a:lnTo>
                    <a:pt x="1288" y="73"/>
                  </a:lnTo>
                  <a:lnTo>
                    <a:pt x="1239" y="20"/>
                  </a:lnTo>
                  <a:lnTo>
                    <a:pt x="1239" y="22"/>
                  </a:lnTo>
                  <a:lnTo>
                    <a:pt x="1241" y="30"/>
                  </a:lnTo>
                  <a:lnTo>
                    <a:pt x="1242" y="40"/>
                  </a:lnTo>
                  <a:lnTo>
                    <a:pt x="1243" y="51"/>
                  </a:lnTo>
                  <a:lnTo>
                    <a:pt x="1242" y="65"/>
                  </a:lnTo>
                  <a:lnTo>
                    <a:pt x="1240" y="80"/>
                  </a:lnTo>
                  <a:lnTo>
                    <a:pt x="1236" y="97"/>
                  </a:lnTo>
                  <a:lnTo>
                    <a:pt x="1233" y="114"/>
                  </a:lnTo>
                  <a:lnTo>
                    <a:pt x="1228" y="134"/>
                  </a:lnTo>
                  <a:lnTo>
                    <a:pt x="1215" y="176"/>
                  </a:lnTo>
                  <a:lnTo>
                    <a:pt x="1198" y="223"/>
                  </a:lnTo>
                  <a:lnTo>
                    <a:pt x="1177" y="273"/>
                  </a:lnTo>
                  <a:lnTo>
                    <a:pt x="1152" y="328"/>
                  </a:lnTo>
                  <a:lnTo>
                    <a:pt x="1125" y="386"/>
                  </a:lnTo>
                  <a:lnTo>
                    <a:pt x="1093" y="446"/>
                  </a:lnTo>
                  <a:lnTo>
                    <a:pt x="1059" y="510"/>
                  </a:lnTo>
                  <a:lnTo>
                    <a:pt x="1021" y="575"/>
                  </a:lnTo>
                  <a:lnTo>
                    <a:pt x="981" y="642"/>
                  </a:lnTo>
                  <a:lnTo>
                    <a:pt x="938" y="711"/>
                  </a:lnTo>
                  <a:lnTo>
                    <a:pt x="892" y="780"/>
                  </a:lnTo>
                  <a:lnTo>
                    <a:pt x="844" y="851"/>
                  </a:lnTo>
                  <a:lnTo>
                    <a:pt x="794" y="921"/>
                  </a:lnTo>
                  <a:lnTo>
                    <a:pt x="742" y="992"/>
                  </a:lnTo>
                  <a:lnTo>
                    <a:pt x="687" y="1060"/>
                  </a:lnTo>
                  <a:lnTo>
                    <a:pt x="631" y="1128"/>
                  </a:lnTo>
                  <a:lnTo>
                    <a:pt x="601" y="1162"/>
                  </a:lnTo>
                  <a:lnTo>
                    <a:pt x="573" y="1195"/>
                  </a:lnTo>
                  <a:lnTo>
                    <a:pt x="543" y="1228"/>
                  </a:lnTo>
                  <a:lnTo>
                    <a:pt x="513" y="1260"/>
                  </a:lnTo>
                  <a:lnTo>
                    <a:pt x="483" y="1292"/>
                  </a:lnTo>
                  <a:lnTo>
                    <a:pt x="452" y="1322"/>
                  </a:lnTo>
                  <a:lnTo>
                    <a:pt x="421" y="1352"/>
                  </a:lnTo>
                  <a:lnTo>
                    <a:pt x="389" y="1382"/>
                  </a:lnTo>
                  <a:lnTo>
                    <a:pt x="359" y="1410"/>
                  </a:lnTo>
                  <a:lnTo>
                    <a:pt x="327" y="1438"/>
                  </a:lnTo>
                  <a:lnTo>
                    <a:pt x="295" y="1465"/>
                  </a:lnTo>
                  <a:lnTo>
                    <a:pt x="263" y="1491"/>
                  </a:lnTo>
                  <a:lnTo>
                    <a:pt x="230" y="1516"/>
                  </a:lnTo>
                  <a:lnTo>
                    <a:pt x="198" y="1540"/>
                  </a:lnTo>
                  <a:lnTo>
                    <a:pt x="165" y="1563"/>
                  </a:lnTo>
                  <a:lnTo>
                    <a:pt x="132" y="1585"/>
                  </a:lnTo>
                  <a:lnTo>
                    <a:pt x="99" y="1605"/>
                  </a:lnTo>
                  <a:lnTo>
                    <a:pt x="66" y="1625"/>
                  </a:lnTo>
                  <a:lnTo>
                    <a:pt x="33" y="1642"/>
                  </a:lnTo>
                  <a:lnTo>
                    <a:pt x="0" y="1659"/>
                  </a:lnTo>
                  <a:lnTo>
                    <a:pt x="80" y="1741"/>
                  </a:lnTo>
                  <a:lnTo>
                    <a:pt x="114" y="1724"/>
                  </a:lnTo>
                  <a:lnTo>
                    <a:pt x="147" y="1706"/>
                  </a:lnTo>
                  <a:lnTo>
                    <a:pt x="180" y="1687"/>
                  </a:lnTo>
                  <a:lnTo>
                    <a:pt x="213" y="1666"/>
                  </a:lnTo>
                  <a:lnTo>
                    <a:pt x="246" y="1644"/>
                  </a:lnTo>
                  <a:lnTo>
                    <a:pt x="279" y="1621"/>
                  </a:lnTo>
                  <a:lnTo>
                    <a:pt x="312" y="1597"/>
                  </a:lnTo>
                  <a:lnTo>
                    <a:pt x="344" y="1572"/>
                  </a:lnTo>
                  <a:lnTo>
                    <a:pt x="376" y="1547"/>
                  </a:lnTo>
                  <a:lnTo>
                    <a:pt x="408" y="1520"/>
                  </a:lnTo>
                  <a:lnTo>
                    <a:pt x="440" y="1492"/>
                  </a:lnTo>
                  <a:lnTo>
                    <a:pt x="472" y="1464"/>
                  </a:lnTo>
                  <a:lnTo>
                    <a:pt x="502" y="1434"/>
                  </a:lnTo>
                  <a:lnTo>
                    <a:pt x="534" y="1403"/>
                  </a:lnTo>
                  <a:lnTo>
                    <a:pt x="564" y="1373"/>
                  </a:lnTo>
                  <a:lnTo>
                    <a:pt x="595" y="1342"/>
                  </a:lnTo>
                  <a:lnTo>
                    <a:pt x="624" y="1310"/>
                  </a:lnTo>
                  <a:lnTo>
                    <a:pt x="654" y="1277"/>
                  </a:lnTo>
                  <a:lnTo>
                    <a:pt x="684" y="1244"/>
                  </a:lnTo>
                  <a:lnTo>
                    <a:pt x="712" y="1209"/>
                  </a:lnTo>
                  <a:lnTo>
                    <a:pt x="769" y="1142"/>
                  </a:lnTo>
                  <a:lnTo>
                    <a:pt x="823" y="1073"/>
                  </a:lnTo>
                  <a:lnTo>
                    <a:pt x="875" y="1003"/>
                  </a:lnTo>
                  <a:lnTo>
                    <a:pt x="926" y="932"/>
                  </a:lnTo>
                  <a:lnTo>
                    <a:pt x="974" y="863"/>
                  </a:lnTo>
                  <a:lnTo>
                    <a:pt x="1020" y="793"/>
                  </a:lnTo>
                  <a:lnTo>
                    <a:pt x="1063" y="723"/>
                  </a:lnTo>
                  <a:lnTo>
                    <a:pt x="1103" y="656"/>
                  </a:lnTo>
                  <a:lnTo>
                    <a:pt x="1141" y="591"/>
                  </a:lnTo>
                  <a:lnTo>
                    <a:pt x="1175" y="527"/>
                  </a:lnTo>
                  <a:lnTo>
                    <a:pt x="1207" y="467"/>
                  </a:lnTo>
                  <a:lnTo>
                    <a:pt x="1234" y="409"/>
                  </a:lnTo>
                  <a:lnTo>
                    <a:pt x="1259" y="354"/>
                  </a:lnTo>
                  <a:lnTo>
                    <a:pt x="1280" y="304"/>
                  </a:lnTo>
                  <a:lnTo>
                    <a:pt x="1297" y="257"/>
                  </a:lnTo>
                  <a:lnTo>
                    <a:pt x="1311" y="215"/>
                  </a:lnTo>
                  <a:lnTo>
                    <a:pt x="1315" y="195"/>
                  </a:lnTo>
                  <a:lnTo>
                    <a:pt x="1320" y="177"/>
                  </a:lnTo>
                  <a:lnTo>
                    <a:pt x="1322" y="161"/>
                  </a:lnTo>
                  <a:lnTo>
                    <a:pt x="1324" y="145"/>
                  </a:lnTo>
                  <a:lnTo>
                    <a:pt x="1325" y="131"/>
                  </a:lnTo>
                  <a:lnTo>
                    <a:pt x="1325" y="120"/>
                  </a:lnTo>
                  <a:lnTo>
                    <a:pt x="1323" y="109"/>
                  </a:lnTo>
                  <a:lnTo>
                    <a:pt x="1321" y="98"/>
                  </a:lnTo>
                  <a:lnTo>
                    <a:pt x="1314" y="86"/>
                  </a:lnTo>
                  <a:lnTo>
                    <a:pt x="1255" y="22"/>
                  </a:lnTo>
                  <a:lnTo>
                    <a:pt x="1227" y="2"/>
                  </a:lnTo>
                  <a:lnTo>
                    <a:pt x="1218" y="0"/>
                  </a:lnTo>
                  <a:lnTo>
                    <a:pt x="1298" y="82"/>
                  </a:lnTo>
                  <a:lnTo>
                    <a:pt x="1217" y="0"/>
                  </a:lnTo>
                  <a:lnTo>
                    <a:pt x="1168" y="43"/>
                  </a:lnTo>
                  <a:lnTo>
                    <a:pt x="1297" y="82"/>
                  </a:lnTo>
                  <a:lnTo>
                    <a:pt x="121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4238640" y="3852720"/>
              <a:ext cx="425520" cy="552600"/>
            </a:xfrm>
            <a:custGeom>
              <a:avLst/>
              <a:gdLst/>
              <a:ahLst/>
              <a:rect l="l" t="t" r="r" b="b"/>
              <a:pathLst>
                <a:path w="1338" h="1741">
                  <a:moveTo>
                    <a:pt x="37" y="1659"/>
                  </a:moveTo>
                  <a:lnTo>
                    <a:pt x="116" y="1741"/>
                  </a:lnTo>
                  <a:lnTo>
                    <a:pt x="127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8"/>
                  </a:lnTo>
                  <a:lnTo>
                    <a:pt x="250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1" y="1586"/>
                  </a:lnTo>
                  <a:lnTo>
                    <a:pt x="357" y="1535"/>
                  </a:lnTo>
                  <a:lnTo>
                    <a:pt x="404" y="1478"/>
                  </a:lnTo>
                  <a:lnTo>
                    <a:pt x="453" y="1417"/>
                  </a:lnTo>
                  <a:lnTo>
                    <a:pt x="504" y="1351"/>
                  </a:lnTo>
                  <a:lnTo>
                    <a:pt x="558" y="1281"/>
                  </a:lnTo>
                  <a:lnTo>
                    <a:pt x="611" y="1209"/>
                  </a:lnTo>
                  <a:lnTo>
                    <a:pt x="665" y="1135"/>
                  </a:lnTo>
                  <a:lnTo>
                    <a:pt x="719" y="1058"/>
                  </a:lnTo>
                  <a:lnTo>
                    <a:pt x="774" y="980"/>
                  </a:lnTo>
                  <a:lnTo>
                    <a:pt x="829" y="903"/>
                  </a:lnTo>
                  <a:lnTo>
                    <a:pt x="935" y="746"/>
                  </a:lnTo>
                  <a:lnTo>
                    <a:pt x="1034" y="596"/>
                  </a:lnTo>
                  <a:lnTo>
                    <a:pt x="1124" y="456"/>
                  </a:lnTo>
                  <a:lnTo>
                    <a:pt x="1203" y="331"/>
                  </a:lnTo>
                  <a:lnTo>
                    <a:pt x="1236" y="275"/>
                  </a:lnTo>
                  <a:lnTo>
                    <a:pt x="1265" y="226"/>
                  </a:lnTo>
                  <a:lnTo>
                    <a:pt x="1291" y="183"/>
                  </a:lnTo>
                  <a:lnTo>
                    <a:pt x="1311" y="146"/>
                  </a:lnTo>
                  <a:lnTo>
                    <a:pt x="1326" y="118"/>
                  </a:lnTo>
                  <a:lnTo>
                    <a:pt x="1335" y="96"/>
                  </a:lnTo>
                  <a:lnTo>
                    <a:pt x="1338" y="89"/>
                  </a:lnTo>
                  <a:lnTo>
                    <a:pt x="1338" y="85"/>
                  </a:lnTo>
                  <a:lnTo>
                    <a:pt x="1338" y="81"/>
                  </a:lnTo>
                  <a:lnTo>
                    <a:pt x="1287" y="23"/>
                  </a:lnTo>
                  <a:lnTo>
                    <a:pt x="1256" y="0"/>
                  </a:lnTo>
                  <a:lnTo>
                    <a:pt x="1254" y="0"/>
                  </a:lnTo>
                  <a:lnTo>
                    <a:pt x="1335" y="82"/>
                  </a:lnTo>
                  <a:lnTo>
                    <a:pt x="1336" y="82"/>
                  </a:lnTo>
                  <a:lnTo>
                    <a:pt x="1307" y="61"/>
                  </a:lnTo>
                  <a:lnTo>
                    <a:pt x="1256" y="4"/>
                  </a:lnTo>
                  <a:lnTo>
                    <a:pt x="1256" y="4"/>
                  </a:lnTo>
                  <a:lnTo>
                    <a:pt x="1256" y="8"/>
                  </a:lnTo>
                  <a:lnTo>
                    <a:pt x="1254" y="15"/>
                  </a:lnTo>
                  <a:lnTo>
                    <a:pt x="1244" y="35"/>
                  </a:lnTo>
                  <a:lnTo>
                    <a:pt x="1229" y="65"/>
                  </a:lnTo>
                  <a:lnTo>
                    <a:pt x="1210" y="102"/>
                  </a:lnTo>
                  <a:lnTo>
                    <a:pt x="1185" y="145"/>
                  </a:lnTo>
                  <a:lnTo>
                    <a:pt x="1155" y="194"/>
                  </a:lnTo>
                  <a:lnTo>
                    <a:pt x="1121" y="250"/>
                  </a:lnTo>
                  <a:lnTo>
                    <a:pt x="1042" y="374"/>
                  </a:lnTo>
                  <a:lnTo>
                    <a:pt x="952" y="515"/>
                  </a:lnTo>
                  <a:lnTo>
                    <a:pt x="853" y="665"/>
                  </a:lnTo>
                  <a:lnTo>
                    <a:pt x="747" y="820"/>
                  </a:lnTo>
                  <a:lnTo>
                    <a:pt x="693" y="899"/>
                  </a:lnTo>
                  <a:lnTo>
                    <a:pt x="638" y="977"/>
                  </a:lnTo>
                  <a:lnTo>
                    <a:pt x="584" y="1053"/>
                  </a:lnTo>
                  <a:lnTo>
                    <a:pt x="529" y="1128"/>
                  </a:lnTo>
                  <a:lnTo>
                    <a:pt x="475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2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2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1" y="1649"/>
                  </a:lnTo>
                  <a:lnTo>
                    <a:pt x="58" y="1654"/>
                  </a:lnTo>
                  <a:lnTo>
                    <a:pt x="47" y="1658"/>
                  </a:lnTo>
                  <a:lnTo>
                    <a:pt x="37" y="1659"/>
                  </a:lnTo>
                  <a:lnTo>
                    <a:pt x="117" y="1741"/>
                  </a:lnTo>
                  <a:lnTo>
                    <a:pt x="37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7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4176720" y="3865680"/>
              <a:ext cx="395280" cy="527040"/>
            </a:xfrm>
            <a:custGeom>
              <a:avLst/>
              <a:gdLst/>
              <a:ahLst/>
              <a:rect l="l" t="t" r="r" b="b"/>
              <a:pathLst>
                <a:path w="1244" h="1659">
                  <a:moveTo>
                    <a:pt x="0" y="1659"/>
                  </a:moveTo>
                  <a:lnTo>
                    <a:pt x="66" y="1625"/>
                  </a:lnTo>
                  <a:lnTo>
                    <a:pt x="134" y="1585"/>
                  </a:lnTo>
                  <a:lnTo>
                    <a:pt x="199" y="1540"/>
                  </a:lnTo>
                  <a:lnTo>
                    <a:pt x="264" y="1491"/>
                  </a:lnTo>
                  <a:lnTo>
                    <a:pt x="329" y="1438"/>
                  </a:lnTo>
                  <a:lnTo>
                    <a:pt x="391" y="1382"/>
                  </a:lnTo>
                  <a:lnTo>
                    <a:pt x="454" y="1322"/>
                  </a:lnTo>
                  <a:lnTo>
                    <a:pt x="514" y="1260"/>
                  </a:lnTo>
                  <a:lnTo>
                    <a:pt x="574" y="1195"/>
                  </a:lnTo>
                  <a:lnTo>
                    <a:pt x="632" y="1129"/>
                  </a:lnTo>
                  <a:lnTo>
                    <a:pt x="689" y="1060"/>
                  </a:lnTo>
                  <a:lnTo>
                    <a:pt x="744" y="990"/>
                  </a:lnTo>
                  <a:lnTo>
                    <a:pt x="796" y="921"/>
                  </a:lnTo>
                  <a:lnTo>
                    <a:pt x="846" y="850"/>
                  </a:lnTo>
                  <a:lnTo>
                    <a:pt x="894" y="781"/>
                  </a:lnTo>
                  <a:lnTo>
                    <a:pt x="940" y="711"/>
                  </a:lnTo>
                  <a:lnTo>
                    <a:pt x="983" y="643"/>
                  </a:lnTo>
                  <a:lnTo>
                    <a:pt x="1023" y="575"/>
                  </a:lnTo>
                  <a:lnTo>
                    <a:pt x="1060" y="509"/>
                  </a:lnTo>
                  <a:lnTo>
                    <a:pt x="1095" y="446"/>
                  </a:lnTo>
                  <a:lnTo>
                    <a:pt x="1127" y="385"/>
                  </a:lnTo>
                  <a:lnTo>
                    <a:pt x="1154" y="326"/>
                  </a:lnTo>
                  <a:lnTo>
                    <a:pt x="1179" y="273"/>
                  </a:lnTo>
                  <a:lnTo>
                    <a:pt x="1200" y="222"/>
                  </a:lnTo>
                  <a:lnTo>
                    <a:pt x="1217" y="175"/>
                  </a:lnTo>
                  <a:lnTo>
                    <a:pt x="1230" y="133"/>
                  </a:lnTo>
                  <a:lnTo>
                    <a:pt x="1239" y="96"/>
                  </a:lnTo>
                  <a:lnTo>
                    <a:pt x="1244" y="64"/>
                  </a:lnTo>
                  <a:lnTo>
                    <a:pt x="1244" y="39"/>
                  </a:lnTo>
                  <a:lnTo>
                    <a:pt x="1241" y="20"/>
                  </a:lnTo>
                  <a:lnTo>
                    <a:pt x="1231" y="6"/>
                  </a:lnTo>
                  <a:lnTo>
                    <a:pt x="1219" y="0"/>
                  </a:lnTo>
                  <a:lnTo>
                    <a:pt x="1221" y="2"/>
                  </a:lnTo>
                  <a:lnTo>
                    <a:pt x="1218" y="15"/>
                  </a:lnTo>
                  <a:lnTo>
                    <a:pt x="1209" y="36"/>
                  </a:lnTo>
                  <a:lnTo>
                    <a:pt x="1194" y="64"/>
                  </a:lnTo>
                  <a:lnTo>
                    <a:pt x="1173" y="101"/>
                  </a:lnTo>
                  <a:lnTo>
                    <a:pt x="1148" y="144"/>
                  </a:lnTo>
                  <a:lnTo>
                    <a:pt x="1120" y="194"/>
                  </a:lnTo>
                  <a:lnTo>
                    <a:pt x="1086" y="249"/>
                  </a:lnTo>
                  <a:lnTo>
                    <a:pt x="1007" y="374"/>
                  </a:lnTo>
                  <a:lnTo>
                    <a:pt x="917" y="515"/>
                  </a:lnTo>
                  <a:lnTo>
                    <a:pt x="818" y="665"/>
                  </a:lnTo>
                  <a:lnTo>
                    <a:pt x="712" y="820"/>
                  </a:lnTo>
                  <a:lnTo>
                    <a:pt x="657" y="899"/>
                  </a:lnTo>
                  <a:lnTo>
                    <a:pt x="603" y="977"/>
                  </a:lnTo>
                  <a:lnTo>
                    <a:pt x="549" y="1053"/>
                  </a:lnTo>
                  <a:lnTo>
                    <a:pt x="494" y="1127"/>
                  </a:lnTo>
                  <a:lnTo>
                    <a:pt x="440" y="1200"/>
                  </a:lnTo>
                  <a:lnTo>
                    <a:pt x="388" y="1269"/>
                  </a:lnTo>
                  <a:lnTo>
                    <a:pt x="337" y="1335"/>
                  </a:lnTo>
                  <a:lnTo>
                    <a:pt x="286" y="1397"/>
                  </a:lnTo>
                  <a:lnTo>
                    <a:pt x="240" y="1453"/>
                  </a:lnTo>
                  <a:lnTo>
                    <a:pt x="195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79" y="1617"/>
                  </a:lnTo>
                  <a:lnTo>
                    <a:pt x="48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4164120" y="3852720"/>
              <a:ext cx="420480" cy="552600"/>
            </a:xfrm>
            <a:custGeom>
              <a:avLst/>
              <a:gdLst/>
              <a:ahLst/>
              <a:rect l="l" t="t" r="r" b="b"/>
              <a:pathLst>
                <a:path w="1326" h="1741">
                  <a:moveTo>
                    <a:pt x="1218" y="0"/>
                  </a:moveTo>
                  <a:lnTo>
                    <a:pt x="1298" y="82"/>
                  </a:lnTo>
                  <a:lnTo>
                    <a:pt x="1303" y="83"/>
                  </a:lnTo>
                  <a:lnTo>
                    <a:pt x="1289" y="73"/>
                  </a:lnTo>
                  <a:lnTo>
                    <a:pt x="1240" y="20"/>
                  </a:lnTo>
                  <a:lnTo>
                    <a:pt x="1240" y="22"/>
                  </a:lnTo>
                  <a:lnTo>
                    <a:pt x="1242" y="30"/>
                  </a:lnTo>
                  <a:lnTo>
                    <a:pt x="1243" y="40"/>
                  </a:lnTo>
                  <a:lnTo>
                    <a:pt x="1244" y="51"/>
                  </a:lnTo>
                  <a:lnTo>
                    <a:pt x="1243" y="65"/>
                  </a:lnTo>
                  <a:lnTo>
                    <a:pt x="1241" y="80"/>
                  </a:lnTo>
                  <a:lnTo>
                    <a:pt x="1237" y="97"/>
                  </a:lnTo>
                  <a:lnTo>
                    <a:pt x="1234" y="114"/>
                  </a:lnTo>
                  <a:lnTo>
                    <a:pt x="1229" y="134"/>
                  </a:lnTo>
                  <a:lnTo>
                    <a:pt x="1216" y="176"/>
                  </a:lnTo>
                  <a:lnTo>
                    <a:pt x="1199" y="223"/>
                  </a:lnTo>
                  <a:lnTo>
                    <a:pt x="1178" y="273"/>
                  </a:lnTo>
                  <a:lnTo>
                    <a:pt x="1153" y="328"/>
                  </a:lnTo>
                  <a:lnTo>
                    <a:pt x="1126" y="386"/>
                  </a:lnTo>
                  <a:lnTo>
                    <a:pt x="1094" y="446"/>
                  </a:lnTo>
                  <a:lnTo>
                    <a:pt x="1059" y="510"/>
                  </a:lnTo>
                  <a:lnTo>
                    <a:pt x="1022" y="575"/>
                  </a:lnTo>
                  <a:lnTo>
                    <a:pt x="982" y="642"/>
                  </a:lnTo>
                  <a:lnTo>
                    <a:pt x="939" y="711"/>
                  </a:lnTo>
                  <a:lnTo>
                    <a:pt x="893" y="780"/>
                  </a:lnTo>
                  <a:lnTo>
                    <a:pt x="845" y="851"/>
                  </a:lnTo>
                  <a:lnTo>
                    <a:pt x="795" y="921"/>
                  </a:lnTo>
                  <a:lnTo>
                    <a:pt x="743" y="992"/>
                  </a:lnTo>
                  <a:lnTo>
                    <a:pt x="688" y="1060"/>
                  </a:lnTo>
                  <a:lnTo>
                    <a:pt x="632" y="1128"/>
                  </a:lnTo>
                  <a:lnTo>
                    <a:pt x="602" y="1162"/>
                  </a:lnTo>
                  <a:lnTo>
                    <a:pt x="574" y="1195"/>
                  </a:lnTo>
                  <a:lnTo>
                    <a:pt x="544" y="1228"/>
                  </a:lnTo>
                  <a:lnTo>
                    <a:pt x="513" y="1260"/>
                  </a:lnTo>
                  <a:lnTo>
                    <a:pt x="484" y="1292"/>
                  </a:lnTo>
                  <a:lnTo>
                    <a:pt x="453" y="1322"/>
                  </a:lnTo>
                  <a:lnTo>
                    <a:pt x="422" y="1352"/>
                  </a:lnTo>
                  <a:lnTo>
                    <a:pt x="390" y="1382"/>
                  </a:lnTo>
                  <a:lnTo>
                    <a:pt x="359" y="1410"/>
                  </a:lnTo>
                  <a:lnTo>
                    <a:pt x="328" y="1438"/>
                  </a:lnTo>
                  <a:lnTo>
                    <a:pt x="296" y="1465"/>
                  </a:lnTo>
                  <a:lnTo>
                    <a:pt x="264" y="1491"/>
                  </a:lnTo>
                  <a:lnTo>
                    <a:pt x="231" y="1516"/>
                  </a:lnTo>
                  <a:lnTo>
                    <a:pt x="199" y="1540"/>
                  </a:lnTo>
                  <a:lnTo>
                    <a:pt x="166" y="1563"/>
                  </a:lnTo>
                  <a:lnTo>
                    <a:pt x="133" y="1585"/>
                  </a:lnTo>
                  <a:lnTo>
                    <a:pt x="100" y="1605"/>
                  </a:lnTo>
                  <a:lnTo>
                    <a:pt x="66" y="1625"/>
                  </a:lnTo>
                  <a:lnTo>
                    <a:pt x="33" y="1642"/>
                  </a:lnTo>
                  <a:lnTo>
                    <a:pt x="0" y="1659"/>
                  </a:lnTo>
                  <a:lnTo>
                    <a:pt x="81" y="1741"/>
                  </a:lnTo>
                  <a:lnTo>
                    <a:pt x="114" y="1724"/>
                  </a:lnTo>
                  <a:lnTo>
                    <a:pt x="147" y="1706"/>
                  </a:lnTo>
                  <a:lnTo>
                    <a:pt x="180" y="1687"/>
                  </a:lnTo>
                  <a:lnTo>
                    <a:pt x="214" y="1666"/>
                  </a:lnTo>
                  <a:lnTo>
                    <a:pt x="247" y="1644"/>
                  </a:lnTo>
                  <a:lnTo>
                    <a:pt x="280" y="1621"/>
                  </a:lnTo>
                  <a:lnTo>
                    <a:pt x="313" y="1597"/>
                  </a:lnTo>
                  <a:lnTo>
                    <a:pt x="345" y="1572"/>
                  </a:lnTo>
                  <a:lnTo>
                    <a:pt x="377" y="1547"/>
                  </a:lnTo>
                  <a:lnTo>
                    <a:pt x="408" y="1520"/>
                  </a:lnTo>
                  <a:lnTo>
                    <a:pt x="440" y="1492"/>
                  </a:lnTo>
                  <a:lnTo>
                    <a:pt x="472" y="1464"/>
                  </a:lnTo>
                  <a:lnTo>
                    <a:pt x="503" y="1434"/>
                  </a:lnTo>
                  <a:lnTo>
                    <a:pt x="535" y="1403"/>
                  </a:lnTo>
                  <a:lnTo>
                    <a:pt x="565" y="1373"/>
                  </a:lnTo>
                  <a:lnTo>
                    <a:pt x="595" y="1342"/>
                  </a:lnTo>
                  <a:lnTo>
                    <a:pt x="625" y="1310"/>
                  </a:lnTo>
                  <a:lnTo>
                    <a:pt x="655" y="1277"/>
                  </a:lnTo>
                  <a:lnTo>
                    <a:pt x="684" y="1244"/>
                  </a:lnTo>
                  <a:lnTo>
                    <a:pt x="713" y="1209"/>
                  </a:lnTo>
                  <a:lnTo>
                    <a:pt x="770" y="1142"/>
                  </a:lnTo>
                  <a:lnTo>
                    <a:pt x="823" y="1073"/>
                  </a:lnTo>
                  <a:lnTo>
                    <a:pt x="876" y="1003"/>
                  </a:lnTo>
                  <a:lnTo>
                    <a:pt x="927" y="932"/>
                  </a:lnTo>
                  <a:lnTo>
                    <a:pt x="975" y="863"/>
                  </a:lnTo>
                  <a:lnTo>
                    <a:pt x="1021" y="793"/>
                  </a:lnTo>
                  <a:lnTo>
                    <a:pt x="1064" y="723"/>
                  </a:lnTo>
                  <a:lnTo>
                    <a:pt x="1104" y="656"/>
                  </a:lnTo>
                  <a:lnTo>
                    <a:pt x="1142" y="591"/>
                  </a:lnTo>
                  <a:lnTo>
                    <a:pt x="1176" y="527"/>
                  </a:lnTo>
                  <a:lnTo>
                    <a:pt x="1208" y="467"/>
                  </a:lnTo>
                  <a:lnTo>
                    <a:pt x="1235" y="409"/>
                  </a:lnTo>
                  <a:lnTo>
                    <a:pt x="1260" y="354"/>
                  </a:lnTo>
                  <a:lnTo>
                    <a:pt x="1281" y="304"/>
                  </a:lnTo>
                  <a:lnTo>
                    <a:pt x="1298" y="257"/>
                  </a:lnTo>
                  <a:lnTo>
                    <a:pt x="1311" y="215"/>
                  </a:lnTo>
                  <a:lnTo>
                    <a:pt x="1316" y="195"/>
                  </a:lnTo>
                  <a:lnTo>
                    <a:pt x="1320" y="177"/>
                  </a:lnTo>
                  <a:lnTo>
                    <a:pt x="1323" y="161"/>
                  </a:lnTo>
                  <a:lnTo>
                    <a:pt x="1325" y="145"/>
                  </a:lnTo>
                  <a:lnTo>
                    <a:pt x="1326" y="131"/>
                  </a:lnTo>
                  <a:lnTo>
                    <a:pt x="1326" y="120"/>
                  </a:lnTo>
                  <a:lnTo>
                    <a:pt x="1324" y="109"/>
                  </a:lnTo>
                  <a:lnTo>
                    <a:pt x="1322" y="98"/>
                  </a:lnTo>
                  <a:lnTo>
                    <a:pt x="1315" y="86"/>
                  </a:lnTo>
                  <a:lnTo>
                    <a:pt x="1254" y="22"/>
                  </a:lnTo>
                  <a:lnTo>
                    <a:pt x="1228" y="2"/>
                  </a:lnTo>
                  <a:lnTo>
                    <a:pt x="1219" y="0"/>
                  </a:lnTo>
                  <a:lnTo>
                    <a:pt x="1299" y="82"/>
                  </a:lnTo>
                  <a:lnTo>
                    <a:pt x="1218" y="0"/>
                  </a:lnTo>
                  <a:lnTo>
                    <a:pt x="1169" y="43"/>
                  </a:lnTo>
                  <a:lnTo>
                    <a:pt x="1298" y="82"/>
                  </a:lnTo>
                  <a:lnTo>
                    <a:pt x="121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4152960" y="3852720"/>
              <a:ext cx="425520" cy="552600"/>
            </a:xfrm>
            <a:custGeom>
              <a:avLst/>
              <a:gdLst/>
              <a:ahLst/>
              <a:rect l="l" t="t" r="r" b="b"/>
              <a:pathLst>
                <a:path w="1338" h="1741">
                  <a:moveTo>
                    <a:pt x="36" y="1659"/>
                  </a:moveTo>
                  <a:lnTo>
                    <a:pt x="116" y="1741"/>
                  </a:lnTo>
                  <a:lnTo>
                    <a:pt x="126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8"/>
                  </a:lnTo>
                  <a:lnTo>
                    <a:pt x="250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1" y="1586"/>
                  </a:lnTo>
                  <a:lnTo>
                    <a:pt x="357" y="1535"/>
                  </a:lnTo>
                  <a:lnTo>
                    <a:pt x="403" y="1478"/>
                  </a:lnTo>
                  <a:lnTo>
                    <a:pt x="452" y="1417"/>
                  </a:lnTo>
                  <a:lnTo>
                    <a:pt x="504" y="1351"/>
                  </a:lnTo>
                  <a:lnTo>
                    <a:pt x="557" y="1281"/>
                  </a:lnTo>
                  <a:lnTo>
                    <a:pt x="611" y="1209"/>
                  </a:lnTo>
                  <a:lnTo>
                    <a:pt x="665" y="1135"/>
                  </a:lnTo>
                  <a:lnTo>
                    <a:pt x="719" y="1058"/>
                  </a:lnTo>
                  <a:lnTo>
                    <a:pt x="774" y="980"/>
                  </a:lnTo>
                  <a:lnTo>
                    <a:pt x="829" y="903"/>
                  </a:lnTo>
                  <a:lnTo>
                    <a:pt x="935" y="746"/>
                  </a:lnTo>
                  <a:lnTo>
                    <a:pt x="1034" y="596"/>
                  </a:lnTo>
                  <a:lnTo>
                    <a:pt x="1124" y="456"/>
                  </a:lnTo>
                  <a:lnTo>
                    <a:pt x="1203" y="331"/>
                  </a:lnTo>
                  <a:lnTo>
                    <a:pt x="1236" y="275"/>
                  </a:lnTo>
                  <a:lnTo>
                    <a:pt x="1265" y="226"/>
                  </a:lnTo>
                  <a:lnTo>
                    <a:pt x="1290" y="183"/>
                  </a:lnTo>
                  <a:lnTo>
                    <a:pt x="1311" y="146"/>
                  </a:lnTo>
                  <a:lnTo>
                    <a:pt x="1326" y="118"/>
                  </a:lnTo>
                  <a:lnTo>
                    <a:pt x="1335" y="96"/>
                  </a:lnTo>
                  <a:lnTo>
                    <a:pt x="1338" y="89"/>
                  </a:lnTo>
                  <a:lnTo>
                    <a:pt x="1338" y="85"/>
                  </a:lnTo>
                  <a:lnTo>
                    <a:pt x="1338" y="81"/>
                  </a:lnTo>
                  <a:lnTo>
                    <a:pt x="1287" y="23"/>
                  </a:lnTo>
                  <a:lnTo>
                    <a:pt x="1256" y="0"/>
                  </a:lnTo>
                  <a:lnTo>
                    <a:pt x="1254" y="0"/>
                  </a:lnTo>
                  <a:lnTo>
                    <a:pt x="1335" y="82"/>
                  </a:lnTo>
                  <a:lnTo>
                    <a:pt x="1336" y="82"/>
                  </a:lnTo>
                  <a:lnTo>
                    <a:pt x="1306" y="61"/>
                  </a:lnTo>
                  <a:lnTo>
                    <a:pt x="1256" y="4"/>
                  </a:lnTo>
                  <a:lnTo>
                    <a:pt x="1256" y="4"/>
                  </a:lnTo>
                  <a:lnTo>
                    <a:pt x="1256" y="8"/>
                  </a:lnTo>
                  <a:lnTo>
                    <a:pt x="1253" y="15"/>
                  </a:lnTo>
                  <a:lnTo>
                    <a:pt x="1244" y="35"/>
                  </a:lnTo>
                  <a:lnTo>
                    <a:pt x="1229" y="65"/>
                  </a:lnTo>
                  <a:lnTo>
                    <a:pt x="1209" y="102"/>
                  </a:lnTo>
                  <a:lnTo>
                    <a:pt x="1184" y="145"/>
                  </a:lnTo>
                  <a:lnTo>
                    <a:pt x="1155" y="194"/>
                  </a:lnTo>
                  <a:lnTo>
                    <a:pt x="1121" y="250"/>
                  </a:lnTo>
                  <a:lnTo>
                    <a:pt x="1042" y="374"/>
                  </a:lnTo>
                  <a:lnTo>
                    <a:pt x="952" y="515"/>
                  </a:lnTo>
                  <a:lnTo>
                    <a:pt x="853" y="665"/>
                  </a:lnTo>
                  <a:lnTo>
                    <a:pt x="747" y="820"/>
                  </a:lnTo>
                  <a:lnTo>
                    <a:pt x="693" y="899"/>
                  </a:lnTo>
                  <a:lnTo>
                    <a:pt x="638" y="977"/>
                  </a:lnTo>
                  <a:lnTo>
                    <a:pt x="584" y="1053"/>
                  </a:lnTo>
                  <a:lnTo>
                    <a:pt x="529" y="1128"/>
                  </a:lnTo>
                  <a:lnTo>
                    <a:pt x="475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1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2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1" y="1649"/>
                  </a:lnTo>
                  <a:lnTo>
                    <a:pt x="58" y="1654"/>
                  </a:lnTo>
                  <a:lnTo>
                    <a:pt x="47" y="1658"/>
                  </a:lnTo>
                  <a:lnTo>
                    <a:pt x="36" y="1659"/>
                  </a:lnTo>
                  <a:lnTo>
                    <a:pt x="117" y="1741"/>
                  </a:lnTo>
                  <a:lnTo>
                    <a:pt x="36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6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4092480" y="3865680"/>
              <a:ext cx="395280" cy="527040"/>
            </a:xfrm>
            <a:custGeom>
              <a:avLst/>
              <a:gdLst/>
              <a:ahLst/>
              <a:rect l="l" t="t" r="r" b="b"/>
              <a:pathLst>
                <a:path w="1248" h="1659">
                  <a:moveTo>
                    <a:pt x="0" y="1659"/>
                  </a:moveTo>
                  <a:lnTo>
                    <a:pt x="68" y="1625"/>
                  </a:lnTo>
                  <a:lnTo>
                    <a:pt x="134" y="1585"/>
                  </a:lnTo>
                  <a:lnTo>
                    <a:pt x="199" y="1540"/>
                  </a:lnTo>
                  <a:lnTo>
                    <a:pt x="264" y="1491"/>
                  </a:lnTo>
                  <a:lnTo>
                    <a:pt x="329" y="1438"/>
                  </a:lnTo>
                  <a:lnTo>
                    <a:pt x="391" y="1382"/>
                  </a:lnTo>
                  <a:lnTo>
                    <a:pt x="454" y="1322"/>
                  </a:lnTo>
                  <a:lnTo>
                    <a:pt x="516" y="1260"/>
                  </a:lnTo>
                  <a:lnTo>
                    <a:pt x="575" y="1195"/>
                  </a:lnTo>
                  <a:lnTo>
                    <a:pt x="633" y="1129"/>
                  </a:lnTo>
                  <a:lnTo>
                    <a:pt x="689" y="1060"/>
                  </a:lnTo>
                  <a:lnTo>
                    <a:pt x="744" y="990"/>
                  </a:lnTo>
                  <a:lnTo>
                    <a:pt x="796" y="921"/>
                  </a:lnTo>
                  <a:lnTo>
                    <a:pt x="847" y="850"/>
                  </a:lnTo>
                  <a:lnTo>
                    <a:pt x="895" y="781"/>
                  </a:lnTo>
                  <a:lnTo>
                    <a:pt x="941" y="711"/>
                  </a:lnTo>
                  <a:lnTo>
                    <a:pt x="984" y="643"/>
                  </a:lnTo>
                  <a:lnTo>
                    <a:pt x="1025" y="575"/>
                  </a:lnTo>
                  <a:lnTo>
                    <a:pt x="1062" y="509"/>
                  </a:lnTo>
                  <a:lnTo>
                    <a:pt x="1097" y="446"/>
                  </a:lnTo>
                  <a:lnTo>
                    <a:pt x="1128" y="385"/>
                  </a:lnTo>
                  <a:lnTo>
                    <a:pt x="1156" y="326"/>
                  </a:lnTo>
                  <a:lnTo>
                    <a:pt x="1180" y="273"/>
                  </a:lnTo>
                  <a:lnTo>
                    <a:pt x="1202" y="222"/>
                  </a:lnTo>
                  <a:lnTo>
                    <a:pt x="1219" y="175"/>
                  </a:lnTo>
                  <a:lnTo>
                    <a:pt x="1233" y="133"/>
                  </a:lnTo>
                  <a:lnTo>
                    <a:pt x="1242" y="96"/>
                  </a:lnTo>
                  <a:lnTo>
                    <a:pt x="1246" y="64"/>
                  </a:lnTo>
                  <a:lnTo>
                    <a:pt x="1248" y="39"/>
                  </a:lnTo>
                  <a:lnTo>
                    <a:pt x="1243" y="20"/>
                  </a:lnTo>
                  <a:lnTo>
                    <a:pt x="1235" y="6"/>
                  </a:lnTo>
                  <a:lnTo>
                    <a:pt x="1221" y="0"/>
                  </a:lnTo>
                  <a:lnTo>
                    <a:pt x="1225" y="2"/>
                  </a:lnTo>
                  <a:lnTo>
                    <a:pt x="1221" y="15"/>
                  </a:lnTo>
                  <a:lnTo>
                    <a:pt x="1211" y="36"/>
                  </a:lnTo>
                  <a:lnTo>
                    <a:pt x="1196" y="64"/>
                  </a:lnTo>
                  <a:lnTo>
                    <a:pt x="1177" y="101"/>
                  </a:lnTo>
                  <a:lnTo>
                    <a:pt x="1152" y="144"/>
                  </a:lnTo>
                  <a:lnTo>
                    <a:pt x="1122" y="194"/>
                  </a:lnTo>
                  <a:lnTo>
                    <a:pt x="1088" y="249"/>
                  </a:lnTo>
                  <a:lnTo>
                    <a:pt x="1009" y="374"/>
                  </a:lnTo>
                  <a:lnTo>
                    <a:pt x="919" y="515"/>
                  </a:lnTo>
                  <a:lnTo>
                    <a:pt x="819" y="665"/>
                  </a:lnTo>
                  <a:lnTo>
                    <a:pt x="713" y="820"/>
                  </a:lnTo>
                  <a:lnTo>
                    <a:pt x="659" y="899"/>
                  </a:lnTo>
                  <a:lnTo>
                    <a:pt x="605" y="977"/>
                  </a:lnTo>
                  <a:lnTo>
                    <a:pt x="549" y="1053"/>
                  </a:lnTo>
                  <a:lnTo>
                    <a:pt x="495" y="1127"/>
                  </a:lnTo>
                  <a:lnTo>
                    <a:pt x="440" y="1200"/>
                  </a:lnTo>
                  <a:lnTo>
                    <a:pt x="388" y="1269"/>
                  </a:lnTo>
                  <a:lnTo>
                    <a:pt x="337" y="1335"/>
                  </a:lnTo>
                  <a:lnTo>
                    <a:pt x="288" y="1397"/>
                  </a:lnTo>
                  <a:lnTo>
                    <a:pt x="240" y="1453"/>
                  </a:lnTo>
                  <a:lnTo>
                    <a:pt x="195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80" y="1617"/>
                  </a:lnTo>
                  <a:lnTo>
                    <a:pt x="48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4079880" y="3852720"/>
              <a:ext cx="420840" cy="552600"/>
            </a:xfrm>
            <a:custGeom>
              <a:avLst/>
              <a:gdLst/>
              <a:ahLst/>
              <a:rect l="l" t="t" r="r" b="b"/>
              <a:pathLst>
                <a:path w="1329" h="1741">
                  <a:moveTo>
                    <a:pt x="1220" y="0"/>
                  </a:moveTo>
                  <a:lnTo>
                    <a:pt x="1301" y="82"/>
                  </a:lnTo>
                  <a:lnTo>
                    <a:pt x="1306" y="83"/>
                  </a:lnTo>
                  <a:lnTo>
                    <a:pt x="1291" y="72"/>
                  </a:lnTo>
                  <a:lnTo>
                    <a:pt x="1242" y="20"/>
                  </a:lnTo>
                  <a:lnTo>
                    <a:pt x="1242" y="22"/>
                  </a:lnTo>
                  <a:lnTo>
                    <a:pt x="1244" y="30"/>
                  </a:lnTo>
                  <a:lnTo>
                    <a:pt x="1246" y="40"/>
                  </a:lnTo>
                  <a:lnTo>
                    <a:pt x="1246" y="51"/>
                  </a:lnTo>
                  <a:lnTo>
                    <a:pt x="1245" y="65"/>
                  </a:lnTo>
                  <a:lnTo>
                    <a:pt x="1243" y="80"/>
                  </a:lnTo>
                  <a:lnTo>
                    <a:pt x="1241" y="97"/>
                  </a:lnTo>
                  <a:lnTo>
                    <a:pt x="1236" y="114"/>
                  </a:lnTo>
                  <a:lnTo>
                    <a:pt x="1232" y="134"/>
                  </a:lnTo>
                  <a:lnTo>
                    <a:pt x="1218" y="176"/>
                  </a:lnTo>
                  <a:lnTo>
                    <a:pt x="1201" y="223"/>
                  </a:lnTo>
                  <a:lnTo>
                    <a:pt x="1180" y="273"/>
                  </a:lnTo>
                  <a:lnTo>
                    <a:pt x="1155" y="328"/>
                  </a:lnTo>
                  <a:lnTo>
                    <a:pt x="1127" y="386"/>
                  </a:lnTo>
                  <a:lnTo>
                    <a:pt x="1096" y="446"/>
                  </a:lnTo>
                  <a:lnTo>
                    <a:pt x="1062" y="510"/>
                  </a:lnTo>
                  <a:lnTo>
                    <a:pt x="1024" y="575"/>
                  </a:lnTo>
                  <a:lnTo>
                    <a:pt x="983" y="642"/>
                  </a:lnTo>
                  <a:lnTo>
                    <a:pt x="940" y="711"/>
                  </a:lnTo>
                  <a:lnTo>
                    <a:pt x="894" y="780"/>
                  </a:lnTo>
                  <a:lnTo>
                    <a:pt x="846" y="851"/>
                  </a:lnTo>
                  <a:lnTo>
                    <a:pt x="796" y="921"/>
                  </a:lnTo>
                  <a:lnTo>
                    <a:pt x="744" y="992"/>
                  </a:lnTo>
                  <a:lnTo>
                    <a:pt x="689" y="1060"/>
                  </a:lnTo>
                  <a:lnTo>
                    <a:pt x="632" y="1128"/>
                  </a:lnTo>
                  <a:lnTo>
                    <a:pt x="604" y="1162"/>
                  </a:lnTo>
                  <a:lnTo>
                    <a:pt x="574" y="1195"/>
                  </a:lnTo>
                  <a:lnTo>
                    <a:pt x="544" y="1228"/>
                  </a:lnTo>
                  <a:lnTo>
                    <a:pt x="515" y="1260"/>
                  </a:lnTo>
                  <a:lnTo>
                    <a:pt x="484" y="1292"/>
                  </a:lnTo>
                  <a:lnTo>
                    <a:pt x="453" y="1322"/>
                  </a:lnTo>
                  <a:lnTo>
                    <a:pt x="422" y="1352"/>
                  </a:lnTo>
                  <a:lnTo>
                    <a:pt x="391" y="1382"/>
                  </a:lnTo>
                  <a:lnTo>
                    <a:pt x="360" y="1410"/>
                  </a:lnTo>
                  <a:lnTo>
                    <a:pt x="328" y="1438"/>
                  </a:lnTo>
                  <a:lnTo>
                    <a:pt x="296" y="1465"/>
                  </a:lnTo>
                  <a:lnTo>
                    <a:pt x="264" y="1491"/>
                  </a:lnTo>
                  <a:lnTo>
                    <a:pt x="231" y="1516"/>
                  </a:lnTo>
                  <a:lnTo>
                    <a:pt x="199" y="1540"/>
                  </a:lnTo>
                  <a:lnTo>
                    <a:pt x="166" y="1563"/>
                  </a:lnTo>
                  <a:lnTo>
                    <a:pt x="133" y="1585"/>
                  </a:lnTo>
                  <a:lnTo>
                    <a:pt x="100" y="1605"/>
                  </a:lnTo>
                  <a:lnTo>
                    <a:pt x="67" y="1625"/>
                  </a:lnTo>
                  <a:lnTo>
                    <a:pt x="34" y="1642"/>
                  </a:lnTo>
                  <a:lnTo>
                    <a:pt x="0" y="1659"/>
                  </a:lnTo>
                  <a:lnTo>
                    <a:pt x="81" y="1741"/>
                  </a:lnTo>
                  <a:lnTo>
                    <a:pt x="114" y="1724"/>
                  </a:lnTo>
                  <a:lnTo>
                    <a:pt x="148" y="1706"/>
                  </a:lnTo>
                  <a:lnTo>
                    <a:pt x="181" y="1687"/>
                  </a:lnTo>
                  <a:lnTo>
                    <a:pt x="214" y="1666"/>
                  </a:lnTo>
                  <a:lnTo>
                    <a:pt x="247" y="1644"/>
                  </a:lnTo>
                  <a:lnTo>
                    <a:pt x="280" y="1621"/>
                  </a:lnTo>
                  <a:lnTo>
                    <a:pt x="313" y="1597"/>
                  </a:lnTo>
                  <a:lnTo>
                    <a:pt x="345" y="1572"/>
                  </a:lnTo>
                  <a:lnTo>
                    <a:pt x="377" y="1547"/>
                  </a:lnTo>
                  <a:lnTo>
                    <a:pt x="410" y="1520"/>
                  </a:lnTo>
                  <a:lnTo>
                    <a:pt x="441" y="1492"/>
                  </a:lnTo>
                  <a:lnTo>
                    <a:pt x="472" y="1464"/>
                  </a:lnTo>
                  <a:lnTo>
                    <a:pt x="504" y="1434"/>
                  </a:lnTo>
                  <a:lnTo>
                    <a:pt x="535" y="1403"/>
                  </a:lnTo>
                  <a:lnTo>
                    <a:pt x="566" y="1373"/>
                  </a:lnTo>
                  <a:lnTo>
                    <a:pt x="597" y="1342"/>
                  </a:lnTo>
                  <a:lnTo>
                    <a:pt x="626" y="1310"/>
                  </a:lnTo>
                  <a:lnTo>
                    <a:pt x="656" y="1277"/>
                  </a:lnTo>
                  <a:lnTo>
                    <a:pt x="684" y="1244"/>
                  </a:lnTo>
                  <a:lnTo>
                    <a:pt x="714" y="1209"/>
                  </a:lnTo>
                  <a:lnTo>
                    <a:pt x="770" y="1142"/>
                  </a:lnTo>
                  <a:lnTo>
                    <a:pt x="825" y="1073"/>
                  </a:lnTo>
                  <a:lnTo>
                    <a:pt x="877" y="1003"/>
                  </a:lnTo>
                  <a:lnTo>
                    <a:pt x="928" y="932"/>
                  </a:lnTo>
                  <a:lnTo>
                    <a:pt x="976" y="863"/>
                  </a:lnTo>
                  <a:lnTo>
                    <a:pt x="1022" y="793"/>
                  </a:lnTo>
                  <a:lnTo>
                    <a:pt x="1065" y="723"/>
                  </a:lnTo>
                  <a:lnTo>
                    <a:pt x="1105" y="656"/>
                  </a:lnTo>
                  <a:lnTo>
                    <a:pt x="1143" y="591"/>
                  </a:lnTo>
                  <a:lnTo>
                    <a:pt x="1178" y="527"/>
                  </a:lnTo>
                  <a:lnTo>
                    <a:pt x="1209" y="467"/>
                  </a:lnTo>
                  <a:lnTo>
                    <a:pt x="1237" y="409"/>
                  </a:lnTo>
                  <a:lnTo>
                    <a:pt x="1261" y="354"/>
                  </a:lnTo>
                  <a:lnTo>
                    <a:pt x="1283" y="304"/>
                  </a:lnTo>
                  <a:lnTo>
                    <a:pt x="1300" y="257"/>
                  </a:lnTo>
                  <a:lnTo>
                    <a:pt x="1314" y="215"/>
                  </a:lnTo>
                  <a:lnTo>
                    <a:pt x="1318" y="195"/>
                  </a:lnTo>
                  <a:lnTo>
                    <a:pt x="1323" y="177"/>
                  </a:lnTo>
                  <a:lnTo>
                    <a:pt x="1325" y="161"/>
                  </a:lnTo>
                  <a:lnTo>
                    <a:pt x="1327" y="145"/>
                  </a:lnTo>
                  <a:lnTo>
                    <a:pt x="1329" y="131"/>
                  </a:lnTo>
                  <a:lnTo>
                    <a:pt x="1329" y="120"/>
                  </a:lnTo>
                  <a:lnTo>
                    <a:pt x="1326" y="109"/>
                  </a:lnTo>
                  <a:lnTo>
                    <a:pt x="1324" y="98"/>
                  </a:lnTo>
                  <a:lnTo>
                    <a:pt x="1317" y="86"/>
                  </a:lnTo>
                  <a:lnTo>
                    <a:pt x="1258" y="22"/>
                  </a:lnTo>
                  <a:lnTo>
                    <a:pt x="1231" y="2"/>
                  </a:lnTo>
                  <a:lnTo>
                    <a:pt x="1221" y="0"/>
                  </a:lnTo>
                  <a:lnTo>
                    <a:pt x="1302" y="82"/>
                  </a:lnTo>
                  <a:lnTo>
                    <a:pt x="1220" y="0"/>
                  </a:lnTo>
                  <a:lnTo>
                    <a:pt x="1172" y="43"/>
                  </a:lnTo>
                  <a:lnTo>
                    <a:pt x="1301" y="82"/>
                  </a:lnTo>
                  <a:lnTo>
                    <a:pt x="1220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4067280" y="3852720"/>
              <a:ext cx="426960" cy="552600"/>
            </a:xfrm>
            <a:custGeom>
              <a:avLst/>
              <a:gdLst/>
              <a:ahLst/>
              <a:rect l="l" t="t" r="r" b="b"/>
              <a:pathLst>
                <a:path w="1342" h="1741">
                  <a:moveTo>
                    <a:pt x="36" y="1659"/>
                  </a:moveTo>
                  <a:lnTo>
                    <a:pt x="116" y="1741"/>
                  </a:lnTo>
                  <a:lnTo>
                    <a:pt x="128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8"/>
                  </a:lnTo>
                  <a:lnTo>
                    <a:pt x="251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2" y="1586"/>
                  </a:lnTo>
                  <a:lnTo>
                    <a:pt x="357" y="1535"/>
                  </a:lnTo>
                  <a:lnTo>
                    <a:pt x="405" y="1478"/>
                  </a:lnTo>
                  <a:lnTo>
                    <a:pt x="454" y="1417"/>
                  </a:lnTo>
                  <a:lnTo>
                    <a:pt x="505" y="1351"/>
                  </a:lnTo>
                  <a:lnTo>
                    <a:pt x="557" y="1281"/>
                  </a:lnTo>
                  <a:lnTo>
                    <a:pt x="611" y="1209"/>
                  </a:lnTo>
                  <a:lnTo>
                    <a:pt x="666" y="1135"/>
                  </a:lnTo>
                  <a:lnTo>
                    <a:pt x="720" y="1058"/>
                  </a:lnTo>
                  <a:lnTo>
                    <a:pt x="775" y="980"/>
                  </a:lnTo>
                  <a:lnTo>
                    <a:pt x="830" y="903"/>
                  </a:lnTo>
                  <a:lnTo>
                    <a:pt x="936" y="746"/>
                  </a:lnTo>
                  <a:lnTo>
                    <a:pt x="1035" y="596"/>
                  </a:lnTo>
                  <a:lnTo>
                    <a:pt x="1126" y="456"/>
                  </a:lnTo>
                  <a:lnTo>
                    <a:pt x="1205" y="331"/>
                  </a:lnTo>
                  <a:lnTo>
                    <a:pt x="1238" y="275"/>
                  </a:lnTo>
                  <a:lnTo>
                    <a:pt x="1268" y="226"/>
                  </a:lnTo>
                  <a:lnTo>
                    <a:pt x="1293" y="183"/>
                  </a:lnTo>
                  <a:lnTo>
                    <a:pt x="1313" y="146"/>
                  </a:lnTo>
                  <a:lnTo>
                    <a:pt x="1328" y="118"/>
                  </a:lnTo>
                  <a:lnTo>
                    <a:pt x="1338" y="96"/>
                  </a:lnTo>
                  <a:lnTo>
                    <a:pt x="1341" y="89"/>
                  </a:lnTo>
                  <a:lnTo>
                    <a:pt x="1342" y="85"/>
                  </a:lnTo>
                  <a:lnTo>
                    <a:pt x="1341" y="81"/>
                  </a:lnTo>
                  <a:lnTo>
                    <a:pt x="1290" y="23"/>
                  </a:lnTo>
                  <a:lnTo>
                    <a:pt x="1259" y="0"/>
                  </a:lnTo>
                  <a:lnTo>
                    <a:pt x="1256" y="0"/>
                  </a:lnTo>
                  <a:lnTo>
                    <a:pt x="1338" y="82"/>
                  </a:lnTo>
                  <a:lnTo>
                    <a:pt x="1338" y="82"/>
                  </a:lnTo>
                  <a:lnTo>
                    <a:pt x="1309" y="61"/>
                  </a:lnTo>
                  <a:lnTo>
                    <a:pt x="1259" y="4"/>
                  </a:lnTo>
                  <a:lnTo>
                    <a:pt x="1260" y="4"/>
                  </a:lnTo>
                  <a:lnTo>
                    <a:pt x="1259" y="8"/>
                  </a:lnTo>
                  <a:lnTo>
                    <a:pt x="1256" y="15"/>
                  </a:lnTo>
                  <a:lnTo>
                    <a:pt x="1247" y="35"/>
                  </a:lnTo>
                  <a:lnTo>
                    <a:pt x="1231" y="65"/>
                  </a:lnTo>
                  <a:lnTo>
                    <a:pt x="1212" y="102"/>
                  </a:lnTo>
                  <a:lnTo>
                    <a:pt x="1187" y="145"/>
                  </a:lnTo>
                  <a:lnTo>
                    <a:pt x="1157" y="194"/>
                  </a:lnTo>
                  <a:lnTo>
                    <a:pt x="1123" y="250"/>
                  </a:lnTo>
                  <a:lnTo>
                    <a:pt x="1044" y="374"/>
                  </a:lnTo>
                  <a:lnTo>
                    <a:pt x="954" y="515"/>
                  </a:lnTo>
                  <a:lnTo>
                    <a:pt x="854" y="665"/>
                  </a:lnTo>
                  <a:lnTo>
                    <a:pt x="748" y="820"/>
                  </a:lnTo>
                  <a:lnTo>
                    <a:pt x="694" y="899"/>
                  </a:lnTo>
                  <a:lnTo>
                    <a:pt x="640" y="977"/>
                  </a:lnTo>
                  <a:lnTo>
                    <a:pt x="585" y="1053"/>
                  </a:lnTo>
                  <a:lnTo>
                    <a:pt x="530" y="1128"/>
                  </a:lnTo>
                  <a:lnTo>
                    <a:pt x="477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3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2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1" y="1649"/>
                  </a:lnTo>
                  <a:lnTo>
                    <a:pt x="58" y="1654"/>
                  </a:lnTo>
                  <a:lnTo>
                    <a:pt x="47" y="1658"/>
                  </a:lnTo>
                  <a:lnTo>
                    <a:pt x="36" y="1659"/>
                  </a:lnTo>
                  <a:lnTo>
                    <a:pt x="117" y="1741"/>
                  </a:lnTo>
                  <a:lnTo>
                    <a:pt x="36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6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4006800" y="3865680"/>
              <a:ext cx="397080" cy="527040"/>
            </a:xfrm>
            <a:custGeom>
              <a:avLst/>
              <a:gdLst/>
              <a:ahLst/>
              <a:rect l="l" t="t" r="r" b="b"/>
              <a:pathLst>
                <a:path w="1248" h="1659">
                  <a:moveTo>
                    <a:pt x="0" y="1659"/>
                  </a:moveTo>
                  <a:lnTo>
                    <a:pt x="68" y="1625"/>
                  </a:lnTo>
                  <a:lnTo>
                    <a:pt x="134" y="1585"/>
                  </a:lnTo>
                  <a:lnTo>
                    <a:pt x="199" y="1540"/>
                  </a:lnTo>
                  <a:lnTo>
                    <a:pt x="265" y="1491"/>
                  </a:lnTo>
                  <a:lnTo>
                    <a:pt x="329" y="1438"/>
                  </a:lnTo>
                  <a:lnTo>
                    <a:pt x="393" y="1382"/>
                  </a:lnTo>
                  <a:lnTo>
                    <a:pt x="454" y="1322"/>
                  </a:lnTo>
                  <a:lnTo>
                    <a:pt x="516" y="1260"/>
                  </a:lnTo>
                  <a:lnTo>
                    <a:pt x="575" y="1195"/>
                  </a:lnTo>
                  <a:lnTo>
                    <a:pt x="633" y="1129"/>
                  </a:lnTo>
                  <a:lnTo>
                    <a:pt x="690" y="1060"/>
                  </a:lnTo>
                  <a:lnTo>
                    <a:pt x="744" y="990"/>
                  </a:lnTo>
                  <a:lnTo>
                    <a:pt x="797" y="921"/>
                  </a:lnTo>
                  <a:lnTo>
                    <a:pt x="847" y="850"/>
                  </a:lnTo>
                  <a:lnTo>
                    <a:pt x="895" y="781"/>
                  </a:lnTo>
                  <a:lnTo>
                    <a:pt x="941" y="711"/>
                  </a:lnTo>
                  <a:lnTo>
                    <a:pt x="984" y="643"/>
                  </a:lnTo>
                  <a:lnTo>
                    <a:pt x="1025" y="575"/>
                  </a:lnTo>
                  <a:lnTo>
                    <a:pt x="1063" y="509"/>
                  </a:lnTo>
                  <a:lnTo>
                    <a:pt x="1097" y="446"/>
                  </a:lnTo>
                  <a:lnTo>
                    <a:pt x="1128" y="385"/>
                  </a:lnTo>
                  <a:lnTo>
                    <a:pt x="1156" y="326"/>
                  </a:lnTo>
                  <a:lnTo>
                    <a:pt x="1182" y="273"/>
                  </a:lnTo>
                  <a:lnTo>
                    <a:pt x="1202" y="222"/>
                  </a:lnTo>
                  <a:lnTo>
                    <a:pt x="1219" y="175"/>
                  </a:lnTo>
                  <a:lnTo>
                    <a:pt x="1233" y="133"/>
                  </a:lnTo>
                  <a:lnTo>
                    <a:pt x="1242" y="96"/>
                  </a:lnTo>
                  <a:lnTo>
                    <a:pt x="1246" y="64"/>
                  </a:lnTo>
                  <a:lnTo>
                    <a:pt x="1248" y="39"/>
                  </a:lnTo>
                  <a:lnTo>
                    <a:pt x="1243" y="20"/>
                  </a:lnTo>
                  <a:lnTo>
                    <a:pt x="1235" y="6"/>
                  </a:lnTo>
                  <a:lnTo>
                    <a:pt x="1221" y="0"/>
                  </a:lnTo>
                  <a:lnTo>
                    <a:pt x="1225" y="2"/>
                  </a:lnTo>
                  <a:lnTo>
                    <a:pt x="1221" y="15"/>
                  </a:lnTo>
                  <a:lnTo>
                    <a:pt x="1212" y="36"/>
                  </a:lnTo>
                  <a:lnTo>
                    <a:pt x="1196" y="64"/>
                  </a:lnTo>
                  <a:lnTo>
                    <a:pt x="1177" y="101"/>
                  </a:lnTo>
                  <a:lnTo>
                    <a:pt x="1152" y="144"/>
                  </a:lnTo>
                  <a:lnTo>
                    <a:pt x="1122" y="194"/>
                  </a:lnTo>
                  <a:lnTo>
                    <a:pt x="1088" y="249"/>
                  </a:lnTo>
                  <a:lnTo>
                    <a:pt x="1009" y="374"/>
                  </a:lnTo>
                  <a:lnTo>
                    <a:pt x="919" y="515"/>
                  </a:lnTo>
                  <a:lnTo>
                    <a:pt x="819" y="665"/>
                  </a:lnTo>
                  <a:lnTo>
                    <a:pt x="713" y="820"/>
                  </a:lnTo>
                  <a:lnTo>
                    <a:pt x="659" y="899"/>
                  </a:lnTo>
                  <a:lnTo>
                    <a:pt x="605" y="977"/>
                  </a:lnTo>
                  <a:lnTo>
                    <a:pt x="549" y="1053"/>
                  </a:lnTo>
                  <a:lnTo>
                    <a:pt x="495" y="1127"/>
                  </a:lnTo>
                  <a:lnTo>
                    <a:pt x="441" y="1200"/>
                  </a:lnTo>
                  <a:lnTo>
                    <a:pt x="388" y="1269"/>
                  </a:lnTo>
                  <a:lnTo>
                    <a:pt x="337" y="1335"/>
                  </a:lnTo>
                  <a:lnTo>
                    <a:pt x="288" y="1397"/>
                  </a:lnTo>
                  <a:lnTo>
                    <a:pt x="240" y="1453"/>
                  </a:lnTo>
                  <a:lnTo>
                    <a:pt x="195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80" y="1617"/>
                  </a:lnTo>
                  <a:lnTo>
                    <a:pt x="49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3994200" y="3852720"/>
              <a:ext cx="422280" cy="552600"/>
            </a:xfrm>
            <a:custGeom>
              <a:avLst/>
              <a:gdLst/>
              <a:ahLst/>
              <a:rect l="l" t="t" r="r" b="b"/>
              <a:pathLst>
                <a:path w="1328" h="1741">
                  <a:moveTo>
                    <a:pt x="1221" y="0"/>
                  </a:moveTo>
                  <a:lnTo>
                    <a:pt x="1300" y="82"/>
                  </a:lnTo>
                  <a:lnTo>
                    <a:pt x="1305" y="83"/>
                  </a:lnTo>
                  <a:lnTo>
                    <a:pt x="1290" y="72"/>
                  </a:lnTo>
                  <a:lnTo>
                    <a:pt x="1241" y="20"/>
                  </a:lnTo>
                  <a:lnTo>
                    <a:pt x="1242" y="22"/>
                  </a:lnTo>
                  <a:lnTo>
                    <a:pt x="1243" y="30"/>
                  </a:lnTo>
                  <a:lnTo>
                    <a:pt x="1246" y="40"/>
                  </a:lnTo>
                  <a:lnTo>
                    <a:pt x="1246" y="51"/>
                  </a:lnTo>
                  <a:lnTo>
                    <a:pt x="1244" y="65"/>
                  </a:lnTo>
                  <a:lnTo>
                    <a:pt x="1242" y="80"/>
                  </a:lnTo>
                  <a:lnTo>
                    <a:pt x="1240" y="97"/>
                  </a:lnTo>
                  <a:lnTo>
                    <a:pt x="1235" y="114"/>
                  </a:lnTo>
                  <a:lnTo>
                    <a:pt x="1231" y="134"/>
                  </a:lnTo>
                  <a:lnTo>
                    <a:pt x="1217" y="176"/>
                  </a:lnTo>
                  <a:lnTo>
                    <a:pt x="1200" y="223"/>
                  </a:lnTo>
                  <a:lnTo>
                    <a:pt x="1179" y="273"/>
                  </a:lnTo>
                  <a:lnTo>
                    <a:pt x="1154" y="328"/>
                  </a:lnTo>
                  <a:lnTo>
                    <a:pt x="1126" y="386"/>
                  </a:lnTo>
                  <a:lnTo>
                    <a:pt x="1095" y="446"/>
                  </a:lnTo>
                  <a:lnTo>
                    <a:pt x="1061" y="510"/>
                  </a:lnTo>
                  <a:lnTo>
                    <a:pt x="1023" y="575"/>
                  </a:lnTo>
                  <a:lnTo>
                    <a:pt x="982" y="642"/>
                  </a:lnTo>
                  <a:lnTo>
                    <a:pt x="939" y="711"/>
                  </a:lnTo>
                  <a:lnTo>
                    <a:pt x="893" y="780"/>
                  </a:lnTo>
                  <a:lnTo>
                    <a:pt x="845" y="851"/>
                  </a:lnTo>
                  <a:lnTo>
                    <a:pt x="795" y="921"/>
                  </a:lnTo>
                  <a:lnTo>
                    <a:pt x="743" y="992"/>
                  </a:lnTo>
                  <a:lnTo>
                    <a:pt x="688" y="1060"/>
                  </a:lnTo>
                  <a:lnTo>
                    <a:pt x="631" y="1128"/>
                  </a:lnTo>
                  <a:lnTo>
                    <a:pt x="603" y="1162"/>
                  </a:lnTo>
                  <a:lnTo>
                    <a:pt x="573" y="1195"/>
                  </a:lnTo>
                  <a:lnTo>
                    <a:pt x="543" y="1228"/>
                  </a:lnTo>
                  <a:lnTo>
                    <a:pt x="514" y="1260"/>
                  </a:lnTo>
                  <a:lnTo>
                    <a:pt x="483" y="1292"/>
                  </a:lnTo>
                  <a:lnTo>
                    <a:pt x="452" y="1322"/>
                  </a:lnTo>
                  <a:lnTo>
                    <a:pt x="421" y="1352"/>
                  </a:lnTo>
                  <a:lnTo>
                    <a:pt x="391" y="1382"/>
                  </a:lnTo>
                  <a:lnTo>
                    <a:pt x="359" y="1410"/>
                  </a:lnTo>
                  <a:lnTo>
                    <a:pt x="327" y="1438"/>
                  </a:lnTo>
                  <a:lnTo>
                    <a:pt x="295" y="1465"/>
                  </a:lnTo>
                  <a:lnTo>
                    <a:pt x="263" y="1491"/>
                  </a:lnTo>
                  <a:lnTo>
                    <a:pt x="230" y="1516"/>
                  </a:lnTo>
                  <a:lnTo>
                    <a:pt x="198" y="1540"/>
                  </a:lnTo>
                  <a:lnTo>
                    <a:pt x="165" y="1563"/>
                  </a:lnTo>
                  <a:lnTo>
                    <a:pt x="132" y="1585"/>
                  </a:lnTo>
                  <a:lnTo>
                    <a:pt x="99" y="1605"/>
                  </a:lnTo>
                  <a:lnTo>
                    <a:pt x="66" y="1625"/>
                  </a:lnTo>
                  <a:lnTo>
                    <a:pt x="33" y="1642"/>
                  </a:lnTo>
                  <a:lnTo>
                    <a:pt x="0" y="1659"/>
                  </a:lnTo>
                  <a:lnTo>
                    <a:pt x="81" y="1741"/>
                  </a:lnTo>
                  <a:lnTo>
                    <a:pt x="114" y="1724"/>
                  </a:lnTo>
                  <a:lnTo>
                    <a:pt x="147" y="1706"/>
                  </a:lnTo>
                  <a:lnTo>
                    <a:pt x="180" y="1687"/>
                  </a:lnTo>
                  <a:lnTo>
                    <a:pt x="214" y="1666"/>
                  </a:lnTo>
                  <a:lnTo>
                    <a:pt x="246" y="1644"/>
                  </a:lnTo>
                  <a:lnTo>
                    <a:pt x="279" y="1621"/>
                  </a:lnTo>
                  <a:lnTo>
                    <a:pt x="312" y="1597"/>
                  </a:lnTo>
                  <a:lnTo>
                    <a:pt x="344" y="1572"/>
                  </a:lnTo>
                  <a:lnTo>
                    <a:pt x="377" y="1547"/>
                  </a:lnTo>
                  <a:lnTo>
                    <a:pt x="409" y="1520"/>
                  </a:lnTo>
                  <a:lnTo>
                    <a:pt x="441" y="1492"/>
                  </a:lnTo>
                  <a:lnTo>
                    <a:pt x="472" y="1464"/>
                  </a:lnTo>
                  <a:lnTo>
                    <a:pt x="503" y="1434"/>
                  </a:lnTo>
                  <a:lnTo>
                    <a:pt x="534" y="1403"/>
                  </a:lnTo>
                  <a:lnTo>
                    <a:pt x="565" y="1373"/>
                  </a:lnTo>
                  <a:lnTo>
                    <a:pt x="596" y="1342"/>
                  </a:lnTo>
                  <a:lnTo>
                    <a:pt x="625" y="1310"/>
                  </a:lnTo>
                  <a:lnTo>
                    <a:pt x="655" y="1277"/>
                  </a:lnTo>
                  <a:lnTo>
                    <a:pt x="684" y="1244"/>
                  </a:lnTo>
                  <a:lnTo>
                    <a:pt x="713" y="1209"/>
                  </a:lnTo>
                  <a:lnTo>
                    <a:pt x="769" y="1142"/>
                  </a:lnTo>
                  <a:lnTo>
                    <a:pt x="824" y="1073"/>
                  </a:lnTo>
                  <a:lnTo>
                    <a:pt x="876" y="1003"/>
                  </a:lnTo>
                  <a:lnTo>
                    <a:pt x="928" y="932"/>
                  </a:lnTo>
                  <a:lnTo>
                    <a:pt x="975" y="863"/>
                  </a:lnTo>
                  <a:lnTo>
                    <a:pt x="1021" y="793"/>
                  </a:lnTo>
                  <a:lnTo>
                    <a:pt x="1064" y="723"/>
                  </a:lnTo>
                  <a:lnTo>
                    <a:pt x="1105" y="656"/>
                  </a:lnTo>
                  <a:lnTo>
                    <a:pt x="1142" y="591"/>
                  </a:lnTo>
                  <a:lnTo>
                    <a:pt x="1177" y="527"/>
                  </a:lnTo>
                  <a:lnTo>
                    <a:pt x="1208" y="467"/>
                  </a:lnTo>
                  <a:lnTo>
                    <a:pt x="1236" y="409"/>
                  </a:lnTo>
                  <a:lnTo>
                    <a:pt x="1262" y="354"/>
                  </a:lnTo>
                  <a:lnTo>
                    <a:pt x="1282" y="304"/>
                  </a:lnTo>
                  <a:lnTo>
                    <a:pt x="1299" y="257"/>
                  </a:lnTo>
                  <a:lnTo>
                    <a:pt x="1313" y="215"/>
                  </a:lnTo>
                  <a:lnTo>
                    <a:pt x="1317" y="195"/>
                  </a:lnTo>
                  <a:lnTo>
                    <a:pt x="1322" y="177"/>
                  </a:lnTo>
                  <a:lnTo>
                    <a:pt x="1325" y="161"/>
                  </a:lnTo>
                  <a:lnTo>
                    <a:pt x="1327" y="145"/>
                  </a:lnTo>
                  <a:lnTo>
                    <a:pt x="1328" y="131"/>
                  </a:lnTo>
                  <a:lnTo>
                    <a:pt x="1328" y="120"/>
                  </a:lnTo>
                  <a:lnTo>
                    <a:pt x="1325" y="109"/>
                  </a:lnTo>
                  <a:lnTo>
                    <a:pt x="1323" y="98"/>
                  </a:lnTo>
                  <a:lnTo>
                    <a:pt x="1316" y="86"/>
                  </a:lnTo>
                  <a:lnTo>
                    <a:pt x="1257" y="22"/>
                  </a:lnTo>
                  <a:lnTo>
                    <a:pt x="1231" y="2"/>
                  </a:lnTo>
                  <a:lnTo>
                    <a:pt x="1221" y="0"/>
                  </a:lnTo>
                  <a:lnTo>
                    <a:pt x="1301" y="82"/>
                  </a:lnTo>
                  <a:lnTo>
                    <a:pt x="1221" y="0"/>
                  </a:lnTo>
                  <a:lnTo>
                    <a:pt x="1171" y="43"/>
                  </a:lnTo>
                  <a:lnTo>
                    <a:pt x="1300" y="82"/>
                  </a:lnTo>
                  <a:lnTo>
                    <a:pt x="1221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3983040" y="3852720"/>
              <a:ext cx="425520" cy="552600"/>
            </a:xfrm>
            <a:custGeom>
              <a:avLst/>
              <a:gdLst/>
              <a:ahLst/>
              <a:rect l="l" t="t" r="r" b="b"/>
              <a:pathLst>
                <a:path w="1342" h="1741">
                  <a:moveTo>
                    <a:pt x="37" y="1659"/>
                  </a:moveTo>
                  <a:lnTo>
                    <a:pt x="116" y="1741"/>
                  </a:lnTo>
                  <a:lnTo>
                    <a:pt x="128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2" y="1668"/>
                  </a:lnTo>
                  <a:lnTo>
                    <a:pt x="251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2" y="1586"/>
                  </a:lnTo>
                  <a:lnTo>
                    <a:pt x="357" y="1535"/>
                  </a:lnTo>
                  <a:lnTo>
                    <a:pt x="405" y="1478"/>
                  </a:lnTo>
                  <a:lnTo>
                    <a:pt x="454" y="1417"/>
                  </a:lnTo>
                  <a:lnTo>
                    <a:pt x="505" y="1351"/>
                  </a:lnTo>
                  <a:lnTo>
                    <a:pt x="558" y="1281"/>
                  </a:lnTo>
                  <a:lnTo>
                    <a:pt x="612" y="1209"/>
                  </a:lnTo>
                  <a:lnTo>
                    <a:pt x="666" y="1135"/>
                  </a:lnTo>
                  <a:lnTo>
                    <a:pt x="721" y="1058"/>
                  </a:lnTo>
                  <a:lnTo>
                    <a:pt x="775" y="980"/>
                  </a:lnTo>
                  <a:lnTo>
                    <a:pt x="830" y="903"/>
                  </a:lnTo>
                  <a:lnTo>
                    <a:pt x="936" y="746"/>
                  </a:lnTo>
                  <a:lnTo>
                    <a:pt x="1036" y="596"/>
                  </a:lnTo>
                  <a:lnTo>
                    <a:pt x="1126" y="456"/>
                  </a:lnTo>
                  <a:lnTo>
                    <a:pt x="1205" y="331"/>
                  </a:lnTo>
                  <a:lnTo>
                    <a:pt x="1238" y="275"/>
                  </a:lnTo>
                  <a:lnTo>
                    <a:pt x="1268" y="226"/>
                  </a:lnTo>
                  <a:lnTo>
                    <a:pt x="1293" y="183"/>
                  </a:lnTo>
                  <a:lnTo>
                    <a:pt x="1313" y="146"/>
                  </a:lnTo>
                  <a:lnTo>
                    <a:pt x="1328" y="118"/>
                  </a:lnTo>
                  <a:lnTo>
                    <a:pt x="1338" y="96"/>
                  </a:lnTo>
                  <a:lnTo>
                    <a:pt x="1341" y="89"/>
                  </a:lnTo>
                  <a:lnTo>
                    <a:pt x="1342" y="85"/>
                  </a:lnTo>
                  <a:lnTo>
                    <a:pt x="1342" y="81"/>
                  </a:lnTo>
                  <a:lnTo>
                    <a:pt x="1291" y="23"/>
                  </a:lnTo>
                  <a:lnTo>
                    <a:pt x="1259" y="0"/>
                  </a:lnTo>
                  <a:lnTo>
                    <a:pt x="1258" y="0"/>
                  </a:lnTo>
                  <a:lnTo>
                    <a:pt x="1338" y="82"/>
                  </a:lnTo>
                  <a:lnTo>
                    <a:pt x="1338" y="82"/>
                  </a:lnTo>
                  <a:lnTo>
                    <a:pt x="1309" y="61"/>
                  </a:lnTo>
                  <a:lnTo>
                    <a:pt x="1260" y="4"/>
                  </a:lnTo>
                  <a:lnTo>
                    <a:pt x="1260" y="4"/>
                  </a:lnTo>
                  <a:lnTo>
                    <a:pt x="1259" y="8"/>
                  </a:lnTo>
                  <a:lnTo>
                    <a:pt x="1256" y="15"/>
                  </a:lnTo>
                  <a:lnTo>
                    <a:pt x="1247" y="35"/>
                  </a:lnTo>
                  <a:lnTo>
                    <a:pt x="1231" y="65"/>
                  </a:lnTo>
                  <a:lnTo>
                    <a:pt x="1212" y="102"/>
                  </a:lnTo>
                  <a:lnTo>
                    <a:pt x="1187" y="145"/>
                  </a:lnTo>
                  <a:lnTo>
                    <a:pt x="1157" y="194"/>
                  </a:lnTo>
                  <a:lnTo>
                    <a:pt x="1123" y="250"/>
                  </a:lnTo>
                  <a:lnTo>
                    <a:pt x="1044" y="374"/>
                  </a:lnTo>
                  <a:lnTo>
                    <a:pt x="954" y="515"/>
                  </a:lnTo>
                  <a:lnTo>
                    <a:pt x="854" y="665"/>
                  </a:lnTo>
                  <a:lnTo>
                    <a:pt x="748" y="820"/>
                  </a:lnTo>
                  <a:lnTo>
                    <a:pt x="694" y="899"/>
                  </a:lnTo>
                  <a:lnTo>
                    <a:pt x="640" y="977"/>
                  </a:lnTo>
                  <a:lnTo>
                    <a:pt x="585" y="1053"/>
                  </a:lnTo>
                  <a:lnTo>
                    <a:pt x="530" y="1128"/>
                  </a:lnTo>
                  <a:lnTo>
                    <a:pt x="477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3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2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1" y="1649"/>
                  </a:lnTo>
                  <a:lnTo>
                    <a:pt x="58" y="1654"/>
                  </a:lnTo>
                  <a:lnTo>
                    <a:pt x="47" y="1658"/>
                  </a:lnTo>
                  <a:lnTo>
                    <a:pt x="37" y="1659"/>
                  </a:lnTo>
                  <a:lnTo>
                    <a:pt x="118" y="1741"/>
                  </a:lnTo>
                  <a:lnTo>
                    <a:pt x="37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7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3943440" y="3838680"/>
              <a:ext cx="353880" cy="5554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3" y="1712"/>
                  </a:lnTo>
                  <a:lnTo>
                    <a:pt x="125" y="1668"/>
                  </a:lnTo>
                  <a:lnTo>
                    <a:pt x="187" y="1618"/>
                  </a:lnTo>
                  <a:lnTo>
                    <a:pt x="248" y="1564"/>
                  </a:lnTo>
                  <a:lnTo>
                    <a:pt x="308" y="1506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5" y="1244"/>
                  </a:lnTo>
                  <a:lnTo>
                    <a:pt x="587" y="1173"/>
                  </a:lnTo>
                  <a:lnTo>
                    <a:pt x="637" y="1101"/>
                  </a:lnTo>
                  <a:lnTo>
                    <a:pt x="686" y="1027"/>
                  </a:lnTo>
                  <a:lnTo>
                    <a:pt x="733" y="954"/>
                  </a:lnTo>
                  <a:lnTo>
                    <a:pt x="779" y="879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8" y="660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1" y="392"/>
                  </a:lnTo>
                  <a:lnTo>
                    <a:pt x="1045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6" y="175"/>
                  </a:lnTo>
                  <a:lnTo>
                    <a:pt x="1106" y="132"/>
                  </a:lnTo>
                  <a:lnTo>
                    <a:pt x="1113" y="94"/>
                  </a:lnTo>
                  <a:lnTo>
                    <a:pt x="1115" y="63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4"/>
                  </a:lnTo>
                  <a:lnTo>
                    <a:pt x="1085" y="0"/>
                  </a:lnTo>
                  <a:lnTo>
                    <a:pt x="1088" y="2"/>
                  </a:lnTo>
                  <a:lnTo>
                    <a:pt x="1085" y="15"/>
                  </a:lnTo>
                  <a:lnTo>
                    <a:pt x="1077" y="36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0" y="202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3" y="538"/>
                  </a:lnTo>
                  <a:lnTo>
                    <a:pt x="735" y="696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6" y="1024"/>
                  </a:lnTo>
                  <a:lnTo>
                    <a:pt x="498" y="1104"/>
                  </a:lnTo>
                  <a:lnTo>
                    <a:pt x="449" y="1184"/>
                  </a:lnTo>
                  <a:lnTo>
                    <a:pt x="401" y="1260"/>
                  </a:lnTo>
                  <a:lnTo>
                    <a:pt x="355" y="1333"/>
                  </a:lnTo>
                  <a:lnTo>
                    <a:pt x="309" y="1403"/>
                  </a:lnTo>
                  <a:lnTo>
                    <a:pt x="264" y="1468"/>
                  </a:lnTo>
                  <a:lnTo>
                    <a:pt x="222" y="1527"/>
                  </a:lnTo>
                  <a:lnTo>
                    <a:pt x="181" y="1582"/>
                  </a:lnTo>
                  <a:lnTo>
                    <a:pt x="142" y="1630"/>
                  </a:lnTo>
                  <a:lnTo>
                    <a:pt x="107" y="1671"/>
                  </a:lnTo>
                  <a:lnTo>
                    <a:pt x="75" y="1704"/>
                  </a:lnTo>
                  <a:lnTo>
                    <a:pt x="47" y="1729"/>
                  </a:lnTo>
                  <a:lnTo>
                    <a:pt x="20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3930480" y="3825720"/>
              <a:ext cx="379440" cy="5828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5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80"/>
                  </a:lnTo>
                  <a:lnTo>
                    <a:pt x="1111" y="24"/>
                  </a:lnTo>
                  <a:lnTo>
                    <a:pt x="1109" y="20"/>
                  </a:lnTo>
                  <a:lnTo>
                    <a:pt x="1111" y="28"/>
                  </a:lnTo>
                  <a:lnTo>
                    <a:pt x="1114" y="37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4" y="78"/>
                  </a:lnTo>
                  <a:lnTo>
                    <a:pt x="1113" y="96"/>
                  </a:lnTo>
                  <a:lnTo>
                    <a:pt x="1109" y="113"/>
                  </a:lnTo>
                  <a:lnTo>
                    <a:pt x="1106" y="132"/>
                  </a:lnTo>
                  <a:lnTo>
                    <a:pt x="1095" y="175"/>
                  </a:lnTo>
                  <a:lnTo>
                    <a:pt x="1082" y="223"/>
                  </a:lnTo>
                  <a:lnTo>
                    <a:pt x="1066" y="276"/>
                  </a:lnTo>
                  <a:lnTo>
                    <a:pt x="1045" y="333"/>
                  </a:lnTo>
                  <a:lnTo>
                    <a:pt x="1021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4" y="591"/>
                  </a:lnTo>
                  <a:lnTo>
                    <a:pt x="898" y="660"/>
                  </a:lnTo>
                  <a:lnTo>
                    <a:pt x="861" y="732"/>
                  </a:lnTo>
                  <a:lnTo>
                    <a:pt x="821" y="805"/>
                  </a:lnTo>
                  <a:lnTo>
                    <a:pt x="779" y="879"/>
                  </a:lnTo>
                  <a:lnTo>
                    <a:pt x="733" y="953"/>
                  </a:lnTo>
                  <a:lnTo>
                    <a:pt x="686" y="1028"/>
                  </a:lnTo>
                  <a:lnTo>
                    <a:pt x="637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4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3" y="1347"/>
                  </a:lnTo>
                  <a:lnTo>
                    <a:pt x="424" y="1380"/>
                  </a:lnTo>
                  <a:lnTo>
                    <a:pt x="396" y="1413"/>
                  </a:lnTo>
                  <a:lnTo>
                    <a:pt x="367" y="1445"/>
                  </a:lnTo>
                  <a:lnTo>
                    <a:pt x="337" y="1476"/>
                  </a:lnTo>
                  <a:lnTo>
                    <a:pt x="308" y="1506"/>
                  </a:lnTo>
                  <a:lnTo>
                    <a:pt x="278" y="1535"/>
                  </a:lnTo>
                  <a:lnTo>
                    <a:pt x="248" y="1564"/>
                  </a:lnTo>
                  <a:lnTo>
                    <a:pt x="219" y="1591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5" y="1690"/>
                  </a:lnTo>
                  <a:lnTo>
                    <a:pt x="64" y="1713"/>
                  </a:lnTo>
                  <a:lnTo>
                    <a:pt x="32" y="1734"/>
                  </a:lnTo>
                  <a:lnTo>
                    <a:pt x="0" y="1752"/>
                  </a:lnTo>
                  <a:lnTo>
                    <a:pt x="81" y="1834"/>
                  </a:lnTo>
                  <a:lnTo>
                    <a:pt x="113" y="1815"/>
                  </a:lnTo>
                  <a:lnTo>
                    <a:pt x="145" y="1794"/>
                  </a:lnTo>
                  <a:lnTo>
                    <a:pt x="177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300" y="1673"/>
                  </a:lnTo>
                  <a:lnTo>
                    <a:pt x="331" y="1646"/>
                  </a:lnTo>
                  <a:lnTo>
                    <a:pt x="360" y="1617"/>
                  </a:lnTo>
                  <a:lnTo>
                    <a:pt x="390" y="1588"/>
                  </a:lnTo>
                  <a:lnTo>
                    <a:pt x="419" y="1558"/>
                  </a:lnTo>
                  <a:lnTo>
                    <a:pt x="449" y="1526"/>
                  </a:lnTo>
                  <a:lnTo>
                    <a:pt x="478" y="1494"/>
                  </a:lnTo>
                  <a:lnTo>
                    <a:pt x="506" y="1462"/>
                  </a:lnTo>
                  <a:lnTo>
                    <a:pt x="533" y="1429"/>
                  </a:lnTo>
                  <a:lnTo>
                    <a:pt x="562" y="1395"/>
                  </a:lnTo>
                  <a:lnTo>
                    <a:pt x="589" y="1361"/>
                  </a:lnTo>
                  <a:lnTo>
                    <a:pt x="616" y="1325"/>
                  </a:lnTo>
                  <a:lnTo>
                    <a:pt x="643" y="1290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4"/>
                  </a:lnTo>
                  <a:lnTo>
                    <a:pt x="859" y="960"/>
                  </a:lnTo>
                  <a:lnTo>
                    <a:pt x="903" y="887"/>
                  </a:lnTo>
                  <a:lnTo>
                    <a:pt x="943" y="814"/>
                  </a:lnTo>
                  <a:lnTo>
                    <a:pt x="980" y="742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3" y="473"/>
                  </a:lnTo>
                  <a:lnTo>
                    <a:pt x="1127" y="414"/>
                  </a:lnTo>
                  <a:lnTo>
                    <a:pt x="1148" y="357"/>
                  </a:lnTo>
                  <a:lnTo>
                    <a:pt x="1165" y="304"/>
                  </a:lnTo>
                  <a:lnTo>
                    <a:pt x="1178" y="256"/>
                  </a:lnTo>
                  <a:lnTo>
                    <a:pt x="1188" y="213"/>
                  </a:lnTo>
                  <a:lnTo>
                    <a:pt x="1191" y="194"/>
                  </a:lnTo>
                  <a:lnTo>
                    <a:pt x="1195" y="175"/>
                  </a:lnTo>
                  <a:lnTo>
                    <a:pt x="1196" y="158"/>
                  </a:lnTo>
                  <a:lnTo>
                    <a:pt x="1197" y="143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5" y="2"/>
                  </a:lnTo>
                  <a:lnTo>
                    <a:pt x="1086" y="0"/>
                  </a:lnTo>
                  <a:lnTo>
                    <a:pt x="1167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3925800" y="3825720"/>
              <a:ext cx="376200" cy="582840"/>
            </a:xfrm>
            <a:custGeom>
              <a:avLst/>
              <a:gdLst/>
              <a:ahLst/>
              <a:rect l="l" t="t" r="r" b="b"/>
              <a:pathLst>
                <a:path w="1187" h="1834">
                  <a:moveTo>
                    <a:pt x="16" y="1752"/>
                  </a:moveTo>
                  <a:lnTo>
                    <a:pt x="97" y="1834"/>
                  </a:lnTo>
                  <a:lnTo>
                    <a:pt x="107" y="1833"/>
                  </a:lnTo>
                  <a:lnTo>
                    <a:pt x="119" y="1829"/>
                  </a:lnTo>
                  <a:lnTo>
                    <a:pt x="131" y="1821"/>
                  </a:lnTo>
                  <a:lnTo>
                    <a:pt x="144" y="1811"/>
                  </a:lnTo>
                  <a:lnTo>
                    <a:pt x="158" y="1800"/>
                  </a:lnTo>
                  <a:lnTo>
                    <a:pt x="173" y="1786"/>
                  </a:lnTo>
                  <a:lnTo>
                    <a:pt x="189" y="1771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1" y="1712"/>
                  </a:lnTo>
                  <a:lnTo>
                    <a:pt x="260" y="1689"/>
                  </a:lnTo>
                  <a:lnTo>
                    <a:pt x="279" y="1664"/>
                  </a:lnTo>
                  <a:lnTo>
                    <a:pt x="319" y="1609"/>
                  </a:lnTo>
                  <a:lnTo>
                    <a:pt x="362" y="1549"/>
                  </a:lnTo>
                  <a:lnTo>
                    <a:pt x="407" y="1484"/>
                  </a:lnTo>
                  <a:lnTo>
                    <a:pt x="453" y="1414"/>
                  </a:lnTo>
                  <a:lnTo>
                    <a:pt x="499" y="1341"/>
                  </a:lnTo>
                  <a:lnTo>
                    <a:pt x="547" y="1265"/>
                  </a:lnTo>
                  <a:lnTo>
                    <a:pt x="596" y="1186"/>
                  </a:lnTo>
                  <a:lnTo>
                    <a:pt x="644" y="1105"/>
                  </a:lnTo>
                  <a:lnTo>
                    <a:pt x="693" y="1024"/>
                  </a:lnTo>
                  <a:lnTo>
                    <a:pt x="741" y="942"/>
                  </a:lnTo>
                  <a:lnTo>
                    <a:pt x="833" y="778"/>
                  </a:lnTo>
                  <a:lnTo>
                    <a:pt x="921" y="620"/>
                  </a:lnTo>
                  <a:lnTo>
                    <a:pt x="1001" y="473"/>
                  </a:lnTo>
                  <a:lnTo>
                    <a:pt x="1069" y="342"/>
                  </a:lnTo>
                  <a:lnTo>
                    <a:pt x="1098" y="284"/>
                  </a:lnTo>
                  <a:lnTo>
                    <a:pt x="1124" y="231"/>
                  </a:lnTo>
                  <a:lnTo>
                    <a:pt x="1146" y="187"/>
                  </a:lnTo>
                  <a:lnTo>
                    <a:pt x="1163" y="148"/>
                  </a:lnTo>
                  <a:lnTo>
                    <a:pt x="1175" y="118"/>
                  </a:lnTo>
                  <a:lnTo>
                    <a:pt x="1183" y="97"/>
                  </a:lnTo>
                  <a:lnTo>
                    <a:pt x="1186" y="89"/>
                  </a:lnTo>
                  <a:lnTo>
                    <a:pt x="1187" y="83"/>
                  </a:lnTo>
                  <a:lnTo>
                    <a:pt x="1186" y="81"/>
                  </a:lnTo>
                  <a:lnTo>
                    <a:pt x="1131" y="18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3" y="82"/>
                  </a:lnTo>
                  <a:lnTo>
                    <a:pt x="1183" y="82"/>
                  </a:lnTo>
                  <a:lnTo>
                    <a:pt x="1158" y="64"/>
                  </a:lnTo>
                  <a:lnTo>
                    <a:pt x="1103" y="3"/>
                  </a:lnTo>
                  <a:lnTo>
                    <a:pt x="1103" y="3"/>
                  </a:lnTo>
                  <a:lnTo>
                    <a:pt x="1103" y="8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1" y="67"/>
                  </a:lnTo>
                  <a:lnTo>
                    <a:pt x="1064" y="106"/>
                  </a:lnTo>
                  <a:lnTo>
                    <a:pt x="1042" y="150"/>
                  </a:lnTo>
                  <a:lnTo>
                    <a:pt x="1016" y="203"/>
                  </a:lnTo>
                  <a:lnTo>
                    <a:pt x="987" y="260"/>
                  </a:lnTo>
                  <a:lnTo>
                    <a:pt x="919" y="391"/>
                  </a:lnTo>
                  <a:lnTo>
                    <a:pt x="839" y="538"/>
                  </a:lnTo>
                  <a:lnTo>
                    <a:pt x="752" y="697"/>
                  </a:lnTo>
                  <a:lnTo>
                    <a:pt x="659" y="860"/>
                  </a:lnTo>
                  <a:lnTo>
                    <a:pt x="611" y="942"/>
                  </a:lnTo>
                  <a:lnTo>
                    <a:pt x="562" y="1024"/>
                  </a:lnTo>
                  <a:lnTo>
                    <a:pt x="514" y="1105"/>
                  </a:lnTo>
                  <a:lnTo>
                    <a:pt x="466" y="1184"/>
                  </a:lnTo>
                  <a:lnTo>
                    <a:pt x="418" y="1260"/>
                  </a:lnTo>
                  <a:lnTo>
                    <a:pt x="370" y="1333"/>
                  </a:lnTo>
                  <a:lnTo>
                    <a:pt x="325" y="1403"/>
                  </a:lnTo>
                  <a:lnTo>
                    <a:pt x="280" y="1468"/>
                  </a:lnTo>
                  <a:lnTo>
                    <a:pt x="238" y="1528"/>
                  </a:lnTo>
                  <a:lnTo>
                    <a:pt x="197" y="1582"/>
                  </a:lnTo>
                  <a:lnTo>
                    <a:pt x="178" y="1607"/>
                  </a:lnTo>
                  <a:lnTo>
                    <a:pt x="160" y="1630"/>
                  </a:lnTo>
                  <a:lnTo>
                    <a:pt x="141" y="1652"/>
                  </a:lnTo>
                  <a:lnTo>
                    <a:pt x="124" y="1671"/>
                  </a:lnTo>
                  <a:lnTo>
                    <a:pt x="107" y="1689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3" y="1730"/>
                  </a:lnTo>
                  <a:lnTo>
                    <a:pt x="49" y="1740"/>
                  </a:lnTo>
                  <a:lnTo>
                    <a:pt x="38" y="1746"/>
                  </a:lnTo>
                  <a:lnTo>
                    <a:pt x="26" y="1750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6" y="1752"/>
                  </a:lnTo>
                  <a:lnTo>
                    <a:pt x="0" y="1813"/>
                  </a:lnTo>
                  <a:lnTo>
                    <a:pt x="97" y="1834"/>
                  </a:lnTo>
                  <a:lnTo>
                    <a:pt x="16" y="175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3424320" y="382572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4" y="1714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5" y="1245"/>
                  </a:lnTo>
                  <a:lnTo>
                    <a:pt x="587" y="1173"/>
                  </a:lnTo>
                  <a:lnTo>
                    <a:pt x="638" y="1101"/>
                  </a:lnTo>
                  <a:lnTo>
                    <a:pt x="686" y="1028"/>
                  </a:lnTo>
                  <a:lnTo>
                    <a:pt x="734" y="954"/>
                  </a:lnTo>
                  <a:lnTo>
                    <a:pt x="779" y="880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8" y="661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3" y="392"/>
                  </a:lnTo>
                  <a:lnTo>
                    <a:pt x="1045" y="332"/>
                  </a:lnTo>
                  <a:lnTo>
                    <a:pt x="1066" y="276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6" y="132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9" y="2"/>
                  </a:lnTo>
                  <a:lnTo>
                    <a:pt x="1085" y="15"/>
                  </a:lnTo>
                  <a:lnTo>
                    <a:pt x="1079" y="36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1" y="203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3" y="538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4"/>
                  </a:lnTo>
                  <a:lnTo>
                    <a:pt x="498" y="1105"/>
                  </a:lnTo>
                  <a:lnTo>
                    <a:pt x="450" y="1184"/>
                  </a:lnTo>
                  <a:lnTo>
                    <a:pt x="402" y="1261"/>
                  </a:lnTo>
                  <a:lnTo>
                    <a:pt x="355" y="1334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2" y="1529"/>
                  </a:lnTo>
                  <a:lnTo>
                    <a:pt x="181" y="1582"/>
                  </a:lnTo>
                  <a:lnTo>
                    <a:pt x="144" y="1630"/>
                  </a:lnTo>
                  <a:lnTo>
                    <a:pt x="108" y="1671"/>
                  </a:lnTo>
                  <a:lnTo>
                    <a:pt x="75" y="1706"/>
                  </a:lnTo>
                  <a:lnTo>
                    <a:pt x="47" y="1731"/>
                  </a:lnTo>
                  <a:lnTo>
                    <a:pt x="22" y="1747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3411360" y="3813120"/>
              <a:ext cx="379440" cy="5828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6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80"/>
                  </a:lnTo>
                  <a:lnTo>
                    <a:pt x="1112" y="24"/>
                  </a:lnTo>
                  <a:lnTo>
                    <a:pt x="1109" y="22"/>
                  </a:lnTo>
                  <a:lnTo>
                    <a:pt x="1112" y="28"/>
                  </a:lnTo>
                  <a:lnTo>
                    <a:pt x="1114" y="39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09" y="114"/>
                  </a:lnTo>
                  <a:lnTo>
                    <a:pt x="1106" y="133"/>
                  </a:lnTo>
                  <a:lnTo>
                    <a:pt x="1097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5" y="333"/>
                  </a:lnTo>
                  <a:lnTo>
                    <a:pt x="1023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4" y="591"/>
                  </a:lnTo>
                  <a:lnTo>
                    <a:pt x="898" y="660"/>
                  </a:lnTo>
                  <a:lnTo>
                    <a:pt x="861" y="732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5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3" y="1347"/>
                  </a:lnTo>
                  <a:lnTo>
                    <a:pt x="424" y="1382"/>
                  </a:lnTo>
                  <a:lnTo>
                    <a:pt x="396" y="1413"/>
                  </a:lnTo>
                  <a:lnTo>
                    <a:pt x="367" y="1445"/>
                  </a:lnTo>
                  <a:lnTo>
                    <a:pt x="337" y="1476"/>
                  </a:lnTo>
                  <a:lnTo>
                    <a:pt x="309" y="1507"/>
                  </a:lnTo>
                  <a:lnTo>
                    <a:pt x="279" y="1536"/>
                  </a:lnTo>
                  <a:lnTo>
                    <a:pt x="249" y="1564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7" y="1668"/>
                  </a:lnTo>
                  <a:lnTo>
                    <a:pt x="95" y="1692"/>
                  </a:lnTo>
                  <a:lnTo>
                    <a:pt x="64" y="1714"/>
                  </a:lnTo>
                  <a:lnTo>
                    <a:pt x="32" y="1734"/>
                  </a:lnTo>
                  <a:lnTo>
                    <a:pt x="0" y="1753"/>
                  </a:lnTo>
                  <a:lnTo>
                    <a:pt x="82" y="1834"/>
                  </a:lnTo>
                  <a:lnTo>
                    <a:pt x="113" y="1816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6"/>
                  </a:lnTo>
                  <a:lnTo>
                    <a:pt x="360" y="1618"/>
                  </a:lnTo>
                  <a:lnTo>
                    <a:pt x="390" y="1588"/>
                  </a:lnTo>
                  <a:lnTo>
                    <a:pt x="420" y="1558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29"/>
                  </a:lnTo>
                  <a:lnTo>
                    <a:pt x="562" y="1395"/>
                  </a:lnTo>
                  <a:lnTo>
                    <a:pt x="589" y="1361"/>
                  </a:lnTo>
                  <a:lnTo>
                    <a:pt x="617" y="1326"/>
                  </a:lnTo>
                  <a:lnTo>
                    <a:pt x="643" y="1291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6"/>
                  </a:lnTo>
                  <a:lnTo>
                    <a:pt x="861" y="962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0" y="743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4" y="475"/>
                  </a:lnTo>
                  <a:lnTo>
                    <a:pt x="1127" y="414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8" y="214"/>
                  </a:lnTo>
                  <a:lnTo>
                    <a:pt x="1192" y="194"/>
                  </a:lnTo>
                  <a:lnTo>
                    <a:pt x="1195" y="176"/>
                  </a:lnTo>
                  <a:lnTo>
                    <a:pt x="1197" y="160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2"/>
                  </a:lnTo>
                  <a:lnTo>
                    <a:pt x="1096" y="2"/>
                  </a:lnTo>
                  <a:lnTo>
                    <a:pt x="1086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3" y="55"/>
                  </a:lnTo>
                  <a:lnTo>
                    <a:pt x="1166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3406680" y="3813120"/>
              <a:ext cx="376200" cy="582840"/>
            </a:xfrm>
            <a:custGeom>
              <a:avLst/>
              <a:gdLst/>
              <a:ahLst/>
              <a:rect l="l" t="t" r="r" b="b"/>
              <a:pathLst>
                <a:path w="1186" h="1834">
                  <a:moveTo>
                    <a:pt x="15" y="1753"/>
                  </a:moveTo>
                  <a:lnTo>
                    <a:pt x="96" y="1834"/>
                  </a:lnTo>
                  <a:lnTo>
                    <a:pt x="106" y="1833"/>
                  </a:lnTo>
                  <a:lnTo>
                    <a:pt x="118" y="1829"/>
                  </a:lnTo>
                  <a:lnTo>
                    <a:pt x="130" y="1822"/>
                  </a:lnTo>
                  <a:lnTo>
                    <a:pt x="143" y="1812"/>
                  </a:lnTo>
                  <a:lnTo>
                    <a:pt x="158" y="1800"/>
                  </a:lnTo>
                  <a:lnTo>
                    <a:pt x="172" y="1787"/>
                  </a:lnTo>
                  <a:lnTo>
                    <a:pt x="188" y="1772"/>
                  </a:lnTo>
                  <a:lnTo>
                    <a:pt x="205" y="1753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59" y="1690"/>
                  </a:lnTo>
                  <a:lnTo>
                    <a:pt x="278" y="1664"/>
                  </a:lnTo>
                  <a:lnTo>
                    <a:pt x="319" y="1610"/>
                  </a:lnTo>
                  <a:lnTo>
                    <a:pt x="362" y="1550"/>
                  </a:lnTo>
                  <a:lnTo>
                    <a:pt x="406" y="1485"/>
                  </a:lnTo>
                  <a:lnTo>
                    <a:pt x="452" y="1416"/>
                  </a:lnTo>
                  <a:lnTo>
                    <a:pt x="500" y="1342"/>
                  </a:lnTo>
                  <a:lnTo>
                    <a:pt x="547" y="1265"/>
                  </a:lnTo>
                  <a:lnTo>
                    <a:pt x="595" y="1186"/>
                  </a:lnTo>
                  <a:lnTo>
                    <a:pt x="644" y="1107"/>
                  </a:lnTo>
                  <a:lnTo>
                    <a:pt x="692" y="1024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0" y="621"/>
                  </a:lnTo>
                  <a:lnTo>
                    <a:pt x="1000" y="473"/>
                  </a:lnTo>
                  <a:lnTo>
                    <a:pt x="1068" y="342"/>
                  </a:lnTo>
                  <a:lnTo>
                    <a:pt x="1097" y="284"/>
                  </a:lnTo>
                  <a:lnTo>
                    <a:pt x="1123" y="233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6" y="119"/>
                  </a:lnTo>
                  <a:lnTo>
                    <a:pt x="1182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6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8"/>
                  </a:lnTo>
                  <a:lnTo>
                    <a:pt x="1100" y="16"/>
                  </a:lnTo>
                  <a:lnTo>
                    <a:pt x="1093" y="38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1" y="151"/>
                  </a:lnTo>
                  <a:lnTo>
                    <a:pt x="1016" y="203"/>
                  </a:lnTo>
                  <a:lnTo>
                    <a:pt x="986" y="261"/>
                  </a:lnTo>
                  <a:lnTo>
                    <a:pt x="918" y="392"/>
                  </a:lnTo>
                  <a:lnTo>
                    <a:pt x="838" y="538"/>
                  </a:lnTo>
                  <a:lnTo>
                    <a:pt x="751" y="697"/>
                  </a:lnTo>
                  <a:lnTo>
                    <a:pt x="658" y="860"/>
                  </a:lnTo>
                  <a:lnTo>
                    <a:pt x="610" y="943"/>
                  </a:lnTo>
                  <a:lnTo>
                    <a:pt x="562" y="1024"/>
                  </a:lnTo>
                  <a:lnTo>
                    <a:pt x="513" y="1105"/>
                  </a:lnTo>
                  <a:lnTo>
                    <a:pt x="465" y="1184"/>
                  </a:lnTo>
                  <a:lnTo>
                    <a:pt x="417" y="1261"/>
                  </a:lnTo>
                  <a:lnTo>
                    <a:pt x="371" y="1334"/>
                  </a:lnTo>
                  <a:lnTo>
                    <a:pt x="324" y="1403"/>
                  </a:lnTo>
                  <a:lnTo>
                    <a:pt x="280" y="1468"/>
                  </a:lnTo>
                  <a:lnTo>
                    <a:pt x="237" y="1529"/>
                  </a:lnTo>
                  <a:lnTo>
                    <a:pt x="196" y="1582"/>
                  </a:lnTo>
                  <a:lnTo>
                    <a:pt x="177" y="1607"/>
                  </a:lnTo>
                  <a:lnTo>
                    <a:pt x="159" y="1631"/>
                  </a:lnTo>
                  <a:lnTo>
                    <a:pt x="140" y="1652"/>
                  </a:lnTo>
                  <a:lnTo>
                    <a:pt x="123" y="1671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5" y="1719"/>
                  </a:lnTo>
                  <a:lnTo>
                    <a:pt x="62" y="1731"/>
                  </a:lnTo>
                  <a:lnTo>
                    <a:pt x="49" y="1740"/>
                  </a:lnTo>
                  <a:lnTo>
                    <a:pt x="37" y="1747"/>
                  </a:lnTo>
                  <a:lnTo>
                    <a:pt x="25" y="1751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5" y="1753"/>
                  </a:lnTo>
                  <a:lnTo>
                    <a:pt x="0" y="1813"/>
                  </a:lnTo>
                  <a:lnTo>
                    <a:pt x="96" y="1834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3514680" y="3857760"/>
              <a:ext cx="353880" cy="5554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3" y="1712"/>
                  </a:lnTo>
                  <a:lnTo>
                    <a:pt x="125" y="1668"/>
                  </a:lnTo>
                  <a:lnTo>
                    <a:pt x="187" y="1618"/>
                  </a:lnTo>
                  <a:lnTo>
                    <a:pt x="249" y="1564"/>
                  </a:lnTo>
                  <a:lnTo>
                    <a:pt x="308" y="1506"/>
                  </a:lnTo>
                  <a:lnTo>
                    <a:pt x="367" y="1444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5" y="1244"/>
                  </a:lnTo>
                  <a:lnTo>
                    <a:pt x="587" y="1173"/>
                  </a:lnTo>
                  <a:lnTo>
                    <a:pt x="637" y="1101"/>
                  </a:lnTo>
                  <a:lnTo>
                    <a:pt x="686" y="1027"/>
                  </a:lnTo>
                  <a:lnTo>
                    <a:pt x="733" y="953"/>
                  </a:lnTo>
                  <a:lnTo>
                    <a:pt x="779" y="880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8" y="661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2" y="392"/>
                  </a:lnTo>
                  <a:lnTo>
                    <a:pt x="1045" y="332"/>
                  </a:lnTo>
                  <a:lnTo>
                    <a:pt x="1066" y="275"/>
                  </a:lnTo>
                  <a:lnTo>
                    <a:pt x="1082" y="222"/>
                  </a:lnTo>
                  <a:lnTo>
                    <a:pt x="1096" y="176"/>
                  </a:lnTo>
                  <a:lnTo>
                    <a:pt x="1106" y="132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8" y="2"/>
                  </a:lnTo>
                  <a:lnTo>
                    <a:pt x="1085" y="15"/>
                  </a:lnTo>
                  <a:lnTo>
                    <a:pt x="1077" y="36"/>
                  </a:lnTo>
                  <a:lnTo>
                    <a:pt x="1065" y="66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3" y="538"/>
                  </a:lnTo>
                  <a:lnTo>
                    <a:pt x="735" y="696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6" y="1024"/>
                  </a:lnTo>
                  <a:lnTo>
                    <a:pt x="498" y="1104"/>
                  </a:lnTo>
                  <a:lnTo>
                    <a:pt x="449" y="1183"/>
                  </a:lnTo>
                  <a:lnTo>
                    <a:pt x="401" y="1259"/>
                  </a:lnTo>
                  <a:lnTo>
                    <a:pt x="355" y="1334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2" y="1528"/>
                  </a:lnTo>
                  <a:lnTo>
                    <a:pt x="181" y="1582"/>
                  </a:lnTo>
                  <a:lnTo>
                    <a:pt x="143" y="1630"/>
                  </a:lnTo>
                  <a:lnTo>
                    <a:pt x="107" y="1671"/>
                  </a:lnTo>
                  <a:lnTo>
                    <a:pt x="75" y="1704"/>
                  </a:lnTo>
                  <a:lnTo>
                    <a:pt x="46" y="1730"/>
                  </a:lnTo>
                  <a:lnTo>
                    <a:pt x="21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3502080" y="384336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5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80"/>
                  </a:lnTo>
                  <a:lnTo>
                    <a:pt x="1112" y="24"/>
                  </a:lnTo>
                  <a:lnTo>
                    <a:pt x="1109" y="20"/>
                  </a:lnTo>
                  <a:lnTo>
                    <a:pt x="1112" y="28"/>
                  </a:lnTo>
                  <a:lnTo>
                    <a:pt x="1114" y="38"/>
                  </a:lnTo>
                  <a:lnTo>
                    <a:pt x="1115" y="50"/>
                  </a:lnTo>
                  <a:lnTo>
                    <a:pt x="1115" y="63"/>
                  </a:lnTo>
                  <a:lnTo>
                    <a:pt x="1114" y="79"/>
                  </a:lnTo>
                  <a:lnTo>
                    <a:pt x="1113" y="95"/>
                  </a:lnTo>
                  <a:lnTo>
                    <a:pt x="1109" y="113"/>
                  </a:lnTo>
                  <a:lnTo>
                    <a:pt x="1106" y="132"/>
                  </a:lnTo>
                  <a:lnTo>
                    <a:pt x="1096" y="176"/>
                  </a:lnTo>
                  <a:lnTo>
                    <a:pt x="1082" y="223"/>
                  </a:lnTo>
                  <a:lnTo>
                    <a:pt x="1066" y="276"/>
                  </a:lnTo>
                  <a:lnTo>
                    <a:pt x="1045" y="332"/>
                  </a:lnTo>
                  <a:lnTo>
                    <a:pt x="1021" y="392"/>
                  </a:lnTo>
                  <a:lnTo>
                    <a:pt x="995" y="455"/>
                  </a:lnTo>
                  <a:lnTo>
                    <a:pt x="966" y="521"/>
                  </a:lnTo>
                  <a:lnTo>
                    <a:pt x="934" y="590"/>
                  </a:lnTo>
                  <a:lnTo>
                    <a:pt x="898" y="660"/>
                  </a:lnTo>
                  <a:lnTo>
                    <a:pt x="861" y="732"/>
                  </a:lnTo>
                  <a:lnTo>
                    <a:pt x="821" y="805"/>
                  </a:lnTo>
                  <a:lnTo>
                    <a:pt x="779" y="880"/>
                  </a:lnTo>
                  <a:lnTo>
                    <a:pt x="733" y="954"/>
                  </a:lnTo>
                  <a:lnTo>
                    <a:pt x="686" y="1028"/>
                  </a:lnTo>
                  <a:lnTo>
                    <a:pt x="637" y="1101"/>
                  </a:lnTo>
                  <a:lnTo>
                    <a:pt x="587" y="1173"/>
                  </a:lnTo>
                  <a:lnTo>
                    <a:pt x="561" y="1209"/>
                  </a:lnTo>
                  <a:lnTo>
                    <a:pt x="535" y="1245"/>
                  </a:lnTo>
                  <a:lnTo>
                    <a:pt x="507" y="1279"/>
                  </a:lnTo>
                  <a:lnTo>
                    <a:pt x="480" y="1313"/>
                  </a:lnTo>
                  <a:lnTo>
                    <a:pt x="453" y="1347"/>
                  </a:lnTo>
                  <a:lnTo>
                    <a:pt x="424" y="1380"/>
                  </a:lnTo>
                  <a:lnTo>
                    <a:pt x="396" y="1413"/>
                  </a:lnTo>
                  <a:lnTo>
                    <a:pt x="367" y="1444"/>
                  </a:lnTo>
                  <a:lnTo>
                    <a:pt x="337" y="1476"/>
                  </a:lnTo>
                  <a:lnTo>
                    <a:pt x="308" y="1506"/>
                  </a:lnTo>
                  <a:lnTo>
                    <a:pt x="278" y="1536"/>
                  </a:lnTo>
                  <a:lnTo>
                    <a:pt x="249" y="1564"/>
                  </a:lnTo>
                  <a:lnTo>
                    <a:pt x="218" y="1591"/>
                  </a:lnTo>
                  <a:lnTo>
                    <a:pt x="188" y="1618"/>
                  </a:lnTo>
                  <a:lnTo>
                    <a:pt x="157" y="1644"/>
                  </a:lnTo>
                  <a:lnTo>
                    <a:pt x="125" y="1668"/>
                  </a:lnTo>
                  <a:lnTo>
                    <a:pt x="95" y="1691"/>
                  </a:lnTo>
                  <a:lnTo>
                    <a:pt x="64" y="1712"/>
                  </a:lnTo>
                  <a:lnTo>
                    <a:pt x="32" y="1733"/>
                  </a:lnTo>
                  <a:lnTo>
                    <a:pt x="0" y="1752"/>
                  </a:lnTo>
                  <a:lnTo>
                    <a:pt x="81" y="1834"/>
                  </a:lnTo>
                  <a:lnTo>
                    <a:pt x="113" y="1815"/>
                  </a:lnTo>
                  <a:lnTo>
                    <a:pt x="145" y="1794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8" y="1725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6"/>
                  </a:lnTo>
                  <a:lnTo>
                    <a:pt x="360" y="1618"/>
                  </a:lnTo>
                  <a:lnTo>
                    <a:pt x="390" y="1588"/>
                  </a:lnTo>
                  <a:lnTo>
                    <a:pt x="420" y="1558"/>
                  </a:lnTo>
                  <a:lnTo>
                    <a:pt x="449" y="1526"/>
                  </a:lnTo>
                  <a:lnTo>
                    <a:pt x="478" y="1494"/>
                  </a:lnTo>
                  <a:lnTo>
                    <a:pt x="506" y="1462"/>
                  </a:lnTo>
                  <a:lnTo>
                    <a:pt x="534" y="1429"/>
                  </a:lnTo>
                  <a:lnTo>
                    <a:pt x="562" y="1395"/>
                  </a:lnTo>
                  <a:lnTo>
                    <a:pt x="589" y="1361"/>
                  </a:lnTo>
                  <a:lnTo>
                    <a:pt x="616" y="1326"/>
                  </a:lnTo>
                  <a:lnTo>
                    <a:pt x="643" y="1290"/>
                  </a:lnTo>
                  <a:lnTo>
                    <a:pt x="669" y="1255"/>
                  </a:lnTo>
                  <a:lnTo>
                    <a:pt x="719" y="1182"/>
                  </a:lnTo>
                  <a:lnTo>
                    <a:pt x="768" y="1109"/>
                  </a:lnTo>
                  <a:lnTo>
                    <a:pt x="815" y="1035"/>
                  </a:lnTo>
                  <a:lnTo>
                    <a:pt x="860" y="961"/>
                  </a:lnTo>
                  <a:lnTo>
                    <a:pt x="903" y="886"/>
                  </a:lnTo>
                  <a:lnTo>
                    <a:pt x="943" y="813"/>
                  </a:lnTo>
                  <a:lnTo>
                    <a:pt x="980" y="741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4" y="473"/>
                  </a:lnTo>
                  <a:lnTo>
                    <a:pt x="1127" y="413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8" y="257"/>
                  </a:lnTo>
                  <a:lnTo>
                    <a:pt x="1188" y="213"/>
                  </a:lnTo>
                  <a:lnTo>
                    <a:pt x="1191" y="194"/>
                  </a:lnTo>
                  <a:lnTo>
                    <a:pt x="1195" y="176"/>
                  </a:lnTo>
                  <a:lnTo>
                    <a:pt x="1196" y="158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1"/>
                  </a:lnTo>
                  <a:lnTo>
                    <a:pt x="1096" y="1"/>
                  </a:lnTo>
                  <a:lnTo>
                    <a:pt x="1086" y="0"/>
                  </a:lnTo>
                  <a:lnTo>
                    <a:pt x="1166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3497400" y="3843360"/>
              <a:ext cx="376200" cy="582480"/>
            </a:xfrm>
            <a:custGeom>
              <a:avLst/>
              <a:gdLst/>
              <a:ahLst/>
              <a:rect l="l" t="t" r="r" b="b"/>
              <a:pathLst>
                <a:path w="1187" h="1835">
                  <a:moveTo>
                    <a:pt x="16" y="1753"/>
                  </a:moveTo>
                  <a:lnTo>
                    <a:pt x="97" y="1835"/>
                  </a:lnTo>
                  <a:lnTo>
                    <a:pt x="107" y="1833"/>
                  </a:lnTo>
                  <a:lnTo>
                    <a:pt x="119" y="1829"/>
                  </a:lnTo>
                  <a:lnTo>
                    <a:pt x="131" y="1822"/>
                  </a:lnTo>
                  <a:lnTo>
                    <a:pt x="144" y="1813"/>
                  </a:lnTo>
                  <a:lnTo>
                    <a:pt x="159" y="1801"/>
                  </a:lnTo>
                  <a:lnTo>
                    <a:pt x="173" y="1788"/>
                  </a:lnTo>
                  <a:lnTo>
                    <a:pt x="189" y="1772"/>
                  </a:lnTo>
                  <a:lnTo>
                    <a:pt x="205" y="1754"/>
                  </a:lnTo>
                  <a:lnTo>
                    <a:pt x="222" y="1734"/>
                  </a:lnTo>
                  <a:lnTo>
                    <a:pt x="241" y="1713"/>
                  </a:lnTo>
                  <a:lnTo>
                    <a:pt x="260" y="1689"/>
                  </a:lnTo>
                  <a:lnTo>
                    <a:pt x="279" y="1665"/>
                  </a:lnTo>
                  <a:lnTo>
                    <a:pt x="319" y="1611"/>
                  </a:lnTo>
                  <a:lnTo>
                    <a:pt x="363" y="1550"/>
                  </a:lnTo>
                  <a:lnTo>
                    <a:pt x="407" y="1485"/>
                  </a:lnTo>
                  <a:lnTo>
                    <a:pt x="453" y="1416"/>
                  </a:lnTo>
                  <a:lnTo>
                    <a:pt x="499" y="1343"/>
                  </a:lnTo>
                  <a:lnTo>
                    <a:pt x="547" y="1266"/>
                  </a:lnTo>
                  <a:lnTo>
                    <a:pt x="596" y="1187"/>
                  </a:lnTo>
                  <a:lnTo>
                    <a:pt x="644" y="1106"/>
                  </a:lnTo>
                  <a:lnTo>
                    <a:pt x="693" y="1024"/>
                  </a:lnTo>
                  <a:lnTo>
                    <a:pt x="741" y="942"/>
                  </a:lnTo>
                  <a:lnTo>
                    <a:pt x="833" y="779"/>
                  </a:lnTo>
                  <a:lnTo>
                    <a:pt x="921" y="620"/>
                  </a:lnTo>
                  <a:lnTo>
                    <a:pt x="1000" y="473"/>
                  </a:lnTo>
                  <a:lnTo>
                    <a:pt x="1068" y="343"/>
                  </a:lnTo>
                  <a:lnTo>
                    <a:pt x="1098" y="285"/>
                  </a:lnTo>
                  <a:lnTo>
                    <a:pt x="1124" y="232"/>
                  </a:lnTo>
                  <a:lnTo>
                    <a:pt x="1146" y="188"/>
                  </a:lnTo>
                  <a:lnTo>
                    <a:pt x="1163" y="149"/>
                  </a:lnTo>
                  <a:lnTo>
                    <a:pt x="1175" y="120"/>
                  </a:lnTo>
                  <a:lnTo>
                    <a:pt x="1183" y="98"/>
                  </a:lnTo>
                  <a:lnTo>
                    <a:pt x="1186" y="90"/>
                  </a:lnTo>
                  <a:lnTo>
                    <a:pt x="1187" y="84"/>
                  </a:lnTo>
                  <a:lnTo>
                    <a:pt x="1186" y="82"/>
                  </a:lnTo>
                  <a:lnTo>
                    <a:pt x="1131" y="19"/>
                  </a:lnTo>
                  <a:lnTo>
                    <a:pt x="1104" y="0"/>
                  </a:lnTo>
                  <a:lnTo>
                    <a:pt x="1101" y="1"/>
                  </a:lnTo>
                  <a:lnTo>
                    <a:pt x="1182" y="83"/>
                  </a:lnTo>
                  <a:lnTo>
                    <a:pt x="1183" y="83"/>
                  </a:lnTo>
                  <a:lnTo>
                    <a:pt x="1158" y="64"/>
                  </a:lnTo>
                  <a:lnTo>
                    <a:pt x="1104" y="4"/>
                  </a:lnTo>
                  <a:lnTo>
                    <a:pt x="1104" y="4"/>
                  </a:lnTo>
                  <a:lnTo>
                    <a:pt x="1104" y="9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1" y="68"/>
                  </a:lnTo>
                  <a:lnTo>
                    <a:pt x="1064" y="106"/>
                  </a:lnTo>
                  <a:lnTo>
                    <a:pt x="1042" y="151"/>
                  </a:lnTo>
                  <a:lnTo>
                    <a:pt x="1016" y="204"/>
                  </a:lnTo>
                  <a:lnTo>
                    <a:pt x="987" y="261"/>
                  </a:lnTo>
                  <a:lnTo>
                    <a:pt x="919" y="392"/>
                  </a:lnTo>
                  <a:lnTo>
                    <a:pt x="839" y="539"/>
                  </a:lnTo>
                  <a:lnTo>
                    <a:pt x="752" y="698"/>
                  </a:lnTo>
                  <a:lnTo>
                    <a:pt x="659" y="861"/>
                  </a:lnTo>
                  <a:lnTo>
                    <a:pt x="611" y="943"/>
                  </a:lnTo>
                  <a:lnTo>
                    <a:pt x="562" y="1025"/>
                  </a:lnTo>
                  <a:lnTo>
                    <a:pt x="514" y="1106"/>
                  </a:lnTo>
                  <a:lnTo>
                    <a:pt x="465" y="1185"/>
                  </a:lnTo>
                  <a:lnTo>
                    <a:pt x="418" y="1262"/>
                  </a:lnTo>
                  <a:lnTo>
                    <a:pt x="371" y="1335"/>
                  </a:lnTo>
                  <a:lnTo>
                    <a:pt x="325" y="1404"/>
                  </a:lnTo>
                  <a:lnTo>
                    <a:pt x="281" y="1469"/>
                  </a:lnTo>
                  <a:lnTo>
                    <a:pt x="238" y="1530"/>
                  </a:lnTo>
                  <a:lnTo>
                    <a:pt x="197" y="1583"/>
                  </a:lnTo>
                  <a:lnTo>
                    <a:pt x="178" y="1608"/>
                  </a:lnTo>
                  <a:lnTo>
                    <a:pt x="160" y="1631"/>
                  </a:lnTo>
                  <a:lnTo>
                    <a:pt x="141" y="1653"/>
                  </a:lnTo>
                  <a:lnTo>
                    <a:pt x="123" y="1672"/>
                  </a:lnTo>
                  <a:lnTo>
                    <a:pt x="107" y="1691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3" y="1730"/>
                  </a:lnTo>
                  <a:lnTo>
                    <a:pt x="49" y="1740"/>
                  </a:lnTo>
                  <a:lnTo>
                    <a:pt x="38" y="1746"/>
                  </a:lnTo>
                  <a:lnTo>
                    <a:pt x="26" y="1751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6" y="1753"/>
                  </a:lnTo>
                  <a:lnTo>
                    <a:pt x="0" y="1814"/>
                  </a:lnTo>
                  <a:lnTo>
                    <a:pt x="97" y="1835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2944800" y="3825720"/>
              <a:ext cx="355680" cy="555840"/>
            </a:xfrm>
            <a:custGeom>
              <a:avLst/>
              <a:gdLst/>
              <a:ahLst/>
              <a:rect l="l" t="t" r="r" b="b"/>
              <a:pathLst>
                <a:path w="1116" h="1752">
                  <a:moveTo>
                    <a:pt x="0" y="1752"/>
                  </a:moveTo>
                  <a:lnTo>
                    <a:pt x="64" y="1712"/>
                  </a:lnTo>
                  <a:lnTo>
                    <a:pt x="126" y="1668"/>
                  </a:lnTo>
                  <a:lnTo>
                    <a:pt x="188" y="1617"/>
                  </a:lnTo>
                  <a:lnTo>
                    <a:pt x="250" y="1564"/>
                  </a:lnTo>
                  <a:lnTo>
                    <a:pt x="309" y="1506"/>
                  </a:lnTo>
                  <a:lnTo>
                    <a:pt x="367" y="1445"/>
                  </a:lnTo>
                  <a:lnTo>
                    <a:pt x="425" y="1380"/>
                  </a:lnTo>
                  <a:lnTo>
                    <a:pt x="481" y="1313"/>
                  </a:lnTo>
                  <a:lnTo>
                    <a:pt x="535" y="1244"/>
                  </a:lnTo>
                  <a:lnTo>
                    <a:pt x="587" y="1173"/>
                  </a:lnTo>
                  <a:lnTo>
                    <a:pt x="638" y="1101"/>
                  </a:lnTo>
                  <a:lnTo>
                    <a:pt x="687" y="1028"/>
                  </a:lnTo>
                  <a:lnTo>
                    <a:pt x="734" y="953"/>
                  </a:lnTo>
                  <a:lnTo>
                    <a:pt x="778" y="879"/>
                  </a:lnTo>
                  <a:lnTo>
                    <a:pt x="821" y="805"/>
                  </a:lnTo>
                  <a:lnTo>
                    <a:pt x="862" y="732"/>
                  </a:lnTo>
                  <a:lnTo>
                    <a:pt x="899" y="660"/>
                  </a:lnTo>
                  <a:lnTo>
                    <a:pt x="934" y="590"/>
                  </a:lnTo>
                  <a:lnTo>
                    <a:pt x="967" y="521"/>
                  </a:lnTo>
                  <a:lnTo>
                    <a:pt x="996" y="455"/>
                  </a:lnTo>
                  <a:lnTo>
                    <a:pt x="1022" y="392"/>
                  </a:lnTo>
                  <a:lnTo>
                    <a:pt x="1045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7" y="132"/>
                  </a:lnTo>
                  <a:lnTo>
                    <a:pt x="1112" y="94"/>
                  </a:lnTo>
                  <a:lnTo>
                    <a:pt x="1116" y="62"/>
                  </a:lnTo>
                  <a:lnTo>
                    <a:pt x="1114" y="36"/>
                  </a:lnTo>
                  <a:lnTo>
                    <a:pt x="1109" y="17"/>
                  </a:lnTo>
                  <a:lnTo>
                    <a:pt x="1099" y="4"/>
                  </a:lnTo>
                  <a:lnTo>
                    <a:pt x="1086" y="0"/>
                  </a:lnTo>
                  <a:lnTo>
                    <a:pt x="1089" y="2"/>
                  </a:lnTo>
                  <a:lnTo>
                    <a:pt x="1086" y="15"/>
                  </a:lnTo>
                  <a:lnTo>
                    <a:pt x="1078" y="36"/>
                  </a:lnTo>
                  <a:lnTo>
                    <a:pt x="1066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1" y="202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4" y="538"/>
                  </a:lnTo>
                  <a:lnTo>
                    <a:pt x="736" y="696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4"/>
                  </a:lnTo>
                  <a:lnTo>
                    <a:pt x="498" y="1104"/>
                  </a:lnTo>
                  <a:lnTo>
                    <a:pt x="450" y="1184"/>
                  </a:lnTo>
                  <a:lnTo>
                    <a:pt x="402" y="1260"/>
                  </a:lnTo>
                  <a:lnTo>
                    <a:pt x="356" y="1333"/>
                  </a:lnTo>
                  <a:lnTo>
                    <a:pt x="310" y="1403"/>
                  </a:lnTo>
                  <a:lnTo>
                    <a:pt x="265" y="1468"/>
                  </a:lnTo>
                  <a:lnTo>
                    <a:pt x="222" y="1527"/>
                  </a:lnTo>
                  <a:lnTo>
                    <a:pt x="182" y="1582"/>
                  </a:lnTo>
                  <a:lnTo>
                    <a:pt x="143" y="1630"/>
                  </a:lnTo>
                  <a:lnTo>
                    <a:pt x="108" y="1671"/>
                  </a:lnTo>
                  <a:lnTo>
                    <a:pt x="76" y="1704"/>
                  </a:lnTo>
                  <a:lnTo>
                    <a:pt x="47" y="1729"/>
                  </a:lnTo>
                  <a:lnTo>
                    <a:pt x="22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2932200" y="3813120"/>
              <a:ext cx="380880" cy="5810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5" y="0"/>
                  </a:moveTo>
                  <a:lnTo>
                    <a:pt x="1165" y="82"/>
                  </a:lnTo>
                  <a:lnTo>
                    <a:pt x="1172" y="83"/>
                  </a:lnTo>
                  <a:lnTo>
                    <a:pt x="1166" y="79"/>
                  </a:lnTo>
                  <a:lnTo>
                    <a:pt x="1111" y="24"/>
                  </a:lnTo>
                  <a:lnTo>
                    <a:pt x="1108" y="20"/>
                  </a:lnTo>
                  <a:lnTo>
                    <a:pt x="1111" y="28"/>
                  </a:lnTo>
                  <a:lnTo>
                    <a:pt x="1113" y="37"/>
                  </a:lnTo>
                  <a:lnTo>
                    <a:pt x="1114" y="50"/>
                  </a:lnTo>
                  <a:lnTo>
                    <a:pt x="1114" y="64"/>
                  </a:lnTo>
                  <a:lnTo>
                    <a:pt x="1114" y="78"/>
                  </a:lnTo>
                  <a:lnTo>
                    <a:pt x="1111" y="95"/>
                  </a:lnTo>
                  <a:lnTo>
                    <a:pt x="1109" y="113"/>
                  </a:lnTo>
                  <a:lnTo>
                    <a:pt x="1106" y="132"/>
                  </a:lnTo>
                  <a:lnTo>
                    <a:pt x="1095" y="175"/>
                  </a:lnTo>
                  <a:lnTo>
                    <a:pt x="1082" y="223"/>
                  </a:lnTo>
                  <a:lnTo>
                    <a:pt x="1065" y="276"/>
                  </a:lnTo>
                  <a:lnTo>
                    <a:pt x="1044" y="333"/>
                  </a:lnTo>
                  <a:lnTo>
                    <a:pt x="1021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2" y="591"/>
                  </a:lnTo>
                  <a:lnTo>
                    <a:pt x="898" y="660"/>
                  </a:lnTo>
                  <a:lnTo>
                    <a:pt x="861" y="732"/>
                  </a:lnTo>
                  <a:lnTo>
                    <a:pt x="821" y="805"/>
                  </a:lnTo>
                  <a:lnTo>
                    <a:pt x="777" y="879"/>
                  </a:lnTo>
                  <a:lnTo>
                    <a:pt x="733" y="953"/>
                  </a:lnTo>
                  <a:lnTo>
                    <a:pt x="686" y="1028"/>
                  </a:lnTo>
                  <a:lnTo>
                    <a:pt x="637" y="1101"/>
                  </a:lnTo>
                  <a:lnTo>
                    <a:pt x="586" y="1174"/>
                  </a:lnTo>
                  <a:lnTo>
                    <a:pt x="561" y="1209"/>
                  </a:lnTo>
                  <a:lnTo>
                    <a:pt x="533" y="1244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1" y="1347"/>
                  </a:lnTo>
                  <a:lnTo>
                    <a:pt x="424" y="1380"/>
                  </a:lnTo>
                  <a:lnTo>
                    <a:pt x="396" y="1413"/>
                  </a:lnTo>
                  <a:lnTo>
                    <a:pt x="366" y="1445"/>
                  </a:lnTo>
                  <a:lnTo>
                    <a:pt x="337" y="1476"/>
                  </a:lnTo>
                  <a:lnTo>
                    <a:pt x="308" y="1507"/>
                  </a:lnTo>
                  <a:lnTo>
                    <a:pt x="278" y="1535"/>
                  </a:lnTo>
                  <a:lnTo>
                    <a:pt x="248" y="1564"/>
                  </a:lnTo>
                  <a:lnTo>
                    <a:pt x="218" y="1591"/>
                  </a:lnTo>
                  <a:lnTo>
                    <a:pt x="187" y="1619"/>
                  </a:lnTo>
                  <a:lnTo>
                    <a:pt x="156" y="1644"/>
                  </a:lnTo>
                  <a:lnTo>
                    <a:pt x="125" y="1668"/>
                  </a:lnTo>
                  <a:lnTo>
                    <a:pt x="95" y="1690"/>
                  </a:lnTo>
                  <a:lnTo>
                    <a:pt x="63" y="1713"/>
                  </a:lnTo>
                  <a:lnTo>
                    <a:pt x="31" y="1734"/>
                  </a:lnTo>
                  <a:lnTo>
                    <a:pt x="0" y="1752"/>
                  </a:lnTo>
                  <a:lnTo>
                    <a:pt x="81" y="1834"/>
                  </a:lnTo>
                  <a:lnTo>
                    <a:pt x="113" y="1815"/>
                  </a:lnTo>
                  <a:lnTo>
                    <a:pt x="145" y="1794"/>
                  </a:lnTo>
                  <a:lnTo>
                    <a:pt x="176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300" y="1673"/>
                  </a:lnTo>
                  <a:lnTo>
                    <a:pt x="329" y="1646"/>
                  </a:lnTo>
                  <a:lnTo>
                    <a:pt x="360" y="1617"/>
                  </a:lnTo>
                  <a:lnTo>
                    <a:pt x="390" y="1588"/>
                  </a:lnTo>
                  <a:lnTo>
                    <a:pt x="419" y="1558"/>
                  </a:lnTo>
                  <a:lnTo>
                    <a:pt x="448" y="1527"/>
                  </a:lnTo>
                  <a:lnTo>
                    <a:pt x="476" y="1495"/>
                  </a:lnTo>
                  <a:lnTo>
                    <a:pt x="505" y="1462"/>
                  </a:lnTo>
                  <a:lnTo>
                    <a:pt x="533" y="1429"/>
                  </a:lnTo>
                  <a:lnTo>
                    <a:pt x="561" y="1395"/>
                  </a:lnTo>
                  <a:lnTo>
                    <a:pt x="588" y="1361"/>
                  </a:lnTo>
                  <a:lnTo>
                    <a:pt x="616" y="1325"/>
                  </a:lnTo>
                  <a:lnTo>
                    <a:pt x="642" y="1290"/>
                  </a:lnTo>
                  <a:lnTo>
                    <a:pt x="668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4"/>
                  </a:lnTo>
                  <a:lnTo>
                    <a:pt x="860" y="960"/>
                  </a:lnTo>
                  <a:lnTo>
                    <a:pt x="902" y="887"/>
                  </a:lnTo>
                  <a:lnTo>
                    <a:pt x="943" y="814"/>
                  </a:lnTo>
                  <a:lnTo>
                    <a:pt x="980" y="742"/>
                  </a:lnTo>
                  <a:lnTo>
                    <a:pt x="1015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3" y="473"/>
                  </a:lnTo>
                  <a:lnTo>
                    <a:pt x="1126" y="414"/>
                  </a:lnTo>
                  <a:lnTo>
                    <a:pt x="1147" y="357"/>
                  </a:lnTo>
                  <a:lnTo>
                    <a:pt x="1164" y="304"/>
                  </a:lnTo>
                  <a:lnTo>
                    <a:pt x="1178" y="256"/>
                  </a:lnTo>
                  <a:lnTo>
                    <a:pt x="1188" y="213"/>
                  </a:lnTo>
                  <a:lnTo>
                    <a:pt x="1191" y="194"/>
                  </a:lnTo>
                  <a:lnTo>
                    <a:pt x="1194" y="175"/>
                  </a:lnTo>
                  <a:lnTo>
                    <a:pt x="1196" y="158"/>
                  </a:lnTo>
                  <a:lnTo>
                    <a:pt x="1197" y="143"/>
                  </a:lnTo>
                  <a:lnTo>
                    <a:pt x="1196" y="130"/>
                  </a:lnTo>
                  <a:lnTo>
                    <a:pt x="1195" y="117"/>
                  </a:lnTo>
                  <a:lnTo>
                    <a:pt x="1192" y="106"/>
                  </a:lnTo>
                  <a:lnTo>
                    <a:pt x="1189" y="95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4" y="2"/>
                  </a:lnTo>
                  <a:lnTo>
                    <a:pt x="1086" y="0"/>
                  </a:lnTo>
                  <a:lnTo>
                    <a:pt x="1166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5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927520" y="3813120"/>
              <a:ext cx="376200" cy="581040"/>
            </a:xfrm>
            <a:custGeom>
              <a:avLst/>
              <a:gdLst/>
              <a:ahLst/>
              <a:rect l="l" t="t" r="r" b="b"/>
              <a:pathLst>
                <a:path w="1186" h="1834">
                  <a:moveTo>
                    <a:pt x="16" y="1752"/>
                  </a:moveTo>
                  <a:lnTo>
                    <a:pt x="96" y="1834"/>
                  </a:lnTo>
                  <a:lnTo>
                    <a:pt x="107" y="1833"/>
                  </a:lnTo>
                  <a:lnTo>
                    <a:pt x="119" y="1828"/>
                  </a:lnTo>
                  <a:lnTo>
                    <a:pt x="130" y="1820"/>
                  </a:lnTo>
                  <a:lnTo>
                    <a:pt x="144" y="1811"/>
                  </a:lnTo>
                  <a:lnTo>
                    <a:pt x="157" y="1800"/>
                  </a:lnTo>
                  <a:lnTo>
                    <a:pt x="172" y="1786"/>
                  </a:lnTo>
                  <a:lnTo>
                    <a:pt x="188" y="1771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1" y="1712"/>
                  </a:lnTo>
                  <a:lnTo>
                    <a:pt x="259" y="1689"/>
                  </a:lnTo>
                  <a:lnTo>
                    <a:pt x="278" y="1664"/>
                  </a:lnTo>
                  <a:lnTo>
                    <a:pt x="319" y="1609"/>
                  </a:lnTo>
                  <a:lnTo>
                    <a:pt x="363" y="1549"/>
                  </a:lnTo>
                  <a:lnTo>
                    <a:pt x="406" y="1484"/>
                  </a:lnTo>
                  <a:lnTo>
                    <a:pt x="453" y="1414"/>
                  </a:lnTo>
                  <a:lnTo>
                    <a:pt x="499" y="1341"/>
                  </a:lnTo>
                  <a:lnTo>
                    <a:pt x="547" y="1265"/>
                  </a:lnTo>
                  <a:lnTo>
                    <a:pt x="595" y="1186"/>
                  </a:lnTo>
                  <a:lnTo>
                    <a:pt x="644" y="1105"/>
                  </a:lnTo>
                  <a:lnTo>
                    <a:pt x="692" y="1024"/>
                  </a:lnTo>
                  <a:lnTo>
                    <a:pt x="740" y="941"/>
                  </a:lnTo>
                  <a:lnTo>
                    <a:pt x="833" y="778"/>
                  </a:lnTo>
                  <a:lnTo>
                    <a:pt x="921" y="620"/>
                  </a:lnTo>
                  <a:lnTo>
                    <a:pt x="1000" y="473"/>
                  </a:lnTo>
                  <a:lnTo>
                    <a:pt x="1068" y="342"/>
                  </a:lnTo>
                  <a:lnTo>
                    <a:pt x="1098" y="284"/>
                  </a:lnTo>
                  <a:lnTo>
                    <a:pt x="1123" y="231"/>
                  </a:lnTo>
                  <a:lnTo>
                    <a:pt x="1145" y="187"/>
                  </a:lnTo>
                  <a:lnTo>
                    <a:pt x="1163" y="148"/>
                  </a:lnTo>
                  <a:lnTo>
                    <a:pt x="1175" y="118"/>
                  </a:lnTo>
                  <a:lnTo>
                    <a:pt x="1183" y="97"/>
                  </a:lnTo>
                  <a:lnTo>
                    <a:pt x="1186" y="89"/>
                  </a:lnTo>
                  <a:lnTo>
                    <a:pt x="1186" y="83"/>
                  </a:lnTo>
                  <a:lnTo>
                    <a:pt x="1186" y="81"/>
                  </a:lnTo>
                  <a:lnTo>
                    <a:pt x="1131" y="18"/>
                  </a:lnTo>
                  <a:lnTo>
                    <a:pt x="1104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3" y="82"/>
                  </a:lnTo>
                  <a:lnTo>
                    <a:pt x="1157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2" y="8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1" y="67"/>
                  </a:lnTo>
                  <a:lnTo>
                    <a:pt x="1064" y="106"/>
                  </a:lnTo>
                  <a:lnTo>
                    <a:pt x="1042" y="150"/>
                  </a:lnTo>
                  <a:lnTo>
                    <a:pt x="1016" y="203"/>
                  </a:lnTo>
                  <a:lnTo>
                    <a:pt x="986" y="261"/>
                  </a:lnTo>
                  <a:lnTo>
                    <a:pt x="918" y="391"/>
                  </a:lnTo>
                  <a:lnTo>
                    <a:pt x="839" y="538"/>
                  </a:lnTo>
                  <a:lnTo>
                    <a:pt x="751" y="697"/>
                  </a:lnTo>
                  <a:lnTo>
                    <a:pt x="659" y="860"/>
                  </a:lnTo>
                  <a:lnTo>
                    <a:pt x="611" y="942"/>
                  </a:lnTo>
                  <a:lnTo>
                    <a:pt x="562" y="1024"/>
                  </a:lnTo>
                  <a:lnTo>
                    <a:pt x="514" y="1105"/>
                  </a:lnTo>
                  <a:lnTo>
                    <a:pt x="465" y="1184"/>
                  </a:lnTo>
                  <a:lnTo>
                    <a:pt x="417" y="1260"/>
                  </a:lnTo>
                  <a:lnTo>
                    <a:pt x="370" y="1333"/>
                  </a:lnTo>
                  <a:lnTo>
                    <a:pt x="325" y="1403"/>
                  </a:lnTo>
                  <a:lnTo>
                    <a:pt x="280" y="1468"/>
                  </a:lnTo>
                  <a:lnTo>
                    <a:pt x="237" y="1528"/>
                  </a:lnTo>
                  <a:lnTo>
                    <a:pt x="197" y="1582"/>
                  </a:lnTo>
                  <a:lnTo>
                    <a:pt x="178" y="1607"/>
                  </a:lnTo>
                  <a:lnTo>
                    <a:pt x="158" y="1630"/>
                  </a:lnTo>
                  <a:lnTo>
                    <a:pt x="140" y="1652"/>
                  </a:lnTo>
                  <a:lnTo>
                    <a:pt x="123" y="1671"/>
                  </a:lnTo>
                  <a:lnTo>
                    <a:pt x="107" y="1689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2" y="1730"/>
                  </a:lnTo>
                  <a:lnTo>
                    <a:pt x="49" y="1739"/>
                  </a:lnTo>
                  <a:lnTo>
                    <a:pt x="36" y="1746"/>
                  </a:lnTo>
                  <a:lnTo>
                    <a:pt x="26" y="1750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6" y="1752"/>
                  </a:lnTo>
                  <a:lnTo>
                    <a:pt x="0" y="1812"/>
                  </a:lnTo>
                  <a:lnTo>
                    <a:pt x="96" y="1834"/>
                  </a:lnTo>
                  <a:lnTo>
                    <a:pt x="16" y="175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674800" y="3813120"/>
              <a:ext cx="193680" cy="631800"/>
            </a:xfrm>
            <a:custGeom>
              <a:avLst/>
              <a:gdLst/>
              <a:ahLst/>
              <a:rect l="l" t="t" r="r" b="b"/>
              <a:pathLst>
                <a:path w="610" h="1988">
                  <a:moveTo>
                    <a:pt x="0" y="1988"/>
                  </a:moveTo>
                  <a:lnTo>
                    <a:pt x="50" y="1932"/>
                  </a:lnTo>
                  <a:lnTo>
                    <a:pt x="98" y="1870"/>
                  </a:lnTo>
                  <a:lnTo>
                    <a:pt x="142" y="1805"/>
                  </a:lnTo>
                  <a:lnTo>
                    <a:pt x="186" y="1737"/>
                  </a:lnTo>
                  <a:lnTo>
                    <a:pt x="227" y="1664"/>
                  </a:lnTo>
                  <a:lnTo>
                    <a:pt x="267" y="1588"/>
                  </a:lnTo>
                  <a:lnTo>
                    <a:pt x="303" y="1511"/>
                  </a:lnTo>
                  <a:lnTo>
                    <a:pt x="339" y="1431"/>
                  </a:lnTo>
                  <a:lnTo>
                    <a:pt x="370" y="1349"/>
                  </a:lnTo>
                  <a:lnTo>
                    <a:pt x="401" y="1267"/>
                  </a:lnTo>
                  <a:lnTo>
                    <a:pt x="430" y="1182"/>
                  </a:lnTo>
                  <a:lnTo>
                    <a:pt x="456" y="1099"/>
                  </a:lnTo>
                  <a:lnTo>
                    <a:pt x="480" y="1014"/>
                  </a:lnTo>
                  <a:lnTo>
                    <a:pt x="503" y="931"/>
                  </a:lnTo>
                  <a:lnTo>
                    <a:pt x="522" y="848"/>
                  </a:lnTo>
                  <a:lnTo>
                    <a:pt x="540" y="767"/>
                  </a:lnTo>
                  <a:lnTo>
                    <a:pt x="556" y="687"/>
                  </a:lnTo>
                  <a:lnTo>
                    <a:pt x="570" y="609"/>
                  </a:lnTo>
                  <a:lnTo>
                    <a:pt x="581" y="535"/>
                  </a:lnTo>
                  <a:lnTo>
                    <a:pt x="592" y="463"/>
                  </a:lnTo>
                  <a:lnTo>
                    <a:pt x="598" y="395"/>
                  </a:lnTo>
                  <a:lnTo>
                    <a:pt x="604" y="331"/>
                  </a:lnTo>
                  <a:lnTo>
                    <a:pt x="608" y="272"/>
                  </a:lnTo>
                  <a:lnTo>
                    <a:pt x="610" y="216"/>
                  </a:lnTo>
                  <a:lnTo>
                    <a:pt x="609" y="167"/>
                  </a:lnTo>
                  <a:lnTo>
                    <a:pt x="606" y="122"/>
                  </a:lnTo>
                  <a:lnTo>
                    <a:pt x="602" y="85"/>
                  </a:lnTo>
                  <a:lnTo>
                    <a:pt x="596" y="53"/>
                  </a:lnTo>
                  <a:lnTo>
                    <a:pt x="587" y="28"/>
                  </a:lnTo>
                  <a:lnTo>
                    <a:pt x="577" y="10"/>
                  </a:lnTo>
                  <a:lnTo>
                    <a:pt x="564" y="1"/>
                  </a:lnTo>
                  <a:lnTo>
                    <a:pt x="551" y="0"/>
                  </a:lnTo>
                  <a:lnTo>
                    <a:pt x="554" y="2"/>
                  </a:lnTo>
                  <a:lnTo>
                    <a:pt x="555" y="15"/>
                  </a:lnTo>
                  <a:lnTo>
                    <a:pt x="553" y="38"/>
                  </a:lnTo>
                  <a:lnTo>
                    <a:pt x="549" y="70"/>
                  </a:lnTo>
                  <a:lnTo>
                    <a:pt x="544" y="112"/>
                  </a:lnTo>
                  <a:lnTo>
                    <a:pt x="536" y="161"/>
                  </a:lnTo>
                  <a:lnTo>
                    <a:pt x="526" y="218"/>
                  </a:lnTo>
                  <a:lnTo>
                    <a:pt x="513" y="282"/>
                  </a:lnTo>
                  <a:lnTo>
                    <a:pt x="484" y="427"/>
                  </a:lnTo>
                  <a:lnTo>
                    <a:pt x="449" y="590"/>
                  </a:lnTo>
                  <a:lnTo>
                    <a:pt x="410" y="767"/>
                  </a:lnTo>
                  <a:lnTo>
                    <a:pt x="367" y="949"/>
                  </a:lnTo>
                  <a:lnTo>
                    <a:pt x="343" y="1042"/>
                  </a:lnTo>
                  <a:lnTo>
                    <a:pt x="320" y="1134"/>
                  </a:lnTo>
                  <a:lnTo>
                    <a:pt x="296" y="1226"/>
                  </a:lnTo>
                  <a:lnTo>
                    <a:pt x="271" y="1314"/>
                  </a:lnTo>
                  <a:lnTo>
                    <a:pt x="247" y="1401"/>
                  </a:lnTo>
                  <a:lnTo>
                    <a:pt x="222" y="1484"/>
                  </a:lnTo>
                  <a:lnTo>
                    <a:pt x="198" y="1564"/>
                  </a:lnTo>
                  <a:lnTo>
                    <a:pt x="174" y="1640"/>
                  </a:lnTo>
                  <a:lnTo>
                    <a:pt x="149" y="1709"/>
                  </a:lnTo>
                  <a:lnTo>
                    <a:pt x="127" y="1773"/>
                  </a:lnTo>
                  <a:lnTo>
                    <a:pt x="103" y="1829"/>
                  </a:lnTo>
                  <a:lnTo>
                    <a:pt x="81" y="1879"/>
                  </a:lnTo>
                  <a:lnTo>
                    <a:pt x="59" y="1920"/>
                  </a:lnTo>
                  <a:lnTo>
                    <a:pt x="39" y="1952"/>
                  </a:lnTo>
                  <a:lnTo>
                    <a:pt x="18" y="1975"/>
                  </a:lnTo>
                  <a:lnTo>
                    <a:pt x="0" y="19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660760" y="3800520"/>
              <a:ext cx="220680" cy="657360"/>
            </a:xfrm>
            <a:custGeom>
              <a:avLst/>
              <a:gdLst/>
              <a:ahLst/>
              <a:rect l="l" t="t" r="r" b="b"/>
              <a:pathLst>
                <a:path w="692" h="2070">
                  <a:moveTo>
                    <a:pt x="551" y="0"/>
                  </a:moveTo>
                  <a:lnTo>
                    <a:pt x="632" y="82"/>
                  </a:lnTo>
                  <a:lnTo>
                    <a:pt x="638" y="82"/>
                  </a:lnTo>
                  <a:lnTo>
                    <a:pt x="644" y="83"/>
                  </a:lnTo>
                  <a:lnTo>
                    <a:pt x="639" y="81"/>
                  </a:lnTo>
                  <a:lnTo>
                    <a:pt x="592" y="34"/>
                  </a:lnTo>
                  <a:lnTo>
                    <a:pt x="585" y="25"/>
                  </a:lnTo>
                  <a:lnTo>
                    <a:pt x="588" y="32"/>
                  </a:lnTo>
                  <a:lnTo>
                    <a:pt x="592" y="42"/>
                  </a:lnTo>
                  <a:lnTo>
                    <a:pt x="596" y="55"/>
                  </a:lnTo>
                  <a:lnTo>
                    <a:pt x="600" y="70"/>
                  </a:lnTo>
                  <a:lnTo>
                    <a:pt x="602" y="86"/>
                  </a:lnTo>
                  <a:lnTo>
                    <a:pt x="604" y="104"/>
                  </a:lnTo>
                  <a:lnTo>
                    <a:pt x="606" y="123"/>
                  </a:lnTo>
                  <a:lnTo>
                    <a:pt x="609" y="168"/>
                  </a:lnTo>
                  <a:lnTo>
                    <a:pt x="610" y="217"/>
                  </a:lnTo>
                  <a:lnTo>
                    <a:pt x="608" y="272"/>
                  </a:lnTo>
                  <a:lnTo>
                    <a:pt x="604" y="332"/>
                  </a:lnTo>
                  <a:lnTo>
                    <a:pt x="598" y="396"/>
                  </a:lnTo>
                  <a:lnTo>
                    <a:pt x="592" y="464"/>
                  </a:lnTo>
                  <a:lnTo>
                    <a:pt x="581" y="536"/>
                  </a:lnTo>
                  <a:lnTo>
                    <a:pt x="570" y="610"/>
                  </a:lnTo>
                  <a:lnTo>
                    <a:pt x="556" y="688"/>
                  </a:lnTo>
                  <a:lnTo>
                    <a:pt x="540" y="767"/>
                  </a:lnTo>
                  <a:lnTo>
                    <a:pt x="522" y="849"/>
                  </a:lnTo>
                  <a:lnTo>
                    <a:pt x="502" y="931"/>
                  </a:lnTo>
                  <a:lnTo>
                    <a:pt x="480" y="1014"/>
                  </a:lnTo>
                  <a:lnTo>
                    <a:pt x="456" y="1099"/>
                  </a:lnTo>
                  <a:lnTo>
                    <a:pt x="430" y="1183"/>
                  </a:lnTo>
                  <a:lnTo>
                    <a:pt x="401" y="1267"/>
                  </a:lnTo>
                  <a:lnTo>
                    <a:pt x="386" y="1309"/>
                  </a:lnTo>
                  <a:lnTo>
                    <a:pt x="370" y="1350"/>
                  </a:lnTo>
                  <a:lnTo>
                    <a:pt x="354" y="1391"/>
                  </a:lnTo>
                  <a:lnTo>
                    <a:pt x="339" y="1431"/>
                  </a:lnTo>
                  <a:lnTo>
                    <a:pt x="321" y="1472"/>
                  </a:lnTo>
                  <a:lnTo>
                    <a:pt x="303" y="1512"/>
                  </a:lnTo>
                  <a:lnTo>
                    <a:pt x="285" y="1551"/>
                  </a:lnTo>
                  <a:lnTo>
                    <a:pt x="267" y="1589"/>
                  </a:lnTo>
                  <a:lnTo>
                    <a:pt x="247" y="1627"/>
                  </a:lnTo>
                  <a:lnTo>
                    <a:pt x="228" y="1665"/>
                  </a:lnTo>
                  <a:lnTo>
                    <a:pt x="207" y="1701"/>
                  </a:lnTo>
                  <a:lnTo>
                    <a:pt x="187" y="1737"/>
                  </a:lnTo>
                  <a:lnTo>
                    <a:pt x="165" y="1772"/>
                  </a:lnTo>
                  <a:lnTo>
                    <a:pt x="144" y="1806"/>
                  </a:lnTo>
                  <a:lnTo>
                    <a:pt x="121" y="1839"/>
                  </a:lnTo>
                  <a:lnTo>
                    <a:pt x="98" y="1871"/>
                  </a:lnTo>
                  <a:lnTo>
                    <a:pt x="74" y="1902"/>
                  </a:lnTo>
                  <a:lnTo>
                    <a:pt x="50" y="1932"/>
                  </a:lnTo>
                  <a:lnTo>
                    <a:pt x="25" y="1960"/>
                  </a:lnTo>
                  <a:lnTo>
                    <a:pt x="0" y="1988"/>
                  </a:lnTo>
                  <a:lnTo>
                    <a:pt x="82" y="2070"/>
                  </a:lnTo>
                  <a:lnTo>
                    <a:pt x="107" y="2042"/>
                  </a:lnTo>
                  <a:lnTo>
                    <a:pt x="132" y="2013"/>
                  </a:lnTo>
                  <a:lnTo>
                    <a:pt x="156" y="1983"/>
                  </a:lnTo>
                  <a:lnTo>
                    <a:pt x="179" y="1952"/>
                  </a:lnTo>
                  <a:lnTo>
                    <a:pt x="203" y="1920"/>
                  </a:lnTo>
                  <a:lnTo>
                    <a:pt x="225" y="1887"/>
                  </a:lnTo>
                  <a:lnTo>
                    <a:pt x="246" y="1853"/>
                  </a:lnTo>
                  <a:lnTo>
                    <a:pt x="268" y="1818"/>
                  </a:lnTo>
                  <a:lnTo>
                    <a:pt x="290" y="1782"/>
                  </a:lnTo>
                  <a:lnTo>
                    <a:pt x="309" y="1746"/>
                  </a:lnTo>
                  <a:lnTo>
                    <a:pt x="329" y="1708"/>
                  </a:lnTo>
                  <a:lnTo>
                    <a:pt x="349" y="1670"/>
                  </a:lnTo>
                  <a:lnTo>
                    <a:pt x="367" y="1632"/>
                  </a:lnTo>
                  <a:lnTo>
                    <a:pt x="385" y="1593"/>
                  </a:lnTo>
                  <a:lnTo>
                    <a:pt x="404" y="1553"/>
                  </a:lnTo>
                  <a:lnTo>
                    <a:pt x="421" y="1513"/>
                  </a:lnTo>
                  <a:lnTo>
                    <a:pt x="437" y="1472"/>
                  </a:lnTo>
                  <a:lnTo>
                    <a:pt x="453" y="1431"/>
                  </a:lnTo>
                  <a:lnTo>
                    <a:pt x="468" y="1390"/>
                  </a:lnTo>
                  <a:lnTo>
                    <a:pt x="483" y="1348"/>
                  </a:lnTo>
                  <a:lnTo>
                    <a:pt x="512" y="1264"/>
                  </a:lnTo>
                  <a:lnTo>
                    <a:pt x="538" y="1180"/>
                  </a:lnTo>
                  <a:lnTo>
                    <a:pt x="562" y="1095"/>
                  </a:lnTo>
                  <a:lnTo>
                    <a:pt x="585" y="1012"/>
                  </a:lnTo>
                  <a:lnTo>
                    <a:pt x="604" y="930"/>
                  </a:lnTo>
                  <a:lnTo>
                    <a:pt x="622" y="848"/>
                  </a:lnTo>
                  <a:lnTo>
                    <a:pt x="638" y="769"/>
                  </a:lnTo>
                  <a:lnTo>
                    <a:pt x="652" y="691"/>
                  </a:lnTo>
                  <a:lnTo>
                    <a:pt x="663" y="616"/>
                  </a:lnTo>
                  <a:lnTo>
                    <a:pt x="674" y="544"/>
                  </a:lnTo>
                  <a:lnTo>
                    <a:pt x="681" y="477"/>
                  </a:lnTo>
                  <a:lnTo>
                    <a:pt x="686" y="412"/>
                  </a:lnTo>
                  <a:lnTo>
                    <a:pt x="691" y="353"/>
                  </a:lnTo>
                  <a:lnTo>
                    <a:pt x="692" y="297"/>
                  </a:lnTo>
                  <a:lnTo>
                    <a:pt x="692" y="248"/>
                  </a:lnTo>
                  <a:lnTo>
                    <a:pt x="689" y="203"/>
                  </a:lnTo>
                  <a:lnTo>
                    <a:pt x="687" y="184"/>
                  </a:lnTo>
                  <a:lnTo>
                    <a:pt x="684" y="164"/>
                  </a:lnTo>
                  <a:lnTo>
                    <a:pt x="682" y="148"/>
                  </a:lnTo>
                  <a:lnTo>
                    <a:pt x="678" y="132"/>
                  </a:lnTo>
                  <a:lnTo>
                    <a:pt x="674" y="119"/>
                  </a:lnTo>
                  <a:lnTo>
                    <a:pt x="669" y="106"/>
                  </a:lnTo>
                  <a:lnTo>
                    <a:pt x="662" y="95"/>
                  </a:lnTo>
                  <a:lnTo>
                    <a:pt x="644" y="70"/>
                  </a:lnTo>
                  <a:lnTo>
                    <a:pt x="584" y="12"/>
                  </a:lnTo>
                  <a:lnTo>
                    <a:pt x="568" y="2"/>
                  </a:lnTo>
                  <a:lnTo>
                    <a:pt x="559" y="0"/>
                  </a:lnTo>
                  <a:lnTo>
                    <a:pt x="551" y="0"/>
                  </a:lnTo>
                  <a:lnTo>
                    <a:pt x="632" y="82"/>
                  </a:lnTo>
                  <a:lnTo>
                    <a:pt x="551" y="0"/>
                  </a:lnTo>
                  <a:lnTo>
                    <a:pt x="544" y="89"/>
                  </a:lnTo>
                  <a:lnTo>
                    <a:pt x="632" y="82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2660760" y="3800520"/>
              <a:ext cx="203040" cy="657360"/>
            </a:xfrm>
            <a:custGeom>
              <a:avLst/>
              <a:gdLst/>
              <a:ahLst/>
              <a:rect l="l" t="t" r="r" b="b"/>
              <a:pathLst>
                <a:path w="637" h="2070">
                  <a:moveTo>
                    <a:pt x="0" y="1988"/>
                  </a:moveTo>
                  <a:lnTo>
                    <a:pt x="82" y="2070"/>
                  </a:lnTo>
                  <a:lnTo>
                    <a:pt x="91" y="2064"/>
                  </a:lnTo>
                  <a:lnTo>
                    <a:pt x="100" y="2057"/>
                  </a:lnTo>
                  <a:lnTo>
                    <a:pt x="111" y="2047"/>
                  </a:lnTo>
                  <a:lnTo>
                    <a:pt x="120" y="2034"/>
                  </a:lnTo>
                  <a:lnTo>
                    <a:pt x="130" y="2019"/>
                  </a:lnTo>
                  <a:lnTo>
                    <a:pt x="141" y="2001"/>
                  </a:lnTo>
                  <a:lnTo>
                    <a:pt x="152" y="1982"/>
                  </a:lnTo>
                  <a:lnTo>
                    <a:pt x="163" y="1960"/>
                  </a:lnTo>
                  <a:lnTo>
                    <a:pt x="173" y="1936"/>
                  </a:lnTo>
                  <a:lnTo>
                    <a:pt x="185" y="1911"/>
                  </a:lnTo>
                  <a:lnTo>
                    <a:pt x="196" y="1884"/>
                  </a:lnTo>
                  <a:lnTo>
                    <a:pt x="209" y="1854"/>
                  </a:lnTo>
                  <a:lnTo>
                    <a:pt x="231" y="1790"/>
                  </a:lnTo>
                  <a:lnTo>
                    <a:pt x="256" y="1721"/>
                  </a:lnTo>
                  <a:lnTo>
                    <a:pt x="280" y="1646"/>
                  </a:lnTo>
                  <a:lnTo>
                    <a:pt x="304" y="1567"/>
                  </a:lnTo>
                  <a:lnTo>
                    <a:pt x="329" y="1483"/>
                  </a:lnTo>
                  <a:lnTo>
                    <a:pt x="354" y="1395"/>
                  </a:lnTo>
                  <a:lnTo>
                    <a:pt x="378" y="1306"/>
                  </a:lnTo>
                  <a:lnTo>
                    <a:pt x="402" y="1215"/>
                  </a:lnTo>
                  <a:lnTo>
                    <a:pt x="425" y="1124"/>
                  </a:lnTo>
                  <a:lnTo>
                    <a:pt x="449" y="1031"/>
                  </a:lnTo>
                  <a:lnTo>
                    <a:pt x="492" y="848"/>
                  </a:lnTo>
                  <a:lnTo>
                    <a:pt x="532" y="672"/>
                  </a:lnTo>
                  <a:lnTo>
                    <a:pt x="567" y="509"/>
                  </a:lnTo>
                  <a:lnTo>
                    <a:pt x="595" y="363"/>
                  </a:lnTo>
                  <a:lnTo>
                    <a:pt x="608" y="300"/>
                  </a:lnTo>
                  <a:lnTo>
                    <a:pt x="618" y="243"/>
                  </a:lnTo>
                  <a:lnTo>
                    <a:pt x="626" y="193"/>
                  </a:lnTo>
                  <a:lnTo>
                    <a:pt x="632" y="152"/>
                  </a:lnTo>
                  <a:lnTo>
                    <a:pt x="635" y="119"/>
                  </a:lnTo>
                  <a:lnTo>
                    <a:pt x="637" y="96"/>
                  </a:lnTo>
                  <a:lnTo>
                    <a:pt x="637" y="88"/>
                  </a:lnTo>
                  <a:lnTo>
                    <a:pt x="636" y="82"/>
                  </a:lnTo>
                  <a:lnTo>
                    <a:pt x="632" y="74"/>
                  </a:lnTo>
                  <a:lnTo>
                    <a:pt x="556" y="1"/>
                  </a:lnTo>
                  <a:lnTo>
                    <a:pt x="552" y="0"/>
                  </a:lnTo>
                  <a:lnTo>
                    <a:pt x="551" y="0"/>
                  </a:lnTo>
                  <a:lnTo>
                    <a:pt x="632" y="82"/>
                  </a:lnTo>
                  <a:lnTo>
                    <a:pt x="633" y="82"/>
                  </a:lnTo>
                  <a:lnTo>
                    <a:pt x="630" y="81"/>
                  </a:lnTo>
                  <a:lnTo>
                    <a:pt x="556" y="9"/>
                  </a:lnTo>
                  <a:lnTo>
                    <a:pt x="554" y="4"/>
                  </a:lnTo>
                  <a:lnTo>
                    <a:pt x="554" y="8"/>
                  </a:lnTo>
                  <a:lnTo>
                    <a:pt x="555" y="16"/>
                  </a:lnTo>
                  <a:lnTo>
                    <a:pt x="553" y="39"/>
                  </a:lnTo>
                  <a:lnTo>
                    <a:pt x="549" y="71"/>
                  </a:lnTo>
                  <a:lnTo>
                    <a:pt x="544" y="112"/>
                  </a:lnTo>
                  <a:lnTo>
                    <a:pt x="536" y="162"/>
                  </a:lnTo>
                  <a:lnTo>
                    <a:pt x="525" y="219"/>
                  </a:lnTo>
                  <a:lnTo>
                    <a:pt x="513" y="283"/>
                  </a:lnTo>
                  <a:lnTo>
                    <a:pt x="484" y="428"/>
                  </a:lnTo>
                  <a:lnTo>
                    <a:pt x="449" y="591"/>
                  </a:lnTo>
                  <a:lnTo>
                    <a:pt x="410" y="767"/>
                  </a:lnTo>
                  <a:lnTo>
                    <a:pt x="366" y="950"/>
                  </a:lnTo>
                  <a:lnTo>
                    <a:pt x="343" y="1043"/>
                  </a:lnTo>
                  <a:lnTo>
                    <a:pt x="320" y="1134"/>
                  </a:lnTo>
                  <a:lnTo>
                    <a:pt x="296" y="1225"/>
                  </a:lnTo>
                  <a:lnTo>
                    <a:pt x="271" y="1314"/>
                  </a:lnTo>
                  <a:lnTo>
                    <a:pt x="247" y="1402"/>
                  </a:lnTo>
                  <a:lnTo>
                    <a:pt x="222" y="1486"/>
                  </a:lnTo>
                  <a:lnTo>
                    <a:pt x="198" y="1564"/>
                  </a:lnTo>
                  <a:lnTo>
                    <a:pt x="174" y="1640"/>
                  </a:lnTo>
                  <a:lnTo>
                    <a:pt x="149" y="1709"/>
                  </a:lnTo>
                  <a:lnTo>
                    <a:pt x="126" y="1773"/>
                  </a:lnTo>
                  <a:lnTo>
                    <a:pt x="114" y="1803"/>
                  </a:lnTo>
                  <a:lnTo>
                    <a:pt x="103" y="1830"/>
                  </a:lnTo>
                  <a:lnTo>
                    <a:pt x="91" y="1855"/>
                  </a:lnTo>
                  <a:lnTo>
                    <a:pt x="81" y="1879"/>
                  </a:lnTo>
                  <a:lnTo>
                    <a:pt x="69" y="1901"/>
                  </a:lnTo>
                  <a:lnTo>
                    <a:pt x="59" y="1920"/>
                  </a:lnTo>
                  <a:lnTo>
                    <a:pt x="49" y="1937"/>
                  </a:lnTo>
                  <a:lnTo>
                    <a:pt x="39" y="1952"/>
                  </a:lnTo>
                  <a:lnTo>
                    <a:pt x="28" y="1965"/>
                  </a:lnTo>
                  <a:lnTo>
                    <a:pt x="18" y="1975"/>
                  </a:lnTo>
                  <a:lnTo>
                    <a:pt x="9" y="1983"/>
                  </a:lnTo>
                  <a:lnTo>
                    <a:pt x="1" y="1988"/>
                  </a:lnTo>
                  <a:lnTo>
                    <a:pt x="82" y="2070"/>
                  </a:lnTo>
                  <a:lnTo>
                    <a:pt x="0" y="1988"/>
                  </a:lnTo>
                  <a:lnTo>
                    <a:pt x="9" y="2061"/>
                  </a:lnTo>
                  <a:lnTo>
                    <a:pt x="82" y="2070"/>
                  </a:lnTo>
                  <a:lnTo>
                    <a:pt x="0" y="198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4824360" y="3773520"/>
              <a:ext cx="362160" cy="601560"/>
            </a:xfrm>
            <a:custGeom>
              <a:avLst/>
              <a:gdLst/>
              <a:ahLst/>
              <a:rect l="l" t="t" r="r" b="b"/>
              <a:pathLst>
                <a:path w="1141" h="1895">
                  <a:moveTo>
                    <a:pt x="0" y="1895"/>
                  </a:moveTo>
                  <a:lnTo>
                    <a:pt x="66" y="1851"/>
                  </a:lnTo>
                  <a:lnTo>
                    <a:pt x="132" y="1801"/>
                  </a:lnTo>
                  <a:lnTo>
                    <a:pt x="196" y="1748"/>
                  </a:lnTo>
                  <a:lnTo>
                    <a:pt x="260" y="1688"/>
                  </a:lnTo>
                  <a:lnTo>
                    <a:pt x="321" y="1624"/>
                  </a:lnTo>
                  <a:lnTo>
                    <a:pt x="381" y="1558"/>
                  </a:lnTo>
                  <a:lnTo>
                    <a:pt x="441" y="1487"/>
                  </a:lnTo>
                  <a:lnTo>
                    <a:pt x="499" y="1416"/>
                  </a:lnTo>
                  <a:lnTo>
                    <a:pt x="555" y="1340"/>
                  </a:lnTo>
                  <a:lnTo>
                    <a:pt x="608" y="1263"/>
                  </a:lnTo>
                  <a:lnTo>
                    <a:pt x="661" y="1184"/>
                  </a:lnTo>
                  <a:lnTo>
                    <a:pt x="711" y="1105"/>
                  </a:lnTo>
                  <a:lnTo>
                    <a:pt x="759" y="1025"/>
                  </a:lnTo>
                  <a:lnTo>
                    <a:pt x="804" y="945"/>
                  </a:lnTo>
                  <a:lnTo>
                    <a:pt x="848" y="866"/>
                  </a:lnTo>
                  <a:lnTo>
                    <a:pt x="889" y="787"/>
                  </a:lnTo>
                  <a:lnTo>
                    <a:pt x="926" y="709"/>
                  </a:lnTo>
                  <a:lnTo>
                    <a:pt x="962" y="633"/>
                  </a:lnTo>
                  <a:lnTo>
                    <a:pt x="995" y="559"/>
                  </a:lnTo>
                  <a:lnTo>
                    <a:pt x="1024" y="488"/>
                  </a:lnTo>
                  <a:lnTo>
                    <a:pt x="1051" y="420"/>
                  </a:lnTo>
                  <a:lnTo>
                    <a:pt x="1073" y="356"/>
                  </a:lnTo>
                  <a:lnTo>
                    <a:pt x="1094" y="295"/>
                  </a:lnTo>
                  <a:lnTo>
                    <a:pt x="1111" y="238"/>
                  </a:lnTo>
                  <a:lnTo>
                    <a:pt x="1124" y="187"/>
                  </a:lnTo>
                  <a:lnTo>
                    <a:pt x="1133" y="141"/>
                  </a:lnTo>
                  <a:lnTo>
                    <a:pt x="1138" y="100"/>
                  </a:lnTo>
                  <a:lnTo>
                    <a:pt x="1141" y="66"/>
                  </a:lnTo>
                  <a:lnTo>
                    <a:pt x="1138" y="38"/>
                  </a:lnTo>
                  <a:lnTo>
                    <a:pt x="1133" y="18"/>
                  </a:lnTo>
                  <a:lnTo>
                    <a:pt x="1122" y="5"/>
                  </a:lnTo>
                  <a:lnTo>
                    <a:pt x="1108" y="0"/>
                  </a:lnTo>
                  <a:lnTo>
                    <a:pt x="1110" y="2"/>
                  </a:lnTo>
                  <a:lnTo>
                    <a:pt x="1108" y="16"/>
                  </a:lnTo>
                  <a:lnTo>
                    <a:pt x="1101" y="38"/>
                  </a:lnTo>
                  <a:lnTo>
                    <a:pt x="1088" y="72"/>
                  </a:lnTo>
                  <a:lnTo>
                    <a:pt x="1070" y="113"/>
                  </a:lnTo>
                  <a:lnTo>
                    <a:pt x="1048" y="161"/>
                  </a:lnTo>
                  <a:lnTo>
                    <a:pt x="1022" y="218"/>
                  </a:lnTo>
                  <a:lnTo>
                    <a:pt x="993" y="279"/>
                  </a:lnTo>
                  <a:lnTo>
                    <a:pt x="923" y="421"/>
                  </a:lnTo>
                  <a:lnTo>
                    <a:pt x="843" y="579"/>
                  </a:lnTo>
                  <a:lnTo>
                    <a:pt x="800" y="664"/>
                  </a:lnTo>
                  <a:lnTo>
                    <a:pt x="754" y="750"/>
                  </a:lnTo>
                  <a:lnTo>
                    <a:pt x="708" y="838"/>
                  </a:lnTo>
                  <a:lnTo>
                    <a:pt x="660" y="927"/>
                  </a:lnTo>
                  <a:lnTo>
                    <a:pt x="611" y="1016"/>
                  </a:lnTo>
                  <a:lnTo>
                    <a:pt x="562" y="1104"/>
                  </a:lnTo>
                  <a:lnTo>
                    <a:pt x="511" y="1192"/>
                  </a:lnTo>
                  <a:lnTo>
                    <a:pt x="462" y="1276"/>
                  </a:lnTo>
                  <a:lnTo>
                    <a:pt x="413" y="1360"/>
                  </a:lnTo>
                  <a:lnTo>
                    <a:pt x="366" y="1438"/>
                  </a:lnTo>
                  <a:lnTo>
                    <a:pt x="319" y="1514"/>
                  </a:lnTo>
                  <a:lnTo>
                    <a:pt x="273" y="1584"/>
                  </a:lnTo>
                  <a:lnTo>
                    <a:pt x="229" y="1649"/>
                  </a:lnTo>
                  <a:lnTo>
                    <a:pt x="188" y="1709"/>
                  </a:lnTo>
                  <a:lnTo>
                    <a:pt x="148" y="1761"/>
                  </a:lnTo>
                  <a:lnTo>
                    <a:pt x="111" y="1806"/>
                  </a:lnTo>
                  <a:lnTo>
                    <a:pt x="78" y="1842"/>
                  </a:lnTo>
                  <a:lnTo>
                    <a:pt x="49" y="1870"/>
                  </a:lnTo>
                  <a:lnTo>
                    <a:pt x="22" y="1888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4811760" y="3760920"/>
              <a:ext cx="387360" cy="628560"/>
            </a:xfrm>
            <a:custGeom>
              <a:avLst/>
              <a:gdLst/>
              <a:ahLst/>
              <a:rect l="l" t="t" r="r" b="b"/>
              <a:pathLst>
                <a:path w="1222" h="1977">
                  <a:moveTo>
                    <a:pt x="1107" y="0"/>
                  </a:moveTo>
                  <a:lnTo>
                    <a:pt x="1188" y="82"/>
                  </a:lnTo>
                  <a:lnTo>
                    <a:pt x="1193" y="83"/>
                  </a:lnTo>
                  <a:lnTo>
                    <a:pt x="1192" y="82"/>
                  </a:lnTo>
                  <a:lnTo>
                    <a:pt x="1136" y="27"/>
                  </a:lnTo>
                  <a:lnTo>
                    <a:pt x="1132" y="22"/>
                  </a:lnTo>
                  <a:lnTo>
                    <a:pt x="1135" y="29"/>
                  </a:lnTo>
                  <a:lnTo>
                    <a:pt x="1137" y="40"/>
                  </a:lnTo>
                  <a:lnTo>
                    <a:pt x="1139" y="52"/>
                  </a:lnTo>
                  <a:lnTo>
                    <a:pt x="1140" y="67"/>
                  </a:lnTo>
                  <a:lnTo>
                    <a:pt x="1139" y="83"/>
                  </a:lnTo>
                  <a:lnTo>
                    <a:pt x="1137" y="101"/>
                  </a:lnTo>
                  <a:lnTo>
                    <a:pt x="1135" y="121"/>
                  </a:lnTo>
                  <a:lnTo>
                    <a:pt x="1132" y="141"/>
                  </a:lnTo>
                  <a:lnTo>
                    <a:pt x="1127" y="164"/>
                  </a:lnTo>
                  <a:lnTo>
                    <a:pt x="1123" y="188"/>
                  </a:lnTo>
                  <a:lnTo>
                    <a:pt x="1117" y="213"/>
                  </a:lnTo>
                  <a:lnTo>
                    <a:pt x="1109" y="239"/>
                  </a:lnTo>
                  <a:lnTo>
                    <a:pt x="1093" y="295"/>
                  </a:lnTo>
                  <a:lnTo>
                    <a:pt x="1072" y="356"/>
                  </a:lnTo>
                  <a:lnTo>
                    <a:pt x="1050" y="421"/>
                  </a:lnTo>
                  <a:lnTo>
                    <a:pt x="1023" y="488"/>
                  </a:lnTo>
                  <a:lnTo>
                    <a:pt x="994" y="560"/>
                  </a:lnTo>
                  <a:lnTo>
                    <a:pt x="961" y="633"/>
                  </a:lnTo>
                  <a:lnTo>
                    <a:pt x="925" y="709"/>
                  </a:lnTo>
                  <a:lnTo>
                    <a:pt x="888" y="787"/>
                  </a:lnTo>
                  <a:lnTo>
                    <a:pt x="847" y="866"/>
                  </a:lnTo>
                  <a:lnTo>
                    <a:pt x="803" y="945"/>
                  </a:lnTo>
                  <a:lnTo>
                    <a:pt x="758" y="1025"/>
                  </a:lnTo>
                  <a:lnTo>
                    <a:pt x="710" y="1105"/>
                  </a:lnTo>
                  <a:lnTo>
                    <a:pt x="685" y="1145"/>
                  </a:lnTo>
                  <a:lnTo>
                    <a:pt x="660" y="1185"/>
                  </a:lnTo>
                  <a:lnTo>
                    <a:pt x="634" y="1224"/>
                  </a:lnTo>
                  <a:lnTo>
                    <a:pt x="607" y="1264"/>
                  </a:lnTo>
                  <a:lnTo>
                    <a:pt x="581" y="1301"/>
                  </a:lnTo>
                  <a:lnTo>
                    <a:pt x="554" y="1340"/>
                  </a:lnTo>
                  <a:lnTo>
                    <a:pt x="525" y="1378"/>
                  </a:lnTo>
                  <a:lnTo>
                    <a:pt x="498" y="1415"/>
                  </a:lnTo>
                  <a:lnTo>
                    <a:pt x="469" y="1452"/>
                  </a:lnTo>
                  <a:lnTo>
                    <a:pt x="440" y="1488"/>
                  </a:lnTo>
                  <a:lnTo>
                    <a:pt x="411" y="1524"/>
                  </a:lnTo>
                  <a:lnTo>
                    <a:pt x="380" y="1558"/>
                  </a:lnTo>
                  <a:lnTo>
                    <a:pt x="351" y="1592"/>
                  </a:lnTo>
                  <a:lnTo>
                    <a:pt x="320" y="1625"/>
                  </a:lnTo>
                  <a:lnTo>
                    <a:pt x="289" y="1657"/>
                  </a:lnTo>
                  <a:lnTo>
                    <a:pt x="258" y="1688"/>
                  </a:lnTo>
                  <a:lnTo>
                    <a:pt x="227" y="1718"/>
                  </a:lnTo>
                  <a:lnTo>
                    <a:pt x="195" y="1747"/>
                  </a:lnTo>
                  <a:lnTo>
                    <a:pt x="163" y="1775"/>
                  </a:lnTo>
                  <a:lnTo>
                    <a:pt x="131" y="1802"/>
                  </a:lnTo>
                  <a:lnTo>
                    <a:pt x="98" y="1827"/>
                  </a:lnTo>
                  <a:lnTo>
                    <a:pt x="66" y="1851"/>
                  </a:lnTo>
                  <a:lnTo>
                    <a:pt x="33" y="1874"/>
                  </a:lnTo>
                  <a:lnTo>
                    <a:pt x="0" y="1895"/>
                  </a:lnTo>
                  <a:lnTo>
                    <a:pt x="81" y="1977"/>
                  </a:lnTo>
                  <a:lnTo>
                    <a:pt x="114" y="1956"/>
                  </a:lnTo>
                  <a:lnTo>
                    <a:pt x="147" y="1933"/>
                  </a:lnTo>
                  <a:lnTo>
                    <a:pt x="180" y="1908"/>
                  </a:lnTo>
                  <a:lnTo>
                    <a:pt x="212" y="1883"/>
                  </a:lnTo>
                  <a:lnTo>
                    <a:pt x="245" y="1857"/>
                  </a:lnTo>
                  <a:lnTo>
                    <a:pt x="277" y="1828"/>
                  </a:lnTo>
                  <a:lnTo>
                    <a:pt x="309" y="1800"/>
                  </a:lnTo>
                  <a:lnTo>
                    <a:pt x="341" y="1770"/>
                  </a:lnTo>
                  <a:lnTo>
                    <a:pt x="371" y="1739"/>
                  </a:lnTo>
                  <a:lnTo>
                    <a:pt x="402" y="1706"/>
                  </a:lnTo>
                  <a:lnTo>
                    <a:pt x="433" y="1673"/>
                  </a:lnTo>
                  <a:lnTo>
                    <a:pt x="463" y="1640"/>
                  </a:lnTo>
                  <a:lnTo>
                    <a:pt x="492" y="1605"/>
                  </a:lnTo>
                  <a:lnTo>
                    <a:pt x="522" y="1569"/>
                  </a:lnTo>
                  <a:lnTo>
                    <a:pt x="550" y="1534"/>
                  </a:lnTo>
                  <a:lnTo>
                    <a:pt x="580" y="1496"/>
                  </a:lnTo>
                  <a:lnTo>
                    <a:pt x="607" y="1460"/>
                  </a:lnTo>
                  <a:lnTo>
                    <a:pt x="635" y="1421"/>
                  </a:lnTo>
                  <a:lnTo>
                    <a:pt x="662" y="1384"/>
                  </a:lnTo>
                  <a:lnTo>
                    <a:pt x="689" y="1345"/>
                  </a:lnTo>
                  <a:lnTo>
                    <a:pt x="716" y="1306"/>
                  </a:lnTo>
                  <a:lnTo>
                    <a:pt x="742" y="1266"/>
                  </a:lnTo>
                  <a:lnTo>
                    <a:pt x="767" y="1226"/>
                  </a:lnTo>
                  <a:lnTo>
                    <a:pt x="792" y="1186"/>
                  </a:lnTo>
                  <a:lnTo>
                    <a:pt x="840" y="1106"/>
                  </a:lnTo>
                  <a:lnTo>
                    <a:pt x="885" y="1026"/>
                  </a:lnTo>
                  <a:lnTo>
                    <a:pt x="929" y="947"/>
                  </a:lnTo>
                  <a:lnTo>
                    <a:pt x="969" y="868"/>
                  </a:lnTo>
                  <a:lnTo>
                    <a:pt x="1007" y="790"/>
                  </a:lnTo>
                  <a:lnTo>
                    <a:pt x="1043" y="715"/>
                  </a:lnTo>
                  <a:lnTo>
                    <a:pt x="1075" y="641"/>
                  </a:lnTo>
                  <a:lnTo>
                    <a:pt x="1105" y="570"/>
                  </a:lnTo>
                  <a:lnTo>
                    <a:pt x="1132" y="502"/>
                  </a:lnTo>
                  <a:lnTo>
                    <a:pt x="1155" y="437"/>
                  </a:lnTo>
                  <a:lnTo>
                    <a:pt x="1175" y="376"/>
                  </a:lnTo>
                  <a:lnTo>
                    <a:pt x="1192" y="320"/>
                  </a:lnTo>
                  <a:lnTo>
                    <a:pt x="1199" y="294"/>
                  </a:lnTo>
                  <a:lnTo>
                    <a:pt x="1205" y="269"/>
                  </a:lnTo>
                  <a:lnTo>
                    <a:pt x="1210" y="245"/>
                  </a:lnTo>
                  <a:lnTo>
                    <a:pt x="1214" y="222"/>
                  </a:lnTo>
                  <a:lnTo>
                    <a:pt x="1217" y="202"/>
                  </a:lnTo>
                  <a:lnTo>
                    <a:pt x="1219" y="181"/>
                  </a:lnTo>
                  <a:lnTo>
                    <a:pt x="1222" y="164"/>
                  </a:lnTo>
                  <a:lnTo>
                    <a:pt x="1222" y="147"/>
                  </a:lnTo>
                  <a:lnTo>
                    <a:pt x="1222" y="132"/>
                  </a:lnTo>
                  <a:lnTo>
                    <a:pt x="1219" y="119"/>
                  </a:lnTo>
                  <a:lnTo>
                    <a:pt x="1217" y="107"/>
                  </a:lnTo>
                  <a:lnTo>
                    <a:pt x="1213" y="95"/>
                  </a:lnTo>
                  <a:lnTo>
                    <a:pt x="1199" y="76"/>
                  </a:lnTo>
                  <a:lnTo>
                    <a:pt x="1132" y="10"/>
                  </a:lnTo>
                  <a:lnTo>
                    <a:pt x="1117" y="2"/>
                  </a:lnTo>
                  <a:lnTo>
                    <a:pt x="1108" y="0"/>
                  </a:lnTo>
                  <a:lnTo>
                    <a:pt x="1188" y="82"/>
                  </a:lnTo>
                  <a:lnTo>
                    <a:pt x="1107" y="0"/>
                  </a:lnTo>
                  <a:lnTo>
                    <a:pt x="1074" y="51"/>
                  </a:lnTo>
                  <a:lnTo>
                    <a:pt x="1188" y="82"/>
                  </a:lnTo>
                  <a:lnTo>
                    <a:pt x="110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4807080" y="3760920"/>
              <a:ext cx="382320" cy="628560"/>
            </a:xfrm>
            <a:custGeom>
              <a:avLst/>
              <a:gdLst/>
              <a:ahLst/>
              <a:rect l="l" t="t" r="r" b="b"/>
              <a:pathLst>
                <a:path w="1205" h="1977">
                  <a:moveTo>
                    <a:pt x="13" y="1895"/>
                  </a:moveTo>
                  <a:lnTo>
                    <a:pt x="94" y="1977"/>
                  </a:lnTo>
                  <a:lnTo>
                    <a:pt x="98" y="1977"/>
                  </a:lnTo>
                  <a:lnTo>
                    <a:pt x="104" y="1974"/>
                  </a:lnTo>
                  <a:lnTo>
                    <a:pt x="110" y="1972"/>
                  </a:lnTo>
                  <a:lnTo>
                    <a:pt x="115" y="1970"/>
                  </a:lnTo>
                  <a:lnTo>
                    <a:pt x="129" y="1962"/>
                  </a:lnTo>
                  <a:lnTo>
                    <a:pt x="143" y="1952"/>
                  </a:lnTo>
                  <a:lnTo>
                    <a:pt x="156" y="1939"/>
                  </a:lnTo>
                  <a:lnTo>
                    <a:pt x="172" y="1924"/>
                  </a:lnTo>
                  <a:lnTo>
                    <a:pt x="188" y="1907"/>
                  </a:lnTo>
                  <a:lnTo>
                    <a:pt x="205" y="1888"/>
                  </a:lnTo>
                  <a:lnTo>
                    <a:pt x="224" y="1866"/>
                  </a:lnTo>
                  <a:lnTo>
                    <a:pt x="242" y="1842"/>
                  </a:lnTo>
                  <a:lnTo>
                    <a:pt x="261" y="1817"/>
                  </a:lnTo>
                  <a:lnTo>
                    <a:pt x="282" y="1791"/>
                  </a:lnTo>
                  <a:lnTo>
                    <a:pt x="323" y="1731"/>
                  </a:lnTo>
                  <a:lnTo>
                    <a:pt x="367" y="1666"/>
                  </a:lnTo>
                  <a:lnTo>
                    <a:pt x="413" y="1596"/>
                  </a:lnTo>
                  <a:lnTo>
                    <a:pt x="460" y="1520"/>
                  </a:lnTo>
                  <a:lnTo>
                    <a:pt x="507" y="1441"/>
                  </a:lnTo>
                  <a:lnTo>
                    <a:pt x="556" y="1358"/>
                  </a:lnTo>
                  <a:lnTo>
                    <a:pt x="605" y="1273"/>
                  </a:lnTo>
                  <a:lnTo>
                    <a:pt x="656" y="1186"/>
                  </a:lnTo>
                  <a:lnTo>
                    <a:pt x="705" y="1097"/>
                  </a:lnTo>
                  <a:lnTo>
                    <a:pt x="754" y="1008"/>
                  </a:lnTo>
                  <a:lnTo>
                    <a:pt x="802" y="919"/>
                  </a:lnTo>
                  <a:lnTo>
                    <a:pt x="848" y="831"/>
                  </a:lnTo>
                  <a:lnTo>
                    <a:pt x="894" y="746"/>
                  </a:lnTo>
                  <a:lnTo>
                    <a:pt x="937" y="661"/>
                  </a:lnTo>
                  <a:lnTo>
                    <a:pt x="1017" y="503"/>
                  </a:lnTo>
                  <a:lnTo>
                    <a:pt x="1087" y="361"/>
                  </a:lnTo>
                  <a:lnTo>
                    <a:pt x="1116" y="299"/>
                  </a:lnTo>
                  <a:lnTo>
                    <a:pt x="1142" y="243"/>
                  </a:lnTo>
                  <a:lnTo>
                    <a:pt x="1164" y="194"/>
                  </a:lnTo>
                  <a:lnTo>
                    <a:pt x="1181" y="152"/>
                  </a:lnTo>
                  <a:lnTo>
                    <a:pt x="1195" y="121"/>
                  </a:lnTo>
                  <a:lnTo>
                    <a:pt x="1203" y="98"/>
                  </a:lnTo>
                  <a:lnTo>
                    <a:pt x="1204" y="90"/>
                  </a:lnTo>
                  <a:lnTo>
                    <a:pt x="1205" y="84"/>
                  </a:lnTo>
                  <a:lnTo>
                    <a:pt x="1204" y="81"/>
                  </a:lnTo>
                  <a:lnTo>
                    <a:pt x="1140" y="11"/>
                  </a:lnTo>
                  <a:lnTo>
                    <a:pt x="1122" y="0"/>
                  </a:lnTo>
                  <a:lnTo>
                    <a:pt x="1120" y="0"/>
                  </a:lnTo>
                  <a:lnTo>
                    <a:pt x="1201" y="82"/>
                  </a:lnTo>
                  <a:lnTo>
                    <a:pt x="1202" y="82"/>
                  </a:lnTo>
                  <a:lnTo>
                    <a:pt x="1185" y="70"/>
                  </a:lnTo>
                  <a:lnTo>
                    <a:pt x="1122" y="3"/>
                  </a:lnTo>
                  <a:lnTo>
                    <a:pt x="1122" y="3"/>
                  </a:lnTo>
                  <a:lnTo>
                    <a:pt x="1122" y="9"/>
                  </a:lnTo>
                  <a:lnTo>
                    <a:pt x="1120" y="17"/>
                  </a:lnTo>
                  <a:lnTo>
                    <a:pt x="1113" y="40"/>
                  </a:lnTo>
                  <a:lnTo>
                    <a:pt x="1100" y="71"/>
                  </a:lnTo>
                  <a:lnTo>
                    <a:pt x="1082" y="113"/>
                  </a:lnTo>
                  <a:lnTo>
                    <a:pt x="1060" y="162"/>
                  </a:lnTo>
                  <a:lnTo>
                    <a:pt x="1034" y="218"/>
                  </a:lnTo>
                  <a:lnTo>
                    <a:pt x="1004" y="280"/>
                  </a:lnTo>
                  <a:lnTo>
                    <a:pt x="935" y="421"/>
                  </a:lnTo>
                  <a:lnTo>
                    <a:pt x="855" y="580"/>
                  </a:lnTo>
                  <a:lnTo>
                    <a:pt x="812" y="664"/>
                  </a:lnTo>
                  <a:lnTo>
                    <a:pt x="766" y="750"/>
                  </a:lnTo>
                  <a:lnTo>
                    <a:pt x="719" y="838"/>
                  </a:lnTo>
                  <a:lnTo>
                    <a:pt x="672" y="927"/>
                  </a:lnTo>
                  <a:lnTo>
                    <a:pt x="623" y="1016"/>
                  </a:lnTo>
                  <a:lnTo>
                    <a:pt x="574" y="1104"/>
                  </a:lnTo>
                  <a:lnTo>
                    <a:pt x="523" y="1192"/>
                  </a:lnTo>
                  <a:lnTo>
                    <a:pt x="474" y="1277"/>
                  </a:lnTo>
                  <a:lnTo>
                    <a:pt x="425" y="1360"/>
                  </a:lnTo>
                  <a:lnTo>
                    <a:pt x="377" y="1439"/>
                  </a:lnTo>
                  <a:lnTo>
                    <a:pt x="331" y="1515"/>
                  </a:lnTo>
                  <a:lnTo>
                    <a:pt x="285" y="1584"/>
                  </a:lnTo>
                  <a:lnTo>
                    <a:pt x="242" y="1650"/>
                  </a:lnTo>
                  <a:lnTo>
                    <a:pt x="200" y="1709"/>
                  </a:lnTo>
                  <a:lnTo>
                    <a:pt x="180" y="1736"/>
                  </a:lnTo>
                  <a:lnTo>
                    <a:pt x="161" y="1761"/>
                  </a:lnTo>
                  <a:lnTo>
                    <a:pt x="142" y="1784"/>
                  </a:lnTo>
                  <a:lnTo>
                    <a:pt x="124" y="1806"/>
                  </a:lnTo>
                  <a:lnTo>
                    <a:pt x="107" y="1825"/>
                  </a:lnTo>
                  <a:lnTo>
                    <a:pt x="90" y="1842"/>
                  </a:lnTo>
                  <a:lnTo>
                    <a:pt x="75" y="1857"/>
                  </a:lnTo>
                  <a:lnTo>
                    <a:pt x="61" y="1870"/>
                  </a:lnTo>
                  <a:lnTo>
                    <a:pt x="47" y="1880"/>
                  </a:lnTo>
                  <a:lnTo>
                    <a:pt x="34" y="1888"/>
                  </a:lnTo>
                  <a:lnTo>
                    <a:pt x="29" y="1890"/>
                  </a:lnTo>
                  <a:lnTo>
                    <a:pt x="23" y="1892"/>
                  </a:lnTo>
                  <a:lnTo>
                    <a:pt x="17" y="1895"/>
                  </a:lnTo>
                  <a:lnTo>
                    <a:pt x="13" y="1895"/>
                  </a:lnTo>
                  <a:lnTo>
                    <a:pt x="94" y="1977"/>
                  </a:lnTo>
                  <a:lnTo>
                    <a:pt x="13" y="1895"/>
                  </a:lnTo>
                  <a:lnTo>
                    <a:pt x="0" y="1954"/>
                  </a:lnTo>
                  <a:lnTo>
                    <a:pt x="94" y="1977"/>
                  </a:lnTo>
                  <a:lnTo>
                    <a:pt x="13" y="189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4915080" y="3803760"/>
              <a:ext cx="361800" cy="601560"/>
            </a:xfrm>
            <a:custGeom>
              <a:avLst/>
              <a:gdLst/>
              <a:ahLst/>
              <a:rect l="l" t="t" r="r" b="b"/>
              <a:pathLst>
                <a:path w="1141" h="1895">
                  <a:moveTo>
                    <a:pt x="0" y="1895"/>
                  </a:moveTo>
                  <a:lnTo>
                    <a:pt x="66" y="1851"/>
                  </a:lnTo>
                  <a:lnTo>
                    <a:pt x="131" y="1802"/>
                  </a:lnTo>
                  <a:lnTo>
                    <a:pt x="196" y="1747"/>
                  </a:lnTo>
                  <a:lnTo>
                    <a:pt x="258" y="1688"/>
                  </a:lnTo>
                  <a:lnTo>
                    <a:pt x="321" y="1625"/>
                  </a:lnTo>
                  <a:lnTo>
                    <a:pt x="381" y="1558"/>
                  </a:lnTo>
                  <a:lnTo>
                    <a:pt x="441" y="1488"/>
                  </a:lnTo>
                  <a:lnTo>
                    <a:pt x="498" y="1415"/>
                  </a:lnTo>
                  <a:lnTo>
                    <a:pt x="554" y="1340"/>
                  </a:lnTo>
                  <a:lnTo>
                    <a:pt x="608" y="1263"/>
                  </a:lnTo>
                  <a:lnTo>
                    <a:pt x="660" y="1185"/>
                  </a:lnTo>
                  <a:lnTo>
                    <a:pt x="710" y="1105"/>
                  </a:lnTo>
                  <a:lnTo>
                    <a:pt x="758" y="1025"/>
                  </a:lnTo>
                  <a:lnTo>
                    <a:pt x="803" y="945"/>
                  </a:lnTo>
                  <a:lnTo>
                    <a:pt x="847" y="865"/>
                  </a:lnTo>
                  <a:lnTo>
                    <a:pt x="888" y="786"/>
                  </a:lnTo>
                  <a:lnTo>
                    <a:pt x="926" y="709"/>
                  </a:lnTo>
                  <a:lnTo>
                    <a:pt x="962" y="634"/>
                  </a:lnTo>
                  <a:lnTo>
                    <a:pt x="994" y="559"/>
                  </a:lnTo>
                  <a:lnTo>
                    <a:pt x="1023" y="489"/>
                  </a:lnTo>
                  <a:lnTo>
                    <a:pt x="1050" y="420"/>
                  </a:lnTo>
                  <a:lnTo>
                    <a:pt x="1073" y="355"/>
                  </a:lnTo>
                  <a:lnTo>
                    <a:pt x="1094" y="295"/>
                  </a:lnTo>
                  <a:lnTo>
                    <a:pt x="1110" y="239"/>
                  </a:lnTo>
                  <a:lnTo>
                    <a:pt x="1124" y="187"/>
                  </a:lnTo>
                  <a:lnTo>
                    <a:pt x="1133" y="141"/>
                  </a:lnTo>
                  <a:lnTo>
                    <a:pt x="1138" y="101"/>
                  </a:lnTo>
                  <a:lnTo>
                    <a:pt x="1141" y="67"/>
                  </a:lnTo>
                  <a:lnTo>
                    <a:pt x="1138" y="39"/>
                  </a:lnTo>
                  <a:lnTo>
                    <a:pt x="1132" y="19"/>
                  </a:lnTo>
                  <a:lnTo>
                    <a:pt x="1121" y="5"/>
                  </a:lnTo>
                  <a:lnTo>
                    <a:pt x="1107" y="0"/>
                  </a:lnTo>
                  <a:lnTo>
                    <a:pt x="1110" y="3"/>
                  </a:lnTo>
                  <a:lnTo>
                    <a:pt x="1108" y="16"/>
                  </a:lnTo>
                  <a:lnTo>
                    <a:pt x="1100" y="39"/>
                  </a:lnTo>
                  <a:lnTo>
                    <a:pt x="1087" y="71"/>
                  </a:lnTo>
                  <a:lnTo>
                    <a:pt x="1070" y="112"/>
                  </a:lnTo>
                  <a:lnTo>
                    <a:pt x="1048" y="161"/>
                  </a:lnTo>
                  <a:lnTo>
                    <a:pt x="1022" y="217"/>
                  </a:lnTo>
                  <a:lnTo>
                    <a:pt x="993" y="280"/>
                  </a:lnTo>
                  <a:lnTo>
                    <a:pt x="923" y="421"/>
                  </a:lnTo>
                  <a:lnTo>
                    <a:pt x="843" y="580"/>
                  </a:lnTo>
                  <a:lnTo>
                    <a:pt x="799" y="664"/>
                  </a:lnTo>
                  <a:lnTo>
                    <a:pt x="754" y="750"/>
                  </a:lnTo>
                  <a:lnTo>
                    <a:pt x="708" y="838"/>
                  </a:lnTo>
                  <a:lnTo>
                    <a:pt x="659" y="927"/>
                  </a:lnTo>
                  <a:lnTo>
                    <a:pt x="611" y="1016"/>
                  </a:lnTo>
                  <a:lnTo>
                    <a:pt x="560" y="1105"/>
                  </a:lnTo>
                  <a:lnTo>
                    <a:pt x="511" y="1191"/>
                  </a:lnTo>
                  <a:lnTo>
                    <a:pt x="462" y="1277"/>
                  </a:lnTo>
                  <a:lnTo>
                    <a:pt x="413" y="1359"/>
                  </a:lnTo>
                  <a:lnTo>
                    <a:pt x="366" y="1439"/>
                  </a:lnTo>
                  <a:lnTo>
                    <a:pt x="318" y="1514"/>
                  </a:lnTo>
                  <a:lnTo>
                    <a:pt x="273" y="1585"/>
                  </a:lnTo>
                  <a:lnTo>
                    <a:pt x="229" y="1650"/>
                  </a:lnTo>
                  <a:lnTo>
                    <a:pt x="188" y="1708"/>
                  </a:lnTo>
                  <a:lnTo>
                    <a:pt x="148" y="1761"/>
                  </a:lnTo>
                  <a:lnTo>
                    <a:pt x="111" y="1805"/>
                  </a:lnTo>
                  <a:lnTo>
                    <a:pt x="78" y="1842"/>
                  </a:lnTo>
                  <a:lnTo>
                    <a:pt x="49" y="1870"/>
                  </a:lnTo>
                  <a:lnTo>
                    <a:pt x="21" y="1887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4902120" y="3790800"/>
              <a:ext cx="387360" cy="627120"/>
            </a:xfrm>
            <a:custGeom>
              <a:avLst/>
              <a:gdLst/>
              <a:ahLst/>
              <a:rect l="l" t="t" r="r" b="b"/>
              <a:pathLst>
                <a:path w="1223" h="1977">
                  <a:moveTo>
                    <a:pt x="1108" y="0"/>
                  </a:moveTo>
                  <a:lnTo>
                    <a:pt x="1187" y="82"/>
                  </a:lnTo>
                  <a:lnTo>
                    <a:pt x="1194" y="84"/>
                  </a:lnTo>
                  <a:lnTo>
                    <a:pt x="1192" y="81"/>
                  </a:lnTo>
                  <a:lnTo>
                    <a:pt x="1137" y="28"/>
                  </a:lnTo>
                  <a:lnTo>
                    <a:pt x="1133" y="22"/>
                  </a:lnTo>
                  <a:lnTo>
                    <a:pt x="1136" y="30"/>
                  </a:lnTo>
                  <a:lnTo>
                    <a:pt x="1138" y="40"/>
                  </a:lnTo>
                  <a:lnTo>
                    <a:pt x="1140" y="53"/>
                  </a:lnTo>
                  <a:lnTo>
                    <a:pt x="1141" y="68"/>
                  </a:lnTo>
                  <a:lnTo>
                    <a:pt x="1140" y="84"/>
                  </a:lnTo>
                  <a:lnTo>
                    <a:pt x="1138" y="102"/>
                  </a:lnTo>
                  <a:lnTo>
                    <a:pt x="1136" y="121"/>
                  </a:lnTo>
                  <a:lnTo>
                    <a:pt x="1133" y="142"/>
                  </a:lnTo>
                  <a:lnTo>
                    <a:pt x="1128" y="163"/>
                  </a:lnTo>
                  <a:lnTo>
                    <a:pt x="1124" y="187"/>
                  </a:lnTo>
                  <a:lnTo>
                    <a:pt x="1117" y="213"/>
                  </a:lnTo>
                  <a:lnTo>
                    <a:pt x="1110" y="239"/>
                  </a:lnTo>
                  <a:lnTo>
                    <a:pt x="1094" y="296"/>
                  </a:lnTo>
                  <a:lnTo>
                    <a:pt x="1073" y="356"/>
                  </a:lnTo>
                  <a:lnTo>
                    <a:pt x="1049" y="420"/>
                  </a:lnTo>
                  <a:lnTo>
                    <a:pt x="1023" y="489"/>
                  </a:lnTo>
                  <a:lnTo>
                    <a:pt x="994" y="559"/>
                  </a:lnTo>
                  <a:lnTo>
                    <a:pt x="962" y="634"/>
                  </a:lnTo>
                  <a:lnTo>
                    <a:pt x="926" y="709"/>
                  </a:lnTo>
                  <a:lnTo>
                    <a:pt x="888" y="786"/>
                  </a:lnTo>
                  <a:lnTo>
                    <a:pt x="847" y="866"/>
                  </a:lnTo>
                  <a:lnTo>
                    <a:pt x="804" y="945"/>
                  </a:lnTo>
                  <a:lnTo>
                    <a:pt x="759" y="1026"/>
                  </a:lnTo>
                  <a:lnTo>
                    <a:pt x="711" y="1106"/>
                  </a:lnTo>
                  <a:lnTo>
                    <a:pt x="686" y="1146"/>
                  </a:lnTo>
                  <a:lnTo>
                    <a:pt x="661" y="1185"/>
                  </a:lnTo>
                  <a:lnTo>
                    <a:pt x="635" y="1224"/>
                  </a:lnTo>
                  <a:lnTo>
                    <a:pt x="608" y="1263"/>
                  </a:lnTo>
                  <a:lnTo>
                    <a:pt x="581" y="1302"/>
                  </a:lnTo>
                  <a:lnTo>
                    <a:pt x="555" y="1341"/>
                  </a:lnTo>
                  <a:lnTo>
                    <a:pt x="526" y="1379"/>
                  </a:lnTo>
                  <a:lnTo>
                    <a:pt x="499" y="1415"/>
                  </a:lnTo>
                  <a:lnTo>
                    <a:pt x="469" y="1453"/>
                  </a:lnTo>
                  <a:lnTo>
                    <a:pt x="441" y="1488"/>
                  </a:lnTo>
                  <a:lnTo>
                    <a:pt x="411" y="1523"/>
                  </a:lnTo>
                  <a:lnTo>
                    <a:pt x="381" y="1559"/>
                  </a:lnTo>
                  <a:lnTo>
                    <a:pt x="352" y="1592"/>
                  </a:lnTo>
                  <a:lnTo>
                    <a:pt x="321" y="1625"/>
                  </a:lnTo>
                  <a:lnTo>
                    <a:pt x="290" y="1657"/>
                  </a:lnTo>
                  <a:lnTo>
                    <a:pt x="259" y="1688"/>
                  </a:lnTo>
                  <a:lnTo>
                    <a:pt x="228" y="1718"/>
                  </a:lnTo>
                  <a:lnTo>
                    <a:pt x="196" y="1747"/>
                  </a:lnTo>
                  <a:lnTo>
                    <a:pt x="164" y="1776"/>
                  </a:lnTo>
                  <a:lnTo>
                    <a:pt x="132" y="1802"/>
                  </a:lnTo>
                  <a:lnTo>
                    <a:pt x="99" y="1827"/>
                  </a:lnTo>
                  <a:lnTo>
                    <a:pt x="66" y="1851"/>
                  </a:lnTo>
                  <a:lnTo>
                    <a:pt x="33" y="1874"/>
                  </a:lnTo>
                  <a:lnTo>
                    <a:pt x="0" y="1895"/>
                  </a:lnTo>
                  <a:lnTo>
                    <a:pt x="82" y="1977"/>
                  </a:lnTo>
                  <a:lnTo>
                    <a:pt x="115" y="1956"/>
                  </a:lnTo>
                  <a:lnTo>
                    <a:pt x="148" y="1933"/>
                  </a:lnTo>
                  <a:lnTo>
                    <a:pt x="181" y="1909"/>
                  </a:lnTo>
                  <a:lnTo>
                    <a:pt x="213" y="1884"/>
                  </a:lnTo>
                  <a:lnTo>
                    <a:pt x="246" y="1857"/>
                  </a:lnTo>
                  <a:lnTo>
                    <a:pt x="278" y="1829"/>
                  </a:lnTo>
                  <a:lnTo>
                    <a:pt x="310" y="1801"/>
                  </a:lnTo>
                  <a:lnTo>
                    <a:pt x="340" y="1770"/>
                  </a:lnTo>
                  <a:lnTo>
                    <a:pt x="372" y="1739"/>
                  </a:lnTo>
                  <a:lnTo>
                    <a:pt x="403" y="1707"/>
                  </a:lnTo>
                  <a:lnTo>
                    <a:pt x="433" y="1674"/>
                  </a:lnTo>
                  <a:lnTo>
                    <a:pt x="464" y="1640"/>
                  </a:lnTo>
                  <a:lnTo>
                    <a:pt x="493" y="1606"/>
                  </a:lnTo>
                  <a:lnTo>
                    <a:pt x="523" y="1570"/>
                  </a:lnTo>
                  <a:lnTo>
                    <a:pt x="551" y="1534"/>
                  </a:lnTo>
                  <a:lnTo>
                    <a:pt x="580" y="1497"/>
                  </a:lnTo>
                  <a:lnTo>
                    <a:pt x="608" y="1460"/>
                  </a:lnTo>
                  <a:lnTo>
                    <a:pt x="636" y="1422"/>
                  </a:lnTo>
                  <a:lnTo>
                    <a:pt x="663" y="1383"/>
                  </a:lnTo>
                  <a:lnTo>
                    <a:pt x="690" y="1344"/>
                  </a:lnTo>
                  <a:lnTo>
                    <a:pt x="717" y="1305"/>
                  </a:lnTo>
                  <a:lnTo>
                    <a:pt x="742" y="1267"/>
                  </a:lnTo>
                  <a:lnTo>
                    <a:pt x="768" y="1227"/>
                  </a:lnTo>
                  <a:lnTo>
                    <a:pt x="792" y="1187"/>
                  </a:lnTo>
                  <a:lnTo>
                    <a:pt x="840" y="1107"/>
                  </a:lnTo>
                  <a:lnTo>
                    <a:pt x="885" y="1027"/>
                  </a:lnTo>
                  <a:lnTo>
                    <a:pt x="929" y="947"/>
                  </a:lnTo>
                  <a:lnTo>
                    <a:pt x="970" y="869"/>
                  </a:lnTo>
                  <a:lnTo>
                    <a:pt x="1008" y="791"/>
                  </a:lnTo>
                  <a:lnTo>
                    <a:pt x="1044" y="715"/>
                  </a:lnTo>
                  <a:lnTo>
                    <a:pt x="1076" y="641"/>
                  </a:lnTo>
                  <a:lnTo>
                    <a:pt x="1105" y="570"/>
                  </a:lnTo>
                  <a:lnTo>
                    <a:pt x="1132" y="501"/>
                  </a:lnTo>
                  <a:lnTo>
                    <a:pt x="1156" y="437"/>
                  </a:lnTo>
                  <a:lnTo>
                    <a:pt x="1176" y="377"/>
                  </a:lnTo>
                  <a:lnTo>
                    <a:pt x="1192" y="320"/>
                  </a:lnTo>
                  <a:lnTo>
                    <a:pt x="1199" y="294"/>
                  </a:lnTo>
                  <a:lnTo>
                    <a:pt x="1206" y="268"/>
                  </a:lnTo>
                  <a:lnTo>
                    <a:pt x="1210" y="244"/>
                  </a:lnTo>
                  <a:lnTo>
                    <a:pt x="1215" y="223"/>
                  </a:lnTo>
                  <a:lnTo>
                    <a:pt x="1218" y="201"/>
                  </a:lnTo>
                  <a:lnTo>
                    <a:pt x="1220" y="182"/>
                  </a:lnTo>
                  <a:lnTo>
                    <a:pt x="1222" y="163"/>
                  </a:lnTo>
                  <a:lnTo>
                    <a:pt x="1223" y="147"/>
                  </a:lnTo>
                  <a:lnTo>
                    <a:pt x="1222" y="133"/>
                  </a:lnTo>
                  <a:lnTo>
                    <a:pt x="1220" y="119"/>
                  </a:lnTo>
                  <a:lnTo>
                    <a:pt x="1217" y="108"/>
                  </a:lnTo>
                  <a:lnTo>
                    <a:pt x="1214" y="96"/>
                  </a:lnTo>
                  <a:lnTo>
                    <a:pt x="1200" y="76"/>
                  </a:lnTo>
                  <a:lnTo>
                    <a:pt x="1133" y="11"/>
                  </a:lnTo>
                  <a:lnTo>
                    <a:pt x="1117" y="1"/>
                  </a:lnTo>
                  <a:lnTo>
                    <a:pt x="1108" y="0"/>
                  </a:lnTo>
                  <a:lnTo>
                    <a:pt x="1189" y="82"/>
                  </a:lnTo>
                  <a:lnTo>
                    <a:pt x="1108" y="0"/>
                  </a:lnTo>
                  <a:lnTo>
                    <a:pt x="1075" y="52"/>
                  </a:lnTo>
                  <a:lnTo>
                    <a:pt x="1187" y="82"/>
                  </a:lnTo>
                  <a:lnTo>
                    <a:pt x="110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4897440" y="3790800"/>
              <a:ext cx="382680" cy="627120"/>
            </a:xfrm>
            <a:custGeom>
              <a:avLst/>
              <a:gdLst/>
              <a:ahLst/>
              <a:rect l="l" t="t" r="r" b="b"/>
              <a:pathLst>
                <a:path w="1205" h="1978">
                  <a:moveTo>
                    <a:pt x="13" y="1896"/>
                  </a:moveTo>
                  <a:lnTo>
                    <a:pt x="93" y="1978"/>
                  </a:lnTo>
                  <a:lnTo>
                    <a:pt x="99" y="1977"/>
                  </a:lnTo>
                  <a:lnTo>
                    <a:pt x="105" y="1976"/>
                  </a:lnTo>
                  <a:lnTo>
                    <a:pt x="111" y="1974"/>
                  </a:lnTo>
                  <a:lnTo>
                    <a:pt x="116" y="1970"/>
                  </a:lnTo>
                  <a:lnTo>
                    <a:pt x="129" y="1962"/>
                  </a:lnTo>
                  <a:lnTo>
                    <a:pt x="143" y="1952"/>
                  </a:lnTo>
                  <a:lnTo>
                    <a:pt x="157" y="1940"/>
                  </a:lnTo>
                  <a:lnTo>
                    <a:pt x="173" y="1925"/>
                  </a:lnTo>
                  <a:lnTo>
                    <a:pt x="189" y="1908"/>
                  </a:lnTo>
                  <a:lnTo>
                    <a:pt x="206" y="1888"/>
                  </a:lnTo>
                  <a:lnTo>
                    <a:pt x="225" y="1867"/>
                  </a:lnTo>
                  <a:lnTo>
                    <a:pt x="243" y="1844"/>
                  </a:lnTo>
                  <a:lnTo>
                    <a:pt x="262" y="1819"/>
                  </a:lnTo>
                  <a:lnTo>
                    <a:pt x="282" y="1791"/>
                  </a:lnTo>
                  <a:lnTo>
                    <a:pt x="324" y="1732"/>
                  </a:lnTo>
                  <a:lnTo>
                    <a:pt x="367" y="1667"/>
                  </a:lnTo>
                  <a:lnTo>
                    <a:pt x="413" y="1596"/>
                  </a:lnTo>
                  <a:lnTo>
                    <a:pt x="459" y="1521"/>
                  </a:lnTo>
                  <a:lnTo>
                    <a:pt x="508" y="1442"/>
                  </a:lnTo>
                  <a:lnTo>
                    <a:pt x="557" y="1359"/>
                  </a:lnTo>
                  <a:lnTo>
                    <a:pt x="606" y="1275"/>
                  </a:lnTo>
                  <a:lnTo>
                    <a:pt x="656" y="1187"/>
                  </a:lnTo>
                  <a:lnTo>
                    <a:pt x="705" y="1099"/>
                  </a:lnTo>
                  <a:lnTo>
                    <a:pt x="754" y="1010"/>
                  </a:lnTo>
                  <a:lnTo>
                    <a:pt x="801" y="921"/>
                  </a:lnTo>
                  <a:lnTo>
                    <a:pt x="849" y="833"/>
                  </a:lnTo>
                  <a:lnTo>
                    <a:pt x="894" y="746"/>
                  </a:lnTo>
                  <a:lnTo>
                    <a:pt x="938" y="662"/>
                  </a:lnTo>
                  <a:lnTo>
                    <a:pt x="1018" y="503"/>
                  </a:lnTo>
                  <a:lnTo>
                    <a:pt x="1088" y="362"/>
                  </a:lnTo>
                  <a:lnTo>
                    <a:pt x="1117" y="300"/>
                  </a:lnTo>
                  <a:lnTo>
                    <a:pt x="1143" y="244"/>
                  </a:lnTo>
                  <a:lnTo>
                    <a:pt x="1165" y="195"/>
                  </a:lnTo>
                  <a:lnTo>
                    <a:pt x="1182" y="154"/>
                  </a:lnTo>
                  <a:lnTo>
                    <a:pt x="1195" y="121"/>
                  </a:lnTo>
                  <a:lnTo>
                    <a:pt x="1203" y="98"/>
                  </a:lnTo>
                  <a:lnTo>
                    <a:pt x="1205" y="90"/>
                  </a:lnTo>
                  <a:lnTo>
                    <a:pt x="1205" y="85"/>
                  </a:lnTo>
                  <a:lnTo>
                    <a:pt x="1205" y="81"/>
                  </a:lnTo>
                  <a:lnTo>
                    <a:pt x="1141" y="12"/>
                  </a:lnTo>
                  <a:lnTo>
                    <a:pt x="1122" y="0"/>
                  </a:lnTo>
                  <a:lnTo>
                    <a:pt x="1121" y="1"/>
                  </a:lnTo>
                  <a:lnTo>
                    <a:pt x="1202" y="83"/>
                  </a:lnTo>
                  <a:lnTo>
                    <a:pt x="1203" y="83"/>
                  </a:lnTo>
                  <a:lnTo>
                    <a:pt x="1186" y="72"/>
                  </a:lnTo>
                  <a:lnTo>
                    <a:pt x="1123" y="5"/>
                  </a:lnTo>
                  <a:lnTo>
                    <a:pt x="1123" y="5"/>
                  </a:lnTo>
                  <a:lnTo>
                    <a:pt x="1123" y="9"/>
                  </a:lnTo>
                  <a:lnTo>
                    <a:pt x="1121" y="17"/>
                  </a:lnTo>
                  <a:lnTo>
                    <a:pt x="1113" y="40"/>
                  </a:lnTo>
                  <a:lnTo>
                    <a:pt x="1100" y="73"/>
                  </a:lnTo>
                  <a:lnTo>
                    <a:pt x="1083" y="114"/>
                  </a:lnTo>
                  <a:lnTo>
                    <a:pt x="1061" y="162"/>
                  </a:lnTo>
                  <a:lnTo>
                    <a:pt x="1035" y="218"/>
                  </a:lnTo>
                  <a:lnTo>
                    <a:pt x="1005" y="281"/>
                  </a:lnTo>
                  <a:lnTo>
                    <a:pt x="936" y="422"/>
                  </a:lnTo>
                  <a:lnTo>
                    <a:pt x="856" y="581"/>
                  </a:lnTo>
                  <a:lnTo>
                    <a:pt x="812" y="665"/>
                  </a:lnTo>
                  <a:lnTo>
                    <a:pt x="767" y="752"/>
                  </a:lnTo>
                  <a:lnTo>
                    <a:pt x="720" y="840"/>
                  </a:lnTo>
                  <a:lnTo>
                    <a:pt x="673" y="928"/>
                  </a:lnTo>
                  <a:lnTo>
                    <a:pt x="624" y="1017"/>
                  </a:lnTo>
                  <a:lnTo>
                    <a:pt x="573" y="1106"/>
                  </a:lnTo>
                  <a:lnTo>
                    <a:pt x="524" y="1192"/>
                  </a:lnTo>
                  <a:lnTo>
                    <a:pt x="475" y="1278"/>
                  </a:lnTo>
                  <a:lnTo>
                    <a:pt x="426" y="1361"/>
                  </a:lnTo>
                  <a:lnTo>
                    <a:pt x="378" y="1440"/>
                  </a:lnTo>
                  <a:lnTo>
                    <a:pt x="332" y="1515"/>
                  </a:lnTo>
                  <a:lnTo>
                    <a:pt x="286" y="1586"/>
                  </a:lnTo>
                  <a:lnTo>
                    <a:pt x="242" y="1651"/>
                  </a:lnTo>
                  <a:lnTo>
                    <a:pt x="201" y="1710"/>
                  </a:lnTo>
                  <a:lnTo>
                    <a:pt x="180" y="1737"/>
                  </a:lnTo>
                  <a:lnTo>
                    <a:pt x="161" y="1763"/>
                  </a:lnTo>
                  <a:lnTo>
                    <a:pt x="143" y="1786"/>
                  </a:lnTo>
                  <a:lnTo>
                    <a:pt x="124" y="1807"/>
                  </a:lnTo>
                  <a:lnTo>
                    <a:pt x="107" y="1826"/>
                  </a:lnTo>
                  <a:lnTo>
                    <a:pt x="91" y="1844"/>
                  </a:lnTo>
                  <a:lnTo>
                    <a:pt x="75" y="1859"/>
                  </a:lnTo>
                  <a:lnTo>
                    <a:pt x="62" y="1871"/>
                  </a:lnTo>
                  <a:lnTo>
                    <a:pt x="48" y="1881"/>
                  </a:lnTo>
                  <a:lnTo>
                    <a:pt x="35" y="1888"/>
                  </a:lnTo>
                  <a:lnTo>
                    <a:pt x="30" y="1892"/>
                  </a:lnTo>
                  <a:lnTo>
                    <a:pt x="24" y="1894"/>
                  </a:lnTo>
                  <a:lnTo>
                    <a:pt x="18" y="1895"/>
                  </a:lnTo>
                  <a:lnTo>
                    <a:pt x="14" y="1896"/>
                  </a:lnTo>
                  <a:lnTo>
                    <a:pt x="95" y="1978"/>
                  </a:lnTo>
                  <a:lnTo>
                    <a:pt x="13" y="1896"/>
                  </a:lnTo>
                  <a:lnTo>
                    <a:pt x="0" y="1956"/>
                  </a:lnTo>
                  <a:lnTo>
                    <a:pt x="93" y="1978"/>
                  </a:lnTo>
                  <a:lnTo>
                    <a:pt x="13" y="189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5076720" y="3711600"/>
              <a:ext cx="309600" cy="630360"/>
            </a:xfrm>
            <a:custGeom>
              <a:avLst/>
              <a:gdLst/>
              <a:ahLst/>
              <a:rect l="l" t="t" r="r" b="b"/>
              <a:pathLst>
                <a:path w="978" h="1984">
                  <a:moveTo>
                    <a:pt x="0" y="1984"/>
                  </a:moveTo>
                  <a:lnTo>
                    <a:pt x="62" y="1935"/>
                  </a:lnTo>
                  <a:lnTo>
                    <a:pt x="122" y="1880"/>
                  </a:lnTo>
                  <a:lnTo>
                    <a:pt x="181" y="1819"/>
                  </a:lnTo>
                  <a:lnTo>
                    <a:pt x="240" y="1755"/>
                  </a:lnTo>
                  <a:lnTo>
                    <a:pt x="297" y="1687"/>
                  </a:lnTo>
                  <a:lnTo>
                    <a:pt x="350" y="1615"/>
                  </a:lnTo>
                  <a:lnTo>
                    <a:pt x="404" y="1540"/>
                  </a:lnTo>
                  <a:lnTo>
                    <a:pt x="455" y="1462"/>
                  </a:lnTo>
                  <a:lnTo>
                    <a:pt x="504" y="1382"/>
                  </a:lnTo>
                  <a:lnTo>
                    <a:pt x="551" y="1300"/>
                  </a:lnTo>
                  <a:lnTo>
                    <a:pt x="596" y="1218"/>
                  </a:lnTo>
                  <a:lnTo>
                    <a:pt x="639" y="1135"/>
                  </a:lnTo>
                  <a:lnTo>
                    <a:pt x="680" y="1050"/>
                  </a:lnTo>
                  <a:lnTo>
                    <a:pt x="718" y="967"/>
                  </a:lnTo>
                  <a:lnTo>
                    <a:pt x="755" y="884"/>
                  </a:lnTo>
                  <a:lnTo>
                    <a:pt x="788" y="802"/>
                  </a:lnTo>
                  <a:lnTo>
                    <a:pt x="820" y="721"/>
                  </a:lnTo>
                  <a:lnTo>
                    <a:pt x="848" y="642"/>
                  </a:lnTo>
                  <a:lnTo>
                    <a:pt x="875" y="565"/>
                  </a:lnTo>
                  <a:lnTo>
                    <a:pt x="897" y="492"/>
                  </a:lnTo>
                  <a:lnTo>
                    <a:pt x="918" y="422"/>
                  </a:lnTo>
                  <a:lnTo>
                    <a:pt x="936" y="356"/>
                  </a:lnTo>
                  <a:lnTo>
                    <a:pt x="950" y="294"/>
                  </a:lnTo>
                  <a:lnTo>
                    <a:pt x="962" y="236"/>
                  </a:lnTo>
                  <a:lnTo>
                    <a:pt x="970" y="183"/>
                  </a:lnTo>
                  <a:lnTo>
                    <a:pt x="976" y="137"/>
                  </a:lnTo>
                  <a:lnTo>
                    <a:pt x="978" y="97"/>
                  </a:lnTo>
                  <a:lnTo>
                    <a:pt x="977" y="62"/>
                  </a:lnTo>
                  <a:lnTo>
                    <a:pt x="973" y="35"/>
                  </a:lnTo>
                  <a:lnTo>
                    <a:pt x="965" y="14"/>
                  </a:lnTo>
                  <a:lnTo>
                    <a:pt x="953" y="3"/>
                  </a:lnTo>
                  <a:lnTo>
                    <a:pt x="938" y="0"/>
                  </a:lnTo>
                  <a:lnTo>
                    <a:pt x="942" y="2"/>
                  </a:lnTo>
                  <a:lnTo>
                    <a:pt x="941" y="14"/>
                  </a:lnTo>
                  <a:lnTo>
                    <a:pt x="935" y="38"/>
                  </a:lnTo>
                  <a:lnTo>
                    <a:pt x="925" y="71"/>
                  </a:lnTo>
                  <a:lnTo>
                    <a:pt x="911" y="114"/>
                  </a:lnTo>
                  <a:lnTo>
                    <a:pt x="894" y="165"/>
                  </a:lnTo>
                  <a:lnTo>
                    <a:pt x="872" y="223"/>
                  </a:lnTo>
                  <a:lnTo>
                    <a:pt x="848" y="287"/>
                  </a:lnTo>
                  <a:lnTo>
                    <a:pt x="792" y="434"/>
                  </a:lnTo>
                  <a:lnTo>
                    <a:pt x="725" y="600"/>
                  </a:lnTo>
                  <a:lnTo>
                    <a:pt x="690" y="688"/>
                  </a:lnTo>
                  <a:lnTo>
                    <a:pt x="652" y="778"/>
                  </a:lnTo>
                  <a:lnTo>
                    <a:pt x="612" y="869"/>
                  </a:lnTo>
                  <a:lnTo>
                    <a:pt x="572" y="961"/>
                  </a:lnTo>
                  <a:lnTo>
                    <a:pt x="531" y="1055"/>
                  </a:lnTo>
                  <a:lnTo>
                    <a:pt x="490" y="1147"/>
                  </a:lnTo>
                  <a:lnTo>
                    <a:pt x="448" y="1239"/>
                  </a:lnTo>
                  <a:lnTo>
                    <a:pt x="407" y="1328"/>
                  </a:lnTo>
                  <a:lnTo>
                    <a:pt x="365" y="1414"/>
                  </a:lnTo>
                  <a:lnTo>
                    <a:pt x="324" y="1498"/>
                  </a:lnTo>
                  <a:lnTo>
                    <a:pt x="284" y="1576"/>
                  </a:lnTo>
                  <a:lnTo>
                    <a:pt x="245" y="1652"/>
                  </a:lnTo>
                  <a:lnTo>
                    <a:pt x="207" y="1720"/>
                  </a:lnTo>
                  <a:lnTo>
                    <a:pt x="170" y="1783"/>
                  </a:lnTo>
                  <a:lnTo>
                    <a:pt x="136" y="1838"/>
                  </a:lnTo>
                  <a:lnTo>
                    <a:pt x="104" y="1885"/>
                  </a:lnTo>
                  <a:lnTo>
                    <a:pt x="73" y="1924"/>
                  </a:lnTo>
                  <a:lnTo>
                    <a:pt x="46" y="1954"/>
                  </a:lnTo>
                  <a:lnTo>
                    <a:pt x="21" y="197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5064120" y="3699000"/>
              <a:ext cx="336600" cy="655560"/>
            </a:xfrm>
            <a:custGeom>
              <a:avLst/>
              <a:gdLst/>
              <a:ahLst/>
              <a:rect l="l" t="t" r="r" b="b"/>
              <a:pathLst>
                <a:path w="1060" h="2066">
                  <a:moveTo>
                    <a:pt x="938" y="0"/>
                  </a:moveTo>
                  <a:lnTo>
                    <a:pt x="1019" y="82"/>
                  </a:lnTo>
                  <a:lnTo>
                    <a:pt x="1023" y="82"/>
                  </a:lnTo>
                  <a:lnTo>
                    <a:pt x="1026" y="82"/>
                  </a:lnTo>
                  <a:lnTo>
                    <a:pt x="1028" y="83"/>
                  </a:lnTo>
                  <a:lnTo>
                    <a:pt x="1026" y="81"/>
                  </a:lnTo>
                  <a:lnTo>
                    <a:pt x="989" y="47"/>
                  </a:lnTo>
                  <a:lnTo>
                    <a:pt x="967" y="21"/>
                  </a:lnTo>
                  <a:lnTo>
                    <a:pt x="969" y="27"/>
                  </a:lnTo>
                  <a:lnTo>
                    <a:pt x="973" y="37"/>
                  </a:lnTo>
                  <a:lnTo>
                    <a:pt x="975" y="49"/>
                  </a:lnTo>
                  <a:lnTo>
                    <a:pt x="977" y="63"/>
                  </a:lnTo>
                  <a:lnTo>
                    <a:pt x="978" y="79"/>
                  </a:lnTo>
                  <a:lnTo>
                    <a:pt x="978" y="98"/>
                  </a:lnTo>
                  <a:lnTo>
                    <a:pt x="977" y="117"/>
                  </a:lnTo>
                  <a:lnTo>
                    <a:pt x="976" y="138"/>
                  </a:lnTo>
                  <a:lnTo>
                    <a:pt x="974" y="160"/>
                  </a:lnTo>
                  <a:lnTo>
                    <a:pt x="970" y="184"/>
                  </a:lnTo>
                  <a:lnTo>
                    <a:pt x="967" y="209"/>
                  </a:lnTo>
                  <a:lnTo>
                    <a:pt x="962" y="237"/>
                  </a:lnTo>
                  <a:lnTo>
                    <a:pt x="950" y="294"/>
                  </a:lnTo>
                  <a:lnTo>
                    <a:pt x="935" y="357"/>
                  </a:lnTo>
                  <a:lnTo>
                    <a:pt x="918" y="423"/>
                  </a:lnTo>
                  <a:lnTo>
                    <a:pt x="897" y="492"/>
                  </a:lnTo>
                  <a:lnTo>
                    <a:pt x="873" y="567"/>
                  </a:lnTo>
                  <a:lnTo>
                    <a:pt x="848" y="643"/>
                  </a:lnTo>
                  <a:lnTo>
                    <a:pt x="820" y="722"/>
                  </a:lnTo>
                  <a:lnTo>
                    <a:pt x="788" y="802"/>
                  </a:lnTo>
                  <a:lnTo>
                    <a:pt x="755" y="884"/>
                  </a:lnTo>
                  <a:lnTo>
                    <a:pt x="718" y="967"/>
                  </a:lnTo>
                  <a:lnTo>
                    <a:pt x="680" y="1051"/>
                  </a:lnTo>
                  <a:lnTo>
                    <a:pt x="639" y="1135"/>
                  </a:lnTo>
                  <a:lnTo>
                    <a:pt x="596" y="1218"/>
                  </a:lnTo>
                  <a:lnTo>
                    <a:pt x="551" y="1301"/>
                  </a:lnTo>
                  <a:lnTo>
                    <a:pt x="528" y="1342"/>
                  </a:lnTo>
                  <a:lnTo>
                    <a:pt x="504" y="1382"/>
                  </a:lnTo>
                  <a:lnTo>
                    <a:pt x="479" y="1422"/>
                  </a:lnTo>
                  <a:lnTo>
                    <a:pt x="455" y="1462"/>
                  </a:lnTo>
                  <a:lnTo>
                    <a:pt x="430" y="1501"/>
                  </a:lnTo>
                  <a:lnTo>
                    <a:pt x="404" y="1540"/>
                  </a:lnTo>
                  <a:lnTo>
                    <a:pt x="377" y="1577"/>
                  </a:lnTo>
                  <a:lnTo>
                    <a:pt x="351" y="1615"/>
                  </a:lnTo>
                  <a:lnTo>
                    <a:pt x="324" y="1652"/>
                  </a:lnTo>
                  <a:lnTo>
                    <a:pt x="297" y="1687"/>
                  </a:lnTo>
                  <a:lnTo>
                    <a:pt x="268" y="1721"/>
                  </a:lnTo>
                  <a:lnTo>
                    <a:pt x="240" y="1755"/>
                  </a:lnTo>
                  <a:lnTo>
                    <a:pt x="211" y="1788"/>
                  </a:lnTo>
                  <a:lnTo>
                    <a:pt x="183" y="1819"/>
                  </a:lnTo>
                  <a:lnTo>
                    <a:pt x="153" y="1850"/>
                  </a:lnTo>
                  <a:lnTo>
                    <a:pt x="122" y="1880"/>
                  </a:lnTo>
                  <a:lnTo>
                    <a:pt x="92" y="1907"/>
                  </a:lnTo>
                  <a:lnTo>
                    <a:pt x="62" y="1934"/>
                  </a:lnTo>
                  <a:lnTo>
                    <a:pt x="31" y="1960"/>
                  </a:lnTo>
                  <a:lnTo>
                    <a:pt x="0" y="1984"/>
                  </a:lnTo>
                  <a:lnTo>
                    <a:pt x="81" y="2066"/>
                  </a:lnTo>
                  <a:lnTo>
                    <a:pt x="113" y="2042"/>
                  </a:lnTo>
                  <a:lnTo>
                    <a:pt x="144" y="2017"/>
                  </a:lnTo>
                  <a:lnTo>
                    <a:pt x="175" y="1989"/>
                  </a:lnTo>
                  <a:lnTo>
                    <a:pt x="204" y="1961"/>
                  </a:lnTo>
                  <a:lnTo>
                    <a:pt x="234" y="1932"/>
                  </a:lnTo>
                  <a:lnTo>
                    <a:pt x="263" y="1901"/>
                  </a:lnTo>
                  <a:lnTo>
                    <a:pt x="293" y="1869"/>
                  </a:lnTo>
                  <a:lnTo>
                    <a:pt x="322" y="1836"/>
                  </a:lnTo>
                  <a:lnTo>
                    <a:pt x="350" y="1803"/>
                  </a:lnTo>
                  <a:lnTo>
                    <a:pt x="377" y="1768"/>
                  </a:lnTo>
                  <a:lnTo>
                    <a:pt x="405" y="1733"/>
                  </a:lnTo>
                  <a:lnTo>
                    <a:pt x="432" y="1696"/>
                  </a:lnTo>
                  <a:lnTo>
                    <a:pt x="460" y="1660"/>
                  </a:lnTo>
                  <a:lnTo>
                    <a:pt x="486" y="1622"/>
                  </a:lnTo>
                  <a:lnTo>
                    <a:pt x="511" y="1583"/>
                  </a:lnTo>
                  <a:lnTo>
                    <a:pt x="536" y="1543"/>
                  </a:lnTo>
                  <a:lnTo>
                    <a:pt x="561" y="1504"/>
                  </a:lnTo>
                  <a:lnTo>
                    <a:pt x="586" y="1464"/>
                  </a:lnTo>
                  <a:lnTo>
                    <a:pt x="609" y="1423"/>
                  </a:lnTo>
                  <a:lnTo>
                    <a:pt x="633" y="1382"/>
                  </a:lnTo>
                  <a:lnTo>
                    <a:pt x="677" y="1300"/>
                  </a:lnTo>
                  <a:lnTo>
                    <a:pt x="721" y="1216"/>
                  </a:lnTo>
                  <a:lnTo>
                    <a:pt x="762" y="1132"/>
                  </a:lnTo>
                  <a:lnTo>
                    <a:pt x="800" y="1048"/>
                  </a:lnTo>
                  <a:lnTo>
                    <a:pt x="837" y="965"/>
                  </a:lnTo>
                  <a:lnTo>
                    <a:pt x="870" y="883"/>
                  </a:lnTo>
                  <a:lnTo>
                    <a:pt x="902" y="803"/>
                  </a:lnTo>
                  <a:lnTo>
                    <a:pt x="930" y="724"/>
                  </a:lnTo>
                  <a:lnTo>
                    <a:pt x="957" y="648"/>
                  </a:lnTo>
                  <a:lnTo>
                    <a:pt x="979" y="573"/>
                  </a:lnTo>
                  <a:lnTo>
                    <a:pt x="1000" y="504"/>
                  </a:lnTo>
                  <a:lnTo>
                    <a:pt x="1018" y="438"/>
                  </a:lnTo>
                  <a:lnTo>
                    <a:pt x="1032" y="375"/>
                  </a:lnTo>
                  <a:lnTo>
                    <a:pt x="1044" y="318"/>
                  </a:lnTo>
                  <a:lnTo>
                    <a:pt x="1049" y="290"/>
                  </a:lnTo>
                  <a:lnTo>
                    <a:pt x="1052" y="265"/>
                  </a:lnTo>
                  <a:lnTo>
                    <a:pt x="1056" y="241"/>
                  </a:lnTo>
                  <a:lnTo>
                    <a:pt x="1058" y="219"/>
                  </a:lnTo>
                  <a:lnTo>
                    <a:pt x="1059" y="197"/>
                  </a:lnTo>
                  <a:lnTo>
                    <a:pt x="1060" y="178"/>
                  </a:lnTo>
                  <a:lnTo>
                    <a:pt x="1060" y="159"/>
                  </a:lnTo>
                  <a:lnTo>
                    <a:pt x="1059" y="143"/>
                  </a:lnTo>
                  <a:lnTo>
                    <a:pt x="1057" y="128"/>
                  </a:lnTo>
                  <a:lnTo>
                    <a:pt x="1055" y="115"/>
                  </a:lnTo>
                  <a:lnTo>
                    <a:pt x="1050" y="103"/>
                  </a:lnTo>
                  <a:lnTo>
                    <a:pt x="1044" y="91"/>
                  </a:lnTo>
                  <a:lnTo>
                    <a:pt x="1011" y="51"/>
                  </a:lnTo>
                  <a:lnTo>
                    <a:pt x="962" y="8"/>
                  </a:lnTo>
                  <a:lnTo>
                    <a:pt x="953" y="2"/>
                  </a:lnTo>
                  <a:lnTo>
                    <a:pt x="947" y="0"/>
                  </a:lnTo>
                  <a:lnTo>
                    <a:pt x="943" y="0"/>
                  </a:lnTo>
                  <a:lnTo>
                    <a:pt x="939" y="0"/>
                  </a:lnTo>
                  <a:lnTo>
                    <a:pt x="1019" y="82"/>
                  </a:lnTo>
                  <a:lnTo>
                    <a:pt x="938" y="0"/>
                  </a:lnTo>
                  <a:lnTo>
                    <a:pt x="914" y="68"/>
                  </a:lnTo>
                  <a:lnTo>
                    <a:pt x="1019" y="82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5060880" y="3699000"/>
              <a:ext cx="327240" cy="657000"/>
            </a:xfrm>
            <a:custGeom>
              <a:avLst/>
              <a:gdLst/>
              <a:ahLst/>
              <a:rect l="l" t="t" r="r" b="b"/>
              <a:pathLst>
                <a:path w="1030" h="2073">
                  <a:moveTo>
                    <a:pt x="6" y="1986"/>
                  </a:moveTo>
                  <a:lnTo>
                    <a:pt x="87" y="2068"/>
                  </a:lnTo>
                  <a:lnTo>
                    <a:pt x="92" y="2067"/>
                  </a:lnTo>
                  <a:lnTo>
                    <a:pt x="97" y="2064"/>
                  </a:lnTo>
                  <a:lnTo>
                    <a:pt x="103" y="2062"/>
                  </a:lnTo>
                  <a:lnTo>
                    <a:pt x="109" y="2059"/>
                  </a:lnTo>
                  <a:lnTo>
                    <a:pt x="121" y="2049"/>
                  </a:lnTo>
                  <a:lnTo>
                    <a:pt x="134" y="2038"/>
                  </a:lnTo>
                  <a:lnTo>
                    <a:pt x="147" y="2024"/>
                  </a:lnTo>
                  <a:lnTo>
                    <a:pt x="161" y="2008"/>
                  </a:lnTo>
                  <a:lnTo>
                    <a:pt x="176" y="1990"/>
                  </a:lnTo>
                  <a:lnTo>
                    <a:pt x="191" y="1970"/>
                  </a:lnTo>
                  <a:lnTo>
                    <a:pt x="208" y="1947"/>
                  </a:lnTo>
                  <a:lnTo>
                    <a:pt x="224" y="1922"/>
                  </a:lnTo>
                  <a:lnTo>
                    <a:pt x="241" y="1894"/>
                  </a:lnTo>
                  <a:lnTo>
                    <a:pt x="258" y="1866"/>
                  </a:lnTo>
                  <a:lnTo>
                    <a:pt x="295" y="1803"/>
                  </a:lnTo>
                  <a:lnTo>
                    <a:pt x="333" y="1735"/>
                  </a:lnTo>
                  <a:lnTo>
                    <a:pt x="372" y="1660"/>
                  </a:lnTo>
                  <a:lnTo>
                    <a:pt x="412" y="1582"/>
                  </a:lnTo>
                  <a:lnTo>
                    <a:pt x="453" y="1498"/>
                  </a:lnTo>
                  <a:lnTo>
                    <a:pt x="495" y="1412"/>
                  </a:lnTo>
                  <a:lnTo>
                    <a:pt x="536" y="1323"/>
                  </a:lnTo>
                  <a:lnTo>
                    <a:pt x="578" y="1230"/>
                  </a:lnTo>
                  <a:lnTo>
                    <a:pt x="619" y="1138"/>
                  </a:lnTo>
                  <a:lnTo>
                    <a:pt x="660" y="1045"/>
                  </a:lnTo>
                  <a:lnTo>
                    <a:pt x="700" y="953"/>
                  </a:lnTo>
                  <a:lnTo>
                    <a:pt x="740" y="861"/>
                  </a:lnTo>
                  <a:lnTo>
                    <a:pt x="778" y="770"/>
                  </a:lnTo>
                  <a:lnTo>
                    <a:pt x="813" y="683"/>
                  </a:lnTo>
                  <a:lnTo>
                    <a:pt x="881" y="518"/>
                  </a:lnTo>
                  <a:lnTo>
                    <a:pt x="936" y="371"/>
                  </a:lnTo>
                  <a:lnTo>
                    <a:pt x="960" y="306"/>
                  </a:lnTo>
                  <a:lnTo>
                    <a:pt x="982" y="248"/>
                  </a:lnTo>
                  <a:lnTo>
                    <a:pt x="999" y="198"/>
                  </a:lnTo>
                  <a:lnTo>
                    <a:pt x="1013" y="156"/>
                  </a:lnTo>
                  <a:lnTo>
                    <a:pt x="1023" y="122"/>
                  </a:lnTo>
                  <a:lnTo>
                    <a:pt x="1029" y="99"/>
                  </a:lnTo>
                  <a:lnTo>
                    <a:pt x="1030" y="91"/>
                  </a:lnTo>
                  <a:lnTo>
                    <a:pt x="1030" y="85"/>
                  </a:lnTo>
                  <a:lnTo>
                    <a:pt x="1029" y="80"/>
                  </a:lnTo>
                  <a:lnTo>
                    <a:pt x="955" y="5"/>
                  </a:lnTo>
                  <a:lnTo>
                    <a:pt x="947" y="0"/>
                  </a:lnTo>
                  <a:lnTo>
                    <a:pt x="944" y="2"/>
                  </a:lnTo>
                  <a:lnTo>
                    <a:pt x="1025" y="84"/>
                  </a:lnTo>
                  <a:lnTo>
                    <a:pt x="1026" y="83"/>
                  </a:lnTo>
                  <a:lnTo>
                    <a:pt x="1020" y="79"/>
                  </a:lnTo>
                  <a:lnTo>
                    <a:pt x="948" y="6"/>
                  </a:lnTo>
                  <a:lnTo>
                    <a:pt x="948" y="5"/>
                  </a:lnTo>
                  <a:lnTo>
                    <a:pt x="948" y="10"/>
                  </a:lnTo>
                  <a:lnTo>
                    <a:pt x="947" y="18"/>
                  </a:lnTo>
                  <a:lnTo>
                    <a:pt x="941" y="41"/>
                  </a:lnTo>
                  <a:lnTo>
                    <a:pt x="931" y="75"/>
                  </a:lnTo>
                  <a:lnTo>
                    <a:pt x="917" y="117"/>
                  </a:lnTo>
                  <a:lnTo>
                    <a:pt x="900" y="167"/>
                  </a:lnTo>
                  <a:lnTo>
                    <a:pt x="878" y="225"/>
                  </a:lnTo>
                  <a:lnTo>
                    <a:pt x="854" y="290"/>
                  </a:lnTo>
                  <a:lnTo>
                    <a:pt x="798" y="436"/>
                  </a:lnTo>
                  <a:lnTo>
                    <a:pt x="731" y="602"/>
                  </a:lnTo>
                  <a:lnTo>
                    <a:pt x="696" y="689"/>
                  </a:lnTo>
                  <a:lnTo>
                    <a:pt x="658" y="780"/>
                  </a:lnTo>
                  <a:lnTo>
                    <a:pt x="618" y="871"/>
                  </a:lnTo>
                  <a:lnTo>
                    <a:pt x="578" y="964"/>
                  </a:lnTo>
                  <a:lnTo>
                    <a:pt x="537" y="1057"/>
                  </a:lnTo>
                  <a:lnTo>
                    <a:pt x="496" y="1149"/>
                  </a:lnTo>
                  <a:lnTo>
                    <a:pt x="454" y="1241"/>
                  </a:lnTo>
                  <a:lnTo>
                    <a:pt x="413" y="1331"/>
                  </a:lnTo>
                  <a:lnTo>
                    <a:pt x="371" y="1417"/>
                  </a:lnTo>
                  <a:lnTo>
                    <a:pt x="330" y="1500"/>
                  </a:lnTo>
                  <a:lnTo>
                    <a:pt x="290" y="1579"/>
                  </a:lnTo>
                  <a:lnTo>
                    <a:pt x="251" y="1654"/>
                  </a:lnTo>
                  <a:lnTo>
                    <a:pt x="214" y="1722"/>
                  </a:lnTo>
                  <a:lnTo>
                    <a:pt x="177" y="1785"/>
                  </a:lnTo>
                  <a:lnTo>
                    <a:pt x="159" y="1813"/>
                  </a:lnTo>
                  <a:lnTo>
                    <a:pt x="142" y="1839"/>
                  </a:lnTo>
                  <a:lnTo>
                    <a:pt x="126" y="1865"/>
                  </a:lnTo>
                  <a:lnTo>
                    <a:pt x="110" y="1887"/>
                  </a:lnTo>
                  <a:lnTo>
                    <a:pt x="94" y="1908"/>
                  </a:lnTo>
                  <a:lnTo>
                    <a:pt x="79" y="1926"/>
                  </a:lnTo>
                  <a:lnTo>
                    <a:pt x="65" y="1942"/>
                  </a:lnTo>
                  <a:lnTo>
                    <a:pt x="52" y="1957"/>
                  </a:lnTo>
                  <a:lnTo>
                    <a:pt x="39" y="1968"/>
                  </a:lnTo>
                  <a:lnTo>
                    <a:pt x="28" y="1976"/>
                  </a:lnTo>
                  <a:lnTo>
                    <a:pt x="22" y="1980"/>
                  </a:lnTo>
                  <a:lnTo>
                    <a:pt x="16" y="1982"/>
                  </a:lnTo>
                  <a:lnTo>
                    <a:pt x="11" y="1984"/>
                  </a:lnTo>
                  <a:lnTo>
                    <a:pt x="6" y="1986"/>
                  </a:lnTo>
                  <a:lnTo>
                    <a:pt x="87" y="2068"/>
                  </a:lnTo>
                  <a:lnTo>
                    <a:pt x="6" y="1986"/>
                  </a:lnTo>
                  <a:lnTo>
                    <a:pt x="0" y="2073"/>
                  </a:lnTo>
                  <a:lnTo>
                    <a:pt x="87" y="2068"/>
                  </a:lnTo>
                  <a:lnTo>
                    <a:pt x="6" y="198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5170320" y="3733920"/>
              <a:ext cx="309600" cy="630000"/>
            </a:xfrm>
            <a:custGeom>
              <a:avLst/>
              <a:gdLst/>
              <a:ahLst/>
              <a:rect l="l" t="t" r="r" b="b"/>
              <a:pathLst>
                <a:path w="978" h="1985">
                  <a:moveTo>
                    <a:pt x="0" y="1985"/>
                  </a:moveTo>
                  <a:lnTo>
                    <a:pt x="62" y="1935"/>
                  </a:lnTo>
                  <a:lnTo>
                    <a:pt x="123" y="1880"/>
                  </a:lnTo>
                  <a:lnTo>
                    <a:pt x="183" y="1820"/>
                  </a:lnTo>
                  <a:lnTo>
                    <a:pt x="240" y="1756"/>
                  </a:lnTo>
                  <a:lnTo>
                    <a:pt x="297" y="1688"/>
                  </a:lnTo>
                  <a:lnTo>
                    <a:pt x="351" y="1616"/>
                  </a:lnTo>
                  <a:lnTo>
                    <a:pt x="404" y="1540"/>
                  </a:lnTo>
                  <a:lnTo>
                    <a:pt x="455" y="1463"/>
                  </a:lnTo>
                  <a:lnTo>
                    <a:pt x="504" y="1383"/>
                  </a:lnTo>
                  <a:lnTo>
                    <a:pt x="551" y="1302"/>
                  </a:lnTo>
                  <a:lnTo>
                    <a:pt x="597" y="1219"/>
                  </a:lnTo>
                  <a:lnTo>
                    <a:pt x="639" y="1135"/>
                  </a:lnTo>
                  <a:lnTo>
                    <a:pt x="680" y="1052"/>
                  </a:lnTo>
                  <a:lnTo>
                    <a:pt x="718" y="968"/>
                  </a:lnTo>
                  <a:lnTo>
                    <a:pt x="755" y="884"/>
                  </a:lnTo>
                  <a:lnTo>
                    <a:pt x="788" y="802"/>
                  </a:lnTo>
                  <a:lnTo>
                    <a:pt x="820" y="722"/>
                  </a:lnTo>
                  <a:lnTo>
                    <a:pt x="848" y="644"/>
                  </a:lnTo>
                  <a:lnTo>
                    <a:pt x="875" y="567"/>
                  </a:lnTo>
                  <a:lnTo>
                    <a:pt x="897" y="493"/>
                  </a:lnTo>
                  <a:lnTo>
                    <a:pt x="918" y="423"/>
                  </a:lnTo>
                  <a:lnTo>
                    <a:pt x="936" y="357"/>
                  </a:lnTo>
                  <a:lnTo>
                    <a:pt x="951" y="295"/>
                  </a:lnTo>
                  <a:lnTo>
                    <a:pt x="962" y="237"/>
                  </a:lnTo>
                  <a:lnTo>
                    <a:pt x="970" y="185"/>
                  </a:lnTo>
                  <a:lnTo>
                    <a:pt x="976" y="138"/>
                  </a:lnTo>
                  <a:lnTo>
                    <a:pt x="978" y="97"/>
                  </a:lnTo>
                  <a:lnTo>
                    <a:pt x="977" y="63"/>
                  </a:lnTo>
                  <a:lnTo>
                    <a:pt x="973" y="36"/>
                  </a:lnTo>
                  <a:lnTo>
                    <a:pt x="965" y="16"/>
                  </a:lnTo>
                  <a:lnTo>
                    <a:pt x="953" y="4"/>
                  </a:lnTo>
                  <a:lnTo>
                    <a:pt x="939" y="0"/>
                  </a:lnTo>
                  <a:lnTo>
                    <a:pt x="942" y="2"/>
                  </a:lnTo>
                  <a:lnTo>
                    <a:pt x="941" y="16"/>
                  </a:lnTo>
                  <a:lnTo>
                    <a:pt x="935" y="40"/>
                  </a:lnTo>
                  <a:lnTo>
                    <a:pt x="925" y="73"/>
                  </a:lnTo>
                  <a:lnTo>
                    <a:pt x="911" y="115"/>
                  </a:lnTo>
                  <a:lnTo>
                    <a:pt x="894" y="166"/>
                  </a:lnTo>
                  <a:lnTo>
                    <a:pt x="874" y="224"/>
                  </a:lnTo>
                  <a:lnTo>
                    <a:pt x="848" y="289"/>
                  </a:lnTo>
                  <a:lnTo>
                    <a:pt x="793" y="435"/>
                  </a:lnTo>
                  <a:lnTo>
                    <a:pt x="726" y="600"/>
                  </a:lnTo>
                  <a:lnTo>
                    <a:pt x="690" y="688"/>
                  </a:lnTo>
                  <a:lnTo>
                    <a:pt x="652" y="778"/>
                  </a:lnTo>
                  <a:lnTo>
                    <a:pt x="614" y="870"/>
                  </a:lnTo>
                  <a:lnTo>
                    <a:pt x="574" y="963"/>
                  </a:lnTo>
                  <a:lnTo>
                    <a:pt x="533" y="1056"/>
                  </a:lnTo>
                  <a:lnTo>
                    <a:pt x="490" y="1148"/>
                  </a:lnTo>
                  <a:lnTo>
                    <a:pt x="449" y="1239"/>
                  </a:lnTo>
                  <a:lnTo>
                    <a:pt x="407" y="1329"/>
                  </a:lnTo>
                  <a:lnTo>
                    <a:pt x="366" y="1416"/>
                  </a:lnTo>
                  <a:lnTo>
                    <a:pt x="325" y="1498"/>
                  </a:lnTo>
                  <a:lnTo>
                    <a:pt x="284" y="1578"/>
                  </a:lnTo>
                  <a:lnTo>
                    <a:pt x="245" y="1652"/>
                  </a:lnTo>
                  <a:lnTo>
                    <a:pt x="208" y="1721"/>
                  </a:lnTo>
                  <a:lnTo>
                    <a:pt x="171" y="1783"/>
                  </a:lnTo>
                  <a:lnTo>
                    <a:pt x="136" y="1839"/>
                  </a:lnTo>
                  <a:lnTo>
                    <a:pt x="104" y="1886"/>
                  </a:lnTo>
                  <a:lnTo>
                    <a:pt x="73" y="1926"/>
                  </a:lnTo>
                  <a:lnTo>
                    <a:pt x="46" y="1956"/>
                  </a:lnTo>
                  <a:lnTo>
                    <a:pt x="22" y="1975"/>
                  </a:lnTo>
                  <a:lnTo>
                    <a:pt x="0" y="19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5156280" y="3720960"/>
              <a:ext cx="336600" cy="655920"/>
            </a:xfrm>
            <a:custGeom>
              <a:avLst/>
              <a:gdLst/>
              <a:ahLst/>
              <a:rect l="l" t="t" r="r" b="b"/>
              <a:pathLst>
                <a:path w="1060" h="2066">
                  <a:moveTo>
                    <a:pt x="938" y="0"/>
                  </a:moveTo>
                  <a:lnTo>
                    <a:pt x="1019" y="82"/>
                  </a:lnTo>
                  <a:lnTo>
                    <a:pt x="1023" y="82"/>
                  </a:lnTo>
                  <a:lnTo>
                    <a:pt x="1026" y="83"/>
                  </a:lnTo>
                  <a:lnTo>
                    <a:pt x="1029" y="85"/>
                  </a:lnTo>
                  <a:lnTo>
                    <a:pt x="1026" y="82"/>
                  </a:lnTo>
                  <a:lnTo>
                    <a:pt x="990" y="48"/>
                  </a:lnTo>
                  <a:lnTo>
                    <a:pt x="967" y="22"/>
                  </a:lnTo>
                  <a:lnTo>
                    <a:pt x="969" y="28"/>
                  </a:lnTo>
                  <a:lnTo>
                    <a:pt x="973" y="38"/>
                  </a:lnTo>
                  <a:lnTo>
                    <a:pt x="975" y="50"/>
                  </a:lnTo>
                  <a:lnTo>
                    <a:pt x="977" y="64"/>
                  </a:lnTo>
                  <a:lnTo>
                    <a:pt x="978" y="80"/>
                  </a:lnTo>
                  <a:lnTo>
                    <a:pt x="978" y="98"/>
                  </a:lnTo>
                  <a:lnTo>
                    <a:pt x="977" y="118"/>
                  </a:lnTo>
                  <a:lnTo>
                    <a:pt x="976" y="139"/>
                  </a:lnTo>
                  <a:lnTo>
                    <a:pt x="974" y="161"/>
                  </a:lnTo>
                  <a:lnTo>
                    <a:pt x="970" y="186"/>
                  </a:lnTo>
                  <a:lnTo>
                    <a:pt x="967" y="211"/>
                  </a:lnTo>
                  <a:lnTo>
                    <a:pt x="962" y="237"/>
                  </a:lnTo>
                  <a:lnTo>
                    <a:pt x="950" y="296"/>
                  </a:lnTo>
                  <a:lnTo>
                    <a:pt x="936" y="357"/>
                  </a:lnTo>
                  <a:lnTo>
                    <a:pt x="918" y="423"/>
                  </a:lnTo>
                  <a:lnTo>
                    <a:pt x="897" y="494"/>
                  </a:lnTo>
                  <a:lnTo>
                    <a:pt x="875" y="567"/>
                  </a:lnTo>
                  <a:lnTo>
                    <a:pt x="848" y="644"/>
                  </a:lnTo>
                  <a:lnTo>
                    <a:pt x="820" y="722"/>
                  </a:lnTo>
                  <a:lnTo>
                    <a:pt x="788" y="803"/>
                  </a:lnTo>
                  <a:lnTo>
                    <a:pt x="755" y="885"/>
                  </a:lnTo>
                  <a:lnTo>
                    <a:pt x="718" y="969"/>
                  </a:lnTo>
                  <a:lnTo>
                    <a:pt x="680" y="1052"/>
                  </a:lnTo>
                  <a:lnTo>
                    <a:pt x="640" y="1135"/>
                  </a:lnTo>
                  <a:lnTo>
                    <a:pt x="596" y="1220"/>
                  </a:lnTo>
                  <a:lnTo>
                    <a:pt x="551" y="1302"/>
                  </a:lnTo>
                  <a:lnTo>
                    <a:pt x="528" y="1343"/>
                  </a:lnTo>
                  <a:lnTo>
                    <a:pt x="504" y="1384"/>
                  </a:lnTo>
                  <a:lnTo>
                    <a:pt x="480" y="1424"/>
                  </a:lnTo>
                  <a:lnTo>
                    <a:pt x="455" y="1464"/>
                  </a:lnTo>
                  <a:lnTo>
                    <a:pt x="430" y="1503"/>
                  </a:lnTo>
                  <a:lnTo>
                    <a:pt x="404" y="1541"/>
                  </a:lnTo>
                  <a:lnTo>
                    <a:pt x="378" y="1579"/>
                  </a:lnTo>
                  <a:lnTo>
                    <a:pt x="351" y="1616"/>
                  </a:lnTo>
                  <a:lnTo>
                    <a:pt x="324" y="1652"/>
                  </a:lnTo>
                  <a:lnTo>
                    <a:pt x="297" y="1687"/>
                  </a:lnTo>
                  <a:lnTo>
                    <a:pt x="268" y="1723"/>
                  </a:lnTo>
                  <a:lnTo>
                    <a:pt x="241" y="1756"/>
                  </a:lnTo>
                  <a:lnTo>
                    <a:pt x="211" y="1789"/>
                  </a:lnTo>
                  <a:lnTo>
                    <a:pt x="183" y="1821"/>
                  </a:lnTo>
                  <a:lnTo>
                    <a:pt x="153" y="1851"/>
                  </a:lnTo>
                  <a:lnTo>
                    <a:pt x="123" y="1880"/>
                  </a:lnTo>
                  <a:lnTo>
                    <a:pt x="93" y="1909"/>
                  </a:lnTo>
                  <a:lnTo>
                    <a:pt x="62" y="1935"/>
                  </a:lnTo>
                  <a:lnTo>
                    <a:pt x="31" y="1961"/>
                  </a:lnTo>
                  <a:lnTo>
                    <a:pt x="0" y="1985"/>
                  </a:lnTo>
                  <a:lnTo>
                    <a:pt x="81" y="2066"/>
                  </a:lnTo>
                  <a:lnTo>
                    <a:pt x="113" y="2042"/>
                  </a:lnTo>
                  <a:lnTo>
                    <a:pt x="144" y="2017"/>
                  </a:lnTo>
                  <a:lnTo>
                    <a:pt x="175" y="1990"/>
                  </a:lnTo>
                  <a:lnTo>
                    <a:pt x="204" y="1962"/>
                  </a:lnTo>
                  <a:lnTo>
                    <a:pt x="235" y="1933"/>
                  </a:lnTo>
                  <a:lnTo>
                    <a:pt x="265" y="1902"/>
                  </a:lnTo>
                  <a:lnTo>
                    <a:pt x="293" y="1870"/>
                  </a:lnTo>
                  <a:lnTo>
                    <a:pt x="322" y="1838"/>
                  </a:lnTo>
                  <a:lnTo>
                    <a:pt x="350" y="1804"/>
                  </a:lnTo>
                  <a:lnTo>
                    <a:pt x="379" y="1770"/>
                  </a:lnTo>
                  <a:lnTo>
                    <a:pt x="406" y="1734"/>
                  </a:lnTo>
                  <a:lnTo>
                    <a:pt x="432" y="1698"/>
                  </a:lnTo>
                  <a:lnTo>
                    <a:pt x="460" y="1660"/>
                  </a:lnTo>
                  <a:lnTo>
                    <a:pt x="486" y="1622"/>
                  </a:lnTo>
                  <a:lnTo>
                    <a:pt x="511" y="1584"/>
                  </a:lnTo>
                  <a:lnTo>
                    <a:pt x="537" y="1545"/>
                  </a:lnTo>
                  <a:lnTo>
                    <a:pt x="561" y="1505"/>
                  </a:lnTo>
                  <a:lnTo>
                    <a:pt x="586" y="1465"/>
                  </a:lnTo>
                  <a:lnTo>
                    <a:pt x="610" y="1424"/>
                  </a:lnTo>
                  <a:lnTo>
                    <a:pt x="633" y="1384"/>
                  </a:lnTo>
                  <a:lnTo>
                    <a:pt x="679" y="1301"/>
                  </a:lnTo>
                  <a:lnTo>
                    <a:pt x="721" y="1217"/>
                  </a:lnTo>
                  <a:lnTo>
                    <a:pt x="762" y="1133"/>
                  </a:lnTo>
                  <a:lnTo>
                    <a:pt x="801" y="1050"/>
                  </a:lnTo>
                  <a:lnTo>
                    <a:pt x="837" y="966"/>
                  </a:lnTo>
                  <a:lnTo>
                    <a:pt x="870" y="884"/>
                  </a:lnTo>
                  <a:lnTo>
                    <a:pt x="902" y="803"/>
                  </a:lnTo>
                  <a:lnTo>
                    <a:pt x="930" y="725"/>
                  </a:lnTo>
                  <a:lnTo>
                    <a:pt x="957" y="648"/>
                  </a:lnTo>
                  <a:lnTo>
                    <a:pt x="980" y="575"/>
                  </a:lnTo>
                  <a:lnTo>
                    <a:pt x="1000" y="504"/>
                  </a:lnTo>
                  <a:lnTo>
                    <a:pt x="1018" y="438"/>
                  </a:lnTo>
                  <a:lnTo>
                    <a:pt x="1033" y="377"/>
                  </a:lnTo>
                  <a:lnTo>
                    <a:pt x="1044" y="318"/>
                  </a:lnTo>
                  <a:lnTo>
                    <a:pt x="1049" y="292"/>
                  </a:lnTo>
                  <a:lnTo>
                    <a:pt x="1052" y="266"/>
                  </a:lnTo>
                  <a:lnTo>
                    <a:pt x="1056" y="242"/>
                  </a:lnTo>
                  <a:lnTo>
                    <a:pt x="1058" y="219"/>
                  </a:lnTo>
                  <a:lnTo>
                    <a:pt x="1060" y="197"/>
                  </a:lnTo>
                  <a:lnTo>
                    <a:pt x="1060" y="178"/>
                  </a:lnTo>
                  <a:lnTo>
                    <a:pt x="1060" y="160"/>
                  </a:lnTo>
                  <a:lnTo>
                    <a:pt x="1059" y="144"/>
                  </a:lnTo>
                  <a:lnTo>
                    <a:pt x="1058" y="129"/>
                  </a:lnTo>
                  <a:lnTo>
                    <a:pt x="1055" y="115"/>
                  </a:lnTo>
                  <a:lnTo>
                    <a:pt x="1051" y="104"/>
                  </a:lnTo>
                  <a:lnTo>
                    <a:pt x="1044" y="91"/>
                  </a:lnTo>
                  <a:lnTo>
                    <a:pt x="1011" y="51"/>
                  </a:lnTo>
                  <a:lnTo>
                    <a:pt x="962" y="8"/>
                  </a:lnTo>
                  <a:lnTo>
                    <a:pt x="953" y="2"/>
                  </a:lnTo>
                  <a:lnTo>
                    <a:pt x="948" y="1"/>
                  </a:lnTo>
                  <a:lnTo>
                    <a:pt x="944" y="0"/>
                  </a:lnTo>
                  <a:lnTo>
                    <a:pt x="940" y="0"/>
                  </a:lnTo>
                  <a:lnTo>
                    <a:pt x="1021" y="82"/>
                  </a:lnTo>
                  <a:lnTo>
                    <a:pt x="938" y="0"/>
                  </a:lnTo>
                  <a:lnTo>
                    <a:pt x="915" y="70"/>
                  </a:lnTo>
                  <a:lnTo>
                    <a:pt x="1019" y="82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5154480" y="3720960"/>
              <a:ext cx="327240" cy="658800"/>
            </a:xfrm>
            <a:custGeom>
              <a:avLst/>
              <a:gdLst/>
              <a:ahLst/>
              <a:rect l="l" t="t" r="r" b="b"/>
              <a:pathLst>
                <a:path w="1029" h="2073">
                  <a:moveTo>
                    <a:pt x="5" y="1985"/>
                  </a:moveTo>
                  <a:lnTo>
                    <a:pt x="86" y="2067"/>
                  </a:lnTo>
                  <a:lnTo>
                    <a:pt x="92" y="2066"/>
                  </a:lnTo>
                  <a:lnTo>
                    <a:pt x="96" y="2064"/>
                  </a:lnTo>
                  <a:lnTo>
                    <a:pt x="102" y="2061"/>
                  </a:lnTo>
                  <a:lnTo>
                    <a:pt x="108" y="2057"/>
                  </a:lnTo>
                  <a:lnTo>
                    <a:pt x="120" y="2049"/>
                  </a:lnTo>
                  <a:lnTo>
                    <a:pt x="133" y="2038"/>
                  </a:lnTo>
                  <a:lnTo>
                    <a:pt x="147" y="2024"/>
                  </a:lnTo>
                  <a:lnTo>
                    <a:pt x="160" y="2007"/>
                  </a:lnTo>
                  <a:lnTo>
                    <a:pt x="175" y="1989"/>
                  </a:lnTo>
                  <a:lnTo>
                    <a:pt x="191" y="1968"/>
                  </a:lnTo>
                  <a:lnTo>
                    <a:pt x="207" y="1945"/>
                  </a:lnTo>
                  <a:lnTo>
                    <a:pt x="223" y="1920"/>
                  </a:lnTo>
                  <a:lnTo>
                    <a:pt x="240" y="1894"/>
                  </a:lnTo>
                  <a:lnTo>
                    <a:pt x="258" y="1865"/>
                  </a:lnTo>
                  <a:lnTo>
                    <a:pt x="294" y="1803"/>
                  </a:lnTo>
                  <a:lnTo>
                    <a:pt x="332" y="1734"/>
                  </a:lnTo>
                  <a:lnTo>
                    <a:pt x="371" y="1659"/>
                  </a:lnTo>
                  <a:lnTo>
                    <a:pt x="412" y="1580"/>
                  </a:lnTo>
                  <a:lnTo>
                    <a:pt x="452" y="1497"/>
                  </a:lnTo>
                  <a:lnTo>
                    <a:pt x="494" y="1410"/>
                  </a:lnTo>
                  <a:lnTo>
                    <a:pt x="536" y="1321"/>
                  </a:lnTo>
                  <a:lnTo>
                    <a:pt x="578" y="1230"/>
                  </a:lnTo>
                  <a:lnTo>
                    <a:pt x="620" y="1138"/>
                  </a:lnTo>
                  <a:lnTo>
                    <a:pt x="660" y="1044"/>
                  </a:lnTo>
                  <a:lnTo>
                    <a:pt x="701" y="952"/>
                  </a:lnTo>
                  <a:lnTo>
                    <a:pt x="739" y="860"/>
                  </a:lnTo>
                  <a:lnTo>
                    <a:pt x="777" y="770"/>
                  </a:lnTo>
                  <a:lnTo>
                    <a:pt x="814" y="682"/>
                  </a:lnTo>
                  <a:lnTo>
                    <a:pt x="880" y="517"/>
                  </a:lnTo>
                  <a:lnTo>
                    <a:pt x="935" y="370"/>
                  </a:lnTo>
                  <a:lnTo>
                    <a:pt x="961" y="305"/>
                  </a:lnTo>
                  <a:lnTo>
                    <a:pt x="981" y="248"/>
                  </a:lnTo>
                  <a:lnTo>
                    <a:pt x="998" y="196"/>
                  </a:lnTo>
                  <a:lnTo>
                    <a:pt x="1013" y="154"/>
                  </a:lnTo>
                  <a:lnTo>
                    <a:pt x="1022" y="121"/>
                  </a:lnTo>
                  <a:lnTo>
                    <a:pt x="1028" y="97"/>
                  </a:lnTo>
                  <a:lnTo>
                    <a:pt x="1029" y="89"/>
                  </a:lnTo>
                  <a:lnTo>
                    <a:pt x="1029" y="83"/>
                  </a:lnTo>
                  <a:lnTo>
                    <a:pt x="1028" y="79"/>
                  </a:lnTo>
                  <a:lnTo>
                    <a:pt x="954" y="4"/>
                  </a:lnTo>
                  <a:lnTo>
                    <a:pt x="946" y="0"/>
                  </a:lnTo>
                  <a:lnTo>
                    <a:pt x="943" y="0"/>
                  </a:lnTo>
                  <a:lnTo>
                    <a:pt x="1026" y="82"/>
                  </a:lnTo>
                  <a:lnTo>
                    <a:pt x="1026" y="82"/>
                  </a:lnTo>
                  <a:lnTo>
                    <a:pt x="1019" y="79"/>
                  </a:lnTo>
                  <a:lnTo>
                    <a:pt x="947" y="5"/>
                  </a:lnTo>
                  <a:lnTo>
                    <a:pt x="947" y="4"/>
                  </a:lnTo>
                  <a:lnTo>
                    <a:pt x="947" y="9"/>
                  </a:lnTo>
                  <a:lnTo>
                    <a:pt x="946" y="16"/>
                  </a:lnTo>
                  <a:lnTo>
                    <a:pt x="940" y="40"/>
                  </a:lnTo>
                  <a:lnTo>
                    <a:pt x="930" y="73"/>
                  </a:lnTo>
                  <a:lnTo>
                    <a:pt x="916" y="115"/>
                  </a:lnTo>
                  <a:lnTo>
                    <a:pt x="899" y="167"/>
                  </a:lnTo>
                  <a:lnTo>
                    <a:pt x="878" y="224"/>
                  </a:lnTo>
                  <a:lnTo>
                    <a:pt x="853" y="289"/>
                  </a:lnTo>
                  <a:lnTo>
                    <a:pt x="798" y="436"/>
                  </a:lnTo>
                  <a:lnTo>
                    <a:pt x="731" y="601"/>
                  </a:lnTo>
                  <a:lnTo>
                    <a:pt x="695" y="689"/>
                  </a:lnTo>
                  <a:lnTo>
                    <a:pt x="657" y="778"/>
                  </a:lnTo>
                  <a:lnTo>
                    <a:pt x="619" y="871"/>
                  </a:lnTo>
                  <a:lnTo>
                    <a:pt x="579" y="963"/>
                  </a:lnTo>
                  <a:lnTo>
                    <a:pt x="538" y="1057"/>
                  </a:lnTo>
                  <a:lnTo>
                    <a:pt x="495" y="1149"/>
                  </a:lnTo>
                  <a:lnTo>
                    <a:pt x="454" y="1240"/>
                  </a:lnTo>
                  <a:lnTo>
                    <a:pt x="412" y="1329"/>
                  </a:lnTo>
                  <a:lnTo>
                    <a:pt x="371" y="1416"/>
                  </a:lnTo>
                  <a:lnTo>
                    <a:pt x="330" y="1499"/>
                  </a:lnTo>
                  <a:lnTo>
                    <a:pt x="289" y="1578"/>
                  </a:lnTo>
                  <a:lnTo>
                    <a:pt x="250" y="1652"/>
                  </a:lnTo>
                  <a:lnTo>
                    <a:pt x="213" y="1722"/>
                  </a:lnTo>
                  <a:lnTo>
                    <a:pt x="176" y="1783"/>
                  </a:lnTo>
                  <a:lnTo>
                    <a:pt x="158" y="1812"/>
                  </a:lnTo>
                  <a:lnTo>
                    <a:pt x="141" y="1839"/>
                  </a:lnTo>
                  <a:lnTo>
                    <a:pt x="125" y="1864"/>
                  </a:lnTo>
                  <a:lnTo>
                    <a:pt x="109" y="1886"/>
                  </a:lnTo>
                  <a:lnTo>
                    <a:pt x="93" y="1908"/>
                  </a:lnTo>
                  <a:lnTo>
                    <a:pt x="79" y="1926"/>
                  </a:lnTo>
                  <a:lnTo>
                    <a:pt x="65" y="1942"/>
                  </a:lnTo>
                  <a:lnTo>
                    <a:pt x="51" y="1956"/>
                  </a:lnTo>
                  <a:lnTo>
                    <a:pt x="38" y="1967"/>
                  </a:lnTo>
                  <a:lnTo>
                    <a:pt x="27" y="1976"/>
                  </a:lnTo>
                  <a:lnTo>
                    <a:pt x="21" y="1980"/>
                  </a:lnTo>
                  <a:lnTo>
                    <a:pt x="16" y="1982"/>
                  </a:lnTo>
                  <a:lnTo>
                    <a:pt x="11" y="1984"/>
                  </a:lnTo>
                  <a:lnTo>
                    <a:pt x="5" y="1985"/>
                  </a:lnTo>
                  <a:lnTo>
                    <a:pt x="86" y="2066"/>
                  </a:lnTo>
                  <a:lnTo>
                    <a:pt x="5" y="1985"/>
                  </a:lnTo>
                  <a:lnTo>
                    <a:pt x="0" y="2073"/>
                  </a:lnTo>
                  <a:lnTo>
                    <a:pt x="86" y="2067"/>
                  </a:lnTo>
                  <a:lnTo>
                    <a:pt x="5" y="19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5262480" y="3754440"/>
              <a:ext cx="311400" cy="630360"/>
            </a:xfrm>
            <a:custGeom>
              <a:avLst/>
              <a:gdLst/>
              <a:ahLst/>
              <a:rect l="l" t="t" r="r" b="b"/>
              <a:pathLst>
                <a:path w="978" h="1985">
                  <a:moveTo>
                    <a:pt x="0" y="1985"/>
                  </a:moveTo>
                  <a:lnTo>
                    <a:pt x="62" y="1935"/>
                  </a:lnTo>
                  <a:lnTo>
                    <a:pt x="123" y="1880"/>
                  </a:lnTo>
                  <a:lnTo>
                    <a:pt x="183" y="1821"/>
                  </a:lnTo>
                  <a:lnTo>
                    <a:pt x="240" y="1756"/>
                  </a:lnTo>
                  <a:lnTo>
                    <a:pt x="297" y="1688"/>
                  </a:lnTo>
                  <a:lnTo>
                    <a:pt x="351" y="1616"/>
                  </a:lnTo>
                  <a:lnTo>
                    <a:pt x="404" y="1540"/>
                  </a:lnTo>
                  <a:lnTo>
                    <a:pt x="455" y="1463"/>
                  </a:lnTo>
                  <a:lnTo>
                    <a:pt x="504" y="1383"/>
                  </a:lnTo>
                  <a:lnTo>
                    <a:pt x="551" y="1302"/>
                  </a:lnTo>
                  <a:lnTo>
                    <a:pt x="596" y="1219"/>
                  </a:lnTo>
                  <a:lnTo>
                    <a:pt x="640" y="1135"/>
                  </a:lnTo>
                  <a:lnTo>
                    <a:pt x="680" y="1052"/>
                  </a:lnTo>
                  <a:lnTo>
                    <a:pt x="718" y="968"/>
                  </a:lnTo>
                  <a:lnTo>
                    <a:pt x="755" y="884"/>
                  </a:lnTo>
                  <a:lnTo>
                    <a:pt x="788" y="802"/>
                  </a:lnTo>
                  <a:lnTo>
                    <a:pt x="820" y="722"/>
                  </a:lnTo>
                  <a:lnTo>
                    <a:pt x="848" y="644"/>
                  </a:lnTo>
                  <a:lnTo>
                    <a:pt x="875" y="567"/>
                  </a:lnTo>
                  <a:lnTo>
                    <a:pt x="897" y="493"/>
                  </a:lnTo>
                  <a:lnTo>
                    <a:pt x="918" y="423"/>
                  </a:lnTo>
                  <a:lnTo>
                    <a:pt x="936" y="357"/>
                  </a:lnTo>
                  <a:lnTo>
                    <a:pt x="951" y="295"/>
                  </a:lnTo>
                  <a:lnTo>
                    <a:pt x="962" y="238"/>
                  </a:lnTo>
                  <a:lnTo>
                    <a:pt x="970" y="185"/>
                  </a:lnTo>
                  <a:lnTo>
                    <a:pt x="976" y="138"/>
                  </a:lnTo>
                  <a:lnTo>
                    <a:pt x="978" y="97"/>
                  </a:lnTo>
                  <a:lnTo>
                    <a:pt x="977" y="63"/>
                  </a:lnTo>
                  <a:lnTo>
                    <a:pt x="973" y="36"/>
                  </a:lnTo>
                  <a:lnTo>
                    <a:pt x="965" y="16"/>
                  </a:lnTo>
                  <a:lnTo>
                    <a:pt x="953" y="4"/>
                  </a:lnTo>
                  <a:lnTo>
                    <a:pt x="938" y="0"/>
                  </a:lnTo>
                  <a:lnTo>
                    <a:pt x="942" y="3"/>
                  </a:lnTo>
                  <a:lnTo>
                    <a:pt x="941" y="16"/>
                  </a:lnTo>
                  <a:lnTo>
                    <a:pt x="935" y="40"/>
                  </a:lnTo>
                  <a:lnTo>
                    <a:pt x="926" y="73"/>
                  </a:lnTo>
                  <a:lnTo>
                    <a:pt x="911" y="115"/>
                  </a:lnTo>
                  <a:lnTo>
                    <a:pt x="894" y="166"/>
                  </a:lnTo>
                  <a:lnTo>
                    <a:pt x="873" y="224"/>
                  </a:lnTo>
                  <a:lnTo>
                    <a:pt x="849" y="288"/>
                  </a:lnTo>
                  <a:lnTo>
                    <a:pt x="792" y="435"/>
                  </a:lnTo>
                  <a:lnTo>
                    <a:pt x="726" y="600"/>
                  </a:lnTo>
                  <a:lnTo>
                    <a:pt x="690" y="688"/>
                  </a:lnTo>
                  <a:lnTo>
                    <a:pt x="652" y="777"/>
                  </a:lnTo>
                  <a:lnTo>
                    <a:pt x="613" y="870"/>
                  </a:lnTo>
                  <a:lnTo>
                    <a:pt x="574" y="962"/>
                  </a:lnTo>
                  <a:lnTo>
                    <a:pt x="533" y="1056"/>
                  </a:lnTo>
                  <a:lnTo>
                    <a:pt x="490" y="1148"/>
                  </a:lnTo>
                  <a:lnTo>
                    <a:pt x="449" y="1239"/>
                  </a:lnTo>
                  <a:lnTo>
                    <a:pt x="407" y="1328"/>
                  </a:lnTo>
                  <a:lnTo>
                    <a:pt x="366" y="1415"/>
                  </a:lnTo>
                  <a:lnTo>
                    <a:pt x="325" y="1498"/>
                  </a:lnTo>
                  <a:lnTo>
                    <a:pt x="284" y="1577"/>
                  </a:lnTo>
                  <a:lnTo>
                    <a:pt x="245" y="1651"/>
                  </a:lnTo>
                  <a:lnTo>
                    <a:pt x="208" y="1720"/>
                  </a:lnTo>
                  <a:lnTo>
                    <a:pt x="171" y="1782"/>
                  </a:lnTo>
                  <a:lnTo>
                    <a:pt x="136" y="1838"/>
                  </a:lnTo>
                  <a:lnTo>
                    <a:pt x="104" y="1886"/>
                  </a:lnTo>
                  <a:lnTo>
                    <a:pt x="73" y="1925"/>
                  </a:lnTo>
                  <a:lnTo>
                    <a:pt x="46" y="1956"/>
                  </a:lnTo>
                  <a:lnTo>
                    <a:pt x="22" y="1975"/>
                  </a:lnTo>
                  <a:lnTo>
                    <a:pt x="0" y="19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5249880" y="3741840"/>
              <a:ext cx="336600" cy="655560"/>
            </a:xfrm>
            <a:custGeom>
              <a:avLst/>
              <a:gdLst/>
              <a:ahLst/>
              <a:rect l="l" t="t" r="r" b="b"/>
              <a:pathLst>
                <a:path w="1060" h="2067">
                  <a:moveTo>
                    <a:pt x="938" y="0"/>
                  </a:moveTo>
                  <a:lnTo>
                    <a:pt x="1019" y="82"/>
                  </a:lnTo>
                  <a:lnTo>
                    <a:pt x="1023" y="83"/>
                  </a:lnTo>
                  <a:lnTo>
                    <a:pt x="1026" y="83"/>
                  </a:lnTo>
                  <a:lnTo>
                    <a:pt x="1028" y="85"/>
                  </a:lnTo>
                  <a:lnTo>
                    <a:pt x="1026" y="82"/>
                  </a:lnTo>
                  <a:lnTo>
                    <a:pt x="990" y="48"/>
                  </a:lnTo>
                  <a:lnTo>
                    <a:pt x="967" y="23"/>
                  </a:lnTo>
                  <a:lnTo>
                    <a:pt x="969" y="29"/>
                  </a:lnTo>
                  <a:lnTo>
                    <a:pt x="973" y="38"/>
                  </a:lnTo>
                  <a:lnTo>
                    <a:pt x="975" y="50"/>
                  </a:lnTo>
                  <a:lnTo>
                    <a:pt x="977" y="64"/>
                  </a:lnTo>
                  <a:lnTo>
                    <a:pt x="978" y="81"/>
                  </a:lnTo>
                  <a:lnTo>
                    <a:pt x="978" y="98"/>
                  </a:lnTo>
                  <a:lnTo>
                    <a:pt x="977" y="118"/>
                  </a:lnTo>
                  <a:lnTo>
                    <a:pt x="976" y="139"/>
                  </a:lnTo>
                  <a:lnTo>
                    <a:pt x="974" y="162"/>
                  </a:lnTo>
                  <a:lnTo>
                    <a:pt x="970" y="186"/>
                  </a:lnTo>
                  <a:lnTo>
                    <a:pt x="967" y="211"/>
                  </a:lnTo>
                  <a:lnTo>
                    <a:pt x="962" y="237"/>
                  </a:lnTo>
                  <a:lnTo>
                    <a:pt x="951" y="296"/>
                  </a:lnTo>
                  <a:lnTo>
                    <a:pt x="936" y="357"/>
                  </a:lnTo>
                  <a:lnTo>
                    <a:pt x="918" y="423"/>
                  </a:lnTo>
                  <a:lnTo>
                    <a:pt x="897" y="494"/>
                  </a:lnTo>
                  <a:lnTo>
                    <a:pt x="874" y="567"/>
                  </a:lnTo>
                  <a:lnTo>
                    <a:pt x="848" y="644"/>
                  </a:lnTo>
                  <a:lnTo>
                    <a:pt x="820" y="722"/>
                  </a:lnTo>
                  <a:lnTo>
                    <a:pt x="788" y="803"/>
                  </a:lnTo>
                  <a:lnTo>
                    <a:pt x="755" y="885"/>
                  </a:lnTo>
                  <a:lnTo>
                    <a:pt x="718" y="969"/>
                  </a:lnTo>
                  <a:lnTo>
                    <a:pt x="680" y="1052"/>
                  </a:lnTo>
                  <a:lnTo>
                    <a:pt x="640" y="1136"/>
                  </a:lnTo>
                  <a:lnTo>
                    <a:pt x="596" y="1220"/>
                  </a:lnTo>
                  <a:lnTo>
                    <a:pt x="551" y="1302"/>
                  </a:lnTo>
                  <a:lnTo>
                    <a:pt x="528" y="1343"/>
                  </a:lnTo>
                  <a:lnTo>
                    <a:pt x="504" y="1384"/>
                  </a:lnTo>
                  <a:lnTo>
                    <a:pt x="480" y="1424"/>
                  </a:lnTo>
                  <a:lnTo>
                    <a:pt x="455" y="1464"/>
                  </a:lnTo>
                  <a:lnTo>
                    <a:pt x="430" y="1503"/>
                  </a:lnTo>
                  <a:lnTo>
                    <a:pt x="404" y="1541"/>
                  </a:lnTo>
                  <a:lnTo>
                    <a:pt x="377" y="1579"/>
                  </a:lnTo>
                  <a:lnTo>
                    <a:pt x="351" y="1616"/>
                  </a:lnTo>
                  <a:lnTo>
                    <a:pt x="324" y="1652"/>
                  </a:lnTo>
                  <a:lnTo>
                    <a:pt x="296" y="1688"/>
                  </a:lnTo>
                  <a:lnTo>
                    <a:pt x="269" y="1723"/>
                  </a:lnTo>
                  <a:lnTo>
                    <a:pt x="241" y="1756"/>
                  </a:lnTo>
                  <a:lnTo>
                    <a:pt x="211" y="1789"/>
                  </a:lnTo>
                  <a:lnTo>
                    <a:pt x="182" y="1821"/>
                  </a:lnTo>
                  <a:lnTo>
                    <a:pt x="153" y="1851"/>
                  </a:lnTo>
                  <a:lnTo>
                    <a:pt x="123" y="1880"/>
                  </a:lnTo>
                  <a:lnTo>
                    <a:pt x="92" y="1909"/>
                  </a:lnTo>
                  <a:lnTo>
                    <a:pt x="62" y="1936"/>
                  </a:lnTo>
                  <a:lnTo>
                    <a:pt x="31" y="1961"/>
                  </a:lnTo>
                  <a:lnTo>
                    <a:pt x="0" y="1985"/>
                  </a:lnTo>
                  <a:lnTo>
                    <a:pt x="81" y="2067"/>
                  </a:lnTo>
                  <a:lnTo>
                    <a:pt x="113" y="2043"/>
                  </a:lnTo>
                  <a:lnTo>
                    <a:pt x="144" y="2017"/>
                  </a:lnTo>
                  <a:lnTo>
                    <a:pt x="175" y="1991"/>
                  </a:lnTo>
                  <a:lnTo>
                    <a:pt x="204" y="1962"/>
                  </a:lnTo>
                  <a:lnTo>
                    <a:pt x="235" y="1933"/>
                  </a:lnTo>
                  <a:lnTo>
                    <a:pt x="265" y="1902"/>
                  </a:lnTo>
                  <a:lnTo>
                    <a:pt x="293" y="1871"/>
                  </a:lnTo>
                  <a:lnTo>
                    <a:pt x="322" y="1838"/>
                  </a:lnTo>
                  <a:lnTo>
                    <a:pt x="350" y="1804"/>
                  </a:lnTo>
                  <a:lnTo>
                    <a:pt x="379" y="1770"/>
                  </a:lnTo>
                  <a:lnTo>
                    <a:pt x="406" y="1734"/>
                  </a:lnTo>
                  <a:lnTo>
                    <a:pt x="432" y="1698"/>
                  </a:lnTo>
                  <a:lnTo>
                    <a:pt x="460" y="1660"/>
                  </a:lnTo>
                  <a:lnTo>
                    <a:pt x="486" y="1622"/>
                  </a:lnTo>
                  <a:lnTo>
                    <a:pt x="511" y="1584"/>
                  </a:lnTo>
                  <a:lnTo>
                    <a:pt x="537" y="1545"/>
                  </a:lnTo>
                  <a:lnTo>
                    <a:pt x="561" y="1505"/>
                  </a:lnTo>
                  <a:lnTo>
                    <a:pt x="586" y="1465"/>
                  </a:lnTo>
                  <a:lnTo>
                    <a:pt x="610" y="1425"/>
                  </a:lnTo>
                  <a:lnTo>
                    <a:pt x="633" y="1384"/>
                  </a:lnTo>
                  <a:lnTo>
                    <a:pt x="678" y="1301"/>
                  </a:lnTo>
                  <a:lnTo>
                    <a:pt x="721" y="1217"/>
                  </a:lnTo>
                  <a:lnTo>
                    <a:pt x="762" y="1133"/>
                  </a:lnTo>
                  <a:lnTo>
                    <a:pt x="800" y="1050"/>
                  </a:lnTo>
                  <a:lnTo>
                    <a:pt x="837" y="966"/>
                  </a:lnTo>
                  <a:lnTo>
                    <a:pt x="870" y="884"/>
                  </a:lnTo>
                  <a:lnTo>
                    <a:pt x="902" y="803"/>
                  </a:lnTo>
                  <a:lnTo>
                    <a:pt x="930" y="725"/>
                  </a:lnTo>
                  <a:lnTo>
                    <a:pt x="957" y="648"/>
                  </a:lnTo>
                  <a:lnTo>
                    <a:pt x="979" y="575"/>
                  </a:lnTo>
                  <a:lnTo>
                    <a:pt x="1000" y="504"/>
                  </a:lnTo>
                  <a:lnTo>
                    <a:pt x="1018" y="438"/>
                  </a:lnTo>
                  <a:lnTo>
                    <a:pt x="1033" y="377"/>
                  </a:lnTo>
                  <a:lnTo>
                    <a:pt x="1044" y="318"/>
                  </a:lnTo>
                  <a:lnTo>
                    <a:pt x="1049" y="292"/>
                  </a:lnTo>
                  <a:lnTo>
                    <a:pt x="1052" y="266"/>
                  </a:lnTo>
                  <a:lnTo>
                    <a:pt x="1056" y="242"/>
                  </a:lnTo>
                  <a:lnTo>
                    <a:pt x="1058" y="219"/>
                  </a:lnTo>
                  <a:lnTo>
                    <a:pt x="1060" y="199"/>
                  </a:lnTo>
                  <a:lnTo>
                    <a:pt x="1060" y="178"/>
                  </a:lnTo>
                  <a:lnTo>
                    <a:pt x="1060" y="160"/>
                  </a:lnTo>
                  <a:lnTo>
                    <a:pt x="1059" y="144"/>
                  </a:lnTo>
                  <a:lnTo>
                    <a:pt x="1058" y="129"/>
                  </a:lnTo>
                  <a:lnTo>
                    <a:pt x="1055" y="117"/>
                  </a:lnTo>
                  <a:lnTo>
                    <a:pt x="1051" y="104"/>
                  </a:lnTo>
                  <a:lnTo>
                    <a:pt x="1044" y="91"/>
                  </a:lnTo>
                  <a:lnTo>
                    <a:pt x="1012" y="51"/>
                  </a:lnTo>
                  <a:lnTo>
                    <a:pt x="962" y="8"/>
                  </a:lnTo>
                  <a:lnTo>
                    <a:pt x="953" y="2"/>
                  </a:lnTo>
                  <a:lnTo>
                    <a:pt x="949" y="1"/>
                  </a:lnTo>
                  <a:lnTo>
                    <a:pt x="944" y="0"/>
                  </a:lnTo>
                  <a:lnTo>
                    <a:pt x="939" y="0"/>
                  </a:lnTo>
                  <a:lnTo>
                    <a:pt x="1020" y="82"/>
                  </a:lnTo>
                  <a:lnTo>
                    <a:pt x="938" y="0"/>
                  </a:lnTo>
                  <a:lnTo>
                    <a:pt x="914" y="70"/>
                  </a:lnTo>
                  <a:lnTo>
                    <a:pt x="1019" y="82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5248440" y="3741840"/>
              <a:ext cx="326880" cy="658800"/>
            </a:xfrm>
            <a:custGeom>
              <a:avLst/>
              <a:gdLst/>
              <a:ahLst/>
              <a:rect l="l" t="t" r="r" b="b"/>
              <a:pathLst>
                <a:path w="1030" h="2073">
                  <a:moveTo>
                    <a:pt x="6" y="1985"/>
                  </a:moveTo>
                  <a:lnTo>
                    <a:pt x="87" y="2067"/>
                  </a:lnTo>
                  <a:lnTo>
                    <a:pt x="97" y="2064"/>
                  </a:lnTo>
                  <a:lnTo>
                    <a:pt x="109" y="2057"/>
                  </a:lnTo>
                  <a:lnTo>
                    <a:pt x="121" y="2048"/>
                  </a:lnTo>
                  <a:lnTo>
                    <a:pt x="134" y="2038"/>
                  </a:lnTo>
                  <a:lnTo>
                    <a:pt x="147" y="2023"/>
                  </a:lnTo>
                  <a:lnTo>
                    <a:pt x="161" y="2007"/>
                  </a:lnTo>
                  <a:lnTo>
                    <a:pt x="176" y="1989"/>
                  </a:lnTo>
                  <a:lnTo>
                    <a:pt x="192" y="1967"/>
                  </a:lnTo>
                  <a:lnTo>
                    <a:pt x="208" y="1944"/>
                  </a:lnTo>
                  <a:lnTo>
                    <a:pt x="224" y="1920"/>
                  </a:lnTo>
                  <a:lnTo>
                    <a:pt x="241" y="1893"/>
                  </a:lnTo>
                  <a:lnTo>
                    <a:pt x="259" y="1864"/>
                  </a:lnTo>
                  <a:lnTo>
                    <a:pt x="296" y="1802"/>
                  </a:lnTo>
                  <a:lnTo>
                    <a:pt x="333" y="1733"/>
                  </a:lnTo>
                  <a:lnTo>
                    <a:pt x="372" y="1659"/>
                  </a:lnTo>
                  <a:lnTo>
                    <a:pt x="413" y="1579"/>
                  </a:lnTo>
                  <a:lnTo>
                    <a:pt x="454" y="1496"/>
                  </a:lnTo>
                  <a:lnTo>
                    <a:pt x="495" y="1409"/>
                  </a:lnTo>
                  <a:lnTo>
                    <a:pt x="537" y="1320"/>
                  </a:lnTo>
                  <a:lnTo>
                    <a:pt x="578" y="1229"/>
                  </a:lnTo>
                  <a:lnTo>
                    <a:pt x="621" y="1136"/>
                  </a:lnTo>
                  <a:lnTo>
                    <a:pt x="662" y="1044"/>
                  </a:lnTo>
                  <a:lnTo>
                    <a:pt x="701" y="951"/>
                  </a:lnTo>
                  <a:lnTo>
                    <a:pt x="740" y="859"/>
                  </a:lnTo>
                  <a:lnTo>
                    <a:pt x="778" y="769"/>
                  </a:lnTo>
                  <a:lnTo>
                    <a:pt x="814" y="681"/>
                  </a:lnTo>
                  <a:lnTo>
                    <a:pt x="880" y="517"/>
                  </a:lnTo>
                  <a:lnTo>
                    <a:pt x="937" y="370"/>
                  </a:lnTo>
                  <a:lnTo>
                    <a:pt x="961" y="305"/>
                  </a:lnTo>
                  <a:lnTo>
                    <a:pt x="982" y="248"/>
                  </a:lnTo>
                  <a:lnTo>
                    <a:pt x="999" y="196"/>
                  </a:lnTo>
                  <a:lnTo>
                    <a:pt x="1014" y="154"/>
                  </a:lnTo>
                  <a:lnTo>
                    <a:pt x="1023" y="121"/>
                  </a:lnTo>
                  <a:lnTo>
                    <a:pt x="1029" y="97"/>
                  </a:lnTo>
                  <a:lnTo>
                    <a:pt x="1030" y="89"/>
                  </a:lnTo>
                  <a:lnTo>
                    <a:pt x="1030" y="83"/>
                  </a:lnTo>
                  <a:lnTo>
                    <a:pt x="1029" y="80"/>
                  </a:lnTo>
                  <a:lnTo>
                    <a:pt x="955" y="4"/>
                  </a:lnTo>
                  <a:lnTo>
                    <a:pt x="947" y="0"/>
                  </a:lnTo>
                  <a:lnTo>
                    <a:pt x="944" y="0"/>
                  </a:lnTo>
                  <a:lnTo>
                    <a:pt x="1026" y="82"/>
                  </a:lnTo>
                  <a:lnTo>
                    <a:pt x="1026" y="82"/>
                  </a:lnTo>
                  <a:lnTo>
                    <a:pt x="1021" y="79"/>
                  </a:lnTo>
                  <a:lnTo>
                    <a:pt x="948" y="5"/>
                  </a:lnTo>
                  <a:lnTo>
                    <a:pt x="948" y="4"/>
                  </a:lnTo>
                  <a:lnTo>
                    <a:pt x="948" y="9"/>
                  </a:lnTo>
                  <a:lnTo>
                    <a:pt x="947" y="16"/>
                  </a:lnTo>
                  <a:lnTo>
                    <a:pt x="941" y="40"/>
                  </a:lnTo>
                  <a:lnTo>
                    <a:pt x="931" y="73"/>
                  </a:lnTo>
                  <a:lnTo>
                    <a:pt x="917" y="115"/>
                  </a:lnTo>
                  <a:lnTo>
                    <a:pt x="900" y="166"/>
                  </a:lnTo>
                  <a:lnTo>
                    <a:pt x="879" y="224"/>
                  </a:lnTo>
                  <a:lnTo>
                    <a:pt x="855" y="289"/>
                  </a:lnTo>
                  <a:lnTo>
                    <a:pt x="798" y="435"/>
                  </a:lnTo>
                  <a:lnTo>
                    <a:pt x="732" y="600"/>
                  </a:lnTo>
                  <a:lnTo>
                    <a:pt x="696" y="688"/>
                  </a:lnTo>
                  <a:lnTo>
                    <a:pt x="658" y="778"/>
                  </a:lnTo>
                  <a:lnTo>
                    <a:pt x="619" y="870"/>
                  </a:lnTo>
                  <a:lnTo>
                    <a:pt x="580" y="962"/>
                  </a:lnTo>
                  <a:lnTo>
                    <a:pt x="538" y="1055"/>
                  </a:lnTo>
                  <a:lnTo>
                    <a:pt x="496" y="1148"/>
                  </a:lnTo>
                  <a:lnTo>
                    <a:pt x="455" y="1239"/>
                  </a:lnTo>
                  <a:lnTo>
                    <a:pt x="413" y="1328"/>
                  </a:lnTo>
                  <a:lnTo>
                    <a:pt x="372" y="1415"/>
                  </a:lnTo>
                  <a:lnTo>
                    <a:pt x="331" y="1498"/>
                  </a:lnTo>
                  <a:lnTo>
                    <a:pt x="290" y="1577"/>
                  </a:lnTo>
                  <a:lnTo>
                    <a:pt x="251" y="1652"/>
                  </a:lnTo>
                  <a:lnTo>
                    <a:pt x="214" y="1721"/>
                  </a:lnTo>
                  <a:lnTo>
                    <a:pt x="177" y="1783"/>
                  </a:lnTo>
                  <a:lnTo>
                    <a:pt x="159" y="1812"/>
                  </a:lnTo>
                  <a:lnTo>
                    <a:pt x="142" y="1838"/>
                  </a:lnTo>
                  <a:lnTo>
                    <a:pt x="126" y="1863"/>
                  </a:lnTo>
                  <a:lnTo>
                    <a:pt x="110" y="1886"/>
                  </a:lnTo>
                  <a:lnTo>
                    <a:pt x="95" y="1907"/>
                  </a:lnTo>
                  <a:lnTo>
                    <a:pt x="80" y="1925"/>
                  </a:lnTo>
                  <a:lnTo>
                    <a:pt x="65" y="1942"/>
                  </a:lnTo>
                  <a:lnTo>
                    <a:pt x="52" y="1956"/>
                  </a:lnTo>
                  <a:lnTo>
                    <a:pt x="39" y="1967"/>
                  </a:lnTo>
                  <a:lnTo>
                    <a:pt x="28" y="1976"/>
                  </a:lnTo>
                  <a:lnTo>
                    <a:pt x="16" y="1982"/>
                  </a:lnTo>
                  <a:lnTo>
                    <a:pt x="6" y="1985"/>
                  </a:lnTo>
                  <a:lnTo>
                    <a:pt x="87" y="2067"/>
                  </a:lnTo>
                  <a:lnTo>
                    <a:pt x="6" y="1985"/>
                  </a:lnTo>
                  <a:lnTo>
                    <a:pt x="0" y="2073"/>
                  </a:lnTo>
                  <a:lnTo>
                    <a:pt x="87" y="2067"/>
                  </a:lnTo>
                  <a:lnTo>
                    <a:pt x="6" y="19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5356080" y="3776760"/>
              <a:ext cx="309600" cy="630000"/>
            </a:xfrm>
            <a:custGeom>
              <a:avLst/>
              <a:gdLst/>
              <a:ahLst/>
              <a:rect l="l" t="t" r="r" b="b"/>
              <a:pathLst>
                <a:path w="978" h="1984">
                  <a:moveTo>
                    <a:pt x="0" y="1984"/>
                  </a:moveTo>
                  <a:lnTo>
                    <a:pt x="62" y="1935"/>
                  </a:lnTo>
                  <a:lnTo>
                    <a:pt x="123" y="1879"/>
                  </a:lnTo>
                  <a:lnTo>
                    <a:pt x="183" y="1820"/>
                  </a:lnTo>
                  <a:lnTo>
                    <a:pt x="241" y="1755"/>
                  </a:lnTo>
                  <a:lnTo>
                    <a:pt x="297" y="1687"/>
                  </a:lnTo>
                  <a:lnTo>
                    <a:pt x="351" y="1614"/>
                  </a:lnTo>
                  <a:lnTo>
                    <a:pt x="404" y="1540"/>
                  </a:lnTo>
                  <a:lnTo>
                    <a:pt x="455" y="1463"/>
                  </a:lnTo>
                  <a:lnTo>
                    <a:pt x="504" y="1383"/>
                  </a:lnTo>
                  <a:lnTo>
                    <a:pt x="551" y="1301"/>
                  </a:lnTo>
                  <a:lnTo>
                    <a:pt x="596" y="1218"/>
                  </a:lnTo>
                  <a:lnTo>
                    <a:pt x="640" y="1135"/>
                  </a:lnTo>
                  <a:lnTo>
                    <a:pt x="680" y="1051"/>
                  </a:lnTo>
                  <a:lnTo>
                    <a:pt x="718" y="967"/>
                  </a:lnTo>
                  <a:lnTo>
                    <a:pt x="755" y="884"/>
                  </a:lnTo>
                  <a:lnTo>
                    <a:pt x="789" y="802"/>
                  </a:lnTo>
                  <a:lnTo>
                    <a:pt x="820" y="721"/>
                  </a:lnTo>
                  <a:lnTo>
                    <a:pt x="848" y="642"/>
                  </a:lnTo>
                  <a:lnTo>
                    <a:pt x="875" y="566"/>
                  </a:lnTo>
                  <a:lnTo>
                    <a:pt x="897" y="493"/>
                  </a:lnTo>
                  <a:lnTo>
                    <a:pt x="918" y="422"/>
                  </a:lnTo>
                  <a:lnTo>
                    <a:pt x="936" y="356"/>
                  </a:lnTo>
                  <a:lnTo>
                    <a:pt x="951" y="294"/>
                  </a:lnTo>
                  <a:lnTo>
                    <a:pt x="962" y="236"/>
                  </a:lnTo>
                  <a:lnTo>
                    <a:pt x="972" y="184"/>
                  </a:lnTo>
                  <a:lnTo>
                    <a:pt x="976" y="137"/>
                  </a:lnTo>
                  <a:lnTo>
                    <a:pt x="978" y="97"/>
                  </a:lnTo>
                  <a:lnTo>
                    <a:pt x="977" y="63"/>
                  </a:lnTo>
                  <a:lnTo>
                    <a:pt x="973" y="35"/>
                  </a:lnTo>
                  <a:lnTo>
                    <a:pt x="965" y="15"/>
                  </a:lnTo>
                  <a:lnTo>
                    <a:pt x="953" y="3"/>
                  </a:lnTo>
                  <a:lnTo>
                    <a:pt x="938" y="0"/>
                  </a:lnTo>
                  <a:lnTo>
                    <a:pt x="942" y="2"/>
                  </a:lnTo>
                  <a:lnTo>
                    <a:pt x="941" y="15"/>
                  </a:lnTo>
                  <a:lnTo>
                    <a:pt x="935" y="39"/>
                  </a:lnTo>
                  <a:lnTo>
                    <a:pt x="926" y="72"/>
                  </a:lnTo>
                  <a:lnTo>
                    <a:pt x="912" y="114"/>
                  </a:lnTo>
                  <a:lnTo>
                    <a:pt x="894" y="164"/>
                  </a:lnTo>
                  <a:lnTo>
                    <a:pt x="873" y="222"/>
                  </a:lnTo>
                  <a:lnTo>
                    <a:pt x="850" y="287"/>
                  </a:lnTo>
                  <a:lnTo>
                    <a:pt x="793" y="433"/>
                  </a:lnTo>
                  <a:lnTo>
                    <a:pt x="726" y="599"/>
                  </a:lnTo>
                  <a:lnTo>
                    <a:pt x="652" y="777"/>
                  </a:lnTo>
                  <a:lnTo>
                    <a:pt x="574" y="961"/>
                  </a:lnTo>
                  <a:lnTo>
                    <a:pt x="533" y="1054"/>
                  </a:lnTo>
                  <a:lnTo>
                    <a:pt x="490" y="1147"/>
                  </a:lnTo>
                  <a:lnTo>
                    <a:pt x="449" y="1238"/>
                  </a:lnTo>
                  <a:lnTo>
                    <a:pt x="407" y="1327"/>
                  </a:lnTo>
                  <a:lnTo>
                    <a:pt x="366" y="1414"/>
                  </a:lnTo>
                  <a:lnTo>
                    <a:pt x="325" y="1497"/>
                  </a:lnTo>
                  <a:lnTo>
                    <a:pt x="284" y="1576"/>
                  </a:lnTo>
                  <a:lnTo>
                    <a:pt x="245" y="1651"/>
                  </a:lnTo>
                  <a:lnTo>
                    <a:pt x="208" y="1719"/>
                  </a:lnTo>
                  <a:lnTo>
                    <a:pt x="171" y="1782"/>
                  </a:lnTo>
                  <a:lnTo>
                    <a:pt x="136" y="1837"/>
                  </a:lnTo>
                  <a:lnTo>
                    <a:pt x="104" y="1885"/>
                  </a:lnTo>
                  <a:lnTo>
                    <a:pt x="74" y="1925"/>
                  </a:lnTo>
                  <a:lnTo>
                    <a:pt x="46" y="1954"/>
                  </a:lnTo>
                  <a:lnTo>
                    <a:pt x="22" y="1975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5343480" y="3763800"/>
              <a:ext cx="336600" cy="655920"/>
            </a:xfrm>
            <a:custGeom>
              <a:avLst/>
              <a:gdLst/>
              <a:ahLst/>
              <a:rect l="l" t="t" r="r" b="b"/>
              <a:pathLst>
                <a:path w="1060" h="2067">
                  <a:moveTo>
                    <a:pt x="938" y="1"/>
                  </a:moveTo>
                  <a:lnTo>
                    <a:pt x="1019" y="83"/>
                  </a:lnTo>
                  <a:lnTo>
                    <a:pt x="1024" y="83"/>
                  </a:lnTo>
                  <a:lnTo>
                    <a:pt x="1026" y="83"/>
                  </a:lnTo>
                  <a:lnTo>
                    <a:pt x="1030" y="84"/>
                  </a:lnTo>
                  <a:lnTo>
                    <a:pt x="1026" y="82"/>
                  </a:lnTo>
                  <a:lnTo>
                    <a:pt x="990" y="49"/>
                  </a:lnTo>
                  <a:lnTo>
                    <a:pt x="967" y="23"/>
                  </a:lnTo>
                  <a:lnTo>
                    <a:pt x="970" y="28"/>
                  </a:lnTo>
                  <a:lnTo>
                    <a:pt x="973" y="39"/>
                  </a:lnTo>
                  <a:lnTo>
                    <a:pt x="976" y="50"/>
                  </a:lnTo>
                  <a:lnTo>
                    <a:pt x="977" y="65"/>
                  </a:lnTo>
                  <a:lnTo>
                    <a:pt x="978" y="81"/>
                  </a:lnTo>
                  <a:lnTo>
                    <a:pt x="978" y="98"/>
                  </a:lnTo>
                  <a:lnTo>
                    <a:pt x="978" y="118"/>
                  </a:lnTo>
                  <a:lnTo>
                    <a:pt x="976" y="139"/>
                  </a:lnTo>
                  <a:lnTo>
                    <a:pt x="974" y="162"/>
                  </a:lnTo>
                  <a:lnTo>
                    <a:pt x="971" y="186"/>
                  </a:lnTo>
                  <a:lnTo>
                    <a:pt x="967" y="211"/>
                  </a:lnTo>
                  <a:lnTo>
                    <a:pt x="962" y="238"/>
                  </a:lnTo>
                  <a:lnTo>
                    <a:pt x="951" y="295"/>
                  </a:lnTo>
                  <a:lnTo>
                    <a:pt x="936" y="358"/>
                  </a:lnTo>
                  <a:lnTo>
                    <a:pt x="918" y="424"/>
                  </a:lnTo>
                  <a:lnTo>
                    <a:pt x="897" y="494"/>
                  </a:lnTo>
                  <a:lnTo>
                    <a:pt x="875" y="568"/>
                  </a:lnTo>
                  <a:lnTo>
                    <a:pt x="848" y="644"/>
                  </a:lnTo>
                  <a:lnTo>
                    <a:pt x="820" y="723"/>
                  </a:lnTo>
                  <a:lnTo>
                    <a:pt x="789" y="803"/>
                  </a:lnTo>
                  <a:lnTo>
                    <a:pt x="755" y="885"/>
                  </a:lnTo>
                  <a:lnTo>
                    <a:pt x="718" y="968"/>
                  </a:lnTo>
                  <a:lnTo>
                    <a:pt x="680" y="1053"/>
                  </a:lnTo>
                  <a:lnTo>
                    <a:pt x="640" y="1136"/>
                  </a:lnTo>
                  <a:lnTo>
                    <a:pt x="596" y="1219"/>
                  </a:lnTo>
                  <a:lnTo>
                    <a:pt x="551" y="1303"/>
                  </a:lnTo>
                  <a:lnTo>
                    <a:pt x="528" y="1344"/>
                  </a:lnTo>
                  <a:lnTo>
                    <a:pt x="504" y="1384"/>
                  </a:lnTo>
                  <a:lnTo>
                    <a:pt x="480" y="1424"/>
                  </a:lnTo>
                  <a:lnTo>
                    <a:pt x="455" y="1464"/>
                  </a:lnTo>
                  <a:lnTo>
                    <a:pt x="430" y="1502"/>
                  </a:lnTo>
                  <a:lnTo>
                    <a:pt x="404" y="1541"/>
                  </a:lnTo>
                  <a:lnTo>
                    <a:pt x="378" y="1579"/>
                  </a:lnTo>
                  <a:lnTo>
                    <a:pt x="351" y="1616"/>
                  </a:lnTo>
                  <a:lnTo>
                    <a:pt x="324" y="1653"/>
                  </a:lnTo>
                  <a:lnTo>
                    <a:pt x="297" y="1688"/>
                  </a:lnTo>
                  <a:lnTo>
                    <a:pt x="269" y="1722"/>
                  </a:lnTo>
                  <a:lnTo>
                    <a:pt x="241" y="1757"/>
                  </a:lnTo>
                  <a:lnTo>
                    <a:pt x="212" y="1789"/>
                  </a:lnTo>
                  <a:lnTo>
                    <a:pt x="183" y="1821"/>
                  </a:lnTo>
                  <a:lnTo>
                    <a:pt x="153" y="1851"/>
                  </a:lnTo>
                  <a:lnTo>
                    <a:pt x="123" y="1880"/>
                  </a:lnTo>
                  <a:lnTo>
                    <a:pt x="93" y="1908"/>
                  </a:lnTo>
                  <a:lnTo>
                    <a:pt x="63" y="1936"/>
                  </a:lnTo>
                  <a:lnTo>
                    <a:pt x="32" y="1961"/>
                  </a:lnTo>
                  <a:lnTo>
                    <a:pt x="0" y="1985"/>
                  </a:lnTo>
                  <a:lnTo>
                    <a:pt x="82" y="2067"/>
                  </a:lnTo>
                  <a:lnTo>
                    <a:pt x="113" y="2043"/>
                  </a:lnTo>
                  <a:lnTo>
                    <a:pt x="144" y="2017"/>
                  </a:lnTo>
                  <a:lnTo>
                    <a:pt x="175" y="1991"/>
                  </a:lnTo>
                  <a:lnTo>
                    <a:pt x="205" y="1962"/>
                  </a:lnTo>
                  <a:lnTo>
                    <a:pt x="235" y="1934"/>
                  </a:lnTo>
                  <a:lnTo>
                    <a:pt x="265" y="1903"/>
                  </a:lnTo>
                  <a:lnTo>
                    <a:pt x="293" y="1871"/>
                  </a:lnTo>
                  <a:lnTo>
                    <a:pt x="322" y="1838"/>
                  </a:lnTo>
                  <a:lnTo>
                    <a:pt x="350" y="1805"/>
                  </a:lnTo>
                  <a:lnTo>
                    <a:pt x="379" y="1769"/>
                  </a:lnTo>
                  <a:lnTo>
                    <a:pt x="406" y="1734"/>
                  </a:lnTo>
                  <a:lnTo>
                    <a:pt x="433" y="1697"/>
                  </a:lnTo>
                  <a:lnTo>
                    <a:pt x="460" y="1661"/>
                  </a:lnTo>
                  <a:lnTo>
                    <a:pt x="486" y="1622"/>
                  </a:lnTo>
                  <a:lnTo>
                    <a:pt x="512" y="1584"/>
                  </a:lnTo>
                  <a:lnTo>
                    <a:pt x="537" y="1545"/>
                  </a:lnTo>
                  <a:lnTo>
                    <a:pt x="562" y="1506"/>
                  </a:lnTo>
                  <a:lnTo>
                    <a:pt x="586" y="1465"/>
                  </a:lnTo>
                  <a:lnTo>
                    <a:pt x="610" y="1425"/>
                  </a:lnTo>
                  <a:lnTo>
                    <a:pt x="633" y="1384"/>
                  </a:lnTo>
                  <a:lnTo>
                    <a:pt x="679" y="1300"/>
                  </a:lnTo>
                  <a:lnTo>
                    <a:pt x="722" y="1217"/>
                  </a:lnTo>
                  <a:lnTo>
                    <a:pt x="762" y="1134"/>
                  </a:lnTo>
                  <a:lnTo>
                    <a:pt x="800" y="1049"/>
                  </a:lnTo>
                  <a:lnTo>
                    <a:pt x="837" y="966"/>
                  </a:lnTo>
                  <a:lnTo>
                    <a:pt x="871" y="884"/>
                  </a:lnTo>
                  <a:lnTo>
                    <a:pt x="902" y="804"/>
                  </a:lnTo>
                  <a:lnTo>
                    <a:pt x="930" y="725"/>
                  </a:lnTo>
                  <a:lnTo>
                    <a:pt x="957" y="649"/>
                  </a:lnTo>
                  <a:lnTo>
                    <a:pt x="979" y="575"/>
                  </a:lnTo>
                  <a:lnTo>
                    <a:pt x="1000" y="505"/>
                  </a:lnTo>
                  <a:lnTo>
                    <a:pt x="1018" y="439"/>
                  </a:lnTo>
                  <a:lnTo>
                    <a:pt x="1033" y="376"/>
                  </a:lnTo>
                  <a:lnTo>
                    <a:pt x="1044" y="319"/>
                  </a:lnTo>
                  <a:lnTo>
                    <a:pt x="1049" y="292"/>
                  </a:lnTo>
                  <a:lnTo>
                    <a:pt x="1054" y="267"/>
                  </a:lnTo>
                  <a:lnTo>
                    <a:pt x="1056" y="242"/>
                  </a:lnTo>
                  <a:lnTo>
                    <a:pt x="1058" y="220"/>
                  </a:lnTo>
                  <a:lnTo>
                    <a:pt x="1060" y="198"/>
                  </a:lnTo>
                  <a:lnTo>
                    <a:pt x="1060" y="179"/>
                  </a:lnTo>
                  <a:lnTo>
                    <a:pt x="1060" y="161"/>
                  </a:lnTo>
                  <a:lnTo>
                    <a:pt x="1059" y="143"/>
                  </a:lnTo>
                  <a:lnTo>
                    <a:pt x="1058" y="130"/>
                  </a:lnTo>
                  <a:lnTo>
                    <a:pt x="1055" y="116"/>
                  </a:lnTo>
                  <a:lnTo>
                    <a:pt x="1051" y="105"/>
                  </a:lnTo>
                  <a:lnTo>
                    <a:pt x="1046" y="92"/>
                  </a:lnTo>
                  <a:lnTo>
                    <a:pt x="1013" y="52"/>
                  </a:lnTo>
                  <a:lnTo>
                    <a:pt x="964" y="8"/>
                  </a:lnTo>
                  <a:lnTo>
                    <a:pt x="953" y="3"/>
                  </a:lnTo>
                  <a:lnTo>
                    <a:pt x="949" y="1"/>
                  </a:lnTo>
                  <a:lnTo>
                    <a:pt x="944" y="1"/>
                  </a:lnTo>
                  <a:lnTo>
                    <a:pt x="940" y="0"/>
                  </a:lnTo>
                  <a:lnTo>
                    <a:pt x="1021" y="82"/>
                  </a:lnTo>
                  <a:lnTo>
                    <a:pt x="938" y="1"/>
                  </a:lnTo>
                  <a:lnTo>
                    <a:pt x="914" y="69"/>
                  </a:lnTo>
                  <a:lnTo>
                    <a:pt x="1019" y="83"/>
                  </a:lnTo>
                  <a:lnTo>
                    <a:pt x="938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5342040" y="3763800"/>
              <a:ext cx="325440" cy="658800"/>
            </a:xfrm>
            <a:custGeom>
              <a:avLst/>
              <a:gdLst/>
              <a:ahLst/>
              <a:rect l="l" t="t" r="r" b="b"/>
              <a:pathLst>
                <a:path w="1029" h="2073">
                  <a:moveTo>
                    <a:pt x="5" y="1985"/>
                  </a:moveTo>
                  <a:lnTo>
                    <a:pt x="86" y="2067"/>
                  </a:lnTo>
                  <a:lnTo>
                    <a:pt x="98" y="2064"/>
                  </a:lnTo>
                  <a:lnTo>
                    <a:pt x="108" y="2058"/>
                  </a:lnTo>
                  <a:lnTo>
                    <a:pt x="120" y="2049"/>
                  </a:lnTo>
                  <a:lnTo>
                    <a:pt x="133" y="2037"/>
                  </a:lnTo>
                  <a:lnTo>
                    <a:pt x="147" y="2024"/>
                  </a:lnTo>
                  <a:lnTo>
                    <a:pt x="160" y="2007"/>
                  </a:lnTo>
                  <a:lnTo>
                    <a:pt x="175" y="1988"/>
                  </a:lnTo>
                  <a:lnTo>
                    <a:pt x="191" y="1968"/>
                  </a:lnTo>
                  <a:lnTo>
                    <a:pt x="207" y="1945"/>
                  </a:lnTo>
                  <a:lnTo>
                    <a:pt x="223" y="1920"/>
                  </a:lnTo>
                  <a:lnTo>
                    <a:pt x="240" y="1892"/>
                  </a:lnTo>
                  <a:lnTo>
                    <a:pt x="258" y="1864"/>
                  </a:lnTo>
                  <a:lnTo>
                    <a:pt x="295" y="1801"/>
                  </a:lnTo>
                  <a:lnTo>
                    <a:pt x="332" y="1733"/>
                  </a:lnTo>
                  <a:lnTo>
                    <a:pt x="371" y="1659"/>
                  </a:lnTo>
                  <a:lnTo>
                    <a:pt x="412" y="1580"/>
                  </a:lnTo>
                  <a:lnTo>
                    <a:pt x="453" y="1497"/>
                  </a:lnTo>
                  <a:lnTo>
                    <a:pt x="494" y="1410"/>
                  </a:lnTo>
                  <a:lnTo>
                    <a:pt x="536" y="1320"/>
                  </a:lnTo>
                  <a:lnTo>
                    <a:pt x="577" y="1228"/>
                  </a:lnTo>
                  <a:lnTo>
                    <a:pt x="620" y="1136"/>
                  </a:lnTo>
                  <a:lnTo>
                    <a:pt x="661" y="1044"/>
                  </a:lnTo>
                  <a:lnTo>
                    <a:pt x="739" y="859"/>
                  </a:lnTo>
                  <a:lnTo>
                    <a:pt x="813" y="682"/>
                  </a:lnTo>
                  <a:lnTo>
                    <a:pt x="880" y="517"/>
                  </a:lnTo>
                  <a:lnTo>
                    <a:pt x="937" y="369"/>
                  </a:lnTo>
                  <a:lnTo>
                    <a:pt x="961" y="306"/>
                  </a:lnTo>
                  <a:lnTo>
                    <a:pt x="981" y="247"/>
                  </a:lnTo>
                  <a:lnTo>
                    <a:pt x="999" y="197"/>
                  </a:lnTo>
                  <a:lnTo>
                    <a:pt x="1013" y="155"/>
                  </a:lnTo>
                  <a:lnTo>
                    <a:pt x="1022" y="121"/>
                  </a:lnTo>
                  <a:lnTo>
                    <a:pt x="1028" y="98"/>
                  </a:lnTo>
                  <a:lnTo>
                    <a:pt x="1029" y="89"/>
                  </a:lnTo>
                  <a:lnTo>
                    <a:pt x="1029" y="83"/>
                  </a:lnTo>
                  <a:lnTo>
                    <a:pt x="1028" y="80"/>
                  </a:lnTo>
                  <a:lnTo>
                    <a:pt x="955" y="3"/>
                  </a:lnTo>
                  <a:lnTo>
                    <a:pt x="946" y="0"/>
                  </a:lnTo>
                  <a:lnTo>
                    <a:pt x="943" y="1"/>
                  </a:lnTo>
                  <a:lnTo>
                    <a:pt x="1026" y="82"/>
                  </a:lnTo>
                  <a:lnTo>
                    <a:pt x="1026" y="82"/>
                  </a:lnTo>
                  <a:lnTo>
                    <a:pt x="1020" y="78"/>
                  </a:lnTo>
                  <a:lnTo>
                    <a:pt x="947" y="4"/>
                  </a:lnTo>
                  <a:lnTo>
                    <a:pt x="947" y="4"/>
                  </a:lnTo>
                  <a:lnTo>
                    <a:pt x="947" y="9"/>
                  </a:lnTo>
                  <a:lnTo>
                    <a:pt x="946" y="17"/>
                  </a:lnTo>
                  <a:lnTo>
                    <a:pt x="940" y="40"/>
                  </a:lnTo>
                  <a:lnTo>
                    <a:pt x="931" y="74"/>
                  </a:lnTo>
                  <a:lnTo>
                    <a:pt x="917" y="116"/>
                  </a:lnTo>
                  <a:lnTo>
                    <a:pt x="899" y="166"/>
                  </a:lnTo>
                  <a:lnTo>
                    <a:pt x="878" y="225"/>
                  </a:lnTo>
                  <a:lnTo>
                    <a:pt x="855" y="288"/>
                  </a:lnTo>
                  <a:lnTo>
                    <a:pt x="798" y="436"/>
                  </a:lnTo>
                  <a:lnTo>
                    <a:pt x="731" y="601"/>
                  </a:lnTo>
                  <a:lnTo>
                    <a:pt x="657" y="778"/>
                  </a:lnTo>
                  <a:lnTo>
                    <a:pt x="579" y="963"/>
                  </a:lnTo>
                  <a:lnTo>
                    <a:pt x="538" y="1055"/>
                  </a:lnTo>
                  <a:lnTo>
                    <a:pt x="495" y="1147"/>
                  </a:lnTo>
                  <a:lnTo>
                    <a:pt x="454" y="1239"/>
                  </a:lnTo>
                  <a:lnTo>
                    <a:pt x="412" y="1329"/>
                  </a:lnTo>
                  <a:lnTo>
                    <a:pt x="371" y="1414"/>
                  </a:lnTo>
                  <a:lnTo>
                    <a:pt x="330" y="1498"/>
                  </a:lnTo>
                  <a:lnTo>
                    <a:pt x="290" y="1578"/>
                  </a:lnTo>
                  <a:lnTo>
                    <a:pt x="250" y="1652"/>
                  </a:lnTo>
                  <a:lnTo>
                    <a:pt x="213" y="1720"/>
                  </a:lnTo>
                  <a:lnTo>
                    <a:pt x="176" y="1783"/>
                  </a:lnTo>
                  <a:lnTo>
                    <a:pt x="159" y="1811"/>
                  </a:lnTo>
                  <a:lnTo>
                    <a:pt x="142" y="1839"/>
                  </a:lnTo>
                  <a:lnTo>
                    <a:pt x="125" y="1863"/>
                  </a:lnTo>
                  <a:lnTo>
                    <a:pt x="109" y="1886"/>
                  </a:lnTo>
                  <a:lnTo>
                    <a:pt x="94" y="1907"/>
                  </a:lnTo>
                  <a:lnTo>
                    <a:pt x="79" y="1926"/>
                  </a:lnTo>
                  <a:lnTo>
                    <a:pt x="64" y="1942"/>
                  </a:lnTo>
                  <a:lnTo>
                    <a:pt x="51" y="1955"/>
                  </a:lnTo>
                  <a:lnTo>
                    <a:pt x="38" y="1967"/>
                  </a:lnTo>
                  <a:lnTo>
                    <a:pt x="27" y="1976"/>
                  </a:lnTo>
                  <a:lnTo>
                    <a:pt x="15" y="1981"/>
                  </a:lnTo>
                  <a:lnTo>
                    <a:pt x="5" y="1985"/>
                  </a:lnTo>
                  <a:lnTo>
                    <a:pt x="87" y="2067"/>
                  </a:lnTo>
                  <a:lnTo>
                    <a:pt x="5" y="1985"/>
                  </a:lnTo>
                  <a:lnTo>
                    <a:pt x="0" y="2073"/>
                  </a:lnTo>
                  <a:lnTo>
                    <a:pt x="86" y="2067"/>
                  </a:lnTo>
                  <a:lnTo>
                    <a:pt x="5" y="19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5448240" y="3798720"/>
              <a:ext cx="311040" cy="630360"/>
            </a:xfrm>
            <a:custGeom>
              <a:avLst/>
              <a:gdLst/>
              <a:ahLst/>
              <a:rect l="l" t="t" r="r" b="b"/>
              <a:pathLst>
                <a:path w="978" h="1984">
                  <a:moveTo>
                    <a:pt x="0" y="1984"/>
                  </a:moveTo>
                  <a:lnTo>
                    <a:pt x="62" y="1935"/>
                  </a:lnTo>
                  <a:lnTo>
                    <a:pt x="123" y="1880"/>
                  </a:lnTo>
                  <a:lnTo>
                    <a:pt x="182" y="1820"/>
                  </a:lnTo>
                  <a:lnTo>
                    <a:pt x="241" y="1756"/>
                  </a:lnTo>
                  <a:lnTo>
                    <a:pt x="296" y="1688"/>
                  </a:lnTo>
                  <a:lnTo>
                    <a:pt x="351" y="1616"/>
                  </a:lnTo>
                  <a:lnTo>
                    <a:pt x="404" y="1540"/>
                  </a:lnTo>
                  <a:lnTo>
                    <a:pt x="455" y="1463"/>
                  </a:lnTo>
                  <a:lnTo>
                    <a:pt x="504" y="1383"/>
                  </a:lnTo>
                  <a:lnTo>
                    <a:pt x="551" y="1302"/>
                  </a:lnTo>
                  <a:lnTo>
                    <a:pt x="596" y="1219"/>
                  </a:lnTo>
                  <a:lnTo>
                    <a:pt x="640" y="1135"/>
                  </a:lnTo>
                  <a:lnTo>
                    <a:pt x="680" y="1051"/>
                  </a:lnTo>
                  <a:lnTo>
                    <a:pt x="718" y="968"/>
                  </a:lnTo>
                  <a:lnTo>
                    <a:pt x="755" y="884"/>
                  </a:lnTo>
                  <a:lnTo>
                    <a:pt x="789" y="802"/>
                  </a:lnTo>
                  <a:lnTo>
                    <a:pt x="820" y="721"/>
                  </a:lnTo>
                  <a:lnTo>
                    <a:pt x="848" y="643"/>
                  </a:lnTo>
                  <a:lnTo>
                    <a:pt x="874" y="566"/>
                  </a:lnTo>
                  <a:lnTo>
                    <a:pt x="897" y="493"/>
                  </a:lnTo>
                  <a:lnTo>
                    <a:pt x="918" y="424"/>
                  </a:lnTo>
                  <a:lnTo>
                    <a:pt x="936" y="356"/>
                  </a:lnTo>
                  <a:lnTo>
                    <a:pt x="951" y="295"/>
                  </a:lnTo>
                  <a:lnTo>
                    <a:pt x="962" y="236"/>
                  </a:lnTo>
                  <a:lnTo>
                    <a:pt x="971" y="185"/>
                  </a:lnTo>
                  <a:lnTo>
                    <a:pt x="976" y="138"/>
                  </a:lnTo>
                  <a:lnTo>
                    <a:pt x="978" y="97"/>
                  </a:lnTo>
                  <a:lnTo>
                    <a:pt x="977" y="63"/>
                  </a:lnTo>
                  <a:lnTo>
                    <a:pt x="973" y="36"/>
                  </a:lnTo>
                  <a:lnTo>
                    <a:pt x="965" y="16"/>
                  </a:lnTo>
                  <a:lnTo>
                    <a:pt x="953" y="4"/>
                  </a:lnTo>
                  <a:lnTo>
                    <a:pt x="938" y="0"/>
                  </a:lnTo>
                  <a:lnTo>
                    <a:pt x="942" y="3"/>
                  </a:lnTo>
                  <a:lnTo>
                    <a:pt x="941" y="15"/>
                  </a:lnTo>
                  <a:lnTo>
                    <a:pt x="935" y="39"/>
                  </a:lnTo>
                  <a:lnTo>
                    <a:pt x="926" y="72"/>
                  </a:lnTo>
                  <a:lnTo>
                    <a:pt x="912" y="114"/>
                  </a:lnTo>
                  <a:lnTo>
                    <a:pt x="894" y="166"/>
                  </a:lnTo>
                  <a:lnTo>
                    <a:pt x="873" y="223"/>
                  </a:lnTo>
                  <a:lnTo>
                    <a:pt x="849" y="288"/>
                  </a:lnTo>
                  <a:lnTo>
                    <a:pt x="792" y="435"/>
                  </a:lnTo>
                  <a:lnTo>
                    <a:pt x="726" y="599"/>
                  </a:lnTo>
                  <a:lnTo>
                    <a:pt x="652" y="777"/>
                  </a:lnTo>
                  <a:lnTo>
                    <a:pt x="574" y="962"/>
                  </a:lnTo>
                  <a:lnTo>
                    <a:pt x="532" y="1054"/>
                  </a:lnTo>
                  <a:lnTo>
                    <a:pt x="491" y="1147"/>
                  </a:lnTo>
                  <a:lnTo>
                    <a:pt x="449" y="1238"/>
                  </a:lnTo>
                  <a:lnTo>
                    <a:pt x="407" y="1327"/>
                  </a:lnTo>
                  <a:lnTo>
                    <a:pt x="366" y="1414"/>
                  </a:lnTo>
                  <a:lnTo>
                    <a:pt x="325" y="1497"/>
                  </a:lnTo>
                  <a:lnTo>
                    <a:pt x="285" y="1577"/>
                  </a:lnTo>
                  <a:lnTo>
                    <a:pt x="245" y="1651"/>
                  </a:lnTo>
                  <a:lnTo>
                    <a:pt x="208" y="1720"/>
                  </a:lnTo>
                  <a:lnTo>
                    <a:pt x="171" y="1782"/>
                  </a:lnTo>
                  <a:lnTo>
                    <a:pt x="137" y="1838"/>
                  </a:lnTo>
                  <a:lnTo>
                    <a:pt x="104" y="1885"/>
                  </a:lnTo>
                  <a:lnTo>
                    <a:pt x="74" y="1925"/>
                  </a:lnTo>
                  <a:lnTo>
                    <a:pt x="46" y="1955"/>
                  </a:lnTo>
                  <a:lnTo>
                    <a:pt x="22" y="1975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5435640" y="3786120"/>
              <a:ext cx="336600" cy="655560"/>
            </a:xfrm>
            <a:custGeom>
              <a:avLst/>
              <a:gdLst/>
              <a:ahLst/>
              <a:rect l="l" t="t" r="r" b="b"/>
              <a:pathLst>
                <a:path w="1060" h="2066">
                  <a:moveTo>
                    <a:pt x="939" y="0"/>
                  </a:moveTo>
                  <a:lnTo>
                    <a:pt x="1019" y="82"/>
                  </a:lnTo>
                  <a:lnTo>
                    <a:pt x="1024" y="82"/>
                  </a:lnTo>
                  <a:lnTo>
                    <a:pt x="1027" y="83"/>
                  </a:lnTo>
                  <a:lnTo>
                    <a:pt x="1029" y="83"/>
                  </a:lnTo>
                  <a:lnTo>
                    <a:pt x="1026" y="81"/>
                  </a:lnTo>
                  <a:lnTo>
                    <a:pt x="990" y="48"/>
                  </a:lnTo>
                  <a:lnTo>
                    <a:pt x="967" y="22"/>
                  </a:lnTo>
                  <a:lnTo>
                    <a:pt x="970" y="28"/>
                  </a:lnTo>
                  <a:lnTo>
                    <a:pt x="972" y="38"/>
                  </a:lnTo>
                  <a:lnTo>
                    <a:pt x="976" y="50"/>
                  </a:lnTo>
                  <a:lnTo>
                    <a:pt x="977" y="64"/>
                  </a:lnTo>
                  <a:lnTo>
                    <a:pt x="978" y="80"/>
                  </a:lnTo>
                  <a:lnTo>
                    <a:pt x="978" y="98"/>
                  </a:lnTo>
                  <a:lnTo>
                    <a:pt x="978" y="118"/>
                  </a:lnTo>
                  <a:lnTo>
                    <a:pt x="976" y="138"/>
                  </a:lnTo>
                  <a:lnTo>
                    <a:pt x="974" y="161"/>
                  </a:lnTo>
                  <a:lnTo>
                    <a:pt x="971" y="185"/>
                  </a:lnTo>
                  <a:lnTo>
                    <a:pt x="967" y="211"/>
                  </a:lnTo>
                  <a:lnTo>
                    <a:pt x="962" y="238"/>
                  </a:lnTo>
                  <a:lnTo>
                    <a:pt x="951" y="295"/>
                  </a:lnTo>
                  <a:lnTo>
                    <a:pt x="936" y="357"/>
                  </a:lnTo>
                  <a:lnTo>
                    <a:pt x="918" y="423"/>
                  </a:lnTo>
                  <a:lnTo>
                    <a:pt x="897" y="494"/>
                  </a:lnTo>
                  <a:lnTo>
                    <a:pt x="874" y="567"/>
                  </a:lnTo>
                  <a:lnTo>
                    <a:pt x="848" y="644"/>
                  </a:lnTo>
                  <a:lnTo>
                    <a:pt x="820" y="722"/>
                  </a:lnTo>
                  <a:lnTo>
                    <a:pt x="789" y="802"/>
                  </a:lnTo>
                  <a:lnTo>
                    <a:pt x="755" y="884"/>
                  </a:lnTo>
                  <a:lnTo>
                    <a:pt x="718" y="968"/>
                  </a:lnTo>
                  <a:lnTo>
                    <a:pt x="681" y="1052"/>
                  </a:lnTo>
                  <a:lnTo>
                    <a:pt x="640" y="1135"/>
                  </a:lnTo>
                  <a:lnTo>
                    <a:pt x="596" y="1219"/>
                  </a:lnTo>
                  <a:lnTo>
                    <a:pt x="552" y="1302"/>
                  </a:lnTo>
                  <a:lnTo>
                    <a:pt x="528" y="1343"/>
                  </a:lnTo>
                  <a:lnTo>
                    <a:pt x="504" y="1383"/>
                  </a:lnTo>
                  <a:lnTo>
                    <a:pt x="480" y="1424"/>
                  </a:lnTo>
                  <a:lnTo>
                    <a:pt x="455" y="1463"/>
                  </a:lnTo>
                  <a:lnTo>
                    <a:pt x="430" y="1503"/>
                  </a:lnTo>
                  <a:lnTo>
                    <a:pt x="404" y="1540"/>
                  </a:lnTo>
                  <a:lnTo>
                    <a:pt x="377" y="1579"/>
                  </a:lnTo>
                  <a:lnTo>
                    <a:pt x="351" y="1616"/>
                  </a:lnTo>
                  <a:lnTo>
                    <a:pt x="324" y="1652"/>
                  </a:lnTo>
                  <a:lnTo>
                    <a:pt x="296" y="1688"/>
                  </a:lnTo>
                  <a:lnTo>
                    <a:pt x="269" y="1722"/>
                  </a:lnTo>
                  <a:lnTo>
                    <a:pt x="241" y="1756"/>
                  </a:lnTo>
                  <a:lnTo>
                    <a:pt x="212" y="1789"/>
                  </a:lnTo>
                  <a:lnTo>
                    <a:pt x="182" y="1820"/>
                  </a:lnTo>
                  <a:lnTo>
                    <a:pt x="153" y="1851"/>
                  </a:lnTo>
                  <a:lnTo>
                    <a:pt x="123" y="1880"/>
                  </a:lnTo>
                  <a:lnTo>
                    <a:pt x="94" y="1909"/>
                  </a:lnTo>
                  <a:lnTo>
                    <a:pt x="63" y="1935"/>
                  </a:lnTo>
                  <a:lnTo>
                    <a:pt x="32" y="1960"/>
                  </a:lnTo>
                  <a:lnTo>
                    <a:pt x="0" y="1985"/>
                  </a:lnTo>
                  <a:lnTo>
                    <a:pt x="82" y="2066"/>
                  </a:lnTo>
                  <a:lnTo>
                    <a:pt x="113" y="2042"/>
                  </a:lnTo>
                  <a:lnTo>
                    <a:pt x="144" y="2017"/>
                  </a:lnTo>
                  <a:lnTo>
                    <a:pt x="174" y="1990"/>
                  </a:lnTo>
                  <a:lnTo>
                    <a:pt x="205" y="1963"/>
                  </a:lnTo>
                  <a:lnTo>
                    <a:pt x="235" y="1933"/>
                  </a:lnTo>
                  <a:lnTo>
                    <a:pt x="265" y="1902"/>
                  </a:lnTo>
                  <a:lnTo>
                    <a:pt x="293" y="1870"/>
                  </a:lnTo>
                  <a:lnTo>
                    <a:pt x="323" y="1837"/>
                  </a:lnTo>
                  <a:lnTo>
                    <a:pt x="350" y="1804"/>
                  </a:lnTo>
                  <a:lnTo>
                    <a:pt x="379" y="1769"/>
                  </a:lnTo>
                  <a:lnTo>
                    <a:pt x="406" y="1733"/>
                  </a:lnTo>
                  <a:lnTo>
                    <a:pt x="433" y="1697"/>
                  </a:lnTo>
                  <a:lnTo>
                    <a:pt x="459" y="1660"/>
                  </a:lnTo>
                  <a:lnTo>
                    <a:pt x="486" y="1623"/>
                  </a:lnTo>
                  <a:lnTo>
                    <a:pt x="512" y="1584"/>
                  </a:lnTo>
                  <a:lnTo>
                    <a:pt x="537" y="1545"/>
                  </a:lnTo>
                  <a:lnTo>
                    <a:pt x="562" y="1505"/>
                  </a:lnTo>
                  <a:lnTo>
                    <a:pt x="586" y="1465"/>
                  </a:lnTo>
                  <a:lnTo>
                    <a:pt x="610" y="1424"/>
                  </a:lnTo>
                  <a:lnTo>
                    <a:pt x="633" y="1383"/>
                  </a:lnTo>
                  <a:lnTo>
                    <a:pt x="678" y="1301"/>
                  </a:lnTo>
                  <a:lnTo>
                    <a:pt x="722" y="1216"/>
                  </a:lnTo>
                  <a:lnTo>
                    <a:pt x="762" y="1133"/>
                  </a:lnTo>
                  <a:lnTo>
                    <a:pt x="800" y="1050"/>
                  </a:lnTo>
                  <a:lnTo>
                    <a:pt x="837" y="967"/>
                  </a:lnTo>
                  <a:lnTo>
                    <a:pt x="871" y="884"/>
                  </a:lnTo>
                  <a:lnTo>
                    <a:pt x="902" y="803"/>
                  </a:lnTo>
                  <a:lnTo>
                    <a:pt x="930" y="725"/>
                  </a:lnTo>
                  <a:lnTo>
                    <a:pt x="957" y="648"/>
                  </a:lnTo>
                  <a:lnTo>
                    <a:pt x="980" y="574"/>
                  </a:lnTo>
                  <a:lnTo>
                    <a:pt x="1001" y="504"/>
                  </a:lnTo>
                  <a:lnTo>
                    <a:pt x="1018" y="438"/>
                  </a:lnTo>
                  <a:lnTo>
                    <a:pt x="1033" y="376"/>
                  </a:lnTo>
                  <a:lnTo>
                    <a:pt x="1044" y="319"/>
                  </a:lnTo>
                  <a:lnTo>
                    <a:pt x="1049" y="291"/>
                  </a:lnTo>
                  <a:lnTo>
                    <a:pt x="1053" y="266"/>
                  </a:lnTo>
                  <a:lnTo>
                    <a:pt x="1056" y="242"/>
                  </a:lnTo>
                  <a:lnTo>
                    <a:pt x="1058" y="219"/>
                  </a:lnTo>
                  <a:lnTo>
                    <a:pt x="1060" y="198"/>
                  </a:lnTo>
                  <a:lnTo>
                    <a:pt x="1060" y="178"/>
                  </a:lnTo>
                  <a:lnTo>
                    <a:pt x="1060" y="160"/>
                  </a:lnTo>
                  <a:lnTo>
                    <a:pt x="1059" y="144"/>
                  </a:lnTo>
                  <a:lnTo>
                    <a:pt x="1058" y="129"/>
                  </a:lnTo>
                  <a:lnTo>
                    <a:pt x="1055" y="115"/>
                  </a:lnTo>
                  <a:lnTo>
                    <a:pt x="1051" y="104"/>
                  </a:lnTo>
                  <a:lnTo>
                    <a:pt x="1045" y="91"/>
                  </a:lnTo>
                  <a:lnTo>
                    <a:pt x="1012" y="52"/>
                  </a:lnTo>
                  <a:lnTo>
                    <a:pt x="963" y="8"/>
                  </a:lnTo>
                  <a:lnTo>
                    <a:pt x="953" y="2"/>
                  </a:lnTo>
                  <a:lnTo>
                    <a:pt x="949" y="0"/>
                  </a:lnTo>
                  <a:lnTo>
                    <a:pt x="944" y="0"/>
                  </a:lnTo>
                  <a:lnTo>
                    <a:pt x="939" y="0"/>
                  </a:lnTo>
                  <a:lnTo>
                    <a:pt x="1020" y="82"/>
                  </a:lnTo>
                  <a:lnTo>
                    <a:pt x="939" y="0"/>
                  </a:lnTo>
                  <a:lnTo>
                    <a:pt x="915" y="69"/>
                  </a:lnTo>
                  <a:lnTo>
                    <a:pt x="1019" y="82"/>
                  </a:lnTo>
                  <a:lnTo>
                    <a:pt x="93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5433840" y="3784680"/>
              <a:ext cx="327240" cy="658800"/>
            </a:xfrm>
            <a:custGeom>
              <a:avLst/>
              <a:gdLst/>
              <a:ahLst/>
              <a:rect l="l" t="t" r="r" b="b"/>
              <a:pathLst>
                <a:path w="1030" h="2073">
                  <a:moveTo>
                    <a:pt x="6" y="1986"/>
                  </a:moveTo>
                  <a:lnTo>
                    <a:pt x="87" y="2068"/>
                  </a:lnTo>
                  <a:lnTo>
                    <a:pt x="98" y="2064"/>
                  </a:lnTo>
                  <a:lnTo>
                    <a:pt x="110" y="2058"/>
                  </a:lnTo>
                  <a:lnTo>
                    <a:pt x="121" y="2049"/>
                  </a:lnTo>
                  <a:lnTo>
                    <a:pt x="134" y="2038"/>
                  </a:lnTo>
                  <a:lnTo>
                    <a:pt x="147" y="2024"/>
                  </a:lnTo>
                  <a:lnTo>
                    <a:pt x="161" y="2008"/>
                  </a:lnTo>
                  <a:lnTo>
                    <a:pt x="176" y="1989"/>
                  </a:lnTo>
                  <a:lnTo>
                    <a:pt x="192" y="1968"/>
                  </a:lnTo>
                  <a:lnTo>
                    <a:pt x="208" y="1945"/>
                  </a:lnTo>
                  <a:lnTo>
                    <a:pt x="224" y="1920"/>
                  </a:lnTo>
                  <a:lnTo>
                    <a:pt x="241" y="1894"/>
                  </a:lnTo>
                  <a:lnTo>
                    <a:pt x="259" y="1865"/>
                  </a:lnTo>
                  <a:lnTo>
                    <a:pt x="296" y="1803"/>
                  </a:lnTo>
                  <a:lnTo>
                    <a:pt x="333" y="1733"/>
                  </a:lnTo>
                  <a:lnTo>
                    <a:pt x="373" y="1659"/>
                  </a:lnTo>
                  <a:lnTo>
                    <a:pt x="413" y="1580"/>
                  </a:lnTo>
                  <a:lnTo>
                    <a:pt x="454" y="1497"/>
                  </a:lnTo>
                  <a:lnTo>
                    <a:pt x="495" y="1410"/>
                  </a:lnTo>
                  <a:lnTo>
                    <a:pt x="537" y="1321"/>
                  </a:lnTo>
                  <a:lnTo>
                    <a:pt x="579" y="1230"/>
                  </a:lnTo>
                  <a:lnTo>
                    <a:pt x="621" y="1138"/>
                  </a:lnTo>
                  <a:lnTo>
                    <a:pt x="662" y="1044"/>
                  </a:lnTo>
                  <a:lnTo>
                    <a:pt x="740" y="860"/>
                  </a:lnTo>
                  <a:lnTo>
                    <a:pt x="814" y="682"/>
                  </a:lnTo>
                  <a:lnTo>
                    <a:pt x="880" y="517"/>
                  </a:lnTo>
                  <a:lnTo>
                    <a:pt x="937" y="371"/>
                  </a:lnTo>
                  <a:lnTo>
                    <a:pt x="961" y="306"/>
                  </a:lnTo>
                  <a:lnTo>
                    <a:pt x="982" y="248"/>
                  </a:lnTo>
                  <a:lnTo>
                    <a:pt x="1000" y="197"/>
                  </a:lnTo>
                  <a:lnTo>
                    <a:pt x="1014" y="155"/>
                  </a:lnTo>
                  <a:lnTo>
                    <a:pt x="1023" y="122"/>
                  </a:lnTo>
                  <a:lnTo>
                    <a:pt x="1029" y="98"/>
                  </a:lnTo>
                  <a:lnTo>
                    <a:pt x="1030" y="90"/>
                  </a:lnTo>
                  <a:lnTo>
                    <a:pt x="1030" y="84"/>
                  </a:lnTo>
                  <a:lnTo>
                    <a:pt x="1029" y="80"/>
                  </a:lnTo>
                  <a:lnTo>
                    <a:pt x="956" y="5"/>
                  </a:lnTo>
                  <a:lnTo>
                    <a:pt x="947" y="0"/>
                  </a:lnTo>
                  <a:lnTo>
                    <a:pt x="945" y="1"/>
                  </a:lnTo>
                  <a:lnTo>
                    <a:pt x="1026" y="83"/>
                  </a:lnTo>
                  <a:lnTo>
                    <a:pt x="1027" y="82"/>
                  </a:lnTo>
                  <a:lnTo>
                    <a:pt x="1021" y="80"/>
                  </a:lnTo>
                  <a:lnTo>
                    <a:pt x="948" y="6"/>
                  </a:lnTo>
                  <a:lnTo>
                    <a:pt x="948" y="5"/>
                  </a:lnTo>
                  <a:lnTo>
                    <a:pt x="948" y="9"/>
                  </a:lnTo>
                  <a:lnTo>
                    <a:pt x="947" y="17"/>
                  </a:lnTo>
                  <a:lnTo>
                    <a:pt x="941" y="41"/>
                  </a:lnTo>
                  <a:lnTo>
                    <a:pt x="932" y="74"/>
                  </a:lnTo>
                  <a:lnTo>
                    <a:pt x="918" y="116"/>
                  </a:lnTo>
                  <a:lnTo>
                    <a:pt x="900" y="167"/>
                  </a:lnTo>
                  <a:lnTo>
                    <a:pt x="879" y="225"/>
                  </a:lnTo>
                  <a:lnTo>
                    <a:pt x="855" y="289"/>
                  </a:lnTo>
                  <a:lnTo>
                    <a:pt x="798" y="436"/>
                  </a:lnTo>
                  <a:lnTo>
                    <a:pt x="732" y="601"/>
                  </a:lnTo>
                  <a:lnTo>
                    <a:pt x="658" y="778"/>
                  </a:lnTo>
                  <a:lnTo>
                    <a:pt x="579" y="963"/>
                  </a:lnTo>
                  <a:lnTo>
                    <a:pt x="538" y="1057"/>
                  </a:lnTo>
                  <a:lnTo>
                    <a:pt x="497" y="1149"/>
                  </a:lnTo>
                  <a:lnTo>
                    <a:pt x="455" y="1240"/>
                  </a:lnTo>
                  <a:lnTo>
                    <a:pt x="413" y="1329"/>
                  </a:lnTo>
                  <a:lnTo>
                    <a:pt x="372" y="1416"/>
                  </a:lnTo>
                  <a:lnTo>
                    <a:pt x="331" y="1499"/>
                  </a:lnTo>
                  <a:lnTo>
                    <a:pt x="291" y="1578"/>
                  </a:lnTo>
                  <a:lnTo>
                    <a:pt x="251" y="1652"/>
                  </a:lnTo>
                  <a:lnTo>
                    <a:pt x="214" y="1721"/>
                  </a:lnTo>
                  <a:lnTo>
                    <a:pt x="177" y="1783"/>
                  </a:lnTo>
                  <a:lnTo>
                    <a:pt x="160" y="1812"/>
                  </a:lnTo>
                  <a:lnTo>
                    <a:pt x="143" y="1839"/>
                  </a:lnTo>
                  <a:lnTo>
                    <a:pt x="126" y="1864"/>
                  </a:lnTo>
                  <a:lnTo>
                    <a:pt x="110" y="1887"/>
                  </a:lnTo>
                  <a:lnTo>
                    <a:pt x="95" y="1908"/>
                  </a:lnTo>
                  <a:lnTo>
                    <a:pt x="80" y="1926"/>
                  </a:lnTo>
                  <a:lnTo>
                    <a:pt x="65" y="1942"/>
                  </a:lnTo>
                  <a:lnTo>
                    <a:pt x="53" y="1956"/>
                  </a:lnTo>
                  <a:lnTo>
                    <a:pt x="40" y="1967"/>
                  </a:lnTo>
                  <a:lnTo>
                    <a:pt x="28" y="1976"/>
                  </a:lnTo>
                  <a:lnTo>
                    <a:pt x="16" y="1982"/>
                  </a:lnTo>
                  <a:lnTo>
                    <a:pt x="7" y="1985"/>
                  </a:lnTo>
                  <a:lnTo>
                    <a:pt x="88" y="2067"/>
                  </a:lnTo>
                  <a:lnTo>
                    <a:pt x="6" y="1986"/>
                  </a:lnTo>
                  <a:lnTo>
                    <a:pt x="0" y="2073"/>
                  </a:lnTo>
                  <a:lnTo>
                    <a:pt x="87" y="2068"/>
                  </a:lnTo>
                  <a:lnTo>
                    <a:pt x="6" y="198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5497560" y="3865680"/>
              <a:ext cx="311040" cy="630000"/>
            </a:xfrm>
            <a:custGeom>
              <a:avLst/>
              <a:gdLst/>
              <a:ahLst/>
              <a:rect l="l" t="t" r="r" b="b"/>
              <a:pathLst>
                <a:path w="979" h="1986">
                  <a:moveTo>
                    <a:pt x="0" y="1986"/>
                  </a:moveTo>
                  <a:lnTo>
                    <a:pt x="63" y="1935"/>
                  </a:lnTo>
                  <a:lnTo>
                    <a:pt x="123" y="1881"/>
                  </a:lnTo>
                  <a:lnTo>
                    <a:pt x="182" y="1820"/>
                  </a:lnTo>
                  <a:lnTo>
                    <a:pt x="241" y="1756"/>
                  </a:lnTo>
                  <a:lnTo>
                    <a:pt x="296" y="1688"/>
                  </a:lnTo>
                  <a:lnTo>
                    <a:pt x="351" y="1616"/>
                  </a:lnTo>
                  <a:lnTo>
                    <a:pt x="405" y="1541"/>
                  </a:lnTo>
                  <a:lnTo>
                    <a:pt x="456" y="1463"/>
                  </a:lnTo>
                  <a:lnTo>
                    <a:pt x="505" y="1383"/>
                  </a:lnTo>
                  <a:lnTo>
                    <a:pt x="552" y="1302"/>
                  </a:lnTo>
                  <a:lnTo>
                    <a:pt x="596" y="1219"/>
                  </a:lnTo>
                  <a:lnTo>
                    <a:pt x="640" y="1136"/>
                  </a:lnTo>
                  <a:lnTo>
                    <a:pt x="681" y="1052"/>
                  </a:lnTo>
                  <a:lnTo>
                    <a:pt x="719" y="968"/>
                  </a:lnTo>
                  <a:lnTo>
                    <a:pt x="755" y="885"/>
                  </a:lnTo>
                  <a:lnTo>
                    <a:pt x="789" y="803"/>
                  </a:lnTo>
                  <a:lnTo>
                    <a:pt x="820" y="723"/>
                  </a:lnTo>
                  <a:lnTo>
                    <a:pt x="849" y="644"/>
                  </a:lnTo>
                  <a:lnTo>
                    <a:pt x="874" y="567"/>
                  </a:lnTo>
                  <a:lnTo>
                    <a:pt x="898" y="493"/>
                  </a:lnTo>
                  <a:lnTo>
                    <a:pt x="919" y="424"/>
                  </a:lnTo>
                  <a:lnTo>
                    <a:pt x="936" y="358"/>
                  </a:lnTo>
                  <a:lnTo>
                    <a:pt x="951" y="295"/>
                  </a:lnTo>
                  <a:lnTo>
                    <a:pt x="963" y="238"/>
                  </a:lnTo>
                  <a:lnTo>
                    <a:pt x="971" y="185"/>
                  </a:lnTo>
                  <a:lnTo>
                    <a:pt x="977" y="139"/>
                  </a:lnTo>
                  <a:lnTo>
                    <a:pt x="979" y="97"/>
                  </a:lnTo>
                  <a:lnTo>
                    <a:pt x="978" y="63"/>
                  </a:lnTo>
                  <a:lnTo>
                    <a:pt x="974" y="36"/>
                  </a:lnTo>
                  <a:lnTo>
                    <a:pt x="966" y="16"/>
                  </a:lnTo>
                  <a:lnTo>
                    <a:pt x="954" y="4"/>
                  </a:lnTo>
                  <a:lnTo>
                    <a:pt x="939" y="0"/>
                  </a:lnTo>
                  <a:lnTo>
                    <a:pt x="943" y="3"/>
                  </a:lnTo>
                  <a:lnTo>
                    <a:pt x="942" y="16"/>
                  </a:lnTo>
                  <a:lnTo>
                    <a:pt x="936" y="39"/>
                  </a:lnTo>
                  <a:lnTo>
                    <a:pt x="926" y="73"/>
                  </a:lnTo>
                  <a:lnTo>
                    <a:pt x="912" y="116"/>
                  </a:lnTo>
                  <a:lnTo>
                    <a:pt x="895" y="166"/>
                  </a:lnTo>
                  <a:lnTo>
                    <a:pt x="873" y="224"/>
                  </a:lnTo>
                  <a:lnTo>
                    <a:pt x="849" y="288"/>
                  </a:lnTo>
                  <a:lnTo>
                    <a:pt x="792" y="435"/>
                  </a:lnTo>
                  <a:lnTo>
                    <a:pt x="726" y="601"/>
                  </a:lnTo>
                  <a:lnTo>
                    <a:pt x="653" y="777"/>
                  </a:lnTo>
                  <a:lnTo>
                    <a:pt x="573" y="962"/>
                  </a:lnTo>
                  <a:lnTo>
                    <a:pt x="532" y="1055"/>
                  </a:lnTo>
                  <a:lnTo>
                    <a:pt x="491" y="1147"/>
                  </a:lnTo>
                  <a:lnTo>
                    <a:pt x="449" y="1238"/>
                  </a:lnTo>
                  <a:lnTo>
                    <a:pt x="408" y="1328"/>
                  </a:lnTo>
                  <a:lnTo>
                    <a:pt x="366" y="1415"/>
                  </a:lnTo>
                  <a:lnTo>
                    <a:pt x="325" y="1498"/>
                  </a:lnTo>
                  <a:lnTo>
                    <a:pt x="285" y="1577"/>
                  </a:lnTo>
                  <a:lnTo>
                    <a:pt x="246" y="1651"/>
                  </a:lnTo>
                  <a:lnTo>
                    <a:pt x="207" y="1720"/>
                  </a:lnTo>
                  <a:lnTo>
                    <a:pt x="171" y="1783"/>
                  </a:lnTo>
                  <a:lnTo>
                    <a:pt x="137" y="1838"/>
                  </a:lnTo>
                  <a:lnTo>
                    <a:pt x="105" y="1886"/>
                  </a:lnTo>
                  <a:lnTo>
                    <a:pt x="74" y="1925"/>
                  </a:lnTo>
                  <a:lnTo>
                    <a:pt x="47" y="1955"/>
                  </a:lnTo>
                  <a:lnTo>
                    <a:pt x="22" y="1975"/>
                  </a:lnTo>
                  <a:lnTo>
                    <a:pt x="0" y="19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5484960" y="3852720"/>
              <a:ext cx="336240" cy="655920"/>
            </a:xfrm>
            <a:custGeom>
              <a:avLst/>
              <a:gdLst/>
              <a:ahLst/>
              <a:rect l="l" t="t" r="r" b="b"/>
              <a:pathLst>
                <a:path w="1060" h="2067">
                  <a:moveTo>
                    <a:pt x="938" y="0"/>
                  </a:moveTo>
                  <a:lnTo>
                    <a:pt x="1019" y="83"/>
                  </a:lnTo>
                  <a:lnTo>
                    <a:pt x="1023" y="83"/>
                  </a:lnTo>
                  <a:lnTo>
                    <a:pt x="1026" y="84"/>
                  </a:lnTo>
                  <a:lnTo>
                    <a:pt x="1028" y="85"/>
                  </a:lnTo>
                  <a:lnTo>
                    <a:pt x="1026" y="83"/>
                  </a:lnTo>
                  <a:lnTo>
                    <a:pt x="988" y="48"/>
                  </a:lnTo>
                  <a:lnTo>
                    <a:pt x="967" y="22"/>
                  </a:lnTo>
                  <a:lnTo>
                    <a:pt x="969" y="28"/>
                  </a:lnTo>
                  <a:lnTo>
                    <a:pt x="973" y="38"/>
                  </a:lnTo>
                  <a:lnTo>
                    <a:pt x="975" y="51"/>
                  </a:lnTo>
                  <a:lnTo>
                    <a:pt x="977" y="64"/>
                  </a:lnTo>
                  <a:lnTo>
                    <a:pt x="978" y="80"/>
                  </a:lnTo>
                  <a:lnTo>
                    <a:pt x="978" y="99"/>
                  </a:lnTo>
                  <a:lnTo>
                    <a:pt x="977" y="118"/>
                  </a:lnTo>
                  <a:lnTo>
                    <a:pt x="976" y="140"/>
                  </a:lnTo>
                  <a:lnTo>
                    <a:pt x="974" y="161"/>
                  </a:lnTo>
                  <a:lnTo>
                    <a:pt x="970" y="186"/>
                  </a:lnTo>
                  <a:lnTo>
                    <a:pt x="966" y="211"/>
                  </a:lnTo>
                  <a:lnTo>
                    <a:pt x="961" y="238"/>
                  </a:lnTo>
                  <a:lnTo>
                    <a:pt x="950" y="296"/>
                  </a:lnTo>
                  <a:lnTo>
                    <a:pt x="935" y="358"/>
                  </a:lnTo>
                  <a:lnTo>
                    <a:pt x="918" y="424"/>
                  </a:lnTo>
                  <a:lnTo>
                    <a:pt x="897" y="494"/>
                  </a:lnTo>
                  <a:lnTo>
                    <a:pt x="873" y="567"/>
                  </a:lnTo>
                  <a:lnTo>
                    <a:pt x="848" y="644"/>
                  </a:lnTo>
                  <a:lnTo>
                    <a:pt x="819" y="723"/>
                  </a:lnTo>
                  <a:lnTo>
                    <a:pt x="788" y="804"/>
                  </a:lnTo>
                  <a:lnTo>
                    <a:pt x="754" y="886"/>
                  </a:lnTo>
                  <a:lnTo>
                    <a:pt x="718" y="969"/>
                  </a:lnTo>
                  <a:lnTo>
                    <a:pt x="680" y="1052"/>
                  </a:lnTo>
                  <a:lnTo>
                    <a:pt x="638" y="1137"/>
                  </a:lnTo>
                  <a:lnTo>
                    <a:pt x="595" y="1220"/>
                  </a:lnTo>
                  <a:lnTo>
                    <a:pt x="551" y="1302"/>
                  </a:lnTo>
                  <a:lnTo>
                    <a:pt x="528" y="1343"/>
                  </a:lnTo>
                  <a:lnTo>
                    <a:pt x="504" y="1384"/>
                  </a:lnTo>
                  <a:lnTo>
                    <a:pt x="479" y="1424"/>
                  </a:lnTo>
                  <a:lnTo>
                    <a:pt x="455" y="1463"/>
                  </a:lnTo>
                  <a:lnTo>
                    <a:pt x="429" y="1503"/>
                  </a:lnTo>
                  <a:lnTo>
                    <a:pt x="404" y="1542"/>
                  </a:lnTo>
                  <a:lnTo>
                    <a:pt x="377" y="1579"/>
                  </a:lnTo>
                  <a:lnTo>
                    <a:pt x="351" y="1616"/>
                  </a:lnTo>
                  <a:lnTo>
                    <a:pt x="324" y="1652"/>
                  </a:lnTo>
                  <a:lnTo>
                    <a:pt x="296" y="1688"/>
                  </a:lnTo>
                  <a:lnTo>
                    <a:pt x="268" y="1723"/>
                  </a:lnTo>
                  <a:lnTo>
                    <a:pt x="239" y="1756"/>
                  </a:lnTo>
                  <a:lnTo>
                    <a:pt x="211" y="1789"/>
                  </a:lnTo>
                  <a:lnTo>
                    <a:pt x="181" y="1820"/>
                  </a:lnTo>
                  <a:lnTo>
                    <a:pt x="153" y="1851"/>
                  </a:lnTo>
                  <a:lnTo>
                    <a:pt x="122" y="1881"/>
                  </a:lnTo>
                  <a:lnTo>
                    <a:pt x="92" y="1909"/>
                  </a:lnTo>
                  <a:lnTo>
                    <a:pt x="62" y="1935"/>
                  </a:lnTo>
                  <a:lnTo>
                    <a:pt x="31" y="1962"/>
                  </a:lnTo>
                  <a:lnTo>
                    <a:pt x="0" y="1986"/>
                  </a:lnTo>
                  <a:lnTo>
                    <a:pt x="81" y="2067"/>
                  </a:lnTo>
                  <a:lnTo>
                    <a:pt x="112" y="2043"/>
                  </a:lnTo>
                  <a:lnTo>
                    <a:pt x="144" y="2017"/>
                  </a:lnTo>
                  <a:lnTo>
                    <a:pt x="173" y="1990"/>
                  </a:lnTo>
                  <a:lnTo>
                    <a:pt x="204" y="1963"/>
                  </a:lnTo>
                  <a:lnTo>
                    <a:pt x="234" y="1933"/>
                  </a:lnTo>
                  <a:lnTo>
                    <a:pt x="263" y="1902"/>
                  </a:lnTo>
                  <a:lnTo>
                    <a:pt x="293" y="1870"/>
                  </a:lnTo>
                  <a:lnTo>
                    <a:pt x="322" y="1838"/>
                  </a:lnTo>
                  <a:lnTo>
                    <a:pt x="350" y="1804"/>
                  </a:lnTo>
                  <a:lnTo>
                    <a:pt x="377" y="1770"/>
                  </a:lnTo>
                  <a:lnTo>
                    <a:pt x="405" y="1735"/>
                  </a:lnTo>
                  <a:lnTo>
                    <a:pt x="432" y="1698"/>
                  </a:lnTo>
                  <a:lnTo>
                    <a:pt x="460" y="1660"/>
                  </a:lnTo>
                  <a:lnTo>
                    <a:pt x="486" y="1623"/>
                  </a:lnTo>
                  <a:lnTo>
                    <a:pt x="511" y="1584"/>
                  </a:lnTo>
                  <a:lnTo>
                    <a:pt x="536" y="1545"/>
                  </a:lnTo>
                  <a:lnTo>
                    <a:pt x="561" y="1505"/>
                  </a:lnTo>
                  <a:lnTo>
                    <a:pt x="585" y="1465"/>
                  </a:lnTo>
                  <a:lnTo>
                    <a:pt x="609" y="1424"/>
                  </a:lnTo>
                  <a:lnTo>
                    <a:pt x="633" y="1384"/>
                  </a:lnTo>
                  <a:lnTo>
                    <a:pt x="677" y="1301"/>
                  </a:lnTo>
                  <a:lnTo>
                    <a:pt x="721" y="1218"/>
                  </a:lnTo>
                  <a:lnTo>
                    <a:pt x="762" y="1133"/>
                  </a:lnTo>
                  <a:lnTo>
                    <a:pt x="800" y="1050"/>
                  </a:lnTo>
                  <a:lnTo>
                    <a:pt x="836" y="967"/>
                  </a:lnTo>
                  <a:lnTo>
                    <a:pt x="870" y="885"/>
                  </a:lnTo>
                  <a:lnTo>
                    <a:pt x="901" y="804"/>
                  </a:lnTo>
                  <a:lnTo>
                    <a:pt x="930" y="725"/>
                  </a:lnTo>
                  <a:lnTo>
                    <a:pt x="955" y="648"/>
                  </a:lnTo>
                  <a:lnTo>
                    <a:pt x="979" y="575"/>
                  </a:lnTo>
                  <a:lnTo>
                    <a:pt x="1000" y="505"/>
                  </a:lnTo>
                  <a:lnTo>
                    <a:pt x="1017" y="439"/>
                  </a:lnTo>
                  <a:lnTo>
                    <a:pt x="1032" y="377"/>
                  </a:lnTo>
                  <a:lnTo>
                    <a:pt x="1044" y="319"/>
                  </a:lnTo>
                  <a:lnTo>
                    <a:pt x="1049" y="292"/>
                  </a:lnTo>
                  <a:lnTo>
                    <a:pt x="1052" y="266"/>
                  </a:lnTo>
                  <a:lnTo>
                    <a:pt x="1056" y="242"/>
                  </a:lnTo>
                  <a:lnTo>
                    <a:pt x="1058" y="219"/>
                  </a:lnTo>
                  <a:lnTo>
                    <a:pt x="1059" y="198"/>
                  </a:lnTo>
                  <a:lnTo>
                    <a:pt x="1060" y="178"/>
                  </a:lnTo>
                  <a:lnTo>
                    <a:pt x="1060" y="160"/>
                  </a:lnTo>
                  <a:lnTo>
                    <a:pt x="1059" y="144"/>
                  </a:lnTo>
                  <a:lnTo>
                    <a:pt x="1057" y="129"/>
                  </a:lnTo>
                  <a:lnTo>
                    <a:pt x="1055" y="116"/>
                  </a:lnTo>
                  <a:lnTo>
                    <a:pt x="1050" y="104"/>
                  </a:lnTo>
                  <a:lnTo>
                    <a:pt x="1044" y="92"/>
                  </a:lnTo>
                  <a:lnTo>
                    <a:pt x="1011" y="52"/>
                  </a:lnTo>
                  <a:lnTo>
                    <a:pt x="962" y="8"/>
                  </a:lnTo>
                  <a:lnTo>
                    <a:pt x="952" y="3"/>
                  </a:lnTo>
                  <a:lnTo>
                    <a:pt x="947" y="2"/>
                  </a:lnTo>
                  <a:lnTo>
                    <a:pt x="943" y="0"/>
                  </a:lnTo>
                  <a:lnTo>
                    <a:pt x="938" y="0"/>
                  </a:lnTo>
                  <a:lnTo>
                    <a:pt x="1019" y="83"/>
                  </a:lnTo>
                  <a:lnTo>
                    <a:pt x="938" y="0"/>
                  </a:lnTo>
                  <a:lnTo>
                    <a:pt x="914" y="70"/>
                  </a:lnTo>
                  <a:lnTo>
                    <a:pt x="1019" y="83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5483160" y="3852720"/>
              <a:ext cx="327240" cy="658800"/>
            </a:xfrm>
            <a:custGeom>
              <a:avLst/>
              <a:gdLst/>
              <a:ahLst/>
              <a:rect l="l" t="t" r="r" b="b"/>
              <a:pathLst>
                <a:path w="1031" h="2073">
                  <a:moveTo>
                    <a:pt x="7" y="1986"/>
                  </a:moveTo>
                  <a:lnTo>
                    <a:pt x="88" y="2068"/>
                  </a:lnTo>
                  <a:lnTo>
                    <a:pt x="98" y="2064"/>
                  </a:lnTo>
                  <a:lnTo>
                    <a:pt x="110" y="2057"/>
                  </a:lnTo>
                  <a:lnTo>
                    <a:pt x="121" y="2048"/>
                  </a:lnTo>
                  <a:lnTo>
                    <a:pt x="135" y="2037"/>
                  </a:lnTo>
                  <a:lnTo>
                    <a:pt x="148" y="2023"/>
                  </a:lnTo>
                  <a:lnTo>
                    <a:pt x="162" y="2007"/>
                  </a:lnTo>
                  <a:lnTo>
                    <a:pt x="177" y="1989"/>
                  </a:lnTo>
                  <a:lnTo>
                    <a:pt x="192" y="1967"/>
                  </a:lnTo>
                  <a:lnTo>
                    <a:pt x="208" y="1944"/>
                  </a:lnTo>
                  <a:lnTo>
                    <a:pt x="225" y="1919"/>
                  </a:lnTo>
                  <a:lnTo>
                    <a:pt x="242" y="1893"/>
                  </a:lnTo>
                  <a:lnTo>
                    <a:pt x="259" y="1865"/>
                  </a:lnTo>
                  <a:lnTo>
                    <a:pt x="296" y="1802"/>
                  </a:lnTo>
                  <a:lnTo>
                    <a:pt x="334" y="1733"/>
                  </a:lnTo>
                  <a:lnTo>
                    <a:pt x="373" y="1658"/>
                  </a:lnTo>
                  <a:lnTo>
                    <a:pt x="413" y="1579"/>
                  </a:lnTo>
                  <a:lnTo>
                    <a:pt x="454" y="1496"/>
                  </a:lnTo>
                  <a:lnTo>
                    <a:pt x="496" y="1409"/>
                  </a:lnTo>
                  <a:lnTo>
                    <a:pt x="537" y="1320"/>
                  </a:lnTo>
                  <a:lnTo>
                    <a:pt x="579" y="1229"/>
                  </a:lnTo>
                  <a:lnTo>
                    <a:pt x="620" y="1137"/>
                  </a:lnTo>
                  <a:lnTo>
                    <a:pt x="661" y="1043"/>
                  </a:lnTo>
                  <a:lnTo>
                    <a:pt x="741" y="859"/>
                  </a:lnTo>
                  <a:lnTo>
                    <a:pt x="814" y="682"/>
                  </a:lnTo>
                  <a:lnTo>
                    <a:pt x="880" y="517"/>
                  </a:lnTo>
                  <a:lnTo>
                    <a:pt x="937" y="370"/>
                  </a:lnTo>
                  <a:lnTo>
                    <a:pt x="961" y="305"/>
                  </a:lnTo>
                  <a:lnTo>
                    <a:pt x="983" y="247"/>
                  </a:lnTo>
                  <a:lnTo>
                    <a:pt x="1000" y="197"/>
                  </a:lnTo>
                  <a:lnTo>
                    <a:pt x="1014" y="154"/>
                  </a:lnTo>
                  <a:lnTo>
                    <a:pt x="1024" y="121"/>
                  </a:lnTo>
                  <a:lnTo>
                    <a:pt x="1030" y="97"/>
                  </a:lnTo>
                  <a:lnTo>
                    <a:pt x="1031" y="89"/>
                  </a:lnTo>
                  <a:lnTo>
                    <a:pt x="1031" y="84"/>
                  </a:lnTo>
                  <a:lnTo>
                    <a:pt x="1030" y="79"/>
                  </a:lnTo>
                  <a:lnTo>
                    <a:pt x="956" y="4"/>
                  </a:lnTo>
                  <a:lnTo>
                    <a:pt x="946" y="0"/>
                  </a:lnTo>
                  <a:lnTo>
                    <a:pt x="945" y="0"/>
                  </a:lnTo>
                  <a:lnTo>
                    <a:pt x="1026" y="83"/>
                  </a:lnTo>
                  <a:lnTo>
                    <a:pt x="1027" y="83"/>
                  </a:lnTo>
                  <a:lnTo>
                    <a:pt x="1021" y="79"/>
                  </a:lnTo>
                  <a:lnTo>
                    <a:pt x="949" y="5"/>
                  </a:lnTo>
                  <a:lnTo>
                    <a:pt x="949" y="4"/>
                  </a:lnTo>
                  <a:lnTo>
                    <a:pt x="949" y="10"/>
                  </a:lnTo>
                  <a:lnTo>
                    <a:pt x="948" y="16"/>
                  </a:lnTo>
                  <a:lnTo>
                    <a:pt x="942" y="40"/>
                  </a:lnTo>
                  <a:lnTo>
                    <a:pt x="932" y="73"/>
                  </a:lnTo>
                  <a:lnTo>
                    <a:pt x="918" y="116"/>
                  </a:lnTo>
                  <a:lnTo>
                    <a:pt x="901" y="166"/>
                  </a:lnTo>
                  <a:lnTo>
                    <a:pt x="879" y="224"/>
                  </a:lnTo>
                  <a:lnTo>
                    <a:pt x="855" y="289"/>
                  </a:lnTo>
                  <a:lnTo>
                    <a:pt x="798" y="435"/>
                  </a:lnTo>
                  <a:lnTo>
                    <a:pt x="732" y="601"/>
                  </a:lnTo>
                  <a:lnTo>
                    <a:pt x="659" y="778"/>
                  </a:lnTo>
                  <a:lnTo>
                    <a:pt x="579" y="962"/>
                  </a:lnTo>
                  <a:lnTo>
                    <a:pt x="538" y="1056"/>
                  </a:lnTo>
                  <a:lnTo>
                    <a:pt x="497" y="1148"/>
                  </a:lnTo>
                  <a:lnTo>
                    <a:pt x="455" y="1239"/>
                  </a:lnTo>
                  <a:lnTo>
                    <a:pt x="414" y="1328"/>
                  </a:lnTo>
                  <a:lnTo>
                    <a:pt x="372" y="1415"/>
                  </a:lnTo>
                  <a:lnTo>
                    <a:pt x="331" y="1498"/>
                  </a:lnTo>
                  <a:lnTo>
                    <a:pt x="291" y="1577"/>
                  </a:lnTo>
                  <a:lnTo>
                    <a:pt x="252" y="1651"/>
                  </a:lnTo>
                  <a:lnTo>
                    <a:pt x="213" y="1721"/>
                  </a:lnTo>
                  <a:lnTo>
                    <a:pt x="177" y="1782"/>
                  </a:lnTo>
                  <a:lnTo>
                    <a:pt x="160" y="1812"/>
                  </a:lnTo>
                  <a:lnTo>
                    <a:pt x="143" y="1838"/>
                  </a:lnTo>
                  <a:lnTo>
                    <a:pt x="127" y="1863"/>
                  </a:lnTo>
                  <a:lnTo>
                    <a:pt x="111" y="1886"/>
                  </a:lnTo>
                  <a:lnTo>
                    <a:pt x="95" y="1907"/>
                  </a:lnTo>
                  <a:lnTo>
                    <a:pt x="80" y="1925"/>
                  </a:lnTo>
                  <a:lnTo>
                    <a:pt x="66" y="1941"/>
                  </a:lnTo>
                  <a:lnTo>
                    <a:pt x="53" y="1956"/>
                  </a:lnTo>
                  <a:lnTo>
                    <a:pt x="40" y="1967"/>
                  </a:lnTo>
                  <a:lnTo>
                    <a:pt x="29" y="1975"/>
                  </a:lnTo>
                  <a:lnTo>
                    <a:pt x="17" y="1982"/>
                  </a:lnTo>
                  <a:lnTo>
                    <a:pt x="7" y="1984"/>
                  </a:lnTo>
                  <a:lnTo>
                    <a:pt x="88" y="2067"/>
                  </a:lnTo>
                  <a:lnTo>
                    <a:pt x="7" y="1986"/>
                  </a:lnTo>
                  <a:lnTo>
                    <a:pt x="0" y="2073"/>
                  </a:lnTo>
                  <a:lnTo>
                    <a:pt x="88" y="2068"/>
                  </a:lnTo>
                  <a:lnTo>
                    <a:pt x="7" y="198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5854680" y="3772080"/>
              <a:ext cx="282600" cy="642600"/>
            </a:xfrm>
            <a:custGeom>
              <a:avLst/>
              <a:gdLst/>
              <a:ahLst/>
              <a:rect l="l" t="t" r="r" b="b"/>
              <a:pathLst>
                <a:path w="888" h="2027">
                  <a:moveTo>
                    <a:pt x="0" y="2027"/>
                  </a:moveTo>
                  <a:lnTo>
                    <a:pt x="59" y="1975"/>
                  </a:lnTo>
                  <a:lnTo>
                    <a:pt x="118" y="1918"/>
                  </a:lnTo>
                  <a:lnTo>
                    <a:pt x="175" y="1855"/>
                  </a:lnTo>
                  <a:lnTo>
                    <a:pt x="229" y="1788"/>
                  </a:lnTo>
                  <a:lnTo>
                    <a:pt x="282" y="1717"/>
                  </a:lnTo>
                  <a:lnTo>
                    <a:pt x="333" y="1643"/>
                  </a:lnTo>
                  <a:lnTo>
                    <a:pt x="382" y="1565"/>
                  </a:lnTo>
                  <a:lnTo>
                    <a:pt x="430" y="1485"/>
                  </a:lnTo>
                  <a:lnTo>
                    <a:pt x="474" y="1403"/>
                  </a:lnTo>
                  <a:lnTo>
                    <a:pt x="518" y="1319"/>
                  </a:lnTo>
                  <a:lnTo>
                    <a:pt x="559" y="1234"/>
                  </a:lnTo>
                  <a:lnTo>
                    <a:pt x="598" y="1149"/>
                  </a:lnTo>
                  <a:lnTo>
                    <a:pt x="635" y="1063"/>
                  </a:lnTo>
                  <a:lnTo>
                    <a:pt x="669" y="978"/>
                  </a:lnTo>
                  <a:lnTo>
                    <a:pt x="701" y="893"/>
                  </a:lnTo>
                  <a:lnTo>
                    <a:pt x="731" y="809"/>
                  </a:lnTo>
                  <a:lnTo>
                    <a:pt x="758" y="727"/>
                  </a:lnTo>
                  <a:lnTo>
                    <a:pt x="783" y="647"/>
                  </a:lnTo>
                  <a:lnTo>
                    <a:pt x="806" y="569"/>
                  </a:lnTo>
                  <a:lnTo>
                    <a:pt x="826" y="495"/>
                  </a:lnTo>
                  <a:lnTo>
                    <a:pt x="843" y="424"/>
                  </a:lnTo>
                  <a:lnTo>
                    <a:pt x="857" y="357"/>
                  </a:lnTo>
                  <a:lnTo>
                    <a:pt x="869" y="294"/>
                  </a:lnTo>
                  <a:lnTo>
                    <a:pt x="878" y="236"/>
                  </a:lnTo>
                  <a:lnTo>
                    <a:pt x="885" y="184"/>
                  </a:lnTo>
                  <a:lnTo>
                    <a:pt x="887" y="136"/>
                  </a:lnTo>
                  <a:lnTo>
                    <a:pt x="888" y="96"/>
                  </a:lnTo>
                  <a:lnTo>
                    <a:pt x="886" y="60"/>
                  </a:lnTo>
                  <a:lnTo>
                    <a:pt x="880" y="34"/>
                  </a:lnTo>
                  <a:lnTo>
                    <a:pt x="871" y="15"/>
                  </a:lnTo>
                  <a:lnTo>
                    <a:pt x="859" y="2"/>
                  </a:lnTo>
                  <a:lnTo>
                    <a:pt x="844" y="0"/>
                  </a:lnTo>
                  <a:lnTo>
                    <a:pt x="847" y="2"/>
                  </a:lnTo>
                  <a:lnTo>
                    <a:pt x="847" y="16"/>
                  </a:lnTo>
                  <a:lnTo>
                    <a:pt x="843" y="40"/>
                  </a:lnTo>
                  <a:lnTo>
                    <a:pt x="835" y="74"/>
                  </a:lnTo>
                  <a:lnTo>
                    <a:pt x="822" y="116"/>
                  </a:lnTo>
                  <a:lnTo>
                    <a:pt x="807" y="168"/>
                  </a:lnTo>
                  <a:lnTo>
                    <a:pt x="789" y="227"/>
                  </a:lnTo>
                  <a:lnTo>
                    <a:pt x="769" y="293"/>
                  </a:lnTo>
                  <a:lnTo>
                    <a:pt x="718" y="443"/>
                  </a:lnTo>
                  <a:lnTo>
                    <a:pt x="659" y="610"/>
                  </a:lnTo>
                  <a:lnTo>
                    <a:pt x="627" y="699"/>
                  </a:lnTo>
                  <a:lnTo>
                    <a:pt x="594" y="792"/>
                  </a:lnTo>
                  <a:lnTo>
                    <a:pt x="560" y="885"/>
                  </a:lnTo>
                  <a:lnTo>
                    <a:pt x="525" y="979"/>
                  </a:lnTo>
                  <a:lnTo>
                    <a:pt x="487" y="1075"/>
                  </a:lnTo>
                  <a:lnTo>
                    <a:pt x="450" y="1168"/>
                  </a:lnTo>
                  <a:lnTo>
                    <a:pt x="413" y="1262"/>
                  </a:lnTo>
                  <a:lnTo>
                    <a:pt x="375" y="1353"/>
                  </a:lnTo>
                  <a:lnTo>
                    <a:pt x="338" y="1441"/>
                  </a:lnTo>
                  <a:lnTo>
                    <a:pt x="301" y="1526"/>
                  </a:lnTo>
                  <a:lnTo>
                    <a:pt x="265" y="1607"/>
                  </a:lnTo>
                  <a:lnTo>
                    <a:pt x="229" y="1683"/>
                  </a:lnTo>
                  <a:lnTo>
                    <a:pt x="194" y="1753"/>
                  </a:lnTo>
                  <a:lnTo>
                    <a:pt x="161" y="1817"/>
                  </a:lnTo>
                  <a:lnTo>
                    <a:pt x="129" y="1874"/>
                  </a:lnTo>
                  <a:lnTo>
                    <a:pt x="98" y="1923"/>
                  </a:lnTo>
                  <a:lnTo>
                    <a:pt x="71" y="1964"/>
                  </a:lnTo>
                  <a:lnTo>
                    <a:pt x="45" y="1995"/>
                  </a:lnTo>
                  <a:lnTo>
                    <a:pt x="21" y="2017"/>
                  </a:lnTo>
                  <a:lnTo>
                    <a:pt x="0" y="20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5842080" y="3759120"/>
              <a:ext cx="307800" cy="669960"/>
            </a:xfrm>
            <a:custGeom>
              <a:avLst/>
              <a:gdLst/>
              <a:ahLst/>
              <a:rect l="l" t="t" r="r" b="b"/>
              <a:pathLst>
                <a:path w="970" h="2109">
                  <a:moveTo>
                    <a:pt x="845" y="0"/>
                  </a:moveTo>
                  <a:lnTo>
                    <a:pt x="925" y="82"/>
                  </a:lnTo>
                  <a:lnTo>
                    <a:pt x="933" y="82"/>
                  </a:lnTo>
                  <a:lnTo>
                    <a:pt x="936" y="83"/>
                  </a:lnTo>
                  <a:lnTo>
                    <a:pt x="906" y="59"/>
                  </a:lnTo>
                  <a:lnTo>
                    <a:pt x="875" y="23"/>
                  </a:lnTo>
                  <a:lnTo>
                    <a:pt x="877" y="26"/>
                  </a:lnTo>
                  <a:lnTo>
                    <a:pt x="880" y="36"/>
                  </a:lnTo>
                  <a:lnTo>
                    <a:pt x="882" y="48"/>
                  </a:lnTo>
                  <a:lnTo>
                    <a:pt x="886" y="63"/>
                  </a:lnTo>
                  <a:lnTo>
                    <a:pt x="887" y="78"/>
                  </a:lnTo>
                  <a:lnTo>
                    <a:pt x="888" y="97"/>
                  </a:lnTo>
                  <a:lnTo>
                    <a:pt x="888" y="116"/>
                  </a:lnTo>
                  <a:lnTo>
                    <a:pt x="887" y="137"/>
                  </a:lnTo>
                  <a:lnTo>
                    <a:pt x="886" y="159"/>
                  </a:lnTo>
                  <a:lnTo>
                    <a:pt x="885" y="183"/>
                  </a:lnTo>
                  <a:lnTo>
                    <a:pt x="881" y="210"/>
                  </a:lnTo>
                  <a:lnTo>
                    <a:pt x="878" y="236"/>
                  </a:lnTo>
                  <a:lnTo>
                    <a:pt x="869" y="294"/>
                  </a:lnTo>
                  <a:lnTo>
                    <a:pt x="857" y="357"/>
                  </a:lnTo>
                  <a:lnTo>
                    <a:pt x="843" y="424"/>
                  </a:lnTo>
                  <a:lnTo>
                    <a:pt x="825" y="496"/>
                  </a:lnTo>
                  <a:lnTo>
                    <a:pt x="806" y="570"/>
                  </a:lnTo>
                  <a:lnTo>
                    <a:pt x="783" y="648"/>
                  </a:lnTo>
                  <a:lnTo>
                    <a:pt x="758" y="728"/>
                  </a:lnTo>
                  <a:lnTo>
                    <a:pt x="731" y="810"/>
                  </a:lnTo>
                  <a:lnTo>
                    <a:pt x="701" y="893"/>
                  </a:lnTo>
                  <a:lnTo>
                    <a:pt x="669" y="978"/>
                  </a:lnTo>
                  <a:lnTo>
                    <a:pt x="635" y="1063"/>
                  </a:lnTo>
                  <a:lnTo>
                    <a:pt x="597" y="1150"/>
                  </a:lnTo>
                  <a:lnTo>
                    <a:pt x="559" y="1235"/>
                  </a:lnTo>
                  <a:lnTo>
                    <a:pt x="518" y="1320"/>
                  </a:lnTo>
                  <a:lnTo>
                    <a:pt x="496" y="1362"/>
                  </a:lnTo>
                  <a:lnTo>
                    <a:pt x="474" y="1403"/>
                  </a:lnTo>
                  <a:lnTo>
                    <a:pt x="453" y="1444"/>
                  </a:lnTo>
                  <a:lnTo>
                    <a:pt x="430" y="1485"/>
                  </a:lnTo>
                  <a:lnTo>
                    <a:pt x="406" y="1525"/>
                  </a:lnTo>
                  <a:lnTo>
                    <a:pt x="382" y="1565"/>
                  </a:lnTo>
                  <a:lnTo>
                    <a:pt x="358" y="1604"/>
                  </a:lnTo>
                  <a:lnTo>
                    <a:pt x="333" y="1643"/>
                  </a:lnTo>
                  <a:lnTo>
                    <a:pt x="308" y="1680"/>
                  </a:lnTo>
                  <a:lnTo>
                    <a:pt x="282" y="1717"/>
                  </a:lnTo>
                  <a:lnTo>
                    <a:pt x="255" y="1753"/>
                  </a:lnTo>
                  <a:lnTo>
                    <a:pt x="229" y="1788"/>
                  </a:lnTo>
                  <a:lnTo>
                    <a:pt x="202" y="1822"/>
                  </a:lnTo>
                  <a:lnTo>
                    <a:pt x="175" y="1855"/>
                  </a:lnTo>
                  <a:lnTo>
                    <a:pt x="146" y="1887"/>
                  </a:lnTo>
                  <a:lnTo>
                    <a:pt x="118" y="1918"/>
                  </a:lnTo>
                  <a:lnTo>
                    <a:pt x="89" y="1947"/>
                  </a:lnTo>
                  <a:lnTo>
                    <a:pt x="59" y="1975"/>
                  </a:lnTo>
                  <a:lnTo>
                    <a:pt x="30" y="2002"/>
                  </a:lnTo>
                  <a:lnTo>
                    <a:pt x="0" y="2028"/>
                  </a:lnTo>
                  <a:lnTo>
                    <a:pt x="81" y="2109"/>
                  </a:lnTo>
                  <a:lnTo>
                    <a:pt x="112" y="2084"/>
                  </a:lnTo>
                  <a:lnTo>
                    <a:pt x="141" y="2057"/>
                  </a:lnTo>
                  <a:lnTo>
                    <a:pt x="171" y="2028"/>
                  </a:lnTo>
                  <a:lnTo>
                    <a:pt x="200" y="2000"/>
                  </a:lnTo>
                  <a:lnTo>
                    <a:pt x="228" y="1968"/>
                  </a:lnTo>
                  <a:lnTo>
                    <a:pt x="255" y="1936"/>
                  </a:lnTo>
                  <a:lnTo>
                    <a:pt x="284" y="1903"/>
                  </a:lnTo>
                  <a:lnTo>
                    <a:pt x="310" y="1870"/>
                  </a:lnTo>
                  <a:lnTo>
                    <a:pt x="338" y="1834"/>
                  </a:lnTo>
                  <a:lnTo>
                    <a:pt x="364" y="1798"/>
                  </a:lnTo>
                  <a:lnTo>
                    <a:pt x="389" y="1761"/>
                  </a:lnTo>
                  <a:lnTo>
                    <a:pt x="415" y="1724"/>
                  </a:lnTo>
                  <a:lnTo>
                    <a:pt x="439" y="1686"/>
                  </a:lnTo>
                  <a:lnTo>
                    <a:pt x="464" y="1646"/>
                  </a:lnTo>
                  <a:lnTo>
                    <a:pt x="488" y="1606"/>
                  </a:lnTo>
                  <a:lnTo>
                    <a:pt x="511" y="1566"/>
                  </a:lnTo>
                  <a:lnTo>
                    <a:pt x="534" y="1525"/>
                  </a:lnTo>
                  <a:lnTo>
                    <a:pt x="556" y="1484"/>
                  </a:lnTo>
                  <a:lnTo>
                    <a:pt x="578" y="1443"/>
                  </a:lnTo>
                  <a:lnTo>
                    <a:pt x="600" y="1401"/>
                  </a:lnTo>
                  <a:lnTo>
                    <a:pt x="641" y="1316"/>
                  </a:lnTo>
                  <a:lnTo>
                    <a:pt x="680" y="1231"/>
                  </a:lnTo>
                  <a:lnTo>
                    <a:pt x="717" y="1145"/>
                  </a:lnTo>
                  <a:lnTo>
                    <a:pt x="751" y="1060"/>
                  </a:lnTo>
                  <a:lnTo>
                    <a:pt x="783" y="974"/>
                  </a:lnTo>
                  <a:lnTo>
                    <a:pt x="813" y="891"/>
                  </a:lnTo>
                  <a:lnTo>
                    <a:pt x="840" y="809"/>
                  </a:lnTo>
                  <a:lnTo>
                    <a:pt x="865" y="729"/>
                  </a:lnTo>
                  <a:lnTo>
                    <a:pt x="888" y="651"/>
                  </a:lnTo>
                  <a:lnTo>
                    <a:pt x="908" y="576"/>
                  </a:lnTo>
                  <a:lnTo>
                    <a:pt x="925" y="505"/>
                  </a:lnTo>
                  <a:lnTo>
                    <a:pt x="939" y="438"/>
                  </a:lnTo>
                  <a:lnTo>
                    <a:pt x="951" y="375"/>
                  </a:lnTo>
                  <a:lnTo>
                    <a:pt x="960" y="317"/>
                  </a:lnTo>
                  <a:lnTo>
                    <a:pt x="963" y="290"/>
                  </a:lnTo>
                  <a:lnTo>
                    <a:pt x="967" y="264"/>
                  </a:lnTo>
                  <a:lnTo>
                    <a:pt x="968" y="239"/>
                  </a:lnTo>
                  <a:lnTo>
                    <a:pt x="970" y="217"/>
                  </a:lnTo>
                  <a:lnTo>
                    <a:pt x="970" y="196"/>
                  </a:lnTo>
                  <a:lnTo>
                    <a:pt x="970" y="175"/>
                  </a:lnTo>
                  <a:lnTo>
                    <a:pt x="969" y="158"/>
                  </a:lnTo>
                  <a:lnTo>
                    <a:pt x="968" y="141"/>
                  </a:lnTo>
                  <a:lnTo>
                    <a:pt x="965" y="126"/>
                  </a:lnTo>
                  <a:lnTo>
                    <a:pt x="961" y="114"/>
                  </a:lnTo>
                  <a:lnTo>
                    <a:pt x="958" y="101"/>
                  </a:lnTo>
                  <a:lnTo>
                    <a:pt x="950" y="88"/>
                  </a:lnTo>
                  <a:lnTo>
                    <a:pt x="906" y="39"/>
                  </a:lnTo>
                  <a:lnTo>
                    <a:pt x="864" y="4"/>
                  </a:lnTo>
                  <a:lnTo>
                    <a:pt x="854" y="0"/>
                  </a:lnTo>
                  <a:lnTo>
                    <a:pt x="845" y="0"/>
                  </a:lnTo>
                  <a:lnTo>
                    <a:pt x="926" y="82"/>
                  </a:lnTo>
                  <a:lnTo>
                    <a:pt x="845" y="0"/>
                  </a:lnTo>
                  <a:lnTo>
                    <a:pt x="829" y="61"/>
                  </a:lnTo>
                  <a:lnTo>
                    <a:pt x="925" y="82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5842080" y="3759120"/>
              <a:ext cx="295200" cy="669960"/>
            </a:xfrm>
            <a:custGeom>
              <a:avLst/>
              <a:gdLst/>
              <a:ahLst/>
              <a:rect l="l" t="t" r="r" b="b"/>
              <a:pathLst>
                <a:path w="931" h="2111">
                  <a:moveTo>
                    <a:pt x="1" y="2029"/>
                  </a:moveTo>
                  <a:lnTo>
                    <a:pt x="82" y="2110"/>
                  </a:lnTo>
                  <a:lnTo>
                    <a:pt x="92" y="2107"/>
                  </a:lnTo>
                  <a:lnTo>
                    <a:pt x="104" y="2100"/>
                  </a:lnTo>
                  <a:lnTo>
                    <a:pt x="115" y="2091"/>
                  </a:lnTo>
                  <a:lnTo>
                    <a:pt x="128" y="2078"/>
                  </a:lnTo>
                  <a:lnTo>
                    <a:pt x="140" y="2065"/>
                  </a:lnTo>
                  <a:lnTo>
                    <a:pt x="153" y="2048"/>
                  </a:lnTo>
                  <a:lnTo>
                    <a:pt x="168" y="2028"/>
                  </a:lnTo>
                  <a:lnTo>
                    <a:pt x="181" y="2006"/>
                  </a:lnTo>
                  <a:lnTo>
                    <a:pt x="196" y="1982"/>
                  </a:lnTo>
                  <a:lnTo>
                    <a:pt x="212" y="1957"/>
                  </a:lnTo>
                  <a:lnTo>
                    <a:pt x="228" y="1930"/>
                  </a:lnTo>
                  <a:lnTo>
                    <a:pt x="244" y="1900"/>
                  </a:lnTo>
                  <a:lnTo>
                    <a:pt x="277" y="1836"/>
                  </a:lnTo>
                  <a:lnTo>
                    <a:pt x="312" y="1766"/>
                  </a:lnTo>
                  <a:lnTo>
                    <a:pt x="348" y="1689"/>
                  </a:lnTo>
                  <a:lnTo>
                    <a:pt x="384" y="1608"/>
                  </a:lnTo>
                  <a:lnTo>
                    <a:pt x="421" y="1524"/>
                  </a:lnTo>
                  <a:lnTo>
                    <a:pt x="458" y="1435"/>
                  </a:lnTo>
                  <a:lnTo>
                    <a:pt x="496" y="1344"/>
                  </a:lnTo>
                  <a:lnTo>
                    <a:pt x="534" y="1251"/>
                  </a:lnTo>
                  <a:lnTo>
                    <a:pt x="570" y="1156"/>
                  </a:lnTo>
                  <a:lnTo>
                    <a:pt x="608" y="1062"/>
                  </a:lnTo>
                  <a:lnTo>
                    <a:pt x="643" y="967"/>
                  </a:lnTo>
                  <a:lnTo>
                    <a:pt x="677" y="874"/>
                  </a:lnTo>
                  <a:lnTo>
                    <a:pt x="710" y="782"/>
                  </a:lnTo>
                  <a:lnTo>
                    <a:pt x="743" y="693"/>
                  </a:lnTo>
                  <a:lnTo>
                    <a:pt x="801" y="524"/>
                  </a:lnTo>
                  <a:lnTo>
                    <a:pt x="852" y="375"/>
                  </a:lnTo>
                  <a:lnTo>
                    <a:pt x="872" y="310"/>
                  </a:lnTo>
                  <a:lnTo>
                    <a:pt x="890" y="251"/>
                  </a:lnTo>
                  <a:lnTo>
                    <a:pt x="905" y="199"/>
                  </a:lnTo>
                  <a:lnTo>
                    <a:pt x="918" y="156"/>
                  </a:lnTo>
                  <a:lnTo>
                    <a:pt x="926" y="122"/>
                  </a:lnTo>
                  <a:lnTo>
                    <a:pt x="930" y="98"/>
                  </a:lnTo>
                  <a:lnTo>
                    <a:pt x="931" y="90"/>
                  </a:lnTo>
                  <a:lnTo>
                    <a:pt x="931" y="84"/>
                  </a:lnTo>
                  <a:lnTo>
                    <a:pt x="929" y="79"/>
                  </a:lnTo>
                  <a:lnTo>
                    <a:pt x="856" y="4"/>
                  </a:lnTo>
                  <a:lnTo>
                    <a:pt x="847" y="0"/>
                  </a:lnTo>
                  <a:lnTo>
                    <a:pt x="846" y="1"/>
                  </a:lnTo>
                  <a:lnTo>
                    <a:pt x="927" y="83"/>
                  </a:lnTo>
                  <a:lnTo>
                    <a:pt x="928" y="82"/>
                  </a:lnTo>
                  <a:lnTo>
                    <a:pt x="920" y="78"/>
                  </a:lnTo>
                  <a:lnTo>
                    <a:pt x="849" y="5"/>
                  </a:lnTo>
                  <a:lnTo>
                    <a:pt x="848" y="4"/>
                  </a:lnTo>
                  <a:lnTo>
                    <a:pt x="848" y="9"/>
                  </a:lnTo>
                  <a:lnTo>
                    <a:pt x="848" y="17"/>
                  </a:lnTo>
                  <a:lnTo>
                    <a:pt x="844" y="41"/>
                  </a:lnTo>
                  <a:lnTo>
                    <a:pt x="836" y="75"/>
                  </a:lnTo>
                  <a:lnTo>
                    <a:pt x="823" y="118"/>
                  </a:lnTo>
                  <a:lnTo>
                    <a:pt x="808" y="170"/>
                  </a:lnTo>
                  <a:lnTo>
                    <a:pt x="790" y="229"/>
                  </a:lnTo>
                  <a:lnTo>
                    <a:pt x="768" y="294"/>
                  </a:lnTo>
                  <a:lnTo>
                    <a:pt x="719" y="443"/>
                  </a:lnTo>
                  <a:lnTo>
                    <a:pt x="660" y="612"/>
                  </a:lnTo>
                  <a:lnTo>
                    <a:pt x="628" y="701"/>
                  </a:lnTo>
                  <a:lnTo>
                    <a:pt x="595" y="793"/>
                  </a:lnTo>
                  <a:lnTo>
                    <a:pt x="561" y="886"/>
                  </a:lnTo>
                  <a:lnTo>
                    <a:pt x="524" y="981"/>
                  </a:lnTo>
                  <a:lnTo>
                    <a:pt x="488" y="1075"/>
                  </a:lnTo>
                  <a:lnTo>
                    <a:pt x="451" y="1170"/>
                  </a:lnTo>
                  <a:lnTo>
                    <a:pt x="414" y="1263"/>
                  </a:lnTo>
                  <a:lnTo>
                    <a:pt x="376" y="1354"/>
                  </a:lnTo>
                  <a:lnTo>
                    <a:pt x="339" y="1443"/>
                  </a:lnTo>
                  <a:lnTo>
                    <a:pt x="302" y="1527"/>
                  </a:lnTo>
                  <a:lnTo>
                    <a:pt x="266" y="1608"/>
                  </a:lnTo>
                  <a:lnTo>
                    <a:pt x="230" y="1685"/>
                  </a:lnTo>
                  <a:lnTo>
                    <a:pt x="195" y="1754"/>
                  </a:lnTo>
                  <a:lnTo>
                    <a:pt x="162" y="1819"/>
                  </a:lnTo>
                  <a:lnTo>
                    <a:pt x="146" y="1848"/>
                  </a:lnTo>
                  <a:lnTo>
                    <a:pt x="130" y="1876"/>
                  </a:lnTo>
                  <a:lnTo>
                    <a:pt x="115" y="1901"/>
                  </a:lnTo>
                  <a:lnTo>
                    <a:pt x="100" y="1925"/>
                  </a:lnTo>
                  <a:lnTo>
                    <a:pt x="85" y="1946"/>
                  </a:lnTo>
                  <a:lnTo>
                    <a:pt x="72" y="1965"/>
                  </a:lnTo>
                  <a:lnTo>
                    <a:pt x="58" y="1982"/>
                  </a:lnTo>
                  <a:lnTo>
                    <a:pt x="46" y="1997"/>
                  </a:lnTo>
                  <a:lnTo>
                    <a:pt x="33" y="2009"/>
                  </a:lnTo>
                  <a:lnTo>
                    <a:pt x="22" y="2018"/>
                  </a:lnTo>
                  <a:lnTo>
                    <a:pt x="11" y="2025"/>
                  </a:lnTo>
                  <a:lnTo>
                    <a:pt x="1" y="2028"/>
                  </a:lnTo>
                  <a:lnTo>
                    <a:pt x="82" y="2110"/>
                  </a:lnTo>
                  <a:lnTo>
                    <a:pt x="1" y="2029"/>
                  </a:lnTo>
                  <a:lnTo>
                    <a:pt x="0" y="2111"/>
                  </a:lnTo>
                  <a:lnTo>
                    <a:pt x="82" y="2110"/>
                  </a:lnTo>
                  <a:lnTo>
                    <a:pt x="1" y="202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6203880" y="3699000"/>
              <a:ext cx="273240" cy="738000"/>
            </a:xfrm>
            <a:custGeom>
              <a:avLst/>
              <a:gdLst/>
              <a:ahLst/>
              <a:rect l="l" t="t" r="r" b="b"/>
              <a:pathLst>
                <a:path w="862" h="2322">
                  <a:moveTo>
                    <a:pt x="0" y="2322"/>
                  </a:moveTo>
                  <a:lnTo>
                    <a:pt x="63" y="2258"/>
                  </a:lnTo>
                  <a:lnTo>
                    <a:pt x="125" y="2190"/>
                  </a:lnTo>
                  <a:lnTo>
                    <a:pt x="183" y="2116"/>
                  </a:lnTo>
                  <a:lnTo>
                    <a:pt x="240" y="2037"/>
                  </a:lnTo>
                  <a:lnTo>
                    <a:pt x="294" y="1954"/>
                  </a:lnTo>
                  <a:lnTo>
                    <a:pt x="346" y="1867"/>
                  </a:lnTo>
                  <a:lnTo>
                    <a:pt x="396" y="1778"/>
                  </a:lnTo>
                  <a:lnTo>
                    <a:pt x="444" y="1685"/>
                  </a:lnTo>
                  <a:lnTo>
                    <a:pt x="488" y="1590"/>
                  </a:lnTo>
                  <a:lnTo>
                    <a:pt x="530" y="1494"/>
                  </a:lnTo>
                  <a:lnTo>
                    <a:pt x="571" y="1396"/>
                  </a:lnTo>
                  <a:lnTo>
                    <a:pt x="609" y="1298"/>
                  </a:lnTo>
                  <a:lnTo>
                    <a:pt x="644" y="1200"/>
                  </a:lnTo>
                  <a:lnTo>
                    <a:pt x="676" y="1102"/>
                  </a:lnTo>
                  <a:lnTo>
                    <a:pt x="707" y="1006"/>
                  </a:lnTo>
                  <a:lnTo>
                    <a:pt x="734" y="910"/>
                  </a:lnTo>
                  <a:lnTo>
                    <a:pt x="760" y="816"/>
                  </a:lnTo>
                  <a:lnTo>
                    <a:pt x="781" y="725"/>
                  </a:lnTo>
                  <a:lnTo>
                    <a:pt x="801" y="637"/>
                  </a:lnTo>
                  <a:lnTo>
                    <a:pt x="818" y="553"/>
                  </a:lnTo>
                  <a:lnTo>
                    <a:pt x="832" y="472"/>
                  </a:lnTo>
                  <a:lnTo>
                    <a:pt x="844" y="397"/>
                  </a:lnTo>
                  <a:lnTo>
                    <a:pt x="853" y="326"/>
                  </a:lnTo>
                  <a:lnTo>
                    <a:pt x="859" y="260"/>
                  </a:lnTo>
                  <a:lnTo>
                    <a:pt x="862" y="200"/>
                  </a:lnTo>
                  <a:lnTo>
                    <a:pt x="862" y="148"/>
                  </a:lnTo>
                  <a:lnTo>
                    <a:pt x="860" y="102"/>
                  </a:lnTo>
                  <a:lnTo>
                    <a:pt x="854" y="65"/>
                  </a:lnTo>
                  <a:lnTo>
                    <a:pt x="846" y="35"/>
                  </a:lnTo>
                  <a:lnTo>
                    <a:pt x="835" y="13"/>
                  </a:lnTo>
                  <a:lnTo>
                    <a:pt x="820" y="2"/>
                  </a:lnTo>
                  <a:lnTo>
                    <a:pt x="803" y="0"/>
                  </a:lnTo>
                  <a:lnTo>
                    <a:pt x="807" y="2"/>
                  </a:lnTo>
                  <a:lnTo>
                    <a:pt x="807" y="17"/>
                  </a:lnTo>
                  <a:lnTo>
                    <a:pt x="804" y="44"/>
                  </a:lnTo>
                  <a:lnTo>
                    <a:pt x="797" y="83"/>
                  </a:lnTo>
                  <a:lnTo>
                    <a:pt x="787" y="131"/>
                  </a:lnTo>
                  <a:lnTo>
                    <a:pt x="774" y="190"/>
                  </a:lnTo>
                  <a:lnTo>
                    <a:pt x="757" y="256"/>
                  </a:lnTo>
                  <a:lnTo>
                    <a:pt x="739" y="332"/>
                  </a:lnTo>
                  <a:lnTo>
                    <a:pt x="717" y="414"/>
                  </a:lnTo>
                  <a:lnTo>
                    <a:pt x="693" y="502"/>
                  </a:lnTo>
                  <a:lnTo>
                    <a:pt x="667" y="596"/>
                  </a:lnTo>
                  <a:lnTo>
                    <a:pt x="640" y="694"/>
                  </a:lnTo>
                  <a:lnTo>
                    <a:pt x="610" y="796"/>
                  </a:lnTo>
                  <a:lnTo>
                    <a:pt x="579" y="901"/>
                  </a:lnTo>
                  <a:lnTo>
                    <a:pt x="546" y="1007"/>
                  </a:lnTo>
                  <a:lnTo>
                    <a:pt x="513" y="1115"/>
                  </a:lnTo>
                  <a:lnTo>
                    <a:pt x="479" y="1224"/>
                  </a:lnTo>
                  <a:lnTo>
                    <a:pt x="445" y="1332"/>
                  </a:lnTo>
                  <a:lnTo>
                    <a:pt x="410" y="1438"/>
                  </a:lnTo>
                  <a:lnTo>
                    <a:pt x="373" y="1542"/>
                  </a:lnTo>
                  <a:lnTo>
                    <a:pt x="338" y="1644"/>
                  </a:lnTo>
                  <a:lnTo>
                    <a:pt x="302" y="1742"/>
                  </a:lnTo>
                  <a:lnTo>
                    <a:pt x="267" y="1834"/>
                  </a:lnTo>
                  <a:lnTo>
                    <a:pt x="233" y="1922"/>
                  </a:lnTo>
                  <a:lnTo>
                    <a:pt x="199" y="2003"/>
                  </a:lnTo>
                  <a:lnTo>
                    <a:pt x="166" y="2077"/>
                  </a:lnTo>
                  <a:lnTo>
                    <a:pt x="134" y="2142"/>
                  </a:lnTo>
                  <a:lnTo>
                    <a:pt x="103" y="2199"/>
                  </a:lnTo>
                  <a:lnTo>
                    <a:pt x="74" y="2247"/>
                  </a:lnTo>
                  <a:lnTo>
                    <a:pt x="48" y="2284"/>
                  </a:lnTo>
                  <a:lnTo>
                    <a:pt x="22" y="2309"/>
                  </a:lnTo>
                  <a:lnTo>
                    <a:pt x="0" y="23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6191280" y="3686040"/>
              <a:ext cx="299880" cy="763560"/>
            </a:xfrm>
            <a:custGeom>
              <a:avLst/>
              <a:gdLst/>
              <a:ahLst/>
              <a:rect l="l" t="t" r="r" b="b"/>
              <a:pathLst>
                <a:path w="944" h="2405">
                  <a:moveTo>
                    <a:pt x="804" y="1"/>
                  </a:moveTo>
                  <a:lnTo>
                    <a:pt x="884" y="84"/>
                  </a:lnTo>
                  <a:lnTo>
                    <a:pt x="888" y="84"/>
                  </a:lnTo>
                  <a:lnTo>
                    <a:pt x="893" y="84"/>
                  </a:lnTo>
                  <a:lnTo>
                    <a:pt x="896" y="84"/>
                  </a:lnTo>
                  <a:lnTo>
                    <a:pt x="897" y="85"/>
                  </a:lnTo>
                  <a:lnTo>
                    <a:pt x="888" y="77"/>
                  </a:lnTo>
                  <a:lnTo>
                    <a:pt x="842" y="30"/>
                  </a:lnTo>
                  <a:lnTo>
                    <a:pt x="842" y="30"/>
                  </a:lnTo>
                  <a:lnTo>
                    <a:pt x="846" y="39"/>
                  </a:lnTo>
                  <a:lnTo>
                    <a:pt x="851" y="53"/>
                  </a:lnTo>
                  <a:lnTo>
                    <a:pt x="854" y="69"/>
                  </a:lnTo>
                  <a:lnTo>
                    <a:pt x="858" y="86"/>
                  </a:lnTo>
                  <a:lnTo>
                    <a:pt x="860" y="105"/>
                  </a:lnTo>
                  <a:lnTo>
                    <a:pt x="861" y="128"/>
                  </a:lnTo>
                  <a:lnTo>
                    <a:pt x="862" y="151"/>
                  </a:lnTo>
                  <a:lnTo>
                    <a:pt x="862" y="176"/>
                  </a:lnTo>
                  <a:lnTo>
                    <a:pt x="862" y="203"/>
                  </a:lnTo>
                  <a:lnTo>
                    <a:pt x="861" y="233"/>
                  </a:lnTo>
                  <a:lnTo>
                    <a:pt x="859" y="263"/>
                  </a:lnTo>
                  <a:lnTo>
                    <a:pt x="853" y="328"/>
                  </a:lnTo>
                  <a:lnTo>
                    <a:pt x="844" y="400"/>
                  </a:lnTo>
                  <a:lnTo>
                    <a:pt x="832" y="475"/>
                  </a:lnTo>
                  <a:lnTo>
                    <a:pt x="818" y="556"/>
                  </a:lnTo>
                  <a:lnTo>
                    <a:pt x="801" y="640"/>
                  </a:lnTo>
                  <a:lnTo>
                    <a:pt x="781" y="728"/>
                  </a:lnTo>
                  <a:lnTo>
                    <a:pt x="759" y="818"/>
                  </a:lnTo>
                  <a:lnTo>
                    <a:pt x="734" y="912"/>
                  </a:lnTo>
                  <a:lnTo>
                    <a:pt x="707" y="1008"/>
                  </a:lnTo>
                  <a:lnTo>
                    <a:pt x="676" y="1105"/>
                  </a:lnTo>
                  <a:lnTo>
                    <a:pt x="644" y="1203"/>
                  </a:lnTo>
                  <a:lnTo>
                    <a:pt x="609" y="1301"/>
                  </a:lnTo>
                  <a:lnTo>
                    <a:pt x="590" y="1350"/>
                  </a:lnTo>
                  <a:lnTo>
                    <a:pt x="571" y="1399"/>
                  </a:lnTo>
                  <a:lnTo>
                    <a:pt x="551" y="1448"/>
                  </a:lnTo>
                  <a:lnTo>
                    <a:pt x="531" y="1496"/>
                  </a:lnTo>
                  <a:lnTo>
                    <a:pt x="510" y="1545"/>
                  </a:lnTo>
                  <a:lnTo>
                    <a:pt x="488" y="1593"/>
                  </a:lnTo>
                  <a:lnTo>
                    <a:pt x="466" y="1641"/>
                  </a:lnTo>
                  <a:lnTo>
                    <a:pt x="444" y="1688"/>
                  </a:lnTo>
                  <a:lnTo>
                    <a:pt x="420" y="1734"/>
                  </a:lnTo>
                  <a:lnTo>
                    <a:pt x="396" y="1780"/>
                  </a:lnTo>
                  <a:lnTo>
                    <a:pt x="372" y="1826"/>
                  </a:lnTo>
                  <a:lnTo>
                    <a:pt x="347" y="1870"/>
                  </a:lnTo>
                  <a:lnTo>
                    <a:pt x="321" y="1914"/>
                  </a:lnTo>
                  <a:lnTo>
                    <a:pt x="294" y="1957"/>
                  </a:lnTo>
                  <a:lnTo>
                    <a:pt x="267" y="1998"/>
                  </a:lnTo>
                  <a:lnTo>
                    <a:pt x="240" y="2039"/>
                  </a:lnTo>
                  <a:lnTo>
                    <a:pt x="212" y="2079"/>
                  </a:lnTo>
                  <a:lnTo>
                    <a:pt x="184" y="2118"/>
                  </a:lnTo>
                  <a:lnTo>
                    <a:pt x="154" y="2155"/>
                  </a:lnTo>
                  <a:lnTo>
                    <a:pt x="124" y="2192"/>
                  </a:lnTo>
                  <a:lnTo>
                    <a:pt x="94" y="2227"/>
                  </a:lnTo>
                  <a:lnTo>
                    <a:pt x="63" y="2260"/>
                  </a:lnTo>
                  <a:lnTo>
                    <a:pt x="32" y="2293"/>
                  </a:lnTo>
                  <a:lnTo>
                    <a:pt x="0" y="2324"/>
                  </a:lnTo>
                  <a:lnTo>
                    <a:pt x="81" y="2405"/>
                  </a:lnTo>
                  <a:lnTo>
                    <a:pt x="113" y="2376"/>
                  </a:lnTo>
                  <a:lnTo>
                    <a:pt x="145" y="2343"/>
                  </a:lnTo>
                  <a:lnTo>
                    <a:pt x="176" y="2309"/>
                  </a:lnTo>
                  <a:lnTo>
                    <a:pt x="205" y="2274"/>
                  </a:lnTo>
                  <a:lnTo>
                    <a:pt x="236" y="2238"/>
                  </a:lnTo>
                  <a:lnTo>
                    <a:pt x="265" y="2200"/>
                  </a:lnTo>
                  <a:lnTo>
                    <a:pt x="293" y="2161"/>
                  </a:lnTo>
                  <a:lnTo>
                    <a:pt x="322" y="2121"/>
                  </a:lnTo>
                  <a:lnTo>
                    <a:pt x="349" y="2080"/>
                  </a:lnTo>
                  <a:lnTo>
                    <a:pt x="376" y="2038"/>
                  </a:lnTo>
                  <a:lnTo>
                    <a:pt x="403" y="1995"/>
                  </a:lnTo>
                  <a:lnTo>
                    <a:pt x="428" y="1951"/>
                  </a:lnTo>
                  <a:lnTo>
                    <a:pt x="453" y="1907"/>
                  </a:lnTo>
                  <a:lnTo>
                    <a:pt x="478" y="1861"/>
                  </a:lnTo>
                  <a:lnTo>
                    <a:pt x="502" y="1815"/>
                  </a:lnTo>
                  <a:lnTo>
                    <a:pt x="526" y="1769"/>
                  </a:lnTo>
                  <a:lnTo>
                    <a:pt x="549" y="1722"/>
                  </a:lnTo>
                  <a:lnTo>
                    <a:pt x="570" y="1674"/>
                  </a:lnTo>
                  <a:lnTo>
                    <a:pt x="592" y="1626"/>
                  </a:lnTo>
                  <a:lnTo>
                    <a:pt x="612" y="1577"/>
                  </a:lnTo>
                  <a:lnTo>
                    <a:pt x="633" y="1529"/>
                  </a:lnTo>
                  <a:lnTo>
                    <a:pt x="653" y="1480"/>
                  </a:lnTo>
                  <a:lnTo>
                    <a:pt x="672" y="1431"/>
                  </a:lnTo>
                  <a:lnTo>
                    <a:pt x="691" y="1382"/>
                  </a:lnTo>
                  <a:lnTo>
                    <a:pt x="726" y="1284"/>
                  </a:lnTo>
                  <a:lnTo>
                    <a:pt x="758" y="1186"/>
                  </a:lnTo>
                  <a:lnTo>
                    <a:pt x="789" y="1089"/>
                  </a:lnTo>
                  <a:lnTo>
                    <a:pt x="816" y="993"/>
                  </a:lnTo>
                  <a:lnTo>
                    <a:pt x="842" y="899"/>
                  </a:lnTo>
                  <a:lnTo>
                    <a:pt x="863" y="809"/>
                  </a:lnTo>
                  <a:lnTo>
                    <a:pt x="884" y="721"/>
                  </a:lnTo>
                  <a:lnTo>
                    <a:pt x="900" y="636"/>
                  </a:lnTo>
                  <a:lnTo>
                    <a:pt x="915" y="556"/>
                  </a:lnTo>
                  <a:lnTo>
                    <a:pt x="926" y="479"/>
                  </a:lnTo>
                  <a:lnTo>
                    <a:pt x="935" y="409"/>
                  </a:lnTo>
                  <a:lnTo>
                    <a:pt x="941" y="344"/>
                  </a:lnTo>
                  <a:lnTo>
                    <a:pt x="943" y="313"/>
                  </a:lnTo>
                  <a:lnTo>
                    <a:pt x="944" y="284"/>
                  </a:lnTo>
                  <a:lnTo>
                    <a:pt x="944" y="257"/>
                  </a:lnTo>
                  <a:lnTo>
                    <a:pt x="944" y="231"/>
                  </a:lnTo>
                  <a:lnTo>
                    <a:pt x="943" y="207"/>
                  </a:lnTo>
                  <a:lnTo>
                    <a:pt x="942" y="185"/>
                  </a:lnTo>
                  <a:lnTo>
                    <a:pt x="940" y="165"/>
                  </a:lnTo>
                  <a:lnTo>
                    <a:pt x="936" y="146"/>
                  </a:lnTo>
                  <a:lnTo>
                    <a:pt x="933" y="130"/>
                  </a:lnTo>
                  <a:lnTo>
                    <a:pt x="927" y="116"/>
                  </a:lnTo>
                  <a:lnTo>
                    <a:pt x="921" y="102"/>
                  </a:lnTo>
                  <a:lnTo>
                    <a:pt x="909" y="84"/>
                  </a:lnTo>
                  <a:lnTo>
                    <a:pt x="850" y="22"/>
                  </a:lnTo>
                  <a:lnTo>
                    <a:pt x="826" y="5"/>
                  </a:lnTo>
                  <a:lnTo>
                    <a:pt x="819" y="3"/>
                  </a:lnTo>
                  <a:lnTo>
                    <a:pt x="813" y="1"/>
                  </a:lnTo>
                  <a:lnTo>
                    <a:pt x="808" y="0"/>
                  </a:lnTo>
                  <a:lnTo>
                    <a:pt x="804" y="1"/>
                  </a:lnTo>
                  <a:lnTo>
                    <a:pt x="885" y="84"/>
                  </a:lnTo>
                  <a:lnTo>
                    <a:pt x="804" y="1"/>
                  </a:lnTo>
                  <a:lnTo>
                    <a:pt x="796" y="59"/>
                  </a:lnTo>
                  <a:lnTo>
                    <a:pt x="884" y="84"/>
                  </a:lnTo>
                  <a:lnTo>
                    <a:pt x="804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6191280" y="3686040"/>
              <a:ext cx="282600" cy="763560"/>
            </a:xfrm>
            <a:custGeom>
              <a:avLst/>
              <a:gdLst/>
              <a:ahLst/>
              <a:rect l="l" t="t" r="r" b="b"/>
              <a:pathLst>
                <a:path w="891" h="2406">
                  <a:moveTo>
                    <a:pt x="0" y="2324"/>
                  </a:moveTo>
                  <a:lnTo>
                    <a:pt x="81" y="2406"/>
                  </a:lnTo>
                  <a:lnTo>
                    <a:pt x="87" y="2404"/>
                  </a:lnTo>
                  <a:lnTo>
                    <a:pt x="93" y="2401"/>
                  </a:lnTo>
                  <a:lnTo>
                    <a:pt x="98" y="2397"/>
                  </a:lnTo>
                  <a:lnTo>
                    <a:pt x="104" y="2393"/>
                  </a:lnTo>
                  <a:lnTo>
                    <a:pt x="117" y="2381"/>
                  </a:lnTo>
                  <a:lnTo>
                    <a:pt x="129" y="2368"/>
                  </a:lnTo>
                  <a:lnTo>
                    <a:pt x="143" y="2351"/>
                  </a:lnTo>
                  <a:lnTo>
                    <a:pt x="156" y="2330"/>
                  </a:lnTo>
                  <a:lnTo>
                    <a:pt x="171" y="2308"/>
                  </a:lnTo>
                  <a:lnTo>
                    <a:pt x="185" y="2283"/>
                  </a:lnTo>
                  <a:lnTo>
                    <a:pt x="201" y="2256"/>
                  </a:lnTo>
                  <a:lnTo>
                    <a:pt x="216" y="2226"/>
                  </a:lnTo>
                  <a:lnTo>
                    <a:pt x="232" y="2194"/>
                  </a:lnTo>
                  <a:lnTo>
                    <a:pt x="248" y="2160"/>
                  </a:lnTo>
                  <a:lnTo>
                    <a:pt x="281" y="2086"/>
                  </a:lnTo>
                  <a:lnTo>
                    <a:pt x="315" y="2005"/>
                  </a:lnTo>
                  <a:lnTo>
                    <a:pt x="349" y="1918"/>
                  </a:lnTo>
                  <a:lnTo>
                    <a:pt x="384" y="1825"/>
                  </a:lnTo>
                  <a:lnTo>
                    <a:pt x="420" y="1728"/>
                  </a:lnTo>
                  <a:lnTo>
                    <a:pt x="455" y="1626"/>
                  </a:lnTo>
                  <a:lnTo>
                    <a:pt x="492" y="1521"/>
                  </a:lnTo>
                  <a:lnTo>
                    <a:pt x="527" y="1415"/>
                  </a:lnTo>
                  <a:lnTo>
                    <a:pt x="561" y="1308"/>
                  </a:lnTo>
                  <a:lnTo>
                    <a:pt x="595" y="1199"/>
                  </a:lnTo>
                  <a:lnTo>
                    <a:pt x="628" y="1091"/>
                  </a:lnTo>
                  <a:lnTo>
                    <a:pt x="661" y="984"/>
                  </a:lnTo>
                  <a:lnTo>
                    <a:pt x="692" y="879"/>
                  </a:lnTo>
                  <a:lnTo>
                    <a:pt x="722" y="777"/>
                  </a:lnTo>
                  <a:lnTo>
                    <a:pt x="749" y="679"/>
                  </a:lnTo>
                  <a:lnTo>
                    <a:pt x="775" y="586"/>
                  </a:lnTo>
                  <a:lnTo>
                    <a:pt x="799" y="498"/>
                  </a:lnTo>
                  <a:lnTo>
                    <a:pt x="821" y="416"/>
                  </a:lnTo>
                  <a:lnTo>
                    <a:pt x="839" y="340"/>
                  </a:lnTo>
                  <a:lnTo>
                    <a:pt x="856" y="273"/>
                  </a:lnTo>
                  <a:lnTo>
                    <a:pt x="869" y="215"/>
                  </a:lnTo>
                  <a:lnTo>
                    <a:pt x="879" y="166"/>
                  </a:lnTo>
                  <a:lnTo>
                    <a:pt x="886" y="127"/>
                  </a:lnTo>
                  <a:lnTo>
                    <a:pt x="889" y="100"/>
                  </a:lnTo>
                  <a:lnTo>
                    <a:pt x="891" y="90"/>
                  </a:lnTo>
                  <a:lnTo>
                    <a:pt x="889" y="84"/>
                  </a:lnTo>
                  <a:lnTo>
                    <a:pt x="887" y="78"/>
                  </a:lnTo>
                  <a:lnTo>
                    <a:pt x="811" y="3"/>
                  </a:lnTo>
                  <a:lnTo>
                    <a:pt x="805" y="0"/>
                  </a:lnTo>
                  <a:lnTo>
                    <a:pt x="804" y="1"/>
                  </a:lnTo>
                  <a:lnTo>
                    <a:pt x="885" y="84"/>
                  </a:lnTo>
                  <a:lnTo>
                    <a:pt x="886" y="82"/>
                  </a:lnTo>
                  <a:lnTo>
                    <a:pt x="883" y="81"/>
                  </a:lnTo>
                  <a:lnTo>
                    <a:pt x="808" y="7"/>
                  </a:lnTo>
                  <a:lnTo>
                    <a:pt x="807" y="5"/>
                  </a:lnTo>
                  <a:lnTo>
                    <a:pt x="807" y="11"/>
                  </a:lnTo>
                  <a:lnTo>
                    <a:pt x="807" y="20"/>
                  </a:lnTo>
                  <a:lnTo>
                    <a:pt x="804" y="46"/>
                  </a:lnTo>
                  <a:lnTo>
                    <a:pt x="797" y="85"/>
                  </a:lnTo>
                  <a:lnTo>
                    <a:pt x="787" y="134"/>
                  </a:lnTo>
                  <a:lnTo>
                    <a:pt x="773" y="192"/>
                  </a:lnTo>
                  <a:lnTo>
                    <a:pt x="757" y="259"/>
                  </a:lnTo>
                  <a:lnTo>
                    <a:pt x="739" y="335"/>
                  </a:lnTo>
                  <a:lnTo>
                    <a:pt x="717" y="417"/>
                  </a:lnTo>
                  <a:lnTo>
                    <a:pt x="693" y="505"/>
                  </a:lnTo>
                  <a:lnTo>
                    <a:pt x="667" y="598"/>
                  </a:lnTo>
                  <a:lnTo>
                    <a:pt x="640" y="696"/>
                  </a:lnTo>
                  <a:lnTo>
                    <a:pt x="610" y="798"/>
                  </a:lnTo>
                  <a:lnTo>
                    <a:pt x="579" y="903"/>
                  </a:lnTo>
                  <a:lnTo>
                    <a:pt x="546" y="1010"/>
                  </a:lnTo>
                  <a:lnTo>
                    <a:pt x="513" y="1118"/>
                  </a:lnTo>
                  <a:lnTo>
                    <a:pt x="479" y="1226"/>
                  </a:lnTo>
                  <a:lnTo>
                    <a:pt x="445" y="1334"/>
                  </a:lnTo>
                  <a:lnTo>
                    <a:pt x="409" y="1440"/>
                  </a:lnTo>
                  <a:lnTo>
                    <a:pt x="373" y="1545"/>
                  </a:lnTo>
                  <a:lnTo>
                    <a:pt x="338" y="1647"/>
                  </a:lnTo>
                  <a:lnTo>
                    <a:pt x="302" y="1744"/>
                  </a:lnTo>
                  <a:lnTo>
                    <a:pt x="267" y="1837"/>
                  </a:lnTo>
                  <a:lnTo>
                    <a:pt x="233" y="1924"/>
                  </a:lnTo>
                  <a:lnTo>
                    <a:pt x="199" y="2005"/>
                  </a:lnTo>
                  <a:lnTo>
                    <a:pt x="166" y="2079"/>
                  </a:lnTo>
                  <a:lnTo>
                    <a:pt x="150" y="2113"/>
                  </a:lnTo>
                  <a:lnTo>
                    <a:pt x="134" y="2145"/>
                  </a:lnTo>
                  <a:lnTo>
                    <a:pt x="119" y="2175"/>
                  </a:lnTo>
                  <a:lnTo>
                    <a:pt x="104" y="2202"/>
                  </a:lnTo>
                  <a:lnTo>
                    <a:pt x="89" y="2226"/>
                  </a:lnTo>
                  <a:lnTo>
                    <a:pt x="74" y="2249"/>
                  </a:lnTo>
                  <a:lnTo>
                    <a:pt x="61" y="2268"/>
                  </a:lnTo>
                  <a:lnTo>
                    <a:pt x="48" y="2286"/>
                  </a:lnTo>
                  <a:lnTo>
                    <a:pt x="34" y="2299"/>
                  </a:lnTo>
                  <a:lnTo>
                    <a:pt x="23" y="2311"/>
                  </a:lnTo>
                  <a:lnTo>
                    <a:pt x="17" y="2315"/>
                  </a:lnTo>
                  <a:lnTo>
                    <a:pt x="12" y="2319"/>
                  </a:lnTo>
                  <a:lnTo>
                    <a:pt x="6" y="2322"/>
                  </a:lnTo>
                  <a:lnTo>
                    <a:pt x="0" y="2324"/>
                  </a:lnTo>
                  <a:lnTo>
                    <a:pt x="81" y="2405"/>
                  </a:lnTo>
                  <a:lnTo>
                    <a:pt x="0" y="2324"/>
                  </a:lnTo>
                  <a:lnTo>
                    <a:pt x="3" y="2403"/>
                  </a:lnTo>
                  <a:lnTo>
                    <a:pt x="81" y="2406"/>
                  </a:lnTo>
                  <a:lnTo>
                    <a:pt x="0" y="232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3859200" y="384480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3" y="1713"/>
                  </a:lnTo>
                  <a:lnTo>
                    <a:pt x="125" y="1668"/>
                  </a:lnTo>
                  <a:lnTo>
                    <a:pt x="188" y="1618"/>
                  </a:lnTo>
                  <a:lnTo>
                    <a:pt x="249" y="1565"/>
                  </a:lnTo>
                  <a:lnTo>
                    <a:pt x="308" y="1506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4"/>
                  </a:lnTo>
                  <a:lnTo>
                    <a:pt x="535" y="1245"/>
                  </a:lnTo>
                  <a:lnTo>
                    <a:pt x="587" y="1173"/>
                  </a:lnTo>
                  <a:lnTo>
                    <a:pt x="637" y="1101"/>
                  </a:lnTo>
                  <a:lnTo>
                    <a:pt x="686" y="1028"/>
                  </a:lnTo>
                  <a:lnTo>
                    <a:pt x="733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1" y="733"/>
                  </a:lnTo>
                  <a:lnTo>
                    <a:pt x="898" y="661"/>
                  </a:lnTo>
                  <a:lnTo>
                    <a:pt x="934" y="590"/>
                  </a:lnTo>
                  <a:lnTo>
                    <a:pt x="966" y="522"/>
                  </a:lnTo>
                  <a:lnTo>
                    <a:pt x="995" y="456"/>
                  </a:lnTo>
                  <a:lnTo>
                    <a:pt x="1022" y="393"/>
                  </a:lnTo>
                  <a:lnTo>
                    <a:pt x="1045" y="332"/>
                  </a:lnTo>
                  <a:lnTo>
                    <a:pt x="1066" y="277"/>
                  </a:lnTo>
                  <a:lnTo>
                    <a:pt x="1083" y="224"/>
                  </a:lnTo>
                  <a:lnTo>
                    <a:pt x="1096" y="176"/>
                  </a:lnTo>
                  <a:lnTo>
                    <a:pt x="1106" y="133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8" y="18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9" y="3"/>
                  </a:lnTo>
                  <a:lnTo>
                    <a:pt x="1085" y="15"/>
                  </a:lnTo>
                  <a:lnTo>
                    <a:pt x="1077" y="37"/>
                  </a:lnTo>
                  <a:lnTo>
                    <a:pt x="1065" y="68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1" y="261"/>
                  </a:lnTo>
                  <a:lnTo>
                    <a:pt x="903" y="392"/>
                  </a:lnTo>
                  <a:lnTo>
                    <a:pt x="823" y="539"/>
                  </a:lnTo>
                  <a:lnTo>
                    <a:pt x="737" y="696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6" y="1025"/>
                  </a:lnTo>
                  <a:lnTo>
                    <a:pt x="498" y="1106"/>
                  </a:lnTo>
                  <a:lnTo>
                    <a:pt x="450" y="1185"/>
                  </a:lnTo>
                  <a:lnTo>
                    <a:pt x="402" y="1261"/>
                  </a:lnTo>
                  <a:lnTo>
                    <a:pt x="355" y="1334"/>
                  </a:lnTo>
                  <a:lnTo>
                    <a:pt x="309" y="1404"/>
                  </a:lnTo>
                  <a:lnTo>
                    <a:pt x="265" y="1469"/>
                  </a:lnTo>
                  <a:lnTo>
                    <a:pt x="222" y="1528"/>
                  </a:lnTo>
                  <a:lnTo>
                    <a:pt x="181" y="1583"/>
                  </a:lnTo>
                  <a:lnTo>
                    <a:pt x="144" y="1631"/>
                  </a:lnTo>
                  <a:lnTo>
                    <a:pt x="108" y="1672"/>
                  </a:lnTo>
                  <a:lnTo>
                    <a:pt x="75" y="1705"/>
                  </a:lnTo>
                  <a:lnTo>
                    <a:pt x="47" y="1730"/>
                  </a:lnTo>
                  <a:lnTo>
                    <a:pt x="21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3844800" y="3832200"/>
              <a:ext cx="3812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5" y="0"/>
                  </a:moveTo>
                  <a:lnTo>
                    <a:pt x="1166" y="83"/>
                  </a:lnTo>
                  <a:lnTo>
                    <a:pt x="1172" y="84"/>
                  </a:lnTo>
                  <a:lnTo>
                    <a:pt x="1167" y="80"/>
                  </a:lnTo>
                  <a:lnTo>
                    <a:pt x="1112" y="24"/>
                  </a:lnTo>
                  <a:lnTo>
                    <a:pt x="1109" y="21"/>
                  </a:lnTo>
                  <a:lnTo>
                    <a:pt x="1112" y="29"/>
                  </a:lnTo>
                  <a:lnTo>
                    <a:pt x="1114" y="38"/>
                  </a:lnTo>
                  <a:lnTo>
                    <a:pt x="1115" y="51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09" y="113"/>
                  </a:lnTo>
                  <a:lnTo>
                    <a:pt x="1106" y="134"/>
                  </a:lnTo>
                  <a:lnTo>
                    <a:pt x="1096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5" y="334"/>
                  </a:lnTo>
                  <a:lnTo>
                    <a:pt x="1021" y="393"/>
                  </a:lnTo>
                  <a:lnTo>
                    <a:pt x="995" y="457"/>
                  </a:lnTo>
                  <a:lnTo>
                    <a:pt x="966" y="523"/>
                  </a:lnTo>
                  <a:lnTo>
                    <a:pt x="934" y="591"/>
                  </a:lnTo>
                  <a:lnTo>
                    <a:pt x="898" y="661"/>
                  </a:lnTo>
                  <a:lnTo>
                    <a:pt x="861" y="733"/>
                  </a:lnTo>
                  <a:lnTo>
                    <a:pt x="821" y="806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6" y="1028"/>
                  </a:lnTo>
                  <a:lnTo>
                    <a:pt x="638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5" y="1245"/>
                  </a:lnTo>
                  <a:lnTo>
                    <a:pt x="507" y="1280"/>
                  </a:lnTo>
                  <a:lnTo>
                    <a:pt x="480" y="1315"/>
                  </a:lnTo>
                  <a:lnTo>
                    <a:pt x="453" y="1348"/>
                  </a:lnTo>
                  <a:lnTo>
                    <a:pt x="424" y="1381"/>
                  </a:lnTo>
                  <a:lnTo>
                    <a:pt x="396" y="1414"/>
                  </a:lnTo>
                  <a:lnTo>
                    <a:pt x="367" y="1446"/>
                  </a:lnTo>
                  <a:lnTo>
                    <a:pt x="337" y="1477"/>
                  </a:lnTo>
                  <a:lnTo>
                    <a:pt x="309" y="1507"/>
                  </a:lnTo>
                  <a:lnTo>
                    <a:pt x="278" y="1536"/>
                  </a:lnTo>
                  <a:lnTo>
                    <a:pt x="249" y="1565"/>
                  </a:lnTo>
                  <a:lnTo>
                    <a:pt x="219" y="1592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7" y="1668"/>
                  </a:lnTo>
                  <a:lnTo>
                    <a:pt x="95" y="1691"/>
                  </a:lnTo>
                  <a:lnTo>
                    <a:pt x="64" y="1714"/>
                  </a:lnTo>
                  <a:lnTo>
                    <a:pt x="32" y="1735"/>
                  </a:lnTo>
                  <a:lnTo>
                    <a:pt x="0" y="1753"/>
                  </a:lnTo>
                  <a:lnTo>
                    <a:pt x="81" y="1835"/>
                  </a:lnTo>
                  <a:lnTo>
                    <a:pt x="113" y="1816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38" y="1727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7"/>
                  </a:lnTo>
                  <a:lnTo>
                    <a:pt x="360" y="1618"/>
                  </a:lnTo>
                  <a:lnTo>
                    <a:pt x="390" y="1588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30"/>
                  </a:lnTo>
                  <a:lnTo>
                    <a:pt x="562" y="1396"/>
                  </a:lnTo>
                  <a:lnTo>
                    <a:pt x="589" y="1361"/>
                  </a:lnTo>
                  <a:lnTo>
                    <a:pt x="617" y="1326"/>
                  </a:lnTo>
                  <a:lnTo>
                    <a:pt x="643" y="1291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5"/>
                  </a:lnTo>
                  <a:lnTo>
                    <a:pt x="861" y="961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0" y="743"/>
                  </a:lnTo>
                  <a:lnTo>
                    <a:pt x="1016" y="672"/>
                  </a:lnTo>
                  <a:lnTo>
                    <a:pt x="1048" y="604"/>
                  </a:lnTo>
                  <a:lnTo>
                    <a:pt x="1077" y="538"/>
                  </a:lnTo>
                  <a:lnTo>
                    <a:pt x="1104" y="474"/>
                  </a:lnTo>
                  <a:lnTo>
                    <a:pt x="1127" y="415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8" y="214"/>
                  </a:lnTo>
                  <a:lnTo>
                    <a:pt x="1192" y="194"/>
                  </a:lnTo>
                  <a:lnTo>
                    <a:pt x="1195" y="176"/>
                  </a:lnTo>
                  <a:lnTo>
                    <a:pt x="1196" y="159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3"/>
                  </a:lnTo>
                  <a:lnTo>
                    <a:pt x="1086" y="0"/>
                  </a:lnTo>
                  <a:lnTo>
                    <a:pt x="1167" y="83"/>
                  </a:lnTo>
                  <a:lnTo>
                    <a:pt x="1085" y="0"/>
                  </a:lnTo>
                  <a:lnTo>
                    <a:pt x="1043" y="55"/>
                  </a:lnTo>
                  <a:lnTo>
                    <a:pt x="1166" y="83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3840120" y="3832200"/>
              <a:ext cx="37800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5" y="1753"/>
                  </a:moveTo>
                  <a:lnTo>
                    <a:pt x="96" y="1835"/>
                  </a:lnTo>
                  <a:lnTo>
                    <a:pt x="106" y="1834"/>
                  </a:lnTo>
                  <a:lnTo>
                    <a:pt x="118" y="1829"/>
                  </a:lnTo>
                  <a:lnTo>
                    <a:pt x="130" y="1821"/>
                  </a:lnTo>
                  <a:lnTo>
                    <a:pt x="143" y="1812"/>
                  </a:lnTo>
                  <a:lnTo>
                    <a:pt x="158" y="1801"/>
                  </a:lnTo>
                  <a:lnTo>
                    <a:pt x="172" y="1787"/>
                  </a:lnTo>
                  <a:lnTo>
                    <a:pt x="188" y="1772"/>
                  </a:lnTo>
                  <a:lnTo>
                    <a:pt x="205" y="1754"/>
                  </a:lnTo>
                  <a:lnTo>
                    <a:pt x="223" y="1735"/>
                  </a:lnTo>
                  <a:lnTo>
                    <a:pt x="240" y="1713"/>
                  </a:lnTo>
                  <a:lnTo>
                    <a:pt x="259" y="1690"/>
                  </a:lnTo>
                  <a:lnTo>
                    <a:pt x="278" y="1665"/>
                  </a:lnTo>
                  <a:lnTo>
                    <a:pt x="319" y="1610"/>
                  </a:lnTo>
                  <a:lnTo>
                    <a:pt x="362" y="1550"/>
                  </a:lnTo>
                  <a:lnTo>
                    <a:pt x="406" y="1485"/>
                  </a:lnTo>
                  <a:lnTo>
                    <a:pt x="452" y="1416"/>
                  </a:lnTo>
                  <a:lnTo>
                    <a:pt x="498" y="1342"/>
                  </a:lnTo>
                  <a:lnTo>
                    <a:pt x="546" y="1266"/>
                  </a:lnTo>
                  <a:lnTo>
                    <a:pt x="595" y="1187"/>
                  </a:lnTo>
                  <a:lnTo>
                    <a:pt x="643" y="1106"/>
                  </a:lnTo>
                  <a:lnTo>
                    <a:pt x="692" y="1025"/>
                  </a:lnTo>
                  <a:lnTo>
                    <a:pt x="740" y="943"/>
                  </a:lnTo>
                  <a:lnTo>
                    <a:pt x="834" y="778"/>
                  </a:lnTo>
                  <a:lnTo>
                    <a:pt x="920" y="621"/>
                  </a:lnTo>
                  <a:lnTo>
                    <a:pt x="1000" y="474"/>
                  </a:lnTo>
                  <a:lnTo>
                    <a:pt x="1068" y="343"/>
                  </a:lnTo>
                  <a:lnTo>
                    <a:pt x="1097" y="284"/>
                  </a:lnTo>
                  <a:lnTo>
                    <a:pt x="1123" y="232"/>
                  </a:lnTo>
                  <a:lnTo>
                    <a:pt x="1145" y="187"/>
                  </a:lnTo>
                  <a:lnTo>
                    <a:pt x="1162" y="149"/>
                  </a:lnTo>
                  <a:lnTo>
                    <a:pt x="1174" y="119"/>
                  </a:lnTo>
                  <a:lnTo>
                    <a:pt x="1182" y="97"/>
                  </a:lnTo>
                  <a:lnTo>
                    <a:pt x="1185" y="89"/>
                  </a:lnTo>
                  <a:lnTo>
                    <a:pt x="1186" y="85"/>
                  </a:lnTo>
                  <a:lnTo>
                    <a:pt x="1185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0" y="0"/>
                  </a:lnTo>
                  <a:lnTo>
                    <a:pt x="1182" y="83"/>
                  </a:lnTo>
                  <a:lnTo>
                    <a:pt x="1182" y="83"/>
                  </a:lnTo>
                  <a:lnTo>
                    <a:pt x="1157" y="64"/>
                  </a:lnTo>
                  <a:lnTo>
                    <a:pt x="1103" y="4"/>
                  </a:lnTo>
                  <a:lnTo>
                    <a:pt x="1104" y="4"/>
                  </a:lnTo>
                  <a:lnTo>
                    <a:pt x="1103" y="8"/>
                  </a:lnTo>
                  <a:lnTo>
                    <a:pt x="1100" y="16"/>
                  </a:lnTo>
                  <a:lnTo>
                    <a:pt x="1092" y="38"/>
                  </a:lnTo>
                  <a:lnTo>
                    <a:pt x="1080" y="68"/>
                  </a:lnTo>
                  <a:lnTo>
                    <a:pt x="1063" y="106"/>
                  </a:lnTo>
                  <a:lnTo>
                    <a:pt x="1041" y="151"/>
                  </a:lnTo>
                  <a:lnTo>
                    <a:pt x="1015" y="203"/>
                  </a:lnTo>
                  <a:lnTo>
                    <a:pt x="986" y="262"/>
                  </a:lnTo>
                  <a:lnTo>
                    <a:pt x="918" y="392"/>
                  </a:lnTo>
                  <a:lnTo>
                    <a:pt x="838" y="539"/>
                  </a:lnTo>
                  <a:lnTo>
                    <a:pt x="751" y="697"/>
                  </a:lnTo>
                  <a:lnTo>
                    <a:pt x="658" y="861"/>
                  </a:lnTo>
                  <a:lnTo>
                    <a:pt x="610" y="943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5" y="1185"/>
                  </a:lnTo>
                  <a:lnTo>
                    <a:pt x="417" y="1261"/>
                  </a:lnTo>
                  <a:lnTo>
                    <a:pt x="370" y="1334"/>
                  </a:lnTo>
                  <a:lnTo>
                    <a:pt x="324" y="1404"/>
                  </a:lnTo>
                  <a:lnTo>
                    <a:pt x="280" y="1469"/>
                  </a:lnTo>
                  <a:lnTo>
                    <a:pt x="237" y="1529"/>
                  </a:lnTo>
                  <a:lnTo>
                    <a:pt x="196" y="1583"/>
                  </a:lnTo>
                  <a:lnTo>
                    <a:pt x="177" y="1608"/>
                  </a:lnTo>
                  <a:lnTo>
                    <a:pt x="159" y="1631"/>
                  </a:lnTo>
                  <a:lnTo>
                    <a:pt x="140" y="1652"/>
                  </a:lnTo>
                  <a:lnTo>
                    <a:pt x="123" y="1672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5" y="1720"/>
                  </a:lnTo>
                  <a:lnTo>
                    <a:pt x="62" y="1731"/>
                  </a:lnTo>
                  <a:lnTo>
                    <a:pt x="48" y="1740"/>
                  </a:lnTo>
                  <a:lnTo>
                    <a:pt x="37" y="1747"/>
                  </a:lnTo>
                  <a:lnTo>
                    <a:pt x="25" y="1752"/>
                  </a:lnTo>
                  <a:lnTo>
                    <a:pt x="16" y="1753"/>
                  </a:lnTo>
                  <a:lnTo>
                    <a:pt x="96" y="1835"/>
                  </a:lnTo>
                  <a:lnTo>
                    <a:pt x="15" y="1753"/>
                  </a:lnTo>
                  <a:lnTo>
                    <a:pt x="0" y="1813"/>
                  </a:lnTo>
                  <a:lnTo>
                    <a:pt x="96" y="1835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3338640" y="3833640"/>
              <a:ext cx="353880" cy="55584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4" y="1713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4"/>
                  </a:lnTo>
                  <a:lnTo>
                    <a:pt x="535" y="1244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4" y="953"/>
                  </a:lnTo>
                  <a:lnTo>
                    <a:pt x="779" y="879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8" y="660"/>
                  </a:lnTo>
                  <a:lnTo>
                    <a:pt x="934" y="589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6" y="132"/>
                  </a:lnTo>
                  <a:lnTo>
                    <a:pt x="1113" y="94"/>
                  </a:lnTo>
                  <a:lnTo>
                    <a:pt x="1115" y="62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9" y="2"/>
                  </a:lnTo>
                  <a:lnTo>
                    <a:pt x="1087" y="14"/>
                  </a:lnTo>
                  <a:lnTo>
                    <a:pt x="1079" y="36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1" y="203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4" y="538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4"/>
                  </a:lnTo>
                  <a:lnTo>
                    <a:pt x="498" y="1105"/>
                  </a:lnTo>
                  <a:lnTo>
                    <a:pt x="450" y="1184"/>
                  </a:lnTo>
                  <a:lnTo>
                    <a:pt x="403" y="1260"/>
                  </a:lnTo>
                  <a:lnTo>
                    <a:pt x="356" y="1333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2" y="1528"/>
                  </a:lnTo>
                  <a:lnTo>
                    <a:pt x="181" y="1582"/>
                  </a:lnTo>
                  <a:lnTo>
                    <a:pt x="144" y="1630"/>
                  </a:lnTo>
                  <a:lnTo>
                    <a:pt x="108" y="1671"/>
                  </a:lnTo>
                  <a:lnTo>
                    <a:pt x="75" y="1705"/>
                  </a:lnTo>
                  <a:lnTo>
                    <a:pt x="47" y="1730"/>
                  </a:lnTo>
                  <a:lnTo>
                    <a:pt x="22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3325680" y="3819600"/>
              <a:ext cx="381240" cy="58248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7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79"/>
                  </a:lnTo>
                  <a:lnTo>
                    <a:pt x="1112" y="24"/>
                  </a:lnTo>
                  <a:lnTo>
                    <a:pt x="1109" y="21"/>
                  </a:lnTo>
                  <a:lnTo>
                    <a:pt x="1112" y="28"/>
                  </a:lnTo>
                  <a:lnTo>
                    <a:pt x="1114" y="38"/>
                  </a:lnTo>
                  <a:lnTo>
                    <a:pt x="1115" y="50"/>
                  </a:lnTo>
                  <a:lnTo>
                    <a:pt x="1115" y="63"/>
                  </a:lnTo>
                  <a:lnTo>
                    <a:pt x="1115" y="78"/>
                  </a:lnTo>
                  <a:lnTo>
                    <a:pt x="1113" y="95"/>
                  </a:lnTo>
                  <a:lnTo>
                    <a:pt x="1109" y="114"/>
                  </a:lnTo>
                  <a:lnTo>
                    <a:pt x="1106" y="133"/>
                  </a:lnTo>
                  <a:lnTo>
                    <a:pt x="1097" y="175"/>
                  </a:lnTo>
                  <a:lnTo>
                    <a:pt x="1083" y="223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3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4" y="591"/>
                  </a:lnTo>
                  <a:lnTo>
                    <a:pt x="898" y="661"/>
                  </a:lnTo>
                  <a:lnTo>
                    <a:pt x="862" y="733"/>
                  </a:lnTo>
                  <a:lnTo>
                    <a:pt x="821" y="806"/>
                  </a:lnTo>
                  <a:lnTo>
                    <a:pt x="779" y="879"/>
                  </a:lnTo>
                  <a:lnTo>
                    <a:pt x="734" y="953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4"/>
                  </a:lnTo>
                  <a:lnTo>
                    <a:pt x="507" y="1280"/>
                  </a:lnTo>
                  <a:lnTo>
                    <a:pt x="481" y="1314"/>
                  </a:lnTo>
                  <a:lnTo>
                    <a:pt x="453" y="1347"/>
                  </a:lnTo>
                  <a:lnTo>
                    <a:pt x="425" y="1381"/>
                  </a:lnTo>
                  <a:lnTo>
                    <a:pt x="397" y="1413"/>
                  </a:lnTo>
                  <a:lnTo>
                    <a:pt x="367" y="1445"/>
                  </a:lnTo>
                  <a:lnTo>
                    <a:pt x="339" y="1476"/>
                  </a:lnTo>
                  <a:lnTo>
                    <a:pt x="309" y="1507"/>
                  </a:lnTo>
                  <a:lnTo>
                    <a:pt x="279" y="1535"/>
                  </a:lnTo>
                  <a:lnTo>
                    <a:pt x="249" y="1564"/>
                  </a:lnTo>
                  <a:lnTo>
                    <a:pt x="219" y="1592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7" y="1668"/>
                  </a:lnTo>
                  <a:lnTo>
                    <a:pt x="96" y="1692"/>
                  </a:lnTo>
                  <a:lnTo>
                    <a:pt x="64" y="1713"/>
                  </a:lnTo>
                  <a:lnTo>
                    <a:pt x="32" y="1734"/>
                  </a:lnTo>
                  <a:lnTo>
                    <a:pt x="0" y="1753"/>
                  </a:lnTo>
                  <a:lnTo>
                    <a:pt x="82" y="1834"/>
                  </a:lnTo>
                  <a:lnTo>
                    <a:pt x="113" y="1816"/>
                  </a:lnTo>
                  <a:lnTo>
                    <a:pt x="145" y="1794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40" y="1726"/>
                  </a:lnTo>
                  <a:lnTo>
                    <a:pt x="270" y="1700"/>
                  </a:lnTo>
                  <a:lnTo>
                    <a:pt x="300" y="1673"/>
                  </a:lnTo>
                  <a:lnTo>
                    <a:pt x="331" y="1646"/>
                  </a:lnTo>
                  <a:lnTo>
                    <a:pt x="360" y="1617"/>
                  </a:lnTo>
                  <a:lnTo>
                    <a:pt x="391" y="1588"/>
                  </a:lnTo>
                  <a:lnTo>
                    <a:pt x="420" y="1558"/>
                  </a:lnTo>
                  <a:lnTo>
                    <a:pt x="449" y="1527"/>
                  </a:lnTo>
                  <a:lnTo>
                    <a:pt x="478" y="1495"/>
                  </a:lnTo>
                  <a:lnTo>
                    <a:pt x="506" y="1462"/>
                  </a:lnTo>
                  <a:lnTo>
                    <a:pt x="535" y="1429"/>
                  </a:lnTo>
                  <a:lnTo>
                    <a:pt x="562" y="1395"/>
                  </a:lnTo>
                  <a:lnTo>
                    <a:pt x="590" y="1361"/>
                  </a:lnTo>
                  <a:lnTo>
                    <a:pt x="617" y="1326"/>
                  </a:lnTo>
                  <a:lnTo>
                    <a:pt x="643" y="1291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6" y="1036"/>
                  </a:lnTo>
                  <a:lnTo>
                    <a:pt x="861" y="961"/>
                  </a:lnTo>
                  <a:lnTo>
                    <a:pt x="903" y="887"/>
                  </a:lnTo>
                  <a:lnTo>
                    <a:pt x="943" y="814"/>
                  </a:lnTo>
                  <a:lnTo>
                    <a:pt x="981" y="742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5" y="474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5" y="304"/>
                  </a:lnTo>
                  <a:lnTo>
                    <a:pt x="1179" y="256"/>
                  </a:lnTo>
                  <a:lnTo>
                    <a:pt x="1189" y="214"/>
                  </a:lnTo>
                  <a:lnTo>
                    <a:pt x="1193" y="194"/>
                  </a:lnTo>
                  <a:lnTo>
                    <a:pt x="1195" y="175"/>
                  </a:lnTo>
                  <a:lnTo>
                    <a:pt x="1197" y="159"/>
                  </a:lnTo>
                  <a:lnTo>
                    <a:pt x="1197" y="143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5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6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7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3321000" y="3819600"/>
              <a:ext cx="37620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5" y="1753"/>
                  </a:moveTo>
                  <a:lnTo>
                    <a:pt x="96" y="1835"/>
                  </a:lnTo>
                  <a:lnTo>
                    <a:pt x="106" y="1833"/>
                  </a:lnTo>
                  <a:lnTo>
                    <a:pt x="118" y="1828"/>
                  </a:lnTo>
                  <a:lnTo>
                    <a:pt x="130" y="1822"/>
                  </a:lnTo>
                  <a:lnTo>
                    <a:pt x="144" y="1811"/>
                  </a:lnTo>
                  <a:lnTo>
                    <a:pt x="158" y="1800"/>
                  </a:lnTo>
                  <a:lnTo>
                    <a:pt x="172" y="1787"/>
                  </a:lnTo>
                  <a:lnTo>
                    <a:pt x="188" y="1771"/>
                  </a:lnTo>
                  <a:lnTo>
                    <a:pt x="206" y="1753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59" y="1689"/>
                  </a:lnTo>
                  <a:lnTo>
                    <a:pt x="278" y="1664"/>
                  </a:lnTo>
                  <a:lnTo>
                    <a:pt x="320" y="1609"/>
                  </a:lnTo>
                  <a:lnTo>
                    <a:pt x="362" y="1550"/>
                  </a:lnTo>
                  <a:lnTo>
                    <a:pt x="406" y="1485"/>
                  </a:lnTo>
                  <a:lnTo>
                    <a:pt x="452" y="1415"/>
                  </a:lnTo>
                  <a:lnTo>
                    <a:pt x="500" y="1341"/>
                  </a:lnTo>
                  <a:lnTo>
                    <a:pt x="548" y="1265"/>
                  </a:lnTo>
                  <a:lnTo>
                    <a:pt x="595" y="1186"/>
                  </a:lnTo>
                  <a:lnTo>
                    <a:pt x="644" y="1106"/>
                  </a:lnTo>
                  <a:lnTo>
                    <a:pt x="692" y="1024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0" y="620"/>
                  </a:lnTo>
                  <a:lnTo>
                    <a:pt x="1000" y="473"/>
                  </a:lnTo>
                  <a:lnTo>
                    <a:pt x="1068" y="342"/>
                  </a:lnTo>
                  <a:lnTo>
                    <a:pt x="1098" y="284"/>
                  </a:lnTo>
                  <a:lnTo>
                    <a:pt x="1123" y="232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6" y="118"/>
                  </a:lnTo>
                  <a:lnTo>
                    <a:pt x="1184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6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2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3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8"/>
                  </a:lnTo>
                  <a:lnTo>
                    <a:pt x="1102" y="16"/>
                  </a:lnTo>
                  <a:lnTo>
                    <a:pt x="1094" y="37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1" y="150"/>
                  </a:lnTo>
                  <a:lnTo>
                    <a:pt x="1016" y="203"/>
                  </a:lnTo>
                  <a:lnTo>
                    <a:pt x="986" y="261"/>
                  </a:lnTo>
                  <a:lnTo>
                    <a:pt x="918" y="392"/>
                  </a:lnTo>
                  <a:lnTo>
                    <a:pt x="839" y="539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0" y="943"/>
                  </a:lnTo>
                  <a:lnTo>
                    <a:pt x="562" y="1024"/>
                  </a:lnTo>
                  <a:lnTo>
                    <a:pt x="513" y="1105"/>
                  </a:lnTo>
                  <a:lnTo>
                    <a:pt x="465" y="1184"/>
                  </a:lnTo>
                  <a:lnTo>
                    <a:pt x="418" y="1260"/>
                  </a:lnTo>
                  <a:lnTo>
                    <a:pt x="371" y="1333"/>
                  </a:lnTo>
                  <a:lnTo>
                    <a:pt x="324" y="1403"/>
                  </a:lnTo>
                  <a:lnTo>
                    <a:pt x="281" y="1468"/>
                  </a:lnTo>
                  <a:lnTo>
                    <a:pt x="237" y="1528"/>
                  </a:lnTo>
                  <a:lnTo>
                    <a:pt x="198" y="1583"/>
                  </a:lnTo>
                  <a:lnTo>
                    <a:pt x="177" y="1607"/>
                  </a:lnTo>
                  <a:lnTo>
                    <a:pt x="159" y="1631"/>
                  </a:lnTo>
                  <a:lnTo>
                    <a:pt x="141" y="1652"/>
                  </a:lnTo>
                  <a:lnTo>
                    <a:pt x="123" y="1671"/>
                  </a:lnTo>
                  <a:lnTo>
                    <a:pt x="106" y="1689"/>
                  </a:lnTo>
                  <a:lnTo>
                    <a:pt x="90" y="1705"/>
                  </a:lnTo>
                  <a:lnTo>
                    <a:pt x="76" y="1719"/>
                  </a:lnTo>
                  <a:lnTo>
                    <a:pt x="62" y="1730"/>
                  </a:lnTo>
                  <a:lnTo>
                    <a:pt x="49" y="1739"/>
                  </a:lnTo>
                  <a:lnTo>
                    <a:pt x="37" y="1746"/>
                  </a:lnTo>
                  <a:lnTo>
                    <a:pt x="25" y="1751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5" y="1753"/>
                  </a:lnTo>
                  <a:lnTo>
                    <a:pt x="0" y="1812"/>
                  </a:lnTo>
                  <a:lnTo>
                    <a:pt x="96" y="1835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2860560" y="3832200"/>
              <a:ext cx="354240" cy="55728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3" y="1713"/>
                  </a:lnTo>
                  <a:lnTo>
                    <a:pt x="126" y="1668"/>
                  </a:lnTo>
                  <a:lnTo>
                    <a:pt x="187" y="1619"/>
                  </a:lnTo>
                  <a:lnTo>
                    <a:pt x="249" y="1565"/>
                  </a:lnTo>
                  <a:lnTo>
                    <a:pt x="308" y="1506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4"/>
                  </a:lnTo>
                  <a:lnTo>
                    <a:pt x="534" y="1245"/>
                  </a:lnTo>
                  <a:lnTo>
                    <a:pt x="587" y="1173"/>
                  </a:lnTo>
                  <a:lnTo>
                    <a:pt x="638" y="1101"/>
                  </a:lnTo>
                  <a:lnTo>
                    <a:pt x="687" y="1028"/>
                  </a:lnTo>
                  <a:lnTo>
                    <a:pt x="733" y="954"/>
                  </a:lnTo>
                  <a:lnTo>
                    <a:pt x="778" y="880"/>
                  </a:lnTo>
                  <a:lnTo>
                    <a:pt x="821" y="806"/>
                  </a:lnTo>
                  <a:lnTo>
                    <a:pt x="861" y="733"/>
                  </a:lnTo>
                  <a:lnTo>
                    <a:pt x="899" y="661"/>
                  </a:lnTo>
                  <a:lnTo>
                    <a:pt x="934" y="590"/>
                  </a:lnTo>
                  <a:lnTo>
                    <a:pt x="966" y="522"/>
                  </a:lnTo>
                  <a:lnTo>
                    <a:pt x="996" y="456"/>
                  </a:lnTo>
                  <a:lnTo>
                    <a:pt x="1022" y="393"/>
                  </a:lnTo>
                  <a:lnTo>
                    <a:pt x="1046" y="332"/>
                  </a:lnTo>
                  <a:lnTo>
                    <a:pt x="1065" y="276"/>
                  </a:lnTo>
                  <a:lnTo>
                    <a:pt x="1082" y="224"/>
                  </a:lnTo>
                  <a:lnTo>
                    <a:pt x="1096" y="176"/>
                  </a:lnTo>
                  <a:lnTo>
                    <a:pt x="1106" y="133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6" y="0"/>
                  </a:lnTo>
                  <a:lnTo>
                    <a:pt x="1088" y="3"/>
                  </a:lnTo>
                  <a:lnTo>
                    <a:pt x="1086" y="15"/>
                  </a:lnTo>
                  <a:lnTo>
                    <a:pt x="1078" y="37"/>
                  </a:lnTo>
                  <a:lnTo>
                    <a:pt x="1065" y="68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1" y="260"/>
                  </a:lnTo>
                  <a:lnTo>
                    <a:pt x="902" y="392"/>
                  </a:lnTo>
                  <a:lnTo>
                    <a:pt x="823" y="539"/>
                  </a:lnTo>
                  <a:lnTo>
                    <a:pt x="736" y="696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6" y="1025"/>
                  </a:lnTo>
                  <a:lnTo>
                    <a:pt x="499" y="1106"/>
                  </a:lnTo>
                  <a:lnTo>
                    <a:pt x="450" y="1185"/>
                  </a:lnTo>
                  <a:lnTo>
                    <a:pt x="402" y="1261"/>
                  </a:lnTo>
                  <a:lnTo>
                    <a:pt x="355" y="1334"/>
                  </a:lnTo>
                  <a:lnTo>
                    <a:pt x="309" y="1404"/>
                  </a:lnTo>
                  <a:lnTo>
                    <a:pt x="265" y="1469"/>
                  </a:lnTo>
                  <a:lnTo>
                    <a:pt x="222" y="1528"/>
                  </a:lnTo>
                  <a:lnTo>
                    <a:pt x="182" y="1583"/>
                  </a:lnTo>
                  <a:lnTo>
                    <a:pt x="143" y="1631"/>
                  </a:lnTo>
                  <a:lnTo>
                    <a:pt x="108" y="1672"/>
                  </a:lnTo>
                  <a:lnTo>
                    <a:pt x="76" y="1705"/>
                  </a:lnTo>
                  <a:lnTo>
                    <a:pt x="46" y="1730"/>
                  </a:lnTo>
                  <a:lnTo>
                    <a:pt x="21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2847960" y="3819600"/>
              <a:ext cx="38088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6" y="0"/>
                  </a:moveTo>
                  <a:lnTo>
                    <a:pt x="1167" y="82"/>
                  </a:lnTo>
                  <a:lnTo>
                    <a:pt x="1172" y="84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10" y="21"/>
                  </a:lnTo>
                  <a:lnTo>
                    <a:pt x="1112" y="29"/>
                  </a:lnTo>
                  <a:lnTo>
                    <a:pt x="1114" y="38"/>
                  </a:lnTo>
                  <a:lnTo>
                    <a:pt x="1115" y="51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10" y="113"/>
                  </a:lnTo>
                  <a:lnTo>
                    <a:pt x="1106" y="134"/>
                  </a:lnTo>
                  <a:lnTo>
                    <a:pt x="1096" y="176"/>
                  </a:lnTo>
                  <a:lnTo>
                    <a:pt x="1082" y="224"/>
                  </a:lnTo>
                  <a:lnTo>
                    <a:pt x="1065" y="276"/>
                  </a:lnTo>
                  <a:lnTo>
                    <a:pt x="1046" y="333"/>
                  </a:lnTo>
                  <a:lnTo>
                    <a:pt x="1022" y="393"/>
                  </a:lnTo>
                  <a:lnTo>
                    <a:pt x="996" y="457"/>
                  </a:lnTo>
                  <a:lnTo>
                    <a:pt x="966" y="523"/>
                  </a:lnTo>
                  <a:lnTo>
                    <a:pt x="934" y="591"/>
                  </a:lnTo>
                  <a:lnTo>
                    <a:pt x="899" y="661"/>
                  </a:lnTo>
                  <a:lnTo>
                    <a:pt x="861" y="733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3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5" y="1245"/>
                  </a:lnTo>
                  <a:lnTo>
                    <a:pt x="508" y="1280"/>
                  </a:lnTo>
                  <a:lnTo>
                    <a:pt x="480" y="1315"/>
                  </a:lnTo>
                  <a:lnTo>
                    <a:pt x="453" y="1348"/>
                  </a:lnTo>
                  <a:lnTo>
                    <a:pt x="424" y="1381"/>
                  </a:lnTo>
                  <a:lnTo>
                    <a:pt x="396" y="1414"/>
                  </a:lnTo>
                  <a:lnTo>
                    <a:pt x="367" y="1446"/>
                  </a:lnTo>
                  <a:lnTo>
                    <a:pt x="338" y="1477"/>
                  </a:lnTo>
                  <a:lnTo>
                    <a:pt x="308" y="1507"/>
                  </a:lnTo>
                  <a:lnTo>
                    <a:pt x="278" y="1536"/>
                  </a:lnTo>
                  <a:lnTo>
                    <a:pt x="249" y="1564"/>
                  </a:lnTo>
                  <a:lnTo>
                    <a:pt x="218" y="1593"/>
                  </a:lnTo>
                  <a:lnTo>
                    <a:pt x="188" y="1619"/>
                  </a:lnTo>
                  <a:lnTo>
                    <a:pt x="158" y="1644"/>
                  </a:lnTo>
                  <a:lnTo>
                    <a:pt x="126" y="1668"/>
                  </a:lnTo>
                  <a:lnTo>
                    <a:pt x="95" y="1691"/>
                  </a:lnTo>
                  <a:lnTo>
                    <a:pt x="63" y="1714"/>
                  </a:lnTo>
                  <a:lnTo>
                    <a:pt x="32" y="1734"/>
                  </a:lnTo>
                  <a:lnTo>
                    <a:pt x="0" y="1753"/>
                  </a:lnTo>
                  <a:lnTo>
                    <a:pt x="81" y="1835"/>
                  </a:lnTo>
                  <a:lnTo>
                    <a:pt x="113" y="1815"/>
                  </a:lnTo>
                  <a:lnTo>
                    <a:pt x="145" y="1795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9" y="1726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7"/>
                  </a:lnTo>
                  <a:lnTo>
                    <a:pt x="361" y="1618"/>
                  </a:lnTo>
                  <a:lnTo>
                    <a:pt x="390" y="1588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4" y="1430"/>
                  </a:lnTo>
                  <a:lnTo>
                    <a:pt x="562" y="1396"/>
                  </a:lnTo>
                  <a:lnTo>
                    <a:pt x="590" y="1361"/>
                  </a:lnTo>
                  <a:lnTo>
                    <a:pt x="616" y="1326"/>
                  </a:lnTo>
                  <a:lnTo>
                    <a:pt x="643" y="1291"/>
                  </a:lnTo>
                  <a:lnTo>
                    <a:pt x="668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5" y="1035"/>
                  </a:lnTo>
                  <a:lnTo>
                    <a:pt x="860" y="961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8" y="604"/>
                  </a:lnTo>
                  <a:lnTo>
                    <a:pt x="1078" y="538"/>
                  </a:lnTo>
                  <a:lnTo>
                    <a:pt x="1104" y="474"/>
                  </a:lnTo>
                  <a:lnTo>
                    <a:pt x="1128" y="414"/>
                  </a:lnTo>
                  <a:lnTo>
                    <a:pt x="1147" y="357"/>
                  </a:lnTo>
                  <a:lnTo>
                    <a:pt x="1164" y="305"/>
                  </a:lnTo>
                  <a:lnTo>
                    <a:pt x="1178" y="257"/>
                  </a:lnTo>
                  <a:lnTo>
                    <a:pt x="1188" y="214"/>
                  </a:lnTo>
                  <a:lnTo>
                    <a:pt x="1192" y="194"/>
                  </a:lnTo>
                  <a:lnTo>
                    <a:pt x="1195" y="176"/>
                  </a:lnTo>
                  <a:lnTo>
                    <a:pt x="1196" y="159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6"/>
                  </a:lnTo>
                  <a:lnTo>
                    <a:pt x="1189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3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3" y="55"/>
                  </a:lnTo>
                  <a:lnTo>
                    <a:pt x="1167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2843280" y="3819600"/>
              <a:ext cx="37620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6" y="1753"/>
                  </a:moveTo>
                  <a:lnTo>
                    <a:pt x="97" y="1835"/>
                  </a:lnTo>
                  <a:lnTo>
                    <a:pt x="108" y="1834"/>
                  </a:lnTo>
                  <a:lnTo>
                    <a:pt x="119" y="1829"/>
                  </a:lnTo>
                  <a:lnTo>
                    <a:pt x="130" y="1821"/>
                  </a:lnTo>
                  <a:lnTo>
                    <a:pt x="144" y="1812"/>
                  </a:lnTo>
                  <a:lnTo>
                    <a:pt x="158" y="1801"/>
                  </a:lnTo>
                  <a:lnTo>
                    <a:pt x="174" y="1787"/>
                  </a:lnTo>
                  <a:lnTo>
                    <a:pt x="190" y="1772"/>
                  </a:lnTo>
                  <a:lnTo>
                    <a:pt x="206" y="1754"/>
                  </a:lnTo>
                  <a:lnTo>
                    <a:pt x="223" y="1734"/>
                  </a:lnTo>
                  <a:lnTo>
                    <a:pt x="241" y="1713"/>
                  </a:lnTo>
                  <a:lnTo>
                    <a:pt x="260" y="1690"/>
                  </a:lnTo>
                  <a:lnTo>
                    <a:pt x="280" y="1665"/>
                  </a:lnTo>
                  <a:lnTo>
                    <a:pt x="320" y="1610"/>
                  </a:lnTo>
                  <a:lnTo>
                    <a:pt x="363" y="1550"/>
                  </a:lnTo>
                  <a:lnTo>
                    <a:pt x="407" y="1485"/>
                  </a:lnTo>
                  <a:lnTo>
                    <a:pt x="453" y="1416"/>
                  </a:lnTo>
                  <a:lnTo>
                    <a:pt x="500" y="1342"/>
                  </a:lnTo>
                  <a:lnTo>
                    <a:pt x="548" y="1266"/>
                  </a:lnTo>
                  <a:lnTo>
                    <a:pt x="597" y="1187"/>
                  </a:lnTo>
                  <a:lnTo>
                    <a:pt x="644" y="1106"/>
                  </a:lnTo>
                  <a:lnTo>
                    <a:pt x="693" y="1025"/>
                  </a:lnTo>
                  <a:lnTo>
                    <a:pt x="741" y="943"/>
                  </a:lnTo>
                  <a:lnTo>
                    <a:pt x="834" y="778"/>
                  </a:lnTo>
                  <a:lnTo>
                    <a:pt x="921" y="621"/>
                  </a:lnTo>
                  <a:lnTo>
                    <a:pt x="1000" y="474"/>
                  </a:lnTo>
                  <a:lnTo>
                    <a:pt x="1069" y="343"/>
                  </a:lnTo>
                  <a:lnTo>
                    <a:pt x="1098" y="284"/>
                  </a:lnTo>
                  <a:lnTo>
                    <a:pt x="1124" y="233"/>
                  </a:lnTo>
                  <a:lnTo>
                    <a:pt x="1146" y="187"/>
                  </a:lnTo>
                  <a:lnTo>
                    <a:pt x="1163" y="149"/>
                  </a:lnTo>
                  <a:lnTo>
                    <a:pt x="1176" y="119"/>
                  </a:lnTo>
                  <a:lnTo>
                    <a:pt x="1184" y="97"/>
                  </a:lnTo>
                  <a:lnTo>
                    <a:pt x="1186" y="89"/>
                  </a:lnTo>
                  <a:lnTo>
                    <a:pt x="1186" y="85"/>
                  </a:lnTo>
                  <a:lnTo>
                    <a:pt x="1186" y="81"/>
                  </a:lnTo>
                  <a:lnTo>
                    <a:pt x="1131" y="19"/>
                  </a:lnTo>
                  <a:lnTo>
                    <a:pt x="1104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4" y="82"/>
                  </a:lnTo>
                  <a:lnTo>
                    <a:pt x="1159" y="64"/>
                  </a:lnTo>
                  <a:lnTo>
                    <a:pt x="1104" y="4"/>
                  </a:lnTo>
                  <a:lnTo>
                    <a:pt x="1104" y="4"/>
                  </a:lnTo>
                  <a:lnTo>
                    <a:pt x="1104" y="8"/>
                  </a:lnTo>
                  <a:lnTo>
                    <a:pt x="1102" y="16"/>
                  </a:lnTo>
                  <a:lnTo>
                    <a:pt x="1094" y="38"/>
                  </a:lnTo>
                  <a:lnTo>
                    <a:pt x="1081" y="68"/>
                  </a:lnTo>
                  <a:lnTo>
                    <a:pt x="1064" y="106"/>
                  </a:lnTo>
                  <a:lnTo>
                    <a:pt x="1042" y="151"/>
                  </a:lnTo>
                  <a:lnTo>
                    <a:pt x="1016" y="203"/>
                  </a:lnTo>
                  <a:lnTo>
                    <a:pt x="988" y="262"/>
                  </a:lnTo>
                  <a:lnTo>
                    <a:pt x="919" y="392"/>
                  </a:lnTo>
                  <a:lnTo>
                    <a:pt x="839" y="539"/>
                  </a:lnTo>
                  <a:lnTo>
                    <a:pt x="752" y="697"/>
                  </a:lnTo>
                  <a:lnTo>
                    <a:pt x="659" y="861"/>
                  </a:lnTo>
                  <a:lnTo>
                    <a:pt x="611" y="943"/>
                  </a:lnTo>
                  <a:lnTo>
                    <a:pt x="562" y="1025"/>
                  </a:lnTo>
                  <a:lnTo>
                    <a:pt x="515" y="1106"/>
                  </a:lnTo>
                  <a:lnTo>
                    <a:pt x="465" y="1185"/>
                  </a:lnTo>
                  <a:lnTo>
                    <a:pt x="418" y="1261"/>
                  </a:lnTo>
                  <a:lnTo>
                    <a:pt x="371" y="1334"/>
                  </a:lnTo>
                  <a:lnTo>
                    <a:pt x="325" y="1404"/>
                  </a:lnTo>
                  <a:lnTo>
                    <a:pt x="281" y="1469"/>
                  </a:lnTo>
                  <a:lnTo>
                    <a:pt x="239" y="1529"/>
                  </a:lnTo>
                  <a:lnTo>
                    <a:pt x="198" y="1583"/>
                  </a:lnTo>
                  <a:lnTo>
                    <a:pt x="178" y="1608"/>
                  </a:lnTo>
                  <a:lnTo>
                    <a:pt x="160" y="1631"/>
                  </a:lnTo>
                  <a:lnTo>
                    <a:pt x="142" y="1652"/>
                  </a:lnTo>
                  <a:lnTo>
                    <a:pt x="123" y="1672"/>
                  </a:lnTo>
                  <a:lnTo>
                    <a:pt x="108" y="1690"/>
                  </a:lnTo>
                  <a:lnTo>
                    <a:pt x="92" y="1706"/>
                  </a:lnTo>
                  <a:lnTo>
                    <a:pt x="77" y="1720"/>
                  </a:lnTo>
                  <a:lnTo>
                    <a:pt x="63" y="1731"/>
                  </a:lnTo>
                  <a:lnTo>
                    <a:pt x="49" y="1740"/>
                  </a:lnTo>
                  <a:lnTo>
                    <a:pt x="38" y="1747"/>
                  </a:lnTo>
                  <a:lnTo>
                    <a:pt x="27" y="1752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6" y="1753"/>
                  </a:lnTo>
                  <a:lnTo>
                    <a:pt x="0" y="1813"/>
                  </a:lnTo>
                  <a:lnTo>
                    <a:pt x="97" y="1835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2593800" y="3843360"/>
              <a:ext cx="193680" cy="631800"/>
            </a:xfrm>
            <a:custGeom>
              <a:avLst/>
              <a:gdLst/>
              <a:ahLst/>
              <a:rect l="l" t="t" r="r" b="b"/>
              <a:pathLst>
                <a:path w="610" h="1986">
                  <a:moveTo>
                    <a:pt x="0" y="1986"/>
                  </a:moveTo>
                  <a:lnTo>
                    <a:pt x="50" y="1930"/>
                  </a:lnTo>
                  <a:lnTo>
                    <a:pt x="97" y="1870"/>
                  </a:lnTo>
                  <a:lnTo>
                    <a:pt x="143" y="1805"/>
                  </a:lnTo>
                  <a:lnTo>
                    <a:pt x="186" y="1735"/>
                  </a:lnTo>
                  <a:lnTo>
                    <a:pt x="227" y="1663"/>
                  </a:lnTo>
                  <a:lnTo>
                    <a:pt x="267" y="1588"/>
                  </a:lnTo>
                  <a:lnTo>
                    <a:pt x="303" y="1510"/>
                  </a:lnTo>
                  <a:lnTo>
                    <a:pt x="339" y="1431"/>
                  </a:lnTo>
                  <a:lnTo>
                    <a:pt x="371" y="1348"/>
                  </a:lnTo>
                  <a:lnTo>
                    <a:pt x="401" y="1265"/>
                  </a:lnTo>
                  <a:lnTo>
                    <a:pt x="430" y="1182"/>
                  </a:lnTo>
                  <a:lnTo>
                    <a:pt x="456" y="1097"/>
                  </a:lnTo>
                  <a:lnTo>
                    <a:pt x="480" y="1013"/>
                  </a:lnTo>
                  <a:lnTo>
                    <a:pt x="502" y="930"/>
                  </a:lnTo>
                  <a:lnTo>
                    <a:pt x="522" y="848"/>
                  </a:lnTo>
                  <a:lnTo>
                    <a:pt x="541" y="765"/>
                  </a:lnTo>
                  <a:lnTo>
                    <a:pt x="557" y="687"/>
                  </a:lnTo>
                  <a:lnTo>
                    <a:pt x="570" y="609"/>
                  </a:lnTo>
                  <a:lnTo>
                    <a:pt x="582" y="534"/>
                  </a:lnTo>
                  <a:lnTo>
                    <a:pt x="592" y="463"/>
                  </a:lnTo>
                  <a:lnTo>
                    <a:pt x="599" y="395"/>
                  </a:lnTo>
                  <a:lnTo>
                    <a:pt x="604" y="331"/>
                  </a:lnTo>
                  <a:lnTo>
                    <a:pt x="608" y="270"/>
                  </a:lnTo>
                  <a:lnTo>
                    <a:pt x="610" y="216"/>
                  </a:lnTo>
                  <a:lnTo>
                    <a:pt x="609" y="165"/>
                  </a:lnTo>
                  <a:lnTo>
                    <a:pt x="607" y="122"/>
                  </a:lnTo>
                  <a:lnTo>
                    <a:pt x="602" y="83"/>
                  </a:lnTo>
                  <a:lnTo>
                    <a:pt x="596" y="52"/>
                  </a:lnTo>
                  <a:lnTo>
                    <a:pt x="587" y="27"/>
                  </a:lnTo>
                  <a:lnTo>
                    <a:pt x="577" y="10"/>
                  </a:lnTo>
                  <a:lnTo>
                    <a:pt x="564" y="1"/>
                  </a:lnTo>
                  <a:lnTo>
                    <a:pt x="551" y="0"/>
                  </a:lnTo>
                  <a:lnTo>
                    <a:pt x="554" y="1"/>
                  </a:lnTo>
                  <a:lnTo>
                    <a:pt x="555" y="14"/>
                  </a:lnTo>
                  <a:lnTo>
                    <a:pt x="553" y="36"/>
                  </a:lnTo>
                  <a:lnTo>
                    <a:pt x="550" y="69"/>
                  </a:lnTo>
                  <a:lnTo>
                    <a:pt x="544" y="111"/>
                  </a:lnTo>
                  <a:lnTo>
                    <a:pt x="536" y="161"/>
                  </a:lnTo>
                  <a:lnTo>
                    <a:pt x="526" y="218"/>
                  </a:lnTo>
                  <a:lnTo>
                    <a:pt x="513" y="282"/>
                  </a:lnTo>
                  <a:lnTo>
                    <a:pt x="485" y="427"/>
                  </a:lnTo>
                  <a:lnTo>
                    <a:pt x="449" y="590"/>
                  </a:lnTo>
                  <a:lnTo>
                    <a:pt x="411" y="765"/>
                  </a:lnTo>
                  <a:lnTo>
                    <a:pt x="366" y="949"/>
                  </a:lnTo>
                  <a:lnTo>
                    <a:pt x="343" y="1042"/>
                  </a:lnTo>
                  <a:lnTo>
                    <a:pt x="321" y="1133"/>
                  </a:lnTo>
                  <a:lnTo>
                    <a:pt x="297" y="1224"/>
                  </a:lnTo>
                  <a:lnTo>
                    <a:pt x="272" y="1313"/>
                  </a:lnTo>
                  <a:lnTo>
                    <a:pt x="248" y="1401"/>
                  </a:lnTo>
                  <a:lnTo>
                    <a:pt x="222" y="1484"/>
                  </a:lnTo>
                  <a:lnTo>
                    <a:pt x="199" y="1564"/>
                  </a:lnTo>
                  <a:lnTo>
                    <a:pt x="175" y="1638"/>
                  </a:lnTo>
                  <a:lnTo>
                    <a:pt x="150" y="1708"/>
                  </a:lnTo>
                  <a:lnTo>
                    <a:pt x="127" y="1772"/>
                  </a:lnTo>
                  <a:lnTo>
                    <a:pt x="103" y="1829"/>
                  </a:lnTo>
                  <a:lnTo>
                    <a:pt x="81" y="1878"/>
                  </a:lnTo>
                  <a:lnTo>
                    <a:pt x="59" y="1919"/>
                  </a:lnTo>
                  <a:lnTo>
                    <a:pt x="38" y="1952"/>
                  </a:lnTo>
                  <a:lnTo>
                    <a:pt x="18" y="1974"/>
                  </a:lnTo>
                  <a:lnTo>
                    <a:pt x="0" y="19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2581200" y="3830760"/>
              <a:ext cx="220680" cy="657000"/>
            </a:xfrm>
            <a:custGeom>
              <a:avLst/>
              <a:gdLst/>
              <a:ahLst/>
              <a:rect l="l" t="t" r="r" b="b"/>
              <a:pathLst>
                <a:path w="692" h="2069">
                  <a:moveTo>
                    <a:pt x="551" y="1"/>
                  </a:moveTo>
                  <a:lnTo>
                    <a:pt x="632" y="83"/>
                  </a:lnTo>
                  <a:lnTo>
                    <a:pt x="639" y="82"/>
                  </a:lnTo>
                  <a:lnTo>
                    <a:pt x="643" y="83"/>
                  </a:lnTo>
                  <a:lnTo>
                    <a:pt x="640" y="81"/>
                  </a:lnTo>
                  <a:lnTo>
                    <a:pt x="592" y="34"/>
                  </a:lnTo>
                  <a:lnTo>
                    <a:pt x="585" y="25"/>
                  </a:lnTo>
                  <a:lnTo>
                    <a:pt x="588" y="32"/>
                  </a:lnTo>
                  <a:lnTo>
                    <a:pt x="592" y="42"/>
                  </a:lnTo>
                  <a:lnTo>
                    <a:pt x="596" y="54"/>
                  </a:lnTo>
                  <a:lnTo>
                    <a:pt x="600" y="69"/>
                  </a:lnTo>
                  <a:lnTo>
                    <a:pt x="602" y="86"/>
                  </a:lnTo>
                  <a:lnTo>
                    <a:pt x="604" y="103"/>
                  </a:lnTo>
                  <a:lnTo>
                    <a:pt x="607" y="124"/>
                  </a:lnTo>
                  <a:lnTo>
                    <a:pt x="609" y="167"/>
                  </a:lnTo>
                  <a:lnTo>
                    <a:pt x="610" y="218"/>
                  </a:lnTo>
                  <a:lnTo>
                    <a:pt x="608" y="272"/>
                  </a:lnTo>
                  <a:lnTo>
                    <a:pt x="604" y="332"/>
                  </a:lnTo>
                  <a:lnTo>
                    <a:pt x="599" y="397"/>
                  </a:lnTo>
                  <a:lnTo>
                    <a:pt x="592" y="464"/>
                  </a:lnTo>
                  <a:lnTo>
                    <a:pt x="582" y="536"/>
                  </a:lnTo>
                  <a:lnTo>
                    <a:pt x="570" y="610"/>
                  </a:lnTo>
                  <a:lnTo>
                    <a:pt x="556" y="688"/>
                  </a:lnTo>
                  <a:lnTo>
                    <a:pt x="541" y="767"/>
                  </a:lnTo>
                  <a:lnTo>
                    <a:pt x="522" y="848"/>
                  </a:lnTo>
                  <a:lnTo>
                    <a:pt x="502" y="932"/>
                  </a:lnTo>
                  <a:lnTo>
                    <a:pt x="480" y="1015"/>
                  </a:lnTo>
                  <a:lnTo>
                    <a:pt x="456" y="1099"/>
                  </a:lnTo>
                  <a:lnTo>
                    <a:pt x="430" y="1183"/>
                  </a:lnTo>
                  <a:lnTo>
                    <a:pt x="401" y="1267"/>
                  </a:lnTo>
                  <a:lnTo>
                    <a:pt x="387" y="1308"/>
                  </a:lnTo>
                  <a:lnTo>
                    <a:pt x="371" y="1349"/>
                  </a:lnTo>
                  <a:lnTo>
                    <a:pt x="355" y="1390"/>
                  </a:lnTo>
                  <a:lnTo>
                    <a:pt x="339" y="1431"/>
                  </a:lnTo>
                  <a:lnTo>
                    <a:pt x="322" y="1471"/>
                  </a:lnTo>
                  <a:lnTo>
                    <a:pt x="303" y="1511"/>
                  </a:lnTo>
                  <a:lnTo>
                    <a:pt x="285" y="1550"/>
                  </a:lnTo>
                  <a:lnTo>
                    <a:pt x="267" y="1589"/>
                  </a:lnTo>
                  <a:lnTo>
                    <a:pt x="248" y="1628"/>
                  </a:lnTo>
                  <a:lnTo>
                    <a:pt x="227" y="1664"/>
                  </a:lnTo>
                  <a:lnTo>
                    <a:pt x="208" y="1701"/>
                  </a:lnTo>
                  <a:lnTo>
                    <a:pt x="186" y="1737"/>
                  </a:lnTo>
                  <a:lnTo>
                    <a:pt x="165" y="1771"/>
                  </a:lnTo>
                  <a:lnTo>
                    <a:pt x="143" y="1806"/>
                  </a:lnTo>
                  <a:lnTo>
                    <a:pt x="121" y="1839"/>
                  </a:lnTo>
                  <a:lnTo>
                    <a:pt x="98" y="1871"/>
                  </a:lnTo>
                  <a:lnTo>
                    <a:pt x="74" y="1902"/>
                  </a:lnTo>
                  <a:lnTo>
                    <a:pt x="50" y="1931"/>
                  </a:lnTo>
                  <a:lnTo>
                    <a:pt x="25" y="1961"/>
                  </a:lnTo>
                  <a:lnTo>
                    <a:pt x="0" y="1988"/>
                  </a:lnTo>
                  <a:lnTo>
                    <a:pt x="82" y="2069"/>
                  </a:lnTo>
                  <a:lnTo>
                    <a:pt x="107" y="2042"/>
                  </a:lnTo>
                  <a:lnTo>
                    <a:pt x="132" y="2013"/>
                  </a:lnTo>
                  <a:lnTo>
                    <a:pt x="156" y="1984"/>
                  </a:lnTo>
                  <a:lnTo>
                    <a:pt x="179" y="1953"/>
                  </a:lnTo>
                  <a:lnTo>
                    <a:pt x="202" y="1920"/>
                  </a:lnTo>
                  <a:lnTo>
                    <a:pt x="225" y="1887"/>
                  </a:lnTo>
                  <a:lnTo>
                    <a:pt x="246" y="1854"/>
                  </a:lnTo>
                  <a:lnTo>
                    <a:pt x="268" y="1818"/>
                  </a:lnTo>
                  <a:lnTo>
                    <a:pt x="289" y="1783"/>
                  </a:lnTo>
                  <a:lnTo>
                    <a:pt x="309" y="1746"/>
                  </a:lnTo>
                  <a:lnTo>
                    <a:pt x="330" y="1709"/>
                  </a:lnTo>
                  <a:lnTo>
                    <a:pt x="349" y="1671"/>
                  </a:lnTo>
                  <a:lnTo>
                    <a:pt x="367" y="1632"/>
                  </a:lnTo>
                  <a:lnTo>
                    <a:pt x="385" y="1592"/>
                  </a:lnTo>
                  <a:lnTo>
                    <a:pt x="403" y="1552"/>
                  </a:lnTo>
                  <a:lnTo>
                    <a:pt x="421" y="1512"/>
                  </a:lnTo>
                  <a:lnTo>
                    <a:pt x="437" y="1473"/>
                  </a:lnTo>
                  <a:lnTo>
                    <a:pt x="453" y="1431"/>
                  </a:lnTo>
                  <a:lnTo>
                    <a:pt x="469" y="1389"/>
                  </a:lnTo>
                  <a:lnTo>
                    <a:pt x="484" y="1348"/>
                  </a:lnTo>
                  <a:lnTo>
                    <a:pt x="512" y="1264"/>
                  </a:lnTo>
                  <a:lnTo>
                    <a:pt x="538" y="1180"/>
                  </a:lnTo>
                  <a:lnTo>
                    <a:pt x="562" y="1096"/>
                  </a:lnTo>
                  <a:lnTo>
                    <a:pt x="585" y="1013"/>
                  </a:lnTo>
                  <a:lnTo>
                    <a:pt x="604" y="929"/>
                  </a:lnTo>
                  <a:lnTo>
                    <a:pt x="623" y="848"/>
                  </a:lnTo>
                  <a:lnTo>
                    <a:pt x="639" y="769"/>
                  </a:lnTo>
                  <a:lnTo>
                    <a:pt x="652" y="691"/>
                  </a:lnTo>
                  <a:lnTo>
                    <a:pt x="664" y="617"/>
                  </a:lnTo>
                  <a:lnTo>
                    <a:pt x="674" y="545"/>
                  </a:lnTo>
                  <a:lnTo>
                    <a:pt x="681" y="477"/>
                  </a:lnTo>
                  <a:lnTo>
                    <a:pt x="686" y="413"/>
                  </a:lnTo>
                  <a:lnTo>
                    <a:pt x="690" y="352"/>
                  </a:lnTo>
                  <a:lnTo>
                    <a:pt x="692" y="297"/>
                  </a:lnTo>
                  <a:lnTo>
                    <a:pt x="691" y="247"/>
                  </a:lnTo>
                  <a:lnTo>
                    <a:pt x="689" y="203"/>
                  </a:lnTo>
                  <a:lnTo>
                    <a:pt x="688" y="183"/>
                  </a:lnTo>
                  <a:lnTo>
                    <a:pt x="684" y="165"/>
                  </a:lnTo>
                  <a:lnTo>
                    <a:pt x="682" y="148"/>
                  </a:lnTo>
                  <a:lnTo>
                    <a:pt x="678" y="133"/>
                  </a:lnTo>
                  <a:lnTo>
                    <a:pt x="674" y="119"/>
                  </a:lnTo>
                  <a:lnTo>
                    <a:pt x="669" y="107"/>
                  </a:lnTo>
                  <a:lnTo>
                    <a:pt x="662" y="94"/>
                  </a:lnTo>
                  <a:lnTo>
                    <a:pt x="644" y="70"/>
                  </a:lnTo>
                  <a:lnTo>
                    <a:pt x="584" y="12"/>
                  </a:lnTo>
                  <a:lnTo>
                    <a:pt x="568" y="2"/>
                  </a:lnTo>
                  <a:lnTo>
                    <a:pt x="559" y="0"/>
                  </a:lnTo>
                  <a:lnTo>
                    <a:pt x="551" y="1"/>
                  </a:lnTo>
                  <a:lnTo>
                    <a:pt x="632" y="83"/>
                  </a:lnTo>
                  <a:lnTo>
                    <a:pt x="551" y="1"/>
                  </a:lnTo>
                  <a:lnTo>
                    <a:pt x="544" y="89"/>
                  </a:lnTo>
                  <a:lnTo>
                    <a:pt x="632" y="83"/>
                  </a:lnTo>
                  <a:lnTo>
                    <a:pt x="551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2581200" y="3830760"/>
              <a:ext cx="203400" cy="657000"/>
            </a:xfrm>
            <a:custGeom>
              <a:avLst/>
              <a:gdLst/>
              <a:ahLst/>
              <a:rect l="l" t="t" r="r" b="b"/>
              <a:pathLst>
                <a:path w="637" h="2069">
                  <a:moveTo>
                    <a:pt x="0" y="1988"/>
                  </a:moveTo>
                  <a:lnTo>
                    <a:pt x="82" y="2069"/>
                  </a:lnTo>
                  <a:lnTo>
                    <a:pt x="91" y="2065"/>
                  </a:lnTo>
                  <a:lnTo>
                    <a:pt x="100" y="2057"/>
                  </a:lnTo>
                  <a:lnTo>
                    <a:pt x="111" y="2048"/>
                  </a:lnTo>
                  <a:lnTo>
                    <a:pt x="120" y="2034"/>
                  </a:lnTo>
                  <a:lnTo>
                    <a:pt x="130" y="2019"/>
                  </a:lnTo>
                  <a:lnTo>
                    <a:pt x="142" y="2002"/>
                  </a:lnTo>
                  <a:lnTo>
                    <a:pt x="152" y="1983"/>
                  </a:lnTo>
                  <a:lnTo>
                    <a:pt x="163" y="1961"/>
                  </a:lnTo>
                  <a:lnTo>
                    <a:pt x="173" y="1937"/>
                  </a:lnTo>
                  <a:lnTo>
                    <a:pt x="185" y="1912"/>
                  </a:lnTo>
                  <a:lnTo>
                    <a:pt x="196" y="1883"/>
                  </a:lnTo>
                  <a:lnTo>
                    <a:pt x="209" y="1855"/>
                  </a:lnTo>
                  <a:lnTo>
                    <a:pt x="232" y="1791"/>
                  </a:lnTo>
                  <a:lnTo>
                    <a:pt x="257" y="1721"/>
                  </a:lnTo>
                  <a:lnTo>
                    <a:pt x="281" y="1646"/>
                  </a:lnTo>
                  <a:lnTo>
                    <a:pt x="305" y="1566"/>
                  </a:lnTo>
                  <a:lnTo>
                    <a:pt x="330" y="1483"/>
                  </a:lnTo>
                  <a:lnTo>
                    <a:pt x="354" y="1396"/>
                  </a:lnTo>
                  <a:lnTo>
                    <a:pt x="379" y="1307"/>
                  </a:lnTo>
                  <a:lnTo>
                    <a:pt x="403" y="1216"/>
                  </a:lnTo>
                  <a:lnTo>
                    <a:pt x="425" y="1123"/>
                  </a:lnTo>
                  <a:lnTo>
                    <a:pt x="449" y="1031"/>
                  </a:lnTo>
                  <a:lnTo>
                    <a:pt x="493" y="848"/>
                  </a:lnTo>
                  <a:lnTo>
                    <a:pt x="531" y="672"/>
                  </a:lnTo>
                  <a:lnTo>
                    <a:pt x="567" y="509"/>
                  </a:lnTo>
                  <a:lnTo>
                    <a:pt x="595" y="364"/>
                  </a:lnTo>
                  <a:lnTo>
                    <a:pt x="608" y="300"/>
                  </a:lnTo>
                  <a:lnTo>
                    <a:pt x="618" y="243"/>
                  </a:lnTo>
                  <a:lnTo>
                    <a:pt x="626" y="194"/>
                  </a:lnTo>
                  <a:lnTo>
                    <a:pt x="632" y="151"/>
                  </a:lnTo>
                  <a:lnTo>
                    <a:pt x="635" y="119"/>
                  </a:lnTo>
                  <a:lnTo>
                    <a:pt x="637" y="96"/>
                  </a:lnTo>
                  <a:lnTo>
                    <a:pt x="637" y="89"/>
                  </a:lnTo>
                  <a:lnTo>
                    <a:pt x="636" y="83"/>
                  </a:lnTo>
                  <a:lnTo>
                    <a:pt x="632" y="74"/>
                  </a:lnTo>
                  <a:lnTo>
                    <a:pt x="556" y="1"/>
                  </a:lnTo>
                  <a:lnTo>
                    <a:pt x="552" y="0"/>
                  </a:lnTo>
                  <a:lnTo>
                    <a:pt x="551" y="1"/>
                  </a:lnTo>
                  <a:lnTo>
                    <a:pt x="632" y="83"/>
                  </a:lnTo>
                  <a:lnTo>
                    <a:pt x="633" y="82"/>
                  </a:lnTo>
                  <a:lnTo>
                    <a:pt x="631" y="81"/>
                  </a:lnTo>
                  <a:lnTo>
                    <a:pt x="556" y="9"/>
                  </a:lnTo>
                  <a:lnTo>
                    <a:pt x="554" y="4"/>
                  </a:lnTo>
                  <a:lnTo>
                    <a:pt x="554" y="9"/>
                  </a:lnTo>
                  <a:lnTo>
                    <a:pt x="554" y="16"/>
                  </a:lnTo>
                  <a:lnTo>
                    <a:pt x="553" y="38"/>
                  </a:lnTo>
                  <a:lnTo>
                    <a:pt x="550" y="72"/>
                  </a:lnTo>
                  <a:lnTo>
                    <a:pt x="544" y="113"/>
                  </a:lnTo>
                  <a:lnTo>
                    <a:pt x="535" y="162"/>
                  </a:lnTo>
                  <a:lnTo>
                    <a:pt x="526" y="219"/>
                  </a:lnTo>
                  <a:lnTo>
                    <a:pt x="513" y="283"/>
                  </a:lnTo>
                  <a:lnTo>
                    <a:pt x="485" y="428"/>
                  </a:lnTo>
                  <a:lnTo>
                    <a:pt x="449" y="591"/>
                  </a:lnTo>
                  <a:lnTo>
                    <a:pt x="409" y="767"/>
                  </a:lnTo>
                  <a:lnTo>
                    <a:pt x="366" y="950"/>
                  </a:lnTo>
                  <a:lnTo>
                    <a:pt x="343" y="1042"/>
                  </a:lnTo>
                  <a:lnTo>
                    <a:pt x="320" y="1135"/>
                  </a:lnTo>
                  <a:lnTo>
                    <a:pt x="297" y="1226"/>
                  </a:lnTo>
                  <a:lnTo>
                    <a:pt x="271" y="1315"/>
                  </a:lnTo>
                  <a:lnTo>
                    <a:pt x="248" y="1402"/>
                  </a:lnTo>
                  <a:lnTo>
                    <a:pt x="222" y="1485"/>
                  </a:lnTo>
                  <a:lnTo>
                    <a:pt x="199" y="1565"/>
                  </a:lnTo>
                  <a:lnTo>
                    <a:pt x="175" y="1640"/>
                  </a:lnTo>
                  <a:lnTo>
                    <a:pt x="149" y="1710"/>
                  </a:lnTo>
                  <a:lnTo>
                    <a:pt x="127" y="1774"/>
                  </a:lnTo>
                  <a:lnTo>
                    <a:pt x="114" y="1802"/>
                  </a:lnTo>
                  <a:lnTo>
                    <a:pt x="103" y="1830"/>
                  </a:lnTo>
                  <a:lnTo>
                    <a:pt x="91" y="1856"/>
                  </a:lnTo>
                  <a:lnTo>
                    <a:pt x="81" y="1880"/>
                  </a:lnTo>
                  <a:lnTo>
                    <a:pt x="70" y="1902"/>
                  </a:lnTo>
                  <a:lnTo>
                    <a:pt x="59" y="1921"/>
                  </a:lnTo>
                  <a:lnTo>
                    <a:pt x="49" y="1938"/>
                  </a:lnTo>
                  <a:lnTo>
                    <a:pt x="39" y="1953"/>
                  </a:lnTo>
                  <a:lnTo>
                    <a:pt x="29" y="1965"/>
                  </a:lnTo>
                  <a:lnTo>
                    <a:pt x="18" y="1976"/>
                  </a:lnTo>
                  <a:lnTo>
                    <a:pt x="9" y="1983"/>
                  </a:lnTo>
                  <a:lnTo>
                    <a:pt x="0" y="1987"/>
                  </a:lnTo>
                  <a:lnTo>
                    <a:pt x="82" y="2069"/>
                  </a:lnTo>
                  <a:lnTo>
                    <a:pt x="0" y="1988"/>
                  </a:lnTo>
                  <a:lnTo>
                    <a:pt x="9" y="2060"/>
                  </a:lnTo>
                  <a:lnTo>
                    <a:pt x="82" y="2069"/>
                  </a:lnTo>
                  <a:lnTo>
                    <a:pt x="0" y="198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4734000" y="3784680"/>
              <a:ext cx="361800" cy="601560"/>
            </a:xfrm>
            <a:custGeom>
              <a:avLst/>
              <a:gdLst/>
              <a:ahLst/>
              <a:rect l="l" t="t" r="r" b="b"/>
              <a:pathLst>
                <a:path w="1140" h="1895">
                  <a:moveTo>
                    <a:pt x="0" y="1895"/>
                  </a:moveTo>
                  <a:lnTo>
                    <a:pt x="66" y="1850"/>
                  </a:lnTo>
                  <a:lnTo>
                    <a:pt x="131" y="1801"/>
                  </a:lnTo>
                  <a:lnTo>
                    <a:pt x="196" y="1746"/>
                  </a:lnTo>
                  <a:lnTo>
                    <a:pt x="259" y="1687"/>
                  </a:lnTo>
                  <a:lnTo>
                    <a:pt x="320" y="1624"/>
                  </a:lnTo>
                  <a:lnTo>
                    <a:pt x="382" y="1557"/>
                  </a:lnTo>
                  <a:lnTo>
                    <a:pt x="440" y="1487"/>
                  </a:lnTo>
                  <a:lnTo>
                    <a:pt x="498" y="1414"/>
                  </a:lnTo>
                  <a:lnTo>
                    <a:pt x="554" y="1339"/>
                  </a:lnTo>
                  <a:lnTo>
                    <a:pt x="607" y="1263"/>
                  </a:lnTo>
                  <a:lnTo>
                    <a:pt x="660" y="1184"/>
                  </a:lnTo>
                  <a:lnTo>
                    <a:pt x="710" y="1104"/>
                  </a:lnTo>
                  <a:lnTo>
                    <a:pt x="758" y="1024"/>
                  </a:lnTo>
                  <a:lnTo>
                    <a:pt x="803" y="944"/>
                  </a:lnTo>
                  <a:lnTo>
                    <a:pt x="847" y="864"/>
                  </a:lnTo>
                  <a:lnTo>
                    <a:pt x="888" y="786"/>
                  </a:lnTo>
                  <a:lnTo>
                    <a:pt x="925" y="708"/>
                  </a:lnTo>
                  <a:lnTo>
                    <a:pt x="961" y="633"/>
                  </a:lnTo>
                  <a:lnTo>
                    <a:pt x="994" y="559"/>
                  </a:lnTo>
                  <a:lnTo>
                    <a:pt x="1023" y="488"/>
                  </a:lnTo>
                  <a:lnTo>
                    <a:pt x="1050" y="419"/>
                  </a:lnTo>
                  <a:lnTo>
                    <a:pt x="1074" y="354"/>
                  </a:lnTo>
                  <a:lnTo>
                    <a:pt x="1093" y="294"/>
                  </a:lnTo>
                  <a:lnTo>
                    <a:pt x="1110" y="238"/>
                  </a:lnTo>
                  <a:lnTo>
                    <a:pt x="1123" y="187"/>
                  </a:lnTo>
                  <a:lnTo>
                    <a:pt x="1133" y="140"/>
                  </a:lnTo>
                  <a:lnTo>
                    <a:pt x="1139" y="100"/>
                  </a:lnTo>
                  <a:lnTo>
                    <a:pt x="1140" y="66"/>
                  </a:lnTo>
                  <a:lnTo>
                    <a:pt x="1137" y="38"/>
                  </a:lnTo>
                  <a:lnTo>
                    <a:pt x="1132" y="18"/>
                  </a:lnTo>
                  <a:lnTo>
                    <a:pt x="1121" y="4"/>
                  </a:lnTo>
                  <a:lnTo>
                    <a:pt x="1107" y="0"/>
                  </a:lnTo>
                  <a:lnTo>
                    <a:pt x="1110" y="2"/>
                  </a:lnTo>
                  <a:lnTo>
                    <a:pt x="1108" y="16"/>
                  </a:lnTo>
                  <a:lnTo>
                    <a:pt x="1100" y="38"/>
                  </a:lnTo>
                  <a:lnTo>
                    <a:pt x="1087" y="70"/>
                  </a:lnTo>
                  <a:lnTo>
                    <a:pt x="1069" y="111"/>
                  </a:lnTo>
                  <a:lnTo>
                    <a:pt x="1047" y="161"/>
                  </a:lnTo>
                  <a:lnTo>
                    <a:pt x="1022" y="216"/>
                  </a:lnTo>
                  <a:lnTo>
                    <a:pt x="993" y="279"/>
                  </a:lnTo>
                  <a:lnTo>
                    <a:pt x="923" y="421"/>
                  </a:lnTo>
                  <a:lnTo>
                    <a:pt x="842" y="579"/>
                  </a:lnTo>
                  <a:lnTo>
                    <a:pt x="799" y="662"/>
                  </a:lnTo>
                  <a:lnTo>
                    <a:pt x="753" y="749"/>
                  </a:lnTo>
                  <a:lnTo>
                    <a:pt x="707" y="837"/>
                  </a:lnTo>
                  <a:lnTo>
                    <a:pt x="659" y="926"/>
                  </a:lnTo>
                  <a:lnTo>
                    <a:pt x="610" y="1015"/>
                  </a:lnTo>
                  <a:lnTo>
                    <a:pt x="561" y="1104"/>
                  </a:lnTo>
                  <a:lnTo>
                    <a:pt x="510" y="1191"/>
                  </a:lnTo>
                  <a:lnTo>
                    <a:pt x="461" y="1276"/>
                  </a:lnTo>
                  <a:lnTo>
                    <a:pt x="412" y="1358"/>
                  </a:lnTo>
                  <a:lnTo>
                    <a:pt x="365" y="1438"/>
                  </a:lnTo>
                  <a:lnTo>
                    <a:pt x="318" y="1514"/>
                  </a:lnTo>
                  <a:lnTo>
                    <a:pt x="272" y="1584"/>
                  </a:lnTo>
                  <a:lnTo>
                    <a:pt x="229" y="1649"/>
                  </a:lnTo>
                  <a:lnTo>
                    <a:pt x="187" y="1708"/>
                  </a:lnTo>
                  <a:lnTo>
                    <a:pt x="148" y="1760"/>
                  </a:lnTo>
                  <a:lnTo>
                    <a:pt x="111" y="1805"/>
                  </a:lnTo>
                  <a:lnTo>
                    <a:pt x="77" y="1841"/>
                  </a:lnTo>
                  <a:lnTo>
                    <a:pt x="48" y="1870"/>
                  </a:lnTo>
                  <a:lnTo>
                    <a:pt x="21" y="1887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4721400" y="3772080"/>
              <a:ext cx="387000" cy="626760"/>
            </a:xfrm>
            <a:custGeom>
              <a:avLst/>
              <a:gdLst/>
              <a:ahLst/>
              <a:rect l="l" t="t" r="r" b="b"/>
              <a:pathLst>
                <a:path w="1222" h="1977">
                  <a:moveTo>
                    <a:pt x="1107" y="0"/>
                  </a:moveTo>
                  <a:lnTo>
                    <a:pt x="1188" y="82"/>
                  </a:lnTo>
                  <a:lnTo>
                    <a:pt x="1194" y="83"/>
                  </a:lnTo>
                  <a:lnTo>
                    <a:pt x="1192" y="81"/>
                  </a:lnTo>
                  <a:lnTo>
                    <a:pt x="1136" y="27"/>
                  </a:lnTo>
                  <a:lnTo>
                    <a:pt x="1133" y="21"/>
                  </a:lnTo>
                  <a:lnTo>
                    <a:pt x="1135" y="29"/>
                  </a:lnTo>
                  <a:lnTo>
                    <a:pt x="1137" y="39"/>
                  </a:lnTo>
                  <a:lnTo>
                    <a:pt x="1140" y="52"/>
                  </a:lnTo>
                  <a:lnTo>
                    <a:pt x="1140" y="67"/>
                  </a:lnTo>
                  <a:lnTo>
                    <a:pt x="1140" y="83"/>
                  </a:lnTo>
                  <a:lnTo>
                    <a:pt x="1139" y="100"/>
                  </a:lnTo>
                  <a:lnTo>
                    <a:pt x="1136" y="120"/>
                  </a:lnTo>
                  <a:lnTo>
                    <a:pt x="1132" y="141"/>
                  </a:lnTo>
                  <a:lnTo>
                    <a:pt x="1128" y="163"/>
                  </a:lnTo>
                  <a:lnTo>
                    <a:pt x="1123" y="187"/>
                  </a:lnTo>
                  <a:lnTo>
                    <a:pt x="1117" y="212"/>
                  </a:lnTo>
                  <a:lnTo>
                    <a:pt x="1110" y="238"/>
                  </a:lnTo>
                  <a:lnTo>
                    <a:pt x="1093" y="294"/>
                  </a:lnTo>
                  <a:lnTo>
                    <a:pt x="1074" y="356"/>
                  </a:lnTo>
                  <a:lnTo>
                    <a:pt x="1050" y="419"/>
                  </a:lnTo>
                  <a:lnTo>
                    <a:pt x="1023" y="488"/>
                  </a:lnTo>
                  <a:lnTo>
                    <a:pt x="994" y="559"/>
                  </a:lnTo>
                  <a:lnTo>
                    <a:pt x="961" y="633"/>
                  </a:lnTo>
                  <a:lnTo>
                    <a:pt x="925" y="708"/>
                  </a:lnTo>
                  <a:lnTo>
                    <a:pt x="888" y="786"/>
                  </a:lnTo>
                  <a:lnTo>
                    <a:pt x="847" y="865"/>
                  </a:lnTo>
                  <a:lnTo>
                    <a:pt x="803" y="944"/>
                  </a:lnTo>
                  <a:lnTo>
                    <a:pt x="758" y="1025"/>
                  </a:lnTo>
                  <a:lnTo>
                    <a:pt x="710" y="1105"/>
                  </a:lnTo>
                  <a:lnTo>
                    <a:pt x="685" y="1145"/>
                  </a:lnTo>
                  <a:lnTo>
                    <a:pt x="660" y="1184"/>
                  </a:lnTo>
                  <a:lnTo>
                    <a:pt x="634" y="1224"/>
                  </a:lnTo>
                  <a:lnTo>
                    <a:pt x="607" y="1263"/>
                  </a:lnTo>
                  <a:lnTo>
                    <a:pt x="581" y="1301"/>
                  </a:lnTo>
                  <a:lnTo>
                    <a:pt x="554" y="1339"/>
                  </a:lnTo>
                  <a:lnTo>
                    <a:pt x="526" y="1378"/>
                  </a:lnTo>
                  <a:lnTo>
                    <a:pt x="498" y="1414"/>
                  </a:lnTo>
                  <a:lnTo>
                    <a:pt x="469" y="1452"/>
                  </a:lnTo>
                  <a:lnTo>
                    <a:pt x="441" y="1487"/>
                  </a:lnTo>
                  <a:lnTo>
                    <a:pt x="411" y="1523"/>
                  </a:lnTo>
                  <a:lnTo>
                    <a:pt x="382" y="1558"/>
                  </a:lnTo>
                  <a:lnTo>
                    <a:pt x="351" y="1591"/>
                  </a:lnTo>
                  <a:lnTo>
                    <a:pt x="320" y="1624"/>
                  </a:lnTo>
                  <a:lnTo>
                    <a:pt x="289" y="1656"/>
                  </a:lnTo>
                  <a:lnTo>
                    <a:pt x="258" y="1687"/>
                  </a:lnTo>
                  <a:lnTo>
                    <a:pt x="227" y="1718"/>
                  </a:lnTo>
                  <a:lnTo>
                    <a:pt x="196" y="1746"/>
                  </a:lnTo>
                  <a:lnTo>
                    <a:pt x="164" y="1775"/>
                  </a:lnTo>
                  <a:lnTo>
                    <a:pt x="131" y="1801"/>
                  </a:lnTo>
                  <a:lnTo>
                    <a:pt x="99" y="1826"/>
                  </a:lnTo>
                  <a:lnTo>
                    <a:pt x="66" y="1850"/>
                  </a:lnTo>
                  <a:lnTo>
                    <a:pt x="33" y="1873"/>
                  </a:lnTo>
                  <a:lnTo>
                    <a:pt x="0" y="1895"/>
                  </a:lnTo>
                  <a:lnTo>
                    <a:pt x="81" y="1977"/>
                  </a:lnTo>
                  <a:lnTo>
                    <a:pt x="114" y="1955"/>
                  </a:lnTo>
                  <a:lnTo>
                    <a:pt x="147" y="1932"/>
                  </a:lnTo>
                  <a:lnTo>
                    <a:pt x="180" y="1908"/>
                  </a:lnTo>
                  <a:lnTo>
                    <a:pt x="213" y="1883"/>
                  </a:lnTo>
                  <a:lnTo>
                    <a:pt x="245" y="1856"/>
                  </a:lnTo>
                  <a:lnTo>
                    <a:pt x="277" y="1828"/>
                  </a:lnTo>
                  <a:lnTo>
                    <a:pt x="309" y="1800"/>
                  </a:lnTo>
                  <a:lnTo>
                    <a:pt x="341" y="1769"/>
                  </a:lnTo>
                  <a:lnTo>
                    <a:pt x="371" y="1738"/>
                  </a:lnTo>
                  <a:lnTo>
                    <a:pt x="402" y="1706"/>
                  </a:lnTo>
                  <a:lnTo>
                    <a:pt x="433" y="1673"/>
                  </a:lnTo>
                  <a:lnTo>
                    <a:pt x="463" y="1639"/>
                  </a:lnTo>
                  <a:lnTo>
                    <a:pt x="492" y="1605"/>
                  </a:lnTo>
                  <a:lnTo>
                    <a:pt x="522" y="1569"/>
                  </a:lnTo>
                  <a:lnTo>
                    <a:pt x="551" y="1533"/>
                  </a:lnTo>
                  <a:lnTo>
                    <a:pt x="580" y="1496"/>
                  </a:lnTo>
                  <a:lnTo>
                    <a:pt x="607" y="1459"/>
                  </a:lnTo>
                  <a:lnTo>
                    <a:pt x="636" y="1421"/>
                  </a:lnTo>
                  <a:lnTo>
                    <a:pt x="663" y="1382"/>
                  </a:lnTo>
                  <a:lnTo>
                    <a:pt x="689" y="1344"/>
                  </a:lnTo>
                  <a:lnTo>
                    <a:pt x="716" y="1305"/>
                  </a:lnTo>
                  <a:lnTo>
                    <a:pt x="742" y="1266"/>
                  </a:lnTo>
                  <a:lnTo>
                    <a:pt x="767" y="1226"/>
                  </a:lnTo>
                  <a:lnTo>
                    <a:pt x="792" y="1186"/>
                  </a:lnTo>
                  <a:lnTo>
                    <a:pt x="840" y="1106"/>
                  </a:lnTo>
                  <a:lnTo>
                    <a:pt x="885" y="1026"/>
                  </a:lnTo>
                  <a:lnTo>
                    <a:pt x="929" y="947"/>
                  </a:lnTo>
                  <a:lnTo>
                    <a:pt x="970" y="868"/>
                  </a:lnTo>
                  <a:lnTo>
                    <a:pt x="1007" y="790"/>
                  </a:lnTo>
                  <a:lnTo>
                    <a:pt x="1043" y="714"/>
                  </a:lnTo>
                  <a:lnTo>
                    <a:pt x="1076" y="640"/>
                  </a:lnTo>
                  <a:lnTo>
                    <a:pt x="1105" y="569"/>
                  </a:lnTo>
                  <a:lnTo>
                    <a:pt x="1132" y="500"/>
                  </a:lnTo>
                  <a:lnTo>
                    <a:pt x="1156" y="437"/>
                  </a:lnTo>
                  <a:lnTo>
                    <a:pt x="1175" y="376"/>
                  </a:lnTo>
                  <a:lnTo>
                    <a:pt x="1192" y="319"/>
                  </a:lnTo>
                  <a:lnTo>
                    <a:pt x="1199" y="293"/>
                  </a:lnTo>
                  <a:lnTo>
                    <a:pt x="1205" y="268"/>
                  </a:lnTo>
                  <a:lnTo>
                    <a:pt x="1210" y="244"/>
                  </a:lnTo>
                  <a:lnTo>
                    <a:pt x="1215" y="222"/>
                  </a:lnTo>
                  <a:lnTo>
                    <a:pt x="1218" y="200"/>
                  </a:lnTo>
                  <a:lnTo>
                    <a:pt x="1221" y="181"/>
                  </a:lnTo>
                  <a:lnTo>
                    <a:pt x="1222" y="163"/>
                  </a:lnTo>
                  <a:lnTo>
                    <a:pt x="1222" y="147"/>
                  </a:lnTo>
                  <a:lnTo>
                    <a:pt x="1222" y="132"/>
                  </a:lnTo>
                  <a:lnTo>
                    <a:pt x="1219" y="118"/>
                  </a:lnTo>
                  <a:lnTo>
                    <a:pt x="1217" y="107"/>
                  </a:lnTo>
                  <a:lnTo>
                    <a:pt x="1213" y="95"/>
                  </a:lnTo>
                  <a:lnTo>
                    <a:pt x="1199" y="75"/>
                  </a:lnTo>
                  <a:lnTo>
                    <a:pt x="1133" y="10"/>
                  </a:lnTo>
                  <a:lnTo>
                    <a:pt x="1117" y="1"/>
                  </a:lnTo>
                  <a:lnTo>
                    <a:pt x="1108" y="0"/>
                  </a:lnTo>
                  <a:lnTo>
                    <a:pt x="1188" y="82"/>
                  </a:lnTo>
                  <a:lnTo>
                    <a:pt x="1107" y="0"/>
                  </a:lnTo>
                  <a:lnTo>
                    <a:pt x="1074" y="51"/>
                  </a:lnTo>
                  <a:lnTo>
                    <a:pt x="1188" y="82"/>
                  </a:lnTo>
                  <a:lnTo>
                    <a:pt x="110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4716360" y="3770280"/>
              <a:ext cx="382680" cy="628560"/>
            </a:xfrm>
            <a:custGeom>
              <a:avLst/>
              <a:gdLst/>
              <a:ahLst/>
              <a:rect l="l" t="t" r="r" b="b"/>
              <a:pathLst>
                <a:path w="1205" h="1979">
                  <a:moveTo>
                    <a:pt x="13" y="1897"/>
                  </a:moveTo>
                  <a:lnTo>
                    <a:pt x="94" y="1979"/>
                  </a:lnTo>
                  <a:lnTo>
                    <a:pt x="99" y="1978"/>
                  </a:lnTo>
                  <a:lnTo>
                    <a:pt x="104" y="1976"/>
                  </a:lnTo>
                  <a:lnTo>
                    <a:pt x="110" y="1974"/>
                  </a:lnTo>
                  <a:lnTo>
                    <a:pt x="116" y="1971"/>
                  </a:lnTo>
                  <a:lnTo>
                    <a:pt x="129" y="1963"/>
                  </a:lnTo>
                  <a:lnTo>
                    <a:pt x="143" y="1952"/>
                  </a:lnTo>
                  <a:lnTo>
                    <a:pt x="157" y="1940"/>
                  </a:lnTo>
                  <a:lnTo>
                    <a:pt x="172" y="1925"/>
                  </a:lnTo>
                  <a:lnTo>
                    <a:pt x="189" y="1908"/>
                  </a:lnTo>
                  <a:lnTo>
                    <a:pt x="206" y="1889"/>
                  </a:lnTo>
                  <a:lnTo>
                    <a:pt x="224" y="1867"/>
                  </a:lnTo>
                  <a:lnTo>
                    <a:pt x="243" y="1844"/>
                  </a:lnTo>
                  <a:lnTo>
                    <a:pt x="261" y="1819"/>
                  </a:lnTo>
                  <a:lnTo>
                    <a:pt x="282" y="1792"/>
                  </a:lnTo>
                  <a:lnTo>
                    <a:pt x="324" y="1732"/>
                  </a:lnTo>
                  <a:lnTo>
                    <a:pt x="367" y="1667"/>
                  </a:lnTo>
                  <a:lnTo>
                    <a:pt x="413" y="1597"/>
                  </a:lnTo>
                  <a:lnTo>
                    <a:pt x="460" y="1521"/>
                  </a:lnTo>
                  <a:lnTo>
                    <a:pt x="507" y="1443"/>
                  </a:lnTo>
                  <a:lnTo>
                    <a:pt x="556" y="1359"/>
                  </a:lnTo>
                  <a:lnTo>
                    <a:pt x="605" y="1275"/>
                  </a:lnTo>
                  <a:lnTo>
                    <a:pt x="656" y="1187"/>
                  </a:lnTo>
                  <a:lnTo>
                    <a:pt x="705" y="1099"/>
                  </a:lnTo>
                  <a:lnTo>
                    <a:pt x="754" y="1010"/>
                  </a:lnTo>
                  <a:lnTo>
                    <a:pt x="802" y="921"/>
                  </a:lnTo>
                  <a:lnTo>
                    <a:pt x="848" y="833"/>
                  </a:lnTo>
                  <a:lnTo>
                    <a:pt x="894" y="747"/>
                  </a:lnTo>
                  <a:lnTo>
                    <a:pt x="937" y="662"/>
                  </a:lnTo>
                  <a:lnTo>
                    <a:pt x="1018" y="504"/>
                  </a:lnTo>
                  <a:lnTo>
                    <a:pt x="1087" y="362"/>
                  </a:lnTo>
                  <a:lnTo>
                    <a:pt x="1116" y="300"/>
                  </a:lnTo>
                  <a:lnTo>
                    <a:pt x="1142" y="245"/>
                  </a:lnTo>
                  <a:lnTo>
                    <a:pt x="1164" y="196"/>
                  </a:lnTo>
                  <a:lnTo>
                    <a:pt x="1182" y="154"/>
                  </a:lnTo>
                  <a:lnTo>
                    <a:pt x="1195" y="121"/>
                  </a:lnTo>
                  <a:lnTo>
                    <a:pt x="1203" y="99"/>
                  </a:lnTo>
                  <a:lnTo>
                    <a:pt x="1204" y="91"/>
                  </a:lnTo>
                  <a:lnTo>
                    <a:pt x="1205" y="85"/>
                  </a:lnTo>
                  <a:lnTo>
                    <a:pt x="1204" y="81"/>
                  </a:lnTo>
                  <a:lnTo>
                    <a:pt x="1140" y="12"/>
                  </a:lnTo>
                  <a:lnTo>
                    <a:pt x="1122" y="0"/>
                  </a:lnTo>
                  <a:lnTo>
                    <a:pt x="1120" y="2"/>
                  </a:lnTo>
                  <a:lnTo>
                    <a:pt x="1201" y="84"/>
                  </a:lnTo>
                  <a:lnTo>
                    <a:pt x="1202" y="83"/>
                  </a:lnTo>
                  <a:lnTo>
                    <a:pt x="1185" y="72"/>
                  </a:lnTo>
                  <a:lnTo>
                    <a:pt x="1123" y="5"/>
                  </a:lnTo>
                  <a:lnTo>
                    <a:pt x="1123" y="5"/>
                  </a:lnTo>
                  <a:lnTo>
                    <a:pt x="1122" y="10"/>
                  </a:lnTo>
                  <a:lnTo>
                    <a:pt x="1121" y="18"/>
                  </a:lnTo>
                  <a:lnTo>
                    <a:pt x="1113" y="40"/>
                  </a:lnTo>
                  <a:lnTo>
                    <a:pt x="1100" y="73"/>
                  </a:lnTo>
                  <a:lnTo>
                    <a:pt x="1082" y="115"/>
                  </a:lnTo>
                  <a:lnTo>
                    <a:pt x="1060" y="162"/>
                  </a:lnTo>
                  <a:lnTo>
                    <a:pt x="1035" y="218"/>
                  </a:lnTo>
                  <a:lnTo>
                    <a:pt x="1006" y="281"/>
                  </a:lnTo>
                  <a:lnTo>
                    <a:pt x="936" y="423"/>
                  </a:lnTo>
                  <a:lnTo>
                    <a:pt x="855" y="581"/>
                  </a:lnTo>
                  <a:lnTo>
                    <a:pt x="812" y="666"/>
                  </a:lnTo>
                  <a:lnTo>
                    <a:pt x="766" y="752"/>
                  </a:lnTo>
                  <a:lnTo>
                    <a:pt x="719" y="840"/>
                  </a:lnTo>
                  <a:lnTo>
                    <a:pt x="672" y="928"/>
                  </a:lnTo>
                  <a:lnTo>
                    <a:pt x="623" y="1017"/>
                  </a:lnTo>
                  <a:lnTo>
                    <a:pt x="574" y="1106"/>
                  </a:lnTo>
                  <a:lnTo>
                    <a:pt x="525" y="1193"/>
                  </a:lnTo>
                  <a:lnTo>
                    <a:pt x="474" y="1278"/>
                  </a:lnTo>
                  <a:lnTo>
                    <a:pt x="425" y="1362"/>
                  </a:lnTo>
                  <a:lnTo>
                    <a:pt x="377" y="1440"/>
                  </a:lnTo>
                  <a:lnTo>
                    <a:pt x="331" y="1516"/>
                  </a:lnTo>
                  <a:lnTo>
                    <a:pt x="285" y="1586"/>
                  </a:lnTo>
                  <a:lnTo>
                    <a:pt x="242" y="1651"/>
                  </a:lnTo>
                  <a:lnTo>
                    <a:pt x="200" y="1711"/>
                  </a:lnTo>
                  <a:lnTo>
                    <a:pt x="180" y="1737"/>
                  </a:lnTo>
                  <a:lnTo>
                    <a:pt x="161" y="1763"/>
                  </a:lnTo>
                  <a:lnTo>
                    <a:pt x="143" y="1786"/>
                  </a:lnTo>
                  <a:lnTo>
                    <a:pt x="124" y="1808"/>
                  </a:lnTo>
                  <a:lnTo>
                    <a:pt x="107" y="1826"/>
                  </a:lnTo>
                  <a:lnTo>
                    <a:pt x="90" y="1843"/>
                  </a:lnTo>
                  <a:lnTo>
                    <a:pt x="75" y="1859"/>
                  </a:lnTo>
                  <a:lnTo>
                    <a:pt x="61" y="1871"/>
                  </a:lnTo>
                  <a:lnTo>
                    <a:pt x="47" y="1882"/>
                  </a:lnTo>
                  <a:lnTo>
                    <a:pt x="34" y="1889"/>
                  </a:lnTo>
                  <a:lnTo>
                    <a:pt x="29" y="1892"/>
                  </a:lnTo>
                  <a:lnTo>
                    <a:pt x="23" y="1894"/>
                  </a:lnTo>
                  <a:lnTo>
                    <a:pt x="18" y="1895"/>
                  </a:lnTo>
                  <a:lnTo>
                    <a:pt x="13" y="1897"/>
                  </a:lnTo>
                  <a:lnTo>
                    <a:pt x="94" y="1979"/>
                  </a:lnTo>
                  <a:lnTo>
                    <a:pt x="13" y="1897"/>
                  </a:lnTo>
                  <a:lnTo>
                    <a:pt x="0" y="1956"/>
                  </a:lnTo>
                  <a:lnTo>
                    <a:pt x="94" y="1979"/>
                  </a:lnTo>
                  <a:lnTo>
                    <a:pt x="13" y="189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5765760" y="3792600"/>
              <a:ext cx="282600" cy="644400"/>
            </a:xfrm>
            <a:custGeom>
              <a:avLst/>
              <a:gdLst/>
              <a:ahLst/>
              <a:rect l="l" t="t" r="r" b="b"/>
              <a:pathLst>
                <a:path w="888" h="2029">
                  <a:moveTo>
                    <a:pt x="0" y="2029"/>
                  </a:moveTo>
                  <a:lnTo>
                    <a:pt x="60" y="1976"/>
                  </a:lnTo>
                  <a:lnTo>
                    <a:pt x="119" y="1918"/>
                  </a:lnTo>
                  <a:lnTo>
                    <a:pt x="174" y="1855"/>
                  </a:lnTo>
                  <a:lnTo>
                    <a:pt x="229" y="1788"/>
                  </a:lnTo>
                  <a:lnTo>
                    <a:pt x="283" y="1717"/>
                  </a:lnTo>
                  <a:lnTo>
                    <a:pt x="333" y="1643"/>
                  </a:lnTo>
                  <a:lnTo>
                    <a:pt x="383" y="1565"/>
                  </a:lnTo>
                  <a:lnTo>
                    <a:pt x="430" y="1486"/>
                  </a:lnTo>
                  <a:lnTo>
                    <a:pt x="475" y="1403"/>
                  </a:lnTo>
                  <a:lnTo>
                    <a:pt x="519" y="1320"/>
                  </a:lnTo>
                  <a:lnTo>
                    <a:pt x="560" y="1235"/>
                  </a:lnTo>
                  <a:lnTo>
                    <a:pt x="599" y="1149"/>
                  </a:lnTo>
                  <a:lnTo>
                    <a:pt x="635" y="1063"/>
                  </a:lnTo>
                  <a:lnTo>
                    <a:pt x="669" y="978"/>
                  </a:lnTo>
                  <a:lnTo>
                    <a:pt x="702" y="893"/>
                  </a:lnTo>
                  <a:lnTo>
                    <a:pt x="732" y="810"/>
                  </a:lnTo>
                  <a:lnTo>
                    <a:pt x="759" y="728"/>
                  </a:lnTo>
                  <a:lnTo>
                    <a:pt x="784" y="647"/>
                  </a:lnTo>
                  <a:lnTo>
                    <a:pt x="806" y="571"/>
                  </a:lnTo>
                  <a:lnTo>
                    <a:pt x="827" y="495"/>
                  </a:lnTo>
                  <a:lnTo>
                    <a:pt x="844" y="425"/>
                  </a:lnTo>
                  <a:lnTo>
                    <a:pt x="858" y="357"/>
                  </a:lnTo>
                  <a:lnTo>
                    <a:pt x="870" y="295"/>
                  </a:lnTo>
                  <a:lnTo>
                    <a:pt x="879" y="236"/>
                  </a:lnTo>
                  <a:lnTo>
                    <a:pt x="885" y="184"/>
                  </a:lnTo>
                  <a:lnTo>
                    <a:pt x="888" y="137"/>
                  </a:lnTo>
                  <a:lnTo>
                    <a:pt x="888" y="96"/>
                  </a:lnTo>
                  <a:lnTo>
                    <a:pt x="886" y="62"/>
                  </a:lnTo>
                  <a:lnTo>
                    <a:pt x="880" y="34"/>
                  </a:lnTo>
                  <a:lnTo>
                    <a:pt x="871" y="15"/>
                  </a:lnTo>
                  <a:lnTo>
                    <a:pt x="860" y="4"/>
                  </a:lnTo>
                  <a:lnTo>
                    <a:pt x="845" y="0"/>
                  </a:lnTo>
                  <a:lnTo>
                    <a:pt x="848" y="2"/>
                  </a:lnTo>
                  <a:lnTo>
                    <a:pt x="848" y="16"/>
                  </a:lnTo>
                  <a:lnTo>
                    <a:pt x="844" y="40"/>
                  </a:lnTo>
                  <a:lnTo>
                    <a:pt x="834" y="74"/>
                  </a:lnTo>
                  <a:lnTo>
                    <a:pt x="823" y="118"/>
                  </a:lnTo>
                  <a:lnTo>
                    <a:pt x="808" y="169"/>
                  </a:lnTo>
                  <a:lnTo>
                    <a:pt x="790" y="227"/>
                  </a:lnTo>
                  <a:lnTo>
                    <a:pt x="768" y="293"/>
                  </a:lnTo>
                  <a:lnTo>
                    <a:pt x="718" y="443"/>
                  </a:lnTo>
                  <a:lnTo>
                    <a:pt x="660" y="611"/>
                  </a:lnTo>
                  <a:lnTo>
                    <a:pt x="628" y="701"/>
                  </a:lnTo>
                  <a:lnTo>
                    <a:pt x="595" y="792"/>
                  </a:lnTo>
                  <a:lnTo>
                    <a:pt x="560" y="885"/>
                  </a:lnTo>
                  <a:lnTo>
                    <a:pt x="524" y="980"/>
                  </a:lnTo>
                  <a:lnTo>
                    <a:pt x="488" y="1075"/>
                  </a:lnTo>
                  <a:lnTo>
                    <a:pt x="451" y="1168"/>
                  </a:lnTo>
                  <a:lnTo>
                    <a:pt x="414" y="1262"/>
                  </a:lnTo>
                  <a:lnTo>
                    <a:pt x="376" y="1353"/>
                  </a:lnTo>
                  <a:lnTo>
                    <a:pt x="339" y="1441"/>
                  </a:lnTo>
                  <a:lnTo>
                    <a:pt x="302" y="1527"/>
                  </a:lnTo>
                  <a:lnTo>
                    <a:pt x="266" y="1608"/>
                  </a:lnTo>
                  <a:lnTo>
                    <a:pt x="229" y="1684"/>
                  </a:lnTo>
                  <a:lnTo>
                    <a:pt x="195" y="1754"/>
                  </a:lnTo>
                  <a:lnTo>
                    <a:pt x="162" y="1818"/>
                  </a:lnTo>
                  <a:lnTo>
                    <a:pt x="130" y="1875"/>
                  </a:lnTo>
                  <a:lnTo>
                    <a:pt x="99" y="1925"/>
                  </a:lnTo>
                  <a:lnTo>
                    <a:pt x="71" y="1965"/>
                  </a:lnTo>
                  <a:lnTo>
                    <a:pt x="44" y="1997"/>
                  </a:lnTo>
                  <a:lnTo>
                    <a:pt x="22" y="2017"/>
                  </a:lnTo>
                  <a:lnTo>
                    <a:pt x="0" y="20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5753160" y="3780000"/>
              <a:ext cx="307800" cy="669600"/>
            </a:xfrm>
            <a:custGeom>
              <a:avLst/>
              <a:gdLst/>
              <a:ahLst/>
              <a:rect l="l" t="t" r="r" b="b"/>
              <a:pathLst>
                <a:path w="971" h="2110">
                  <a:moveTo>
                    <a:pt x="845" y="0"/>
                  </a:moveTo>
                  <a:lnTo>
                    <a:pt x="926" y="82"/>
                  </a:lnTo>
                  <a:lnTo>
                    <a:pt x="932" y="82"/>
                  </a:lnTo>
                  <a:lnTo>
                    <a:pt x="936" y="83"/>
                  </a:lnTo>
                  <a:lnTo>
                    <a:pt x="907" y="59"/>
                  </a:lnTo>
                  <a:lnTo>
                    <a:pt x="875" y="23"/>
                  </a:lnTo>
                  <a:lnTo>
                    <a:pt x="877" y="27"/>
                  </a:lnTo>
                  <a:lnTo>
                    <a:pt x="880" y="37"/>
                  </a:lnTo>
                  <a:lnTo>
                    <a:pt x="883" y="49"/>
                  </a:lnTo>
                  <a:lnTo>
                    <a:pt x="886" y="63"/>
                  </a:lnTo>
                  <a:lnTo>
                    <a:pt x="888" y="79"/>
                  </a:lnTo>
                  <a:lnTo>
                    <a:pt x="888" y="97"/>
                  </a:lnTo>
                  <a:lnTo>
                    <a:pt x="888" y="116"/>
                  </a:lnTo>
                  <a:lnTo>
                    <a:pt x="888" y="137"/>
                  </a:lnTo>
                  <a:lnTo>
                    <a:pt x="887" y="160"/>
                  </a:lnTo>
                  <a:lnTo>
                    <a:pt x="885" y="185"/>
                  </a:lnTo>
                  <a:lnTo>
                    <a:pt x="882" y="210"/>
                  </a:lnTo>
                  <a:lnTo>
                    <a:pt x="879" y="237"/>
                  </a:lnTo>
                  <a:lnTo>
                    <a:pt x="870" y="296"/>
                  </a:lnTo>
                  <a:lnTo>
                    <a:pt x="857" y="358"/>
                  </a:lnTo>
                  <a:lnTo>
                    <a:pt x="844" y="424"/>
                  </a:lnTo>
                  <a:lnTo>
                    <a:pt x="826" y="496"/>
                  </a:lnTo>
                  <a:lnTo>
                    <a:pt x="806" y="571"/>
                  </a:lnTo>
                  <a:lnTo>
                    <a:pt x="784" y="648"/>
                  </a:lnTo>
                  <a:lnTo>
                    <a:pt x="759" y="728"/>
                  </a:lnTo>
                  <a:lnTo>
                    <a:pt x="732" y="810"/>
                  </a:lnTo>
                  <a:lnTo>
                    <a:pt x="702" y="893"/>
                  </a:lnTo>
                  <a:lnTo>
                    <a:pt x="669" y="979"/>
                  </a:lnTo>
                  <a:lnTo>
                    <a:pt x="635" y="1065"/>
                  </a:lnTo>
                  <a:lnTo>
                    <a:pt x="598" y="1150"/>
                  </a:lnTo>
                  <a:lnTo>
                    <a:pt x="560" y="1236"/>
                  </a:lnTo>
                  <a:lnTo>
                    <a:pt x="519" y="1320"/>
                  </a:lnTo>
                  <a:lnTo>
                    <a:pt x="497" y="1362"/>
                  </a:lnTo>
                  <a:lnTo>
                    <a:pt x="475" y="1403"/>
                  </a:lnTo>
                  <a:lnTo>
                    <a:pt x="453" y="1444"/>
                  </a:lnTo>
                  <a:lnTo>
                    <a:pt x="430" y="1486"/>
                  </a:lnTo>
                  <a:lnTo>
                    <a:pt x="407" y="1525"/>
                  </a:lnTo>
                  <a:lnTo>
                    <a:pt x="383" y="1565"/>
                  </a:lnTo>
                  <a:lnTo>
                    <a:pt x="358" y="1605"/>
                  </a:lnTo>
                  <a:lnTo>
                    <a:pt x="334" y="1643"/>
                  </a:lnTo>
                  <a:lnTo>
                    <a:pt x="308" y="1681"/>
                  </a:lnTo>
                  <a:lnTo>
                    <a:pt x="283" y="1717"/>
                  </a:lnTo>
                  <a:lnTo>
                    <a:pt x="256" y="1754"/>
                  </a:lnTo>
                  <a:lnTo>
                    <a:pt x="229" y="1788"/>
                  </a:lnTo>
                  <a:lnTo>
                    <a:pt x="203" y="1822"/>
                  </a:lnTo>
                  <a:lnTo>
                    <a:pt x="174" y="1855"/>
                  </a:lnTo>
                  <a:lnTo>
                    <a:pt x="147" y="1887"/>
                  </a:lnTo>
                  <a:lnTo>
                    <a:pt x="119" y="1918"/>
                  </a:lnTo>
                  <a:lnTo>
                    <a:pt x="89" y="1948"/>
                  </a:lnTo>
                  <a:lnTo>
                    <a:pt x="60" y="1976"/>
                  </a:lnTo>
                  <a:lnTo>
                    <a:pt x="31" y="2003"/>
                  </a:lnTo>
                  <a:lnTo>
                    <a:pt x="0" y="2029"/>
                  </a:lnTo>
                  <a:lnTo>
                    <a:pt x="82" y="2110"/>
                  </a:lnTo>
                  <a:lnTo>
                    <a:pt x="112" y="2084"/>
                  </a:lnTo>
                  <a:lnTo>
                    <a:pt x="141" y="2058"/>
                  </a:lnTo>
                  <a:lnTo>
                    <a:pt x="171" y="2030"/>
                  </a:lnTo>
                  <a:lnTo>
                    <a:pt x="201" y="2000"/>
                  </a:lnTo>
                  <a:lnTo>
                    <a:pt x="228" y="1969"/>
                  </a:lnTo>
                  <a:lnTo>
                    <a:pt x="256" y="1937"/>
                  </a:lnTo>
                  <a:lnTo>
                    <a:pt x="284" y="1904"/>
                  </a:lnTo>
                  <a:lnTo>
                    <a:pt x="311" y="1870"/>
                  </a:lnTo>
                  <a:lnTo>
                    <a:pt x="337" y="1835"/>
                  </a:lnTo>
                  <a:lnTo>
                    <a:pt x="364" y="1799"/>
                  </a:lnTo>
                  <a:lnTo>
                    <a:pt x="390" y="1762"/>
                  </a:lnTo>
                  <a:lnTo>
                    <a:pt x="415" y="1724"/>
                  </a:lnTo>
                  <a:lnTo>
                    <a:pt x="440" y="1686"/>
                  </a:lnTo>
                  <a:lnTo>
                    <a:pt x="465" y="1648"/>
                  </a:lnTo>
                  <a:lnTo>
                    <a:pt x="488" y="1608"/>
                  </a:lnTo>
                  <a:lnTo>
                    <a:pt x="512" y="1567"/>
                  </a:lnTo>
                  <a:lnTo>
                    <a:pt x="535" y="1527"/>
                  </a:lnTo>
                  <a:lnTo>
                    <a:pt x="557" y="1486"/>
                  </a:lnTo>
                  <a:lnTo>
                    <a:pt x="579" y="1443"/>
                  </a:lnTo>
                  <a:lnTo>
                    <a:pt x="601" y="1401"/>
                  </a:lnTo>
                  <a:lnTo>
                    <a:pt x="642" y="1317"/>
                  </a:lnTo>
                  <a:lnTo>
                    <a:pt x="681" y="1231"/>
                  </a:lnTo>
                  <a:lnTo>
                    <a:pt x="717" y="1146"/>
                  </a:lnTo>
                  <a:lnTo>
                    <a:pt x="751" y="1060"/>
                  </a:lnTo>
                  <a:lnTo>
                    <a:pt x="784" y="974"/>
                  </a:lnTo>
                  <a:lnTo>
                    <a:pt x="814" y="891"/>
                  </a:lnTo>
                  <a:lnTo>
                    <a:pt x="841" y="809"/>
                  </a:lnTo>
                  <a:lnTo>
                    <a:pt x="866" y="729"/>
                  </a:lnTo>
                  <a:lnTo>
                    <a:pt x="888" y="652"/>
                  </a:lnTo>
                  <a:lnTo>
                    <a:pt x="909" y="577"/>
                  </a:lnTo>
                  <a:lnTo>
                    <a:pt x="926" y="506"/>
                  </a:lnTo>
                  <a:lnTo>
                    <a:pt x="940" y="438"/>
                  </a:lnTo>
                  <a:lnTo>
                    <a:pt x="952" y="375"/>
                  </a:lnTo>
                  <a:lnTo>
                    <a:pt x="961" y="317"/>
                  </a:lnTo>
                  <a:lnTo>
                    <a:pt x="964" y="291"/>
                  </a:lnTo>
                  <a:lnTo>
                    <a:pt x="967" y="265"/>
                  </a:lnTo>
                  <a:lnTo>
                    <a:pt x="969" y="241"/>
                  </a:lnTo>
                  <a:lnTo>
                    <a:pt x="970" y="218"/>
                  </a:lnTo>
                  <a:lnTo>
                    <a:pt x="971" y="196"/>
                  </a:lnTo>
                  <a:lnTo>
                    <a:pt x="971" y="177"/>
                  </a:lnTo>
                  <a:lnTo>
                    <a:pt x="970" y="159"/>
                  </a:lnTo>
                  <a:lnTo>
                    <a:pt x="968" y="142"/>
                  </a:lnTo>
                  <a:lnTo>
                    <a:pt x="966" y="128"/>
                  </a:lnTo>
                  <a:lnTo>
                    <a:pt x="962" y="114"/>
                  </a:lnTo>
                  <a:lnTo>
                    <a:pt x="958" y="103"/>
                  </a:lnTo>
                  <a:lnTo>
                    <a:pt x="950" y="88"/>
                  </a:lnTo>
                  <a:lnTo>
                    <a:pt x="906" y="39"/>
                  </a:lnTo>
                  <a:lnTo>
                    <a:pt x="865" y="5"/>
                  </a:lnTo>
                  <a:lnTo>
                    <a:pt x="854" y="1"/>
                  </a:lnTo>
                  <a:lnTo>
                    <a:pt x="846" y="0"/>
                  </a:lnTo>
                  <a:lnTo>
                    <a:pt x="926" y="82"/>
                  </a:lnTo>
                  <a:lnTo>
                    <a:pt x="845" y="0"/>
                  </a:lnTo>
                  <a:lnTo>
                    <a:pt x="830" y="62"/>
                  </a:lnTo>
                  <a:lnTo>
                    <a:pt x="926" y="82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5753160" y="3780000"/>
              <a:ext cx="295200" cy="669600"/>
            </a:xfrm>
            <a:custGeom>
              <a:avLst/>
              <a:gdLst/>
              <a:ahLst/>
              <a:rect l="l" t="t" r="r" b="b"/>
              <a:pathLst>
                <a:path w="930" h="2111">
                  <a:moveTo>
                    <a:pt x="0" y="2029"/>
                  </a:moveTo>
                  <a:lnTo>
                    <a:pt x="82" y="2111"/>
                  </a:lnTo>
                  <a:lnTo>
                    <a:pt x="92" y="2106"/>
                  </a:lnTo>
                  <a:lnTo>
                    <a:pt x="103" y="2099"/>
                  </a:lnTo>
                  <a:lnTo>
                    <a:pt x="115" y="2090"/>
                  </a:lnTo>
                  <a:lnTo>
                    <a:pt x="127" y="2079"/>
                  </a:lnTo>
                  <a:lnTo>
                    <a:pt x="139" y="2064"/>
                  </a:lnTo>
                  <a:lnTo>
                    <a:pt x="153" y="2047"/>
                  </a:lnTo>
                  <a:lnTo>
                    <a:pt x="166" y="2027"/>
                  </a:lnTo>
                  <a:lnTo>
                    <a:pt x="181" y="2006"/>
                  </a:lnTo>
                  <a:lnTo>
                    <a:pt x="196" y="1983"/>
                  </a:lnTo>
                  <a:lnTo>
                    <a:pt x="211" y="1957"/>
                  </a:lnTo>
                  <a:lnTo>
                    <a:pt x="227" y="1929"/>
                  </a:lnTo>
                  <a:lnTo>
                    <a:pt x="243" y="1900"/>
                  </a:lnTo>
                  <a:lnTo>
                    <a:pt x="277" y="1836"/>
                  </a:lnTo>
                  <a:lnTo>
                    <a:pt x="311" y="1765"/>
                  </a:lnTo>
                  <a:lnTo>
                    <a:pt x="348" y="1690"/>
                  </a:lnTo>
                  <a:lnTo>
                    <a:pt x="384" y="1609"/>
                  </a:lnTo>
                  <a:lnTo>
                    <a:pt x="421" y="1523"/>
                  </a:lnTo>
                  <a:lnTo>
                    <a:pt x="458" y="1434"/>
                  </a:lnTo>
                  <a:lnTo>
                    <a:pt x="496" y="1344"/>
                  </a:lnTo>
                  <a:lnTo>
                    <a:pt x="533" y="1250"/>
                  </a:lnTo>
                  <a:lnTo>
                    <a:pt x="570" y="1156"/>
                  </a:lnTo>
                  <a:lnTo>
                    <a:pt x="606" y="1061"/>
                  </a:lnTo>
                  <a:lnTo>
                    <a:pt x="642" y="968"/>
                  </a:lnTo>
                  <a:lnTo>
                    <a:pt x="677" y="874"/>
                  </a:lnTo>
                  <a:lnTo>
                    <a:pt x="710" y="782"/>
                  </a:lnTo>
                  <a:lnTo>
                    <a:pt x="742" y="693"/>
                  </a:lnTo>
                  <a:lnTo>
                    <a:pt x="800" y="525"/>
                  </a:lnTo>
                  <a:lnTo>
                    <a:pt x="850" y="375"/>
                  </a:lnTo>
                  <a:lnTo>
                    <a:pt x="872" y="309"/>
                  </a:lnTo>
                  <a:lnTo>
                    <a:pt x="890" y="250"/>
                  </a:lnTo>
                  <a:lnTo>
                    <a:pt x="905" y="199"/>
                  </a:lnTo>
                  <a:lnTo>
                    <a:pt x="917" y="155"/>
                  </a:lnTo>
                  <a:lnTo>
                    <a:pt x="926" y="122"/>
                  </a:lnTo>
                  <a:lnTo>
                    <a:pt x="930" y="97"/>
                  </a:lnTo>
                  <a:lnTo>
                    <a:pt x="930" y="89"/>
                  </a:lnTo>
                  <a:lnTo>
                    <a:pt x="930" y="83"/>
                  </a:lnTo>
                  <a:lnTo>
                    <a:pt x="929" y="79"/>
                  </a:lnTo>
                  <a:lnTo>
                    <a:pt x="856" y="4"/>
                  </a:lnTo>
                  <a:lnTo>
                    <a:pt x="847" y="0"/>
                  </a:lnTo>
                  <a:lnTo>
                    <a:pt x="845" y="0"/>
                  </a:lnTo>
                  <a:lnTo>
                    <a:pt x="926" y="82"/>
                  </a:lnTo>
                  <a:lnTo>
                    <a:pt x="927" y="82"/>
                  </a:lnTo>
                  <a:lnTo>
                    <a:pt x="920" y="78"/>
                  </a:lnTo>
                  <a:lnTo>
                    <a:pt x="848" y="6"/>
                  </a:lnTo>
                  <a:lnTo>
                    <a:pt x="848" y="4"/>
                  </a:lnTo>
                  <a:lnTo>
                    <a:pt x="848" y="9"/>
                  </a:lnTo>
                  <a:lnTo>
                    <a:pt x="847" y="17"/>
                  </a:lnTo>
                  <a:lnTo>
                    <a:pt x="842" y="41"/>
                  </a:lnTo>
                  <a:lnTo>
                    <a:pt x="834" y="74"/>
                  </a:lnTo>
                  <a:lnTo>
                    <a:pt x="823" y="118"/>
                  </a:lnTo>
                  <a:lnTo>
                    <a:pt x="808" y="169"/>
                  </a:lnTo>
                  <a:lnTo>
                    <a:pt x="790" y="228"/>
                  </a:lnTo>
                  <a:lnTo>
                    <a:pt x="768" y="293"/>
                  </a:lnTo>
                  <a:lnTo>
                    <a:pt x="718" y="443"/>
                  </a:lnTo>
                  <a:lnTo>
                    <a:pt x="660" y="612"/>
                  </a:lnTo>
                  <a:lnTo>
                    <a:pt x="628" y="701"/>
                  </a:lnTo>
                  <a:lnTo>
                    <a:pt x="595" y="792"/>
                  </a:lnTo>
                  <a:lnTo>
                    <a:pt x="560" y="885"/>
                  </a:lnTo>
                  <a:lnTo>
                    <a:pt x="524" y="980"/>
                  </a:lnTo>
                  <a:lnTo>
                    <a:pt x="488" y="1075"/>
                  </a:lnTo>
                  <a:lnTo>
                    <a:pt x="451" y="1169"/>
                  </a:lnTo>
                  <a:lnTo>
                    <a:pt x="414" y="1262"/>
                  </a:lnTo>
                  <a:lnTo>
                    <a:pt x="376" y="1353"/>
                  </a:lnTo>
                  <a:lnTo>
                    <a:pt x="339" y="1442"/>
                  </a:lnTo>
                  <a:lnTo>
                    <a:pt x="302" y="1527"/>
                  </a:lnTo>
                  <a:lnTo>
                    <a:pt x="266" y="1608"/>
                  </a:lnTo>
                  <a:lnTo>
                    <a:pt x="229" y="1684"/>
                  </a:lnTo>
                  <a:lnTo>
                    <a:pt x="195" y="1755"/>
                  </a:lnTo>
                  <a:lnTo>
                    <a:pt x="162" y="1819"/>
                  </a:lnTo>
                  <a:lnTo>
                    <a:pt x="145" y="1848"/>
                  </a:lnTo>
                  <a:lnTo>
                    <a:pt x="130" y="1876"/>
                  </a:lnTo>
                  <a:lnTo>
                    <a:pt x="114" y="1901"/>
                  </a:lnTo>
                  <a:lnTo>
                    <a:pt x="99" y="1925"/>
                  </a:lnTo>
                  <a:lnTo>
                    <a:pt x="85" y="1946"/>
                  </a:lnTo>
                  <a:lnTo>
                    <a:pt x="71" y="1965"/>
                  </a:lnTo>
                  <a:lnTo>
                    <a:pt x="58" y="1982"/>
                  </a:lnTo>
                  <a:lnTo>
                    <a:pt x="46" y="1997"/>
                  </a:lnTo>
                  <a:lnTo>
                    <a:pt x="33" y="2008"/>
                  </a:lnTo>
                  <a:lnTo>
                    <a:pt x="22" y="2018"/>
                  </a:lnTo>
                  <a:lnTo>
                    <a:pt x="10" y="2024"/>
                  </a:lnTo>
                  <a:lnTo>
                    <a:pt x="1" y="2029"/>
                  </a:lnTo>
                  <a:lnTo>
                    <a:pt x="82" y="2110"/>
                  </a:lnTo>
                  <a:lnTo>
                    <a:pt x="0" y="2029"/>
                  </a:lnTo>
                  <a:lnTo>
                    <a:pt x="0" y="2111"/>
                  </a:lnTo>
                  <a:lnTo>
                    <a:pt x="82" y="2111"/>
                  </a:lnTo>
                  <a:lnTo>
                    <a:pt x="0" y="202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6107040" y="3728880"/>
              <a:ext cx="273240" cy="736920"/>
            </a:xfrm>
            <a:custGeom>
              <a:avLst/>
              <a:gdLst/>
              <a:ahLst/>
              <a:rect l="l" t="t" r="r" b="b"/>
              <a:pathLst>
                <a:path w="861" h="2323">
                  <a:moveTo>
                    <a:pt x="0" y="2323"/>
                  </a:moveTo>
                  <a:lnTo>
                    <a:pt x="62" y="2260"/>
                  </a:lnTo>
                  <a:lnTo>
                    <a:pt x="124" y="2192"/>
                  </a:lnTo>
                  <a:lnTo>
                    <a:pt x="183" y="2118"/>
                  </a:lnTo>
                  <a:lnTo>
                    <a:pt x="239" y="2039"/>
                  </a:lnTo>
                  <a:lnTo>
                    <a:pt x="294" y="1956"/>
                  </a:lnTo>
                  <a:lnTo>
                    <a:pt x="346" y="1869"/>
                  </a:lnTo>
                  <a:lnTo>
                    <a:pt x="395" y="1779"/>
                  </a:lnTo>
                  <a:lnTo>
                    <a:pt x="443" y="1686"/>
                  </a:lnTo>
                  <a:lnTo>
                    <a:pt x="488" y="1592"/>
                  </a:lnTo>
                  <a:lnTo>
                    <a:pt x="531" y="1495"/>
                  </a:lnTo>
                  <a:lnTo>
                    <a:pt x="571" y="1398"/>
                  </a:lnTo>
                  <a:lnTo>
                    <a:pt x="608" y="1300"/>
                  </a:lnTo>
                  <a:lnTo>
                    <a:pt x="644" y="1201"/>
                  </a:lnTo>
                  <a:lnTo>
                    <a:pt x="676" y="1103"/>
                  </a:lnTo>
                  <a:lnTo>
                    <a:pt x="706" y="1006"/>
                  </a:lnTo>
                  <a:lnTo>
                    <a:pt x="734" y="911"/>
                  </a:lnTo>
                  <a:lnTo>
                    <a:pt x="759" y="817"/>
                  </a:lnTo>
                  <a:lnTo>
                    <a:pt x="781" y="727"/>
                  </a:lnTo>
                  <a:lnTo>
                    <a:pt x="801" y="639"/>
                  </a:lnTo>
                  <a:lnTo>
                    <a:pt x="818" y="553"/>
                  </a:lnTo>
                  <a:lnTo>
                    <a:pt x="832" y="474"/>
                  </a:lnTo>
                  <a:lnTo>
                    <a:pt x="843" y="397"/>
                  </a:lnTo>
                  <a:lnTo>
                    <a:pt x="852" y="326"/>
                  </a:lnTo>
                  <a:lnTo>
                    <a:pt x="858" y="261"/>
                  </a:lnTo>
                  <a:lnTo>
                    <a:pt x="861" y="202"/>
                  </a:lnTo>
                  <a:lnTo>
                    <a:pt x="861" y="150"/>
                  </a:lnTo>
                  <a:lnTo>
                    <a:pt x="859" y="104"/>
                  </a:lnTo>
                  <a:lnTo>
                    <a:pt x="853" y="66"/>
                  </a:lnTo>
                  <a:lnTo>
                    <a:pt x="845" y="35"/>
                  </a:lnTo>
                  <a:lnTo>
                    <a:pt x="834" y="15"/>
                  </a:lnTo>
                  <a:lnTo>
                    <a:pt x="820" y="2"/>
                  </a:lnTo>
                  <a:lnTo>
                    <a:pt x="802" y="0"/>
                  </a:lnTo>
                  <a:lnTo>
                    <a:pt x="807" y="2"/>
                  </a:lnTo>
                  <a:lnTo>
                    <a:pt x="807" y="18"/>
                  </a:lnTo>
                  <a:lnTo>
                    <a:pt x="803" y="45"/>
                  </a:lnTo>
                  <a:lnTo>
                    <a:pt x="796" y="83"/>
                  </a:lnTo>
                  <a:lnTo>
                    <a:pt x="786" y="132"/>
                  </a:lnTo>
                  <a:lnTo>
                    <a:pt x="774" y="191"/>
                  </a:lnTo>
                  <a:lnTo>
                    <a:pt x="757" y="258"/>
                  </a:lnTo>
                  <a:lnTo>
                    <a:pt x="738" y="333"/>
                  </a:lnTo>
                  <a:lnTo>
                    <a:pt x="717" y="415"/>
                  </a:lnTo>
                  <a:lnTo>
                    <a:pt x="693" y="503"/>
                  </a:lnTo>
                  <a:lnTo>
                    <a:pt x="667" y="597"/>
                  </a:lnTo>
                  <a:lnTo>
                    <a:pt x="639" y="695"/>
                  </a:lnTo>
                  <a:lnTo>
                    <a:pt x="610" y="798"/>
                  </a:lnTo>
                  <a:lnTo>
                    <a:pt x="579" y="901"/>
                  </a:lnTo>
                  <a:lnTo>
                    <a:pt x="547" y="1009"/>
                  </a:lnTo>
                  <a:lnTo>
                    <a:pt x="513" y="1117"/>
                  </a:lnTo>
                  <a:lnTo>
                    <a:pt x="478" y="1225"/>
                  </a:lnTo>
                  <a:lnTo>
                    <a:pt x="444" y="1333"/>
                  </a:lnTo>
                  <a:lnTo>
                    <a:pt x="409" y="1440"/>
                  </a:lnTo>
                  <a:lnTo>
                    <a:pt x="374" y="1544"/>
                  </a:lnTo>
                  <a:lnTo>
                    <a:pt x="337" y="1645"/>
                  </a:lnTo>
                  <a:lnTo>
                    <a:pt x="302" y="1742"/>
                  </a:lnTo>
                  <a:lnTo>
                    <a:pt x="266" y="1836"/>
                  </a:lnTo>
                  <a:lnTo>
                    <a:pt x="232" y="1922"/>
                  </a:lnTo>
                  <a:lnTo>
                    <a:pt x="198" y="2003"/>
                  </a:lnTo>
                  <a:lnTo>
                    <a:pt x="165" y="2078"/>
                  </a:lnTo>
                  <a:lnTo>
                    <a:pt x="133" y="2144"/>
                  </a:lnTo>
                  <a:lnTo>
                    <a:pt x="103" y="2201"/>
                  </a:lnTo>
                  <a:lnTo>
                    <a:pt x="74" y="2248"/>
                  </a:lnTo>
                  <a:lnTo>
                    <a:pt x="47" y="2284"/>
                  </a:lnTo>
                  <a:lnTo>
                    <a:pt x="22" y="2310"/>
                  </a:lnTo>
                  <a:lnTo>
                    <a:pt x="0" y="23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6094440" y="3716280"/>
              <a:ext cx="299880" cy="763560"/>
            </a:xfrm>
            <a:custGeom>
              <a:avLst/>
              <a:gdLst/>
              <a:ahLst/>
              <a:rect l="l" t="t" r="r" b="b"/>
              <a:pathLst>
                <a:path w="945" h="2405">
                  <a:moveTo>
                    <a:pt x="803" y="0"/>
                  </a:moveTo>
                  <a:lnTo>
                    <a:pt x="884" y="82"/>
                  </a:lnTo>
                  <a:lnTo>
                    <a:pt x="889" y="82"/>
                  </a:lnTo>
                  <a:lnTo>
                    <a:pt x="892" y="82"/>
                  </a:lnTo>
                  <a:lnTo>
                    <a:pt x="896" y="83"/>
                  </a:lnTo>
                  <a:lnTo>
                    <a:pt x="897" y="83"/>
                  </a:lnTo>
                  <a:lnTo>
                    <a:pt x="888" y="76"/>
                  </a:lnTo>
                  <a:lnTo>
                    <a:pt x="842" y="29"/>
                  </a:lnTo>
                  <a:lnTo>
                    <a:pt x="841" y="29"/>
                  </a:lnTo>
                  <a:lnTo>
                    <a:pt x="845" y="39"/>
                  </a:lnTo>
                  <a:lnTo>
                    <a:pt x="850" y="51"/>
                  </a:lnTo>
                  <a:lnTo>
                    <a:pt x="853" y="67"/>
                  </a:lnTo>
                  <a:lnTo>
                    <a:pt x="857" y="86"/>
                  </a:lnTo>
                  <a:lnTo>
                    <a:pt x="859" y="105"/>
                  </a:lnTo>
                  <a:lnTo>
                    <a:pt x="860" y="127"/>
                  </a:lnTo>
                  <a:lnTo>
                    <a:pt x="861" y="151"/>
                  </a:lnTo>
                  <a:lnTo>
                    <a:pt x="861" y="176"/>
                  </a:lnTo>
                  <a:lnTo>
                    <a:pt x="861" y="203"/>
                  </a:lnTo>
                  <a:lnTo>
                    <a:pt x="860" y="232"/>
                  </a:lnTo>
                  <a:lnTo>
                    <a:pt x="858" y="262"/>
                  </a:lnTo>
                  <a:lnTo>
                    <a:pt x="852" y="327"/>
                  </a:lnTo>
                  <a:lnTo>
                    <a:pt x="843" y="398"/>
                  </a:lnTo>
                  <a:lnTo>
                    <a:pt x="832" y="475"/>
                  </a:lnTo>
                  <a:lnTo>
                    <a:pt x="817" y="554"/>
                  </a:lnTo>
                  <a:lnTo>
                    <a:pt x="801" y="639"/>
                  </a:lnTo>
                  <a:lnTo>
                    <a:pt x="780" y="727"/>
                  </a:lnTo>
                  <a:lnTo>
                    <a:pt x="759" y="818"/>
                  </a:lnTo>
                  <a:lnTo>
                    <a:pt x="734" y="912"/>
                  </a:lnTo>
                  <a:lnTo>
                    <a:pt x="706" y="1007"/>
                  </a:lnTo>
                  <a:lnTo>
                    <a:pt x="676" y="1104"/>
                  </a:lnTo>
                  <a:lnTo>
                    <a:pt x="644" y="1201"/>
                  </a:lnTo>
                  <a:lnTo>
                    <a:pt x="608" y="1299"/>
                  </a:lnTo>
                  <a:lnTo>
                    <a:pt x="590" y="1349"/>
                  </a:lnTo>
                  <a:lnTo>
                    <a:pt x="571" y="1398"/>
                  </a:lnTo>
                  <a:lnTo>
                    <a:pt x="551" y="1447"/>
                  </a:lnTo>
                  <a:lnTo>
                    <a:pt x="531" y="1496"/>
                  </a:lnTo>
                  <a:lnTo>
                    <a:pt x="509" y="1544"/>
                  </a:lnTo>
                  <a:lnTo>
                    <a:pt x="487" y="1592"/>
                  </a:lnTo>
                  <a:lnTo>
                    <a:pt x="466" y="1639"/>
                  </a:lnTo>
                  <a:lnTo>
                    <a:pt x="443" y="1686"/>
                  </a:lnTo>
                  <a:lnTo>
                    <a:pt x="419" y="1733"/>
                  </a:lnTo>
                  <a:lnTo>
                    <a:pt x="395" y="1779"/>
                  </a:lnTo>
                  <a:lnTo>
                    <a:pt x="371" y="1824"/>
                  </a:lnTo>
                  <a:lnTo>
                    <a:pt x="346" y="1869"/>
                  </a:lnTo>
                  <a:lnTo>
                    <a:pt x="320" y="1913"/>
                  </a:lnTo>
                  <a:lnTo>
                    <a:pt x="294" y="1955"/>
                  </a:lnTo>
                  <a:lnTo>
                    <a:pt x="267" y="1998"/>
                  </a:lnTo>
                  <a:lnTo>
                    <a:pt x="239" y="2039"/>
                  </a:lnTo>
                  <a:lnTo>
                    <a:pt x="212" y="2079"/>
                  </a:lnTo>
                  <a:lnTo>
                    <a:pt x="183" y="2117"/>
                  </a:lnTo>
                  <a:lnTo>
                    <a:pt x="153" y="2155"/>
                  </a:lnTo>
                  <a:lnTo>
                    <a:pt x="124" y="2192"/>
                  </a:lnTo>
                  <a:lnTo>
                    <a:pt x="94" y="2227"/>
                  </a:lnTo>
                  <a:lnTo>
                    <a:pt x="62" y="2260"/>
                  </a:lnTo>
                  <a:lnTo>
                    <a:pt x="31" y="2292"/>
                  </a:lnTo>
                  <a:lnTo>
                    <a:pt x="0" y="2323"/>
                  </a:lnTo>
                  <a:lnTo>
                    <a:pt x="82" y="2405"/>
                  </a:lnTo>
                  <a:lnTo>
                    <a:pt x="114" y="2374"/>
                  </a:lnTo>
                  <a:lnTo>
                    <a:pt x="144" y="2342"/>
                  </a:lnTo>
                  <a:lnTo>
                    <a:pt x="175" y="2308"/>
                  </a:lnTo>
                  <a:lnTo>
                    <a:pt x="206" y="2273"/>
                  </a:lnTo>
                  <a:lnTo>
                    <a:pt x="236" y="2236"/>
                  </a:lnTo>
                  <a:lnTo>
                    <a:pt x="264" y="2198"/>
                  </a:lnTo>
                  <a:lnTo>
                    <a:pt x="294" y="2160"/>
                  </a:lnTo>
                  <a:lnTo>
                    <a:pt x="321" y="2120"/>
                  </a:lnTo>
                  <a:lnTo>
                    <a:pt x="348" y="2079"/>
                  </a:lnTo>
                  <a:lnTo>
                    <a:pt x="376" y="2038"/>
                  </a:lnTo>
                  <a:lnTo>
                    <a:pt x="402" y="1994"/>
                  </a:lnTo>
                  <a:lnTo>
                    <a:pt x="428" y="1951"/>
                  </a:lnTo>
                  <a:lnTo>
                    <a:pt x="453" y="1905"/>
                  </a:lnTo>
                  <a:lnTo>
                    <a:pt x="477" y="1861"/>
                  </a:lnTo>
                  <a:lnTo>
                    <a:pt x="501" y="1814"/>
                  </a:lnTo>
                  <a:lnTo>
                    <a:pt x="525" y="1768"/>
                  </a:lnTo>
                  <a:lnTo>
                    <a:pt x="548" y="1720"/>
                  </a:lnTo>
                  <a:lnTo>
                    <a:pt x="570" y="1673"/>
                  </a:lnTo>
                  <a:lnTo>
                    <a:pt x="591" y="1625"/>
                  </a:lnTo>
                  <a:lnTo>
                    <a:pt x="613" y="1577"/>
                  </a:lnTo>
                  <a:lnTo>
                    <a:pt x="633" y="1528"/>
                  </a:lnTo>
                  <a:lnTo>
                    <a:pt x="653" y="1480"/>
                  </a:lnTo>
                  <a:lnTo>
                    <a:pt x="672" y="1431"/>
                  </a:lnTo>
                  <a:lnTo>
                    <a:pt x="690" y="1380"/>
                  </a:lnTo>
                  <a:lnTo>
                    <a:pt x="726" y="1282"/>
                  </a:lnTo>
                  <a:lnTo>
                    <a:pt x="759" y="1185"/>
                  </a:lnTo>
                  <a:lnTo>
                    <a:pt x="788" y="1088"/>
                  </a:lnTo>
                  <a:lnTo>
                    <a:pt x="816" y="993"/>
                  </a:lnTo>
                  <a:lnTo>
                    <a:pt x="841" y="899"/>
                  </a:lnTo>
                  <a:lnTo>
                    <a:pt x="864" y="808"/>
                  </a:lnTo>
                  <a:lnTo>
                    <a:pt x="883" y="720"/>
                  </a:lnTo>
                  <a:lnTo>
                    <a:pt x="900" y="635"/>
                  </a:lnTo>
                  <a:lnTo>
                    <a:pt x="914" y="554"/>
                  </a:lnTo>
                  <a:lnTo>
                    <a:pt x="925" y="479"/>
                  </a:lnTo>
                  <a:lnTo>
                    <a:pt x="934" y="407"/>
                  </a:lnTo>
                  <a:lnTo>
                    <a:pt x="940" y="342"/>
                  </a:lnTo>
                  <a:lnTo>
                    <a:pt x="942" y="311"/>
                  </a:lnTo>
                  <a:lnTo>
                    <a:pt x="943" y="283"/>
                  </a:lnTo>
                  <a:lnTo>
                    <a:pt x="945" y="256"/>
                  </a:lnTo>
                  <a:lnTo>
                    <a:pt x="943" y="230"/>
                  </a:lnTo>
                  <a:lnTo>
                    <a:pt x="943" y="207"/>
                  </a:lnTo>
                  <a:lnTo>
                    <a:pt x="941" y="185"/>
                  </a:lnTo>
                  <a:lnTo>
                    <a:pt x="939" y="164"/>
                  </a:lnTo>
                  <a:lnTo>
                    <a:pt x="936" y="146"/>
                  </a:lnTo>
                  <a:lnTo>
                    <a:pt x="932" y="130"/>
                  </a:lnTo>
                  <a:lnTo>
                    <a:pt x="928" y="115"/>
                  </a:lnTo>
                  <a:lnTo>
                    <a:pt x="921" y="102"/>
                  </a:lnTo>
                  <a:lnTo>
                    <a:pt x="908" y="82"/>
                  </a:lnTo>
                  <a:lnTo>
                    <a:pt x="849" y="21"/>
                  </a:lnTo>
                  <a:lnTo>
                    <a:pt x="825" y="5"/>
                  </a:lnTo>
                  <a:lnTo>
                    <a:pt x="818" y="1"/>
                  </a:lnTo>
                  <a:lnTo>
                    <a:pt x="814" y="0"/>
                  </a:lnTo>
                  <a:lnTo>
                    <a:pt x="808" y="0"/>
                  </a:lnTo>
                  <a:lnTo>
                    <a:pt x="803" y="0"/>
                  </a:lnTo>
                  <a:lnTo>
                    <a:pt x="884" y="82"/>
                  </a:lnTo>
                  <a:lnTo>
                    <a:pt x="803" y="0"/>
                  </a:lnTo>
                  <a:lnTo>
                    <a:pt x="795" y="58"/>
                  </a:lnTo>
                  <a:lnTo>
                    <a:pt x="884" y="82"/>
                  </a:lnTo>
                  <a:lnTo>
                    <a:pt x="803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6094440" y="3716280"/>
              <a:ext cx="282600" cy="763560"/>
            </a:xfrm>
            <a:custGeom>
              <a:avLst/>
              <a:gdLst/>
              <a:ahLst/>
              <a:rect l="l" t="t" r="r" b="b"/>
              <a:pathLst>
                <a:path w="890" h="2405">
                  <a:moveTo>
                    <a:pt x="0" y="2323"/>
                  </a:moveTo>
                  <a:lnTo>
                    <a:pt x="81" y="2405"/>
                  </a:lnTo>
                  <a:lnTo>
                    <a:pt x="86" y="2403"/>
                  </a:lnTo>
                  <a:lnTo>
                    <a:pt x="92" y="2400"/>
                  </a:lnTo>
                  <a:lnTo>
                    <a:pt x="98" y="2396"/>
                  </a:lnTo>
                  <a:lnTo>
                    <a:pt x="104" y="2392"/>
                  </a:lnTo>
                  <a:lnTo>
                    <a:pt x="116" y="2381"/>
                  </a:lnTo>
                  <a:lnTo>
                    <a:pt x="130" y="2366"/>
                  </a:lnTo>
                  <a:lnTo>
                    <a:pt x="142" y="2349"/>
                  </a:lnTo>
                  <a:lnTo>
                    <a:pt x="156" y="2330"/>
                  </a:lnTo>
                  <a:lnTo>
                    <a:pt x="171" y="2307"/>
                  </a:lnTo>
                  <a:lnTo>
                    <a:pt x="185" y="2282"/>
                  </a:lnTo>
                  <a:lnTo>
                    <a:pt x="200" y="2254"/>
                  </a:lnTo>
                  <a:lnTo>
                    <a:pt x="215" y="2225"/>
                  </a:lnTo>
                  <a:lnTo>
                    <a:pt x="231" y="2194"/>
                  </a:lnTo>
                  <a:lnTo>
                    <a:pt x="247" y="2160"/>
                  </a:lnTo>
                  <a:lnTo>
                    <a:pt x="280" y="2086"/>
                  </a:lnTo>
                  <a:lnTo>
                    <a:pt x="314" y="2005"/>
                  </a:lnTo>
                  <a:lnTo>
                    <a:pt x="348" y="1917"/>
                  </a:lnTo>
                  <a:lnTo>
                    <a:pt x="384" y="1824"/>
                  </a:lnTo>
                  <a:lnTo>
                    <a:pt x="419" y="1726"/>
                  </a:lnTo>
                  <a:lnTo>
                    <a:pt x="456" y="1626"/>
                  </a:lnTo>
                  <a:lnTo>
                    <a:pt x="491" y="1521"/>
                  </a:lnTo>
                  <a:lnTo>
                    <a:pt x="526" y="1415"/>
                  </a:lnTo>
                  <a:lnTo>
                    <a:pt x="560" y="1306"/>
                  </a:lnTo>
                  <a:lnTo>
                    <a:pt x="596" y="1198"/>
                  </a:lnTo>
                  <a:lnTo>
                    <a:pt x="629" y="1090"/>
                  </a:lnTo>
                  <a:lnTo>
                    <a:pt x="661" y="983"/>
                  </a:lnTo>
                  <a:lnTo>
                    <a:pt x="692" y="878"/>
                  </a:lnTo>
                  <a:lnTo>
                    <a:pt x="721" y="777"/>
                  </a:lnTo>
                  <a:lnTo>
                    <a:pt x="749" y="679"/>
                  </a:lnTo>
                  <a:lnTo>
                    <a:pt x="775" y="585"/>
                  </a:lnTo>
                  <a:lnTo>
                    <a:pt x="799" y="496"/>
                  </a:lnTo>
                  <a:lnTo>
                    <a:pt x="820" y="414"/>
                  </a:lnTo>
                  <a:lnTo>
                    <a:pt x="840" y="339"/>
                  </a:lnTo>
                  <a:lnTo>
                    <a:pt x="856" y="273"/>
                  </a:lnTo>
                  <a:lnTo>
                    <a:pt x="869" y="213"/>
                  </a:lnTo>
                  <a:lnTo>
                    <a:pt x="880" y="164"/>
                  </a:lnTo>
                  <a:lnTo>
                    <a:pt x="886" y="127"/>
                  </a:lnTo>
                  <a:lnTo>
                    <a:pt x="890" y="99"/>
                  </a:lnTo>
                  <a:lnTo>
                    <a:pt x="890" y="90"/>
                  </a:lnTo>
                  <a:lnTo>
                    <a:pt x="889" y="83"/>
                  </a:lnTo>
                  <a:lnTo>
                    <a:pt x="886" y="76"/>
                  </a:lnTo>
                  <a:lnTo>
                    <a:pt x="810" y="1"/>
                  </a:lnTo>
                  <a:lnTo>
                    <a:pt x="804" y="0"/>
                  </a:lnTo>
                  <a:lnTo>
                    <a:pt x="803" y="0"/>
                  </a:lnTo>
                  <a:lnTo>
                    <a:pt x="884" y="82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08" y="7"/>
                  </a:lnTo>
                  <a:lnTo>
                    <a:pt x="807" y="5"/>
                  </a:lnTo>
                  <a:lnTo>
                    <a:pt x="808" y="9"/>
                  </a:lnTo>
                  <a:lnTo>
                    <a:pt x="807" y="18"/>
                  </a:lnTo>
                  <a:lnTo>
                    <a:pt x="803" y="46"/>
                  </a:lnTo>
                  <a:lnTo>
                    <a:pt x="796" y="84"/>
                  </a:lnTo>
                  <a:lnTo>
                    <a:pt x="786" y="132"/>
                  </a:lnTo>
                  <a:lnTo>
                    <a:pt x="774" y="192"/>
                  </a:lnTo>
                  <a:lnTo>
                    <a:pt x="757" y="258"/>
                  </a:lnTo>
                  <a:lnTo>
                    <a:pt x="738" y="333"/>
                  </a:lnTo>
                  <a:lnTo>
                    <a:pt x="717" y="415"/>
                  </a:lnTo>
                  <a:lnTo>
                    <a:pt x="693" y="504"/>
                  </a:lnTo>
                  <a:lnTo>
                    <a:pt x="666" y="598"/>
                  </a:lnTo>
                  <a:lnTo>
                    <a:pt x="639" y="696"/>
                  </a:lnTo>
                  <a:lnTo>
                    <a:pt x="609" y="797"/>
                  </a:lnTo>
                  <a:lnTo>
                    <a:pt x="579" y="902"/>
                  </a:lnTo>
                  <a:lnTo>
                    <a:pt x="547" y="1009"/>
                  </a:lnTo>
                  <a:lnTo>
                    <a:pt x="513" y="1117"/>
                  </a:lnTo>
                  <a:lnTo>
                    <a:pt x="478" y="1225"/>
                  </a:lnTo>
                  <a:lnTo>
                    <a:pt x="444" y="1334"/>
                  </a:lnTo>
                  <a:lnTo>
                    <a:pt x="409" y="1440"/>
                  </a:lnTo>
                  <a:lnTo>
                    <a:pt x="373" y="1544"/>
                  </a:lnTo>
                  <a:lnTo>
                    <a:pt x="337" y="1645"/>
                  </a:lnTo>
                  <a:lnTo>
                    <a:pt x="302" y="1743"/>
                  </a:lnTo>
                  <a:lnTo>
                    <a:pt x="266" y="1836"/>
                  </a:lnTo>
                  <a:lnTo>
                    <a:pt x="232" y="1924"/>
                  </a:lnTo>
                  <a:lnTo>
                    <a:pt x="198" y="2005"/>
                  </a:lnTo>
                  <a:lnTo>
                    <a:pt x="165" y="2079"/>
                  </a:lnTo>
                  <a:lnTo>
                    <a:pt x="149" y="2112"/>
                  </a:lnTo>
                  <a:lnTo>
                    <a:pt x="133" y="2144"/>
                  </a:lnTo>
                  <a:lnTo>
                    <a:pt x="118" y="2173"/>
                  </a:lnTo>
                  <a:lnTo>
                    <a:pt x="103" y="2201"/>
                  </a:lnTo>
                  <a:lnTo>
                    <a:pt x="88" y="2226"/>
                  </a:lnTo>
                  <a:lnTo>
                    <a:pt x="75" y="2249"/>
                  </a:lnTo>
                  <a:lnTo>
                    <a:pt x="61" y="2268"/>
                  </a:lnTo>
                  <a:lnTo>
                    <a:pt x="47" y="2285"/>
                  </a:lnTo>
                  <a:lnTo>
                    <a:pt x="35" y="2299"/>
                  </a:lnTo>
                  <a:lnTo>
                    <a:pt x="22" y="2310"/>
                  </a:lnTo>
                  <a:lnTo>
                    <a:pt x="17" y="2315"/>
                  </a:lnTo>
                  <a:lnTo>
                    <a:pt x="11" y="2318"/>
                  </a:lnTo>
                  <a:lnTo>
                    <a:pt x="5" y="2321"/>
                  </a:lnTo>
                  <a:lnTo>
                    <a:pt x="0" y="2323"/>
                  </a:lnTo>
                  <a:lnTo>
                    <a:pt x="82" y="2405"/>
                  </a:lnTo>
                  <a:lnTo>
                    <a:pt x="0" y="2323"/>
                  </a:lnTo>
                  <a:lnTo>
                    <a:pt x="2" y="2403"/>
                  </a:lnTo>
                  <a:lnTo>
                    <a:pt x="81" y="2405"/>
                  </a:lnTo>
                  <a:lnTo>
                    <a:pt x="0" y="232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3773520" y="3852720"/>
              <a:ext cx="353880" cy="55584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3" y="1713"/>
                  </a:lnTo>
                  <a:lnTo>
                    <a:pt x="126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6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3"/>
                  </a:lnTo>
                  <a:lnTo>
                    <a:pt x="535" y="1245"/>
                  </a:lnTo>
                  <a:lnTo>
                    <a:pt x="587" y="1173"/>
                  </a:lnTo>
                  <a:lnTo>
                    <a:pt x="637" y="1101"/>
                  </a:lnTo>
                  <a:lnTo>
                    <a:pt x="686" y="1028"/>
                  </a:lnTo>
                  <a:lnTo>
                    <a:pt x="734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1" y="733"/>
                  </a:lnTo>
                  <a:lnTo>
                    <a:pt x="898" y="661"/>
                  </a:lnTo>
                  <a:lnTo>
                    <a:pt x="934" y="590"/>
                  </a:lnTo>
                  <a:lnTo>
                    <a:pt x="966" y="522"/>
                  </a:lnTo>
                  <a:lnTo>
                    <a:pt x="995" y="455"/>
                  </a:lnTo>
                  <a:lnTo>
                    <a:pt x="1022" y="393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6" y="132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9" y="2"/>
                  </a:lnTo>
                  <a:lnTo>
                    <a:pt x="1085" y="15"/>
                  </a:lnTo>
                  <a:lnTo>
                    <a:pt x="1079" y="37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3" y="539"/>
                  </a:lnTo>
                  <a:lnTo>
                    <a:pt x="737" y="696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5"/>
                  </a:lnTo>
                  <a:lnTo>
                    <a:pt x="498" y="1106"/>
                  </a:lnTo>
                  <a:lnTo>
                    <a:pt x="450" y="1184"/>
                  </a:lnTo>
                  <a:lnTo>
                    <a:pt x="403" y="1261"/>
                  </a:lnTo>
                  <a:lnTo>
                    <a:pt x="355" y="1334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2" y="1528"/>
                  </a:lnTo>
                  <a:lnTo>
                    <a:pt x="181" y="1583"/>
                  </a:lnTo>
                  <a:lnTo>
                    <a:pt x="144" y="1630"/>
                  </a:lnTo>
                  <a:lnTo>
                    <a:pt x="108" y="1672"/>
                  </a:lnTo>
                  <a:lnTo>
                    <a:pt x="75" y="1706"/>
                  </a:lnTo>
                  <a:lnTo>
                    <a:pt x="47" y="1730"/>
                  </a:lnTo>
                  <a:lnTo>
                    <a:pt x="22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3760920" y="383868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7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80"/>
                  </a:lnTo>
                  <a:lnTo>
                    <a:pt x="1112" y="24"/>
                  </a:lnTo>
                  <a:lnTo>
                    <a:pt x="1109" y="21"/>
                  </a:lnTo>
                  <a:lnTo>
                    <a:pt x="1112" y="29"/>
                  </a:lnTo>
                  <a:lnTo>
                    <a:pt x="1114" y="38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09" y="113"/>
                  </a:lnTo>
                  <a:lnTo>
                    <a:pt x="1106" y="134"/>
                  </a:lnTo>
                  <a:lnTo>
                    <a:pt x="1096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2" y="393"/>
                  </a:lnTo>
                  <a:lnTo>
                    <a:pt x="995" y="456"/>
                  </a:lnTo>
                  <a:lnTo>
                    <a:pt x="966" y="523"/>
                  </a:lnTo>
                  <a:lnTo>
                    <a:pt x="934" y="591"/>
                  </a:lnTo>
                  <a:lnTo>
                    <a:pt x="898" y="661"/>
                  </a:lnTo>
                  <a:lnTo>
                    <a:pt x="861" y="733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5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3" y="1347"/>
                  </a:lnTo>
                  <a:lnTo>
                    <a:pt x="424" y="1381"/>
                  </a:lnTo>
                  <a:lnTo>
                    <a:pt x="396" y="1414"/>
                  </a:lnTo>
                  <a:lnTo>
                    <a:pt x="367" y="1446"/>
                  </a:lnTo>
                  <a:lnTo>
                    <a:pt x="338" y="1476"/>
                  </a:lnTo>
                  <a:lnTo>
                    <a:pt x="309" y="1507"/>
                  </a:lnTo>
                  <a:lnTo>
                    <a:pt x="279" y="1536"/>
                  </a:lnTo>
                  <a:lnTo>
                    <a:pt x="249" y="1564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7" y="1668"/>
                  </a:lnTo>
                  <a:lnTo>
                    <a:pt x="95" y="1692"/>
                  </a:lnTo>
                  <a:lnTo>
                    <a:pt x="64" y="1714"/>
                  </a:lnTo>
                  <a:lnTo>
                    <a:pt x="32" y="1734"/>
                  </a:lnTo>
                  <a:lnTo>
                    <a:pt x="0" y="1752"/>
                  </a:lnTo>
                  <a:lnTo>
                    <a:pt x="82" y="1835"/>
                  </a:lnTo>
                  <a:lnTo>
                    <a:pt x="113" y="1815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6"/>
                  </a:lnTo>
                  <a:lnTo>
                    <a:pt x="360" y="1618"/>
                  </a:lnTo>
                  <a:lnTo>
                    <a:pt x="390" y="1588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30"/>
                  </a:lnTo>
                  <a:lnTo>
                    <a:pt x="562" y="1395"/>
                  </a:lnTo>
                  <a:lnTo>
                    <a:pt x="590" y="1361"/>
                  </a:lnTo>
                  <a:lnTo>
                    <a:pt x="617" y="1326"/>
                  </a:lnTo>
                  <a:lnTo>
                    <a:pt x="643" y="1292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5"/>
                  </a:lnTo>
                  <a:lnTo>
                    <a:pt x="861" y="961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8" y="604"/>
                  </a:lnTo>
                  <a:lnTo>
                    <a:pt x="1077" y="537"/>
                  </a:lnTo>
                  <a:lnTo>
                    <a:pt x="1104" y="474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8" y="213"/>
                  </a:lnTo>
                  <a:lnTo>
                    <a:pt x="1193" y="194"/>
                  </a:lnTo>
                  <a:lnTo>
                    <a:pt x="1195" y="176"/>
                  </a:lnTo>
                  <a:lnTo>
                    <a:pt x="1196" y="159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7" y="0"/>
                  </a:lnTo>
                  <a:lnTo>
                    <a:pt x="1043" y="55"/>
                  </a:lnTo>
                  <a:lnTo>
                    <a:pt x="1166" y="82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3755880" y="3838680"/>
              <a:ext cx="37656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5" y="1752"/>
                  </a:moveTo>
                  <a:lnTo>
                    <a:pt x="96" y="1835"/>
                  </a:lnTo>
                  <a:lnTo>
                    <a:pt x="106" y="1833"/>
                  </a:lnTo>
                  <a:lnTo>
                    <a:pt x="118" y="1829"/>
                  </a:lnTo>
                  <a:lnTo>
                    <a:pt x="130" y="1821"/>
                  </a:lnTo>
                  <a:lnTo>
                    <a:pt x="143" y="1812"/>
                  </a:lnTo>
                  <a:lnTo>
                    <a:pt x="158" y="1800"/>
                  </a:lnTo>
                  <a:lnTo>
                    <a:pt x="172" y="1787"/>
                  </a:lnTo>
                  <a:lnTo>
                    <a:pt x="188" y="1772"/>
                  </a:lnTo>
                  <a:lnTo>
                    <a:pt x="206" y="1754"/>
                  </a:lnTo>
                  <a:lnTo>
                    <a:pt x="223" y="1734"/>
                  </a:lnTo>
                  <a:lnTo>
                    <a:pt x="240" y="1713"/>
                  </a:lnTo>
                  <a:lnTo>
                    <a:pt x="259" y="1690"/>
                  </a:lnTo>
                  <a:lnTo>
                    <a:pt x="278" y="1665"/>
                  </a:lnTo>
                  <a:lnTo>
                    <a:pt x="320" y="1610"/>
                  </a:lnTo>
                  <a:lnTo>
                    <a:pt x="362" y="1549"/>
                  </a:lnTo>
                  <a:lnTo>
                    <a:pt x="406" y="1484"/>
                  </a:lnTo>
                  <a:lnTo>
                    <a:pt x="452" y="1416"/>
                  </a:lnTo>
                  <a:lnTo>
                    <a:pt x="500" y="1342"/>
                  </a:lnTo>
                  <a:lnTo>
                    <a:pt x="548" y="1265"/>
                  </a:lnTo>
                  <a:lnTo>
                    <a:pt x="595" y="1187"/>
                  </a:lnTo>
                  <a:lnTo>
                    <a:pt x="643" y="1106"/>
                  </a:lnTo>
                  <a:lnTo>
                    <a:pt x="692" y="1025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0" y="621"/>
                  </a:lnTo>
                  <a:lnTo>
                    <a:pt x="1000" y="474"/>
                  </a:lnTo>
                  <a:lnTo>
                    <a:pt x="1068" y="342"/>
                  </a:lnTo>
                  <a:lnTo>
                    <a:pt x="1097" y="284"/>
                  </a:lnTo>
                  <a:lnTo>
                    <a:pt x="1123" y="233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6" y="119"/>
                  </a:lnTo>
                  <a:lnTo>
                    <a:pt x="1182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5" y="81"/>
                  </a:lnTo>
                  <a:lnTo>
                    <a:pt x="1130" y="18"/>
                  </a:lnTo>
                  <a:lnTo>
                    <a:pt x="1103" y="0"/>
                  </a:lnTo>
                  <a:lnTo>
                    <a:pt x="1102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8"/>
                  </a:lnTo>
                  <a:lnTo>
                    <a:pt x="1100" y="16"/>
                  </a:lnTo>
                  <a:lnTo>
                    <a:pt x="1094" y="38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1" y="151"/>
                  </a:lnTo>
                  <a:lnTo>
                    <a:pt x="1016" y="203"/>
                  </a:lnTo>
                  <a:lnTo>
                    <a:pt x="986" y="261"/>
                  </a:lnTo>
                  <a:lnTo>
                    <a:pt x="918" y="393"/>
                  </a:lnTo>
                  <a:lnTo>
                    <a:pt x="838" y="539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0" y="942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5" y="1184"/>
                  </a:lnTo>
                  <a:lnTo>
                    <a:pt x="418" y="1261"/>
                  </a:lnTo>
                  <a:lnTo>
                    <a:pt x="371" y="1334"/>
                  </a:lnTo>
                  <a:lnTo>
                    <a:pt x="324" y="1403"/>
                  </a:lnTo>
                  <a:lnTo>
                    <a:pt x="280" y="1468"/>
                  </a:lnTo>
                  <a:lnTo>
                    <a:pt x="237" y="1529"/>
                  </a:lnTo>
                  <a:lnTo>
                    <a:pt x="196" y="1582"/>
                  </a:lnTo>
                  <a:lnTo>
                    <a:pt x="177" y="1608"/>
                  </a:lnTo>
                  <a:lnTo>
                    <a:pt x="159" y="1630"/>
                  </a:lnTo>
                  <a:lnTo>
                    <a:pt x="141" y="1652"/>
                  </a:lnTo>
                  <a:lnTo>
                    <a:pt x="123" y="1671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6" y="1719"/>
                  </a:lnTo>
                  <a:lnTo>
                    <a:pt x="62" y="1731"/>
                  </a:lnTo>
                  <a:lnTo>
                    <a:pt x="48" y="1740"/>
                  </a:lnTo>
                  <a:lnTo>
                    <a:pt x="37" y="1747"/>
                  </a:lnTo>
                  <a:lnTo>
                    <a:pt x="25" y="1751"/>
                  </a:lnTo>
                  <a:lnTo>
                    <a:pt x="16" y="1752"/>
                  </a:lnTo>
                  <a:lnTo>
                    <a:pt x="97" y="1835"/>
                  </a:lnTo>
                  <a:lnTo>
                    <a:pt x="15" y="1752"/>
                  </a:lnTo>
                  <a:lnTo>
                    <a:pt x="0" y="1813"/>
                  </a:lnTo>
                  <a:lnTo>
                    <a:pt x="96" y="1835"/>
                  </a:lnTo>
                  <a:lnTo>
                    <a:pt x="15" y="175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3254400" y="384012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4">
                  <a:moveTo>
                    <a:pt x="0" y="1754"/>
                  </a:moveTo>
                  <a:lnTo>
                    <a:pt x="64" y="1714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5"/>
                  </a:lnTo>
                  <a:lnTo>
                    <a:pt x="535" y="1245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4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2" y="733"/>
                  </a:lnTo>
                  <a:lnTo>
                    <a:pt x="900" y="661"/>
                  </a:lnTo>
                  <a:lnTo>
                    <a:pt x="934" y="590"/>
                  </a:lnTo>
                  <a:lnTo>
                    <a:pt x="967" y="522"/>
                  </a:lnTo>
                  <a:lnTo>
                    <a:pt x="995" y="456"/>
                  </a:lnTo>
                  <a:lnTo>
                    <a:pt x="1023" y="393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7" y="133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9" y="17"/>
                  </a:lnTo>
                  <a:lnTo>
                    <a:pt x="1099" y="6"/>
                  </a:lnTo>
                  <a:lnTo>
                    <a:pt x="1086" y="0"/>
                  </a:lnTo>
                  <a:lnTo>
                    <a:pt x="1089" y="4"/>
                  </a:lnTo>
                  <a:lnTo>
                    <a:pt x="1087" y="15"/>
                  </a:lnTo>
                  <a:lnTo>
                    <a:pt x="1079" y="37"/>
                  </a:lnTo>
                  <a:lnTo>
                    <a:pt x="1066" y="68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2"/>
                  </a:lnTo>
                  <a:lnTo>
                    <a:pt x="824" y="539"/>
                  </a:lnTo>
                  <a:lnTo>
                    <a:pt x="737" y="697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7" y="1025"/>
                  </a:lnTo>
                  <a:lnTo>
                    <a:pt x="498" y="1106"/>
                  </a:lnTo>
                  <a:lnTo>
                    <a:pt x="451" y="1185"/>
                  </a:lnTo>
                  <a:lnTo>
                    <a:pt x="403" y="1261"/>
                  </a:lnTo>
                  <a:lnTo>
                    <a:pt x="356" y="1334"/>
                  </a:lnTo>
                  <a:lnTo>
                    <a:pt x="309" y="1404"/>
                  </a:lnTo>
                  <a:lnTo>
                    <a:pt x="266" y="1469"/>
                  </a:lnTo>
                  <a:lnTo>
                    <a:pt x="223" y="1529"/>
                  </a:lnTo>
                  <a:lnTo>
                    <a:pt x="182" y="1583"/>
                  </a:lnTo>
                  <a:lnTo>
                    <a:pt x="144" y="1631"/>
                  </a:lnTo>
                  <a:lnTo>
                    <a:pt x="109" y="1672"/>
                  </a:lnTo>
                  <a:lnTo>
                    <a:pt x="76" y="1706"/>
                  </a:lnTo>
                  <a:lnTo>
                    <a:pt x="47" y="1731"/>
                  </a:lnTo>
                  <a:lnTo>
                    <a:pt x="22" y="1747"/>
                  </a:lnTo>
                  <a:lnTo>
                    <a:pt x="0" y="17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3241800" y="3827520"/>
              <a:ext cx="379440" cy="582480"/>
            </a:xfrm>
            <a:custGeom>
              <a:avLst/>
              <a:gdLst/>
              <a:ahLst/>
              <a:rect l="l" t="t" r="r" b="b"/>
              <a:pathLst>
                <a:path w="1198" h="1835">
                  <a:moveTo>
                    <a:pt x="1087" y="0"/>
                  </a:moveTo>
                  <a:lnTo>
                    <a:pt x="1166" y="82"/>
                  </a:lnTo>
                  <a:lnTo>
                    <a:pt x="1172" y="84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09" y="22"/>
                  </a:lnTo>
                  <a:lnTo>
                    <a:pt x="1112" y="29"/>
                  </a:lnTo>
                  <a:lnTo>
                    <a:pt x="1114" y="39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5" y="79"/>
                  </a:lnTo>
                  <a:lnTo>
                    <a:pt x="1113" y="96"/>
                  </a:lnTo>
                  <a:lnTo>
                    <a:pt x="1111" y="114"/>
                  </a:lnTo>
                  <a:lnTo>
                    <a:pt x="1107" y="134"/>
                  </a:lnTo>
                  <a:lnTo>
                    <a:pt x="1097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3" y="393"/>
                  </a:lnTo>
                  <a:lnTo>
                    <a:pt x="995" y="457"/>
                  </a:lnTo>
                  <a:lnTo>
                    <a:pt x="967" y="523"/>
                  </a:lnTo>
                  <a:lnTo>
                    <a:pt x="934" y="591"/>
                  </a:lnTo>
                  <a:lnTo>
                    <a:pt x="900" y="662"/>
                  </a:lnTo>
                  <a:lnTo>
                    <a:pt x="862" y="734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5" y="1245"/>
                  </a:lnTo>
                  <a:lnTo>
                    <a:pt x="509" y="1280"/>
                  </a:lnTo>
                  <a:lnTo>
                    <a:pt x="481" y="1315"/>
                  </a:lnTo>
                  <a:lnTo>
                    <a:pt x="453" y="1349"/>
                  </a:lnTo>
                  <a:lnTo>
                    <a:pt x="425" y="1382"/>
                  </a:lnTo>
                  <a:lnTo>
                    <a:pt x="397" y="1414"/>
                  </a:lnTo>
                  <a:lnTo>
                    <a:pt x="367" y="1446"/>
                  </a:lnTo>
                  <a:lnTo>
                    <a:pt x="339" y="1477"/>
                  </a:lnTo>
                  <a:lnTo>
                    <a:pt x="309" y="1507"/>
                  </a:lnTo>
                  <a:lnTo>
                    <a:pt x="280" y="1537"/>
                  </a:lnTo>
                  <a:lnTo>
                    <a:pt x="249" y="1564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8" y="1644"/>
                  </a:lnTo>
                  <a:lnTo>
                    <a:pt x="127" y="1668"/>
                  </a:lnTo>
                  <a:lnTo>
                    <a:pt x="96" y="1692"/>
                  </a:lnTo>
                  <a:lnTo>
                    <a:pt x="64" y="1714"/>
                  </a:lnTo>
                  <a:lnTo>
                    <a:pt x="32" y="1734"/>
                  </a:lnTo>
                  <a:lnTo>
                    <a:pt x="0" y="1754"/>
                  </a:lnTo>
                  <a:lnTo>
                    <a:pt x="82" y="1835"/>
                  </a:lnTo>
                  <a:lnTo>
                    <a:pt x="114" y="1817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40" y="1726"/>
                  </a:lnTo>
                  <a:lnTo>
                    <a:pt x="270" y="1700"/>
                  </a:lnTo>
                  <a:lnTo>
                    <a:pt x="300" y="1674"/>
                  </a:lnTo>
                  <a:lnTo>
                    <a:pt x="331" y="1647"/>
                  </a:lnTo>
                  <a:lnTo>
                    <a:pt x="362" y="1618"/>
                  </a:lnTo>
                  <a:lnTo>
                    <a:pt x="391" y="1590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30"/>
                  </a:lnTo>
                  <a:lnTo>
                    <a:pt x="562" y="1396"/>
                  </a:lnTo>
                  <a:lnTo>
                    <a:pt x="590" y="1361"/>
                  </a:lnTo>
                  <a:lnTo>
                    <a:pt x="617" y="1327"/>
                  </a:lnTo>
                  <a:lnTo>
                    <a:pt x="643" y="1292"/>
                  </a:lnTo>
                  <a:lnTo>
                    <a:pt x="669" y="1255"/>
                  </a:lnTo>
                  <a:lnTo>
                    <a:pt x="721" y="1183"/>
                  </a:lnTo>
                  <a:lnTo>
                    <a:pt x="770" y="1109"/>
                  </a:lnTo>
                  <a:lnTo>
                    <a:pt x="816" y="1036"/>
                  </a:lnTo>
                  <a:lnTo>
                    <a:pt x="861" y="962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9" y="604"/>
                  </a:lnTo>
                  <a:lnTo>
                    <a:pt x="1078" y="538"/>
                  </a:lnTo>
                  <a:lnTo>
                    <a:pt x="1105" y="475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9" y="215"/>
                  </a:lnTo>
                  <a:lnTo>
                    <a:pt x="1193" y="194"/>
                  </a:lnTo>
                  <a:lnTo>
                    <a:pt x="1195" y="176"/>
                  </a:lnTo>
                  <a:lnTo>
                    <a:pt x="1197" y="160"/>
                  </a:lnTo>
                  <a:lnTo>
                    <a:pt x="1198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3"/>
                  </a:lnTo>
                  <a:lnTo>
                    <a:pt x="1087" y="0"/>
                  </a:lnTo>
                  <a:lnTo>
                    <a:pt x="1168" y="82"/>
                  </a:lnTo>
                  <a:lnTo>
                    <a:pt x="1087" y="0"/>
                  </a:lnTo>
                  <a:lnTo>
                    <a:pt x="1044" y="55"/>
                  </a:lnTo>
                  <a:lnTo>
                    <a:pt x="1166" y="82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3236760" y="3827520"/>
              <a:ext cx="376560" cy="582480"/>
            </a:xfrm>
            <a:custGeom>
              <a:avLst/>
              <a:gdLst/>
              <a:ahLst/>
              <a:rect l="l" t="t" r="r" b="b"/>
              <a:pathLst>
                <a:path w="1186" h="1836">
                  <a:moveTo>
                    <a:pt x="15" y="1754"/>
                  </a:moveTo>
                  <a:lnTo>
                    <a:pt x="96" y="1836"/>
                  </a:lnTo>
                  <a:lnTo>
                    <a:pt x="106" y="1834"/>
                  </a:lnTo>
                  <a:lnTo>
                    <a:pt x="118" y="1829"/>
                  </a:lnTo>
                  <a:lnTo>
                    <a:pt x="130" y="1822"/>
                  </a:lnTo>
                  <a:lnTo>
                    <a:pt x="144" y="1812"/>
                  </a:lnTo>
                  <a:lnTo>
                    <a:pt x="158" y="1801"/>
                  </a:lnTo>
                  <a:lnTo>
                    <a:pt x="173" y="1788"/>
                  </a:lnTo>
                  <a:lnTo>
                    <a:pt x="189" y="1772"/>
                  </a:lnTo>
                  <a:lnTo>
                    <a:pt x="206" y="1754"/>
                  </a:lnTo>
                  <a:lnTo>
                    <a:pt x="223" y="1734"/>
                  </a:lnTo>
                  <a:lnTo>
                    <a:pt x="241" y="1713"/>
                  </a:lnTo>
                  <a:lnTo>
                    <a:pt x="259" y="1690"/>
                  </a:lnTo>
                  <a:lnTo>
                    <a:pt x="279" y="1665"/>
                  </a:lnTo>
                  <a:lnTo>
                    <a:pt x="320" y="1610"/>
                  </a:lnTo>
                  <a:lnTo>
                    <a:pt x="362" y="1551"/>
                  </a:lnTo>
                  <a:lnTo>
                    <a:pt x="406" y="1486"/>
                  </a:lnTo>
                  <a:lnTo>
                    <a:pt x="453" y="1416"/>
                  </a:lnTo>
                  <a:lnTo>
                    <a:pt x="500" y="1342"/>
                  </a:lnTo>
                  <a:lnTo>
                    <a:pt x="548" y="1266"/>
                  </a:lnTo>
                  <a:lnTo>
                    <a:pt x="595" y="1187"/>
                  </a:lnTo>
                  <a:lnTo>
                    <a:pt x="645" y="1107"/>
                  </a:lnTo>
                  <a:lnTo>
                    <a:pt x="692" y="1025"/>
                  </a:lnTo>
                  <a:lnTo>
                    <a:pt x="740" y="943"/>
                  </a:lnTo>
                  <a:lnTo>
                    <a:pt x="834" y="778"/>
                  </a:lnTo>
                  <a:lnTo>
                    <a:pt x="922" y="621"/>
                  </a:lnTo>
                  <a:lnTo>
                    <a:pt x="1000" y="474"/>
                  </a:lnTo>
                  <a:lnTo>
                    <a:pt x="1069" y="343"/>
                  </a:lnTo>
                  <a:lnTo>
                    <a:pt x="1098" y="284"/>
                  </a:lnTo>
                  <a:lnTo>
                    <a:pt x="1123" y="233"/>
                  </a:lnTo>
                  <a:lnTo>
                    <a:pt x="1145" y="187"/>
                  </a:lnTo>
                  <a:lnTo>
                    <a:pt x="1163" y="149"/>
                  </a:lnTo>
                  <a:lnTo>
                    <a:pt x="1176" y="119"/>
                  </a:lnTo>
                  <a:lnTo>
                    <a:pt x="1184" y="97"/>
                  </a:lnTo>
                  <a:lnTo>
                    <a:pt x="1185" y="89"/>
                  </a:lnTo>
                  <a:lnTo>
                    <a:pt x="1186" y="85"/>
                  </a:lnTo>
                  <a:lnTo>
                    <a:pt x="1186" y="81"/>
                  </a:lnTo>
                  <a:lnTo>
                    <a:pt x="1130" y="20"/>
                  </a:lnTo>
                  <a:lnTo>
                    <a:pt x="1104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3" y="82"/>
                  </a:lnTo>
                  <a:lnTo>
                    <a:pt x="1158" y="64"/>
                  </a:lnTo>
                  <a:lnTo>
                    <a:pt x="1104" y="4"/>
                  </a:lnTo>
                  <a:lnTo>
                    <a:pt x="1104" y="4"/>
                  </a:lnTo>
                  <a:lnTo>
                    <a:pt x="1103" y="9"/>
                  </a:lnTo>
                  <a:lnTo>
                    <a:pt x="1102" y="16"/>
                  </a:lnTo>
                  <a:lnTo>
                    <a:pt x="1094" y="38"/>
                  </a:lnTo>
                  <a:lnTo>
                    <a:pt x="1081" y="68"/>
                  </a:lnTo>
                  <a:lnTo>
                    <a:pt x="1063" y="106"/>
                  </a:lnTo>
                  <a:lnTo>
                    <a:pt x="1041" y="151"/>
                  </a:lnTo>
                  <a:lnTo>
                    <a:pt x="1016" y="203"/>
                  </a:lnTo>
                  <a:lnTo>
                    <a:pt x="987" y="262"/>
                  </a:lnTo>
                  <a:lnTo>
                    <a:pt x="918" y="393"/>
                  </a:lnTo>
                  <a:lnTo>
                    <a:pt x="839" y="540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0" y="944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6" y="1185"/>
                  </a:lnTo>
                  <a:lnTo>
                    <a:pt x="418" y="1261"/>
                  </a:lnTo>
                  <a:lnTo>
                    <a:pt x="371" y="1334"/>
                  </a:lnTo>
                  <a:lnTo>
                    <a:pt x="325" y="1404"/>
                  </a:lnTo>
                  <a:lnTo>
                    <a:pt x="281" y="1469"/>
                  </a:lnTo>
                  <a:lnTo>
                    <a:pt x="238" y="1529"/>
                  </a:lnTo>
                  <a:lnTo>
                    <a:pt x="198" y="1584"/>
                  </a:lnTo>
                  <a:lnTo>
                    <a:pt x="178" y="1608"/>
                  </a:lnTo>
                  <a:lnTo>
                    <a:pt x="159" y="1632"/>
                  </a:lnTo>
                  <a:lnTo>
                    <a:pt x="141" y="1652"/>
                  </a:lnTo>
                  <a:lnTo>
                    <a:pt x="124" y="1672"/>
                  </a:lnTo>
                  <a:lnTo>
                    <a:pt x="106" y="1690"/>
                  </a:lnTo>
                  <a:lnTo>
                    <a:pt x="92" y="1706"/>
                  </a:lnTo>
                  <a:lnTo>
                    <a:pt x="77" y="1720"/>
                  </a:lnTo>
                  <a:lnTo>
                    <a:pt x="62" y="1731"/>
                  </a:lnTo>
                  <a:lnTo>
                    <a:pt x="49" y="1740"/>
                  </a:lnTo>
                  <a:lnTo>
                    <a:pt x="37" y="1747"/>
                  </a:lnTo>
                  <a:lnTo>
                    <a:pt x="25" y="1752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5" y="1754"/>
                  </a:lnTo>
                  <a:lnTo>
                    <a:pt x="0" y="1814"/>
                  </a:lnTo>
                  <a:lnTo>
                    <a:pt x="96" y="1836"/>
                  </a:lnTo>
                  <a:lnTo>
                    <a:pt x="15" y="175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2776680" y="383868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3" y="1714"/>
                  </a:lnTo>
                  <a:lnTo>
                    <a:pt x="126" y="1668"/>
                  </a:lnTo>
                  <a:lnTo>
                    <a:pt x="187" y="1619"/>
                  </a:lnTo>
                  <a:lnTo>
                    <a:pt x="249" y="1564"/>
                  </a:lnTo>
                  <a:lnTo>
                    <a:pt x="308" y="1507"/>
                  </a:lnTo>
                  <a:lnTo>
                    <a:pt x="368" y="1446"/>
                  </a:lnTo>
                  <a:lnTo>
                    <a:pt x="425" y="1381"/>
                  </a:lnTo>
                  <a:lnTo>
                    <a:pt x="480" y="1313"/>
                  </a:lnTo>
                  <a:lnTo>
                    <a:pt x="535" y="1245"/>
                  </a:lnTo>
                  <a:lnTo>
                    <a:pt x="588" y="1173"/>
                  </a:lnTo>
                  <a:lnTo>
                    <a:pt x="638" y="1101"/>
                  </a:lnTo>
                  <a:lnTo>
                    <a:pt x="687" y="1028"/>
                  </a:lnTo>
                  <a:lnTo>
                    <a:pt x="733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1" y="733"/>
                  </a:lnTo>
                  <a:lnTo>
                    <a:pt x="899" y="661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6" y="455"/>
                  </a:lnTo>
                  <a:lnTo>
                    <a:pt x="1022" y="393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2" y="224"/>
                  </a:lnTo>
                  <a:lnTo>
                    <a:pt x="1096" y="176"/>
                  </a:lnTo>
                  <a:lnTo>
                    <a:pt x="1106" y="132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9" y="17"/>
                  </a:lnTo>
                  <a:lnTo>
                    <a:pt x="1099" y="5"/>
                  </a:lnTo>
                  <a:lnTo>
                    <a:pt x="1086" y="0"/>
                  </a:lnTo>
                  <a:lnTo>
                    <a:pt x="1088" y="2"/>
                  </a:lnTo>
                  <a:lnTo>
                    <a:pt x="1086" y="15"/>
                  </a:lnTo>
                  <a:lnTo>
                    <a:pt x="1078" y="37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4" y="539"/>
                  </a:lnTo>
                  <a:lnTo>
                    <a:pt x="736" y="697"/>
                  </a:lnTo>
                  <a:lnTo>
                    <a:pt x="643" y="860"/>
                  </a:lnTo>
                  <a:lnTo>
                    <a:pt x="596" y="942"/>
                  </a:lnTo>
                  <a:lnTo>
                    <a:pt x="547" y="1025"/>
                  </a:lnTo>
                  <a:lnTo>
                    <a:pt x="499" y="1106"/>
                  </a:lnTo>
                  <a:lnTo>
                    <a:pt x="450" y="1184"/>
                  </a:lnTo>
                  <a:lnTo>
                    <a:pt x="402" y="1261"/>
                  </a:lnTo>
                  <a:lnTo>
                    <a:pt x="355" y="1334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3" y="1529"/>
                  </a:lnTo>
                  <a:lnTo>
                    <a:pt x="182" y="1582"/>
                  </a:lnTo>
                  <a:lnTo>
                    <a:pt x="143" y="1630"/>
                  </a:lnTo>
                  <a:lnTo>
                    <a:pt x="108" y="1671"/>
                  </a:lnTo>
                  <a:lnTo>
                    <a:pt x="76" y="1706"/>
                  </a:lnTo>
                  <a:lnTo>
                    <a:pt x="46" y="1731"/>
                  </a:lnTo>
                  <a:lnTo>
                    <a:pt x="21" y="1747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763720" y="3825720"/>
              <a:ext cx="379440" cy="58284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6" y="0"/>
                  </a:moveTo>
                  <a:lnTo>
                    <a:pt x="1167" y="82"/>
                  </a:lnTo>
                  <a:lnTo>
                    <a:pt x="1172" y="83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10" y="21"/>
                  </a:lnTo>
                  <a:lnTo>
                    <a:pt x="1112" y="29"/>
                  </a:lnTo>
                  <a:lnTo>
                    <a:pt x="1114" y="39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10" y="114"/>
                  </a:lnTo>
                  <a:lnTo>
                    <a:pt x="1106" y="133"/>
                  </a:lnTo>
                  <a:lnTo>
                    <a:pt x="1096" y="176"/>
                  </a:lnTo>
                  <a:lnTo>
                    <a:pt x="1082" y="224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2" y="392"/>
                  </a:lnTo>
                  <a:lnTo>
                    <a:pt x="996" y="456"/>
                  </a:lnTo>
                  <a:lnTo>
                    <a:pt x="966" y="523"/>
                  </a:lnTo>
                  <a:lnTo>
                    <a:pt x="934" y="591"/>
                  </a:lnTo>
                  <a:lnTo>
                    <a:pt x="899" y="661"/>
                  </a:lnTo>
                  <a:lnTo>
                    <a:pt x="861" y="732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3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8" y="1174"/>
                  </a:lnTo>
                  <a:lnTo>
                    <a:pt x="561" y="1209"/>
                  </a:lnTo>
                  <a:lnTo>
                    <a:pt x="535" y="1245"/>
                  </a:lnTo>
                  <a:lnTo>
                    <a:pt x="508" y="1280"/>
                  </a:lnTo>
                  <a:lnTo>
                    <a:pt x="480" y="1314"/>
                  </a:lnTo>
                  <a:lnTo>
                    <a:pt x="453" y="1347"/>
                  </a:lnTo>
                  <a:lnTo>
                    <a:pt x="425" y="1382"/>
                  </a:lnTo>
                  <a:lnTo>
                    <a:pt x="396" y="1414"/>
                  </a:lnTo>
                  <a:lnTo>
                    <a:pt x="368" y="1445"/>
                  </a:lnTo>
                  <a:lnTo>
                    <a:pt x="338" y="1476"/>
                  </a:lnTo>
                  <a:lnTo>
                    <a:pt x="308" y="1507"/>
                  </a:lnTo>
                  <a:lnTo>
                    <a:pt x="279" y="1536"/>
                  </a:lnTo>
                  <a:lnTo>
                    <a:pt x="249" y="1564"/>
                  </a:lnTo>
                  <a:lnTo>
                    <a:pt x="218" y="1593"/>
                  </a:lnTo>
                  <a:lnTo>
                    <a:pt x="189" y="1619"/>
                  </a:lnTo>
                  <a:lnTo>
                    <a:pt x="158" y="1644"/>
                  </a:lnTo>
                  <a:lnTo>
                    <a:pt x="126" y="1668"/>
                  </a:lnTo>
                  <a:lnTo>
                    <a:pt x="95" y="1692"/>
                  </a:lnTo>
                  <a:lnTo>
                    <a:pt x="64" y="1714"/>
                  </a:lnTo>
                  <a:lnTo>
                    <a:pt x="32" y="1734"/>
                  </a:lnTo>
                  <a:lnTo>
                    <a:pt x="0" y="1752"/>
                  </a:lnTo>
                  <a:lnTo>
                    <a:pt x="81" y="1835"/>
                  </a:lnTo>
                  <a:lnTo>
                    <a:pt x="113" y="1815"/>
                  </a:lnTo>
                  <a:lnTo>
                    <a:pt x="145" y="1795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9" y="1726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6"/>
                  </a:lnTo>
                  <a:lnTo>
                    <a:pt x="361" y="1618"/>
                  </a:lnTo>
                  <a:lnTo>
                    <a:pt x="390" y="1588"/>
                  </a:lnTo>
                  <a:lnTo>
                    <a:pt x="420" y="1558"/>
                  </a:lnTo>
                  <a:lnTo>
                    <a:pt x="450" y="1528"/>
                  </a:lnTo>
                  <a:lnTo>
                    <a:pt x="478" y="1496"/>
                  </a:lnTo>
                  <a:lnTo>
                    <a:pt x="507" y="1463"/>
                  </a:lnTo>
                  <a:lnTo>
                    <a:pt x="534" y="1430"/>
                  </a:lnTo>
                  <a:lnTo>
                    <a:pt x="562" y="1395"/>
                  </a:lnTo>
                  <a:lnTo>
                    <a:pt x="590" y="1361"/>
                  </a:lnTo>
                  <a:lnTo>
                    <a:pt x="616" y="1326"/>
                  </a:lnTo>
                  <a:lnTo>
                    <a:pt x="643" y="1291"/>
                  </a:lnTo>
                  <a:lnTo>
                    <a:pt x="670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6" y="1035"/>
                  </a:lnTo>
                  <a:lnTo>
                    <a:pt x="860" y="962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8" y="604"/>
                  </a:lnTo>
                  <a:lnTo>
                    <a:pt x="1078" y="537"/>
                  </a:lnTo>
                  <a:lnTo>
                    <a:pt x="1104" y="473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6" y="305"/>
                  </a:lnTo>
                  <a:lnTo>
                    <a:pt x="1178" y="257"/>
                  </a:lnTo>
                  <a:lnTo>
                    <a:pt x="1188" y="214"/>
                  </a:lnTo>
                  <a:lnTo>
                    <a:pt x="1192" y="194"/>
                  </a:lnTo>
                  <a:lnTo>
                    <a:pt x="1195" y="176"/>
                  </a:lnTo>
                  <a:lnTo>
                    <a:pt x="1196" y="160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1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4" y="55"/>
                  </a:lnTo>
                  <a:lnTo>
                    <a:pt x="1167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757600" y="3825720"/>
              <a:ext cx="377640" cy="582840"/>
            </a:xfrm>
            <a:custGeom>
              <a:avLst/>
              <a:gdLst/>
              <a:ahLst/>
              <a:rect l="l" t="t" r="r" b="b"/>
              <a:pathLst>
                <a:path w="1187" h="1835">
                  <a:moveTo>
                    <a:pt x="16" y="1752"/>
                  </a:moveTo>
                  <a:lnTo>
                    <a:pt x="97" y="1835"/>
                  </a:lnTo>
                  <a:lnTo>
                    <a:pt x="108" y="1833"/>
                  </a:lnTo>
                  <a:lnTo>
                    <a:pt x="119" y="1829"/>
                  </a:lnTo>
                  <a:lnTo>
                    <a:pt x="132" y="1821"/>
                  </a:lnTo>
                  <a:lnTo>
                    <a:pt x="144" y="1812"/>
                  </a:lnTo>
                  <a:lnTo>
                    <a:pt x="159" y="1800"/>
                  </a:lnTo>
                  <a:lnTo>
                    <a:pt x="174" y="1787"/>
                  </a:lnTo>
                  <a:lnTo>
                    <a:pt x="190" y="1772"/>
                  </a:lnTo>
                  <a:lnTo>
                    <a:pt x="206" y="1754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60" y="1690"/>
                  </a:lnTo>
                  <a:lnTo>
                    <a:pt x="280" y="1665"/>
                  </a:lnTo>
                  <a:lnTo>
                    <a:pt x="320" y="1610"/>
                  </a:lnTo>
                  <a:lnTo>
                    <a:pt x="363" y="1550"/>
                  </a:lnTo>
                  <a:lnTo>
                    <a:pt x="407" y="1484"/>
                  </a:lnTo>
                  <a:lnTo>
                    <a:pt x="453" y="1416"/>
                  </a:lnTo>
                  <a:lnTo>
                    <a:pt x="500" y="1342"/>
                  </a:lnTo>
                  <a:lnTo>
                    <a:pt x="548" y="1265"/>
                  </a:lnTo>
                  <a:lnTo>
                    <a:pt x="597" y="1187"/>
                  </a:lnTo>
                  <a:lnTo>
                    <a:pt x="645" y="1107"/>
                  </a:lnTo>
                  <a:lnTo>
                    <a:pt x="694" y="1024"/>
                  </a:lnTo>
                  <a:lnTo>
                    <a:pt x="741" y="942"/>
                  </a:lnTo>
                  <a:lnTo>
                    <a:pt x="834" y="778"/>
                  </a:lnTo>
                  <a:lnTo>
                    <a:pt x="922" y="621"/>
                  </a:lnTo>
                  <a:lnTo>
                    <a:pt x="1001" y="473"/>
                  </a:lnTo>
                  <a:lnTo>
                    <a:pt x="1070" y="342"/>
                  </a:lnTo>
                  <a:lnTo>
                    <a:pt x="1098" y="284"/>
                  </a:lnTo>
                  <a:lnTo>
                    <a:pt x="1125" y="233"/>
                  </a:lnTo>
                  <a:lnTo>
                    <a:pt x="1146" y="187"/>
                  </a:lnTo>
                  <a:lnTo>
                    <a:pt x="1163" y="148"/>
                  </a:lnTo>
                  <a:lnTo>
                    <a:pt x="1176" y="119"/>
                  </a:lnTo>
                  <a:lnTo>
                    <a:pt x="1184" y="97"/>
                  </a:lnTo>
                  <a:lnTo>
                    <a:pt x="1186" y="89"/>
                  </a:lnTo>
                  <a:lnTo>
                    <a:pt x="1187" y="84"/>
                  </a:lnTo>
                  <a:lnTo>
                    <a:pt x="1186" y="81"/>
                  </a:lnTo>
                  <a:lnTo>
                    <a:pt x="1131" y="19"/>
                  </a:lnTo>
                  <a:lnTo>
                    <a:pt x="1104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4" y="82"/>
                  </a:lnTo>
                  <a:lnTo>
                    <a:pt x="1159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4" y="8"/>
                  </a:lnTo>
                  <a:lnTo>
                    <a:pt x="1102" y="16"/>
                  </a:lnTo>
                  <a:lnTo>
                    <a:pt x="1094" y="38"/>
                  </a:lnTo>
                  <a:lnTo>
                    <a:pt x="1081" y="67"/>
                  </a:lnTo>
                  <a:lnTo>
                    <a:pt x="1064" y="106"/>
                  </a:lnTo>
                  <a:lnTo>
                    <a:pt x="1042" y="151"/>
                  </a:lnTo>
                  <a:lnTo>
                    <a:pt x="1016" y="203"/>
                  </a:lnTo>
                  <a:lnTo>
                    <a:pt x="988" y="261"/>
                  </a:lnTo>
                  <a:lnTo>
                    <a:pt x="919" y="392"/>
                  </a:lnTo>
                  <a:lnTo>
                    <a:pt x="840" y="538"/>
                  </a:lnTo>
                  <a:lnTo>
                    <a:pt x="753" y="697"/>
                  </a:lnTo>
                  <a:lnTo>
                    <a:pt x="659" y="860"/>
                  </a:lnTo>
                  <a:lnTo>
                    <a:pt x="612" y="942"/>
                  </a:lnTo>
                  <a:lnTo>
                    <a:pt x="562" y="1024"/>
                  </a:lnTo>
                  <a:lnTo>
                    <a:pt x="515" y="1105"/>
                  </a:lnTo>
                  <a:lnTo>
                    <a:pt x="467" y="1184"/>
                  </a:lnTo>
                  <a:lnTo>
                    <a:pt x="419" y="1261"/>
                  </a:lnTo>
                  <a:lnTo>
                    <a:pt x="371" y="1334"/>
                  </a:lnTo>
                  <a:lnTo>
                    <a:pt x="325" y="1403"/>
                  </a:lnTo>
                  <a:lnTo>
                    <a:pt x="281" y="1468"/>
                  </a:lnTo>
                  <a:lnTo>
                    <a:pt x="239" y="1529"/>
                  </a:lnTo>
                  <a:lnTo>
                    <a:pt x="198" y="1582"/>
                  </a:lnTo>
                  <a:lnTo>
                    <a:pt x="178" y="1607"/>
                  </a:lnTo>
                  <a:lnTo>
                    <a:pt x="160" y="1631"/>
                  </a:lnTo>
                  <a:lnTo>
                    <a:pt x="142" y="1652"/>
                  </a:lnTo>
                  <a:lnTo>
                    <a:pt x="124" y="1671"/>
                  </a:lnTo>
                  <a:lnTo>
                    <a:pt x="108" y="1690"/>
                  </a:lnTo>
                  <a:lnTo>
                    <a:pt x="92" y="1706"/>
                  </a:lnTo>
                  <a:lnTo>
                    <a:pt x="77" y="1719"/>
                  </a:lnTo>
                  <a:lnTo>
                    <a:pt x="63" y="1731"/>
                  </a:lnTo>
                  <a:lnTo>
                    <a:pt x="49" y="1740"/>
                  </a:lnTo>
                  <a:lnTo>
                    <a:pt x="38" y="1747"/>
                  </a:lnTo>
                  <a:lnTo>
                    <a:pt x="27" y="1751"/>
                  </a:lnTo>
                  <a:lnTo>
                    <a:pt x="16" y="1752"/>
                  </a:lnTo>
                  <a:lnTo>
                    <a:pt x="97" y="1835"/>
                  </a:lnTo>
                  <a:lnTo>
                    <a:pt x="16" y="1752"/>
                  </a:lnTo>
                  <a:lnTo>
                    <a:pt x="0" y="1813"/>
                  </a:lnTo>
                  <a:lnTo>
                    <a:pt x="97" y="1835"/>
                  </a:lnTo>
                  <a:lnTo>
                    <a:pt x="16" y="175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4643280" y="3792600"/>
              <a:ext cx="362160" cy="601560"/>
            </a:xfrm>
            <a:custGeom>
              <a:avLst/>
              <a:gdLst/>
              <a:ahLst/>
              <a:rect l="l" t="t" r="r" b="b"/>
              <a:pathLst>
                <a:path w="1141" h="1895">
                  <a:moveTo>
                    <a:pt x="0" y="1895"/>
                  </a:moveTo>
                  <a:lnTo>
                    <a:pt x="66" y="1852"/>
                  </a:lnTo>
                  <a:lnTo>
                    <a:pt x="131" y="1802"/>
                  </a:lnTo>
                  <a:lnTo>
                    <a:pt x="196" y="1748"/>
                  </a:lnTo>
                  <a:lnTo>
                    <a:pt x="259" y="1689"/>
                  </a:lnTo>
                  <a:lnTo>
                    <a:pt x="321" y="1625"/>
                  </a:lnTo>
                  <a:lnTo>
                    <a:pt x="382" y="1559"/>
                  </a:lnTo>
                  <a:lnTo>
                    <a:pt x="441" y="1488"/>
                  </a:lnTo>
                  <a:lnTo>
                    <a:pt x="498" y="1415"/>
                  </a:lnTo>
                  <a:lnTo>
                    <a:pt x="554" y="1341"/>
                  </a:lnTo>
                  <a:lnTo>
                    <a:pt x="608" y="1263"/>
                  </a:lnTo>
                  <a:lnTo>
                    <a:pt x="660" y="1184"/>
                  </a:lnTo>
                  <a:lnTo>
                    <a:pt x="710" y="1106"/>
                  </a:lnTo>
                  <a:lnTo>
                    <a:pt x="758" y="1026"/>
                  </a:lnTo>
                  <a:lnTo>
                    <a:pt x="803" y="945"/>
                  </a:lnTo>
                  <a:lnTo>
                    <a:pt x="847" y="866"/>
                  </a:lnTo>
                  <a:lnTo>
                    <a:pt x="888" y="786"/>
                  </a:lnTo>
                  <a:lnTo>
                    <a:pt x="925" y="709"/>
                  </a:lnTo>
                  <a:lnTo>
                    <a:pt x="962" y="633"/>
                  </a:lnTo>
                  <a:lnTo>
                    <a:pt x="994" y="559"/>
                  </a:lnTo>
                  <a:lnTo>
                    <a:pt x="1023" y="488"/>
                  </a:lnTo>
                  <a:lnTo>
                    <a:pt x="1050" y="420"/>
                  </a:lnTo>
                  <a:lnTo>
                    <a:pt x="1074" y="356"/>
                  </a:lnTo>
                  <a:lnTo>
                    <a:pt x="1093" y="295"/>
                  </a:lnTo>
                  <a:lnTo>
                    <a:pt x="1110" y="239"/>
                  </a:lnTo>
                  <a:lnTo>
                    <a:pt x="1124" y="187"/>
                  </a:lnTo>
                  <a:lnTo>
                    <a:pt x="1133" y="142"/>
                  </a:lnTo>
                  <a:lnTo>
                    <a:pt x="1139" y="101"/>
                  </a:lnTo>
                  <a:lnTo>
                    <a:pt x="1141" y="66"/>
                  </a:lnTo>
                  <a:lnTo>
                    <a:pt x="1139" y="39"/>
                  </a:lnTo>
                  <a:lnTo>
                    <a:pt x="1132" y="18"/>
                  </a:lnTo>
                  <a:lnTo>
                    <a:pt x="1121" y="6"/>
                  </a:lnTo>
                  <a:lnTo>
                    <a:pt x="1107" y="0"/>
                  </a:lnTo>
                  <a:lnTo>
                    <a:pt x="1110" y="2"/>
                  </a:lnTo>
                  <a:lnTo>
                    <a:pt x="1108" y="16"/>
                  </a:lnTo>
                  <a:lnTo>
                    <a:pt x="1100" y="39"/>
                  </a:lnTo>
                  <a:lnTo>
                    <a:pt x="1087" y="72"/>
                  </a:lnTo>
                  <a:lnTo>
                    <a:pt x="1070" y="113"/>
                  </a:lnTo>
                  <a:lnTo>
                    <a:pt x="1049" y="161"/>
                  </a:lnTo>
                  <a:lnTo>
                    <a:pt x="1022" y="217"/>
                  </a:lnTo>
                  <a:lnTo>
                    <a:pt x="993" y="280"/>
                  </a:lnTo>
                  <a:lnTo>
                    <a:pt x="923" y="421"/>
                  </a:lnTo>
                  <a:lnTo>
                    <a:pt x="842" y="580"/>
                  </a:lnTo>
                  <a:lnTo>
                    <a:pt x="799" y="664"/>
                  </a:lnTo>
                  <a:lnTo>
                    <a:pt x="753" y="751"/>
                  </a:lnTo>
                  <a:lnTo>
                    <a:pt x="707" y="839"/>
                  </a:lnTo>
                  <a:lnTo>
                    <a:pt x="659" y="927"/>
                  </a:lnTo>
                  <a:lnTo>
                    <a:pt x="610" y="1016"/>
                  </a:lnTo>
                  <a:lnTo>
                    <a:pt x="561" y="1105"/>
                  </a:lnTo>
                  <a:lnTo>
                    <a:pt x="512" y="1191"/>
                  </a:lnTo>
                  <a:lnTo>
                    <a:pt x="463" y="1277"/>
                  </a:lnTo>
                  <a:lnTo>
                    <a:pt x="414" y="1360"/>
                  </a:lnTo>
                  <a:lnTo>
                    <a:pt x="365" y="1439"/>
                  </a:lnTo>
                  <a:lnTo>
                    <a:pt x="318" y="1514"/>
                  </a:lnTo>
                  <a:lnTo>
                    <a:pt x="272" y="1585"/>
                  </a:lnTo>
                  <a:lnTo>
                    <a:pt x="229" y="1650"/>
                  </a:lnTo>
                  <a:lnTo>
                    <a:pt x="187" y="1709"/>
                  </a:lnTo>
                  <a:lnTo>
                    <a:pt x="148" y="1762"/>
                  </a:lnTo>
                  <a:lnTo>
                    <a:pt x="111" y="1806"/>
                  </a:lnTo>
                  <a:lnTo>
                    <a:pt x="78" y="1843"/>
                  </a:lnTo>
                  <a:lnTo>
                    <a:pt x="48" y="1870"/>
                  </a:lnTo>
                  <a:lnTo>
                    <a:pt x="21" y="1888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4630680" y="3780000"/>
              <a:ext cx="389160" cy="628560"/>
            </a:xfrm>
            <a:custGeom>
              <a:avLst/>
              <a:gdLst/>
              <a:ahLst/>
              <a:rect l="l" t="t" r="r" b="b"/>
              <a:pathLst>
                <a:path w="1223" h="1977">
                  <a:moveTo>
                    <a:pt x="1108" y="0"/>
                  </a:moveTo>
                  <a:lnTo>
                    <a:pt x="1188" y="82"/>
                  </a:lnTo>
                  <a:lnTo>
                    <a:pt x="1194" y="83"/>
                  </a:lnTo>
                  <a:lnTo>
                    <a:pt x="1192" y="82"/>
                  </a:lnTo>
                  <a:lnTo>
                    <a:pt x="1137" y="27"/>
                  </a:lnTo>
                  <a:lnTo>
                    <a:pt x="1133" y="23"/>
                  </a:lnTo>
                  <a:lnTo>
                    <a:pt x="1136" y="30"/>
                  </a:lnTo>
                  <a:lnTo>
                    <a:pt x="1139" y="40"/>
                  </a:lnTo>
                  <a:lnTo>
                    <a:pt x="1140" y="53"/>
                  </a:lnTo>
                  <a:lnTo>
                    <a:pt x="1140" y="67"/>
                  </a:lnTo>
                  <a:lnTo>
                    <a:pt x="1140" y="83"/>
                  </a:lnTo>
                  <a:lnTo>
                    <a:pt x="1139" y="102"/>
                  </a:lnTo>
                  <a:lnTo>
                    <a:pt x="1136" y="121"/>
                  </a:lnTo>
                  <a:lnTo>
                    <a:pt x="1133" y="142"/>
                  </a:lnTo>
                  <a:lnTo>
                    <a:pt x="1128" y="164"/>
                  </a:lnTo>
                  <a:lnTo>
                    <a:pt x="1124" y="188"/>
                  </a:lnTo>
                  <a:lnTo>
                    <a:pt x="1117" y="213"/>
                  </a:lnTo>
                  <a:lnTo>
                    <a:pt x="1110" y="240"/>
                  </a:lnTo>
                  <a:lnTo>
                    <a:pt x="1093" y="296"/>
                  </a:lnTo>
                  <a:lnTo>
                    <a:pt x="1074" y="356"/>
                  </a:lnTo>
                  <a:lnTo>
                    <a:pt x="1050" y="421"/>
                  </a:lnTo>
                  <a:lnTo>
                    <a:pt x="1023" y="488"/>
                  </a:lnTo>
                  <a:lnTo>
                    <a:pt x="994" y="560"/>
                  </a:lnTo>
                  <a:lnTo>
                    <a:pt x="962" y="633"/>
                  </a:lnTo>
                  <a:lnTo>
                    <a:pt x="927" y="710"/>
                  </a:lnTo>
                  <a:lnTo>
                    <a:pt x="888" y="787"/>
                  </a:lnTo>
                  <a:lnTo>
                    <a:pt x="847" y="866"/>
                  </a:lnTo>
                  <a:lnTo>
                    <a:pt x="803" y="946"/>
                  </a:lnTo>
                  <a:lnTo>
                    <a:pt x="758" y="1026"/>
                  </a:lnTo>
                  <a:lnTo>
                    <a:pt x="710" y="1106"/>
                  </a:lnTo>
                  <a:lnTo>
                    <a:pt x="686" y="1146"/>
                  </a:lnTo>
                  <a:lnTo>
                    <a:pt x="661" y="1185"/>
                  </a:lnTo>
                  <a:lnTo>
                    <a:pt x="635" y="1224"/>
                  </a:lnTo>
                  <a:lnTo>
                    <a:pt x="608" y="1263"/>
                  </a:lnTo>
                  <a:lnTo>
                    <a:pt x="581" y="1302"/>
                  </a:lnTo>
                  <a:lnTo>
                    <a:pt x="554" y="1341"/>
                  </a:lnTo>
                  <a:lnTo>
                    <a:pt x="526" y="1378"/>
                  </a:lnTo>
                  <a:lnTo>
                    <a:pt x="498" y="1416"/>
                  </a:lnTo>
                  <a:lnTo>
                    <a:pt x="469" y="1452"/>
                  </a:lnTo>
                  <a:lnTo>
                    <a:pt x="441" y="1489"/>
                  </a:lnTo>
                  <a:lnTo>
                    <a:pt x="411" y="1524"/>
                  </a:lnTo>
                  <a:lnTo>
                    <a:pt x="382" y="1559"/>
                  </a:lnTo>
                  <a:lnTo>
                    <a:pt x="352" y="1593"/>
                  </a:lnTo>
                  <a:lnTo>
                    <a:pt x="321" y="1625"/>
                  </a:lnTo>
                  <a:lnTo>
                    <a:pt x="290" y="1658"/>
                  </a:lnTo>
                  <a:lnTo>
                    <a:pt x="258" y="1689"/>
                  </a:lnTo>
                  <a:lnTo>
                    <a:pt x="228" y="1718"/>
                  </a:lnTo>
                  <a:lnTo>
                    <a:pt x="196" y="1748"/>
                  </a:lnTo>
                  <a:lnTo>
                    <a:pt x="164" y="1775"/>
                  </a:lnTo>
                  <a:lnTo>
                    <a:pt x="132" y="1802"/>
                  </a:lnTo>
                  <a:lnTo>
                    <a:pt x="99" y="1828"/>
                  </a:lnTo>
                  <a:lnTo>
                    <a:pt x="66" y="1852"/>
                  </a:lnTo>
                  <a:lnTo>
                    <a:pt x="33" y="1875"/>
                  </a:lnTo>
                  <a:lnTo>
                    <a:pt x="0" y="1895"/>
                  </a:lnTo>
                  <a:lnTo>
                    <a:pt x="82" y="1977"/>
                  </a:lnTo>
                  <a:lnTo>
                    <a:pt x="115" y="1956"/>
                  </a:lnTo>
                  <a:lnTo>
                    <a:pt x="148" y="1934"/>
                  </a:lnTo>
                  <a:lnTo>
                    <a:pt x="180" y="1909"/>
                  </a:lnTo>
                  <a:lnTo>
                    <a:pt x="213" y="1884"/>
                  </a:lnTo>
                  <a:lnTo>
                    <a:pt x="245" y="1857"/>
                  </a:lnTo>
                  <a:lnTo>
                    <a:pt x="278" y="1829"/>
                  </a:lnTo>
                  <a:lnTo>
                    <a:pt x="310" y="1800"/>
                  </a:lnTo>
                  <a:lnTo>
                    <a:pt x="341" y="1771"/>
                  </a:lnTo>
                  <a:lnTo>
                    <a:pt x="372" y="1739"/>
                  </a:lnTo>
                  <a:lnTo>
                    <a:pt x="403" y="1707"/>
                  </a:lnTo>
                  <a:lnTo>
                    <a:pt x="433" y="1674"/>
                  </a:lnTo>
                  <a:lnTo>
                    <a:pt x="464" y="1640"/>
                  </a:lnTo>
                  <a:lnTo>
                    <a:pt x="493" y="1605"/>
                  </a:lnTo>
                  <a:lnTo>
                    <a:pt x="523" y="1570"/>
                  </a:lnTo>
                  <a:lnTo>
                    <a:pt x="551" y="1533"/>
                  </a:lnTo>
                  <a:lnTo>
                    <a:pt x="580" y="1497"/>
                  </a:lnTo>
                  <a:lnTo>
                    <a:pt x="608" y="1459"/>
                  </a:lnTo>
                  <a:lnTo>
                    <a:pt x="636" y="1422"/>
                  </a:lnTo>
                  <a:lnTo>
                    <a:pt x="663" y="1384"/>
                  </a:lnTo>
                  <a:lnTo>
                    <a:pt x="689" y="1345"/>
                  </a:lnTo>
                  <a:lnTo>
                    <a:pt x="717" y="1306"/>
                  </a:lnTo>
                  <a:lnTo>
                    <a:pt x="742" y="1266"/>
                  </a:lnTo>
                  <a:lnTo>
                    <a:pt x="767" y="1227"/>
                  </a:lnTo>
                  <a:lnTo>
                    <a:pt x="792" y="1187"/>
                  </a:lnTo>
                  <a:lnTo>
                    <a:pt x="840" y="1107"/>
                  </a:lnTo>
                  <a:lnTo>
                    <a:pt x="885" y="1027"/>
                  </a:lnTo>
                  <a:lnTo>
                    <a:pt x="929" y="947"/>
                  </a:lnTo>
                  <a:lnTo>
                    <a:pt x="970" y="868"/>
                  </a:lnTo>
                  <a:lnTo>
                    <a:pt x="1007" y="791"/>
                  </a:lnTo>
                  <a:lnTo>
                    <a:pt x="1044" y="715"/>
                  </a:lnTo>
                  <a:lnTo>
                    <a:pt x="1076" y="641"/>
                  </a:lnTo>
                  <a:lnTo>
                    <a:pt x="1105" y="569"/>
                  </a:lnTo>
                  <a:lnTo>
                    <a:pt x="1132" y="502"/>
                  </a:lnTo>
                  <a:lnTo>
                    <a:pt x="1156" y="437"/>
                  </a:lnTo>
                  <a:lnTo>
                    <a:pt x="1175" y="377"/>
                  </a:lnTo>
                  <a:lnTo>
                    <a:pt x="1192" y="321"/>
                  </a:lnTo>
                  <a:lnTo>
                    <a:pt x="1199" y="294"/>
                  </a:lnTo>
                  <a:lnTo>
                    <a:pt x="1206" y="269"/>
                  </a:lnTo>
                  <a:lnTo>
                    <a:pt x="1210" y="245"/>
                  </a:lnTo>
                  <a:lnTo>
                    <a:pt x="1215" y="223"/>
                  </a:lnTo>
                  <a:lnTo>
                    <a:pt x="1218" y="201"/>
                  </a:lnTo>
                  <a:lnTo>
                    <a:pt x="1221" y="181"/>
                  </a:lnTo>
                  <a:lnTo>
                    <a:pt x="1222" y="164"/>
                  </a:lnTo>
                  <a:lnTo>
                    <a:pt x="1223" y="147"/>
                  </a:lnTo>
                  <a:lnTo>
                    <a:pt x="1222" y="132"/>
                  </a:lnTo>
                  <a:lnTo>
                    <a:pt x="1221" y="120"/>
                  </a:lnTo>
                  <a:lnTo>
                    <a:pt x="1217" y="107"/>
                  </a:lnTo>
                  <a:lnTo>
                    <a:pt x="1213" y="96"/>
                  </a:lnTo>
                  <a:lnTo>
                    <a:pt x="1200" y="75"/>
                  </a:lnTo>
                  <a:lnTo>
                    <a:pt x="1133" y="10"/>
                  </a:lnTo>
                  <a:lnTo>
                    <a:pt x="1117" y="2"/>
                  </a:lnTo>
                  <a:lnTo>
                    <a:pt x="1108" y="0"/>
                  </a:lnTo>
                  <a:lnTo>
                    <a:pt x="1189" y="82"/>
                  </a:lnTo>
                  <a:lnTo>
                    <a:pt x="1108" y="0"/>
                  </a:lnTo>
                  <a:lnTo>
                    <a:pt x="1074" y="51"/>
                  </a:lnTo>
                  <a:lnTo>
                    <a:pt x="1188" y="82"/>
                  </a:lnTo>
                  <a:lnTo>
                    <a:pt x="110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4626000" y="3780000"/>
              <a:ext cx="382680" cy="628560"/>
            </a:xfrm>
            <a:custGeom>
              <a:avLst/>
              <a:gdLst/>
              <a:ahLst/>
              <a:rect l="l" t="t" r="r" b="b"/>
              <a:pathLst>
                <a:path w="1205" h="1977">
                  <a:moveTo>
                    <a:pt x="13" y="1895"/>
                  </a:moveTo>
                  <a:lnTo>
                    <a:pt x="94" y="1977"/>
                  </a:lnTo>
                  <a:lnTo>
                    <a:pt x="99" y="1977"/>
                  </a:lnTo>
                  <a:lnTo>
                    <a:pt x="105" y="1975"/>
                  </a:lnTo>
                  <a:lnTo>
                    <a:pt x="111" y="1973"/>
                  </a:lnTo>
                  <a:lnTo>
                    <a:pt x="116" y="1970"/>
                  </a:lnTo>
                  <a:lnTo>
                    <a:pt x="129" y="1962"/>
                  </a:lnTo>
                  <a:lnTo>
                    <a:pt x="143" y="1952"/>
                  </a:lnTo>
                  <a:lnTo>
                    <a:pt x="157" y="1940"/>
                  </a:lnTo>
                  <a:lnTo>
                    <a:pt x="173" y="1925"/>
                  </a:lnTo>
                  <a:lnTo>
                    <a:pt x="189" y="1908"/>
                  </a:lnTo>
                  <a:lnTo>
                    <a:pt x="206" y="1887"/>
                  </a:lnTo>
                  <a:lnTo>
                    <a:pt x="225" y="1867"/>
                  </a:lnTo>
                  <a:lnTo>
                    <a:pt x="243" y="1843"/>
                  </a:lnTo>
                  <a:lnTo>
                    <a:pt x="262" y="1818"/>
                  </a:lnTo>
                  <a:lnTo>
                    <a:pt x="282" y="1791"/>
                  </a:lnTo>
                  <a:lnTo>
                    <a:pt x="324" y="1732"/>
                  </a:lnTo>
                  <a:lnTo>
                    <a:pt x="367" y="1667"/>
                  </a:lnTo>
                  <a:lnTo>
                    <a:pt x="413" y="1596"/>
                  </a:lnTo>
                  <a:lnTo>
                    <a:pt x="460" y="1521"/>
                  </a:lnTo>
                  <a:lnTo>
                    <a:pt x="509" y="1441"/>
                  </a:lnTo>
                  <a:lnTo>
                    <a:pt x="556" y="1359"/>
                  </a:lnTo>
                  <a:lnTo>
                    <a:pt x="607" y="1273"/>
                  </a:lnTo>
                  <a:lnTo>
                    <a:pt x="656" y="1187"/>
                  </a:lnTo>
                  <a:lnTo>
                    <a:pt x="705" y="1098"/>
                  </a:lnTo>
                  <a:lnTo>
                    <a:pt x="754" y="1009"/>
                  </a:lnTo>
                  <a:lnTo>
                    <a:pt x="802" y="920"/>
                  </a:lnTo>
                  <a:lnTo>
                    <a:pt x="848" y="832"/>
                  </a:lnTo>
                  <a:lnTo>
                    <a:pt x="894" y="745"/>
                  </a:lnTo>
                  <a:lnTo>
                    <a:pt x="937" y="662"/>
                  </a:lnTo>
                  <a:lnTo>
                    <a:pt x="1018" y="503"/>
                  </a:lnTo>
                  <a:lnTo>
                    <a:pt x="1088" y="362"/>
                  </a:lnTo>
                  <a:lnTo>
                    <a:pt x="1117" y="299"/>
                  </a:lnTo>
                  <a:lnTo>
                    <a:pt x="1144" y="243"/>
                  </a:lnTo>
                  <a:lnTo>
                    <a:pt x="1165" y="194"/>
                  </a:lnTo>
                  <a:lnTo>
                    <a:pt x="1182" y="153"/>
                  </a:lnTo>
                  <a:lnTo>
                    <a:pt x="1195" y="121"/>
                  </a:lnTo>
                  <a:lnTo>
                    <a:pt x="1203" y="97"/>
                  </a:lnTo>
                  <a:lnTo>
                    <a:pt x="1205" y="89"/>
                  </a:lnTo>
                  <a:lnTo>
                    <a:pt x="1205" y="85"/>
                  </a:lnTo>
                  <a:lnTo>
                    <a:pt x="1205" y="81"/>
                  </a:lnTo>
                  <a:lnTo>
                    <a:pt x="1141" y="11"/>
                  </a:lnTo>
                  <a:lnTo>
                    <a:pt x="1122" y="0"/>
                  </a:lnTo>
                  <a:lnTo>
                    <a:pt x="1121" y="0"/>
                  </a:lnTo>
                  <a:lnTo>
                    <a:pt x="1202" y="82"/>
                  </a:lnTo>
                  <a:lnTo>
                    <a:pt x="1202" y="82"/>
                  </a:lnTo>
                  <a:lnTo>
                    <a:pt x="1186" y="71"/>
                  </a:lnTo>
                  <a:lnTo>
                    <a:pt x="1123" y="4"/>
                  </a:lnTo>
                  <a:lnTo>
                    <a:pt x="1123" y="4"/>
                  </a:lnTo>
                  <a:lnTo>
                    <a:pt x="1123" y="9"/>
                  </a:lnTo>
                  <a:lnTo>
                    <a:pt x="1121" y="16"/>
                  </a:lnTo>
                  <a:lnTo>
                    <a:pt x="1113" y="40"/>
                  </a:lnTo>
                  <a:lnTo>
                    <a:pt x="1100" y="72"/>
                  </a:lnTo>
                  <a:lnTo>
                    <a:pt x="1083" y="113"/>
                  </a:lnTo>
                  <a:lnTo>
                    <a:pt x="1061" y="162"/>
                  </a:lnTo>
                  <a:lnTo>
                    <a:pt x="1035" y="218"/>
                  </a:lnTo>
                  <a:lnTo>
                    <a:pt x="1006" y="280"/>
                  </a:lnTo>
                  <a:lnTo>
                    <a:pt x="936" y="421"/>
                  </a:lnTo>
                  <a:lnTo>
                    <a:pt x="856" y="580"/>
                  </a:lnTo>
                  <a:lnTo>
                    <a:pt x="812" y="664"/>
                  </a:lnTo>
                  <a:lnTo>
                    <a:pt x="767" y="751"/>
                  </a:lnTo>
                  <a:lnTo>
                    <a:pt x="719" y="839"/>
                  </a:lnTo>
                  <a:lnTo>
                    <a:pt x="672" y="928"/>
                  </a:lnTo>
                  <a:lnTo>
                    <a:pt x="624" y="1017"/>
                  </a:lnTo>
                  <a:lnTo>
                    <a:pt x="574" y="1104"/>
                  </a:lnTo>
                  <a:lnTo>
                    <a:pt x="525" y="1192"/>
                  </a:lnTo>
                  <a:lnTo>
                    <a:pt x="476" y="1278"/>
                  </a:lnTo>
                  <a:lnTo>
                    <a:pt x="427" y="1360"/>
                  </a:lnTo>
                  <a:lnTo>
                    <a:pt x="379" y="1439"/>
                  </a:lnTo>
                  <a:lnTo>
                    <a:pt x="331" y="1514"/>
                  </a:lnTo>
                  <a:lnTo>
                    <a:pt x="286" y="1585"/>
                  </a:lnTo>
                  <a:lnTo>
                    <a:pt x="242" y="1650"/>
                  </a:lnTo>
                  <a:lnTo>
                    <a:pt x="201" y="1709"/>
                  </a:lnTo>
                  <a:lnTo>
                    <a:pt x="180" y="1737"/>
                  </a:lnTo>
                  <a:lnTo>
                    <a:pt x="161" y="1762"/>
                  </a:lnTo>
                  <a:lnTo>
                    <a:pt x="143" y="1784"/>
                  </a:lnTo>
                  <a:lnTo>
                    <a:pt x="124" y="1806"/>
                  </a:lnTo>
                  <a:lnTo>
                    <a:pt x="107" y="1826"/>
                  </a:lnTo>
                  <a:lnTo>
                    <a:pt x="91" y="1843"/>
                  </a:lnTo>
                  <a:lnTo>
                    <a:pt x="75" y="1857"/>
                  </a:lnTo>
                  <a:lnTo>
                    <a:pt x="62" y="1870"/>
                  </a:lnTo>
                  <a:lnTo>
                    <a:pt x="48" y="1880"/>
                  </a:lnTo>
                  <a:lnTo>
                    <a:pt x="35" y="1888"/>
                  </a:lnTo>
                  <a:lnTo>
                    <a:pt x="30" y="1891"/>
                  </a:lnTo>
                  <a:lnTo>
                    <a:pt x="24" y="1893"/>
                  </a:lnTo>
                  <a:lnTo>
                    <a:pt x="18" y="1894"/>
                  </a:lnTo>
                  <a:lnTo>
                    <a:pt x="14" y="1895"/>
                  </a:lnTo>
                  <a:lnTo>
                    <a:pt x="95" y="1977"/>
                  </a:lnTo>
                  <a:lnTo>
                    <a:pt x="13" y="1895"/>
                  </a:lnTo>
                  <a:lnTo>
                    <a:pt x="0" y="1954"/>
                  </a:lnTo>
                  <a:lnTo>
                    <a:pt x="94" y="1977"/>
                  </a:lnTo>
                  <a:lnTo>
                    <a:pt x="13" y="189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5678640" y="3814920"/>
              <a:ext cx="280800" cy="644400"/>
            </a:xfrm>
            <a:custGeom>
              <a:avLst/>
              <a:gdLst/>
              <a:ahLst/>
              <a:rect l="l" t="t" r="r" b="b"/>
              <a:pathLst>
                <a:path w="888" h="2028">
                  <a:moveTo>
                    <a:pt x="0" y="2028"/>
                  </a:moveTo>
                  <a:lnTo>
                    <a:pt x="59" y="1976"/>
                  </a:lnTo>
                  <a:lnTo>
                    <a:pt x="117" y="1918"/>
                  </a:lnTo>
                  <a:lnTo>
                    <a:pt x="174" y="1855"/>
                  </a:lnTo>
                  <a:lnTo>
                    <a:pt x="229" y="1789"/>
                  </a:lnTo>
                  <a:lnTo>
                    <a:pt x="281" y="1717"/>
                  </a:lnTo>
                  <a:lnTo>
                    <a:pt x="333" y="1643"/>
                  </a:lnTo>
                  <a:lnTo>
                    <a:pt x="382" y="1565"/>
                  </a:lnTo>
                  <a:lnTo>
                    <a:pt x="429" y="1485"/>
                  </a:lnTo>
                  <a:lnTo>
                    <a:pt x="474" y="1403"/>
                  </a:lnTo>
                  <a:lnTo>
                    <a:pt x="517" y="1320"/>
                  </a:lnTo>
                  <a:lnTo>
                    <a:pt x="558" y="1235"/>
                  </a:lnTo>
                  <a:lnTo>
                    <a:pt x="598" y="1150"/>
                  </a:lnTo>
                  <a:lnTo>
                    <a:pt x="635" y="1064"/>
                  </a:lnTo>
                  <a:lnTo>
                    <a:pt x="669" y="979"/>
                  </a:lnTo>
                  <a:lnTo>
                    <a:pt x="701" y="893"/>
                  </a:lnTo>
                  <a:lnTo>
                    <a:pt x="730" y="810"/>
                  </a:lnTo>
                  <a:lnTo>
                    <a:pt x="758" y="728"/>
                  </a:lnTo>
                  <a:lnTo>
                    <a:pt x="783" y="648"/>
                  </a:lnTo>
                  <a:lnTo>
                    <a:pt x="806" y="570"/>
                  </a:lnTo>
                  <a:lnTo>
                    <a:pt x="825" y="496"/>
                  </a:lnTo>
                  <a:lnTo>
                    <a:pt x="842" y="424"/>
                  </a:lnTo>
                  <a:lnTo>
                    <a:pt x="857" y="357"/>
                  </a:lnTo>
                  <a:lnTo>
                    <a:pt x="868" y="294"/>
                  </a:lnTo>
                  <a:lnTo>
                    <a:pt x="878" y="236"/>
                  </a:lnTo>
                  <a:lnTo>
                    <a:pt x="884" y="183"/>
                  </a:lnTo>
                  <a:lnTo>
                    <a:pt x="888" y="137"/>
                  </a:lnTo>
                  <a:lnTo>
                    <a:pt x="888" y="96"/>
                  </a:lnTo>
                  <a:lnTo>
                    <a:pt x="885" y="61"/>
                  </a:lnTo>
                  <a:lnTo>
                    <a:pt x="880" y="34"/>
                  </a:lnTo>
                  <a:lnTo>
                    <a:pt x="871" y="15"/>
                  </a:lnTo>
                  <a:lnTo>
                    <a:pt x="859" y="3"/>
                  </a:lnTo>
                  <a:lnTo>
                    <a:pt x="843" y="0"/>
                  </a:lnTo>
                  <a:lnTo>
                    <a:pt x="848" y="3"/>
                  </a:lnTo>
                  <a:lnTo>
                    <a:pt x="847" y="16"/>
                  </a:lnTo>
                  <a:lnTo>
                    <a:pt x="842" y="41"/>
                  </a:lnTo>
                  <a:lnTo>
                    <a:pt x="834" y="74"/>
                  </a:lnTo>
                  <a:lnTo>
                    <a:pt x="822" y="117"/>
                  </a:lnTo>
                  <a:lnTo>
                    <a:pt x="807" y="169"/>
                  </a:lnTo>
                  <a:lnTo>
                    <a:pt x="789" y="228"/>
                  </a:lnTo>
                  <a:lnTo>
                    <a:pt x="768" y="293"/>
                  </a:lnTo>
                  <a:lnTo>
                    <a:pt x="718" y="442"/>
                  </a:lnTo>
                  <a:lnTo>
                    <a:pt x="660" y="611"/>
                  </a:lnTo>
                  <a:lnTo>
                    <a:pt x="628" y="700"/>
                  </a:lnTo>
                  <a:lnTo>
                    <a:pt x="594" y="792"/>
                  </a:lnTo>
                  <a:lnTo>
                    <a:pt x="559" y="885"/>
                  </a:lnTo>
                  <a:lnTo>
                    <a:pt x="524" y="980"/>
                  </a:lnTo>
                  <a:lnTo>
                    <a:pt x="488" y="1074"/>
                  </a:lnTo>
                  <a:lnTo>
                    <a:pt x="450" y="1169"/>
                  </a:lnTo>
                  <a:lnTo>
                    <a:pt x="412" y="1262"/>
                  </a:lnTo>
                  <a:lnTo>
                    <a:pt x="375" y="1353"/>
                  </a:lnTo>
                  <a:lnTo>
                    <a:pt x="338" y="1442"/>
                  </a:lnTo>
                  <a:lnTo>
                    <a:pt x="301" y="1526"/>
                  </a:lnTo>
                  <a:lnTo>
                    <a:pt x="264" y="1607"/>
                  </a:lnTo>
                  <a:lnTo>
                    <a:pt x="229" y="1684"/>
                  </a:lnTo>
                  <a:lnTo>
                    <a:pt x="194" y="1754"/>
                  </a:lnTo>
                  <a:lnTo>
                    <a:pt x="160" y="1818"/>
                  </a:lnTo>
                  <a:lnTo>
                    <a:pt x="129" y="1875"/>
                  </a:lnTo>
                  <a:lnTo>
                    <a:pt x="99" y="1924"/>
                  </a:lnTo>
                  <a:lnTo>
                    <a:pt x="70" y="1965"/>
                  </a:lnTo>
                  <a:lnTo>
                    <a:pt x="44" y="1996"/>
                  </a:lnTo>
                  <a:lnTo>
                    <a:pt x="20" y="2018"/>
                  </a:lnTo>
                  <a:lnTo>
                    <a:pt x="0" y="20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5664240" y="3801960"/>
              <a:ext cx="307800" cy="669960"/>
            </a:xfrm>
            <a:custGeom>
              <a:avLst/>
              <a:gdLst/>
              <a:ahLst/>
              <a:rect l="l" t="t" r="r" b="b"/>
              <a:pathLst>
                <a:path w="970" h="2110">
                  <a:moveTo>
                    <a:pt x="844" y="1"/>
                  </a:moveTo>
                  <a:lnTo>
                    <a:pt x="925" y="82"/>
                  </a:lnTo>
                  <a:lnTo>
                    <a:pt x="932" y="83"/>
                  </a:lnTo>
                  <a:lnTo>
                    <a:pt x="936" y="84"/>
                  </a:lnTo>
                  <a:lnTo>
                    <a:pt x="907" y="60"/>
                  </a:lnTo>
                  <a:lnTo>
                    <a:pt x="874" y="24"/>
                  </a:lnTo>
                  <a:lnTo>
                    <a:pt x="876" y="27"/>
                  </a:lnTo>
                  <a:lnTo>
                    <a:pt x="880" y="36"/>
                  </a:lnTo>
                  <a:lnTo>
                    <a:pt x="883" y="49"/>
                  </a:lnTo>
                  <a:lnTo>
                    <a:pt x="885" y="62"/>
                  </a:lnTo>
                  <a:lnTo>
                    <a:pt x="887" y="78"/>
                  </a:lnTo>
                  <a:lnTo>
                    <a:pt x="888" y="97"/>
                  </a:lnTo>
                  <a:lnTo>
                    <a:pt x="888" y="116"/>
                  </a:lnTo>
                  <a:lnTo>
                    <a:pt x="888" y="138"/>
                  </a:lnTo>
                  <a:lnTo>
                    <a:pt x="885" y="161"/>
                  </a:lnTo>
                  <a:lnTo>
                    <a:pt x="884" y="185"/>
                  </a:lnTo>
                  <a:lnTo>
                    <a:pt x="881" y="210"/>
                  </a:lnTo>
                  <a:lnTo>
                    <a:pt x="877" y="237"/>
                  </a:lnTo>
                  <a:lnTo>
                    <a:pt x="868" y="295"/>
                  </a:lnTo>
                  <a:lnTo>
                    <a:pt x="857" y="358"/>
                  </a:lnTo>
                  <a:lnTo>
                    <a:pt x="842" y="425"/>
                  </a:lnTo>
                  <a:lnTo>
                    <a:pt x="825" y="496"/>
                  </a:lnTo>
                  <a:lnTo>
                    <a:pt x="806" y="570"/>
                  </a:lnTo>
                  <a:lnTo>
                    <a:pt x="783" y="648"/>
                  </a:lnTo>
                  <a:lnTo>
                    <a:pt x="758" y="728"/>
                  </a:lnTo>
                  <a:lnTo>
                    <a:pt x="730" y="810"/>
                  </a:lnTo>
                  <a:lnTo>
                    <a:pt x="701" y="894"/>
                  </a:lnTo>
                  <a:lnTo>
                    <a:pt x="669" y="979"/>
                  </a:lnTo>
                  <a:lnTo>
                    <a:pt x="635" y="1064"/>
                  </a:lnTo>
                  <a:lnTo>
                    <a:pt x="598" y="1150"/>
                  </a:lnTo>
                  <a:lnTo>
                    <a:pt x="558" y="1235"/>
                  </a:lnTo>
                  <a:lnTo>
                    <a:pt x="517" y="1320"/>
                  </a:lnTo>
                  <a:lnTo>
                    <a:pt x="497" y="1362"/>
                  </a:lnTo>
                  <a:lnTo>
                    <a:pt x="474" y="1404"/>
                  </a:lnTo>
                  <a:lnTo>
                    <a:pt x="452" y="1445"/>
                  </a:lnTo>
                  <a:lnTo>
                    <a:pt x="429" y="1485"/>
                  </a:lnTo>
                  <a:lnTo>
                    <a:pt x="406" y="1526"/>
                  </a:lnTo>
                  <a:lnTo>
                    <a:pt x="382" y="1566"/>
                  </a:lnTo>
                  <a:lnTo>
                    <a:pt x="358" y="1605"/>
                  </a:lnTo>
                  <a:lnTo>
                    <a:pt x="333" y="1643"/>
                  </a:lnTo>
                  <a:lnTo>
                    <a:pt x="307" y="1680"/>
                  </a:lnTo>
                  <a:lnTo>
                    <a:pt x="281" y="1718"/>
                  </a:lnTo>
                  <a:lnTo>
                    <a:pt x="255" y="1753"/>
                  </a:lnTo>
                  <a:lnTo>
                    <a:pt x="229" y="1789"/>
                  </a:lnTo>
                  <a:lnTo>
                    <a:pt x="201" y="1823"/>
                  </a:lnTo>
                  <a:lnTo>
                    <a:pt x="174" y="1856"/>
                  </a:lnTo>
                  <a:lnTo>
                    <a:pt x="146" y="1888"/>
                  </a:lnTo>
                  <a:lnTo>
                    <a:pt x="117" y="1918"/>
                  </a:lnTo>
                  <a:lnTo>
                    <a:pt x="89" y="1947"/>
                  </a:lnTo>
                  <a:lnTo>
                    <a:pt x="59" y="1976"/>
                  </a:lnTo>
                  <a:lnTo>
                    <a:pt x="29" y="2003"/>
                  </a:lnTo>
                  <a:lnTo>
                    <a:pt x="0" y="2028"/>
                  </a:lnTo>
                  <a:lnTo>
                    <a:pt x="81" y="2110"/>
                  </a:lnTo>
                  <a:lnTo>
                    <a:pt x="111" y="2084"/>
                  </a:lnTo>
                  <a:lnTo>
                    <a:pt x="141" y="2058"/>
                  </a:lnTo>
                  <a:lnTo>
                    <a:pt x="171" y="2029"/>
                  </a:lnTo>
                  <a:lnTo>
                    <a:pt x="199" y="2000"/>
                  </a:lnTo>
                  <a:lnTo>
                    <a:pt x="228" y="1969"/>
                  </a:lnTo>
                  <a:lnTo>
                    <a:pt x="255" y="1937"/>
                  </a:lnTo>
                  <a:lnTo>
                    <a:pt x="284" y="1904"/>
                  </a:lnTo>
                  <a:lnTo>
                    <a:pt x="311" y="1870"/>
                  </a:lnTo>
                  <a:lnTo>
                    <a:pt x="337" y="1835"/>
                  </a:lnTo>
                  <a:lnTo>
                    <a:pt x="363" y="1799"/>
                  </a:lnTo>
                  <a:lnTo>
                    <a:pt x="390" y="1762"/>
                  </a:lnTo>
                  <a:lnTo>
                    <a:pt x="415" y="1725"/>
                  </a:lnTo>
                  <a:lnTo>
                    <a:pt x="440" y="1686"/>
                  </a:lnTo>
                  <a:lnTo>
                    <a:pt x="464" y="1647"/>
                  </a:lnTo>
                  <a:lnTo>
                    <a:pt x="488" y="1607"/>
                  </a:lnTo>
                  <a:lnTo>
                    <a:pt x="512" y="1567"/>
                  </a:lnTo>
                  <a:lnTo>
                    <a:pt x="534" y="1526"/>
                  </a:lnTo>
                  <a:lnTo>
                    <a:pt x="556" y="1485"/>
                  </a:lnTo>
                  <a:lnTo>
                    <a:pt x="578" y="1443"/>
                  </a:lnTo>
                  <a:lnTo>
                    <a:pt x="599" y="1402"/>
                  </a:lnTo>
                  <a:lnTo>
                    <a:pt x="640" y="1316"/>
                  </a:lnTo>
                  <a:lnTo>
                    <a:pt x="679" y="1231"/>
                  </a:lnTo>
                  <a:lnTo>
                    <a:pt x="717" y="1145"/>
                  </a:lnTo>
                  <a:lnTo>
                    <a:pt x="751" y="1060"/>
                  </a:lnTo>
                  <a:lnTo>
                    <a:pt x="783" y="975"/>
                  </a:lnTo>
                  <a:lnTo>
                    <a:pt x="812" y="891"/>
                  </a:lnTo>
                  <a:lnTo>
                    <a:pt x="840" y="810"/>
                  </a:lnTo>
                  <a:lnTo>
                    <a:pt x="865" y="729"/>
                  </a:lnTo>
                  <a:lnTo>
                    <a:pt x="888" y="651"/>
                  </a:lnTo>
                  <a:lnTo>
                    <a:pt x="907" y="577"/>
                  </a:lnTo>
                  <a:lnTo>
                    <a:pt x="924" y="506"/>
                  </a:lnTo>
                  <a:lnTo>
                    <a:pt x="939" y="439"/>
                  </a:lnTo>
                  <a:lnTo>
                    <a:pt x="952" y="376"/>
                  </a:lnTo>
                  <a:lnTo>
                    <a:pt x="960" y="318"/>
                  </a:lnTo>
                  <a:lnTo>
                    <a:pt x="963" y="291"/>
                  </a:lnTo>
                  <a:lnTo>
                    <a:pt x="966" y="264"/>
                  </a:lnTo>
                  <a:lnTo>
                    <a:pt x="969" y="240"/>
                  </a:lnTo>
                  <a:lnTo>
                    <a:pt x="970" y="218"/>
                  </a:lnTo>
                  <a:lnTo>
                    <a:pt x="970" y="196"/>
                  </a:lnTo>
                  <a:lnTo>
                    <a:pt x="970" y="177"/>
                  </a:lnTo>
                  <a:lnTo>
                    <a:pt x="969" y="158"/>
                  </a:lnTo>
                  <a:lnTo>
                    <a:pt x="968" y="142"/>
                  </a:lnTo>
                  <a:lnTo>
                    <a:pt x="964" y="127"/>
                  </a:lnTo>
                  <a:lnTo>
                    <a:pt x="962" y="114"/>
                  </a:lnTo>
                  <a:lnTo>
                    <a:pt x="957" y="102"/>
                  </a:lnTo>
                  <a:lnTo>
                    <a:pt x="949" y="89"/>
                  </a:lnTo>
                  <a:lnTo>
                    <a:pt x="905" y="38"/>
                  </a:lnTo>
                  <a:lnTo>
                    <a:pt x="864" y="4"/>
                  </a:lnTo>
                  <a:lnTo>
                    <a:pt x="854" y="1"/>
                  </a:lnTo>
                  <a:lnTo>
                    <a:pt x="844" y="0"/>
                  </a:lnTo>
                  <a:lnTo>
                    <a:pt x="925" y="82"/>
                  </a:lnTo>
                  <a:lnTo>
                    <a:pt x="844" y="1"/>
                  </a:lnTo>
                  <a:lnTo>
                    <a:pt x="828" y="62"/>
                  </a:lnTo>
                  <a:lnTo>
                    <a:pt x="925" y="82"/>
                  </a:lnTo>
                  <a:lnTo>
                    <a:pt x="844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5664240" y="3801960"/>
              <a:ext cx="295200" cy="669960"/>
            </a:xfrm>
            <a:custGeom>
              <a:avLst/>
              <a:gdLst/>
              <a:ahLst/>
              <a:rect l="l" t="t" r="r" b="b"/>
              <a:pathLst>
                <a:path w="931" h="2110">
                  <a:moveTo>
                    <a:pt x="1" y="2028"/>
                  </a:moveTo>
                  <a:lnTo>
                    <a:pt x="82" y="2110"/>
                  </a:lnTo>
                  <a:lnTo>
                    <a:pt x="92" y="2107"/>
                  </a:lnTo>
                  <a:lnTo>
                    <a:pt x="103" y="2100"/>
                  </a:lnTo>
                  <a:lnTo>
                    <a:pt x="115" y="2091"/>
                  </a:lnTo>
                  <a:lnTo>
                    <a:pt x="127" y="2078"/>
                  </a:lnTo>
                  <a:lnTo>
                    <a:pt x="140" y="2064"/>
                  </a:lnTo>
                  <a:lnTo>
                    <a:pt x="153" y="2046"/>
                  </a:lnTo>
                  <a:lnTo>
                    <a:pt x="167" y="2027"/>
                  </a:lnTo>
                  <a:lnTo>
                    <a:pt x="181" y="2006"/>
                  </a:lnTo>
                  <a:lnTo>
                    <a:pt x="196" y="1983"/>
                  </a:lnTo>
                  <a:lnTo>
                    <a:pt x="212" y="1956"/>
                  </a:lnTo>
                  <a:lnTo>
                    <a:pt x="228" y="1929"/>
                  </a:lnTo>
                  <a:lnTo>
                    <a:pt x="243" y="1899"/>
                  </a:lnTo>
                  <a:lnTo>
                    <a:pt x="277" y="1835"/>
                  </a:lnTo>
                  <a:lnTo>
                    <a:pt x="312" y="1766"/>
                  </a:lnTo>
                  <a:lnTo>
                    <a:pt x="347" y="1689"/>
                  </a:lnTo>
                  <a:lnTo>
                    <a:pt x="384" y="1608"/>
                  </a:lnTo>
                  <a:lnTo>
                    <a:pt x="421" y="1523"/>
                  </a:lnTo>
                  <a:lnTo>
                    <a:pt x="458" y="1435"/>
                  </a:lnTo>
                  <a:lnTo>
                    <a:pt x="495" y="1344"/>
                  </a:lnTo>
                  <a:lnTo>
                    <a:pt x="533" y="1250"/>
                  </a:lnTo>
                  <a:lnTo>
                    <a:pt x="571" y="1157"/>
                  </a:lnTo>
                  <a:lnTo>
                    <a:pt x="607" y="1062"/>
                  </a:lnTo>
                  <a:lnTo>
                    <a:pt x="642" y="967"/>
                  </a:lnTo>
                  <a:lnTo>
                    <a:pt x="677" y="874"/>
                  </a:lnTo>
                  <a:lnTo>
                    <a:pt x="711" y="782"/>
                  </a:lnTo>
                  <a:lnTo>
                    <a:pt x="743" y="692"/>
                  </a:lnTo>
                  <a:lnTo>
                    <a:pt x="801" y="524"/>
                  </a:lnTo>
                  <a:lnTo>
                    <a:pt x="851" y="375"/>
                  </a:lnTo>
                  <a:lnTo>
                    <a:pt x="872" y="309"/>
                  </a:lnTo>
                  <a:lnTo>
                    <a:pt x="890" y="250"/>
                  </a:lnTo>
                  <a:lnTo>
                    <a:pt x="905" y="198"/>
                  </a:lnTo>
                  <a:lnTo>
                    <a:pt x="917" y="156"/>
                  </a:lnTo>
                  <a:lnTo>
                    <a:pt x="925" y="122"/>
                  </a:lnTo>
                  <a:lnTo>
                    <a:pt x="930" y="98"/>
                  </a:lnTo>
                  <a:lnTo>
                    <a:pt x="931" y="89"/>
                  </a:lnTo>
                  <a:lnTo>
                    <a:pt x="931" y="83"/>
                  </a:lnTo>
                  <a:lnTo>
                    <a:pt x="929" y="78"/>
                  </a:lnTo>
                  <a:lnTo>
                    <a:pt x="856" y="4"/>
                  </a:lnTo>
                  <a:lnTo>
                    <a:pt x="847" y="0"/>
                  </a:lnTo>
                  <a:lnTo>
                    <a:pt x="845" y="1"/>
                  </a:lnTo>
                  <a:lnTo>
                    <a:pt x="926" y="82"/>
                  </a:lnTo>
                  <a:lnTo>
                    <a:pt x="927" y="82"/>
                  </a:lnTo>
                  <a:lnTo>
                    <a:pt x="920" y="78"/>
                  </a:lnTo>
                  <a:lnTo>
                    <a:pt x="849" y="5"/>
                  </a:lnTo>
                  <a:lnTo>
                    <a:pt x="848" y="4"/>
                  </a:lnTo>
                  <a:lnTo>
                    <a:pt x="849" y="9"/>
                  </a:lnTo>
                  <a:lnTo>
                    <a:pt x="848" y="17"/>
                  </a:lnTo>
                  <a:lnTo>
                    <a:pt x="843" y="41"/>
                  </a:lnTo>
                  <a:lnTo>
                    <a:pt x="835" y="75"/>
                  </a:lnTo>
                  <a:lnTo>
                    <a:pt x="823" y="117"/>
                  </a:lnTo>
                  <a:lnTo>
                    <a:pt x="808" y="169"/>
                  </a:lnTo>
                  <a:lnTo>
                    <a:pt x="790" y="228"/>
                  </a:lnTo>
                  <a:lnTo>
                    <a:pt x="769" y="294"/>
                  </a:lnTo>
                  <a:lnTo>
                    <a:pt x="719" y="443"/>
                  </a:lnTo>
                  <a:lnTo>
                    <a:pt x="661" y="611"/>
                  </a:lnTo>
                  <a:lnTo>
                    <a:pt x="629" y="700"/>
                  </a:lnTo>
                  <a:lnTo>
                    <a:pt x="595" y="793"/>
                  </a:lnTo>
                  <a:lnTo>
                    <a:pt x="560" y="886"/>
                  </a:lnTo>
                  <a:lnTo>
                    <a:pt x="525" y="981"/>
                  </a:lnTo>
                  <a:lnTo>
                    <a:pt x="489" y="1076"/>
                  </a:lnTo>
                  <a:lnTo>
                    <a:pt x="451" y="1169"/>
                  </a:lnTo>
                  <a:lnTo>
                    <a:pt x="413" y="1263"/>
                  </a:lnTo>
                  <a:lnTo>
                    <a:pt x="376" y="1354"/>
                  </a:lnTo>
                  <a:lnTo>
                    <a:pt x="339" y="1442"/>
                  </a:lnTo>
                  <a:lnTo>
                    <a:pt x="302" y="1527"/>
                  </a:lnTo>
                  <a:lnTo>
                    <a:pt x="265" y="1608"/>
                  </a:lnTo>
                  <a:lnTo>
                    <a:pt x="230" y="1684"/>
                  </a:lnTo>
                  <a:lnTo>
                    <a:pt x="194" y="1754"/>
                  </a:lnTo>
                  <a:lnTo>
                    <a:pt x="161" y="1818"/>
                  </a:lnTo>
                  <a:lnTo>
                    <a:pt x="145" y="1848"/>
                  </a:lnTo>
                  <a:lnTo>
                    <a:pt x="129" y="1875"/>
                  </a:lnTo>
                  <a:lnTo>
                    <a:pt x="115" y="1902"/>
                  </a:lnTo>
                  <a:lnTo>
                    <a:pt x="100" y="1924"/>
                  </a:lnTo>
                  <a:lnTo>
                    <a:pt x="85" y="1946"/>
                  </a:lnTo>
                  <a:lnTo>
                    <a:pt x="71" y="1965"/>
                  </a:lnTo>
                  <a:lnTo>
                    <a:pt x="58" y="1983"/>
                  </a:lnTo>
                  <a:lnTo>
                    <a:pt x="45" y="1996"/>
                  </a:lnTo>
                  <a:lnTo>
                    <a:pt x="33" y="2009"/>
                  </a:lnTo>
                  <a:lnTo>
                    <a:pt x="21" y="2018"/>
                  </a:lnTo>
                  <a:lnTo>
                    <a:pt x="11" y="2025"/>
                  </a:lnTo>
                  <a:lnTo>
                    <a:pt x="1" y="2028"/>
                  </a:lnTo>
                  <a:lnTo>
                    <a:pt x="82" y="2110"/>
                  </a:lnTo>
                  <a:lnTo>
                    <a:pt x="1" y="2028"/>
                  </a:lnTo>
                  <a:lnTo>
                    <a:pt x="0" y="2110"/>
                  </a:lnTo>
                  <a:lnTo>
                    <a:pt x="82" y="2110"/>
                  </a:lnTo>
                  <a:lnTo>
                    <a:pt x="1" y="202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6008760" y="3759120"/>
              <a:ext cx="274680" cy="736560"/>
            </a:xfrm>
            <a:custGeom>
              <a:avLst/>
              <a:gdLst/>
              <a:ahLst/>
              <a:rect l="l" t="t" r="r" b="b"/>
              <a:pathLst>
                <a:path w="862" h="2323">
                  <a:moveTo>
                    <a:pt x="0" y="2323"/>
                  </a:moveTo>
                  <a:lnTo>
                    <a:pt x="64" y="2259"/>
                  </a:lnTo>
                  <a:lnTo>
                    <a:pt x="124" y="2190"/>
                  </a:lnTo>
                  <a:lnTo>
                    <a:pt x="183" y="2116"/>
                  </a:lnTo>
                  <a:lnTo>
                    <a:pt x="240" y="2037"/>
                  </a:lnTo>
                  <a:lnTo>
                    <a:pt x="294" y="1954"/>
                  </a:lnTo>
                  <a:lnTo>
                    <a:pt x="347" y="1867"/>
                  </a:lnTo>
                  <a:lnTo>
                    <a:pt x="397" y="1778"/>
                  </a:lnTo>
                  <a:lnTo>
                    <a:pt x="443" y="1685"/>
                  </a:lnTo>
                  <a:lnTo>
                    <a:pt x="489" y="1590"/>
                  </a:lnTo>
                  <a:lnTo>
                    <a:pt x="531" y="1494"/>
                  </a:lnTo>
                  <a:lnTo>
                    <a:pt x="571" y="1396"/>
                  </a:lnTo>
                  <a:lnTo>
                    <a:pt x="609" y="1298"/>
                  </a:lnTo>
                  <a:lnTo>
                    <a:pt x="644" y="1200"/>
                  </a:lnTo>
                  <a:lnTo>
                    <a:pt x="677" y="1103"/>
                  </a:lnTo>
                  <a:lnTo>
                    <a:pt x="707" y="1006"/>
                  </a:lnTo>
                  <a:lnTo>
                    <a:pt x="734" y="910"/>
                  </a:lnTo>
                  <a:lnTo>
                    <a:pt x="759" y="817"/>
                  </a:lnTo>
                  <a:lnTo>
                    <a:pt x="782" y="725"/>
                  </a:lnTo>
                  <a:lnTo>
                    <a:pt x="801" y="638"/>
                  </a:lnTo>
                  <a:lnTo>
                    <a:pt x="818" y="553"/>
                  </a:lnTo>
                  <a:lnTo>
                    <a:pt x="832" y="472"/>
                  </a:lnTo>
                  <a:lnTo>
                    <a:pt x="844" y="397"/>
                  </a:lnTo>
                  <a:lnTo>
                    <a:pt x="853" y="326"/>
                  </a:lnTo>
                  <a:lnTo>
                    <a:pt x="858" y="260"/>
                  </a:lnTo>
                  <a:lnTo>
                    <a:pt x="862" y="201"/>
                  </a:lnTo>
                  <a:lnTo>
                    <a:pt x="862" y="148"/>
                  </a:lnTo>
                  <a:lnTo>
                    <a:pt x="860" y="102"/>
                  </a:lnTo>
                  <a:lnTo>
                    <a:pt x="855" y="65"/>
                  </a:lnTo>
                  <a:lnTo>
                    <a:pt x="846" y="35"/>
                  </a:lnTo>
                  <a:lnTo>
                    <a:pt x="834" y="13"/>
                  </a:lnTo>
                  <a:lnTo>
                    <a:pt x="821" y="2"/>
                  </a:lnTo>
                  <a:lnTo>
                    <a:pt x="804" y="0"/>
                  </a:lnTo>
                  <a:lnTo>
                    <a:pt x="807" y="2"/>
                  </a:lnTo>
                  <a:lnTo>
                    <a:pt x="808" y="17"/>
                  </a:lnTo>
                  <a:lnTo>
                    <a:pt x="805" y="44"/>
                  </a:lnTo>
                  <a:lnTo>
                    <a:pt x="798" y="83"/>
                  </a:lnTo>
                  <a:lnTo>
                    <a:pt x="788" y="131"/>
                  </a:lnTo>
                  <a:lnTo>
                    <a:pt x="774" y="190"/>
                  </a:lnTo>
                  <a:lnTo>
                    <a:pt x="758" y="256"/>
                  </a:lnTo>
                  <a:lnTo>
                    <a:pt x="739" y="332"/>
                  </a:lnTo>
                  <a:lnTo>
                    <a:pt x="717" y="414"/>
                  </a:lnTo>
                  <a:lnTo>
                    <a:pt x="693" y="503"/>
                  </a:lnTo>
                  <a:lnTo>
                    <a:pt x="668" y="596"/>
                  </a:lnTo>
                  <a:lnTo>
                    <a:pt x="639" y="695"/>
                  </a:lnTo>
                  <a:lnTo>
                    <a:pt x="610" y="796"/>
                  </a:lnTo>
                  <a:lnTo>
                    <a:pt x="579" y="901"/>
                  </a:lnTo>
                  <a:lnTo>
                    <a:pt x="547" y="1007"/>
                  </a:lnTo>
                  <a:lnTo>
                    <a:pt x="514" y="1116"/>
                  </a:lnTo>
                  <a:lnTo>
                    <a:pt x="480" y="1224"/>
                  </a:lnTo>
                  <a:lnTo>
                    <a:pt x="445" y="1332"/>
                  </a:lnTo>
                  <a:lnTo>
                    <a:pt x="409" y="1438"/>
                  </a:lnTo>
                  <a:lnTo>
                    <a:pt x="374" y="1542"/>
                  </a:lnTo>
                  <a:lnTo>
                    <a:pt x="337" y="1644"/>
                  </a:lnTo>
                  <a:lnTo>
                    <a:pt x="302" y="1742"/>
                  </a:lnTo>
                  <a:lnTo>
                    <a:pt x="267" y="1834"/>
                  </a:lnTo>
                  <a:lnTo>
                    <a:pt x="233" y="1922"/>
                  </a:lnTo>
                  <a:lnTo>
                    <a:pt x="198" y="2003"/>
                  </a:lnTo>
                  <a:lnTo>
                    <a:pt x="165" y="2077"/>
                  </a:lnTo>
                  <a:lnTo>
                    <a:pt x="134" y="2142"/>
                  </a:lnTo>
                  <a:lnTo>
                    <a:pt x="104" y="2199"/>
                  </a:lnTo>
                  <a:lnTo>
                    <a:pt x="75" y="2247"/>
                  </a:lnTo>
                  <a:lnTo>
                    <a:pt x="48" y="2284"/>
                  </a:lnTo>
                  <a:lnTo>
                    <a:pt x="23" y="2309"/>
                  </a:lnTo>
                  <a:lnTo>
                    <a:pt x="0" y="23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5996160" y="3745080"/>
              <a:ext cx="299880" cy="763560"/>
            </a:xfrm>
            <a:custGeom>
              <a:avLst/>
              <a:gdLst/>
              <a:ahLst/>
              <a:rect l="l" t="t" r="r" b="b"/>
              <a:pathLst>
                <a:path w="945" h="2405">
                  <a:moveTo>
                    <a:pt x="804" y="1"/>
                  </a:moveTo>
                  <a:lnTo>
                    <a:pt x="885" y="83"/>
                  </a:lnTo>
                  <a:lnTo>
                    <a:pt x="889" y="83"/>
                  </a:lnTo>
                  <a:lnTo>
                    <a:pt x="893" y="83"/>
                  </a:lnTo>
                  <a:lnTo>
                    <a:pt x="896" y="84"/>
                  </a:lnTo>
                  <a:lnTo>
                    <a:pt x="897" y="84"/>
                  </a:lnTo>
                  <a:lnTo>
                    <a:pt x="889" y="76"/>
                  </a:lnTo>
                  <a:lnTo>
                    <a:pt x="842" y="29"/>
                  </a:lnTo>
                  <a:lnTo>
                    <a:pt x="842" y="29"/>
                  </a:lnTo>
                  <a:lnTo>
                    <a:pt x="846" y="38"/>
                  </a:lnTo>
                  <a:lnTo>
                    <a:pt x="850" y="52"/>
                  </a:lnTo>
                  <a:lnTo>
                    <a:pt x="855" y="68"/>
                  </a:lnTo>
                  <a:lnTo>
                    <a:pt x="857" y="85"/>
                  </a:lnTo>
                  <a:lnTo>
                    <a:pt x="859" y="105"/>
                  </a:lnTo>
                  <a:lnTo>
                    <a:pt x="862" y="127"/>
                  </a:lnTo>
                  <a:lnTo>
                    <a:pt x="862" y="150"/>
                  </a:lnTo>
                  <a:lnTo>
                    <a:pt x="862" y="176"/>
                  </a:lnTo>
                  <a:lnTo>
                    <a:pt x="862" y="203"/>
                  </a:lnTo>
                  <a:lnTo>
                    <a:pt x="861" y="232"/>
                  </a:lnTo>
                  <a:lnTo>
                    <a:pt x="858" y="262"/>
                  </a:lnTo>
                  <a:lnTo>
                    <a:pt x="853" y="327"/>
                  </a:lnTo>
                  <a:lnTo>
                    <a:pt x="844" y="399"/>
                  </a:lnTo>
                  <a:lnTo>
                    <a:pt x="832" y="474"/>
                  </a:lnTo>
                  <a:lnTo>
                    <a:pt x="818" y="555"/>
                  </a:lnTo>
                  <a:lnTo>
                    <a:pt x="801" y="640"/>
                  </a:lnTo>
                  <a:lnTo>
                    <a:pt x="782" y="727"/>
                  </a:lnTo>
                  <a:lnTo>
                    <a:pt x="759" y="819"/>
                  </a:lnTo>
                  <a:lnTo>
                    <a:pt x="734" y="911"/>
                  </a:lnTo>
                  <a:lnTo>
                    <a:pt x="707" y="1007"/>
                  </a:lnTo>
                  <a:lnTo>
                    <a:pt x="677" y="1104"/>
                  </a:lnTo>
                  <a:lnTo>
                    <a:pt x="644" y="1202"/>
                  </a:lnTo>
                  <a:lnTo>
                    <a:pt x="609" y="1300"/>
                  </a:lnTo>
                  <a:lnTo>
                    <a:pt x="590" y="1349"/>
                  </a:lnTo>
                  <a:lnTo>
                    <a:pt x="571" y="1398"/>
                  </a:lnTo>
                  <a:lnTo>
                    <a:pt x="552" y="1447"/>
                  </a:lnTo>
                  <a:lnTo>
                    <a:pt x="531" y="1495"/>
                  </a:lnTo>
                  <a:lnTo>
                    <a:pt x="511" y="1544"/>
                  </a:lnTo>
                  <a:lnTo>
                    <a:pt x="489" y="1592"/>
                  </a:lnTo>
                  <a:lnTo>
                    <a:pt x="466" y="1640"/>
                  </a:lnTo>
                  <a:lnTo>
                    <a:pt x="443" y="1687"/>
                  </a:lnTo>
                  <a:lnTo>
                    <a:pt x="421" y="1734"/>
                  </a:lnTo>
                  <a:lnTo>
                    <a:pt x="397" y="1779"/>
                  </a:lnTo>
                  <a:lnTo>
                    <a:pt x="372" y="1825"/>
                  </a:lnTo>
                  <a:lnTo>
                    <a:pt x="346" y="1869"/>
                  </a:lnTo>
                  <a:lnTo>
                    <a:pt x="320" y="1913"/>
                  </a:lnTo>
                  <a:lnTo>
                    <a:pt x="294" y="1956"/>
                  </a:lnTo>
                  <a:lnTo>
                    <a:pt x="268" y="1998"/>
                  </a:lnTo>
                  <a:lnTo>
                    <a:pt x="240" y="2038"/>
                  </a:lnTo>
                  <a:lnTo>
                    <a:pt x="212" y="2078"/>
                  </a:lnTo>
                  <a:lnTo>
                    <a:pt x="183" y="2118"/>
                  </a:lnTo>
                  <a:lnTo>
                    <a:pt x="154" y="2156"/>
                  </a:lnTo>
                  <a:lnTo>
                    <a:pt x="124" y="2191"/>
                  </a:lnTo>
                  <a:lnTo>
                    <a:pt x="95" y="2227"/>
                  </a:lnTo>
                  <a:lnTo>
                    <a:pt x="64" y="2261"/>
                  </a:lnTo>
                  <a:lnTo>
                    <a:pt x="32" y="2293"/>
                  </a:lnTo>
                  <a:lnTo>
                    <a:pt x="0" y="2324"/>
                  </a:lnTo>
                  <a:lnTo>
                    <a:pt x="82" y="2405"/>
                  </a:lnTo>
                  <a:lnTo>
                    <a:pt x="114" y="2375"/>
                  </a:lnTo>
                  <a:lnTo>
                    <a:pt x="145" y="2342"/>
                  </a:lnTo>
                  <a:lnTo>
                    <a:pt x="175" y="2309"/>
                  </a:lnTo>
                  <a:lnTo>
                    <a:pt x="206" y="2273"/>
                  </a:lnTo>
                  <a:lnTo>
                    <a:pt x="236" y="2237"/>
                  </a:lnTo>
                  <a:lnTo>
                    <a:pt x="266" y="2199"/>
                  </a:lnTo>
                  <a:lnTo>
                    <a:pt x="294" y="2160"/>
                  </a:lnTo>
                  <a:lnTo>
                    <a:pt x="321" y="2120"/>
                  </a:lnTo>
                  <a:lnTo>
                    <a:pt x="350" y="2079"/>
                  </a:lnTo>
                  <a:lnTo>
                    <a:pt x="376" y="2037"/>
                  </a:lnTo>
                  <a:lnTo>
                    <a:pt x="402" y="1994"/>
                  </a:lnTo>
                  <a:lnTo>
                    <a:pt x="429" y="1950"/>
                  </a:lnTo>
                  <a:lnTo>
                    <a:pt x="454" y="1906"/>
                  </a:lnTo>
                  <a:lnTo>
                    <a:pt x="479" y="1860"/>
                  </a:lnTo>
                  <a:lnTo>
                    <a:pt x="503" y="1815"/>
                  </a:lnTo>
                  <a:lnTo>
                    <a:pt x="525" y="1768"/>
                  </a:lnTo>
                  <a:lnTo>
                    <a:pt x="548" y="1721"/>
                  </a:lnTo>
                  <a:lnTo>
                    <a:pt x="571" y="1673"/>
                  </a:lnTo>
                  <a:lnTo>
                    <a:pt x="593" y="1625"/>
                  </a:lnTo>
                  <a:lnTo>
                    <a:pt x="613" y="1576"/>
                  </a:lnTo>
                  <a:lnTo>
                    <a:pt x="634" y="1528"/>
                  </a:lnTo>
                  <a:lnTo>
                    <a:pt x="653" y="1479"/>
                  </a:lnTo>
                  <a:lnTo>
                    <a:pt x="673" y="1430"/>
                  </a:lnTo>
                  <a:lnTo>
                    <a:pt x="691" y="1381"/>
                  </a:lnTo>
                  <a:lnTo>
                    <a:pt x="726" y="1283"/>
                  </a:lnTo>
                  <a:lnTo>
                    <a:pt x="759" y="1185"/>
                  </a:lnTo>
                  <a:lnTo>
                    <a:pt x="789" y="1088"/>
                  </a:lnTo>
                  <a:lnTo>
                    <a:pt x="816" y="992"/>
                  </a:lnTo>
                  <a:lnTo>
                    <a:pt x="841" y="899"/>
                  </a:lnTo>
                  <a:lnTo>
                    <a:pt x="864" y="808"/>
                  </a:lnTo>
                  <a:lnTo>
                    <a:pt x="883" y="721"/>
                  </a:lnTo>
                  <a:lnTo>
                    <a:pt x="901" y="635"/>
                  </a:lnTo>
                  <a:lnTo>
                    <a:pt x="914" y="555"/>
                  </a:lnTo>
                  <a:lnTo>
                    <a:pt x="926" y="479"/>
                  </a:lnTo>
                  <a:lnTo>
                    <a:pt x="935" y="408"/>
                  </a:lnTo>
                  <a:lnTo>
                    <a:pt x="940" y="343"/>
                  </a:lnTo>
                  <a:lnTo>
                    <a:pt x="943" y="312"/>
                  </a:lnTo>
                  <a:lnTo>
                    <a:pt x="944" y="284"/>
                  </a:lnTo>
                  <a:lnTo>
                    <a:pt x="945" y="256"/>
                  </a:lnTo>
                  <a:lnTo>
                    <a:pt x="945" y="230"/>
                  </a:lnTo>
                  <a:lnTo>
                    <a:pt x="944" y="206"/>
                  </a:lnTo>
                  <a:lnTo>
                    <a:pt x="942" y="184"/>
                  </a:lnTo>
                  <a:lnTo>
                    <a:pt x="939" y="165"/>
                  </a:lnTo>
                  <a:lnTo>
                    <a:pt x="937" y="146"/>
                  </a:lnTo>
                  <a:lnTo>
                    <a:pt x="932" y="130"/>
                  </a:lnTo>
                  <a:lnTo>
                    <a:pt x="928" y="115"/>
                  </a:lnTo>
                  <a:lnTo>
                    <a:pt x="921" y="102"/>
                  </a:lnTo>
                  <a:lnTo>
                    <a:pt x="910" y="83"/>
                  </a:lnTo>
                  <a:lnTo>
                    <a:pt x="849" y="21"/>
                  </a:lnTo>
                  <a:lnTo>
                    <a:pt x="825" y="4"/>
                  </a:lnTo>
                  <a:lnTo>
                    <a:pt x="818" y="2"/>
                  </a:lnTo>
                  <a:lnTo>
                    <a:pt x="814" y="1"/>
                  </a:lnTo>
                  <a:lnTo>
                    <a:pt x="809" y="0"/>
                  </a:lnTo>
                  <a:lnTo>
                    <a:pt x="804" y="1"/>
                  </a:lnTo>
                  <a:lnTo>
                    <a:pt x="885" y="83"/>
                  </a:lnTo>
                  <a:lnTo>
                    <a:pt x="804" y="1"/>
                  </a:lnTo>
                  <a:lnTo>
                    <a:pt x="796" y="59"/>
                  </a:lnTo>
                  <a:lnTo>
                    <a:pt x="885" y="83"/>
                  </a:lnTo>
                  <a:lnTo>
                    <a:pt x="804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5996160" y="3745080"/>
              <a:ext cx="282240" cy="765000"/>
            </a:xfrm>
            <a:custGeom>
              <a:avLst/>
              <a:gdLst/>
              <a:ahLst/>
              <a:rect l="l" t="t" r="r" b="b"/>
              <a:pathLst>
                <a:path w="890" h="2406">
                  <a:moveTo>
                    <a:pt x="0" y="2324"/>
                  </a:moveTo>
                  <a:lnTo>
                    <a:pt x="81" y="2406"/>
                  </a:lnTo>
                  <a:lnTo>
                    <a:pt x="87" y="2403"/>
                  </a:lnTo>
                  <a:lnTo>
                    <a:pt x="92" y="2400"/>
                  </a:lnTo>
                  <a:lnTo>
                    <a:pt x="98" y="2397"/>
                  </a:lnTo>
                  <a:lnTo>
                    <a:pt x="105" y="2392"/>
                  </a:lnTo>
                  <a:lnTo>
                    <a:pt x="117" y="2381"/>
                  </a:lnTo>
                  <a:lnTo>
                    <a:pt x="130" y="2367"/>
                  </a:lnTo>
                  <a:lnTo>
                    <a:pt x="142" y="2350"/>
                  </a:lnTo>
                  <a:lnTo>
                    <a:pt x="157" y="2329"/>
                  </a:lnTo>
                  <a:lnTo>
                    <a:pt x="171" y="2308"/>
                  </a:lnTo>
                  <a:lnTo>
                    <a:pt x="186" y="2282"/>
                  </a:lnTo>
                  <a:lnTo>
                    <a:pt x="201" y="2255"/>
                  </a:lnTo>
                  <a:lnTo>
                    <a:pt x="217" y="2225"/>
                  </a:lnTo>
                  <a:lnTo>
                    <a:pt x="231" y="2193"/>
                  </a:lnTo>
                  <a:lnTo>
                    <a:pt x="247" y="2159"/>
                  </a:lnTo>
                  <a:lnTo>
                    <a:pt x="280" y="2085"/>
                  </a:lnTo>
                  <a:lnTo>
                    <a:pt x="315" y="2004"/>
                  </a:lnTo>
                  <a:lnTo>
                    <a:pt x="349" y="1917"/>
                  </a:lnTo>
                  <a:lnTo>
                    <a:pt x="384" y="1824"/>
                  </a:lnTo>
                  <a:lnTo>
                    <a:pt x="419" y="1727"/>
                  </a:lnTo>
                  <a:lnTo>
                    <a:pt x="456" y="1625"/>
                  </a:lnTo>
                  <a:lnTo>
                    <a:pt x="491" y="1522"/>
                  </a:lnTo>
                  <a:lnTo>
                    <a:pt x="527" y="1414"/>
                  </a:lnTo>
                  <a:lnTo>
                    <a:pt x="562" y="1307"/>
                  </a:lnTo>
                  <a:lnTo>
                    <a:pt x="596" y="1199"/>
                  </a:lnTo>
                  <a:lnTo>
                    <a:pt x="629" y="1090"/>
                  </a:lnTo>
                  <a:lnTo>
                    <a:pt x="661" y="983"/>
                  </a:lnTo>
                  <a:lnTo>
                    <a:pt x="692" y="879"/>
                  </a:lnTo>
                  <a:lnTo>
                    <a:pt x="722" y="777"/>
                  </a:lnTo>
                  <a:lnTo>
                    <a:pt x="750" y="678"/>
                  </a:lnTo>
                  <a:lnTo>
                    <a:pt x="775" y="585"/>
                  </a:lnTo>
                  <a:lnTo>
                    <a:pt x="799" y="497"/>
                  </a:lnTo>
                  <a:lnTo>
                    <a:pt x="821" y="415"/>
                  </a:lnTo>
                  <a:lnTo>
                    <a:pt x="840" y="340"/>
                  </a:lnTo>
                  <a:lnTo>
                    <a:pt x="856" y="272"/>
                  </a:lnTo>
                  <a:lnTo>
                    <a:pt x="870" y="214"/>
                  </a:lnTo>
                  <a:lnTo>
                    <a:pt x="880" y="165"/>
                  </a:lnTo>
                  <a:lnTo>
                    <a:pt x="887" y="126"/>
                  </a:lnTo>
                  <a:lnTo>
                    <a:pt x="890" y="99"/>
                  </a:lnTo>
                  <a:lnTo>
                    <a:pt x="890" y="90"/>
                  </a:lnTo>
                  <a:lnTo>
                    <a:pt x="889" y="83"/>
                  </a:lnTo>
                  <a:lnTo>
                    <a:pt x="887" y="77"/>
                  </a:lnTo>
                  <a:lnTo>
                    <a:pt x="812" y="2"/>
                  </a:lnTo>
                  <a:lnTo>
                    <a:pt x="805" y="0"/>
                  </a:lnTo>
                  <a:lnTo>
                    <a:pt x="804" y="1"/>
                  </a:lnTo>
                  <a:lnTo>
                    <a:pt x="885" y="83"/>
                  </a:lnTo>
                  <a:lnTo>
                    <a:pt x="886" y="82"/>
                  </a:lnTo>
                  <a:lnTo>
                    <a:pt x="882" y="81"/>
                  </a:lnTo>
                  <a:lnTo>
                    <a:pt x="808" y="8"/>
                  </a:lnTo>
                  <a:lnTo>
                    <a:pt x="807" y="4"/>
                  </a:lnTo>
                  <a:lnTo>
                    <a:pt x="808" y="10"/>
                  </a:lnTo>
                  <a:lnTo>
                    <a:pt x="808" y="19"/>
                  </a:lnTo>
                  <a:lnTo>
                    <a:pt x="805" y="46"/>
                  </a:lnTo>
                  <a:lnTo>
                    <a:pt x="798" y="84"/>
                  </a:lnTo>
                  <a:lnTo>
                    <a:pt x="788" y="133"/>
                  </a:lnTo>
                  <a:lnTo>
                    <a:pt x="774" y="191"/>
                  </a:lnTo>
                  <a:lnTo>
                    <a:pt x="758" y="259"/>
                  </a:lnTo>
                  <a:lnTo>
                    <a:pt x="739" y="334"/>
                  </a:lnTo>
                  <a:lnTo>
                    <a:pt x="717" y="416"/>
                  </a:lnTo>
                  <a:lnTo>
                    <a:pt x="693" y="504"/>
                  </a:lnTo>
                  <a:lnTo>
                    <a:pt x="668" y="597"/>
                  </a:lnTo>
                  <a:lnTo>
                    <a:pt x="639" y="696"/>
                  </a:lnTo>
                  <a:lnTo>
                    <a:pt x="610" y="798"/>
                  </a:lnTo>
                  <a:lnTo>
                    <a:pt x="579" y="902"/>
                  </a:lnTo>
                  <a:lnTo>
                    <a:pt x="547" y="1009"/>
                  </a:lnTo>
                  <a:lnTo>
                    <a:pt x="514" y="1118"/>
                  </a:lnTo>
                  <a:lnTo>
                    <a:pt x="480" y="1226"/>
                  </a:lnTo>
                  <a:lnTo>
                    <a:pt x="445" y="1333"/>
                  </a:lnTo>
                  <a:lnTo>
                    <a:pt x="409" y="1439"/>
                  </a:lnTo>
                  <a:lnTo>
                    <a:pt x="374" y="1544"/>
                  </a:lnTo>
                  <a:lnTo>
                    <a:pt x="337" y="1646"/>
                  </a:lnTo>
                  <a:lnTo>
                    <a:pt x="302" y="1743"/>
                  </a:lnTo>
                  <a:lnTo>
                    <a:pt x="267" y="1836"/>
                  </a:lnTo>
                  <a:lnTo>
                    <a:pt x="232" y="1923"/>
                  </a:lnTo>
                  <a:lnTo>
                    <a:pt x="198" y="2004"/>
                  </a:lnTo>
                  <a:lnTo>
                    <a:pt x="165" y="2078"/>
                  </a:lnTo>
                  <a:lnTo>
                    <a:pt x="149" y="2112"/>
                  </a:lnTo>
                  <a:lnTo>
                    <a:pt x="134" y="2144"/>
                  </a:lnTo>
                  <a:lnTo>
                    <a:pt x="118" y="2174"/>
                  </a:lnTo>
                  <a:lnTo>
                    <a:pt x="104" y="2201"/>
                  </a:lnTo>
                  <a:lnTo>
                    <a:pt x="89" y="2225"/>
                  </a:lnTo>
                  <a:lnTo>
                    <a:pt x="75" y="2248"/>
                  </a:lnTo>
                  <a:lnTo>
                    <a:pt x="61" y="2268"/>
                  </a:lnTo>
                  <a:lnTo>
                    <a:pt x="48" y="2285"/>
                  </a:lnTo>
                  <a:lnTo>
                    <a:pt x="35" y="2298"/>
                  </a:lnTo>
                  <a:lnTo>
                    <a:pt x="23" y="2310"/>
                  </a:lnTo>
                  <a:lnTo>
                    <a:pt x="17" y="2314"/>
                  </a:lnTo>
                  <a:lnTo>
                    <a:pt x="11" y="2318"/>
                  </a:lnTo>
                  <a:lnTo>
                    <a:pt x="6" y="2321"/>
                  </a:lnTo>
                  <a:lnTo>
                    <a:pt x="1" y="2324"/>
                  </a:lnTo>
                  <a:lnTo>
                    <a:pt x="82" y="2405"/>
                  </a:lnTo>
                  <a:lnTo>
                    <a:pt x="0" y="2324"/>
                  </a:lnTo>
                  <a:lnTo>
                    <a:pt x="3" y="2402"/>
                  </a:lnTo>
                  <a:lnTo>
                    <a:pt x="81" y="2406"/>
                  </a:lnTo>
                  <a:lnTo>
                    <a:pt x="0" y="232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687840" y="3859200"/>
              <a:ext cx="353880" cy="5554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4" y="1713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5" y="1245"/>
                  </a:lnTo>
                  <a:lnTo>
                    <a:pt x="587" y="1173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4" y="954"/>
                  </a:lnTo>
                  <a:lnTo>
                    <a:pt x="779" y="879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9" y="660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6" y="132"/>
                  </a:lnTo>
                  <a:lnTo>
                    <a:pt x="1113" y="94"/>
                  </a:lnTo>
                  <a:lnTo>
                    <a:pt x="1115" y="63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4"/>
                  </a:lnTo>
                  <a:lnTo>
                    <a:pt x="1086" y="0"/>
                  </a:lnTo>
                  <a:lnTo>
                    <a:pt x="1089" y="2"/>
                  </a:lnTo>
                  <a:lnTo>
                    <a:pt x="1087" y="15"/>
                  </a:lnTo>
                  <a:lnTo>
                    <a:pt x="1079" y="36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4" y="538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4"/>
                  </a:lnTo>
                  <a:lnTo>
                    <a:pt x="498" y="1105"/>
                  </a:lnTo>
                  <a:lnTo>
                    <a:pt x="451" y="1184"/>
                  </a:lnTo>
                  <a:lnTo>
                    <a:pt x="403" y="1260"/>
                  </a:lnTo>
                  <a:lnTo>
                    <a:pt x="356" y="1333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3" y="1529"/>
                  </a:lnTo>
                  <a:lnTo>
                    <a:pt x="182" y="1582"/>
                  </a:lnTo>
                  <a:lnTo>
                    <a:pt x="144" y="1630"/>
                  </a:lnTo>
                  <a:lnTo>
                    <a:pt x="109" y="1671"/>
                  </a:lnTo>
                  <a:lnTo>
                    <a:pt x="76" y="1705"/>
                  </a:lnTo>
                  <a:lnTo>
                    <a:pt x="47" y="1731"/>
                  </a:lnTo>
                  <a:lnTo>
                    <a:pt x="22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3675240" y="3846600"/>
              <a:ext cx="380880" cy="58248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7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09" y="21"/>
                  </a:lnTo>
                  <a:lnTo>
                    <a:pt x="1112" y="28"/>
                  </a:lnTo>
                  <a:lnTo>
                    <a:pt x="1114" y="39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5" y="78"/>
                  </a:lnTo>
                  <a:lnTo>
                    <a:pt x="1113" y="96"/>
                  </a:lnTo>
                  <a:lnTo>
                    <a:pt x="1109" y="114"/>
                  </a:lnTo>
                  <a:lnTo>
                    <a:pt x="1106" y="133"/>
                  </a:lnTo>
                  <a:lnTo>
                    <a:pt x="1097" y="175"/>
                  </a:lnTo>
                  <a:lnTo>
                    <a:pt x="1083" y="223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3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4" y="591"/>
                  </a:lnTo>
                  <a:lnTo>
                    <a:pt x="899" y="660"/>
                  </a:lnTo>
                  <a:lnTo>
                    <a:pt x="862" y="732"/>
                  </a:lnTo>
                  <a:lnTo>
                    <a:pt x="821" y="806"/>
                  </a:lnTo>
                  <a:lnTo>
                    <a:pt x="779" y="879"/>
                  </a:lnTo>
                  <a:lnTo>
                    <a:pt x="734" y="954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4"/>
                  </a:lnTo>
                  <a:lnTo>
                    <a:pt x="508" y="1280"/>
                  </a:lnTo>
                  <a:lnTo>
                    <a:pt x="481" y="1314"/>
                  </a:lnTo>
                  <a:lnTo>
                    <a:pt x="453" y="1347"/>
                  </a:lnTo>
                  <a:lnTo>
                    <a:pt x="425" y="1381"/>
                  </a:lnTo>
                  <a:lnTo>
                    <a:pt x="397" y="1413"/>
                  </a:lnTo>
                  <a:lnTo>
                    <a:pt x="367" y="1445"/>
                  </a:lnTo>
                  <a:lnTo>
                    <a:pt x="339" y="1476"/>
                  </a:lnTo>
                  <a:lnTo>
                    <a:pt x="309" y="1507"/>
                  </a:lnTo>
                  <a:lnTo>
                    <a:pt x="280" y="1535"/>
                  </a:lnTo>
                  <a:lnTo>
                    <a:pt x="249" y="1564"/>
                  </a:lnTo>
                  <a:lnTo>
                    <a:pt x="219" y="1592"/>
                  </a:lnTo>
                  <a:lnTo>
                    <a:pt x="188" y="1619"/>
                  </a:lnTo>
                  <a:lnTo>
                    <a:pt x="158" y="1644"/>
                  </a:lnTo>
                  <a:lnTo>
                    <a:pt x="127" y="1668"/>
                  </a:lnTo>
                  <a:lnTo>
                    <a:pt x="96" y="1692"/>
                  </a:lnTo>
                  <a:lnTo>
                    <a:pt x="64" y="1713"/>
                  </a:lnTo>
                  <a:lnTo>
                    <a:pt x="32" y="1734"/>
                  </a:lnTo>
                  <a:lnTo>
                    <a:pt x="0" y="1753"/>
                  </a:lnTo>
                  <a:lnTo>
                    <a:pt x="82" y="1834"/>
                  </a:lnTo>
                  <a:lnTo>
                    <a:pt x="113" y="1815"/>
                  </a:lnTo>
                  <a:lnTo>
                    <a:pt x="145" y="1794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40" y="1726"/>
                  </a:lnTo>
                  <a:lnTo>
                    <a:pt x="270" y="1700"/>
                  </a:lnTo>
                  <a:lnTo>
                    <a:pt x="300" y="1673"/>
                  </a:lnTo>
                  <a:lnTo>
                    <a:pt x="331" y="1646"/>
                  </a:lnTo>
                  <a:lnTo>
                    <a:pt x="360" y="1618"/>
                  </a:lnTo>
                  <a:lnTo>
                    <a:pt x="391" y="1588"/>
                  </a:lnTo>
                  <a:lnTo>
                    <a:pt x="420" y="1558"/>
                  </a:lnTo>
                  <a:lnTo>
                    <a:pt x="449" y="1527"/>
                  </a:lnTo>
                  <a:lnTo>
                    <a:pt x="478" y="1495"/>
                  </a:lnTo>
                  <a:lnTo>
                    <a:pt x="506" y="1462"/>
                  </a:lnTo>
                  <a:lnTo>
                    <a:pt x="535" y="1429"/>
                  </a:lnTo>
                  <a:lnTo>
                    <a:pt x="562" y="1395"/>
                  </a:lnTo>
                  <a:lnTo>
                    <a:pt x="590" y="1361"/>
                  </a:lnTo>
                  <a:lnTo>
                    <a:pt x="617" y="1325"/>
                  </a:lnTo>
                  <a:lnTo>
                    <a:pt x="643" y="1291"/>
                  </a:lnTo>
                  <a:lnTo>
                    <a:pt x="669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6" y="1035"/>
                  </a:lnTo>
                  <a:lnTo>
                    <a:pt x="861" y="961"/>
                  </a:lnTo>
                  <a:lnTo>
                    <a:pt x="903" y="887"/>
                  </a:lnTo>
                  <a:lnTo>
                    <a:pt x="943" y="814"/>
                  </a:lnTo>
                  <a:lnTo>
                    <a:pt x="981" y="742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8" y="537"/>
                  </a:lnTo>
                  <a:lnTo>
                    <a:pt x="1105" y="473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5" y="304"/>
                  </a:lnTo>
                  <a:lnTo>
                    <a:pt x="1179" y="256"/>
                  </a:lnTo>
                  <a:lnTo>
                    <a:pt x="1189" y="214"/>
                  </a:lnTo>
                  <a:lnTo>
                    <a:pt x="1193" y="194"/>
                  </a:lnTo>
                  <a:lnTo>
                    <a:pt x="1195" y="175"/>
                  </a:lnTo>
                  <a:lnTo>
                    <a:pt x="1197" y="159"/>
                  </a:lnTo>
                  <a:lnTo>
                    <a:pt x="1197" y="143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6" y="2"/>
                  </a:lnTo>
                  <a:lnTo>
                    <a:pt x="1087" y="0"/>
                  </a:lnTo>
                  <a:lnTo>
                    <a:pt x="1168" y="82"/>
                  </a:lnTo>
                  <a:lnTo>
                    <a:pt x="1087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3670200" y="3846600"/>
              <a:ext cx="376200" cy="582480"/>
            </a:xfrm>
            <a:custGeom>
              <a:avLst/>
              <a:gdLst/>
              <a:ahLst/>
              <a:rect l="l" t="t" r="r" b="b"/>
              <a:pathLst>
                <a:path w="1186" h="1834">
                  <a:moveTo>
                    <a:pt x="15" y="1753"/>
                  </a:moveTo>
                  <a:lnTo>
                    <a:pt x="96" y="1834"/>
                  </a:lnTo>
                  <a:lnTo>
                    <a:pt x="106" y="1833"/>
                  </a:lnTo>
                  <a:lnTo>
                    <a:pt x="118" y="1829"/>
                  </a:lnTo>
                  <a:lnTo>
                    <a:pt x="130" y="1822"/>
                  </a:lnTo>
                  <a:lnTo>
                    <a:pt x="144" y="1811"/>
                  </a:lnTo>
                  <a:lnTo>
                    <a:pt x="158" y="1800"/>
                  </a:lnTo>
                  <a:lnTo>
                    <a:pt x="173" y="1786"/>
                  </a:lnTo>
                  <a:lnTo>
                    <a:pt x="189" y="1772"/>
                  </a:lnTo>
                  <a:lnTo>
                    <a:pt x="206" y="1753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59" y="1689"/>
                  </a:lnTo>
                  <a:lnTo>
                    <a:pt x="279" y="1664"/>
                  </a:lnTo>
                  <a:lnTo>
                    <a:pt x="320" y="1610"/>
                  </a:lnTo>
                  <a:lnTo>
                    <a:pt x="362" y="1550"/>
                  </a:lnTo>
                  <a:lnTo>
                    <a:pt x="406" y="1485"/>
                  </a:lnTo>
                  <a:lnTo>
                    <a:pt x="452" y="1416"/>
                  </a:lnTo>
                  <a:lnTo>
                    <a:pt x="500" y="1341"/>
                  </a:lnTo>
                  <a:lnTo>
                    <a:pt x="548" y="1265"/>
                  </a:lnTo>
                  <a:lnTo>
                    <a:pt x="595" y="1186"/>
                  </a:lnTo>
                  <a:lnTo>
                    <a:pt x="645" y="1106"/>
                  </a:lnTo>
                  <a:lnTo>
                    <a:pt x="692" y="1024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0" y="620"/>
                  </a:lnTo>
                  <a:lnTo>
                    <a:pt x="1000" y="473"/>
                  </a:lnTo>
                  <a:lnTo>
                    <a:pt x="1069" y="342"/>
                  </a:lnTo>
                  <a:lnTo>
                    <a:pt x="1098" y="284"/>
                  </a:lnTo>
                  <a:lnTo>
                    <a:pt x="1123" y="232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6" y="118"/>
                  </a:lnTo>
                  <a:lnTo>
                    <a:pt x="1184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6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3" y="82"/>
                  </a:lnTo>
                  <a:lnTo>
                    <a:pt x="1158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8"/>
                  </a:lnTo>
                  <a:lnTo>
                    <a:pt x="1102" y="16"/>
                  </a:lnTo>
                  <a:lnTo>
                    <a:pt x="1094" y="37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1" y="150"/>
                  </a:lnTo>
                  <a:lnTo>
                    <a:pt x="1016" y="203"/>
                  </a:lnTo>
                  <a:lnTo>
                    <a:pt x="987" y="261"/>
                  </a:lnTo>
                  <a:lnTo>
                    <a:pt x="918" y="392"/>
                  </a:lnTo>
                  <a:lnTo>
                    <a:pt x="839" y="538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0" y="943"/>
                  </a:lnTo>
                  <a:lnTo>
                    <a:pt x="562" y="1024"/>
                  </a:lnTo>
                  <a:lnTo>
                    <a:pt x="513" y="1105"/>
                  </a:lnTo>
                  <a:lnTo>
                    <a:pt x="466" y="1184"/>
                  </a:lnTo>
                  <a:lnTo>
                    <a:pt x="418" y="1260"/>
                  </a:lnTo>
                  <a:lnTo>
                    <a:pt x="371" y="1333"/>
                  </a:lnTo>
                  <a:lnTo>
                    <a:pt x="324" y="1403"/>
                  </a:lnTo>
                  <a:lnTo>
                    <a:pt x="281" y="1468"/>
                  </a:lnTo>
                  <a:lnTo>
                    <a:pt x="238" y="1529"/>
                  </a:lnTo>
                  <a:lnTo>
                    <a:pt x="198" y="1582"/>
                  </a:lnTo>
                  <a:lnTo>
                    <a:pt x="177" y="1607"/>
                  </a:lnTo>
                  <a:lnTo>
                    <a:pt x="159" y="1631"/>
                  </a:lnTo>
                  <a:lnTo>
                    <a:pt x="141" y="1652"/>
                  </a:lnTo>
                  <a:lnTo>
                    <a:pt x="124" y="1671"/>
                  </a:lnTo>
                  <a:lnTo>
                    <a:pt x="106" y="1689"/>
                  </a:lnTo>
                  <a:lnTo>
                    <a:pt x="90" y="1705"/>
                  </a:lnTo>
                  <a:lnTo>
                    <a:pt x="76" y="1719"/>
                  </a:lnTo>
                  <a:lnTo>
                    <a:pt x="62" y="1730"/>
                  </a:lnTo>
                  <a:lnTo>
                    <a:pt x="49" y="1740"/>
                  </a:lnTo>
                  <a:lnTo>
                    <a:pt x="37" y="1746"/>
                  </a:lnTo>
                  <a:lnTo>
                    <a:pt x="25" y="1751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5" y="1753"/>
                  </a:lnTo>
                  <a:lnTo>
                    <a:pt x="0" y="1813"/>
                  </a:lnTo>
                  <a:lnTo>
                    <a:pt x="96" y="1834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3168720" y="3846600"/>
              <a:ext cx="353880" cy="557280"/>
            </a:xfrm>
            <a:custGeom>
              <a:avLst/>
              <a:gdLst/>
              <a:ahLst/>
              <a:rect l="l" t="t" r="r" b="b"/>
              <a:pathLst>
                <a:path w="1116" h="1754">
                  <a:moveTo>
                    <a:pt x="0" y="1754"/>
                  </a:moveTo>
                  <a:lnTo>
                    <a:pt x="64" y="1714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6"/>
                  </a:lnTo>
                  <a:lnTo>
                    <a:pt x="426" y="1380"/>
                  </a:lnTo>
                  <a:lnTo>
                    <a:pt x="481" y="1314"/>
                  </a:lnTo>
                  <a:lnTo>
                    <a:pt x="535" y="1245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5" y="954"/>
                  </a:lnTo>
                  <a:lnTo>
                    <a:pt x="779" y="880"/>
                  </a:lnTo>
                  <a:lnTo>
                    <a:pt x="821" y="805"/>
                  </a:lnTo>
                  <a:lnTo>
                    <a:pt x="862" y="732"/>
                  </a:lnTo>
                  <a:lnTo>
                    <a:pt x="900" y="661"/>
                  </a:lnTo>
                  <a:lnTo>
                    <a:pt x="934" y="590"/>
                  </a:lnTo>
                  <a:lnTo>
                    <a:pt x="967" y="521"/>
                  </a:lnTo>
                  <a:lnTo>
                    <a:pt x="997" y="455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7" y="132"/>
                  </a:lnTo>
                  <a:lnTo>
                    <a:pt x="1113" y="95"/>
                  </a:lnTo>
                  <a:lnTo>
                    <a:pt x="1116" y="63"/>
                  </a:lnTo>
                  <a:lnTo>
                    <a:pt x="1114" y="37"/>
                  </a:lnTo>
                  <a:lnTo>
                    <a:pt x="1110" y="17"/>
                  </a:lnTo>
                  <a:lnTo>
                    <a:pt x="1099" y="6"/>
                  </a:lnTo>
                  <a:lnTo>
                    <a:pt x="1086" y="0"/>
                  </a:lnTo>
                  <a:lnTo>
                    <a:pt x="1089" y="3"/>
                  </a:lnTo>
                  <a:lnTo>
                    <a:pt x="1087" y="15"/>
                  </a:lnTo>
                  <a:lnTo>
                    <a:pt x="1079" y="37"/>
                  </a:lnTo>
                  <a:lnTo>
                    <a:pt x="1066" y="67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5" y="539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8" y="1025"/>
                  </a:lnTo>
                  <a:lnTo>
                    <a:pt x="499" y="1106"/>
                  </a:lnTo>
                  <a:lnTo>
                    <a:pt x="451" y="1184"/>
                  </a:lnTo>
                  <a:lnTo>
                    <a:pt x="403" y="1261"/>
                  </a:lnTo>
                  <a:lnTo>
                    <a:pt x="356" y="1334"/>
                  </a:lnTo>
                  <a:lnTo>
                    <a:pt x="310" y="1403"/>
                  </a:lnTo>
                  <a:lnTo>
                    <a:pt x="266" y="1468"/>
                  </a:lnTo>
                  <a:lnTo>
                    <a:pt x="223" y="1529"/>
                  </a:lnTo>
                  <a:lnTo>
                    <a:pt x="183" y="1582"/>
                  </a:lnTo>
                  <a:lnTo>
                    <a:pt x="144" y="1630"/>
                  </a:lnTo>
                  <a:lnTo>
                    <a:pt x="109" y="1671"/>
                  </a:lnTo>
                  <a:lnTo>
                    <a:pt x="77" y="1706"/>
                  </a:lnTo>
                  <a:lnTo>
                    <a:pt x="47" y="1731"/>
                  </a:lnTo>
                  <a:lnTo>
                    <a:pt x="22" y="1747"/>
                  </a:lnTo>
                  <a:lnTo>
                    <a:pt x="0" y="17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3156120" y="3833640"/>
              <a:ext cx="380880" cy="5828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6" y="0"/>
                  </a:moveTo>
                  <a:lnTo>
                    <a:pt x="1166" y="82"/>
                  </a:lnTo>
                  <a:lnTo>
                    <a:pt x="1171" y="83"/>
                  </a:lnTo>
                  <a:lnTo>
                    <a:pt x="1167" y="80"/>
                  </a:lnTo>
                  <a:lnTo>
                    <a:pt x="1111" y="24"/>
                  </a:lnTo>
                  <a:lnTo>
                    <a:pt x="1109" y="22"/>
                  </a:lnTo>
                  <a:lnTo>
                    <a:pt x="1111" y="28"/>
                  </a:lnTo>
                  <a:lnTo>
                    <a:pt x="1113" y="39"/>
                  </a:lnTo>
                  <a:lnTo>
                    <a:pt x="1114" y="50"/>
                  </a:lnTo>
                  <a:lnTo>
                    <a:pt x="1114" y="64"/>
                  </a:lnTo>
                  <a:lnTo>
                    <a:pt x="1114" y="79"/>
                  </a:lnTo>
                  <a:lnTo>
                    <a:pt x="1112" y="96"/>
                  </a:lnTo>
                  <a:lnTo>
                    <a:pt x="1110" y="114"/>
                  </a:lnTo>
                  <a:lnTo>
                    <a:pt x="1106" y="133"/>
                  </a:lnTo>
                  <a:lnTo>
                    <a:pt x="1096" y="177"/>
                  </a:lnTo>
                  <a:lnTo>
                    <a:pt x="1082" y="224"/>
                  </a:lnTo>
                  <a:lnTo>
                    <a:pt x="1065" y="276"/>
                  </a:lnTo>
                  <a:lnTo>
                    <a:pt x="1045" y="333"/>
                  </a:lnTo>
                  <a:lnTo>
                    <a:pt x="1022" y="392"/>
                  </a:lnTo>
                  <a:lnTo>
                    <a:pt x="996" y="456"/>
                  </a:lnTo>
                  <a:lnTo>
                    <a:pt x="966" y="522"/>
                  </a:lnTo>
                  <a:lnTo>
                    <a:pt x="933" y="591"/>
                  </a:lnTo>
                  <a:lnTo>
                    <a:pt x="899" y="662"/>
                  </a:lnTo>
                  <a:lnTo>
                    <a:pt x="861" y="734"/>
                  </a:lnTo>
                  <a:lnTo>
                    <a:pt x="821" y="807"/>
                  </a:lnTo>
                  <a:lnTo>
                    <a:pt x="778" y="880"/>
                  </a:lnTo>
                  <a:lnTo>
                    <a:pt x="733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6" y="1174"/>
                  </a:lnTo>
                  <a:lnTo>
                    <a:pt x="561" y="1209"/>
                  </a:lnTo>
                  <a:lnTo>
                    <a:pt x="534" y="1245"/>
                  </a:lnTo>
                  <a:lnTo>
                    <a:pt x="508" y="1280"/>
                  </a:lnTo>
                  <a:lnTo>
                    <a:pt x="480" y="1314"/>
                  </a:lnTo>
                  <a:lnTo>
                    <a:pt x="452" y="1348"/>
                  </a:lnTo>
                  <a:lnTo>
                    <a:pt x="425" y="1382"/>
                  </a:lnTo>
                  <a:lnTo>
                    <a:pt x="396" y="1413"/>
                  </a:lnTo>
                  <a:lnTo>
                    <a:pt x="366" y="1445"/>
                  </a:lnTo>
                  <a:lnTo>
                    <a:pt x="338" y="1476"/>
                  </a:lnTo>
                  <a:lnTo>
                    <a:pt x="308" y="1507"/>
                  </a:lnTo>
                  <a:lnTo>
                    <a:pt x="279" y="1537"/>
                  </a:lnTo>
                  <a:lnTo>
                    <a:pt x="249" y="1564"/>
                  </a:lnTo>
                  <a:lnTo>
                    <a:pt x="218" y="1593"/>
                  </a:lnTo>
                  <a:lnTo>
                    <a:pt x="187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5" y="1692"/>
                  </a:lnTo>
                  <a:lnTo>
                    <a:pt x="63" y="1714"/>
                  </a:lnTo>
                  <a:lnTo>
                    <a:pt x="31" y="1734"/>
                  </a:lnTo>
                  <a:lnTo>
                    <a:pt x="0" y="1753"/>
                  </a:lnTo>
                  <a:lnTo>
                    <a:pt x="81" y="1834"/>
                  </a:lnTo>
                  <a:lnTo>
                    <a:pt x="113" y="1816"/>
                  </a:lnTo>
                  <a:lnTo>
                    <a:pt x="144" y="1796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9" y="1726"/>
                  </a:lnTo>
                  <a:lnTo>
                    <a:pt x="270" y="1701"/>
                  </a:lnTo>
                  <a:lnTo>
                    <a:pt x="300" y="1674"/>
                  </a:lnTo>
                  <a:lnTo>
                    <a:pt x="330" y="1646"/>
                  </a:lnTo>
                  <a:lnTo>
                    <a:pt x="361" y="1618"/>
                  </a:lnTo>
                  <a:lnTo>
                    <a:pt x="390" y="1589"/>
                  </a:lnTo>
                  <a:lnTo>
                    <a:pt x="420" y="1558"/>
                  </a:lnTo>
                  <a:lnTo>
                    <a:pt x="448" y="1528"/>
                  </a:lnTo>
                  <a:lnTo>
                    <a:pt x="477" y="1496"/>
                  </a:lnTo>
                  <a:lnTo>
                    <a:pt x="505" y="1463"/>
                  </a:lnTo>
                  <a:lnTo>
                    <a:pt x="534" y="1429"/>
                  </a:lnTo>
                  <a:lnTo>
                    <a:pt x="561" y="1395"/>
                  </a:lnTo>
                  <a:lnTo>
                    <a:pt x="589" y="1361"/>
                  </a:lnTo>
                  <a:lnTo>
                    <a:pt x="616" y="1327"/>
                  </a:lnTo>
                  <a:lnTo>
                    <a:pt x="642" y="1291"/>
                  </a:lnTo>
                  <a:lnTo>
                    <a:pt x="669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6" y="1036"/>
                  </a:lnTo>
                  <a:lnTo>
                    <a:pt x="860" y="962"/>
                  </a:lnTo>
                  <a:lnTo>
                    <a:pt x="902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5" y="672"/>
                  </a:lnTo>
                  <a:lnTo>
                    <a:pt x="1048" y="603"/>
                  </a:lnTo>
                  <a:lnTo>
                    <a:pt x="1078" y="537"/>
                  </a:lnTo>
                  <a:lnTo>
                    <a:pt x="1104" y="475"/>
                  </a:lnTo>
                  <a:lnTo>
                    <a:pt x="1127" y="414"/>
                  </a:lnTo>
                  <a:lnTo>
                    <a:pt x="1147" y="357"/>
                  </a:lnTo>
                  <a:lnTo>
                    <a:pt x="1164" y="305"/>
                  </a:lnTo>
                  <a:lnTo>
                    <a:pt x="1178" y="257"/>
                  </a:lnTo>
                  <a:lnTo>
                    <a:pt x="1188" y="214"/>
                  </a:lnTo>
                  <a:lnTo>
                    <a:pt x="1192" y="195"/>
                  </a:lnTo>
                  <a:lnTo>
                    <a:pt x="1194" y="176"/>
                  </a:lnTo>
                  <a:lnTo>
                    <a:pt x="1196" y="160"/>
                  </a:lnTo>
                  <a:lnTo>
                    <a:pt x="1197" y="144"/>
                  </a:lnTo>
                  <a:lnTo>
                    <a:pt x="1196" y="130"/>
                  </a:lnTo>
                  <a:lnTo>
                    <a:pt x="1195" y="117"/>
                  </a:lnTo>
                  <a:lnTo>
                    <a:pt x="1193" y="106"/>
                  </a:lnTo>
                  <a:lnTo>
                    <a:pt x="1189" y="96"/>
                  </a:lnTo>
                  <a:lnTo>
                    <a:pt x="1178" y="79"/>
                  </a:lnTo>
                  <a:lnTo>
                    <a:pt x="1112" y="12"/>
                  </a:lnTo>
                  <a:lnTo>
                    <a:pt x="1095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4" y="55"/>
                  </a:lnTo>
                  <a:lnTo>
                    <a:pt x="1166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3151080" y="3833640"/>
              <a:ext cx="376200" cy="582840"/>
            </a:xfrm>
            <a:custGeom>
              <a:avLst/>
              <a:gdLst/>
              <a:ahLst/>
              <a:rect l="l" t="t" r="r" b="b"/>
              <a:pathLst>
                <a:path w="1185" h="1836">
                  <a:moveTo>
                    <a:pt x="15" y="1753"/>
                  </a:moveTo>
                  <a:lnTo>
                    <a:pt x="95" y="1836"/>
                  </a:lnTo>
                  <a:lnTo>
                    <a:pt x="107" y="1833"/>
                  </a:lnTo>
                  <a:lnTo>
                    <a:pt x="117" y="1829"/>
                  </a:lnTo>
                  <a:lnTo>
                    <a:pt x="129" y="1822"/>
                  </a:lnTo>
                  <a:lnTo>
                    <a:pt x="143" y="1812"/>
                  </a:lnTo>
                  <a:lnTo>
                    <a:pt x="157" y="1800"/>
                  </a:lnTo>
                  <a:lnTo>
                    <a:pt x="172" y="1788"/>
                  </a:lnTo>
                  <a:lnTo>
                    <a:pt x="188" y="1772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0" y="1712"/>
                  </a:lnTo>
                  <a:lnTo>
                    <a:pt x="258" y="1690"/>
                  </a:lnTo>
                  <a:lnTo>
                    <a:pt x="278" y="1664"/>
                  </a:lnTo>
                  <a:lnTo>
                    <a:pt x="319" y="1610"/>
                  </a:lnTo>
                  <a:lnTo>
                    <a:pt x="361" y="1550"/>
                  </a:lnTo>
                  <a:lnTo>
                    <a:pt x="405" y="1485"/>
                  </a:lnTo>
                  <a:lnTo>
                    <a:pt x="452" y="1416"/>
                  </a:lnTo>
                  <a:lnTo>
                    <a:pt x="499" y="1343"/>
                  </a:lnTo>
                  <a:lnTo>
                    <a:pt x="547" y="1265"/>
                  </a:lnTo>
                  <a:lnTo>
                    <a:pt x="595" y="1186"/>
                  </a:lnTo>
                  <a:lnTo>
                    <a:pt x="644" y="1107"/>
                  </a:lnTo>
                  <a:lnTo>
                    <a:pt x="691" y="1024"/>
                  </a:lnTo>
                  <a:lnTo>
                    <a:pt x="739" y="942"/>
                  </a:lnTo>
                  <a:lnTo>
                    <a:pt x="833" y="778"/>
                  </a:lnTo>
                  <a:lnTo>
                    <a:pt x="921" y="621"/>
                  </a:lnTo>
                  <a:lnTo>
                    <a:pt x="999" y="473"/>
                  </a:lnTo>
                  <a:lnTo>
                    <a:pt x="1068" y="342"/>
                  </a:lnTo>
                  <a:lnTo>
                    <a:pt x="1097" y="284"/>
                  </a:lnTo>
                  <a:lnTo>
                    <a:pt x="1122" y="233"/>
                  </a:lnTo>
                  <a:lnTo>
                    <a:pt x="1144" y="187"/>
                  </a:lnTo>
                  <a:lnTo>
                    <a:pt x="1162" y="149"/>
                  </a:lnTo>
                  <a:lnTo>
                    <a:pt x="1175" y="119"/>
                  </a:lnTo>
                  <a:lnTo>
                    <a:pt x="1183" y="97"/>
                  </a:lnTo>
                  <a:lnTo>
                    <a:pt x="1185" y="89"/>
                  </a:lnTo>
                  <a:lnTo>
                    <a:pt x="1185" y="84"/>
                  </a:lnTo>
                  <a:lnTo>
                    <a:pt x="1185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4"/>
                  </a:lnTo>
                  <a:lnTo>
                    <a:pt x="1103" y="3"/>
                  </a:lnTo>
                  <a:lnTo>
                    <a:pt x="1103" y="3"/>
                  </a:lnTo>
                  <a:lnTo>
                    <a:pt x="1102" y="9"/>
                  </a:lnTo>
                  <a:lnTo>
                    <a:pt x="1101" y="16"/>
                  </a:lnTo>
                  <a:lnTo>
                    <a:pt x="1093" y="38"/>
                  </a:lnTo>
                  <a:lnTo>
                    <a:pt x="1080" y="67"/>
                  </a:lnTo>
                  <a:lnTo>
                    <a:pt x="1062" y="106"/>
                  </a:lnTo>
                  <a:lnTo>
                    <a:pt x="1040" y="152"/>
                  </a:lnTo>
                  <a:lnTo>
                    <a:pt x="1015" y="203"/>
                  </a:lnTo>
                  <a:lnTo>
                    <a:pt x="986" y="261"/>
                  </a:lnTo>
                  <a:lnTo>
                    <a:pt x="917" y="392"/>
                  </a:lnTo>
                  <a:lnTo>
                    <a:pt x="839" y="540"/>
                  </a:lnTo>
                  <a:lnTo>
                    <a:pt x="751" y="697"/>
                  </a:lnTo>
                  <a:lnTo>
                    <a:pt x="657" y="860"/>
                  </a:lnTo>
                  <a:lnTo>
                    <a:pt x="609" y="943"/>
                  </a:lnTo>
                  <a:lnTo>
                    <a:pt x="562" y="1024"/>
                  </a:lnTo>
                  <a:lnTo>
                    <a:pt x="513" y="1105"/>
                  </a:lnTo>
                  <a:lnTo>
                    <a:pt x="465" y="1184"/>
                  </a:lnTo>
                  <a:lnTo>
                    <a:pt x="417" y="1261"/>
                  </a:lnTo>
                  <a:lnTo>
                    <a:pt x="370" y="1334"/>
                  </a:lnTo>
                  <a:lnTo>
                    <a:pt x="324" y="1403"/>
                  </a:lnTo>
                  <a:lnTo>
                    <a:pt x="280" y="1468"/>
                  </a:lnTo>
                  <a:lnTo>
                    <a:pt x="237" y="1529"/>
                  </a:lnTo>
                  <a:lnTo>
                    <a:pt x="197" y="1583"/>
                  </a:lnTo>
                  <a:lnTo>
                    <a:pt x="177" y="1607"/>
                  </a:lnTo>
                  <a:lnTo>
                    <a:pt x="158" y="1631"/>
                  </a:lnTo>
                  <a:lnTo>
                    <a:pt x="140" y="1652"/>
                  </a:lnTo>
                  <a:lnTo>
                    <a:pt x="123" y="1671"/>
                  </a:lnTo>
                  <a:lnTo>
                    <a:pt x="107" y="1690"/>
                  </a:lnTo>
                  <a:lnTo>
                    <a:pt x="91" y="1706"/>
                  </a:lnTo>
                  <a:lnTo>
                    <a:pt x="76" y="1719"/>
                  </a:lnTo>
                  <a:lnTo>
                    <a:pt x="61" y="1731"/>
                  </a:lnTo>
                  <a:lnTo>
                    <a:pt x="49" y="1740"/>
                  </a:lnTo>
                  <a:lnTo>
                    <a:pt x="36" y="1747"/>
                  </a:lnTo>
                  <a:lnTo>
                    <a:pt x="26" y="1751"/>
                  </a:lnTo>
                  <a:lnTo>
                    <a:pt x="15" y="1753"/>
                  </a:lnTo>
                  <a:lnTo>
                    <a:pt x="96" y="1834"/>
                  </a:lnTo>
                  <a:lnTo>
                    <a:pt x="15" y="1753"/>
                  </a:lnTo>
                  <a:lnTo>
                    <a:pt x="0" y="1814"/>
                  </a:lnTo>
                  <a:lnTo>
                    <a:pt x="95" y="1836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2690640" y="3846600"/>
              <a:ext cx="354240" cy="555480"/>
            </a:xfrm>
            <a:custGeom>
              <a:avLst/>
              <a:gdLst/>
              <a:ahLst/>
              <a:rect l="l" t="t" r="r" b="b"/>
              <a:pathLst>
                <a:path w="1114" h="1752">
                  <a:moveTo>
                    <a:pt x="0" y="1752"/>
                  </a:moveTo>
                  <a:lnTo>
                    <a:pt x="62" y="1713"/>
                  </a:lnTo>
                  <a:lnTo>
                    <a:pt x="125" y="1668"/>
                  </a:lnTo>
                  <a:lnTo>
                    <a:pt x="188" y="1619"/>
                  </a:lnTo>
                  <a:lnTo>
                    <a:pt x="248" y="1564"/>
                  </a:lnTo>
                  <a:lnTo>
                    <a:pt x="307" y="1507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4" y="1244"/>
                  </a:lnTo>
                  <a:lnTo>
                    <a:pt x="587" y="1174"/>
                  </a:lnTo>
                  <a:lnTo>
                    <a:pt x="637" y="1101"/>
                  </a:lnTo>
                  <a:lnTo>
                    <a:pt x="686" y="1028"/>
                  </a:lnTo>
                  <a:lnTo>
                    <a:pt x="733" y="954"/>
                  </a:lnTo>
                  <a:lnTo>
                    <a:pt x="778" y="879"/>
                  </a:lnTo>
                  <a:lnTo>
                    <a:pt x="820" y="805"/>
                  </a:lnTo>
                  <a:lnTo>
                    <a:pt x="860" y="732"/>
                  </a:lnTo>
                  <a:lnTo>
                    <a:pt x="898" y="660"/>
                  </a:lnTo>
                  <a:lnTo>
                    <a:pt x="933" y="590"/>
                  </a:lnTo>
                  <a:lnTo>
                    <a:pt x="965" y="521"/>
                  </a:lnTo>
                  <a:lnTo>
                    <a:pt x="995" y="455"/>
                  </a:lnTo>
                  <a:lnTo>
                    <a:pt x="1021" y="392"/>
                  </a:lnTo>
                  <a:lnTo>
                    <a:pt x="1045" y="332"/>
                  </a:lnTo>
                  <a:lnTo>
                    <a:pt x="1065" y="276"/>
                  </a:lnTo>
                  <a:lnTo>
                    <a:pt x="1083" y="223"/>
                  </a:lnTo>
                  <a:lnTo>
                    <a:pt x="1095" y="175"/>
                  </a:lnTo>
                  <a:lnTo>
                    <a:pt x="1105" y="132"/>
                  </a:lnTo>
                  <a:lnTo>
                    <a:pt x="1112" y="94"/>
                  </a:lnTo>
                  <a:lnTo>
                    <a:pt x="1114" y="62"/>
                  </a:lnTo>
                  <a:lnTo>
                    <a:pt x="1113" y="36"/>
                  </a:lnTo>
                  <a:lnTo>
                    <a:pt x="1108" y="17"/>
                  </a:lnTo>
                  <a:lnTo>
                    <a:pt x="1099" y="4"/>
                  </a:lnTo>
                  <a:lnTo>
                    <a:pt x="1085" y="0"/>
                  </a:lnTo>
                  <a:lnTo>
                    <a:pt x="1088" y="2"/>
                  </a:lnTo>
                  <a:lnTo>
                    <a:pt x="1085" y="15"/>
                  </a:lnTo>
                  <a:lnTo>
                    <a:pt x="1077" y="36"/>
                  </a:lnTo>
                  <a:lnTo>
                    <a:pt x="1064" y="67"/>
                  </a:lnTo>
                  <a:lnTo>
                    <a:pt x="1047" y="105"/>
                  </a:lnTo>
                  <a:lnTo>
                    <a:pt x="1026" y="150"/>
                  </a:lnTo>
                  <a:lnTo>
                    <a:pt x="999" y="203"/>
                  </a:lnTo>
                  <a:lnTo>
                    <a:pt x="971" y="260"/>
                  </a:lnTo>
                  <a:lnTo>
                    <a:pt x="902" y="391"/>
                  </a:lnTo>
                  <a:lnTo>
                    <a:pt x="823" y="538"/>
                  </a:lnTo>
                  <a:lnTo>
                    <a:pt x="736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6" y="1024"/>
                  </a:lnTo>
                  <a:lnTo>
                    <a:pt x="498" y="1105"/>
                  </a:lnTo>
                  <a:lnTo>
                    <a:pt x="449" y="1184"/>
                  </a:lnTo>
                  <a:lnTo>
                    <a:pt x="402" y="1260"/>
                  </a:lnTo>
                  <a:lnTo>
                    <a:pt x="354" y="1333"/>
                  </a:lnTo>
                  <a:lnTo>
                    <a:pt x="309" y="1403"/>
                  </a:lnTo>
                  <a:lnTo>
                    <a:pt x="264" y="1468"/>
                  </a:lnTo>
                  <a:lnTo>
                    <a:pt x="222" y="1529"/>
                  </a:lnTo>
                  <a:lnTo>
                    <a:pt x="181" y="1582"/>
                  </a:lnTo>
                  <a:lnTo>
                    <a:pt x="143" y="1630"/>
                  </a:lnTo>
                  <a:lnTo>
                    <a:pt x="108" y="1671"/>
                  </a:lnTo>
                  <a:lnTo>
                    <a:pt x="75" y="1705"/>
                  </a:lnTo>
                  <a:lnTo>
                    <a:pt x="46" y="1730"/>
                  </a:lnTo>
                  <a:lnTo>
                    <a:pt x="20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2678040" y="3833640"/>
              <a:ext cx="381240" cy="5810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5" y="0"/>
                  </a:moveTo>
                  <a:lnTo>
                    <a:pt x="1166" y="82"/>
                  </a:lnTo>
                  <a:lnTo>
                    <a:pt x="1171" y="83"/>
                  </a:lnTo>
                  <a:lnTo>
                    <a:pt x="1167" y="80"/>
                  </a:lnTo>
                  <a:lnTo>
                    <a:pt x="1111" y="24"/>
                  </a:lnTo>
                  <a:lnTo>
                    <a:pt x="1109" y="21"/>
                  </a:lnTo>
                  <a:lnTo>
                    <a:pt x="1111" y="28"/>
                  </a:lnTo>
                  <a:lnTo>
                    <a:pt x="1113" y="38"/>
                  </a:lnTo>
                  <a:lnTo>
                    <a:pt x="1114" y="50"/>
                  </a:lnTo>
                  <a:lnTo>
                    <a:pt x="1114" y="64"/>
                  </a:lnTo>
                  <a:lnTo>
                    <a:pt x="1113" y="78"/>
                  </a:lnTo>
                  <a:lnTo>
                    <a:pt x="1112" y="95"/>
                  </a:lnTo>
                  <a:lnTo>
                    <a:pt x="1109" y="114"/>
                  </a:lnTo>
                  <a:lnTo>
                    <a:pt x="1105" y="133"/>
                  </a:lnTo>
                  <a:lnTo>
                    <a:pt x="1095" y="175"/>
                  </a:lnTo>
                  <a:lnTo>
                    <a:pt x="1083" y="223"/>
                  </a:lnTo>
                  <a:lnTo>
                    <a:pt x="1065" y="276"/>
                  </a:lnTo>
                  <a:lnTo>
                    <a:pt x="1045" y="333"/>
                  </a:lnTo>
                  <a:lnTo>
                    <a:pt x="1021" y="392"/>
                  </a:lnTo>
                  <a:lnTo>
                    <a:pt x="995" y="456"/>
                  </a:lnTo>
                  <a:lnTo>
                    <a:pt x="965" y="522"/>
                  </a:lnTo>
                  <a:lnTo>
                    <a:pt x="933" y="591"/>
                  </a:lnTo>
                  <a:lnTo>
                    <a:pt x="898" y="660"/>
                  </a:lnTo>
                  <a:lnTo>
                    <a:pt x="860" y="733"/>
                  </a:lnTo>
                  <a:lnTo>
                    <a:pt x="820" y="806"/>
                  </a:lnTo>
                  <a:lnTo>
                    <a:pt x="778" y="879"/>
                  </a:lnTo>
                  <a:lnTo>
                    <a:pt x="733" y="953"/>
                  </a:lnTo>
                  <a:lnTo>
                    <a:pt x="686" y="1028"/>
                  </a:lnTo>
                  <a:lnTo>
                    <a:pt x="637" y="1101"/>
                  </a:lnTo>
                  <a:lnTo>
                    <a:pt x="587" y="1174"/>
                  </a:lnTo>
                  <a:lnTo>
                    <a:pt x="560" y="1209"/>
                  </a:lnTo>
                  <a:lnTo>
                    <a:pt x="534" y="1244"/>
                  </a:lnTo>
                  <a:lnTo>
                    <a:pt x="507" y="1280"/>
                  </a:lnTo>
                  <a:lnTo>
                    <a:pt x="479" y="1314"/>
                  </a:lnTo>
                  <a:lnTo>
                    <a:pt x="452" y="1347"/>
                  </a:lnTo>
                  <a:lnTo>
                    <a:pt x="424" y="1381"/>
                  </a:lnTo>
                  <a:lnTo>
                    <a:pt x="395" y="1413"/>
                  </a:lnTo>
                  <a:lnTo>
                    <a:pt x="367" y="1445"/>
                  </a:lnTo>
                  <a:lnTo>
                    <a:pt x="337" y="1476"/>
                  </a:lnTo>
                  <a:lnTo>
                    <a:pt x="307" y="1507"/>
                  </a:lnTo>
                  <a:lnTo>
                    <a:pt x="278" y="1535"/>
                  </a:lnTo>
                  <a:lnTo>
                    <a:pt x="248" y="1564"/>
                  </a:lnTo>
                  <a:lnTo>
                    <a:pt x="218" y="1592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4" y="1692"/>
                  </a:lnTo>
                  <a:lnTo>
                    <a:pt x="63" y="1713"/>
                  </a:lnTo>
                  <a:lnTo>
                    <a:pt x="31" y="1734"/>
                  </a:lnTo>
                  <a:lnTo>
                    <a:pt x="0" y="1753"/>
                  </a:lnTo>
                  <a:lnTo>
                    <a:pt x="80" y="1834"/>
                  </a:lnTo>
                  <a:lnTo>
                    <a:pt x="112" y="1816"/>
                  </a:lnTo>
                  <a:lnTo>
                    <a:pt x="144" y="1794"/>
                  </a:lnTo>
                  <a:lnTo>
                    <a:pt x="176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299" y="1673"/>
                  </a:lnTo>
                  <a:lnTo>
                    <a:pt x="330" y="1646"/>
                  </a:lnTo>
                  <a:lnTo>
                    <a:pt x="360" y="1617"/>
                  </a:lnTo>
                  <a:lnTo>
                    <a:pt x="389" y="1588"/>
                  </a:lnTo>
                  <a:lnTo>
                    <a:pt x="419" y="1558"/>
                  </a:lnTo>
                  <a:lnTo>
                    <a:pt x="449" y="1527"/>
                  </a:lnTo>
                  <a:lnTo>
                    <a:pt x="477" y="1495"/>
                  </a:lnTo>
                  <a:lnTo>
                    <a:pt x="506" y="1462"/>
                  </a:lnTo>
                  <a:lnTo>
                    <a:pt x="533" y="1429"/>
                  </a:lnTo>
                  <a:lnTo>
                    <a:pt x="562" y="1395"/>
                  </a:lnTo>
                  <a:lnTo>
                    <a:pt x="589" y="1361"/>
                  </a:lnTo>
                  <a:lnTo>
                    <a:pt x="615" y="1327"/>
                  </a:lnTo>
                  <a:lnTo>
                    <a:pt x="642" y="1291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6"/>
                  </a:lnTo>
                  <a:lnTo>
                    <a:pt x="860" y="961"/>
                  </a:lnTo>
                  <a:lnTo>
                    <a:pt x="902" y="887"/>
                  </a:lnTo>
                  <a:lnTo>
                    <a:pt x="942" y="814"/>
                  </a:lnTo>
                  <a:lnTo>
                    <a:pt x="980" y="742"/>
                  </a:lnTo>
                  <a:lnTo>
                    <a:pt x="1015" y="672"/>
                  </a:lnTo>
                  <a:lnTo>
                    <a:pt x="1047" y="603"/>
                  </a:lnTo>
                  <a:lnTo>
                    <a:pt x="1077" y="537"/>
                  </a:lnTo>
                  <a:lnTo>
                    <a:pt x="1103" y="474"/>
                  </a:lnTo>
                  <a:lnTo>
                    <a:pt x="1127" y="414"/>
                  </a:lnTo>
                  <a:lnTo>
                    <a:pt x="1148" y="357"/>
                  </a:lnTo>
                  <a:lnTo>
                    <a:pt x="1165" y="304"/>
                  </a:lnTo>
                  <a:lnTo>
                    <a:pt x="1178" y="256"/>
                  </a:lnTo>
                  <a:lnTo>
                    <a:pt x="1187" y="214"/>
                  </a:lnTo>
                  <a:lnTo>
                    <a:pt x="1191" y="194"/>
                  </a:lnTo>
                  <a:lnTo>
                    <a:pt x="1194" y="175"/>
                  </a:lnTo>
                  <a:lnTo>
                    <a:pt x="1195" y="159"/>
                  </a:lnTo>
                  <a:lnTo>
                    <a:pt x="1197" y="143"/>
                  </a:lnTo>
                  <a:lnTo>
                    <a:pt x="1197" y="130"/>
                  </a:lnTo>
                  <a:lnTo>
                    <a:pt x="1195" y="117"/>
                  </a:lnTo>
                  <a:lnTo>
                    <a:pt x="1193" y="106"/>
                  </a:lnTo>
                  <a:lnTo>
                    <a:pt x="1190" y="95"/>
                  </a:lnTo>
                  <a:lnTo>
                    <a:pt x="1178" y="78"/>
                  </a:lnTo>
                  <a:lnTo>
                    <a:pt x="1112" y="12"/>
                  </a:lnTo>
                  <a:lnTo>
                    <a:pt x="1095" y="2"/>
                  </a:lnTo>
                  <a:lnTo>
                    <a:pt x="1086" y="0"/>
                  </a:lnTo>
                  <a:lnTo>
                    <a:pt x="1167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2673360" y="3833640"/>
              <a:ext cx="376200" cy="581040"/>
            </a:xfrm>
            <a:custGeom>
              <a:avLst/>
              <a:gdLst/>
              <a:ahLst/>
              <a:rect l="l" t="t" r="r" b="b"/>
              <a:pathLst>
                <a:path w="1186" h="1834">
                  <a:moveTo>
                    <a:pt x="16" y="1753"/>
                  </a:moveTo>
                  <a:lnTo>
                    <a:pt x="96" y="1834"/>
                  </a:lnTo>
                  <a:lnTo>
                    <a:pt x="107" y="1833"/>
                  </a:lnTo>
                  <a:lnTo>
                    <a:pt x="118" y="1828"/>
                  </a:lnTo>
                  <a:lnTo>
                    <a:pt x="131" y="1822"/>
                  </a:lnTo>
                  <a:lnTo>
                    <a:pt x="143" y="1811"/>
                  </a:lnTo>
                  <a:lnTo>
                    <a:pt x="158" y="1800"/>
                  </a:lnTo>
                  <a:lnTo>
                    <a:pt x="173" y="1786"/>
                  </a:lnTo>
                  <a:lnTo>
                    <a:pt x="189" y="1771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0" y="1712"/>
                  </a:lnTo>
                  <a:lnTo>
                    <a:pt x="259" y="1689"/>
                  </a:lnTo>
                  <a:lnTo>
                    <a:pt x="279" y="1664"/>
                  </a:lnTo>
                  <a:lnTo>
                    <a:pt x="319" y="1609"/>
                  </a:lnTo>
                  <a:lnTo>
                    <a:pt x="362" y="1550"/>
                  </a:lnTo>
                  <a:lnTo>
                    <a:pt x="407" y="1485"/>
                  </a:lnTo>
                  <a:lnTo>
                    <a:pt x="452" y="1415"/>
                  </a:lnTo>
                  <a:lnTo>
                    <a:pt x="499" y="1341"/>
                  </a:lnTo>
                  <a:lnTo>
                    <a:pt x="547" y="1265"/>
                  </a:lnTo>
                  <a:lnTo>
                    <a:pt x="596" y="1186"/>
                  </a:lnTo>
                  <a:lnTo>
                    <a:pt x="644" y="1106"/>
                  </a:lnTo>
                  <a:lnTo>
                    <a:pt x="693" y="1024"/>
                  </a:lnTo>
                  <a:lnTo>
                    <a:pt x="741" y="942"/>
                  </a:lnTo>
                  <a:lnTo>
                    <a:pt x="833" y="778"/>
                  </a:lnTo>
                  <a:lnTo>
                    <a:pt x="921" y="620"/>
                  </a:lnTo>
                  <a:lnTo>
                    <a:pt x="1000" y="473"/>
                  </a:lnTo>
                  <a:lnTo>
                    <a:pt x="1069" y="342"/>
                  </a:lnTo>
                  <a:lnTo>
                    <a:pt x="1097" y="284"/>
                  </a:lnTo>
                  <a:lnTo>
                    <a:pt x="1124" y="232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5" y="118"/>
                  </a:lnTo>
                  <a:lnTo>
                    <a:pt x="1183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5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3" y="82"/>
                  </a:lnTo>
                  <a:lnTo>
                    <a:pt x="1183" y="82"/>
                  </a:lnTo>
                  <a:lnTo>
                    <a:pt x="1158" y="64"/>
                  </a:lnTo>
                  <a:lnTo>
                    <a:pt x="1103" y="3"/>
                  </a:lnTo>
                  <a:lnTo>
                    <a:pt x="1103" y="3"/>
                  </a:lnTo>
                  <a:lnTo>
                    <a:pt x="1103" y="8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2" y="150"/>
                  </a:lnTo>
                  <a:lnTo>
                    <a:pt x="1015" y="203"/>
                  </a:lnTo>
                  <a:lnTo>
                    <a:pt x="987" y="261"/>
                  </a:lnTo>
                  <a:lnTo>
                    <a:pt x="918" y="392"/>
                  </a:lnTo>
                  <a:lnTo>
                    <a:pt x="839" y="538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1" y="943"/>
                  </a:lnTo>
                  <a:lnTo>
                    <a:pt x="563" y="1024"/>
                  </a:lnTo>
                  <a:lnTo>
                    <a:pt x="514" y="1105"/>
                  </a:lnTo>
                  <a:lnTo>
                    <a:pt x="466" y="1184"/>
                  </a:lnTo>
                  <a:lnTo>
                    <a:pt x="418" y="1260"/>
                  </a:lnTo>
                  <a:lnTo>
                    <a:pt x="370" y="1333"/>
                  </a:lnTo>
                  <a:lnTo>
                    <a:pt x="324" y="1403"/>
                  </a:lnTo>
                  <a:lnTo>
                    <a:pt x="280" y="1468"/>
                  </a:lnTo>
                  <a:lnTo>
                    <a:pt x="238" y="1528"/>
                  </a:lnTo>
                  <a:lnTo>
                    <a:pt x="197" y="1582"/>
                  </a:lnTo>
                  <a:lnTo>
                    <a:pt x="177" y="1607"/>
                  </a:lnTo>
                  <a:lnTo>
                    <a:pt x="159" y="1631"/>
                  </a:lnTo>
                  <a:lnTo>
                    <a:pt x="141" y="1652"/>
                  </a:lnTo>
                  <a:lnTo>
                    <a:pt x="124" y="1671"/>
                  </a:lnTo>
                  <a:lnTo>
                    <a:pt x="107" y="1689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2" y="1730"/>
                  </a:lnTo>
                  <a:lnTo>
                    <a:pt x="49" y="1740"/>
                  </a:lnTo>
                  <a:lnTo>
                    <a:pt x="37" y="1746"/>
                  </a:lnTo>
                  <a:lnTo>
                    <a:pt x="26" y="1751"/>
                  </a:lnTo>
                  <a:lnTo>
                    <a:pt x="17" y="1752"/>
                  </a:lnTo>
                  <a:lnTo>
                    <a:pt x="96" y="1834"/>
                  </a:lnTo>
                  <a:lnTo>
                    <a:pt x="16" y="1753"/>
                  </a:lnTo>
                  <a:lnTo>
                    <a:pt x="0" y="1813"/>
                  </a:lnTo>
                  <a:lnTo>
                    <a:pt x="96" y="1834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4554360" y="3803760"/>
              <a:ext cx="362160" cy="601560"/>
            </a:xfrm>
            <a:custGeom>
              <a:avLst/>
              <a:gdLst/>
              <a:ahLst/>
              <a:rect l="l" t="t" r="r" b="b"/>
              <a:pathLst>
                <a:path w="1141" h="1895">
                  <a:moveTo>
                    <a:pt x="0" y="1895"/>
                  </a:moveTo>
                  <a:lnTo>
                    <a:pt x="66" y="1851"/>
                  </a:lnTo>
                  <a:lnTo>
                    <a:pt x="132" y="1802"/>
                  </a:lnTo>
                  <a:lnTo>
                    <a:pt x="196" y="1747"/>
                  </a:lnTo>
                  <a:lnTo>
                    <a:pt x="260" y="1687"/>
                  </a:lnTo>
                  <a:lnTo>
                    <a:pt x="321" y="1625"/>
                  </a:lnTo>
                  <a:lnTo>
                    <a:pt x="382" y="1557"/>
                  </a:lnTo>
                  <a:lnTo>
                    <a:pt x="441" y="1488"/>
                  </a:lnTo>
                  <a:lnTo>
                    <a:pt x="499" y="1415"/>
                  </a:lnTo>
                  <a:lnTo>
                    <a:pt x="555" y="1340"/>
                  </a:lnTo>
                  <a:lnTo>
                    <a:pt x="609" y="1263"/>
                  </a:lnTo>
                  <a:lnTo>
                    <a:pt x="661" y="1184"/>
                  </a:lnTo>
                  <a:lnTo>
                    <a:pt x="711" y="1104"/>
                  </a:lnTo>
                  <a:lnTo>
                    <a:pt x="759" y="1025"/>
                  </a:lnTo>
                  <a:lnTo>
                    <a:pt x="805" y="945"/>
                  </a:lnTo>
                  <a:lnTo>
                    <a:pt x="848" y="865"/>
                  </a:lnTo>
                  <a:lnTo>
                    <a:pt x="889" y="786"/>
                  </a:lnTo>
                  <a:lnTo>
                    <a:pt x="927" y="709"/>
                  </a:lnTo>
                  <a:lnTo>
                    <a:pt x="962" y="632"/>
                  </a:lnTo>
                  <a:lnTo>
                    <a:pt x="995" y="559"/>
                  </a:lnTo>
                  <a:lnTo>
                    <a:pt x="1025" y="487"/>
                  </a:lnTo>
                  <a:lnTo>
                    <a:pt x="1051" y="420"/>
                  </a:lnTo>
                  <a:lnTo>
                    <a:pt x="1074" y="355"/>
                  </a:lnTo>
                  <a:lnTo>
                    <a:pt x="1094" y="294"/>
                  </a:lnTo>
                  <a:lnTo>
                    <a:pt x="1112" y="239"/>
                  </a:lnTo>
                  <a:lnTo>
                    <a:pt x="1124" y="187"/>
                  </a:lnTo>
                  <a:lnTo>
                    <a:pt x="1133" y="140"/>
                  </a:lnTo>
                  <a:lnTo>
                    <a:pt x="1139" y="101"/>
                  </a:lnTo>
                  <a:lnTo>
                    <a:pt x="1141" y="66"/>
                  </a:lnTo>
                  <a:lnTo>
                    <a:pt x="1139" y="38"/>
                  </a:lnTo>
                  <a:lnTo>
                    <a:pt x="1133" y="17"/>
                  </a:lnTo>
                  <a:lnTo>
                    <a:pt x="1122" y="5"/>
                  </a:lnTo>
                  <a:lnTo>
                    <a:pt x="1108" y="0"/>
                  </a:lnTo>
                  <a:lnTo>
                    <a:pt x="1110" y="2"/>
                  </a:lnTo>
                  <a:lnTo>
                    <a:pt x="1108" y="15"/>
                  </a:lnTo>
                  <a:lnTo>
                    <a:pt x="1101" y="39"/>
                  </a:lnTo>
                  <a:lnTo>
                    <a:pt x="1089" y="71"/>
                  </a:lnTo>
                  <a:lnTo>
                    <a:pt x="1070" y="112"/>
                  </a:lnTo>
                  <a:lnTo>
                    <a:pt x="1049" y="161"/>
                  </a:lnTo>
                  <a:lnTo>
                    <a:pt x="1023" y="217"/>
                  </a:lnTo>
                  <a:lnTo>
                    <a:pt x="993" y="280"/>
                  </a:lnTo>
                  <a:lnTo>
                    <a:pt x="923" y="420"/>
                  </a:lnTo>
                  <a:lnTo>
                    <a:pt x="844" y="580"/>
                  </a:lnTo>
                  <a:lnTo>
                    <a:pt x="800" y="663"/>
                  </a:lnTo>
                  <a:lnTo>
                    <a:pt x="755" y="750"/>
                  </a:lnTo>
                  <a:lnTo>
                    <a:pt x="708" y="838"/>
                  </a:lnTo>
                  <a:lnTo>
                    <a:pt x="660" y="927"/>
                  </a:lnTo>
                  <a:lnTo>
                    <a:pt x="611" y="1015"/>
                  </a:lnTo>
                  <a:lnTo>
                    <a:pt x="562" y="1104"/>
                  </a:lnTo>
                  <a:lnTo>
                    <a:pt x="512" y="1191"/>
                  </a:lnTo>
                  <a:lnTo>
                    <a:pt x="463" y="1277"/>
                  </a:lnTo>
                  <a:lnTo>
                    <a:pt x="414" y="1359"/>
                  </a:lnTo>
                  <a:lnTo>
                    <a:pt x="366" y="1439"/>
                  </a:lnTo>
                  <a:lnTo>
                    <a:pt x="319" y="1514"/>
                  </a:lnTo>
                  <a:lnTo>
                    <a:pt x="274" y="1584"/>
                  </a:lnTo>
                  <a:lnTo>
                    <a:pt x="229" y="1650"/>
                  </a:lnTo>
                  <a:lnTo>
                    <a:pt x="188" y="1708"/>
                  </a:lnTo>
                  <a:lnTo>
                    <a:pt x="148" y="1760"/>
                  </a:lnTo>
                  <a:lnTo>
                    <a:pt x="112" y="1805"/>
                  </a:lnTo>
                  <a:lnTo>
                    <a:pt x="79" y="1841"/>
                  </a:lnTo>
                  <a:lnTo>
                    <a:pt x="49" y="1869"/>
                  </a:lnTo>
                  <a:lnTo>
                    <a:pt x="23" y="1887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4541760" y="3789360"/>
              <a:ext cx="387360" cy="628560"/>
            </a:xfrm>
            <a:custGeom>
              <a:avLst/>
              <a:gdLst/>
              <a:ahLst/>
              <a:rect l="l" t="t" r="r" b="b"/>
              <a:pathLst>
                <a:path w="1222" h="1978">
                  <a:moveTo>
                    <a:pt x="1107" y="1"/>
                  </a:moveTo>
                  <a:lnTo>
                    <a:pt x="1188" y="83"/>
                  </a:lnTo>
                  <a:lnTo>
                    <a:pt x="1194" y="84"/>
                  </a:lnTo>
                  <a:lnTo>
                    <a:pt x="1193" y="82"/>
                  </a:lnTo>
                  <a:lnTo>
                    <a:pt x="1137" y="28"/>
                  </a:lnTo>
                  <a:lnTo>
                    <a:pt x="1132" y="23"/>
                  </a:lnTo>
                  <a:lnTo>
                    <a:pt x="1136" y="31"/>
                  </a:lnTo>
                  <a:lnTo>
                    <a:pt x="1138" y="41"/>
                  </a:lnTo>
                  <a:lnTo>
                    <a:pt x="1139" y="54"/>
                  </a:lnTo>
                  <a:lnTo>
                    <a:pt x="1140" y="67"/>
                  </a:lnTo>
                  <a:lnTo>
                    <a:pt x="1139" y="84"/>
                  </a:lnTo>
                  <a:lnTo>
                    <a:pt x="1138" y="101"/>
                  </a:lnTo>
                  <a:lnTo>
                    <a:pt x="1136" y="122"/>
                  </a:lnTo>
                  <a:lnTo>
                    <a:pt x="1132" y="143"/>
                  </a:lnTo>
                  <a:lnTo>
                    <a:pt x="1128" y="164"/>
                  </a:lnTo>
                  <a:lnTo>
                    <a:pt x="1123" y="188"/>
                  </a:lnTo>
                  <a:lnTo>
                    <a:pt x="1117" y="213"/>
                  </a:lnTo>
                  <a:lnTo>
                    <a:pt x="1109" y="239"/>
                  </a:lnTo>
                  <a:lnTo>
                    <a:pt x="1093" y="295"/>
                  </a:lnTo>
                  <a:lnTo>
                    <a:pt x="1073" y="357"/>
                  </a:lnTo>
                  <a:lnTo>
                    <a:pt x="1050" y="421"/>
                  </a:lnTo>
                  <a:lnTo>
                    <a:pt x="1024" y="489"/>
                  </a:lnTo>
                  <a:lnTo>
                    <a:pt x="994" y="560"/>
                  </a:lnTo>
                  <a:lnTo>
                    <a:pt x="961" y="634"/>
                  </a:lnTo>
                  <a:lnTo>
                    <a:pt x="926" y="710"/>
                  </a:lnTo>
                  <a:lnTo>
                    <a:pt x="888" y="787"/>
                  </a:lnTo>
                  <a:lnTo>
                    <a:pt x="847" y="867"/>
                  </a:lnTo>
                  <a:lnTo>
                    <a:pt x="804" y="946"/>
                  </a:lnTo>
                  <a:lnTo>
                    <a:pt x="758" y="1026"/>
                  </a:lnTo>
                  <a:lnTo>
                    <a:pt x="710" y="1107"/>
                  </a:lnTo>
                  <a:lnTo>
                    <a:pt x="685" y="1145"/>
                  </a:lnTo>
                  <a:lnTo>
                    <a:pt x="660" y="1185"/>
                  </a:lnTo>
                  <a:lnTo>
                    <a:pt x="634" y="1225"/>
                  </a:lnTo>
                  <a:lnTo>
                    <a:pt x="608" y="1264"/>
                  </a:lnTo>
                  <a:lnTo>
                    <a:pt x="582" y="1303"/>
                  </a:lnTo>
                  <a:lnTo>
                    <a:pt x="554" y="1340"/>
                  </a:lnTo>
                  <a:lnTo>
                    <a:pt x="526" y="1379"/>
                  </a:lnTo>
                  <a:lnTo>
                    <a:pt x="498" y="1416"/>
                  </a:lnTo>
                  <a:lnTo>
                    <a:pt x="470" y="1452"/>
                  </a:lnTo>
                  <a:lnTo>
                    <a:pt x="440" y="1489"/>
                  </a:lnTo>
                  <a:lnTo>
                    <a:pt x="412" y="1524"/>
                  </a:lnTo>
                  <a:lnTo>
                    <a:pt x="381" y="1558"/>
                  </a:lnTo>
                  <a:lnTo>
                    <a:pt x="351" y="1593"/>
                  </a:lnTo>
                  <a:lnTo>
                    <a:pt x="320" y="1626"/>
                  </a:lnTo>
                  <a:lnTo>
                    <a:pt x="290" y="1658"/>
                  </a:lnTo>
                  <a:lnTo>
                    <a:pt x="259" y="1688"/>
                  </a:lnTo>
                  <a:lnTo>
                    <a:pt x="227" y="1719"/>
                  </a:lnTo>
                  <a:lnTo>
                    <a:pt x="195" y="1748"/>
                  </a:lnTo>
                  <a:lnTo>
                    <a:pt x="163" y="1776"/>
                  </a:lnTo>
                  <a:lnTo>
                    <a:pt x="131" y="1802"/>
                  </a:lnTo>
                  <a:lnTo>
                    <a:pt x="98" y="1828"/>
                  </a:lnTo>
                  <a:lnTo>
                    <a:pt x="66" y="1852"/>
                  </a:lnTo>
                  <a:lnTo>
                    <a:pt x="33" y="1874"/>
                  </a:lnTo>
                  <a:lnTo>
                    <a:pt x="0" y="1896"/>
                  </a:lnTo>
                  <a:lnTo>
                    <a:pt x="81" y="1978"/>
                  </a:lnTo>
                  <a:lnTo>
                    <a:pt x="114" y="1957"/>
                  </a:lnTo>
                  <a:lnTo>
                    <a:pt x="147" y="1934"/>
                  </a:lnTo>
                  <a:lnTo>
                    <a:pt x="180" y="1910"/>
                  </a:lnTo>
                  <a:lnTo>
                    <a:pt x="212" y="1885"/>
                  </a:lnTo>
                  <a:lnTo>
                    <a:pt x="245" y="1857"/>
                  </a:lnTo>
                  <a:lnTo>
                    <a:pt x="277" y="1830"/>
                  </a:lnTo>
                  <a:lnTo>
                    <a:pt x="309" y="1801"/>
                  </a:lnTo>
                  <a:lnTo>
                    <a:pt x="341" y="1771"/>
                  </a:lnTo>
                  <a:lnTo>
                    <a:pt x="372" y="1740"/>
                  </a:lnTo>
                  <a:lnTo>
                    <a:pt x="403" y="1708"/>
                  </a:lnTo>
                  <a:lnTo>
                    <a:pt x="433" y="1675"/>
                  </a:lnTo>
                  <a:lnTo>
                    <a:pt x="463" y="1640"/>
                  </a:lnTo>
                  <a:lnTo>
                    <a:pt x="493" y="1606"/>
                  </a:lnTo>
                  <a:lnTo>
                    <a:pt x="522" y="1571"/>
                  </a:lnTo>
                  <a:lnTo>
                    <a:pt x="551" y="1534"/>
                  </a:lnTo>
                  <a:lnTo>
                    <a:pt x="579" y="1498"/>
                  </a:lnTo>
                  <a:lnTo>
                    <a:pt x="608" y="1460"/>
                  </a:lnTo>
                  <a:lnTo>
                    <a:pt x="635" y="1423"/>
                  </a:lnTo>
                  <a:lnTo>
                    <a:pt x="662" y="1384"/>
                  </a:lnTo>
                  <a:lnTo>
                    <a:pt x="690" y="1345"/>
                  </a:lnTo>
                  <a:lnTo>
                    <a:pt x="716" y="1306"/>
                  </a:lnTo>
                  <a:lnTo>
                    <a:pt x="742" y="1267"/>
                  </a:lnTo>
                  <a:lnTo>
                    <a:pt x="767" y="1227"/>
                  </a:lnTo>
                  <a:lnTo>
                    <a:pt x="792" y="1188"/>
                  </a:lnTo>
                  <a:lnTo>
                    <a:pt x="840" y="1108"/>
                  </a:lnTo>
                  <a:lnTo>
                    <a:pt x="886" y="1028"/>
                  </a:lnTo>
                  <a:lnTo>
                    <a:pt x="929" y="948"/>
                  </a:lnTo>
                  <a:lnTo>
                    <a:pt x="969" y="869"/>
                  </a:lnTo>
                  <a:lnTo>
                    <a:pt x="1008" y="792"/>
                  </a:lnTo>
                  <a:lnTo>
                    <a:pt x="1043" y="715"/>
                  </a:lnTo>
                  <a:lnTo>
                    <a:pt x="1075" y="641"/>
                  </a:lnTo>
                  <a:lnTo>
                    <a:pt x="1106" y="570"/>
                  </a:lnTo>
                  <a:lnTo>
                    <a:pt x="1132" y="502"/>
                  </a:lnTo>
                  <a:lnTo>
                    <a:pt x="1155" y="438"/>
                  </a:lnTo>
                  <a:lnTo>
                    <a:pt x="1175" y="376"/>
                  </a:lnTo>
                  <a:lnTo>
                    <a:pt x="1193" y="320"/>
                  </a:lnTo>
                  <a:lnTo>
                    <a:pt x="1199" y="294"/>
                  </a:lnTo>
                  <a:lnTo>
                    <a:pt x="1205" y="269"/>
                  </a:lnTo>
                  <a:lnTo>
                    <a:pt x="1211" y="245"/>
                  </a:lnTo>
                  <a:lnTo>
                    <a:pt x="1214" y="222"/>
                  </a:lnTo>
                  <a:lnTo>
                    <a:pt x="1218" y="202"/>
                  </a:lnTo>
                  <a:lnTo>
                    <a:pt x="1220" y="182"/>
                  </a:lnTo>
                  <a:lnTo>
                    <a:pt x="1222" y="164"/>
                  </a:lnTo>
                  <a:lnTo>
                    <a:pt x="1222" y="148"/>
                  </a:lnTo>
                  <a:lnTo>
                    <a:pt x="1222" y="133"/>
                  </a:lnTo>
                  <a:lnTo>
                    <a:pt x="1220" y="120"/>
                  </a:lnTo>
                  <a:lnTo>
                    <a:pt x="1218" y="108"/>
                  </a:lnTo>
                  <a:lnTo>
                    <a:pt x="1213" y="97"/>
                  </a:lnTo>
                  <a:lnTo>
                    <a:pt x="1199" y="76"/>
                  </a:lnTo>
                  <a:lnTo>
                    <a:pt x="1132" y="11"/>
                  </a:lnTo>
                  <a:lnTo>
                    <a:pt x="1117" y="2"/>
                  </a:lnTo>
                  <a:lnTo>
                    <a:pt x="1108" y="0"/>
                  </a:lnTo>
                  <a:lnTo>
                    <a:pt x="1188" y="83"/>
                  </a:lnTo>
                  <a:lnTo>
                    <a:pt x="1107" y="1"/>
                  </a:lnTo>
                  <a:lnTo>
                    <a:pt x="1074" y="51"/>
                  </a:lnTo>
                  <a:lnTo>
                    <a:pt x="1188" y="83"/>
                  </a:lnTo>
                  <a:lnTo>
                    <a:pt x="1107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4537080" y="3789360"/>
              <a:ext cx="382680" cy="628560"/>
            </a:xfrm>
            <a:custGeom>
              <a:avLst/>
              <a:gdLst/>
              <a:ahLst/>
              <a:rect l="l" t="t" r="r" b="b"/>
              <a:pathLst>
                <a:path w="1205" h="1978">
                  <a:moveTo>
                    <a:pt x="12" y="1896"/>
                  </a:moveTo>
                  <a:lnTo>
                    <a:pt x="93" y="1978"/>
                  </a:lnTo>
                  <a:lnTo>
                    <a:pt x="98" y="1977"/>
                  </a:lnTo>
                  <a:lnTo>
                    <a:pt x="103" y="1976"/>
                  </a:lnTo>
                  <a:lnTo>
                    <a:pt x="109" y="1974"/>
                  </a:lnTo>
                  <a:lnTo>
                    <a:pt x="115" y="1970"/>
                  </a:lnTo>
                  <a:lnTo>
                    <a:pt x="128" y="1962"/>
                  </a:lnTo>
                  <a:lnTo>
                    <a:pt x="142" y="1952"/>
                  </a:lnTo>
                  <a:lnTo>
                    <a:pt x="156" y="1939"/>
                  </a:lnTo>
                  <a:lnTo>
                    <a:pt x="172" y="1925"/>
                  </a:lnTo>
                  <a:lnTo>
                    <a:pt x="188" y="1907"/>
                  </a:lnTo>
                  <a:lnTo>
                    <a:pt x="205" y="1888"/>
                  </a:lnTo>
                  <a:lnTo>
                    <a:pt x="223" y="1866"/>
                  </a:lnTo>
                  <a:lnTo>
                    <a:pt x="241" y="1844"/>
                  </a:lnTo>
                  <a:lnTo>
                    <a:pt x="261" y="1818"/>
                  </a:lnTo>
                  <a:lnTo>
                    <a:pt x="281" y="1791"/>
                  </a:lnTo>
                  <a:lnTo>
                    <a:pt x="322" y="1732"/>
                  </a:lnTo>
                  <a:lnTo>
                    <a:pt x="367" y="1667"/>
                  </a:lnTo>
                  <a:lnTo>
                    <a:pt x="412" y="1596"/>
                  </a:lnTo>
                  <a:lnTo>
                    <a:pt x="459" y="1521"/>
                  </a:lnTo>
                  <a:lnTo>
                    <a:pt x="507" y="1442"/>
                  </a:lnTo>
                  <a:lnTo>
                    <a:pt x="556" y="1359"/>
                  </a:lnTo>
                  <a:lnTo>
                    <a:pt x="605" y="1274"/>
                  </a:lnTo>
                  <a:lnTo>
                    <a:pt x="655" y="1186"/>
                  </a:lnTo>
                  <a:lnTo>
                    <a:pt x="704" y="1099"/>
                  </a:lnTo>
                  <a:lnTo>
                    <a:pt x="753" y="1010"/>
                  </a:lnTo>
                  <a:lnTo>
                    <a:pt x="801" y="921"/>
                  </a:lnTo>
                  <a:lnTo>
                    <a:pt x="848" y="833"/>
                  </a:lnTo>
                  <a:lnTo>
                    <a:pt x="893" y="746"/>
                  </a:lnTo>
                  <a:lnTo>
                    <a:pt x="937" y="662"/>
                  </a:lnTo>
                  <a:lnTo>
                    <a:pt x="1016" y="503"/>
                  </a:lnTo>
                  <a:lnTo>
                    <a:pt x="1086" y="362"/>
                  </a:lnTo>
                  <a:lnTo>
                    <a:pt x="1116" y="299"/>
                  </a:lnTo>
                  <a:lnTo>
                    <a:pt x="1142" y="243"/>
                  </a:lnTo>
                  <a:lnTo>
                    <a:pt x="1164" y="195"/>
                  </a:lnTo>
                  <a:lnTo>
                    <a:pt x="1181" y="154"/>
                  </a:lnTo>
                  <a:lnTo>
                    <a:pt x="1194" y="121"/>
                  </a:lnTo>
                  <a:lnTo>
                    <a:pt x="1202" y="98"/>
                  </a:lnTo>
                  <a:lnTo>
                    <a:pt x="1203" y="90"/>
                  </a:lnTo>
                  <a:lnTo>
                    <a:pt x="1205" y="84"/>
                  </a:lnTo>
                  <a:lnTo>
                    <a:pt x="1203" y="81"/>
                  </a:lnTo>
                  <a:lnTo>
                    <a:pt x="1140" y="11"/>
                  </a:lnTo>
                  <a:lnTo>
                    <a:pt x="1121" y="0"/>
                  </a:lnTo>
                  <a:lnTo>
                    <a:pt x="1119" y="1"/>
                  </a:lnTo>
                  <a:lnTo>
                    <a:pt x="1200" y="83"/>
                  </a:lnTo>
                  <a:lnTo>
                    <a:pt x="1201" y="82"/>
                  </a:lnTo>
                  <a:lnTo>
                    <a:pt x="1184" y="72"/>
                  </a:lnTo>
                  <a:lnTo>
                    <a:pt x="1121" y="4"/>
                  </a:lnTo>
                  <a:lnTo>
                    <a:pt x="1121" y="4"/>
                  </a:lnTo>
                  <a:lnTo>
                    <a:pt x="1121" y="9"/>
                  </a:lnTo>
                  <a:lnTo>
                    <a:pt x="1119" y="17"/>
                  </a:lnTo>
                  <a:lnTo>
                    <a:pt x="1112" y="40"/>
                  </a:lnTo>
                  <a:lnTo>
                    <a:pt x="1100" y="73"/>
                  </a:lnTo>
                  <a:lnTo>
                    <a:pt x="1081" y="114"/>
                  </a:lnTo>
                  <a:lnTo>
                    <a:pt x="1060" y="162"/>
                  </a:lnTo>
                  <a:lnTo>
                    <a:pt x="1034" y="218"/>
                  </a:lnTo>
                  <a:lnTo>
                    <a:pt x="1004" y="281"/>
                  </a:lnTo>
                  <a:lnTo>
                    <a:pt x="934" y="422"/>
                  </a:lnTo>
                  <a:lnTo>
                    <a:pt x="855" y="581"/>
                  </a:lnTo>
                  <a:lnTo>
                    <a:pt x="811" y="665"/>
                  </a:lnTo>
                  <a:lnTo>
                    <a:pt x="766" y="751"/>
                  </a:lnTo>
                  <a:lnTo>
                    <a:pt x="719" y="840"/>
                  </a:lnTo>
                  <a:lnTo>
                    <a:pt x="671" y="927"/>
                  </a:lnTo>
                  <a:lnTo>
                    <a:pt x="622" y="1016"/>
                  </a:lnTo>
                  <a:lnTo>
                    <a:pt x="573" y="1105"/>
                  </a:lnTo>
                  <a:lnTo>
                    <a:pt x="523" y="1192"/>
                  </a:lnTo>
                  <a:lnTo>
                    <a:pt x="474" y="1278"/>
                  </a:lnTo>
                  <a:lnTo>
                    <a:pt x="425" y="1360"/>
                  </a:lnTo>
                  <a:lnTo>
                    <a:pt x="377" y="1440"/>
                  </a:lnTo>
                  <a:lnTo>
                    <a:pt x="330" y="1515"/>
                  </a:lnTo>
                  <a:lnTo>
                    <a:pt x="285" y="1586"/>
                  </a:lnTo>
                  <a:lnTo>
                    <a:pt x="241" y="1651"/>
                  </a:lnTo>
                  <a:lnTo>
                    <a:pt x="199" y="1710"/>
                  </a:lnTo>
                  <a:lnTo>
                    <a:pt x="180" y="1736"/>
                  </a:lnTo>
                  <a:lnTo>
                    <a:pt x="160" y="1761"/>
                  </a:lnTo>
                  <a:lnTo>
                    <a:pt x="141" y="1785"/>
                  </a:lnTo>
                  <a:lnTo>
                    <a:pt x="124" y="1807"/>
                  </a:lnTo>
                  <a:lnTo>
                    <a:pt x="106" y="1825"/>
                  </a:lnTo>
                  <a:lnTo>
                    <a:pt x="90" y="1842"/>
                  </a:lnTo>
                  <a:lnTo>
                    <a:pt x="75" y="1857"/>
                  </a:lnTo>
                  <a:lnTo>
                    <a:pt x="60" y="1871"/>
                  </a:lnTo>
                  <a:lnTo>
                    <a:pt x="46" y="1881"/>
                  </a:lnTo>
                  <a:lnTo>
                    <a:pt x="34" y="1888"/>
                  </a:lnTo>
                  <a:lnTo>
                    <a:pt x="28" y="1891"/>
                  </a:lnTo>
                  <a:lnTo>
                    <a:pt x="22" y="1894"/>
                  </a:lnTo>
                  <a:lnTo>
                    <a:pt x="17" y="1895"/>
                  </a:lnTo>
                  <a:lnTo>
                    <a:pt x="12" y="1896"/>
                  </a:lnTo>
                  <a:lnTo>
                    <a:pt x="93" y="1978"/>
                  </a:lnTo>
                  <a:lnTo>
                    <a:pt x="12" y="1896"/>
                  </a:lnTo>
                  <a:lnTo>
                    <a:pt x="0" y="1955"/>
                  </a:lnTo>
                  <a:lnTo>
                    <a:pt x="93" y="1978"/>
                  </a:lnTo>
                  <a:lnTo>
                    <a:pt x="12" y="189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5589720" y="3836880"/>
              <a:ext cx="282600" cy="644760"/>
            </a:xfrm>
            <a:custGeom>
              <a:avLst/>
              <a:gdLst/>
              <a:ahLst/>
              <a:rect l="l" t="t" r="r" b="b"/>
              <a:pathLst>
                <a:path w="889" h="2028">
                  <a:moveTo>
                    <a:pt x="0" y="2028"/>
                  </a:moveTo>
                  <a:lnTo>
                    <a:pt x="60" y="1975"/>
                  </a:lnTo>
                  <a:lnTo>
                    <a:pt x="118" y="1918"/>
                  </a:lnTo>
                  <a:lnTo>
                    <a:pt x="174" y="1855"/>
                  </a:lnTo>
                  <a:lnTo>
                    <a:pt x="229" y="1788"/>
                  </a:lnTo>
                  <a:lnTo>
                    <a:pt x="282" y="1717"/>
                  </a:lnTo>
                  <a:lnTo>
                    <a:pt x="334" y="1642"/>
                  </a:lnTo>
                  <a:lnTo>
                    <a:pt x="383" y="1566"/>
                  </a:lnTo>
                  <a:lnTo>
                    <a:pt x="429" y="1484"/>
                  </a:lnTo>
                  <a:lnTo>
                    <a:pt x="475" y="1403"/>
                  </a:lnTo>
                  <a:lnTo>
                    <a:pt x="518" y="1319"/>
                  </a:lnTo>
                  <a:lnTo>
                    <a:pt x="559" y="1235"/>
                  </a:lnTo>
                  <a:lnTo>
                    <a:pt x="598" y="1149"/>
                  </a:lnTo>
                  <a:lnTo>
                    <a:pt x="635" y="1064"/>
                  </a:lnTo>
                  <a:lnTo>
                    <a:pt x="670" y="978"/>
                  </a:lnTo>
                  <a:lnTo>
                    <a:pt x="702" y="894"/>
                  </a:lnTo>
                  <a:lnTo>
                    <a:pt x="731" y="809"/>
                  </a:lnTo>
                  <a:lnTo>
                    <a:pt x="759" y="727"/>
                  </a:lnTo>
                  <a:lnTo>
                    <a:pt x="784" y="647"/>
                  </a:lnTo>
                  <a:lnTo>
                    <a:pt x="807" y="570"/>
                  </a:lnTo>
                  <a:lnTo>
                    <a:pt x="826" y="495"/>
                  </a:lnTo>
                  <a:lnTo>
                    <a:pt x="843" y="425"/>
                  </a:lnTo>
                  <a:lnTo>
                    <a:pt x="858" y="357"/>
                  </a:lnTo>
                  <a:lnTo>
                    <a:pt x="869" y="295"/>
                  </a:lnTo>
                  <a:lnTo>
                    <a:pt x="878" y="236"/>
                  </a:lnTo>
                  <a:lnTo>
                    <a:pt x="884" y="183"/>
                  </a:lnTo>
                  <a:lnTo>
                    <a:pt x="888" y="136"/>
                  </a:lnTo>
                  <a:lnTo>
                    <a:pt x="889" y="95"/>
                  </a:lnTo>
                  <a:lnTo>
                    <a:pt x="885" y="61"/>
                  </a:lnTo>
                  <a:lnTo>
                    <a:pt x="880" y="34"/>
                  </a:lnTo>
                  <a:lnTo>
                    <a:pt x="872" y="14"/>
                  </a:lnTo>
                  <a:lnTo>
                    <a:pt x="859" y="2"/>
                  </a:lnTo>
                  <a:lnTo>
                    <a:pt x="844" y="0"/>
                  </a:lnTo>
                  <a:lnTo>
                    <a:pt x="848" y="2"/>
                  </a:lnTo>
                  <a:lnTo>
                    <a:pt x="848" y="16"/>
                  </a:lnTo>
                  <a:lnTo>
                    <a:pt x="843" y="40"/>
                  </a:lnTo>
                  <a:lnTo>
                    <a:pt x="834" y="73"/>
                  </a:lnTo>
                  <a:lnTo>
                    <a:pt x="823" y="117"/>
                  </a:lnTo>
                  <a:lnTo>
                    <a:pt x="808" y="168"/>
                  </a:lnTo>
                  <a:lnTo>
                    <a:pt x="790" y="227"/>
                  </a:lnTo>
                  <a:lnTo>
                    <a:pt x="768" y="293"/>
                  </a:lnTo>
                  <a:lnTo>
                    <a:pt x="719" y="443"/>
                  </a:lnTo>
                  <a:lnTo>
                    <a:pt x="660" y="611"/>
                  </a:lnTo>
                  <a:lnTo>
                    <a:pt x="628" y="700"/>
                  </a:lnTo>
                  <a:lnTo>
                    <a:pt x="595" y="792"/>
                  </a:lnTo>
                  <a:lnTo>
                    <a:pt x="560" y="886"/>
                  </a:lnTo>
                  <a:lnTo>
                    <a:pt x="524" y="979"/>
                  </a:lnTo>
                  <a:lnTo>
                    <a:pt x="487" y="1074"/>
                  </a:lnTo>
                  <a:lnTo>
                    <a:pt x="451" y="1168"/>
                  </a:lnTo>
                  <a:lnTo>
                    <a:pt x="413" y="1262"/>
                  </a:lnTo>
                  <a:lnTo>
                    <a:pt x="376" y="1353"/>
                  </a:lnTo>
                  <a:lnTo>
                    <a:pt x="338" y="1441"/>
                  </a:lnTo>
                  <a:lnTo>
                    <a:pt x="302" y="1527"/>
                  </a:lnTo>
                  <a:lnTo>
                    <a:pt x="265" y="1608"/>
                  </a:lnTo>
                  <a:lnTo>
                    <a:pt x="229" y="1683"/>
                  </a:lnTo>
                  <a:lnTo>
                    <a:pt x="194" y="1754"/>
                  </a:lnTo>
                  <a:lnTo>
                    <a:pt x="161" y="1818"/>
                  </a:lnTo>
                  <a:lnTo>
                    <a:pt x="130" y="1875"/>
                  </a:lnTo>
                  <a:lnTo>
                    <a:pt x="99" y="1924"/>
                  </a:lnTo>
                  <a:lnTo>
                    <a:pt x="70" y="1965"/>
                  </a:lnTo>
                  <a:lnTo>
                    <a:pt x="45" y="1996"/>
                  </a:lnTo>
                  <a:lnTo>
                    <a:pt x="21" y="2017"/>
                  </a:lnTo>
                  <a:lnTo>
                    <a:pt x="0" y="20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5576760" y="3824280"/>
              <a:ext cx="308160" cy="669960"/>
            </a:xfrm>
            <a:custGeom>
              <a:avLst/>
              <a:gdLst/>
              <a:ahLst/>
              <a:rect l="l" t="t" r="r" b="b"/>
              <a:pathLst>
                <a:path w="970" h="2110">
                  <a:moveTo>
                    <a:pt x="843" y="0"/>
                  </a:moveTo>
                  <a:lnTo>
                    <a:pt x="924" y="82"/>
                  </a:lnTo>
                  <a:lnTo>
                    <a:pt x="931" y="82"/>
                  </a:lnTo>
                  <a:lnTo>
                    <a:pt x="936" y="83"/>
                  </a:lnTo>
                  <a:lnTo>
                    <a:pt x="907" y="59"/>
                  </a:lnTo>
                  <a:lnTo>
                    <a:pt x="874" y="23"/>
                  </a:lnTo>
                  <a:lnTo>
                    <a:pt x="875" y="26"/>
                  </a:lnTo>
                  <a:lnTo>
                    <a:pt x="879" y="37"/>
                  </a:lnTo>
                  <a:lnTo>
                    <a:pt x="882" y="48"/>
                  </a:lnTo>
                  <a:lnTo>
                    <a:pt x="884" y="63"/>
                  </a:lnTo>
                  <a:lnTo>
                    <a:pt x="887" y="79"/>
                  </a:lnTo>
                  <a:lnTo>
                    <a:pt x="888" y="96"/>
                  </a:lnTo>
                  <a:lnTo>
                    <a:pt x="888" y="115"/>
                  </a:lnTo>
                  <a:lnTo>
                    <a:pt x="887" y="137"/>
                  </a:lnTo>
                  <a:lnTo>
                    <a:pt x="885" y="160"/>
                  </a:lnTo>
                  <a:lnTo>
                    <a:pt x="883" y="184"/>
                  </a:lnTo>
                  <a:lnTo>
                    <a:pt x="881" y="210"/>
                  </a:lnTo>
                  <a:lnTo>
                    <a:pt x="877" y="236"/>
                  </a:lnTo>
                  <a:lnTo>
                    <a:pt x="868" y="294"/>
                  </a:lnTo>
                  <a:lnTo>
                    <a:pt x="857" y="357"/>
                  </a:lnTo>
                  <a:lnTo>
                    <a:pt x="842" y="425"/>
                  </a:lnTo>
                  <a:lnTo>
                    <a:pt x="825" y="495"/>
                  </a:lnTo>
                  <a:lnTo>
                    <a:pt x="804" y="571"/>
                  </a:lnTo>
                  <a:lnTo>
                    <a:pt x="783" y="648"/>
                  </a:lnTo>
                  <a:lnTo>
                    <a:pt x="758" y="728"/>
                  </a:lnTo>
                  <a:lnTo>
                    <a:pt x="730" y="810"/>
                  </a:lnTo>
                  <a:lnTo>
                    <a:pt x="701" y="893"/>
                  </a:lnTo>
                  <a:lnTo>
                    <a:pt x="669" y="978"/>
                  </a:lnTo>
                  <a:lnTo>
                    <a:pt x="633" y="1063"/>
                  </a:lnTo>
                  <a:lnTo>
                    <a:pt x="597" y="1149"/>
                  </a:lnTo>
                  <a:lnTo>
                    <a:pt x="558" y="1235"/>
                  </a:lnTo>
                  <a:lnTo>
                    <a:pt x="517" y="1320"/>
                  </a:lnTo>
                  <a:lnTo>
                    <a:pt x="496" y="1361"/>
                  </a:lnTo>
                  <a:lnTo>
                    <a:pt x="474" y="1403"/>
                  </a:lnTo>
                  <a:lnTo>
                    <a:pt x="451" y="1444"/>
                  </a:lnTo>
                  <a:lnTo>
                    <a:pt x="428" y="1486"/>
                  </a:lnTo>
                  <a:lnTo>
                    <a:pt x="405" y="1525"/>
                  </a:lnTo>
                  <a:lnTo>
                    <a:pt x="382" y="1565"/>
                  </a:lnTo>
                  <a:lnTo>
                    <a:pt x="358" y="1604"/>
                  </a:lnTo>
                  <a:lnTo>
                    <a:pt x="333" y="1643"/>
                  </a:lnTo>
                  <a:lnTo>
                    <a:pt x="306" y="1681"/>
                  </a:lnTo>
                  <a:lnTo>
                    <a:pt x="281" y="1717"/>
                  </a:lnTo>
                  <a:lnTo>
                    <a:pt x="255" y="1753"/>
                  </a:lnTo>
                  <a:lnTo>
                    <a:pt x="229" y="1788"/>
                  </a:lnTo>
                  <a:lnTo>
                    <a:pt x="201" y="1822"/>
                  </a:lnTo>
                  <a:lnTo>
                    <a:pt x="174" y="1855"/>
                  </a:lnTo>
                  <a:lnTo>
                    <a:pt x="146" y="1887"/>
                  </a:lnTo>
                  <a:lnTo>
                    <a:pt x="117" y="1918"/>
                  </a:lnTo>
                  <a:lnTo>
                    <a:pt x="89" y="1948"/>
                  </a:lnTo>
                  <a:lnTo>
                    <a:pt x="59" y="1975"/>
                  </a:lnTo>
                  <a:lnTo>
                    <a:pt x="29" y="2002"/>
                  </a:lnTo>
                  <a:lnTo>
                    <a:pt x="0" y="2027"/>
                  </a:lnTo>
                  <a:lnTo>
                    <a:pt x="81" y="2110"/>
                  </a:lnTo>
                  <a:lnTo>
                    <a:pt x="110" y="2085"/>
                  </a:lnTo>
                  <a:lnTo>
                    <a:pt x="141" y="2057"/>
                  </a:lnTo>
                  <a:lnTo>
                    <a:pt x="170" y="2029"/>
                  </a:lnTo>
                  <a:lnTo>
                    <a:pt x="199" y="1999"/>
                  </a:lnTo>
                  <a:lnTo>
                    <a:pt x="228" y="1968"/>
                  </a:lnTo>
                  <a:lnTo>
                    <a:pt x="255" y="1936"/>
                  </a:lnTo>
                  <a:lnTo>
                    <a:pt x="282" y="1903"/>
                  </a:lnTo>
                  <a:lnTo>
                    <a:pt x="310" y="1869"/>
                  </a:lnTo>
                  <a:lnTo>
                    <a:pt x="337" y="1835"/>
                  </a:lnTo>
                  <a:lnTo>
                    <a:pt x="363" y="1798"/>
                  </a:lnTo>
                  <a:lnTo>
                    <a:pt x="388" y="1762"/>
                  </a:lnTo>
                  <a:lnTo>
                    <a:pt x="413" y="1724"/>
                  </a:lnTo>
                  <a:lnTo>
                    <a:pt x="439" y="1685"/>
                  </a:lnTo>
                  <a:lnTo>
                    <a:pt x="464" y="1646"/>
                  </a:lnTo>
                  <a:lnTo>
                    <a:pt x="488" y="1607"/>
                  </a:lnTo>
                  <a:lnTo>
                    <a:pt x="510" y="1567"/>
                  </a:lnTo>
                  <a:lnTo>
                    <a:pt x="533" y="1525"/>
                  </a:lnTo>
                  <a:lnTo>
                    <a:pt x="556" y="1484"/>
                  </a:lnTo>
                  <a:lnTo>
                    <a:pt x="578" y="1443"/>
                  </a:lnTo>
                  <a:lnTo>
                    <a:pt x="599" y="1401"/>
                  </a:lnTo>
                  <a:lnTo>
                    <a:pt x="640" y="1317"/>
                  </a:lnTo>
                  <a:lnTo>
                    <a:pt x="679" y="1231"/>
                  </a:lnTo>
                  <a:lnTo>
                    <a:pt x="716" y="1144"/>
                  </a:lnTo>
                  <a:lnTo>
                    <a:pt x="751" y="1059"/>
                  </a:lnTo>
                  <a:lnTo>
                    <a:pt x="783" y="974"/>
                  </a:lnTo>
                  <a:lnTo>
                    <a:pt x="812" y="891"/>
                  </a:lnTo>
                  <a:lnTo>
                    <a:pt x="840" y="809"/>
                  </a:lnTo>
                  <a:lnTo>
                    <a:pt x="865" y="729"/>
                  </a:lnTo>
                  <a:lnTo>
                    <a:pt x="888" y="652"/>
                  </a:lnTo>
                  <a:lnTo>
                    <a:pt x="907" y="576"/>
                  </a:lnTo>
                  <a:lnTo>
                    <a:pt x="924" y="506"/>
                  </a:lnTo>
                  <a:lnTo>
                    <a:pt x="939" y="438"/>
                  </a:lnTo>
                  <a:lnTo>
                    <a:pt x="950" y="375"/>
                  </a:lnTo>
                  <a:lnTo>
                    <a:pt x="960" y="317"/>
                  </a:lnTo>
                  <a:lnTo>
                    <a:pt x="963" y="290"/>
                  </a:lnTo>
                  <a:lnTo>
                    <a:pt x="965" y="265"/>
                  </a:lnTo>
                  <a:lnTo>
                    <a:pt x="968" y="240"/>
                  </a:lnTo>
                  <a:lnTo>
                    <a:pt x="969" y="217"/>
                  </a:lnTo>
                  <a:lnTo>
                    <a:pt x="970" y="196"/>
                  </a:lnTo>
                  <a:lnTo>
                    <a:pt x="970" y="176"/>
                  </a:lnTo>
                  <a:lnTo>
                    <a:pt x="969" y="159"/>
                  </a:lnTo>
                  <a:lnTo>
                    <a:pt x="966" y="142"/>
                  </a:lnTo>
                  <a:lnTo>
                    <a:pt x="964" y="127"/>
                  </a:lnTo>
                  <a:lnTo>
                    <a:pt x="961" y="114"/>
                  </a:lnTo>
                  <a:lnTo>
                    <a:pt x="956" y="102"/>
                  </a:lnTo>
                  <a:lnTo>
                    <a:pt x="949" y="88"/>
                  </a:lnTo>
                  <a:lnTo>
                    <a:pt x="905" y="38"/>
                  </a:lnTo>
                  <a:lnTo>
                    <a:pt x="864" y="5"/>
                  </a:lnTo>
                  <a:lnTo>
                    <a:pt x="852" y="0"/>
                  </a:lnTo>
                  <a:lnTo>
                    <a:pt x="844" y="0"/>
                  </a:lnTo>
                  <a:lnTo>
                    <a:pt x="925" y="82"/>
                  </a:lnTo>
                  <a:lnTo>
                    <a:pt x="843" y="0"/>
                  </a:lnTo>
                  <a:lnTo>
                    <a:pt x="828" y="62"/>
                  </a:lnTo>
                  <a:lnTo>
                    <a:pt x="924" y="82"/>
                  </a:lnTo>
                  <a:lnTo>
                    <a:pt x="843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5576760" y="3824280"/>
              <a:ext cx="295560" cy="669960"/>
            </a:xfrm>
            <a:custGeom>
              <a:avLst/>
              <a:gdLst/>
              <a:ahLst/>
              <a:rect l="l" t="t" r="r" b="b"/>
              <a:pathLst>
                <a:path w="931" h="2112">
                  <a:moveTo>
                    <a:pt x="1" y="2028"/>
                  </a:moveTo>
                  <a:lnTo>
                    <a:pt x="82" y="2111"/>
                  </a:lnTo>
                  <a:lnTo>
                    <a:pt x="92" y="2107"/>
                  </a:lnTo>
                  <a:lnTo>
                    <a:pt x="102" y="2100"/>
                  </a:lnTo>
                  <a:lnTo>
                    <a:pt x="115" y="2091"/>
                  </a:lnTo>
                  <a:lnTo>
                    <a:pt x="126" y="2079"/>
                  </a:lnTo>
                  <a:lnTo>
                    <a:pt x="140" y="2064"/>
                  </a:lnTo>
                  <a:lnTo>
                    <a:pt x="152" y="2048"/>
                  </a:lnTo>
                  <a:lnTo>
                    <a:pt x="166" y="2028"/>
                  </a:lnTo>
                  <a:lnTo>
                    <a:pt x="181" y="2007"/>
                  </a:lnTo>
                  <a:lnTo>
                    <a:pt x="196" y="1983"/>
                  </a:lnTo>
                  <a:lnTo>
                    <a:pt x="212" y="1958"/>
                  </a:lnTo>
                  <a:lnTo>
                    <a:pt x="226" y="1930"/>
                  </a:lnTo>
                  <a:lnTo>
                    <a:pt x="243" y="1901"/>
                  </a:lnTo>
                  <a:lnTo>
                    <a:pt x="277" y="1837"/>
                  </a:lnTo>
                  <a:lnTo>
                    <a:pt x="311" y="1766"/>
                  </a:lnTo>
                  <a:lnTo>
                    <a:pt x="347" y="1690"/>
                  </a:lnTo>
                  <a:lnTo>
                    <a:pt x="384" y="1609"/>
                  </a:lnTo>
                  <a:lnTo>
                    <a:pt x="420" y="1524"/>
                  </a:lnTo>
                  <a:lnTo>
                    <a:pt x="458" y="1435"/>
                  </a:lnTo>
                  <a:lnTo>
                    <a:pt x="495" y="1344"/>
                  </a:lnTo>
                  <a:lnTo>
                    <a:pt x="533" y="1252"/>
                  </a:lnTo>
                  <a:lnTo>
                    <a:pt x="570" y="1157"/>
                  </a:lnTo>
                  <a:lnTo>
                    <a:pt x="606" y="1062"/>
                  </a:lnTo>
                  <a:lnTo>
                    <a:pt x="642" y="967"/>
                  </a:lnTo>
                  <a:lnTo>
                    <a:pt x="677" y="874"/>
                  </a:lnTo>
                  <a:lnTo>
                    <a:pt x="710" y="783"/>
                  </a:lnTo>
                  <a:lnTo>
                    <a:pt x="742" y="694"/>
                  </a:lnTo>
                  <a:lnTo>
                    <a:pt x="801" y="525"/>
                  </a:lnTo>
                  <a:lnTo>
                    <a:pt x="850" y="375"/>
                  </a:lnTo>
                  <a:lnTo>
                    <a:pt x="872" y="309"/>
                  </a:lnTo>
                  <a:lnTo>
                    <a:pt x="890" y="251"/>
                  </a:lnTo>
                  <a:lnTo>
                    <a:pt x="905" y="200"/>
                  </a:lnTo>
                  <a:lnTo>
                    <a:pt x="917" y="156"/>
                  </a:lnTo>
                  <a:lnTo>
                    <a:pt x="925" y="122"/>
                  </a:lnTo>
                  <a:lnTo>
                    <a:pt x="930" y="98"/>
                  </a:lnTo>
                  <a:lnTo>
                    <a:pt x="931" y="90"/>
                  </a:lnTo>
                  <a:lnTo>
                    <a:pt x="930" y="84"/>
                  </a:lnTo>
                  <a:lnTo>
                    <a:pt x="929" y="80"/>
                  </a:lnTo>
                  <a:lnTo>
                    <a:pt x="856" y="5"/>
                  </a:lnTo>
                  <a:lnTo>
                    <a:pt x="847" y="0"/>
                  </a:lnTo>
                  <a:lnTo>
                    <a:pt x="844" y="1"/>
                  </a:lnTo>
                  <a:lnTo>
                    <a:pt x="926" y="83"/>
                  </a:lnTo>
                  <a:lnTo>
                    <a:pt x="926" y="82"/>
                  </a:lnTo>
                  <a:lnTo>
                    <a:pt x="919" y="79"/>
                  </a:lnTo>
                  <a:lnTo>
                    <a:pt x="849" y="6"/>
                  </a:lnTo>
                  <a:lnTo>
                    <a:pt x="848" y="5"/>
                  </a:lnTo>
                  <a:lnTo>
                    <a:pt x="848" y="9"/>
                  </a:lnTo>
                  <a:lnTo>
                    <a:pt x="848" y="17"/>
                  </a:lnTo>
                  <a:lnTo>
                    <a:pt x="843" y="41"/>
                  </a:lnTo>
                  <a:lnTo>
                    <a:pt x="834" y="75"/>
                  </a:lnTo>
                  <a:lnTo>
                    <a:pt x="823" y="119"/>
                  </a:lnTo>
                  <a:lnTo>
                    <a:pt x="808" y="170"/>
                  </a:lnTo>
                  <a:lnTo>
                    <a:pt x="790" y="228"/>
                  </a:lnTo>
                  <a:lnTo>
                    <a:pt x="768" y="294"/>
                  </a:lnTo>
                  <a:lnTo>
                    <a:pt x="719" y="444"/>
                  </a:lnTo>
                  <a:lnTo>
                    <a:pt x="660" y="613"/>
                  </a:lnTo>
                  <a:lnTo>
                    <a:pt x="628" y="702"/>
                  </a:lnTo>
                  <a:lnTo>
                    <a:pt x="595" y="793"/>
                  </a:lnTo>
                  <a:lnTo>
                    <a:pt x="560" y="886"/>
                  </a:lnTo>
                  <a:lnTo>
                    <a:pt x="524" y="981"/>
                  </a:lnTo>
                  <a:lnTo>
                    <a:pt x="487" y="1076"/>
                  </a:lnTo>
                  <a:lnTo>
                    <a:pt x="451" y="1171"/>
                  </a:lnTo>
                  <a:lnTo>
                    <a:pt x="413" y="1263"/>
                  </a:lnTo>
                  <a:lnTo>
                    <a:pt x="376" y="1354"/>
                  </a:lnTo>
                  <a:lnTo>
                    <a:pt x="338" y="1443"/>
                  </a:lnTo>
                  <a:lnTo>
                    <a:pt x="302" y="1528"/>
                  </a:lnTo>
                  <a:lnTo>
                    <a:pt x="265" y="1609"/>
                  </a:lnTo>
                  <a:lnTo>
                    <a:pt x="230" y="1685"/>
                  </a:lnTo>
                  <a:lnTo>
                    <a:pt x="194" y="1755"/>
                  </a:lnTo>
                  <a:lnTo>
                    <a:pt x="161" y="1820"/>
                  </a:lnTo>
                  <a:lnTo>
                    <a:pt x="145" y="1848"/>
                  </a:lnTo>
                  <a:lnTo>
                    <a:pt x="129" y="1876"/>
                  </a:lnTo>
                  <a:lnTo>
                    <a:pt x="114" y="1902"/>
                  </a:lnTo>
                  <a:lnTo>
                    <a:pt x="99" y="1926"/>
                  </a:lnTo>
                  <a:lnTo>
                    <a:pt x="85" y="1946"/>
                  </a:lnTo>
                  <a:lnTo>
                    <a:pt x="71" y="1966"/>
                  </a:lnTo>
                  <a:lnTo>
                    <a:pt x="58" y="1983"/>
                  </a:lnTo>
                  <a:lnTo>
                    <a:pt x="45" y="1997"/>
                  </a:lnTo>
                  <a:lnTo>
                    <a:pt x="33" y="2009"/>
                  </a:lnTo>
                  <a:lnTo>
                    <a:pt x="21" y="2018"/>
                  </a:lnTo>
                  <a:lnTo>
                    <a:pt x="11" y="2025"/>
                  </a:lnTo>
                  <a:lnTo>
                    <a:pt x="1" y="2028"/>
                  </a:lnTo>
                  <a:lnTo>
                    <a:pt x="82" y="2111"/>
                  </a:lnTo>
                  <a:lnTo>
                    <a:pt x="1" y="2028"/>
                  </a:lnTo>
                  <a:lnTo>
                    <a:pt x="0" y="2112"/>
                  </a:lnTo>
                  <a:lnTo>
                    <a:pt x="82" y="2111"/>
                  </a:lnTo>
                  <a:lnTo>
                    <a:pt x="1" y="202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5911920" y="3789360"/>
              <a:ext cx="274680" cy="736560"/>
            </a:xfrm>
            <a:custGeom>
              <a:avLst/>
              <a:gdLst/>
              <a:ahLst/>
              <a:rect l="l" t="t" r="r" b="b"/>
              <a:pathLst>
                <a:path w="863" h="2322">
                  <a:moveTo>
                    <a:pt x="0" y="2322"/>
                  </a:moveTo>
                  <a:lnTo>
                    <a:pt x="64" y="2260"/>
                  </a:lnTo>
                  <a:lnTo>
                    <a:pt x="125" y="2191"/>
                  </a:lnTo>
                  <a:lnTo>
                    <a:pt x="184" y="2117"/>
                  </a:lnTo>
                  <a:lnTo>
                    <a:pt x="241" y="2038"/>
                  </a:lnTo>
                  <a:lnTo>
                    <a:pt x="296" y="1955"/>
                  </a:lnTo>
                  <a:lnTo>
                    <a:pt x="347" y="1868"/>
                  </a:lnTo>
                  <a:lnTo>
                    <a:pt x="397" y="1778"/>
                  </a:lnTo>
                  <a:lnTo>
                    <a:pt x="444" y="1686"/>
                  </a:lnTo>
                  <a:lnTo>
                    <a:pt x="489" y="1591"/>
                  </a:lnTo>
                  <a:lnTo>
                    <a:pt x="532" y="1495"/>
                  </a:lnTo>
                  <a:lnTo>
                    <a:pt x="571" y="1397"/>
                  </a:lnTo>
                  <a:lnTo>
                    <a:pt x="610" y="1299"/>
                  </a:lnTo>
                  <a:lnTo>
                    <a:pt x="644" y="1201"/>
                  </a:lnTo>
                  <a:lnTo>
                    <a:pt x="677" y="1103"/>
                  </a:lnTo>
                  <a:lnTo>
                    <a:pt x="707" y="1006"/>
                  </a:lnTo>
                  <a:lnTo>
                    <a:pt x="736" y="911"/>
                  </a:lnTo>
                  <a:lnTo>
                    <a:pt x="760" y="818"/>
                  </a:lnTo>
                  <a:lnTo>
                    <a:pt x="782" y="726"/>
                  </a:lnTo>
                  <a:lnTo>
                    <a:pt x="802" y="639"/>
                  </a:lnTo>
                  <a:lnTo>
                    <a:pt x="819" y="554"/>
                  </a:lnTo>
                  <a:lnTo>
                    <a:pt x="834" y="473"/>
                  </a:lnTo>
                  <a:lnTo>
                    <a:pt x="845" y="398"/>
                  </a:lnTo>
                  <a:lnTo>
                    <a:pt x="853" y="326"/>
                  </a:lnTo>
                  <a:lnTo>
                    <a:pt x="860" y="261"/>
                  </a:lnTo>
                  <a:lnTo>
                    <a:pt x="862" y="202"/>
                  </a:lnTo>
                  <a:lnTo>
                    <a:pt x="863" y="149"/>
                  </a:lnTo>
                  <a:lnTo>
                    <a:pt x="861" y="103"/>
                  </a:lnTo>
                  <a:lnTo>
                    <a:pt x="855" y="66"/>
                  </a:lnTo>
                  <a:lnTo>
                    <a:pt x="846" y="36"/>
                  </a:lnTo>
                  <a:lnTo>
                    <a:pt x="836" y="14"/>
                  </a:lnTo>
                  <a:lnTo>
                    <a:pt x="821" y="3"/>
                  </a:lnTo>
                  <a:lnTo>
                    <a:pt x="804" y="0"/>
                  </a:lnTo>
                  <a:lnTo>
                    <a:pt x="809" y="2"/>
                  </a:lnTo>
                  <a:lnTo>
                    <a:pt x="809" y="18"/>
                  </a:lnTo>
                  <a:lnTo>
                    <a:pt x="805" y="45"/>
                  </a:lnTo>
                  <a:lnTo>
                    <a:pt x="798" y="83"/>
                  </a:lnTo>
                  <a:lnTo>
                    <a:pt x="788" y="132"/>
                  </a:lnTo>
                  <a:lnTo>
                    <a:pt x="774" y="190"/>
                  </a:lnTo>
                  <a:lnTo>
                    <a:pt x="758" y="257"/>
                  </a:lnTo>
                  <a:lnTo>
                    <a:pt x="739" y="333"/>
                  </a:lnTo>
                  <a:lnTo>
                    <a:pt x="717" y="415"/>
                  </a:lnTo>
                  <a:lnTo>
                    <a:pt x="695" y="503"/>
                  </a:lnTo>
                  <a:lnTo>
                    <a:pt x="668" y="596"/>
                  </a:lnTo>
                  <a:lnTo>
                    <a:pt x="640" y="694"/>
                  </a:lnTo>
                  <a:lnTo>
                    <a:pt x="611" y="797"/>
                  </a:lnTo>
                  <a:lnTo>
                    <a:pt x="579" y="901"/>
                  </a:lnTo>
                  <a:lnTo>
                    <a:pt x="547" y="1008"/>
                  </a:lnTo>
                  <a:lnTo>
                    <a:pt x="514" y="1117"/>
                  </a:lnTo>
                  <a:lnTo>
                    <a:pt x="480" y="1225"/>
                  </a:lnTo>
                  <a:lnTo>
                    <a:pt x="445" y="1332"/>
                  </a:lnTo>
                  <a:lnTo>
                    <a:pt x="410" y="1439"/>
                  </a:lnTo>
                  <a:lnTo>
                    <a:pt x="374" y="1543"/>
                  </a:lnTo>
                  <a:lnTo>
                    <a:pt x="339" y="1645"/>
                  </a:lnTo>
                  <a:lnTo>
                    <a:pt x="304" y="1743"/>
                  </a:lnTo>
                  <a:lnTo>
                    <a:pt x="268" y="1835"/>
                  </a:lnTo>
                  <a:lnTo>
                    <a:pt x="233" y="1923"/>
                  </a:lnTo>
                  <a:lnTo>
                    <a:pt x="200" y="2004"/>
                  </a:lnTo>
                  <a:lnTo>
                    <a:pt x="167" y="2077"/>
                  </a:lnTo>
                  <a:lnTo>
                    <a:pt x="135" y="2143"/>
                  </a:lnTo>
                  <a:lnTo>
                    <a:pt x="104" y="2200"/>
                  </a:lnTo>
                  <a:lnTo>
                    <a:pt x="76" y="2247"/>
                  </a:lnTo>
                  <a:lnTo>
                    <a:pt x="48" y="2285"/>
                  </a:lnTo>
                  <a:lnTo>
                    <a:pt x="23" y="2310"/>
                  </a:lnTo>
                  <a:lnTo>
                    <a:pt x="0" y="23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5899320" y="3776760"/>
              <a:ext cx="299880" cy="763560"/>
            </a:xfrm>
            <a:custGeom>
              <a:avLst/>
              <a:gdLst/>
              <a:ahLst/>
              <a:rect l="l" t="t" r="r" b="b"/>
              <a:pathLst>
                <a:path w="945" h="2405">
                  <a:moveTo>
                    <a:pt x="804" y="1"/>
                  </a:moveTo>
                  <a:lnTo>
                    <a:pt x="885" y="82"/>
                  </a:lnTo>
                  <a:lnTo>
                    <a:pt x="889" y="82"/>
                  </a:lnTo>
                  <a:lnTo>
                    <a:pt x="893" y="82"/>
                  </a:lnTo>
                  <a:lnTo>
                    <a:pt x="897" y="83"/>
                  </a:lnTo>
                  <a:lnTo>
                    <a:pt x="899" y="83"/>
                  </a:lnTo>
                  <a:lnTo>
                    <a:pt x="889" y="76"/>
                  </a:lnTo>
                  <a:lnTo>
                    <a:pt x="843" y="28"/>
                  </a:lnTo>
                  <a:lnTo>
                    <a:pt x="843" y="29"/>
                  </a:lnTo>
                  <a:lnTo>
                    <a:pt x="847" y="38"/>
                  </a:lnTo>
                  <a:lnTo>
                    <a:pt x="851" y="52"/>
                  </a:lnTo>
                  <a:lnTo>
                    <a:pt x="855" y="67"/>
                  </a:lnTo>
                  <a:lnTo>
                    <a:pt x="858" y="85"/>
                  </a:lnTo>
                  <a:lnTo>
                    <a:pt x="860" y="104"/>
                  </a:lnTo>
                  <a:lnTo>
                    <a:pt x="862" y="126"/>
                  </a:lnTo>
                  <a:lnTo>
                    <a:pt x="863" y="150"/>
                  </a:lnTo>
                  <a:lnTo>
                    <a:pt x="863" y="175"/>
                  </a:lnTo>
                  <a:lnTo>
                    <a:pt x="862" y="203"/>
                  </a:lnTo>
                  <a:lnTo>
                    <a:pt x="861" y="231"/>
                  </a:lnTo>
                  <a:lnTo>
                    <a:pt x="860" y="262"/>
                  </a:lnTo>
                  <a:lnTo>
                    <a:pt x="853" y="327"/>
                  </a:lnTo>
                  <a:lnTo>
                    <a:pt x="845" y="398"/>
                  </a:lnTo>
                  <a:lnTo>
                    <a:pt x="832" y="474"/>
                  </a:lnTo>
                  <a:lnTo>
                    <a:pt x="819" y="554"/>
                  </a:lnTo>
                  <a:lnTo>
                    <a:pt x="802" y="638"/>
                  </a:lnTo>
                  <a:lnTo>
                    <a:pt x="782" y="726"/>
                  </a:lnTo>
                  <a:lnTo>
                    <a:pt x="759" y="818"/>
                  </a:lnTo>
                  <a:lnTo>
                    <a:pt x="736" y="911"/>
                  </a:lnTo>
                  <a:lnTo>
                    <a:pt x="707" y="1007"/>
                  </a:lnTo>
                  <a:lnTo>
                    <a:pt x="677" y="1104"/>
                  </a:lnTo>
                  <a:lnTo>
                    <a:pt x="644" y="1201"/>
                  </a:lnTo>
                  <a:lnTo>
                    <a:pt x="610" y="1300"/>
                  </a:lnTo>
                  <a:lnTo>
                    <a:pt x="591" y="1349"/>
                  </a:lnTo>
                  <a:lnTo>
                    <a:pt x="571" y="1398"/>
                  </a:lnTo>
                  <a:lnTo>
                    <a:pt x="552" y="1446"/>
                  </a:lnTo>
                  <a:lnTo>
                    <a:pt x="531" y="1495"/>
                  </a:lnTo>
                  <a:lnTo>
                    <a:pt x="511" y="1543"/>
                  </a:lnTo>
                  <a:lnTo>
                    <a:pt x="489" y="1592"/>
                  </a:lnTo>
                  <a:lnTo>
                    <a:pt x="467" y="1639"/>
                  </a:lnTo>
                  <a:lnTo>
                    <a:pt x="445" y="1686"/>
                  </a:lnTo>
                  <a:lnTo>
                    <a:pt x="421" y="1733"/>
                  </a:lnTo>
                  <a:lnTo>
                    <a:pt x="397" y="1779"/>
                  </a:lnTo>
                  <a:lnTo>
                    <a:pt x="372" y="1824"/>
                  </a:lnTo>
                  <a:lnTo>
                    <a:pt x="347" y="1868"/>
                  </a:lnTo>
                  <a:lnTo>
                    <a:pt x="322" y="1913"/>
                  </a:lnTo>
                  <a:lnTo>
                    <a:pt x="296" y="1955"/>
                  </a:lnTo>
                  <a:lnTo>
                    <a:pt x="268" y="1997"/>
                  </a:lnTo>
                  <a:lnTo>
                    <a:pt x="241" y="2038"/>
                  </a:lnTo>
                  <a:lnTo>
                    <a:pt x="212" y="2078"/>
                  </a:lnTo>
                  <a:lnTo>
                    <a:pt x="184" y="2117"/>
                  </a:lnTo>
                  <a:lnTo>
                    <a:pt x="155" y="2155"/>
                  </a:lnTo>
                  <a:lnTo>
                    <a:pt x="126" y="2191"/>
                  </a:lnTo>
                  <a:lnTo>
                    <a:pt x="95" y="2227"/>
                  </a:lnTo>
                  <a:lnTo>
                    <a:pt x="64" y="2260"/>
                  </a:lnTo>
                  <a:lnTo>
                    <a:pt x="32" y="2292"/>
                  </a:lnTo>
                  <a:lnTo>
                    <a:pt x="0" y="2322"/>
                  </a:lnTo>
                  <a:lnTo>
                    <a:pt x="82" y="2405"/>
                  </a:lnTo>
                  <a:lnTo>
                    <a:pt x="114" y="2374"/>
                  </a:lnTo>
                  <a:lnTo>
                    <a:pt x="146" y="2342"/>
                  </a:lnTo>
                  <a:lnTo>
                    <a:pt x="177" y="2308"/>
                  </a:lnTo>
                  <a:lnTo>
                    <a:pt x="207" y="2273"/>
                  </a:lnTo>
                  <a:lnTo>
                    <a:pt x="236" y="2237"/>
                  </a:lnTo>
                  <a:lnTo>
                    <a:pt x="266" y="2199"/>
                  </a:lnTo>
                  <a:lnTo>
                    <a:pt x="294" y="2160"/>
                  </a:lnTo>
                  <a:lnTo>
                    <a:pt x="323" y="2119"/>
                  </a:lnTo>
                  <a:lnTo>
                    <a:pt x="350" y="2079"/>
                  </a:lnTo>
                  <a:lnTo>
                    <a:pt x="376" y="2037"/>
                  </a:lnTo>
                  <a:lnTo>
                    <a:pt x="403" y="1994"/>
                  </a:lnTo>
                  <a:lnTo>
                    <a:pt x="429" y="1950"/>
                  </a:lnTo>
                  <a:lnTo>
                    <a:pt x="454" y="1906"/>
                  </a:lnTo>
                  <a:lnTo>
                    <a:pt x="479" y="1860"/>
                  </a:lnTo>
                  <a:lnTo>
                    <a:pt x="503" y="1815"/>
                  </a:lnTo>
                  <a:lnTo>
                    <a:pt x="526" y="1768"/>
                  </a:lnTo>
                  <a:lnTo>
                    <a:pt x="549" y="1720"/>
                  </a:lnTo>
                  <a:lnTo>
                    <a:pt x="571" y="1673"/>
                  </a:lnTo>
                  <a:lnTo>
                    <a:pt x="593" y="1625"/>
                  </a:lnTo>
                  <a:lnTo>
                    <a:pt x="614" y="1576"/>
                  </a:lnTo>
                  <a:lnTo>
                    <a:pt x="634" y="1528"/>
                  </a:lnTo>
                  <a:lnTo>
                    <a:pt x="653" y="1479"/>
                  </a:lnTo>
                  <a:lnTo>
                    <a:pt x="673" y="1430"/>
                  </a:lnTo>
                  <a:lnTo>
                    <a:pt x="692" y="1381"/>
                  </a:lnTo>
                  <a:lnTo>
                    <a:pt x="726" y="1283"/>
                  </a:lnTo>
                  <a:lnTo>
                    <a:pt x="759" y="1185"/>
                  </a:lnTo>
                  <a:lnTo>
                    <a:pt x="789" y="1088"/>
                  </a:lnTo>
                  <a:lnTo>
                    <a:pt x="818" y="992"/>
                  </a:lnTo>
                  <a:lnTo>
                    <a:pt x="842" y="899"/>
                  </a:lnTo>
                  <a:lnTo>
                    <a:pt x="864" y="807"/>
                  </a:lnTo>
                  <a:lnTo>
                    <a:pt x="884" y="719"/>
                  </a:lnTo>
                  <a:lnTo>
                    <a:pt x="901" y="635"/>
                  </a:lnTo>
                  <a:lnTo>
                    <a:pt x="916" y="555"/>
                  </a:lnTo>
                  <a:lnTo>
                    <a:pt x="927" y="479"/>
                  </a:lnTo>
                  <a:lnTo>
                    <a:pt x="935" y="408"/>
                  </a:lnTo>
                  <a:lnTo>
                    <a:pt x="942" y="342"/>
                  </a:lnTo>
                  <a:lnTo>
                    <a:pt x="943" y="312"/>
                  </a:lnTo>
                  <a:lnTo>
                    <a:pt x="945" y="282"/>
                  </a:lnTo>
                  <a:lnTo>
                    <a:pt x="945" y="255"/>
                  </a:lnTo>
                  <a:lnTo>
                    <a:pt x="945" y="230"/>
                  </a:lnTo>
                  <a:lnTo>
                    <a:pt x="944" y="206"/>
                  </a:lnTo>
                  <a:lnTo>
                    <a:pt x="943" y="184"/>
                  </a:lnTo>
                  <a:lnTo>
                    <a:pt x="940" y="164"/>
                  </a:lnTo>
                  <a:lnTo>
                    <a:pt x="937" y="146"/>
                  </a:lnTo>
                  <a:lnTo>
                    <a:pt x="933" y="130"/>
                  </a:lnTo>
                  <a:lnTo>
                    <a:pt x="928" y="115"/>
                  </a:lnTo>
                  <a:lnTo>
                    <a:pt x="923" y="101"/>
                  </a:lnTo>
                  <a:lnTo>
                    <a:pt x="910" y="83"/>
                  </a:lnTo>
                  <a:lnTo>
                    <a:pt x="850" y="21"/>
                  </a:lnTo>
                  <a:lnTo>
                    <a:pt x="827" y="4"/>
                  </a:lnTo>
                  <a:lnTo>
                    <a:pt x="819" y="1"/>
                  </a:lnTo>
                  <a:lnTo>
                    <a:pt x="814" y="0"/>
                  </a:lnTo>
                  <a:lnTo>
                    <a:pt x="810" y="0"/>
                  </a:lnTo>
                  <a:lnTo>
                    <a:pt x="805" y="0"/>
                  </a:lnTo>
                  <a:lnTo>
                    <a:pt x="886" y="82"/>
                  </a:lnTo>
                  <a:lnTo>
                    <a:pt x="804" y="1"/>
                  </a:lnTo>
                  <a:lnTo>
                    <a:pt x="796" y="58"/>
                  </a:lnTo>
                  <a:lnTo>
                    <a:pt x="885" y="82"/>
                  </a:lnTo>
                  <a:lnTo>
                    <a:pt x="804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5899320" y="3776760"/>
              <a:ext cx="282240" cy="763560"/>
            </a:xfrm>
            <a:custGeom>
              <a:avLst/>
              <a:gdLst/>
              <a:ahLst/>
              <a:rect l="l" t="t" r="r" b="b"/>
              <a:pathLst>
                <a:path w="891" h="2405">
                  <a:moveTo>
                    <a:pt x="0" y="2322"/>
                  </a:moveTo>
                  <a:lnTo>
                    <a:pt x="82" y="2405"/>
                  </a:lnTo>
                  <a:lnTo>
                    <a:pt x="88" y="2402"/>
                  </a:lnTo>
                  <a:lnTo>
                    <a:pt x="94" y="2400"/>
                  </a:lnTo>
                  <a:lnTo>
                    <a:pt x="99" y="2397"/>
                  </a:lnTo>
                  <a:lnTo>
                    <a:pt x="105" y="2392"/>
                  </a:lnTo>
                  <a:lnTo>
                    <a:pt x="118" y="2381"/>
                  </a:lnTo>
                  <a:lnTo>
                    <a:pt x="130" y="2366"/>
                  </a:lnTo>
                  <a:lnTo>
                    <a:pt x="144" y="2349"/>
                  </a:lnTo>
                  <a:lnTo>
                    <a:pt x="158" y="2329"/>
                  </a:lnTo>
                  <a:lnTo>
                    <a:pt x="171" y="2306"/>
                  </a:lnTo>
                  <a:lnTo>
                    <a:pt x="186" y="2282"/>
                  </a:lnTo>
                  <a:lnTo>
                    <a:pt x="201" y="2255"/>
                  </a:lnTo>
                  <a:lnTo>
                    <a:pt x="217" y="2225"/>
                  </a:lnTo>
                  <a:lnTo>
                    <a:pt x="233" y="2193"/>
                  </a:lnTo>
                  <a:lnTo>
                    <a:pt x="249" y="2159"/>
                  </a:lnTo>
                  <a:lnTo>
                    <a:pt x="282" y="2085"/>
                  </a:lnTo>
                  <a:lnTo>
                    <a:pt x="315" y="2004"/>
                  </a:lnTo>
                  <a:lnTo>
                    <a:pt x="350" y="1917"/>
                  </a:lnTo>
                  <a:lnTo>
                    <a:pt x="386" y="1824"/>
                  </a:lnTo>
                  <a:lnTo>
                    <a:pt x="421" y="1727"/>
                  </a:lnTo>
                  <a:lnTo>
                    <a:pt x="456" y="1625"/>
                  </a:lnTo>
                  <a:lnTo>
                    <a:pt x="492" y="1520"/>
                  </a:lnTo>
                  <a:lnTo>
                    <a:pt x="527" y="1414"/>
                  </a:lnTo>
                  <a:lnTo>
                    <a:pt x="562" y="1306"/>
                  </a:lnTo>
                  <a:lnTo>
                    <a:pt x="596" y="1197"/>
                  </a:lnTo>
                  <a:lnTo>
                    <a:pt x="630" y="1090"/>
                  </a:lnTo>
                  <a:lnTo>
                    <a:pt x="661" y="983"/>
                  </a:lnTo>
                  <a:lnTo>
                    <a:pt x="693" y="878"/>
                  </a:lnTo>
                  <a:lnTo>
                    <a:pt x="723" y="776"/>
                  </a:lnTo>
                  <a:lnTo>
                    <a:pt x="750" y="678"/>
                  </a:lnTo>
                  <a:lnTo>
                    <a:pt x="777" y="585"/>
                  </a:lnTo>
                  <a:lnTo>
                    <a:pt x="799" y="496"/>
                  </a:lnTo>
                  <a:lnTo>
                    <a:pt x="821" y="414"/>
                  </a:lnTo>
                  <a:lnTo>
                    <a:pt x="840" y="340"/>
                  </a:lnTo>
                  <a:lnTo>
                    <a:pt x="856" y="272"/>
                  </a:lnTo>
                  <a:lnTo>
                    <a:pt x="870" y="214"/>
                  </a:lnTo>
                  <a:lnTo>
                    <a:pt x="880" y="165"/>
                  </a:lnTo>
                  <a:lnTo>
                    <a:pt x="887" y="126"/>
                  </a:lnTo>
                  <a:lnTo>
                    <a:pt x="891" y="99"/>
                  </a:lnTo>
                  <a:lnTo>
                    <a:pt x="891" y="90"/>
                  </a:lnTo>
                  <a:lnTo>
                    <a:pt x="891" y="83"/>
                  </a:lnTo>
                  <a:lnTo>
                    <a:pt x="887" y="77"/>
                  </a:lnTo>
                  <a:lnTo>
                    <a:pt x="812" y="1"/>
                  </a:lnTo>
                  <a:lnTo>
                    <a:pt x="806" y="0"/>
                  </a:lnTo>
                  <a:lnTo>
                    <a:pt x="804" y="1"/>
                  </a:lnTo>
                  <a:lnTo>
                    <a:pt x="886" y="82"/>
                  </a:lnTo>
                  <a:lnTo>
                    <a:pt x="887" y="82"/>
                  </a:lnTo>
                  <a:lnTo>
                    <a:pt x="884" y="81"/>
                  </a:lnTo>
                  <a:lnTo>
                    <a:pt x="810" y="6"/>
                  </a:lnTo>
                  <a:lnTo>
                    <a:pt x="809" y="4"/>
                  </a:lnTo>
                  <a:lnTo>
                    <a:pt x="809" y="10"/>
                  </a:lnTo>
                  <a:lnTo>
                    <a:pt x="809" y="18"/>
                  </a:lnTo>
                  <a:lnTo>
                    <a:pt x="805" y="45"/>
                  </a:lnTo>
                  <a:lnTo>
                    <a:pt x="798" y="84"/>
                  </a:lnTo>
                  <a:lnTo>
                    <a:pt x="788" y="133"/>
                  </a:lnTo>
                  <a:lnTo>
                    <a:pt x="774" y="191"/>
                  </a:lnTo>
                  <a:lnTo>
                    <a:pt x="758" y="259"/>
                  </a:lnTo>
                  <a:lnTo>
                    <a:pt x="739" y="333"/>
                  </a:lnTo>
                  <a:lnTo>
                    <a:pt x="717" y="415"/>
                  </a:lnTo>
                  <a:lnTo>
                    <a:pt x="695" y="504"/>
                  </a:lnTo>
                  <a:lnTo>
                    <a:pt x="668" y="597"/>
                  </a:lnTo>
                  <a:lnTo>
                    <a:pt x="640" y="695"/>
                  </a:lnTo>
                  <a:lnTo>
                    <a:pt x="611" y="797"/>
                  </a:lnTo>
                  <a:lnTo>
                    <a:pt x="579" y="902"/>
                  </a:lnTo>
                  <a:lnTo>
                    <a:pt x="547" y="1009"/>
                  </a:lnTo>
                  <a:lnTo>
                    <a:pt x="514" y="1116"/>
                  </a:lnTo>
                  <a:lnTo>
                    <a:pt x="480" y="1225"/>
                  </a:lnTo>
                  <a:lnTo>
                    <a:pt x="445" y="1333"/>
                  </a:lnTo>
                  <a:lnTo>
                    <a:pt x="410" y="1439"/>
                  </a:lnTo>
                  <a:lnTo>
                    <a:pt x="374" y="1544"/>
                  </a:lnTo>
                  <a:lnTo>
                    <a:pt x="339" y="1646"/>
                  </a:lnTo>
                  <a:lnTo>
                    <a:pt x="303" y="1743"/>
                  </a:lnTo>
                  <a:lnTo>
                    <a:pt x="268" y="1835"/>
                  </a:lnTo>
                  <a:lnTo>
                    <a:pt x="233" y="1923"/>
                  </a:lnTo>
                  <a:lnTo>
                    <a:pt x="200" y="2004"/>
                  </a:lnTo>
                  <a:lnTo>
                    <a:pt x="167" y="2078"/>
                  </a:lnTo>
                  <a:lnTo>
                    <a:pt x="151" y="2112"/>
                  </a:lnTo>
                  <a:lnTo>
                    <a:pt x="135" y="2143"/>
                  </a:lnTo>
                  <a:lnTo>
                    <a:pt x="119" y="2173"/>
                  </a:lnTo>
                  <a:lnTo>
                    <a:pt x="104" y="2200"/>
                  </a:lnTo>
                  <a:lnTo>
                    <a:pt x="89" y="2225"/>
                  </a:lnTo>
                  <a:lnTo>
                    <a:pt x="75" y="2248"/>
                  </a:lnTo>
                  <a:lnTo>
                    <a:pt x="62" y="2268"/>
                  </a:lnTo>
                  <a:lnTo>
                    <a:pt x="48" y="2285"/>
                  </a:lnTo>
                  <a:lnTo>
                    <a:pt x="36" y="2298"/>
                  </a:lnTo>
                  <a:lnTo>
                    <a:pt x="23" y="2310"/>
                  </a:lnTo>
                  <a:lnTo>
                    <a:pt x="17" y="2314"/>
                  </a:lnTo>
                  <a:lnTo>
                    <a:pt x="12" y="2318"/>
                  </a:lnTo>
                  <a:lnTo>
                    <a:pt x="6" y="2320"/>
                  </a:lnTo>
                  <a:lnTo>
                    <a:pt x="1" y="2322"/>
                  </a:lnTo>
                  <a:lnTo>
                    <a:pt x="82" y="2405"/>
                  </a:lnTo>
                  <a:lnTo>
                    <a:pt x="0" y="2322"/>
                  </a:lnTo>
                  <a:lnTo>
                    <a:pt x="4" y="2402"/>
                  </a:lnTo>
                  <a:lnTo>
                    <a:pt x="82" y="2405"/>
                  </a:lnTo>
                  <a:lnTo>
                    <a:pt x="0" y="232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3603600" y="3865680"/>
              <a:ext cx="353880" cy="55692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4" y="1714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5"/>
                  </a:lnTo>
                  <a:lnTo>
                    <a:pt x="309" y="1508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5"/>
                  </a:lnTo>
                  <a:lnTo>
                    <a:pt x="535" y="1245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5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2" y="733"/>
                  </a:lnTo>
                  <a:lnTo>
                    <a:pt x="900" y="661"/>
                  </a:lnTo>
                  <a:lnTo>
                    <a:pt x="934" y="590"/>
                  </a:lnTo>
                  <a:lnTo>
                    <a:pt x="967" y="522"/>
                  </a:lnTo>
                  <a:lnTo>
                    <a:pt x="996" y="456"/>
                  </a:lnTo>
                  <a:lnTo>
                    <a:pt x="1023" y="393"/>
                  </a:lnTo>
                  <a:lnTo>
                    <a:pt x="1046" y="332"/>
                  </a:lnTo>
                  <a:lnTo>
                    <a:pt x="1066" y="277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7" y="133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10" y="18"/>
                  </a:lnTo>
                  <a:lnTo>
                    <a:pt x="1099" y="5"/>
                  </a:lnTo>
                  <a:lnTo>
                    <a:pt x="1086" y="0"/>
                  </a:lnTo>
                  <a:lnTo>
                    <a:pt x="1089" y="3"/>
                  </a:lnTo>
                  <a:lnTo>
                    <a:pt x="1087" y="15"/>
                  </a:lnTo>
                  <a:lnTo>
                    <a:pt x="1079" y="37"/>
                  </a:lnTo>
                  <a:lnTo>
                    <a:pt x="1066" y="68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1" y="204"/>
                  </a:lnTo>
                  <a:lnTo>
                    <a:pt x="972" y="261"/>
                  </a:lnTo>
                  <a:lnTo>
                    <a:pt x="903" y="392"/>
                  </a:lnTo>
                  <a:lnTo>
                    <a:pt x="825" y="539"/>
                  </a:lnTo>
                  <a:lnTo>
                    <a:pt x="737" y="698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8" y="1025"/>
                  </a:lnTo>
                  <a:lnTo>
                    <a:pt x="499" y="1106"/>
                  </a:lnTo>
                  <a:lnTo>
                    <a:pt x="451" y="1185"/>
                  </a:lnTo>
                  <a:lnTo>
                    <a:pt x="403" y="1261"/>
                  </a:lnTo>
                  <a:lnTo>
                    <a:pt x="356" y="1334"/>
                  </a:lnTo>
                  <a:lnTo>
                    <a:pt x="309" y="1404"/>
                  </a:lnTo>
                  <a:lnTo>
                    <a:pt x="265" y="1469"/>
                  </a:lnTo>
                  <a:lnTo>
                    <a:pt x="223" y="1529"/>
                  </a:lnTo>
                  <a:lnTo>
                    <a:pt x="182" y="1583"/>
                  </a:lnTo>
                  <a:lnTo>
                    <a:pt x="144" y="1631"/>
                  </a:lnTo>
                  <a:lnTo>
                    <a:pt x="109" y="1672"/>
                  </a:lnTo>
                  <a:lnTo>
                    <a:pt x="76" y="1706"/>
                  </a:lnTo>
                  <a:lnTo>
                    <a:pt x="47" y="1731"/>
                  </a:lnTo>
                  <a:lnTo>
                    <a:pt x="22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3591000" y="3852720"/>
              <a:ext cx="379440" cy="582840"/>
            </a:xfrm>
            <a:custGeom>
              <a:avLst/>
              <a:gdLst/>
              <a:ahLst/>
              <a:rect l="l" t="t" r="r" b="b"/>
              <a:pathLst>
                <a:path w="1198" h="1835">
                  <a:moveTo>
                    <a:pt x="1087" y="0"/>
                  </a:moveTo>
                  <a:lnTo>
                    <a:pt x="1167" y="83"/>
                  </a:lnTo>
                  <a:lnTo>
                    <a:pt x="1172" y="84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10" y="22"/>
                  </a:lnTo>
                  <a:lnTo>
                    <a:pt x="1112" y="29"/>
                  </a:lnTo>
                  <a:lnTo>
                    <a:pt x="1114" y="39"/>
                  </a:lnTo>
                  <a:lnTo>
                    <a:pt x="1115" y="51"/>
                  </a:lnTo>
                  <a:lnTo>
                    <a:pt x="1115" y="64"/>
                  </a:lnTo>
                  <a:lnTo>
                    <a:pt x="1115" y="79"/>
                  </a:lnTo>
                  <a:lnTo>
                    <a:pt x="1113" y="96"/>
                  </a:lnTo>
                  <a:lnTo>
                    <a:pt x="1111" y="114"/>
                  </a:lnTo>
                  <a:lnTo>
                    <a:pt x="1106" y="134"/>
                  </a:lnTo>
                  <a:lnTo>
                    <a:pt x="1097" y="176"/>
                  </a:lnTo>
                  <a:lnTo>
                    <a:pt x="1083" y="224"/>
                  </a:lnTo>
                  <a:lnTo>
                    <a:pt x="1066" y="277"/>
                  </a:lnTo>
                  <a:lnTo>
                    <a:pt x="1046" y="334"/>
                  </a:lnTo>
                  <a:lnTo>
                    <a:pt x="1023" y="393"/>
                  </a:lnTo>
                  <a:lnTo>
                    <a:pt x="996" y="457"/>
                  </a:lnTo>
                  <a:lnTo>
                    <a:pt x="967" y="523"/>
                  </a:lnTo>
                  <a:lnTo>
                    <a:pt x="934" y="591"/>
                  </a:lnTo>
                  <a:lnTo>
                    <a:pt x="900" y="662"/>
                  </a:lnTo>
                  <a:lnTo>
                    <a:pt x="862" y="734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5" y="1245"/>
                  </a:lnTo>
                  <a:lnTo>
                    <a:pt x="509" y="1280"/>
                  </a:lnTo>
                  <a:lnTo>
                    <a:pt x="481" y="1315"/>
                  </a:lnTo>
                  <a:lnTo>
                    <a:pt x="453" y="1348"/>
                  </a:lnTo>
                  <a:lnTo>
                    <a:pt x="426" y="1382"/>
                  </a:lnTo>
                  <a:lnTo>
                    <a:pt x="397" y="1414"/>
                  </a:lnTo>
                  <a:lnTo>
                    <a:pt x="367" y="1446"/>
                  </a:lnTo>
                  <a:lnTo>
                    <a:pt x="339" y="1477"/>
                  </a:lnTo>
                  <a:lnTo>
                    <a:pt x="309" y="1508"/>
                  </a:lnTo>
                  <a:lnTo>
                    <a:pt x="280" y="1536"/>
                  </a:lnTo>
                  <a:lnTo>
                    <a:pt x="249" y="1565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8" y="1644"/>
                  </a:lnTo>
                  <a:lnTo>
                    <a:pt x="127" y="1668"/>
                  </a:lnTo>
                  <a:lnTo>
                    <a:pt x="96" y="1692"/>
                  </a:lnTo>
                  <a:lnTo>
                    <a:pt x="64" y="1714"/>
                  </a:lnTo>
                  <a:lnTo>
                    <a:pt x="32" y="1735"/>
                  </a:lnTo>
                  <a:lnTo>
                    <a:pt x="0" y="1754"/>
                  </a:lnTo>
                  <a:lnTo>
                    <a:pt x="82" y="1835"/>
                  </a:lnTo>
                  <a:lnTo>
                    <a:pt x="114" y="1817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1"/>
                  </a:lnTo>
                  <a:lnTo>
                    <a:pt x="240" y="1727"/>
                  </a:lnTo>
                  <a:lnTo>
                    <a:pt x="271" y="1700"/>
                  </a:lnTo>
                  <a:lnTo>
                    <a:pt x="300" y="1674"/>
                  </a:lnTo>
                  <a:lnTo>
                    <a:pt x="331" y="1647"/>
                  </a:lnTo>
                  <a:lnTo>
                    <a:pt x="362" y="1618"/>
                  </a:lnTo>
                  <a:lnTo>
                    <a:pt x="391" y="1589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30"/>
                  </a:lnTo>
                  <a:lnTo>
                    <a:pt x="562" y="1396"/>
                  </a:lnTo>
                  <a:lnTo>
                    <a:pt x="590" y="1361"/>
                  </a:lnTo>
                  <a:lnTo>
                    <a:pt x="617" y="1327"/>
                  </a:lnTo>
                  <a:lnTo>
                    <a:pt x="643" y="1292"/>
                  </a:lnTo>
                  <a:lnTo>
                    <a:pt x="670" y="1255"/>
                  </a:lnTo>
                  <a:lnTo>
                    <a:pt x="721" y="1184"/>
                  </a:lnTo>
                  <a:lnTo>
                    <a:pt x="770" y="1109"/>
                  </a:lnTo>
                  <a:lnTo>
                    <a:pt x="817" y="1036"/>
                  </a:lnTo>
                  <a:lnTo>
                    <a:pt x="861" y="962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9" y="604"/>
                  </a:lnTo>
                  <a:lnTo>
                    <a:pt x="1078" y="538"/>
                  </a:lnTo>
                  <a:lnTo>
                    <a:pt x="1105" y="475"/>
                  </a:lnTo>
                  <a:lnTo>
                    <a:pt x="1128" y="415"/>
                  </a:lnTo>
                  <a:lnTo>
                    <a:pt x="1148" y="358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9" y="215"/>
                  </a:lnTo>
                  <a:lnTo>
                    <a:pt x="1193" y="194"/>
                  </a:lnTo>
                  <a:lnTo>
                    <a:pt x="1195" y="176"/>
                  </a:lnTo>
                  <a:lnTo>
                    <a:pt x="1197" y="160"/>
                  </a:lnTo>
                  <a:lnTo>
                    <a:pt x="1198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7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3"/>
                  </a:lnTo>
                  <a:lnTo>
                    <a:pt x="1087" y="0"/>
                  </a:lnTo>
                  <a:lnTo>
                    <a:pt x="1168" y="83"/>
                  </a:lnTo>
                  <a:lnTo>
                    <a:pt x="1087" y="0"/>
                  </a:lnTo>
                  <a:lnTo>
                    <a:pt x="1045" y="55"/>
                  </a:lnTo>
                  <a:lnTo>
                    <a:pt x="1167" y="83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3586320" y="3852720"/>
              <a:ext cx="376200" cy="582840"/>
            </a:xfrm>
            <a:custGeom>
              <a:avLst/>
              <a:gdLst/>
              <a:ahLst/>
              <a:rect l="l" t="t" r="r" b="b"/>
              <a:pathLst>
                <a:path w="1185" h="1836">
                  <a:moveTo>
                    <a:pt x="14" y="1754"/>
                  </a:moveTo>
                  <a:lnTo>
                    <a:pt x="95" y="1836"/>
                  </a:lnTo>
                  <a:lnTo>
                    <a:pt x="106" y="1834"/>
                  </a:lnTo>
                  <a:lnTo>
                    <a:pt x="117" y="1829"/>
                  </a:lnTo>
                  <a:lnTo>
                    <a:pt x="129" y="1822"/>
                  </a:lnTo>
                  <a:lnTo>
                    <a:pt x="143" y="1812"/>
                  </a:lnTo>
                  <a:lnTo>
                    <a:pt x="157" y="1801"/>
                  </a:lnTo>
                  <a:lnTo>
                    <a:pt x="172" y="1787"/>
                  </a:lnTo>
                  <a:lnTo>
                    <a:pt x="188" y="1772"/>
                  </a:lnTo>
                  <a:lnTo>
                    <a:pt x="205" y="1754"/>
                  </a:lnTo>
                  <a:lnTo>
                    <a:pt x="222" y="1735"/>
                  </a:lnTo>
                  <a:lnTo>
                    <a:pt x="240" y="1713"/>
                  </a:lnTo>
                  <a:lnTo>
                    <a:pt x="258" y="1690"/>
                  </a:lnTo>
                  <a:lnTo>
                    <a:pt x="278" y="1665"/>
                  </a:lnTo>
                  <a:lnTo>
                    <a:pt x="319" y="1610"/>
                  </a:lnTo>
                  <a:lnTo>
                    <a:pt x="361" y="1551"/>
                  </a:lnTo>
                  <a:lnTo>
                    <a:pt x="405" y="1486"/>
                  </a:lnTo>
                  <a:lnTo>
                    <a:pt x="452" y="1416"/>
                  </a:lnTo>
                  <a:lnTo>
                    <a:pt x="499" y="1342"/>
                  </a:lnTo>
                  <a:lnTo>
                    <a:pt x="547" y="1266"/>
                  </a:lnTo>
                  <a:lnTo>
                    <a:pt x="595" y="1187"/>
                  </a:lnTo>
                  <a:lnTo>
                    <a:pt x="644" y="1107"/>
                  </a:lnTo>
                  <a:lnTo>
                    <a:pt x="691" y="1025"/>
                  </a:lnTo>
                  <a:lnTo>
                    <a:pt x="739" y="943"/>
                  </a:lnTo>
                  <a:lnTo>
                    <a:pt x="833" y="778"/>
                  </a:lnTo>
                  <a:lnTo>
                    <a:pt x="921" y="621"/>
                  </a:lnTo>
                  <a:lnTo>
                    <a:pt x="999" y="474"/>
                  </a:lnTo>
                  <a:lnTo>
                    <a:pt x="1068" y="343"/>
                  </a:lnTo>
                  <a:lnTo>
                    <a:pt x="1097" y="284"/>
                  </a:lnTo>
                  <a:lnTo>
                    <a:pt x="1122" y="233"/>
                  </a:lnTo>
                  <a:lnTo>
                    <a:pt x="1144" y="188"/>
                  </a:lnTo>
                  <a:lnTo>
                    <a:pt x="1162" y="149"/>
                  </a:lnTo>
                  <a:lnTo>
                    <a:pt x="1175" y="119"/>
                  </a:lnTo>
                  <a:lnTo>
                    <a:pt x="1183" y="97"/>
                  </a:lnTo>
                  <a:lnTo>
                    <a:pt x="1184" y="89"/>
                  </a:lnTo>
                  <a:lnTo>
                    <a:pt x="1185" y="85"/>
                  </a:lnTo>
                  <a:lnTo>
                    <a:pt x="1185" y="81"/>
                  </a:lnTo>
                  <a:lnTo>
                    <a:pt x="1129" y="20"/>
                  </a:lnTo>
                  <a:lnTo>
                    <a:pt x="1102" y="0"/>
                  </a:lnTo>
                  <a:lnTo>
                    <a:pt x="1101" y="0"/>
                  </a:lnTo>
                  <a:lnTo>
                    <a:pt x="1182" y="83"/>
                  </a:lnTo>
                  <a:lnTo>
                    <a:pt x="1182" y="83"/>
                  </a:lnTo>
                  <a:lnTo>
                    <a:pt x="1157" y="64"/>
                  </a:lnTo>
                  <a:lnTo>
                    <a:pt x="1103" y="4"/>
                  </a:lnTo>
                  <a:lnTo>
                    <a:pt x="1103" y="4"/>
                  </a:lnTo>
                  <a:lnTo>
                    <a:pt x="1102" y="8"/>
                  </a:lnTo>
                  <a:lnTo>
                    <a:pt x="1101" y="16"/>
                  </a:lnTo>
                  <a:lnTo>
                    <a:pt x="1093" y="38"/>
                  </a:lnTo>
                  <a:lnTo>
                    <a:pt x="1080" y="68"/>
                  </a:lnTo>
                  <a:lnTo>
                    <a:pt x="1062" y="107"/>
                  </a:lnTo>
                  <a:lnTo>
                    <a:pt x="1040" y="151"/>
                  </a:lnTo>
                  <a:lnTo>
                    <a:pt x="1015" y="203"/>
                  </a:lnTo>
                  <a:lnTo>
                    <a:pt x="986" y="262"/>
                  </a:lnTo>
                  <a:lnTo>
                    <a:pt x="917" y="393"/>
                  </a:lnTo>
                  <a:lnTo>
                    <a:pt x="839" y="540"/>
                  </a:lnTo>
                  <a:lnTo>
                    <a:pt x="751" y="697"/>
                  </a:lnTo>
                  <a:lnTo>
                    <a:pt x="657" y="861"/>
                  </a:lnTo>
                  <a:lnTo>
                    <a:pt x="609" y="944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5" y="1185"/>
                  </a:lnTo>
                  <a:lnTo>
                    <a:pt x="417" y="1261"/>
                  </a:lnTo>
                  <a:lnTo>
                    <a:pt x="370" y="1334"/>
                  </a:lnTo>
                  <a:lnTo>
                    <a:pt x="324" y="1404"/>
                  </a:lnTo>
                  <a:lnTo>
                    <a:pt x="280" y="1469"/>
                  </a:lnTo>
                  <a:lnTo>
                    <a:pt x="237" y="1529"/>
                  </a:lnTo>
                  <a:lnTo>
                    <a:pt x="197" y="1584"/>
                  </a:lnTo>
                  <a:lnTo>
                    <a:pt x="177" y="1608"/>
                  </a:lnTo>
                  <a:lnTo>
                    <a:pt x="158" y="1632"/>
                  </a:lnTo>
                  <a:lnTo>
                    <a:pt x="140" y="1652"/>
                  </a:lnTo>
                  <a:lnTo>
                    <a:pt x="123" y="1672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6" y="1720"/>
                  </a:lnTo>
                  <a:lnTo>
                    <a:pt x="61" y="1731"/>
                  </a:lnTo>
                  <a:lnTo>
                    <a:pt x="49" y="1740"/>
                  </a:lnTo>
                  <a:lnTo>
                    <a:pt x="36" y="1747"/>
                  </a:lnTo>
                  <a:lnTo>
                    <a:pt x="25" y="1752"/>
                  </a:lnTo>
                  <a:lnTo>
                    <a:pt x="15" y="1753"/>
                  </a:lnTo>
                  <a:lnTo>
                    <a:pt x="96" y="1835"/>
                  </a:lnTo>
                  <a:lnTo>
                    <a:pt x="14" y="1754"/>
                  </a:lnTo>
                  <a:lnTo>
                    <a:pt x="0" y="1813"/>
                  </a:lnTo>
                  <a:lnTo>
                    <a:pt x="95" y="1836"/>
                  </a:lnTo>
                  <a:lnTo>
                    <a:pt x="14" y="175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3084480" y="3854520"/>
              <a:ext cx="353880" cy="555480"/>
            </a:xfrm>
            <a:custGeom>
              <a:avLst/>
              <a:gdLst/>
              <a:ahLst/>
              <a:rect l="l" t="t" r="r" b="b"/>
              <a:pathLst>
                <a:path w="1117" h="1753">
                  <a:moveTo>
                    <a:pt x="0" y="1753"/>
                  </a:moveTo>
                  <a:lnTo>
                    <a:pt x="64" y="1713"/>
                  </a:lnTo>
                  <a:lnTo>
                    <a:pt x="127" y="1668"/>
                  </a:lnTo>
                  <a:lnTo>
                    <a:pt x="189" y="1619"/>
                  </a:lnTo>
                  <a:lnTo>
                    <a:pt x="250" y="1564"/>
                  </a:lnTo>
                  <a:lnTo>
                    <a:pt x="309" y="1507"/>
                  </a:lnTo>
                  <a:lnTo>
                    <a:pt x="368" y="1445"/>
                  </a:lnTo>
                  <a:lnTo>
                    <a:pt x="426" y="1380"/>
                  </a:lnTo>
                  <a:lnTo>
                    <a:pt x="482" y="1314"/>
                  </a:lnTo>
                  <a:lnTo>
                    <a:pt x="535" y="1244"/>
                  </a:lnTo>
                  <a:lnTo>
                    <a:pt x="588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5" y="953"/>
                  </a:lnTo>
                  <a:lnTo>
                    <a:pt x="779" y="879"/>
                  </a:lnTo>
                  <a:lnTo>
                    <a:pt x="822" y="805"/>
                  </a:lnTo>
                  <a:lnTo>
                    <a:pt x="862" y="732"/>
                  </a:lnTo>
                  <a:lnTo>
                    <a:pt x="900" y="660"/>
                  </a:lnTo>
                  <a:lnTo>
                    <a:pt x="934" y="590"/>
                  </a:lnTo>
                  <a:lnTo>
                    <a:pt x="967" y="521"/>
                  </a:lnTo>
                  <a:lnTo>
                    <a:pt x="997" y="456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7" y="132"/>
                  </a:lnTo>
                  <a:lnTo>
                    <a:pt x="1113" y="94"/>
                  </a:lnTo>
                  <a:lnTo>
                    <a:pt x="1117" y="62"/>
                  </a:lnTo>
                  <a:lnTo>
                    <a:pt x="1114" y="36"/>
                  </a:lnTo>
                  <a:lnTo>
                    <a:pt x="1110" y="17"/>
                  </a:lnTo>
                  <a:lnTo>
                    <a:pt x="1101" y="5"/>
                  </a:lnTo>
                  <a:lnTo>
                    <a:pt x="1087" y="0"/>
                  </a:lnTo>
                  <a:lnTo>
                    <a:pt x="1089" y="3"/>
                  </a:lnTo>
                  <a:lnTo>
                    <a:pt x="1087" y="16"/>
                  </a:lnTo>
                  <a:lnTo>
                    <a:pt x="1079" y="37"/>
                  </a:lnTo>
                  <a:lnTo>
                    <a:pt x="1066" y="67"/>
                  </a:lnTo>
                  <a:lnTo>
                    <a:pt x="1049" y="105"/>
                  </a:lnTo>
                  <a:lnTo>
                    <a:pt x="1026" y="150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5" y="538"/>
                  </a:lnTo>
                  <a:lnTo>
                    <a:pt x="737" y="697"/>
                  </a:lnTo>
                  <a:lnTo>
                    <a:pt x="645" y="860"/>
                  </a:lnTo>
                  <a:lnTo>
                    <a:pt x="596" y="942"/>
                  </a:lnTo>
                  <a:lnTo>
                    <a:pt x="548" y="1024"/>
                  </a:lnTo>
                  <a:lnTo>
                    <a:pt x="499" y="1105"/>
                  </a:lnTo>
                  <a:lnTo>
                    <a:pt x="451" y="1184"/>
                  </a:lnTo>
                  <a:lnTo>
                    <a:pt x="403" y="1260"/>
                  </a:lnTo>
                  <a:lnTo>
                    <a:pt x="356" y="1333"/>
                  </a:lnTo>
                  <a:lnTo>
                    <a:pt x="311" y="1403"/>
                  </a:lnTo>
                  <a:lnTo>
                    <a:pt x="266" y="1468"/>
                  </a:lnTo>
                  <a:lnTo>
                    <a:pt x="223" y="1528"/>
                  </a:lnTo>
                  <a:lnTo>
                    <a:pt x="183" y="1582"/>
                  </a:lnTo>
                  <a:lnTo>
                    <a:pt x="144" y="1630"/>
                  </a:lnTo>
                  <a:lnTo>
                    <a:pt x="109" y="1671"/>
                  </a:lnTo>
                  <a:lnTo>
                    <a:pt x="77" y="1705"/>
                  </a:lnTo>
                  <a:lnTo>
                    <a:pt x="47" y="1730"/>
                  </a:lnTo>
                  <a:lnTo>
                    <a:pt x="22" y="1746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3071880" y="384012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5" y="0"/>
                  </a:moveTo>
                  <a:lnTo>
                    <a:pt x="1166" y="82"/>
                  </a:lnTo>
                  <a:lnTo>
                    <a:pt x="1171" y="83"/>
                  </a:lnTo>
                  <a:lnTo>
                    <a:pt x="1166" y="79"/>
                  </a:lnTo>
                  <a:lnTo>
                    <a:pt x="1111" y="25"/>
                  </a:lnTo>
                  <a:lnTo>
                    <a:pt x="1108" y="21"/>
                  </a:lnTo>
                  <a:lnTo>
                    <a:pt x="1111" y="28"/>
                  </a:lnTo>
                  <a:lnTo>
                    <a:pt x="1112" y="38"/>
                  </a:lnTo>
                  <a:lnTo>
                    <a:pt x="1113" y="50"/>
                  </a:lnTo>
                  <a:lnTo>
                    <a:pt x="1114" y="64"/>
                  </a:lnTo>
                  <a:lnTo>
                    <a:pt x="1113" y="78"/>
                  </a:lnTo>
                  <a:lnTo>
                    <a:pt x="1111" y="95"/>
                  </a:lnTo>
                  <a:lnTo>
                    <a:pt x="1109" y="114"/>
                  </a:lnTo>
                  <a:lnTo>
                    <a:pt x="1105" y="133"/>
                  </a:lnTo>
                  <a:lnTo>
                    <a:pt x="1095" y="176"/>
                  </a:lnTo>
                  <a:lnTo>
                    <a:pt x="1081" y="223"/>
                  </a:lnTo>
                  <a:lnTo>
                    <a:pt x="1064" y="276"/>
                  </a:lnTo>
                  <a:lnTo>
                    <a:pt x="1044" y="333"/>
                  </a:lnTo>
                  <a:lnTo>
                    <a:pt x="1021" y="393"/>
                  </a:lnTo>
                  <a:lnTo>
                    <a:pt x="995" y="456"/>
                  </a:lnTo>
                  <a:lnTo>
                    <a:pt x="965" y="522"/>
                  </a:lnTo>
                  <a:lnTo>
                    <a:pt x="933" y="591"/>
                  </a:lnTo>
                  <a:lnTo>
                    <a:pt x="898" y="661"/>
                  </a:lnTo>
                  <a:lnTo>
                    <a:pt x="860" y="733"/>
                  </a:lnTo>
                  <a:lnTo>
                    <a:pt x="820" y="806"/>
                  </a:lnTo>
                  <a:lnTo>
                    <a:pt x="777" y="879"/>
                  </a:lnTo>
                  <a:lnTo>
                    <a:pt x="733" y="953"/>
                  </a:lnTo>
                  <a:lnTo>
                    <a:pt x="686" y="1028"/>
                  </a:lnTo>
                  <a:lnTo>
                    <a:pt x="637" y="1102"/>
                  </a:lnTo>
                  <a:lnTo>
                    <a:pt x="587" y="1174"/>
                  </a:lnTo>
                  <a:lnTo>
                    <a:pt x="560" y="1209"/>
                  </a:lnTo>
                  <a:lnTo>
                    <a:pt x="533" y="1244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1" y="1348"/>
                  </a:lnTo>
                  <a:lnTo>
                    <a:pt x="424" y="1381"/>
                  </a:lnTo>
                  <a:lnTo>
                    <a:pt x="395" y="1413"/>
                  </a:lnTo>
                  <a:lnTo>
                    <a:pt x="366" y="1445"/>
                  </a:lnTo>
                  <a:lnTo>
                    <a:pt x="337" y="1476"/>
                  </a:lnTo>
                  <a:lnTo>
                    <a:pt x="307" y="1507"/>
                  </a:lnTo>
                  <a:lnTo>
                    <a:pt x="278" y="1536"/>
                  </a:lnTo>
                  <a:lnTo>
                    <a:pt x="248" y="1564"/>
                  </a:lnTo>
                  <a:lnTo>
                    <a:pt x="217" y="1592"/>
                  </a:lnTo>
                  <a:lnTo>
                    <a:pt x="187" y="1619"/>
                  </a:lnTo>
                  <a:lnTo>
                    <a:pt x="156" y="1644"/>
                  </a:lnTo>
                  <a:lnTo>
                    <a:pt x="125" y="1668"/>
                  </a:lnTo>
                  <a:lnTo>
                    <a:pt x="94" y="1692"/>
                  </a:lnTo>
                  <a:lnTo>
                    <a:pt x="62" y="1713"/>
                  </a:lnTo>
                  <a:lnTo>
                    <a:pt x="31" y="1734"/>
                  </a:lnTo>
                  <a:lnTo>
                    <a:pt x="0" y="1753"/>
                  </a:lnTo>
                  <a:lnTo>
                    <a:pt x="81" y="1835"/>
                  </a:lnTo>
                  <a:lnTo>
                    <a:pt x="112" y="1816"/>
                  </a:lnTo>
                  <a:lnTo>
                    <a:pt x="144" y="1795"/>
                  </a:lnTo>
                  <a:lnTo>
                    <a:pt x="175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1"/>
                  </a:lnTo>
                  <a:lnTo>
                    <a:pt x="299" y="1673"/>
                  </a:lnTo>
                  <a:lnTo>
                    <a:pt x="329" y="1646"/>
                  </a:lnTo>
                  <a:lnTo>
                    <a:pt x="360" y="1617"/>
                  </a:lnTo>
                  <a:lnTo>
                    <a:pt x="389" y="1589"/>
                  </a:lnTo>
                  <a:lnTo>
                    <a:pt x="419" y="1558"/>
                  </a:lnTo>
                  <a:lnTo>
                    <a:pt x="448" y="1527"/>
                  </a:lnTo>
                  <a:lnTo>
                    <a:pt x="476" y="1495"/>
                  </a:lnTo>
                  <a:lnTo>
                    <a:pt x="505" y="1462"/>
                  </a:lnTo>
                  <a:lnTo>
                    <a:pt x="533" y="1429"/>
                  </a:lnTo>
                  <a:lnTo>
                    <a:pt x="560" y="1395"/>
                  </a:lnTo>
                  <a:lnTo>
                    <a:pt x="588" y="1361"/>
                  </a:lnTo>
                  <a:lnTo>
                    <a:pt x="615" y="1326"/>
                  </a:lnTo>
                  <a:lnTo>
                    <a:pt x="641" y="1291"/>
                  </a:lnTo>
                  <a:lnTo>
                    <a:pt x="668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6"/>
                  </a:lnTo>
                  <a:lnTo>
                    <a:pt x="859" y="961"/>
                  </a:lnTo>
                  <a:lnTo>
                    <a:pt x="901" y="887"/>
                  </a:lnTo>
                  <a:lnTo>
                    <a:pt x="942" y="814"/>
                  </a:lnTo>
                  <a:lnTo>
                    <a:pt x="980" y="742"/>
                  </a:lnTo>
                  <a:lnTo>
                    <a:pt x="1014" y="672"/>
                  </a:lnTo>
                  <a:lnTo>
                    <a:pt x="1047" y="603"/>
                  </a:lnTo>
                  <a:lnTo>
                    <a:pt x="1077" y="537"/>
                  </a:lnTo>
                  <a:lnTo>
                    <a:pt x="1103" y="474"/>
                  </a:lnTo>
                  <a:lnTo>
                    <a:pt x="1127" y="414"/>
                  </a:lnTo>
                  <a:lnTo>
                    <a:pt x="1146" y="358"/>
                  </a:lnTo>
                  <a:lnTo>
                    <a:pt x="1164" y="304"/>
                  </a:lnTo>
                  <a:lnTo>
                    <a:pt x="1177" y="256"/>
                  </a:lnTo>
                  <a:lnTo>
                    <a:pt x="1187" y="214"/>
                  </a:lnTo>
                  <a:lnTo>
                    <a:pt x="1191" y="195"/>
                  </a:lnTo>
                  <a:lnTo>
                    <a:pt x="1193" y="175"/>
                  </a:lnTo>
                  <a:lnTo>
                    <a:pt x="1195" y="159"/>
                  </a:lnTo>
                  <a:lnTo>
                    <a:pt x="1197" y="143"/>
                  </a:lnTo>
                  <a:lnTo>
                    <a:pt x="1195" y="130"/>
                  </a:lnTo>
                  <a:lnTo>
                    <a:pt x="1194" y="117"/>
                  </a:lnTo>
                  <a:lnTo>
                    <a:pt x="1192" y="106"/>
                  </a:lnTo>
                  <a:lnTo>
                    <a:pt x="1189" y="95"/>
                  </a:lnTo>
                  <a:lnTo>
                    <a:pt x="1178" y="78"/>
                  </a:lnTo>
                  <a:lnTo>
                    <a:pt x="1112" y="12"/>
                  </a:lnTo>
                  <a:lnTo>
                    <a:pt x="1094" y="2"/>
                  </a:lnTo>
                  <a:lnTo>
                    <a:pt x="1086" y="0"/>
                  </a:lnTo>
                  <a:lnTo>
                    <a:pt x="1166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3067200" y="3840120"/>
              <a:ext cx="376200" cy="582480"/>
            </a:xfrm>
            <a:custGeom>
              <a:avLst/>
              <a:gdLst/>
              <a:ahLst/>
              <a:rect l="l" t="t" r="r" b="b"/>
              <a:pathLst>
                <a:path w="1185" h="1835">
                  <a:moveTo>
                    <a:pt x="16" y="1753"/>
                  </a:moveTo>
                  <a:lnTo>
                    <a:pt x="97" y="1835"/>
                  </a:lnTo>
                  <a:lnTo>
                    <a:pt x="107" y="1833"/>
                  </a:lnTo>
                  <a:lnTo>
                    <a:pt x="118" y="1828"/>
                  </a:lnTo>
                  <a:lnTo>
                    <a:pt x="130" y="1822"/>
                  </a:lnTo>
                  <a:lnTo>
                    <a:pt x="143" y="1812"/>
                  </a:lnTo>
                  <a:lnTo>
                    <a:pt x="157" y="1800"/>
                  </a:lnTo>
                  <a:lnTo>
                    <a:pt x="173" y="1787"/>
                  </a:lnTo>
                  <a:lnTo>
                    <a:pt x="188" y="1771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0" y="1712"/>
                  </a:lnTo>
                  <a:lnTo>
                    <a:pt x="258" y="1689"/>
                  </a:lnTo>
                  <a:lnTo>
                    <a:pt x="278" y="1664"/>
                  </a:lnTo>
                  <a:lnTo>
                    <a:pt x="319" y="1609"/>
                  </a:lnTo>
                  <a:lnTo>
                    <a:pt x="362" y="1550"/>
                  </a:lnTo>
                  <a:lnTo>
                    <a:pt x="407" y="1485"/>
                  </a:lnTo>
                  <a:lnTo>
                    <a:pt x="452" y="1415"/>
                  </a:lnTo>
                  <a:lnTo>
                    <a:pt x="499" y="1342"/>
                  </a:lnTo>
                  <a:lnTo>
                    <a:pt x="547" y="1266"/>
                  </a:lnTo>
                  <a:lnTo>
                    <a:pt x="595" y="1186"/>
                  </a:lnTo>
                  <a:lnTo>
                    <a:pt x="644" y="1106"/>
                  </a:lnTo>
                  <a:lnTo>
                    <a:pt x="692" y="1024"/>
                  </a:lnTo>
                  <a:lnTo>
                    <a:pt x="739" y="942"/>
                  </a:lnTo>
                  <a:lnTo>
                    <a:pt x="833" y="778"/>
                  </a:lnTo>
                  <a:lnTo>
                    <a:pt x="921" y="620"/>
                  </a:lnTo>
                  <a:lnTo>
                    <a:pt x="999" y="473"/>
                  </a:lnTo>
                  <a:lnTo>
                    <a:pt x="1068" y="342"/>
                  </a:lnTo>
                  <a:lnTo>
                    <a:pt x="1097" y="284"/>
                  </a:lnTo>
                  <a:lnTo>
                    <a:pt x="1123" y="232"/>
                  </a:lnTo>
                  <a:lnTo>
                    <a:pt x="1144" y="187"/>
                  </a:lnTo>
                  <a:lnTo>
                    <a:pt x="1162" y="149"/>
                  </a:lnTo>
                  <a:lnTo>
                    <a:pt x="1175" y="118"/>
                  </a:lnTo>
                  <a:lnTo>
                    <a:pt x="1183" y="97"/>
                  </a:lnTo>
                  <a:lnTo>
                    <a:pt x="1185" y="89"/>
                  </a:lnTo>
                  <a:lnTo>
                    <a:pt x="1185" y="84"/>
                  </a:lnTo>
                  <a:lnTo>
                    <a:pt x="1185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3" y="82"/>
                  </a:lnTo>
                  <a:lnTo>
                    <a:pt x="1157" y="64"/>
                  </a:lnTo>
                  <a:lnTo>
                    <a:pt x="1103" y="3"/>
                  </a:lnTo>
                  <a:lnTo>
                    <a:pt x="1103" y="3"/>
                  </a:lnTo>
                  <a:lnTo>
                    <a:pt x="1102" y="9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2" y="151"/>
                  </a:lnTo>
                  <a:lnTo>
                    <a:pt x="1015" y="203"/>
                  </a:lnTo>
                  <a:lnTo>
                    <a:pt x="986" y="261"/>
                  </a:lnTo>
                  <a:lnTo>
                    <a:pt x="917" y="392"/>
                  </a:lnTo>
                  <a:lnTo>
                    <a:pt x="839" y="539"/>
                  </a:lnTo>
                  <a:lnTo>
                    <a:pt x="751" y="697"/>
                  </a:lnTo>
                  <a:lnTo>
                    <a:pt x="659" y="861"/>
                  </a:lnTo>
                  <a:lnTo>
                    <a:pt x="611" y="943"/>
                  </a:lnTo>
                  <a:lnTo>
                    <a:pt x="562" y="1024"/>
                  </a:lnTo>
                  <a:lnTo>
                    <a:pt x="514" y="1105"/>
                  </a:lnTo>
                  <a:lnTo>
                    <a:pt x="465" y="1184"/>
                  </a:lnTo>
                  <a:lnTo>
                    <a:pt x="417" y="1260"/>
                  </a:lnTo>
                  <a:lnTo>
                    <a:pt x="370" y="1333"/>
                  </a:lnTo>
                  <a:lnTo>
                    <a:pt x="325" y="1403"/>
                  </a:lnTo>
                  <a:lnTo>
                    <a:pt x="280" y="1468"/>
                  </a:lnTo>
                  <a:lnTo>
                    <a:pt x="237" y="1528"/>
                  </a:lnTo>
                  <a:lnTo>
                    <a:pt x="197" y="1583"/>
                  </a:lnTo>
                  <a:lnTo>
                    <a:pt x="177" y="1607"/>
                  </a:lnTo>
                  <a:lnTo>
                    <a:pt x="158" y="1631"/>
                  </a:lnTo>
                  <a:lnTo>
                    <a:pt x="140" y="1653"/>
                  </a:lnTo>
                  <a:lnTo>
                    <a:pt x="123" y="1672"/>
                  </a:lnTo>
                  <a:lnTo>
                    <a:pt x="107" y="1689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1" y="1730"/>
                  </a:lnTo>
                  <a:lnTo>
                    <a:pt x="49" y="1739"/>
                  </a:lnTo>
                  <a:lnTo>
                    <a:pt x="36" y="1746"/>
                  </a:lnTo>
                  <a:lnTo>
                    <a:pt x="26" y="1751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6" y="1753"/>
                  </a:lnTo>
                  <a:lnTo>
                    <a:pt x="0" y="1814"/>
                  </a:lnTo>
                  <a:lnTo>
                    <a:pt x="97" y="1835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3011400" y="3854520"/>
              <a:ext cx="354240" cy="555480"/>
            </a:xfrm>
            <a:custGeom>
              <a:avLst/>
              <a:gdLst/>
              <a:ahLst/>
              <a:rect l="l" t="t" r="r" b="b"/>
              <a:pathLst>
                <a:path w="1116" h="1753">
                  <a:moveTo>
                    <a:pt x="0" y="1753"/>
                  </a:moveTo>
                  <a:lnTo>
                    <a:pt x="64" y="1713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50" y="1564"/>
                  </a:lnTo>
                  <a:lnTo>
                    <a:pt x="309" y="1507"/>
                  </a:lnTo>
                  <a:lnTo>
                    <a:pt x="367" y="1445"/>
                  </a:lnTo>
                  <a:lnTo>
                    <a:pt x="426" y="1380"/>
                  </a:lnTo>
                  <a:lnTo>
                    <a:pt x="481" y="1314"/>
                  </a:lnTo>
                  <a:lnTo>
                    <a:pt x="535" y="1244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4" y="953"/>
                  </a:lnTo>
                  <a:lnTo>
                    <a:pt x="779" y="879"/>
                  </a:lnTo>
                  <a:lnTo>
                    <a:pt x="821" y="805"/>
                  </a:lnTo>
                  <a:lnTo>
                    <a:pt x="862" y="732"/>
                  </a:lnTo>
                  <a:lnTo>
                    <a:pt x="900" y="660"/>
                  </a:lnTo>
                  <a:lnTo>
                    <a:pt x="934" y="590"/>
                  </a:lnTo>
                  <a:lnTo>
                    <a:pt x="967" y="521"/>
                  </a:lnTo>
                  <a:lnTo>
                    <a:pt x="997" y="456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7" y="132"/>
                  </a:lnTo>
                  <a:lnTo>
                    <a:pt x="1113" y="94"/>
                  </a:lnTo>
                  <a:lnTo>
                    <a:pt x="1116" y="62"/>
                  </a:lnTo>
                  <a:lnTo>
                    <a:pt x="1114" y="36"/>
                  </a:lnTo>
                  <a:lnTo>
                    <a:pt x="1110" y="17"/>
                  </a:lnTo>
                  <a:lnTo>
                    <a:pt x="1100" y="5"/>
                  </a:lnTo>
                  <a:lnTo>
                    <a:pt x="1087" y="0"/>
                  </a:lnTo>
                  <a:lnTo>
                    <a:pt x="1089" y="3"/>
                  </a:lnTo>
                  <a:lnTo>
                    <a:pt x="1087" y="16"/>
                  </a:lnTo>
                  <a:lnTo>
                    <a:pt x="1079" y="37"/>
                  </a:lnTo>
                  <a:lnTo>
                    <a:pt x="1066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5" y="538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8" y="1024"/>
                  </a:lnTo>
                  <a:lnTo>
                    <a:pt x="499" y="1105"/>
                  </a:lnTo>
                  <a:lnTo>
                    <a:pt x="451" y="1184"/>
                  </a:lnTo>
                  <a:lnTo>
                    <a:pt x="403" y="1260"/>
                  </a:lnTo>
                  <a:lnTo>
                    <a:pt x="356" y="1333"/>
                  </a:lnTo>
                  <a:lnTo>
                    <a:pt x="310" y="1403"/>
                  </a:lnTo>
                  <a:lnTo>
                    <a:pt x="266" y="1468"/>
                  </a:lnTo>
                  <a:lnTo>
                    <a:pt x="223" y="1528"/>
                  </a:lnTo>
                  <a:lnTo>
                    <a:pt x="183" y="1582"/>
                  </a:lnTo>
                  <a:lnTo>
                    <a:pt x="144" y="1630"/>
                  </a:lnTo>
                  <a:lnTo>
                    <a:pt x="109" y="1671"/>
                  </a:lnTo>
                  <a:lnTo>
                    <a:pt x="77" y="1705"/>
                  </a:lnTo>
                  <a:lnTo>
                    <a:pt x="47" y="1730"/>
                  </a:lnTo>
                  <a:lnTo>
                    <a:pt x="22" y="1746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2998800" y="384012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6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79"/>
                  </a:lnTo>
                  <a:lnTo>
                    <a:pt x="1112" y="25"/>
                  </a:lnTo>
                  <a:lnTo>
                    <a:pt x="1109" y="21"/>
                  </a:lnTo>
                  <a:lnTo>
                    <a:pt x="1112" y="28"/>
                  </a:lnTo>
                  <a:lnTo>
                    <a:pt x="1113" y="38"/>
                  </a:lnTo>
                  <a:lnTo>
                    <a:pt x="1114" y="50"/>
                  </a:lnTo>
                  <a:lnTo>
                    <a:pt x="1115" y="64"/>
                  </a:lnTo>
                  <a:lnTo>
                    <a:pt x="1114" y="78"/>
                  </a:lnTo>
                  <a:lnTo>
                    <a:pt x="1112" y="95"/>
                  </a:lnTo>
                  <a:lnTo>
                    <a:pt x="1110" y="114"/>
                  </a:lnTo>
                  <a:lnTo>
                    <a:pt x="1106" y="133"/>
                  </a:lnTo>
                  <a:lnTo>
                    <a:pt x="1096" y="176"/>
                  </a:lnTo>
                  <a:lnTo>
                    <a:pt x="1082" y="223"/>
                  </a:lnTo>
                  <a:lnTo>
                    <a:pt x="1065" y="276"/>
                  </a:lnTo>
                  <a:lnTo>
                    <a:pt x="1045" y="333"/>
                  </a:lnTo>
                  <a:lnTo>
                    <a:pt x="1022" y="393"/>
                  </a:lnTo>
                  <a:lnTo>
                    <a:pt x="996" y="456"/>
                  </a:lnTo>
                  <a:lnTo>
                    <a:pt x="966" y="522"/>
                  </a:lnTo>
                  <a:lnTo>
                    <a:pt x="933" y="591"/>
                  </a:lnTo>
                  <a:lnTo>
                    <a:pt x="899" y="661"/>
                  </a:lnTo>
                  <a:lnTo>
                    <a:pt x="861" y="733"/>
                  </a:lnTo>
                  <a:lnTo>
                    <a:pt x="821" y="806"/>
                  </a:lnTo>
                  <a:lnTo>
                    <a:pt x="778" y="879"/>
                  </a:lnTo>
                  <a:lnTo>
                    <a:pt x="733" y="953"/>
                  </a:lnTo>
                  <a:lnTo>
                    <a:pt x="687" y="1028"/>
                  </a:lnTo>
                  <a:lnTo>
                    <a:pt x="638" y="1102"/>
                  </a:lnTo>
                  <a:lnTo>
                    <a:pt x="588" y="1174"/>
                  </a:lnTo>
                  <a:lnTo>
                    <a:pt x="561" y="1209"/>
                  </a:lnTo>
                  <a:lnTo>
                    <a:pt x="534" y="1244"/>
                  </a:lnTo>
                  <a:lnTo>
                    <a:pt x="508" y="1280"/>
                  </a:lnTo>
                  <a:lnTo>
                    <a:pt x="480" y="1314"/>
                  </a:lnTo>
                  <a:lnTo>
                    <a:pt x="452" y="1348"/>
                  </a:lnTo>
                  <a:lnTo>
                    <a:pt x="425" y="1381"/>
                  </a:lnTo>
                  <a:lnTo>
                    <a:pt x="396" y="1413"/>
                  </a:lnTo>
                  <a:lnTo>
                    <a:pt x="366" y="1445"/>
                  </a:lnTo>
                  <a:lnTo>
                    <a:pt x="338" y="1476"/>
                  </a:lnTo>
                  <a:lnTo>
                    <a:pt x="308" y="1507"/>
                  </a:lnTo>
                  <a:lnTo>
                    <a:pt x="279" y="1536"/>
                  </a:lnTo>
                  <a:lnTo>
                    <a:pt x="249" y="1564"/>
                  </a:lnTo>
                  <a:lnTo>
                    <a:pt x="218" y="1592"/>
                  </a:lnTo>
                  <a:lnTo>
                    <a:pt x="187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5" y="1692"/>
                  </a:lnTo>
                  <a:lnTo>
                    <a:pt x="63" y="1713"/>
                  </a:lnTo>
                  <a:lnTo>
                    <a:pt x="31" y="1734"/>
                  </a:lnTo>
                  <a:lnTo>
                    <a:pt x="0" y="1753"/>
                  </a:lnTo>
                  <a:lnTo>
                    <a:pt x="81" y="1835"/>
                  </a:lnTo>
                  <a:lnTo>
                    <a:pt x="113" y="1816"/>
                  </a:lnTo>
                  <a:lnTo>
                    <a:pt x="145" y="1795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9" y="1726"/>
                  </a:lnTo>
                  <a:lnTo>
                    <a:pt x="269" y="1701"/>
                  </a:lnTo>
                  <a:lnTo>
                    <a:pt x="300" y="1673"/>
                  </a:lnTo>
                  <a:lnTo>
                    <a:pt x="330" y="1646"/>
                  </a:lnTo>
                  <a:lnTo>
                    <a:pt x="361" y="1617"/>
                  </a:lnTo>
                  <a:lnTo>
                    <a:pt x="390" y="1589"/>
                  </a:lnTo>
                  <a:lnTo>
                    <a:pt x="420" y="1558"/>
                  </a:lnTo>
                  <a:lnTo>
                    <a:pt x="448" y="1527"/>
                  </a:lnTo>
                  <a:lnTo>
                    <a:pt x="477" y="1495"/>
                  </a:lnTo>
                  <a:lnTo>
                    <a:pt x="505" y="1462"/>
                  </a:lnTo>
                  <a:lnTo>
                    <a:pt x="534" y="1429"/>
                  </a:lnTo>
                  <a:lnTo>
                    <a:pt x="561" y="1395"/>
                  </a:lnTo>
                  <a:lnTo>
                    <a:pt x="589" y="1361"/>
                  </a:lnTo>
                  <a:lnTo>
                    <a:pt x="616" y="1326"/>
                  </a:lnTo>
                  <a:lnTo>
                    <a:pt x="642" y="1291"/>
                  </a:lnTo>
                  <a:lnTo>
                    <a:pt x="668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6" y="1036"/>
                  </a:lnTo>
                  <a:lnTo>
                    <a:pt x="860" y="961"/>
                  </a:lnTo>
                  <a:lnTo>
                    <a:pt x="902" y="887"/>
                  </a:lnTo>
                  <a:lnTo>
                    <a:pt x="943" y="814"/>
                  </a:lnTo>
                  <a:lnTo>
                    <a:pt x="981" y="742"/>
                  </a:lnTo>
                  <a:lnTo>
                    <a:pt x="1015" y="672"/>
                  </a:lnTo>
                  <a:lnTo>
                    <a:pt x="1048" y="603"/>
                  </a:lnTo>
                  <a:lnTo>
                    <a:pt x="1078" y="537"/>
                  </a:lnTo>
                  <a:lnTo>
                    <a:pt x="1104" y="474"/>
                  </a:lnTo>
                  <a:lnTo>
                    <a:pt x="1127" y="414"/>
                  </a:lnTo>
                  <a:lnTo>
                    <a:pt x="1147" y="358"/>
                  </a:lnTo>
                  <a:lnTo>
                    <a:pt x="1164" y="304"/>
                  </a:lnTo>
                  <a:lnTo>
                    <a:pt x="1178" y="256"/>
                  </a:lnTo>
                  <a:lnTo>
                    <a:pt x="1188" y="214"/>
                  </a:lnTo>
                  <a:lnTo>
                    <a:pt x="1192" y="195"/>
                  </a:lnTo>
                  <a:lnTo>
                    <a:pt x="1194" y="175"/>
                  </a:lnTo>
                  <a:lnTo>
                    <a:pt x="1196" y="159"/>
                  </a:lnTo>
                  <a:lnTo>
                    <a:pt x="1197" y="143"/>
                  </a:lnTo>
                  <a:lnTo>
                    <a:pt x="1196" y="130"/>
                  </a:lnTo>
                  <a:lnTo>
                    <a:pt x="1195" y="117"/>
                  </a:lnTo>
                  <a:lnTo>
                    <a:pt x="1193" y="106"/>
                  </a:lnTo>
                  <a:lnTo>
                    <a:pt x="1189" y="95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5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4" y="54"/>
                  </a:lnTo>
                  <a:lnTo>
                    <a:pt x="1166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2994120" y="3840120"/>
              <a:ext cx="37620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6" y="1753"/>
                  </a:moveTo>
                  <a:lnTo>
                    <a:pt x="96" y="1835"/>
                  </a:lnTo>
                  <a:lnTo>
                    <a:pt x="108" y="1833"/>
                  </a:lnTo>
                  <a:lnTo>
                    <a:pt x="119" y="1828"/>
                  </a:lnTo>
                  <a:lnTo>
                    <a:pt x="130" y="1822"/>
                  </a:lnTo>
                  <a:lnTo>
                    <a:pt x="144" y="1812"/>
                  </a:lnTo>
                  <a:lnTo>
                    <a:pt x="158" y="1800"/>
                  </a:lnTo>
                  <a:lnTo>
                    <a:pt x="174" y="1787"/>
                  </a:lnTo>
                  <a:lnTo>
                    <a:pt x="189" y="1771"/>
                  </a:lnTo>
                  <a:lnTo>
                    <a:pt x="206" y="1753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59" y="1689"/>
                  </a:lnTo>
                  <a:lnTo>
                    <a:pt x="279" y="1664"/>
                  </a:lnTo>
                  <a:lnTo>
                    <a:pt x="320" y="1609"/>
                  </a:lnTo>
                  <a:lnTo>
                    <a:pt x="363" y="1550"/>
                  </a:lnTo>
                  <a:lnTo>
                    <a:pt x="406" y="1485"/>
                  </a:lnTo>
                  <a:lnTo>
                    <a:pt x="453" y="1415"/>
                  </a:lnTo>
                  <a:lnTo>
                    <a:pt x="500" y="1342"/>
                  </a:lnTo>
                  <a:lnTo>
                    <a:pt x="548" y="1266"/>
                  </a:lnTo>
                  <a:lnTo>
                    <a:pt x="596" y="1186"/>
                  </a:lnTo>
                  <a:lnTo>
                    <a:pt x="645" y="1106"/>
                  </a:lnTo>
                  <a:lnTo>
                    <a:pt x="692" y="1024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2" y="620"/>
                  </a:lnTo>
                  <a:lnTo>
                    <a:pt x="1000" y="473"/>
                  </a:lnTo>
                  <a:lnTo>
                    <a:pt x="1069" y="342"/>
                  </a:lnTo>
                  <a:lnTo>
                    <a:pt x="1098" y="284"/>
                  </a:lnTo>
                  <a:lnTo>
                    <a:pt x="1123" y="232"/>
                  </a:lnTo>
                  <a:lnTo>
                    <a:pt x="1145" y="187"/>
                  </a:lnTo>
                  <a:lnTo>
                    <a:pt x="1163" y="149"/>
                  </a:lnTo>
                  <a:lnTo>
                    <a:pt x="1176" y="118"/>
                  </a:lnTo>
                  <a:lnTo>
                    <a:pt x="1184" y="97"/>
                  </a:lnTo>
                  <a:lnTo>
                    <a:pt x="1186" y="89"/>
                  </a:lnTo>
                  <a:lnTo>
                    <a:pt x="1186" y="84"/>
                  </a:lnTo>
                  <a:lnTo>
                    <a:pt x="1186" y="81"/>
                  </a:lnTo>
                  <a:lnTo>
                    <a:pt x="1131" y="19"/>
                  </a:lnTo>
                  <a:lnTo>
                    <a:pt x="1104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4" y="82"/>
                  </a:lnTo>
                  <a:lnTo>
                    <a:pt x="1158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9"/>
                  </a:lnTo>
                  <a:lnTo>
                    <a:pt x="1102" y="16"/>
                  </a:lnTo>
                  <a:lnTo>
                    <a:pt x="1094" y="37"/>
                  </a:lnTo>
                  <a:lnTo>
                    <a:pt x="1081" y="67"/>
                  </a:lnTo>
                  <a:lnTo>
                    <a:pt x="1064" y="106"/>
                  </a:lnTo>
                  <a:lnTo>
                    <a:pt x="1042" y="151"/>
                  </a:lnTo>
                  <a:lnTo>
                    <a:pt x="1016" y="203"/>
                  </a:lnTo>
                  <a:lnTo>
                    <a:pt x="987" y="261"/>
                  </a:lnTo>
                  <a:lnTo>
                    <a:pt x="918" y="392"/>
                  </a:lnTo>
                  <a:lnTo>
                    <a:pt x="840" y="539"/>
                  </a:lnTo>
                  <a:lnTo>
                    <a:pt x="752" y="697"/>
                  </a:lnTo>
                  <a:lnTo>
                    <a:pt x="659" y="861"/>
                  </a:lnTo>
                  <a:lnTo>
                    <a:pt x="610" y="943"/>
                  </a:lnTo>
                  <a:lnTo>
                    <a:pt x="562" y="1024"/>
                  </a:lnTo>
                  <a:lnTo>
                    <a:pt x="515" y="1105"/>
                  </a:lnTo>
                  <a:lnTo>
                    <a:pt x="466" y="1184"/>
                  </a:lnTo>
                  <a:lnTo>
                    <a:pt x="418" y="1260"/>
                  </a:lnTo>
                  <a:lnTo>
                    <a:pt x="371" y="1333"/>
                  </a:lnTo>
                  <a:lnTo>
                    <a:pt x="325" y="1403"/>
                  </a:lnTo>
                  <a:lnTo>
                    <a:pt x="281" y="1468"/>
                  </a:lnTo>
                  <a:lnTo>
                    <a:pt x="238" y="1528"/>
                  </a:lnTo>
                  <a:lnTo>
                    <a:pt x="198" y="1583"/>
                  </a:lnTo>
                  <a:lnTo>
                    <a:pt x="178" y="1607"/>
                  </a:lnTo>
                  <a:lnTo>
                    <a:pt x="159" y="1631"/>
                  </a:lnTo>
                  <a:lnTo>
                    <a:pt x="141" y="1653"/>
                  </a:lnTo>
                  <a:lnTo>
                    <a:pt x="124" y="1672"/>
                  </a:lnTo>
                  <a:lnTo>
                    <a:pt x="108" y="1689"/>
                  </a:lnTo>
                  <a:lnTo>
                    <a:pt x="92" y="1705"/>
                  </a:lnTo>
                  <a:lnTo>
                    <a:pt x="77" y="1719"/>
                  </a:lnTo>
                  <a:lnTo>
                    <a:pt x="62" y="1730"/>
                  </a:lnTo>
                  <a:lnTo>
                    <a:pt x="49" y="1739"/>
                  </a:lnTo>
                  <a:lnTo>
                    <a:pt x="37" y="1746"/>
                  </a:lnTo>
                  <a:lnTo>
                    <a:pt x="27" y="1751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6" y="1753"/>
                  </a:lnTo>
                  <a:lnTo>
                    <a:pt x="0" y="1814"/>
                  </a:lnTo>
                  <a:lnTo>
                    <a:pt x="96" y="1835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606760" y="385272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2" y="1714"/>
                  </a:lnTo>
                  <a:lnTo>
                    <a:pt x="125" y="1668"/>
                  </a:lnTo>
                  <a:lnTo>
                    <a:pt x="188" y="1619"/>
                  </a:lnTo>
                  <a:lnTo>
                    <a:pt x="248" y="1565"/>
                  </a:lnTo>
                  <a:lnTo>
                    <a:pt x="307" y="1508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5"/>
                  </a:lnTo>
                  <a:lnTo>
                    <a:pt x="534" y="1245"/>
                  </a:lnTo>
                  <a:lnTo>
                    <a:pt x="587" y="1174"/>
                  </a:lnTo>
                  <a:lnTo>
                    <a:pt x="637" y="1101"/>
                  </a:lnTo>
                  <a:lnTo>
                    <a:pt x="686" y="1028"/>
                  </a:lnTo>
                  <a:lnTo>
                    <a:pt x="733" y="954"/>
                  </a:lnTo>
                  <a:lnTo>
                    <a:pt x="778" y="880"/>
                  </a:lnTo>
                  <a:lnTo>
                    <a:pt x="820" y="806"/>
                  </a:lnTo>
                  <a:lnTo>
                    <a:pt x="860" y="733"/>
                  </a:lnTo>
                  <a:lnTo>
                    <a:pt x="898" y="661"/>
                  </a:lnTo>
                  <a:lnTo>
                    <a:pt x="933" y="590"/>
                  </a:lnTo>
                  <a:lnTo>
                    <a:pt x="965" y="522"/>
                  </a:lnTo>
                  <a:lnTo>
                    <a:pt x="995" y="456"/>
                  </a:lnTo>
                  <a:lnTo>
                    <a:pt x="1021" y="393"/>
                  </a:lnTo>
                  <a:lnTo>
                    <a:pt x="1045" y="332"/>
                  </a:lnTo>
                  <a:lnTo>
                    <a:pt x="1066" y="277"/>
                  </a:lnTo>
                  <a:lnTo>
                    <a:pt x="1083" y="224"/>
                  </a:lnTo>
                  <a:lnTo>
                    <a:pt x="1096" y="176"/>
                  </a:lnTo>
                  <a:lnTo>
                    <a:pt x="1105" y="133"/>
                  </a:lnTo>
                  <a:lnTo>
                    <a:pt x="1112" y="95"/>
                  </a:lnTo>
                  <a:lnTo>
                    <a:pt x="1115" y="63"/>
                  </a:lnTo>
                  <a:lnTo>
                    <a:pt x="1113" y="37"/>
                  </a:lnTo>
                  <a:lnTo>
                    <a:pt x="1108" y="18"/>
                  </a:lnTo>
                  <a:lnTo>
                    <a:pt x="1099" y="6"/>
                  </a:lnTo>
                  <a:lnTo>
                    <a:pt x="1085" y="0"/>
                  </a:lnTo>
                  <a:lnTo>
                    <a:pt x="1088" y="3"/>
                  </a:lnTo>
                  <a:lnTo>
                    <a:pt x="1085" y="15"/>
                  </a:lnTo>
                  <a:lnTo>
                    <a:pt x="1077" y="37"/>
                  </a:lnTo>
                  <a:lnTo>
                    <a:pt x="1064" y="68"/>
                  </a:lnTo>
                  <a:lnTo>
                    <a:pt x="1047" y="105"/>
                  </a:lnTo>
                  <a:lnTo>
                    <a:pt x="1026" y="151"/>
                  </a:lnTo>
                  <a:lnTo>
                    <a:pt x="999" y="203"/>
                  </a:lnTo>
                  <a:lnTo>
                    <a:pt x="971" y="261"/>
                  </a:lnTo>
                  <a:lnTo>
                    <a:pt x="903" y="392"/>
                  </a:lnTo>
                  <a:lnTo>
                    <a:pt x="823" y="539"/>
                  </a:lnTo>
                  <a:lnTo>
                    <a:pt x="736" y="697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7" y="1025"/>
                  </a:lnTo>
                  <a:lnTo>
                    <a:pt x="498" y="1106"/>
                  </a:lnTo>
                  <a:lnTo>
                    <a:pt x="450" y="1185"/>
                  </a:lnTo>
                  <a:lnTo>
                    <a:pt x="402" y="1261"/>
                  </a:lnTo>
                  <a:lnTo>
                    <a:pt x="354" y="1334"/>
                  </a:lnTo>
                  <a:lnTo>
                    <a:pt x="309" y="1404"/>
                  </a:lnTo>
                  <a:lnTo>
                    <a:pt x="264" y="1469"/>
                  </a:lnTo>
                  <a:lnTo>
                    <a:pt x="222" y="1529"/>
                  </a:lnTo>
                  <a:lnTo>
                    <a:pt x="181" y="1583"/>
                  </a:lnTo>
                  <a:lnTo>
                    <a:pt x="143" y="1631"/>
                  </a:lnTo>
                  <a:lnTo>
                    <a:pt x="108" y="1672"/>
                  </a:lnTo>
                  <a:lnTo>
                    <a:pt x="75" y="1706"/>
                  </a:lnTo>
                  <a:lnTo>
                    <a:pt x="46" y="1731"/>
                  </a:lnTo>
                  <a:lnTo>
                    <a:pt x="20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2593800" y="384012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6" y="0"/>
                  </a:moveTo>
                  <a:lnTo>
                    <a:pt x="1166" y="82"/>
                  </a:lnTo>
                  <a:lnTo>
                    <a:pt x="1172" y="84"/>
                  </a:lnTo>
                  <a:lnTo>
                    <a:pt x="1167" y="80"/>
                  </a:lnTo>
                  <a:lnTo>
                    <a:pt x="1111" y="24"/>
                  </a:lnTo>
                  <a:lnTo>
                    <a:pt x="1109" y="22"/>
                  </a:lnTo>
                  <a:lnTo>
                    <a:pt x="1111" y="29"/>
                  </a:lnTo>
                  <a:lnTo>
                    <a:pt x="1113" y="39"/>
                  </a:lnTo>
                  <a:lnTo>
                    <a:pt x="1115" y="51"/>
                  </a:lnTo>
                  <a:lnTo>
                    <a:pt x="1115" y="64"/>
                  </a:lnTo>
                  <a:lnTo>
                    <a:pt x="1113" y="79"/>
                  </a:lnTo>
                  <a:lnTo>
                    <a:pt x="1112" y="96"/>
                  </a:lnTo>
                  <a:lnTo>
                    <a:pt x="1109" y="114"/>
                  </a:lnTo>
                  <a:lnTo>
                    <a:pt x="1105" y="134"/>
                  </a:lnTo>
                  <a:lnTo>
                    <a:pt x="1095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5" y="333"/>
                  </a:lnTo>
                  <a:lnTo>
                    <a:pt x="1021" y="393"/>
                  </a:lnTo>
                  <a:lnTo>
                    <a:pt x="995" y="457"/>
                  </a:lnTo>
                  <a:lnTo>
                    <a:pt x="965" y="523"/>
                  </a:lnTo>
                  <a:lnTo>
                    <a:pt x="933" y="591"/>
                  </a:lnTo>
                  <a:lnTo>
                    <a:pt x="898" y="662"/>
                  </a:lnTo>
                  <a:lnTo>
                    <a:pt x="860" y="734"/>
                  </a:lnTo>
                  <a:lnTo>
                    <a:pt x="820" y="807"/>
                  </a:lnTo>
                  <a:lnTo>
                    <a:pt x="778" y="880"/>
                  </a:lnTo>
                  <a:lnTo>
                    <a:pt x="734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4" y="1245"/>
                  </a:lnTo>
                  <a:lnTo>
                    <a:pt x="507" y="1280"/>
                  </a:lnTo>
                  <a:lnTo>
                    <a:pt x="480" y="1315"/>
                  </a:lnTo>
                  <a:lnTo>
                    <a:pt x="452" y="1348"/>
                  </a:lnTo>
                  <a:lnTo>
                    <a:pt x="424" y="1382"/>
                  </a:lnTo>
                  <a:lnTo>
                    <a:pt x="395" y="1414"/>
                  </a:lnTo>
                  <a:lnTo>
                    <a:pt x="367" y="1446"/>
                  </a:lnTo>
                  <a:lnTo>
                    <a:pt x="337" y="1477"/>
                  </a:lnTo>
                  <a:lnTo>
                    <a:pt x="309" y="1507"/>
                  </a:lnTo>
                  <a:lnTo>
                    <a:pt x="278" y="1537"/>
                  </a:lnTo>
                  <a:lnTo>
                    <a:pt x="248" y="1564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4" y="1692"/>
                  </a:lnTo>
                  <a:lnTo>
                    <a:pt x="63" y="1714"/>
                  </a:lnTo>
                  <a:lnTo>
                    <a:pt x="32" y="1734"/>
                  </a:lnTo>
                  <a:lnTo>
                    <a:pt x="0" y="1754"/>
                  </a:lnTo>
                  <a:lnTo>
                    <a:pt x="81" y="1835"/>
                  </a:lnTo>
                  <a:lnTo>
                    <a:pt x="112" y="1817"/>
                  </a:lnTo>
                  <a:lnTo>
                    <a:pt x="144" y="1795"/>
                  </a:lnTo>
                  <a:lnTo>
                    <a:pt x="176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299" y="1674"/>
                  </a:lnTo>
                  <a:lnTo>
                    <a:pt x="330" y="1647"/>
                  </a:lnTo>
                  <a:lnTo>
                    <a:pt x="360" y="1618"/>
                  </a:lnTo>
                  <a:lnTo>
                    <a:pt x="390" y="1590"/>
                  </a:lnTo>
                  <a:lnTo>
                    <a:pt x="419" y="1559"/>
                  </a:lnTo>
                  <a:lnTo>
                    <a:pt x="449" y="1528"/>
                  </a:lnTo>
                  <a:lnTo>
                    <a:pt x="477" y="1496"/>
                  </a:lnTo>
                  <a:lnTo>
                    <a:pt x="506" y="1463"/>
                  </a:lnTo>
                  <a:lnTo>
                    <a:pt x="534" y="1430"/>
                  </a:lnTo>
                  <a:lnTo>
                    <a:pt x="562" y="1396"/>
                  </a:lnTo>
                  <a:lnTo>
                    <a:pt x="589" y="1361"/>
                  </a:lnTo>
                  <a:lnTo>
                    <a:pt x="616" y="1327"/>
                  </a:lnTo>
                  <a:lnTo>
                    <a:pt x="643" y="1292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6"/>
                  </a:lnTo>
                  <a:lnTo>
                    <a:pt x="860" y="962"/>
                  </a:lnTo>
                  <a:lnTo>
                    <a:pt x="903" y="888"/>
                  </a:lnTo>
                  <a:lnTo>
                    <a:pt x="942" y="815"/>
                  </a:lnTo>
                  <a:lnTo>
                    <a:pt x="980" y="743"/>
                  </a:lnTo>
                  <a:lnTo>
                    <a:pt x="1015" y="672"/>
                  </a:lnTo>
                  <a:lnTo>
                    <a:pt x="1047" y="604"/>
                  </a:lnTo>
                  <a:lnTo>
                    <a:pt x="1077" y="538"/>
                  </a:lnTo>
                  <a:lnTo>
                    <a:pt x="1103" y="475"/>
                  </a:lnTo>
                  <a:lnTo>
                    <a:pt x="1127" y="414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8" y="257"/>
                  </a:lnTo>
                  <a:lnTo>
                    <a:pt x="1188" y="215"/>
                  </a:lnTo>
                  <a:lnTo>
                    <a:pt x="1192" y="194"/>
                  </a:lnTo>
                  <a:lnTo>
                    <a:pt x="1194" y="176"/>
                  </a:lnTo>
                  <a:lnTo>
                    <a:pt x="1195" y="160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5" y="118"/>
                  </a:lnTo>
                  <a:lnTo>
                    <a:pt x="1193" y="106"/>
                  </a:lnTo>
                  <a:lnTo>
                    <a:pt x="1190" y="96"/>
                  </a:lnTo>
                  <a:lnTo>
                    <a:pt x="1178" y="79"/>
                  </a:lnTo>
                  <a:lnTo>
                    <a:pt x="1112" y="13"/>
                  </a:lnTo>
                  <a:lnTo>
                    <a:pt x="1095" y="3"/>
                  </a:lnTo>
                  <a:lnTo>
                    <a:pt x="1086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3" y="55"/>
                  </a:lnTo>
                  <a:lnTo>
                    <a:pt x="1166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589120" y="3840120"/>
              <a:ext cx="376200" cy="582480"/>
            </a:xfrm>
            <a:custGeom>
              <a:avLst/>
              <a:gdLst/>
              <a:ahLst/>
              <a:rect l="l" t="t" r="r" b="b"/>
              <a:pathLst>
                <a:path w="1185" h="1836">
                  <a:moveTo>
                    <a:pt x="15" y="1754"/>
                  </a:moveTo>
                  <a:lnTo>
                    <a:pt x="96" y="1836"/>
                  </a:lnTo>
                  <a:lnTo>
                    <a:pt x="106" y="1834"/>
                  </a:lnTo>
                  <a:lnTo>
                    <a:pt x="117" y="1829"/>
                  </a:lnTo>
                  <a:lnTo>
                    <a:pt x="130" y="1822"/>
                  </a:lnTo>
                  <a:lnTo>
                    <a:pt x="142" y="1812"/>
                  </a:lnTo>
                  <a:lnTo>
                    <a:pt x="157" y="1801"/>
                  </a:lnTo>
                  <a:lnTo>
                    <a:pt x="172" y="1788"/>
                  </a:lnTo>
                  <a:lnTo>
                    <a:pt x="188" y="1772"/>
                  </a:lnTo>
                  <a:lnTo>
                    <a:pt x="205" y="1754"/>
                  </a:lnTo>
                  <a:lnTo>
                    <a:pt x="222" y="1734"/>
                  </a:lnTo>
                  <a:lnTo>
                    <a:pt x="239" y="1713"/>
                  </a:lnTo>
                  <a:lnTo>
                    <a:pt x="259" y="1690"/>
                  </a:lnTo>
                  <a:lnTo>
                    <a:pt x="278" y="1665"/>
                  </a:lnTo>
                  <a:lnTo>
                    <a:pt x="319" y="1610"/>
                  </a:lnTo>
                  <a:lnTo>
                    <a:pt x="361" y="1551"/>
                  </a:lnTo>
                  <a:lnTo>
                    <a:pt x="406" y="1486"/>
                  </a:lnTo>
                  <a:lnTo>
                    <a:pt x="451" y="1416"/>
                  </a:lnTo>
                  <a:lnTo>
                    <a:pt x="499" y="1342"/>
                  </a:lnTo>
                  <a:lnTo>
                    <a:pt x="547" y="1266"/>
                  </a:lnTo>
                  <a:lnTo>
                    <a:pt x="595" y="1187"/>
                  </a:lnTo>
                  <a:lnTo>
                    <a:pt x="643" y="1107"/>
                  </a:lnTo>
                  <a:lnTo>
                    <a:pt x="692" y="1025"/>
                  </a:lnTo>
                  <a:lnTo>
                    <a:pt x="740" y="943"/>
                  </a:lnTo>
                  <a:lnTo>
                    <a:pt x="833" y="778"/>
                  </a:lnTo>
                  <a:lnTo>
                    <a:pt x="920" y="621"/>
                  </a:lnTo>
                  <a:lnTo>
                    <a:pt x="1000" y="474"/>
                  </a:lnTo>
                  <a:lnTo>
                    <a:pt x="1068" y="343"/>
                  </a:lnTo>
                  <a:lnTo>
                    <a:pt x="1096" y="284"/>
                  </a:lnTo>
                  <a:lnTo>
                    <a:pt x="1123" y="233"/>
                  </a:lnTo>
                  <a:lnTo>
                    <a:pt x="1144" y="187"/>
                  </a:lnTo>
                  <a:lnTo>
                    <a:pt x="1161" y="149"/>
                  </a:lnTo>
                  <a:lnTo>
                    <a:pt x="1175" y="119"/>
                  </a:lnTo>
                  <a:lnTo>
                    <a:pt x="1182" y="97"/>
                  </a:lnTo>
                  <a:lnTo>
                    <a:pt x="1184" y="89"/>
                  </a:lnTo>
                  <a:lnTo>
                    <a:pt x="1185" y="85"/>
                  </a:lnTo>
                  <a:lnTo>
                    <a:pt x="1184" y="81"/>
                  </a:lnTo>
                  <a:lnTo>
                    <a:pt x="1130" y="20"/>
                  </a:lnTo>
                  <a:lnTo>
                    <a:pt x="1102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4"/>
                  </a:lnTo>
                  <a:lnTo>
                    <a:pt x="1103" y="4"/>
                  </a:lnTo>
                  <a:lnTo>
                    <a:pt x="1103" y="4"/>
                  </a:lnTo>
                  <a:lnTo>
                    <a:pt x="1102" y="9"/>
                  </a:lnTo>
                  <a:lnTo>
                    <a:pt x="1100" y="16"/>
                  </a:lnTo>
                  <a:lnTo>
                    <a:pt x="1092" y="38"/>
                  </a:lnTo>
                  <a:lnTo>
                    <a:pt x="1079" y="68"/>
                  </a:lnTo>
                  <a:lnTo>
                    <a:pt x="1062" y="106"/>
                  </a:lnTo>
                  <a:lnTo>
                    <a:pt x="1041" y="151"/>
                  </a:lnTo>
                  <a:lnTo>
                    <a:pt x="1016" y="203"/>
                  </a:lnTo>
                  <a:lnTo>
                    <a:pt x="986" y="262"/>
                  </a:lnTo>
                  <a:lnTo>
                    <a:pt x="918" y="393"/>
                  </a:lnTo>
                  <a:lnTo>
                    <a:pt x="838" y="540"/>
                  </a:lnTo>
                  <a:lnTo>
                    <a:pt x="751" y="697"/>
                  </a:lnTo>
                  <a:lnTo>
                    <a:pt x="658" y="861"/>
                  </a:lnTo>
                  <a:lnTo>
                    <a:pt x="610" y="944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5" y="1185"/>
                  </a:lnTo>
                  <a:lnTo>
                    <a:pt x="417" y="1261"/>
                  </a:lnTo>
                  <a:lnTo>
                    <a:pt x="370" y="1334"/>
                  </a:lnTo>
                  <a:lnTo>
                    <a:pt x="324" y="1404"/>
                  </a:lnTo>
                  <a:lnTo>
                    <a:pt x="279" y="1469"/>
                  </a:lnTo>
                  <a:lnTo>
                    <a:pt x="237" y="1529"/>
                  </a:lnTo>
                  <a:lnTo>
                    <a:pt x="196" y="1584"/>
                  </a:lnTo>
                  <a:lnTo>
                    <a:pt x="177" y="1608"/>
                  </a:lnTo>
                  <a:lnTo>
                    <a:pt x="158" y="1632"/>
                  </a:lnTo>
                  <a:lnTo>
                    <a:pt x="140" y="1652"/>
                  </a:lnTo>
                  <a:lnTo>
                    <a:pt x="123" y="1672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5" y="1720"/>
                  </a:lnTo>
                  <a:lnTo>
                    <a:pt x="61" y="1731"/>
                  </a:lnTo>
                  <a:lnTo>
                    <a:pt x="48" y="1740"/>
                  </a:lnTo>
                  <a:lnTo>
                    <a:pt x="36" y="1747"/>
                  </a:lnTo>
                  <a:lnTo>
                    <a:pt x="25" y="1752"/>
                  </a:lnTo>
                  <a:lnTo>
                    <a:pt x="16" y="1753"/>
                  </a:lnTo>
                  <a:lnTo>
                    <a:pt x="96" y="1835"/>
                  </a:lnTo>
                  <a:lnTo>
                    <a:pt x="15" y="1754"/>
                  </a:lnTo>
                  <a:lnTo>
                    <a:pt x="0" y="1813"/>
                  </a:lnTo>
                  <a:lnTo>
                    <a:pt x="96" y="1836"/>
                  </a:lnTo>
                  <a:lnTo>
                    <a:pt x="15" y="175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6276960" y="3859200"/>
              <a:ext cx="230040" cy="609480"/>
            </a:xfrm>
            <a:custGeom>
              <a:avLst/>
              <a:gdLst/>
              <a:ahLst/>
              <a:rect l="l" t="t" r="r" b="b"/>
              <a:pathLst>
                <a:path w="724" h="1920">
                  <a:moveTo>
                    <a:pt x="724" y="556"/>
                  </a:moveTo>
                  <a:lnTo>
                    <a:pt x="695" y="649"/>
                  </a:lnTo>
                  <a:lnTo>
                    <a:pt x="664" y="743"/>
                  </a:lnTo>
                  <a:lnTo>
                    <a:pt x="631" y="837"/>
                  </a:lnTo>
                  <a:lnTo>
                    <a:pt x="596" y="933"/>
                  </a:lnTo>
                  <a:lnTo>
                    <a:pt x="578" y="980"/>
                  </a:lnTo>
                  <a:lnTo>
                    <a:pt x="558" y="1028"/>
                  </a:lnTo>
                  <a:lnTo>
                    <a:pt x="539" y="1075"/>
                  </a:lnTo>
                  <a:lnTo>
                    <a:pt x="518" y="1122"/>
                  </a:lnTo>
                  <a:lnTo>
                    <a:pt x="498" y="1168"/>
                  </a:lnTo>
                  <a:lnTo>
                    <a:pt x="477" y="1214"/>
                  </a:lnTo>
                  <a:lnTo>
                    <a:pt x="455" y="1261"/>
                  </a:lnTo>
                  <a:lnTo>
                    <a:pt x="433" y="1305"/>
                  </a:lnTo>
                  <a:lnTo>
                    <a:pt x="410" y="1351"/>
                  </a:lnTo>
                  <a:lnTo>
                    <a:pt x="386" y="1394"/>
                  </a:lnTo>
                  <a:lnTo>
                    <a:pt x="362" y="1439"/>
                  </a:lnTo>
                  <a:lnTo>
                    <a:pt x="337" y="1481"/>
                  </a:lnTo>
                  <a:lnTo>
                    <a:pt x="312" y="1523"/>
                  </a:lnTo>
                  <a:lnTo>
                    <a:pt x="287" y="1564"/>
                  </a:lnTo>
                  <a:lnTo>
                    <a:pt x="261" y="1605"/>
                  </a:lnTo>
                  <a:lnTo>
                    <a:pt x="233" y="1644"/>
                  </a:lnTo>
                  <a:lnTo>
                    <a:pt x="206" y="1683"/>
                  </a:lnTo>
                  <a:lnTo>
                    <a:pt x="179" y="1721"/>
                  </a:lnTo>
                  <a:lnTo>
                    <a:pt x="150" y="1757"/>
                  </a:lnTo>
                  <a:lnTo>
                    <a:pt x="121" y="1792"/>
                  </a:lnTo>
                  <a:lnTo>
                    <a:pt x="91" y="1825"/>
                  </a:lnTo>
                  <a:lnTo>
                    <a:pt x="61" y="1859"/>
                  </a:lnTo>
                  <a:lnTo>
                    <a:pt x="30" y="1889"/>
                  </a:lnTo>
                  <a:lnTo>
                    <a:pt x="0" y="1920"/>
                  </a:lnTo>
                  <a:lnTo>
                    <a:pt x="16" y="1911"/>
                  </a:lnTo>
                  <a:lnTo>
                    <a:pt x="34" y="1897"/>
                  </a:lnTo>
                  <a:lnTo>
                    <a:pt x="52" y="1876"/>
                  </a:lnTo>
                  <a:lnTo>
                    <a:pt x="73" y="1849"/>
                  </a:lnTo>
                  <a:lnTo>
                    <a:pt x="93" y="1818"/>
                  </a:lnTo>
                  <a:lnTo>
                    <a:pt x="115" y="1780"/>
                  </a:lnTo>
                  <a:lnTo>
                    <a:pt x="138" y="1737"/>
                  </a:lnTo>
                  <a:lnTo>
                    <a:pt x="160" y="1690"/>
                  </a:lnTo>
                  <a:lnTo>
                    <a:pt x="183" y="1638"/>
                  </a:lnTo>
                  <a:lnTo>
                    <a:pt x="208" y="1582"/>
                  </a:lnTo>
                  <a:lnTo>
                    <a:pt x="232" y="1524"/>
                  </a:lnTo>
                  <a:lnTo>
                    <a:pt x="257" y="1462"/>
                  </a:lnTo>
                  <a:lnTo>
                    <a:pt x="282" y="1397"/>
                  </a:lnTo>
                  <a:lnTo>
                    <a:pt x="309" y="1328"/>
                  </a:lnTo>
                  <a:lnTo>
                    <a:pt x="335" y="1257"/>
                  </a:lnTo>
                  <a:lnTo>
                    <a:pt x="360" y="1184"/>
                  </a:lnTo>
                  <a:lnTo>
                    <a:pt x="411" y="1035"/>
                  </a:lnTo>
                  <a:lnTo>
                    <a:pt x="463" y="880"/>
                  </a:lnTo>
                  <a:lnTo>
                    <a:pt x="513" y="723"/>
                  </a:lnTo>
                  <a:lnTo>
                    <a:pt x="561" y="567"/>
                  </a:lnTo>
                  <a:lnTo>
                    <a:pt x="606" y="414"/>
                  </a:lnTo>
                  <a:lnTo>
                    <a:pt x="649" y="267"/>
                  </a:lnTo>
                  <a:lnTo>
                    <a:pt x="688" y="128"/>
                  </a:lnTo>
                  <a:lnTo>
                    <a:pt x="724" y="0"/>
                  </a:lnTo>
                  <a:lnTo>
                    <a:pt x="724" y="5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6265800" y="4033800"/>
              <a:ext cx="252360" cy="446040"/>
            </a:xfrm>
            <a:custGeom>
              <a:avLst/>
              <a:gdLst/>
              <a:ahLst/>
              <a:rect l="l" t="t" r="r" b="b"/>
              <a:pathLst>
                <a:path w="791" h="1407">
                  <a:moveTo>
                    <a:pt x="24" y="1340"/>
                  </a:moveTo>
                  <a:lnTo>
                    <a:pt x="57" y="1397"/>
                  </a:lnTo>
                  <a:lnTo>
                    <a:pt x="89" y="1366"/>
                  </a:lnTo>
                  <a:lnTo>
                    <a:pt x="120" y="1334"/>
                  </a:lnTo>
                  <a:lnTo>
                    <a:pt x="151" y="1301"/>
                  </a:lnTo>
                  <a:lnTo>
                    <a:pt x="182" y="1267"/>
                  </a:lnTo>
                  <a:lnTo>
                    <a:pt x="211" y="1231"/>
                  </a:lnTo>
                  <a:lnTo>
                    <a:pt x="240" y="1194"/>
                  </a:lnTo>
                  <a:lnTo>
                    <a:pt x="268" y="1155"/>
                  </a:lnTo>
                  <a:lnTo>
                    <a:pt x="296" y="1116"/>
                  </a:lnTo>
                  <a:lnTo>
                    <a:pt x="323" y="1077"/>
                  </a:lnTo>
                  <a:lnTo>
                    <a:pt x="350" y="1035"/>
                  </a:lnTo>
                  <a:lnTo>
                    <a:pt x="376" y="994"/>
                  </a:lnTo>
                  <a:lnTo>
                    <a:pt x="402" y="951"/>
                  </a:lnTo>
                  <a:lnTo>
                    <a:pt x="427" y="908"/>
                  </a:lnTo>
                  <a:lnTo>
                    <a:pt x="451" y="863"/>
                  </a:lnTo>
                  <a:lnTo>
                    <a:pt x="475" y="819"/>
                  </a:lnTo>
                  <a:lnTo>
                    <a:pt x="498" y="774"/>
                  </a:lnTo>
                  <a:lnTo>
                    <a:pt x="520" y="727"/>
                  </a:lnTo>
                  <a:lnTo>
                    <a:pt x="542" y="682"/>
                  </a:lnTo>
                  <a:lnTo>
                    <a:pt x="564" y="635"/>
                  </a:lnTo>
                  <a:lnTo>
                    <a:pt x="584" y="588"/>
                  </a:lnTo>
                  <a:lnTo>
                    <a:pt x="605" y="540"/>
                  </a:lnTo>
                  <a:lnTo>
                    <a:pt x="625" y="494"/>
                  </a:lnTo>
                  <a:lnTo>
                    <a:pt x="643" y="446"/>
                  </a:lnTo>
                  <a:lnTo>
                    <a:pt x="663" y="398"/>
                  </a:lnTo>
                  <a:lnTo>
                    <a:pt x="698" y="302"/>
                  </a:lnTo>
                  <a:lnTo>
                    <a:pt x="731" y="206"/>
                  </a:lnTo>
                  <a:lnTo>
                    <a:pt x="762" y="111"/>
                  </a:lnTo>
                  <a:lnTo>
                    <a:pt x="791" y="18"/>
                  </a:lnTo>
                  <a:lnTo>
                    <a:pt x="726" y="0"/>
                  </a:lnTo>
                  <a:lnTo>
                    <a:pt x="697" y="92"/>
                  </a:lnTo>
                  <a:lnTo>
                    <a:pt x="667" y="186"/>
                  </a:lnTo>
                  <a:lnTo>
                    <a:pt x="634" y="279"/>
                  </a:lnTo>
                  <a:lnTo>
                    <a:pt x="599" y="374"/>
                  </a:lnTo>
                  <a:lnTo>
                    <a:pt x="581" y="421"/>
                  </a:lnTo>
                  <a:lnTo>
                    <a:pt x="563" y="467"/>
                  </a:lnTo>
                  <a:lnTo>
                    <a:pt x="543" y="515"/>
                  </a:lnTo>
                  <a:lnTo>
                    <a:pt x="523" y="561"/>
                  </a:lnTo>
                  <a:lnTo>
                    <a:pt x="502" y="608"/>
                  </a:lnTo>
                  <a:lnTo>
                    <a:pt x="482" y="653"/>
                  </a:lnTo>
                  <a:lnTo>
                    <a:pt x="460" y="699"/>
                  </a:lnTo>
                  <a:lnTo>
                    <a:pt x="437" y="743"/>
                  </a:lnTo>
                  <a:lnTo>
                    <a:pt x="414" y="788"/>
                  </a:lnTo>
                  <a:lnTo>
                    <a:pt x="392" y="831"/>
                  </a:lnTo>
                  <a:lnTo>
                    <a:pt x="368" y="875"/>
                  </a:lnTo>
                  <a:lnTo>
                    <a:pt x="344" y="917"/>
                  </a:lnTo>
                  <a:lnTo>
                    <a:pt x="319" y="959"/>
                  </a:lnTo>
                  <a:lnTo>
                    <a:pt x="293" y="999"/>
                  </a:lnTo>
                  <a:lnTo>
                    <a:pt x="267" y="1039"/>
                  </a:lnTo>
                  <a:lnTo>
                    <a:pt x="241" y="1078"/>
                  </a:lnTo>
                  <a:lnTo>
                    <a:pt x="214" y="1116"/>
                  </a:lnTo>
                  <a:lnTo>
                    <a:pt x="186" y="1153"/>
                  </a:lnTo>
                  <a:lnTo>
                    <a:pt x="159" y="1188"/>
                  </a:lnTo>
                  <a:lnTo>
                    <a:pt x="130" y="1223"/>
                  </a:lnTo>
                  <a:lnTo>
                    <a:pt x="101" y="1257"/>
                  </a:lnTo>
                  <a:lnTo>
                    <a:pt x="71" y="1289"/>
                  </a:lnTo>
                  <a:lnTo>
                    <a:pt x="42" y="1318"/>
                  </a:lnTo>
                  <a:lnTo>
                    <a:pt x="12" y="1348"/>
                  </a:lnTo>
                  <a:lnTo>
                    <a:pt x="44" y="1405"/>
                  </a:lnTo>
                  <a:lnTo>
                    <a:pt x="12" y="1348"/>
                  </a:lnTo>
                  <a:lnTo>
                    <a:pt x="6" y="1354"/>
                  </a:lnTo>
                  <a:lnTo>
                    <a:pt x="3" y="1361"/>
                  </a:lnTo>
                  <a:lnTo>
                    <a:pt x="0" y="1366"/>
                  </a:lnTo>
                  <a:lnTo>
                    <a:pt x="0" y="1373"/>
                  </a:lnTo>
                  <a:lnTo>
                    <a:pt x="0" y="1379"/>
                  </a:lnTo>
                  <a:lnTo>
                    <a:pt x="3" y="1386"/>
                  </a:lnTo>
                  <a:lnTo>
                    <a:pt x="5" y="1390"/>
                  </a:lnTo>
                  <a:lnTo>
                    <a:pt x="10" y="1396"/>
                  </a:lnTo>
                  <a:lnTo>
                    <a:pt x="14" y="1399"/>
                  </a:lnTo>
                  <a:lnTo>
                    <a:pt x="20" y="1403"/>
                  </a:lnTo>
                  <a:lnTo>
                    <a:pt x="26" y="1405"/>
                  </a:lnTo>
                  <a:lnTo>
                    <a:pt x="31" y="1407"/>
                  </a:lnTo>
                  <a:lnTo>
                    <a:pt x="38" y="1407"/>
                  </a:lnTo>
                  <a:lnTo>
                    <a:pt x="45" y="1405"/>
                  </a:lnTo>
                  <a:lnTo>
                    <a:pt x="51" y="1402"/>
                  </a:lnTo>
                  <a:lnTo>
                    <a:pt x="57" y="1397"/>
                  </a:lnTo>
                  <a:lnTo>
                    <a:pt x="24" y="134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6273720" y="3849840"/>
              <a:ext cx="244440" cy="630000"/>
            </a:xfrm>
            <a:custGeom>
              <a:avLst/>
              <a:gdLst/>
              <a:ahLst/>
              <a:rect l="l" t="t" r="r" b="b"/>
              <a:pathLst>
                <a:path w="768" h="1985">
                  <a:moveTo>
                    <a:pt x="768" y="33"/>
                  </a:moveTo>
                  <a:lnTo>
                    <a:pt x="702" y="25"/>
                  </a:lnTo>
                  <a:lnTo>
                    <a:pt x="666" y="153"/>
                  </a:lnTo>
                  <a:lnTo>
                    <a:pt x="627" y="291"/>
                  </a:lnTo>
                  <a:lnTo>
                    <a:pt x="585" y="438"/>
                  </a:lnTo>
                  <a:lnTo>
                    <a:pt x="540" y="590"/>
                  </a:lnTo>
                  <a:lnTo>
                    <a:pt x="492" y="746"/>
                  </a:lnTo>
                  <a:lnTo>
                    <a:pt x="442" y="902"/>
                  </a:lnTo>
                  <a:lnTo>
                    <a:pt x="390" y="1056"/>
                  </a:lnTo>
                  <a:lnTo>
                    <a:pt x="339" y="1206"/>
                  </a:lnTo>
                  <a:lnTo>
                    <a:pt x="314" y="1279"/>
                  </a:lnTo>
                  <a:lnTo>
                    <a:pt x="288" y="1350"/>
                  </a:lnTo>
                  <a:lnTo>
                    <a:pt x="263" y="1417"/>
                  </a:lnTo>
                  <a:lnTo>
                    <a:pt x="238" y="1482"/>
                  </a:lnTo>
                  <a:lnTo>
                    <a:pt x="212" y="1544"/>
                  </a:lnTo>
                  <a:lnTo>
                    <a:pt x="187" y="1603"/>
                  </a:lnTo>
                  <a:lnTo>
                    <a:pt x="163" y="1658"/>
                  </a:lnTo>
                  <a:lnTo>
                    <a:pt x="141" y="1708"/>
                  </a:lnTo>
                  <a:lnTo>
                    <a:pt x="118" y="1755"/>
                  </a:lnTo>
                  <a:lnTo>
                    <a:pt x="96" y="1796"/>
                  </a:lnTo>
                  <a:lnTo>
                    <a:pt x="76" y="1832"/>
                  </a:lnTo>
                  <a:lnTo>
                    <a:pt x="55" y="1864"/>
                  </a:lnTo>
                  <a:lnTo>
                    <a:pt x="46" y="1877"/>
                  </a:lnTo>
                  <a:lnTo>
                    <a:pt x="37" y="1888"/>
                  </a:lnTo>
                  <a:lnTo>
                    <a:pt x="29" y="1897"/>
                  </a:lnTo>
                  <a:lnTo>
                    <a:pt x="21" y="1905"/>
                  </a:lnTo>
                  <a:lnTo>
                    <a:pt x="14" y="1912"/>
                  </a:lnTo>
                  <a:lnTo>
                    <a:pt x="8" y="1917"/>
                  </a:lnTo>
                  <a:lnTo>
                    <a:pt x="4" y="1919"/>
                  </a:lnTo>
                  <a:lnTo>
                    <a:pt x="0" y="1920"/>
                  </a:lnTo>
                  <a:lnTo>
                    <a:pt x="20" y="1985"/>
                  </a:lnTo>
                  <a:lnTo>
                    <a:pt x="33" y="1979"/>
                  </a:lnTo>
                  <a:lnTo>
                    <a:pt x="46" y="1973"/>
                  </a:lnTo>
                  <a:lnTo>
                    <a:pt x="57" y="1965"/>
                  </a:lnTo>
                  <a:lnTo>
                    <a:pt x="68" y="1954"/>
                  </a:lnTo>
                  <a:lnTo>
                    <a:pt x="79" y="1943"/>
                  </a:lnTo>
                  <a:lnTo>
                    <a:pt x="89" y="1930"/>
                  </a:lnTo>
                  <a:lnTo>
                    <a:pt x="101" y="1917"/>
                  </a:lnTo>
                  <a:lnTo>
                    <a:pt x="111" y="1901"/>
                  </a:lnTo>
                  <a:lnTo>
                    <a:pt x="133" y="1868"/>
                  </a:lnTo>
                  <a:lnTo>
                    <a:pt x="155" y="1829"/>
                  </a:lnTo>
                  <a:lnTo>
                    <a:pt x="178" y="1785"/>
                  </a:lnTo>
                  <a:lnTo>
                    <a:pt x="201" y="1738"/>
                  </a:lnTo>
                  <a:lnTo>
                    <a:pt x="225" y="1685"/>
                  </a:lnTo>
                  <a:lnTo>
                    <a:pt x="250" y="1629"/>
                  </a:lnTo>
                  <a:lnTo>
                    <a:pt x="275" y="1570"/>
                  </a:lnTo>
                  <a:lnTo>
                    <a:pt x="300" y="1507"/>
                  </a:lnTo>
                  <a:lnTo>
                    <a:pt x="325" y="1441"/>
                  </a:lnTo>
                  <a:lnTo>
                    <a:pt x="352" y="1372"/>
                  </a:lnTo>
                  <a:lnTo>
                    <a:pt x="377" y="1302"/>
                  </a:lnTo>
                  <a:lnTo>
                    <a:pt x="403" y="1229"/>
                  </a:lnTo>
                  <a:lnTo>
                    <a:pt x="454" y="1078"/>
                  </a:lnTo>
                  <a:lnTo>
                    <a:pt x="505" y="923"/>
                  </a:lnTo>
                  <a:lnTo>
                    <a:pt x="556" y="767"/>
                  </a:lnTo>
                  <a:lnTo>
                    <a:pt x="603" y="610"/>
                  </a:lnTo>
                  <a:lnTo>
                    <a:pt x="650" y="456"/>
                  </a:lnTo>
                  <a:lnTo>
                    <a:pt x="692" y="309"/>
                  </a:lnTo>
                  <a:lnTo>
                    <a:pt x="731" y="170"/>
                  </a:lnTo>
                  <a:lnTo>
                    <a:pt x="767" y="42"/>
                  </a:lnTo>
                  <a:lnTo>
                    <a:pt x="700" y="33"/>
                  </a:lnTo>
                  <a:lnTo>
                    <a:pt x="767" y="42"/>
                  </a:lnTo>
                  <a:lnTo>
                    <a:pt x="768" y="34"/>
                  </a:lnTo>
                  <a:lnTo>
                    <a:pt x="768" y="27"/>
                  </a:lnTo>
                  <a:lnTo>
                    <a:pt x="765" y="21"/>
                  </a:lnTo>
                  <a:lnTo>
                    <a:pt x="763" y="15"/>
                  </a:lnTo>
                  <a:lnTo>
                    <a:pt x="759" y="10"/>
                  </a:lnTo>
                  <a:lnTo>
                    <a:pt x="754" y="6"/>
                  </a:lnTo>
                  <a:lnTo>
                    <a:pt x="748" y="2"/>
                  </a:lnTo>
                  <a:lnTo>
                    <a:pt x="743" y="1"/>
                  </a:lnTo>
                  <a:lnTo>
                    <a:pt x="737" y="0"/>
                  </a:lnTo>
                  <a:lnTo>
                    <a:pt x="730" y="0"/>
                  </a:lnTo>
                  <a:lnTo>
                    <a:pt x="724" y="1"/>
                  </a:lnTo>
                  <a:lnTo>
                    <a:pt x="719" y="2"/>
                  </a:lnTo>
                  <a:lnTo>
                    <a:pt x="713" y="7"/>
                  </a:lnTo>
                  <a:lnTo>
                    <a:pt x="708" y="11"/>
                  </a:lnTo>
                  <a:lnTo>
                    <a:pt x="704" y="17"/>
                  </a:lnTo>
                  <a:lnTo>
                    <a:pt x="702" y="25"/>
                  </a:lnTo>
                  <a:lnTo>
                    <a:pt x="768" y="3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6496200" y="3859200"/>
              <a:ext cx="21960" cy="187200"/>
            </a:xfrm>
            <a:custGeom>
              <a:avLst/>
              <a:gdLst/>
              <a:ahLst/>
              <a:rect l="l" t="t" r="r" b="b"/>
              <a:pathLst>
                <a:path w="68" h="589">
                  <a:moveTo>
                    <a:pt x="67" y="565"/>
                  </a:moveTo>
                  <a:lnTo>
                    <a:pt x="68" y="556"/>
                  </a:lnTo>
                  <a:lnTo>
                    <a:pt x="68" y="0"/>
                  </a:lnTo>
                  <a:lnTo>
                    <a:pt x="0" y="0"/>
                  </a:lnTo>
                  <a:lnTo>
                    <a:pt x="0" y="556"/>
                  </a:lnTo>
                  <a:lnTo>
                    <a:pt x="67" y="565"/>
                  </a:lnTo>
                  <a:lnTo>
                    <a:pt x="0" y="556"/>
                  </a:lnTo>
                  <a:lnTo>
                    <a:pt x="2" y="564"/>
                  </a:lnTo>
                  <a:lnTo>
                    <a:pt x="3" y="571"/>
                  </a:lnTo>
                  <a:lnTo>
                    <a:pt x="6" y="576"/>
                  </a:lnTo>
                  <a:lnTo>
                    <a:pt x="11" y="581"/>
                  </a:lnTo>
                  <a:lnTo>
                    <a:pt x="16" y="584"/>
                  </a:lnTo>
                  <a:lnTo>
                    <a:pt x="22" y="588"/>
                  </a:lnTo>
                  <a:lnTo>
                    <a:pt x="28" y="589"/>
                  </a:lnTo>
                  <a:lnTo>
                    <a:pt x="35" y="589"/>
                  </a:lnTo>
                  <a:lnTo>
                    <a:pt x="40" y="589"/>
                  </a:lnTo>
                  <a:lnTo>
                    <a:pt x="46" y="588"/>
                  </a:lnTo>
                  <a:lnTo>
                    <a:pt x="52" y="584"/>
                  </a:lnTo>
                  <a:lnTo>
                    <a:pt x="57" y="581"/>
                  </a:lnTo>
                  <a:lnTo>
                    <a:pt x="62" y="576"/>
                  </a:lnTo>
                  <a:lnTo>
                    <a:pt x="65" y="571"/>
                  </a:lnTo>
                  <a:lnTo>
                    <a:pt x="67" y="564"/>
                  </a:lnTo>
                  <a:lnTo>
                    <a:pt x="68" y="556"/>
                  </a:lnTo>
                  <a:lnTo>
                    <a:pt x="67" y="56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2583000" y="3905280"/>
              <a:ext cx="46080" cy="336600"/>
            </a:xfrm>
            <a:custGeom>
              <a:avLst/>
              <a:gdLst/>
              <a:ahLst/>
              <a:rect l="l" t="t" r="r" b="b"/>
              <a:pathLst>
                <a:path w="143" h="1061">
                  <a:moveTo>
                    <a:pt x="0" y="507"/>
                  </a:moveTo>
                  <a:lnTo>
                    <a:pt x="0" y="1061"/>
                  </a:lnTo>
                  <a:lnTo>
                    <a:pt x="15" y="1009"/>
                  </a:lnTo>
                  <a:lnTo>
                    <a:pt x="28" y="958"/>
                  </a:lnTo>
                  <a:lnTo>
                    <a:pt x="41" y="908"/>
                  </a:lnTo>
                  <a:lnTo>
                    <a:pt x="53" y="857"/>
                  </a:lnTo>
                  <a:lnTo>
                    <a:pt x="65" y="807"/>
                  </a:lnTo>
                  <a:lnTo>
                    <a:pt x="75" y="758"/>
                  </a:lnTo>
                  <a:lnTo>
                    <a:pt x="85" y="709"/>
                  </a:lnTo>
                  <a:lnTo>
                    <a:pt x="94" y="661"/>
                  </a:lnTo>
                  <a:lnTo>
                    <a:pt x="102" y="614"/>
                  </a:lnTo>
                  <a:lnTo>
                    <a:pt x="110" y="568"/>
                  </a:lnTo>
                  <a:lnTo>
                    <a:pt x="117" y="523"/>
                  </a:lnTo>
                  <a:lnTo>
                    <a:pt x="123" y="480"/>
                  </a:lnTo>
                  <a:lnTo>
                    <a:pt x="127" y="437"/>
                  </a:lnTo>
                  <a:lnTo>
                    <a:pt x="132" y="395"/>
                  </a:lnTo>
                  <a:lnTo>
                    <a:pt x="137" y="357"/>
                  </a:lnTo>
                  <a:lnTo>
                    <a:pt x="139" y="318"/>
                  </a:lnTo>
                  <a:lnTo>
                    <a:pt x="141" y="281"/>
                  </a:lnTo>
                  <a:lnTo>
                    <a:pt x="142" y="247"/>
                  </a:lnTo>
                  <a:lnTo>
                    <a:pt x="143" y="214"/>
                  </a:lnTo>
                  <a:lnTo>
                    <a:pt x="143" y="183"/>
                  </a:lnTo>
                  <a:lnTo>
                    <a:pt x="142" y="155"/>
                  </a:lnTo>
                  <a:lnTo>
                    <a:pt x="141" y="127"/>
                  </a:lnTo>
                  <a:lnTo>
                    <a:pt x="139" y="103"/>
                  </a:lnTo>
                  <a:lnTo>
                    <a:pt x="135" y="82"/>
                  </a:lnTo>
                  <a:lnTo>
                    <a:pt x="132" y="61"/>
                  </a:lnTo>
                  <a:lnTo>
                    <a:pt x="127" y="44"/>
                  </a:lnTo>
                  <a:lnTo>
                    <a:pt x="122" y="30"/>
                  </a:lnTo>
                  <a:lnTo>
                    <a:pt x="116" y="18"/>
                  </a:lnTo>
                  <a:lnTo>
                    <a:pt x="109" y="10"/>
                  </a:lnTo>
                  <a:lnTo>
                    <a:pt x="101" y="3"/>
                  </a:lnTo>
                  <a:lnTo>
                    <a:pt x="93" y="1"/>
                  </a:lnTo>
                  <a:lnTo>
                    <a:pt x="84" y="1"/>
                  </a:lnTo>
                  <a:lnTo>
                    <a:pt x="86" y="0"/>
                  </a:lnTo>
                  <a:lnTo>
                    <a:pt x="87" y="1"/>
                  </a:lnTo>
                  <a:lnTo>
                    <a:pt x="87" y="3"/>
                  </a:lnTo>
                  <a:lnTo>
                    <a:pt x="89" y="6"/>
                  </a:lnTo>
                  <a:lnTo>
                    <a:pt x="89" y="17"/>
                  </a:lnTo>
                  <a:lnTo>
                    <a:pt x="87" y="31"/>
                  </a:lnTo>
                  <a:lnTo>
                    <a:pt x="82" y="76"/>
                  </a:lnTo>
                  <a:lnTo>
                    <a:pt x="73" y="136"/>
                  </a:lnTo>
                  <a:lnTo>
                    <a:pt x="60" y="212"/>
                  </a:lnTo>
                  <a:lnTo>
                    <a:pt x="43" y="301"/>
                  </a:lnTo>
                  <a:lnTo>
                    <a:pt x="23" y="400"/>
                  </a:lnTo>
                  <a:lnTo>
                    <a:pt x="0" y="5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2567160" y="4059360"/>
              <a:ext cx="33120" cy="191880"/>
            </a:xfrm>
            <a:custGeom>
              <a:avLst/>
              <a:gdLst/>
              <a:ahLst/>
              <a:rect l="l" t="t" r="r" b="b"/>
              <a:pathLst>
                <a:path w="106" h="609">
                  <a:moveTo>
                    <a:pt x="106" y="601"/>
                  </a:moveTo>
                  <a:lnTo>
                    <a:pt x="106" y="599"/>
                  </a:lnTo>
                  <a:lnTo>
                    <a:pt x="106" y="47"/>
                  </a:lnTo>
                  <a:lnTo>
                    <a:pt x="0" y="0"/>
                  </a:lnTo>
                  <a:lnTo>
                    <a:pt x="0" y="554"/>
                  </a:lnTo>
                  <a:lnTo>
                    <a:pt x="106" y="601"/>
                  </a:lnTo>
                  <a:lnTo>
                    <a:pt x="0" y="554"/>
                  </a:lnTo>
                  <a:lnTo>
                    <a:pt x="39" y="609"/>
                  </a:lnTo>
                  <a:lnTo>
                    <a:pt x="106" y="60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2567160" y="3897360"/>
              <a:ext cx="77760" cy="352440"/>
            </a:xfrm>
            <a:custGeom>
              <a:avLst/>
              <a:gdLst/>
              <a:ahLst/>
              <a:rect l="l" t="t" r="r" b="b"/>
              <a:pathLst>
                <a:path w="249" h="1109">
                  <a:moveTo>
                    <a:pt x="85" y="1"/>
                  </a:moveTo>
                  <a:lnTo>
                    <a:pt x="190" y="49"/>
                  </a:lnTo>
                  <a:lnTo>
                    <a:pt x="192" y="49"/>
                  </a:lnTo>
                  <a:lnTo>
                    <a:pt x="193" y="49"/>
                  </a:lnTo>
                  <a:lnTo>
                    <a:pt x="177" y="44"/>
                  </a:lnTo>
                  <a:lnTo>
                    <a:pt x="120" y="18"/>
                  </a:lnTo>
                  <a:lnTo>
                    <a:pt x="110" y="11"/>
                  </a:lnTo>
                  <a:lnTo>
                    <a:pt x="111" y="12"/>
                  </a:lnTo>
                  <a:lnTo>
                    <a:pt x="113" y="16"/>
                  </a:lnTo>
                  <a:lnTo>
                    <a:pt x="117" y="20"/>
                  </a:lnTo>
                  <a:lnTo>
                    <a:pt x="122" y="32"/>
                  </a:lnTo>
                  <a:lnTo>
                    <a:pt x="127" y="45"/>
                  </a:lnTo>
                  <a:lnTo>
                    <a:pt x="131" y="62"/>
                  </a:lnTo>
                  <a:lnTo>
                    <a:pt x="136" y="82"/>
                  </a:lnTo>
                  <a:lnTo>
                    <a:pt x="138" y="105"/>
                  </a:lnTo>
                  <a:lnTo>
                    <a:pt x="140" y="129"/>
                  </a:lnTo>
                  <a:lnTo>
                    <a:pt x="143" y="155"/>
                  </a:lnTo>
                  <a:lnTo>
                    <a:pt x="144" y="184"/>
                  </a:lnTo>
                  <a:lnTo>
                    <a:pt x="144" y="215"/>
                  </a:lnTo>
                  <a:lnTo>
                    <a:pt x="143" y="247"/>
                  </a:lnTo>
                  <a:lnTo>
                    <a:pt x="142" y="283"/>
                  </a:lnTo>
                  <a:lnTo>
                    <a:pt x="139" y="319"/>
                  </a:lnTo>
                  <a:lnTo>
                    <a:pt x="136" y="357"/>
                  </a:lnTo>
                  <a:lnTo>
                    <a:pt x="133" y="397"/>
                  </a:lnTo>
                  <a:lnTo>
                    <a:pt x="128" y="438"/>
                  </a:lnTo>
                  <a:lnTo>
                    <a:pt x="123" y="480"/>
                  </a:lnTo>
                  <a:lnTo>
                    <a:pt x="117" y="524"/>
                  </a:lnTo>
                  <a:lnTo>
                    <a:pt x="111" y="569"/>
                  </a:lnTo>
                  <a:lnTo>
                    <a:pt x="103" y="615"/>
                  </a:lnTo>
                  <a:lnTo>
                    <a:pt x="95" y="661"/>
                  </a:lnTo>
                  <a:lnTo>
                    <a:pt x="86" y="709"/>
                  </a:lnTo>
                  <a:lnTo>
                    <a:pt x="76" y="758"/>
                  </a:lnTo>
                  <a:lnTo>
                    <a:pt x="65" y="807"/>
                  </a:lnTo>
                  <a:lnTo>
                    <a:pt x="54" y="858"/>
                  </a:lnTo>
                  <a:lnTo>
                    <a:pt x="41" y="908"/>
                  </a:lnTo>
                  <a:lnTo>
                    <a:pt x="29" y="959"/>
                  </a:lnTo>
                  <a:lnTo>
                    <a:pt x="15" y="1010"/>
                  </a:lnTo>
                  <a:lnTo>
                    <a:pt x="0" y="1061"/>
                  </a:lnTo>
                  <a:lnTo>
                    <a:pt x="106" y="1109"/>
                  </a:lnTo>
                  <a:lnTo>
                    <a:pt x="120" y="1057"/>
                  </a:lnTo>
                  <a:lnTo>
                    <a:pt x="134" y="1006"/>
                  </a:lnTo>
                  <a:lnTo>
                    <a:pt x="147" y="955"/>
                  </a:lnTo>
                  <a:lnTo>
                    <a:pt x="159" y="904"/>
                  </a:lnTo>
                  <a:lnTo>
                    <a:pt x="170" y="854"/>
                  </a:lnTo>
                  <a:lnTo>
                    <a:pt x="182" y="805"/>
                  </a:lnTo>
                  <a:lnTo>
                    <a:pt x="191" y="756"/>
                  </a:lnTo>
                  <a:lnTo>
                    <a:pt x="200" y="708"/>
                  </a:lnTo>
                  <a:lnTo>
                    <a:pt x="208" y="661"/>
                  </a:lnTo>
                  <a:lnTo>
                    <a:pt x="216" y="616"/>
                  </a:lnTo>
                  <a:lnTo>
                    <a:pt x="223" y="570"/>
                  </a:lnTo>
                  <a:lnTo>
                    <a:pt x="228" y="527"/>
                  </a:lnTo>
                  <a:lnTo>
                    <a:pt x="234" y="484"/>
                  </a:lnTo>
                  <a:lnTo>
                    <a:pt x="239" y="443"/>
                  </a:lnTo>
                  <a:lnTo>
                    <a:pt x="242" y="403"/>
                  </a:lnTo>
                  <a:lnTo>
                    <a:pt x="244" y="365"/>
                  </a:lnTo>
                  <a:lnTo>
                    <a:pt x="247" y="329"/>
                  </a:lnTo>
                  <a:lnTo>
                    <a:pt x="249" y="294"/>
                  </a:lnTo>
                  <a:lnTo>
                    <a:pt x="249" y="261"/>
                  </a:lnTo>
                  <a:lnTo>
                    <a:pt x="249" y="230"/>
                  </a:lnTo>
                  <a:lnTo>
                    <a:pt x="248" y="202"/>
                  </a:lnTo>
                  <a:lnTo>
                    <a:pt x="247" y="175"/>
                  </a:lnTo>
                  <a:lnTo>
                    <a:pt x="244" y="150"/>
                  </a:lnTo>
                  <a:lnTo>
                    <a:pt x="241" y="129"/>
                  </a:lnTo>
                  <a:lnTo>
                    <a:pt x="237" y="108"/>
                  </a:lnTo>
                  <a:lnTo>
                    <a:pt x="233" y="91"/>
                  </a:lnTo>
                  <a:lnTo>
                    <a:pt x="227" y="77"/>
                  </a:lnTo>
                  <a:lnTo>
                    <a:pt x="221" y="65"/>
                  </a:lnTo>
                  <a:lnTo>
                    <a:pt x="218" y="59"/>
                  </a:lnTo>
                  <a:lnTo>
                    <a:pt x="213" y="54"/>
                  </a:lnTo>
                  <a:lnTo>
                    <a:pt x="208" y="49"/>
                  </a:lnTo>
                  <a:lnTo>
                    <a:pt x="190" y="37"/>
                  </a:lnTo>
                  <a:lnTo>
                    <a:pt x="125" y="8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6" y="1"/>
                  </a:lnTo>
                  <a:lnTo>
                    <a:pt x="190" y="49"/>
                  </a:lnTo>
                  <a:lnTo>
                    <a:pt x="85" y="1"/>
                  </a:lnTo>
                  <a:lnTo>
                    <a:pt x="46" y="68"/>
                  </a:lnTo>
                  <a:lnTo>
                    <a:pt x="190" y="49"/>
                  </a:lnTo>
                  <a:lnTo>
                    <a:pt x="85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567160" y="3897360"/>
              <a:ext cx="60120" cy="176040"/>
            </a:xfrm>
            <a:custGeom>
              <a:avLst/>
              <a:gdLst/>
              <a:ahLst/>
              <a:rect l="l" t="t" r="r" b="b"/>
              <a:pathLst>
                <a:path w="194" h="555">
                  <a:moveTo>
                    <a:pt x="106" y="555"/>
                  </a:moveTo>
                  <a:lnTo>
                    <a:pt x="106" y="555"/>
                  </a:lnTo>
                  <a:lnTo>
                    <a:pt x="129" y="447"/>
                  </a:lnTo>
                  <a:lnTo>
                    <a:pt x="148" y="348"/>
                  </a:lnTo>
                  <a:lnTo>
                    <a:pt x="166" y="260"/>
                  </a:lnTo>
                  <a:lnTo>
                    <a:pt x="179" y="184"/>
                  </a:lnTo>
                  <a:lnTo>
                    <a:pt x="188" y="123"/>
                  </a:lnTo>
                  <a:lnTo>
                    <a:pt x="193" y="79"/>
                  </a:lnTo>
                  <a:lnTo>
                    <a:pt x="194" y="63"/>
                  </a:lnTo>
                  <a:lnTo>
                    <a:pt x="194" y="53"/>
                  </a:lnTo>
                  <a:lnTo>
                    <a:pt x="193" y="50"/>
                  </a:lnTo>
                  <a:lnTo>
                    <a:pt x="193" y="46"/>
                  </a:lnTo>
                  <a:lnTo>
                    <a:pt x="89" y="0"/>
                  </a:lnTo>
                  <a:lnTo>
                    <a:pt x="85" y="1"/>
                  </a:lnTo>
                  <a:lnTo>
                    <a:pt x="190" y="49"/>
                  </a:lnTo>
                  <a:lnTo>
                    <a:pt x="188" y="49"/>
                  </a:lnTo>
                  <a:lnTo>
                    <a:pt x="88" y="3"/>
                  </a:lnTo>
                  <a:lnTo>
                    <a:pt x="88" y="4"/>
                  </a:lnTo>
                  <a:lnTo>
                    <a:pt x="88" y="6"/>
                  </a:lnTo>
                  <a:lnTo>
                    <a:pt x="89" y="17"/>
                  </a:lnTo>
                  <a:lnTo>
                    <a:pt x="88" y="33"/>
                  </a:lnTo>
                  <a:lnTo>
                    <a:pt x="82" y="76"/>
                  </a:lnTo>
                  <a:lnTo>
                    <a:pt x="73" y="138"/>
                  </a:lnTo>
                  <a:lnTo>
                    <a:pt x="60" y="213"/>
                  </a:lnTo>
                  <a:lnTo>
                    <a:pt x="44" y="301"/>
                  </a:lnTo>
                  <a:lnTo>
                    <a:pt x="23" y="400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106" y="55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2583000" y="3875040"/>
              <a:ext cx="125280" cy="533520"/>
            </a:xfrm>
            <a:custGeom>
              <a:avLst/>
              <a:gdLst/>
              <a:ahLst/>
              <a:rect l="l" t="t" r="r" b="b"/>
              <a:pathLst>
                <a:path w="393" h="1683">
                  <a:moveTo>
                    <a:pt x="0" y="1511"/>
                  </a:moveTo>
                  <a:lnTo>
                    <a:pt x="0" y="1683"/>
                  </a:lnTo>
                  <a:lnTo>
                    <a:pt x="34" y="1620"/>
                  </a:lnTo>
                  <a:lnTo>
                    <a:pt x="67" y="1555"/>
                  </a:lnTo>
                  <a:lnTo>
                    <a:pt x="98" y="1487"/>
                  </a:lnTo>
                  <a:lnTo>
                    <a:pt x="126" y="1419"/>
                  </a:lnTo>
                  <a:lnTo>
                    <a:pt x="155" y="1349"/>
                  </a:lnTo>
                  <a:lnTo>
                    <a:pt x="181" y="1279"/>
                  </a:lnTo>
                  <a:lnTo>
                    <a:pt x="205" y="1208"/>
                  </a:lnTo>
                  <a:lnTo>
                    <a:pt x="229" y="1136"/>
                  </a:lnTo>
                  <a:lnTo>
                    <a:pt x="251" y="1064"/>
                  </a:lnTo>
                  <a:lnTo>
                    <a:pt x="270" y="993"/>
                  </a:lnTo>
                  <a:lnTo>
                    <a:pt x="288" y="923"/>
                  </a:lnTo>
                  <a:lnTo>
                    <a:pt x="305" y="852"/>
                  </a:lnTo>
                  <a:lnTo>
                    <a:pt x="321" y="782"/>
                  </a:lnTo>
                  <a:lnTo>
                    <a:pt x="335" y="714"/>
                  </a:lnTo>
                  <a:lnTo>
                    <a:pt x="347" y="648"/>
                  </a:lnTo>
                  <a:lnTo>
                    <a:pt x="359" y="583"/>
                  </a:lnTo>
                  <a:lnTo>
                    <a:pt x="368" y="520"/>
                  </a:lnTo>
                  <a:lnTo>
                    <a:pt x="376" y="459"/>
                  </a:lnTo>
                  <a:lnTo>
                    <a:pt x="382" y="401"/>
                  </a:lnTo>
                  <a:lnTo>
                    <a:pt x="387" y="345"/>
                  </a:lnTo>
                  <a:lnTo>
                    <a:pt x="391" y="294"/>
                  </a:lnTo>
                  <a:lnTo>
                    <a:pt x="393" y="245"/>
                  </a:lnTo>
                  <a:lnTo>
                    <a:pt x="393" y="199"/>
                  </a:lnTo>
                  <a:lnTo>
                    <a:pt x="392" y="158"/>
                  </a:lnTo>
                  <a:lnTo>
                    <a:pt x="390" y="122"/>
                  </a:lnTo>
                  <a:lnTo>
                    <a:pt x="386" y="89"/>
                  </a:lnTo>
                  <a:lnTo>
                    <a:pt x="380" y="60"/>
                  </a:lnTo>
                  <a:lnTo>
                    <a:pt x="374" y="37"/>
                  </a:lnTo>
                  <a:lnTo>
                    <a:pt x="366" y="20"/>
                  </a:lnTo>
                  <a:lnTo>
                    <a:pt x="357" y="8"/>
                  </a:lnTo>
                  <a:lnTo>
                    <a:pt x="345" y="1"/>
                  </a:lnTo>
                  <a:lnTo>
                    <a:pt x="333" y="0"/>
                  </a:lnTo>
                  <a:lnTo>
                    <a:pt x="336" y="0"/>
                  </a:lnTo>
                  <a:lnTo>
                    <a:pt x="337" y="5"/>
                  </a:lnTo>
                  <a:lnTo>
                    <a:pt x="337" y="16"/>
                  </a:lnTo>
                  <a:lnTo>
                    <a:pt x="336" y="32"/>
                  </a:lnTo>
                  <a:lnTo>
                    <a:pt x="331" y="77"/>
                  </a:lnTo>
                  <a:lnTo>
                    <a:pt x="322" y="139"/>
                  </a:lnTo>
                  <a:lnTo>
                    <a:pt x="309" y="216"/>
                  </a:lnTo>
                  <a:lnTo>
                    <a:pt x="292" y="307"/>
                  </a:lnTo>
                  <a:lnTo>
                    <a:pt x="272" y="408"/>
                  </a:lnTo>
                  <a:lnTo>
                    <a:pt x="249" y="520"/>
                  </a:lnTo>
                  <a:lnTo>
                    <a:pt x="223" y="639"/>
                  </a:lnTo>
                  <a:lnTo>
                    <a:pt x="196" y="762"/>
                  </a:lnTo>
                  <a:lnTo>
                    <a:pt x="166" y="890"/>
                  </a:lnTo>
                  <a:lnTo>
                    <a:pt x="134" y="1019"/>
                  </a:lnTo>
                  <a:lnTo>
                    <a:pt x="102" y="1147"/>
                  </a:lnTo>
                  <a:lnTo>
                    <a:pt x="68" y="1273"/>
                  </a:lnTo>
                  <a:lnTo>
                    <a:pt x="34" y="1395"/>
                  </a:lnTo>
                  <a:lnTo>
                    <a:pt x="0" y="15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567160" y="4346640"/>
              <a:ext cx="33120" cy="75960"/>
            </a:xfrm>
            <a:custGeom>
              <a:avLst/>
              <a:gdLst/>
              <a:ahLst/>
              <a:rect l="l" t="t" r="r" b="b"/>
              <a:pathLst>
                <a:path w="106" h="239">
                  <a:moveTo>
                    <a:pt x="106" y="217"/>
                  </a:moveTo>
                  <a:lnTo>
                    <a:pt x="106" y="217"/>
                  </a:lnTo>
                  <a:lnTo>
                    <a:pt x="106" y="45"/>
                  </a:lnTo>
                  <a:lnTo>
                    <a:pt x="0" y="0"/>
                  </a:lnTo>
                  <a:lnTo>
                    <a:pt x="0" y="171"/>
                  </a:lnTo>
                  <a:lnTo>
                    <a:pt x="106" y="217"/>
                  </a:lnTo>
                  <a:lnTo>
                    <a:pt x="0" y="171"/>
                  </a:lnTo>
                  <a:lnTo>
                    <a:pt x="33" y="239"/>
                  </a:lnTo>
                  <a:lnTo>
                    <a:pt x="106" y="21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2567160" y="3867120"/>
              <a:ext cx="156960" cy="549360"/>
            </a:xfrm>
            <a:custGeom>
              <a:avLst/>
              <a:gdLst/>
              <a:ahLst/>
              <a:rect l="l" t="t" r="r" b="b"/>
              <a:pathLst>
                <a:path w="498" h="1730">
                  <a:moveTo>
                    <a:pt x="333" y="0"/>
                  </a:moveTo>
                  <a:lnTo>
                    <a:pt x="438" y="49"/>
                  </a:lnTo>
                  <a:lnTo>
                    <a:pt x="441" y="48"/>
                  </a:lnTo>
                  <a:lnTo>
                    <a:pt x="433" y="45"/>
                  </a:lnTo>
                  <a:lnTo>
                    <a:pt x="365" y="16"/>
                  </a:lnTo>
                  <a:lnTo>
                    <a:pt x="358" y="11"/>
                  </a:lnTo>
                  <a:lnTo>
                    <a:pt x="363" y="16"/>
                  </a:lnTo>
                  <a:lnTo>
                    <a:pt x="366" y="21"/>
                  </a:lnTo>
                  <a:lnTo>
                    <a:pt x="371" y="29"/>
                  </a:lnTo>
                  <a:lnTo>
                    <a:pt x="374" y="39"/>
                  </a:lnTo>
                  <a:lnTo>
                    <a:pt x="378" y="50"/>
                  </a:lnTo>
                  <a:lnTo>
                    <a:pt x="381" y="61"/>
                  </a:lnTo>
                  <a:lnTo>
                    <a:pt x="383" y="75"/>
                  </a:lnTo>
                  <a:lnTo>
                    <a:pt x="386" y="90"/>
                  </a:lnTo>
                  <a:lnTo>
                    <a:pt x="390" y="122"/>
                  </a:lnTo>
                  <a:lnTo>
                    <a:pt x="392" y="159"/>
                  </a:lnTo>
                  <a:lnTo>
                    <a:pt x="394" y="201"/>
                  </a:lnTo>
                  <a:lnTo>
                    <a:pt x="392" y="246"/>
                  </a:lnTo>
                  <a:lnTo>
                    <a:pt x="391" y="294"/>
                  </a:lnTo>
                  <a:lnTo>
                    <a:pt x="387" y="347"/>
                  </a:lnTo>
                  <a:lnTo>
                    <a:pt x="382" y="401"/>
                  </a:lnTo>
                  <a:lnTo>
                    <a:pt x="375" y="460"/>
                  </a:lnTo>
                  <a:lnTo>
                    <a:pt x="368" y="520"/>
                  </a:lnTo>
                  <a:lnTo>
                    <a:pt x="358" y="583"/>
                  </a:lnTo>
                  <a:lnTo>
                    <a:pt x="348" y="648"/>
                  </a:lnTo>
                  <a:lnTo>
                    <a:pt x="335" y="715"/>
                  </a:lnTo>
                  <a:lnTo>
                    <a:pt x="321" y="782"/>
                  </a:lnTo>
                  <a:lnTo>
                    <a:pt x="306" y="852"/>
                  </a:lnTo>
                  <a:lnTo>
                    <a:pt x="289" y="923"/>
                  </a:lnTo>
                  <a:lnTo>
                    <a:pt x="270" y="993"/>
                  </a:lnTo>
                  <a:lnTo>
                    <a:pt x="250" y="1065"/>
                  </a:lnTo>
                  <a:lnTo>
                    <a:pt x="228" y="1137"/>
                  </a:lnTo>
                  <a:lnTo>
                    <a:pt x="205" y="1208"/>
                  </a:lnTo>
                  <a:lnTo>
                    <a:pt x="182" y="1280"/>
                  </a:lnTo>
                  <a:lnTo>
                    <a:pt x="155" y="1349"/>
                  </a:lnTo>
                  <a:lnTo>
                    <a:pt x="127" y="1419"/>
                  </a:lnTo>
                  <a:lnTo>
                    <a:pt x="97" y="1487"/>
                  </a:lnTo>
                  <a:lnTo>
                    <a:pt x="66" y="1555"/>
                  </a:lnTo>
                  <a:lnTo>
                    <a:pt x="50" y="1588"/>
                  </a:lnTo>
                  <a:lnTo>
                    <a:pt x="34" y="1620"/>
                  </a:lnTo>
                  <a:lnTo>
                    <a:pt x="17" y="1652"/>
                  </a:lnTo>
                  <a:lnTo>
                    <a:pt x="0" y="1684"/>
                  </a:lnTo>
                  <a:lnTo>
                    <a:pt x="106" y="1730"/>
                  </a:lnTo>
                  <a:lnTo>
                    <a:pt x="123" y="1700"/>
                  </a:lnTo>
                  <a:lnTo>
                    <a:pt x="139" y="1668"/>
                  </a:lnTo>
                  <a:lnTo>
                    <a:pt x="156" y="1635"/>
                  </a:lnTo>
                  <a:lnTo>
                    <a:pt x="172" y="1602"/>
                  </a:lnTo>
                  <a:lnTo>
                    <a:pt x="203" y="1535"/>
                  </a:lnTo>
                  <a:lnTo>
                    <a:pt x="233" y="1467"/>
                  </a:lnTo>
                  <a:lnTo>
                    <a:pt x="260" y="1397"/>
                  </a:lnTo>
                  <a:lnTo>
                    <a:pt x="286" y="1327"/>
                  </a:lnTo>
                  <a:lnTo>
                    <a:pt x="311" y="1256"/>
                  </a:lnTo>
                  <a:lnTo>
                    <a:pt x="334" y="1184"/>
                  </a:lnTo>
                  <a:lnTo>
                    <a:pt x="356" y="1112"/>
                  </a:lnTo>
                  <a:lnTo>
                    <a:pt x="375" y="1040"/>
                  </a:lnTo>
                  <a:lnTo>
                    <a:pt x="395" y="970"/>
                  </a:lnTo>
                  <a:lnTo>
                    <a:pt x="411" y="899"/>
                  </a:lnTo>
                  <a:lnTo>
                    <a:pt x="427" y="830"/>
                  </a:lnTo>
                  <a:lnTo>
                    <a:pt x="440" y="762"/>
                  </a:lnTo>
                  <a:lnTo>
                    <a:pt x="453" y="695"/>
                  </a:lnTo>
                  <a:lnTo>
                    <a:pt x="464" y="630"/>
                  </a:lnTo>
                  <a:lnTo>
                    <a:pt x="473" y="567"/>
                  </a:lnTo>
                  <a:lnTo>
                    <a:pt x="481" y="506"/>
                  </a:lnTo>
                  <a:lnTo>
                    <a:pt x="488" y="448"/>
                  </a:lnTo>
                  <a:lnTo>
                    <a:pt x="493" y="393"/>
                  </a:lnTo>
                  <a:lnTo>
                    <a:pt x="496" y="341"/>
                  </a:lnTo>
                  <a:lnTo>
                    <a:pt x="498" y="292"/>
                  </a:lnTo>
                  <a:lnTo>
                    <a:pt x="498" y="247"/>
                  </a:lnTo>
                  <a:lnTo>
                    <a:pt x="498" y="206"/>
                  </a:lnTo>
                  <a:lnTo>
                    <a:pt x="496" y="169"/>
                  </a:lnTo>
                  <a:lnTo>
                    <a:pt x="492" y="136"/>
                  </a:lnTo>
                  <a:lnTo>
                    <a:pt x="489" y="121"/>
                  </a:lnTo>
                  <a:lnTo>
                    <a:pt x="486" y="108"/>
                  </a:lnTo>
                  <a:lnTo>
                    <a:pt x="484" y="96"/>
                  </a:lnTo>
                  <a:lnTo>
                    <a:pt x="480" y="84"/>
                  </a:lnTo>
                  <a:lnTo>
                    <a:pt x="476" y="75"/>
                  </a:lnTo>
                  <a:lnTo>
                    <a:pt x="471" y="66"/>
                  </a:lnTo>
                  <a:lnTo>
                    <a:pt x="467" y="59"/>
                  </a:lnTo>
                  <a:lnTo>
                    <a:pt x="460" y="51"/>
                  </a:lnTo>
                  <a:lnTo>
                    <a:pt x="444" y="40"/>
                  </a:lnTo>
                  <a:lnTo>
                    <a:pt x="364" y="4"/>
                  </a:lnTo>
                  <a:lnTo>
                    <a:pt x="342" y="0"/>
                  </a:lnTo>
                  <a:lnTo>
                    <a:pt x="334" y="0"/>
                  </a:lnTo>
                  <a:lnTo>
                    <a:pt x="438" y="48"/>
                  </a:lnTo>
                  <a:lnTo>
                    <a:pt x="333" y="0"/>
                  </a:lnTo>
                  <a:lnTo>
                    <a:pt x="294" y="67"/>
                  </a:lnTo>
                  <a:lnTo>
                    <a:pt x="438" y="49"/>
                  </a:lnTo>
                  <a:lnTo>
                    <a:pt x="333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567160" y="3867120"/>
              <a:ext cx="139680" cy="495360"/>
            </a:xfrm>
            <a:custGeom>
              <a:avLst/>
              <a:gdLst/>
              <a:ahLst/>
              <a:rect l="l" t="t" r="r" b="b"/>
              <a:pathLst>
                <a:path w="444" h="1560">
                  <a:moveTo>
                    <a:pt x="106" y="1559"/>
                  </a:moveTo>
                  <a:lnTo>
                    <a:pt x="106" y="1560"/>
                  </a:lnTo>
                  <a:lnTo>
                    <a:pt x="140" y="1444"/>
                  </a:lnTo>
                  <a:lnTo>
                    <a:pt x="174" y="1322"/>
                  </a:lnTo>
                  <a:lnTo>
                    <a:pt x="208" y="1195"/>
                  </a:lnTo>
                  <a:lnTo>
                    <a:pt x="240" y="1066"/>
                  </a:lnTo>
                  <a:lnTo>
                    <a:pt x="272" y="937"/>
                  </a:lnTo>
                  <a:lnTo>
                    <a:pt x="301" y="811"/>
                  </a:lnTo>
                  <a:lnTo>
                    <a:pt x="329" y="686"/>
                  </a:lnTo>
                  <a:lnTo>
                    <a:pt x="355" y="568"/>
                  </a:lnTo>
                  <a:lnTo>
                    <a:pt x="378" y="457"/>
                  </a:lnTo>
                  <a:lnTo>
                    <a:pt x="398" y="356"/>
                  </a:lnTo>
                  <a:lnTo>
                    <a:pt x="414" y="264"/>
                  </a:lnTo>
                  <a:lnTo>
                    <a:pt x="428" y="187"/>
                  </a:lnTo>
                  <a:lnTo>
                    <a:pt x="437" y="125"/>
                  </a:lnTo>
                  <a:lnTo>
                    <a:pt x="443" y="79"/>
                  </a:lnTo>
                  <a:lnTo>
                    <a:pt x="444" y="65"/>
                  </a:lnTo>
                  <a:lnTo>
                    <a:pt x="443" y="53"/>
                  </a:lnTo>
                  <a:lnTo>
                    <a:pt x="443" y="50"/>
                  </a:lnTo>
                  <a:lnTo>
                    <a:pt x="440" y="46"/>
                  </a:lnTo>
                  <a:lnTo>
                    <a:pt x="337" y="0"/>
                  </a:lnTo>
                  <a:lnTo>
                    <a:pt x="333" y="1"/>
                  </a:lnTo>
                  <a:lnTo>
                    <a:pt x="438" y="49"/>
                  </a:lnTo>
                  <a:lnTo>
                    <a:pt x="438" y="49"/>
                  </a:lnTo>
                  <a:lnTo>
                    <a:pt x="337" y="3"/>
                  </a:lnTo>
                  <a:lnTo>
                    <a:pt x="337" y="4"/>
                  </a:lnTo>
                  <a:lnTo>
                    <a:pt x="338" y="8"/>
                  </a:lnTo>
                  <a:lnTo>
                    <a:pt x="338" y="18"/>
                  </a:lnTo>
                  <a:lnTo>
                    <a:pt x="337" y="33"/>
                  </a:lnTo>
                  <a:lnTo>
                    <a:pt x="332" y="78"/>
                  </a:lnTo>
                  <a:lnTo>
                    <a:pt x="322" y="141"/>
                  </a:lnTo>
                  <a:lnTo>
                    <a:pt x="309" y="218"/>
                  </a:lnTo>
                  <a:lnTo>
                    <a:pt x="292" y="309"/>
                  </a:lnTo>
                  <a:lnTo>
                    <a:pt x="272" y="410"/>
                  </a:lnTo>
                  <a:lnTo>
                    <a:pt x="249" y="521"/>
                  </a:lnTo>
                  <a:lnTo>
                    <a:pt x="224" y="640"/>
                  </a:lnTo>
                  <a:lnTo>
                    <a:pt x="195" y="764"/>
                  </a:lnTo>
                  <a:lnTo>
                    <a:pt x="166" y="891"/>
                  </a:lnTo>
                  <a:lnTo>
                    <a:pt x="135" y="1020"/>
                  </a:lnTo>
                  <a:lnTo>
                    <a:pt x="102" y="1148"/>
                  </a:lnTo>
                  <a:lnTo>
                    <a:pt x="69" y="1275"/>
                  </a:lnTo>
                  <a:lnTo>
                    <a:pt x="34" y="1397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106" y="15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2592360" y="4327560"/>
              <a:ext cx="3916440" cy="1303200"/>
            </a:xfrm>
            <a:prstGeom prst="rect">
              <a:avLst/>
            </a:pr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592360" y="3517920"/>
              <a:ext cx="3916440" cy="490680"/>
            </a:xfrm>
            <a:custGeom>
              <a:avLst/>
              <a:gdLst/>
              <a:ahLst/>
              <a:rect l="l" t="t" r="r" b="b"/>
              <a:pathLst>
                <a:path w="12337" h="1545">
                  <a:moveTo>
                    <a:pt x="0" y="0"/>
                  </a:moveTo>
                  <a:lnTo>
                    <a:pt x="12337" y="0"/>
                  </a:lnTo>
                  <a:lnTo>
                    <a:pt x="12337" y="1473"/>
                  </a:lnTo>
                  <a:lnTo>
                    <a:pt x="12044" y="1456"/>
                  </a:lnTo>
                  <a:lnTo>
                    <a:pt x="11758" y="1440"/>
                  </a:lnTo>
                  <a:lnTo>
                    <a:pt x="11478" y="1427"/>
                  </a:lnTo>
                  <a:lnTo>
                    <a:pt x="11201" y="1416"/>
                  </a:lnTo>
                  <a:lnTo>
                    <a:pt x="10928" y="1407"/>
                  </a:lnTo>
                  <a:lnTo>
                    <a:pt x="10656" y="1400"/>
                  </a:lnTo>
                  <a:lnTo>
                    <a:pt x="10383" y="1394"/>
                  </a:lnTo>
                  <a:lnTo>
                    <a:pt x="10110" y="1389"/>
                  </a:lnTo>
                  <a:lnTo>
                    <a:pt x="9834" y="1386"/>
                  </a:lnTo>
                  <a:lnTo>
                    <a:pt x="9552" y="1384"/>
                  </a:lnTo>
                  <a:lnTo>
                    <a:pt x="9265" y="1381"/>
                  </a:lnTo>
                  <a:lnTo>
                    <a:pt x="8971" y="1381"/>
                  </a:lnTo>
                  <a:lnTo>
                    <a:pt x="8355" y="1381"/>
                  </a:lnTo>
                  <a:lnTo>
                    <a:pt x="7693" y="1381"/>
                  </a:lnTo>
                  <a:lnTo>
                    <a:pt x="7498" y="1388"/>
                  </a:lnTo>
                  <a:lnTo>
                    <a:pt x="7285" y="1400"/>
                  </a:lnTo>
                  <a:lnTo>
                    <a:pt x="7056" y="1412"/>
                  </a:lnTo>
                  <a:lnTo>
                    <a:pt x="6813" y="1427"/>
                  </a:lnTo>
                  <a:lnTo>
                    <a:pt x="6560" y="1443"/>
                  </a:lnTo>
                  <a:lnTo>
                    <a:pt x="6299" y="1459"/>
                  </a:lnTo>
                  <a:lnTo>
                    <a:pt x="6033" y="1475"/>
                  </a:lnTo>
                  <a:lnTo>
                    <a:pt x="5764" y="1490"/>
                  </a:lnTo>
                  <a:lnTo>
                    <a:pt x="5496" y="1502"/>
                  </a:lnTo>
                  <a:lnTo>
                    <a:pt x="5230" y="1514"/>
                  </a:lnTo>
                  <a:lnTo>
                    <a:pt x="5099" y="1518"/>
                  </a:lnTo>
                  <a:lnTo>
                    <a:pt x="4969" y="1522"/>
                  </a:lnTo>
                  <a:lnTo>
                    <a:pt x="4842" y="1524"/>
                  </a:lnTo>
                  <a:lnTo>
                    <a:pt x="4716" y="1526"/>
                  </a:lnTo>
                  <a:lnTo>
                    <a:pt x="4594" y="1526"/>
                  </a:lnTo>
                  <a:lnTo>
                    <a:pt x="4475" y="1526"/>
                  </a:lnTo>
                  <a:lnTo>
                    <a:pt x="4358" y="1524"/>
                  </a:lnTo>
                  <a:lnTo>
                    <a:pt x="4245" y="1522"/>
                  </a:lnTo>
                  <a:lnTo>
                    <a:pt x="4137" y="1517"/>
                  </a:lnTo>
                  <a:lnTo>
                    <a:pt x="4032" y="1511"/>
                  </a:lnTo>
                  <a:lnTo>
                    <a:pt x="3933" y="1503"/>
                  </a:lnTo>
                  <a:lnTo>
                    <a:pt x="3837" y="1494"/>
                  </a:lnTo>
                  <a:lnTo>
                    <a:pt x="3718" y="1507"/>
                  </a:lnTo>
                  <a:lnTo>
                    <a:pt x="3597" y="1518"/>
                  </a:lnTo>
                  <a:lnTo>
                    <a:pt x="3476" y="1526"/>
                  </a:lnTo>
                  <a:lnTo>
                    <a:pt x="3356" y="1533"/>
                  </a:lnTo>
                  <a:lnTo>
                    <a:pt x="3235" y="1539"/>
                  </a:lnTo>
                  <a:lnTo>
                    <a:pt x="3116" y="1542"/>
                  </a:lnTo>
                  <a:lnTo>
                    <a:pt x="2995" y="1543"/>
                  </a:lnTo>
                  <a:lnTo>
                    <a:pt x="2875" y="1545"/>
                  </a:lnTo>
                  <a:lnTo>
                    <a:pt x="2755" y="1543"/>
                  </a:lnTo>
                  <a:lnTo>
                    <a:pt x="2636" y="1541"/>
                  </a:lnTo>
                  <a:lnTo>
                    <a:pt x="2516" y="1538"/>
                  </a:lnTo>
                  <a:lnTo>
                    <a:pt x="2396" y="1534"/>
                  </a:lnTo>
                  <a:lnTo>
                    <a:pt x="2277" y="1529"/>
                  </a:lnTo>
                  <a:lnTo>
                    <a:pt x="2157" y="1523"/>
                  </a:lnTo>
                  <a:lnTo>
                    <a:pt x="2037" y="1517"/>
                  </a:lnTo>
                  <a:lnTo>
                    <a:pt x="1918" y="1510"/>
                  </a:lnTo>
                  <a:lnTo>
                    <a:pt x="1440" y="1478"/>
                  </a:lnTo>
                  <a:lnTo>
                    <a:pt x="961" y="1448"/>
                  </a:lnTo>
                  <a:lnTo>
                    <a:pt x="840" y="1441"/>
                  </a:lnTo>
                  <a:lnTo>
                    <a:pt x="721" y="1435"/>
                  </a:lnTo>
                  <a:lnTo>
                    <a:pt x="601" y="1429"/>
                  </a:lnTo>
                  <a:lnTo>
                    <a:pt x="481" y="1425"/>
                  </a:lnTo>
                  <a:lnTo>
                    <a:pt x="360" y="1420"/>
                  </a:lnTo>
                  <a:lnTo>
                    <a:pt x="241" y="1418"/>
                  </a:lnTo>
                  <a:lnTo>
                    <a:pt x="120" y="1416"/>
                  </a:lnTo>
                  <a:lnTo>
                    <a:pt x="0" y="14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2763720" y="3522600"/>
              <a:ext cx="628920" cy="90720"/>
            </a:xfrm>
            <a:custGeom>
              <a:avLst/>
              <a:gdLst/>
              <a:ahLst/>
              <a:rect l="l" t="t" r="r" b="b"/>
              <a:pathLst>
                <a:path w="1981" h="284">
                  <a:moveTo>
                    <a:pt x="0" y="126"/>
                  </a:moveTo>
                  <a:lnTo>
                    <a:pt x="56" y="127"/>
                  </a:lnTo>
                  <a:lnTo>
                    <a:pt x="109" y="128"/>
                  </a:lnTo>
                  <a:lnTo>
                    <a:pt x="158" y="127"/>
                  </a:lnTo>
                  <a:lnTo>
                    <a:pt x="203" y="125"/>
                  </a:lnTo>
                  <a:lnTo>
                    <a:pt x="247" y="122"/>
                  </a:lnTo>
                  <a:lnTo>
                    <a:pt x="285" y="119"/>
                  </a:lnTo>
                  <a:lnTo>
                    <a:pt x="322" y="114"/>
                  </a:lnTo>
                  <a:lnTo>
                    <a:pt x="356" y="110"/>
                  </a:lnTo>
                  <a:lnTo>
                    <a:pt x="388" y="104"/>
                  </a:lnTo>
                  <a:lnTo>
                    <a:pt x="417" y="98"/>
                  </a:lnTo>
                  <a:lnTo>
                    <a:pt x="444" y="91"/>
                  </a:lnTo>
                  <a:lnTo>
                    <a:pt x="469" y="85"/>
                  </a:lnTo>
                  <a:lnTo>
                    <a:pt x="515" y="71"/>
                  </a:lnTo>
                  <a:lnTo>
                    <a:pt x="556" y="56"/>
                  </a:lnTo>
                  <a:lnTo>
                    <a:pt x="591" y="42"/>
                  </a:lnTo>
                  <a:lnTo>
                    <a:pt x="625" y="29"/>
                  </a:lnTo>
                  <a:lnTo>
                    <a:pt x="641" y="23"/>
                  </a:lnTo>
                  <a:lnTo>
                    <a:pt x="658" y="17"/>
                  </a:lnTo>
                  <a:lnTo>
                    <a:pt x="674" y="13"/>
                  </a:lnTo>
                  <a:lnTo>
                    <a:pt x="691" y="9"/>
                  </a:lnTo>
                  <a:lnTo>
                    <a:pt x="708" y="6"/>
                  </a:lnTo>
                  <a:lnTo>
                    <a:pt x="727" y="2"/>
                  </a:lnTo>
                  <a:lnTo>
                    <a:pt x="745" y="1"/>
                  </a:lnTo>
                  <a:lnTo>
                    <a:pt x="765" y="0"/>
                  </a:lnTo>
                  <a:lnTo>
                    <a:pt x="786" y="1"/>
                  </a:lnTo>
                  <a:lnTo>
                    <a:pt x="809" y="2"/>
                  </a:lnTo>
                  <a:lnTo>
                    <a:pt x="833" y="6"/>
                  </a:lnTo>
                  <a:lnTo>
                    <a:pt x="859" y="10"/>
                  </a:lnTo>
                  <a:lnTo>
                    <a:pt x="881" y="23"/>
                  </a:lnTo>
                  <a:lnTo>
                    <a:pt x="906" y="36"/>
                  </a:lnTo>
                  <a:lnTo>
                    <a:pt x="933" y="46"/>
                  </a:lnTo>
                  <a:lnTo>
                    <a:pt x="964" y="56"/>
                  </a:lnTo>
                  <a:lnTo>
                    <a:pt x="997" y="65"/>
                  </a:lnTo>
                  <a:lnTo>
                    <a:pt x="1031" y="73"/>
                  </a:lnTo>
                  <a:lnTo>
                    <a:pt x="1069" y="80"/>
                  </a:lnTo>
                  <a:lnTo>
                    <a:pt x="1107" y="86"/>
                  </a:lnTo>
                  <a:lnTo>
                    <a:pt x="1147" y="91"/>
                  </a:lnTo>
                  <a:lnTo>
                    <a:pt x="1189" y="97"/>
                  </a:lnTo>
                  <a:lnTo>
                    <a:pt x="1232" y="102"/>
                  </a:lnTo>
                  <a:lnTo>
                    <a:pt x="1276" y="106"/>
                  </a:lnTo>
                  <a:lnTo>
                    <a:pt x="1365" y="113"/>
                  </a:lnTo>
                  <a:lnTo>
                    <a:pt x="1454" y="120"/>
                  </a:lnTo>
                  <a:lnTo>
                    <a:pt x="1543" y="126"/>
                  </a:lnTo>
                  <a:lnTo>
                    <a:pt x="1628" y="133"/>
                  </a:lnTo>
                  <a:lnTo>
                    <a:pt x="1709" y="139"/>
                  </a:lnTo>
                  <a:lnTo>
                    <a:pt x="1783" y="149"/>
                  </a:lnTo>
                  <a:lnTo>
                    <a:pt x="1818" y="154"/>
                  </a:lnTo>
                  <a:lnTo>
                    <a:pt x="1850" y="160"/>
                  </a:lnTo>
                  <a:lnTo>
                    <a:pt x="1879" y="167"/>
                  </a:lnTo>
                  <a:lnTo>
                    <a:pt x="1905" y="174"/>
                  </a:lnTo>
                  <a:lnTo>
                    <a:pt x="1929" y="183"/>
                  </a:lnTo>
                  <a:lnTo>
                    <a:pt x="1950" y="192"/>
                  </a:lnTo>
                  <a:lnTo>
                    <a:pt x="1967" y="202"/>
                  </a:lnTo>
                  <a:lnTo>
                    <a:pt x="1981" y="212"/>
                  </a:lnTo>
                  <a:lnTo>
                    <a:pt x="1953" y="211"/>
                  </a:lnTo>
                  <a:lnTo>
                    <a:pt x="1925" y="210"/>
                  </a:lnTo>
                  <a:lnTo>
                    <a:pt x="1896" y="210"/>
                  </a:lnTo>
                  <a:lnTo>
                    <a:pt x="1865" y="211"/>
                  </a:lnTo>
                  <a:lnTo>
                    <a:pt x="1804" y="216"/>
                  </a:lnTo>
                  <a:lnTo>
                    <a:pt x="1738" y="223"/>
                  </a:lnTo>
                  <a:lnTo>
                    <a:pt x="1594" y="242"/>
                  </a:lnTo>
                  <a:lnTo>
                    <a:pt x="1437" y="263"/>
                  </a:lnTo>
                  <a:lnTo>
                    <a:pt x="1351" y="272"/>
                  </a:lnTo>
                  <a:lnTo>
                    <a:pt x="1264" y="279"/>
                  </a:lnTo>
                  <a:lnTo>
                    <a:pt x="1218" y="281"/>
                  </a:lnTo>
                  <a:lnTo>
                    <a:pt x="1171" y="283"/>
                  </a:lnTo>
                  <a:lnTo>
                    <a:pt x="1123" y="284"/>
                  </a:lnTo>
                  <a:lnTo>
                    <a:pt x="1075" y="284"/>
                  </a:lnTo>
                  <a:lnTo>
                    <a:pt x="1025" y="283"/>
                  </a:lnTo>
                  <a:lnTo>
                    <a:pt x="975" y="282"/>
                  </a:lnTo>
                  <a:lnTo>
                    <a:pt x="924" y="279"/>
                  </a:lnTo>
                  <a:lnTo>
                    <a:pt x="871" y="274"/>
                  </a:lnTo>
                  <a:lnTo>
                    <a:pt x="818" y="268"/>
                  </a:lnTo>
                  <a:lnTo>
                    <a:pt x="763" y="261"/>
                  </a:lnTo>
                  <a:lnTo>
                    <a:pt x="707" y="252"/>
                  </a:lnTo>
                  <a:lnTo>
                    <a:pt x="651" y="242"/>
                  </a:lnTo>
                  <a:lnTo>
                    <a:pt x="643" y="235"/>
                  </a:lnTo>
                  <a:lnTo>
                    <a:pt x="633" y="228"/>
                  </a:lnTo>
                  <a:lnTo>
                    <a:pt x="622" y="223"/>
                  </a:lnTo>
                  <a:lnTo>
                    <a:pt x="609" y="217"/>
                  </a:lnTo>
                  <a:lnTo>
                    <a:pt x="596" y="211"/>
                  </a:lnTo>
                  <a:lnTo>
                    <a:pt x="581" y="207"/>
                  </a:lnTo>
                  <a:lnTo>
                    <a:pt x="564" y="202"/>
                  </a:lnTo>
                  <a:lnTo>
                    <a:pt x="546" y="198"/>
                  </a:lnTo>
                  <a:lnTo>
                    <a:pt x="509" y="190"/>
                  </a:lnTo>
                  <a:lnTo>
                    <a:pt x="468" y="183"/>
                  </a:lnTo>
                  <a:lnTo>
                    <a:pt x="423" y="176"/>
                  </a:lnTo>
                  <a:lnTo>
                    <a:pt x="377" y="170"/>
                  </a:lnTo>
                  <a:lnTo>
                    <a:pt x="281" y="160"/>
                  </a:lnTo>
                  <a:lnTo>
                    <a:pt x="182" y="150"/>
                  </a:lnTo>
                  <a:lnTo>
                    <a:pt x="134" y="145"/>
                  </a:lnTo>
                  <a:lnTo>
                    <a:pt x="87" y="139"/>
                  </a:lnTo>
                  <a:lnTo>
                    <a:pt x="43" y="133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744640" y="3517920"/>
              <a:ext cx="308160" cy="57240"/>
            </a:xfrm>
            <a:custGeom>
              <a:avLst/>
              <a:gdLst/>
              <a:ahLst/>
              <a:rect l="l" t="t" r="r" b="b"/>
              <a:pathLst>
                <a:path w="969" h="182">
                  <a:moveTo>
                    <a:pt x="948" y="37"/>
                  </a:moveTo>
                  <a:lnTo>
                    <a:pt x="876" y="0"/>
                  </a:lnTo>
                  <a:lnTo>
                    <a:pt x="894" y="0"/>
                  </a:lnTo>
                  <a:lnTo>
                    <a:pt x="948" y="37"/>
                  </a:lnTo>
                  <a:lnTo>
                    <a:pt x="884" y="21"/>
                  </a:lnTo>
                  <a:lnTo>
                    <a:pt x="969" y="65"/>
                  </a:lnTo>
                  <a:lnTo>
                    <a:pt x="944" y="60"/>
                  </a:lnTo>
                  <a:lnTo>
                    <a:pt x="922" y="58"/>
                  </a:lnTo>
                  <a:lnTo>
                    <a:pt x="900" y="56"/>
                  </a:lnTo>
                  <a:lnTo>
                    <a:pt x="879" y="56"/>
                  </a:lnTo>
                  <a:lnTo>
                    <a:pt x="860" y="57"/>
                  </a:lnTo>
                  <a:lnTo>
                    <a:pt x="842" y="58"/>
                  </a:lnTo>
                  <a:lnTo>
                    <a:pt x="824" y="60"/>
                  </a:lnTo>
                  <a:lnTo>
                    <a:pt x="806" y="64"/>
                  </a:lnTo>
                  <a:lnTo>
                    <a:pt x="790" y="68"/>
                  </a:lnTo>
                  <a:lnTo>
                    <a:pt x="774" y="73"/>
                  </a:lnTo>
                  <a:lnTo>
                    <a:pt x="757" y="79"/>
                  </a:lnTo>
                  <a:lnTo>
                    <a:pt x="741" y="84"/>
                  </a:lnTo>
                  <a:lnTo>
                    <a:pt x="707" y="97"/>
                  </a:lnTo>
                  <a:lnTo>
                    <a:pt x="672" y="110"/>
                  </a:lnTo>
                  <a:lnTo>
                    <a:pt x="631" y="125"/>
                  </a:lnTo>
                  <a:lnTo>
                    <a:pt x="585" y="140"/>
                  </a:lnTo>
                  <a:lnTo>
                    <a:pt x="560" y="147"/>
                  </a:lnTo>
                  <a:lnTo>
                    <a:pt x="533" y="153"/>
                  </a:lnTo>
                  <a:lnTo>
                    <a:pt x="503" y="160"/>
                  </a:lnTo>
                  <a:lnTo>
                    <a:pt x="472" y="164"/>
                  </a:lnTo>
                  <a:lnTo>
                    <a:pt x="438" y="170"/>
                  </a:lnTo>
                  <a:lnTo>
                    <a:pt x="401" y="174"/>
                  </a:lnTo>
                  <a:lnTo>
                    <a:pt x="361" y="178"/>
                  </a:lnTo>
                  <a:lnTo>
                    <a:pt x="318" y="180"/>
                  </a:lnTo>
                  <a:lnTo>
                    <a:pt x="273" y="182"/>
                  </a:lnTo>
                  <a:lnTo>
                    <a:pt x="223" y="182"/>
                  </a:lnTo>
                  <a:lnTo>
                    <a:pt x="170" y="182"/>
                  </a:lnTo>
                  <a:lnTo>
                    <a:pt x="113" y="181"/>
                  </a:lnTo>
                  <a:lnTo>
                    <a:pt x="0" y="109"/>
                  </a:lnTo>
                  <a:lnTo>
                    <a:pt x="56" y="110"/>
                  </a:lnTo>
                  <a:lnTo>
                    <a:pt x="109" y="110"/>
                  </a:lnTo>
                  <a:lnTo>
                    <a:pt x="158" y="109"/>
                  </a:lnTo>
                  <a:lnTo>
                    <a:pt x="203" y="108"/>
                  </a:lnTo>
                  <a:lnTo>
                    <a:pt x="246" y="105"/>
                  </a:lnTo>
                  <a:lnTo>
                    <a:pt x="284" y="101"/>
                  </a:lnTo>
                  <a:lnTo>
                    <a:pt x="321" y="98"/>
                  </a:lnTo>
                  <a:lnTo>
                    <a:pt x="355" y="92"/>
                  </a:lnTo>
                  <a:lnTo>
                    <a:pt x="386" y="87"/>
                  </a:lnTo>
                  <a:lnTo>
                    <a:pt x="415" y="81"/>
                  </a:lnTo>
                  <a:lnTo>
                    <a:pt x="443" y="75"/>
                  </a:lnTo>
                  <a:lnTo>
                    <a:pt x="468" y="68"/>
                  </a:lnTo>
                  <a:lnTo>
                    <a:pt x="512" y="53"/>
                  </a:lnTo>
                  <a:lnTo>
                    <a:pt x="552" y="40"/>
                  </a:lnTo>
                  <a:lnTo>
                    <a:pt x="589" y="25"/>
                  </a:lnTo>
                  <a:lnTo>
                    <a:pt x="623" y="12"/>
                  </a:lnTo>
                  <a:lnTo>
                    <a:pt x="639" y="7"/>
                  </a:lnTo>
                  <a:lnTo>
                    <a:pt x="656" y="1"/>
                  </a:lnTo>
                  <a:lnTo>
                    <a:pt x="659" y="0"/>
                  </a:lnTo>
                  <a:lnTo>
                    <a:pt x="876" y="0"/>
                  </a:lnTo>
                  <a:lnTo>
                    <a:pt x="948" y="3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3025800" y="3524400"/>
              <a:ext cx="387360" cy="77760"/>
            </a:xfrm>
            <a:custGeom>
              <a:avLst/>
              <a:gdLst/>
              <a:ahLst/>
              <a:rect l="l" t="t" r="r" b="b"/>
              <a:pathLst>
                <a:path w="1220" h="248">
                  <a:moveTo>
                    <a:pt x="1209" y="247"/>
                  </a:moveTo>
                  <a:lnTo>
                    <a:pt x="1209" y="238"/>
                  </a:lnTo>
                  <a:lnTo>
                    <a:pt x="1196" y="225"/>
                  </a:lnTo>
                  <a:lnTo>
                    <a:pt x="1173" y="208"/>
                  </a:lnTo>
                  <a:lnTo>
                    <a:pt x="1142" y="189"/>
                  </a:lnTo>
                  <a:lnTo>
                    <a:pt x="1100" y="166"/>
                  </a:lnTo>
                  <a:lnTo>
                    <a:pt x="1064" y="149"/>
                  </a:lnTo>
                  <a:lnTo>
                    <a:pt x="1032" y="139"/>
                  </a:lnTo>
                  <a:lnTo>
                    <a:pt x="1001" y="129"/>
                  </a:lnTo>
                  <a:lnTo>
                    <a:pt x="970" y="123"/>
                  </a:lnTo>
                  <a:lnTo>
                    <a:pt x="937" y="117"/>
                  </a:lnTo>
                  <a:lnTo>
                    <a:pt x="902" y="111"/>
                  </a:lnTo>
                  <a:lnTo>
                    <a:pt x="826" y="102"/>
                  </a:lnTo>
                  <a:lnTo>
                    <a:pt x="745" y="94"/>
                  </a:lnTo>
                  <a:lnTo>
                    <a:pt x="659" y="88"/>
                  </a:lnTo>
                  <a:lnTo>
                    <a:pt x="571" y="81"/>
                  </a:lnTo>
                  <a:lnTo>
                    <a:pt x="481" y="75"/>
                  </a:lnTo>
                  <a:lnTo>
                    <a:pt x="393" y="68"/>
                  </a:lnTo>
                  <a:lnTo>
                    <a:pt x="350" y="63"/>
                  </a:lnTo>
                  <a:lnTo>
                    <a:pt x="307" y="59"/>
                  </a:lnTo>
                  <a:lnTo>
                    <a:pt x="266" y="54"/>
                  </a:lnTo>
                  <a:lnTo>
                    <a:pt x="226" y="48"/>
                  </a:lnTo>
                  <a:lnTo>
                    <a:pt x="188" y="43"/>
                  </a:lnTo>
                  <a:lnTo>
                    <a:pt x="152" y="35"/>
                  </a:lnTo>
                  <a:lnTo>
                    <a:pt x="118" y="28"/>
                  </a:lnTo>
                  <a:lnTo>
                    <a:pt x="88" y="20"/>
                  </a:lnTo>
                  <a:lnTo>
                    <a:pt x="63" y="1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7" y="12"/>
                  </a:lnTo>
                  <a:lnTo>
                    <a:pt x="64" y="16"/>
                  </a:lnTo>
                  <a:lnTo>
                    <a:pt x="0" y="0"/>
                  </a:lnTo>
                  <a:lnTo>
                    <a:pt x="27" y="18"/>
                  </a:lnTo>
                  <a:lnTo>
                    <a:pt x="59" y="37"/>
                  </a:lnTo>
                  <a:lnTo>
                    <a:pt x="88" y="51"/>
                  </a:lnTo>
                  <a:lnTo>
                    <a:pt x="115" y="63"/>
                  </a:lnTo>
                  <a:lnTo>
                    <a:pt x="149" y="77"/>
                  </a:lnTo>
                  <a:lnTo>
                    <a:pt x="186" y="88"/>
                  </a:lnTo>
                  <a:lnTo>
                    <a:pt x="221" y="97"/>
                  </a:lnTo>
                  <a:lnTo>
                    <a:pt x="258" y="107"/>
                  </a:lnTo>
                  <a:lnTo>
                    <a:pt x="295" y="113"/>
                  </a:lnTo>
                  <a:lnTo>
                    <a:pt x="335" y="120"/>
                  </a:lnTo>
                  <a:lnTo>
                    <a:pt x="376" y="126"/>
                  </a:lnTo>
                  <a:lnTo>
                    <a:pt x="417" y="131"/>
                  </a:lnTo>
                  <a:lnTo>
                    <a:pt x="460" y="135"/>
                  </a:lnTo>
                  <a:lnTo>
                    <a:pt x="505" y="140"/>
                  </a:lnTo>
                  <a:lnTo>
                    <a:pt x="594" y="148"/>
                  </a:lnTo>
                  <a:lnTo>
                    <a:pt x="683" y="153"/>
                  </a:lnTo>
                  <a:lnTo>
                    <a:pt x="772" y="160"/>
                  </a:lnTo>
                  <a:lnTo>
                    <a:pt x="857" y="166"/>
                  </a:lnTo>
                  <a:lnTo>
                    <a:pt x="938" y="174"/>
                  </a:lnTo>
                  <a:lnTo>
                    <a:pt x="1011" y="183"/>
                  </a:lnTo>
                  <a:lnTo>
                    <a:pt x="1045" y="188"/>
                  </a:lnTo>
                  <a:lnTo>
                    <a:pt x="1076" y="193"/>
                  </a:lnTo>
                  <a:lnTo>
                    <a:pt x="1103" y="200"/>
                  </a:lnTo>
                  <a:lnTo>
                    <a:pt x="1126" y="206"/>
                  </a:lnTo>
                  <a:lnTo>
                    <a:pt x="1142" y="212"/>
                  </a:lnTo>
                  <a:lnTo>
                    <a:pt x="1146" y="214"/>
                  </a:lnTo>
                  <a:lnTo>
                    <a:pt x="1122" y="201"/>
                  </a:lnTo>
                  <a:lnTo>
                    <a:pt x="1107" y="191"/>
                  </a:lnTo>
                  <a:lnTo>
                    <a:pt x="1099" y="185"/>
                  </a:lnTo>
                  <a:lnTo>
                    <a:pt x="1098" y="184"/>
                  </a:lnTo>
                  <a:lnTo>
                    <a:pt x="1098" y="175"/>
                  </a:lnTo>
                  <a:lnTo>
                    <a:pt x="1209" y="247"/>
                  </a:lnTo>
                  <a:lnTo>
                    <a:pt x="1220" y="248"/>
                  </a:lnTo>
                  <a:lnTo>
                    <a:pt x="1209" y="238"/>
                  </a:lnTo>
                  <a:lnTo>
                    <a:pt x="1209" y="24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952720" y="3578400"/>
              <a:ext cx="457200" cy="47520"/>
            </a:xfrm>
            <a:custGeom>
              <a:avLst/>
              <a:gdLst/>
              <a:ahLst/>
              <a:rect l="l" t="t" r="r" b="b"/>
              <a:pathLst>
                <a:path w="1438" h="147">
                  <a:moveTo>
                    <a:pt x="0" y="43"/>
                  </a:moveTo>
                  <a:lnTo>
                    <a:pt x="107" y="103"/>
                  </a:lnTo>
                  <a:lnTo>
                    <a:pt x="164" y="114"/>
                  </a:lnTo>
                  <a:lnTo>
                    <a:pt x="220" y="123"/>
                  </a:lnTo>
                  <a:lnTo>
                    <a:pt x="275" y="131"/>
                  </a:lnTo>
                  <a:lnTo>
                    <a:pt x="329" y="137"/>
                  </a:lnTo>
                  <a:lnTo>
                    <a:pt x="382" y="141"/>
                  </a:lnTo>
                  <a:lnTo>
                    <a:pt x="434" y="143"/>
                  </a:lnTo>
                  <a:lnTo>
                    <a:pt x="484" y="146"/>
                  </a:lnTo>
                  <a:lnTo>
                    <a:pt x="534" y="147"/>
                  </a:lnTo>
                  <a:lnTo>
                    <a:pt x="583" y="147"/>
                  </a:lnTo>
                  <a:lnTo>
                    <a:pt x="630" y="146"/>
                  </a:lnTo>
                  <a:lnTo>
                    <a:pt x="677" y="143"/>
                  </a:lnTo>
                  <a:lnTo>
                    <a:pt x="724" y="141"/>
                  </a:lnTo>
                  <a:lnTo>
                    <a:pt x="811" y="134"/>
                  </a:lnTo>
                  <a:lnTo>
                    <a:pt x="897" y="125"/>
                  </a:lnTo>
                  <a:lnTo>
                    <a:pt x="1054" y="105"/>
                  </a:lnTo>
                  <a:lnTo>
                    <a:pt x="1198" y="85"/>
                  </a:lnTo>
                  <a:lnTo>
                    <a:pt x="1263" y="78"/>
                  </a:lnTo>
                  <a:lnTo>
                    <a:pt x="1326" y="74"/>
                  </a:lnTo>
                  <a:lnTo>
                    <a:pt x="1355" y="73"/>
                  </a:lnTo>
                  <a:lnTo>
                    <a:pt x="1384" y="73"/>
                  </a:lnTo>
                  <a:lnTo>
                    <a:pt x="1412" y="73"/>
                  </a:lnTo>
                  <a:lnTo>
                    <a:pt x="1438" y="75"/>
                  </a:lnTo>
                  <a:lnTo>
                    <a:pt x="1327" y="3"/>
                  </a:lnTo>
                  <a:lnTo>
                    <a:pt x="1298" y="1"/>
                  </a:lnTo>
                  <a:lnTo>
                    <a:pt x="1270" y="0"/>
                  </a:lnTo>
                  <a:lnTo>
                    <a:pt x="1240" y="1"/>
                  </a:lnTo>
                  <a:lnTo>
                    <a:pt x="1210" y="2"/>
                  </a:lnTo>
                  <a:lnTo>
                    <a:pt x="1148" y="6"/>
                  </a:lnTo>
                  <a:lnTo>
                    <a:pt x="1081" y="13"/>
                  </a:lnTo>
                  <a:lnTo>
                    <a:pt x="938" y="33"/>
                  </a:lnTo>
                  <a:lnTo>
                    <a:pt x="780" y="52"/>
                  </a:lnTo>
                  <a:lnTo>
                    <a:pt x="695" y="61"/>
                  </a:lnTo>
                  <a:lnTo>
                    <a:pt x="607" y="69"/>
                  </a:lnTo>
                  <a:lnTo>
                    <a:pt x="562" y="71"/>
                  </a:lnTo>
                  <a:lnTo>
                    <a:pt x="516" y="74"/>
                  </a:lnTo>
                  <a:lnTo>
                    <a:pt x="468" y="74"/>
                  </a:lnTo>
                  <a:lnTo>
                    <a:pt x="420" y="75"/>
                  </a:lnTo>
                  <a:lnTo>
                    <a:pt x="370" y="74"/>
                  </a:lnTo>
                  <a:lnTo>
                    <a:pt x="320" y="71"/>
                  </a:lnTo>
                  <a:lnTo>
                    <a:pt x="269" y="68"/>
                  </a:lnTo>
                  <a:lnTo>
                    <a:pt x="218" y="64"/>
                  </a:lnTo>
                  <a:lnTo>
                    <a:pt x="164" y="59"/>
                  </a:lnTo>
                  <a:lnTo>
                    <a:pt x="110" y="51"/>
                  </a:lnTo>
                  <a:lnTo>
                    <a:pt x="56" y="43"/>
                  </a:lnTo>
                  <a:lnTo>
                    <a:pt x="0" y="32"/>
                  </a:lnTo>
                  <a:lnTo>
                    <a:pt x="107" y="92"/>
                  </a:lnTo>
                  <a:lnTo>
                    <a:pt x="0" y="43"/>
                  </a:lnTo>
                  <a:lnTo>
                    <a:pt x="52" y="92"/>
                  </a:lnTo>
                  <a:lnTo>
                    <a:pt x="107" y="10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2685960" y="3551400"/>
              <a:ext cx="301680" cy="56880"/>
            </a:xfrm>
            <a:custGeom>
              <a:avLst/>
              <a:gdLst/>
              <a:ahLst/>
              <a:rect l="l" t="t" r="r" b="b"/>
              <a:pathLst>
                <a:path w="950" h="176">
                  <a:moveTo>
                    <a:pt x="188" y="0"/>
                  </a:moveTo>
                  <a:lnTo>
                    <a:pt x="299" y="71"/>
                  </a:lnTo>
                  <a:lnTo>
                    <a:pt x="342" y="79"/>
                  </a:lnTo>
                  <a:lnTo>
                    <a:pt x="387" y="85"/>
                  </a:lnTo>
                  <a:lnTo>
                    <a:pt x="435" y="90"/>
                  </a:lnTo>
                  <a:lnTo>
                    <a:pt x="483" y="96"/>
                  </a:lnTo>
                  <a:lnTo>
                    <a:pt x="581" y="105"/>
                  </a:lnTo>
                  <a:lnTo>
                    <a:pt x="677" y="117"/>
                  </a:lnTo>
                  <a:lnTo>
                    <a:pt x="723" y="122"/>
                  </a:lnTo>
                  <a:lnTo>
                    <a:pt x="766" y="128"/>
                  </a:lnTo>
                  <a:lnTo>
                    <a:pt x="807" y="135"/>
                  </a:lnTo>
                  <a:lnTo>
                    <a:pt x="844" y="143"/>
                  </a:lnTo>
                  <a:lnTo>
                    <a:pt x="859" y="148"/>
                  </a:lnTo>
                  <a:lnTo>
                    <a:pt x="874" y="151"/>
                  </a:lnTo>
                  <a:lnTo>
                    <a:pt x="885" y="154"/>
                  </a:lnTo>
                  <a:lnTo>
                    <a:pt x="891" y="157"/>
                  </a:lnTo>
                  <a:lnTo>
                    <a:pt x="887" y="155"/>
                  </a:lnTo>
                  <a:lnTo>
                    <a:pt x="870" y="146"/>
                  </a:lnTo>
                  <a:lnTo>
                    <a:pt x="850" y="133"/>
                  </a:lnTo>
                  <a:lnTo>
                    <a:pt x="843" y="127"/>
                  </a:lnTo>
                  <a:lnTo>
                    <a:pt x="950" y="176"/>
                  </a:lnTo>
                  <a:lnTo>
                    <a:pt x="927" y="158"/>
                  </a:lnTo>
                  <a:lnTo>
                    <a:pt x="886" y="132"/>
                  </a:lnTo>
                  <a:lnTo>
                    <a:pt x="846" y="110"/>
                  </a:lnTo>
                  <a:lnTo>
                    <a:pt x="818" y="97"/>
                  </a:lnTo>
                  <a:lnTo>
                    <a:pt x="796" y="88"/>
                  </a:lnTo>
                  <a:lnTo>
                    <a:pt x="778" y="82"/>
                  </a:lnTo>
                  <a:lnTo>
                    <a:pt x="758" y="77"/>
                  </a:lnTo>
                  <a:lnTo>
                    <a:pt x="739" y="72"/>
                  </a:lnTo>
                  <a:lnTo>
                    <a:pt x="700" y="64"/>
                  </a:lnTo>
                  <a:lnTo>
                    <a:pt x="658" y="56"/>
                  </a:lnTo>
                  <a:lnTo>
                    <a:pt x="614" y="51"/>
                  </a:lnTo>
                  <a:lnTo>
                    <a:pt x="567" y="44"/>
                  </a:lnTo>
                  <a:lnTo>
                    <a:pt x="470" y="33"/>
                  </a:lnTo>
                  <a:lnTo>
                    <a:pt x="372" y="24"/>
                  </a:lnTo>
                  <a:lnTo>
                    <a:pt x="323" y="19"/>
                  </a:lnTo>
                  <a:lnTo>
                    <a:pt x="277" y="13"/>
                  </a:lnTo>
                  <a:lnTo>
                    <a:pt x="233" y="7"/>
                  </a:lnTo>
                  <a:lnTo>
                    <a:pt x="191" y="0"/>
                  </a:lnTo>
                  <a:lnTo>
                    <a:pt x="301" y="72"/>
                  </a:lnTo>
                  <a:lnTo>
                    <a:pt x="188" y="0"/>
                  </a:lnTo>
                  <a:lnTo>
                    <a:pt x="0" y="5"/>
                  </a:lnTo>
                  <a:lnTo>
                    <a:pt x="299" y="71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6086520" y="3533760"/>
              <a:ext cx="422280" cy="90360"/>
            </a:xfrm>
            <a:custGeom>
              <a:avLst/>
              <a:gdLst/>
              <a:ahLst/>
              <a:rect l="l" t="t" r="r" b="b"/>
              <a:pathLst>
                <a:path w="1329" h="285">
                  <a:moveTo>
                    <a:pt x="1329" y="20"/>
                  </a:moveTo>
                  <a:lnTo>
                    <a:pt x="1307" y="13"/>
                  </a:lnTo>
                  <a:lnTo>
                    <a:pt x="1286" y="8"/>
                  </a:lnTo>
                  <a:lnTo>
                    <a:pt x="1263" y="4"/>
                  </a:lnTo>
                  <a:lnTo>
                    <a:pt x="1239" y="2"/>
                  </a:lnTo>
                  <a:lnTo>
                    <a:pt x="1213" y="0"/>
                  </a:lnTo>
                  <a:lnTo>
                    <a:pt x="1186" y="2"/>
                  </a:lnTo>
                  <a:lnTo>
                    <a:pt x="1155" y="5"/>
                  </a:lnTo>
                  <a:lnTo>
                    <a:pt x="1122" y="10"/>
                  </a:lnTo>
                  <a:lnTo>
                    <a:pt x="1100" y="23"/>
                  </a:lnTo>
                  <a:lnTo>
                    <a:pt x="1075" y="35"/>
                  </a:lnTo>
                  <a:lnTo>
                    <a:pt x="1046" y="46"/>
                  </a:lnTo>
                  <a:lnTo>
                    <a:pt x="1017" y="55"/>
                  </a:lnTo>
                  <a:lnTo>
                    <a:pt x="984" y="64"/>
                  </a:lnTo>
                  <a:lnTo>
                    <a:pt x="948" y="72"/>
                  </a:lnTo>
                  <a:lnTo>
                    <a:pt x="912" y="79"/>
                  </a:lnTo>
                  <a:lnTo>
                    <a:pt x="873" y="86"/>
                  </a:lnTo>
                  <a:lnTo>
                    <a:pt x="832" y="92"/>
                  </a:lnTo>
                  <a:lnTo>
                    <a:pt x="791" y="97"/>
                  </a:lnTo>
                  <a:lnTo>
                    <a:pt x="748" y="102"/>
                  </a:lnTo>
                  <a:lnTo>
                    <a:pt x="704" y="105"/>
                  </a:lnTo>
                  <a:lnTo>
                    <a:pt x="616" y="113"/>
                  </a:lnTo>
                  <a:lnTo>
                    <a:pt x="527" y="119"/>
                  </a:lnTo>
                  <a:lnTo>
                    <a:pt x="438" y="126"/>
                  </a:lnTo>
                  <a:lnTo>
                    <a:pt x="352" y="132"/>
                  </a:lnTo>
                  <a:lnTo>
                    <a:pt x="271" y="140"/>
                  </a:lnTo>
                  <a:lnTo>
                    <a:pt x="197" y="149"/>
                  </a:lnTo>
                  <a:lnTo>
                    <a:pt x="162" y="154"/>
                  </a:lnTo>
                  <a:lnTo>
                    <a:pt x="130" y="160"/>
                  </a:lnTo>
                  <a:lnTo>
                    <a:pt x="101" y="167"/>
                  </a:lnTo>
                  <a:lnTo>
                    <a:pt x="74" y="174"/>
                  </a:lnTo>
                  <a:lnTo>
                    <a:pt x="50" y="182"/>
                  </a:lnTo>
                  <a:lnTo>
                    <a:pt x="30" y="191"/>
                  </a:lnTo>
                  <a:lnTo>
                    <a:pt x="12" y="201"/>
                  </a:lnTo>
                  <a:lnTo>
                    <a:pt x="0" y="213"/>
                  </a:lnTo>
                  <a:lnTo>
                    <a:pt x="27" y="210"/>
                  </a:lnTo>
                  <a:lnTo>
                    <a:pt x="55" y="210"/>
                  </a:lnTo>
                  <a:lnTo>
                    <a:pt x="84" y="210"/>
                  </a:lnTo>
                  <a:lnTo>
                    <a:pt x="114" y="211"/>
                  </a:lnTo>
                  <a:lnTo>
                    <a:pt x="177" y="216"/>
                  </a:lnTo>
                  <a:lnTo>
                    <a:pt x="243" y="223"/>
                  </a:lnTo>
                  <a:lnTo>
                    <a:pt x="386" y="242"/>
                  </a:lnTo>
                  <a:lnTo>
                    <a:pt x="544" y="263"/>
                  </a:lnTo>
                  <a:lnTo>
                    <a:pt x="586" y="267"/>
                  </a:lnTo>
                  <a:lnTo>
                    <a:pt x="628" y="272"/>
                  </a:lnTo>
                  <a:lnTo>
                    <a:pt x="673" y="275"/>
                  </a:lnTo>
                  <a:lnTo>
                    <a:pt x="717" y="279"/>
                  </a:lnTo>
                  <a:lnTo>
                    <a:pt x="763" y="281"/>
                  </a:lnTo>
                  <a:lnTo>
                    <a:pt x="809" y="283"/>
                  </a:lnTo>
                  <a:lnTo>
                    <a:pt x="856" y="285"/>
                  </a:lnTo>
                  <a:lnTo>
                    <a:pt x="905" y="285"/>
                  </a:lnTo>
                  <a:lnTo>
                    <a:pt x="954" y="283"/>
                  </a:lnTo>
                  <a:lnTo>
                    <a:pt x="1005" y="281"/>
                  </a:lnTo>
                  <a:lnTo>
                    <a:pt x="1057" y="279"/>
                  </a:lnTo>
                  <a:lnTo>
                    <a:pt x="1109" y="274"/>
                  </a:lnTo>
                  <a:lnTo>
                    <a:pt x="1163" y="269"/>
                  </a:lnTo>
                  <a:lnTo>
                    <a:pt x="1216" y="261"/>
                  </a:lnTo>
                  <a:lnTo>
                    <a:pt x="1272" y="253"/>
                  </a:lnTo>
                  <a:lnTo>
                    <a:pt x="1329" y="241"/>
                  </a:lnTo>
                  <a:lnTo>
                    <a:pt x="1329" y="2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6423120" y="3522600"/>
              <a:ext cx="85680" cy="25560"/>
            </a:xfrm>
            <a:custGeom>
              <a:avLst/>
              <a:gdLst/>
              <a:ahLst/>
              <a:rect l="l" t="t" r="r" b="b"/>
              <a:pathLst>
                <a:path w="268" h="82">
                  <a:moveTo>
                    <a:pt x="120" y="81"/>
                  </a:moveTo>
                  <a:lnTo>
                    <a:pt x="119" y="82"/>
                  </a:lnTo>
                  <a:lnTo>
                    <a:pt x="145" y="77"/>
                  </a:lnTo>
                  <a:lnTo>
                    <a:pt x="169" y="75"/>
                  </a:lnTo>
                  <a:lnTo>
                    <a:pt x="191" y="73"/>
                  </a:lnTo>
                  <a:lnTo>
                    <a:pt x="211" y="73"/>
                  </a:lnTo>
                  <a:lnTo>
                    <a:pt x="231" y="73"/>
                  </a:lnTo>
                  <a:lnTo>
                    <a:pt x="249" y="75"/>
                  </a:lnTo>
                  <a:lnTo>
                    <a:pt x="265" y="77"/>
                  </a:lnTo>
                  <a:lnTo>
                    <a:pt x="268" y="77"/>
                  </a:lnTo>
                  <a:lnTo>
                    <a:pt x="268" y="39"/>
                  </a:lnTo>
                  <a:lnTo>
                    <a:pt x="253" y="33"/>
                  </a:lnTo>
                  <a:lnTo>
                    <a:pt x="233" y="26"/>
                  </a:lnTo>
                  <a:lnTo>
                    <a:pt x="213" y="19"/>
                  </a:lnTo>
                  <a:lnTo>
                    <a:pt x="195" y="14"/>
                  </a:lnTo>
                  <a:lnTo>
                    <a:pt x="176" y="9"/>
                  </a:lnTo>
                  <a:lnTo>
                    <a:pt x="156" y="6"/>
                  </a:lnTo>
                  <a:lnTo>
                    <a:pt x="137" y="2"/>
                  </a:lnTo>
                  <a:lnTo>
                    <a:pt x="118" y="1"/>
                  </a:lnTo>
                  <a:lnTo>
                    <a:pt x="97" y="0"/>
                  </a:lnTo>
                  <a:lnTo>
                    <a:pt x="75" y="1"/>
                  </a:lnTo>
                  <a:lnTo>
                    <a:pt x="53" y="2"/>
                  </a:lnTo>
                  <a:lnTo>
                    <a:pt x="28" y="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6053040" y="3525840"/>
              <a:ext cx="408240" cy="90360"/>
            </a:xfrm>
            <a:custGeom>
              <a:avLst/>
              <a:gdLst/>
              <a:ahLst/>
              <a:rect l="l" t="t" r="r" b="b"/>
              <a:pathLst>
                <a:path w="1286" h="283">
                  <a:moveTo>
                    <a:pt x="47" y="202"/>
                  </a:moveTo>
                  <a:lnTo>
                    <a:pt x="165" y="274"/>
                  </a:lnTo>
                  <a:lnTo>
                    <a:pt x="171" y="268"/>
                  </a:lnTo>
                  <a:lnTo>
                    <a:pt x="178" y="263"/>
                  </a:lnTo>
                  <a:lnTo>
                    <a:pt x="186" y="258"/>
                  </a:lnTo>
                  <a:lnTo>
                    <a:pt x="195" y="253"/>
                  </a:lnTo>
                  <a:lnTo>
                    <a:pt x="215" y="244"/>
                  </a:lnTo>
                  <a:lnTo>
                    <a:pt x="238" y="235"/>
                  </a:lnTo>
                  <a:lnTo>
                    <a:pt x="265" y="228"/>
                  </a:lnTo>
                  <a:lnTo>
                    <a:pt x="294" y="222"/>
                  </a:lnTo>
                  <a:lnTo>
                    <a:pt x="326" y="216"/>
                  </a:lnTo>
                  <a:lnTo>
                    <a:pt x="360" y="211"/>
                  </a:lnTo>
                  <a:lnTo>
                    <a:pt x="434" y="202"/>
                  </a:lnTo>
                  <a:lnTo>
                    <a:pt x="515" y="194"/>
                  </a:lnTo>
                  <a:lnTo>
                    <a:pt x="601" y="187"/>
                  </a:lnTo>
                  <a:lnTo>
                    <a:pt x="689" y="182"/>
                  </a:lnTo>
                  <a:lnTo>
                    <a:pt x="779" y="175"/>
                  </a:lnTo>
                  <a:lnTo>
                    <a:pt x="868" y="168"/>
                  </a:lnTo>
                  <a:lnTo>
                    <a:pt x="911" y="163"/>
                  </a:lnTo>
                  <a:lnTo>
                    <a:pt x="954" y="159"/>
                  </a:lnTo>
                  <a:lnTo>
                    <a:pt x="995" y="154"/>
                  </a:lnTo>
                  <a:lnTo>
                    <a:pt x="1036" y="149"/>
                  </a:lnTo>
                  <a:lnTo>
                    <a:pt x="1075" y="142"/>
                  </a:lnTo>
                  <a:lnTo>
                    <a:pt x="1113" y="135"/>
                  </a:lnTo>
                  <a:lnTo>
                    <a:pt x="1148" y="127"/>
                  </a:lnTo>
                  <a:lnTo>
                    <a:pt x="1181" y="118"/>
                  </a:lnTo>
                  <a:lnTo>
                    <a:pt x="1211" y="107"/>
                  </a:lnTo>
                  <a:lnTo>
                    <a:pt x="1239" y="97"/>
                  </a:lnTo>
                  <a:lnTo>
                    <a:pt x="1252" y="90"/>
                  </a:lnTo>
                  <a:lnTo>
                    <a:pt x="1264" y="85"/>
                  </a:lnTo>
                  <a:lnTo>
                    <a:pt x="1276" y="78"/>
                  </a:lnTo>
                  <a:lnTo>
                    <a:pt x="1286" y="71"/>
                  </a:lnTo>
                  <a:lnTo>
                    <a:pt x="1166" y="0"/>
                  </a:lnTo>
                  <a:lnTo>
                    <a:pt x="1156" y="7"/>
                  </a:lnTo>
                  <a:lnTo>
                    <a:pt x="1145" y="14"/>
                  </a:lnTo>
                  <a:lnTo>
                    <a:pt x="1133" y="20"/>
                  </a:lnTo>
                  <a:lnTo>
                    <a:pt x="1121" y="25"/>
                  </a:lnTo>
                  <a:lnTo>
                    <a:pt x="1093" y="37"/>
                  </a:lnTo>
                  <a:lnTo>
                    <a:pt x="1063" y="46"/>
                  </a:lnTo>
                  <a:lnTo>
                    <a:pt x="1029" y="55"/>
                  </a:lnTo>
                  <a:lnTo>
                    <a:pt x="995" y="63"/>
                  </a:lnTo>
                  <a:lnTo>
                    <a:pt x="958" y="70"/>
                  </a:lnTo>
                  <a:lnTo>
                    <a:pt x="919" y="75"/>
                  </a:lnTo>
                  <a:lnTo>
                    <a:pt x="879" y="81"/>
                  </a:lnTo>
                  <a:lnTo>
                    <a:pt x="838" y="87"/>
                  </a:lnTo>
                  <a:lnTo>
                    <a:pt x="795" y="91"/>
                  </a:lnTo>
                  <a:lnTo>
                    <a:pt x="751" y="96"/>
                  </a:lnTo>
                  <a:lnTo>
                    <a:pt x="662" y="103"/>
                  </a:lnTo>
                  <a:lnTo>
                    <a:pt x="573" y="110"/>
                  </a:lnTo>
                  <a:lnTo>
                    <a:pt x="485" y="115"/>
                  </a:lnTo>
                  <a:lnTo>
                    <a:pt x="399" y="122"/>
                  </a:lnTo>
                  <a:lnTo>
                    <a:pt x="318" y="130"/>
                  </a:lnTo>
                  <a:lnTo>
                    <a:pt x="243" y="138"/>
                  </a:lnTo>
                  <a:lnTo>
                    <a:pt x="209" y="144"/>
                  </a:lnTo>
                  <a:lnTo>
                    <a:pt x="177" y="150"/>
                  </a:lnTo>
                  <a:lnTo>
                    <a:pt x="147" y="156"/>
                  </a:lnTo>
                  <a:lnTo>
                    <a:pt x="120" y="164"/>
                  </a:lnTo>
                  <a:lnTo>
                    <a:pt x="96" y="172"/>
                  </a:lnTo>
                  <a:lnTo>
                    <a:pt x="75" y="182"/>
                  </a:lnTo>
                  <a:lnTo>
                    <a:pt x="66" y="186"/>
                  </a:lnTo>
                  <a:lnTo>
                    <a:pt x="58" y="192"/>
                  </a:lnTo>
                  <a:lnTo>
                    <a:pt x="50" y="198"/>
                  </a:lnTo>
                  <a:lnTo>
                    <a:pt x="44" y="203"/>
                  </a:lnTo>
                  <a:lnTo>
                    <a:pt x="163" y="275"/>
                  </a:lnTo>
                  <a:lnTo>
                    <a:pt x="44" y="203"/>
                  </a:lnTo>
                  <a:lnTo>
                    <a:pt x="0" y="283"/>
                  </a:lnTo>
                  <a:lnTo>
                    <a:pt x="163" y="275"/>
                  </a:lnTo>
                  <a:lnTo>
                    <a:pt x="47" y="20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6068880" y="3589200"/>
              <a:ext cx="439920" cy="46080"/>
            </a:xfrm>
            <a:custGeom>
              <a:avLst/>
              <a:gdLst/>
              <a:ahLst/>
              <a:rect l="l" t="t" r="r" b="b"/>
              <a:pathLst>
                <a:path w="1387" h="147">
                  <a:moveTo>
                    <a:pt x="1327" y="32"/>
                  </a:moveTo>
                  <a:lnTo>
                    <a:pt x="1328" y="32"/>
                  </a:lnTo>
                  <a:lnTo>
                    <a:pt x="1272" y="42"/>
                  </a:lnTo>
                  <a:lnTo>
                    <a:pt x="1216" y="51"/>
                  </a:lnTo>
                  <a:lnTo>
                    <a:pt x="1161" y="58"/>
                  </a:lnTo>
                  <a:lnTo>
                    <a:pt x="1109" y="64"/>
                  </a:lnTo>
                  <a:lnTo>
                    <a:pt x="1057" y="68"/>
                  </a:lnTo>
                  <a:lnTo>
                    <a:pt x="1005" y="72"/>
                  </a:lnTo>
                  <a:lnTo>
                    <a:pt x="955" y="74"/>
                  </a:lnTo>
                  <a:lnTo>
                    <a:pt x="906" y="74"/>
                  </a:lnTo>
                  <a:lnTo>
                    <a:pt x="857" y="74"/>
                  </a:lnTo>
                  <a:lnTo>
                    <a:pt x="810" y="73"/>
                  </a:lnTo>
                  <a:lnTo>
                    <a:pt x="764" y="71"/>
                  </a:lnTo>
                  <a:lnTo>
                    <a:pt x="718" y="68"/>
                  </a:lnTo>
                  <a:lnTo>
                    <a:pt x="674" y="65"/>
                  </a:lnTo>
                  <a:lnTo>
                    <a:pt x="630" y="61"/>
                  </a:lnTo>
                  <a:lnTo>
                    <a:pt x="588" y="57"/>
                  </a:lnTo>
                  <a:lnTo>
                    <a:pt x="547" y="52"/>
                  </a:lnTo>
                  <a:lnTo>
                    <a:pt x="389" y="32"/>
                  </a:lnTo>
                  <a:lnTo>
                    <a:pt x="246" y="12"/>
                  </a:lnTo>
                  <a:lnTo>
                    <a:pt x="179" y="6"/>
                  </a:lnTo>
                  <a:lnTo>
                    <a:pt x="116" y="1"/>
                  </a:lnTo>
                  <a:lnTo>
                    <a:pt x="85" y="0"/>
                  </a:lnTo>
                  <a:lnTo>
                    <a:pt x="56" y="0"/>
                  </a:lnTo>
                  <a:lnTo>
                    <a:pt x="27" y="1"/>
                  </a:lnTo>
                  <a:lnTo>
                    <a:pt x="0" y="2"/>
                  </a:lnTo>
                  <a:lnTo>
                    <a:pt x="116" y="75"/>
                  </a:lnTo>
                  <a:lnTo>
                    <a:pt x="142" y="73"/>
                  </a:lnTo>
                  <a:lnTo>
                    <a:pt x="171" y="72"/>
                  </a:lnTo>
                  <a:lnTo>
                    <a:pt x="199" y="72"/>
                  </a:lnTo>
                  <a:lnTo>
                    <a:pt x="229" y="73"/>
                  </a:lnTo>
                  <a:lnTo>
                    <a:pt x="290" y="77"/>
                  </a:lnTo>
                  <a:lnTo>
                    <a:pt x="357" y="85"/>
                  </a:lnTo>
                  <a:lnTo>
                    <a:pt x="499" y="104"/>
                  </a:lnTo>
                  <a:lnTo>
                    <a:pt x="658" y="124"/>
                  </a:lnTo>
                  <a:lnTo>
                    <a:pt x="700" y="129"/>
                  </a:lnTo>
                  <a:lnTo>
                    <a:pt x="742" y="133"/>
                  </a:lnTo>
                  <a:lnTo>
                    <a:pt x="786" y="138"/>
                  </a:lnTo>
                  <a:lnTo>
                    <a:pt x="831" y="140"/>
                  </a:lnTo>
                  <a:lnTo>
                    <a:pt x="876" y="144"/>
                  </a:lnTo>
                  <a:lnTo>
                    <a:pt x="923" y="145"/>
                  </a:lnTo>
                  <a:lnTo>
                    <a:pt x="971" y="146"/>
                  </a:lnTo>
                  <a:lnTo>
                    <a:pt x="1020" y="147"/>
                  </a:lnTo>
                  <a:lnTo>
                    <a:pt x="1070" y="146"/>
                  </a:lnTo>
                  <a:lnTo>
                    <a:pt x="1120" y="144"/>
                  </a:lnTo>
                  <a:lnTo>
                    <a:pt x="1172" y="140"/>
                  </a:lnTo>
                  <a:lnTo>
                    <a:pt x="1225" y="136"/>
                  </a:lnTo>
                  <a:lnTo>
                    <a:pt x="1279" y="130"/>
                  </a:lnTo>
                  <a:lnTo>
                    <a:pt x="1334" y="123"/>
                  </a:lnTo>
                  <a:lnTo>
                    <a:pt x="1387" y="114"/>
                  </a:lnTo>
                  <a:lnTo>
                    <a:pt x="1387" y="67"/>
                  </a:lnTo>
                  <a:lnTo>
                    <a:pt x="1327" y="3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6489720" y="3589200"/>
              <a:ext cx="19080" cy="2088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0"/>
                  </a:moveTo>
                  <a:lnTo>
                    <a:pt x="57" y="1"/>
                  </a:lnTo>
                  <a:lnTo>
                    <a:pt x="42" y="6"/>
                  </a:lnTo>
                  <a:lnTo>
                    <a:pt x="29" y="11"/>
                  </a:lnTo>
                  <a:lnTo>
                    <a:pt x="18" y="18"/>
                  </a:lnTo>
                  <a:lnTo>
                    <a:pt x="8" y="24"/>
                  </a:lnTo>
                  <a:lnTo>
                    <a:pt x="0" y="31"/>
                  </a:lnTo>
                  <a:lnTo>
                    <a:pt x="60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2724120" y="3782880"/>
              <a:ext cx="628560" cy="90720"/>
            </a:xfrm>
            <a:custGeom>
              <a:avLst/>
              <a:gdLst/>
              <a:ahLst/>
              <a:rect l="l" t="t" r="r" b="b"/>
              <a:pathLst>
                <a:path w="1980" h="284">
                  <a:moveTo>
                    <a:pt x="0" y="126"/>
                  </a:moveTo>
                  <a:lnTo>
                    <a:pt x="56" y="127"/>
                  </a:lnTo>
                  <a:lnTo>
                    <a:pt x="109" y="127"/>
                  </a:lnTo>
                  <a:lnTo>
                    <a:pt x="158" y="126"/>
                  </a:lnTo>
                  <a:lnTo>
                    <a:pt x="203" y="125"/>
                  </a:lnTo>
                  <a:lnTo>
                    <a:pt x="247" y="122"/>
                  </a:lnTo>
                  <a:lnTo>
                    <a:pt x="285" y="118"/>
                  </a:lnTo>
                  <a:lnTo>
                    <a:pt x="322" y="114"/>
                  </a:lnTo>
                  <a:lnTo>
                    <a:pt x="356" y="109"/>
                  </a:lnTo>
                  <a:lnTo>
                    <a:pt x="388" y="103"/>
                  </a:lnTo>
                  <a:lnTo>
                    <a:pt x="418" y="97"/>
                  </a:lnTo>
                  <a:lnTo>
                    <a:pt x="444" y="92"/>
                  </a:lnTo>
                  <a:lnTo>
                    <a:pt x="470" y="85"/>
                  </a:lnTo>
                  <a:lnTo>
                    <a:pt x="514" y="70"/>
                  </a:lnTo>
                  <a:lnTo>
                    <a:pt x="555" y="56"/>
                  </a:lnTo>
                  <a:lnTo>
                    <a:pt x="591" y="41"/>
                  </a:lnTo>
                  <a:lnTo>
                    <a:pt x="625" y="29"/>
                  </a:lnTo>
                  <a:lnTo>
                    <a:pt x="641" y="23"/>
                  </a:lnTo>
                  <a:lnTo>
                    <a:pt x="658" y="17"/>
                  </a:lnTo>
                  <a:lnTo>
                    <a:pt x="674" y="13"/>
                  </a:lnTo>
                  <a:lnTo>
                    <a:pt x="691" y="8"/>
                  </a:lnTo>
                  <a:lnTo>
                    <a:pt x="708" y="5"/>
                  </a:lnTo>
                  <a:lnTo>
                    <a:pt x="726" y="3"/>
                  </a:lnTo>
                  <a:lnTo>
                    <a:pt x="745" y="0"/>
                  </a:lnTo>
                  <a:lnTo>
                    <a:pt x="765" y="0"/>
                  </a:lnTo>
                  <a:lnTo>
                    <a:pt x="786" y="0"/>
                  </a:lnTo>
                  <a:lnTo>
                    <a:pt x="809" y="3"/>
                  </a:lnTo>
                  <a:lnTo>
                    <a:pt x="833" y="5"/>
                  </a:lnTo>
                  <a:lnTo>
                    <a:pt x="859" y="9"/>
                  </a:lnTo>
                  <a:lnTo>
                    <a:pt x="880" y="23"/>
                  </a:lnTo>
                  <a:lnTo>
                    <a:pt x="905" y="35"/>
                  </a:lnTo>
                  <a:lnTo>
                    <a:pt x="933" y="46"/>
                  </a:lnTo>
                  <a:lnTo>
                    <a:pt x="964" y="55"/>
                  </a:lnTo>
                  <a:lnTo>
                    <a:pt x="997" y="64"/>
                  </a:lnTo>
                  <a:lnTo>
                    <a:pt x="1031" y="72"/>
                  </a:lnTo>
                  <a:lnTo>
                    <a:pt x="1068" y="79"/>
                  </a:lnTo>
                  <a:lnTo>
                    <a:pt x="1107" y="86"/>
                  </a:lnTo>
                  <a:lnTo>
                    <a:pt x="1147" y="92"/>
                  </a:lnTo>
                  <a:lnTo>
                    <a:pt x="1189" y="96"/>
                  </a:lnTo>
                  <a:lnTo>
                    <a:pt x="1232" y="101"/>
                  </a:lnTo>
                  <a:lnTo>
                    <a:pt x="1276" y="105"/>
                  </a:lnTo>
                  <a:lnTo>
                    <a:pt x="1365" y="112"/>
                  </a:lnTo>
                  <a:lnTo>
                    <a:pt x="1454" y="119"/>
                  </a:lnTo>
                  <a:lnTo>
                    <a:pt x="1543" y="126"/>
                  </a:lnTo>
                  <a:lnTo>
                    <a:pt x="1628" y="132"/>
                  </a:lnTo>
                  <a:lnTo>
                    <a:pt x="1709" y="140"/>
                  </a:lnTo>
                  <a:lnTo>
                    <a:pt x="1783" y="149"/>
                  </a:lnTo>
                  <a:lnTo>
                    <a:pt x="1817" y="153"/>
                  </a:lnTo>
                  <a:lnTo>
                    <a:pt x="1849" y="160"/>
                  </a:lnTo>
                  <a:lnTo>
                    <a:pt x="1879" y="166"/>
                  </a:lnTo>
                  <a:lnTo>
                    <a:pt x="1905" y="174"/>
                  </a:lnTo>
                  <a:lnTo>
                    <a:pt x="1929" y="182"/>
                  </a:lnTo>
                  <a:lnTo>
                    <a:pt x="1950" y="191"/>
                  </a:lnTo>
                  <a:lnTo>
                    <a:pt x="1967" y="201"/>
                  </a:lnTo>
                  <a:lnTo>
                    <a:pt x="1980" y="213"/>
                  </a:lnTo>
                  <a:lnTo>
                    <a:pt x="1953" y="210"/>
                  </a:lnTo>
                  <a:lnTo>
                    <a:pt x="1925" y="209"/>
                  </a:lnTo>
                  <a:lnTo>
                    <a:pt x="1896" y="210"/>
                  </a:lnTo>
                  <a:lnTo>
                    <a:pt x="1866" y="211"/>
                  </a:lnTo>
                  <a:lnTo>
                    <a:pt x="1804" y="216"/>
                  </a:lnTo>
                  <a:lnTo>
                    <a:pt x="1738" y="223"/>
                  </a:lnTo>
                  <a:lnTo>
                    <a:pt x="1594" y="242"/>
                  </a:lnTo>
                  <a:lnTo>
                    <a:pt x="1437" y="262"/>
                  </a:lnTo>
                  <a:lnTo>
                    <a:pt x="1351" y="271"/>
                  </a:lnTo>
                  <a:lnTo>
                    <a:pt x="1263" y="279"/>
                  </a:lnTo>
                  <a:lnTo>
                    <a:pt x="1218" y="281"/>
                  </a:lnTo>
                  <a:lnTo>
                    <a:pt x="1171" y="283"/>
                  </a:lnTo>
                  <a:lnTo>
                    <a:pt x="1123" y="283"/>
                  </a:lnTo>
                  <a:lnTo>
                    <a:pt x="1075" y="284"/>
                  </a:lnTo>
                  <a:lnTo>
                    <a:pt x="1025" y="283"/>
                  </a:lnTo>
                  <a:lnTo>
                    <a:pt x="975" y="281"/>
                  </a:lnTo>
                  <a:lnTo>
                    <a:pt x="924" y="278"/>
                  </a:lnTo>
                  <a:lnTo>
                    <a:pt x="871" y="274"/>
                  </a:lnTo>
                  <a:lnTo>
                    <a:pt x="818" y="267"/>
                  </a:lnTo>
                  <a:lnTo>
                    <a:pt x="763" y="260"/>
                  </a:lnTo>
                  <a:lnTo>
                    <a:pt x="708" y="251"/>
                  </a:lnTo>
                  <a:lnTo>
                    <a:pt x="651" y="241"/>
                  </a:lnTo>
                  <a:lnTo>
                    <a:pt x="643" y="234"/>
                  </a:lnTo>
                  <a:lnTo>
                    <a:pt x="633" y="229"/>
                  </a:lnTo>
                  <a:lnTo>
                    <a:pt x="622" y="222"/>
                  </a:lnTo>
                  <a:lnTo>
                    <a:pt x="609" y="216"/>
                  </a:lnTo>
                  <a:lnTo>
                    <a:pt x="595" y="211"/>
                  </a:lnTo>
                  <a:lnTo>
                    <a:pt x="581" y="206"/>
                  </a:lnTo>
                  <a:lnTo>
                    <a:pt x="563" y="201"/>
                  </a:lnTo>
                  <a:lnTo>
                    <a:pt x="546" y="197"/>
                  </a:lnTo>
                  <a:lnTo>
                    <a:pt x="509" y="189"/>
                  </a:lnTo>
                  <a:lnTo>
                    <a:pt x="468" y="182"/>
                  </a:lnTo>
                  <a:lnTo>
                    <a:pt x="423" y="176"/>
                  </a:lnTo>
                  <a:lnTo>
                    <a:pt x="378" y="169"/>
                  </a:lnTo>
                  <a:lnTo>
                    <a:pt x="281" y="159"/>
                  </a:lnTo>
                  <a:lnTo>
                    <a:pt x="182" y="150"/>
                  </a:lnTo>
                  <a:lnTo>
                    <a:pt x="134" y="144"/>
                  </a:lnTo>
                  <a:lnTo>
                    <a:pt x="87" y="138"/>
                  </a:lnTo>
                  <a:lnTo>
                    <a:pt x="42" y="133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2706840" y="3772080"/>
              <a:ext cx="306360" cy="63360"/>
            </a:xfrm>
            <a:custGeom>
              <a:avLst/>
              <a:gdLst/>
              <a:ahLst/>
              <a:rect l="l" t="t" r="r" b="b"/>
              <a:pathLst>
                <a:path w="969" h="200">
                  <a:moveTo>
                    <a:pt x="948" y="53"/>
                  </a:moveTo>
                  <a:lnTo>
                    <a:pt x="862" y="10"/>
                  </a:lnTo>
                  <a:lnTo>
                    <a:pt x="835" y="6"/>
                  </a:lnTo>
                  <a:lnTo>
                    <a:pt x="810" y="2"/>
                  </a:lnTo>
                  <a:lnTo>
                    <a:pt x="787" y="1"/>
                  </a:lnTo>
                  <a:lnTo>
                    <a:pt x="765" y="0"/>
                  </a:lnTo>
                  <a:lnTo>
                    <a:pt x="745" y="1"/>
                  </a:lnTo>
                  <a:lnTo>
                    <a:pt x="725" y="2"/>
                  </a:lnTo>
                  <a:lnTo>
                    <a:pt x="707" y="6"/>
                  </a:lnTo>
                  <a:lnTo>
                    <a:pt x="689" y="8"/>
                  </a:lnTo>
                  <a:lnTo>
                    <a:pt x="672" y="12"/>
                  </a:lnTo>
                  <a:lnTo>
                    <a:pt x="656" y="17"/>
                  </a:lnTo>
                  <a:lnTo>
                    <a:pt x="639" y="23"/>
                  </a:lnTo>
                  <a:lnTo>
                    <a:pt x="623" y="28"/>
                  </a:lnTo>
                  <a:lnTo>
                    <a:pt x="589" y="42"/>
                  </a:lnTo>
                  <a:lnTo>
                    <a:pt x="553" y="56"/>
                  </a:lnTo>
                  <a:lnTo>
                    <a:pt x="513" y="71"/>
                  </a:lnTo>
                  <a:lnTo>
                    <a:pt x="468" y="84"/>
                  </a:lnTo>
                  <a:lnTo>
                    <a:pt x="443" y="91"/>
                  </a:lnTo>
                  <a:lnTo>
                    <a:pt x="415" y="98"/>
                  </a:lnTo>
                  <a:lnTo>
                    <a:pt x="386" y="104"/>
                  </a:lnTo>
                  <a:lnTo>
                    <a:pt x="355" y="109"/>
                  </a:lnTo>
                  <a:lnTo>
                    <a:pt x="321" y="114"/>
                  </a:lnTo>
                  <a:lnTo>
                    <a:pt x="284" y="118"/>
                  </a:lnTo>
                  <a:lnTo>
                    <a:pt x="245" y="122"/>
                  </a:lnTo>
                  <a:lnTo>
                    <a:pt x="203" y="124"/>
                  </a:lnTo>
                  <a:lnTo>
                    <a:pt x="158" y="126"/>
                  </a:lnTo>
                  <a:lnTo>
                    <a:pt x="109" y="128"/>
                  </a:lnTo>
                  <a:lnTo>
                    <a:pt x="56" y="126"/>
                  </a:lnTo>
                  <a:lnTo>
                    <a:pt x="0" y="125"/>
                  </a:lnTo>
                  <a:lnTo>
                    <a:pt x="114" y="197"/>
                  </a:lnTo>
                  <a:lnTo>
                    <a:pt x="170" y="200"/>
                  </a:lnTo>
                  <a:lnTo>
                    <a:pt x="223" y="200"/>
                  </a:lnTo>
                  <a:lnTo>
                    <a:pt x="273" y="198"/>
                  </a:lnTo>
                  <a:lnTo>
                    <a:pt x="318" y="196"/>
                  </a:lnTo>
                  <a:lnTo>
                    <a:pt x="362" y="194"/>
                  </a:lnTo>
                  <a:lnTo>
                    <a:pt x="400" y="190"/>
                  </a:lnTo>
                  <a:lnTo>
                    <a:pt x="438" y="186"/>
                  </a:lnTo>
                  <a:lnTo>
                    <a:pt x="472" y="181"/>
                  </a:lnTo>
                  <a:lnTo>
                    <a:pt x="503" y="176"/>
                  </a:lnTo>
                  <a:lnTo>
                    <a:pt x="533" y="170"/>
                  </a:lnTo>
                  <a:lnTo>
                    <a:pt x="560" y="163"/>
                  </a:lnTo>
                  <a:lnTo>
                    <a:pt x="585" y="156"/>
                  </a:lnTo>
                  <a:lnTo>
                    <a:pt x="631" y="142"/>
                  </a:lnTo>
                  <a:lnTo>
                    <a:pt x="672" y="128"/>
                  </a:lnTo>
                  <a:lnTo>
                    <a:pt x="708" y="114"/>
                  </a:lnTo>
                  <a:lnTo>
                    <a:pt x="741" y="100"/>
                  </a:lnTo>
                  <a:lnTo>
                    <a:pt x="757" y="95"/>
                  </a:lnTo>
                  <a:lnTo>
                    <a:pt x="774" y="89"/>
                  </a:lnTo>
                  <a:lnTo>
                    <a:pt x="790" y="84"/>
                  </a:lnTo>
                  <a:lnTo>
                    <a:pt x="806" y="80"/>
                  </a:lnTo>
                  <a:lnTo>
                    <a:pt x="823" y="76"/>
                  </a:lnTo>
                  <a:lnTo>
                    <a:pt x="842" y="74"/>
                  </a:lnTo>
                  <a:lnTo>
                    <a:pt x="860" y="73"/>
                  </a:lnTo>
                  <a:lnTo>
                    <a:pt x="879" y="72"/>
                  </a:lnTo>
                  <a:lnTo>
                    <a:pt x="900" y="73"/>
                  </a:lnTo>
                  <a:lnTo>
                    <a:pt x="921" y="74"/>
                  </a:lnTo>
                  <a:lnTo>
                    <a:pt x="944" y="77"/>
                  </a:lnTo>
                  <a:lnTo>
                    <a:pt x="969" y="81"/>
                  </a:lnTo>
                  <a:lnTo>
                    <a:pt x="884" y="37"/>
                  </a:lnTo>
                  <a:lnTo>
                    <a:pt x="948" y="53"/>
                  </a:lnTo>
                  <a:lnTo>
                    <a:pt x="893" y="16"/>
                  </a:lnTo>
                  <a:lnTo>
                    <a:pt x="862" y="10"/>
                  </a:lnTo>
                  <a:lnTo>
                    <a:pt x="948" y="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2986200" y="3782880"/>
              <a:ext cx="387360" cy="79560"/>
            </a:xfrm>
            <a:custGeom>
              <a:avLst/>
              <a:gdLst/>
              <a:ahLst/>
              <a:rect l="l" t="t" r="r" b="b"/>
              <a:pathLst>
                <a:path w="1220" h="248">
                  <a:moveTo>
                    <a:pt x="1209" y="247"/>
                  </a:moveTo>
                  <a:lnTo>
                    <a:pt x="1209" y="238"/>
                  </a:lnTo>
                  <a:lnTo>
                    <a:pt x="1196" y="225"/>
                  </a:lnTo>
                  <a:lnTo>
                    <a:pt x="1173" y="208"/>
                  </a:lnTo>
                  <a:lnTo>
                    <a:pt x="1142" y="189"/>
                  </a:lnTo>
                  <a:lnTo>
                    <a:pt x="1101" y="166"/>
                  </a:lnTo>
                  <a:lnTo>
                    <a:pt x="1063" y="150"/>
                  </a:lnTo>
                  <a:lnTo>
                    <a:pt x="1032" y="139"/>
                  </a:lnTo>
                  <a:lnTo>
                    <a:pt x="1001" y="131"/>
                  </a:lnTo>
                  <a:lnTo>
                    <a:pt x="970" y="123"/>
                  </a:lnTo>
                  <a:lnTo>
                    <a:pt x="937" y="117"/>
                  </a:lnTo>
                  <a:lnTo>
                    <a:pt x="902" y="111"/>
                  </a:lnTo>
                  <a:lnTo>
                    <a:pt x="826" y="102"/>
                  </a:lnTo>
                  <a:lnTo>
                    <a:pt x="745" y="95"/>
                  </a:lnTo>
                  <a:lnTo>
                    <a:pt x="659" y="88"/>
                  </a:lnTo>
                  <a:lnTo>
                    <a:pt x="571" y="81"/>
                  </a:lnTo>
                  <a:lnTo>
                    <a:pt x="481" y="76"/>
                  </a:lnTo>
                  <a:lnTo>
                    <a:pt x="393" y="68"/>
                  </a:lnTo>
                  <a:lnTo>
                    <a:pt x="350" y="64"/>
                  </a:lnTo>
                  <a:lnTo>
                    <a:pt x="306" y="60"/>
                  </a:lnTo>
                  <a:lnTo>
                    <a:pt x="265" y="54"/>
                  </a:lnTo>
                  <a:lnTo>
                    <a:pt x="226" y="48"/>
                  </a:lnTo>
                  <a:lnTo>
                    <a:pt x="188" y="43"/>
                  </a:lnTo>
                  <a:lnTo>
                    <a:pt x="151" y="36"/>
                  </a:lnTo>
                  <a:lnTo>
                    <a:pt x="118" y="28"/>
                  </a:lnTo>
                  <a:lnTo>
                    <a:pt x="88" y="20"/>
                  </a:lnTo>
                  <a:lnTo>
                    <a:pt x="63" y="12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7" y="12"/>
                  </a:lnTo>
                  <a:lnTo>
                    <a:pt x="64" y="16"/>
                  </a:lnTo>
                  <a:lnTo>
                    <a:pt x="0" y="0"/>
                  </a:lnTo>
                  <a:lnTo>
                    <a:pt x="27" y="19"/>
                  </a:lnTo>
                  <a:lnTo>
                    <a:pt x="59" y="37"/>
                  </a:lnTo>
                  <a:lnTo>
                    <a:pt x="88" y="52"/>
                  </a:lnTo>
                  <a:lnTo>
                    <a:pt x="115" y="63"/>
                  </a:lnTo>
                  <a:lnTo>
                    <a:pt x="149" y="77"/>
                  </a:lnTo>
                  <a:lnTo>
                    <a:pt x="186" y="88"/>
                  </a:lnTo>
                  <a:lnTo>
                    <a:pt x="221" y="99"/>
                  </a:lnTo>
                  <a:lnTo>
                    <a:pt x="257" y="107"/>
                  </a:lnTo>
                  <a:lnTo>
                    <a:pt x="295" y="115"/>
                  </a:lnTo>
                  <a:lnTo>
                    <a:pt x="335" y="120"/>
                  </a:lnTo>
                  <a:lnTo>
                    <a:pt x="376" y="126"/>
                  </a:lnTo>
                  <a:lnTo>
                    <a:pt x="417" y="132"/>
                  </a:lnTo>
                  <a:lnTo>
                    <a:pt x="460" y="136"/>
                  </a:lnTo>
                  <a:lnTo>
                    <a:pt x="505" y="141"/>
                  </a:lnTo>
                  <a:lnTo>
                    <a:pt x="594" y="148"/>
                  </a:lnTo>
                  <a:lnTo>
                    <a:pt x="684" y="155"/>
                  </a:lnTo>
                  <a:lnTo>
                    <a:pt x="772" y="160"/>
                  </a:lnTo>
                  <a:lnTo>
                    <a:pt x="857" y="167"/>
                  </a:lnTo>
                  <a:lnTo>
                    <a:pt x="938" y="174"/>
                  </a:lnTo>
                  <a:lnTo>
                    <a:pt x="1011" y="183"/>
                  </a:lnTo>
                  <a:lnTo>
                    <a:pt x="1045" y="189"/>
                  </a:lnTo>
                  <a:lnTo>
                    <a:pt x="1076" y="194"/>
                  </a:lnTo>
                  <a:lnTo>
                    <a:pt x="1103" y="200"/>
                  </a:lnTo>
                  <a:lnTo>
                    <a:pt x="1126" y="207"/>
                  </a:lnTo>
                  <a:lnTo>
                    <a:pt x="1142" y="212"/>
                  </a:lnTo>
                  <a:lnTo>
                    <a:pt x="1146" y="214"/>
                  </a:lnTo>
                  <a:lnTo>
                    <a:pt x="1122" y="201"/>
                  </a:lnTo>
                  <a:lnTo>
                    <a:pt x="1107" y="191"/>
                  </a:lnTo>
                  <a:lnTo>
                    <a:pt x="1099" y="185"/>
                  </a:lnTo>
                  <a:lnTo>
                    <a:pt x="1098" y="185"/>
                  </a:lnTo>
                  <a:lnTo>
                    <a:pt x="1098" y="175"/>
                  </a:lnTo>
                  <a:lnTo>
                    <a:pt x="1209" y="247"/>
                  </a:lnTo>
                  <a:lnTo>
                    <a:pt x="1220" y="248"/>
                  </a:lnTo>
                  <a:lnTo>
                    <a:pt x="1209" y="238"/>
                  </a:lnTo>
                  <a:lnTo>
                    <a:pt x="1209" y="24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914560" y="3838680"/>
              <a:ext cx="455760" cy="46080"/>
            </a:xfrm>
            <a:custGeom>
              <a:avLst/>
              <a:gdLst/>
              <a:ahLst/>
              <a:rect l="l" t="t" r="r" b="b"/>
              <a:pathLst>
                <a:path w="1438" h="146">
                  <a:moveTo>
                    <a:pt x="0" y="43"/>
                  </a:moveTo>
                  <a:lnTo>
                    <a:pt x="107" y="102"/>
                  </a:lnTo>
                  <a:lnTo>
                    <a:pt x="164" y="114"/>
                  </a:lnTo>
                  <a:lnTo>
                    <a:pt x="220" y="123"/>
                  </a:lnTo>
                  <a:lnTo>
                    <a:pt x="274" y="130"/>
                  </a:lnTo>
                  <a:lnTo>
                    <a:pt x="329" y="136"/>
                  </a:lnTo>
                  <a:lnTo>
                    <a:pt x="382" y="140"/>
                  </a:lnTo>
                  <a:lnTo>
                    <a:pt x="434" y="144"/>
                  </a:lnTo>
                  <a:lnTo>
                    <a:pt x="484" y="145"/>
                  </a:lnTo>
                  <a:lnTo>
                    <a:pt x="534" y="146"/>
                  </a:lnTo>
                  <a:lnTo>
                    <a:pt x="583" y="146"/>
                  </a:lnTo>
                  <a:lnTo>
                    <a:pt x="630" y="145"/>
                  </a:lnTo>
                  <a:lnTo>
                    <a:pt x="678" y="144"/>
                  </a:lnTo>
                  <a:lnTo>
                    <a:pt x="724" y="140"/>
                  </a:lnTo>
                  <a:lnTo>
                    <a:pt x="811" y="133"/>
                  </a:lnTo>
                  <a:lnTo>
                    <a:pt x="897" y="124"/>
                  </a:lnTo>
                  <a:lnTo>
                    <a:pt x="1054" y="104"/>
                  </a:lnTo>
                  <a:lnTo>
                    <a:pt x="1198" y="84"/>
                  </a:lnTo>
                  <a:lnTo>
                    <a:pt x="1264" y="77"/>
                  </a:lnTo>
                  <a:lnTo>
                    <a:pt x="1325" y="73"/>
                  </a:lnTo>
                  <a:lnTo>
                    <a:pt x="1355" y="72"/>
                  </a:lnTo>
                  <a:lnTo>
                    <a:pt x="1384" y="72"/>
                  </a:lnTo>
                  <a:lnTo>
                    <a:pt x="1412" y="73"/>
                  </a:lnTo>
                  <a:lnTo>
                    <a:pt x="1438" y="74"/>
                  </a:lnTo>
                  <a:lnTo>
                    <a:pt x="1327" y="2"/>
                  </a:lnTo>
                  <a:lnTo>
                    <a:pt x="1298" y="1"/>
                  </a:lnTo>
                  <a:lnTo>
                    <a:pt x="1270" y="0"/>
                  </a:lnTo>
                  <a:lnTo>
                    <a:pt x="1240" y="0"/>
                  </a:lnTo>
                  <a:lnTo>
                    <a:pt x="1210" y="1"/>
                  </a:lnTo>
                  <a:lnTo>
                    <a:pt x="1148" y="5"/>
                  </a:lnTo>
                  <a:lnTo>
                    <a:pt x="1080" y="12"/>
                  </a:lnTo>
                  <a:lnTo>
                    <a:pt x="938" y="32"/>
                  </a:lnTo>
                  <a:lnTo>
                    <a:pt x="779" y="52"/>
                  </a:lnTo>
                  <a:lnTo>
                    <a:pt x="695" y="61"/>
                  </a:lnTo>
                  <a:lnTo>
                    <a:pt x="607" y="68"/>
                  </a:lnTo>
                  <a:lnTo>
                    <a:pt x="562" y="71"/>
                  </a:lnTo>
                  <a:lnTo>
                    <a:pt x="516" y="73"/>
                  </a:lnTo>
                  <a:lnTo>
                    <a:pt x="468" y="74"/>
                  </a:lnTo>
                  <a:lnTo>
                    <a:pt x="420" y="74"/>
                  </a:lnTo>
                  <a:lnTo>
                    <a:pt x="371" y="73"/>
                  </a:lnTo>
                  <a:lnTo>
                    <a:pt x="320" y="72"/>
                  </a:lnTo>
                  <a:lnTo>
                    <a:pt x="270" y="68"/>
                  </a:lnTo>
                  <a:lnTo>
                    <a:pt x="217" y="64"/>
                  </a:lnTo>
                  <a:lnTo>
                    <a:pt x="164" y="58"/>
                  </a:lnTo>
                  <a:lnTo>
                    <a:pt x="110" y="51"/>
                  </a:lnTo>
                  <a:lnTo>
                    <a:pt x="56" y="42"/>
                  </a:lnTo>
                  <a:lnTo>
                    <a:pt x="0" y="32"/>
                  </a:lnTo>
                  <a:lnTo>
                    <a:pt x="107" y="92"/>
                  </a:lnTo>
                  <a:lnTo>
                    <a:pt x="0" y="43"/>
                  </a:lnTo>
                  <a:lnTo>
                    <a:pt x="52" y="92"/>
                  </a:lnTo>
                  <a:lnTo>
                    <a:pt x="107" y="10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2646360" y="3811680"/>
              <a:ext cx="301680" cy="55440"/>
            </a:xfrm>
            <a:custGeom>
              <a:avLst/>
              <a:gdLst/>
              <a:ahLst/>
              <a:rect l="l" t="t" r="r" b="b"/>
              <a:pathLst>
                <a:path w="950" h="177">
                  <a:moveTo>
                    <a:pt x="188" y="0"/>
                  </a:moveTo>
                  <a:lnTo>
                    <a:pt x="299" y="72"/>
                  </a:lnTo>
                  <a:lnTo>
                    <a:pt x="342" y="79"/>
                  </a:lnTo>
                  <a:lnTo>
                    <a:pt x="387" y="85"/>
                  </a:lnTo>
                  <a:lnTo>
                    <a:pt x="435" y="92"/>
                  </a:lnTo>
                  <a:lnTo>
                    <a:pt x="482" y="96"/>
                  </a:lnTo>
                  <a:lnTo>
                    <a:pt x="580" y="106"/>
                  </a:lnTo>
                  <a:lnTo>
                    <a:pt x="677" y="117"/>
                  </a:lnTo>
                  <a:lnTo>
                    <a:pt x="723" y="122"/>
                  </a:lnTo>
                  <a:lnTo>
                    <a:pt x="766" y="129"/>
                  </a:lnTo>
                  <a:lnTo>
                    <a:pt x="807" y="136"/>
                  </a:lnTo>
                  <a:lnTo>
                    <a:pt x="844" y="143"/>
                  </a:lnTo>
                  <a:lnTo>
                    <a:pt x="859" y="148"/>
                  </a:lnTo>
                  <a:lnTo>
                    <a:pt x="873" y="151"/>
                  </a:lnTo>
                  <a:lnTo>
                    <a:pt x="885" y="156"/>
                  </a:lnTo>
                  <a:lnTo>
                    <a:pt x="891" y="158"/>
                  </a:lnTo>
                  <a:lnTo>
                    <a:pt x="887" y="156"/>
                  </a:lnTo>
                  <a:lnTo>
                    <a:pt x="869" y="146"/>
                  </a:lnTo>
                  <a:lnTo>
                    <a:pt x="848" y="133"/>
                  </a:lnTo>
                  <a:lnTo>
                    <a:pt x="843" y="128"/>
                  </a:lnTo>
                  <a:lnTo>
                    <a:pt x="950" y="177"/>
                  </a:lnTo>
                  <a:lnTo>
                    <a:pt x="927" y="158"/>
                  </a:lnTo>
                  <a:lnTo>
                    <a:pt x="887" y="132"/>
                  </a:lnTo>
                  <a:lnTo>
                    <a:pt x="846" y="110"/>
                  </a:lnTo>
                  <a:lnTo>
                    <a:pt x="818" y="97"/>
                  </a:lnTo>
                  <a:lnTo>
                    <a:pt x="796" y="89"/>
                  </a:lnTo>
                  <a:lnTo>
                    <a:pt x="778" y="82"/>
                  </a:lnTo>
                  <a:lnTo>
                    <a:pt x="758" y="78"/>
                  </a:lnTo>
                  <a:lnTo>
                    <a:pt x="739" y="72"/>
                  </a:lnTo>
                  <a:lnTo>
                    <a:pt x="700" y="64"/>
                  </a:lnTo>
                  <a:lnTo>
                    <a:pt x="658" y="57"/>
                  </a:lnTo>
                  <a:lnTo>
                    <a:pt x="614" y="51"/>
                  </a:lnTo>
                  <a:lnTo>
                    <a:pt x="567" y="45"/>
                  </a:lnTo>
                  <a:lnTo>
                    <a:pt x="470" y="35"/>
                  </a:lnTo>
                  <a:lnTo>
                    <a:pt x="372" y="24"/>
                  </a:lnTo>
                  <a:lnTo>
                    <a:pt x="323" y="19"/>
                  </a:lnTo>
                  <a:lnTo>
                    <a:pt x="277" y="14"/>
                  </a:lnTo>
                  <a:lnTo>
                    <a:pt x="233" y="7"/>
                  </a:lnTo>
                  <a:lnTo>
                    <a:pt x="191" y="0"/>
                  </a:lnTo>
                  <a:lnTo>
                    <a:pt x="302" y="72"/>
                  </a:lnTo>
                  <a:lnTo>
                    <a:pt x="188" y="0"/>
                  </a:lnTo>
                  <a:lnTo>
                    <a:pt x="0" y="5"/>
                  </a:lnTo>
                  <a:lnTo>
                    <a:pt x="299" y="72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6126120" y="3794040"/>
              <a:ext cx="382680" cy="90720"/>
            </a:xfrm>
            <a:custGeom>
              <a:avLst/>
              <a:gdLst/>
              <a:ahLst/>
              <a:rect l="l" t="t" r="r" b="b"/>
              <a:pathLst>
                <a:path w="1206" h="283">
                  <a:moveTo>
                    <a:pt x="1206" y="0"/>
                  </a:moveTo>
                  <a:lnTo>
                    <a:pt x="1196" y="0"/>
                  </a:lnTo>
                  <a:lnTo>
                    <a:pt x="1187" y="0"/>
                  </a:lnTo>
                  <a:lnTo>
                    <a:pt x="1177" y="1"/>
                  </a:lnTo>
                  <a:lnTo>
                    <a:pt x="1166" y="2"/>
                  </a:lnTo>
                  <a:lnTo>
                    <a:pt x="1156" y="3"/>
                  </a:lnTo>
                  <a:lnTo>
                    <a:pt x="1145" y="4"/>
                  </a:lnTo>
                  <a:lnTo>
                    <a:pt x="1133" y="6"/>
                  </a:lnTo>
                  <a:lnTo>
                    <a:pt x="1122" y="9"/>
                  </a:lnTo>
                  <a:lnTo>
                    <a:pt x="1100" y="21"/>
                  </a:lnTo>
                  <a:lnTo>
                    <a:pt x="1075" y="34"/>
                  </a:lnTo>
                  <a:lnTo>
                    <a:pt x="1047" y="44"/>
                  </a:lnTo>
                  <a:lnTo>
                    <a:pt x="1017" y="54"/>
                  </a:lnTo>
                  <a:lnTo>
                    <a:pt x="984" y="63"/>
                  </a:lnTo>
                  <a:lnTo>
                    <a:pt x="949" y="71"/>
                  </a:lnTo>
                  <a:lnTo>
                    <a:pt x="912" y="78"/>
                  </a:lnTo>
                  <a:lnTo>
                    <a:pt x="873" y="84"/>
                  </a:lnTo>
                  <a:lnTo>
                    <a:pt x="832" y="90"/>
                  </a:lnTo>
                  <a:lnTo>
                    <a:pt x="791" y="95"/>
                  </a:lnTo>
                  <a:lnTo>
                    <a:pt x="748" y="100"/>
                  </a:lnTo>
                  <a:lnTo>
                    <a:pt x="705" y="105"/>
                  </a:lnTo>
                  <a:lnTo>
                    <a:pt x="616" y="111"/>
                  </a:lnTo>
                  <a:lnTo>
                    <a:pt x="526" y="118"/>
                  </a:lnTo>
                  <a:lnTo>
                    <a:pt x="438" y="124"/>
                  </a:lnTo>
                  <a:lnTo>
                    <a:pt x="352" y="131"/>
                  </a:lnTo>
                  <a:lnTo>
                    <a:pt x="271" y="138"/>
                  </a:lnTo>
                  <a:lnTo>
                    <a:pt x="196" y="147"/>
                  </a:lnTo>
                  <a:lnTo>
                    <a:pt x="162" y="152"/>
                  </a:lnTo>
                  <a:lnTo>
                    <a:pt x="130" y="158"/>
                  </a:lnTo>
                  <a:lnTo>
                    <a:pt x="101" y="165"/>
                  </a:lnTo>
                  <a:lnTo>
                    <a:pt x="74" y="173"/>
                  </a:lnTo>
                  <a:lnTo>
                    <a:pt x="50" y="181"/>
                  </a:lnTo>
                  <a:lnTo>
                    <a:pt x="30" y="190"/>
                  </a:lnTo>
                  <a:lnTo>
                    <a:pt x="13" y="200"/>
                  </a:lnTo>
                  <a:lnTo>
                    <a:pt x="0" y="211"/>
                  </a:lnTo>
                  <a:lnTo>
                    <a:pt x="25" y="210"/>
                  </a:lnTo>
                  <a:lnTo>
                    <a:pt x="51" y="208"/>
                  </a:lnTo>
                  <a:lnTo>
                    <a:pt x="78" y="208"/>
                  </a:lnTo>
                  <a:lnTo>
                    <a:pt x="106" y="210"/>
                  </a:lnTo>
                  <a:lnTo>
                    <a:pt x="163" y="213"/>
                  </a:lnTo>
                  <a:lnTo>
                    <a:pt x="225" y="220"/>
                  </a:lnTo>
                  <a:lnTo>
                    <a:pt x="356" y="236"/>
                  </a:lnTo>
                  <a:lnTo>
                    <a:pt x="499" y="255"/>
                  </a:lnTo>
                  <a:lnTo>
                    <a:pt x="576" y="264"/>
                  </a:lnTo>
                  <a:lnTo>
                    <a:pt x="656" y="272"/>
                  </a:lnTo>
                  <a:lnTo>
                    <a:pt x="697" y="276"/>
                  </a:lnTo>
                  <a:lnTo>
                    <a:pt x="739" y="278"/>
                  </a:lnTo>
                  <a:lnTo>
                    <a:pt x="782" y="280"/>
                  </a:lnTo>
                  <a:lnTo>
                    <a:pt x="825" y="283"/>
                  </a:lnTo>
                  <a:lnTo>
                    <a:pt x="870" y="283"/>
                  </a:lnTo>
                  <a:lnTo>
                    <a:pt x="915" y="283"/>
                  </a:lnTo>
                  <a:lnTo>
                    <a:pt x="961" y="281"/>
                  </a:lnTo>
                  <a:lnTo>
                    <a:pt x="1009" y="280"/>
                  </a:lnTo>
                  <a:lnTo>
                    <a:pt x="1057" y="277"/>
                  </a:lnTo>
                  <a:lnTo>
                    <a:pt x="1106" y="272"/>
                  </a:lnTo>
                  <a:lnTo>
                    <a:pt x="1155" y="268"/>
                  </a:lnTo>
                  <a:lnTo>
                    <a:pt x="1206" y="26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6462720" y="3782880"/>
              <a:ext cx="46080" cy="25560"/>
            </a:xfrm>
            <a:custGeom>
              <a:avLst/>
              <a:gdLst/>
              <a:ahLst/>
              <a:rect l="l" t="t" r="r" b="b"/>
              <a:pathLst>
                <a:path w="145" h="81">
                  <a:moveTo>
                    <a:pt x="120" y="81"/>
                  </a:moveTo>
                  <a:lnTo>
                    <a:pt x="119" y="81"/>
                  </a:lnTo>
                  <a:lnTo>
                    <a:pt x="145" y="78"/>
                  </a:lnTo>
                  <a:lnTo>
                    <a:pt x="145" y="78"/>
                  </a:lnTo>
                  <a:lnTo>
                    <a:pt x="145" y="3"/>
                  </a:lnTo>
                  <a:lnTo>
                    <a:pt x="137" y="2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6" y="0"/>
                  </a:lnTo>
                  <a:lnTo>
                    <a:pt x="53" y="2"/>
                  </a:lnTo>
                  <a:lnTo>
                    <a:pt x="28" y="5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6093000" y="3786120"/>
              <a:ext cx="407880" cy="88920"/>
            </a:xfrm>
            <a:custGeom>
              <a:avLst/>
              <a:gdLst/>
              <a:ahLst/>
              <a:rect l="l" t="t" r="r" b="b"/>
              <a:pathLst>
                <a:path w="1286" h="283">
                  <a:moveTo>
                    <a:pt x="47" y="203"/>
                  </a:moveTo>
                  <a:lnTo>
                    <a:pt x="164" y="274"/>
                  </a:lnTo>
                  <a:lnTo>
                    <a:pt x="171" y="268"/>
                  </a:lnTo>
                  <a:lnTo>
                    <a:pt x="178" y="264"/>
                  </a:lnTo>
                  <a:lnTo>
                    <a:pt x="186" y="258"/>
                  </a:lnTo>
                  <a:lnTo>
                    <a:pt x="195" y="253"/>
                  </a:lnTo>
                  <a:lnTo>
                    <a:pt x="216" y="244"/>
                  </a:lnTo>
                  <a:lnTo>
                    <a:pt x="238" y="236"/>
                  </a:lnTo>
                  <a:lnTo>
                    <a:pt x="265" y="228"/>
                  </a:lnTo>
                  <a:lnTo>
                    <a:pt x="294" y="223"/>
                  </a:lnTo>
                  <a:lnTo>
                    <a:pt x="326" y="217"/>
                  </a:lnTo>
                  <a:lnTo>
                    <a:pt x="360" y="211"/>
                  </a:lnTo>
                  <a:lnTo>
                    <a:pt x="434" y="202"/>
                  </a:lnTo>
                  <a:lnTo>
                    <a:pt x="515" y="194"/>
                  </a:lnTo>
                  <a:lnTo>
                    <a:pt x="601" y="188"/>
                  </a:lnTo>
                  <a:lnTo>
                    <a:pt x="689" y="182"/>
                  </a:lnTo>
                  <a:lnTo>
                    <a:pt x="779" y="176"/>
                  </a:lnTo>
                  <a:lnTo>
                    <a:pt x="868" y="168"/>
                  </a:lnTo>
                  <a:lnTo>
                    <a:pt x="911" y="164"/>
                  </a:lnTo>
                  <a:lnTo>
                    <a:pt x="954" y="159"/>
                  </a:lnTo>
                  <a:lnTo>
                    <a:pt x="995" y="154"/>
                  </a:lnTo>
                  <a:lnTo>
                    <a:pt x="1036" y="149"/>
                  </a:lnTo>
                  <a:lnTo>
                    <a:pt x="1075" y="142"/>
                  </a:lnTo>
                  <a:lnTo>
                    <a:pt x="1113" y="135"/>
                  </a:lnTo>
                  <a:lnTo>
                    <a:pt x="1147" y="127"/>
                  </a:lnTo>
                  <a:lnTo>
                    <a:pt x="1181" y="118"/>
                  </a:lnTo>
                  <a:lnTo>
                    <a:pt x="1211" y="109"/>
                  </a:lnTo>
                  <a:lnTo>
                    <a:pt x="1239" y="97"/>
                  </a:lnTo>
                  <a:lnTo>
                    <a:pt x="1252" y="91"/>
                  </a:lnTo>
                  <a:lnTo>
                    <a:pt x="1264" y="85"/>
                  </a:lnTo>
                  <a:lnTo>
                    <a:pt x="1276" y="79"/>
                  </a:lnTo>
                  <a:lnTo>
                    <a:pt x="1286" y="72"/>
                  </a:lnTo>
                  <a:lnTo>
                    <a:pt x="1166" y="0"/>
                  </a:lnTo>
                  <a:lnTo>
                    <a:pt x="1156" y="7"/>
                  </a:lnTo>
                  <a:lnTo>
                    <a:pt x="1145" y="14"/>
                  </a:lnTo>
                  <a:lnTo>
                    <a:pt x="1133" y="20"/>
                  </a:lnTo>
                  <a:lnTo>
                    <a:pt x="1121" y="25"/>
                  </a:lnTo>
                  <a:lnTo>
                    <a:pt x="1092" y="37"/>
                  </a:lnTo>
                  <a:lnTo>
                    <a:pt x="1063" y="46"/>
                  </a:lnTo>
                  <a:lnTo>
                    <a:pt x="1030" y="55"/>
                  </a:lnTo>
                  <a:lnTo>
                    <a:pt x="995" y="63"/>
                  </a:lnTo>
                  <a:lnTo>
                    <a:pt x="958" y="70"/>
                  </a:lnTo>
                  <a:lnTo>
                    <a:pt x="919" y="77"/>
                  </a:lnTo>
                  <a:lnTo>
                    <a:pt x="879" y="82"/>
                  </a:lnTo>
                  <a:lnTo>
                    <a:pt x="838" y="87"/>
                  </a:lnTo>
                  <a:lnTo>
                    <a:pt x="795" y="91"/>
                  </a:lnTo>
                  <a:lnTo>
                    <a:pt x="751" y="96"/>
                  </a:lnTo>
                  <a:lnTo>
                    <a:pt x="662" y="103"/>
                  </a:lnTo>
                  <a:lnTo>
                    <a:pt x="574" y="110"/>
                  </a:lnTo>
                  <a:lnTo>
                    <a:pt x="485" y="117"/>
                  </a:lnTo>
                  <a:lnTo>
                    <a:pt x="399" y="122"/>
                  </a:lnTo>
                  <a:lnTo>
                    <a:pt x="318" y="130"/>
                  </a:lnTo>
                  <a:lnTo>
                    <a:pt x="243" y="139"/>
                  </a:lnTo>
                  <a:lnTo>
                    <a:pt x="209" y="145"/>
                  </a:lnTo>
                  <a:lnTo>
                    <a:pt x="177" y="151"/>
                  </a:lnTo>
                  <a:lnTo>
                    <a:pt x="147" y="158"/>
                  </a:lnTo>
                  <a:lnTo>
                    <a:pt x="120" y="164"/>
                  </a:lnTo>
                  <a:lnTo>
                    <a:pt x="96" y="172"/>
                  </a:lnTo>
                  <a:lnTo>
                    <a:pt x="75" y="182"/>
                  </a:lnTo>
                  <a:lnTo>
                    <a:pt x="66" y="187"/>
                  </a:lnTo>
                  <a:lnTo>
                    <a:pt x="58" y="193"/>
                  </a:lnTo>
                  <a:lnTo>
                    <a:pt x="50" y="198"/>
                  </a:lnTo>
                  <a:lnTo>
                    <a:pt x="45" y="204"/>
                  </a:lnTo>
                  <a:lnTo>
                    <a:pt x="163" y="275"/>
                  </a:lnTo>
                  <a:lnTo>
                    <a:pt x="45" y="204"/>
                  </a:lnTo>
                  <a:lnTo>
                    <a:pt x="0" y="283"/>
                  </a:lnTo>
                  <a:lnTo>
                    <a:pt x="163" y="275"/>
                  </a:lnTo>
                  <a:lnTo>
                    <a:pt x="47" y="20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6107040" y="3849840"/>
              <a:ext cx="401760" cy="45720"/>
            </a:xfrm>
            <a:custGeom>
              <a:avLst/>
              <a:gdLst/>
              <a:ahLst/>
              <a:rect l="l" t="t" r="r" b="b"/>
              <a:pathLst>
                <a:path w="1264" h="147">
                  <a:moveTo>
                    <a:pt x="1264" y="44"/>
                  </a:moveTo>
                  <a:lnTo>
                    <a:pt x="1216" y="51"/>
                  </a:lnTo>
                  <a:lnTo>
                    <a:pt x="1162" y="58"/>
                  </a:lnTo>
                  <a:lnTo>
                    <a:pt x="1109" y="65"/>
                  </a:lnTo>
                  <a:lnTo>
                    <a:pt x="1057" y="69"/>
                  </a:lnTo>
                  <a:lnTo>
                    <a:pt x="1005" y="72"/>
                  </a:lnTo>
                  <a:lnTo>
                    <a:pt x="955" y="74"/>
                  </a:lnTo>
                  <a:lnTo>
                    <a:pt x="906" y="75"/>
                  </a:lnTo>
                  <a:lnTo>
                    <a:pt x="857" y="74"/>
                  </a:lnTo>
                  <a:lnTo>
                    <a:pt x="810" y="74"/>
                  </a:lnTo>
                  <a:lnTo>
                    <a:pt x="764" y="72"/>
                  </a:lnTo>
                  <a:lnTo>
                    <a:pt x="718" y="69"/>
                  </a:lnTo>
                  <a:lnTo>
                    <a:pt x="674" y="66"/>
                  </a:lnTo>
                  <a:lnTo>
                    <a:pt x="630" y="61"/>
                  </a:lnTo>
                  <a:lnTo>
                    <a:pt x="588" y="58"/>
                  </a:lnTo>
                  <a:lnTo>
                    <a:pt x="547" y="52"/>
                  </a:lnTo>
                  <a:lnTo>
                    <a:pt x="389" y="33"/>
                  </a:lnTo>
                  <a:lnTo>
                    <a:pt x="246" y="14"/>
                  </a:lnTo>
                  <a:lnTo>
                    <a:pt x="179" y="7"/>
                  </a:lnTo>
                  <a:lnTo>
                    <a:pt x="116" y="2"/>
                  </a:lnTo>
                  <a:lnTo>
                    <a:pt x="85" y="1"/>
                  </a:lnTo>
                  <a:lnTo>
                    <a:pt x="56" y="0"/>
                  </a:lnTo>
                  <a:lnTo>
                    <a:pt x="27" y="1"/>
                  </a:lnTo>
                  <a:lnTo>
                    <a:pt x="0" y="3"/>
                  </a:lnTo>
                  <a:lnTo>
                    <a:pt x="116" y="75"/>
                  </a:lnTo>
                  <a:lnTo>
                    <a:pt x="142" y="73"/>
                  </a:lnTo>
                  <a:lnTo>
                    <a:pt x="171" y="73"/>
                  </a:lnTo>
                  <a:lnTo>
                    <a:pt x="199" y="73"/>
                  </a:lnTo>
                  <a:lnTo>
                    <a:pt x="229" y="74"/>
                  </a:lnTo>
                  <a:lnTo>
                    <a:pt x="291" y="79"/>
                  </a:lnTo>
                  <a:lnTo>
                    <a:pt x="357" y="85"/>
                  </a:lnTo>
                  <a:lnTo>
                    <a:pt x="499" y="105"/>
                  </a:lnTo>
                  <a:lnTo>
                    <a:pt x="658" y="125"/>
                  </a:lnTo>
                  <a:lnTo>
                    <a:pt x="700" y="130"/>
                  </a:lnTo>
                  <a:lnTo>
                    <a:pt x="742" y="134"/>
                  </a:lnTo>
                  <a:lnTo>
                    <a:pt x="786" y="138"/>
                  </a:lnTo>
                  <a:lnTo>
                    <a:pt x="831" y="141"/>
                  </a:lnTo>
                  <a:lnTo>
                    <a:pt x="877" y="144"/>
                  </a:lnTo>
                  <a:lnTo>
                    <a:pt x="923" y="146"/>
                  </a:lnTo>
                  <a:lnTo>
                    <a:pt x="971" y="147"/>
                  </a:lnTo>
                  <a:lnTo>
                    <a:pt x="1020" y="147"/>
                  </a:lnTo>
                  <a:lnTo>
                    <a:pt x="1070" y="146"/>
                  </a:lnTo>
                  <a:lnTo>
                    <a:pt x="1121" y="144"/>
                  </a:lnTo>
                  <a:lnTo>
                    <a:pt x="1172" y="141"/>
                  </a:lnTo>
                  <a:lnTo>
                    <a:pt x="1225" y="137"/>
                  </a:lnTo>
                  <a:lnTo>
                    <a:pt x="1264" y="132"/>
                  </a:lnTo>
                  <a:lnTo>
                    <a:pt x="1264" y="4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3819600" y="3584520"/>
              <a:ext cx="628560" cy="90720"/>
            </a:xfrm>
            <a:custGeom>
              <a:avLst/>
              <a:gdLst/>
              <a:ahLst/>
              <a:rect l="l" t="t" r="r" b="b"/>
              <a:pathLst>
                <a:path w="1980" h="283">
                  <a:moveTo>
                    <a:pt x="0" y="125"/>
                  </a:moveTo>
                  <a:lnTo>
                    <a:pt x="56" y="127"/>
                  </a:lnTo>
                  <a:lnTo>
                    <a:pt x="108" y="127"/>
                  </a:lnTo>
                  <a:lnTo>
                    <a:pt x="157" y="126"/>
                  </a:lnTo>
                  <a:lnTo>
                    <a:pt x="203" y="125"/>
                  </a:lnTo>
                  <a:lnTo>
                    <a:pt x="246" y="121"/>
                  </a:lnTo>
                  <a:lnTo>
                    <a:pt x="285" y="118"/>
                  </a:lnTo>
                  <a:lnTo>
                    <a:pt x="321" y="114"/>
                  </a:lnTo>
                  <a:lnTo>
                    <a:pt x="355" y="109"/>
                  </a:lnTo>
                  <a:lnTo>
                    <a:pt x="387" y="103"/>
                  </a:lnTo>
                  <a:lnTo>
                    <a:pt x="417" y="97"/>
                  </a:lnTo>
                  <a:lnTo>
                    <a:pt x="443" y="90"/>
                  </a:lnTo>
                  <a:lnTo>
                    <a:pt x="469" y="85"/>
                  </a:lnTo>
                  <a:lnTo>
                    <a:pt x="514" y="70"/>
                  </a:lnTo>
                  <a:lnTo>
                    <a:pt x="555" y="55"/>
                  </a:lnTo>
                  <a:lnTo>
                    <a:pt x="590" y="41"/>
                  </a:lnTo>
                  <a:lnTo>
                    <a:pt x="624" y="29"/>
                  </a:lnTo>
                  <a:lnTo>
                    <a:pt x="640" y="23"/>
                  </a:lnTo>
                  <a:lnTo>
                    <a:pt x="657" y="17"/>
                  </a:lnTo>
                  <a:lnTo>
                    <a:pt x="673" y="13"/>
                  </a:lnTo>
                  <a:lnTo>
                    <a:pt x="691" y="8"/>
                  </a:lnTo>
                  <a:lnTo>
                    <a:pt x="708" y="5"/>
                  </a:lnTo>
                  <a:lnTo>
                    <a:pt x="726" y="2"/>
                  </a:lnTo>
                  <a:lnTo>
                    <a:pt x="744" y="0"/>
                  </a:lnTo>
                  <a:lnTo>
                    <a:pt x="765" y="0"/>
                  </a:lnTo>
                  <a:lnTo>
                    <a:pt x="785" y="0"/>
                  </a:lnTo>
                  <a:lnTo>
                    <a:pt x="808" y="2"/>
                  </a:lnTo>
                  <a:lnTo>
                    <a:pt x="832" y="5"/>
                  </a:lnTo>
                  <a:lnTo>
                    <a:pt x="858" y="9"/>
                  </a:lnTo>
                  <a:lnTo>
                    <a:pt x="880" y="23"/>
                  </a:lnTo>
                  <a:lnTo>
                    <a:pt x="905" y="34"/>
                  </a:lnTo>
                  <a:lnTo>
                    <a:pt x="932" y="46"/>
                  </a:lnTo>
                  <a:lnTo>
                    <a:pt x="963" y="55"/>
                  </a:lnTo>
                  <a:lnTo>
                    <a:pt x="996" y="64"/>
                  </a:lnTo>
                  <a:lnTo>
                    <a:pt x="1030" y="72"/>
                  </a:lnTo>
                  <a:lnTo>
                    <a:pt x="1068" y="79"/>
                  </a:lnTo>
                  <a:lnTo>
                    <a:pt x="1107" y="86"/>
                  </a:lnTo>
                  <a:lnTo>
                    <a:pt x="1147" y="91"/>
                  </a:lnTo>
                  <a:lnTo>
                    <a:pt x="1189" y="96"/>
                  </a:lnTo>
                  <a:lnTo>
                    <a:pt x="1231" y="101"/>
                  </a:lnTo>
                  <a:lnTo>
                    <a:pt x="1275" y="105"/>
                  </a:lnTo>
                  <a:lnTo>
                    <a:pt x="1364" y="112"/>
                  </a:lnTo>
                  <a:lnTo>
                    <a:pt x="1453" y="119"/>
                  </a:lnTo>
                  <a:lnTo>
                    <a:pt x="1542" y="125"/>
                  </a:lnTo>
                  <a:lnTo>
                    <a:pt x="1628" y="131"/>
                  </a:lnTo>
                  <a:lnTo>
                    <a:pt x="1709" y="139"/>
                  </a:lnTo>
                  <a:lnTo>
                    <a:pt x="1783" y="148"/>
                  </a:lnTo>
                  <a:lnTo>
                    <a:pt x="1817" y="153"/>
                  </a:lnTo>
                  <a:lnTo>
                    <a:pt x="1849" y="160"/>
                  </a:lnTo>
                  <a:lnTo>
                    <a:pt x="1878" y="166"/>
                  </a:lnTo>
                  <a:lnTo>
                    <a:pt x="1906" y="174"/>
                  </a:lnTo>
                  <a:lnTo>
                    <a:pt x="1929" y="182"/>
                  </a:lnTo>
                  <a:lnTo>
                    <a:pt x="1949" y="191"/>
                  </a:lnTo>
                  <a:lnTo>
                    <a:pt x="1966" y="201"/>
                  </a:lnTo>
                  <a:lnTo>
                    <a:pt x="1980" y="212"/>
                  </a:lnTo>
                  <a:lnTo>
                    <a:pt x="1952" y="210"/>
                  </a:lnTo>
                  <a:lnTo>
                    <a:pt x="1924" y="209"/>
                  </a:lnTo>
                  <a:lnTo>
                    <a:pt x="1895" y="210"/>
                  </a:lnTo>
                  <a:lnTo>
                    <a:pt x="1866" y="210"/>
                  </a:lnTo>
                  <a:lnTo>
                    <a:pt x="1803" y="216"/>
                  </a:lnTo>
                  <a:lnTo>
                    <a:pt x="1737" y="223"/>
                  </a:lnTo>
                  <a:lnTo>
                    <a:pt x="1593" y="241"/>
                  </a:lnTo>
                  <a:lnTo>
                    <a:pt x="1436" y="261"/>
                  </a:lnTo>
                  <a:lnTo>
                    <a:pt x="1351" y="271"/>
                  </a:lnTo>
                  <a:lnTo>
                    <a:pt x="1263" y="277"/>
                  </a:lnTo>
                  <a:lnTo>
                    <a:pt x="1217" y="281"/>
                  </a:lnTo>
                  <a:lnTo>
                    <a:pt x="1170" y="282"/>
                  </a:lnTo>
                  <a:lnTo>
                    <a:pt x="1123" y="283"/>
                  </a:lnTo>
                  <a:lnTo>
                    <a:pt x="1075" y="283"/>
                  </a:lnTo>
                  <a:lnTo>
                    <a:pt x="1025" y="283"/>
                  </a:lnTo>
                  <a:lnTo>
                    <a:pt x="974" y="281"/>
                  </a:lnTo>
                  <a:lnTo>
                    <a:pt x="923" y="277"/>
                  </a:lnTo>
                  <a:lnTo>
                    <a:pt x="871" y="273"/>
                  </a:lnTo>
                  <a:lnTo>
                    <a:pt x="817" y="267"/>
                  </a:lnTo>
                  <a:lnTo>
                    <a:pt x="762" y="260"/>
                  </a:lnTo>
                  <a:lnTo>
                    <a:pt x="708" y="251"/>
                  </a:lnTo>
                  <a:lnTo>
                    <a:pt x="651" y="241"/>
                  </a:lnTo>
                  <a:lnTo>
                    <a:pt x="643" y="234"/>
                  </a:lnTo>
                  <a:lnTo>
                    <a:pt x="632" y="227"/>
                  </a:lnTo>
                  <a:lnTo>
                    <a:pt x="621" y="221"/>
                  </a:lnTo>
                  <a:lnTo>
                    <a:pt x="608" y="216"/>
                  </a:lnTo>
                  <a:lnTo>
                    <a:pt x="595" y="211"/>
                  </a:lnTo>
                  <a:lnTo>
                    <a:pt x="580" y="206"/>
                  </a:lnTo>
                  <a:lnTo>
                    <a:pt x="563" y="201"/>
                  </a:lnTo>
                  <a:lnTo>
                    <a:pt x="546" y="196"/>
                  </a:lnTo>
                  <a:lnTo>
                    <a:pt x="508" y="188"/>
                  </a:lnTo>
                  <a:lnTo>
                    <a:pt x="467" y="182"/>
                  </a:lnTo>
                  <a:lnTo>
                    <a:pt x="423" y="175"/>
                  </a:lnTo>
                  <a:lnTo>
                    <a:pt x="377" y="169"/>
                  </a:lnTo>
                  <a:lnTo>
                    <a:pt x="280" y="159"/>
                  </a:lnTo>
                  <a:lnTo>
                    <a:pt x="182" y="148"/>
                  </a:lnTo>
                  <a:lnTo>
                    <a:pt x="133" y="144"/>
                  </a:lnTo>
                  <a:lnTo>
                    <a:pt x="86" y="138"/>
                  </a:lnTo>
                  <a:lnTo>
                    <a:pt x="42" y="132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3800520" y="3573360"/>
              <a:ext cx="307800" cy="63720"/>
            </a:xfrm>
            <a:custGeom>
              <a:avLst/>
              <a:gdLst/>
              <a:ahLst/>
              <a:rect l="l" t="t" r="r" b="b"/>
              <a:pathLst>
                <a:path w="969" h="199">
                  <a:moveTo>
                    <a:pt x="947" y="53"/>
                  </a:moveTo>
                  <a:lnTo>
                    <a:pt x="862" y="10"/>
                  </a:lnTo>
                  <a:lnTo>
                    <a:pt x="834" y="5"/>
                  </a:lnTo>
                  <a:lnTo>
                    <a:pt x="809" y="2"/>
                  </a:lnTo>
                  <a:lnTo>
                    <a:pt x="786" y="1"/>
                  </a:lnTo>
                  <a:lnTo>
                    <a:pt x="765" y="0"/>
                  </a:lnTo>
                  <a:lnTo>
                    <a:pt x="744" y="1"/>
                  </a:lnTo>
                  <a:lnTo>
                    <a:pt x="725" y="2"/>
                  </a:lnTo>
                  <a:lnTo>
                    <a:pt x="706" y="4"/>
                  </a:lnTo>
                  <a:lnTo>
                    <a:pt x="688" y="8"/>
                  </a:lnTo>
                  <a:lnTo>
                    <a:pt x="671" y="12"/>
                  </a:lnTo>
                  <a:lnTo>
                    <a:pt x="655" y="17"/>
                  </a:lnTo>
                  <a:lnTo>
                    <a:pt x="638" y="22"/>
                  </a:lnTo>
                  <a:lnTo>
                    <a:pt x="622" y="28"/>
                  </a:lnTo>
                  <a:lnTo>
                    <a:pt x="588" y="42"/>
                  </a:lnTo>
                  <a:lnTo>
                    <a:pt x="553" y="56"/>
                  </a:lnTo>
                  <a:lnTo>
                    <a:pt x="513" y="70"/>
                  </a:lnTo>
                  <a:lnTo>
                    <a:pt x="467" y="84"/>
                  </a:lnTo>
                  <a:lnTo>
                    <a:pt x="442" y="91"/>
                  </a:lnTo>
                  <a:lnTo>
                    <a:pt x="415" y="98"/>
                  </a:lnTo>
                  <a:lnTo>
                    <a:pt x="385" y="103"/>
                  </a:lnTo>
                  <a:lnTo>
                    <a:pt x="354" y="109"/>
                  </a:lnTo>
                  <a:lnTo>
                    <a:pt x="320" y="114"/>
                  </a:lnTo>
                  <a:lnTo>
                    <a:pt x="284" y="118"/>
                  </a:lnTo>
                  <a:lnTo>
                    <a:pt x="245" y="122"/>
                  </a:lnTo>
                  <a:lnTo>
                    <a:pt x="203" y="124"/>
                  </a:lnTo>
                  <a:lnTo>
                    <a:pt x="157" y="126"/>
                  </a:lnTo>
                  <a:lnTo>
                    <a:pt x="108" y="126"/>
                  </a:lnTo>
                  <a:lnTo>
                    <a:pt x="56" y="126"/>
                  </a:lnTo>
                  <a:lnTo>
                    <a:pt x="0" y="125"/>
                  </a:lnTo>
                  <a:lnTo>
                    <a:pt x="114" y="197"/>
                  </a:lnTo>
                  <a:lnTo>
                    <a:pt x="170" y="198"/>
                  </a:lnTo>
                  <a:lnTo>
                    <a:pt x="222" y="199"/>
                  </a:lnTo>
                  <a:lnTo>
                    <a:pt x="272" y="198"/>
                  </a:lnTo>
                  <a:lnTo>
                    <a:pt x="318" y="196"/>
                  </a:lnTo>
                  <a:lnTo>
                    <a:pt x="361" y="194"/>
                  </a:lnTo>
                  <a:lnTo>
                    <a:pt x="400" y="190"/>
                  </a:lnTo>
                  <a:lnTo>
                    <a:pt x="437" y="186"/>
                  </a:lnTo>
                  <a:lnTo>
                    <a:pt x="472" y="181"/>
                  </a:lnTo>
                  <a:lnTo>
                    <a:pt x="502" y="175"/>
                  </a:lnTo>
                  <a:lnTo>
                    <a:pt x="532" y="170"/>
                  </a:lnTo>
                  <a:lnTo>
                    <a:pt x="559" y="163"/>
                  </a:lnTo>
                  <a:lnTo>
                    <a:pt x="584" y="156"/>
                  </a:lnTo>
                  <a:lnTo>
                    <a:pt x="630" y="141"/>
                  </a:lnTo>
                  <a:lnTo>
                    <a:pt x="671" y="127"/>
                  </a:lnTo>
                  <a:lnTo>
                    <a:pt x="708" y="113"/>
                  </a:lnTo>
                  <a:lnTo>
                    <a:pt x="741" y="100"/>
                  </a:lnTo>
                  <a:lnTo>
                    <a:pt x="757" y="94"/>
                  </a:lnTo>
                  <a:lnTo>
                    <a:pt x="774" y="89"/>
                  </a:lnTo>
                  <a:lnTo>
                    <a:pt x="790" y="84"/>
                  </a:lnTo>
                  <a:lnTo>
                    <a:pt x="806" y="80"/>
                  </a:lnTo>
                  <a:lnTo>
                    <a:pt x="823" y="76"/>
                  </a:lnTo>
                  <a:lnTo>
                    <a:pt x="841" y="74"/>
                  </a:lnTo>
                  <a:lnTo>
                    <a:pt x="859" y="73"/>
                  </a:lnTo>
                  <a:lnTo>
                    <a:pt x="879" y="72"/>
                  </a:lnTo>
                  <a:lnTo>
                    <a:pt x="899" y="73"/>
                  </a:lnTo>
                  <a:lnTo>
                    <a:pt x="921" y="74"/>
                  </a:lnTo>
                  <a:lnTo>
                    <a:pt x="944" y="77"/>
                  </a:lnTo>
                  <a:lnTo>
                    <a:pt x="969" y="81"/>
                  </a:lnTo>
                  <a:lnTo>
                    <a:pt x="883" y="37"/>
                  </a:lnTo>
                  <a:lnTo>
                    <a:pt x="947" y="53"/>
                  </a:lnTo>
                  <a:lnTo>
                    <a:pt x="892" y="16"/>
                  </a:lnTo>
                  <a:lnTo>
                    <a:pt x="862" y="10"/>
                  </a:lnTo>
                  <a:lnTo>
                    <a:pt x="947" y="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4081320" y="3584520"/>
              <a:ext cx="387360" cy="79560"/>
            </a:xfrm>
            <a:custGeom>
              <a:avLst/>
              <a:gdLst/>
              <a:ahLst/>
              <a:rect l="l" t="t" r="r" b="b"/>
              <a:pathLst>
                <a:path w="1220" h="248">
                  <a:moveTo>
                    <a:pt x="1210" y="247"/>
                  </a:moveTo>
                  <a:lnTo>
                    <a:pt x="1210" y="238"/>
                  </a:lnTo>
                  <a:lnTo>
                    <a:pt x="1196" y="225"/>
                  </a:lnTo>
                  <a:lnTo>
                    <a:pt x="1173" y="208"/>
                  </a:lnTo>
                  <a:lnTo>
                    <a:pt x="1142" y="189"/>
                  </a:lnTo>
                  <a:lnTo>
                    <a:pt x="1100" y="166"/>
                  </a:lnTo>
                  <a:lnTo>
                    <a:pt x="1064" y="150"/>
                  </a:lnTo>
                  <a:lnTo>
                    <a:pt x="1032" y="138"/>
                  </a:lnTo>
                  <a:lnTo>
                    <a:pt x="1001" y="130"/>
                  </a:lnTo>
                  <a:lnTo>
                    <a:pt x="970" y="122"/>
                  </a:lnTo>
                  <a:lnTo>
                    <a:pt x="937" y="117"/>
                  </a:lnTo>
                  <a:lnTo>
                    <a:pt x="902" y="111"/>
                  </a:lnTo>
                  <a:lnTo>
                    <a:pt x="827" y="102"/>
                  </a:lnTo>
                  <a:lnTo>
                    <a:pt x="746" y="95"/>
                  </a:lnTo>
                  <a:lnTo>
                    <a:pt x="659" y="88"/>
                  </a:lnTo>
                  <a:lnTo>
                    <a:pt x="571" y="81"/>
                  </a:lnTo>
                  <a:lnTo>
                    <a:pt x="481" y="76"/>
                  </a:lnTo>
                  <a:lnTo>
                    <a:pt x="393" y="68"/>
                  </a:lnTo>
                  <a:lnTo>
                    <a:pt x="350" y="64"/>
                  </a:lnTo>
                  <a:lnTo>
                    <a:pt x="307" y="60"/>
                  </a:lnTo>
                  <a:lnTo>
                    <a:pt x="266" y="54"/>
                  </a:lnTo>
                  <a:lnTo>
                    <a:pt x="226" y="48"/>
                  </a:lnTo>
                  <a:lnTo>
                    <a:pt x="188" y="43"/>
                  </a:lnTo>
                  <a:lnTo>
                    <a:pt x="152" y="36"/>
                  </a:lnTo>
                  <a:lnTo>
                    <a:pt x="119" y="28"/>
                  </a:lnTo>
                  <a:lnTo>
                    <a:pt x="88" y="20"/>
                  </a:lnTo>
                  <a:lnTo>
                    <a:pt x="63" y="12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7" y="12"/>
                  </a:lnTo>
                  <a:lnTo>
                    <a:pt x="64" y="16"/>
                  </a:lnTo>
                  <a:lnTo>
                    <a:pt x="0" y="0"/>
                  </a:lnTo>
                  <a:lnTo>
                    <a:pt x="28" y="19"/>
                  </a:lnTo>
                  <a:lnTo>
                    <a:pt x="59" y="37"/>
                  </a:lnTo>
                  <a:lnTo>
                    <a:pt x="88" y="52"/>
                  </a:lnTo>
                  <a:lnTo>
                    <a:pt x="115" y="63"/>
                  </a:lnTo>
                  <a:lnTo>
                    <a:pt x="150" y="77"/>
                  </a:lnTo>
                  <a:lnTo>
                    <a:pt x="186" y="88"/>
                  </a:lnTo>
                  <a:lnTo>
                    <a:pt x="221" y="98"/>
                  </a:lnTo>
                  <a:lnTo>
                    <a:pt x="258" y="106"/>
                  </a:lnTo>
                  <a:lnTo>
                    <a:pt x="295" y="113"/>
                  </a:lnTo>
                  <a:lnTo>
                    <a:pt x="335" y="120"/>
                  </a:lnTo>
                  <a:lnTo>
                    <a:pt x="376" y="126"/>
                  </a:lnTo>
                  <a:lnTo>
                    <a:pt x="417" y="131"/>
                  </a:lnTo>
                  <a:lnTo>
                    <a:pt x="461" y="136"/>
                  </a:lnTo>
                  <a:lnTo>
                    <a:pt x="505" y="139"/>
                  </a:lnTo>
                  <a:lnTo>
                    <a:pt x="594" y="147"/>
                  </a:lnTo>
                  <a:lnTo>
                    <a:pt x="684" y="154"/>
                  </a:lnTo>
                  <a:lnTo>
                    <a:pt x="772" y="160"/>
                  </a:lnTo>
                  <a:lnTo>
                    <a:pt x="857" y="167"/>
                  </a:lnTo>
                  <a:lnTo>
                    <a:pt x="938" y="174"/>
                  </a:lnTo>
                  <a:lnTo>
                    <a:pt x="1012" y="183"/>
                  </a:lnTo>
                  <a:lnTo>
                    <a:pt x="1046" y="189"/>
                  </a:lnTo>
                  <a:lnTo>
                    <a:pt x="1076" y="194"/>
                  </a:lnTo>
                  <a:lnTo>
                    <a:pt x="1104" y="200"/>
                  </a:lnTo>
                  <a:lnTo>
                    <a:pt x="1126" y="207"/>
                  </a:lnTo>
                  <a:lnTo>
                    <a:pt x="1142" y="211"/>
                  </a:lnTo>
                  <a:lnTo>
                    <a:pt x="1146" y="214"/>
                  </a:lnTo>
                  <a:lnTo>
                    <a:pt x="1123" y="201"/>
                  </a:lnTo>
                  <a:lnTo>
                    <a:pt x="1107" y="191"/>
                  </a:lnTo>
                  <a:lnTo>
                    <a:pt x="1099" y="185"/>
                  </a:lnTo>
                  <a:lnTo>
                    <a:pt x="1098" y="184"/>
                  </a:lnTo>
                  <a:lnTo>
                    <a:pt x="1098" y="175"/>
                  </a:lnTo>
                  <a:lnTo>
                    <a:pt x="1210" y="247"/>
                  </a:lnTo>
                  <a:lnTo>
                    <a:pt x="1220" y="248"/>
                  </a:lnTo>
                  <a:lnTo>
                    <a:pt x="1210" y="238"/>
                  </a:lnTo>
                  <a:lnTo>
                    <a:pt x="1210" y="24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4008600" y="3639960"/>
              <a:ext cx="457200" cy="46080"/>
            </a:xfrm>
            <a:custGeom>
              <a:avLst/>
              <a:gdLst/>
              <a:ahLst/>
              <a:rect l="l" t="t" r="r" b="b"/>
              <a:pathLst>
                <a:path w="1439" h="146">
                  <a:moveTo>
                    <a:pt x="0" y="43"/>
                  </a:moveTo>
                  <a:lnTo>
                    <a:pt x="107" y="102"/>
                  </a:lnTo>
                  <a:lnTo>
                    <a:pt x="164" y="114"/>
                  </a:lnTo>
                  <a:lnTo>
                    <a:pt x="220" y="122"/>
                  </a:lnTo>
                  <a:lnTo>
                    <a:pt x="276" y="130"/>
                  </a:lnTo>
                  <a:lnTo>
                    <a:pt x="329" y="135"/>
                  </a:lnTo>
                  <a:lnTo>
                    <a:pt x="382" y="140"/>
                  </a:lnTo>
                  <a:lnTo>
                    <a:pt x="434" y="143"/>
                  </a:lnTo>
                  <a:lnTo>
                    <a:pt x="485" y="144"/>
                  </a:lnTo>
                  <a:lnTo>
                    <a:pt x="535" y="146"/>
                  </a:lnTo>
                  <a:lnTo>
                    <a:pt x="584" y="146"/>
                  </a:lnTo>
                  <a:lnTo>
                    <a:pt x="630" y="144"/>
                  </a:lnTo>
                  <a:lnTo>
                    <a:pt x="678" y="142"/>
                  </a:lnTo>
                  <a:lnTo>
                    <a:pt x="724" y="140"/>
                  </a:lnTo>
                  <a:lnTo>
                    <a:pt x="812" y="133"/>
                  </a:lnTo>
                  <a:lnTo>
                    <a:pt x="897" y="124"/>
                  </a:lnTo>
                  <a:lnTo>
                    <a:pt x="1055" y="103"/>
                  </a:lnTo>
                  <a:lnTo>
                    <a:pt x="1198" y="84"/>
                  </a:lnTo>
                  <a:lnTo>
                    <a:pt x="1264" y="77"/>
                  </a:lnTo>
                  <a:lnTo>
                    <a:pt x="1326" y="73"/>
                  </a:lnTo>
                  <a:lnTo>
                    <a:pt x="1355" y="71"/>
                  </a:lnTo>
                  <a:lnTo>
                    <a:pt x="1384" y="71"/>
                  </a:lnTo>
                  <a:lnTo>
                    <a:pt x="1412" y="73"/>
                  </a:lnTo>
                  <a:lnTo>
                    <a:pt x="1439" y="74"/>
                  </a:lnTo>
                  <a:lnTo>
                    <a:pt x="1327" y="2"/>
                  </a:lnTo>
                  <a:lnTo>
                    <a:pt x="1298" y="0"/>
                  </a:lnTo>
                  <a:lnTo>
                    <a:pt x="1270" y="0"/>
                  </a:lnTo>
                  <a:lnTo>
                    <a:pt x="1240" y="0"/>
                  </a:lnTo>
                  <a:lnTo>
                    <a:pt x="1211" y="1"/>
                  </a:lnTo>
                  <a:lnTo>
                    <a:pt x="1148" y="5"/>
                  </a:lnTo>
                  <a:lnTo>
                    <a:pt x="1081" y="12"/>
                  </a:lnTo>
                  <a:lnTo>
                    <a:pt x="938" y="32"/>
                  </a:lnTo>
                  <a:lnTo>
                    <a:pt x="780" y="52"/>
                  </a:lnTo>
                  <a:lnTo>
                    <a:pt x="695" y="61"/>
                  </a:lnTo>
                  <a:lnTo>
                    <a:pt x="608" y="68"/>
                  </a:lnTo>
                  <a:lnTo>
                    <a:pt x="562" y="70"/>
                  </a:lnTo>
                  <a:lnTo>
                    <a:pt x="516" y="73"/>
                  </a:lnTo>
                  <a:lnTo>
                    <a:pt x="469" y="74"/>
                  </a:lnTo>
                  <a:lnTo>
                    <a:pt x="421" y="74"/>
                  </a:lnTo>
                  <a:lnTo>
                    <a:pt x="372" y="73"/>
                  </a:lnTo>
                  <a:lnTo>
                    <a:pt x="322" y="70"/>
                  </a:lnTo>
                  <a:lnTo>
                    <a:pt x="270" y="68"/>
                  </a:lnTo>
                  <a:lnTo>
                    <a:pt x="218" y="63"/>
                  </a:lnTo>
                  <a:lnTo>
                    <a:pt x="164" y="58"/>
                  </a:lnTo>
                  <a:lnTo>
                    <a:pt x="111" y="51"/>
                  </a:lnTo>
                  <a:lnTo>
                    <a:pt x="56" y="42"/>
                  </a:lnTo>
                  <a:lnTo>
                    <a:pt x="0" y="32"/>
                  </a:lnTo>
                  <a:lnTo>
                    <a:pt x="107" y="92"/>
                  </a:lnTo>
                  <a:lnTo>
                    <a:pt x="0" y="43"/>
                  </a:lnTo>
                  <a:lnTo>
                    <a:pt x="52" y="92"/>
                  </a:lnTo>
                  <a:lnTo>
                    <a:pt x="107" y="10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3741840" y="3613320"/>
              <a:ext cx="299880" cy="55440"/>
            </a:xfrm>
            <a:custGeom>
              <a:avLst/>
              <a:gdLst/>
              <a:ahLst/>
              <a:rect l="l" t="t" r="r" b="b"/>
              <a:pathLst>
                <a:path w="949" h="177">
                  <a:moveTo>
                    <a:pt x="188" y="0"/>
                  </a:moveTo>
                  <a:lnTo>
                    <a:pt x="298" y="72"/>
                  </a:lnTo>
                  <a:lnTo>
                    <a:pt x="342" y="79"/>
                  </a:lnTo>
                  <a:lnTo>
                    <a:pt x="386" y="85"/>
                  </a:lnTo>
                  <a:lnTo>
                    <a:pt x="434" y="90"/>
                  </a:lnTo>
                  <a:lnTo>
                    <a:pt x="482" y="96"/>
                  </a:lnTo>
                  <a:lnTo>
                    <a:pt x="581" y="106"/>
                  </a:lnTo>
                  <a:lnTo>
                    <a:pt x="677" y="117"/>
                  </a:lnTo>
                  <a:lnTo>
                    <a:pt x="722" y="122"/>
                  </a:lnTo>
                  <a:lnTo>
                    <a:pt x="767" y="128"/>
                  </a:lnTo>
                  <a:lnTo>
                    <a:pt x="807" y="136"/>
                  </a:lnTo>
                  <a:lnTo>
                    <a:pt x="843" y="143"/>
                  </a:lnTo>
                  <a:lnTo>
                    <a:pt x="858" y="147"/>
                  </a:lnTo>
                  <a:lnTo>
                    <a:pt x="873" y="151"/>
                  </a:lnTo>
                  <a:lnTo>
                    <a:pt x="884" y="155"/>
                  </a:lnTo>
                  <a:lnTo>
                    <a:pt x="890" y="158"/>
                  </a:lnTo>
                  <a:lnTo>
                    <a:pt x="886" y="155"/>
                  </a:lnTo>
                  <a:lnTo>
                    <a:pt x="869" y="146"/>
                  </a:lnTo>
                  <a:lnTo>
                    <a:pt x="849" y="132"/>
                  </a:lnTo>
                  <a:lnTo>
                    <a:pt x="842" y="128"/>
                  </a:lnTo>
                  <a:lnTo>
                    <a:pt x="949" y="177"/>
                  </a:lnTo>
                  <a:lnTo>
                    <a:pt x="926" y="158"/>
                  </a:lnTo>
                  <a:lnTo>
                    <a:pt x="886" y="131"/>
                  </a:lnTo>
                  <a:lnTo>
                    <a:pt x="845" y="110"/>
                  </a:lnTo>
                  <a:lnTo>
                    <a:pt x="817" y="97"/>
                  </a:lnTo>
                  <a:lnTo>
                    <a:pt x="795" y="89"/>
                  </a:lnTo>
                  <a:lnTo>
                    <a:pt x="777" y="82"/>
                  </a:lnTo>
                  <a:lnTo>
                    <a:pt x="758" y="78"/>
                  </a:lnTo>
                  <a:lnTo>
                    <a:pt x="738" y="72"/>
                  </a:lnTo>
                  <a:lnTo>
                    <a:pt x="700" y="64"/>
                  </a:lnTo>
                  <a:lnTo>
                    <a:pt x="657" y="57"/>
                  </a:lnTo>
                  <a:lnTo>
                    <a:pt x="613" y="50"/>
                  </a:lnTo>
                  <a:lnTo>
                    <a:pt x="566" y="45"/>
                  </a:lnTo>
                  <a:lnTo>
                    <a:pt x="469" y="34"/>
                  </a:lnTo>
                  <a:lnTo>
                    <a:pt x="371" y="24"/>
                  </a:lnTo>
                  <a:lnTo>
                    <a:pt x="322" y="18"/>
                  </a:lnTo>
                  <a:lnTo>
                    <a:pt x="277" y="13"/>
                  </a:lnTo>
                  <a:lnTo>
                    <a:pt x="232" y="7"/>
                  </a:lnTo>
                  <a:lnTo>
                    <a:pt x="190" y="0"/>
                  </a:lnTo>
                  <a:lnTo>
                    <a:pt x="302" y="72"/>
                  </a:lnTo>
                  <a:lnTo>
                    <a:pt x="188" y="0"/>
                  </a:lnTo>
                  <a:lnTo>
                    <a:pt x="0" y="5"/>
                  </a:lnTo>
                  <a:lnTo>
                    <a:pt x="298" y="72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5032440" y="3594240"/>
              <a:ext cx="628560" cy="90360"/>
            </a:xfrm>
            <a:custGeom>
              <a:avLst/>
              <a:gdLst/>
              <a:ahLst/>
              <a:rect l="l" t="t" r="r" b="b"/>
              <a:pathLst>
                <a:path w="1980" h="284">
                  <a:moveTo>
                    <a:pt x="1980" y="125"/>
                  </a:moveTo>
                  <a:lnTo>
                    <a:pt x="1924" y="127"/>
                  </a:lnTo>
                  <a:lnTo>
                    <a:pt x="1871" y="128"/>
                  </a:lnTo>
                  <a:lnTo>
                    <a:pt x="1822" y="127"/>
                  </a:lnTo>
                  <a:lnTo>
                    <a:pt x="1776" y="124"/>
                  </a:lnTo>
                  <a:lnTo>
                    <a:pt x="1734" y="122"/>
                  </a:lnTo>
                  <a:lnTo>
                    <a:pt x="1694" y="119"/>
                  </a:lnTo>
                  <a:lnTo>
                    <a:pt x="1658" y="114"/>
                  </a:lnTo>
                  <a:lnTo>
                    <a:pt x="1623" y="109"/>
                  </a:lnTo>
                  <a:lnTo>
                    <a:pt x="1593" y="104"/>
                  </a:lnTo>
                  <a:lnTo>
                    <a:pt x="1563" y="98"/>
                  </a:lnTo>
                  <a:lnTo>
                    <a:pt x="1536" y="91"/>
                  </a:lnTo>
                  <a:lnTo>
                    <a:pt x="1510" y="84"/>
                  </a:lnTo>
                  <a:lnTo>
                    <a:pt x="1465" y="71"/>
                  </a:lnTo>
                  <a:lnTo>
                    <a:pt x="1425" y="56"/>
                  </a:lnTo>
                  <a:lnTo>
                    <a:pt x="1388" y="42"/>
                  </a:lnTo>
                  <a:lnTo>
                    <a:pt x="1355" y="28"/>
                  </a:lnTo>
                  <a:lnTo>
                    <a:pt x="1338" y="23"/>
                  </a:lnTo>
                  <a:lnTo>
                    <a:pt x="1322" y="17"/>
                  </a:lnTo>
                  <a:lnTo>
                    <a:pt x="1306" y="13"/>
                  </a:lnTo>
                  <a:lnTo>
                    <a:pt x="1289" y="8"/>
                  </a:lnTo>
                  <a:lnTo>
                    <a:pt x="1272" y="5"/>
                  </a:lnTo>
                  <a:lnTo>
                    <a:pt x="1254" y="2"/>
                  </a:lnTo>
                  <a:lnTo>
                    <a:pt x="1235" y="1"/>
                  </a:lnTo>
                  <a:lnTo>
                    <a:pt x="1215" y="0"/>
                  </a:lnTo>
                  <a:lnTo>
                    <a:pt x="1194" y="1"/>
                  </a:lnTo>
                  <a:lnTo>
                    <a:pt x="1172" y="2"/>
                  </a:lnTo>
                  <a:lnTo>
                    <a:pt x="1148" y="6"/>
                  </a:lnTo>
                  <a:lnTo>
                    <a:pt x="1122" y="9"/>
                  </a:lnTo>
                  <a:lnTo>
                    <a:pt x="1100" y="23"/>
                  </a:lnTo>
                  <a:lnTo>
                    <a:pt x="1075" y="35"/>
                  </a:lnTo>
                  <a:lnTo>
                    <a:pt x="1046" y="46"/>
                  </a:lnTo>
                  <a:lnTo>
                    <a:pt x="1017" y="56"/>
                  </a:lnTo>
                  <a:lnTo>
                    <a:pt x="984" y="64"/>
                  </a:lnTo>
                  <a:lnTo>
                    <a:pt x="948" y="72"/>
                  </a:lnTo>
                  <a:lnTo>
                    <a:pt x="912" y="80"/>
                  </a:lnTo>
                  <a:lnTo>
                    <a:pt x="873" y="86"/>
                  </a:lnTo>
                  <a:lnTo>
                    <a:pt x="832" y="91"/>
                  </a:lnTo>
                  <a:lnTo>
                    <a:pt x="791" y="97"/>
                  </a:lnTo>
                  <a:lnTo>
                    <a:pt x="748" y="101"/>
                  </a:lnTo>
                  <a:lnTo>
                    <a:pt x="704" y="105"/>
                  </a:lnTo>
                  <a:lnTo>
                    <a:pt x="616" y="113"/>
                  </a:lnTo>
                  <a:lnTo>
                    <a:pt x="527" y="119"/>
                  </a:lnTo>
                  <a:lnTo>
                    <a:pt x="438" y="125"/>
                  </a:lnTo>
                  <a:lnTo>
                    <a:pt x="352" y="132"/>
                  </a:lnTo>
                  <a:lnTo>
                    <a:pt x="271" y="139"/>
                  </a:lnTo>
                  <a:lnTo>
                    <a:pt x="197" y="148"/>
                  </a:lnTo>
                  <a:lnTo>
                    <a:pt x="162" y="154"/>
                  </a:lnTo>
                  <a:lnTo>
                    <a:pt x="130" y="160"/>
                  </a:lnTo>
                  <a:lnTo>
                    <a:pt x="101" y="167"/>
                  </a:lnTo>
                  <a:lnTo>
                    <a:pt x="74" y="173"/>
                  </a:lnTo>
                  <a:lnTo>
                    <a:pt x="50" y="182"/>
                  </a:lnTo>
                  <a:lnTo>
                    <a:pt x="30" y="192"/>
                  </a:lnTo>
                  <a:lnTo>
                    <a:pt x="12" y="201"/>
                  </a:lnTo>
                  <a:lnTo>
                    <a:pt x="0" y="212"/>
                  </a:lnTo>
                  <a:lnTo>
                    <a:pt x="27" y="211"/>
                  </a:lnTo>
                  <a:lnTo>
                    <a:pt x="55" y="210"/>
                  </a:lnTo>
                  <a:lnTo>
                    <a:pt x="84" y="210"/>
                  </a:lnTo>
                  <a:lnTo>
                    <a:pt x="114" y="211"/>
                  </a:lnTo>
                  <a:lnTo>
                    <a:pt x="177" y="216"/>
                  </a:lnTo>
                  <a:lnTo>
                    <a:pt x="243" y="222"/>
                  </a:lnTo>
                  <a:lnTo>
                    <a:pt x="386" y="242"/>
                  </a:lnTo>
                  <a:lnTo>
                    <a:pt x="544" y="262"/>
                  </a:lnTo>
                  <a:lnTo>
                    <a:pt x="586" y="267"/>
                  </a:lnTo>
                  <a:lnTo>
                    <a:pt x="628" y="271"/>
                  </a:lnTo>
                  <a:lnTo>
                    <a:pt x="673" y="275"/>
                  </a:lnTo>
                  <a:lnTo>
                    <a:pt x="717" y="278"/>
                  </a:lnTo>
                  <a:lnTo>
                    <a:pt x="763" y="281"/>
                  </a:lnTo>
                  <a:lnTo>
                    <a:pt x="809" y="283"/>
                  </a:lnTo>
                  <a:lnTo>
                    <a:pt x="856" y="284"/>
                  </a:lnTo>
                  <a:lnTo>
                    <a:pt x="905" y="284"/>
                  </a:lnTo>
                  <a:lnTo>
                    <a:pt x="954" y="283"/>
                  </a:lnTo>
                  <a:lnTo>
                    <a:pt x="1005" y="282"/>
                  </a:lnTo>
                  <a:lnTo>
                    <a:pt x="1057" y="278"/>
                  </a:lnTo>
                  <a:lnTo>
                    <a:pt x="1109" y="274"/>
                  </a:lnTo>
                  <a:lnTo>
                    <a:pt x="1163" y="268"/>
                  </a:lnTo>
                  <a:lnTo>
                    <a:pt x="1217" y="261"/>
                  </a:lnTo>
                  <a:lnTo>
                    <a:pt x="1272" y="252"/>
                  </a:lnTo>
                  <a:lnTo>
                    <a:pt x="1329" y="242"/>
                  </a:lnTo>
                  <a:lnTo>
                    <a:pt x="1337" y="235"/>
                  </a:lnTo>
                  <a:lnTo>
                    <a:pt x="1347" y="228"/>
                  </a:lnTo>
                  <a:lnTo>
                    <a:pt x="1358" y="222"/>
                  </a:lnTo>
                  <a:lnTo>
                    <a:pt x="1371" y="217"/>
                  </a:lnTo>
                  <a:lnTo>
                    <a:pt x="1385" y="211"/>
                  </a:lnTo>
                  <a:lnTo>
                    <a:pt x="1400" y="206"/>
                  </a:lnTo>
                  <a:lnTo>
                    <a:pt x="1416" y="202"/>
                  </a:lnTo>
                  <a:lnTo>
                    <a:pt x="1434" y="197"/>
                  </a:lnTo>
                  <a:lnTo>
                    <a:pt x="1472" y="189"/>
                  </a:lnTo>
                  <a:lnTo>
                    <a:pt x="1513" y="182"/>
                  </a:lnTo>
                  <a:lnTo>
                    <a:pt x="1557" y="176"/>
                  </a:lnTo>
                  <a:lnTo>
                    <a:pt x="1603" y="170"/>
                  </a:lnTo>
                  <a:lnTo>
                    <a:pt x="1700" y="160"/>
                  </a:lnTo>
                  <a:lnTo>
                    <a:pt x="1798" y="149"/>
                  </a:lnTo>
                  <a:lnTo>
                    <a:pt x="1847" y="144"/>
                  </a:lnTo>
                  <a:lnTo>
                    <a:pt x="1893" y="138"/>
                  </a:lnTo>
                  <a:lnTo>
                    <a:pt x="1938" y="132"/>
                  </a:lnTo>
                  <a:lnTo>
                    <a:pt x="1980" y="12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5369040" y="3583080"/>
              <a:ext cx="309600" cy="63360"/>
            </a:xfrm>
            <a:custGeom>
              <a:avLst/>
              <a:gdLst/>
              <a:ahLst/>
              <a:rect l="l" t="t" r="r" b="b"/>
              <a:pathLst>
                <a:path w="977" h="198">
                  <a:moveTo>
                    <a:pt x="120" y="81"/>
                  </a:moveTo>
                  <a:lnTo>
                    <a:pt x="119" y="81"/>
                  </a:lnTo>
                  <a:lnTo>
                    <a:pt x="145" y="76"/>
                  </a:lnTo>
                  <a:lnTo>
                    <a:pt x="169" y="74"/>
                  </a:lnTo>
                  <a:lnTo>
                    <a:pt x="191" y="71"/>
                  </a:lnTo>
                  <a:lnTo>
                    <a:pt x="211" y="71"/>
                  </a:lnTo>
                  <a:lnTo>
                    <a:pt x="231" y="71"/>
                  </a:lnTo>
                  <a:lnTo>
                    <a:pt x="249" y="74"/>
                  </a:lnTo>
                  <a:lnTo>
                    <a:pt x="265" y="76"/>
                  </a:lnTo>
                  <a:lnTo>
                    <a:pt x="281" y="78"/>
                  </a:lnTo>
                  <a:lnTo>
                    <a:pt x="294" y="83"/>
                  </a:lnTo>
                  <a:lnTo>
                    <a:pt x="309" y="86"/>
                  </a:lnTo>
                  <a:lnTo>
                    <a:pt x="323" y="91"/>
                  </a:lnTo>
                  <a:lnTo>
                    <a:pt x="335" y="95"/>
                  </a:lnTo>
                  <a:lnTo>
                    <a:pt x="367" y="108"/>
                  </a:lnTo>
                  <a:lnTo>
                    <a:pt x="406" y="123"/>
                  </a:lnTo>
                  <a:lnTo>
                    <a:pt x="449" y="139"/>
                  </a:lnTo>
                  <a:lnTo>
                    <a:pt x="498" y="154"/>
                  </a:lnTo>
                  <a:lnTo>
                    <a:pt x="526" y="162"/>
                  </a:lnTo>
                  <a:lnTo>
                    <a:pt x="554" y="168"/>
                  </a:lnTo>
                  <a:lnTo>
                    <a:pt x="585" y="174"/>
                  </a:lnTo>
                  <a:lnTo>
                    <a:pt x="617" y="180"/>
                  </a:lnTo>
                  <a:lnTo>
                    <a:pt x="651" y="186"/>
                  </a:lnTo>
                  <a:lnTo>
                    <a:pt x="689" y="189"/>
                  </a:lnTo>
                  <a:lnTo>
                    <a:pt x="729" y="194"/>
                  </a:lnTo>
                  <a:lnTo>
                    <a:pt x="772" y="196"/>
                  </a:lnTo>
                  <a:lnTo>
                    <a:pt x="818" y="197"/>
                  </a:lnTo>
                  <a:lnTo>
                    <a:pt x="868" y="198"/>
                  </a:lnTo>
                  <a:lnTo>
                    <a:pt x="920" y="198"/>
                  </a:lnTo>
                  <a:lnTo>
                    <a:pt x="977" y="197"/>
                  </a:lnTo>
                  <a:lnTo>
                    <a:pt x="862" y="124"/>
                  </a:lnTo>
                  <a:lnTo>
                    <a:pt x="805" y="126"/>
                  </a:lnTo>
                  <a:lnTo>
                    <a:pt x="753" y="126"/>
                  </a:lnTo>
                  <a:lnTo>
                    <a:pt x="704" y="125"/>
                  </a:lnTo>
                  <a:lnTo>
                    <a:pt x="659" y="124"/>
                  </a:lnTo>
                  <a:lnTo>
                    <a:pt x="617" y="121"/>
                  </a:lnTo>
                  <a:lnTo>
                    <a:pt x="578" y="117"/>
                  </a:lnTo>
                  <a:lnTo>
                    <a:pt x="542" y="114"/>
                  </a:lnTo>
                  <a:lnTo>
                    <a:pt x="509" y="108"/>
                  </a:lnTo>
                  <a:lnTo>
                    <a:pt x="478" y="103"/>
                  </a:lnTo>
                  <a:lnTo>
                    <a:pt x="449" y="97"/>
                  </a:lnTo>
                  <a:lnTo>
                    <a:pt x="423" y="91"/>
                  </a:lnTo>
                  <a:lnTo>
                    <a:pt x="402" y="85"/>
                  </a:lnTo>
                  <a:lnTo>
                    <a:pt x="358" y="71"/>
                  </a:lnTo>
                  <a:lnTo>
                    <a:pt x="323" y="59"/>
                  </a:lnTo>
                  <a:lnTo>
                    <a:pt x="288" y="45"/>
                  </a:lnTo>
                  <a:lnTo>
                    <a:pt x="253" y="32"/>
                  </a:lnTo>
                  <a:lnTo>
                    <a:pt x="233" y="25"/>
                  </a:lnTo>
                  <a:lnTo>
                    <a:pt x="213" y="18"/>
                  </a:lnTo>
                  <a:lnTo>
                    <a:pt x="195" y="13"/>
                  </a:lnTo>
                  <a:lnTo>
                    <a:pt x="176" y="8"/>
                  </a:lnTo>
                  <a:lnTo>
                    <a:pt x="156" y="4"/>
                  </a:lnTo>
                  <a:lnTo>
                    <a:pt x="137" y="2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6" y="0"/>
                  </a:lnTo>
                  <a:lnTo>
                    <a:pt x="53" y="2"/>
                  </a:lnTo>
                  <a:lnTo>
                    <a:pt x="28" y="4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4998960" y="3586320"/>
              <a:ext cx="408240" cy="90360"/>
            </a:xfrm>
            <a:custGeom>
              <a:avLst/>
              <a:gdLst/>
              <a:ahLst/>
              <a:rect l="l" t="t" r="r" b="b"/>
              <a:pathLst>
                <a:path w="1286" h="283">
                  <a:moveTo>
                    <a:pt x="47" y="203"/>
                  </a:moveTo>
                  <a:lnTo>
                    <a:pt x="165" y="274"/>
                  </a:lnTo>
                  <a:lnTo>
                    <a:pt x="171" y="268"/>
                  </a:lnTo>
                  <a:lnTo>
                    <a:pt x="178" y="263"/>
                  </a:lnTo>
                  <a:lnTo>
                    <a:pt x="186" y="258"/>
                  </a:lnTo>
                  <a:lnTo>
                    <a:pt x="195" y="253"/>
                  </a:lnTo>
                  <a:lnTo>
                    <a:pt x="216" y="244"/>
                  </a:lnTo>
                  <a:lnTo>
                    <a:pt x="238" y="236"/>
                  </a:lnTo>
                  <a:lnTo>
                    <a:pt x="265" y="228"/>
                  </a:lnTo>
                  <a:lnTo>
                    <a:pt x="294" y="222"/>
                  </a:lnTo>
                  <a:lnTo>
                    <a:pt x="326" y="215"/>
                  </a:lnTo>
                  <a:lnTo>
                    <a:pt x="360" y="211"/>
                  </a:lnTo>
                  <a:lnTo>
                    <a:pt x="434" y="202"/>
                  </a:lnTo>
                  <a:lnTo>
                    <a:pt x="515" y="194"/>
                  </a:lnTo>
                  <a:lnTo>
                    <a:pt x="601" y="187"/>
                  </a:lnTo>
                  <a:lnTo>
                    <a:pt x="689" y="181"/>
                  </a:lnTo>
                  <a:lnTo>
                    <a:pt x="779" y="175"/>
                  </a:lnTo>
                  <a:lnTo>
                    <a:pt x="868" y="167"/>
                  </a:lnTo>
                  <a:lnTo>
                    <a:pt x="911" y="163"/>
                  </a:lnTo>
                  <a:lnTo>
                    <a:pt x="954" y="158"/>
                  </a:lnTo>
                  <a:lnTo>
                    <a:pt x="995" y="154"/>
                  </a:lnTo>
                  <a:lnTo>
                    <a:pt x="1036" y="148"/>
                  </a:lnTo>
                  <a:lnTo>
                    <a:pt x="1075" y="141"/>
                  </a:lnTo>
                  <a:lnTo>
                    <a:pt x="1113" y="134"/>
                  </a:lnTo>
                  <a:lnTo>
                    <a:pt x="1148" y="126"/>
                  </a:lnTo>
                  <a:lnTo>
                    <a:pt x="1181" y="117"/>
                  </a:lnTo>
                  <a:lnTo>
                    <a:pt x="1211" y="107"/>
                  </a:lnTo>
                  <a:lnTo>
                    <a:pt x="1239" y="97"/>
                  </a:lnTo>
                  <a:lnTo>
                    <a:pt x="1252" y="91"/>
                  </a:lnTo>
                  <a:lnTo>
                    <a:pt x="1264" y="84"/>
                  </a:lnTo>
                  <a:lnTo>
                    <a:pt x="1276" y="78"/>
                  </a:lnTo>
                  <a:lnTo>
                    <a:pt x="1286" y="72"/>
                  </a:lnTo>
                  <a:lnTo>
                    <a:pt x="1166" y="0"/>
                  </a:lnTo>
                  <a:lnTo>
                    <a:pt x="1156" y="7"/>
                  </a:lnTo>
                  <a:lnTo>
                    <a:pt x="1145" y="13"/>
                  </a:lnTo>
                  <a:lnTo>
                    <a:pt x="1133" y="19"/>
                  </a:lnTo>
                  <a:lnTo>
                    <a:pt x="1121" y="25"/>
                  </a:lnTo>
                  <a:lnTo>
                    <a:pt x="1093" y="36"/>
                  </a:lnTo>
                  <a:lnTo>
                    <a:pt x="1063" y="45"/>
                  </a:lnTo>
                  <a:lnTo>
                    <a:pt x="1029" y="54"/>
                  </a:lnTo>
                  <a:lnTo>
                    <a:pt x="995" y="62"/>
                  </a:lnTo>
                  <a:lnTo>
                    <a:pt x="958" y="69"/>
                  </a:lnTo>
                  <a:lnTo>
                    <a:pt x="919" y="76"/>
                  </a:lnTo>
                  <a:lnTo>
                    <a:pt x="879" y="82"/>
                  </a:lnTo>
                  <a:lnTo>
                    <a:pt x="838" y="86"/>
                  </a:lnTo>
                  <a:lnTo>
                    <a:pt x="795" y="91"/>
                  </a:lnTo>
                  <a:lnTo>
                    <a:pt x="751" y="96"/>
                  </a:lnTo>
                  <a:lnTo>
                    <a:pt x="662" y="102"/>
                  </a:lnTo>
                  <a:lnTo>
                    <a:pt x="573" y="109"/>
                  </a:lnTo>
                  <a:lnTo>
                    <a:pt x="485" y="115"/>
                  </a:lnTo>
                  <a:lnTo>
                    <a:pt x="399" y="122"/>
                  </a:lnTo>
                  <a:lnTo>
                    <a:pt x="318" y="130"/>
                  </a:lnTo>
                  <a:lnTo>
                    <a:pt x="243" y="139"/>
                  </a:lnTo>
                  <a:lnTo>
                    <a:pt x="209" y="143"/>
                  </a:lnTo>
                  <a:lnTo>
                    <a:pt x="177" y="150"/>
                  </a:lnTo>
                  <a:lnTo>
                    <a:pt x="147" y="156"/>
                  </a:lnTo>
                  <a:lnTo>
                    <a:pt x="120" y="164"/>
                  </a:lnTo>
                  <a:lnTo>
                    <a:pt x="96" y="172"/>
                  </a:lnTo>
                  <a:lnTo>
                    <a:pt x="75" y="181"/>
                  </a:lnTo>
                  <a:lnTo>
                    <a:pt x="66" y="187"/>
                  </a:lnTo>
                  <a:lnTo>
                    <a:pt x="58" y="191"/>
                  </a:lnTo>
                  <a:lnTo>
                    <a:pt x="50" y="197"/>
                  </a:lnTo>
                  <a:lnTo>
                    <a:pt x="45" y="203"/>
                  </a:lnTo>
                  <a:lnTo>
                    <a:pt x="163" y="275"/>
                  </a:lnTo>
                  <a:lnTo>
                    <a:pt x="45" y="203"/>
                  </a:lnTo>
                  <a:lnTo>
                    <a:pt x="0" y="283"/>
                  </a:lnTo>
                  <a:lnTo>
                    <a:pt x="163" y="275"/>
                  </a:lnTo>
                  <a:lnTo>
                    <a:pt x="47" y="20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5013360" y="3649680"/>
              <a:ext cx="460440" cy="47520"/>
            </a:xfrm>
            <a:custGeom>
              <a:avLst/>
              <a:gdLst/>
              <a:ahLst/>
              <a:rect l="l" t="t" r="r" b="b"/>
              <a:pathLst>
                <a:path w="1448" h="148">
                  <a:moveTo>
                    <a:pt x="1327" y="33"/>
                  </a:moveTo>
                  <a:lnTo>
                    <a:pt x="1328" y="32"/>
                  </a:lnTo>
                  <a:lnTo>
                    <a:pt x="1272" y="43"/>
                  </a:lnTo>
                  <a:lnTo>
                    <a:pt x="1216" y="52"/>
                  </a:lnTo>
                  <a:lnTo>
                    <a:pt x="1161" y="59"/>
                  </a:lnTo>
                  <a:lnTo>
                    <a:pt x="1109" y="64"/>
                  </a:lnTo>
                  <a:lnTo>
                    <a:pt x="1057" y="69"/>
                  </a:lnTo>
                  <a:lnTo>
                    <a:pt x="1005" y="72"/>
                  </a:lnTo>
                  <a:lnTo>
                    <a:pt x="955" y="75"/>
                  </a:lnTo>
                  <a:lnTo>
                    <a:pt x="906" y="75"/>
                  </a:lnTo>
                  <a:lnTo>
                    <a:pt x="857" y="75"/>
                  </a:lnTo>
                  <a:lnTo>
                    <a:pt x="810" y="73"/>
                  </a:lnTo>
                  <a:lnTo>
                    <a:pt x="764" y="72"/>
                  </a:lnTo>
                  <a:lnTo>
                    <a:pt x="719" y="69"/>
                  </a:lnTo>
                  <a:lnTo>
                    <a:pt x="674" y="65"/>
                  </a:lnTo>
                  <a:lnTo>
                    <a:pt x="630" y="62"/>
                  </a:lnTo>
                  <a:lnTo>
                    <a:pt x="588" y="57"/>
                  </a:lnTo>
                  <a:lnTo>
                    <a:pt x="547" y="53"/>
                  </a:lnTo>
                  <a:lnTo>
                    <a:pt x="389" y="32"/>
                  </a:lnTo>
                  <a:lnTo>
                    <a:pt x="246" y="14"/>
                  </a:lnTo>
                  <a:lnTo>
                    <a:pt x="179" y="6"/>
                  </a:lnTo>
                  <a:lnTo>
                    <a:pt x="116" y="2"/>
                  </a:lnTo>
                  <a:lnTo>
                    <a:pt x="85" y="0"/>
                  </a:lnTo>
                  <a:lnTo>
                    <a:pt x="56" y="0"/>
                  </a:lnTo>
                  <a:lnTo>
                    <a:pt x="27" y="2"/>
                  </a:lnTo>
                  <a:lnTo>
                    <a:pt x="0" y="4"/>
                  </a:lnTo>
                  <a:lnTo>
                    <a:pt x="116" y="76"/>
                  </a:lnTo>
                  <a:lnTo>
                    <a:pt x="142" y="73"/>
                  </a:lnTo>
                  <a:lnTo>
                    <a:pt x="171" y="73"/>
                  </a:lnTo>
                  <a:lnTo>
                    <a:pt x="199" y="73"/>
                  </a:lnTo>
                  <a:lnTo>
                    <a:pt x="229" y="75"/>
                  </a:lnTo>
                  <a:lnTo>
                    <a:pt x="291" y="79"/>
                  </a:lnTo>
                  <a:lnTo>
                    <a:pt x="357" y="86"/>
                  </a:lnTo>
                  <a:lnTo>
                    <a:pt x="499" y="104"/>
                  </a:lnTo>
                  <a:lnTo>
                    <a:pt x="658" y="125"/>
                  </a:lnTo>
                  <a:lnTo>
                    <a:pt x="700" y="130"/>
                  </a:lnTo>
                  <a:lnTo>
                    <a:pt x="742" y="134"/>
                  </a:lnTo>
                  <a:lnTo>
                    <a:pt x="786" y="138"/>
                  </a:lnTo>
                  <a:lnTo>
                    <a:pt x="831" y="142"/>
                  </a:lnTo>
                  <a:lnTo>
                    <a:pt x="876" y="144"/>
                  </a:lnTo>
                  <a:lnTo>
                    <a:pt x="924" y="146"/>
                  </a:lnTo>
                  <a:lnTo>
                    <a:pt x="971" y="148"/>
                  </a:lnTo>
                  <a:lnTo>
                    <a:pt x="1020" y="148"/>
                  </a:lnTo>
                  <a:lnTo>
                    <a:pt x="1070" y="146"/>
                  </a:lnTo>
                  <a:lnTo>
                    <a:pt x="1120" y="144"/>
                  </a:lnTo>
                  <a:lnTo>
                    <a:pt x="1172" y="141"/>
                  </a:lnTo>
                  <a:lnTo>
                    <a:pt x="1225" y="137"/>
                  </a:lnTo>
                  <a:lnTo>
                    <a:pt x="1279" y="132"/>
                  </a:lnTo>
                  <a:lnTo>
                    <a:pt x="1334" y="124"/>
                  </a:lnTo>
                  <a:lnTo>
                    <a:pt x="1388" y="114"/>
                  </a:lnTo>
                  <a:lnTo>
                    <a:pt x="1445" y="104"/>
                  </a:lnTo>
                  <a:lnTo>
                    <a:pt x="1448" y="103"/>
                  </a:lnTo>
                  <a:lnTo>
                    <a:pt x="1445" y="104"/>
                  </a:lnTo>
                  <a:lnTo>
                    <a:pt x="1446" y="104"/>
                  </a:lnTo>
                  <a:lnTo>
                    <a:pt x="1448" y="103"/>
                  </a:lnTo>
                  <a:lnTo>
                    <a:pt x="1327" y="3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5435640" y="3622680"/>
              <a:ext cx="284040" cy="60480"/>
            </a:xfrm>
            <a:custGeom>
              <a:avLst/>
              <a:gdLst/>
              <a:ahLst/>
              <a:rect l="l" t="t" r="r" b="b"/>
              <a:pathLst>
                <a:path w="896" h="187">
                  <a:moveTo>
                    <a:pt x="769" y="73"/>
                  </a:moveTo>
                  <a:lnTo>
                    <a:pt x="653" y="0"/>
                  </a:lnTo>
                  <a:lnTo>
                    <a:pt x="611" y="7"/>
                  </a:lnTo>
                  <a:lnTo>
                    <a:pt x="566" y="14"/>
                  </a:lnTo>
                  <a:lnTo>
                    <a:pt x="520" y="19"/>
                  </a:lnTo>
                  <a:lnTo>
                    <a:pt x="471" y="24"/>
                  </a:lnTo>
                  <a:lnTo>
                    <a:pt x="373" y="34"/>
                  </a:lnTo>
                  <a:lnTo>
                    <a:pt x="276" y="44"/>
                  </a:lnTo>
                  <a:lnTo>
                    <a:pt x="229" y="50"/>
                  </a:lnTo>
                  <a:lnTo>
                    <a:pt x="186" y="57"/>
                  </a:lnTo>
                  <a:lnTo>
                    <a:pt x="143" y="64"/>
                  </a:lnTo>
                  <a:lnTo>
                    <a:pt x="106" y="72"/>
                  </a:lnTo>
                  <a:lnTo>
                    <a:pt x="88" y="76"/>
                  </a:lnTo>
                  <a:lnTo>
                    <a:pt x="72" y="81"/>
                  </a:lnTo>
                  <a:lnTo>
                    <a:pt x="57" y="87"/>
                  </a:lnTo>
                  <a:lnTo>
                    <a:pt x="42" y="91"/>
                  </a:lnTo>
                  <a:lnTo>
                    <a:pt x="29" y="98"/>
                  </a:lnTo>
                  <a:lnTo>
                    <a:pt x="18" y="104"/>
                  </a:lnTo>
                  <a:lnTo>
                    <a:pt x="8" y="111"/>
                  </a:lnTo>
                  <a:lnTo>
                    <a:pt x="0" y="117"/>
                  </a:lnTo>
                  <a:lnTo>
                    <a:pt x="121" y="187"/>
                  </a:lnTo>
                  <a:lnTo>
                    <a:pt x="129" y="181"/>
                  </a:lnTo>
                  <a:lnTo>
                    <a:pt x="138" y="174"/>
                  </a:lnTo>
                  <a:lnTo>
                    <a:pt x="149" y="169"/>
                  </a:lnTo>
                  <a:lnTo>
                    <a:pt x="162" y="163"/>
                  </a:lnTo>
                  <a:lnTo>
                    <a:pt x="175" y="157"/>
                  </a:lnTo>
                  <a:lnTo>
                    <a:pt x="190" y="153"/>
                  </a:lnTo>
                  <a:lnTo>
                    <a:pt x="206" y="148"/>
                  </a:lnTo>
                  <a:lnTo>
                    <a:pt x="223" y="144"/>
                  </a:lnTo>
                  <a:lnTo>
                    <a:pt x="261" y="136"/>
                  </a:lnTo>
                  <a:lnTo>
                    <a:pt x="302" y="129"/>
                  </a:lnTo>
                  <a:lnTo>
                    <a:pt x="346" y="123"/>
                  </a:lnTo>
                  <a:lnTo>
                    <a:pt x="392" y="116"/>
                  </a:lnTo>
                  <a:lnTo>
                    <a:pt x="489" y="106"/>
                  </a:lnTo>
                  <a:lnTo>
                    <a:pt x="587" y="97"/>
                  </a:lnTo>
                  <a:lnTo>
                    <a:pt x="636" y="91"/>
                  </a:lnTo>
                  <a:lnTo>
                    <a:pt x="683" y="86"/>
                  </a:lnTo>
                  <a:lnTo>
                    <a:pt x="727" y="80"/>
                  </a:lnTo>
                  <a:lnTo>
                    <a:pt x="770" y="73"/>
                  </a:lnTo>
                  <a:lnTo>
                    <a:pt x="654" y="0"/>
                  </a:lnTo>
                  <a:lnTo>
                    <a:pt x="770" y="73"/>
                  </a:lnTo>
                  <a:lnTo>
                    <a:pt x="896" y="39"/>
                  </a:lnTo>
                  <a:lnTo>
                    <a:pt x="654" y="0"/>
                  </a:lnTo>
                  <a:lnTo>
                    <a:pt x="769" y="7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3780000" y="3843360"/>
              <a:ext cx="628560" cy="90360"/>
            </a:xfrm>
            <a:custGeom>
              <a:avLst/>
              <a:gdLst/>
              <a:ahLst/>
              <a:rect l="l" t="t" r="r" b="b"/>
              <a:pathLst>
                <a:path w="1980" h="284">
                  <a:moveTo>
                    <a:pt x="0" y="125"/>
                  </a:moveTo>
                  <a:lnTo>
                    <a:pt x="55" y="127"/>
                  </a:lnTo>
                  <a:lnTo>
                    <a:pt x="108" y="127"/>
                  </a:lnTo>
                  <a:lnTo>
                    <a:pt x="157" y="127"/>
                  </a:lnTo>
                  <a:lnTo>
                    <a:pt x="204" y="124"/>
                  </a:lnTo>
                  <a:lnTo>
                    <a:pt x="246" y="122"/>
                  </a:lnTo>
                  <a:lnTo>
                    <a:pt x="285" y="119"/>
                  </a:lnTo>
                  <a:lnTo>
                    <a:pt x="322" y="114"/>
                  </a:lnTo>
                  <a:lnTo>
                    <a:pt x="355" y="108"/>
                  </a:lnTo>
                  <a:lnTo>
                    <a:pt x="387" y="104"/>
                  </a:lnTo>
                  <a:lnTo>
                    <a:pt x="417" y="97"/>
                  </a:lnTo>
                  <a:lnTo>
                    <a:pt x="443" y="91"/>
                  </a:lnTo>
                  <a:lnTo>
                    <a:pt x="469" y="84"/>
                  </a:lnTo>
                  <a:lnTo>
                    <a:pt x="515" y="69"/>
                  </a:lnTo>
                  <a:lnTo>
                    <a:pt x="555" y="56"/>
                  </a:lnTo>
                  <a:lnTo>
                    <a:pt x="590" y="41"/>
                  </a:lnTo>
                  <a:lnTo>
                    <a:pt x="624" y="28"/>
                  </a:lnTo>
                  <a:lnTo>
                    <a:pt x="640" y="23"/>
                  </a:lnTo>
                  <a:lnTo>
                    <a:pt x="657" y="17"/>
                  </a:lnTo>
                  <a:lnTo>
                    <a:pt x="673" y="12"/>
                  </a:lnTo>
                  <a:lnTo>
                    <a:pt x="690" y="8"/>
                  </a:lnTo>
                  <a:lnTo>
                    <a:pt x="707" y="4"/>
                  </a:lnTo>
                  <a:lnTo>
                    <a:pt x="726" y="2"/>
                  </a:lnTo>
                  <a:lnTo>
                    <a:pt x="744" y="1"/>
                  </a:lnTo>
                  <a:lnTo>
                    <a:pt x="764" y="0"/>
                  </a:lnTo>
                  <a:lnTo>
                    <a:pt x="785" y="0"/>
                  </a:lnTo>
                  <a:lnTo>
                    <a:pt x="808" y="2"/>
                  </a:lnTo>
                  <a:lnTo>
                    <a:pt x="832" y="4"/>
                  </a:lnTo>
                  <a:lnTo>
                    <a:pt x="858" y="9"/>
                  </a:lnTo>
                  <a:lnTo>
                    <a:pt x="880" y="23"/>
                  </a:lnTo>
                  <a:lnTo>
                    <a:pt x="905" y="34"/>
                  </a:lnTo>
                  <a:lnTo>
                    <a:pt x="932" y="46"/>
                  </a:lnTo>
                  <a:lnTo>
                    <a:pt x="963" y="55"/>
                  </a:lnTo>
                  <a:lnTo>
                    <a:pt x="996" y="64"/>
                  </a:lnTo>
                  <a:lnTo>
                    <a:pt x="1031" y="72"/>
                  </a:lnTo>
                  <a:lnTo>
                    <a:pt x="1068" y="79"/>
                  </a:lnTo>
                  <a:lnTo>
                    <a:pt x="1106" y="85"/>
                  </a:lnTo>
                  <a:lnTo>
                    <a:pt x="1148" y="91"/>
                  </a:lnTo>
                  <a:lnTo>
                    <a:pt x="1189" y="97"/>
                  </a:lnTo>
                  <a:lnTo>
                    <a:pt x="1231" y="101"/>
                  </a:lnTo>
                  <a:lnTo>
                    <a:pt x="1275" y="105"/>
                  </a:lnTo>
                  <a:lnTo>
                    <a:pt x="1364" y="113"/>
                  </a:lnTo>
                  <a:lnTo>
                    <a:pt x="1453" y="119"/>
                  </a:lnTo>
                  <a:lnTo>
                    <a:pt x="1542" y="125"/>
                  </a:lnTo>
                  <a:lnTo>
                    <a:pt x="1627" y="131"/>
                  </a:lnTo>
                  <a:lnTo>
                    <a:pt x="1708" y="139"/>
                  </a:lnTo>
                  <a:lnTo>
                    <a:pt x="1783" y="148"/>
                  </a:lnTo>
                  <a:lnTo>
                    <a:pt x="1817" y="154"/>
                  </a:lnTo>
                  <a:lnTo>
                    <a:pt x="1849" y="160"/>
                  </a:lnTo>
                  <a:lnTo>
                    <a:pt x="1878" y="166"/>
                  </a:lnTo>
                  <a:lnTo>
                    <a:pt x="1906" y="173"/>
                  </a:lnTo>
                  <a:lnTo>
                    <a:pt x="1928" y="181"/>
                  </a:lnTo>
                  <a:lnTo>
                    <a:pt x="1949" y="190"/>
                  </a:lnTo>
                  <a:lnTo>
                    <a:pt x="1966" y="201"/>
                  </a:lnTo>
                  <a:lnTo>
                    <a:pt x="1980" y="212"/>
                  </a:lnTo>
                  <a:lnTo>
                    <a:pt x="1952" y="210"/>
                  </a:lnTo>
                  <a:lnTo>
                    <a:pt x="1924" y="210"/>
                  </a:lnTo>
                  <a:lnTo>
                    <a:pt x="1895" y="210"/>
                  </a:lnTo>
                  <a:lnTo>
                    <a:pt x="1866" y="211"/>
                  </a:lnTo>
                  <a:lnTo>
                    <a:pt x="1803" y="216"/>
                  </a:lnTo>
                  <a:lnTo>
                    <a:pt x="1737" y="222"/>
                  </a:lnTo>
                  <a:lnTo>
                    <a:pt x="1593" y="242"/>
                  </a:lnTo>
                  <a:lnTo>
                    <a:pt x="1436" y="262"/>
                  </a:lnTo>
                  <a:lnTo>
                    <a:pt x="1350" y="271"/>
                  </a:lnTo>
                  <a:lnTo>
                    <a:pt x="1263" y="278"/>
                  </a:lnTo>
                  <a:lnTo>
                    <a:pt x="1217" y="281"/>
                  </a:lnTo>
                  <a:lnTo>
                    <a:pt x="1170" y="283"/>
                  </a:lnTo>
                  <a:lnTo>
                    <a:pt x="1122" y="284"/>
                  </a:lnTo>
                  <a:lnTo>
                    <a:pt x="1075" y="284"/>
                  </a:lnTo>
                  <a:lnTo>
                    <a:pt x="1024" y="283"/>
                  </a:lnTo>
                  <a:lnTo>
                    <a:pt x="974" y="281"/>
                  </a:lnTo>
                  <a:lnTo>
                    <a:pt x="923" y="278"/>
                  </a:lnTo>
                  <a:lnTo>
                    <a:pt x="871" y="274"/>
                  </a:lnTo>
                  <a:lnTo>
                    <a:pt x="817" y="268"/>
                  </a:lnTo>
                  <a:lnTo>
                    <a:pt x="762" y="260"/>
                  </a:lnTo>
                  <a:lnTo>
                    <a:pt x="707" y="252"/>
                  </a:lnTo>
                  <a:lnTo>
                    <a:pt x="650" y="241"/>
                  </a:lnTo>
                  <a:lnTo>
                    <a:pt x="643" y="234"/>
                  </a:lnTo>
                  <a:lnTo>
                    <a:pt x="632" y="228"/>
                  </a:lnTo>
                  <a:lnTo>
                    <a:pt x="621" y="222"/>
                  </a:lnTo>
                  <a:lnTo>
                    <a:pt x="608" y="217"/>
                  </a:lnTo>
                  <a:lnTo>
                    <a:pt x="595" y="211"/>
                  </a:lnTo>
                  <a:lnTo>
                    <a:pt x="580" y="206"/>
                  </a:lnTo>
                  <a:lnTo>
                    <a:pt x="563" y="201"/>
                  </a:lnTo>
                  <a:lnTo>
                    <a:pt x="546" y="197"/>
                  </a:lnTo>
                  <a:lnTo>
                    <a:pt x="508" y="189"/>
                  </a:lnTo>
                  <a:lnTo>
                    <a:pt x="467" y="181"/>
                  </a:lnTo>
                  <a:lnTo>
                    <a:pt x="422" y="176"/>
                  </a:lnTo>
                  <a:lnTo>
                    <a:pt x="377" y="170"/>
                  </a:lnTo>
                  <a:lnTo>
                    <a:pt x="280" y="160"/>
                  </a:lnTo>
                  <a:lnTo>
                    <a:pt x="182" y="149"/>
                  </a:lnTo>
                  <a:lnTo>
                    <a:pt x="133" y="144"/>
                  </a:lnTo>
                  <a:lnTo>
                    <a:pt x="86" y="138"/>
                  </a:lnTo>
                  <a:lnTo>
                    <a:pt x="42" y="132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3762360" y="3832200"/>
              <a:ext cx="306360" cy="63360"/>
            </a:xfrm>
            <a:custGeom>
              <a:avLst/>
              <a:gdLst/>
              <a:ahLst/>
              <a:rect l="l" t="t" r="r" b="b"/>
              <a:pathLst>
                <a:path w="969" h="200">
                  <a:moveTo>
                    <a:pt x="948" y="54"/>
                  </a:moveTo>
                  <a:lnTo>
                    <a:pt x="861" y="11"/>
                  </a:lnTo>
                  <a:lnTo>
                    <a:pt x="834" y="6"/>
                  </a:lnTo>
                  <a:lnTo>
                    <a:pt x="809" y="3"/>
                  </a:lnTo>
                  <a:lnTo>
                    <a:pt x="786" y="2"/>
                  </a:lnTo>
                  <a:lnTo>
                    <a:pt x="764" y="0"/>
                  </a:lnTo>
                  <a:lnTo>
                    <a:pt x="744" y="2"/>
                  </a:lnTo>
                  <a:lnTo>
                    <a:pt x="725" y="3"/>
                  </a:lnTo>
                  <a:lnTo>
                    <a:pt x="706" y="6"/>
                  </a:lnTo>
                  <a:lnTo>
                    <a:pt x="688" y="10"/>
                  </a:lnTo>
                  <a:lnTo>
                    <a:pt x="671" y="13"/>
                  </a:lnTo>
                  <a:lnTo>
                    <a:pt x="655" y="19"/>
                  </a:lnTo>
                  <a:lnTo>
                    <a:pt x="638" y="23"/>
                  </a:lnTo>
                  <a:lnTo>
                    <a:pt x="622" y="30"/>
                  </a:lnTo>
                  <a:lnTo>
                    <a:pt x="588" y="43"/>
                  </a:lnTo>
                  <a:lnTo>
                    <a:pt x="552" y="56"/>
                  </a:lnTo>
                  <a:lnTo>
                    <a:pt x="513" y="71"/>
                  </a:lnTo>
                  <a:lnTo>
                    <a:pt x="467" y="85"/>
                  </a:lnTo>
                  <a:lnTo>
                    <a:pt x="442" y="92"/>
                  </a:lnTo>
                  <a:lnTo>
                    <a:pt x="415" y="98"/>
                  </a:lnTo>
                  <a:lnTo>
                    <a:pt x="385" y="104"/>
                  </a:lnTo>
                  <a:lnTo>
                    <a:pt x="354" y="110"/>
                  </a:lnTo>
                  <a:lnTo>
                    <a:pt x="320" y="114"/>
                  </a:lnTo>
                  <a:lnTo>
                    <a:pt x="283" y="119"/>
                  </a:lnTo>
                  <a:lnTo>
                    <a:pt x="245" y="122"/>
                  </a:lnTo>
                  <a:lnTo>
                    <a:pt x="202" y="125"/>
                  </a:lnTo>
                  <a:lnTo>
                    <a:pt x="157" y="127"/>
                  </a:lnTo>
                  <a:lnTo>
                    <a:pt x="108" y="128"/>
                  </a:lnTo>
                  <a:lnTo>
                    <a:pt x="55" y="127"/>
                  </a:lnTo>
                  <a:lnTo>
                    <a:pt x="0" y="126"/>
                  </a:lnTo>
                  <a:lnTo>
                    <a:pt x="114" y="198"/>
                  </a:lnTo>
                  <a:lnTo>
                    <a:pt x="169" y="200"/>
                  </a:lnTo>
                  <a:lnTo>
                    <a:pt x="223" y="200"/>
                  </a:lnTo>
                  <a:lnTo>
                    <a:pt x="272" y="199"/>
                  </a:lnTo>
                  <a:lnTo>
                    <a:pt x="318" y="198"/>
                  </a:lnTo>
                  <a:lnTo>
                    <a:pt x="361" y="194"/>
                  </a:lnTo>
                  <a:lnTo>
                    <a:pt x="400" y="191"/>
                  </a:lnTo>
                  <a:lnTo>
                    <a:pt x="437" y="186"/>
                  </a:lnTo>
                  <a:lnTo>
                    <a:pt x="472" y="182"/>
                  </a:lnTo>
                  <a:lnTo>
                    <a:pt x="503" y="176"/>
                  </a:lnTo>
                  <a:lnTo>
                    <a:pt x="532" y="170"/>
                  </a:lnTo>
                  <a:lnTo>
                    <a:pt x="559" y="164"/>
                  </a:lnTo>
                  <a:lnTo>
                    <a:pt x="586" y="157"/>
                  </a:lnTo>
                  <a:lnTo>
                    <a:pt x="631" y="143"/>
                  </a:lnTo>
                  <a:lnTo>
                    <a:pt x="671" y="128"/>
                  </a:lnTo>
                  <a:lnTo>
                    <a:pt x="707" y="114"/>
                  </a:lnTo>
                  <a:lnTo>
                    <a:pt x="741" y="101"/>
                  </a:lnTo>
                  <a:lnTo>
                    <a:pt x="757" y="95"/>
                  </a:lnTo>
                  <a:lnTo>
                    <a:pt x="774" y="89"/>
                  </a:lnTo>
                  <a:lnTo>
                    <a:pt x="790" y="85"/>
                  </a:lnTo>
                  <a:lnTo>
                    <a:pt x="807" y="81"/>
                  </a:lnTo>
                  <a:lnTo>
                    <a:pt x="823" y="78"/>
                  </a:lnTo>
                  <a:lnTo>
                    <a:pt x="841" y="76"/>
                  </a:lnTo>
                  <a:lnTo>
                    <a:pt x="859" y="73"/>
                  </a:lnTo>
                  <a:lnTo>
                    <a:pt x="878" y="73"/>
                  </a:lnTo>
                  <a:lnTo>
                    <a:pt x="899" y="73"/>
                  </a:lnTo>
                  <a:lnTo>
                    <a:pt x="921" y="76"/>
                  </a:lnTo>
                  <a:lnTo>
                    <a:pt x="943" y="78"/>
                  </a:lnTo>
                  <a:lnTo>
                    <a:pt x="969" y="81"/>
                  </a:lnTo>
                  <a:lnTo>
                    <a:pt x="883" y="38"/>
                  </a:lnTo>
                  <a:lnTo>
                    <a:pt x="948" y="54"/>
                  </a:lnTo>
                  <a:lnTo>
                    <a:pt x="892" y="16"/>
                  </a:lnTo>
                  <a:lnTo>
                    <a:pt x="861" y="11"/>
                  </a:lnTo>
                  <a:lnTo>
                    <a:pt x="948" y="5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4041720" y="3844800"/>
              <a:ext cx="387360" cy="77760"/>
            </a:xfrm>
            <a:custGeom>
              <a:avLst/>
              <a:gdLst/>
              <a:ahLst/>
              <a:rect l="l" t="t" r="r" b="b"/>
              <a:pathLst>
                <a:path w="1220" h="248">
                  <a:moveTo>
                    <a:pt x="1210" y="248"/>
                  </a:moveTo>
                  <a:lnTo>
                    <a:pt x="1210" y="237"/>
                  </a:lnTo>
                  <a:lnTo>
                    <a:pt x="1196" y="225"/>
                  </a:lnTo>
                  <a:lnTo>
                    <a:pt x="1174" y="209"/>
                  </a:lnTo>
                  <a:lnTo>
                    <a:pt x="1142" y="188"/>
                  </a:lnTo>
                  <a:lnTo>
                    <a:pt x="1101" y="165"/>
                  </a:lnTo>
                  <a:lnTo>
                    <a:pt x="1064" y="149"/>
                  </a:lnTo>
                  <a:lnTo>
                    <a:pt x="1032" y="138"/>
                  </a:lnTo>
                  <a:lnTo>
                    <a:pt x="1001" y="130"/>
                  </a:lnTo>
                  <a:lnTo>
                    <a:pt x="970" y="123"/>
                  </a:lnTo>
                  <a:lnTo>
                    <a:pt x="937" y="116"/>
                  </a:lnTo>
                  <a:lnTo>
                    <a:pt x="902" y="111"/>
                  </a:lnTo>
                  <a:lnTo>
                    <a:pt x="827" y="103"/>
                  </a:lnTo>
                  <a:lnTo>
                    <a:pt x="746" y="95"/>
                  </a:lnTo>
                  <a:lnTo>
                    <a:pt x="660" y="88"/>
                  </a:lnTo>
                  <a:lnTo>
                    <a:pt x="571" y="82"/>
                  </a:lnTo>
                  <a:lnTo>
                    <a:pt x="481" y="75"/>
                  </a:lnTo>
                  <a:lnTo>
                    <a:pt x="393" y="68"/>
                  </a:lnTo>
                  <a:lnTo>
                    <a:pt x="350" y="64"/>
                  </a:lnTo>
                  <a:lnTo>
                    <a:pt x="307" y="59"/>
                  </a:lnTo>
                  <a:lnTo>
                    <a:pt x="266" y="55"/>
                  </a:lnTo>
                  <a:lnTo>
                    <a:pt x="226" y="49"/>
                  </a:lnTo>
                  <a:lnTo>
                    <a:pt x="188" y="42"/>
                  </a:lnTo>
                  <a:lnTo>
                    <a:pt x="152" y="35"/>
                  </a:lnTo>
                  <a:lnTo>
                    <a:pt x="119" y="27"/>
                  </a:lnTo>
                  <a:lnTo>
                    <a:pt x="88" y="19"/>
                  </a:lnTo>
                  <a:lnTo>
                    <a:pt x="63" y="11"/>
                  </a:lnTo>
                  <a:lnTo>
                    <a:pt x="42" y="3"/>
                  </a:lnTo>
                  <a:lnTo>
                    <a:pt x="43" y="3"/>
                  </a:lnTo>
                  <a:lnTo>
                    <a:pt x="48" y="6"/>
                  </a:lnTo>
                  <a:lnTo>
                    <a:pt x="57" y="11"/>
                  </a:lnTo>
                  <a:lnTo>
                    <a:pt x="65" y="16"/>
                  </a:lnTo>
                  <a:lnTo>
                    <a:pt x="0" y="0"/>
                  </a:lnTo>
                  <a:lnTo>
                    <a:pt x="27" y="18"/>
                  </a:lnTo>
                  <a:lnTo>
                    <a:pt x="59" y="37"/>
                  </a:lnTo>
                  <a:lnTo>
                    <a:pt x="89" y="51"/>
                  </a:lnTo>
                  <a:lnTo>
                    <a:pt x="115" y="64"/>
                  </a:lnTo>
                  <a:lnTo>
                    <a:pt x="151" y="78"/>
                  </a:lnTo>
                  <a:lnTo>
                    <a:pt x="186" y="89"/>
                  </a:lnTo>
                  <a:lnTo>
                    <a:pt x="221" y="98"/>
                  </a:lnTo>
                  <a:lnTo>
                    <a:pt x="258" y="106"/>
                  </a:lnTo>
                  <a:lnTo>
                    <a:pt x="295" y="114"/>
                  </a:lnTo>
                  <a:lnTo>
                    <a:pt x="335" y="120"/>
                  </a:lnTo>
                  <a:lnTo>
                    <a:pt x="376" y="126"/>
                  </a:lnTo>
                  <a:lnTo>
                    <a:pt x="418" y="131"/>
                  </a:lnTo>
                  <a:lnTo>
                    <a:pt x="461" y="136"/>
                  </a:lnTo>
                  <a:lnTo>
                    <a:pt x="505" y="140"/>
                  </a:lnTo>
                  <a:lnTo>
                    <a:pt x="594" y="147"/>
                  </a:lnTo>
                  <a:lnTo>
                    <a:pt x="684" y="154"/>
                  </a:lnTo>
                  <a:lnTo>
                    <a:pt x="772" y="160"/>
                  </a:lnTo>
                  <a:lnTo>
                    <a:pt x="857" y="167"/>
                  </a:lnTo>
                  <a:lnTo>
                    <a:pt x="938" y="175"/>
                  </a:lnTo>
                  <a:lnTo>
                    <a:pt x="1012" y="183"/>
                  </a:lnTo>
                  <a:lnTo>
                    <a:pt x="1045" y="188"/>
                  </a:lnTo>
                  <a:lnTo>
                    <a:pt x="1076" y="194"/>
                  </a:lnTo>
                  <a:lnTo>
                    <a:pt x="1104" y="200"/>
                  </a:lnTo>
                  <a:lnTo>
                    <a:pt x="1126" y="207"/>
                  </a:lnTo>
                  <a:lnTo>
                    <a:pt x="1142" y="212"/>
                  </a:lnTo>
                  <a:lnTo>
                    <a:pt x="1146" y="213"/>
                  </a:lnTo>
                  <a:lnTo>
                    <a:pt x="1122" y="201"/>
                  </a:lnTo>
                  <a:lnTo>
                    <a:pt x="1107" y="192"/>
                  </a:lnTo>
                  <a:lnTo>
                    <a:pt x="1099" y="186"/>
                  </a:lnTo>
                  <a:lnTo>
                    <a:pt x="1098" y="185"/>
                  </a:lnTo>
                  <a:lnTo>
                    <a:pt x="1098" y="175"/>
                  </a:lnTo>
                  <a:lnTo>
                    <a:pt x="1210" y="248"/>
                  </a:lnTo>
                  <a:lnTo>
                    <a:pt x="1220" y="248"/>
                  </a:lnTo>
                  <a:lnTo>
                    <a:pt x="1210" y="237"/>
                  </a:lnTo>
                  <a:lnTo>
                    <a:pt x="1210" y="24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3968640" y="3898800"/>
              <a:ext cx="457200" cy="46080"/>
            </a:xfrm>
            <a:custGeom>
              <a:avLst/>
              <a:gdLst/>
              <a:ahLst/>
              <a:rect l="l" t="t" r="r" b="b"/>
              <a:pathLst>
                <a:path w="1439" h="146">
                  <a:moveTo>
                    <a:pt x="0" y="44"/>
                  </a:moveTo>
                  <a:lnTo>
                    <a:pt x="107" y="104"/>
                  </a:lnTo>
                  <a:lnTo>
                    <a:pt x="164" y="114"/>
                  </a:lnTo>
                  <a:lnTo>
                    <a:pt x="220" y="124"/>
                  </a:lnTo>
                  <a:lnTo>
                    <a:pt x="276" y="130"/>
                  </a:lnTo>
                  <a:lnTo>
                    <a:pt x="329" y="136"/>
                  </a:lnTo>
                  <a:lnTo>
                    <a:pt x="382" y="141"/>
                  </a:lnTo>
                  <a:lnTo>
                    <a:pt x="434" y="144"/>
                  </a:lnTo>
                  <a:lnTo>
                    <a:pt x="484" y="146"/>
                  </a:lnTo>
                  <a:lnTo>
                    <a:pt x="535" y="146"/>
                  </a:lnTo>
                  <a:lnTo>
                    <a:pt x="584" y="146"/>
                  </a:lnTo>
                  <a:lnTo>
                    <a:pt x="631" y="145"/>
                  </a:lnTo>
                  <a:lnTo>
                    <a:pt x="678" y="144"/>
                  </a:lnTo>
                  <a:lnTo>
                    <a:pt x="724" y="141"/>
                  </a:lnTo>
                  <a:lnTo>
                    <a:pt x="812" y="134"/>
                  </a:lnTo>
                  <a:lnTo>
                    <a:pt x="897" y="125"/>
                  </a:lnTo>
                  <a:lnTo>
                    <a:pt x="1054" y="104"/>
                  </a:lnTo>
                  <a:lnTo>
                    <a:pt x="1198" y="86"/>
                  </a:lnTo>
                  <a:lnTo>
                    <a:pt x="1264" y="78"/>
                  </a:lnTo>
                  <a:lnTo>
                    <a:pt x="1326" y="73"/>
                  </a:lnTo>
                  <a:lnTo>
                    <a:pt x="1355" y="72"/>
                  </a:lnTo>
                  <a:lnTo>
                    <a:pt x="1384" y="72"/>
                  </a:lnTo>
                  <a:lnTo>
                    <a:pt x="1412" y="73"/>
                  </a:lnTo>
                  <a:lnTo>
                    <a:pt x="1439" y="76"/>
                  </a:lnTo>
                  <a:lnTo>
                    <a:pt x="1327" y="3"/>
                  </a:lnTo>
                  <a:lnTo>
                    <a:pt x="1300" y="1"/>
                  </a:lnTo>
                  <a:lnTo>
                    <a:pt x="1270" y="0"/>
                  </a:lnTo>
                  <a:lnTo>
                    <a:pt x="1240" y="0"/>
                  </a:lnTo>
                  <a:lnTo>
                    <a:pt x="1211" y="1"/>
                  </a:lnTo>
                  <a:lnTo>
                    <a:pt x="1148" y="6"/>
                  </a:lnTo>
                  <a:lnTo>
                    <a:pt x="1081" y="13"/>
                  </a:lnTo>
                  <a:lnTo>
                    <a:pt x="938" y="32"/>
                  </a:lnTo>
                  <a:lnTo>
                    <a:pt x="780" y="53"/>
                  </a:lnTo>
                  <a:lnTo>
                    <a:pt x="695" y="62"/>
                  </a:lnTo>
                  <a:lnTo>
                    <a:pt x="608" y="69"/>
                  </a:lnTo>
                  <a:lnTo>
                    <a:pt x="562" y="71"/>
                  </a:lnTo>
                  <a:lnTo>
                    <a:pt x="516" y="73"/>
                  </a:lnTo>
                  <a:lnTo>
                    <a:pt x="468" y="74"/>
                  </a:lnTo>
                  <a:lnTo>
                    <a:pt x="421" y="74"/>
                  </a:lnTo>
                  <a:lnTo>
                    <a:pt x="372" y="73"/>
                  </a:lnTo>
                  <a:lnTo>
                    <a:pt x="321" y="72"/>
                  </a:lnTo>
                  <a:lnTo>
                    <a:pt x="270" y="69"/>
                  </a:lnTo>
                  <a:lnTo>
                    <a:pt x="218" y="64"/>
                  </a:lnTo>
                  <a:lnTo>
                    <a:pt x="165" y="58"/>
                  </a:lnTo>
                  <a:lnTo>
                    <a:pt x="110" y="52"/>
                  </a:lnTo>
                  <a:lnTo>
                    <a:pt x="56" y="43"/>
                  </a:lnTo>
                  <a:lnTo>
                    <a:pt x="0" y="32"/>
                  </a:lnTo>
                  <a:lnTo>
                    <a:pt x="107" y="93"/>
                  </a:lnTo>
                  <a:lnTo>
                    <a:pt x="0" y="44"/>
                  </a:lnTo>
                  <a:lnTo>
                    <a:pt x="52" y="93"/>
                  </a:lnTo>
                  <a:lnTo>
                    <a:pt x="107" y="10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3701880" y="3871800"/>
              <a:ext cx="301680" cy="57240"/>
            </a:xfrm>
            <a:custGeom>
              <a:avLst/>
              <a:gdLst/>
              <a:ahLst/>
              <a:rect l="l" t="t" r="r" b="b"/>
              <a:pathLst>
                <a:path w="950" h="177">
                  <a:moveTo>
                    <a:pt x="189" y="0"/>
                  </a:moveTo>
                  <a:lnTo>
                    <a:pt x="299" y="72"/>
                  </a:lnTo>
                  <a:lnTo>
                    <a:pt x="342" y="79"/>
                  </a:lnTo>
                  <a:lnTo>
                    <a:pt x="387" y="85"/>
                  </a:lnTo>
                  <a:lnTo>
                    <a:pt x="435" y="91"/>
                  </a:lnTo>
                  <a:lnTo>
                    <a:pt x="483" y="96"/>
                  </a:lnTo>
                  <a:lnTo>
                    <a:pt x="582" y="106"/>
                  </a:lnTo>
                  <a:lnTo>
                    <a:pt x="678" y="116"/>
                  </a:lnTo>
                  <a:lnTo>
                    <a:pt x="723" y="122"/>
                  </a:lnTo>
                  <a:lnTo>
                    <a:pt x="768" y="129"/>
                  </a:lnTo>
                  <a:lnTo>
                    <a:pt x="808" y="136"/>
                  </a:lnTo>
                  <a:lnTo>
                    <a:pt x="844" y="144"/>
                  </a:lnTo>
                  <a:lnTo>
                    <a:pt x="859" y="147"/>
                  </a:lnTo>
                  <a:lnTo>
                    <a:pt x="874" y="152"/>
                  </a:lnTo>
                  <a:lnTo>
                    <a:pt x="885" y="155"/>
                  </a:lnTo>
                  <a:lnTo>
                    <a:pt x="891" y="157"/>
                  </a:lnTo>
                  <a:lnTo>
                    <a:pt x="887" y="156"/>
                  </a:lnTo>
                  <a:lnTo>
                    <a:pt x="870" y="146"/>
                  </a:lnTo>
                  <a:lnTo>
                    <a:pt x="850" y="132"/>
                  </a:lnTo>
                  <a:lnTo>
                    <a:pt x="843" y="128"/>
                  </a:lnTo>
                  <a:lnTo>
                    <a:pt x="950" y="177"/>
                  </a:lnTo>
                  <a:lnTo>
                    <a:pt x="927" y="157"/>
                  </a:lnTo>
                  <a:lnTo>
                    <a:pt x="887" y="131"/>
                  </a:lnTo>
                  <a:lnTo>
                    <a:pt x="846" y="111"/>
                  </a:lnTo>
                  <a:lnTo>
                    <a:pt x="818" y="97"/>
                  </a:lnTo>
                  <a:lnTo>
                    <a:pt x="796" y="89"/>
                  </a:lnTo>
                  <a:lnTo>
                    <a:pt x="778" y="83"/>
                  </a:lnTo>
                  <a:lnTo>
                    <a:pt x="759" y="77"/>
                  </a:lnTo>
                  <a:lnTo>
                    <a:pt x="739" y="73"/>
                  </a:lnTo>
                  <a:lnTo>
                    <a:pt x="700" y="64"/>
                  </a:lnTo>
                  <a:lnTo>
                    <a:pt x="658" y="57"/>
                  </a:lnTo>
                  <a:lnTo>
                    <a:pt x="614" y="50"/>
                  </a:lnTo>
                  <a:lnTo>
                    <a:pt x="567" y="44"/>
                  </a:lnTo>
                  <a:lnTo>
                    <a:pt x="470" y="34"/>
                  </a:lnTo>
                  <a:lnTo>
                    <a:pt x="372" y="24"/>
                  </a:lnTo>
                  <a:lnTo>
                    <a:pt x="323" y="19"/>
                  </a:lnTo>
                  <a:lnTo>
                    <a:pt x="277" y="14"/>
                  </a:lnTo>
                  <a:lnTo>
                    <a:pt x="233" y="7"/>
                  </a:lnTo>
                  <a:lnTo>
                    <a:pt x="192" y="0"/>
                  </a:lnTo>
                  <a:lnTo>
                    <a:pt x="303" y="72"/>
                  </a:lnTo>
                  <a:lnTo>
                    <a:pt x="189" y="0"/>
                  </a:lnTo>
                  <a:lnTo>
                    <a:pt x="0" y="6"/>
                  </a:lnTo>
                  <a:lnTo>
                    <a:pt x="299" y="72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5070600" y="3854520"/>
              <a:ext cx="628560" cy="90360"/>
            </a:xfrm>
            <a:custGeom>
              <a:avLst/>
              <a:gdLst/>
              <a:ahLst/>
              <a:rect l="l" t="t" r="r" b="b"/>
              <a:pathLst>
                <a:path w="1980" h="283">
                  <a:moveTo>
                    <a:pt x="1980" y="124"/>
                  </a:moveTo>
                  <a:lnTo>
                    <a:pt x="1924" y="127"/>
                  </a:lnTo>
                  <a:lnTo>
                    <a:pt x="1871" y="127"/>
                  </a:lnTo>
                  <a:lnTo>
                    <a:pt x="1822" y="126"/>
                  </a:lnTo>
                  <a:lnTo>
                    <a:pt x="1776" y="124"/>
                  </a:lnTo>
                  <a:lnTo>
                    <a:pt x="1734" y="121"/>
                  </a:lnTo>
                  <a:lnTo>
                    <a:pt x="1694" y="118"/>
                  </a:lnTo>
                  <a:lnTo>
                    <a:pt x="1658" y="113"/>
                  </a:lnTo>
                  <a:lnTo>
                    <a:pt x="1623" y="108"/>
                  </a:lnTo>
                  <a:lnTo>
                    <a:pt x="1593" y="103"/>
                  </a:lnTo>
                  <a:lnTo>
                    <a:pt x="1563" y="97"/>
                  </a:lnTo>
                  <a:lnTo>
                    <a:pt x="1536" y="90"/>
                  </a:lnTo>
                  <a:lnTo>
                    <a:pt x="1511" y="83"/>
                  </a:lnTo>
                  <a:lnTo>
                    <a:pt x="1465" y="70"/>
                  </a:lnTo>
                  <a:lnTo>
                    <a:pt x="1425" y="55"/>
                  </a:lnTo>
                  <a:lnTo>
                    <a:pt x="1389" y="41"/>
                  </a:lnTo>
                  <a:lnTo>
                    <a:pt x="1356" y="29"/>
                  </a:lnTo>
                  <a:lnTo>
                    <a:pt x="1338" y="22"/>
                  </a:lnTo>
                  <a:lnTo>
                    <a:pt x="1322" y="17"/>
                  </a:lnTo>
                  <a:lnTo>
                    <a:pt x="1307" y="12"/>
                  </a:lnTo>
                  <a:lnTo>
                    <a:pt x="1289" y="8"/>
                  </a:lnTo>
                  <a:lnTo>
                    <a:pt x="1272" y="5"/>
                  </a:lnTo>
                  <a:lnTo>
                    <a:pt x="1254" y="2"/>
                  </a:lnTo>
                  <a:lnTo>
                    <a:pt x="1235" y="0"/>
                  </a:lnTo>
                  <a:lnTo>
                    <a:pt x="1215" y="0"/>
                  </a:lnTo>
                  <a:lnTo>
                    <a:pt x="1194" y="0"/>
                  </a:lnTo>
                  <a:lnTo>
                    <a:pt x="1172" y="2"/>
                  </a:lnTo>
                  <a:lnTo>
                    <a:pt x="1147" y="5"/>
                  </a:lnTo>
                  <a:lnTo>
                    <a:pt x="1122" y="9"/>
                  </a:lnTo>
                  <a:lnTo>
                    <a:pt x="1100" y="22"/>
                  </a:lnTo>
                  <a:lnTo>
                    <a:pt x="1075" y="34"/>
                  </a:lnTo>
                  <a:lnTo>
                    <a:pt x="1047" y="45"/>
                  </a:lnTo>
                  <a:lnTo>
                    <a:pt x="1017" y="55"/>
                  </a:lnTo>
                  <a:lnTo>
                    <a:pt x="984" y="64"/>
                  </a:lnTo>
                  <a:lnTo>
                    <a:pt x="949" y="72"/>
                  </a:lnTo>
                  <a:lnTo>
                    <a:pt x="912" y="79"/>
                  </a:lnTo>
                  <a:lnTo>
                    <a:pt x="873" y="86"/>
                  </a:lnTo>
                  <a:lnTo>
                    <a:pt x="832" y="91"/>
                  </a:lnTo>
                  <a:lnTo>
                    <a:pt x="791" y="96"/>
                  </a:lnTo>
                  <a:lnTo>
                    <a:pt x="748" y="101"/>
                  </a:lnTo>
                  <a:lnTo>
                    <a:pt x="705" y="105"/>
                  </a:lnTo>
                  <a:lnTo>
                    <a:pt x="616" y="112"/>
                  </a:lnTo>
                  <a:lnTo>
                    <a:pt x="527" y="119"/>
                  </a:lnTo>
                  <a:lnTo>
                    <a:pt x="438" y="124"/>
                  </a:lnTo>
                  <a:lnTo>
                    <a:pt x="352" y="131"/>
                  </a:lnTo>
                  <a:lnTo>
                    <a:pt x="271" y="139"/>
                  </a:lnTo>
                  <a:lnTo>
                    <a:pt x="196" y="148"/>
                  </a:lnTo>
                  <a:lnTo>
                    <a:pt x="162" y="153"/>
                  </a:lnTo>
                  <a:lnTo>
                    <a:pt x="130" y="159"/>
                  </a:lnTo>
                  <a:lnTo>
                    <a:pt x="102" y="166"/>
                  </a:lnTo>
                  <a:lnTo>
                    <a:pt x="74" y="174"/>
                  </a:lnTo>
                  <a:lnTo>
                    <a:pt x="50" y="182"/>
                  </a:lnTo>
                  <a:lnTo>
                    <a:pt x="30" y="191"/>
                  </a:lnTo>
                  <a:lnTo>
                    <a:pt x="13" y="201"/>
                  </a:lnTo>
                  <a:lnTo>
                    <a:pt x="0" y="212"/>
                  </a:lnTo>
                  <a:lnTo>
                    <a:pt x="27" y="210"/>
                  </a:lnTo>
                  <a:lnTo>
                    <a:pt x="55" y="209"/>
                  </a:lnTo>
                  <a:lnTo>
                    <a:pt x="84" y="209"/>
                  </a:lnTo>
                  <a:lnTo>
                    <a:pt x="114" y="210"/>
                  </a:lnTo>
                  <a:lnTo>
                    <a:pt x="177" y="215"/>
                  </a:lnTo>
                  <a:lnTo>
                    <a:pt x="243" y="223"/>
                  </a:lnTo>
                  <a:lnTo>
                    <a:pt x="387" y="241"/>
                  </a:lnTo>
                  <a:lnTo>
                    <a:pt x="544" y="261"/>
                  </a:lnTo>
                  <a:lnTo>
                    <a:pt x="586" y="266"/>
                  </a:lnTo>
                  <a:lnTo>
                    <a:pt x="628" y="271"/>
                  </a:lnTo>
                  <a:lnTo>
                    <a:pt x="673" y="275"/>
                  </a:lnTo>
                  <a:lnTo>
                    <a:pt x="717" y="277"/>
                  </a:lnTo>
                  <a:lnTo>
                    <a:pt x="763" y="281"/>
                  </a:lnTo>
                  <a:lnTo>
                    <a:pt x="809" y="282"/>
                  </a:lnTo>
                  <a:lnTo>
                    <a:pt x="856" y="283"/>
                  </a:lnTo>
                  <a:lnTo>
                    <a:pt x="905" y="283"/>
                  </a:lnTo>
                  <a:lnTo>
                    <a:pt x="954" y="283"/>
                  </a:lnTo>
                  <a:lnTo>
                    <a:pt x="1006" y="281"/>
                  </a:lnTo>
                  <a:lnTo>
                    <a:pt x="1057" y="277"/>
                  </a:lnTo>
                  <a:lnTo>
                    <a:pt x="1109" y="273"/>
                  </a:lnTo>
                  <a:lnTo>
                    <a:pt x="1163" y="267"/>
                  </a:lnTo>
                  <a:lnTo>
                    <a:pt x="1216" y="260"/>
                  </a:lnTo>
                  <a:lnTo>
                    <a:pt x="1272" y="251"/>
                  </a:lnTo>
                  <a:lnTo>
                    <a:pt x="1329" y="241"/>
                  </a:lnTo>
                  <a:lnTo>
                    <a:pt x="1337" y="234"/>
                  </a:lnTo>
                  <a:lnTo>
                    <a:pt x="1346" y="227"/>
                  </a:lnTo>
                  <a:lnTo>
                    <a:pt x="1358" y="221"/>
                  </a:lnTo>
                  <a:lnTo>
                    <a:pt x="1370" y="216"/>
                  </a:lnTo>
                  <a:lnTo>
                    <a:pt x="1385" y="211"/>
                  </a:lnTo>
                  <a:lnTo>
                    <a:pt x="1400" y="205"/>
                  </a:lnTo>
                  <a:lnTo>
                    <a:pt x="1416" y="201"/>
                  </a:lnTo>
                  <a:lnTo>
                    <a:pt x="1434" y="196"/>
                  </a:lnTo>
                  <a:lnTo>
                    <a:pt x="1472" y="188"/>
                  </a:lnTo>
                  <a:lnTo>
                    <a:pt x="1513" y="182"/>
                  </a:lnTo>
                  <a:lnTo>
                    <a:pt x="1557" y="175"/>
                  </a:lnTo>
                  <a:lnTo>
                    <a:pt x="1603" y="169"/>
                  </a:lnTo>
                  <a:lnTo>
                    <a:pt x="1700" y="159"/>
                  </a:lnTo>
                  <a:lnTo>
                    <a:pt x="1798" y="148"/>
                  </a:lnTo>
                  <a:lnTo>
                    <a:pt x="1847" y="144"/>
                  </a:lnTo>
                  <a:lnTo>
                    <a:pt x="1894" y="138"/>
                  </a:lnTo>
                  <a:lnTo>
                    <a:pt x="1938" y="131"/>
                  </a:lnTo>
                  <a:lnTo>
                    <a:pt x="1980" y="12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5408640" y="3843360"/>
              <a:ext cx="309600" cy="63360"/>
            </a:xfrm>
            <a:custGeom>
              <a:avLst/>
              <a:gdLst/>
              <a:ahLst/>
              <a:rect l="l" t="t" r="r" b="b"/>
              <a:pathLst>
                <a:path w="976" h="199">
                  <a:moveTo>
                    <a:pt x="120" y="81"/>
                  </a:moveTo>
                  <a:lnTo>
                    <a:pt x="119" y="81"/>
                  </a:lnTo>
                  <a:lnTo>
                    <a:pt x="145" y="77"/>
                  </a:lnTo>
                  <a:lnTo>
                    <a:pt x="169" y="74"/>
                  </a:lnTo>
                  <a:lnTo>
                    <a:pt x="191" y="73"/>
                  </a:lnTo>
                  <a:lnTo>
                    <a:pt x="211" y="71"/>
                  </a:lnTo>
                  <a:lnTo>
                    <a:pt x="231" y="73"/>
                  </a:lnTo>
                  <a:lnTo>
                    <a:pt x="249" y="74"/>
                  </a:lnTo>
                  <a:lnTo>
                    <a:pt x="265" y="76"/>
                  </a:lnTo>
                  <a:lnTo>
                    <a:pt x="281" y="79"/>
                  </a:lnTo>
                  <a:lnTo>
                    <a:pt x="295" y="83"/>
                  </a:lnTo>
                  <a:lnTo>
                    <a:pt x="309" y="87"/>
                  </a:lnTo>
                  <a:lnTo>
                    <a:pt x="322" y="91"/>
                  </a:lnTo>
                  <a:lnTo>
                    <a:pt x="336" y="97"/>
                  </a:lnTo>
                  <a:lnTo>
                    <a:pt x="367" y="109"/>
                  </a:lnTo>
                  <a:lnTo>
                    <a:pt x="405" y="123"/>
                  </a:lnTo>
                  <a:lnTo>
                    <a:pt x="450" y="139"/>
                  </a:lnTo>
                  <a:lnTo>
                    <a:pt x="499" y="155"/>
                  </a:lnTo>
                  <a:lnTo>
                    <a:pt x="526" y="162"/>
                  </a:lnTo>
                  <a:lnTo>
                    <a:pt x="554" y="168"/>
                  </a:lnTo>
                  <a:lnTo>
                    <a:pt x="585" y="175"/>
                  </a:lnTo>
                  <a:lnTo>
                    <a:pt x="617" y="180"/>
                  </a:lnTo>
                  <a:lnTo>
                    <a:pt x="651" y="186"/>
                  </a:lnTo>
                  <a:lnTo>
                    <a:pt x="689" y="190"/>
                  </a:lnTo>
                  <a:lnTo>
                    <a:pt x="729" y="194"/>
                  </a:lnTo>
                  <a:lnTo>
                    <a:pt x="772" y="196"/>
                  </a:lnTo>
                  <a:lnTo>
                    <a:pt x="818" y="198"/>
                  </a:lnTo>
                  <a:lnTo>
                    <a:pt x="867" y="199"/>
                  </a:lnTo>
                  <a:lnTo>
                    <a:pt x="920" y="198"/>
                  </a:lnTo>
                  <a:lnTo>
                    <a:pt x="976" y="197"/>
                  </a:lnTo>
                  <a:lnTo>
                    <a:pt x="862" y="125"/>
                  </a:lnTo>
                  <a:lnTo>
                    <a:pt x="805" y="126"/>
                  </a:lnTo>
                  <a:lnTo>
                    <a:pt x="753" y="126"/>
                  </a:lnTo>
                  <a:lnTo>
                    <a:pt x="704" y="126"/>
                  </a:lnTo>
                  <a:lnTo>
                    <a:pt x="659" y="124"/>
                  </a:lnTo>
                  <a:lnTo>
                    <a:pt x="617" y="122"/>
                  </a:lnTo>
                  <a:lnTo>
                    <a:pt x="578" y="118"/>
                  </a:lnTo>
                  <a:lnTo>
                    <a:pt x="542" y="114"/>
                  </a:lnTo>
                  <a:lnTo>
                    <a:pt x="509" y="109"/>
                  </a:lnTo>
                  <a:lnTo>
                    <a:pt x="478" y="103"/>
                  </a:lnTo>
                  <a:lnTo>
                    <a:pt x="450" y="98"/>
                  </a:lnTo>
                  <a:lnTo>
                    <a:pt x="423" y="92"/>
                  </a:lnTo>
                  <a:lnTo>
                    <a:pt x="401" y="85"/>
                  </a:lnTo>
                  <a:lnTo>
                    <a:pt x="358" y="73"/>
                  </a:lnTo>
                  <a:lnTo>
                    <a:pt x="323" y="59"/>
                  </a:lnTo>
                  <a:lnTo>
                    <a:pt x="288" y="45"/>
                  </a:lnTo>
                  <a:lnTo>
                    <a:pt x="253" y="33"/>
                  </a:lnTo>
                  <a:lnTo>
                    <a:pt x="233" y="25"/>
                  </a:lnTo>
                  <a:lnTo>
                    <a:pt x="214" y="19"/>
                  </a:lnTo>
                  <a:lnTo>
                    <a:pt x="195" y="13"/>
                  </a:lnTo>
                  <a:lnTo>
                    <a:pt x="176" y="9"/>
                  </a:lnTo>
                  <a:lnTo>
                    <a:pt x="157" y="4"/>
                  </a:lnTo>
                  <a:lnTo>
                    <a:pt x="137" y="2"/>
                  </a:lnTo>
                  <a:lnTo>
                    <a:pt x="118" y="1"/>
                  </a:lnTo>
                  <a:lnTo>
                    <a:pt x="97" y="0"/>
                  </a:lnTo>
                  <a:lnTo>
                    <a:pt x="76" y="0"/>
                  </a:lnTo>
                  <a:lnTo>
                    <a:pt x="53" y="2"/>
                  </a:lnTo>
                  <a:lnTo>
                    <a:pt x="28" y="5"/>
                  </a:lnTo>
                  <a:lnTo>
                    <a:pt x="2" y="9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10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5037120" y="3846600"/>
              <a:ext cx="409680" cy="88920"/>
            </a:xfrm>
            <a:custGeom>
              <a:avLst/>
              <a:gdLst/>
              <a:ahLst/>
              <a:rect l="l" t="t" r="r" b="b"/>
              <a:pathLst>
                <a:path w="1286" h="282">
                  <a:moveTo>
                    <a:pt x="47" y="202"/>
                  </a:moveTo>
                  <a:lnTo>
                    <a:pt x="164" y="273"/>
                  </a:lnTo>
                  <a:lnTo>
                    <a:pt x="171" y="268"/>
                  </a:lnTo>
                  <a:lnTo>
                    <a:pt x="178" y="262"/>
                  </a:lnTo>
                  <a:lnTo>
                    <a:pt x="186" y="258"/>
                  </a:lnTo>
                  <a:lnTo>
                    <a:pt x="195" y="252"/>
                  </a:lnTo>
                  <a:lnTo>
                    <a:pt x="216" y="243"/>
                  </a:lnTo>
                  <a:lnTo>
                    <a:pt x="238" y="235"/>
                  </a:lnTo>
                  <a:lnTo>
                    <a:pt x="265" y="228"/>
                  </a:lnTo>
                  <a:lnTo>
                    <a:pt x="294" y="221"/>
                  </a:lnTo>
                  <a:lnTo>
                    <a:pt x="326" y="215"/>
                  </a:lnTo>
                  <a:lnTo>
                    <a:pt x="360" y="210"/>
                  </a:lnTo>
                  <a:lnTo>
                    <a:pt x="435" y="201"/>
                  </a:lnTo>
                  <a:lnTo>
                    <a:pt x="515" y="194"/>
                  </a:lnTo>
                  <a:lnTo>
                    <a:pt x="601" y="187"/>
                  </a:lnTo>
                  <a:lnTo>
                    <a:pt x="689" y="180"/>
                  </a:lnTo>
                  <a:lnTo>
                    <a:pt x="779" y="174"/>
                  </a:lnTo>
                  <a:lnTo>
                    <a:pt x="868" y="166"/>
                  </a:lnTo>
                  <a:lnTo>
                    <a:pt x="911" y="163"/>
                  </a:lnTo>
                  <a:lnTo>
                    <a:pt x="954" y="158"/>
                  </a:lnTo>
                  <a:lnTo>
                    <a:pt x="995" y="153"/>
                  </a:lnTo>
                  <a:lnTo>
                    <a:pt x="1036" y="147"/>
                  </a:lnTo>
                  <a:lnTo>
                    <a:pt x="1075" y="141"/>
                  </a:lnTo>
                  <a:lnTo>
                    <a:pt x="1113" y="133"/>
                  </a:lnTo>
                  <a:lnTo>
                    <a:pt x="1148" y="125"/>
                  </a:lnTo>
                  <a:lnTo>
                    <a:pt x="1181" y="116"/>
                  </a:lnTo>
                  <a:lnTo>
                    <a:pt x="1211" y="107"/>
                  </a:lnTo>
                  <a:lnTo>
                    <a:pt x="1239" y="96"/>
                  </a:lnTo>
                  <a:lnTo>
                    <a:pt x="1252" y="90"/>
                  </a:lnTo>
                  <a:lnTo>
                    <a:pt x="1264" y="84"/>
                  </a:lnTo>
                  <a:lnTo>
                    <a:pt x="1276" y="77"/>
                  </a:lnTo>
                  <a:lnTo>
                    <a:pt x="1286" y="71"/>
                  </a:lnTo>
                  <a:lnTo>
                    <a:pt x="1166" y="0"/>
                  </a:lnTo>
                  <a:lnTo>
                    <a:pt x="1156" y="7"/>
                  </a:lnTo>
                  <a:lnTo>
                    <a:pt x="1145" y="12"/>
                  </a:lnTo>
                  <a:lnTo>
                    <a:pt x="1133" y="19"/>
                  </a:lnTo>
                  <a:lnTo>
                    <a:pt x="1121" y="25"/>
                  </a:lnTo>
                  <a:lnTo>
                    <a:pt x="1092" y="35"/>
                  </a:lnTo>
                  <a:lnTo>
                    <a:pt x="1063" y="46"/>
                  </a:lnTo>
                  <a:lnTo>
                    <a:pt x="1030" y="53"/>
                  </a:lnTo>
                  <a:lnTo>
                    <a:pt x="995" y="61"/>
                  </a:lnTo>
                  <a:lnTo>
                    <a:pt x="958" y="68"/>
                  </a:lnTo>
                  <a:lnTo>
                    <a:pt x="919" y="75"/>
                  </a:lnTo>
                  <a:lnTo>
                    <a:pt x="879" y="81"/>
                  </a:lnTo>
                  <a:lnTo>
                    <a:pt x="838" y="87"/>
                  </a:lnTo>
                  <a:lnTo>
                    <a:pt x="795" y="91"/>
                  </a:lnTo>
                  <a:lnTo>
                    <a:pt x="751" y="95"/>
                  </a:lnTo>
                  <a:lnTo>
                    <a:pt x="663" y="103"/>
                  </a:lnTo>
                  <a:lnTo>
                    <a:pt x="574" y="108"/>
                  </a:lnTo>
                  <a:lnTo>
                    <a:pt x="485" y="115"/>
                  </a:lnTo>
                  <a:lnTo>
                    <a:pt x="399" y="121"/>
                  </a:lnTo>
                  <a:lnTo>
                    <a:pt x="318" y="129"/>
                  </a:lnTo>
                  <a:lnTo>
                    <a:pt x="243" y="138"/>
                  </a:lnTo>
                  <a:lnTo>
                    <a:pt x="209" y="144"/>
                  </a:lnTo>
                  <a:lnTo>
                    <a:pt x="177" y="149"/>
                  </a:lnTo>
                  <a:lnTo>
                    <a:pt x="147" y="156"/>
                  </a:lnTo>
                  <a:lnTo>
                    <a:pt x="120" y="163"/>
                  </a:lnTo>
                  <a:lnTo>
                    <a:pt x="96" y="172"/>
                  </a:lnTo>
                  <a:lnTo>
                    <a:pt x="75" y="181"/>
                  </a:lnTo>
                  <a:lnTo>
                    <a:pt x="66" y="186"/>
                  </a:lnTo>
                  <a:lnTo>
                    <a:pt x="58" y="192"/>
                  </a:lnTo>
                  <a:lnTo>
                    <a:pt x="50" y="197"/>
                  </a:lnTo>
                  <a:lnTo>
                    <a:pt x="45" y="203"/>
                  </a:lnTo>
                  <a:lnTo>
                    <a:pt x="163" y="274"/>
                  </a:lnTo>
                  <a:lnTo>
                    <a:pt x="45" y="203"/>
                  </a:lnTo>
                  <a:lnTo>
                    <a:pt x="0" y="282"/>
                  </a:lnTo>
                  <a:lnTo>
                    <a:pt x="163" y="274"/>
                  </a:lnTo>
                  <a:lnTo>
                    <a:pt x="47" y="20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5052960" y="3909960"/>
              <a:ext cx="459000" cy="46080"/>
            </a:xfrm>
            <a:custGeom>
              <a:avLst/>
              <a:gdLst/>
              <a:ahLst/>
              <a:rect l="l" t="t" r="r" b="b"/>
              <a:pathLst>
                <a:path w="1447" h="144">
                  <a:moveTo>
                    <a:pt x="1327" y="31"/>
                  </a:moveTo>
                  <a:lnTo>
                    <a:pt x="1328" y="30"/>
                  </a:lnTo>
                  <a:lnTo>
                    <a:pt x="1272" y="42"/>
                  </a:lnTo>
                  <a:lnTo>
                    <a:pt x="1216" y="50"/>
                  </a:lnTo>
                  <a:lnTo>
                    <a:pt x="1162" y="58"/>
                  </a:lnTo>
                  <a:lnTo>
                    <a:pt x="1109" y="63"/>
                  </a:lnTo>
                  <a:lnTo>
                    <a:pt x="1057" y="68"/>
                  </a:lnTo>
                  <a:lnTo>
                    <a:pt x="1005" y="70"/>
                  </a:lnTo>
                  <a:lnTo>
                    <a:pt x="955" y="73"/>
                  </a:lnTo>
                  <a:lnTo>
                    <a:pt x="906" y="74"/>
                  </a:lnTo>
                  <a:lnTo>
                    <a:pt x="857" y="74"/>
                  </a:lnTo>
                  <a:lnTo>
                    <a:pt x="810" y="73"/>
                  </a:lnTo>
                  <a:lnTo>
                    <a:pt x="764" y="70"/>
                  </a:lnTo>
                  <a:lnTo>
                    <a:pt x="718" y="68"/>
                  </a:lnTo>
                  <a:lnTo>
                    <a:pt x="674" y="65"/>
                  </a:lnTo>
                  <a:lnTo>
                    <a:pt x="630" y="61"/>
                  </a:lnTo>
                  <a:lnTo>
                    <a:pt x="588" y="57"/>
                  </a:lnTo>
                  <a:lnTo>
                    <a:pt x="547" y="52"/>
                  </a:lnTo>
                  <a:lnTo>
                    <a:pt x="389" y="31"/>
                  </a:lnTo>
                  <a:lnTo>
                    <a:pt x="246" y="12"/>
                  </a:lnTo>
                  <a:lnTo>
                    <a:pt x="179" y="5"/>
                  </a:lnTo>
                  <a:lnTo>
                    <a:pt x="116" y="1"/>
                  </a:lnTo>
                  <a:lnTo>
                    <a:pt x="85" y="0"/>
                  </a:lnTo>
                  <a:lnTo>
                    <a:pt x="56" y="0"/>
                  </a:lnTo>
                  <a:lnTo>
                    <a:pt x="27" y="0"/>
                  </a:lnTo>
                  <a:lnTo>
                    <a:pt x="0" y="2"/>
                  </a:lnTo>
                  <a:lnTo>
                    <a:pt x="116" y="74"/>
                  </a:lnTo>
                  <a:lnTo>
                    <a:pt x="142" y="73"/>
                  </a:lnTo>
                  <a:lnTo>
                    <a:pt x="171" y="71"/>
                  </a:lnTo>
                  <a:lnTo>
                    <a:pt x="199" y="71"/>
                  </a:lnTo>
                  <a:lnTo>
                    <a:pt x="229" y="73"/>
                  </a:lnTo>
                  <a:lnTo>
                    <a:pt x="291" y="77"/>
                  </a:lnTo>
                  <a:lnTo>
                    <a:pt x="357" y="84"/>
                  </a:lnTo>
                  <a:lnTo>
                    <a:pt x="499" y="103"/>
                  </a:lnTo>
                  <a:lnTo>
                    <a:pt x="658" y="124"/>
                  </a:lnTo>
                  <a:lnTo>
                    <a:pt x="700" y="128"/>
                  </a:lnTo>
                  <a:lnTo>
                    <a:pt x="742" y="133"/>
                  </a:lnTo>
                  <a:lnTo>
                    <a:pt x="787" y="136"/>
                  </a:lnTo>
                  <a:lnTo>
                    <a:pt x="831" y="140"/>
                  </a:lnTo>
                  <a:lnTo>
                    <a:pt x="877" y="142"/>
                  </a:lnTo>
                  <a:lnTo>
                    <a:pt x="913" y="144"/>
                  </a:lnTo>
                  <a:lnTo>
                    <a:pt x="935" y="144"/>
                  </a:lnTo>
                  <a:lnTo>
                    <a:pt x="958" y="144"/>
                  </a:lnTo>
                  <a:lnTo>
                    <a:pt x="979" y="144"/>
                  </a:lnTo>
                  <a:lnTo>
                    <a:pt x="1002" y="144"/>
                  </a:lnTo>
                  <a:lnTo>
                    <a:pt x="1024" y="144"/>
                  </a:lnTo>
                  <a:lnTo>
                    <a:pt x="1046" y="144"/>
                  </a:lnTo>
                  <a:lnTo>
                    <a:pt x="1068" y="144"/>
                  </a:lnTo>
                  <a:lnTo>
                    <a:pt x="1090" y="144"/>
                  </a:lnTo>
                  <a:lnTo>
                    <a:pt x="1121" y="143"/>
                  </a:lnTo>
                  <a:lnTo>
                    <a:pt x="1172" y="140"/>
                  </a:lnTo>
                  <a:lnTo>
                    <a:pt x="1225" y="135"/>
                  </a:lnTo>
                  <a:lnTo>
                    <a:pt x="1279" y="130"/>
                  </a:lnTo>
                  <a:lnTo>
                    <a:pt x="1334" y="122"/>
                  </a:lnTo>
                  <a:lnTo>
                    <a:pt x="1388" y="114"/>
                  </a:lnTo>
                  <a:lnTo>
                    <a:pt x="1445" y="103"/>
                  </a:lnTo>
                  <a:lnTo>
                    <a:pt x="1447" y="102"/>
                  </a:lnTo>
                  <a:lnTo>
                    <a:pt x="1445" y="103"/>
                  </a:lnTo>
                  <a:lnTo>
                    <a:pt x="1447" y="102"/>
                  </a:lnTo>
                  <a:lnTo>
                    <a:pt x="1447" y="102"/>
                  </a:lnTo>
                  <a:lnTo>
                    <a:pt x="1327" y="3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5473800" y="3882960"/>
              <a:ext cx="284040" cy="58680"/>
            </a:xfrm>
            <a:custGeom>
              <a:avLst/>
              <a:gdLst/>
              <a:ahLst/>
              <a:rect l="l" t="t" r="r" b="b"/>
              <a:pathLst>
                <a:path w="896" h="187">
                  <a:moveTo>
                    <a:pt x="768" y="72"/>
                  </a:moveTo>
                  <a:lnTo>
                    <a:pt x="653" y="0"/>
                  </a:lnTo>
                  <a:lnTo>
                    <a:pt x="611" y="7"/>
                  </a:lnTo>
                  <a:lnTo>
                    <a:pt x="565" y="13"/>
                  </a:lnTo>
                  <a:lnTo>
                    <a:pt x="520" y="18"/>
                  </a:lnTo>
                  <a:lnTo>
                    <a:pt x="471" y="24"/>
                  </a:lnTo>
                  <a:lnTo>
                    <a:pt x="373" y="34"/>
                  </a:lnTo>
                  <a:lnTo>
                    <a:pt x="276" y="45"/>
                  </a:lnTo>
                  <a:lnTo>
                    <a:pt x="229" y="50"/>
                  </a:lnTo>
                  <a:lnTo>
                    <a:pt x="186" y="56"/>
                  </a:lnTo>
                  <a:lnTo>
                    <a:pt x="144" y="64"/>
                  </a:lnTo>
                  <a:lnTo>
                    <a:pt x="106" y="72"/>
                  </a:lnTo>
                  <a:lnTo>
                    <a:pt x="88" y="77"/>
                  </a:lnTo>
                  <a:lnTo>
                    <a:pt x="72" y="81"/>
                  </a:lnTo>
                  <a:lnTo>
                    <a:pt x="57" y="86"/>
                  </a:lnTo>
                  <a:lnTo>
                    <a:pt x="42" y="91"/>
                  </a:lnTo>
                  <a:lnTo>
                    <a:pt x="30" y="97"/>
                  </a:lnTo>
                  <a:lnTo>
                    <a:pt x="18" y="103"/>
                  </a:lnTo>
                  <a:lnTo>
                    <a:pt x="8" y="110"/>
                  </a:lnTo>
                  <a:lnTo>
                    <a:pt x="0" y="116"/>
                  </a:lnTo>
                  <a:lnTo>
                    <a:pt x="120" y="187"/>
                  </a:lnTo>
                  <a:lnTo>
                    <a:pt x="129" y="180"/>
                  </a:lnTo>
                  <a:lnTo>
                    <a:pt x="138" y="175"/>
                  </a:lnTo>
                  <a:lnTo>
                    <a:pt x="149" y="168"/>
                  </a:lnTo>
                  <a:lnTo>
                    <a:pt x="162" y="163"/>
                  </a:lnTo>
                  <a:lnTo>
                    <a:pt x="175" y="158"/>
                  </a:lnTo>
                  <a:lnTo>
                    <a:pt x="190" y="153"/>
                  </a:lnTo>
                  <a:lnTo>
                    <a:pt x="206" y="148"/>
                  </a:lnTo>
                  <a:lnTo>
                    <a:pt x="223" y="144"/>
                  </a:lnTo>
                  <a:lnTo>
                    <a:pt x="261" y="136"/>
                  </a:lnTo>
                  <a:lnTo>
                    <a:pt x="302" y="129"/>
                  </a:lnTo>
                  <a:lnTo>
                    <a:pt x="346" y="122"/>
                  </a:lnTo>
                  <a:lnTo>
                    <a:pt x="392" y="116"/>
                  </a:lnTo>
                  <a:lnTo>
                    <a:pt x="489" y="106"/>
                  </a:lnTo>
                  <a:lnTo>
                    <a:pt x="587" y="96"/>
                  </a:lnTo>
                  <a:lnTo>
                    <a:pt x="636" y="90"/>
                  </a:lnTo>
                  <a:lnTo>
                    <a:pt x="683" y="85"/>
                  </a:lnTo>
                  <a:lnTo>
                    <a:pt x="727" y="79"/>
                  </a:lnTo>
                  <a:lnTo>
                    <a:pt x="771" y="72"/>
                  </a:lnTo>
                  <a:lnTo>
                    <a:pt x="654" y="0"/>
                  </a:lnTo>
                  <a:lnTo>
                    <a:pt x="771" y="72"/>
                  </a:lnTo>
                  <a:lnTo>
                    <a:pt x="896" y="38"/>
                  </a:lnTo>
                  <a:lnTo>
                    <a:pt x="654" y="0"/>
                  </a:lnTo>
                  <a:lnTo>
                    <a:pt x="768" y="7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3165480" y="3605040"/>
              <a:ext cx="320760" cy="46080"/>
            </a:xfrm>
            <a:custGeom>
              <a:avLst/>
              <a:gdLst/>
              <a:ahLst/>
              <a:rect l="l" t="t" r="r" b="b"/>
              <a:pathLst>
                <a:path w="1010" h="145">
                  <a:moveTo>
                    <a:pt x="1010" y="63"/>
                  </a:moveTo>
                  <a:lnTo>
                    <a:pt x="982" y="64"/>
                  </a:lnTo>
                  <a:lnTo>
                    <a:pt x="954" y="64"/>
                  </a:lnTo>
                  <a:lnTo>
                    <a:pt x="929" y="64"/>
                  </a:lnTo>
                  <a:lnTo>
                    <a:pt x="907" y="63"/>
                  </a:lnTo>
                  <a:lnTo>
                    <a:pt x="864" y="60"/>
                  </a:lnTo>
                  <a:lnTo>
                    <a:pt x="829" y="55"/>
                  </a:lnTo>
                  <a:lnTo>
                    <a:pt x="797" y="49"/>
                  </a:lnTo>
                  <a:lnTo>
                    <a:pt x="771" y="42"/>
                  </a:lnTo>
                  <a:lnTo>
                    <a:pt x="747" y="35"/>
                  </a:lnTo>
                  <a:lnTo>
                    <a:pt x="726" y="28"/>
                  </a:lnTo>
                  <a:lnTo>
                    <a:pt x="708" y="20"/>
                  </a:lnTo>
                  <a:lnTo>
                    <a:pt x="691" y="13"/>
                  </a:lnTo>
                  <a:lnTo>
                    <a:pt x="674" y="8"/>
                  </a:lnTo>
                  <a:lnTo>
                    <a:pt x="658" y="3"/>
                  </a:lnTo>
                  <a:lnTo>
                    <a:pt x="640" y="1"/>
                  </a:lnTo>
                  <a:lnTo>
                    <a:pt x="619" y="0"/>
                  </a:lnTo>
                  <a:lnTo>
                    <a:pt x="598" y="1"/>
                  </a:lnTo>
                  <a:lnTo>
                    <a:pt x="571" y="5"/>
                  </a:lnTo>
                  <a:lnTo>
                    <a:pt x="561" y="12"/>
                  </a:lnTo>
                  <a:lnTo>
                    <a:pt x="549" y="18"/>
                  </a:lnTo>
                  <a:lnTo>
                    <a:pt x="534" y="24"/>
                  </a:lnTo>
                  <a:lnTo>
                    <a:pt x="519" y="28"/>
                  </a:lnTo>
                  <a:lnTo>
                    <a:pt x="502" y="33"/>
                  </a:lnTo>
                  <a:lnTo>
                    <a:pt x="484" y="37"/>
                  </a:lnTo>
                  <a:lnTo>
                    <a:pt x="465" y="41"/>
                  </a:lnTo>
                  <a:lnTo>
                    <a:pt x="445" y="44"/>
                  </a:lnTo>
                  <a:lnTo>
                    <a:pt x="404" y="49"/>
                  </a:lnTo>
                  <a:lnTo>
                    <a:pt x="359" y="53"/>
                  </a:lnTo>
                  <a:lnTo>
                    <a:pt x="314" y="58"/>
                  </a:lnTo>
                  <a:lnTo>
                    <a:pt x="268" y="60"/>
                  </a:lnTo>
                  <a:lnTo>
                    <a:pt x="224" y="64"/>
                  </a:lnTo>
                  <a:lnTo>
                    <a:pt x="179" y="67"/>
                  </a:lnTo>
                  <a:lnTo>
                    <a:pt x="138" y="72"/>
                  </a:lnTo>
                  <a:lnTo>
                    <a:pt x="101" y="76"/>
                  </a:lnTo>
                  <a:lnTo>
                    <a:pt x="82" y="78"/>
                  </a:lnTo>
                  <a:lnTo>
                    <a:pt x="66" y="82"/>
                  </a:lnTo>
                  <a:lnTo>
                    <a:pt x="52" y="85"/>
                  </a:lnTo>
                  <a:lnTo>
                    <a:pt x="38" y="89"/>
                  </a:lnTo>
                  <a:lnTo>
                    <a:pt x="25" y="93"/>
                  </a:lnTo>
                  <a:lnTo>
                    <a:pt x="15" y="98"/>
                  </a:lnTo>
                  <a:lnTo>
                    <a:pt x="7" y="104"/>
                  </a:lnTo>
                  <a:lnTo>
                    <a:pt x="0" y="109"/>
                  </a:lnTo>
                  <a:lnTo>
                    <a:pt x="28" y="107"/>
                  </a:lnTo>
                  <a:lnTo>
                    <a:pt x="58" y="108"/>
                  </a:lnTo>
                  <a:lnTo>
                    <a:pt x="89" y="110"/>
                  </a:lnTo>
                  <a:lnTo>
                    <a:pt x="123" y="114"/>
                  </a:lnTo>
                  <a:lnTo>
                    <a:pt x="196" y="123"/>
                  </a:lnTo>
                  <a:lnTo>
                    <a:pt x="276" y="133"/>
                  </a:lnTo>
                  <a:lnTo>
                    <a:pt x="319" y="138"/>
                  </a:lnTo>
                  <a:lnTo>
                    <a:pt x="365" y="141"/>
                  </a:lnTo>
                  <a:lnTo>
                    <a:pt x="412" y="144"/>
                  </a:lnTo>
                  <a:lnTo>
                    <a:pt x="461" y="145"/>
                  </a:lnTo>
                  <a:lnTo>
                    <a:pt x="486" y="145"/>
                  </a:lnTo>
                  <a:lnTo>
                    <a:pt x="512" y="144"/>
                  </a:lnTo>
                  <a:lnTo>
                    <a:pt x="538" y="141"/>
                  </a:lnTo>
                  <a:lnTo>
                    <a:pt x="566" y="140"/>
                  </a:lnTo>
                  <a:lnTo>
                    <a:pt x="593" y="137"/>
                  </a:lnTo>
                  <a:lnTo>
                    <a:pt x="620" y="133"/>
                  </a:lnTo>
                  <a:lnTo>
                    <a:pt x="649" y="129"/>
                  </a:lnTo>
                  <a:lnTo>
                    <a:pt x="677" y="123"/>
                  </a:lnTo>
                  <a:lnTo>
                    <a:pt x="687" y="116"/>
                  </a:lnTo>
                  <a:lnTo>
                    <a:pt x="699" y="110"/>
                  </a:lnTo>
                  <a:lnTo>
                    <a:pt x="714" y="105"/>
                  </a:lnTo>
                  <a:lnTo>
                    <a:pt x="731" y="100"/>
                  </a:lnTo>
                  <a:lnTo>
                    <a:pt x="750" y="97"/>
                  </a:lnTo>
                  <a:lnTo>
                    <a:pt x="772" y="92"/>
                  </a:lnTo>
                  <a:lnTo>
                    <a:pt x="795" y="89"/>
                  </a:lnTo>
                  <a:lnTo>
                    <a:pt x="818" y="86"/>
                  </a:lnTo>
                  <a:lnTo>
                    <a:pt x="868" y="81"/>
                  </a:lnTo>
                  <a:lnTo>
                    <a:pt x="918" y="75"/>
                  </a:lnTo>
                  <a:lnTo>
                    <a:pt x="966" y="69"/>
                  </a:lnTo>
                  <a:lnTo>
                    <a:pt x="1010" y="6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3314880" y="3581280"/>
              <a:ext cx="207720" cy="66960"/>
            </a:xfrm>
            <a:custGeom>
              <a:avLst/>
              <a:gdLst/>
              <a:ahLst/>
              <a:rect l="l" t="t" r="r" b="b"/>
              <a:pathLst>
                <a:path w="655" h="207">
                  <a:moveTo>
                    <a:pt x="169" y="59"/>
                  </a:moveTo>
                  <a:lnTo>
                    <a:pt x="0" y="146"/>
                  </a:lnTo>
                  <a:lnTo>
                    <a:pt x="21" y="143"/>
                  </a:lnTo>
                  <a:lnTo>
                    <a:pt x="41" y="141"/>
                  </a:lnTo>
                  <a:lnTo>
                    <a:pt x="59" y="143"/>
                  </a:lnTo>
                  <a:lnTo>
                    <a:pt x="75" y="145"/>
                  </a:lnTo>
                  <a:lnTo>
                    <a:pt x="91" y="149"/>
                  </a:lnTo>
                  <a:lnTo>
                    <a:pt x="108" y="155"/>
                  </a:lnTo>
                  <a:lnTo>
                    <a:pt x="125" y="162"/>
                  </a:lnTo>
                  <a:lnTo>
                    <a:pt x="143" y="169"/>
                  </a:lnTo>
                  <a:lnTo>
                    <a:pt x="164" y="177"/>
                  </a:lnTo>
                  <a:lnTo>
                    <a:pt x="188" y="184"/>
                  </a:lnTo>
                  <a:lnTo>
                    <a:pt x="215" y="191"/>
                  </a:lnTo>
                  <a:lnTo>
                    <a:pt x="247" y="196"/>
                  </a:lnTo>
                  <a:lnTo>
                    <a:pt x="283" y="202"/>
                  </a:lnTo>
                  <a:lnTo>
                    <a:pt x="326" y="204"/>
                  </a:lnTo>
                  <a:lnTo>
                    <a:pt x="349" y="205"/>
                  </a:lnTo>
                  <a:lnTo>
                    <a:pt x="376" y="207"/>
                  </a:lnTo>
                  <a:lnTo>
                    <a:pt x="403" y="207"/>
                  </a:lnTo>
                  <a:lnTo>
                    <a:pt x="432" y="205"/>
                  </a:lnTo>
                  <a:lnTo>
                    <a:pt x="655" y="63"/>
                  </a:lnTo>
                  <a:lnTo>
                    <a:pt x="627" y="64"/>
                  </a:lnTo>
                  <a:lnTo>
                    <a:pt x="600" y="64"/>
                  </a:lnTo>
                  <a:lnTo>
                    <a:pt x="575" y="64"/>
                  </a:lnTo>
                  <a:lnTo>
                    <a:pt x="554" y="63"/>
                  </a:lnTo>
                  <a:lnTo>
                    <a:pt x="511" y="60"/>
                  </a:lnTo>
                  <a:lnTo>
                    <a:pt x="476" y="55"/>
                  </a:lnTo>
                  <a:lnTo>
                    <a:pt x="446" y="49"/>
                  </a:lnTo>
                  <a:lnTo>
                    <a:pt x="420" y="43"/>
                  </a:lnTo>
                  <a:lnTo>
                    <a:pt x="396" y="35"/>
                  </a:lnTo>
                  <a:lnTo>
                    <a:pt x="377" y="29"/>
                  </a:lnTo>
                  <a:lnTo>
                    <a:pt x="359" y="22"/>
                  </a:lnTo>
                  <a:lnTo>
                    <a:pt x="342" y="15"/>
                  </a:lnTo>
                  <a:lnTo>
                    <a:pt x="323" y="9"/>
                  </a:lnTo>
                  <a:lnTo>
                    <a:pt x="306" y="5"/>
                  </a:lnTo>
                  <a:lnTo>
                    <a:pt x="287" y="1"/>
                  </a:lnTo>
                  <a:lnTo>
                    <a:pt x="265" y="0"/>
                  </a:lnTo>
                  <a:lnTo>
                    <a:pt x="240" y="1"/>
                  </a:lnTo>
                  <a:lnTo>
                    <a:pt x="209" y="6"/>
                  </a:lnTo>
                  <a:lnTo>
                    <a:pt x="39" y="92"/>
                  </a:lnTo>
                  <a:lnTo>
                    <a:pt x="209" y="6"/>
                  </a:lnTo>
                  <a:lnTo>
                    <a:pt x="148" y="18"/>
                  </a:lnTo>
                  <a:lnTo>
                    <a:pt x="39" y="92"/>
                  </a:lnTo>
                  <a:lnTo>
                    <a:pt x="169" y="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3124080" y="3591000"/>
              <a:ext cx="244440" cy="71280"/>
            </a:xfrm>
            <a:custGeom>
              <a:avLst/>
              <a:gdLst/>
              <a:ahLst/>
              <a:rect l="l" t="t" r="r" b="b"/>
              <a:pathLst>
                <a:path w="766" h="222">
                  <a:moveTo>
                    <a:pt x="240" y="80"/>
                  </a:moveTo>
                  <a:lnTo>
                    <a:pt x="241" y="97"/>
                  </a:lnTo>
                  <a:lnTo>
                    <a:pt x="208" y="123"/>
                  </a:lnTo>
                  <a:lnTo>
                    <a:pt x="123" y="174"/>
                  </a:lnTo>
                  <a:lnTo>
                    <a:pt x="81" y="195"/>
                  </a:lnTo>
                  <a:lnTo>
                    <a:pt x="76" y="197"/>
                  </a:lnTo>
                  <a:lnTo>
                    <a:pt x="81" y="195"/>
                  </a:lnTo>
                  <a:lnTo>
                    <a:pt x="93" y="192"/>
                  </a:lnTo>
                  <a:lnTo>
                    <a:pt x="106" y="190"/>
                  </a:lnTo>
                  <a:lnTo>
                    <a:pt x="122" y="187"/>
                  </a:lnTo>
                  <a:lnTo>
                    <a:pt x="159" y="183"/>
                  </a:lnTo>
                  <a:lnTo>
                    <a:pt x="200" y="179"/>
                  </a:lnTo>
                  <a:lnTo>
                    <a:pt x="243" y="175"/>
                  </a:lnTo>
                  <a:lnTo>
                    <a:pt x="288" y="172"/>
                  </a:lnTo>
                  <a:lnTo>
                    <a:pt x="334" y="170"/>
                  </a:lnTo>
                  <a:lnTo>
                    <a:pt x="380" y="165"/>
                  </a:lnTo>
                  <a:lnTo>
                    <a:pt x="424" y="161"/>
                  </a:lnTo>
                  <a:lnTo>
                    <a:pt x="468" y="155"/>
                  </a:lnTo>
                  <a:lnTo>
                    <a:pt x="489" y="151"/>
                  </a:lnTo>
                  <a:lnTo>
                    <a:pt x="510" y="148"/>
                  </a:lnTo>
                  <a:lnTo>
                    <a:pt x="530" y="143"/>
                  </a:lnTo>
                  <a:lnTo>
                    <a:pt x="553" y="137"/>
                  </a:lnTo>
                  <a:lnTo>
                    <a:pt x="578" y="130"/>
                  </a:lnTo>
                  <a:lnTo>
                    <a:pt x="615" y="115"/>
                  </a:lnTo>
                  <a:lnTo>
                    <a:pt x="680" y="82"/>
                  </a:lnTo>
                  <a:lnTo>
                    <a:pt x="766" y="29"/>
                  </a:lnTo>
                  <a:lnTo>
                    <a:pt x="636" y="62"/>
                  </a:lnTo>
                  <a:lnTo>
                    <a:pt x="701" y="24"/>
                  </a:lnTo>
                  <a:lnTo>
                    <a:pt x="741" y="3"/>
                  </a:lnTo>
                  <a:lnTo>
                    <a:pt x="750" y="0"/>
                  </a:lnTo>
                  <a:lnTo>
                    <a:pt x="744" y="2"/>
                  </a:lnTo>
                  <a:lnTo>
                    <a:pt x="732" y="4"/>
                  </a:lnTo>
                  <a:lnTo>
                    <a:pt x="718" y="8"/>
                  </a:lnTo>
                  <a:lnTo>
                    <a:pt x="701" y="11"/>
                  </a:lnTo>
                  <a:lnTo>
                    <a:pt x="683" y="15"/>
                  </a:lnTo>
                  <a:lnTo>
                    <a:pt x="642" y="20"/>
                  </a:lnTo>
                  <a:lnTo>
                    <a:pt x="600" y="24"/>
                  </a:lnTo>
                  <a:lnTo>
                    <a:pt x="554" y="27"/>
                  </a:lnTo>
                  <a:lnTo>
                    <a:pt x="509" y="30"/>
                  </a:lnTo>
                  <a:lnTo>
                    <a:pt x="464" y="34"/>
                  </a:lnTo>
                  <a:lnTo>
                    <a:pt x="420" y="37"/>
                  </a:lnTo>
                  <a:lnTo>
                    <a:pt x="378" y="42"/>
                  </a:lnTo>
                  <a:lnTo>
                    <a:pt x="339" y="46"/>
                  </a:lnTo>
                  <a:lnTo>
                    <a:pt x="319" y="49"/>
                  </a:lnTo>
                  <a:lnTo>
                    <a:pt x="301" y="52"/>
                  </a:lnTo>
                  <a:lnTo>
                    <a:pt x="282" y="57"/>
                  </a:lnTo>
                  <a:lnTo>
                    <a:pt x="261" y="62"/>
                  </a:lnTo>
                  <a:lnTo>
                    <a:pt x="231" y="74"/>
                  </a:lnTo>
                  <a:lnTo>
                    <a:pt x="167" y="104"/>
                  </a:lnTo>
                  <a:lnTo>
                    <a:pt x="65" y="165"/>
                  </a:lnTo>
                  <a:lnTo>
                    <a:pt x="20" y="203"/>
                  </a:lnTo>
                  <a:lnTo>
                    <a:pt x="21" y="221"/>
                  </a:lnTo>
                  <a:lnTo>
                    <a:pt x="20" y="203"/>
                  </a:lnTo>
                  <a:lnTo>
                    <a:pt x="0" y="222"/>
                  </a:lnTo>
                  <a:lnTo>
                    <a:pt x="21" y="221"/>
                  </a:lnTo>
                  <a:lnTo>
                    <a:pt x="240" y="8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3132000" y="3616200"/>
              <a:ext cx="282600" cy="57240"/>
            </a:xfrm>
            <a:custGeom>
              <a:avLst/>
              <a:gdLst/>
              <a:ahLst/>
              <a:rect l="l" t="t" r="r" b="b"/>
              <a:pathLst>
                <a:path w="892" h="179">
                  <a:moveTo>
                    <a:pt x="682" y="136"/>
                  </a:moveTo>
                  <a:lnTo>
                    <a:pt x="891" y="17"/>
                  </a:lnTo>
                  <a:lnTo>
                    <a:pt x="864" y="22"/>
                  </a:lnTo>
                  <a:lnTo>
                    <a:pt x="837" y="27"/>
                  </a:lnTo>
                  <a:lnTo>
                    <a:pt x="810" y="30"/>
                  </a:lnTo>
                  <a:lnTo>
                    <a:pt x="784" y="32"/>
                  </a:lnTo>
                  <a:lnTo>
                    <a:pt x="758" y="34"/>
                  </a:lnTo>
                  <a:lnTo>
                    <a:pt x="732" y="37"/>
                  </a:lnTo>
                  <a:lnTo>
                    <a:pt x="707" y="38"/>
                  </a:lnTo>
                  <a:lnTo>
                    <a:pt x="683" y="38"/>
                  </a:lnTo>
                  <a:lnTo>
                    <a:pt x="634" y="37"/>
                  </a:lnTo>
                  <a:lnTo>
                    <a:pt x="587" y="34"/>
                  </a:lnTo>
                  <a:lnTo>
                    <a:pt x="542" y="31"/>
                  </a:lnTo>
                  <a:lnTo>
                    <a:pt x="500" y="27"/>
                  </a:lnTo>
                  <a:lnTo>
                    <a:pt x="419" y="16"/>
                  </a:lnTo>
                  <a:lnTo>
                    <a:pt x="346" y="7"/>
                  </a:lnTo>
                  <a:lnTo>
                    <a:pt x="312" y="4"/>
                  </a:lnTo>
                  <a:lnTo>
                    <a:pt x="280" y="1"/>
                  </a:lnTo>
                  <a:lnTo>
                    <a:pt x="249" y="0"/>
                  </a:lnTo>
                  <a:lnTo>
                    <a:pt x="219" y="3"/>
                  </a:lnTo>
                  <a:lnTo>
                    <a:pt x="0" y="144"/>
                  </a:lnTo>
                  <a:lnTo>
                    <a:pt x="25" y="143"/>
                  </a:lnTo>
                  <a:lnTo>
                    <a:pt x="53" y="143"/>
                  </a:lnTo>
                  <a:lnTo>
                    <a:pt x="84" y="145"/>
                  </a:lnTo>
                  <a:lnTo>
                    <a:pt x="117" y="149"/>
                  </a:lnTo>
                  <a:lnTo>
                    <a:pt x="190" y="158"/>
                  </a:lnTo>
                  <a:lnTo>
                    <a:pt x="271" y="168"/>
                  </a:lnTo>
                  <a:lnTo>
                    <a:pt x="314" y="173"/>
                  </a:lnTo>
                  <a:lnTo>
                    <a:pt x="360" y="176"/>
                  </a:lnTo>
                  <a:lnTo>
                    <a:pt x="408" y="178"/>
                  </a:lnTo>
                  <a:lnTo>
                    <a:pt x="458" y="179"/>
                  </a:lnTo>
                  <a:lnTo>
                    <a:pt x="483" y="179"/>
                  </a:lnTo>
                  <a:lnTo>
                    <a:pt x="511" y="178"/>
                  </a:lnTo>
                  <a:lnTo>
                    <a:pt x="537" y="177"/>
                  </a:lnTo>
                  <a:lnTo>
                    <a:pt x="564" y="175"/>
                  </a:lnTo>
                  <a:lnTo>
                    <a:pt x="593" y="171"/>
                  </a:lnTo>
                  <a:lnTo>
                    <a:pt x="622" y="168"/>
                  </a:lnTo>
                  <a:lnTo>
                    <a:pt x="652" y="163"/>
                  </a:lnTo>
                  <a:lnTo>
                    <a:pt x="683" y="158"/>
                  </a:lnTo>
                  <a:lnTo>
                    <a:pt x="892" y="39"/>
                  </a:lnTo>
                  <a:lnTo>
                    <a:pt x="683" y="158"/>
                  </a:lnTo>
                  <a:lnTo>
                    <a:pt x="789" y="136"/>
                  </a:lnTo>
                  <a:lnTo>
                    <a:pt x="892" y="39"/>
                  </a:lnTo>
                  <a:lnTo>
                    <a:pt x="682" y="13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3348000" y="3602160"/>
              <a:ext cx="277920" cy="56880"/>
            </a:xfrm>
            <a:custGeom>
              <a:avLst/>
              <a:gdLst/>
              <a:ahLst/>
              <a:rect l="l" t="t" r="r" b="b"/>
              <a:pathLst>
                <a:path w="877" h="180">
                  <a:moveTo>
                    <a:pt x="326" y="142"/>
                  </a:moveTo>
                  <a:lnTo>
                    <a:pt x="543" y="1"/>
                  </a:lnTo>
                  <a:lnTo>
                    <a:pt x="501" y="7"/>
                  </a:lnTo>
                  <a:lnTo>
                    <a:pt x="454" y="12"/>
                  </a:lnTo>
                  <a:lnTo>
                    <a:pt x="404" y="18"/>
                  </a:lnTo>
                  <a:lnTo>
                    <a:pt x="354" y="24"/>
                  </a:lnTo>
                  <a:lnTo>
                    <a:pt x="329" y="26"/>
                  </a:lnTo>
                  <a:lnTo>
                    <a:pt x="305" y="31"/>
                  </a:lnTo>
                  <a:lnTo>
                    <a:pt x="282" y="34"/>
                  </a:lnTo>
                  <a:lnTo>
                    <a:pt x="259" y="40"/>
                  </a:lnTo>
                  <a:lnTo>
                    <a:pt x="234" y="47"/>
                  </a:lnTo>
                  <a:lnTo>
                    <a:pt x="194" y="60"/>
                  </a:lnTo>
                  <a:lnTo>
                    <a:pt x="92" y="114"/>
                  </a:lnTo>
                  <a:lnTo>
                    <a:pt x="0" y="180"/>
                  </a:lnTo>
                  <a:lnTo>
                    <a:pt x="210" y="83"/>
                  </a:lnTo>
                  <a:lnTo>
                    <a:pt x="136" y="136"/>
                  </a:lnTo>
                  <a:lnTo>
                    <a:pt x="58" y="177"/>
                  </a:lnTo>
                  <a:lnTo>
                    <a:pt x="49" y="180"/>
                  </a:lnTo>
                  <a:lnTo>
                    <a:pt x="58" y="178"/>
                  </a:lnTo>
                  <a:lnTo>
                    <a:pt x="74" y="174"/>
                  </a:lnTo>
                  <a:lnTo>
                    <a:pt x="92" y="171"/>
                  </a:lnTo>
                  <a:lnTo>
                    <a:pt x="114" y="167"/>
                  </a:lnTo>
                  <a:lnTo>
                    <a:pt x="136" y="165"/>
                  </a:lnTo>
                  <a:lnTo>
                    <a:pt x="185" y="159"/>
                  </a:lnTo>
                  <a:lnTo>
                    <a:pt x="236" y="154"/>
                  </a:lnTo>
                  <a:lnTo>
                    <a:pt x="285" y="148"/>
                  </a:lnTo>
                  <a:lnTo>
                    <a:pt x="332" y="141"/>
                  </a:lnTo>
                  <a:lnTo>
                    <a:pt x="549" y="0"/>
                  </a:lnTo>
                  <a:lnTo>
                    <a:pt x="332" y="141"/>
                  </a:lnTo>
                  <a:lnTo>
                    <a:pt x="877" y="10"/>
                  </a:lnTo>
                  <a:lnTo>
                    <a:pt x="549" y="0"/>
                  </a:lnTo>
                  <a:lnTo>
                    <a:pt x="326" y="14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5992920" y="3614760"/>
              <a:ext cx="320400" cy="46080"/>
            </a:xfrm>
            <a:custGeom>
              <a:avLst/>
              <a:gdLst/>
              <a:ahLst/>
              <a:rect l="l" t="t" r="r" b="b"/>
              <a:pathLst>
                <a:path w="1012" h="145">
                  <a:moveTo>
                    <a:pt x="0" y="63"/>
                  </a:moveTo>
                  <a:lnTo>
                    <a:pt x="30" y="64"/>
                  </a:lnTo>
                  <a:lnTo>
                    <a:pt x="56" y="64"/>
                  </a:lnTo>
                  <a:lnTo>
                    <a:pt x="81" y="64"/>
                  </a:lnTo>
                  <a:lnTo>
                    <a:pt x="105" y="63"/>
                  </a:lnTo>
                  <a:lnTo>
                    <a:pt x="147" y="59"/>
                  </a:lnTo>
                  <a:lnTo>
                    <a:pt x="183" y="55"/>
                  </a:lnTo>
                  <a:lnTo>
                    <a:pt x="214" y="49"/>
                  </a:lnTo>
                  <a:lnTo>
                    <a:pt x="241" y="42"/>
                  </a:lnTo>
                  <a:lnTo>
                    <a:pt x="264" y="35"/>
                  </a:lnTo>
                  <a:lnTo>
                    <a:pt x="284" y="27"/>
                  </a:lnTo>
                  <a:lnTo>
                    <a:pt x="302" y="21"/>
                  </a:lnTo>
                  <a:lnTo>
                    <a:pt x="321" y="14"/>
                  </a:lnTo>
                  <a:lnTo>
                    <a:pt x="337" y="8"/>
                  </a:lnTo>
                  <a:lnTo>
                    <a:pt x="354" y="3"/>
                  </a:lnTo>
                  <a:lnTo>
                    <a:pt x="372" y="1"/>
                  </a:lnTo>
                  <a:lnTo>
                    <a:pt x="391" y="0"/>
                  </a:lnTo>
                  <a:lnTo>
                    <a:pt x="414" y="1"/>
                  </a:lnTo>
                  <a:lnTo>
                    <a:pt x="440" y="5"/>
                  </a:lnTo>
                  <a:lnTo>
                    <a:pt x="451" y="11"/>
                  </a:lnTo>
                  <a:lnTo>
                    <a:pt x="463" y="18"/>
                  </a:lnTo>
                  <a:lnTo>
                    <a:pt x="478" y="23"/>
                  </a:lnTo>
                  <a:lnTo>
                    <a:pt x="493" y="29"/>
                  </a:lnTo>
                  <a:lnTo>
                    <a:pt x="510" y="33"/>
                  </a:lnTo>
                  <a:lnTo>
                    <a:pt x="527" y="36"/>
                  </a:lnTo>
                  <a:lnTo>
                    <a:pt x="546" y="40"/>
                  </a:lnTo>
                  <a:lnTo>
                    <a:pt x="566" y="43"/>
                  </a:lnTo>
                  <a:lnTo>
                    <a:pt x="608" y="49"/>
                  </a:lnTo>
                  <a:lnTo>
                    <a:pt x="652" y="54"/>
                  </a:lnTo>
                  <a:lnTo>
                    <a:pt x="697" y="57"/>
                  </a:lnTo>
                  <a:lnTo>
                    <a:pt x="743" y="60"/>
                  </a:lnTo>
                  <a:lnTo>
                    <a:pt x="788" y="64"/>
                  </a:lnTo>
                  <a:lnTo>
                    <a:pt x="831" y="67"/>
                  </a:lnTo>
                  <a:lnTo>
                    <a:pt x="872" y="71"/>
                  </a:lnTo>
                  <a:lnTo>
                    <a:pt x="911" y="75"/>
                  </a:lnTo>
                  <a:lnTo>
                    <a:pt x="928" y="79"/>
                  </a:lnTo>
                  <a:lnTo>
                    <a:pt x="944" y="81"/>
                  </a:lnTo>
                  <a:lnTo>
                    <a:pt x="960" y="84"/>
                  </a:lnTo>
                  <a:lnTo>
                    <a:pt x="974" y="89"/>
                  </a:lnTo>
                  <a:lnTo>
                    <a:pt x="985" y="92"/>
                  </a:lnTo>
                  <a:lnTo>
                    <a:pt x="996" y="98"/>
                  </a:lnTo>
                  <a:lnTo>
                    <a:pt x="1005" y="103"/>
                  </a:lnTo>
                  <a:lnTo>
                    <a:pt x="1012" y="108"/>
                  </a:lnTo>
                  <a:lnTo>
                    <a:pt x="983" y="107"/>
                  </a:lnTo>
                  <a:lnTo>
                    <a:pt x="953" y="107"/>
                  </a:lnTo>
                  <a:lnTo>
                    <a:pt x="921" y="110"/>
                  </a:lnTo>
                  <a:lnTo>
                    <a:pt x="888" y="113"/>
                  </a:lnTo>
                  <a:lnTo>
                    <a:pt x="815" y="123"/>
                  </a:lnTo>
                  <a:lnTo>
                    <a:pt x="736" y="133"/>
                  </a:lnTo>
                  <a:lnTo>
                    <a:pt x="692" y="138"/>
                  </a:lnTo>
                  <a:lnTo>
                    <a:pt x="647" y="141"/>
                  </a:lnTo>
                  <a:lnTo>
                    <a:pt x="600" y="144"/>
                  </a:lnTo>
                  <a:lnTo>
                    <a:pt x="551" y="145"/>
                  </a:lnTo>
                  <a:lnTo>
                    <a:pt x="525" y="144"/>
                  </a:lnTo>
                  <a:lnTo>
                    <a:pt x="500" y="143"/>
                  </a:lnTo>
                  <a:lnTo>
                    <a:pt x="473" y="141"/>
                  </a:lnTo>
                  <a:lnTo>
                    <a:pt x="446" y="139"/>
                  </a:lnTo>
                  <a:lnTo>
                    <a:pt x="419" y="137"/>
                  </a:lnTo>
                  <a:lnTo>
                    <a:pt x="391" y="132"/>
                  </a:lnTo>
                  <a:lnTo>
                    <a:pt x="363" y="129"/>
                  </a:lnTo>
                  <a:lnTo>
                    <a:pt x="333" y="123"/>
                  </a:lnTo>
                  <a:lnTo>
                    <a:pt x="324" y="116"/>
                  </a:lnTo>
                  <a:lnTo>
                    <a:pt x="313" y="111"/>
                  </a:lnTo>
                  <a:lnTo>
                    <a:pt x="297" y="105"/>
                  </a:lnTo>
                  <a:lnTo>
                    <a:pt x="280" y="100"/>
                  </a:lnTo>
                  <a:lnTo>
                    <a:pt x="260" y="96"/>
                  </a:lnTo>
                  <a:lnTo>
                    <a:pt x="240" y="92"/>
                  </a:lnTo>
                  <a:lnTo>
                    <a:pt x="217" y="89"/>
                  </a:lnTo>
                  <a:lnTo>
                    <a:pt x="193" y="86"/>
                  </a:lnTo>
                  <a:lnTo>
                    <a:pt x="144" y="80"/>
                  </a:lnTo>
                  <a:lnTo>
                    <a:pt x="94" y="75"/>
                  </a:lnTo>
                  <a:lnTo>
                    <a:pt x="45" y="7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5956200" y="3592440"/>
              <a:ext cx="212760" cy="65160"/>
            </a:xfrm>
            <a:custGeom>
              <a:avLst/>
              <a:gdLst/>
              <a:ahLst/>
              <a:rect l="l" t="t" r="r" b="b"/>
              <a:pathLst>
                <a:path w="670" h="207">
                  <a:moveTo>
                    <a:pt x="670" y="7"/>
                  </a:moveTo>
                  <a:lnTo>
                    <a:pt x="668" y="6"/>
                  </a:lnTo>
                  <a:lnTo>
                    <a:pt x="640" y="2"/>
                  </a:lnTo>
                  <a:lnTo>
                    <a:pt x="616" y="0"/>
                  </a:lnTo>
                  <a:lnTo>
                    <a:pt x="593" y="2"/>
                  </a:lnTo>
                  <a:lnTo>
                    <a:pt x="570" y="6"/>
                  </a:lnTo>
                  <a:lnTo>
                    <a:pt x="543" y="13"/>
                  </a:lnTo>
                  <a:lnTo>
                    <a:pt x="516" y="22"/>
                  </a:lnTo>
                  <a:lnTo>
                    <a:pt x="493" y="31"/>
                  </a:lnTo>
                  <a:lnTo>
                    <a:pt x="478" y="37"/>
                  </a:lnTo>
                  <a:lnTo>
                    <a:pt x="466" y="41"/>
                  </a:lnTo>
                  <a:lnTo>
                    <a:pt x="451" y="46"/>
                  </a:lnTo>
                  <a:lnTo>
                    <a:pt x="429" y="51"/>
                  </a:lnTo>
                  <a:lnTo>
                    <a:pt x="402" y="56"/>
                  </a:lnTo>
                  <a:lnTo>
                    <a:pt x="369" y="61"/>
                  </a:lnTo>
                  <a:lnTo>
                    <a:pt x="328" y="64"/>
                  </a:lnTo>
                  <a:lnTo>
                    <a:pt x="305" y="65"/>
                  </a:lnTo>
                  <a:lnTo>
                    <a:pt x="281" y="65"/>
                  </a:lnTo>
                  <a:lnTo>
                    <a:pt x="255" y="65"/>
                  </a:lnTo>
                  <a:lnTo>
                    <a:pt x="226" y="64"/>
                  </a:lnTo>
                  <a:lnTo>
                    <a:pt x="0" y="205"/>
                  </a:lnTo>
                  <a:lnTo>
                    <a:pt x="29" y="207"/>
                  </a:lnTo>
                  <a:lnTo>
                    <a:pt x="57" y="207"/>
                  </a:lnTo>
                  <a:lnTo>
                    <a:pt x="82" y="207"/>
                  </a:lnTo>
                  <a:lnTo>
                    <a:pt x="106" y="205"/>
                  </a:lnTo>
                  <a:lnTo>
                    <a:pt x="150" y="202"/>
                  </a:lnTo>
                  <a:lnTo>
                    <a:pt x="188" y="197"/>
                  </a:lnTo>
                  <a:lnTo>
                    <a:pt x="223" y="191"/>
                  </a:lnTo>
                  <a:lnTo>
                    <a:pt x="255" y="183"/>
                  </a:lnTo>
                  <a:lnTo>
                    <a:pt x="287" y="172"/>
                  </a:lnTo>
                  <a:lnTo>
                    <a:pt x="315" y="162"/>
                  </a:lnTo>
                  <a:lnTo>
                    <a:pt x="337" y="154"/>
                  </a:lnTo>
                  <a:lnTo>
                    <a:pt x="348" y="150"/>
                  </a:lnTo>
                  <a:lnTo>
                    <a:pt x="354" y="147"/>
                  </a:lnTo>
                  <a:lnTo>
                    <a:pt x="362" y="145"/>
                  </a:lnTo>
                  <a:lnTo>
                    <a:pt x="375" y="144"/>
                  </a:lnTo>
                  <a:lnTo>
                    <a:pt x="391" y="143"/>
                  </a:lnTo>
                  <a:lnTo>
                    <a:pt x="412" y="144"/>
                  </a:lnTo>
                  <a:lnTo>
                    <a:pt x="436" y="147"/>
                  </a:lnTo>
                  <a:lnTo>
                    <a:pt x="434" y="146"/>
                  </a:lnTo>
                  <a:lnTo>
                    <a:pt x="670" y="7"/>
                  </a:lnTo>
                  <a:lnTo>
                    <a:pt x="669" y="7"/>
                  </a:lnTo>
                  <a:lnTo>
                    <a:pt x="668" y="6"/>
                  </a:lnTo>
                  <a:lnTo>
                    <a:pt x="670" y="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094440" y="3594240"/>
              <a:ext cx="282600" cy="82440"/>
            </a:xfrm>
            <a:custGeom>
              <a:avLst/>
              <a:gdLst/>
              <a:ahLst/>
              <a:rect l="l" t="t" r="r" b="b"/>
              <a:pathLst>
                <a:path w="891" h="257">
                  <a:moveTo>
                    <a:pt x="576" y="244"/>
                  </a:moveTo>
                  <a:lnTo>
                    <a:pt x="808" y="105"/>
                  </a:lnTo>
                  <a:lnTo>
                    <a:pt x="801" y="98"/>
                  </a:lnTo>
                  <a:lnTo>
                    <a:pt x="791" y="92"/>
                  </a:lnTo>
                  <a:lnTo>
                    <a:pt x="781" y="88"/>
                  </a:lnTo>
                  <a:lnTo>
                    <a:pt x="768" y="83"/>
                  </a:lnTo>
                  <a:lnTo>
                    <a:pt x="753" y="79"/>
                  </a:lnTo>
                  <a:lnTo>
                    <a:pt x="739" y="75"/>
                  </a:lnTo>
                  <a:lnTo>
                    <a:pt x="721" y="73"/>
                  </a:lnTo>
                  <a:lnTo>
                    <a:pt x="704" y="70"/>
                  </a:lnTo>
                  <a:lnTo>
                    <a:pt x="666" y="65"/>
                  </a:lnTo>
                  <a:lnTo>
                    <a:pt x="623" y="62"/>
                  </a:lnTo>
                  <a:lnTo>
                    <a:pt x="580" y="58"/>
                  </a:lnTo>
                  <a:lnTo>
                    <a:pt x="535" y="55"/>
                  </a:lnTo>
                  <a:lnTo>
                    <a:pt x="489" y="51"/>
                  </a:lnTo>
                  <a:lnTo>
                    <a:pt x="444" y="48"/>
                  </a:lnTo>
                  <a:lnTo>
                    <a:pt x="400" y="43"/>
                  </a:lnTo>
                  <a:lnTo>
                    <a:pt x="359" y="38"/>
                  </a:lnTo>
                  <a:lnTo>
                    <a:pt x="340" y="34"/>
                  </a:lnTo>
                  <a:lnTo>
                    <a:pt x="321" y="31"/>
                  </a:lnTo>
                  <a:lnTo>
                    <a:pt x="303" y="27"/>
                  </a:lnTo>
                  <a:lnTo>
                    <a:pt x="287" y="23"/>
                  </a:lnTo>
                  <a:lnTo>
                    <a:pt x="272" y="18"/>
                  </a:lnTo>
                  <a:lnTo>
                    <a:pt x="259" y="13"/>
                  </a:lnTo>
                  <a:lnTo>
                    <a:pt x="246" y="7"/>
                  </a:lnTo>
                  <a:lnTo>
                    <a:pt x="236" y="0"/>
                  </a:lnTo>
                  <a:lnTo>
                    <a:pt x="0" y="139"/>
                  </a:lnTo>
                  <a:lnTo>
                    <a:pt x="11" y="146"/>
                  </a:lnTo>
                  <a:lnTo>
                    <a:pt x="25" y="153"/>
                  </a:lnTo>
                  <a:lnTo>
                    <a:pt x="40" y="159"/>
                  </a:lnTo>
                  <a:lnTo>
                    <a:pt x="55" y="164"/>
                  </a:lnTo>
                  <a:lnTo>
                    <a:pt x="72" y="168"/>
                  </a:lnTo>
                  <a:lnTo>
                    <a:pt x="90" y="172"/>
                  </a:lnTo>
                  <a:lnTo>
                    <a:pt x="109" y="176"/>
                  </a:lnTo>
                  <a:lnTo>
                    <a:pt x="130" y="179"/>
                  </a:lnTo>
                  <a:lnTo>
                    <a:pt x="172" y="185"/>
                  </a:lnTo>
                  <a:lnTo>
                    <a:pt x="215" y="189"/>
                  </a:lnTo>
                  <a:lnTo>
                    <a:pt x="261" y="193"/>
                  </a:lnTo>
                  <a:lnTo>
                    <a:pt x="308" y="196"/>
                  </a:lnTo>
                  <a:lnTo>
                    <a:pt x="352" y="200"/>
                  </a:lnTo>
                  <a:lnTo>
                    <a:pt x="395" y="203"/>
                  </a:lnTo>
                  <a:lnTo>
                    <a:pt x="436" y="206"/>
                  </a:lnTo>
                  <a:lnTo>
                    <a:pt x="474" y="211"/>
                  </a:lnTo>
                  <a:lnTo>
                    <a:pt x="491" y="214"/>
                  </a:lnTo>
                  <a:lnTo>
                    <a:pt x="507" y="217"/>
                  </a:lnTo>
                  <a:lnTo>
                    <a:pt x="522" y="220"/>
                  </a:lnTo>
                  <a:lnTo>
                    <a:pt x="536" y="224"/>
                  </a:lnTo>
                  <a:lnTo>
                    <a:pt x="547" y="228"/>
                  </a:lnTo>
                  <a:lnTo>
                    <a:pt x="557" y="233"/>
                  </a:lnTo>
                  <a:lnTo>
                    <a:pt x="565" y="237"/>
                  </a:lnTo>
                  <a:lnTo>
                    <a:pt x="571" y="243"/>
                  </a:lnTo>
                  <a:lnTo>
                    <a:pt x="804" y="103"/>
                  </a:lnTo>
                  <a:lnTo>
                    <a:pt x="576" y="244"/>
                  </a:lnTo>
                  <a:lnTo>
                    <a:pt x="891" y="257"/>
                  </a:lnTo>
                  <a:lnTo>
                    <a:pt x="808" y="105"/>
                  </a:lnTo>
                  <a:lnTo>
                    <a:pt x="576" y="24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8" name=""/>
          <p:cNvGrpSpPr/>
          <p:nvPr/>
        </p:nvGrpSpPr>
        <p:grpSpPr>
          <a:xfrm>
            <a:off x="2570040" y="3060720"/>
            <a:ext cx="3975120" cy="2598840"/>
            <a:chOff x="2570040" y="3060720"/>
            <a:chExt cx="3975120" cy="2598840"/>
          </a:xfrm>
        </p:grpSpPr>
        <p:grpSp>
          <p:nvGrpSpPr>
            <p:cNvPr id="6429" name=""/>
            <p:cNvGrpSpPr/>
            <p:nvPr/>
          </p:nvGrpSpPr>
          <p:grpSpPr>
            <a:xfrm>
              <a:off x="2592360" y="3517920"/>
              <a:ext cx="3916440" cy="490680"/>
              <a:chOff x="2592360" y="3517920"/>
              <a:chExt cx="3916440" cy="490680"/>
            </a:xfrm>
          </p:grpSpPr>
          <p:sp>
            <p:nvSpPr>
              <p:cNvPr id="6430" name=""/>
              <p:cNvSpPr/>
              <p:nvPr/>
            </p:nvSpPr>
            <p:spPr>
              <a:xfrm>
                <a:off x="6060960" y="3627360"/>
                <a:ext cx="289080" cy="57240"/>
              </a:xfrm>
              <a:custGeom>
                <a:avLst/>
                <a:gdLst/>
                <a:ahLst/>
                <a:rect l="l" t="t" r="r" b="b"/>
                <a:pathLst>
                  <a:path w="910" h="180">
                    <a:moveTo>
                      <a:pt x="0" y="157"/>
                    </a:moveTo>
                    <a:lnTo>
                      <a:pt x="2" y="158"/>
                    </a:lnTo>
                    <a:lnTo>
                      <a:pt x="32" y="164"/>
                    </a:lnTo>
                    <a:lnTo>
                      <a:pt x="60" y="168"/>
                    </a:lnTo>
                    <a:lnTo>
                      <a:pt x="89" y="172"/>
                    </a:lnTo>
                    <a:lnTo>
                      <a:pt x="116" y="174"/>
                    </a:lnTo>
                    <a:lnTo>
                      <a:pt x="143" y="176"/>
                    </a:lnTo>
                    <a:lnTo>
                      <a:pt x="170" y="178"/>
                    </a:lnTo>
                    <a:lnTo>
                      <a:pt x="196" y="178"/>
                    </a:lnTo>
                    <a:lnTo>
                      <a:pt x="222" y="180"/>
                    </a:lnTo>
                    <a:lnTo>
                      <a:pt x="272" y="178"/>
                    </a:lnTo>
                    <a:lnTo>
                      <a:pt x="320" y="176"/>
                    </a:lnTo>
                    <a:lnTo>
                      <a:pt x="366" y="173"/>
                    </a:lnTo>
                    <a:lnTo>
                      <a:pt x="410" y="168"/>
                    </a:lnTo>
                    <a:lnTo>
                      <a:pt x="491" y="158"/>
                    </a:lnTo>
                    <a:lnTo>
                      <a:pt x="564" y="148"/>
                    </a:lnTo>
                    <a:lnTo>
                      <a:pt x="596" y="144"/>
                    </a:lnTo>
                    <a:lnTo>
                      <a:pt x="627" y="143"/>
                    </a:lnTo>
                    <a:lnTo>
                      <a:pt x="654" y="142"/>
                    </a:lnTo>
                    <a:lnTo>
                      <a:pt x="682" y="143"/>
                    </a:lnTo>
                    <a:lnTo>
                      <a:pt x="910" y="2"/>
                    </a:lnTo>
                    <a:lnTo>
                      <a:pt x="880" y="0"/>
                    </a:lnTo>
                    <a:lnTo>
                      <a:pt x="849" y="0"/>
                    </a:lnTo>
                    <a:lnTo>
                      <a:pt x="816" y="3"/>
                    </a:lnTo>
                    <a:lnTo>
                      <a:pt x="781" y="6"/>
                    </a:lnTo>
                    <a:lnTo>
                      <a:pt x="708" y="16"/>
                    </a:lnTo>
                    <a:lnTo>
                      <a:pt x="628" y="27"/>
                    </a:lnTo>
                    <a:lnTo>
                      <a:pt x="586" y="31"/>
                    </a:lnTo>
                    <a:lnTo>
                      <a:pt x="541" y="35"/>
                    </a:lnTo>
                    <a:lnTo>
                      <a:pt x="496" y="37"/>
                    </a:lnTo>
                    <a:lnTo>
                      <a:pt x="447" y="37"/>
                    </a:lnTo>
                    <a:lnTo>
                      <a:pt x="422" y="37"/>
                    </a:lnTo>
                    <a:lnTo>
                      <a:pt x="397" y="36"/>
                    </a:lnTo>
                    <a:lnTo>
                      <a:pt x="370" y="35"/>
                    </a:lnTo>
                    <a:lnTo>
                      <a:pt x="344" y="32"/>
                    </a:lnTo>
                    <a:lnTo>
                      <a:pt x="317" y="30"/>
                    </a:lnTo>
                    <a:lnTo>
                      <a:pt x="289" y="26"/>
                    </a:lnTo>
                    <a:lnTo>
                      <a:pt x="262" y="22"/>
                    </a:lnTo>
                    <a:lnTo>
                      <a:pt x="234" y="16"/>
                    </a:lnTo>
                    <a:lnTo>
                      <a:pt x="236" y="18"/>
                    </a:lnTo>
                    <a:lnTo>
                      <a:pt x="0" y="157"/>
                    </a:lnTo>
                    <a:lnTo>
                      <a:pt x="0" y="158"/>
                    </a:lnTo>
                    <a:lnTo>
                      <a:pt x="2" y="158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5911920" y="3611520"/>
                <a:ext cx="223920" cy="65160"/>
              </a:xfrm>
              <a:custGeom>
                <a:avLst/>
                <a:gdLst/>
                <a:ahLst/>
                <a:rect l="l" t="t" r="r" b="b"/>
                <a:pathLst>
                  <a:path w="707" h="206">
                    <a:moveTo>
                      <a:pt x="369" y="5"/>
                    </a:moveTo>
                    <a:lnTo>
                      <a:pt x="141" y="146"/>
                    </a:lnTo>
                    <a:lnTo>
                      <a:pt x="186" y="153"/>
                    </a:lnTo>
                    <a:lnTo>
                      <a:pt x="235" y="159"/>
                    </a:lnTo>
                    <a:lnTo>
                      <a:pt x="285" y="164"/>
                    </a:lnTo>
                    <a:lnTo>
                      <a:pt x="334" y="169"/>
                    </a:lnTo>
                    <a:lnTo>
                      <a:pt x="357" y="173"/>
                    </a:lnTo>
                    <a:lnTo>
                      <a:pt x="380" y="176"/>
                    </a:lnTo>
                    <a:lnTo>
                      <a:pt x="400" y="180"/>
                    </a:lnTo>
                    <a:lnTo>
                      <a:pt x="420" y="184"/>
                    </a:lnTo>
                    <a:lnTo>
                      <a:pt x="435" y="189"/>
                    </a:lnTo>
                    <a:lnTo>
                      <a:pt x="450" y="193"/>
                    </a:lnTo>
                    <a:lnTo>
                      <a:pt x="462" y="199"/>
                    </a:lnTo>
                    <a:lnTo>
                      <a:pt x="471" y="206"/>
                    </a:lnTo>
                    <a:lnTo>
                      <a:pt x="707" y="67"/>
                    </a:lnTo>
                    <a:lnTo>
                      <a:pt x="698" y="60"/>
                    </a:lnTo>
                    <a:lnTo>
                      <a:pt x="684" y="53"/>
                    </a:lnTo>
                    <a:lnTo>
                      <a:pt x="668" y="47"/>
                    </a:lnTo>
                    <a:lnTo>
                      <a:pt x="651" y="43"/>
                    </a:lnTo>
                    <a:lnTo>
                      <a:pt x="632" y="38"/>
                    </a:lnTo>
                    <a:lnTo>
                      <a:pt x="610" y="35"/>
                    </a:lnTo>
                    <a:lnTo>
                      <a:pt x="587" y="31"/>
                    </a:lnTo>
                    <a:lnTo>
                      <a:pt x="563" y="28"/>
                    </a:lnTo>
                    <a:lnTo>
                      <a:pt x="513" y="22"/>
                    </a:lnTo>
                    <a:lnTo>
                      <a:pt x="463" y="18"/>
                    </a:lnTo>
                    <a:lnTo>
                      <a:pt x="415" y="12"/>
                    </a:lnTo>
                    <a:lnTo>
                      <a:pt x="371" y="5"/>
                    </a:lnTo>
                    <a:lnTo>
                      <a:pt x="143" y="146"/>
                    </a:lnTo>
                    <a:lnTo>
                      <a:pt x="369" y="5"/>
                    </a:lnTo>
                    <a:lnTo>
                      <a:pt x="0" y="0"/>
                    </a:lnTo>
                    <a:lnTo>
                      <a:pt x="141" y="146"/>
                    </a:lnTo>
                    <a:lnTo>
                      <a:pt x="369" y="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3156120" y="3873600"/>
                <a:ext cx="320400" cy="46080"/>
              </a:xfrm>
              <a:custGeom>
                <a:avLst/>
                <a:gdLst/>
                <a:ahLst/>
                <a:rect l="l" t="t" r="r" b="b"/>
                <a:pathLst>
                  <a:path w="1009" h="145">
                    <a:moveTo>
                      <a:pt x="1009" y="63"/>
                    </a:moveTo>
                    <a:lnTo>
                      <a:pt x="981" y="64"/>
                    </a:lnTo>
                    <a:lnTo>
                      <a:pt x="953" y="64"/>
                    </a:lnTo>
                    <a:lnTo>
                      <a:pt x="928" y="64"/>
                    </a:lnTo>
                    <a:lnTo>
                      <a:pt x="905" y="63"/>
                    </a:lnTo>
                    <a:lnTo>
                      <a:pt x="863" y="59"/>
                    </a:lnTo>
                    <a:lnTo>
                      <a:pt x="828" y="55"/>
                    </a:lnTo>
                    <a:lnTo>
                      <a:pt x="797" y="49"/>
                    </a:lnTo>
                    <a:lnTo>
                      <a:pt x="771" y="42"/>
                    </a:lnTo>
                    <a:lnTo>
                      <a:pt x="747" y="36"/>
                    </a:lnTo>
                    <a:lnTo>
                      <a:pt x="728" y="28"/>
                    </a:lnTo>
                    <a:lnTo>
                      <a:pt x="709" y="21"/>
                    </a:lnTo>
                    <a:lnTo>
                      <a:pt x="692" y="14"/>
                    </a:lnTo>
                    <a:lnTo>
                      <a:pt x="675" y="8"/>
                    </a:lnTo>
                    <a:lnTo>
                      <a:pt x="658" y="4"/>
                    </a:lnTo>
                    <a:lnTo>
                      <a:pt x="640" y="1"/>
                    </a:lnTo>
                    <a:lnTo>
                      <a:pt x="620" y="0"/>
                    </a:lnTo>
                    <a:lnTo>
                      <a:pt x="598" y="1"/>
                    </a:lnTo>
                    <a:lnTo>
                      <a:pt x="573" y="5"/>
                    </a:lnTo>
                    <a:lnTo>
                      <a:pt x="561" y="12"/>
                    </a:lnTo>
                    <a:lnTo>
                      <a:pt x="549" y="18"/>
                    </a:lnTo>
                    <a:lnTo>
                      <a:pt x="534" y="23"/>
                    </a:lnTo>
                    <a:lnTo>
                      <a:pt x="518" y="29"/>
                    </a:lnTo>
                    <a:lnTo>
                      <a:pt x="502" y="33"/>
                    </a:lnTo>
                    <a:lnTo>
                      <a:pt x="484" y="37"/>
                    </a:lnTo>
                    <a:lnTo>
                      <a:pt x="464" y="40"/>
                    </a:lnTo>
                    <a:lnTo>
                      <a:pt x="445" y="44"/>
                    </a:lnTo>
                    <a:lnTo>
                      <a:pt x="403" y="49"/>
                    </a:lnTo>
                    <a:lnTo>
                      <a:pt x="359" y="54"/>
                    </a:lnTo>
                    <a:lnTo>
                      <a:pt x="314" y="57"/>
                    </a:lnTo>
                    <a:lnTo>
                      <a:pt x="268" y="61"/>
                    </a:lnTo>
                    <a:lnTo>
                      <a:pt x="224" y="64"/>
                    </a:lnTo>
                    <a:lnTo>
                      <a:pt x="179" y="67"/>
                    </a:lnTo>
                    <a:lnTo>
                      <a:pt x="138" y="71"/>
                    </a:lnTo>
                    <a:lnTo>
                      <a:pt x="101" y="75"/>
                    </a:lnTo>
                    <a:lnTo>
                      <a:pt x="84" y="79"/>
                    </a:lnTo>
                    <a:lnTo>
                      <a:pt x="68" y="81"/>
                    </a:lnTo>
                    <a:lnTo>
                      <a:pt x="52" y="85"/>
                    </a:lnTo>
                    <a:lnTo>
                      <a:pt x="39" y="89"/>
                    </a:lnTo>
                    <a:lnTo>
                      <a:pt x="27" y="94"/>
                    </a:lnTo>
                    <a:lnTo>
                      <a:pt x="16" y="98"/>
                    </a:lnTo>
                    <a:lnTo>
                      <a:pt x="7" y="103"/>
                    </a:lnTo>
                    <a:lnTo>
                      <a:pt x="0" y="109"/>
                    </a:lnTo>
                    <a:lnTo>
                      <a:pt x="29" y="107"/>
                    </a:lnTo>
                    <a:lnTo>
                      <a:pt x="58" y="107"/>
                    </a:lnTo>
                    <a:lnTo>
                      <a:pt x="90" y="110"/>
                    </a:lnTo>
                    <a:lnTo>
                      <a:pt x="123" y="113"/>
                    </a:lnTo>
                    <a:lnTo>
                      <a:pt x="196" y="123"/>
                    </a:lnTo>
                    <a:lnTo>
                      <a:pt x="277" y="134"/>
                    </a:lnTo>
                    <a:lnTo>
                      <a:pt x="321" y="138"/>
                    </a:lnTo>
                    <a:lnTo>
                      <a:pt x="365" y="142"/>
                    </a:lnTo>
                    <a:lnTo>
                      <a:pt x="413" y="144"/>
                    </a:lnTo>
                    <a:lnTo>
                      <a:pt x="462" y="145"/>
                    </a:lnTo>
                    <a:lnTo>
                      <a:pt x="487" y="144"/>
                    </a:lnTo>
                    <a:lnTo>
                      <a:pt x="512" y="144"/>
                    </a:lnTo>
                    <a:lnTo>
                      <a:pt x="540" y="142"/>
                    </a:lnTo>
                    <a:lnTo>
                      <a:pt x="566" y="139"/>
                    </a:lnTo>
                    <a:lnTo>
                      <a:pt x="593" y="137"/>
                    </a:lnTo>
                    <a:lnTo>
                      <a:pt x="622" y="134"/>
                    </a:lnTo>
                    <a:lnTo>
                      <a:pt x="649" y="129"/>
                    </a:lnTo>
                    <a:lnTo>
                      <a:pt x="679" y="123"/>
                    </a:lnTo>
                    <a:lnTo>
                      <a:pt x="688" y="117"/>
                    </a:lnTo>
                    <a:lnTo>
                      <a:pt x="700" y="111"/>
                    </a:lnTo>
                    <a:lnTo>
                      <a:pt x="715" y="105"/>
                    </a:lnTo>
                    <a:lnTo>
                      <a:pt x="732" y="101"/>
                    </a:lnTo>
                    <a:lnTo>
                      <a:pt x="752" y="96"/>
                    </a:lnTo>
                    <a:lnTo>
                      <a:pt x="772" y="93"/>
                    </a:lnTo>
                    <a:lnTo>
                      <a:pt x="795" y="89"/>
                    </a:lnTo>
                    <a:lnTo>
                      <a:pt x="819" y="86"/>
                    </a:lnTo>
                    <a:lnTo>
                      <a:pt x="868" y="80"/>
                    </a:lnTo>
                    <a:lnTo>
                      <a:pt x="917" y="75"/>
                    </a:lnTo>
                    <a:lnTo>
                      <a:pt x="965" y="70"/>
                    </a:lnTo>
                    <a:lnTo>
                      <a:pt x="1009" y="6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3305160" y="3849840"/>
                <a:ext cx="206280" cy="66600"/>
              </a:xfrm>
              <a:custGeom>
                <a:avLst/>
                <a:gdLst/>
                <a:ahLst/>
                <a:rect l="l" t="t" r="r" b="b"/>
                <a:pathLst>
                  <a:path w="653" h="206">
                    <a:moveTo>
                      <a:pt x="164" y="63"/>
                    </a:moveTo>
                    <a:lnTo>
                      <a:pt x="0" y="146"/>
                    </a:lnTo>
                    <a:lnTo>
                      <a:pt x="20" y="143"/>
                    </a:lnTo>
                    <a:lnTo>
                      <a:pt x="40" y="142"/>
                    </a:lnTo>
                    <a:lnTo>
                      <a:pt x="58" y="143"/>
                    </a:lnTo>
                    <a:lnTo>
                      <a:pt x="75" y="145"/>
                    </a:lnTo>
                    <a:lnTo>
                      <a:pt x="91" y="150"/>
                    </a:lnTo>
                    <a:lnTo>
                      <a:pt x="107" y="156"/>
                    </a:lnTo>
                    <a:lnTo>
                      <a:pt x="124" y="162"/>
                    </a:lnTo>
                    <a:lnTo>
                      <a:pt x="142" y="169"/>
                    </a:lnTo>
                    <a:lnTo>
                      <a:pt x="163" y="176"/>
                    </a:lnTo>
                    <a:lnTo>
                      <a:pt x="187" y="184"/>
                    </a:lnTo>
                    <a:lnTo>
                      <a:pt x="214" y="191"/>
                    </a:lnTo>
                    <a:lnTo>
                      <a:pt x="245" y="197"/>
                    </a:lnTo>
                    <a:lnTo>
                      <a:pt x="281" y="201"/>
                    </a:lnTo>
                    <a:lnTo>
                      <a:pt x="323" y="205"/>
                    </a:lnTo>
                    <a:lnTo>
                      <a:pt x="347" y="206"/>
                    </a:lnTo>
                    <a:lnTo>
                      <a:pt x="374" y="206"/>
                    </a:lnTo>
                    <a:lnTo>
                      <a:pt x="400" y="206"/>
                    </a:lnTo>
                    <a:lnTo>
                      <a:pt x="430" y="205"/>
                    </a:lnTo>
                    <a:lnTo>
                      <a:pt x="653" y="63"/>
                    </a:lnTo>
                    <a:lnTo>
                      <a:pt x="624" y="64"/>
                    </a:lnTo>
                    <a:lnTo>
                      <a:pt x="598" y="64"/>
                    </a:lnTo>
                    <a:lnTo>
                      <a:pt x="573" y="64"/>
                    </a:lnTo>
                    <a:lnTo>
                      <a:pt x="551" y="63"/>
                    </a:lnTo>
                    <a:lnTo>
                      <a:pt x="510" y="60"/>
                    </a:lnTo>
                    <a:lnTo>
                      <a:pt x="475" y="55"/>
                    </a:lnTo>
                    <a:lnTo>
                      <a:pt x="444" y="49"/>
                    </a:lnTo>
                    <a:lnTo>
                      <a:pt x="419" y="43"/>
                    </a:lnTo>
                    <a:lnTo>
                      <a:pt x="396" y="36"/>
                    </a:lnTo>
                    <a:lnTo>
                      <a:pt x="376" y="28"/>
                    </a:lnTo>
                    <a:lnTo>
                      <a:pt x="358" y="21"/>
                    </a:lnTo>
                    <a:lnTo>
                      <a:pt x="341" y="14"/>
                    </a:lnTo>
                    <a:lnTo>
                      <a:pt x="323" y="8"/>
                    </a:lnTo>
                    <a:lnTo>
                      <a:pt x="305" y="4"/>
                    </a:lnTo>
                    <a:lnTo>
                      <a:pt x="286" y="2"/>
                    </a:lnTo>
                    <a:lnTo>
                      <a:pt x="264" y="0"/>
                    </a:lnTo>
                    <a:lnTo>
                      <a:pt x="239" y="2"/>
                    </a:lnTo>
                    <a:lnTo>
                      <a:pt x="209" y="6"/>
                    </a:lnTo>
                    <a:lnTo>
                      <a:pt x="45" y="88"/>
                    </a:lnTo>
                    <a:lnTo>
                      <a:pt x="209" y="6"/>
                    </a:lnTo>
                    <a:lnTo>
                      <a:pt x="150" y="18"/>
                    </a:lnTo>
                    <a:lnTo>
                      <a:pt x="45" y="88"/>
                    </a:lnTo>
                    <a:lnTo>
                      <a:pt x="164" y="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3114720" y="3859200"/>
                <a:ext cx="241200" cy="71280"/>
              </a:xfrm>
              <a:custGeom>
                <a:avLst/>
                <a:gdLst/>
                <a:ahLst/>
                <a:rect l="l" t="t" r="r" b="b"/>
                <a:pathLst>
                  <a:path w="760" h="223">
                    <a:moveTo>
                      <a:pt x="238" y="79"/>
                    </a:moveTo>
                    <a:lnTo>
                      <a:pt x="239" y="97"/>
                    </a:lnTo>
                    <a:lnTo>
                      <a:pt x="207" y="123"/>
                    </a:lnTo>
                    <a:lnTo>
                      <a:pt x="123" y="175"/>
                    </a:lnTo>
                    <a:lnTo>
                      <a:pt x="80" y="194"/>
                    </a:lnTo>
                    <a:lnTo>
                      <a:pt x="74" y="196"/>
                    </a:lnTo>
                    <a:lnTo>
                      <a:pt x="80" y="195"/>
                    </a:lnTo>
                    <a:lnTo>
                      <a:pt x="91" y="193"/>
                    </a:lnTo>
                    <a:lnTo>
                      <a:pt x="104" y="189"/>
                    </a:lnTo>
                    <a:lnTo>
                      <a:pt x="120" y="187"/>
                    </a:lnTo>
                    <a:lnTo>
                      <a:pt x="157" y="183"/>
                    </a:lnTo>
                    <a:lnTo>
                      <a:pt x="198" y="179"/>
                    </a:lnTo>
                    <a:lnTo>
                      <a:pt x="241" y="176"/>
                    </a:lnTo>
                    <a:lnTo>
                      <a:pt x="286" y="172"/>
                    </a:lnTo>
                    <a:lnTo>
                      <a:pt x="331" y="169"/>
                    </a:lnTo>
                    <a:lnTo>
                      <a:pt x="377" y="166"/>
                    </a:lnTo>
                    <a:lnTo>
                      <a:pt x="422" y="161"/>
                    </a:lnTo>
                    <a:lnTo>
                      <a:pt x="466" y="155"/>
                    </a:lnTo>
                    <a:lnTo>
                      <a:pt x="487" y="152"/>
                    </a:lnTo>
                    <a:lnTo>
                      <a:pt x="508" y="148"/>
                    </a:lnTo>
                    <a:lnTo>
                      <a:pt x="528" y="143"/>
                    </a:lnTo>
                    <a:lnTo>
                      <a:pt x="550" y="137"/>
                    </a:lnTo>
                    <a:lnTo>
                      <a:pt x="575" y="129"/>
                    </a:lnTo>
                    <a:lnTo>
                      <a:pt x="611" y="115"/>
                    </a:lnTo>
                    <a:lnTo>
                      <a:pt x="673" y="86"/>
                    </a:lnTo>
                    <a:lnTo>
                      <a:pt x="760" y="33"/>
                    </a:lnTo>
                    <a:lnTo>
                      <a:pt x="641" y="58"/>
                    </a:lnTo>
                    <a:lnTo>
                      <a:pt x="705" y="21"/>
                    </a:lnTo>
                    <a:lnTo>
                      <a:pt x="742" y="2"/>
                    </a:lnTo>
                    <a:lnTo>
                      <a:pt x="748" y="0"/>
                    </a:lnTo>
                    <a:lnTo>
                      <a:pt x="743" y="1"/>
                    </a:lnTo>
                    <a:lnTo>
                      <a:pt x="730" y="5"/>
                    </a:lnTo>
                    <a:lnTo>
                      <a:pt x="715" y="8"/>
                    </a:lnTo>
                    <a:lnTo>
                      <a:pt x="698" y="11"/>
                    </a:lnTo>
                    <a:lnTo>
                      <a:pt x="680" y="15"/>
                    </a:lnTo>
                    <a:lnTo>
                      <a:pt x="640" y="19"/>
                    </a:lnTo>
                    <a:lnTo>
                      <a:pt x="597" y="24"/>
                    </a:lnTo>
                    <a:lnTo>
                      <a:pt x="552" y="27"/>
                    </a:lnTo>
                    <a:lnTo>
                      <a:pt x="507" y="31"/>
                    </a:lnTo>
                    <a:lnTo>
                      <a:pt x="461" y="34"/>
                    </a:lnTo>
                    <a:lnTo>
                      <a:pt x="418" y="38"/>
                    </a:lnTo>
                    <a:lnTo>
                      <a:pt x="376" y="41"/>
                    </a:lnTo>
                    <a:lnTo>
                      <a:pt x="337" y="46"/>
                    </a:lnTo>
                    <a:lnTo>
                      <a:pt x="318" y="49"/>
                    </a:lnTo>
                    <a:lnTo>
                      <a:pt x="299" y="53"/>
                    </a:lnTo>
                    <a:lnTo>
                      <a:pt x="280" y="57"/>
                    </a:lnTo>
                    <a:lnTo>
                      <a:pt x="259" y="63"/>
                    </a:lnTo>
                    <a:lnTo>
                      <a:pt x="229" y="74"/>
                    </a:lnTo>
                    <a:lnTo>
                      <a:pt x="165" y="104"/>
                    </a:lnTo>
                    <a:lnTo>
                      <a:pt x="63" y="166"/>
                    </a:lnTo>
                    <a:lnTo>
                      <a:pt x="18" y="203"/>
                    </a:lnTo>
                    <a:lnTo>
                      <a:pt x="19" y="220"/>
                    </a:lnTo>
                    <a:lnTo>
                      <a:pt x="18" y="203"/>
                    </a:lnTo>
                    <a:lnTo>
                      <a:pt x="0" y="223"/>
                    </a:lnTo>
                    <a:lnTo>
                      <a:pt x="19" y="220"/>
                    </a:lnTo>
                    <a:lnTo>
                      <a:pt x="238" y="7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3121200" y="3884760"/>
                <a:ext cx="284040" cy="56880"/>
              </a:xfrm>
              <a:custGeom>
                <a:avLst/>
                <a:gdLst/>
                <a:ahLst/>
                <a:rect l="l" t="t" r="r" b="b"/>
                <a:pathLst>
                  <a:path w="893" h="179">
                    <a:moveTo>
                      <a:pt x="682" y="134"/>
                    </a:moveTo>
                    <a:lnTo>
                      <a:pt x="893" y="17"/>
                    </a:lnTo>
                    <a:lnTo>
                      <a:pt x="865" y="21"/>
                    </a:lnTo>
                    <a:lnTo>
                      <a:pt x="838" y="26"/>
                    </a:lnTo>
                    <a:lnTo>
                      <a:pt x="810" y="29"/>
                    </a:lnTo>
                    <a:lnTo>
                      <a:pt x="784" y="32"/>
                    </a:lnTo>
                    <a:lnTo>
                      <a:pt x="758" y="34"/>
                    </a:lnTo>
                    <a:lnTo>
                      <a:pt x="733" y="35"/>
                    </a:lnTo>
                    <a:lnTo>
                      <a:pt x="708" y="36"/>
                    </a:lnTo>
                    <a:lnTo>
                      <a:pt x="683" y="37"/>
                    </a:lnTo>
                    <a:lnTo>
                      <a:pt x="635" y="36"/>
                    </a:lnTo>
                    <a:lnTo>
                      <a:pt x="588" y="34"/>
                    </a:lnTo>
                    <a:lnTo>
                      <a:pt x="544" y="30"/>
                    </a:lnTo>
                    <a:lnTo>
                      <a:pt x="500" y="26"/>
                    </a:lnTo>
                    <a:lnTo>
                      <a:pt x="421" y="16"/>
                    </a:lnTo>
                    <a:lnTo>
                      <a:pt x="348" y="5"/>
                    </a:lnTo>
                    <a:lnTo>
                      <a:pt x="313" y="2"/>
                    </a:lnTo>
                    <a:lnTo>
                      <a:pt x="281" y="0"/>
                    </a:lnTo>
                    <a:lnTo>
                      <a:pt x="250" y="0"/>
                    </a:lnTo>
                    <a:lnTo>
                      <a:pt x="219" y="1"/>
                    </a:lnTo>
                    <a:lnTo>
                      <a:pt x="0" y="142"/>
                    </a:lnTo>
                    <a:lnTo>
                      <a:pt x="25" y="141"/>
                    </a:lnTo>
                    <a:lnTo>
                      <a:pt x="53" y="142"/>
                    </a:lnTo>
                    <a:lnTo>
                      <a:pt x="85" y="145"/>
                    </a:lnTo>
                    <a:lnTo>
                      <a:pt x="118" y="148"/>
                    </a:lnTo>
                    <a:lnTo>
                      <a:pt x="190" y="157"/>
                    </a:lnTo>
                    <a:lnTo>
                      <a:pt x="271" y="167"/>
                    </a:lnTo>
                    <a:lnTo>
                      <a:pt x="315" y="172"/>
                    </a:lnTo>
                    <a:lnTo>
                      <a:pt x="361" y="175"/>
                    </a:lnTo>
                    <a:lnTo>
                      <a:pt x="408" y="178"/>
                    </a:lnTo>
                    <a:lnTo>
                      <a:pt x="458" y="179"/>
                    </a:lnTo>
                    <a:lnTo>
                      <a:pt x="484" y="178"/>
                    </a:lnTo>
                    <a:lnTo>
                      <a:pt x="511" y="178"/>
                    </a:lnTo>
                    <a:lnTo>
                      <a:pt x="538" y="175"/>
                    </a:lnTo>
                    <a:lnTo>
                      <a:pt x="565" y="173"/>
                    </a:lnTo>
                    <a:lnTo>
                      <a:pt x="594" y="171"/>
                    </a:lnTo>
                    <a:lnTo>
                      <a:pt x="622" y="166"/>
                    </a:lnTo>
                    <a:lnTo>
                      <a:pt x="652" y="162"/>
                    </a:lnTo>
                    <a:lnTo>
                      <a:pt x="683" y="156"/>
                    </a:lnTo>
                    <a:lnTo>
                      <a:pt x="893" y="38"/>
                    </a:lnTo>
                    <a:lnTo>
                      <a:pt x="683" y="156"/>
                    </a:lnTo>
                    <a:lnTo>
                      <a:pt x="790" y="135"/>
                    </a:lnTo>
                    <a:lnTo>
                      <a:pt x="893" y="38"/>
                    </a:lnTo>
                    <a:lnTo>
                      <a:pt x="682" y="1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3338640" y="3868560"/>
                <a:ext cx="311040" cy="59040"/>
              </a:xfrm>
              <a:custGeom>
                <a:avLst/>
                <a:gdLst/>
                <a:ahLst/>
                <a:rect l="l" t="t" r="r" b="b"/>
                <a:pathLst>
                  <a:path w="981" h="186">
                    <a:moveTo>
                      <a:pt x="325" y="148"/>
                    </a:moveTo>
                    <a:lnTo>
                      <a:pt x="542" y="7"/>
                    </a:lnTo>
                    <a:lnTo>
                      <a:pt x="500" y="13"/>
                    </a:lnTo>
                    <a:lnTo>
                      <a:pt x="453" y="19"/>
                    </a:lnTo>
                    <a:lnTo>
                      <a:pt x="403" y="23"/>
                    </a:lnTo>
                    <a:lnTo>
                      <a:pt x="354" y="29"/>
                    </a:lnTo>
                    <a:lnTo>
                      <a:pt x="330" y="32"/>
                    </a:lnTo>
                    <a:lnTo>
                      <a:pt x="306" y="36"/>
                    </a:lnTo>
                    <a:lnTo>
                      <a:pt x="283" y="40"/>
                    </a:lnTo>
                    <a:lnTo>
                      <a:pt x="260" y="45"/>
                    </a:lnTo>
                    <a:lnTo>
                      <a:pt x="234" y="52"/>
                    </a:lnTo>
                    <a:lnTo>
                      <a:pt x="196" y="67"/>
                    </a:lnTo>
                    <a:lnTo>
                      <a:pt x="92" y="120"/>
                    </a:lnTo>
                    <a:lnTo>
                      <a:pt x="0" y="185"/>
                    </a:lnTo>
                    <a:lnTo>
                      <a:pt x="211" y="89"/>
                    </a:lnTo>
                    <a:lnTo>
                      <a:pt x="138" y="142"/>
                    </a:lnTo>
                    <a:lnTo>
                      <a:pt x="59" y="182"/>
                    </a:lnTo>
                    <a:lnTo>
                      <a:pt x="49" y="186"/>
                    </a:lnTo>
                    <a:lnTo>
                      <a:pt x="58" y="184"/>
                    </a:lnTo>
                    <a:lnTo>
                      <a:pt x="74" y="181"/>
                    </a:lnTo>
                    <a:lnTo>
                      <a:pt x="93" y="177"/>
                    </a:lnTo>
                    <a:lnTo>
                      <a:pt x="114" y="174"/>
                    </a:lnTo>
                    <a:lnTo>
                      <a:pt x="136" y="170"/>
                    </a:lnTo>
                    <a:lnTo>
                      <a:pt x="185" y="165"/>
                    </a:lnTo>
                    <a:lnTo>
                      <a:pt x="234" y="160"/>
                    </a:lnTo>
                    <a:lnTo>
                      <a:pt x="285" y="154"/>
                    </a:lnTo>
                    <a:lnTo>
                      <a:pt x="330" y="148"/>
                    </a:lnTo>
                    <a:lnTo>
                      <a:pt x="548" y="6"/>
                    </a:lnTo>
                    <a:lnTo>
                      <a:pt x="330" y="148"/>
                    </a:lnTo>
                    <a:lnTo>
                      <a:pt x="981" y="0"/>
                    </a:lnTo>
                    <a:lnTo>
                      <a:pt x="548" y="6"/>
                    </a:lnTo>
                    <a:lnTo>
                      <a:pt x="325" y="1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6002280" y="3882960"/>
                <a:ext cx="320760" cy="46080"/>
              </a:xfrm>
              <a:custGeom>
                <a:avLst/>
                <a:gdLst/>
                <a:ahLst/>
                <a:rect l="l" t="t" r="r" b="b"/>
                <a:pathLst>
                  <a:path w="1009" h="145">
                    <a:moveTo>
                      <a:pt x="0" y="64"/>
                    </a:moveTo>
                    <a:lnTo>
                      <a:pt x="29" y="65"/>
                    </a:lnTo>
                    <a:lnTo>
                      <a:pt x="55" y="65"/>
                    </a:lnTo>
                    <a:lnTo>
                      <a:pt x="80" y="64"/>
                    </a:lnTo>
                    <a:lnTo>
                      <a:pt x="104" y="64"/>
                    </a:lnTo>
                    <a:lnTo>
                      <a:pt x="145" y="61"/>
                    </a:lnTo>
                    <a:lnTo>
                      <a:pt x="182" y="56"/>
                    </a:lnTo>
                    <a:lnTo>
                      <a:pt x="212" y="50"/>
                    </a:lnTo>
                    <a:lnTo>
                      <a:pt x="239" y="44"/>
                    </a:lnTo>
                    <a:lnTo>
                      <a:pt x="261" y="36"/>
                    </a:lnTo>
                    <a:lnTo>
                      <a:pt x="282" y="29"/>
                    </a:lnTo>
                    <a:lnTo>
                      <a:pt x="300" y="22"/>
                    </a:lnTo>
                    <a:lnTo>
                      <a:pt x="317" y="15"/>
                    </a:lnTo>
                    <a:lnTo>
                      <a:pt x="334" y="9"/>
                    </a:lnTo>
                    <a:lnTo>
                      <a:pt x="351" y="5"/>
                    </a:lnTo>
                    <a:lnTo>
                      <a:pt x="369" y="1"/>
                    </a:lnTo>
                    <a:lnTo>
                      <a:pt x="389" y="0"/>
                    </a:lnTo>
                    <a:lnTo>
                      <a:pt x="411" y="3"/>
                    </a:lnTo>
                    <a:lnTo>
                      <a:pt x="437" y="6"/>
                    </a:lnTo>
                    <a:lnTo>
                      <a:pt x="448" y="13"/>
                    </a:lnTo>
                    <a:lnTo>
                      <a:pt x="461" y="18"/>
                    </a:lnTo>
                    <a:lnTo>
                      <a:pt x="475" y="24"/>
                    </a:lnTo>
                    <a:lnTo>
                      <a:pt x="490" y="29"/>
                    </a:lnTo>
                    <a:lnTo>
                      <a:pt x="508" y="33"/>
                    </a:lnTo>
                    <a:lnTo>
                      <a:pt x="526" y="38"/>
                    </a:lnTo>
                    <a:lnTo>
                      <a:pt x="544" y="41"/>
                    </a:lnTo>
                    <a:lnTo>
                      <a:pt x="565" y="45"/>
                    </a:lnTo>
                    <a:lnTo>
                      <a:pt x="606" y="50"/>
                    </a:lnTo>
                    <a:lnTo>
                      <a:pt x="650" y="55"/>
                    </a:lnTo>
                    <a:lnTo>
                      <a:pt x="696" y="58"/>
                    </a:lnTo>
                    <a:lnTo>
                      <a:pt x="741" y="62"/>
                    </a:lnTo>
                    <a:lnTo>
                      <a:pt x="786" y="65"/>
                    </a:lnTo>
                    <a:lnTo>
                      <a:pt x="829" y="68"/>
                    </a:lnTo>
                    <a:lnTo>
                      <a:pt x="870" y="72"/>
                    </a:lnTo>
                    <a:lnTo>
                      <a:pt x="909" y="77"/>
                    </a:lnTo>
                    <a:lnTo>
                      <a:pt x="926" y="79"/>
                    </a:lnTo>
                    <a:lnTo>
                      <a:pt x="942" y="82"/>
                    </a:lnTo>
                    <a:lnTo>
                      <a:pt x="957" y="86"/>
                    </a:lnTo>
                    <a:lnTo>
                      <a:pt x="970" y="89"/>
                    </a:lnTo>
                    <a:lnTo>
                      <a:pt x="983" y="94"/>
                    </a:lnTo>
                    <a:lnTo>
                      <a:pt x="993" y="98"/>
                    </a:lnTo>
                    <a:lnTo>
                      <a:pt x="1001" y="104"/>
                    </a:lnTo>
                    <a:lnTo>
                      <a:pt x="1009" y="110"/>
                    </a:lnTo>
                    <a:lnTo>
                      <a:pt x="981" y="109"/>
                    </a:lnTo>
                    <a:lnTo>
                      <a:pt x="951" y="109"/>
                    </a:lnTo>
                    <a:lnTo>
                      <a:pt x="919" y="111"/>
                    </a:lnTo>
                    <a:lnTo>
                      <a:pt x="885" y="114"/>
                    </a:lnTo>
                    <a:lnTo>
                      <a:pt x="812" y="123"/>
                    </a:lnTo>
                    <a:lnTo>
                      <a:pt x="732" y="134"/>
                    </a:lnTo>
                    <a:lnTo>
                      <a:pt x="689" y="138"/>
                    </a:lnTo>
                    <a:lnTo>
                      <a:pt x="643" y="143"/>
                    </a:lnTo>
                    <a:lnTo>
                      <a:pt x="597" y="145"/>
                    </a:lnTo>
                    <a:lnTo>
                      <a:pt x="547" y="145"/>
                    </a:lnTo>
                    <a:lnTo>
                      <a:pt x="522" y="145"/>
                    </a:lnTo>
                    <a:lnTo>
                      <a:pt x="496" y="144"/>
                    </a:lnTo>
                    <a:lnTo>
                      <a:pt x="470" y="143"/>
                    </a:lnTo>
                    <a:lnTo>
                      <a:pt x="444" y="141"/>
                    </a:lnTo>
                    <a:lnTo>
                      <a:pt x="416" y="137"/>
                    </a:lnTo>
                    <a:lnTo>
                      <a:pt x="388" y="134"/>
                    </a:lnTo>
                    <a:lnTo>
                      <a:pt x="359" y="129"/>
                    </a:lnTo>
                    <a:lnTo>
                      <a:pt x="331" y="125"/>
                    </a:lnTo>
                    <a:lnTo>
                      <a:pt x="322" y="118"/>
                    </a:lnTo>
                    <a:lnTo>
                      <a:pt x="309" y="111"/>
                    </a:lnTo>
                    <a:lnTo>
                      <a:pt x="294" y="106"/>
                    </a:lnTo>
                    <a:lnTo>
                      <a:pt x="277" y="102"/>
                    </a:lnTo>
                    <a:lnTo>
                      <a:pt x="258" y="97"/>
                    </a:lnTo>
                    <a:lnTo>
                      <a:pt x="236" y="94"/>
                    </a:lnTo>
                    <a:lnTo>
                      <a:pt x="215" y="90"/>
                    </a:lnTo>
                    <a:lnTo>
                      <a:pt x="191" y="87"/>
                    </a:lnTo>
                    <a:lnTo>
                      <a:pt x="142" y="81"/>
                    </a:lnTo>
                    <a:lnTo>
                      <a:pt x="91" y="76"/>
                    </a:lnTo>
                    <a:lnTo>
                      <a:pt x="44" y="71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5965920" y="3860640"/>
                <a:ext cx="212760" cy="65160"/>
              </a:xfrm>
              <a:custGeom>
                <a:avLst/>
                <a:gdLst/>
                <a:ahLst/>
                <a:rect l="l" t="t" r="r" b="b"/>
                <a:pathLst>
                  <a:path w="668" h="206">
                    <a:moveTo>
                      <a:pt x="668" y="6"/>
                    </a:moveTo>
                    <a:lnTo>
                      <a:pt x="666" y="5"/>
                    </a:lnTo>
                    <a:lnTo>
                      <a:pt x="640" y="1"/>
                    </a:lnTo>
                    <a:lnTo>
                      <a:pt x="616" y="0"/>
                    </a:lnTo>
                    <a:lnTo>
                      <a:pt x="592" y="1"/>
                    </a:lnTo>
                    <a:lnTo>
                      <a:pt x="569" y="5"/>
                    </a:lnTo>
                    <a:lnTo>
                      <a:pt x="542" y="12"/>
                    </a:lnTo>
                    <a:lnTo>
                      <a:pt x="514" y="21"/>
                    </a:lnTo>
                    <a:lnTo>
                      <a:pt x="492" y="30"/>
                    </a:lnTo>
                    <a:lnTo>
                      <a:pt x="477" y="36"/>
                    </a:lnTo>
                    <a:lnTo>
                      <a:pt x="464" y="41"/>
                    </a:lnTo>
                    <a:lnTo>
                      <a:pt x="449" y="45"/>
                    </a:lnTo>
                    <a:lnTo>
                      <a:pt x="429" y="51"/>
                    </a:lnTo>
                    <a:lnTo>
                      <a:pt x="402" y="55"/>
                    </a:lnTo>
                    <a:lnTo>
                      <a:pt x="369" y="60"/>
                    </a:lnTo>
                    <a:lnTo>
                      <a:pt x="329" y="62"/>
                    </a:lnTo>
                    <a:lnTo>
                      <a:pt x="306" y="63"/>
                    </a:lnTo>
                    <a:lnTo>
                      <a:pt x="282" y="65"/>
                    </a:lnTo>
                    <a:lnTo>
                      <a:pt x="256" y="63"/>
                    </a:lnTo>
                    <a:lnTo>
                      <a:pt x="227" y="63"/>
                    </a:lnTo>
                    <a:lnTo>
                      <a:pt x="0" y="205"/>
                    </a:lnTo>
                    <a:lnTo>
                      <a:pt x="30" y="206"/>
                    </a:lnTo>
                    <a:lnTo>
                      <a:pt x="57" y="206"/>
                    </a:lnTo>
                    <a:lnTo>
                      <a:pt x="82" y="206"/>
                    </a:lnTo>
                    <a:lnTo>
                      <a:pt x="106" y="205"/>
                    </a:lnTo>
                    <a:lnTo>
                      <a:pt x="150" y="201"/>
                    </a:lnTo>
                    <a:lnTo>
                      <a:pt x="188" y="197"/>
                    </a:lnTo>
                    <a:lnTo>
                      <a:pt x="223" y="190"/>
                    </a:lnTo>
                    <a:lnTo>
                      <a:pt x="256" y="181"/>
                    </a:lnTo>
                    <a:lnTo>
                      <a:pt x="286" y="172"/>
                    </a:lnTo>
                    <a:lnTo>
                      <a:pt x="315" y="162"/>
                    </a:lnTo>
                    <a:lnTo>
                      <a:pt x="337" y="154"/>
                    </a:lnTo>
                    <a:lnTo>
                      <a:pt x="348" y="148"/>
                    </a:lnTo>
                    <a:lnTo>
                      <a:pt x="354" y="147"/>
                    </a:lnTo>
                    <a:lnTo>
                      <a:pt x="362" y="144"/>
                    </a:lnTo>
                    <a:lnTo>
                      <a:pt x="374" y="142"/>
                    </a:lnTo>
                    <a:lnTo>
                      <a:pt x="390" y="142"/>
                    </a:lnTo>
                    <a:lnTo>
                      <a:pt x="411" y="143"/>
                    </a:lnTo>
                    <a:lnTo>
                      <a:pt x="436" y="147"/>
                    </a:lnTo>
                    <a:lnTo>
                      <a:pt x="433" y="146"/>
                    </a:lnTo>
                    <a:lnTo>
                      <a:pt x="668" y="6"/>
                    </a:lnTo>
                    <a:lnTo>
                      <a:pt x="668" y="5"/>
                    </a:lnTo>
                    <a:lnTo>
                      <a:pt x="666" y="5"/>
                    </a:lnTo>
                    <a:lnTo>
                      <a:pt x="668" y="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6103800" y="3862440"/>
                <a:ext cx="282600" cy="82440"/>
              </a:xfrm>
              <a:custGeom>
                <a:avLst/>
                <a:gdLst/>
                <a:ahLst/>
                <a:rect l="l" t="t" r="r" b="b"/>
                <a:pathLst>
                  <a:path w="891" h="256">
                    <a:moveTo>
                      <a:pt x="575" y="245"/>
                    </a:moveTo>
                    <a:lnTo>
                      <a:pt x="808" y="104"/>
                    </a:lnTo>
                    <a:lnTo>
                      <a:pt x="801" y="98"/>
                    </a:lnTo>
                    <a:lnTo>
                      <a:pt x="792" y="93"/>
                    </a:lnTo>
                    <a:lnTo>
                      <a:pt x="780" y="88"/>
                    </a:lnTo>
                    <a:lnTo>
                      <a:pt x="768" y="84"/>
                    </a:lnTo>
                    <a:lnTo>
                      <a:pt x="754" y="79"/>
                    </a:lnTo>
                    <a:lnTo>
                      <a:pt x="738" y="76"/>
                    </a:lnTo>
                    <a:lnTo>
                      <a:pt x="722" y="72"/>
                    </a:lnTo>
                    <a:lnTo>
                      <a:pt x="704" y="70"/>
                    </a:lnTo>
                    <a:lnTo>
                      <a:pt x="666" y="65"/>
                    </a:lnTo>
                    <a:lnTo>
                      <a:pt x="624" y="61"/>
                    </a:lnTo>
                    <a:lnTo>
                      <a:pt x="581" y="57"/>
                    </a:lnTo>
                    <a:lnTo>
                      <a:pt x="535" y="55"/>
                    </a:lnTo>
                    <a:lnTo>
                      <a:pt x="491" y="52"/>
                    </a:lnTo>
                    <a:lnTo>
                      <a:pt x="445" y="47"/>
                    </a:lnTo>
                    <a:lnTo>
                      <a:pt x="402" y="44"/>
                    </a:lnTo>
                    <a:lnTo>
                      <a:pt x="360" y="38"/>
                    </a:lnTo>
                    <a:lnTo>
                      <a:pt x="340" y="35"/>
                    </a:lnTo>
                    <a:lnTo>
                      <a:pt x="322" y="31"/>
                    </a:lnTo>
                    <a:lnTo>
                      <a:pt x="304" y="28"/>
                    </a:lnTo>
                    <a:lnTo>
                      <a:pt x="288" y="23"/>
                    </a:lnTo>
                    <a:lnTo>
                      <a:pt x="273" y="19"/>
                    </a:lnTo>
                    <a:lnTo>
                      <a:pt x="259" y="13"/>
                    </a:lnTo>
                    <a:lnTo>
                      <a:pt x="247" y="7"/>
                    </a:lnTo>
                    <a:lnTo>
                      <a:pt x="235" y="0"/>
                    </a:lnTo>
                    <a:lnTo>
                      <a:pt x="0" y="140"/>
                    </a:lnTo>
                    <a:lnTo>
                      <a:pt x="12" y="146"/>
                    </a:lnTo>
                    <a:lnTo>
                      <a:pt x="24" y="153"/>
                    </a:lnTo>
                    <a:lnTo>
                      <a:pt x="39" y="159"/>
                    </a:lnTo>
                    <a:lnTo>
                      <a:pt x="55" y="163"/>
                    </a:lnTo>
                    <a:lnTo>
                      <a:pt x="72" y="168"/>
                    </a:lnTo>
                    <a:lnTo>
                      <a:pt x="91" y="173"/>
                    </a:lnTo>
                    <a:lnTo>
                      <a:pt x="110" y="176"/>
                    </a:lnTo>
                    <a:lnTo>
                      <a:pt x="130" y="179"/>
                    </a:lnTo>
                    <a:lnTo>
                      <a:pt x="173" y="185"/>
                    </a:lnTo>
                    <a:lnTo>
                      <a:pt x="217" y="190"/>
                    </a:lnTo>
                    <a:lnTo>
                      <a:pt x="262" y="193"/>
                    </a:lnTo>
                    <a:lnTo>
                      <a:pt x="308" y="197"/>
                    </a:lnTo>
                    <a:lnTo>
                      <a:pt x="353" y="200"/>
                    </a:lnTo>
                    <a:lnTo>
                      <a:pt x="396" y="203"/>
                    </a:lnTo>
                    <a:lnTo>
                      <a:pt x="437" y="207"/>
                    </a:lnTo>
                    <a:lnTo>
                      <a:pt x="475" y="211"/>
                    </a:lnTo>
                    <a:lnTo>
                      <a:pt x="492" y="214"/>
                    </a:lnTo>
                    <a:lnTo>
                      <a:pt x="508" y="217"/>
                    </a:lnTo>
                    <a:lnTo>
                      <a:pt x="521" y="221"/>
                    </a:lnTo>
                    <a:lnTo>
                      <a:pt x="535" y="224"/>
                    </a:lnTo>
                    <a:lnTo>
                      <a:pt x="547" y="229"/>
                    </a:lnTo>
                    <a:lnTo>
                      <a:pt x="557" y="233"/>
                    </a:lnTo>
                    <a:lnTo>
                      <a:pt x="565" y="238"/>
                    </a:lnTo>
                    <a:lnTo>
                      <a:pt x="572" y="243"/>
                    </a:lnTo>
                    <a:lnTo>
                      <a:pt x="804" y="103"/>
                    </a:lnTo>
                    <a:lnTo>
                      <a:pt x="575" y="245"/>
                    </a:lnTo>
                    <a:lnTo>
                      <a:pt x="891" y="256"/>
                    </a:lnTo>
                    <a:lnTo>
                      <a:pt x="808" y="104"/>
                    </a:lnTo>
                    <a:lnTo>
                      <a:pt x="575" y="24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6068880" y="3895560"/>
                <a:ext cx="290520" cy="55800"/>
              </a:xfrm>
              <a:custGeom>
                <a:avLst/>
                <a:gdLst/>
                <a:ahLst/>
                <a:rect l="l" t="t" r="r" b="b"/>
                <a:pathLst>
                  <a:path w="911" h="179">
                    <a:moveTo>
                      <a:pt x="0" y="156"/>
                    </a:moveTo>
                    <a:lnTo>
                      <a:pt x="4" y="158"/>
                    </a:lnTo>
                    <a:lnTo>
                      <a:pt x="32" y="163"/>
                    </a:lnTo>
                    <a:lnTo>
                      <a:pt x="61" y="167"/>
                    </a:lnTo>
                    <a:lnTo>
                      <a:pt x="89" y="171"/>
                    </a:lnTo>
                    <a:lnTo>
                      <a:pt x="117" y="174"/>
                    </a:lnTo>
                    <a:lnTo>
                      <a:pt x="144" y="177"/>
                    </a:lnTo>
                    <a:lnTo>
                      <a:pt x="171" y="178"/>
                    </a:lnTo>
                    <a:lnTo>
                      <a:pt x="198" y="179"/>
                    </a:lnTo>
                    <a:lnTo>
                      <a:pt x="224" y="179"/>
                    </a:lnTo>
                    <a:lnTo>
                      <a:pt x="273" y="179"/>
                    </a:lnTo>
                    <a:lnTo>
                      <a:pt x="322" y="177"/>
                    </a:lnTo>
                    <a:lnTo>
                      <a:pt x="367" y="173"/>
                    </a:lnTo>
                    <a:lnTo>
                      <a:pt x="412" y="167"/>
                    </a:lnTo>
                    <a:lnTo>
                      <a:pt x="493" y="157"/>
                    </a:lnTo>
                    <a:lnTo>
                      <a:pt x="565" y="148"/>
                    </a:lnTo>
                    <a:lnTo>
                      <a:pt x="597" y="145"/>
                    </a:lnTo>
                    <a:lnTo>
                      <a:pt x="627" y="142"/>
                    </a:lnTo>
                    <a:lnTo>
                      <a:pt x="656" y="142"/>
                    </a:lnTo>
                    <a:lnTo>
                      <a:pt x="682" y="144"/>
                    </a:lnTo>
                    <a:lnTo>
                      <a:pt x="911" y="2"/>
                    </a:lnTo>
                    <a:lnTo>
                      <a:pt x="882" y="0"/>
                    </a:lnTo>
                    <a:lnTo>
                      <a:pt x="850" y="1"/>
                    </a:lnTo>
                    <a:lnTo>
                      <a:pt x="817" y="3"/>
                    </a:lnTo>
                    <a:lnTo>
                      <a:pt x="782" y="7"/>
                    </a:lnTo>
                    <a:lnTo>
                      <a:pt x="708" y="17"/>
                    </a:lnTo>
                    <a:lnTo>
                      <a:pt x="628" y="26"/>
                    </a:lnTo>
                    <a:lnTo>
                      <a:pt x="586" y="31"/>
                    </a:lnTo>
                    <a:lnTo>
                      <a:pt x="542" y="35"/>
                    </a:lnTo>
                    <a:lnTo>
                      <a:pt x="496" y="37"/>
                    </a:lnTo>
                    <a:lnTo>
                      <a:pt x="448" y="37"/>
                    </a:lnTo>
                    <a:lnTo>
                      <a:pt x="423" y="37"/>
                    </a:lnTo>
                    <a:lnTo>
                      <a:pt x="398" y="36"/>
                    </a:lnTo>
                    <a:lnTo>
                      <a:pt x="372" y="35"/>
                    </a:lnTo>
                    <a:lnTo>
                      <a:pt x="346" y="33"/>
                    </a:lnTo>
                    <a:lnTo>
                      <a:pt x="318" y="29"/>
                    </a:lnTo>
                    <a:lnTo>
                      <a:pt x="291" y="26"/>
                    </a:lnTo>
                    <a:lnTo>
                      <a:pt x="263" y="21"/>
                    </a:lnTo>
                    <a:lnTo>
                      <a:pt x="234" y="17"/>
                    </a:lnTo>
                    <a:lnTo>
                      <a:pt x="237" y="18"/>
                    </a:lnTo>
                    <a:lnTo>
                      <a:pt x="0" y="156"/>
                    </a:lnTo>
                    <a:lnTo>
                      <a:pt x="1" y="157"/>
                    </a:lnTo>
                    <a:lnTo>
                      <a:pt x="4" y="158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5784840" y="3878280"/>
                <a:ext cx="360360" cy="66600"/>
              </a:xfrm>
              <a:custGeom>
                <a:avLst/>
                <a:gdLst/>
                <a:ahLst/>
                <a:rect l="l" t="t" r="r" b="b"/>
                <a:pathLst>
                  <a:path w="1132" h="211">
                    <a:moveTo>
                      <a:pt x="796" y="11"/>
                    </a:moveTo>
                    <a:lnTo>
                      <a:pt x="568" y="153"/>
                    </a:lnTo>
                    <a:lnTo>
                      <a:pt x="613" y="160"/>
                    </a:lnTo>
                    <a:lnTo>
                      <a:pt x="660" y="165"/>
                    </a:lnTo>
                    <a:lnTo>
                      <a:pt x="711" y="170"/>
                    </a:lnTo>
                    <a:lnTo>
                      <a:pt x="759" y="176"/>
                    </a:lnTo>
                    <a:lnTo>
                      <a:pt x="782" y="179"/>
                    </a:lnTo>
                    <a:lnTo>
                      <a:pt x="805" y="183"/>
                    </a:lnTo>
                    <a:lnTo>
                      <a:pt x="825" y="186"/>
                    </a:lnTo>
                    <a:lnTo>
                      <a:pt x="844" y="189"/>
                    </a:lnTo>
                    <a:lnTo>
                      <a:pt x="861" y="194"/>
                    </a:lnTo>
                    <a:lnTo>
                      <a:pt x="875" y="200"/>
                    </a:lnTo>
                    <a:lnTo>
                      <a:pt x="886" y="205"/>
                    </a:lnTo>
                    <a:lnTo>
                      <a:pt x="895" y="211"/>
                    </a:lnTo>
                    <a:lnTo>
                      <a:pt x="1132" y="73"/>
                    </a:lnTo>
                    <a:lnTo>
                      <a:pt x="1122" y="65"/>
                    </a:lnTo>
                    <a:lnTo>
                      <a:pt x="1110" y="59"/>
                    </a:lnTo>
                    <a:lnTo>
                      <a:pt x="1094" y="54"/>
                    </a:lnTo>
                    <a:lnTo>
                      <a:pt x="1075" y="49"/>
                    </a:lnTo>
                    <a:lnTo>
                      <a:pt x="1056" y="44"/>
                    </a:lnTo>
                    <a:lnTo>
                      <a:pt x="1034" y="41"/>
                    </a:lnTo>
                    <a:lnTo>
                      <a:pt x="1012" y="38"/>
                    </a:lnTo>
                    <a:lnTo>
                      <a:pt x="989" y="34"/>
                    </a:lnTo>
                    <a:lnTo>
                      <a:pt x="939" y="29"/>
                    </a:lnTo>
                    <a:lnTo>
                      <a:pt x="890" y="23"/>
                    </a:lnTo>
                    <a:lnTo>
                      <a:pt x="842" y="17"/>
                    </a:lnTo>
                    <a:lnTo>
                      <a:pt x="798" y="11"/>
                    </a:lnTo>
                    <a:lnTo>
                      <a:pt x="569" y="153"/>
                    </a:lnTo>
                    <a:lnTo>
                      <a:pt x="796" y="11"/>
                    </a:lnTo>
                    <a:lnTo>
                      <a:pt x="0" y="0"/>
                    </a:lnTo>
                    <a:lnTo>
                      <a:pt x="568" y="153"/>
                    </a:lnTo>
                    <a:lnTo>
                      <a:pt x="796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4457880" y="3638520"/>
                <a:ext cx="553680" cy="85680"/>
              </a:xfrm>
              <a:custGeom>
                <a:avLst/>
                <a:gdLst/>
                <a:ahLst/>
                <a:rect l="l" t="t" r="r" b="b"/>
                <a:pathLst>
                  <a:path w="1742" h="267">
                    <a:moveTo>
                      <a:pt x="1742" y="169"/>
                    </a:moveTo>
                    <a:lnTo>
                      <a:pt x="1705" y="173"/>
                    </a:lnTo>
                    <a:lnTo>
                      <a:pt x="1671" y="174"/>
                    </a:lnTo>
                    <a:lnTo>
                      <a:pt x="1641" y="174"/>
                    </a:lnTo>
                    <a:lnTo>
                      <a:pt x="1613" y="174"/>
                    </a:lnTo>
                    <a:lnTo>
                      <a:pt x="1587" y="171"/>
                    </a:lnTo>
                    <a:lnTo>
                      <a:pt x="1563" y="168"/>
                    </a:lnTo>
                    <a:lnTo>
                      <a:pt x="1541" y="163"/>
                    </a:lnTo>
                    <a:lnTo>
                      <a:pt x="1521" y="159"/>
                    </a:lnTo>
                    <a:lnTo>
                      <a:pt x="1500" y="153"/>
                    </a:lnTo>
                    <a:lnTo>
                      <a:pt x="1481" y="146"/>
                    </a:lnTo>
                    <a:lnTo>
                      <a:pt x="1462" y="139"/>
                    </a:lnTo>
                    <a:lnTo>
                      <a:pt x="1442" y="131"/>
                    </a:lnTo>
                    <a:lnTo>
                      <a:pt x="1403" y="116"/>
                    </a:lnTo>
                    <a:lnTo>
                      <a:pt x="1360" y="97"/>
                    </a:lnTo>
                    <a:lnTo>
                      <a:pt x="1336" y="88"/>
                    </a:lnTo>
                    <a:lnTo>
                      <a:pt x="1310" y="79"/>
                    </a:lnTo>
                    <a:lnTo>
                      <a:pt x="1281" y="70"/>
                    </a:lnTo>
                    <a:lnTo>
                      <a:pt x="1252" y="61"/>
                    </a:lnTo>
                    <a:lnTo>
                      <a:pt x="1218" y="53"/>
                    </a:lnTo>
                    <a:lnTo>
                      <a:pt x="1181" y="45"/>
                    </a:lnTo>
                    <a:lnTo>
                      <a:pt x="1141" y="37"/>
                    </a:lnTo>
                    <a:lnTo>
                      <a:pt x="1097" y="29"/>
                    </a:lnTo>
                    <a:lnTo>
                      <a:pt x="1049" y="22"/>
                    </a:lnTo>
                    <a:lnTo>
                      <a:pt x="996" y="16"/>
                    </a:lnTo>
                    <a:lnTo>
                      <a:pt x="938" y="12"/>
                    </a:lnTo>
                    <a:lnTo>
                      <a:pt x="877" y="7"/>
                    </a:lnTo>
                    <a:lnTo>
                      <a:pt x="808" y="4"/>
                    </a:lnTo>
                    <a:lnTo>
                      <a:pt x="734" y="1"/>
                    </a:lnTo>
                    <a:lnTo>
                      <a:pt x="656" y="0"/>
                    </a:lnTo>
                    <a:lnTo>
                      <a:pt x="569" y="0"/>
                    </a:lnTo>
                    <a:lnTo>
                      <a:pt x="558" y="7"/>
                    </a:lnTo>
                    <a:lnTo>
                      <a:pt x="545" y="13"/>
                    </a:lnTo>
                    <a:lnTo>
                      <a:pt x="531" y="19"/>
                    </a:lnTo>
                    <a:lnTo>
                      <a:pt x="515" y="23"/>
                    </a:lnTo>
                    <a:lnTo>
                      <a:pt x="498" y="28"/>
                    </a:lnTo>
                    <a:lnTo>
                      <a:pt x="481" y="32"/>
                    </a:lnTo>
                    <a:lnTo>
                      <a:pt x="462" y="36"/>
                    </a:lnTo>
                    <a:lnTo>
                      <a:pt x="442" y="39"/>
                    </a:lnTo>
                    <a:lnTo>
                      <a:pt x="400" y="44"/>
                    </a:lnTo>
                    <a:lnTo>
                      <a:pt x="357" y="48"/>
                    </a:lnTo>
                    <a:lnTo>
                      <a:pt x="311" y="53"/>
                    </a:lnTo>
                    <a:lnTo>
                      <a:pt x="267" y="55"/>
                    </a:lnTo>
                    <a:lnTo>
                      <a:pt x="221" y="58"/>
                    </a:lnTo>
                    <a:lnTo>
                      <a:pt x="178" y="62"/>
                    </a:lnTo>
                    <a:lnTo>
                      <a:pt x="137" y="66"/>
                    </a:lnTo>
                    <a:lnTo>
                      <a:pt x="99" y="71"/>
                    </a:lnTo>
                    <a:lnTo>
                      <a:pt x="82" y="73"/>
                    </a:lnTo>
                    <a:lnTo>
                      <a:pt x="66" y="77"/>
                    </a:lnTo>
                    <a:lnTo>
                      <a:pt x="51" y="80"/>
                    </a:lnTo>
                    <a:lnTo>
                      <a:pt x="38" y="84"/>
                    </a:lnTo>
                    <a:lnTo>
                      <a:pt x="25" y="88"/>
                    </a:lnTo>
                    <a:lnTo>
                      <a:pt x="15" y="93"/>
                    </a:lnTo>
                    <a:lnTo>
                      <a:pt x="7" y="98"/>
                    </a:lnTo>
                    <a:lnTo>
                      <a:pt x="0" y="104"/>
                    </a:lnTo>
                    <a:lnTo>
                      <a:pt x="30" y="102"/>
                    </a:lnTo>
                    <a:lnTo>
                      <a:pt x="66" y="102"/>
                    </a:lnTo>
                    <a:lnTo>
                      <a:pt x="107" y="104"/>
                    </a:lnTo>
                    <a:lnTo>
                      <a:pt x="153" y="108"/>
                    </a:lnTo>
                    <a:lnTo>
                      <a:pt x="257" y="118"/>
                    </a:lnTo>
                    <a:lnTo>
                      <a:pt x="369" y="131"/>
                    </a:lnTo>
                    <a:lnTo>
                      <a:pt x="488" y="147"/>
                    </a:lnTo>
                    <a:lnTo>
                      <a:pt x="607" y="162"/>
                    </a:lnTo>
                    <a:lnTo>
                      <a:pt x="664" y="169"/>
                    </a:lnTo>
                    <a:lnTo>
                      <a:pt x="719" y="175"/>
                    </a:lnTo>
                    <a:lnTo>
                      <a:pt x="773" y="179"/>
                    </a:lnTo>
                    <a:lnTo>
                      <a:pt x="822" y="184"/>
                    </a:lnTo>
                    <a:lnTo>
                      <a:pt x="857" y="199"/>
                    </a:lnTo>
                    <a:lnTo>
                      <a:pt x="894" y="211"/>
                    </a:lnTo>
                    <a:lnTo>
                      <a:pt x="930" y="223"/>
                    </a:lnTo>
                    <a:lnTo>
                      <a:pt x="968" y="233"/>
                    </a:lnTo>
                    <a:lnTo>
                      <a:pt x="1007" y="242"/>
                    </a:lnTo>
                    <a:lnTo>
                      <a:pt x="1044" y="249"/>
                    </a:lnTo>
                    <a:lnTo>
                      <a:pt x="1083" y="255"/>
                    </a:lnTo>
                    <a:lnTo>
                      <a:pt x="1122" y="259"/>
                    </a:lnTo>
                    <a:lnTo>
                      <a:pt x="1161" y="263"/>
                    </a:lnTo>
                    <a:lnTo>
                      <a:pt x="1198" y="265"/>
                    </a:lnTo>
                    <a:lnTo>
                      <a:pt x="1237" y="266"/>
                    </a:lnTo>
                    <a:lnTo>
                      <a:pt x="1275" y="267"/>
                    </a:lnTo>
                    <a:lnTo>
                      <a:pt x="1311" y="266"/>
                    </a:lnTo>
                    <a:lnTo>
                      <a:pt x="1349" y="265"/>
                    </a:lnTo>
                    <a:lnTo>
                      <a:pt x="1384" y="263"/>
                    </a:lnTo>
                    <a:lnTo>
                      <a:pt x="1418" y="259"/>
                    </a:lnTo>
                    <a:lnTo>
                      <a:pt x="1452" y="256"/>
                    </a:lnTo>
                    <a:lnTo>
                      <a:pt x="1484" y="251"/>
                    </a:lnTo>
                    <a:lnTo>
                      <a:pt x="1516" y="247"/>
                    </a:lnTo>
                    <a:lnTo>
                      <a:pt x="1546" y="242"/>
                    </a:lnTo>
                    <a:lnTo>
                      <a:pt x="1573" y="236"/>
                    </a:lnTo>
                    <a:lnTo>
                      <a:pt x="1599" y="231"/>
                    </a:lnTo>
                    <a:lnTo>
                      <a:pt x="1625" y="224"/>
                    </a:lnTo>
                    <a:lnTo>
                      <a:pt x="1647" y="218"/>
                    </a:lnTo>
                    <a:lnTo>
                      <a:pt x="1668" y="211"/>
                    </a:lnTo>
                    <a:lnTo>
                      <a:pt x="1686" y="206"/>
                    </a:lnTo>
                    <a:lnTo>
                      <a:pt x="1702" y="199"/>
                    </a:lnTo>
                    <a:lnTo>
                      <a:pt x="1715" y="192"/>
                    </a:lnTo>
                    <a:lnTo>
                      <a:pt x="1726" y="186"/>
                    </a:lnTo>
                    <a:lnTo>
                      <a:pt x="1734" y="181"/>
                    </a:lnTo>
                    <a:lnTo>
                      <a:pt x="1740" y="175"/>
                    </a:lnTo>
                    <a:lnTo>
                      <a:pt x="1742" y="16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4603680" y="3616200"/>
                <a:ext cx="443160" cy="101880"/>
              </a:xfrm>
              <a:custGeom>
                <a:avLst/>
                <a:gdLst/>
                <a:ahLst/>
                <a:rect l="l" t="t" r="r" b="b"/>
                <a:pathLst>
                  <a:path w="1394" h="318">
                    <a:moveTo>
                      <a:pt x="171" y="60"/>
                    </a:moveTo>
                    <a:lnTo>
                      <a:pt x="0" y="143"/>
                    </a:lnTo>
                    <a:lnTo>
                      <a:pt x="86" y="143"/>
                    </a:lnTo>
                    <a:lnTo>
                      <a:pt x="164" y="144"/>
                    </a:lnTo>
                    <a:lnTo>
                      <a:pt x="238" y="146"/>
                    </a:lnTo>
                    <a:lnTo>
                      <a:pt x="306" y="150"/>
                    </a:lnTo>
                    <a:lnTo>
                      <a:pt x="367" y="154"/>
                    </a:lnTo>
                    <a:lnTo>
                      <a:pt x="425" y="159"/>
                    </a:lnTo>
                    <a:lnTo>
                      <a:pt x="477" y="166"/>
                    </a:lnTo>
                    <a:lnTo>
                      <a:pt x="525" y="172"/>
                    </a:lnTo>
                    <a:lnTo>
                      <a:pt x="568" y="180"/>
                    </a:lnTo>
                    <a:lnTo>
                      <a:pt x="609" y="186"/>
                    </a:lnTo>
                    <a:lnTo>
                      <a:pt x="645" y="195"/>
                    </a:lnTo>
                    <a:lnTo>
                      <a:pt x="678" y="203"/>
                    </a:lnTo>
                    <a:lnTo>
                      <a:pt x="708" y="213"/>
                    </a:lnTo>
                    <a:lnTo>
                      <a:pt x="737" y="222"/>
                    </a:lnTo>
                    <a:lnTo>
                      <a:pt x="762" y="231"/>
                    </a:lnTo>
                    <a:lnTo>
                      <a:pt x="786" y="240"/>
                    </a:lnTo>
                    <a:lnTo>
                      <a:pt x="829" y="257"/>
                    </a:lnTo>
                    <a:lnTo>
                      <a:pt x="869" y="274"/>
                    </a:lnTo>
                    <a:lnTo>
                      <a:pt x="888" y="282"/>
                    </a:lnTo>
                    <a:lnTo>
                      <a:pt x="908" y="289"/>
                    </a:lnTo>
                    <a:lnTo>
                      <a:pt x="927" y="296"/>
                    </a:lnTo>
                    <a:lnTo>
                      <a:pt x="948" y="302"/>
                    </a:lnTo>
                    <a:lnTo>
                      <a:pt x="969" y="306"/>
                    </a:lnTo>
                    <a:lnTo>
                      <a:pt x="992" y="311"/>
                    </a:lnTo>
                    <a:lnTo>
                      <a:pt x="1016" y="314"/>
                    </a:lnTo>
                    <a:lnTo>
                      <a:pt x="1042" y="316"/>
                    </a:lnTo>
                    <a:lnTo>
                      <a:pt x="1072" y="318"/>
                    </a:lnTo>
                    <a:lnTo>
                      <a:pt x="1103" y="316"/>
                    </a:lnTo>
                    <a:lnTo>
                      <a:pt x="1138" y="315"/>
                    </a:lnTo>
                    <a:lnTo>
                      <a:pt x="1176" y="312"/>
                    </a:lnTo>
                    <a:lnTo>
                      <a:pt x="1394" y="170"/>
                    </a:lnTo>
                    <a:lnTo>
                      <a:pt x="1358" y="174"/>
                    </a:lnTo>
                    <a:lnTo>
                      <a:pt x="1326" y="175"/>
                    </a:lnTo>
                    <a:lnTo>
                      <a:pt x="1296" y="175"/>
                    </a:lnTo>
                    <a:lnTo>
                      <a:pt x="1270" y="174"/>
                    </a:lnTo>
                    <a:lnTo>
                      <a:pt x="1245" y="173"/>
                    </a:lnTo>
                    <a:lnTo>
                      <a:pt x="1221" y="169"/>
                    </a:lnTo>
                    <a:lnTo>
                      <a:pt x="1199" y="165"/>
                    </a:lnTo>
                    <a:lnTo>
                      <a:pt x="1179" y="160"/>
                    </a:lnTo>
                    <a:lnTo>
                      <a:pt x="1160" y="154"/>
                    </a:lnTo>
                    <a:lnTo>
                      <a:pt x="1140" y="149"/>
                    </a:lnTo>
                    <a:lnTo>
                      <a:pt x="1122" y="141"/>
                    </a:lnTo>
                    <a:lnTo>
                      <a:pt x="1103" y="134"/>
                    </a:lnTo>
                    <a:lnTo>
                      <a:pt x="1063" y="117"/>
                    </a:lnTo>
                    <a:lnTo>
                      <a:pt x="1019" y="99"/>
                    </a:lnTo>
                    <a:lnTo>
                      <a:pt x="995" y="89"/>
                    </a:lnTo>
                    <a:lnTo>
                      <a:pt x="969" y="80"/>
                    </a:lnTo>
                    <a:lnTo>
                      <a:pt x="941" y="71"/>
                    </a:lnTo>
                    <a:lnTo>
                      <a:pt x="910" y="62"/>
                    </a:lnTo>
                    <a:lnTo>
                      <a:pt x="877" y="54"/>
                    </a:lnTo>
                    <a:lnTo>
                      <a:pt x="839" y="46"/>
                    </a:lnTo>
                    <a:lnTo>
                      <a:pt x="799" y="38"/>
                    </a:lnTo>
                    <a:lnTo>
                      <a:pt x="755" y="30"/>
                    </a:lnTo>
                    <a:lnTo>
                      <a:pt x="707" y="23"/>
                    </a:lnTo>
                    <a:lnTo>
                      <a:pt x="653" y="18"/>
                    </a:lnTo>
                    <a:lnTo>
                      <a:pt x="595" y="12"/>
                    </a:lnTo>
                    <a:lnTo>
                      <a:pt x="533" y="8"/>
                    </a:lnTo>
                    <a:lnTo>
                      <a:pt x="465" y="5"/>
                    </a:lnTo>
                    <a:lnTo>
                      <a:pt x="391" y="3"/>
                    </a:lnTo>
                    <a:lnTo>
                      <a:pt x="311" y="0"/>
                    </a:lnTo>
                    <a:lnTo>
                      <a:pt x="225" y="2"/>
                    </a:lnTo>
                    <a:lnTo>
                      <a:pt x="53" y="85"/>
                    </a:lnTo>
                    <a:lnTo>
                      <a:pt x="225" y="2"/>
                    </a:lnTo>
                    <a:lnTo>
                      <a:pt x="176" y="2"/>
                    </a:lnTo>
                    <a:lnTo>
                      <a:pt x="53" y="85"/>
                    </a:lnTo>
                    <a:lnTo>
                      <a:pt x="171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4416480" y="3624120"/>
                <a:ext cx="241200" cy="71640"/>
              </a:xfrm>
              <a:custGeom>
                <a:avLst/>
                <a:gdLst/>
                <a:ahLst/>
                <a:rect l="l" t="t" r="r" b="b"/>
                <a:pathLst>
                  <a:path w="758" h="222">
                    <a:moveTo>
                      <a:pt x="239" y="79"/>
                    </a:moveTo>
                    <a:lnTo>
                      <a:pt x="241" y="96"/>
                    </a:lnTo>
                    <a:lnTo>
                      <a:pt x="209" y="123"/>
                    </a:lnTo>
                    <a:lnTo>
                      <a:pt x="124" y="174"/>
                    </a:lnTo>
                    <a:lnTo>
                      <a:pt x="82" y="193"/>
                    </a:lnTo>
                    <a:lnTo>
                      <a:pt x="75" y="197"/>
                    </a:lnTo>
                    <a:lnTo>
                      <a:pt x="81" y="195"/>
                    </a:lnTo>
                    <a:lnTo>
                      <a:pt x="92" y="192"/>
                    </a:lnTo>
                    <a:lnTo>
                      <a:pt x="106" y="190"/>
                    </a:lnTo>
                    <a:lnTo>
                      <a:pt x="121" y="187"/>
                    </a:lnTo>
                    <a:lnTo>
                      <a:pt x="157" y="183"/>
                    </a:lnTo>
                    <a:lnTo>
                      <a:pt x="198" y="179"/>
                    </a:lnTo>
                    <a:lnTo>
                      <a:pt x="241" y="175"/>
                    </a:lnTo>
                    <a:lnTo>
                      <a:pt x="286" y="172"/>
                    </a:lnTo>
                    <a:lnTo>
                      <a:pt x="331" y="169"/>
                    </a:lnTo>
                    <a:lnTo>
                      <a:pt x="376" y="165"/>
                    </a:lnTo>
                    <a:lnTo>
                      <a:pt x="422" y="160"/>
                    </a:lnTo>
                    <a:lnTo>
                      <a:pt x="464" y="155"/>
                    </a:lnTo>
                    <a:lnTo>
                      <a:pt x="486" y="151"/>
                    </a:lnTo>
                    <a:lnTo>
                      <a:pt x="506" y="148"/>
                    </a:lnTo>
                    <a:lnTo>
                      <a:pt x="528" y="143"/>
                    </a:lnTo>
                    <a:lnTo>
                      <a:pt x="550" y="136"/>
                    </a:lnTo>
                    <a:lnTo>
                      <a:pt x="575" y="128"/>
                    </a:lnTo>
                    <a:lnTo>
                      <a:pt x="610" y="115"/>
                    </a:lnTo>
                    <a:lnTo>
                      <a:pt x="673" y="85"/>
                    </a:lnTo>
                    <a:lnTo>
                      <a:pt x="758" y="34"/>
                    </a:lnTo>
                    <a:lnTo>
                      <a:pt x="640" y="59"/>
                    </a:lnTo>
                    <a:lnTo>
                      <a:pt x="703" y="20"/>
                    </a:lnTo>
                    <a:lnTo>
                      <a:pt x="740" y="3"/>
                    </a:lnTo>
                    <a:lnTo>
                      <a:pt x="747" y="0"/>
                    </a:lnTo>
                    <a:lnTo>
                      <a:pt x="741" y="2"/>
                    </a:lnTo>
                    <a:lnTo>
                      <a:pt x="730" y="4"/>
                    </a:lnTo>
                    <a:lnTo>
                      <a:pt x="715" y="7"/>
                    </a:lnTo>
                    <a:lnTo>
                      <a:pt x="698" y="11"/>
                    </a:lnTo>
                    <a:lnTo>
                      <a:pt x="680" y="14"/>
                    </a:lnTo>
                    <a:lnTo>
                      <a:pt x="640" y="20"/>
                    </a:lnTo>
                    <a:lnTo>
                      <a:pt x="596" y="23"/>
                    </a:lnTo>
                    <a:lnTo>
                      <a:pt x="552" y="27"/>
                    </a:lnTo>
                    <a:lnTo>
                      <a:pt x="506" y="30"/>
                    </a:lnTo>
                    <a:lnTo>
                      <a:pt x="462" y="34"/>
                    </a:lnTo>
                    <a:lnTo>
                      <a:pt x="418" y="37"/>
                    </a:lnTo>
                    <a:lnTo>
                      <a:pt x="376" y="42"/>
                    </a:lnTo>
                    <a:lnTo>
                      <a:pt x="338" y="46"/>
                    </a:lnTo>
                    <a:lnTo>
                      <a:pt x="318" y="50"/>
                    </a:lnTo>
                    <a:lnTo>
                      <a:pt x="300" y="53"/>
                    </a:lnTo>
                    <a:lnTo>
                      <a:pt x="281" y="57"/>
                    </a:lnTo>
                    <a:lnTo>
                      <a:pt x="260" y="63"/>
                    </a:lnTo>
                    <a:lnTo>
                      <a:pt x="229" y="74"/>
                    </a:lnTo>
                    <a:lnTo>
                      <a:pt x="167" y="103"/>
                    </a:lnTo>
                    <a:lnTo>
                      <a:pt x="64" y="166"/>
                    </a:lnTo>
                    <a:lnTo>
                      <a:pt x="19" y="203"/>
                    </a:lnTo>
                    <a:lnTo>
                      <a:pt x="21" y="221"/>
                    </a:lnTo>
                    <a:lnTo>
                      <a:pt x="19" y="203"/>
                    </a:lnTo>
                    <a:lnTo>
                      <a:pt x="0" y="222"/>
                    </a:lnTo>
                    <a:lnTo>
                      <a:pt x="21" y="221"/>
                    </a:lnTo>
                    <a:lnTo>
                      <a:pt x="239" y="7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4424400" y="3649680"/>
                <a:ext cx="331920" cy="69840"/>
              </a:xfrm>
              <a:custGeom>
                <a:avLst/>
                <a:gdLst/>
                <a:ahLst/>
                <a:rect l="l" t="t" r="r" b="b"/>
                <a:pathLst>
                  <a:path w="1048" h="224">
                    <a:moveTo>
                      <a:pt x="1048" y="82"/>
                    </a:moveTo>
                    <a:lnTo>
                      <a:pt x="1045" y="81"/>
                    </a:lnTo>
                    <a:lnTo>
                      <a:pt x="996" y="78"/>
                    </a:lnTo>
                    <a:lnTo>
                      <a:pt x="942" y="73"/>
                    </a:lnTo>
                    <a:lnTo>
                      <a:pt x="888" y="67"/>
                    </a:lnTo>
                    <a:lnTo>
                      <a:pt x="830" y="59"/>
                    </a:lnTo>
                    <a:lnTo>
                      <a:pt x="712" y="45"/>
                    </a:lnTo>
                    <a:lnTo>
                      <a:pt x="594" y="30"/>
                    </a:lnTo>
                    <a:lnTo>
                      <a:pt x="480" y="16"/>
                    </a:lnTo>
                    <a:lnTo>
                      <a:pt x="377" y="6"/>
                    </a:lnTo>
                    <a:lnTo>
                      <a:pt x="330" y="2"/>
                    </a:lnTo>
                    <a:lnTo>
                      <a:pt x="288" y="0"/>
                    </a:lnTo>
                    <a:lnTo>
                      <a:pt x="250" y="0"/>
                    </a:lnTo>
                    <a:lnTo>
                      <a:pt x="218" y="2"/>
                    </a:lnTo>
                    <a:lnTo>
                      <a:pt x="0" y="144"/>
                    </a:lnTo>
                    <a:lnTo>
                      <a:pt x="27" y="142"/>
                    </a:lnTo>
                    <a:lnTo>
                      <a:pt x="62" y="143"/>
                    </a:lnTo>
                    <a:lnTo>
                      <a:pt x="103" y="144"/>
                    </a:lnTo>
                    <a:lnTo>
                      <a:pt x="148" y="147"/>
                    </a:lnTo>
                    <a:lnTo>
                      <a:pt x="250" y="158"/>
                    </a:lnTo>
                    <a:lnTo>
                      <a:pt x="363" y="171"/>
                    </a:lnTo>
                    <a:lnTo>
                      <a:pt x="482" y="187"/>
                    </a:lnTo>
                    <a:lnTo>
                      <a:pt x="600" y="202"/>
                    </a:lnTo>
                    <a:lnTo>
                      <a:pt x="659" y="209"/>
                    </a:lnTo>
                    <a:lnTo>
                      <a:pt x="714" y="215"/>
                    </a:lnTo>
                    <a:lnTo>
                      <a:pt x="767" y="219"/>
                    </a:lnTo>
                    <a:lnTo>
                      <a:pt x="818" y="224"/>
                    </a:lnTo>
                    <a:lnTo>
                      <a:pt x="815" y="223"/>
                    </a:lnTo>
                    <a:lnTo>
                      <a:pt x="1048" y="82"/>
                    </a:lnTo>
                    <a:lnTo>
                      <a:pt x="1047" y="81"/>
                    </a:lnTo>
                    <a:lnTo>
                      <a:pt x="1045" y="81"/>
                    </a:lnTo>
                    <a:lnTo>
                      <a:pt x="1048" y="8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4683240" y="3670200"/>
                <a:ext cx="366480" cy="76320"/>
              </a:xfrm>
              <a:custGeom>
                <a:avLst/>
                <a:gdLst/>
                <a:ahLst/>
                <a:rect l="l" t="t" r="r" b="b"/>
                <a:pathLst>
                  <a:path w="1156" h="241">
                    <a:moveTo>
                      <a:pt x="927" y="143"/>
                    </a:moveTo>
                    <a:lnTo>
                      <a:pt x="916" y="138"/>
                    </a:lnTo>
                    <a:lnTo>
                      <a:pt x="916" y="138"/>
                    </a:lnTo>
                    <a:lnTo>
                      <a:pt x="916" y="138"/>
                    </a:lnTo>
                    <a:lnTo>
                      <a:pt x="919" y="135"/>
                    </a:lnTo>
                    <a:lnTo>
                      <a:pt x="936" y="120"/>
                    </a:lnTo>
                    <a:lnTo>
                      <a:pt x="973" y="94"/>
                    </a:lnTo>
                    <a:lnTo>
                      <a:pt x="1033" y="58"/>
                    </a:lnTo>
                    <a:lnTo>
                      <a:pt x="1058" y="47"/>
                    </a:lnTo>
                    <a:lnTo>
                      <a:pt x="1060" y="46"/>
                    </a:lnTo>
                    <a:lnTo>
                      <a:pt x="1052" y="48"/>
                    </a:lnTo>
                    <a:lnTo>
                      <a:pt x="1037" y="54"/>
                    </a:lnTo>
                    <a:lnTo>
                      <a:pt x="1018" y="58"/>
                    </a:lnTo>
                    <a:lnTo>
                      <a:pt x="996" y="64"/>
                    </a:lnTo>
                    <a:lnTo>
                      <a:pt x="971" y="70"/>
                    </a:lnTo>
                    <a:lnTo>
                      <a:pt x="945" y="74"/>
                    </a:lnTo>
                    <a:lnTo>
                      <a:pt x="916" y="80"/>
                    </a:lnTo>
                    <a:lnTo>
                      <a:pt x="887" y="84"/>
                    </a:lnTo>
                    <a:lnTo>
                      <a:pt x="855" y="88"/>
                    </a:lnTo>
                    <a:lnTo>
                      <a:pt x="823" y="92"/>
                    </a:lnTo>
                    <a:lnTo>
                      <a:pt x="789" y="95"/>
                    </a:lnTo>
                    <a:lnTo>
                      <a:pt x="753" y="97"/>
                    </a:lnTo>
                    <a:lnTo>
                      <a:pt x="717" y="98"/>
                    </a:lnTo>
                    <a:lnTo>
                      <a:pt x="680" y="98"/>
                    </a:lnTo>
                    <a:lnTo>
                      <a:pt x="644" y="98"/>
                    </a:lnTo>
                    <a:lnTo>
                      <a:pt x="606" y="97"/>
                    </a:lnTo>
                    <a:lnTo>
                      <a:pt x="569" y="95"/>
                    </a:lnTo>
                    <a:lnTo>
                      <a:pt x="530" y="92"/>
                    </a:lnTo>
                    <a:lnTo>
                      <a:pt x="492" y="87"/>
                    </a:lnTo>
                    <a:lnTo>
                      <a:pt x="453" y="81"/>
                    </a:lnTo>
                    <a:lnTo>
                      <a:pt x="416" y="74"/>
                    </a:lnTo>
                    <a:lnTo>
                      <a:pt x="378" y="65"/>
                    </a:lnTo>
                    <a:lnTo>
                      <a:pt x="341" y="55"/>
                    </a:lnTo>
                    <a:lnTo>
                      <a:pt x="304" y="44"/>
                    </a:lnTo>
                    <a:lnTo>
                      <a:pt x="269" y="31"/>
                    </a:lnTo>
                    <a:lnTo>
                      <a:pt x="233" y="16"/>
                    </a:lnTo>
                    <a:lnTo>
                      <a:pt x="0" y="157"/>
                    </a:lnTo>
                    <a:lnTo>
                      <a:pt x="35" y="171"/>
                    </a:lnTo>
                    <a:lnTo>
                      <a:pt x="72" y="185"/>
                    </a:lnTo>
                    <a:lnTo>
                      <a:pt x="108" y="196"/>
                    </a:lnTo>
                    <a:lnTo>
                      <a:pt x="147" y="207"/>
                    </a:lnTo>
                    <a:lnTo>
                      <a:pt x="184" y="215"/>
                    </a:lnTo>
                    <a:lnTo>
                      <a:pt x="223" y="223"/>
                    </a:lnTo>
                    <a:lnTo>
                      <a:pt x="262" y="228"/>
                    </a:lnTo>
                    <a:lnTo>
                      <a:pt x="302" y="233"/>
                    </a:lnTo>
                    <a:lnTo>
                      <a:pt x="341" y="236"/>
                    </a:lnTo>
                    <a:lnTo>
                      <a:pt x="379" y="239"/>
                    </a:lnTo>
                    <a:lnTo>
                      <a:pt x="418" y="240"/>
                    </a:lnTo>
                    <a:lnTo>
                      <a:pt x="456" y="241"/>
                    </a:lnTo>
                    <a:lnTo>
                      <a:pt x="494" y="240"/>
                    </a:lnTo>
                    <a:lnTo>
                      <a:pt x="531" y="239"/>
                    </a:lnTo>
                    <a:lnTo>
                      <a:pt x="567" y="236"/>
                    </a:lnTo>
                    <a:lnTo>
                      <a:pt x="603" y="233"/>
                    </a:lnTo>
                    <a:lnTo>
                      <a:pt x="637" y="230"/>
                    </a:lnTo>
                    <a:lnTo>
                      <a:pt x="670" y="225"/>
                    </a:lnTo>
                    <a:lnTo>
                      <a:pt x="703" y="220"/>
                    </a:lnTo>
                    <a:lnTo>
                      <a:pt x="734" y="215"/>
                    </a:lnTo>
                    <a:lnTo>
                      <a:pt x="764" y="209"/>
                    </a:lnTo>
                    <a:lnTo>
                      <a:pt x="792" y="203"/>
                    </a:lnTo>
                    <a:lnTo>
                      <a:pt x="819" y="196"/>
                    </a:lnTo>
                    <a:lnTo>
                      <a:pt x="846" y="189"/>
                    </a:lnTo>
                    <a:lnTo>
                      <a:pt x="871" y="181"/>
                    </a:lnTo>
                    <a:lnTo>
                      <a:pt x="899" y="171"/>
                    </a:lnTo>
                    <a:lnTo>
                      <a:pt x="933" y="157"/>
                    </a:lnTo>
                    <a:lnTo>
                      <a:pt x="986" y="131"/>
                    </a:lnTo>
                    <a:lnTo>
                      <a:pt x="1067" y="85"/>
                    </a:lnTo>
                    <a:lnTo>
                      <a:pt x="1120" y="47"/>
                    </a:lnTo>
                    <a:lnTo>
                      <a:pt x="1143" y="25"/>
                    </a:lnTo>
                    <a:lnTo>
                      <a:pt x="1150" y="16"/>
                    </a:lnTo>
                    <a:lnTo>
                      <a:pt x="1153" y="11"/>
                    </a:lnTo>
                    <a:lnTo>
                      <a:pt x="1155" y="6"/>
                    </a:lnTo>
                    <a:lnTo>
                      <a:pt x="1145" y="1"/>
                    </a:lnTo>
                    <a:lnTo>
                      <a:pt x="1155" y="6"/>
                    </a:lnTo>
                    <a:lnTo>
                      <a:pt x="1156" y="0"/>
                    </a:lnTo>
                    <a:lnTo>
                      <a:pt x="1145" y="1"/>
                    </a:lnTo>
                    <a:lnTo>
                      <a:pt x="927" y="1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3297240" y="3981600"/>
                <a:ext cx="247680" cy="27000"/>
              </a:xfrm>
              <a:custGeom>
                <a:avLst/>
                <a:gdLst/>
                <a:ahLst/>
                <a:rect l="l" t="t" r="r" b="b"/>
                <a:pathLst>
                  <a:path w="782" h="83">
                    <a:moveTo>
                      <a:pt x="782" y="64"/>
                    </a:moveTo>
                    <a:lnTo>
                      <a:pt x="753" y="64"/>
                    </a:lnTo>
                    <a:lnTo>
                      <a:pt x="727" y="65"/>
                    </a:lnTo>
                    <a:lnTo>
                      <a:pt x="702" y="64"/>
                    </a:lnTo>
                    <a:lnTo>
                      <a:pt x="678" y="64"/>
                    </a:lnTo>
                    <a:lnTo>
                      <a:pt x="637" y="61"/>
                    </a:lnTo>
                    <a:lnTo>
                      <a:pt x="602" y="56"/>
                    </a:lnTo>
                    <a:lnTo>
                      <a:pt x="570" y="51"/>
                    </a:lnTo>
                    <a:lnTo>
                      <a:pt x="544" y="44"/>
                    </a:lnTo>
                    <a:lnTo>
                      <a:pt x="521" y="36"/>
                    </a:lnTo>
                    <a:lnTo>
                      <a:pt x="500" y="29"/>
                    </a:lnTo>
                    <a:lnTo>
                      <a:pt x="482" y="21"/>
                    </a:lnTo>
                    <a:lnTo>
                      <a:pt x="465" y="15"/>
                    </a:lnTo>
                    <a:lnTo>
                      <a:pt x="448" y="10"/>
                    </a:lnTo>
                    <a:lnTo>
                      <a:pt x="431" y="5"/>
                    </a:lnTo>
                    <a:lnTo>
                      <a:pt x="414" y="2"/>
                    </a:lnTo>
                    <a:lnTo>
                      <a:pt x="393" y="0"/>
                    </a:lnTo>
                    <a:lnTo>
                      <a:pt x="371" y="2"/>
                    </a:lnTo>
                    <a:lnTo>
                      <a:pt x="345" y="6"/>
                    </a:lnTo>
                    <a:lnTo>
                      <a:pt x="333" y="13"/>
                    </a:lnTo>
                    <a:lnTo>
                      <a:pt x="318" y="20"/>
                    </a:lnTo>
                    <a:lnTo>
                      <a:pt x="302" y="27"/>
                    </a:lnTo>
                    <a:lnTo>
                      <a:pt x="284" y="31"/>
                    </a:lnTo>
                    <a:lnTo>
                      <a:pt x="264" y="36"/>
                    </a:lnTo>
                    <a:lnTo>
                      <a:pt x="244" y="40"/>
                    </a:lnTo>
                    <a:lnTo>
                      <a:pt x="222" y="44"/>
                    </a:lnTo>
                    <a:lnTo>
                      <a:pt x="199" y="47"/>
                    </a:lnTo>
                    <a:lnTo>
                      <a:pt x="150" y="53"/>
                    </a:lnTo>
                    <a:lnTo>
                      <a:pt x="100" y="57"/>
                    </a:lnTo>
                    <a:lnTo>
                      <a:pt x="50" y="61"/>
                    </a:lnTo>
                    <a:lnTo>
                      <a:pt x="0" y="64"/>
                    </a:lnTo>
                    <a:lnTo>
                      <a:pt x="78" y="68"/>
                    </a:lnTo>
                    <a:lnTo>
                      <a:pt x="158" y="71"/>
                    </a:lnTo>
                    <a:lnTo>
                      <a:pt x="237" y="75"/>
                    </a:lnTo>
                    <a:lnTo>
                      <a:pt x="317" y="77"/>
                    </a:lnTo>
                    <a:lnTo>
                      <a:pt x="395" y="79"/>
                    </a:lnTo>
                    <a:lnTo>
                      <a:pt x="475" y="80"/>
                    </a:lnTo>
                    <a:lnTo>
                      <a:pt x="554" y="81"/>
                    </a:lnTo>
                    <a:lnTo>
                      <a:pt x="634" y="83"/>
                    </a:lnTo>
                    <a:lnTo>
                      <a:pt x="653" y="80"/>
                    </a:lnTo>
                    <a:lnTo>
                      <a:pt x="672" y="78"/>
                    </a:lnTo>
                    <a:lnTo>
                      <a:pt x="692" y="76"/>
                    </a:lnTo>
                    <a:lnTo>
                      <a:pt x="711" y="73"/>
                    </a:lnTo>
                    <a:lnTo>
                      <a:pt x="731" y="71"/>
                    </a:lnTo>
                    <a:lnTo>
                      <a:pt x="748" y="69"/>
                    </a:lnTo>
                    <a:lnTo>
                      <a:pt x="766" y="67"/>
                    </a:lnTo>
                    <a:lnTo>
                      <a:pt x="782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3375000" y="3959280"/>
                <a:ext cx="206280" cy="49320"/>
              </a:xfrm>
              <a:custGeom>
                <a:avLst/>
                <a:gdLst/>
                <a:ahLst/>
                <a:rect l="l" t="t" r="r" b="b"/>
                <a:pathLst>
                  <a:path w="650" h="153">
                    <a:moveTo>
                      <a:pt x="160" y="64"/>
                    </a:moveTo>
                    <a:lnTo>
                      <a:pt x="0" y="145"/>
                    </a:lnTo>
                    <a:lnTo>
                      <a:pt x="0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3" y="145"/>
                    </a:lnTo>
                    <a:lnTo>
                      <a:pt x="3" y="145"/>
                    </a:lnTo>
                    <a:lnTo>
                      <a:pt x="4" y="145"/>
                    </a:lnTo>
                    <a:lnTo>
                      <a:pt x="4" y="145"/>
                    </a:lnTo>
                    <a:lnTo>
                      <a:pt x="18" y="142"/>
                    </a:lnTo>
                    <a:lnTo>
                      <a:pt x="37" y="141"/>
                    </a:lnTo>
                    <a:lnTo>
                      <a:pt x="54" y="142"/>
                    </a:lnTo>
                    <a:lnTo>
                      <a:pt x="72" y="146"/>
                    </a:lnTo>
                    <a:lnTo>
                      <a:pt x="78" y="147"/>
                    </a:lnTo>
                    <a:lnTo>
                      <a:pt x="132" y="148"/>
                    </a:lnTo>
                    <a:lnTo>
                      <a:pt x="187" y="150"/>
                    </a:lnTo>
                    <a:lnTo>
                      <a:pt x="240" y="150"/>
                    </a:lnTo>
                    <a:lnTo>
                      <a:pt x="294" y="151"/>
                    </a:lnTo>
                    <a:lnTo>
                      <a:pt x="347" y="153"/>
                    </a:lnTo>
                    <a:lnTo>
                      <a:pt x="402" y="153"/>
                    </a:lnTo>
                    <a:lnTo>
                      <a:pt x="456" y="153"/>
                    </a:lnTo>
                    <a:lnTo>
                      <a:pt x="509" y="151"/>
                    </a:lnTo>
                    <a:lnTo>
                      <a:pt x="650" y="62"/>
                    </a:lnTo>
                    <a:lnTo>
                      <a:pt x="622" y="64"/>
                    </a:lnTo>
                    <a:lnTo>
                      <a:pt x="595" y="64"/>
                    </a:lnTo>
                    <a:lnTo>
                      <a:pt x="571" y="64"/>
                    </a:lnTo>
                    <a:lnTo>
                      <a:pt x="548" y="62"/>
                    </a:lnTo>
                    <a:lnTo>
                      <a:pt x="507" y="60"/>
                    </a:lnTo>
                    <a:lnTo>
                      <a:pt x="472" y="56"/>
                    </a:lnTo>
                    <a:lnTo>
                      <a:pt x="442" y="50"/>
                    </a:lnTo>
                    <a:lnTo>
                      <a:pt x="416" y="43"/>
                    </a:lnTo>
                    <a:lnTo>
                      <a:pt x="393" y="36"/>
                    </a:lnTo>
                    <a:lnTo>
                      <a:pt x="374" y="28"/>
                    </a:lnTo>
                    <a:lnTo>
                      <a:pt x="355" y="21"/>
                    </a:lnTo>
                    <a:lnTo>
                      <a:pt x="338" y="15"/>
                    </a:lnTo>
                    <a:lnTo>
                      <a:pt x="320" y="9"/>
                    </a:lnTo>
                    <a:lnTo>
                      <a:pt x="303" y="4"/>
                    </a:lnTo>
                    <a:lnTo>
                      <a:pt x="284" y="1"/>
                    </a:lnTo>
                    <a:lnTo>
                      <a:pt x="262" y="0"/>
                    </a:lnTo>
                    <a:lnTo>
                      <a:pt x="237" y="1"/>
                    </a:lnTo>
                    <a:lnTo>
                      <a:pt x="206" y="5"/>
                    </a:lnTo>
                    <a:lnTo>
                      <a:pt x="42" y="89"/>
                    </a:lnTo>
                    <a:lnTo>
                      <a:pt x="206" y="5"/>
                    </a:lnTo>
                    <a:lnTo>
                      <a:pt x="148" y="18"/>
                    </a:lnTo>
                    <a:lnTo>
                      <a:pt x="42" y="89"/>
                    </a:lnTo>
                    <a:lnTo>
                      <a:pt x="16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3241800" y="3968640"/>
                <a:ext cx="183960" cy="36720"/>
              </a:xfrm>
              <a:custGeom>
                <a:avLst/>
                <a:gdLst/>
                <a:ahLst/>
                <a:rect l="l" t="t" r="r" b="b"/>
                <a:pathLst>
                  <a:path w="576" h="116">
                    <a:moveTo>
                      <a:pt x="56" y="80"/>
                    </a:moveTo>
                    <a:lnTo>
                      <a:pt x="56" y="98"/>
                    </a:lnTo>
                    <a:lnTo>
                      <a:pt x="54" y="100"/>
                    </a:lnTo>
                    <a:lnTo>
                      <a:pt x="101" y="102"/>
                    </a:lnTo>
                    <a:lnTo>
                      <a:pt x="148" y="104"/>
                    </a:lnTo>
                    <a:lnTo>
                      <a:pt x="195" y="106"/>
                    </a:lnTo>
                    <a:lnTo>
                      <a:pt x="241" y="109"/>
                    </a:lnTo>
                    <a:lnTo>
                      <a:pt x="288" y="111"/>
                    </a:lnTo>
                    <a:lnTo>
                      <a:pt x="335" y="112"/>
                    </a:lnTo>
                    <a:lnTo>
                      <a:pt x="382" y="114"/>
                    </a:lnTo>
                    <a:lnTo>
                      <a:pt x="428" y="116"/>
                    </a:lnTo>
                    <a:lnTo>
                      <a:pt x="490" y="86"/>
                    </a:lnTo>
                    <a:lnTo>
                      <a:pt x="576" y="35"/>
                    </a:lnTo>
                    <a:lnTo>
                      <a:pt x="458" y="60"/>
                    </a:lnTo>
                    <a:lnTo>
                      <a:pt x="522" y="21"/>
                    </a:lnTo>
                    <a:lnTo>
                      <a:pt x="558" y="4"/>
                    </a:lnTo>
                    <a:lnTo>
                      <a:pt x="566" y="0"/>
                    </a:lnTo>
                    <a:lnTo>
                      <a:pt x="559" y="3"/>
                    </a:lnTo>
                    <a:lnTo>
                      <a:pt x="548" y="6"/>
                    </a:lnTo>
                    <a:lnTo>
                      <a:pt x="533" y="8"/>
                    </a:lnTo>
                    <a:lnTo>
                      <a:pt x="516" y="12"/>
                    </a:lnTo>
                    <a:lnTo>
                      <a:pt x="498" y="15"/>
                    </a:lnTo>
                    <a:lnTo>
                      <a:pt x="457" y="21"/>
                    </a:lnTo>
                    <a:lnTo>
                      <a:pt x="415" y="24"/>
                    </a:lnTo>
                    <a:lnTo>
                      <a:pt x="369" y="29"/>
                    </a:lnTo>
                    <a:lnTo>
                      <a:pt x="323" y="31"/>
                    </a:lnTo>
                    <a:lnTo>
                      <a:pt x="279" y="35"/>
                    </a:lnTo>
                    <a:lnTo>
                      <a:pt x="234" y="38"/>
                    </a:lnTo>
                    <a:lnTo>
                      <a:pt x="193" y="43"/>
                    </a:lnTo>
                    <a:lnTo>
                      <a:pt x="154" y="47"/>
                    </a:lnTo>
                    <a:lnTo>
                      <a:pt x="135" y="51"/>
                    </a:lnTo>
                    <a:lnTo>
                      <a:pt x="116" y="54"/>
                    </a:lnTo>
                    <a:lnTo>
                      <a:pt x="97" y="59"/>
                    </a:lnTo>
                    <a:lnTo>
                      <a:pt x="76" y="64"/>
                    </a:lnTo>
                    <a:lnTo>
                      <a:pt x="45" y="75"/>
                    </a:lnTo>
                    <a:lnTo>
                      <a:pt x="0" y="96"/>
                    </a:lnTo>
                    <a:lnTo>
                      <a:pt x="3" y="97"/>
                    </a:lnTo>
                    <a:lnTo>
                      <a:pt x="6" y="97"/>
                    </a:lnTo>
                    <a:lnTo>
                      <a:pt x="10" y="97"/>
                    </a:lnTo>
                    <a:lnTo>
                      <a:pt x="13" y="97"/>
                    </a:lnTo>
                    <a:lnTo>
                      <a:pt x="17" y="97"/>
                    </a:lnTo>
                    <a:lnTo>
                      <a:pt x="20" y="97"/>
                    </a:lnTo>
                    <a:lnTo>
                      <a:pt x="24" y="98"/>
                    </a:lnTo>
                    <a:lnTo>
                      <a:pt x="27" y="98"/>
                    </a:lnTo>
                    <a:lnTo>
                      <a:pt x="56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3251160" y="3992400"/>
                <a:ext cx="222120" cy="14400"/>
              </a:xfrm>
              <a:custGeom>
                <a:avLst/>
                <a:gdLst/>
                <a:ahLst/>
                <a:rect l="l" t="t" r="r" b="b"/>
                <a:pathLst>
                  <a:path w="702" h="44">
                    <a:moveTo>
                      <a:pt x="653" y="44"/>
                    </a:moveTo>
                    <a:lnTo>
                      <a:pt x="701" y="17"/>
                    </a:lnTo>
                    <a:lnTo>
                      <a:pt x="674" y="23"/>
                    </a:lnTo>
                    <a:lnTo>
                      <a:pt x="646" y="26"/>
                    </a:lnTo>
                    <a:lnTo>
                      <a:pt x="620" y="30"/>
                    </a:lnTo>
                    <a:lnTo>
                      <a:pt x="594" y="33"/>
                    </a:lnTo>
                    <a:lnTo>
                      <a:pt x="568" y="35"/>
                    </a:lnTo>
                    <a:lnTo>
                      <a:pt x="542" y="36"/>
                    </a:lnTo>
                    <a:lnTo>
                      <a:pt x="516" y="38"/>
                    </a:lnTo>
                    <a:lnTo>
                      <a:pt x="492" y="38"/>
                    </a:lnTo>
                    <a:lnTo>
                      <a:pt x="443" y="36"/>
                    </a:lnTo>
                    <a:lnTo>
                      <a:pt x="397" y="34"/>
                    </a:lnTo>
                    <a:lnTo>
                      <a:pt x="352" y="31"/>
                    </a:lnTo>
                    <a:lnTo>
                      <a:pt x="310" y="26"/>
                    </a:lnTo>
                    <a:lnTo>
                      <a:pt x="229" y="16"/>
                    </a:lnTo>
                    <a:lnTo>
                      <a:pt x="156" y="7"/>
                    </a:lnTo>
                    <a:lnTo>
                      <a:pt x="122" y="3"/>
                    </a:lnTo>
                    <a:lnTo>
                      <a:pt x="90" y="1"/>
                    </a:lnTo>
                    <a:lnTo>
                      <a:pt x="59" y="0"/>
                    </a:lnTo>
                    <a:lnTo>
                      <a:pt x="29" y="2"/>
                    </a:lnTo>
                    <a:lnTo>
                      <a:pt x="0" y="20"/>
                    </a:lnTo>
                    <a:lnTo>
                      <a:pt x="82" y="25"/>
                    </a:lnTo>
                    <a:lnTo>
                      <a:pt x="163" y="28"/>
                    </a:lnTo>
                    <a:lnTo>
                      <a:pt x="245" y="32"/>
                    </a:lnTo>
                    <a:lnTo>
                      <a:pt x="327" y="35"/>
                    </a:lnTo>
                    <a:lnTo>
                      <a:pt x="408" y="39"/>
                    </a:lnTo>
                    <a:lnTo>
                      <a:pt x="490" y="41"/>
                    </a:lnTo>
                    <a:lnTo>
                      <a:pt x="572" y="43"/>
                    </a:lnTo>
                    <a:lnTo>
                      <a:pt x="653" y="44"/>
                    </a:lnTo>
                    <a:close/>
                    <a:moveTo>
                      <a:pt x="692" y="44"/>
                    </a:moveTo>
                    <a:lnTo>
                      <a:pt x="702" y="39"/>
                    </a:lnTo>
                    <a:lnTo>
                      <a:pt x="692" y="44"/>
                    </a:lnTo>
                    <a:lnTo>
                      <a:pt x="692" y="44"/>
                    </a:lnTo>
                    <a:lnTo>
                      <a:pt x="692" y="44"/>
                    </a:lnTo>
                    <a:lnTo>
                      <a:pt x="691" y="44"/>
                    </a:lnTo>
                    <a:lnTo>
                      <a:pt x="691" y="44"/>
                    </a:lnTo>
                    <a:lnTo>
                      <a:pt x="691" y="44"/>
                    </a:lnTo>
                    <a:lnTo>
                      <a:pt x="691" y="44"/>
                    </a:lnTo>
                    <a:lnTo>
                      <a:pt x="691" y="44"/>
                    </a:lnTo>
                    <a:lnTo>
                      <a:pt x="690" y="44"/>
                    </a:lnTo>
                    <a:lnTo>
                      <a:pt x="702" y="39"/>
                    </a:lnTo>
                    <a:lnTo>
                      <a:pt x="697" y="44"/>
                    </a:lnTo>
                    <a:lnTo>
                      <a:pt x="695" y="44"/>
                    </a:lnTo>
                    <a:lnTo>
                      <a:pt x="695" y="44"/>
                    </a:lnTo>
                    <a:lnTo>
                      <a:pt x="694" y="44"/>
                    </a:lnTo>
                    <a:lnTo>
                      <a:pt x="694" y="44"/>
                    </a:lnTo>
                    <a:lnTo>
                      <a:pt x="693" y="44"/>
                    </a:lnTo>
                    <a:lnTo>
                      <a:pt x="693" y="44"/>
                    </a:lnTo>
                    <a:lnTo>
                      <a:pt x="693" y="44"/>
                    </a:lnTo>
                    <a:lnTo>
                      <a:pt x="692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3452760" y="3978360"/>
                <a:ext cx="265320" cy="30240"/>
              </a:xfrm>
              <a:custGeom>
                <a:avLst/>
                <a:gdLst/>
                <a:ahLst/>
                <a:rect l="l" t="t" r="r" b="b"/>
                <a:pathLst>
                  <a:path w="838" h="95">
                    <a:moveTo>
                      <a:pt x="263" y="95"/>
                    </a:moveTo>
                    <a:lnTo>
                      <a:pt x="399" y="6"/>
                    </a:lnTo>
                    <a:lnTo>
                      <a:pt x="358" y="12"/>
                    </a:lnTo>
                    <a:lnTo>
                      <a:pt x="311" y="17"/>
                    </a:lnTo>
                    <a:lnTo>
                      <a:pt x="261" y="23"/>
                    </a:lnTo>
                    <a:lnTo>
                      <a:pt x="211" y="28"/>
                    </a:lnTo>
                    <a:lnTo>
                      <a:pt x="187" y="31"/>
                    </a:lnTo>
                    <a:lnTo>
                      <a:pt x="163" y="35"/>
                    </a:lnTo>
                    <a:lnTo>
                      <a:pt x="140" y="39"/>
                    </a:lnTo>
                    <a:lnTo>
                      <a:pt x="117" y="44"/>
                    </a:lnTo>
                    <a:lnTo>
                      <a:pt x="92" y="51"/>
                    </a:lnTo>
                    <a:lnTo>
                      <a:pt x="52" y="66"/>
                    </a:lnTo>
                    <a:lnTo>
                      <a:pt x="0" y="92"/>
                    </a:lnTo>
                    <a:lnTo>
                      <a:pt x="7" y="93"/>
                    </a:lnTo>
                    <a:lnTo>
                      <a:pt x="14" y="93"/>
                    </a:lnTo>
                    <a:lnTo>
                      <a:pt x="20" y="93"/>
                    </a:lnTo>
                    <a:lnTo>
                      <a:pt x="28" y="93"/>
                    </a:lnTo>
                    <a:lnTo>
                      <a:pt x="35" y="93"/>
                    </a:lnTo>
                    <a:lnTo>
                      <a:pt x="42" y="93"/>
                    </a:lnTo>
                    <a:lnTo>
                      <a:pt x="49" y="93"/>
                    </a:lnTo>
                    <a:lnTo>
                      <a:pt x="56" y="93"/>
                    </a:lnTo>
                    <a:lnTo>
                      <a:pt x="68" y="88"/>
                    </a:lnTo>
                    <a:lnTo>
                      <a:pt x="60" y="93"/>
                    </a:lnTo>
                    <a:lnTo>
                      <a:pt x="85" y="93"/>
                    </a:lnTo>
                    <a:lnTo>
                      <a:pt x="110" y="95"/>
                    </a:lnTo>
                    <a:lnTo>
                      <a:pt x="137" y="95"/>
                    </a:lnTo>
                    <a:lnTo>
                      <a:pt x="162" y="95"/>
                    </a:lnTo>
                    <a:lnTo>
                      <a:pt x="187" y="95"/>
                    </a:lnTo>
                    <a:lnTo>
                      <a:pt x="212" y="95"/>
                    </a:lnTo>
                    <a:lnTo>
                      <a:pt x="238" y="95"/>
                    </a:lnTo>
                    <a:lnTo>
                      <a:pt x="263" y="95"/>
                    </a:lnTo>
                    <a:close/>
                    <a:moveTo>
                      <a:pt x="268" y="93"/>
                    </a:moveTo>
                    <a:lnTo>
                      <a:pt x="405" y="4"/>
                    </a:lnTo>
                    <a:lnTo>
                      <a:pt x="268" y="93"/>
                    </a:lnTo>
                    <a:lnTo>
                      <a:pt x="267" y="93"/>
                    </a:lnTo>
                    <a:lnTo>
                      <a:pt x="267" y="93"/>
                    </a:lnTo>
                    <a:lnTo>
                      <a:pt x="267" y="93"/>
                    </a:lnTo>
                    <a:lnTo>
                      <a:pt x="267" y="93"/>
                    </a:lnTo>
                    <a:lnTo>
                      <a:pt x="265" y="93"/>
                    </a:lnTo>
                    <a:lnTo>
                      <a:pt x="265" y="93"/>
                    </a:lnTo>
                    <a:lnTo>
                      <a:pt x="265" y="93"/>
                    </a:lnTo>
                    <a:lnTo>
                      <a:pt x="264" y="93"/>
                    </a:lnTo>
                    <a:lnTo>
                      <a:pt x="405" y="4"/>
                    </a:lnTo>
                    <a:lnTo>
                      <a:pt x="838" y="0"/>
                    </a:lnTo>
                    <a:lnTo>
                      <a:pt x="431" y="91"/>
                    </a:lnTo>
                    <a:lnTo>
                      <a:pt x="410" y="92"/>
                    </a:lnTo>
                    <a:lnTo>
                      <a:pt x="390" y="92"/>
                    </a:lnTo>
                    <a:lnTo>
                      <a:pt x="369" y="92"/>
                    </a:lnTo>
                    <a:lnTo>
                      <a:pt x="349" y="93"/>
                    </a:lnTo>
                    <a:lnTo>
                      <a:pt x="328" y="93"/>
                    </a:lnTo>
                    <a:lnTo>
                      <a:pt x="309" y="93"/>
                    </a:lnTo>
                    <a:lnTo>
                      <a:pt x="288" y="93"/>
                    </a:lnTo>
                    <a:lnTo>
                      <a:pt x="268" y="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4532400" y="3898800"/>
                <a:ext cx="488880" cy="47880"/>
              </a:xfrm>
              <a:custGeom>
                <a:avLst/>
                <a:gdLst/>
                <a:ahLst/>
                <a:rect l="l" t="t" r="r" b="b"/>
                <a:pathLst>
                  <a:path w="1541" h="152">
                    <a:moveTo>
                      <a:pt x="0" y="63"/>
                    </a:moveTo>
                    <a:lnTo>
                      <a:pt x="28" y="64"/>
                    </a:lnTo>
                    <a:lnTo>
                      <a:pt x="54" y="64"/>
                    </a:lnTo>
                    <a:lnTo>
                      <a:pt x="80" y="64"/>
                    </a:lnTo>
                    <a:lnTo>
                      <a:pt x="103" y="63"/>
                    </a:lnTo>
                    <a:lnTo>
                      <a:pt x="145" y="59"/>
                    </a:lnTo>
                    <a:lnTo>
                      <a:pt x="181" y="55"/>
                    </a:lnTo>
                    <a:lnTo>
                      <a:pt x="212" y="49"/>
                    </a:lnTo>
                    <a:lnTo>
                      <a:pt x="238" y="42"/>
                    </a:lnTo>
                    <a:lnTo>
                      <a:pt x="261" y="35"/>
                    </a:lnTo>
                    <a:lnTo>
                      <a:pt x="281" y="27"/>
                    </a:lnTo>
                    <a:lnTo>
                      <a:pt x="300" y="21"/>
                    </a:lnTo>
                    <a:lnTo>
                      <a:pt x="317" y="14"/>
                    </a:lnTo>
                    <a:lnTo>
                      <a:pt x="334" y="8"/>
                    </a:lnTo>
                    <a:lnTo>
                      <a:pt x="351" y="3"/>
                    </a:lnTo>
                    <a:lnTo>
                      <a:pt x="368" y="0"/>
                    </a:lnTo>
                    <a:lnTo>
                      <a:pt x="388" y="0"/>
                    </a:lnTo>
                    <a:lnTo>
                      <a:pt x="410" y="1"/>
                    </a:lnTo>
                    <a:lnTo>
                      <a:pt x="436" y="5"/>
                    </a:lnTo>
                    <a:lnTo>
                      <a:pt x="581" y="7"/>
                    </a:lnTo>
                    <a:lnTo>
                      <a:pt x="712" y="10"/>
                    </a:lnTo>
                    <a:lnTo>
                      <a:pt x="832" y="16"/>
                    </a:lnTo>
                    <a:lnTo>
                      <a:pt x="940" y="22"/>
                    </a:lnTo>
                    <a:lnTo>
                      <a:pt x="1037" y="29"/>
                    </a:lnTo>
                    <a:lnTo>
                      <a:pt x="1124" y="35"/>
                    </a:lnTo>
                    <a:lnTo>
                      <a:pt x="1200" y="43"/>
                    </a:lnTo>
                    <a:lnTo>
                      <a:pt x="1267" y="52"/>
                    </a:lnTo>
                    <a:lnTo>
                      <a:pt x="1326" y="63"/>
                    </a:lnTo>
                    <a:lnTo>
                      <a:pt x="1377" y="73"/>
                    </a:lnTo>
                    <a:lnTo>
                      <a:pt x="1419" y="83"/>
                    </a:lnTo>
                    <a:lnTo>
                      <a:pt x="1456" y="95"/>
                    </a:lnTo>
                    <a:lnTo>
                      <a:pt x="1471" y="100"/>
                    </a:lnTo>
                    <a:lnTo>
                      <a:pt x="1485" y="106"/>
                    </a:lnTo>
                    <a:lnTo>
                      <a:pt x="1498" y="112"/>
                    </a:lnTo>
                    <a:lnTo>
                      <a:pt x="1509" y="119"/>
                    </a:lnTo>
                    <a:lnTo>
                      <a:pt x="1518" y="124"/>
                    </a:lnTo>
                    <a:lnTo>
                      <a:pt x="1527" y="130"/>
                    </a:lnTo>
                    <a:lnTo>
                      <a:pt x="1535" y="137"/>
                    </a:lnTo>
                    <a:lnTo>
                      <a:pt x="1541" y="143"/>
                    </a:lnTo>
                    <a:lnTo>
                      <a:pt x="1507" y="140"/>
                    </a:lnTo>
                    <a:lnTo>
                      <a:pt x="1460" y="140"/>
                    </a:lnTo>
                    <a:lnTo>
                      <a:pt x="1402" y="140"/>
                    </a:lnTo>
                    <a:lnTo>
                      <a:pt x="1334" y="141"/>
                    </a:lnTo>
                    <a:lnTo>
                      <a:pt x="1175" y="146"/>
                    </a:lnTo>
                    <a:lnTo>
                      <a:pt x="997" y="149"/>
                    </a:lnTo>
                    <a:lnTo>
                      <a:pt x="905" y="152"/>
                    </a:lnTo>
                    <a:lnTo>
                      <a:pt x="811" y="152"/>
                    </a:lnTo>
                    <a:lnTo>
                      <a:pt x="719" y="152"/>
                    </a:lnTo>
                    <a:lnTo>
                      <a:pt x="630" y="149"/>
                    </a:lnTo>
                    <a:lnTo>
                      <a:pt x="587" y="148"/>
                    </a:lnTo>
                    <a:lnTo>
                      <a:pt x="545" y="146"/>
                    </a:lnTo>
                    <a:lnTo>
                      <a:pt x="505" y="144"/>
                    </a:lnTo>
                    <a:lnTo>
                      <a:pt x="466" y="140"/>
                    </a:lnTo>
                    <a:lnTo>
                      <a:pt x="428" y="137"/>
                    </a:lnTo>
                    <a:lnTo>
                      <a:pt x="393" y="134"/>
                    </a:lnTo>
                    <a:lnTo>
                      <a:pt x="361" y="129"/>
                    </a:lnTo>
                    <a:lnTo>
                      <a:pt x="330" y="123"/>
                    </a:lnTo>
                    <a:lnTo>
                      <a:pt x="321" y="116"/>
                    </a:lnTo>
                    <a:lnTo>
                      <a:pt x="309" y="111"/>
                    </a:lnTo>
                    <a:lnTo>
                      <a:pt x="294" y="105"/>
                    </a:lnTo>
                    <a:lnTo>
                      <a:pt x="277" y="100"/>
                    </a:lnTo>
                    <a:lnTo>
                      <a:pt x="257" y="96"/>
                    </a:lnTo>
                    <a:lnTo>
                      <a:pt x="236" y="92"/>
                    </a:lnTo>
                    <a:lnTo>
                      <a:pt x="214" y="89"/>
                    </a:lnTo>
                    <a:lnTo>
                      <a:pt x="190" y="86"/>
                    </a:lnTo>
                    <a:lnTo>
                      <a:pt x="141" y="80"/>
                    </a:lnTo>
                    <a:lnTo>
                      <a:pt x="91" y="75"/>
                    </a:lnTo>
                    <a:lnTo>
                      <a:pt x="43" y="7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4495680" y="387504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666" h="207">
                    <a:moveTo>
                      <a:pt x="663" y="6"/>
                    </a:moveTo>
                    <a:lnTo>
                      <a:pt x="666" y="6"/>
                    </a:lnTo>
                    <a:lnTo>
                      <a:pt x="639" y="2"/>
                    </a:lnTo>
                    <a:lnTo>
                      <a:pt x="615" y="0"/>
                    </a:lnTo>
                    <a:lnTo>
                      <a:pt x="591" y="1"/>
                    </a:lnTo>
                    <a:lnTo>
                      <a:pt x="569" y="6"/>
                    </a:lnTo>
                    <a:lnTo>
                      <a:pt x="541" y="13"/>
                    </a:lnTo>
                    <a:lnTo>
                      <a:pt x="514" y="22"/>
                    </a:lnTo>
                    <a:lnTo>
                      <a:pt x="492" y="31"/>
                    </a:lnTo>
                    <a:lnTo>
                      <a:pt x="476" y="37"/>
                    </a:lnTo>
                    <a:lnTo>
                      <a:pt x="464" y="41"/>
                    </a:lnTo>
                    <a:lnTo>
                      <a:pt x="449" y="46"/>
                    </a:lnTo>
                    <a:lnTo>
                      <a:pt x="428" y="51"/>
                    </a:lnTo>
                    <a:lnTo>
                      <a:pt x="401" y="56"/>
                    </a:lnTo>
                    <a:lnTo>
                      <a:pt x="368" y="61"/>
                    </a:lnTo>
                    <a:lnTo>
                      <a:pt x="328" y="64"/>
                    </a:lnTo>
                    <a:lnTo>
                      <a:pt x="305" y="65"/>
                    </a:lnTo>
                    <a:lnTo>
                      <a:pt x="281" y="65"/>
                    </a:lnTo>
                    <a:lnTo>
                      <a:pt x="255" y="65"/>
                    </a:lnTo>
                    <a:lnTo>
                      <a:pt x="228" y="64"/>
                    </a:lnTo>
                    <a:lnTo>
                      <a:pt x="0" y="206"/>
                    </a:lnTo>
                    <a:lnTo>
                      <a:pt x="29" y="207"/>
                    </a:lnTo>
                    <a:lnTo>
                      <a:pt x="57" y="207"/>
                    </a:lnTo>
                    <a:lnTo>
                      <a:pt x="82" y="207"/>
                    </a:lnTo>
                    <a:lnTo>
                      <a:pt x="106" y="206"/>
                    </a:lnTo>
                    <a:lnTo>
                      <a:pt x="149" y="202"/>
                    </a:lnTo>
                    <a:lnTo>
                      <a:pt x="188" y="198"/>
                    </a:lnTo>
                    <a:lnTo>
                      <a:pt x="222" y="191"/>
                    </a:lnTo>
                    <a:lnTo>
                      <a:pt x="255" y="183"/>
                    </a:lnTo>
                    <a:lnTo>
                      <a:pt x="286" y="172"/>
                    </a:lnTo>
                    <a:lnTo>
                      <a:pt x="314" y="162"/>
                    </a:lnTo>
                    <a:lnTo>
                      <a:pt x="336" y="154"/>
                    </a:lnTo>
                    <a:lnTo>
                      <a:pt x="347" y="150"/>
                    </a:lnTo>
                    <a:lnTo>
                      <a:pt x="353" y="147"/>
                    </a:lnTo>
                    <a:lnTo>
                      <a:pt x="361" y="145"/>
                    </a:lnTo>
                    <a:lnTo>
                      <a:pt x="374" y="143"/>
                    </a:lnTo>
                    <a:lnTo>
                      <a:pt x="390" y="143"/>
                    </a:lnTo>
                    <a:lnTo>
                      <a:pt x="410" y="144"/>
                    </a:lnTo>
                    <a:lnTo>
                      <a:pt x="435" y="147"/>
                    </a:lnTo>
                    <a:lnTo>
                      <a:pt x="438" y="147"/>
                    </a:lnTo>
                    <a:lnTo>
                      <a:pt x="435" y="147"/>
                    </a:lnTo>
                    <a:lnTo>
                      <a:pt x="436" y="147"/>
                    </a:lnTo>
                    <a:lnTo>
                      <a:pt x="438" y="147"/>
                    </a:lnTo>
                    <a:lnTo>
                      <a:pt x="663" y="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4635360" y="3876840"/>
                <a:ext cx="443160" cy="80640"/>
              </a:xfrm>
              <a:custGeom>
                <a:avLst/>
                <a:gdLst/>
                <a:ahLst/>
                <a:rect l="l" t="t" r="r" b="b"/>
                <a:pathLst>
                  <a:path w="1395" h="254">
                    <a:moveTo>
                      <a:pt x="1150" y="251"/>
                    </a:moveTo>
                    <a:lnTo>
                      <a:pt x="1336" y="139"/>
                    </a:lnTo>
                    <a:lnTo>
                      <a:pt x="1329" y="133"/>
                    </a:lnTo>
                    <a:lnTo>
                      <a:pt x="1322" y="126"/>
                    </a:lnTo>
                    <a:lnTo>
                      <a:pt x="1313" y="121"/>
                    </a:lnTo>
                    <a:lnTo>
                      <a:pt x="1303" y="114"/>
                    </a:lnTo>
                    <a:lnTo>
                      <a:pt x="1291" y="108"/>
                    </a:lnTo>
                    <a:lnTo>
                      <a:pt x="1279" y="103"/>
                    </a:lnTo>
                    <a:lnTo>
                      <a:pt x="1264" y="97"/>
                    </a:lnTo>
                    <a:lnTo>
                      <a:pt x="1248" y="90"/>
                    </a:lnTo>
                    <a:lnTo>
                      <a:pt x="1211" y="79"/>
                    </a:lnTo>
                    <a:lnTo>
                      <a:pt x="1168" y="68"/>
                    </a:lnTo>
                    <a:lnTo>
                      <a:pt x="1118" y="58"/>
                    </a:lnTo>
                    <a:lnTo>
                      <a:pt x="1059" y="48"/>
                    </a:lnTo>
                    <a:lnTo>
                      <a:pt x="991" y="39"/>
                    </a:lnTo>
                    <a:lnTo>
                      <a:pt x="914" y="31"/>
                    </a:lnTo>
                    <a:lnTo>
                      <a:pt x="827" y="23"/>
                    </a:lnTo>
                    <a:lnTo>
                      <a:pt x="729" y="17"/>
                    </a:lnTo>
                    <a:lnTo>
                      <a:pt x="622" y="10"/>
                    </a:lnTo>
                    <a:lnTo>
                      <a:pt x="501" y="6"/>
                    </a:lnTo>
                    <a:lnTo>
                      <a:pt x="370" y="2"/>
                    </a:lnTo>
                    <a:lnTo>
                      <a:pt x="225" y="0"/>
                    </a:lnTo>
                    <a:lnTo>
                      <a:pt x="0" y="141"/>
                    </a:lnTo>
                    <a:lnTo>
                      <a:pt x="144" y="144"/>
                    </a:lnTo>
                    <a:lnTo>
                      <a:pt x="275" y="148"/>
                    </a:lnTo>
                    <a:lnTo>
                      <a:pt x="395" y="153"/>
                    </a:lnTo>
                    <a:lnTo>
                      <a:pt x="502" y="158"/>
                    </a:lnTo>
                    <a:lnTo>
                      <a:pt x="599" y="165"/>
                    </a:lnTo>
                    <a:lnTo>
                      <a:pt x="686" y="172"/>
                    </a:lnTo>
                    <a:lnTo>
                      <a:pt x="761" y="181"/>
                    </a:lnTo>
                    <a:lnTo>
                      <a:pt x="828" y="189"/>
                    </a:lnTo>
                    <a:lnTo>
                      <a:pt x="886" y="200"/>
                    </a:lnTo>
                    <a:lnTo>
                      <a:pt x="937" y="210"/>
                    </a:lnTo>
                    <a:lnTo>
                      <a:pt x="979" y="220"/>
                    </a:lnTo>
                    <a:lnTo>
                      <a:pt x="1015" y="231"/>
                    </a:lnTo>
                    <a:lnTo>
                      <a:pt x="1030" y="237"/>
                    </a:lnTo>
                    <a:lnTo>
                      <a:pt x="1044" y="243"/>
                    </a:lnTo>
                    <a:lnTo>
                      <a:pt x="1056" y="249"/>
                    </a:lnTo>
                    <a:lnTo>
                      <a:pt x="1067" y="254"/>
                    </a:lnTo>
                    <a:lnTo>
                      <a:pt x="1068" y="254"/>
                    </a:lnTo>
                    <a:lnTo>
                      <a:pt x="1077" y="254"/>
                    </a:lnTo>
                    <a:lnTo>
                      <a:pt x="1086" y="253"/>
                    </a:lnTo>
                    <a:lnTo>
                      <a:pt x="1096" y="253"/>
                    </a:lnTo>
                    <a:lnTo>
                      <a:pt x="1105" y="253"/>
                    </a:lnTo>
                    <a:lnTo>
                      <a:pt x="1114" y="252"/>
                    </a:lnTo>
                    <a:lnTo>
                      <a:pt x="1125" y="252"/>
                    </a:lnTo>
                    <a:lnTo>
                      <a:pt x="1134" y="252"/>
                    </a:lnTo>
                    <a:lnTo>
                      <a:pt x="1143" y="251"/>
                    </a:lnTo>
                    <a:lnTo>
                      <a:pt x="1331" y="138"/>
                    </a:lnTo>
                    <a:lnTo>
                      <a:pt x="1149" y="251"/>
                    </a:lnTo>
                    <a:lnTo>
                      <a:pt x="1149" y="251"/>
                    </a:lnTo>
                    <a:lnTo>
                      <a:pt x="1149" y="251"/>
                    </a:lnTo>
                    <a:lnTo>
                      <a:pt x="1149" y="251"/>
                    </a:lnTo>
                    <a:lnTo>
                      <a:pt x="1150" y="251"/>
                    </a:lnTo>
                    <a:lnTo>
                      <a:pt x="1150" y="251"/>
                    </a:lnTo>
                    <a:lnTo>
                      <a:pt x="1150" y="251"/>
                    </a:lnTo>
                    <a:lnTo>
                      <a:pt x="1150" y="251"/>
                    </a:lnTo>
                    <a:lnTo>
                      <a:pt x="1150" y="251"/>
                    </a:lnTo>
                    <a:close/>
                    <a:moveTo>
                      <a:pt x="1395" y="247"/>
                    </a:moveTo>
                    <a:lnTo>
                      <a:pt x="1336" y="139"/>
                    </a:lnTo>
                    <a:lnTo>
                      <a:pt x="1150" y="251"/>
                    </a:lnTo>
                    <a:lnTo>
                      <a:pt x="1163" y="251"/>
                    </a:lnTo>
                    <a:lnTo>
                      <a:pt x="1177" y="250"/>
                    </a:lnTo>
                    <a:lnTo>
                      <a:pt x="1191" y="250"/>
                    </a:lnTo>
                    <a:lnTo>
                      <a:pt x="1203" y="249"/>
                    </a:lnTo>
                    <a:lnTo>
                      <a:pt x="1217" y="249"/>
                    </a:lnTo>
                    <a:lnTo>
                      <a:pt x="1230" y="247"/>
                    </a:lnTo>
                    <a:lnTo>
                      <a:pt x="1243" y="247"/>
                    </a:lnTo>
                    <a:lnTo>
                      <a:pt x="1256" y="247"/>
                    </a:lnTo>
                    <a:lnTo>
                      <a:pt x="1273" y="247"/>
                    </a:lnTo>
                    <a:lnTo>
                      <a:pt x="1291" y="247"/>
                    </a:lnTo>
                    <a:lnTo>
                      <a:pt x="1308" y="247"/>
                    </a:lnTo>
                    <a:lnTo>
                      <a:pt x="1325" y="247"/>
                    </a:lnTo>
                    <a:lnTo>
                      <a:pt x="1342" y="247"/>
                    </a:lnTo>
                    <a:lnTo>
                      <a:pt x="1361" y="247"/>
                    </a:lnTo>
                    <a:lnTo>
                      <a:pt x="1378" y="247"/>
                    </a:lnTo>
                    <a:lnTo>
                      <a:pt x="1395" y="2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4600440" y="3914640"/>
                <a:ext cx="457200" cy="54000"/>
              </a:xfrm>
              <a:custGeom>
                <a:avLst/>
                <a:gdLst/>
                <a:ahLst/>
                <a:rect l="l" t="t" r="r" b="b"/>
                <a:pathLst>
                  <a:path w="1443" h="170">
                    <a:moveTo>
                      <a:pt x="0" y="141"/>
                    </a:moveTo>
                    <a:lnTo>
                      <a:pt x="3" y="142"/>
                    </a:lnTo>
                    <a:lnTo>
                      <a:pt x="34" y="148"/>
                    </a:lnTo>
                    <a:lnTo>
                      <a:pt x="67" y="152"/>
                    </a:lnTo>
                    <a:lnTo>
                      <a:pt x="102" y="156"/>
                    </a:lnTo>
                    <a:lnTo>
                      <a:pt x="139" y="159"/>
                    </a:lnTo>
                    <a:lnTo>
                      <a:pt x="179" y="163"/>
                    </a:lnTo>
                    <a:lnTo>
                      <a:pt x="220" y="165"/>
                    </a:lnTo>
                    <a:lnTo>
                      <a:pt x="261" y="167"/>
                    </a:lnTo>
                    <a:lnTo>
                      <a:pt x="305" y="168"/>
                    </a:lnTo>
                    <a:lnTo>
                      <a:pt x="394" y="170"/>
                    </a:lnTo>
                    <a:lnTo>
                      <a:pt x="487" y="170"/>
                    </a:lnTo>
                    <a:lnTo>
                      <a:pt x="563" y="170"/>
                    </a:lnTo>
                    <a:lnTo>
                      <a:pt x="658" y="165"/>
                    </a:lnTo>
                    <a:lnTo>
                      <a:pt x="751" y="159"/>
                    </a:lnTo>
                    <a:lnTo>
                      <a:pt x="842" y="155"/>
                    </a:lnTo>
                    <a:lnTo>
                      <a:pt x="931" y="149"/>
                    </a:lnTo>
                    <a:lnTo>
                      <a:pt x="1017" y="144"/>
                    </a:lnTo>
                    <a:lnTo>
                      <a:pt x="1101" y="140"/>
                    </a:lnTo>
                    <a:lnTo>
                      <a:pt x="1182" y="136"/>
                    </a:lnTo>
                    <a:lnTo>
                      <a:pt x="1261" y="133"/>
                    </a:lnTo>
                    <a:lnTo>
                      <a:pt x="1443" y="20"/>
                    </a:lnTo>
                    <a:lnTo>
                      <a:pt x="1408" y="18"/>
                    </a:lnTo>
                    <a:lnTo>
                      <a:pt x="1360" y="18"/>
                    </a:lnTo>
                    <a:lnTo>
                      <a:pt x="1302" y="18"/>
                    </a:lnTo>
                    <a:lnTo>
                      <a:pt x="1233" y="19"/>
                    </a:lnTo>
                    <a:lnTo>
                      <a:pt x="1075" y="23"/>
                    </a:lnTo>
                    <a:lnTo>
                      <a:pt x="897" y="27"/>
                    </a:lnTo>
                    <a:lnTo>
                      <a:pt x="805" y="29"/>
                    </a:lnTo>
                    <a:lnTo>
                      <a:pt x="711" y="29"/>
                    </a:lnTo>
                    <a:lnTo>
                      <a:pt x="620" y="29"/>
                    </a:lnTo>
                    <a:lnTo>
                      <a:pt x="531" y="27"/>
                    </a:lnTo>
                    <a:lnTo>
                      <a:pt x="488" y="26"/>
                    </a:lnTo>
                    <a:lnTo>
                      <a:pt x="447" y="23"/>
                    </a:lnTo>
                    <a:lnTo>
                      <a:pt x="406" y="21"/>
                    </a:lnTo>
                    <a:lnTo>
                      <a:pt x="368" y="18"/>
                    </a:lnTo>
                    <a:lnTo>
                      <a:pt x="330" y="14"/>
                    </a:lnTo>
                    <a:lnTo>
                      <a:pt x="296" y="11"/>
                    </a:lnTo>
                    <a:lnTo>
                      <a:pt x="263" y="6"/>
                    </a:lnTo>
                    <a:lnTo>
                      <a:pt x="233" y="0"/>
                    </a:lnTo>
                    <a:lnTo>
                      <a:pt x="237" y="2"/>
                    </a:lnTo>
                    <a:lnTo>
                      <a:pt x="0" y="141"/>
                    </a:lnTo>
                    <a:lnTo>
                      <a:pt x="1" y="142"/>
                    </a:lnTo>
                    <a:lnTo>
                      <a:pt x="3" y="142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4316400" y="3892680"/>
                <a:ext cx="358920" cy="66600"/>
              </a:xfrm>
              <a:custGeom>
                <a:avLst/>
                <a:gdLst/>
                <a:ahLst/>
                <a:rect l="l" t="t" r="r" b="b"/>
                <a:pathLst>
                  <a:path w="1132" h="212">
                    <a:moveTo>
                      <a:pt x="797" y="11"/>
                    </a:moveTo>
                    <a:lnTo>
                      <a:pt x="568" y="153"/>
                    </a:lnTo>
                    <a:lnTo>
                      <a:pt x="612" y="159"/>
                    </a:lnTo>
                    <a:lnTo>
                      <a:pt x="660" y="165"/>
                    </a:lnTo>
                    <a:lnTo>
                      <a:pt x="710" y="170"/>
                    </a:lnTo>
                    <a:lnTo>
                      <a:pt x="759" y="175"/>
                    </a:lnTo>
                    <a:lnTo>
                      <a:pt x="782" y="179"/>
                    </a:lnTo>
                    <a:lnTo>
                      <a:pt x="805" y="182"/>
                    </a:lnTo>
                    <a:lnTo>
                      <a:pt x="825" y="186"/>
                    </a:lnTo>
                    <a:lnTo>
                      <a:pt x="843" y="190"/>
                    </a:lnTo>
                    <a:lnTo>
                      <a:pt x="861" y="195"/>
                    </a:lnTo>
                    <a:lnTo>
                      <a:pt x="874" y="199"/>
                    </a:lnTo>
                    <a:lnTo>
                      <a:pt x="886" y="205"/>
                    </a:lnTo>
                    <a:lnTo>
                      <a:pt x="895" y="212"/>
                    </a:lnTo>
                    <a:lnTo>
                      <a:pt x="1132" y="73"/>
                    </a:lnTo>
                    <a:lnTo>
                      <a:pt x="1122" y="66"/>
                    </a:lnTo>
                    <a:lnTo>
                      <a:pt x="1109" y="59"/>
                    </a:lnTo>
                    <a:lnTo>
                      <a:pt x="1093" y="53"/>
                    </a:lnTo>
                    <a:lnTo>
                      <a:pt x="1075" y="49"/>
                    </a:lnTo>
                    <a:lnTo>
                      <a:pt x="1056" y="44"/>
                    </a:lnTo>
                    <a:lnTo>
                      <a:pt x="1034" y="41"/>
                    </a:lnTo>
                    <a:lnTo>
                      <a:pt x="1011" y="37"/>
                    </a:lnTo>
                    <a:lnTo>
                      <a:pt x="988" y="34"/>
                    </a:lnTo>
                    <a:lnTo>
                      <a:pt x="938" y="28"/>
                    </a:lnTo>
                    <a:lnTo>
                      <a:pt x="889" y="24"/>
                    </a:lnTo>
                    <a:lnTo>
                      <a:pt x="841" y="18"/>
                    </a:lnTo>
                    <a:lnTo>
                      <a:pt x="798" y="11"/>
                    </a:lnTo>
                    <a:lnTo>
                      <a:pt x="569" y="153"/>
                    </a:lnTo>
                    <a:lnTo>
                      <a:pt x="797" y="11"/>
                    </a:lnTo>
                    <a:lnTo>
                      <a:pt x="0" y="0"/>
                    </a:lnTo>
                    <a:lnTo>
                      <a:pt x="568" y="153"/>
                    </a:lnTo>
                    <a:lnTo>
                      <a:pt x="797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4210200" y="3933720"/>
                <a:ext cx="320400" cy="46080"/>
              </a:xfrm>
              <a:custGeom>
                <a:avLst/>
                <a:gdLst/>
                <a:ahLst/>
                <a:rect l="l" t="t" r="r" b="b"/>
                <a:pathLst>
                  <a:path w="1009" h="145">
                    <a:moveTo>
                      <a:pt x="1009" y="62"/>
                    </a:moveTo>
                    <a:lnTo>
                      <a:pt x="981" y="64"/>
                    </a:lnTo>
                    <a:lnTo>
                      <a:pt x="953" y="64"/>
                    </a:lnTo>
                    <a:lnTo>
                      <a:pt x="928" y="64"/>
                    </a:lnTo>
                    <a:lnTo>
                      <a:pt x="905" y="62"/>
                    </a:lnTo>
                    <a:lnTo>
                      <a:pt x="863" y="59"/>
                    </a:lnTo>
                    <a:lnTo>
                      <a:pt x="828" y="54"/>
                    </a:lnTo>
                    <a:lnTo>
                      <a:pt x="797" y="49"/>
                    </a:lnTo>
                    <a:lnTo>
                      <a:pt x="771" y="42"/>
                    </a:lnTo>
                    <a:lnTo>
                      <a:pt x="747" y="35"/>
                    </a:lnTo>
                    <a:lnTo>
                      <a:pt x="728" y="27"/>
                    </a:lnTo>
                    <a:lnTo>
                      <a:pt x="709" y="20"/>
                    </a:lnTo>
                    <a:lnTo>
                      <a:pt x="691" y="13"/>
                    </a:lnTo>
                    <a:lnTo>
                      <a:pt x="675" y="8"/>
                    </a:lnTo>
                    <a:lnTo>
                      <a:pt x="658" y="3"/>
                    </a:lnTo>
                    <a:lnTo>
                      <a:pt x="640" y="1"/>
                    </a:lnTo>
                    <a:lnTo>
                      <a:pt x="620" y="0"/>
                    </a:lnTo>
                    <a:lnTo>
                      <a:pt x="598" y="1"/>
                    </a:lnTo>
                    <a:lnTo>
                      <a:pt x="573" y="5"/>
                    </a:lnTo>
                    <a:lnTo>
                      <a:pt x="561" y="11"/>
                    </a:lnTo>
                    <a:lnTo>
                      <a:pt x="549" y="18"/>
                    </a:lnTo>
                    <a:lnTo>
                      <a:pt x="534" y="24"/>
                    </a:lnTo>
                    <a:lnTo>
                      <a:pt x="518" y="28"/>
                    </a:lnTo>
                    <a:lnTo>
                      <a:pt x="502" y="33"/>
                    </a:lnTo>
                    <a:lnTo>
                      <a:pt x="484" y="37"/>
                    </a:lnTo>
                    <a:lnTo>
                      <a:pt x="464" y="41"/>
                    </a:lnTo>
                    <a:lnTo>
                      <a:pt x="445" y="43"/>
                    </a:lnTo>
                    <a:lnTo>
                      <a:pt x="403" y="49"/>
                    </a:lnTo>
                    <a:lnTo>
                      <a:pt x="359" y="53"/>
                    </a:lnTo>
                    <a:lnTo>
                      <a:pt x="314" y="57"/>
                    </a:lnTo>
                    <a:lnTo>
                      <a:pt x="268" y="60"/>
                    </a:lnTo>
                    <a:lnTo>
                      <a:pt x="224" y="64"/>
                    </a:lnTo>
                    <a:lnTo>
                      <a:pt x="179" y="67"/>
                    </a:lnTo>
                    <a:lnTo>
                      <a:pt x="138" y="70"/>
                    </a:lnTo>
                    <a:lnTo>
                      <a:pt x="101" y="76"/>
                    </a:lnTo>
                    <a:lnTo>
                      <a:pt x="84" y="78"/>
                    </a:lnTo>
                    <a:lnTo>
                      <a:pt x="68" y="82"/>
                    </a:lnTo>
                    <a:lnTo>
                      <a:pt x="52" y="85"/>
                    </a:lnTo>
                    <a:lnTo>
                      <a:pt x="39" y="89"/>
                    </a:lnTo>
                    <a:lnTo>
                      <a:pt x="27" y="93"/>
                    </a:lnTo>
                    <a:lnTo>
                      <a:pt x="16" y="98"/>
                    </a:lnTo>
                    <a:lnTo>
                      <a:pt x="7" y="102"/>
                    </a:lnTo>
                    <a:lnTo>
                      <a:pt x="0" y="109"/>
                    </a:lnTo>
                    <a:lnTo>
                      <a:pt x="29" y="107"/>
                    </a:lnTo>
                    <a:lnTo>
                      <a:pt x="58" y="108"/>
                    </a:lnTo>
                    <a:lnTo>
                      <a:pt x="90" y="110"/>
                    </a:lnTo>
                    <a:lnTo>
                      <a:pt x="123" y="114"/>
                    </a:lnTo>
                    <a:lnTo>
                      <a:pt x="196" y="123"/>
                    </a:lnTo>
                    <a:lnTo>
                      <a:pt x="277" y="133"/>
                    </a:lnTo>
                    <a:lnTo>
                      <a:pt x="321" y="138"/>
                    </a:lnTo>
                    <a:lnTo>
                      <a:pt x="365" y="141"/>
                    </a:lnTo>
                    <a:lnTo>
                      <a:pt x="412" y="143"/>
                    </a:lnTo>
                    <a:lnTo>
                      <a:pt x="462" y="145"/>
                    </a:lnTo>
                    <a:lnTo>
                      <a:pt x="487" y="143"/>
                    </a:lnTo>
                    <a:lnTo>
                      <a:pt x="512" y="143"/>
                    </a:lnTo>
                    <a:lnTo>
                      <a:pt x="540" y="141"/>
                    </a:lnTo>
                    <a:lnTo>
                      <a:pt x="566" y="139"/>
                    </a:lnTo>
                    <a:lnTo>
                      <a:pt x="593" y="137"/>
                    </a:lnTo>
                    <a:lnTo>
                      <a:pt x="622" y="133"/>
                    </a:lnTo>
                    <a:lnTo>
                      <a:pt x="649" y="129"/>
                    </a:lnTo>
                    <a:lnTo>
                      <a:pt x="679" y="123"/>
                    </a:lnTo>
                    <a:lnTo>
                      <a:pt x="688" y="116"/>
                    </a:lnTo>
                    <a:lnTo>
                      <a:pt x="700" y="110"/>
                    </a:lnTo>
                    <a:lnTo>
                      <a:pt x="715" y="105"/>
                    </a:lnTo>
                    <a:lnTo>
                      <a:pt x="732" y="100"/>
                    </a:lnTo>
                    <a:lnTo>
                      <a:pt x="752" y="96"/>
                    </a:lnTo>
                    <a:lnTo>
                      <a:pt x="772" y="92"/>
                    </a:lnTo>
                    <a:lnTo>
                      <a:pt x="795" y="89"/>
                    </a:lnTo>
                    <a:lnTo>
                      <a:pt x="819" y="85"/>
                    </a:lnTo>
                    <a:lnTo>
                      <a:pt x="868" y="81"/>
                    </a:lnTo>
                    <a:lnTo>
                      <a:pt x="917" y="75"/>
                    </a:lnTo>
                    <a:lnTo>
                      <a:pt x="965" y="69"/>
                    </a:lnTo>
                    <a:lnTo>
                      <a:pt x="1009" y="6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4359240" y="3911760"/>
                <a:ext cx="208080" cy="64800"/>
              </a:xfrm>
              <a:custGeom>
                <a:avLst/>
                <a:gdLst/>
                <a:ahLst/>
                <a:rect l="l" t="t" r="r" b="b"/>
                <a:pathLst>
                  <a:path w="653" h="205">
                    <a:moveTo>
                      <a:pt x="164" y="64"/>
                    </a:moveTo>
                    <a:lnTo>
                      <a:pt x="0" y="146"/>
                    </a:lnTo>
                    <a:lnTo>
                      <a:pt x="20" y="143"/>
                    </a:lnTo>
                    <a:lnTo>
                      <a:pt x="40" y="141"/>
                    </a:lnTo>
                    <a:lnTo>
                      <a:pt x="58" y="143"/>
                    </a:lnTo>
                    <a:lnTo>
                      <a:pt x="75" y="145"/>
                    </a:lnTo>
                    <a:lnTo>
                      <a:pt x="91" y="149"/>
                    </a:lnTo>
                    <a:lnTo>
                      <a:pt x="107" y="155"/>
                    </a:lnTo>
                    <a:lnTo>
                      <a:pt x="124" y="162"/>
                    </a:lnTo>
                    <a:lnTo>
                      <a:pt x="142" y="169"/>
                    </a:lnTo>
                    <a:lnTo>
                      <a:pt x="163" y="177"/>
                    </a:lnTo>
                    <a:lnTo>
                      <a:pt x="187" y="184"/>
                    </a:lnTo>
                    <a:lnTo>
                      <a:pt x="214" y="190"/>
                    </a:lnTo>
                    <a:lnTo>
                      <a:pt x="245" y="196"/>
                    </a:lnTo>
                    <a:lnTo>
                      <a:pt x="281" y="202"/>
                    </a:lnTo>
                    <a:lnTo>
                      <a:pt x="323" y="204"/>
                    </a:lnTo>
                    <a:lnTo>
                      <a:pt x="347" y="205"/>
                    </a:lnTo>
                    <a:lnTo>
                      <a:pt x="374" y="205"/>
                    </a:lnTo>
                    <a:lnTo>
                      <a:pt x="400" y="205"/>
                    </a:lnTo>
                    <a:lnTo>
                      <a:pt x="429" y="205"/>
                    </a:lnTo>
                    <a:lnTo>
                      <a:pt x="653" y="63"/>
                    </a:lnTo>
                    <a:lnTo>
                      <a:pt x="624" y="64"/>
                    </a:lnTo>
                    <a:lnTo>
                      <a:pt x="598" y="64"/>
                    </a:lnTo>
                    <a:lnTo>
                      <a:pt x="573" y="64"/>
                    </a:lnTo>
                    <a:lnTo>
                      <a:pt x="551" y="63"/>
                    </a:lnTo>
                    <a:lnTo>
                      <a:pt x="510" y="59"/>
                    </a:lnTo>
                    <a:lnTo>
                      <a:pt x="475" y="55"/>
                    </a:lnTo>
                    <a:lnTo>
                      <a:pt x="444" y="49"/>
                    </a:lnTo>
                    <a:lnTo>
                      <a:pt x="419" y="42"/>
                    </a:lnTo>
                    <a:lnTo>
                      <a:pt x="396" y="35"/>
                    </a:lnTo>
                    <a:lnTo>
                      <a:pt x="376" y="28"/>
                    </a:lnTo>
                    <a:lnTo>
                      <a:pt x="358" y="20"/>
                    </a:lnTo>
                    <a:lnTo>
                      <a:pt x="341" y="15"/>
                    </a:lnTo>
                    <a:lnTo>
                      <a:pt x="323" y="9"/>
                    </a:lnTo>
                    <a:lnTo>
                      <a:pt x="305" y="3"/>
                    </a:lnTo>
                    <a:lnTo>
                      <a:pt x="286" y="1"/>
                    </a:lnTo>
                    <a:lnTo>
                      <a:pt x="264" y="0"/>
                    </a:lnTo>
                    <a:lnTo>
                      <a:pt x="239" y="1"/>
                    </a:lnTo>
                    <a:lnTo>
                      <a:pt x="209" y="6"/>
                    </a:lnTo>
                    <a:lnTo>
                      <a:pt x="45" y="89"/>
                    </a:lnTo>
                    <a:lnTo>
                      <a:pt x="209" y="6"/>
                    </a:lnTo>
                    <a:lnTo>
                      <a:pt x="150" y="17"/>
                    </a:lnTo>
                    <a:lnTo>
                      <a:pt x="45" y="89"/>
                    </a:lnTo>
                    <a:lnTo>
                      <a:pt x="164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4170240" y="3921120"/>
                <a:ext cx="241560" cy="69840"/>
              </a:xfrm>
              <a:custGeom>
                <a:avLst/>
                <a:gdLst/>
                <a:ahLst/>
                <a:rect l="l" t="t" r="r" b="b"/>
                <a:pathLst>
                  <a:path w="761" h="222">
                    <a:moveTo>
                      <a:pt x="239" y="79"/>
                    </a:moveTo>
                    <a:lnTo>
                      <a:pt x="240" y="97"/>
                    </a:lnTo>
                    <a:lnTo>
                      <a:pt x="208" y="123"/>
                    </a:lnTo>
                    <a:lnTo>
                      <a:pt x="124" y="174"/>
                    </a:lnTo>
                    <a:lnTo>
                      <a:pt x="81" y="194"/>
                    </a:lnTo>
                    <a:lnTo>
                      <a:pt x="75" y="197"/>
                    </a:lnTo>
                    <a:lnTo>
                      <a:pt x="80" y="195"/>
                    </a:lnTo>
                    <a:lnTo>
                      <a:pt x="92" y="192"/>
                    </a:lnTo>
                    <a:lnTo>
                      <a:pt x="105" y="190"/>
                    </a:lnTo>
                    <a:lnTo>
                      <a:pt x="121" y="187"/>
                    </a:lnTo>
                    <a:lnTo>
                      <a:pt x="158" y="182"/>
                    </a:lnTo>
                    <a:lnTo>
                      <a:pt x="199" y="179"/>
                    </a:lnTo>
                    <a:lnTo>
                      <a:pt x="242" y="175"/>
                    </a:lnTo>
                    <a:lnTo>
                      <a:pt x="287" y="172"/>
                    </a:lnTo>
                    <a:lnTo>
                      <a:pt x="332" y="170"/>
                    </a:lnTo>
                    <a:lnTo>
                      <a:pt x="378" y="165"/>
                    </a:lnTo>
                    <a:lnTo>
                      <a:pt x="423" y="160"/>
                    </a:lnTo>
                    <a:lnTo>
                      <a:pt x="467" y="155"/>
                    </a:lnTo>
                    <a:lnTo>
                      <a:pt x="487" y="151"/>
                    </a:lnTo>
                    <a:lnTo>
                      <a:pt x="509" y="148"/>
                    </a:lnTo>
                    <a:lnTo>
                      <a:pt x="529" y="143"/>
                    </a:lnTo>
                    <a:lnTo>
                      <a:pt x="551" y="138"/>
                    </a:lnTo>
                    <a:lnTo>
                      <a:pt x="577" y="129"/>
                    </a:lnTo>
                    <a:lnTo>
                      <a:pt x="612" y="115"/>
                    </a:lnTo>
                    <a:lnTo>
                      <a:pt x="674" y="85"/>
                    </a:lnTo>
                    <a:lnTo>
                      <a:pt x="761" y="34"/>
                    </a:lnTo>
                    <a:lnTo>
                      <a:pt x="642" y="59"/>
                    </a:lnTo>
                    <a:lnTo>
                      <a:pt x="706" y="20"/>
                    </a:lnTo>
                    <a:lnTo>
                      <a:pt x="743" y="2"/>
                    </a:lnTo>
                    <a:lnTo>
                      <a:pt x="749" y="0"/>
                    </a:lnTo>
                    <a:lnTo>
                      <a:pt x="744" y="1"/>
                    </a:lnTo>
                    <a:lnTo>
                      <a:pt x="731" y="4"/>
                    </a:lnTo>
                    <a:lnTo>
                      <a:pt x="716" y="8"/>
                    </a:lnTo>
                    <a:lnTo>
                      <a:pt x="699" y="11"/>
                    </a:lnTo>
                    <a:lnTo>
                      <a:pt x="681" y="14"/>
                    </a:lnTo>
                    <a:lnTo>
                      <a:pt x="641" y="19"/>
                    </a:lnTo>
                    <a:lnTo>
                      <a:pt x="598" y="24"/>
                    </a:lnTo>
                    <a:lnTo>
                      <a:pt x="553" y="27"/>
                    </a:lnTo>
                    <a:lnTo>
                      <a:pt x="508" y="30"/>
                    </a:lnTo>
                    <a:lnTo>
                      <a:pt x="462" y="34"/>
                    </a:lnTo>
                    <a:lnTo>
                      <a:pt x="419" y="37"/>
                    </a:lnTo>
                    <a:lnTo>
                      <a:pt x="377" y="41"/>
                    </a:lnTo>
                    <a:lnTo>
                      <a:pt x="338" y="46"/>
                    </a:lnTo>
                    <a:lnTo>
                      <a:pt x="319" y="49"/>
                    </a:lnTo>
                    <a:lnTo>
                      <a:pt x="300" y="52"/>
                    </a:lnTo>
                    <a:lnTo>
                      <a:pt x="281" y="57"/>
                    </a:lnTo>
                    <a:lnTo>
                      <a:pt x="260" y="62"/>
                    </a:lnTo>
                    <a:lnTo>
                      <a:pt x="230" y="74"/>
                    </a:lnTo>
                    <a:lnTo>
                      <a:pt x="166" y="103"/>
                    </a:lnTo>
                    <a:lnTo>
                      <a:pt x="64" y="165"/>
                    </a:lnTo>
                    <a:lnTo>
                      <a:pt x="19" y="203"/>
                    </a:lnTo>
                    <a:lnTo>
                      <a:pt x="20" y="220"/>
                    </a:lnTo>
                    <a:lnTo>
                      <a:pt x="19" y="203"/>
                    </a:lnTo>
                    <a:lnTo>
                      <a:pt x="0" y="222"/>
                    </a:lnTo>
                    <a:lnTo>
                      <a:pt x="20" y="220"/>
                    </a:lnTo>
                    <a:lnTo>
                      <a:pt x="239" y="7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4176720" y="3944880"/>
                <a:ext cx="282600" cy="52560"/>
              </a:xfrm>
              <a:custGeom>
                <a:avLst/>
                <a:gdLst/>
                <a:ahLst/>
                <a:rect l="l" t="t" r="r" b="b"/>
                <a:pathLst>
                  <a:path w="892" h="166">
                    <a:moveTo>
                      <a:pt x="682" y="135"/>
                    </a:moveTo>
                    <a:lnTo>
                      <a:pt x="892" y="17"/>
                    </a:lnTo>
                    <a:lnTo>
                      <a:pt x="865" y="22"/>
                    </a:lnTo>
                    <a:lnTo>
                      <a:pt x="838" y="26"/>
                    </a:lnTo>
                    <a:lnTo>
                      <a:pt x="810" y="30"/>
                    </a:lnTo>
                    <a:lnTo>
                      <a:pt x="784" y="32"/>
                    </a:lnTo>
                    <a:lnTo>
                      <a:pt x="758" y="34"/>
                    </a:lnTo>
                    <a:lnTo>
                      <a:pt x="733" y="37"/>
                    </a:lnTo>
                    <a:lnTo>
                      <a:pt x="708" y="37"/>
                    </a:lnTo>
                    <a:lnTo>
                      <a:pt x="683" y="38"/>
                    </a:lnTo>
                    <a:lnTo>
                      <a:pt x="635" y="37"/>
                    </a:lnTo>
                    <a:lnTo>
                      <a:pt x="588" y="34"/>
                    </a:lnTo>
                    <a:lnTo>
                      <a:pt x="544" y="31"/>
                    </a:lnTo>
                    <a:lnTo>
                      <a:pt x="500" y="26"/>
                    </a:lnTo>
                    <a:lnTo>
                      <a:pt x="421" y="16"/>
                    </a:lnTo>
                    <a:lnTo>
                      <a:pt x="348" y="6"/>
                    </a:lnTo>
                    <a:lnTo>
                      <a:pt x="313" y="2"/>
                    </a:lnTo>
                    <a:lnTo>
                      <a:pt x="281" y="0"/>
                    </a:lnTo>
                    <a:lnTo>
                      <a:pt x="250" y="0"/>
                    </a:lnTo>
                    <a:lnTo>
                      <a:pt x="219" y="2"/>
                    </a:lnTo>
                    <a:lnTo>
                      <a:pt x="0" y="143"/>
                    </a:lnTo>
                    <a:lnTo>
                      <a:pt x="25" y="142"/>
                    </a:lnTo>
                    <a:lnTo>
                      <a:pt x="53" y="143"/>
                    </a:lnTo>
                    <a:lnTo>
                      <a:pt x="85" y="145"/>
                    </a:lnTo>
                    <a:lnTo>
                      <a:pt x="118" y="149"/>
                    </a:lnTo>
                    <a:lnTo>
                      <a:pt x="190" y="158"/>
                    </a:lnTo>
                    <a:lnTo>
                      <a:pt x="255" y="166"/>
                    </a:lnTo>
                    <a:lnTo>
                      <a:pt x="311" y="164"/>
                    </a:lnTo>
                    <a:lnTo>
                      <a:pt x="366" y="162"/>
                    </a:lnTo>
                    <a:lnTo>
                      <a:pt x="422" y="160"/>
                    </a:lnTo>
                    <a:lnTo>
                      <a:pt x="478" y="156"/>
                    </a:lnTo>
                    <a:lnTo>
                      <a:pt x="533" y="154"/>
                    </a:lnTo>
                    <a:lnTo>
                      <a:pt x="590" y="152"/>
                    </a:lnTo>
                    <a:lnTo>
                      <a:pt x="646" y="150"/>
                    </a:lnTo>
                    <a:lnTo>
                      <a:pt x="702" y="146"/>
                    </a:lnTo>
                    <a:lnTo>
                      <a:pt x="892" y="39"/>
                    </a:lnTo>
                    <a:lnTo>
                      <a:pt x="702" y="146"/>
                    </a:lnTo>
                    <a:lnTo>
                      <a:pt x="708" y="146"/>
                    </a:lnTo>
                    <a:lnTo>
                      <a:pt x="713" y="145"/>
                    </a:lnTo>
                    <a:lnTo>
                      <a:pt x="720" y="145"/>
                    </a:lnTo>
                    <a:lnTo>
                      <a:pt x="726" y="145"/>
                    </a:lnTo>
                    <a:lnTo>
                      <a:pt x="732" y="145"/>
                    </a:lnTo>
                    <a:lnTo>
                      <a:pt x="737" y="144"/>
                    </a:lnTo>
                    <a:lnTo>
                      <a:pt x="744" y="144"/>
                    </a:lnTo>
                    <a:lnTo>
                      <a:pt x="750" y="144"/>
                    </a:lnTo>
                    <a:lnTo>
                      <a:pt x="790" y="136"/>
                    </a:lnTo>
                    <a:lnTo>
                      <a:pt x="892" y="39"/>
                    </a:lnTo>
                    <a:lnTo>
                      <a:pt x="682" y="1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4392720" y="3929040"/>
                <a:ext cx="311040" cy="58680"/>
              </a:xfrm>
              <a:custGeom>
                <a:avLst/>
                <a:gdLst/>
                <a:ahLst/>
                <a:rect l="l" t="t" r="r" b="b"/>
                <a:pathLst>
                  <a:path w="981" h="185">
                    <a:moveTo>
                      <a:pt x="324" y="147"/>
                    </a:moveTo>
                    <a:lnTo>
                      <a:pt x="542" y="6"/>
                    </a:lnTo>
                    <a:lnTo>
                      <a:pt x="500" y="12"/>
                    </a:lnTo>
                    <a:lnTo>
                      <a:pt x="453" y="17"/>
                    </a:lnTo>
                    <a:lnTo>
                      <a:pt x="403" y="23"/>
                    </a:lnTo>
                    <a:lnTo>
                      <a:pt x="354" y="28"/>
                    </a:lnTo>
                    <a:lnTo>
                      <a:pt x="330" y="31"/>
                    </a:lnTo>
                    <a:lnTo>
                      <a:pt x="306" y="34"/>
                    </a:lnTo>
                    <a:lnTo>
                      <a:pt x="283" y="39"/>
                    </a:lnTo>
                    <a:lnTo>
                      <a:pt x="259" y="43"/>
                    </a:lnTo>
                    <a:lnTo>
                      <a:pt x="234" y="51"/>
                    </a:lnTo>
                    <a:lnTo>
                      <a:pt x="196" y="65"/>
                    </a:lnTo>
                    <a:lnTo>
                      <a:pt x="92" y="119"/>
                    </a:lnTo>
                    <a:lnTo>
                      <a:pt x="0" y="184"/>
                    </a:lnTo>
                    <a:lnTo>
                      <a:pt x="210" y="88"/>
                    </a:lnTo>
                    <a:lnTo>
                      <a:pt x="138" y="140"/>
                    </a:lnTo>
                    <a:lnTo>
                      <a:pt x="59" y="182"/>
                    </a:lnTo>
                    <a:lnTo>
                      <a:pt x="49" y="185"/>
                    </a:lnTo>
                    <a:lnTo>
                      <a:pt x="58" y="183"/>
                    </a:lnTo>
                    <a:lnTo>
                      <a:pt x="74" y="179"/>
                    </a:lnTo>
                    <a:lnTo>
                      <a:pt x="93" y="176"/>
                    </a:lnTo>
                    <a:lnTo>
                      <a:pt x="114" y="172"/>
                    </a:lnTo>
                    <a:lnTo>
                      <a:pt x="136" y="169"/>
                    </a:lnTo>
                    <a:lnTo>
                      <a:pt x="185" y="164"/>
                    </a:lnTo>
                    <a:lnTo>
                      <a:pt x="234" y="159"/>
                    </a:lnTo>
                    <a:lnTo>
                      <a:pt x="285" y="153"/>
                    </a:lnTo>
                    <a:lnTo>
                      <a:pt x="330" y="146"/>
                    </a:lnTo>
                    <a:lnTo>
                      <a:pt x="548" y="5"/>
                    </a:lnTo>
                    <a:lnTo>
                      <a:pt x="330" y="146"/>
                    </a:lnTo>
                    <a:lnTo>
                      <a:pt x="981" y="0"/>
                    </a:lnTo>
                    <a:lnTo>
                      <a:pt x="548" y="5"/>
                    </a:lnTo>
                    <a:lnTo>
                      <a:pt x="324" y="1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5029200" y="3944880"/>
                <a:ext cx="84240" cy="11160"/>
              </a:xfrm>
              <a:custGeom>
                <a:avLst/>
                <a:gdLst/>
                <a:ahLst/>
                <a:rect l="l" t="t" r="r" b="b"/>
                <a:pathLst>
                  <a:path w="268" h="36">
                    <a:moveTo>
                      <a:pt x="0" y="36"/>
                    </a:moveTo>
                    <a:lnTo>
                      <a:pt x="24" y="28"/>
                    </a:lnTo>
                    <a:lnTo>
                      <a:pt x="45" y="19"/>
                    </a:lnTo>
                    <a:lnTo>
                      <a:pt x="65" y="12"/>
                    </a:lnTo>
                    <a:lnTo>
                      <a:pt x="84" y="6"/>
                    </a:lnTo>
                    <a:lnTo>
                      <a:pt x="94" y="3"/>
                    </a:lnTo>
                    <a:lnTo>
                      <a:pt x="105" y="1"/>
                    </a:lnTo>
                    <a:lnTo>
                      <a:pt x="115" y="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51" y="0"/>
                    </a:lnTo>
                    <a:lnTo>
                      <a:pt x="166" y="2"/>
                    </a:lnTo>
                    <a:lnTo>
                      <a:pt x="181" y="4"/>
                    </a:lnTo>
                    <a:lnTo>
                      <a:pt x="189" y="10"/>
                    </a:lnTo>
                    <a:lnTo>
                      <a:pt x="198" y="15"/>
                    </a:lnTo>
                    <a:lnTo>
                      <a:pt x="207" y="18"/>
                    </a:lnTo>
                    <a:lnTo>
                      <a:pt x="219" y="23"/>
                    </a:lnTo>
                    <a:lnTo>
                      <a:pt x="229" y="26"/>
                    </a:lnTo>
                    <a:lnTo>
                      <a:pt x="241" y="30"/>
                    </a:lnTo>
                    <a:lnTo>
                      <a:pt x="254" y="33"/>
                    </a:lnTo>
                    <a:lnTo>
                      <a:pt x="268" y="36"/>
                    </a:lnTo>
                    <a:lnTo>
                      <a:pt x="236" y="36"/>
                    </a:lnTo>
                    <a:lnTo>
                      <a:pt x="205" y="36"/>
                    </a:lnTo>
                    <a:lnTo>
                      <a:pt x="174" y="36"/>
                    </a:lnTo>
                    <a:lnTo>
                      <a:pt x="143" y="36"/>
                    </a:lnTo>
                    <a:lnTo>
                      <a:pt x="111" y="36"/>
                    </a:lnTo>
                    <a:lnTo>
                      <a:pt x="81" y="36"/>
                    </a:lnTo>
                    <a:lnTo>
                      <a:pt x="49" y="36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2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7" y="36"/>
                    </a:lnTo>
                    <a:lnTo>
                      <a:pt x="4" y="36"/>
                    </a:lnTo>
                    <a:lnTo>
                      <a:pt x="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4956120" y="3921120"/>
                <a:ext cx="166680" cy="38160"/>
              </a:xfrm>
              <a:custGeom>
                <a:avLst/>
                <a:gdLst/>
                <a:ahLst/>
                <a:rect l="l" t="t" r="r" b="b"/>
                <a:pathLst>
                  <a:path w="527" h="118">
                    <a:moveTo>
                      <a:pt x="527" y="7"/>
                    </a:moveTo>
                    <a:lnTo>
                      <a:pt x="525" y="6"/>
                    </a:lnTo>
                    <a:lnTo>
                      <a:pt x="499" y="2"/>
                    </a:lnTo>
                    <a:lnTo>
                      <a:pt x="475" y="0"/>
                    </a:lnTo>
                    <a:lnTo>
                      <a:pt x="451" y="1"/>
                    </a:lnTo>
                    <a:lnTo>
                      <a:pt x="427" y="6"/>
                    </a:lnTo>
                    <a:lnTo>
                      <a:pt x="401" y="13"/>
                    </a:lnTo>
                    <a:lnTo>
                      <a:pt x="373" y="22"/>
                    </a:lnTo>
                    <a:lnTo>
                      <a:pt x="351" y="31"/>
                    </a:lnTo>
                    <a:lnTo>
                      <a:pt x="336" y="37"/>
                    </a:lnTo>
                    <a:lnTo>
                      <a:pt x="323" y="41"/>
                    </a:lnTo>
                    <a:lnTo>
                      <a:pt x="308" y="46"/>
                    </a:lnTo>
                    <a:lnTo>
                      <a:pt x="288" y="51"/>
                    </a:lnTo>
                    <a:lnTo>
                      <a:pt x="261" y="56"/>
                    </a:lnTo>
                    <a:lnTo>
                      <a:pt x="228" y="61"/>
                    </a:lnTo>
                    <a:lnTo>
                      <a:pt x="188" y="64"/>
                    </a:lnTo>
                    <a:lnTo>
                      <a:pt x="165" y="65"/>
                    </a:lnTo>
                    <a:lnTo>
                      <a:pt x="141" y="65"/>
                    </a:lnTo>
                    <a:lnTo>
                      <a:pt x="115" y="65"/>
                    </a:lnTo>
                    <a:lnTo>
                      <a:pt x="86" y="64"/>
                    </a:lnTo>
                    <a:lnTo>
                      <a:pt x="0" y="118"/>
                    </a:lnTo>
                    <a:lnTo>
                      <a:pt x="31" y="116"/>
                    </a:lnTo>
                    <a:lnTo>
                      <a:pt x="63" y="115"/>
                    </a:lnTo>
                    <a:lnTo>
                      <a:pt x="95" y="114"/>
                    </a:lnTo>
                    <a:lnTo>
                      <a:pt x="126" y="113"/>
                    </a:lnTo>
                    <a:lnTo>
                      <a:pt x="157" y="112"/>
                    </a:lnTo>
                    <a:lnTo>
                      <a:pt x="188" y="111"/>
                    </a:lnTo>
                    <a:lnTo>
                      <a:pt x="217" y="110"/>
                    </a:lnTo>
                    <a:lnTo>
                      <a:pt x="246" y="108"/>
                    </a:lnTo>
                    <a:lnTo>
                      <a:pt x="259" y="108"/>
                    </a:lnTo>
                    <a:lnTo>
                      <a:pt x="274" y="108"/>
                    </a:lnTo>
                    <a:lnTo>
                      <a:pt x="288" y="108"/>
                    </a:lnTo>
                    <a:lnTo>
                      <a:pt x="302" y="108"/>
                    </a:lnTo>
                    <a:lnTo>
                      <a:pt x="315" y="108"/>
                    </a:lnTo>
                    <a:lnTo>
                      <a:pt x="329" y="108"/>
                    </a:lnTo>
                    <a:lnTo>
                      <a:pt x="343" y="108"/>
                    </a:lnTo>
                    <a:lnTo>
                      <a:pt x="356" y="108"/>
                    </a:lnTo>
                    <a:lnTo>
                      <a:pt x="527" y="7"/>
                    </a:lnTo>
                    <a:lnTo>
                      <a:pt x="527" y="6"/>
                    </a:lnTo>
                    <a:lnTo>
                      <a:pt x="525" y="6"/>
                    </a:lnTo>
                    <a:lnTo>
                      <a:pt x="527" y="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5068800" y="3924360"/>
                <a:ext cx="235080" cy="31680"/>
              </a:xfrm>
              <a:custGeom>
                <a:avLst/>
                <a:gdLst/>
                <a:ahLst/>
                <a:rect l="l" t="t" r="r" b="b"/>
                <a:pathLst>
                  <a:path w="740" h="101">
                    <a:moveTo>
                      <a:pt x="740" y="101"/>
                    </a:moveTo>
                    <a:lnTo>
                      <a:pt x="737" y="98"/>
                    </a:lnTo>
                    <a:lnTo>
                      <a:pt x="728" y="92"/>
                    </a:lnTo>
                    <a:lnTo>
                      <a:pt x="716" y="88"/>
                    </a:lnTo>
                    <a:lnTo>
                      <a:pt x="704" y="83"/>
                    </a:lnTo>
                    <a:lnTo>
                      <a:pt x="690" y="79"/>
                    </a:lnTo>
                    <a:lnTo>
                      <a:pt x="674" y="75"/>
                    </a:lnTo>
                    <a:lnTo>
                      <a:pt x="658" y="73"/>
                    </a:lnTo>
                    <a:lnTo>
                      <a:pt x="640" y="69"/>
                    </a:lnTo>
                    <a:lnTo>
                      <a:pt x="602" y="65"/>
                    </a:lnTo>
                    <a:lnTo>
                      <a:pt x="560" y="60"/>
                    </a:lnTo>
                    <a:lnTo>
                      <a:pt x="517" y="57"/>
                    </a:lnTo>
                    <a:lnTo>
                      <a:pt x="471" y="55"/>
                    </a:lnTo>
                    <a:lnTo>
                      <a:pt x="427" y="51"/>
                    </a:lnTo>
                    <a:lnTo>
                      <a:pt x="381" y="48"/>
                    </a:lnTo>
                    <a:lnTo>
                      <a:pt x="338" y="43"/>
                    </a:lnTo>
                    <a:lnTo>
                      <a:pt x="296" y="38"/>
                    </a:lnTo>
                    <a:lnTo>
                      <a:pt x="276" y="34"/>
                    </a:lnTo>
                    <a:lnTo>
                      <a:pt x="258" y="31"/>
                    </a:lnTo>
                    <a:lnTo>
                      <a:pt x="240" y="27"/>
                    </a:lnTo>
                    <a:lnTo>
                      <a:pt x="224" y="23"/>
                    </a:lnTo>
                    <a:lnTo>
                      <a:pt x="209" y="18"/>
                    </a:lnTo>
                    <a:lnTo>
                      <a:pt x="195" y="12"/>
                    </a:lnTo>
                    <a:lnTo>
                      <a:pt x="183" y="7"/>
                    </a:lnTo>
                    <a:lnTo>
                      <a:pt x="171" y="0"/>
                    </a:lnTo>
                    <a:lnTo>
                      <a:pt x="0" y="101"/>
                    </a:lnTo>
                    <a:lnTo>
                      <a:pt x="97" y="101"/>
                    </a:lnTo>
                    <a:lnTo>
                      <a:pt x="192" y="101"/>
                    </a:lnTo>
                    <a:lnTo>
                      <a:pt x="285" y="101"/>
                    </a:lnTo>
                    <a:lnTo>
                      <a:pt x="379" y="101"/>
                    </a:lnTo>
                    <a:lnTo>
                      <a:pt x="470" y="101"/>
                    </a:lnTo>
                    <a:lnTo>
                      <a:pt x="561" y="101"/>
                    </a:lnTo>
                    <a:lnTo>
                      <a:pt x="651" y="101"/>
                    </a:lnTo>
                    <a:lnTo>
                      <a:pt x="740" y="1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4730760" y="3938760"/>
                <a:ext cx="349200" cy="26640"/>
              </a:xfrm>
              <a:custGeom>
                <a:avLst/>
                <a:gdLst/>
                <a:ahLst/>
                <a:rect l="l" t="t" r="r" b="b"/>
                <a:pathLst>
                  <a:path w="1098" h="86">
                    <a:moveTo>
                      <a:pt x="796" y="11"/>
                    </a:moveTo>
                    <a:lnTo>
                      <a:pt x="708" y="66"/>
                    </a:lnTo>
                    <a:lnTo>
                      <a:pt x="663" y="68"/>
                    </a:lnTo>
                    <a:lnTo>
                      <a:pt x="616" y="70"/>
                    </a:lnTo>
                    <a:lnTo>
                      <a:pt x="569" y="73"/>
                    </a:lnTo>
                    <a:lnTo>
                      <a:pt x="521" y="75"/>
                    </a:lnTo>
                    <a:lnTo>
                      <a:pt x="472" y="77"/>
                    </a:lnTo>
                    <a:lnTo>
                      <a:pt x="423" y="81"/>
                    </a:lnTo>
                    <a:lnTo>
                      <a:pt x="373" y="83"/>
                    </a:lnTo>
                    <a:lnTo>
                      <a:pt x="322" y="86"/>
                    </a:lnTo>
                    <a:lnTo>
                      <a:pt x="0" y="0"/>
                    </a:lnTo>
                    <a:lnTo>
                      <a:pt x="796" y="11"/>
                    </a:lnTo>
                    <a:lnTo>
                      <a:pt x="710" y="65"/>
                    </a:lnTo>
                    <a:lnTo>
                      <a:pt x="710" y="66"/>
                    </a:lnTo>
                    <a:lnTo>
                      <a:pt x="710" y="66"/>
                    </a:lnTo>
                    <a:lnTo>
                      <a:pt x="710" y="66"/>
                    </a:lnTo>
                    <a:lnTo>
                      <a:pt x="710" y="66"/>
                    </a:lnTo>
                    <a:lnTo>
                      <a:pt x="710" y="66"/>
                    </a:lnTo>
                    <a:lnTo>
                      <a:pt x="708" y="66"/>
                    </a:lnTo>
                    <a:lnTo>
                      <a:pt x="708" y="66"/>
                    </a:lnTo>
                    <a:lnTo>
                      <a:pt x="708" y="66"/>
                    </a:lnTo>
                    <a:lnTo>
                      <a:pt x="796" y="11"/>
                    </a:lnTo>
                    <a:close/>
                    <a:moveTo>
                      <a:pt x="1098" y="55"/>
                    </a:moveTo>
                    <a:lnTo>
                      <a:pt x="1094" y="53"/>
                    </a:lnTo>
                    <a:lnTo>
                      <a:pt x="1075" y="49"/>
                    </a:lnTo>
                    <a:lnTo>
                      <a:pt x="1056" y="44"/>
                    </a:lnTo>
                    <a:lnTo>
                      <a:pt x="1034" y="41"/>
                    </a:lnTo>
                    <a:lnTo>
                      <a:pt x="1012" y="37"/>
                    </a:lnTo>
                    <a:lnTo>
                      <a:pt x="989" y="34"/>
                    </a:lnTo>
                    <a:lnTo>
                      <a:pt x="939" y="28"/>
                    </a:lnTo>
                    <a:lnTo>
                      <a:pt x="890" y="23"/>
                    </a:lnTo>
                    <a:lnTo>
                      <a:pt x="842" y="18"/>
                    </a:lnTo>
                    <a:lnTo>
                      <a:pt x="798" y="11"/>
                    </a:lnTo>
                    <a:lnTo>
                      <a:pt x="711" y="65"/>
                    </a:lnTo>
                    <a:lnTo>
                      <a:pt x="744" y="63"/>
                    </a:lnTo>
                    <a:lnTo>
                      <a:pt x="776" y="62"/>
                    </a:lnTo>
                    <a:lnTo>
                      <a:pt x="806" y="61"/>
                    </a:lnTo>
                    <a:lnTo>
                      <a:pt x="837" y="60"/>
                    </a:lnTo>
                    <a:lnTo>
                      <a:pt x="868" y="58"/>
                    </a:lnTo>
                    <a:lnTo>
                      <a:pt x="898" y="57"/>
                    </a:lnTo>
                    <a:lnTo>
                      <a:pt x="927" y="57"/>
                    </a:lnTo>
                    <a:lnTo>
                      <a:pt x="956" y="55"/>
                    </a:lnTo>
                    <a:lnTo>
                      <a:pt x="974" y="55"/>
                    </a:lnTo>
                    <a:lnTo>
                      <a:pt x="992" y="55"/>
                    </a:lnTo>
                    <a:lnTo>
                      <a:pt x="1009" y="55"/>
                    </a:lnTo>
                    <a:lnTo>
                      <a:pt x="1028" y="55"/>
                    </a:lnTo>
                    <a:lnTo>
                      <a:pt x="1045" y="55"/>
                    </a:lnTo>
                    <a:lnTo>
                      <a:pt x="1063" y="55"/>
                    </a:lnTo>
                    <a:lnTo>
                      <a:pt x="1080" y="55"/>
                    </a:lnTo>
                    <a:lnTo>
                      <a:pt x="1098" y="5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3868560" y="3517920"/>
                <a:ext cx="509760" cy="38160"/>
              </a:xfrm>
              <a:custGeom>
                <a:avLst/>
                <a:gdLst/>
                <a:ahLst/>
                <a:rect l="l" t="t" r="r" b="b"/>
                <a:pathLst>
                  <a:path w="1605" h="122">
                    <a:moveTo>
                      <a:pt x="1605" y="26"/>
                    </a:moveTo>
                    <a:lnTo>
                      <a:pt x="1569" y="24"/>
                    </a:lnTo>
                    <a:lnTo>
                      <a:pt x="1535" y="21"/>
                    </a:lnTo>
                    <a:lnTo>
                      <a:pt x="1503" y="18"/>
                    </a:lnTo>
                    <a:lnTo>
                      <a:pt x="1472" y="15"/>
                    </a:lnTo>
                    <a:lnTo>
                      <a:pt x="1443" y="11"/>
                    </a:lnTo>
                    <a:lnTo>
                      <a:pt x="1416" y="8"/>
                    </a:lnTo>
                    <a:lnTo>
                      <a:pt x="1391" y="4"/>
                    </a:lnTo>
                    <a:lnTo>
                      <a:pt x="1366" y="0"/>
                    </a:lnTo>
                    <a:lnTo>
                      <a:pt x="442" y="0"/>
                    </a:lnTo>
                    <a:lnTo>
                      <a:pt x="368" y="8"/>
                    </a:lnTo>
                    <a:lnTo>
                      <a:pt x="297" y="13"/>
                    </a:lnTo>
                    <a:lnTo>
                      <a:pt x="227" y="18"/>
                    </a:lnTo>
                    <a:lnTo>
                      <a:pt x="162" y="23"/>
                    </a:lnTo>
                    <a:lnTo>
                      <a:pt x="132" y="26"/>
                    </a:lnTo>
                    <a:lnTo>
                      <a:pt x="105" y="28"/>
                    </a:lnTo>
                    <a:lnTo>
                      <a:pt x="80" y="32"/>
                    </a:lnTo>
                    <a:lnTo>
                      <a:pt x="58" y="35"/>
                    </a:lnTo>
                    <a:lnTo>
                      <a:pt x="39" y="40"/>
                    </a:lnTo>
                    <a:lnTo>
                      <a:pt x="22" y="45"/>
                    </a:lnTo>
                    <a:lnTo>
                      <a:pt x="15" y="48"/>
                    </a:lnTo>
                    <a:lnTo>
                      <a:pt x="9" y="51"/>
                    </a:lnTo>
                    <a:lnTo>
                      <a:pt x="5" y="55"/>
                    </a:lnTo>
                    <a:lnTo>
                      <a:pt x="0" y="58"/>
                    </a:lnTo>
                    <a:lnTo>
                      <a:pt x="15" y="57"/>
                    </a:lnTo>
                    <a:lnTo>
                      <a:pt x="32" y="57"/>
                    </a:lnTo>
                    <a:lnTo>
                      <a:pt x="49" y="57"/>
                    </a:lnTo>
                    <a:lnTo>
                      <a:pt x="70" y="58"/>
                    </a:lnTo>
                    <a:lnTo>
                      <a:pt x="113" y="63"/>
                    </a:lnTo>
                    <a:lnTo>
                      <a:pt x="162" y="68"/>
                    </a:lnTo>
                    <a:lnTo>
                      <a:pt x="273" y="83"/>
                    </a:lnTo>
                    <a:lnTo>
                      <a:pt x="396" y="99"/>
                    </a:lnTo>
                    <a:lnTo>
                      <a:pt x="461" y="107"/>
                    </a:lnTo>
                    <a:lnTo>
                      <a:pt x="528" y="113"/>
                    </a:lnTo>
                    <a:lnTo>
                      <a:pt x="594" y="118"/>
                    </a:lnTo>
                    <a:lnTo>
                      <a:pt x="661" y="121"/>
                    </a:lnTo>
                    <a:lnTo>
                      <a:pt x="694" y="122"/>
                    </a:lnTo>
                    <a:lnTo>
                      <a:pt x="727" y="122"/>
                    </a:lnTo>
                    <a:lnTo>
                      <a:pt x="761" y="121"/>
                    </a:lnTo>
                    <a:lnTo>
                      <a:pt x="792" y="120"/>
                    </a:lnTo>
                    <a:lnTo>
                      <a:pt x="824" y="117"/>
                    </a:lnTo>
                    <a:lnTo>
                      <a:pt x="855" y="114"/>
                    </a:lnTo>
                    <a:lnTo>
                      <a:pt x="885" y="109"/>
                    </a:lnTo>
                    <a:lnTo>
                      <a:pt x="914" y="104"/>
                    </a:lnTo>
                    <a:lnTo>
                      <a:pt x="920" y="100"/>
                    </a:lnTo>
                    <a:lnTo>
                      <a:pt x="927" y="97"/>
                    </a:lnTo>
                    <a:lnTo>
                      <a:pt x="935" y="93"/>
                    </a:lnTo>
                    <a:lnTo>
                      <a:pt x="945" y="91"/>
                    </a:lnTo>
                    <a:lnTo>
                      <a:pt x="971" y="85"/>
                    </a:lnTo>
                    <a:lnTo>
                      <a:pt x="1003" y="80"/>
                    </a:lnTo>
                    <a:lnTo>
                      <a:pt x="1040" y="75"/>
                    </a:lnTo>
                    <a:lnTo>
                      <a:pt x="1082" y="71"/>
                    </a:lnTo>
                    <a:lnTo>
                      <a:pt x="1128" y="67"/>
                    </a:lnTo>
                    <a:lnTo>
                      <a:pt x="1177" y="63"/>
                    </a:lnTo>
                    <a:lnTo>
                      <a:pt x="1281" y="55"/>
                    </a:lnTo>
                    <a:lnTo>
                      <a:pt x="1392" y="47"/>
                    </a:lnTo>
                    <a:lnTo>
                      <a:pt x="1502" y="37"/>
                    </a:lnTo>
                    <a:lnTo>
                      <a:pt x="1605" y="2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4183200" y="3517920"/>
                <a:ext cx="209520" cy="30240"/>
              </a:xfrm>
              <a:custGeom>
                <a:avLst/>
                <a:gdLst/>
                <a:ahLst/>
                <a:rect l="l" t="t" r="r" b="b"/>
                <a:pathLst>
                  <a:path w="660" h="98">
                    <a:moveTo>
                      <a:pt x="0" y="0"/>
                    </a:moveTo>
                    <a:lnTo>
                      <a:pt x="25" y="8"/>
                    </a:lnTo>
                    <a:lnTo>
                      <a:pt x="62" y="20"/>
                    </a:lnTo>
                    <a:lnTo>
                      <a:pt x="102" y="33"/>
                    </a:lnTo>
                    <a:lnTo>
                      <a:pt x="146" y="45"/>
                    </a:lnTo>
                    <a:lnTo>
                      <a:pt x="198" y="58"/>
                    </a:lnTo>
                    <a:lnTo>
                      <a:pt x="226" y="64"/>
                    </a:lnTo>
                    <a:lnTo>
                      <a:pt x="258" y="69"/>
                    </a:lnTo>
                    <a:lnTo>
                      <a:pt x="291" y="75"/>
                    </a:lnTo>
                    <a:lnTo>
                      <a:pt x="328" y="81"/>
                    </a:lnTo>
                    <a:lnTo>
                      <a:pt x="366" y="85"/>
                    </a:lnTo>
                    <a:lnTo>
                      <a:pt x="410" y="90"/>
                    </a:lnTo>
                    <a:lnTo>
                      <a:pt x="455" y="94"/>
                    </a:lnTo>
                    <a:lnTo>
                      <a:pt x="504" y="98"/>
                    </a:lnTo>
                    <a:lnTo>
                      <a:pt x="6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3827520" y="3517920"/>
                <a:ext cx="237960" cy="41400"/>
              </a:xfrm>
              <a:custGeom>
                <a:avLst/>
                <a:gdLst/>
                <a:ahLst/>
                <a:rect l="l" t="t" r="r" b="b"/>
                <a:pathLst>
                  <a:path w="747" h="131">
                    <a:moveTo>
                      <a:pt x="240" y="0"/>
                    </a:moveTo>
                    <a:lnTo>
                      <a:pt x="240" y="6"/>
                    </a:lnTo>
                    <a:lnTo>
                      <a:pt x="179" y="51"/>
                    </a:lnTo>
                    <a:lnTo>
                      <a:pt x="84" y="102"/>
                    </a:lnTo>
                    <a:lnTo>
                      <a:pt x="66" y="109"/>
                    </a:lnTo>
                    <a:lnTo>
                      <a:pt x="72" y="108"/>
                    </a:lnTo>
                    <a:lnTo>
                      <a:pt x="85" y="105"/>
                    </a:lnTo>
                    <a:lnTo>
                      <a:pt x="102" y="102"/>
                    </a:lnTo>
                    <a:lnTo>
                      <a:pt x="121" y="100"/>
                    </a:lnTo>
                    <a:lnTo>
                      <a:pt x="142" y="98"/>
                    </a:lnTo>
                    <a:lnTo>
                      <a:pt x="244" y="89"/>
                    </a:lnTo>
                    <a:lnTo>
                      <a:pt x="362" y="81"/>
                    </a:lnTo>
                    <a:lnTo>
                      <a:pt x="423" y="75"/>
                    </a:lnTo>
                    <a:lnTo>
                      <a:pt x="485" y="68"/>
                    </a:lnTo>
                    <a:lnTo>
                      <a:pt x="517" y="64"/>
                    </a:lnTo>
                    <a:lnTo>
                      <a:pt x="548" y="58"/>
                    </a:lnTo>
                    <a:lnTo>
                      <a:pt x="578" y="52"/>
                    </a:lnTo>
                    <a:lnTo>
                      <a:pt x="608" y="45"/>
                    </a:lnTo>
                    <a:lnTo>
                      <a:pt x="639" y="39"/>
                    </a:lnTo>
                    <a:lnTo>
                      <a:pt x="671" y="29"/>
                    </a:lnTo>
                    <a:lnTo>
                      <a:pt x="706" y="17"/>
                    </a:lnTo>
                    <a:lnTo>
                      <a:pt x="747" y="0"/>
                    </a:lnTo>
                    <a:lnTo>
                      <a:pt x="240" y="0"/>
                    </a:lnTo>
                    <a:close/>
                    <a:moveTo>
                      <a:pt x="194" y="0"/>
                    </a:moveTo>
                    <a:lnTo>
                      <a:pt x="94" y="53"/>
                    </a:lnTo>
                    <a:lnTo>
                      <a:pt x="20" y="110"/>
                    </a:lnTo>
                    <a:lnTo>
                      <a:pt x="20" y="129"/>
                    </a:lnTo>
                    <a:lnTo>
                      <a:pt x="20" y="110"/>
                    </a:lnTo>
                    <a:lnTo>
                      <a:pt x="0" y="131"/>
                    </a:lnTo>
                    <a:lnTo>
                      <a:pt x="20" y="129"/>
                    </a:lnTo>
                    <a:lnTo>
                      <a:pt x="219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3833640" y="3517920"/>
                <a:ext cx="358920" cy="60480"/>
              </a:xfrm>
              <a:custGeom>
                <a:avLst/>
                <a:gdLst/>
                <a:ahLst/>
                <a:rect l="l" t="t" r="r" b="b"/>
                <a:pathLst>
                  <a:path w="1129" h="193">
                    <a:moveTo>
                      <a:pt x="919" y="152"/>
                    </a:moveTo>
                    <a:lnTo>
                      <a:pt x="1128" y="34"/>
                    </a:lnTo>
                    <a:lnTo>
                      <a:pt x="1101" y="39"/>
                    </a:lnTo>
                    <a:lnTo>
                      <a:pt x="1072" y="43"/>
                    </a:lnTo>
                    <a:lnTo>
                      <a:pt x="1043" y="47"/>
                    </a:lnTo>
                    <a:lnTo>
                      <a:pt x="1012" y="49"/>
                    </a:lnTo>
                    <a:lnTo>
                      <a:pt x="981" y="50"/>
                    </a:lnTo>
                    <a:lnTo>
                      <a:pt x="949" y="51"/>
                    </a:lnTo>
                    <a:lnTo>
                      <a:pt x="916" y="51"/>
                    </a:lnTo>
                    <a:lnTo>
                      <a:pt x="883" y="50"/>
                    </a:lnTo>
                    <a:lnTo>
                      <a:pt x="817" y="48"/>
                    </a:lnTo>
                    <a:lnTo>
                      <a:pt x="751" y="42"/>
                    </a:lnTo>
                    <a:lnTo>
                      <a:pt x="685" y="36"/>
                    </a:lnTo>
                    <a:lnTo>
                      <a:pt x="620" y="28"/>
                    </a:lnTo>
                    <a:lnTo>
                      <a:pt x="497" y="12"/>
                    </a:lnTo>
                    <a:lnTo>
                      <a:pt x="408" y="0"/>
                    </a:lnTo>
                    <a:lnTo>
                      <a:pt x="199" y="0"/>
                    </a:lnTo>
                    <a:lnTo>
                      <a:pt x="0" y="129"/>
                    </a:lnTo>
                    <a:lnTo>
                      <a:pt x="12" y="128"/>
                    </a:lnTo>
                    <a:lnTo>
                      <a:pt x="28" y="128"/>
                    </a:lnTo>
                    <a:lnTo>
                      <a:pt x="45" y="129"/>
                    </a:lnTo>
                    <a:lnTo>
                      <a:pt x="65" y="130"/>
                    </a:lnTo>
                    <a:lnTo>
                      <a:pt x="108" y="133"/>
                    </a:lnTo>
                    <a:lnTo>
                      <a:pt x="156" y="139"/>
                    </a:lnTo>
                    <a:lnTo>
                      <a:pt x="266" y="154"/>
                    </a:lnTo>
                    <a:lnTo>
                      <a:pt x="391" y="170"/>
                    </a:lnTo>
                    <a:lnTo>
                      <a:pt x="456" y="178"/>
                    </a:lnTo>
                    <a:lnTo>
                      <a:pt x="523" y="185"/>
                    </a:lnTo>
                    <a:lnTo>
                      <a:pt x="590" y="189"/>
                    </a:lnTo>
                    <a:lnTo>
                      <a:pt x="657" y="191"/>
                    </a:lnTo>
                    <a:lnTo>
                      <a:pt x="691" y="193"/>
                    </a:lnTo>
                    <a:lnTo>
                      <a:pt x="725" y="193"/>
                    </a:lnTo>
                    <a:lnTo>
                      <a:pt x="758" y="191"/>
                    </a:lnTo>
                    <a:lnTo>
                      <a:pt x="790" y="190"/>
                    </a:lnTo>
                    <a:lnTo>
                      <a:pt x="823" y="188"/>
                    </a:lnTo>
                    <a:lnTo>
                      <a:pt x="855" y="185"/>
                    </a:lnTo>
                    <a:lnTo>
                      <a:pt x="888" y="180"/>
                    </a:lnTo>
                    <a:lnTo>
                      <a:pt x="920" y="173"/>
                    </a:lnTo>
                    <a:lnTo>
                      <a:pt x="1129" y="56"/>
                    </a:lnTo>
                    <a:lnTo>
                      <a:pt x="920" y="173"/>
                    </a:lnTo>
                    <a:lnTo>
                      <a:pt x="1027" y="152"/>
                    </a:lnTo>
                    <a:lnTo>
                      <a:pt x="1129" y="56"/>
                    </a:lnTo>
                    <a:lnTo>
                      <a:pt x="919" y="1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4125960" y="3517920"/>
                <a:ext cx="365040" cy="50760"/>
              </a:xfrm>
              <a:custGeom>
                <a:avLst/>
                <a:gdLst/>
                <a:ahLst/>
                <a:rect l="l" t="t" r="r" b="b"/>
                <a:pathLst>
                  <a:path w="1149" h="161">
                    <a:moveTo>
                      <a:pt x="681" y="98"/>
                    </a:moveTo>
                    <a:lnTo>
                      <a:pt x="834" y="0"/>
                    </a:lnTo>
                    <a:lnTo>
                      <a:pt x="380" y="0"/>
                    </a:lnTo>
                    <a:lnTo>
                      <a:pt x="339" y="4"/>
                    </a:lnTo>
                    <a:lnTo>
                      <a:pt x="300" y="10"/>
                    </a:lnTo>
                    <a:lnTo>
                      <a:pt x="266" y="15"/>
                    </a:lnTo>
                    <a:lnTo>
                      <a:pt x="237" y="21"/>
                    </a:lnTo>
                    <a:lnTo>
                      <a:pt x="216" y="27"/>
                    </a:lnTo>
                    <a:lnTo>
                      <a:pt x="183" y="40"/>
                    </a:lnTo>
                    <a:lnTo>
                      <a:pt x="92" y="87"/>
                    </a:lnTo>
                    <a:lnTo>
                      <a:pt x="0" y="152"/>
                    </a:lnTo>
                    <a:lnTo>
                      <a:pt x="210" y="56"/>
                    </a:lnTo>
                    <a:lnTo>
                      <a:pt x="127" y="114"/>
                    </a:lnTo>
                    <a:lnTo>
                      <a:pt x="50" y="154"/>
                    </a:lnTo>
                    <a:lnTo>
                      <a:pt x="34" y="160"/>
                    </a:lnTo>
                    <a:lnTo>
                      <a:pt x="34" y="161"/>
                    </a:lnTo>
                    <a:lnTo>
                      <a:pt x="55" y="155"/>
                    </a:lnTo>
                    <a:lnTo>
                      <a:pt x="85" y="150"/>
                    </a:lnTo>
                    <a:lnTo>
                      <a:pt x="122" y="146"/>
                    </a:lnTo>
                    <a:lnTo>
                      <a:pt x="163" y="141"/>
                    </a:lnTo>
                    <a:lnTo>
                      <a:pt x="208" y="138"/>
                    </a:lnTo>
                    <a:lnTo>
                      <a:pt x="256" y="133"/>
                    </a:lnTo>
                    <a:lnTo>
                      <a:pt x="361" y="125"/>
                    </a:lnTo>
                    <a:lnTo>
                      <a:pt x="471" y="117"/>
                    </a:lnTo>
                    <a:lnTo>
                      <a:pt x="581" y="108"/>
                    </a:lnTo>
                    <a:lnTo>
                      <a:pt x="686" y="97"/>
                    </a:lnTo>
                    <a:lnTo>
                      <a:pt x="839" y="0"/>
                    </a:lnTo>
                    <a:lnTo>
                      <a:pt x="1080" y="0"/>
                    </a:lnTo>
                    <a:lnTo>
                      <a:pt x="1149" y="18"/>
                    </a:lnTo>
                    <a:lnTo>
                      <a:pt x="686" y="97"/>
                    </a:lnTo>
                    <a:lnTo>
                      <a:pt x="839" y="0"/>
                    </a:lnTo>
                    <a:lnTo>
                      <a:pt x="837" y="0"/>
                    </a:lnTo>
                    <a:lnTo>
                      <a:pt x="681" y="9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5100480" y="3517920"/>
                <a:ext cx="509760" cy="49320"/>
              </a:xfrm>
              <a:custGeom>
                <a:avLst/>
                <a:gdLst/>
                <a:ahLst/>
                <a:rect l="l" t="t" r="r" b="b"/>
                <a:pathLst>
                  <a:path w="1604" h="156">
                    <a:moveTo>
                      <a:pt x="0" y="60"/>
                    </a:moveTo>
                    <a:lnTo>
                      <a:pt x="69" y="56"/>
                    </a:lnTo>
                    <a:lnTo>
                      <a:pt x="131" y="49"/>
                    </a:lnTo>
                    <a:lnTo>
                      <a:pt x="185" y="42"/>
                    </a:lnTo>
                    <a:lnTo>
                      <a:pt x="236" y="34"/>
                    </a:lnTo>
                    <a:lnTo>
                      <a:pt x="280" y="26"/>
                    </a:lnTo>
                    <a:lnTo>
                      <a:pt x="320" y="18"/>
                    </a:lnTo>
                    <a:lnTo>
                      <a:pt x="355" y="9"/>
                    </a:lnTo>
                    <a:lnTo>
                      <a:pt x="387" y="0"/>
                    </a:lnTo>
                    <a:lnTo>
                      <a:pt x="983" y="0"/>
                    </a:lnTo>
                    <a:lnTo>
                      <a:pt x="1004" y="6"/>
                    </a:lnTo>
                    <a:lnTo>
                      <a:pt x="1027" y="11"/>
                    </a:lnTo>
                    <a:lnTo>
                      <a:pt x="1048" y="16"/>
                    </a:lnTo>
                    <a:lnTo>
                      <a:pt x="1071" y="20"/>
                    </a:lnTo>
                    <a:lnTo>
                      <a:pt x="1118" y="28"/>
                    </a:lnTo>
                    <a:lnTo>
                      <a:pt x="1167" y="34"/>
                    </a:lnTo>
                    <a:lnTo>
                      <a:pt x="1215" y="40"/>
                    </a:lnTo>
                    <a:lnTo>
                      <a:pt x="1264" y="44"/>
                    </a:lnTo>
                    <a:lnTo>
                      <a:pt x="1312" y="48"/>
                    </a:lnTo>
                    <a:lnTo>
                      <a:pt x="1357" y="51"/>
                    </a:lnTo>
                    <a:lnTo>
                      <a:pt x="1402" y="53"/>
                    </a:lnTo>
                    <a:lnTo>
                      <a:pt x="1444" y="57"/>
                    </a:lnTo>
                    <a:lnTo>
                      <a:pt x="1483" y="60"/>
                    </a:lnTo>
                    <a:lnTo>
                      <a:pt x="1517" y="65"/>
                    </a:lnTo>
                    <a:lnTo>
                      <a:pt x="1547" y="69"/>
                    </a:lnTo>
                    <a:lnTo>
                      <a:pt x="1572" y="75"/>
                    </a:lnTo>
                    <a:lnTo>
                      <a:pt x="1582" y="80"/>
                    </a:lnTo>
                    <a:lnTo>
                      <a:pt x="1591" y="83"/>
                    </a:lnTo>
                    <a:lnTo>
                      <a:pt x="1599" y="88"/>
                    </a:lnTo>
                    <a:lnTo>
                      <a:pt x="1604" y="92"/>
                    </a:lnTo>
                    <a:lnTo>
                      <a:pt x="1590" y="91"/>
                    </a:lnTo>
                    <a:lnTo>
                      <a:pt x="1573" y="91"/>
                    </a:lnTo>
                    <a:lnTo>
                      <a:pt x="1555" y="91"/>
                    </a:lnTo>
                    <a:lnTo>
                      <a:pt x="1535" y="92"/>
                    </a:lnTo>
                    <a:lnTo>
                      <a:pt x="1492" y="96"/>
                    </a:lnTo>
                    <a:lnTo>
                      <a:pt x="1443" y="101"/>
                    </a:lnTo>
                    <a:lnTo>
                      <a:pt x="1332" y="116"/>
                    </a:lnTo>
                    <a:lnTo>
                      <a:pt x="1208" y="133"/>
                    </a:lnTo>
                    <a:lnTo>
                      <a:pt x="1143" y="140"/>
                    </a:lnTo>
                    <a:lnTo>
                      <a:pt x="1077" y="147"/>
                    </a:lnTo>
                    <a:lnTo>
                      <a:pt x="1010" y="152"/>
                    </a:lnTo>
                    <a:lnTo>
                      <a:pt x="943" y="155"/>
                    </a:lnTo>
                    <a:lnTo>
                      <a:pt x="910" y="156"/>
                    </a:lnTo>
                    <a:lnTo>
                      <a:pt x="877" y="156"/>
                    </a:lnTo>
                    <a:lnTo>
                      <a:pt x="844" y="155"/>
                    </a:lnTo>
                    <a:lnTo>
                      <a:pt x="812" y="153"/>
                    </a:lnTo>
                    <a:lnTo>
                      <a:pt x="780" y="150"/>
                    </a:lnTo>
                    <a:lnTo>
                      <a:pt x="750" y="147"/>
                    </a:lnTo>
                    <a:lnTo>
                      <a:pt x="719" y="144"/>
                    </a:lnTo>
                    <a:lnTo>
                      <a:pt x="689" y="138"/>
                    </a:lnTo>
                    <a:lnTo>
                      <a:pt x="685" y="134"/>
                    </a:lnTo>
                    <a:lnTo>
                      <a:pt x="678" y="131"/>
                    </a:lnTo>
                    <a:lnTo>
                      <a:pt x="670" y="128"/>
                    </a:lnTo>
                    <a:lnTo>
                      <a:pt x="660" y="124"/>
                    </a:lnTo>
                    <a:lnTo>
                      <a:pt x="633" y="118"/>
                    </a:lnTo>
                    <a:lnTo>
                      <a:pt x="601" y="114"/>
                    </a:lnTo>
                    <a:lnTo>
                      <a:pt x="565" y="109"/>
                    </a:lnTo>
                    <a:lnTo>
                      <a:pt x="523" y="105"/>
                    </a:lnTo>
                    <a:lnTo>
                      <a:pt x="477" y="100"/>
                    </a:lnTo>
                    <a:lnTo>
                      <a:pt x="428" y="97"/>
                    </a:lnTo>
                    <a:lnTo>
                      <a:pt x="323" y="89"/>
                    </a:lnTo>
                    <a:lnTo>
                      <a:pt x="213" y="81"/>
                    </a:lnTo>
                    <a:lnTo>
                      <a:pt x="103" y="7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5065560" y="3517920"/>
                <a:ext cx="268560" cy="41400"/>
              </a:xfrm>
              <a:custGeom>
                <a:avLst/>
                <a:gdLst/>
                <a:ahLst/>
                <a:rect l="l" t="t" r="r" b="b"/>
                <a:pathLst>
                  <a:path w="844" h="131">
                    <a:moveTo>
                      <a:pt x="205" y="0"/>
                    </a:moveTo>
                    <a:lnTo>
                      <a:pt x="0" y="131"/>
                    </a:lnTo>
                    <a:lnTo>
                      <a:pt x="49" y="128"/>
                    </a:lnTo>
                    <a:lnTo>
                      <a:pt x="96" y="124"/>
                    </a:lnTo>
                    <a:lnTo>
                      <a:pt x="139" y="118"/>
                    </a:lnTo>
                    <a:lnTo>
                      <a:pt x="178" y="114"/>
                    </a:lnTo>
                    <a:lnTo>
                      <a:pt x="215" y="108"/>
                    </a:lnTo>
                    <a:lnTo>
                      <a:pt x="250" y="102"/>
                    </a:lnTo>
                    <a:lnTo>
                      <a:pt x="282" y="97"/>
                    </a:lnTo>
                    <a:lnTo>
                      <a:pt x="312" y="91"/>
                    </a:lnTo>
                    <a:lnTo>
                      <a:pt x="367" y="77"/>
                    </a:lnTo>
                    <a:lnTo>
                      <a:pt x="416" y="64"/>
                    </a:lnTo>
                    <a:lnTo>
                      <a:pt x="459" y="50"/>
                    </a:lnTo>
                    <a:lnTo>
                      <a:pt x="496" y="37"/>
                    </a:lnTo>
                    <a:lnTo>
                      <a:pt x="528" y="27"/>
                    </a:lnTo>
                    <a:lnTo>
                      <a:pt x="559" y="18"/>
                    </a:lnTo>
                    <a:lnTo>
                      <a:pt x="572" y="15"/>
                    </a:lnTo>
                    <a:lnTo>
                      <a:pt x="588" y="11"/>
                    </a:lnTo>
                    <a:lnTo>
                      <a:pt x="605" y="8"/>
                    </a:lnTo>
                    <a:lnTo>
                      <a:pt x="624" y="4"/>
                    </a:lnTo>
                    <a:lnTo>
                      <a:pt x="644" y="2"/>
                    </a:lnTo>
                    <a:lnTo>
                      <a:pt x="666" y="0"/>
                    </a:lnTo>
                    <a:lnTo>
                      <a:pt x="667" y="0"/>
                    </a:lnTo>
                    <a:lnTo>
                      <a:pt x="205" y="0"/>
                    </a:lnTo>
                    <a:close/>
                    <a:moveTo>
                      <a:pt x="829" y="0"/>
                    </a:moveTo>
                    <a:lnTo>
                      <a:pt x="844" y="1"/>
                    </a:lnTo>
                    <a:lnTo>
                      <a:pt x="841" y="0"/>
                    </a:lnTo>
                    <a:lnTo>
                      <a:pt x="82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5332320" y="3517920"/>
                <a:ext cx="341280" cy="54000"/>
              </a:xfrm>
              <a:custGeom>
                <a:avLst/>
                <a:gdLst/>
                <a:ahLst/>
                <a:rect l="l" t="t" r="r" b="b"/>
                <a:pathLst>
                  <a:path w="1076" h="174">
                    <a:moveTo>
                      <a:pt x="761" y="163"/>
                    </a:moveTo>
                    <a:lnTo>
                      <a:pt x="993" y="23"/>
                    </a:lnTo>
                    <a:lnTo>
                      <a:pt x="985" y="16"/>
                    </a:lnTo>
                    <a:lnTo>
                      <a:pt x="975" y="11"/>
                    </a:lnTo>
                    <a:lnTo>
                      <a:pt x="962" y="6"/>
                    </a:lnTo>
                    <a:lnTo>
                      <a:pt x="946" y="2"/>
                    </a:lnTo>
                    <a:lnTo>
                      <a:pt x="938" y="0"/>
                    </a:lnTo>
                    <a:lnTo>
                      <a:pt x="0" y="0"/>
                    </a:lnTo>
                    <a:lnTo>
                      <a:pt x="15" y="13"/>
                    </a:lnTo>
                    <a:lnTo>
                      <a:pt x="33" y="26"/>
                    </a:lnTo>
                    <a:lnTo>
                      <a:pt x="54" y="37"/>
                    </a:lnTo>
                    <a:lnTo>
                      <a:pt x="77" y="48"/>
                    </a:lnTo>
                    <a:lnTo>
                      <a:pt x="99" y="58"/>
                    </a:lnTo>
                    <a:lnTo>
                      <a:pt x="124" y="66"/>
                    </a:lnTo>
                    <a:lnTo>
                      <a:pt x="151" y="74"/>
                    </a:lnTo>
                    <a:lnTo>
                      <a:pt x="179" y="81"/>
                    </a:lnTo>
                    <a:lnTo>
                      <a:pt x="206" y="88"/>
                    </a:lnTo>
                    <a:lnTo>
                      <a:pt x="236" y="92"/>
                    </a:lnTo>
                    <a:lnTo>
                      <a:pt x="266" y="98"/>
                    </a:lnTo>
                    <a:lnTo>
                      <a:pt x="295" y="101"/>
                    </a:lnTo>
                    <a:lnTo>
                      <a:pt x="357" y="109"/>
                    </a:lnTo>
                    <a:lnTo>
                      <a:pt x="419" y="115"/>
                    </a:lnTo>
                    <a:lnTo>
                      <a:pt x="536" y="123"/>
                    </a:lnTo>
                    <a:lnTo>
                      <a:pt x="639" y="131"/>
                    </a:lnTo>
                    <a:lnTo>
                      <a:pt x="660" y="133"/>
                    </a:lnTo>
                    <a:lnTo>
                      <a:pt x="681" y="137"/>
                    </a:lnTo>
                    <a:lnTo>
                      <a:pt x="699" y="140"/>
                    </a:lnTo>
                    <a:lnTo>
                      <a:pt x="715" y="142"/>
                    </a:lnTo>
                    <a:lnTo>
                      <a:pt x="730" y="147"/>
                    </a:lnTo>
                    <a:lnTo>
                      <a:pt x="741" y="152"/>
                    </a:lnTo>
                    <a:lnTo>
                      <a:pt x="750" y="156"/>
                    </a:lnTo>
                    <a:lnTo>
                      <a:pt x="757" y="161"/>
                    </a:lnTo>
                    <a:lnTo>
                      <a:pt x="990" y="21"/>
                    </a:lnTo>
                    <a:lnTo>
                      <a:pt x="761" y="163"/>
                    </a:lnTo>
                    <a:lnTo>
                      <a:pt x="1076" y="174"/>
                    </a:lnTo>
                    <a:lnTo>
                      <a:pt x="993" y="23"/>
                    </a:lnTo>
                    <a:lnTo>
                      <a:pt x="761" y="1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5283360" y="3522600"/>
                <a:ext cx="363240" cy="66600"/>
              </a:xfrm>
              <a:custGeom>
                <a:avLst/>
                <a:gdLst/>
                <a:ahLst/>
                <a:rect l="l" t="t" r="r" b="b"/>
                <a:pathLst>
                  <a:path w="1147" h="208">
                    <a:moveTo>
                      <a:pt x="0" y="188"/>
                    </a:moveTo>
                    <a:lnTo>
                      <a:pt x="2" y="190"/>
                    </a:lnTo>
                    <a:lnTo>
                      <a:pt x="33" y="195"/>
                    </a:lnTo>
                    <a:lnTo>
                      <a:pt x="63" y="200"/>
                    </a:lnTo>
                    <a:lnTo>
                      <a:pt x="94" y="202"/>
                    </a:lnTo>
                    <a:lnTo>
                      <a:pt x="126" y="204"/>
                    </a:lnTo>
                    <a:lnTo>
                      <a:pt x="159" y="207"/>
                    </a:lnTo>
                    <a:lnTo>
                      <a:pt x="192" y="208"/>
                    </a:lnTo>
                    <a:lnTo>
                      <a:pt x="226" y="208"/>
                    </a:lnTo>
                    <a:lnTo>
                      <a:pt x="260" y="207"/>
                    </a:lnTo>
                    <a:lnTo>
                      <a:pt x="327" y="204"/>
                    </a:lnTo>
                    <a:lnTo>
                      <a:pt x="395" y="199"/>
                    </a:lnTo>
                    <a:lnTo>
                      <a:pt x="462" y="192"/>
                    </a:lnTo>
                    <a:lnTo>
                      <a:pt x="528" y="185"/>
                    </a:lnTo>
                    <a:lnTo>
                      <a:pt x="652" y="168"/>
                    </a:lnTo>
                    <a:lnTo>
                      <a:pt x="762" y="153"/>
                    </a:lnTo>
                    <a:lnTo>
                      <a:pt x="810" y="147"/>
                    </a:lnTo>
                    <a:lnTo>
                      <a:pt x="853" y="144"/>
                    </a:lnTo>
                    <a:lnTo>
                      <a:pt x="871" y="143"/>
                    </a:lnTo>
                    <a:lnTo>
                      <a:pt x="889" y="143"/>
                    </a:lnTo>
                    <a:lnTo>
                      <a:pt x="904" y="143"/>
                    </a:lnTo>
                    <a:lnTo>
                      <a:pt x="918" y="144"/>
                    </a:lnTo>
                    <a:lnTo>
                      <a:pt x="1147" y="2"/>
                    </a:lnTo>
                    <a:lnTo>
                      <a:pt x="1131" y="1"/>
                    </a:lnTo>
                    <a:lnTo>
                      <a:pt x="1114" y="0"/>
                    </a:lnTo>
                    <a:lnTo>
                      <a:pt x="1094" y="1"/>
                    </a:lnTo>
                    <a:lnTo>
                      <a:pt x="1074" y="2"/>
                    </a:lnTo>
                    <a:lnTo>
                      <a:pt x="1029" y="6"/>
                    </a:lnTo>
                    <a:lnTo>
                      <a:pt x="979" y="13"/>
                    </a:lnTo>
                    <a:lnTo>
                      <a:pt x="869" y="26"/>
                    </a:lnTo>
                    <a:lnTo>
                      <a:pt x="745" y="44"/>
                    </a:lnTo>
                    <a:lnTo>
                      <a:pt x="680" y="50"/>
                    </a:lnTo>
                    <a:lnTo>
                      <a:pt x="615" y="57"/>
                    </a:lnTo>
                    <a:lnTo>
                      <a:pt x="549" y="62"/>
                    </a:lnTo>
                    <a:lnTo>
                      <a:pt x="483" y="65"/>
                    </a:lnTo>
                    <a:lnTo>
                      <a:pt x="450" y="65"/>
                    </a:lnTo>
                    <a:lnTo>
                      <a:pt x="418" y="65"/>
                    </a:lnTo>
                    <a:lnTo>
                      <a:pt x="386" y="65"/>
                    </a:lnTo>
                    <a:lnTo>
                      <a:pt x="354" y="63"/>
                    </a:lnTo>
                    <a:lnTo>
                      <a:pt x="322" y="61"/>
                    </a:lnTo>
                    <a:lnTo>
                      <a:pt x="293" y="57"/>
                    </a:lnTo>
                    <a:lnTo>
                      <a:pt x="262" y="54"/>
                    </a:lnTo>
                    <a:lnTo>
                      <a:pt x="234" y="48"/>
                    </a:lnTo>
                    <a:lnTo>
                      <a:pt x="236" y="49"/>
                    </a:lnTo>
                    <a:lnTo>
                      <a:pt x="0" y="188"/>
                    </a:lnTo>
                    <a:lnTo>
                      <a:pt x="0" y="188"/>
                    </a:lnTo>
                    <a:lnTo>
                      <a:pt x="2" y="19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4952880" y="3517920"/>
                <a:ext cx="405000" cy="65160"/>
              </a:xfrm>
              <a:custGeom>
                <a:avLst/>
                <a:gdLst/>
                <a:ahLst/>
                <a:rect l="l" t="t" r="r" b="b"/>
                <a:pathLst>
                  <a:path w="1275" h="207">
                    <a:moveTo>
                      <a:pt x="561" y="0"/>
                    </a:moveTo>
                    <a:lnTo>
                      <a:pt x="353" y="131"/>
                    </a:lnTo>
                    <a:lnTo>
                      <a:pt x="456" y="142"/>
                    </a:lnTo>
                    <a:lnTo>
                      <a:pt x="566" y="152"/>
                    </a:lnTo>
                    <a:lnTo>
                      <a:pt x="676" y="160"/>
                    </a:lnTo>
                    <a:lnTo>
                      <a:pt x="781" y="168"/>
                    </a:lnTo>
                    <a:lnTo>
                      <a:pt x="830" y="171"/>
                    </a:lnTo>
                    <a:lnTo>
                      <a:pt x="876" y="176"/>
                    </a:lnTo>
                    <a:lnTo>
                      <a:pt x="917" y="180"/>
                    </a:lnTo>
                    <a:lnTo>
                      <a:pt x="953" y="185"/>
                    </a:lnTo>
                    <a:lnTo>
                      <a:pt x="985" y="190"/>
                    </a:lnTo>
                    <a:lnTo>
                      <a:pt x="1010" y="195"/>
                    </a:lnTo>
                    <a:lnTo>
                      <a:pt x="1021" y="198"/>
                    </a:lnTo>
                    <a:lnTo>
                      <a:pt x="1029" y="201"/>
                    </a:lnTo>
                    <a:lnTo>
                      <a:pt x="1034" y="204"/>
                    </a:lnTo>
                    <a:lnTo>
                      <a:pt x="1039" y="207"/>
                    </a:lnTo>
                    <a:lnTo>
                      <a:pt x="1275" y="68"/>
                    </a:lnTo>
                    <a:lnTo>
                      <a:pt x="1269" y="64"/>
                    </a:lnTo>
                    <a:lnTo>
                      <a:pt x="1262" y="60"/>
                    </a:lnTo>
                    <a:lnTo>
                      <a:pt x="1253" y="57"/>
                    </a:lnTo>
                    <a:lnTo>
                      <a:pt x="1242" y="55"/>
                    </a:lnTo>
                    <a:lnTo>
                      <a:pt x="1216" y="48"/>
                    </a:lnTo>
                    <a:lnTo>
                      <a:pt x="1184" y="43"/>
                    </a:lnTo>
                    <a:lnTo>
                      <a:pt x="1146" y="39"/>
                    </a:lnTo>
                    <a:lnTo>
                      <a:pt x="1104" y="34"/>
                    </a:lnTo>
                    <a:lnTo>
                      <a:pt x="1058" y="29"/>
                    </a:lnTo>
                    <a:lnTo>
                      <a:pt x="1009" y="25"/>
                    </a:lnTo>
                    <a:lnTo>
                      <a:pt x="904" y="17"/>
                    </a:lnTo>
                    <a:lnTo>
                      <a:pt x="794" y="9"/>
                    </a:lnTo>
                    <a:lnTo>
                      <a:pt x="684" y="0"/>
                    </a:lnTo>
                    <a:lnTo>
                      <a:pt x="682" y="0"/>
                    </a:lnTo>
                    <a:lnTo>
                      <a:pt x="565" y="0"/>
                    </a:lnTo>
                    <a:lnTo>
                      <a:pt x="356" y="131"/>
                    </a:lnTo>
                    <a:lnTo>
                      <a:pt x="561" y="0"/>
                    </a:lnTo>
                    <a:lnTo>
                      <a:pt x="561" y="0"/>
                    </a:lnTo>
                    <a:close/>
                    <a:moveTo>
                      <a:pt x="513" y="0"/>
                    </a:moveTo>
                    <a:lnTo>
                      <a:pt x="0" y="83"/>
                    </a:lnTo>
                    <a:lnTo>
                      <a:pt x="353" y="131"/>
                    </a:lnTo>
                    <a:lnTo>
                      <a:pt x="561" y="0"/>
                    </a:lnTo>
                    <a:lnTo>
                      <a:pt x="51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3836880" y="3719520"/>
                <a:ext cx="538200" cy="95400"/>
              </a:xfrm>
              <a:custGeom>
                <a:avLst/>
                <a:gdLst/>
                <a:ahLst/>
                <a:rect l="l" t="t" r="r" b="b"/>
                <a:pathLst>
                  <a:path w="1693" h="298">
                    <a:moveTo>
                      <a:pt x="1693" y="253"/>
                    </a:moveTo>
                    <a:lnTo>
                      <a:pt x="1663" y="253"/>
                    </a:lnTo>
                    <a:lnTo>
                      <a:pt x="1633" y="252"/>
                    </a:lnTo>
                    <a:lnTo>
                      <a:pt x="1603" y="248"/>
                    </a:lnTo>
                    <a:lnTo>
                      <a:pt x="1573" y="244"/>
                    </a:lnTo>
                    <a:lnTo>
                      <a:pt x="1543" y="238"/>
                    </a:lnTo>
                    <a:lnTo>
                      <a:pt x="1513" y="231"/>
                    </a:lnTo>
                    <a:lnTo>
                      <a:pt x="1483" y="223"/>
                    </a:lnTo>
                    <a:lnTo>
                      <a:pt x="1453" y="214"/>
                    </a:lnTo>
                    <a:lnTo>
                      <a:pt x="1423" y="204"/>
                    </a:lnTo>
                    <a:lnTo>
                      <a:pt x="1393" y="194"/>
                    </a:lnTo>
                    <a:lnTo>
                      <a:pt x="1363" y="182"/>
                    </a:lnTo>
                    <a:lnTo>
                      <a:pt x="1334" y="171"/>
                    </a:lnTo>
                    <a:lnTo>
                      <a:pt x="1275" y="146"/>
                    </a:lnTo>
                    <a:lnTo>
                      <a:pt x="1216" y="120"/>
                    </a:lnTo>
                    <a:lnTo>
                      <a:pt x="1159" y="95"/>
                    </a:lnTo>
                    <a:lnTo>
                      <a:pt x="1102" y="71"/>
                    </a:lnTo>
                    <a:lnTo>
                      <a:pt x="1074" y="60"/>
                    </a:lnTo>
                    <a:lnTo>
                      <a:pt x="1046" y="50"/>
                    </a:lnTo>
                    <a:lnTo>
                      <a:pt x="1019" y="39"/>
                    </a:lnTo>
                    <a:lnTo>
                      <a:pt x="992" y="30"/>
                    </a:lnTo>
                    <a:lnTo>
                      <a:pt x="964" y="22"/>
                    </a:lnTo>
                    <a:lnTo>
                      <a:pt x="938" y="16"/>
                    </a:lnTo>
                    <a:lnTo>
                      <a:pt x="912" y="10"/>
                    </a:lnTo>
                    <a:lnTo>
                      <a:pt x="886" y="5"/>
                    </a:lnTo>
                    <a:lnTo>
                      <a:pt x="861" y="2"/>
                    </a:lnTo>
                    <a:lnTo>
                      <a:pt x="835" y="0"/>
                    </a:lnTo>
                    <a:lnTo>
                      <a:pt x="810" y="0"/>
                    </a:lnTo>
                    <a:lnTo>
                      <a:pt x="785" y="2"/>
                    </a:lnTo>
                    <a:lnTo>
                      <a:pt x="774" y="9"/>
                    </a:lnTo>
                    <a:lnTo>
                      <a:pt x="759" y="16"/>
                    </a:lnTo>
                    <a:lnTo>
                      <a:pt x="742" y="22"/>
                    </a:lnTo>
                    <a:lnTo>
                      <a:pt x="723" y="29"/>
                    </a:lnTo>
                    <a:lnTo>
                      <a:pt x="677" y="42"/>
                    </a:lnTo>
                    <a:lnTo>
                      <a:pt x="625" y="54"/>
                    </a:lnTo>
                    <a:lnTo>
                      <a:pt x="566" y="67"/>
                    </a:lnTo>
                    <a:lnTo>
                      <a:pt x="505" y="78"/>
                    </a:lnTo>
                    <a:lnTo>
                      <a:pt x="440" y="91"/>
                    </a:lnTo>
                    <a:lnTo>
                      <a:pt x="375" y="102"/>
                    </a:lnTo>
                    <a:lnTo>
                      <a:pt x="309" y="114"/>
                    </a:lnTo>
                    <a:lnTo>
                      <a:pt x="246" y="125"/>
                    </a:lnTo>
                    <a:lnTo>
                      <a:pt x="187" y="136"/>
                    </a:lnTo>
                    <a:lnTo>
                      <a:pt x="133" y="148"/>
                    </a:lnTo>
                    <a:lnTo>
                      <a:pt x="85" y="159"/>
                    </a:lnTo>
                    <a:lnTo>
                      <a:pt x="47" y="171"/>
                    </a:lnTo>
                    <a:lnTo>
                      <a:pt x="31" y="178"/>
                    </a:lnTo>
                    <a:lnTo>
                      <a:pt x="17" y="183"/>
                    </a:lnTo>
                    <a:lnTo>
                      <a:pt x="7" y="189"/>
                    </a:lnTo>
                    <a:lnTo>
                      <a:pt x="0" y="195"/>
                    </a:lnTo>
                    <a:lnTo>
                      <a:pt x="13" y="195"/>
                    </a:lnTo>
                    <a:lnTo>
                      <a:pt x="28" y="195"/>
                    </a:lnTo>
                    <a:lnTo>
                      <a:pt x="45" y="196"/>
                    </a:lnTo>
                    <a:lnTo>
                      <a:pt x="64" y="197"/>
                    </a:lnTo>
                    <a:lnTo>
                      <a:pt x="102" y="204"/>
                    </a:lnTo>
                    <a:lnTo>
                      <a:pt x="145" y="212"/>
                    </a:lnTo>
                    <a:lnTo>
                      <a:pt x="240" y="233"/>
                    </a:lnTo>
                    <a:lnTo>
                      <a:pt x="346" y="257"/>
                    </a:lnTo>
                    <a:lnTo>
                      <a:pt x="403" y="270"/>
                    </a:lnTo>
                    <a:lnTo>
                      <a:pt x="462" y="280"/>
                    </a:lnTo>
                    <a:lnTo>
                      <a:pt x="491" y="285"/>
                    </a:lnTo>
                    <a:lnTo>
                      <a:pt x="521" y="288"/>
                    </a:lnTo>
                    <a:lnTo>
                      <a:pt x="550" y="292"/>
                    </a:lnTo>
                    <a:lnTo>
                      <a:pt x="580" y="295"/>
                    </a:lnTo>
                    <a:lnTo>
                      <a:pt x="611" y="297"/>
                    </a:lnTo>
                    <a:lnTo>
                      <a:pt x="640" y="298"/>
                    </a:lnTo>
                    <a:lnTo>
                      <a:pt x="670" y="298"/>
                    </a:lnTo>
                    <a:lnTo>
                      <a:pt x="701" y="298"/>
                    </a:lnTo>
                    <a:lnTo>
                      <a:pt x="731" y="296"/>
                    </a:lnTo>
                    <a:lnTo>
                      <a:pt x="760" y="294"/>
                    </a:lnTo>
                    <a:lnTo>
                      <a:pt x="790" y="289"/>
                    </a:lnTo>
                    <a:lnTo>
                      <a:pt x="819" y="285"/>
                    </a:lnTo>
                    <a:lnTo>
                      <a:pt x="842" y="279"/>
                    </a:lnTo>
                    <a:lnTo>
                      <a:pt x="867" y="276"/>
                    </a:lnTo>
                    <a:lnTo>
                      <a:pt x="892" y="271"/>
                    </a:lnTo>
                    <a:lnTo>
                      <a:pt x="920" y="268"/>
                    </a:lnTo>
                    <a:lnTo>
                      <a:pt x="978" y="262"/>
                    </a:lnTo>
                    <a:lnTo>
                      <a:pt x="1039" y="259"/>
                    </a:lnTo>
                    <a:lnTo>
                      <a:pt x="1104" y="256"/>
                    </a:lnTo>
                    <a:lnTo>
                      <a:pt x="1171" y="255"/>
                    </a:lnTo>
                    <a:lnTo>
                      <a:pt x="1237" y="255"/>
                    </a:lnTo>
                    <a:lnTo>
                      <a:pt x="1303" y="255"/>
                    </a:lnTo>
                    <a:lnTo>
                      <a:pt x="1431" y="256"/>
                    </a:lnTo>
                    <a:lnTo>
                      <a:pt x="1542" y="259"/>
                    </a:lnTo>
                    <a:lnTo>
                      <a:pt x="1591" y="259"/>
                    </a:lnTo>
                    <a:lnTo>
                      <a:pt x="1633" y="257"/>
                    </a:lnTo>
                    <a:lnTo>
                      <a:pt x="1668" y="256"/>
                    </a:lnTo>
                    <a:lnTo>
                      <a:pt x="1693" y="25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4052880" y="3697200"/>
                <a:ext cx="357120" cy="125640"/>
              </a:xfrm>
              <a:custGeom>
                <a:avLst/>
                <a:gdLst/>
                <a:ahLst/>
                <a:rect l="l" t="t" r="r" b="b"/>
                <a:pathLst>
                  <a:path w="1127" h="395">
                    <a:moveTo>
                      <a:pt x="168" y="60"/>
                    </a:moveTo>
                    <a:lnTo>
                      <a:pt x="0" y="144"/>
                    </a:lnTo>
                    <a:lnTo>
                      <a:pt x="22" y="142"/>
                    </a:lnTo>
                    <a:lnTo>
                      <a:pt x="44" y="142"/>
                    </a:lnTo>
                    <a:lnTo>
                      <a:pt x="68" y="144"/>
                    </a:lnTo>
                    <a:lnTo>
                      <a:pt x="93" y="147"/>
                    </a:lnTo>
                    <a:lnTo>
                      <a:pt x="120" y="152"/>
                    </a:lnTo>
                    <a:lnTo>
                      <a:pt x="145" y="156"/>
                    </a:lnTo>
                    <a:lnTo>
                      <a:pt x="171" y="164"/>
                    </a:lnTo>
                    <a:lnTo>
                      <a:pt x="198" y="172"/>
                    </a:lnTo>
                    <a:lnTo>
                      <a:pt x="226" y="180"/>
                    </a:lnTo>
                    <a:lnTo>
                      <a:pt x="252" y="190"/>
                    </a:lnTo>
                    <a:lnTo>
                      <a:pt x="280" y="202"/>
                    </a:lnTo>
                    <a:lnTo>
                      <a:pt x="308" y="212"/>
                    </a:lnTo>
                    <a:lnTo>
                      <a:pt x="365" y="236"/>
                    </a:lnTo>
                    <a:lnTo>
                      <a:pt x="423" y="261"/>
                    </a:lnTo>
                    <a:lnTo>
                      <a:pt x="481" y="287"/>
                    </a:lnTo>
                    <a:lnTo>
                      <a:pt x="540" y="311"/>
                    </a:lnTo>
                    <a:lnTo>
                      <a:pt x="570" y="324"/>
                    </a:lnTo>
                    <a:lnTo>
                      <a:pt x="600" y="334"/>
                    </a:lnTo>
                    <a:lnTo>
                      <a:pt x="629" y="346"/>
                    </a:lnTo>
                    <a:lnTo>
                      <a:pt x="660" y="355"/>
                    </a:lnTo>
                    <a:lnTo>
                      <a:pt x="690" y="365"/>
                    </a:lnTo>
                    <a:lnTo>
                      <a:pt x="720" y="373"/>
                    </a:lnTo>
                    <a:lnTo>
                      <a:pt x="750" y="380"/>
                    </a:lnTo>
                    <a:lnTo>
                      <a:pt x="781" y="385"/>
                    </a:lnTo>
                    <a:lnTo>
                      <a:pt x="812" y="390"/>
                    </a:lnTo>
                    <a:lnTo>
                      <a:pt x="841" y="393"/>
                    </a:lnTo>
                    <a:lnTo>
                      <a:pt x="873" y="395"/>
                    </a:lnTo>
                    <a:lnTo>
                      <a:pt x="904" y="395"/>
                    </a:lnTo>
                    <a:lnTo>
                      <a:pt x="1127" y="253"/>
                    </a:lnTo>
                    <a:lnTo>
                      <a:pt x="1099" y="253"/>
                    </a:lnTo>
                    <a:lnTo>
                      <a:pt x="1070" y="252"/>
                    </a:lnTo>
                    <a:lnTo>
                      <a:pt x="1041" y="249"/>
                    </a:lnTo>
                    <a:lnTo>
                      <a:pt x="1011" y="244"/>
                    </a:lnTo>
                    <a:lnTo>
                      <a:pt x="982" y="238"/>
                    </a:lnTo>
                    <a:lnTo>
                      <a:pt x="952" y="231"/>
                    </a:lnTo>
                    <a:lnTo>
                      <a:pt x="922" y="223"/>
                    </a:lnTo>
                    <a:lnTo>
                      <a:pt x="893" y="214"/>
                    </a:lnTo>
                    <a:lnTo>
                      <a:pt x="862" y="204"/>
                    </a:lnTo>
                    <a:lnTo>
                      <a:pt x="833" y="194"/>
                    </a:lnTo>
                    <a:lnTo>
                      <a:pt x="804" y="182"/>
                    </a:lnTo>
                    <a:lnTo>
                      <a:pt x="774" y="171"/>
                    </a:lnTo>
                    <a:lnTo>
                      <a:pt x="715" y="146"/>
                    </a:lnTo>
                    <a:lnTo>
                      <a:pt x="657" y="121"/>
                    </a:lnTo>
                    <a:lnTo>
                      <a:pt x="598" y="96"/>
                    </a:lnTo>
                    <a:lnTo>
                      <a:pt x="543" y="72"/>
                    </a:lnTo>
                    <a:lnTo>
                      <a:pt x="514" y="60"/>
                    </a:lnTo>
                    <a:lnTo>
                      <a:pt x="486" y="50"/>
                    </a:lnTo>
                    <a:lnTo>
                      <a:pt x="458" y="40"/>
                    </a:lnTo>
                    <a:lnTo>
                      <a:pt x="431" y="31"/>
                    </a:lnTo>
                    <a:lnTo>
                      <a:pt x="404" y="23"/>
                    </a:lnTo>
                    <a:lnTo>
                      <a:pt x="376" y="16"/>
                    </a:lnTo>
                    <a:lnTo>
                      <a:pt x="350" y="10"/>
                    </a:lnTo>
                    <a:lnTo>
                      <a:pt x="324" y="6"/>
                    </a:lnTo>
                    <a:lnTo>
                      <a:pt x="298" y="2"/>
                    </a:lnTo>
                    <a:lnTo>
                      <a:pt x="271" y="0"/>
                    </a:lnTo>
                    <a:lnTo>
                      <a:pt x="245" y="0"/>
                    </a:lnTo>
                    <a:lnTo>
                      <a:pt x="218" y="2"/>
                    </a:lnTo>
                    <a:lnTo>
                      <a:pt x="50" y="85"/>
                    </a:lnTo>
                    <a:lnTo>
                      <a:pt x="218" y="2"/>
                    </a:lnTo>
                    <a:lnTo>
                      <a:pt x="164" y="8"/>
                    </a:lnTo>
                    <a:lnTo>
                      <a:pt x="50" y="85"/>
                    </a:lnTo>
                    <a:lnTo>
                      <a:pt x="168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3795840" y="3706920"/>
                <a:ext cx="309600" cy="98280"/>
              </a:xfrm>
              <a:custGeom>
                <a:avLst/>
                <a:gdLst/>
                <a:ahLst/>
                <a:rect l="l" t="t" r="r" b="b"/>
                <a:pathLst>
                  <a:path w="975" h="310">
                    <a:moveTo>
                      <a:pt x="238" y="166"/>
                    </a:moveTo>
                    <a:lnTo>
                      <a:pt x="239" y="184"/>
                    </a:lnTo>
                    <a:lnTo>
                      <a:pt x="194" y="220"/>
                    </a:lnTo>
                    <a:lnTo>
                      <a:pt x="113" y="266"/>
                    </a:lnTo>
                    <a:lnTo>
                      <a:pt x="86" y="279"/>
                    </a:lnTo>
                    <a:lnTo>
                      <a:pt x="84" y="280"/>
                    </a:lnTo>
                    <a:lnTo>
                      <a:pt x="117" y="270"/>
                    </a:lnTo>
                    <a:lnTo>
                      <a:pt x="161" y="259"/>
                    </a:lnTo>
                    <a:lnTo>
                      <a:pt x="213" y="248"/>
                    </a:lnTo>
                    <a:lnTo>
                      <a:pt x="271" y="237"/>
                    </a:lnTo>
                    <a:lnTo>
                      <a:pt x="334" y="226"/>
                    </a:lnTo>
                    <a:lnTo>
                      <a:pt x="399" y="214"/>
                    </a:lnTo>
                    <a:lnTo>
                      <a:pt x="464" y="202"/>
                    </a:lnTo>
                    <a:lnTo>
                      <a:pt x="529" y="191"/>
                    </a:lnTo>
                    <a:lnTo>
                      <a:pt x="593" y="178"/>
                    </a:lnTo>
                    <a:lnTo>
                      <a:pt x="652" y="166"/>
                    </a:lnTo>
                    <a:lnTo>
                      <a:pt x="708" y="152"/>
                    </a:lnTo>
                    <a:lnTo>
                      <a:pt x="758" y="139"/>
                    </a:lnTo>
                    <a:lnTo>
                      <a:pt x="788" y="128"/>
                    </a:lnTo>
                    <a:lnTo>
                      <a:pt x="823" y="115"/>
                    </a:lnTo>
                    <a:lnTo>
                      <a:pt x="881" y="86"/>
                    </a:lnTo>
                    <a:lnTo>
                      <a:pt x="975" y="31"/>
                    </a:lnTo>
                    <a:lnTo>
                      <a:pt x="857" y="56"/>
                    </a:lnTo>
                    <a:lnTo>
                      <a:pt x="926" y="15"/>
                    </a:lnTo>
                    <a:lnTo>
                      <a:pt x="955" y="0"/>
                    </a:lnTo>
                    <a:lnTo>
                      <a:pt x="956" y="0"/>
                    </a:lnTo>
                    <a:lnTo>
                      <a:pt x="947" y="4"/>
                    </a:lnTo>
                    <a:lnTo>
                      <a:pt x="906" y="15"/>
                    </a:lnTo>
                    <a:lnTo>
                      <a:pt x="857" y="27"/>
                    </a:lnTo>
                    <a:lnTo>
                      <a:pt x="801" y="39"/>
                    </a:lnTo>
                    <a:lnTo>
                      <a:pt x="740" y="51"/>
                    </a:lnTo>
                    <a:lnTo>
                      <a:pt x="676" y="62"/>
                    </a:lnTo>
                    <a:lnTo>
                      <a:pt x="610" y="74"/>
                    </a:lnTo>
                    <a:lnTo>
                      <a:pt x="545" y="85"/>
                    </a:lnTo>
                    <a:lnTo>
                      <a:pt x="482" y="97"/>
                    </a:lnTo>
                    <a:lnTo>
                      <a:pt x="422" y="109"/>
                    </a:lnTo>
                    <a:lnTo>
                      <a:pt x="366" y="120"/>
                    </a:lnTo>
                    <a:lnTo>
                      <a:pt x="314" y="133"/>
                    </a:lnTo>
                    <a:lnTo>
                      <a:pt x="269" y="147"/>
                    </a:lnTo>
                    <a:lnTo>
                      <a:pt x="235" y="159"/>
                    </a:lnTo>
                    <a:lnTo>
                      <a:pt x="181" y="183"/>
                    </a:lnTo>
                    <a:lnTo>
                      <a:pt x="80" y="242"/>
                    </a:lnTo>
                    <a:lnTo>
                      <a:pt x="19" y="290"/>
                    </a:lnTo>
                    <a:lnTo>
                      <a:pt x="20" y="307"/>
                    </a:lnTo>
                    <a:lnTo>
                      <a:pt x="19" y="290"/>
                    </a:lnTo>
                    <a:lnTo>
                      <a:pt x="0" y="310"/>
                    </a:lnTo>
                    <a:lnTo>
                      <a:pt x="20" y="307"/>
                    </a:lnTo>
                    <a:lnTo>
                      <a:pt x="238" y="1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3801960" y="3759120"/>
                <a:ext cx="328680" cy="77760"/>
              </a:xfrm>
              <a:custGeom>
                <a:avLst/>
                <a:gdLst/>
                <a:ahLst/>
                <a:rect l="l" t="t" r="r" b="b"/>
                <a:pathLst>
                  <a:path w="1033" h="245">
                    <a:moveTo>
                      <a:pt x="1031" y="91"/>
                    </a:moveTo>
                    <a:lnTo>
                      <a:pt x="1033" y="90"/>
                    </a:lnTo>
                    <a:lnTo>
                      <a:pt x="1007" y="96"/>
                    </a:lnTo>
                    <a:lnTo>
                      <a:pt x="980" y="99"/>
                    </a:lnTo>
                    <a:lnTo>
                      <a:pt x="951" y="101"/>
                    </a:lnTo>
                    <a:lnTo>
                      <a:pt x="923" y="103"/>
                    </a:lnTo>
                    <a:lnTo>
                      <a:pt x="893" y="104"/>
                    </a:lnTo>
                    <a:lnTo>
                      <a:pt x="863" y="104"/>
                    </a:lnTo>
                    <a:lnTo>
                      <a:pt x="834" y="103"/>
                    </a:lnTo>
                    <a:lnTo>
                      <a:pt x="804" y="100"/>
                    </a:lnTo>
                    <a:lnTo>
                      <a:pt x="774" y="97"/>
                    </a:lnTo>
                    <a:lnTo>
                      <a:pt x="745" y="93"/>
                    </a:lnTo>
                    <a:lnTo>
                      <a:pt x="715" y="90"/>
                    </a:lnTo>
                    <a:lnTo>
                      <a:pt x="687" y="85"/>
                    </a:lnTo>
                    <a:lnTo>
                      <a:pt x="629" y="75"/>
                    </a:lnTo>
                    <a:lnTo>
                      <a:pt x="573" y="63"/>
                    </a:lnTo>
                    <a:lnTo>
                      <a:pt x="465" y="39"/>
                    </a:lnTo>
                    <a:lnTo>
                      <a:pt x="370" y="17"/>
                    </a:lnTo>
                    <a:lnTo>
                      <a:pt x="328" y="8"/>
                    </a:lnTo>
                    <a:lnTo>
                      <a:pt x="288" y="2"/>
                    </a:lnTo>
                    <a:lnTo>
                      <a:pt x="269" y="1"/>
                    </a:lnTo>
                    <a:lnTo>
                      <a:pt x="252" y="0"/>
                    </a:lnTo>
                    <a:lnTo>
                      <a:pt x="235" y="0"/>
                    </a:lnTo>
                    <a:lnTo>
                      <a:pt x="218" y="0"/>
                    </a:lnTo>
                    <a:lnTo>
                      <a:pt x="0" y="141"/>
                    </a:lnTo>
                    <a:lnTo>
                      <a:pt x="12" y="141"/>
                    </a:lnTo>
                    <a:lnTo>
                      <a:pt x="25" y="141"/>
                    </a:lnTo>
                    <a:lnTo>
                      <a:pt x="41" y="143"/>
                    </a:lnTo>
                    <a:lnTo>
                      <a:pt x="59" y="144"/>
                    </a:lnTo>
                    <a:lnTo>
                      <a:pt x="96" y="151"/>
                    </a:lnTo>
                    <a:lnTo>
                      <a:pt x="139" y="158"/>
                    </a:lnTo>
                    <a:lnTo>
                      <a:pt x="235" y="180"/>
                    </a:lnTo>
                    <a:lnTo>
                      <a:pt x="341" y="204"/>
                    </a:lnTo>
                    <a:lnTo>
                      <a:pt x="398" y="217"/>
                    </a:lnTo>
                    <a:lnTo>
                      <a:pt x="456" y="227"/>
                    </a:lnTo>
                    <a:lnTo>
                      <a:pt x="486" y="232"/>
                    </a:lnTo>
                    <a:lnTo>
                      <a:pt x="516" y="235"/>
                    </a:lnTo>
                    <a:lnTo>
                      <a:pt x="546" y="238"/>
                    </a:lnTo>
                    <a:lnTo>
                      <a:pt x="576" y="242"/>
                    </a:lnTo>
                    <a:lnTo>
                      <a:pt x="607" y="244"/>
                    </a:lnTo>
                    <a:lnTo>
                      <a:pt x="638" y="245"/>
                    </a:lnTo>
                    <a:lnTo>
                      <a:pt x="668" y="245"/>
                    </a:lnTo>
                    <a:lnTo>
                      <a:pt x="699" y="245"/>
                    </a:lnTo>
                    <a:lnTo>
                      <a:pt x="730" y="243"/>
                    </a:lnTo>
                    <a:lnTo>
                      <a:pt x="761" y="241"/>
                    </a:lnTo>
                    <a:lnTo>
                      <a:pt x="793" y="236"/>
                    </a:lnTo>
                    <a:lnTo>
                      <a:pt x="826" y="230"/>
                    </a:lnTo>
                    <a:lnTo>
                      <a:pt x="828" y="229"/>
                    </a:lnTo>
                    <a:lnTo>
                      <a:pt x="826" y="230"/>
                    </a:lnTo>
                    <a:lnTo>
                      <a:pt x="827" y="230"/>
                    </a:lnTo>
                    <a:lnTo>
                      <a:pt x="828" y="229"/>
                    </a:lnTo>
                    <a:lnTo>
                      <a:pt x="1031" y="9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4065480" y="3778200"/>
                <a:ext cx="435240" cy="54000"/>
              </a:xfrm>
              <a:custGeom>
                <a:avLst/>
                <a:gdLst/>
                <a:ahLst/>
                <a:rect l="l" t="t" r="r" b="b"/>
                <a:pathLst>
                  <a:path w="1373" h="171">
                    <a:moveTo>
                      <a:pt x="863" y="142"/>
                    </a:moveTo>
                    <a:lnTo>
                      <a:pt x="1081" y="1"/>
                    </a:lnTo>
                    <a:lnTo>
                      <a:pt x="1060" y="4"/>
                    </a:lnTo>
                    <a:lnTo>
                      <a:pt x="1027" y="5"/>
                    </a:lnTo>
                    <a:lnTo>
                      <a:pt x="985" y="6"/>
                    </a:lnTo>
                    <a:lnTo>
                      <a:pt x="937" y="5"/>
                    </a:lnTo>
                    <a:lnTo>
                      <a:pt x="825" y="4"/>
                    </a:lnTo>
                    <a:lnTo>
                      <a:pt x="698" y="2"/>
                    </a:lnTo>
                    <a:lnTo>
                      <a:pt x="632" y="2"/>
                    </a:lnTo>
                    <a:lnTo>
                      <a:pt x="564" y="2"/>
                    </a:lnTo>
                    <a:lnTo>
                      <a:pt x="498" y="4"/>
                    </a:lnTo>
                    <a:lnTo>
                      <a:pt x="433" y="6"/>
                    </a:lnTo>
                    <a:lnTo>
                      <a:pt x="371" y="9"/>
                    </a:lnTo>
                    <a:lnTo>
                      <a:pt x="311" y="15"/>
                    </a:lnTo>
                    <a:lnTo>
                      <a:pt x="283" y="18"/>
                    </a:lnTo>
                    <a:lnTo>
                      <a:pt x="255" y="23"/>
                    </a:lnTo>
                    <a:lnTo>
                      <a:pt x="229" y="27"/>
                    </a:lnTo>
                    <a:lnTo>
                      <a:pt x="203" y="33"/>
                    </a:lnTo>
                    <a:lnTo>
                      <a:pt x="0" y="171"/>
                    </a:lnTo>
                    <a:lnTo>
                      <a:pt x="19" y="168"/>
                    </a:lnTo>
                    <a:lnTo>
                      <a:pt x="42" y="163"/>
                    </a:lnTo>
                    <a:lnTo>
                      <a:pt x="67" y="160"/>
                    </a:lnTo>
                    <a:lnTo>
                      <a:pt x="93" y="156"/>
                    </a:lnTo>
                    <a:lnTo>
                      <a:pt x="149" y="152"/>
                    </a:lnTo>
                    <a:lnTo>
                      <a:pt x="211" y="147"/>
                    </a:lnTo>
                    <a:lnTo>
                      <a:pt x="275" y="145"/>
                    </a:lnTo>
                    <a:lnTo>
                      <a:pt x="340" y="144"/>
                    </a:lnTo>
                    <a:lnTo>
                      <a:pt x="407" y="144"/>
                    </a:lnTo>
                    <a:lnTo>
                      <a:pt x="472" y="144"/>
                    </a:lnTo>
                    <a:lnTo>
                      <a:pt x="600" y="146"/>
                    </a:lnTo>
                    <a:lnTo>
                      <a:pt x="711" y="147"/>
                    </a:lnTo>
                    <a:lnTo>
                      <a:pt x="760" y="147"/>
                    </a:lnTo>
                    <a:lnTo>
                      <a:pt x="804" y="146"/>
                    </a:lnTo>
                    <a:lnTo>
                      <a:pt x="839" y="145"/>
                    </a:lnTo>
                    <a:lnTo>
                      <a:pt x="869" y="142"/>
                    </a:lnTo>
                    <a:lnTo>
                      <a:pt x="1086" y="0"/>
                    </a:lnTo>
                    <a:lnTo>
                      <a:pt x="869" y="142"/>
                    </a:lnTo>
                    <a:lnTo>
                      <a:pt x="1373" y="21"/>
                    </a:lnTo>
                    <a:lnTo>
                      <a:pt x="1086" y="0"/>
                    </a:lnTo>
                    <a:lnTo>
                      <a:pt x="863" y="14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5105520" y="3730680"/>
                <a:ext cx="536400" cy="95040"/>
              </a:xfrm>
              <a:custGeom>
                <a:avLst/>
                <a:gdLst/>
                <a:ahLst/>
                <a:rect l="l" t="t" r="r" b="b"/>
                <a:pathLst>
                  <a:path w="1693" h="299">
                    <a:moveTo>
                      <a:pt x="0" y="253"/>
                    </a:moveTo>
                    <a:lnTo>
                      <a:pt x="30" y="253"/>
                    </a:lnTo>
                    <a:lnTo>
                      <a:pt x="59" y="251"/>
                    </a:lnTo>
                    <a:lnTo>
                      <a:pt x="90" y="248"/>
                    </a:lnTo>
                    <a:lnTo>
                      <a:pt x="120" y="244"/>
                    </a:lnTo>
                    <a:lnTo>
                      <a:pt x="149" y="238"/>
                    </a:lnTo>
                    <a:lnTo>
                      <a:pt x="179" y="230"/>
                    </a:lnTo>
                    <a:lnTo>
                      <a:pt x="210" y="222"/>
                    </a:lnTo>
                    <a:lnTo>
                      <a:pt x="239" y="213"/>
                    </a:lnTo>
                    <a:lnTo>
                      <a:pt x="269" y="204"/>
                    </a:lnTo>
                    <a:lnTo>
                      <a:pt x="299" y="193"/>
                    </a:lnTo>
                    <a:lnTo>
                      <a:pt x="330" y="182"/>
                    </a:lnTo>
                    <a:lnTo>
                      <a:pt x="359" y="170"/>
                    </a:lnTo>
                    <a:lnTo>
                      <a:pt x="417" y="146"/>
                    </a:lnTo>
                    <a:lnTo>
                      <a:pt x="475" y="120"/>
                    </a:lnTo>
                    <a:lnTo>
                      <a:pt x="534" y="94"/>
                    </a:lnTo>
                    <a:lnTo>
                      <a:pt x="591" y="71"/>
                    </a:lnTo>
                    <a:lnTo>
                      <a:pt x="618" y="60"/>
                    </a:lnTo>
                    <a:lnTo>
                      <a:pt x="646" y="49"/>
                    </a:lnTo>
                    <a:lnTo>
                      <a:pt x="674" y="40"/>
                    </a:lnTo>
                    <a:lnTo>
                      <a:pt x="701" y="31"/>
                    </a:lnTo>
                    <a:lnTo>
                      <a:pt x="727" y="21"/>
                    </a:lnTo>
                    <a:lnTo>
                      <a:pt x="755" y="15"/>
                    </a:lnTo>
                    <a:lnTo>
                      <a:pt x="781" y="9"/>
                    </a:lnTo>
                    <a:lnTo>
                      <a:pt x="807" y="4"/>
                    </a:lnTo>
                    <a:lnTo>
                      <a:pt x="832" y="1"/>
                    </a:lnTo>
                    <a:lnTo>
                      <a:pt x="857" y="0"/>
                    </a:lnTo>
                    <a:lnTo>
                      <a:pt x="882" y="0"/>
                    </a:lnTo>
                    <a:lnTo>
                      <a:pt x="906" y="2"/>
                    </a:lnTo>
                    <a:lnTo>
                      <a:pt x="919" y="9"/>
                    </a:lnTo>
                    <a:lnTo>
                      <a:pt x="934" y="16"/>
                    </a:lnTo>
                    <a:lnTo>
                      <a:pt x="951" y="23"/>
                    </a:lnTo>
                    <a:lnTo>
                      <a:pt x="970" y="28"/>
                    </a:lnTo>
                    <a:lnTo>
                      <a:pt x="1015" y="42"/>
                    </a:lnTo>
                    <a:lnTo>
                      <a:pt x="1068" y="55"/>
                    </a:lnTo>
                    <a:lnTo>
                      <a:pt x="1125" y="67"/>
                    </a:lnTo>
                    <a:lnTo>
                      <a:pt x="1188" y="79"/>
                    </a:lnTo>
                    <a:lnTo>
                      <a:pt x="1253" y="90"/>
                    </a:lnTo>
                    <a:lnTo>
                      <a:pt x="1318" y="101"/>
                    </a:lnTo>
                    <a:lnTo>
                      <a:pt x="1383" y="114"/>
                    </a:lnTo>
                    <a:lnTo>
                      <a:pt x="1446" y="125"/>
                    </a:lnTo>
                    <a:lnTo>
                      <a:pt x="1506" y="137"/>
                    </a:lnTo>
                    <a:lnTo>
                      <a:pt x="1560" y="148"/>
                    </a:lnTo>
                    <a:lnTo>
                      <a:pt x="1607" y="160"/>
                    </a:lnTo>
                    <a:lnTo>
                      <a:pt x="1646" y="171"/>
                    </a:lnTo>
                    <a:lnTo>
                      <a:pt x="1662" y="177"/>
                    </a:lnTo>
                    <a:lnTo>
                      <a:pt x="1676" y="182"/>
                    </a:lnTo>
                    <a:lnTo>
                      <a:pt x="1686" y="189"/>
                    </a:lnTo>
                    <a:lnTo>
                      <a:pt x="1693" y="195"/>
                    </a:lnTo>
                    <a:lnTo>
                      <a:pt x="1679" y="194"/>
                    </a:lnTo>
                    <a:lnTo>
                      <a:pt x="1663" y="194"/>
                    </a:lnTo>
                    <a:lnTo>
                      <a:pt x="1647" y="195"/>
                    </a:lnTo>
                    <a:lnTo>
                      <a:pt x="1629" y="197"/>
                    </a:lnTo>
                    <a:lnTo>
                      <a:pt x="1590" y="203"/>
                    </a:lnTo>
                    <a:lnTo>
                      <a:pt x="1548" y="212"/>
                    </a:lnTo>
                    <a:lnTo>
                      <a:pt x="1452" y="234"/>
                    </a:lnTo>
                    <a:lnTo>
                      <a:pt x="1345" y="258"/>
                    </a:lnTo>
                    <a:lnTo>
                      <a:pt x="1289" y="269"/>
                    </a:lnTo>
                    <a:lnTo>
                      <a:pt x="1231" y="279"/>
                    </a:lnTo>
                    <a:lnTo>
                      <a:pt x="1202" y="284"/>
                    </a:lnTo>
                    <a:lnTo>
                      <a:pt x="1172" y="288"/>
                    </a:lnTo>
                    <a:lnTo>
                      <a:pt x="1142" y="292"/>
                    </a:lnTo>
                    <a:lnTo>
                      <a:pt x="1113" y="294"/>
                    </a:lnTo>
                    <a:lnTo>
                      <a:pt x="1082" y="296"/>
                    </a:lnTo>
                    <a:lnTo>
                      <a:pt x="1052" y="298"/>
                    </a:lnTo>
                    <a:lnTo>
                      <a:pt x="1022" y="299"/>
                    </a:lnTo>
                    <a:lnTo>
                      <a:pt x="992" y="298"/>
                    </a:lnTo>
                    <a:lnTo>
                      <a:pt x="962" y="296"/>
                    </a:lnTo>
                    <a:lnTo>
                      <a:pt x="931" y="293"/>
                    </a:lnTo>
                    <a:lnTo>
                      <a:pt x="903" y="290"/>
                    </a:lnTo>
                    <a:lnTo>
                      <a:pt x="873" y="284"/>
                    </a:lnTo>
                    <a:lnTo>
                      <a:pt x="851" y="279"/>
                    </a:lnTo>
                    <a:lnTo>
                      <a:pt x="825" y="275"/>
                    </a:lnTo>
                    <a:lnTo>
                      <a:pt x="799" y="271"/>
                    </a:lnTo>
                    <a:lnTo>
                      <a:pt x="772" y="268"/>
                    </a:lnTo>
                    <a:lnTo>
                      <a:pt x="714" y="262"/>
                    </a:lnTo>
                    <a:lnTo>
                      <a:pt x="652" y="259"/>
                    </a:lnTo>
                    <a:lnTo>
                      <a:pt x="588" y="256"/>
                    </a:lnTo>
                    <a:lnTo>
                      <a:pt x="522" y="255"/>
                    </a:lnTo>
                    <a:lnTo>
                      <a:pt x="456" y="254"/>
                    </a:lnTo>
                    <a:lnTo>
                      <a:pt x="390" y="255"/>
                    </a:lnTo>
                    <a:lnTo>
                      <a:pt x="262" y="256"/>
                    </a:lnTo>
                    <a:lnTo>
                      <a:pt x="149" y="258"/>
                    </a:lnTo>
                    <a:lnTo>
                      <a:pt x="102" y="258"/>
                    </a:lnTo>
                    <a:lnTo>
                      <a:pt x="59" y="258"/>
                    </a:lnTo>
                    <a:lnTo>
                      <a:pt x="25" y="255"/>
                    </a:lnTo>
                    <a:lnTo>
                      <a:pt x="0" y="25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5068800" y="3708360"/>
                <a:ext cx="362160" cy="125280"/>
              </a:xfrm>
              <a:custGeom>
                <a:avLst/>
                <a:gdLst/>
                <a:ahLst/>
                <a:rect l="l" t="t" r="r" b="b"/>
                <a:pathLst>
                  <a:path w="1138" h="395">
                    <a:moveTo>
                      <a:pt x="1138" y="2"/>
                    </a:moveTo>
                    <a:lnTo>
                      <a:pt x="1135" y="2"/>
                    </a:lnTo>
                    <a:lnTo>
                      <a:pt x="1108" y="0"/>
                    </a:lnTo>
                    <a:lnTo>
                      <a:pt x="1082" y="0"/>
                    </a:lnTo>
                    <a:lnTo>
                      <a:pt x="1055" y="1"/>
                    </a:lnTo>
                    <a:lnTo>
                      <a:pt x="1027" y="5"/>
                    </a:lnTo>
                    <a:lnTo>
                      <a:pt x="999" y="10"/>
                    </a:lnTo>
                    <a:lnTo>
                      <a:pt x="969" y="16"/>
                    </a:lnTo>
                    <a:lnTo>
                      <a:pt x="938" y="25"/>
                    </a:lnTo>
                    <a:lnTo>
                      <a:pt x="907" y="34"/>
                    </a:lnTo>
                    <a:lnTo>
                      <a:pt x="873" y="46"/>
                    </a:lnTo>
                    <a:lnTo>
                      <a:pt x="842" y="57"/>
                    </a:lnTo>
                    <a:lnTo>
                      <a:pt x="808" y="70"/>
                    </a:lnTo>
                    <a:lnTo>
                      <a:pt x="774" y="83"/>
                    </a:lnTo>
                    <a:lnTo>
                      <a:pt x="713" y="110"/>
                    </a:lnTo>
                    <a:lnTo>
                      <a:pt x="653" y="135"/>
                    </a:lnTo>
                    <a:lnTo>
                      <a:pt x="598" y="160"/>
                    </a:lnTo>
                    <a:lnTo>
                      <a:pt x="543" y="181"/>
                    </a:lnTo>
                    <a:lnTo>
                      <a:pt x="520" y="192"/>
                    </a:lnTo>
                    <a:lnTo>
                      <a:pt x="495" y="201"/>
                    </a:lnTo>
                    <a:lnTo>
                      <a:pt x="470" y="210"/>
                    </a:lnTo>
                    <a:lnTo>
                      <a:pt x="445" y="218"/>
                    </a:lnTo>
                    <a:lnTo>
                      <a:pt x="420" y="226"/>
                    </a:lnTo>
                    <a:lnTo>
                      <a:pt x="394" y="233"/>
                    </a:lnTo>
                    <a:lnTo>
                      <a:pt x="366" y="238"/>
                    </a:lnTo>
                    <a:lnTo>
                      <a:pt x="339" y="244"/>
                    </a:lnTo>
                    <a:lnTo>
                      <a:pt x="311" y="249"/>
                    </a:lnTo>
                    <a:lnTo>
                      <a:pt x="283" y="251"/>
                    </a:lnTo>
                    <a:lnTo>
                      <a:pt x="254" y="253"/>
                    </a:lnTo>
                    <a:lnTo>
                      <a:pt x="226" y="253"/>
                    </a:lnTo>
                    <a:lnTo>
                      <a:pt x="0" y="395"/>
                    </a:lnTo>
                    <a:lnTo>
                      <a:pt x="31" y="395"/>
                    </a:lnTo>
                    <a:lnTo>
                      <a:pt x="62" y="394"/>
                    </a:lnTo>
                    <a:lnTo>
                      <a:pt x="94" y="390"/>
                    </a:lnTo>
                    <a:lnTo>
                      <a:pt x="127" y="385"/>
                    </a:lnTo>
                    <a:lnTo>
                      <a:pt x="159" y="379"/>
                    </a:lnTo>
                    <a:lnTo>
                      <a:pt x="192" y="371"/>
                    </a:lnTo>
                    <a:lnTo>
                      <a:pt x="226" y="362"/>
                    </a:lnTo>
                    <a:lnTo>
                      <a:pt x="260" y="351"/>
                    </a:lnTo>
                    <a:lnTo>
                      <a:pt x="294" y="340"/>
                    </a:lnTo>
                    <a:lnTo>
                      <a:pt x="330" y="327"/>
                    </a:lnTo>
                    <a:lnTo>
                      <a:pt x="364" y="315"/>
                    </a:lnTo>
                    <a:lnTo>
                      <a:pt x="400" y="300"/>
                    </a:lnTo>
                    <a:lnTo>
                      <a:pt x="464" y="274"/>
                    </a:lnTo>
                    <a:lnTo>
                      <a:pt x="525" y="246"/>
                    </a:lnTo>
                    <a:lnTo>
                      <a:pt x="580" y="223"/>
                    </a:lnTo>
                    <a:lnTo>
                      <a:pt x="633" y="201"/>
                    </a:lnTo>
                    <a:lnTo>
                      <a:pt x="655" y="192"/>
                    </a:lnTo>
                    <a:lnTo>
                      <a:pt x="677" y="184"/>
                    </a:lnTo>
                    <a:lnTo>
                      <a:pt x="699" y="175"/>
                    </a:lnTo>
                    <a:lnTo>
                      <a:pt x="722" y="168"/>
                    </a:lnTo>
                    <a:lnTo>
                      <a:pt x="744" y="161"/>
                    </a:lnTo>
                    <a:lnTo>
                      <a:pt x="766" y="155"/>
                    </a:lnTo>
                    <a:lnTo>
                      <a:pt x="789" y="151"/>
                    </a:lnTo>
                    <a:lnTo>
                      <a:pt x="812" y="146"/>
                    </a:lnTo>
                    <a:lnTo>
                      <a:pt x="836" y="144"/>
                    </a:lnTo>
                    <a:lnTo>
                      <a:pt x="859" y="142"/>
                    </a:lnTo>
                    <a:lnTo>
                      <a:pt x="883" y="142"/>
                    </a:lnTo>
                    <a:lnTo>
                      <a:pt x="905" y="144"/>
                    </a:lnTo>
                    <a:lnTo>
                      <a:pt x="902" y="143"/>
                    </a:lnTo>
                    <a:lnTo>
                      <a:pt x="1138" y="2"/>
                    </a:lnTo>
                    <a:lnTo>
                      <a:pt x="1137" y="2"/>
                    </a:lnTo>
                    <a:lnTo>
                      <a:pt x="1135" y="2"/>
                    </a:lnTo>
                    <a:lnTo>
                      <a:pt x="1138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5354640" y="3708360"/>
                <a:ext cx="352440" cy="109440"/>
              </a:xfrm>
              <a:custGeom>
                <a:avLst/>
                <a:gdLst/>
                <a:ahLst/>
                <a:rect l="l" t="t" r="r" b="b"/>
                <a:pathLst>
                  <a:path w="1106" h="346">
                    <a:moveTo>
                      <a:pt x="790" y="335"/>
                    </a:moveTo>
                    <a:lnTo>
                      <a:pt x="1023" y="194"/>
                    </a:lnTo>
                    <a:lnTo>
                      <a:pt x="1015" y="187"/>
                    </a:lnTo>
                    <a:lnTo>
                      <a:pt x="1003" y="182"/>
                    </a:lnTo>
                    <a:lnTo>
                      <a:pt x="989" y="176"/>
                    </a:lnTo>
                    <a:lnTo>
                      <a:pt x="974" y="169"/>
                    </a:lnTo>
                    <a:lnTo>
                      <a:pt x="934" y="158"/>
                    </a:lnTo>
                    <a:lnTo>
                      <a:pt x="886" y="146"/>
                    </a:lnTo>
                    <a:lnTo>
                      <a:pt x="832" y="135"/>
                    </a:lnTo>
                    <a:lnTo>
                      <a:pt x="773" y="124"/>
                    </a:lnTo>
                    <a:lnTo>
                      <a:pt x="710" y="112"/>
                    </a:lnTo>
                    <a:lnTo>
                      <a:pt x="644" y="100"/>
                    </a:lnTo>
                    <a:lnTo>
                      <a:pt x="579" y="88"/>
                    </a:lnTo>
                    <a:lnTo>
                      <a:pt x="514" y="77"/>
                    </a:lnTo>
                    <a:lnTo>
                      <a:pt x="453" y="65"/>
                    </a:lnTo>
                    <a:lnTo>
                      <a:pt x="394" y="53"/>
                    </a:lnTo>
                    <a:lnTo>
                      <a:pt x="342" y="40"/>
                    </a:lnTo>
                    <a:lnTo>
                      <a:pt x="298" y="28"/>
                    </a:lnTo>
                    <a:lnTo>
                      <a:pt x="278" y="21"/>
                    </a:lnTo>
                    <a:lnTo>
                      <a:pt x="261" y="14"/>
                    </a:lnTo>
                    <a:lnTo>
                      <a:pt x="247" y="7"/>
                    </a:lnTo>
                    <a:lnTo>
                      <a:pt x="236" y="0"/>
                    </a:lnTo>
                    <a:lnTo>
                      <a:pt x="0" y="141"/>
                    </a:lnTo>
                    <a:lnTo>
                      <a:pt x="13" y="148"/>
                    </a:lnTo>
                    <a:lnTo>
                      <a:pt x="27" y="154"/>
                    </a:lnTo>
                    <a:lnTo>
                      <a:pt x="44" y="161"/>
                    </a:lnTo>
                    <a:lnTo>
                      <a:pt x="65" y="168"/>
                    </a:lnTo>
                    <a:lnTo>
                      <a:pt x="111" y="182"/>
                    </a:lnTo>
                    <a:lnTo>
                      <a:pt x="163" y="194"/>
                    </a:lnTo>
                    <a:lnTo>
                      <a:pt x="221" y="206"/>
                    </a:lnTo>
                    <a:lnTo>
                      <a:pt x="284" y="218"/>
                    </a:lnTo>
                    <a:lnTo>
                      <a:pt x="348" y="230"/>
                    </a:lnTo>
                    <a:lnTo>
                      <a:pt x="414" y="242"/>
                    </a:lnTo>
                    <a:lnTo>
                      <a:pt x="479" y="254"/>
                    </a:lnTo>
                    <a:lnTo>
                      <a:pt x="541" y="265"/>
                    </a:lnTo>
                    <a:lnTo>
                      <a:pt x="601" y="276"/>
                    </a:lnTo>
                    <a:lnTo>
                      <a:pt x="655" y="287"/>
                    </a:lnTo>
                    <a:lnTo>
                      <a:pt x="702" y="299"/>
                    </a:lnTo>
                    <a:lnTo>
                      <a:pt x="741" y="311"/>
                    </a:lnTo>
                    <a:lnTo>
                      <a:pt x="756" y="316"/>
                    </a:lnTo>
                    <a:lnTo>
                      <a:pt x="769" y="322"/>
                    </a:lnTo>
                    <a:lnTo>
                      <a:pt x="779" y="328"/>
                    </a:lnTo>
                    <a:lnTo>
                      <a:pt x="787" y="333"/>
                    </a:lnTo>
                    <a:lnTo>
                      <a:pt x="1019" y="193"/>
                    </a:lnTo>
                    <a:lnTo>
                      <a:pt x="790" y="335"/>
                    </a:lnTo>
                    <a:lnTo>
                      <a:pt x="1106" y="346"/>
                    </a:lnTo>
                    <a:lnTo>
                      <a:pt x="1023" y="194"/>
                    </a:lnTo>
                    <a:lnTo>
                      <a:pt x="790" y="3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5345280" y="3770280"/>
                <a:ext cx="333360" cy="77760"/>
              </a:xfrm>
              <a:custGeom>
                <a:avLst/>
                <a:gdLst/>
                <a:ahLst/>
                <a:rect l="l" t="t" r="r" b="b"/>
                <a:pathLst>
                  <a:path w="1051" h="246">
                    <a:moveTo>
                      <a:pt x="0" y="232"/>
                    </a:moveTo>
                    <a:lnTo>
                      <a:pt x="1" y="232"/>
                    </a:lnTo>
                    <a:lnTo>
                      <a:pt x="31" y="237"/>
                    </a:lnTo>
                    <a:lnTo>
                      <a:pt x="60" y="241"/>
                    </a:lnTo>
                    <a:lnTo>
                      <a:pt x="91" y="244"/>
                    </a:lnTo>
                    <a:lnTo>
                      <a:pt x="121" y="245"/>
                    </a:lnTo>
                    <a:lnTo>
                      <a:pt x="153" y="246"/>
                    </a:lnTo>
                    <a:lnTo>
                      <a:pt x="184" y="246"/>
                    </a:lnTo>
                    <a:lnTo>
                      <a:pt x="214" y="244"/>
                    </a:lnTo>
                    <a:lnTo>
                      <a:pt x="245" y="243"/>
                    </a:lnTo>
                    <a:lnTo>
                      <a:pt x="276" y="240"/>
                    </a:lnTo>
                    <a:lnTo>
                      <a:pt x="307" y="236"/>
                    </a:lnTo>
                    <a:lnTo>
                      <a:pt x="337" y="232"/>
                    </a:lnTo>
                    <a:lnTo>
                      <a:pt x="368" y="227"/>
                    </a:lnTo>
                    <a:lnTo>
                      <a:pt x="428" y="217"/>
                    </a:lnTo>
                    <a:lnTo>
                      <a:pt x="486" y="204"/>
                    </a:lnTo>
                    <a:lnTo>
                      <a:pt x="593" y="180"/>
                    </a:lnTo>
                    <a:lnTo>
                      <a:pt x="687" y="159"/>
                    </a:lnTo>
                    <a:lnTo>
                      <a:pt x="727" y="151"/>
                    </a:lnTo>
                    <a:lnTo>
                      <a:pt x="764" y="145"/>
                    </a:lnTo>
                    <a:lnTo>
                      <a:pt x="780" y="143"/>
                    </a:lnTo>
                    <a:lnTo>
                      <a:pt x="795" y="143"/>
                    </a:lnTo>
                    <a:lnTo>
                      <a:pt x="809" y="141"/>
                    </a:lnTo>
                    <a:lnTo>
                      <a:pt x="822" y="143"/>
                    </a:lnTo>
                    <a:lnTo>
                      <a:pt x="1051" y="1"/>
                    </a:lnTo>
                    <a:lnTo>
                      <a:pt x="1035" y="0"/>
                    </a:lnTo>
                    <a:lnTo>
                      <a:pt x="1018" y="0"/>
                    </a:lnTo>
                    <a:lnTo>
                      <a:pt x="1000" y="1"/>
                    </a:lnTo>
                    <a:lnTo>
                      <a:pt x="980" y="3"/>
                    </a:lnTo>
                    <a:lnTo>
                      <a:pt x="939" y="10"/>
                    </a:lnTo>
                    <a:lnTo>
                      <a:pt x="894" y="19"/>
                    </a:lnTo>
                    <a:lnTo>
                      <a:pt x="798" y="41"/>
                    </a:lnTo>
                    <a:lnTo>
                      <a:pt x="692" y="65"/>
                    </a:lnTo>
                    <a:lnTo>
                      <a:pt x="637" y="76"/>
                    </a:lnTo>
                    <a:lnTo>
                      <a:pt x="580" y="87"/>
                    </a:lnTo>
                    <a:lnTo>
                      <a:pt x="552" y="91"/>
                    </a:lnTo>
                    <a:lnTo>
                      <a:pt x="523" y="95"/>
                    </a:lnTo>
                    <a:lnTo>
                      <a:pt x="495" y="98"/>
                    </a:lnTo>
                    <a:lnTo>
                      <a:pt x="465" y="100"/>
                    </a:lnTo>
                    <a:lnTo>
                      <a:pt x="437" y="103"/>
                    </a:lnTo>
                    <a:lnTo>
                      <a:pt x="407" y="104"/>
                    </a:lnTo>
                    <a:lnTo>
                      <a:pt x="377" y="105"/>
                    </a:lnTo>
                    <a:lnTo>
                      <a:pt x="348" y="104"/>
                    </a:lnTo>
                    <a:lnTo>
                      <a:pt x="318" y="103"/>
                    </a:lnTo>
                    <a:lnTo>
                      <a:pt x="290" y="99"/>
                    </a:lnTo>
                    <a:lnTo>
                      <a:pt x="260" y="96"/>
                    </a:lnTo>
                    <a:lnTo>
                      <a:pt x="231" y="90"/>
                    </a:lnTo>
                    <a:lnTo>
                      <a:pt x="231" y="90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1" y="232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5033880" y="3787920"/>
                <a:ext cx="384120" cy="55440"/>
              </a:xfrm>
              <a:custGeom>
                <a:avLst/>
                <a:gdLst/>
                <a:ahLst/>
                <a:rect l="l" t="t" r="r" b="b"/>
                <a:pathLst>
                  <a:path w="1211" h="173">
                    <a:moveTo>
                      <a:pt x="336" y="0"/>
                    </a:moveTo>
                    <a:lnTo>
                      <a:pt x="108" y="142"/>
                    </a:lnTo>
                    <a:lnTo>
                      <a:pt x="134" y="145"/>
                    </a:lnTo>
                    <a:lnTo>
                      <a:pt x="170" y="146"/>
                    </a:lnTo>
                    <a:lnTo>
                      <a:pt x="212" y="148"/>
                    </a:lnTo>
                    <a:lnTo>
                      <a:pt x="261" y="148"/>
                    </a:lnTo>
                    <a:lnTo>
                      <a:pt x="374" y="145"/>
                    </a:lnTo>
                    <a:lnTo>
                      <a:pt x="500" y="144"/>
                    </a:lnTo>
                    <a:lnTo>
                      <a:pt x="566" y="143"/>
                    </a:lnTo>
                    <a:lnTo>
                      <a:pt x="632" y="144"/>
                    </a:lnTo>
                    <a:lnTo>
                      <a:pt x="698" y="145"/>
                    </a:lnTo>
                    <a:lnTo>
                      <a:pt x="762" y="148"/>
                    </a:lnTo>
                    <a:lnTo>
                      <a:pt x="823" y="151"/>
                    </a:lnTo>
                    <a:lnTo>
                      <a:pt x="881" y="157"/>
                    </a:lnTo>
                    <a:lnTo>
                      <a:pt x="908" y="160"/>
                    </a:lnTo>
                    <a:lnTo>
                      <a:pt x="933" y="163"/>
                    </a:lnTo>
                    <a:lnTo>
                      <a:pt x="957" y="168"/>
                    </a:lnTo>
                    <a:lnTo>
                      <a:pt x="980" y="173"/>
                    </a:lnTo>
                    <a:lnTo>
                      <a:pt x="1211" y="31"/>
                    </a:lnTo>
                    <a:lnTo>
                      <a:pt x="1189" y="27"/>
                    </a:lnTo>
                    <a:lnTo>
                      <a:pt x="1164" y="22"/>
                    </a:lnTo>
                    <a:lnTo>
                      <a:pt x="1137" y="19"/>
                    </a:lnTo>
                    <a:lnTo>
                      <a:pt x="1109" y="15"/>
                    </a:lnTo>
                    <a:lnTo>
                      <a:pt x="1051" y="9"/>
                    </a:lnTo>
                    <a:lnTo>
                      <a:pt x="989" y="6"/>
                    </a:lnTo>
                    <a:lnTo>
                      <a:pt x="924" y="4"/>
                    </a:lnTo>
                    <a:lnTo>
                      <a:pt x="858" y="1"/>
                    </a:lnTo>
                    <a:lnTo>
                      <a:pt x="791" y="1"/>
                    </a:lnTo>
                    <a:lnTo>
                      <a:pt x="725" y="1"/>
                    </a:lnTo>
                    <a:lnTo>
                      <a:pt x="598" y="4"/>
                    </a:lnTo>
                    <a:lnTo>
                      <a:pt x="485" y="5"/>
                    </a:lnTo>
                    <a:lnTo>
                      <a:pt x="437" y="5"/>
                    </a:lnTo>
                    <a:lnTo>
                      <a:pt x="395" y="5"/>
                    </a:lnTo>
                    <a:lnTo>
                      <a:pt x="362" y="3"/>
                    </a:lnTo>
                    <a:lnTo>
                      <a:pt x="338" y="0"/>
                    </a:lnTo>
                    <a:lnTo>
                      <a:pt x="110" y="142"/>
                    </a:lnTo>
                    <a:lnTo>
                      <a:pt x="336" y="0"/>
                    </a:lnTo>
                    <a:lnTo>
                      <a:pt x="0" y="44"/>
                    </a:lnTo>
                    <a:lnTo>
                      <a:pt x="108" y="142"/>
                    </a:lnTo>
                    <a:lnTo>
                      <a:pt x="33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2592360" y="357984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409" h="136">
                    <a:moveTo>
                      <a:pt x="0" y="0"/>
                    </a:moveTo>
                    <a:lnTo>
                      <a:pt x="60" y="6"/>
                    </a:lnTo>
                    <a:lnTo>
                      <a:pt x="124" y="11"/>
                    </a:lnTo>
                    <a:lnTo>
                      <a:pt x="187" y="15"/>
                    </a:lnTo>
                    <a:lnTo>
                      <a:pt x="247" y="20"/>
                    </a:lnTo>
                    <a:lnTo>
                      <a:pt x="276" y="23"/>
                    </a:lnTo>
                    <a:lnTo>
                      <a:pt x="302" y="27"/>
                    </a:lnTo>
                    <a:lnTo>
                      <a:pt x="327" y="30"/>
                    </a:lnTo>
                    <a:lnTo>
                      <a:pt x="349" y="35"/>
                    </a:lnTo>
                    <a:lnTo>
                      <a:pt x="369" y="39"/>
                    </a:lnTo>
                    <a:lnTo>
                      <a:pt x="387" y="46"/>
                    </a:lnTo>
                    <a:lnTo>
                      <a:pt x="393" y="49"/>
                    </a:lnTo>
                    <a:lnTo>
                      <a:pt x="399" y="53"/>
                    </a:lnTo>
                    <a:lnTo>
                      <a:pt x="405" y="56"/>
                    </a:lnTo>
                    <a:lnTo>
                      <a:pt x="409" y="61"/>
                    </a:lnTo>
                    <a:lnTo>
                      <a:pt x="391" y="60"/>
                    </a:lnTo>
                    <a:lnTo>
                      <a:pt x="372" y="60"/>
                    </a:lnTo>
                    <a:lnTo>
                      <a:pt x="351" y="62"/>
                    </a:lnTo>
                    <a:lnTo>
                      <a:pt x="331" y="64"/>
                    </a:lnTo>
                    <a:lnTo>
                      <a:pt x="284" y="73"/>
                    </a:lnTo>
                    <a:lnTo>
                      <a:pt x="235" y="85"/>
                    </a:lnTo>
                    <a:lnTo>
                      <a:pt x="180" y="98"/>
                    </a:lnTo>
                    <a:lnTo>
                      <a:pt x="123" y="112"/>
                    </a:lnTo>
                    <a:lnTo>
                      <a:pt x="94" y="119"/>
                    </a:lnTo>
                    <a:lnTo>
                      <a:pt x="63" y="125"/>
                    </a:lnTo>
                    <a:lnTo>
                      <a:pt x="32" y="132"/>
                    </a:lnTo>
                    <a:lnTo>
                      <a:pt x="0" y="1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2592360" y="3560760"/>
                <a:ext cx="169920" cy="61920"/>
              </a:xfrm>
              <a:custGeom>
                <a:avLst/>
                <a:gdLst/>
                <a:ahLst/>
                <a:rect l="l" t="t" r="r" b="b"/>
                <a:pathLst>
                  <a:path w="539" h="194">
                    <a:moveTo>
                      <a:pt x="519" y="193"/>
                    </a:moveTo>
                    <a:lnTo>
                      <a:pt x="520" y="174"/>
                    </a:lnTo>
                    <a:lnTo>
                      <a:pt x="472" y="135"/>
                    </a:lnTo>
                    <a:lnTo>
                      <a:pt x="372" y="74"/>
                    </a:lnTo>
                    <a:lnTo>
                      <a:pt x="310" y="45"/>
                    </a:lnTo>
                    <a:lnTo>
                      <a:pt x="279" y="35"/>
                    </a:lnTo>
                    <a:lnTo>
                      <a:pt x="258" y="28"/>
                    </a:lnTo>
                    <a:lnTo>
                      <a:pt x="239" y="24"/>
                    </a:lnTo>
                    <a:lnTo>
                      <a:pt x="221" y="21"/>
                    </a:lnTo>
                    <a:lnTo>
                      <a:pt x="202" y="18"/>
                    </a:lnTo>
                    <a:lnTo>
                      <a:pt x="162" y="12"/>
                    </a:lnTo>
                    <a:lnTo>
                      <a:pt x="121" y="9"/>
                    </a:lnTo>
                    <a:lnTo>
                      <a:pt x="76" y="5"/>
                    </a:lnTo>
                    <a:lnTo>
                      <a:pt x="32" y="2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9" y="115"/>
                    </a:lnTo>
                    <a:lnTo>
                      <a:pt x="31" y="120"/>
                    </a:lnTo>
                    <a:lnTo>
                      <a:pt x="51" y="123"/>
                    </a:lnTo>
                    <a:lnTo>
                      <a:pt x="73" y="126"/>
                    </a:lnTo>
                    <a:lnTo>
                      <a:pt x="116" y="132"/>
                    </a:lnTo>
                    <a:lnTo>
                      <a:pt x="161" y="137"/>
                    </a:lnTo>
                    <a:lnTo>
                      <a:pt x="206" y="141"/>
                    </a:lnTo>
                    <a:lnTo>
                      <a:pt x="252" y="143"/>
                    </a:lnTo>
                    <a:lnTo>
                      <a:pt x="298" y="147"/>
                    </a:lnTo>
                    <a:lnTo>
                      <a:pt x="340" y="150"/>
                    </a:lnTo>
                    <a:lnTo>
                      <a:pt x="381" y="155"/>
                    </a:lnTo>
                    <a:lnTo>
                      <a:pt x="417" y="158"/>
                    </a:lnTo>
                    <a:lnTo>
                      <a:pt x="433" y="162"/>
                    </a:lnTo>
                    <a:lnTo>
                      <a:pt x="447" y="164"/>
                    </a:lnTo>
                    <a:lnTo>
                      <a:pt x="458" y="166"/>
                    </a:lnTo>
                    <a:lnTo>
                      <a:pt x="464" y="169"/>
                    </a:lnTo>
                    <a:lnTo>
                      <a:pt x="457" y="165"/>
                    </a:lnTo>
                    <a:lnTo>
                      <a:pt x="417" y="147"/>
                    </a:lnTo>
                    <a:lnTo>
                      <a:pt x="333" y="96"/>
                    </a:lnTo>
                    <a:lnTo>
                      <a:pt x="300" y="68"/>
                    </a:lnTo>
                    <a:lnTo>
                      <a:pt x="300" y="51"/>
                    </a:lnTo>
                    <a:lnTo>
                      <a:pt x="519" y="193"/>
                    </a:lnTo>
                    <a:lnTo>
                      <a:pt x="539" y="194"/>
                    </a:lnTo>
                    <a:lnTo>
                      <a:pt x="520" y="174"/>
                    </a:lnTo>
                    <a:lnTo>
                      <a:pt x="519" y="1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2592360" y="3576600"/>
                <a:ext cx="163440" cy="73080"/>
              </a:xfrm>
              <a:custGeom>
                <a:avLst/>
                <a:gdLst/>
                <a:ahLst/>
                <a:rect l="l" t="t" r="r" b="b"/>
                <a:pathLst>
                  <a:path w="519" h="229">
                    <a:moveTo>
                      <a:pt x="0" y="229"/>
                    </a:moveTo>
                    <a:lnTo>
                      <a:pt x="7" y="228"/>
                    </a:lnTo>
                    <a:lnTo>
                      <a:pt x="34" y="227"/>
                    </a:lnTo>
                    <a:lnTo>
                      <a:pt x="60" y="225"/>
                    </a:lnTo>
                    <a:lnTo>
                      <a:pt x="87" y="221"/>
                    </a:lnTo>
                    <a:lnTo>
                      <a:pt x="112" y="218"/>
                    </a:lnTo>
                    <a:lnTo>
                      <a:pt x="137" y="214"/>
                    </a:lnTo>
                    <a:lnTo>
                      <a:pt x="186" y="205"/>
                    </a:lnTo>
                    <a:lnTo>
                      <a:pt x="231" y="195"/>
                    </a:lnTo>
                    <a:lnTo>
                      <a:pt x="318" y="174"/>
                    </a:lnTo>
                    <a:lnTo>
                      <a:pt x="397" y="155"/>
                    </a:lnTo>
                    <a:lnTo>
                      <a:pt x="432" y="148"/>
                    </a:lnTo>
                    <a:lnTo>
                      <a:pt x="465" y="144"/>
                    </a:lnTo>
                    <a:lnTo>
                      <a:pt x="480" y="143"/>
                    </a:lnTo>
                    <a:lnTo>
                      <a:pt x="494" y="141"/>
                    </a:lnTo>
                    <a:lnTo>
                      <a:pt x="507" y="141"/>
                    </a:lnTo>
                    <a:lnTo>
                      <a:pt x="519" y="143"/>
                    </a:lnTo>
                    <a:lnTo>
                      <a:pt x="300" y="1"/>
                    </a:lnTo>
                    <a:lnTo>
                      <a:pt x="284" y="0"/>
                    </a:lnTo>
                    <a:lnTo>
                      <a:pt x="268" y="0"/>
                    </a:lnTo>
                    <a:lnTo>
                      <a:pt x="252" y="0"/>
                    </a:lnTo>
                    <a:lnTo>
                      <a:pt x="235" y="2"/>
                    </a:lnTo>
                    <a:lnTo>
                      <a:pt x="202" y="7"/>
                    </a:lnTo>
                    <a:lnTo>
                      <a:pt x="165" y="15"/>
                    </a:lnTo>
                    <a:lnTo>
                      <a:pt x="88" y="33"/>
                    </a:lnTo>
                    <a:lnTo>
                      <a:pt x="1" y="55"/>
                    </a:lnTo>
                    <a:lnTo>
                      <a:pt x="0" y="55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2592360" y="3843360"/>
                <a:ext cx="90360" cy="31680"/>
              </a:xfrm>
              <a:custGeom>
                <a:avLst/>
                <a:gdLst/>
                <a:ahLst/>
                <a:rect l="l" t="t" r="r" b="b"/>
                <a:pathLst>
                  <a:path w="286" h="101">
                    <a:moveTo>
                      <a:pt x="0" y="0"/>
                    </a:moveTo>
                    <a:lnTo>
                      <a:pt x="47" y="3"/>
                    </a:lnTo>
                    <a:lnTo>
                      <a:pt x="94" y="7"/>
                    </a:lnTo>
                    <a:lnTo>
                      <a:pt x="138" y="10"/>
                    </a:lnTo>
                    <a:lnTo>
                      <a:pt x="179" y="15"/>
                    </a:lnTo>
                    <a:lnTo>
                      <a:pt x="197" y="18"/>
                    </a:lnTo>
                    <a:lnTo>
                      <a:pt x="216" y="20"/>
                    </a:lnTo>
                    <a:lnTo>
                      <a:pt x="231" y="24"/>
                    </a:lnTo>
                    <a:lnTo>
                      <a:pt x="246" y="28"/>
                    </a:lnTo>
                    <a:lnTo>
                      <a:pt x="259" y="33"/>
                    </a:lnTo>
                    <a:lnTo>
                      <a:pt x="270" y="37"/>
                    </a:lnTo>
                    <a:lnTo>
                      <a:pt x="279" y="43"/>
                    </a:lnTo>
                    <a:lnTo>
                      <a:pt x="286" y="49"/>
                    </a:lnTo>
                    <a:lnTo>
                      <a:pt x="273" y="48"/>
                    </a:lnTo>
                    <a:lnTo>
                      <a:pt x="259" y="48"/>
                    </a:lnTo>
                    <a:lnTo>
                      <a:pt x="244" y="49"/>
                    </a:lnTo>
                    <a:lnTo>
                      <a:pt x="228" y="50"/>
                    </a:lnTo>
                    <a:lnTo>
                      <a:pt x="196" y="56"/>
                    </a:lnTo>
                    <a:lnTo>
                      <a:pt x="161" y="62"/>
                    </a:lnTo>
                    <a:lnTo>
                      <a:pt x="123" y="70"/>
                    </a:lnTo>
                    <a:lnTo>
                      <a:pt x="84" y="81"/>
                    </a:lnTo>
                    <a:lnTo>
                      <a:pt x="43" y="9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2592360" y="3824280"/>
                <a:ext cx="131760" cy="58680"/>
              </a:xfrm>
              <a:custGeom>
                <a:avLst/>
                <a:gdLst/>
                <a:ahLst/>
                <a:rect l="l" t="t" r="r" b="b"/>
                <a:pathLst>
                  <a:path w="416" h="185">
                    <a:moveTo>
                      <a:pt x="396" y="183"/>
                    </a:moveTo>
                    <a:lnTo>
                      <a:pt x="397" y="164"/>
                    </a:lnTo>
                    <a:lnTo>
                      <a:pt x="350" y="125"/>
                    </a:lnTo>
                    <a:lnTo>
                      <a:pt x="249" y="65"/>
                    </a:lnTo>
                    <a:lnTo>
                      <a:pt x="187" y="37"/>
                    </a:lnTo>
                    <a:lnTo>
                      <a:pt x="156" y="25"/>
                    </a:lnTo>
                    <a:lnTo>
                      <a:pt x="135" y="19"/>
                    </a:lnTo>
                    <a:lnTo>
                      <a:pt x="116" y="15"/>
                    </a:lnTo>
                    <a:lnTo>
                      <a:pt x="98" y="11"/>
                    </a:lnTo>
                    <a:lnTo>
                      <a:pt x="79" y="8"/>
                    </a:lnTo>
                    <a:lnTo>
                      <a:pt x="39" y="3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38" y="128"/>
                    </a:lnTo>
                    <a:lnTo>
                      <a:pt x="83" y="131"/>
                    </a:lnTo>
                    <a:lnTo>
                      <a:pt x="129" y="135"/>
                    </a:lnTo>
                    <a:lnTo>
                      <a:pt x="174" y="138"/>
                    </a:lnTo>
                    <a:lnTo>
                      <a:pt x="218" y="141"/>
                    </a:lnTo>
                    <a:lnTo>
                      <a:pt x="258" y="145"/>
                    </a:lnTo>
                    <a:lnTo>
                      <a:pt x="294" y="149"/>
                    </a:lnTo>
                    <a:lnTo>
                      <a:pt x="310" y="152"/>
                    </a:lnTo>
                    <a:lnTo>
                      <a:pt x="324" y="155"/>
                    </a:lnTo>
                    <a:lnTo>
                      <a:pt x="335" y="157"/>
                    </a:lnTo>
                    <a:lnTo>
                      <a:pt x="341" y="159"/>
                    </a:lnTo>
                    <a:lnTo>
                      <a:pt x="334" y="156"/>
                    </a:lnTo>
                    <a:lnTo>
                      <a:pt x="294" y="137"/>
                    </a:lnTo>
                    <a:lnTo>
                      <a:pt x="210" y="87"/>
                    </a:lnTo>
                    <a:lnTo>
                      <a:pt x="177" y="59"/>
                    </a:lnTo>
                    <a:lnTo>
                      <a:pt x="178" y="41"/>
                    </a:lnTo>
                    <a:lnTo>
                      <a:pt x="396" y="183"/>
                    </a:lnTo>
                    <a:lnTo>
                      <a:pt x="416" y="185"/>
                    </a:lnTo>
                    <a:lnTo>
                      <a:pt x="397" y="164"/>
                    </a:lnTo>
                    <a:lnTo>
                      <a:pt x="396" y="1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2592360" y="3836880"/>
                <a:ext cx="125280" cy="68400"/>
              </a:xfrm>
              <a:custGeom>
                <a:avLst/>
                <a:gdLst/>
                <a:ahLst/>
                <a:rect l="l" t="t" r="r" b="b"/>
                <a:pathLst>
                  <a:path w="396" h="217">
                    <a:moveTo>
                      <a:pt x="0" y="217"/>
                    </a:moveTo>
                    <a:lnTo>
                      <a:pt x="14" y="214"/>
                    </a:lnTo>
                    <a:lnTo>
                      <a:pt x="63" y="206"/>
                    </a:lnTo>
                    <a:lnTo>
                      <a:pt x="108" y="196"/>
                    </a:lnTo>
                    <a:lnTo>
                      <a:pt x="195" y="174"/>
                    </a:lnTo>
                    <a:lnTo>
                      <a:pt x="274" y="156"/>
                    </a:lnTo>
                    <a:lnTo>
                      <a:pt x="309" y="149"/>
                    </a:lnTo>
                    <a:lnTo>
                      <a:pt x="342" y="144"/>
                    </a:lnTo>
                    <a:lnTo>
                      <a:pt x="357" y="143"/>
                    </a:lnTo>
                    <a:lnTo>
                      <a:pt x="371" y="141"/>
                    </a:lnTo>
                    <a:lnTo>
                      <a:pt x="384" y="141"/>
                    </a:lnTo>
                    <a:lnTo>
                      <a:pt x="396" y="143"/>
                    </a:lnTo>
                    <a:lnTo>
                      <a:pt x="178" y="1"/>
                    </a:lnTo>
                    <a:lnTo>
                      <a:pt x="161" y="0"/>
                    </a:lnTo>
                    <a:lnTo>
                      <a:pt x="145" y="0"/>
                    </a:lnTo>
                    <a:lnTo>
                      <a:pt x="129" y="1"/>
                    </a:lnTo>
                    <a:lnTo>
                      <a:pt x="113" y="2"/>
                    </a:lnTo>
                    <a:lnTo>
                      <a:pt x="79" y="8"/>
                    </a:lnTo>
                    <a:lnTo>
                      <a:pt x="42" y="15"/>
                    </a:lnTo>
                    <a:lnTo>
                      <a:pt x="0" y="25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3456000" y="3625920"/>
                <a:ext cx="320760" cy="61920"/>
              </a:xfrm>
              <a:custGeom>
                <a:avLst/>
                <a:gdLst/>
                <a:ahLst/>
                <a:rect l="l" t="t" r="r" b="b"/>
                <a:pathLst>
                  <a:path w="1010" h="196">
                    <a:moveTo>
                      <a:pt x="0" y="64"/>
                    </a:moveTo>
                    <a:lnTo>
                      <a:pt x="29" y="65"/>
                    </a:lnTo>
                    <a:lnTo>
                      <a:pt x="56" y="65"/>
                    </a:lnTo>
                    <a:lnTo>
                      <a:pt x="81" y="64"/>
                    </a:lnTo>
                    <a:lnTo>
                      <a:pt x="104" y="64"/>
                    </a:lnTo>
                    <a:lnTo>
                      <a:pt x="146" y="61"/>
                    </a:lnTo>
                    <a:lnTo>
                      <a:pt x="182" y="56"/>
                    </a:lnTo>
                    <a:lnTo>
                      <a:pt x="213" y="50"/>
                    </a:lnTo>
                    <a:lnTo>
                      <a:pt x="240" y="43"/>
                    </a:lnTo>
                    <a:lnTo>
                      <a:pt x="264" y="35"/>
                    </a:lnTo>
                    <a:lnTo>
                      <a:pt x="284" y="29"/>
                    </a:lnTo>
                    <a:lnTo>
                      <a:pt x="302" y="22"/>
                    </a:lnTo>
                    <a:lnTo>
                      <a:pt x="319" y="15"/>
                    </a:lnTo>
                    <a:lnTo>
                      <a:pt x="335" y="9"/>
                    </a:lnTo>
                    <a:lnTo>
                      <a:pt x="353" y="5"/>
                    </a:lnTo>
                    <a:lnTo>
                      <a:pt x="371" y="1"/>
                    </a:lnTo>
                    <a:lnTo>
                      <a:pt x="391" y="0"/>
                    </a:lnTo>
                    <a:lnTo>
                      <a:pt x="413" y="1"/>
                    </a:lnTo>
                    <a:lnTo>
                      <a:pt x="439" y="6"/>
                    </a:lnTo>
                    <a:lnTo>
                      <a:pt x="451" y="13"/>
                    </a:lnTo>
                    <a:lnTo>
                      <a:pt x="463" y="18"/>
                    </a:lnTo>
                    <a:lnTo>
                      <a:pt x="477" y="24"/>
                    </a:lnTo>
                    <a:lnTo>
                      <a:pt x="493" y="29"/>
                    </a:lnTo>
                    <a:lnTo>
                      <a:pt x="510" y="33"/>
                    </a:lnTo>
                    <a:lnTo>
                      <a:pt x="527" y="38"/>
                    </a:lnTo>
                    <a:lnTo>
                      <a:pt x="546" y="41"/>
                    </a:lnTo>
                    <a:lnTo>
                      <a:pt x="566" y="45"/>
                    </a:lnTo>
                    <a:lnTo>
                      <a:pt x="608" y="50"/>
                    </a:lnTo>
                    <a:lnTo>
                      <a:pt x="652" y="55"/>
                    </a:lnTo>
                    <a:lnTo>
                      <a:pt x="697" y="58"/>
                    </a:lnTo>
                    <a:lnTo>
                      <a:pt x="742" y="62"/>
                    </a:lnTo>
                    <a:lnTo>
                      <a:pt x="788" y="64"/>
                    </a:lnTo>
                    <a:lnTo>
                      <a:pt x="831" y="67"/>
                    </a:lnTo>
                    <a:lnTo>
                      <a:pt x="872" y="72"/>
                    </a:lnTo>
                    <a:lnTo>
                      <a:pt x="910" y="77"/>
                    </a:lnTo>
                    <a:lnTo>
                      <a:pt x="928" y="79"/>
                    </a:lnTo>
                    <a:lnTo>
                      <a:pt x="944" y="82"/>
                    </a:lnTo>
                    <a:lnTo>
                      <a:pt x="959" y="86"/>
                    </a:lnTo>
                    <a:lnTo>
                      <a:pt x="973" y="89"/>
                    </a:lnTo>
                    <a:lnTo>
                      <a:pt x="984" y="94"/>
                    </a:lnTo>
                    <a:lnTo>
                      <a:pt x="995" y="98"/>
                    </a:lnTo>
                    <a:lnTo>
                      <a:pt x="1003" y="104"/>
                    </a:lnTo>
                    <a:lnTo>
                      <a:pt x="1010" y="110"/>
                    </a:lnTo>
                    <a:lnTo>
                      <a:pt x="997" y="108"/>
                    </a:lnTo>
                    <a:lnTo>
                      <a:pt x="982" y="108"/>
                    </a:lnTo>
                    <a:lnTo>
                      <a:pt x="967" y="110"/>
                    </a:lnTo>
                    <a:lnTo>
                      <a:pt x="951" y="111"/>
                    </a:lnTo>
                    <a:lnTo>
                      <a:pt x="918" y="116"/>
                    </a:lnTo>
                    <a:lnTo>
                      <a:pt x="883" y="123"/>
                    </a:lnTo>
                    <a:lnTo>
                      <a:pt x="804" y="142"/>
                    </a:lnTo>
                    <a:lnTo>
                      <a:pt x="717" y="163"/>
                    </a:lnTo>
                    <a:lnTo>
                      <a:pt x="671" y="173"/>
                    </a:lnTo>
                    <a:lnTo>
                      <a:pt x="623" y="181"/>
                    </a:lnTo>
                    <a:lnTo>
                      <a:pt x="598" y="186"/>
                    </a:lnTo>
                    <a:lnTo>
                      <a:pt x="573" y="189"/>
                    </a:lnTo>
                    <a:lnTo>
                      <a:pt x="547" y="192"/>
                    </a:lnTo>
                    <a:lnTo>
                      <a:pt x="521" y="194"/>
                    </a:lnTo>
                    <a:lnTo>
                      <a:pt x="495" y="195"/>
                    </a:lnTo>
                    <a:lnTo>
                      <a:pt x="468" y="196"/>
                    </a:lnTo>
                    <a:lnTo>
                      <a:pt x="440" y="196"/>
                    </a:lnTo>
                    <a:lnTo>
                      <a:pt x="413" y="195"/>
                    </a:lnTo>
                    <a:lnTo>
                      <a:pt x="384" y="194"/>
                    </a:lnTo>
                    <a:lnTo>
                      <a:pt x="357" y="191"/>
                    </a:lnTo>
                    <a:lnTo>
                      <a:pt x="327" y="187"/>
                    </a:lnTo>
                    <a:lnTo>
                      <a:pt x="299" y="181"/>
                    </a:lnTo>
                    <a:lnTo>
                      <a:pt x="290" y="175"/>
                    </a:lnTo>
                    <a:lnTo>
                      <a:pt x="278" y="167"/>
                    </a:lnTo>
                    <a:lnTo>
                      <a:pt x="266" y="159"/>
                    </a:lnTo>
                    <a:lnTo>
                      <a:pt x="251" y="150"/>
                    </a:lnTo>
                    <a:lnTo>
                      <a:pt x="216" y="132"/>
                    </a:lnTo>
                    <a:lnTo>
                      <a:pt x="176" y="115"/>
                    </a:lnTo>
                    <a:lnTo>
                      <a:pt x="132" y="99"/>
                    </a:lnTo>
                    <a:lnTo>
                      <a:pt x="88" y="84"/>
                    </a:lnTo>
                    <a:lnTo>
                      <a:pt x="65" y="79"/>
                    </a:lnTo>
                    <a:lnTo>
                      <a:pt x="42" y="73"/>
                    </a:lnTo>
                    <a:lnTo>
                      <a:pt x="21" y="67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3421080" y="3603600"/>
                <a:ext cx="208080" cy="65160"/>
              </a:xfrm>
              <a:custGeom>
                <a:avLst/>
                <a:gdLst/>
                <a:ahLst/>
                <a:rect l="l" t="t" r="r" b="b"/>
                <a:pathLst>
                  <a:path w="655" h="207">
                    <a:moveTo>
                      <a:pt x="609" y="89"/>
                    </a:moveTo>
                    <a:lnTo>
                      <a:pt x="445" y="7"/>
                    </a:lnTo>
                    <a:lnTo>
                      <a:pt x="414" y="1"/>
                    </a:lnTo>
                    <a:lnTo>
                      <a:pt x="389" y="0"/>
                    </a:lnTo>
                    <a:lnTo>
                      <a:pt x="368" y="1"/>
                    </a:lnTo>
                    <a:lnTo>
                      <a:pt x="348" y="5"/>
                    </a:lnTo>
                    <a:lnTo>
                      <a:pt x="330" y="9"/>
                    </a:lnTo>
                    <a:lnTo>
                      <a:pt x="313" y="15"/>
                    </a:lnTo>
                    <a:lnTo>
                      <a:pt x="296" y="22"/>
                    </a:lnTo>
                    <a:lnTo>
                      <a:pt x="278" y="29"/>
                    </a:lnTo>
                    <a:lnTo>
                      <a:pt x="257" y="37"/>
                    </a:lnTo>
                    <a:lnTo>
                      <a:pt x="234" y="44"/>
                    </a:lnTo>
                    <a:lnTo>
                      <a:pt x="208" y="51"/>
                    </a:lnTo>
                    <a:lnTo>
                      <a:pt x="179" y="56"/>
                    </a:lnTo>
                    <a:lnTo>
                      <a:pt x="143" y="61"/>
                    </a:lnTo>
                    <a:lnTo>
                      <a:pt x="101" y="64"/>
                    </a:lnTo>
                    <a:lnTo>
                      <a:pt x="78" y="64"/>
                    </a:lnTo>
                    <a:lnTo>
                      <a:pt x="54" y="65"/>
                    </a:lnTo>
                    <a:lnTo>
                      <a:pt x="28" y="64"/>
                    </a:lnTo>
                    <a:lnTo>
                      <a:pt x="0" y="64"/>
                    </a:lnTo>
                    <a:lnTo>
                      <a:pt x="223" y="206"/>
                    </a:lnTo>
                    <a:lnTo>
                      <a:pt x="251" y="207"/>
                    </a:lnTo>
                    <a:lnTo>
                      <a:pt x="279" y="207"/>
                    </a:lnTo>
                    <a:lnTo>
                      <a:pt x="305" y="207"/>
                    </a:lnTo>
                    <a:lnTo>
                      <a:pt x="329" y="206"/>
                    </a:lnTo>
                    <a:lnTo>
                      <a:pt x="371" y="202"/>
                    </a:lnTo>
                    <a:lnTo>
                      <a:pt x="408" y="198"/>
                    </a:lnTo>
                    <a:lnTo>
                      <a:pt x="440" y="191"/>
                    </a:lnTo>
                    <a:lnTo>
                      <a:pt x="467" y="185"/>
                    </a:lnTo>
                    <a:lnTo>
                      <a:pt x="491" y="177"/>
                    </a:lnTo>
                    <a:lnTo>
                      <a:pt x="511" y="170"/>
                    </a:lnTo>
                    <a:lnTo>
                      <a:pt x="530" y="162"/>
                    </a:lnTo>
                    <a:lnTo>
                      <a:pt x="547" y="155"/>
                    </a:lnTo>
                    <a:lnTo>
                      <a:pt x="563" y="150"/>
                    </a:lnTo>
                    <a:lnTo>
                      <a:pt x="580" y="146"/>
                    </a:lnTo>
                    <a:lnTo>
                      <a:pt x="596" y="143"/>
                    </a:lnTo>
                    <a:lnTo>
                      <a:pt x="614" y="142"/>
                    </a:lnTo>
                    <a:lnTo>
                      <a:pt x="633" y="144"/>
                    </a:lnTo>
                    <a:lnTo>
                      <a:pt x="655" y="146"/>
                    </a:lnTo>
                    <a:lnTo>
                      <a:pt x="491" y="64"/>
                    </a:lnTo>
                    <a:lnTo>
                      <a:pt x="609" y="89"/>
                    </a:lnTo>
                    <a:lnTo>
                      <a:pt x="503" y="19"/>
                    </a:lnTo>
                    <a:lnTo>
                      <a:pt x="445" y="7"/>
                    </a:lnTo>
                    <a:lnTo>
                      <a:pt x="609" y="8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3576600" y="3613320"/>
                <a:ext cx="241200" cy="71280"/>
              </a:xfrm>
              <a:custGeom>
                <a:avLst/>
                <a:gdLst/>
                <a:ahLst/>
                <a:rect l="l" t="t" r="r" b="b"/>
                <a:pathLst>
                  <a:path w="760" h="224">
                    <a:moveTo>
                      <a:pt x="740" y="221"/>
                    </a:moveTo>
                    <a:lnTo>
                      <a:pt x="741" y="203"/>
                    </a:lnTo>
                    <a:lnTo>
                      <a:pt x="693" y="164"/>
                    </a:lnTo>
                    <a:lnTo>
                      <a:pt x="593" y="104"/>
                    </a:lnTo>
                    <a:lnTo>
                      <a:pt x="531" y="75"/>
                    </a:lnTo>
                    <a:lnTo>
                      <a:pt x="500" y="64"/>
                    </a:lnTo>
                    <a:lnTo>
                      <a:pt x="479" y="57"/>
                    </a:lnTo>
                    <a:lnTo>
                      <a:pt x="460" y="54"/>
                    </a:lnTo>
                    <a:lnTo>
                      <a:pt x="442" y="50"/>
                    </a:lnTo>
                    <a:lnTo>
                      <a:pt x="423" y="47"/>
                    </a:lnTo>
                    <a:lnTo>
                      <a:pt x="383" y="42"/>
                    </a:lnTo>
                    <a:lnTo>
                      <a:pt x="342" y="38"/>
                    </a:lnTo>
                    <a:lnTo>
                      <a:pt x="297" y="34"/>
                    </a:lnTo>
                    <a:lnTo>
                      <a:pt x="253" y="32"/>
                    </a:lnTo>
                    <a:lnTo>
                      <a:pt x="206" y="29"/>
                    </a:lnTo>
                    <a:lnTo>
                      <a:pt x="162" y="25"/>
                    </a:lnTo>
                    <a:lnTo>
                      <a:pt x="120" y="21"/>
                    </a:lnTo>
                    <a:lnTo>
                      <a:pt x="79" y="15"/>
                    </a:lnTo>
                    <a:lnTo>
                      <a:pt x="60" y="13"/>
                    </a:lnTo>
                    <a:lnTo>
                      <a:pt x="43" y="9"/>
                    </a:lnTo>
                    <a:lnTo>
                      <a:pt x="28" y="6"/>
                    </a:lnTo>
                    <a:lnTo>
                      <a:pt x="17" y="2"/>
                    </a:lnTo>
                    <a:lnTo>
                      <a:pt x="11" y="0"/>
                    </a:lnTo>
                    <a:lnTo>
                      <a:pt x="18" y="3"/>
                    </a:lnTo>
                    <a:lnTo>
                      <a:pt x="56" y="22"/>
                    </a:lnTo>
                    <a:lnTo>
                      <a:pt x="118" y="59"/>
                    </a:lnTo>
                    <a:lnTo>
                      <a:pt x="0" y="34"/>
                    </a:lnTo>
                    <a:lnTo>
                      <a:pt x="84" y="86"/>
                    </a:lnTo>
                    <a:lnTo>
                      <a:pt x="148" y="115"/>
                    </a:lnTo>
                    <a:lnTo>
                      <a:pt x="183" y="130"/>
                    </a:lnTo>
                    <a:lnTo>
                      <a:pt x="208" y="138"/>
                    </a:lnTo>
                    <a:lnTo>
                      <a:pt x="230" y="144"/>
                    </a:lnTo>
                    <a:lnTo>
                      <a:pt x="252" y="148"/>
                    </a:lnTo>
                    <a:lnTo>
                      <a:pt x="272" y="153"/>
                    </a:lnTo>
                    <a:lnTo>
                      <a:pt x="294" y="156"/>
                    </a:lnTo>
                    <a:lnTo>
                      <a:pt x="337" y="162"/>
                    </a:lnTo>
                    <a:lnTo>
                      <a:pt x="382" y="167"/>
                    </a:lnTo>
                    <a:lnTo>
                      <a:pt x="427" y="170"/>
                    </a:lnTo>
                    <a:lnTo>
                      <a:pt x="473" y="173"/>
                    </a:lnTo>
                    <a:lnTo>
                      <a:pt x="519" y="177"/>
                    </a:lnTo>
                    <a:lnTo>
                      <a:pt x="561" y="179"/>
                    </a:lnTo>
                    <a:lnTo>
                      <a:pt x="602" y="184"/>
                    </a:lnTo>
                    <a:lnTo>
                      <a:pt x="638" y="188"/>
                    </a:lnTo>
                    <a:lnTo>
                      <a:pt x="654" y="191"/>
                    </a:lnTo>
                    <a:lnTo>
                      <a:pt x="668" y="193"/>
                    </a:lnTo>
                    <a:lnTo>
                      <a:pt x="679" y="196"/>
                    </a:lnTo>
                    <a:lnTo>
                      <a:pt x="685" y="197"/>
                    </a:lnTo>
                    <a:lnTo>
                      <a:pt x="678" y="195"/>
                    </a:lnTo>
                    <a:lnTo>
                      <a:pt x="638" y="176"/>
                    </a:lnTo>
                    <a:lnTo>
                      <a:pt x="554" y="124"/>
                    </a:lnTo>
                    <a:lnTo>
                      <a:pt x="521" y="98"/>
                    </a:lnTo>
                    <a:lnTo>
                      <a:pt x="521" y="80"/>
                    </a:lnTo>
                    <a:lnTo>
                      <a:pt x="740" y="221"/>
                    </a:lnTo>
                    <a:lnTo>
                      <a:pt x="760" y="224"/>
                    </a:lnTo>
                    <a:lnTo>
                      <a:pt x="741" y="203"/>
                    </a:lnTo>
                    <a:lnTo>
                      <a:pt x="740" y="2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3517920" y="3638520"/>
                <a:ext cx="293760" cy="71640"/>
              </a:xfrm>
              <a:custGeom>
                <a:avLst/>
                <a:gdLst/>
                <a:ahLst/>
                <a:rect l="l" t="t" r="r" b="b"/>
                <a:pathLst>
                  <a:path w="926" h="229">
                    <a:moveTo>
                      <a:pt x="0" y="96"/>
                    </a:moveTo>
                    <a:lnTo>
                      <a:pt x="210" y="214"/>
                    </a:lnTo>
                    <a:lnTo>
                      <a:pt x="241" y="220"/>
                    </a:lnTo>
                    <a:lnTo>
                      <a:pt x="271" y="223"/>
                    </a:lnTo>
                    <a:lnTo>
                      <a:pt x="301" y="227"/>
                    </a:lnTo>
                    <a:lnTo>
                      <a:pt x="330" y="228"/>
                    </a:lnTo>
                    <a:lnTo>
                      <a:pt x="359" y="229"/>
                    </a:lnTo>
                    <a:lnTo>
                      <a:pt x="387" y="229"/>
                    </a:lnTo>
                    <a:lnTo>
                      <a:pt x="414" y="229"/>
                    </a:lnTo>
                    <a:lnTo>
                      <a:pt x="440" y="227"/>
                    </a:lnTo>
                    <a:lnTo>
                      <a:pt x="467" y="224"/>
                    </a:lnTo>
                    <a:lnTo>
                      <a:pt x="494" y="222"/>
                    </a:lnTo>
                    <a:lnTo>
                      <a:pt x="519" y="219"/>
                    </a:lnTo>
                    <a:lnTo>
                      <a:pt x="544" y="214"/>
                    </a:lnTo>
                    <a:lnTo>
                      <a:pt x="593" y="206"/>
                    </a:lnTo>
                    <a:lnTo>
                      <a:pt x="638" y="196"/>
                    </a:lnTo>
                    <a:lnTo>
                      <a:pt x="725" y="174"/>
                    </a:lnTo>
                    <a:lnTo>
                      <a:pt x="804" y="156"/>
                    </a:lnTo>
                    <a:lnTo>
                      <a:pt x="839" y="149"/>
                    </a:lnTo>
                    <a:lnTo>
                      <a:pt x="872" y="143"/>
                    </a:lnTo>
                    <a:lnTo>
                      <a:pt x="887" y="142"/>
                    </a:lnTo>
                    <a:lnTo>
                      <a:pt x="901" y="141"/>
                    </a:lnTo>
                    <a:lnTo>
                      <a:pt x="914" y="141"/>
                    </a:lnTo>
                    <a:lnTo>
                      <a:pt x="926" y="142"/>
                    </a:lnTo>
                    <a:lnTo>
                      <a:pt x="707" y="1"/>
                    </a:lnTo>
                    <a:lnTo>
                      <a:pt x="691" y="0"/>
                    </a:lnTo>
                    <a:lnTo>
                      <a:pt x="675" y="0"/>
                    </a:lnTo>
                    <a:lnTo>
                      <a:pt x="659" y="1"/>
                    </a:lnTo>
                    <a:lnTo>
                      <a:pt x="643" y="2"/>
                    </a:lnTo>
                    <a:lnTo>
                      <a:pt x="609" y="8"/>
                    </a:lnTo>
                    <a:lnTo>
                      <a:pt x="572" y="15"/>
                    </a:lnTo>
                    <a:lnTo>
                      <a:pt x="494" y="34"/>
                    </a:lnTo>
                    <a:lnTo>
                      <a:pt x="408" y="54"/>
                    </a:lnTo>
                    <a:lnTo>
                      <a:pt x="361" y="65"/>
                    </a:lnTo>
                    <a:lnTo>
                      <a:pt x="314" y="73"/>
                    </a:lnTo>
                    <a:lnTo>
                      <a:pt x="288" y="77"/>
                    </a:lnTo>
                    <a:lnTo>
                      <a:pt x="263" y="80"/>
                    </a:lnTo>
                    <a:lnTo>
                      <a:pt x="238" y="83"/>
                    </a:lnTo>
                    <a:lnTo>
                      <a:pt x="213" y="85"/>
                    </a:lnTo>
                    <a:lnTo>
                      <a:pt x="187" y="86"/>
                    </a:lnTo>
                    <a:lnTo>
                      <a:pt x="161" y="88"/>
                    </a:lnTo>
                    <a:lnTo>
                      <a:pt x="135" y="88"/>
                    </a:lnTo>
                    <a:lnTo>
                      <a:pt x="108" y="86"/>
                    </a:lnTo>
                    <a:lnTo>
                      <a:pt x="81" y="85"/>
                    </a:lnTo>
                    <a:lnTo>
                      <a:pt x="54" y="82"/>
                    </a:lnTo>
                    <a:lnTo>
                      <a:pt x="27" y="78"/>
                    </a:lnTo>
                    <a:lnTo>
                      <a:pt x="0" y="74"/>
                    </a:lnTo>
                    <a:lnTo>
                      <a:pt x="211" y="193"/>
                    </a:lnTo>
                    <a:lnTo>
                      <a:pt x="0" y="96"/>
                    </a:lnTo>
                    <a:lnTo>
                      <a:pt x="103" y="193"/>
                    </a:lnTo>
                    <a:lnTo>
                      <a:pt x="210" y="214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3316320" y="3624120"/>
                <a:ext cx="268200" cy="74880"/>
              </a:xfrm>
              <a:custGeom>
                <a:avLst/>
                <a:gdLst/>
                <a:ahLst/>
                <a:rect l="l" t="t" r="r" b="b"/>
                <a:pathLst>
                  <a:path w="845" h="238">
                    <a:moveTo>
                      <a:pt x="329" y="0"/>
                    </a:moveTo>
                    <a:lnTo>
                      <a:pt x="546" y="141"/>
                    </a:lnTo>
                    <a:lnTo>
                      <a:pt x="565" y="145"/>
                    </a:lnTo>
                    <a:lnTo>
                      <a:pt x="584" y="149"/>
                    </a:lnTo>
                    <a:lnTo>
                      <a:pt x="603" y="154"/>
                    </a:lnTo>
                    <a:lnTo>
                      <a:pt x="622" y="159"/>
                    </a:lnTo>
                    <a:lnTo>
                      <a:pt x="659" y="171"/>
                    </a:lnTo>
                    <a:lnTo>
                      <a:pt x="691" y="183"/>
                    </a:lnTo>
                    <a:lnTo>
                      <a:pt x="710" y="192"/>
                    </a:lnTo>
                    <a:lnTo>
                      <a:pt x="717" y="195"/>
                    </a:lnTo>
                    <a:lnTo>
                      <a:pt x="689" y="179"/>
                    </a:lnTo>
                    <a:lnTo>
                      <a:pt x="666" y="166"/>
                    </a:lnTo>
                    <a:lnTo>
                      <a:pt x="645" y="151"/>
                    </a:lnTo>
                    <a:lnTo>
                      <a:pt x="634" y="141"/>
                    </a:lnTo>
                    <a:lnTo>
                      <a:pt x="845" y="238"/>
                    </a:lnTo>
                    <a:lnTo>
                      <a:pt x="815" y="212"/>
                    </a:lnTo>
                    <a:lnTo>
                      <a:pt x="771" y="182"/>
                    </a:lnTo>
                    <a:lnTo>
                      <a:pt x="722" y="151"/>
                    </a:lnTo>
                    <a:lnTo>
                      <a:pt x="664" y="119"/>
                    </a:lnTo>
                    <a:lnTo>
                      <a:pt x="601" y="88"/>
                    </a:lnTo>
                    <a:lnTo>
                      <a:pt x="541" y="62"/>
                    </a:lnTo>
                    <a:lnTo>
                      <a:pt x="485" y="41"/>
                    </a:lnTo>
                    <a:lnTo>
                      <a:pt x="435" y="25"/>
                    </a:lnTo>
                    <a:lnTo>
                      <a:pt x="407" y="17"/>
                    </a:lnTo>
                    <a:lnTo>
                      <a:pt x="382" y="10"/>
                    </a:lnTo>
                    <a:lnTo>
                      <a:pt x="357" y="5"/>
                    </a:lnTo>
                    <a:lnTo>
                      <a:pt x="334" y="0"/>
                    </a:lnTo>
                    <a:lnTo>
                      <a:pt x="552" y="142"/>
                    </a:lnTo>
                    <a:lnTo>
                      <a:pt x="329" y="0"/>
                    </a:lnTo>
                    <a:lnTo>
                      <a:pt x="0" y="9"/>
                    </a:lnTo>
                    <a:lnTo>
                      <a:pt x="546" y="141"/>
                    </a:lnTo>
                    <a:lnTo>
                      <a:pt x="32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5702400" y="3635280"/>
                <a:ext cx="320400" cy="63720"/>
              </a:xfrm>
              <a:custGeom>
                <a:avLst/>
                <a:gdLst/>
                <a:ahLst/>
                <a:rect l="l" t="t" r="r" b="b"/>
                <a:pathLst>
                  <a:path w="1011" h="196">
                    <a:moveTo>
                      <a:pt x="1011" y="63"/>
                    </a:moveTo>
                    <a:lnTo>
                      <a:pt x="983" y="64"/>
                    </a:lnTo>
                    <a:lnTo>
                      <a:pt x="955" y="64"/>
                    </a:lnTo>
                    <a:lnTo>
                      <a:pt x="930" y="64"/>
                    </a:lnTo>
                    <a:lnTo>
                      <a:pt x="908" y="63"/>
                    </a:lnTo>
                    <a:lnTo>
                      <a:pt x="865" y="59"/>
                    </a:lnTo>
                    <a:lnTo>
                      <a:pt x="829" y="55"/>
                    </a:lnTo>
                    <a:lnTo>
                      <a:pt x="798" y="49"/>
                    </a:lnTo>
                    <a:lnTo>
                      <a:pt x="771" y="42"/>
                    </a:lnTo>
                    <a:lnTo>
                      <a:pt x="748" y="35"/>
                    </a:lnTo>
                    <a:lnTo>
                      <a:pt x="727" y="27"/>
                    </a:lnTo>
                    <a:lnTo>
                      <a:pt x="709" y="21"/>
                    </a:lnTo>
                    <a:lnTo>
                      <a:pt x="692" y="14"/>
                    </a:lnTo>
                    <a:lnTo>
                      <a:pt x="675" y="8"/>
                    </a:lnTo>
                    <a:lnTo>
                      <a:pt x="658" y="3"/>
                    </a:lnTo>
                    <a:lnTo>
                      <a:pt x="640" y="1"/>
                    </a:lnTo>
                    <a:lnTo>
                      <a:pt x="620" y="0"/>
                    </a:lnTo>
                    <a:lnTo>
                      <a:pt x="597" y="1"/>
                    </a:lnTo>
                    <a:lnTo>
                      <a:pt x="572" y="5"/>
                    </a:lnTo>
                    <a:lnTo>
                      <a:pt x="561" y="11"/>
                    </a:lnTo>
                    <a:lnTo>
                      <a:pt x="548" y="18"/>
                    </a:lnTo>
                    <a:lnTo>
                      <a:pt x="534" y="24"/>
                    </a:lnTo>
                    <a:lnTo>
                      <a:pt x="519" y="29"/>
                    </a:lnTo>
                    <a:lnTo>
                      <a:pt x="502" y="33"/>
                    </a:lnTo>
                    <a:lnTo>
                      <a:pt x="483" y="37"/>
                    </a:lnTo>
                    <a:lnTo>
                      <a:pt x="465" y="41"/>
                    </a:lnTo>
                    <a:lnTo>
                      <a:pt x="445" y="43"/>
                    </a:lnTo>
                    <a:lnTo>
                      <a:pt x="404" y="49"/>
                    </a:lnTo>
                    <a:lnTo>
                      <a:pt x="359" y="54"/>
                    </a:lnTo>
                    <a:lnTo>
                      <a:pt x="314" y="57"/>
                    </a:lnTo>
                    <a:lnTo>
                      <a:pt x="268" y="60"/>
                    </a:lnTo>
                    <a:lnTo>
                      <a:pt x="224" y="64"/>
                    </a:lnTo>
                    <a:lnTo>
                      <a:pt x="180" y="67"/>
                    </a:lnTo>
                    <a:lnTo>
                      <a:pt x="138" y="71"/>
                    </a:lnTo>
                    <a:lnTo>
                      <a:pt x="100" y="75"/>
                    </a:lnTo>
                    <a:lnTo>
                      <a:pt x="83" y="79"/>
                    </a:lnTo>
                    <a:lnTo>
                      <a:pt x="67" y="81"/>
                    </a:lnTo>
                    <a:lnTo>
                      <a:pt x="53" y="86"/>
                    </a:lnTo>
                    <a:lnTo>
                      <a:pt x="39" y="89"/>
                    </a:lnTo>
                    <a:lnTo>
                      <a:pt x="26" y="94"/>
                    </a:lnTo>
                    <a:lnTo>
                      <a:pt x="16" y="98"/>
                    </a:lnTo>
                    <a:lnTo>
                      <a:pt x="7" y="103"/>
                    </a:lnTo>
                    <a:lnTo>
                      <a:pt x="0" y="108"/>
                    </a:lnTo>
                    <a:lnTo>
                      <a:pt x="15" y="108"/>
                    </a:lnTo>
                    <a:lnTo>
                      <a:pt x="29" y="108"/>
                    </a:lnTo>
                    <a:lnTo>
                      <a:pt x="45" y="108"/>
                    </a:lnTo>
                    <a:lnTo>
                      <a:pt x="59" y="111"/>
                    </a:lnTo>
                    <a:lnTo>
                      <a:pt x="94" y="115"/>
                    </a:lnTo>
                    <a:lnTo>
                      <a:pt x="129" y="123"/>
                    </a:lnTo>
                    <a:lnTo>
                      <a:pt x="208" y="141"/>
                    </a:lnTo>
                    <a:lnTo>
                      <a:pt x="294" y="162"/>
                    </a:lnTo>
                    <a:lnTo>
                      <a:pt x="340" y="172"/>
                    </a:lnTo>
                    <a:lnTo>
                      <a:pt x="389" y="181"/>
                    </a:lnTo>
                    <a:lnTo>
                      <a:pt x="413" y="185"/>
                    </a:lnTo>
                    <a:lnTo>
                      <a:pt x="438" y="188"/>
                    </a:lnTo>
                    <a:lnTo>
                      <a:pt x="464" y="192"/>
                    </a:lnTo>
                    <a:lnTo>
                      <a:pt x="490" y="194"/>
                    </a:lnTo>
                    <a:lnTo>
                      <a:pt x="517" y="195"/>
                    </a:lnTo>
                    <a:lnTo>
                      <a:pt x="544" y="196"/>
                    </a:lnTo>
                    <a:lnTo>
                      <a:pt x="570" y="196"/>
                    </a:lnTo>
                    <a:lnTo>
                      <a:pt x="599" y="195"/>
                    </a:lnTo>
                    <a:lnTo>
                      <a:pt x="626" y="193"/>
                    </a:lnTo>
                    <a:lnTo>
                      <a:pt x="654" y="191"/>
                    </a:lnTo>
                    <a:lnTo>
                      <a:pt x="683" y="186"/>
                    </a:lnTo>
                    <a:lnTo>
                      <a:pt x="713" y="181"/>
                    </a:lnTo>
                    <a:lnTo>
                      <a:pt x="721" y="173"/>
                    </a:lnTo>
                    <a:lnTo>
                      <a:pt x="732" y="165"/>
                    </a:lnTo>
                    <a:lnTo>
                      <a:pt x="746" y="157"/>
                    </a:lnTo>
                    <a:lnTo>
                      <a:pt x="760" y="149"/>
                    </a:lnTo>
                    <a:lnTo>
                      <a:pt x="796" y="132"/>
                    </a:lnTo>
                    <a:lnTo>
                      <a:pt x="836" y="115"/>
                    </a:lnTo>
                    <a:lnTo>
                      <a:pt x="879" y="99"/>
                    </a:lnTo>
                    <a:lnTo>
                      <a:pt x="923" y="84"/>
                    </a:lnTo>
                    <a:lnTo>
                      <a:pt x="946" y="78"/>
                    </a:lnTo>
                    <a:lnTo>
                      <a:pt x="968" y="72"/>
                    </a:lnTo>
                    <a:lnTo>
                      <a:pt x="990" y="67"/>
                    </a:lnTo>
                    <a:lnTo>
                      <a:pt x="1011" y="6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5846760" y="3613320"/>
                <a:ext cx="212760" cy="64800"/>
              </a:xfrm>
              <a:custGeom>
                <a:avLst/>
                <a:gdLst/>
                <a:ahLst/>
                <a:rect l="l" t="t" r="r" b="b"/>
                <a:pathLst>
                  <a:path w="670" h="206">
                    <a:moveTo>
                      <a:pt x="235" y="146"/>
                    </a:moveTo>
                    <a:lnTo>
                      <a:pt x="233" y="146"/>
                    </a:lnTo>
                    <a:lnTo>
                      <a:pt x="258" y="143"/>
                    </a:lnTo>
                    <a:lnTo>
                      <a:pt x="278" y="142"/>
                    </a:lnTo>
                    <a:lnTo>
                      <a:pt x="294" y="143"/>
                    </a:lnTo>
                    <a:lnTo>
                      <a:pt x="307" y="144"/>
                    </a:lnTo>
                    <a:lnTo>
                      <a:pt x="315" y="146"/>
                    </a:lnTo>
                    <a:lnTo>
                      <a:pt x="320" y="149"/>
                    </a:lnTo>
                    <a:lnTo>
                      <a:pt x="333" y="153"/>
                    </a:lnTo>
                    <a:lnTo>
                      <a:pt x="354" y="162"/>
                    </a:lnTo>
                    <a:lnTo>
                      <a:pt x="382" y="171"/>
                    </a:lnTo>
                    <a:lnTo>
                      <a:pt x="414" y="182"/>
                    </a:lnTo>
                    <a:lnTo>
                      <a:pt x="446" y="190"/>
                    </a:lnTo>
                    <a:lnTo>
                      <a:pt x="481" y="197"/>
                    </a:lnTo>
                    <a:lnTo>
                      <a:pt x="520" y="201"/>
                    </a:lnTo>
                    <a:lnTo>
                      <a:pt x="563" y="204"/>
                    </a:lnTo>
                    <a:lnTo>
                      <a:pt x="587" y="206"/>
                    </a:lnTo>
                    <a:lnTo>
                      <a:pt x="613" y="206"/>
                    </a:lnTo>
                    <a:lnTo>
                      <a:pt x="641" y="206"/>
                    </a:lnTo>
                    <a:lnTo>
                      <a:pt x="670" y="204"/>
                    </a:lnTo>
                    <a:lnTo>
                      <a:pt x="443" y="63"/>
                    </a:lnTo>
                    <a:lnTo>
                      <a:pt x="415" y="64"/>
                    </a:lnTo>
                    <a:lnTo>
                      <a:pt x="389" y="64"/>
                    </a:lnTo>
                    <a:lnTo>
                      <a:pt x="364" y="64"/>
                    </a:lnTo>
                    <a:lnTo>
                      <a:pt x="341" y="63"/>
                    </a:lnTo>
                    <a:lnTo>
                      <a:pt x="301" y="60"/>
                    </a:lnTo>
                    <a:lnTo>
                      <a:pt x="267" y="56"/>
                    </a:lnTo>
                    <a:lnTo>
                      <a:pt x="239" y="50"/>
                    </a:lnTo>
                    <a:lnTo>
                      <a:pt x="219" y="45"/>
                    </a:lnTo>
                    <a:lnTo>
                      <a:pt x="204" y="40"/>
                    </a:lnTo>
                    <a:lnTo>
                      <a:pt x="191" y="36"/>
                    </a:lnTo>
                    <a:lnTo>
                      <a:pt x="176" y="30"/>
                    </a:lnTo>
                    <a:lnTo>
                      <a:pt x="154" y="21"/>
                    </a:lnTo>
                    <a:lnTo>
                      <a:pt x="125" y="12"/>
                    </a:lnTo>
                    <a:lnTo>
                      <a:pt x="99" y="5"/>
                    </a:lnTo>
                    <a:lnTo>
                      <a:pt x="76" y="1"/>
                    </a:lnTo>
                    <a:lnTo>
                      <a:pt x="52" y="0"/>
                    </a:lnTo>
                    <a:lnTo>
                      <a:pt x="28" y="1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35" y="14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5638680" y="3614760"/>
                <a:ext cx="282600" cy="82440"/>
              </a:xfrm>
              <a:custGeom>
                <a:avLst/>
                <a:gdLst/>
                <a:ahLst/>
                <a:rect l="l" t="t" r="r" b="b"/>
                <a:pathLst>
                  <a:path w="891" h="257">
                    <a:moveTo>
                      <a:pt x="87" y="103"/>
                    </a:moveTo>
                    <a:lnTo>
                      <a:pt x="320" y="243"/>
                    </a:lnTo>
                    <a:lnTo>
                      <a:pt x="326" y="238"/>
                    </a:lnTo>
                    <a:lnTo>
                      <a:pt x="334" y="233"/>
                    </a:lnTo>
                    <a:lnTo>
                      <a:pt x="345" y="228"/>
                    </a:lnTo>
                    <a:lnTo>
                      <a:pt x="356" y="225"/>
                    </a:lnTo>
                    <a:lnTo>
                      <a:pt x="369" y="220"/>
                    </a:lnTo>
                    <a:lnTo>
                      <a:pt x="383" y="217"/>
                    </a:lnTo>
                    <a:lnTo>
                      <a:pt x="399" y="214"/>
                    </a:lnTo>
                    <a:lnTo>
                      <a:pt x="417" y="211"/>
                    </a:lnTo>
                    <a:lnTo>
                      <a:pt x="454" y="206"/>
                    </a:lnTo>
                    <a:lnTo>
                      <a:pt x="495" y="203"/>
                    </a:lnTo>
                    <a:lnTo>
                      <a:pt x="537" y="200"/>
                    </a:lnTo>
                    <a:lnTo>
                      <a:pt x="583" y="196"/>
                    </a:lnTo>
                    <a:lnTo>
                      <a:pt x="629" y="194"/>
                    </a:lnTo>
                    <a:lnTo>
                      <a:pt x="674" y="189"/>
                    </a:lnTo>
                    <a:lnTo>
                      <a:pt x="719" y="185"/>
                    </a:lnTo>
                    <a:lnTo>
                      <a:pt x="761" y="179"/>
                    </a:lnTo>
                    <a:lnTo>
                      <a:pt x="781" y="177"/>
                    </a:lnTo>
                    <a:lnTo>
                      <a:pt x="801" y="172"/>
                    </a:lnTo>
                    <a:lnTo>
                      <a:pt x="818" y="169"/>
                    </a:lnTo>
                    <a:lnTo>
                      <a:pt x="836" y="164"/>
                    </a:lnTo>
                    <a:lnTo>
                      <a:pt x="851" y="159"/>
                    </a:lnTo>
                    <a:lnTo>
                      <a:pt x="866" y="153"/>
                    </a:lnTo>
                    <a:lnTo>
                      <a:pt x="879" y="147"/>
                    </a:lnTo>
                    <a:lnTo>
                      <a:pt x="891" y="140"/>
                    </a:lnTo>
                    <a:lnTo>
                      <a:pt x="656" y="0"/>
                    </a:lnTo>
                    <a:lnTo>
                      <a:pt x="645" y="7"/>
                    </a:lnTo>
                    <a:lnTo>
                      <a:pt x="632" y="13"/>
                    </a:lnTo>
                    <a:lnTo>
                      <a:pt x="618" y="18"/>
                    </a:lnTo>
                    <a:lnTo>
                      <a:pt x="604" y="23"/>
                    </a:lnTo>
                    <a:lnTo>
                      <a:pt x="586" y="27"/>
                    </a:lnTo>
                    <a:lnTo>
                      <a:pt x="569" y="31"/>
                    </a:lnTo>
                    <a:lnTo>
                      <a:pt x="550" y="34"/>
                    </a:lnTo>
                    <a:lnTo>
                      <a:pt x="531" y="38"/>
                    </a:lnTo>
                    <a:lnTo>
                      <a:pt x="490" y="43"/>
                    </a:lnTo>
                    <a:lnTo>
                      <a:pt x="446" y="48"/>
                    </a:lnTo>
                    <a:lnTo>
                      <a:pt x="401" y="51"/>
                    </a:lnTo>
                    <a:lnTo>
                      <a:pt x="356" y="55"/>
                    </a:lnTo>
                    <a:lnTo>
                      <a:pt x="311" y="58"/>
                    </a:lnTo>
                    <a:lnTo>
                      <a:pt x="266" y="62"/>
                    </a:lnTo>
                    <a:lnTo>
                      <a:pt x="225" y="65"/>
                    </a:lnTo>
                    <a:lnTo>
                      <a:pt x="187" y="70"/>
                    </a:lnTo>
                    <a:lnTo>
                      <a:pt x="169" y="73"/>
                    </a:lnTo>
                    <a:lnTo>
                      <a:pt x="152" y="76"/>
                    </a:lnTo>
                    <a:lnTo>
                      <a:pt x="137" y="80"/>
                    </a:lnTo>
                    <a:lnTo>
                      <a:pt x="124" y="83"/>
                    </a:lnTo>
                    <a:lnTo>
                      <a:pt x="110" y="88"/>
                    </a:lnTo>
                    <a:lnTo>
                      <a:pt x="100" y="92"/>
                    </a:lnTo>
                    <a:lnTo>
                      <a:pt x="91" y="98"/>
                    </a:lnTo>
                    <a:lnTo>
                      <a:pt x="84" y="105"/>
                    </a:lnTo>
                    <a:lnTo>
                      <a:pt x="316" y="245"/>
                    </a:lnTo>
                    <a:lnTo>
                      <a:pt x="84" y="105"/>
                    </a:lnTo>
                    <a:lnTo>
                      <a:pt x="0" y="257"/>
                    </a:lnTo>
                    <a:lnTo>
                      <a:pt x="316" y="245"/>
                    </a:lnTo>
                    <a:lnTo>
                      <a:pt x="87" y="10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5665680" y="3648240"/>
                <a:ext cx="300240" cy="72720"/>
              </a:xfrm>
              <a:custGeom>
                <a:avLst/>
                <a:gdLst/>
                <a:ahLst/>
                <a:rect l="l" t="t" r="r" b="b"/>
                <a:pathLst>
                  <a:path w="944" h="229">
                    <a:moveTo>
                      <a:pt x="708" y="74"/>
                    </a:moveTo>
                    <a:lnTo>
                      <a:pt x="710" y="73"/>
                    </a:lnTo>
                    <a:lnTo>
                      <a:pt x="682" y="77"/>
                    </a:lnTo>
                    <a:lnTo>
                      <a:pt x="654" y="82"/>
                    </a:lnTo>
                    <a:lnTo>
                      <a:pt x="626" y="84"/>
                    </a:lnTo>
                    <a:lnTo>
                      <a:pt x="599" y="86"/>
                    </a:lnTo>
                    <a:lnTo>
                      <a:pt x="571" y="86"/>
                    </a:lnTo>
                    <a:lnTo>
                      <a:pt x="545" y="86"/>
                    </a:lnTo>
                    <a:lnTo>
                      <a:pt x="520" y="86"/>
                    </a:lnTo>
                    <a:lnTo>
                      <a:pt x="494" y="85"/>
                    </a:lnTo>
                    <a:lnTo>
                      <a:pt x="469" y="83"/>
                    </a:lnTo>
                    <a:lnTo>
                      <a:pt x="444" y="80"/>
                    </a:lnTo>
                    <a:lnTo>
                      <a:pt x="420" y="76"/>
                    </a:lnTo>
                    <a:lnTo>
                      <a:pt x="397" y="73"/>
                    </a:lnTo>
                    <a:lnTo>
                      <a:pt x="350" y="65"/>
                    </a:lnTo>
                    <a:lnTo>
                      <a:pt x="306" y="54"/>
                    </a:lnTo>
                    <a:lnTo>
                      <a:pt x="220" y="34"/>
                    </a:lnTo>
                    <a:lnTo>
                      <a:pt x="140" y="16"/>
                    </a:lnTo>
                    <a:lnTo>
                      <a:pt x="102" y="8"/>
                    </a:lnTo>
                    <a:lnTo>
                      <a:pt x="66" y="2"/>
                    </a:lnTo>
                    <a:lnTo>
                      <a:pt x="48" y="0"/>
                    </a:lnTo>
                    <a:lnTo>
                      <a:pt x="31" y="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229" y="142"/>
                    </a:lnTo>
                    <a:lnTo>
                      <a:pt x="242" y="141"/>
                    </a:lnTo>
                    <a:lnTo>
                      <a:pt x="254" y="141"/>
                    </a:lnTo>
                    <a:lnTo>
                      <a:pt x="268" y="142"/>
                    </a:lnTo>
                    <a:lnTo>
                      <a:pt x="282" y="143"/>
                    </a:lnTo>
                    <a:lnTo>
                      <a:pt x="314" y="148"/>
                    </a:lnTo>
                    <a:lnTo>
                      <a:pt x="346" y="154"/>
                    </a:lnTo>
                    <a:lnTo>
                      <a:pt x="423" y="173"/>
                    </a:lnTo>
                    <a:lnTo>
                      <a:pt x="510" y="194"/>
                    </a:lnTo>
                    <a:lnTo>
                      <a:pt x="559" y="204"/>
                    </a:lnTo>
                    <a:lnTo>
                      <a:pt x="608" y="213"/>
                    </a:lnTo>
                    <a:lnTo>
                      <a:pt x="635" y="218"/>
                    </a:lnTo>
                    <a:lnTo>
                      <a:pt x="661" y="221"/>
                    </a:lnTo>
                    <a:lnTo>
                      <a:pt x="688" y="224"/>
                    </a:lnTo>
                    <a:lnTo>
                      <a:pt x="715" y="227"/>
                    </a:lnTo>
                    <a:lnTo>
                      <a:pt x="741" y="228"/>
                    </a:lnTo>
                    <a:lnTo>
                      <a:pt x="770" y="229"/>
                    </a:lnTo>
                    <a:lnTo>
                      <a:pt x="797" y="229"/>
                    </a:lnTo>
                    <a:lnTo>
                      <a:pt x="825" y="228"/>
                    </a:lnTo>
                    <a:lnTo>
                      <a:pt x="854" y="227"/>
                    </a:lnTo>
                    <a:lnTo>
                      <a:pt x="882" y="223"/>
                    </a:lnTo>
                    <a:lnTo>
                      <a:pt x="912" y="219"/>
                    </a:lnTo>
                    <a:lnTo>
                      <a:pt x="942" y="214"/>
                    </a:lnTo>
                    <a:lnTo>
                      <a:pt x="944" y="213"/>
                    </a:lnTo>
                    <a:lnTo>
                      <a:pt x="942" y="214"/>
                    </a:lnTo>
                    <a:lnTo>
                      <a:pt x="944" y="214"/>
                    </a:lnTo>
                    <a:lnTo>
                      <a:pt x="944" y="213"/>
                    </a:lnTo>
                    <a:lnTo>
                      <a:pt x="708" y="7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5891040" y="3632040"/>
                <a:ext cx="212760" cy="84240"/>
              </a:xfrm>
              <a:custGeom>
                <a:avLst/>
                <a:gdLst/>
                <a:ahLst/>
                <a:rect l="l" t="t" r="r" b="b"/>
                <a:pathLst>
                  <a:path w="674" h="264">
                    <a:moveTo>
                      <a:pt x="531" y="146"/>
                    </a:moveTo>
                    <a:lnTo>
                      <a:pt x="302" y="5"/>
                    </a:lnTo>
                    <a:lnTo>
                      <a:pt x="280" y="10"/>
                    </a:lnTo>
                    <a:lnTo>
                      <a:pt x="259" y="14"/>
                    </a:lnTo>
                    <a:lnTo>
                      <a:pt x="236" y="20"/>
                    </a:lnTo>
                    <a:lnTo>
                      <a:pt x="213" y="27"/>
                    </a:lnTo>
                    <a:lnTo>
                      <a:pt x="169" y="42"/>
                    </a:lnTo>
                    <a:lnTo>
                      <a:pt x="124" y="58"/>
                    </a:lnTo>
                    <a:lnTo>
                      <a:pt x="84" y="75"/>
                    </a:lnTo>
                    <a:lnTo>
                      <a:pt x="49" y="93"/>
                    </a:lnTo>
                    <a:lnTo>
                      <a:pt x="34" y="101"/>
                    </a:lnTo>
                    <a:lnTo>
                      <a:pt x="21" y="109"/>
                    </a:lnTo>
                    <a:lnTo>
                      <a:pt x="9" y="117"/>
                    </a:lnTo>
                    <a:lnTo>
                      <a:pt x="0" y="125"/>
                    </a:lnTo>
                    <a:lnTo>
                      <a:pt x="236" y="264"/>
                    </a:lnTo>
                    <a:lnTo>
                      <a:pt x="245" y="256"/>
                    </a:lnTo>
                    <a:lnTo>
                      <a:pt x="257" y="249"/>
                    </a:lnTo>
                    <a:lnTo>
                      <a:pt x="269" y="241"/>
                    </a:lnTo>
                    <a:lnTo>
                      <a:pt x="284" y="232"/>
                    </a:lnTo>
                    <a:lnTo>
                      <a:pt x="318" y="215"/>
                    </a:lnTo>
                    <a:lnTo>
                      <a:pt x="358" y="198"/>
                    </a:lnTo>
                    <a:lnTo>
                      <a:pt x="401" y="182"/>
                    </a:lnTo>
                    <a:lnTo>
                      <a:pt x="446" y="168"/>
                    </a:lnTo>
                    <a:lnTo>
                      <a:pt x="469" y="161"/>
                    </a:lnTo>
                    <a:lnTo>
                      <a:pt x="490" y="156"/>
                    </a:lnTo>
                    <a:lnTo>
                      <a:pt x="512" y="151"/>
                    </a:lnTo>
                    <a:lnTo>
                      <a:pt x="532" y="146"/>
                    </a:lnTo>
                    <a:lnTo>
                      <a:pt x="304" y="5"/>
                    </a:lnTo>
                    <a:lnTo>
                      <a:pt x="532" y="146"/>
                    </a:lnTo>
                    <a:lnTo>
                      <a:pt x="674" y="0"/>
                    </a:lnTo>
                    <a:lnTo>
                      <a:pt x="304" y="5"/>
                    </a:lnTo>
                    <a:lnTo>
                      <a:pt x="531" y="14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3417840" y="3886200"/>
                <a:ext cx="320760" cy="61920"/>
              </a:xfrm>
              <a:custGeom>
                <a:avLst/>
                <a:gdLst/>
                <a:ahLst/>
                <a:rect l="l" t="t" r="r" b="b"/>
                <a:pathLst>
                  <a:path w="1012" h="196">
                    <a:moveTo>
                      <a:pt x="0" y="63"/>
                    </a:moveTo>
                    <a:lnTo>
                      <a:pt x="29" y="64"/>
                    </a:lnTo>
                    <a:lnTo>
                      <a:pt x="56" y="64"/>
                    </a:lnTo>
                    <a:lnTo>
                      <a:pt x="81" y="64"/>
                    </a:lnTo>
                    <a:lnTo>
                      <a:pt x="104" y="63"/>
                    </a:lnTo>
                    <a:lnTo>
                      <a:pt x="146" y="60"/>
                    </a:lnTo>
                    <a:lnTo>
                      <a:pt x="183" y="55"/>
                    </a:lnTo>
                    <a:lnTo>
                      <a:pt x="214" y="49"/>
                    </a:lnTo>
                    <a:lnTo>
                      <a:pt x="240" y="42"/>
                    </a:lnTo>
                    <a:lnTo>
                      <a:pt x="264" y="36"/>
                    </a:lnTo>
                    <a:lnTo>
                      <a:pt x="284" y="28"/>
                    </a:lnTo>
                    <a:lnTo>
                      <a:pt x="303" y="21"/>
                    </a:lnTo>
                    <a:lnTo>
                      <a:pt x="320" y="14"/>
                    </a:lnTo>
                    <a:lnTo>
                      <a:pt x="337" y="8"/>
                    </a:lnTo>
                    <a:lnTo>
                      <a:pt x="354" y="4"/>
                    </a:lnTo>
                    <a:lnTo>
                      <a:pt x="371" y="1"/>
                    </a:lnTo>
                    <a:lnTo>
                      <a:pt x="391" y="0"/>
                    </a:lnTo>
                    <a:lnTo>
                      <a:pt x="413" y="1"/>
                    </a:lnTo>
                    <a:lnTo>
                      <a:pt x="439" y="5"/>
                    </a:lnTo>
                    <a:lnTo>
                      <a:pt x="451" y="12"/>
                    </a:lnTo>
                    <a:lnTo>
                      <a:pt x="463" y="18"/>
                    </a:lnTo>
                    <a:lnTo>
                      <a:pt x="477" y="23"/>
                    </a:lnTo>
                    <a:lnTo>
                      <a:pt x="493" y="29"/>
                    </a:lnTo>
                    <a:lnTo>
                      <a:pt x="510" y="33"/>
                    </a:lnTo>
                    <a:lnTo>
                      <a:pt x="528" y="37"/>
                    </a:lnTo>
                    <a:lnTo>
                      <a:pt x="546" y="40"/>
                    </a:lnTo>
                    <a:lnTo>
                      <a:pt x="567" y="44"/>
                    </a:lnTo>
                    <a:lnTo>
                      <a:pt x="608" y="49"/>
                    </a:lnTo>
                    <a:lnTo>
                      <a:pt x="652" y="54"/>
                    </a:lnTo>
                    <a:lnTo>
                      <a:pt x="698" y="57"/>
                    </a:lnTo>
                    <a:lnTo>
                      <a:pt x="744" y="61"/>
                    </a:lnTo>
                    <a:lnTo>
                      <a:pt x="788" y="64"/>
                    </a:lnTo>
                    <a:lnTo>
                      <a:pt x="831" y="68"/>
                    </a:lnTo>
                    <a:lnTo>
                      <a:pt x="873" y="71"/>
                    </a:lnTo>
                    <a:lnTo>
                      <a:pt x="911" y="76"/>
                    </a:lnTo>
                    <a:lnTo>
                      <a:pt x="928" y="79"/>
                    </a:lnTo>
                    <a:lnTo>
                      <a:pt x="944" y="81"/>
                    </a:lnTo>
                    <a:lnTo>
                      <a:pt x="959" y="85"/>
                    </a:lnTo>
                    <a:lnTo>
                      <a:pt x="973" y="89"/>
                    </a:lnTo>
                    <a:lnTo>
                      <a:pt x="985" y="94"/>
                    </a:lnTo>
                    <a:lnTo>
                      <a:pt x="996" y="98"/>
                    </a:lnTo>
                    <a:lnTo>
                      <a:pt x="1004" y="103"/>
                    </a:lnTo>
                    <a:lnTo>
                      <a:pt x="1012" y="109"/>
                    </a:lnTo>
                    <a:lnTo>
                      <a:pt x="997" y="109"/>
                    </a:lnTo>
                    <a:lnTo>
                      <a:pt x="983" y="109"/>
                    </a:lnTo>
                    <a:lnTo>
                      <a:pt x="967" y="109"/>
                    </a:lnTo>
                    <a:lnTo>
                      <a:pt x="951" y="111"/>
                    </a:lnTo>
                    <a:lnTo>
                      <a:pt x="918" y="115"/>
                    </a:lnTo>
                    <a:lnTo>
                      <a:pt x="883" y="122"/>
                    </a:lnTo>
                    <a:lnTo>
                      <a:pt x="804" y="142"/>
                    </a:lnTo>
                    <a:lnTo>
                      <a:pt x="717" y="162"/>
                    </a:lnTo>
                    <a:lnTo>
                      <a:pt x="671" y="173"/>
                    </a:lnTo>
                    <a:lnTo>
                      <a:pt x="623" y="182"/>
                    </a:lnTo>
                    <a:lnTo>
                      <a:pt x="598" y="185"/>
                    </a:lnTo>
                    <a:lnTo>
                      <a:pt x="573" y="188"/>
                    </a:lnTo>
                    <a:lnTo>
                      <a:pt x="548" y="192"/>
                    </a:lnTo>
                    <a:lnTo>
                      <a:pt x="521" y="193"/>
                    </a:lnTo>
                    <a:lnTo>
                      <a:pt x="495" y="195"/>
                    </a:lnTo>
                    <a:lnTo>
                      <a:pt x="468" y="196"/>
                    </a:lnTo>
                    <a:lnTo>
                      <a:pt x="440" y="196"/>
                    </a:lnTo>
                    <a:lnTo>
                      <a:pt x="413" y="195"/>
                    </a:lnTo>
                    <a:lnTo>
                      <a:pt x="386" y="193"/>
                    </a:lnTo>
                    <a:lnTo>
                      <a:pt x="357" y="191"/>
                    </a:lnTo>
                    <a:lnTo>
                      <a:pt x="329" y="186"/>
                    </a:lnTo>
                    <a:lnTo>
                      <a:pt x="299" y="182"/>
                    </a:lnTo>
                    <a:lnTo>
                      <a:pt x="290" y="174"/>
                    </a:lnTo>
                    <a:lnTo>
                      <a:pt x="280" y="166"/>
                    </a:lnTo>
                    <a:lnTo>
                      <a:pt x="266" y="158"/>
                    </a:lnTo>
                    <a:lnTo>
                      <a:pt x="251" y="150"/>
                    </a:lnTo>
                    <a:lnTo>
                      <a:pt x="216" y="133"/>
                    </a:lnTo>
                    <a:lnTo>
                      <a:pt x="176" y="115"/>
                    </a:lnTo>
                    <a:lnTo>
                      <a:pt x="133" y="99"/>
                    </a:lnTo>
                    <a:lnTo>
                      <a:pt x="88" y="85"/>
                    </a:lnTo>
                    <a:lnTo>
                      <a:pt x="65" y="78"/>
                    </a:lnTo>
                    <a:lnTo>
                      <a:pt x="44" y="72"/>
                    </a:lnTo>
                    <a:lnTo>
                      <a:pt x="21" y="6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3381480" y="3863880"/>
                <a:ext cx="207720" cy="65160"/>
              </a:xfrm>
              <a:custGeom>
                <a:avLst/>
                <a:gdLst/>
                <a:ahLst/>
                <a:rect l="l" t="t" r="r" b="b"/>
                <a:pathLst>
                  <a:path w="655" h="206">
                    <a:moveTo>
                      <a:pt x="610" y="88"/>
                    </a:moveTo>
                    <a:lnTo>
                      <a:pt x="445" y="6"/>
                    </a:lnTo>
                    <a:lnTo>
                      <a:pt x="416" y="2"/>
                    </a:lnTo>
                    <a:lnTo>
                      <a:pt x="390" y="0"/>
                    </a:lnTo>
                    <a:lnTo>
                      <a:pt x="368" y="0"/>
                    </a:lnTo>
                    <a:lnTo>
                      <a:pt x="349" y="4"/>
                    </a:lnTo>
                    <a:lnTo>
                      <a:pt x="331" y="8"/>
                    </a:lnTo>
                    <a:lnTo>
                      <a:pt x="313" y="14"/>
                    </a:lnTo>
                    <a:lnTo>
                      <a:pt x="296" y="21"/>
                    </a:lnTo>
                    <a:lnTo>
                      <a:pt x="278" y="28"/>
                    </a:lnTo>
                    <a:lnTo>
                      <a:pt x="258" y="36"/>
                    </a:lnTo>
                    <a:lnTo>
                      <a:pt x="235" y="43"/>
                    </a:lnTo>
                    <a:lnTo>
                      <a:pt x="209" y="50"/>
                    </a:lnTo>
                    <a:lnTo>
                      <a:pt x="179" y="55"/>
                    </a:lnTo>
                    <a:lnTo>
                      <a:pt x="143" y="60"/>
                    </a:lnTo>
                    <a:lnTo>
                      <a:pt x="102" y="63"/>
                    </a:lnTo>
                    <a:lnTo>
                      <a:pt x="79" y="64"/>
                    </a:lnTo>
                    <a:lnTo>
                      <a:pt x="54" y="64"/>
                    </a:lnTo>
                    <a:lnTo>
                      <a:pt x="28" y="64"/>
                    </a:lnTo>
                    <a:lnTo>
                      <a:pt x="0" y="63"/>
                    </a:lnTo>
                    <a:lnTo>
                      <a:pt x="223" y="205"/>
                    </a:lnTo>
                    <a:lnTo>
                      <a:pt x="253" y="206"/>
                    </a:lnTo>
                    <a:lnTo>
                      <a:pt x="279" y="206"/>
                    </a:lnTo>
                    <a:lnTo>
                      <a:pt x="305" y="206"/>
                    </a:lnTo>
                    <a:lnTo>
                      <a:pt x="329" y="205"/>
                    </a:lnTo>
                    <a:lnTo>
                      <a:pt x="371" y="201"/>
                    </a:lnTo>
                    <a:lnTo>
                      <a:pt x="408" y="197"/>
                    </a:lnTo>
                    <a:lnTo>
                      <a:pt x="440" y="191"/>
                    </a:lnTo>
                    <a:lnTo>
                      <a:pt x="467" y="184"/>
                    </a:lnTo>
                    <a:lnTo>
                      <a:pt x="491" y="176"/>
                    </a:lnTo>
                    <a:lnTo>
                      <a:pt x="512" y="169"/>
                    </a:lnTo>
                    <a:lnTo>
                      <a:pt x="530" y="162"/>
                    </a:lnTo>
                    <a:lnTo>
                      <a:pt x="548" y="156"/>
                    </a:lnTo>
                    <a:lnTo>
                      <a:pt x="564" y="150"/>
                    </a:lnTo>
                    <a:lnTo>
                      <a:pt x="580" y="145"/>
                    </a:lnTo>
                    <a:lnTo>
                      <a:pt x="597" y="143"/>
                    </a:lnTo>
                    <a:lnTo>
                      <a:pt x="614" y="142"/>
                    </a:lnTo>
                    <a:lnTo>
                      <a:pt x="634" y="143"/>
                    </a:lnTo>
                    <a:lnTo>
                      <a:pt x="655" y="147"/>
                    </a:lnTo>
                    <a:lnTo>
                      <a:pt x="491" y="63"/>
                    </a:lnTo>
                    <a:lnTo>
                      <a:pt x="610" y="88"/>
                    </a:lnTo>
                    <a:lnTo>
                      <a:pt x="504" y="18"/>
                    </a:lnTo>
                    <a:lnTo>
                      <a:pt x="445" y="6"/>
                    </a:lnTo>
                    <a:lnTo>
                      <a:pt x="610" y="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3538440" y="3873600"/>
                <a:ext cx="241560" cy="69840"/>
              </a:xfrm>
              <a:custGeom>
                <a:avLst/>
                <a:gdLst/>
                <a:ahLst/>
                <a:rect l="l" t="t" r="r" b="b"/>
                <a:pathLst>
                  <a:path w="760" h="223">
                    <a:moveTo>
                      <a:pt x="740" y="220"/>
                    </a:moveTo>
                    <a:lnTo>
                      <a:pt x="741" y="203"/>
                    </a:lnTo>
                    <a:lnTo>
                      <a:pt x="694" y="164"/>
                    </a:lnTo>
                    <a:lnTo>
                      <a:pt x="593" y="103"/>
                    </a:lnTo>
                    <a:lnTo>
                      <a:pt x="531" y="74"/>
                    </a:lnTo>
                    <a:lnTo>
                      <a:pt x="500" y="63"/>
                    </a:lnTo>
                    <a:lnTo>
                      <a:pt x="479" y="57"/>
                    </a:lnTo>
                    <a:lnTo>
                      <a:pt x="461" y="53"/>
                    </a:lnTo>
                    <a:lnTo>
                      <a:pt x="442" y="49"/>
                    </a:lnTo>
                    <a:lnTo>
                      <a:pt x="423" y="46"/>
                    </a:lnTo>
                    <a:lnTo>
                      <a:pt x="383" y="41"/>
                    </a:lnTo>
                    <a:lnTo>
                      <a:pt x="342" y="38"/>
                    </a:lnTo>
                    <a:lnTo>
                      <a:pt x="298" y="34"/>
                    </a:lnTo>
                    <a:lnTo>
                      <a:pt x="253" y="31"/>
                    </a:lnTo>
                    <a:lnTo>
                      <a:pt x="208" y="28"/>
                    </a:lnTo>
                    <a:lnTo>
                      <a:pt x="163" y="24"/>
                    </a:lnTo>
                    <a:lnTo>
                      <a:pt x="120" y="20"/>
                    </a:lnTo>
                    <a:lnTo>
                      <a:pt x="79" y="15"/>
                    </a:lnTo>
                    <a:lnTo>
                      <a:pt x="60" y="12"/>
                    </a:lnTo>
                    <a:lnTo>
                      <a:pt x="43" y="8"/>
                    </a:lnTo>
                    <a:lnTo>
                      <a:pt x="29" y="5"/>
                    </a:lnTo>
                    <a:lnTo>
                      <a:pt x="17" y="1"/>
                    </a:lnTo>
                    <a:lnTo>
                      <a:pt x="11" y="0"/>
                    </a:lnTo>
                    <a:lnTo>
                      <a:pt x="18" y="2"/>
                    </a:lnTo>
                    <a:lnTo>
                      <a:pt x="56" y="21"/>
                    </a:lnTo>
                    <a:lnTo>
                      <a:pt x="119" y="58"/>
                    </a:lnTo>
                    <a:lnTo>
                      <a:pt x="0" y="33"/>
                    </a:lnTo>
                    <a:lnTo>
                      <a:pt x="86" y="85"/>
                    </a:lnTo>
                    <a:lnTo>
                      <a:pt x="148" y="115"/>
                    </a:lnTo>
                    <a:lnTo>
                      <a:pt x="184" y="129"/>
                    </a:lnTo>
                    <a:lnTo>
                      <a:pt x="209" y="137"/>
                    </a:lnTo>
                    <a:lnTo>
                      <a:pt x="230" y="143"/>
                    </a:lnTo>
                    <a:lnTo>
                      <a:pt x="252" y="148"/>
                    </a:lnTo>
                    <a:lnTo>
                      <a:pt x="272" y="152"/>
                    </a:lnTo>
                    <a:lnTo>
                      <a:pt x="294" y="155"/>
                    </a:lnTo>
                    <a:lnTo>
                      <a:pt x="337" y="161"/>
                    </a:lnTo>
                    <a:lnTo>
                      <a:pt x="382" y="166"/>
                    </a:lnTo>
                    <a:lnTo>
                      <a:pt x="428" y="169"/>
                    </a:lnTo>
                    <a:lnTo>
                      <a:pt x="474" y="172"/>
                    </a:lnTo>
                    <a:lnTo>
                      <a:pt x="519" y="176"/>
                    </a:lnTo>
                    <a:lnTo>
                      <a:pt x="562" y="179"/>
                    </a:lnTo>
                    <a:lnTo>
                      <a:pt x="602" y="183"/>
                    </a:lnTo>
                    <a:lnTo>
                      <a:pt x="638" y="187"/>
                    </a:lnTo>
                    <a:lnTo>
                      <a:pt x="654" y="190"/>
                    </a:lnTo>
                    <a:lnTo>
                      <a:pt x="668" y="193"/>
                    </a:lnTo>
                    <a:lnTo>
                      <a:pt x="679" y="195"/>
                    </a:lnTo>
                    <a:lnTo>
                      <a:pt x="686" y="196"/>
                    </a:lnTo>
                    <a:lnTo>
                      <a:pt x="678" y="194"/>
                    </a:lnTo>
                    <a:lnTo>
                      <a:pt x="638" y="175"/>
                    </a:lnTo>
                    <a:lnTo>
                      <a:pt x="554" y="125"/>
                    </a:lnTo>
                    <a:lnTo>
                      <a:pt x="521" y="97"/>
                    </a:lnTo>
                    <a:lnTo>
                      <a:pt x="522" y="79"/>
                    </a:lnTo>
                    <a:lnTo>
                      <a:pt x="740" y="220"/>
                    </a:lnTo>
                    <a:lnTo>
                      <a:pt x="760" y="223"/>
                    </a:lnTo>
                    <a:lnTo>
                      <a:pt x="741" y="203"/>
                    </a:lnTo>
                    <a:lnTo>
                      <a:pt x="740" y="2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3478320" y="3897360"/>
                <a:ext cx="295200" cy="73080"/>
              </a:xfrm>
              <a:custGeom>
                <a:avLst/>
                <a:gdLst/>
                <a:ahLst/>
                <a:rect l="l" t="t" r="r" b="b"/>
                <a:pathLst>
                  <a:path w="926" h="230">
                    <a:moveTo>
                      <a:pt x="0" y="97"/>
                    </a:moveTo>
                    <a:lnTo>
                      <a:pt x="210" y="214"/>
                    </a:lnTo>
                    <a:lnTo>
                      <a:pt x="242" y="220"/>
                    </a:lnTo>
                    <a:lnTo>
                      <a:pt x="272" y="224"/>
                    </a:lnTo>
                    <a:lnTo>
                      <a:pt x="301" y="227"/>
                    </a:lnTo>
                    <a:lnTo>
                      <a:pt x="331" y="229"/>
                    </a:lnTo>
                    <a:lnTo>
                      <a:pt x="359" y="230"/>
                    </a:lnTo>
                    <a:lnTo>
                      <a:pt x="387" y="230"/>
                    </a:lnTo>
                    <a:lnTo>
                      <a:pt x="414" y="229"/>
                    </a:lnTo>
                    <a:lnTo>
                      <a:pt x="441" y="228"/>
                    </a:lnTo>
                    <a:lnTo>
                      <a:pt x="468" y="226"/>
                    </a:lnTo>
                    <a:lnTo>
                      <a:pt x="494" y="222"/>
                    </a:lnTo>
                    <a:lnTo>
                      <a:pt x="519" y="219"/>
                    </a:lnTo>
                    <a:lnTo>
                      <a:pt x="544" y="215"/>
                    </a:lnTo>
                    <a:lnTo>
                      <a:pt x="593" y="206"/>
                    </a:lnTo>
                    <a:lnTo>
                      <a:pt x="640" y="196"/>
                    </a:lnTo>
                    <a:lnTo>
                      <a:pt x="726" y="175"/>
                    </a:lnTo>
                    <a:lnTo>
                      <a:pt x="804" y="156"/>
                    </a:lnTo>
                    <a:lnTo>
                      <a:pt x="839" y="149"/>
                    </a:lnTo>
                    <a:lnTo>
                      <a:pt x="872" y="145"/>
                    </a:lnTo>
                    <a:lnTo>
                      <a:pt x="887" y="143"/>
                    </a:lnTo>
                    <a:lnTo>
                      <a:pt x="902" y="142"/>
                    </a:lnTo>
                    <a:lnTo>
                      <a:pt x="914" y="142"/>
                    </a:lnTo>
                    <a:lnTo>
                      <a:pt x="926" y="142"/>
                    </a:lnTo>
                    <a:lnTo>
                      <a:pt x="708" y="1"/>
                    </a:lnTo>
                    <a:lnTo>
                      <a:pt x="691" y="0"/>
                    </a:lnTo>
                    <a:lnTo>
                      <a:pt x="675" y="0"/>
                    </a:lnTo>
                    <a:lnTo>
                      <a:pt x="659" y="1"/>
                    </a:lnTo>
                    <a:lnTo>
                      <a:pt x="643" y="3"/>
                    </a:lnTo>
                    <a:lnTo>
                      <a:pt x="609" y="8"/>
                    </a:lnTo>
                    <a:lnTo>
                      <a:pt x="572" y="16"/>
                    </a:lnTo>
                    <a:lnTo>
                      <a:pt x="495" y="34"/>
                    </a:lnTo>
                    <a:lnTo>
                      <a:pt x="408" y="54"/>
                    </a:lnTo>
                    <a:lnTo>
                      <a:pt x="362" y="65"/>
                    </a:lnTo>
                    <a:lnTo>
                      <a:pt x="314" y="74"/>
                    </a:lnTo>
                    <a:lnTo>
                      <a:pt x="290" y="77"/>
                    </a:lnTo>
                    <a:lnTo>
                      <a:pt x="265" y="81"/>
                    </a:lnTo>
                    <a:lnTo>
                      <a:pt x="240" y="83"/>
                    </a:lnTo>
                    <a:lnTo>
                      <a:pt x="213" y="85"/>
                    </a:lnTo>
                    <a:lnTo>
                      <a:pt x="187" y="88"/>
                    </a:lnTo>
                    <a:lnTo>
                      <a:pt x="161" y="88"/>
                    </a:lnTo>
                    <a:lnTo>
                      <a:pt x="135" y="88"/>
                    </a:lnTo>
                    <a:lnTo>
                      <a:pt x="109" y="88"/>
                    </a:lnTo>
                    <a:lnTo>
                      <a:pt x="81" y="85"/>
                    </a:lnTo>
                    <a:lnTo>
                      <a:pt x="54" y="83"/>
                    </a:lnTo>
                    <a:lnTo>
                      <a:pt x="28" y="80"/>
                    </a:lnTo>
                    <a:lnTo>
                      <a:pt x="0" y="74"/>
                    </a:lnTo>
                    <a:lnTo>
                      <a:pt x="211" y="193"/>
                    </a:lnTo>
                    <a:lnTo>
                      <a:pt x="0" y="97"/>
                    </a:lnTo>
                    <a:lnTo>
                      <a:pt x="103" y="194"/>
                    </a:lnTo>
                    <a:lnTo>
                      <a:pt x="210" y="214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3278160" y="388296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843" h="238">
                    <a:moveTo>
                      <a:pt x="327" y="0"/>
                    </a:moveTo>
                    <a:lnTo>
                      <a:pt x="544" y="142"/>
                    </a:lnTo>
                    <a:lnTo>
                      <a:pt x="563" y="145"/>
                    </a:lnTo>
                    <a:lnTo>
                      <a:pt x="582" y="150"/>
                    </a:lnTo>
                    <a:lnTo>
                      <a:pt x="601" y="154"/>
                    </a:lnTo>
                    <a:lnTo>
                      <a:pt x="620" y="160"/>
                    </a:lnTo>
                    <a:lnTo>
                      <a:pt x="658" y="173"/>
                    </a:lnTo>
                    <a:lnTo>
                      <a:pt x="689" y="184"/>
                    </a:lnTo>
                    <a:lnTo>
                      <a:pt x="709" y="192"/>
                    </a:lnTo>
                    <a:lnTo>
                      <a:pt x="715" y="195"/>
                    </a:lnTo>
                    <a:lnTo>
                      <a:pt x="688" y="181"/>
                    </a:lnTo>
                    <a:lnTo>
                      <a:pt x="665" y="166"/>
                    </a:lnTo>
                    <a:lnTo>
                      <a:pt x="644" y="151"/>
                    </a:lnTo>
                    <a:lnTo>
                      <a:pt x="632" y="142"/>
                    </a:lnTo>
                    <a:lnTo>
                      <a:pt x="843" y="238"/>
                    </a:lnTo>
                    <a:lnTo>
                      <a:pt x="813" y="214"/>
                    </a:lnTo>
                    <a:lnTo>
                      <a:pt x="770" y="182"/>
                    </a:lnTo>
                    <a:lnTo>
                      <a:pt x="720" y="152"/>
                    </a:lnTo>
                    <a:lnTo>
                      <a:pt x="662" y="119"/>
                    </a:lnTo>
                    <a:lnTo>
                      <a:pt x="599" y="88"/>
                    </a:lnTo>
                    <a:lnTo>
                      <a:pt x="539" y="63"/>
                    </a:lnTo>
                    <a:lnTo>
                      <a:pt x="484" y="41"/>
                    </a:lnTo>
                    <a:lnTo>
                      <a:pt x="433" y="25"/>
                    </a:lnTo>
                    <a:lnTo>
                      <a:pt x="405" y="17"/>
                    </a:lnTo>
                    <a:lnTo>
                      <a:pt x="380" y="12"/>
                    </a:lnTo>
                    <a:lnTo>
                      <a:pt x="355" y="6"/>
                    </a:lnTo>
                    <a:lnTo>
                      <a:pt x="332" y="1"/>
                    </a:lnTo>
                    <a:lnTo>
                      <a:pt x="550" y="142"/>
                    </a:lnTo>
                    <a:lnTo>
                      <a:pt x="327" y="0"/>
                    </a:lnTo>
                    <a:lnTo>
                      <a:pt x="0" y="9"/>
                    </a:lnTo>
                    <a:lnTo>
                      <a:pt x="544" y="142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5740560" y="3895560"/>
                <a:ext cx="322200" cy="61920"/>
              </a:xfrm>
              <a:custGeom>
                <a:avLst/>
                <a:gdLst/>
                <a:ahLst/>
                <a:rect l="l" t="t" r="r" b="b"/>
                <a:pathLst>
                  <a:path w="1011" h="196">
                    <a:moveTo>
                      <a:pt x="1011" y="64"/>
                    </a:moveTo>
                    <a:lnTo>
                      <a:pt x="983" y="64"/>
                    </a:lnTo>
                    <a:lnTo>
                      <a:pt x="956" y="65"/>
                    </a:lnTo>
                    <a:lnTo>
                      <a:pt x="930" y="64"/>
                    </a:lnTo>
                    <a:lnTo>
                      <a:pt x="908" y="63"/>
                    </a:lnTo>
                    <a:lnTo>
                      <a:pt x="865" y="60"/>
                    </a:lnTo>
                    <a:lnTo>
                      <a:pt x="829" y="56"/>
                    </a:lnTo>
                    <a:lnTo>
                      <a:pt x="798" y="50"/>
                    </a:lnTo>
                    <a:lnTo>
                      <a:pt x="771" y="43"/>
                    </a:lnTo>
                    <a:lnTo>
                      <a:pt x="748" y="35"/>
                    </a:lnTo>
                    <a:lnTo>
                      <a:pt x="728" y="29"/>
                    </a:lnTo>
                    <a:lnTo>
                      <a:pt x="709" y="21"/>
                    </a:lnTo>
                    <a:lnTo>
                      <a:pt x="692" y="15"/>
                    </a:lnTo>
                    <a:lnTo>
                      <a:pt x="675" y="9"/>
                    </a:lnTo>
                    <a:lnTo>
                      <a:pt x="658" y="5"/>
                    </a:lnTo>
                    <a:lnTo>
                      <a:pt x="640" y="1"/>
                    </a:lnTo>
                    <a:lnTo>
                      <a:pt x="620" y="0"/>
                    </a:lnTo>
                    <a:lnTo>
                      <a:pt x="598" y="1"/>
                    </a:lnTo>
                    <a:lnTo>
                      <a:pt x="572" y="6"/>
                    </a:lnTo>
                    <a:lnTo>
                      <a:pt x="561" y="13"/>
                    </a:lnTo>
                    <a:lnTo>
                      <a:pt x="549" y="18"/>
                    </a:lnTo>
                    <a:lnTo>
                      <a:pt x="534" y="24"/>
                    </a:lnTo>
                    <a:lnTo>
                      <a:pt x="519" y="29"/>
                    </a:lnTo>
                    <a:lnTo>
                      <a:pt x="502" y="33"/>
                    </a:lnTo>
                    <a:lnTo>
                      <a:pt x="484" y="38"/>
                    </a:lnTo>
                    <a:lnTo>
                      <a:pt x="464" y="41"/>
                    </a:lnTo>
                    <a:lnTo>
                      <a:pt x="445" y="45"/>
                    </a:lnTo>
                    <a:lnTo>
                      <a:pt x="403" y="50"/>
                    </a:lnTo>
                    <a:lnTo>
                      <a:pt x="359" y="54"/>
                    </a:lnTo>
                    <a:lnTo>
                      <a:pt x="314" y="58"/>
                    </a:lnTo>
                    <a:lnTo>
                      <a:pt x="268" y="62"/>
                    </a:lnTo>
                    <a:lnTo>
                      <a:pt x="224" y="64"/>
                    </a:lnTo>
                    <a:lnTo>
                      <a:pt x="180" y="67"/>
                    </a:lnTo>
                    <a:lnTo>
                      <a:pt x="138" y="72"/>
                    </a:lnTo>
                    <a:lnTo>
                      <a:pt x="101" y="76"/>
                    </a:lnTo>
                    <a:lnTo>
                      <a:pt x="83" y="79"/>
                    </a:lnTo>
                    <a:lnTo>
                      <a:pt x="67" y="82"/>
                    </a:lnTo>
                    <a:lnTo>
                      <a:pt x="53" y="86"/>
                    </a:lnTo>
                    <a:lnTo>
                      <a:pt x="39" y="89"/>
                    </a:lnTo>
                    <a:lnTo>
                      <a:pt x="26" y="94"/>
                    </a:lnTo>
                    <a:lnTo>
                      <a:pt x="16" y="98"/>
                    </a:lnTo>
                    <a:lnTo>
                      <a:pt x="7" y="104"/>
                    </a:lnTo>
                    <a:lnTo>
                      <a:pt x="0" y="110"/>
                    </a:lnTo>
                    <a:lnTo>
                      <a:pt x="14" y="108"/>
                    </a:lnTo>
                    <a:lnTo>
                      <a:pt x="29" y="108"/>
                    </a:lnTo>
                    <a:lnTo>
                      <a:pt x="45" y="110"/>
                    </a:lnTo>
                    <a:lnTo>
                      <a:pt x="59" y="111"/>
                    </a:lnTo>
                    <a:lnTo>
                      <a:pt x="94" y="116"/>
                    </a:lnTo>
                    <a:lnTo>
                      <a:pt x="129" y="123"/>
                    </a:lnTo>
                    <a:lnTo>
                      <a:pt x="208" y="142"/>
                    </a:lnTo>
                    <a:lnTo>
                      <a:pt x="294" y="163"/>
                    </a:lnTo>
                    <a:lnTo>
                      <a:pt x="340" y="172"/>
                    </a:lnTo>
                    <a:lnTo>
                      <a:pt x="389" y="181"/>
                    </a:lnTo>
                    <a:lnTo>
                      <a:pt x="413" y="186"/>
                    </a:lnTo>
                    <a:lnTo>
                      <a:pt x="438" y="189"/>
                    </a:lnTo>
                    <a:lnTo>
                      <a:pt x="464" y="192"/>
                    </a:lnTo>
                    <a:lnTo>
                      <a:pt x="490" y="194"/>
                    </a:lnTo>
                    <a:lnTo>
                      <a:pt x="517" y="195"/>
                    </a:lnTo>
                    <a:lnTo>
                      <a:pt x="543" y="196"/>
                    </a:lnTo>
                    <a:lnTo>
                      <a:pt x="570" y="196"/>
                    </a:lnTo>
                    <a:lnTo>
                      <a:pt x="599" y="195"/>
                    </a:lnTo>
                    <a:lnTo>
                      <a:pt x="626" y="194"/>
                    </a:lnTo>
                    <a:lnTo>
                      <a:pt x="655" y="191"/>
                    </a:lnTo>
                    <a:lnTo>
                      <a:pt x="683" y="187"/>
                    </a:lnTo>
                    <a:lnTo>
                      <a:pt x="713" y="181"/>
                    </a:lnTo>
                    <a:lnTo>
                      <a:pt x="721" y="175"/>
                    </a:lnTo>
                    <a:lnTo>
                      <a:pt x="732" y="167"/>
                    </a:lnTo>
                    <a:lnTo>
                      <a:pt x="746" y="159"/>
                    </a:lnTo>
                    <a:lnTo>
                      <a:pt x="761" y="149"/>
                    </a:lnTo>
                    <a:lnTo>
                      <a:pt x="796" y="132"/>
                    </a:lnTo>
                    <a:lnTo>
                      <a:pt x="836" y="115"/>
                    </a:lnTo>
                    <a:lnTo>
                      <a:pt x="879" y="99"/>
                    </a:lnTo>
                    <a:lnTo>
                      <a:pt x="924" y="84"/>
                    </a:lnTo>
                    <a:lnTo>
                      <a:pt x="946" y="79"/>
                    </a:lnTo>
                    <a:lnTo>
                      <a:pt x="968" y="73"/>
                    </a:lnTo>
                    <a:lnTo>
                      <a:pt x="990" y="67"/>
                    </a:lnTo>
                    <a:lnTo>
                      <a:pt x="1011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5884920" y="3873600"/>
                <a:ext cx="212760" cy="65160"/>
              </a:xfrm>
              <a:custGeom>
                <a:avLst/>
                <a:gdLst/>
                <a:ahLst/>
                <a:rect l="l" t="t" r="r" b="b"/>
                <a:pathLst>
                  <a:path w="671" h="207">
                    <a:moveTo>
                      <a:pt x="236" y="146"/>
                    </a:moveTo>
                    <a:lnTo>
                      <a:pt x="234" y="147"/>
                    </a:lnTo>
                    <a:lnTo>
                      <a:pt x="259" y="143"/>
                    </a:lnTo>
                    <a:lnTo>
                      <a:pt x="279" y="143"/>
                    </a:lnTo>
                    <a:lnTo>
                      <a:pt x="295" y="143"/>
                    </a:lnTo>
                    <a:lnTo>
                      <a:pt x="308" y="145"/>
                    </a:lnTo>
                    <a:lnTo>
                      <a:pt x="316" y="147"/>
                    </a:lnTo>
                    <a:lnTo>
                      <a:pt x="321" y="149"/>
                    </a:lnTo>
                    <a:lnTo>
                      <a:pt x="334" y="154"/>
                    </a:lnTo>
                    <a:lnTo>
                      <a:pt x="356" y="162"/>
                    </a:lnTo>
                    <a:lnTo>
                      <a:pt x="383" y="173"/>
                    </a:lnTo>
                    <a:lnTo>
                      <a:pt x="415" y="183"/>
                    </a:lnTo>
                    <a:lnTo>
                      <a:pt x="447" y="191"/>
                    </a:lnTo>
                    <a:lnTo>
                      <a:pt x="482" y="197"/>
                    </a:lnTo>
                    <a:lnTo>
                      <a:pt x="521" y="202"/>
                    </a:lnTo>
                    <a:lnTo>
                      <a:pt x="564" y="206"/>
                    </a:lnTo>
                    <a:lnTo>
                      <a:pt x="588" y="206"/>
                    </a:lnTo>
                    <a:lnTo>
                      <a:pt x="614" y="207"/>
                    </a:lnTo>
                    <a:lnTo>
                      <a:pt x="642" y="207"/>
                    </a:lnTo>
                    <a:lnTo>
                      <a:pt x="671" y="206"/>
                    </a:lnTo>
                    <a:lnTo>
                      <a:pt x="445" y="63"/>
                    </a:lnTo>
                    <a:lnTo>
                      <a:pt x="416" y="64"/>
                    </a:lnTo>
                    <a:lnTo>
                      <a:pt x="390" y="64"/>
                    </a:lnTo>
                    <a:lnTo>
                      <a:pt x="365" y="64"/>
                    </a:lnTo>
                    <a:lnTo>
                      <a:pt x="342" y="63"/>
                    </a:lnTo>
                    <a:lnTo>
                      <a:pt x="302" y="61"/>
                    </a:lnTo>
                    <a:lnTo>
                      <a:pt x="268" y="56"/>
                    </a:lnTo>
                    <a:lnTo>
                      <a:pt x="240" y="50"/>
                    </a:lnTo>
                    <a:lnTo>
                      <a:pt x="220" y="46"/>
                    </a:lnTo>
                    <a:lnTo>
                      <a:pt x="205" y="41"/>
                    </a:lnTo>
                    <a:lnTo>
                      <a:pt x="193" y="36"/>
                    </a:lnTo>
                    <a:lnTo>
                      <a:pt x="177" y="30"/>
                    </a:lnTo>
                    <a:lnTo>
                      <a:pt x="154" y="22"/>
                    </a:lnTo>
                    <a:lnTo>
                      <a:pt x="126" y="12"/>
                    </a:lnTo>
                    <a:lnTo>
                      <a:pt x="100" y="5"/>
                    </a:lnTo>
                    <a:lnTo>
                      <a:pt x="76" y="1"/>
                    </a:lnTo>
                    <a:lnTo>
                      <a:pt x="54" y="0"/>
                    </a:lnTo>
                    <a:lnTo>
                      <a:pt x="30" y="1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236" y="14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5676840" y="3875040"/>
                <a:ext cx="282600" cy="81000"/>
              </a:xfrm>
              <a:custGeom>
                <a:avLst/>
                <a:gdLst/>
                <a:ahLst/>
                <a:rect l="l" t="t" r="r" b="b"/>
                <a:pathLst>
                  <a:path w="890" h="256">
                    <a:moveTo>
                      <a:pt x="86" y="103"/>
                    </a:moveTo>
                    <a:lnTo>
                      <a:pt x="319" y="242"/>
                    </a:lnTo>
                    <a:lnTo>
                      <a:pt x="326" y="237"/>
                    </a:lnTo>
                    <a:lnTo>
                      <a:pt x="334" y="233"/>
                    </a:lnTo>
                    <a:lnTo>
                      <a:pt x="344" y="228"/>
                    </a:lnTo>
                    <a:lnTo>
                      <a:pt x="355" y="224"/>
                    </a:lnTo>
                    <a:lnTo>
                      <a:pt x="368" y="220"/>
                    </a:lnTo>
                    <a:lnTo>
                      <a:pt x="383" y="217"/>
                    </a:lnTo>
                    <a:lnTo>
                      <a:pt x="399" y="213"/>
                    </a:lnTo>
                    <a:lnTo>
                      <a:pt x="416" y="211"/>
                    </a:lnTo>
                    <a:lnTo>
                      <a:pt x="453" y="207"/>
                    </a:lnTo>
                    <a:lnTo>
                      <a:pt x="494" y="202"/>
                    </a:lnTo>
                    <a:lnTo>
                      <a:pt x="537" y="199"/>
                    </a:lnTo>
                    <a:lnTo>
                      <a:pt x="582" y="196"/>
                    </a:lnTo>
                    <a:lnTo>
                      <a:pt x="628" y="193"/>
                    </a:lnTo>
                    <a:lnTo>
                      <a:pt x="673" y="190"/>
                    </a:lnTo>
                    <a:lnTo>
                      <a:pt x="718" y="185"/>
                    </a:lnTo>
                    <a:lnTo>
                      <a:pt x="760" y="179"/>
                    </a:lnTo>
                    <a:lnTo>
                      <a:pt x="780" y="176"/>
                    </a:lnTo>
                    <a:lnTo>
                      <a:pt x="799" y="172"/>
                    </a:lnTo>
                    <a:lnTo>
                      <a:pt x="817" y="168"/>
                    </a:lnTo>
                    <a:lnTo>
                      <a:pt x="835" y="163"/>
                    </a:lnTo>
                    <a:lnTo>
                      <a:pt x="850" y="159"/>
                    </a:lnTo>
                    <a:lnTo>
                      <a:pt x="865" y="153"/>
                    </a:lnTo>
                    <a:lnTo>
                      <a:pt x="879" y="146"/>
                    </a:lnTo>
                    <a:lnTo>
                      <a:pt x="890" y="139"/>
                    </a:lnTo>
                    <a:lnTo>
                      <a:pt x="654" y="0"/>
                    </a:lnTo>
                    <a:lnTo>
                      <a:pt x="644" y="7"/>
                    </a:lnTo>
                    <a:lnTo>
                      <a:pt x="631" y="13"/>
                    </a:lnTo>
                    <a:lnTo>
                      <a:pt x="617" y="17"/>
                    </a:lnTo>
                    <a:lnTo>
                      <a:pt x="603" y="22"/>
                    </a:lnTo>
                    <a:lnTo>
                      <a:pt x="586" y="28"/>
                    </a:lnTo>
                    <a:lnTo>
                      <a:pt x="568" y="31"/>
                    </a:lnTo>
                    <a:lnTo>
                      <a:pt x="549" y="34"/>
                    </a:lnTo>
                    <a:lnTo>
                      <a:pt x="530" y="38"/>
                    </a:lnTo>
                    <a:lnTo>
                      <a:pt x="489" y="43"/>
                    </a:lnTo>
                    <a:lnTo>
                      <a:pt x="445" y="47"/>
                    </a:lnTo>
                    <a:lnTo>
                      <a:pt x="400" y="51"/>
                    </a:lnTo>
                    <a:lnTo>
                      <a:pt x="355" y="55"/>
                    </a:lnTo>
                    <a:lnTo>
                      <a:pt x="310" y="57"/>
                    </a:lnTo>
                    <a:lnTo>
                      <a:pt x="265" y="61"/>
                    </a:lnTo>
                    <a:lnTo>
                      <a:pt x="224" y="65"/>
                    </a:lnTo>
                    <a:lnTo>
                      <a:pt x="185" y="70"/>
                    </a:lnTo>
                    <a:lnTo>
                      <a:pt x="168" y="72"/>
                    </a:lnTo>
                    <a:lnTo>
                      <a:pt x="151" y="75"/>
                    </a:lnTo>
                    <a:lnTo>
                      <a:pt x="136" y="79"/>
                    </a:lnTo>
                    <a:lnTo>
                      <a:pt x="123" y="83"/>
                    </a:lnTo>
                    <a:lnTo>
                      <a:pt x="109" y="87"/>
                    </a:lnTo>
                    <a:lnTo>
                      <a:pt x="99" y="93"/>
                    </a:lnTo>
                    <a:lnTo>
                      <a:pt x="90" y="98"/>
                    </a:lnTo>
                    <a:lnTo>
                      <a:pt x="83" y="104"/>
                    </a:lnTo>
                    <a:lnTo>
                      <a:pt x="315" y="244"/>
                    </a:lnTo>
                    <a:lnTo>
                      <a:pt x="83" y="104"/>
                    </a:lnTo>
                    <a:lnTo>
                      <a:pt x="0" y="256"/>
                    </a:lnTo>
                    <a:lnTo>
                      <a:pt x="315" y="244"/>
                    </a:lnTo>
                    <a:lnTo>
                      <a:pt x="86" y="10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5705640" y="3908520"/>
                <a:ext cx="276120" cy="54000"/>
              </a:xfrm>
              <a:custGeom>
                <a:avLst/>
                <a:gdLst/>
                <a:ahLst/>
                <a:rect l="l" t="t" r="r" b="b"/>
                <a:pathLst>
                  <a:path w="870" h="170">
                    <a:moveTo>
                      <a:pt x="708" y="75"/>
                    </a:moveTo>
                    <a:lnTo>
                      <a:pt x="710" y="73"/>
                    </a:lnTo>
                    <a:lnTo>
                      <a:pt x="682" y="78"/>
                    </a:lnTo>
                    <a:lnTo>
                      <a:pt x="655" y="82"/>
                    </a:lnTo>
                    <a:lnTo>
                      <a:pt x="626" y="85"/>
                    </a:lnTo>
                    <a:lnTo>
                      <a:pt x="599" y="86"/>
                    </a:lnTo>
                    <a:lnTo>
                      <a:pt x="571" y="88"/>
                    </a:lnTo>
                    <a:lnTo>
                      <a:pt x="545" y="88"/>
                    </a:lnTo>
                    <a:lnTo>
                      <a:pt x="519" y="86"/>
                    </a:lnTo>
                    <a:lnTo>
                      <a:pt x="494" y="85"/>
                    </a:lnTo>
                    <a:lnTo>
                      <a:pt x="469" y="83"/>
                    </a:lnTo>
                    <a:lnTo>
                      <a:pt x="444" y="81"/>
                    </a:lnTo>
                    <a:lnTo>
                      <a:pt x="420" y="77"/>
                    </a:lnTo>
                    <a:lnTo>
                      <a:pt x="397" y="74"/>
                    </a:lnTo>
                    <a:lnTo>
                      <a:pt x="349" y="65"/>
                    </a:lnTo>
                    <a:lnTo>
                      <a:pt x="306" y="56"/>
                    </a:lnTo>
                    <a:lnTo>
                      <a:pt x="220" y="35"/>
                    </a:lnTo>
                    <a:lnTo>
                      <a:pt x="140" y="16"/>
                    </a:lnTo>
                    <a:lnTo>
                      <a:pt x="102" y="8"/>
                    </a:lnTo>
                    <a:lnTo>
                      <a:pt x="66" y="2"/>
                    </a:lnTo>
                    <a:lnTo>
                      <a:pt x="48" y="1"/>
                    </a:lnTo>
                    <a:lnTo>
                      <a:pt x="31" y="0"/>
                    </a:lnTo>
                    <a:lnTo>
                      <a:pt x="15" y="0"/>
                    </a:lnTo>
                    <a:lnTo>
                      <a:pt x="0" y="1"/>
                    </a:lnTo>
                    <a:lnTo>
                      <a:pt x="229" y="142"/>
                    </a:lnTo>
                    <a:lnTo>
                      <a:pt x="242" y="141"/>
                    </a:lnTo>
                    <a:lnTo>
                      <a:pt x="254" y="141"/>
                    </a:lnTo>
                    <a:lnTo>
                      <a:pt x="268" y="142"/>
                    </a:lnTo>
                    <a:lnTo>
                      <a:pt x="282" y="143"/>
                    </a:lnTo>
                    <a:lnTo>
                      <a:pt x="314" y="148"/>
                    </a:lnTo>
                    <a:lnTo>
                      <a:pt x="346" y="155"/>
                    </a:lnTo>
                    <a:lnTo>
                      <a:pt x="367" y="159"/>
                    </a:lnTo>
                    <a:lnTo>
                      <a:pt x="430" y="161"/>
                    </a:lnTo>
                    <a:lnTo>
                      <a:pt x="494" y="162"/>
                    </a:lnTo>
                    <a:lnTo>
                      <a:pt x="557" y="163"/>
                    </a:lnTo>
                    <a:lnTo>
                      <a:pt x="619" y="164"/>
                    </a:lnTo>
                    <a:lnTo>
                      <a:pt x="682" y="165"/>
                    </a:lnTo>
                    <a:lnTo>
                      <a:pt x="745" y="167"/>
                    </a:lnTo>
                    <a:lnTo>
                      <a:pt x="807" y="169"/>
                    </a:lnTo>
                    <a:lnTo>
                      <a:pt x="870" y="170"/>
                    </a:lnTo>
                    <a:lnTo>
                      <a:pt x="708" y="7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5929200" y="3890880"/>
                <a:ext cx="214560" cy="71640"/>
              </a:xfrm>
              <a:custGeom>
                <a:avLst/>
                <a:gdLst/>
                <a:ahLst/>
                <a:rect l="l" t="t" r="r" b="b"/>
                <a:pathLst>
                  <a:path w="674" h="224">
                    <a:moveTo>
                      <a:pt x="531" y="148"/>
                    </a:moveTo>
                    <a:lnTo>
                      <a:pt x="302" y="6"/>
                    </a:lnTo>
                    <a:lnTo>
                      <a:pt x="281" y="10"/>
                    </a:lnTo>
                    <a:lnTo>
                      <a:pt x="259" y="15"/>
                    </a:lnTo>
                    <a:lnTo>
                      <a:pt x="236" y="21"/>
                    </a:lnTo>
                    <a:lnTo>
                      <a:pt x="213" y="28"/>
                    </a:lnTo>
                    <a:lnTo>
                      <a:pt x="169" y="42"/>
                    </a:lnTo>
                    <a:lnTo>
                      <a:pt x="124" y="58"/>
                    </a:lnTo>
                    <a:lnTo>
                      <a:pt x="85" y="76"/>
                    </a:lnTo>
                    <a:lnTo>
                      <a:pt x="49" y="93"/>
                    </a:lnTo>
                    <a:lnTo>
                      <a:pt x="33" y="101"/>
                    </a:lnTo>
                    <a:lnTo>
                      <a:pt x="21" y="110"/>
                    </a:lnTo>
                    <a:lnTo>
                      <a:pt x="9" y="118"/>
                    </a:lnTo>
                    <a:lnTo>
                      <a:pt x="0" y="126"/>
                    </a:lnTo>
                    <a:lnTo>
                      <a:pt x="162" y="221"/>
                    </a:lnTo>
                    <a:lnTo>
                      <a:pt x="180" y="221"/>
                    </a:lnTo>
                    <a:lnTo>
                      <a:pt x="197" y="222"/>
                    </a:lnTo>
                    <a:lnTo>
                      <a:pt x="214" y="222"/>
                    </a:lnTo>
                    <a:lnTo>
                      <a:pt x="232" y="223"/>
                    </a:lnTo>
                    <a:lnTo>
                      <a:pt x="249" y="223"/>
                    </a:lnTo>
                    <a:lnTo>
                      <a:pt x="266" y="224"/>
                    </a:lnTo>
                    <a:lnTo>
                      <a:pt x="283" y="224"/>
                    </a:lnTo>
                    <a:lnTo>
                      <a:pt x="301" y="224"/>
                    </a:lnTo>
                    <a:lnTo>
                      <a:pt x="318" y="216"/>
                    </a:lnTo>
                    <a:lnTo>
                      <a:pt x="358" y="199"/>
                    </a:lnTo>
                    <a:lnTo>
                      <a:pt x="401" y="183"/>
                    </a:lnTo>
                    <a:lnTo>
                      <a:pt x="446" y="168"/>
                    </a:lnTo>
                    <a:lnTo>
                      <a:pt x="469" y="162"/>
                    </a:lnTo>
                    <a:lnTo>
                      <a:pt x="490" y="156"/>
                    </a:lnTo>
                    <a:lnTo>
                      <a:pt x="512" y="151"/>
                    </a:lnTo>
                    <a:lnTo>
                      <a:pt x="533" y="148"/>
                    </a:lnTo>
                    <a:lnTo>
                      <a:pt x="305" y="5"/>
                    </a:lnTo>
                    <a:lnTo>
                      <a:pt x="533" y="148"/>
                    </a:lnTo>
                    <a:lnTo>
                      <a:pt x="674" y="0"/>
                    </a:lnTo>
                    <a:lnTo>
                      <a:pt x="305" y="5"/>
                    </a:lnTo>
                    <a:lnTo>
                      <a:pt x="531" y="1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2592360" y="3517920"/>
                <a:ext cx="335160" cy="41400"/>
              </a:xfrm>
              <a:custGeom>
                <a:avLst/>
                <a:gdLst/>
                <a:ahLst/>
                <a:rect l="l" t="t" r="r" b="b"/>
                <a:pathLst>
                  <a:path w="1055" h="130">
                    <a:moveTo>
                      <a:pt x="0" y="102"/>
                    </a:moveTo>
                    <a:lnTo>
                      <a:pt x="51" y="113"/>
                    </a:lnTo>
                    <a:lnTo>
                      <a:pt x="103" y="121"/>
                    </a:lnTo>
                    <a:lnTo>
                      <a:pt x="129" y="124"/>
                    </a:lnTo>
                    <a:lnTo>
                      <a:pt x="156" y="126"/>
                    </a:lnTo>
                    <a:lnTo>
                      <a:pt x="184" y="129"/>
                    </a:lnTo>
                    <a:lnTo>
                      <a:pt x="213" y="130"/>
                    </a:lnTo>
                    <a:lnTo>
                      <a:pt x="244" y="130"/>
                    </a:lnTo>
                    <a:lnTo>
                      <a:pt x="277" y="129"/>
                    </a:lnTo>
                    <a:lnTo>
                      <a:pt x="312" y="128"/>
                    </a:lnTo>
                    <a:lnTo>
                      <a:pt x="350" y="124"/>
                    </a:lnTo>
                    <a:lnTo>
                      <a:pt x="390" y="120"/>
                    </a:lnTo>
                    <a:lnTo>
                      <a:pt x="433" y="114"/>
                    </a:lnTo>
                    <a:lnTo>
                      <a:pt x="480" y="106"/>
                    </a:lnTo>
                    <a:lnTo>
                      <a:pt x="530" y="97"/>
                    </a:lnTo>
                    <a:lnTo>
                      <a:pt x="537" y="91"/>
                    </a:lnTo>
                    <a:lnTo>
                      <a:pt x="545" y="85"/>
                    </a:lnTo>
                    <a:lnTo>
                      <a:pt x="553" y="81"/>
                    </a:lnTo>
                    <a:lnTo>
                      <a:pt x="563" y="75"/>
                    </a:lnTo>
                    <a:lnTo>
                      <a:pt x="586" y="67"/>
                    </a:lnTo>
                    <a:lnTo>
                      <a:pt x="612" y="59"/>
                    </a:lnTo>
                    <a:lnTo>
                      <a:pt x="641" y="52"/>
                    </a:lnTo>
                    <a:lnTo>
                      <a:pt x="673" y="45"/>
                    </a:lnTo>
                    <a:lnTo>
                      <a:pt x="708" y="40"/>
                    </a:lnTo>
                    <a:lnTo>
                      <a:pt x="743" y="35"/>
                    </a:lnTo>
                    <a:lnTo>
                      <a:pt x="821" y="26"/>
                    </a:lnTo>
                    <a:lnTo>
                      <a:pt x="901" y="18"/>
                    </a:lnTo>
                    <a:lnTo>
                      <a:pt x="979" y="9"/>
                    </a:lnTo>
                    <a:lnTo>
                      <a:pt x="1055" y="0"/>
                    </a:lnTo>
                    <a:lnTo>
                      <a:pt x="0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2827440" y="3517920"/>
                <a:ext cx="112680" cy="9360"/>
              </a:xfrm>
              <a:custGeom>
                <a:avLst/>
                <a:gdLst/>
                <a:ahLst/>
                <a:rect l="l" t="t" r="r" b="b"/>
                <a:pathLst>
                  <a:path w="359" h="32">
                    <a:moveTo>
                      <a:pt x="0" y="0"/>
                    </a:moveTo>
                    <a:lnTo>
                      <a:pt x="19" y="6"/>
                    </a:lnTo>
                    <a:lnTo>
                      <a:pt x="41" y="10"/>
                    </a:lnTo>
                    <a:lnTo>
                      <a:pt x="65" y="16"/>
                    </a:lnTo>
                    <a:lnTo>
                      <a:pt x="89" y="20"/>
                    </a:lnTo>
                    <a:lnTo>
                      <a:pt x="115" y="24"/>
                    </a:lnTo>
                    <a:lnTo>
                      <a:pt x="142" y="27"/>
                    </a:lnTo>
                    <a:lnTo>
                      <a:pt x="172" y="29"/>
                    </a:lnTo>
                    <a:lnTo>
                      <a:pt x="204" y="31"/>
                    </a:lnTo>
                    <a:lnTo>
                      <a:pt x="238" y="32"/>
                    </a:lnTo>
                    <a:lnTo>
                      <a:pt x="274" y="32"/>
                    </a:lnTo>
                    <a:lnTo>
                      <a:pt x="312" y="31"/>
                    </a:lnTo>
                    <a:lnTo>
                      <a:pt x="3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2592360" y="3533760"/>
                <a:ext cx="187200" cy="38160"/>
              </a:xfrm>
              <a:custGeom>
                <a:avLst/>
                <a:gdLst/>
                <a:ahLst/>
                <a:rect l="l" t="t" r="r" b="b"/>
                <a:pathLst>
                  <a:path w="592" h="119">
                    <a:moveTo>
                      <a:pt x="470" y="74"/>
                    </a:moveTo>
                    <a:lnTo>
                      <a:pt x="589" y="6"/>
                    </a:lnTo>
                    <a:lnTo>
                      <a:pt x="540" y="15"/>
                    </a:lnTo>
                    <a:lnTo>
                      <a:pt x="495" y="23"/>
                    </a:lnTo>
                    <a:lnTo>
                      <a:pt x="453" y="29"/>
                    </a:lnTo>
                    <a:lnTo>
                      <a:pt x="413" y="33"/>
                    </a:lnTo>
                    <a:lnTo>
                      <a:pt x="376" y="37"/>
                    </a:lnTo>
                    <a:lnTo>
                      <a:pt x="342" y="38"/>
                    </a:lnTo>
                    <a:lnTo>
                      <a:pt x="309" y="39"/>
                    </a:lnTo>
                    <a:lnTo>
                      <a:pt x="278" y="39"/>
                    </a:lnTo>
                    <a:lnTo>
                      <a:pt x="250" y="38"/>
                    </a:lnTo>
                    <a:lnTo>
                      <a:pt x="222" y="37"/>
                    </a:lnTo>
                    <a:lnTo>
                      <a:pt x="195" y="33"/>
                    </a:lnTo>
                    <a:lnTo>
                      <a:pt x="170" y="30"/>
                    </a:lnTo>
                    <a:lnTo>
                      <a:pt x="119" y="22"/>
                    </a:lnTo>
                    <a:lnTo>
                      <a:pt x="67" y="13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103"/>
                    </a:lnTo>
                    <a:lnTo>
                      <a:pt x="40" y="110"/>
                    </a:lnTo>
                    <a:lnTo>
                      <a:pt x="67" y="113"/>
                    </a:lnTo>
                    <a:lnTo>
                      <a:pt x="94" y="115"/>
                    </a:lnTo>
                    <a:lnTo>
                      <a:pt x="122" y="118"/>
                    </a:lnTo>
                    <a:lnTo>
                      <a:pt x="152" y="119"/>
                    </a:lnTo>
                    <a:lnTo>
                      <a:pt x="184" y="119"/>
                    </a:lnTo>
                    <a:lnTo>
                      <a:pt x="217" y="118"/>
                    </a:lnTo>
                    <a:lnTo>
                      <a:pt x="252" y="115"/>
                    </a:lnTo>
                    <a:lnTo>
                      <a:pt x="290" y="112"/>
                    </a:lnTo>
                    <a:lnTo>
                      <a:pt x="331" y="109"/>
                    </a:lnTo>
                    <a:lnTo>
                      <a:pt x="374" y="102"/>
                    </a:lnTo>
                    <a:lnTo>
                      <a:pt x="421" y="94"/>
                    </a:lnTo>
                    <a:lnTo>
                      <a:pt x="472" y="85"/>
                    </a:lnTo>
                    <a:lnTo>
                      <a:pt x="592" y="17"/>
                    </a:lnTo>
                    <a:lnTo>
                      <a:pt x="472" y="85"/>
                    </a:lnTo>
                    <a:lnTo>
                      <a:pt x="536" y="72"/>
                    </a:lnTo>
                    <a:lnTo>
                      <a:pt x="592" y="17"/>
                    </a:lnTo>
                    <a:lnTo>
                      <a:pt x="470" y="7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2741760" y="3517920"/>
                <a:ext cx="228600" cy="39600"/>
              </a:xfrm>
              <a:custGeom>
                <a:avLst/>
                <a:gdLst/>
                <a:ahLst/>
                <a:rect l="l" t="t" r="r" b="b"/>
                <a:pathLst>
                  <a:path w="720" h="125">
                    <a:moveTo>
                      <a:pt x="582" y="31"/>
                    </a:moveTo>
                    <a:lnTo>
                      <a:pt x="628" y="0"/>
                    </a:lnTo>
                    <a:lnTo>
                      <a:pt x="301" y="0"/>
                    </a:lnTo>
                    <a:lnTo>
                      <a:pt x="285" y="2"/>
                    </a:lnTo>
                    <a:lnTo>
                      <a:pt x="247" y="9"/>
                    </a:lnTo>
                    <a:lnTo>
                      <a:pt x="211" y="17"/>
                    </a:lnTo>
                    <a:lnTo>
                      <a:pt x="194" y="21"/>
                    </a:lnTo>
                    <a:lnTo>
                      <a:pt x="175" y="26"/>
                    </a:lnTo>
                    <a:lnTo>
                      <a:pt x="157" y="33"/>
                    </a:lnTo>
                    <a:lnTo>
                      <a:pt x="134" y="42"/>
                    </a:lnTo>
                    <a:lnTo>
                      <a:pt x="103" y="57"/>
                    </a:lnTo>
                    <a:lnTo>
                      <a:pt x="59" y="82"/>
                    </a:lnTo>
                    <a:lnTo>
                      <a:pt x="19" y="108"/>
                    </a:lnTo>
                    <a:lnTo>
                      <a:pt x="0" y="125"/>
                    </a:lnTo>
                    <a:lnTo>
                      <a:pt x="122" y="68"/>
                    </a:lnTo>
                    <a:lnTo>
                      <a:pt x="116" y="73"/>
                    </a:lnTo>
                    <a:lnTo>
                      <a:pt x="94" y="88"/>
                    </a:lnTo>
                    <a:lnTo>
                      <a:pt x="69" y="101"/>
                    </a:lnTo>
                    <a:lnTo>
                      <a:pt x="60" y="105"/>
                    </a:lnTo>
                    <a:lnTo>
                      <a:pt x="64" y="105"/>
                    </a:lnTo>
                    <a:lnTo>
                      <a:pt x="72" y="101"/>
                    </a:lnTo>
                    <a:lnTo>
                      <a:pt x="83" y="98"/>
                    </a:lnTo>
                    <a:lnTo>
                      <a:pt x="97" y="94"/>
                    </a:lnTo>
                    <a:lnTo>
                      <a:pt x="129" y="88"/>
                    </a:lnTo>
                    <a:lnTo>
                      <a:pt x="165" y="82"/>
                    </a:lnTo>
                    <a:lnTo>
                      <a:pt x="204" y="76"/>
                    </a:lnTo>
                    <a:lnTo>
                      <a:pt x="245" y="71"/>
                    </a:lnTo>
                    <a:lnTo>
                      <a:pt x="331" y="61"/>
                    </a:lnTo>
                    <a:lnTo>
                      <a:pt x="420" y="52"/>
                    </a:lnTo>
                    <a:lnTo>
                      <a:pt x="464" y="48"/>
                    </a:lnTo>
                    <a:lnTo>
                      <a:pt x="506" y="42"/>
                    </a:lnTo>
                    <a:lnTo>
                      <a:pt x="547" y="36"/>
                    </a:lnTo>
                    <a:lnTo>
                      <a:pt x="585" y="29"/>
                    </a:lnTo>
                    <a:lnTo>
                      <a:pt x="630" y="0"/>
                    </a:lnTo>
                    <a:lnTo>
                      <a:pt x="720" y="0"/>
                    </a:lnTo>
                    <a:lnTo>
                      <a:pt x="585" y="29"/>
                    </a:lnTo>
                    <a:lnTo>
                      <a:pt x="630" y="0"/>
                    </a:lnTo>
                    <a:lnTo>
                      <a:pt x="629" y="0"/>
                    </a:lnTo>
                    <a:lnTo>
                      <a:pt x="582" y="3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2592360" y="3738600"/>
                <a:ext cx="314280" cy="79200"/>
              </a:xfrm>
              <a:custGeom>
                <a:avLst/>
                <a:gdLst/>
                <a:ahLst/>
                <a:rect l="l" t="t" r="r" b="b"/>
                <a:pathLst>
                  <a:path w="991" h="252">
                    <a:moveTo>
                      <a:pt x="991" y="112"/>
                    </a:moveTo>
                    <a:lnTo>
                      <a:pt x="953" y="113"/>
                    </a:lnTo>
                    <a:lnTo>
                      <a:pt x="918" y="113"/>
                    </a:lnTo>
                    <a:lnTo>
                      <a:pt x="885" y="113"/>
                    </a:lnTo>
                    <a:lnTo>
                      <a:pt x="853" y="111"/>
                    </a:lnTo>
                    <a:lnTo>
                      <a:pt x="824" y="108"/>
                    </a:lnTo>
                    <a:lnTo>
                      <a:pt x="797" y="106"/>
                    </a:lnTo>
                    <a:lnTo>
                      <a:pt x="771" y="101"/>
                    </a:lnTo>
                    <a:lnTo>
                      <a:pt x="747" y="97"/>
                    </a:lnTo>
                    <a:lnTo>
                      <a:pt x="723" y="92"/>
                    </a:lnTo>
                    <a:lnTo>
                      <a:pt x="701" y="88"/>
                    </a:lnTo>
                    <a:lnTo>
                      <a:pt x="681" y="82"/>
                    </a:lnTo>
                    <a:lnTo>
                      <a:pt x="661" y="75"/>
                    </a:lnTo>
                    <a:lnTo>
                      <a:pt x="623" y="63"/>
                    </a:lnTo>
                    <a:lnTo>
                      <a:pt x="587" y="50"/>
                    </a:lnTo>
                    <a:lnTo>
                      <a:pt x="552" y="38"/>
                    </a:lnTo>
                    <a:lnTo>
                      <a:pt x="515" y="26"/>
                    </a:lnTo>
                    <a:lnTo>
                      <a:pt x="497" y="20"/>
                    </a:lnTo>
                    <a:lnTo>
                      <a:pt x="478" y="16"/>
                    </a:lnTo>
                    <a:lnTo>
                      <a:pt x="457" y="11"/>
                    </a:lnTo>
                    <a:lnTo>
                      <a:pt x="437" y="8"/>
                    </a:lnTo>
                    <a:lnTo>
                      <a:pt x="415" y="4"/>
                    </a:lnTo>
                    <a:lnTo>
                      <a:pt x="391" y="2"/>
                    </a:lnTo>
                    <a:lnTo>
                      <a:pt x="367" y="1"/>
                    </a:lnTo>
                    <a:lnTo>
                      <a:pt x="341" y="0"/>
                    </a:lnTo>
                    <a:lnTo>
                      <a:pt x="314" y="1"/>
                    </a:lnTo>
                    <a:lnTo>
                      <a:pt x="284" y="2"/>
                    </a:lnTo>
                    <a:lnTo>
                      <a:pt x="252" y="4"/>
                    </a:lnTo>
                    <a:lnTo>
                      <a:pt x="219" y="8"/>
                    </a:lnTo>
                    <a:lnTo>
                      <a:pt x="216" y="16"/>
                    </a:lnTo>
                    <a:lnTo>
                      <a:pt x="210" y="23"/>
                    </a:lnTo>
                    <a:lnTo>
                      <a:pt x="203" y="30"/>
                    </a:lnTo>
                    <a:lnTo>
                      <a:pt x="195" y="35"/>
                    </a:lnTo>
                    <a:lnTo>
                      <a:pt x="185" y="41"/>
                    </a:lnTo>
                    <a:lnTo>
                      <a:pt x="174" y="46"/>
                    </a:lnTo>
                    <a:lnTo>
                      <a:pt x="162" y="50"/>
                    </a:lnTo>
                    <a:lnTo>
                      <a:pt x="148" y="54"/>
                    </a:lnTo>
                    <a:lnTo>
                      <a:pt x="133" y="56"/>
                    </a:lnTo>
                    <a:lnTo>
                      <a:pt x="117" y="59"/>
                    </a:lnTo>
                    <a:lnTo>
                      <a:pt x="99" y="61"/>
                    </a:lnTo>
                    <a:lnTo>
                      <a:pt x="82" y="63"/>
                    </a:lnTo>
                    <a:lnTo>
                      <a:pt x="42" y="65"/>
                    </a:lnTo>
                    <a:lnTo>
                      <a:pt x="0" y="67"/>
                    </a:lnTo>
                    <a:lnTo>
                      <a:pt x="0" y="245"/>
                    </a:lnTo>
                    <a:lnTo>
                      <a:pt x="38" y="249"/>
                    </a:lnTo>
                    <a:lnTo>
                      <a:pt x="78" y="251"/>
                    </a:lnTo>
                    <a:lnTo>
                      <a:pt x="121" y="252"/>
                    </a:lnTo>
                    <a:lnTo>
                      <a:pt x="168" y="250"/>
                    </a:lnTo>
                    <a:lnTo>
                      <a:pt x="219" y="246"/>
                    </a:lnTo>
                    <a:lnTo>
                      <a:pt x="275" y="239"/>
                    </a:lnTo>
                    <a:lnTo>
                      <a:pt x="338" y="230"/>
                    </a:lnTo>
                    <a:lnTo>
                      <a:pt x="407" y="218"/>
                    </a:lnTo>
                    <a:lnTo>
                      <a:pt x="415" y="212"/>
                    </a:lnTo>
                    <a:lnTo>
                      <a:pt x="423" y="206"/>
                    </a:lnTo>
                    <a:lnTo>
                      <a:pt x="433" y="201"/>
                    </a:lnTo>
                    <a:lnTo>
                      <a:pt x="445" y="195"/>
                    </a:lnTo>
                    <a:lnTo>
                      <a:pt x="457" y="190"/>
                    </a:lnTo>
                    <a:lnTo>
                      <a:pt x="471" y="186"/>
                    </a:lnTo>
                    <a:lnTo>
                      <a:pt x="486" y="181"/>
                    </a:lnTo>
                    <a:lnTo>
                      <a:pt x="501" y="177"/>
                    </a:lnTo>
                    <a:lnTo>
                      <a:pt x="535" y="170"/>
                    </a:lnTo>
                    <a:lnTo>
                      <a:pt x="572" y="163"/>
                    </a:lnTo>
                    <a:lnTo>
                      <a:pt x="611" y="157"/>
                    </a:lnTo>
                    <a:lnTo>
                      <a:pt x="653" y="153"/>
                    </a:lnTo>
                    <a:lnTo>
                      <a:pt x="740" y="142"/>
                    </a:lnTo>
                    <a:lnTo>
                      <a:pt x="828" y="133"/>
                    </a:lnTo>
                    <a:lnTo>
                      <a:pt x="871" y="129"/>
                    </a:lnTo>
                    <a:lnTo>
                      <a:pt x="913" y="124"/>
                    </a:lnTo>
                    <a:lnTo>
                      <a:pt x="953" y="119"/>
                    </a:lnTo>
                    <a:lnTo>
                      <a:pt x="991" y="11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2639880" y="3726000"/>
                <a:ext cx="285840" cy="61920"/>
              </a:xfrm>
              <a:custGeom>
                <a:avLst/>
                <a:gdLst/>
                <a:ahLst/>
                <a:rect l="l" t="t" r="r" b="b"/>
                <a:pathLst>
                  <a:path w="900" h="193">
                    <a:moveTo>
                      <a:pt x="133" y="11"/>
                    </a:moveTo>
                    <a:lnTo>
                      <a:pt x="6" y="88"/>
                    </a:lnTo>
                    <a:lnTo>
                      <a:pt x="37" y="84"/>
                    </a:lnTo>
                    <a:lnTo>
                      <a:pt x="68" y="82"/>
                    </a:lnTo>
                    <a:lnTo>
                      <a:pt x="98" y="80"/>
                    </a:lnTo>
                    <a:lnTo>
                      <a:pt x="125" y="80"/>
                    </a:lnTo>
                    <a:lnTo>
                      <a:pt x="150" y="81"/>
                    </a:lnTo>
                    <a:lnTo>
                      <a:pt x="174" y="82"/>
                    </a:lnTo>
                    <a:lnTo>
                      <a:pt x="197" y="84"/>
                    </a:lnTo>
                    <a:lnTo>
                      <a:pt x="219" y="88"/>
                    </a:lnTo>
                    <a:lnTo>
                      <a:pt x="239" y="91"/>
                    </a:lnTo>
                    <a:lnTo>
                      <a:pt x="260" y="96"/>
                    </a:lnTo>
                    <a:lnTo>
                      <a:pt x="279" y="100"/>
                    </a:lnTo>
                    <a:lnTo>
                      <a:pt x="297" y="105"/>
                    </a:lnTo>
                    <a:lnTo>
                      <a:pt x="333" y="117"/>
                    </a:lnTo>
                    <a:lnTo>
                      <a:pt x="369" y="129"/>
                    </a:lnTo>
                    <a:lnTo>
                      <a:pt x="405" y="143"/>
                    </a:lnTo>
                    <a:lnTo>
                      <a:pt x="442" y="155"/>
                    </a:lnTo>
                    <a:lnTo>
                      <a:pt x="463" y="161"/>
                    </a:lnTo>
                    <a:lnTo>
                      <a:pt x="483" y="167"/>
                    </a:lnTo>
                    <a:lnTo>
                      <a:pt x="505" y="172"/>
                    </a:lnTo>
                    <a:lnTo>
                      <a:pt x="529" y="177"/>
                    </a:lnTo>
                    <a:lnTo>
                      <a:pt x="553" y="181"/>
                    </a:lnTo>
                    <a:lnTo>
                      <a:pt x="579" y="186"/>
                    </a:lnTo>
                    <a:lnTo>
                      <a:pt x="606" y="188"/>
                    </a:lnTo>
                    <a:lnTo>
                      <a:pt x="636" y="190"/>
                    </a:lnTo>
                    <a:lnTo>
                      <a:pt x="668" y="193"/>
                    </a:lnTo>
                    <a:lnTo>
                      <a:pt x="702" y="193"/>
                    </a:lnTo>
                    <a:lnTo>
                      <a:pt x="737" y="193"/>
                    </a:lnTo>
                    <a:lnTo>
                      <a:pt x="776" y="192"/>
                    </a:lnTo>
                    <a:lnTo>
                      <a:pt x="900" y="112"/>
                    </a:lnTo>
                    <a:lnTo>
                      <a:pt x="863" y="113"/>
                    </a:lnTo>
                    <a:lnTo>
                      <a:pt x="827" y="114"/>
                    </a:lnTo>
                    <a:lnTo>
                      <a:pt x="794" y="113"/>
                    </a:lnTo>
                    <a:lnTo>
                      <a:pt x="764" y="112"/>
                    </a:lnTo>
                    <a:lnTo>
                      <a:pt x="735" y="109"/>
                    </a:lnTo>
                    <a:lnTo>
                      <a:pt x="708" y="106"/>
                    </a:lnTo>
                    <a:lnTo>
                      <a:pt x="682" y="103"/>
                    </a:lnTo>
                    <a:lnTo>
                      <a:pt x="658" y="98"/>
                    </a:lnTo>
                    <a:lnTo>
                      <a:pt x="635" y="94"/>
                    </a:lnTo>
                    <a:lnTo>
                      <a:pt x="613" y="88"/>
                    </a:lnTo>
                    <a:lnTo>
                      <a:pt x="593" y="82"/>
                    </a:lnTo>
                    <a:lnTo>
                      <a:pt x="573" y="76"/>
                    </a:lnTo>
                    <a:lnTo>
                      <a:pt x="536" y="64"/>
                    </a:lnTo>
                    <a:lnTo>
                      <a:pt x="499" y="50"/>
                    </a:lnTo>
                    <a:lnTo>
                      <a:pt x="464" y="38"/>
                    </a:lnTo>
                    <a:lnTo>
                      <a:pt x="427" y="26"/>
                    </a:lnTo>
                    <a:lnTo>
                      <a:pt x="409" y="20"/>
                    </a:lnTo>
                    <a:lnTo>
                      <a:pt x="390" y="16"/>
                    </a:lnTo>
                    <a:lnTo>
                      <a:pt x="369" y="11"/>
                    </a:lnTo>
                    <a:lnTo>
                      <a:pt x="349" y="8"/>
                    </a:lnTo>
                    <a:lnTo>
                      <a:pt x="326" y="5"/>
                    </a:lnTo>
                    <a:lnTo>
                      <a:pt x="303" y="2"/>
                    </a:lnTo>
                    <a:lnTo>
                      <a:pt x="278" y="1"/>
                    </a:lnTo>
                    <a:lnTo>
                      <a:pt x="252" y="0"/>
                    </a:lnTo>
                    <a:lnTo>
                      <a:pt x="223" y="1"/>
                    </a:lnTo>
                    <a:lnTo>
                      <a:pt x="194" y="2"/>
                    </a:lnTo>
                    <a:lnTo>
                      <a:pt x="162" y="5"/>
                    </a:lnTo>
                    <a:lnTo>
                      <a:pt x="128" y="8"/>
                    </a:lnTo>
                    <a:lnTo>
                      <a:pt x="0" y="84"/>
                    </a:lnTo>
                    <a:lnTo>
                      <a:pt x="128" y="8"/>
                    </a:lnTo>
                    <a:lnTo>
                      <a:pt x="21" y="22"/>
                    </a:lnTo>
                    <a:lnTo>
                      <a:pt x="0" y="84"/>
                    </a:lnTo>
                    <a:lnTo>
                      <a:pt x="133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2592360" y="3728880"/>
                <a:ext cx="90360" cy="43200"/>
              </a:xfrm>
              <a:custGeom>
                <a:avLst/>
                <a:gdLst/>
                <a:ahLst/>
                <a:rect l="l" t="t" r="r" b="b"/>
                <a:pathLst>
                  <a:path w="286" h="133">
                    <a:moveTo>
                      <a:pt x="0" y="133"/>
                    </a:moveTo>
                    <a:lnTo>
                      <a:pt x="22" y="132"/>
                    </a:lnTo>
                    <a:lnTo>
                      <a:pt x="49" y="128"/>
                    </a:lnTo>
                    <a:lnTo>
                      <a:pt x="75" y="125"/>
                    </a:lnTo>
                    <a:lnTo>
                      <a:pt x="100" y="119"/>
                    </a:lnTo>
                    <a:lnTo>
                      <a:pt x="125" y="111"/>
                    </a:lnTo>
                    <a:lnTo>
                      <a:pt x="149" y="101"/>
                    </a:lnTo>
                    <a:lnTo>
                      <a:pt x="182" y="85"/>
                    </a:lnTo>
                    <a:lnTo>
                      <a:pt x="227" y="59"/>
                    </a:lnTo>
                    <a:lnTo>
                      <a:pt x="257" y="37"/>
                    </a:lnTo>
                    <a:lnTo>
                      <a:pt x="270" y="24"/>
                    </a:lnTo>
                    <a:lnTo>
                      <a:pt x="278" y="15"/>
                    </a:lnTo>
                    <a:lnTo>
                      <a:pt x="283" y="8"/>
                    </a:lnTo>
                    <a:lnTo>
                      <a:pt x="286" y="0"/>
                    </a:lnTo>
                    <a:lnTo>
                      <a:pt x="153" y="73"/>
                    </a:lnTo>
                    <a:lnTo>
                      <a:pt x="151" y="78"/>
                    </a:lnTo>
                    <a:lnTo>
                      <a:pt x="148" y="83"/>
                    </a:lnTo>
                    <a:lnTo>
                      <a:pt x="147" y="84"/>
                    </a:lnTo>
                    <a:lnTo>
                      <a:pt x="151" y="80"/>
                    </a:lnTo>
                    <a:lnTo>
                      <a:pt x="168" y="68"/>
                    </a:lnTo>
                    <a:lnTo>
                      <a:pt x="198" y="49"/>
                    </a:lnTo>
                    <a:lnTo>
                      <a:pt x="217" y="40"/>
                    </a:lnTo>
                    <a:lnTo>
                      <a:pt x="225" y="38"/>
                    </a:lnTo>
                    <a:lnTo>
                      <a:pt x="211" y="41"/>
                    </a:lnTo>
                    <a:lnTo>
                      <a:pt x="193" y="46"/>
                    </a:lnTo>
                    <a:lnTo>
                      <a:pt x="170" y="49"/>
                    </a:lnTo>
                    <a:lnTo>
                      <a:pt x="145" y="52"/>
                    </a:lnTo>
                    <a:lnTo>
                      <a:pt x="116" y="54"/>
                    </a:lnTo>
                    <a:lnTo>
                      <a:pt x="87" y="55"/>
                    </a:lnTo>
                    <a:lnTo>
                      <a:pt x="54" y="56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2592360" y="3795840"/>
                <a:ext cx="147600" cy="34920"/>
              </a:xfrm>
              <a:custGeom>
                <a:avLst/>
                <a:gdLst/>
                <a:ahLst/>
                <a:rect l="l" t="t" r="r" b="b"/>
                <a:pathLst>
                  <a:path w="469" h="113">
                    <a:moveTo>
                      <a:pt x="347" y="67"/>
                    </a:moveTo>
                    <a:lnTo>
                      <a:pt x="466" y="0"/>
                    </a:lnTo>
                    <a:lnTo>
                      <a:pt x="417" y="9"/>
                    </a:lnTo>
                    <a:lnTo>
                      <a:pt x="372" y="16"/>
                    </a:lnTo>
                    <a:lnTo>
                      <a:pt x="330" y="22"/>
                    </a:lnTo>
                    <a:lnTo>
                      <a:pt x="290" y="26"/>
                    </a:lnTo>
                    <a:lnTo>
                      <a:pt x="253" y="30"/>
                    </a:lnTo>
                    <a:lnTo>
                      <a:pt x="219" y="32"/>
                    </a:lnTo>
                    <a:lnTo>
                      <a:pt x="186" y="33"/>
                    </a:lnTo>
                    <a:lnTo>
                      <a:pt x="156" y="33"/>
                    </a:lnTo>
                    <a:lnTo>
                      <a:pt x="127" y="32"/>
                    </a:lnTo>
                    <a:lnTo>
                      <a:pt x="99" y="30"/>
                    </a:lnTo>
                    <a:lnTo>
                      <a:pt x="72" y="27"/>
                    </a:lnTo>
                    <a:lnTo>
                      <a:pt x="47" y="24"/>
                    </a:lnTo>
                    <a:lnTo>
                      <a:pt x="0" y="16"/>
                    </a:lnTo>
                    <a:lnTo>
                      <a:pt x="0" y="111"/>
                    </a:lnTo>
                    <a:lnTo>
                      <a:pt x="29" y="112"/>
                    </a:lnTo>
                    <a:lnTo>
                      <a:pt x="60" y="113"/>
                    </a:lnTo>
                    <a:lnTo>
                      <a:pt x="94" y="112"/>
                    </a:lnTo>
                    <a:lnTo>
                      <a:pt x="129" y="110"/>
                    </a:lnTo>
                    <a:lnTo>
                      <a:pt x="167" y="106"/>
                    </a:lnTo>
                    <a:lnTo>
                      <a:pt x="208" y="102"/>
                    </a:lnTo>
                    <a:lnTo>
                      <a:pt x="251" y="96"/>
                    </a:lnTo>
                    <a:lnTo>
                      <a:pt x="298" y="88"/>
                    </a:lnTo>
                    <a:lnTo>
                      <a:pt x="349" y="79"/>
                    </a:lnTo>
                    <a:lnTo>
                      <a:pt x="469" y="10"/>
                    </a:lnTo>
                    <a:lnTo>
                      <a:pt x="349" y="79"/>
                    </a:lnTo>
                    <a:lnTo>
                      <a:pt x="413" y="65"/>
                    </a:lnTo>
                    <a:lnTo>
                      <a:pt x="469" y="10"/>
                    </a:lnTo>
                    <a:lnTo>
                      <a:pt x="347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2701800" y="3760920"/>
                <a:ext cx="282600" cy="55440"/>
              </a:xfrm>
              <a:custGeom>
                <a:avLst/>
                <a:gdLst/>
                <a:ahLst/>
                <a:rect l="l" t="t" r="r" b="b"/>
                <a:pathLst>
                  <a:path w="892" h="174">
                    <a:moveTo>
                      <a:pt x="582" y="80"/>
                    </a:moveTo>
                    <a:lnTo>
                      <a:pt x="703" y="1"/>
                    </a:lnTo>
                    <a:lnTo>
                      <a:pt x="667" y="7"/>
                    </a:lnTo>
                    <a:lnTo>
                      <a:pt x="627" y="12"/>
                    </a:lnTo>
                    <a:lnTo>
                      <a:pt x="586" y="18"/>
                    </a:lnTo>
                    <a:lnTo>
                      <a:pt x="542" y="23"/>
                    </a:lnTo>
                    <a:lnTo>
                      <a:pt x="454" y="32"/>
                    </a:lnTo>
                    <a:lnTo>
                      <a:pt x="368" y="41"/>
                    </a:lnTo>
                    <a:lnTo>
                      <a:pt x="325" y="45"/>
                    </a:lnTo>
                    <a:lnTo>
                      <a:pt x="285" y="52"/>
                    </a:lnTo>
                    <a:lnTo>
                      <a:pt x="247" y="58"/>
                    </a:lnTo>
                    <a:lnTo>
                      <a:pt x="212" y="66"/>
                    </a:lnTo>
                    <a:lnTo>
                      <a:pt x="193" y="70"/>
                    </a:lnTo>
                    <a:lnTo>
                      <a:pt x="175" y="76"/>
                    </a:lnTo>
                    <a:lnTo>
                      <a:pt x="157" y="82"/>
                    </a:lnTo>
                    <a:lnTo>
                      <a:pt x="134" y="91"/>
                    </a:lnTo>
                    <a:lnTo>
                      <a:pt x="103" y="106"/>
                    </a:lnTo>
                    <a:lnTo>
                      <a:pt x="59" y="131"/>
                    </a:lnTo>
                    <a:lnTo>
                      <a:pt x="19" y="158"/>
                    </a:lnTo>
                    <a:lnTo>
                      <a:pt x="0" y="174"/>
                    </a:lnTo>
                    <a:lnTo>
                      <a:pt x="122" y="117"/>
                    </a:lnTo>
                    <a:lnTo>
                      <a:pt x="116" y="122"/>
                    </a:lnTo>
                    <a:lnTo>
                      <a:pt x="94" y="137"/>
                    </a:lnTo>
                    <a:lnTo>
                      <a:pt x="69" y="150"/>
                    </a:lnTo>
                    <a:lnTo>
                      <a:pt x="60" y="155"/>
                    </a:lnTo>
                    <a:lnTo>
                      <a:pt x="63" y="154"/>
                    </a:lnTo>
                    <a:lnTo>
                      <a:pt x="71" y="151"/>
                    </a:lnTo>
                    <a:lnTo>
                      <a:pt x="83" y="148"/>
                    </a:lnTo>
                    <a:lnTo>
                      <a:pt x="97" y="144"/>
                    </a:lnTo>
                    <a:lnTo>
                      <a:pt x="128" y="137"/>
                    </a:lnTo>
                    <a:lnTo>
                      <a:pt x="165" y="131"/>
                    </a:lnTo>
                    <a:lnTo>
                      <a:pt x="204" y="125"/>
                    </a:lnTo>
                    <a:lnTo>
                      <a:pt x="245" y="120"/>
                    </a:lnTo>
                    <a:lnTo>
                      <a:pt x="331" y="110"/>
                    </a:lnTo>
                    <a:lnTo>
                      <a:pt x="420" y="101"/>
                    </a:lnTo>
                    <a:lnTo>
                      <a:pt x="464" y="97"/>
                    </a:lnTo>
                    <a:lnTo>
                      <a:pt x="506" y="92"/>
                    </a:lnTo>
                    <a:lnTo>
                      <a:pt x="547" y="85"/>
                    </a:lnTo>
                    <a:lnTo>
                      <a:pt x="586" y="80"/>
                    </a:lnTo>
                    <a:lnTo>
                      <a:pt x="706" y="0"/>
                    </a:lnTo>
                    <a:lnTo>
                      <a:pt x="586" y="80"/>
                    </a:lnTo>
                    <a:lnTo>
                      <a:pt x="892" y="11"/>
                    </a:lnTo>
                    <a:lnTo>
                      <a:pt x="706" y="0"/>
                    </a:lnTo>
                    <a:lnTo>
                      <a:pt x="582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3433680" y="3538440"/>
                <a:ext cx="567000" cy="81000"/>
              </a:xfrm>
              <a:custGeom>
                <a:avLst/>
                <a:gdLst/>
                <a:ahLst/>
                <a:rect l="l" t="t" r="r" b="b"/>
                <a:pathLst>
                  <a:path w="1785" h="251">
                    <a:moveTo>
                      <a:pt x="1785" y="112"/>
                    </a:moveTo>
                    <a:lnTo>
                      <a:pt x="1747" y="113"/>
                    </a:lnTo>
                    <a:lnTo>
                      <a:pt x="1712" y="113"/>
                    </a:lnTo>
                    <a:lnTo>
                      <a:pt x="1679" y="113"/>
                    </a:lnTo>
                    <a:lnTo>
                      <a:pt x="1647" y="111"/>
                    </a:lnTo>
                    <a:lnTo>
                      <a:pt x="1618" y="109"/>
                    </a:lnTo>
                    <a:lnTo>
                      <a:pt x="1591" y="105"/>
                    </a:lnTo>
                    <a:lnTo>
                      <a:pt x="1565" y="102"/>
                    </a:lnTo>
                    <a:lnTo>
                      <a:pt x="1541" y="97"/>
                    </a:lnTo>
                    <a:lnTo>
                      <a:pt x="1517" y="93"/>
                    </a:lnTo>
                    <a:lnTo>
                      <a:pt x="1495" y="87"/>
                    </a:lnTo>
                    <a:lnTo>
                      <a:pt x="1475" y="81"/>
                    </a:lnTo>
                    <a:lnTo>
                      <a:pt x="1454" y="76"/>
                    </a:lnTo>
                    <a:lnTo>
                      <a:pt x="1417" y="63"/>
                    </a:lnTo>
                    <a:lnTo>
                      <a:pt x="1381" y="51"/>
                    </a:lnTo>
                    <a:lnTo>
                      <a:pt x="1346" y="38"/>
                    </a:lnTo>
                    <a:lnTo>
                      <a:pt x="1309" y="27"/>
                    </a:lnTo>
                    <a:lnTo>
                      <a:pt x="1291" y="21"/>
                    </a:lnTo>
                    <a:lnTo>
                      <a:pt x="1272" y="16"/>
                    </a:lnTo>
                    <a:lnTo>
                      <a:pt x="1251" y="12"/>
                    </a:lnTo>
                    <a:lnTo>
                      <a:pt x="1231" y="8"/>
                    </a:lnTo>
                    <a:lnTo>
                      <a:pt x="1209" y="5"/>
                    </a:lnTo>
                    <a:lnTo>
                      <a:pt x="1185" y="3"/>
                    </a:lnTo>
                    <a:lnTo>
                      <a:pt x="1161" y="2"/>
                    </a:lnTo>
                    <a:lnTo>
                      <a:pt x="1135" y="0"/>
                    </a:lnTo>
                    <a:lnTo>
                      <a:pt x="1108" y="0"/>
                    </a:lnTo>
                    <a:lnTo>
                      <a:pt x="1078" y="3"/>
                    </a:lnTo>
                    <a:lnTo>
                      <a:pt x="1046" y="5"/>
                    </a:lnTo>
                    <a:lnTo>
                      <a:pt x="1013" y="8"/>
                    </a:lnTo>
                    <a:lnTo>
                      <a:pt x="1007" y="20"/>
                    </a:lnTo>
                    <a:lnTo>
                      <a:pt x="997" y="30"/>
                    </a:lnTo>
                    <a:lnTo>
                      <a:pt x="985" y="38"/>
                    </a:lnTo>
                    <a:lnTo>
                      <a:pt x="969" y="46"/>
                    </a:lnTo>
                    <a:lnTo>
                      <a:pt x="949" y="52"/>
                    </a:lnTo>
                    <a:lnTo>
                      <a:pt x="928" y="56"/>
                    </a:lnTo>
                    <a:lnTo>
                      <a:pt x="904" y="60"/>
                    </a:lnTo>
                    <a:lnTo>
                      <a:pt x="877" y="63"/>
                    </a:lnTo>
                    <a:lnTo>
                      <a:pt x="849" y="65"/>
                    </a:lnTo>
                    <a:lnTo>
                      <a:pt x="817" y="67"/>
                    </a:lnTo>
                    <a:lnTo>
                      <a:pt x="785" y="68"/>
                    </a:lnTo>
                    <a:lnTo>
                      <a:pt x="751" y="68"/>
                    </a:lnTo>
                    <a:lnTo>
                      <a:pt x="678" y="69"/>
                    </a:lnTo>
                    <a:lnTo>
                      <a:pt x="600" y="69"/>
                    </a:lnTo>
                    <a:lnTo>
                      <a:pt x="521" y="71"/>
                    </a:lnTo>
                    <a:lnTo>
                      <a:pt x="438" y="75"/>
                    </a:lnTo>
                    <a:lnTo>
                      <a:pt x="397" y="77"/>
                    </a:lnTo>
                    <a:lnTo>
                      <a:pt x="358" y="80"/>
                    </a:lnTo>
                    <a:lnTo>
                      <a:pt x="316" y="86"/>
                    </a:lnTo>
                    <a:lnTo>
                      <a:pt x="277" y="92"/>
                    </a:lnTo>
                    <a:lnTo>
                      <a:pt x="238" y="99"/>
                    </a:lnTo>
                    <a:lnTo>
                      <a:pt x="199" y="107"/>
                    </a:lnTo>
                    <a:lnTo>
                      <a:pt x="163" y="117"/>
                    </a:lnTo>
                    <a:lnTo>
                      <a:pt x="127" y="128"/>
                    </a:lnTo>
                    <a:lnTo>
                      <a:pt x="92" y="141"/>
                    </a:lnTo>
                    <a:lnTo>
                      <a:pt x="60" y="156"/>
                    </a:lnTo>
                    <a:lnTo>
                      <a:pt x="29" y="173"/>
                    </a:lnTo>
                    <a:lnTo>
                      <a:pt x="0" y="192"/>
                    </a:lnTo>
                    <a:lnTo>
                      <a:pt x="67" y="188"/>
                    </a:lnTo>
                    <a:lnTo>
                      <a:pt x="131" y="184"/>
                    </a:lnTo>
                    <a:lnTo>
                      <a:pt x="189" y="183"/>
                    </a:lnTo>
                    <a:lnTo>
                      <a:pt x="242" y="182"/>
                    </a:lnTo>
                    <a:lnTo>
                      <a:pt x="294" y="183"/>
                    </a:lnTo>
                    <a:lnTo>
                      <a:pt x="340" y="184"/>
                    </a:lnTo>
                    <a:lnTo>
                      <a:pt x="384" y="185"/>
                    </a:lnTo>
                    <a:lnTo>
                      <a:pt x="425" y="189"/>
                    </a:lnTo>
                    <a:lnTo>
                      <a:pt x="462" y="192"/>
                    </a:lnTo>
                    <a:lnTo>
                      <a:pt x="498" y="195"/>
                    </a:lnTo>
                    <a:lnTo>
                      <a:pt x="531" y="200"/>
                    </a:lnTo>
                    <a:lnTo>
                      <a:pt x="563" y="205"/>
                    </a:lnTo>
                    <a:lnTo>
                      <a:pt x="621" y="215"/>
                    </a:lnTo>
                    <a:lnTo>
                      <a:pt x="673" y="225"/>
                    </a:lnTo>
                    <a:lnTo>
                      <a:pt x="725" y="234"/>
                    </a:lnTo>
                    <a:lnTo>
                      <a:pt x="776" y="242"/>
                    </a:lnTo>
                    <a:lnTo>
                      <a:pt x="802" y="246"/>
                    </a:lnTo>
                    <a:lnTo>
                      <a:pt x="829" y="249"/>
                    </a:lnTo>
                    <a:lnTo>
                      <a:pt x="857" y="250"/>
                    </a:lnTo>
                    <a:lnTo>
                      <a:pt x="886" y="251"/>
                    </a:lnTo>
                    <a:lnTo>
                      <a:pt x="917" y="251"/>
                    </a:lnTo>
                    <a:lnTo>
                      <a:pt x="950" y="251"/>
                    </a:lnTo>
                    <a:lnTo>
                      <a:pt x="985" y="249"/>
                    </a:lnTo>
                    <a:lnTo>
                      <a:pt x="1022" y="246"/>
                    </a:lnTo>
                    <a:lnTo>
                      <a:pt x="1062" y="241"/>
                    </a:lnTo>
                    <a:lnTo>
                      <a:pt x="1105" y="235"/>
                    </a:lnTo>
                    <a:lnTo>
                      <a:pt x="1151" y="227"/>
                    </a:lnTo>
                    <a:lnTo>
                      <a:pt x="1201" y="218"/>
                    </a:lnTo>
                    <a:lnTo>
                      <a:pt x="1208" y="213"/>
                    </a:lnTo>
                    <a:lnTo>
                      <a:pt x="1217" y="206"/>
                    </a:lnTo>
                    <a:lnTo>
                      <a:pt x="1227" y="200"/>
                    </a:lnTo>
                    <a:lnTo>
                      <a:pt x="1239" y="195"/>
                    </a:lnTo>
                    <a:lnTo>
                      <a:pt x="1251" y="190"/>
                    </a:lnTo>
                    <a:lnTo>
                      <a:pt x="1265" y="185"/>
                    </a:lnTo>
                    <a:lnTo>
                      <a:pt x="1279" y="182"/>
                    </a:lnTo>
                    <a:lnTo>
                      <a:pt x="1295" y="177"/>
                    </a:lnTo>
                    <a:lnTo>
                      <a:pt x="1329" y="170"/>
                    </a:lnTo>
                    <a:lnTo>
                      <a:pt x="1365" y="164"/>
                    </a:lnTo>
                    <a:lnTo>
                      <a:pt x="1405" y="158"/>
                    </a:lnTo>
                    <a:lnTo>
                      <a:pt x="1447" y="152"/>
                    </a:lnTo>
                    <a:lnTo>
                      <a:pt x="1534" y="143"/>
                    </a:lnTo>
                    <a:lnTo>
                      <a:pt x="1622" y="134"/>
                    </a:lnTo>
                    <a:lnTo>
                      <a:pt x="1665" y="129"/>
                    </a:lnTo>
                    <a:lnTo>
                      <a:pt x="1707" y="125"/>
                    </a:lnTo>
                    <a:lnTo>
                      <a:pt x="1747" y="119"/>
                    </a:lnTo>
                    <a:lnTo>
                      <a:pt x="1785" y="11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3733920" y="3525840"/>
                <a:ext cx="285480" cy="61920"/>
              </a:xfrm>
              <a:custGeom>
                <a:avLst/>
                <a:gdLst/>
                <a:ahLst/>
                <a:rect l="l" t="t" r="r" b="b"/>
                <a:pathLst>
                  <a:path w="901" h="193">
                    <a:moveTo>
                      <a:pt x="133" y="12"/>
                    </a:moveTo>
                    <a:lnTo>
                      <a:pt x="6" y="88"/>
                    </a:lnTo>
                    <a:lnTo>
                      <a:pt x="38" y="85"/>
                    </a:lnTo>
                    <a:lnTo>
                      <a:pt x="68" y="81"/>
                    </a:lnTo>
                    <a:lnTo>
                      <a:pt x="98" y="80"/>
                    </a:lnTo>
                    <a:lnTo>
                      <a:pt x="125" y="80"/>
                    </a:lnTo>
                    <a:lnTo>
                      <a:pt x="150" y="80"/>
                    </a:lnTo>
                    <a:lnTo>
                      <a:pt x="174" y="83"/>
                    </a:lnTo>
                    <a:lnTo>
                      <a:pt x="197" y="85"/>
                    </a:lnTo>
                    <a:lnTo>
                      <a:pt x="219" y="87"/>
                    </a:lnTo>
                    <a:lnTo>
                      <a:pt x="239" y="92"/>
                    </a:lnTo>
                    <a:lnTo>
                      <a:pt x="260" y="95"/>
                    </a:lnTo>
                    <a:lnTo>
                      <a:pt x="278" y="101"/>
                    </a:lnTo>
                    <a:lnTo>
                      <a:pt x="297" y="105"/>
                    </a:lnTo>
                    <a:lnTo>
                      <a:pt x="333" y="117"/>
                    </a:lnTo>
                    <a:lnTo>
                      <a:pt x="368" y="129"/>
                    </a:lnTo>
                    <a:lnTo>
                      <a:pt x="405" y="143"/>
                    </a:lnTo>
                    <a:lnTo>
                      <a:pt x="442" y="156"/>
                    </a:lnTo>
                    <a:lnTo>
                      <a:pt x="463" y="161"/>
                    </a:lnTo>
                    <a:lnTo>
                      <a:pt x="483" y="167"/>
                    </a:lnTo>
                    <a:lnTo>
                      <a:pt x="505" y="173"/>
                    </a:lnTo>
                    <a:lnTo>
                      <a:pt x="529" y="177"/>
                    </a:lnTo>
                    <a:lnTo>
                      <a:pt x="553" y="182"/>
                    </a:lnTo>
                    <a:lnTo>
                      <a:pt x="579" y="185"/>
                    </a:lnTo>
                    <a:lnTo>
                      <a:pt x="606" y="189"/>
                    </a:lnTo>
                    <a:lnTo>
                      <a:pt x="636" y="191"/>
                    </a:lnTo>
                    <a:lnTo>
                      <a:pt x="668" y="193"/>
                    </a:lnTo>
                    <a:lnTo>
                      <a:pt x="701" y="193"/>
                    </a:lnTo>
                    <a:lnTo>
                      <a:pt x="737" y="193"/>
                    </a:lnTo>
                    <a:lnTo>
                      <a:pt x="776" y="192"/>
                    </a:lnTo>
                    <a:lnTo>
                      <a:pt x="901" y="112"/>
                    </a:lnTo>
                    <a:lnTo>
                      <a:pt x="863" y="113"/>
                    </a:lnTo>
                    <a:lnTo>
                      <a:pt x="828" y="113"/>
                    </a:lnTo>
                    <a:lnTo>
                      <a:pt x="794" y="113"/>
                    </a:lnTo>
                    <a:lnTo>
                      <a:pt x="764" y="111"/>
                    </a:lnTo>
                    <a:lnTo>
                      <a:pt x="735" y="109"/>
                    </a:lnTo>
                    <a:lnTo>
                      <a:pt x="708" y="107"/>
                    </a:lnTo>
                    <a:lnTo>
                      <a:pt x="682" y="102"/>
                    </a:lnTo>
                    <a:lnTo>
                      <a:pt x="658" y="97"/>
                    </a:lnTo>
                    <a:lnTo>
                      <a:pt x="635" y="93"/>
                    </a:lnTo>
                    <a:lnTo>
                      <a:pt x="613" y="88"/>
                    </a:lnTo>
                    <a:lnTo>
                      <a:pt x="593" y="83"/>
                    </a:lnTo>
                    <a:lnTo>
                      <a:pt x="573" y="76"/>
                    </a:lnTo>
                    <a:lnTo>
                      <a:pt x="536" y="63"/>
                    </a:lnTo>
                    <a:lnTo>
                      <a:pt x="499" y="51"/>
                    </a:lnTo>
                    <a:lnTo>
                      <a:pt x="464" y="38"/>
                    </a:lnTo>
                    <a:lnTo>
                      <a:pt x="427" y="27"/>
                    </a:lnTo>
                    <a:lnTo>
                      <a:pt x="409" y="21"/>
                    </a:lnTo>
                    <a:lnTo>
                      <a:pt x="390" y="16"/>
                    </a:lnTo>
                    <a:lnTo>
                      <a:pt x="369" y="12"/>
                    </a:lnTo>
                    <a:lnTo>
                      <a:pt x="349" y="8"/>
                    </a:lnTo>
                    <a:lnTo>
                      <a:pt x="326" y="5"/>
                    </a:lnTo>
                    <a:lnTo>
                      <a:pt x="303" y="3"/>
                    </a:lnTo>
                    <a:lnTo>
                      <a:pt x="278" y="2"/>
                    </a:lnTo>
                    <a:lnTo>
                      <a:pt x="251" y="0"/>
                    </a:lnTo>
                    <a:lnTo>
                      <a:pt x="223" y="0"/>
                    </a:lnTo>
                    <a:lnTo>
                      <a:pt x="194" y="3"/>
                    </a:lnTo>
                    <a:lnTo>
                      <a:pt x="162" y="5"/>
                    </a:lnTo>
                    <a:lnTo>
                      <a:pt x="128" y="8"/>
                    </a:lnTo>
                    <a:lnTo>
                      <a:pt x="0" y="85"/>
                    </a:lnTo>
                    <a:lnTo>
                      <a:pt x="128" y="8"/>
                    </a:lnTo>
                    <a:lnTo>
                      <a:pt x="22" y="22"/>
                    </a:lnTo>
                    <a:lnTo>
                      <a:pt x="0" y="85"/>
                    </a:lnTo>
                    <a:lnTo>
                      <a:pt x="133" y="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3408480" y="3530520"/>
                <a:ext cx="368280" cy="82800"/>
              </a:xfrm>
              <a:custGeom>
                <a:avLst/>
                <a:gdLst/>
                <a:ahLst/>
                <a:rect l="l" t="t" r="r" b="b"/>
                <a:pathLst>
                  <a:path w="1160" h="261">
                    <a:moveTo>
                      <a:pt x="142" y="180"/>
                    </a:moveTo>
                    <a:lnTo>
                      <a:pt x="122" y="206"/>
                    </a:lnTo>
                    <a:lnTo>
                      <a:pt x="123" y="205"/>
                    </a:lnTo>
                    <a:lnTo>
                      <a:pt x="122" y="206"/>
                    </a:lnTo>
                    <a:lnTo>
                      <a:pt x="121" y="208"/>
                    </a:lnTo>
                    <a:lnTo>
                      <a:pt x="121" y="208"/>
                    </a:lnTo>
                    <a:lnTo>
                      <a:pt x="125" y="205"/>
                    </a:lnTo>
                    <a:lnTo>
                      <a:pt x="133" y="202"/>
                    </a:lnTo>
                    <a:lnTo>
                      <a:pt x="145" y="197"/>
                    </a:lnTo>
                    <a:lnTo>
                      <a:pt x="156" y="193"/>
                    </a:lnTo>
                    <a:lnTo>
                      <a:pt x="189" y="182"/>
                    </a:lnTo>
                    <a:lnTo>
                      <a:pt x="222" y="173"/>
                    </a:lnTo>
                    <a:lnTo>
                      <a:pt x="259" y="165"/>
                    </a:lnTo>
                    <a:lnTo>
                      <a:pt x="297" y="158"/>
                    </a:lnTo>
                    <a:lnTo>
                      <a:pt x="336" y="153"/>
                    </a:lnTo>
                    <a:lnTo>
                      <a:pt x="376" y="148"/>
                    </a:lnTo>
                    <a:lnTo>
                      <a:pt x="416" y="145"/>
                    </a:lnTo>
                    <a:lnTo>
                      <a:pt x="457" y="142"/>
                    </a:lnTo>
                    <a:lnTo>
                      <a:pt x="538" y="139"/>
                    </a:lnTo>
                    <a:lnTo>
                      <a:pt x="618" y="137"/>
                    </a:lnTo>
                    <a:lnTo>
                      <a:pt x="695" y="137"/>
                    </a:lnTo>
                    <a:lnTo>
                      <a:pt x="767" y="136"/>
                    </a:lnTo>
                    <a:lnTo>
                      <a:pt x="802" y="136"/>
                    </a:lnTo>
                    <a:lnTo>
                      <a:pt x="834" y="135"/>
                    </a:lnTo>
                    <a:lnTo>
                      <a:pt x="866" y="133"/>
                    </a:lnTo>
                    <a:lnTo>
                      <a:pt x="896" y="131"/>
                    </a:lnTo>
                    <a:lnTo>
                      <a:pt x="923" y="128"/>
                    </a:lnTo>
                    <a:lnTo>
                      <a:pt x="948" y="123"/>
                    </a:lnTo>
                    <a:lnTo>
                      <a:pt x="973" y="119"/>
                    </a:lnTo>
                    <a:lnTo>
                      <a:pt x="998" y="111"/>
                    </a:lnTo>
                    <a:lnTo>
                      <a:pt x="1022" y="100"/>
                    </a:lnTo>
                    <a:lnTo>
                      <a:pt x="1057" y="84"/>
                    </a:lnTo>
                    <a:lnTo>
                      <a:pt x="1101" y="58"/>
                    </a:lnTo>
                    <a:lnTo>
                      <a:pt x="1131" y="36"/>
                    </a:lnTo>
                    <a:lnTo>
                      <a:pt x="1144" y="24"/>
                    </a:lnTo>
                    <a:lnTo>
                      <a:pt x="1152" y="15"/>
                    </a:lnTo>
                    <a:lnTo>
                      <a:pt x="1157" y="7"/>
                    </a:lnTo>
                    <a:lnTo>
                      <a:pt x="1160" y="0"/>
                    </a:lnTo>
                    <a:lnTo>
                      <a:pt x="1027" y="73"/>
                    </a:lnTo>
                    <a:lnTo>
                      <a:pt x="1025" y="77"/>
                    </a:lnTo>
                    <a:lnTo>
                      <a:pt x="1022" y="81"/>
                    </a:lnTo>
                    <a:lnTo>
                      <a:pt x="1021" y="83"/>
                    </a:lnTo>
                    <a:lnTo>
                      <a:pt x="1025" y="80"/>
                    </a:lnTo>
                    <a:lnTo>
                      <a:pt x="1042" y="67"/>
                    </a:lnTo>
                    <a:lnTo>
                      <a:pt x="1073" y="49"/>
                    </a:lnTo>
                    <a:lnTo>
                      <a:pt x="1091" y="40"/>
                    </a:lnTo>
                    <a:lnTo>
                      <a:pt x="1099" y="36"/>
                    </a:lnTo>
                    <a:lnTo>
                      <a:pt x="1085" y="41"/>
                    </a:lnTo>
                    <a:lnTo>
                      <a:pt x="1067" y="44"/>
                    </a:lnTo>
                    <a:lnTo>
                      <a:pt x="1044" y="49"/>
                    </a:lnTo>
                    <a:lnTo>
                      <a:pt x="1019" y="51"/>
                    </a:lnTo>
                    <a:lnTo>
                      <a:pt x="990" y="53"/>
                    </a:lnTo>
                    <a:lnTo>
                      <a:pt x="960" y="55"/>
                    </a:lnTo>
                    <a:lnTo>
                      <a:pt x="928" y="56"/>
                    </a:lnTo>
                    <a:lnTo>
                      <a:pt x="894" y="56"/>
                    </a:lnTo>
                    <a:lnTo>
                      <a:pt x="821" y="57"/>
                    </a:lnTo>
                    <a:lnTo>
                      <a:pt x="743" y="57"/>
                    </a:lnTo>
                    <a:lnTo>
                      <a:pt x="663" y="59"/>
                    </a:lnTo>
                    <a:lnTo>
                      <a:pt x="581" y="63"/>
                    </a:lnTo>
                    <a:lnTo>
                      <a:pt x="540" y="65"/>
                    </a:lnTo>
                    <a:lnTo>
                      <a:pt x="498" y="69"/>
                    </a:lnTo>
                    <a:lnTo>
                      <a:pt x="457" y="74"/>
                    </a:lnTo>
                    <a:lnTo>
                      <a:pt x="417" y="80"/>
                    </a:lnTo>
                    <a:lnTo>
                      <a:pt x="376" y="87"/>
                    </a:lnTo>
                    <a:lnTo>
                      <a:pt x="336" y="96"/>
                    </a:lnTo>
                    <a:lnTo>
                      <a:pt x="296" y="106"/>
                    </a:lnTo>
                    <a:lnTo>
                      <a:pt x="257" y="119"/>
                    </a:lnTo>
                    <a:lnTo>
                      <a:pt x="233" y="128"/>
                    </a:lnTo>
                    <a:lnTo>
                      <a:pt x="212" y="137"/>
                    </a:lnTo>
                    <a:lnTo>
                      <a:pt x="187" y="147"/>
                    </a:lnTo>
                    <a:lnTo>
                      <a:pt x="159" y="161"/>
                    </a:lnTo>
                    <a:lnTo>
                      <a:pt x="127" y="177"/>
                    </a:lnTo>
                    <a:lnTo>
                      <a:pt x="96" y="195"/>
                    </a:lnTo>
                    <a:lnTo>
                      <a:pt x="65" y="214"/>
                    </a:lnTo>
                    <a:lnTo>
                      <a:pt x="37" y="234"/>
                    </a:lnTo>
                    <a:lnTo>
                      <a:pt x="18" y="260"/>
                    </a:lnTo>
                    <a:lnTo>
                      <a:pt x="37" y="234"/>
                    </a:lnTo>
                    <a:lnTo>
                      <a:pt x="0" y="261"/>
                    </a:lnTo>
                    <a:lnTo>
                      <a:pt x="18" y="260"/>
                    </a:lnTo>
                    <a:lnTo>
                      <a:pt x="142" y="1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3413160" y="3584520"/>
                <a:ext cx="420480" cy="47520"/>
              </a:xfrm>
              <a:custGeom>
                <a:avLst/>
                <a:gdLst/>
                <a:ahLst/>
                <a:rect l="l" t="t" r="r" b="b"/>
                <a:pathLst>
                  <a:path w="1325" h="149">
                    <a:moveTo>
                      <a:pt x="1203" y="105"/>
                    </a:moveTo>
                    <a:lnTo>
                      <a:pt x="1322" y="38"/>
                    </a:lnTo>
                    <a:lnTo>
                      <a:pt x="1273" y="47"/>
                    </a:lnTo>
                    <a:lnTo>
                      <a:pt x="1228" y="53"/>
                    </a:lnTo>
                    <a:lnTo>
                      <a:pt x="1186" y="59"/>
                    </a:lnTo>
                    <a:lnTo>
                      <a:pt x="1146" y="64"/>
                    </a:lnTo>
                    <a:lnTo>
                      <a:pt x="1109" y="67"/>
                    </a:lnTo>
                    <a:lnTo>
                      <a:pt x="1075" y="69"/>
                    </a:lnTo>
                    <a:lnTo>
                      <a:pt x="1042" y="69"/>
                    </a:lnTo>
                    <a:lnTo>
                      <a:pt x="1011" y="69"/>
                    </a:lnTo>
                    <a:lnTo>
                      <a:pt x="983" y="68"/>
                    </a:lnTo>
                    <a:lnTo>
                      <a:pt x="955" y="67"/>
                    </a:lnTo>
                    <a:lnTo>
                      <a:pt x="928" y="65"/>
                    </a:lnTo>
                    <a:lnTo>
                      <a:pt x="903" y="61"/>
                    </a:lnTo>
                    <a:lnTo>
                      <a:pt x="852" y="53"/>
                    </a:lnTo>
                    <a:lnTo>
                      <a:pt x="800" y="43"/>
                    </a:lnTo>
                    <a:lnTo>
                      <a:pt x="747" y="33"/>
                    </a:lnTo>
                    <a:lnTo>
                      <a:pt x="689" y="23"/>
                    </a:lnTo>
                    <a:lnTo>
                      <a:pt x="658" y="18"/>
                    </a:lnTo>
                    <a:lnTo>
                      <a:pt x="625" y="14"/>
                    </a:lnTo>
                    <a:lnTo>
                      <a:pt x="588" y="10"/>
                    </a:lnTo>
                    <a:lnTo>
                      <a:pt x="551" y="7"/>
                    </a:lnTo>
                    <a:lnTo>
                      <a:pt x="510" y="4"/>
                    </a:lnTo>
                    <a:lnTo>
                      <a:pt x="466" y="2"/>
                    </a:lnTo>
                    <a:lnTo>
                      <a:pt x="418" y="1"/>
                    </a:lnTo>
                    <a:lnTo>
                      <a:pt x="368" y="0"/>
                    </a:lnTo>
                    <a:lnTo>
                      <a:pt x="314" y="1"/>
                    </a:lnTo>
                    <a:lnTo>
                      <a:pt x="254" y="2"/>
                    </a:lnTo>
                    <a:lnTo>
                      <a:pt x="192" y="6"/>
                    </a:lnTo>
                    <a:lnTo>
                      <a:pt x="124" y="10"/>
                    </a:lnTo>
                    <a:lnTo>
                      <a:pt x="0" y="90"/>
                    </a:lnTo>
                    <a:lnTo>
                      <a:pt x="67" y="85"/>
                    </a:lnTo>
                    <a:lnTo>
                      <a:pt x="130" y="82"/>
                    </a:lnTo>
                    <a:lnTo>
                      <a:pt x="188" y="81"/>
                    </a:lnTo>
                    <a:lnTo>
                      <a:pt x="242" y="80"/>
                    </a:lnTo>
                    <a:lnTo>
                      <a:pt x="292" y="80"/>
                    </a:lnTo>
                    <a:lnTo>
                      <a:pt x="339" y="81"/>
                    </a:lnTo>
                    <a:lnTo>
                      <a:pt x="382" y="83"/>
                    </a:lnTo>
                    <a:lnTo>
                      <a:pt x="423" y="87"/>
                    </a:lnTo>
                    <a:lnTo>
                      <a:pt x="461" y="90"/>
                    </a:lnTo>
                    <a:lnTo>
                      <a:pt x="496" y="93"/>
                    </a:lnTo>
                    <a:lnTo>
                      <a:pt x="529" y="98"/>
                    </a:lnTo>
                    <a:lnTo>
                      <a:pt x="560" y="103"/>
                    </a:lnTo>
                    <a:lnTo>
                      <a:pt x="618" y="113"/>
                    </a:lnTo>
                    <a:lnTo>
                      <a:pt x="671" y="123"/>
                    </a:lnTo>
                    <a:lnTo>
                      <a:pt x="723" y="132"/>
                    </a:lnTo>
                    <a:lnTo>
                      <a:pt x="773" y="140"/>
                    </a:lnTo>
                    <a:lnTo>
                      <a:pt x="800" y="144"/>
                    </a:lnTo>
                    <a:lnTo>
                      <a:pt x="827" y="147"/>
                    </a:lnTo>
                    <a:lnTo>
                      <a:pt x="855" y="148"/>
                    </a:lnTo>
                    <a:lnTo>
                      <a:pt x="885" y="149"/>
                    </a:lnTo>
                    <a:lnTo>
                      <a:pt x="917" y="149"/>
                    </a:lnTo>
                    <a:lnTo>
                      <a:pt x="950" y="148"/>
                    </a:lnTo>
                    <a:lnTo>
                      <a:pt x="985" y="147"/>
                    </a:lnTo>
                    <a:lnTo>
                      <a:pt x="1023" y="144"/>
                    </a:lnTo>
                    <a:lnTo>
                      <a:pt x="1064" y="139"/>
                    </a:lnTo>
                    <a:lnTo>
                      <a:pt x="1107" y="132"/>
                    </a:lnTo>
                    <a:lnTo>
                      <a:pt x="1154" y="125"/>
                    </a:lnTo>
                    <a:lnTo>
                      <a:pt x="1205" y="115"/>
                    </a:lnTo>
                    <a:lnTo>
                      <a:pt x="1325" y="48"/>
                    </a:lnTo>
                    <a:lnTo>
                      <a:pt x="1205" y="115"/>
                    </a:lnTo>
                    <a:lnTo>
                      <a:pt x="1269" y="103"/>
                    </a:lnTo>
                    <a:lnTo>
                      <a:pt x="1325" y="48"/>
                    </a:lnTo>
                    <a:lnTo>
                      <a:pt x="1203" y="10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3795840" y="3562200"/>
                <a:ext cx="282600" cy="55800"/>
              </a:xfrm>
              <a:custGeom>
                <a:avLst/>
                <a:gdLst/>
                <a:ahLst/>
                <a:rect l="l" t="t" r="r" b="b"/>
                <a:pathLst>
                  <a:path w="892" h="175">
                    <a:moveTo>
                      <a:pt x="582" y="80"/>
                    </a:moveTo>
                    <a:lnTo>
                      <a:pt x="703" y="0"/>
                    </a:lnTo>
                    <a:lnTo>
                      <a:pt x="667" y="7"/>
                    </a:lnTo>
                    <a:lnTo>
                      <a:pt x="627" y="13"/>
                    </a:lnTo>
                    <a:lnTo>
                      <a:pt x="586" y="17"/>
                    </a:lnTo>
                    <a:lnTo>
                      <a:pt x="542" y="22"/>
                    </a:lnTo>
                    <a:lnTo>
                      <a:pt x="455" y="31"/>
                    </a:lnTo>
                    <a:lnTo>
                      <a:pt x="367" y="40"/>
                    </a:lnTo>
                    <a:lnTo>
                      <a:pt x="325" y="46"/>
                    </a:lnTo>
                    <a:lnTo>
                      <a:pt x="285" y="52"/>
                    </a:lnTo>
                    <a:lnTo>
                      <a:pt x="247" y="58"/>
                    </a:lnTo>
                    <a:lnTo>
                      <a:pt x="211" y="66"/>
                    </a:lnTo>
                    <a:lnTo>
                      <a:pt x="194" y="71"/>
                    </a:lnTo>
                    <a:lnTo>
                      <a:pt x="175" y="77"/>
                    </a:lnTo>
                    <a:lnTo>
                      <a:pt x="157" y="82"/>
                    </a:lnTo>
                    <a:lnTo>
                      <a:pt x="134" y="92"/>
                    </a:lnTo>
                    <a:lnTo>
                      <a:pt x="103" y="106"/>
                    </a:lnTo>
                    <a:lnTo>
                      <a:pt x="59" y="131"/>
                    </a:lnTo>
                    <a:lnTo>
                      <a:pt x="19" y="158"/>
                    </a:lnTo>
                    <a:lnTo>
                      <a:pt x="0" y="175"/>
                    </a:lnTo>
                    <a:lnTo>
                      <a:pt x="122" y="118"/>
                    </a:lnTo>
                    <a:lnTo>
                      <a:pt x="116" y="122"/>
                    </a:lnTo>
                    <a:lnTo>
                      <a:pt x="94" y="137"/>
                    </a:lnTo>
                    <a:lnTo>
                      <a:pt x="69" y="151"/>
                    </a:lnTo>
                    <a:lnTo>
                      <a:pt x="60" y="155"/>
                    </a:lnTo>
                    <a:lnTo>
                      <a:pt x="64" y="154"/>
                    </a:lnTo>
                    <a:lnTo>
                      <a:pt x="72" y="151"/>
                    </a:lnTo>
                    <a:lnTo>
                      <a:pt x="83" y="147"/>
                    </a:lnTo>
                    <a:lnTo>
                      <a:pt x="97" y="144"/>
                    </a:lnTo>
                    <a:lnTo>
                      <a:pt x="129" y="137"/>
                    </a:lnTo>
                    <a:lnTo>
                      <a:pt x="165" y="131"/>
                    </a:lnTo>
                    <a:lnTo>
                      <a:pt x="204" y="126"/>
                    </a:lnTo>
                    <a:lnTo>
                      <a:pt x="245" y="120"/>
                    </a:lnTo>
                    <a:lnTo>
                      <a:pt x="331" y="111"/>
                    </a:lnTo>
                    <a:lnTo>
                      <a:pt x="420" y="102"/>
                    </a:lnTo>
                    <a:lnTo>
                      <a:pt x="464" y="97"/>
                    </a:lnTo>
                    <a:lnTo>
                      <a:pt x="506" y="92"/>
                    </a:lnTo>
                    <a:lnTo>
                      <a:pt x="547" y="86"/>
                    </a:lnTo>
                    <a:lnTo>
                      <a:pt x="585" y="79"/>
                    </a:lnTo>
                    <a:lnTo>
                      <a:pt x="707" y="0"/>
                    </a:lnTo>
                    <a:lnTo>
                      <a:pt x="585" y="79"/>
                    </a:lnTo>
                    <a:lnTo>
                      <a:pt x="892" y="12"/>
                    </a:lnTo>
                    <a:lnTo>
                      <a:pt x="707" y="0"/>
                    </a:lnTo>
                    <a:lnTo>
                      <a:pt x="582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5478480" y="3549600"/>
                <a:ext cx="566640" cy="81000"/>
              </a:xfrm>
              <a:custGeom>
                <a:avLst/>
                <a:gdLst/>
                <a:ahLst/>
                <a:rect l="l" t="t" r="r" b="b"/>
                <a:pathLst>
                  <a:path w="1785" h="251">
                    <a:moveTo>
                      <a:pt x="0" y="111"/>
                    </a:moveTo>
                    <a:lnTo>
                      <a:pt x="38" y="113"/>
                    </a:lnTo>
                    <a:lnTo>
                      <a:pt x="74" y="113"/>
                    </a:lnTo>
                    <a:lnTo>
                      <a:pt x="107" y="111"/>
                    </a:lnTo>
                    <a:lnTo>
                      <a:pt x="138" y="110"/>
                    </a:lnTo>
                    <a:lnTo>
                      <a:pt x="167" y="108"/>
                    </a:lnTo>
                    <a:lnTo>
                      <a:pt x="195" y="105"/>
                    </a:lnTo>
                    <a:lnTo>
                      <a:pt x="221" y="101"/>
                    </a:lnTo>
                    <a:lnTo>
                      <a:pt x="245" y="97"/>
                    </a:lnTo>
                    <a:lnTo>
                      <a:pt x="267" y="92"/>
                    </a:lnTo>
                    <a:lnTo>
                      <a:pt x="289" y="86"/>
                    </a:lnTo>
                    <a:lnTo>
                      <a:pt x="311" y="81"/>
                    </a:lnTo>
                    <a:lnTo>
                      <a:pt x="330" y="75"/>
                    </a:lnTo>
                    <a:lnTo>
                      <a:pt x="368" y="62"/>
                    </a:lnTo>
                    <a:lnTo>
                      <a:pt x="404" y="49"/>
                    </a:lnTo>
                    <a:lnTo>
                      <a:pt x="440" y="36"/>
                    </a:lnTo>
                    <a:lnTo>
                      <a:pt x="476" y="25"/>
                    </a:lnTo>
                    <a:lnTo>
                      <a:pt x="494" y="20"/>
                    </a:lnTo>
                    <a:lnTo>
                      <a:pt x="514" y="14"/>
                    </a:lnTo>
                    <a:lnTo>
                      <a:pt x="533" y="11"/>
                    </a:lnTo>
                    <a:lnTo>
                      <a:pt x="555" y="6"/>
                    </a:lnTo>
                    <a:lnTo>
                      <a:pt x="576" y="4"/>
                    </a:lnTo>
                    <a:lnTo>
                      <a:pt x="599" y="2"/>
                    </a:lnTo>
                    <a:lnTo>
                      <a:pt x="624" y="0"/>
                    </a:lnTo>
                    <a:lnTo>
                      <a:pt x="651" y="0"/>
                    </a:lnTo>
                    <a:lnTo>
                      <a:pt x="678" y="0"/>
                    </a:lnTo>
                    <a:lnTo>
                      <a:pt x="708" y="1"/>
                    </a:lnTo>
                    <a:lnTo>
                      <a:pt x="738" y="3"/>
                    </a:lnTo>
                    <a:lnTo>
                      <a:pt x="772" y="8"/>
                    </a:lnTo>
                    <a:lnTo>
                      <a:pt x="778" y="19"/>
                    </a:lnTo>
                    <a:lnTo>
                      <a:pt x="787" y="29"/>
                    </a:lnTo>
                    <a:lnTo>
                      <a:pt x="801" y="37"/>
                    </a:lnTo>
                    <a:lnTo>
                      <a:pt x="817" y="44"/>
                    </a:lnTo>
                    <a:lnTo>
                      <a:pt x="835" y="50"/>
                    </a:lnTo>
                    <a:lnTo>
                      <a:pt x="857" y="56"/>
                    </a:lnTo>
                    <a:lnTo>
                      <a:pt x="881" y="59"/>
                    </a:lnTo>
                    <a:lnTo>
                      <a:pt x="908" y="61"/>
                    </a:lnTo>
                    <a:lnTo>
                      <a:pt x="937" y="64"/>
                    </a:lnTo>
                    <a:lnTo>
                      <a:pt x="967" y="66"/>
                    </a:lnTo>
                    <a:lnTo>
                      <a:pt x="1000" y="66"/>
                    </a:lnTo>
                    <a:lnTo>
                      <a:pt x="1035" y="67"/>
                    </a:lnTo>
                    <a:lnTo>
                      <a:pt x="1108" y="68"/>
                    </a:lnTo>
                    <a:lnTo>
                      <a:pt x="1185" y="68"/>
                    </a:lnTo>
                    <a:lnTo>
                      <a:pt x="1265" y="69"/>
                    </a:lnTo>
                    <a:lnTo>
                      <a:pt x="1346" y="73"/>
                    </a:lnTo>
                    <a:lnTo>
                      <a:pt x="1387" y="76"/>
                    </a:lnTo>
                    <a:lnTo>
                      <a:pt x="1428" y="79"/>
                    </a:lnTo>
                    <a:lnTo>
                      <a:pt x="1468" y="84"/>
                    </a:lnTo>
                    <a:lnTo>
                      <a:pt x="1508" y="90"/>
                    </a:lnTo>
                    <a:lnTo>
                      <a:pt x="1548" y="97"/>
                    </a:lnTo>
                    <a:lnTo>
                      <a:pt x="1585" y="106"/>
                    </a:lnTo>
                    <a:lnTo>
                      <a:pt x="1623" y="115"/>
                    </a:lnTo>
                    <a:lnTo>
                      <a:pt x="1658" y="126"/>
                    </a:lnTo>
                    <a:lnTo>
                      <a:pt x="1692" y="140"/>
                    </a:lnTo>
                    <a:lnTo>
                      <a:pt x="1726" y="155"/>
                    </a:lnTo>
                    <a:lnTo>
                      <a:pt x="1756" y="172"/>
                    </a:lnTo>
                    <a:lnTo>
                      <a:pt x="1785" y="190"/>
                    </a:lnTo>
                    <a:lnTo>
                      <a:pt x="1718" y="187"/>
                    </a:lnTo>
                    <a:lnTo>
                      <a:pt x="1655" y="183"/>
                    </a:lnTo>
                    <a:lnTo>
                      <a:pt x="1597" y="182"/>
                    </a:lnTo>
                    <a:lnTo>
                      <a:pt x="1542" y="181"/>
                    </a:lnTo>
                    <a:lnTo>
                      <a:pt x="1492" y="181"/>
                    </a:lnTo>
                    <a:lnTo>
                      <a:pt x="1445" y="182"/>
                    </a:lnTo>
                    <a:lnTo>
                      <a:pt x="1401" y="184"/>
                    </a:lnTo>
                    <a:lnTo>
                      <a:pt x="1361" y="187"/>
                    </a:lnTo>
                    <a:lnTo>
                      <a:pt x="1322" y="191"/>
                    </a:lnTo>
                    <a:lnTo>
                      <a:pt x="1287" y="195"/>
                    </a:lnTo>
                    <a:lnTo>
                      <a:pt x="1254" y="199"/>
                    </a:lnTo>
                    <a:lnTo>
                      <a:pt x="1223" y="204"/>
                    </a:lnTo>
                    <a:lnTo>
                      <a:pt x="1165" y="214"/>
                    </a:lnTo>
                    <a:lnTo>
                      <a:pt x="1111" y="223"/>
                    </a:lnTo>
                    <a:lnTo>
                      <a:pt x="1060" y="234"/>
                    </a:lnTo>
                    <a:lnTo>
                      <a:pt x="1010" y="241"/>
                    </a:lnTo>
                    <a:lnTo>
                      <a:pt x="983" y="245"/>
                    </a:lnTo>
                    <a:lnTo>
                      <a:pt x="956" y="247"/>
                    </a:lnTo>
                    <a:lnTo>
                      <a:pt x="928" y="249"/>
                    </a:lnTo>
                    <a:lnTo>
                      <a:pt x="899" y="251"/>
                    </a:lnTo>
                    <a:lnTo>
                      <a:pt x="868" y="251"/>
                    </a:lnTo>
                    <a:lnTo>
                      <a:pt x="835" y="249"/>
                    </a:lnTo>
                    <a:lnTo>
                      <a:pt x="800" y="247"/>
                    </a:lnTo>
                    <a:lnTo>
                      <a:pt x="763" y="245"/>
                    </a:lnTo>
                    <a:lnTo>
                      <a:pt x="722" y="240"/>
                    </a:lnTo>
                    <a:lnTo>
                      <a:pt x="680" y="234"/>
                    </a:lnTo>
                    <a:lnTo>
                      <a:pt x="633" y="227"/>
                    </a:lnTo>
                    <a:lnTo>
                      <a:pt x="584" y="218"/>
                    </a:lnTo>
                    <a:lnTo>
                      <a:pt x="576" y="211"/>
                    </a:lnTo>
                    <a:lnTo>
                      <a:pt x="568" y="205"/>
                    </a:lnTo>
                    <a:lnTo>
                      <a:pt x="558" y="199"/>
                    </a:lnTo>
                    <a:lnTo>
                      <a:pt x="547" y="194"/>
                    </a:lnTo>
                    <a:lnTo>
                      <a:pt x="534" y="189"/>
                    </a:lnTo>
                    <a:lnTo>
                      <a:pt x="521" y="184"/>
                    </a:lnTo>
                    <a:lnTo>
                      <a:pt x="506" y="180"/>
                    </a:lnTo>
                    <a:lnTo>
                      <a:pt x="490" y="176"/>
                    </a:lnTo>
                    <a:lnTo>
                      <a:pt x="457" y="168"/>
                    </a:lnTo>
                    <a:lnTo>
                      <a:pt x="419" y="163"/>
                    </a:lnTo>
                    <a:lnTo>
                      <a:pt x="379" y="157"/>
                    </a:lnTo>
                    <a:lnTo>
                      <a:pt x="338" y="151"/>
                    </a:lnTo>
                    <a:lnTo>
                      <a:pt x="252" y="142"/>
                    </a:lnTo>
                    <a:lnTo>
                      <a:pt x="163" y="133"/>
                    </a:lnTo>
                    <a:lnTo>
                      <a:pt x="119" y="129"/>
                    </a:lnTo>
                    <a:lnTo>
                      <a:pt x="78" y="123"/>
                    </a:lnTo>
                    <a:lnTo>
                      <a:pt x="37" y="11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5457960" y="3537000"/>
                <a:ext cx="287280" cy="61920"/>
              </a:xfrm>
              <a:custGeom>
                <a:avLst/>
                <a:gdLst/>
                <a:ahLst/>
                <a:rect l="l" t="t" r="r" b="b"/>
                <a:pathLst>
                  <a:path w="902" h="193">
                    <a:moveTo>
                      <a:pt x="902" y="9"/>
                    </a:moveTo>
                    <a:lnTo>
                      <a:pt x="899" y="8"/>
                    </a:lnTo>
                    <a:lnTo>
                      <a:pt x="865" y="4"/>
                    </a:lnTo>
                    <a:lnTo>
                      <a:pt x="834" y="1"/>
                    </a:lnTo>
                    <a:lnTo>
                      <a:pt x="804" y="0"/>
                    </a:lnTo>
                    <a:lnTo>
                      <a:pt x="776" y="0"/>
                    </a:lnTo>
                    <a:lnTo>
                      <a:pt x="750" y="0"/>
                    </a:lnTo>
                    <a:lnTo>
                      <a:pt x="725" y="2"/>
                    </a:lnTo>
                    <a:lnTo>
                      <a:pt x="701" y="4"/>
                    </a:lnTo>
                    <a:lnTo>
                      <a:pt x="677" y="8"/>
                    </a:lnTo>
                    <a:lnTo>
                      <a:pt x="655" y="11"/>
                    </a:lnTo>
                    <a:lnTo>
                      <a:pt x="634" y="16"/>
                    </a:lnTo>
                    <a:lnTo>
                      <a:pt x="613" y="21"/>
                    </a:lnTo>
                    <a:lnTo>
                      <a:pt x="592" y="27"/>
                    </a:lnTo>
                    <a:lnTo>
                      <a:pt x="553" y="40"/>
                    </a:lnTo>
                    <a:lnTo>
                      <a:pt x="515" y="53"/>
                    </a:lnTo>
                    <a:lnTo>
                      <a:pt x="480" y="66"/>
                    </a:lnTo>
                    <a:lnTo>
                      <a:pt x="444" y="77"/>
                    </a:lnTo>
                    <a:lnTo>
                      <a:pt x="427" y="82"/>
                    </a:lnTo>
                    <a:lnTo>
                      <a:pt x="409" y="88"/>
                    </a:lnTo>
                    <a:lnTo>
                      <a:pt x="389" y="92"/>
                    </a:lnTo>
                    <a:lnTo>
                      <a:pt x="367" y="97"/>
                    </a:lnTo>
                    <a:lnTo>
                      <a:pt x="343" y="101"/>
                    </a:lnTo>
                    <a:lnTo>
                      <a:pt x="318" y="105"/>
                    </a:lnTo>
                    <a:lnTo>
                      <a:pt x="292" y="108"/>
                    </a:lnTo>
                    <a:lnTo>
                      <a:pt x="263" y="110"/>
                    </a:lnTo>
                    <a:lnTo>
                      <a:pt x="232" y="112"/>
                    </a:lnTo>
                    <a:lnTo>
                      <a:pt x="199" y="113"/>
                    </a:lnTo>
                    <a:lnTo>
                      <a:pt x="164" y="113"/>
                    </a:lnTo>
                    <a:lnTo>
                      <a:pt x="126" y="112"/>
                    </a:lnTo>
                    <a:lnTo>
                      <a:pt x="0" y="190"/>
                    </a:lnTo>
                    <a:lnTo>
                      <a:pt x="37" y="193"/>
                    </a:lnTo>
                    <a:lnTo>
                      <a:pt x="74" y="193"/>
                    </a:lnTo>
                    <a:lnTo>
                      <a:pt x="107" y="191"/>
                    </a:lnTo>
                    <a:lnTo>
                      <a:pt x="139" y="190"/>
                    </a:lnTo>
                    <a:lnTo>
                      <a:pt x="169" y="188"/>
                    </a:lnTo>
                    <a:lnTo>
                      <a:pt x="197" y="185"/>
                    </a:lnTo>
                    <a:lnTo>
                      <a:pt x="223" y="180"/>
                    </a:lnTo>
                    <a:lnTo>
                      <a:pt x="250" y="175"/>
                    </a:lnTo>
                    <a:lnTo>
                      <a:pt x="273" y="171"/>
                    </a:lnTo>
                    <a:lnTo>
                      <a:pt x="296" y="165"/>
                    </a:lnTo>
                    <a:lnTo>
                      <a:pt x="319" y="158"/>
                    </a:lnTo>
                    <a:lnTo>
                      <a:pt x="342" y="151"/>
                    </a:lnTo>
                    <a:lnTo>
                      <a:pt x="382" y="139"/>
                    </a:lnTo>
                    <a:lnTo>
                      <a:pt x="419" y="125"/>
                    </a:lnTo>
                    <a:lnTo>
                      <a:pt x="452" y="114"/>
                    </a:lnTo>
                    <a:lnTo>
                      <a:pt x="487" y="102"/>
                    </a:lnTo>
                    <a:lnTo>
                      <a:pt x="501" y="98"/>
                    </a:lnTo>
                    <a:lnTo>
                      <a:pt x="520" y="93"/>
                    </a:lnTo>
                    <a:lnTo>
                      <a:pt x="538" y="90"/>
                    </a:lnTo>
                    <a:lnTo>
                      <a:pt x="557" y="86"/>
                    </a:lnTo>
                    <a:lnTo>
                      <a:pt x="578" y="83"/>
                    </a:lnTo>
                    <a:lnTo>
                      <a:pt x="601" y="81"/>
                    </a:lnTo>
                    <a:lnTo>
                      <a:pt x="625" y="80"/>
                    </a:lnTo>
                    <a:lnTo>
                      <a:pt x="650" y="80"/>
                    </a:lnTo>
                    <a:lnTo>
                      <a:pt x="677" y="80"/>
                    </a:lnTo>
                    <a:lnTo>
                      <a:pt x="707" y="81"/>
                    </a:lnTo>
                    <a:lnTo>
                      <a:pt x="737" y="83"/>
                    </a:lnTo>
                    <a:lnTo>
                      <a:pt x="771" y="86"/>
                    </a:lnTo>
                    <a:lnTo>
                      <a:pt x="768" y="85"/>
                    </a:lnTo>
                    <a:lnTo>
                      <a:pt x="902" y="9"/>
                    </a:lnTo>
                    <a:lnTo>
                      <a:pt x="902" y="8"/>
                    </a:lnTo>
                    <a:lnTo>
                      <a:pt x="899" y="8"/>
                    </a:lnTo>
                    <a:lnTo>
                      <a:pt x="902" y="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5702400" y="3540240"/>
                <a:ext cx="388800" cy="82440"/>
              </a:xfrm>
              <a:custGeom>
                <a:avLst/>
                <a:gdLst/>
                <a:ahLst/>
                <a:rect l="l" t="t" r="r" b="b"/>
                <a:pathLst>
                  <a:path w="1223" h="261">
                    <a:moveTo>
                      <a:pt x="1017" y="261"/>
                    </a:moveTo>
                    <a:lnTo>
                      <a:pt x="1147" y="182"/>
                    </a:lnTo>
                    <a:lnTo>
                      <a:pt x="1132" y="172"/>
                    </a:lnTo>
                    <a:lnTo>
                      <a:pt x="1117" y="163"/>
                    </a:lnTo>
                    <a:lnTo>
                      <a:pt x="1101" y="155"/>
                    </a:lnTo>
                    <a:lnTo>
                      <a:pt x="1087" y="146"/>
                    </a:lnTo>
                    <a:lnTo>
                      <a:pt x="1054" y="131"/>
                    </a:lnTo>
                    <a:lnTo>
                      <a:pt x="1018" y="118"/>
                    </a:lnTo>
                    <a:lnTo>
                      <a:pt x="983" y="107"/>
                    </a:lnTo>
                    <a:lnTo>
                      <a:pt x="945" y="97"/>
                    </a:lnTo>
                    <a:lnTo>
                      <a:pt x="908" y="89"/>
                    </a:lnTo>
                    <a:lnTo>
                      <a:pt x="868" y="81"/>
                    </a:lnTo>
                    <a:lnTo>
                      <a:pt x="828" y="75"/>
                    </a:lnTo>
                    <a:lnTo>
                      <a:pt x="787" y="71"/>
                    </a:lnTo>
                    <a:lnTo>
                      <a:pt x="746" y="67"/>
                    </a:lnTo>
                    <a:lnTo>
                      <a:pt x="705" y="65"/>
                    </a:lnTo>
                    <a:lnTo>
                      <a:pt x="623" y="60"/>
                    </a:lnTo>
                    <a:lnTo>
                      <a:pt x="543" y="59"/>
                    </a:lnTo>
                    <a:lnTo>
                      <a:pt x="465" y="59"/>
                    </a:lnTo>
                    <a:lnTo>
                      <a:pt x="392" y="58"/>
                    </a:lnTo>
                    <a:lnTo>
                      <a:pt x="358" y="58"/>
                    </a:lnTo>
                    <a:lnTo>
                      <a:pt x="326" y="57"/>
                    </a:lnTo>
                    <a:lnTo>
                      <a:pt x="295" y="55"/>
                    </a:lnTo>
                    <a:lnTo>
                      <a:pt x="267" y="52"/>
                    </a:lnTo>
                    <a:lnTo>
                      <a:pt x="241" y="50"/>
                    </a:lnTo>
                    <a:lnTo>
                      <a:pt x="217" y="47"/>
                    </a:lnTo>
                    <a:lnTo>
                      <a:pt x="195" y="42"/>
                    </a:lnTo>
                    <a:lnTo>
                      <a:pt x="177" y="36"/>
                    </a:lnTo>
                    <a:lnTo>
                      <a:pt x="169" y="33"/>
                    </a:lnTo>
                    <a:lnTo>
                      <a:pt x="161" y="29"/>
                    </a:lnTo>
                    <a:lnTo>
                      <a:pt x="155" y="25"/>
                    </a:lnTo>
                    <a:lnTo>
                      <a:pt x="148" y="20"/>
                    </a:lnTo>
                    <a:lnTo>
                      <a:pt x="144" y="16"/>
                    </a:lnTo>
                    <a:lnTo>
                      <a:pt x="139" y="11"/>
                    </a:lnTo>
                    <a:lnTo>
                      <a:pt x="137" y="6"/>
                    </a:lnTo>
                    <a:lnTo>
                      <a:pt x="134" y="0"/>
                    </a:lnTo>
                    <a:lnTo>
                      <a:pt x="0" y="76"/>
                    </a:lnTo>
                    <a:lnTo>
                      <a:pt x="3" y="83"/>
                    </a:lnTo>
                    <a:lnTo>
                      <a:pt x="7" y="89"/>
                    </a:lnTo>
                    <a:lnTo>
                      <a:pt x="12" y="93"/>
                    </a:lnTo>
                    <a:lnTo>
                      <a:pt x="16" y="99"/>
                    </a:lnTo>
                    <a:lnTo>
                      <a:pt x="23" y="104"/>
                    </a:lnTo>
                    <a:lnTo>
                      <a:pt x="30" y="107"/>
                    </a:lnTo>
                    <a:lnTo>
                      <a:pt x="38" y="112"/>
                    </a:lnTo>
                    <a:lnTo>
                      <a:pt x="46" y="115"/>
                    </a:lnTo>
                    <a:lnTo>
                      <a:pt x="65" y="121"/>
                    </a:lnTo>
                    <a:lnTo>
                      <a:pt x="87" y="125"/>
                    </a:lnTo>
                    <a:lnTo>
                      <a:pt x="112" y="130"/>
                    </a:lnTo>
                    <a:lnTo>
                      <a:pt x="139" y="132"/>
                    </a:lnTo>
                    <a:lnTo>
                      <a:pt x="168" y="134"/>
                    </a:lnTo>
                    <a:lnTo>
                      <a:pt x="199" y="136"/>
                    </a:lnTo>
                    <a:lnTo>
                      <a:pt x="232" y="137"/>
                    </a:lnTo>
                    <a:lnTo>
                      <a:pt x="266" y="138"/>
                    </a:lnTo>
                    <a:lnTo>
                      <a:pt x="339" y="138"/>
                    </a:lnTo>
                    <a:lnTo>
                      <a:pt x="416" y="139"/>
                    </a:lnTo>
                    <a:lnTo>
                      <a:pt x="496" y="140"/>
                    </a:lnTo>
                    <a:lnTo>
                      <a:pt x="578" y="144"/>
                    </a:lnTo>
                    <a:lnTo>
                      <a:pt x="618" y="147"/>
                    </a:lnTo>
                    <a:lnTo>
                      <a:pt x="659" y="150"/>
                    </a:lnTo>
                    <a:lnTo>
                      <a:pt x="699" y="155"/>
                    </a:lnTo>
                    <a:lnTo>
                      <a:pt x="739" y="161"/>
                    </a:lnTo>
                    <a:lnTo>
                      <a:pt x="778" y="168"/>
                    </a:lnTo>
                    <a:lnTo>
                      <a:pt x="815" y="176"/>
                    </a:lnTo>
                    <a:lnTo>
                      <a:pt x="852" y="186"/>
                    </a:lnTo>
                    <a:lnTo>
                      <a:pt x="888" y="197"/>
                    </a:lnTo>
                    <a:lnTo>
                      <a:pt x="922" y="210"/>
                    </a:lnTo>
                    <a:lnTo>
                      <a:pt x="954" y="225"/>
                    </a:lnTo>
                    <a:lnTo>
                      <a:pt x="970" y="233"/>
                    </a:lnTo>
                    <a:lnTo>
                      <a:pt x="985" y="242"/>
                    </a:lnTo>
                    <a:lnTo>
                      <a:pt x="1000" y="251"/>
                    </a:lnTo>
                    <a:lnTo>
                      <a:pt x="1014" y="261"/>
                    </a:lnTo>
                    <a:lnTo>
                      <a:pt x="1144" y="182"/>
                    </a:lnTo>
                    <a:lnTo>
                      <a:pt x="1017" y="261"/>
                    </a:lnTo>
                    <a:lnTo>
                      <a:pt x="1223" y="257"/>
                    </a:lnTo>
                    <a:lnTo>
                      <a:pt x="1147" y="182"/>
                    </a:lnTo>
                    <a:lnTo>
                      <a:pt x="1017" y="2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5641920" y="3595680"/>
                <a:ext cx="424080" cy="47520"/>
              </a:xfrm>
              <a:custGeom>
                <a:avLst/>
                <a:gdLst/>
                <a:ahLst/>
                <a:rect l="l" t="t" r="r" b="b"/>
                <a:pathLst>
                  <a:path w="1332" h="150">
                    <a:moveTo>
                      <a:pt x="0" y="115"/>
                    </a:moveTo>
                    <a:lnTo>
                      <a:pt x="2" y="115"/>
                    </a:lnTo>
                    <a:lnTo>
                      <a:pt x="53" y="124"/>
                    </a:lnTo>
                    <a:lnTo>
                      <a:pt x="98" y="132"/>
                    </a:lnTo>
                    <a:lnTo>
                      <a:pt x="141" y="138"/>
                    </a:lnTo>
                    <a:lnTo>
                      <a:pt x="181" y="143"/>
                    </a:lnTo>
                    <a:lnTo>
                      <a:pt x="219" y="146"/>
                    </a:lnTo>
                    <a:lnTo>
                      <a:pt x="254" y="148"/>
                    </a:lnTo>
                    <a:lnTo>
                      <a:pt x="287" y="150"/>
                    </a:lnTo>
                    <a:lnTo>
                      <a:pt x="319" y="150"/>
                    </a:lnTo>
                    <a:lnTo>
                      <a:pt x="349" y="148"/>
                    </a:lnTo>
                    <a:lnTo>
                      <a:pt x="377" y="146"/>
                    </a:lnTo>
                    <a:lnTo>
                      <a:pt x="405" y="144"/>
                    </a:lnTo>
                    <a:lnTo>
                      <a:pt x="432" y="140"/>
                    </a:lnTo>
                    <a:lnTo>
                      <a:pt x="483" y="131"/>
                    </a:lnTo>
                    <a:lnTo>
                      <a:pt x="535" y="122"/>
                    </a:lnTo>
                    <a:lnTo>
                      <a:pt x="588" y="112"/>
                    </a:lnTo>
                    <a:lnTo>
                      <a:pt x="645" y="102"/>
                    </a:lnTo>
                    <a:lnTo>
                      <a:pt x="676" y="98"/>
                    </a:lnTo>
                    <a:lnTo>
                      <a:pt x="709" y="94"/>
                    </a:lnTo>
                    <a:lnTo>
                      <a:pt x="745" y="89"/>
                    </a:lnTo>
                    <a:lnTo>
                      <a:pt x="781" y="86"/>
                    </a:lnTo>
                    <a:lnTo>
                      <a:pt x="822" y="83"/>
                    </a:lnTo>
                    <a:lnTo>
                      <a:pt x="865" y="81"/>
                    </a:lnTo>
                    <a:lnTo>
                      <a:pt x="912" y="80"/>
                    </a:lnTo>
                    <a:lnTo>
                      <a:pt x="962" y="80"/>
                    </a:lnTo>
                    <a:lnTo>
                      <a:pt x="1016" y="80"/>
                    </a:lnTo>
                    <a:lnTo>
                      <a:pt x="1074" y="82"/>
                    </a:lnTo>
                    <a:lnTo>
                      <a:pt x="1137" y="86"/>
                    </a:lnTo>
                    <a:lnTo>
                      <a:pt x="1205" y="89"/>
                    </a:lnTo>
                    <a:lnTo>
                      <a:pt x="1332" y="10"/>
                    </a:lnTo>
                    <a:lnTo>
                      <a:pt x="1264" y="6"/>
                    </a:lnTo>
                    <a:lnTo>
                      <a:pt x="1202" y="2"/>
                    </a:lnTo>
                    <a:lnTo>
                      <a:pt x="1142" y="1"/>
                    </a:lnTo>
                    <a:lnTo>
                      <a:pt x="1089" y="0"/>
                    </a:lnTo>
                    <a:lnTo>
                      <a:pt x="1038" y="0"/>
                    </a:lnTo>
                    <a:lnTo>
                      <a:pt x="991" y="1"/>
                    </a:lnTo>
                    <a:lnTo>
                      <a:pt x="946" y="4"/>
                    </a:lnTo>
                    <a:lnTo>
                      <a:pt x="905" y="7"/>
                    </a:lnTo>
                    <a:lnTo>
                      <a:pt x="867" y="10"/>
                    </a:lnTo>
                    <a:lnTo>
                      <a:pt x="831" y="14"/>
                    </a:lnTo>
                    <a:lnTo>
                      <a:pt x="797" y="18"/>
                    </a:lnTo>
                    <a:lnTo>
                      <a:pt x="765" y="23"/>
                    </a:lnTo>
                    <a:lnTo>
                      <a:pt x="707" y="33"/>
                    </a:lnTo>
                    <a:lnTo>
                      <a:pt x="653" y="43"/>
                    </a:lnTo>
                    <a:lnTo>
                      <a:pt x="603" y="53"/>
                    </a:lnTo>
                    <a:lnTo>
                      <a:pt x="553" y="61"/>
                    </a:lnTo>
                    <a:lnTo>
                      <a:pt x="527" y="64"/>
                    </a:lnTo>
                    <a:lnTo>
                      <a:pt x="501" y="66"/>
                    </a:lnTo>
                    <a:lnTo>
                      <a:pt x="473" y="69"/>
                    </a:lnTo>
                    <a:lnTo>
                      <a:pt x="445" y="70"/>
                    </a:lnTo>
                    <a:lnTo>
                      <a:pt x="414" y="70"/>
                    </a:lnTo>
                    <a:lnTo>
                      <a:pt x="382" y="69"/>
                    </a:lnTo>
                    <a:lnTo>
                      <a:pt x="347" y="67"/>
                    </a:lnTo>
                    <a:lnTo>
                      <a:pt x="310" y="64"/>
                    </a:lnTo>
                    <a:lnTo>
                      <a:pt x="270" y="59"/>
                    </a:lnTo>
                    <a:lnTo>
                      <a:pt x="227" y="53"/>
                    </a:lnTo>
                    <a:lnTo>
                      <a:pt x="181" y="46"/>
                    </a:lnTo>
                    <a:lnTo>
                      <a:pt x="131" y="37"/>
                    </a:lnTo>
                    <a:lnTo>
                      <a:pt x="134" y="38"/>
                    </a:lnTo>
                    <a:lnTo>
                      <a:pt x="0" y="115"/>
                    </a:lnTo>
                    <a:lnTo>
                      <a:pt x="1" y="115"/>
                    </a:lnTo>
                    <a:lnTo>
                      <a:pt x="2" y="115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5381640" y="3573360"/>
                <a:ext cx="303120" cy="58680"/>
              </a:xfrm>
              <a:custGeom>
                <a:avLst/>
                <a:gdLst/>
                <a:ahLst/>
                <a:rect l="l" t="t" r="r" b="b"/>
                <a:pathLst>
                  <a:path w="956" h="184">
                    <a:moveTo>
                      <a:pt x="368" y="0"/>
                    </a:moveTo>
                    <a:lnTo>
                      <a:pt x="241" y="78"/>
                    </a:lnTo>
                    <a:lnTo>
                      <a:pt x="278" y="85"/>
                    </a:lnTo>
                    <a:lnTo>
                      <a:pt x="318" y="91"/>
                    </a:lnTo>
                    <a:lnTo>
                      <a:pt x="360" y="95"/>
                    </a:lnTo>
                    <a:lnTo>
                      <a:pt x="404" y="101"/>
                    </a:lnTo>
                    <a:lnTo>
                      <a:pt x="492" y="110"/>
                    </a:lnTo>
                    <a:lnTo>
                      <a:pt x="579" y="119"/>
                    </a:lnTo>
                    <a:lnTo>
                      <a:pt x="620" y="124"/>
                    </a:lnTo>
                    <a:lnTo>
                      <a:pt x="660" y="130"/>
                    </a:lnTo>
                    <a:lnTo>
                      <a:pt x="697" y="136"/>
                    </a:lnTo>
                    <a:lnTo>
                      <a:pt x="731" y="143"/>
                    </a:lnTo>
                    <a:lnTo>
                      <a:pt x="746" y="148"/>
                    </a:lnTo>
                    <a:lnTo>
                      <a:pt x="761" y="152"/>
                    </a:lnTo>
                    <a:lnTo>
                      <a:pt x="773" y="157"/>
                    </a:lnTo>
                    <a:lnTo>
                      <a:pt x="786" y="162"/>
                    </a:lnTo>
                    <a:lnTo>
                      <a:pt x="797" y="166"/>
                    </a:lnTo>
                    <a:lnTo>
                      <a:pt x="807" y="172"/>
                    </a:lnTo>
                    <a:lnTo>
                      <a:pt x="815" y="177"/>
                    </a:lnTo>
                    <a:lnTo>
                      <a:pt x="822" y="184"/>
                    </a:lnTo>
                    <a:lnTo>
                      <a:pt x="956" y="107"/>
                    </a:lnTo>
                    <a:lnTo>
                      <a:pt x="948" y="100"/>
                    </a:lnTo>
                    <a:lnTo>
                      <a:pt x="940" y="94"/>
                    </a:lnTo>
                    <a:lnTo>
                      <a:pt x="928" y="88"/>
                    </a:lnTo>
                    <a:lnTo>
                      <a:pt x="917" y="83"/>
                    </a:lnTo>
                    <a:lnTo>
                      <a:pt x="904" y="77"/>
                    </a:lnTo>
                    <a:lnTo>
                      <a:pt x="891" y="73"/>
                    </a:lnTo>
                    <a:lnTo>
                      <a:pt x="876" y="69"/>
                    </a:lnTo>
                    <a:lnTo>
                      <a:pt x="860" y="65"/>
                    </a:lnTo>
                    <a:lnTo>
                      <a:pt x="827" y="58"/>
                    </a:lnTo>
                    <a:lnTo>
                      <a:pt x="789" y="51"/>
                    </a:lnTo>
                    <a:lnTo>
                      <a:pt x="749" y="45"/>
                    </a:lnTo>
                    <a:lnTo>
                      <a:pt x="707" y="39"/>
                    </a:lnTo>
                    <a:lnTo>
                      <a:pt x="620" y="30"/>
                    </a:lnTo>
                    <a:lnTo>
                      <a:pt x="531" y="21"/>
                    </a:lnTo>
                    <a:lnTo>
                      <a:pt x="489" y="17"/>
                    </a:lnTo>
                    <a:lnTo>
                      <a:pt x="447" y="11"/>
                    </a:lnTo>
                    <a:lnTo>
                      <a:pt x="407" y="5"/>
                    </a:lnTo>
                    <a:lnTo>
                      <a:pt x="370" y="0"/>
                    </a:lnTo>
                    <a:lnTo>
                      <a:pt x="242" y="78"/>
                    </a:lnTo>
                    <a:lnTo>
                      <a:pt x="368" y="0"/>
                    </a:lnTo>
                    <a:lnTo>
                      <a:pt x="0" y="12"/>
                    </a:lnTo>
                    <a:lnTo>
                      <a:pt x="241" y="78"/>
                    </a:lnTo>
                    <a:lnTo>
                      <a:pt x="368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3394080" y="3798720"/>
                <a:ext cx="566640" cy="81000"/>
              </a:xfrm>
              <a:custGeom>
                <a:avLst/>
                <a:gdLst/>
                <a:ahLst/>
                <a:rect l="l" t="t" r="r" b="b"/>
                <a:pathLst>
                  <a:path w="1786" h="253">
                    <a:moveTo>
                      <a:pt x="1786" y="112"/>
                    </a:moveTo>
                    <a:lnTo>
                      <a:pt x="1748" y="113"/>
                    </a:lnTo>
                    <a:lnTo>
                      <a:pt x="1713" y="115"/>
                    </a:lnTo>
                    <a:lnTo>
                      <a:pt x="1680" y="113"/>
                    </a:lnTo>
                    <a:lnTo>
                      <a:pt x="1648" y="112"/>
                    </a:lnTo>
                    <a:lnTo>
                      <a:pt x="1619" y="110"/>
                    </a:lnTo>
                    <a:lnTo>
                      <a:pt x="1592" y="107"/>
                    </a:lnTo>
                    <a:lnTo>
                      <a:pt x="1566" y="103"/>
                    </a:lnTo>
                    <a:lnTo>
                      <a:pt x="1542" y="99"/>
                    </a:lnTo>
                    <a:lnTo>
                      <a:pt x="1518" y="93"/>
                    </a:lnTo>
                    <a:lnTo>
                      <a:pt x="1496" y="88"/>
                    </a:lnTo>
                    <a:lnTo>
                      <a:pt x="1476" y="83"/>
                    </a:lnTo>
                    <a:lnTo>
                      <a:pt x="1456" y="76"/>
                    </a:lnTo>
                    <a:lnTo>
                      <a:pt x="1417" y="63"/>
                    </a:lnTo>
                    <a:lnTo>
                      <a:pt x="1382" y="51"/>
                    </a:lnTo>
                    <a:lnTo>
                      <a:pt x="1347" y="38"/>
                    </a:lnTo>
                    <a:lnTo>
                      <a:pt x="1310" y="27"/>
                    </a:lnTo>
                    <a:lnTo>
                      <a:pt x="1292" y="21"/>
                    </a:lnTo>
                    <a:lnTo>
                      <a:pt x="1273" y="16"/>
                    </a:lnTo>
                    <a:lnTo>
                      <a:pt x="1252" y="12"/>
                    </a:lnTo>
                    <a:lnTo>
                      <a:pt x="1232" y="8"/>
                    </a:lnTo>
                    <a:lnTo>
                      <a:pt x="1210" y="5"/>
                    </a:lnTo>
                    <a:lnTo>
                      <a:pt x="1186" y="3"/>
                    </a:lnTo>
                    <a:lnTo>
                      <a:pt x="1162" y="2"/>
                    </a:lnTo>
                    <a:lnTo>
                      <a:pt x="1136" y="0"/>
                    </a:lnTo>
                    <a:lnTo>
                      <a:pt x="1109" y="2"/>
                    </a:lnTo>
                    <a:lnTo>
                      <a:pt x="1079" y="3"/>
                    </a:lnTo>
                    <a:lnTo>
                      <a:pt x="1047" y="5"/>
                    </a:lnTo>
                    <a:lnTo>
                      <a:pt x="1014" y="8"/>
                    </a:lnTo>
                    <a:lnTo>
                      <a:pt x="1008" y="21"/>
                    </a:lnTo>
                    <a:lnTo>
                      <a:pt x="998" y="30"/>
                    </a:lnTo>
                    <a:lnTo>
                      <a:pt x="985" y="39"/>
                    </a:lnTo>
                    <a:lnTo>
                      <a:pt x="969" y="46"/>
                    </a:lnTo>
                    <a:lnTo>
                      <a:pt x="950" y="52"/>
                    </a:lnTo>
                    <a:lnTo>
                      <a:pt x="928" y="56"/>
                    </a:lnTo>
                    <a:lnTo>
                      <a:pt x="904" y="61"/>
                    </a:lnTo>
                    <a:lnTo>
                      <a:pt x="878" y="63"/>
                    </a:lnTo>
                    <a:lnTo>
                      <a:pt x="850" y="65"/>
                    </a:lnTo>
                    <a:lnTo>
                      <a:pt x="819" y="67"/>
                    </a:lnTo>
                    <a:lnTo>
                      <a:pt x="786" y="68"/>
                    </a:lnTo>
                    <a:lnTo>
                      <a:pt x="752" y="69"/>
                    </a:lnTo>
                    <a:lnTo>
                      <a:pt x="679" y="69"/>
                    </a:lnTo>
                    <a:lnTo>
                      <a:pt x="601" y="70"/>
                    </a:lnTo>
                    <a:lnTo>
                      <a:pt x="521" y="71"/>
                    </a:lnTo>
                    <a:lnTo>
                      <a:pt x="439" y="75"/>
                    </a:lnTo>
                    <a:lnTo>
                      <a:pt x="398" y="78"/>
                    </a:lnTo>
                    <a:lnTo>
                      <a:pt x="358" y="81"/>
                    </a:lnTo>
                    <a:lnTo>
                      <a:pt x="317" y="86"/>
                    </a:lnTo>
                    <a:lnTo>
                      <a:pt x="277" y="92"/>
                    </a:lnTo>
                    <a:lnTo>
                      <a:pt x="239" y="99"/>
                    </a:lnTo>
                    <a:lnTo>
                      <a:pt x="201" y="107"/>
                    </a:lnTo>
                    <a:lnTo>
                      <a:pt x="163" y="117"/>
                    </a:lnTo>
                    <a:lnTo>
                      <a:pt x="128" y="128"/>
                    </a:lnTo>
                    <a:lnTo>
                      <a:pt x="93" y="142"/>
                    </a:lnTo>
                    <a:lnTo>
                      <a:pt x="61" y="157"/>
                    </a:lnTo>
                    <a:lnTo>
                      <a:pt x="30" y="173"/>
                    </a:lnTo>
                    <a:lnTo>
                      <a:pt x="0" y="192"/>
                    </a:lnTo>
                    <a:lnTo>
                      <a:pt x="68" y="188"/>
                    </a:lnTo>
                    <a:lnTo>
                      <a:pt x="132" y="185"/>
                    </a:lnTo>
                    <a:lnTo>
                      <a:pt x="190" y="183"/>
                    </a:lnTo>
                    <a:lnTo>
                      <a:pt x="244" y="183"/>
                    </a:lnTo>
                    <a:lnTo>
                      <a:pt x="295" y="183"/>
                    </a:lnTo>
                    <a:lnTo>
                      <a:pt x="341" y="184"/>
                    </a:lnTo>
                    <a:lnTo>
                      <a:pt x="385" y="186"/>
                    </a:lnTo>
                    <a:lnTo>
                      <a:pt x="426" y="189"/>
                    </a:lnTo>
                    <a:lnTo>
                      <a:pt x="463" y="192"/>
                    </a:lnTo>
                    <a:lnTo>
                      <a:pt x="499" y="197"/>
                    </a:lnTo>
                    <a:lnTo>
                      <a:pt x="532" y="201"/>
                    </a:lnTo>
                    <a:lnTo>
                      <a:pt x="564" y="206"/>
                    </a:lnTo>
                    <a:lnTo>
                      <a:pt x="622" y="215"/>
                    </a:lnTo>
                    <a:lnTo>
                      <a:pt x="675" y="225"/>
                    </a:lnTo>
                    <a:lnTo>
                      <a:pt x="725" y="235"/>
                    </a:lnTo>
                    <a:lnTo>
                      <a:pt x="777" y="243"/>
                    </a:lnTo>
                    <a:lnTo>
                      <a:pt x="803" y="247"/>
                    </a:lnTo>
                    <a:lnTo>
                      <a:pt x="830" y="249"/>
                    </a:lnTo>
                    <a:lnTo>
                      <a:pt x="858" y="251"/>
                    </a:lnTo>
                    <a:lnTo>
                      <a:pt x="887" y="253"/>
                    </a:lnTo>
                    <a:lnTo>
                      <a:pt x="918" y="253"/>
                    </a:lnTo>
                    <a:lnTo>
                      <a:pt x="951" y="251"/>
                    </a:lnTo>
                    <a:lnTo>
                      <a:pt x="985" y="249"/>
                    </a:lnTo>
                    <a:lnTo>
                      <a:pt x="1023" y="246"/>
                    </a:lnTo>
                    <a:lnTo>
                      <a:pt x="1063" y="241"/>
                    </a:lnTo>
                    <a:lnTo>
                      <a:pt x="1106" y="235"/>
                    </a:lnTo>
                    <a:lnTo>
                      <a:pt x="1153" y="227"/>
                    </a:lnTo>
                    <a:lnTo>
                      <a:pt x="1202" y="218"/>
                    </a:lnTo>
                    <a:lnTo>
                      <a:pt x="1210" y="213"/>
                    </a:lnTo>
                    <a:lnTo>
                      <a:pt x="1218" y="207"/>
                    </a:lnTo>
                    <a:lnTo>
                      <a:pt x="1228" y="201"/>
                    </a:lnTo>
                    <a:lnTo>
                      <a:pt x="1240" y="196"/>
                    </a:lnTo>
                    <a:lnTo>
                      <a:pt x="1252" y="191"/>
                    </a:lnTo>
                    <a:lnTo>
                      <a:pt x="1266" y="186"/>
                    </a:lnTo>
                    <a:lnTo>
                      <a:pt x="1281" y="182"/>
                    </a:lnTo>
                    <a:lnTo>
                      <a:pt x="1295" y="177"/>
                    </a:lnTo>
                    <a:lnTo>
                      <a:pt x="1330" y="170"/>
                    </a:lnTo>
                    <a:lnTo>
                      <a:pt x="1367" y="164"/>
                    </a:lnTo>
                    <a:lnTo>
                      <a:pt x="1406" y="158"/>
                    </a:lnTo>
                    <a:lnTo>
                      <a:pt x="1448" y="153"/>
                    </a:lnTo>
                    <a:lnTo>
                      <a:pt x="1535" y="144"/>
                    </a:lnTo>
                    <a:lnTo>
                      <a:pt x="1623" y="135"/>
                    </a:lnTo>
                    <a:lnTo>
                      <a:pt x="1666" y="129"/>
                    </a:lnTo>
                    <a:lnTo>
                      <a:pt x="1708" y="125"/>
                    </a:lnTo>
                    <a:lnTo>
                      <a:pt x="1748" y="119"/>
                    </a:lnTo>
                    <a:lnTo>
                      <a:pt x="1786" y="11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3695760" y="3786120"/>
                <a:ext cx="285840" cy="61920"/>
              </a:xfrm>
              <a:custGeom>
                <a:avLst/>
                <a:gdLst/>
                <a:ahLst/>
                <a:rect l="l" t="t" r="r" b="b"/>
                <a:pathLst>
                  <a:path w="900" h="192">
                    <a:moveTo>
                      <a:pt x="133" y="10"/>
                    </a:moveTo>
                    <a:lnTo>
                      <a:pt x="5" y="86"/>
                    </a:lnTo>
                    <a:lnTo>
                      <a:pt x="37" y="83"/>
                    </a:lnTo>
                    <a:lnTo>
                      <a:pt x="68" y="81"/>
                    </a:lnTo>
                    <a:lnTo>
                      <a:pt x="98" y="79"/>
                    </a:lnTo>
                    <a:lnTo>
                      <a:pt x="125" y="78"/>
                    </a:lnTo>
                    <a:lnTo>
                      <a:pt x="150" y="79"/>
                    </a:lnTo>
                    <a:lnTo>
                      <a:pt x="174" y="81"/>
                    </a:lnTo>
                    <a:lnTo>
                      <a:pt x="197" y="83"/>
                    </a:lnTo>
                    <a:lnTo>
                      <a:pt x="219" y="86"/>
                    </a:lnTo>
                    <a:lnTo>
                      <a:pt x="239" y="90"/>
                    </a:lnTo>
                    <a:lnTo>
                      <a:pt x="260" y="94"/>
                    </a:lnTo>
                    <a:lnTo>
                      <a:pt x="279" y="99"/>
                    </a:lnTo>
                    <a:lnTo>
                      <a:pt x="297" y="105"/>
                    </a:lnTo>
                    <a:lnTo>
                      <a:pt x="333" y="116"/>
                    </a:lnTo>
                    <a:lnTo>
                      <a:pt x="369" y="129"/>
                    </a:lnTo>
                    <a:lnTo>
                      <a:pt x="404" y="141"/>
                    </a:lnTo>
                    <a:lnTo>
                      <a:pt x="442" y="154"/>
                    </a:lnTo>
                    <a:lnTo>
                      <a:pt x="463" y="159"/>
                    </a:lnTo>
                    <a:lnTo>
                      <a:pt x="483" y="165"/>
                    </a:lnTo>
                    <a:lnTo>
                      <a:pt x="505" y="171"/>
                    </a:lnTo>
                    <a:lnTo>
                      <a:pt x="529" y="175"/>
                    </a:lnTo>
                    <a:lnTo>
                      <a:pt x="553" y="180"/>
                    </a:lnTo>
                    <a:lnTo>
                      <a:pt x="579" y="184"/>
                    </a:lnTo>
                    <a:lnTo>
                      <a:pt x="606" y="187"/>
                    </a:lnTo>
                    <a:lnTo>
                      <a:pt x="636" y="190"/>
                    </a:lnTo>
                    <a:lnTo>
                      <a:pt x="668" y="191"/>
                    </a:lnTo>
                    <a:lnTo>
                      <a:pt x="702" y="192"/>
                    </a:lnTo>
                    <a:lnTo>
                      <a:pt x="737" y="191"/>
                    </a:lnTo>
                    <a:lnTo>
                      <a:pt x="776" y="190"/>
                    </a:lnTo>
                    <a:lnTo>
                      <a:pt x="900" y="110"/>
                    </a:lnTo>
                    <a:lnTo>
                      <a:pt x="863" y="113"/>
                    </a:lnTo>
                    <a:lnTo>
                      <a:pt x="827" y="113"/>
                    </a:lnTo>
                    <a:lnTo>
                      <a:pt x="794" y="111"/>
                    </a:lnTo>
                    <a:lnTo>
                      <a:pt x="764" y="110"/>
                    </a:lnTo>
                    <a:lnTo>
                      <a:pt x="735" y="108"/>
                    </a:lnTo>
                    <a:lnTo>
                      <a:pt x="708" y="105"/>
                    </a:lnTo>
                    <a:lnTo>
                      <a:pt x="682" y="101"/>
                    </a:lnTo>
                    <a:lnTo>
                      <a:pt x="658" y="97"/>
                    </a:lnTo>
                    <a:lnTo>
                      <a:pt x="635" y="92"/>
                    </a:lnTo>
                    <a:lnTo>
                      <a:pt x="613" y="86"/>
                    </a:lnTo>
                    <a:lnTo>
                      <a:pt x="593" y="81"/>
                    </a:lnTo>
                    <a:lnTo>
                      <a:pt x="573" y="75"/>
                    </a:lnTo>
                    <a:lnTo>
                      <a:pt x="536" y="62"/>
                    </a:lnTo>
                    <a:lnTo>
                      <a:pt x="499" y="50"/>
                    </a:lnTo>
                    <a:lnTo>
                      <a:pt x="464" y="37"/>
                    </a:lnTo>
                    <a:lnTo>
                      <a:pt x="427" y="25"/>
                    </a:lnTo>
                    <a:lnTo>
                      <a:pt x="409" y="20"/>
                    </a:lnTo>
                    <a:lnTo>
                      <a:pt x="390" y="14"/>
                    </a:lnTo>
                    <a:lnTo>
                      <a:pt x="369" y="10"/>
                    </a:lnTo>
                    <a:lnTo>
                      <a:pt x="349" y="6"/>
                    </a:lnTo>
                    <a:lnTo>
                      <a:pt x="326" y="4"/>
                    </a:lnTo>
                    <a:lnTo>
                      <a:pt x="303" y="1"/>
                    </a:lnTo>
                    <a:lnTo>
                      <a:pt x="278" y="0"/>
                    </a:lnTo>
                    <a:lnTo>
                      <a:pt x="252" y="0"/>
                    </a:lnTo>
                    <a:lnTo>
                      <a:pt x="223" y="0"/>
                    </a:lnTo>
                    <a:lnTo>
                      <a:pt x="194" y="1"/>
                    </a:lnTo>
                    <a:lnTo>
                      <a:pt x="162" y="3"/>
                    </a:lnTo>
                    <a:lnTo>
                      <a:pt x="127" y="8"/>
                    </a:lnTo>
                    <a:lnTo>
                      <a:pt x="0" y="83"/>
                    </a:lnTo>
                    <a:lnTo>
                      <a:pt x="127" y="8"/>
                    </a:lnTo>
                    <a:lnTo>
                      <a:pt x="21" y="21"/>
                    </a:lnTo>
                    <a:lnTo>
                      <a:pt x="0" y="83"/>
                    </a:lnTo>
                    <a:lnTo>
                      <a:pt x="133" y="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3368520" y="3789360"/>
                <a:ext cx="368280" cy="84240"/>
              </a:xfrm>
              <a:custGeom>
                <a:avLst/>
                <a:gdLst/>
                <a:ahLst/>
                <a:rect l="l" t="t" r="r" b="b"/>
                <a:pathLst>
                  <a:path w="1160" h="261">
                    <a:moveTo>
                      <a:pt x="142" y="180"/>
                    </a:moveTo>
                    <a:lnTo>
                      <a:pt x="123" y="206"/>
                    </a:lnTo>
                    <a:lnTo>
                      <a:pt x="124" y="205"/>
                    </a:lnTo>
                    <a:lnTo>
                      <a:pt x="122" y="206"/>
                    </a:lnTo>
                    <a:lnTo>
                      <a:pt x="120" y="208"/>
                    </a:lnTo>
                    <a:lnTo>
                      <a:pt x="120" y="208"/>
                    </a:lnTo>
                    <a:lnTo>
                      <a:pt x="125" y="205"/>
                    </a:lnTo>
                    <a:lnTo>
                      <a:pt x="133" y="202"/>
                    </a:lnTo>
                    <a:lnTo>
                      <a:pt x="144" y="197"/>
                    </a:lnTo>
                    <a:lnTo>
                      <a:pt x="156" y="193"/>
                    </a:lnTo>
                    <a:lnTo>
                      <a:pt x="189" y="182"/>
                    </a:lnTo>
                    <a:lnTo>
                      <a:pt x="223" y="173"/>
                    </a:lnTo>
                    <a:lnTo>
                      <a:pt x="258" y="166"/>
                    </a:lnTo>
                    <a:lnTo>
                      <a:pt x="297" y="160"/>
                    </a:lnTo>
                    <a:lnTo>
                      <a:pt x="336" y="154"/>
                    </a:lnTo>
                    <a:lnTo>
                      <a:pt x="376" y="149"/>
                    </a:lnTo>
                    <a:lnTo>
                      <a:pt x="416" y="146"/>
                    </a:lnTo>
                    <a:lnTo>
                      <a:pt x="457" y="143"/>
                    </a:lnTo>
                    <a:lnTo>
                      <a:pt x="538" y="139"/>
                    </a:lnTo>
                    <a:lnTo>
                      <a:pt x="618" y="138"/>
                    </a:lnTo>
                    <a:lnTo>
                      <a:pt x="695" y="137"/>
                    </a:lnTo>
                    <a:lnTo>
                      <a:pt x="768" y="137"/>
                    </a:lnTo>
                    <a:lnTo>
                      <a:pt x="802" y="136"/>
                    </a:lnTo>
                    <a:lnTo>
                      <a:pt x="835" y="135"/>
                    </a:lnTo>
                    <a:lnTo>
                      <a:pt x="866" y="133"/>
                    </a:lnTo>
                    <a:lnTo>
                      <a:pt x="896" y="131"/>
                    </a:lnTo>
                    <a:lnTo>
                      <a:pt x="923" y="128"/>
                    </a:lnTo>
                    <a:lnTo>
                      <a:pt x="949" y="124"/>
                    </a:lnTo>
                    <a:lnTo>
                      <a:pt x="974" y="119"/>
                    </a:lnTo>
                    <a:lnTo>
                      <a:pt x="998" y="111"/>
                    </a:lnTo>
                    <a:lnTo>
                      <a:pt x="1023" y="101"/>
                    </a:lnTo>
                    <a:lnTo>
                      <a:pt x="1056" y="84"/>
                    </a:lnTo>
                    <a:lnTo>
                      <a:pt x="1101" y="58"/>
                    </a:lnTo>
                    <a:lnTo>
                      <a:pt x="1131" y="36"/>
                    </a:lnTo>
                    <a:lnTo>
                      <a:pt x="1144" y="24"/>
                    </a:lnTo>
                    <a:lnTo>
                      <a:pt x="1152" y="15"/>
                    </a:lnTo>
                    <a:lnTo>
                      <a:pt x="1157" y="8"/>
                    </a:lnTo>
                    <a:lnTo>
                      <a:pt x="1160" y="0"/>
                    </a:lnTo>
                    <a:lnTo>
                      <a:pt x="1027" y="73"/>
                    </a:lnTo>
                    <a:lnTo>
                      <a:pt x="1025" y="79"/>
                    </a:lnTo>
                    <a:lnTo>
                      <a:pt x="1022" y="82"/>
                    </a:lnTo>
                    <a:lnTo>
                      <a:pt x="1021" y="83"/>
                    </a:lnTo>
                    <a:lnTo>
                      <a:pt x="1025" y="80"/>
                    </a:lnTo>
                    <a:lnTo>
                      <a:pt x="1042" y="67"/>
                    </a:lnTo>
                    <a:lnTo>
                      <a:pt x="1072" y="49"/>
                    </a:lnTo>
                    <a:lnTo>
                      <a:pt x="1091" y="40"/>
                    </a:lnTo>
                    <a:lnTo>
                      <a:pt x="1099" y="38"/>
                    </a:lnTo>
                    <a:lnTo>
                      <a:pt x="1085" y="41"/>
                    </a:lnTo>
                    <a:lnTo>
                      <a:pt x="1067" y="46"/>
                    </a:lnTo>
                    <a:lnTo>
                      <a:pt x="1044" y="49"/>
                    </a:lnTo>
                    <a:lnTo>
                      <a:pt x="1019" y="51"/>
                    </a:lnTo>
                    <a:lnTo>
                      <a:pt x="990" y="54"/>
                    </a:lnTo>
                    <a:lnTo>
                      <a:pt x="961" y="55"/>
                    </a:lnTo>
                    <a:lnTo>
                      <a:pt x="928" y="56"/>
                    </a:lnTo>
                    <a:lnTo>
                      <a:pt x="893" y="57"/>
                    </a:lnTo>
                    <a:lnTo>
                      <a:pt x="820" y="57"/>
                    </a:lnTo>
                    <a:lnTo>
                      <a:pt x="744" y="58"/>
                    </a:lnTo>
                    <a:lnTo>
                      <a:pt x="663" y="59"/>
                    </a:lnTo>
                    <a:lnTo>
                      <a:pt x="581" y="63"/>
                    </a:lnTo>
                    <a:lnTo>
                      <a:pt x="540" y="66"/>
                    </a:lnTo>
                    <a:lnTo>
                      <a:pt x="499" y="69"/>
                    </a:lnTo>
                    <a:lnTo>
                      <a:pt x="457" y="74"/>
                    </a:lnTo>
                    <a:lnTo>
                      <a:pt x="417" y="80"/>
                    </a:lnTo>
                    <a:lnTo>
                      <a:pt x="377" y="88"/>
                    </a:lnTo>
                    <a:lnTo>
                      <a:pt x="336" y="96"/>
                    </a:lnTo>
                    <a:lnTo>
                      <a:pt x="296" y="107"/>
                    </a:lnTo>
                    <a:lnTo>
                      <a:pt x="257" y="120"/>
                    </a:lnTo>
                    <a:lnTo>
                      <a:pt x="233" y="128"/>
                    </a:lnTo>
                    <a:lnTo>
                      <a:pt x="212" y="137"/>
                    </a:lnTo>
                    <a:lnTo>
                      <a:pt x="187" y="147"/>
                    </a:lnTo>
                    <a:lnTo>
                      <a:pt x="159" y="161"/>
                    </a:lnTo>
                    <a:lnTo>
                      <a:pt x="127" y="177"/>
                    </a:lnTo>
                    <a:lnTo>
                      <a:pt x="95" y="196"/>
                    </a:lnTo>
                    <a:lnTo>
                      <a:pt x="65" y="216"/>
                    </a:lnTo>
                    <a:lnTo>
                      <a:pt x="37" y="234"/>
                    </a:lnTo>
                    <a:lnTo>
                      <a:pt x="18" y="260"/>
                    </a:lnTo>
                    <a:lnTo>
                      <a:pt x="37" y="234"/>
                    </a:lnTo>
                    <a:lnTo>
                      <a:pt x="0" y="261"/>
                    </a:lnTo>
                    <a:lnTo>
                      <a:pt x="18" y="260"/>
                    </a:lnTo>
                    <a:lnTo>
                      <a:pt x="142" y="1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3375000" y="3844800"/>
                <a:ext cx="420840" cy="46080"/>
              </a:xfrm>
              <a:custGeom>
                <a:avLst/>
                <a:gdLst/>
                <a:ahLst/>
                <a:rect l="l" t="t" r="r" b="b"/>
                <a:pathLst>
                  <a:path w="1325" h="149">
                    <a:moveTo>
                      <a:pt x="1203" y="105"/>
                    </a:moveTo>
                    <a:lnTo>
                      <a:pt x="1322" y="37"/>
                    </a:lnTo>
                    <a:lnTo>
                      <a:pt x="1273" y="46"/>
                    </a:lnTo>
                    <a:lnTo>
                      <a:pt x="1228" y="53"/>
                    </a:lnTo>
                    <a:lnTo>
                      <a:pt x="1185" y="58"/>
                    </a:lnTo>
                    <a:lnTo>
                      <a:pt x="1146" y="64"/>
                    </a:lnTo>
                    <a:lnTo>
                      <a:pt x="1109" y="66"/>
                    </a:lnTo>
                    <a:lnTo>
                      <a:pt x="1075" y="68"/>
                    </a:lnTo>
                    <a:lnTo>
                      <a:pt x="1042" y="70"/>
                    </a:lnTo>
                    <a:lnTo>
                      <a:pt x="1012" y="70"/>
                    </a:lnTo>
                    <a:lnTo>
                      <a:pt x="983" y="68"/>
                    </a:lnTo>
                    <a:lnTo>
                      <a:pt x="955" y="66"/>
                    </a:lnTo>
                    <a:lnTo>
                      <a:pt x="928" y="64"/>
                    </a:lnTo>
                    <a:lnTo>
                      <a:pt x="903" y="60"/>
                    </a:lnTo>
                    <a:lnTo>
                      <a:pt x="851" y="53"/>
                    </a:lnTo>
                    <a:lnTo>
                      <a:pt x="800" y="42"/>
                    </a:lnTo>
                    <a:lnTo>
                      <a:pt x="747" y="33"/>
                    </a:lnTo>
                    <a:lnTo>
                      <a:pt x="688" y="23"/>
                    </a:lnTo>
                    <a:lnTo>
                      <a:pt x="658" y="18"/>
                    </a:lnTo>
                    <a:lnTo>
                      <a:pt x="625" y="14"/>
                    </a:lnTo>
                    <a:lnTo>
                      <a:pt x="588" y="9"/>
                    </a:lnTo>
                    <a:lnTo>
                      <a:pt x="551" y="6"/>
                    </a:lnTo>
                    <a:lnTo>
                      <a:pt x="509" y="3"/>
                    </a:lnTo>
                    <a:lnTo>
                      <a:pt x="466" y="1"/>
                    </a:lnTo>
                    <a:lnTo>
                      <a:pt x="418" y="0"/>
                    </a:lnTo>
                    <a:lnTo>
                      <a:pt x="368" y="0"/>
                    </a:lnTo>
                    <a:lnTo>
                      <a:pt x="313" y="0"/>
                    </a:lnTo>
                    <a:lnTo>
                      <a:pt x="255" y="2"/>
                    </a:lnTo>
                    <a:lnTo>
                      <a:pt x="191" y="6"/>
                    </a:lnTo>
                    <a:lnTo>
                      <a:pt x="124" y="9"/>
                    </a:lnTo>
                    <a:lnTo>
                      <a:pt x="0" y="89"/>
                    </a:lnTo>
                    <a:lnTo>
                      <a:pt x="67" y="84"/>
                    </a:lnTo>
                    <a:lnTo>
                      <a:pt x="130" y="82"/>
                    </a:lnTo>
                    <a:lnTo>
                      <a:pt x="188" y="80"/>
                    </a:lnTo>
                    <a:lnTo>
                      <a:pt x="242" y="80"/>
                    </a:lnTo>
                    <a:lnTo>
                      <a:pt x="292" y="80"/>
                    </a:lnTo>
                    <a:lnTo>
                      <a:pt x="338" y="81"/>
                    </a:lnTo>
                    <a:lnTo>
                      <a:pt x="382" y="83"/>
                    </a:lnTo>
                    <a:lnTo>
                      <a:pt x="423" y="86"/>
                    </a:lnTo>
                    <a:lnTo>
                      <a:pt x="460" y="89"/>
                    </a:lnTo>
                    <a:lnTo>
                      <a:pt x="496" y="94"/>
                    </a:lnTo>
                    <a:lnTo>
                      <a:pt x="529" y="97"/>
                    </a:lnTo>
                    <a:lnTo>
                      <a:pt x="560" y="102"/>
                    </a:lnTo>
                    <a:lnTo>
                      <a:pt x="618" y="112"/>
                    </a:lnTo>
                    <a:lnTo>
                      <a:pt x="671" y="122"/>
                    </a:lnTo>
                    <a:lnTo>
                      <a:pt x="723" y="131"/>
                    </a:lnTo>
                    <a:lnTo>
                      <a:pt x="774" y="140"/>
                    </a:lnTo>
                    <a:lnTo>
                      <a:pt x="800" y="144"/>
                    </a:lnTo>
                    <a:lnTo>
                      <a:pt x="826" y="146"/>
                    </a:lnTo>
                    <a:lnTo>
                      <a:pt x="855" y="148"/>
                    </a:lnTo>
                    <a:lnTo>
                      <a:pt x="885" y="149"/>
                    </a:lnTo>
                    <a:lnTo>
                      <a:pt x="916" y="149"/>
                    </a:lnTo>
                    <a:lnTo>
                      <a:pt x="950" y="148"/>
                    </a:lnTo>
                    <a:lnTo>
                      <a:pt x="985" y="146"/>
                    </a:lnTo>
                    <a:lnTo>
                      <a:pt x="1022" y="143"/>
                    </a:lnTo>
                    <a:lnTo>
                      <a:pt x="1064" y="138"/>
                    </a:lnTo>
                    <a:lnTo>
                      <a:pt x="1107" y="132"/>
                    </a:lnTo>
                    <a:lnTo>
                      <a:pt x="1154" y="124"/>
                    </a:lnTo>
                    <a:lnTo>
                      <a:pt x="1205" y="115"/>
                    </a:lnTo>
                    <a:lnTo>
                      <a:pt x="1325" y="47"/>
                    </a:lnTo>
                    <a:lnTo>
                      <a:pt x="1205" y="115"/>
                    </a:lnTo>
                    <a:lnTo>
                      <a:pt x="1269" y="103"/>
                    </a:lnTo>
                    <a:lnTo>
                      <a:pt x="1325" y="47"/>
                    </a:lnTo>
                    <a:lnTo>
                      <a:pt x="1203" y="10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3755880" y="3821040"/>
                <a:ext cx="284400" cy="57240"/>
              </a:xfrm>
              <a:custGeom>
                <a:avLst/>
                <a:gdLst/>
                <a:ahLst/>
                <a:rect l="l" t="t" r="r" b="b"/>
                <a:pathLst>
                  <a:path w="892" h="176">
                    <a:moveTo>
                      <a:pt x="582" y="80"/>
                    </a:moveTo>
                    <a:lnTo>
                      <a:pt x="703" y="1"/>
                    </a:lnTo>
                    <a:lnTo>
                      <a:pt x="666" y="7"/>
                    </a:lnTo>
                    <a:lnTo>
                      <a:pt x="627" y="13"/>
                    </a:lnTo>
                    <a:lnTo>
                      <a:pt x="586" y="19"/>
                    </a:lnTo>
                    <a:lnTo>
                      <a:pt x="542" y="23"/>
                    </a:lnTo>
                    <a:lnTo>
                      <a:pt x="454" y="32"/>
                    </a:lnTo>
                    <a:lnTo>
                      <a:pt x="368" y="41"/>
                    </a:lnTo>
                    <a:lnTo>
                      <a:pt x="324" y="47"/>
                    </a:lnTo>
                    <a:lnTo>
                      <a:pt x="285" y="53"/>
                    </a:lnTo>
                    <a:lnTo>
                      <a:pt x="247" y="60"/>
                    </a:lnTo>
                    <a:lnTo>
                      <a:pt x="212" y="66"/>
                    </a:lnTo>
                    <a:lnTo>
                      <a:pt x="193" y="71"/>
                    </a:lnTo>
                    <a:lnTo>
                      <a:pt x="175" y="77"/>
                    </a:lnTo>
                    <a:lnTo>
                      <a:pt x="157" y="84"/>
                    </a:lnTo>
                    <a:lnTo>
                      <a:pt x="134" y="92"/>
                    </a:lnTo>
                    <a:lnTo>
                      <a:pt x="103" y="106"/>
                    </a:lnTo>
                    <a:lnTo>
                      <a:pt x="59" y="131"/>
                    </a:lnTo>
                    <a:lnTo>
                      <a:pt x="19" y="159"/>
                    </a:lnTo>
                    <a:lnTo>
                      <a:pt x="0" y="176"/>
                    </a:lnTo>
                    <a:lnTo>
                      <a:pt x="122" y="118"/>
                    </a:lnTo>
                    <a:lnTo>
                      <a:pt x="116" y="122"/>
                    </a:lnTo>
                    <a:lnTo>
                      <a:pt x="94" y="137"/>
                    </a:lnTo>
                    <a:lnTo>
                      <a:pt x="69" y="151"/>
                    </a:lnTo>
                    <a:lnTo>
                      <a:pt x="60" y="155"/>
                    </a:lnTo>
                    <a:lnTo>
                      <a:pt x="63" y="154"/>
                    </a:lnTo>
                    <a:lnTo>
                      <a:pt x="71" y="152"/>
                    </a:lnTo>
                    <a:lnTo>
                      <a:pt x="83" y="149"/>
                    </a:lnTo>
                    <a:lnTo>
                      <a:pt x="96" y="145"/>
                    </a:lnTo>
                    <a:lnTo>
                      <a:pt x="128" y="138"/>
                    </a:lnTo>
                    <a:lnTo>
                      <a:pt x="165" y="131"/>
                    </a:lnTo>
                    <a:lnTo>
                      <a:pt x="204" y="126"/>
                    </a:lnTo>
                    <a:lnTo>
                      <a:pt x="245" y="121"/>
                    </a:lnTo>
                    <a:lnTo>
                      <a:pt x="331" y="111"/>
                    </a:lnTo>
                    <a:lnTo>
                      <a:pt x="420" y="102"/>
                    </a:lnTo>
                    <a:lnTo>
                      <a:pt x="464" y="97"/>
                    </a:lnTo>
                    <a:lnTo>
                      <a:pt x="506" y="93"/>
                    </a:lnTo>
                    <a:lnTo>
                      <a:pt x="547" y="87"/>
                    </a:lnTo>
                    <a:lnTo>
                      <a:pt x="584" y="80"/>
                    </a:lnTo>
                    <a:lnTo>
                      <a:pt x="706" y="0"/>
                    </a:lnTo>
                    <a:lnTo>
                      <a:pt x="584" y="80"/>
                    </a:lnTo>
                    <a:lnTo>
                      <a:pt x="892" y="13"/>
                    </a:lnTo>
                    <a:lnTo>
                      <a:pt x="706" y="0"/>
                    </a:lnTo>
                    <a:lnTo>
                      <a:pt x="582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5518080" y="3809880"/>
                <a:ext cx="566640" cy="79560"/>
              </a:xfrm>
              <a:custGeom>
                <a:avLst/>
                <a:gdLst/>
                <a:ahLst/>
                <a:rect l="l" t="t" r="r" b="b"/>
                <a:pathLst>
                  <a:path w="1785" h="251">
                    <a:moveTo>
                      <a:pt x="0" y="111"/>
                    </a:moveTo>
                    <a:lnTo>
                      <a:pt x="38" y="113"/>
                    </a:lnTo>
                    <a:lnTo>
                      <a:pt x="74" y="113"/>
                    </a:lnTo>
                    <a:lnTo>
                      <a:pt x="107" y="113"/>
                    </a:lnTo>
                    <a:lnTo>
                      <a:pt x="138" y="110"/>
                    </a:lnTo>
                    <a:lnTo>
                      <a:pt x="167" y="108"/>
                    </a:lnTo>
                    <a:lnTo>
                      <a:pt x="195" y="105"/>
                    </a:lnTo>
                    <a:lnTo>
                      <a:pt x="221" y="101"/>
                    </a:lnTo>
                    <a:lnTo>
                      <a:pt x="245" y="97"/>
                    </a:lnTo>
                    <a:lnTo>
                      <a:pt x="268" y="92"/>
                    </a:lnTo>
                    <a:lnTo>
                      <a:pt x="289" y="86"/>
                    </a:lnTo>
                    <a:lnTo>
                      <a:pt x="311" y="81"/>
                    </a:lnTo>
                    <a:lnTo>
                      <a:pt x="330" y="75"/>
                    </a:lnTo>
                    <a:lnTo>
                      <a:pt x="368" y="62"/>
                    </a:lnTo>
                    <a:lnTo>
                      <a:pt x="404" y="50"/>
                    </a:lnTo>
                    <a:lnTo>
                      <a:pt x="440" y="37"/>
                    </a:lnTo>
                    <a:lnTo>
                      <a:pt x="476" y="26"/>
                    </a:lnTo>
                    <a:lnTo>
                      <a:pt x="494" y="20"/>
                    </a:lnTo>
                    <a:lnTo>
                      <a:pt x="514" y="16"/>
                    </a:lnTo>
                    <a:lnTo>
                      <a:pt x="533" y="11"/>
                    </a:lnTo>
                    <a:lnTo>
                      <a:pt x="555" y="8"/>
                    </a:lnTo>
                    <a:lnTo>
                      <a:pt x="577" y="4"/>
                    </a:lnTo>
                    <a:lnTo>
                      <a:pt x="599" y="2"/>
                    </a:lnTo>
                    <a:lnTo>
                      <a:pt x="624" y="1"/>
                    </a:lnTo>
                    <a:lnTo>
                      <a:pt x="651" y="0"/>
                    </a:lnTo>
                    <a:lnTo>
                      <a:pt x="678" y="0"/>
                    </a:lnTo>
                    <a:lnTo>
                      <a:pt x="708" y="2"/>
                    </a:lnTo>
                    <a:lnTo>
                      <a:pt x="738" y="4"/>
                    </a:lnTo>
                    <a:lnTo>
                      <a:pt x="773" y="8"/>
                    </a:lnTo>
                    <a:lnTo>
                      <a:pt x="778" y="19"/>
                    </a:lnTo>
                    <a:lnTo>
                      <a:pt x="787" y="29"/>
                    </a:lnTo>
                    <a:lnTo>
                      <a:pt x="801" y="37"/>
                    </a:lnTo>
                    <a:lnTo>
                      <a:pt x="817" y="45"/>
                    </a:lnTo>
                    <a:lnTo>
                      <a:pt x="835" y="51"/>
                    </a:lnTo>
                    <a:lnTo>
                      <a:pt x="857" y="56"/>
                    </a:lnTo>
                    <a:lnTo>
                      <a:pt x="881" y="59"/>
                    </a:lnTo>
                    <a:lnTo>
                      <a:pt x="908" y="62"/>
                    </a:lnTo>
                    <a:lnTo>
                      <a:pt x="937" y="65"/>
                    </a:lnTo>
                    <a:lnTo>
                      <a:pt x="968" y="66"/>
                    </a:lnTo>
                    <a:lnTo>
                      <a:pt x="1001" y="67"/>
                    </a:lnTo>
                    <a:lnTo>
                      <a:pt x="1035" y="67"/>
                    </a:lnTo>
                    <a:lnTo>
                      <a:pt x="1108" y="68"/>
                    </a:lnTo>
                    <a:lnTo>
                      <a:pt x="1184" y="68"/>
                    </a:lnTo>
                    <a:lnTo>
                      <a:pt x="1265" y="70"/>
                    </a:lnTo>
                    <a:lnTo>
                      <a:pt x="1346" y="74"/>
                    </a:lnTo>
                    <a:lnTo>
                      <a:pt x="1387" y="76"/>
                    </a:lnTo>
                    <a:lnTo>
                      <a:pt x="1428" y="81"/>
                    </a:lnTo>
                    <a:lnTo>
                      <a:pt x="1468" y="85"/>
                    </a:lnTo>
                    <a:lnTo>
                      <a:pt x="1508" y="91"/>
                    </a:lnTo>
                    <a:lnTo>
                      <a:pt x="1548" y="98"/>
                    </a:lnTo>
                    <a:lnTo>
                      <a:pt x="1585" y="106"/>
                    </a:lnTo>
                    <a:lnTo>
                      <a:pt x="1623" y="116"/>
                    </a:lnTo>
                    <a:lnTo>
                      <a:pt x="1658" y="127"/>
                    </a:lnTo>
                    <a:lnTo>
                      <a:pt x="1693" y="140"/>
                    </a:lnTo>
                    <a:lnTo>
                      <a:pt x="1726" y="155"/>
                    </a:lnTo>
                    <a:lnTo>
                      <a:pt x="1756" y="172"/>
                    </a:lnTo>
                    <a:lnTo>
                      <a:pt x="1785" y="191"/>
                    </a:lnTo>
                    <a:lnTo>
                      <a:pt x="1718" y="187"/>
                    </a:lnTo>
                    <a:lnTo>
                      <a:pt x="1655" y="183"/>
                    </a:lnTo>
                    <a:lnTo>
                      <a:pt x="1597" y="182"/>
                    </a:lnTo>
                    <a:lnTo>
                      <a:pt x="1542" y="181"/>
                    </a:lnTo>
                    <a:lnTo>
                      <a:pt x="1492" y="182"/>
                    </a:lnTo>
                    <a:lnTo>
                      <a:pt x="1445" y="183"/>
                    </a:lnTo>
                    <a:lnTo>
                      <a:pt x="1401" y="186"/>
                    </a:lnTo>
                    <a:lnTo>
                      <a:pt x="1361" y="188"/>
                    </a:lnTo>
                    <a:lnTo>
                      <a:pt x="1322" y="191"/>
                    </a:lnTo>
                    <a:lnTo>
                      <a:pt x="1287" y="195"/>
                    </a:lnTo>
                    <a:lnTo>
                      <a:pt x="1254" y="199"/>
                    </a:lnTo>
                    <a:lnTo>
                      <a:pt x="1223" y="204"/>
                    </a:lnTo>
                    <a:lnTo>
                      <a:pt x="1165" y="214"/>
                    </a:lnTo>
                    <a:lnTo>
                      <a:pt x="1111" y="224"/>
                    </a:lnTo>
                    <a:lnTo>
                      <a:pt x="1060" y="234"/>
                    </a:lnTo>
                    <a:lnTo>
                      <a:pt x="1010" y="242"/>
                    </a:lnTo>
                    <a:lnTo>
                      <a:pt x="984" y="245"/>
                    </a:lnTo>
                    <a:lnTo>
                      <a:pt x="956" y="248"/>
                    </a:lnTo>
                    <a:lnTo>
                      <a:pt x="928" y="249"/>
                    </a:lnTo>
                    <a:lnTo>
                      <a:pt x="899" y="251"/>
                    </a:lnTo>
                    <a:lnTo>
                      <a:pt x="868" y="251"/>
                    </a:lnTo>
                    <a:lnTo>
                      <a:pt x="835" y="251"/>
                    </a:lnTo>
                    <a:lnTo>
                      <a:pt x="800" y="248"/>
                    </a:lnTo>
                    <a:lnTo>
                      <a:pt x="762" y="245"/>
                    </a:lnTo>
                    <a:lnTo>
                      <a:pt x="722" y="240"/>
                    </a:lnTo>
                    <a:lnTo>
                      <a:pt x="680" y="235"/>
                    </a:lnTo>
                    <a:lnTo>
                      <a:pt x="634" y="227"/>
                    </a:lnTo>
                    <a:lnTo>
                      <a:pt x="585" y="218"/>
                    </a:lnTo>
                    <a:lnTo>
                      <a:pt x="577" y="212"/>
                    </a:lnTo>
                    <a:lnTo>
                      <a:pt x="567" y="205"/>
                    </a:lnTo>
                    <a:lnTo>
                      <a:pt x="558" y="199"/>
                    </a:lnTo>
                    <a:lnTo>
                      <a:pt x="547" y="195"/>
                    </a:lnTo>
                    <a:lnTo>
                      <a:pt x="534" y="190"/>
                    </a:lnTo>
                    <a:lnTo>
                      <a:pt x="521" y="184"/>
                    </a:lnTo>
                    <a:lnTo>
                      <a:pt x="506" y="181"/>
                    </a:lnTo>
                    <a:lnTo>
                      <a:pt x="490" y="176"/>
                    </a:lnTo>
                    <a:lnTo>
                      <a:pt x="457" y="170"/>
                    </a:lnTo>
                    <a:lnTo>
                      <a:pt x="419" y="163"/>
                    </a:lnTo>
                    <a:lnTo>
                      <a:pt x="379" y="157"/>
                    </a:lnTo>
                    <a:lnTo>
                      <a:pt x="338" y="151"/>
                    </a:lnTo>
                    <a:lnTo>
                      <a:pt x="252" y="142"/>
                    </a:lnTo>
                    <a:lnTo>
                      <a:pt x="163" y="133"/>
                    </a:lnTo>
                    <a:lnTo>
                      <a:pt x="119" y="129"/>
                    </a:lnTo>
                    <a:lnTo>
                      <a:pt x="77" y="124"/>
                    </a:lnTo>
                    <a:lnTo>
                      <a:pt x="37" y="118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5497560" y="3797280"/>
                <a:ext cx="285840" cy="61920"/>
              </a:xfrm>
              <a:custGeom>
                <a:avLst/>
                <a:gdLst/>
                <a:ahLst/>
                <a:rect l="l" t="t" r="r" b="b"/>
                <a:pathLst>
                  <a:path w="902" h="193">
                    <a:moveTo>
                      <a:pt x="902" y="9"/>
                    </a:moveTo>
                    <a:lnTo>
                      <a:pt x="899" y="8"/>
                    </a:lnTo>
                    <a:lnTo>
                      <a:pt x="865" y="4"/>
                    </a:lnTo>
                    <a:lnTo>
                      <a:pt x="834" y="2"/>
                    </a:lnTo>
                    <a:lnTo>
                      <a:pt x="804" y="0"/>
                    </a:lnTo>
                    <a:lnTo>
                      <a:pt x="776" y="0"/>
                    </a:lnTo>
                    <a:lnTo>
                      <a:pt x="750" y="1"/>
                    </a:lnTo>
                    <a:lnTo>
                      <a:pt x="725" y="2"/>
                    </a:lnTo>
                    <a:lnTo>
                      <a:pt x="700" y="4"/>
                    </a:lnTo>
                    <a:lnTo>
                      <a:pt x="677" y="8"/>
                    </a:lnTo>
                    <a:lnTo>
                      <a:pt x="655" y="11"/>
                    </a:lnTo>
                    <a:lnTo>
                      <a:pt x="634" y="16"/>
                    </a:lnTo>
                    <a:lnTo>
                      <a:pt x="612" y="21"/>
                    </a:lnTo>
                    <a:lnTo>
                      <a:pt x="592" y="28"/>
                    </a:lnTo>
                    <a:lnTo>
                      <a:pt x="553" y="40"/>
                    </a:lnTo>
                    <a:lnTo>
                      <a:pt x="515" y="53"/>
                    </a:lnTo>
                    <a:lnTo>
                      <a:pt x="480" y="66"/>
                    </a:lnTo>
                    <a:lnTo>
                      <a:pt x="445" y="77"/>
                    </a:lnTo>
                    <a:lnTo>
                      <a:pt x="427" y="83"/>
                    </a:lnTo>
                    <a:lnTo>
                      <a:pt x="409" y="88"/>
                    </a:lnTo>
                    <a:lnTo>
                      <a:pt x="389" y="93"/>
                    </a:lnTo>
                    <a:lnTo>
                      <a:pt x="367" y="98"/>
                    </a:lnTo>
                    <a:lnTo>
                      <a:pt x="343" y="102"/>
                    </a:lnTo>
                    <a:lnTo>
                      <a:pt x="318" y="106"/>
                    </a:lnTo>
                    <a:lnTo>
                      <a:pt x="292" y="108"/>
                    </a:lnTo>
                    <a:lnTo>
                      <a:pt x="263" y="110"/>
                    </a:lnTo>
                    <a:lnTo>
                      <a:pt x="233" y="113"/>
                    </a:lnTo>
                    <a:lnTo>
                      <a:pt x="199" y="113"/>
                    </a:lnTo>
                    <a:lnTo>
                      <a:pt x="164" y="113"/>
                    </a:lnTo>
                    <a:lnTo>
                      <a:pt x="127" y="112"/>
                    </a:lnTo>
                    <a:lnTo>
                      <a:pt x="0" y="191"/>
                    </a:lnTo>
                    <a:lnTo>
                      <a:pt x="38" y="193"/>
                    </a:lnTo>
                    <a:lnTo>
                      <a:pt x="73" y="193"/>
                    </a:lnTo>
                    <a:lnTo>
                      <a:pt x="107" y="193"/>
                    </a:lnTo>
                    <a:lnTo>
                      <a:pt x="139" y="190"/>
                    </a:lnTo>
                    <a:lnTo>
                      <a:pt x="169" y="188"/>
                    </a:lnTo>
                    <a:lnTo>
                      <a:pt x="197" y="185"/>
                    </a:lnTo>
                    <a:lnTo>
                      <a:pt x="223" y="181"/>
                    </a:lnTo>
                    <a:lnTo>
                      <a:pt x="250" y="177"/>
                    </a:lnTo>
                    <a:lnTo>
                      <a:pt x="274" y="171"/>
                    </a:lnTo>
                    <a:lnTo>
                      <a:pt x="296" y="165"/>
                    </a:lnTo>
                    <a:lnTo>
                      <a:pt x="319" y="159"/>
                    </a:lnTo>
                    <a:lnTo>
                      <a:pt x="342" y="153"/>
                    </a:lnTo>
                    <a:lnTo>
                      <a:pt x="382" y="139"/>
                    </a:lnTo>
                    <a:lnTo>
                      <a:pt x="420" y="125"/>
                    </a:lnTo>
                    <a:lnTo>
                      <a:pt x="453" y="114"/>
                    </a:lnTo>
                    <a:lnTo>
                      <a:pt x="487" y="104"/>
                    </a:lnTo>
                    <a:lnTo>
                      <a:pt x="502" y="99"/>
                    </a:lnTo>
                    <a:lnTo>
                      <a:pt x="520" y="94"/>
                    </a:lnTo>
                    <a:lnTo>
                      <a:pt x="538" y="90"/>
                    </a:lnTo>
                    <a:lnTo>
                      <a:pt x="557" y="86"/>
                    </a:lnTo>
                    <a:lnTo>
                      <a:pt x="578" y="84"/>
                    </a:lnTo>
                    <a:lnTo>
                      <a:pt x="601" y="82"/>
                    </a:lnTo>
                    <a:lnTo>
                      <a:pt x="625" y="81"/>
                    </a:lnTo>
                    <a:lnTo>
                      <a:pt x="650" y="80"/>
                    </a:lnTo>
                    <a:lnTo>
                      <a:pt x="677" y="80"/>
                    </a:lnTo>
                    <a:lnTo>
                      <a:pt x="707" y="81"/>
                    </a:lnTo>
                    <a:lnTo>
                      <a:pt x="738" y="84"/>
                    </a:lnTo>
                    <a:lnTo>
                      <a:pt x="771" y="88"/>
                    </a:lnTo>
                    <a:lnTo>
                      <a:pt x="768" y="85"/>
                    </a:lnTo>
                    <a:lnTo>
                      <a:pt x="902" y="9"/>
                    </a:lnTo>
                    <a:lnTo>
                      <a:pt x="902" y="8"/>
                    </a:lnTo>
                    <a:lnTo>
                      <a:pt x="899" y="8"/>
                    </a:lnTo>
                    <a:lnTo>
                      <a:pt x="902" y="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5742000" y="3800520"/>
                <a:ext cx="387360" cy="82440"/>
              </a:xfrm>
              <a:custGeom>
                <a:avLst/>
                <a:gdLst/>
                <a:ahLst/>
                <a:rect l="l" t="t" r="r" b="b"/>
                <a:pathLst>
                  <a:path w="1224" h="262">
                    <a:moveTo>
                      <a:pt x="1016" y="262"/>
                    </a:moveTo>
                    <a:lnTo>
                      <a:pt x="1146" y="182"/>
                    </a:lnTo>
                    <a:lnTo>
                      <a:pt x="1132" y="173"/>
                    </a:lnTo>
                    <a:lnTo>
                      <a:pt x="1118" y="164"/>
                    </a:lnTo>
                    <a:lnTo>
                      <a:pt x="1102" y="155"/>
                    </a:lnTo>
                    <a:lnTo>
                      <a:pt x="1087" y="147"/>
                    </a:lnTo>
                    <a:lnTo>
                      <a:pt x="1054" y="132"/>
                    </a:lnTo>
                    <a:lnTo>
                      <a:pt x="1018" y="118"/>
                    </a:lnTo>
                    <a:lnTo>
                      <a:pt x="983" y="107"/>
                    </a:lnTo>
                    <a:lnTo>
                      <a:pt x="945" y="97"/>
                    </a:lnTo>
                    <a:lnTo>
                      <a:pt x="907" y="89"/>
                    </a:lnTo>
                    <a:lnTo>
                      <a:pt x="868" y="82"/>
                    </a:lnTo>
                    <a:lnTo>
                      <a:pt x="828" y="76"/>
                    </a:lnTo>
                    <a:lnTo>
                      <a:pt x="787" y="72"/>
                    </a:lnTo>
                    <a:lnTo>
                      <a:pt x="746" y="67"/>
                    </a:lnTo>
                    <a:lnTo>
                      <a:pt x="705" y="65"/>
                    </a:lnTo>
                    <a:lnTo>
                      <a:pt x="623" y="61"/>
                    </a:lnTo>
                    <a:lnTo>
                      <a:pt x="543" y="59"/>
                    </a:lnTo>
                    <a:lnTo>
                      <a:pt x="465" y="59"/>
                    </a:lnTo>
                    <a:lnTo>
                      <a:pt x="393" y="58"/>
                    </a:lnTo>
                    <a:lnTo>
                      <a:pt x="358" y="58"/>
                    </a:lnTo>
                    <a:lnTo>
                      <a:pt x="326" y="57"/>
                    </a:lnTo>
                    <a:lnTo>
                      <a:pt x="296" y="56"/>
                    </a:lnTo>
                    <a:lnTo>
                      <a:pt x="267" y="53"/>
                    </a:lnTo>
                    <a:lnTo>
                      <a:pt x="241" y="50"/>
                    </a:lnTo>
                    <a:lnTo>
                      <a:pt x="217" y="47"/>
                    </a:lnTo>
                    <a:lnTo>
                      <a:pt x="195" y="42"/>
                    </a:lnTo>
                    <a:lnTo>
                      <a:pt x="177" y="36"/>
                    </a:lnTo>
                    <a:lnTo>
                      <a:pt x="169" y="33"/>
                    </a:lnTo>
                    <a:lnTo>
                      <a:pt x="161" y="29"/>
                    </a:lnTo>
                    <a:lnTo>
                      <a:pt x="155" y="25"/>
                    </a:lnTo>
                    <a:lnTo>
                      <a:pt x="149" y="22"/>
                    </a:lnTo>
                    <a:lnTo>
                      <a:pt x="144" y="17"/>
                    </a:lnTo>
                    <a:lnTo>
                      <a:pt x="139" y="11"/>
                    </a:lnTo>
                    <a:lnTo>
                      <a:pt x="136" y="6"/>
                    </a:lnTo>
                    <a:lnTo>
                      <a:pt x="134" y="0"/>
                    </a:lnTo>
                    <a:lnTo>
                      <a:pt x="0" y="76"/>
                    </a:lnTo>
                    <a:lnTo>
                      <a:pt x="3" y="83"/>
                    </a:lnTo>
                    <a:lnTo>
                      <a:pt x="7" y="89"/>
                    </a:lnTo>
                    <a:lnTo>
                      <a:pt x="11" y="95"/>
                    </a:lnTo>
                    <a:lnTo>
                      <a:pt x="16" y="99"/>
                    </a:lnTo>
                    <a:lnTo>
                      <a:pt x="22" y="104"/>
                    </a:lnTo>
                    <a:lnTo>
                      <a:pt x="30" y="108"/>
                    </a:lnTo>
                    <a:lnTo>
                      <a:pt x="38" y="112"/>
                    </a:lnTo>
                    <a:lnTo>
                      <a:pt x="46" y="115"/>
                    </a:lnTo>
                    <a:lnTo>
                      <a:pt x="65" y="122"/>
                    </a:lnTo>
                    <a:lnTo>
                      <a:pt x="87" y="126"/>
                    </a:lnTo>
                    <a:lnTo>
                      <a:pt x="112" y="130"/>
                    </a:lnTo>
                    <a:lnTo>
                      <a:pt x="139" y="133"/>
                    </a:lnTo>
                    <a:lnTo>
                      <a:pt x="168" y="136"/>
                    </a:lnTo>
                    <a:lnTo>
                      <a:pt x="199" y="137"/>
                    </a:lnTo>
                    <a:lnTo>
                      <a:pt x="232" y="138"/>
                    </a:lnTo>
                    <a:lnTo>
                      <a:pt x="266" y="138"/>
                    </a:lnTo>
                    <a:lnTo>
                      <a:pt x="339" y="139"/>
                    </a:lnTo>
                    <a:lnTo>
                      <a:pt x="416" y="139"/>
                    </a:lnTo>
                    <a:lnTo>
                      <a:pt x="496" y="141"/>
                    </a:lnTo>
                    <a:lnTo>
                      <a:pt x="577" y="145"/>
                    </a:lnTo>
                    <a:lnTo>
                      <a:pt x="618" y="147"/>
                    </a:lnTo>
                    <a:lnTo>
                      <a:pt x="659" y="150"/>
                    </a:lnTo>
                    <a:lnTo>
                      <a:pt x="699" y="155"/>
                    </a:lnTo>
                    <a:lnTo>
                      <a:pt x="739" y="161"/>
                    </a:lnTo>
                    <a:lnTo>
                      <a:pt x="778" y="169"/>
                    </a:lnTo>
                    <a:lnTo>
                      <a:pt x="815" y="177"/>
                    </a:lnTo>
                    <a:lnTo>
                      <a:pt x="852" y="186"/>
                    </a:lnTo>
                    <a:lnTo>
                      <a:pt x="888" y="197"/>
                    </a:lnTo>
                    <a:lnTo>
                      <a:pt x="923" y="211"/>
                    </a:lnTo>
                    <a:lnTo>
                      <a:pt x="955" y="226"/>
                    </a:lnTo>
                    <a:lnTo>
                      <a:pt x="970" y="234"/>
                    </a:lnTo>
                    <a:lnTo>
                      <a:pt x="985" y="243"/>
                    </a:lnTo>
                    <a:lnTo>
                      <a:pt x="1000" y="252"/>
                    </a:lnTo>
                    <a:lnTo>
                      <a:pt x="1014" y="261"/>
                    </a:lnTo>
                    <a:lnTo>
                      <a:pt x="1144" y="182"/>
                    </a:lnTo>
                    <a:lnTo>
                      <a:pt x="1016" y="262"/>
                    </a:lnTo>
                    <a:lnTo>
                      <a:pt x="1224" y="257"/>
                    </a:lnTo>
                    <a:lnTo>
                      <a:pt x="1146" y="182"/>
                    </a:lnTo>
                    <a:lnTo>
                      <a:pt x="1016" y="2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5681520" y="3854520"/>
                <a:ext cx="422280" cy="47520"/>
              </a:xfrm>
              <a:custGeom>
                <a:avLst/>
                <a:gdLst/>
                <a:ahLst/>
                <a:rect l="l" t="t" r="r" b="b"/>
                <a:pathLst>
                  <a:path w="1332" h="150">
                    <a:moveTo>
                      <a:pt x="0" y="115"/>
                    </a:moveTo>
                    <a:lnTo>
                      <a:pt x="3" y="116"/>
                    </a:lnTo>
                    <a:lnTo>
                      <a:pt x="53" y="126"/>
                    </a:lnTo>
                    <a:lnTo>
                      <a:pt x="98" y="132"/>
                    </a:lnTo>
                    <a:lnTo>
                      <a:pt x="142" y="139"/>
                    </a:lnTo>
                    <a:lnTo>
                      <a:pt x="182" y="144"/>
                    </a:lnTo>
                    <a:lnTo>
                      <a:pt x="219" y="147"/>
                    </a:lnTo>
                    <a:lnTo>
                      <a:pt x="254" y="148"/>
                    </a:lnTo>
                    <a:lnTo>
                      <a:pt x="288" y="150"/>
                    </a:lnTo>
                    <a:lnTo>
                      <a:pt x="319" y="150"/>
                    </a:lnTo>
                    <a:lnTo>
                      <a:pt x="349" y="148"/>
                    </a:lnTo>
                    <a:lnTo>
                      <a:pt x="378" y="147"/>
                    </a:lnTo>
                    <a:lnTo>
                      <a:pt x="405" y="144"/>
                    </a:lnTo>
                    <a:lnTo>
                      <a:pt x="432" y="140"/>
                    </a:lnTo>
                    <a:lnTo>
                      <a:pt x="484" y="132"/>
                    </a:lnTo>
                    <a:lnTo>
                      <a:pt x="535" y="122"/>
                    </a:lnTo>
                    <a:lnTo>
                      <a:pt x="588" y="113"/>
                    </a:lnTo>
                    <a:lnTo>
                      <a:pt x="645" y="103"/>
                    </a:lnTo>
                    <a:lnTo>
                      <a:pt x="676" y="98"/>
                    </a:lnTo>
                    <a:lnTo>
                      <a:pt x="709" y="94"/>
                    </a:lnTo>
                    <a:lnTo>
                      <a:pt x="745" y="90"/>
                    </a:lnTo>
                    <a:lnTo>
                      <a:pt x="781" y="87"/>
                    </a:lnTo>
                    <a:lnTo>
                      <a:pt x="822" y="83"/>
                    </a:lnTo>
                    <a:lnTo>
                      <a:pt x="866" y="82"/>
                    </a:lnTo>
                    <a:lnTo>
                      <a:pt x="911" y="81"/>
                    </a:lnTo>
                    <a:lnTo>
                      <a:pt x="962" y="80"/>
                    </a:lnTo>
                    <a:lnTo>
                      <a:pt x="1016" y="81"/>
                    </a:lnTo>
                    <a:lnTo>
                      <a:pt x="1074" y="82"/>
                    </a:lnTo>
                    <a:lnTo>
                      <a:pt x="1137" y="86"/>
                    </a:lnTo>
                    <a:lnTo>
                      <a:pt x="1204" y="90"/>
                    </a:lnTo>
                    <a:lnTo>
                      <a:pt x="1332" y="10"/>
                    </a:lnTo>
                    <a:lnTo>
                      <a:pt x="1265" y="6"/>
                    </a:lnTo>
                    <a:lnTo>
                      <a:pt x="1202" y="4"/>
                    </a:lnTo>
                    <a:lnTo>
                      <a:pt x="1143" y="1"/>
                    </a:lnTo>
                    <a:lnTo>
                      <a:pt x="1088" y="0"/>
                    </a:lnTo>
                    <a:lnTo>
                      <a:pt x="1038" y="1"/>
                    </a:lnTo>
                    <a:lnTo>
                      <a:pt x="991" y="2"/>
                    </a:lnTo>
                    <a:lnTo>
                      <a:pt x="946" y="5"/>
                    </a:lnTo>
                    <a:lnTo>
                      <a:pt x="905" y="7"/>
                    </a:lnTo>
                    <a:lnTo>
                      <a:pt x="867" y="10"/>
                    </a:lnTo>
                    <a:lnTo>
                      <a:pt x="831" y="15"/>
                    </a:lnTo>
                    <a:lnTo>
                      <a:pt x="797" y="18"/>
                    </a:lnTo>
                    <a:lnTo>
                      <a:pt x="765" y="24"/>
                    </a:lnTo>
                    <a:lnTo>
                      <a:pt x="707" y="33"/>
                    </a:lnTo>
                    <a:lnTo>
                      <a:pt x="653" y="43"/>
                    </a:lnTo>
                    <a:lnTo>
                      <a:pt x="602" y="54"/>
                    </a:lnTo>
                    <a:lnTo>
                      <a:pt x="552" y="62"/>
                    </a:lnTo>
                    <a:lnTo>
                      <a:pt x="527" y="64"/>
                    </a:lnTo>
                    <a:lnTo>
                      <a:pt x="501" y="67"/>
                    </a:lnTo>
                    <a:lnTo>
                      <a:pt x="473" y="69"/>
                    </a:lnTo>
                    <a:lnTo>
                      <a:pt x="445" y="70"/>
                    </a:lnTo>
                    <a:lnTo>
                      <a:pt x="414" y="70"/>
                    </a:lnTo>
                    <a:lnTo>
                      <a:pt x="382" y="70"/>
                    </a:lnTo>
                    <a:lnTo>
                      <a:pt x="347" y="67"/>
                    </a:lnTo>
                    <a:lnTo>
                      <a:pt x="310" y="64"/>
                    </a:lnTo>
                    <a:lnTo>
                      <a:pt x="270" y="59"/>
                    </a:lnTo>
                    <a:lnTo>
                      <a:pt x="227" y="54"/>
                    </a:lnTo>
                    <a:lnTo>
                      <a:pt x="182" y="46"/>
                    </a:lnTo>
                    <a:lnTo>
                      <a:pt x="131" y="37"/>
                    </a:lnTo>
                    <a:lnTo>
                      <a:pt x="134" y="38"/>
                    </a:lnTo>
                    <a:lnTo>
                      <a:pt x="0" y="115"/>
                    </a:lnTo>
                    <a:lnTo>
                      <a:pt x="1" y="116"/>
                    </a:lnTo>
                    <a:lnTo>
                      <a:pt x="3" y="116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5421240" y="3832200"/>
                <a:ext cx="303120" cy="58680"/>
              </a:xfrm>
              <a:custGeom>
                <a:avLst/>
                <a:gdLst/>
                <a:ahLst/>
                <a:rect l="l" t="t" r="r" b="b"/>
                <a:pathLst>
                  <a:path w="956" h="184">
                    <a:moveTo>
                      <a:pt x="369" y="0"/>
                    </a:moveTo>
                    <a:lnTo>
                      <a:pt x="241" y="79"/>
                    </a:lnTo>
                    <a:lnTo>
                      <a:pt x="278" y="85"/>
                    </a:lnTo>
                    <a:lnTo>
                      <a:pt x="318" y="91"/>
                    </a:lnTo>
                    <a:lnTo>
                      <a:pt x="361" y="96"/>
                    </a:lnTo>
                    <a:lnTo>
                      <a:pt x="404" y="101"/>
                    </a:lnTo>
                    <a:lnTo>
                      <a:pt x="492" y="110"/>
                    </a:lnTo>
                    <a:lnTo>
                      <a:pt x="579" y="119"/>
                    </a:lnTo>
                    <a:lnTo>
                      <a:pt x="620" y="125"/>
                    </a:lnTo>
                    <a:lnTo>
                      <a:pt x="659" y="131"/>
                    </a:lnTo>
                    <a:lnTo>
                      <a:pt x="697" y="138"/>
                    </a:lnTo>
                    <a:lnTo>
                      <a:pt x="730" y="144"/>
                    </a:lnTo>
                    <a:lnTo>
                      <a:pt x="746" y="148"/>
                    </a:lnTo>
                    <a:lnTo>
                      <a:pt x="761" y="152"/>
                    </a:lnTo>
                    <a:lnTo>
                      <a:pt x="774" y="157"/>
                    </a:lnTo>
                    <a:lnTo>
                      <a:pt x="786" y="162"/>
                    </a:lnTo>
                    <a:lnTo>
                      <a:pt x="797" y="167"/>
                    </a:lnTo>
                    <a:lnTo>
                      <a:pt x="806" y="173"/>
                    </a:lnTo>
                    <a:lnTo>
                      <a:pt x="815" y="179"/>
                    </a:lnTo>
                    <a:lnTo>
                      <a:pt x="822" y="184"/>
                    </a:lnTo>
                    <a:lnTo>
                      <a:pt x="956" y="107"/>
                    </a:lnTo>
                    <a:lnTo>
                      <a:pt x="948" y="100"/>
                    </a:lnTo>
                    <a:lnTo>
                      <a:pt x="939" y="94"/>
                    </a:lnTo>
                    <a:lnTo>
                      <a:pt x="928" y="89"/>
                    </a:lnTo>
                    <a:lnTo>
                      <a:pt x="917" y="83"/>
                    </a:lnTo>
                    <a:lnTo>
                      <a:pt x="904" y="78"/>
                    </a:lnTo>
                    <a:lnTo>
                      <a:pt x="891" y="74"/>
                    </a:lnTo>
                    <a:lnTo>
                      <a:pt x="876" y="69"/>
                    </a:lnTo>
                    <a:lnTo>
                      <a:pt x="860" y="65"/>
                    </a:lnTo>
                    <a:lnTo>
                      <a:pt x="826" y="58"/>
                    </a:lnTo>
                    <a:lnTo>
                      <a:pt x="789" y="51"/>
                    </a:lnTo>
                    <a:lnTo>
                      <a:pt x="749" y="45"/>
                    </a:lnTo>
                    <a:lnTo>
                      <a:pt x="707" y="41"/>
                    </a:lnTo>
                    <a:lnTo>
                      <a:pt x="620" y="30"/>
                    </a:lnTo>
                    <a:lnTo>
                      <a:pt x="532" y="22"/>
                    </a:lnTo>
                    <a:lnTo>
                      <a:pt x="488" y="17"/>
                    </a:lnTo>
                    <a:lnTo>
                      <a:pt x="447" y="12"/>
                    </a:lnTo>
                    <a:lnTo>
                      <a:pt x="407" y="6"/>
                    </a:lnTo>
                    <a:lnTo>
                      <a:pt x="370" y="0"/>
                    </a:lnTo>
                    <a:lnTo>
                      <a:pt x="242" y="79"/>
                    </a:lnTo>
                    <a:lnTo>
                      <a:pt x="369" y="0"/>
                    </a:lnTo>
                    <a:lnTo>
                      <a:pt x="0" y="13"/>
                    </a:lnTo>
                    <a:lnTo>
                      <a:pt x="241" y="79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4465800" y="3517920"/>
                <a:ext cx="117360" cy="4680"/>
              </a:xfrm>
              <a:custGeom>
                <a:avLst/>
                <a:gdLst/>
                <a:ahLst/>
                <a:rect l="l" t="t" r="r" b="b"/>
                <a:pathLst>
                  <a:path w="370" h="16">
                    <a:moveTo>
                      <a:pt x="370" y="0"/>
                    </a:moveTo>
                    <a:lnTo>
                      <a:pt x="335" y="7"/>
                    </a:lnTo>
                    <a:lnTo>
                      <a:pt x="297" y="11"/>
                    </a:lnTo>
                    <a:lnTo>
                      <a:pt x="257" y="15"/>
                    </a:lnTo>
                    <a:lnTo>
                      <a:pt x="215" y="16"/>
                    </a:lnTo>
                    <a:lnTo>
                      <a:pt x="168" y="16"/>
                    </a:lnTo>
                    <a:lnTo>
                      <a:pt x="118" y="13"/>
                    </a:lnTo>
                    <a:lnTo>
                      <a:pt x="62" y="8"/>
                    </a:lnTo>
                    <a:lnTo>
                      <a:pt x="0" y="0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4419720" y="3517920"/>
                <a:ext cx="204840" cy="17280"/>
              </a:xfrm>
              <a:custGeom>
                <a:avLst/>
                <a:gdLst/>
                <a:ahLst/>
                <a:rect l="l" t="t" r="r" b="b"/>
                <a:pathLst>
                  <a:path w="641" h="56">
                    <a:moveTo>
                      <a:pt x="0" y="27"/>
                    </a:moveTo>
                    <a:lnTo>
                      <a:pt x="3" y="27"/>
                    </a:lnTo>
                    <a:lnTo>
                      <a:pt x="52" y="36"/>
                    </a:lnTo>
                    <a:lnTo>
                      <a:pt x="98" y="43"/>
                    </a:lnTo>
                    <a:lnTo>
                      <a:pt x="142" y="48"/>
                    </a:lnTo>
                    <a:lnTo>
                      <a:pt x="182" y="52"/>
                    </a:lnTo>
                    <a:lnTo>
                      <a:pt x="219" y="55"/>
                    </a:lnTo>
                    <a:lnTo>
                      <a:pt x="255" y="56"/>
                    </a:lnTo>
                    <a:lnTo>
                      <a:pt x="288" y="56"/>
                    </a:lnTo>
                    <a:lnTo>
                      <a:pt x="318" y="56"/>
                    </a:lnTo>
                    <a:lnTo>
                      <a:pt x="348" y="53"/>
                    </a:lnTo>
                    <a:lnTo>
                      <a:pt x="377" y="51"/>
                    </a:lnTo>
                    <a:lnTo>
                      <a:pt x="404" y="48"/>
                    </a:lnTo>
                    <a:lnTo>
                      <a:pt x="430" y="43"/>
                    </a:lnTo>
                    <a:lnTo>
                      <a:pt x="481" y="34"/>
                    </a:lnTo>
                    <a:lnTo>
                      <a:pt x="533" y="23"/>
                    </a:lnTo>
                    <a:lnTo>
                      <a:pt x="585" y="11"/>
                    </a:lnTo>
                    <a:lnTo>
                      <a:pt x="641" y="0"/>
                    </a:lnTo>
                    <a:lnTo>
                      <a:pt x="46" y="0"/>
                    </a:lnTo>
                    <a:lnTo>
                      <a:pt x="0" y="27"/>
                    </a:lnTo>
                    <a:lnTo>
                      <a:pt x="1" y="27"/>
                    </a:lnTo>
                    <a:lnTo>
                      <a:pt x="3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4402080" y="3517920"/>
                <a:ext cx="33480" cy="79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0" y="0"/>
                    </a:moveTo>
                    <a:lnTo>
                      <a:pt x="21" y="7"/>
                    </a:lnTo>
                    <a:lnTo>
                      <a:pt x="32" y="11"/>
                    </a:lnTo>
                    <a:lnTo>
                      <a:pt x="42" y="16"/>
                    </a:lnTo>
                    <a:lnTo>
                      <a:pt x="50" y="21"/>
                    </a:lnTo>
                    <a:lnTo>
                      <a:pt x="58" y="27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4848120" y="3517920"/>
                <a:ext cx="200160" cy="14400"/>
              </a:xfrm>
              <a:custGeom>
                <a:avLst/>
                <a:gdLst/>
                <a:ahLst/>
                <a:rect l="l" t="t" r="r" b="b"/>
                <a:pathLst>
                  <a:path w="629" h="48">
                    <a:moveTo>
                      <a:pt x="0" y="0"/>
                    </a:moveTo>
                    <a:lnTo>
                      <a:pt x="63" y="13"/>
                    </a:lnTo>
                    <a:lnTo>
                      <a:pt x="121" y="26"/>
                    </a:lnTo>
                    <a:lnTo>
                      <a:pt x="151" y="32"/>
                    </a:lnTo>
                    <a:lnTo>
                      <a:pt x="180" y="37"/>
                    </a:lnTo>
                    <a:lnTo>
                      <a:pt x="210" y="41"/>
                    </a:lnTo>
                    <a:lnTo>
                      <a:pt x="242" y="44"/>
                    </a:lnTo>
                    <a:lnTo>
                      <a:pt x="276" y="47"/>
                    </a:lnTo>
                    <a:lnTo>
                      <a:pt x="311" y="48"/>
                    </a:lnTo>
                    <a:lnTo>
                      <a:pt x="350" y="48"/>
                    </a:lnTo>
                    <a:lnTo>
                      <a:pt x="391" y="45"/>
                    </a:lnTo>
                    <a:lnTo>
                      <a:pt x="436" y="42"/>
                    </a:lnTo>
                    <a:lnTo>
                      <a:pt x="485" y="36"/>
                    </a:lnTo>
                    <a:lnTo>
                      <a:pt x="538" y="28"/>
                    </a:lnTo>
                    <a:lnTo>
                      <a:pt x="596" y="19"/>
                    </a:lnTo>
                    <a:lnTo>
                      <a:pt x="600" y="17"/>
                    </a:lnTo>
                    <a:lnTo>
                      <a:pt x="603" y="15"/>
                    </a:lnTo>
                    <a:lnTo>
                      <a:pt x="607" y="11"/>
                    </a:lnTo>
                    <a:lnTo>
                      <a:pt x="611" y="9"/>
                    </a:lnTo>
                    <a:lnTo>
                      <a:pt x="616" y="7"/>
                    </a:lnTo>
                    <a:lnTo>
                      <a:pt x="620" y="4"/>
                    </a:lnTo>
                    <a:lnTo>
                      <a:pt x="625" y="2"/>
                    </a:lnTo>
                    <a:lnTo>
                      <a:pt x="6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4632480" y="3517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24" y="0"/>
                    </a:moveTo>
                    <a:lnTo>
                      <a:pt x="21" y="3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1" y="3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4638600" y="3517920"/>
                <a:ext cx="416160" cy="27000"/>
              </a:xfrm>
              <a:custGeom>
                <a:avLst/>
                <a:gdLst/>
                <a:ahLst/>
                <a:rect l="l" t="t" r="r" b="b"/>
                <a:pathLst>
                  <a:path w="1309" h="88">
                    <a:moveTo>
                      <a:pt x="1202" y="44"/>
                    </a:moveTo>
                    <a:lnTo>
                      <a:pt x="1282" y="0"/>
                    </a:lnTo>
                    <a:lnTo>
                      <a:pt x="1178" y="0"/>
                    </a:lnTo>
                    <a:lnTo>
                      <a:pt x="1141" y="3"/>
                    </a:lnTo>
                    <a:lnTo>
                      <a:pt x="1104" y="7"/>
                    </a:lnTo>
                    <a:lnTo>
                      <a:pt x="1069" y="8"/>
                    </a:lnTo>
                    <a:lnTo>
                      <a:pt x="1037" y="8"/>
                    </a:lnTo>
                    <a:lnTo>
                      <a:pt x="1006" y="7"/>
                    </a:lnTo>
                    <a:lnTo>
                      <a:pt x="978" y="6"/>
                    </a:lnTo>
                    <a:lnTo>
                      <a:pt x="950" y="3"/>
                    </a:lnTo>
                    <a:lnTo>
                      <a:pt x="928" y="0"/>
                    </a:lnTo>
                    <a:lnTo>
                      <a:pt x="223" y="0"/>
                    </a:lnTo>
                    <a:lnTo>
                      <a:pt x="242" y="0"/>
                    </a:lnTo>
                    <a:lnTo>
                      <a:pt x="293" y="2"/>
                    </a:lnTo>
                    <a:lnTo>
                      <a:pt x="339" y="4"/>
                    </a:lnTo>
                    <a:lnTo>
                      <a:pt x="383" y="8"/>
                    </a:lnTo>
                    <a:lnTo>
                      <a:pt x="423" y="11"/>
                    </a:lnTo>
                    <a:lnTo>
                      <a:pt x="460" y="16"/>
                    </a:lnTo>
                    <a:lnTo>
                      <a:pt x="496" y="21"/>
                    </a:lnTo>
                    <a:lnTo>
                      <a:pt x="527" y="26"/>
                    </a:lnTo>
                    <a:lnTo>
                      <a:pt x="558" y="32"/>
                    </a:lnTo>
                    <a:lnTo>
                      <a:pt x="615" y="43"/>
                    </a:lnTo>
                    <a:lnTo>
                      <a:pt x="668" y="55"/>
                    </a:lnTo>
                    <a:lnTo>
                      <a:pt x="719" y="66"/>
                    </a:lnTo>
                    <a:lnTo>
                      <a:pt x="769" y="75"/>
                    </a:lnTo>
                    <a:lnTo>
                      <a:pt x="795" y="79"/>
                    </a:lnTo>
                    <a:lnTo>
                      <a:pt x="822" y="82"/>
                    </a:lnTo>
                    <a:lnTo>
                      <a:pt x="850" y="84"/>
                    </a:lnTo>
                    <a:lnTo>
                      <a:pt x="880" y="87"/>
                    </a:lnTo>
                    <a:lnTo>
                      <a:pt x="910" y="88"/>
                    </a:lnTo>
                    <a:lnTo>
                      <a:pt x="944" y="87"/>
                    </a:lnTo>
                    <a:lnTo>
                      <a:pt x="979" y="85"/>
                    </a:lnTo>
                    <a:lnTo>
                      <a:pt x="1017" y="83"/>
                    </a:lnTo>
                    <a:lnTo>
                      <a:pt x="1058" y="80"/>
                    </a:lnTo>
                    <a:lnTo>
                      <a:pt x="1102" y="74"/>
                    </a:lnTo>
                    <a:lnTo>
                      <a:pt x="1149" y="67"/>
                    </a:lnTo>
                    <a:lnTo>
                      <a:pt x="1200" y="59"/>
                    </a:lnTo>
                    <a:lnTo>
                      <a:pt x="1306" y="0"/>
                    </a:lnTo>
                    <a:lnTo>
                      <a:pt x="1309" y="0"/>
                    </a:lnTo>
                    <a:lnTo>
                      <a:pt x="1254" y="49"/>
                    </a:lnTo>
                    <a:lnTo>
                      <a:pt x="1200" y="59"/>
                    </a:lnTo>
                    <a:lnTo>
                      <a:pt x="1306" y="0"/>
                    </a:lnTo>
                    <a:lnTo>
                      <a:pt x="1304" y="0"/>
                    </a:lnTo>
                    <a:lnTo>
                      <a:pt x="1202" y="44"/>
                    </a:lnTo>
                    <a:close/>
                    <a:moveTo>
                      <a:pt x="5" y="0"/>
                    </a:moveTo>
                    <a:lnTo>
                      <a:pt x="0" y="3"/>
                    </a:lnTo>
                    <a:lnTo>
                      <a:pt x="67" y="1"/>
                    </a:lnTo>
                    <a:lnTo>
                      <a:pt x="119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5019840" y="3517920"/>
                <a:ext cx="85680" cy="12600"/>
              </a:xfrm>
              <a:custGeom>
                <a:avLst/>
                <a:gdLst/>
                <a:ahLst/>
                <a:rect l="l" t="t" r="r" b="b"/>
                <a:pathLst>
                  <a:path w="267" h="44">
                    <a:moveTo>
                      <a:pt x="65" y="0"/>
                    </a:moveTo>
                    <a:lnTo>
                      <a:pt x="31" y="21"/>
                    </a:lnTo>
                    <a:lnTo>
                      <a:pt x="0" y="44"/>
                    </a:lnTo>
                    <a:lnTo>
                      <a:pt x="102" y="0"/>
                    </a:lnTo>
                    <a:lnTo>
                      <a:pt x="65" y="0"/>
                    </a:lnTo>
                    <a:close/>
                    <a:moveTo>
                      <a:pt x="106" y="0"/>
                    </a:moveTo>
                    <a:lnTo>
                      <a:pt x="98" y="6"/>
                    </a:lnTo>
                    <a:lnTo>
                      <a:pt x="69" y="24"/>
                    </a:lnTo>
                    <a:lnTo>
                      <a:pt x="52" y="33"/>
                    </a:lnTo>
                    <a:lnTo>
                      <a:pt x="47" y="35"/>
                    </a:lnTo>
                    <a:lnTo>
                      <a:pt x="68" y="28"/>
                    </a:lnTo>
                    <a:lnTo>
                      <a:pt x="95" y="21"/>
                    </a:lnTo>
                    <a:lnTo>
                      <a:pt x="128" y="16"/>
                    </a:lnTo>
                    <a:lnTo>
                      <a:pt x="164" y="10"/>
                    </a:lnTo>
                    <a:lnTo>
                      <a:pt x="204" y="6"/>
                    </a:lnTo>
                    <a:lnTo>
                      <a:pt x="245" y="2"/>
                    </a:lnTo>
                    <a:lnTo>
                      <a:pt x="267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4183200" y="3699000"/>
                <a:ext cx="598320" cy="85680"/>
              </a:xfrm>
              <a:custGeom>
                <a:avLst/>
                <a:gdLst/>
                <a:ahLst/>
                <a:rect l="l" t="t" r="r" b="b"/>
                <a:pathLst>
                  <a:path w="1887" h="274">
                    <a:moveTo>
                      <a:pt x="0" y="36"/>
                    </a:moveTo>
                    <a:lnTo>
                      <a:pt x="39" y="46"/>
                    </a:lnTo>
                    <a:lnTo>
                      <a:pt x="78" y="54"/>
                    </a:lnTo>
                    <a:lnTo>
                      <a:pt x="113" y="61"/>
                    </a:lnTo>
                    <a:lnTo>
                      <a:pt x="149" y="65"/>
                    </a:lnTo>
                    <a:lnTo>
                      <a:pt x="182" y="69"/>
                    </a:lnTo>
                    <a:lnTo>
                      <a:pt x="214" y="70"/>
                    </a:lnTo>
                    <a:lnTo>
                      <a:pt x="244" y="71"/>
                    </a:lnTo>
                    <a:lnTo>
                      <a:pt x="273" y="70"/>
                    </a:lnTo>
                    <a:lnTo>
                      <a:pt x="301" y="69"/>
                    </a:lnTo>
                    <a:lnTo>
                      <a:pt x="329" y="66"/>
                    </a:lnTo>
                    <a:lnTo>
                      <a:pt x="356" y="63"/>
                    </a:lnTo>
                    <a:lnTo>
                      <a:pt x="381" y="58"/>
                    </a:lnTo>
                    <a:lnTo>
                      <a:pt x="431" y="49"/>
                    </a:lnTo>
                    <a:lnTo>
                      <a:pt x="478" y="39"/>
                    </a:lnTo>
                    <a:lnTo>
                      <a:pt x="525" y="28"/>
                    </a:lnTo>
                    <a:lnTo>
                      <a:pt x="569" y="17"/>
                    </a:lnTo>
                    <a:lnTo>
                      <a:pt x="592" y="13"/>
                    </a:lnTo>
                    <a:lnTo>
                      <a:pt x="615" y="8"/>
                    </a:lnTo>
                    <a:lnTo>
                      <a:pt x="638" y="5"/>
                    </a:lnTo>
                    <a:lnTo>
                      <a:pt x="662" y="3"/>
                    </a:lnTo>
                    <a:lnTo>
                      <a:pt x="684" y="0"/>
                    </a:lnTo>
                    <a:lnTo>
                      <a:pt x="708" y="0"/>
                    </a:lnTo>
                    <a:lnTo>
                      <a:pt x="733" y="0"/>
                    </a:lnTo>
                    <a:lnTo>
                      <a:pt x="758" y="1"/>
                    </a:lnTo>
                    <a:lnTo>
                      <a:pt x="784" y="4"/>
                    </a:lnTo>
                    <a:lnTo>
                      <a:pt x="811" y="8"/>
                    </a:lnTo>
                    <a:lnTo>
                      <a:pt x="838" y="14"/>
                    </a:lnTo>
                    <a:lnTo>
                      <a:pt x="867" y="22"/>
                    </a:lnTo>
                    <a:lnTo>
                      <a:pt x="872" y="33"/>
                    </a:lnTo>
                    <a:lnTo>
                      <a:pt x="883" y="42"/>
                    </a:lnTo>
                    <a:lnTo>
                      <a:pt x="896" y="50"/>
                    </a:lnTo>
                    <a:lnTo>
                      <a:pt x="912" y="57"/>
                    </a:lnTo>
                    <a:lnTo>
                      <a:pt x="932" y="63"/>
                    </a:lnTo>
                    <a:lnTo>
                      <a:pt x="953" y="66"/>
                    </a:lnTo>
                    <a:lnTo>
                      <a:pt x="978" y="70"/>
                    </a:lnTo>
                    <a:lnTo>
                      <a:pt x="1005" y="72"/>
                    </a:lnTo>
                    <a:lnTo>
                      <a:pt x="1033" y="73"/>
                    </a:lnTo>
                    <a:lnTo>
                      <a:pt x="1064" y="74"/>
                    </a:lnTo>
                    <a:lnTo>
                      <a:pt x="1097" y="74"/>
                    </a:lnTo>
                    <a:lnTo>
                      <a:pt x="1131" y="74"/>
                    </a:lnTo>
                    <a:lnTo>
                      <a:pt x="1204" y="73"/>
                    </a:lnTo>
                    <a:lnTo>
                      <a:pt x="1281" y="72"/>
                    </a:lnTo>
                    <a:lnTo>
                      <a:pt x="1360" y="72"/>
                    </a:lnTo>
                    <a:lnTo>
                      <a:pt x="1442" y="73"/>
                    </a:lnTo>
                    <a:lnTo>
                      <a:pt x="1484" y="74"/>
                    </a:lnTo>
                    <a:lnTo>
                      <a:pt x="1523" y="78"/>
                    </a:lnTo>
                    <a:lnTo>
                      <a:pt x="1564" y="81"/>
                    </a:lnTo>
                    <a:lnTo>
                      <a:pt x="1604" y="86"/>
                    </a:lnTo>
                    <a:lnTo>
                      <a:pt x="1644" y="92"/>
                    </a:lnTo>
                    <a:lnTo>
                      <a:pt x="1682" y="100"/>
                    </a:lnTo>
                    <a:lnTo>
                      <a:pt x="1719" y="107"/>
                    </a:lnTo>
                    <a:lnTo>
                      <a:pt x="1756" y="118"/>
                    </a:lnTo>
                    <a:lnTo>
                      <a:pt x="1791" y="130"/>
                    </a:lnTo>
                    <a:lnTo>
                      <a:pt x="1826" y="144"/>
                    </a:lnTo>
                    <a:lnTo>
                      <a:pt x="1856" y="160"/>
                    </a:lnTo>
                    <a:lnTo>
                      <a:pt x="1887" y="178"/>
                    </a:lnTo>
                    <a:lnTo>
                      <a:pt x="1819" y="176"/>
                    </a:lnTo>
                    <a:lnTo>
                      <a:pt x="1756" y="175"/>
                    </a:lnTo>
                    <a:lnTo>
                      <a:pt x="1697" y="175"/>
                    </a:lnTo>
                    <a:lnTo>
                      <a:pt x="1642" y="176"/>
                    </a:lnTo>
                    <a:lnTo>
                      <a:pt x="1591" y="178"/>
                    </a:lnTo>
                    <a:lnTo>
                      <a:pt x="1544" y="181"/>
                    </a:lnTo>
                    <a:lnTo>
                      <a:pt x="1498" y="184"/>
                    </a:lnTo>
                    <a:lnTo>
                      <a:pt x="1457" y="188"/>
                    </a:lnTo>
                    <a:lnTo>
                      <a:pt x="1419" y="193"/>
                    </a:lnTo>
                    <a:lnTo>
                      <a:pt x="1382" y="199"/>
                    </a:lnTo>
                    <a:lnTo>
                      <a:pt x="1347" y="204"/>
                    </a:lnTo>
                    <a:lnTo>
                      <a:pt x="1315" y="210"/>
                    </a:lnTo>
                    <a:lnTo>
                      <a:pt x="1254" y="224"/>
                    </a:lnTo>
                    <a:lnTo>
                      <a:pt x="1197" y="236"/>
                    </a:lnTo>
                    <a:lnTo>
                      <a:pt x="1144" y="248"/>
                    </a:lnTo>
                    <a:lnTo>
                      <a:pt x="1089" y="259"/>
                    </a:lnTo>
                    <a:lnTo>
                      <a:pt x="1062" y="264"/>
                    </a:lnTo>
                    <a:lnTo>
                      <a:pt x="1033" y="267"/>
                    </a:lnTo>
                    <a:lnTo>
                      <a:pt x="1005" y="271"/>
                    </a:lnTo>
                    <a:lnTo>
                      <a:pt x="974" y="273"/>
                    </a:lnTo>
                    <a:lnTo>
                      <a:pt x="942" y="274"/>
                    </a:lnTo>
                    <a:lnTo>
                      <a:pt x="908" y="274"/>
                    </a:lnTo>
                    <a:lnTo>
                      <a:pt x="871" y="273"/>
                    </a:lnTo>
                    <a:lnTo>
                      <a:pt x="834" y="271"/>
                    </a:lnTo>
                    <a:lnTo>
                      <a:pt x="793" y="268"/>
                    </a:lnTo>
                    <a:lnTo>
                      <a:pt x="748" y="263"/>
                    </a:lnTo>
                    <a:lnTo>
                      <a:pt x="701" y="257"/>
                    </a:lnTo>
                    <a:lnTo>
                      <a:pt x="651" y="249"/>
                    </a:lnTo>
                    <a:lnTo>
                      <a:pt x="568" y="235"/>
                    </a:lnTo>
                    <a:lnTo>
                      <a:pt x="473" y="217"/>
                    </a:lnTo>
                    <a:lnTo>
                      <a:pt x="424" y="207"/>
                    </a:lnTo>
                    <a:lnTo>
                      <a:pt x="375" y="195"/>
                    </a:lnTo>
                    <a:lnTo>
                      <a:pt x="325" y="184"/>
                    </a:lnTo>
                    <a:lnTo>
                      <a:pt x="277" y="170"/>
                    </a:lnTo>
                    <a:lnTo>
                      <a:pt x="230" y="157"/>
                    </a:lnTo>
                    <a:lnTo>
                      <a:pt x="185" y="142"/>
                    </a:lnTo>
                    <a:lnTo>
                      <a:pt x="143" y="126"/>
                    </a:lnTo>
                    <a:lnTo>
                      <a:pt x="105" y="110"/>
                    </a:lnTo>
                    <a:lnTo>
                      <a:pt x="87" y="102"/>
                    </a:lnTo>
                    <a:lnTo>
                      <a:pt x="70" y="93"/>
                    </a:lnTo>
                    <a:lnTo>
                      <a:pt x="55" y="84"/>
                    </a:lnTo>
                    <a:lnTo>
                      <a:pt x="41" y="74"/>
                    </a:lnTo>
                    <a:lnTo>
                      <a:pt x="29" y="65"/>
                    </a:lnTo>
                    <a:lnTo>
                      <a:pt x="17" y="56"/>
                    </a:lnTo>
                    <a:lnTo>
                      <a:pt x="8" y="4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4162320" y="3686040"/>
                <a:ext cx="316080" cy="47880"/>
              </a:xfrm>
              <a:custGeom>
                <a:avLst/>
                <a:gdLst/>
                <a:ahLst/>
                <a:rect l="l" t="t" r="r" b="b"/>
                <a:pathLst>
                  <a:path w="998" h="151">
                    <a:moveTo>
                      <a:pt x="998" y="23"/>
                    </a:moveTo>
                    <a:lnTo>
                      <a:pt x="997" y="22"/>
                    </a:lnTo>
                    <a:lnTo>
                      <a:pt x="968" y="14"/>
                    </a:lnTo>
                    <a:lnTo>
                      <a:pt x="940" y="8"/>
                    </a:lnTo>
                    <a:lnTo>
                      <a:pt x="914" y="5"/>
                    </a:lnTo>
                    <a:lnTo>
                      <a:pt x="887" y="1"/>
                    </a:lnTo>
                    <a:lnTo>
                      <a:pt x="861" y="0"/>
                    </a:lnTo>
                    <a:lnTo>
                      <a:pt x="836" y="0"/>
                    </a:lnTo>
                    <a:lnTo>
                      <a:pt x="812" y="0"/>
                    </a:lnTo>
                    <a:lnTo>
                      <a:pt x="787" y="3"/>
                    </a:lnTo>
                    <a:lnTo>
                      <a:pt x="763" y="6"/>
                    </a:lnTo>
                    <a:lnTo>
                      <a:pt x="740" y="9"/>
                    </a:lnTo>
                    <a:lnTo>
                      <a:pt x="716" y="14"/>
                    </a:lnTo>
                    <a:lnTo>
                      <a:pt x="692" y="19"/>
                    </a:lnTo>
                    <a:lnTo>
                      <a:pt x="647" y="29"/>
                    </a:lnTo>
                    <a:lnTo>
                      <a:pt x="601" y="40"/>
                    </a:lnTo>
                    <a:lnTo>
                      <a:pt x="554" y="51"/>
                    </a:lnTo>
                    <a:lnTo>
                      <a:pt x="505" y="60"/>
                    </a:lnTo>
                    <a:lnTo>
                      <a:pt x="481" y="63"/>
                    </a:lnTo>
                    <a:lnTo>
                      <a:pt x="455" y="66"/>
                    </a:lnTo>
                    <a:lnTo>
                      <a:pt x="429" y="69"/>
                    </a:lnTo>
                    <a:lnTo>
                      <a:pt x="401" y="70"/>
                    </a:lnTo>
                    <a:lnTo>
                      <a:pt x="372" y="71"/>
                    </a:lnTo>
                    <a:lnTo>
                      <a:pt x="342" y="70"/>
                    </a:lnTo>
                    <a:lnTo>
                      <a:pt x="310" y="69"/>
                    </a:lnTo>
                    <a:lnTo>
                      <a:pt x="277" y="65"/>
                    </a:lnTo>
                    <a:lnTo>
                      <a:pt x="243" y="61"/>
                    </a:lnTo>
                    <a:lnTo>
                      <a:pt x="207" y="54"/>
                    </a:lnTo>
                    <a:lnTo>
                      <a:pt x="169" y="46"/>
                    </a:lnTo>
                    <a:lnTo>
                      <a:pt x="130" y="37"/>
                    </a:lnTo>
                    <a:lnTo>
                      <a:pt x="0" y="116"/>
                    </a:lnTo>
                    <a:lnTo>
                      <a:pt x="40" y="126"/>
                    </a:lnTo>
                    <a:lnTo>
                      <a:pt x="78" y="134"/>
                    </a:lnTo>
                    <a:lnTo>
                      <a:pt x="114" y="140"/>
                    </a:lnTo>
                    <a:lnTo>
                      <a:pt x="149" y="145"/>
                    </a:lnTo>
                    <a:lnTo>
                      <a:pt x="182" y="149"/>
                    </a:lnTo>
                    <a:lnTo>
                      <a:pt x="215" y="150"/>
                    </a:lnTo>
                    <a:lnTo>
                      <a:pt x="245" y="151"/>
                    </a:lnTo>
                    <a:lnTo>
                      <a:pt x="275" y="150"/>
                    </a:lnTo>
                    <a:lnTo>
                      <a:pt x="305" y="149"/>
                    </a:lnTo>
                    <a:lnTo>
                      <a:pt x="333" y="146"/>
                    </a:lnTo>
                    <a:lnTo>
                      <a:pt x="359" y="143"/>
                    </a:lnTo>
                    <a:lnTo>
                      <a:pt x="387" y="138"/>
                    </a:lnTo>
                    <a:lnTo>
                      <a:pt x="438" y="129"/>
                    </a:lnTo>
                    <a:lnTo>
                      <a:pt x="486" y="118"/>
                    </a:lnTo>
                    <a:lnTo>
                      <a:pt x="533" y="106"/>
                    </a:lnTo>
                    <a:lnTo>
                      <a:pt x="577" y="96"/>
                    </a:lnTo>
                    <a:lnTo>
                      <a:pt x="599" y="93"/>
                    </a:lnTo>
                    <a:lnTo>
                      <a:pt x="621" y="88"/>
                    </a:lnTo>
                    <a:lnTo>
                      <a:pt x="642" y="85"/>
                    </a:lnTo>
                    <a:lnTo>
                      <a:pt x="665" y="82"/>
                    </a:lnTo>
                    <a:lnTo>
                      <a:pt x="687" y="80"/>
                    </a:lnTo>
                    <a:lnTo>
                      <a:pt x="711" y="80"/>
                    </a:lnTo>
                    <a:lnTo>
                      <a:pt x="735" y="80"/>
                    </a:lnTo>
                    <a:lnTo>
                      <a:pt x="758" y="81"/>
                    </a:lnTo>
                    <a:lnTo>
                      <a:pt x="785" y="84"/>
                    </a:lnTo>
                    <a:lnTo>
                      <a:pt x="811" y="88"/>
                    </a:lnTo>
                    <a:lnTo>
                      <a:pt x="838" y="94"/>
                    </a:lnTo>
                    <a:lnTo>
                      <a:pt x="866" y="101"/>
                    </a:lnTo>
                    <a:lnTo>
                      <a:pt x="865" y="100"/>
                    </a:lnTo>
                    <a:lnTo>
                      <a:pt x="998" y="23"/>
                    </a:lnTo>
                    <a:lnTo>
                      <a:pt x="998" y="22"/>
                    </a:lnTo>
                    <a:lnTo>
                      <a:pt x="997" y="22"/>
                    </a:lnTo>
                    <a:lnTo>
                      <a:pt x="998" y="2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4437000" y="3692520"/>
                <a:ext cx="398520" cy="76320"/>
              </a:xfrm>
              <a:custGeom>
                <a:avLst/>
                <a:gdLst/>
                <a:ahLst/>
                <a:rect l="l" t="t" r="r" b="b"/>
                <a:pathLst>
                  <a:path w="1257" h="239">
                    <a:moveTo>
                      <a:pt x="1023" y="235"/>
                    </a:moveTo>
                    <a:lnTo>
                      <a:pt x="1153" y="156"/>
                    </a:lnTo>
                    <a:lnTo>
                      <a:pt x="1138" y="147"/>
                    </a:lnTo>
                    <a:lnTo>
                      <a:pt x="1122" y="138"/>
                    </a:lnTo>
                    <a:lnTo>
                      <a:pt x="1106" y="130"/>
                    </a:lnTo>
                    <a:lnTo>
                      <a:pt x="1090" y="122"/>
                    </a:lnTo>
                    <a:lnTo>
                      <a:pt x="1057" y="107"/>
                    </a:lnTo>
                    <a:lnTo>
                      <a:pt x="1022" y="96"/>
                    </a:lnTo>
                    <a:lnTo>
                      <a:pt x="986" y="86"/>
                    </a:lnTo>
                    <a:lnTo>
                      <a:pt x="947" y="77"/>
                    </a:lnTo>
                    <a:lnTo>
                      <a:pt x="908" y="70"/>
                    </a:lnTo>
                    <a:lnTo>
                      <a:pt x="869" y="63"/>
                    </a:lnTo>
                    <a:lnTo>
                      <a:pt x="828" y="58"/>
                    </a:lnTo>
                    <a:lnTo>
                      <a:pt x="788" y="55"/>
                    </a:lnTo>
                    <a:lnTo>
                      <a:pt x="746" y="53"/>
                    </a:lnTo>
                    <a:lnTo>
                      <a:pt x="705" y="50"/>
                    </a:lnTo>
                    <a:lnTo>
                      <a:pt x="624" y="49"/>
                    </a:lnTo>
                    <a:lnTo>
                      <a:pt x="543" y="49"/>
                    </a:lnTo>
                    <a:lnTo>
                      <a:pt x="467" y="50"/>
                    </a:lnTo>
                    <a:lnTo>
                      <a:pt x="394" y="51"/>
                    </a:lnTo>
                    <a:lnTo>
                      <a:pt x="360" y="51"/>
                    </a:lnTo>
                    <a:lnTo>
                      <a:pt x="328" y="51"/>
                    </a:lnTo>
                    <a:lnTo>
                      <a:pt x="297" y="50"/>
                    </a:lnTo>
                    <a:lnTo>
                      <a:pt x="269" y="49"/>
                    </a:lnTo>
                    <a:lnTo>
                      <a:pt x="242" y="47"/>
                    </a:lnTo>
                    <a:lnTo>
                      <a:pt x="218" y="45"/>
                    </a:lnTo>
                    <a:lnTo>
                      <a:pt x="197" y="40"/>
                    </a:lnTo>
                    <a:lnTo>
                      <a:pt x="178" y="34"/>
                    </a:lnTo>
                    <a:lnTo>
                      <a:pt x="169" y="32"/>
                    </a:lnTo>
                    <a:lnTo>
                      <a:pt x="163" y="29"/>
                    </a:lnTo>
                    <a:lnTo>
                      <a:pt x="156" y="25"/>
                    </a:lnTo>
                    <a:lnTo>
                      <a:pt x="149" y="21"/>
                    </a:lnTo>
                    <a:lnTo>
                      <a:pt x="144" y="16"/>
                    </a:lnTo>
                    <a:lnTo>
                      <a:pt x="140" y="12"/>
                    </a:lnTo>
                    <a:lnTo>
                      <a:pt x="136" y="6"/>
                    </a:lnTo>
                    <a:lnTo>
                      <a:pt x="133" y="0"/>
                    </a:lnTo>
                    <a:lnTo>
                      <a:pt x="0" y="77"/>
                    </a:lnTo>
                    <a:lnTo>
                      <a:pt x="3" y="83"/>
                    </a:lnTo>
                    <a:lnTo>
                      <a:pt x="6" y="89"/>
                    </a:lnTo>
                    <a:lnTo>
                      <a:pt x="11" y="94"/>
                    </a:lnTo>
                    <a:lnTo>
                      <a:pt x="17" y="98"/>
                    </a:lnTo>
                    <a:lnTo>
                      <a:pt x="23" y="103"/>
                    </a:lnTo>
                    <a:lnTo>
                      <a:pt x="30" y="107"/>
                    </a:lnTo>
                    <a:lnTo>
                      <a:pt x="38" y="111"/>
                    </a:lnTo>
                    <a:lnTo>
                      <a:pt x="47" y="114"/>
                    </a:lnTo>
                    <a:lnTo>
                      <a:pt x="67" y="120"/>
                    </a:lnTo>
                    <a:lnTo>
                      <a:pt x="90" y="123"/>
                    </a:lnTo>
                    <a:lnTo>
                      <a:pt x="114" y="127"/>
                    </a:lnTo>
                    <a:lnTo>
                      <a:pt x="141" y="129"/>
                    </a:lnTo>
                    <a:lnTo>
                      <a:pt x="169" y="130"/>
                    </a:lnTo>
                    <a:lnTo>
                      <a:pt x="201" y="131"/>
                    </a:lnTo>
                    <a:lnTo>
                      <a:pt x="234" y="131"/>
                    </a:lnTo>
                    <a:lnTo>
                      <a:pt x="269" y="131"/>
                    </a:lnTo>
                    <a:lnTo>
                      <a:pt x="340" y="130"/>
                    </a:lnTo>
                    <a:lnTo>
                      <a:pt x="418" y="129"/>
                    </a:lnTo>
                    <a:lnTo>
                      <a:pt x="498" y="128"/>
                    </a:lnTo>
                    <a:lnTo>
                      <a:pt x="579" y="130"/>
                    </a:lnTo>
                    <a:lnTo>
                      <a:pt x="620" y="131"/>
                    </a:lnTo>
                    <a:lnTo>
                      <a:pt x="660" y="135"/>
                    </a:lnTo>
                    <a:lnTo>
                      <a:pt x="701" y="138"/>
                    </a:lnTo>
                    <a:lnTo>
                      <a:pt x="741" y="143"/>
                    </a:lnTo>
                    <a:lnTo>
                      <a:pt x="779" y="148"/>
                    </a:lnTo>
                    <a:lnTo>
                      <a:pt x="818" y="155"/>
                    </a:lnTo>
                    <a:lnTo>
                      <a:pt x="855" y="164"/>
                    </a:lnTo>
                    <a:lnTo>
                      <a:pt x="891" y="175"/>
                    </a:lnTo>
                    <a:lnTo>
                      <a:pt x="925" y="187"/>
                    </a:lnTo>
                    <a:lnTo>
                      <a:pt x="959" y="201"/>
                    </a:lnTo>
                    <a:lnTo>
                      <a:pt x="975" y="209"/>
                    </a:lnTo>
                    <a:lnTo>
                      <a:pt x="991" y="217"/>
                    </a:lnTo>
                    <a:lnTo>
                      <a:pt x="1006" y="226"/>
                    </a:lnTo>
                    <a:lnTo>
                      <a:pt x="1021" y="235"/>
                    </a:lnTo>
                    <a:lnTo>
                      <a:pt x="1151" y="155"/>
                    </a:lnTo>
                    <a:lnTo>
                      <a:pt x="1023" y="235"/>
                    </a:lnTo>
                    <a:lnTo>
                      <a:pt x="1257" y="239"/>
                    </a:lnTo>
                    <a:lnTo>
                      <a:pt x="1153" y="156"/>
                    </a:lnTo>
                    <a:lnTo>
                      <a:pt x="1023" y="2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4368960" y="3741840"/>
                <a:ext cx="433080" cy="55440"/>
              </a:xfrm>
              <a:custGeom>
                <a:avLst/>
                <a:gdLst/>
                <a:ahLst/>
                <a:rect l="l" t="t" r="r" b="b"/>
                <a:pathLst>
                  <a:path w="1364" h="179">
                    <a:moveTo>
                      <a:pt x="0" y="153"/>
                    </a:moveTo>
                    <a:lnTo>
                      <a:pt x="0" y="153"/>
                    </a:lnTo>
                    <a:lnTo>
                      <a:pt x="51" y="161"/>
                    </a:lnTo>
                    <a:lnTo>
                      <a:pt x="97" y="168"/>
                    </a:lnTo>
                    <a:lnTo>
                      <a:pt x="142" y="172"/>
                    </a:lnTo>
                    <a:lnTo>
                      <a:pt x="183" y="176"/>
                    </a:lnTo>
                    <a:lnTo>
                      <a:pt x="220" y="178"/>
                    </a:lnTo>
                    <a:lnTo>
                      <a:pt x="257" y="179"/>
                    </a:lnTo>
                    <a:lnTo>
                      <a:pt x="292" y="179"/>
                    </a:lnTo>
                    <a:lnTo>
                      <a:pt x="324" y="178"/>
                    </a:lnTo>
                    <a:lnTo>
                      <a:pt x="356" y="176"/>
                    </a:lnTo>
                    <a:lnTo>
                      <a:pt x="386" y="172"/>
                    </a:lnTo>
                    <a:lnTo>
                      <a:pt x="414" y="168"/>
                    </a:lnTo>
                    <a:lnTo>
                      <a:pt x="444" y="163"/>
                    </a:lnTo>
                    <a:lnTo>
                      <a:pt x="499" y="153"/>
                    </a:lnTo>
                    <a:lnTo>
                      <a:pt x="553" y="140"/>
                    </a:lnTo>
                    <a:lnTo>
                      <a:pt x="609" y="128"/>
                    </a:lnTo>
                    <a:lnTo>
                      <a:pt x="669" y="115"/>
                    </a:lnTo>
                    <a:lnTo>
                      <a:pt x="700" y="109"/>
                    </a:lnTo>
                    <a:lnTo>
                      <a:pt x="735" y="104"/>
                    </a:lnTo>
                    <a:lnTo>
                      <a:pt x="771" y="98"/>
                    </a:lnTo>
                    <a:lnTo>
                      <a:pt x="809" y="93"/>
                    </a:lnTo>
                    <a:lnTo>
                      <a:pt x="850" y="89"/>
                    </a:lnTo>
                    <a:lnTo>
                      <a:pt x="894" y="85"/>
                    </a:lnTo>
                    <a:lnTo>
                      <a:pt x="942" y="82"/>
                    </a:lnTo>
                    <a:lnTo>
                      <a:pt x="992" y="81"/>
                    </a:lnTo>
                    <a:lnTo>
                      <a:pt x="1047" y="80"/>
                    </a:lnTo>
                    <a:lnTo>
                      <a:pt x="1106" y="80"/>
                    </a:lnTo>
                    <a:lnTo>
                      <a:pt x="1169" y="81"/>
                    </a:lnTo>
                    <a:lnTo>
                      <a:pt x="1236" y="83"/>
                    </a:lnTo>
                    <a:lnTo>
                      <a:pt x="1364" y="3"/>
                    </a:lnTo>
                    <a:lnTo>
                      <a:pt x="1296" y="1"/>
                    </a:lnTo>
                    <a:lnTo>
                      <a:pt x="1233" y="0"/>
                    </a:lnTo>
                    <a:lnTo>
                      <a:pt x="1174" y="0"/>
                    </a:lnTo>
                    <a:lnTo>
                      <a:pt x="1118" y="1"/>
                    </a:lnTo>
                    <a:lnTo>
                      <a:pt x="1066" y="3"/>
                    </a:lnTo>
                    <a:lnTo>
                      <a:pt x="1018" y="6"/>
                    </a:lnTo>
                    <a:lnTo>
                      <a:pt x="974" y="9"/>
                    </a:lnTo>
                    <a:lnTo>
                      <a:pt x="932" y="14"/>
                    </a:lnTo>
                    <a:lnTo>
                      <a:pt x="892" y="19"/>
                    </a:lnTo>
                    <a:lnTo>
                      <a:pt x="854" y="24"/>
                    </a:lnTo>
                    <a:lnTo>
                      <a:pt x="820" y="31"/>
                    </a:lnTo>
                    <a:lnTo>
                      <a:pt x="786" y="36"/>
                    </a:lnTo>
                    <a:lnTo>
                      <a:pt x="724" y="49"/>
                    </a:lnTo>
                    <a:lnTo>
                      <a:pt x="669" y="63"/>
                    </a:lnTo>
                    <a:lnTo>
                      <a:pt x="615" y="74"/>
                    </a:lnTo>
                    <a:lnTo>
                      <a:pt x="561" y="84"/>
                    </a:lnTo>
                    <a:lnTo>
                      <a:pt x="535" y="89"/>
                    </a:lnTo>
                    <a:lnTo>
                      <a:pt x="508" y="92"/>
                    </a:lnTo>
                    <a:lnTo>
                      <a:pt x="479" y="96"/>
                    </a:lnTo>
                    <a:lnTo>
                      <a:pt x="450" y="98"/>
                    </a:lnTo>
                    <a:lnTo>
                      <a:pt x="418" y="99"/>
                    </a:lnTo>
                    <a:lnTo>
                      <a:pt x="384" y="99"/>
                    </a:lnTo>
                    <a:lnTo>
                      <a:pt x="348" y="98"/>
                    </a:lnTo>
                    <a:lnTo>
                      <a:pt x="311" y="97"/>
                    </a:lnTo>
                    <a:lnTo>
                      <a:pt x="270" y="93"/>
                    </a:lnTo>
                    <a:lnTo>
                      <a:pt x="226" y="88"/>
                    </a:lnTo>
                    <a:lnTo>
                      <a:pt x="179" y="82"/>
                    </a:lnTo>
                    <a:lnTo>
                      <a:pt x="129" y="74"/>
                    </a:lnTo>
                    <a:lnTo>
                      <a:pt x="129" y="74"/>
                    </a:lnTo>
                    <a:lnTo>
                      <a:pt x="129" y="74"/>
                    </a:lnTo>
                    <a:lnTo>
                      <a:pt x="129" y="74"/>
                    </a:lnTo>
                    <a:lnTo>
                      <a:pt x="129" y="74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4152960" y="3686040"/>
                <a:ext cx="257040" cy="103320"/>
              </a:xfrm>
              <a:custGeom>
                <a:avLst/>
                <a:gdLst/>
                <a:ahLst/>
                <a:rect l="l" t="t" r="r" b="b"/>
                <a:pathLst>
                  <a:path w="809" h="327">
                    <a:moveTo>
                      <a:pt x="158" y="36"/>
                    </a:moveTo>
                    <a:lnTo>
                      <a:pt x="27" y="113"/>
                    </a:lnTo>
                    <a:lnTo>
                      <a:pt x="34" y="124"/>
                    </a:lnTo>
                    <a:lnTo>
                      <a:pt x="44" y="134"/>
                    </a:lnTo>
                    <a:lnTo>
                      <a:pt x="56" y="143"/>
                    </a:lnTo>
                    <a:lnTo>
                      <a:pt x="68" y="152"/>
                    </a:lnTo>
                    <a:lnTo>
                      <a:pt x="82" y="161"/>
                    </a:lnTo>
                    <a:lnTo>
                      <a:pt x="98" y="170"/>
                    </a:lnTo>
                    <a:lnTo>
                      <a:pt x="114" y="180"/>
                    </a:lnTo>
                    <a:lnTo>
                      <a:pt x="132" y="188"/>
                    </a:lnTo>
                    <a:lnTo>
                      <a:pt x="171" y="205"/>
                    </a:lnTo>
                    <a:lnTo>
                      <a:pt x="213" y="221"/>
                    </a:lnTo>
                    <a:lnTo>
                      <a:pt x="258" y="235"/>
                    </a:lnTo>
                    <a:lnTo>
                      <a:pt x="305" y="249"/>
                    </a:lnTo>
                    <a:lnTo>
                      <a:pt x="353" y="262"/>
                    </a:lnTo>
                    <a:lnTo>
                      <a:pt x="403" y="274"/>
                    </a:lnTo>
                    <a:lnTo>
                      <a:pt x="452" y="286"/>
                    </a:lnTo>
                    <a:lnTo>
                      <a:pt x="501" y="296"/>
                    </a:lnTo>
                    <a:lnTo>
                      <a:pt x="596" y="313"/>
                    </a:lnTo>
                    <a:lnTo>
                      <a:pt x="680" y="327"/>
                    </a:lnTo>
                    <a:lnTo>
                      <a:pt x="809" y="248"/>
                    </a:lnTo>
                    <a:lnTo>
                      <a:pt x="726" y="234"/>
                    </a:lnTo>
                    <a:lnTo>
                      <a:pt x="631" y="216"/>
                    </a:lnTo>
                    <a:lnTo>
                      <a:pt x="582" y="206"/>
                    </a:lnTo>
                    <a:lnTo>
                      <a:pt x="533" y="196"/>
                    </a:lnTo>
                    <a:lnTo>
                      <a:pt x="484" y="183"/>
                    </a:lnTo>
                    <a:lnTo>
                      <a:pt x="435" y="169"/>
                    </a:lnTo>
                    <a:lnTo>
                      <a:pt x="389" y="156"/>
                    </a:lnTo>
                    <a:lnTo>
                      <a:pt x="343" y="141"/>
                    </a:lnTo>
                    <a:lnTo>
                      <a:pt x="302" y="126"/>
                    </a:lnTo>
                    <a:lnTo>
                      <a:pt x="263" y="109"/>
                    </a:lnTo>
                    <a:lnTo>
                      <a:pt x="246" y="101"/>
                    </a:lnTo>
                    <a:lnTo>
                      <a:pt x="229" y="92"/>
                    </a:lnTo>
                    <a:lnTo>
                      <a:pt x="214" y="84"/>
                    </a:lnTo>
                    <a:lnTo>
                      <a:pt x="201" y="75"/>
                    </a:lnTo>
                    <a:lnTo>
                      <a:pt x="188" y="65"/>
                    </a:lnTo>
                    <a:lnTo>
                      <a:pt x="177" y="55"/>
                    </a:lnTo>
                    <a:lnTo>
                      <a:pt x="167" y="46"/>
                    </a:lnTo>
                    <a:lnTo>
                      <a:pt x="159" y="37"/>
                    </a:lnTo>
                    <a:lnTo>
                      <a:pt x="28" y="115"/>
                    </a:lnTo>
                    <a:lnTo>
                      <a:pt x="158" y="36"/>
                    </a:lnTo>
                    <a:lnTo>
                      <a:pt x="0" y="0"/>
                    </a:lnTo>
                    <a:lnTo>
                      <a:pt x="27" y="113"/>
                    </a:lnTo>
                    <a:lnTo>
                      <a:pt x="158" y="3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4756320" y="3692520"/>
                <a:ext cx="541080" cy="106200"/>
              </a:xfrm>
              <a:custGeom>
                <a:avLst/>
                <a:gdLst/>
                <a:ahLst/>
                <a:rect l="l" t="t" r="r" b="b"/>
                <a:pathLst>
                  <a:path w="1705" h="337">
                    <a:moveTo>
                      <a:pt x="1705" y="88"/>
                    </a:moveTo>
                    <a:lnTo>
                      <a:pt x="1667" y="98"/>
                    </a:lnTo>
                    <a:lnTo>
                      <a:pt x="1630" y="105"/>
                    </a:lnTo>
                    <a:lnTo>
                      <a:pt x="1597" y="111"/>
                    </a:lnTo>
                    <a:lnTo>
                      <a:pt x="1567" y="114"/>
                    </a:lnTo>
                    <a:lnTo>
                      <a:pt x="1539" y="116"/>
                    </a:lnTo>
                    <a:lnTo>
                      <a:pt x="1513" y="116"/>
                    </a:lnTo>
                    <a:lnTo>
                      <a:pt x="1489" y="115"/>
                    </a:lnTo>
                    <a:lnTo>
                      <a:pt x="1466" y="113"/>
                    </a:lnTo>
                    <a:lnTo>
                      <a:pt x="1447" y="110"/>
                    </a:lnTo>
                    <a:lnTo>
                      <a:pt x="1427" y="105"/>
                    </a:lnTo>
                    <a:lnTo>
                      <a:pt x="1410" y="99"/>
                    </a:lnTo>
                    <a:lnTo>
                      <a:pt x="1393" y="94"/>
                    </a:lnTo>
                    <a:lnTo>
                      <a:pt x="1378" y="87"/>
                    </a:lnTo>
                    <a:lnTo>
                      <a:pt x="1363" y="79"/>
                    </a:lnTo>
                    <a:lnTo>
                      <a:pt x="1350" y="71"/>
                    </a:lnTo>
                    <a:lnTo>
                      <a:pt x="1337" y="63"/>
                    </a:lnTo>
                    <a:lnTo>
                      <a:pt x="1311" y="47"/>
                    </a:lnTo>
                    <a:lnTo>
                      <a:pt x="1286" y="32"/>
                    </a:lnTo>
                    <a:lnTo>
                      <a:pt x="1272" y="24"/>
                    </a:lnTo>
                    <a:lnTo>
                      <a:pt x="1259" y="18"/>
                    </a:lnTo>
                    <a:lnTo>
                      <a:pt x="1245" y="13"/>
                    </a:lnTo>
                    <a:lnTo>
                      <a:pt x="1230" y="8"/>
                    </a:lnTo>
                    <a:lnTo>
                      <a:pt x="1214" y="3"/>
                    </a:lnTo>
                    <a:lnTo>
                      <a:pt x="1196" y="1"/>
                    </a:lnTo>
                    <a:lnTo>
                      <a:pt x="1178" y="0"/>
                    </a:lnTo>
                    <a:lnTo>
                      <a:pt x="1157" y="0"/>
                    </a:lnTo>
                    <a:lnTo>
                      <a:pt x="1135" y="2"/>
                    </a:lnTo>
                    <a:lnTo>
                      <a:pt x="1113" y="6"/>
                    </a:lnTo>
                    <a:lnTo>
                      <a:pt x="1086" y="10"/>
                    </a:lnTo>
                    <a:lnTo>
                      <a:pt x="1059" y="18"/>
                    </a:lnTo>
                    <a:lnTo>
                      <a:pt x="1052" y="30"/>
                    </a:lnTo>
                    <a:lnTo>
                      <a:pt x="1042" y="40"/>
                    </a:lnTo>
                    <a:lnTo>
                      <a:pt x="1027" y="50"/>
                    </a:lnTo>
                    <a:lnTo>
                      <a:pt x="1011" y="59"/>
                    </a:lnTo>
                    <a:lnTo>
                      <a:pt x="991" y="67"/>
                    </a:lnTo>
                    <a:lnTo>
                      <a:pt x="968" y="75"/>
                    </a:lnTo>
                    <a:lnTo>
                      <a:pt x="943" y="82"/>
                    </a:lnTo>
                    <a:lnTo>
                      <a:pt x="914" y="89"/>
                    </a:lnTo>
                    <a:lnTo>
                      <a:pt x="885" y="95"/>
                    </a:lnTo>
                    <a:lnTo>
                      <a:pt x="852" y="102"/>
                    </a:lnTo>
                    <a:lnTo>
                      <a:pt x="817" y="106"/>
                    </a:lnTo>
                    <a:lnTo>
                      <a:pt x="782" y="112"/>
                    </a:lnTo>
                    <a:lnTo>
                      <a:pt x="706" y="123"/>
                    </a:lnTo>
                    <a:lnTo>
                      <a:pt x="625" y="133"/>
                    </a:lnTo>
                    <a:lnTo>
                      <a:pt x="541" y="146"/>
                    </a:lnTo>
                    <a:lnTo>
                      <a:pt x="456" y="159"/>
                    </a:lnTo>
                    <a:lnTo>
                      <a:pt x="414" y="167"/>
                    </a:lnTo>
                    <a:lnTo>
                      <a:pt x="372" y="175"/>
                    </a:lnTo>
                    <a:lnTo>
                      <a:pt x="329" y="184"/>
                    </a:lnTo>
                    <a:lnTo>
                      <a:pt x="288" y="193"/>
                    </a:lnTo>
                    <a:lnTo>
                      <a:pt x="247" y="203"/>
                    </a:lnTo>
                    <a:lnTo>
                      <a:pt x="207" y="214"/>
                    </a:lnTo>
                    <a:lnTo>
                      <a:pt x="169" y="227"/>
                    </a:lnTo>
                    <a:lnTo>
                      <a:pt x="132" y="241"/>
                    </a:lnTo>
                    <a:lnTo>
                      <a:pt x="96" y="256"/>
                    </a:lnTo>
                    <a:lnTo>
                      <a:pt x="62" y="272"/>
                    </a:lnTo>
                    <a:lnTo>
                      <a:pt x="30" y="289"/>
                    </a:lnTo>
                    <a:lnTo>
                      <a:pt x="0" y="308"/>
                    </a:lnTo>
                    <a:lnTo>
                      <a:pt x="67" y="305"/>
                    </a:lnTo>
                    <a:lnTo>
                      <a:pt x="129" y="303"/>
                    </a:lnTo>
                    <a:lnTo>
                      <a:pt x="185" y="302"/>
                    </a:lnTo>
                    <a:lnTo>
                      <a:pt x="237" y="301"/>
                    </a:lnTo>
                    <a:lnTo>
                      <a:pt x="284" y="301"/>
                    </a:lnTo>
                    <a:lnTo>
                      <a:pt x="327" y="302"/>
                    </a:lnTo>
                    <a:lnTo>
                      <a:pt x="366" y="303"/>
                    </a:lnTo>
                    <a:lnTo>
                      <a:pt x="401" y="306"/>
                    </a:lnTo>
                    <a:lnTo>
                      <a:pt x="463" y="310"/>
                    </a:lnTo>
                    <a:lnTo>
                      <a:pt x="515" y="315"/>
                    </a:lnTo>
                    <a:lnTo>
                      <a:pt x="559" y="321"/>
                    </a:lnTo>
                    <a:lnTo>
                      <a:pt x="598" y="326"/>
                    </a:lnTo>
                    <a:lnTo>
                      <a:pt x="635" y="332"/>
                    </a:lnTo>
                    <a:lnTo>
                      <a:pt x="673" y="335"/>
                    </a:lnTo>
                    <a:lnTo>
                      <a:pt x="692" y="337"/>
                    </a:lnTo>
                    <a:lnTo>
                      <a:pt x="714" y="337"/>
                    </a:lnTo>
                    <a:lnTo>
                      <a:pt x="735" y="337"/>
                    </a:lnTo>
                    <a:lnTo>
                      <a:pt x="759" y="337"/>
                    </a:lnTo>
                    <a:lnTo>
                      <a:pt x="785" y="335"/>
                    </a:lnTo>
                    <a:lnTo>
                      <a:pt x="814" y="333"/>
                    </a:lnTo>
                    <a:lnTo>
                      <a:pt x="845" y="330"/>
                    </a:lnTo>
                    <a:lnTo>
                      <a:pt x="879" y="326"/>
                    </a:lnTo>
                    <a:lnTo>
                      <a:pt x="959" y="316"/>
                    </a:lnTo>
                    <a:lnTo>
                      <a:pt x="1054" y="300"/>
                    </a:lnTo>
                    <a:lnTo>
                      <a:pt x="1138" y="286"/>
                    </a:lnTo>
                    <a:lnTo>
                      <a:pt x="1231" y="269"/>
                    </a:lnTo>
                    <a:lnTo>
                      <a:pt x="1281" y="259"/>
                    </a:lnTo>
                    <a:lnTo>
                      <a:pt x="1330" y="248"/>
                    </a:lnTo>
                    <a:lnTo>
                      <a:pt x="1379" y="235"/>
                    </a:lnTo>
                    <a:lnTo>
                      <a:pt x="1428" y="222"/>
                    </a:lnTo>
                    <a:lnTo>
                      <a:pt x="1475" y="209"/>
                    </a:lnTo>
                    <a:lnTo>
                      <a:pt x="1521" y="194"/>
                    </a:lnTo>
                    <a:lnTo>
                      <a:pt x="1563" y="178"/>
                    </a:lnTo>
                    <a:lnTo>
                      <a:pt x="1601" y="162"/>
                    </a:lnTo>
                    <a:lnTo>
                      <a:pt x="1619" y="153"/>
                    </a:lnTo>
                    <a:lnTo>
                      <a:pt x="1635" y="144"/>
                    </a:lnTo>
                    <a:lnTo>
                      <a:pt x="1651" y="136"/>
                    </a:lnTo>
                    <a:lnTo>
                      <a:pt x="1664" y="127"/>
                    </a:lnTo>
                    <a:lnTo>
                      <a:pt x="1677" y="118"/>
                    </a:lnTo>
                    <a:lnTo>
                      <a:pt x="1688" y="107"/>
                    </a:lnTo>
                    <a:lnTo>
                      <a:pt x="1697" y="98"/>
                    </a:lnTo>
                    <a:lnTo>
                      <a:pt x="1705" y="8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5070600" y="3679920"/>
                <a:ext cx="244440" cy="61920"/>
              </a:xfrm>
              <a:custGeom>
                <a:avLst/>
                <a:gdLst/>
                <a:ahLst/>
                <a:rect l="l" t="t" r="r" b="b"/>
                <a:pathLst>
                  <a:path w="769" h="196">
                    <a:moveTo>
                      <a:pt x="133" y="22"/>
                    </a:moveTo>
                    <a:lnTo>
                      <a:pt x="12" y="96"/>
                    </a:lnTo>
                    <a:lnTo>
                      <a:pt x="37" y="89"/>
                    </a:lnTo>
                    <a:lnTo>
                      <a:pt x="60" y="84"/>
                    </a:lnTo>
                    <a:lnTo>
                      <a:pt x="83" y="81"/>
                    </a:lnTo>
                    <a:lnTo>
                      <a:pt x="104" y="80"/>
                    </a:lnTo>
                    <a:lnTo>
                      <a:pt x="122" y="80"/>
                    </a:lnTo>
                    <a:lnTo>
                      <a:pt x="140" y="81"/>
                    </a:lnTo>
                    <a:lnTo>
                      <a:pt x="157" y="83"/>
                    </a:lnTo>
                    <a:lnTo>
                      <a:pt x="172" y="87"/>
                    </a:lnTo>
                    <a:lnTo>
                      <a:pt x="188" y="91"/>
                    </a:lnTo>
                    <a:lnTo>
                      <a:pt x="202" y="97"/>
                    </a:lnTo>
                    <a:lnTo>
                      <a:pt x="215" y="104"/>
                    </a:lnTo>
                    <a:lnTo>
                      <a:pt x="228" y="111"/>
                    </a:lnTo>
                    <a:lnTo>
                      <a:pt x="253" y="126"/>
                    </a:lnTo>
                    <a:lnTo>
                      <a:pt x="279" y="142"/>
                    </a:lnTo>
                    <a:lnTo>
                      <a:pt x="292" y="151"/>
                    </a:lnTo>
                    <a:lnTo>
                      <a:pt x="306" y="158"/>
                    </a:lnTo>
                    <a:lnTo>
                      <a:pt x="320" y="165"/>
                    </a:lnTo>
                    <a:lnTo>
                      <a:pt x="336" y="172"/>
                    </a:lnTo>
                    <a:lnTo>
                      <a:pt x="352" y="179"/>
                    </a:lnTo>
                    <a:lnTo>
                      <a:pt x="370" y="185"/>
                    </a:lnTo>
                    <a:lnTo>
                      <a:pt x="390" y="189"/>
                    </a:lnTo>
                    <a:lnTo>
                      <a:pt x="410" y="193"/>
                    </a:lnTo>
                    <a:lnTo>
                      <a:pt x="433" y="195"/>
                    </a:lnTo>
                    <a:lnTo>
                      <a:pt x="457" y="196"/>
                    </a:lnTo>
                    <a:lnTo>
                      <a:pt x="484" y="196"/>
                    </a:lnTo>
                    <a:lnTo>
                      <a:pt x="513" y="194"/>
                    </a:lnTo>
                    <a:lnTo>
                      <a:pt x="545" y="191"/>
                    </a:lnTo>
                    <a:lnTo>
                      <a:pt x="580" y="185"/>
                    </a:lnTo>
                    <a:lnTo>
                      <a:pt x="618" y="177"/>
                    </a:lnTo>
                    <a:lnTo>
                      <a:pt x="658" y="167"/>
                    </a:lnTo>
                    <a:lnTo>
                      <a:pt x="769" y="89"/>
                    </a:lnTo>
                    <a:lnTo>
                      <a:pt x="732" y="98"/>
                    </a:lnTo>
                    <a:lnTo>
                      <a:pt x="697" y="106"/>
                    </a:lnTo>
                    <a:lnTo>
                      <a:pt x="666" y="111"/>
                    </a:lnTo>
                    <a:lnTo>
                      <a:pt x="637" y="114"/>
                    </a:lnTo>
                    <a:lnTo>
                      <a:pt x="610" y="116"/>
                    </a:lnTo>
                    <a:lnTo>
                      <a:pt x="583" y="116"/>
                    </a:lnTo>
                    <a:lnTo>
                      <a:pt x="561" y="116"/>
                    </a:lnTo>
                    <a:lnTo>
                      <a:pt x="539" y="113"/>
                    </a:lnTo>
                    <a:lnTo>
                      <a:pt x="518" y="110"/>
                    </a:lnTo>
                    <a:lnTo>
                      <a:pt x="500" y="105"/>
                    </a:lnTo>
                    <a:lnTo>
                      <a:pt x="483" y="100"/>
                    </a:lnTo>
                    <a:lnTo>
                      <a:pt x="467" y="94"/>
                    </a:lnTo>
                    <a:lnTo>
                      <a:pt x="452" y="87"/>
                    </a:lnTo>
                    <a:lnTo>
                      <a:pt x="438" y="80"/>
                    </a:lnTo>
                    <a:lnTo>
                      <a:pt x="424" y="72"/>
                    </a:lnTo>
                    <a:lnTo>
                      <a:pt x="411" y="64"/>
                    </a:lnTo>
                    <a:lnTo>
                      <a:pt x="385" y="48"/>
                    </a:lnTo>
                    <a:lnTo>
                      <a:pt x="360" y="32"/>
                    </a:lnTo>
                    <a:lnTo>
                      <a:pt x="346" y="25"/>
                    </a:lnTo>
                    <a:lnTo>
                      <a:pt x="333" y="18"/>
                    </a:lnTo>
                    <a:lnTo>
                      <a:pt x="318" y="13"/>
                    </a:lnTo>
                    <a:lnTo>
                      <a:pt x="303" y="8"/>
                    </a:lnTo>
                    <a:lnTo>
                      <a:pt x="286" y="3"/>
                    </a:lnTo>
                    <a:lnTo>
                      <a:pt x="269" y="1"/>
                    </a:lnTo>
                    <a:lnTo>
                      <a:pt x="249" y="0"/>
                    </a:lnTo>
                    <a:lnTo>
                      <a:pt x="228" y="0"/>
                    </a:lnTo>
                    <a:lnTo>
                      <a:pt x="205" y="2"/>
                    </a:lnTo>
                    <a:lnTo>
                      <a:pt x="180" y="6"/>
                    </a:lnTo>
                    <a:lnTo>
                      <a:pt x="151" y="11"/>
                    </a:lnTo>
                    <a:lnTo>
                      <a:pt x="121" y="19"/>
                    </a:lnTo>
                    <a:lnTo>
                      <a:pt x="0" y="94"/>
                    </a:lnTo>
                    <a:lnTo>
                      <a:pt x="121" y="19"/>
                    </a:lnTo>
                    <a:lnTo>
                      <a:pt x="18" y="50"/>
                    </a:lnTo>
                    <a:lnTo>
                      <a:pt x="0" y="94"/>
                    </a:lnTo>
                    <a:lnTo>
                      <a:pt x="133" y="2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4729320" y="3686040"/>
                <a:ext cx="384120" cy="117720"/>
              </a:xfrm>
              <a:custGeom>
                <a:avLst/>
                <a:gdLst/>
                <a:ahLst/>
                <a:rect l="l" t="t" r="r" b="b"/>
                <a:pathLst>
                  <a:path w="1208" h="366">
                    <a:moveTo>
                      <a:pt x="146" y="286"/>
                    </a:moveTo>
                    <a:lnTo>
                      <a:pt x="115" y="319"/>
                    </a:lnTo>
                    <a:lnTo>
                      <a:pt x="117" y="318"/>
                    </a:lnTo>
                    <a:lnTo>
                      <a:pt x="119" y="317"/>
                    </a:lnTo>
                    <a:lnTo>
                      <a:pt x="122" y="316"/>
                    </a:lnTo>
                    <a:lnTo>
                      <a:pt x="121" y="316"/>
                    </a:lnTo>
                    <a:lnTo>
                      <a:pt x="145" y="304"/>
                    </a:lnTo>
                    <a:lnTo>
                      <a:pt x="171" y="294"/>
                    </a:lnTo>
                    <a:lnTo>
                      <a:pt x="203" y="283"/>
                    </a:lnTo>
                    <a:lnTo>
                      <a:pt x="238" y="271"/>
                    </a:lnTo>
                    <a:lnTo>
                      <a:pt x="276" y="260"/>
                    </a:lnTo>
                    <a:lnTo>
                      <a:pt x="314" y="250"/>
                    </a:lnTo>
                    <a:lnTo>
                      <a:pt x="354" y="240"/>
                    </a:lnTo>
                    <a:lnTo>
                      <a:pt x="396" y="231"/>
                    </a:lnTo>
                    <a:lnTo>
                      <a:pt x="438" y="223"/>
                    </a:lnTo>
                    <a:lnTo>
                      <a:pt x="480" y="217"/>
                    </a:lnTo>
                    <a:lnTo>
                      <a:pt x="564" y="203"/>
                    </a:lnTo>
                    <a:lnTo>
                      <a:pt x="647" y="191"/>
                    </a:lnTo>
                    <a:lnTo>
                      <a:pt x="728" y="180"/>
                    </a:lnTo>
                    <a:lnTo>
                      <a:pt x="805" y="170"/>
                    </a:lnTo>
                    <a:lnTo>
                      <a:pt x="841" y="164"/>
                    </a:lnTo>
                    <a:lnTo>
                      <a:pt x="875" y="158"/>
                    </a:lnTo>
                    <a:lnTo>
                      <a:pt x="908" y="153"/>
                    </a:lnTo>
                    <a:lnTo>
                      <a:pt x="939" y="146"/>
                    </a:lnTo>
                    <a:lnTo>
                      <a:pt x="969" y="139"/>
                    </a:lnTo>
                    <a:lnTo>
                      <a:pt x="998" y="131"/>
                    </a:lnTo>
                    <a:lnTo>
                      <a:pt x="1028" y="121"/>
                    </a:lnTo>
                    <a:lnTo>
                      <a:pt x="1059" y="108"/>
                    </a:lnTo>
                    <a:lnTo>
                      <a:pt x="1093" y="91"/>
                    </a:lnTo>
                    <a:lnTo>
                      <a:pt x="1127" y="72"/>
                    </a:lnTo>
                    <a:lnTo>
                      <a:pt x="1159" y="51"/>
                    </a:lnTo>
                    <a:lnTo>
                      <a:pt x="1180" y="35"/>
                    </a:lnTo>
                    <a:lnTo>
                      <a:pt x="1192" y="24"/>
                    </a:lnTo>
                    <a:lnTo>
                      <a:pt x="1199" y="15"/>
                    </a:lnTo>
                    <a:lnTo>
                      <a:pt x="1205" y="7"/>
                    </a:lnTo>
                    <a:lnTo>
                      <a:pt x="1208" y="0"/>
                    </a:lnTo>
                    <a:lnTo>
                      <a:pt x="1075" y="72"/>
                    </a:lnTo>
                    <a:lnTo>
                      <a:pt x="1073" y="76"/>
                    </a:lnTo>
                    <a:lnTo>
                      <a:pt x="1070" y="81"/>
                    </a:lnTo>
                    <a:lnTo>
                      <a:pt x="1068" y="83"/>
                    </a:lnTo>
                    <a:lnTo>
                      <a:pt x="1069" y="82"/>
                    </a:lnTo>
                    <a:lnTo>
                      <a:pt x="1077" y="76"/>
                    </a:lnTo>
                    <a:lnTo>
                      <a:pt x="1094" y="65"/>
                    </a:lnTo>
                    <a:lnTo>
                      <a:pt x="1112" y="55"/>
                    </a:lnTo>
                    <a:lnTo>
                      <a:pt x="1128" y="47"/>
                    </a:lnTo>
                    <a:lnTo>
                      <a:pt x="1119" y="50"/>
                    </a:lnTo>
                    <a:lnTo>
                      <a:pt x="1103" y="56"/>
                    </a:lnTo>
                    <a:lnTo>
                      <a:pt x="1082" y="61"/>
                    </a:lnTo>
                    <a:lnTo>
                      <a:pt x="1055" y="68"/>
                    </a:lnTo>
                    <a:lnTo>
                      <a:pt x="1026" y="74"/>
                    </a:lnTo>
                    <a:lnTo>
                      <a:pt x="995" y="80"/>
                    </a:lnTo>
                    <a:lnTo>
                      <a:pt x="961" y="85"/>
                    </a:lnTo>
                    <a:lnTo>
                      <a:pt x="925" y="91"/>
                    </a:lnTo>
                    <a:lnTo>
                      <a:pt x="849" y="101"/>
                    </a:lnTo>
                    <a:lnTo>
                      <a:pt x="769" y="112"/>
                    </a:lnTo>
                    <a:lnTo>
                      <a:pt x="685" y="124"/>
                    </a:lnTo>
                    <a:lnTo>
                      <a:pt x="599" y="138"/>
                    </a:lnTo>
                    <a:lnTo>
                      <a:pt x="556" y="146"/>
                    </a:lnTo>
                    <a:lnTo>
                      <a:pt x="513" y="154"/>
                    </a:lnTo>
                    <a:lnTo>
                      <a:pt x="471" y="163"/>
                    </a:lnTo>
                    <a:lnTo>
                      <a:pt x="427" y="172"/>
                    </a:lnTo>
                    <a:lnTo>
                      <a:pt x="385" y="183"/>
                    </a:lnTo>
                    <a:lnTo>
                      <a:pt x="344" y="195"/>
                    </a:lnTo>
                    <a:lnTo>
                      <a:pt x="302" y="209"/>
                    </a:lnTo>
                    <a:lnTo>
                      <a:pt x="259" y="224"/>
                    </a:lnTo>
                    <a:lnTo>
                      <a:pt x="214" y="243"/>
                    </a:lnTo>
                    <a:lnTo>
                      <a:pt x="168" y="263"/>
                    </a:lnTo>
                    <a:lnTo>
                      <a:pt x="135" y="280"/>
                    </a:lnTo>
                    <a:lnTo>
                      <a:pt x="106" y="298"/>
                    </a:lnTo>
                    <a:lnTo>
                      <a:pt x="77" y="315"/>
                    </a:lnTo>
                    <a:lnTo>
                      <a:pt x="50" y="332"/>
                    </a:lnTo>
                    <a:lnTo>
                      <a:pt x="20" y="365"/>
                    </a:lnTo>
                    <a:lnTo>
                      <a:pt x="50" y="332"/>
                    </a:lnTo>
                    <a:lnTo>
                      <a:pt x="0" y="366"/>
                    </a:lnTo>
                    <a:lnTo>
                      <a:pt x="20" y="365"/>
                    </a:lnTo>
                    <a:lnTo>
                      <a:pt x="146" y="28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4735440" y="3774960"/>
                <a:ext cx="372960" cy="36720"/>
              </a:xfrm>
              <a:custGeom>
                <a:avLst/>
                <a:gdLst/>
                <a:ahLst/>
                <a:rect l="l" t="t" r="r" b="b"/>
                <a:pathLst>
                  <a:path w="1177" h="115">
                    <a:moveTo>
                      <a:pt x="1177" y="0"/>
                    </a:moveTo>
                    <a:lnTo>
                      <a:pt x="1177" y="0"/>
                    </a:lnTo>
                    <a:lnTo>
                      <a:pt x="1082" y="15"/>
                    </a:lnTo>
                    <a:lnTo>
                      <a:pt x="1003" y="25"/>
                    </a:lnTo>
                    <a:lnTo>
                      <a:pt x="969" y="30"/>
                    </a:lnTo>
                    <a:lnTo>
                      <a:pt x="939" y="32"/>
                    </a:lnTo>
                    <a:lnTo>
                      <a:pt x="911" y="34"/>
                    </a:lnTo>
                    <a:lnTo>
                      <a:pt x="885" y="36"/>
                    </a:lnTo>
                    <a:lnTo>
                      <a:pt x="861" y="37"/>
                    </a:lnTo>
                    <a:lnTo>
                      <a:pt x="839" y="36"/>
                    </a:lnTo>
                    <a:lnTo>
                      <a:pt x="819" y="36"/>
                    </a:lnTo>
                    <a:lnTo>
                      <a:pt x="799" y="34"/>
                    </a:lnTo>
                    <a:lnTo>
                      <a:pt x="763" y="31"/>
                    </a:lnTo>
                    <a:lnTo>
                      <a:pt x="725" y="25"/>
                    </a:lnTo>
                    <a:lnTo>
                      <a:pt x="687" y="21"/>
                    </a:lnTo>
                    <a:lnTo>
                      <a:pt x="642" y="15"/>
                    </a:lnTo>
                    <a:lnTo>
                      <a:pt x="591" y="9"/>
                    </a:lnTo>
                    <a:lnTo>
                      <a:pt x="528" y="5"/>
                    </a:lnTo>
                    <a:lnTo>
                      <a:pt x="493" y="3"/>
                    </a:lnTo>
                    <a:lnTo>
                      <a:pt x="453" y="1"/>
                    </a:lnTo>
                    <a:lnTo>
                      <a:pt x="411" y="1"/>
                    </a:lnTo>
                    <a:lnTo>
                      <a:pt x="363" y="0"/>
                    </a:lnTo>
                    <a:lnTo>
                      <a:pt x="312" y="1"/>
                    </a:lnTo>
                    <a:lnTo>
                      <a:pt x="255" y="3"/>
                    </a:lnTo>
                    <a:lnTo>
                      <a:pt x="193" y="4"/>
                    </a:lnTo>
                    <a:lnTo>
                      <a:pt x="126" y="7"/>
                    </a:lnTo>
                    <a:lnTo>
                      <a:pt x="0" y="86"/>
                    </a:lnTo>
                    <a:lnTo>
                      <a:pt x="68" y="84"/>
                    </a:lnTo>
                    <a:lnTo>
                      <a:pt x="129" y="81"/>
                    </a:lnTo>
                    <a:lnTo>
                      <a:pt x="185" y="81"/>
                    </a:lnTo>
                    <a:lnTo>
                      <a:pt x="237" y="80"/>
                    </a:lnTo>
                    <a:lnTo>
                      <a:pt x="284" y="80"/>
                    </a:lnTo>
                    <a:lnTo>
                      <a:pt x="326" y="81"/>
                    </a:lnTo>
                    <a:lnTo>
                      <a:pt x="365" y="82"/>
                    </a:lnTo>
                    <a:lnTo>
                      <a:pt x="400" y="85"/>
                    </a:lnTo>
                    <a:lnTo>
                      <a:pt x="462" y="89"/>
                    </a:lnTo>
                    <a:lnTo>
                      <a:pt x="514" y="94"/>
                    </a:lnTo>
                    <a:lnTo>
                      <a:pt x="558" y="100"/>
                    </a:lnTo>
                    <a:lnTo>
                      <a:pt x="597" y="105"/>
                    </a:lnTo>
                    <a:lnTo>
                      <a:pt x="634" y="110"/>
                    </a:lnTo>
                    <a:lnTo>
                      <a:pt x="672" y="114"/>
                    </a:lnTo>
                    <a:lnTo>
                      <a:pt x="691" y="115"/>
                    </a:lnTo>
                    <a:lnTo>
                      <a:pt x="713" y="115"/>
                    </a:lnTo>
                    <a:lnTo>
                      <a:pt x="736" y="115"/>
                    </a:lnTo>
                    <a:lnTo>
                      <a:pt x="760" y="115"/>
                    </a:lnTo>
                    <a:lnTo>
                      <a:pt x="786" y="114"/>
                    </a:lnTo>
                    <a:lnTo>
                      <a:pt x="815" y="112"/>
                    </a:lnTo>
                    <a:lnTo>
                      <a:pt x="846" y="109"/>
                    </a:lnTo>
                    <a:lnTo>
                      <a:pt x="882" y="105"/>
                    </a:lnTo>
                    <a:lnTo>
                      <a:pt x="961" y="94"/>
                    </a:lnTo>
                    <a:lnTo>
                      <a:pt x="1057" y="79"/>
                    </a:lnTo>
                    <a:lnTo>
                      <a:pt x="1057" y="79"/>
                    </a:lnTo>
                    <a:lnTo>
                      <a:pt x="1177" y="0"/>
                    </a:lnTo>
                    <a:lnTo>
                      <a:pt x="1177" y="0"/>
                    </a:lnTo>
                    <a:lnTo>
                      <a:pt x="1177" y="0"/>
                    </a:lnTo>
                    <a:lnTo>
                      <a:pt x="117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5070600" y="3706920"/>
                <a:ext cx="249120" cy="93600"/>
              </a:xfrm>
              <a:custGeom>
                <a:avLst/>
                <a:gdLst/>
                <a:ahLst/>
                <a:rect l="l" t="t" r="r" b="b"/>
                <a:pathLst>
                  <a:path w="783" h="296">
                    <a:moveTo>
                      <a:pt x="656" y="83"/>
                    </a:moveTo>
                    <a:lnTo>
                      <a:pt x="646" y="77"/>
                    </a:lnTo>
                    <a:lnTo>
                      <a:pt x="641" y="85"/>
                    </a:lnTo>
                    <a:lnTo>
                      <a:pt x="635" y="91"/>
                    </a:lnTo>
                    <a:lnTo>
                      <a:pt x="632" y="93"/>
                    </a:lnTo>
                    <a:lnTo>
                      <a:pt x="634" y="92"/>
                    </a:lnTo>
                    <a:lnTo>
                      <a:pt x="638" y="88"/>
                    </a:lnTo>
                    <a:lnTo>
                      <a:pt x="643" y="86"/>
                    </a:lnTo>
                    <a:lnTo>
                      <a:pt x="641" y="87"/>
                    </a:lnTo>
                    <a:lnTo>
                      <a:pt x="611" y="100"/>
                    </a:lnTo>
                    <a:lnTo>
                      <a:pt x="575" y="113"/>
                    </a:lnTo>
                    <a:lnTo>
                      <a:pt x="534" y="127"/>
                    </a:lnTo>
                    <a:lnTo>
                      <a:pt x="489" y="140"/>
                    </a:lnTo>
                    <a:lnTo>
                      <a:pt x="442" y="152"/>
                    </a:lnTo>
                    <a:lnTo>
                      <a:pt x="393" y="165"/>
                    </a:lnTo>
                    <a:lnTo>
                      <a:pt x="344" y="175"/>
                    </a:lnTo>
                    <a:lnTo>
                      <a:pt x="296" y="185"/>
                    </a:lnTo>
                    <a:lnTo>
                      <a:pt x="203" y="204"/>
                    </a:lnTo>
                    <a:lnTo>
                      <a:pt x="120" y="217"/>
                    </a:lnTo>
                    <a:lnTo>
                      <a:pt x="0" y="296"/>
                    </a:lnTo>
                    <a:lnTo>
                      <a:pt x="84" y="282"/>
                    </a:lnTo>
                    <a:lnTo>
                      <a:pt x="179" y="264"/>
                    </a:lnTo>
                    <a:lnTo>
                      <a:pt x="229" y="254"/>
                    </a:lnTo>
                    <a:lnTo>
                      <a:pt x="279" y="242"/>
                    </a:lnTo>
                    <a:lnTo>
                      <a:pt x="330" y="230"/>
                    </a:lnTo>
                    <a:lnTo>
                      <a:pt x="380" y="216"/>
                    </a:lnTo>
                    <a:lnTo>
                      <a:pt x="429" y="202"/>
                    </a:lnTo>
                    <a:lnTo>
                      <a:pt x="478" y="186"/>
                    </a:lnTo>
                    <a:lnTo>
                      <a:pt x="526" y="168"/>
                    </a:lnTo>
                    <a:lnTo>
                      <a:pt x="572" y="148"/>
                    </a:lnTo>
                    <a:lnTo>
                      <a:pt x="607" y="132"/>
                    </a:lnTo>
                    <a:lnTo>
                      <a:pt x="640" y="115"/>
                    </a:lnTo>
                    <a:lnTo>
                      <a:pt x="674" y="94"/>
                    </a:lnTo>
                    <a:lnTo>
                      <a:pt x="707" y="72"/>
                    </a:lnTo>
                    <a:lnTo>
                      <a:pt x="734" y="53"/>
                    </a:lnTo>
                    <a:lnTo>
                      <a:pt x="752" y="37"/>
                    </a:lnTo>
                    <a:lnTo>
                      <a:pt x="766" y="23"/>
                    </a:lnTo>
                    <a:lnTo>
                      <a:pt x="776" y="11"/>
                    </a:lnTo>
                    <a:lnTo>
                      <a:pt x="767" y="5"/>
                    </a:lnTo>
                    <a:lnTo>
                      <a:pt x="776" y="11"/>
                    </a:lnTo>
                    <a:lnTo>
                      <a:pt x="783" y="0"/>
                    </a:lnTo>
                    <a:lnTo>
                      <a:pt x="767" y="5"/>
                    </a:lnTo>
                    <a:lnTo>
                      <a:pt x="656" y="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3129120" y="3517920"/>
                <a:ext cx="647640" cy="38160"/>
              </a:xfrm>
              <a:custGeom>
                <a:avLst/>
                <a:gdLst/>
                <a:ahLst/>
                <a:rect l="l" t="t" r="r" b="b"/>
                <a:pathLst>
                  <a:path w="2038" h="120">
                    <a:moveTo>
                      <a:pt x="2038" y="0"/>
                    </a:moveTo>
                    <a:lnTo>
                      <a:pt x="1982" y="8"/>
                    </a:lnTo>
                    <a:lnTo>
                      <a:pt x="1928" y="13"/>
                    </a:lnTo>
                    <a:lnTo>
                      <a:pt x="1875" y="19"/>
                    </a:lnTo>
                    <a:lnTo>
                      <a:pt x="1826" y="25"/>
                    </a:lnTo>
                    <a:lnTo>
                      <a:pt x="1733" y="32"/>
                    </a:lnTo>
                    <a:lnTo>
                      <a:pt x="1648" y="37"/>
                    </a:lnTo>
                    <a:lnTo>
                      <a:pt x="1572" y="40"/>
                    </a:lnTo>
                    <a:lnTo>
                      <a:pt x="1502" y="42"/>
                    </a:lnTo>
                    <a:lnTo>
                      <a:pt x="1439" y="42"/>
                    </a:lnTo>
                    <a:lnTo>
                      <a:pt x="1383" y="42"/>
                    </a:lnTo>
                    <a:lnTo>
                      <a:pt x="1331" y="41"/>
                    </a:lnTo>
                    <a:lnTo>
                      <a:pt x="1286" y="41"/>
                    </a:lnTo>
                    <a:lnTo>
                      <a:pt x="1245" y="41"/>
                    </a:lnTo>
                    <a:lnTo>
                      <a:pt x="1207" y="42"/>
                    </a:lnTo>
                    <a:lnTo>
                      <a:pt x="1190" y="43"/>
                    </a:lnTo>
                    <a:lnTo>
                      <a:pt x="1173" y="45"/>
                    </a:lnTo>
                    <a:lnTo>
                      <a:pt x="1157" y="48"/>
                    </a:lnTo>
                    <a:lnTo>
                      <a:pt x="1142" y="50"/>
                    </a:lnTo>
                    <a:lnTo>
                      <a:pt x="1129" y="53"/>
                    </a:lnTo>
                    <a:lnTo>
                      <a:pt x="1115" y="58"/>
                    </a:lnTo>
                    <a:lnTo>
                      <a:pt x="1101" y="63"/>
                    </a:lnTo>
                    <a:lnTo>
                      <a:pt x="1089" y="67"/>
                    </a:lnTo>
                    <a:lnTo>
                      <a:pt x="1066" y="80"/>
                    </a:lnTo>
                    <a:lnTo>
                      <a:pt x="1042" y="89"/>
                    </a:lnTo>
                    <a:lnTo>
                      <a:pt x="1016" y="98"/>
                    </a:lnTo>
                    <a:lnTo>
                      <a:pt x="988" y="105"/>
                    </a:lnTo>
                    <a:lnTo>
                      <a:pt x="959" y="110"/>
                    </a:lnTo>
                    <a:lnTo>
                      <a:pt x="927" y="114"/>
                    </a:lnTo>
                    <a:lnTo>
                      <a:pt x="894" y="117"/>
                    </a:lnTo>
                    <a:lnTo>
                      <a:pt x="861" y="118"/>
                    </a:lnTo>
                    <a:lnTo>
                      <a:pt x="825" y="120"/>
                    </a:lnTo>
                    <a:lnTo>
                      <a:pt x="789" y="120"/>
                    </a:lnTo>
                    <a:lnTo>
                      <a:pt x="751" y="117"/>
                    </a:lnTo>
                    <a:lnTo>
                      <a:pt x="714" y="115"/>
                    </a:lnTo>
                    <a:lnTo>
                      <a:pt x="675" y="113"/>
                    </a:lnTo>
                    <a:lnTo>
                      <a:pt x="635" y="108"/>
                    </a:lnTo>
                    <a:lnTo>
                      <a:pt x="595" y="104"/>
                    </a:lnTo>
                    <a:lnTo>
                      <a:pt x="556" y="99"/>
                    </a:lnTo>
                    <a:lnTo>
                      <a:pt x="476" y="88"/>
                    </a:lnTo>
                    <a:lnTo>
                      <a:pt x="397" y="74"/>
                    </a:lnTo>
                    <a:lnTo>
                      <a:pt x="320" y="60"/>
                    </a:lnTo>
                    <a:lnTo>
                      <a:pt x="246" y="47"/>
                    </a:lnTo>
                    <a:lnTo>
                      <a:pt x="111" y="20"/>
                    </a:lnTo>
                    <a:lnTo>
                      <a:pt x="0" y="0"/>
                    </a:lnTo>
                    <a:lnTo>
                      <a:pt x="2038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3129120" y="3517920"/>
                <a:ext cx="306360" cy="11160"/>
              </a:xfrm>
              <a:custGeom>
                <a:avLst/>
                <a:gdLst/>
                <a:ahLst/>
                <a:rect l="l" t="t" r="r" b="b"/>
                <a:pathLst>
                  <a:path w="966" h="36">
                    <a:moveTo>
                      <a:pt x="0" y="0"/>
                    </a:moveTo>
                    <a:lnTo>
                      <a:pt x="59" y="36"/>
                    </a:lnTo>
                    <a:lnTo>
                      <a:pt x="97" y="29"/>
                    </a:lnTo>
                    <a:lnTo>
                      <a:pt x="134" y="24"/>
                    </a:lnTo>
                    <a:lnTo>
                      <a:pt x="171" y="19"/>
                    </a:lnTo>
                    <a:lnTo>
                      <a:pt x="207" y="17"/>
                    </a:lnTo>
                    <a:lnTo>
                      <a:pt x="244" y="15"/>
                    </a:lnTo>
                    <a:lnTo>
                      <a:pt x="280" y="12"/>
                    </a:lnTo>
                    <a:lnTo>
                      <a:pt x="316" y="12"/>
                    </a:lnTo>
                    <a:lnTo>
                      <a:pt x="351" y="12"/>
                    </a:lnTo>
                    <a:lnTo>
                      <a:pt x="491" y="17"/>
                    </a:lnTo>
                    <a:lnTo>
                      <a:pt x="628" y="23"/>
                    </a:lnTo>
                    <a:lnTo>
                      <a:pt x="662" y="24"/>
                    </a:lnTo>
                    <a:lnTo>
                      <a:pt x="698" y="25"/>
                    </a:lnTo>
                    <a:lnTo>
                      <a:pt x="732" y="25"/>
                    </a:lnTo>
                    <a:lnTo>
                      <a:pt x="765" y="24"/>
                    </a:lnTo>
                    <a:lnTo>
                      <a:pt x="800" y="21"/>
                    </a:lnTo>
                    <a:lnTo>
                      <a:pt x="834" y="19"/>
                    </a:lnTo>
                    <a:lnTo>
                      <a:pt x="869" y="16"/>
                    </a:lnTo>
                    <a:lnTo>
                      <a:pt x="903" y="11"/>
                    </a:lnTo>
                    <a:lnTo>
                      <a:pt x="937" y="6"/>
                    </a:lnTo>
                    <a:lnTo>
                      <a:pt x="9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3456000" y="3517920"/>
                <a:ext cx="412560" cy="31680"/>
              </a:xfrm>
              <a:custGeom>
                <a:avLst/>
                <a:gdLst/>
                <a:ahLst/>
                <a:rect l="l" t="t" r="r" b="b"/>
                <a:pathLst>
                  <a:path w="1301" h="104">
                    <a:moveTo>
                      <a:pt x="120" y="104"/>
                    </a:moveTo>
                    <a:lnTo>
                      <a:pt x="120" y="104"/>
                    </a:lnTo>
                    <a:lnTo>
                      <a:pt x="135" y="97"/>
                    </a:lnTo>
                    <a:lnTo>
                      <a:pt x="150" y="92"/>
                    </a:lnTo>
                    <a:lnTo>
                      <a:pt x="166" y="88"/>
                    </a:lnTo>
                    <a:lnTo>
                      <a:pt x="183" y="84"/>
                    </a:lnTo>
                    <a:lnTo>
                      <a:pt x="200" y="82"/>
                    </a:lnTo>
                    <a:lnTo>
                      <a:pt x="218" y="80"/>
                    </a:lnTo>
                    <a:lnTo>
                      <a:pt x="239" y="79"/>
                    </a:lnTo>
                    <a:lnTo>
                      <a:pt x="259" y="77"/>
                    </a:lnTo>
                    <a:lnTo>
                      <a:pt x="356" y="77"/>
                    </a:lnTo>
                    <a:lnTo>
                      <a:pt x="481" y="79"/>
                    </a:lnTo>
                    <a:lnTo>
                      <a:pt x="557" y="77"/>
                    </a:lnTo>
                    <a:lnTo>
                      <a:pt x="640" y="75"/>
                    </a:lnTo>
                    <a:lnTo>
                      <a:pt x="687" y="73"/>
                    </a:lnTo>
                    <a:lnTo>
                      <a:pt x="734" y="69"/>
                    </a:lnTo>
                    <a:lnTo>
                      <a:pt x="786" y="66"/>
                    </a:lnTo>
                    <a:lnTo>
                      <a:pt x="839" y="63"/>
                    </a:lnTo>
                    <a:lnTo>
                      <a:pt x="896" y="57"/>
                    </a:lnTo>
                    <a:lnTo>
                      <a:pt x="956" y="50"/>
                    </a:lnTo>
                    <a:lnTo>
                      <a:pt x="1018" y="43"/>
                    </a:lnTo>
                    <a:lnTo>
                      <a:pt x="1084" y="34"/>
                    </a:lnTo>
                    <a:lnTo>
                      <a:pt x="1154" y="24"/>
                    </a:lnTo>
                    <a:lnTo>
                      <a:pt x="1227" y="12"/>
                    </a:lnTo>
                    <a:lnTo>
                      <a:pt x="1301" y="0"/>
                    </a:lnTo>
                    <a:lnTo>
                      <a:pt x="582" y="0"/>
                    </a:lnTo>
                    <a:lnTo>
                      <a:pt x="570" y="1"/>
                    </a:lnTo>
                    <a:lnTo>
                      <a:pt x="526" y="3"/>
                    </a:lnTo>
                    <a:lnTo>
                      <a:pt x="441" y="6"/>
                    </a:lnTo>
                    <a:lnTo>
                      <a:pt x="367" y="6"/>
                    </a:lnTo>
                    <a:lnTo>
                      <a:pt x="242" y="6"/>
                    </a:lnTo>
                    <a:lnTo>
                      <a:pt x="144" y="6"/>
                    </a:lnTo>
                    <a:lnTo>
                      <a:pt x="122" y="7"/>
                    </a:lnTo>
                    <a:lnTo>
                      <a:pt x="102" y="8"/>
                    </a:lnTo>
                    <a:lnTo>
                      <a:pt x="83" y="10"/>
                    </a:lnTo>
                    <a:lnTo>
                      <a:pt x="65" y="12"/>
                    </a:lnTo>
                    <a:lnTo>
                      <a:pt x="48" y="16"/>
                    </a:lnTo>
                    <a:lnTo>
                      <a:pt x="31" y="20"/>
                    </a:lnTo>
                    <a:lnTo>
                      <a:pt x="15" y="26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3078000" y="3517920"/>
                <a:ext cx="416160" cy="49320"/>
              </a:xfrm>
              <a:custGeom>
                <a:avLst/>
                <a:gdLst/>
                <a:ahLst/>
                <a:rect l="l" t="t" r="r" b="b"/>
                <a:pathLst>
                  <a:path w="1310" h="156">
                    <a:moveTo>
                      <a:pt x="160" y="0"/>
                    </a:moveTo>
                    <a:lnTo>
                      <a:pt x="217" y="36"/>
                    </a:lnTo>
                    <a:lnTo>
                      <a:pt x="326" y="56"/>
                    </a:lnTo>
                    <a:lnTo>
                      <a:pt x="461" y="82"/>
                    </a:lnTo>
                    <a:lnTo>
                      <a:pt x="536" y="97"/>
                    </a:lnTo>
                    <a:lnTo>
                      <a:pt x="613" y="110"/>
                    </a:lnTo>
                    <a:lnTo>
                      <a:pt x="692" y="123"/>
                    </a:lnTo>
                    <a:lnTo>
                      <a:pt x="773" y="134"/>
                    </a:lnTo>
                    <a:lnTo>
                      <a:pt x="813" y="140"/>
                    </a:lnTo>
                    <a:lnTo>
                      <a:pt x="853" y="145"/>
                    </a:lnTo>
                    <a:lnTo>
                      <a:pt x="893" y="148"/>
                    </a:lnTo>
                    <a:lnTo>
                      <a:pt x="931" y="152"/>
                    </a:lnTo>
                    <a:lnTo>
                      <a:pt x="969" y="154"/>
                    </a:lnTo>
                    <a:lnTo>
                      <a:pt x="1007" y="155"/>
                    </a:lnTo>
                    <a:lnTo>
                      <a:pt x="1044" y="156"/>
                    </a:lnTo>
                    <a:lnTo>
                      <a:pt x="1080" y="155"/>
                    </a:lnTo>
                    <a:lnTo>
                      <a:pt x="1114" y="153"/>
                    </a:lnTo>
                    <a:lnTo>
                      <a:pt x="1147" y="150"/>
                    </a:lnTo>
                    <a:lnTo>
                      <a:pt x="1179" y="146"/>
                    </a:lnTo>
                    <a:lnTo>
                      <a:pt x="1208" y="140"/>
                    </a:lnTo>
                    <a:lnTo>
                      <a:pt x="1237" y="133"/>
                    </a:lnTo>
                    <a:lnTo>
                      <a:pt x="1263" y="125"/>
                    </a:lnTo>
                    <a:lnTo>
                      <a:pt x="1276" y="121"/>
                    </a:lnTo>
                    <a:lnTo>
                      <a:pt x="1288" y="115"/>
                    </a:lnTo>
                    <a:lnTo>
                      <a:pt x="1299" y="109"/>
                    </a:lnTo>
                    <a:lnTo>
                      <a:pt x="1310" y="104"/>
                    </a:lnTo>
                    <a:lnTo>
                      <a:pt x="1190" y="32"/>
                    </a:lnTo>
                    <a:lnTo>
                      <a:pt x="1180" y="39"/>
                    </a:lnTo>
                    <a:lnTo>
                      <a:pt x="1169" y="43"/>
                    </a:lnTo>
                    <a:lnTo>
                      <a:pt x="1157" y="49"/>
                    </a:lnTo>
                    <a:lnTo>
                      <a:pt x="1145" y="53"/>
                    </a:lnTo>
                    <a:lnTo>
                      <a:pt x="1118" y="61"/>
                    </a:lnTo>
                    <a:lnTo>
                      <a:pt x="1091" y="68"/>
                    </a:lnTo>
                    <a:lnTo>
                      <a:pt x="1061" y="74"/>
                    </a:lnTo>
                    <a:lnTo>
                      <a:pt x="1031" y="79"/>
                    </a:lnTo>
                    <a:lnTo>
                      <a:pt x="999" y="81"/>
                    </a:lnTo>
                    <a:lnTo>
                      <a:pt x="965" y="83"/>
                    </a:lnTo>
                    <a:lnTo>
                      <a:pt x="929" y="83"/>
                    </a:lnTo>
                    <a:lnTo>
                      <a:pt x="894" y="83"/>
                    </a:lnTo>
                    <a:lnTo>
                      <a:pt x="856" y="82"/>
                    </a:lnTo>
                    <a:lnTo>
                      <a:pt x="819" y="80"/>
                    </a:lnTo>
                    <a:lnTo>
                      <a:pt x="781" y="76"/>
                    </a:lnTo>
                    <a:lnTo>
                      <a:pt x="741" y="73"/>
                    </a:lnTo>
                    <a:lnTo>
                      <a:pt x="702" y="68"/>
                    </a:lnTo>
                    <a:lnTo>
                      <a:pt x="662" y="63"/>
                    </a:lnTo>
                    <a:lnTo>
                      <a:pt x="584" y="51"/>
                    </a:lnTo>
                    <a:lnTo>
                      <a:pt x="505" y="39"/>
                    </a:lnTo>
                    <a:lnTo>
                      <a:pt x="429" y="25"/>
                    </a:lnTo>
                    <a:lnTo>
                      <a:pt x="355" y="11"/>
                    </a:lnTo>
                    <a:lnTo>
                      <a:pt x="298" y="0"/>
                    </a:lnTo>
                    <a:lnTo>
                      <a:pt x="164" y="0"/>
                    </a:lnTo>
                    <a:lnTo>
                      <a:pt x="221" y="36"/>
                    </a:lnTo>
                    <a:lnTo>
                      <a:pt x="162" y="0"/>
                    </a:lnTo>
                    <a:lnTo>
                      <a:pt x="160" y="0"/>
                    </a:lnTo>
                    <a:close/>
                    <a:moveTo>
                      <a:pt x="0" y="0"/>
                    </a:moveTo>
                    <a:lnTo>
                      <a:pt x="217" y="36"/>
                    </a:lnTo>
                    <a:lnTo>
                      <a:pt x="1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5632560" y="3517920"/>
                <a:ext cx="717480" cy="47520"/>
              </a:xfrm>
              <a:custGeom>
                <a:avLst/>
                <a:gdLst/>
                <a:ahLst/>
                <a:rect l="l" t="t" r="r" b="b"/>
                <a:pathLst>
                  <a:path w="2259" h="154">
                    <a:moveTo>
                      <a:pt x="2259" y="34"/>
                    </a:moveTo>
                    <a:lnTo>
                      <a:pt x="2228" y="28"/>
                    </a:lnTo>
                    <a:lnTo>
                      <a:pt x="2197" y="24"/>
                    </a:lnTo>
                    <a:lnTo>
                      <a:pt x="2167" y="20"/>
                    </a:lnTo>
                    <a:lnTo>
                      <a:pt x="2138" y="17"/>
                    </a:lnTo>
                    <a:lnTo>
                      <a:pt x="2080" y="12"/>
                    </a:lnTo>
                    <a:lnTo>
                      <a:pt x="2021" y="10"/>
                    </a:lnTo>
                    <a:lnTo>
                      <a:pt x="1964" y="10"/>
                    </a:lnTo>
                    <a:lnTo>
                      <a:pt x="1909" y="11"/>
                    </a:lnTo>
                    <a:lnTo>
                      <a:pt x="1853" y="13"/>
                    </a:lnTo>
                    <a:lnTo>
                      <a:pt x="1797" y="16"/>
                    </a:lnTo>
                    <a:lnTo>
                      <a:pt x="1742" y="18"/>
                    </a:lnTo>
                    <a:lnTo>
                      <a:pt x="1687" y="20"/>
                    </a:lnTo>
                    <a:lnTo>
                      <a:pt x="1633" y="21"/>
                    </a:lnTo>
                    <a:lnTo>
                      <a:pt x="1578" y="21"/>
                    </a:lnTo>
                    <a:lnTo>
                      <a:pt x="1524" y="20"/>
                    </a:lnTo>
                    <a:lnTo>
                      <a:pt x="1470" y="16"/>
                    </a:lnTo>
                    <a:lnTo>
                      <a:pt x="1442" y="13"/>
                    </a:lnTo>
                    <a:lnTo>
                      <a:pt x="1415" y="10"/>
                    </a:lnTo>
                    <a:lnTo>
                      <a:pt x="1388" y="6"/>
                    </a:lnTo>
                    <a:lnTo>
                      <a:pt x="1361" y="0"/>
                    </a:lnTo>
                    <a:lnTo>
                      <a:pt x="0" y="0"/>
                    </a:lnTo>
                    <a:lnTo>
                      <a:pt x="73" y="12"/>
                    </a:lnTo>
                    <a:lnTo>
                      <a:pt x="143" y="23"/>
                    </a:lnTo>
                    <a:lnTo>
                      <a:pt x="209" y="33"/>
                    </a:lnTo>
                    <a:lnTo>
                      <a:pt x="273" y="41"/>
                    </a:lnTo>
                    <a:lnTo>
                      <a:pt x="332" y="48"/>
                    </a:lnTo>
                    <a:lnTo>
                      <a:pt x="390" y="55"/>
                    </a:lnTo>
                    <a:lnTo>
                      <a:pt x="445" y="59"/>
                    </a:lnTo>
                    <a:lnTo>
                      <a:pt x="497" y="64"/>
                    </a:lnTo>
                    <a:lnTo>
                      <a:pt x="593" y="71"/>
                    </a:lnTo>
                    <a:lnTo>
                      <a:pt x="680" y="74"/>
                    </a:lnTo>
                    <a:lnTo>
                      <a:pt x="757" y="75"/>
                    </a:lnTo>
                    <a:lnTo>
                      <a:pt x="827" y="76"/>
                    </a:lnTo>
                    <a:lnTo>
                      <a:pt x="943" y="75"/>
                    </a:lnTo>
                    <a:lnTo>
                      <a:pt x="1035" y="75"/>
                    </a:lnTo>
                    <a:lnTo>
                      <a:pt x="1055" y="76"/>
                    </a:lnTo>
                    <a:lnTo>
                      <a:pt x="1074" y="79"/>
                    </a:lnTo>
                    <a:lnTo>
                      <a:pt x="1092" y="80"/>
                    </a:lnTo>
                    <a:lnTo>
                      <a:pt x="1109" y="83"/>
                    </a:lnTo>
                    <a:lnTo>
                      <a:pt x="1125" y="87"/>
                    </a:lnTo>
                    <a:lnTo>
                      <a:pt x="1140" y="90"/>
                    </a:lnTo>
                    <a:lnTo>
                      <a:pt x="1156" y="96"/>
                    </a:lnTo>
                    <a:lnTo>
                      <a:pt x="1170" y="101"/>
                    </a:lnTo>
                    <a:lnTo>
                      <a:pt x="1192" y="113"/>
                    </a:lnTo>
                    <a:lnTo>
                      <a:pt x="1215" y="123"/>
                    </a:lnTo>
                    <a:lnTo>
                      <a:pt x="1242" y="131"/>
                    </a:lnTo>
                    <a:lnTo>
                      <a:pt x="1270" y="138"/>
                    </a:lnTo>
                    <a:lnTo>
                      <a:pt x="1300" y="144"/>
                    </a:lnTo>
                    <a:lnTo>
                      <a:pt x="1331" y="148"/>
                    </a:lnTo>
                    <a:lnTo>
                      <a:pt x="1364" y="152"/>
                    </a:lnTo>
                    <a:lnTo>
                      <a:pt x="1398" y="153"/>
                    </a:lnTo>
                    <a:lnTo>
                      <a:pt x="1433" y="154"/>
                    </a:lnTo>
                    <a:lnTo>
                      <a:pt x="1470" y="153"/>
                    </a:lnTo>
                    <a:lnTo>
                      <a:pt x="1507" y="152"/>
                    </a:lnTo>
                    <a:lnTo>
                      <a:pt x="1545" y="149"/>
                    </a:lnTo>
                    <a:lnTo>
                      <a:pt x="1584" y="146"/>
                    </a:lnTo>
                    <a:lnTo>
                      <a:pt x="1622" y="142"/>
                    </a:lnTo>
                    <a:lnTo>
                      <a:pt x="1662" y="138"/>
                    </a:lnTo>
                    <a:lnTo>
                      <a:pt x="1702" y="133"/>
                    </a:lnTo>
                    <a:lnTo>
                      <a:pt x="1782" y="122"/>
                    </a:lnTo>
                    <a:lnTo>
                      <a:pt x="1861" y="108"/>
                    </a:lnTo>
                    <a:lnTo>
                      <a:pt x="1938" y="94"/>
                    </a:lnTo>
                    <a:lnTo>
                      <a:pt x="2012" y="81"/>
                    </a:lnTo>
                    <a:lnTo>
                      <a:pt x="2148" y="55"/>
                    </a:lnTo>
                    <a:lnTo>
                      <a:pt x="2259" y="3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6040440" y="3517920"/>
                <a:ext cx="325440" cy="20520"/>
              </a:xfrm>
              <a:custGeom>
                <a:avLst/>
                <a:gdLst/>
                <a:ahLst/>
                <a:rect l="l" t="t" r="r" b="b"/>
                <a:pathLst>
                  <a:path w="1024" h="69">
                    <a:moveTo>
                      <a:pt x="0" y="0"/>
                    </a:moveTo>
                    <a:lnTo>
                      <a:pt x="37" y="12"/>
                    </a:lnTo>
                    <a:lnTo>
                      <a:pt x="74" y="24"/>
                    </a:lnTo>
                    <a:lnTo>
                      <a:pt x="111" y="32"/>
                    </a:lnTo>
                    <a:lnTo>
                      <a:pt x="146" y="40"/>
                    </a:lnTo>
                    <a:lnTo>
                      <a:pt x="182" y="45"/>
                    </a:lnTo>
                    <a:lnTo>
                      <a:pt x="217" y="50"/>
                    </a:lnTo>
                    <a:lnTo>
                      <a:pt x="251" y="53"/>
                    </a:lnTo>
                    <a:lnTo>
                      <a:pt x="285" y="56"/>
                    </a:lnTo>
                    <a:lnTo>
                      <a:pt x="319" y="57"/>
                    </a:lnTo>
                    <a:lnTo>
                      <a:pt x="354" y="58"/>
                    </a:lnTo>
                    <a:lnTo>
                      <a:pt x="389" y="58"/>
                    </a:lnTo>
                    <a:lnTo>
                      <a:pt x="422" y="58"/>
                    </a:lnTo>
                    <a:lnTo>
                      <a:pt x="457" y="57"/>
                    </a:lnTo>
                    <a:lnTo>
                      <a:pt x="594" y="51"/>
                    </a:lnTo>
                    <a:lnTo>
                      <a:pt x="734" y="47"/>
                    </a:lnTo>
                    <a:lnTo>
                      <a:pt x="770" y="47"/>
                    </a:lnTo>
                    <a:lnTo>
                      <a:pt x="805" y="47"/>
                    </a:lnTo>
                    <a:lnTo>
                      <a:pt x="842" y="48"/>
                    </a:lnTo>
                    <a:lnTo>
                      <a:pt x="878" y="50"/>
                    </a:lnTo>
                    <a:lnTo>
                      <a:pt x="913" y="53"/>
                    </a:lnTo>
                    <a:lnTo>
                      <a:pt x="950" y="58"/>
                    </a:lnTo>
                    <a:lnTo>
                      <a:pt x="988" y="63"/>
                    </a:lnTo>
                    <a:lnTo>
                      <a:pt x="1024" y="69"/>
                    </a:lnTo>
                    <a:lnTo>
                      <a:pt x="9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5592600" y="3517920"/>
                <a:ext cx="149400" cy="4680"/>
              </a:xfrm>
              <a:custGeom>
                <a:avLst/>
                <a:gdLst/>
                <a:ahLst/>
                <a:rect l="l" t="t" r="r" b="b"/>
                <a:pathLst>
                  <a:path w="467" h="19">
                    <a:moveTo>
                      <a:pt x="58" y="0"/>
                    </a:moveTo>
                    <a:lnTo>
                      <a:pt x="88" y="19"/>
                    </a:lnTo>
                    <a:lnTo>
                      <a:pt x="180" y="16"/>
                    </a:lnTo>
                    <a:lnTo>
                      <a:pt x="267" y="12"/>
                    </a:lnTo>
                    <a:lnTo>
                      <a:pt x="350" y="8"/>
                    </a:lnTo>
                    <a:lnTo>
                      <a:pt x="430" y="2"/>
                    </a:lnTo>
                    <a:lnTo>
                      <a:pt x="467" y="0"/>
                    </a:lnTo>
                    <a:lnTo>
                      <a:pt x="58" y="0"/>
                    </a:lnTo>
                    <a:close/>
                    <a:moveTo>
                      <a:pt x="55" y="0"/>
                    </a:moveTo>
                    <a:lnTo>
                      <a:pt x="83" y="19"/>
                    </a:lnTo>
                    <a:lnTo>
                      <a:pt x="55" y="0"/>
                    </a:lnTo>
                    <a:lnTo>
                      <a:pt x="56" y="0"/>
                    </a:lnTo>
                    <a:lnTo>
                      <a:pt x="83" y="19"/>
                    </a:lnTo>
                    <a:lnTo>
                      <a:pt x="0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5610240" y="3517920"/>
                <a:ext cx="401760" cy="39600"/>
              </a:xfrm>
              <a:custGeom>
                <a:avLst/>
                <a:gdLst/>
                <a:ahLst/>
                <a:rect l="l" t="t" r="r" b="b"/>
                <a:pathLst>
                  <a:path w="1265" h="128">
                    <a:moveTo>
                      <a:pt x="1249" y="96"/>
                    </a:moveTo>
                    <a:lnTo>
                      <a:pt x="1212" y="75"/>
                    </a:lnTo>
                    <a:lnTo>
                      <a:pt x="1182" y="64"/>
                    </a:lnTo>
                    <a:lnTo>
                      <a:pt x="1159" y="56"/>
                    </a:lnTo>
                    <a:lnTo>
                      <a:pt x="1140" y="50"/>
                    </a:lnTo>
                    <a:lnTo>
                      <a:pt x="1120" y="47"/>
                    </a:lnTo>
                    <a:lnTo>
                      <a:pt x="1101" y="43"/>
                    </a:lnTo>
                    <a:lnTo>
                      <a:pt x="1082" y="42"/>
                    </a:lnTo>
                    <a:lnTo>
                      <a:pt x="1061" y="40"/>
                    </a:lnTo>
                    <a:lnTo>
                      <a:pt x="1039" y="39"/>
                    </a:lnTo>
                    <a:lnTo>
                      <a:pt x="941" y="39"/>
                    </a:lnTo>
                    <a:lnTo>
                      <a:pt x="816" y="40"/>
                    </a:lnTo>
                    <a:lnTo>
                      <a:pt x="742" y="39"/>
                    </a:lnTo>
                    <a:lnTo>
                      <a:pt x="659" y="36"/>
                    </a:lnTo>
                    <a:lnTo>
                      <a:pt x="613" y="34"/>
                    </a:lnTo>
                    <a:lnTo>
                      <a:pt x="565" y="32"/>
                    </a:lnTo>
                    <a:lnTo>
                      <a:pt x="514" y="28"/>
                    </a:lnTo>
                    <a:lnTo>
                      <a:pt x="460" y="24"/>
                    </a:lnTo>
                    <a:lnTo>
                      <a:pt x="405" y="18"/>
                    </a:lnTo>
                    <a:lnTo>
                      <a:pt x="345" y="12"/>
                    </a:lnTo>
                    <a:lnTo>
                      <a:pt x="283" y="4"/>
                    </a:lnTo>
                    <a:lnTo>
                      <a:pt x="249" y="0"/>
                    </a:lnTo>
                    <a:lnTo>
                      <a:pt x="0" y="0"/>
                    </a:lnTo>
                    <a:lnTo>
                      <a:pt x="27" y="19"/>
                    </a:lnTo>
                    <a:lnTo>
                      <a:pt x="108" y="33"/>
                    </a:lnTo>
                    <a:lnTo>
                      <a:pt x="184" y="47"/>
                    </a:lnTo>
                    <a:lnTo>
                      <a:pt x="257" y="58"/>
                    </a:lnTo>
                    <a:lnTo>
                      <a:pt x="327" y="67"/>
                    </a:lnTo>
                    <a:lnTo>
                      <a:pt x="393" y="76"/>
                    </a:lnTo>
                    <a:lnTo>
                      <a:pt x="456" y="84"/>
                    </a:lnTo>
                    <a:lnTo>
                      <a:pt x="516" y="90"/>
                    </a:lnTo>
                    <a:lnTo>
                      <a:pt x="573" y="96"/>
                    </a:lnTo>
                    <a:lnTo>
                      <a:pt x="627" y="100"/>
                    </a:lnTo>
                    <a:lnTo>
                      <a:pt x="678" y="104"/>
                    </a:lnTo>
                    <a:lnTo>
                      <a:pt x="726" y="107"/>
                    </a:lnTo>
                    <a:lnTo>
                      <a:pt x="772" y="108"/>
                    </a:lnTo>
                    <a:lnTo>
                      <a:pt x="856" y="112"/>
                    </a:lnTo>
                    <a:lnTo>
                      <a:pt x="931" y="112"/>
                    </a:lnTo>
                    <a:lnTo>
                      <a:pt x="1055" y="110"/>
                    </a:lnTo>
                    <a:lnTo>
                      <a:pt x="1153" y="112"/>
                    </a:lnTo>
                    <a:lnTo>
                      <a:pt x="1174" y="113"/>
                    </a:lnTo>
                    <a:lnTo>
                      <a:pt x="1193" y="114"/>
                    </a:lnTo>
                    <a:lnTo>
                      <a:pt x="1212" y="116"/>
                    </a:lnTo>
                    <a:lnTo>
                      <a:pt x="1229" y="118"/>
                    </a:lnTo>
                    <a:lnTo>
                      <a:pt x="1244" y="121"/>
                    </a:lnTo>
                    <a:lnTo>
                      <a:pt x="1256" y="124"/>
                    </a:lnTo>
                    <a:lnTo>
                      <a:pt x="1264" y="128"/>
                    </a:lnTo>
                    <a:lnTo>
                      <a:pt x="1265" y="128"/>
                    </a:lnTo>
                    <a:lnTo>
                      <a:pt x="1226" y="107"/>
                    </a:lnTo>
                    <a:lnTo>
                      <a:pt x="1249" y="96"/>
                    </a:lnTo>
                    <a:lnTo>
                      <a:pt x="1229" y="84"/>
                    </a:lnTo>
                    <a:lnTo>
                      <a:pt x="1212" y="75"/>
                    </a:lnTo>
                    <a:lnTo>
                      <a:pt x="1249" y="9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6000840" y="3517920"/>
                <a:ext cx="399960" cy="58680"/>
              </a:xfrm>
              <a:custGeom>
                <a:avLst/>
                <a:gdLst/>
                <a:ahLst/>
                <a:rect l="l" t="t" r="r" b="b"/>
                <a:pathLst>
                  <a:path w="1260" h="189">
                    <a:moveTo>
                      <a:pt x="1153" y="69"/>
                    </a:moveTo>
                    <a:lnTo>
                      <a:pt x="1045" y="0"/>
                    </a:lnTo>
                    <a:lnTo>
                      <a:pt x="1030" y="0"/>
                    </a:lnTo>
                    <a:lnTo>
                      <a:pt x="931" y="18"/>
                    </a:lnTo>
                    <a:lnTo>
                      <a:pt x="796" y="44"/>
                    </a:lnTo>
                    <a:lnTo>
                      <a:pt x="721" y="58"/>
                    </a:lnTo>
                    <a:lnTo>
                      <a:pt x="645" y="73"/>
                    </a:lnTo>
                    <a:lnTo>
                      <a:pt x="566" y="85"/>
                    </a:lnTo>
                    <a:lnTo>
                      <a:pt x="486" y="97"/>
                    </a:lnTo>
                    <a:lnTo>
                      <a:pt x="446" y="101"/>
                    </a:lnTo>
                    <a:lnTo>
                      <a:pt x="406" y="106"/>
                    </a:lnTo>
                    <a:lnTo>
                      <a:pt x="368" y="110"/>
                    </a:lnTo>
                    <a:lnTo>
                      <a:pt x="329" y="113"/>
                    </a:lnTo>
                    <a:lnTo>
                      <a:pt x="291" y="115"/>
                    </a:lnTo>
                    <a:lnTo>
                      <a:pt x="255" y="117"/>
                    </a:lnTo>
                    <a:lnTo>
                      <a:pt x="218" y="117"/>
                    </a:lnTo>
                    <a:lnTo>
                      <a:pt x="183" y="116"/>
                    </a:lnTo>
                    <a:lnTo>
                      <a:pt x="150" y="115"/>
                    </a:lnTo>
                    <a:lnTo>
                      <a:pt x="118" y="112"/>
                    </a:lnTo>
                    <a:lnTo>
                      <a:pt x="87" y="108"/>
                    </a:lnTo>
                    <a:lnTo>
                      <a:pt x="60" y="102"/>
                    </a:lnTo>
                    <a:lnTo>
                      <a:pt x="35" y="97"/>
                    </a:lnTo>
                    <a:lnTo>
                      <a:pt x="13" y="90"/>
                    </a:lnTo>
                    <a:lnTo>
                      <a:pt x="10" y="89"/>
                    </a:lnTo>
                    <a:lnTo>
                      <a:pt x="8" y="88"/>
                    </a:lnTo>
                    <a:lnTo>
                      <a:pt x="14" y="91"/>
                    </a:lnTo>
                    <a:lnTo>
                      <a:pt x="23" y="96"/>
                    </a:lnTo>
                    <a:lnTo>
                      <a:pt x="0" y="107"/>
                    </a:lnTo>
                    <a:lnTo>
                      <a:pt x="31" y="124"/>
                    </a:lnTo>
                    <a:lnTo>
                      <a:pt x="60" y="138"/>
                    </a:lnTo>
                    <a:lnTo>
                      <a:pt x="81" y="148"/>
                    </a:lnTo>
                    <a:lnTo>
                      <a:pt x="103" y="156"/>
                    </a:lnTo>
                    <a:lnTo>
                      <a:pt x="134" y="166"/>
                    </a:lnTo>
                    <a:lnTo>
                      <a:pt x="165" y="174"/>
                    </a:lnTo>
                    <a:lnTo>
                      <a:pt x="197" y="180"/>
                    </a:lnTo>
                    <a:lnTo>
                      <a:pt x="228" y="185"/>
                    </a:lnTo>
                    <a:lnTo>
                      <a:pt x="263" y="187"/>
                    </a:lnTo>
                    <a:lnTo>
                      <a:pt x="297" y="189"/>
                    </a:lnTo>
                    <a:lnTo>
                      <a:pt x="332" y="189"/>
                    </a:lnTo>
                    <a:lnTo>
                      <a:pt x="369" y="189"/>
                    </a:lnTo>
                    <a:lnTo>
                      <a:pt x="406" y="188"/>
                    </a:lnTo>
                    <a:lnTo>
                      <a:pt x="445" y="186"/>
                    </a:lnTo>
                    <a:lnTo>
                      <a:pt x="484" y="182"/>
                    </a:lnTo>
                    <a:lnTo>
                      <a:pt x="523" y="179"/>
                    </a:lnTo>
                    <a:lnTo>
                      <a:pt x="562" y="174"/>
                    </a:lnTo>
                    <a:lnTo>
                      <a:pt x="602" y="169"/>
                    </a:lnTo>
                    <a:lnTo>
                      <a:pt x="682" y="157"/>
                    </a:lnTo>
                    <a:lnTo>
                      <a:pt x="762" y="145"/>
                    </a:lnTo>
                    <a:lnTo>
                      <a:pt x="838" y="131"/>
                    </a:lnTo>
                    <a:lnTo>
                      <a:pt x="914" y="116"/>
                    </a:lnTo>
                    <a:lnTo>
                      <a:pt x="1048" y="90"/>
                    </a:lnTo>
                    <a:lnTo>
                      <a:pt x="1159" y="69"/>
                    </a:lnTo>
                    <a:lnTo>
                      <a:pt x="1049" y="0"/>
                    </a:lnTo>
                    <a:lnTo>
                      <a:pt x="1055" y="0"/>
                    </a:lnTo>
                    <a:lnTo>
                      <a:pt x="1260" y="44"/>
                    </a:lnTo>
                    <a:lnTo>
                      <a:pt x="1159" y="69"/>
                    </a:lnTo>
                    <a:lnTo>
                      <a:pt x="1049" y="0"/>
                    </a:lnTo>
                    <a:lnTo>
                      <a:pt x="1049" y="0"/>
                    </a:lnTo>
                    <a:lnTo>
                      <a:pt x="1153" y="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2940120" y="3735360"/>
                <a:ext cx="798480" cy="88920"/>
              </a:xfrm>
              <a:custGeom>
                <a:avLst/>
                <a:gdLst/>
                <a:ahLst/>
                <a:rect l="l" t="t" r="r" b="b"/>
                <a:pathLst>
                  <a:path w="2517" h="281">
                    <a:moveTo>
                      <a:pt x="0" y="76"/>
                    </a:moveTo>
                    <a:lnTo>
                      <a:pt x="45" y="62"/>
                    </a:lnTo>
                    <a:lnTo>
                      <a:pt x="90" y="51"/>
                    </a:lnTo>
                    <a:lnTo>
                      <a:pt x="135" y="42"/>
                    </a:lnTo>
                    <a:lnTo>
                      <a:pt x="181" y="34"/>
                    </a:lnTo>
                    <a:lnTo>
                      <a:pt x="228" y="29"/>
                    </a:lnTo>
                    <a:lnTo>
                      <a:pt x="273" y="26"/>
                    </a:lnTo>
                    <a:lnTo>
                      <a:pt x="320" y="23"/>
                    </a:lnTo>
                    <a:lnTo>
                      <a:pt x="367" y="23"/>
                    </a:lnTo>
                    <a:lnTo>
                      <a:pt x="414" y="24"/>
                    </a:lnTo>
                    <a:lnTo>
                      <a:pt x="460" y="26"/>
                    </a:lnTo>
                    <a:lnTo>
                      <a:pt x="508" y="29"/>
                    </a:lnTo>
                    <a:lnTo>
                      <a:pt x="555" y="32"/>
                    </a:lnTo>
                    <a:lnTo>
                      <a:pt x="648" y="42"/>
                    </a:lnTo>
                    <a:lnTo>
                      <a:pt x="741" y="51"/>
                    </a:lnTo>
                    <a:lnTo>
                      <a:pt x="833" y="60"/>
                    </a:lnTo>
                    <a:lnTo>
                      <a:pt x="923" y="68"/>
                    </a:lnTo>
                    <a:lnTo>
                      <a:pt x="968" y="70"/>
                    </a:lnTo>
                    <a:lnTo>
                      <a:pt x="1012" y="72"/>
                    </a:lnTo>
                    <a:lnTo>
                      <a:pt x="1055" y="72"/>
                    </a:lnTo>
                    <a:lnTo>
                      <a:pt x="1098" y="72"/>
                    </a:lnTo>
                    <a:lnTo>
                      <a:pt x="1140" y="70"/>
                    </a:lnTo>
                    <a:lnTo>
                      <a:pt x="1181" y="67"/>
                    </a:lnTo>
                    <a:lnTo>
                      <a:pt x="1222" y="61"/>
                    </a:lnTo>
                    <a:lnTo>
                      <a:pt x="1262" y="53"/>
                    </a:lnTo>
                    <a:lnTo>
                      <a:pt x="1300" y="44"/>
                    </a:lnTo>
                    <a:lnTo>
                      <a:pt x="1338" y="32"/>
                    </a:lnTo>
                    <a:lnTo>
                      <a:pt x="1376" y="18"/>
                    </a:lnTo>
                    <a:lnTo>
                      <a:pt x="1411" y="0"/>
                    </a:lnTo>
                    <a:lnTo>
                      <a:pt x="1453" y="2"/>
                    </a:lnTo>
                    <a:lnTo>
                      <a:pt x="1493" y="3"/>
                    </a:lnTo>
                    <a:lnTo>
                      <a:pt x="1531" y="5"/>
                    </a:lnTo>
                    <a:lnTo>
                      <a:pt x="1567" y="7"/>
                    </a:lnTo>
                    <a:lnTo>
                      <a:pt x="1603" y="11"/>
                    </a:lnTo>
                    <a:lnTo>
                      <a:pt x="1636" y="15"/>
                    </a:lnTo>
                    <a:lnTo>
                      <a:pt x="1668" y="20"/>
                    </a:lnTo>
                    <a:lnTo>
                      <a:pt x="1699" y="24"/>
                    </a:lnTo>
                    <a:lnTo>
                      <a:pt x="1759" y="36"/>
                    </a:lnTo>
                    <a:lnTo>
                      <a:pt x="1816" y="48"/>
                    </a:lnTo>
                    <a:lnTo>
                      <a:pt x="1872" y="61"/>
                    </a:lnTo>
                    <a:lnTo>
                      <a:pt x="1926" y="75"/>
                    </a:lnTo>
                    <a:lnTo>
                      <a:pt x="1983" y="88"/>
                    </a:lnTo>
                    <a:lnTo>
                      <a:pt x="2043" y="102"/>
                    </a:lnTo>
                    <a:lnTo>
                      <a:pt x="2105" y="113"/>
                    </a:lnTo>
                    <a:lnTo>
                      <a:pt x="2173" y="125"/>
                    </a:lnTo>
                    <a:lnTo>
                      <a:pt x="2209" y="129"/>
                    </a:lnTo>
                    <a:lnTo>
                      <a:pt x="2247" y="134"/>
                    </a:lnTo>
                    <a:lnTo>
                      <a:pt x="2287" y="137"/>
                    </a:lnTo>
                    <a:lnTo>
                      <a:pt x="2328" y="140"/>
                    </a:lnTo>
                    <a:lnTo>
                      <a:pt x="2371" y="143"/>
                    </a:lnTo>
                    <a:lnTo>
                      <a:pt x="2418" y="144"/>
                    </a:lnTo>
                    <a:lnTo>
                      <a:pt x="2466" y="145"/>
                    </a:lnTo>
                    <a:lnTo>
                      <a:pt x="2517" y="145"/>
                    </a:lnTo>
                    <a:lnTo>
                      <a:pt x="2437" y="160"/>
                    </a:lnTo>
                    <a:lnTo>
                      <a:pt x="2364" y="173"/>
                    </a:lnTo>
                    <a:lnTo>
                      <a:pt x="2295" y="184"/>
                    </a:lnTo>
                    <a:lnTo>
                      <a:pt x="2231" y="193"/>
                    </a:lnTo>
                    <a:lnTo>
                      <a:pt x="2171" y="201"/>
                    </a:lnTo>
                    <a:lnTo>
                      <a:pt x="2117" y="208"/>
                    </a:lnTo>
                    <a:lnTo>
                      <a:pt x="2065" y="214"/>
                    </a:lnTo>
                    <a:lnTo>
                      <a:pt x="2019" y="218"/>
                    </a:lnTo>
                    <a:lnTo>
                      <a:pt x="1975" y="222"/>
                    </a:lnTo>
                    <a:lnTo>
                      <a:pt x="1935" y="224"/>
                    </a:lnTo>
                    <a:lnTo>
                      <a:pt x="1899" y="225"/>
                    </a:lnTo>
                    <a:lnTo>
                      <a:pt x="1865" y="226"/>
                    </a:lnTo>
                    <a:lnTo>
                      <a:pt x="1834" y="226"/>
                    </a:lnTo>
                    <a:lnTo>
                      <a:pt x="1806" y="226"/>
                    </a:lnTo>
                    <a:lnTo>
                      <a:pt x="1779" y="225"/>
                    </a:lnTo>
                    <a:lnTo>
                      <a:pt x="1754" y="224"/>
                    </a:lnTo>
                    <a:lnTo>
                      <a:pt x="1673" y="216"/>
                    </a:lnTo>
                    <a:lnTo>
                      <a:pt x="1607" y="209"/>
                    </a:lnTo>
                    <a:lnTo>
                      <a:pt x="1591" y="208"/>
                    </a:lnTo>
                    <a:lnTo>
                      <a:pt x="1575" y="208"/>
                    </a:lnTo>
                    <a:lnTo>
                      <a:pt x="1558" y="208"/>
                    </a:lnTo>
                    <a:lnTo>
                      <a:pt x="1541" y="208"/>
                    </a:lnTo>
                    <a:lnTo>
                      <a:pt x="1523" y="210"/>
                    </a:lnTo>
                    <a:lnTo>
                      <a:pt x="1503" y="213"/>
                    </a:lnTo>
                    <a:lnTo>
                      <a:pt x="1482" y="216"/>
                    </a:lnTo>
                    <a:lnTo>
                      <a:pt x="1460" y="221"/>
                    </a:lnTo>
                    <a:lnTo>
                      <a:pt x="1448" y="237"/>
                    </a:lnTo>
                    <a:lnTo>
                      <a:pt x="1429" y="249"/>
                    </a:lnTo>
                    <a:lnTo>
                      <a:pt x="1408" y="261"/>
                    </a:lnTo>
                    <a:lnTo>
                      <a:pt x="1383" y="269"/>
                    </a:lnTo>
                    <a:lnTo>
                      <a:pt x="1352" y="275"/>
                    </a:lnTo>
                    <a:lnTo>
                      <a:pt x="1319" y="279"/>
                    </a:lnTo>
                    <a:lnTo>
                      <a:pt x="1281" y="281"/>
                    </a:lnTo>
                    <a:lnTo>
                      <a:pt x="1241" y="281"/>
                    </a:lnTo>
                    <a:lnTo>
                      <a:pt x="1199" y="280"/>
                    </a:lnTo>
                    <a:lnTo>
                      <a:pt x="1152" y="277"/>
                    </a:lnTo>
                    <a:lnTo>
                      <a:pt x="1104" y="272"/>
                    </a:lnTo>
                    <a:lnTo>
                      <a:pt x="1054" y="266"/>
                    </a:lnTo>
                    <a:lnTo>
                      <a:pt x="1003" y="259"/>
                    </a:lnTo>
                    <a:lnTo>
                      <a:pt x="949" y="251"/>
                    </a:lnTo>
                    <a:lnTo>
                      <a:pt x="894" y="242"/>
                    </a:lnTo>
                    <a:lnTo>
                      <a:pt x="838" y="233"/>
                    </a:lnTo>
                    <a:lnTo>
                      <a:pt x="724" y="212"/>
                    </a:lnTo>
                    <a:lnTo>
                      <a:pt x="607" y="189"/>
                    </a:lnTo>
                    <a:lnTo>
                      <a:pt x="492" y="166"/>
                    </a:lnTo>
                    <a:lnTo>
                      <a:pt x="379" y="142"/>
                    </a:lnTo>
                    <a:lnTo>
                      <a:pt x="272" y="121"/>
                    </a:lnTo>
                    <a:lnTo>
                      <a:pt x="172" y="102"/>
                    </a:lnTo>
                    <a:lnTo>
                      <a:pt x="125" y="94"/>
                    </a:lnTo>
                    <a:lnTo>
                      <a:pt x="81" y="86"/>
                    </a:lnTo>
                    <a:lnTo>
                      <a:pt x="39" y="8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2921040" y="3724200"/>
                <a:ext cx="485640" cy="46080"/>
              </a:xfrm>
              <a:custGeom>
                <a:avLst/>
                <a:gdLst/>
                <a:ahLst/>
                <a:rect l="l" t="t" r="r" b="b"/>
                <a:pathLst>
                  <a:path w="1529" h="146">
                    <a:moveTo>
                      <a:pt x="1412" y="0"/>
                    </a:moveTo>
                    <a:lnTo>
                      <a:pt x="1410" y="0"/>
                    </a:lnTo>
                    <a:lnTo>
                      <a:pt x="1392" y="9"/>
                    </a:lnTo>
                    <a:lnTo>
                      <a:pt x="1374" y="17"/>
                    </a:lnTo>
                    <a:lnTo>
                      <a:pt x="1355" y="24"/>
                    </a:lnTo>
                    <a:lnTo>
                      <a:pt x="1337" y="31"/>
                    </a:lnTo>
                    <a:lnTo>
                      <a:pt x="1319" y="38"/>
                    </a:lnTo>
                    <a:lnTo>
                      <a:pt x="1299" y="43"/>
                    </a:lnTo>
                    <a:lnTo>
                      <a:pt x="1280" y="48"/>
                    </a:lnTo>
                    <a:lnTo>
                      <a:pt x="1260" y="53"/>
                    </a:lnTo>
                    <a:lnTo>
                      <a:pt x="1222" y="61"/>
                    </a:lnTo>
                    <a:lnTo>
                      <a:pt x="1181" y="65"/>
                    </a:lnTo>
                    <a:lnTo>
                      <a:pt x="1140" y="70"/>
                    </a:lnTo>
                    <a:lnTo>
                      <a:pt x="1099" y="71"/>
                    </a:lnTo>
                    <a:lnTo>
                      <a:pt x="1055" y="72"/>
                    </a:lnTo>
                    <a:lnTo>
                      <a:pt x="1013" y="71"/>
                    </a:lnTo>
                    <a:lnTo>
                      <a:pt x="969" y="70"/>
                    </a:lnTo>
                    <a:lnTo>
                      <a:pt x="925" y="66"/>
                    </a:lnTo>
                    <a:lnTo>
                      <a:pt x="835" y="59"/>
                    </a:lnTo>
                    <a:lnTo>
                      <a:pt x="744" y="50"/>
                    </a:lnTo>
                    <a:lnTo>
                      <a:pt x="651" y="40"/>
                    </a:lnTo>
                    <a:lnTo>
                      <a:pt x="557" y="31"/>
                    </a:lnTo>
                    <a:lnTo>
                      <a:pt x="509" y="27"/>
                    </a:lnTo>
                    <a:lnTo>
                      <a:pt x="462" y="25"/>
                    </a:lnTo>
                    <a:lnTo>
                      <a:pt x="415" y="23"/>
                    </a:lnTo>
                    <a:lnTo>
                      <a:pt x="368" y="22"/>
                    </a:lnTo>
                    <a:lnTo>
                      <a:pt x="321" y="23"/>
                    </a:lnTo>
                    <a:lnTo>
                      <a:pt x="274" y="24"/>
                    </a:lnTo>
                    <a:lnTo>
                      <a:pt x="228" y="27"/>
                    </a:lnTo>
                    <a:lnTo>
                      <a:pt x="181" y="33"/>
                    </a:lnTo>
                    <a:lnTo>
                      <a:pt x="134" y="40"/>
                    </a:lnTo>
                    <a:lnTo>
                      <a:pt x="89" y="49"/>
                    </a:lnTo>
                    <a:lnTo>
                      <a:pt x="66" y="55"/>
                    </a:lnTo>
                    <a:lnTo>
                      <a:pt x="44" y="61"/>
                    </a:lnTo>
                    <a:lnTo>
                      <a:pt x="21" y="67"/>
                    </a:lnTo>
                    <a:lnTo>
                      <a:pt x="0" y="74"/>
                    </a:lnTo>
                    <a:lnTo>
                      <a:pt x="117" y="146"/>
                    </a:lnTo>
                    <a:lnTo>
                      <a:pt x="140" y="139"/>
                    </a:lnTo>
                    <a:lnTo>
                      <a:pt x="161" y="132"/>
                    </a:lnTo>
                    <a:lnTo>
                      <a:pt x="184" y="127"/>
                    </a:lnTo>
                    <a:lnTo>
                      <a:pt x="207" y="121"/>
                    </a:lnTo>
                    <a:lnTo>
                      <a:pt x="252" y="112"/>
                    </a:lnTo>
                    <a:lnTo>
                      <a:pt x="297" y="105"/>
                    </a:lnTo>
                    <a:lnTo>
                      <a:pt x="343" y="99"/>
                    </a:lnTo>
                    <a:lnTo>
                      <a:pt x="389" y="96"/>
                    </a:lnTo>
                    <a:lnTo>
                      <a:pt x="435" y="95"/>
                    </a:lnTo>
                    <a:lnTo>
                      <a:pt x="482" y="95"/>
                    </a:lnTo>
                    <a:lnTo>
                      <a:pt x="529" y="95"/>
                    </a:lnTo>
                    <a:lnTo>
                      <a:pt x="575" y="97"/>
                    </a:lnTo>
                    <a:lnTo>
                      <a:pt x="622" y="99"/>
                    </a:lnTo>
                    <a:lnTo>
                      <a:pt x="669" y="104"/>
                    </a:lnTo>
                    <a:lnTo>
                      <a:pt x="762" y="112"/>
                    </a:lnTo>
                    <a:lnTo>
                      <a:pt x="855" y="122"/>
                    </a:lnTo>
                    <a:lnTo>
                      <a:pt x="947" y="131"/>
                    </a:lnTo>
                    <a:lnTo>
                      <a:pt x="1037" y="139"/>
                    </a:lnTo>
                    <a:lnTo>
                      <a:pt x="1083" y="142"/>
                    </a:lnTo>
                    <a:lnTo>
                      <a:pt x="1126" y="143"/>
                    </a:lnTo>
                    <a:lnTo>
                      <a:pt x="1170" y="144"/>
                    </a:lnTo>
                    <a:lnTo>
                      <a:pt x="1214" y="143"/>
                    </a:lnTo>
                    <a:lnTo>
                      <a:pt x="1256" y="142"/>
                    </a:lnTo>
                    <a:lnTo>
                      <a:pt x="1297" y="137"/>
                    </a:lnTo>
                    <a:lnTo>
                      <a:pt x="1338" y="132"/>
                    </a:lnTo>
                    <a:lnTo>
                      <a:pt x="1378" y="124"/>
                    </a:lnTo>
                    <a:lnTo>
                      <a:pt x="1398" y="120"/>
                    </a:lnTo>
                    <a:lnTo>
                      <a:pt x="1418" y="115"/>
                    </a:lnTo>
                    <a:lnTo>
                      <a:pt x="1437" y="110"/>
                    </a:lnTo>
                    <a:lnTo>
                      <a:pt x="1455" y="103"/>
                    </a:lnTo>
                    <a:lnTo>
                      <a:pt x="1475" y="96"/>
                    </a:lnTo>
                    <a:lnTo>
                      <a:pt x="1493" y="88"/>
                    </a:lnTo>
                    <a:lnTo>
                      <a:pt x="1511" y="80"/>
                    </a:lnTo>
                    <a:lnTo>
                      <a:pt x="1529" y="71"/>
                    </a:lnTo>
                    <a:lnTo>
                      <a:pt x="1527" y="72"/>
                    </a:lnTo>
                    <a:lnTo>
                      <a:pt x="1412" y="0"/>
                    </a:lnTo>
                    <a:lnTo>
                      <a:pt x="1411" y="0"/>
                    </a:lnTo>
                    <a:lnTo>
                      <a:pt x="1410" y="0"/>
                    </a:lnTo>
                    <a:lnTo>
                      <a:pt x="141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3370320" y="3724200"/>
                <a:ext cx="431640" cy="68400"/>
              </a:xfrm>
              <a:custGeom>
                <a:avLst/>
                <a:gdLst/>
                <a:ahLst/>
                <a:rect l="l" t="t" r="r" b="b"/>
                <a:pathLst>
                  <a:path w="1360" h="217">
                    <a:moveTo>
                      <a:pt x="1221" y="217"/>
                    </a:moveTo>
                    <a:lnTo>
                      <a:pt x="1105" y="145"/>
                    </a:lnTo>
                    <a:lnTo>
                      <a:pt x="1055" y="144"/>
                    </a:lnTo>
                    <a:lnTo>
                      <a:pt x="1007" y="144"/>
                    </a:lnTo>
                    <a:lnTo>
                      <a:pt x="961" y="142"/>
                    </a:lnTo>
                    <a:lnTo>
                      <a:pt x="918" y="139"/>
                    </a:lnTo>
                    <a:lnTo>
                      <a:pt x="877" y="136"/>
                    </a:lnTo>
                    <a:lnTo>
                      <a:pt x="837" y="132"/>
                    </a:lnTo>
                    <a:lnTo>
                      <a:pt x="799" y="128"/>
                    </a:lnTo>
                    <a:lnTo>
                      <a:pt x="764" y="123"/>
                    </a:lnTo>
                    <a:lnTo>
                      <a:pt x="698" y="113"/>
                    </a:lnTo>
                    <a:lnTo>
                      <a:pt x="636" y="101"/>
                    </a:lnTo>
                    <a:lnTo>
                      <a:pt x="577" y="88"/>
                    </a:lnTo>
                    <a:lnTo>
                      <a:pt x="521" y="74"/>
                    </a:lnTo>
                    <a:lnTo>
                      <a:pt x="465" y="62"/>
                    </a:lnTo>
                    <a:lnTo>
                      <a:pt x="409" y="48"/>
                    </a:lnTo>
                    <a:lnTo>
                      <a:pt x="351" y="35"/>
                    </a:lnTo>
                    <a:lnTo>
                      <a:pt x="291" y="24"/>
                    </a:lnTo>
                    <a:lnTo>
                      <a:pt x="259" y="18"/>
                    </a:lnTo>
                    <a:lnTo>
                      <a:pt x="227" y="15"/>
                    </a:lnTo>
                    <a:lnTo>
                      <a:pt x="193" y="10"/>
                    </a:lnTo>
                    <a:lnTo>
                      <a:pt x="157" y="7"/>
                    </a:lnTo>
                    <a:lnTo>
                      <a:pt x="121" y="4"/>
                    </a:lnTo>
                    <a:lnTo>
                      <a:pt x="83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15" y="72"/>
                    </a:lnTo>
                    <a:lnTo>
                      <a:pt x="156" y="72"/>
                    </a:lnTo>
                    <a:lnTo>
                      <a:pt x="196" y="74"/>
                    </a:lnTo>
                    <a:lnTo>
                      <a:pt x="234" y="77"/>
                    </a:lnTo>
                    <a:lnTo>
                      <a:pt x="269" y="79"/>
                    </a:lnTo>
                    <a:lnTo>
                      <a:pt x="304" y="82"/>
                    </a:lnTo>
                    <a:lnTo>
                      <a:pt x="338" y="86"/>
                    </a:lnTo>
                    <a:lnTo>
                      <a:pt x="368" y="90"/>
                    </a:lnTo>
                    <a:lnTo>
                      <a:pt x="399" y="96"/>
                    </a:lnTo>
                    <a:lnTo>
                      <a:pt x="457" y="106"/>
                    </a:lnTo>
                    <a:lnTo>
                      <a:pt x="514" y="119"/>
                    </a:lnTo>
                    <a:lnTo>
                      <a:pt x="569" y="131"/>
                    </a:lnTo>
                    <a:lnTo>
                      <a:pt x="625" y="145"/>
                    </a:lnTo>
                    <a:lnTo>
                      <a:pt x="682" y="159"/>
                    </a:lnTo>
                    <a:lnTo>
                      <a:pt x="742" y="172"/>
                    </a:lnTo>
                    <a:lnTo>
                      <a:pt x="805" y="184"/>
                    </a:lnTo>
                    <a:lnTo>
                      <a:pt x="873" y="195"/>
                    </a:lnTo>
                    <a:lnTo>
                      <a:pt x="911" y="200"/>
                    </a:lnTo>
                    <a:lnTo>
                      <a:pt x="949" y="204"/>
                    </a:lnTo>
                    <a:lnTo>
                      <a:pt x="988" y="208"/>
                    </a:lnTo>
                    <a:lnTo>
                      <a:pt x="1029" y="211"/>
                    </a:lnTo>
                    <a:lnTo>
                      <a:pt x="1074" y="213"/>
                    </a:lnTo>
                    <a:lnTo>
                      <a:pt x="1120" y="216"/>
                    </a:lnTo>
                    <a:lnTo>
                      <a:pt x="1169" y="217"/>
                    </a:lnTo>
                    <a:lnTo>
                      <a:pt x="1220" y="217"/>
                    </a:lnTo>
                    <a:lnTo>
                      <a:pt x="1104" y="145"/>
                    </a:lnTo>
                    <a:lnTo>
                      <a:pt x="1221" y="217"/>
                    </a:lnTo>
                    <a:lnTo>
                      <a:pt x="1360" y="182"/>
                    </a:lnTo>
                    <a:lnTo>
                      <a:pt x="1105" y="145"/>
                    </a:lnTo>
                    <a:lnTo>
                      <a:pt x="1221" y="2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3384720" y="3770280"/>
                <a:ext cx="372960" cy="47520"/>
              </a:xfrm>
              <a:custGeom>
                <a:avLst/>
                <a:gdLst/>
                <a:ahLst/>
                <a:rect l="l" t="t" r="r" b="b"/>
                <a:pathLst>
                  <a:path w="1175" h="153">
                    <a:moveTo>
                      <a:pt x="121" y="145"/>
                    </a:moveTo>
                    <a:lnTo>
                      <a:pt x="118" y="146"/>
                    </a:lnTo>
                    <a:lnTo>
                      <a:pt x="141" y="143"/>
                    </a:lnTo>
                    <a:lnTo>
                      <a:pt x="162" y="139"/>
                    </a:lnTo>
                    <a:lnTo>
                      <a:pt x="181" y="136"/>
                    </a:lnTo>
                    <a:lnTo>
                      <a:pt x="199" y="135"/>
                    </a:lnTo>
                    <a:lnTo>
                      <a:pt x="215" y="133"/>
                    </a:lnTo>
                    <a:lnTo>
                      <a:pt x="232" y="133"/>
                    </a:lnTo>
                    <a:lnTo>
                      <a:pt x="248" y="135"/>
                    </a:lnTo>
                    <a:lnTo>
                      <a:pt x="263" y="135"/>
                    </a:lnTo>
                    <a:lnTo>
                      <a:pt x="329" y="143"/>
                    </a:lnTo>
                    <a:lnTo>
                      <a:pt x="411" y="149"/>
                    </a:lnTo>
                    <a:lnTo>
                      <a:pt x="435" y="152"/>
                    </a:lnTo>
                    <a:lnTo>
                      <a:pt x="463" y="152"/>
                    </a:lnTo>
                    <a:lnTo>
                      <a:pt x="491" y="153"/>
                    </a:lnTo>
                    <a:lnTo>
                      <a:pt x="522" y="153"/>
                    </a:lnTo>
                    <a:lnTo>
                      <a:pt x="556" y="152"/>
                    </a:lnTo>
                    <a:lnTo>
                      <a:pt x="594" y="151"/>
                    </a:lnTo>
                    <a:lnTo>
                      <a:pt x="634" y="147"/>
                    </a:lnTo>
                    <a:lnTo>
                      <a:pt x="677" y="144"/>
                    </a:lnTo>
                    <a:lnTo>
                      <a:pt x="724" y="140"/>
                    </a:lnTo>
                    <a:lnTo>
                      <a:pt x="775" y="135"/>
                    </a:lnTo>
                    <a:lnTo>
                      <a:pt x="830" y="128"/>
                    </a:lnTo>
                    <a:lnTo>
                      <a:pt x="890" y="119"/>
                    </a:lnTo>
                    <a:lnTo>
                      <a:pt x="954" y="110"/>
                    </a:lnTo>
                    <a:lnTo>
                      <a:pt x="1022" y="98"/>
                    </a:lnTo>
                    <a:lnTo>
                      <a:pt x="1096" y="86"/>
                    </a:lnTo>
                    <a:lnTo>
                      <a:pt x="1175" y="72"/>
                    </a:lnTo>
                    <a:lnTo>
                      <a:pt x="1058" y="0"/>
                    </a:lnTo>
                    <a:lnTo>
                      <a:pt x="979" y="14"/>
                    </a:lnTo>
                    <a:lnTo>
                      <a:pt x="905" y="26"/>
                    </a:lnTo>
                    <a:lnTo>
                      <a:pt x="836" y="38"/>
                    </a:lnTo>
                    <a:lnTo>
                      <a:pt x="773" y="47"/>
                    </a:lnTo>
                    <a:lnTo>
                      <a:pt x="713" y="55"/>
                    </a:lnTo>
                    <a:lnTo>
                      <a:pt x="659" y="62"/>
                    </a:lnTo>
                    <a:lnTo>
                      <a:pt x="607" y="67"/>
                    </a:lnTo>
                    <a:lnTo>
                      <a:pt x="561" y="72"/>
                    </a:lnTo>
                    <a:lnTo>
                      <a:pt x="517" y="75"/>
                    </a:lnTo>
                    <a:lnTo>
                      <a:pt x="477" y="78"/>
                    </a:lnTo>
                    <a:lnTo>
                      <a:pt x="441" y="80"/>
                    </a:lnTo>
                    <a:lnTo>
                      <a:pt x="408" y="80"/>
                    </a:lnTo>
                    <a:lnTo>
                      <a:pt x="377" y="81"/>
                    </a:lnTo>
                    <a:lnTo>
                      <a:pt x="349" y="80"/>
                    </a:lnTo>
                    <a:lnTo>
                      <a:pt x="322" y="79"/>
                    </a:lnTo>
                    <a:lnTo>
                      <a:pt x="298" y="78"/>
                    </a:lnTo>
                    <a:lnTo>
                      <a:pt x="219" y="70"/>
                    </a:lnTo>
                    <a:lnTo>
                      <a:pt x="151" y="63"/>
                    </a:lnTo>
                    <a:lnTo>
                      <a:pt x="134" y="62"/>
                    </a:lnTo>
                    <a:lnTo>
                      <a:pt x="118" y="62"/>
                    </a:lnTo>
                    <a:lnTo>
                      <a:pt x="101" y="62"/>
                    </a:lnTo>
                    <a:lnTo>
                      <a:pt x="83" y="63"/>
                    </a:lnTo>
                    <a:lnTo>
                      <a:pt x="65" y="64"/>
                    </a:lnTo>
                    <a:lnTo>
                      <a:pt x="44" y="66"/>
                    </a:lnTo>
                    <a:lnTo>
                      <a:pt x="24" y="70"/>
                    </a:lnTo>
                    <a:lnTo>
                      <a:pt x="1" y="74"/>
                    </a:lnTo>
                    <a:lnTo>
                      <a:pt x="0" y="75"/>
                    </a:lnTo>
                    <a:lnTo>
                      <a:pt x="1" y="74"/>
                    </a:lnTo>
                    <a:lnTo>
                      <a:pt x="0" y="74"/>
                    </a:lnTo>
                    <a:lnTo>
                      <a:pt x="0" y="75"/>
                    </a:lnTo>
                    <a:lnTo>
                      <a:pt x="121" y="14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2894040" y="3746520"/>
                <a:ext cx="528480" cy="88920"/>
              </a:xfrm>
              <a:custGeom>
                <a:avLst/>
                <a:gdLst/>
                <a:ahLst/>
                <a:rect l="l" t="t" r="r" b="b"/>
                <a:pathLst>
                  <a:path w="1668" h="279">
                    <a:moveTo>
                      <a:pt x="89" y="0"/>
                    </a:moveTo>
                    <a:lnTo>
                      <a:pt x="203" y="72"/>
                    </a:lnTo>
                    <a:lnTo>
                      <a:pt x="241" y="78"/>
                    </a:lnTo>
                    <a:lnTo>
                      <a:pt x="282" y="84"/>
                    </a:lnTo>
                    <a:lnTo>
                      <a:pt x="326" y="90"/>
                    </a:lnTo>
                    <a:lnTo>
                      <a:pt x="372" y="98"/>
                    </a:lnTo>
                    <a:lnTo>
                      <a:pt x="473" y="118"/>
                    </a:lnTo>
                    <a:lnTo>
                      <a:pt x="580" y="139"/>
                    </a:lnTo>
                    <a:lnTo>
                      <a:pt x="692" y="162"/>
                    </a:lnTo>
                    <a:lnTo>
                      <a:pt x="807" y="185"/>
                    </a:lnTo>
                    <a:lnTo>
                      <a:pt x="923" y="209"/>
                    </a:lnTo>
                    <a:lnTo>
                      <a:pt x="1038" y="230"/>
                    </a:lnTo>
                    <a:lnTo>
                      <a:pt x="1095" y="240"/>
                    </a:lnTo>
                    <a:lnTo>
                      <a:pt x="1150" y="249"/>
                    </a:lnTo>
                    <a:lnTo>
                      <a:pt x="1205" y="257"/>
                    </a:lnTo>
                    <a:lnTo>
                      <a:pt x="1257" y="264"/>
                    </a:lnTo>
                    <a:lnTo>
                      <a:pt x="1307" y="270"/>
                    </a:lnTo>
                    <a:lnTo>
                      <a:pt x="1356" y="274"/>
                    </a:lnTo>
                    <a:lnTo>
                      <a:pt x="1402" y="278"/>
                    </a:lnTo>
                    <a:lnTo>
                      <a:pt x="1445" y="279"/>
                    </a:lnTo>
                    <a:lnTo>
                      <a:pt x="1486" y="279"/>
                    </a:lnTo>
                    <a:lnTo>
                      <a:pt x="1524" y="276"/>
                    </a:lnTo>
                    <a:lnTo>
                      <a:pt x="1541" y="274"/>
                    </a:lnTo>
                    <a:lnTo>
                      <a:pt x="1558" y="272"/>
                    </a:lnTo>
                    <a:lnTo>
                      <a:pt x="1573" y="270"/>
                    </a:lnTo>
                    <a:lnTo>
                      <a:pt x="1588" y="266"/>
                    </a:lnTo>
                    <a:lnTo>
                      <a:pt x="1601" y="262"/>
                    </a:lnTo>
                    <a:lnTo>
                      <a:pt x="1615" y="257"/>
                    </a:lnTo>
                    <a:lnTo>
                      <a:pt x="1626" y="252"/>
                    </a:lnTo>
                    <a:lnTo>
                      <a:pt x="1637" y="247"/>
                    </a:lnTo>
                    <a:lnTo>
                      <a:pt x="1646" y="240"/>
                    </a:lnTo>
                    <a:lnTo>
                      <a:pt x="1654" y="233"/>
                    </a:lnTo>
                    <a:lnTo>
                      <a:pt x="1662" y="225"/>
                    </a:lnTo>
                    <a:lnTo>
                      <a:pt x="1668" y="216"/>
                    </a:lnTo>
                    <a:lnTo>
                      <a:pt x="1547" y="146"/>
                    </a:lnTo>
                    <a:lnTo>
                      <a:pt x="1541" y="154"/>
                    </a:lnTo>
                    <a:lnTo>
                      <a:pt x="1534" y="162"/>
                    </a:lnTo>
                    <a:lnTo>
                      <a:pt x="1526" y="169"/>
                    </a:lnTo>
                    <a:lnTo>
                      <a:pt x="1517" y="175"/>
                    </a:lnTo>
                    <a:lnTo>
                      <a:pt x="1507" y="181"/>
                    </a:lnTo>
                    <a:lnTo>
                      <a:pt x="1495" y="185"/>
                    </a:lnTo>
                    <a:lnTo>
                      <a:pt x="1483" y="190"/>
                    </a:lnTo>
                    <a:lnTo>
                      <a:pt x="1470" y="194"/>
                    </a:lnTo>
                    <a:lnTo>
                      <a:pt x="1455" y="198"/>
                    </a:lnTo>
                    <a:lnTo>
                      <a:pt x="1441" y="200"/>
                    </a:lnTo>
                    <a:lnTo>
                      <a:pt x="1425" y="202"/>
                    </a:lnTo>
                    <a:lnTo>
                      <a:pt x="1408" y="204"/>
                    </a:lnTo>
                    <a:lnTo>
                      <a:pt x="1371" y="206"/>
                    </a:lnTo>
                    <a:lnTo>
                      <a:pt x="1331" y="207"/>
                    </a:lnTo>
                    <a:lnTo>
                      <a:pt x="1289" y="204"/>
                    </a:lnTo>
                    <a:lnTo>
                      <a:pt x="1243" y="202"/>
                    </a:lnTo>
                    <a:lnTo>
                      <a:pt x="1196" y="198"/>
                    </a:lnTo>
                    <a:lnTo>
                      <a:pt x="1147" y="192"/>
                    </a:lnTo>
                    <a:lnTo>
                      <a:pt x="1095" y="185"/>
                    </a:lnTo>
                    <a:lnTo>
                      <a:pt x="1042" y="177"/>
                    </a:lnTo>
                    <a:lnTo>
                      <a:pt x="987" y="168"/>
                    </a:lnTo>
                    <a:lnTo>
                      <a:pt x="931" y="159"/>
                    </a:lnTo>
                    <a:lnTo>
                      <a:pt x="817" y="137"/>
                    </a:lnTo>
                    <a:lnTo>
                      <a:pt x="701" y="114"/>
                    </a:lnTo>
                    <a:lnTo>
                      <a:pt x="586" y="90"/>
                    </a:lnTo>
                    <a:lnTo>
                      <a:pt x="474" y="68"/>
                    </a:lnTo>
                    <a:lnTo>
                      <a:pt x="366" y="46"/>
                    </a:lnTo>
                    <a:lnTo>
                      <a:pt x="265" y="28"/>
                    </a:lnTo>
                    <a:lnTo>
                      <a:pt x="217" y="19"/>
                    </a:lnTo>
                    <a:lnTo>
                      <a:pt x="173" y="12"/>
                    </a:lnTo>
                    <a:lnTo>
                      <a:pt x="131" y="6"/>
                    </a:lnTo>
                    <a:lnTo>
                      <a:pt x="92" y="0"/>
                    </a:lnTo>
                    <a:lnTo>
                      <a:pt x="206" y="72"/>
                    </a:lnTo>
                    <a:lnTo>
                      <a:pt x="89" y="0"/>
                    </a:lnTo>
                    <a:lnTo>
                      <a:pt x="0" y="46"/>
                    </a:lnTo>
                    <a:lnTo>
                      <a:pt x="203" y="72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5740560" y="3746520"/>
                <a:ext cx="768240" cy="88920"/>
              </a:xfrm>
              <a:custGeom>
                <a:avLst/>
                <a:gdLst/>
                <a:ahLst/>
                <a:rect l="l" t="t" r="r" b="b"/>
                <a:pathLst>
                  <a:path w="2422" h="280">
                    <a:moveTo>
                      <a:pt x="2422" y="48"/>
                    </a:moveTo>
                    <a:lnTo>
                      <a:pt x="2379" y="40"/>
                    </a:lnTo>
                    <a:lnTo>
                      <a:pt x="2337" y="33"/>
                    </a:lnTo>
                    <a:lnTo>
                      <a:pt x="2293" y="28"/>
                    </a:lnTo>
                    <a:lnTo>
                      <a:pt x="2250" y="25"/>
                    </a:lnTo>
                    <a:lnTo>
                      <a:pt x="2207" y="23"/>
                    </a:lnTo>
                    <a:lnTo>
                      <a:pt x="2163" y="23"/>
                    </a:lnTo>
                    <a:lnTo>
                      <a:pt x="2119" y="23"/>
                    </a:lnTo>
                    <a:lnTo>
                      <a:pt x="2076" y="24"/>
                    </a:lnTo>
                    <a:lnTo>
                      <a:pt x="2031" y="26"/>
                    </a:lnTo>
                    <a:lnTo>
                      <a:pt x="1988" y="29"/>
                    </a:lnTo>
                    <a:lnTo>
                      <a:pt x="1943" y="33"/>
                    </a:lnTo>
                    <a:lnTo>
                      <a:pt x="1900" y="37"/>
                    </a:lnTo>
                    <a:lnTo>
                      <a:pt x="1813" y="45"/>
                    </a:lnTo>
                    <a:lnTo>
                      <a:pt x="1727" y="54"/>
                    </a:lnTo>
                    <a:lnTo>
                      <a:pt x="1641" y="62"/>
                    </a:lnTo>
                    <a:lnTo>
                      <a:pt x="1558" y="69"/>
                    </a:lnTo>
                    <a:lnTo>
                      <a:pt x="1517" y="70"/>
                    </a:lnTo>
                    <a:lnTo>
                      <a:pt x="1476" y="72"/>
                    </a:lnTo>
                    <a:lnTo>
                      <a:pt x="1436" y="72"/>
                    </a:lnTo>
                    <a:lnTo>
                      <a:pt x="1396" y="70"/>
                    </a:lnTo>
                    <a:lnTo>
                      <a:pt x="1357" y="67"/>
                    </a:lnTo>
                    <a:lnTo>
                      <a:pt x="1319" y="64"/>
                    </a:lnTo>
                    <a:lnTo>
                      <a:pt x="1281" y="58"/>
                    </a:lnTo>
                    <a:lnTo>
                      <a:pt x="1245" y="50"/>
                    </a:lnTo>
                    <a:lnTo>
                      <a:pt x="1208" y="41"/>
                    </a:lnTo>
                    <a:lnTo>
                      <a:pt x="1173" y="29"/>
                    </a:lnTo>
                    <a:lnTo>
                      <a:pt x="1139" y="16"/>
                    </a:lnTo>
                    <a:lnTo>
                      <a:pt x="1104" y="0"/>
                    </a:lnTo>
                    <a:lnTo>
                      <a:pt x="1063" y="0"/>
                    </a:lnTo>
                    <a:lnTo>
                      <a:pt x="1022" y="2"/>
                    </a:lnTo>
                    <a:lnTo>
                      <a:pt x="985" y="4"/>
                    </a:lnTo>
                    <a:lnTo>
                      <a:pt x="948" y="7"/>
                    </a:lnTo>
                    <a:lnTo>
                      <a:pt x="914" y="10"/>
                    </a:lnTo>
                    <a:lnTo>
                      <a:pt x="880" y="15"/>
                    </a:lnTo>
                    <a:lnTo>
                      <a:pt x="848" y="19"/>
                    </a:lnTo>
                    <a:lnTo>
                      <a:pt x="817" y="24"/>
                    </a:lnTo>
                    <a:lnTo>
                      <a:pt x="758" y="35"/>
                    </a:lnTo>
                    <a:lnTo>
                      <a:pt x="701" y="48"/>
                    </a:lnTo>
                    <a:lnTo>
                      <a:pt x="645" y="60"/>
                    </a:lnTo>
                    <a:lnTo>
                      <a:pt x="589" y="74"/>
                    </a:lnTo>
                    <a:lnTo>
                      <a:pt x="532" y="88"/>
                    </a:lnTo>
                    <a:lnTo>
                      <a:pt x="474" y="100"/>
                    </a:lnTo>
                    <a:lnTo>
                      <a:pt x="410" y="113"/>
                    </a:lnTo>
                    <a:lnTo>
                      <a:pt x="343" y="123"/>
                    </a:lnTo>
                    <a:lnTo>
                      <a:pt x="307" y="127"/>
                    </a:lnTo>
                    <a:lnTo>
                      <a:pt x="270" y="132"/>
                    </a:lnTo>
                    <a:lnTo>
                      <a:pt x="230" y="135"/>
                    </a:lnTo>
                    <a:lnTo>
                      <a:pt x="189" y="139"/>
                    </a:lnTo>
                    <a:lnTo>
                      <a:pt x="144" y="141"/>
                    </a:lnTo>
                    <a:lnTo>
                      <a:pt x="99" y="143"/>
                    </a:lnTo>
                    <a:lnTo>
                      <a:pt x="51" y="145"/>
                    </a:lnTo>
                    <a:lnTo>
                      <a:pt x="0" y="145"/>
                    </a:lnTo>
                    <a:lnTo>
                      <a:pt x="78" y="158"/>
                    </a:lnTo>
                    <a:lnTo>
                      <a:pt x="152" y="171"/>
                    </a:lnTo>
                    <a:lnTo>
                      <a:pt x="221" y="182"/>
                    </a:lnTo>
                    <a:lnTo>
                      <a:pt x="285" y="191"/>
                    </a:lnTo>
                    <a:lnTo>
                      <a:pt x="344" y="200"/>
                    </a:lnTo>
                    <a:lnTo>
                      <a:pt x="400" y="207"/>
                    </a:lnTo>
                    <a:lnTo>
                      <a:pt x="450" y="213"/>
                    </a:lnTo>
                    <a:lnTo>
                      <a:pt x="498" y="216"/>
                    </a:lnTo>
                    <a:lnTo>
                      <a:pt x="541" y="220"/>
                    </a:lnTo>
                    <a:lnTo>
                      <a:pt x="581" y="223"/>
                    </a:lnTo>
                    <a:lnTo>
                      <a:pt x="618" y="224"/>
                    </a:lnTo>
                    <a:lnTo>
                      <a:pt x="652" y="226"/>
                    </a:lnTo>
                    <a:lnTo>
                      <a:pt x="683" y="226"/>
                    </a:lnTo>
                    <a:lnTo>
                      <a:pt x="711" y="224"/>
                    </a:lnTo>
                    <a:lnTo>
                      <a:pt x="737" y="224"/>
                    </a:lnTo>
                    <a:lnTo>
                      <a:pt x="761" y="222"/>
                    </a:lnTo>
                    <a:lnTo>
                      <a:pt x="842" y="215"/>
                    </a:lnTo>
                    <a:lnTo>
                      <a:pt x="909" y="207"/>
                    </a:lnTo>
                    <a:lnTo>
                      <a:pt x="925" y="207"/>
                    </a:lnTo>
                    <a:lnTo>
                      <a:pt x="941" y="206"/>
                    </a:lnTo>
                    <a:lnTo>
                      <a:pt x="958" y="206"/>
                    </a:lnTo>
                    <a:lnTo>
                      <a:pt x="975" y="207"/>
                    </a:lnTo>
                    <a:lnTo>
                      <a:pt x="994" y="210"/>
                    </a:lnTo>
                    <a:lnTo>
                      <a:pt x="1013" y="212"/>
                    </a:lnTo>
                    <a:lnTo>
                      <a:pt x="1034" y="215"/>
                    </a:lnTo>
                    <a:lnTo>
                      <a:pt x="1056" y="219"/>
                    </a:lnTo>
                    <a:lnTo>
                      <a:pt x="1068" y="234"/>
                    </a:lnTo>
                    <a:lnTo>
                      <a:pt x="1084" y="246"/>
                    </a:lnTo>
                    <a:lnTo>
                      <a:pt x="1103" y="258"/>
                    </a:lnTo>
                    <a:lnTo>
                      <a:pt x="1126" y="266"/>
                    </a:lnTo>
                    <a:lnTo>
                      <a:pt x="1152" y="271"/>
                    </a:lnTo>
                    <a:lnTo>
                      <a:pt x="1183" y="276"/>
                    </a:lnTo>
                    <a:lnTo>
                      <a:pt x="1215" y="279"/>
                    </a:lnTo>
                    <a:lnTo>
                      <a:pt x="1251" y="280"/>
                    </a:lnTo>
                    <a:lnTo>
                      <a:pt x="1289" y="280"/>
                    </a:lnTo>
                    <a:lnTo>
                      <a:pt x="1330" y="278"/>
                    </a:lnTo>
                    <a:lnTo>
                      <a:pt x="1373" y="275"/>
                    </a:lnTo>
                    <a:lnTo>
                      <a:pt x="1418" y="270"/>
                    </a:lnTo>
                    <a:lnTo>
                      <a:pt x="1465" y="266"/>
                    </a:lnTo>
                    <a:lnTo>
                      <a:pt x="1512" y="259"/>
                    </a:lnTo>
                    <a:lnTo>
                      <a:pt x="1563" y="252"/>
                    </a:lnTo>
                    <a:lnTo>
                      <a:pt x="1614" y="243"/>
                    </a:lnTo>
                    <a:lnTo>
                      <a:pt x="1718" y="224"/>
                    </a:lnTo>
                    <a:lnTo>
                      <a:pt x="1825" y="204"/>
                    </a:lnTo>
                    <a:lnTo>
                      <a:pt x="1932" y="183"/>
                    </a:lnTo>
                    <a:lnTo>
                      <a:pt x="2039" y="162"/>
                    </a:lnTo>
                    <a:lnTo>
                      <a:pt x="2143" y="140"/>
                    </a:lnTo>
                    <a:lnTo>
                      <a:pt x="2242" y="119"/>
                    </a:lnTo>
                    <a:lnTo>
                      <a:pt x="2336" y="102"/>
                    </a:lnTo>
                    <a:lnTo>
                      <a:pt x="2422" y="88"/>
                    </a:lnTo>
                    <a:lnTo>
                      <a:pt x="2422" y="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6072120" y="3733920"/>
                <a:ext cx="436680" cy="46080"/>
              </a:xfrm>
              <a:custGeom>
                <a:avLst/>
                <a:gdLst/>
                <a:ahLst/>
                <a:rect l="l" t="t" r="r" b="b"/>
                <a:pathLst>
                  <a:path w="1375" h="145">
                    <a:moveTo>
                      <a:pt x="114" y="72"/>
                    </a:moveTo>
                    <a:lnTo>
                      <a:pt x="71" y="56"/>
                    </a:lnTo>
                    <a:lnTo>
                      <a:pt x="99" y="70"/>
                    </a:lnTo>
                    <a:lnTo>
                      <a:pt x="127" y="82"/>
                    </a:lnTo>
                    <a:lnTo>
                      <a:pt x="152" y="93"/>
                    </a:lnTo>
                    <a:lnTo>
                      <a:pt x="175" y="101"/>
                    </a:lnTo>
                    <a:lnTo>
                      <a:pt x="196" y="109"/>
                    </a:lnTo>
                    <a:lnTo>
                      <a:pt x="218" y="114"/>
                    </a:lnTo>
                    <a:lnTo>
                      <a:pt x="240" y="120"/>
                    </a:lnTo>
                    <a:lnTo>
                      <a:pt x="260" y="125"/>
                    </a:lnTo>
                    <a:lnTo>
                      <a:pt x="301" y="133"/>
                    </a:lnTo>
                    <a:lnTo>
                      <a:pt x="343" y="138"/>
                    </a:lnTo>
                    <a:lnTo>
                      <a:pt x="386" y="142"/>
                    </a:lnTo>
                    <a:lnTo>
                      <a:pt x="428" y="144"/>
                    </a:lnTo>
                    <a:lnTo>
                      <a:pt x="471" y="145"/>
                    </a:lnTo>
                    <a:lnTo>
                      <a:pt x="514" y="144"/>
                    </a:lnTo>
                    <a:lnTo>
                      <a:pt x="559" y="143"/>
                    </a:lnTo>
                    <a:lnTo>
                      <a:pt x="605" y="139"/>
                    </a:lnTo>
                    <a:lnTo>
                      <a:pt x="695" y="133"/>
                    </a:lnTo>
                    <a:lnTo>
                      <a:pt x="786" y="122"/>
                    </a:lnTo>
                    <a:lnTo>
                      <a:pt x="879" y="113"/>
                    </a:lnTo>
                    <a:lnTo>
                      <a:pt x="973" y="104"/>
                    </a:lnTo>
                    <a:lnTo>
                      <a:pt x="1019" y="101"/>
                    </a:lnTo>
                    <a:lnTo>
                      <a:pt x="1066" y="98"/>
                    </a:lnTo>
                    <a:lnTo>
                      <a:pt x="1113" y="96"/>
                    </a:lnTo>
                    <a:lnTo>
                      <a:pt x="1160" y="95"/>
                    </a:lnTo>
                    <a:lnTo>
                      <a:pt x="1205" y="95"/>
                    </a:lnTo>
                    <a:lnTo>
                      <a:pt x="1252" y="97"/>
                    </a:lnTo>
                    <a:lnTo>
                      <a:pt x="1298" y="101"/>
                    </a:lnTo>
                    <a:lnTo>
                      <a:pt x="1343" y="105"/>
                    </a:lnTo>
                    <a:lnTo>
                      <a:pt x="1375" y="111"/>
                    </a:lnTo>
                    <a:lnTo>
                      <a:pt x="1375" y="63"/>
                    </a:lnTo>
                    <a:lnTo>
                      <a:pt x="1351" y="56"/>
                    </a:lnTo>
                    <a:lnTo>
                      <a:pt x="1326" y="50"/>
                    </a:lnTo>
                    <a:lnTo>
                      <a:pt x="1281" y="41"/>
                    </a:lnTo>
                    <a:lnTo>
                      <a:pt x="1233" y="33"/>
                    </a:lnTo>
                    <a:lnTo>
                      <a:pt x="1186" y="29"/>
                    </a:lnTo>
                    <a:lnTo>
                      <a:pt x="1139" y="25"/>
                    </a:lnTo>
                    <a:lnTo>
                      <a:pt x="1092" y="23"/>
                    </a:lnTo>
                    <a:lnTo>
                      <a:pt x="1045" y="23"/>
                    </a:lnTo>
                    <a:lnTo>
                      <a:pt x="998" y="24"/>
                    </a:lnTo>
                    <a:lnTo>
                      <a:pt x="951" y="25"/>
                    </a:lnTo>
                    <a:lnTo>
                      <a:pt x="903" y="29"/>
                    </a:lnTo>
                    <a:lnTo>
                      <a:pt x="856" y="32"/>
                    </a:lnTo>
                    <a:lnTo>
                      <a:pt x="763" y="41"/>
                    </a:lnTo>
                    <a:lnTo>
                      <a:pt x="669" y="50"/>
                    </a:lnTo>
                    <a:lnTo>
                      <a:pt x="578" y="60"/>
                    </a:lnTo>
                    <a:lnTo>
                      <a:pt x="488" y="68"/>
                    </a:lnTo>
                    <a:lnTo>
                      <a:pt x="444" y="70"/>
                    </a:lnTo>
                    <a:lnTo>
                      <a:pt x="400" y="72"/>
                    </a:lnTo>
                    <a:lnTo>
                      <a:pt x="357" y="72"/>
                    </a:lnTo>
                    <a:lnTo>
                      <a:pt x="315" y="72"/>
                    </a:lnTo>
                    <a:lnTo>
                      <a:pt x="273" y="70"/>
                    </a:lnTo>
                    <a:lnTo>
                      <a:pt x="233" y="66"/>
                    </a:lnTo>
                    <a:lnTo>
                      <a:pt x="193" y="61"/>
                    </a:lnTo>
                    <a:lnTo>
                      <a:pt x="154" y="54"/>
                    </a:lnTo>
                    <a:lnTo>
                      <a:pt x="137" y="49"/>
                    </a:lnTo>
                    <a:lnTo>
                      <a:pt x="119" y="45"/>
                    </a:lnTo>
                    <a:lnTo>
                      <a:pt x="102" y="40"/>
                    </a:lnTo>
                    <a:lnTo>
                      <a:pt x="87" y="34"/>
                    </a:lnTo>
                    <a:lnTo>
                      <a:pt x="72" y="30"/>
                    </a:lnTo>
                    <a:lnTo>
                      <a:pt x="61" y="25"/>
                    </a:lnTo>
                    <a:lnTo>
                      <a:pt x="52" y="21"/>
                    </a:lnTo>
                    <a:lnTo>
                      <a:pt x="45" y="17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5675400" y="3733920"/>
                <a:ext cx="433440" cy="69840"/>
              </a:xfrm>
              <a:custGeom>
                <a:avLst/>
                <a:gdLst/>
                <a:ahLst/>
                <a:rect l="l" t="t" r="r" b="b"/>
                <a:pathLst>
                  <a:path w="1363" h="217">
                    <a:moveTo>
                      <a:pt x="148" y="146"/>
                    </a:moveTo>
                    <a:lnTo>
                      <a:pt x="259" y="217"/>
                    </a:lnTo>
                    <a:lnTo>
                      <a:pt x="310" y="217"/>
                    </a:lnTo>
                    <a:lnTo>
                      <a:pt x="358" y="216"/>
                    </a:lnTo>
                    <a:lnTo>
                      <a:pt x="405" y="215"/>
                    </a:lnTo>
                    <a:lnTo>
                      <a:pt x="448" y="212"/>
                    </a:lnTo>
                    <a:lnTo>
                      <a:pt x="490" y="209"/>
                    </a:lnTo>
                    <a:lnTo>
                      <a:pt x="530" y="206"/>
                    </a:lnTo>
                    <a:lnTo>
                      <a:pt x="568" y="201"/>
                    </a:lnTo>
                    <a:lnTo>
                      <a:pt x="603" y="196"/>
                    </a:lnTo>
                    <a:lnTo>
                      <a:pt x="671" y="185"/>
                    </a:lnTo>
                    <a:lnTo>
                      <a:pt x="734" y="174"/>
                    </a:lnTo>
                    <a:lnTo>
                      <a:pt x="793" y="160"/>
                    </a:lnTo>
                    <a:lnTo>
                      <a:pt x="850" y="146"/>
                    </a:lnTo>
                    <a:lnTo>
                      <a:pt x="906" y="134"/>
                    </a:lnTo>
                    <a:lnTo>
                      <a:pt x="961" y="120"/>
                    </a:lnTo>
                    <a:lnTo>
                      <a:pt x="1018" y="107"/>
                    </a:lnTo>
                    <a:lnTo>
                      <a:pt x="1077" y="96"/>
                    </a:lnTo>
                    <a:lnTo>
                      <a:pt x="1108" y="91"/>
                    </a:lnTo>
                    <a:lnTo>
                      <a:pt x="1141" y="87"/>
                    </a:lnTo>
                    <a:lnTo>
                      <a:pt x="1174" y="83"/>
                    </a:lnTo>
                    <a:lnTo>
                      <a:pt x="1208" y="80"/>
                    </a:lnTo>
                    <a:lnTo>
                      <a:pt x="1245" y="77"/>
                    </a:lnTo>
                    <a:lnTo>
                      <a:pt x="1282" y="74"/>
                    </a:lnTo>
                    <a:lnTo>
                      <a:pt x="1322" y="73"/>
                    </a:lnTo>
                    <a:lnTo>
                      <a:pt x="1363" y="72"/>
                    </a:lnTo>
                    <a:lnTo>
                      <a:pt x="1249" y="0"/>
                    </a:lnTo>
                    <a:lnTo>
                      <a:pt x="1207" y="1"/>
                    </a:lnTo>
                    <a:lnTo>
                      <a:pt x="1167" y="2"/>
                    </a:lnTo>
                    <a:lnTo>
                      <a:pt x="1128" y="5"/>
                    </a:lnTo>
                    <a:lnTo>
                      <a:pt x="1092" y="7"/>
                    </a:lnTo>
                    <a:lnTo>
                      <a:pt x="1058" y="12"/>
                    </a:lnTo>
                    <a:lnTo>
                      <a:pt x="1024" y="15"/>
                    </a:lnTo>
                    <a:lnTo>
                      <a:pt x="992" y="20"/>
                    </a:lnTo>
                    <a:lnTo>
                      <a:pt x="960" y="24"/>
                    </a:lnTo>
                    <a:lnTo>
                      <a:pt x="900" y="36"/>
                    </a:lnTo>
                    <a:lnTo>
                      <a:pt x="843" y="48"/>
                    </a:lnTo>
                    <a:lnTo>
                      <a:pt x="788" y="62"/>
                    </a:lnTo>
                    <a:lnTo>
                      <a:pt x="733" y="75"/>
                    </a:lnTo>
                    <a:lnTo>
                      <a:pt x="676" y="88"/>
                    </a:lnTo>
                    <a:lnTo>
                      <a:pt x="617" y="102"/>
                    </a:lnTo>
                    <a:lnTo>
                      <a:pt x="554" y="113"/>
                    </a:lnTo>
                    <a:lnTo>
                      <a:pt x="487" y="125"/>
                    </a:lnTo>
                    <a:lnTo>
                      <a:pt x="450" y="129"/>
                    </a:lnTo>
                    <a:lnTo>
                      <a:pt x="414" y="134"/>
                    </a:lnTo>
                    <a:lnTo>
                      <a:pt x="374" y="137"/>
                    </a:lnTo>
                    <a:lnTo>
                      <a:pt x="333" y="141"/>
                    </a:lnTo>
                    <a:lnTo>
                      <a:pt x="289" y="143"/>
                    </a:lnTo>
                    <a:lnTo>
                      <a:pt x="244" y="144"/>
                    </a:lnTo>
                    <a:lnTo>
                      <a:pt x="195" y="145"/>
                    </a:lnTo>
                    <a:lnTo>
                      <a:pt x="145" y="145"/>
                    </a:lnTo>
                    <a:lnTo>
                      <a:pt x="255" y="217"/>
                    </a:lnTo>
                    <a:lnTo>
                      <a:pt x="145" y="145"/>
                    </a:lnTo>
                    <a:lnTo>
                      <a:pt x="0" y="159"/>
                    </a:lnTo>
                    <a:lnTo>
                      <a:pt x="255" y="217"/>
                    </a:lnTo>
                    <a:lnTo>
                      <a:pt x="148" y="14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5722920" y="3780000"/>
                <a:ext cx="371520" cy="48960"/>
              </a:xfrm>
              <a:custGeom>
                <a:avLst/>
                <a:gdLst/>
                <a:ahLst/>
                <a:rect l="l" t="t" r="r" b="b"/>
                <a:pathLst>
                  <a:path w="1170" h="152">
                    <a:moveTo>
                      <a:pt x="1170" y="142"/>
                    </a:moveTo>
                    <a:lnTo>
                      <a:pt x="1058" y="74"/>
                    </a:lnTo>
                    <a:lnTo>
                      <a:pt x="1034" y="70"/>
                    </a:lnTo>
                    <a:lnTo>
                      <a:pt x="1012" y="66"/>
                    </a:lnTo>
                    <a:lnTo>
                      <a:pt x="992" y="64"/>
                    </a:lnTo>
                    <a:lnTo>
                      <a:pt x="974" y="63"/>
                    </a:lnTo>
                    <a:lnTo>
                      <a:pt x="955" y="62"/>
                    </a:lnTo>
                    <a:lnTo>
                      <a:pt x="938" y="62"/>
                    </a:lnTo>
                    <a:lnTo>
                      <a:pt x="921" y="62"/>
                    </a:lnTo>
                    <a:lnTo>
                      <a:pt x="905" y="63"/>
                    </a:lnTo>
                    <a:lnTo>
                      <a:pt x="838" y="70"/>
                    </a:lnTo>
                    <a:lnTo>
                      <a:pt x="757" y="78"/>
                    </a:lnTo>
                    <a:lnTo>
                      <a:pt x="733" y="79"/>
                    </a:lnTo>
                    <a:lnTo>
                      <a:pt x="707" y="80"/>
                    </a:lnTo>
                    <a:lnTo>
                      <a:pt x="680" y="80"/>
                    </a:lnTo>
                    <a:lnTo>
                      <a:pt x="648" y="80"/>
                    </a:lnTo>
                    <a:lnTo>
                      <a:pt x="615" y="79"/>
                    </a:lnTo>
                    <a:lnTo>
                      <a:pt x="578" y="78"/>
                    </a:lnTo>
                    <a:lnTo>
                      <a:pt x="538" y="76"/>
                    </a:lnTo>
                    <a:lnTo>
                      <a:pt x="495" y="72"/>
                    </a:lnTo>
                    <a:lnTo>
                      <a:pt x="448" y="68"/>
                    </a:lnTo>
                    <a:lnTo>
                      <a:pt x="398" y="62"/>
                    </a:lnTo>
                    <a:lnTo>
                      <a:pt x="343" y="55"/>
                    </a:lnTo>
                    <a:lnTo>
                      <a:pt x="284" y="47"/>
                    </a:lnTo>
                    <a:lnTo>
                      <a:pt x="220" y="38"/>
                    </a:lnTo>
                    <a:lnTo>
                      <a:pt x="152" y="26"/>
                    </a:lnTo>
                    <a:lnTo>
                      <a:pt x="79" y="14"/>
                    </a:lnTo>
                    <a:lnTo>
                      <a:pt x="0" y="0"/>
                    </a:lnTo>
                    <a:lnTo>
                      <a:pt x="107" y="71"/>
                    </a:lnTo>
                    <a:lnTo>
                      <a:pt x="187" y="86"/>
                    </a:lnTo>
                    <a:lnTo>
                      <a:pt x="260" y="98"/>
                    </a:lnTo>
                    <a:lnTo>
                      <a:pt x="330" y="110"/>
                    </a:lnTo>
                    <a:lnTo>
                      <a:pt x="393" y="119"/>
                    </a:lnTo>
                    <a:lnTo>
                      <a:pt x="454" y="127"/>
                    </a:lnTo>
                    <a:lnTo>
                      <a:pt x="509" y="134"/>
                    </a:lnTo>
                    <a:lnTo>
                      <a:pt x="560" y="139"/>
                    </a:lnTo>
                    <a:lnTo>
                      <a:pt x="608" y="144"/>
                    </a:lnTo>
                    <a:lnTo>
                      <a:pt x="651" y="147"/>
                    </a:lnTo>
                    <a:lnTo>
                      <a:pt x="691" y="150"/>
                    </a:lnTo>
                    <a:lnTo>
                      <a:pt x="729" y="152"/>
                    </a:lnTo>
                    <a:lnTo>
                      <a:pt x="763" y="152"/>
                    </a:lnTo>
                    <a:lnTo>
                      <a:pt x="794" y="152"/>
                    </a:lnTo>
                    <a:lnTo>
                      <a:pt x="822" y="152"/>
                    </a:lnTo>
                    <a:lnTo>
                      <a:pt x="849" y="151"/>
                    </a:lnTo>
                    <a:lnTo>
                      <a:pt x="873" y="150"/>
                    </a:lnTo>
                    <a:lnTo>
                      <a:pt x="954" y="142"/>
                    </a:lnTo>
                    <a:lnTo>
                      <a:pt x="1022" y="135"/>
                    </a:lnTo>
                    <a:lnTo>
                      <a:pt x="1036" y="134"/>
                    </a:lnTo>
                    <a:lnTo>
                      <a:pt x="1052" y="134"/>
                    </a:lnTo>
                    <a:lnTo>
                      <a:pt x="1068" y="134"/>
                    </a:lnTo>
                    <a:lnTo>
                      <a:pt x="1085" y="135"/>
                    </a:lnTo>
                    <a:lnTo>
                      <a:pt x="1104" y="136"/>
                    </a:lnTo>
                    <a:lnTo>
                      <a:pt x="1122" y="138"/>
                    </a:lnTo>
                    <a:lnTo>
                      <a:pt x="1142" y="142"/>
                    </a:lnTo>
                    <a:lnTo>
                      <a:pt x="1163" y="146"/>
                    </a:lnTo>
                    <a:lnTo>
                      <a:pt x="1051" y="79"/>
                    </a:lnTo>
                    <a:lnTo>
                      <a:pt x="1170" y="142"/>
                    </a:lnTo>
                    <a:lnTo>
                      <a:pt x="1141" y="93"/>
                    </a:lnTo>
                    <a:lnTo>
                      <a:pt x="1058" y="74"/>
                    </a:lnTo>
                    <a:lnTo>
                      <a:pt x="1170" y="14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6056280" y="3759120"/>
                <a:ext cx="452520" cy="87480"/>
              </a:xfrm>
              <a:custGeom>
                <a:avLst/>
                <a:gdLst/>
                <a:ahLst/>
                <a:rect l="l" t="t" r="r" b="b"/>
                <a:pathLst>
                  <a:path w="1425" h="273">
                    <a:moveTo>
                      <a:pt x="1425" y="0"/>
                    </a:moveTo>
                    <a:lnTo>
                      <a:pt x="1422" y="0"/>
                    </a:lnTo>
                    <a:lnTo>
                      <a:pt x="1380" y="6"/>
                    </a:lnTo>
                    <a:lnTo>
                      <a:pt x="1335" y="14"/>
                    </a:lnTo>
                    <a:lnTo>
                      <a:pt x="1288" y="22"/>
                    </a:lnTo>
                    <a:lnTo>
                      <a:pt x="1188" y="41"/>
                    </a:lnTo>
                    <a:lnTo>
                      <a:pt x="1081" y="62"/>
                    </a:lnTo>
                    <a:lnTo>
                      <a:pt x="968" y="86"/>
                    </a:lnTo>
                    <a:lnTo>
                      <a:pt x="853" y="108"/>
                    </a:lnTo>
                    <a:lnTo>
                      <a:pt x="738" y="131"/>
                    </a:lnTo>
                    <a:lnTo>
                      <a:pt x="623" y="153"/>
                    </a:lnTo>
                    <a:lnTo>
                      <a:pt x="567" y="163"/>
                    </a:lnTo>
                    <a:lnTo>
                      <a:pt x="512" y="171"/>
                    </a:lnTo>
                    <a:lnTo>
                      <a:pt x="458" y="179"/>
                    </a:lnTo>
                    <a:lnTo>
                      <a:pt x="406" y="186"/>
                    </a:lnTo>
                    <a:lnTo>
                      <a:pt x="356" y="193"/>
                    </a:lnTo>
                    <a:lnTo>
                      <a:pt x="308" y="196"/>
                    </a:lnTo>
                    <a:lnTo>
                      <a:pt x="262" y="200"/>
                    </a:lnTo>
                    <a:lnTo>
                      <a:pt x="220" y="201"/>
                    </a:lnTo>
                    <a:lnTo>
                      <a:pt x="180" y="201"/>
                    </a:lnTo>
                    <a:lnTo>
                      <a:pt x="144" y="199"/>
                    </a:lnTo>
                    <a:lnTo>
                      <a:pt x="128" y="197"/>
                    </a:lnTo>
                    <a:lnTo>
                      <a:pt x="112" y="195"/>
                    </a:lnTo>
                    <a:lnTo>
                      <a:pt x="98" y="192"/>
                    </a:lnTo>
                    <a:lnTo>
                      <a:pt x="87" y="189"/>
                    </a:lnTo>
                    <a:lnTo>
                      <a:pt x="77" y="187"/>
                    </a:lnTo>
                    <a:lnTo>
                      <a:pt x="73" y="185"/>
                    </a:lnTo>
                    <a:lnTo>
                      <a:pt x="81" y="189"/>
                    </a:lnTo>
                    <a:lnTo>
                      <a:pt x="105" y="202"/>
                    </a:lnTo>
                    <a:lnTo>
                      <a:pt x="123" y="215"/>
                    </a:lnTo>
                    <a:lnTo>
                      <a:pt x="127" y="218"/>
                    </a:lnTo>
                    <a:lnTo>
                      <a:pt x="123" y="215"/>
                    </a:lnTo>
                    <a:lnTo>
                      <a:pt x="119" y="208"/>
                    </a:lnTo>
                    <a:lnTo>
                      <a:pt x="0" y="145"/>
                    </a:lnTo>
                    <a:lnTo>
                      <a:pt x="7" y="155"/>
                    </a:lnTo>
                    <a:lnTo>
                      <a:pt x="17" y="167"/>
                    </a:lnTo>
                    <a:lnTo>
                      <a:pt x="37" y="183"/>
                    </a:lnTo>
                    <a:lnTo>
                      <a:pt x="74" y="209"/>
                    </a:lnTo>
                    <a:lnTo>
                      <a:pt x="119" y="233"/>
                    </a:lnTo>
                    <a:lnTo>
                      <a:pt x="149" y="246"/>
                    </a:lnTo>
                    <a:lnTo>
                      <a:pt x="170" y="254"/>
                    </a:lnTo>
                    <a:lnTo>
                      <a:pt x="187" y="259"/>
                    </a:lnTo>
                    <a:lnTo>
                      <a:pt x="204" y="264"/>
                    </a:lnTo>
                    <a:lnTo>
                      <a:pt x="221" y="267"/>
                    </a:lnTo>
                    <a:lnTo>
                      <a:pt x="238" y="269"/>
                    </a:lnTo>
                    <a:lnTo>
                      <a:pt x="257" y="270"/>
                    </a:lnTo>
                    <a:lnTo>
                      <a:pt x="294" y="273"/>
                    </a:lnTo>
                    <a:lnTo>
                      <a:pt x="335" y="273"/>
                    </a:lnTo>
                    <a:lnTo>
                      <a:pt x="379" y="272"/>
                    </a:lnTo>
                    <a:lnTo>
                      <a:pt x="424" y="269"/>
                    </a:lnTo>
                    <a:lnTo>
                      <a:pt x="472" y="265"/>
                    </a:lnTo>
                    <a:lnTo>
                      <a:pt x="523" y="259"/>
                    </a:lnTo>
                    <a:lnTo>
                      <a:pt x="575" y="252"/>
                    </a:lnTo>
                    <a:lnTo>
                      <a:pt x="628" y="243"/>
                    </a:lnTo>
                    <a:lnTo>
                      <a:pt x="684" y="235"/>
                    </a:lnTo>
                    <a:lnTo>
                      <a:pt x="740" y="225"/>
                    </a:lnTo>
                    <a:lnTo>
                      <a:pt x="855" y="203"/>
                    </a:lnTo>
                    <a:lnTo>
                      <a:pt x="970" y="180"/>
                    </a:lnTo>
                    <a:lnTo>
                      <a:pt x="1085" y="157"/>
                    </a:lnTo>
                    <a:lnTo>
                      <a:pt x="1198" y="135"/>
                    </a:lnTo>
                    <a:lnTo>
                      <a:pt x="1305" y="113"/>
                    </a:lnTo>
                    <a:lnTo>
                      <a:pt x="1406" y="94"/>
                    </a:lnTo>
                    <a:lnTo>
                      <a:pt x="1425" y="90"/>
                    </a:lnTo>
                    <a:lnTo>
                      <a:pt x="142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4184640" y="3541680"/>
                <a:ext cx="774720" cy="98280"/>
              </a:xfrm>
              <a:custGeom>
                <a:avLst/>
                <a:gdLst/>
                <a:ahLst/>
                <a:rect l="l" t="t" r="r" b="b"/>
                <a:pathLst>
                  <a:path w="2440" h="310">
                    <a:moveTo>
                      <a:pt x="0" y="113"/>
                    </a:moveTo>
                    <a:lnTo>
                      <a:pt x="39" y="108"/>
                    </a:lnTo>
                    <a:lnTo>
                      <a:pt x="77" y="102"/>
                    </a:lnTo>
                    <a:lnTo>
                      <a:pt x="113" y="97"/>
                    </a:lnTo>
                    <a:lnTo>
                      <a:pt x="151" y="94"/>
                    </a:lnTo>
                    <a:lnTo>
                      <a:pt x="187" y="92"/>
                    </a:lnTo>
                    <a:lnTo>
                      <a:pt x="223" y="91"/>
                    </a:lnTo>
                    <a:lnTo>
                      <a:pt x="259" y="91"/>
                    </a:lnTo>
                    <a:lnTo>
                      <a:pt x="294" y="91"/>
                    </a:lnTo>
                    <a:lnTo>
                      <a:pt x="435" y="95"/>
                    </a:lnTo>
                    <a:lnTo>
                      <a:pt x="572" y="101"/>
                    </a:lnTo>
                    <a:lnTo>
                      <a:pt x="607" y="102"/>
                    </a:lnTo>
                    <a:lnTo>
                      <a:pt x="641" y="102"/>
                    </a:lnTo>
                    <a:lnTo>
                      <a:pt x="674" y="102"/>
                    </a:lnTo>
                    <a:lnTo>
                      <a:pt x="708" y="101"/>
                    </a:lnTo>
                    <a:lnTo>
                      <a:pt x="742" y="100"/>
                    </a:lnTo>
                    <a:lnTo>
                      <a:pt x="777" y="97"/>
                    </a:lnTo>
                    <a:lnTo>
                      <a:pt x="811" y="94"/>
                    </a:lnTo>
                    <a:lnTo>
                      <a:pt x="845" y="89"/>
                    </a:lnTo>
                    <a:lnTo>
                      <a:pt x="879" y="84"/>
                    </a:lnTo>
                    <a:lnTo>
                      <a:pt x="913" y="77"/>
                    </a:lnTo>
                    <a:lnTo>
                      <a:pt x="948" y="68"/>
                    </a:lnTo>
                    <a:lnTo>
                      <a:pt x="982" y="59"/>
                    </a:lnTo>
                    <a:lnTo>
                      <a:pt x="1017" y="46"/>
                    </a:lnTo>
                    <a:lnTo>
                      <a:pt x="1051" y="33"/>
                    </a:lnTo>
                    <a:lnTo>
                      <a:pt x="1087" y="17"/>
                    </a:lnTo>
                    <a:lnTo>
                      <a:pt x="1122" y="0"/>
                    </a:lnTo>
                    <a:lnTo>
                      <a:pt x="1165" y="2"/>
                    </a:lnTo>
                    <a:lnTo>
                      <a:pt x="1209" y="3"/>
                    </a:lnTo>
                    <a:lnTo>
                      <a:pt x="1252" y="5"/>
                    </a:lnTo>
                    <a:lnTo>
                      <a:pt x="1295" y="10"/>
                    </a:lnTo>
                    <a:lnTo>
                      <a:pt x="1339" y="13"/>
                    </a:lnTo>
                    <a:lnTo>
                      <a:pt x="1382" y="19"/>
                    </a:lnTo>
                    <a:lnTo>
                      <a:pt x="1426" y="24"/>
                    </a:lnTo>
                    <a:lnTo>
                      <a:pt x="1470" y="31"/>
                    </a:lnTo>
                    <a:lnTo>
                      <a:pt x="1556" y="46"/>
                    </a:lnTo>
                    <a:lnTo>
                      <a:pt x="1644" y="62"/>
                    </a:lnTo>
                    <a:lnTo>
                      <a:pt x="1731" y="81"/>
                    </a:lnTo>
                    <a:lnTo>
                      <a:pt x="1816" y="101"/>
                    </a:lnTo>
                    <a:lnTo>
                      <a:pt x="1984" y="143"/>
                    </a:lnTo>
                    <a:lnTo>
                      <a:pt x="2145" y="184"/>
                    </a:lnTo>
                    <a:lnTo>
                      <a:pt x="2222" y="203"/>
                    </a:lnTo>
                    <a:lnTo>
                      <a:pt x="2297" y="222"/>
                    </a:lnTo>
                    <a:lnTo>
                      <a:pt x="2370" y="239"/>
                    </a:lnTo>
                    <a:lnTo>
                      <a:pt x="2440" y="254"/>
                    </a:lnTo>
                    <a:lnTo>
                      <a:pt x="2427" y="270"/>
                    </a:lnTo>
                    <a:lnTo>
                      <a:pt x="2410" y="282"/>
                    </a:lnTo>
                    <a:lnTo>
                      <a:pt x="2387" y="292"/>
                    </a:lnTo>
                    <a:lnTo>
                      <a:pt x="2361" y="299"/>
                    </a:lnTo>
                    <a:lnTo>
                      <a:pt x="2329" y="305"/>
                    </a:lnTo>
                    <a:lnTo>
                      <a:pt x="2293" y="308"/>
                    </a:lnTo>
                    <a:lnTo>
                      <a:pt x="2253" y="310"/>
                    </a:lnTo>
                    <a:lnTo>
                      <a:pt x="2211" y="308"/>
                    </a:lnTo>
                    <a:lnTo>
                      <a:pt x="2164" y="306"/>
                    </a:lnTo>
                    <a:lnTo>
                      <a:pt x="2115" y="303"/>
                    </a:lnTo>
                    <a:lnTo>
                      <a:pt x="2065" y="298"/>
                    </a:lnTo>
                    <a:lnTo>
                      <a:pt x="2011" y="291"/>
                    </a:lnTo>
                    <a:lnTo>
                      <a:pt x="1901" y="276"/>
                    </a:lnTo>
                    <a:lnTo>
                      <a:pt x="1787" y="258"/>
                    </a:lnTo>
                    <a:lnTo>
                      <a:pt x="1559" y="221"/>
                    </a:lnTo>
                    <a:lnTo>
                      <a:pt x="1351" y="187"/>
                    </a:lnTo>
                    <a:lnTo>
                      <a:pt x="1306" y="182"/>
                    </a:lnTo>
                    <a:lnTo>
                      <a:pt x="1262" y="177"/>
                    </a:lnTo>
                    <a:lnTo>
                      <a:pt x="1222" y="174"/>
                    </a:lnTo>
                    <a:lnTo>
                      <a:pt x="1187" y="172"/>
                    </a:lnTo>
                    <a:lnTo>
                      <a:pt x="1155" y="170"/>
                    </a:lnTo>
                    <a:lnTo>
                      <a:pt x="1128" y="173"/>
                    </a:lnTo>
                    <a:lnTo>
                      <a:pt x="1106" y="176"/>
                    </a:lnTo>
                    <a:lnTo>
                      <a:pt x="1089" y="182"/>
                    </a:lnTo>
                    <a:lnTo>
                      <a:pt x="1066" y="193"/>
                    </a:lnTo>
                    <a:lnTo>
                      <a:pt x="1042" y="203"/>
                    </a:lnTo>
                    <a:lnTo>
                      <a:pt x="1016" y="211"/>
                    </a:lnTo>
                    <a:lnTo>
                      <a:pt x="989" y="218"/>
                    </a:lnTo>
                    <a:lnTo>
                      <a:pt x="959" y="224"/>
                    </a:lnTo>
                    <a:lnTo>
                      <a:pt x="927" y="229"/>
                    </a:lnTo>
                    <a:lnTo>
                      <a:pt x="894" y="231"/>
                    </a:lnTo>
                    <a:lnTo>
                      <a:pt x="861" y="233"/>
                    </a:lnTo>
                    <a:lnTo>
                      <a:pt x="826" y="233"/>
                    </a:lnTo>
                    <a:lnTo>
                      <a:pt x="789" y="233"/>
                    </a:lnTo>
                    <a:lnTo>
                      <a:pt x="751" y="232"/>
                    </a:lnTo>
                    <a:lnTo>
                      <a:pt x="714" y="230"/>
                    </a:lnTo>
                    <a:lnTo>
                      <a:pt x="675" y="226"/>
                    </a:lnTo>
                    <a:lnTo>
                      <a:pt x="635" y="223"/>
                    </a:lnTo>
                    <a:lnTo>
                      <a:pt x="596" y="218"/>
                    </a:lnTo>
                    <a:lnTo>
                      <a:pt x="557" y="213"/>
                    </a:lnTo>
                    <a:lnTo>
                      <a:pt x="477" y="201"/>
                    </a:lnTo>
                    <a:lnTo>
                      <a:pt x="397" y="189"/>
                    </a:lnTo>
                    <a:lnTo>
                      <a:pt x="321" y="175"/>
                    </a:lnTo>
                    <a:lnTo>
                      <a:pt x="246" y="160"/>
                    </a:lnTo>
                    <a:lnTo>
                      <a:pt x="111" y="134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4165560" y="3530520"/>
                <a:ext cx="393840" cy="58680"/>
              </a:xfrm>
              <a:custGeom>
                <a:avLst/>
                <a:gdLst/>
                <a:ahLst/>
                <a:rect l="l" t="t" r="r" b="b"/>
                <a:pathLst>
                  <a:path w="1240" h="186">
                    <a:moveTo>
                      <a:pt x="1123" y="0"/>
                    </a:moveTo>
                    <a:lnTo>
                      <a:pt x="1121" y="1"/>
                    </a:lnTo>
                    <a:lnTo>
                      <a:pt x="1085" y="18"/>
                    </a:lnTo>
                    <a:lnTo>
                      <a:pt x="1050" y="33"/>
                    </a:lnTo>
                    <a:lnTo>
                      <a:pt x="1016" y="47"/>
                    </a:lnTo>
                    <a:lnTo>
                      <a:pt x="980" y="58"/>
                    </a:lnTo>
                    <a:lnTo>
                      <a:pt x="946" y="68"/>
                    </a:lnTo>
                    <a:lnTo>
                      <a:pt x="912" y="76"/>
                    </a:lnTo>
                    <a:lnTo>
                      <a:pt x="878" y="83"/>
                    </a:lnTo>
                    <a:lnTo>
                      <a:pt x="844" y="89"/>
                    </a:lnTo>
                    <a:lnTo>
                      <a:pt x="811" y="93"/>
                    </a:lnTo>
                    <a:lnTo>
                      <a:pt x="776" y="97"/>
                    </a:lnTo>
                    <a:lnTo>
                      <a:pt x="742" y="99"/>
                    </a:lnTo>
                    <a:lnTo>
                      <a:pt x="709" y="101"/>
                    </a:lnTo>
                    <a:lnTo>
                      <a:pt x="675" y="101"/>
                    </a:lnTo>
                    <a:lnTo>
                      <a:pt x="641" y="101"/>
                    </a:lnTo>
                    <a:lnTo>
                      <a:pt x="608" y="101"/>
                    </a:lnTo>
                    <a:lnTo>
                      <a:pt x="573" y="100"/>
                    </a:lnTo>
                    <a:lnTo>
                      <a:pt x="436" y="95"/>
                    </a:lnTo>
                    <a:lnTo>
                      <a:pt x="295" y="90"/>
                    </a:lnTo>
                    <a:lnTo>
                      <a:pt x="259" y="90"/>
                    </a:lnTo>
                    <a:lnTo>
                      <a:pt x="224" y="90"/>
                    </a:lnTo>
                    <a:lnTo>
                      <a:pt x="187" y="92"/>
                    </a:lnTo>
                    <a:lnTo>
                      <a:pt x="151" y="95"/>
                    </a:lnTo>
                    <a:lnTo>
                      <a:pt x="113" y="97"/>
                    </a:lnTo>
                    <a:lnTo>
                      <a:pt x="75" y="101"/>
                    </a:lnTo>
                    <a:lnTo>
                      <a:pt x="38" y="107"/>
                    </a:lnTo>
                    <a:lnTo>
                      <a:pt x="0" y="114"/>
                    </a:lnTo>
                    <a:lnTo>
                      <a:pt x="117" y="186"/>
                    </a:lnTo>
                    <a:lnTo>
                      <a:pt x="155" y="179"/>
                    </a:lnTo>
                    <a:lnTo>
                      <a:pt x="193" y="173"/>
                    </a:lnTo>
                    <a:lnTo>
                      <a:pt x="229" y="170"/>
                    </a:lnTo>
                    <a:lnTo>
                      <a:pt x="266" y="166"/>
                    </a:lnTo>
                    <a:lnTo>
                      <a:pt x="302" y="164"/>
                    </a:lnTo>
                    <a:lnTo>
                      <a:pt x="339" y="163"/>
                    </a:lnTo>
                    <a:lnTo>
                      <a:pt x="374" y="162"/>
                    </a:lnTo>
                    <a:lnTo>
                      <a:pt x="409" y="162"/>
                    </a:lnTo>
                    <a:lnTo>
                      <a:pt x="550" y="166"/>
                    </a:lnTo>
                    <a:lnTo>
                      <a:pt x="687" y="172"/>
                    </a:lnTo>
                    <a:lnTo>
                      <a:pt x="722" y="173"/>
                    </a:lnTo>
                    <a:lnTo>
                      <a:pt x="756" y="174"/>
                    </a:lnTo>
                    <a:lnTo>
                      <a:pt x="790" y="174"/>
                    </a:lnTo>
                    <a:lnTo>
                      <a:pt x="824" y="173"/>
                    </a:lnTo>
                    <a:lnTo>
                      <a:pt x="858" y="172"/>
                    </a:lnTo>
                    <a:lnTo>
                      <a:pt x="893" y="170"/>
                    </a:lnTo>
                    <a:lnTo>
                      <a:pt x="927" y="166"/>
                    </a:lnTo>
                    <a:lnTo>
                      <a:pt x="961" y="162"/>
                    </a:lnTo>
                    <a:lnTo>
                      <a:pt x="995" y="156"/>
                    </a:lnTo>
                    <a:lnTo>
                      <a:pt x="1029" y="148"/>
                    </a:lnTo>
                    <a:lnTo>
                      <a:pt x="1065" y="140"/>
                    </a:lnTo>
                    <a:lnTo>
                      <a:pt x="1099" y="130"/>
                    </a:lnTo>
                    <a:lnTo>
                      <a:pt x="1134" y="119"/>
                    </a:lnTo>
                    <a:lnTo>
                      <a:pt x="1170" y="105"/>
                    </a:lnTo>
                    <a:lnTo>
                      <a:pt x="1204" y="89"/>
                    </a:lnTo>
                    <a:lnTo>
                      <a:pt x="1240" y="72"/>
                    </a:lnTo>
                    <a:lnTo>
                      <a:pt x="1237" y="73"/>
                    </a:lnTo>
                    <a:lnTo>
                      <a:pt x="1123" y="0"/>
                    </a:lnTo>
                    <a:lnTo>
                      <a:pt x="1122" y="0"/>
                    </a:lnTo>
                    <a:lnTo>
                      <a:pt x="1121" y="1"/>
                    </a:lnTo>
                    <a:lnTo>
                      <a:pt x="11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4522680" y="3530520"/>
                <a:ext cx="460440" cy="103320"/>
              </a:xfrm>
              <a:custGeom>
                <a:avLst/>
                <a:gdLst/>
                <a:ahLst/>
                <a:rect l="l" t="t" r="r" b="b"/>
                <a:pathLst>
                  <a:path w="1452" h="325">
                    <a:moveTo>
                      <a:pt x="1435" y="325"/>
                    </a:moveTo>
                    <a:lnTo>
                      <a:pt x="1321" y="254"/>
                    </a:lnTo>
                    <a:lnTo>
                      <a:pt x="1253" y="239"/>
                    </a:lnTo>
                    <a:lnTo>
                      <a:pt x="1181" y="223"/>
                    </a:lnTo>
                    <a:lnTo>
                      <a:pt x="1107" y="205"/>
                    </a:lnTo>
                    <a:lnTo>
                      <a:pt x="1029" y="185"/>
                    </a:lnTo>
                    <a:lnTo>
                      <a:pt x="868" y="144"/>
                    </a:lnTo>
                    <a:lnTo>
                      <a:pt x="700" y="101"/>
                    </a:lnTo>
                    <a:lnTo>
                      <a:pt x="613" y="82"/>
                    </a:lnTo>
                    <a:lnTo>
                      <a:pt x="526" y="63"/>
                    </a:lnTo>
                    <a:lnTo>
                      <a:pt x="438" y="46"/>
                    </a:lnTo>
                    <a:lnTo>
                      <a:pt x="350" y="31"/>
                    </a:lnTo>
                    <a:lnTo>
                      <a:pt x="305" y="24"/>
                    </a:lnTo>
                    <a:lnTo>
                      <a:pt x="262" y="18"/>
                    </a:lnTo>
                    <a:lnTo>
                      <a:pt x="218" y="14"/>
                    </a:lnTo>
                    <a:lnTo>
                      <a:pt x="174" y="9"/>
                    </a:lnTo>
                    <a:lnTo>
                      <a:pt x="130" y="6"/>
                    </a:lnTo>
                    <a:lnTo>
                      <a:pt x="87" y="2"/>
                    </a:lnTo>
                    <a:lnTo>
                      <a:pt x="43" y="1"/>
                    </a:lnTo>
                    <a:lnTo>
                      <a:pt x="0" y="0"/>
                    </a:lnTo>
                    <a:lnTo>
                      <a:pt x="114" y="73"/>
                    </a:lnTo>
                    <a:lnTo>
                      <a:pt x="157" y="73"/>
                    </a:lnTo>
                    <a:lnTo>
                      <a:pt x="199" y="75"/>
                    </a:lnTo>
                    <a:lnTo>
                      <a:pt x="243" y="77"/>
                    </a:lnTo>
                    <a:lnTo>
                      <a:pt x="286" y="81"/>
                    </a:lnTo>
                    <a:lnTo>
                      <a:pt x="329" y="85"/>
                    </a:lnTo>
                    <a:lnTo>
                      <a:pt x="373" y="90"/>
                    </a:lnTo>
                    <a:lnTo>
                      <a:pt x="416" y="97"/>
                    </a:lnTo>
                    <a:lnTo>
                      <a:pt x="459" y="103"/>
                    </a:lnTo>
                    <a:lnTo>
                      <a:pt x="546" y="117"/>
                    </a:lnTo>
                    <a:lnTo>
                      <a:pt x="632" y="135"/>
                    </a:lnTo>
                    <a:lnTo>
                      <a:pt x="718" y="153"/>
                    </a:lnTo>
                    <a:lnTo>
                      <a:pt x="803" y="172"/>
                    </a:lnTo>
                    <a:lnTo>
                      <a:pt x="970" y="213"/>
                    </a:lnTo>
                    <a:lnTo>
                      <a:pt x="1131" y="255"/>
                    </a:lnTo>
                    <a:lnTo>
                      <a:pt x="1208" y="275"/>
                    </a:lnTo>
                    <a:lnTo>
                      <a:pt x="1285" y="293"/>
                    </a:lnTo>
                    <a:lnTo>
                      <a:pt x="1358" y="310"/>
                    </a:lnTo>
                    <a:lnTo>
                      <a:pt x="1427" y="325"/>
                    </a:lnTo>
                    <a:lnTo>
                      <a:pt x="1314" y="255"/>
                    </a:lnTo>
                    <a:lnTo>
                      <a:pt x="1435" y="325"/>
                    </a:lnTo>
                    <a:lnTo>
                      <a:pt x="1452" y="281"/>
                    </a:lnTo>
                    <a:lnTo>
                      <a:pt x="1321" y="254"/>
                    </a:lnTo>
                    <a:lnTo>
                      <a:pt x="1435" y="3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4511520" y="3584520"/>
                <a:ext cx="466920" cy="66600"/>
              </a:xfrm>
              <a:custGeom>
                <a:avLst/>
                <a:gdLst/>
                <a:ahLst/>
                <a:rect l="l" t="t" r="r" b="b"/>
                <a:pathLst>
                  <a:path w="1472" h="210">
                    <a:moveTo>
                      <a:pt x="120" y="82"/>
                    </a:moveTo>
                    <a:lnTo>
                      <a:pt x="120" y="82"/>
                    </a:lnTo>
                    <a:lnTo>
                      <a:pt x="127" y="79"/>
                    </a:lnTo>
                    <a:lnTo>
                      <a:pt x="136" y="76"/>
                    </a:lnTo>
                    <a:lnTo>
                      <a:pt x="146" y="75"/>
                    </a:lnTo>
                    <a:lnTo>
                      <a:pt x="158" y="73"/>
                    </a:lnTo>
                    <a:lnTo>
                      <a:pt x="185" y="72"/>
                    </a:lnTo>
                    <a:lnTo>
                      <a:pt x="216" y="72"/>
                    </a:lnTo>
                    <a:lnTo>
                      <a:pt x="251" y="74"/>
                    </a:lnTo>
                    <a:lnTo>
                      <a:pt x="290" y="78"/>
                    </a:lnTo>
                    <a:lnTo>
                      <a:pt x="332" y="82"/>
                    </a:lnTo>
                    <a:lnTo>
                      <a:pt x="378" y="89"/>
                    </a:lnTo>
                    <a:lnTo>
                      <a:pt x="585" y="121"/>
                    </a:lnTo>
                    <a:lnTo>
                      <a:pt x="813" y="159"/>
                    </a:lnTo>
                    <a:lnTo>
                      <a:pt x="927" y="177"/>
                    </a:lnTo>
                    <a:lnTo>
                      <a:pt x="1038" y="193"/>
                    </a:lnTo>
                    <a:lnTo>
                      <a:pt x="1091" y="199"/>
                    </a:lnTo>
                    <a:lnTo>
                      <a:pt x="1144" y="204"/>
                    </a:lnTo>
                    <a:lnTo>
                      <a:pt x="1193" y="208"/>
                    </a:lnTo>
                    <a:lnTo>
                      <a:pt x="1240" y="210"/>
                    </a:lnTo>
                    <a:lnTo>
                      <a:pt x="1283" y="210"/>
                    </a:lnTo>
                    <a:lnTo>
                      <a:pt x="1323" y="209"/>
                    </a:lnTo>
                    <a:lnTo>
                      <a:pt x="1341" y="208"/>
                    </a:lnTo>
                    <a:lnTo>
                      <a:pt x="1359" y="207"/>
                    </a:lnTo>
                    <a:lnTo>
                      <a:pt x="1375" y="203"/>
                    </a:lnTo>
                    <a:lnTo>
                      <a:pt x="1391" y="201"/>
                    </a:lnTo>
                    <a:lnTo>
                      <a:pt x="1406" y="197"/>
                    </a:lnTo>
                    <a:lnTo>
                      <a:pt x="1419" y="193"/>
                    </a:lnTo>
                    <a:lnTo>
                      <a:pt x="1431" y="188"/>
                    </a:lnTo>
                    <a:lnTo>
                      <a:pt x="1443" y="183"/>
                    </a:lnTo>
                    <a:lnTo>
                      <a:pt x="1452" y="177"/>
                    </a:lnTo>
                    <a:lnTo>
                      <a:pt x="1460" y="170"/>
                    </a:lnTo>
                    <a:lnTo>
                      <a:pt x="1467" y="162"/>
                    </a:lnTo>
                    <a:lnTo>
                      <a:pt x="1472" y="154"/>
                    </a:lnTo>
                    <a:lnTo>
                      <a:pt x="1351" y="84"/>
                    </a:lnTo>
                    <a:lnTo>
                      <a:pt x="1346" y="92"/>
                    </a:lnTo>
                    <a:lnTo>
                      <a:pt x="1340" y="99"/>
                    </a:lnTo>
                    <a:lnTo>
                      <a:pt x="1332" y="106"/>
                    </a:lnTo>
                    <a:lnTo>
                      <a:pt x="1323" y="112"/>
                    </a:lnTo>
                    <a:lnTo>
                      <a:pt x="1313" y="116"/>
                    </a:lnTo>
                    <a:lnTo>
                      <a:pt x="1301" y="121"/>
                    </a:lnTo>
                    <a:lnTo>
                      <a:pt x="1288" y="126"/>
                    </a:lnTo>
                    <a:lnTo>
                      <a:pt x="1274" y="129"/>
                    </a:lnTo>
                    <a:lnTo>
                      <a:pt x="1259" y="132"/>
                    </a:lnTo>
                    <a:lnTo>
                      <a:pt x="1242" y="133"/>
                    </a:lnTo>
                    <a:lnTo>
                      <a:pt x="1225" y="136"/>
                    </a:lnTo>
                    <a:lnTo>
                      <a:pt x="1208" y="137"/>
                    </a:lnTo>
                    <a:lnTo>
                      <a:pt x="1168" y="138"/>
                    </a:lnTo>
                    <a:lnTo>
                      <a:pt x="1126" y="138"/>
                    </a:lnTo>
                    <a:lnTo>
                      <a:pt x="1080" y="136"/>
                    </a:lnTo>
                    <a:lnTo>
                      <a:pt x="1031" y="131"/>
                    </a:lnTo>
                    <a:lnTo>
                      <a:pt x="981" y="127"/>
                    </a:lnTo>
                    <a:lnTo>
                      <a:pt x="928" y="121"/>
                    </a:lnTo>
                    <a:lnTo>
                      <a:pt x="818" y="105"/>
                    </a:lnTo>
                    <a:lnTo>
                      <a:pt x="704" y="88"/>
                    </a:lnTo>
                    <a:lnTo>
                      <a:pt x="477" y="49"/>
                    </a:lnTo>
                    <a:lnTo>
                      <a:pt x="270" y="17"/>
                    </a:lnTo>
                    <a:lnTo>
                      <a:pt x="222" y="10"/>
                    </a:lnTo>
                    <a:lnTo>
                      <a:pt x="178" y="6"/>
                    </a:lnTo>
                    <a:lnTo>
                      <a:pt x="138" y="2"/>
                    </a:lnTo>
                    <a:lnTo>
                      <a:pt x="102" y="0"/>
                    </a:lnTo>
                    <a:lnTo>
                      <a:pt x="70" y="0"/>
                    </a:lnTo>
                    <a:lnTo>
                      <a:pt x="42" y="1"/>
                    </a:lnTo>
                    <a:lnTo>
                      <a:pt x="30" y="2"/>
                    </a:lnTo>
                    <a:lnTo>
                      <a:pt x="19" y="5"/>
                    </a:lnTo>
                    <a:lnTo>
                      <a:pt x="1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20" y="8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4124160" y="3567240"/>
                <a:ext cx="425520" cy="60120"/>
              </a:xfrm>
              <a:custGeom>
                <a:avLst/>
                <a:gdLst/>
                <a:ahLst/>
                <a:rect l="l" t="t" r="r" b="b"/>
                <a:pathLst>
                  <a:path w="1336" h="192">
                    <a:moveTo>
                      <a:pt x="130" y="0"/>
                    </a:moveTo>
                    <a:lnTo>
                      <a:pt x="243" y="72"/>
                    </a:lnTo>
                    <a:lnTo>
                      <a:pt x="352" y="91"/>
                    </a:lnTo>
                    <a:lnTo>
                      <a:pt x="487" y="117"/>
                    </a:lnTo>
                    <a:lnTo>
                      <a:pt x="562" y="132"/>
                    </a:lnTo>
                    <a:lnTo>
                      <a:pt x="640" y="146"/>
                    </a:lnTo>
                    <a:lnTo>
                      <a:pt x="719" y="159"/>
                    </a:lnTo>
                    <a:lnTo>
                      <a:pt x="799" y="171"/>
                    </a:lnTo>
                    <a:lnTo>
                      <a:pt x="839" y="176"/>
                    </a:lnTo>
                    <a:lnTo>
                      <a:pt x="879" y="180"/>
                    </a:lnTo>
                    <a:lnTo>
                      <a:pt x="919" y="184"/>
                    </a:lnTo>
                    <a:lnTo>
                      <a:pt x="958" y="187"/>
                    </a:lnTo>
                    <a:lnTo>
                      <a:pt x="996" y="189"/>
                    </a:lnTo>
                    <a:lnTo>
                      <a:pt x="1034" y="190"/>
                    </a:lnTo>
                    <a:lnTo>
                      <a:pt x="1071" y="192"/>
                    </a:lnTo>
                    <a:lnTo>
                      <a:pt x="1106" y="190"/>
                    </a:lnTo>
                    <a:lnTo>
                      <a:pt x="1140" y="189"/>
                    </a:lnTo>
                    <a:lnTo>
                      <a:pt x="1173" y="186"/>
                    </a:lnTo>
                    <a:lnTo>
                      <a:pt x="1205" y="181"/>
                    </a:lnTo>
                    <a:lnTo>
                      <a:pt x="1235" y="177"/>
                    </a:lnTo>
                    <a:lnTo>
                      <a:pt x="1263" y="169"/>
                    </a:lnTo>
                    <a:lnTo>
                      <a:pt x="1289" y="161"/>
                    </a:lnTo>
                    <a:lnTo>
                      <a:pt x="1302" y="156"/>
                    </a:lnTo>
                    <a:lnTo>
                      <a:pt x="1315" y="151"/>
                    </a:lnTo>
                    <a:lnTo>
                      <a:pt x="1326" y="145"/>
                    </a:lnTo>
                    <a:lnTo>
                      <a:pt x="1336" y="139"/>
                    </a:lnTo>
                    <a:lnTo>
                      <a:pt x="1216" y="67"/>
                    </a:lnTo>
                    <a:lnTo>
                      <a:pt x="1206" y="74"/>
                    </a:lnTo>
                    <a:lnTo>
                      <a:pt x="1195" y="80"/>
                    </a:lnTo>
                    <a:lnTo>
                      <a:pt x="1183" y="84"/>
                    </a:lnTo>
                    <a:lnTo>
                      <a:pt x="1171" y="89"/>
                    </a:lnTo>
                    <a:lnTo>
                      <a:pt x="1145" y="98"/>
                    </a:lnTo>
                    <a:lnTo>
                      <a:pt x="1117" y="105"/>
                    </a:lnTo>
                    <a:lnTo>
                      <a:pt x="1088" y="109"/>
                    </a:lnTo>
                    <a:lnTo>
                      <a:pt x="1057" y="114"/>
                    </a:lnTo>
                    <a:lnTo>
                      <a:pt x="1025" y="117"/>
                    </a:lnTo>
                    <a:lnTo>
                      <a:pt x="991" y="119"/>
                    </a:lnTo>
                    <a:lnTo>
                      <a:pt x="955" y="120"/>
                    </a:lnTo>
                    <a:lnTo>
                      <a:pt x="920" y="119"/>
                    </a:lnTo>
                    <a:lnTo>
                      <a:pt x="882" y="117"/>
                    </a:lnTo>
                    <a:lnTo>
                      <a:pt x="845" y="115"/>
                    </a:lnTo>
                    <a:lnTo>
                      <a:pt x="807" y="112"/>
                    </a:lnTo>
                    <a:lnTo>
                      <a:pt x="768" y="108"/>
                    </a:lnTo>
                    <a:lnTo>
                      <a:pt x="729" y="104"/>
                    </a:lnTo>
                    <a:lnTo>
                      <a:pt x="689" y="99"/>
                    </a:lnTo>
                    <a:lnTo>
                      <a:pt x="610" y="88"/>
                    </a:lnTo>
                    <a:lnTo>
                      <a:pt x="531" y="74"/>
                    </a:lnTo>
                    <a:lnTo>
                      <a:pt x="455" y="60"/>
                    </a:lnTo>
                    <a:lnTo>
                      <a:pt x="381" y="47"/>
                    </a:lnTo>
                    <a:lnTo>
                      <a:pt x="245" y="21"/>
                    </a:lnTo>
                    <a:lnTo>
                      <a:pt x="135" y="0"/>
                    </a:lnTo>
                    <a:lnTo>
                      <a:pt x="247" y="72"/>
                    </a:lnTo>
                    <a:lnTo>
                      <a:pt x="130" y="0"/>
                    </a:lnTo>
                    <a:lnTo>
                      <a:pt x="0" y="32"/>
                    </a:lnTo>
                    <a:lnTo>
                      <a:pt x="243" y="72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4792680" y="3549600"/>
                <a:ext cx="501480" cy="60480"/>
              </a:xfrm>
              <a:custGeom>
                <a:avLst/>
                <a:gdLst/>
                <a:ahLst/>
                <a:rect l="l" t="t" r="r" b="b"/>
                <a:pathLst>
                  <a:path w="1580" h="188">
                    <a:moveTo>
                      <a:pt x="1580" y="121"/>
                    </a:moveTo>
                    <a:lnTo>
                      <a:pt x="1570" y="108"/>
                    </a:lnTo>
                    <a:lnTo>
                      <a:pt x="1560" y="95"/>
                    </a:lnTo>
                    <a:lnTo>
                      <a:pt x="1551" y="86"/>
                    </a:lnTo>
                    <a:lnTo>
                      <a:pt x="1540" y="77"/>
                    </a:lnTo>
                    <a:lnTo>
                      <a:pt x="1528" y="69"/>
                    </a:lnTo>
                    <a:lnTo>
                      <a:pt x="1517" y="62"/>
                    </a:lnTo>
                    <a:lnTo>
                      <a:pt x="1503" y="57"/>
                    </a:lnTo>
                    <a:lnTo>
                      <a:pt x="1490" y="52"/>
                    </a:lnTo>
                    <a:lnTo>
                      <a:pt x="1474" y="49"/>
                    </a:lnTo>
                    <a:lnTo>
                      <a:pt x="1456" y="45"/>
                    </a:lnTo>
                    <a:lnTo>
                      <a:pt x="1438" y="43"/>
                    </a:lnTo>
                    <a:lnTo>
                      <a:pt x="1419" y="42"/>
                    </a:lnTo>
                    <a:lnTo>
                      <a:pt x="1372" y="40"/>
                    </a:lnTo>
                    <a:lnTo>
                      <a:pt x="1319" y="40"/>
                    </a:lnTo>
                    <a:lnTo>
                      <a:pt x="1255" y="40"/>
                    </a:lnTo>
                    <a:lnTo>
                      <a:pt x="1182" y="41"/>
                    </a:lnTo>
                    <a:lnTo>
                      <a:pt x="1096" y="41"/>
                    </a:lnTo>
                    <a:lnTo>
                      <a:pt x="998" y="38"/>
                    </a:lnTo>
                    <a:lnTo>
                      <a:pt x="885" y="35"/>
                    </a:lnTo>
                    <a:lnTo>
                      <a:pt x="759" y="29"/>
                    </a:lnTo>
                    <a:lnTo>
                      <a:pt x="690" y="26"/>
                    </a:lnTo>
                    <a:lnTo>
                      <a:pt x="616" y="20"/>
                    </a:lnTo>
                    <a:lnTo>
                      <a:pt x="539" y="14"/>
                    </a:lnTo>
                    <a:lnTo>
                      <a:pt x="458" y="8"/>
                    </a:lnTo>
                    <a:lnTo>
                      <a:pt x="327" y="8"/>
                    </a:lnTo>
                    <a:lnTo>
                      <a:pt x="264" y="5"/>
                    </a:lnTo>
                    <a:lnTo>
                      <a:pt x="250" y="5"/>
                    </a:lnTo>
                    <a:lnTo>
                      <a:pt x="245" y="4"/>
                    </a:lnTo>
                    <a:lnTo>
                      <a:pt x="245" y="3"/>
                    </a:lnTo>
                    <a:lnTo>
                      <a:pt x="247" y="2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48" y="1"/>
                    </a:lnTo>
                    <a:lnTo>
                      <a:pt x="247" y="1"/>
                    </a:lnTo>
                    <a:lnTo>
                      <a:pt x="239" y="0"/>
                    </a:lnTo>
                    <a:lnTo>
                      <a:pt x="221" y="1"/>
                    </a:lnTo>
                    <a:lnTo>
                      <a:pt x="145" y="2"/>
                    </a:lnTo>
                    <a:lnTo>
                      <a:pt x="0" y="8"/>
                    </a:lnTo>
                    <a:lnTo>
                      <a:pt x="82" y="32"/>
                    </a:lnTo>
                    <a:lnTo>
                      <a:pt x="158" y="51"/>
                    </a:lnTo>
                    <a:lnTo>
                      <a:pt x="228" y="69"/>
                    </a:lnTo>
                    <a:lnTo>
                      <a:pt x="291" y="83"/>
                    </a:lnTo>
                    <a:lnTo>
                      <a:pt x="350" y="95"/>
                    </a:lnTo>
                    <a:lnTo>
                      <a:pt x="403" y="106"/>
                    </a:lnTo>
                    <a:lnTo>
                      <a:pt x="452" y="115"/>
                    </a:lnTo>
                    <a:lnTo>
                      <a:pt x="497" y="122"/>
                    </a:lnTo>
                    <a:lnTo>
                      <a:pt x="576" y="135"/>
                    </a:lnTo>
                    <a:lnTo>
                      <a:pt x="645" y="149"/>
                    </a:lnTo>
                    <a:lnTo>
                      <a:pt x="677" y="156"/>
                    </a:lnTo>
                    <a:lnTo>
                      <a:pt x="707" y="165"/>
                    </a:lnTo>
                    <a:lnTo>
                      <a:pt x="737" y="175"/>
                    </a:lnTo>
                    <a:lnTo>
                      <a:pt x="766" y="188"/>
                    </a:lnTo>
                    <a:lnTo>
                      <a:pt x="902" y="175"/>
                    </a:lnTo>
                    <a:lnTo>
                      <a:pt x="1027" y="163"/>
                    </a:lnTo>
                    <a:lnTo>
                      <a:pt x="1140" y="149"/>
                    </a:lnTo>
                    <a:lnTo>
                      <a:pt x="1241" y="138"/>
                    </a:lnTo>
                    <a:lnTo>
                      <a:pt x="1289" y="132"/>
                    </a:lnTo>
                    <a:lnTo>
                      <a:pt x="1334" y="127"/>
                    </a:lnTo>
                    <a:lnTo>
                      <a:pt x="1379" y="124"/>
                    </a:lnTo>
                    <a:lnTo>
                      <a:pt x="1421" y="121"/>
                    </a:lnTo>
                    <a:lnTo>
                      <a:pt x="1462" y="118"/>
                    </a:lnTo>
                    <a:lnTo>
                      <a:pt x="1502" y="118"/>
                    </a:lnTo>
                    <a:lnTo>
                      <a:pt x="1541" y="118"/>
                    </a:lnTo>
                    <a:lnTo>
                      <a:pt x="1580" y="12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4919760" y="3541680"/>
                <a:ext cx="393480" cy="57240"/>
              </a:xfrm>
              <a:custGeom>
                <a:avLst/>
                <a:gdLst/>
                <a:ahLst/>
                <a:rect l="l" t="t" r="r" b="b"/>
                <a:pathLst>
                  <a:path w="1239" h="180">
                    <a:moveTo>
                      <a:pt x="115" y="72"/>
                    </a:moveTo>
                    <a:lnTo>
                      <a:pt x="114" y="72"/>
                    </a:lnTo>
                    <a:lnTo>
                      <a:pt x="195" y="79"/>
                    </a:lnTo>
                    <a:lnTo>
                      <a:pt x="273" y="86"/>
                    </a:lnTo>
                    <a:lnTo>
                      <a:pt x="346" y="90"/>
                    </a:lnTo>
                    <a:lnTo>
                      <a:pt x="416" y="95"/>
                    </a:lnTo>
                    <a:lnTo>
                      <a:pt x="542" y="101"/>
                    </a:lnTo>
                    <a:lnTo>
                      <a:pt x="654" y="104"/>
                    </a:lnTo>
                    <a:lnTo>
                      <a:pt x="753" y="105"/>
                    </a:lnTo>
                    <a:lnTo>
                      <a:pt x="839" y="105"/>
                    </a:lnTo>
                    <a:lnTo>
                      <a:pt x="913" y="105"/>
                    </a:lnTo>
                    <a:lnTo>
                      <a:pt x="976" y="104"/>
                    </a:lnTo>
                    <a:lnTo>
                      <a:pt x="1029" y="105"/>
                    </a:lnTo>
                    <a:lnTo>
                      <a:pt x="1075" y="106"/>
                    </a:lnTo>
                    <a:lnTo>
                      <a:pt x="1094" y="108"/>
                    </a:lnTo>
                    <a:lnTo>
                      <a:pt x="1111" y="111"/>
                    </a:lnTo>
                    <a:lnTo>
                      <a:pt x="1127" y="113"/>
                    </a:lnTo>
                    <a:lnTo>
                      <a:pt x="1139" y="116"/>
                    </a:lnTo>
                    <a:lnTo>
                      <a:pt x="1144" y="118"/>
                    </a:lnTo>
                    <a:lnTo>
                      <a:pt x="1139" y="115"/>
                    </a:lnTo>
                    <a:lnTo>
                      <a:pt x="1113" y="102"/>
                    </a:lnTo>
                    <a:lnTo>
                      <a:pt x="1096" y="90"/>
                    </a:lnTo>
                    <a:lnTo>
                      <a:pt x="1096" y="90"/>
                    </a:lnTo>
                    <a:lnTo>
                      <a:pt x="1103" y="97"/>
                    </a:lnTo>
                    <a:lnTo>
                      <a:pt x="1111" y="106"/>
                    </a:lnTo>
                    <a:lnTo>
                      <a:pt x="1119" y="119"/>
                    </a:lnTo>
                    <a:lnTo>
                      <a:pt x="1239" y="180"/>
                    </a:lnTo>
                    <a:lnTo>
                      <a:pt x="1229" y="167"/>
                    </a:lnTo>
                    <a:lnTo>
                      <a:pt x="1217" y="153"/>
                    </a:lnTo>
                    <a:lnTo>
                      <a:pt x="1205" y="139"/>
                    </a:lnTo>
                    <a:lnTo>
                      <a:pt x="1183" y="122"/>
                    </a:lnTo>
                    <a:lnTo>
                      <a:pt x="1144" y="95"/>
                    </a:lnTo>
                    <a:lnTo>
                      <a:pt x="1095" y="69"/>
                    </a:lnTo>
                    <a:lnTo>
                      <a:pt x="1062" y="54"/>
                    </a:lnTo>
                    <a:lnTo>
                      <a:pt x="1039" y="47"/>
                    </a:lnTo>
                    <a:lnTo>
                      <a:pt x="1021" y="42"/>
                    </a:lnTo>
                    <a:lnTo>
                      <a:pt x="1002" y="39"/>
                    </a:lnTo>
                    <a:lnTo>
                      <a:pt x="982" y="37"/>
                    </a:lnTo>
                    <a:lnTo>
                      <a:pt x="962" y="34"/>
                    </a:lnTo>
                    <a:lnTo>
                      <a:pt x="916" y="33"/>
                    </a:lnTo>
                    <a:lnTo>
                      <a:pt x="862" y="32"/>
                    </a:lnTo>
                    <a:lnTo>
                      <a:pt x="798" y="33"/>
                    </a:lnTo>
                    <a:lnTo>
                      <a:pt x="724" y="33"/>
                    </a:lnTo>
                    <a:lnTo>
                      <a:pt x="638" y="33"/>
                    </a:lnTo>
                    <a:lnTo>
                      <a:pt x="541" y="32"/>
                    </a:lnTo>
                    <a:lnTo>
                      <a:pt x="429" y="29"/>
                    </a:lnTo>
                    <a:lnTo>
                      <a:pt x="303" y="23"/>
                    </a:lnTo>
                    <a:lnTo>
                      <a:pt x="233" y="18"/>
                    </a:lnTo>
                    <a:lnTo>
                      <a:pt x="160" y="14"/>
                    </a:lnTo>
                    <a:lnTo>
                      <a:pt x="83" y="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15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4745160" y="3538440"/>
                <a:ext cx="210960" cy="25560"/>
              </a:xfrm>
              <a:custGeom>
                <a:avLst/>
                <a:gdLst/>
                <a:ahLst/>
                <a:rect l="l" t="t" r="r" b="b"/>
                <a:pathLst>
                  <a:path w="668" h="79">
                    <a:moveTo>
                      <a:pt x="104" y="8"/>
                    </a:moveTo>
                    <a:lnTo>
                      <a:pt x="210" y="79"/>
                    </a:lnTo>
                    <a:lnTo>
                      <a:pt x="357" y="74"/>
                    </a:lnTo>
                    <a:lnTo>
                      <a:pt x="432" y="72"/>
                    </a:lnTo>
                    <a:lnTo>
                      <a:pt x="449" y="72"/>
                    </a:lnTo>
                    <a:lnTo>
                      <a:pt x="456" y="72"/>
                    </a:lnTo>
                    <a:lnTo>
                      <a:pt x="449" y="71"/>
                    </a:lnTo>
                    <a:lnTo>
                      <a:pt x="341" y="3"/>
                    </a:lnTo>
                    <a:lnTo>
                      <a:pt x="342" y="1"/>
                    </a:lnTo>
                    <a:lnTo>
                      <a:pt x="341" y="3"/>
                    </a:lnTo>
                    <a:lnTo>
                      <a:pt x="338" y="4"/>
                    </a:lnTo>
                    <a:lnTo>
                      <a:pt x="438" y="71"/>
                    </a:lnTo>
                    <a:lnTo>
                      <a:pt x="459" y="77"/>
                    </a:lnTo>
                    <a:lnTo>
                      <a:pt x="474" y="78"/>
                    </a:lnTo>
                    <a:lnTo>
                      <a:pt x="537" y="79"/>
                    </a:lnTo>
                    <a:lnTo>
                      <a:pt x="668" y="79"/>
                    </a:lnTo>
                    <a:lnTo>
                      <a:pt x="553" y="7"/>
                    </a:lnTo>
                    <a:lnTo>
                      <a:pt x="423" y="7"/>
                    </a:lnTo>
                    <a:lnTo>
                      <a:pt x="360" y="6"/>
                    </a:lnTo>
                    <a:lnTo>
                      <a:pt x="347" y="5"/>
                    </a:lnTo>
                    <a:lnTo>
                      <a:pt x="359" y="8"/>
                    </a:lnTo>
                    <a:lnTo>
                      <a:pt x="458" y="74"/>
                    </a:lnTo>
                    <a:lnTo>
                      <a:pt x="459" y="73"/>
                    </a:lnTo>
                    <a:lnTo>
                      <a:pt x="460" y="73"/>
                    </a:lnTo>
                    <a:lnTo>
                      <a:pt x="463" y="72"/>
                    </a:lnTo>
                    <a:lnTo>
                      <a:pt x="354" y="3"/>
                    </a:lnTo>
                    <a:lnTo>
                      <a:pt x="343" y="0"/>
                    </a:lnTo>
                    <a:lnTo>
                      <a:pt x="334" y="0"/>
                    </a:lnTo>
                    <a:lnTo>
                      <a:pt x="317" y="0"/>
                    </a:lnTo>
                    <a:lnTo>
                      <a:pt x="241" y="3"/>
                    </a:lnTo>
                    <a:lnTo>
                      <a:pt x="94" y="7"/>
                    </a:lnTo>
                    <a:lnTo>
                      <a:pt x="200" y="78"/>
                    </a:lnTo>
                    <a:lnTo>
                      <a:pt x="94" y="7"/>
                    </a:lnTo>
                    <a:lnTo>
                      <a:pt x="0" y="16"/>
                    </a:lnTo>
                    <a:lnTo>
                      <a:pt x="200" y="78"/>
                    </a:lnTo>
                    <a:lnTo>
                      <a:pt x="104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4778280" y="3541680"/>
                <a:ext cx="276480" cy="79560"/>
              </a:xfrm>
              <a:custGeom>
                <a:avLst/>
                <a:gdLst/>
                <a:ahLst/>
                <a:rect l="l" t="t" r="r" b="b"/>
                <a:pathLst>
                  <a:path w="873" h="252">
                    <a:moveTo>
                      <a:pt x="758" y="181"/>
                    </a:moveTo>
                    <a:lnTo>
                      <a:pt x="788" y="191"/>
                    </a:lnTo>
                    <a:lnTo>
                      <a:pt x="746" y="173"/>
                    </a:lnTo>
                    <a:lnTo>
                      <a:pt x="710" y="160"/>
                    </a:lnTo>
                    <a:lnTo>
                      <a:pt x="676" y="150"/>
                    </a:lnTo>
                    <a:lnTo>
                      <a:pt x="641" y="142"/>
                    </a:lnTo>
                    <a:lnTo>
                      <a:pt x="571" y="128"/>
                    </a:lnTo>
                    <a:lnTo>
                      <a:pt x="491" y="114"/>
                    </a:lnTo>
                    <a:lnTo>
                      <a:pt x="446" y="106"/>
                    </a:lnTo>
                    <a:lnTo>
                      <a:pt x="399" y="98"/>
                    </a:lnTo>
                    <a:lnTo>
                      <a:pt x="345" y="88"/>
                    </a:lnTo>
                    <a:lnTo>
                      <a:pt x="288" y="76"/>
                    </a:lnTo>
                    <a:lnTo>
                      <a:pt x="225" y="62"/>
                    </a:lnTo>
                    <a:lnTo>
                      <a:pt x="156" y="45"/>
                    </a:lnTo>
                    <a:lnTo>
                      <a:pt x="82" y="24"/>
                    </a:lnTo>
                    <a:lnTo>
                      <a:pt x="0" y="0"/>
                    </a:lnTo>
                    <a:lnTo>
                      <a:pt x="96" y="70"/>
                    </a:lnTo>
                    <a:lnTo>
                      <a:pt x="181" y="94"/>
                    </a:lnTo>
                    <a:lnTo>
                      <a:pt x="257" y="114"/>
                    </a:lnTo>
                    <a:lnTo>
                      <a:pt x="328" y="133"/>
                    </a:lnTo>
                    <a:lnTo>
                      <a:pt x="393" y="146"/>
                    </a:lnTo>
                    <a:lnTo>
                      <a:pt x="451" y="159"/>
                    </a:lnTo>
                    <a:lnTo>
                      <a:pt x="506" y="169"/>
                    </a:lnTo>
                    <a:lnTo>
                      <a:pt x="555" y="178"/>
                    </a:lnTo>
                    <a:lnTo>
                      <a:pt x="599" y="186"/>
                    </a:lnTo>
                    <a:lnTo>
                      <a:pt x="679" y="199"/>
                    </a:lnTo>
                    <a:lnTo>
                      <a:pt x="746" y="212"/>
                    </a:lnTo>
                    <a:lnTo>
                      <a:pt x="776" y="219"/>
                    </a:lnTo>
                    <a:lnTo>
                      <a:pt x="803" y="227"/>
                    </a:lnTo>
                    <a:lnTo>
                      <a:pt x="826" y="235"/>
                    </a:lnTo>
                    <a:lnTo>
                      <a:pt x="842" y="242"/>
                    </a:lnTo>
                    <a:lnTo>
                      <a:pt x="873" y="252"/>
                    </a:lnTo>
                    <a:lnTo>
                      <a:pt x="842" y="242"/>
                    </a:lnTo>
                    <a:lnTo>
                      <a:pt x="866" y="252"/>
                    </a:lnTo>
                    <a:lnTo>
                      <a:pt x="873" y="252"/>
                    </a:lnTo>
                    <a:lnTo>
                      <a:pt x="758" y="1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5018040" y="3576600"/>
                <a:ext cx="297000" cy="44640"/>
              </a:xfrm>
              <a:custGeom>
                <a:avLst/>
                <a:gdLst/>
                <a:ahLst/>
                <a:rect l="l" t="t" r="r" b="b"/>
                <a:pathLst>
                  <a:path w="933" h="142">
                    <a:moveTo>
                      <a:pt x="810" y="8"/>
                    </a:moveTo>
                    <a:lnTo>
                      <a:pt x="814" y="2"/>
                    </a:lnTo>
                    <a:lnTo>
                      <a:pt x="775" y="1"/>
                    </a:lnTo>
                    <a:lnTo>
                      <a:pt x="736" y="0"/>
                    </a:lnTo>
                    <a:lnTo>
                      <a:pt x="696" y="1"/>
                    </a:lnTo>
                    <a:lnTo>
                      <a:pt x="655" y="2"/>
                    </a:lnTo>
                    <a:lnTo>
                      <a:pt x="612" y="5"/>
                    </a:lnTo>
                    <a:lnTo>
                      <a:pt x="567" y="9"/>
                    </a:lnTo>
                    <a:lnTo>
                      <a:pt x="522" y="13"/>
                    </a:lnTo>
                    <a:lnTo>
                      <a:pt x="474" y="19"/>
                    </a:lnTo>
                    <a:lnTo>
                      <a:pt x="372" y="32"/>
                    </a:lnTo>
                    <a:lnTo>
                      <a:pt x="260" y="44"/>
                    </a:lnTo>
                    <a:lnTo>
                      <a:pt x="135" y="58"/>
                    </a:lnTo>
                    <a:lnTo>
                      <a:pt x="0" y="71"/>
                    </a:lnTo>
                    <a:lnTo>
                      <a:pt x="115" y="142"/>
                    </a:lnTo>
                    <a:lnTo>
                      <a:pt x="252" y="130"/>
                    </a:lnTo>
                    <a:lnTo>
                      <a:pt x="376" y="116"/>
                    </a:lnTo>
                    <a:lnTo>
                      <a:pt x="489" y="104"/>
                    </a:lnTo>
                    <a:lnTo>
                      <a:pt x="590" y="91"/>
                    </a:lnTo>
                    <a:lnTo>
                      <a:pt x="638" y="86"/>
                    </a:lnTo>
                    <a:lnTo>
                      <a:pt x="684" y="82"/>
                    </a:lnTo>
                    <a:lnTo>
                      <a:pt x="728" y="77"/>
                    </a:lnTo>
                    <a:lnTo>
                      <a:pt x="770" y="75"/>
                    </a:lnTo>
                    <a:lnTo>
                      <a:pt x="811" y="73"/>
                    </a:lnTo>
                    <a:lnTo>
                      <a:pt x="850" y="72"/>
                    </a:lnTo>
                    <a:lnTo>
                      <a:pt x="889" y="73"/>
                    </a:lnTo>
                    <a:lnTo>
                      <a:pt x="926" y="75"/>
                    </a:lnTo>
                    <a:lnTo>
                      <a:pt x="930" y="69"/>
                    </a:lnTo>
                    <a:lnTo>
                      <a:pt x="926" y="75"/>
                    </a:lnTo>
                    <a:lnTo>
                      <a:pt x="933" y="75"/>
                    </a:lnTo>
                    <a:lnTo>
                      <a:pt x="930" y="69"/>
                    </a:lnTo>
                    <a:lnTo>
                      <a:pt x="810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4106880" y="3801960"/>
                <a:ext cx="784080" cy="73080"/>
              </a:xfrm>
              <a:custGeom>
                <a:avLst/>
                <a:gdLst/>
                <a:ahLst/>
                <a:rect l="l" t="t" r="r" b="b"/>
                <a:pathLst>
                  <a:path w="2470" h="234">
                    <a:moveTo>
                      <a:pt x="0" y="114"/>
                    </a:moveTo>
                    <a:lnTo>
                      <a:pt x="39" y="108"/>
                    </a:lnTo>
                    <a:lnTo>
                      <a:pt x="77" y="102"/>
                    </a:lnTo>
                    <a:lnTo>
                      <a:pt x="116" y="97"/>
                    </a:lnTo>
                    <a:lnTo>
                      <a:pt x="155" y="95"/>
                    </a:lnTo>
                    <a:lnTo>
                      <a:pt x="195" y="93"/>
                    </a:lnTo>
                    <a:lnTo>
                      <a:pt x="234" y="91"/>
                    </a:lnTo>
                    <a:lnTo>
                      <a:pt x="274" y="91"/>
                    </a:lnTo>
                    <a:lnTo>
                      <a:pt x="313" y="91"/>
                    </a:lnTo>
                    <a:lnTo>
                      <a:pt x="473" y="95"/>
                    </a:lnTo>
                    <a:lnTo>
                      <a:pt x="634" y="101"/>
                    </a:lnTo>
                    <a:lnTo>
                      <a:pt x="674" y="102"/>
                    </a:lnTo>
                    <a:lnTo>
                      <a:pt x="714" y="102"/>
                    </a:lnTo>
                    <a:lnTo>
                      <a:pt x="752" y="102"/>
                    </a:lnTo>
                    <a:lnTo>
                      <a:pt x="792" y="102"/>
                    </a:lnTo>
                    <a:lnTo>
                      <a:pt x="832" y="100"/>
                    </a:lnTo>
                    <a:lnTo>
                      <a:pt x="871" y="97"/>
                    </a:lnTo>
                    <a:lnTo>
                      <a:pt x="910" y="94"/>
                    </a:lnTo>
                    <a:lnTo>
                      <a:pt x="948" y="89"/>
                    </a:lnTo>
                    <a:lnTo>
                      <a:pt x="986" y="84"/>
                    </a:lnTo>
                    <a:lnTo>
                      <a:pt x="1025" y="77"/>
                    </a:lnTo>
                    <a:lnTo>
                      <a:pt x="1062" y="69"/>
                    </a:lnTo>
                    <a:lnTo>
                      <a:pt x="1100" y="59"/>
                    </a:lnTo>
                    <a:lnTo>
                      <a:pt x="1137" y="47"/>
                    </a:lnTo>
                    <a:lnTo>
                      <a:pt x="1173" y="33"/>
                    </a:lnTo>
                    <a:lnTo>
                      <a:pt x="1210" y="19"/>
                    </a:lnTo>
                    <a:lnTo>
                      <a:pt x="1245" y="0"/>
                    </a:lnTo>
                    <a:lnTo>
                      <a:pt x="1287" y="2"/>
                    </a:lnTo>
                    <a:lnTo>
                      <a:pt x="1328" y="3"/>
                    </a:lnTo>
                    <a:lnTo>
                      <a:pt x="1369" y="5"/>
                    </a:lnTo>
                    <a:lnTo>
                      <a:pt x="1408" y="8"/>
                    </a:lnTo>
                    <a:lnTo>
                      <a:pt x="1447" y="12"/>
                    </a:lnTo>
                    <a:lnTo>
                      <a:pt x="1484" y="15"/>
                    </a:lnTo>
                    <a:lnTo>
                      <a:pt x="1521" y="21"/>
                    </a:lnTo>
                    <a:lnTo>
                      <a:pt x="1558" y="25"/>
                    </a:lnTo>
                    <a:lnTo>
                      <a:pt x="1629" y="37"/>
                    </a:lnTo>
                    <a:lnTo>
                      <a:pt x="1700" y="51"/>
                    </a:lnTo>
                    <a:lnTo>
                      <a:pt x="1769" y="64"/>
                    </a:lnTo>
                    <a:lnTo>
                      <a:pt x="1839" y="79"/>
                    </a:lnTo>
                    <a:lnTo>
                      <a:pt x="1909" y="94"/>
                    </a:lnTo>
                    <a:lnTo>
                      <a:pt x="1980" y="108"/>
                    </a:lnTo>
                    <a:lnTo>
                      <a:pt x="2054" y="121"/>
                    </a:lnTo>
                    <a:lnTo>
                      <a:pt x="2129" y="135"/>
                    </a:lnTo>
                    <a:lnTo>
                      <a:pt x="2168" y="141"/>
                    </a:lnTo>
                    <a:lnTo>
                      <a:pt x="2208" y="146"/>
                    </a:lnTo>
                    <a:lnTo>
                      <a:pt x="2249" y="151"/>
                    </a:lnTo>
                    <a:lnTo>
                      <a:pt x="2291" y="156"/>
                    </a:lnTo>
                    <a:lnTo>
                      <a:pt x="2335" y="159"/>
                    </a:lnTo>
                    <a:lnTo>
                      <a:pt x="2378" y="162"/>
                    </a:lnTo>
                    <a:lnTo>
                      <a:pt x="2424" y="166"/>
                    </a:lnTo>
                    <a:lnTo>
                      <a:pt x="2470" y="167"/>
                    </a:lnTo>
                    <a:lnTo>
                      <a:pt x="2427" y="180"/>
                    </a:lnTo>
                    <a:lnTo>
                      <a:pt x="2383" y="189"/>
                    </a:lnTo>
                    <a:lnTo>
                      <a:pt x="2337" y="198"/>
                    </a:lnTo>
                    <a:lnTo>
                      <a:pt x="2290" y="203"/>
                    </a:lnTo>
                    <a:lnTo>
                      <a:pt x="2243" y="209"/>
                    </a:lnTo>
                    <a:lnTo>
                      <a:pt x="2197" y="213"/>
                    </a:lnTo>
                    <a:lnTo>
                      <a:pt x="2149" y="215"/>
                    </a:lnTo>
                    <a:lnTo>
                      <a:pt x="2102" y="216"/>
                    </a:lnTo>
                    <a:lnTo>
                      <a:pt x="2054" y="217"/>
                    </a:lnTo>
                    <a:lnTo>
                      <a:pt x="2006" y="216"/>
                    </a:lnTo>
                    <a:lnTo>
                      <a:pt x="1958" y="215"/>
                    </a:lnTo>
                    <a:lnTo>
                      <a:pt x="1911" y="213"/>
                    </a:lnTo>
                    <a:lnTo>
                      <a:pt x="1818" y="206"/>
                    </a:lnTo>
                    <a:lnTo>
                      <a:pt x="1727" y="198"/>
                    </a:lnTo>
                    <a:lnTo>
                      <a:pt x="1557" y="181"/>
                    </a:lnTo>
                    <a:lnTo>
                      <a:pt x="1409" y="168"/>
                    </a:lnTo>
                    <a:lnTo>
                      <a:pt x="1377" y="166"/>
                    </a:lnTo>
                    <a:lnTo>
                      <a:pt x="1346" y="165"/>
                    </a:lnTo>
                    <a:lnTo>
                      <a:pt x="1318" y="165"/>
                    </a:lnTo>
                    <a:lnTo>
                      <a:pt x="1292" y="166"/>
                    </a:lnTo>
                    <a:lnTo>
                      <a:pt x="1268" y="168"/>
                    </a:lnTo>
                    <a:lnTo>
                      <a:pt x="1246" y="172"/>
                    </a:lnTo>
                    <a:lnTo>
                      <a:pt x="1228" y="176"/>
                    </a:lnTo>
                    <a:lnTo>
                      <a:pt x="1212" y="182"/>
                    </a:lnTo>
                    <a:lnTo>
                      <a:pt x="1189" y="193"/>
                    </a:lnTo>
                    <a:lnTo>
                      <a:pt x="1164" y="203"/>
                    </a:lnTo>
                    <a:lnTo>
                      <a:pt x="1137" y="211"/>
                    </a:lnTo>
                    <a:lnTo>
                      <a:pt x="1106" y="218"/>
                    </a:lnTo>
                    <a:lnTo>
                      <a:pt x="1074" y="224"/>
                    </a:lnTo>
                    <a:lnTo>
                      <a:pt x="1039" y="229"/>
                    </a:lnTo>
                    <a:lnTo>
                      <a:pt x="1002" y="231"/>
                    </a:lnTo>
                    <a:lnTo>
                      <a:pt x="964" y="233"/>
                    </a:lnTo>
                    <a:lnTo>
                      <a:pt x="925" y="234"/>
                    </a:lnTo>
                    <a:lnTo>
                      <a:pt x="883" y="233"/>
                    </a:lnTo>
                    <a:lnTo>
                      <a:pt x="841" y="232"/>
                    </a:lnTo>
                    <a:lnTo>
                      <a:pt x="798" y="230"/>
                    </a:lnTo>
                    <a:lnTo>
                      <a:pt x="754" y="226"/>
                    </a:lnTo>
                    <a:lnTo>
                      <a:pt x="709" y="223"/>
                    </a:lnTo>
                    <a:lnTo>
                      <a:pt x="663" y="218"/>
                    </a:lnTo>
                    <a:lnTo>
                      <a:pt x="618" y="214"/>
                    </a:lnTo>
                    <a:lnTo>
                      <a:pt x="527" y="201"/>
                    </a:lnTo>
                    <a:lnTo>
                      <a:pt x="437" y="189"/>
                    </a:lnTo>
                    <a:lnTo>
                      <a:pt x="349" y="175"/>
                    </a:lnTo>
                    <a:lnTo>
                      <a:pt x="266" y="161"/>
                    </a:lnTo>
                    <a:lnTo>
                      <a:pt x="116" y="134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4087800" y="3790800"/>
                <a:ext cx="433440" cy="59040"/>
              </a:xfrm>
              <a:custGeom>
                <a:avLst/>
                <a:gdLst/>
                <a:ahLst/>
                <a:rect l="l" t="t" r="r" b="b"/>
                <a:pathLst>
                  <a:path w="1363" h="185">
                    <a:moveTo>
                      <a:pt x="1246" y="0"/>
                    </a:moveTo>
                    <a:lnTo>
                      <a:pt x="1244" y="0"/>
                    </a:lnTo>
                    <a:lnTo>
                      <a:pt x="1208" y="17"/>
                    </a:lnTo>
                    <a:lnTo>
                      <a:pt x="1172" y="33"/>
                    </a:lnTo>
                    <a:lnTo>
                      <a:pt x="1135" y="46"/>
                    </a:lnTo>
                    <a:lnTo>
                      <a:pt x="1099" y="58"/>
                    </a:lnTo>
                    <a:lnTo>
                      <a:pt x="1061" y="67"/>
                    </a:lnTo>
                    <a:lnTo>
                      <a:pt x="1024" y="76"/>
                    </a:lnTo>
                    <a:lnTo>
                      <a:pt x="986" y="83"/>
                    </a:lnTo>
                    <a:lnTo>
                      <a:pt x="948" y="89"/>
                    </a:lnTo>
                    <a:lnTo>
                      <a:pt x="910" y="94"/>
                    </a:lnTo>
                    <a:lnTo>
                      <a:pt x="871" y="97"/>
                    </a:lnTo>
                    <a:lnTo>
                      <a:pt x="832" y="99"/>
                    </a:lnTo>
                    <a:lnTo>
                      <a:pt x="793" y="100"/>
                    </a:lnTo>
                    <a:lnTo>
                      <a:pt x="753" y="102"/>
                    </a:lnTo>
                    <a:lnTo>
                      <a:pt x="715" y="102"/>
                    </a:lnTo>
                    <a:lnTo>
                      <a:pt x="675" y="100"/>
                    </a:lnTo>
                    <a:lnTo>
                      <a:pt x="635" y="100"/>
                    </a:lnTo>
                    <a:lnTo>
                      <a:pt x="475" y="94"/>
                    </a:lnTo>
                    <a:lnTo>
                      <a:pt x="314" y="89"/>
                    </a:lnTo>
                    <a:lnTo>
                      <a:pt x="275" y="89"/>
                    </a:lnTo>
                    <a:lnTo>
                      <a:pt x="235" y="90"/>
                    </a:lnTo>
                    <a:lnTo>
                      <a:pt x="195" y="91"/>
                    </a:lnTo>
                    <a:lnTo>
                      <a:pt x="156" y="94"/>
                    </a:lnTo>
                    <a:lnTo>
                      <a:pt x="116" y="97"/>
                    </a:lnTo>
                    <a:lnTo>
                      <a:pt x="77" y="100"/>
                    </a:lnTo>
                    <a:lnTo>
                      <a:pt x="39" y="106"/>
                    </a:lnTo>
                    <a:lnTo>
                      <a:pt x="0" y="113"/>
                    </a:lnTo>
                    <a:lnTo>
                      <a:pt x="117" y="185"/>
                    </a:lnTo>
                    <a:lnTo>
                      <a:pt x="155" y="178"/>
                    </a:lnTo>
                    <a:lnTo>
                      <a:pt x="194" y="173"/>
                    </a:lnTo>
                    <a:lnTo>
                      <a:pt x="232" y="169"/>
                    </a:lnTo>
                    <a:lnTo>
                      <a:pt x="271" y="165"/>
                    </a:lnTo>
                    <a:lnTo>
                      <a:pt x="310" y="163"/>
                    </a:lnTo>
                    <a:lnTo>
                      <a:pt x="350" y="162"/>
                    </a:lnTo>
                    <a:lnTo>
                      <a:pt x="390" y="162"/>
                    </a:lnTo>
                    <a:lnTo>
                      <a:pt x="428" y="162"/>
                    </a:lnTo>
                    <a:lnTo>
                      <a:pt x="588" y="167"/>
                    </a:lnTo>
                    <a:lnTo>
                      <a:pt x="749" y="172"/>
                    </a:lnTo>
                    <a:lnTo>
                      <a:pt x="789" y="173"/>
                    </a:lnTo>
                    <a:lnTo>
                      <a:pt x="829" y="173"/>
                    </a:lnTo>
                    <a:lnTo>
                      <a:pt x="869" y="173"/>
                    </a:lnTo>
                    <a:lnTo>
                      <a:pt x="907" y="172"/>
                    </a:lnTo>
                    <a:lnTo>
                      <a:pt x="947" y="171"/>
                    </a:lnTo>
                    <a:lnTo>
                      <a:pt x="987" y="169"/>
                    </a:lnTo>
                    <a:lnTo>
                      <a:pt x="1026" y="165"/>
                    </a:lnTo>
                    <a:lnTo>
                      <a:pt x="1065" y="161"/>
                    </a:lnTo>
                    <a:lnTo>
                      <a:pt x="1103" y="155"/>
                    </a:lnTo>
                    <a:lnTo>
                      <a:pt x="1141" y="148"/>
                    </a:lnTo>
                    <a:lnTo>
                      <a:pt x="1179" y="139"/>
                    </a:lnTo>
                    <a:lnTo>
                      <a:pt x="1217" y="129"/>
                    </a:lnTo>
                    <a:lnTo>
                      <a:pt x="1254" y="118"/>
                    </a:lnTo>
                    <a:lnTo>
                      <a:pt x="1290" y="104"/>
                    </a:lnTo>
                    <a:lnTo>
                      <a:pt x="1327" y="89"/>
                    </a:lnTo>
                    <a:lnTo>
                      <a:pt x="1363" y="72"/>
                    </a:lnTo>
                    <a:lnTo>
                      <a:pt x="1360" y="72"/>
                    </a:lnTo>
                    <a:lnTo>
                      <a:pt x="1246" y="0"/>
                    </a:lnTo>
                    <a:lnTo>
                      <a:pt x="1245" y="0"/>
                    </a:lnTo>
                    <a:lnTo>
                      <a:pt x="1244" y="0"/>
                    </a:lnTo>
                    <a:lnTo>
                      <a:pt x="124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4483080" y="3790800"/>
                <a:ext cx="466920" cy="74880"/>
              </a:xfrm>
              <a:custGeom>
                <a:avLst/>
                <a:gdLst/>
                <a:ahLst/>
                <a:rect l="l" t="t" r="r" b="b"/>
                <a:pathLst>
                  <a:path w="1470" h="238">
                    <a:moveTo>
                      <a:pt x="1342" y="238"/>
                    </a:moveTo>
                    <a:lnTo>
                      <a:pt x="1226" y="167"/>
                    </a:lnTo>
                    <a:lnTo>
                      <a:pt x="1180" y="164"/>
                    </a:lnTo>
                    <a:lnTo>
                      <a:pt x="1134" y="162"/>
                    </a:lnTo>
                    <a:lnTo>
                      <a:pt x="1091" y="159"/>
                    </a:lnTo>
                    <a:lnTo>
                      <a:pt x="1048" y="154"/>
                    </a:lnTo>
                    <a:lnTo>
                      <a:pt x="1006" y="151"/>
                    </a:lnTo>
                    <a:lnTo>
                      <a:pt x="965" y="145"/>
                    </a:lnTo>
                    <a:lnTo>
                      <a:pt x="926" y="139"/>
                    </a:lnTo>
                    <a:lnTo>
                      <a:pt x="887" y="134"/>
                    </a:lnTo>
                    <a:lnTo>
                      <a:pt x="812" y="121"/>
                    </a:lnTo>
                    <a:lnTo>
                      <a:pt x="740" y="107"/>
                    </a:lnTo>
                    <a:lnTo>
                      <a:pt x="668" y="92"/>
                    </a:lnTo>
                    <a:lnTo>
                      <a:pt x="598" y="79"/>
                    </a:lnTo>
                    <a:lnTo>
                      <a:pt x="529" y="64"/>
                    </a:lnTo>
                    <a:lnTo>
                      <a:pt x="458" y="49"/>
                    </a:lnTo>
                    <a:lnTo>
                      <a:pt x="387" y="37"/>
                    </a:lnTo>
                    <a:lnTo>
                      <a:pt x="316" y="25"/>
                    </a:lnTo>
                    <a:lnTo>
                      <a:pt x="278" y="19"/>
                    </a:lnTo>
                    <a:lnTo>
                      <a:pt x="240" y="15"/>
                    </a:lnTo>
                    <a:lnTo>
                      <a:pt x="203" y="10"/>
                    </a:lnTo>
                    <a:lnTo>
                      <a:pt x="164" y="7"/>
                    </a:lnTo>
                    <a:lnTo>
                      <a:pt x="124" y="5"/>
                    </a:lnTo>
                    <a:lnTo>
                      <a:pt x="84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14" y="72"/>
                    </a:lnTo>
                    <a:lnTo>
                      <a:pt x="156" y="73"/>
                    </a:lnTo>
                    <a:lnTo>
                      <a:pt x="197" y="74"/>
                    </a:lnTo>
                    <a:lnTo>
                      <a:pt x="237" y="76"/>
                    </a:lnTo>
                    <a:lnTo>
                      <a:pt x="276" y="79"/>
                    </a:lnTo>
                    <a:lnTo>
                      <a:pt x="314" y="82"/>
                    </a:lnTo>
                    <a:lnTo>
                      <a:pt x="351" y="87"/>
                    </a:lnTo>
                    <a:lnTo>
                      <a:pt x="389" y="91"/>
                    </a:lnTo>
                    <a:lnTo>
                      <a:pt x="424" y="96"/>
                    </a:lnTo>
                    <a:lnTo>
                      <a:pt x="496" y="108"/>
                    </a:lnTo>
                    <a:lnTo>
                      <a:pt x="565" y="121"/>
                    </a:lnTo>
                    <a:lnTo>
                      <a:pt x="635" y="135"/>
                    </a:lnTo>
                    <a:lnTo>
                      <a:pt x="703" y="149"/>
                    </a:lnTo>
                    <a:lnTo>
                      <a:pt x="774" y="164"/>
                    </a:lnTo>
                    <a:lnTo>
                      <a:pt x="846" y="178"/>
                    </a:lnTo>
                    <a:lnTo>
                      <a:pt x="920" y="193"/>
                    </a:lnTo>
                    <a:lnTo>
                      <a:pt x="996" y="205"/>
                    </a:lnTo>
                    <a:lnTo>
                      <a:pt x="1035" y="211"/>
                    </a:lnTo>
                    <a:lnTo>
                      <a:pt x="1076" y="217"/>
                    </a:lnTo>
                    <a:lnTo>
                      <a:pt x="1117" y="221"/>
                    </a:lnTo>
                    <a:lnTo>
                      <a:pt x="1159" y="226"/>
                    </a:lnTo>
                    <a:lnTo>
                      <a:pt x="1203" y="230"/>
                    </a:lnTo>
                    <a:lnTo>
                      <a:pt x="1247" y="234"/>
                    </a:lnTo>
                    <a:lnTo>
                      <a:pt x="1293" y="236"/>
                    </a:lnTo>
                    <a:lnTo>
                      <a:pt x="1339" y="238"/>
                    </a:lnTo>
                    <a:lnTo>
                      <a:pt x="1223" y="167"/>
                    </a:lnTo>
                    <a:lnTo>
                      <a:pt x="1342" y="238"/>
                    </a:lnTo>
                    <a:lnTo>
                      <a:pt x="1470" y="185"/>
                    </a:lnTo>
                    <a:lnTo>
                      <a:pt x="1226" y="167"/>
                    </a:lnTo>
                    <a:lnTo>
                      <a:pt x="1342" y="2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4471920" y="3841920"/>
                <a:ext cx="438120" cy="39600"/>
              </a:xfrm>
              <a:custGeom>
                <a:avLst/>
                <a:gdLst/>
                <a:ahLst/>
                <a:rect l="l" t="t" r="r" b="b"/>
                <a:pathLst>
                  <a:path w="1379" h="124">
                    <a:moveTo>
                      <a:pt x="120" y="88"/>
                    </a:moveTo>
                    <a:lnTo>
                      <a:pt x="120" y="88"/>
                    </a:lnTo>
                    <a:lnTo>
                      <a:pt x="136" y="82"/>
                    </a:lnTo>
                    <a:lnTo>
                      <a:pt x="154" y="78"/>
                    </a:lnTo>
                    <a:lnTo>
                      <a:pt x="175" y="74"/>
                    </a:lnTo>
                    <a:lnTo>
                      <a:pt x="199" y="73"/>
                    </a:lnTo>
                    <a:lnTo>
                      <a:pt x="224" y="72"/>
                    </a:lnTo>
                    <a:lnTo>
                      <a:pt x="252" y="72"/>
                    </a:lnTo>
                    <a:lnTo>
                      <a:pt x="282" y="73"/>
                    </a:lnTo>
                    <a:lnTo>
                      <a:pt x="315" y="74"/>
                    </a:lnTo>
                    <a:lnTo>
                      <a:pt x="462" y="88"/>
                    </a:lnTo>
                    <a:lnTo>
                      <a:pt x="632" y="105"/>
                    </a:lnTo>
                    <a:lnTo>
                      <a:pt x="723" y="113"/>
                    </a:lnTo>
                    <a:lnTo>
                      <a:pt x="817" y="119"/>
                    </a:lnTo>
                    <a:lnTo>
                      <a:pt x="864" y="121"/>
                    </a:lnTo>
                    <a:lnTo>
                      <a:pt x="912" y="124"/>
                    </a:lnTo>
                    <a:lnTo>
                      <a:pt x="960" y="124"/>
                    </a:lnTo>
                    <a:lnTo>
                      <a:pt x="1008" y="124"/>
                    </a:lnTo>
                    <a:lnTo>
                      <a:pt x="1056" y="122"/>
                    </a:lnTo>
                    <a:lnTo>
                      <a:pt x="1104" y="120"/>
                    </a:lnTo>
                    <a:lnTo>
                      <a:pt x="1151" y="116"/>
                    </a:lnTo>
                    <a:lnTo>
                      <a:pt x="1199" y="111"/>
                    </a:lnTo>
                    <a:lnTo>
                      <a:pt x="1244" y="104"/>
                    </a:lnTo>
                    <a:lnTo>
                      <a:pt x="1290" y="96"/>
                    </a:lnTo>
                    <a:lnTo>
                      <a:pt x="1335" y="86"/>
                    </a:lnTo>
                    <a:lnTo>
                      <a:pt x="1379" y="74"/>
                    </a:lnTo>
                    <a:lnTo>
                      <a:pt x="1260" y="3"/>
                    </a:lnTo>
                    <a:lnTo>
                      <a:pt x="1217" y="14"/>
                    </a:lnTo>
                    <a:lnTo>
                      <a:pt x="1172" y="24"/>
                    </a:lnTo>
                    <a:lnTo>
                      <a:pt x="1128" y="32"/>
                    </a:lnTo>
                    <a:lnTo>
                      <a:pt x="1081" y="39"/>
                    </a:lnTo>
                    <a:lnTo>
                      <a:pt x="1034" y="44"/>
                    </a:lnTo>
                    <a:lnTo>
                      <a:pt x="988" y="48"/>
                    </a:lnTo>
                    <a:lnTo>
                      <a:pt x="941" y="51"/>
                    </a:lnTo>
                    <a:lnTo>
                      <a:pt x="893" y="52"/>
                    </a:lnTo>
                    <a:lnTo>
                      <a:pt x="845" y="52"/>
                    </a:lnTo>
                    <a:lnTo>
                      <a:pt x="798" y="52"/>
                    </a:lnTo>
                    <a:lnTo>
                      <a:pt x="750" y="49"/>
                    </a:lnTo>
                    <a:lnTo>
                      <a:pt x="704" y="47"/>
                    </a:lnTo>
                    <a:lnTo>
                      <a:pt x="610" y="41"/>
                    </a:lnTo>
                    <a:lnTo>
                      <a:pt x="520" y="33"/>
                    </a:lnTo>
                    <a:lnTo>
                      <a:pt x="350" y="16"/>
                    </a:lnTo>
                    <a:lnTo>
                      <a:pt x="202" y="3"/>
                    </a:lnTo>
                    <a:lnTo>
                      <a:pt x="169" y="1"/>
                    </a:lnTo>
                    <a:lnTo>
                      <a:pt x="138" y="0"/>
                    </a:lnTo>
                    <a:lnTo>
                      <a:pt x="110" y="0"/>
                    </a:lnTo>
                    <a:lnTo>
                      <a:pt x="82" y="1"/>
                    </a:lnTo>
                    <a:lnTo>
                      <a:pt x="59" y="3"/>
                    </a:lnTo>
                    <a:lnTo>
                      <a:pt x="37" y="6"/>
                    </a:lnTo>
                    <a:lnTo>
                      <a:pt x="17" y="1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20" y="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4046400" y="3825720"/>
                <a:ext cx="463680" cy="61920"/>
              </a:xfrm>
              <a:custGeom>
                <a:avLst/>
                <a:gdLst/>
                <a:ahLst/>
                <a:rect l="l" t="t" r="r" b="b"/>
                <a:pathLst>
                  <a:path w="1459" h="192">
                    <a:moveTo>
                      <a:pt x="130" y="0"/>
                    </a:moveTo>
                    <a:lnTo>
                      <a:pt x="243" y="72"/>
                    </a:lnTo>
                    <a:lnTo>
                      <a:pt x="358" y="92"/>
                    </a:lnTo>
                    <a:lnTo>
                      <a:pt x="507" y="119"/>
                    </a:lnTo>
                    <a:lnTo>
                      <a:pt x="592" y="132"/>
                    </a:lnTo>
                    <a:lnTo>
                      <a:pt x="679" y="147"/>
                    </a:lnTo>
                    <a:lnTo>
                      <a:pt x="769" y="160"/>
                    </a:lnTo>
                    <a:lnTo>
                      <a:pt x="861" y="171"/>
                    </a:lnTo>
                    <a:lnTo>
                      <a:pt x="907" y="177"/>
                    </a:lnTo>
                    <a:lnTo>
                      <a:pt x="953" y="181"/>
                    </a:lnTo>
                    <a:lnTo>
                      <a:pt x="997" y="185"/>
                    </a:lnTo>
                    <a:lnTo>
                      <a:pt x="1042" y="188"/>
                    </a:lnTo>
                    <a:lnTo>
                      <a:pt x="1085" y="191"/>
                    </a:lnTo>
                    <a:lnTo>
                      <a:pt x="1128" y="192"/>
                    </a:lnTo>
                    <a:lnTo>
                      <a:pt x="1170" y="192"/>
                    </a:lnTo>
                    <a:lnTo>
                      <a:pt x="1209" y="192"/>
                    </a:lnTo>
                    <a:lnTo>
                      <a:pt x="1248" y="189"/>
                    </a:lnTo>
                    <a:lnTo>
                      <a:pt x="1285" y="187"/>
                    </a:lnTo>
                    <a:lnTo>
                      <a:pt x="1320" y="183"/>
                    </a:lnTo>
                    <a:lnTo>
                      <a:pt x="1353" y="177"/>
                    </a:lnTo>
                    <a:lnTo>
                      <a:pt x="1384" y="170"/>
                    </a:lnTo>
                    <a:lnTo>
                      <a:pt x="1411" y="161"/>
                    </a:lnTo>
                    <a:lnTo>
                      <a:pt x="1425" y="156"/>
                    </a:lnTo>
                    <a:lnTo>
                      <a:pt x="1436" y="152"/>
                    </a:lnTo>
                    <a:lnTo>
                      <a:pt x="1449" y="146"/>
                    </a:lnTo>
                    <a:lnTo>
                      <a:pt x="1459" y="139"/>
                    </a:lnTo>
                    <a:lnTo>
                      <a:pt x="1339" y="68"/>
                    </a:lnTo>
                    <a:lnTo>
                      <a:pt x="1329" y="74"/>
                    </a:lnTo>
                    <a:lnTo>
                      <a:pt x="1318" y="80"/>
                    </a:lnTo>
                    <a:lnTo>
                      <a:pt x="1305" y="84"/>
                    </a:lnTo>
                    <a:lnTo>
                      <a:pt x="1293" y="90"/>
                    </a:lnTo>
                    <a:lnTo>
                      <a:pt x="1265" y="98"/>
                    </a:lnTo>
                    <a:lnTo>
                      <a:pt x="1236" y="105"/>
                    </a:lnTo>
                    <a:lnTo>
                      <a:pt x="1203" y="111"/>
                    </a:lnTo>
                    <a:lnTo>
                      <a:pt x="1168" y="114"/>
                    </a:lnTo>
                    <a:lnTo>
                      <a:pt x="1133" y="117"/>
                    </a:lnTo>
                    <a:lnTo>
                      <a:pt x="1094" y="119"/>
                    </a:lnTo>
                    <a:lnTo>
                      <a:pt x="1056" y="120"/>
                    </a:lnTo>
                    <a:lnTo>
                      <a:pt x="1014" y="120"/>
                    </a:lnTo>
                    <a:lnTo>
                      <a:pt x="972" y="117"/>
                    </a:lnTo>
                    <a:lnTo>
                      <a:pt x="929" y="115"/>
                    </a:lnTo>
                    <a:lnTo>
                      <a:pt x="886" y="113"/>
                    </a:lnTo>
                    <a:lnTo>
                      <a:pt x="840" y="108"/>
                    </a:lnTo>
                    <a:lnTo>
                      <a:pt x="796" y="105"/>
                    </a:lnTo>
                    <a:lnTo>
                      <a:pt x="750" y="99"/>
                    </a:lnTo>
                    <a:lnTo>
                      <a:pt x="660" y="88"/>
                    </a:lnTo>
                    <a:lnTo>
                      <a:pt x="570" y="75"/>
                    </a:lnTo>
                    <a:lnTo>
                      <a:pt x="482" y="62"/>
                    </a:lnTo>
                    <a:lnTo>
                      <a:pt x="399" y="47"/>
                    </a:lnTo>
                    <a:lnTo>
                      <a:pt x="251" y="21"/>
                    </a:lnTo>
                    <a:lnTo>
                      <a:pt x="134" y="0"/>
                    </a:lnTo>
                    <a:lnTo>
                      <a:pt x="247" y="72"/>
                    </a:lnTo>
                    <a:lnTo>
                      <a:pt x="130" y="0"/>
                    </a:lnTo>
                    <a:lnTo>
                      <a:pt x="0" y="32"/>
                    </a:lnTo>
                    <a:lnTo>
                      <a:pt x="243" y="72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4780080" y="3809880"/>
                <a:ext cx="592200" cy="76320"/>
              </a:xfrm>
              <a:custGeom>
                <a:avLst/>
                <a:gdLst/>
                <a:ahLst/>
                <a:rect l="l" t="t" r="r" b="b"/>
                <a:pathLst>
                  <a:path w="1866" h="239">
                    <a:moveTo>
                      <a:pt x="1866" y="120"/>
                    </a:moveTo>
                    <a:lnTo>
                      <a:pt x="1828" y="114"/>
                    </a:lnTo>
                    <a:lnTo>
                      <a:pt x="1789" y="108"/>
                    </a:lnTo>
                    <a:lnTo>
                      <a:pt x="1751" y="104"/>
                    </a:lnTo>
                    <a:lnTo>
                      <a:pt x="1711" y="100"/>
                    </a:lnTo>
                    <a:lnTo>
                      <a:pt x="1672" y="98"/>
                    </a:lnTo>
                    <a:lnTo>
                      <a:pt x="1632" y="97"/>
                    </a:lnTo>
                    <a:lnTo>
                      <a:pt x="1592" y="97"/>
                    </a:lnTo>
                    <a:lnTo>
                      <a:pt x="1553" y="97"/>
                    </a:lnTo>
                    <a:lnTo>
                      <a:pt x="1393" y="101"/>
                    </a:lnTo>
                    <a:lnTo>
                      <a:pt x="1233" y="107"/>
                    </a:lnTo>
                    <a:lnTo>
                      <a:pt x="1193" y="108"/>
                    </a:lnTo>
                    <a:lnTo>
                      <a:pt x="1153" y="108"/>
                    </a:lnTo>
                    <a:lnTo>
                      <a:pt x="1113" y="108"/>
                    </a:lnTo>
                    <a:lnTo>
                      <a:pt x="1075" y="107"/>
                    </a:lnTo>
                    <a:lnTo>
                      <a:pt x="1035" y="106"/>
                    </a:lnTo>
                    <a:lnTo>
                      <a:pt x="996" y="104"/>
                    </a:lnTo>
                    <a:lnTo>
                      <a:pt x="957" y="100"/>
                    </a:lnTo>
                    <a:lnTo>
                      <a:pt x="918" y="96"/>
                    </a:lnTo>
                    <a:lnTo>
                      <a:pt x="880" y="90"/>
                    </a:lnTo>
                    <a:lnTo>
                      <a:pt x="842" y="83"/>
                    </a:lnTo>
                    <a:lnTo>
                      <a:pt x="804" y="74"/>
                    </a:lnTo>
                    <a:lnTo>
                      <a:pt x="767" y="65"/>
                    </a:lnTo>
                    <a:lnTo>
                      <a:pt x="730" y="52"/>
                    </a:lnTo>
                    <a:lnTo>
                      <a:pt x="694" y="40"/>
                    </a:lnTo>
                    <a:lnTo>
                      <a:pt x="657" y="24"/>
                    </a:lnTo>
                    <a:lnTo>
                      <a:pt x="621" y="7"/>
                    </a:lnTo>
                    <a:lnTo>
                      <a:pt x="484" y="7"/>
                    </a:lnTo>
                    <a:lnTo>
                      <a:pt x="402" y="5"/>
                    </a:lnTo>
                    <a:lnTo>
                      <a:pt x="356" y="3"/>
                    </a:lnTo>
                    <a:lnTo>
                      <a:pt x="328" y="1"/>
                    </a:lnTo>
                    <a:lnTo>
                      <a:pt x="298" y="0"/>
                    </a:lnTo>
                    <a:lnTo>
                      <a:pt x="246" y="0"/>
                    </a:lnTo>
                    <a:lnTo>
                      <a:pt x="152" y="2"/>
                    </a:lnTo>
                    <a:lnTo>
                      <a:pt x="0" y="7"/>
                    </a:lnTo>
                    <a:lnTo>
                      <a:pt x="80" y="31"/>
                    </a:lnTo>
                    <a:lnTo>
                      <a:pt x="153" y="51"/>
                    </a:lnTo>
                    <a:lnTo>
                      <a:pt x="217" y="68"/>
                    </a:lnTo>
                    <a:lnTo>
                      <a:pt x="274" y="83"/>
                    </a:lnTo>
                    <a:lnTo>
                      <a:pt x="368" y="105"/>
                    </a:lnTo>
                    <a:lnTo>
                      <a:pt x="441" y="122"/>
                    </a:lnTo>
                    <a:lnTo>
                      <a:pt x="500" y="134"/>
                    </a:lnTo>
                    <a:lnTo>
                      <a:pt x="551" y="148"/>
                    </a:lnTo>
                    <a:lnTo>
                      <a:pt x="576" y="156"/>
                    </a:lnTo>
                    <a:lnTo>
                      <a:pt x="600" y="165"/>
                    </a:lnTo>
                    <a:lnTo>
                      <a:pt x="627" y="175"/>
                    </a:lnTo>
                    <a:lnTo>
                      <a:pt x="655" y="188"/>
                    </a:lnTo>
                    <a:lnTo>
                      <a:pt x="678" y="199"/>
                    </a:lnTo>
                    <a:lnTo>
                      <a:pt x="703" y="210"/>
                    </a:lnTo>
                    <a:lnTo>
                      <a:pt x="730" y="218"/>
                    </a:lnTo>
                    <a:lnTo>
                      <a:pt x="761" y="225"/>
                    </a:lnTo>
                    <a:lnTo>
                      <a:pt x="793" y="230"/>
                    </a:lnTo>
                    <a:lnTo>
                      <a:pt x="827" y="235"/>
                    </a:lnTo>
                    <a:lnTo>
                      <a:pt x="864" y="237"/>
                    </a:lnTo>
                    <a:lnTo>
                      <a:pt x="902" y="239"/>
                    </a:lnTo>
                    <a:lnTo>
                      <a:pt x="942" y="239"/>
                    </a:lnTo>
                    <a:lnTo>
                      <a:pt x="983" y="239"/>
                    </a:lnTo>
                    <a:lnTo>
                      <a:pt x="1026" y="238"/>
                    </a:lnTo>
                    <a:lnTo>
                      <a:pt x="1069" y="236"/>
                    </a:lnTo>
                    <a:lnTo>
                      <a:pt x="1113" y="233"/>
                    </a:lnTo>
                    <a:lnTo>
                      <a:pt x="1158" y="229"/>
                    </a:lnTo>
                    <a:lnTo>
                      <a:pt x="1203" y="225"/>
                    </a:lnTo>
                    <a:lnTo>
                      <a:pt x="1249" y="219"/>
                    </a:lnTo>
                    <a:lnTo>
                      <a:pt x="1340" y="207"/>
                    </a:lnTo>
                    <a:lnTo>
                      <a:pt x="1430" y="195"/>
                    </a:lnTo>
                    <a:lnTo>
                      <a:pt x="1518" y="181"/>
                    </a:lnTo>
                    <a:lnTo>
                      <a:pt x="1601" y="166"/>
                    </a:lnTo>
                    <a:lnTo>
                      <a:pt x="1751" y="140"/>
                    </a:lnTo>
                    <a:lnTo>
                      <a:pt x="1866" y="12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4959360" y="3800520"/>
                <a:ext cx="430200" cy="58680"/>
              </a:xfrm>
              <a:custGeom>
                <a:avLst/>
                <a:gdLst/>
                <a:ahLst/>
                <a:rect l="l" t="t" r="r" b="b"/>
                <a:pathLst>
                  <a:path w="1355" h="186">
                    <a:moveTo>
                      <a:pt x="115" y="73"/>
                    </a:moveTo>
                    <a:lnTo>
                      <a:pt x="70" y="56"/>
                    </a:lnTo>
                    <a:lnTo>
                      <a:pt x="122" y="81"/>
                    </a:lnTo>
                    <a:lnTo>
                      <a:pt x="167" y="101"/>
                    </a:lnTo>
                    <a:lnTo>
                      <a:pt x="211" y="116"/>
                    </a:lnTo>
                    <a:lnTo>
                      <a:pt x="252" y="129"/>
                    </a:lnTo>
                    <a:lnTo>
                      <a:pt x="292" y="139"/>
                    </a:lnTo>
                    <a:lnTo>
                      <a:pt x="330" y="148"/>
                    </a:lnTo>
                    <a:lnTo>
                      <a:pt x="370" y="155"/>
                    </a:lnTo>
                    <a:lnTo>
                      <a:pt x="409" y="162"/>
                    </a:lnTo>
                    <a:lnTo>
                      <a:pt x="449" y="167"/>
                    </a:lnTo>
                    <a:lnTo>
                      <a:pt x="488" y="170"/>
                    </a:lnTo>
                    <a:lnTo>
                      <a:pt x="528" y="172"/>
                    </a:lnTo>
                    <a:lnTo>
                      <a:pt x="568" y="174"/>
                    </a:lnTo>
                    <a:lnTo>
                      <a:pt x="606" y="175"/>
                    </a:lnTo>
                    <a:lnTo>
                      <a:pt x="646" y="175"/>
                    </a:lnTo>
                    <a:lnTo>
                      <a:pt x="686" y="174"/>
                    </a:lnTo>
                    <a:lnTo>
                      <a:pt x="726" y="172"/>
                    </a:lnTo>
                    <a:lnTo>
                      <a:pt x="887" y="167"/>
                    </a:lnTo>
                    <a:lnTo>
                      <a:pt x="1046" y="162"/>
                    </a:lnTo>
                    <a:lnTo>
                      <a:pt x="1086" y="162"/>
                    </a:lnTo>
                    <a:lnTo>
                      <a:pt x="1125" y="163"/>
                    </a:lnTo>
                    <a:lnTo>
                      <a:pt x="1164" y="164"/>
                    </a:lnTo>
                    <a:lnTo>
                      <a:pt x="1204" y="167"/>
                    </a:lnTo>
                    <a:lnTo>
                      <a:pt x="1242" y="170"/>
                    </a:lnTo>
                    <a:lnTo>
                      <a:pt x="1280" y="174"/>
                    </a:lnTo>
                    <a:lnTo>
                      <a:pt x="1318" y="179"/>
                    </a:lnTo>
                    <a:lnTo>
                      <a:pt x="1355" y="186"/>
                    </a:lnTo>
                    <a:lnTo>
                      <a:pt x="1249" y="114"/>
                    </a:lnTo>
                    <a:lnTo>
                      <a:pt x="1209" y="107"/>
                    </a:lnTo>
                    <a:lnTo>
                      <a:pt x="1169" y="102"/>
                    </a:lnTo>
                    <a:lnTo>
                      <a:pt x="1131" y="97"/>
                    </a:lnTo>
                    <a:lnTo>
                      <a:pt x="1091" y="95"/>
                    </a:lnTo>
                    <a:lnTo>
                      <a:pt x="1051" y="93"/>
                    </a:lnTo>
                    <a:lnTo>
                      <a:pt x="1011" y="90"/>
                    </a:lnTo>
                    <a:lnTo>
                      <a:pt x="971" y="90"/>
                    </a:lnTo>
                    <a:lnTo>
                      <a:pt x="931" y="90"/>
                    </a:lnTo>
                    <a:lnTo>
                      <a:pt x="772" y="95"/>
                    </a:lnTo>
                    <a:lnTo>
                      <a:pt x="612" y="101"/>
                    </a:lnTo>
                    <a:lnTo>
                      <a:pt x="572" y="102"/>
                    </a:lnTo>
                    <a:lnTo>
                      <a:pt x="532" y="103"/>
                    </a:lnTo>
                    <a:lnTo>
                      <a:pt x="492" y="102"/>
                    </a:lnTo>
                    <a:lnTo>
                      <a:pt x="454" y="102"/>
                    </a:lnTo>
                    <a:lnTo>
                      <a:pt x="415" y="101"/>
                    </a:lnTo>
                    <a:lnTo>
                      <a:pt x="376" y="97"/>
                    </a:lnTo>
                    <a:lnTo>
                      <a:pt x="337" y="95"/>
                    </a:lnTo>
                    <a:lnTo>
                      <a:pt x="300" y="90"/>
                    </a:lnTo>
                    <a:lnTo>
                      <a:pt x="262" y="85"/>
                    </a:lnTo>
                    <a:lnTo>
                      <a:pt x="224" y="78"/>
                    </a:lnTo>
                    <a:lnTo>
                      <a:pt x="189" y="70"/>
                    </a:lnTo>
                    <a:lnTo>
                      <a:pt x="154" y="59"/>
                    </a:lnTo>
                    <a:lnTo>
                      <a:pt x="121" y="49"/>
                    </a:lnTo>
                    <a:lnTo>
                      <a:pt x="91" y="38"/>
                    </a:lnTo>
                    <a:lnTo>
                      <a:pt x="65" y="27"/>
                    </a:lnTo>
                    <a:lnTo>
                      <a:pt x="44" y="17"/>
                    </a:lnTo>
                    <a:lnTo>
                      <a:pt x="0" y="0"/>
                    </a:lnTo>
                    <a:lnTo>
                      <a:pt x="44" y="1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15" y="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4732200" y="3798720"/>
                <a:ext cx="263520" cy="25560"/>
              </a:xfrm>
              <a:custGeom>
                <a:avLst/>
                <a:gdLst/>
                <a:ahLst/>
                <a:rect l="l" t="t" r="r" b="b"/>
                <a:pathLst>
                  <a:path w="832" h="80">
                    <a:moveTo>
                      <a:pt x="103" y="9"/>
                    </a:moveTo>
                    <a:lnTo>
                      <a:pt x="210" y="79"/>
                    </a:lnTo>
                    <a:lnTo>
                      <a:pt x="362" y="74"/>
                    </a:lnTo>
                    <a:lnTo>
                      <a:pt x="456" y="73"/>
                    </a:lnTo>
                    <a:lnTo>
                      <a:pt x="508" y="73"/>
                    </a:lnTo>
                    <a:lnTo>
                      <a:pt x="538" y="74"/>
                    </a:lnTo>
                    <a:lnTo>
                      <a:pt x="566" y="77"/>
                    </a:lnTo>
                    <a:lnTo>
                      <a:pt x="612" y="78"/>
                    </a:lnTo>
                    <a:lnTo>
                      <a:pt x="694" y="80"/>
                    </a:lnTo>
                    <a:lnTo>
                      <a:pt x="832" y="80"/>
                    </a:lnTo>
                    <a:lnTo>
                      <a:pt x="717" y="7"/>
                    </a:lnTo>
                    <a:lnTo>
                      <a:pt x="580" y="7"/>
                    </a:lnTo>
                    <a:lnTo>
                      <a:pt x="498" y="6"/>
                    </a:lnTo>
                    <a:lnTo>
                      <a:pt x="453" y="4"/>
                    </a:lnTo>
                    <a:lnTo>
                      <a:pt x="425" y="3"/>
                    </a:lnTo>
                    <a:lnTo>
                      <a:pt x="393" y="0"/>
                    </a:lnTo>
                    <a:lnTo>
                      <a:pt x="341" y="0"/>
                    </a:lnTo>
                    <a:lnTo>
                      <a:pt x="248" y="3"/>
                    </a:lnTo>
                    <a:lnTo>
                      <a:pt x="94" y="7"/>
                    </a:lnTo>
                    <a:lnTo>
                      <a:pt x="200" y="78"/>
                    </a:lnTo>
                    <a:lnTo>
                      <a:pt x="94" y="7"/>
                    </a:lnTo>
                    <a:lnTo>
                      <a:pt x="0" y="16"/>
                    </a:lnTo>
                    <a:lnTo>
                      <a:pt x="200" y="78"/>
                    </a:lnTo>
                    <a:lnTo>
                      <a:pt x="103" y="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4764240" y="3801960"/>
                <a:ext cx="233280" cy="76320"/>
              </a:xfrm>
              <a:custGeom>
                <a:avLst/>
                <a:gdLst/>
                <a:ahLst/>
                <a:rect l="l" t="t" r="r" b="b"/>
                <a:pathLst>
                  <a:path w="732" h="241">
                    <a:moveTo>
                      <a:pt x="716" y="210"/>
                    </a:moveTo>
                    <a:lnTo>
                      <a:pt x="678" y="190"/>
                    </a:lnTo>
                    <a:lnTo>
                      <a:pt x="642" y="174"/>
                    </a:lnTo>
                    <a:lnTo>
                      <a:pt x="609" y="161"/>
                    </a:lnTo>
                    <a:lnTo>
                      <a:pt x="580" y="150"/>
                    </a:lnTo>
                    <a:lnTo>
                      <a:pt x="551" y="142"/>
                    </a:lnTo>
                    <a:lnTo>
                      <a:pt x="499" y="128"/>
                    </a:lnTo>
                    <a:lnTo>
                      <a:pt x="439" y="114"/>
                    </a:lnTo>
                    <a:lnTo>
                      <a:pt x="365" y="99"/>
                    </a:lnTo>
                    <a:lnTo>
                      <a:pt x="273" y="76"/>
                    </a:lnTo>
                    <a:lnTo>
                      <a:pt x="217" y="61"/>
                    </a:lnTo>
                    <a:lnTo>
                      <a:pt x="153" y="44"/>
                    </a:lnTo>
                    <a:lnTo>
                      <a:pt x="81" y="24"/>
                    </a:lnTo>
                    <a:lnTo>
                      <a:pt x="0" y="0"/>
                    </a:lnTo>
                    <a:lnTo>
                      <a:pt x="97" y="69"/>
                    </a:lnTo>
                    <a:lnTo>
                      <a:pt x="179" y="93"/>
                    </a:lnTo>
                    <a:lnTo>
                      <a:pt x="252" y="113"/>
                    </a:lnTo>
                    <a:lnTo>
                      <a:pt x="317" y="132"/>
                    </a:lnTo>
                    <a:lnTo>
                      <a:pt x="376" y="146"/>
                    </a:lnTo>
                    <a:lnTo>
                      <a:pt x="469" y="168"/>
                    </a:lnTo>
                    <a:lnTo>
                      <a:pt x="543" y="185"/>
                    </a:lnTo>
                    <a:lnTo>
                      <a:pt x="601" y="198"/>
                    </a:lnTo>
                    <a:lnTo>
                      <a:pt x="651" y="211"/>
                    </a:lnTo>
                    <a:lnTo>
                      <a:pt x="672" y="217"/>
                    </a:lnTo>
                    <a:lnTo>
                      <a:pt x="692" y="225"/>
                    </a:lnTo>
                    <a:lnTo>
                      <a:pt x="712" y="233"/>
                    </a:lnTo>
                    <a:lnTo>
                      <a:pt x="732" y="241"/>
                    </a:lnTo>
                    <a:lnTo>
                      <a:pt x="694" y="222"/>
                    </a:lnTo>
                    <a:lnTo>
                      <a:pt x="716" y="210"/>
                    </a:lnTo>
                    <a:lnTo>
                      <a:pt x="696" y="198"/>
                    </a:lnTo>
                    <a:lnTo>
                      <a:pt x="678" y="190"/>
                    </a:lnTo>
                    <a:lnTo>
                      <a:pt x="716" y="2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4984920" y="3836880"/>
                <a:ext cx="438120" cy="60480"/>
              </a:xfrm>
              <a:custGeom>
                <a:avLst/>
                <a:gdLst/>
                <a:ahLst/>
                <a:rect l="l" t="t" r="r" b="b"/>
                <a:pathLst>
                  <a:path w="1382" h="192">
                    <a:moveTo>
                      <a:pt x="1275" y="72"/>
                    </a:moveTo>
                    <a:lnTo>
                      <a:pt x="1164" y="0"/>
                    </a:lnTo>
                    <a:lnTo>
                      <a:pt x="1048" y="21"/>
                    </a:lnTo>
                    <a:lnTo>
                      <a:pt x="899" y="47"/>
                    </a:lnTo>
                    <a:lnTo>
                      <a:pt x="815" y="61"/>
                    </a:lnTo>
                    <a:lnTo>
                      <a:pt x="728" y="74"/>
                    </a:lnTo>
                    <a:lnTo>
                      <a:pt x="638" y="88"/>
                    </a:lnTo>
                    <a:lnTo>
                      <a:pt x="547" y="99"/>
                    </a:lnTo>
                    <a:lnTo>
                      <a:pt x="501" y="104"/>
                    </a:lnTo>
                    <a:lnTo>
                      <a:pt x="456" y="109"/>
                    </a:lnTo>
                    <a:lnTo>
                      <a:pt x="411" y="112"/>
                    </a:lnTo>
                    <a:lnTo>
                      <a:pt x="367" y="115"/>
                    </a:lnTo>
                    <a:lnTo>
                      <a:pt x="323" y="118"/>
                    </a:lnTo>
                    <a:lnTo>
                      <a:pt x="282" y="119"/>
                    </a:lnTo>
                    <a:lnTo>
                      <a:pt x="241" y="120"/>
                    </a:lnTo>
                    <a:lnTo>
                      <a:pt x="201" y="119"/>
                    </a:lnTo>
                    <a:lnTo>
                      <a:pt x="164" y="118"/>
                    </a:lnTo>
                    <a:lnTo>
                      <a:pt x="128" y="114"/>
                    </a:lnTo>
                    <a:lnTo>
                      <a:pt x="94" y="110"/>
                    </a:lnTo>
                    <a:lnTo>
                      <a:pt x="63" y="105"/>
                    </a:lnTo>
                    <a:lnTo>
                      <a:pt x="36" y="98"/>
                    </a:lnTo>
                    <a:lnTo>
                      <a:pt x="12" y="91"/>
                    </a:lnTo>
                    <a:lnTo>
                      <a:pt x="6" y="89"/>
                    </a:lnTo>
                    <a:lnTo>
                      <a:pt x="5" y="89"/>
                    </a:lnTo>
                    <a:lnTo>
                      <a:pt x="11" y="91"/>
                    </a:lnTo>
                    <a:lnTo>
                      <a:pt x="22" y="98"/>
                    </a:lnTo>
                    <a:lnTo>
                      <a:pt x="0" y="110"/>
                    </a:lnTo>
                    <a:lnTo>
                      <a:pt x="33" y="128"/>
                    </a:lnTo>
                    <a:lnTo>
                      <a:pt x="62" y="142"/>
                    </a:lnTo>
                    <a:lnTo>
                      <a:pt x="84" y="152"/>
                    </a:lnTo>
                    <a:lnTo>
                      <a:pt x="104" y="159"/>
                    </a:lnTo>
                    <a:lnTo>
                      <a:pt x="136" y="169"/>
                    </a:lnTo>
                    <a:lnTo>
                      <a:pt x="169" y="176"/>
                    </a:lnTo>
                    <a:lnTo>
                      <a:pt x="204" y="182"/>
                    </a:lnTo>
                    <a:lnTo>
                      <a:pt x="239" y="186"/>
                    </a:lnTo>
                    <a:lnTo>
                      <a:pt x="277" y="190"/>
                    </a:lnTo>
                    <a:lnTo>
                      <a:pt x="315" y="191"/>
                    </a:lnTo>
                    <a:lnTo>
                      <a:pt x="355" y="192"/>
                    </a:lnTo>
                    <a:lnTo>
                      <a:pt x="396" y="191"/>
                    </a:lnTo>
                    <a:lnTo>
                      <a:pt x="440" y="190"/>
                    </a:lnTo>
                    <a:lnTo>
                      <a:pt x="483" y="187"/>
                    </a:lnTo>
                    <a:lnTo>
                      <a:pt x="527" y="185"/>
                    </a:lnTo>
                    <a:lnTo>
                      <a:pt x="572" y="180"/>
                    </a:lnTo>
                    <a:lnTo>
                      <a:pt x="617" y="176"/>
                    </a:lnTo>
                    <a:lnTo>
                      <a:pt x="663" y="171"/>
                    </a:lnTo>
                    <a:lnTo>
                      <a:pt x="754" y="160"/>
                    </a:lnTo>
                    <a:lnTo>
                      <a:pt x="844" y="146"/>
                    </a:lnTo>
                    <a:lnTo>
                      <a:pt x="932" y="133"/>
                    </a:lnTo>
                    <a:lnTo>
                      <a:pt x="1015" y="119"/>
                    </a:lnTo>
                    <a:lnTo>
                      <a:pt x="1165" y="93"/>
                    </a:lnTo>
                    <a:lnTo>
                      <a:pt x="1281" y="72"/>
                    </a:lnTo>
                    <a:lnTo>
                      <a:pt x="1169" y="0"/>
                    </a:lnTo>
                    <a:lnTo>
                      <a:pt x="1281" y="72"/>
                    </a:lnTo>
                    <a:lnTo>
                      <a:pt x="1382" y="47"/>
                    </a:lnTo>
                    <a:lnTo>
                      <a:pt x="1169" y="0"/>
                    </a:lnTo>
                    <a:lnTo>
                      <a:pt x="1275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2757600" y="3651120"/>
                <a:ext cx="745920" cy="74880"/>
              </a:xfrm>
              <a:custGeom>
                <a:avLst/>
                <a:gdLst/>
                <a:ahLst/>
                <a:rect l="l" t="t" r="r" b="b"/>
                <a:pathLst>
                  <a:path w="2350" h="233">
                    <a:moveTo>
                      <a:pt x="2350" y="113"/>
                    </a:moveTo>
                    <a:lnTo>
                      <a:pt x="2312" y="106"/>
                    </a:lnTo>
                    <a:lnTo>
                      <a:pt x="2275" y="100"/>
                    </a:lnTo>
                    <a:lnTo>
                      <a:pt x="2237" y="97"/>
                    </a:lnTo>
                    <a:lnTo>
                      <a:pt x="2201" y="94"/>
                    </a:lnTo>
                    <a:lnTo>
                      <a:pt x="2164" y="91"/>
                    </a:lnTo>
                    <a:lnTo>
                      <a:pt x="2128" y="90"/>
                    </a:lnTo>
                    <a:lnTo>
                      <a:pt x="2091" y="89"/>
                    </a:lnTo>
                    <a:lnTo>
                      <a:pt x="2056" y="89"/>
                    </a:lnTo>
                    <a:lnTo>
                      <a:pt x="1916" y="94"/>
                    </a:lnTo>
                    <a:lnTo>
                      <a:pt x="1778" y="99"/>
                    </a:lnTo>
                    <a:lnTo>
                      <a:pt x="1743" y="100"/>
                    </a:lnTo>
                    <a:lnTo>
                      <a:pt x="1710" y="102"/>
                    </a:lnTo>
                    <a:lnTo>
                      <a:pt x="1676" y="102"/>
                    </a:lnTo>
                    <a:lnTo>
                      <a:pt x="1642" y="100"/>
                    </a:lnTo>
                    <a:lnTo>
                      <a:pt x="1608" y="99"/>
                    </a:lnTo>
                    <a:lnTo>
                      <a:pt x="1574" y="97"/>
                    </a:lnTo>
                    <a:lnTo>
                      <a:pt x="1539" y="94"/>
                    </a:lnTo>
                    <a:lnTo>
                      <a:pt x="1506" y="89"/>
                    </a:lnTo>
                    <a:lnTo>
                      <a:pt x="1472" y="83"/>
                    </a:lnTo>
                    <a:lnTo>
                      <a:pt x="1437" y="75"/>
                    </a:lnTo>
                    <a:lnTo>
                      <a:pt x="1403" y="67"/>
                    </a:lnTo>
                    <a:lnTo>
                      <a:pt x="1368" y="57"/>
                    </a:lnTo>
                    <a:lnTo>
                      <a:pt x="1333" y="46"/>
                    </a:lnTo>
                    <a:lnTo>
                      <a:pt x="1299" y="32"/>
                    </a:lnTo>
                    <a:lnTo>
                      <a:pt x="1263" y="17"/>
                    </a:lnTo>
                    <a:lnTo>
                      <a:pt x="1228" y="0"/>
                    </a:lnTo>
                    <a:lnTo>
                      <a:pt x="1186" y="0"/>
                    </a:lnTo>
                    <a:lnTo>
                      <a:pt x="1144" y="1"/>
                    </a:lnTo>
                    <a:lnTo>
                      <a:pt x="1104" y="3"/>
                    </a:lnTo>
                    <a:lnTo>
                      <a:pt x="1064" y="7"/>
                    </a:lnTo>
                    <a:lnTo>
                      <a:pt x="1025" y="10"/>
                    </a:lnTo>
                    <a:lnTo>
                      <a:pt x="988" y="15"/>
                    </a:lnTo>
                    <a:lnTo>
                      <a:pt x="951" y="19"/>
                    </a:lnTo>
                    <a:lnTo>
                      <a:pt x="913" y="24"/>
                    </a:lnTo>
                    <a:lnTo>
                      <a:pt x="842" y="35"/>
                    </a:lnTo>
                    <a:lnTo>
                      <a:pt x="772" y="49"/>
                    </a:lnTo>
                    <a:lnTo>
                      <a:pt x="701" y="63"/>
                    </a:lnTo>
                    <a:lnTo>
                      <a:pt x="632" y="78"/>
                    </a:lnTo>
                    <a:lnTo>
                      <a:pt x="562" y="92"/>
                    </a:lnTo>
                    <a:lnTo>
                      <a:pt x="491" y="106"/>
                    </a:lnTo>
                    <a:lnTo>
                      <a:pt x="416" y="121"/>
                    </a:lnTo>
                    <a:lnTo>
                      <a:pt x="341" y="134"/>
                    </a:lnTo>
                    <a:lnTo>
                      <a:pt x="302" y="139"/>
                    </a:lnTo>
                    <a:lnTo>
                      <a:pt x="263" y="145"/>
                    </a:lnTo>
                    <a:lnTo>
                      <a:pt x="221" y="150"/>
                    </a:lnTo>
                    <a:lnTo>
                      <a:pt x="179" y="154"/>
                    </a:lnTo>
                    <a:lnTo>
                      <a:pt x="136" y="159"/>
                    </a:lnTo>
                    <a:lnTo>
                      <a:pt x="93" y="162"/>
                    </a:lnTo>
                    <a:lnTo>
                      <a:pt x="47" y="164"/>
                    </a:lnTo>
                    <a:lnTo>
                      <a:pt x="0" y="167"/>
                    </a:lnTo>
                    <a:lnTo>
                      <a:pt x="44" y="178"/>
                    </a:lnTo>
                    <a:lnTo>
                      <a:pt x="88" y="188"/>
                    </a:lnTo>
                    <a:lnTo>
                      <a:pt x="134" y="196"/>
                    </a:lnTo>
                    <a:lnTo>
                      <a:pt x="180" y="203"/>
                    </a:lnTo>
                    <a:lnTo>
                      <a:pt x="227" y="208"/>
                    </a:lnTo>
                    <a:lnTo>
                      <a:pt x="274" y="211"/>
                    </a:lnTo>
                    <a:lnTo>
                      <a:pt x="322" y="215"/>
                    </a:lnTo>
                    <a:lnTo>
                      <a:pt x="370" y="216"/>
                    </a:lnTo>
                    <a:lnTo>
                      <a:pt x="418" y="216"/>
                    </a:lnTo>
                    <a:lnTo>
                      <a:pt x="465" y="215"/>
                    </a:lnTo>
                    <a:lnTo>
                      <a:pt x="513" y="213"/>
                    </a:lnTo>
                    <a:lnTo>
                      <a:pt x="560" y="211"/>
                    </a:lnTo>
                    <a:lnTo>
                      <a:pt x="654" y="205"/>
                    </a:lnTo>
                    <a:lnTo>
                      <a:pt x="745" y="197"/>
                    </a:lnTo>
                    <a:lnTo>
                      <a:pt x="915" y="180"/>
                    </a:lnTo>
                    <a:lnTo>
                      <a:pt x="1063" y="167"/>
                    </a:lnTo>
                    <a:lnTo>
                      <a:pt x="1096" y="166"/>
                    </a:lnTo>
                    <a:lnTo>
                      <a:pt x="1127" y="164"/>
                    </a:lnTo>
                    <a:lnTo>
                      <a:pt x="1155" y="164"/>
                    </a:lnTo>
                    <a:lnTo>
                      <a:pt x="1181" y="164"/>
                    </a:lnTo>
                    <a:lnTo>
                      <a:pt x="1205" y="167"/>
                    </a:lnTo>
                    <a:lnTo>
                      <a:pt x="1227" y="170"/>
                    </a:lnTo>
                    <a:lnTo>
                      <a:pt x="1245" y="175"/>
                    </a:lnTo>
                    <a:lnTo>
                      <a:pt x="1262" y="180"/>
                    </a:lnTo>
                    <a:lnTo>
                      <a:pt x="1284" y="192"/>
                    </a:lnTo>
                    <a:lnTo>
                      <a:pt x="1308" y="202"/>
                    </a:lnTo>
                    <a:lnTo>
                      <a:pt x="1334" y="211"/>
                    </a:lnTo>
                    <a:lnTo>
                      <a:pt x="1361" y="218"/>
                    </a:lnTo>
                    <a:lnTo>
                      <a:pt x="1391" y="223"/>
                    </a:lnTo>
                    <a:lnTo>
                      <a:pt x="1423" y="227"/>
                    </a:lnTo>
                    <a:lnTo>
                      <a:pt x="1456" y="231"/>
                    </a:lnTo>
                    <a:lnTo>
                      <a:pt x="1490" y="232"/>
                    </a:lnTo>
                    <a:lnTo>
                      <a:pt x="1525" y="233"/>
                    </a:lnTo>
                    <a:lnTo>
                      <a:pt x="1561" y="232"/>
                    </a:lnTo>
                    <a:lnTo>
                      <a:pt x="1599" y="231"/>
                    </a:lnTo>
                    <a:lnTo>
                      <a:pt x="1636" y="228"/>
                    </a:lnTo>
                    <a:lnTo>
                      <a:pt x="1675" y="226"/>
                    </a:lnTo>
                    <a:lnTo>
                      <a:pt x="1715" y="221"/>
                    </a:lnTo>
                    <a:lnTo>
                      <a:pt x="1754" y="217"/>
                    </a:lnTo>
                    <a:lnTo>
                      <a:pt x="1794" y="212"/>
                    </a:lnTo>
                    <a:lnTo>
                      <a:pt x="1873" y="201"/>
                    </a:lnTo>
                    <a:lnTo>
                      <a:pt x="1953" y="187"/>
                    </a:lnTo>
                    <a:lnTo>
                      <a:pt x="2030" y="173"/>
                    </a:lnTo>
                    <a:lnTo>
                      <a:pt x="2104" y="160"/>
                    </a:lnTo>
                    <a:lnTo>
                      <a:pt x="2239" y="134"/>
                    </a:lnTo>
                    <a:lnTo>
                      <a:pt x="2350" y="11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3129120" y="3639960"/>
                <a:ext cx="393480" cy="59040"/>
              </a:xfrm>
              <a:custGeom>
                <a:avLst/>
                <a:gdLst/>
                <a:ahLst/>
                <a:rect l="l" t="t" r="r" b="b"/>
                <a:pathLst>
                  <a:path w="1240" h="186">
                    <a:moveTo>
                      <a:pt x="2" y="71"/>
                    </a:moveTo>
                    <a:lnTo>
                      <a:pt x="0" y="71"/>
                    </a:lnTo>
                    <a:lnTo>
                      <a:pt x="35" y="89"/>
                    </a:lnTo>
                    <a:lnTo>
                      <a:pt x="71" y="105"/>
                    </a:lnTo>
                    <a:lnTo>
                      <a:pt x="105" y="117"/>
                    </a:lnTo>
                    <a:lnTo>
                      <a:pt x="140" y="130"/>
                    </a:lnTo>
                    <a:lnTo>
                      <a:pt x="174" y="140"/>
                    </a:lnTo>
                    <a:lnTo>
                      <a:pt x="210" y="148"/>
                    </a:lnTo>
                    <a:lnTo>
                      <a:pt x="244" y="155"/>
                    </a:lnTo>
                    <a:lnTo>
                      <a:pt x="278" y="160"/>
                    </a:lnTo>
                    <a:lnTo>
                      <a:pt x="312" y="165"/>
                    </a:lnTo>
                    <a:lnTo>
                      <a:pt x="346" y="168"/>
                    </a:lnTo>
                    <a:lnTo>
                      <a:pt x="381" y="171"/>
                    </a:lnTo>
                    <a:lnTo>
                      <a:pt x="416" y="173"/>
                    </a:lnTo>
                    <a:lnTo>
                      <a:pt x="449" y="173"/>
                    </a:lnTo>
                    <a:lnTo>
                      <a:pt x="483" y="173"/>
                    </a:lnTo>
                    <a:lnTo>
                      <a:pt x="519" y="173"/>
                    </a:lnTo>
                    <a:lnTo>
                      <a:pt x="553" y="172"/>
                    </a:lnTo>
                    <a:lnTo>
                      <a:pt x="690" y="166"/>
                    </a:lnTo>
                    <a:lnTo>
                      <a:pt x="830" y="162"/>
                    </a:lnTo>
                    <a:lnTo>
                      <a:pt x="865" y="162"/>
                    </a:lnTo>
                    <a:lnTo>
                      <a:pt x="900" y="162"/>
                    </a:lnTo>
                    <a:lnTo>
                      <a:pt x="937" y="164"/>
                    </a:lnTo>
                    <a:lnTo>
                      <a:pt x="973" y="165"/>
                    </a:lnTo>
                    <a:lnTo>
                      <a:pt x="1010" y="168"/>
                    </a:lnTo>
                    <a:lnTo>
                      <a:pt x="1046" y="173"/>
                    </a:lnTo>
                    <a:lnTo>
                      <a:pt x="1084" y="179"/>
                    </a:lnTo>
                    <a:lnTo>
                      <a:pt x="1122" y="186"/>
                    </a:lnTo>
                    <a:lnTo>
                      <a:pt x="1240" y="113"/>
                    </a:lnTo>
                    <a:lnTo>
                      <a:pt x="1201" y="107"/>
                    </a:lnTo>
                    <a:lnTo>
                      <a:pt x="1164" y="101"/>
                    </a:lnTo>
                    <a:lnTo>
                      <a:pt x="1126" y="97"/>
                    </a:lnTo>
                    <a:lnTo>
                      <a:pt x="1089" y="93"/>
                    </a:lnTo>
                    <a:lnTo>
                      <a:pt x="1052" y="91"/>
                    </a:lnTo>
                    <a:lnTo>
                      <a:pt x="1016" y="90"/>
                    </a:lnTo>
                    <a:lnTo>
                      <a:pt x="980" y="89"/>
                    </a:lnTo>
                    <a:lnTo>
                      <a:pt x="944" y="90"/>
                    </a:lnTo>
                    <a:lnTo>
                      <a:pt x="804" y="94"/>
                    </a:lnTo>
                    <a:lnTo>
                      <a:pt x="666" y="100"/>
                    </a:lnTo>
                    <a:lnTo>
                      <a:pt x="631" y="101"/>
                    </a:lnTo>
                    <a:lnTo>
                      <a:pt x="598" y="101"/>
                    </a:lnTo>
                    <a:lnTo>
                      <a:pt x="564" y="101"/>
                    </a:lnTo>
                    <a:lnTo>
                      <a:pt x="530" y="100"/>
                    </a:lnTo>
                    <a:lnTo>
                      <a:pt x="497" y="99"/>
                    </a:lnTo>
                    <a:lnTo>
                      <a:pt x="463" y="97"/>
                    </a:lnTo>
                    <a:lnTo>
                      <a:pt x="428" y="93"/>
                    </a:lnTo>
                    <a:lnTo>
                      <a:pt x="395" y="89"/>
                    </a:lnTo>
                    <a:lnTo>
                      <a:pt x="361" y="83"/>
                    </a:lnTo>
                    <a:lnTo>
                      <a:pt x="327" y="76"/>
                    </a:lnTo>
                    <a:lnTo>
                      <a:pt x="293" y="68"/>
                    </a:lnTo>
                    <a:lnTo>
                      <a:pt x="259" y="58"/>
                    </a:lnTo>
                    <a:lnTo>
                      <a:pt x="223" y="46"/>
                    </a:lnTo>
                    <a:lnTo>
                      <a:pt x="189" y="33"/>
                    </a:lnTo>
                    <a:lnTo>
                      <a:pt x="154" y="18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7" y="0"/>
                    </a:lnTo>
                    <a:lnTo>
                      <a:pt x="116" y="0"/>
                    </a:lnTo>
                    <a:lnTo>
                      <a:pt x="2" y="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2698920" y="3639960"/>
                <a:ext cx="466560" cy="76320"/>
              </a:xfrm>
              <a:custGeom>
                <a:avLst/>
                <a:gdLst/>
                <a:ahLst/>
                <a:rect l="l" t="t" r="r" b="b"/>
                <a:pathLst>
                  <a:path w="1473" h="238">
                    <a:moveTo>
                      <a:pt x="248" y="166"/>
                    </a:moveTo>
                    <a:lnTo>
                      <a:pt x="131" y="238"/>
                    </a:lnTo>
                    <a:lnTo>
                      <a:pt x="178" y="236"/>
                    </a:lnTo>
                    <a:lnTo>
                      <a:pt x="224" y="233"/>
                    </a:lnTo>
                    <a:lnTo>
                      <a:pt x="268" y="230"/>
                    </a:lnTo>
                    <a:lnTo>
                      <a:pt x="311" y="227"/>
                    </a:lnTo>
                    <a:lnTo>
                      <a:pt x="354" y="222"/>
                    </a:lnTo>
                    <a:lnTo>
                      <a:pt x="395" y="216"/>
                    </a:lnTo>
                    <a:lnTo>
                      <a:pt x="436" y="211"/>
                    </a:lnTo>
                    <a:lnTo>
                      <a:pt x="474" y="205"/>
                    </a:lnTo>
                    <a:lnTo>
                      <a:pt x="551" y="192"/>
                    </a:lnTo>
                    <a:lnTo>
                      <a:pt x="625" y="179"/>
                    </a:lnTo>
                    <a:lnTo>
                      <a:pt x="697" y="164"/>
                    </a:lnTo>
                    <a:lnTo>
                      <a:pt x="767" y="149"/>
                    </a:lnTo>
                    <a:lnTo>
                      <a:pt x="837" y="134"/>
                    </a:lnTo>
                    <a:lnTo>
                      <a:pt x="907" y="120"/>
                    </a:lnTo>
                    <a:lnTo>
                      <a:pt x="976" y="108"/>
                    </a:lnTo>
                    <a:lnTo>
                      <a:pt x="1048" y="97"/>
                    </a:lnTo>
                    <a:lnTo>
                      <a:pt x="1083" y="91"/>
                    </a:lnTo>
                    <a:lnTo>
                      <a:pt x="1121" y="86"/>
                    </a:lnTo>
                    <a:lnTo>
                      <a:pt x="1158" y="83"/>
                    </a:lnTo>
                    <a:lnTo>
                      <a:pt x="1196" y="79"/>
                    </a:lnTo>
                    <a:lnTo>
                      <a:pt x="1235" y="76"/>
                    </a:lnTo>
                    <a:lnTo>
                      <a:pt x="1276" y="74"/>
                    </a:lnTo>
                    <a:lnTo>
                      <a:pt x="1317" y="73"/>
                    </a:lnTo>
                    <a:lnTo>
                      <a:pt x="1359" y="71"/>
                    </a:lnTo>
                    <a:lnTo>
                      <a:pt x="1473" y="0"/>
                    </a:lnTo>
                    <a:lnTo>
                      <a:pt x="1431" y="1"/>
                    </a:lnTo>
                    <a:lnTo>
                      <a:pt x="1389" y="2"/>
                    </a:lnTo>
                    <a:lnTo>
                      <a:pt x="1349" y="4"/>
                    </a:lnTo>
                    <a:lnTo>
                      <a:pt x="1309" y="6"/>
                    </a:lnTo>
                    <a:lnTo>
                      <a:pt x="1269" y="11"/>
                    </a:lnTo>
                    <a:lnTo>
                      <a:pt x="1231" y="14"/>
                    </a:lnTo>
                    <a:lnTo>
                      <a:pt x="1194" y="19"/>
                    </a:lnTo>
                    <a:lnTo>
                      <a:pt x="1156" y="25"/>
                    </a:lnTo>
                    <a:lnTo>
                      <a:pt x="1084" y="36"/>
                    </a:lnTo>
                    <a:lnTo>
                      <a:pt x="1013" y="50"/>
                    </a:lnTo>
                    <a:lnTo>
                      <a:pt x="943" y="63"/>
                    </a:lnTo>
                    <a:lnTo>
                      <a:pt x="872" y="78"/>
                    </a:lnTo>
                    <a:lnTo>
                      <a:pt x="803" y="93"/>
                    </a:lnTo>
                    <a:lnTo>
                      <a:pt x="732" y="107"/>
                    </a:lnTo>
                    <a:lnTo>
                      <a:pt x="659" y="120"/>
                    </a:lnTo>
                    <a:lnTo>
                      <a:pt x="584" y="133"/>
                    </a:lnTo>
                    <a:lnTo>
                      <a:pt x="545" y="140"/>
                    </a:lnTo>
                    <a:lnTo>
                      <a:pt x="505" y="144"/>
                    </a:lnTo>
                    <a:lnTo>
                      <a:pt x="464" y="150"/>
                    </a:lnTo>
                    <a:lnTo>
                      <a:pt x="423" y="155"/>
                    </a:lnTo>
                    <a:lnTo>
                      <a:pt x="380" y="158"/>
                    </a:lnTo>
                    <a:lnTo>
                      <a:pt x="337" y="162"/>
                    </a:lnTo>
                    <a:lnTo>
                      <a:pt x="291" y="164"/>
                    </a:lnTo>
                    <a:lnTo>
                      <a:pt x="245" y="166"/>
                    </a:lnTo>
                    <a:lnTo>
                      <a:pt x="129" y="238"/>
                    </a:lnTo>
                    <a:lnTo>
                      <a:pt x="245" y="166"/>
                    </a:lnTo>
                    <a:lnTo>
                      <a:pt x="0" y="184"/>
                    </a:lnTo>
                    <a:lnTo>
                      <a:pt x="129" y="238"/>
                    </a:lnTo>
                    <a:lnTo>
                      <a:pt x="248" y="1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2738520" y="3692520"/>
                <a:ext cx="439560" cy="39600"/>
              </a:xfrm>
              <a:custGeom>
                <a:avLst/>
                <a:gdLst/>
                <a:ahLst/>
                <a:rect l="l" t="t" r="r" b="b"/>
                <a:pathLst>
                  <a:path w="1381" h="124">
                    <a:moveTo>
                      <a:pt x="1381" y="17"/>
                    </a:moveTo>
                    <a:lnTo>
                      <a:pt x="1381" y="17"/>
                    </a:lnTo>
                    <a:lnTo>
                      <a:pt x="1363" y="11"/>
                    </a:lnTo>
                    <a:lnTo>
                      <a:pt x="1344" y="6"/>
                    </a:lnTo>
                    <a:lnTo>
                      <a:pt x="1322" y="3"/>
                    </a:lnTo>
                    <a:lnTo>
                      <a:pt x="1299" y="1"/>
                    </a:lnTo>
                    <a:lnTo>
                      <a:pt x="1271" y="0"/>
                    </a:lnTo>
                    <a:lnTo>
                      <a:pt x="1243" y="0"/>
                    </a:lnTo>
                    <a:lnTo>
                      <a:pt x="1212" y="1"/>
                    </a:lnTo>
                    <a:lnTo>
                      <a:pt x="1179" y="3"/>
                    </a:lnTo>
                    <a:lnTo>
                      <a:pt x="1029" y="16"/>
                    </a:lnTo>
                    <a:lnTo>
                      <a:pt x="860" y="33"/>
                    </a:lnTo>
                    <a:lnTo>
                      <a:pt x="770" y="41"/>
                    </a:lnTo>
                    <a:lnTo>
                      <a:pt x="676" y="47"/>
                    </a:lnTo>
                    <a:lnTo>
                      <a:pt x="629" y="49"/>
                    </a:lnTo>
                    <a:lnTo>
                      <a:pt x="581" y="51"/>
                    </a:lnTo>
                    <a:lnTo>
                      <a:pt x="534" y="51"/>
                    </a:lnTo>
                    <a:lnTo>
                      <a:pt x="486" y="51"/>
                    </a:lnTo>
                    <a:lnTo>
                      <a:pt x="439" y="50"/>
                    </a:lnTo>
                    <a:lnTo>
                      <a:pt x="391" y="48"/>
                    </a:lnTo>
                    <a:lnTo>
                      <a:pt x="344" y="44"/>
                    </a:lnTo>
                    <a:lnTo>
                      <a:pt x="298" y="39"/>
                    </a:lnTo>
                    <a:lnTo>
                      <a:pt x="251" y="32"/>
                    </a:lnTo>
                    <a:lnTo>
                      <a:pt x="206" y="24"/>
                    </a:lnTo>
                    <a:lnTo>
                      <a:pt x="162" y="14"/>
                    </a:lnTo>
                    <a:lnTo>
                      <a:pt x="119" y="2"/>
                    </a:lnTo>
                    <a:lnTo>
                      <a:pt x="0" y="74"/>
                    </a:lnTo>
                    <a:lnTo>
                      <a:pt x="45" y="85"/>
                    </a:lnTo>
                    <a:lnTo>
                      <a:pt x="89" y="96"/>
                    </a:lnTo>
                    <a:lnTo>
                      <a:pt x="135" y="104"/>
                    </a:lnTo>
                    <a:lnTo>
                      <a:pt x="181" y="111"/>
                    </a:lnTo>
                    <a:lnTo>
                      <a:pt x="228" y="116"/>
                    </a:lnTo>
                    <a:lnTo>
                      <a:pt x="276" y="120"/>
                    </a:lnTo>
                    <a:lnTo>
                      <a:pt x="323" y="122"/>
                    </a:lnTo>
                    <a:lnTo>
                      <a:pt x="372" y="123"/>
                    </a:lnTo>
                    <a:lnTo>
                      <a:pt x="420" y="124"/>
                    </a:lnTo>
                    <a:lnTo>
                      <a:pt x="467" y="123"/>
                    </a:lnTo>
                    <a:lnTo>
                      <a:pt x="515" y="122"/>
                    </a:lnTo>
                    <a:lnTo>
                      <a:pt x="563" y="120"/>
                    </a:lnTo>
                    <a:lnTo>
                      <a:pt x="657" y="113"/>
                    </a:lnTo>
                    <a:lnTo>
                      <a:pt x="748" y="105"/>
                    </a:lnTo>
                    <a:lnTo>
                      <a:pt x="918" y="88"/>
                    </a:lnTo>
                    <a:lnTo>
                      <a:pt x="1066" y="75"/>
                    </a:lnTo>
                    <a:lnTo>
                      <a:pt x="1098" y="73"/>
                    </a:lnTo>
                    <a:lnTo>
                      <a:pt x="1129" y="72"/>
                    </a:lnTo>
                    <a:lnTo>
                      <a:pt x="1157" y="72"/>
                    </a:lnTo>
                    <a:lnTo>
                      <a:pt x="1182" y="73"/>
                    </a:lnTo>
                    <a:lnTo>
                      <a:pt x="1206" y="75"/>
                    </a:lnTo>
                    <a:lnTo>
                      <a:pt x="1227" y="79"/>
                    </a:lnTo>
                    <a:lnTo>
                      <a:pt x="1245" y="82"/>
                    </a:lnTo>
                    <a:lnTo>
                      <a:pt x="1261" y="88"/>
                    </a:lnTo>
                    <a:lnTo>
                      <a:pt x="1261" y="88"/>
                    </a:lnTo>
                    <a:lnTo>
                      <a:pt x="1381" y="17"/>
                    </a:lnTo>
                    <a:lnTo>
                      <a:pt x="1381" y="17"/>
                    </a:lnTo>
                    <a:lnTo>
                      <a:pt x="1381" y="17"/>
                    </a:lnTo>
                    <a:lnTo>
                      <a:pt x="1381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3139920" y="3676680"/>
                <a:ext cx="424080" cy="60120"/>
              </a:xfrm>
              <a:custGeom>
                <a:avLst/>
                <a:gdLst/>
                <a:ahLst/>
                <a:rect l="l" t="t" r="r" b="b"/>
                <a:pathLst>
                  <a:path w="1336" h="191">
                    <a:moveTo>
                      <a:pt x="1089" y="73"/>
                    </a:moveTo>
                    <a:lnTo>
                      <a:pt x="1203" y="1"/>
                    </a:lnTo>
                    <a:lnTo>
                      <a:pt x="1091" y="20"/>
                    </a:lnTo>
                    <a:lnTo>
                      <a:pt x="955" y="47"/>
                    </a:lnTo>
                    <a:lnTo>
                      <a:pt x="881" y="61"/>
                    </a:lnTo>
                    <a:lnTo>
                      <a:pt x="805" y="75"/>
                    </a:lnTo>
                    <a:lnTo>
                      <a:pt x="726" y="87"/>
                    </a:lnTo>
                    <a:lnTo>
                      <a:pt x="647" y="99"/>
                    </a:lnTo>
                    <a:lnTo>
                      <a:pt x="608" y="104"/>
                    </a:lnTo>
                    <a:lnTo>
                      <a:pt x="569" y="109"/>
                    </a:lnTo>
                    <a:lnTo>
                      <a:pt x="529" y="112"/>
                    </a:lnTo>
                    <a:lnTo>
                      <a:pt x="491" y="116"/>
                    </a:lnTo>
                    <a:lnTo>
                      <a:pt x="454" y="118"/>
                    </a:lnTo>
                    <a:lnTo>
                      <a:pt x="416" y="119"/>
                    </a:lnTo>
                    <a:lnTo>
                      <a:pt x="381" y="119"/>
                    </a:lnTo>
                    <a:lnTo>
                      <a:pt x="345" y="119"/>
                    </a:lnTo>
                    <a:lnTo>
                      <a:pt x="311" y="117"/>
                    </a:lnTo>
                    <a:lnTo>
                      <a:pt x="279" y="115"/>
                    </a:lnTo>
                    <a:lnTo>
                      <a:pt x="248" y="110"/>
                    </a:lnTo>
                    <a:lnTo>
                      <a:pt x="219" y="104"/>
                    </a:lnTo>
                    <a:lnTo>
                      <a:pt x="191" y="98"/>
                    </a:lnTo>
                    <a:lnTo>
                      <a:pt x="165" y="90"/>
                    </a:lnTo>
                    <a:lnTo>
                      <a:pt x="153" y="85"/>
                    </a:lnTo>
                    <a:lnTo>
                      <a:pt x="141" y="79"/>
                    </a:lnTo>
                    <a:lnTo>
                      <a:pt x="130" y="74"/>
                    </a:lnTo>
                    <a:lnTo>
                      <a:pt x="120" y="68"/>
                    </a:lnTo>
                    <a:lnTo>
                      <a:pt x="0" y="139"/>
                    </a:lnTo>
                    <a:lnTo>
                      <a:pt x="11" y="146"/>
                    </a:lnTo>
                    <a:lnTo>
                      <a:pt x="22" y="151"/>
                    </a:lnTo>
                    <a:lnTo>
                      <a:pt x="34" y="156"/>
                    </a:lnTo>
                    <a:lnTo>
                      <a:pt x="47" y="162"/>
                    </a:lnTo>
                    <a:lnTo>
                      <a:pt x="73" y="170"/>
                    </a:lnTo>
                    <a:lnTo>
                      <a:pt x="101" y="176"/>
                    </a:lnTo>
                    <a:lnTo>
                      <a:pt x="131" y="182"/>
                    </a:lnTo>
                    <a:lnTo>
                      <a:pt x="163" y="187"/>
                    </a:lnTo>
                    <a:lnTo>
                      <a:pt x="196" y="189"/>
                    </a:lnTo>
                    <a:lnTo>
                      <a:pt x="230" y="191"/>
                    </a:lnTo>
                    <a:lnTo>
                      <a:pt x="266" y="191"/>
                    </a:lnTo>
                    <a:lnTo>
                      <a:pt x="302" y="191"/>
                    </a:lnTo>
                    <a:lnTo>
                      <a:pt x="340" y="190"/>
                    </a:lnTo>
                    <a:lnTo>
                      <a:pt x="378" y="188"/>
                    </a:lnTo>
                    <a:lnTo>
                      <a:pt x="417" y="184"/>
                    </a:lnTo>
                    <a:lnTo>
                      <a:pt x="457" y="181"/>
                    </a:lnTo>
                    <a:lnTo>
                      <a:pt x="497" y="176"/>
                    </a:lnTo>
                    <a:lnTo>
                      <a:pt x="537" y="171"/>
                    </a:lnTo>
                    <a:lnTo>
                      <a:pt x="618" y="159"/>
                    </a:lnTo>
                    <a:lnTo>
                      <a:pt x="696" y="147"/>
                    </a:lnTo>
                    <a:lnTo>
                      <a:pt x="774" y="132"/>
                    </a:lnTo>
                    <a:lnTo>
                      <a:pt x="849" y="118"/>
                    </a:lnTo>
                    <a:lnTo>
                      <a:pt x="984" y="92"/>
                    </a:lnTo>
                    <a:lnTo>
                      <a:pt x="1093" y="71"/>
                    </a:lnTo>
                    <a:lnTo>
                      <a:pt x="1207" y="0"/>
                    </a:lnTo>
                    <a:lnTo>
                      <a:pt x="1093" y="71"/>
                    </a:lnTo>
                    <a:lnTo>
                      <a:pt x="1336" y="31"/>
                    </a:lnTo>
                    <a:lnTo>
                      <a:pt x="1207" y="0"/>
                    </a:lnTo>
                    <a:lnTo>
                      <a:pt x="1089" y="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5975280" y="3662280"/>
                <a:ext cx="533520" cy="73080"/>
              </a:xfrm>
              <a:custGeom>
                <a:avLst/>
                <a:gdLst/>
                <a:ahLst/>
                <a:rect l="l" t="t" r="r" b="b"/>
                <a:pathLst>
                  <a:path w="1679" h="233">
                    <a:moveTo>
                      <a:pt x="0" y="114"/>
                    </a:moveTo>
                    <a:lnTo>
                      <a:pt x="38" y="107"/>
                    </a:lnTo>
                    <a:lnTo>
                      <a:pt x="75" y="102"/>
                    </a:lnTo>
                    <a:lnTo>
                      <a:pt x="113" y="97"/>
                    </a:lnTo>
                    <a:lnTo>
                      <a:pt x="149" y="94"/>
                    </a:lnTo>
                    <a:lnTo>
                      <a:pt x="186" y="91"/>
                    </a:lnTo>
                    <a:lnTo>
                      <a:pt x="222" y="90"/>
                    </a:lnTo>
                    <a:lnTo>
                      <a:pt x="258" y="90"/>
                    </a:lnTo>
                    <a:lnTo>
                      <a:pt x="294" y="90"/>
                    </a:lnTo>
                    <a:lnTo>
                      <a:pt x="434" y="95"/>
                    </a:lnTo>
                    <a:lnTo>
                      <a:pt x="571" y="101"/>
                    </a:lnTo>
                    <a:lnTo>
                      <a:pt x="605" y="102"/>
                    </a:lnTo>
                    <a:lnTo>
                      <a:pt x="639" y="102"/>
                    </a:lnTo>
                    <a:lnTo>
                      <a:pt x="674" y="102"/>
                    </a:lnTo>
                    <a:lnTo>
                      <a:pt x="708" y="102"/>
                    </a:lnTo>
                    <a:lnTo>
                      <a:pt x="742" y="99"/>
                    </a:lnTo>
                    <a:lnTo>
                      <a:pt x="775" y="97"/>
                    </a:lnTo>
                    <a:lnTo>
                      <a:pt x="809" y="94"/>
                    </a:lnTo>
                    <a:lnTo>
                      <a:pt x="844" y="89"/>
                    </a:lnTo>
                    <a:lnTo>
                      <a:pt x="878" y="83"/>
                    </a:lnTo>
                    <a:lnTo>
                      <a:pt x="912" y="77"/>
                    </a:lnTo>
                    <a:lnTo>
                      <a:pt x="947" y="69"/>
                    </a:lnTo>
                    <a:lnTo>
                      <a:pt x="981" y="58"/>
                    </a:lnTo>
                    <a:lnTo>
                      <a:pt x="1016" y="47"/>
                    </a:lnTo>
                    <a:lnTo>
                      <a:pt x="1051" y="33"/>
                    </a:lnTo>
                    <a:lnTo>
                      <a:pt x="1086" y="17"/>
                    </a:lnTo>
                    <a:lnTo>
                      <a:pt x="1122" y="0"/>
                    </a:lnTo>
                    <a:lnTo>
                      <a:pt x="1162" y="1"/>
                    </a:lnTo>
                    <a:lnTo>
                      <a:pt x="1199" y="2"/>
                    </a:lnTo>
                    <a:lnTo>
                      <a:pt x="1237" y="5"/>
                    </a:lnTo>
                    <a:lnTo>
                      <a:pt x="1274" y="7"/>
                    </a:lnTo>
                    <a:lnTo>
                      <a:pt x="1346" y="14"/>
                    </a:lnTo>
                    <a:lnTo>
                      <a:pt x="1416" y="22"/>
                    </a:lnTo>
                    <a:lnTo>
                      <a:pt x="1483" y="32"/>
                    </a:lnTo>
                    <a:lnTo>
                      <a:pt x="1549" y="45"/>
                    </a:lnTo>
                    <a:lnTo>
                      <a:pt x="1614" y="57"/>
                    </a:lnTo>
                    <a:lnTo>
                      <a:pt x="1679" y="70"/>
                    </a:lnTo>
                    <a:lnTo>
                      <a:pt x="1679" y="204"/>
                    </a:lnTo>
                    <a:lnTo>
                      <a:pt x="1579" y="195"/>
                    </a:lnTo>
                    <a:lnTo>
                      <a:pt x="1484" y="186"/>
                    </a:lnTo>
                    <a:lnTo>
                      <a:pt x="1395" y="177"/>
                    </a:lnTo>
                    <a:lnTo>
                      <a:pt x="1314" y="170"/>
                    </a:lnTo>
                    <a:lnTo>
                      <a:pt x="1277" y="167"/>
                    </a:lnTo>
                    <a:lnTo>
                      <a:pt x="1241" y="166"/>
                    </a:lnTo>
                    <a:lnTo>
                      <a:pt x="1208" y="164"/>
                    </a:lnTo>
                    <a:lnTo>
                      <a:pt x="1179" y="166"/>
                    </a:lnTo>
                    <a:lnTo>
                      <a:pt x="1151" y="167"/>
                    </a:lnTo>
                    <a:lnTo>
                      <a:pt x="1127" y="170"/>
                    </a:lnTo>
                    <a:lnTo>
                      <a:pt x="1116" y="172"/>
                    </a:lnTo>
                    <a:lnTo>
                      <a:pt x="1106" y="175"/>
                    </a:lnTo>
                    <a:lnTo>
                      <a:pt x="1097" y="178"/>
                    </a:lnTo>
                    <a:lnTo>
                      <a:pt x="1087" y="182"/>
                    </a:lnTo>
                    <a:lnTo>
                      <a:pt x="1066" y="193"/>
                    </a:lnTo>
                    <a:lnTo>
                      <a:pt x="1042" y="203"/>
                    </a:lnTo>
                    <a:lnTo>
                      <a:pt x="1016" y="211"/>
                    </a:lnTo>
                    <a:lnTo>
                      <a:pt x="987" y="218"/>
                    </a:lnTo>
                    <a:lnTo>
                      <a:pt x="958" y="224"/>
                    </a:lnTo>
                    <a:lnTo>
                      <a:pt x="927" y="228"/>
                    </a:lnTo>
                    <a:lnTo>
                      <a:pt x="894" y="231"/>
                    </a:lnTo>
                    <a:lnTo>
                      <a:pt x="859" y="233"/>
                    </a:lnTo>
                    <a:lnTo>
                      <a:pt x="824" y="233"/>
                    </a:lnTo>
                    <a:lnTo>
                      <a:pt x="788" y="233"/>
                    </a:lnTo>
                    <a:lnTo>
                      <a:pt x="751" y="232"/>
                    </a:lnTo>
                    <a:lnTo>
                      <a:pt x="712" y="229"/>
                    </a:lnTo>
                    <a:lnTo>
                      <a:pt x="674" y="226"/>
                    </a:lnTo>
                    <a:lnTo>
                      <a:pt x="635" y="223"/>
                    </a:lnTo>
                    <a:lnTo>
                      <a:pt x="595" y="218"/>
                    </a:lnTo>
                    <a:lnTo>
                      <a:pt x="555" y="212"/>
                    </a:lnTo>
                    <a:lnTo>
                      <a:pt x="475" y="201"/>
                    </a:lnTo>
                    <a:lnTo>
                      <a:pt x="397" y="188"/>
                    </a:lnTo>
                    <a:lnTo>
                      <a:pt x="319" y="175"/>
                    </a:lnTo>
                    <a:lnTo>
                      <a:pt x="245" y="160"/>
                    </a:lnTo>
                    <a:lnTo>
                      <a:pt x="111" y="134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5958000" y="3651120"/>
                <a:ext cx="392040" cy="59040"/>
              </a:xfrm>
              <a:custGeom>
                <a:avLst/>
                <a:gdLst/>
                <a:ahLst/>
                <a:rect l="l" t="t" r="r" b="b"/>
                <a:pathLst>
                  <a:path w="1233" h="186">
                    <a:moveTo>
                      <a:pt x="1233" y="1"/>
                    </a:moveTo>
                    <a:lnTo>
                      <a:pt x="1188" y="17"/>
                    </a:lnTo>
                    <a:lnTo>
                      <a:pt x="1167" y="28"/>
                    </a:lnTo>
                    <a:lnTo>
                      <a:pt x="1141" y="38"/>
                    </a:lnTo>
                    <a:lnTo>
                      <a:pt x="1113" y="50"/>
                    </a:lnTo>
                    <a:lnTo>
                      <a:pt x="1082" y="60"/>
                    </a:lnTo>
                    <a:lnTo>
                      <a:pt x="1051" y="69"/>
                    </a:lnTo>
                    <a:lnTo>
                      <a:pt x="1018" y="77"/>
                    </a:lnTo>
                    <a:lnTo>
                      <a:pt x="985" y="84"/>
                    </a:lnTo>
                    <a:lnTo>
                      <a:pt x="952" y="90"/>
                    </a:lnTo>
                    <a:lnTo>
                      <a:pt x="919" y="94"/>
                    </a:lnTo>
                    <a:lnTo>
                      <a:pt x="885" y="98"/>
                    </a:lnTo>
                    <a:lnTo>
                      <a:pt x="852" y="100"/>
                    </a:lnTo>
                    <a:lnTo>
                      <a:pt x="819" y="101"/>
                    </a:lnTo>
                    <a:lnTo>
                      <a:pt x="785" y="102"/>
                    </a:lnTo>
                    <a:lnTo>
                      <a:pt x="750" y="102"/>
                    </a:lnTo>
                    <a:lnTo>
                      <a:pt x="717" y="101"/>
                    </a:lnTo>
                    <a:lnTo>
                      <a:pt x="683" y="100"/>
                    </a:lnTo>
                    <a:lnTo>
                      <a:pt x="545" y="94"/>
                    </a:lnTo>
                    <a:lnTo>
                      <a:pt x="405" y="90"/>
                    </a:lnTo>
                    <a:lnTo>
                      <a:pt x="370" y="90"/>
                    </a:lnTo>
                    <a:lnTo>
                      <a:pt x="333" y="91"/>
                    </a:lnTo>
                    <a:lnTo>
                      <a:pt x="297" y="92"/>
                    </a:lnTo>
                    <a:lnTo>
                      <a:pt x="259" y="94"/>
                    </a:lnTo>
                    <a:lnTo>
                      <a:pt x="223" y="98"/>
                    </a:lnTo>
                    <a:lnTo>
                      <a:pt x="184" y="102"/>
                    </a:lnTo>
                    <a:lnTo>
                      <a:pt x="146" y="107"/>
                    </a:lnTo>
                    <a:lnTo>
                      <a:pt x="108" y="114"/>
                    </a:lnTo>
                    <a:lnTo>
                      <a:pt x="0" y="186"/>
                    </a:lnTo>
                    <a:lnTo>
                      <a:pt x="37" y="179"/>
                    </a:lnTo>
                    <a:lnTo>
                      <a:pt x="74" y="173"/>
                    </a:lnTo>
                    <a:lnTo>
                      <a:pt x="111" y="170"/>
                    </a:lnTo>
                    <a:lnTo>
                      <a:pt x="147" y="166"/>
                    </a:lnTo>
                    <a:lnTo>
                      <a:pt x="184" y="164"/>
                    </a:lnTo>
                    <a:lnTo>
                      <a:pt x="219" y="163"/>
                    </a:lnTo>
                    <a:lnTo>
                      <a:pt x="255" y="162"/>
                    </a:lnTo>
                    <a:lnTo>
                      <a:pt x="290" y="162"/>
                    </a:lnTo>
                    <a:lnTo>
                      <a:pt x="430" y="166"/>
                    </a:lnTo>
                    <a:lnTo>
                      <a:pt x="568" y="173"/>
                    </a:lnTo>
                    <a:lnTo>
                      <a:pt x="602" y="174"/>
                    </a:lnTo>
                    <a:lnTo>
                      <a:pt x="636" y="174"/>
                    </a:lnTo>
                    <a:lnTo>
                      <a:pt x="671" y="174"/>
                    </a:lnTo>
                    <a:lnTo>
                      <a:pt x="705" y="173"/>
                    </a:lnTo>
                    <a:lnTo>
                      <a:pt x="739" y="172"/>
                    </a:lnTo>
                    <a:lnTo>
                      <a:pt x="773" y="170"/>
                    </a:lnTo>
                    <a:lnTo>
                      <a:pt x="809" y="166"/>
                    </a:lnTo>
                    <a:lnTo>
                      <a:pt x="843" y="162"/>
                    </a:lnTo>
                    <a:lnTo>
                      <a:pt x="878" y="156"/>
                    </a:lnTo>
                    <a:lnTo>
                      <a:pt x="915" y="148"/>
                    </a:lnTo>
                    <a:lnTo>
                      <a:pt x="950" y="139"/>
                    </a:lnTo>
                    <a:lnTo>
                      <a:pt x="988" y="129"/>
                    </a:lnTo>
                    <a:lnTo>
                      <a:pt x="1027" y="115"/>
                    </a:lnTo>
                    <a:lnTo>
                      <a:pt x="1069" y="99"/>
                    </a:lnTo>
                    <a:lnTo>
                      <a:pt x="1114" y="80"/>
                    </a:lnTo>
                    <a:lnTo>
                      <a:pt x="1162" y="56"/>
                    </a:lnTo>
                    <a:lnTo>
                      <a:pt x="1119" y="73"/>
                    </a:lnTo>
                    <a:lnTo>
                      <a:pt x="1233" y="1"/>
                    </a:lnTo>
                    <a:lnTo>
                      <a:pt x="1221" y="0"/>
                    </a:lnTo>
                    <a:lnTo>
                      <a:pt x="1188" y="17"/>
                    </a:lnTo>
                    <a:lnTo>
                      <a:pt x="1233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6313320" y="3651120"/>
                <a:ext cx="195480" cy="49320"/>
              </a:xfrm>
              <a:custGeom>
                <a:avLst/>
                <a:gdLst/>
                <a:ahLst/>
                <a:rect l="l" t="t" r="r" b="b"/>
                <a:pathLst>
                  <a:path w="614" h="154">
                    <a:moveTo>
                      <a:pt x="614" y="57"/>
                    </a:moveTo>
                    <a:lnTo>
                      <a:pt x="572" y="49"/>
                    </a:lnTo>
                    <a:lnTo>
                      <a:pt x="501" y="36"/>
                    </a:lnTo>
                    <a:lnTo>
                      <a:pt x="429" y="24"/>
                    </a:lnTo>
                    <a:lnTo>
                      <a:pt x="392" y="19"/>
                    </a:lnTo>
                    <a:lnTo>
                      <a:pt x="354" y="15"/>
                    </a:lnTo>
                    <a:lnTo>
                      <a:pt x="317" y="10"/>
                    </a:lnTo>
                    <a:lnTo>
                      <a:pt x="278" y="7"/>
                    </a:lnTo>
                    <a:lnTo>
                      <a:pt x="238" y="3"/>
                    </a:lnTo>
                    <a:lnTo>
                      <a:pt x="198" y="1"/>
                    </a:lnTo>
                    <a:lnTo>
                      <a:pt x="156" y="0"/>
                    </a:lnTo>
                    <a:lnTo>
                      <a:pt x="114" y="0"/>
                    </a:lnTo>
                    <a:lnTo>
                      <a:pt x="0" y="72"/>
                    </a:lnTo>
                    <a:lnTo>
                      <a:pt x="42" y="72"/>
                    </a:lnTo>
                    <a:lnTo>
                      <a:pt x="83" y="74"/>
                    </a:lnTo>
                    <a:lnTo>
                      <a:pt x="123" y="76"/>
                    </a:lnTo>
                    <a:lnTo>
                      <a:pt x="162" y="79"/>
                    </a:lnTo>
                    <a:lnTo>
                      <a:pt x="200" y="82"/>
                    </a:lnTo>
                    <a:lnTo>
                      <a:pt x="238" y="86"/>
                    </a:lnTo>
                    <a:lnTo>
                      <a:pt x="276" y="91"/>
                    </a:lnTo>
                    <a:lnTo>
                      <a:pt x="312" y="96"/>
                    </a:lnTo>
                    <a:lnTo>
                      <a:pt x="384" y="108"/>
                    </a:lnTo>
                    <a:lnTo>
                      <a:pt x="455" y="121"/>
                    </a:lnTo>
                    <a:lnTo>
                      <a:pt x="524" y="134"/>
                    </a:lnTo>
                    <a:lnTo>
                      <a:pt x="594" y="149"/>
                    </a:lnTo>
                    <a:lnTo>
                      <a:pt x="614" y="154"/>
                    </a:lnTo>
                    <a:lnTo>
                      <a:pt x="614" y="5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6310440" y="3703680"/>
                <a:ext cx="198360" cy="36360"/>
              </a:xfrm>
              <a:custGeom>
                <a:avLst/>
                <a:gdLst/>
                <a:ahLst/>
                <a:rect l="l" t="t" r="r" b="b"/>
                <a:pathLst>
                  <a:path w="623" h="115">
                    <a:moveTo>
                      <a:pt x="43" y="58"/>
                    </a:moveTo>
                    <a:lnTo>
                      <a:pt x="5" y="79"/>
                    </a:lnTo>
                    <a:lnTo>
                      <a:pt x="0" y="81"/>
                    </a:lnTo>
                    <a:lnTo>
                      <a:pt x="13" y="78"/>
                    </a:lnTo>
                    <a:lnTo>
                      <a:pt x="33" y="74"/>
                    </a:lnTo>
                    <a:lnTo>
                      <a:pt x="55" y="73"/>
                    </a:lnTo>
                    <a:lnTo>
                      <a:pt x="82" y="72"/>
                    </a:lnTo>
                    <a:lnTo>
                      <a:pt x="109" y="72"/>
                    </a:lnTo>
                    <a:lnTo>
                      <a:pt x="140" y="73"/>
                    </a:lnTo>
                    <a:lnTo>
                      <a:pt x="172" y="74"/>
                    </a:lnTo>
                    <a:lnTo>
                      <a:pt x="320" y="88"/>
                    </a:lnTo>
                    <a:lnTo>
                      <a:pt x="491" y="105"/>
                    </a:lnTo>
                    <a:lnTo>
                      <a:pt x="581" y="113"/>
                    </a:lnTo>
                    <a:lnTo>
                      <a:pt x="623" y="115"/>
                    </a:lnTo>
                    <a:lnTo>
                      <a:pt x="623" y="34"/>
                    </a:lnTo>
                    <a:lnTo>
                      <a:pt x="607" y="33"/>
                    </a:lnTo>
                    <a:lnTo>
                      <a:pt x="436" y="16"/>
                    </a:lnTo>
                    <a:lnTo>
                      <a:pt x="288" y="2"/>
                    </a:lnTo>
                    <a:lnTo>
                      <a:pt x="255" y="1"/>
                    </a:lnTo>
                    <a:lnTo>
                      <a:pt x="224" y="0"/>
                    </a:lnTo>
                    <a:lnTo>
                      <a:pt x="196" y="0"/>
                    </a:lnTo>
                    <a:lnTo>
                      <a:pt x="168" y="0"/>
                    </a:lnTo>
                    <a:lnTo>
                      <a:pt x="143" y="2"/>
                    </a:lnTo>
                    <a:lnTo>
                      <a:pt x="120" y="6"/>
                    </a:lnTo>
                    <a:lnTo>
                      <a:pt x="96" y="13"/>
                    </a:lnTo>
                    <a:lnTo>
                      <a:pt x="59" y="26"/>
                    </a:lnTo>
                    <a:lnTo>
                      <a:pt x="21" y="47"/>
                    </a:lnTo>
                    <a:lnTo>
                      <a:pt x="59" y="26"/>
                    </a:lnTo>
                    <a:lnTo>
                      <a:pt x="41" y="34"/>
                    </a:lnTo>
                    <a:lnTo>
                      <a:pt x="21" y="47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5924520" y="3686040"/>
                <a:ext cx="399960" cy="61920"/>
              </a:xfrm>
              <a:custGeom>
                <a:avLst/>
                <a:gdLst/>
                <a:ahLst/>
                <a:rect l="l" t="t" r="r" b="b"/>
                <a:pathLst>
                  <a:path w="1260" h="191">
                    <a:moveTo>
                      <a:pt x="215" y="0"/>
                    </a:moveTo>
                    <a:lnTo>
                      <a:pt x="103" y="72"/>
                    </a:lnTo>
                    <a:lnTo>
                      <a:pt x="212" y="92"/>
                    </a:lnTo>
                    <a:lnTo>
                      <a:pt x="348" y="118"/>
                    </a:lnTo>
                    <a:lnTo>
                      <a:pt x="422" y="132"/>
                    </a:lnTo>
                    <a:lnTo>
                      <a:pt x="500" y="146"/>
                    </a:lnTo>
                    <a:lnTo>
                      <a:pt x="578" y="159"/>
                    </a:lnTo>
                    <a:lnTo>
                      <a:pt x="658" y="171"/>
                    </a:lnTo>
                    <a:lnTo>
                      <a:pt x="698" y="177"/>
                    </a:lnTo>
                    <a:lnTo>
                      <a:pt x="738" y="180"/>
                    </a:lnTo>
                    <a:lnTo>
                      <a:pt x="777" y="185"/>
                    </a:lnTo>
                    <a:lnTo>
                      <a:pt x="816" y="187"/>
                    </a:lnTo>
                    <a:lnTo>
                      <a:pt x="854" y="189"/>
                    </a:lnTo>
                    <a:lnTo>
                      <a:pt x="892" y="191"/>
                    </a:lnTo>
                    <a:lnTo>
                      <a:pt x="928" y="191"/>
                    </a:lnTo>
                    <a:lnTo>
                      <a:pt x="963" y="190"/>
                    </a:lnTo>
                    <a:lnTo>
                      <a:pt x="999" y="189"/>
                    </a:lnTo>
                    <a:lnTo>
                      <a:pt x="1032" y="186"/>
                    </a:lnTo>
                    <a:lnTo>
                      <a:pt x="1065" y="182"/>
                    </a:lnTo>
                    <a:lnTo>
                      <a:pt x="1096" y="175"/>
                    </a:lnTo>
                    <a:lnTo>
                      <a:pt x="1128" y="169"/>
                    </a:lnTo>
                    <a:lnTo>
                      <a:pt x="1158" y="158"/>
                    </a:lnTo>
                    <a:lnTo>
                      <a:pt x="1179" y="150"/>
                    </a:lnTo>
                    <a:lnTo>
                      <a:pt x="1201" y="140"/>
                    </a:lnTo>
                    <a:lnTo>
                      <a:pt x="1229" y="126"/>
                    </a:lnTo>
                    <a:lnTo>
                      <a:pt x="1260" y="109"/>
                    </a:lnTo>
                    <a:lnTo>
                      <a:pt x="1238" y="98"/>
                    </a:lnTo>
                    <a:lnTo>
                      <a:pt x="1247" y="92"/>
                    </a:lnTo>
                    <a:lnTo>
                      <a:pt x="1253" y="90"/>
                    </a:lnTo>
                    <a:lnTo>
                      <a:pt x="1251" y="90"/>
                    </a:lnTo>
                    <a:lnTo>
                      <a:pt x="1247" y="92"/>
                    </a:lnTo>
                    <a:lnTo>
                      <a:pt x="1226" y="99"/>
                    </a:lnTo>
                    <a:lnTo>
                      <a:pt x="1202" y="105"/>
                    </a:lnTo>
                    <a:lnTo>
                      <a:pt x="1173" y="110"/>
                    </a:lnTo>
                    <a:lnTo>
                      <a:pt x="1144" y="114"/>
                    </a:lnTo>
                    <a:lnTo>
                      <a:pt x="1111" y="117"/>
                    </a:lnTo>
                    <a:lnTo>
                      <a:pt x="1077" y="118"/>
                    </a:lnTo>
                    <a:lnTo>
                      <a:pt x="1042" y="120"/>
                    </a:lnTo>
                    <a:lnTo>
                      <a:pt x="1007" y="118"/>
                    </a:lnTo>
                    <a:lnTo>
                      <a:pt x="969" y="117"/>
                    </a:lnTo>
                    <a:lnTo>
                      <a:pt x="932" y="115"/>
                    </a:lnTo>
                    <a:lnTo>
                      <a:pt x="893" y="113"/>
                    </a:lnTo>
                    <a:lnTo>
                      <a:pt x="854" y="108"/>
                    </a:lnTo>
                    <a:lnTo>
                      <a:pt x="814" y="104"/>
                    </a:lnTo>
                    <a:lnTo>
                      <a:pt x="775" y="99"/>
                    </a:lnTo>
                    <a:lnTo>
                      <a:pt x="696" y="88"/>
                    </a:lnTo>
                    <a:lnTo>
                      <a:pt x="616" y="74"/>
                    </a:lnTo>
                    <a:lnTo>
                      <a:pt x="539" y="60"/>
                    </a:lnTo>
                    <a:lnTo>
                      <a:pt x="465" y="47"/>
                    </a:lnTo>
                    <a:lnTo>
                      <a:pt x="330" y="20"/>
                    </a:lnTo>
                    <a:lnTo>
                      <a:pt x="219" y="0"/>
                    </a:lnTo>
                    <a:lnTo>
                      <a:pt x="107" y="72"/>
                    </a:lnTo>
                    <a:lnTo>
                      <a:pt x="215" y="0"/>
                    </a:lnTo>
                    <a:lnTo>
                      <a:pt x="0" y="47"/>
                    </a:lnTo>
                    <a:lnTo>
                      <a:pt x="103" y="72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2719440" y="3911760"/>
                <a:ext cx="745920" cy="72720"/>
              </a:xfrm>
              <a:custGeom>
                <a:avLst/>
                <a:gdLst/>
                <a:ahLst/>
                <a:rect l="l" t="t" r="r" b="b"/>
                <a:pathLst>
                  <a:path w="2350" h="233">
                    <a:moveTo>
                      <a:pt x="2350" y="113"/>
                    </a:moveTo>
                    <a:lnTo>
                      <a:pt x="2312" y="107"/>
                    </a:lnTo>
                    <a:lnTo>
                      <a:pt x="2275" y="102"/>
                    </a:lnTo>
                    <a:lnTo>
                      <a:pt x="2237" y="97"/>
                    </a:lnTo>
                    <a:lnTo>
                      <a:pt x="2200" y="94"/>
                    </a:lnTo>
                    <a:lnTo>
                      <a:pt x="2164" y="91"/>
                    </a:lnTo>
                    <a:lnTo>
                      <a:pt x="2127" y="90"/>
                    </a:lnTo>
                    <a:lnTo>
                      <a:pt x="2091" y="90"/>
                    </a:lnTo>
                    <a:lnTo>
                      <a:pt x="2056" y="90"/>
                    </a:lnTo>
                    <a:lnTo>
                      <a:pt x="1915" y="95"/>
                    </a:lnTo>
                    <a:lnTo>
                      <a:pt x="1777" y="100"/>
                    </a:lnTo>
                    <a:lnTo>
                      <a:pt x="1743" y="102"/>
                    </a:lnTo>
                    <a:lnTo>
                      <a:pt x="1710" y="102"/>
                    </a:lnTo>
                    <a:lnTo>
                      <a:pt x="1676" y="102"/>
                    </a:lnTo>
                    <a:lnTo>
                      <a:pt x="1642" y="100"/>
                    </a:lnTo>
                    <a:lnTo>
                      <a:pt x="1608" y="99"/>
                    </a:lnTo>
                    <a:lnTo>
                      <a:pt x="1573" y="97"/>
                    </a:lnTo>
                    <a:lnTo>
                      <a:pt x="1539" y="94"/>
                    </a:lnTo>
                    <a:lnTo>
                      <a:pt x="1506" y="89"/>
                    </a:lnTo>
                    <a:lnTo>
                      <a:pt x="1472" y="83"/>
                    </a:lnTo>
                    <a:lnTo>
                      <a:pt x="1437" y="77"/>
                    </a:lnTo>
                    <a:lnTo>
                      <a:pt x="1402" y="67"/>
                    </a:lnTo>
                    <a:lnTo>
                      <a:pt x="1368" y="58"/>
                    </a:lnTo>
                    <a:lnTo>
                      <a:pt x="1333" y="46"/>
                    </a:lnTo>
                    <a:lnTo>
                      <a:pt x="1299" y="33"/>
                    </a:lnTo>
                    <a:lnTo>
                      <a:pt x="1263" y="17"/>
                    </a:lnTo>
                    <a:lnTo>
                      <a:pt x="1228" y="0"/>
                    </a:lnTo>
                    <a:lnTo>
                      <a:pt x="1186" y="1"/>
                    </a:lnTo>
                    <a:lnTo>
                      <a:pt x="1145" y="2"/>
                    </a:lnTo>
                    <a:lnTo>
                      <a:pt x="1104" y="5"/>
                    </a:lnTo>
                    <a:lnTo>
                      <a:pt x="1064" y="7"/>
                    </a:lnTo>
                    <a:lnTo>
                      <a:pt x="1026" y="10"/>
                    </a:lnTo>
                    <a:lnTo>
                      <a:pt x="987" y="15"/>
                    </a:lnTo>
                    <a:lnTo>
                      <a:pt x="951" y="19"/>
                    </a:lnTo>
                    <a:lnTo>
                      <a:pt x="914" y="25"/>
                    </a:lnTo>
                    <a:lnTo>
                      <a:pt x="842" y="37"/>
                    </a:lnTo>
                    <a:lnTo>
                      <a:pt x="772" y="49"/>
                    </a:lnTo>
                    <a:lnTo>
                      <a:pt x="701" y="63"/>
                    </a:lnTo>
                    <a:lnTo>
                      <a:pt x="632" y="78"/>
                    </a:lnTo>
                    <a:lnTo>
                      <a:pt x="562" y="93"/>
                    </a:lnTo>
                    <a:lnTo>
                      <a:pt x="490" y="107"/>
                    </a:lnTo>
                    <a:lnTo>
                      <a:pt x="417" y="121"/>
                    </a:lnTo>
                    <a:lnTo>
                      <a:pt x="341" y="134"/>
                    </a:lnTo>
                    <a:lnTo>
                      <a:pt x="302" y="139"/>
                    </a:lnTo>
                    <a:lnTo>
                      <a:pt x="262" y="145"/>
                    </a:lnTo>
                    <a:lnTo>
                      <a:pt x="221" y="151"/>
                    </a:lnTo>
                    <a:lnTo>
                      <a:pt x="179" y="155"/>
                    </a:lnTo>
                    <a:lnTo>
                      <a:pt x="136" y="159"/>
                    </a:lnTo>
                    <a:lnTo>
                      <a:pt x="93" y="162"/>
                    </a:lnTo>
                    <a:lnTo>
                      <a:pt x="47" y="164"/>
                    </a:lnTo>
                    <a:lnTo>
                      <a:pt x="0" y="167"/>
                    </a:lnTo>
                    <a:lnTo>
                      <a:pt x="8" y="169"/>
                    </a:lnTo>
                    <a:lnTo>
                      <a:pt x="15" y="171"/>
                    </a:lnTo>
                    <a:lnTo>
                      <a:pt x="23" y="174"/>
                    </a:lnTo>
                    <a:lnTo>
                      <a:pt x="31" y="175"/>
                    </a:lnTo>
                    <a:lnTo>
                      <a:pt x="39" y="177"/>
                    </a:lnTo>
                    <a:lnTo>
                      <a:pt x="46" y="179"/>
                    </a:lnTo>
                    <a:lnTo>
                      <a:pt x="54" y="181"/>
                    </a:lnTo>
                    <a:lnTo>
                      <a:pt x="62" y="183"/>
                    </a:lnTo>
                    <a:lnTo>
                      <a:pt x="129" y="185"/>
                    </a:lnTo>
                    <a:lnTo>
                      <a:pt x="196" y="188"/>
                    </a:lnTo>
                    <a:lnTo>
                      <a:pt x="264" y="192"/>
                    </a:lnTo>
                    <a:lnTo>
                      <a:pt x="331" y="194"/>
                    </a:lnTo>
                    <a:lnTo>
                      <a:pt x="398" y="197"/>
                    </a:lnTo>
                    <a:lnTo>
                      <a:pt x="464" y="202"/>
                    </a:lnTo>
                    <a:lnTo>
                      <a:pt x="531" y="205"/>
                    </a:lnTo>
                    <a:lnTo>
                      <a:pt x="599" y="209"/>
                    </a:lnTo>
                    <a:lnTo>
                      <a:pt x="709" y="201"/>
                    </a:lnTo>
                    <a:lnTo>
                      <a:pt x="815" y="191"/>
                    </a:lnTo>
                    <a:lnTo>
                      <a:pt x="916" y="180"/>
                    </a:lnTo>
                    <a:lnTo>
                      <a:pt x="1008" y="171"/>
                    </a:lnTo>
                    <a:lnTo>
                      <a:pt x="1050" y="168"/>
                    </a:lnTo>
                    <a:lnTo>
                      <a:pt x="1090" y="166"/>
                    </a:lnTo>
                    <a:lnTo>
                      <a:pt x="1127" y="164"/>
                    </a:lnTo>
                    <a:lnTo>
                      <a:pt x="1161" y="164"/>
                    </a:lnTo>
                    <a:lnTo>
                      <a:pt x="1192" y="166"/>
                    </a:lnTo>
                    <a:lnTo>
                      <a:pt x="1219" y="169"/>
                    </a:lnTo>
                    <a:lnTo>
                      <a:pt x="1230" y="171"/>
                    </a:lnTo>
                    <a:lnTo>
                      <a:pt x="1242" y="175"/>
                    </a:lnTo>
                    <a:lnTo>
                      <a:pt x="1252" y="177"/>
                    </a:lnTo>
                    <a:lnTo>
                      <a:pt x="1262" y="181"/>
                    </a:lnTo>
                    <a:lnTo>
                      <a:pt x="1284" y="193"/>
                    </a:lnTo>
                    <a:lnTo>
                      <a:pt x="1308" y="203"/>
                    </a:lnTo>
                    <a:lnTo>
                      <a:pt x="1334" y="211"/>
                    </a:lnTo>
                    <a:lnTo>
                      <a:pt x="1361" y="218"/>
                    </a:lnTo>
                    <a:lnTo>
                      <a:pt x="1391" y="224"/>
                    </a:lnTo>
                    <a:lnTo>
                      <a:pt x="1423" y="228"/>
                    </a:lnTo>
                    <a:lnTo>
                      <a:pt x="1456" y="231"/>
                    </a:lnTo>
                    <a:lnTo>
                      <a:pt x="1490" y="233"/>
                    </a:lnTo>
                    <a:lnTo>
                      <a:pt x="1526" y="233"/>
                    </a:lnTo>
                    <a:lnTo>
                      <a:pt x="1561" y="233"/>
                    </a:lnTo>
                    <a:lnTo>
                      <a:pt x="1598" y="232"/>
                    </a:lnTo>
                    <a:lnTo>
                      <a:pt x="1637" y="229"/>
                    </a:lnTo>
                    <a:lnTo>
                      <a:pt x="1675" y="226"/>
                    </a:lnTo>
                    <a:lnTo>
                      <a:pt x="1715" y="223"/>
                    </a:lnTo>
                    <a:lnTo>
                      <a:pt x="1755" y="218"/>
                    </a:lnTo>
                    <a:lnTo>
                      <a:pt x="1795" y="212"/>
                    </a:lnTo>
                    <a:lnTo>
                      <a:pt x="1873" y="201"/>
                    </a:lnTo>
                    <a:lnTo>
                      <a:pt x="1953" y="188"/>
                    </a:lnTo>
                    <a:lnTo>
                      <a:pt x="2029" y="175"/>
                    </a:lnTo>
                    <a:lnTo>
                      <a:pt x="2105" y="160"/>
                    </a:lnTo>
                    <a:lnTo>
                      <a:pt x="2239" y="134"/>
                    </a:lnTo>
                    <a:lnTo>
                      <a:pt x="2350" y="11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3089160" y="3900600"/>
                <a:ext cx="393840" cy="58680"/>
              </a:xfrm>
              <a:custGeom>
                <a:avLst/>
                <a:gdLst/>
                <a:ahLst/>
                <a:rect l="l" t="t" r="r" b="b"/>
                <a:pathLst>
                  <a:path w="1240" h="186">
                    <a:moveTo>
                      <a:pt x="2" y="73"/>
                    </a:moveTo>
                    <a:lnTo>
                      <a:pt x="0" y="71"/>
                    </a:lnTo>
                    <a:lnTo>
                      <a:pt x="35" y="89"/>
                    </a:lnTo>
                    <a:lnTo>
                      <a:pt x="70" y="105"/>
                    </a:lnTo>
                    <a:lnTo>
                      <a:pt x="106" y="118"/>
                    </a:lnTo>
                    <a:lnTo>
                      <a:pt x="140" y="130"/>
                    </a:lnTo>
                    <a:lnTo>
                      <a:pt x="174" y="140"/>
                    </a:lnTo>
                    <a:lnTo>
                      <a:pt x="209" y="148"/>
                    </a:lnTo>
                    <a:lnTo>
                      <a:pt x="244" y="156"/>
                    </a:lnTo>
                    <a:lnTo>
                      <a:pt x="278" y="162"/>
                    </a:lnTo>
                    <a:lnTo>
                      <a:pt x="312" y="166"/>
                    </a:lnTo>
                    <a:lnTo>
                      <a:pt x="346" y="170"/>
                    </a:lnTo>
                    <a:lnTo>
                      <a:pt x="380" y="172"/>
                    </a:lnTo>
                    <a:lnTo>
                      <a:pt x="416" y="173"/>
                    </a:lnTo>
                    <a:lnTo>
                      <a:pt x="449" y="174"/>
                    </a:lnTo>
                    <a:lnTo>
                      <a:pt x="483" y="174"/>
                    </a:lnTo>
                    <a:lnTo>
                      <a:pt x="518" y="173"/>
                    </a:lnTo>
                    <a:lnTo>
                      <a:pt x="553" y="172"/>
                    </a:lnTo>
                    <a:lnTo>
                      <a:pt x="689" y="166"/>
                    </a:lnTo>
                    <a:lnTo>
                      <a:pt x="830" y="162"/>
                    </a:lnTo>
                    <a:lnTo>
                      <a:pt x="865" y="162"/>
                    </a:lnTo>
                    <a:lnTo>
                      <a:pt x="900" y="163"/>
                    </a:lnTo>
                    <a:lnTo>
                      <a:pt x="937" y="164"/>
                    </a:lnTo>
                    <a:lnTo>
                      <a:pt x="973" y="166"/>
                    </a:lnTo>
                    <a:lnTo>
                      <a:pt x="1010" y="170"/>
                    </a:lnTo>
                    <a:lnTo>
                      <a:pt x="1046" y="173"/>
                    </a:lnTo>
                    <a:lnTo>
                      <a:pt x="1084" y="179"/>
                    </a:lnTo>
                    <a:lnTo>
                      <a:pt x="1123" y="186"/>
                    </a:lnTo>
                    <a:lnTo>
                      <a:pt x="1240" y="114"/>
                    </a:lnTo>
                    <a:lnTo>
                      <a:pt x="1201" y="107"/>
                    </a:lnTo>
                    <a:lnTo>
                      <a:pt x="1164" y="101"/>
                    </a:lnTo>
                    <a:lnTo>
                      <a:pt x="1126" y="97"/>
                    </a:lnTo>
                    <a:lnTo>
                      <a:pt x="1088" y="94"/>
                    </a:lnTo>
                    <a:lnTo>
                      <a:pt x="1052" y="92"/>
                    </a:lnTo>
                    <a:lnTo>
                      <a:pt x="1015" y="90"/>
                    </a:lnTo>
                    <a:lnTo>
                      <a:pt x="980" y="90"/>
                    </a:lnTo>
                    <a:lnTo>
                      <a:pt x="944" y="90"/>
                    </a:lnTo>
                    <a:lnTo>
                      <a:pt x="803" y="94"/>
                    </a:lnTo>
                    <a:lnTo>
                      <a:pt x="665" y="100"/>
                    </a:lnTo>
                    <a:lnTo>
                      <a:pt x="631" y="101"/>
                    </a:lnTo>
                    <a:lnTo>
                      <a:pt x="598" y="101"/>
                    </a:lnTo>
                    <a:lnTo>
                      <a:pt x="564" y="101"/>
                    </a:lnTo>
                    <a:lnTo>
                      <a:pt x="530" y="101"/>
                    </a:lnTo>
                    <a:lnTo>
                      <a:pt x="497" y="99"/>
                    </a:lnTo>
                    <a:lnTo>
                      <a:pt x="463" y="97"/>
                    </a:lnTo>
                    <a:lnTo>
                      <a:pt x="428" y="93"/>
                    </a:lnTo>
                    <a:lnTo>
                      <a:pt x="395" y="89"/>
                    </a:lnTo>
                    <a:lnTo>
                      <a:pt x="361" y="83"/>
                    </a:lnTo>
                    <a:lnTo>
                      <a:pt x="327" y="76"/>
                    </a:lnTo>
                    <a:lnTo>
                      <a:pt x="293" y="68"/>
                    </a:lnTo>
                    <a:lnTo>
                      <a:pt x="258" y="58"/>
                    </a:lnTo>
                    <a:lnTo>
                      <a:pt x="223" y="46"/>
                    </a:lnTo>
                    <a:lnTo>
                      <a:pt x="189" y="33"/>
                    </a:lnTo>
                    <a:lnTo>
                      <a:pt x="154" y="18"/>
                    </a:lnTo>
                    <a:lnTo>
                      <a:pt x="118" y="1"/>
                    </a:lnTo>
                    <a:lnTo>
                      <a:pt x="116" y="0"/>
                    </a:lnTo>
                    <a:lnTo>
                      <a:pt x="118" y="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2" y="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2658960" y="3900600"/>
                <a:ext cx="468360" cy="69840"/>
              </a:xfrm>
              <a:custGeom>
                <a:avLst/>
                <a:gdLst/>
                <a:ahLst/>
                <a:rect l="l" t="t" r="r" b="b"/>
                <a:pathLst>
                  <a:path w="1473" h="222">
                    <a:moveTo>
                      <a:pt x="247" y="167"/>
                    </a:moveTo>
                    <a:lnTo>
                      <a:pt x="168" y="216"/>
                    </a:lnTo>
                    <a:lnTo>
                      <a:pt x="190" y="216"/>
                    </a:lnTo>
                    <a:lnTo>
                      <a:pt x="213" y="217"/>
                    </a:lnTo>
                    <a:lnTo>
                      <a:pt x="236" y="219"/>
                    </a:lnTo>
                    <a:lnTo>
                      <a:pt x="259" y="219"/>
                    </a:lnTo>
                    <a:lnTo>
                      <a:pt x="282" y="220"/>
                    </a:lnTo>
                    <a:lnTo>
                      <a:pt x="304" y="221"/>
                    </a:lnTo>
                    <a:lnTo>
                      <a:pt x="327" y="222"/>
                    </a:lnTo>
                    <a:lnTo>
                      <a:pt x="350" y="222"/>
                    </a:lnTo>
                    <a:lnTo>
                      <a:pt x="354" y="222"/>
                    </a:lnTo>
                    <a:lnTo>
                      <a:pt x="396" y="217"/>
                    </a:lnTo>
                    <a:lnTo>
                      <a:pt x="436" y="212"/>
                    </a:lnTo>
                    <a:lnTo>
                      <a:pt x="474" y="206"/>
                    </a:lnTo>
                    <a:lnTo>
                      <a:pt x="551" y="192"/>
                    </a:lnTo>
                    <a:lnTo>
                      <a:pt x="625" y="179"/>
                    </a:lnTo>
                    <a:lnTo>
                      <a:pt x="697" y="164"/>
                    </a:lnTo>
                    <a:lnTo>
                      <a:pt x="767" y="149"/>
                    </a:lnTo>
                    <a:lnTo>
                      <a:pt x="837" y="135"/>
                    </a:lnTo>
                    <a:lnTo>
                      <a:pt x="906" y="121"/>
                    </a:lnTo>
                    <a:lnTo>
                      <a:pt x="976" y="108"/>
                    </a:lnTo>
                    <a:lnTo>
                      <a:pt x="1048" y="97"/>
                    </a:lnTo>
                    <a:lnTo>
                      <a:pt x="1083" y="92"/>
                    </a:lnTo>
                    <a:lnTo>
                      <a:pt x="1121" y="87"/>
                    </a:lnTo>
                    <a:lnTo>
                      <a:pt x="1158" y="83"/>
                    </a:lnTo>
                    <a:lnTo>
                      <a:pt x="1196" y="79"/>
                    </a:lnTo>
                    <a:lnTo>
                      <a:pt x="1236" y="76"/>
                    </a:lnTo>
                    <a:lnTo>
                      <a:pt x="1276" y="74"/>
                    </a:lnTo>
                    <a:lnTo>
                      <a:pt x="1317" y="73"/>
                    </a:lnTo>
                    <a:lnTo>
                      <a:pt x="1359" y="73"/>
                    </a:lnTo>
                    <a:lnTo>
                      <a:pt x="1473" y="0"/>
                    </a:lnTo>
                    <a:lnTo>
                      <a:pt x="1431" y="1"/>
                    </a:lnTo>
                    <a:lnTo>
                      <a:pt x="1389" y="2"/>
                    </a:lnTo>
                    <a:lnTo>
                      <a:pt x="1349" y="4"/>
                    </a:lnTo>
                    <a:lnTo>
                      <a:pt x="1309" y="8"/>
                    </a:lnTo>
                    <a:lnTo>
                      <a:pt x="1269" y="11"/>
                    </a:lnTo>
                    <a:lnTo>
                      <a:pt x="1231" y="16"/>
                    </a:lnTo>
                    <a:lnTo>
                      <a:pt x="1194" y="20"/>
                    </a:lnTo>
                    <a:lnTo>
                      <a:pt x="1156" y="25"/>
                    </a:lnTo>
                    <a:lnTo>
                      <a:pt x="1084" y="36"/>
                    </a:lnTo>
                    <a:lnTo>
                      <a:pt x="1012" y="50"/>
                    </a:lnTo>
                    <a:lnTo>
                      <a:pt x="943" y="63"/>
                    </a:lnTo>
                    <a:lnTo>
                      <a:pt x="873" y="78"/>
                    </a:lnTo>
                    <a:lnTo>
                      <a:pt x="803" y="93"/>
                    </a:lnTo>
                    <a:lnTo>
                      <a:pt x="732" y="108"/>
                    </a:lnTo>
                    <a:lnTo>
                      <a:pt x="659" y="122"/>
                    </a:lnTo>
                    <a:lnTo>
                      <a:pt x="584" y="134"/>
                    </a:lnTo>
                    <a:lnTo>
                      <a:pt x="545" y="140"/>
                    </a:lnTo>
                    <a:lnTo>
                      <a:pt x="505" y="146"/>
                    </a:lnTo>
                    <a:lnTo>
                      <a:pt x="464" y="150"/>
                    </a:lnTo>
                    <a:lnTo>
                      <a:pt x="423" y="155"/>
                    </a:lnTo>
                    <a:lnTo>
                      <a:pt x="381" y="159"/>
                    </a:lnTo>
                    <a:lnTo>
                      <a:pt x="336" y="162"/>
                    </a:lnTo>
                    <a:lnTo>
                      <a:pt x="291" y="165"/>
                    </a:lnTo>
                    <a:lnTo>
                      <a:pt x="245" y="166"/>
                    </a:lnTo>
                    <a:lnTo>
                      <a:pt x="165" y="216"/>
                    </a:lnTo>
                    <a:lnTo>
                      <a:pt x="153" y="215"/>
                    </a:lnTo>
                    <a:lnTo>
                      <a:pt x="141" y="215"/>
                    </a:lnTo>
                    <a:lnTo>
                      <a:pt x="129" y="215"/>
                    </a:lnTo>
                    <a:lnTo>
                      <a:pt x="116" y="214"/>
                    </a:lnTo>
                    <a:lnTo>
                      <a:pt x="105" y="214"/>
                    </a:lnTo>
                    <a:lnTo>
                      <a:pt x="92" y="214"/>
                    </a:lnTo>
                    <a:lnTo>
                      <a:pt x="80" y="214"/>
                    </a:lnTo>
                    <a:lnTo>
                      <a:pt x="69" y="213"/>
                    </a:lnTo>
                    <a:lnTo>
                      <a:pt x="0" y="186"/>
                    </a:lnTo>
                    <a:lnTo>
                      <a:pt x="245" y="16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7" y="216"/>
                    </a:lnTo>
                    <a:lnTo>
                      <a:pt x="167" y="216"/>
                    </a:lnTo>
                    <a:lnTo>
                      <a:pt x="247" y="1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2711520" y="3951360"/>
                <a:ext cx="426960" cy="30240"/>
              </a:xfrm>
              <a:custGeom>
                <a:avLst/>
                <a:gdLst/>
                <a:ahLst/>
                <a:rect l="l" t="t" r="r" b="b"/>
                <a:pathLst>
                  <a:path w="1342" h="95">
                    <a:moveTo>
                      <a:pt x="1342" y="17"/>
                    </a:moveTo>
                    <a:lnTo>
                      <a:pt x="1342" y="17"/>
                    </a:lnTo>
                    <a:lnTo>
                      <a:pt x="1325" y="11"/>
                    </a:lnTo>
                    <a:lnTo>
                      <a:pt x="1307" y="7"/>
                    </a:lnTo>
                    <a:lnTo>
                      <a:pt x="1284" y="3"/>
                    </a:lnTo>
                    <a:lnTo>
                      <a:pt x="1260" y="1"/>
                    </a:lnTo>
                    <a:lnTo>
                      <a:pt x="1233" y="0"/>
                    </a:lnTo>
                    <a:lnTo>
                      <a:pt x="1205" y="0"/>
                    </a:lnTo>
                    <a:lnTo>
                      <a:pt x="1174" y="1"/>
                    </a:lnTo>
                    <a:lnTo>
                      <a:pt x="1141" y="3"/>
                    </a:lnTo>
                    <a:lnTo>
                      <a:pt x="992" y="16"/>
                    </a:lnTo>
                    <a:lnTo>
                      <a:pt x="821" y="33"/>
                    </a:lnTo>
                    <a:lnTo>
                      <a:pt x="731" y="41"/>
                    </a:lnTo>
                    <a:lnTo>
                      <a:pt x="638" y="48"/>
                    </a:lnTo>
                    <a:lnTo>
                      <a:pt x="591" y="50"/>
                    </a:lnTo>
                    <a:lnTo>
                      <a:pt x="543" y="51"/>
                    </a:lnTo>
                    <a:lnTo>
                      <a:pt x="495" y="52"/>
                    </a:lnTo>
                    <a:lnTo>
                      <a:pt x="448" y="51"/>
                    </a:lnTo>
                    <a:lnTo>
                      <a:pt x="401" y="50"/>
                    </a:lnTo>
                    <a:lnTo>
                      <a:pt x="353" y="48"/>
                    </a:lnTo>
                    <a:lnTo>
                      <a:pt x="306" y="44"/>
                    </a:lnTo>
                    <a:lnTo>
                      <a:pt x="259" y="39"/>
                    </a:lnTo>
                    <a:lnTo>
                      <a:pt x="214" y="33"/>
                    </a:lnTo>
                    <a:lnTo>
                      <a:pt x="168" y="25"/>
                    </a:lnTo>
                    <a:lnTo>
                      <a:pt x="124" y="15"/>
                    </a:lnTo>
                    <a:lnTo>
                      <a:pt x="80" y="3"/>
                    </a:lnTo>
                    <a:lnTo>
                      <a:pt x="0" y="52"/>
                    </a:lnTo>
                    <a:lnTo>
                      <a:pt x="102" y="56"/>
                    </a:lnTo>
                    <a:lnTo>
                      <a:pt x="206" y="59"/>
                    </a:lnTo>
                    <a:lnTo>
                      <a:pt x="308" y="65"/>
                    </a:lnTo>
                    <a:lnTo>
                      <a:pt x="411" y="69"/>
                    </a:lnTo>
                    <a:lnTo>
                      <a:pt x="515" y="75"/>
                    </a:lnTo>
                    <a:lnTo>
                      <a:pt x="617" y="81"/>
                    </a:lnTo>
                    <a:lnTo>
                      <a:pt x="720" y="88"/>
                    </a:lnTo>
                    <a:lnTo>
                      <a:pt x="823" y="95"/>
                    </a:lnTo>
                    <a:lnTo>
                      <a:pt x="881" y="89"/>
                    </a:lnTo>
                    <a:lnTo>
                      <a:pt x="1028" y="75"/>
                    </a:lnTo>
                    <a:lnTo>
                      <a:pt x="1061" y="74"/>
                    </a:lnTo>
                    <a:lnTo>
                      <a:pt x="1091" y="73"/>
                    </a:lnTo>
                    <a:lnTo>
                      <a:pt x="1119" y="73"/>
                    </a:lnTo>
                    <a:lnTo>
                      <a:pt x="1144" y="73"/>
                    </a:lnTo>
                    <a:lnTo>
                      <a:pt x="1168" y="75"/>
                    </a:lnTo>
                    <a:lnTo>
                      <a:pt x="1189" y="79"/>
                    </a:lnTo>
                    <a:lnTo>
                      <a:pt x="1208" y="83"/>
                    </a:lnTo>
                    <a:lnTo>
                      <a:pt x="1223" y="89"/>
                    </a:lnTo>
                    <a:lnTo>
                      <a:pt x="1223" y="89"/>
                    </a:lnTo>
                    <a:lnTo>
                      <a:pt x="1342" y="17"/>
                    </a:lnTo>
                    <a:lnTo>
                      <a:pt x="1342" y="18"/>
                    </a:lnTo>
                    <a:lnTo>
                      <a:pt x="1342" y="17"/>
                    </a:lnTo>
                    <a:lnTo>
                      <a:pt x="1342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3100320" y="3935520"/>
                <a:ext cx="424080" cy="60120"/>
              </a:xfrm>
              <a:custGeom>
                <a:avLst/>
                <a:gdLst/>
                <a:ahLst/>
                <a:rect l="l" t="t" r="r" b="b"/>
                <a:pathLst>
                  <a:path w="1336" h="190">
                    <a:moveTo>
                      <a:pt x="1090" y="72"/>
                    </a:moveTo>
                    <a:lnTo>
                      <a:pt x="1202" y="0"/>
                    </a:lnTo>
                    <a:lnTo>
                      <a:pt x="1091" y="20"/>
                    </a:lnTo>
                    <a:lnTo>
                      <a:pt x="955" y="46"/>
                    </a:lnTo>
                    <a:lnTo>
                      <a:pt x="881" y="60"/>
                    </a:lnTo>
                    <a:lnTo>
                      <a:pt x="805" y="74"/>
                    </a:lnTo>
                    <a:lnTo>
                      <a:pt x="726" y="88"/>
                    </a:lnTo>
                    <a:lnTo>
                      <a:pt x="647" y="99"/>
                    </a:lnTo>
                    <a:lnTo>
                      <a:pt x="607" y="103"/>
                    </a:lnTo>
                    <a:lnTo>
                      <a:pt x="569" y="108"/>
                    </a:lnTo>
                    <a:lnTo>
                      <a:pt x="529" y="111"/>
                    </a:lnTo>
                    <a:lnTo>
                      <a:pt x="491" y="115"/>
                    </a:lnTo>
                    <a:lnTo>
                      <a:pt x="453" y="117"/>
                    </a:lnTo>
                    <a:lnTo>
                      <a:pt x="416" y="118"/>
                    </a:lnTo>
                    <a:lnTo>
                      <a:pt x="381" y="119"/>
                    </a:lnTo>
                    <a:lnTo>
                      <a:pt x="345" y="118"/>
                    </a:lnTo>
                    <a:lnTo>
                      <a:pt x="311" y="117"/>
                    </a:lnTo>
                    <a:lnTo>
                      <a:pt x="279" y="114"/>
                    </a:lnTo>
                    <a:lnTo>
                      <a:pt x="248" y="109"/>
                    </a:lnTo>
                    <a:lnTo>
                      <a:pt x="219" y="105"/>
                    </a:lnTo>
                    <a:lnTo>
                      <a:pt x="191" y="98"/>
                    </a:lnTo>
                    <a:lnTo>
                      <a:pt x="165" y="89"/>
                    </a:lnTo>
                    <a:lnTo>
                      <a:pt x="153" y="84"/>
                    </a:lnTo>
                    <a:lnTo>
                      <a:pt x="141" y="80"/>
                    </a:lnTo>
                    <a:lnTo>
                      <a:pt x="130" y="74"/>
                    </a:lnTo>
                    <a:lnTo>
                      <a:pt x="119" y="67"/>
                    </a:lnTo>
                    <a:lnTo>
                      <a:pt x="0" y="139"/>
                    </a:lnTo>
                    <a:lnTo>
                      <a:pt x="11" y="145"/>
                    </a:lnTo>
                    <a:lnTo>
                      <a:pt x="23" y="150"/>
                    </a:lnTo>
                    <a:lnTo>
                      <a:pt x="34" y="156"/>
                    </a:lnTo>
                    <a:lnTo>
                      <a:pt x="47" y="161"/>
                    </a:lnTo>
                    <a:lnTo>
                      <a:pt x="73" y="169"/>
                    </a:lnTo>
                    <a:lnTo>
                      <a:pt x="101" y="177"/>
                    </a:lnTo>
                    <a:lnTo>
                      <a:pt x="114" y="179"/>
                    </a:lnTo>
                    <a:lnTo>
                      <a:pt x="138" y="180"/>
                    </a:lnTo>
                    <a:lnTo>
                      <a:pt x="163" y="181"/>
                    </a:lnTo>
                    <a:lnTo>
                      <a:pt x="187" y="183"/>
                    </a:lnTo>
                    <a:lnTo>
                      <a:pt x="211" y="184"/>
                    </a:lnTo>
                    <a:lnTo>
                      <a:pt x="235" y="186"/>
                    </a:lnTo>
                    <a:lnTo>
                      <a:pt x="260" y="188"/>
                    </a:lnTo>
                    <a:lnTo>
                      <a:pt x="284" y="189"/>
                    </a:lnTo>
                    <a:lnTo>
                      <a:pt x="308" y="190"/>
                    </a:lnTo>
                    <a:lnTo>
                      <a:pt x="341" y="189"/>
                    </a:lnTo>
                    <a:lnTo>
                      <a:pt x="378" y="187"/>
                    </a:lnTo>
                    <a:lnTo>
                      <a:pt x="417" y="183"/>
                    </a:lnTo>
                    <a:lnTo>
                      <a:pt x="457" y="180"/>
                    </a:lnTo>
                    <a:lnTo>
                      <a:pt x="497" y="175"/>
                    </a:lnTo>
                    <a:lnTo>
                      <a:pt x="537" y="171"/>
                    </a:lnTo>
                    <a:lnTo>
                      <a:pt x="618" y="158"/>
                    </a:lnTo>
                    <a:lnTo>
                      <a:pt x="696" y="146"/>
                    </a:lnTo>
                    <a:lnTo>
                      <a:pt x="774" y="132"/>
                    </a:lnTo>
                    <a:lnTo>
                      <a:pt x="849" y="117"/>
                    </a:lnTo>
                    <a:lnTo>
                      <a:pt x="984" y="91"/>
                    </a:lnTo>
                    <a:lnTo>
                      <a:pt x="1093" y="72"/>
                    </a:lnTo>
                    <a:lnTo>
                      <a:pt x="1207" y="0"/>
                    </a:lnTo>
                    <a:lnTo>
                      <a:pt x="1093" y="72"/>
                    </a:lnTo>
                    <a:lnTo>
                      <a:pt x="1336" y="32"/>
                    </a:lnTo>
                    <a:lnTo>
                      <a:pt x="1207" y="0"/>
                    </a:lnTo>
                    <a:lnTo>
                      <a:pt x="1090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6014880" y="3922560"/>
                <a:ext cx="493920" cy="60480"/>
              </a:xfrm>
              <a:custGeom>
                <a:avLst/>
                <a:gdLst/>
                <a:ahLst/>
                <a:rect l="l" t="t" r="r" b="b"/>
                <a:pathLst>
                  <a:path w="1556" h="193">
                    <a:moveTo>
                      <a:pt x="0" y="113"/>
                    </a:moveTo>
                    <a:lnTo>
                      <a:pt x="38" y="106"/>
                    </a:lnTo>
                    <a:lnTo>
                      <a:pt x="75" y="101"/>
                    </a:lnTo>
                    <a:lnTo>
                      <a:pt x="113" y="97"/>
                    </a:lnTo>
                    <a:lnTo>
                      <a:pt x="149" y="94"/>
                    </a:lnTo>
                    <a:lnTo>
                      <a:pt x="186" y="92"/>
                    </a:lnTo>
                    <a:lnTo>
                      <a:pt x="222" y="90"/>
                    </a:lnTo>
                    <a:lnTo>
                      <a:pt x="258" y="89"/>
                    </a:lnTo>
                    <a:lnTo>
                      <a:pt x="294" y="89"/>
                    </a:lnTo>
                    <a:lnTo>
                      <a:pt x="434" y="94"/>
                    </a:lnTo>
                    <a:lnTo>
                      <a:pt x="571" y="100"/>
                    </a:lnTo>
                    <a:lnTo>
                      <a:pt x="605" y="101"/>
                    </a:lnTo>
                    <a:lnTo>
                      <a:pt x="640" y="102"/>
                    </a:lnTo>
                    <a:lnTo>
                      <a:pt x="674" y="102"/>
                    </a:lnTo>
                    <a:lnTo>
                      <a:pt x="708" y="101"/>
                    </a:lnTo>
                    <a:lnTo>
                      <a:pt x="741" y="100"/>
                    </a:lnTo>
                    <a:lnTo>
                      <a:pt x="775" y="97"/>
                    </a:lnTo>
                    <a:lnTo>
                      <a:pt x="809" y="94"/>
                    </a:lnTo>
                    <a:lnTo>
                      <a:pt x="844" y="89"/>
                    </a:lnTo>
                    <a:lnTo>
                      <a:pt x="878" y="84"/>
                    </a:lnTo>
                    <a:lnTo>
                      <a:pt x="912" y="77"/>
                    </a:lnTo>
                    <a:lnTo>
                      <a:pt x="946" y="68"/>
                    </a:lnTo>
                    <a:lnTo>
                      <a:pt x="982" y="57"/>
                    </a:lnTo>
                    <a:lnTo>
                      <a:pt x="1016" y="46"/>
                    </a:lnTo>
                    <a:lnTo>
                      <a:pt x="1051" y="32"/>
                    </a:lnTo>
                    <a:lnTo>
                      <a:pt x="1086" y="17"/>
                    </a:lnTo>
                    <a:lnTo>
                      <a:pt x="1122" y="0"/>
                    </a:lnTo>
                    <a:lnTo>
                      <a:pt x="1181" y="1"/>
                    </a:lnTo>
                    <a:lnTo>
                      <a:pt x="1239" y="4"/>
                    </a:lnTo>
                    <a:lnTo>
                      <a:pt x="1295" y="8"/>
                    </a:lnTo>
                    <a:lnTo>
                      <a:pt x="1350" y="13"/>
                    </a:lnTo>
                    <a:lnTo>
                      <a:pt x="1402" y="20"/>
                    </a:lnTo>
                    <a:lnTo>
                      <a:pt x="1455" y="28"/>
                    </a:lnTo>
                    <a:lnTo>
                      <a:pt x="1506" y="36"/>
                    </a:lnTo>
                    <a:lnTo>
                      <a:pt x="1556" y="45"/>
                    </a:lnTo>
                    <a:lnTo>
                      <a:pt x="1556" y="193"/>
                    </a:lnTo>
                    <a:lnTo>
                      <a:pt x="1485" y="185"/>
                    </a:lnTo>
                    <a:lnTo>
                      <a:pt x="1417" y="178"/>
                    </a:lnTo>
                    <a:lnTo>
                      <a:pt x="1354" y="173"/>
                    </a:lnTo>
                    <a:lnTo>
                      <a:pt x="1295" y="168"/>
                    </a:lnTo>
                    <a:lnTo>
                      <a:pt x="1242" y="165"/>
                    </a:lnTo>
                    <a:lnTo>
                      <a:pt x="1192" y="165"/>
                    </a:lnTo>
                    <a:lnTo>
                      <a:pt x="1171" y="165"/>
                    </a:lnTo>
                    <a:lnTo>
                      <a:pt x="1150" y="167"/>
                    </a:lnTo>
                    <a:lnTo>
                      <a:pt x="1132" y="169"/>
                    </a:lnTo>
                    <a:lnTo>
                      <a:pt x="1115" y="171"/>
                    </a:lnTo>
                    <a:lnTo>
                      <a:pt x="984" y="166"/>
                    </a:lnTo>
                    <a:lnTo>
                      <a:pt x="854" y="159"/>
                    </a:lnTo>
                    <a:lnTo>
                      <a:pt x="725" y="153"/>
                    </a:lnTo>
                    <a:lnTo>
                      <a:pt x="597" y="147"/>
                    </a:lnTo>
                    <a:lnTo>
                      <a:pt x="470" y="143"/>
                    </a:lnTo>
                    <a:lnTo>
                      <a:pt x="344" y="138"/>
                    </a:lnTo>
                    <a:lnTo>
                      <a:pt x="218" y="134"/>
                    </a:lnTo>
                    <a:lnTo>
                      <a:pt x="92" y="130"/>
                    </a:lnTo>
                    <a:lnTo>
                      <a:pt x="80" y="128"/>
                    </a:lnTo>
                    <a:lnTo>
                      <a:pt x="67" y="126"/>
                    </a:lnTo>
                    <a:lnTo>
                      <a:pt x="55" y="124"/>
                    </a:lnTo>
                    <a:lnTo>
                      <a:pt x="43" y="121"/>
                    </a:lnTo>
                    <a:lnTo>
                      <a:pt x="32" y="119"/>
                    </a:lnTo>
                    <a:lnTo>
                      <a:pt x="21" y="117"/>
                    </a:lnTo>
                    <a:lnTo>
                      <a:pt x="10" y="116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6008760" y="3909960"/>
                <a:ext cx="380880" cy="55440"/>
              </a:xfrm>
              <a:custGeom>
                <a:avLst/>
                <a:gdLst/>
                <a:ahLst/>
                <a:rect l="l" t="t" r="r" b="b"/>
                <a:pathLst>
                  <a:path w="1199" h="173">
                    <a:moveTo>
                      <a:pt x="1199" y="0"/>
                    </a:moveTo>
                    <a:lnTo>
                      <a:pt x="1154" y="17"/>
                    </a:lnTo>
                    <a:lnTo>
                      <a:pt x="1133" y="27"/>
                    </a:lnTo>
                    <a:lnTo>
                      <a:pt x="1108" y="39"/>
                    </a:lnTo>
                    <a:lnTo>
                      <a:pt x="1079" y="49"/>
                    </a:lnTo>
                    <a:lnTo>
                      <a:pt x="1048" y="59"/>
                    </a:lnTo>
                    <a:lnTo>
                      <a:pt x="1016" y="68"/>
                    </a:lnTo>
                    <a:lnTo>
                      <a:pt x="984" y="76"/>
                    </a:lnTo>
                    <a:lnTo>
                      <a:pt x="951" y="83"/>
                    </a:lnTo>
                    <a:lnTo>
                      <a:pt x="918" y="89"/>
                    </a:lnTo>
                    <a:lnTo>
                      <a:pt x="885" y="93"/>
                    </a:lnTo>
                    <a:lnTo>
                      <a:pt x="851" y="97"/>
                    </a:lnTo>
                    <a:lnTo>
                      <a:pt x="818" y="99"/>
                    </a:lnTo>
                    <a:lnTo>
                      <a:pt x="785" y="100"/>
                    </a:lnTo>
                    <a:lnTo>
                      <a:pt x="751" y="101"/>
                    </a:lnTo>
                    <a:lnTo>
                      <a:pt x="717" y="101"/>
                    </a:lnTo>
                    <a:lnTo>
                      <a:pt x="684" y="101"/>
                    </a:lnTo>
                    <a:lnTo>
                      <a:pt x="649" y="100"/>
                    </a:lnTo>
                    <a:lnTo>
                      <a:pt x="511" y="93"/>
                    </a:lnTo>
                    <a:lnTo>
                      <a:pt x="371" y="90"/>
                    </a:lnTo>
                    <a:lnTo>
                      <a:pt x="335" y="90"/>
                    </a:lnTo>
                    <a:lnTo>
                      <a:pt x="299" y="90"/>
                    </a:lnTo>
                    <a:lnTo>
                      <a:pt x="263" y="91"/>
                    </a:lnTo>
                    <a:lnTo>
                      <a:pt x="225" y="93"/>
                    </a:lnTo>
                    <a:lnTo>
                      <a:pt x="188" y="97"/>
                    </a:lnTo>
                    <a:lnTo>
                      <a:pt x="150" y="101"/>
                    </a:lnTo>
                    <a:lnTo>
                      <a:pt x="112" y="107"/>
                    </a:lnTo>
                    <a:lnTo>
                      <a:pt x="74" y="114"/>
                    </a:lnTo>
                    <a:lnTo>
                      <a:pt x="0" y="163"/>
                    </a:lnTo>
                    <a:lnTo>
                      <a:pt x="13" y="163"/>
                    </a:lnTo>
                    <a:lnTo>
                      <a:pt x="27" y="164"/>
                    </a:lnTo>
                    <a:lnTo>
                      <a:pt x="41" y="164"/>
                    </a:lnTo>
                    <a:lnTo>
                      <a:pt x="54" y="164"/>
                    </a:lnTo>
                    <a:lnTo>
                      <a:pt x="68" y="165"/>
                    </a:lnTo>
                    <a:lnTo>
                      <a:pt x="82" y="165"/>
                    </a:lnTo>
                    <a:lnTo>
                      <a:pt x="95" y="165"/>
                    </a:lnTo>
                    <a:lnTo>
                      <a:pt x="109" y="166"/>
                    </a:lnTo>
                    <a:lnTo>
                      <a:pt x="114" y="165"/>
                    </a:lnTo>
                    <a:lnTo>
                      <a:pt x="149" y="163"/>
                    </a:lnTo>
                    <a:lnTo>
                      <a:pt x="185" y="162"/>
                    </a:lnTo>
                    <a:lnTo>
                      <a:pt x="221" y="162"/>
                    </a:lnTo>
                    <a:lnTo>
                      <a:pt x="256" y="162"/>
                    </a:lnTo>
                    <a:lnTo>
                      <a:pt x="396" y="166"/>
                    </a:lnTo>
                    <a:lnTo>
                      <a:pt x="534" y="172"/>
                    </a:lnTo>
                    <a:lnTo>
                      <a:pt x="568" y="173"/>
                    </a:lnTo>
                    <a:lnTo>
                      <a:pt x="603" y="173"/>
                    </a:lnTo>
                    <a:lnTo>
                      <a:pt x="637" y="173"/>
                    </a:lnTo>
                    <a:lnTo>
                      <a:pt x="671" y="173"/>
                    </a:lnTo>
                    <a:lnTo>
                      <a:pt x="705" y="171"/>
                    </a:lnTo>
                    <a:lnTo>
                      <a:pt x="739" y="169"/>
                    </a:lnTo>
                    <a:lnTo>
                      <a:pt x="775" y="165"/>
                    </a:lnTo>
                    <a:lnTo>
                      <a:pt x="809" y="161"/>
                    </a:lnTo>
                    <a:lnTo>
                      <a:pt x="844" y="155"/>
                    </a:lnTo>
                    <a:lnTo>
                      <a:pt x="880" y="148"/>
                    </a:lnTo>
                    <a:lnTo>
                      <a:pt x="916" y="139"/>
                    </a:lnTo>
                    <a:lnTo>
                      <a:pt x="954" y="128"/>
                    </a:lnTo>
                    <a:lnTo>
                      <a:pt x="992" y="115"/>
                    </a:lnTo>
                    <a:lnTo>
                      <a:pt x="1035" y="99"/>
                    </a:lnTo>
                    <a:lnTo>
                      <a:pt x="1079" y="79"/>
                    </a:lnTo>
                    <a:lnTo>
                      <a:pt x="1128" y="55"/>
                    </a:lnTo>
                    <a:lnTo>
                      <a:pt x="1085" y="72"/>
                    </a:lnTo>
                    <a:lnTo>
                      <a:pt x="1199" y="0"/>
                    </a:lnTo>
                    <a:lnTo>
                      <a:pt x="1187" y="0"/>
                    </a:lnTo>
                    <a:lnTo>
                      <a:pt x="1154" y="17"/>
                    </a:lnTo>
                    <a:lnTo>
                      <a:pt x="119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6353280" y="3909960"/>
                <a:ext cx="155520" cy="41400"/>
              </a:xfrm>
              <a:custGeom>
                <a:avLst/>
                <a:gdLst/>
                <a:ahLst/>
                <a:rect l="l" t="t" r="r" b="b"/>
                <a:pathLst>
                  <a:path w="491" h="129">
                    <a:moveTo>
                      <a:pt x="491" y="35"/>
                    </a:moveTo>
                    <a:lnTo>
                      <a:pt x="430" y="25"/>
                    </a:lnTo>
                    <a:lnTo>
                      <a:pt x="392" y="19"/>
                    </a:lnTo>
                    <a:lnTo>
                      <a:pt x="354" y="15"/>
                    </a:lnTo>
                    <a:lnTo>
                      <a:pt x="317" y="10"/>
                    </a:lnTo>
                    <a:lnTo>
                      <a:pt x="278" y="7"/>
                    </a:lnTo>
                    <a:lnTo>
                      <a:pt x="238" y="4"/>
                    </a:lnTo>
                    <a:lnTo>
                      <a:pt x="198" y="2"/>
                    </a:lnTo>
                    <a:lnTo>
                      <a:pt x="156" y="1"/>
                    </a:lnTo>
                    <a:lnTo>
                      <a:pt x="114" y="0"/>
                    </a:lnTo>
                    <a:lnTo>
                      <a:pt x="0" y="72"/>
                    </a:lnTo>
                    <a:lnTo>
                      <a:pt x="42" y="73"/>
                    </a:lnTo>
                    <a:lnTo>
                      <a:pt x="83" y="74"/>
                    </a:lnTo>
                    <a:lnTo>
                      <a:pt x="123" y="76"/>
                    </a:lnTo>
                    <a:lnTo>
                      <a:pt x="162" y="80"/>
                    </a:lnTo>
                    <a:lnTo>
                      <a:pt x="200" y="83"/>
                    </a:lnTo>
                    <a:lnTo>
                      <a:pt x="238" y="87"/>
                    </a:lnTo>
                    <a:lnTo>
                      <a:pt x="276" y="91"/>
                    </a:lnTo>
                    <a:lnTo>
                      <a:pt x="312" y="97"/>
                    </a:lnTo>
                    <a:lnTo>
                      <a:pt x="384" y="108"/>
                    </a:lnTo>
                    <a:lnTo>
                      <a:pt x="455" y="121"/>
                    </a:lnTo>
                    <a:lnTo>
                      <a:pt x="491" y="129"/>
                    </a:lnTo>
                    <a:lnTo>
                      <a:pt x="491" y="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6359400" y="3962520"/>
                <a:ext cx="149400" cy="21960"/>
              </a:xfrm>
              <a:custGeom>
                <a:avLst/>
                <a:gdLst/>
                <a:ahLst/>
                <a:rect l="l" t="t" r="r" b="b"/>
                <a:pathLst>
                  <a:path w="471" h="70">
                    <a:moveTo>
                      <a:pt x="471" y="23"/>
                    </a:moveTo>
                    <a:lnTo>
                      <a:pt x="407" y="16"/>
                    </a:lnTo>
                    <a:lnTo>
                      <a:pt x="259" y="4"/>
                    </a:lnTo>
                    <a:lnTo>
                      <a:pt x="226" y="1"/>
                    </a:lnTo>
                    <a:lnTo>
                      <a:pt x="195" y="0"/>
                    </a:lnTo>
                    <a:lnTo>
                      <a:pt x="167" y="0"/>
                    </a:lnTo>
                    <a:lnTo>
                      <a:pt x="139" y="1"/>
                    </a:lnTo>
                    <a:lnTo>
                      <a:pt x="114" y="4"/>
                    </a:lnTo>
                    <a:lnTo>
                      <a:pt x="92" y="7"/>
                    </a:lnTo>
                    <a:lnTo>
                      <a:pt x="66" y="13"/>
                    </a:lnTo>
                    <a:lnTo>
                      <a:pt x="30" y="2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2" y="35"/>
                    </a:lnTo>
                    <a:lnTo>
                      <a:pt x="30" y="27"/>
                    </a:lnTo>
                    <a:lnTo>
                      <a:pt x="0" y="42"/>
                    </a:lnTo>
                    <a:lnTo>
                      <a:pt x="58" y="46"/>
                    </a:lnTo>
                    <a:lnTo>
                      <a:pt x="117" y="49"/>
                    </a:lnTo>
                    <a:lnTo>
                      <a:pt x="175" y="53"/>
                    </a:lnTo>
                    <a:lnTo>
                      <a:pt x="233" y="55"/>
                    </a:lnTo>
                    <a:lnTo>
                      <a:pt x="292" y="58"/>
                    </a:lnTo>
                    <a:lnTo>
                      <a:pt x="351" y="63"/>
                    </a:lnTo>
                    <a:lnTo>
                      <a:pt x="411" y="66"/>
                    </a:lnTo>
                    <a:lnTo>
                      <a:pt x="471" y="70"/>
                    </a:lnTo>
                    <a:lnTo>
                      <a:pt x="471" y="2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5964120" y="3946680"/>
                <a:ext cx="397080" cy="29880"/>
              </a:xfrm>
              <a:custGeom>
                <a:avLst/>
                <a:gdLst/>
                <a:ahLst/>
                <a:rect l="l" t="t" r="r" b="b"/>
                <a:pathLst>
                  <a:path w="1252" h="92">
                    <a:moveTo>
                      <a:pt x="214" y="0"/>
                    </a:moveTo>
                    <a:lnTo>
                      <a:pt x="136" y="49"/>
                    </a:lnTo>
                    <a:lnTo>
                      <a:pt x="119" y="49"/>
                    </a:lnTo>
                    <a:lnTo>
                      <a:pt x="102" y="48"/>
                    </a:lnTo>
                    <a:lnTo>
                      <a:pt x="85" y="48"/>
                    </a:lnTo>
                    <a:lnTo>
                      <a:pt x="69" y="47"/>
                    </a:lnTo>
                    <a:lnTo>
                      <a:pt x="52" y="47"/>
                    </a:lnTo>
                    <a:lnTo>
                      <a:pt x="35" y="47"/>
                    </a:lnTo>
                    <a:lnTo>
                      <a:pt x="18" y="46"/>
                    </a:lnTo>
                    <a:lnTo>
                      <a:pt x="0" y="46"/>
                    </a:lnTo>
                    <a:lnTo>
                      <a:pt x="214" y="0"/>
                    </a:lnTo>
                    <a:lnTo>
                      <a:pt x="140" y="49"/>
                    </a:lnTo>
                    <a:lnTo>
                      <a:pt x="138" y="49"/>
                    </a:lnTo>
                    <a:lnTo>
                      <a:pt x="138" y="49"/>
                    </a:lnTo>
                    <a:lnTo>
                      <a:pt x="138" y="49"/>
                    </a:lnTo>
                    <a:lnTo>
                      <a:pt x="138" y="49"/>
                    </a:lnTo>
                    <a:lnTo>
                      <a:pt x="137" y="49"/>
                    </a:lnTo>
                    <a:lnTo>
                      <a:pt x="137" y="49"/>
                    </a:lnTo>
                    <a:lnTo>
                      <a:pt x="137" y="49"/>
                    </a:lnTo>
                    <a:lnTo>
                      <a:pt x="136" y="49"/>
                    </a:lnTo>
                    <a:lnTo>
                      <a:pt x="214" y="0"/>
                    </a:lnTo>
                    <a:close/>
                    <a:moveTo>
                      <a:pt x="1245" y="92"/>
                    </a:moveTo>
                    <a:lnTo>
                      <a:pt x="1246" y="92"/>
                    </a:lnTo>
                    <a:lnTo>
                      <a:pt x="1252" y="89"/>
                    </a:lnTo>
                    <a:lnTo>
                      <a:pt x="1250" y="90"/>
                    </a:lnTo>
                    <a:lnTo>
                      <a:pt x="1246" y="91"/>
                    </a:lnTo>
                    <a:lnTo>
                      <a:pt x="1243" y="92"/>
                    </a:lnTo>
                    <a:lnTo>
                      <a:pt x="1243" y="92"/>
                    </a:lnTo>
                    <a:lnTo>
                      <a:pt x="1244" y="92"/>
                    </a:lnTo>
                    <a:lnTo>
                      <a:pt x="1244" y="92"/>
                    </a:lnTo>
                    <a:lnTo>
                      <a:pt x="1244" y="92"/>
                    </a:lnTo>
                    <a:lnTo>
                      <a:pt x="1244" y="92"/>
                    </a:lnTo>
                    <a:lnTo>
                      <a:pt x="1245" y="92"/>
                    </a:lnTo>
                    <a:lnTo>
                      <a:pt x="1245" y="92"/>
                    </a:lnTo>
                    <a:lnTo>
                      <a:pt x="1245" y="92"/>
                    </a:lnTo>
                    <a:close/>
                    <a:moveTo>
                      <a:pt x="548" y="62"/>
                    </a:moveTo>
                    <a:lnTo>
                      <a:pt x="539" y="60"/>
                    </a:lnTo>
                    <a:lnTo>
                      <a:pt x="464" y="46"/>
                    </a:lnTo>
                    <a:lnTo>
                      <a:pt x="329" y="19"/>
                    </a:lnTo>
                    <a:lnTo>
                      <a:pt x="218" y="0"/>
                    </a:lnTo>
                    <a:lnTo>
                      <a:pt x="141" y="49"/>
                    </a:lnTo>
                    <a:lnTo>
                      <a:pt x="192" y="50"/>
                    </a:lnTo>
                    <a:lnTo>
                      <a:pt x="242" y="51"/>
                    </a:lnTo>
                    <a:lnTo>
                      <a:pt x="292" y="54"/>
                    </a:lnTo>
                    <a:lnTo>
                      <a:pt x="344" y="55"/>
                    </a:lnTo>
                    <a:lnTo>
                      <a:pt x="395" y="57"/>
                    </a:lnTo>
                    <a:lnTo>
                      <a:pt x="445" y="58"/>
                    </a:lnTo>
                    <a:lnTo>
                      <a:pt x="496" y="60"/>
                    </a:lnTo>
                    <a:lnTo>
                      <a:pt x="548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3954600" y="3971880"/>
                <a:ext cx="285480" cy="30240"/>
              </a:xfrm>
              <a:custGeom>
                <a:avLst/>
                <a:gdLst/>
                <a:ahLst/>
                <a:rect l="l" t="t" r="r" b="b"/>
                <a:pathLst>
                  <a:path w="902" h="94">
                    <a:moveTo>
                      <a:pt x="902" y="83"/>
                    </a:moveTo>
                    <a:lnTo>
                      <a:pt x="872" y="77"/>
                    </a:lnTo>
                    <a:lnTo>
                      <a:pt x="841" y="70"/>
                    </a:lnTo>
                    <a:lnTo>
                      <a:pt x="812" y="61"/>
                    </a:lnTo>
                    <a:lnTo>
                      <a:pt x="782" y="52"/>
                    </a:lnTo>
                    <a:lnTo>
                      <a:pt x="751" y="41"/>
                    </a:lnTo>
                    <a:lnTo>
                      <a:pt x="721" y="29"/>
                    </a:lnTo>
                    <a:lnTo>
                      <a:pt x="690" y="16"/>
                    </a:lnTo>
                    <a:lnTo>
                      <a:pt x="659" y="0"/>
                    </a:lnTo>
                    <a:lnTo>
                      <a:pt x="612" y="1"/>
                    </a:lnTo>
                    <a:lnTo>
                      <a:pt x="567" y="2"/>
                    </a:lnTo>
                    <a:lnTo>
                      <a:pt x="521" y="5"/>
                    </a:lnTo>
                    <a:lnTo>
                      <a:pt x="478" y="9"/>
                    </a:lnTo>
                    <a:lnTo>
                      <a:pt x="436" y="13"/>
                    </a:lnTo>
                    <a:lnTo>
                      <a:pt x="393" y="18"/>
                    </a:lnTo>
                    <a:lnTo>
                      <a:pt x="352" y="24"/>
                    </a:lnTo>
                    <a:lnTo>
                      <a:pt x="312" y="29"/>
                    </a:lnTo>
                    <a:lnTo>
                      <a:pt x="234" y="43"/>
                    </a:lnTo>
                    <a:lnTo>
                      <a:pt x="156" y="59"/>
                    </a:lnTo>
                    <a:lnTo>
                      <a:pt x="79" y="75"/>
                    </a:lnTo>
                    <a:lnTo>
                      <a:pt x="0" y="91"/>
                    </a:lnTo>
                    <a:lnTo>
                      <a:pt x="105" y="93"/>
                    </a:lnTo>
                    <a:lnTo>
                      <a:pt x="212" y="94"/>
                    </a:lnTo>
                    <a:lnTo>
                      <a:pt x="322" y="94"/>
                    </a:lnTo>
                    <a:lnTo>
                      <a:pt x="433" y="94"/>
                    </a:lnTo>
                    <a:lnTo>
                      <a:pt x="548" y="92"/>
                    </a:lnTo>
                    <a:lnTo>
                      <a:pt x="665" y="90"/>
                    </a:lnTo>
                    <a:lnTo>
                      <a:pt x="782" y="87"/>
                    </a:lnTo>
                    <a:lnTo>
                      <a:pt x="902" y="8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4145040" y="3960720"/>
                <a:ext cx="301680" cy="39960"/>
              </a:xfrm>
              <a:custGeom>
                <a:avLst/>
                <a:gdLst/>
                <a:ahLst/>
                <a:rect l="l" t="t" r="r" b="b"/>
                <a:pathLst>
                  <a:path w="952" h="125">
                    <a:moveTo>
                      <a:pt x="2" y="72"/>
                    </a:moveTo>
                    <a:lnTo>
                      <a:pt x="0" y="71"/>
                    </a:lnTo>
                    <a:lnTo>
                      <a:pt x="35" y="89"/>
                    </a:lnTo>
                    <a:lnTo>
                      <a:pt x="70" y="104"/>
                    </a:lnTo>
                    <a:lnTo>
                      <a:pt x="106" y="118"/>
                    </a:lnTo>
                    <a:lnTo>
                      <a:pt x="125" y="125"/>
                    </a:lnTo>
                    <a:lnTo>
                      <a:pt x="227" y="121"/>
                    </a:lnTo>
                    <a:lnTo>
                      <a:pt x="328" y="118"/>
                    </a:lnTo>
                    <a:lnTo>
                      <a:pt x="431" y="114"/>
                    </a:lnTo>
                    <a:lnTo>
                      <a:pt x="534" y="110"/>
                    </a:lnTo>
                    <a:lnTo>
                      <a:pt x="638" y="105"/>
                    </a:lnTo>
                    <a:lnTo>
                      <a:pt x="742" y="101"/>
                    </a:lnTo>
                    <a:lnTo>
                      <a:pt x="847" y="95"/>
                    </a:lnTo>
                    <a:lnTo>
                      <a:pt x="952" y="89"/>
                    </a:lnTo>
                    <a:lnTo>
                      <a:pt x="944" y="89"/>
                    </a:lnTo>
                    <a:lnTo>
                      <a:pt x="803" y="94"/>
                    </a:lnTo>
                    <a:lnTo>
                      <a:pt x="665" y="100"/>
                    </a:lnTo>
                    <a:lnTo>
                      <a:pt x="631" y="101"/>
                    </a:lnTo>
                    <a:lnTo>
                      <a:pt x="598" y="102"/>
                    </a:lnTo>
                    <a:lnTo>
                      <a:pt x="564" y="102"/>
                    </a:lnTo>
                    <a:lnTo>
                      <a:pt x="530" y="101"/>
                    </a:lnTo>
                    <a:lnTo>
                      <a:pt x="497" y="100"/>
                    </a:lnTo>
                    <a:lnTo>
                      <a:pt x="463" y="97"/>
                    </a:lnTo>
                    <a:lnTo>
                      <a:pt x="428" y="94"/>
                    </a:lnTo>
                    <a:lnTo>
                      <a:pt x="395" y="89"/>
                    </a:lnTo>
                    <a:lnTo>
                      <a:pt x="361" y="84"/>
                    </a:lnTo>
                    <a:lnTo>
                      <a:pt x="327" y="77"/>
                    </a:lnTo>
                    <a:lnTo>
                      <a:pt x="293" y="68"/>
                    </a:lnTo>
                    <a:lnTo>
                      <a:pt x="258" y="57"/>
                    </a:lnTo>
                    <a:lnTo>
                      <a:pt x="223" y="46"/>
                    </a:lnTo>
                    <a:lnTo>
                      <a:pt x="189" y="32"/>
                    </a:lnTo>
                    <a:lnTo>
                      <a:pt x="154" y="17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2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3919680" y="3960720"/>
                <a:ext cx="261720" cy="41400"/>
              </a:xfrm>
              <a:custGeom>
                <a:avLst/>
                <a:gdLst/>
                <a:ahLst/>
                <a:rect l="l" t="t" r="r" b="b"/>
                <a:pathLst>
                  <a:path w="827" h="129">
                    <a:moveTo>
                      <a:pt x="218" y="129"/>
                    </a:moveTo>
                    <a:lnTo>
                      <a:pt x="260" y="121"/>
                    </a:lnTo>
                    <a:lnTo>
                      <a:pt x="330" y="107"/>
                    </a:lnTo>
                    <a:lnTo>
                      <a:pt x="402" y="96"/>
                    </a:lnTo>
                    <a:lnTo>
                      <a:pt x="437" y="92"/>
                    </a:lnTo>
                    <a:lnTo>
                      <a:pt x="475" y="87"/>
                    </a:lnTo>
                    <a:lnTo>
                      <a:pt x="512" y="82"/>
                    </a:lnTo>
                    <a:lnTo>
                      <a:pt x="550" y="79"/>
                    </a:lnTo>
                    <a:lnTo>
                      <a:pt x="590" y="77"/>
                    </a:lnTo>
                    <a:lnTo>
                      <a:pt x="630" y="74"/>
                    </a:lnTo>
                    <a:lnTo>
                      <a:pt x="671" y="72"/>
                    </a:lnTo>
                    <a:lnTo>
                      <a:pt x="713" y="72"/>
                    </a:lnTo>
                    <a:lnTo>
                      <a:pt x="827" y="0"/>
                    </a:lnTo>
                    <a:lnTo>
                      <a:pt x="785" y="0"/>
                    </a:lnTo>
                    <a:lnTo>
                      <a:pt x="743" y="1"/>
                    </a:lnTo>
                    <a:lnTo>
                      <a:pt x="703" y="4"/>
                    </a:lnTo>
                    <a:lnTo>
                      <a:pt x="663" y="7"/>
                    </a:lnTo>
                    <a:lnTo>
                      <a:pt x="623" y="11"/>
                    </a:lnTo>
                    <a:lnTo>
                      <a:pt x="585" y="15"/>
                    </a:lnTo>
                    <a:lnTo>
                      <a:pt x="548" y="20"/>
                    </a:lnTo>
                    <a:lnTo>
                      <a:pt x="510" y="24"/>
                    </a:lnTo>
                    <a:lnTo>
                      <a:pt x="438" y="37"/>
                    </a:lnTo>
                    <a:lnTo>
                      <a:pt x="366" y="49"/>
                    </a:lnTo>
                    <a:lnTo>
                      <a:pt x="297" y="63"/>
                    </a:lnTo>
                    <a:lnTo>
                      <a:pt x="227" y="78"/>
                    </a:lnTo>
                    <a:lnTo>
                      <a:pt x="157" y="93"/>
                    </a:lnTo>
                    <a:lnTo>
                      <a:pt x="86" y="107"/>
                    </a:lnTo>
                    <a:lnTo>
                      <a:pt x="13" y="121"/>
                    </a:lnTo>
                    <a:lnTo>
                      <a:pt x="0" y="123"/>
                    </a:lnTo>
                    <a:lnTo>
                      <a:pt x="27" y="125"/>
                    </a:lnTo>
                    <a:lnTo>
                      <a:pt x="54" y="125"/>
                    </a:lnTo>
                    <a:lnTo>
                      <a:pt x="80" y="126"/>
                    </a:lnTo>
                    <a:lnTo>
                      <a:pt x="108" y="127"/>
                    </a:lnTo>
                    <a:lnTo>
                      <a:pt x="135" y="128"/>
                    </a:lnTo>
                    <a:lnTo>
                      <a:pt x="162" y="128"/>
                    </a:lnTo>
                    <a:lnTo>
                      <a:pt x="190" y="129"/>
                    </a:lnTo>
                    <a:lnTo>
                      <a:pt x="218" y="1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2709720" y="3597120"/>
                <a:ext cx="335160" cy="63720"/>
              </a:xfrm>
              <a:custGeom>
                <a:avLst/>
                <a:gdLst/>
                <a:ahLst/>
                <a:rect l="l" t="t" r="r" b="b"/>
                <a:pathLst>
                  <a:path w="1054" h="200">
                    <a:moveTo>
                      <a:pt x="0" y="39"/>
                    </a:moveTo>
                    <a:lnTo>
                      <a:pt x="49" y="45"/>
                    </a:lnTo>
                    <a:lnTo>
                      <a:pt x="107" y="49"/>
                    </a:lnTo>
                    <a:lnTo>
                      <a:pt x="138" y="51"/>
                    </a:lnTo>
                    <a:lnTo>
                      <a:pt x="171" y="53"/>
                    </a:lnTo>
                    <a:lnTo>
                      <a:pt x="206" y="53"/>
                    </a:lnTo>
                    <a:lnTo>
                      <a:pt x="241" y="53"/>
                    </a:lnTo>
                    <a:lnTo>
                      <a:pt x="279" y="51"/>
                    </a:lnTo>
                    <a:lnTo>
                      <a:pt x="316" y="48"/>
                    </a:lnTo>
                    <a:lnTo>
                      <a:pt x="355" y="45"/>
                    </a:lnTo>
                    <a:lnTo>
                      <a:pt x="395" y="39"/>
                    </a:lnTo>
                    <a:lnTo>
                      <a:pt x="435" y="32"/>
                    </a:lnTo>
                    <a:lnTo>
                      <a:pt x="476" y="24"/>
                    </a:lnTo>
                    <a:lnTo>
                      <a:pt x="517" y="13"/>
                    </a:lnTo>
                    <a:lnTo>
                      <a:pt x="557" y="0"/>
                    </a:lnTo>
                    <a:lnTo>
                      <a:pt x="576" y="0"/>
                    </a:lnTo>
                    <a:lnTo>
                      <a:pt x="594" y="0"/>
                    </a:lnTo>
                    <a:lnTo>
                      <a:pt x="611" y="1"/>
                    </a:lnTo>
                    <a:lnTo>
                      <a:pt x="627" y="2"/>
                    </a:lnTo>
                    <a:lnTo>
                      <a:pt x="657" y="7"/>
                    </a:lnTo>
                    <a:lnTo>
                      <a:pt x="686" y="13"/>
                    </a:lnTo>
                    <a:lnTo>
                      <a:pt x="713" y="21"/>
                    </a:lnTo>
                    <a:lnTo>
                      <a:pt x="739" y="29"/>
                    </a:lnTo>
                    <a:lnTo>
                      <a:pt x="765" y="39"/>
                    </a:lnTo>
                    <a:lnTo>
                      <a:pt x="791" y="49"/>
                    </a:lnTo>
                    <a:lnTo>
                      <a:pt x="817" y="61"/>
                    </a:lnTo>
                    <a:lnTo>
                      <a:pt x="843" y="72"/>
                    </a:lnTo>
                    <a:lnTo>
                      <a:pt x="872" y="83"/>
                    </a:lnTo>
                    <a:lnTo>
                      <a:pt x="902" y="95"/>
                    </a:lnTo>
                    <a:lnTo>
                      <a:pt x="936" y="105"/>
                    </a:lnTo>
                    <a:lnTo>
                      <a:pt x="971" y="114"/>
                    </a:lnTo>
                    <a:lnTo>
                      <a:pt x="1011" y="123"/>
                    </a:lnTo>
                    <a:lnTo>
                      <a:pt x="1054" y="131"/>
                    </a:lnTo>
                    <a:lnTo>
                      <a:pt x="1024" y="135"/>
                    </a:lnTo>
                    <a:lnTo>
                      <a:pt x="996" y="140"/>
                    </a:lnTo>
                    <a:lnTo>
                      <a:pt x="966" y="147"/>
                    </a:lnTo>
                    <a:lnTo>
                      <a:pt x="937" y="154"/>
                    </a:lnTo>
                    <a:lnTo>
                      <a:pt x="879" y="168"/>
                    </a:lnTo>
                    <a:lnTo>
                      <a:pt x="819" y="181"/>
                    </a:lnTo>
                    <a:lnTo>
                      <a:pt x="788" y="187"/>
                    </a:lnTo>
                    <a:lnTo>
                      <a:pt x="759" y="193"/>
                    </a:lnTo>
                    <a:lnTo>
                      <a:pt x="728" y="196"/>
                    </a:lnTo>
                    <a:lnTo>
                      <a:pt x="696" y="199"/>
                    </a:lnTo>
                    <a:lnTo>
                      <a:pt x="665" y="200"/>
                    </a:lnTo>
                    <a:lnTo>
                      <a:pt x="632" y="199"/>
                    </a:lnTo>
                    <a:lnTo>
                      <a:pt x="616" y="197"/>
                    </a:lnTo>
                    <a:lnTo>
                      <a:pt x="600" y="195"/>
                    </a:lnTo>
                    <a:lnTo>
                      <a:pt x="583" y="192"/>
                    </a:lnTo>
                    <a:lnTo>
                      <a:pt x="567" y="188"/>
                    </a:lnTo>
                    <a:lnTo>
                      <a:pt x="565" y="181"/>
                    </a:lnTo>
                    <a:lnTo>
                      <a:pt x="559" y="173"/>
                    </a:lnTo>
                    <a:lnTo>
                      <a:pt x="552" y="167"/>
                    </a:lnTo>
                    <a:lnTo>
                      <a:pt x="543" y="161"/>
                    </a:lnTo>
                    <a:lnTo>
                      <a:pt x="532" y="154"/>
                    </a:lnTo>
                    <a:lnTo>
                      <a:pt x="519" y="148"/>
                    </a:lnTo>
                    <a:lnTo>
                      <a:pt x="505" y="143"/>
                    </a:lnTo>
                    <a:lnTo>
                      <a:pt x="489" y="137"/>
                    </a:lnTo>
                    <a:lnTo>
                      <a:pt x="453" y="128"/>
                    </a:lnTo>
                    <a:lnTo>
                      <a:pt x="412" y="119"/>
                    </a:lnTo>
                    <a:lnTo>
                      <a:pt x="369" y="110"/>
                    </a:lnTo>
                    <a:lnTo>
                      <a:pt x="322" y="103"/>
                    </a:lnTo>
                    <a:lnTo>
                      <a:pt x="228" y="88"/>
                    </a:lnTo>
                    <a:lnTo>
                      <a:pt x="136" y="73"/>
                    </a:lnTo>
                    <a:lnTo>
                      <a:pt x="95" y="65"/>
                    </a:lnTo>
                    <a:lnTo>
                      <a:pt x="58" y="57"/>
                    </a:lnTo>
                    <a:lnTo>
                      <a:pt x="41" y="54"/>
                    </a:lnTo>
                    <a:lnTo>
                      <a:pt x="26" y="49"/>
                    </a:lnTo>
                    <a:lnTo>
                      <a:pt x="12" y="45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2692440" y="358632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1" h="124">
                    <a:moveTo>
                      <a:pt x="555" y="0"/>
                    </a:moveTo>
                    <a:lnTo>
                      <a:pt x="553" y="0"/>
                    </a:lnTo>
                    <a:lnTo>
                      <a:pt x="513" y="12"/>
                    </a:lnTo>
                    <a:lnTo>
                      <a:pt x="472" y="23"/>
                    </a:lnTo>
                    <a:lnTo>
                      <a:pt x="432" y="32"/>
                    </a:lnTo>
                    <a:lnTo>
                      <a:pt x="392" y="39"/>
                    </a:lnTo>
                    <a:lnTo>
                      <a:pt x="352" y="44"/>
                    </a:lnTo>
                    <a:lnTo>
                      <a:pt x="313" y="48"/>
                    </a:lnTo>
                    <a:lnTo>
                      <a:pt x="276" y="50"/>
                    </a:lnTo>
                    <a:lnTo>
                      <a:pt x="239" y="51"/>
                    </a:lnTo>
                    <a:lnTo>
                      <a:pt x="204" y="52"/>
                    </a:lnTo>
                    <a:lnTo>
                      <a:pt x="170" y="51"/>
                    </a:lnTo>
                    <a:lnTo>
                      <a:pt x="137" y="50"/>
                    </a:lnTo>
                    <a:lnTo>
                      <a:pt x="105" y="49"/>
                    </a:lnTo>
                    <a:lnTo>
                      <a:pt x="48" y="44"/>
                    </a:lnTo>
                    <a:lnTo>
                      <a:pt x="0" y="39"/>
                    </a:lnTo>
                    <a:lnTo>
                      <a:pt x="110" y="110"/>
                    </a:lnTo>
                    <a:lnTo>
                      <a:pt x="159" y="116"/>
                    </a:lnTo>
                    <a:lnTo>
                      <a:pt x="218" y="121"/>
                    </a:lnTo>
                    <a:lnTo>
                      <a:pt x="250" y="122"/>
                    </a:lnTo>
                    <a:lnTo>
                      <a:pt x="283" y="124"/>
                    </a:lnTo>
                    <a:lnTo>
                      <a:pt x="318" y="124"/>
                    </a:lnTo>
                    <a:lnTo>
                      <a:pt x="354" y="124"/>
                    </a:lnTo>
                    <a:lnTo>
                      <a:pt x="392" y="122"/>
                    </a:lnTo>
                    <a:lnTo>
                      <a:pt x="430" y="120"/>
                    </a:lnTo>
                    <a:lnTo>
                      <a:pt x="468" y="116"/>
                    </a:lnTo>
                    <a:lnTo>
                      <a:pt x="508" y="110"/>
                    </a:lnTo>
                    <a:lnTo>
                      <a:pt x="549" y="104"/>
                    </a:lnTo>
                    <a:lnTo>
                      <a:pt x="589" y="94"/>
                    </a:lnTo>
                    <a:lnTo>
                      <a:pt x="630" y="84"/>
                    </a:lnTo>
                    <a:lnTo>
                      <a:pt x="671" y="72"/>
                    </a:lnTo>
                    <a:lnTo>
                      <a:pt x="670" y="72"/>
                    </a:lnTo>
                    <a:lnTo>
                      <a:pt x="555" y="0"/>
                    </a:lnTo>
                    <a:lnTo>
                      <a:pt x="554" y="0"/>
                    </a:lnTo>
                    <a:lnTo>
                      <a:pt x="553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2868480" y="3586320"/>
                <a:ext cx="243000" cy="64800"/>
              </a:xfrm>
              <a:custGeom>
                <a:avLst/>
                <a:gdLst/>
                <a:ahLst/>
                <a:rect l="l" t="t" r="r" b="b"/>
                <a:pathLst>
                  <a:path w="766" h="202">
                    <a:moveTo>
                      <a:pt x="612" y="202"/>
                    </a:moveTo>
                    <a:lnTo>
                      <a:pt x="499" y="130"/>
                    </a:lnTo>
                    <a:lnTo>
                      <a:pt x="457" y="123"/>
                    </a:lnTo>
                    <a:lnTo>
                      <a:pt x="420" y="115"/>
                    </a:lnTo>
                    <a:lnTo>
                      <a:pt x="386" y="106"/>
                    </a:lnTo>
                    <a:lnTo>
                      <a:pt x="358" y="96"/>
                    </a:lnTo>
                    <a:lnTo>
                      <a:pt x="331" y="86"/>
                    </a:lnTo>
                    <a:lnTo>
                      <a:pt x="307" y="76"/>
                    </a:lnTo>
                    <a:lnTo>
                      <a:pt x="282" y="66"/>
                    </a:lnTo>
                    <a:lnTo>
                      <a:pt x="255" y="54"/>
                    </a:lnTo>
                    <a:lnTo>
                      <a:pt x="227" y="43"/>
                    </a:lnTo>
                    <a:lnTo>
                      <a:pt x="196" y="32"/>
                    </a:lnTo>
                    <a:lnTo>
                      <a:pt x="165" y="21"/>
                    </a:lnTo>
                    <a:lnTo>
                      <a:pt x="135" y="12"/>
                    </a:lnTo>
                    <a:lnTo>
                      <a:pt x="104" y="7"/>
                    </a:lnTo>
                    <a:lnTo>
                      <a:pt x="72" y="2"/>
                    </a:lnTo>
                    <a:lnTo>
                      <a:pt x="54" y="0"/>
                    </a:lnTo>
                    <a:lnTo>
                      <a:pt x="37" y="0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15" y="72"/>
                    </a:lnTo>
                    <a:lnTo>
                      <a:pt x="133" y="72"/>
                    </a:lnTo>
                    <a:lnTo>
                      <a:pt x="151" y="72"/>
                    </a:lnTo>
                    <a:lnTo>
                      <a:pt x="168" y="73"/>
                    </a:lnTo>
                    <a:lnTo>
                      <a:pt x="182" y="74"/>
                    </a:lnTo>
                    <a:lnTo>
                      <a:pt x="212" y="77"/>
                    </a:lnTo>
                    <a:lnTo>
                      <a:pt x="237" y="83"/>
                    </a:lnTo>
                    <a:lnTo>
                      <a:pt x="261" y="90"/>
                    </a:lnTo>
                    <a:lnTo>
                      <a:pt x="283" y="97"/>
                    </a:lnTo>
                    <a:lnTo>
                      <a:pt x="303" y="105"/>
                    </a:lnTo>
                    <a:lnTo>
                      <a:pt x="326" y="114"/>
                    </a:lnTo>
                    <a:lnTo>
                      <a:pt x="351" y="125"/>
                    </a:lnTo>
                    <a:lnTo>
                      <a:pt x="381" y="137"/>
                    </a:lnTo>
                    <a:lnTo>
                      <a:pt x="413" y="150"/>
                    </a:lnTo>
                    <a:lnTo>
                      <a:pt x="447" y="163"/>
                    </a:lnTo>
                    <a:lnTo>
                      <a:pt x="483" y="174"/>
                    </a:lnTo>
                    <a:lnTo>
                      <a:pt x="522" y="185"/>
                    </a:lnTo>
                    <a:lnTo>
                      <a:pt x="564" y="194"/>
                    </a:lnTo>
                    <a:lnTo>
                      <a:pt x="609" y="202"/>
                    </a:lnTo>
                    <a:lnTo>
                      <a:pt x="496" y="130"/>
                    </a:lnTo>
                    <a:lnTo>
                      <a:pt x="612" y="202"/>
                    </a:lnTo>
                    <a:lnTo>
                      <a:pt x="766" y="177"/>
                    </a:lnTo>
                    <a:lnTo>
                      <a:pt x="499" y="130"/>
                    </a:lnTo>
                    <a:lnTo>
                      <a:pt x="612" y="20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2870280" y="3627360"/>
                <a:ext cx="191880" cy="44640"/>
              </a:xfrm>
              <a:custGeom>
                <a:avLst/>
                <a:gdLst/>
                <a:ahLst/>
                <a:rect l="l" t="t" r="r" b="b"/>
                <a:pathLst>
                  <a:path w="605" h="140">
                    <a:moveTo>
                      <a:pt x="0" y="60"/>
                    </a:moveTo>
                    <a:lnTo>
                      <a:pt x="113" y="130"/>
                    </a:lnTo>
                    <a:lnTo>
                      <a:pt x="131" y="133"/>
                    </a:lnTo>
                    <a:lnTo>
                      <a:pt x="148" y="136"/>
                    </a:lnTo>
                    <a:lnTo>
                      <a:pt x="165" y="138"/>
                    </a:lnTo>
                    <a:lnTo>
                      <a:pt x="182" y="139"/>
                    </a:lnTo>
                    <a:lnTo>
                      <a:pt x="215" y="140"/>
                    </a:lnTo>
                    <a:lnTo>
                      <a:pt x="247" y="140"/>
                    </a:lnTo>
                    <a:lnTo>
                      <a:pt x="278" y="138"/>
                    </a:lnTo>
                    <a:lnTo>
                      <a:pt x="310" y="133"/>
                    </a:lnTo>
                    <a:lnTo>
                      <a:pt x="341" y="129"/>
                    </a:lnTo>
                    <a:lnTo>
                      <a:pt x="370" y="123"/>
                    </a:lnTo>
                    <a:lnTo>
                      <a:pt x="430" y="109"/>
                    </a:lnTo>
                    <a:lnTo>
                      <a:pt x="489" y="94"/>
                    </a:lnTo>
                    <a:lnTo>
                      <a:pt x="519" y="88"/>
                    </a:lnTo>
                    <a:lnTo>
                      <a:pt x="547" y="82"/>
                    </a:lnTo>
                    <a:lnTo>
                      <a:pt x="577" y="76"/>
                    </a:lnTo>
                    <a:lnTo>
                      <a:pt x="605" y="72"/>
                    </a:lnTo>
                    <a:lnTo>
                      <a:pt x="489" y="0"/>
                    </a:lnTo>
                    <a:lnTo>
                      <a:pt x="459" y="4"/>
                    </a:lnTo>
                    <a:lnTo>
                      <a:pt x="430" y="10"/>
                    </a:lnTo>
                    <a:lnTo>
                      <a:pt x="400" y="16"/>
                    </a:lnTo>
                    <a:lnTo>
                      <a:pt x="372" y="23"/>
                    </a:lnTo>
                    <a:lnTo>
                      <a:pt x="312" y="37"/>
                    </a:lnTo>
                    <a:lnTo>
                      <a:pt x="253" y="51"/>
                    </a:lnTo>
                    <a:lnTo>
                      <a:pt x="223" y="57"/>
                    </a:lnTo>
                    <a:lnTo>
                      <a:pt x="193" y="61"/>
                    </a:lnTo>
                    <a:lnTo>
                      <a:pt x="163" y="66"/>
                    </a:lnTo>
                    <a:lnTo>
                      <a:pt x="132" y="68"/>
                    </a:lnTo>
                    <a:lnTo>
                      <a:pt x="100" y="68"/>
                    </a:lnTo>
                    <a:lnTo>
                      <a:pt x="69" y="67"/>
                    </a:lnTo>
                    <a:lnTo>
                      <a:pt x="53" y="66"/>
                    </a:lnTo>
                    <a:lnTo>
                      <a:pt x="39" y="64"/>
                    </a:lnTo>
                    <a:lnTo>
                      <a:pt x="23" y="61"/>
                    </a:lnTo>
                    <a:lnTo>
                      <a:pt x="8" y="58"/>
                    </a:lnTo>
                    <a:lnTo>
                      <a:pt x="121" y="128"/>
                    </a:lnTo>
                    <a:lnTo>
                      <a:pt x="0" y="60"/>
                    </a:lnTo>
                    <a:lnTo>
                      <a:pt x="7" y="106"/>
                    </a:lnTo>
                    <a:lnTo>
                      <a:pt x="113" y="13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2668680" y="3595680"/>
                <a:ext cx="239760" cy="73080"/>
              </a:xfrm>
              <a:custGeom>
                <a:avLst/>
                <a:gdLst/>
                <a:ahLst/>
                <a:rect l="l" t="t" r="r" b="b"/>
                <a:pathLst>
                  <a:path w="757" h="229">
                    <a:moveTo>
                      <a:pt x="74" y="10"/>
                    </a:moveTo>
                    <a:lnTo>
                      <a:pt x="159" y="72"/>
                    </a:lnTo>
                    <a:lnTo>
                      <a:pt x="183" y="83"/>
                    </a:lnTo>
                    <a:lnTo>
                      <a:pt x="202" y="89"/>
                    </a:lnTo>
                    <a:lnTo>
                      <a:pt x="220" y="94"/>
                    </a:lnTo>
                    <a:lnTo>
                      <a:pt x="239" y="98"/>
                    </a:lnTo>
                    <a:lnTo>
                      <a:pt x="277" y="108"/>
                    </a:lnTo>
                    <a:lnTo>
                      <a:pt x="320" y="114"/>
                    </a:lnTo>
                    <a:lnTo>
                      <a:pt x="411" y="129"/>
                    </a:lnTo>
                    <a:lnTo>
                      <a:pt x="506" y="144"/>
                    </a:lnTo>
                    <a:lnTo>
                      <a:pt x="552" y="152"/>
                    </a:lnTo>
                    <a:lnTo>
                      <a:pt x="595" y="160"/>
                    </a:lnTo>
                    <a:lnTo>
                      <a:pt x="634" y="169"/>
                    </a:lnTo>
                    <a:lnTo>
                      <a:pt x="667" y="178"/>
                    </a:lnTo>
                    <a:lnTo>
                      <a:pt x="677" y="182"/>
                    </a:lnTo>
                    <a:lnTo>
                      <a:pt x="684" y="184"/>
                    </a:lnTo>
                    <a:lnTo>
                      <a:pt x="677" y="181"/>
                    </a:lnTo>
                    <a:lnTo>
                      <a:pt x="652" y="167"/>
                    </a:lnTo>
                    <a:lnTo>
                      <a:pt x="632" y="152"/>
                    </a:lnTo>
                    <a:lnTo>
                      <a:pt x="630" y="151"/>
                    </a:lnTo>
                    <a:lnTo>
                      <a:pt x="634" y="156"/>
                    </a:lnTo>
                    <a:lnTo>
                      <a:pt x="636" y="161"/>
                    </a:lnTo>
                    <a:lnTo>
                      <a:pt x="757" y="229"/>
                    </a:lnTo>
                    <a:lnTo>
                      <a:pt x="753" y="219"/>
                    </a:lnTo>
                    <a:lnTo>
                      <a:pt x="746" y="209"/>
                    </a:lnTo>
                    <a:lnTo>
                      <a:pt x="730" y="193"/>
                    </a:lnTo>
                    <a:lnTo>
                      <a:pt x="693" y="166"/>
                    </a:lnTo>
                    <a:lnTo>
                      <a:pt x="645" y="140"/>
                    </a:lnTo>
                    <a:lnTo>
                      <a:pt x="614" y="125"/>
                    </a:lnTo>
                    <a:lnTo>
                      <a:pt x="591" y="116"/>
                    </a:lnTo>
                    <a:lnTo>
                      <a:pt x="569" y="109"/>
                    </a:lnTo>
                    <a:lnTo>
                      <a:pt x="531" y="98"/>
                    </a:lnTo>
                    <a:lnTo>
                      <a:pt x="489" y="89"/>
                    </a:lnTo>
                    <a:lnTo>
                      <a:pt x="443" y="80"/>
                    </a:lnTo>
                    <a:lnTo>
                      <a:pt x="398" y="72"/>
                    </a:lnTo>
                    <a:lnTo>
                      <a:pt x="302" y="57"/>
                    </a:lnTo>
                    <a:lnTo>
                      <a:pt x="212" y="44"/>
                    </a:lnTo>
                    <a:lnTo>
                      <a:pt x="171" y="36"/>
                    </a:lnTo>
                    <a:lnTo>
                      <a:pt x="134" y="28"/>
                    </a:lnTo>
                    <a:lnTo>
                      <a:pt x="121" y="24"/>
                    </a:lnTo>
                    <a:lnTo>
                      <a:pt x="108" y="21"/>
                    </a:lnTo>
                    <a:lnTo>
                      <a:pt x="99" y="17"/>
                    </a:lnTo>
                    <a:lnTo>
                      <a:pt x="99" y="17"/>
                    </a:lnTo>
                    <a:lnTo>
                      <a:pt x="184" y="81"/>
                    </a:lnTo>
                    <a:lnTo>
                      <a:pt x="74" y="10"/>
                    </a:lnTo>
                    <a:lnTo>
                      <a:pt x="0" y="0"/>
                    </a:lnTo>
                    <a:lnTo>
                      <a:pt x="159" y="72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2671920" y="3857760"/>
                <a:ext cx="333360" cy="63360"/>
              </a:xfrm>
              <a:custGeom>
                <a:avLst/>
                <a:gdLst/>
                <a:ahLst/>
                <a:rect l="l" t="t" r="r" b="b"/>
                <a:pathLst>
                  <a:path w="1053" h="199">
                    <a:moveTo>
                      <a:pt x="0" y="39"/>
                    </a:moveTo>
                    <a:lnTo>
                      <a:pt x="49" y="45"/>
                    </a:lnTo>
                    <a:lnTo>
                      <a:pt x="106" y="49"/>
                    </a:lnTo>
                    <a:lnTo>
                      <a:pt x="138" y="50"/>
                    </a:lnTo>
                    <a:lnTo>
                      <a:pt x="171" y="52"/>
                    </a:lnTo>
                    <a:lnTo>
                      <a:pt x="205" y="53"/>
                    </a:lnTo>
                    <a:lnTo>
                      <a:pt x="242" y="52"/>
                    </a:lnTo>
                    <a:lnTo>
                      <a:pt x="278" y="50"/>
                    </a:lnTo>
                    <a:lnTo>
                      <a:pt x="316" y="48"/>
                    </a:lnTo>
                    <a:lnTo>
                      <a:pt x="356" y="44"/>
                    </a:lnTo>
                    <a:lnTo>
                      <a:pt x="394" y="39"/>
                    </a:lnTo>
                    <a:lnTo>
                      <a:pt x="435" y="32"/>
                    </a:lnTo>
                    <a:lnTo>
                      <a:pt x="475" y="23"/>
                    </a:lnTo>
                    <a:lnTo>
                      <a:pt x="516" y="13"/>
                    </a:lnTo>
                    <a:lnTo>
                      <a:pt x="557" y="0"/>
                    </a:lnTo>
                    <a:lnTo>
                      <a:pt x="576" y="0"/>
                    </a:lnTo>
                    <a:lnTo>
                      <a:pt x="593" y="0"/>
                    </a:lnTo>
                    <a:lnTo>
                      <a:pt x="610" y="0"/>
                    </a:lnTo>
                    <a:lnTo>
                      <a:pt x="626" y="3"/>
                    </a:lnTo>
                    <a:lnTo>
                      <a:pt x="657" y="6"/>
                    </a:lnTo>
                    <a:lnTo>
                      <a:pt x="686" y="13"/>
                    </a:lnTo>
                    <a:lnTo>
                      <a:pt x="712" y="20"/>
                    </a:lnTo>
                    <a:lnTo>
                      <a:pt x="739" y="29"/>
                    </a:lnTo>
                    <a:lnTo>
                      <a:pt x="765" y="39"/>
                    </a:lnTo>
                    <a:lnTo>
                      <a:pt x="790" y="49"/>
                    </a:lnTo>
                    <a:lnTo>
                      <a:pt x="816" y="60"/>
                    </a:lnTo>
                    <a:lnTo>
                      <a:pt x="842" y="71"/>
                    </a:lnTo>
                    <a:lnTo>
                      <a:pt x="871" y="82"/>
                    </a:lnTo>
                    <a:lnTo>
                      <a:pt x="902" y="94"/>
                    </a:lnTo>
                    <a:lnTo>
                      <a:pt x="935" y="104"/>
                    </a:lnTo>
                    <a:lnTo>
                      <a:pt x="971" y="114"/>
                    </a:lnTo>
                    <a:lnTo>
                      <a:pt x="1010" y="123"/>
                    </a:lnTo>
                    <a:lnTo>
                      <a:pt x="1053" y="130"/>
                    </a:lnTo>
                    <a:lnTo>
                      <a:pt x="1025" y="135"/>
                    </a:lnTo>
                    <a:lnTo>
                      <a:pt x="995" y="141"/>
                    </a:lnTo>
                    <a:lnTo>
                      <a:pt x="965" y="146"/>
                    </a:lnTo>
                    <a:lnTo>
                      <a:pt x="937" y="153"/>
                    </a:lnTo>
                    <a:lnTo>
                      <a:pt x="878" y="168"/>
                    </a:lnTo>
                    <a:lnTo>
                      <a:pt x="818" y="182"/>
                    </a:lnTo>
                    <a:lnTo>
                      <a:pt x="788" y="187"/>
                    </a:lnTo>
                    <a:lnTo>
                      <a:pt x="758" y="192"/>
                    </a:lnTo>
                    <a:lnTo>
                      <a:pt x="727" y="196"/>
                    </a:lnTo>
                    <a:lnTo>
                      <a:pt x="695" y="199"/>
                    </a:lnTo>
                    <a:lnTo>
                      <a:pt x="664" y="199"/>
                    </a:lnTo>
                    <a:lnTo>
                      <a:pt x="633" y="198"/>
                    </a:lnTo>
                    <a:lnTo>
                      <a:pt x="615" y="196"/>
                    </a:lnTo>
                    <a:lnTo>
                      <a:pt x="600" y="194"/>
                    </a:lnTo>
                    <a:lnTo>
                      <a:pt x="584" y="192"/>
                    </a:lnTo>
                    <a:lnTo>
                      <a:pt x="566" y="188"/>
                    </a:lnTo>
                    <a:lnTo>
                      <a:pt x="564" y="180"/>
                    </a:lnTo>
                    <a:lnTo>
                      <a:pt x="558" y="174"/>
                    </a:lnTo>
                    <a:lnTo>
                      <a:pt x="552" y="167"/>
                    </a:lnTo>
                    <a:lnTo>
                      <a:pt x="543" y="160"/>
                    </a:lnTo>
                    <a:lnTo>
                      <a:pt x="531" y="154"/>
                    </a:lnTo>
                    <a:lnTo>
                      <a:pt x="519" y="147"/>
                    </a:lnTo>
                    <a:lnTo>
                      <a:pt x="504" y="142"/>
                    </a:lnTo>
                    <a:lnTo>
                      <a:pt x="488" y="137"/>
                    </a:lnTo>
                    <a:lnTo>
                      <a:pt x="452" y="127"/>
                    </a:lnTo>
                    <a:lnTo>
                      <a:pt x="411" y="118"/>
                    </a:lnTo>
                    <a:lnTo>
                      <a:pt x="368" y="110"/>
                    </a:lnTo>
                    <a:lnTo>
                      <a:pt x="321" y="102"/>
                    </a:lnTo>
                    <a:lnTo>
                      <a:pt x="227" y="87"/>
                    </a:lnTo>
                    <a:lnTo>
                      <a:pt x="136" y="72"/>
                    </a:lnTo>
                    <a:lnTo>
                      <a:pt x="94" y="65"/>
                    </a:lnTo>
                    <a:lnTo>
                      <a:pt x="57" y="57"/>
                    </a:lnTo>
                    <a:lnTo>
                      <a:pt x="41" y="53"/>
                    </a:lnTo>
                    <a:lnTo>
                      <a:pt x="25" y="48"/>
                    </a:lnTo>
                    <a:lnTo>
                      <a:pt x="11" y="44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2654280" y="384660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1" h="124">
                    <a:moveTo>
                      <a:pt x="555" y="0"/>
                    </a:moveTo>
                    <a:lnTo>
                      <a:pt x="554" y="0"/>
                    </a:lnTo>
                    <a:lnTo>
                      <a:pt x="513" y="12"/>
                    </a:lnTo>
                    <a:lnTo>
                      <a:pt x="472" y="24"/>
                    </a:lnTo>
                    <a:lnTo>
                      <a:pt x="432" y="32"/>
                    </a:lnTo>
                    <a:lnTo>
                      <a:pt x="392" y="39"/>
                    </a:lnTo>
                    <a:lnTo>
                      <a:pt x="353" y="44"/>
                    </a:lnTo>
                    <a:lnTo>
                      <a:pt x="314" y="48"/>
                    </a:lnTo>
                    <a:lnTo>
                      <a:pt x="276" y="51"/>
                    </a:lnTo>
                    <a:lnTo>
                      <a:pt x="239" y="52"/>
                    </a:lnTo>
                    <a:lnTo>
                      <a:pt x="204" y="52"/>
                    </a:lnTo>
                    <a:lnTo>
                      <a:pt x="170" y="52"/>
                    </a:lnTo>
                    <a:lnTo>
                      <a:pt x="137" y="51"/>
                    </a:lnTo>
                    <a:lnTo>
                      <a:pt x="106" y="49"/>
                    </a:lnTo>
                    <a:lnTo>
                      <a:pt x="49" y="44"/>
                    </a:lnTo>
                    <a:lnTo>
                      <a:pt x="0" y="39"/>
                    </a:lnTo>
                    <a:lnTo>
                      <a:pt x="111" y="110"/>
                    </a:lnTo>
                    <a:lnTo>
                      <a:pt x="161" y="116"/>
                    </a:lnTo>
                    <a:lnTo>
                      <a:pt x="218" y="121"/>
                    </a:lnTo>
                    <a:lnTo>
                      <a:pt x="250" y="123"/>
                    </a:lnTo>
                    <a:lnTo>
                      <a:pt x="284" y="124"/>
                    </a:lnTo>
                    <a:lnTo>
                      <a:pt x="318" y="124"/>
                    </a:lnTo>
                    <a:lnTo>
                      <a:pt x="355" y="124"/>
                    </a:lnTo>
                    <a:lnTo>
                      <a:pt x="392" y="123"/>
                    </a:lnTo>
                    <a:lnTo>
                      <a:pt x="430" y="120"/>
                    </a:lnTo>
                    <a:lnTo>
                      <a:pt x="470" y="116"/>
                    </a:lnTo>
                    <a:lnTo>
                      <a:pt x="510" y="110"/>
                    </a:lnTo>
                    <a:lnTo>
                      <a:pt x="549" y="104"/>
                    </a:lnTo>
                    <a:lnTo>
                      <a:pt x="591" y="94"/>
                    </a:lnTo>
                    <a:lnTo>
                      <a:pt x="632" y="84"/>
                    </a:lnTo>
                    <a:lnTo>
                      <a:pt x="671" y="72"/>
                    </a:lnTo>
                    <a:lnTo>
                      <a:pt x="670" y="72"/>
                    </a:lnTo>
                    <a:lnTo>
                      <a:pt x="555" y="0"/>
                    </a:lnTo>
                    <a:lnTo>
                      <a:pt x="554" y="0"/>
                    </a:lnTo>
                    <a:lnTo>
                      <a:pt x="554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2830680" y="3846600"/>
                <a:ext cx="242640" cy="63360"/>
              </a:xfrm>
              <a:custGeom>
                <a:avLst/>
                <a:gdLst/>
                <a:ahLst/>
                <a:rect l="l" t="t" r="r" b="b"/>
                <a:pathLst>
                  <a:path w="766" h="203">
                    <a:moveTo>
                      <a:pt x="614" y="203"/>
                    </a:moveTo>
                    <a:lnTo>
                      <a:pt x="500" y="131"/>
                    </a:lnTo>
                    <a:lnTo>
                      <a:pt x="457" y="123"/>
                    </a:lnTo>
                    <a:lnTo>
                      <a:pt x="421" y="115"/>
                    </a:lnTo>
                    <a:lnTo>
                      <a:pt x="387" y="106"/>
                    </a:lnTo>
                    <a:lnTo>
                      <a:pt x="358" y="97"/>
                    </a:lnTo>
                    <a:lnTo>
                      <a:pt x="331" y="86"/>
                    </a:lnTo>
                    <a:lnTo>
                      <a:pt x="307" y="77"/>
                    </a:lnTo>
                    <a:lnTo>
                      <a:pt x="283" y="67"/>
                    </a:lnTo>
                    <a:lnTo>
                      <a:pt x="256" y="56"/>
                    </a:lnTo>
                    <a:lnTo>
                      <a:pt x="227" y="43"/>
                    </a:lnTo>
                    <a:lnTo>
                      <a:pt x="196" y="32"/>
                    </a:lnTo>
                    <a:lnTo>
                      <a:pt x="165" y="21"/>
                    </a:lnTo>
                    <a:lnTo>
                      <a:pt x="135" y="13"/>
                    </a:lnTo>
                    <a:lnTo>
                      <a:pt x="104" y="7"/>
                    </a:lnTo>
                    <a:lnTo>
                      <a:pt x="72" y="2"/>
                    </a:lnTo>
                    <a:lnTo>
                      <a:pt x="55" y="1"/>
                    </a:lnTo>
                    <a:lnTo>
                      <a:pt x="37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115" y="72"/>
                    </a:lnTo>
                    <a:lnTo>
                      <a:pt x="134" y="72"/>
                    </a:lnTo>
                    <a:lnTo>
                      <a:pt x="151" y="72"/>
                    </a:lnTo>
                    <a:lnTo>
                      <a:pt x="168" y="73"/>
                    </a:lnTo>
                    <a:lnTo>
                      <a:pt x="183" y="74"/>
                    </a:lnTo>
                    <a:lnTo>
                      <a:pt x="212" y="78"/>
                    </a:lnTo>
                    <a:lnTo>
                      <a:pt x="238" y="83"/>
                    </a:lnTo>
                    <a:lnTo>
                      <a:pt x="261" y="90"/>
                    </a:lnTo>
                    <a:lnTo>
                      <a:pt x="283" y="97"/>
                    </a:lnTo>
                    <a:lnTo>
                      <a:pt x="303" y="106"/>
                    </a:lnTo>
                    <a:lnTo>
                      <a:pt x="326" y="115"/>
                    </a:lnTo>
                    <a:lnTo>
                      <a:pt x="351" y="125"/>
                    </a:lnTo>
                    <a:lnTo>
                      <a:pt x="381" y="138"/>
                    </a:lnTo>
                    <a:lnTo>
                      <a:pt x="413" y="150"/>
                    </a:lnTo>
                    <a:lnTo>
                      <a:pt x="448" y="163"/>
                    </a:lnTo>
                    <a:lnTo>
                      <a:pt x="485" y="174"/>
                    </a:lnTo>
                    <a:lnTo>
                      <a:pt x="523" y="186"/>
                    </a:lnTo>
                    <a:lnTo>
                      <a:pt x="564" y="195"/>
                    </a:lnTo>
                    <a:lnTo>
                      <a:pt x="609" y="203"/>
                    </a:lnTo>
                    <a:lnTo>
                      <a:pt x="496" y="130"/>
                    </a:lnTo>
                    <a:lnTo>
                      <a:pt x="614" y="203"/>
                    </a:lnTo>
                    <a:lnTo>
                      <a:pt x="766" y="177"/>
                    </a:lnTo>
                    <a:lnTo>
                      <a:pt x="500" y="131"/>
                    </a:lnTo>
                    <a:lnTo>
                      <a:pt x="614" y="20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2832120" y="3887640"/>
                <a:ext cx="192240" cy="44640"/>
              </a:xfrm>
              <a:custGeom>
                <a:avLst/>
                <a:gdLst/>
                <a:ahLst/>
                <a:rect l="l" t="t" r="r" b="b"/>
                <a:pathLst>
                  <a:path w="607" h="141">
                    <a:moveTo>
                      <a:pt x="0" y="60"/>
                    </a:moveTo>
                    <a:lnTo>
                      <a:pt x="113" y="130"/>
                    </a:lnTo>
                    <a:lnTo>
                      <a:pt x="131" y="133"/>
                    </a:lnTo>
                    <a:lnTo>
                      <a:pt x="148" y="137"/>
                    </a:lnTo>
                    <a:lnTo>
                      <a:pt x="165" y="138"/>
                    </a:lnTo>
                    <a:lnTo>
                      <a:pt x="182" y="140"/>
                    </a:lnTo>
                    <a:lnTo>
                      <a:pt x="215" y="141"/>
                    </a:lnTo>
                    <a:lnTo>
                      <a:pt x="247" y="140"/>
                    </a:lnTo>
                    <a:lnTo>
                      <a:pt x="279" y="138"/>
                    </a:lnTo>
                    <a:lnTo>
                      <a:pt x="310" y="134"/>
                    </a:lnTo>
                    <a:lnTo>
                      <a:pt x="341" y="129"/>
                    </a:lnTo>
                    <a:lnTo>
                      <a:pt x="371" y="123"/>
                    </a:lnTo>
                    <a:lnTo>
                      <a:pt x="431" y="109"/>
                    </a:lnTo>
                    <a:lnTo>
                      <a:pt x="489" y="94"/>
                    </a:lnTo>
                    <a:lnTo>
                      <a:pt x="519" y="89"/>
                    </a:lnTo>
                    <a:lnTo>
                      <a:pt x="548" y="82"/>
                    </a:lnTo>
                    <a:lnTo>
                      <a:pt x="577" y="76"/>
                    </a:lnTo>
                    <a:lnTo>
                      <a:pt x="607" y="73"/>
                    </a:lnTo>
                    <a:lnTo>
                      <a:pt x="489" y="0"/>
                    </a:lnTo>
                    <a:lnTo>
                      <a:pt x="459" y="4"/>
                    </a:lnTo>
                    <a:lnTo>
                      <a:pt x="430" y="10"/>
                    </a:lnTo>
                    <a:lnTo>
                      <a:pt x="401" y="17"/>
                    </a:lnTo>
                    <a:lnTo>
                      <a:pt x="372" y="24"/>
                    </a:lnTo>
                    <a:lnTo>
                      <a:pt x="312" y="37"/>
                    </a:lnTo>
                    <a:lnTo>
                      <a:pt x="253" y="51"/>
                    </a:lnTo>
                    <a:lnTo>
                      <a:pt x="223" y="57"/>
                    </a:lnTo>
                    <a:lnTo>
                      <a:pt x="193" y="63"/>
                    </a:lnTo>
                    <a:lnTo>
                      <a:pt x="163" y="66"/>
                    </a:lnTo>
                    <a:lnTo>
                      <a:pt x="132" y="68"/>
                    </a:lnTo>
                    <a:lnTo>
                      <a:pt x="101" y="69"/>
                    </a:lnTo>
                    <a:lnTo>
                      <a:pt x="70" y="68"/>
                    </a:lnTo>
                    <a:lnTo>
                      <a:pt x="55" y="66"/>
                    </a:lnTo>
                    <a:lnTo>
                      <a:pt x="39" y="65"/>
                    </a:lnTo>
                    <a:lnTo>
                      <a:pt x="23" y="61"/>
                    </a:lnTo>
                    <a:lnTo>
                      <a:pt x="8" y="59"/>
                    </a:lnTo>
                    <a:lnTo>
                      <a:pt x="121" y="128"/>
                    </a:lnTo>
                    <a:lnTo>
                      <a:pt x="0" y="60"/>
                    </a:lnTo>
                    <a:lnTo>
                      <a:pt x="7" y="106"/>
                    </a:lnTo>
                    <a:lnTo>
                      <a:pt x="113" y="13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2630520" y="3855960"/>
                <a:ext cx="239760" cy="71640"/>
              </a:xfrm>
              <a:custGeom>
                <a:avLst/>
                <a:gdLst/>
                <a:ahLst/>
                <a:rect l="l" t="t" r="r" b="b"/>
                <a:pathLst>
                  <a:path w="756" h="227">
                    <a:moveTo>
                      <a:pt x="73" y="8"/>
                    </a:moveTo>
                    <a:lnTo>
                      <a:pt x="159" y="70"/>
                    </a:lnTo>
                    <a:lnTo>
                      <a:pt x="182" y="81"/>
                    </a:lnTo>
                    <a:lnTo>
                      <a:pt x="202" y="87"/>
                    </a:lnTo>
                    <a:lnTo>
                      <a:pt x="219" y="93"/>
                    </a:lnTo>
                    <a:lnTo>
                      <a:pt x="238" y="98"/>
                    </a:lnTo>
                    <a:lnTo>
                      <a:pt x="277" y="106"/>
                    </a:lnTo>
                    <a:lnTo>
                      <a:pt x="319" y="114"/>
                    </a:lnTo>
                    <a:lnTo>
                      <a:pt x="410" y="128"/>
                    </a:lnTo>
                    <a:lnTo>
                      <a:pt x="505" y="142"/>
                    </a:lnTo>
                    <a:lnTo>
                      <a:pt x="551" y="150"/>
                    </a:lnTo>
                    <a:lnTo>
                      <a:pt x="594" y="158"/>
                    </a:lnTo>
                    <a:lnTo>
                      <a:pt x="633" y="167"/>
                    </a:lnTo>
                    <a:lnTo>
                      <a:pt x="666" y="176"/>
                    </a:lnTo>
                    <a:lnTo>
                      <a:pt x="676" y="180"/>
                    </a:lnTo>
                    <a:lnTo>
                      <a:pt x="683" y="182"/>
                    </a:lnTo>
                    <a:lnTo>
                      <a:pt x="677" y="180"/>
                    </a:lnTo>
                    <a:lnTo>
                      <a:pt x="651" y="165"/>
                    </a:lnTo>
                    <a:lnTo>
                      <a:pt x="632" y="151"/>
                    </a:lnTo>
                    <a:lnTo>
                      <a:pt x="630" y="149"/>
                    </a:lnTo>
                    <a:lnTo>
                      <a:pt x="633" y="154"/>
                    </a:lnTo>
                    <a:lnTo>
                      <a:pt x="635" y="159"/>
                    </a:lnTo>
                    <a:lnTo>
                      <a:pt x="756" y="227"/>
                    </a:lnTo>
                    <a:lnTo>
                      <a:pt x="752" y="217"/>
                    </a:lnTo>
                    <a:lnTo>
                      <a:pt x="746" y="207"/>
                    </a:lnTo>
                    <a:lnTo>
                      <a:pt x="730" y="192"/>
                    </a:lnTo>
                    <a:lnTo>
                      <a:pt x="692" y="165"/>
                    </a:lnTo>
                    <a:lnTo>
                      <a:pt x="644" y="138"/>
                    </a:lnTo>
                    <a:lnTo>
                      <a:pt x="613" y="124"/>
                    </a:lnTo>
                    <a:lnTo>
                      <a:pt x="591" y="115"/>
                    </a:lnTo>
                    <a:lnTo>
                      <a:pt x="569" y="107"/>
                    </a:lnTo>
                    <a:lnTo>
                      <a:pt x="530" y="97"/>
                    </a:lnTo>
                    <a:lnTo>
                      <a:pt x="488" y="87"/>
                    </a:lnTo>
                    <a:lnTo>
                      <a:pt x="444" y="79"/>
                    </a:lnTo>
                    <a:lnTo>
                      <a:pt x="397" y="71"/>
                    </a:lnTo>
                    <a:lnTo>
                      <a:pt x="301" y="57"/>
                    </a:lnTo>
                    <a:lnTo>
                      <a:pt x="211" y="42"/>
                    </a:lnTo>
                    <a:lnTo>
                      <a:pt x="170" y="35"/>
                    </a:lnTo>
                    <a:lnTo>
                      <a:pt x="135" y="27"/>
                    </a:lnTo>
                    <a:lnTo>
                      <a:pt x="120" y="22"/>
                    </a:lnTo>
                    <a:lnTo>
                      <a:pt x="107" y="19"/>
                    </a:lnTo>
                    <a:lnTo>
                      <a:pt x="99" y="17"/>
                    </a:lnTo>
                    <a:lnTo>
                      <a:pt x="99" y="17"/>
                    </a:lnTo>
                    <a:lnTo>
                      <a:pt x="184" y="79"/>
                    </a:lnTo>
                    <a:lnTo>
                      <a:pt x="73" y="8"/>
                    </a:lnTo>
                    <a:lnTo>
                      <a:pt x="0" y="0"/>
                    </a:lnTo>
                    <a:lnTo>
                      <a:pt x="159" y="70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0" name=""/>
            <p:cNvGrpSpPr/>
            <p:nvPr/>
          </p:nvGrpSpPr>
          <p:grpSpPr>
            <a:xfrm>
              <a:off x="2573280" y="3070080"/>
              <a:ext cx="3946680" cy="2578320"/>
              <a:chOff x="2573280" y="3070080"/>
              <a:chExt cx="3946680" cy="2578320"/>
            </a:xfrm>
          </p:grpSpPr>
          <p:sp>
            <p:nvSpPr>
              <p:cNvPr id="6631" name=""/>
              <p:cNvSpPr/>
              <p:nvPr/>
            </p:nvSpPr>
            <p:spPr>
              <a:xfrm>
                <a:off x="3765600" y="3657600"/>
                <a:ext cx="333360" cy="63360"/>
              </a:xfrm>
              <a:custGeom>
                <a:avLst/>
                <a:gdLst/>
                <a:ahLst/>
                <a:rect l="l" t="t" r="r" b="b"/>
                <a:pathLst>
                  <a:path w="1053" h="199">
                    <a:moveTo>
                      <a:pt x="0" y="38"/>
                    </a:moveTo>
                    <a:lnTo>
                      <a:pt x="48" y="44"/>
                    </a:lnTo>
                    <a:lnTo>
                      <a:pt x="106" y="49"/>
                    </a:lnTo>
                    <a:lnTo>
                      <a:pt x="137" y="51"/>
                    </a:lnTo>
                    <a:lnTo>
                      <a:pt x="171" y="52"/>
                    </a:lnTo>
                    <a:lnTo>
                      <a:pt x="205" y="53"/>
                    </a:lnTo>
                    <a:lnTo>
                      <a:pt x="240" y="52"/>
                    </a:lnTo>
                    <a:lnTo>
                      <a:pt x="278" y="51"/>
                    </a:lnTo>
                    <a:lnTo>
                      <a:pt x="316" y="49"/>
                    </a:lnTo>
                    <a:lnTo>
                      <a:pt x="354" y="44"/>
                    </a:lnTo>
                    <a:lnTo>
                      <a:pt x="394" y="38"/>
                    </a:lnTo>
                    <a:lnTo>
                      <a:pt x="434" y="32"/>
                    </a:lnTo>
                    <a:lnTo>
                      <a:pt x="475" y="24"/>
                    </a:lnTo>
                    <a:lnTo>
                      <a:pt x="516" y="13"/>
                    </a:lnTo>
                    <a:lnTo>
                      <a:pt x="556" y="1"/>
                    </a:lnTo>
                    <a:lnTo>
                      <a:pt x="576" y="0"/>
                    </a:lnTo>
                    <a:lnTo>
                      <a:pt x="593" y="1"/>
                    </a:lnTo>
                    <a:lnTo>
                      <a:pt x="610" y="1"/>
                    </a:lnTo>
                    <a:lnTo>
                      <a:pt x="626" y="2"/>
                    </a:lnTo>
                    <a:lnTo>
                      <a:pt x="657" y="6"/>
                    </a:lnTo>
                    <a:lnTo>
                      <a:pt x="685" y="12"/>
                    </a:lnTo>
                    <a:lnTo>
                      <a:pt x="712" y="20"/>
                    </a:lnTo>
                    <a:lnTo>
                      <a:pt x="739" y="29"/>
                    </a:lnTo>
                    <a:lnTo>
                      <a:pt x="764" y="38"/>
                    </a:lnTo>
                    <a:lnTo>
                      <a:pt x="790" y="49"/>
                    </a:lnTo>
                    <a:lnTo>
                      <a:pt x="816" y="60"/>
                    </a:lnTo>
                    <a:lnTo>
                      <a:pt x="842" y="71"/>
                    </a:lnTo>
                    <a:lnTo>
                      <a:pt x="871" y="83"/>
                    </a:lnTo>
                    <a:lnTo>
                      <a:pt x="902" y="94"/>
                    </a:lnTo>
                    <a:lnTo>
                      <a:pt x="935" y="105"/>
                    </a:lnTo>
                    <a:lnTo>
                      <a:pt x="971" y="115"/>
                    </a:lnTo>
                    <a:lnTo>
                      <a:pt x="1010" y="123"/>
                    </a:lnTo>
                    <a:lnTo>
                      <a:pt x="1053" y="131"/>
                    </a:lnTo>
                    <a:lnTo>
                      <a:pt x="1025" y="135"/>
                    </a:lnTo>
                    <a:lnTo>
                      <a:pt x="995" y="140"/>
                    </a:lnTo>
                    <a:lnTo>
                      <a:pt x="966" y="147"/>
                    </a:lnTo>
                    <a:lnTo>
                      <a:pt x="936" y="154"/>
                    </a:lnTo>
                    <a:lnTo>
                      <a:pt x="878" y="167"/>
                    </a:lnTo>
                    <a:lnTo>
                      <a:pt x="818" y="181"/>
                    </a:lnTo>
                    <a:lnTo>
                      <a:pt x="788" y="188"/>
                    </a:lnTo>
                    <a:lnTo>
                      <a:pt x="758" y="192"/>
                    </a:lnTo>
                    <a:lnTo>
                      <a:pt x="727" y="196"/>
                    </a:lnTo>
                    <a:lnTo>
                      <a:pt x="695" y="198"/>
                    </a:lnTo>
                    <a:lnTo>
                      <a:pt x="665" y="199"/>
                    </a:lnTo>
                    <a:lnTo>
                      <a:pt x="633" y="198"/>
                    </a:lnTo>
                    <a:lnTo>
                      <a:pt x="616" y="197"/>
                    </a:lnTo>
                    <a:lnTo>
                      <a:pt x="600" y="195"/>
                    </a:lnTo>
                    <a:lnTo>
                      <a:pt x="582" y="192"/>
                    </a:lnTo>
                    <a:lnTo>
                      <a:pt x="567" y="189"/>
                    </a:lnTo>
                    <a:lnTo>
                      <a:pt x="564" y="181"/>
                    </a:lnTo>
                    <a:lnTo>
                      <a:pt x="559" y="174"/>
                    </a:lnTo>
                    <a:lnTo>
                      <a:pt x="552" y="166"/>
                    </a:lnTo>
                    <a:lnTo>
                      <a:pt x="543" y="160"/>
                    </a:lnTo>
                    <a:lnTo>
                      <a:pt x="531" y="154"/>
                    </a:lnTo>
                    <a:lnTo>
                      <a:pt x="519" y="148"/>
                    </a:lnTo>
                    <a:lnTo>
                      <a:pt x="504" y="142"/>
                    </a:lnTo>
                    <a:lnTo>
                      <a:pt x="488" y="138"/>
                    </a:lnTo>
                    <a:lnTo>
                      <a:pt x="453" y="127"/>
                    </a:lnTo>
                    <a:lnTo>
                      <a:pt x="411" y="118"/>
                    </a:lnTo>
                    <a:lnTo>
                      <a:pt x="368" y="110"/>
                    </a:lnTo>
                    <a:lnTo>
                      <a:pt x="321" y="102"/>
                    </a:lnTo>
                    <a:lnTo>
                      <a:pt x="227" y="87"/>
                    </a:lnTo>
                    <a:lnTo>
                      <a:pt x="136" y="73"/>
                    </a:lnTo>
                    <a:lnTo>
                      <a:pt x="95" y="66"/>
                    </a:lnTo>
                    <a:lnTo>
                      <a:pt x="57" y="57"/>
                    </a:lnTo>
                    <a:lnTo>
                      <a:pt x="40" y="53"/>
                    </a:lnTo>
                    <a:lnTo>
                      <a:pt x="25" y="49"/>
                    </a:lnTo>
                    <a:lnTo>
                      <a:pt x="11" y="44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3747960" y="364644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2" h="125">
                    <a:moveTo>
                      <a:pt x="555" y="0"/>
                    </a:moveTo>
                    <a:lnTo>
                      <a:pt x="553" y="0"/>
                    </a:lnTo>
                    <a:lnTo>
                      <a:pt x="513" y="13"/>
                    </a:lnTo>
                    <a:lnTo>
                      <a:pt x="472" y="23"/>
                    </a:lnTo>
                    <a:lnTo>
                      <a:pt x="432" y="32"/>
                    </a:lnTo>
                    <a:lnTo>
                      <a:pt x="392" y="39"/>
                    </a:lnTo>
                    <a:lnTo>
                      <a:pt x="352" y="45"/>
                    </a:lnTo>
                    <a:lnTo>
                      <a:pt x="314" y="48"/>
                    </a:lnTo>
                    <a:lnTo>
                      <a:pt x="276" y="50"/>
                    </a:lnTo>
                    <a:lnTo>
                      <a:pt x="239" y="52"/>
                    </a:lnTo>
                    <a:lnTo>
                      <a:pt x="204" y="53"/>
                    </a:lnTo>
                    <a:lnTo>
                      <a:pt x="170" y="53"/>
                    </a:lnTo>
                    <a:lnTo>
                      <a:pt x="137" y="50"/>
                    </a:lnTo>
                    <a:lnTo>
                      <a:pt x="106" y="49"/>
                    </a:lnTo>
                    <a:lnTo>
                      <a:pt x="48" y="45"/>
                    </a:lnTo>
                    <a:lnTo>
                      <a:pt x="0" y="39"/>
                    </a:lnTo>
                    <a:lnTo>
                      <a:pt x="111" y="111"/>
                    </a:lnTo>
                    <a:lnTo>
                      <a:pt x="161" y="117"/>
                    </a:lnTo>
                    <a:lnTo>
                      <a:pt x="218" y="121"/>
                    </a:lnTo>
                    <a:lnTo>
                      <a:pt x="250" y="123"/>
                    </a:lnTo>
                    <a:lnTo>
                      <a:pt x="283" y="125"/>
                    </a:lnTo>
                    <a:lnTo>
                      <a:pt x="318" y="125"/>
                    </a:lnTo>
                    <a:lnTo>
                      <a:pt x="355" y="125"/>
                    </a:lnTo>
                    <a:lnTo>
                      <a:pt x="392" y="123"/>
                    </a:lnTo>
                    <a:lnTo>
                      <a:pt x="430" y="120"/>
                    </a:lnTo>
                    <a:lnTo>
                      <a:pt x="469" y="117"/>
                    </a:lnTo>
                    <a:lnTo>
                      <a:pt x="510" y="111"/>
                    </a:lnTo>
                    <a:lnTo>
                      <a:pt x="550" y="104"/>
                    </a:lnTo>
                    <a:lnTo>
                      <a:pt x="591" y="95"/>
                    </a:lnTo>
                    <a:lnTo>
                      <a:pt x="632" y="85"/>
                    </a:lnTo>
                    <a:lnTo>
                      <a:pt x="672" y="72"/>
                    </a:lnTo>
                    <a:lnTo>
                      <a:pt x="670" y="72"/>
                    </a:lnTo>
                    <a:lnTo>
                      <a:pt x="555" y="0"/>
                    </a:lnTo>
                    <a:lnTo>
                      <a:pt x="554" y="0"/>
                    </a:lnTo>
                    <a:lnTo>
                      <a:pt x="553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3924360" y="3646440"/>
                <a:ext cx="243000" cy="65160"/>
              </a:xfrm>
              <a:custGeom>
                <a:avLst/>
                <a:gdLst/>
                <a:ahLst/>
                <a:rect l="l" t="t" r="r" b="b"/>
                <a:pathLst>
                  <a:path w="766" h="202">
                    <a:moveTo>
                      <a:pt x="614" y="202"/>
                    </a:moveTo>
                    <a:lnTo>
                      <a:pt x="500" y="130"/>
                    </a:lnTo>
                    <a:lnTo>
                      <a:pt x="457" y="123"/>
                    </a:lnTo>
                    <a:lnTo>
                      <a:pt x="420" y="115"/>
                    </a:lnTo>
                    <a:lnTo>
                      <a:pt x="387" y="106"/>
                    </a:lnTo>
                    <a:lnTo>
                      <a:pt x="358" y="97"/>
                    </a:lnTo>
                    <a:lnTo>
                      <a:pt x="331" y="87"/>
                    </a:lnTo>
                    <a:lnTo>
                      <a:pt x="307" y="78"/>
                    </a:lnTo>
                    <a:lnTo>
                      <a:pt x="283" y="68"/>
                    </a:lnTo>
                    <a:lnTo>
                      <a:pt x="256" y="56"/>
                    </a:lnTo>
                    <a:lnTo>
                      <a:pt x="227" y="44"/>
                    </a:lnTo>
                    <a:lnTo>
                      <a:pt x="196" y="32"/>
                    </a:lnTo>
                    <a:lnTo>
                      <a:pt x="166" y="22"/>
                    </a:lnTo>
                    <a:lnTo>
                      <a:pt x="135" y="14"/>
                    </a:lnTo>
                    <a:lnTo>
                      <a:pt x="104" y="7"/>
                    </a:lnTo>
                    <a:lnTo>
                      <a:pt x="72" y="3"/>
                    </a:lnTo>
                    <a:lnTo>
                      <a:pt x="55" y="1"/>
                    </a:lnTo>
                    <a:lnTo>
                      <a:pt x="37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115" y="72"/>
                    </a:lnTo>
                    <a:lnTo>
                      <a:pt x="134" y="72"/>
                    </a:lnTo>
                    <a:lnTo>
                      <a:pt x="151" y="72"/>
                    </a:lnTo>
                    <a:lnTo>
                      <a:pt x="168" y="73"/>
                    </a:lnTo>
                    <a:lnTo>
                      <a:pt x="183" y="74"/>
                    </a:lnTo>
                    <a:lnTo>
                      <a:pt x="212" y="79"/>
                    </a:lnTo>
                    <a:lnTo>
                      <a:pt x="237" y="84"/>
                    </a:lnTo>
                    <a:lnTo>
                      <a:pt x="261" y="90"/>
                    </a:lnTo>
                    <a:lnTo>
                      <a:pt x="283" y="97"/>
                    </a:lnTo>
                    <a:lnTo>
                      <a:pt x="304" y="105"/>
                    </a:lnTo>
                    <a:lnTo>
                      <a:pt x="326" y="114"/>
                    </a:lnTo>
                    <a:lnTo>
                      <a:pt x="351" y="126"/>
                    </a:lnTo>
                    <a:lnTo>
                      <a:pt x="381" y="138"/>
                    </a:lnTo>
                    <a:lnTo>
                      <a:pt x="413" y="151"/>
                    </a:lnTo>
                    <a:lnTo>
                      <a:pt x="447" y="163"/>
                    </a:lnTo>
                    <a:lnTo>
                      <a:pt x="485" y="175"/>
                    </a:lnTo>
                    <a:lnTo>
                      <a:pt x="524" y="185"/>
                    </a:lnTo>
                    <a:lnTo>
                      <a:pt x="565" y="195"/>
                    </a:lnTo>
                    <a:lnTo>
                      <a:pt x="609" y="202"/>
                    </a:lnTo>
                    <a:lnTo>
                      <a:pt x="496" y="130"/>
                    </a:lnTo>
                    <a:lnTo>
                      <a:pt x="614" y="202"/>
                    </a:lnTo>
                    <a:lnTo>
                      <a:pt x="766" y="177"/>
                    </a:lnTo>
                    <a:lnTo>
                      <a:pt x="500" y="130"/>
                    </a:lnTo>
                    <a:lnTo>
                      <a:pt x="614" y="20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3925800" y="3687840"/>
                <a:ext cx="192240" cy="46080"/>
              </a:xfrm>
              <a:custGeom>
                <a:avLst/>
                <a:gdLst/>
                <a:ahLst/>
                <a:rect l="l" t="t" r="r" b="b"/>
                <a:pathLst>
                  <a:path w="607" h="142">
                    <a:moveTo>
                      <a:pt x="0" y="61"/>
                    </a:moveTo>
                    <a:lnTo>
                      <a:pt x="113" y="130"/>
                    </a:lnTo>
                    <a:lnTo>
                      <a:pt x="131" y="134"/>
                    </a:lnTo>
                    <a:lnTo>
                      <a:pt x="148" y="136"/>
                    </a:lnTo>
                    <a:lnTo>
                      <a:pt x="165" y="138"/>
                    </a:lnTo>
                    <a:lnTo>
                      <a:pt x="183" y="141"/>
                    </a:lnTo>
                    <a:lnTo>
                      <a:pt x="216" y="142"/>
                    </a:lnTo>
                    <a:lnTo>
                      <a:pt x="247" y="141"/>
                    </a:lnTo>
                    <a:lnTo>
                      <a:pt x="279" y="138"/>
                    </a:lnTo>
                    <a:lnTo>
                      <a:pt x="310" y="135"/>
                    </a:lnTo>
                    <a:lnTo>
                      <a:pt x="341" y="129"/>
                    </a:lnTo>
                    <a:lnTo>
                      <a:pt x="371" y="124"/>
                    </a:lnTo>
                    <a:lnTo>
                      <a:pt x="430" y="110"/>
                    </a:lnTo>
                    <a:lnTo>
                      <a:pt x="489" y="95"/>
                    </a:lnTo>
                    <a:lnTo>
                      <a:pt x="519" y="88"/>
                    </a:lnTo>
                    <a:lnTo>
                      <a:pt x="547" y="82"/>
                    </a:lnTo>
                    <a:lnTo>
                      <a:pt x="577" y="77"/>
                    </a:lnTo>
                    <a:lnTo>
                      <a:pt x="607" y="72"/>
                    </a:lnTo>
                    <a:lnTo>
                      <a:pt x="489" y="0"/>
                    </a:lnTo>
                    <a:lnTo>
                      <a:pt x="460" y="5"/>
                    </a:lnTo>
                    <a:lnTo>
                      <a:pt x="430" y="11"/>
                    </a:lnTo>
                    <a:lnTo>
                      <a:pt x="401" y="16"/>
                    </a:lnTo>
                    <a:lnTo>
                      <a:pt x="372" y="23"/>
                    </a:lnTo>
                    <a:lnTo>
                      <a:pt x="312" y="38"/>
                    </a:lnTo>
                    <a:lnTo>
                      <a:pt x="253" y="52"/>
                    </a:lnTo>
                    <a:lnTo>
                      <a:pt x="224" y="57"/>
                    </a:lnTo>
                    <a:lnTo>
                      <a:pt x="193" y="62"/>
                    </a:lnTo>
                    <a:lnTo>
                      <a:pt x="163" y="66"/>
                    </a:lnTo>
                    <a:lnTo>
                      <a:pt x="132" y="69"/>
                    </a:lnTo>
                    <a:lnTo>
                      <a:pt x="100" y="69"/>
                    </a:lnTo>
                    <a:lnTo>
                      <a:pt x="70" y="68"/>
                    </a:lnTo>
                    <a:lnTo>
                      <a:pt x="54" y="66"/>
                    </a:lnTo>
                    <a:lnTo>
                      <a:pt x="39" y="65"/>
                    </a:lnTo>
                    <a:lnTo>
                      <a:pt x="23" y="62"/>
                    </a:lnTo>
                    <a:lnTo>
                      <a:pt x="8" y="60"/>
                    </a:lnTo>
                    <a:lnTo>
                      <a:pt x="121" y="128"/>
                    </a:lnTo>
                    <a:lnTo>
                      <a:pt x="0" y="61"/>
                    </a:lnTo>
                    <a:lnTo>
                      <a:pt x="7" y="106"/>
                    </a:lnTo>
                    <a:lnTo>
                      <a:pt x="113" y="13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3724200" y="3656160"/>
                <a:ext cx="239760" cy="72720"/>
              </a:xfrm>
              <a:custGeom>
                <a:avLst/>
                <a:gdLst/>
                <a:ahLst/>
                <a:rect l="l" t="t" r="r" b="b"/>
                <a:pathLst>
                  <a:path w="756" h="227">
                    <a:moveTo>
                      <a:pt x="73" y="8"/>
                    </a:moveTo>
                    <a:lnTo>
                      <a:pt x="157" y="71"/>
                    </a:lnTo>
                    <a:lnTo>
                      <a:pt x="183" y="81"/>
                    </a:lnTo>
                    <a:lnTo>
                      <a:pt x="202" y="88"/>
                    </a:lnTo>
                    <a:lnTo>
                      <a:pt x="219" y="92"/>
                    </a:lnTo>
                    <a:lnTo>
                      <a:pt x="238" y="98"/>
                    </a:lnTo>
                    <a:lnTo>
                      <a:pt x="277" y="106"/>
                    </a:lnTo>
                    <a:lnTo>
                      <a:pt x="319" y="114"/>
                    </a:lnTo>
                    <a:lnTo>
                      <a:pt x="411" y="128"/>
                    </a:lnTo>
                    <a:lnTo>
                      <a:pt x="505" y="143"/>
                    </a:lnTo>
                    <a:lnTo>
                      <a:pt x="551" y="151"/>
                    </a:lnTo>
                    <a:lnTo>
                      <a:pt x="594" y="159"/>
                    </a:lnTo>
                    <a:lnTo>
                      <a:pt x="633" y="168"/>
                    </a:lnTo>
                    <a:lnTo>
                      <a:pt x="666" y="177"/>
                    </a:lnTo>
                    <a:lnTo>
                      <a:pt x="676" y="180"/>
                    </a:lnTo>
                    <a:lnTo>
                      <a:pt x="683" y="183"/>
                    </a:lnTo>
                    <a:lnTo>
                      <a:pt x="677" y="179"/>
                    </a:lnTo>
                    <a:lnTo>
                      <a:pt x="651" y="165"/>
                    </a:lnTo>
                    <a:lnTo>
                      <a:pt x="632" y="152"/>
                    </a:lnTo>
                    <a:lnTo>
                      <a:pt x="631" y="150"/>
                    </a:lnTo>
                    <a:lnTo>
                      <a:pt x="633" y="154"/>
                    </a:lnTo>
                    <a:lnTo>
                      <a:pt x="635" y="160"/>
                    </a:lnTo>
                    <a:lnTo>
                      <a:pt x="756" y="227"/>
                    </a:lnTo>
                    <a:lnTo>
                      <a:pt x="753" y="218"/>
                    </a:lnTo>
                    <a:lnTo>
                      <a:pt x="746" y="208"/>
                    </a:lnTo>
                    <a:lnTo>
                      <a:pt x="730" y="192"/>
                    </a:lnTo>
                    <a:lnTo>
                      <a:pt x="692" y="165"/>
                    </a:lnTo>
                    <a:lnTo>
                      <a:pt x="644" y="138"/>
                    </a:lnTo>
                    <a:lnTo>
                      <a:pt x="612" y="123"/>
                    </a:lnTo>
                    <a:lnTo>
                      <a:pt x="590" y="115"/>
                    </a:lnTo>
                    <a:lnTo>
                      <a:pt x="569" y="107"/>
                    </a:lnTo>
                    <a:lnTo>
                      <a:pt x="530" y="97"/>
                    </a:lnTo>
                    <a:lnTo>
                      <a:pt x="488" y="88"/>
                    </a:lnTo>
                    <a:lnTo>
                      <a:pt x="444" y="79"/>
                    </a:lnTo>
                    <a:lnTo>
                      <a:pt x="397" y="71"/>
                    </a:lnTo>
                    <a:lnTo>
                      <a:pt x="301" y="57"/>
                    </a:lnTo>
                    <a:lnTo>
                      <a:pt x="211" y="42"/>
                    </a:lnTo>
                    <a:lnTo>
                      <a:pt x="170" y="34"/>
                    </a:lnTo>
                    <a:lnTo>
                      <a:pt x="134" y="26"/>
                    </a:lnTo>
                    <a:lnTo>
                      <a:pt x="120" y="23"/>
                    </a:lnTo>
                    <a:lnTo>
                      <a:pt x="107" y="19"/>
                    </a:lnTo>
                    <a:lnTo>
                      <a:pt x="98" y="17"/>
                    </a:lnTo>
                    <a:lnTo>
                      <a:pt x="99" y="17"/>
                    </a:lnTo>
                    <a:lnTo>
                      <a:pt x="184" y="80"/>
                    </a:lnTo>
                    <a:lnTo>
                      <a:pt x="73" y="8"/>
                    </a:lnTo>
                    <a:lnTo>
                      <a:pt x="0" y="0"/>
                    </a:lnTo>
                    <a:lnTo>
                      <a:pt x="157" y="71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5380200" y="3668760"/>
                <a:ext cx="334800" cy="63360"/>
              </a:xfrm>
              <a:custGeom>
                <a:avLst/>
                <a:gdLst/>
                <a:ahLst/>
                <a:rect l="l" t="t" r="r" b="b"/>
                <a:pathLst>
                  <a:path w="1054" h="199">
                    <a:moveTo>
                      <a:pt x="1054" y="39"/>
                    </a:moveTo>
                    <a:lnTo>
                      <a:pt x="1005" y="44"/>
                    </a:lnTo>
                    <a:lnTo>
                      <a:pt x="948" y="49"/>
                    </a:lnTo>
                    <a:lnTo>
                      <a:pt x="916" y="51"/>
                    </a:lnTo>
                    <a:lnTo>
                      <a:pt x="883" y="52"/>
                    </a:lnTo>
                    <a:lnTo>
                      <a:pt x="849" y="52"/>
                    </a:lnTo>
                    <a:lnTo>
                      <a:pt x="812" y="52"/>
                    </a:lnTo>
                    <a:lnTo>
                      <a:pt x="776" y="51"/>
                    </a:lnTo>
                    <a:lnTo>
                      <a:pt x="737" y="48"/>
                    </a:lnTo>
                    <a:lnTo>
                      <a:pt x="698" y="44"/>
                    </a:lnTo>
                    <a:lnTo>
                      <a:pt x="659" y="39"/>
                    </a:lnTo>
                    <a:lnTo>
                      <a:pt x="618" y="32"/>
                    </a:lnTo>
                    <a:lnTo>
                      <a:pt x="578" y="23"/>
                    </a:lnTo>
                    <a:lnTo>
                      <a:pt x="537" y="12"/>
                    </a:lnTo>
                    <a:lnTo>
                      <a:pt x="496" y="0"/>
                    </a:lnTo>
                    <a:lnTo>
                      <a:pt x="478" y="0"/>
                    </a:lnTo>
                    <a:lnTo>
                      <a:pt x="461" y="0"/>
                    </a:lnTo>
                    <a:lnTo>
                      <a:pt x="444" y="1"/>
                    </a:lnTo>
                    <a:lnTo>
                      <a:pt x="427" y="2"/>
                    </a:lnTo>
                    <a:lnTo>
                      <a:pt x="396" y="7"/>
                    </a:lnTo>
                    <a:lnTo>
                      <a:pt x="368" y="12"/>
                    </a:lnTo>
                    <a:lnTo>
                      <a:pt x="341" y="20"/>
                    </a:lnTo>
                    <a:lnTo>
                      <a:pt x="315" y="28"/>
                    </a:lnTo>
                    <a:lnTo>
                      <a:pt x="289" y="39"/>
                    </a:lnTo>
                    <a:lnTo>
                      <a:pt x="264" y="49"/>
                    </a:lnTo>
                    <a:lnTo>
                      <a:pt x="238" y="60"/>
                    </a:lnTo>
                    <a:lnTo>
                      <a:pt x="210" y="72"/>
                    </a:lnTo>
                    <a:lnTo>
                      <a:pt x="182" y="83"/>
                    </a:lnTo>
                    <a:lnTo>
                      <a:pt x="152" y="93"/>
                    </a:lnTo>
                    <a:lnTo>
                      <a:pt x="119" y="105"/>
                    </a:lnTo>
                    <a:lnTo>
                      <a:pt x="83" y="114"/>
                    </a:lnTo>
                    <a:lnTo>
                      <a:pt x="44" y="123"/>
                    </a:lnTo>
                    <a:lnTo>
                      <a:pt x="0" y="130"/>
                    </a:lnTo>
                    <a:lnTo>
                      <a:pt x="29" y="134"/>
                    </a:lnTo>
                    <a:lnTo>
                      <a:pt x="59" y="140"/>
                    </a:lnTo>
                    <a:lnTo>
                      <a:pt x="88" y="146"/>
                    </a:lnTo>
                    <a:lnTo>
                      <a:pt x="117" y="153"/>
                    </a:lnTo>
                    <a:lnTo>
                      <a:pt x="176" y="168"/>
                    </a:lnTo>
                    <a:lnTo>
                      <a:pt x="235" y="181"/>
                    </a:lnTo>
                    <a:lnTo>
                      <a:pt x="265" y="187"/>
                    </a:lnTo>
                    <a:lnTo>
                      <a:pt x="296" y="193"/>
                    </a:lnTo>
                    <a:lnTo>
                      <a:pt x="327" y="196"/>
                    </a:lnTo>
                    <a:lnTo>
                      <a:pt x="357" y="198"/>
                    </a:lnTo>
                    <a:lnTo>
                      <a:pt x="389" y="199"/>
                    </a:lnTo>
                    <a:lnTo>
                      <a:pt x="421" y="198"/>
                    </a:lnTo>
                    <a:lnTo>
                      <a:pt x="437" y="196"/>
                    </a:lnTo>
                    <a:lnTo>
                      <a:pt x="454" y="195"/>
                    </a:lnTo>
                    <a:lnTo>
                      <a:pt x="470" y="192"/>
                    </a:lnTo>
                    <a:lnTo>
                      <a:pt x="487" y="188"/>
                    </a:lnTo>
                    <a:lnTo>
                      <a:pt x="490" y="181"/>
                    </a:lnTo>
                    <a:lnTo>
                      <a:pt x="494" y="173"/>
                    </a:lnTo>
                    <a:lnTo>
                      <a:pt x="502" y="166"/>
                    </a:lnTo>
                    <a:lnTo>
                      <a:pt x="511" y="160"/>
                    </a:lnTo>
                    <a:lnTo>
                      <a:pt x="521" y="154"/>
                    </a:lnTo>
                    <a:lnTo>
                      <a:pt x="535" y="148"/>
                    </a:lnTo>
                    <a:lnTo>
                      <a:pt x="549" y="142"/>
                    </a:lnTo>
                    <a:lnTo>
                      <a:pt x="565" y="137"/>
                    </a:lnTo>
                    <a:lnTo>
                      <a:pt x="601" y="126"/>
                    </a:lnTo>
                    <a:lnTo>
                      <a:pt x="641" y="118"/>
                    </a:lnTo>
                    <a:lnTo>
                      <a:pt x="686" y="109"/>
                    </a:lnTo>
                    <a:lnTo>
                      <a:pt x="731" y="101"/>
                    </a:lnTo>
                    <a:lnTo>
                      <a:pt x="827" y="88"/>
                    </a:lnTo>
                    <a:lnTo>
                      <a:pt x="918" y="73"/>
                    </a:lnTo>
                    <a:lnTo>
                      <a:pt x="959" y="65"/>
                    </a:lnTo>
                    <a:lnTo>
                      <a:pt x="997" y="57"/>
                    </a:lnTo>
                    <a:lnTo>
                      <a:pt x="1013" y="52"/>
                    </a:lnTo>
                    <a:lnTo>
                      <a:pt x="1029" y="48"/>
                    </a:lnTo>
                    <a:lnTo>
                      <a:pt x="1042" y="43"/>
                    </a:lnTo>
                    <a:lnTo>
                      <a:pt x="1054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5519880" y="365760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2" h="125">
                    <a:moveTo>
                      <a:pt x="112" y="72"/>
                    </a:moveTo>
                    <a:lnTo>
                      <a:pt x="102" y="70"/>
                    </a:lnTo>
                    <a:lnTo>
                      <a:pt x="145" y="84"/>
                    </a:lnTo>
                    <a:lnTo>
                      <a:pt x="189" y="94"/>
                    </a:lnTo>
                    <a:lnTo>
                      <a:pt x="231" y="103"/>
                    </a:lnTo>
                    <a:lnTo>
                      <a:pt x="272" y="111"/>
                    </a:lnTo>
                    <a:lnTo>
                      <a:pt x="313" y="116"/>
                    </a:lnTo>
                    <a:lnTo>
                      <a:pt x="352" y="120"/>
                    </a:lnTo>
                    <a:lnTo>
                      <a:pt x="391" y="123"/>
                    </a:lnTo>
                    <a:lnTo>
                      <a:pt x="428" y="124"/>
                    </a:lnTo>
                    <a:lnTo>
                      <a:pt x="465" y="125"/>
                    </a:lnTo>
                    <a:lnTo>
                      <a:pt x="500" y="124"/>
                    </a:lnTo>
                    <a:lnTo>
                      <a:pt x="533" y="123"/>
                    </a:lnTo>
                    <a:lnTo>
                      <a:pt x="565" y="121"/>
                    </a:lnTo>
                    <a:lnTo>
                      <a:pt x="622" y="117"/>
                    </a:lnTo>
                    <a:lnTo>
                      <a:pt x="672" y="111"/>
                    </a:lnTo>
                    <a:lnTo>
                      <a:pt x="555" y="38"/>
                    </a:lnTo>
                    <a:lnTo>
                      <a:pt x="506" y="44"/>
                    </a:lnTo>
                    <a:lnTo>
                      <a:pt x="449" y="48"/>
                    </a:lnTo>
                    <a:lnTo>
                      <a:pt x="418" y="51"/>
                    </a:lnTo>
                    <a:lnTo>
                      <a:pt x="385" y="52"/>
                    </a:lnTo>
                    <a:lnTo>
                      <a:pt x="351" y="53"/>
                    </a:lnTo>
                    <a:lnTo>
                      <a:pt x="315" y="52"/>
                    </a:lnTo>
                    <a:lnTo>
                      <a:pt x="278" y="51"/>
                    </a:lnTo>
                    <a:lnTo>
                      <a:pt x="240" y="48"/>
                    </a:lnTo>
                    <a:lnTo>
                      <a:pt x="202" y="44"/>
                    </a:lnTo>
                    <a:lnTo>
                      <a:pt x="164" y="39"/>
                    </a:lnTo>
                    <a:lnTo>
                      <a:pt x="125" y="32"/>
                    </a:lnTo>
                    <a:lnTo>
                      <a:pt x="86" y="24"/>
                    </a:lnTo>
                    <a:lnTo>
                      <a:pt x="47" y="14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12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5316480" y="3657600"/>
                <a:ext cx="238320" cy="63360"/>
              </a:xfrm>
              <a:custGeom>
                <a:avLst/>
                <a:gdLst/>
                <a:ahLst/>
                <a:rect l="l" t="t" r="r" b="b"/>
                <a:pathLst>
                  <a:path w="750" h="203">
                    <a:moveTo>
                      <a:pt x="142" y="132"/>
                    </a:moveTo>
                    <a:lnTo>
                      <a:pt x="256" y="203"/>
                    </a:lnTo>
                    <a:lnTo>
                      <a:pt x="299" y="195"/>
                    </a:lnTo>
                    <a:lnTo>
                      <a:pt x="339" y="187"/>
                    </a:lnTo>
                    <a:lnTo>
                      <a:pt x="375" y="177"/>
                    </a:lnTo>
                    <a:lnTo>
                      <a:pt x="408" y="167"/>
                    </a:lnTo>
                    <a:lnTo>
                      <a:pt x="439" y="155"/>
                    </a:lnTo>
                    <a:lnTo>
                      <a:pt x="468" y="144"/>
                    </a:lnTo>
                    <a:lnTo>
                      <a:pt x="494" y="133"/>
                    </a:lnTo>
                    <a:lnTo>
                      <a:pt x="520" y="121"/>
                    </a:lnTo>
                    <a:lnTo>
                      <a:pt x="545" y="111"/>
                    </a:lnTo>
                    <a:lnTo>
                      <a:pt x="571" y="102"/>
                    </a:lnTo>
                    <a:lnTo>
                      <a:pt x="596" y="93"/>
                    </a:lnTo>
                    <a:lnTo>
                      <a:pt x="624" y="85"/>
                    </a:lnTo>
                    <a:lnTo>
                      <a:pt x="652" y="79"/>
                    </a:lnTo>
                    <a:lnTo>
                      <a:pt x="682" y="76"/>
                    </a:lnTo>
                    <a:lnTo>
                      <a:pt x="698" y="73"/>
                    </a:lnTo>
                    <a:lnTo>
                      <a:pt x="715" y="73"/>
                    </a:lnTo>
                    <a:lnTo>
                      <a:pt x="732" y="73"/>
                    </a:lnTo>
                    <a:lnTo>
                      <a:pt x="750" y="73"/>
                    </a:lnTo>
                    <a:lnTo>
                      <a:pt x="638" y="1"/>
                    </a:lnTo>
                    <a:lnTo>
                      <a:pt x="618" y="0"/>
                    </a:lnTo>
                    <a:lnTo>
                      <a:pt x="600" y="1"/>
                    </a:lnTo>
                    <a:lnTo>
                      <a:pt x="583" y="1"/>
                    </a:lnTo>
                    <a:lnTo>
                      <a:pt x="566" y="4"/>
                    </a:lnTo>
                    <a:lnTo>
                      <a:pt x="535" y="7"/>
                    </a:lnTo>
                    <a:lnTo>
                      <a:pt x="506" y="14"/>
                    </a:lnTo>
                    <a:lnTo>
                      <a:pt x="479" y="21"/>
                    </a:lnTo>
                    <a:lnTo>
                      <a:pt x="453" y="30"/>
                    </a:lnTo>
                    <a:lnTo>
                      <a:pt x="427" y="40"/>
                    </a:lnTo>
                    <a:lnTo>
                      <a:pt x="402" y="51"/>
                    </a:lnTo>
                    <a:lnTo>
                      <a:pt x="375" y="62"/>
                    </a:lnTo>
                    <a:lnTo>
                      <a:pt x="348" y="72"/>
                    </a:lnTo>
                    <a:lnTo>
                      <a:pt x="319" y="84"/>
                    </a:lnTo>
                    <a:lnTo>
                      <a:pt x="290" y="95"/>
                    </a:lnTo>
                    <a:lnTo>
                      <a:pt x="257" y="105"/>
                    </a:lnTo>
                    <a:lnTo>
                      <a:pt x="221" y="116"/>
                    </a:lnTo>
                    <a:lnTo>
                      <a:pt x="182" y="124"/>
                    </a:lnTo>
                    <a:lnTo>
                      <a:pt x="138" y="132"/>
                    </a:lnTo>
                    <a:lnTo>
                      <a:pt x="252" y="203"/>
                    </a:lnTo>
                    <a:lnTo>
                      <a:pt x="138" y="132"/>
                    </a:lnTo>
                    <a:lnTo>
                      <a:pt x="0" y="167"/>
                    </a:lnTo>
                    <a:lnTo>
                      <a:pt x="252" y="203"/>
                    </a:lnTo>
                    <a:lnTo>
                      <a:pt x="142" y="13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5362560" y="3699000"/>
                <a:ext cx="190440" cy="44280"/>
              </a:xfrm>
              <a:custGeom>
                <a:avLst/>
                <a:gdLst/>
                <a:ahLst/>
                <a:rect l="l" t="t" r="r" b="b"/>
                <a:pathLst>
                  <a:path w="603" h="140">
                    <a:moveTo>
                      <a:pt x="482" y="59"/>
                    </a:moveTo>
                    <a:lnTo>
                      <a:pt x="483" y="58"/>
                    </a:lnTo>
                    <a:lnTo>
                      <a:pt x="467" y="61"/>
                    </a:lnTo>
                    <a:lnTo>
                      <a:pt x="451" y="63"/>
                    </a:lnTo>
                    <a:lnTo>
                      <a:pt x="434" y="66"/>
                    </a:lnTo>
                    <a:lnTo>
                      <a:pt x="419" y="67"/>
                    </a:lnTo>
                    <a:lnTo>
                      <a:pt x="387" y="68"/>
                    </a:lnTo>
                    <a:lnTo>
                      <a:pt x="356" y="67"/>
                    </a:lnTo>
                    <a:lnTo>
                      <a:pt x="326" y="66"/>
                    </a:lnTo>
                    <a:lnTo>
                      <a:pt x="296" y="61"/>
                    </a:lnTo>
                    <a:lnTo>
                      <a:pt x="266" y="57"/>
                    </a:lnTo>
                    <a:lnTo>
                      <a:pt x="238" y="51"/>
                    </a:lnTo>
                    <a:lnTo>
                      <a:pt x="180" y="37"/>
                    </a:lnTo>
                    <a:lnTo>
                      <a:pt x="120" y="22"/>
                    </a:lnTo>
                    <a:lnTo>
                      <a:pt x="91" y="16"/>
                    </a:lnTo>
                    <a:lnTo>
                      <a:pt x="60" y="10"/>
                    </a:lnTo>
                    <a:lnTo>
                      <a:pt x="30" y="4"/>
                    </a:lnTo>
                    <a:lnTo>
                      <a:pt x="0" y="0"/>
                    </a:lnTo>
                    <a:lnTo>
                      <a:pt x="110" y="71"/>
                    </a:lnTo>
                    <a:lnTo>
                      <a:pt x="139" y="76"/>
                    </a:lnTo>
                    <a:lnTo>
                      <a:pt x="167" y="81"/>
                    </a:lnTo>
                    <a:lnTo>
                      <a:pt x="196" y="87"/>
                    </a:lnTo>
                    <a:lnTo>
                      <a:pt x="224" y="93"/>
                    </a:lnTo>
                    <a:lnTo>
                      <a:pt x="282" y="108"/>
                    </a:lnTo>
                    <a:lnTo>
                      <a:pt x="343" y="122"/>
                    </a:lnTo>
                    <a:lnTo>
                      <a:pt x="375" y="128"/>
                    </a:lnTo>
                    <a:lnTo>
                      <a:pt x="405" y="133"/>
                    </a:lnTo>
                    <a:lnTo>
                      <a:pt x="437" y="138"/>
                    </a:lnTo>
                    <a:lnTo>
                      <a:pt x="469" y="140"/>
                    </a:lnTo>
                    <a:lnTo>
                      <a:pt x="501" y="140"/>
                    </a:lnTo>
                    <a:lnTo>
                      <a:pt x="534" y="139"/>
                    </a:lnTo>
                    <a:lnTo>
                      <a:pt x="550" y="138"/>
                    </a:lnTo>
                    <a:lnTo>
                      <a:pt x="567" y="135"/>
                    </a:lnTo>
                    <a:lnTo>
                      <a:pt x="584" y="133"/>
                    </a:lnTo>
                    <a:lnTo>
                      <a:pt x="602" y="130"/>
                    </a:lnTo>
                    <a:lnTo>
                      <a:pt x="603" y="127"/>
                    </a:lnTo>
                    <a:lnTo>
                      <a:pt x="602" y="130"/>
                    </a:lnTo>
                    <a:lnTo>
                      <a:pt x="603" y="128"/>
                    </a:lnTo>
                    <a:lnTo>
                      <a:pt x="603" y="127"/>
                    </a:lnTo>
                    <a:lnTo>
                      <a:pt x="482" y="5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5514840" y="3664080"/>
                <a:ext cx="252720" cy="75960"/>
              </a:xfrm>
              <a:custGeom>
                <a:avLst/>
                <a:gdLst/>
                <a:ahLst/>
                <a:rect l="l" t="t" r="r" b="b"/>
                <a:pathLst>
                  <a:path w="793" h="236">
                    <a:moveTo>
                      <a:pt x="686" y="89"/>
                    </a:moveTo>
                    <a:lnTo>
                      <a:pt x="568" y="17"/>
                    </a:lnTo>
                    <a:lnTo>
                      <a:pt x="556" y="22"/>
                    </a:lnTo>
                    <a:lnTo>
                      <a:pt x="542" y="26"/>
                    </a:lnTo>
                    <a:lnTo>
                      <a:pt x="527" y="31"/>
                    </a:lnTo>
                    <a:lnTo>
                      <a:pt x="511" y="36"/>
                    </a:lnTo>
                    <a:lnTo>
                      <a:pt x="473" y="43"/>
                    </a:lnTo>
                    <a:lnTo>
                      <a:pt x="432" y="50"/>
                    </a:lnTo>
                    <a:lnTo>
                      <a:pt x="341" y="65"/>
                    </a:lnTo>
                    <a:lnTo>
                      <a:pt x="246" y="80"/>
                    </a:lnTo>
                    <a:lnTo>
                      <a:pt x="199" y="88"/>
                    </a:lnTo>
                    <a:lnTo>
                      <a:pt x="156" y="96"/>
                    </a:lnTo>
                    <a:lnTo>
                      <a:pt x="115" y="105"/>
                    </a:lnTo>
                    <a:lnTo>
                      <a:pt x="80" y="115"/>
                    </a:lnTo>
                    <a:lnTo>
                      <a:pt x="63" y="120"/>
                    </a:lnTo>
                    <a:lnTo>
                      <a:pt x="48" y="126"/>
                    </a:lnTo>
                    <a:lnTo>
                      <a:pt x="35" y="132"/>
                    </a:lnTo>
                    <a:lnTo>
                      <a:pt x="24" y="138"/>
                    </a:lnTo>
                    <a:lnTo>
                      <a:pt x="15" y="145"/>
                    </a:lnTo>
                    <a:lnTo>
                      <a:pt x="8" y="152"/>
                    </a:lnTo>
                    <a:lnTo>
                      <a:pt x="4" y="156"/>
                    </a:lnTo>
                    <a:lnTo>
                      <a:pt x="2" y="160"/>
                    </a:lnTo>
                    <a:lnTo>
                      <a:pt x="1" y="164"/>
                    </a:lnTo>
                    <a:lnTo>
                      <a:pt x="0" y="168"/>
                    </a:lnTo>
                    <a:lnTo>
                      <a:pt x="121" y="236"/>
                    </a:lnTo>
                    <a:lnTo>
                      <a:pt x="122" y="233"/>
                    </a:lnTo>
                    <a:lnTo>
                      <a:pt x="123" y="229"/>
                    </a:lnTo>
                    <a:lnTo>
                      <a:pt x="125" y="226"/>
                    </a:lnTo>
                    <a:lnTo>
                      <a:pt x="128" y="223"/>
                    </a:lnTo>
                    <a:lnTo>
                      <a:pt x="134" y="216"/>
                    </a:lnTo>
                    <a:lnTo>
                      <a:pt x="143" y="209"/>
                    </a:lnTo>
                    <a:lnTo>
                      <a:pt x="155" y="203"/>
                    </a:lnTo>
                    <a:lnTo>
                      <a:pt x="167" y="198"/>
                    </a:lnTo>
                    <a:lnTo>
                      <a:pt x="181" y="192"/>
                    </a:lnTo>
                    <a:lnTo>
                      <a:pt x="197" y="187"/>
                    </a:lnTo>
                    <a:lnTo>
                      <a:pt x="234" y="177"/>
                    </a:lnTo>
                    <a:lnTo>
                      <a:pt x="273" y="168"/>
                    </a:lnTo>
                    <a:lnTo>
                      <a:pt x="317" y="160"/>
                    </a:lnTo>
                    <a:lnTo>
                      <a:pt x="364" y="152"/>
                    </a:lnTo>
                    <a:lnTo>
                      <a:pt x="458" y="137"/>
                    </a:lnTo>
                    <a:lnTo>
                      <a:pt x="549" y="122"/>
                    </a:lnTo>
                    <a:lnTo>
                      <a:pt x="590" y="115"/>
                    </a:lnTo>
                    <a:lnTo>
                      <a:pt x="628" y="107"/>
                    </a:lnTo>
                    <a:lnTo>
                      <a:pt x="645" y="103"/>
                    </a:lnTo>
                    <a:lnTo>
                      <a:pt x="661" y="98"/>
                    </a:lnTo>
                    <a:lnTo>
                      <a:pt x="675" y="94"/>
                    </a:lnTo>
                    <a:lnTo>
                      <a:pt x="687" y="88"/>
                    </a:lnTo>
                    <a:lnTo>
                      <a:pt x="569" y="16"/>
                    </a:lnTo>
                    <a:lnTo>
                      <a:pt x="687" y="88"/>
                    </a:lnTo>
                    <a:lnTo>
                      <a:pt x="793" y="0"/>
                    </a:lnTo>
                    <a:lnTo>
                      <a:pt x="569" y="16"/>
                    </a:lnTo>
                    <a:lnTo>
                      <a:pt x="686" y="8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3726000" y="3917880"/>
                <a:ext cx="334800" cy="63720"/>
              </a:xfrm>
              <a:custGeom>
                <a:avLst/>
                <a:gdLst/>
                <a:ahLst/>
                <a:rect l="l" t="t" r="r" b="b"/>
                <a:pathLst>
                  <a:path w="1053" h="198">
                    <a:moveTo>
                      <a:pt x="0" y="39"/>
                    </a:moveTo>
                    <a:lnTo>
                      <a:pt x="49" y="44"/>
                    </a:lnTo>
                    <a:lnTo>
                      <a:pt x="106" y="49"/>
                    </a:lnTo>
                    <a:lnTo>
                      <a:pt x="138" y="50"/>
                    </a:lnTo>
                    <a:lnTo>
                      <a:pt x="171" y="52"/>
                    </a:lnTo>
                    <a:lnTo>
                      <a:pt x="205" y="52"/>
                    </a:lnTo>
                    <a:lnTo>
                      <a:pt x="242" y="52"/>
                    </a:lnTo>
                    <a:lnTo>
                      <a:pt x="278" y="50"/>
                    </a:lnTo>
                    <a:lnTo>
                      <a:pt x="316" y="48"/>
                    </a:lnTo>
                    <a:lnTo>
                      <a:pt x="356" y="44"/>
                    </a:lnTo>
                    <a:lnTo>
                      <a:pt x="394" y="39"/>
                    </a:lnTo>
                    <a:lnTo>
                      <a:pt x="435" y="32"/>
                    </a:lnTo>
                    <a:lnTo>
                      <a:pt x="475" y="23"/>
                    </a:lnTo>
                    <a:lnTo>
                      <a:pt x="516" y="12"/>
                    </a:lnTo>
                    <a:lnTo>
                      <a:pt x="557" y="0"/>
                    </a:lnTo>
                    <a:lnTo>
                      <a:pt x="576" y="0"/>
                    </a:lnTo>
                    <a:lnTo>
                      <a:pt x="593" y="0"/>
                    </a:lnTo>
                    <a:lnTo>
                      <a:pt x="610" y="1"/>
                    </a:lnTo>
                    <a:lnTo>
                      <a:pt x="626" y="2"/>
                    </a:lnTo>
                    <a:lnTo>
                      <a:pt x="656" y="7"/>
                    </a:lnTo>
                    <a:lnTo>
                      <a:pt x="686" y="12"/>
                    </a:lnTo>
                    <a:lnTo>
                      <a:pt x="712" y="19"/>
                    </a:lnTo>
                    <a:lnTo>
                      <a:pt x="739" y="28"/>
                    </a:lnTo>
                    <a:lnTo>
                      <a:pt x="764" y="39"/>
                    </a:lnTo>
                    <a:lnTo>
                      <a:pt x="790" y="49"/>
                    </a:lnTo>
                    <a:lnTo>
                      <a:pt x="816" y="60"/>
                    </a:lnTo>
                    <a:lnTo>
                      <a:pt x="842" y="72"/>
                    </a:lnTo>
                    <a:lnTo>
                      <a:pt x="871" y="82"/>
                    </a:lnTo>
                    <a:lnTo>
                      <a:pt x="902" y="93"/>
                    </a:lnTo>
                    <a:lnTo>
                      <a:pt x="935" y="104"/>
                    </a:lnTo>
                    <a:lnTo>
                      <a:pt x="971" y="114"/>
                    </a:lnTo>
                    <a:lnTo>
                      <a:pt x="1010" y="123"/>
                    </a:lnTo>
                    <a:lnTo>
                      <a:pt x="1053" y="130"/>
                    </a:lnTo>
                    <a:lnTo>
                      <a:pt x="1025" y="134"/>
                    </a:lnTo>
                    <a:lnTo>
                      <a:pt x="995" y="140"/>
                    </a:lnTo>
                    <a:lnTo>
                      <a:pt x="965" y="146"/>
                    </a:lnTo>
                    <a:lnTo>
                      <a:pt x="937" y="153"/>
                    </a:lnTo>
                    <a:lnTo>
                      <a:pt x="878" y="167"/>
                    </a:lnTo>
                    <a:lnTo>
                      <a:pt x="818" y="181"/>
                    </a:lnTo>
                    <a:lnTo>
                      <a:pt x="788" y="187"/>
                    </a:lnTo>
                    <a:lnTo>
                      <a:pt x="758" y="191"/>
                    </a:lnTo>
                    <a:lnTo>
                      <a:pt x="727" y="196"/>
                    </a:lnTo>
                    <a:lnTo>
                      <a:pt x="695" y="198"/>
                    </a:lnTo>
                    <a:lnTo>
                      <a:pt x="664" y="198"/>
                    </a:lnTo>
                    <a:lnTo>
                      <a:pt x="633" y="197"/>
                    </a:lnTo>
                    <a:lnTo>
                      <a:pt x="615" y="196"/>
                    </a:lnTo>
                    <a:lnTo>
                      <a:pt x="599" y="194"/>
                    </a:lnTo>
                    <a:lnTo>
                      <a:pt x="584" y="191"/>
                    </a:lnTo>
                    <a:lnTo>
                      <a:pt x="566" y="188"/>
                    </a:lnTo>
                    <a:lnTo>
                      <a:pt x="564" y="180"/>
                    </a:lnTo>
                    <a:lnTo>
                      <a:pt x="558" y="173"/>
                    </a:lnTo>
                    <a:lnTo>
                      <a:pt x="552" y="166"/>
                    </a:lnTo>
                    <a:lnTo>
                      <a:pt x="542" y="159"/>
                    </a:lnTo>
                    <a:lnTo>
                      <a:pt x="531" y="154"/>
                    </a:lnTo>
                    <a:lnTo>
                      <a:pt x="519" y="147"/>
                    </a:lnTo>
                    <a:lnTo>
                      <a:pt x="504" y="142"/>
                    </a:lnTo>
                    <a:lnTo>
                      <a:pt x="488" y="137"/>
                    </a:lnTo>
                    <a:lnTo>
                      <a:pt x="452" y="126"/>
                    </a:lnTo>
                    <a:lnTo>
                      <a:pt x="411" y="117"/>
                    </a:lnTo>
                    <a:lnTo>
                      <a:pt x="368" y="109"/>
                    </a:lnTo>
                    <a:lnTo>
                      <a:pt x="321" y="101"/>
                    </a:lnTo>
                    <a:lnTo>
                      <a:pt x="227" y="86"/>
                    </a:lnTo>
                    <a:lnTo>
                      <a:pt x="135" y="73"/>
                    </a:lnTo>
                    <a:lnTo>
                      <a:pt x="94" y="65"/>
                    </a:lnTo>
                    <a:lnTo>
                      <a:pt x="57" y="57"/>
                    </a:lnTo>
                    <a:lnTo>
                      <a:pt x="41" y="52"/>
                    </a:lnTo>
                    <a:lnTo>
                      <a:pt x="25" y="48"/>
                    </a:lnTo>
                    <a:lnTo>
                      <a:pt x="11" y="43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3708360" y="3906720"/>
                <a:ext cx="212760" cy="39960"/>
              </a:xfrm>
              <a:custGeom>
                <a:avLst/>
                <a:gdLst/>
                <a:ahLst/>
                <a:rect l="l" t="t" r="r" b="b"/>
                <a:pathLst>
                  <a:path w="671" h="126">
                    <a:moveTo>
                      <a:pt x="555" y="0"/>
                    </a:moveTo>
                    <a:lnTo>
                      <a:pt x="554" y="1"/>
                    </a:lnTo>
                    <a:lnTo>
                      <a:pt x="513" y="14"/>
                    </a:lnTo>
                    <a:lnTo>
                      <a:pt x="472" y="24"/>
                    </a:lnTo>
                    <a:lnTo>
                      <a:pt x="432" y="32"/>
                    </a:lnTo>
                    <a:lnTo>
                      <a:pt x="392" y="39"/>
                    </a:lnTo>
                    <a:lnTo>
                      <a:pt x="353" y="45"/>
                    </a:lnTo>
                    <a:lnTo>
                      <a:pt x="313" y="48"/>
                    </a:lnTo>
                    <a:lnTo>
                      <a:pt x="276" y="52"/>
                    </a:lnTo>
                    <a:lnTo>
                      <a:pt x="239" y="53"/>
                    </a:lnTo>
                    <a:lnTo>
                      <a:pt x="204" y="53"/>
                    </a:lnTo>
                    <a:lnTo>
                      <a:pt x="170" y="53"/>
                    </a:lnTo>
                    <a:lnTo>
                      <a:pt x="137" y="52"/>
                    </a:lnTo>
                    <a:lnTo>
                      <a:pt x="106" y="49"/>
                    </a:lnTo>
                    <a:lnTo>
                      <a:pt x="49" y="45"/>
                    </a:lnTo>
                    <a:lnTo>
                      <a:pt x="0" y="39"/>
                    </a:lnTo>
                    <a:lnTo>
                      <a:pt x="111" y="111"/>
                    </a:lnTo>
                    <a:lnTo>
                      <a:pt x="161" y="117"/>
                    </a:lnTo>
                    <a:lnTo>
                      <a:pt x="218" y="121"/>
                    </a:lnTo>
                    <a:lnTo>
                      <a:pt x="250" y="123"/>
                    </a:lnTo>
                    <a:lnTo>
                      <a:pt x="283" y="125"/>
                    </a:lnTo>
                    <a:lnTo>
                      <a:pt x="318" y="126"/>
                    </a:lnTo>
                    <a:lnTo>
                      <a:pt x="355" y="125"/>
                    </a:lnTo>
                    <a:lnTo>
                      <a:pt x="392" y="123"/>
                    </a:lnTo>
                    <a:lnTo>
                      <a:pt x="430" y="121"/>
                    </a:lnTo>
                    <a:lnTo>
                      <a:pt x="470" y="117"/>
                    </a:lnTo>
                    <a:lnTo>
                      <a:pt x="510" y="111"/>
                    </a:lnTo>
                    <a:lnTo>
                      <a:pt x="549" y="104"/>
                    </a:lnTo>
                    <a:lnTo>
                      <a:pt x="590" y="96"/>
                    </a:lnTo>
                    <a:lnTo>
                      <a:pt x="632" y="85"/>
                    </a:lnTo>
                    <a:lnTo>
                      <a:pt x="671" y="72"/>
                    </a:lnTo>
                    <a:lnTo>
                      <a:pt x="670" y="73"/>
                    </a:lnTo>
                    <a:lnTo>
                      <a:pt x="555" y="0"/>
                    </a:lnTo>
                    <a:lnTo>
                      <a:pt x="554" y="0"/>
                    </a:lnTo>
                    <a:lnTo>
                      <a:pt x="554" y="1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3884760" y="3906720"/>
                <a:ext cx="242640" cy="63720"/>
              </a:xfrm>
              <a:custGeom>
                <a:avLst/>
                <a:gdLst/>
                <a:ahLst/>
                <a:rect l="l" t="t" r="r" b="b"/>
                <a:pathLst>
                  <a:path w="766" h="203">
                    <a:moveTo>
                      <a:pt x="613" y="203"/>
                    </a:moveTo>
                    <a:lnTo>
                      <a:pt x="499" y="131"/>
                    </a:lnTo>
                    <a:lnTo>
                      <a:pt x="457" y="123"/>
                    </a:lnTo>
                    <a:lnTo>
                      <a:pt x="421" y="115"/>
                    </a:lnTo>
                    <a:lnTo>
                      <a:pt x="387" y="106"/>
                    </a:lnTo>
                    <a:lnTo>
                      <a:pt x="357" y="97"/>
                    </a:lnTo>
                    <a:lnTo>
                      <a:pt x="331" y="88"/>
                    </a:lnTo>
                    <a:lnTo>
                      <a:pt x="307" y="78"/>
                    </a:lnTo>
                    <a:lnTo>
                      <a:pt x="283" y="68"/>
                    </a:lnTo>
                    <a:lnTo>
                      <a:pt x="256" y="56"/>
                    </a:lnTo>
                    <a:lnTo>
                      <a:pt x="227" y="45"/>
                    </a:lnTo>
                    <a:lnTo>
                      <a:pt x="196" y="32"/>
                    </a:lnTo>
                    <a:lnTo>
                      <a:pt x="165" y="22"/>
                    </a:lnTo>
                    <a:lnTo>
                      <a:pt x="135" y="14"/>
                    </a:lnTo>
                    <a:lnTo>
                      <a:pt x="104" y="7"/>
                    </a:lnTo>
                    <a:lnTo>
                      <a:pt x="72" y="3"/>
                    </a:lnTo>
                    <a:lnTo>
                      <a:pt x="55" y="1"/>
                    </a:lnTo>
                    <a:lnTo>
                      <a:pt x="37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115" y="73"/>
                    </a:lnTo>
                    <a:lnTo>
                      <a:pt x="134" y="72"/>
                    </a:lnTo>
                    <a:lnTo>
                      <a:pt x="151" y="73"/>
                    </a:lnTo>
                    <a:lnTo>
                      <a:pt x="168" y="73"/>
                    </a:lnTo>
                    <a:lnTo>
                      <a:pt x="183" y="74"/>
                    </a:lnTo>
                    <a:lnTo>
                      <a:pt x="212" y="79"/>
                    </a:lnTo>
                    <a:lnTo>
                      <a:pt x="238" y="85"/>
                    </a:lnTo>
                    <a:lnTo>
                      <a:pt x="261" y="90"/>
                    </a:lnTo>
                    <a:lnTo>
                      <a:pt x="283" y="98"/>
                    </a:lnTo>
                    <a:lnTo>
                      <a:pt x="303" y="106"/>
                    </a:lnTo>
                    <a:lnTo>
                      <a:pt x="326" y="115"/>
                    </a:lnTo>
                    <a:lnTo>
                      <a:pt x="351" y="126"/>
                    </a:lnTo>
                    <a:lnTo>
                      <a:pt x="381" y="138"/>
                    </a:lnTo>
                    <a:lnTo>
                      <a:pt x="413" y="151"/>
                    </a:lnTo>
                    <a:lnTo>
                      <a:pt x="448" y="163"/>
                    </a:lnTo>
                    <a:lnTo>
                      <a:pt x="485" y="176"/>
                    </a:lnTo>
                    <a:lnTo>
                      <a:pt x="523" y="186"/>
                    </a:lnTo>
                    <a:lnTo>
                      <a:pt x="564" y="195"/>
                    </a:lnTo>
                    <a:lnTo>
                      <a:pt x="609" y="203"/>
                    </a:lnTo>
                    <a:lnTo>
                      <a:pt x="496" y="131"/>
                    </a:lnTo>
                    <a:lnTo>
                      <a:pt x="613" y="203"/>
                    </a:lnTo>
                    <a:lnTo>
                      <a:pt x="766" y="177"/>
                    </a:lnTo>
                    <a:lnTo>
                      <a:pt x="499" y="131"/>
                    </a:lnTo>
                    <a:lnTo>
                      <a:pt x="613" y="20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3886200" y="3948120"/>
                <a:ext cx="193680" cy="44280"/>
              </a:xfrm>
              <a:custGeom>
                <a:avLst/>
                <a:gdLst/>
                <a:ahLst/>
                <a:rect l="l" t="t" r="r" b="b"/>
                <a:pathLst>
                  <a:path w="606" h="141">
                    <a:moveTo>
                      <a:pt x="0" y="61"/>
                    </a:moveTo>
                    <a:lnTo>
                      <a:pt x="113" y="129"/>
                    </a:lnTo>
                    <a:lnTo>
                      <a:pt x="131" y="133"/>
                    </a:lnTo>
                    <a:lnTo>
                      <a:pt x="148" y="136"/>
                    </a:lnTo>
                    <a:lnTo>
                      <a:pt x="165" y="139"/>
                    </a:lnTo>
                    <a:lnTo>
                      <a:pt x="182" y="140"/>
                    </a:lnTo>
                    <a:lnTo>
                      <a:pt x="215" y="141"/>
                    </a:lnTo>
                    <a:lnTo>
                      <a:pt x="247" y="140"/>
                    </a:lnTo>
                    <a:lnTo>
                      <a:pt x="279" y="137"/>
                    </a:lnTo>
                    <a:lnTo>
                      <a:pt x="310" y="134"/>
                    </a:lnTo>
                    <a:lnTo>
                      <a:pt x="341" y="129"/>
                    </a:lnTo>
                    <a:lnTo>
                      <a:pt x="370" y="123"/>
                    </a:lnTo>
                    <a:lnTo>
                      <a:pt x="431" y="109"/>
                    </a:lnTo>
                    <a:lnTo>
                      <a:pt x="489" y="95"/>
                    </a:lnTo>
                    <a:lnTo>
                      <a:pt x="519" y="88"/>
                    </a:lnTo>
                    <a:lnTo>
                      <a:pt x="547" y="81"/>
                    </a:lnTo>
                    <a:lnTo>
                      <a:pt x="577" y="77"/>
                    </a:lnTo>
                    <a:lnTo>
                      <a:pt x="606" y="72"/>
                    </a:lnTo>
                    <a:lnTo>
                      <a:pt x="489" y="0"/>
                    </a:lnTo>
                    <a:lnTo>
                      <a:pt x="459" y="4"/>
                    </a:lnTo>
                    <a:lnTo>
                      <a:pt x="430" y="10"/>
                    </a:lnTo>
                    <a:lnTo>
                      <a:pt x="401" y="16"/>
                    </a:lnTo>
                    <a:lnTo>
                      <a:pt x="372" y="23"/>
                    </a:lnTo>
                    <a:lnTo>
                      <a:pt x="312" y="37"/>
                    </a:lnTo>
                    <a:lnTo>
                      <a:pt x="253" y="51"/>
                    </a:lnTo>
                    <a:lnTo>
                      <a:pt x="223" y="56"/>
                    </a:lnTo>
                    <a:lnTo>
                      <a:pt x="193" y="62"/>
                    </a:lnTo>
                    <a:lnTo>
                      <a:pt x="163" y="65"/>
                    </a:lnTo>
                    <a:lnTo>
                      <a:pt x="132" y="68"/>
                    </a:lnTo>
                    <a:lnTo>
                      <a:pt x="101" y="69"/>
                    </a:lnTo>
                    <a:lnTo>
                      <a:pt x="70" y="68"/>
                    </a:lnTo>
                    <a:lnTo>
                      <a:pt x="55" y="67"/>
                    </a:lnTo>
                    <a:lnTo>
                      <a:pt x="39" y="64"/>
                    </a:lnTo>
                    <a:lnTo>
                      <a:pt x="23" y="62"/>
                    </a:lnTo>
                    <a:lnTo>
                      <a:pt x="8" y="59"/>
                    </a:lnTo>
                    <a:lnTo>
                      <a:pt x="121" y="128"/>
                    </a:lnTo>
                    <a:lnTo>
                      <a:pt x="0" y="61"/>
                    </a:lnTo>
                    <a:lnTo>
                      <a:pt x="7" y="105"/>
                    </a:lnTo>
                    <a:lnTo>
                      <a:pt x="113" y="129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3684600" y="3916440"/>
                <a:ext cx="241200" cy="73080"/>
              </a:xfrm>
              <a:custGeom>
                <a:avLst/>
                <a:gdLst/>
                <a:ahLst/>
                <a:rect l="l" t="t" r="r" b="b"/>
                <a:pathLst>
                  <a:path w="757" h="228">
                    <a:moveTo>
                      <a:pt x="74" y="8"/>
                    </a:moveTo>
                    <a:lnTo>
                      <a:pt x="159" y="72"/>
                    </a:lnTo>
                    <a:lnTo>
                      <a:pt x="183" y="81"/>
                    </a:lnTo>
                    <a:lnTo>
                      <a:pt x="203" y="88"/>
                    </a:lnTo>
                    <a:lnTo>
                      <a:pt x="220" y="94"/>
                    </a:lnTo>
                    <a:lnTo>
                      <a:pt x="239" y="98"/>
                    </a:lnTo>
                    <a:lnTo>
                      <a:pt x="278" y="106"/>
                    </a:lnTo>
                    <a:lnTo>
                      <a:pt x="320" y="114"/>
                    </a:lnTo>
                    <a:lnTo>
                      <a:pt x="411" y="129"/>
                    </a:lnTo>
                    <a:lnTo>
                      <a:pt x="506" y="144"/>
                    </a:lnTo>
                    <a:lnTo>
                      <a:pt x="552" y="151"/>
                    </a:lnTo>
                    <a:lnTo>
                      <a:pt x="595" y="159"/>
                    </a:lnTo>
                    <a:lnTo>
                      <a:pt x="634" y="168"/>
                    </a:lnTo>
                    <a:lnTo>
                      <a:pt x="667" y="177"/>
                    </a:lnTo>
                    <a:lnTo>
                      <a:pt x="677" y="180"/>
                    </a:lnTo>
                    <a:lnTo>
                      <a:pt x="684" y="183"/>
                    </a:lnTo>
                    <a:lnTo>
                      <a:pt x="678" y="180"/>
                    </a:lnTo>
                    <a:lnTo>
                      <a:pt x="652" y="165"/>
                    </a:lnTo>
                    <a:lnTo>
                      <a:pt x="633" y="152"/>
                    </a:lnTo>
                    <a:lnTo>
                      <a:pt x="631" y="151"/>
                    </a:lnTo>
                    <a:lnTo>
                      <a:pt x="634" y="154"/>
                    </a:lnTo>
                    <a:lnTo>
                      <a:pt x="636" y="161"/>
                    </a:lnTo>
                    <a:lnTo>
                      <a:pt x="757" y="228"/>
                    </a:lnTo>
                    <a:lnTo>
                      <a:pt x="753" y="218"/>
                    </a:lnTo>
                    <a:lnTo>
                      <a:pt x="747" y="208"/>
                    </a:lnTo>
                    <a:lnTo>
                      <a:pt x="731" y="193"/>
                    </a:lnTo>
                    <a:lnTo>
                      <a:pt x="693" y="165"/>
                    </a:lnTo>
                    <a:lnTo>
                      <a:pt x="645" y="139"/>
                    </a:lnTo>
                    <a:lnTo>
                      <a:pt x="614" y="124"/>
                    </a:lnTo>
                    <a:lnTo>
                      <a:pt x="592" y="115"/>
                    </a:lnTo>
                    <a:lnTo>
                      <a:pt x="570" y="108"/>
                    </a:lnTo>
                    <a:lnTo>
                      <a:pt x="531" y="97"/>
                    </a:lnTo>
                    <a:lnTo>
                      <a:pt x="489" y="88"/>
                    </a:lnTo>
                    <a:lnTo>
                      <a:pt x="444" y="80"/>
                    </a:lnTo>
                    <a:lnTo>
                      <a:pt x="398" y="72"/>
                    </a:lnTo>
                    <a:lnTo>
                      <a:pt x="302" y="57"/>
                    </a:lnTo>
                    <a:lnTo>
                      <a:pt x="212" y="42"/>
                    </a:lnTo>
                    <a:lnTo>
                      <a:pt x="171" y="35"/>
                    </a:lnTo>
                    <a:lnTo>
                      <a:pt x="136" y="27"/>
                    </a:lnTo>
                    <a:lnTo>
                      <a:pt x="121" y="24"/>
                    </a:lnTo>
                    <a:lnTo>
                      <a:pt x="108" y="19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85" y="80"/>
                    </a:lnTo>
                    <a:lnTo>
                      <a:pt x="74" y="8"/>
                    </a:lnTo>
                    <a:lnTo>
                      <a:pt x="0" y="0"/>
                    </a:lnTo>
                    <a:lnTo>
                      <a:pt x="159" y="72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5475240" y="3929040"/>
                <a:ext cx="277920" cy="28440"/>
              </a:xfrm>
              <a:custGeom>
                <a:avLst/>
                <a:gdLst/>
                <a:ahLst/>
                <a:rect l="l" t="t" r="r" b="b"/>
                <a:pathLst>
                  <a:path w="878" h="89">
                    <a:moveTo>
                      <a:pt x="878" y="39"/>
                    </a:moveTo>
                    <a:lnTo>
                      <a:pt x="829" y="44"/>
                    </a:lnTo>
                    <a:lnTo>
                      <a:pt x="772" y="49"/>
                    </a:lnTo>
                    <a:lnTo>
                      <a:pt x="740" y="51"/>
                    </a:lnTo>
                    <a:lnTo>
                      <a:pt x="707" y="52"/>
                    </a:lnTo>
                    <a:lnTo>
                      <a:pt x="673" y="53"/>
                    </a:lnTo>
                    <a:lnTo>
                      <a:pt x="636" y="52"/>
                    </a:lnTo>
                    <a:lnTo>
                      <a:pt x="600" y="51"/>
                    </a:lnTo>
                    <a:lnTo>
                      <a:pt x="561" y="49"/>
                    </a:lnTo>
                    <a:lnTo>
                      <a:pt x="522" y="44"/>
                    </a:lnTo>
                    <a:lnTo>
                      <a:pt x="482" y="40"/>
                    </a:lnTo>
                    <a:lnTo>
                      <a:pt x="442" y="32"/>
                    </a:lnTo>
                    <a:lnTo>
                      <a:pt x="403" y="24"/>
                    </a:lnTo>
                    <a:lnTo>
                      <a:pt x="362" y="14"/>
                    </a:lnTo>
                    <a:lnTo>
                      <a:pt x="321" y="1"/>
                    </a:lnTo>
                    <a:lnTo>
                      <a:pt x="295" y="0"/>
                    </a:lnTo>
                    <a:lnTo>
                      <a:pt x="271" y="1"/>
                    </a:lnTo>
                    <a:lnTo>
                      <a:pt x="249" y="3"/>
                    </a:lnTo>
                    <a:lnTo>
                      <a:pt x="227" y="6"/>
                    </a:lnTo>
                    <a:lnTo>
                      <a:pt x="207" y="10"/>
                    </a:lnTo>
                    <a:lnTo>
                      <a:pt x="186" y="15"/>
                    </a:lnTo>
                    <a:lnTo>
                      <a:pt x="168" y="19"/>
                    </a:lnTo>
                    <a:lnTo>
                      <a:pt x="150" y="25"/>
                    </a:lnTo>
                    <a:lnTo>
                      <a:pt x="113" y="39"/>
                    </a:lnTo>
                    <a:lnTo>
                      <a:pt x="78" y="53"/>
                    </a:lnTo>
                    <a:lnTo>
                      <a:pt x="40" y="69"/>
                    </a:lnTo>
                    <a:lnTo>
                      <a:pt x="0" y="85"/>
                    </a:lnTo>
                    <a:lnTo>
                      <a:pt x="83" y="85"/>
                    </a:lnTo>
                    <a:lnTo>
                      <a:pt x="164" y="85"/>
                    </a:lnTo>
                    <a:lnTo>
                      <a:pt x="245" y="87"/>
                    </a:lnTo>
                    <a:lnTo>
                      <a:pt x="326" y="87"/>
                    </a:lnTo>
                    <a:lnTo>
                      <a:pt x="406" y="88"/>
                    </a:lnTo>
                    <a:lnTo>
                      <a:pt x="486" y="88"/>
                    </a:lnTo>
                    <a:lnTo>
                      <a:pt x="566" y="88"/>
                    </a:lnTo>
                    <a:lnTo>
                      <a:pt x="644" y="89"/>
                    </a:lnTo>
                    <a:lnTo>
                      <a:pt x="680" y="83"/>
                    </a:lnTo>
                    <a:lnTo>
                      <a:pt x="715" y="77"/>
                    </a:lnTo>
                    <a:lnTo>
                      <a:pt x="749" y="72"/>
                    </a:lnTo>
                    <a:lnTo>
                      <a:pt x="780" y="66"/>
                    </a:lnTo>
                    <a:lnTo>
                      <a:pt x="810" y="60"/>
                    </a:lnTo>
                    <a:lnTo>
                      <a:pt x="836" y="53"/>
                    </a:lnTo>
                    <a:lnTo>
                      <a:pt x="859" y="47"/>
                    </a:lnTo>
                    <a:lnTo>
                      <a:pt x="878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5559480" y="391788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1" h="125">
                    <a:moveTo>
                      <a:pt x="113" y="72"/>
                    </a:moveTo>
                    <a:lnTo>
                      <a:pt x="101" y="70"/>
                    </a:lnTo>
                    <a:lnTo>
                      <a:pt x="146" y="84"/>
                    </a:lnTo>
                    <a:lnTo>
                      <a:pt x="189" y="95"/>
                    </a:lnTo>
                    <a:lnTo>
                      <a:pt x="231" y="104"/>
                    </a:lnTo>
                    <a:lnTo>
                      <a:pt x="272" y="111"/>
                    </a:lnTo>
                    <a:lnTo>
                      <a:pt x="313" y="117"/>
                    </a:lnTo>
                    <a:lnTo>
                      <a:pt x="352" y="120"/>
                    </a:lnTo>
                    <a:lnTo>
                      <a:pt x="391" y="124"/>
                    </a:lnTo>
                    <a:lnTo>
                      <a:pt x="428" y="125"/>
                    </a:lnTo>
                    <a:lnTo>
                      <a:pt x="465" y="125"/>
                    </a:lnTo>
                    <a:lnTo>
                      <a:pt x="499" y="125"/>
                    </a:lnTo>
                    <a:lnTo>
                      <a:pt x="533" y="124"/>
                    </a:lnTo>
                    <a:lnTo>
                      <a:pt x="565" y="121"/>
                    </a:lnTo>
                    <a:lnTo>
                      <a:pt x="622" y="117"/>
                    </a:lnTo>
                    <a:lnTo>
                      <a:pt x="671" y="111"/>
                    </a:lnTo>
                    <a:lnTo>
                      <a:pt x="555" y="39"/>
                    </a:lnTo>
                    <a:lnTo>
                      <a:pt x="506" y="45"/>
                    </a:lnTo>
                    <a:lnTo>
                      <a:pt x="449" y="50"/>
                    </a:lnTo>
                    <a:lnTo>
                      <a:pt x="417" y="51"/>
                    </a:lnTo>
                    <a:lnTo>
                      <a:pt x="385" y="53"/>
                    </a:lnTo>
                    <a:lnTo>
                      <a:pt x="351" y="53"/>
                    </a:lnTo>
                    <a:lnTo>
                      <a:pt x="314" y="53"/>
                    </a:lnTo>
                    <a:lnTo>
                      <a:pt x="278" y="51"/>
                    </a:lnTo>
                    <a:lnTo>
                      <a:pt x="240" y="48"/>
                    </a:lnTo>
                    <a:lnTo>
                      <a:pt x="203" y="45"/>
                    </a:lnTo>
                    <a:lnTo>
                      <a:pt x="164" y="39"/>
                    </a:lnTo>
                    <a:lnTo>
                      <a:pt x="124" y="32"/>
                    </a:lnTo>
                    <a:lnTo>
                      <a:pt x="85" y="24"/>
                    </a:lnTo>
                    <a:lnTo>
                      <a:pt x="48" y="14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13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5418000" y="3917880"/>
                <a:ext cx="176400" cy="38160"/>
              </a:xfrm>
              <a:custGeom>
                <a:avLst/>
                <a:gdLst/>
                <a:ahLst/>
                <a:rect l="l" t="t" r="r" b="b"/>
                <a:pathLst>
                  <a:path w="558" h="121">
                    <a:moveTo>
                      <a:pt x="326" y="121"/>
                    </a:moveTo>
                    <a:lnTo>
                      <a:pt x="327" y="121"/>
                    </a:lnTo>
                    <a:lnTo>
                      <a:pt x="352" y="111"/>
                    </a:lnTo>
                    <a:lnTo>
                      <a:pt x="379" y="101"/>
                    </a:lnTo>
                    <a:lnTo>
                      <a:pt x="404" y="92"/>
                    </a:lnTo>
                    <a:lnTo>
                      <a:pt x="431" y="85"/>
                    </a:lnTo>
                    <a:lnTo>
                      <a:pt x="459" y="79"/>
                    </a:lnTo>
                    <a:lnTo>
                      <a:pt x="489" y="75"/>
                    </a:lnTo>
                    <a:lnTo>
                      <a:pt x="505" y="74"/>
                    </a:lnTo>
                    <a:lnTo>
                      <a:pt x="522" y="72"/>
                    </a:lnTo>
                    <a:lnTo>
                      <a:pt x="539" y="72"/>
                    </a:lnTo>
                    <a:lnTo>
                      <a:pt x="558" y="72"/>
                    </a:lnTo>
                    <a:lnTo>
                      <a:pt x="445" y="0"/>
                    </a:lnTo>
                    <a:lnTo>
                      <a:pt x="425" y="0"/>
                    </a:lnTo>
                    <a:lnTo>
                      <a:pt x="407" y="0"/>
                    </a:lnTo>
                    <a:lnTo>
                      <a:pt x="390" y="2"/>
                    </a:lnTo>
                    <a:lnTo>
                      <a:pt x="373" y="3"/>
                    </a:lnTo>
                    <a:lnTo>
                      <a:pt x="342" y="7"/>
                    </a:lnTo>
                    <a:lnTo>
                      <a:pt x="314" y="13"/>
                    </a:lnTo>
                    <a:lnTo>
                      <a:pt x="286" y="21"/>
                    </a:lnTo>
                    <a:lnTo>
                      <a:pt x="260" y="29"/>
                    </a:lnTo>
                    <a:lnTo>
                      <a:pt x="234" y="39"/>
                    </a:lnTo>
                    <a:lnTo>
                      <a:pt x="209" y="50"/>
                    </a:lnTo>
                    <a:lnTo>
                      <a:pt x="182" y="61"/>
                    </a:lnTo>
                    <a:lnTo>
                      <a:pt x="155" y="72"/>
                    </a:lnTo>
                    <a:lnTo>
                      <a:pt x="127" y="84"/>
                    </a:lnTo>
                    <a:lnTo>
                      <a:pt x="97" y="94"/>
                    </a:lnTo>
                    <a:lnTo>
                      <a:pt x="64" y="105"/>
                    </a:lnTo>
                    <a:lnTo>
                      <a:pt x="29" y="115"/>
                    </a:lnTo>
                    <a:lnTo>
                      <a:pt x="0" y="121"/>
                    </a:lnTo>
                    <a:lnTo>
                      <a:pt x="41" y="121"/>
                    </a:lnTo>
                    <a:lnTo>
                      <a:pt x="82" y="121"/>
                    </a:lnTo>
                    <a:lnTo>
                      <a:pt x="123" y="121"/>
                    </a:lnTo>
                    <a:lnTo>
                      <a:pt x="164" y="121"/>
                    </a:lnTo>
                    <a:lnTo>
                      <a:pt x="204" y="121"/>
                    </a:lnTo>
                    <a:lnTo>
                      <a:pt x="245" y="121"/>
                    </a:lnTo>
                    <a:lnTo>
                      <a:pt x="286" y="121"/>
                    </a:lnTo>
                    <a:lnTo>
                      <a:pt x="326" y="1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5597640" y="3921120"/>
                <a:ext cx="212760" cy="36360"/>
              </a:xfrm>
              <a:custGeom>
                <a:avLst/>
                <a:gdLst/>
                <a:ahLst/>
                <a:rect l="l" t="t" r="r" b="b"/>
                <a:pathLst>
                  <a:path w="669" h="114">
                    <a:moveTo>
                      <a:pt x="548" y="98"/>
                    </a:moveTo>
                    <a:lnTo>
                      <a:pt x="431" y="26"/>
                    </a:lnTo>
                    <a:lnTo>
                      <a:pt x="418" y="31"/>
                    </a:lnTo>
                    <a:lnTo>
                      <a:pt x="406" y="35"/>
                    </a:lnTo>
                    <a:lnTo>
                      <a:pt x="390" y="40"/>
                    </a:lnTo>
                    <a:lnTo>
                      <a:pt x="374" y="45"/>
                    </a:lnTo>
                    <a:lnTo>
                      <a:pt x="336" y="53"/>
                    </a:lnTo>
                    <a:lnTo>
                      <a:pt x="295" y="61"/>
                    </a:lnTo>
                    <a:lnTo>
                      <a:pt x="204" y="74"/>
                    </a:lnTo>
                    <a:lnTo>
                      <a:pt x="109" y="89"/>
                    </a:lnTo>
                    <a:lnTo>
                      <a:pt x="62" y="97"/>
                    </a:lnTo>
                    <a:lnTo>
                      <a:pt x="19" y="105"/>
                    </a:lnTo>
                    <a:lnTo>
                      <a:pt x="0" y="110"/>
                    </a:lnTo>
                    <a:lnTo>
                      <a:pt x="62" y="111"/>
                    </a:lnTo>
                    <a:lnTo>
                      <a:pt x="126" y="111"/>
                    </a:lnTo>
                    <a:lnTo>
                      <a:pt x="189" y="111"/>
                    </a:lnTo>
                    <a:lnTo>
                      <a:pt x="252" y="112"/>
                    </a:lnTo>
                    <a:lnTo>
                      <a:pt x="314" y="112"/>
                    </a:lnTo>
                    <a:lnTo>
                      <a:pt x="376" y="113"/>
                    </a:lnTo>
                    <a:lnTo>
                      <a:pt x="439" y="113"/>
                    </a:lnTo>
                    <a:lnTo>
                      <a:pt x="500" y="114"/>
                    </a:lnTo>
                    <a:lnTo>
                      <a:pt x="508" y="112"/>
                    </a:lnTo>
                    <a:lnTo>
                      <a:pt x="524" y="107"/>
                    </a:lnTo>
                    <a:lnTo>
                      <a:pt x="538" y="103"/>
                    </a:lnTo>
                    <a:lnTo>
                      <a:pt x="549" y="98"/>
                    </a:lnTo>
                    <a:lnTo>
                      <a:pt x="432" y="26"/>
                    </a:lnTo>
                    <a:lnTo>
                      <a:pt x="549" y="98"/>
                    </a:lnTo>
                    <a:lnTo>
                      <a:pt x="669" y="0"/>
                    </a:lnTo>
                    <a:lnTo>
                      <a:pt x="432" y="26"/>
                    </a:lnTo>
                    <a:lnTo>
                      <a:pt x="548" y="9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2592360" y="3630600"/>
                <a:ext cx="268200" cy="69840"/>
              </a:xfrm>
              <a:custGeom>
                <a:avLst/>
                <a:gdLst/>
                <a:ahLst/>
                <a:rect l="l" t="t" r="r" b="b"/>
                <a:pathLst>
                  <a:path w="846" h="221">
                    <a:moveTo>
                      <a:pt x="846" y="118"/>
                    </a:moveTo>
                    <a:lnTo>
                      <a:pt x="807" y="123"/>
                    </a:lnTo>
                    <a:lnTo>
                      <a:pt x="767" y="129"/>
                    </a:lnTo>
                    <a:lnTo>
                      <a:pt x="727" y="137"/>
                    </a:lnTo>
                    <a:lnTo>
                      <a:pt x="687" y="146"/>
                    </a:lnTo>
                    <a:lnTo>
                      <a:pt x="607" y="167"/>
                    </a:lnTo>
                    <a:lnTo>
                      <a:pt x="523" y="188"/>
                    </a:lnTo>
                    <a:lnTo>
                      <a:pt x="481" y="197"/>
                    </a:lnTo>
                    <a:lnTo>
                      <a:pt x="437" y="206"/>
                    </a:lnTo>
                    <a:lnTo>
                      <a:pt x="391" y="213"/>
                    </a:lnTo>
                    <a:lnTo>
                      <a:pt x="344" y="218"/>
                    </a:lnTo>
                    <a:lnTo>
                      <a:pt x="320" y="219"/>
                    </a:lnTo>
                    <a:lnTo>
                      <a:pt x="295" y="220"/>
                    </a:lnTo>
                    <a:lnTo>
                      <a:pt x="271" y="221"/>
                    </a:lnTo>
                    <a:lnTo>
                      <a:pt x="245" y="220"/>
                    </a:lnTo>
                    <a:lnTo>
                      <a:pt x="220" y="219"/>
                    </a:lnTo>
                    <a:lnTo>
                      <a:pt x="194" y="216"/>
                    </a:lnTo>
                    <a:lnTo>
                      <a:pt x="167" y="214"/>
                    </a:lnTo>
                    <a:lnTo>
                      <a:pt x="139" y="210"/>
                    </a:lnTo>
                    <a:lnTo>
                      <a:pt x="140" y="199"/>
                    </a:lnTo>
                    <a:lnTo>
                      <a:pt x="139" y="190"/>
                    </a:lnTo>
                    <a:lnTo>
                      <a:pt x="137" y="181"/>
                    </a:lnTo>
                    <a:lnTo>
                      <a:pt x="132" y="172"/>
                    </a:lnTo>
                    <a:lnTo>
                      <a:pt x="128" y="164"/>
                    </a:lnTo>
                    <a:lnTo>
                      <a:pt x="121" y="157"/>
                    </a:lnTo>
                    <a:lnTo>
                      <a:pt x="113" y="150"/>
                    </a:lnTo>
                    <a:lnTo>
                      <a:pt x="105" y="145"/>
                    </a:lnTo>
                    <a:lnTo>
                      <a:pt x="95" y="139"/>
                    </a:lnTo>
                    <a:lnTo>
                      <a:pt x="84" y="133"/>
                    </a:lnTo>
                    <a:lnTo>
                      <a:pt x="72" y="129"/>
                    </a:lnTo>
                    <a:lnTo>
                      <a:pt x="59" y="125"/>
                    </a:lnTo>
                    <a:lnTo>
                      <a:pt x="31" y="117"/>
                    </a:lnTo>
                    <a:lnTo>
                      <a:pt x="0" y="111"/>
                    </a:lnTo>
                    <a:lnTo>
                      <a:pt x="0" y="48"/>
                    </a:lnTo>
                    <a:lnTo>
                      <a:pt x="43" y="41"/>
                    </a:lnTo>
                    <a:lnTo>
                      <a:pt x="82" y="34"/>
                    </a:lnTo>
                    <a:lnTo>
                      <a:pt x="119" y="27"/>
                    </a:lnTo>
                    <a:lnTo>
                      <a:pt x="154" y="20"/>
                    </a:lnTo>
                    <a:lnTo>
                      <a:pt x="187" y="13"/>
                    </a:lnTo>
                    <a:lnTo>
                      <a:pt x="220" y="8"/>
                    </a:lnTo>
                    <a:lnTo>
                      <a:pt x="253" y="3"/>
                    </a:lnTo>
                    <a:lnTo>
                      <a:pt x="290" y="0"/>
                    </a:lnTo>
                    <a:lnTo>
                      <a:pt x="303" y="10"/>
                    </a:lnTo>
                    <a:lnTo>
                      <a:pt x="317" y="19"/>
                    </a:lnTo>
                    <a:lnTo>
                      <a:pt x="332" y="27"/>
                    </a:lnTo>
                    <a:lnTo>
                      <a:pt x="348" y="34"/>
                    </a:lnTo>
                    <a:lnTo>
                      <a:pt x="364" y="41"/>
                    </a:lnTo>
                    <a:lnTo>
                      <a:pt x="381" y="46"/>
                    </a:lnTo>
                    <a:lnTo>
                      <a:pt x="398" y="52"/>
                    </a:lnTo>
                    <a:lnTo>
                      <a:pt x="415" y="57"/>
                    </a:lnTo>
                    <a:lnTo>
                      <a:pt x="452" y="64"/>
                    </a:lnTo>
                    <a:lnTo>
                      <a:pt x="488" y="70"/>
                    </a:lnTo>
                    <a:lnTo>
                      <a:pt x="527" y="75"/>
                    </a:lnTo>
                    <a:lnTo>
                      <a:pt x="566" y="78"/>
                    </a:lnTo>
                    <a:lnTo>
                      <a:pt x="642" y="84"/>
                    </a:lnTo>
                    <a:lnTo>
                      <a:pt x="716" y="91"/>
                    </a:lnTo>
                    <a:lnTo>
                      <a:pt x="751" y="95"/>
                    </a:lnTo>
                    <a:lnTo>
                      <a:pt x="786" y="101"/>
                    </a:lnTo>
                    <a:lnTo>
                      <a:pt x="801" y="105"/>
                    </a:lnTo>
                    <a:lnTo>
                      <a:pt x="817" y="109"/>
                    </a:lnTo>
                    <a:lnTo>
                      <a:pt x="832" y="114"/>
                    </a:lnTo>
                    <a:lnTo>
                      <a:pt x="846" y="11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2616120" y="3656160"/>
                <a:ext cx="262080" cy="55440"/>
              </a:xfrm>
              <a:custGeom>
                <a:avLst/>
                <a:gdLst/>
                <a:ahLst/>
                <a:rect l="l" t="t" r="r" b="b"/>
                <a:pathLst>
                  <a:path w="829" h="174">
                    <a:moveTo>
                      <a:pt x="4" y="93"/>
                    </a:moveTo>
                    <a:lnTo>
                      <a:pt x="119" y="164"/>
                    </a:lnTo>
                    <a:lnTo>
                      <a:pt x="147" y="167"/>
                    </a:lnTo>
                    <a:lnTo>
                      <a:pt x="175" y="171"/>
                    </a:lnTo>
                    <a:lnTo>
                      <a:pt x="201" y="173"/>
                    </a:lnTo>
                    <a:lnTo>
                      <a:pt x="227" y="174"/>
                    </a:lnTo>
                    <a:lnTo>
                      <a:pt x="253" y="174"/>
                    </a:lnTo>
                    <a:lnTo>
                      <a:pt x="278" y="174"/>
                    </a:lnTo>
                    <a:lnTo>
                      <a:pt x="302" y="173"/>
                    </a:lnTo>
                    <a:lnTo>
                      <a:pt x="327" y="172"/>
                    </a:lnTo>
                    <a:lnTo>
                      <a:pt x="374" y="166"/>
                    </a:lnTo>
                    <a:lnTo>
                      <a:pt x="420" y="159"/>
                    </a:lnTo>
                    <a:lnTo>
                      <a:pt x="464" y="152"/>
                    </a:lnTo>
                    <a:lnTo>
                      <a:pt x="508" y="141"/>
                    </a:lnTo>
                    <a:lnTo>
                      <a:pt x="591" y="121"/>
                    </a:lnTo>
                    <a:lnTo>
                      <a:pt x="672" y="100"/>
                    </a:lnTo>
                    <a:lnTo>
                      <a:pt x="712" y="91"/>
                    </a:lnTo>
                    <a:lnTo>
                      <a:pt x="750" y="83"/>
                    </a:lnTo>
                    <a:lnTo>
                      <a:pt x="790" y="76"/>
                    </a:lnTo>
                    <a:lnTo>
                      <a:pt x="829" y="73"/>
                    </a:lnTo>
                    <a:lnTo>
                      <a:pt x="713" y="0"/>
                    </a:lnTo>
                    <a:lnTo>
                      <a:pt x="673" y="4"/>
                    </a:lnTo>
                    <a:lnTo>
                      <a:pt x="633" y="11"/>
                    </a:lnTo>
                    <a:lnTo>
                      <a:pt x="593" y="19"/>
                    </a:lnTo>
                    <a:lnTo>
                      <a:pt x="554" y="28"/>
                    </a:lnTo>
                    <a:lnTo>
                      <a:pt x="473" y="49"/>
                    </a:lnTo>
                    <a:lnTo>
                      <a:pt x="390" y="69"/>
                    </a:lnTo>
                    <a:lnTo>
                      <a:pt x="347" y="80"/>
                    </a:lnTo>
                    <a:lnTo>
                      <a:pt x="304" y="88"/>
                    </a:lnTo>
                    <a:lnTo>
                      <a:pt x="258" y="94"/>
                    </a:lnTo>
                    <a:lnTo>
                      <a:pt x="211" y="99"/>
                    </a:lnTo>
                    <a:lnTo>
                      <a:pt x="187" y="101"/>
                    </a:lnTo>
                    <a:lnTo>
                      <a:pt x="163" y="102"/>
                    </a:lnTo>
                    <a:lnTo>
                      <a:pt x="138" y="102"/>
                    </a:lnTo>
                    <a:lnTo>
                      <a:pt x="114" y="102"/>
                    </a:lnTo>
                    <a:lnTo>
                      <a:pt x="88" y="100"/>
                    </a:lnTo>
                    <a:lnTo>
                      <a:pt x="63" y="99"/>
                    </a:lnTo>
                    <a:lnTo>
                      <a:pt x="37" y="96"/>
                    </a:lnTo>
                    <a:lnTo>
                      <a:pt x="11" y="92"/>
                    </a:lnTo>
                    <a:lnTo>
                      <a:pt x="126" y="162"/>
                    </a:lnTo>
                    <a:lnTo>
                      <a:pt x="4" y="93"/>
                    </a:lnTo>
                    <a:lnTo>
                      <a:pt x="0" y="144"/>
                    </a:lnTo>
                    <a:lnTo>
                      <a:pt x="119" y="164"/>
                    </a:lnTo>
                    <a:lnTo>
                      <a:pt x="4" y="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2592360" y="3657600"/>
                <a:ext cx="63360" cy="49320"/>
              </a:xfrm>
              <a:custGeom>
                <a:avLst/>
                <a:gdLst/>
                <a:ahLst/>
                <a:rect l="l" t="t" r="r" b="b"/>
                <a:pathLst>
                  <a:path w="201" h="157">
                    <a:moveTo>
                      <a:pt x="0" y="53"/>
                    </a:moveTo>
                    <a:lnTo>
                      <a:pt x="31" y="56"/>
                    </a:lnTo>
                    <a:lnTo>
                      <a:pt x="71" y="63"/>
                    </a:lnTo>
                    <a:lnTo>
                      <a:pt x="87" y="67"/>
                    </a:lnTo>
                    <a:lnTo>
                      <a:pt x="103" y="70"/>
                    </a:lnTo>
                    <a:lnTo>
                      <a:pt x="114" y="73"/>
                    </a:lnTo>
                    <a:lnTo>
                      <a:pt x="117" y="76"/>
                    </a:lnTo>
                    <a:lnTo>
                      <a:pt x="102" y="68"/>
                    </a:lnTo>
                    <a:lnTo>
                      <a:pt x="74" y="51"/>
                    </a:lnTo>
                    <a:lnTo>
                      <a:pt x="66" y="44"/>
                    </a:lnTo>
                    <a:lnTo>
                      <a:pt x="70" y="48"/>
                    </a:lnTo>
                    <a:lnTo>
                      <a:pt x="71" y="51"/>
                    </a:lnTo>
                    <a:lnTo>
                      <a:pt x="74" y="55"/>
                    </a:lnTo>
                    <a:lnTo>
                      <a:pt x="75" y="60"/>
                    </a:lnTo>
                    <a:lnTo>
                      <a:pt x="78" y="64"/>
                    </a:lnTo>
                    <a:lnTo>
                      <a:pt x="79" y="70"/>
                    </a:lnTo>
                    <a:lnTo>
                      <a:pt x="79" y="76"/>
                    </a:lnTo>
                    <a:lnTo>
                      <a:pt x="79" y="83"/>
                    </a:lnTo>
                    <a:lnTo>
                      <a:pt x="79" y="88"/>
                    </a:lnTo>
                    <a:lnTo>
                      <a:pt x="201" y="157"/>
                    </a:lnTo>
                    <a:lnTo>
                      <a:pt x="201" y="151"/>
                    </a:lnTo>
                    <a:lnTo>
                      <a:pt x="201" y="144"/>
                    </a:lnTo>
                    <a:lnTo>
                      <a:pt x="200" y="137"/>
                    </a:lnTo>
                    <a:lnTo>
                      <a:pt x="198" y="132"/>
                    </a:lnTo>
                    <a:lnTo>
                      <a:pt x="196" y="125"/>
                    </a:lnTo>
                    <a:lnTo>
                      <a:pt x="194" y="119"/>
                    </a:lnTo>
                    <a:lnTo>
                      <a:pt x="190" y="113"/>
                    </a:lnTo>
                    <a:lnTo>
                      <a:pt x="186" y="107"/>
                    </a:lnTo>
                    <a:lnTo>
                      <a:pt x="173" y="93"/>
                    </a:lnTo>
                    <a:lnTo>
                      <a:pt x="145" y="71"/>
                    </a:lnTo>
                    <a:lnTo>
                      <a:pt x="94" y="39"/>
                    </a:lnTo>
                    <a:lnTo>
                      <a:pt x="51" y="18"/>
                    </a:lnTo>
                    <a:lnTo>
                      <a:pt x="25" y="7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2592360" y="3618000"/>
                <a:ext cx="109440" cy="41040"/>
              </a:xfrm>
              <a:custGeom>
                <a:avLst/>
                <a:gdLst/>
                <a:ahLst/>
                <a:rect l="l" t="t" r="r" b="b"/>
                <a:pathLst>
                  <a:path w="347" h="128">
                    <a:moveTo>
                      <a:pt x="332" y="54"/>
                    </a:moveTo>
                    <a:lnTo>
                      <a:pt x="231" y="2"/>
                    </a:lnTo>
                    <a:lnTo>
                      <a:pt x="198" y="5"/>
                    </a:lnTo>
                    <a:lnTo>
                      <a:pt x="168" y="9"/>
                    </a:lnTo>
                    <a:lnTo>
                      <a:pt x="138" y="14"/>
                    </a:lnTo>
                    <a:lnTo>
                      <a:pt x="108" y="19"/>
                    </a:lnTo>
                    <a:lnTo>
                      <a:pt x="46" y="32"/>
                    </a:lnTo>
                    <a:lnTo>
                      <a:pt x="0" y="40"/>
                    </a:lnTo>
                    <a:lnTo>
                      <a:pt x="0" y="128"/>
                    </a:lnTo>
                    <a:lnTo>
                      <a:pt x="8" y="128"/>
                    </a:lnTo>
                    <a:lnTo>
                      <a:pt x="53" y="122"/>
                    </a:lnTo>
                    <a:lnTo>
                      <a:pt x="92" y="116"/>
                    </a:lnTo>
                    <a:lnTo>
                      <a:pt x="163" y="104"/>
                    </a:lnTo>
                    <a:lnTo>
                      <a:pt x="226" y="91"/>
                    </a:lnTo>
                    <a:lnTo>
                      <a:pt x="255" y="86"/>
                    </a:lnTo>
                    <a:lnTo>
                      <a:pt x="285" y="81"/>
                    </a:lnTo>
                    <a:lnTo>
                      <a:pt x="315" y="76"/>
                    </a:lnTo>
                    <a:lnTo>
                      <a:pt x="347" y="74"/>
                    </a:lnTo>
                    <a:lnTo>
                      <a:pt x="246" y="22"/>
                    </a:lnTo>
                    <a:lnTo>
                      <a:pt x="332" y="54"/>
                    </a:lnTo>
                    <a:lnTo>
                      <a:pt x="262" y="0"/>
                    </a:lnTo>
                    <a:lnTo>
                      <a:pt x="231" y="2"/>
                    </a:lnTo>
                    <a:lnTo>
                      <a:pt x="332" y="5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2670120" y="3624120"/>
                <a:ext cx="228600" cy="55800"/>
              </a:xfrm>
              <a:custGeom>
                <a:avLst/>
                <a:gdLst/>
                <a:ahLst/>
                <a:rect l="l" t="t" r="r" b="b"/>
                <a:pathLst>
                  <a:path w="720" h="171">
                    <a:moveTo>
                      <a:pt x="658" y="171"/>
                    </a:moveTo>
                    <a:lnTo>
                      <a:pt x="560" y="102"/>
                    </a:lnTo>
                    <a:lnTo>
                      <a:pt x="540" y="95"/>
                    </a:lnTo>
                    <a:lnTo>
                      <a:pt x="521" y="90"/>
                    </a:lnTo>
                    <a:lnTo>
                      <a:pt x="504" y="85"/>
                    </a:lnTo>
                    <a:lnTo>
                      <a:pt x="486" y="82"/>
                    </a:lnTo>
                    <a:lnTo>
                      <a:pt x="451" y="75"/>
                    </a:lnTo>
                    <a:lnTo>
                      <a:pt x="414" y="70"/>
                    </a:lnTo>
                    <a:lnTo>
                      <a:pt x="340" y="64"/>
                    </a:lnTo>
                    <a:lnTo>
                      <a:pt x="263" y="58"/>
                    </a:lnTo>
                    <a:lnTo>
                      <a:pt x="225" y="54"/>
                    </a:lnTo>
                    <a:lnTo>
                      <a:pt x="187" y="50"/>
                    </a:lnTo>
                    <a:lnTo>
                      <a:pt x="152" y="44"/>
                    </a:lnTo>
                    <a:lnTo>
                      <a:pt x="118" y="37"/>
                    </a:lnTo>
                    <a:lnTo>
                      <a:pt x="102" y="33"/>
                    </a:lnTo>
                    <a:lnTo>
                      <a:pt x="88" y="28"/>
                    </a:lnTo>
                    <a:lnTo>
                      <a:pt x="77" y="25"/>
                    </a:lnTo>
                    <a:lnTo>
                      <a:pt x="70" y="21"/>
                    </a:lnTo>
                    <a:lnTo>
                      <a:pt x="69" y="21"/>
                    </a:lnTo>
                    <a:lnTo>
                      <a:pt x="76" y="25"/>
                    </a:lnTo>
                    <a:lnTo>
                      <a:pt x="85" y="30"/>
                    </a:lnTo>
                    <a:lnTo>
                      <a:pt x="86" y="32"/>
                    </a:lnTo>
                    <a:lnTo>
                      <a:pt x="0" y="0"/>
                    </a:lnTo>
                    <a:lnTo>
                      <a:pt x="29" y="20"/>
                    </a:lnTo>
                    <a:lnTo>
                      <a:pt x="66" y="44"/>
                    </a:lnTo>
                    <a:lnTo>
                      <a:pt x="104" y="64"/>
                    </a:lnTo>
                    <a:lnTo>
                      <a:pt x="134" y="78"/>
                    </a:lnTo>
                    <a:lnTo>
                      <a:pt x="159" y="89"/>
                    </a:lnTo>
                    <a:lnTo>
                      <a:pt x="180" y="95"/>
                    </a:lnTo>
                    <a:lnTo>
                      <a:pt x="201" y="102"/>
                    </a:lnTo>
                    <a:lnTo>
                      <a:pt x="221" y="107"/>
                    </a:lnTo>
                    <a:lnTo>
                      <a:pt x="259" y="116"/>
                    </a:lnTo>
                    <a:lnTo>
                      <a:pt x="297" y="122"/>
                    </a:lnTo>
                    <a:lnTo>
                      <a:pt x="337" y="126"/>
                    </a:lnTo>
                    <a:lnTo>
                      <a:pt x="375" y="130"/>
                    </a:lnTo>
                    <a:lnTo>
                      <a:pt x="452" y="137"/>
                    </a:lnTo>
                    <a:lnTo>
                      <a:pt x="526" y="142"/>
                    </a:lnTo>
                    <a:lnTo>
                      <a:pt x="560" y="147"/>
                    </a:lnTo>
                    <a:lnTo>
                      <a:pt x="593" y="153"/>
                    </a:lnTo>
                    <a:lnTo>
                      <a:pt x="607" y="156"/>
                    </a:lnTo>
                    <a:lnTo>
                      <a:pt x="620" y="159"/>
                    </a:lnTo>
                    <a:lnTo>
                      <a:pt x="632" y="163"/>
                    </a:lnTo>
                    <a:lnTo>
                      <a:pt x="640" y="166"/>
                    </a:lnTo>
                    <a:lnTo>
                      <a:pt x="542" y="98"/>
                    </a:lnTo>
                    <a:lnTo>
                      <a:pt x="658" y="171"/>
                    </a:lnTo>
                    <a:lnTo>
                      <a:pt x="720" y="165"/>
                    </a:lnTo>
                    <a:lnTo>
                      <a:pt x="560" y="102"/>
                    </a:lnTo>
                    <a:lnTo>
                      <a:pt x="658" y="1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2592360" y="3889440"/>
                <a:ext cx="228600" cy="69840"/>
              </a:xfrm>
              <a:custGeom>
                <a:avLst/>
                <a:gdLst/>
                <a:ahLst/>
                <a:rect l="l" t="t" r="r" b="b"/>
                <a:pathLst>
                  <a:path w="723" h="220">
                    <a:moveTo>
                      <a:pt x="723" y="117"/>
                    </a:moveTo>
                    <a:lnTo>
                      <a:pt x="684" y="122"/>
                    </a:lnTo>
                    <a:lnTo>
                      <a:pt x="644" y="129"/>
                    </a:lnTo>
                    <a:lnTo>
                      <a:pt x="604" y="137"/>
                    </a:lnTo>
                    <a:lnTo>
                      <a:pt x="564" y="146"/>
                    </a:lnTo>
                    <a:lnTo>
                      <a:pt x="483" y="166"/>
                    </a:lnTo>
                    <a:lnTo>
                      <a:pt x="400" y="187"/>
                    </a:lnTo>
                    <a:lnTo>
                      <a:pt x="358" y="197"/>
                    </a:lnTo>
                    <a:lnTo>
                      <a:pt x="314" y="205"/>
                    </a:lnTo>
                    <a:lnTo>
                      <a:pt x="268" y="212"/>
                    </a:lnTo>
                    <a:lnTo>
                      <a:pt x="221" y="217"/>
                    </a:lnTo>
                    <a:lnTo>
                      <a:pt x="197" y="219"/>
                    </a:lnTo>
                    <a:lnTo>
                      <a:pt x="172" y="220"/>
                    </a:lnTo>
                    <a:lnTo>
                      <a:pt x="148" y="220"/>
                    </a:lnTo>
                    <a:lnTo>
                      <a:pt x="123" y="220"/>
                    </a:lnTo>
                    <a:lnTo>
                      <a:pt x="97" y="219"/>
                    </a:lnTo>
                    <a:lnTo>
                      <a:pt x="71" y="217"/>
                    </a:lnTo>
                    <a:lnTo>
                      <a:pt x="43" y="213"/>
                    </a:lnTo>
                    <a:lnTo>
                      <a:pt x="16" y="210"/>
                    </a:lnTo>
                    <a:lnTo>
                      <a:pt x="17" y="202"/>
                    </a:lnTo>
                    <a:lnTo>
                      <a:pt x="17" y="195"/>
                    </a:lnTo>
                    <a:lnTo>
                      <a:pt x="16" y="188"/>
                    </a:lnTo>
                    <a:lnTo>
                      <a:pt x="14" y="181"/>
                    </a:lnTo>
                    <a:lnTo>
                      <a:pt x="11" y="174"/>
                    </a:lnTo>
                    <a:lnTo>
                      <a:pt x="8" y="169"/>
                    </a:lnTo>
                    <a:lnTo>
                      <a:pt x="5" y="163"/>
                    </a:lnTo>
                    <a:lnTo>
                      <a:pt x="0" y="158"/>
                    </a:lnTo>
                    <a:lnTo>
                      <a:pt x="0" y="26"/>
                    </a:lnTo>
                    <a:lnTo>
                      <a:pt x="21" y="21"/>
                    </a:lnTo>
                    <a:lnTo>
                      <a:pt x="41" y="18"/>
                    </a:lnTo>
                    <a:lnTo>
                      <a:pt x="62" y="13"/>
                    </a:lnTo>
                    <a:lnTo>
                      <a:pt x="82" y="10"/>
                    </a:lnTo>
                    <a:lnTo>
                      <a:pt x="103" y="7"/>
                    </a:lnTo>
                    <a:lnTo>
                      <a:pt x="123" y="3"/>
                    </a:lnTo>
                    <a:lnTo>
                      <a:pt x="144" y="1"/>
                    </a:lnTo>
                    <a:lnTo>
                      <a:pt x="167" y="0"/>
                    </a:lnTo>
                    <a:lnTo>
                      <a:pt x="180" y="9"/>
                    </a:lnTo>
                    <a:lnTo>
                      <a:pt x="194" y="18"/>
                    </a:lnTo>
                    <a:lnTo>
                      <a:pt x="209" y="26"/>
                    </a:lnTo>
                    <a:lnTo>
                      <a:pt x="225" y="33"/>
                    </a:lnTo>
                    <a:lnTo>
                      <a:pt x="241" y="40"/>
                    </a:lnTo>
                    <a:lnTo>
                      <a:pt x="258" y="45"/>
                    </a:lnTo>
                    <a:lnTo>
                      <a:pt x="275" y="51"/>
                    </a:lnTo>
                    <a:lnTo>
                      <a:pt x="292" y="56"/>
                    </a:lnTo>
                    <a:lnTo>
                      <a:pt x="328" y="64"/>
                    </a:lnTo>
                    <a:lnTo>
                      <a:pt x="366" y="69"/>
                    </a:lnTo>
                    <a:lnTo>
                      <a:pt x="404" y="74"/>
                    </a:lnTo>
                    <a:lnTo>
                      <a:pt x="442" y="77"/>
                    </a:lnTo>
                    <a:lnTo>
                      <a:pt x="519" y="83"/>
                    </a:lnTo>
                    <a:lnTo>
                      <a:pt x="593" y="90"/>
                    </a:lnTo>
                    <a:lnTo>
                      <a:pt x="628" y="94"/>
                    </a:lnTo>
                    <a:lnTo>
                      <a:pt x="662" y="100"/>
                    </a:lnTo>
                    <a:lnTo>
                      <a:pt x="678" y="104"/>
                    </a:lnTo>
                    <a:lnTo>
                      <a:pt x="694" y="108"/>
                    </a:lnTo>
                    <a:lnTo>
                      <a:pt x="709" y="113"/>
                    </a:lnTo>
                    <a:lnTo>
                      <a:pt x="723" y="11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2592360" y="3916440"/>
                <a:ext cx="247680" cy="52200"/>
              </a:xfrm>
              <a:custGeom>
                <a:avLst/>
                <a:gdLst/>
                <a:ahLst/>
                <a:rect l="l" t="t" r="r" b="b"/>
                <a:pathLst>
                  <a:path w="781" h="164">
                    <a:moveTo>
                      <a:pt x="0" y="120"/>
                    </a:moveTo>
                    <a:lnTo>
                      <a:pt x="64" y="160"/>
                    </a:lnTo>
                    <a:lnTo>
                      <a:pt x="62" y="160"/>
                    </a:lnTo>
                    <a:lnTo>
                      <a:pt x="59" y="160"/>
                    </a:lnTo>
                    <a:lnTo>
                      <a:pt x="57" y="160"/>
                    </a:lnTo>
                    <a:lnTo>
                      <a:pt x="55" y="160"/>
                    </a:lnTo>
                    <a:lnTo>
                      <a:pt x="53" y="160"/>
                    </a:lnTo>
                    <a:lnTo>
                      <a:pt x="50" y="160"/>
                    </a:lnTo>
                    <a:lnTo>
                      <a:pt x="48" y="160"/>
                    </a:lnTo>
                    <a:lnTo>
                      <a:pt x="46" y="159"/>
                    </a:lnTo>
                    <a:lnTo>
                      <a:pt x="0" y="152"/>
                    </a:lnTo>
                    <a:lnTo>
                      <a:pt x="0" y="120"/>
                    </a:lnTo>
                    <a:close/>
                    <a:moveTo>
                      <a:pt x="341" y="164"/>
                    </a:moveTo>
                    <a:lnTo>
                      <a:pt x="372" y="159"/>
                    </a:lnTo>
                    <a:lnTo>
                      <a:pt x="416" y="151"/>
                    </a:lnTo>
                    <a:lnTo>
                      <a:pt x="459" y="141"/>
                    </a:lnTo>
                    <a:lnTo>
                      <a:pt x="543" y="121"/>
                    </a:lnTo>
                    <a:lnTo>
                      <a:pt x="624" y="99"/>
                    </a:lnTo>
                    <a:lnTo>
                      <a:pt x="664" y="90"/>
                    </a:lnTo>
                    <a:lnTo>
                      <a:pt x="702" y="82"/>
                    </a:lnTo>
                    <a:lnTo>
                      <a:pt x="742" y="76"/>
                    </a:lnTo>
                    <a:lnTo>
                      <a:pt x="781" y="72"/>
                    </a:lnTo>
                    <a:lnTo>
                      <a:pt x="666" y="0"/>
                    </a:lnTo>
                    <a:lnTo>
                      <a:pt x="625" y="4"/>
                    </a:lnTo>
                    <a:lnTo>
                      <a:pt x="585" y="10"/>
                    </a:lnTo>
                    <a:lnTo>
                      <a:pt x="546" y="18"/>
                    </a:lnTo>
                    <a:lnTo>
                      <a:pt x="506" y="28"/>
                    </a:lnTo>
                    <a:lnTo>
                      <a:pt x="425" y="48"/>
                    </a:lnTo>
                    <a:lnTo>
                      <a:pt x="342" y="70"/>
                    </a:lnTo>
                    <a:lnTo>
                      <a:pt x="299" y="79"/>
                    </a:lnTo>
                    <a:lnTo>
                      <a:pt x="255" y="88"/>
                    </a:lnTo>
                    <a:lnTo>
                      <a:pt x="210" y="93"/>
                    </a:lnTo>
                    <a:lnTo>
                      <a:pt x="163" y="99"/>
                    </a:lnTo>
                    <a:lnTo>
                      <a:pt x="139" y="100"/>
                    </a:lnTo>
                    <a:lnTo>
                      <a:pt x="115" y="101"/>
                    </a:lnTo>
                    <a:lnTo>
                      <a:pt x="91" y="101"/>
                    </a:lnTo>
                    <a:lnTo>
                      <a:pt x="66" y="101"/>
                    </a:lnTo>
                    <a:lnTo>
                      <a:pt x="40" y="100"/>
                    </a:lnTo>
                    <a:lnTo>
                      <a:pt x="15" y="98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73" y="160"/>
                    </a:lnTo>
                    <a:lnTo>
                      <a:pt x="106" y="160"/>
                    </a:lnTo>
                    <a:lnTo>
                      <a:pt x="140" y="160"/>
                    </a:lnTo>
                    <a:lnTo>
                      <a:pt x="173" y="161"/>
                    </a:lnTo>
                    <a:lnTo>
                      <a:pt x="206" y="161"/>
                    </a:lnTo>
                    <a:lnTo>
                      <a:pt x="241" y="162"/>
                    </a:lnTo>
                    <a:lnTo>
                      <a:pt x="274" y="162"/>
                    </a:lnTo>
                    <a:lnTo>
                      <a:pt x="308" y="163"/>
                    </a:lnTo>
                    <a:lnTo>
                      <a:pt x="341" y="164"/>
                    </a:lnTo>
                    <a:close/>
                    <a:moveTo>
                      <a:pt x="73" y="160"/>
                    </a:moveTo>
                    <a:lnTo>
                      <a:pt x="0" y="117"/>
                    </a:lnTo>
                    <a:lnTo>
                      <a:pt x="0" y="120"/>
                    </a:lnTo>
                    <a:lnTo>
                      <a:pt x="64" y="160"/>
                    </a:lnTo>
                    <a:lnTo>
                      <a:pt x="65" y="160"/>
                    </a:lnTo>
                    <a:lnTo>
                      <a:pt x="66" y="160"/>
                    </a:lnTo>
                    <a:lnTo>
                      <a:pt x="67" y="160"/>
                    </a:lnTo>
                    <a:lnTo>
                      <a:pt x="68" y="160"/>
                    </a:lnTo>
                    <a:lnTo>
                      <a:pt x="70" y="160"/>
                    </a:lnTo>
                    <a:lnTo>
                      <a:pt x="71" y="160"/>
                    </a:lnTo>
                    <a:lnTo>
                      <a:pt x="72" y="160"/>
                    </a:lnTo>
                    <a:lnTo>
                      <a:pt x="73" y="1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2592360" y="393552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78" h="98">
                    <a:moveTo>
                      <a:pt x="0" y="55"/>
                    </a:moveTo>
                    <a:lnTo>
                      <a:pt x="73" y="98"/>
                    </a:lnTo>
                    <a:lnTo>
                      <a:pt x="73" y="98"/>
                    </a:lnTo>
                    <a:lnTo>
                      <a:pt x="74" y="98"/>
                    </a:lnTo>
                    <a:lnTo>
                      <a:pt x="74" y="98"/>
                    </a:lnTo>
                    <a:lnTo>
                      <a:pt x="75" y="98"/>
                    </a:lnTo>
                    <a:lnTo>
                      <a:pt x="75" y="98"/>
                    </a:lnTo>
                    <a:lnTo>
                      <a:pt x="76" y="98"/>
                    </a:lnTo>
                    <a:lnTo>
                      <a:pt x="76" y="98"/>
                    </a:lnTo>
                    <a:lnTo>
                      <a:pt x="78" y="98"/>
                    </a:lnTo>
                    <a:lnTo>
                      <a:pt x="78" y="93"/>
                    </a:lnTo>
                    <a:lnTo>
                      <a:pt x="78" y="86"/>
                    </a:lnTo>
                    <a:lnTo>
                      <a:pt x="76" y="81"/>
                    </a:lnTo>
                    <a:lnTo>
                      <a:pt x="75" y="74"/>
                    </a:lnTo>
                    <a:lnTo>
                      <a:pt x="73" y="68"/>
                    </a:lnTo>
                    <a:lnTo>
                      <a:pt x="71" y="62"/>
                    </a:lnTo>
                    <a:lnTo>
                      <a:pt x="67" y="55"/>
                    </a:lnTo>
                    <a:lnTo>
                      <a:pt x="63" y="49"/>
                    </a:lnTo>
                    <a:lnTo>
                      <a:pt x="50" y="35"/>
                    </a:lnTo>
                    <a:lnTo>
                      <a:pt x="22" y="13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2592360" y="387828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224" h="111">
                    <a:moveTo>
                      <a:pt x="210" y="54"/>
                    </a:moveTo>
                    <a:lnTo>
                      <a:pt x="108" y="1"/>
                    </a:lnTo>
                    <a:lnTo>
                      <a:pt x="75" y="5"/>
                    </a:lnTo>
                    <a:lnTo>
                      <a:pt x="45" y="8"/>
                    </a:lnTo>
                    <a:lnTo>
                      <a:pt x="15" y="14"/>
                    </a:lnTo>
                    <a:lnTo>
                      <a:pt x="0" y="16"/>
                    </a:lnTo>
                    <a:lnTo>
                      <a:pt x="0" y="111"/>
                    </a:lnTo>
                    <a:lnTo>
                      <a:pt x="40" y="104"/>
                    </a:lnTo>
                    <a:lnTo>
                      <a:pt x="103" y="91"/>
                    </a:lnTo>
                    <a:lnTo>
                      <a:pt x="132" y="86"/>
                    </a:lnTo>
                    <a:lnTo>
                      <a:pt x="162" y="80"/>
                    </a:lnTo>
                    <a:lnTo>
                      <a:pt x="192" y="77"/>
                    </a:lnTo>
                    <a:lnTo>
                      <a:pt x="224" y="73"/>
                    </a:lnTo>
                    <a:lnTo>
                      <a:pt x="123" y="22"/>
                    </a:lnTo>
                    <a:lnTo>
                      <a:pt x="210" y="54"/>
                    </a:lnTo>
                    <a:lnTo>
                      <a:pt x="139" y="0"/>
                    </a:lnTo>
                    <a:lnTo>
                      <a:pt x="108" y="1"/>
                    </a:lnTo>
                    <a:lnTo>
                      <a:pt x="210" y="5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2630520" y="3884760"/>
                <a:ext cx="228600" cy="54000"/>
              </a:xfrm>
              <a:custGeom>
                <a:avLst/>
                <a:gdLst/>
                <a:ahLst/>
                <a:rect l="l" t="t" r="r" b="b"/>
                <a:pathLst>
                  <a:path w="720" h="170">
                    <a:moveTo>
                      <a:pt x="658" y="170"/>
                    </a:moveTo>
                    <a:lnTo>
                      <a:pt x="560" y="102"/>
                    </a:lnTo>
                    <a:lnTo>
                      <a:pt x="539" y="94"/>
                    </a:lnTo>
                    <a:lnTo>
                      <a:pt x="521" y="90"/>
                    </a:lnTo>
                    <a:lnTo>
                      <a:pt x="504" y="84"/>
                    </a:lnTo>
                    <a:lnTo>
                      <a:pt x="486" y="81"/>
                    </a:lnTo>
                    <a:lnTo>
                      <a:pt x="450" y="75"/>
                    </a:lnTo>
                    <a:lnTo>
                      <a:pt x="414" y="71"/>
                    </a:lnTo>
                    <a:lnTo>
                      <a:pt x="340" y="64"/>
                    </a:lnTo>
                    <a:lnTo>
                      <a:pt x="262" y="58"/>
                    </a:lnTo>
                    <a:lnTo>
                      <a:pt x="225" y="55"/>
                    </a:lnTo>
                    <a:lnTo>
                      <a:pt x="187" y="50"/>
                    </a:lnTo>
                    <a:lnTo>
                      <a:pt x="152" y="44"/>
                    </a:lnTo>
                    <a:lnTo>
                      <a:pt x="118" y="36"/>
                    </a:lnTo>
                    <a:lnTo>
                      <a:pt x="102" y="33"/>
                    </a:lnTo>
                    <a:lnTo>
                      <a:pt x="88" y="28"/>
                    </a:lnTo>
                    <a:lnTo>
                      <a:pt x="77" y="24"/>
                    </a:lnTo>
                    <a:lnTo>
                      <a:pt x="70" y="21"/>
                    </a:lnTo>
                    <a:lnTo>
                      <a:pt x="69" y="20"/>
                    </a:lnTo>
                    <a:lnTo>
                      <a:pt x="75" y="25"/>
                    </a:lnTo>
                    <a:lnTo>
                      <a:pt x="85" y="31"/>
                    </a:lnTo>
                    <a:lnTo>
                      <a:pt x="87" y="32"/>
                    </a:lnTo>
                    <a:lnTo>
                      <a:pt x="0" y="0"/>
                    </a:lnTo>
                    <a:lnTo>
                      <a:pt x="29" y="20"/>
                    </a:lnTo>
                    <a:lnTo>
                      <a:pt x="66" y="43"/>
                    </a:lnTo>
                    <a:lnTo>
                      <a:pt x="104" y="64"/>
                    </a:lnTo>
                    <a:lnTo>
                      <a:pt x="134" y="77"/>
                    </a:lnTo>
                    <a:lnTo>
                      <a:pt x="159" y="88"/>
                    </a:lnTo>
                    <a:lnTo>
                      <a:pt x="180" y="96"/>
                    </a:lnTo>
                    <a:lnTo>
                      <a:pt x="201" y="101"/>
                    </a:lnTo>
                    <a:lnTo>
                      <a:pt x="221" y="107"/>
                    </a:lnTo>
                    <a:lnTo>
                      <a:pt x="259" y="115"/>
                    </a:lnTo>
                    <a:lnTo>
                      <a:pt x="298" y="121"/>
                    </a:lnTo>
                    <a:lnTo>
                      <a:pt x="336" y="126"/>
                    </a:lnTo>
                    <a:lnTo>
                      <a:pt x="375" y="130"/>
                    </a:lnTo>
                    <a:lnTo>
                      <a:pt x="452" y="136"/>
                    </a:lnTo>
                    <a:lnTo>
                      <a:pt x="526" y="142"/>
                    </a:lnTo>
                    <a:lnTo>
                      <a:pt x="560" y="147"/>
                    </a:lnTo>
                    <a:lnTo>
                      <a:pt x="593" y="153"/>
                    </a:lnTo>
                    <a:lnTo>
                      <a:pt x="607" y="155"/>
                    </a:lnTo>
                    <a:lnTo>
                      <a:pt x="620" y="158"/>
                    </a:lnTo>
                    <a:lnTo>
                      <a:pt x="632" y="162"/>
                    </a:lnTo>
                    <a:lnTo>
                      <a:pt x="640" y="165"/>
                    </a:lnTo>
                    <a:lnTo>
                      <a:pt x="543" y="98"/>
                    </a:lnTo>
                    <a:lnTo>
                      <a:pt x="658" y="170"/>
                    </a:lnTo>
                    <a:lnTo>
                      <a:pt x="720" y="164"/>
                    </a:lnTo>
                    <a:lnTo>
                      <a:pt x="560" y="102"/>
                    </a:lnTo>
                    <a:lnTo>
                      <a:pt x="658" y="1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3478320" y="3691080"/>
                <a:ext cx="436320" cy="69840"/>
              </a:xfrm>
              <a:custGeom>
                <a:avLst/>
                <a:gdLst/>
                <a:ahLst/>
                <a:rect l="l" t="t" r="r" b="b"/>
                <a:pathLst>
                  <a:path w="1377" h="221">
                    <a:moveTo>
                      <a:pt x="1377" y="119"/>
                    </a:moveTo>
                    <a:lnTo>
                      <a:pt x="1337" y="123"/>
                    </a:lnTo>
                    <a:lnTo>
                      <a:pt x="1298" y="130"/>
                    </a:lnTo>
                    <a:lnTo>
                      <a:pt x="1258" y="138"/>
                    </a:lnTo>
                    <a:lnTo>
                      <a:pt x="1218" y="147"/>
                    </a:lnTo>
                    <a:lnTo>
                      <a:pt x="1138" y="168"/>
                    </a:lnTo>
                    <a:lnTo>
                      <a:pt x="1054" y="188"/>
                    </a:lnTo>
                    <a:lnTo>
                      <a:pt x="1012" y="198"/>
                    </a:lnTo>
                    <a:lnTo>
                      <a:pt x="968" y="207"/>
                    </a:lnTo>
                    <a:lnTo>
                      <a:pt x="922" y="213"/>
                    </a:lnTo>
                    <a:lnTo>
                      <a:pt x="875" y="218"/>
                    </a:lnTo>
                    <a:lnTo>
                      <a:pt x="851" y="220"/>
                    </a:lnTo>
                    <a:lnTo>
                      <a:pt x="826" y="220"/>
                    </a:lnTo>
                    <a:lnTo>
                      <a:pt x="802" y="221"/>
                    </a:lnTo>
                    <a:lnTo>
                      <a:pt x="776" y="220"/>
                    </a:lnTo>
                    <a:lnTo>
                      <a:pt x="751" y="219"/>
                    </a:lnTo>
                    <a:lnTo>
                      <a:pt x="725" y="217"/>
                    </a:lnTo>
                    <a:lnTo>
                      <a:pt x="697" y="215"/>
                    </a:lnTo>
                    <a:lnTo>
                      <a:pt x="670" y="211"/>
                    </a:lnTo>
                    <a:lnTo>
                      <a:pt x="661" y="201"/>
                    </a:lnTo>
                    <a:lnTo>
                      <a:pt x="651" y="192"/>
                    </a:lnTo>
                    <a:lnTo>
                      <a:pt x="638" y="184"/>
                    </a:lnTo>
                    <a:lnTo>
                      <a:pt x="623" y="176"/>
                    </a:lnTo>
                    <a:lnTo>
                      <a:pt x="607" y="169"/>
                    </a:lnTo>
                    <a:lnTo>
                      <a:pt x="589" y="163"/>
                    </a:lnTo>
                    <a:lnTo>
                      <a:pt x="570" y="158"/>
                    </a:lnTo>
                    <a:lnTo>
                      <a:pt x="550" y="152"/>
                    </a:lnTo>
                    <a:lnTo>
                      <a:pt x="506" y="144"/>
                    </a:lnTo>
                    <a:lnTo>
                      <a:pt x="458" y="136"/>
                    </a:lnTo>
                    <a:lnTo>
                      <a:pt x="409" y="129"/>
                    </a:lnTo>
                    <a:lnTo>
                      <a:pt x="357" y="123"/>
                    </a:lnTo>
                    <a:lnTo>
                      <a:pt x="304" y="119"/>
                    </a:lnTo>
                    <a:lnTo>
                      <a:pt x="252" y="113"/>
                    </a:lnTo>
                    <a:lnTo>
                      <a:pt x="202" y="107"/>
                    </a:lnTo>
                    <a:lnTo>
                      <a:pt x="153" y="101"/>
                    </a:lnTo>
                    <a:lnTo>
                      <a:pt x="130" y="97"/>
                    </a:lnTo>
                    <a:lnTo>
                      <a:pt x="107" y="93"/>
                    </a:lnTo>
                    <a:lnTo>
                      <a:pt x="86" y="89"/>
                    </a:lnTo>
                    <a:lnTo>
                      <a:pt x="66" y="83"/>
                    </a:lnTo>
                    <a:lnTo>
                      <a:pt x="48" y="78"/>
                    </a:lnTo>
                    <a:lnTo>
                      <a:pt x="29" y="72"/>
                    </a:lnTo>
                    <a:lnTo>
                      <a:pt x="13" y="66"/>
                    </a:lnTo>
                    <a:lnTo>
                      <a:pt x="0" y="58"/>
                    </a:lnTo>
                    <a:lnTo>
                      <a:pt x="84" y="62"/>
                    </a:lnTo>
                    <a:lnTo>
                      <a:pt x="162" y="64"/>
                    </a:lnTo>
                    <a:lnTo>
                      <a:pt x="235" y="63"/>
                    </a:lnTo>
                    <a:lnTo>
                      <a:pt x="301" y="62"/>
                    </a:lnTo>
                    <a:lnTo>
                      <a:pt x="362" y="58"/>
                    </a:lnTo>
                    <a:lnTo>
                      <a:pt x="418" y="54"/>
                    </a:lnTo>
                    <a:lnTo>
                      <a:pt x="471" y="49"/>
                    </a:lnTo>
                    <a:lnTo>
                      <a:pt x="520" y="44"/>
                    </a:lnTo>
                    <a:lnTo>
                      <a:pt x="606" y="31"/>
                    </a:lnTo>
                    <a:lnTo>
                      <a:pt x="684" y="18"/>
                    </a:lnTo>
                    <a:lnTo>
                      <a:pt x="719" y="13"/>
                    </a:lnTo>
                    <a:lnTo>
                      <a:pt x="753" y="8"/>
                    </a:lnTo>
                    <a:lnTo>
                      <a:pt x="786" y="4"/>
                    </a:lnTo>
                    <a:lnTo>
                      <a:pt x="821" y="0"/>
                    </a:lnTo>
                    <a:lnTo>
                      <a:pt x="833" y="10"/>
                    </a:lnTo>
                    <a:lnTo>
                      <a:pt x="848" y="20"/>
                    </a:lnTo>
                    <a:lnTo>
                      <a:pt x="863" y="28"/>
                    </a:lnTo>
                    <a:lnTo>
                      <a:pt x="879" y="34"/>
                    </a:lnTo>
                    <a:lnTo>
                      <a:pt x="895" y="41"/>
                    </a:lnTo>
                    <a:lnTo>
                      <a:pt x="912" y="47"/>
                    </a:lnTo>
                    <a:lnTo>
                      <a:pt x="929" y="53"/>
                    </a:lnTo>
                    <a:lnTo>
                      <a:pt x="946" y="57"/>
                    </a:lnTo>
                    <a:lnTo>
                      <a:pt x="982" y="65"/>
                    </a:lnTo>
                    <a:lnTo>
                      <a:pt x="1019" y="71"/>
                    </a:lnTo>
                    <a:lnTo>
                      <a:pt x="1058" y="75"/>
                    </a:lnTo>
                    <a:lnTo>
                      <a:pt x="1096" y="79"/>
                    </a:lnTo>
                    <a:lnTo>
                      <a:pt x="1173" y="85"/>
                    </a:lnTo>
                    <a:lnTo>
                      <a:pt x="1247" y="91"/>
                    </a:lnTo>
                    <a:lnTo>
                      <a:pt x="1282" y="96"/>
                    </a:lnTo>
                    <a:lnTo>
                      <a:pt x="1316" y="102"/>
                    </a:lnTo>
                    <a:lnTo>
                      <a:pt x="1332" y="105"/>
                    </a:lnTo>
                    <a:lnTo>
                      <a:pt x="1348" y="110"/>
                    </a:lnTo>
                    <a:lnTo>
                      <a:pt x="1363" y="114"/>
                    </a:lnTo>
                    <a:lnTo>
                      <a:pt x="1377" y="11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3672000" y="3716280"/>
                <a:ext cx="261720" cy="55800"/>
              </a:xfrm>
              <a:custGeom>
                <a:avLst/>
                <a:gdLst/>
                <a:ahLst/>
                <a:rect l="l" t="t" r="r" b="b"/>
                <a:pathLst>
                  <a:path w="823" h="174">
                    <a:moveTo>
                      <a:pt x="0" y="99"/>
                    </a:moveTo>
                    <a:lnTo>
                      <a:pt x="113" y="164"/>
                    </a:lnTo>
                    <a:lnTo>
                      <a:pt x="141" y="168"/>
                    </a:lnTo>
                    <a:lnTo>
                      <a:pt x="169" y="170"/>
                    </a:lnTo>
                    <a:lnTo>
                      <a:pt x="195" y="173"/>
                    </a:lnTo>
                    <a:lnTo>
                      <a:pt x="221" y="174"/>
                    </a:lnTo>
                    <a:lnTo>
                      <a:pt x="247" y="174"/>
                    </a:lnTo>
                    <a:lnTo>
                      <a:pt x="272" y="174"/>
                    </a:lnTo>
                    <a:lnTo>
                      <a:pt x="296" y="173"/>
                    </a:lnTo>
                    <a:lnTo>
                      <a:pt x="321" y="172"/>
                    </a:lnTo>
                    <a:lnTo>
                      <a:pt x="368" y="166"/>
                    </a:lnTo>
                    <a:lnTo>
                      <a:pt x="414" y="159"/>
                    </a:lnTo>
                    <a:lnTo>
                      <a:pt x="458" y="151"/>
                    </a:lnTo>
                    <a:lnTo>
                      <a:pt x="502" y="141"/>
                    </a:lnTo>
                    <a:lnTo>
                      <a:pt x="585" y="120"/>
                    </a:lnTo>
                    <a:lnTo>
                      <a:pt x="666" y="100"/>
                    </a:lnTo>
                    <a:lnTo>
                      <a:pt x="706" y="91"/>
                    </a:lnTo>
                    <a:lnTo>
                      <a:pt x="744" y="83"/>
                    </a:lnTo>
                    <a:lnTo>
                      <a:pt x="784" y="77"/>
                    </a:lnTo>
                    <a:lnTo>
                      <a:pt x="823" y="72"/>
                    </a:lnTo>
                    <a:lnTo>
                      <a:pt x="707" y="0"/>
                    </a:lnTo>
                    <a:lnTo>
                      <a:pt x="667" y="4"/>
                    </a:lnTo>
                    <a:lnTo>
                      <a:pt x="627" y="11"/>
                    </a:lnTo>
                    <a:lnTo>
                      <a:pt x="587" y="19"/>
                    </a:lnTo>
                    <a:lnTo>
                      <a:pt x="548" y="28"/>
                    </a:lnTo>
                    <a:lnTo>
                      <a:pt x="466" y="48"/>
                    </a:lnTo>
                    <a:lnTo>
                      <a:pt x="384" y="70"/>
                    </a:lnTo>
                    <a:lnTo>
                      <a:pt x="341" y="79"/>
                    </a:lnTo>
                    <a:lnTo>
                      <a:pt x="298" y="87"/>
                    </a:lnTo>
                    <a:lnTo>
                      <a:pt x="252" y="94"/>
                    </a:lnTo>
                    <a:lnTo>
                      <a:pt x="205" y="99"/>
                    </a:lnTo>
                    <a:lnTo>
                      <a:pt x="181" y="101"/>
                    </a:lnTo>
                    <a:lnTo>
                      <a:pt x="157" y="102"/>
                    </a:lnTo>
                    <a:lnTo>
                      <a:pt x="132" y="102"/>
                    </a:lnTo>
                    <a:lnTo>
                      <a:pt x="108" y="102"/>
                    </a:lnTo>
                    <a:lnTo>
                      <a:pt x="82" y="101"/>
                    </a:lnTo>
                    <a:lnTo>
                      <a:pt x="57" y="99"/>
                    </a:lnTo>
                    <a:lnTo>
                      <a:pt x="31" y="95"/>
                    </a:lnTo>
                    <a:lnTo>
                      <a:pt x="5" y="92"/>
                    </a:lnTo>
                    <a:lnTo>
                      <a:pt x="117" y="158"/>
                    </a:lnTo>
                    <a:lnTo>
                      <a:pt x="0" y="99"/>
                    </a:lnTo>
                    <a:lnTo>
                      <a:pt x="42" y="152"/>
                    </a:lnTo>
                    <a:lnTo>
                      <a:pt x="113" y="164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3449520" y="3697200"/>
                <a:ext cx="260640" cy="69840"/>
              </a:xfrm>
              <a:custGeom>
                <a:avLst/>
                <a:gdLst/>
                <a:ahLst/>
                <a:rect l="l" t="t" r="r" b="b"/>
                <a:pathLst>
                  <a:path w="818" h="220">
                    <a:moveTo>
                      <a:pt x="32" y="2"/>
                    </a:moveTo>
                    <a:lnTo>
                      <a:pt x="89" y="50"/>
                    </a:lnTo>
                    <a:lnTo>
                      <a:pt x="131" y="72"/>
                    </a:lnTo>
                    <a:lnTo>
                      <a:pt x="161" y="83"/>
                    </a:lnTo>
                    <a:lnTo>
                      <a:pt x="183" y="91"/>
                    </a:lnTo>
                    <a:lnTo>
                      <a:pt x="205" y="98"/>
                    </a:lnTo>
                    <a:lnTo>
                      <a:pt x="227" y="104"/>
                    </a:lnTo>
                    <a:lnTo>
                      <a:pt x="250" y="108"/>
                    </a:lnTo>
                    <a:lnTo>
                      <a:pt x="272" y="111"/>
                    </a:lnTo>
                    <a:lnTo>
                      <a:pt x="296" y="116"/>
                    </a:lnTo>
                    <a:lnTo>
                      <a:pt x="345" y="123"/>
                    </a:lnTo>
                    <a:lnTo>
                      <a:pt x="397" y="129"/>
                    </a:lnTo>
                    <a:lnTo>
                      <a:pt x="449" y="133"/>
                    </a:lnTo>
                    <a:lnTo>
                      <a:pt x="501" y="139"/>
                    </a:lnTo>
                    <a:lnTo>
                      <a:pt x="553" y="145"/>
                    </a:lnTo>
                    <a:lnTo>
                      <a:pt x="603" y="150"/>
                    </a:lnTo>
                    <a:lnTo>
                      <a:pt x="649" y="158"/>
                    </a:lnTo>
                    <a:lnTo>
                      <a:pt x="692" y="166"/>
                    </a:lnTo>
                    <a:lnTo>
                      <a:pt x="709" y="171"/>
                    </a:lnTo>
                    <a:lnTo>
                      <a:pt x="725" y="177"/>
                    </a:lnTo>
                    <a:lnTo>
                      <a:pt x="736" y="180"/>
                    </a:lnTo>
                    <a:lnTo>
                      <a:pt x="737" y="181"/>
                    </a:lnTo>
                    <a:lnTo>
                      <a:pt x="723" y="172"/>
                    </a:lnTo>
                    <a:lnTo>
                      <a:pt x="701" y="159"/>
                    </a:lnTo>
                    <a:lnTo>
                      <a:pt x="696" y="156"/>
                    </a:lnTo>
                    <a:lnTo>
                      <a:pt x="701" y="161"/>
                    </a:lnTo>
                    <a:lnTo>
                      <a:pt x="818" y="220"/>
                    </a:lnTo>
                    <a:lnTo>
                      <a:pt x="805" y="205"/>
                    </a:lnTo>
                    <a:lnTo>
                      <a:pt x="778" y="183"/>
                    </a:lnTo>
                    <a:lnTo>
                      <a:pt x="732" y="154"/>
                    </a:lnTo>
                    <a:lnTo>
                      <a:pt x="686" y="130"/>
                    </a:lnTo>
                    <a:lnTo>
                      <a:pt x="657" y="117"/>
                    </a:lnTo>
                    <a:lnTo>
                      <a:pt x="631" y="108"/>
                    </a:lnTo>
                    <a:lnTo>
                      <a:pt x="610" y="102"/>
                    </a:lnTo>
                    <a:lnTo>
                      <a:pt x="587" y="96"/>
                    </a:lnTo>
                    <a:lnTo>
                      <a:pt x="541" y="86"/>
                    </a:lnTo>
                    <a:lnTo>
                      <a:pt x="492" y="80"/>
                    </a:lnTo>
                    <a:lnTo>
                      <a:pt x="442" y="73"/>
                    </a:lnTo>
                    <a:lnTo>
                      <a:pt x="390" y="67"/>
                    </a:lnTo>
                    <a:lnTo>
                      <a:pt x="337" y="61"/>
                    </a:lnTo>
                    <a:lnTo>
                      <a:pt x="286" y="57"/>
                    </a:lnTo>
                    <a:lnTo>
                      <a:pt x="235" y="50"/>
                    </a:lnTo>
                    <a:lnTo>
                      <a:pt x="187" y="44"/>
                    </a:lnTo>
                    <a:lnTo>
                      <a:pt x="164" y="41"/>
                    </a:lnTo>
                    <a:lnTo>
                      <a:pt x="144" y="36"/>
                    </a:lnTo>
                    <a:lnTo>
                      <a:pt x="123" y="32"/>
                    </a:lnTo>
                    <a:lnTo>
                      <a:pt x="105" y="28"/>
                    </a:lnTo>
                    <a:lnTo>
                      <a:pt x="89" y="24"/>
                    </a:lnTo>
                    <a:lnTo>
                      <a:pt x="77" y="19"/>
                    </a:lnTo>
                    <a:lnTo>
                      <a:pt x="75" y="18"/>
                    </a:lnTo>
                    <a:lnTo>
                      <a:pt x="89" y="26"/>
                    </a:lnTo>
                    <a:lnTo>
                      <a:pt x="146" y="74"/>
                    </a:lnTo>
                    <a:lnTo>
                      <a:pt x="32" y="2"/>
                    </a:lnTo>
                    <a:lnTo>
                      <a:pt x="0" y="0"/>
                    </a:lnTo>
                    <a:lnTo>
                      <a:pt x="89" y="5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3459240" y="3678120"/>
                <a:ext cx="296640" cy="42840"/>
              </a:xfrm>
              <a:custGeom>
                <a:avLst/>
                <a:gdLst/>
                <a:ahLst/>
                <a:rect l="l" t="t" r="r" b="b"/>
                <a:pathLst>
                  <a:path w="935" h="137">
                    <a:moveTo>
                      <a:pt x="920" y="54"/>
                    </a:moveTo>
                    <a:lnTo>
                      <a:pt x="819" y="3"/>
                    </a:lnTo>
                    <a:lnTo>
                      <a:pt x="785" y="6"/>
                    </a:lnTo>
                    <a:lnTo>
                      <a:pt x="752" y="10"/>
                    </a:lnTo>
                    <a:lnTo>
                      <a:pt x="718" y="14"/>
                    </a:lnTo>
                    <a:lnTo>
                      <a:pt x="682" y="20"/>
                    </a:lnTo>
                    <a:lnTo>
                      <a:pt x="605" y="32"/>
                    </a:lnTo>
                    <a:lnTo>
                      <a:pt x="518" y="45"/>
                    </a:lnTo>
                    <a:lnTo>
                      <a:pt x="469" y="51"/>
                    </a:lnTo>
                    <a:lnTo>
                      <a:pt x="417" y="56"/>
                    </a:lnTo>
                    <a:lnTo>
                      <a:pt x="361" y="60"/>
                    </a:lnTo>
                    <a:lnTo>
                      <a:pt x="300" y="63"/>
                    </a:lnTo>
                    <a:lnTo>
                      <a:pt x="233" y="66"/>
                    </a:lnTo>
                    <a:lnTo>
                      <a:pt x="162" y="66"/>
                    </a:lnTo>
                    <a:lnTo>
                      <a:pt x="84" y="64"/>
                    </a:lnTo>
                    <a:lnTo>
                      <a:pt x="0" y="61"/>
                    </a:lnTo>
                    <a:lnTo>
                      <a:pt x="114" y="133"/>
                    </a:lnTo>
                    <a:lnTo>
                      <a:pt x="198" y="136"/>
                    </a:lnTo>
                    <a:lnTo>
                      <a:pt x="277" y="137"/>
                    </a:lnTo>
                    <a:lnTo>
                      <a:pt x="349" y="137"/>
                    </a:lnTo>
                    <a:lnTo>
                      <a:pt x="416" y="135"/>
                    </a:lnTo>
                    <a:lnTo>
                      <a:pt x="476" y="133"/>
                    </a:lnTo>
                    <a:lnTo>
                      <a:pt x="533" y="128"/>
                    </a:lnTo>
                    <a:lnTo>
                      <a:pt x="586" y="123"/>
                    </a:lnTo>
                    <a:lnTo>
                      <a:pt x="635" y="117"/>
                    </a:lnTo>
                    <a:lnTo>
                      <a:pt x="721" y="104"/>
                    </a:lnTo>
                    <a:lnTo>
                      <a:pt x="799" y="92"/>
                    </a:lnTo>
                    <a:lnTo>
                      <a:pt x="834" y="87"/>
                    </a:lnTo>
                    <a:lnTo>
                      <a:pt x="868" y="82"/>
                    </a:lnTo>
                    <a:lnTo>
                      <a:pt x="902" y="78"/>
                    </a:lnTo>
                    <a:lnTo>
                      <a:pt x="935" y="75"/>
                    </a:lnTo>
                    <a:lnTo>
                      <a:pt x="834" y="23"/>
                    </a:lnTo>
                    <a:lnTo>
                      <a:pt x="920" y="54"/>
                    </a:lnTo>
                    <a:lnTo>
                      <a:pt x="850" y="0"/>
                    </a:lnTo>
                    <a:lnTo>
                      <a:pt x="819" y="3"/>
                    </a:lnTo>
                    <a:lnTo>
                      <a:pt x="920" y="5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3724200" y="3686040"/>
                <a:ext cx="228600" cy="54000"/>
              </a:xfrm>
              <a:custGeom>
                <a:avLst/>
                <a:gdLst/>
                <a:ahLst/>
                <a:rect l="l" t="t" r="r" b="b"/>
                <a:pathLst>
                  <a:path w="720" h="170">
                    <a:moveTo>
                      <a:pt x="658" y="170"/>
                    </a:moveTo>
                    <a:lnTo>
                      <a:pt x="560" y="103"/>
                    </a:lnTo>
                    <a:lnTo>
                      <a:pt x="539" y="95"/>
                    </a:lnTo>
                    <a:lnTo>
                      <a:pt x="521" y="89"/>
                    </a:lnTo>
                    <a:lnTo>
                      <a:pt x="504" y="85"/>
                    </a:lnTo>
                    <a:lnTo>
                      <a:pt x="486" y="81"/>
                    </a:lnTo>
                    <a:lnTo>
                      <a:pt x="451" y="74"/>
                    </a:lnTo>
                    <a:lnTo>
                      <a:pt x="414" y="70"/>
                    </a:lnTo>
                    <a:lnTo>
                      <a:pt x="340" y="64"/>
                    </a:lnTo>
                    <a:lnTo>
                      <a:pt x="262" y="57"/>
                    </a:lnTo>
                    <a:lnTo>
                      <a:pt x="225" y="54"/>
                    </a:lnTo>
                    <a:lnTo>
                      <a:pt x="187" y="49"/>
                    </a:lnTo>
                    <a:lnTo>
                      <a:pt x="152" y="44"/>
                    </a:lnTo>
                    <a:lnTo>
                      <a:pt x="118" y="37"/>
                    </a:lnTo>
                    <a:lnTo>
                      <a:pt x="102" y="32"/>
                    </a:lnTo>
                    <a:lnTo>
                      <a:pt x="88" y="29"/>
                    </a:lnTo>
                    <a:lnTo>
                      <a:pt x="77" y="24"/>
                    </a:lnTo>
                    <a:lnTo>
                      <a:pt x="70" y="21"/>
                    </a:lnTo>
                    <a:lnTo>
                      <a:pt x="69" y="21"/>
                    </a:lnTo>
                    <a:lnTo>
                      <a:pt x="76" y="24"/>
                    </a:lnTo>
                    <a:lnTo>
                      <a:pt x="85" y="30"/>
                    </a:lnTo>
                    <a:lnTo>
                      <a:pt x="86" y="31"/>
                    </a:lnTo>
                    <a:lnTo>
                      <a:pt x="0" y="0"/>
                    </a:lnTo>
                    <a:lnTo>
                      <a:pt x="29" y="21"/>
                    </a:lnTo>
                    <a:lnTo>
                      <a:pt x="66" y="44"/>
                    </a:lnTo>
                    <a:lnTo>
                      <a:pt x="104" y="64"/>
                    </a:lnTo>
                    <a:lnTo>
                      <a:pt x="134" y="78"/>
                    </a:lnTo>
                    <a:lnTo>
                      <a:pt x="159" y="88"/>
                    </a:lnTo>
                    <a:lnTo>
                      <a:pt x="180" y="96"/>
                    </a:lnTo>
                    <a:lnTo>
                      <a:pt x="201" y="102"/>
                    </a:lnTo>
                    <a:lnTo>
                      <a:pt x="221" y="108"/>
                    </a:lnTo>
                    <a:lnTo>
                      <a:pt x="259" y="116"/>
                    </a:lnTo>
                    <a:lnTo>
                      <a:pt x="297" y="121"/>
                    </a:lnTo>
                    <a:lnTo>
                      <a:pt x="337" y="126"/>
                    </a:lnTo>
                    <a:lnTo>
                      <a:pt x="375" y="130"/>
                    </a:lnTo>
                    <a:lnTo>
                      <a:pt x="452" y="136"/>
                    </a:lnTo>
                    <a:lnTo>
                      <a:pt x="526" y="142"/>
                    </a:lnTo>
                    <a:lnTo>
                      <a:pt x="560" y="146"/>
                    </a:lnTo>
                    <a:lnTo>
                      <a:pt x="593" y="152"/>
                    </a:lnTo>
                    <a:lnTo>
                      <a:pt x="607" y="155"/>
                    </a:lnTo>
                    <a:lnTo>
                      <a:pt x="620" y="159"/>
                    </a:lnTo>
                    <a:lnTo>
                      <a:pt x="632" y="162"/>
                    </a:lnTo>
                    <a:lnTo>
                      <a:pt x="640" y="166"/>
                    </a:lnTo>
                    <a:lnTo>
                      <a:pt x="542" y="98"/>
                    </a:lnTo>
                    <a:lnTo>
                      <a:pt x="658" y="170"/>
                    </a:lnTo>
                    <a:lnTo>
                      <a:pt x="720" y="165"/>
                    </a:lnTo>
                    <a:lnTo>
                      <a:pt x="560" y="103"/>
                    </a:lnTo>
                    <a:lnTo>
                      <a:pt x="658" y="1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5562720" y="3700440"/>
                <a:ext cx="438120" cy="71640"/>
              </a:xfrm>
              <a:custGeom>
                <a:avLst/>
                <a:gdLst/>
                <a:ahLst/>
                <a:rect l="l" t="t" r="r" b="b"/>
                <a:pathLst>
                  <a:path w="1379" h="221">
                    <a:moveTo>
                      <a:pt x="0" y="119"/>
                    </a:moveTo>
                    <a:lnTo>
                      <a:pt x="40" y="124"/>
                    </a:lnTo>
                    <a:lnTo>
                      <a:pt x="80" y="129"/>
                    </a:lnTo>
                    <a:lnTo>
                      <a:pt x="120" y="137"/>
                    </a:lnTo>
                    <a:lnTo>
                      <a:pt x="159" y="146"/>
                    </a:lnTo>
                    <a:lnTo>
                      <a:pt x="240" y="167"/>
                    </a:lnTo>
                    <a:lnTo>
                      <a:pt x="323" y="189"/>
                    </a:lnTo>
                    <a:lnTo>
                      <a:pt x="366" y="198"/>
                    </a:lnTo>
                    <a:lnTo>
                      <a:pt x="411" y="206"/>
                    </a:lnTo>
                    <a:lnTo>
                      <a:pt x="456" y="213"/>
                    </a:lnTo>
                    <a:lnTo>
                      <a:pt x="503" y="218"/>
                    </a:lnTo>
                    <a:lnTo>
                      <a:pt x="527" y="219"/>
                    </a:lnTo>
                    <a:lnTo>
                      <a:pt x="551" y="221"/>
                    </a:lnTo>
                    <a:lnTo>
                      <a:pt x="576" y="221"/>
                    </a:lnTo>
                    <a:lnTo>
                      <a:pt x="601" y="221"/>
                    </a:lnTo>
                    <a:lnTo>
                      <a:pt x="627" y="219"/>
                    </a:lnTo>
                    <a:lnTo>
                      <a:pt x="654" y="217"/>
                    </a:lnTo>
                    <a:lnTo>
                      <a:pt x="680" y="215"/>
                    </a:lnTo>
                    <a:lnTo>
                      <a:pt x="707" y="210"/>
                    </a:lnTo>
                    <a:lnTo>
                      <a:pt x="716" y="201"/>
                    </a:lnTo>
                    <a:lnTo>
                      <a:pt x="728" y="192"/>
                    </a:lnTo>
                    <a:lnTo>
                      <a:pt x="740" y="184"/>
                    </a:lnTo>
                    <a:lnTo>
                      <a:pt x="755" y="176"/>
                    </a:lnTo>
                    <a:lnTo>
                      <a:pt x="771" y="169"/>
                    </a:lnTo>
                    <a:lnTo>
                      <a:pt x="788" y="164"/>
                    </a:lnTo>
                    <a:lnTo>
                      <a:pt x="808" y="158"/>
                    </a:lnTo>
                    <a:lnTo>
                      <a:pt x="828" y="152"/>
                    </a:lnTo>
                    <a:lnTo>
                      <a:pt x="871" y="143"/>
                    </a:lnTo>
                    <a:lnTo>
                      <a:pt x="919" y="136"/>
                    </a:lnTo>
                    <a:lnTo>
                      <a:pt x="969" y="129"/>
                    </a:lnTo>
                    <a:lnTo>
                      <a:pt x="1021" y="124"/>
                    </a:lnTo>
                    <a:lnTo>
                      <a:pt x="1073" y="118"/>
                    </a:lnTo>
                    <a:lnTo>
                      <a:pt x="1126" y="113"/>
                    </a:lnTo>
                    <a:lnTo>
                      <a:pt x="1177" y="108"/>
                    </a:lnTo>
                    <a:lnTo>
                      <a:pt x="1225" y="101"/>
                    </a:lnTo>
                    <a:lnTo>
                      <a:pt x="1249" y="97"/>
                    </a:lnTo>
                    <a:lnTo>
                      <a:pt x="1270" y="93"/>
                    </a:lnTo>
                    <a:lnTo>
                      <a:pt x="1292" y="88"/>
                    </a:lnTo>
                    <a:lnTo>
                      <a:pt x="1313" y="84"/>
                    </a:lnTo>
                    <a:lnTo>
                      <a:pt x="1331" y="78"/>
                    </a:lnTo>
                    <a:lnTo>
                      <a:pt x="1348" y="72"/>
                    </a:lnTo>
                    <a:lnTo>
                      <a:pt x="1364" y="65"/>
                    </a:lnTo>
                    <a:lnTo>
                      <a:pt x="1379" y="59"/>
                    </a:lnTo>
                    <a:lnTo>
                      <a:pt x="1294" y="62"/>
                    </a:lnTo>
                    <a:lnTo>
                      <a:pt x="1216" y="63"/>
                    </a:lnTo>
                    <a:lnTo>
                      <a:pt x="1144" y="63"/>
                    </a:lnTo>
                    <a:lnTo>
                      <a:pt x="1078" y="61"/>
                    </a:lnTo>
                    <a:lnTo>
                      <a:pt x="1016" y="59"/>
                    </a:lnTo>
                    <a:lnTo>
                      <a:pt x="959" y="54"/>
                    </a:lnTo>
                    <a:lnTo>
                      <a:pt x="907" y="49"/>
                    </a:lnTo>
                    <a:lnTo>
                      <a:pt x="859" y="43"/>
                    </a:lnTo>
                    <a:lnTo>
                      <a:pt x="771" y="30"/>
                    </a:lnTo>
                    <a:lnTo>
                      <a:pt x="695" y="19"/>
                    </a:lnTo>
                    <a:lnTo>
                      <a:pt x="659" y="13"/>
                    </a:lnTo>
                    <a:lnTo>
                      <a:pt x="625" y="7"/>
                    </a:lnTo>
                    <a:lnTo>
                      <a:pt x="591" y="4"/>
                    </a:lnTo>
                    <a:lnTo>
                      <a:pt x="558" y="0"/>
                    </a:lnTo>
                    <a:lnTo>
                      <a:pt x="544" y="11"/>
                    </a:lnTo>
                    <a:lnTo>
                      <a:pt x="531" y="19"/>
                    </a:lnTo>
                    <a:lnTo>
                      <a:pt x="515" y="28"/>
                    </a:lnTo>
                    <a:lnTo>
                      <a:pt x="500" y="35"/>
                    </a:lnTo>
                    <a:lnTo>
                      <a:pt x="484" y="41"/>
                    </a:lnTo>
                    <a:lnTo>
                      <a:pt x="467" y="47"/>
                    </a:lnTo>
                    <a:lnTo>
                      <a:pt x="450" y="52"/>
                    </a:lnTo>
                    <a:lnTo>
                      <a:pt x="433" y="56"/>
                    </a:lnTo>
                    <a:lnTo>
                      <a:pt x="396" y="64"/>
                    </a:lnTo>
                    <a:lnTo>
                      <a:pt x="358" y="70"/>
                    </a:lnTo>
                    <a:lnTo>
                      <a:pt x="321" y="75"/>
                    </a:lnTo>
                    <a:lnTo>
                      <a:pt x="282" y="79"/>
                    </a:lnTo>
                    <a:lnTo>
                      <a:pt x="206" y="85"/>
                    </a:lnTo>
                    <a:lnTo>
                      <a:pt x="132" y="92"/>
                    </a:lnTo>
                    <a:lnTo>
                      <a:pt x="95" y="96"/>
                    </a:lnTo>
                    <a:lnTo>
                      <a:pt x="62" y="102"/>
                    </a:lnTo>
                    <a:lnTo>
                      <a:pt x="46" y="105"/>
                    </a:lnTo>
                    <a:lnTo>
                      <a:pt x="30" y="109"/>
                    </a:lnTo>
                    <a:lnTo>
                      <a:pt x="15" y="113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5545080" y="3727440"/>
                <a:ext cx="262080" cy="55440"/>
              </a:xfrm>
              <a:custGeom>
                <a:avLst/>
                <a:gdLst/>
                <a:ahLst/>
                <a:rect l="l" t="t" r="r" b="b"/>
                <a:pathLst>
                  <a:path w="823" h="174">
                    <a:moveTo>
                      <a:pt x="703" y="93"/>
                    </a:moveTo>
                    <a:lnTo>
                      <a:pt x="704" y="92"/>
                    </a:lnTo>
                    <a:lnTo>
                      <a:pt x="677" y="95"/>
                    </a:lnTo>
                    <a:lnTo>
                      <a:pt x="651" y="99"/>
                    </a:lnTo>
                    <a:lnTo>
                      <a:pt x="624" y="100"/>
                    </a:lnTo>
                    <a:lnTo>
                      <a:pt x="599" y="101"/>
                    </a:lnTo>
                    <a:lnTo>
                      <a:pt x="574" y="102"/>
                    </a:lnTo>
                    <a:lnTo>
                      <a:pt x="549" y="101"/>
                    </a:lnTo>
                    <a:lnTo>
                      <a:pt x="525" y="101"/>
                    </a:lnTo>
                    <a:lnTo>
                      <a:pt x="502" y="99"/>
                    </a:lnTo>
                    <a:lnTo>
                      <a:pt x="456" y="94"/>
                    </a:lnTo>
                    <a:lnTo>
                      <a:pt x="411" y="87"/>
                    </a:lnTo>
                    <a:lnTo>
                      <a:pt x="369" y="79"/>
                    </a:lnTo>
                    <a:lnTo>
                      <a:pt x="327" y="70"/>
                    </a:lnTo>
                    <a:lnTo>
                      <a:pt x="244" y="50"/>
                    </a:lnTo>
                    <a:lnTo>
                      <a:pt x="163" y="28"/>
                    </a:lnTo>
                    <a:lnTo>
                      <a:pt x="123" y="19"/>
                    </a:lnTo>
                    <a:lnTo>
                      <a:pt x="82" y="11"/>
                    </a:lnTo>
                    <a:lnTo>
                      <a:pt x="41" y="4"/>
                    </a:lnTo>
                    <a:lnTo>
                      <a:pt x="0" y="0"/>
                    </a:lnTo>
                    <a:lnTo>
                      <a:pt x="112" y="71"/>
                    </a:lnTo>
                    <a:lnTo>
                      <a:pt x="150" y="76"/>
                    </a:lnTo>
                    <a:lnTo>
                      <a:pt x="189" y="83"/>
                    </a:lnTo>
                    <a:lnTo>
                      <a:pt x="228" y="90"/>
                    </a:lnTo>
                    <a:lnTo>
                      <a:pt x="265" y="99"/>
                    </a:lnTo>
                    <a:lnTo>
                      <a:pt x="346" y="119"/>
                    </a:lnTo>
                    <a:lnTo>
                      <a:pt x="431" y="141"/>
                    </a:lnTo>
                    <a:lnTo>
                      <a:pt x="475" y="150"/>
                    </a:lnTo>
                    <a:lnTo>
                      <a:pt x="519" y="159"/>
                    </a:lnTo>
                    <a:lnTo>
                      <a:pt x="566" y="166"/>
                    </a:lnTo>
                    <a:lnTo>
                      <a:pt x="614" y="171"/>
                    </a:lnTo>
                    <a:lnTo>
                      <a:pt x="638" y="173"/>
                    </a:lnTo>
                    <a:lnTo>
                      <a:pt x="663" y="174"/>
                    </a:lnTo>
                    <a:lnTo>
                      <a:pt x="688" y="174"/>
                    </a:lnTo>
                    <a:lnTo>
                      <a:pt x="714" y="174"/>
                    </a:lnTo>
                    <a:lnTo>
                      <a:pt x="741" y="173"/>
                    </a:lnTo>
                    <a:lnTo>
                      <a:pt x="767" y="171"/>
                    </a:lnTo>
                    <a:lnTo>
                      <a:pt x="794" y="167"/>
                    </a:lnTo>
                    <a:lnTo>
                      <a:pt x="822" y="164"/>
                    </a:lnTo>
                    <a:lnTo>
                      <a:pt x="823" y="163"/>
                    </a:lnTo>
                    <a:lnTo>
                      <a:pt x="822" y="164"/>
                    </a:lnTo>
                    <a:lnTo>
                      <a:pt x="823" y="164"/>
                    </a:lnTo>
                    <a:lnTo>
                      <a:pt x="823" y="163"/>
                    </a:lnTo>
                    <a:lnTo>
                      <a:pt x="703" y="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5769000" y="3708360"/>
                <a:ext cx="270000" cy="71640"/>
              </a:xfrm>
              <a:custGeom>
                <a:avLst/>
                <a:gdLst/>
                <a:ahLst/>
                <a:rect l="l" t="t" r="r" b="b"/>
                <a:pathLst>
                  <a:path w="850" h="224">
                    <a:moveTo>
                      <a:pt x="788" y="73"/>
                    </a:moveTo>
                    <a:lnTo>
                      <a:pt x="670" y="1"/>
                    </a:lnTo>
                    <a:lnTo>
                      <a:pt x="657" y="8"/>
                    </a:lnTo>
                    <a:lnTo>
                      <a:pt x="641" y="14"/>
                    </a:lnTo>
                    <a:lnTo>
                      <a:pt x="624" y="21"/>
                    </a:lnTo>
                    <a:lnTo>
                      <a:pt x="605" y="25"/>
                    </a:lnTo>
                    <a:lnTo>
                      <a:pt x="585" y="31"/>
                    </a:lnTo>
                    <a:lnTo>
                      <a:pt x="564" y="34"/>
                    </a:lnTo>
                    <a:lnTo>
                      <a:pt x="541" y="39"/>
                    </a:lnTo>
                    <a:lnTo>
                      <a:pt x="519" y="42"/>
                    </a:lnTo>
                    <a:lnTo>
                      <a:pt x="471" y="49"/>
                    </a:lnTo>
                    <a:lnTo>
                      <a:pt x="420" y="55"/>
                    </a:lnTo>
                    <a:lnTo>
                      <a:pt x="367" y="61"/>
                    </a:lnTo>
                    <a:lnTo>
                      <a:pt x="315" y="66"/>
                    </a:lnTo>
                    <a:lnTo>
                      <a:pt x="263" y="72"/>
                    </a:lnTo>
                    <a:lnTo>
                      <a:pt x="213" y="78"/>
                    </a:lnTo>
                    <a:lnTo>
                      <a:pt x="165" y="86"/>
                    </a:lnTo>
                    <a:lnTo>
                      <a:pt x="121" y="95"/>
                    </a:lnTo>
                    <a:lnTo>
                      <a:pt x="100" y="99"/>
                    </a:lnTo>
                    <a:lnTo>
                      <a:pt x="82" y="105"/>
                    </a:lnTo>
                    <a:lnTo>
                      <a:pt x="64" y="112"/>
                    </a:lnTo>
                    <a:lnTo>
                      <a:pt x="48" y="119"/>
                    </a:lnTo>
                    <a:lnTo>
                      <a:pt x="32" y="126"/>
                    </a:lnTo>
                    <a:lnTo>
                      <a:pt x="19" y="135"/>
                    </a:lnTo>
                    <a:lnTo>
                      <a:pt x="8" y="144"/>
                    </a:lnTo>
                    <a:lnTo>
                      <a:pt x="0" y="154"/>
                    </a:lnTo>
                    <a:lnTo>
                      <a:pt x="120" y="224"/>
                    </a:lnTo>
                    <a:lnTo>
                      <a:pt x="129" y="215"/>
                    </a:lnTo>
                    <a:lnTo>
                      <a:pt x="139" y="205"/>
                    </a:lnTo>
                    <a:lnTo>
                      <a:pt x="153" y="197"/>
                    </a:lnTo>
                    <a:lnTo>
                      <a:pt x="166" y="189"/>
                    </a:lnTo>
                    <a:lnTo>
                      <a:pt x="182" y="183"/>
                    </a:lnTo>
                    <a:lnTo>
                      <a:pt x="199" y="177"/>
                    </a:lnTo>
                    <a:lnTo>
                      <a:pt x="219" y="171"/>
                    </a:lnTo>
                    <a:lnTo>
                      <a:pt x="239" y="167"/>
                    </a:lnTo>
                    <a:lnTo>
                      <a:pt x="283" y="157"/>
                    </a:lnTo>
                    <a:lnTo>
                      <a:pt x="329" y="150"/>
                    </a:lnTo>
                    <a:lnTo>
                      <a:pt x="380" y="144"/>
                    </a:lnTo>
                    <a:lnTo>
                      <a:pt x="431" y="138"/>
                    </a:lnTo>
                    <a:lnTo>
                      <a:pt x="483" y="132"/>
                    </a:lnTo>
                    <a:lnTo>
                      <a:pt x="536" y="127"/>
                    </a:lnTo>
                    <a:lnTo>
                      <a:pt x="587" y="121"/>
                    </a:lnTo>
                    <a:lnTo>
                      <a:pt x="636" y="114"/>
                    </a:lnTo>
                    <a:lnTo>
                      <a:pt x="659" y="111"/>
                    </a:lnTo>
                    <a:lnTo>
                      <a:pt x="682" y="107"/>
                    </a:lnTo>
                    <a:lnTo>
                      <a:pt x="703" y="103"/>
                    </a:lnTo>
                    <a:lnTo>
                      <a:pt x="723" y="97"/>
                    </a:lnTo>
                    <a:lnTo>
                      <a:pt x="742" y="91"/>
                    </a:lnTo>
                    <a:lnTo>
                      <a:pt x="759" y="86"/>
                    </a:lnTo>
                    <a:lnTo>
                      <a:pt x="775" y="80"/>
                    </a:lnTo>
                    <a:lnTo>
                      <a:pt x="790" y="72"/>
                    </a:lnTo>
                    <a:lnTo>
                      <a:pt x="673" y="0"/>
                    </a:lnTo>
                    <a:lnTo>
                      <a:pt x="790" y="72"/>
                    </a:lnTo>
                    <a:lnTo>
                      <a:pt x="850" y="1"/>
                    </a:lnTo>
                    <a:lnTo>
                      <a:pt x="673" y="0"/>
                    </a:lnTo>
                    <a:lnTo>
                      <a:pt x="788" y="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5721480" y="3689280"/>
                <a:ext cx="298440" cy="42840"/>
              </a:xfrm>
              <a:custGeom>
                <a:avLst/>
                <a:gdLst/>
                <a:ahLst/>
                <a:rect l="l" t="t" r="r" b="b"/>
                <a:pathLst>
                  <a:path w="937" h="136">
                    <a:moveTo>
                      <a:pt x="119" y="72"/>
                    </a:moveTo>
                    <a:lnTo>
                      <a:pt x="116" y="73"/>
                    </a:lnTo>
                    <a:lnTo>
                      <a:pt x="148" y="75"/>
                    </a:lnTo>
                    <a:lnTo>
                      <a:pt x="181" y="80"/>
                    </a:lnTo>
                    <a:lnTo>
                      <a:pt x="215" y="84"/>
                    </a:lnTo>
                    <a:lnTo>
                      <a:pt x="250" y="90"/>
                    </a:lnTo>
                    <a:lnTo>
                      <a:pt x="327" y="103"/>
                    </a:lnTo>
                    <a:lnTo>
                      <a:pt x="415" y="115"/>
                    </a:lnTo>
                    <a:lnTo>
                      <a:pt x="464" y="121"/>
                    </a:lnTo>
                    <a:lnTo>
                      <a:pt x="516" y="127"/>
                    </a:lnTo>
                    <a:lnTo>
                      <a:pt x="573" y="130"/>
                    </a:lnTo>
                    <a:lnTo>
                      <a:pt x="636" y="133"/>
                    </a:lnTo>
                    <a:lnTo>
                      <a:pt x="702" y="136"/>
                    </a:lnTo>
                    <a:lnTo>
                      <a:pt x="775" y="136"/>
                    </a:lnTo>
                    <a:lnTo>
                      <a:pt x="852" y="134"/>
                    </a:lnTo>
                    <a:lnTo>
                      <a:pt x="937" y="131"/>
                    </a:lnTo>
                    <a:lnTo>
                      <a:pt x="822" y="58"/>
                    </a:lnTo>
                    <a:lnTo>
                      <a:pt x="737" y="61"/>
                    </a:lnTo>
                    <a:lnTo>
                      <a:pt x="660" y="64"/>
                    </a:lnTo>
                    <a:lnTo>
                      <a:pt x="588" y="63"/>
                    </a:lnTo>
                    <a:lnTo>
                      <a:pt x="522" y="61"/>
                    </a:lnTo>
                    <a:lnTo>
                      <a:pt x="460" y="58"/>
                    </a:lnTo>
                    <a:lnTo>
                      <a:pt x="404" y="53"/>
                    </a:lnTo>
                    <a:lnTo>
                      <a:pt x="353" y="49"/>
                    </a:lnTo>
                    <a:lnTo>
                      <a:pt x="305" y="43"/>
                    </a:lnTo>
                    <a:lnTo>
                      <a:pt x="219" y="31"/>
                    </a:lnTo>
                    <a:lnTo>
                      <a:pt x="141" y="18"/>
                    </a:lnTo>
                    <a:lnTo>
                      <a:pt x="106" y="12"/>
                    </a:lnTo>
                    <a:lnTo>
                      <a:pt x="70" y="8"/>
                    </a:lnTo>
                    <a:lnTo>
                      <a:pt x="36" y="3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19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5510160" y="3689280"/>
                <a:ext cx="249120" cy="60480"/>
              </a:xfrm>
              <a:custGeom>
                <a:avLst/>
                <a:gdLst/>
                <a:ahLst/>
                <a:rect l="l" t="t" r="r" b="b"/>
                <a:pathLst>
                  <a:path w="786" h="189">
                    <a:moveTo>
                      <a:pt x="113" y="118"/>
                    </a:moveTo>
                    <a:lnTo>
                      <a:pt x="229" y="189"/>
                    </a:lnTo>
                    <a:lnTo>
                      <a:pt x="243" y="185"/>
                    </a:lnTo>
                    <a:lnTo>
                      <a:pt x="257" y="180"/>
                    </a:lnTo>
                    <a:lnTo>
                      <a:pt x="272" y="176"/>
                    </a:lnTo>
                    <a:lnTo>
                      <a:pt x="288" y="172"/>
                    </a:lnTo>
                    <a:lnTo>
                      <a:pt x="322" y="167"/>
                    </a:lnTo>
                    <a:lnTo>
                      <a:pt x="357" y="162"/>
                    </a:lnTo>
                    <a:lnTo>
                      <a:pt x="432" y="155"/>
                    </a:lnTo>
                    <a:lnTo>
                      <a:pt x="508" y="149"/>
                    </a:lnTo>
                    <a:lnTo>
                      <a:pt x="547" y="146"/>
                    </a:lnTo>
                    <a:lnTo>
                      <a:pt x="585" y="141"/>
                    </a:lnTo>
                    <a:lnTo>
                      <a:pt x="622" y="136"/>
                    </a:lnTo>
                    <a:lnTo>
                      <a:pt x="659" y="128"/>
                    </a:lnTo>
                    <a:lnTo>
                      <a:pt x="677" y="123"/>
                    </a:lnTo>
                    <a:lnTo>
                      <a:pt x="694" y="118"/>
                    </a:lnTo>
                    <a:lnTo>
                      <a:pt x="711" y="112"/>
                    </a:lnTo>
                    <a:lnTo>
                      <a:pt x="727" y="105"/>
                    </a:lnTo>
                    <a:lnTo>
                      <a:pt x="743" y="98"/>
                    </a:lnTo>
                    <a:lnTo>
                      <a:pt x="758" y="90"/>
                    </a:lnTo>
                    <a:lnTo>
                      <a:pt x="773" y="81"/>
                    </a:lnTo>
                    <a:lnTo>
                      <a:pt x="786" y="71"/>
                    </a:lnTo>
                    <a:lnTo>
                      <a:pt x="667" y="0"/>
                    </a:lnTo>
                    <a:lnTo>
                      <a:pt x="653" y="10"/>
                    </a:lnTo>
                    <a:lnTo>
                      <a:pt x="638" y="18"/>
                    </a:lnTo>
                    <a:lnTo>
                      <a:pt x="623" y="26"/>
                    </a:lnTo>
                    <a:lnTo>
                      <a:pt x="607" y="34"/>
                    </a:lnTo>
                    <a:lnTo>
                      <a:pt x="591" y="40"/>
                    </a:lnTo>
                    <a:lnTo>
                      <a:pt x="575" y="46"/>
                    </a:lnTo>
                    <a:lnTo>
                      <a:pt x="558" y="51"/>
                    </a:lnTo>
                    <a:lnTo>
                      <a:pt x="541" y="56"/>
                    </a:lnTo>
                    <a:lnTo>
                      <a:pt x="505" y="64"/>
                    </a:lnTo>
                    <a:lnTo>
                      <a:pt x="468" y="70"/>
                    </a:lnTo>
                    <a:lnTo>
                      <a:pt x="431" y="74"/>
                    </a:lnTo>
                    <a:lnTo>
                      <a:pt x="392" y="78"/>
                    </a:lnTo>
                    <a:lnTo>
                      <a:pt x="316" y="83"/>
                    </a:lnTo>
                    <a:lnTo>
                      <a:pt x="241" y="90"/>
                    </a:lnTo>
                    <a:lnTo>
                      <a:pt x="205" y="95"/>
                    </a:lnTo>
                    <a:lnTo>
                      <a:pt x="171" y="100"/>
                    </a:lnTo>
                    <a:lnTo>
                      <a:pt x="155" y="104"/>
                    </a:lnTo>
                    <a:lnTo>
                      <a:pt x="139" y="108"/>
                    </a:lnTo>
                    <a:lnTo>
                      <a:pt x="124" y="113"/>
                    </a:lnTo>
                    <a:lnTo>
                      <a:pt x="109" y="118"/>
                    </a:lnTo>
                    <a:lnTo>
                      <a:pt x="225" y="189"/>
                    </a:lnTo>
                    <a:lnTo>
                      <a:pt x="109" y="118"/>
                    </a:lnTo>
                    <a:lnTo>
                      <a:pt x="0" y="168"/>
                    </a:lnTo>
                    <a:lnTo>
                      <a:pt x="225" y="189"/>
                    </a:lnTo>
                    <a:lnTo>
                      <a:pt x="113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3468600" y="3949560"/>
                <a:ext cx="408240" cy="54000"/>
              </a:xfrm>
              <a:custGeom>
                <a:avLst/>
                <a:gdLst/>
                <a:ahLst/>
                <a:rect l="l" t="t" r="r" b="b"/>
                <a:pathLst>
                  <a:path w="1285" h="170">
                    <a:moveTo>
                      <a:pt x="1285" y="119"/>
                    </a:moveTo>
                    <a:lnTo>
                      <a:pt x="1270" y="120"/>
                    </a:lnTo>
                    <a:lnTo>
                      <a:pt x="1254" y="121"/>
                    </a:lnTo>
                    <a:lnTo>
                      <a:pt x="1238" y="124"/>
                    </a:lnTo>
                    <a:lnTo>
                      <a:pt x="1223" y="126"/>
                    </a:lnTo>
                    <a:lnTo>
                      <a:pt x="1207" y="129"/>
                    </a:lnTo>
                    <a:lnTo>
                      <a:pt x="1191" y="132"/>
                    </a:lnTo>
                    <a:lnTo>
                      <a:pt x="1176" y="135"/>
                    </a:lnTo>
                    <a:lnTo>
                      <a:pt x="1161" y="138"/>
                    </a:lnTo>
                    <a:lnTo>
                      <a:pt x="1150" y="137"/>
                    </a:lnTo>
                    <a:lnTo>
                      <a:pt x="1139" y="137"/>
                    </a:lnTo>
                    <a:lnTo>
                      <a:pt x="1129" y="136"/>
                    </a:lnTo>
                    <a:lnTo>
                      <a:pt x="1118" y="135"/>
                    </a:lnTo>
                    <a:lnTo>
                      <a:pt x="1108" y="134"/>
                    </a:lnTo>
                    <a:lnTo>
                      <a:pt x="1098" y="133"/>
                    </a:lnTo>
                    <a:lnTo>
                      <a:pt x="1088" y="132"/>
                    </a:lnTo>
                    <a:lnTo>
                      <a:pt x="1077" y="130"/>
                    </a:lnTo>
                    <a:lnTo>
                      <a:pt x="1015" y="137"/>
                    </a:lnTo>
                    <a:lnTo>
                      <a:pt x="951" y="144"/>
                    </a:lnTo>
                    <a:lnTo>
                      <a:pt x="887" y="150"/>
                    </a:lnTo>
                    <a:lnTo>
                      <a:pt x="824" y="155"/>
                    </a:lnTo>
                    <a:lnTo>
                      <a:pt x="760" y="160"/>
                    </a:lnTo>
                    <a:lnTo>
                      <a:pt x="698" y="163"/>
                    </a:lnTo>
                    <a:lnTo>
                      <a:pt x="634" y="168"/>
                    </a:lnTo>
                    <a:lnTo>
                      <a:pt x="571" y="170"/>
                    </a:lnTo>
                    <a:lnTo>
                      <a:pt x="564" y="162"/>
                    </a:lnTo>
                    <a:lnTo>
                      <a:pt x="556" y="154"/>
                    </a:lnTo>
                    <a:lnTo>
                      <a:pt x="547" y="147"/>
                    </a:lnTo>
                    <a:lnTo>
                      <a:pt x="537" y="141"/>
                    </a:lnTo>
                    <a:lnTo>
                      <a:pt x="526" y="135"/>
                    </a:lnTo>
                    <a:lnTo>
                      <a:pt x="512" y="129"/>
                    </a:lnTo>
                    <a:lnTo>
                      <a:pt x="498" y="125"/>
                    </a:lnTo>
                    <a:lnTo>
                      <a:pt x="482" y="120"/>
                    </a:lnTo>
                    <a:lnTo>
                      <a:pt x="449" y="113"/>
                    </a:lnTo>
                    <a:lnTo>
                      <a:pt x="413" y="108"/>
                    </a:lnTo>
                    <a:lnTo>
                      <a:pt x="373" y="103"/>
                    </a:lnTo>
                    <a:lnTo>
                      <a:pt x="331" y="98"/>
                    </a:lnTo>
                    <a:lnTo>
                      <a:pt x="244" y="93"/>
                    </a:lnTo>
                    <a:lnTo>
                      <a:pt x="156" y="85"/>
                    </a:lnTo>
                    <a:lnTo>
                      <a:pt x="114" y="80"/>
                    </a:lnTo>
                    <a:lnTo>
                      <a:pt x="73" y="74"/>
                    </a:lnTo>
                    <a:lnTo>
                      <a:pt x="54" y="71"/>
                    </a:lnTo>
                    <a:lnTo>
                      <a:pt x="34" y="68"/>
                    </a:lnTo>
                    <a:lnTo>
                      <a:pt x="17" y="63"/>
                    </a:lnTo>
                    <a:lnTo>
                      <a:pt x="0" y="58"/>
                    </a:lnTo>
                    <a:lnTo>
                      <a:pt x="83" y="62"/>
                    </a:lnTo>
                    <a:lnTo>
                      <a:pt x="157" y="63"/>
                    </a:lnTo>
                    <a:lnTo>
                      <a:pt x="226" y="63"/>
                    </a:lnTo>
                    <a:lnTo>
                      <a:pt x="286" y="61"/>
                    </a:lnTo>
                    <a:lnTo>
                      <a:pt x="340" y="57"/>
                    </a:lnTo>
                    <a:lnTo>
                      <a:pt x="389" y="54"/>
                    </a:lnTo>
                    <a:lnTo>
                      <a:pt x="433" y="48"/>
                    </a:lnTo>
                    <a:lnTo>
                      <a:pt x="473" y="43"/>
                    </a:lnTo>
                    <a:lnTo>
                      <a:pt x="544" y="30"/>
                    </a:lnTo>
                    <a:lnTo>
                      <a:pt x="605" y="17"/>
                    </a:lnTo>
                    <a:lnTo>
                      <a:pt x="635" y="12"/>
                    </a:lnTo>
                    <a:lnTo>
                      <a:pt x="666" y="7"/>
                    </a:lnTo>
                    <a:lnTo>
                      <a:pt x="695" y="3"/>
                    </a:lnTo>
                    <a:lnTo>
                      <a:pt x="728" y="0"/>
                    </a:lnTo>
                    <a:lnTo>
                      <a:pt x="742" y="9"/>
                    </a:lnTo>
                    <a:lnTo>
                      <a:pt x="756" y="19"/>
                    </a:lnTo>
                    <a:lnTo>
                      <a:pt x="771" y="27"/>
                    </a:lnTo>
                    <a:lnTo>
                      <a:pt x="787" y="35"/>
                    </a:lnTo>
                    <a:lnTo>
                      <a:pt x="803" y="40"/>
                    </a:lnTo>
                    <a:lnTo>
                      <a:pt x="820" y="47"/>
                    </a:lnTo>
                    <a:lnTo>
                      <a:pt x="837" y="52"/>
                    </a:lnTo>
                    <a:lnTo>
                      <a:pt x="854" y="56"/>
                    </a:lnTo>
                    <a:lnTo>
                      <a:pt x="890" y="64"/>
                    </a:lnTo>
                    <a:lnTo>
                      <a:pt x="927" y="70"/>
                    </a:lnTo>
                    <a:lnTo>
                      <a:pt x="966" y="74"/>
                    </a:lnTo>
                    <a:lnTo>
                      <a:pt x="1004" y="78"/>
                    </a:lnTo>
                    <a:lnTo>
                      <a:pt x="1081" y="85"/>
                    </a:lnTo>
                    <a:lnTo>
                      <a:pt x="1155" y="90"/>
                    </a:lnTo>
                    <a:lnTo>
                      <a:pt x="1190" y="95"/>
                    </a:lnTo>
                    <a:lnTo>
                      <a:pt x="1224" y="101"/>
                    </a:lnTo>
                    <a:lnTo>
                      <a:pt x="1240" y="105"/>
                    </a:lnTo>
                    <a:lnTo>
                      <a:pt x="1256" y="109"/>
                    </a:lnTo>
                    <a:lnTo>
                      <a:pt x="1271" y="113"/>
                    </a:lnTo>
                    <a:lnTo>
                      <a:pt x="1285" y="11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3762360" y="397656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410" h="69">
                    <a:moveTo>
                      <a:pt x="410" y="69"/>
                    </a:moveTo>
                    <a:lnTo>
                      <a:pt x="301" y="0"/>
                    </a:lnTo>
                    <a:lnTo>
                      <a:pt x="260" y="5"/>
                    </a:lnTo>
                    <a:lnTo>
                      <a:pt x="220" y="11"/>
                    </a:lnTo>
                    <a:lnTo>
                      <a:pt x="181" y="20"/>
                    </a:lnTo>
                    <a:lnTo>
                      <a:pt x="141" y="29"/>
                    </a:lnTo>
                    <a:lnTo>
                      <a:pt x="60" y="50"/>
                    </a:lnTo>
                    <a:lnTo>
                      <a:pt x="0" y="64"/>
                    </a:lnTo>
                    <a:lnTo>
                      <a:pt x="19" y="62"/>
                    </a:lnTo>
                    <a:lnTo>
                      <a:pt x="37" y="61"/>
                    </a:lnTo>
                    <a:lnTo>
                      <a:pt x="57" y="59"/>
                    </a:lnTo>
                    <a:lnTo>
                      <a:pt x="75" y="56"/>
                    </a:lnTo>
                    <a:lnTo>
                      <a:pt x="94" y="55"/>
                    </a:lnTo>
                    <a:lnTo>
                      <a:pt x="113" y="53"/>
                    </a:lnTo>
                    <a:lnTo>
                      <a:pt x="132" y="51"/>
                    </a:lnTo>
                    <a:lnTo>
                      <a:pt x="150" y="48"/>
                    </a:lnTo>
                    <a:lnTo>
                      <a:pt x="181" y="52"/>
                    </a:lnTo>
                    <a:lnTo>
                      <a:pt x="213" y="55"/>
                    </a:lnTo>
                    <a:lnTo>
                      <a:pt x="244" y="57"/>
                    </a:lnTo>
                    <a:lnTo>
                      <a:pt x="277" y="60"/>
                    </a:lnTo>
                    <a:lnTo>
                      <a:pt x="309" y="63"/>
                    </a:lnTo>
                    <a:lnTo>
                      <a:pt x="343" y="65"/>
                    </a:lnTo>
                    <a:lnTo>
                      <a:pt x="376" y="67"/>
                    </a:lnTo>
                    <a:lnTo>
                      <a:pt x="410" y="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3409920" y="3956040"/>
                <a:ext cx="247680" cy="49320"/>
              </a:xfrm>
              <a:custGeom>
                <a:avLst/>
                <a:gdLst/>
                <a:ahLst/>
                <a:rect l="l" t="t" r="r" b="b"/>
                <a:pathLst>
                  <a:path w="784" h="154">
                    <a:moveTo>
                      <a:pt x="128" y="3"/>
                    </a:moveTo>
                    <a:lnTo>
                      <a:pt x="233" y="74"/>
                    </a:lnTo>
                    <a:lnTo>
                      <a:pt x="255" y="79"/>
                    </a:lnTo>
                    <a:lnTo>
                      <a:pt x="276" y="85"/>
                    </a:lnTo>
                    <a:lnTo>
                      <a:pt x="299" y="90"/>
                    </a:lnTo>
                    <a:lnTo>
                      <a:pt x="322" y="93"/>
                    </a:lnTo>
                    <a:lnTo>
                      <a:pt x="369" y="99"/>
                    </a:lnTo>
                    <a:lnTo>
                      <a:pt x="418" y="105"/>
                    </a:lnTo>
                    <a:lnTo>
                      <a:pt x="517" y="111"/>
                    </a:lnTo>
                    <a:lnTo>
                      <a:pt x="611" y="119"/>
                    </a:lnTo>
                    <a:lnTo>
                      <a:pt x="655" y="125"/>
                    </a:lnTo>
                    <a:lnTo>
                      <a:pt x="695" y="131"/>
                    </a:lnTo>
                    <a:lnTo>
                      <a:pt x="711" y="135"/>
                    </a:lnTo>
                    <a:lnTo>
                      <a:pt x="727" y="139"/>
                    </a:lnTo>
                    <a:lnTo>
                      <a:pt x="738" y="142"/>
                    </a:lnTo>
                    <a:lnTo>
                      <a:pt x="741" y="143"/>
                    </a:lnTo>
                    <a:lnTo>
                      <a:pt x="725" y="135"/>
                    </a:lnTo>
                    <a:lnTo>
                      <a:pt x="698" y="118"/>
                    </a:lnTo>
                    <a:lnTo>
                      <a:pt x="690" y="113"/>
                    </a:lnTo>
                    <a:lnTo>
                      <a:pt x="693" y="117"/>
                    </a:lnTo>
                    <a:lnTo>
                      <a:pt x="696" y="119"/>
                    </a:lnTo>
                    <a:lnTo>
                      <a:pt x="698" y="124"/>
                    </a:lnTo>
                    <a:lnTo>
                      <a:pt x="699" y="128"/>
                    </a:lnTo>
                    <a:lnTo>
                      <a:pt x="701" y="133"/>
                    </a:lnTo>
                    <a:lnTo>
                      <a:pt x="703" y="139"/>
                    </a:lnTo>
                    <a:lnTo>
                      <a:pt x="703" y="144"/>
                    </a:lnTo>
                    <a:lnTo>
                      <a:pt x="703" y="150"/>
                    </a:lnTo>
                    <a:lnTo>
                      <a:pt x="703" y="154"/>
                    </a:lnTo>
                    <a:lnTo>
                      <a:pt x="713" y="154"/>
                    </a:lnTo>
                    <a:lnTo>
                      <a:pt x="723" y="154"/>
                    </a:lnTo>
                    <a:lnTo>
                      <a:pt x="733" y="152"/>
                    </a:lnTo>
                    <a:lnTo>
                      <a:pt x="744" y="152"/>
                    </a:lnTo>
                    <a:lnTo>
                      <a:pt x="753" y="151"/>
                    </a:lnTo>
                    <a:lnTo>
                      <a:pt x="763" y="151"/>
                    </a:lnTo>
                    <a:lnTo>
                      <a:pt x="773" y="151"/>
                    </a:lnTo>
                    <a:lnTo>
                      <a:pt x="784" y="150"/>
                    </a:lnTo>
                    <a:lnTo>
                      <a:pt x="769" y="139"/>
                    </a:lnTo>
                    <a:lnTo>
                      <a:pt x="717" y="107"/>
                    </a:lnTo>
                    <a:lnTo>
                      <a:pt x="675" y="86"/>
                    </a:lnTo>
                    <a:lnTo>
                      <a:pt x="649" y="76"/>
                    </a:lnTo>
                    <a:lnTo>
                      <a:pt x="627" y="69"/>
                    </a:lnTo>
                    <a:lnTo>
                      <a:pt x="607" y="65"/>
                    </a:lnTo>
                    <a:lnTo>
                      <a:pt x="586" y="60"/>
                    </a:lnTo>
                    <a:lnTo>
                      <a:pt x="544" y="53"/>
                    </a:lnTo>
                    <a:lnTo>
                      <a:pt x="500" y="47"/>
                    </a:lnTo>
                    <a:lnTo>
                      <a:pt x="404" y="39"/>
                    </a:lnTo>
                    <a:lnTo>
                      <a:pt x="306" y="32"/>
                    </a:lnTo>
                    <a:lnTo>
                      <a:pt x="258" y="27"/>
                    </a:lnTo>
                    <a:lnTo>
                      <a:pt x="212" y="21"/>
                    </a:lnTo>
                    <a:lnTo>
                      <a:pt x="192" y="18"/>
                    </a:lnTo>
                    <a:lnTo>
                      <a:pt x="171" y="13"/>
                    </a:lnTo>
                    <a:lnTo>
                      <a:pt x="153" y="10"/>
                    </a:lnTo>
                    <a:lnTo>
                      <a:pt x="136" y="5"/>
                    </a:lnTo>
                    <a:lnTo>
                      <a:pt x="241" y="75"/>
                    </a:lnTo>
                    <a:lnTo>
                      <a:pt x="128" y="3"/>
                    </a:lnTo>
                    <a:lnTo>
                      <a:pt x="0" y="0"/>
                    </a:lnTo>
                    <a:lnTo>
                      <a:pt x="233" y="74"/>
                    </a:lnTo>
                    <a:lnTo>
                      <a:pt x="128" y="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3449520" y="3938760"/>
                <a:ext cx="268560" cy="42840"/>
              </a:xfrm>
              <a:custGeom>
                <a:avLst/>
                <a:gdLst/>
                <a:ahLst/>
                <a:rect l="l" t="t" r="r" b="b"/>
                <a:pathLst>
                  <a:path w="842" h="137">
                    <a:moveTo>
                      <a:pt x="829" y="53"/>
                    </a:moveTo>
                    <a:lnTo>
                      <a:pt x="727" y="1"/>
                    </a:lnTo>
                    <a:lnTo>
                      <a:pt x="694" y="4"/>
                    </a:lnTo>
                    <a:lnTo>
                      <a:pt x="663" y="8"/>
                    </a:lnTo>
                    <a:lnTo>
                      <a:pt x="634" y="13"/>
                    </a:lnTo>
                    <a:lnTo>
                      <a:pt x="604" y="19"/>
                    </a:lnTo>
                    <a:lnTo>
                      <a:pt x="542" y="32"/>
                    </a:lnTo>
                    <a:lnTo>
                      <a:pt x="472" y="44"/>
                    </a:lnTo>
                    <a:lnTo>
                      <a:pt x="432" y="50"/>
                    </a:lnTo>
                    <a:lnTo>
                      <a:pt x="388" y="54"/>
                    </a:lnTo>
                    <a:lnTo>
                      <a:pt x="340" y="59"/>
                    </a:lnTo>
                    <a:lnTo>
                      <a:pt x="285" y="62"/>
                    </a:lnTo>
                    <a:lnTo>
                      <a:pt x="225" y="64"/>
                    </a:lnTo>
                    <a:lnTo>
                      <a:pt x="157" y="64"/>
                    </a:lnTo>
                    <a:lnTo>
                      <a:pt x="83" y="62"/>
                    </a:lnTo>
                    <a:lnTo>
                      <a:pt x="0" y="59"/>
                    </a:lnTo>
                    <a:lnTo>
                      <a:pt x="113" y="131"/>
                    </a:lnTo>
                    <a:lnTo>
                      <a:pt x="196" y="134"/>
                    </a:lnTo>
                    <a:lnTo>
                      <a:pt x="272" y="137"/>
                    </a:lnTo>
                    <a:lnTo>
                      <a:pt x="340" y="135"/>
                    </a:lnTo>
                    <a:lnTo>
                      <a:pt x="400" y="134"/>
                    </a:lnTo>
                    <a:lnTo>
                      <a:pt x="455" y="131"/>
                    </a:lnTo>
                    <a:lnTo>
                      <a:pt x="504" y="126"/>
                    </a:lnTo>
                    <a:lnTo>
                      <a:pt x="548" y="122"/>
                    </a:lnTo>
                    <a:lnTo>
                      <a:pt x="588" y="116"/>
                    </a:lnTo>
                    <a:lnTo>
                      <a:pt x="659" y="103"/>
                    </a:lnTo>
                    <a:lnTo>
                      <a:pt x="722" y="91"/>
                    </a:lnTo>
                    <a:lnTo>
                      <a:pt x="751" y="85"/>
                    </a:lnTo>
                    <a:lnTo>
                      <a:pt x="781" y="81"/>
                    </a:lnTo>
                    <a:lnTo>
                      <a:pt x="811" y="76"/>
                    </a:lnTo>
                    <a:lnTo>
                      <a:pt x="842" y="73"/>
                    </a:lnTo>
                    <a:lnTo>
                      <a:pt x="742" y="21"/>
                    </a:lnTo>
                    <a:lnTo>
                      <a:pt x="829" y="53"/>
                    </a:lnTo>
                    <a:lnTo>
                      <a:pt x="758" y="0"/>
                    </a:lnTo>
                    <a:lnTo>
                      <a:pt x="727" y="1"/>
                    </a:lnTo>
                    <a:lnTo>
                      <a:pt x="829" y="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3686040" y="3944880"/>
                <a:ext cx="227160" cy="54000"/>
              </a:xfrm>
              <a:custGeom>
                <a:avLst/>
                <a:gdLst/>
                <a:ahLst/>
                <a:rect l="l" t="t" r="r" b="b"/>
                <a:pathLst>
                  <a:path w="719" h="168">
                    <a:moveTo>
                      <a:pt x="653" y="167"/>
                    </a:moveTo>
                    <a:lnTo>
                      <a:pt x="560" y="103"/>
                    </a:lnTo>
                    <a:lnTo>
                      <a:pt x="539" y="96"/>
                    </a:lnTo>
                    <a:lnTo>
                      <a:pt x="521" y="90"/>
                    </a:lnTo>
                    <a:lnTo>
                      <a:pt x="504" y="86"/>
                    </a:lnTo>
                    <a:lnTo>
                      <a:pt x="486" y="81"/>
                    </a:lnTo>
                    <a:lnTo>
                      <a:pt x="450" y="76"/>
                    </a:lnTo>
                    <a:lnTo>
                      <a:pt x="414" y="71"/>
                    </a:lnTo>
                    <a:lnTo>
                      <a:pt x="340" y="64"/>
                    </a:lnTo>
                    <a:lnTo>
                      <a:pt x="262" y="59"/>
                    </a:lnTo>
                    <a:lnTo>
                      <a:pt x="225" y="55"/>
                    </a:lnTo>
                    <a:lnTo>
                      <a:pt x="187" y="51"/>
                    </a:lnTo>
                    <a:lnTo>
                      <a:pt x="152" y="45"/>
                    </a:lnTo>
                    <a:lnTo>
                      <a:pt x="118" y="37"/>
                    </a:lnTo>
                    <a:lnTo>
                      <a:pt x="102" y="33"/>
                    </a:lnTo>
                    <a:lnTo>
                      <a:pt x="88" y="29"/>
                    </a:lnTo>
                    <a:lnTo>
                      <a:pt x="77" y="24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75" y="25"/>
                    </a:lnTo>
                    <a:lnTo>
                      <a:pt x="85" y="31"/>
                    </a:lnTo>
                    <a:lnTo>
                      <a:pt x="87" y="32"/>
                    </a:lnTo>
                    <a:lnTo>
                      <a:pt x="0" y="0"/>
                    </a:lnTo>
                    <a:lnTo>
                      <a:pt x="29" y="21"/>
                    </a:lnTo>
                    <a:lnTo>
                      <a:pt x="66" y="44"/>
                    </a:lnTo>
                    <a:lnTo>
                      <a:pt x="104" y="64"/>
                    </a:lnTo>
                    <a:lnTo>
                      <a:pt x="134" y="78"/>
                    </a:lnTo>
                    <a:lnTo>
                      <a:pt x="159" y="88"/>
                    </a:lnTo>
                    <a:lnTo>
                      <a:pt x="180" y="96"/>
                    </a:lnTo>
                    <a:lnTo>
                      <a:pt x="201" y="103"/>
                    </a:lnTo>
                    <a:lnTo>
                      <a:pt x="221" y="108"/>
                    </a:lnTo>
                    <a:lnTo>
                      <a:pt x="259" y="116"/>
                    </a:lnTo>
                    <a:lnTo>
                      <a:pt x="298" y="122"/>
                    </a:lnTo>
                    <a:lnTo>
                      <a:pt x="336" y="127"/>
                    </a:lnTo>
                    <a:lnTo>
                      <a:pt x="375" y="130"/>
                    </a:lnTo>
                    <a:lnTo>
                      <a:pt x="452" y="136"/>
                    </a:lnTo>
                    <a:lnTo>
                      <a:pt x="526" y="143"/>
                    </a:lnTo>
                    <a:lnTo>
                      <a:pt x="560" y="148"/>
                    </a:lnTo>
                    <a:lnTo>
                      <a:pt x="593" y="153"/>
                    </a:lnTo>
                    <a:lnTo>
                      <a:pt x="607" y="157"/>
                    </a:lnTo>
                    <a:lnTo>
                      <a:pt x="620" y="159"/>
                    </a:lnTo>
                    <a:lnTo>
                      <a:pt x="632" y="163"/>
                    </a:lnTo>
                    <a:lnTo>
                      <a:pt x="640" y="166"/>
                    </a:lnTo>
                    <a:lnTo>
                      <a:pt x="543" y="98"/>
                    </a:lnTo>
                    <a:lnTo>
                      <a:pt x="652" y="167"/>
                    </a:lnTo>
                    <a:lnTo>
                      <a:pt x="652" y="167"/>
                    </a:lnTo>
                    <a:lnTo>
                      <a:pt x="653" y="167"/>
                    </a:lnTo>
                    <a:lnTo>
                      <a:pt x="653" y="167"/>
                    </a:lnTo>
                    <a:lnTo>
                      <a:pt x="653" y="167"/>
                    </a:lnTo>
                    <a:lnTo>
                      <a:pt x="653" y="167"/>
                    </a:lnTo>
                    <a:lnTo>
                      <a:pt x="653" y="167"/>
                    </a:lnTo>
                    <a:close/>
                    <a:moveTo>
                      <a:pt x="681" y="168"/>
                    </a:moveTo>
                    <a:lnTo>
                      <a:pt x="719" y="165"/>
                    </a:lnTo>
                    <a:lnTo>
                      <a:pt x="560" y="103"/>
                    </a:lnTo>
                    <a:lnTo>
                      <a:pt x="653" y="167"/>
                    </a:lnTo>
                    <a:lnTo>
                      <a:pt x="657" y="167"/>
                    </a:lnTo>
                    <a:lnTo>
                      <a:pt x="660" y="168"/>
                    </a:lnTo>
                    <a:lnTo>
                      <a:pt x="664" y="168"/>
                    </a:lnTo>
                    <a:lnTo>
                      <a:pt x="667" y="168"/>
                    </a:lnTo>
                    <a:lnTo>
                      <a:pt x="670" y="168"/>
                    </a:lnTo>
                    <a:lnTo>
                      <a:pt x="674" y="168"/>
                    </a:lnTo>
                    <a:lnTo>
                      <a:pt x="677" y="168"/>
                    </a:lnTo>
                    <a:lnTo>
                      <a:pt x="681" y="1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5761080" y="3949560"/>
                <a:ext cx="55440" cy="7920"/>
              </a:xfrm>
              <a:custGeom>
                <a:avLst/>
                <a:gdLst/>
                <a:ahLst/>
                <a:rect l="l" t="t" r="r" b="b"/>
                <a:pathLst>
                  <a:path w="176" h="27">
                    <a:moveTo>
                      <a:pt x="176" y="27"/>
                    </a:moveTo>
                    <a:lnTo>
                      <a:pt x="129" y="18"/>
                    </a:lnTo>
                    <a:lnTo>
                      <a:pt x="98" y="13"/>
                    </a:lnTo>
                    <a:lnTo>
                      <a:pt x="67" y="7"/>
                    </a:lnTo>
                    <a:lnTo>
                      <a:pt x="35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2" y="26"/>
                    </a:lnTo>
                    <a:lnTo>
                      <a:pt x="59" y="26"/>
                    </a:lnTo>
                    <a:lnTo>
                      <a:pt x="76" y="26"/>
                    </a:lnTo>
                    <a:lnTo>
                      <a:pt x="92" y="26"/>
                    </a:lnTo>
                    <a:lnTo>
                      <a:pt x="109" y="26"/>
                    </a:lnTo>
                    <a:lnTo>
                      <a:pt x="126" y="27"/>
                    </a:lnTo>
                    <a:lnTo>
                      <a:pt x="143" y="27"/>
                    </a:lnTo>
                    <a:lnTo>
                      <a:pt x="161" y="27"/>
                    </a:lnTo>
                    <a:lnTo>
                      <a:pt x="176" y="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5748480" y="394956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82" h="26">
                    <a:moveTo>
                      <a:pt x="82" y="26"/>
                    </a:moveTo>
                    <a:lnTo>
                      <a:pt x="40" y="0"/>
                    </a:lnTo>
                    <a:lnTo>
                      <a:pt x="25" y="10"/>
                    </a:lnTo>
                    <a:lnTo>
                      <a:pt x="11" y="19"/>
                    </a:lnTo>
                    <a:lnTo>
                      <a:pt x="0" y="25"/>
                    </a:lnTo>
                    <a:lnTo>
                      <a:pt x="10" y="25"/>
                    </a:lnTo>
                    <a:lnTo>
                      <a:pt x="20" y="25"/>
                    </a:lnTo>
                    <a:lnTo>
                      <a:pt x="31" y="25"/>
                    </a:lnTo>
                    <a:lnTo>
                      <a:pt x="41" y="25"/>
                    </a:lnTo>
                    <a:lnTo>
                      <a:pt x="51" y="25"/>
                    </a:lnTo>
                    <a:lnTo>
                      <a:pt x="61" y="25"/>
                    </a:lnTo>
                    <a:lnTo>
                      <a:pt x="72" y="26"/>
                    </a:lnTo>
                    <a:lnTo>
                      <a:pt x="82" y="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5504040" y="3517920"/>
                <a:ext cx="85680" cy="3240"/>
              </a:xfrm>
              <a:custGeom>
                <a:avLst/>
                <a:gdLst/>
                <a:ahLst/>
                <a:rect l="l" t="t" r="r" b="b"/>
                <a:pathLst>
                  <a:path w="267" h="10">
                    <a:moveTo>
                      <a:pt x="0" y="0"/>
                    </a:moveTo>
                    <a:lnTo>
                      <a:pt x="14" y="2"/>
                    </a:lnTo>
                    <a:lnTo>
                      <a:pt x="62" y="8"/>
                    </a:lnTo>
                    <a:lnTo>
                      <a:pt x="86" y="9"/>
                    </a:lnTo>
                    <a:lnTo>
                      <a:pt x="111" y="10"/>
                    </a:lnTo>
                    <a:lnTo>
                      <a:pt x="136" y="10"/>
                    </a:lnTo>
                    <a:lnTo>
                      <a:pt x="163" y="10"/>
                    </a:lnTo>
                    <a:lnTo>
                      <a:pt x="189" y="9"/>
                    </a:lnTo>
                    <a:lnTo>
                      <a:pt x="215" y="7"/>
                    </a:lnTo>
                    <a:lnTo>
                      <a:pt x="242" y="3"/>
                    </a:lnTo>
                    <a:lnTo>
                      <a:pt x="2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2592360" y="3514680"/>
                <a:ext cx="3927600" cy="6480"/>
              </a:xfrm>
              <a:custGeom>
                <a:avLst/>
                <a:gdLst/>
                <a:ahLst/>
                <a:rect l="l" t="t" r="r" b="b"/>
                <a:pathLst>
                  <a:path w="12370" h="21">
                    <a:moveTo>
                      <a:pt x="12370" y="10"/>
                    </a:moveTo>
                    <a:lnTo>
                      <a:pt x="1233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2337" y="21"/>
                    </a:lnTo>
                    <a:lnTo>
                      <a:pt x="12370" y="10"/>
                    </a:lnTo>
                    <a:lnTo>
                      <a:pt x="12337" y="21"/>
                    </a:lnTo>
                    <a:lnTo>
                      <a:pt x="12352" y="20"/>
                    </a:lnTo>
                    <a:lnTo>
                      <a:pt x="12362" y="18"/>
                    </a:lnTo>
                    <a:lnTo>
                      <a:pt x="12366" y="16"/>
                    </a:lnTo>
                    <a:lnTo>
                      <a:pt x="12368" y="14"/>
                    </a:lnTo>
                    <a:lnTo>
                      <a:pt x="12370" y="12"/>
                    </a:lnTo>
                    <a:lnTo>
                      <a:pt x="12370" y="10"/>
                    </a:lnTo>
                    <a:lnTo>
                      <a:pt x="12370" y="9"/>
                    </a:lnTo>
                    <a:lnTo>
                      <a:pt x="12368" y="6"/>
                    </a:lnTo>
                    <a:lnTo>
                      <a:pt x="12366" y="4"/>
                    </a:lnTo>
                    <a:lnTo>
                      <a:pt x="12362" y="3"/>
                    </a:lnTo>
                    <a:lnTo>
                      <a:pt x="12352" y="1"/>
                    </a:lnTo>
                    <a:lnTo>
                      <a:pt x="12337" y="0"/>
                    </a:lnTo>
                    <a:lnTo>
                      <a:pt x="12370" y="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6497640" y="3517920"/>
                <a:ext cx="22320" cy="469800"/>
              </a:xfrm>
              <a:custGeom>
                <a:avLst/>
                <a:gdLst/>
                <a:ahLst/>
                <a:rect l="l" t="t" r="r" b="b"/>
                <a:pathLst>
                  <a:path w="67" h="1484">
                    <a:moveTo>
                      <a:pt x="27" y="1483"/>
                    </a:moveTo>
                    <a:lnTo>
                      <a:pt x="67" y="1473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473"/>
                    </a:lnTo>
                    <a:lnTo>
                      <a:pt x="27" y="1483"/>
                    </a:lnTo>
                    <a:lnTo>
                      <a:pt x="0" y="1473"/>
                    </a:lnTo>
                    <a:lnTo>
                      <a:pt x="1" y="1475"/>
                    </a:lnTo>
                    <a:lnTo>
                      <a:pt x="3" y="1477"/>
                    </a:lnTo>
                    <a:lnTo>
                      <a:pt x="7" y="1480"/>
                    </a:lnTo>
                    <a:lnTo>
                      <a:pt x="10" y="1481"/>
                    </a:lnTo>
                    <a:lnTo>
                      <a:pt x="22" y="1483"/>
                    </a:lnTo>
                    <a:lnTo>
                      <a:pt x="34" y="1484"/>
                    </a:lnTo>
                    <a:lnTo>
                      <a:pt x="47" y="1483"/>
                    </a:lnTo>
                    <a:lnTo>
                      <a:pt x="57" y="1481"/>
                    </a:lnTo>
                    <a:lnTo>
                      <a:pt x="62" y="1480"/>
                    </a:lnTo>
                    <a:lnTo>
                      <a:pt x="65" y="1477"/>
                    </a:lnTo>
                    <a:lnTo>
                      <a:pt x="67" y="1475"/>
                    </a:lnTo>
                    <a:lnTo>
                      <a:pt x="67" y="1473"/>
                    </a:lnTo>
                    <a:lnTo>
                      <a:pt x="27" y="14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5022720" y="3952800"/>
                <a:ext cx="1487520" cy="34920"/>
              </a:xfrm>
              <a:custGeom>
                <a:avLst/>
                <a:gdLst/>
                <a:ahLst/>
                <a:rect l="l" t="t" r="r" b="b"/>
                <a:pathLst>
                  <a:path w="4685" h="113">
                    <a:moveTo>
                      <a:pt x="37" y="22"/>
                    </a:moveTo>
                    <a:lnTo>
                      <a:pt x="34" y="22"/>
                    </a:lnTo>
                    <a:lnTo>
                      <a:pt x="696" y="22"/>
                    </a:lnTo>
                    <a:lnTo>
                      <a:pt x="1312" y="22"/>
                    </a:lnTo>
                    <a:lnTo>
                      <a:pt x="1606" y="23"/>
                    </a:lnTo>
                    <a:lnTo>
                      <a:pt x="1892" y="24"/>
                    </a:lnTo>
                    <a:lnTo>
                      <a:pt x="2174" y="26"/>
                    </a:lnTo>
                    <a:lnTo>
                      <a:pt x="2449" y="30"/>
                    </a:lnTo>
                    <a:lnTo>
                      <a:pt x="2723" y="34"/>
                    </a:lnTo>
                    <a:lnTo>
                      <a:pt x="2994" y="40"/>
                    </a:lnTo>
                    <a:lnTo>
                      <a:pt x="3266" y="48"/>
                    </a:lnTo>
                    <a:lnTo>
                      <a:pt x="3538" y="56"/>
                    </a:lnTo>
                    <a:lnTo>
                      <a:pt x="3814" y="67"/>
                    </a:lnTo>
                    <a:lnTo>
                      <a:pt x="4093" y="80"/>
                    </a:lnTo>
                    <a:lnTo>
                      <a:pt x="4378" y="96"/>
                    </a:lnTo>
                    <a:lnTo>
                      <a:pt x="4671" y="113"/>
                    </a:lnTo>
                    <a:lnTo>
                      <a:pt x="4685" y="92"/>
                    </a:lnTo>
                    <a:lnTo>
                      <a:pt x="4391" y="74"/>
                    </a:lnTo>
                    <a:lnTo>
                      <a:pt x="4104" y="59"/>
                    </a:lnTo>
                    <a:lnTo>
                      <a:pt x="3823" y="46"/>
                    </a:lnTo>
                    <a:lnTo>
                      <a:pt x="3546" y="35"/>
                    </a:lnTo>
                    <a:lnTo>
                      <a:pt x="3271" y="26"/>
                    </a:lnTo>
                    <a:lnTo>
                      <a:pt x="2999" y="18"/>
                    </a:lnTo>
                    <a:lnTo>
                      <a:pt x="2726" y="13"/>
                    </a:lnTo>
                    <a:lnTo>
                      <a:pt x="2453" y="8"/>
                    </a:lnTo>
                    <a:lnTo>
                      <a:pt x="2175" y="5"/>
                    </a:lnTo>
                    <a:lnTo>
                      <a:pt x="1894" y="2"/>
                    </a:lnTo>
                    <a:lnTo>
                      <a:pt x="1607" y="1"/>
                    </a:lnTo>
                    <a:lnTo>
                      <a:pt x="1312" y="0"/>
                    </a:lnTo>
                    <a:lnTo>
                      <a:pt x="696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19" y="1"/>
                    </a:lnTo>
                    <a:lnTo>
                      <a:pt x="9" y="3"/>
                    </a:lnTo>
                    <a:lnTo>
                      <a:pt x="5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2" y="15"/>
                    </a:lnTo>
                    <a:lnTo>
                      <a:pt x="5" y="17"/>
                    </a:lnTo>
                    <a:lnTo>
                      <a:pt x="9" y="18"/>
                    </a:lnTo>
                    <a:lnTo>
                      <a:pt x="19" y="21"/>
                    </a:lnTo>
                    <a:lnTo>
                      <a:pt x="34" y="22"/>
                    </a:lnTo>
                    <a:lnTo>
                      <a:pt x="37" y="2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3798720" y="3952800"/>
                <a:ext cx="1236960" cy="52560"/>
              </a:xfrm>
              <a:custGeom>
                <a:avLst/>
                <a:gdLst/>
                <a:ahLst/>
                <a:rect l="l" t="t" r="r" b="b"/>
                <a:pathLst>
                  <a:path w="3892" h="168">
                    <a:moveTo>
                      <a:pt x="45" y="135"/>
                    </a:moveTo>
                    <a:lnTo>
                      <a:pt x="23" y="135"/>
                    </a:lnTo>
                    <a:lnTo>
                      <a:pt x="120" y="144"/>
                    </a:lnTo>
                    <a:lnTo>
                      <a:pt x="221" y="152"/>
                    </a:lnTo>
                    <a:lnTo>
                      <a:pt x="327" y="157"/>
                    </a:lnTo>
                    <a:lnTo>
                      <a:pt x="438" y="162"/>
                    </a:lnTo>
                    <a:lnTo>
                      <a:pt x="552" y="165"/>
                    </a:lnTo>
                    <a:lnTo>
                      <a:pt x="669" y="167"/>
                    </a:lnTo>
                    <a:lnTo>
                      <a:pt x="790" y="168"/>
                    </a:lnTo>
                    <a:lnTo>
                      <a:pt x="913" y="167"/>
                    </a:lnTo>
                    <a:lnTo>
                      <a:pt x="1040" y="165"/>
                    </a:lnTo>
                    <a:lnTo>
                      <a:pt x="1168" y="162"/>
                    </a:lnTo>
                    <a:lnTo>
                      <a:pt x="1298" y="159"/>
                    </a:lnTo>
                    <a:lnTo>
                      <a:pt x="1430" y="154"/>
                    </a:lnTo>
                    <a:lnTo>
                      <a:pt x="1697" y="144"/>
                    </a:lnTo>
                    <a:lnTo>
                      <a:pt x="1966" y="130"/>
                    </a:lnTo>
                    <a:lnTo>
                      <a:pt x="2235" y="115"/>
                    </a:lnTo>
                    <a:lnTo>
                      <a:pt x="2501" y="99"/>
                    </a:lnTo>
                    <a:lnTo>
                      <a:pt x="2762" y="83"/>
                    </a:lnTo>
                    <a:lnTo>
                      <a:pt x="3016" y="67"/>
                    </a:lnTo>
                    <a:lnTo>
                      <a:pt x="3257" y="52"/>
                    </a:lnTo>
                    <a:lnTo>
                      <a:pt x="3486" y="40"/>
                    </a:lnTo>
                    <a:lnTo>
                      <a:pt x="3698" y="30"/>
                    </a:lnTo>
                    <a:lnTo>
                      <a:pt x="3892" y="22"/>
                    </a:lnTo>
                    <a:lnTo>
                      <a:pt x="3885" y="0"/>
                    </a:lnTo>
                    <a:lnTo>
                      <a:pt x="3689" y="8"/>
                    </a:lnTo>
                    <a:lnTo>
                      <a:pt x="3475" y="18"/>
                    </a:lnTo>
                    <a:lnTo>
                      <a:pt x="3245" y="32"/>
                    </a:lnTo>
                    <a:lnTo>
                      <a:pt x="3002" y="47"/>
                    </a:lnTo>
                    <a:lnTo>
                      <a:pt x="2750" y="63"/>
                    </a:lnTo>
                    <a:lnTo>
                      <a:pt x="2489" y="79"/>
                    </a:lnTo>
                    <a:lnTo>
                      <a:pt x="2223" y="94"/>
                    </a:lnTo>
                    <a:lnTo>
                      <a:pt x="1955" y="108"/>
                    </a:lnTo>
                    <a:lnTo>
                      <a:pt x="1687" y="122"/>
                    </a:lnTo>
                    <a:lnTo>
                      <a:pt x="1422" y="133"/>
                    </a:lnTo>
                    <a:lnTo>
                      <a:pt x="1292" y="137"/>
                    </a:lnTo>
                    <a:lnTo>
                      <a:pt x="1163" y="141"/>
                    </a:lnTo>
                    <a:lnTo>
                      <a:pt x="1037" y="144"/>
                    </a:lnTo>
                    <a:lnTo>
                      <a:pt x="912" y="145"/>
                    </a:lnTo>
                    <a:lnTo>
                      <a:pt x="790" y="146"/>
                    </a:lnTo>
                    <a:lnTo>
                      <a:pt x="672" y="146"/>
                    </a:lnTo>
                    <a:lnTo>
                      <a:pt x="557" y="144"/>
                    </a:lnTo>
                    <a:lnTo>
                      <a:pt x="445" y="140"/>
                    </a:lnTo>
                    <a:lnTo>
                      <a:pt x="338" y="137"/>
                    </a:lnTo>
                    <a:lnTo>
                      <a:pt x="235" y="130"/>
                    </a:lnTo>
                    <a:lnTo>
                      <a:pt x="137" y="123"/>
                    </a:lnTo>
                    <a:lnTo>
                      <a:pt x="45" y="114"/>
                    </a:lnTo>
                    <a:lnTo>
                      <a:pt x="23" y="114"/>
                    </a:lnTo>
                    <a:lnTo>
                      <a:pt x="45" y="114"/>
                    </a:lnTo>
                    <a:lnTo>
                      <a:pt x="30" y="114"/>
                    </a:lnTo>
                    <a:lnTo>
                      <a:pt x="17" y="115"/>
                    </a:lnTo>
                    <a:lnTo>
                      <a:pt x="8" y="118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0" y="126"/>
                    </a:lnTo>
                    <a:lnTo>
                      <a:pt x="0" y="127"/>
                    </a:lnTo>
                    <a:lnTo>
                      <a:pt x="3" y="129"/>
                    </a:lnTo>
                    <a:lnTo>
                      <a:pt x="6" y="131"/>
                    </a:lnTo>
                    <a:lnTo>
                      <a:pt x="11" y="132"/>
                    </a:lnTo>
                    <a:lnTo>
                      <a:pt x="16" y="133"/>
                    </a:lnTo>
                    <a:lnTo>
                      <a:pt x="23" y="135"/>
                    </a:lnTo>
                    <a:lnTo>
                      <a:pt x="45" y="1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2581200" y="3962520"/>
                <a:ext cx="1231920" cy="48960"/>
              </a:xfrm>
              <a:custGeom>
                <a:avLst/>
                <a:gdLst/>
                <a:ahLst/>
                <a:rect l="l" t="t" r="r" b="b"/>
                <a:pathLst>
                  <a:path w="3883" h="151">
                    <a:moveTo>
                      <a:pt x="0" y="11"/>
                    </a:moveTo>
                    <a:lnTo>
                      <a:pt x="34" y="22"/>
                    </a:lnTo>
                    <a:lnTo>
                      <a:pt x="153" y="22"/>
                    </a:lnTo>
                    <a:lnTo>
                      <a:pt x="272" y="24"/>
                    </a:lnTo>
                    <a:lnTo>
                      <a:pt x="392" y="28"/>
                    </a:lnTo>
                    <a:lnTo>
                      <a:pt x="511" y="31"/>
                    </a:lnTo>
                    <a:lnTo>
                      <a:pt x="630" y="36"/>
                    </a:lnTo>
                    <a:lnTo>
                      <a:pt x="750" y="41"/>
                    </a:lnTo>
                    <a:lnTo>
                      <a:pt x="869" y="48"/>
                    </a:lnTo>
                    <a:lnTo>
                      <a:pt x="988" y="55"/>
                    </a:lnTo>
                    <a:lnTo>
                      <a:pt x="1467" y="86"/>
                    </a:lnTo>
                    <a:lnTo>
                      <a:pt x="1946" y="117"/>
                    </a:lnTo>
                    <a:lnTo>
                      <a:pt x="2066" y="123"/>
                    </a:lnTo>
                    <a:lnTo>
                      <a:pt x="2185" y="130"/>
                    </a:lnTo>
                    <a:lnTo>
                      <a:pt x="2306" y="136"/>
                    </a:lnTo>
                    <a:lnTo>
                      <a:pt x="2426" y="141"/>
                    </a:lnTo>
                    <a:lnTo>
                      <a:pt x="2547" y="145"/>
                    </a:lnTo>
                    <a:lnTo>
                      <a:pt x="2667" y="149"/>
                    </a:lnTo>
                    <a:lnTo>
                      <a:pt x="2788" y="150"/>
                    </a:lnTo>
                    <a:lnTo>
                      <a:pt x="2909" y="151"/>
                    </a:lnTo>
                    <a:lnTo>
                      <a:pt x="3030" y="151"/>
                    </a:lnTo>
                    <a:lnTo>
                      <a:pt x="3152" y="149"/>
                    </a:lnTo>
                    <a:lnTo>
                      <a:pt x="3273" y="145"/>
                    </a:lnTo>
                    <a:lnTo>
                      <a:pt x="3395" y="141"/>
                    </a:lnTo>
                    <a:lnTo>
                      <a:pt x="3517" y="134"/>
                    </a:lnTo>
                    <a:lnTo>
                      <a:pt x="3639" y="125"/>
                    </a:lnTo>
                    <a:lnTo>
                      <a:pt x="3761" y="113"/>
                    </a:lnTo>
                    <a:lnTo>
                      <a:pt x="3883" y="101"/>
                    </a:lnTo>
                    <a:lnTo>
                      <a:pt x="3861" y="80"/>
                    </a:lnTo>
                    <a:lnTo>
                      <a:pt x="3741" y="93"/>
                    </a:lnTo>
                    <a:lnTo>
                      <a:pt x="3623" y="104"/>
                    </a:lnTo>
                    <a:lnTo>
                      <a:pt x="3503" y="112"/>
                    </a:lnTo>
                    <a:lnTo>
                      <a:pt x="3385" y="119"/>
                    </a:lnTo>
                    <a:lnTo>
                      <a:pt x="3266" y="123"/>
                    </a:lnTo>
                    <a:lnTo>
                      <a:pt x="3147" y="127"/>
                    </a:lnTo>
                    <a:lnTo>
                      <a:pt x="3029" y="129"/>
                    </a:lnTo>
                    <a:lnTo>
                      <a:pt x="2909" y="129"/>
                    </a:lnTo>
                    <a:lnTo>
                      <a:pt x="2791" y="129"/>
                    </a:lnTo>
                    <a:lnTo>
                      <a:pt x="2672" y="127"/>
                    </a:lnTo>
                    <a:lnTo>
                      <a:pt x="2553" y="123"/>
                    </a:lnTo>
                    <a:lnTo>
                      <a:pt x="2434" y="119"/>
                    </a:lnTo>
                    <a:lnTo>
                      <a:pt x="2315" y="114"/>
                    </a:lnTo>
                    <a:lnTo>
                      <a:pt x="2197" y="109"/>
                    </a:lnTo>
                    <a:lnTo>
                      <a:pt x="2077" y="102"/>
                    </a:lnTo>
                    <a:lnTo>
                      <a:pt x="1958" y="95"/>
                    </a:lnTo>
                    <a:lnTo>
                      <a:pt x="1480" y="64"/>
                    </a:lnTo>
                    <a:lnTo>
                      <a:pt x="1001" y="33"/>
                    </a:lnTo>
                    <a:lnTo>
                      <a:pt x="880" y="26"/>
                    </a:lnTo>
                    <a:lnTo>
                      <a:pt x="760" y="21"/>
                    </a:lnTo>
                    <a:lnTo>
                      <a:pt x="639" y="15"/>
                    </a:lnTo>
                    <a:lnTo>
                      <a:pt x="519" y="9"/>
                    </a:lnTo>
                    <a:lnTo>
                      <a:pt x="398" y="6"/>
                    </a:lnTo>
                    <a:lnTo>
                      <a:pt x="277" y="3"/>
                    </a:lnTo>
                    <a:lnTo>
                      <a:pt x="155" y="0"/>
                    </a:lnTo>
                    <a:lnTo>
                      <a:pt x="34" y="0"/>
                    </a:lnTo>
                    <a:lnTo>
                      <a:pt x="67" y="11"/>
                    </a:lnTo>
                    <a:lnTo>
                      <a:pt x="34" y="0"/>
                    </a:lnTo>
                    <a:lnTo>
                      <a:pt x="19" y="1"/>
                    </a:lnTo>
                    <a:lnTo>
                      <a:pt x="8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8" y="18"/>
                    </a:lnTo>
                    <a:lnTo>
                      <a:pt x="19" y="21"/>
                    </a:lnTo>
                    <a:lnTo>
                      <a:pt x="34" y="2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2581200" y="3514680"/>
                <a:ext cx="20880" cy="452520"/>
              </a:xfrm>
              <a:custGeom>
                <a:avLst/>
                <a:gdLst/>
                <a:ahLst/>
                <a:rect l="l" t="t" r="r" b="b"/>
                <a:pathLst>
                  <a:path w="67" h="1425">
                    <a:moveTo>
                      <a:pt x="34" y="0"/>
                    </a:moveTo>
                    <a:lnTo>
                      <a:pt x="0" y="10"/>
                    </a:lnTo>
                    <a:lnTo>
                      <a:pt x="0" y="1425"/>
                    </a:lnTo>
                    <a:lnTo>
                      <a:pt x="67" y="1425"/>
                    </a:lnTo>
                    <a:lnTo>
                      <a:pt x="67" y="10"/>
                    </a:lnTo>
                    <a:lnTo>
                      <a:pt x="34" y="0"/>
                    </a:lnTo>
                    <a:lnTo>
                      <a:pt x="67" y="10"/>
                    </a:lnTo>
                    <a:lnTo>
                      <a:pt x="67" y="8"/>
                    </a:lnTo>
                    <a:lnTo>
                      <a:pt x="65" y="5"/>
                    </a:lnTo>
                    <a:lnTo>
                      <a:pt x="61" y="4"/>
                    </a:lnTo>
                    <a:lnTo>
                      <a:pt x="57" y="2"/>
                    </a:lnTo>
                    <a:lnTo>
                      <a:pt x="45" y="0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3271680" y="5543640"/>
                <a:ext cx="657360" cy="48960"/>
              </a:xfrm>
              <a:custGeom>
                <a:avLst/>
                <a:gdLst/>
                <a:ahLst/>
                <a:rect l="l" t="t" r="r" b="b"/>
                <a:pathLst>
                  <a:path w="2070" h="157">
                    <a:moveTo>
                      <a:pt x="0" y="50"/>
                    </a:moveTo>
                    <a:lnTo>
                      <a:pt x="48" y="51"/>
                    </a:lnTo>
                    <a:lnTo>
                      <a:pt x="103" y="52"/>
                    </a:lnTo>
                    <a:lnTo>
                      <a:pt x="164" y="56"/>
                    </a:lnTo>
                    <a:lnTo>
                      <a:pt x="230" y="59"/>
                    </a:lnTo>
                    <a:lnTo>
                      <a:pt x="376" y="70"/>
                    </a:lnTo>
                    <a:lnTo>
                      <a:pt x="538" y="81"/>
                    </a:lnTo>
                    <a:lnTo>
                      <a:pt x="889" y="108"/>
                    </a:lnTo>
                    <a:lnTo>
                      <a:pt x="1248" y="135"/>
                    </a:lnTo>
                    <a:lnTo>
                      <a:pt x="1335" y="140"/>
                    </a:lnTo>
                    <a:lnTo>
                      <a:pt x="1419" y="145"/>
                    </a:lnTo>
                    <a:lnTo>
                      <a:pt x="1502" y="149"/>
                    </a:lnTo>
                    <a:lnTo>
                      <a:pt x="1580" y="153"/>
                    </a:lnTo>
                    <a:lnTo>
                      <a:pt x="1654" y="155"/>
                    </a:lnTo>
                    <a:lnTo>
                      <a:pt x="1725" y="157"/>
                    </a:lnTo>
                    <a:lnTo>
                      <a:pt x="1790" y="157"/>
                    </a:lnTo>
                    <a:lnTo>
                      <a:pt x="1850" y="156"/>
                    </a:lnTo>
                    <a:lnTo>
                      <a:pt x="1904" y="154"/>
                    </a:lnTo>
                    <a:lnTo>
                      <a:pt x="1952" y="151"/>
                    </a:lnTo>
                    <a:lnTo>
                      <a:pt x="1992" y="145"/>
                    </a:lnTo>
                    <a:lnTo>
                      <a:pt x="2025" y="138"/>
                    </a:lnTo>
                    <a:lnTo>
                      <a:pt x="2049" y="129"/>
                    </a:lnTo>
                    <a:lnTo>
                      <a:pt x="2065" y="119"/>
                    </a:lnTo>
                    <a:lnTo>
                      <a:pt x="2070" y="106"/>
                    </a:lnTo>
                    <a:lnTo>
                      <a:pt x="2067" y="91"/>
                    </a:lnTo>
                    <a:lnTo>
                      <a:pt x="2032" y="82"/>
                    </a:lnTo>
                    <a:lnTo>
                      <a:pt x="1989" y="74"/>
                    </a:lnTo>
                    <a:lnTo>
                      <a:pt x="1938" y="67"/>
                    </a:lnTo>
                    <a:lnTo>
                      <a:pt x="1882" y="59"/>
                    </a:lnTo>
                    <a:lnTo>
                      <a:pt x="1818" y="52"/>
                    </a:lnTo>
                    <a:lnTo>
                      <a:pt x="1750" y="46"/>
                    </a:lnTo>
                    <a:lnTo>
                      <a:pt x="1677" y="39"/>
                    </a:lnTo>
                    <a:lnTo>
                      <a:pt x="1600" y="33"/>
                    </a:lnTo>
                    <a:lnTo>
                      <a:pt x="1519" y="28"/>
                    </a:lnTo>
                    <a:lnTo>
                      <a:pt x="1435" y="23"/>
                    </a:lnTo>
                    <a:lnTo>
                      <a:pt x="1349" y="18"/>
                    </a:lnTo>
                    <a:lnTo>
                      <a:pt x="1260" y="15"/>
                    </a:lnTo>
                    <a:lnTo>
                      <a:pt x="1080" y="8"/>
                    </a:lnTo>
                    <a:lnTo>
                      <a:pt x="898" y="2"/>
                    </a:lnTo>
                    <a:lnTo>
                      <a:pt x="722" y="0"/>
                    </a:lnTo>
                    <a:lnTo>
                      <a:pt x="554" y="0"/>
                    </a:lnTo>
                    <a:lnTo>
                      <a:pt x="476" y="0"/>
                    </a:lnTo>
                    <a:lnTo>
                      <a:pt x="400" y="1"/>
                    </a:lnTo>
                    <a:lnTo>
                      <a:pt x="330" y="3"/>
                    </a:lnTo>
                    <a:lnTo>
                      <a:pt x="265" y="6"/>
                    </a:lnTo>
                    <a:lnTo>
                      <a:pt x="205" y="9"/>
                    </a:lnTo>
                    <a:lnTo>
                      <a:pt x="152" y="12"/>
                    </a:lnTo>
                    <a:lnTo>
                      <a:pt x="106" y="17"/>
                    </a:lnTo>
                    <a:lnTo>
                      <a:pt x="67" y="23"/>
                    </a:lnTo>
                    <a:lnTo>
                      <a:pt x="37" y="28"/>
                    </a:lnTo>
                    <a:lnTo>
                      <a:pt x="15" y="34"/>
                    </a:lnTo>
                    <a:lnTo>
                      <a:pt x="2" y="4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3271680" y="5548320"/>
                <a:ext cx="668520" cy="55440"/>
              </a:xfrm>
              <a:custGeom>
                <a:avLst/>
                <a:gdLst/>
                <a:ahLst/>
                <a:rect l="l" t="t" r="r" b="b"/>
                <a:pathLst>
                  <a:path w="2105" h="176">
                    <a:moveTo>
                      <a:pt x="2059" y="107"/>
                    </a:moveTo>
                    <a:lnTo>
                      <a:pt x="2037" y="91"/>
                    </a:lnTo>
                    <a:lnTo>
                      <a:pt x="2037" y="90"/>
                    </a:lnTo>
                    <a:lnTo>
                      <a:pt x="2037" y="89"/>
                    </a:lnTo>
                    <a:lnTo>
                      <a:pt x="2037" y="83"/>
                    </a:lnTo>
                    <a:lnTo>
                      <a:pt x="2038" y="81"/>
                    </a:lnTo>
                    <a:lnTo>
                      <a:pt x="2040" y="80"/>
                    </a:lnTo>
                    <a:lnTo>
                      <a:pt x="2042" y="77"/>
                    </a:lnTo>
                    <a:lnTo>
                      <a:pt x="2038" y="80"/>
                    </a:lnTo>
                    <a:lnTo>
                      <a:pt x="2034" y="83"/>
                    </a:lnTo>
                    <a:lnTo>
                      <a:pt x="2026" y="87"/>
                    </a:lnTo>
                    <a:lnTo>
                      <a:pt x="2016" y="89"/>
                    </a:lnTo>
                    <a:lnTo>
                      <a:pt x="2002" y="92"/>
                    </a:lnTo>
                    <a:lnTo>
                      <a:pt x="1986" y="96"/>
                    </a:lnTo>
                    <a:lnTo>
                      <a:pt x="1969" y="98"/>
                    </a:lnTo>
                    <a:lnTo>
                      <a:pt x="1948" y="100"/>
                    </a:lnTo>
                    <a:lnTo>
                      <a:pt x="1903" y="105"/>
                    </a:lnTo>
                    <a:lnTo>
                      <a:pt x="1849" y="107"/>
                    </a:lnTo>
                    <a:lnTo>
                      <a:pt x="1790" y="107"/>
                    </a:lnTo>
                    <a:lnTo>
                      <a:pt x="1725" y="107"/>
                    </a:lnTo>
                    <a:lnTo>
                      <a:pt x="1655" y="106"/>
                    </a:lnTo>
                    <a:lnTo>
                      <a:pt x="1581" y="104"/>
                    </a:lnTo>
                    <a:lnTo>
                      <a:pt x="1503" y="100"/>
                    </a:lnTo>
                    <a:lnTo>
                      <a:pt x="1422" y="96"/>
                    </a:lnTo>
                    <a:lnTo>
                      <a:pt x="1336" y="91"/>
                    </a:lnTo>
                    <a:lnTo>
                      <a:pt x="1251" y="85"/>
                    </a:lnTo>
                    <a:lnTo>
                      <a:pt x="892" y="59"/>
                    </a:lnTo>
                    <a:lnTo>
                      <a:pt x="540" y="32"/>
                    </a:lnTo>
                    <a:lnTo>
                      <a:pt x="379" y="19"/>
                    </a:lnTo>
                    <a:lnTo>
                      <a:pt x="233" y="10"/>
                    </a:lnTo>
                    <a:lnTo>
                      <a:pt x="165" y="6"/>
                    </a:lnTo>
                    <a:lnTo>
                      <a:pt x="105" y="3"/>
                    </a:lnTo>
                    <a:lnTo>
                      <a:pt x="49" y="1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48" y="68"/>
                    </a:lnTo>
                    <a:lnTo>
                      <a:pt x="102" y="71"/>
                    </a:lnTo>
                    <a:lnTo>
                      <a:pt x="162" y="73"/>
                    </a:lnTo>
                    <a:lnTo>
                      <a:pt x="228" y="77"/>
                    </a:lnTo>
                    <a:lnTo>
                      <a:pt x="374" y="87"/>
                    </a:lnTo>
                    <a:lnTo>
                      <a:pt x="536" y="99"/>
                    </a:lnTo>
                    <a:lnTo>
                      <a:pt x="887" y="127"/>
                    </a:lnTo>
                    <a:lnTo>
                      <a:pt x="1246" y="153"/>
                    </a:lnTo>
                    <a:lnTo>
                      <a:pt x="1333" y="158"/>
                    </a:lnTo>
                    <a:lnTo>
                      <a:pt x="1417" y="163"/>
                    </a:lnTo>
                    <a:lnTo>
                      <a:pt x="1499" y="168"/>
                    </a:lnTo>
                    <a:lnTo>
                      <a:pt x="1579" y="171"/>
                    </a:lnTo>
                    <a:lnTo>
                      <a:pt x="1654" y="173"/>
                    </a:lnTo>
                    <a:lnTo>
                      <a:pt x="1725" y="174"/>
                    </a:lnTo>
                    <a:lnTo>
                      <a:pt x="1791" y="176"/>
                    </a:lnTo>
                    <a:lnTo>
                      <a:pt x="1851" y="174"/>
                    </a:lnTo>
                    <a:lnTo>
                      <a:pt x="1906" y="172"/>
                    </a:lnTo>
                    <a:lnTo>
                      <a:pt x="1954" y="168"/>
                    </a:lnTo>
                    <a:lnTo>
                      <a:pt x="1977" y="165"/>
                    </a:lnTo>
                    <a:lnTo>
                      <a:pt x="1997" y="162"/>
                    </a:lnTo>
                    <a:lnTo>
                      <a:pt x="2017" y="158"/>
                    </a:lnTo>
                    <a:lnTo>
                      <a:pt x="2034" y="154"/>
                    </a:lnTo>
                    <a:lnTo>
                      <a:pt x="2049" y="149"/>
                    </a:lnTo>
                    <a:lnTo>
                      <a:pt x="2064" y="144"/>
                    </a:lnTo>
                    <a:lnTo>
                      <a:pt x="2077" y="136"/>
                    </a:lnTo>
                    <a:lnTo>
                      <a:pt x="2087" y="128"/>
                    </a:lnTo>
                    <a:lnTo>
                      <a:pt x="2094" y="119"/>
                    </a:lnTo>
                    <a:lnTo>
                      <a:pt x="2099" y="112"/>
                    </a:lnTo>
                    <a:lnTo>
                      <a:pt x="2102" y="103"/>
                    </a:lnTo>
                    <a:lnTo>
                      <a:pt x="2105" y="90"/>
                    </a:lnTo>
                    <a:lnTo>
                      <a:pt x="2103" y="75"/>
                    </a:lnTo>
                    <a:lnTo>
                      <a:pt x="2097" y="59"/>
                    </a:lnTo>
                    <a:lnTo>
                      <a:pt x="2076" y="42"/>
                    </a:lnTo>
                    <a:lnTo>
                      <a:pt x="2097" y="59"/>
                    </a:lnTo>
                    <a:lnTo>
                      <a:pt x="2092" y="52"/>
                    </a:lnTo>
                    <a:lnTo>
                      <a:pt x="2087" y="48"/>
                    </a:lnTo>
                    <a:lnTo>
                      <a:pt x="2082" y="44"/>
                    </a:lnTo>
                    <a:lnTo>
                      <a:pt x="2076" y="42"/>
                    </a:lnTo>
                    <a:lnTo>
                      <a:pt x="2069" y="41"/>
                    </a:lnTo>
                    <a:lnTo>
                      <a:pt x="2064" y="41"/>
                    </a:lnTo>
                    <a:lnTo>
                      <a:pt x="2057" y="43"/>
                    </a:lnTo>
                    <a:lnTo>
                      <a:pt x="2051" y="46"/>
                    </a:lnTo>
                    <a:lnTo>
                      <a:pt x="2046" y="49"/>
                    </a:lnTo>
                    <a:lnTo>
                      <a:pt x="2042" y="54"/>
                    </a:lnTo>
                    <a:lnTo>
                      <a:pt x="2037" y="58"/>
                    </a:lnTo>
                    <a:lnTo>
                      <a:pt x="2035" y="64"/>
                    </a:lnTo>
                    <a:lnTo>
                      <a:pt x="2034" y="71"/>
                    </a:lnTo>
                    <a:lnTo>
                      <a:pt x="2033" y="76"/>
                    </a:lnTo>
                    <a:lnTo>
                      <a:pt x="2035" y="84"/>
                    </a:lnTo>
                    <a:lnTo>
                      <a:pt x="2037" y="91"/>
                    </a:lnTo>
                    <a:lnTo>
                      <a:pt x="2059" y="10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3260880" y="5532480"/>
                <a:ext cx="669600" cy="50760"/>
              </a:xfrm>
              <a:custGeom>
                <a:avLst/>
                <a:gdLst/>
                <a:ahLst/>
                <a:rect l="l" t="t" r="r" b="b"/>
                <a:pathLst>
                  <a:path w="2110" h="157">
                    <a:moveTo>
                      <a:pt x="34" y="50"/>
                    </a:moveTo>
                    <a:lnTo>
                      <a:pt x="66" y="74"/>
                    </a:lnTo>
                    <a:lnTo>
                      <a:pt x="67" y="82"/>
                    </a:lnTo>
                    <a:lnTo>
                      <a:pt x="66" y="90"/>
                    </a:lnTo>
                    <a:lnTo>
                      <a:pt x="63" y="97"/>
                    </a:lnTo>
                    <a:lnTo>
                      <a:pt x="58" y="101"/>
                    </a:lnTo>
                    <a:lnTo>
                      <a:pt x="58" y="101"/>
                    </a:lnTo>
                    <a:lnTo>
                      <a:pt x="61" y="100"/>
                    </a:lnTo>
                    <a:lnTo>
                      <a:pt x="68" y="98"/>
                    </a:lnTo>
                    <a:lnTo>
                      <a:pt x="79" y="96"/>
                    </a:lnTo>
                    <a:lnTo>
                      <a:pt x="91" y="92"/>
                    </a:lnTo>
                    <a:lnTo>
                      <a:pt x="106" y="90"/>
                    </a:lnTo>
                    <a:lnTo>
                      <a:pt x="144" y="85"/>
                    </a:lnTo>
                    <a:lnTo>
                      <a:pt x="189" y="81"/>
                    </a:lnTo>
                    <a:lnTo>
                      <a:pt x="242" y="76"/>
                    </a:lnTo>
                    <a:lnTo>
                      <a:pt x="300" y="74"/>
                    </a:lnTo>
                    <a:lnTo>
                      <a:pt x="365" y="70"/>
                    </a:lnTo>
                    <a:lnTo>
                      <a:pt x="435" y="69"/>
                    </a:lnTo>
                    <a:lnTo>
                      <a:pt x="510" y="68"/>
                    </a:lnTo>
                    <a:lnTo>
                      <a:pt x="588" y="67"/>
                    </a:lnTo>
                    <a:lnTo>
                      <a:pt x="756" y="68"/>
                    </a:lnTo>
                    <a:lnTo>
                      <a:pt x="932" y="70"/>
                    </a:lnTo>
                    <a:lnTo>
                      <a:pt x="1113" y="75"/>
                    </a:lnTo>
                    <a:lnTo>
                      <a:pt x="1293" y="82"/>
                    </a:lnTo>
                    <a:lnTo>
                      <a:pt x="1380" y="86"/>
                    </a:lnTo>
                    <a:lnTo>
                      <a:pt x="1467" y="91"/>
                    </a:lnTo>
                    <a:lnTo>
                      <a:pt x="1550" y="96"/>
                    </a:lnTo>
                    <a:lnTo>
                      <a:pt x="1631" y="101"/>
                    </a:lnTo>
                    <a:lnTo>
                      <a:pt x="1709" y="107"/>
                    </a:lnTo>
                    <a:lnTo>
                      <a:pt x="1782" y="113"/>
                    </a:lnTo>
                    <a:lnTo>
                      <a:pt x="1849" y="119"/>
                    </a:lnTo>
                    <a:lnTo>
                      <a:pt x="1912" y="126"/>
                    </a:lnTo>
                    <a:lnTo>
                      <a:pt x="1968" y="134"/>
                    </a:lnTo>
                    <a:lnTo>
                      <a:pt x="2018" y="142"/>
                    </a:lnTo>
                    <a:lnTo>
                      <a:pt x="2059" y="149"/>
                    </a:lnTo>
                    <a:lnTo>
                      <a:pt x="2093" y="157"/>
                    </a:lnTo>
                    <a:lnTo>
                      <a:pt x="2110" y="92"/>
                    </a:lnTo>
                    <a:lnTo>
                      <a:pt x="2072" y="84"/>
                    </a:lnTo>
                    <a:lnTo>
                      <a:pt x="2028" y="75"/>
                    </a:lnTo>
                    <a:lnTo>
                      <a:pt x="1978" y="67"/>
                    </a:lnTo>
                    <a:lnTo>
                      <a:pt x="1920" y="60"/>
                    </a:lnTo>
                    <a:lnTo>
                      <a:pt x="1856" y="52"/>
                    </a:lnTo>
                    <a:lnTo>
                      <a:pt x="1787" y="46"/>
                    </a:lnTo>
                    <a:lnTo>
                      <a:pt x="1714" y="40"/>
                    </a:lnTo>
                    <a:lnTo>
                      <a:pt x="1637" y="34"/>
                    </a:lnTo>
                    <a:lnTo>
                      <a:pt x="1555" y="28"/>
                    </a:lnTo>
                    <a:lnTo>
                      <a:pt x="1471" y="24"/>
                    </a:lnTo>
                    <a:lnTo>
                      <a:pt x="1384" y="19"/>
                    </a:lnTo>
                    <a:lnTo>
                      <a:pt x="1295" y="15"/>
                    </a:lnTo>
                    <a:lnTo>
                      <a:pt x="1115" y="8"/>
                    </a:lnTo>
                    <a:lnTo>
                      <a:pt x="934" y="3"/>
                    </a:lnTo>
                    <a:lnTo>
                      <a:pt x="757" y="1"/>
                    </a:lnTo>
                    <a:lnTo>
                      <a:pt x="588" y="0"/>
                    </a:lnTo>
                    <a:lnTo>
                      <a:pt x="510" y="1"/>
                    </a:lnTo>
                    <a:lnTo>
                      <a:pt x="434" y="2"/>
                    </a:lnTo>
                    <a:lnTo>
                      <a:pt x="362" y="3"/>
                    </a:lnTo>
                    <a:lnTo>
                      <a:pt x="297" y="7"/>
                    </a:lnTo>
                    <a:lnTo>
                      <a:pt x="237" y="9"/>
                    </a:lnTo>
                    <a:lnTo>
                      <a:pt x="183" y="13"/>
                    </a:lnTo>
                    <a:lnTo>
                      <a:pt x="137" y="18"/>
                    </a:lnTo>
                    <a:lnTo>
                      <a:pt x="97" y="23"/>
                    </a:lnTo>
                    <a:lnTo>
                      <a:pt x="79" y="26"/>
                    </a:lnTo>
                    <a:lnTo>
                      <a:pt x="63" y="29"/>
                    </a:lnTo>
                    <a:lnTo>
                      <a:pt x="49" y="33"/>
                    </a:lnTo>
                    <a:lnTo>
                      <a:pt x="36" y="37"/>
                    </a:lnTo>
                    <a:lnTo>
                      <a:pt x="25" y="43"/>
                    </a:lnTo>
                    <a:lnTo>
                      <a:pt x="15" y="50"/>
                    </a:lnTo>
                    <a:lnTo>
                      <a:pt x="7" y="59"/>
                    </a:lnTo>
                    <a:lnTo>
                      <a:pt x="2" y="69"/>
                    </a:lnTo>
                    <a:lnTo>
                      <a:pt x="0" y="82"/>
                    </a:lnTo>
                    <a:lnTo>
                      <a:pt x="1" y="93"/>
                    </a:lnTo>
                    <a:lnTo>
                      <a:pt x="34" y="117"/>
                    </a:lnTo>
                    <a:lnTo>
                      <a:pt x="1" y="93"/>
                    </a:lnTo>
                    <a:lnTo>
                      <a:pt x="4" y="101"/>
                    </a:lnTo>
                    <a:lnTo>
                      <a:pt x="9" y="107"/>
                    </a:lnTo>
                    <a:lnTo>
                      <a:pt x="14" y="111"/>
                    </a:lnTo>
                    <a:lnTo>
                      <a:pt x="19" y="115"/>
                    </a:lnTo>
                    <a:lnTo>
                      <a:pt x="25" y="117"/>
                    </a:lnTo>
                    <a:lnTo>
                      <a:pt x="31" y="118"/>
                    </a:lnTo>
                    <a:lnTo>
                      <a:pt x="38" y="117"/>
                    </a:lnTo>
                    <a:lnTo>
                      <a:pt x="43" y="116"/>
                    </a:lnTo>
                    <a:lnTo>
                      <a:pt x="49" y="114"/>
                    </a:lnTo>
                    <a:lnTo>
                      <a:pt x="55" y="110"/>
                    </a:lnTo>
                    <a:lnTo>
                      <a:pt x="59" y="107"/>
                    </a:lnTo>
                    <a:lnTo>
                      <a:pt x="64" y="101"/>
                    </a:lnTo>
                    <a:lnTo>
                      <a:pt x="66" y="96"/>
                    </a:lnTo>
                    <a:lnTo>
                      <a:pt x="67" y="90"/>
                    </a:lnTo>
                    <a:lnTo>
                      <a:pt x="67" y="82"/>
                    </a:lnTo>
                    <a:lnTo>
                      <a:pt x="66" y="74"/>
                    </a:lnTo>
                    <a:lnTo>
                      <a:pt x="34" y="5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4378320" y="5091120"/>
                <a:ext cx="1488960" cy="541440"/>
              </a:xfrm>
              <a:custGeom>
                <a:avLst/>
                <a:gdLst/>
                <a:ahLst/>
                <a:rect l="l" t="t" r="r" b="b"/>
                <a:pathLst>
                  <a:path w="4687" h="1703">
                    <a:moveTo>
                      <a:pt x="111" y="269"/>
                    </a:moveTo>
                    <a:lnTo>
                      <a:pt x="404" y="247"/>
                    </a:lnTo>
                    <a:lnTo>
                      <a:pt x="877" y="208"/>
                    </a:lnTo>
                    <a:lnTo>
                      <a:pt x="1158" y="185"/>
                    </a:lnTo>
                    <a:lnTo>
                      <a:pt x="1459" y="162"/>
                    </a:lnTo>
                    <a:lnTo>
                      <a:pt x="1771" y="139"/>
                    </a:lnTo>
                    <a:lnTo>
                      <a:pt x="2084" y="118"/>
                    </a:lnTo>
                    <a:lnTo>
                      <a:pt x="2239" y="108"/>
                    </a:lnTo>
                    <a:lnTo>
                      <a:pt x="2391" y="99"/>
                    </a:lnTo>
                    <a:lnTo>
                      <a:pt x="2539" y="91"/>
                    </a:lnTo>
                    <a:lnTo>
                      <a:pt x="2683" y="83"/>
                    </a:lnTo>
                    <a:lnTo>
                      <a:pt x="2821" y="78"/>
                    </a:lnTo>
                    <a:lnTo>
                      <a:pt x="2951" y="73"/>
                    </a:lnTo>
                    <a:lnTo>
                      <a:pt x="3073" y="70"/>
                    </a:lnTo>
                    <a:lnTo>
                      <a:pt x="3187" y="67"/>
                    </a:lnTo>
                    <a:lnTo>
                      <a:pt x="3289" y="67"/>
                    </a:lnTo>
                    <a:lnTo>
                      <a:pt x="3380" y="70"/>
                    </a:lnTo>
                    <a:lnTo>
                      <a:pt x="3460" y="73"/>
                    </a:lnTo>
                    <a:lnTo>
                      <a:pt x="3525" y="79"/>
                    </a:lnTo>
                    <a:lnTo>
                      <a:pt x="3576" y="87"/>
                    </a:lnTo>
                    <a:lnTo>
                      <a:pt x="3613" y="97"/>
                    </a:lnTo>
                    <a:lnTo>
                      <a:pt x="3631" y="110"/>
                    </a:lnTo>
                    <a:lnTo>
                      <a:pt x="3633" y="124"/>
                    </a:lnTo>
                    <a:lnTo>
                      <a:pt x="3595" y="136"/>
                    </a:lnTo>
                    <a:lnTo>
                      <a:pt x="3541" y="146"/>
                    </a:lnTo>
                    <a:lnTo>
                      <a:pt x="3472" y="158"/>
                    </a:lnTo>
                    <a:lnTo>
                      <a:pt x="3389" y="168"/>
                    </a:lnTo>
                    <a:lnTo>
                      <a:pt x="3295" y="179"/>
                    </a:lnTo>
                    <a:lnTo>
                      <a:pt x="3188" y="189"/>
                    </a:lnTo>
                    <a:lnTo>
                      <a:pt x="3071" y="200"/>
                    </a:lnTo>
                    <a:lnTo>
                      <a:pt x="2946" y="210"/>
                    </a:lnTo>
                    <a:lnTo>
                      <a:pt x="2811" y="219"/>
                    </a:lnTo>
                    <a:lnTo>
                      <a:pt x="2671" y="229"/>
                    </a:lnTo>
                    <a:lnTo>
                      <a:pt x="2524" y="237"/>
                    </a:lnTo>
                    <a:lnTo>
                      <a:pt x="2374" y="247"/>
                    </a:lnTo>
                    <a:lnTo>
                      <a:pt x="2219" y="255"/>
                    </a:lnTo>
                    <a:lnTo>
                      <a:pt x="2061" y="262"/>
                    </a:lnTo>
                    <a:lnTo>
                      <a:pt x="1904" y="269"/>
                    </a:lnTo>
                    <a:lnTo>
                      <a:pt x="1746" y="275"/>
                    </a:lnTo>
                    <a:lnTo>
                      <a:pt x="1588" y="282"/>
                    </a:lnTo>
                    <a:lnTo>
                      <a:pt x="1432" y="286"/>
                    </a:lnTo>
                    <a:lnTo>
                      <a:pt x="1280" y="291"/>
                    </a:lnTo>
                    <a:lnTo>
                      <a:pt x="1132" y="294"/>
                    </a:lnTo>
                    <a:lnTo>
                      <a:pt x="991" y="298"/>
                    </a:lnTo>
                    <a:lnTo>
                      <a:pt x="855" y="300"/>
                    </a:lnTo>
                    <a:lnTo>
                      <a:pt x="728" y="301"/>
                    </a:lnTo>
                    <a:lnTo>
                      <a:pt x="608" y="302"/>
                    </a:lnTo>
                    <a:lnTo>
                      <a:pt x="500" y="301"/>
                    </a:lnTo>
                    <a:lnTo>
                      <a:pt x="402" y="300"/>
                    </a:lnTo>
                    <a:lnTo>
                      <a:pt x="316" y="298"/>
                    </a:lnTo>
                    <a:lnTo>
                      <a:pt x="243" y="294"/>
                    </a:lnTo>
                    <a:lnTo>
                      <a:pt x="186" y="290"/>
                    </a:lnTo>
                    <a:lnTo>
                      <a:pt x="144" y="284"/>
                    </a:lnTo>
                    <a:lnTo>
                      <a:pt x="119" y="277"/>
                    </a:lnTo>
                    <a:lnTo>
                      <a:pt x="111" y="269"/>
                    </a:lnTo>
                    <a:close/>
                    <a:moveTo>
                      <a:pt x="366" y="1011"/>
                    </a:moveTo>
                    <a:lnTo>
                      <a:pt x="379" y="1002"/>
                    </a:lnTo>
                    <a:lnTo>
                      <a:pt x="413" y="993"/>
                    </a:lnTo>
                    <a:lnTo>
                      <a:pt x="467" y="982"/>
                    </a:lnTo>
                    <a:lnTo>
                      <a:pt x="539" y="973"/>
                    </a:lnTo>
                    <a:lnTo>
                      <a:pt x="630" y="964"/>
                    </a:lnTo>
                    <a:lnTo>
                      <a:pt x="736" y="954"/>
                    </a:lnTo>
                    <a:lnTo>
                      <a:pt x="856" y="945"/>
                    </a:lnTo>
                    <a:lnTo>
                      <a:pt x="990" y="934"/>
                    </a:lnTo>
                    <a:lnTo>
                      <a:pt x="1135" y="925"/>
                    </a:lnTo>
                    <a:lnTo>
                      <a:pt x="1288" y="916"/>
                    </a:lnTo>
                    <a:lnTo>
                      <a:pt x="1451" y="907"/>
                    </a:lnTo>
                    <a:lnTo>
                      <a:pt x="1621" y="898"/>
                    </a:lnTo>
                    <a:lnTo>
                      <a:pt x="1977" y="881"/>
                    </a:lnTo>
                    <a:lnTo>
                      <a:pt x="2343" y="865"/>
                    </a:lnTo>
                    <a:lnTo>
                      <a:pt x="2708" y="851"/>
                    </a:lnTo>
                    <a:lnTo>
                      <a:pt x="3059" y="839"/>
                    </a:lnTo>
                    <a:lnTo>
                      <a:pt x="3385" y="831"/>
                    </a:lnTo>
                    <a:lnTo>
                      <a:pt x="3676" y="824"/>
                    </a:lnTo>
                    <a:lnTo>
                      <a:pt x="3803" y="823"/>
                    </a:lnTo>
                    <a:lnTo>
                      <a:pt x="3917" y="822"/>
                    </a:lnTo>
                    <a:lnTo>
                      <a:pt x="4016" y="822"/>
                    </a:lnTo>
                    <a:lnTo>
                      <a:pt x="4100" y="823"/>
                    </a:lnTo>
                    <a:lnTo>
                      <a:pt x="4164" y="824"/>
                    </a:lnTo>
                    <a:lnTo>
                      <a:pt x="4209" y="827"/>
                    </a:lnTo>
                    <a:lnTo>
                      <a:pt x="4234" y="832"/>
                    </a:lnTo>
                    <a:lnTo>
                      <a:pt x="4236" y="836"/>
                    </a:lnTo>
                    <a:lnTo>
                      <a:pt x="4198" y="850"/>
                    </a:lnTo>
                    <a:lnTo>
                      <a:pt x="4142" y="864"/>
                    </a:lnTo>
                    <a:lnTo>
                      <a:pt x="4069" y="876"/>
                    </a:lnTo>
                    <a:lnTo>
                      <a:pt x="3981" y="889"/>
                    </a:lnTo>
                    <a:lnTo>
                      <a:pt x="3880" y="903"/>
                    </a:lnTo>
                    <a:lnTo>
                      <a:pt x="3765" y="914"/>
                    </a:lnTo>
                    <a:lnTo>
                      <a:pt x="3638" y="926"/>
                    </a:lnTo>
                    <a:lnTo>
                      <a:pt x="3501" y="938"/>
                    </a:lnTo>
                    <a:lnTo>
                      <a:pt x="3355" y="949"/>
                    </a:lnTo>
                    <a:lnTo>
                      <a:pt x="3201" y="960"/>
                    </a:lnTo>
                    <a:lnTo>
                      <a:pt x="3041" y="970"/>
                    </a:lnTo>
                    <a:lnTo>
                      <a:pt x="2874" y="979"/>
                    </a:lnTo>
                    <a:lnTo>
                      <a:pt x="2704" y="988"/>
                    </a:lnTo>
                    <a:lnTo>
                      <a:pt x="2532" y="997"/>
                    </a:lnTo>
                    <a:lnTo>
                      <a:pt x="2358" y="1005"/>
                    </a:lnTo>
                    <a:lnTo>
                      <a:pt x="2182" y="1012"/>
                    </a:lnTo>
                    <a:lnTo>
                      <a:pt x="2009" y="1019"/>
                    </a:lnTo>
                    <a:lnTo>
                      <a:pt x="1838" y="1025"/>
                    </a:lnTo>
                    <a:lnTo>
                      <a:pt x="1669" y="1029"/>
                    </a:lnTo>
                    <a:lnTo>
                      <a:pt x="1506" y="1034"/>
                    </a:lnTo>
                    <a:lnTo>
                      <a:pt x="1348" y="1037"/>
                    </a:lnTo>
                    <a:lnTo>
                      <a:pt x="1198" y="1039"/>
                    </a:lnTo>
                    <a:lnTo>
                      <a:pt x="1056" y="1042"/>
                    </a:lnTo>
                    <a:lnTo>
                      <a:pt x="924" y="1043"/>
                    </a:lnTo>
                    <a:lnTo>
                      <a:pt x="803" y="1042"/>
                    </a:lnTo>
                    <a:lnTo>
                      <a:pt x="693" y="1041"/>
                    </a:lnTo>
                    <a:lnTo>
                      <a:pt x="599" y="1038"/>
                    </a:lnTo>
                    <a:lnTo>
                      <a:pt x="518" y="1035"/>
                    </a:lnTo>
                    <a:lnTo>
                      <a:pt x="453" y="1030"/>
                    </a:lnTo>
                    <a:lnTo>
                      <a:pt x="405" y="1025"/>
                    </a:lnTo>
                    <a:lnTo>
                      <a:pt x="375" y="1019"/>
                    </a:lnTo>
                    <a:lnTo>
                      <a:pt x="366" y="1011"/>
                    </a:lnTo>
                    <a:close/>
                    <a:moveTo>
                      <a:pt x="156" y="467"/>
                    </a:moveTo>
                    <a:lnTo>
                      <a:pt x="207" y="456"/>
                    </a:lnTo>
                    <a:lnTo>
                      <a:pt x="273" y="445"/>
                    </a:lnTo>
                    <a:lnTo>
                      <a:pt x="355" y="435"/>
                    </a:lnTo>
                    <a:lnTo>
                      <a:pt x="452" y="425"/>
                    </a:lnTo>
                    <a:lnTo>
                      <a:pt x="562" y="414"/>
                    </a:lnTo>
                    <a:lnTo>
                      <a:pt x="684" y="405"/>
                    </a:lnTo>
                    <a:lnTo>
                      <a:pt x="818" y="396"/>
                    </a:lnTo>
                    <a:lnTo>
                      <a:pt x="960" y="387"/>
                    </a:lnTo>
                    <a:lnTo>
                      <a:pt x="1111" y="379"/>
                    </a:lnTo>
                    <a:lnTo>
                      <a:pt x="1269" y="371"/>
                    </a:lnTo>
                    <a:lnTo>
                      <a:pt x="1432" y="364"/>
                    </a:lnTo>
                    <a:lnTo>
                      <a:pt x="1601" y="357"/>
                    </a:lnTo>
                    <a:lnTo>
                      <a:pt x="1773" y="353"/>
                    </a:lnTo>
                    <a:lnTo>
                      <a:pt x="1947" y="348"/>
                    </a:lnTo>
                    <a:lnTo>
                      <a:pt x="2123" y="345"/>
                    </a:lnTo>
                    <a:lnTo>
                      <a:pt x="2297" y="342"/>
                    </a:lnTo>
                    <a:lnTo>
                      <a:pt x="2471" y="341"/>
                    </a:lnTo>
                    <a:lnTo>
                      <a:pt x="2642" y="341"/>
                    </a:lnTo>
                    <a:lnTo>
                      <a:pt x="2808" y="342"/>
                    </a:lnTo>
                    <a:lnTo>
                      <a:pt x="2970" y="345"/>
                    </a:lnTo>
                    <a:lnTo>
                      <a:pt x="3124" y="348"/>
                    </a:lnTo>
                    <a:lnTo>
                      <a:pt x="3272" y="354"/>
                    </a:lnTo>
                    <a:lnTo>
                      <a:pt x="3410" y="361"/>
                    </a:lnTo>
                    <a:lnTo>
                      <a:pt x="3539" y="370"/>
                    </a:lnTo>
                    <a:lnTo>
                      <a:pt x="3655" y="380"/>
                    </a:lnTo>
                    <a:lnTo>
                      <a:pt x="3760" y="391"/>
                    </a:lnTo>
                    <a:lnTo>
                      <a:pt x="3850" y="405"/>
                    </a:lnTo>
                    <a:lnTo>
                      <a:pt x="3926" y="421"/>
                    </a:lnTo>
                    <a:lnTo>
                      <a:pt x="3986" y="438"/>
                    </a:lnTo>
                    <a:lnTo>
                      <a:pt x="4027" y="458"/>
                    </a:lnTo>
                    <a:lnTo>
                      <a:pt x="4050" y="479"/>
                    </a:lnTo>
                    <a:lnTo>
                      <a:pt x="4053" y="503"/>
                    </a:lnTo>
                    <a:lnTo>
                      <a:pt x="4011" y="508"/>
                    </a:lnTo>
                    <a:lnTo>
                      <a:pt x="3955" y="512"/>
                    </a:lnTo>
                    <a:lnTo>
                      <a:pt x="3885" y="515"/>
                    </a:lnTo>
                    <a:lnTo>
                      <a:pt x="3806" y="517"/>
                    </a:lnTo>
                    <a:lnTo>
                      <a:pt x="3713" y="519"/>
                    </a:lnTo>
                    <a:lnTo>
                      <a:pt x="3612" y="520"/>
                    </a:lnTo>
                    <a:lnTo>
                      <a:pt x="3501" y="520"/>
                    </a:lnTo>
                    <a:lnTo>
                      <a:pt x="3381" y="520"/>
                    </a:lnTo>
                    <a:lnTo>
                      <a:pt x="3120" y="518"/>
                    </a:lnTo>
                    <a:lnTo>
                      <a:pt x="2835" y="515"/>
                    </a:lnTo>
                    <a:lnTo>
                      <a:pt x="2533" y="509"/>
                    </a:lnTo>
                    <a:lnTo>
                      <a:pt x="2221" y="503"/>
                    </a:lnTo>
                    <a:lnTo>
                      <a:pt x="1592" y="491"/>
                    </a:lnTo>
                    <a:lnTo>
                      <a:pt x="1001" y="478"/>
                    </a:lnTo>
                    <a:lnTo>
                      <a:pt x="738" y="472"/>
                    </a:lnTo>
                    <a:lnTo>
                      <a:pt x="505" y="469"/>
                    </a:lnTo>
                    <a:lnTo>
                      <a:pt x="309" y="467"/>
                    </a:lnTo>
                    <a:lnTo>
                      <a:pt x="156" y="467"/>
                    </a:lnTo>
                    <a:close/>
                    <a:moveTo>
                      <a:pt x="396" y="1252"/>
                    </a:moveTo>
                    <a:lnTo>
                      <a:pt x="441" y="1238"/>
                    </a:lnTo>
                    <a:lnTo>
                      <a:pt x="500" y="1225"/>
                    </a:lnTo>
                    <a:lnTo>
                      <a:pt x="569" y="1213"/>
                    </a:lnTo>
                    <a:lnTo>
                      <a:pt x="650" y="1201"/>
                    </a:lnTo>
                    <a:lnTo>
                      <a:pt x="740" y="1191"/>
                    </a:lnTo>
                    <a:lnTo>
                      <a:pt x="838" y="1181"/>
                    </a:lnTo>
                    <a:lnTo>
                      <a:pt x="945" y="1172"/>
                    </a:lnTo>
                    <a:lnTo>
                      <a:pt x="1060" y="1164"/>
                    </a:lnTo>
                    <a:lnTo>
                      <a:pt x="1181" y="1157"/>
                    </a:lnTo>
                    <a:lnTo>
                      <a:pt x="1308" y="1150"/>
                    </a:lnTo>
                    <a:lnTo>
                      <a:pt x="1440" y="1144"/>
                    </a:lnTo>
                    <a:lnTo>
                      <a:pt x="1575" y="1140"/>
                    </a:lnTo>
                    <a:lnTo>
                      <a:pt x="1714" y="1135"/>
                    </a:lnTo>
                    <a:lnTo>
                      <a:pt x="1855" y="1132"/>
                    </a:lnTo>
                    <a:lnTo>
                      <a:pt x="1998" y="1128"/>
                    </a:lnTo>
                    <a:lnTo>
                      <a:pt x="2141" y="1127"/>
                    </a:lnTo>
                    <a:lnTo>
                      <a:pt x="2285" y="1126"/>
                    </a:lnTo>
                    <a:lnTo>
                      <a:pt x="2427" y="1125"/>
                    </a:lnTo>
                    <a:lnTo>
                      <a:pt x="2569" y="1125"/>
                    </a:lnTo>
                    <a:lnTo>
                      <a:pt x="2707" y="1126"/>
                    </a:lnTo>
                    <a:lnTo>
                      <a:pt x="2841" y="1128"/>
                    </a:lnTo>
                    <a:lnTo>
                      <a:pt x="2972" y="1131"/>
                    </a:lnTo>
                    <a:lnTo>
                      <a:pt x="3098" y="1134"/>
                    </a:lnTo>
                    <a:lnTo>
                      <a:pt x="3218" y="1138"/>
                    </a:lnTo>
                    <a:lnTo>
                      <a:pt x="3331" y="1142"/>
                    </a:lnTo>
                    <a:lnTo>
                      <a:pt x="3437" y="1148"/>
                    </a:lnTo>
                    <a:lnTo>
                      <a:pt x="3534" y="1154"/>
                    </a:lnTo>
                    <a:lnTo>
                      <a:pt x="3623" y="1160"/>
                    </a:lnTo>
                    <a:lnTo>
                      <a:pt x="3702" y="1167"/>
                    </a:lnTo>
                    <a:lnTo>
                      <a:pt x="3769" y="1175"/>
                    </a:lnTo>
                    <a:lnTo>
                      <a:pt x="3826" y="1184"/>
                    </a:lnTo>
                    <a:lnTo>
                      <a:pt x="3869" y="1193"/>
                    </a:lnTo>
                    <a:lnTo>
                      <a:pt x="3828" y="1203"/>
                    </a:lnTo>
                    <a:lnTo>
                      <a:pt x="3774" y="1212"/>
                    </a:lnTo>
                    <a:lnTo>
                      <a:pt x="3706" y="1221"/>
                    </a:lnTo>
                    <a:lnTo>
                      <a:pt x="3628" y="1229"/>
                    </a:lnTo>
                    <a:lnTo>
                      <a:pt x="3538" y="1238"/>
                    </a:lnTo>
                    <a:lnTo>
                      <a:pt x="3440" y="1247"/>
                    </a:lnTo>
                    <a:lnTo>
                      <a:pt x="3331" y="1255"/>
                    </a:lnTo>
                    <a:lnTo>
                      <a:pt x="3216" y="1264"/>
                    </a:lnTo>
                    <a:lnTo>
                      <a:pt x="3093" y="1272"/>
                    </a:lnTo>
                    <a:lnTo>
                      <a:pt x="2964" y="1280"/>
                    </a:lnTo>
                    <a:lnTo>
                      <a:pt x="2830" y="1287"/>
                    </a:lnTo>
                    <a:lnTo>
                      <a:pt x="2691" y="1294"/>
                    </a:lnTo>
                    <a:lnTo>
                      <a:pt x="2549" y="1301"/>
                    </a:lnTo>
                    <a:lnTo>
                      <a:pt x="2405" y="1306"/>
                    </a:lnTo>
                    <a:lnTo>
                      <a:pt x="2259" y="1312"/>
                    </a:lnTo>
                    <a:lnTo>
                      <a:pt x="2112" y="1317"/>
                    </a:lnTo>
                    <a:lnTo>
                      <a:pt x="1964" y="1320"/>
                    </a:lnTo>
                    <a:lnTo>
                      <a:pt x="1820" y="1324"/>
                    </a:lnTo>
                    <a:lnTo>
                      <a:pt x="1675" y="1326"/>
                    </a:lnTo>
                    <a:lnTo>
                      <a:pt x="1535" y="1327"/>
                    </a:lnTo>
                    <a:lnTo>
                      <a:pt x="1398" y="1327"/>
                    </a:lnTo>
                    <a:lnTo>
                      <a:pt x="1266" y="1327"/>
                    </a:lnTo>
                    <a:lnTo>
                      <a:pt x="1138" y="1325"/>
                    </a:lnTo>
                    <a:lnTo>
                      <a:pt x="1018" y="1322"/>
                    </a:lnTo>
                    <a:lnTo>
                      <a:pt x="905" y="1318"/>
                    </a:lnTo>
                    <a:lnTo>
                      <a:pt x="801" y="1312"/>
                    </a:lnTo>
                    <a:lnTo>
                      <a:pt x="705" y="1306"/>
                    </a:lnTo>
                    <a:lnTo>
                      <a:pt x="619" y="1298"/>
                    </a:lnTo>
                    <a:lnTo>
                      <a:pt x="544" y="1289"/>
                    </a:lnTo>
                    <a:lnTo>
                      <a:pt x="481" y="1278"/>
                    </a:lnTo>
                    <a:lnTo>
                      <a:pt x="432" y="1265"/>
                    </a:lnTo>
                    <a:lnTo>
                      <a:pt x="396" y="1252"/>
                    </a:lnTo>
                    <a:close/>
                    <a:moveTo>
                      <a:pt x="152" y="706"/>
                    </a:moveTo>
                    <a:lnTo>
                      <a:pt x="221" y="698"/>
                    </a:lnTo>
                    <a:lnTo>
                      <a:pt x="303" y="690"/>
                    </a:lnTo>
                    <a:lnTo>
                      <a:pt x="398" y="685"/>
                    </a:lnTo>
                    <a:lnTo>
                      <a:pt x="505" y="678"/>
                    </a:lnTo>
                    <a:lnTo>
                      <a:pt x="623" y="672"/>
                    </a:lnTo>
                    <a:lnTo>
                      <a:pt x="749" y="668"/>
                    </a:lnTo>
                    <a:lnTo>
                      <a:pt x="885" y="664"/>
                    </a:lnTo>
                    <a:lnTo>
                      <a:pt x="1027" y="660"/>
                    </a:lnTo>
                    <a:lnTo>
                      <a:pt x="1177" y="657"/>
                    </a:lnTo>
                    <a:lnTo>
                      <a:pt x="1332" y="654"/>
                    </a:lnTo>
                    <a:lnTo>
                      <a:pt x="1491" y="653"/>
                    </a:lnTo>
                    <a:lnTo>
                      <a:pt x="1654" y="650"/>
                    </a:lnTo>
                    <a:lnTo>
                      <a:pt x="1988" y="649"/>
                    </a:lnTo>
                    <a:lnTo>
                      <a:pt x="2324" y="650"/>
                    </a:lnTo>
                    <a:lnTo>
                      <a:pt x="2653" y="653"/>
                    </a:lnTo>
                    <a:lnTo>
                      <a:pt x="2970" y="657"/>
                    </a:lnTo>
                    <a:lnTo>
                      <a:pt x="3265" y="664"/>
                    </a:lnTo>
                    <a:lnTo>
                      <a:pt x="3530" y="671"/>
                    </a:lnTo>
                    <a:lnTo>
                      <a:pt x="3649" y="675"/>
                    </a:lnTo>
                    <a:lnTo>
                      <a:pt x="3758" y="680"/>
                    </a:lnTo>
                    <a:lnTo>
                      <a:pt x="3856" y="686"/>
                    </a:lnTo>
                    <a:lnTo>
                      <a:pt x="3940" y="691"/>
                    </a:lnTo>
                    <a:lnTo>
                      <a:pt x="4012" y="697"/>
                    </a:lnTo>
                    <a:lnTo>
                      <a:pt x="4069" y="703"/>
                    </a:lnTo>
                    <a:lnTo>
                      <a:pt x="4111" y="710"/>
                    </a:lnTo>
                    <a:lnTo>
                      <a:pt x="4137" y="715"/>
                    </a:lnTo>
                    <a:lnTo>
                      <a:pt x="4093" y="721"/>
                    </a:lnTo>
                    <a:lnTo>
                      <a:pt x="4032" y="728"/>
                    </a:lnTo>
                    <a:lnTo>
                      <a:pt x="3956" y="734"/>
                    </a:lnTo>
                    <a:lnTo>
                      <a:pt x="3865" y="741"/>
                    </a:lnTo>
                    <a:lnTo>
                      <a:pt x="3761" y="746"/>
                    </a:lnTo>
                    <a:lnTo>
                      <a:pt x="3645" y="753"/>
                    </a:lnTo>
                    <a:lnTo>
                      <a:pt x="3517" y="760"/>
                    </a:lnTo>
                    <a:lnTo>
                      <a:pt x="3379" y="766"/>
                    </a:lnTo>
                    <a:lnTo>
                      <a:pt x="3233" y="772"/>
                    </a:lnTo>
                    <a:lnTo>
                      <a:pt x="3079" y="778"/>
                    </a:lnTo>
                    <a:lnTo>
                      <a:pt x="2920" y="784"/>
                    </a:lnTo>
                    <a:lnTo>
                      <a:pt x="2754" y="790"/>
                    </a:lnTo>
                    <a:lnTo>
                      <a:pt x="2585" y="794"/>
                    </a:lnTo>
                    <a:lnTo>
                      <a:pt x="2412" y="799"/>
                    </a:lnTo>
                    <a:lnTo>
                      <a:pt x="2239" y="802"/>
                    </a:lnTo>
                    <a:lnTo>
                      <a:pt x="2065" y="806"/>
                    </a:lnTo>
                    <a:lnTo>
                      <a:pt x="1892" y="808"/>
                    </a:lnTo>
                    <a:lnTo>
                      <a:pt x="1719" y="809"/>
                    </a:lnTo>
                    <a:lnTo>
                      <a:pt x="1550" y="810"/>
                    </a:lnTo>
                    <a:lnTo>
                      <a:pt x="1385" y="809"/>
                    </a:lnTo>
                    <a:lnTo>
                      <a:pt x="1226" y="808"/>
                    </a:lnTo>
                    <a:lnTo>
                      <a:pt x="1072" y="806"/>
                    </a:lnTo>
                    <a:lnTo>
                      <a:pt x="927" y="802"/>
                    </a:lnTo>
                    <a:lnTo>
                      <a:pt x="790" y="798"/>
                    </a:lnTo>
                    <a:lnTo>
                      <a:pt x="664" y="791"/>
                    </a:lnTo>
                    <a:lnTo>
                      <a:pt x="547" y="784"/>
                    </a:lnTo>
                    <a:lnTo>
                      <a:pt x="444" y="775"/>
                    </a:lnTo>
                    <a:lnTo>
                      <a:pt x="354" y="764"/>
                    </a:lnTo>
                    <a:lnTo>
                      <a:pt x="278" y="752"/>
                    </a:lnTo>
                    <a:lnTo>
                      <a:pt x="219" y="738"/>
                    </a:lnTo>
                    <a:lnTo>
                      <a:pt x="177" y="723"/>
                    </a:lnTo>
                    <a:lnTo>
                      <a:pt x="152" y="706"/>
                    </a:lnTo>
                    <a:close/>
                    <a:moveTo>
                      <a:pt x="538" y="1619"/>
                    </a:moveTo>
                    <a:lnTo>
                      <a:pt x="664" y="1612"/>
                    </a:lnTo>
                    <a:lnTo>
                      <a:pt x="850" y="1603"/>
                    </a:lnTo>
                    <a:lnTo>
                      <a:pt x="1088" y="1592"/>
                    </a:lnTo>
                    <a:lnTo>
                      <a:pt x="1367" y="1579"/>
                    </a:lnTo>
                    <a:lnTo>
                      <a:pt x="1679" y="1567"/>
                    </a:lnTo>
                    <a:lnTo>
                      <a:pt x="2017" y="1554"/>
                    </a:lnTo>
                    <a:lnTo>
                      <a:pt x="2368" y="1543"/>
                    </a:lnTo>
                    <a:lnTo>
                      <a:pt x="2725" y="1531"/>
                    </a:lnTo>
                    <a:lnTo>
                      <a:pt x="3078" y="1523"/>
                    </a:lnTo>
                    <a:lnTo>
                      <a:pt x="3419" y="1516"/>
                    </a:lnTo>
                    <a:lnTo>
                      <a:pt x="3581" y="1514"/>
                    </a:lnTo>
                    <a:lnTo>
                      <a:pt x="3738" y="1513"/>
                    </a:lnTo>
                    <a:lnTo>
                      <a:pt x="3887" y="1513"/>
                    </a:lnTo>
                    <a:lnTo>
                      <a:pt x="4026" y="1514"/>
                    </a:lnTo>
                    <a:lnTo>
                      <a:pt x="4156" y="1516"/>
                    </a:lnTo>
                    <a:lnTo>
                      <a:pt x="4274" y="1519"/>
                    </a:lnTo>
                    <a:lnTo>
                      <a:pt x="4380" y="1523"/>
                    </a:lnTo>
                    <a:lnTo>
                      <a:pt x="4474" y="1529"/>
                    </a:lnTo>
                    <a:lnTo>
                      <a:pt x="4551" y="1536"/>
                    </a:lnTo>
                    <a:lnTo>
                      <a:pt x="4614" y="1544"/>
                    </a:lnTo>
                    <a:lnTo>
                      <a:pt x="4659" y="1554"/>
                    </a:lnTo>
                    <a:lnTo>
                      <a:pt x="4687" y="1565"/>
                    </a:lnTo>
                    <a:lnTo>
                      <a:pt x="4643" y="1575"/>
                    </a:lnTo>
                    <a:lnTo>
                      <a:pt x="4582" y="1584"/>
                    </a:lnTo>
                    <a:lnTo>
                      <a:pt x="4503" y="1593"/>
                    </a:lnTo>
                    <a:lnTo>
                      <a:pt x="4410" y="1602"/>
                    </a:lnTo>
                    <a:lnTo>
                      <a:pt x="4303" y="1611"/>
                    </a:lnTo>
                    <a:lnTo>
                      <a:pt x="4183" y="1620"/>
                    </a:lnTo>
                    <a:lnTo>
                      <a:pt x="4051" y="1628"/>
                    </a:lnTo>
                    <a:lnTo>
                      <a:pt x="3908" y="1637"/>
                    </a:lnTo>
                    <a:lnTo>
                      <a:pt x="3757" y="1645"/>
                    </a:lnTo>
                    <a:lnTo>
                      <a:pt x="3597" y="1653"/>
                    </a:lnTo>
                    <a:lnTo>
                      <a:pt x="3431" y="1661"/>
                    </a:lnTo>
                    <a:lnTo>
                      <a:pt x="3260" y="1669"/>
                    </a:lnTo>
                    <a:lnTo>
                      <a:pt x="3083" y="1675"/>
                    </a:lnTo>
                    <a:lnTo>
                      <a:pt x="2904" y="1682"/>
                    </a:lnTo>
                    <a:lnTo>
                      <a:pt x="2723" y="1687"/>
                    </a:lnTo>
                    <a:lnTo>
                      <a:pt x="2541" y="1692"/>
                    </a:lnTo>
                    <a:lnTo>
                      <a:pt x="2360" y="1695"/>
                    </a:lnTo>
                    <a:lnTo>
                      <a:pt x="2180" y="1699"/>
                    </a:lnTo>
                    <a:lnTo>
                      <a:pt x="2004" y="1701"/>
                    </a:lnTo>
                    <a:lnTo>
                      <a:pt x="1832" y="1702"/>
                    </a:lnTo>
                    <a:lnTo>
                      <a:pt x="1665" y="1703"/>
                    </a:lnTo>
                    <a:lnTo>
                      <a:pt x="1505" y="1702"/>
                    </a:lnTo>
                    <a:lnTo>
                      <a:pt x="1352" y="1700"/>
                    </a:lnTo>
                    <a:lnTo>
                      <a:pt x="1210" y="1697"/>
                    </a:lnTo>
                    <a:lnTo>
                      <a:pt x="1076" y="1692"/>
                    </a:lnTo>
                    <a:lnTo>
                      <a:pt x="956" y="1686"/>
                    </a:lnTo>
                    <a:lnTo>
                      <a:pt x="847" y="1679"/>
                    </a:lnTo>
                    <a:lnTo>
                      <a:pt x="753" y="1670"/>
                    </a:lnTo>
                    <a:lnTo>
                      <a:pt x="673" y="1660"/>
                    </a:lnTo>
                    <a:lnTo>
                      <a:pt x="610" y="1648"/>
                    </a:lnTo>
                    <a:lnTo>
                      <a:pt x="565" y="1634"/>
                    </a:lnTo>
                    <a:lnTo>
                      <a:pt x="538" y="1619"/>
                    </a:lnTo>
                    <a:close/>
                    <a:moveTo>
                      <a:pt x="102" y="573"/>
                    </a:moveTo>
                    <a:lnTo>
                      <a:pt x="258" y="573"/>
                    </a:lnTo>
                    <a:lnTo>
                      <a:pt x="675" y="571"/>
                    </a:lnTo>
                    <a:lnTo>
                      <a:pt x="957" y="569"/>
                    </a:lnTo>
                    <a:lnTo>
                      <a:pt x="1272" y="569"/>
                    </a:lnTo>
                    <a:lnTo>
                      <a:pt x="1616" y="569"/>
                    </a:lnTo>
                    <a:lnTo>
                      <a:pt x="1972" y="571"/>
                    </a:lnTo>
                    <a:lnTo>
                      <a:pt x="2335" y="573"/>
                    </a:lnTo>
                    <a:lnTo>
                      <a:pt x="2694" y="576"/>
                    </a:lnTo>
                    <a:lnTo>
                      <a:pt x="3038" y="581"/>
                    </a:lnTo>
                    <a:lnTo>
                      <a:pt x="3358" y="588"/>
                    </a:lnTo>
                    <a:lnTo>
                      <a:pt x="3506" y="592"/>
                    </a:lnTo>
                    <a:lnTo>
                      <a:pt x="3644" y="597"/>
                    </a:lnTo>
                    <a:lnTo>
                      <a:pt x="3770" y="601"/>
                    </a:lnTo>
                    <a:lnTo>
                      <a:pt x="3884" y="607"/>
                    </a:lnTo>
                    <a:lnTo>
                      <a:pt x="3986" y="614"/>
                    </a:lnTo>
                    <a:lnTo>
                      <a:pt x="4072" y="621"/>
                    </a:lnTo>
                    <a:lnTo>
                      <a:pt x="4142" y="628"/>
                    </a:lnTo>
                    <a:lnTo>
                      <a:pt x="4195" y="637"/>
                    </a:lnTo>
                    <a:lnTo>
                      <a:pt x="102" y="573"/>
                    </a:lnTo>
                    <a:close/>
                    <a:moveTo>
                      <a:pt x="721" y="1481"/>
                    </a:moveTo>
                    <a:lnTo>
                      <a:pt x="698" y="1480"/>
                    </a:lnTo>
                    <a:lnTo>
                      <a:pt x="693" y="1479"/>
                    </a:lnTo>
                    <a:lnTo>
                      <a:pt x="707" y="1476"/>
                    </a:lnTo>
                    <a:lnTo>
                      <a:pt x="737" y="1474"/>
                    </a:lnTo>
                    <a:lnTo>
                      <a:pt x="843" y="1467"/>
                    </a:lnTo>
                    <a:lnTo>
                      <a:pt x="1003" y="1459"/>
                    </a:lnTo>
                    <a:lnTo>
                      <a:pt x="1449" y="1439"/>
                    </a:lnTo>
                    <a:lnTo>
                      <a:pt x="2006" y="1413"/>
                    </a:lnTo>
                    <a:lnTo>
                      <a:pt x="2303" y="1399"/>
                    </a:lnTo>
                    <a:lnTo>
                      <a:pt x="2602" y="1383"/>
                    </a:lnTo>
                    <a:lnTo>
                      <a:pt x="2891" y="1367"/>
                    </a:lnTo>
                    <a:lnTo>
                      <a:pt x="3166" y="1350"/>
                    </a:lnTo>
                    <a:lnTo>
                      <a:pt x="3294" y="1341"/>
                    </a:lnTo>
                    <a:lnTo>
                      <a:pt x="3415" y="1332"/>
                    </a:lnTo>
                    <a:lnTo>
                      <a:pt x="3526" y="1322"/>
                    </a:lnTo>
                    <a:lnTo>
                      <a:pt x="3629" y="1313"/>
                    </a:lnTo>
                    <a:lnTo>
                      <a:pt x="3720" y="1304"/>
                    </a:lnTo>
                    <a:lnTo>
                      <a:pt x="3800" y="1295"/>
                    </a:lnTo>
                    <a:lnTo>
                      <a:pt x="3867" y="1286"/>
                    </a:lnTo>
                    <a:lnTo>
                      <a:pt x="3920" y="1276"/>
                    </a:lnTo>
                    <a:lnTo>
                      <a:pt x="721" y="1481"/>
                    </a:lnTo>
                    <a:close/>
                    <a:moveTo>
                      <a:pt x="0" y="73"/>
                    </a:moveTo>
                    <a:lnTo>
                      <a:pt x="143" y="67"/>
                    </a:lnTo>
                    <a:lnTo>
                      <a:pt x="521" y="54"/>
                    </a:lnTo>
                    <a:lnTo>
                      <a:pt x="778" y="45"/>
                    </a:lnTo>
                    <a:lnTo>
                      <a:pt x="1065" y="35"/>
                    </a:lnTo>
                    <a:lnTo>
                      <a:pt x="1376" y="26"/>
                    </a:lnTo>
                    <a:lnTo>
                      <a:pt x="1700" y="17"/>
                    </a:lnTo>
                    <a:lnTo>
                      <a:pt x="2029" y="10"/>
                    </a:lnTo>
                    <a:lnTo>
                      <a:pt x="2354" y="5"/>
                    </a:lnTo>
                    <a:lnTo>
                      <a:pt x="2512" y="2"/>
                    </a:lnTo>
                    <a:lnTo>
                      <a:pt x="2666" y="1"/>
                    </a:lnTo>
                    <a:lnTo>
                      <a:pt x="2814" y="0"/>
                    </a:lnTo>
                    <a:lnTo>
                      <a:pt x="2954" y="0"/>
                    </a:lnTo>
                    <a:lnTo>
                      <a:pt x="3087" y="1"/>
                    </a:lnTo>
                    <a:lnTo>
                      <a:pt x="3212" y="4"/>
                    </a:lnTo>
                    <a:lnTo>
                      <a:pt x="3326" y="6"/>
                    </a:lnTo>
                    <a:lnTo>
                      <a:pt x="3428" y="10"/>
                    </a:lnTo>
                    <a:lnTo>
                      <a:pt x="3518" y="15"/>
                    </a:lnTo>
                    <a:lnTo>
                      <a:pt x="3595" y="21"/>
                    </a:lnTo>
                    <a:lnTo>
                      <a:pt x="3657" y="29"/>
                    </a:lnTo>
                    <a:lnTo>
                      <a:pt x="3703" y="3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4413240" y="5102280"/>
                <a:ext cx="1130400" cy="85680"/>
              </a:xfrm>
              <a:custGeom>
                <a:avLst/>
                <a:gdLst/>
                <a:ahLst/>
                <a:rect l="l" t="t" r="r" b="b"/>
                <a:pathLst>
                  <a:path w="3559" h="268">
                    <a:moveTo>
                      <a:pt x="3536" y="122"/>
                    </a:moveTo>
                    <a:lnTo>
                      <a:pt x="3554" y="105"/>
                    </a:lnTo>
                    <a:lnTo>
                      <a:pt x="3559" y="93"/>
                    </a:lnTo>
                    <a:lnTo>
                      <a:pt x="3559" y="79"/>
                    </a:lnTo>
                    <a:lnTo>
                      <a:pt x="3556" y="66"/>
                    </a:lnTo>
                    <a:lnTo>
                      <a:pt x="3550" y="55"/>
                    </a:lnTo>
                    <a:lnTo>
                      <a:pt x="3542" y="47"/>
                    </a:lnTo>
                    <a:lnTo>
                      <a:pt x="3534" y="40"/>
                    </a:lnTo>
                    <a:lnTo>
                      <a:pt x="3526" y="36"/>
                    </a:lnTo>
                    <a:lnTo>
                      <a:pt x="3515" y="31"/>
                    </a:lnTo>
                    <a:lnTo>
                      <a:pt x="3497" y="24"/>
                    </a:lnTo>
                    <a:lnTo>
                      <a:pt x="3474" y="20"/>
                    </a:lnTo>
                    <a:lnTo>
                      <a:pt x="3449" y="15"/>
                    </a:lnTo>
                    <a:lnTo>
                      <a:pt x="3421" y="11"/>
                    </a:lnTo>
                    <a:lnTo>
                      <a:pt x="3388" y="8"/>
                    </a:lnTo>
                    <a:lnTo>
                      <a:pt x="3353" y="5"/>
                    </a:lnTo>
                    <a:lnTo>
                      <a:pt x="3315" y="4"/>
                    </a:lnTo>
                    <a:lnTo>
                      <a:pt x="3272" y="1"/>
                    </a:lnTo>
                    <a:lnTo>
                      <a:pt x="3180" y="0"/>
                    </a:lnTo>
                    <a:lnTo>
                      <a:pt x="3076" y="0"/>
                    </a:lnTo>
                    <a:lnTo>
                      <a:pt x="2964" y="3"/>
                    </a:lnTo>
                    <a:lnTo>
                      <a:pt x="2840" y="5"/>
                    </a:lnTo>
                    <a:lnTo>
                      <a:pt x="2709" y="11"/>
                    </a:lnTo>
                    <a:lnTo>
                      <a:pt x="2573" y="16"/>
                    </a:lnTo>
                    <a:lnTo>
                      <a:pt x="2429" y="23"/>
                    </a:lnTo>
                    <a:lnTo>
                      <a:pt x="2281" y="31"/>
                    </a:lnTo>
                    <a:lnTo>
                      <a:pt x="2128" y="40"/>
                    </a:lnTo>
                    <a:lnTo>
                      <a:pt x="1973" y="51"/>
                    </a:lnTo>
                    <a:lnTo>
                      <a:pt x="1659" y="72"/>
                    </a:lnTo>
                    <a:lnTo>
                      <a:pt x="1348" y="94"/>
                    </a:lnTo>
                    <a:lnTo>
                      <a:pt x="1047" y="118"/>
                    </a:lnTo>
                    <a:lnTo>
                      <a:pt x="764" y="140"/>
                    </a:lnTo>
                    <a:lnTo>
                      <a:pt x="293" y="178"/>
                    </a:lnTo>
                    <a:lnTo>
                      <a:pt x="0" y="201"/>
                    </a:lnTo>
                    <a:lnTo>
                      <a:pt x="4" y="268"/>
                    </a:lnTo>
                    <a:lnTo>
                      <a:pt x="298" y="246"/>
                    </a:lnTo>
                    <a:lnTo>
                      <a:pt x="770" y="207"/>
                    </a:lnTo>
                    <a:lnTo>
                      <a:pt x="1052" y="185"/>
                    </a:lnTo>
                    <a:lnTo>
                      <a:pt x="1353" y="161"/>
                    </a:lnTo>
                    <a:lnTo>
                      <a:pt x="1664" y="140"/>
                    </a:lnTo>
                    <a:lnTo>
                      <a:pt x="1977" y="118"/>
                    </a:lnTo>
                    <a:lnTo>
                      <a:pt x="2132" y="108"/>
                    </a:lnTo>
                    <a:lnTo>
                      <a:pt x="2284" y="98"/>
                    </a:lnTo>
                    <a:lnTo>
                      <a:pt x="2432" y="90"/>
                    </a:lnTo>
                    <a:lnTo>
                      <a:pt x="2576" y="84"/>
                    </a:lnTo>
                    <a:lnTo>
                      <a:pt x="2713" y="78"/>
                    </a:lnTo>
                    <a:lnTo>
                      <a:pt x="2843" y="72"/>
                    </a:lnTo>
                    <a:lnTo>
                      <a:pt x="2965" y="70"/>
                    </a:lnTo>
                    <a:lnTo>
                      <a:pt x="3078" y="68"/>
                    </a:lnTo>
                    <a:lnTo>
                      <a:pt x="3180" y="68"/>
                    </a:lnTo>
                    <a:lnTo>
                      <a:pt x="3271" y="69"/>
                    </a:lnTo>
                    <a:lnTo>
                      <a:pt x="3311" y="71"/>
                    </a:lnTo>
                    <a:lnTo>
                      <a:pt x="3349" y="72"/>
                    </a:lnTo>
                    <a:lnTo>
                      <a:pt x="3383" y="76"/>
                    </a:lnTo>
                    <a:lnTo>
                      <a:pt x="3413" y="78"/>
                    </a:lnTo>
                    <a:lnTo>
                      <a:pt x="3439" y="81"/>
                    </a:lnTo>
                    <a:lnTo>
                      <a:pt x="3461" y="86"/>
                    </a:lnTo>
                    <a:lnTo>
                      <a:pt x="3479" y="89"/>
                    </a:lnTo>
                    <a:lnTo>
                      <a:pt x="3491" y="94"/>
                    </a:lnTo>
                    <a:lnTo>
                      <a:pt x="3495" y="95"/>
                    </a:lnTo>
                    <a:lnTo>
                      <a:pt x="3497" y="96"/>
                    </a:lnTo>
                    <a:lnTo>
                      <a:pt x="3497" y="97"/>
                    </a:lnTo>
                    <a:lnTo>
                      <a:pt x="3496" y="95"/>
                    </a:lnTo>
                    <a:lnTo>
                      <a:pt x="3494" y="92"/>
                    </a:lnTo>
                    <a:lnTo>
                      <a:pt x="3491" y="86"/>
                    </a:lnTo>
                    <a:lnTo>
                      <a:pt x="3493" y="80"/>
                    </a:lnTo>
                    <a:lnTo>
                      <a:pt x="3494" y="76"/>
                    </a:lnTo>
                    <a:lnTo>
                      <a:pt x="3512" y="59"/>
                    </a:lnTo>
                    <a:lnTo>
                      <a:pt x="3494" y="76"/>
                    </a:lnTo>
                    <a:lnTo>
                      <a:pt x="3491" y="84"/>
                    </a:lnTo>
                    <a:lnTo>
                      <a:pt x="3490" y="90"/>
                    </a:lnTo>
                    <a:lnTo>
                      <a:pt x="3490" y="97"/>
                    </a:lnTo>
                    <a:lnTo>
                      <a:pt x="3493" y="103"/>
                    </a:lnTo>
                    <a:lnTo>
                      <a:pt x="3495" y="109"/>
                    </a:lnTo>
                    <a:lnTo>
                      <a:pt x="3499" y="113"/>
                    </a:lnTo>
                    <a:lnTo>
                      <a:pt x="3504" y="118"/>
                    </a:lnTo>
                    <a:lnTo>
                      <a:pt x="3510" y="120"/>
                    </a:lnTo>
                    <a:lnTo>
                      <a:pt x="3515" y="122"/>
                    </a:lnTo>
                    <a:lnTo>
                      <a:pt x="3521" y="125"/>
                    </a:lnTo>
                    <a:lnTo>
                      <a:pt x="3528" y="125"/>
                    </a:lnTo>
                    <a:lnTo>
                      <a:pt x="3534" y="124"/>
                    </a:lnTo>
                    <a:lnTo>
                      <a:pt x="3539" y="121"/>
                    </a:lnTo>
                    <a:lnTo>
                      <a:pt x="3545" y="117"/>
                    </a:lnTo>
                    <a:lnTo>
                      <a:pt x="3551" y="112"/>
                    </a:lnTo>
                    <a:lnTo>
                      <a:pt x="3554" y="105"/>
                    </a:lnTo>
                    <a:lnTo>
                      <a:pt x="3536" y="12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4403880" y="5121360"/>
                <a:ext cx="1131840" cy="75960"/>
              </a:xfrm>
              <a:custGeom>
                <a:avLst/>
                <a:gdLst/>
                <a:ahLst/>
                <a:rect l="l" t="t" r="r" b="b"/>
                <a:pathLst>
                  <a:path w="3567" h="243">
                    <a:moveTo>
                      <a:pt x="31" y="142"/>
                    </a:moveTo>
                    <a:lnTo>
                      <a:pt x="0" y="169"/>
                    </a:lnTo>
                    <a:lnTo>
                      <a:pt x="1" y="189"/>
                    </a:lnTo>
                    <a:lnTo>
                      <a:pt x="10" y="204"/>
                    </a:lnTo>
                    <a:lnTo>
                      <a:pt x="18" y="211"/>
                    </a:lnTo>
                    <a:lnTo>
                      <a:pt x="28" y="216"/>
                    </a:lnTo>
                    <a:lnTo>
                      <a:pt x="42" y="221"/>
                    </a:lnTo>
                    <a:lnTo>
                      <a:pt x="59" y="224"/>
                    </a:lnTo>
                    <a:lnTo>
                      <a:pt x="80" y="228"/>
                    </a:lnTo>
                    <a:lnTo>
                      <a:pt x="105" y="230"/>
                    </a:lnTo>
                    <a:lnTo>
                      <a:pt x="132" y="232"/>
                    </a:lnTo>
                    <a:lnTo>
                      <a:pt x="164" y="235"/>
                    </a:lnTo>
                    <a:lnTo>
                      <a:pt x="237" y="238"/>
                    </a:lnTo>
                    <a:lnTo>
                      <a:pt x="322" y="240"/>
                    </a:lnTo>
                    <a:lnTo>
                      <a:pt x="420" y="243"/>
                    </a:lnTo>
                    <a:lnTo>
                      <a:pt x="530" y="243"/>
                    </a:lnTo>
                    <a:lnTo>
                      <a:pt x="650" y="243"/>
                    </a:lnTo>
                    <a:lnTo>
                      <a:pt x="777" y="240"/>
                    </a:lnTo>
                    <a:lnTo>
                      <a:pt x="913" y="239"/>
                    </a:lnTo>
                    <a:lnTo>
                      <a:pt x="1055" y="236"/>
                    </a:lnTo>
                    <a:lnTo>
                      <a:pt x="1204" y="232"/>
                    </a:lnTo>
                    <a:lnTo>
                      <a:pt x="1355" y="228"/>
                    </a:lnTo>
                    <a:lnTo>
                      <a:pt x="1511" y="222"/>
                    </a:lnTo>
                    <a:lnTo>
                      <a:pt x="1669" y="216"/>
                    </a:lnTo>
                    <a:lnTo>
                      <a:pt x="1827" y="209"/>
                    </a:lnTo>
                    <a:lnTo>
                      <a:pt x="1986" y="203"/>
                    </a:lnTo>
                    <a:lnTo>
                      <a:pt x="2142" y="196"/>
                    </a:lnTo>
                    <a:lnTo>
                      <a:pt x="2297" y="187"/>
                    </a:lnTo>
                    <a:lnTo>
                      <a:pt x="2448" y="179"/>
                    </a:lnTo>
                    <a:lnTo>
                      <a:pt x="2596" y="169"/>
                    </a:lnTo>
                    <a:lnTo>
                      <a:pt x="2736" y="160"/>
                    </a:lnTo>
                    <a:lnTo>
                      <a:pt x="2870" y="150"/>
                    </a:lnTo>
                    <a:lnTo>
                      <a:pt x="2996" y="141"/>
                    </a:lnTo>
                    <a:lnTo>
                      <a:pt x="3113" y="130"/>
                    </a:lnTo>
                    <a:lnTo>
                      <a:pt x="3220" y="119"/>
                    </a:lnTo>
                    <a:lnTo>
                      <a:pt x="3315" y="109"/>
                    </a:lnTo>
                    <a:lnTo>
                      <a:pt x="3398" y="98"/>
                    </a:lnTo>
                    <a:lnTo>
                      <a:pt x="3468" y="86"/>
                    </a:lnTo>
                    <a:lnTo>
                      <a:pt x="3498" y="81"/>
                    </a:lnTo>
                    <a:lnTo>
                      <a:pt x="3525" y="75"/>
                    </a:lnTo>
                    <a:lnTo>
                      <a:pt x="3547" y="69"/>
                    </a:lnTo>
                    <a:lnTo>
                      <a:pt x="3567" y="63"/>
                    </a:lnTo>
                    <a:lnTo>
                      <a:pt x="3543" y="0"/>
                    </a:lnTo>
                    <a:lnTo>
                      <a:pt x="3528" y="4"/>
                    </a:lnTo>
                    <a:lnTo>
                      <a:pt x="3509" y="10"/>
                    </a:lnTo>
                    <a:lnTo>
                      <a:pt x="3485" y="15"/>
                    </a:lnTo>
                    <a:lnTo>
                      <a:pt x="3457" y="20"/>
                    </a:lnTo>
                    <a:lnTo>
                      <a:pt x="3389" y="31"/>
                    </a:lnTo>
                    <a:lnTo>
                      <a:pt x="3307" y="42"/>
                    </a:lnTo>
                    <a:lnTo>
                      <a:pt x="3213" y="52"/>
                    </a:lnTo>
                    <a:lnTo>
                      <a:pt x="3107" y="63"/>
                    </a:lnTo>
                    <a:lnTo>
                      <a:pt x="2990" y="74"/>
                    </a:lnTo>
                    <a:lnTo>
                      <a:pt x="2865" y="83"/>
                    </a:lnTo>
                    <a:lnTo>
                      <a:pt x="2731" y="93"/>
                    </a:lnTo>
                    <a:lnTo>
                      <a:pt x="2591" y="102"/>
                    </a:lnTo>
                    <a:lnTo>
                      <a:pt x="2445" y="111"/>
                    </a:lnTo>
                    <a:lnTo>
                      <a:pt x="2293" y="119"/>
                    </a:lnTo>
                    <a:lnTo>
                      <a:pt x="2140" y="127"/>
                    </a:lnTo>
                    <a:lnTo>
                      <a:pt x="1982" y="135"/>
                    </a:lnTo>
                    <a:lnTo>
                      <a:pt x="1824" y="142"/>
                    </a:lnTo>
                    <a:lnTo>
                      <a:pt x="1666" y="149"/>
                    </a:lnTo>
                    <a:lnTo>
                      <a:pt x="1509" y="155"/>
                    </a:lnTo>
                    <a:lnTo>
                      <a:pt x="1353" y="160"/>
                    </a:lnTo>
                    <a:lnTo>
                      <a:pt x="1201" y="165"/>
                    </a:lnTo>
                    <a:lnTo>
                      <a:pt x="1054" y="168"/>
                    </a:lnTo>
                    <a:lnTo>
                      <a:pt x="912" y="172"/>
                    </a:lnTo>
                    <a:lnTo>
                      <a:pt x="776" y="173"/>
                    </a:lnTo>
                    <a:lnTo>
                      <a:pt x="650" y="175"/>
                    </a:lnTo>
                    <a:lnTo>
                      <a:pt x="530" y="175"/>
                    </a:lnTo>
                    <a:lnTo>
                      <a:pt x="422" y="175"/>
                    </a:lnTo>
                    <a:lnTo>
                      <a:pt x="324" y="173"/>
                    </a:lnTo>
                    <a:lnTo>
                      <a:pt x="239" y="171"/>
                    </a:lnTo>
                    <a:lnTo>
                      <a:pt x="167" y="167"/>
                    </a:lnTo>
                    <a:lnTo>
                      <a:pt x="138" y="165"/>
                    </a:lnTo>
                    <a:lnTo>
                      <a:pt x="111" y="163"/>
                    </a:lnTo>
                    <a:lnTo>
                      <a:pt x="89" y="160"/>
                    </a:lnTo>
                    <a:lnTo>
                      <a:pt x="72" y="158"/>
                    </a:lnTo>
                    <a:lnTo>
                      <a:pt x="59" y="155"/>
                    </a:lnTo>
                    <a:lnTo>
                      <a:pt x="52" y="152"/>
                    </a:lnTo>
                    <a:lnTo>
                      <a:pt x="54" y="154"/>
                    </a:lnTo>
                    <a:lnTo>
                      <a:pt x="59" y="157"/>
                    </a:lnTo>
                    <a:lnTo>
                      <a:pt x="65" y="167"/>
                    </a:lnTo>
                    <a:lnTo>
                      <a:pt x="66" y="183"/>
                    </a:lnTo>
                    <a:lnTo>
                      <a:pt x="35" y="209"/>
                    </a:lnTo>
                    <a:lnTo>
                      <a:pt x="66" y="183"/>
                    </a:lnTo>
                    <a:lnTo>
                      <a:pt x="67" y="175"/>
                    </a:lnTo>
                    <a:lnTo>
                      <a:pt x="66" y="168"/>
                    </a:lnTo>
                    <a:lnTo>
                      <a:pt x="64" y="162"/>
                    </a:lnTo>
                    <a:lnTo>
                      <a:pt x="60" y="156"/>
                    </a:lnTo>
                    <a:lnTo>
                      <a:pt x="57" y="151"/>
                    </a:lnTo>
                    <a:lnTo>
                      <a:pt x="51" y="148"/>
                    </a:lnTo>
                    <a:lnTo>
                      <a:pt x="45" y="146"/>
                    </a:lnTo>
                    <a:lnTo>
                      <a:pt x="40" y="143"/>
                    </a:lnTo>
                    <a:lnTo>
                      <a:pt x="33" y="142"/>
                    </a:lnTo>
                    <a:lnTo>
                      <a:pt x="27" y="143"/>
                    </a:lnTo>
                    <a:lnTo>
                      <a:pt x="21" y="144"/>
                    </a:lnTo>
                    <a:lnTo>
                      <a:pt x="16" y="147"/>
                    </a:lnTo>
                    <a:lnTo>
                      <a:pt x="10" y="150"/>
                    </a:lnTo>
                    <a:lnTo>
                      <a:pt x="5" y="156"/>
                    </a:lnTo>
                    <a:lnTo>
                      <a:pt x="2" y="162"/>
                    </a:lnTo>
                    <a:lnTo>
                      <a:pt x="0" y="169"/>
                    </a:lnTo>
                    <a:lnTo>
                      <a:pt x="31" y="14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4484520" y="5342040"/>
                <a:ext cx="1249560" cy="77760"/>
              </a:xfrm>
              <a:custGeom>
                <a:avLst/>
                <a:gdLst/>
                <a:ahLst/>
                <a:rect l="l" t="t" r="r" b="b"/>
                <a:pathLst>
                  <a:path w="3935" h="247">
                    <a:moveTo>
                      <a:pt x="3917" y="80"/>
                    </a:moveTo>
                    <a:lnTo>
                      <a:pt x="3921" y="78"/>
                    </a:lnTo>
                    <a:lnTo>
                      <a:pt x="3933" y="66"/>
                    </a:lnTo>
                    <a:lnTo>
                      <a:pt x="3935" y="33"/>
                    </a:lnTo>
                    <a:lnTo>
                      <a:pt x="3922" y="17"/>
                    </a:lnTo>
                    <a:lnTo>
                      <a:pt x="3910" y="12"/>
                    </a:lnTo>
                    <a:lnTo>
                      <a:pt x="3897" y="8"/>
                    </a:lnTo>
                    <a:lnTo>
                      <a:pt x="3880" y="6"/>
                    </a:lnTo>
                    <a:lnTo>
                      <a:pt x="3833" y="4"/>
                    </a:lnTo>
                    <a:lnTo>
                      <a:pt x="3767" y="1"/>
                    </a:lnTo>
                    <a:lnTo>
                      <a:pt x="3683" y="0"/>
                    </a:lnTo>
                    <a:lnTo>
                      <a:pt x="3584" y="0"/>
                    </a:lnTo>
                    <a:lnTo>
                      <a:pt x="3470" y="1"/>
                    </a:lnTo>
                    <a:lnTo>
                      <a:pt x="3341" y="4"/>
                    </a:lnTo>
                    <a:lnTo>
                      <a:pt x="3052" y="9"/>
                    </a:lnTo>
                    <a:lnTo>
                      <a:pt x="2725" y="19"/>
                    </a:lnTo>
                    <a:lnTo>
                      <a:pt x="2374" y="30"/>
                    </a:lnTo>
                    <a:lnTo>
                      <a:pt x="2009" y="44"/>
                    </a:lnTo>
                    <a:lnTo>
                      <a:pt x="1643" y="60"/>
                    </a:lnTo>
                    <a:lnTo>
                      <a:pt x="1287" y="77"/>
                    </a:lnTo>
                    <a:lnTo>
                      <a:pt x="1117" y="86"/>
                    </a:lnTo>
                    <a:lnTo>
                      <a:pt x="954" y="95"/>
                    </a:lnTo>
                    <a:lnTo>
                      <a:pt x="799" y="104"/>
                    </a:lnTo>
                    <a:lnTo>
                      <a:pt x="654" y="114"/>
                    </a:lnTo>
                    <a:lnTo>
                      <a:pt x="521" y="124"/>
                    </a:lnTo>
                    <a:lnTo>
                      <a:pt x="400" y="134"/>
                    </a:lnTo>
                    <a:lnTo>
                      <a:pt x="293" y="143"/>
                    </a:lnTo>
                    <a:lnTo>
                      <a:pt x="203" y="153"/>
                    </a:lnTo>
                    <a:lnTo>
                      <a:pt x="163" y="158"/>
                    </a:lnTo>
                    <a:lnTo>
                      <a:pt x="129" y="162"/>
                    </a:lnTo>
                    <a:lnTo>
                      <a:pt x="98" y="167"/>
                    </a:lnTo>
                    <a:lnTo>
                      <a:pt x="73" y="173"/>
                    </a:lnTo>
                    <a:lnTo>
                      <a:pt x="51" y="177"/>
                    </a:lnTo>
                    <a:lnTo>
                      <a:pt x="34" y="183"/>
                    </a:lnTo>
                    <a:lnTo>
                      <a:pt x="25" y="186"/>
                    </a:lnTo>
                    <a:lnTo>
                      <a:pt x="17" y="192"/>
                    </a:lnTo>
                    <a:lnTo>
                      <a:pt x="7" y="201"/>
                    </a:lnTo>
                    <a:lnTo>
                      <a:pt x="0" y="220"/>
                    </a:lnTo>
                    <a:lnTo>
                      <a:pt x="67" y="226"/>
                    </a:lnTo>
                    <a:lnTo>
                      <a:pt x="62" y="241"/>
                    </a:lnTo>
                    <a:lnTo>
                      <a:pt x="57" y="246"/>
                    </a:lnTo>
                    <a:lnTo>
                      <a:pt x="56" y="247"/>
                    </a:lnTo>
                    <a:lnTo>
                      <a:pt x="57" y="247"/>
                    </a:lnTo>
                    <a:lnTo>
                      <a:pt x="69" y="242"/>
                    </a:lnTo>
                    <a:lnTo>
                      <a:pt x="87" y="239"/>
                    </a:lnTo>
                    <a:lnTo>
                      <a:pt x="110" y="234"/>
                    </a:lnTo>
                    <a:lnTo>
                      <a:pt x="139" y="230"/>
                    </a:lnTo>
                    <a:lnTo>
                      <a:pt x="172" y="225"/>
                    </a:lnTo>
                    <a:lnTo>
                      <a:pt x="210" y="219"/>
                    </a:lnTo>
                    <a:lnTo>
                      <a:pt x="300" y="210"/>
                    </a:lnTo>
                    <a:lnTo>
                      <a:pt x="406" y="201"/>
                    </a:lnTo>
                    <a:lnTo>
                      <a:pt x="526" y="191"/>
                    </a:lnTo>
                    <a:lnTo>
                      <a:pt x="659" y="182"/>
                    </a:lnTo>
                    <a:lnTo>
                      <a:pt x="803" y="171"/>
                    </a:lnTo>
                    <a:lnTo>
                      <a:pt x="958" y="162"/>
                    </a:lnTo>
                    <a:lnTo>
                      <a:pt x="1121" y="153"/>
                    </a:lnTo>
                    <a:lnTo>
                      <a:pt x="1291" y="144"/>
                    </a:lnTo>
                    <a:lnTo>
                      <a:pt x="1645" y="127"/>
                    </a:lnTo>
                    <a:lnTo>
                      <a:pt x="2011" y="111"/>
                    </a:lnTo>
                    <a:lnTo>
                      <a:pt x="2376" y="97"/>
                    </a:lnTo>
                    <a:lnTo>
                      <a:pt x="2727" y="86"/>
                    </a:lnTo>
                    <a:lnTo>
                      <a:pt x="3053" y="77"/>
                    </a:lnTo>
                    <a:lnTo>
                      <a:pt x="3343" y="71"/>
                    </a:lnTo>
                    <a:lnTo>
                      <a:pt x="3470" y="69"/>
                    </a:lnTo>
                    <a:lnTo>
                      <a:pt x="3584" y="68"/>
                    </a:lnTo>
                    <a:lnTo>
                      <a:pt x="3683" y="68"/>
                    </a:lnTo>
                    <a:lnTo>
                      <a:pt x="3766" y="69"/>
                    </a:lnTo>
                    <a:lnTo>
                      <a:pt x="3829" y="71"/>
                    </a:lnTo>
                    <a:lnTo>
                      <a:pt x="3874" y="73"/>
                    </a:lnTo>
                    <a:lnTo>
                      <a:pt x="3885" y="76"/>
                    </a:lnTo>
                    <a:lnTo>
                      <a:pt x="3892" y="77"/>
                    </a:lnTo>
                    <a:lnTo>
                      <a:pt x="3885" y="74"/>
                    </a:lnTo>
                    <a:lnTo>
                      <a:pt x="3874" y="61"/>
                    </a:lnTo>
                    <a:lnTo>
                      <a:pt x="3876" y="30"/>
                    </a:lnTo>
                    <a:lnTo>
                      <a:pt x="3885" y="21"/>
                    </a:lnTo>
                    <a:lnTo>
                      <a:pt x="3889" y="19"/>
                    </a:lnTo>
                    <a:lnTo>
                      <a:pt x="3885" y="21"/>
                    </a:lnTo>
                    <a:lnTo>
                      <a:pt x="3880" y="25"/>
                    </a:lnTo>
                    <a:lnTo>
                      <a:pt x="3874" y="31"/>
                    </a:lnTo>
                    <a:lnTo>
                      <a:pt x="3872" y="37"/>
                    </a:lnTo>
                    <a:lnTo>
                      <a:pt x="3869" y="44"/>
                    </a:lnTo>
                    <a:lnTo>
                      <a:pt x="3869" y="49"/>
                    </a:lnTo>
                    <a:lnTo>
                      <a:pt x="3869" y="56"/>
                    </a:lnTo>
                    <a:lnTo>
                      <a:pt x="3872" y="62"/>
                    </a:lnTo>
                    <a:lnTo>
                      <a:pt x="3875" y="68"/>
                    </a:lnTo>
                    <a:lnTo>
                      <a:pt x="3878" y="72"/>
                    </a:lnTo>
                    <a:lnTo>
                      <a:pt x="3883" y="77"/>
                    </a:lnTo>
                    <a:lnTo>
                      <a:pt x="3888" y="80"/>
                    </a:lnTo>
                    <a:lnTo>
                      <a:pt x="3893" y="82"/>
                    </a:lnTo>
                    <a:lnTo>
                      <a:pt x="3900" y="84"/>
                    </a:lnTo>
                    <a:lnTo>
                      <a:pt x="3907" y="84"/>
                    </a:lnTo>
                    <a:lnTo>
                      <a:pt x="3914" y="81"/>
                    </a:lnTo>
                    <a:lnTo>
                      <a:pt x="3921" y="78"/>
                    </a:lnTo>
                    <a:lnTo>
                      <a:pt x="3917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4484520" y="5346720"/>
                <a:ext cx="1243080" cy="85680"/>
              </a:xfrm>
              <a:custGeom>
                <a:avLst/>
                <a:gdLst/>
                <a:ahLst/>
                <a:rect l="l" t="t" r="r" b="b"/>
                <a:pathLst>
                  <a:path w="3917" h="270">
                    <a:moveTo>
                      <a:pt x="0" y="201"/>
                    </a:moveTo>
                    <a:lnTo>
                      <a:pt x="0" y="201"/>
                    </a:lnTo>
                    <a:lnTo>
                      <a:pt x="4" y="222"/>
                    </a:lnTo>
                    <a:lnTo>
                      <a:pt x="14" y="235"/>
                    </a:lnTo>
                    <a:lnTo>
                      <a:pt x="23" y="240"/>
                    </a:lnTo>
                    <a:lnTo>
                      <a:pt x="32" y="245"/>
                    </a:lnTo>
                    <a:lnTo>
                      <a:pt x="48" y="248"/>
                    </a:lnTo>
                    <a:lnTo>
                      <a:pt x="66" y="253"/>
                    </a:lnTo>
                    <a:lnTo>
                      <a:pt x="89" y="256"/>
                    </a:lnTo>
                    <a:lnTo>
                      <a:pt x="116" y="259"/>
                    </a:lnTo>
                    <a:lnTo>
                      <a:pt x="147" y="261"/>
                    </a:lnTo>
                    <a:lnTo>
                      <a:pt x="183" y="263"/>
                    </a:lnTo>
                    <a:lnTo>
                      <a:pt x="265" y="267"/>
                    </a:lnTo>
                    <a:lnTo>
                      <a:pt x="360" y="269"/>
                    </a:lnTo>
                    <a:lnTo>
                      <a:pt x="470" y="270"/>
                    </a:lnTo>
                    <a:lnTo>
                      <a:pt x="591" y="270"/>
                    </a:lnTo>
                    <a:lnTo>
                      <a:pt x="723" y="269"/>
                    </a:lnTo>
                    <a:lnTo>
                      <a:pt x="865" y="268"/>
                    </a:lnTo>
                    <a:lnTo>
                      <a:pt x="1016" y="265"/>
                    </a:lnTo>
                    <a:lnTo>
                      <a:pt x="1173" y="262"/>
                    </a:lnTo>
                    <a:lnTo>
                      <a:pt x="1337" y="257"/>
                    </a:lnTo>
                    <a:lnTo>
                      <a:pt x="1505" y="253"/>
                    </a:lnTo>
                    <a:lnTo>
                      <a:pt x="1677" y="246"/>
                    </a:lnTo>
                    <a:lnTo>
                      <a:pt x="1851" y="240"/>
                    </a:lnTo>
                    <a:lnTo>
                      <a:pt x="2026" y="232"/>
                    </a:lnTo>
                    <a:lnTo>
                      <a:pt x="2200" y="224"/>
                    </a:lnTo>
                    <a:lnTo>
                      <a:pt x="2374" y="216"/>
                    </a:lnTo>
                    <a:lnTo>
                      <a:pt x="2543" y="207"/>
                    </a:lnTo>
                    <a:lnTo>
                      <a:pt x="2709" y="197"/>
                    </a:lnTo>
                    <a:lnTo>
                      <a:pt x="2870" y="188"/>
                    </a:lnTo>
                    <a:lnTo>
                      <a:pt x="3025" y="176"/>
                    </a:lnTo>
                    <a:lnTo>
                      <a:pt x="3170" y="165"/>
                    </a:lnTo>
                    <a:lnTo>
                      <a:pt x="3307" y="154"/>
                    </a:lnTo>
                    <a:lnTo>
                      <a:pt x="3435" y="142"/>
                    </a:lnTo>
                    <a:lnTo>
                      <a:pt x="3550" y="130"/>
                    </a:lnTo>
                    <a:lnTo>
                      <a:pt x="3653" y="117"/>
                    </a:lnTo>
                    <a:lnTo>
                      <a:pt x="3699" y="110"/>
                    </a:lnTo>
                    <a:lnTo>
                      <a:pt x="3742" y="103"/>
                    </a:lnTo>
                    <a:lnTo>
                      <a:pt x="3780" y="98"/>
                    </a:lnTo>
                    <a:lnTo>
                      <a:pt x="3816" y="91"/>
                    </a:lnTo>
                    <a:lnTo>
                      <a:pt x="3846" y="84"/>
                    </a:lnTo>
                    <a:lnTo>
                      <a:pt x="3874" y="77"/>
                    </a:lnTo>
                    <a:lnTo>
                      <a:pt x="3898" y="69"/>
                    </a:lnTo>
                    <a:lnTo>
                      <a:pt x="3917" y="61"/>
                    </a:lnTo>
                    <a:lnTo>
                      <a:pt x="3889" y="0"/>
                    </a:lnTo>
                    <a:lnTo>
                      <a:pt x="3875" y="5"/>
                    </a:lnTo>
                    <a:lnTo>
                      <a:pt x="3856" y="12"/>
                    </a:lnTo>
                    <a:lnTo>
                      <a:pt x="3832" y="18"/>
                    </a:lnTo>
                    <a:lnTo>
                      <a:pt x="3802" y="25"/>
                    </a:lnTo>
                    <a:lnTo>
                      <a:pt x="3769" y="30"/>
                    </a:lnTo>
                    <a:lnTo>
                      <a:pt x="3731" y="37"/>
                    </a:lnTo>
                    <a:lnTo>
                      <a:pt x="3689" y="44"/>
                    </a:lnTo>
                    <a:lnTo>
                      <a:pt x="3645" y="50"/>
                    </a:lnTo>
                    <a:lnTo>
                      <a:pt x="3542" y="62"/>
                    </a:lnTo>
                    <a:lnTo>
                      <a:pt x="3428" y="75"/>
                    </a:lnTo>
                    <a:lnTo>
                      <a:pt x="3302" y="86"/>
                    </a:lnTo>
                    <a:lnTo>
                      <a:pt x="3165" y="98"/>
                    </a:lnTo>
                    <a:lnTo>
                      <a:pt x="3019" y="109"/>
                    </a:lnTo>
                    <a:lnTo>
                      <a:pt x="2866" y="120"/>
                    </a:lnTo>
                    <a:lnTo>
                      <a:pt x="2705" y="130"/>
                    </a:lnTo>
                    <a:lnTo>
                      <a:pt x="2540" y="140"/>
                    </a:lnTo>
                    <a:lnTo>
                      <a:pt x="2370" y="149"/>
                    </a:lnTo>
                    <a:lnTo>
                      <a:pt x="2197" y="157"/>
                    </a:lnTo>
                    <a:lnTo>
                      <a:pt x="2022" y="165"/>
                    </a:lnTo>
                    <a:lnTo>
                      <a:pt x="1848" y="173"/>
                    </a:lnTo>
                    <a:lnTo>
                      <a:pt x="1675" y="179"/>
                    </a:lnTo>
                    <a:lnTo>
                      <a:pt x="1504" y="186"/>
                    </a:lnTo>
                    <a:lnTo>
                      <a:pt x="1335" y="190"/>
                    </a:lnTo>
                    <a:lnTo>
                      <a:pt x="1172" y="195"/>
                    </a:lnTo>
                    <a:lnTo>
                      <a:pt x="1015" y="198"/>
                    </a:lnTo>
                    <a:lnTo>
                      <a:pt x="864" y="200"/>
                    </a:lnTo>
                    <a:lnTo>
                      <a:pt x="723" y="201"/>
                    </a:lnTo>
                    <a:lnTo>
                      <a:pt x="591" y="203"/>
                    </a:lnTo>
                    <a:lnTo>
                      <a:pt x="470" y="203"/>
                    </a:lnTo>
                    <a:lnTo>
                      <a:pt x="362" y="201"/>
                    </a:lnTo>
                    <a:lnTo>
                      <a:pt x="266" y="199"/>
                    </a:lnTo>
                    <a:lnTo>
                      <a:pt x="186" y="196"/>
                    </a:lnTo>
                    <a:lnTo>
                      <a:pt x="152" y="194"/>
                    </a:lnTo>
                    <a:lnTo>
                      <a:pt x="122" y="191"/>
                    </a:lnTo>
                    <a:lnTo>
                      <a:pt x="97" y="189"/>
                    </a:lnTo>
                    <a:lnTo>
                      <a:pt x="78" y="186"/>
                    </a:lnTo>
                    <a:lnTo>
                      <a:pt x="63" y="183"/>
                    </a:lnTo>
                    <a:lnTo>
                      <a:pt x="54" y="180"/>
                    </a:lnTo>
                    <a:lnTo>
                      <a:pt x="55" y="181"/>
                    </a:lnTo>
                    <a:lnTo>
                      <a:pt x="57" y="183"/>
                    </a:lnTo>
                    <a:lnTo>
                      <a:pt x="64" y="191"/>
                    </a:lnTo>
                    <a:lnTo>
                      <a:pt x="67" y="207"/>
                    </a:lnTo>
                    <a:lnTo>
                      <a:pt x="67" y="207"/>
                    </a:lnTo>
                    <a:lnTo>
                      <a:pt x="67" y="207"/>
                    </a:lnTo>
                    <a:lnTo>
                      <a:pt x="67" y="200"/>
                    </a:lnTo>
                    <a:lnTo>
                      <a:pt x="65" y="192"/>
                    </a:lnTo>
                    <a:lnTo>
                      <a:pt x="63" y="187"/>
                    </a:lnTo>
                    <a:lnTo>
                      <a:pt x="59" y="182"/>
                    </a:lnTo>
                    <a:lnTo>
                      <a:pt x="55" y="178"/>
                    </a:lnTo>
                    <a:lnTo>
                      <a:pt x="49" y="174"/>
                    </a:lnTo>
                    <a:lnTo>
                      <a:pt x="43" y="172"/>
                    </a:lnTo>
                    <a:lnTo>
                      <a:pt x="37" y="171"/>
                    </a:lnTo>
                    <a:lnTo>
                      <a:pt x="31" y="171"/>
                    </a:lnTo>
                    <a:lnTo>
                      <a:pt x="24" y="172"/>
                    </a:lnTo>
                    <a:lnTo>
                      <a:pt x="18" y="174"/>
                    </a:lnTo>
                    <a:lnTo>
                      <a:pt x="13" y="176"/>
                    </a:lnTo>
                    <a:lnTo>
                      <a:pt x="8" y="181"/>
                    </a:lnTo>
                    <a:lnTo>
                      <a:pt x="5" y="187"/>
                    </a:lnTo>
                    <a:lnTo>
                      <a:pt x="1" y="194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4425840" y="5189400"/>
                <a:ext cx="1251000" cy="73080"/>
              </a:xfrm>
              <a:custGeom>
                <a:avLst/>
                <a:gdLst/>
                <a:ahLst/>
                <a:rect l="l" t="t" r="r" b="b"/>
                <a:pathLst>
                  <a:path w="3939" h="230">
                    <a:moveTo>
                      <a:pt x="3910" y="229"/>
                    </a:moveTo>
                    <a:lnTo>
                      <a:pt x="3937" y="206"/>
                    </a:lnTo>
                    <a:lnTo>
                      <a:pt x="3939" y="193"/>
                    </a:lnTo>
                    <a:lnTo>
                      <a:pt x="3939" y="180"/>
                    </a:lnTo>
                    <a:lnTo>
                      <a:pt x="3936" y="168"/>
                    </a:lnTo>
                    <a:lnTo>
                      <a:pt x="3931" y="155"/>
                    </a:lnTo>
                    <a:lnTo>
                      <a:pt x="3924" y="146"/>
                    </a:lnTo>
                    <a:lnTo>
                      <a:pt x="3915" y="137"/>
                    </a:lnTo>
                    <a:lnTo>
                      <a:pt x="3907" y="129"/>
                    </a:lnTo>
                    <a:lnTo>
                      <a:pt x="3897" y="122"/>
                    </a:lnTo>
                    <a:lnTo>
                      <a:pt x="3886" y="116"/>
                    </a:lnTo>
                    <a:lnTo>
                      <a:pt x="3874" y="111"/>
                    </a:lnTo>
                    <a:lnTo>
                      <a:pt x="3862" y="105"/>
                    </a:lnTo>
                    <a:lnTo>
                      <a:pt x="3848" y="99"/>
                    </a:lnTo>
                    <a:lnTo>
                      <a:pt x="3819" y="90"/>
                    </a:lnTo>
                    <a:lnTo>
                      <a:pt x="3786" y="81"/>
                    </a:lnTo>
                    <a:lnTo>
                      <a:pt x="3749" y="73"/>
                    </a:lnTo>
                    <a:lnTo>
                      <a:pt x="3708" y="65"/>
                    </a:lnTo>
                    <a:lnTo>
                      <a:pt x="3664" y="58"/>
                    </a:lnTo>
                    <a:lnTo>
                      <a:pt x="3617" y="51"/>
                    </a:lnTo>
                    <a:lnTo>
                      <a:pt x="3565" y="44"/>
                    </a:lnTo>
                    <a:lnTo>
                      <a:pt x="3511" y="39"/>
                    </a:lnTo>
                    <a:lnTo>
                      <a:pt x="3454" y="33"/>
                    </a:lnTo>
                    <a:lnTo>
                      <a:pt x="3393" y="29"/>
                    </a:lnTo>
                    <a:lnTo>
                      <a:pt x="3264" y="21"/>
                    </a:lnTo>
                    <a:lnTo>
                      <a:pt x="3125" y="14"/>
                    </a:lnTo>
                    <a:lnTo>
                      <a:pt x="2977" y="8"/>
                    </a:lnTo>
                    <a:lnTo>
                      <a:pt x="2822" y="5"/>
                    </a:lnTo>
                    <a:lnTo>
                      <a:pt x="2660" y="1"/>
                    </a:lnTo>
                    <a:lnTo>
                      <a:pt x="2494" y="0"/>
                    </a:lnTo>
                    <a:lnTo>
                      <a:pt x="2323" y="0"/>
                    </a:lnTo>
                    <a:lnTo>
                      <a:pt x="2149" y="1"/>
                    </a:lnTo>
                    <a:lnTo>
                      <a:pt x="1974" y="3"/>
                    </a:lnTo>
                    <a:lnTo>
                      <a:pt x="1798" y="7"/>
                    </a:lnTo>
                    <a:lnTo>
                      <a:pt x="1624" y="11"/>
                    </a:lnTo>
                    <a:lnTo>
                      <a:pt x="1452" y="17"/>
                    </a:lnTo>
                    <a:lnTo>
                      <a:pt x="1283" y="23"/>
                    </a:lnTo>
                    <a:lnTo>
                      <a:pt x="1119" y="30"/>
                    </a:lnTo>
                    <a:lnTo>
                      <a:pt x="961" y="38"/>
                    </a:lnTo>
                    <a:lnTo>
                      <a:pt x="810" y="46"/>
                    </a:lnTo>
                    <a:lnTo>
                      <a:pt x="667" y="55"/>
                    </a:lnTo>
                    <a:lnTo>
                      <a:pt x="534" y="64"/>
                    </a:lnTo>
                    <a:lnTo>
                      <a:pt x="411" y="74"/>
                    </a:lnTo>
                    <a:lnTo>
                      <a:pt x="300" y="84"/>
                    </a:lnTo>
                    <a:lnTo>
                      <a:pt x="203" y="95"/>
                    </a:lnTo>
                    <a:lnTo>
                      <a:pt x="120" y="105"/>
                    </a:lnTo>
                    <a:lnTo>
                      <a:pt x="84" y="111"/>
                    </a:lnTo>
                    <a:lnTo>
                      <a:pt x="52" y="116"/>
                    </a:lnTo>
                    <a:lnTo>
                      <a:pt x="24" y="122"/>
                    </a:lnTo>
                    <a:lnTo>
                      <a:pt x="0" y="128"/>
                    </a:lnTo>
                    <a:lnTo>
                      <a:pt x="18" y="193"/>
                    </a:lnTo>
                    <a:lnTo>
                      <a:pt x="38" y="188"/>
                    </a:lnTo>
                    <a:lnTo>
                      <a:pt x="64" y="183"/>
                    </a:lnTo>
                    <a:lnTo>
                      <a:pt x="95" y="177"/>
                    </a:lnTo>
                    <a:lnTo>
                      <a:pt x="129" y="172"/>
                    </a:lnTo>
                    <a:lnTo>
                      <a:pt x="211" y="162"/>
                    </a:lnTo>
                    <a:lnTo>
                      <a:pt x="307" y="151"/>
                    </a:lnTo>
                    <a:lnTo>
                      <a:pt x="417" y="141"/>
                    </a:lnTo>
                    <a:lnTo>
                      <a:pt x="539" y="131"/>
                    </a:lnTo>
                    <a:lnTo>
                      <a:pt x="671" y="122"/>
                    </a:lnTo>
                    <a:lnTo>
                      <a:pt x="813" y="113"/>
                    </a:lnTo>
                    <a:lnTo>
                      <a:pt x="965" y="105"/>
                    </a:lnTo>
                    <a:lnTo>
                      <a:pt x="1122" y="97"/>
                    </a:lnTo>
                    <a:lnTo>
                      <a:pt x="1286" y="90"/>
                    </a:lnTo>
                    <a:lnTo>
                      <a:pt x="1454" y="84"/>
                    </a:lnTo>
                    <a:lnTo>
                      <a:pt x="1626" y="79"/>
                    </a:lnTo>
                    <a:lnTo>
                      <a:pt x="1801" y="74"/>
                    </a:lnTo>
                    <a:lnTo>
                      <a:pt x="1975" y="72"/>
                    </a:lnTo>
                    <a:lnTo>
                      <a:pt x="2149" y="68"/>
                    </a:lnTo>
                    <a:lnTo>
                      <a:pt x="2323" y="67"/>
                    </a:lnTo>
                    <a:lnTo>
                      <a:pt x="2494" y="67"/>
                    </a:lnTo>
                    <a:lnTo>
                      <a:pt x="2660" y="68"/>
                    </a:lnTo>
                    <a:lnTo>
                      <a:pt x="2821" y="72"/>
                    </a:lnTo>
                    <a:lnTo>
                      <a:pt x="2976" y="75"/>
                    </a:lnTo>
                    <a:lnTo>
                      <a:pt x="3123" y="81"/>
                    </a:lnTo>
                    <a:lnTo>
                      <a:pt x="3261" y="88"/>
                    </a:lnTo>
                    <a:lnTo>
                      <a:pt x="3389" y="96"/>
                    </a:lnTo>
                    <a:lnTo>
                      <a:pt x="3448" y="100"/>
                    </a:lnTo>
                    <a:lnTo>
                      <a:pt x="3504" y="106"/>
                    </a:lnTo>
                    <a:lnTo>
                      <a:pt x="3557" y="112"/>
                    </a:lnTo>
                    <a:lnTo>
                      <a:pt x="3607" y="118"/>
                    </a:lnTo>
                    <a:lnTo>
                      <a:pt x="3654" y="124"/>
                    </a:lnTo>
                    <a:lnTo>
                      <a:pt x="3696" y="131"/>
                    </a:lnTo>
                    <a:lnTo>
                      <a:pt x="3735" y="139"/>
                    </a:lnTo>
                    <a:lnTo>
                      <a:pt x="3770" y="146"/>
                    </a:lnTo>
                    <a:lnTo>
                      <a:pt x="3800" y="155"/>
                    </a:lnTo>
                    <a:lnTo>
                      <a:pt x="3826" y="163"/>
                    </a:lnTo>
                    <a:lnTo>
                      <a:pt x="3837" y="168"/>
                    </a:lnTo>
                    <a:lnTo>
                      <a:pt x="3846" y="171"/>
                    </a:lnTo>
                    <a:lnTo>
                      <a:pt x="3854" y="176"/>
                    </a:lnTo>
                    <a:lnTo>
                      <a:pt x="3860" y="179"/>
                    </a:lnTo>
                    <a:lnTo>
                      <a:pt x="3866" y="183"/>
                    </a:lnTo>
                    <a:lnTo>
                      <a:pt x="3870" y="186"/>
                    </a:lnTo>
                    <a:lnTo>
                      <a:pt x="3872" y="188"/>
                    </a:lnTo>
                    <a:lnTo>
                      <a:pt x="3873" y="189"/>
                    </a:lnTo>
                    <a:lnTo>
                      <a:pt x="3873" y="189"/>
                    </a:lnTo>
                    <a:lnTo>
                      <a:pt x="3872" y="188"/>
                    </a:lnTo>
                    <a:lnTo>
                      <a:pt x="3872" y="187"/>
                    </a:lnTo>
                    <a:lnTo>
                      <a:pt x="3872" y="187"/>
                    </a:lnTo>
                    <a:lnTo>
                      <a:pt x="3900" y="163"/>
                    </a:lnTo>
                    <a:lnTo>
                      <a:pt x="3872" y="187"/>
                    </a:lnTo>
                    <a:lnTo>
                      <a:pt x="3871" y="195"/>
                    </a:lnTo>
                    <a:lnTo>
                      <a:pt x="3871" y="202"/>
                    </a:lnTo>
                    <a:lnTo>
                      <a:pt x="3873" y="209"/>
                    </a:lnTo>
                    <a:lnTo>
                      <a:pt x="3875" y="214"/>
                    </a:lnTo>
                    <a:lnTo>
                      <a:pt x="3879" y="219"/>
                    </a:lnTo>
                    <a:lnTo>
                      <a:pt x="3883" y="224"/>
                    </a:lnTo>
                    <a:lnTo>
                      <a:pt x="3889" y="226"/>
                    </a:lnTo>
                    <a:lnTo>
                      <a:pt x="3895" y="228"/>
                    </a:lnTo>
                    <a:lnTo>
                      <a:pt x="3902" y="230"/>
                    </a:lnTo>
                    <a:lnTo>
                      <a:pt x="3907" y="230"/>
                    </a:lnTo>
                    <a:lnTo>
                      <a:pt x="3914" y="229"/>
                    </a:lnTo>
                    <a:lnTo>
                      <a:pt x="3920" y="227"/>
                    </a:lnTo>
                    <a:lnTo>
                      <a:pt x="3925" y="224"/>
                    </a:lnTo>
                    <a:lnTo>
                      <a:pt x="3930" y="219"/>
                    </a:lnTo>
                    <a:lnTo>
                      <a:pt x="3935" y="213"/>
                    </a:lnTo>
                    <a:lnTo>
                      <a:pt x="3937" y="206"/>
                    </a:lnTo>
                    <a:lnTo>
                      <a:pt x="3910" y="2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4417920" y="5229360"/>
                <a:ext cx="1249560" cy="37800"/>
              </a:xfrm>
              <a:custGeom>
                <a:avLst/>
                <a:gdLst/>
                <a:ahLst/>
                <a:rect l="l" t="t" r="r" b="b"/>
                <a:pathLst>
                  <a:path w="3935" h="121">
                    <a:moveTo>
                      <a:pt x="25" y="1"/>
                    </a:moveTo>
                    <a:lnTo>
                      <a:pt x="33" y="67"/>
                    </a:lnTo>
                    <a:lnTo>
                      <a:pt x="186" y="67"/>
                    </a:lnTo>
                    <a:lnTo>
                      <a:pt x="382" y="68"/>
                    </a:lnTo>
                    <a:lnTo>
                      <a:pt x="615" y="73"/>
                    </a:lnTo>
                    <a:lnTo>
                      <a:pt x="878" y="77"/>
                    </a:lnTo>
                    <a:lnTo>
                      <a:pt x="1468" y="90"/>
                    </a:lnTo>
                    <a:lnTo>
                      <a:pt x="2097" y="103"/>
                    </a:lnTo>
                    <a:lnTo>
                      <a:pt x="2409" y="109"/>
                    </a:lnTo>
                    <a:lnTo>
                      <a:pt x="2711" y="114"/>
                    </a:lnTo>
                    <a:lnTo>
                      <a:pt x="2997" y="118"/>
                    </a:lnTo>
                    <a:lnTo>
                      <a:pt x="3258" y="119"/>
                    </a:lnTo>
                    <a:lnTo>
                      <a:pt x="3378" y="121"/>
                    </a:lnTo>
                    <a:lnTo>
                      <a:pt x="3489" y="119"/>
                    </a:lnTo>
                    <a:lnTo>
                      <a:pt x="3591" y="118"/>
                    </a:lnTo>
                    <a:lnTo>
                      <a:pt x="3683" y="117"/>
                    </a:lnTo>
                    <a:lnTo>
                      <a:pt x="3764" y="115"/>
                    </a:lnTo>
                    <a:lnTo>
                      <a:pt x="3833" y="111"/>
                    </a:lnTo>
                    <a:lnTo>
                      <a:pt x="3890" y="108"/>
                    </a:lnTo>
                    <a:lnTo>
                      <a:pt x="3935" y="102"/>
                    </a:lnTo>
                    <a:lnTo>
                      <a:pt x="3925" y="36"/>
                    </a:lnTo>
                    <a:lnTo>
                      <a:pt x="3884" y="41"/>
                    </a:lnTo>
                    <a:lnTo>
                      <a:pt x="3830" y="44"/>
                    </a:lnTo>
                    <a:lnTo>
                      <a:pt x="3761" y="48"/>
                    </a:lnTo>
                    <a:lnTo>
                      <a:pt x="3681" y="50"/>
                    </a:lnTo>
                    <a:lnTo>
                      <a:pt x="3590" y="51"/>
                    </a:lnTo>
                    <a:lnTo>
                      <a:pt x="3489" y="52"/>
                    </a:lnTo>
                    <a:lnTo>
                      <a:pt x="3378" y="52"/>
                    </a:lnTo>
                    <a:lnTo>
                      <a:pt x="3258" y="52"/>
                    </a:lnTo>
                    <a:lnTo>
                      <a:pt x="2997" y="51"/>
                    </a:lnTo>
                    <a:lnTo>
                      <a:pt x="2712" y="46"/>
                    </a:lnTo>
                    <a:lnTo>
                      <a:pt x="2410" y="42"/>
                    </a:lnTo>
                    <a:lnTo>
                      <a:pt x="2098" y="36"/>
                    </a:lnTo>
                    <a:lnTo>
                      <a:pt x="1469" y="22"/>
                    </a:lnTo>
                    <a:lnTo>
                      <a:pt x="879" y="10"/>
                    </a:lnTo>
                    <a:lnTo>
                      <a:pt x="616" y="5"/>
                    </a:lnTo>
                    <a:lnTo>
                      <a:pt x="382" y="1"/>
                    </a:lnTo>
                    <a:lnTo>
                      <a:pt x="186" y="0"/>
                    </a:lnTo>
                    <a:lnTo>
                      <a:pt x="33" y="0"/>
                    </a:lnTo>
                    <a:lnTo>
                      <a:pt x="43" y="66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9" y="3"/>
                    </a:lnTo>
                    <a:lnTo>
                      <a:pt x="13" y="5"/>
                    </a:lnTo>
                    <a:lnTo>
                      <a:pt x="8" y="10"/>
                    </a:lnTo>
                    <a:lnTo>
                      <a:pt x="5" y="16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3" y="45"/>
                    </a:lnTo>
                    <a:lnTo>
                      <a:pt x="5" y="51"/>
                    </a:lnTo>
                    <a:lnTo>
                      <a:pt x="8" y="57"/>
                    </a:lnTo>
                    <a:lnTo>
                      <a:pt x="13" y="61"/>
                    </a:lnTo>
                    <a:lnTo>
                      <a:pt x="19" y="64"/>
                    </a:lnTo>
                    <a:lnTo>
                      <a:pt x="25" y="66"/>
                    </a:lnTo>
                    <a:lnTo>
                      <a:pt x="33" y="67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4500720" y="5438880"/>
                <a:ext cx="1117440" cy="60120"/>
              </a:xfrm>
              <a:custGeom>
                <a:avLst/>
                <a:gdLst/>
                <a:ahLst/>
                <a:rect l="l" t="t" r="r" b="b"/>
                <a:pathLst>
                  <a:path w="3518" h="192">
                    <a:moveTo>
                      <a:pt x="3493" y="135"/>
                    </a:moveTo>
                    <a:lnTo>
                      <a:pt x="3493" y="70"/>
                    </a:lnTo>
                    <a:lnTo>
                      <a:pt x="3472" y="64"/>
                    </a:lnTo>
                    <a:lnTo>
                      <a:pt x="3448" y="59"/>
                    </a:lnTo>
                    <a:lnTo>
                      <a:pt x="3420" y="55"/>
                    </a:lnTo>
                    <a:lnTo>
                      <a:pt x="3390" y="50"/>
                    </a:lnTo>
                    <a:lnTo>
                      <a:pt x="3321" y="42"/>
                    </a:lnTo>
                    <a:lnTo>
                      <a:pt x="3241" y="34"/>
                    </a:lnTo>
                    <a:lnTo>
                      <a:pt x="3153" y="28"/>
                    </a:lnTo>
                    <a:lnTo>
                      <a:pt x="3054" y="22"/>
                    </a:lnTo>
                    <a:lnTo>
                      <a:pt x="2948" y="17"/>
                    </a:lnTo>
                    <a:lnTo>
                      <a:pt x="2836" y="12"/>
                    </a:lnTo>
                    <a:lnTo>
                      <a:pt x="2715" y="8"/>
                    </a:lnTo>
                    <a:lnTo>
                      <a:pt x="2589" y="6"/>
                    </a:lnTo>
                    <a:lnTo>
                      <a:pt x="2458" y="2"/>
                    </a:lnTo>
                    <a:lnTo>
                      <a:pt x="2323" y="1"/>
                    </a:lnTo>
                    <a:lnTo>
                      <a:pt x="2185" y="0"/>
                    </a:lnTo>
                    <a:lnTo>
                      <a:pt x="2043" y="0"/>
                    </a:lnTo>
                    <a:lnTo>
                      <a:pt x="1901" y="0"/>
                    </a:lnTo>
                    <a:lnTo>
                      <a:pt x="1757" y="1"/>
                    </a:lnTo>
                    <a:lnTo>
                      <a:pt x="1614" y="3"/>
                    </a:lnTo>
                    <a:lnTo>
                      <a:pt x="1470" y="6"/>
                    </a:lnTo>
                    <a:lnTo>
                      <a:pt x="1329" y="9"/>
                    </a:lnTo>
                    <a:lnTo>
                      <a:pt x="1191" y="14"/>
                    </a:lnTo>
                    <a:lnTo>
                      <a:pt x="1054" y="18"/>
                    </a:lnTo>
                    <a:lnTo>
                      <a:pt x="923" y="25"/>
                    </a:lnTo>
                    <a:lnTo>
                      <a:pt x="795" y="31"/>
                    </a:lnTo>
                    <a:lnTo>
                      <a:pt x="674" y="39"/>
                    </a:lnTo>
                    <a:lnTo>
                      <a:pt x="559" y="47"/>
                    </a:lnTo>
                    <a:lnTo>
                      <a:pt x="452" y="56"/>
                    </a:lnTo>
                    <a:lnTo>
                      <a:pt x="352" y="65"/>
                    </a:lnTo>
                    <a:lnTo>
                      <a:pt x="261" y="76"/>
                    </a:lnTo>
                    <a:lnTo>
                      <a:pt x="219" y="82"/>
                    </a:lnTo>
                    <a:lnTo>
                      <a:pt x="181" y="88"/>
                    </a:lnTo>
                    <a:lnTo>
                      <a:pt x="143" y="93"/>
                    </a:lnTo>
                    <a:lnTo>
                      <a:pt x="109" y="100"/>
                    </a:lnTo>
                    <a:lnTo>
                      <a:pt x="78" y="106"/>
                    </a:lnTo>
                    <a:lnTo>
                      <a:pt x="49" y="113"/>
                    </a:lnTo>
                    <a:lnTo>
                      <a:pt x="23" y="121"/>
                    </a:lnTo>
                    <a:lnTo>
                      <a:pt x="0" y="128"/>
                    </a:lnTo>
                    <a:lnTo>
                      <a:pt x="23" y="192"/>
                    </a:lnTo>
                    <a:lnTo>
                      <a:pt x="43" y="185"/>
                    </a:lnTo>
                    <a:lnTo>
                      <a:pt x="65" y="179"/>
                    </a:lnTo>
                    <a:lnTo>
                      <a:pt x="93" y="172"/>
                    </a:lnTo>
                    <a:lnTo>
                      <a:pt x="122" y="166"/>
                    </a:lnTo>
                    <a:lnTo>
                      <a:pt x="154" y="160"/>
                    </a:lnTo>
                    <a:lnTo>
                      <a:pt x="191" y="154"/>
                    </a:lnTo>
                    <a:lnTo>
                      <a:pt x="228" y="148"/>
                    </a:lnTo>
                    <a:lnTo>
                      <a:pt x="269" y="143"/>
                    </a:lnTo>
                    <a:lnTo>
                      <a:pt x="360" y="132"/>
                    </a:lnTo>
                    <a:lnTo>
                      <a:pt x="458" y="123"/>
                    </a:lnTo>
                    <a:lnTo>
                      <a:pt x="565" y="114"/>
                    </a:lnTo>
                    <a:lnTo>
                      <a:pt x="679" y="106"/>
                    </a:lnTo>
                    <a:lnTo>
                      <a:pt x="800" y="98"/>
                    </a:lnTo>
                    <a:lnTo>
                      <a:pt x="926" y="92"/>
                    </a:lnTo>
                    <a:lnTo>
                      <a:pt x="1057" y="85"/>
                    </a:lnTo>
                    <a:lnTo>
                      <a:pt x="1192" y="81"/>
                    </a:lnTo>
                    <a:lnTo>
                      <a:pt x="1331" y="76"/>
                    </a:lnTo>
                    <a:lnTo>
                      <a:pt x="1472" y="73"/>
                    </a:lnTo>
                    <a:lnTo>
                      <a:pt x="1615" y="71"/>
                    </a:lnTo>
                    <a:lnTo>
                      <a:pt x="1757" y="68"/>
                    </a:lnTo>
                    <a:lnTo>
                      <a:pt x="1901" y="67"/>
                    </a:lnTo>
                    <a:lnTo>
                      <a:pt x="2043" y="67"/>
                    </a:lnTo>
                    <a:lnTo>
                      <a:pt x="2184" y="67"/>
                    </a:lnTo>
                    <a:lnTo>
                      <a:pt x="2323" y="68"/>
                    </a:lnTo>
                    <a:lnTo>
                      <a:pt x="2457" y="70"/>
                    </a:lnTo>
                    <a:lnTo>
                      <a:pt x="2587" y="73"/>
                    </a:lnTo>
                    <a:lnTo>
                      <a:pt x="2714" y="75"/>
                    </a:lnTo>
                    <a:lnTo>
                      <a:pt x="2833" y="80"/>
                    </a:lnTo>
                    <a:lnTo>
                      <a:pt x="2946" y="84"/>
                    </a:lnTo>
                    <a:lnTo>
                      <a:pt x="3051" y="89"/>
                    </a:lnTo>
                    <a:lnTo>
                      <a:pt x="3148" y="96"/>
                    </a:lnTo>
                    <a:lnTo>
                      <a:pt x="3237" y="103"/>
                    </a:lnTo>
                    <a:lnTo>
                      <a:pt x="3314" y="109"/>
                    </a:lnTo>
                    <a:lnTo>
                      <a:pt x="3382" y="117"/>
                    </a:lnTo>
                    <a:lnTo>
                      <a:pt x="3410" y="121"/>
                    </a:lnTo>
                    <a:lnTo>
                      <a:pt x="3435" y="125"/>
                    </a:lnTo>
                    <a:lnTo>
                      <a:pt x="3458" y="130"/>
                    </a:lnTo>
                    <a:lnTo>
                      <a:pt x="3477" y="135"/>
                    </a:lnTo>
                    <a:lnTo>
                      <a:pt x="3477" y="70"/>
                    </a:lnTo>
                    <a:lnTo>
                      <a:pt x="3477" y="135"/>
                    </a:lnTo>
                    <a:lnTo>
                      <a:pt x="3484" y="136"/>
                    </a:lnTo>
                    <a:lnTo>
                      <a:pt x="3492" y="136"/>
                    </a:lnTo>
                    <a:lnTo>
                      <a:pt x="3498" y="133"/>
                    </a:lnTo>
                    <a:lnTo>
                      <a:pt x="3504" y="131"/>
                    </a:lnTo>
                    <a:lnTo>
                      <a:pt x="3509" y="127"/>
                    </a:lnTo>
                    <a:lnTo>
                      <a:pt x="3513" y="122"/>
                    </a:lnTo>
                    <a:lnTo>
                      <a:pt x="3516" y="116"/>
                    </a:lnTo>
                    <a:lnTo>
                      <a:pt x="3518" y="111"/>
                    </a:lnTo>
                    <a:lnTo>
                      <a:pt x="3518" y="104"/>
                    </a:lnTo>
                    <a:lnTo>
                      <a:pt x="3518" y="98"/>
                    </a:lnTo>
                    <a:lnTo>
                      <a:pt x="3517" y="91"/>
                    </a:lnTo>
                    <a:lnTo>
                      <a:pt x="3515" y="85"/>
                    </a:lnTo>
                    <a:lnTo>
                      <a:pt x="3512" y="81"/>
                    </a:lnTo>
                    <a:lnTo>
                      <a:pt x="3507" y="76"/>
                    </a:lnTo>
                    <a:lnTo>
                      <a:pt x="3501" y="72"/>
                    </a:lnTo>
                    <a:lnTo>
                      <a:pt x="3493" y="70"/>
                    </a:lnTo>
                    <a:lnTo>
                      <a:pt x="3493" y="1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4494240" y="5460840"/>
                <a:ext cx="1116000" cy="61920"/>
              </a:xfrm>
              <a:custGeom>
                <a:avLst/>
                <a:gdLst/>
                <a:ahLst/>
                <a:rect l="l" t="t" r="r" b="b"/>
                <a:pathLst>
                  <a:path w="3515" h="199">
                    <a:moveTo>
                      <a:pt x="22" y="58"/>
                    </a:moveTo>
                    <a:lnTo>
                      <a:pt x="18" y="120"/>
                    </a:lnTo>
                    <a:lnTo>
                      <a:pt x="37" y="128"/>
                    </a:lnTo>
                    <a:lnTo>
                      <a:pt x="60" y="136"/>
                    </a:lnTo>
                    <a:lnTo>
                      <a:pt x="85" y="143"/>
                    </a:lnTo>
                    <a:lnTo>
                      <a:pt x="112" y="149"/>
                    </a:lnTo>
                    <a:lnTo>
                      <a:pt x="144" y="155"/>
                    </a:lnTo>
                    <a:lnTo>
                      <a:pt x="177" y="160"/>
                    </a:lnTo>
                    <a:lnTo>
                      <a:pt x="214" y="165"/>
                    </a:lnTo>
                    <a:lnTo>
                      <a:pt x="254" y="170"/>
                    </a:lnTo>
                    <a:lnTo>
                      <a:pt x="295" y="174"/>
                    </a:lnTo>
                    <a:lnTo>
                      <a:pt x="339" y="177"/>
                    </a:lnTo>
                    <a:lnTo>
                      <a:pt x="387" y="181"/>
                    </a:lnTo>
                    <a:lnTo>
                      <a:pt x="436" y="184"/>
                    </a:lnTo>
                    <a:lnTo>
                      <a:pt x="541" y="190"/>
                    </a:lnTo>
                    <a:lnTo>
                      <a:pt x="655" y="193"/>
                    </a:lnTo>
                    <a:lnTo>
                      <a:pt x="776" y="197"/>
                    </a:lnTo>
                    <a:lnTo>
                      <a:pt x="903" y="198"/>
                    </a:lnTo>
                    <a:lnTo>
                      <a:pt x="1036" y="199"/>
                    </a:lnTo>
                    <a:lnTo>
                      <a:pt x="1173" y="198"/>
                    </a:lnTo>
                    <a:lnTo>
                      <a:pt x="1314" y="197"/>
                    </a:lnTo>
                    <a:lnTo>
                      <a:pt x="1458" y="195"/>
                    </a:lnTo>
                    <a:lnTo>
                      <a:pt x="1604" y="191"/>
                    </a:lnTo>
                    <a:lnTo>
                      <a:pt x="1751" y="188"/>
                    </a:lnTo>
                    <a:lnTo>
                      <a:pt x="1898" y="183"/>
                    </a:lnTo>
                    <a:lnTo>
                      <a:pt x="2044" y="177"/>
                    </a:lnTo>
                    <a:lnTo>
                      <a:pt x="2188" y="172"/>
                    </a:lnTo>
                    <a:lnTo>
                      <a:pt x="2331" y="166"/>
                    </a:lnTo>
                    <a:lnTo>
                      <a:pt x="2469" y="159"/>
                    </a:lnTo>
                    <a:lnTo>
                      <a:pt x="2603" y="151"/>
                    </a:lnTo>
                    <a:lnTo>
                      <a:pt x="2733" y="143"/>
                    </a:lnTo>
                    <a:lnTo>
                      <a:pt x="2855" y="135"/>
                    </a:lnTo>
                    <a:lnTo>
                      <a:pt x="2972" y="127"/>
                    </a:lnTo>
                    <a:lnTo>
                      <a:pt x="3080" y="118"/>
                    </a:lnTo>
                    <a:lnTo>
                      <a:pt x="3179" y="109"/>
                    </a:lnTo>
                    <a:lnTo>
                      <a:pt x="3269" y="101"/>
                    </a:lnTo>
                    <a:lnTo>
                      <a:pt x="3348" y="92"/>
                    </a:lnTo>
                    <a:lnTo>
                      <a:pt x="3416" y="83"/>
                    </a:lnTo>
                    <a:lnTo>
                      <a:pt x="3446" y="78"/>
                    </a:lnTo>
                    <a:lnTo>
                      <a:pt x="3472" y="74"/>
                    </a:lnTo>
                    <a:lnTo>
                      <a:pt x="3495" y="69"/>
                    </a:lnTo>
                    <a:lnTo>
                      <a:pt x="3515" y="65"/>
                    </a:lnTo>
                    <a:lnTo>
                      <a:pt x="3499" y="0"/>
                    </a:lnTo>
                    <a:lnTo>
                      <a:pt x="3481" y="3"/>
                    </a:lnTo>
                    <a:lnTo>
                      <a:pt x="3460" y="7"/>
                    </a:lnTo>
                    <a:lnTo>
                      <a:pt x="3434" y="12"/>
                    </a:lnTo>
                    <a:lnTo>
                      <a:pt x="3407" y="15"/>
                    </a:lnTo>
                    <a:lnTo>
                      <a:pt x="3340" y="25"/>
                    </a:lnTo>
                    <a:lnTo>
                      <a:pt x="3262" y="34"/>
                    </a:lnTo>
                    <a:lnTo>
                      <a:pt x="3173" y="43"/>
                    </a:lnTo>
                    <a:lnTo>
                      <a:pt x="3074" y="51"/>
                    </a:lnTo>
                    <a:lnTo>
                      <a:pt x="2967" y="60"/>
                    </a:lnTo>
                    <a:lnTo>
                      <a:pt x="2852" y="68"/>
                    </a:lnTo>
                    <a:lnTo>
                      <a:pt x="2729" y="76"/>
                    </a:lnTo>
                    <a:lnTo>
                      <a:pt x="2600" y="84"/>
                    </a:lnTo>
                    <a:lnTo>
                      <a:pt x="2465" y="92"/>
                    </a:lnTo>
                    <a:lnTo>
                      <a:pt x="2328" y="99"/>
                    </a:lnTo>
                    <a:lnTo>
                      <a:pt x="2186" y="104"/>
                    </a:lnTo>
                    <a:lnTo>
                      <a:pt x="2041" y="110"/>
                    </a:lnTo>
                    <a:lnTo>
                      <a:pt x="1895" y="116"/>
                    </a:lnTo>
                    <a:lnTo>
                      <a:pt x="1748" y="120"/>
                    </a:lnTo>
                    <a:lnTo>
                      <a:pt x="1602" y="124"/>
                    </a:lnTo>
                    <a:lnTo>
                      <a:pt x="1457" y="127"/>
                    </a:lnTo>
                    <a:lnTo>
                      <a:pt x="1313" y="130"/>
                    </a:lnTo>
                    <a:lnTo>
                      <a:pt x="1173" y="131"/>
                    </a:lnTo>
                    <a:lnTo>
                      <a:pt x="1036" y="132"/>
                    </a:lnTo>
                    <a:lnTo>
                      <a:pt x="904" y="131"/>
                    </a:lnTo>
                    <a:lnTo>
                      <a:pt x="777" y="130"/>
                    </a:lnTo>
                    <a:lnTo>
                      <a:pt x="657" y="126"/>
                    </a:lnTo>
                    <a:lnTo>
                      <a:pt x="545" y="123"/>
                    </a:lnTo>
                    <a:lnTo>
                      <a:pt x="440" y="117"/>
                    </a:lnTo>
                    <a:lnTo>
                      <a:pt x="392" y="114"/>
                    </a:lnTo>
                    <a:lnTo>
                      <a:pt x="345" y="110"/>
                    </a:lnTo>
                    <a:lnTo>
                      <a:pt x="302" y="107"/>
                    </a:lnTo>
                    <a:lnTo>
                      <a:pt x="261" y="102"/>
                    </a:lnTo>
                    <a:lnTo>
                      <a:pt x="222" y="99"/>
                    </a:lnTo>
                    <a:lnTo>
                      <a:pt x="188" y="93"/>
                    </a:lnTo>
                    <a:lnTo>
                      <a:pt x="155" y="89"/>
                    </a:lnTo>
                    <a:lnTo>
                      <a:pt x="126" y="83"/>
                    </a:lnTo>
                    <a:lnTo>
                      <a:pt x="101" y="77"/>
                    </a:lnTo>
                    <a:lnTo>
                      <a:pt x="79" y="71"/>
                    </a:lnTo>
                    <a:lnTo>
                      <a:pt x="62" y="66"/>
                    </a:lnTo>
                    <a:lnTo>
                      <a:pt x="49" y="60"/>
                    </a:lnTo>
                    <a:lnTo>
                      <a:pt x="45" y="122"/>
                    </a:lnTo>
                    <a:lnTo>
                      <a:pt x="49" y="60"/>
                    </a:lnTo>
                    <a:lnTo>
                      <a:pt x="41" y="57"/>
                    </a:lnTo>
                    <a:lnTo>
                      <a:pt x="34" y="55"/>
                    </a:lnTo>
                    <a:lnTo>
                      <a:pt x="27" y="57"/>
                    </a:lnTo>
                    <a:lnTo>
                      <a:pt x="21" y="58"/>
                    </a:lnTo>
                    <a:lnTo>
                      <a:pt x="16" y="61"/>
                    </a:lnTo>
                    <a:lnTo>
                      <a:pt x="11" y="65"/>
                    </a:lnTo>
                    <a:lnTo>
                      <a:pt x="6" y="69"/>
                    </a:lnTo>
                    <a:lnTo>
                      <a:pt x="3" y="75"/>
                    </a:lnTo>
                    <a:lnTo>
                      <a:pt x="1" y="81"/>
                    </a:lnTo>
                    <a:lnTo>
                      <a:pt x="0" y="86"/>
                    </a:lnTo>
                    <a:lnTo>
                      <a:pt x="0" y="93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6" y="110"/>
                    </a:lnTo>
                    <a:lnTo>
                      <a:pt x="11" y="116"/>
                    </a:lnTo>
                    <a:lnTo>
                      <a:pt x="18" y="120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4425840" y="5286240"/>
                <a:ext cx="1278000" cy="42840"/>
              </a:xfrm>
              <a:custGeom>
                <a:avLst/>
                <a:gdLst/>
                <a:ahLst/>
                <a:rect l="l" t="t" r="r" b="b"/>
                <a:pathLst>
                  <a:path w="4025" h="134">
                    <a:moveTo>
                      <a:pt x="3995" y="134"/>
                    </a:moveTo>
                    <a:lnTo>
                      <a:pt x="4003" y="69"/>
                    </a:lnTo>
                    <a:lnTo>
                      <a:pt x="3988" y="64"/>
                    </a:lnTo>
                    <a:lnTo>
                      <a:pt x="3971" y="59"/>
                    </a:lnTo>
                    <a:lnTo>
                      <a:pt x="3950" y="56"/>
                    </a:lnTo>
                    <a:lnTo>
                      <a:pt x="3926" y="54"/>
                    </a:lnTo>
                    <a:lnTo>
                      <a:pt x="3868" y="47"/>
                    </a:lnTo>
                    <a:lnTo>
                      <a:pt x="3795" y="41"/>
                    </a:lnTo>
                    <a:lnTo>
                      <a:pt x="3710" y="36"/>
                    </a:lnTo>
                    <a:lnTo>
                      <a:pt x="3613" y="31"/>
                    </a:lnTo>
                    <a:lnTo>
                      <a:pt x="3504" y="26"/>
                    </a:lnTo>
                    <a:lnTo>
                      <a:pt x="3384" y="22"/>
                    </a:lnTo>
                    <a:lnTo>
                      <a:pt x="3118" y="14"/>
                    </a:lnTo>
                    <a:lnTo>
                      <a:pt x="2823" y="8"/>
                    </a:lnTo>
                    <a:lnTo>
                      <a:pt x="2507" y="4"/>
                    </a:lnTo>
                    <a:lnTo>
                      <a:pt x="2177" y="0"/>
                    </a:lnTo>
                    <a:lnTo>
                      <a:pt x="1841" y="0"/>
                    </a:lnTo>
                    <a:lnTo>
                      <a:pt x="1507" y="1"/>
                    </a:lnTo>
                    <a:lnTo>
                      <a:pt x="1344" y="2"/>
                    </a:lnTo>
                    <a:lnTo>
                      <a:pt x="1185" y="5"/>
                    </a:lnTo>
                    <a:lnTo>
                      <a:pt x="1030" y="7"/>
                    </a:lnTo>
                    <a:lnTo>
                      <a:pt x="880" y="10"/>
                    </a:lnTo>
                    <a:lnTo>
                      <a:pt x="737" y="14"/>
                    </a:lnTo>
                    <a:lnTo>
                      <a:pt x="601" y="18"/>
                    </a:lnTo>
                    <a:lnTo>
                      <a:pt x="475" y="23"/>
                    </a:lnTo>
                    <a:lnTo>
                      <a:pt x="357" y="29"/>
                    </a:lnTo>
                    <a:lnTo>
                      <a:pt x="250" y="34"/>
                    </a:lnTo>
                    <a:lnTo>
                      <a:pt x="154" y="41"/>
                    </a:lnTo>
                    <a:lnTo>
                      <a:pt x="71" y="48"/>
                    </a:lnTo>
                    <a:lnTo>
                      <a:pt x="0" y="57"/>
                    </a:lnTo>
                    <a:lnTo>
                      <a:pt x="9" y="123"/>
                    </a:lnTo>
                    <a:lnTo>
                      <a:pt x="77" y="115"/>
                    </a:lnTo>
                    <a:lnTo>
                      <a:pt x="159" y="109"/>
                    </a:lnTo>
                    <a:lnTo>
                      <a:pt x="253" y="102"/>
                    </a:lnTo>
                    <a:lnTo>
                      <a:pt x="361" y="96"/>
                    </a:lnTo>
                    <a:lnTo>
                      <a:pt x="477" y="90"/>
                    </a:lnTo>
                    <a:lnTo>
                      <a:pt x="603" y="86"/>
                    </a:lnTo>
                    <a:lnTo>
                      <a:pt x="739" y="81"/>
                    </a:lnTo>
                    <a:lnTo>
                      <a:pt x="882" y="78"/>
                    </a:lnTo>
                    <a:lnTo>
                      <a:pt x="1031" y="74"/>
                    </a:lnTo>
                    <a:lnTo>
                      <a:pt x="1186" y="72"/>
                    </a:lnTo>
                    <a:lnTo>
                      <a:pt x="1344" y="70"/>
                    </a:lnTo>
                    <a:lnTo>
                      <a:pt x="1509" y="69"/>
                    </a:lnTo>
                    <a:lnTo>
                      <a:pt x="1841" y="67"/>
                    </a:lnTo>
                    <a:lnTo>
                      <a:pt x="2177" y="69"/>
                    </a:lnTo>
                    <a:lnTo>
                      <a:pt x="2506" y="71"/>
                    </a:lnTo>
                    <a:lnTo>
                      <a:pt x="2822" y="75"/>
                    </a:lnTo>
                    <a:lnTo>
                      <a:pt x="3117" y="81"/>
                    </a:lnTo>
                    <a:lnTo>
                      <a:pt x="3382" y="89"/>
                    </a:lnTo>
                    <a:lnTo>
                      <a:pt x="3501" y="94"/>
                    </a:lnTo>
                    <a:lnTo>
                      <a:pt x="3610" y="98"/>
                    </a:lnTo>
                    <a:lnTo>
                      <a:pt x="3706" y="103"/>
                    </a:lnTo>
                    <a:lnTo>
                      <a:pt x="3791" y="109"/>
                    </a:lnTo>
                    <a:lnTo>
                      <a:pt x="3861" y="114"/>
                    </a:lnTo>
                    <a:lnTo>
                      <a:pt x="3918" y="120"/>
                    </a:lnTo>
                    <a:lnTo>
                      <a:pt x="3940" y="123"/>
                    </a:lnTo>
                    <a:lnTo>
                      <a:pt x="3958" y="127"/>
                    </a:lnTo>
                    <a:lnTo>
                      <a:pt x="3971" y="129"/>
                    </a:lnTo>
                    <a:lnTo>
                      <a:pt x="3978" y="131"/>
                    </a:lnTo>
                    <a:lnTo>
                      <a:pt x="3985" y="66"/>
                    </a:lnTo>
                    <a:lnTo>
                      <a:pt x="3978" y="131"/>
                    </a:lnTo>
                    <a:lnTo>
                      <a:pt x="3986" y="134"/>
                    </a:lnTo>
                    <a:lnTo>
                      <a:pt x="3993" y="134"/>
                    </a:lnTo>
                    <a:lnTo>
                      <a:pt x="3999" y="134"/>
                    </a:lnTo>
                    <a:lnTo>
                      <a:pt x="4005" y="130"/>
                    </a:lnTo>
                    <a:lnTo>
                      <a:pt x="4011" y="128"/>
                    </a:lnTo>
                    <a:lnTo>
                      <a:pt x="4015" y="123"/>
                    </a:lnTo>
                    <a:lnTo>
                      <a:pt x="4019" y="118"/>
                    </a:lnTo>
                    <a:lnTo>
                      <a:pt x="4021" y="112"/>
                    </a:lnTo>
                    <a:lnTo>
                      <a:pt x="4023" y="106"/>
                    </a:lnTo>
                    <a:lnTo>
                      <a:pt x="4025" y="101"/>
                    </a:lnTo>
                    <a:lnTo>
                      <a:pt x="4023" y="94"/>
                    </a:lnTo>
                    <a:lnTo>
                      <a:pt x="4022" y="88"/>
                    </a:lnTo>
                    <a:lnTo>
                      <a:pt x="4019" y="82"/>
                    </a:lnTo>
                    <a:lnTo>
                      <a:pt x="4015" y="77"/>
                    </a:lnTo>
                    <a:lnTo>
                      <a:pt x="4010" y="72"/>
                    </a:lnTo>
                    <a:lnTo>
                      <a:pt x="4003" y="69"/>
                    </a:lnTo>
                    <a:lnTo>
                      <a:pt x="3995" y="1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4416480" y="5305320"/>
                <a:ext cx="1278000" cy="54000"/>
              </a:xfrm>
              <a:custGeom>
                <a:avLst/>
                <a:gdLst/>
                <a:ahLst/>
                <a:rect l="l" t="t" r="r" b="b"/>
                <a:pathLst>
                  <a:path w="4024" h="171">
                    <a:moveTo>
                      <a:pt x="29" y="1"/>
                    </a:moveTo>
                    <a:lnTo>
                      <a:pt x="8" y="56"/>
                    </a:lnTo>
                    <a:lnTo>
                      <a:pt x="16" y="64"/>
                    </a:lnTo>
                    <a:lnTo>
                      <a:pt x="25" y="71"/>
                    </a:lnTo>
                    <a:lnTo>
                      <a:pt x="34" y="77"/>
                    </a:lnTo>
                    <a:lnTo>
                      <a:pt x="44" y="82"/>
                    </a:lnTo>
                    <a:lnTo>
                      <a:pt x="66" y="91"/>
                    </a:lnTo>
                    <a:lnTo>
                      <a:pt x="92" y="99"/>
                    </a:lnTo>
                    <a:lnTo>
                      <a:pt x="122" y="106"/>
                    </a:lnTo>
                    <a:lnTo>
                      <a:pt x="155" y="114"/>
                    </a:lnTo>
                    <a:lnTo>
                      <a:pt x="191" y="120"/>
                    </a:lnTo>
                    <a:lnTo>
                      <a:pt x="231" y="126"/>
                    </a:lnTo>
                    <a:lnTo>
                      <a:pt x="276" y="131"/>
                    </a:lnTo>
                    <a:lnTo>
                      <a:pt x="322" y="137"/>
                    </a:lnTo>
                    <a:lnTo>
                      <a:pt x="374" y="142"/>
                    </a:lnTo>
                    <a:lnTo>
                      <a:pt x="427" y="145"/>
                    </a:lnTo>
                    <a:lnTo>
                      <a:pt x="543" y="153"/>
                    </a:lnTo>
                    <a:lnTo>
                      <a:pt x="671" y="159"/>
                    </a:lnTo>
                    <a:lnTo>
                      <a:pt x="808" y="164"/>
                    </a:lnTo>
                    <a:lnTo>
                      <a:pt x="954" y="168"/>
                    </a:lnTo>
                    <a:lnTo>
                      <a:pt x="1108" y="170"/>
                    </a:lnTo>
                    <a:lnTo>
                      <a:pt x="1267" y="171"/>
                    </a:lnTo>
                    <a:lnTo>
                      <a:pt x="1432" y="171"/>
                    </a:lnTo>
                    <a:lnTo>
                      <a:pt x="1601" y="171"/>
                    </a:lnTo>
                    <a:lnTo>
                      <a:pt x="1774" y="169"/>
                    </a:lnTo>
                    <a:lnTo>
                      <a:pt x="1947" y="167"/>
                    </a:lnTo>
                    <a:lnTo>
                      <a:pt x="2121" y="164"/>
                    </a:lnTo>
                    <a:lnTo>
                      <a:pt x="2296" y="160"/>
                    </a:lnTo>
                    <a:lnTo>
                      <a:pt x="2468" y="155"/>
                    </a:lnTo>
                    <a:lnTo>
                      <a:pt x="2638" y="151"/>
                    </a:lnTo>
                    <a:lnTo>
                      <a:pt x="2803" y="146"/>
                    </a:lnTo>
                    <a:lnTo>
                      <a:pt x="2963" y="140"/>
                    </a:lnTo>
                    <a:lnTo>
                      <a:pt x="3116" y="134"/>
                    </a:lnTo>
                    <a:lnTo>
                      <a:pt x="3262" y="128"/>
                    </a:lnTo>
                    <a:lnTo>
                      <a:pt x="3400" y="121"/>
                    </a:lnTo>
                    <a:lnTo>
                      <a:pt x="3528" y="115"/>
                    </a:lnTo>
                    <a:lnTo>
                      <a:pt x="3644" y="108"/>
                    </a:lnTo>
                    <a:lnTo>
                      <a:pt x="3749" y="102"/>
                    </a:lnTo>
                    <a:lnTo>
                      <a:pt x="3840" y="96"/>
                    </a:lnTo>
                    <a:lnTo>
                      <a:pt x="3918" y="89"/>
                    </a:lnTo>
                    <a:lnTo>
                      <a:pt x="3979" y="83"/>
                    </a:lnTo>
                    <a:lnTo>
                      <a:pt x="4024" y="78"/>
                    </a:lnTo>
                    <a:lnTo>
                      <a:pt x="4014" y="10"/>
                    </a:lnTo>
                    <a:lnTo>
                      <a:pt x="3971" y="16"/>
                    </a:lnTo>
                    <a:lnTo>
                      <a:pt x="3912" y="22"/>
                    </a:lnTo>
                    <a:lnTo>
                      <a:pt x="3836" y="29"/>
                    </a:lnTo>
                    <a:lnTo>
                      <a:pt x="3745" y="34"/>
                    </a:lnTo>
                    <a:lnTo>
                      <a:pt x="3641" y="41"/>
                    </a:lnTo>
                    <a:lnTo>
                      <a:pt x="3525" y="48"/>
                    </a:lnTo>
                    <a:lnTo>
                      <a:pt x="3397" y="54"/>
                    </a:lnTo>
                    <a:lnTo>
                      <a:pt x="3260" y="61"/>
                    </a:lnTo>
                    <a:lnTo>
                      <a:pt x="3114" y="66"/>
                    </a:lnTo>
                    <a:lnTo>
                      <a:pt x="2960" y="73"/>
                    </a:lnTo>
                    <a:lnTo>
                      <a:pt x="2801" y="79"/>
                    </a:lnTo>
                    <a:lnTo>
                      <a:pt x="2635" y="83"/>
                    </a:lnTo>
                    <a:lnTo>
                      <a:pt x="2467" y="88"/>
                    </a:lnTo>
                    <a:lnTo>
                      <a:pt x="2294" y="92"/>
                    </a:lnTo>
                    <a:lnTo>
                      <a:pt x="2121" y="97"/>
                    </a:lnTo>
                    <a:lnTo>
                      <a:pt x="1947" y="99"/>
                    </a:lnTo>
                    <a:lnTo>
                      <a:pt x="1772" y="102"/>
                    </a:lnTo>
                    <a:lnTo>
                      <a:pt x="1601" y="103"/>
                    </a:lnTo>
                    <a:lnTo>
                      <a:pt x="1432" y="104"/>
                    </a:lnTo>
                    <a:lnTo>
                      <a:pt x="1267" y="104"/>
                    </a:lnTo>
                    <a:lnTo>
                      <a:pt x="1108" y="103"/>
                    </a:lnTo>
                    <a:lnTo>
                      <a:pt x="955" y="100"/>
                    </a:lnTo>
                    <a:lnTo>
                      <a:pt x="810" y="97"/>
                    </a:lnTo>
                    <a:lnTo>
                      <a:pt x="673" y="91"/>
                    </a:lnTo>
                    <a:lnTo>
                      <a:pt x="547" y="86"/>
                    </a:lnTo>
                    <a:lnTo>
                      <a:pt x="432" y="78"/>
                    </a:lnTo>
                    <a:lnTo>
                      <a:pt x="379" y="74"/>
                    </a:lnTo>
                    <a:lnTo>
                      <a:pt x="329" y="70"/>
                    </a:lnTo>
                    <a:lnTo>
                      <a:pt x="284" y="64"/>
                    </a:lnTo>
                    <a:lnTo>
                      <a:pt x="240" y="59"/>
                    </a:lnTo>
                    <a:lnTo>
                      <a:pt x="201" y="54"/>
                    </a:lnTo>
                    <a:lnTo>
                      <a:pt x="167" y="47"/>
                    </a:lnTo>
                    <a:lnTo>
                      <a:pt x="136" y="41"/>
                    </a:lnTo>
                    <a:lnTo>
                      <a:pt x="110" y="34"/>
                    </a:lnTo>
                    <a:lnTo>
                      <a:pt x="89" y="27"/>
                    </a:lnTo>
                    <a:lnTo>
                      <a:pt x="73" y="21"/>
                    </a:lnTo>
                    <a:lnTo>
                      <a:pt x="67" y="18"/>
                    </a:lnTo>
                    <a:lnTo>
                      <a:pt x="64" y="15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38" y="67"/>
                    </a:lnTo>
                    <a:lnTo>
                      <a:pt x="60" y="13"/>
                    </a:lnTo>
                    <a:lnTo>
                      <a:pt x="54" y="7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8" y="13"/>
                    </a:lnTo>
                    <a:lnTo>
                      <a:pt x="4" y="18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3" y="49"/>
                    </a:lnTo>
                    <a:lnTo>
                      <a:pt x="8" y="56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4548240" y="5560920"/>
                <a:ext cx="1328760" cy="55800"/>
              </a:xfrm>
              <a:custGeom>
                <a:avLst/>
                <a:gdLst/>
                <a:ahLst/>
                <a:rect l="l" t="t" r="r" b="b"/>
                <a:pathLst>
                  <a:path w="4185" h="172">
                    <a:moveTo>
                      <a:pt x="4159" y="118"/>
                    </a:moveTo>
                    <a:lnTo>
                      <a:pt x="4170" y="58"/>
                    </a:lnTo>
                    <a:lnTo>
                      <a:pt x="4153" y="49"/>
                    </a:lnTo>
                    <a:lnTo>
                      <a:pt x="4133" y="42"/>
                    </a:lnTo>
                    <a:lnTo>
                      <a:pt x="4110" y="36"/>
                    </a:lnTo>
                    <a:lnTo>
                      <a:pt x="4084" y="31"/>
                    </a:lnTo>
                    <a:lnTo>
                      <a:pt x="4053" y="26"/>
                    </a:lnTo>
                    <a:lnTo>
                      <a:pt x="4019" y="23"/>
                    </a:lnTo>
                    <a:lnTo>
                      <a:pt x="3981" y="18"/>
                    </a:lnTo>
                    <a:lnTo>
                      <a:pt x="3939" y="15"/>
                    </a:lnTo>
                    <a:lnTo>
                      <a:pt x="3845" y="9"/>
                    </a:lnTo>
                    <a:lnTo>
                      <a:pt x="3739" y="6"/>
                    </a:lnTo>
                    <a:lnTo>
                      <a:pt x="3621" y="2"/>
                    </a:lnTo>
                    <a:lnTo>
                      <a:pt x="3491" y="0"/>
                    </a:lnTo>
                    <a:lnTo>
                      <a:pt x="3351" y="0"/>
                    </a:lnTo>
                    <a:lnTo>
                      <a:pt x="3201" y="0"/>
                    </a:lnTo>
                    <a:lnTo>
                      <a:pt x="3045" y="1"/>
                    </a:lnTo>
                    <a:lnTo>
                      <a:pt x="2882" y="3"/>
                    </a:lnTo>
                    <a:lnTo>
                      <a:pt x="2541" y="9"/>
                    </a:lnTo>
                    <a:lnTo>
                      <a:pt x="2188" y="18"/>
                    </a:lnTo>
                    <a:lnTo>
                      <a:pt x="1831" y="28"/>
                    </a:lnTo>
                    <a:lnTo>
                      <a:pt x="1480" y="41"/>
                    </a:lnTo>
                    <a:lnTo>
                      <a:pt x="1142" y="53"/>
                    </a:lnTo>
                    <a:lnTo>
                      <a:pt x="830" y="66"/>
                    </a:lnTo>
                    <a:lnTo>
                      <a:pt x="551" y="79"/>
                    </a:lnTo>
                    <a:lnTo>
                      <a:pt x="312" y="89"/>
                    </a:lnTo>
                    <a:lnTo>
                      <a:pt x="127" y="98"/>
                    </a:lnTo>
                    <a:lnTo>
                      <a:pt x="0" y="105"/>
                    </a:lnTo>
                    <a:lnTo>
                      <a:pt x="3" y="172"/>
                    </a:lnTo>
                    <a:lnTo>
                      <a:pt x="130" y="165"/>
                    </a:lnTo>
                    <a:lnTo>
                      <a:pt x="316" y="156"/>
                    </a:lnTo>
                    <a:lnTo>
                      <a:pt x="553" y="146"/>
                    </a:lnTo>
                    <a:lnTo>
                      <a:pt x="832" y="133"/>
                    </a:lnTo>
                    <a:lnTo>
                      <a:pt x="1145" y="121"/>
                    </a:lnTo>
                    <a:lnTo>
                      <a:pt x="1482" y="108"/>
                    </a:lnTo>
                    <a:lnTo>
                      <a:pt x="1833" y="96"/>
                    </a:lnTo>
                    <a:lnTo>
                      <a:pt x="2190" y="85"/>
                    </a:lnTo>
                    <a:lnTo>
                      <a:pt x="2542" y="76"/>
                    </a:lnTo>
                    <a:lnTo>
                      <a:pt x="2883" y="71"/>
                    </a:lnTo>
                    <a:lnTo>
                      <a:pt x="3046" y="68"/>
                    </a:lnTo>
                    <a:lnTo>
                      <a:pt x="3202" y="67"/>
                    </a:lnTo>
                    <a:lnTo>
                      <a:pt x="3351" y="67"/>
                    </a:lnTo>
                    <a:lnTo>
                      <a:pt x="3490" y="67"/>
                    </a:lnTo>
                    <a:lnTo>
                      <a:pt x="3618" y="69"/>
                    </a:lnTo>
                    <a:lnTo>
                      <a:pt x="3737" y="73"/>
                    </a:lnTo>
                    <a:lnTo>
                      <a:pt x="3843" y="76"/>
                    </a:lnTo>
                    <a:lnTo>
                      <a:pt x="3935" y="82"/>
                    </a:lnTo>
                    <a:lnTo>
                      <a:pt x="3975" y="85"/>
                    </a:lnTo>
                    <a:lnTo>
                      <a:pt x="4012" y="89"/>
                    </a:lnTo>
                    <a:lnTo>
                      <a:pt x="4044" y="93"/>
                    </a:lnTo>
                    <a:lnTo>
                      <a:pt x="4072" y="98"/>
                    </a:lnTo>
                    <a:lnTo>
                      <a:pt x="4096" y="101"/>
                    </a:lnTo>
                    <a:lnTo>
                      <a:pt x="4114" y="106"/>
                    </a:lnTo>
                    <a:lnTo>
                      <a:pt x="4127" y="110"/>
                    </a:lnTo>
                    <a:lnTo>
                      <a:pt x="4133" y="114"/>
                    </a:lnTo>
                    <a:lnTo>
                      <a:pt x="4143" y="53"/>
                    </a:lnTo>
                    <a:lnTo>
                      <a:pt x="4133" y="114"/>
                    </a:lnTo>
                    <a:lnTo>
                      <a:pt x="4139" y="117"/>
                    </a:lnTo>
                    <a:lnTo>
                      <a:pt x="4146" y="120"/>
                    </a:lnTo>
                    <a:lnTo>
                      <a:pt x="4153" y="120"/>
                    </a:lnTo>
                    <a:lnTo>
                      <a:pt x="4159" y="118"/>
                    </a:lnTo>
                    <a:lnTo>
                      <a:pt x="4164" y="117"/>
                    </a:lnTo>
                    <a:lnTo>
                      <a:pt x="4170" y="114"/>
                    </a:lnTo>
                    <a:lnTo>
                      <a:pt x="4175" y="109"/>
                    </a:lnTo>
                    <a:lnTo>
                      <a:pt x="4179" y="105"/>
                    </a:lnTo>
                    <a:lnTo>
                      <a:pt x="4182" y="99"/>
                    </a:lnTo>
                    <a:lnTo>
                      <a:pt x="4184" y="93"/>
                    </a:lnTo>
                    <a:lnTo>
                      <a:pt x="4185" y="87"/>
                    </a:lnTo>
                    <a:lnTo>
                      <a:pt x="4185" y="81"/>
                    </a:lnTo>
                    <a:lnTo>
                      <a:pt x="4184" y="74"/>
                    </a:lnTo>
                    <a:lnTo>
                      <a:pt x="4180" y="68"/>
                    </a:lnTo>
                    <a:lnTo>
                      <a:pt x="4176" y="63"/>
                    </a:lnTo>
                    <a:lnTo>
                      <a:pt x="4170" y="58"/>
                    </a:lnTo>
                    <a:lnTo>
                      <a:pt x="4159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4538520" y="5578560"/>
                <a:ext cx="1330560" cy="65160"/>
              </a:xfrm>
              <a:custGeom>
                <a:avLst/>
                <a:gdLst/>
                <a:ahLst/>
                <a:rect l="l" t="t" r="r" b="b"/>
                <a:pathLst>
                  <a:path w="4191" h="204">
                    <a:moveTo>
                      <a:pt x="32" y="52"/>
                    </a:moveTo>
                    <a:lnTo>
                      <a:pt x="10" y="110"/>
                    </a:lnTo>
                    <a:lnTo>
                      <a:pt x="18" y="117"/>
                    </a:lnTo>
                    <a:lnTo>
                      <a:pt x="27" y="123"/>
                    </a:lnTo>
                    <a:lnTo>
                      <a:pt x="38" y="128"/>
                    </a:lnTo>
                    <a:lnTo>
                      <a:pt x="49" y="133"/>
                    </a:lnTo>
                    <a:lnTo>
                      <a:pt x="71" y="141"/>
                    </a:lnTo>
                    <a:lnTo>
                      <a:pt x="98" y="148"/>
                    </a:lnTo>
                    <a:lnTo>
                      <a:pt x="129" y="154"/>
                    </a:lnTo>
                    <a:lnTo>
                      <a:pt x="163" y="160"/>
                    </a:lnTo>
                    <a:lnTo>
                      <a:pt x="202" y="166"/>
                    </a:lnTo>
                    <a:lnTo>
                      <a:pt x="244" y="170"/>
                    </a:lnTo>
                    <a:lnTo>
                      <a:pt x="291" y="175"/>
                    </a:lnTo>
                    <a:lnTo>
                      <a:pt x="340" y="180"/>
                    </a:lnTo>
                    <a:lnTo>
                      <a:pt x="393" y="183"/>
                    </a:lnTo>
                    <a:lnTo>
                      <a:pt x="449" y="188"/>
                    </a:lnTo>
                    <a:lnTo>
                      <a:pt x="571" y="193"/>
                    </a:lnTo>
                    <a:lnTo>
                      <a:pt x="705" y="198"/>
                    </a:lnTo>
                    <a:lnTo>
                      <a:pt x="848" y="201"/>
                    </a:lnTo>
                    <a:lnTo>
                      <a:pt x="1001" y="202"/>
                    </a:lnTo>
                    <a:lnTo>
                      <a:pt x="1161" y="204"/>
                    </a:lnTo>
                    <a:lnTo>
                      <a:pt x="1328" y="204"/>
                    </a:lnTo>
                    <a:lnTo>
                      <a:pt x="1500" y="202"/>
                    </a:lnTo>
                    <a:lnTo>
                      <a:pt x="1677" y="200"/>
                    </a:lnTo>
                    <a:lnTo>
                      <a:pt x="1856" y="197"/>
                    </a:lnTo>
                    <a:lnTo>
                      <a:pt x="2037" y="192"/>
                    </a:lnTo>
                    <a:lnTo>
                      <a:pt x="2220" y="188"/>
                    </a:lnTo>
                    <a:lnTo>
                      <a:pt x="2401" y="182"/>
                    </a:lnTo>
                    <a:lnTo>
                      <a:pt x="2580" y="176"/>
                    </a:lnTo>
                    <a:lnTo>
                      <a:pt x="2757" y="169"/>
                    </a:lnTo>
                    <a:lnTo>
                      <a:pt x="2929" y="162"/>
                    </a:lnTo>
                    <a:lnTo>
                      <a:pt x="3095" y="154"/>
                    </a:lnTo>
                    <a:lnTo>
                      <a:pt x="3255" y="146"/>
                    </a:lnTo>
                    <a:lnTo>
                      <a:pt x="3406" y="137"/>
                    </a:lnTo>
                    <a:lnTo>
                      <a:pt x="3549" y="129"/>
                    </a:lnTo>
                    <a:lnTo>
                      <a:pt x="3681" y="120"/>
                    </a:lnTo>
                    <a:lnTo>
                      <a:pt x="3801" y="111"/>
                    </a:lnTo>
                    <a:lnTo>
                      <a:pt x="3909" y="102"/>
                    </a:lnTo>
                    <a:lnTo>
                      <a:pt x="4003" y="93"/>
                    </a:lnTo>
                    <a:lnTo>
                      <a:pt x="4081" y="84"/>
                    </a:lnTo>
                    <a:lnTo>
                      <a:pt x="4116" y="79"/>
                    </a:lnTo>
                    <a:lnTo>
                      <a:pt x="4145" y="75"/>
                    </a:lnTo>
                    <a:lnTo>
                      <a:pt x="4170" y="70"/>
                    </a:lnTo>
                    <a:lnTo>
                      <a:pt x="4191" y="65"/>
                    </a:lnTo>
                    <a:lnTo>
                      <a:pt x="4175" y="0"/>
                    </a:lnTo>
                    <a:lnTo>
                      <a:pt x="4157" y="4"/>
                    </a:lnTo>
                    <a:lnTo>
                      <a:pt x="4134" y="8"/>
                    </a:lnTo>
                    <a:lnTo>
                      <a:pt x="4106" y="13"/>
                    </a:lnTo>
                    <a:lnTo>
                      <a:pt x="4073" y="16"/>
                    </a:lnTo>
                    <a:lnTo>
                      <a:pt x="3996" y="26"/>
                    </a:lnTo>
                    <a:lnTo>
                      <a:pt x="3903" y="35"/>
                    </a:lnTo>
                    <a:lnTo>
                      <a:pt x="3796" y="44"/>
                    </a:lnTo>
                    <a:lnTo>
                      <a:pt x="3675" y="53"/>
                    </a:lnTo>
                    <a:lnTo>
                      <a:pt x="3544" y="62"/>
                    </a:lnTo>
                    <a:lnTo>
                      <a:pt x="3402" y="70"/>
                    </a:lnTo>
                    <a:lnTo>
                      <a:pt x="3251" y="79"/>
                    </a:lnTo>
                    <a:lnTo>
                      <a:pt x="3092" y="87"/>
                    </a:lnTo>
                    <a:lnTo>
                      <a:pt x="2925" y="95"/>
                    </a:lnTo>
                    <a:lnTo>
                      <a:pt x="2753" y="102"/>
                    </a:lnTo>
                    <a:lnTo>
                      <a:pt x="2578" y="109"/>
                    </a:lnTo>
                    <a:lnTo>
                      <a:pt x="2399" y="115"/>
                    </a:lnTo>
                    <a:lnTo>
                      <a:pt x="2217" y="120"/>
                    </a:lnTo>
                    <a:lnTo>
                      <a:pt x="2036" y="125"/>
                    </a:lnTo>
                    <a:lnTo>
                      <a:pt x="1855" y="129"/>
                    </a:lnTo>
                    <a:lnTo>
                      <a:pt x="1676" y="133"/>
                    </a:lnTo>
                    <a:lnTo>
                      <a:pt x="1499" y="135"/>
                    </a:lnTo>
                    <a:lnTo>
                      <a:pt x="1327" y="136"/>
                    </a:lnTo>
                    <a:lnTo>
                      <a:pt x="1161" y="136"/>
                    </a:lnTo>
                    <a:lnTo>
                      <a:pt x="1001" y="135"/>
                    </a:lnTo>
                    <a:lnTo>
                      <a:pt x="849" y="134"/>
                    </a:lnTo>
                    <a:lnTo>
                      <a:pt x="707" y="131"/>
                    </a:lnTo>
                    <a:lnTo>
                      <a:pt x="574" y="126"/>
                    </a:lnTo>
                    <a:lnTo>
                      <a:pt x="453" y="120"/>
                    </a:lnTo>
                    <a:lnTo>
                      <a:pt x="398" y="116"/>
                    </a:lnTo>
                    <a:lnTo>
                      <a:pt x="346" y="112"/>
                    </a:lnTo>
                    <a:lnTo>
                      <a:pt x="297" y="109"/>
                    </a:lnTo>
                    <a:lnTo>
                      <a:pt x="252" y="103"/>
                    </a:lnTo>
                    <a:lnTo>
                      <a:pt x="211" y="99"/>
                    </a:lnTo>
                    <a:lnTo>
                      <a:pt x="173" y="94"/>
                    </a:lnTo>
                    <a:lnTo>
                      <a:pt x="141" y="88"/>
                    </a:lnTo>
                    <a:lnTo>
                      <a:pt x="113" y="83"/>
                    </a:lnTo>
                    <a:lnTo>
                      <a:pt x="90" y="76"/>
                    </a:lnTo>
                    <a:lnTo>
                      <a:pt x="72" y="70"/>
                    </a:lnTo>
                    <a:lnTo>
                      <a:pt x="66" y="67"/>
                    </a:lnTo>
                    <a:lnTo>
                      <a:pt x="62" y="64"/>
                    </a:lnTo>
                    <a:lnTo>
                      <a:pt x="58" y="63"/>
                    </a:lnTo>
                    <a:lnTo>
                      <a:pt x="57" y="62"/>
                    </a:lnTo>
                    <a:lnTo>
                      <a:pt x="35" y="119"/>
                    </a:lnTo>
                    <a:lnTo>
                      <a:pt x="57" y="62"/>
                    </a:lnTo>
                    <a:lnTo>
                      <a:pt x="51" y="56"/>
                    </a:lnTo>
                    <a:lnTo>
                      <a:pt x="45" y="54"/>
                    </a:lnTo>
                    <a:lnTo>
                      <a:pt x="38" y="52"/>
                    </a:lnTo>
                    <a:lnTo>
                      <a:pt x="32" y="52"/>
                    </a:lnTo>
                    <a:lnTo>
                      <a:pt x="25" y="53"/>
                    </a:lnTo>
                    <a:lnTo>
                      <a:pt x="20" y="55"/>
                    </a:lnTo>
                    <a:lnTo>
                      <a:pt x="15" y="59"/>
                    </a:lnTo>
                    <a:lnTo>
                      <a:pt x="9" y="62"/>
                    </a:lnTo>
                    <a:lnTo>
                      <a:pt x="6" y="68"/>
                    </a:lnTo>
                    <a:lnTo>
                      <a:pt x="2" y="72"/>
                    </a:lnTo>
                    <a:lnTo>
                      <a:pt x="0" y="79"/>
                    </a:lnTo>
                    <a:lnTo>
                      <a:pt x="0" y="85"/>
                    </a:lnTo>
                    <a:lnTo>
                      <a:pt x="0" y="92"/>
                    </a:lnTo>
                    <a:lnTo>
                      <a:pt x="1" y="97"/>
                    </a:lnTo>
                    <a:lnTo>
                      <a:pt x="5" y="104"/>
                    </a:lnTo>
                    <a:lnTo>
                      <a:pt x="10" y="110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4400640" y="526248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3" y="0"/>
                    </a:moveTo>
                    <a:lnTo>
                      <a:pt x="25" y="1"/>
                    </a:lnTo>
                    <a:lnTo>
                      <a:pt x="18" y="3"/>
                    </a:lnTo>
                    <a:lnTo>
                      <a:pt x="12" y="7"/>
                    </a:lnTo>
                    <a:lnTo>
                      <a:pt x="7" y="10"/>
                    </a:lnTo>
                    <a:lnTo>
                      <a:pt x="4" y="16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7"/>
                    </a:lnTo>
                    <a:lnTo>
                      <a:pt x="4" y="52"/>
                    </a:lnTo>
                    <a:lnTo>
                      <a:pt x="9" y="57"/>
                    </a:lnTo>
                    <a:lnTo>
                      <a:pt x="13" y="61"/>
                    </a:lnTo>
                    <a:lnTo>
                      <a:pt x="19" y="65"/>
                    </a:lnTo>
                    <a:lnTo>
                      <a:pt x="26" y="66"/>
                    </a:lnTo>
                    <a:lnTo>
                      <a:pt x="34" y="6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4410000" y="5261040"/>
                <a:ext cx="1301760" cy="42840"/>
              </a:xfrm>
              <a:custGeom>
                <a:avLst/>
                <a:gdLst/>
                <a:ahLst/>
                <a:rect l="l" t="t" r="r" b="b"/>
                <a:pathLst>
                  <a:path w="4100" h="135">
                    <a:moveTo>
                      <a:pt x="4100" y="67"/>
                    </a:moveTo>
                    <a:lnTo>
                      <a:pt x="4075" y="64"/>
                    </a:lnTo>
                    <a:lnTo>
                      <a:pt x="4045" y="59"/>
                    </a:lnTo>
                    <a:lnTo>
                      <a:pt x="4011" y="56"/>
                    </a:lnTo>
                    <a:lnTo>
                      <a:pt x="3974" y="52"/>
                    </a:lnTo>
                    <a:lnTo>
                      <a:pt x="3887" y="45"/>
                    </a:lnTo>
                    <a:lnTo>
                      <a:pt x="3786" y="39"/>
                    </a:lnTo>
                    <a:lnTo>
                      <a:pt x="3670" y="33"/>
                    </a:lnTo>
                    <a:lnTo>
                      <a:pt x="3544" y="28"/>
                    </a:lnTo>
                    <a:lnTo>
                      <a:pt x="3406" y="23"/>
                    </a:lnTo>
                    <a:lnTo>
                      <a:pt x="3258" y="18"/>
                    </a:lnTo>
                    <a:lnTo>
                      <a:pt x="2937" y="13"/>
                    </a:lnTo>
                    <a:lnTo>
                      <a:pt x="2593" y="7"/>
                    </a:lnTo>
                    <a:lnTo>
                      <a:pt x="2235" y="4"/>
                    </a:lnTo>
                    <a:lnTo>
                      <a:pt x="1871" y="1"/>
                    </a:lnTo>
                    <a:lnTo>
                      <a:pt x="1515" y="0"/>
                    </a:lnTo>
                    <a:lnTo>
                      <a:pt x="1171" y="0"/>
                    </a:lnTo>
                    <a:lnTo>
                      <a:pt x="856" y="1"/>
                    </a:lnTo>
                    <a:lnTo>
                      <a:pt x="574" y="1"/>
                    </a:lnTo>
                    <a:lnTo>
                      <a:pt x="157" y="4"/>
                    </a:lnTo>
                    <a:lnTo>
                      <a:pt x="0" y="5"/>
                    </a:lnTo>
                    <a:lnTo>
                      <a:pt x="1" y="72"/>
                    </a:lnTo>
                    <a:lnTo>
                      <a:pt x="157" y="71"/>
                    </a:lnTo>
                    <a:lnTo>
                      <a:pt x="574" y="69"/>
                    </a:lnTo>
                    <a:lnTo>
                      <a:pt x="856" y="69"/>
                    </a:lnTo>
                    <a:lnTo>
                      <a:pt x="1171" y="67"/>
                    </a:lnTo>
                    <a:lnTo>
                      <a:pt x="1515" y="69"/>
                    </a:lnTo>
                    <a:lnTo>
                      <a:pt x="1871" y="69"/>
                    </a:lnTo>
                    <a:lnTo>
                      <a:pt x="2234" y="71"/>
                    </a:lnTo>
                    <a:lnTo>
                      <a:pt x="2593" y="74"/>
                    </a:lnTo>
                    <a:lnTo>
                      <a:pt x="2936" y="80"/>
                    </a:lnTo>
                    <a:lnTo>
                      <a:pt x="3257" y="86"/>
                    </a:lnTo>
                    <a:lnTo>
                      <a:pt x="3404" y="90"/>
                    </a:lnTo>
                    <a:lnTo>
                      <a:pt x="3542" y="95"/>
                    </a:lnTo>
                    <a:lnTo>
                      <a:pt x="3668" y="101"/>
                    </a:lnTo>
                    <a:lnTo>
                      <a:pt x="3782" y="106"/>
                    </a:lnTo>
                    <a:lnTo>
                      <a:pt x="3882" y="112"/>
                    </a:lnTo>
                    <a:lnTo>
                      <a:pt x="3968" y="119"/>
                    </a:lnTo>
                    <a:lnTo>
                      <a:pt x="4004" y="122"/>
                    </a:lnTo>
                    <a:lnTo>
                      <a:pt x="4037" y="127"/>
                    </a:lnTo>
                    <a:lnTo>
                      <a:pt x="4065" y="130"/>
                    </a:lnTo>
                    <a:lnTo>
                      <a:pt x="4088" y="135"/>
                    </a:lnTo>
                    <a:lnTo>
                      <a:pt x="4100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5708520" y="528336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40" h="68">
                    <a:moveTo>
                      <a:pt x="0" y="68"/>
                    </a:moveTo>
                    <a:lnTo>
                      <a:pt x="8" y="68"/>
                    </a:lnTo>
                    <a:lnTo>
                      <a:pt x="14" y="68"/>
                    </a:lnTo>
                    <a:lnTo>
                      <a:pt x="21" y="66"/>
                    </a:lnTo>
                    <a:lnTo>
                      <a:pt x="27" y="62"/>
                    </a:lnTo>
                    <a:lnTo>
                      <a:pt x="32" y="58"/>
                    </a:lnTo>
                    <a:lnTo>
                      <a:pt x="35" y="53"/>
                    </a:lnTo>
                    <a:lnTo>
                      <a:pt x="37" y="47"/>
                    </a:lnTo>
                    <a:lnTo>
                      <a:pt x="40" y="40"/>
                    </a:lnTo>
                    <a:lnTo>
                      <a:pt x="40" y="35"/>
                    </a:lnTo>
                    <a:lnTo>
                      <a:pt x="40" y="28"/>
                    </a:lnTo>
                    <a:lnTo>
                      <a:pt x="38" y="22"/>
                    </a:lnTo>
                    <a:lnTo>
                      <a:pt x="35" y="16"/>
                    </a:lnTo>
                    <a:lnTo>
                      <a:pt x="32" y="11"/>
                    </a:lnTo>
                    <a:lnTo>
                      <a:pt x="27" y="6"/>
                    </a:lnTo>
                    <a:lnTo>
                      <a:pt x="20" y="3"/>
                    </a:lnTo>
                    <a:lnTo>
                      <a:pt x="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4606920" y="55515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0" y="67"/>
                    </a:moveTo>
                    <a:lnTo>
                      <a:pt x="8" y="66"/>
                    </a:lnTo>
                    <a:lnTo>
                      <a:pt x="15" y="64"/>
                    </a:lnTo>
                    <a:lnTo>
                      <a:pt x="20" y="61"/>
                    </a:lnTo>
                    <a:lnTo>
                      <a:pt x="25" y="57"/>
                    </a:lnTo>
                    <a:lnTo>
                      <a:pt x="28" y="52"/>
                    </a:lnTo>
                    <a:lnTo>
                      <a:pt x="32" y="47"/>
                    </a:lnTo>
                    <a:lnTo>
                      <a:pt x="33" y="40"/>
                    </a:lnTo>
                    <a:lnTo>
                      <a:pt x="34" y="34"/>
                    </a:lnTo>
                    <a:lnTo>
                      <a:pt x="33" y="27"/>
                    </a:lnTo>
                    <a:lnTo>
                      <a:pt x="32" y="22"/>
                    </a:lnTo>
                    <a:lnTo>
                      <a:pt x="29" y="16"/>
                    </a:lnTo>
                    <a:lnTo>
                      <a:pt x="26" y="10"/>
                    </a:lnTo>
                    <a:lnTo>
                      <a:pt x="21" y="7"/>
                    </a:lnTo>
                    <a:lnTo>
                      <a:pt x="16" y="3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4595760" y="5486400"/>
                <a:ext cx="1028880" cy="85680"/>
              </a:xfrm>
              <a:custGeom>
                <a:avLst/>
                <a:gdLst/>
                <a:ahLst/>
                <a:rect l="l" t="t" r="r" b="b"/>
                <a:pathLst>
                  <a:path w="3244" h="272">
                    <a:moveTo>
                      <a:pt x="3231" y="0"/>
                    </a:moveTo>
                    <a:lnTo>
                      <a:pt x="3179" y="9"/>
                    </a:lnTo>
                    <a:lnTo>
                      <a:pt x="3114" y="19"/>
                    </a:lnTo>
                    <a:lnTo>
                      <a:pt x="3035" y="28"/>
                    </a:lnTo>
                    <a:lnTo>
                      <a:pt x="2943" y="37"/>
                    </a:lnTo>
                    <a:lnTo>
                      <a:pt x="2842" y="46"/>
                    </a:lnTo>
                    <a:lnTo>
                      <a:pt x="2730" y="55"/>
                    </a:lnTo>
                    <a:lnTo>
                      <a:pt x="2609" y="65"/>
                    </a:lnTo>
                    <a:lnTo>
                      <a:pt x="2482" y="73"/>
                    </a:lnTo>
                    <a:lnTo>
                      <a:pt x="2208" y="90"/>
                    </a:lnTo>
                    <a:lnTo>
                      <a:pt x="1917" y="107"/>
                    </a:lnTo>
                    <a:lnTo>
                      <a:pt x="1620" y="122"/>
                    </a:lnTo>
                    <a:lnTo>
                      <a:pt x="1322" y="136"/>
                    </a:lnTo>
                    <a:lnTo>
                      <a:pt x="766" y="163"/>
                    </a:lnTo>
                    <a:lnTo>
                      <a:pt x="319" y="183"/>
                    </a:lnTo>
                    <a:lnTo>
                      <a:pt x="160" y="191"/>
                    </a:lnTo>
                    <a:lnTo>
                      <a:pt x="52" y="197"/>
                    </a:lnTo>
                    <a:lnTo>
                      <a:pt x="22" y="200"/>
                    </a:lnTo>
                    <a:lnTo>
                      <a:pt x="5" y="203"/>
                    </a:lnTo>
                    <a:lnTo>
                      <a:pt x="0" y="268"/>
                    </a:lnTo>
                    <a:lnTo>
                      <a:pt x="13" y="271"/>
                    </a:lnTo>
                    <a:lnTo>
                      <a:pt x="24" y="271"/>
                    </a:lnTo>
                    <a:lnTo>
                      <a:pt x="39" y="272"/>
                    </a:lnTo>
                    <a:lnTo>
                      <a:pt x="40" y="205"/>
                    </a:lnTo>
                    <a:lnTo>
                      <a:pt x="26" y="204"/>
                    </a:lnTo>
                    <a:lnTo>
                      <a:pt x="19" y="204"/>
                    </a:lnTo>
                    <a:lnTo>
                      <a:pt x="23" y="205"/>
                    </a:lnTo>
                    <a:lnTo>
                      <a:pt x="18" y="269"/>
                    </a:lnTo>
                    <a:lnTo>
                      <a:pt x="28" y="266"/>
                    </a:lnTo>
                    <a:lnTo>
                      <a:pt x="57" y="264"/>
                    </a:lnTo>
                    <a:lnTo>
                      <a:pt x="163" y="258"/>
                    </a:lnTo>
                    <a:lnTo>
                      <a:pt x="323" y="251"/>
                    </a:lnTo>
                    <a:lnTo>
                      <a:pt x="769" y="230"/>
                    </a:lnTo>
                    <a:lnTo>
                      <a:pt x="1326" y="204"/>
                    </a:lnTo>
                    <a:lnTo>
                      <a:pt x="1622" y="189"/>
                    </a:lnTo>
                    <a:lnTo>
                      <a:pt x="1921" y="174"/>
                    </a:lnTo>
                    <a:lnTo>
                      <a:pt x="2212" y="157"/>
                    </a:lnTo>
                    <a:lnTo>
                      <a:pt x="2486" y="140"/>
                    </a:lnTo>
                    <a:lnTo>
                      <a:pt x="2614" y="132"/>
                    </a:lnTo>
                    <a:lnTo>
                      <a:pt x="2735" y="123"/>
                    </a:lnTo>
                    <a:lnTo>
                      <a:pt x="2848" y="114"/>
                    </a:lnTo>
                    <a:lnTo>
                      <a:pt x="2950" y="104"/>
                    </a:lnTo>
                    <a:lnTo>
                      <a:pt x="3041" y="95"/>
                    </a:lnTo>
                    <a:lnTo>
                      <a:pt x="3122" y="85"/>
                    </a:lnTo>
                    <a:lnTo>
                      <a:pt x="3191" y="76"/>
                    </a:lnTo>
                    <a:lnTo>
                      <a:pt x="3244" y="66"/>
                    </a:lnTo>
                    <a:lnTo>
                      <a:pt x="323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5621400" y="548640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13" y="66"/>
                    </a:moveTo>
                    <a:lnTo>
                      <a:pt x="21" y="63"/>
                    </a:lnTo>
                    <a:lnTo>
                      <a:pt x="28" y="60"/>
                    </a:lnTo>
                    <a:lnTo>
                      <a:pt x="33" y="55"/>
                    </a:lnTo>
                    <a:lnTo>
                      <a:pt x="36" y="51"/>
                    </a:lnTo>
                    <a:lnTo>
                      <a:pt x="38" y="45"/>
                    </a:lnTo>
                    <a:lnTo>
                      <a:pt x="41" y="38"/>
                    </a:lnTo>
                    <a:lnTo>
                      <a:pt x="41" y="33"/>
                    </a:lnTo>
                    <a:lnTo>
                      <a:pt x="40" y="26"/>
                    </a:lnTo>
                    <a:lnTo>
                      <a:pt x="38" y="20"/>
                    </a:lnTo>
                    <a:lnTo>
                      <a:pt x="35" y="14"/>
                    </a:lnTo>
                    <a:lnTo>
                      <a:pt x="32" y="10"/>
                    </a:lnTo>
                    <a:lnTo>
                      <a:pt x="27" y="5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3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4367160" y="51037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5" h="67">
                    <a:moveTo>
                      <a:pt x="32" y="0"/>
                    </a:moveTo>
                    <a:lnTo>
                      <a:pt x="25" y="1"/>
                    </a:lnTo>
                    <a:lnTo>
                      <a:pt x="18" y="3"/>
                    </a:lnTo>
                    <a:lnTo>
                      <a:pt x="13" y="7"/>
                    </a:lnTo>
                    <a:lnTo>
                      <a:pt x="8" y="11"/>
                    </a:lnTo>
                    <a:lnTo>
                      <a:pt x="5" y="17"/>
                    </a:lnTo>
                    <a:lnTo>
                      <a:pt x="2" y="23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1" y="41"/>
                    </a:lnTo>
                    <a:lnTo>
                      <a:pt x="2" y="47"/>
                    </a:lnTo>
                    <a:lnTo>
                      <a:pt x="6" y="53"/>
                    </a:lnTo>
                    <a:lnTo>
                      <a:pt x="9" y="58"/>
                    </a:lnTo>
                    <a:lnTo>
                      <a:pt x="15" y="62"/>
                    </a:lnTo>
                    <a:lnTo>
                      <a:pt x="21" y="65"/>
                    </a:lnTo>
                    <a:lnTo>
                      <a:pt x="27" y="67"/>
                    </a:lnTo>
                    <a:lnTo>
                      <a:pt x="35" y="6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4378320" y="5081760"/>
                <a:ext cx="1177920" cy="44280"/>
              </a:xfrm>
              <a:custGeom>
                <a:avLst/>
                <a:gdLst/>
                <a:ahLst/>
                <a:rect l="l" t="t" r="r" b="b"/>
                <a:pathLst>
                  <a:path w="3713" h="140">
                    <a:moveTo>
                      <a:pt x="3713" y="38"/>
                    </a:moveTo>
                    <a:lnTo>
                      <a:pt x="3690" y="33"/>
                    </a:lnTo>
                    <a:lnTo>
                      <a:pt x="3664" y="29"/>
                    </a:lnTo>
                    <a:lnTo>
                      <a:pt x="3633" y="24"/>
                    </a:lnTo>
                    <a:lnTo>
                      <a:pt x="3600" y="21"/>
                    </a:lnTo>
                    <a:lnTo>
                      <a:pt x="3523" y="14"/>
                    </a:lnTo>
                    <a:lnTo>
                      <a:pt x="3431" y="9"/>
                    </a:lnTo>
                    <a:lnTo>
                      <a:pt x="3329" y="6"/>
                    </a:lnTo>
                    <a:lnTo>
                      <a:pt x="3215" y="2"/>
                    </a:lnTo>
                    <a:lnTo>
                      <a:pt x="3089" y="1"/>
                    </a:lnTo>
                    <a:lnTo>
                      <a:pt x="2956" y="0"/>
                    </a:lnTo>
                    <a:lnTo>
                      <a:pt x="2816" y="0"/>
                    </a:lnTo>
                    <a:lnTo>
                      <a:pt x="2668" y="0"/>
                    </a:lnTo>
                    <a:lnTo>
                      <a:pt x="2514" y="1"/>
                    </a:lnTo>
                    <a:lnTo>
                      <a:pt x="2355" y="3"/>
                    </a:lnTo>
                    <a:lnTo>
                      <a:pt x="2030" y="9"/>
                    </a:lnTo>
                    <a:lnTo>
                      <a:pt x="1702" y="17"/>
                    </a:lnTo>
                    <a:lnTo>
                      <a:pt x="1377" y="25"/>
                    </a:lnTo>
                    <a:lnTo>
                      <a:pt x="1066" y="34"/>
                    </a:lnTo>
                    <a:lnTo>
                      <a:pt x="779" y="45"/>
                    </a:lnTo>
                    <a:lnTo>
                      <a:pt x="522" y="52"/>
                    </a:lnTo>
                    <a:lnTo>
                      <a:pt x="144" y="67"/>
                    </a:lnTo>
                    <a:lnTo>
                      <a:pt x="0" y="73"/>
                    </a:lnTo>
                    <a:lnTo>
                      <a:pt x="3" y="140"/>
                    </a:lnTo>
                    <a:lnTo>
                      <a:pt x="146" y="135"/>
                    </a:lnTo>
                    <a:lnTo>
                      <a:pt x="524" y="120"/>
                    </a:lnTo>
                    <a:lnTo>
                      <a:pt x="781" y="112"/>
                    </a:lnTo>
                    <a:lnTo>
                      <a:pt x="1068" y="102"/>
                    </a:lnTo>
                    <a:lnTo>
                      <a:pt x="1378" y="92"/>
                    </a:lnTo>
                    <a:lnTo>
                      <a:pt x="1703" y="84"/>
                    </a:lnTo>
                    <a:lnTo>
                      <a:pt x="2033" y="76"/>
                    </a:lnTo>
                    <a:lnTo>
                      <a:pt x="2356" y="71"/>
                    </a:lnTo>
                    <a:lnTo>
                      <a:pt x="2515" y="68"/>
                    </a:lnTo>
                    <a:lnTo>
                      <a:pt x="2668" y="67"/>
                    </a:lnTo>
                    <a:lnTo>
                      <a:pt x="2816" y="67"/>
                    </a:lnTo>
                    <a:lnTo>
                      <a:pt x="2956" y="67"/>
                    </a:lnTo>
                    <a:lnTo>
                      <a:pt x="3089" y="68"/>
                    </a:lnTo>
                    <a:lnTo>
                      <a:pt x="3212" y="70"/>
                    </a:lnTo>
                    <a:lnTo>
                      <a:pt x="3326" y="73"/>
                    </a:lnTo>
                    <a:lnTo>
                      <a:pt x="3429" y="76"/>
                    </a:lnTo>
                    <a:lnTo>
                      <a:pt x="3518" y="81"/>
                    </a:lnTo>
                    <a:lnTo>
                      <a:pt x="3594" y="88"/>
                    </a:lnTo>
                    <a:lnTo>
                      <a:pt x="3626" y="91"/>
                    </a:lnTo>
                    <a:lnTo>
                      <a:pt x="3654" y="95"/>
                    </a:lnTo>
                    <a:lnTo>
                      <a:pt x="3678" y="99"/>
                    </a:lnTo>
                    <a:lnTo>
                      <a:pt x="3697" y="103"/>
                    </a:lnTo>
                    <a:lnTo>
                      <a:pt x="3713" y="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5551560" y="509256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0" y="65"/>
                    </a:moveTo>
                    <a:lnTo>
                      <a:pt x="8" y="66"/>
                    </a:lnTo>
                    <a:lnTo>
                      <a:pt x="15" y="66"/>
                    </a:lnTo>
                    <a:lnTo>
                      <a:pt x="21" y="65"/>
                    </a:lnTo>
                    <a:lnTo>
                      <a:pt x="27" y="61"/>
                    </a:lnTo>
                    <a:lnTo>
                      <a:pt x="32" y="57"/>
                    </a:lnTo>
                    <a:lnTo>
                      <a:pt x="35" y="52"/>
                    </a:lnTo>
                    <a:lnTo>
                      <a:pt x="39" y="46"/>
                    </a:lnTo>
                    <a:lnTo>
                      <a:pt x="41" y="41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0" y="22"/>
                    </a:lnTo>
                    <a:lnTo>
                      <a:pt x="38" y="16"/>
                    </a:lnTo>
                    <a:lnTo>
                      <a:pt x="34" y="11"/>
                    </a:lnTo>
                    <a:lnTo>
                      <a:pt x="30" y="7"/>
                    </a:lnTo>
                    <a:lnTo>
                      <a:pt x="24" y="2"/>
                    </a:lnTo>
                    <a:lnTo>
                      <a:pt x="16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3559320" y="4548240"/>
                <a:ext cx="1746000" cy="552240"/>
              </a:xfrm>
              <a:custGeom>
                <a:avLst/>
                <a:gdLst/>
                <a:ahLst/>
                <a:rect l="l" t="t" r="r" b="b"/>
                <a:pathLst>
                  <a:path w="5501" h="1737">
                    <a:moveTo>
                      <a:pt x="5260" y="381"/>
                    </a:moveTo>
                    <a:lnTo>
                      <a:pt x="5133" y="371"/>
                    </a:lnTo>
                    <a:lnTo>
                      <a:pt x="4939" y="352"/>
                    </a:lnTo>
                    <a:lnTo>
                      <a:pt x="4688" y="328"/>
                    </a:lnTo>
                    <a:lnTo>
                      <a:pt x="4393" y="300"/>
                    </a:lnTo>
                    <a:lnTo>
                      <a:pt x="4062" y="268"/>
                    </a:lnTo>
                    <a:lnTo>
                      <a:pt x="3707" y="235"/>
                    </a:lnTo>
                    <a:lnTo>
                      <a:pt x="3337" y="201"/>
                    </a:lnTo>
                    <a:lnTo>
                      <a:pt x="2964" y="168"/>
                    </a:lnTo>
                    <a:lnTo>
                      <a:pt x="2780" y="153"/>
                    </a:lnTo>
                    <a:lnTo>
                      <a:pt x="2598" y="138"/>
                    </a:lnTo>
                    <a:lnTo>
                      <a:pt x="2421" y="123"/>
                    </a:lnTo>
                    <a:lnTo>
                      <a:pt x="2249" y="111"/>
                    </a:lnTo>
                    <a:lnTo>
                      <a:pt x="2083" y="99"/>
                    </a:lnTo>
                    <a:lnTo>
                      <a:pt x="1927" y="89"/>
                    </a:lnTo>
                    <a:lnTo>
                      <a:pt x="1780" y="81"/>
                    </a:lnTo>
                    <a:lnTo>
                      <a:pt x="1643" y="74"/>
                    </a:lnTo>
                    <a:lnTo>
                      <a:pt x="1519" y="71"/>
                    </a:lnTo>
                    <a:lnTo>
                      <a:pt x="1407" y="68"/>
                    </a:lnTo>
                    <a:lnTo>
                      <a:pt x="1311" y="68"/>
                    </a:lnTo>
                    <a:lnTo>
                      <a:pt x="1230" y="71"/>
                    </a:lnTo>
                    <a:lnTo>
                      <a:pt x="1168" y="76"/>
                    </a:lnTo>
                    <a:lnTo>
                      <a:pt x="1123" y="84"/>
                    </a:lnTo>
                    <a:lnTo>
                      <a:pt x="1099" y="96"/>
                    </a:lnTo>
                    <a:lnTo>
                      <a:pt x="1096" y="111"/>
                    </a:lnTo>
                    <a:lnTo>
                      <a:pt x="1136" y="122"/>
                    </a:lnTo>
                    <a:lnTo>
                      <a:pt x="1195" y="135"/>
                    </a:lnTo>
                    <a:lnTo>
                      <a:pt x="1273" y="147"/>
                    </a:lnTo>
                    <a:lnTo>
                      <a:pt x="1367" y="161"/>
                    </a:lnTo>
                    <a:lnTo>
                      <a:pt x="1477" y="174"/>
                    </a:lnTo>
                    <a:lnTo>
                      <a:pt x="1600" y="188"/>
                    </a:lnTo>
                    <a:lnTo>
                      <a:pt x="1737" y="202"/>
                    </a:lnTo>
                    <a:lnTo>
                      <a:pt x="1884" y="217"/>
                    </a:lnTo>
                    <a:lnTo>
                      <a:pt x="2041" y="232"/>
                    </a:lnTo>
                    <a:lnTo>
                      <a:pt x="2206" y="245"/>
                    </a:lnTo>
                    <a:lnTo>
                      <a:pt x="2380" y="259"/>
                    </a:lnTo>
                    <a:lnTo>
                      <a:pt x="2559" y="274"/>
                    </a:lnTo>
                    <a:lnTo>
                      <a:pt x="2742" y="287"/>
                    </a:lnTo>
                    <a:lnTo>
                      <a:pt x="2928" y="300"/>
                    </a:lnTo>
                    <a:lnTo>
                      <a:pt x="3116" y="314"/>
                    </a:lnTo>
                    <a:lnTo>
                      <a:pt x="3305" y="325"/>
                    </a:lnTo>
                    <a:lnTo>
                      <a:pt x="3492" y="338"/>
                    </a:lnTo>
                    <a:lnTo>
                      <a:pt x="3677" y="348"/>
                    </a:lnTo>
                    <a:lnTo>
                      <a:pt x="3858" y="358"/>
                    </a:lnTo>
                    <a:lnTo>
                      <a:pt x="4035" y="367"/>
                    </a:lnTo>
                    <a:lnTo>
                      <a:pt x="4205" y="376"/>
                    </a:lnTo>
                    <a:lnTo>
                      <a:pt x="4367" y="383"/>
                    </a:lnTo>
                    <a:lnTo>
                      <a:pt x="4519" y="389"/>
                    </a:lnTo>
                    <a:lnTo>
                      <a:pt x="4662" y="395"/>
                    </a:lnTo>
                    <a:lnTo>
                      <a:pt x="4793" y="398"/>
                    </a:lnTo>
                    <a:lnTo>
                      <a:pt x="4910" y="400"/>
                    </a:lnTo>
                    <a:lnTo>
                      <a:pt x="5013" y="401"/>
                    </a:lnTo>
                    <a:lnTo>
                      <a:pt x="5100" y="400"/>
                    </a:lnTo>
                    <a:lnTo>
                      <a:pt x="5169" y="398"/>
                    </a:lnTo>
                    <a:lnTo>
                      <a:pt x="5219" y="395"/>
                    </a:lnTo>
                    <a:lnTo>
                      <a:pt x="5250" y="389"/>
                    </a:lnTo>
                    <a:lnTo>
                      <a:pt x="5260" y="381"/>
                    </a:lnTo>
                    <a:close/>
                    <a:moveTo>
                      <a:pt x="5501" y="1060"/>
                    </a:moveTo>
                    <a:lnTo>
                      <a:pt x="5486" y="1051"/>
                    </a:lnTo>
                    <a:lnTo>
                      <a:pt x="5443" y="1040"/>
                    </a:lnTo>
                    <a:lnTo>
                      <a:pt x="5373" y="1030"/>
                    </a:lnTo>
                    <a:lnTo>
                      <a:pt x="5279" y="1020"/>
                    </a:lnTo>
                    <a:lnTo>
                      <a:pt x="5163" y="1008"/>
                    </a:lnTo>
                    <a:lnTo>
                      <a:pt x="5027" y="997"/>
                    </a:lnTo>
                    <a:lnTo>
                      <a:pt x="4872" y="986"/>
                    </a:lnTo>
                    <a:lnTo>
                      <a:pt x="4701" y="974"/>
                    </a:lnTo>
                    <a:lnTo>
                      <a:pt x="4514" y="963"/>
                    </a:lnTo>
                    <a:lnTo>
                      <a:pt x="4315" y="950"/>
                    </a:lnTo>
                    <a:lnTo>
                      <a:pt x="4104" y="939"/>
                    </a:lnTo>
                    <a:lnTo>
                      <a:pt x="3886" y="927"/>
                    </a:lnTo>
                    <a:lnTo>
                      <a:pt x="3427" y="905"/>
                    </a:lnTo>
                    <a:lnTo>
                      <a:pt x="2955" y="883"/>
                    </a:lnTo>
                    <a:lnTo>
                      <a:pt x="2484" y="864"/>
                    </a:lnTo>
                    <a:lnTo>
                      <a:pt x="2031" y="846"/>
                    </a:lnTo>
                    <a:lnTo>
                      <a:pt x="1608" y="832"/>
                    </a:lnTo>
                    <a:lnTo>
                      <a:pt x="1232" y="821"/>
                    </a:lnTo>
                    <a:lnTo>
                      <a:pt x="1065" y="817"/>
                    </a:lnTo>
                    <a:lnTo>
                      <a:pt x="917" y="814"/>
                    </a:lnTo>
                    <a:lnTo>
                      <a:pt x="787" y="812"/>
                    </a:lnTo>
                    <a:lnTo>
                      <a:pt x="679" y="812"/>
                    </a:lnTo>
                    <a:lnTo>
                      <a:pt x="593" y="812"/>
                    </a:lnTo>
                    <a:lnTo>
                      <a:pt x="533" y="814"/>
                    </a:lnTo>
                    <a:lnTo>
                      <a:pt x="499" y="818"/>
                    </a:lnTo>
                    <a:lnTo>
                      <a:pt x="493" y="822"/>
                    </a:lnTo>
                    <a:lnTo>
                      <a:pt x="534" y="836"/>
                    </a:lnTo>
                    <a:lnTo>
                      <a:pt x="600" y="851"/>
                    </a:lnTo>
                    <a:lnTo>
                      <a:pt x="688" y="865"/>
                    </a:lnTo>
                    <a:lnTo>
                      <a:pt x="796" y="878"/>
                    </a:lnTo>
                    <a:lnTo>
                      <a:pt x="925" y="893"/>
                    </a:lnTo>
                    <a:lnTo>
                      <a:pt x="1070" y="907"/>
                    </a:lnTo>
                    <a:lnTo>
                      <a:pt x="1230" y="921"/>
                    </a:lnTo>
                    <a:lnTo>
                      <a:pt x="1406" y="934"/>
                    </a:lnTo>
                    <a:lnTo>
                      <a:pt x="1594" y="948"/>
                    </a:lnTo>
                    <a:lnTo>
                      <a:pt x="1793" y="962"/>
                    </a:lnTo>
                    <a:lnTo>
                      <a:pt x="2000" y="974"/>
                    </a:lnTo>
                    <a:lnTo>
                      <a:pt x="2214" y="987"/>
                    </a:lnTo>
                    <a:lnTo>
                      <a:pt x="2435" y="998"/>
                    </a:lnTo>
                    <a:lnTo>
                      <a:pt x="2660" y="1010"/>
                    </a:lnTo>
                    <a:lnTo>
                      <a:pt x="2888" y="1021"/>
                    </a:lnTo>
                    <a:lnTo>
                      <a:pt x="3116" y="1030"/>
                    </a:lnTo>
                    <a:lnTo>
                      <a:pt x="3343" y="1040"/>
                    </a:lnTo>
                    <a:lnTo>
                      <a:pt x="3567" y="1048"/>
                    </a:lnTo>
                    <a:lnTo>
                      <a:pt x="3788" y="1056"/>
                    </a:lnTo>
                    <a:lnTo>
                      <a:pt x="4002" y="1063"/>
                    </a:lnTo>
                    <a:lnTo>
                      <a:pt x="4208" y="1070"/>
                    </a:lnTo>
                    <a:lnTo>
                      <a:pt x="4405" y="1075"/>
                    </a:lnTo>
                    <a:lnTo>
                      <a:pt x="4592" y="1079"/>
                    </a:lnTo>
                    <a:lnTo>
                      <a:pt x="4766" y="1081"/>
                    </a:lnTo>
                    <a:lnTo>
                      <a:pt x="4925" y="1084"/>
                    </a:lnTo>
                    <a:lnTo>
                      <a:pt x="5069" y="1084"/>
                    </a:lnTo>
                    <a:lnTo>
                      <a:pt x="5194" y="1084"/>
                    </a:lnTo>
                    <a:lnTo>
                      <a:pt x="5301" y="1081"/>
                    </a:lnTo>
                    <a:lnTo>
                      <a:pt x="5387" y="1078"/>
                    </a:lnTo>
                    <a:lnTo>
                      <a:pt x="5450" y="1073"/>
                    </a:lnTo>
                    <a:lnTo>
                      <a:pt x="5488" y="1067"/>
                    </a:lnTo>
                    <a:lnTo>
                      <a:pt x="5501" y="1060"/>
                    </a:lnTo>
                    <a:close/>
                    <a:moveTo>
                      <a:pt x="5215" y="578"/>
                    </a:moveTo>
                    <a:lnTo>
                      <a:pt x="5162" y="568"/>
                    </a:lnTo>
                    <a:lnTo>
                      <a:pt x="5091" y="556"/>
                    </a:lnTo>
                    <a:lnTo>
                      <a:pt x="4999" y="544"/>
                    </a:lnTo>
                    <a:lnTo>
                      <a:pt x="4891" y="530"/>
                    </a:lnTo>
                    <a:lnTo>
                      <a:pt x="4766" y="518"/>
                    </a:lnTo>
                    <a:lnTo>
                      <a:pt x="4627" y="505"/>
                    </a:lnTo>
                    <a:lnTo>
                      <a:pt x="4474" y="492"/>
                    </a:lnTo>
                    <a:lnTo>
                      <a:pt x="4310" y="479"/>
                    </a:lnTo>
                    <a:lnTo>
                      <a:pt x="4135" y="467"/>
                    </a:lnTo>
                    <a:lnTo>
                      <a:pt x="3952" y="454"/>
                    </a:lnTo>
                    <a:lnTo>
                      <a:pt x="3761" y="441"/>
                    </a:lnTo>
                    <a:lnTo>
                      <a:pt x="3565" y="430"/>
                    </a:lnTo>
                    <a:lnTo>
                      <a:pt x="3365" y="420"/>
                    </a:lnTo>
                    <a:lnTo>
                      <a:pt x="3162" y="409"/>
                    </a:lnTo>
                    <a:lnTo>
                      <a:pt x="2956" y="400"/>
                    </a:lnTo>
                    <a:lnTo>
                      <a:pt x="2751" y="392"/>
                    </a:lnTo>
                    <a:lnTo>
                      <a:pt x="2548" y="386"/>
                    </a:lnTo>
                    <a:lnTo>
                      <a:pt x="2348" y="380"/>
                    </a:lnTo>
                    <a:lnTo>
                      <a:pt x="2152" y="375"/>
                    </a:lnTo>
                    <a:lnTo>
                      <a:pt x="1962" y="372"/>
                    </a:lnTo>
                    <a:lnTo>
                      <a:pt x="1780" y="371"/>
                    </a:lnTo>
                    <a:lnTo>
                      <a:pt x="1606" y="371"/>
                    </a:lnTo>
                    <a:lnTo>
                      <a:pt x="1443" y="373"/>
                    </a:lnTo>
                    <a:lnTo>
                      <a:pt x="1291" y="378"/>
                    </a:lnTo>
                    <a:lnTo>
                      <a:pt x="1152" y="383"/>
                    </a:lnTo>
                    <a:lnTo>
                      <a:pt x="1029" y="391"/>
                    </a:lnTo>
                    <a:lnTo>
                      <a:pt x="920" y="401"/>
                    </a:lnTo>
                    <a:lnTo>
                      <a:pt x="830" y="415"/>
                    </a:lnTo>
                    <a:lnTo>
                      <a:pt x="760" y="430"/>
                    </a:lnTo>
                    <a:lnTo>
                      <a:pt x="710" y="448"/>
                    </a:lnTo>
                    <a:lnTo>
                      <a:pt x="681" y="469"/>
                    </a:lnTo>
                    <a:lnTo>
                      <a:pt x="676" y="492"/>
                    </a:lnTo>
                    <a:lnTo>
                      <a:pt x="721" y="497"/>
                    </a:lnTo>
                    <a:lnTo>
                      <a:pt x="781" y="502"/>
                    </a:lnTo>
                    <a:lnTo>
                      <a:pt x="859" y="506"/>
                    </a:lnTo>
                    <a:lnTo>
                      <a:pt x="951" y="511"/>
                    </a:lnTo>
                    <a:lnTo>
                      <a:pt x="1057" y="516"/>
                    </a:lnTo>
                    <a:lnTo>
                      <a:pt x="1176" y="520"/>
                    </a:lnTo>
                    <a:lnTo>
                      <a:pt x="1307" y="524"/>
                    </a:lnTo>
                    <a:lnTo>
                      <a:pt x="1447" y="528"/>
                    </a:lnTo>
                    <a:lnTo>
                      <a:pt x="1757" y="535"/>
                    </a:lnTo>
                    <a:lnTo>
                      <a:pt x="2096" y="542"/>
                    </a:lnTo>
                    <a:lnTo>
                      <a:pt x="2456" y="548"/>
                    </a:lnTo>
                    <a:lnTo>
                      <a:pt x="2829" y="553"/>
                    </a:lnTo>
                    <a:lnTo>
                      <a:pt x="3575" y="562"/>
                    </a:lnTo>
                    <a:lnTo>
                      <a:pt x="4269" y="570"/>
                    </a:lnTo>
                    <a:lnTo>
                      <a:pt x="4837" y="575"/>
                    </a:lnTo>
                    <a:lnTo>
                      <a:pt x="5215" y="578"/>
                    </a:lnTo>
                    <a:close/>
                    <a:moveTo>
                      <a:pt x="5472" y="1301"/>
                    </a:moveTo>
                    <a:lnTo>
                      <a:pt x="5421" y="1287"/>
                    </a:lnTo>
                    <a:lnTo>
                      <a:pt x="5348" y="1273"/>
                    </a:lnTo>
                    <a:lnTo>
                      <a:pt x="5256" y="1261"/>
                    </a:lnTo>
                    <a:lnTo>
                      <a:pt x="5145" y="1248"/>
                    </a:lnTo>
                    <a:lnTo>
                      <a:pt x="5016" y="1235"/>
                    </a:lnTo>
                    <a:lnTo>
                      <a:pt x="4873" y="1224"/>
                    </a:lnTo>
                    <a:lnTo>
                      <a:pt x="4714" y="1214"/>
                    </a:lnTo>
                    <a:lnTo>
                      <a:pt x="4543" y="1204"/>
                    </a:lnTo>
                    <a:lnTo>
                      <a:pt x="4361" y="1194"/>
                    </a:lnTo>
                    <a:lnTo>
                      <a:pt x="4169" y="1185"/>
                    </a:lnTo>
                    <a:lnTo>
                      <a:pt x="3969" y="1177"/>
                    </a:lnTo>
                    <a:lnTo>
                      <a:pt x="3761" y="1169"/>
                    </a:lnTo>
                    <a:lnTo>
                      <a:pt x="3547" y="1162"/>
                    </a:lnTo>
                    <a:lnTo>
                      <a:pt x="3329" y="1156"/>
                    </a:lnTo>
                    <a:lnTo>
                      <a:pt x="3109" y="1150"/>
                    </a:lnTo>
                    <a:lnTo>
                      <a:pt x="2887" y="1145"/>
                    </a:lnTo>
                    <a:lnTo>
                      <a:pt x="2666" y="1142"/>
                    </a:lnTo>
                    <a:lnTo>
                      <a:pt x="2446" y="1139"/>
                    </a:lnTo>
                    <a:lnTo>
                      <a:pt x="2228" y="1136"/>
                    </a:lnTo>
                    <a:lnTo>
                      <a:pt x="2016" y="1134"/>
                    </a:lnTo>
                    <a:lnTo>
                      <a:pt x="1808" y="1134"/>
                    </a:lnTo>
                    <a:lnTo>
                      <a:pt x="1609" y="1133"/>
                    </a:lnTo>
                    <a:lnTo>
                      <a:pt x="1417" y="1134"/>
                    </a:lnTo>
                    <a:lnTo>
                      <a:pt x="1236" y="1136"/>
                    </a:lnTo>
                    <a:lnTo>
                      <a:pt x="1067" y="1139"/>
                    </a:lnTo>
                    <a:lnTo>
                      <a:pt x="910" y="1142"/>
                    </a:lnTo>
                    <a:lnTo>
                      <a:pt x="769" y="1146"/>
                    </a:lnTo>
                    <a:lnTo>
                      <a:pt x="642" y="1151"/>
                    </a:lnTo>
                    <a:lnTo>
                      <a:pt x="533" y="1158"/>
                    </a:lnTo>
                    <a:lnTo>
                      <a:pt x="443" y="1165"/>
                    </a:lnTo>
                    <a:lnTo>
                      <a:pt x="373" y="1173"/>
                    </a:lnTo>
                    <a:lnTo>
                      <a:pt x="324" y="1182"/>
                    </a:lnTo>
                    <a:lnTo>
                      <a:pt x="370" y="1191"/>
                    </a:lnTo>
                    <a:lnTo>
                      <a:pt x="439" y="1200"/>
                    </a:lnTo>
                    <a:lnTo>
                      <a:pt x="528" y="1210"/>
                    </a:lnTo>
                    <a:lnTo>
                      <a:pt x="638" y="1221"/>
                    </a:lnTo>
                    <a:lnTo>
                      <a:pt x="765" y="1231"/>
                    </a:lnTo>
                    <a:lnTo>
                      <a:pt x="909" y="1241"/>
                    </a:lnTo>
                    <a:lnTo>
                      <a:pt x="1067" y="1251"/>
                    </a:lnTo>
                    <a:lnTo>
                      <a:pt x="1240" y="1262"/>
                    </a:lnTo>
                    <a:lnTo>
                      <a:pt x="1423" y="1272"/>
                    </a:lnTo>
                    <a:lnTo>
                      <a:pt x="1617" y="1282"/>
                    </a:lnTo>
                    <a:lnTo>
                      <a:pt x="1821" y="1293"/>
                    </a:lnTo>
                    <a:lnTo>
                      <a:pt x="2032" y="1302"/>
                    </a:lnTo>
                    <a:lnTo>
                      <a:pt x="2249" y="1311"/>
                    </a:lnTo>
                    <a:lnTo>
                      <a:pt x="2469" y="1320"/>
                    </a:lnTo>
                    <a:lnTo>
                      <a:pt x="2693" y="1328"/>
                    </a:lnTo>
                    <a:lnTo>
                      <a:pt x="2918" y="1335"/>
                    </a:lnTo>
                    <a:lnTo>
                      <a:pt x="3143" y="1342"/>
                    </a:lnTo>
                    <a:lnTo>
                      <a:pt x="3367" y="1347"/>
                    </a:lnTo>
                    <a:lnTo>
                      <a:pt x="3587" y="1353"/>
                    </a:lnTo>
                    <a:lnTo>
                      <a:pt x="3802" y="1356"/>
                    </a:lnTo>
                    <a:lnTo>
                      <a:pt x="4012" y="1360"/>
                    </a:lnTo>
                    <a:lnTo>
                      <a:pt x="4213" y="1361"/>
                    </a:lnTo>
                    <a:lnTo>
                      <a:pt x="4405" y="1362"/>
                    </a:lnTo>
                    <a:lnTo>
                      <a:pt x="4587" y="1361"/>
                    </a:lnTo>
                    <a:lnTo>
                      <a:pt x="4757" y="1360"/>
                    </a:lnTo>
                    <a:lnTo>
                      <a:pt x="4913" y="1356"/>
                    </a:lnTo>
                    <a:lnTo>
                      <a:pt x="5053" y="1351"/>
                    </a:lnTo>
                    <a:lnTo>
                      <a:pt x="5176" y="1345"/>
                    </a:lnTo>
                    <a:lnTo>
                      <a:pt x="5281" y="1336"/>
                    </a:lnTo>
                    <a:lnTo>
                      <a:pt x="5366" y="1327"/>
                    </a:lnTo>
                    <a:lnTo>
                      <a:pt x="5431" y="1314"/>
                    </a:lnTo>
                    <a:lnTo>
                      <a:pt x="5472" y="1301"/>
                    </a:lnTo>
                    <a:close/>
                    <a:moveTo>
                      <a:pt x="5219" y="818"/>
                    </a:moveTo>
                    <a:lnTo>
                      <a:pt x="5148" y="810"/>
                    </a:lnTo>
                    <a:lnTo>
                      <a:pt x="5060" y="801"/>
                    </a:lnTo>
                    <a:lnTo>
                      <a:pt x="4956" y="793"/>
                    </a:lnTo>
                    <a:lnTo>
                      <a:pt x="4837" y="785"/>
                    </a:lnTo>
                    <a:lnTo>
                      <a:pt x="4705" y="776"/>
                    </a:lnTo>
                    <a:lnTo>
                      <a:pt x="4562" y="768"/>
                    </a:lnTo>
                    <a:lnTo>
                      <a:pt x="4407" y="760"/>
                    </a:lnTo>
                    <a:lnTo>
                      <a:pt x="4242" y="752"/>
                    </a:lnTo>
                    <a:lnTo>
                      <a:pt x="3889" y="737"/>
                    </a:lnTo>
                    <a:lnTo>
                      <a:pt x="3512" y="723"/>
                    </a:lnTo>
                    <a:lnTo>
                      <a:pt x="3121" y="712"/>
                    </a:lnTo>
                    <a:lnTo>
                      <a:pt x="2725" y="700"/>
                    </a:lnTo>
                    <a:lnTo>
                      <a:pt x="2336" y="691"/>
                    </a:lnTo>
                    <a:lnTo>
                      <a:pt x="1961" y="684"/>
                    </a:lnTo>
                    <a:lnTo>
                      <a:pt x="1783" y="682"/>
                    </a:lnTo>
                    <a:lnTo>
                      <a:pt x="1612" y="681"/>
                    </a:lnTo>
                    <a:lnTo>
                      <a:pt x="1451" y="680"/>
                    </a:lnTo>
                    <a:lnTo>
                      <a:pt x="1299" y="679"/>
                    </a:lnTo>
                    <a:lnTo>
                      <a:pt x="1159" y="680"/>
                    </a:lnTo>
                    <a:lnTo>
                      <a:pt x="1030" y="680"/>
                    </a:lnTo>
                    <a:lnTo>
                      <a:pt x="916" y="682"/>
                    </a:lnTo>
                    <a:lnTo>
                      <a:pt x="817" y="684"/>
                    </a:lnTo>
                    <a:lnTo>
                      <a:pt x="732" y="688"/>
                    </a:lnTo>
                    <a:lnTo>
                      <a:pt x="667" y="692"/>
                    </a:lnTo>
                    <a:lnTo>
                      <a:pt x="619" y="698"/>
                    </a:lnTo>
                    <a:lnTo>
                      <a:pt x="592" y="704"/>
                    </a:lnTo>
                    <a:lnTo>
                      <a:pt x="638" y="711"/>
                    </a:lnTo>
                    <a:lnTo>
                      <a:pt x="704" y="718"/>
                    </a:lnTo>
                    <a:lnTo>
                      <a:pt x="789" y="724"/>
                    </a:lnTo>
                    <a:lnTo>
                      <a:pt x="892" y="733"/>
                    </a:lnTo>
                    <a:lnTo>
                      <a:pt x="1144" y="752"/>
                    </a:lnTo>
                    <a:lnTo>
                      <a:pt x="1451" y="772"/>
                    </a:lnTo>
                    <a:lnTo>
                      <a:pt x="1798" y="794"/>
                    </a:lnTo>
                    <a:lnTo>
                      <a:pt x="2178" y="816"/>
                    </a:lnTo>
                    <a:lnTo>
                      <a:pt x="2375" y="826"/>
                    </a:lnTo>
                    <a:lnTo>
                      <a:pt x="2577" y="836"/>
                    </a:lnTo>
                    <a:lnTo>
                      <a:pt x="2781" y="845"/>
                    </a:lnTo>
                    <a:lnTo>
                      <a:pt x="2985" y="854"/>
                    </a:lnTo>
                    <a:lnTo>
                      <a:pt x="3189" y="862"/>
                    </a:lnTo>
                    <a:lnTo>
                      <a:pt x="3391" y="870"/>
                    </a:lnTo>
                    <a:lnTo>
                      <a:pt x="3589" y="876"/>
                    </a:lnTo>
                    <a:lnTo>
                      <a:pt x="3783" y="882"/>
                    </a:lnTo>
                    <a:lnTo>
                      <a:pt x="3970" y="885"/>
                    </a:lnTo>
                    <a:lnTo>
                      <a:pt x="4150" y="889"/>
                    </a:lnTo>
                    <a:lnTo>
                      <a:pt x="4320" y="890"/>
                    </a:lnTo>
                    <a:lnTo>
                      <a:pt x="4481" y="890"/>
                    </a:lnTo>
                    <a:lnTo>
                      <a:pt x="4629" y="888"/>
                    </a:lnTo>
                    <a:lnTo>
                      <a:pt x="4764" y="884"/>
                    </a:lnTo>
                    <a:lnTo>
                      <a:pt x="4884" y="878"/>
                    </a:lnTo>
                    <a:lnTo>
                      <a:pt x="4989" y="870"/>
                    </a:lnTo>
                    <a:lnTo>
                      <a:pt x="5076" y="861"/>
                    </a:lnTo>
                    <a:lnTo>
                      <a:pt x="5144" y="849"/>
                    </a:lnTo>
                    <a:lnTo>
                      <a:pt x="5193" y="835"/>
                    </a:lnTo>
                    <a:lnTo>
                      <a:pt x="5219" y="818"/>
                    </a:lnTo>
                    <a:close/>
                    <a:moveTo>
                      <a:pt x="5330" y="1668"/>
                    </a:moveTo>
                    <a:lnTo>
                      <a:pt x="5191" y="1660"/>
                    </a:lnTo>
                    <a:lnTo>
                      <a:pt x="4966" y="1648"/>
                    </a:lnTo>
                    <a:lnTo>
                      <a:pt x="4670" y="1635"/>
                    </a:lnTo>
                    <a:lnTo>
                      <a:pt x="4315" y="1619"/>
                    </a:lnTo>
                    <a:lnTo>
                      <a:pt x="3913" y="1602"/>
                    </a:lnTo>
                    <a:lnTo>
                      <a:pt x="3477" y="1583"/>
                    </a:lnTo>
                    <a:lnTo>
                      <a:pt x="3019" y="1565"/>
                    </a:lnTo>
                    <a:lnTo>
                      <a:pt x="2553" y="1549"/>
                    </a:lnTo>
                    <a:lnTo>
                      <a:pt x="2089" y="1534"/>
                    </a:lnTo>
                    <a:lnTo>
                      <a:pt x="1642" y="1523"/>
                    </a:lnTo>
                    <a:lnTo>
                      <a:pt x="1428" y="1518"/>
                    </a:lnTo>
                    <a:lnTo>
                      <a:pt x="1224" y="1514"/>
                    </a:lnTo>
                    <a:lnTo>
                      <a:pt x="1029" y="1512"/>
                    </a:lnTo>
                    <a:lnTo>
                      <a:pt x="846" y="1509"/>
                    </a:lnTo>
                    <a:lnTo>
                      <a:pt x="676" y="1509"/>
                    </a:lnTo>
                    <a:lnTo>
                      <a:pt x="523" y="1510"/>
                    </a:lnTo>
                    <a:lnTo>
                      <a:pt x="385" y="1514"/>
                    </a:lnTo>
                    <a:lnTo>
                      <a:pt x="266" y="1517"/>
                    </a:lnTo>
                    <a:lnTo>
                      <a:pt x="166" y="1523"/>
                    </a:lnTo>
                    <a:lnTo>
                      <a:pt x="87" y="1531"/>
                    </a:lnTo>
                    <a:lnTo>
                      <a:pt x="32" y="1540"/>
                    </a:lnTo>
                    <a:lnTo>
                      <a:pt x="0" y="1552"/>
                    </a:lnTo>
                    <a:lnTo>
                      <a:pt x="48" y="1561"/>
                    </a:lnTo>
                    <a:lnTo>
                      <a:pt x="119" y="1571"/>
                    </a:lnTo>
                    <a:lnTo>
                      <a:pt x="212" y="1581"/>
                    </a:lnTo>
                    <a:lnTo>
                      <a:pt x="328" y="1591"/>
                    </a:lnTo>
                    <a:lnTo>
                      <a:pt x="462" y="1602"/>
                    </a:lnTo>
                    <a:lnTo>
                      <a:pt x="614" y="1612"/>
                    </a:lnTo>
                    <a:lnTo>
                      <a:pt x="781" y="1623"/>
                    </a:lnTo>
                    <a:lnTo>
                      <a:pt x="963" y="1634"/>
                    </a:lnTo>
                    <a:lnTo>
                      <a:pt x="1158" y="1645"/>
                    </a:lnTo>
                    <a:lnTo>
                      <a:pt x="1363" y="1655"/>
                    </a:lnTo>
                    <a:lnTo>
                      <a:pt x="1578" y="1666"/>
                    </a:lnTo>
                    <a:lnTo>
                      <a:pt x="1800" y="1676"/>
                    </a:lnTo>
                    <a:lnTo>
                      <a:pt x="2030" y="1685"/>
                    </a:lnTo>
                    <a:lnTo>
                      <a:pt x="2262" y="1694"/>
                    </a:lnTo>
                    <a:lnTo>
                      <a:pt x="2498" y="1702"/>
                    </a:lnTo>
                    <a:lnTo>
                      <a:pt x="2735" y="1710"/>
                    </a:lnTo>
                    <a:lnTo>
                      <a:pt x="2971" y="1717"/>
                    </a:lnTo>
                    <a:lnTo>
                      <a:pt x="3206" y="1724"/>
                    </a:lnTo>
                    <a:lnTo>
                      <a:pt x="3436" y="1728"/>
                    </a:lnTo>
                    <a:lnTo>
                      <a:pt x="3661" y="1732"/>
                    </a:lnTo>
                    <a:lnTo>
                      <a:pt x="3879" y="1735"/>
                    </a:lnTo>
                    <a:lnTo>
                      <a:pt x="4087" y="1737"/>
                    </a:lnTo>
                    <a:lnTo>
                      <a:pt x="4286" y="1737"/>
                    </a:lnTo>
                    <a:lnTo>
                      <a:pt x="4473" y="1736"/>
                    </a:lnTo>
                    <a:lnTo>
                      <a:pt x="4645" y="1734"/>
                    </a:lnTo>
                    <a:lnTo>
                      <a:pt x="4802" y="1729"/>
                    </a:lnTo>
                    <a:lnTo>
                      <a:pt x="4942" y="1724"/>
                    </a:lnTo>
                    <a:lnTo>
                      <a:pt x="5064" y="1717"/>
                    </a:lnTo>
                    <a:lnTo>
                      <a:pt x="5165" y="1708"/>
                    </a:lnTo>
                    <a:lnTo>
                      <a:pt x="5244" y="1696"/>
                    </a:lnTo>
                    <a:lnTo>
                      <a:pt x="5300" y="1683"/>
                    </a:lnTo>
                    <a:lnTo>
                      <a:pt x="5330" y="1668"/>
                    </a:lnTo>
                    <a:close/>
                    <a:moveTo>
                      <a:pt x="5270" y="686"/>
                    </a:moveTo>
                    <a:lnTo>
                      <a:pt x="5086" y="679"/>
                    </a:lnTo>
                    <a:lnTo>
                      <a:pt x="4596" y="663"/>
                    </a:lnTo>
                    <a:lnTo>
                      <a:pt x="4265" y="652"/>
                    </a:lnTo>
                    <a:lnTo>
                      <a:pt x="3895" y="642"/>
                    </a:lnTo>
                    <a:lnTo>
                      <a:pt x="3495" y="631"/>
                    </a:lnTo>
                    <a:lnTo>
                      <a:pt x="3077" y="621"/>
                    </a:lnTo>
                    <a:lnTo>
                      <a:pt x="2654" y="611"/>
                    </a:lnTo>
                    <a:lnTo>
                      <a:pt x="2238" y="603"/>
                    </a:lnTo>
                    <a:lnTo>
                      <a:pt x="2036" y="600"/>
                    </a:lnTo>
                    <a:lnTo>
                      <a:pt x="1839" y="598"/>
                    </a:lnTo>
                    <a:lnTo>
                      <a:pt x="1651" y="597"/>
                    </a:lnTo>
                    <a:lnTo>
                      <a:pt x="1471" y="595"/>
                    </a:lnTo>
                    <a:lnTo>
                      <a:pt x="1302" y="595"/>
                    </a:lnTo>
                    <a:lnTo>
                      <a:pt x="1145" y="597"/>
                    </a:lnTo>
                    <a:lnTo>
                      <a:pt x="1001" y="598"/>
                    </a:lnTo>
                    <a:lnTo>
                      <a:pt x="871" y="601"/>
                    </a:lnTo>
                    <a:lnTo>
                      <a:pt x="760" y="605"/>
                    </a:lnTo>
                    <a:lnTo>
                      <a:pt x="664" y="610"/>
                    </a:lnTo>
                    <a:lnTo>
                      <a:pt x="589" y="617"/>
                    </a:lnTo>
                    <a:lnTo>
                      <a:pt x="534" y="625"/>
                    </a:lnTo>
                    <a:lnTo>
                      <a:pt x="5270" y="686"/>
                    </a:lnTo>
                    <a:close/>
                    <a:moveTo>
                      <a:pt x="5144" y="1530"/>
                    </a:moveTo>
                    <a:lnTo>
                      <a:pt x="5163" y="1529"/>
                    </a:lnTo>
                    <a:lnTo>
                      <a:pt x="5153" y="1526"/>
                    </a:lnTo>
                    <a:lnTo>
                      <a:pt x="5118" y="1524"/>
                    </a:lnTo>
                    <a:lnTo>
                      <a:pt x="5057" y="1520"/>
                    </a:lnTo>
                    <a:lnTo>
                      <a:pt x="4868" y="1510"/>
                    </a:lnTo>
                    <a:lnTo>
                      <a:pt x="4601" y="1498"/>
                    </a:lnTo>
                    <a:lnTo>
                      <a:pt x="3887" y="1468"/>
                    </a:lnTo>
                    <a:lnTo>
                      <a:pt x="3024" y="1431"/>
                    </a:lnTo>
                    <a:lnTo>
                      <a:pt x="2570" y="1410"/>
                    </a:lnTo>
                    <a:lnTo>
                      <a:pt x="2121" y="1390"/>
                    </a:lnTo>
                    <a:lnTo>
                      <a:pt x="1689" y="1368"/>
                    </a:lnTo>
                    <a:lnTo>
                      <a:pt x="1289" y="1345"/>
                    </a:lnTo>
                    <a:lnTo>
                      <a:pt x="1104" y="1335"/>
                    </a:lnTo>
                    <a:lnTo>
                      <a:pt x="933" y="1323"/>
                    </a:lnTo>
                    <a:lnTo>
                      <a:pt x="776" y="1313"/>
                    </a:lnTo>
                    <a:lnTo>
                      <a:pt x="635" y="1303"/>
                    </a:lnTo>
                    <a:lnTo>
                      <a:pt x="513" y="1293"/>
                    </a:lnTo>
                    <a:lnTo>
                      <a:pt x="412" y="1282"/>
                    </a:lnTo>
                    <a:lnTo>
                      <a:pt x="331" y="1272"/>
                    </a:lnTo>
                    <a:lnTo>
                      <a:pt x="274" y="1262"/>
                    </a:lnTo>
                    <a:lnTo>
                      <a:pt x="5144" y="1530"/>
                    </a:lnTo>
                    <a:close/>
                    <a:moveTo>
                      <a:pt x="5371" y="185"/>
                    </a:moveTo>
                    <a:lnTo>
                      <a:pt x="5201" y="174"/>
                    </a:lnTo>
                    <a:lnTo>
                      <a:pt x="4749" y="146"/>
                    </a:lnTo>
                    <a:lnTo>
                      <a:pt x="4444" y="128"/>
                    </a:lnTo>
                    <a:lnTo>
                      <a:pt x="4102" y="107"/>
                    </a:lnTo>
                    <a:lnTo>
                      <a:pt x="3734" y="87"/>
                    </a:lnTo>
                    <a:lnTo>
                      <a:pt x="3350" y="66"/>
                    </a:lnTo>
                    <a:lnTo>
                      <a:pt x="2961" y="48"/>
                    </a:lnTo>
                    <a:lnTo>
                      <a:pt x="2578" y="31"/>
                    </a:lnTo>
                    <a:lnTo>
                      <a:pt x="2392" y="23"/>
                    </a:lnTo>
                    <a:lnTo>
                      <a:pt x="2212" y="16"/>
                    </a:lnTo>
                    <a:lnTo>
                      <a:pt x="2040" y="10"/>
                    </a:lnTo>
                    <a:lnTo>
                      <a:pt x="1875" y="6"/>
                    </a:lnTo>
                    <a:lnTo>
                      <a:pt x="1721" y="3"/>
                    </a:lnTo>
                    <a:lnTo>
                      <a:pt x="1577" y="1"/>
                    </a:lnTo>
                    <a:lnTo>
                      <a:pt x="1446" y="0"/>
                    </a:lnTo>
                    <a:lnTo>
                      <a:pt x="1329" y="1"/>
                    </a:lnTo>
                    <a:lnTo>
                      <a:pt x="1227" y="4"/>
                    </a:lnTo>
                    <a:lnTo>
                      <a:pt x="1142" y="9"/>
                    </a:lnTo>
                    <a:lnTo>
                      <a:pt x="1074" y="15"/>
                    </a:lnTo>
                    <a:lnTo>
                      <a:pt x="1026" y="24"/>
                    </a:lnTo>
                    <a:lnTo>
                      <a:pt x="5371" y="1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3897360" y="4559400"/>
                <a:ext cx="1333440" cy="120600"/>
              </a:xfrm>
              <a:custGeom>
                <a:avLst/>
                <a:gdLst/>
                <a:ahLst/>
                <a:rect l="l" t="t" r="r" b="b"/>
                <a:pathLst>
                  <a:path w="4201" h="380">
                    <a:moveTo>
                      <a:pt x="47" y="45"/>
                    </a:moveTo>
                    <a:lnTo>
                      <a:pt x="65" y="62"/>
                    </a:lnTo>
                    <a:lnTo>
                      <a:pt x="66" y="67"/>
                    </a:lnTo>
                    <a:lnTo>
                      <a:pt x="66" y="75"/>
                    </a:lnTo>
                    <a:lnTo>
                      <a:pt x="62" y="83"/>
                    </a:lnTo>
                    <a:lnTo>
                      <a:pt x="60" y="87"/>
                    </a:lnTo>
                    <a:lnTo>
                      <a:pt x="59" y="88"/>
                    </a:lnTo>
                    <a:lnTo>
                      <a:pt x="61" y="87"/>
                    </a:lnTo>
                    <a:lnTo>
                      <a:pt x="65" y="85"/>
                    </a:lnTo>
                    <a:lnTo>
                      <a:pt x="70" y="83"/>
                    </a:lnTo>
                    <a:lnTo>
                      <a:pt x="88" y="79"/>
                    </a:lnTo>
                    <a:lnTo>
                      <a:pt x="110" y="75"/>
                    </a:lnTo>
                    <a:lnTo>
                      <a:pt x="138" y="73"/>
                    </a:lnTo>
                    <a:lnTo>
                      <a:pt x="171" y="71"/>
                    </a:lnTo>
                    <a:lnTo>
                      <a:pt x="208" y="69"/>
                    </a:lnTo>
                    <a:lnTo>
                      <a:pt x="249" y="67"/>
                    </a:lnTo>
                    <a:lnTo>
                      <a:pt x="295" y="67"/>
                    </a:lnTo>
                    <a:lnTo>
                      <a:pt x="345" y="67"/>
                    </a:lnTo>
                    <a:lnTo>
                      <a:pt x="456" y="70"/>
                    </a:lnTo>
                    <a:lnTo>
                      <a:pt x="580" y="74"/>
                    </a:lnTo>
                    <a:lnTo>
                      <a:pt x="716" y="81"/>
                    </a:lnTo>
                    <a:lnTo>
                      <a:pt x="863" y="89"/>
                    </a:lnTo>
                    <a:lnTo>
                      <a:pt x="1019" y="99"/>
                    </a:lnTo>
                    <a:lnTo>
                      <a:pt x="1184" y="111"/>
                    </a:lnTo>
                    <a:lnTo>
                      <a:pt x="1356" y="123"/>
                    </a:lnTo>
                    <a:lnTo>
                      <a:pt x="1533" y="137"/>
                    </a:lnTo>
                    <a:lnTo>
                      <a:pt x="1715" y="152"/>
                    </a:lnTo>
                    <a:lnTo>
                      <a:pt x="1900" y="168"/>
                    </a:lnTo>
                    <a:lnTo>
                      <a:pt x="2273" y="200"/>
                    </a:lnTo>
                    <a:lnTo>
                      <a:pt x="2642" y="234"/>
                    </a:lnTo>
                    <a:lnTo>
                      <a:pt x="2997" y="268"/>
                    </a:lnTo>
                    <a:lnTo>
                      <a:pt x="3327" y="299"/>
                    </a:lnTo>
                    <a:lnTo>
                      <a:pt x="3623" y="328"/>
                    </a:lnTo>
                    <a:lnTo>
                      <a:pt x="3873" y="352"/>
                    </a:lnTo>
                    <a:lnTo>
                      <a:pt x="4067" y="370"/>
                    </a:lnTo>
                    <a:lnTo>
                      <a:pt x="4196" y="380"/>
                    </a:lnTo>
                    <a:lnTo>
                      <a:pt x="4201" y="313"/>
                    </a:lnTo>
                    <a:lnTo>
                      <a:pt x="4073" y="302"/>
                    </a:lnTo>
                    <a:lnTo>
                      <a:pt x="3879" y="285"/>
                    </a:lnTo>
                    <a:lnTo>
                      <a:pt x="3630" y="261"/>
                    </a:lnTo>
                    <a:lnTo>
                      <a:pt x="3334" y="233"/>
                    </a:lnTo>
                    <a:lnTo>
                      <a:pt x="3004" y="201"/>
                    </a:lnTo>
                    <a:lnTo>
                      <a:pt x="2648" y="167"/>
                    </a:lnTo>
                    <a:lnTo>
                      <a:pt x="2279" y="134"/>
                    </a:lnTo>
                    <a:lnTo>
                      <a:pt x="1906" y="101"/>
                    </a:lnTo>
                    <a:lnTo>
                      <a:pt x="1720" y="85"/>
                    </a:lnTo>
                    <a:lnTo>
                      <a:pt x="1539" y="70"/>
                    </a:lnTo>
                    <a:lnTo>
                      <a:pt x="1361" y="56"/>
                    </a:lnTo>
                    <a:lnTo>
                      <a:pt x="1189" y="43"/>
                    </a:lnTo>
                    <a:lnTo>
                      <a:pt x="1023" y="32"/>
                    </a:lnTo>
                    <a:lnTo>
                      <a:pt x="866" y="22"/>
                    </a:lnTo>
                    <a:lnTo>
                      <a:pt x="719" y="14"/>
                    </a:lnTo>
                    <a:lnTo>
                      <a:pt x="582" y="7"/>
                    </a:lnTo>
                    <a:lnTo>
                      <a:pt x="457" y="2"/>
                    </a:lnTo>
                    <a:lnTo>
                      <a:pt x="346" y="0"/>
                    </a:lnTo>
                    <a:lnTo>
                      <a:pt x="295" y="0"/>
                    </a:lnTo>
                    <a:lnTo>
                      <a:pt x="248" y="0"/>
                    </a:lnTo>
                    <a:lnTo>
                      <a:pt x="206" y="1"/>
                    </a:lnTo>
                    <a:lnTo>
                      <a:pt x="167" y="4"/>
                    </a:lnTo>
                    <a:lnTo>
                      <a:pt x="132" y="6"/>
                    </a:lnTo>
                    <a:lnTo>
                      <a:pt x="101" y="9"/>
                    </a:lnTo>
                    <a:lnTo>
                      <a:pt x="75" y="13"/>
                    </a:lnTo>
                    <a:lnTo>
                      <a:pt x="53" y="17"/>
                    </a:lnTo>
                    <a:lnTo>
                      <a:pt x="42" y="22"/>
                    </a:lnTo>
                    <a:lnTo>
                      <a:pt x="33" y="25"/>
                    </a:lnTo>
                    <a:lnTo>
                      <a:pt x="24" y="30"/>
                    </a:lnTo>
                    <a:lnTo>
                      <a:pt x="15" y="37"/>
                    </a:lnTo>
                    <a:lnTo>
                      <a:pt x="5" y="47"/>
                    </a:lnTo>
                    <a:lnTo>
                      <a:pt x="0" y="62"/>
                    </a:lnTo>
                    <a:lnTo>
                      <a:pt x="0" y="78"/>
                    </a:lnTo>
                    <a:lnTo>
                      <a:pt x="4" y="91"/>
                    </a:lnTo>
                    <a:lnTo>
                      <a:pt x="23" y="109"/>
                    </a:lnTo>
                    <a:lnTo>
                      <a:pt x="4" y="91"/>
                    </a:lnTo>
                    <a:lnTo>
                      <a:pt x="8" y="98"/>
                    </a:lnTo>
                    <a:lnTo>
                      <a:pt x="12" y="103"/>
                    </a:lnTo>
                    <a:lnTo>
                      <a:pt x="18" y="107"/>
                    </a:lnTo>
                    <a:lnTo>
                      <a:pt x="24" y="110"/>
                    </a:lnTo>
                    <a:lnTo>
                      <a:pt x="31" y="111"/>
                    </a:lnTo>
                    <a:lnTo>
                      <a:pt x="36" y="111"/>
                    </a:lnTo>
                    <a:lnTo>
                      <a:pt x="43" y="109"/>
                    </a:lnTo>
                    <a:lnTo>
                      <a:pt x="49" y="106"/>
                    </a:lnTo>
                    <a:lnTo>
                      <a:pt x="54" y="104"/>
                    </a:lnTo>
                    <a:lnTo>
                      <a:pt x="59" y="99"/>
                    </a:lnTo>
                    <a:lnTo>
                      <a:pt x="62" y="95"/>
                    </a:lnTo>
                    <a:lnTo>
                      <a:pt x="66" y="89"/>
                    </a:lnTo>
                    <a:lnTo>
                      <a:pt x="68" y="83"/>
                    </a:lnTo>
                    <a:lnTo>
                      <a:pt x="68" y="77"/>
                    </a:lnTo>
                    <a:lnTo>
                      <a:pt x="67" y="70"/>
                    </a:lnTo>
                    <a:lnTo>
                      <a:pt x="65" y="62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3903840" y="4573440"/>
                <a:ext cx="1336320" cy="113040"/>
              </a:xfrm>
              <a:custGeom>
                <a:avLst/>
                <a:gdLst/>
                <a:ahLst/>
                <a:rect l="l" t="t" r="r" b="b"/>
                <a:pathLst>
                  <a:path w="4208" h="356">
                    <a:moveTo>
                      <a:pt x="4173" y="335"/>
                    </a:moveTo>
                    <a:lnTo>
                      <a:pt x="4142" y="309"/>
                    </a:lnTo>
                    <a:lnTo>
                      <a:pt x="4145" y="289"/>
                    </a:lnTo>
                    <a:lnTo>
                      <a:pt x="4151" y="279"/>
                    </a:lnTo>
                    <a:lnTo>
                      <a:pt x="4156" y="278"/>
                    </a:lnTo>
                    <a:lnTo>
                      <a:pt x="4156" y="277"/>
                    </a:lnTo>
                    <a:lnTo>
                      <a:pt x="4147" y="279"/>
                    </a:lnTo>
                    <a:lnTo>
                      <a:pt x="4131" y="281"/>
                    </a:lnTo>
                    <a:lnTo>
                      <a:pt x="4109" y="284"/>
                    </a:lnTo>
                    <a:lnTo>
                      <a:pt x="4082" y="286"/>
                    </a:lnTo>
                    <a:lnTo>
                      <a:pt x="4050" y="287"/>
                    </a:lnTo>
                    <a:lnTo>
                      <a:pt x="4015" y="288"/>
                    </a:lnTo>
                    <a:lnTo>
                      <a:pt x="3928" y="288"/>
                    </a:lnTo>
                    <a:lnTo>
                      <a:pt x="3825" y="288"/>
                    </a:lnTo>
                    <a:lnTo>
                      <a:pt x="3709" y="285"/>
                    </a:lnTo>
                    <a:lnTo>
                      <a:pt x="3578" y="281"/>
                    </a:lnTo>
                    <a:lnTo>
                      <a:pt x="3436" y="277"/>
                    </a:lnTo>
                    <a:lnTo>
                      <a:pt x="3283" y="270"/>
                    </a:lnTo>
                    <a:lnTo>
                      <a:pt x="3121" y="263"/>
                    </a:lnTo>
                    <a:lnTo>
                      <a:pt x="2952" y="255"/>
                    </a:lnTo>
                    <a:lnTo>
                      <a:pt x="2775" y="246"/>
                    </a:lnTo>
                    <a:lnTo>
                      <a:pt x="2594" y="236"/>
                    </a:lnTo>
                    <a:lnTo>
                      <a:pt x="2410" y="224"/>
                    </a:lnTo>
                    <a:lnTo>
                      <a:pt x="2221" y="213"/>
                    </a:lnTo>
                    <a:lnTo>
                      <a:pt x="2033" y="200"/>
                    </a:lnTo>
                    <a:lnTo>
                      <a:pt x="1845" y="188"/>
                    </a:lnTo>
                    <a:lnTo>
                      <a:pt x="1659" y="174"/>
                    </a:lnTo>
                    <a:lnTo>
                      <a:pt x="1476" y="160"/>
                    </a:lnTo>
                    <a:lnTo>
                      <a:pt x="1297" y="147"/>
                    </a:lnTo>
                    <a:lnTo>
                      <a:pt x="1125" y="133"/>
                    </a:lnTo>
                    <a:lnTo>
                      <a:pt x="959" y="118"/>
                    </a:lnTo>
                    <a:lnTo>
                      <a:pt x="802" y="105"/>
                    </a:lnTo>
                    <a:lnTo>
                      <a:pt x="655" y="90"/>
                    </a:lnTo>
                    <a:lnTo>
                      <a:pt x="518" y="76"/>
                    </a:lnTo>
                    <a:lnTo>
                      <a:pt x="396" y="61"/>
                    </a:lnTo>
                    <a:lnTo>
                      <a:pt x="287" y="48"/>
                    </a:lnTo>
                    <a:lnTo>
                      <a:pt x="193" y="35"/>
                    </a:lnTo>
                    <a:lnTo>
                      <a:pt x="116" y="22"/>
                    </a:lnTo>
                    <a:lnTo>
                      <a:pt x="85" y="17"/>
                    </a:lnTo>
                    <a:lnTo>
                      <a:pt x="59" y="10"/>
                    </a:lnTo>
                    <a:lnTo>
                      <a:pt x="38" y="5"/>
                    </a:lnTo>
                    <a:lnTo>
                      <a:pt x="24" y="0"/>
                    </a:lnTo>
                    <a:lnTo>
                      <a:pt x="0" y="64"/>
                    </a:lnTo>
                    <a:lnTo>
                      <a:pt x="19" y="69"/>
                    </a:lnTo>
                    <a:lnTo>
                      <a:pt x="43" y="76"/>
                    </a:lnTo>
                    <a:lnTo>
                      <a:pt x="71" y="82"/>
                    </a:lnTo>
                    <a:lnTo>
                      <a:pt x="104" y="89"/>
                    </a:lnTo>
                    <a:lnTo>
                      <a:pt x="183" y="101"/>
                    </a:lnTo>
                    <a:lnTo>
                      <a:pt x="278" y="115"/>
                    </a:lnTo>
                    <a:lnTo>
                      <a:pt x="388" y="129"/>
                    </a:lnTo>
                    <a:lnTo>
                      <a:pt x="511" y="142"/>
                    </a:lnTo>
                    <a:lnTo>
                      <a:pt x="648" y="157"/>
                    </a:lnTo>
                    <a:lnTo>
                      <a:pt x="795" y="171"/>
                    </a:lnTo>
                    <a:lnTo>
                      <a:pt x="953" y="186"/>
                    </a:lnTo>
                    <a:lnTo>
                      <a:pt x="1119" y="200"/>
                    </a:lnTo>
                    <a:lnTo>
                      <a:pt x="1292" y="214"/>
                    </a:lnTo>
                    <a:lnTo>
                      <a:pt x="1471" y="228"/>
                    </a:lnTo>
                    <a:lnTo>
                      <a:pt x="1655" y="241"/>
                    </a:lnTo>
                    <a:lnTo>
                      <a:pt x="1841" y="255"/>
                    </a:lnTo>
                    <a:lnTo>
                      <a:pt x="2029" y="268"/>
                    </a:lnTo>
                    <a:lnTo>
                      <a:pt x="2218" y="280"/>
                    </a:lnTo>
                    <a:lnTo>
                      <a:pt x="2405" y="292"/>
                    </a:lnTo>
                    <a:lnTo>
                      <a:pt x="2591" y="303"/>
                    </a:lnTo>
                    <a:lnTo>
                      <a:pt x="2772" y="313"/>
                    </a:lnTo>
                    <a:lnTo>
                      <a:pt x="2949" y="322"/>
                    </a:lnTo>
                    <a:lnTo>
                      <a:pt x="3119" y="330"/>
                    </a:lnTo>
                    <a:lnTo>
                      <a:pt x="3280" y="337"/>
                    </a:lnTo>
                    <a:lnTo>
                      <a:pt x="3433" y="344"/>
                    </a:lnTo>
                    <a:lnTo>
                      <a:pt x="3576" y="349"/>
                    </a:lnTo>
                    <a:lnTo>
                      <a:pt x="3707" y="352"/>
                    </a:lnTo>
                    <a:lnTo>
                      <a:pt x="3824" y="356"/>
                    </a:lnTo>
                    <a:lnTo>
                      <a:pt x="3928" y="356"/>
                    </a:lnTo>
                    <a:lnTo>
                      <a:pt x="4015" y="356"/>
                    </a:lnTo>
                    <a:lnTo>
                      <a:pt x="4052" y="354"/>
                    </a:lnTo>
                    <a:lnTo>
                      <a:pt x="4085" y="353"/>
                    </a:lnTo>
                    <a:lnTo>
                      <a:pt x="4115" y="351"/>
                    </a:lnTo>
                    <a:lnTo>
                      <a:pt x="4139" y="349"/>
                    </a:lnTo>
                    <a:lnTo>
                      <a:pt x="4159" y="345"/>
                    </a:lnTo>
                    <a:lnTo>
                      <a:pt x="4174" y="342"/>
                    </a:lnTo>
                    <a:lnTo>
                      <a:pt x="4185" y="338"/>
                    </a:lnTo>
                    <a:lnTo>
                      <a:pt x="4195" y="333"/>
                    </a:lnTo>
                    <a:lnTo>
                      <a:pt x="4205" y="318"/>
                    </a:lnTo>
                    <a:lnTo>
                      <a:pt x="4208" y="295"/>
                    </a:lnTo>
                    <a:lnTo>
                      <a:pt x="4178" y="268"/>
                    </a:lnTo>
                    <a:lnTo>
                      <a:pt x="4208" y="295"/>
                    </a:lnTo>
                    <a:lnTo>
                      <a:pt x="4206" y="287"/>
                    </a:lnTo>
                    <a:lnTo>
                      <a:pt x="4202" y="281"/>
                    </a:lnTo>
                    <a:lnTo>
                      <a:pt x="4198" y="276"/>
                    </a:lnTo>
                    <a:lnTo>
                      <a:pt x="4192" y="272"/>
                    </a:lnTo>
                    <a:lnTo>
                      <a:pt x="4187" y="270"/>
                    </a:lnTo>
                    <a:lnTo>
                      <a:pt x="4181" y="269"/>
                    </a:lnTo>
                    <a:lnTo>
                      <a:pt x="4174" y="268"/>
                    </a:lnTo>
                    <a:lnTo>
                      <a:pt x="4169" y="269"/>
                    </a:lnTo>
                    <a:lnTo>
                      <a:pt x="4162" y="271"/>
                    </a:lnTo>
                    <a:lnTo>
                      <a:pt x="4156" y="273"/>
                    </a:lnTo>
                    <a:lnTo>
                      <a:pt x="4151" y="277"/>
                    </a:lnTo>
                    <a:lnTo>
                      <a:pt x="4147" y="281"/>
                    </a:lnTo>
                    <a:lnTo>
                      <a:pt x="4143" y="287"/>
                    </a:lnTo>
                    <a:lnTo>
                      <a:pt x="4142" y="294"/>
                    </a:lnTo>
                    <a:lnTo>
                      <a:pt x="4141" y="301"/>
                    </a:lnTo>
                    <a:lnTo>
                      <a:pt x="4142" y="309"/>
                    </a:lnTo>
                    <a:lnTo>
                      <a:pt x="4173" y="3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3705120" y="4795920"/>
                <a:ext cx="1611360" cy="96840"/>
              </a:xfrm>
              <a:custGeom>
                <a:avLst/>
                <a:gdLst/>
                <a:ahLst/>
                <a:rect l="l" t="t" r="r" b="b"/>
                <a:pathLst>
                  <a:path w="5075" h="306">
                    <a:moveTo>
                      <a:pt x="48" y="15"/>
                    </a:moveTo>
                    <a:lnTo>
                      <a:pt x="50" y="16"/>
                    </a:lnTo>
                    <a:lnTo>
                      <a:pt x="63" y="31"/>
                    </a:lnTo>
                    <a:lnTo>
                      <a:pt x="55" y="67"/>
                    </a:lnTo>
                    <a:lnTo>
                      <a:pt x="45" y="73"/>
                    </a:lnTo>
                    <a:lnTo>
                      <a:pt x="44" y="73"/>
                    </a:lnTo>
                    <a:lnTo>
                      <a:pt x="56" y="72"/>
                    </a:lnTo>
                    <a:lnTo>
                      <a:pt x="74" y="70"/>
                    </a:lnTo>
                    <a:lnTo>
                      <a:pt x="133" y="68"/>
                    </a:lnTo>
                    <a:lnTo>
                      <a:pt x="219" y="67"/>
                    </a:lnTo>
                    <a:lnTo>
                      <a:pt x="327" y="68"/>
                    </a:lnTo>
                    <a:lnTo>
                      <a:pt x="456" y="70"/>
                    </a:lnTo>
                    <a:lnTo>
                      <a:pt x="605" y="73"/>
                    </a:lnTo>
                    <a:lnTo>
                      <a:pt x="770" y="76"/>
                    </a:lnTo>
                    <a:lnTo>
                      <a:pt x="1147" y="88"/>
                    </a:lnTo>
                    <a:lnTo>
                      <a:pt x="1570" y="102"/>
                    </a:lnTo>
                    <a:lnTo>
                      <a:pt x="2023" y="119"/>
                    </a:lnTo>
                    <a:lnTo>
                      <a:pt x="2494" y="139"/>
                    </a:lnTo>
                    <a:lnTo>
                      <a:pt x="2966" y="160"/>
                    </a:lnTo>
                    <a:lnTo>
                      <a:pt x="3424" y="183"/>
                    </a:lnTo>
                    <a:lnTo>
                      <a:pt x="3643" y="194"/>
                    </a:lnTo>
                    <a:lnTo>
                      <a:pt x="3853" y="206"/>
                    </a:lnTo>
                    <a:lnTo>
                      <a:pt x="4053" y="218"/>
                    </a:lnTo>
                    <a:lnTo>
                      <a:pt x="4238" y="229"/>
                    </a:lnTo>
                    <a:lnTo>
                      <a:pt x="4409" y="242"/>
                    </a:lnTo>
                    <a:lnTo>
                      <a:pt x="4564" y="253"/>
                    </a:lnTo>
                    <a:lnTo>
                      <a:pt x="4700" y="265"/>
                    </a:lnTo>
                    <a:lnTo>
                      <a:pt x="4816" y="275"/>
                    </a:lnTo>
                    <a:lnTo>
                      <a:pt x="4865" y="281"/>
                    </a:lnTo>
                    <a:lnTo>
                      <a:pt x="4909" y="285"/>
                    </a:lnTo>
                    <a:lnTo>
                      <a:pt x="4946" y="291"/>
                    </a:lnTo>
                    <a:lnTo>
                      <a:pt x="4977" y="295"/>
                    </a:lnTo>
                    <a:lnTo>
                      <a:pt x="5000" y="300"/>
                    </a:lnTo>
                    <a:lnTo>
                      <a:pt x="5017" y="305"/>
                    </a:lnTo>
                    <a:lnTo>
                      <a:pt x="5019" y="306"/>
                    </a:lnTo>
                    <a:lnTo>
                      <a:pt x="5020" y="306"/>
                    </a:lnTo>
                    <a:lnTo>
                      <a:pt x="5016" y="302"/>
                    </a:lnTo>
                    <a:lnTo>
                      <a:pt x="5008" y="285"/>
                    </a:lnTo>
                    <a:lnTo>
                      <a:pt x="5075" y="278"/>
                    </a:lnTo>
                    <a:lnTo>
                      <a:pt x="5065" y="256"/>
                    </a:lnTo>
                    <a:lnTo>
                      <a:pt x="5053" y="248"/>
                    </a:lnTo>
                    <a:lnTo>
                      <a:pt x="5045" y="243"/>
                    </a:lnTo>
                    <a:lnTo>
                      <a:pt x="5035" y="240"/>
                    </a:lnTo>
                    <a:lnTo>
                      <a:pt x="5015" y="235"/>
                    </a:lnTo>
                    <a:lnTo>
                      <a:pt x="4988" y="229"/>
                    </a:lnTo>
                    <a:lnTo>
                      <a:pt x="4955" y="224"/>
                    </a:lnTo>
                    <a:lnTo>
                      <a:pt x="4917" y="219"/>
                    </a:lnTo>
                    <a:lnTo>
                      <a:pt x="4872" y="213"/>
                    </a:lnTo>
                    <a:lnTo>
                      <a:pt x="4822" y="208"/>
                    </a:lnTo>
                    <a:lnTo>
                      <a:pt x="4706" y="197"/>
                    </a:lnTo>
                    <a:lnTo>
                      <a:pt x="4569" y="186"/>
                    </a:lnTo>
                    <a:lnTo>
                      <a:pt x="4414" y="175"/>
                    </a:lnTo>
                    <a:lnTo>
                      <a:pt x="4243" y="162"/>
                    </a:lnTo>
                    <a:lnTo>
                      <a:pt x="4056" y="151"/>
                    </a:lnTo>
                    <a:lnTo>
                      <a:pt x="3856" y="139"/>
                    </a:lnTo>
                    <a:lnTo>
                      <a:pt x="3647" y="127"/>
                    </a:lnTo>
                    <a:lnTo>
                      <a:pt x="3427" y="115"/>
                    </a:lnTo>
                    <a:lnTo>
                      <a:pt x="2970" y="92"/>
                    </a:lnTo>
                    <a:lnTo>
                      <a:pt x="2498" y="72"/>
                    </a:lnTo>
                    <a:lnTo>
                      <a:pt x="2026" y="51"/>
                    </a:lnTo>
                    <a:lnTo>
                      <a:pt x="1572" y="34"/>
                    </a:lnTo>
                    <a:lnTo>
                      <a:pt x="1149" y="21"/>
                    </a:lnTo>
                    <a:lnTo>
                      <a:pt x="773" y="9"/>
                    </a:lnTo>
                    <a:lnTo>
                      <a:pt x="606" y="6"/>
                    </a:lnTo>
                    <a:lnTo>
                      <a:pt x="457" y="2"/>
                    </a:lnTo>
                    <a:lnTo>
                      <a:pt x="327" y="1"/>
                    </a:lnTo>
                    <a:lnTo>
                      <a:pt x="219" y="0"/>
                    </a:lnTo>
                    <a:lnTo>
                      <a:pt x="132" y="1"/>
                    </a:lnTo>
                    <a:lnTo>
                      <a:pt x="71" y="2"/>
                    </a:lnTo>
                    <a:lnTo>
                      <a:pt x="49" y="5"/>
                    </a:lnTo>
                    <a:lnTo>
                      <a:pt x="33" y="7"/>
                    </a:lnTo>
                    <a:lnTo>
                      <a:pt x="24" y="9"/>
                    </a:lnTo>
                    <a:lnTo>
                      <a:pt x="10" y="17"/>
                    </a:lnTo>
                    <a:lnTo>
                      <a:pt x="0" y="56"/>
                    </a:lnTo>
                    <a:lnTo>
                      <a:pt x="16" y="74"/>
                    </a:lnTo>
                    <a:lnTo>
                      <a:pt x="18" y="75"/>
                    </a:lnTo>
                    <a:lnTo>
                      <a:pt x="16" y="74"/>
                    </a:lnTo>
                    <a:lnTo>
                      <a:pt x="23" y="78"/>
                    </a:lnTo>
                    <a:lnTo>
                      <a:pt x="31" y="79"/>
                    </a:lnTo>
                    <a:lnTo>
                      <a:pt x="36" y="79"/>
                    </a:lnTo>
                    <a:lnTo>
                      <a:pt x="43" y="78"/>
                    </a:lnTo>
                    <a:lnTo>
                      <a:pt x="49" y="75"/>
                    </a:lnTo>
                    <a:lnTo>
                      <a:pt x="53" y="72"/>
                    </a:lnTo>
                    <a:lnTo>
                      <a:pt x="58" y="67"/>
                    </a:lnTo>
                    <a:lnTo>
                      <a:pt x="63" y="62"/>
                    </a:lnTo>
                    <a:lnTo>
                      <a:pt x="65" y="56"/>
                    </a:lnTo>
                    <a:lnTo>
                      <a:pt x="67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5" y="32"/>
                    </a:lnTo>
                    <a:lnTo>
                      <a:pt x="61" y="26"/>
                    </a:lnTo>
                    <a:lnTo>
                      <a:pt x="57" y="21"/>
                    </a:lnTo>
                    <a:lnTo>
                      <a:pt x="50" y="16"/>
                    </a:lnTo>
                    <a:lnTo>
                      <a:pt x="48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3711600" y="4800600"/>
                <a:ext cx="1604880" cy="103320"/>
              </a:xfrm>
              <a:custGeom>
                <a:avLst/>
                <a:gdLst/>
                <a:ahLst/>
                <a:rect l="l" t="t" r="r" b="b"/>
                <a:pathLst>
                  <a:path w="5057" h="325">
                    <a:moveTo>
                      <a:pt x="4990" y="270"/>
                    </a:moveTo>
                    <a:lnTo>
                      <a:pt x="4990" y="270"/>
                    </a:lnTo>
                    <a:lnTo>
                      <a:pt x="4996" y="249"/>
                    </a:lnTo>
                    <a:lnTo>
                      <a:pt x="5002" y="242"/>
                    </a:lnTo>
                    <a:lnTo>
                      <a:pt x="5005" y="241"/>
                    </a:lnTo>
                    <a:lnTo>
                      <a:pt x="5002" y="242"/>
                    </a:lnTo>
                    <a:lnTo>
                      <a:pt x="4989" y="244"/>
                    </a:lnTo>
                    <a:lnTo>
                      <a:pt x="4968" y="247"/>
                    </a:lnTo>
                    <a:lnTo>
                      <a:pt x="4941" y="250"/>
                    </a:lnTo>
                    <a:lnTo>
                      <a:pt x="4907" y="252"/>
                    </a:lnTo>
                    <a:lnTo>
                      <a:pt x="4868" y="253"/>
                    </a:lnTo>
                    <a:lnTo>
                      <a:pt x="4822" y="255"/>
                    </a:lnTo>
                    <a:lnTo>
                      <a:pt x="4716" y="257"/>
                    </a:lnTo>
                    <a:lnTo>
                      <a:pt x="4591" y="258"/>
                    </a:lnTo>
                    <a:lnTo>
                      <a:pt x="4447" y="257"/>
                    </a:lnTo>
                    <a:lnTo>
                      <a:pt x="4289" y="255"/>
                    </a:lnTo>
                    <a:lnTo>
                      <a:pt x="4114" y="252"/>
                    </a:lnTo>
                    <a:lnTo>
                      <a:pt x="3929" y="249"/>
                    </a:lnTo>
                    <a:lnTo>
                      <a:pt x="3731" y="243"/>
                    </a:lnTo>
                    <a:lnTo>
                      <a:pt x="3525" y="237"/>
                    </a:lnTo>
                    <a:lnTo>
                      <a:pt x="3311" y="230"/>
                    </a:lnTo>
                    <a:lnTo>
                      <a:pt x="3091" y="222"/>
                    </a:lnTo>
                    <a:lnTo>
                      <a:pt x="2866" y="213"/>
                    </a:lnTo>
                    <a:lnTo>
                      <a:pt x="2639" y="204"/>
                    </a:lnTo>
                    <a:lnTo>
                      <a:pt x="2411" y="194"/>
                    </a:lnTo>
                    <a:lnTo>
                      <a:pt x="2184" y="184"/>
                    </a:lnTo>
                    <a:lnTo>
                      <a:pt x="1960" y="172"/>
                    </a:lnTo>
                    <a:lnTo>
                      <a:pt x="1739" y="160"/>
                    </a:lnTo>
                    <a:lnTo>
                      <a:pt x="1524" y="147"/>
                    </a:lnTo>
                    <a:lnTo>
                      <a:pt x="1317" y="134"/>
                    </a:lnTo>
                    <a:lnTo>
                      <a:pt x="1118" y="122"/>
                    </a:lnTo>
                    <a:lnTo>
                      <a:pt x="930" y="108"/>
                    </a:lnTo>
                    <a:lnTo>
                      <a:pt x="756" y="95"/>
                    </a:lnTo>
                    <a:lnTo>
                      <a:pt x="595" y="81"/>
                    </a:lnTo>
                    <a:lnTo>
                      <a:pt x="450" y="66"/>
                    </a:lnTo>
                    <a:lnTo>
                      <a:pt x="323" y="52"/>
                    </a:lnTo>
                    <a:lnTo>
                      <a:pt x="266" y="45"/>
                    </a:lnTo>
                    <a:lnTo>
                      <a:pt x="214" y="39"/>
                    </a:lnTo>
                    <a:lnTo>
                      <a:pt x="169" y="32"/>
                    </a:lnTo>
                    <a:lnTo>
                      <a:pt x="128" y="25"/>
                    </a:lnTo>
                    <a:lnTo>
                      <a:pt x="94" y="18"/>
                    </a:lnTo>
                    <a:lnTo>
                      <a:pt x="65" y="11"/>
                    </a:lnTo>
                    <a:lnTo>
                      <a:pt x="43" y="4"/>
                    </a:lnTo>
                    <a:lnTo>
                      <a:pt x="30" y="0"/>
                    </a:lnTo>
                    <a:lnTo>
                      <a:pt x="0" y="60"/>
                    </a:lnTo>
                    <a:lnTo>
                      <a:pt x="22" y="68"/>
                    </a:lnTo>
                    <a:lnTo>
                      <a:pt x="48" y="76"/>
                    </a:lnTo>
                    <a:lnTo>
                      <a:pt x="79" y="83"/>
                    </a:lnTo>
                    <a:lnTo>
                      <a:pt x="115" y="91"/>
                    </a:lnTo>
                    <a:lnTo>
                      <a:pt x="157" y="98"/>
                    </a:lnTo>
                    <a:lnTo>
                      <a:pt x="205" y="105"/>
                    </a:lnTo>
                    <a:lnTo>
                      <a:pt x="258" y="113"/>
                    </a:lnTo>
                    <a:lnTo>
                      <a:pt x="315" y="120"/>
                    </a:lnTo>
                    <a:lnTo>
                      <a:pt x="444" y="133"/>
                    </a:lnTo>
                    <a:lnTo>
                      <a:pt x="588" y="148"/>
                    </a:lnTo>
                    <a:lnTo>
                      <a:pt x="750" y="162"/>
                    </a:lnTo>
                    <a:lnTo>
                      <a:pt x="926" y="176"/>
                    </a:lnTo>
                    <a:lnTo>
                      <a:pt x="1114" y="189"/>
                    </a:lnTo>
                    <a:lnTo>
                      <a:pt x="1312" y="202"/>
                    </a:lnTo>
                    <a:lnTo>
                      <a:pt x="1520" y="214"/>
                    </a:lnTo>
                    <a:lnTo>
                      <a:pt x="1735" y="227"/>
                    </a:lnTo>
                    <a:lnTo>
                      <a:pt x="1956" y="239"/>
                    </a:lnTo>
                    <a:lnTo>
                      <a:pt x="2181" y="251"/>
                    </a:lnTo>
                    <a:lnTo>
                      <a:pt x="2408" y="261"/>
                    </a:lnTo>
                    <a:lnTo>
                      <a:pt x="2637" y="271"/>
                    </a:lnTo>
                    <a:lnTo>
                      <a:pt x="2864" y="280"/>
                    </a:lnTo>
                    <a:lnTo>
                      <a:pt x="3088" y="290"/>
                    </a:lnTo>
                    <a:lnTo>
                      <a:pt x="3308" y="298"/>
                    </a:lnTo>
                    <a:lnTo>
                      <a:pt x="3523" y="304"/>
                    </a:lnTo>
                    <a:lnTo>
                      <a:pt x="3729" y="310"/>
                    </a:lnTo>
                    <a:lnTo>
                      <a:pt x="3927" y="316"/>
                    </a:lnTo>
                    <a:lnTo>
                      <a:pt x="4113" y="319"/>
                    </a:lnTo>
                    <a:lnTo>
                      <a:pt x="4288" y="323"/>
                    </a:lnTo>
                    <a:lnTo>
                      <a:pt x="4447" y="324"/>
                    </a:lnTo>
                    <a:lnTo>
                      <a:pt x="4591" y="325"/>
                    </a:lnTo>
                    <a:lnTo>
                      <a:pt x="4717" y="324"/>
                    </a:lnTo>
                    <a:lnTo>
                      <a:pt x="4825" y="323"/>
                    </a:lnTo>
                    <a:lnTo>
                      <a:pt x="4870" y="320"/>
                    </a:lnTo>
                    <a:lnTo>
                      <a:pt x="4911" y="319"/>
                    </a:lnTo>
                    <a:lnTo>
                      <a:pt x="4945" y="317"/>
                    </a:lnTo>
                    <a:lnTo>
                      <a:pt x="4975" y="314"/>
                    </a:lnTo>
                    <a:lnTo>
                      <a:pt x="5000" y="311"/>
                    </a:lnTo>
                    <a:lnTo>
                      <a:pt x="5018" y="307"/>
                    </a:lnTo>
                    <a:lnTo>
                      <a:pt x="5029" y="304"/>
                    </a:lnTo>
                    <a:lnTo>
                      <a:pt x="5038" y="299"/>
                    </a:lnTo>
                    <a:lnTo>
                      <a:pt x="5050" y="288"/>
                    </a:lnTo>
                    <a:lnTo>
                      <a:pt x="5057" y="263"/>
                    </a:lnTo>
                    <a:lnTo>
                      <a:pt x="5057" y="263"/>
                    </a:lnTo>
                    <a:lnTo>
                      <a:pt x="5057" y="263"/>
                    </a:lnTo>
                    <a:lnTo>
                      <a:pt x="5055" y="255"/>
                    </a:lnTo>
                    <a:lnTo>
                      <a:pt x="5053" y="249"/>
                    </a:lnTo>
                    <a:lnTo>
                      <a:pt x="5048" y="243"/>
                    </a:lnTo>
                    <a:lnTo>
                      <a:pt x="5043" y="238"/>
                    </a:lnTo>
                    <a:lnTo>
                      <a:pt x="5038" y="236"/>
                    </a:lnTo>
                    <a:lnTo>
                      <a:pt x="5032" y="234"/>
                    </a:lnTo>
                    <a:lnTo>
                      <a:pt x="5026" y="233"/>
                    </a:lnTo>
                    <a:lnTo>
                      <a:pt x="5020" y="233"/>
                    </a:lnTo>
                    <a:lnTo>
                      <a:pt x="5014" y="234"/>
                    </a:lnTo>
                    <a:lnTo>
                      <a:pt x="5008" y="236"/>
                    </a:lnTo>
                    <a:lnTo>
                      <a:pt x="5002" y="239"/>
                    </a:lnTo>
                    <a:lnTo>
                      <a:pt x="4998" y="244"/>
                    </a:lnTo>
                    <a:lnTo>
                      <a:pt x="4994" y="249"/>
                    </a:lnTo>
                    <a:lnTo>
                      <a:pt x="4991" y="254"/>
                    </a:lnTo>
                    <a:lnTo>
                      <a:pt x="4990" y="262"/>
                    </a:lnTo>
                    <a:lnTo>
                      <a:pt x="4990" y="2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3762360" y="4656240"/>
                <a:ext cx="1455840" cy="85680"/>
              </a:xfrm>
              <a:custGeom>
                <a:avLst/>
                <a:gdLst/>
                <a:ahLst/>
                <a:rect l="l" t="t" r="r" b="b"/>
                <a:pathLst>
                  <a:path w="4582" h="273">
                    <a:moveTo>
                      <a:pt x="40" y="121"/>
                    </a:moveTo>
                    <a:lnTo>
                      <a:pt x="67" y="144"/>
                    </a:lnTo>
                    <a:lnTo>
                      <a:pt x="69" y="146"/>
                    </a:lnTo>
                    <a:lnTo>
                      <a:pt x="67" y="149"/>
                    </a:lnTo>
                    <a:lnTo>
                      <a:pt x="67" y="150"/>
                    </a:lnTo>
                    <a:lnTo>
                      <a:pt x="67" y="151"/>
                    </a:lnTo>
                    <a:lnTo>
                      <a:pt x="69" y="150"/>
                    </a:lnTo>
                    <a:lnTo>
                      <a:pt x="71" y="147"/>
                    </a:lnTo>
                    <a:lnTo>
                      <a:pt x="76" y="143"/>
                    </a:lnTo>
                    <a:lnTo>
                      <a:pt x="83" y="140"/>
                    </a:lnTo>
                    <a:lnTo>
                      <a:pt x="91" y="137"/>
                    </a:lnTo>
                    <a:lnTo>
                      <a:pt x="102" y="132"/>
                    </a:lnTo>
                    <a:lnTo>
                      <a:pt x="114" y="129"/>
                    </a:lnTo>
                    <a:lnTo>
                      <a:pt x="127" y="125"/>
                    </a:lnTo>
                    <a:lnTo>
                      <a:pt x="159" y="117"/>
                    </a:lnTo>
                    <a:lnTo>
                      <a:pt x="195" y="110"/>
                    </a:lnTo>
                    <a:lnTo>
                      <a:pt x="237" y="103"/>
                    </a:lnTo>
                    <a:lnTo>
                      <a:pt x="284" y="98"/>
                    </a:lnTo>
                    <a:lnTo>
                      <a:pt x="334" y="92"/>
                    </a:lnTo>
                    <a:lnTo>
                      <a:pt x="390" y="87"/>
                    </a:lnTo>
                    <a:lnTo>
                      <a:pt x="449" y="83"/>
                    </a:lnTo>
                    <a:lnTo>
                      <a:pt x="513" y="79"/>
                    </a:lnTo>
                    <a:lnTo>
                      <a:pt x="580" y="76"/>
                    </a:lnTo>
                    <a:lnTo>
                      <a:pt x="650" y="73"/>
                    </a:lnTo>
                    <a:lnTo>
                      <a:pt x="802" y="69"/>
                    </a:lnTo>
                    <a:lnTo>
                      <a:pt x="965" y="67"/>
                    </a:lnTo>
                    <a:lnTo>
                      <a:pt x="1139" y="67"/>
                    </a:lnTo>
                    <a:lnTo>
                      <a:pt x="1321" y="68"/>
                    </a:lnTo>
                    <a:lnTo>
                      <a:pt x="1511" y="70"/>
                    </a:lnTo>
                    <a:lnTo>
                      <a:pt x="1707" y="75"/>
                    </a:lnTo>
                    <a:lnTo>
                      <a:pt x="1906" y="81"/>
                    </a:lnTo>
                    <a:lnTo>
                      <a:pt x="2109" y="87"/>
                    </a:lnTo>
                    <a:lnTo>
                      <a:pt x="2314" y="97"/>
                    </a:lnTo>
                    <a:lnTo>
                      <a:pt x="2520" y="106"/>
                    </a:lnTo>
                    <a:lnTo>
                      <a:pt x="2722" y="115"/>
                    </a:lnTo>
                    <a:lnTo>
                      <a:pt x="2923" y="126"/>
                    </a:lnTo>
                    <a:lnTo>
                      <a:pt x="3119" y="138"/>
                    </a:lnTo>
                    <a:lnTo>
                      <a:pt x="3310" y="149"/>
                    </a:lnTo>
                    <a:lnTo>
                      <a:pt x="3492" y="162"/>
                    </a:lnTo>
                    <a:lnTo>
                      <a:pt x="3666" y="174"/>
                    </a:lnTo>
                    <a:lnTo>
                      <a:pt x="3831" y="188"/>
                    </a:lnTo>
                    <a:lnTo>
                      <a:pt x="3982" y="200"/>
                    </a:lnTo>
                    <a:lnTo>
                      <a:pt x="4121" y="214"/>
                    </a:lnTo>
                    <a:lnTo>
                      <a:pt x="4245" y="227"/>
                    </a:lnTo>
                    <a:lnTo>
                      <a:pt x="4354" y="239"/>
                    </a:lnTo>
                    <a:lnTo>
                      <a:pt x="4445" y="252"/>
                    </a:lnTo>
                    <a:lnTo>
                      <a:pt x="4483" y="257"/>
                    </a:lnTo>
                    <a:lnTo>
                      <a:pt x="4516" y="263"/>
                    </a:lnTo>
                    <a:lnTo>
                      <a:pt x="4543" y="269"/>
                    </a:lnTo>
                    <a:lnTo>
                      <a:pt x="4565" y="273"/>
                    </a:lnTo>
                    <a:lnTo>
                      <a:pt x="4582" y="208"/>
                    </a:lnTo>
                    <a:lnTo>
                      <a:pt x="4557" y="203"/>
                    </a:lnTo>
                    <a:lnTo>
                      <a:pt x="4527" y="197"/>
                    </a:lnTo>
                    <a:lnTo>
                      <a:pt x="4493" y="190"/>
                    </a:lnTo>
                    <a:lnTo>
                      <a:pt x="4454" y="184"/>
                    </a:lnTo>
                    <a:lnTo>
                      <a:pt x="4362" y="172"/>
                    </a:lnTo>
                    <a:lnTo>
                      <a:pt x="4253" y="159"/>
                    </a:lnTo>
                    <a:lnTo>
                      <a:pt x="4128" y="147"/>
                    </a:lnTo>
                    <a:lnTo>
                      <a:pt x="3988" y="133"/>
                    </a:lnTo>
                    <a:lnTo>
                      <a:pt x="3835" y="121"/>
                    </a:lnTo>
                    <a:lnTo>
                      <a:pt x="3671" y="107"/>
                    </a:lnTo>
                    <a:lnTo>
                      <a:pt x="3496" y="94"/>
                    </a:lnTo>
                    <a:lnTo>
                      <a:pt x="3313" y="82"/>
                    </a:lnTo>
                    <a:lnTo>
                      <a:pt x="3123" y="70"/>
                    </a:lnTo>
                    <a:lnTo>
                      <a:pt x="2926" y="59"/>
                    </a:lnTo>
                    <a:lnTo>
                      <a:pt x="2726" y="48"/>
                    </a:lnTo>
                    <a:lnTo>
                      <a:pt x="2522" y="38"/>
                    </a:lnTo>
                    <a:lnTo>
                      <a:pt x="2317" y="29"/>
                    </a:lnTo>
                    <a:lnTo>
                      <a:pt x="2111" y="20"/>
                    </a:lnTo>
                    <a:lnTo>
                      <a:pt x="1908" y="13"/>
                    </a:lnTo>
                    <a:lnTo>
                      <a:pt x="1708" y="8"/>
                    </a:lnTo>
                    <a:lnTo>
                      <a:pt x="1512" y="3"/>
                    </a:lnTo>
                    <a:lnTo>
                      <a:pt x="1321" y="1"/>
                    </a:lnTo>
                    <a:lnTo>
                      <a:pt x="1139" y="0"/>
                    </a:lnTo>
                    <a:lnTo>
                      <a:pt x="965" y="0"/>
                    </a:lnTo>
                    <a:lnTo>
                      <a:pt x="800" y="2"/>
                    </a:lnTo>
                    <a:lnTo>
                      <a:pt x="649" y="5"/>
                    </a:lnTo>
                    <a:lnTo>
                      <a:pt x="577" y="9"/>
                    </a:lnTo>
                    <a:lnTo>
                      <a:pt x="510" y="12"/>
                    </a:lnTo>
                    <a:lnTo>
                      <a:pt x="445" y="16"/>
                    </a:lnTo>
                    <a:lnTo>
                      <a:pt x="384" y="20"/>
                    </a:lnTo>
                    <a:lnTo>
                      <a:pt x="328" y="25"/>
                    </a:lnTo>
                    <a:lnTo>
                      <a:pt x="276" y="30"/>
                    </a:lnTo>
                    <a:lnTo>
                      <a:pt x="228" y="36"/>
                    </a:lnTo>
                    <a:lnTo>
                      <a:pt x="184" y="43"/>
                    </a:lnTo>
                    <a:lnTo>
                      <a:pt x="145" y="51"/>
                    </a:lnTo>
                    <a:lnTo>
                      <a:pt x="111" y="59"/>
                    </a:lnTo>
                    <a:lnTo>
                      <a:pt x="95" y="65"/>
                    </a:lnTo>
                    <a:lnTo>
                      <a:pt x="80" y="69"/>
                    </a:lnTo>
                    <a:lnTo>
                      <a:pt x="66" y="74"/>
                    </a:lnTo>
                    <a:lnTo>
                      <a:pt x="54" y="79"/>
                    </a:lnTo>
                    <a:lnTo>
                      <a:pt x="42" y="86"/>
                    </a:lnTo>
                    <a:lnTo>
                      <a:pt x="32" y="92"/>
                    </a:lnTo>
                    <a:lnTo>
                      <a:pt x="22" y="100"/>
                    </a:lnTo>
                    <a:lnTo>
                      <a:pt x="14" y="110"/>
                    </a:lnTo>
                    <a:lnTo>
                      <a:pt x="6" y="122"/>
                    </a:lnTo>
                    <a:lnTo>
                      <a:pt x="1" y="135"/>
                    </a:lnTo>
                    <a:lnTo>
                      <a:pt x="0" y="150"/>
                    </a:lnTo>
                    <a:lnTo>
                      <a:pt x="4" y="164"/>
                    </a:lnTo>
                    <a:lnTo>
                      <a:pt x="31" y="188"/>
                    </a:lnTo>
                    <a:lnTo>
                      <a:pt x="4" y="164"/>
                    </a:lnTo>
                    <a:lnTo>
                      <a:pt x="6" y="171"/>
                    </a:lnTo>
                    <a:lnTo>
                      <a:pt x="10" y="176"/>
                    </a:lnTo>
                    <a:lnTo>
                      <a:pt x="15" y="181"/>
                    </a:lnTo>
                    <a:lnTo>
                      <a:pt x="21" y="184"/>
                    </a:lnTo>
                    <a:lnTo>
                      <a:pt x="26" y="187"/>
                    </a:lnTo>
                    <a:lnTo>
                      <a:pt x="32" y="188"/>
                    </a:lnTo>
                    <a:lnTo>
                      <a:pt x="39" y="188"/>
                    </a:lnTo>
                    <a:lnTo>
                      <a:pt x="45" y="187"/>
                    </a:lnTo>
                    <a:lnTo>
                      <a:pt x="51" y="184"/>
                    </a:lnTo>
                    <a:lnTo>
                      <a:pt x="56" y="181"/>
                    </a:lnTo>
                    <a:lnTo>
                      <a:pt x="61" y="176"/>
                    </a:lnTo>
                    <a:lnTo>
                      <a:pt x="65" y="172"/>
                    </a:lnTo>
                    <a:lnTo>
                      <a:pt x="67" y="166"/>
                    </a:lnTo>
                    <a:lnTo>
                      <a:pt x="70" y="159"/>
                    </a:lnTo>
                    <a:lnTo>
                      <a:pt x="70" y="152"/>
                    </a:lnTo>
                    <a:lnTo>
                      <a:pt x="67" y="144"/>
                    </a:lnTo>
                    <a:lnTo>
                      <a:pt x="40" y="1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3773520" y="4694400"/>
                <a:ext cx="1452600" cy="48960"/>
              </a:xfrm>
              <a:custGeom>
                <a:avLst/>
                <a:gdLst/>
                <a:ahLst/>
                <a:rect l="l" t="t" r="r" b="b"/>
                <a:pathLst>
                  <a:path w="4576" h="154">
                    <a:moveTo>
                      <a:pt x="4534" y="152"/>
                    </a:moveTo>
                    <a:lnTo>
                      <a:pt x="4543" y="86"/>
                    </a:lnTo>
                    <a:lnTo>
                      <a:pt x="4165" y="83"/>
                    </a:lnTo>
                    <a:lnTo>
                      <a:pt x="3597" y="77"/>
                    </a:lnTo>
                    <a:lnTo>
                      <a:pt x="2903" y="70"/>
                    </a:lnTo>
                    <a:lnTo>
                      <a:pt x="2157" y="61"/>
                    </a:lnTo>
                    <a:lnTo>
                      <a:pt x="1785" y="55"/>
                    </a:lnTo>
                    <a:lnTo>
                      <a:pt x="1425" y="50"/>
                    </a:lnTo>
                    <a:lnTo>
                      <a:pt x="1086" y="43"/>
                    </a:lnTo>
                    <a:lnTo>
                      <a:pt x="776" y="35"/>
                    </a:lnTo>
                    <a:lnTo>
                      <a:pt x="635" y="31"/>
                    </a:lnTo>
                    <a:lnTo>
                      <a:pt x="505" y="27"/>
                    </a:lnTo>
                    <a:lnTo>
                      <a:pt x="386" y="23"/>
                    </a:lnTo>
                    <a:lnTo>
                      <a:pt x="280" y="19"/>
                    </a:lnTo>
                    <a:lnTo>
                      <a:pt x="189" y="14"/>
                    </a:lnTo>
                    <a:lnTo>
                      <a:pt x="112" y="10"/>
                    </a:lnTo>
                    <a:lnTo>
                      <a:pt x="51" y="4"/>
                    </a:lnTo>
                    <a:lnTo>
                      <a:pt x="9" y="0"/>
                    </a:lnTo>
                    <a:lnTo>
                      <a:pt x="0" y="67"/>
                    </a:lnTo>
                    <a:lnTo>
                      <a:pt x="45" y="71"/>
                    </a:lnTo>
                    <a:lnTo>
                      <a:pt x="107" y="77"/>
                    </a:lnTo>
                    <a:lnTo>
                      <a:pt x="186" y="82"/>
                    </a:lnTo>
                    <a:lnTo>
                      <a:pt x="278" y="86"/>
                    </a:lnTo>
                    <a:lnTo>
                      <a:pt x="384" y="91"/>
                    </a:lnTo>
                    <a:lnTo>
                      <a:pt x="503" y="94"/>
                    </a:lnTo>
                    <a:lnTo>
                      <a:pt x="634" y="99"/>
                    </a:lnTo>
                    <a:lnTo>
                      <a:pt x="775" y="102"/>
                    </a:lnTo>
                    <a:lnTo>
                      <a:pt x="1084" y="110"/>
                    </a:lnTo>
                    <a:lnTo>
                      <a:pt x="1424" y="117"/>
                    </a:lnTo>
                    <a:lnTo>
                      <a:pt x="1784" y="123"/>
                    </a:lnTo>
                    <a:lnTo>
                      <a:pt x="2157" y="128"/>
                    </a:lnTo>
                    <a:lnTo>
                      <a:pt x="2903" y="138"/>
                    </a:lnTo>
                    <a:lnTo>
                      <a:pt x="3595" y="144"/>
                    </a:lnTo>
                    <a:lnTo>
                      <a:pt x="4165" y="150"/>
                    </a:lnTo>
                    <a:lnTo>
                      <a:pt x="4542" y="154"/>
                    </a:lnTo>
                    <a:lnTo>
                      <a:pt x="4551" y="87"/>
                    </a:lnTo>
                    <a:lnTo>
                      <a:pt x="4542" y="154"/>
                    </a:lnTo>
                    <a:lnTo>
                      <a:pt x="4550" y="152"/>
                    </a:lnTo>
                    <a:lnTo>
                      <a:pt x="4556" y="150"/>
                    </a:lnTo>
                    <a:lnTo>
                      <a:pt x="4562" y="148"/>
                    </a:lnTo>
                    <a:lnTo>
                      <a:pt x="4567" y="143"/>
                    </a:lnTo>
                    <a:lnTo>
                      <a:pt x="4571" y="138"/>
                    </a:lnTo>
                    <a:lnTo>
                      <a:pt x="4574" y="133"/>
                    </a:lnTo>
                    <a:lnTo>
                      <a:pt x="4575" y="126"/>
                    </a:lnTo>
                    <a:lnTo>
                      <a:pt x="4576" y="120"/>
                    </a:lnTo>
                    <a:lnTo>
                      <a:pt x="4576" y="114"/>
                    </a:lnTo>
                    <a:lnTo>
                      <a:pt x="4574" y="108"/>
                    </a:lnTo>
                    <a:lnTo>
                      <a:pt x="4571" y="102"/>
                    </a:lnTo>
                    <a:lnTo>
                      <a:pt x="4568" y="97"/>
                    </a:lnTo>
                    <a:lnTo>
                      <a:pt x="4563" y="93"/>
                    </a:lnTo>
                    <a:lnTo>
                      <a:pt x="4558" y="90"/>
                    </a:lnTo>
                    <a:lnTo>
                      <a:pt x="4551" y="87"/>
                    </a:lnTo>
                    <a:lnTo>
                      <a:pt x="4543" y="86"/>
                    </a:lnTo>
                    <a:lnTo>
                      <a:pt x="4534" y="1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3651120" y="4897440"/>
                <a:ext cx="1649520" cy="74520"/>
              </a:xfrm>
              <a:custGeom>
                <a:avLst/>
                <a:gdLst/>
                <a:ahLst/>
                <a:rect l="l" t="t" r="r" b="b"/>
                <a:pathLst>
                  <a:path w="5194" h="232">
                    <a:moveTo>
                      <a:pt x="42" y="50"/>
                    </a:moveTo>
                    <a:lnTo>
                      <a:pt x="42" y="115"/>
                    </a:lnTo>
                    <a:lnTo>
                      <a:pt x="62" y="110"/>
                    </a:lnTo>
                    <a:lnTo>
                      <a:pt x="88" y="107"/>
                    </a:lnTo>
                    <a:lnTo>
                      <a:pt x="119" y="102"/>
                    </a:lnTo>
                    <a:lnTo>
                      <a:pt x="156" y="99"/>
                    </a:lnTo>
                    <a:lnTo>
                      <a:pt x="245" y="91"/>
                    </a:lnTo>
                    <a:lnTo>
                      <a:pt x="353" y="85"/>
                    </a:lnTo>
                    <a:lnTo>
                      <a:pt x="480" y="80"/>
                    </a:lnTo>
                    <a:lnTo>
                      <a:pt x="621" y="75"/>
                    </a:lnTo>
                    <a:lnTo>
                      <a:pt x="777" y="72"/>
                    </a:lnTo>
                    <a:lnTo>
                      <a:pt x="947" y="69"/>
                    </a:lnTo>
                    <a:lnTo>
                      <a:pt x="1127" y="68"/>
                    </a:lnTo>
                    <a:lnTo>
                      <a:pt x="1319" y="67"/>
                    </a:lnTo>
                    <a:lnTo>
                      <a:pt x="1518" y="67"/>
                    </a:lnTo>
                    <a:lnTo>
                      <a:pt x="1725" y="68"/>
                    </a:lnTo>
                    <a:lnTo>
                      <a:pt x="1938" y="69"/>
                    </a:lnTo>
                    <a:lnTo>
                      <a:pt x="2155" y="72"/>
                    </a:lnTo>
                    <a:lnTo>
                      <a:pt x="2375" y="75"/>
                    </a:lnTo>
                    <a:lnTo>
                      <a:pt x="2597" y="80"/>
                    </a:lnTo>
                    <a:lnTo>
                      <a:pt x="2818" y="84"/>
                    </a:lnTo>
                    <a:lnTo>
                      <a:pt x="3039" y="90"/>
                    </a:lnTo>
                    <a:lnTo>
                      <a:pt x="3256" y="96"/>
                    </a:lnTo>
                    <a:lnTo>
                      <a:pt x="3470" y="102"/>
                    </a:lnTo>
                    <a:lnTo>
                      <a:pt x="3678" y="110"/>
                    </a:lnTo>
                    <a:lnTo>
                      <a:pt x="3878" y="118"/>
                    </a:lnTo>
                    <a:lnTo>
                      <a:pt x="4070" y="127"/>
                    </a:lnTo>
                    <a:lnTo>
                      <a:pt x="4252" y="138"/>
                    </a:lnTo>
                    <a:lnTo>
                      <a:pt x="4422" y="147"/>
                    </a:lnTo>
                    <a:lnTo>
                      <a:pt x="4581" y="158"/>
                    </a:lnTo>
                    <a:lnTo>
                      <a:pt x="4724" y="170"/>
                    </a:lnTo>
                    <a:lnTo>
                      <a:pt x="4852" y="181"/>
                    </a:lnTo>
                    <a:lnTo>
                      <a:pt x="4909" y="188"/>
                    </a:lnTo>
                    <a:lnTo>
                      <a:pt x="4961" y="194"/>
                    </a:lnTo>
                    <a:lnTo>
                      <a:pt x="5010" y="201"/>
                    </a:lnTo>
                    <a:lnTo>
                      <a:pt x="5054" y="206"/>
                    </a:lnTo>
                    <a:lnTo>
                      <a:pt x="5091" y="213"/>
                    </a:lnTo>
                    <a:lnTo>
                      <a:pt x="5124" y="220"/>
                    </a:lnTo>
                    <a:lnTo>
                      <a:pt x="5151" y="227"/>
                    </a:lnTo>
                    <a:lnTo>
                      <a:pt x="5171" y="232"/>
                    </a:lnTo>
                    <a:lnTo>
                      <a:pt x="5194" y="169"/>
                    </a:lnTo>
                    <a:lnTo>
                      <a:pt x="5169" y="161"/>
                    </a:lnTo>
                    <a:lnTo>
                      <a:pt x="5138" y="154"/>
                    </a:lnTo>
                    <a:lnTo>
                      <a:pt x="5104" y="147"/>
                    </a:lnTo>
                    <a:lnTo>
                      <a:pt x="5064" y="140"/>
                    </a:lnTo>
                    <a:lnTo>
                      <a:pt x="5019" y="133"/>
                    </a:lnTo>
                    <a:lnTo>
                      <a:pt x="4970" y="126"/>
                    </a:lnTo>
                    <a:lnTo>
                      <a:pt x="4917" y="121"/>
                    </a:lnTo>
                    <a:lnTo>
                      <a:pt x="4858" y="114"/>
                    </a:lnTo>
                    <a:lnTo>
                      <a:pt x="4730" y="102"/>
                    </a:lnTo>
                    <a:lnTo>
                      <a:pt x="4585" y="91"/>
                    </a:lnTo>
                    <a:lnTo>
                      <a:pt x="4427" y="80"/>
                    </a:lnTo>
                    <a:lnTo>
                      <a:pt x="4256" y="69"/>
                    </a:lnTo>
                    <a:lnTo>
                      <a:pt x="4073" y="60"/>
                    </a:lnTo>
                    <a:lnTo>
                      <a:pt x="3881" y="51"/>
                    </a:lnTo>
                    <a:lnTo>
                      <a:pt x="3680" y="43"/>
                    </a:lnTo>
                    <a:lnTo>
                      <a:pt x="3471" y="35"/>
                    </a:lnTo>
                    <a:lnTo>
                      <a:pt x="3258" y="28"/>
                    </a:lnTo>
                    <a:lnTo>
                      <a:pt x="3040" y="23"/>
                    </a:lnTo>
                    <a:lnTo>
                      <a:pt x="2820" y="17"/>
                    </a:lnTo>
                    <a:lnTo>
                      <a:pt x="2598" y="12"/>
                    </a:lnTo>
                    <a:lnTo>
                      <a:pt x="2376" y="8"/>
                    </a:lnTo>
                    <a:lnTo>
                      <a:pt x="2156" y="4"/>
                    </a:lnTo>
                    <a:lnTo>
                      <a:pt x="1938" y="2"/>
                    </a:lnTo>
                    <a:lnTo>
                      <a:pt x="1726" y="1"/>
                    </a:lnTo>
                    <a:lnTo>
                      <a:pt x="1518" y="0"/>
                    </a:lnTo>
                    <a:lnTo>
                      <a:pt x="1319" y="0"/>
                    </a:lnTo>
                    <a:lnTo>
                      <a:pt x="1127" y="1"/>
                    </a:lnTo>
                    <a:lnTo>
                      <a:pt x="946" y="2"/>
                    </a:lnTo>
                    <a:lnTo>
                      <a:pt x="776" y="4"/>
                    </a:lnTo>
                    <a:lnTo>
                      <a:pt x="620" y="8"/>
                    </a:lnTo>
                    <a:lnTo>
                      <a:pt x="478" y="12"/>
                    </a:lnTo>
                    <a:lnTo>
                      <a:pt x="351" y="18"/>
                    </a:lnTo>
                    <a:lnTo>
                      <a:pt x="241" y="24"/>
                    </a:lnTo>
                    <a:lnTo>
                      <a:pt x="150" y="32"/>
                    </a:lnTo>
                    <a:lnTo>
                      <a:pt x="112" y="35"/>
                    </a:lnTo>
                    <a:lnTo>
                      <a:pt x="78" y="40"/>
                    </a:lnTo>
                    <a:lnTo>
                      <a:pt x="49" y="44"/>
                    </a:lnTo>
                    <a:lnTo>
                      <a:pt x="26" y="50"/>
                    </a:lnTo>
                    <a:lnTo>
                      <a:pt x="26" y="115"/>
                    </a:lnTo>
                    <a:lnTo>
                      <a:pt x="26" y="50"/>
                    </a:lnTo>
                    <a:lnTo>
                      <a:pt x="18" y="52"/>
                    </a:lnTo>
                    <a:lnTo>
                      <a:pt x="13" y="57"/>
                    </a:lnTo>
                    <a:lnTo>
                      <a:pt x="8" y="61"/>
                    </a:lnTo>
                    <a:lnTo>
                      <a:pt x="3" y="66"/>
                    </a:lnTo>
                    <a:lnTo>
                      <a:pt x="1" y="73"/>
                    </a:lnTo>
                    <a:lnTo>
                      <a:pt x="0" y="78"/>
                    </a:lnTo>
                    <a:lnTo>
                      <a:pt x="0" y="84"/>
                    </a:lnTo>
                    <a:lnTo>
                      <a:pt x="1" y="91"/>
                    </a:lnTo>
                    <a:lnTo>
                      <a:pt x="3" y="97"/>
                    </a:lnTo>
                    <a:lnTo>
                      <a:pt x="7" y="102"/>
                    </a:lnTo>
                    <a:lnTo>
                      <a:pt x="10" y="107"/>
                    </a:lnTo>
                    <a:lnTo>
                      <a:pt x="16" y="112"/>
                    </a:lnTo>
                    <a:lnTo>
                      <a:pt x="22" y="114"/>
                    </a:lnTo>
                    <a:lnTo>
                      <a:pt x="27" y="116"/>
                    </a:lnTo>
                    <a:lnTo>
                      <a:pt x="34" y="116"/>
                    </a:lnTo>
                    <a:lnTo>
                      <a:pt x="42" y="115"/>
                    </a:lnTo>
                    <a:lnTo>
                      <a:pt x="42" y="5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3659040" y="4913280"/>
                <a:ext cx="1649520" cy="77760"/>
              </a:xfrm>
              <a:custGeom>
                <a:avLst/>
                <a:gdLst/>
                <a:ahLst/>
                <a:rect l="l" t="t" r="r" b="b"/>
                <a:pathLst>
                  <a:path w="5191" h="246">
                    <a:moveTo>
                      <a:pt x="5145" y="182"/>
                    </a:moveTo>
                    <a:lnTo>
                      <a:pt x="5142" y="121"/>
                    </a:lnTo>
                    <a:lnTo>
                      <a:pt x="5136" y="123"/>
                    </a:lnTo>
                    <a:lnTo>
                      <a:pt x="5128" y="125"/>
                    </a:lnTo>
                    <a:lnTo>
                      <a:pt x="5119" y="129"/>
                    </a:lnTo>
                    <a:lnTo>
                      <a:pt x="5107" y="131"/>
                    </a:lnTo>
                    <a:lnTo>
                      <a:pt x="5080" y="138"/>
                    </a:lnTo>
                    <a:lnTo>
                      <a:pt x="5046" y="143"/>
                    </a:lnTo>
                    <a:lnTo>
                      <a:pt x="5007" y="148"/>
                    </a:lnTo>
                    <a:lnTo>
                      <a:pt x="4963" y="153"/>
                    </a:lnTo>
                    <a:lnTo>
                      <a:pt x="4912" y="157"/>
                    </a:lnTo>
                    <a:lnTo>
                      <a:pt x="4858" y="161"/>
                    </a:lnTo>
                    <a:lnTo>
                      <a:pt x="4798" y="164"/>
                    </a:lnTo>
                    <a:lnTo>
                      <a:pt x="4735" y="168"/>
                    </a:lnTo>
                    <a:lnTo>
                      <a:pt x="4667" y="170"/>
                    </a:lnTo>
                    <a:lnTo>
                      <a:pt x="4596" y="172"/>
                    </a:lnTo>
                    <a:lnTo>
                      <a:pt x="4439" y="176"/>
                    </a:lnTo>
                    <a:lnTo>
                      <a:pt x="4271" y="178"/>
                    </a:lnTo>
                    <a:lnTo>
                      <a:pt x="4089" y="178"/>
                    </a:lnTo>
                    <a:lnTo>
                      <a:pt x="3897" y="178"/>
                    </a:lnTo>
                    <a:lnTo>
                      <a:pt x="3696" y="176"/>
                    </a:lnTo>
                    <a:lnTo>
                      <a:pt x="3486" y="173"/>
                    </a:lnTo>
                    <a:lnTo>
                      <a:pt x="3271" y="169"/>
                    </a:lnTo>
                    <a:lnTo>
                      <a:pt x="3051" y="164"/>
                    </a:lnTo>
                    <a:lnTo>
                      <a:pt x="2829" y="159"/>
                    </a:lnTo>
                    <a:lnTo>
                      <a:pt x="2603" y="152"/>
                    </a:lnTo>
                    <a:lnTo>
                      <a:pt x="2378" y="144"/>
                    </a:lnTo>
                    <a:lnTo>
                      <a:pt x="2154" y="136"/>
                    </a:lnTo>
                    <a:lnTo>
                      <a:pt x="1934" y="127"/>
                    </a:lnTo>
                    <a:lnTo>
                      <a:pt x="1717" y="117"/>
                    </a:lnTo>
                    <a:lnTo>
                      <a:pt x="1506" y="108"/>
                    </a:lnTo>
                    <a:lnTo>
                      <a:pt x="1303" y="98"/>
                    </a:lnTo>
                    <a:lnTo>
                      <a:pt x="1108" y="89"/>
                    </a:lnTo>
                    <a:lnTo>
                      <a:pt x="925" y="77"/>
                    </a:lnTo>
                    <a:lnTo>
                      <a:pt x="753" y="67"/>
                    </a:lnTo>
                    <a:lnTo>
                      <a:pt x="595" y="57"/>
                    </a:lnTo>
                    <a:lnTo>
                      <a:pt x="452" y="47"/>
                    </a:lnTo>
                    <a:lnTo>
                      <a:pt x="324" y="36"/>
                    </a:lnTo>
                    <a:lnTo>
                      <a:pt x="216" y="27"/>
                    </a:lnTo>
                    <a:lnTo>
                      <a:pt x="127" y="17"/>
                    </a:lnTo>
                    <a:lnTo>
                      <a:pt x="90" y="12"/>
                    </a:lnTo>
                    <a:lnTo>
                      <a:pt x="59" y="8"/>
                    </a:lnTo>
                    <a:lnTo>
                      <a:pt x="34" y="3"/>
                    </a:lnTo>
                    <a:lnTo>
                      <a:pt x="16" y="0"/>
                    </a:lnTo>
                    <a:lnTo>
                      <a:pt x="0" y="65"/>
                    </a:lnTo>
                    <a:lnTo>
                      <a:pt x="22" y="70"/>
                    </a:lnTo>
                    <a:lnTo>
                      <a:pt x="49" y="74"/>
                    </a:lnTo>
                    <a:lnTo>
                      <a:pt x="81" y="80"/>
                    </a:lnTo>
                    <a:lnTo>
                      <a:pt x="119" y="84"/>
                    </a:lnTo>
                    <a:lnTo>
                      <a:pt x="209" y="93"/>
                    </a:lnTo>
                    <a:lnTo>
                      <a:pt x="319" y="104"/>
                    </a:lnTo>
                    <a:lnTo>
                      <a:pt x="446" y="114"/>
                    </a:lnTo>
                    <a:lnTo>
                      <a:pt x="591" y="124"/>
                    </a:lnTo>
                    <a:lnTo>
                      <a:pt x="749" y="135"/>
                    </a:lnTo>
                    <a:lnTo>
                      <a:pt x="921" y="145"/>
                    </a:lnTo>
                    <a:lnTo>
                      <a:pt x="1105" y="156"/>
                    </a:lnTo>
                    <a:lnTo>
                      <a:pt x="1300" y="165"/>
                    </a:lnTo>
                    <a:lnTo>
                      <a:pt x="1503" y="176"/>
                    </a:lnTo>
                    <a:lnTo>
                      <a:pt x="1714" y="185"/>
                    </a:lnTo>
                    <a:lnTo>
                      <a:pt x="1930" y="194"/>
                    </a:lnTo>
                    <a:lnTo>
                      <a:pt x="2151" y="203"/>
                    </a:lnTo>
                    <a:lnTo>
                      <a:pt x="2376" y="211"/>
                    </a:lnTo>
                    <a:lnTo>
                      <a:pt x="2601" y="219"/>
                    </a:lnTo>
                    <a:lnTo>
                      <a:pt x="2826" y="226"/>
                    </a:lnTo>
                    <a:lnTo>
                      <a:pt x="3050" y="232"/>
                    </a:lnTo>
                    <a:lnTo>
                      <a:pt x="3270" y="236"/>
                    </a:lnTo>
                    <a:lnTo>
                      <a:pt x="3485" y="241"/>
                    </a:lnTo>
                    <a:lnTo>
                      <a:pt x="3695" y="243"/>
                    </a:lnTo>
                    <a:lnTo>
                      <a:pt x="3897" y="245"/>
                    </a:lnTo>
                    <a:lnTo>
                      <a:pt x="4089" y="246"/>
                    </a:lnTo>
                    <a:lnTo>
                      <a:pt x="4272" y="245"/>
                    </a:lnTo>
                    <a:lnTo>
                      <a:pt x="4441" y="243"/>
                    </a:lnTo>
                    <a:lnTo>
                      <a:pt x="4597" y="240"/>
                    </a:lnTo>
                    <a:lnTo>
                      <a:pt x="4670" y="237"/>
                    </a:lnTo>
                    <a:lnTo>
                      <a:pt x="4738" y="235"/>
                    </a:lnTo>
                    <a:lnTo>
                      <a:pt x="4802" y="232"/>
                    </a:lnTo>
                    <a:lnTo>
                      <a:pt x="4862" y="228"/>
                    </a:lnTo>
                    <a:lnTo>
                      <a:pt x="4917" y="225"/>
                    </a:lnTo>
                    <a:lnTo>
                      <a:pt x="4968" y="220"/>
                    </a:lnTo>
                    <a:lnTo>
                      <a:pt x="5014" y="216"/>
                    </a:lnTo>
                    <a:lnTo>
                      <a:pt x="5056" y="210"/>
                    </a:lnTo>
                    <a:lnTo>
                      <a:pt x="5091" y="204"/>
                    </a:lnTo>
                    <a:lnTo>
                      <a:pt x="5122" y="197"/>
                    </a:lnTo>
                    <a:lnTo>
                      <a:pt x="5137" y="194"/>
                    </a:lnTo>
                    <a:lnTo>
                      <a:pt x="5150" y="189"/>
                    </a:lnTo>
                    <a:lnTo>
                      <a:pt x="5161" y="186"/>
                    </a:lnTo>
                    <a:lnTo>
                      <a:pt x="5171" y="181"/>
                    </a:lnTo>
                    <a:lnTo>
                      <a:pt x="5168" y="119"/>
                    </a:lnTo>
                    <a:lnTo>
                      <a:pt x="5171" y="181"/>
                    </a:lnTo>
                    <a:lnTo>
                      <a:pt x="5178" y="177"/>
                    </a:lnTo>
                    <a:lnTo>
                      <a:pt x="5183" y="172"/>
                    </a:lnTo>
                    <a:lnTo>
                      <a:pt x="5187" y="166"/>
                    </a:lnTo>
                    <a:lnTo>
                      <a:pt x="5189" y="160"/>
                    </a:lnTo>
                    <a:lnTo>
                      <a:pt x="5191" y="154"/>
                    </a:lnTo>
                    <a:lnTo>
                      <a:pt x="5189" y="148"/>
                    </a:lnTo>
                    <a:lnTo>
                      <a:pt x="5188" y="141"/>
                    </a:lnTo>
                    <a:lnTo>
                      <a:pt x="5186" y="136"/>
                    </a:lnTo>
                    <a:lnTo>
                      <a:pt x="5183" y="130"/>
                    </a:lnTo>
                    <a:lnTo>
                      <a:pt x="5179" y="125"/>
                    </a:lnTo>
                    <a:lnTo>
                      <a:pt x="5174" y="122"/>
                    </a:lnTo>
                    <a:lnTo>
                      <a:pt x="5169" y="119"/>
                    </a:lnTo>
                    <a:lnTo>
                      <a:pt x="5162" y="117"/>
                    </a:lnTo>
                    <a:lnTo>
                      <a:pt x="5155" y="116"/>
                    </a:lnTo>
                    <a:lnTo>
                      <a:pt x="5148" y="117"/>
                    </a:lnTo>
                    <a:lnTo>
                      <a:pt x="5142" y="121"/>
                    </a:lnTo>
                    <a:lnTo>
                      <a:pt x="5145" y="18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3736800" y="4753080"/>
                <a:ext cx="1481400" cy="65160"/>
              </a:xfrm>
              <a:custGeom>
                <a:avLst/>
                <a:gdLst/>
                <a:ahLst/>
                <a:rect l="l" t="t" r="r" b="b"/>
                <a:pathLst>
                  <a:path w="4666" h="205">
                    <a:moveTo>
                      <a:pt x="39" y="25"/>
                    </a:moveTo>
                    <a:lnTo>
                      <a:pt x="47" y="90"/>
                    </a:lnTo>
                    <a:lnTo>
                      <a:pt x="52" y="87"/>
                    </a:lnTo>
                    <a:lnTo>
                      <a:pt x="66" y="85"/>
                    </a:lnTo>
                    <a:lnTo>
                      <a:pt x="87" y="83"/>
                    </a:lnTo>
                    <a:lnTo>
                      <a:pt x="112" y="81"/>
                    </a:lnTo>
                    <a:lnTo>
                      <a:pt x="177" y="76"/>
                    </a:lnTo>
                    <a:lnTo>
                      <a:pt x="259" y="73"/>
                    </a:lnTo>
                    <a:lnTo>
                      <a:pt x="358" y="70"/>
                    </a:lnTo>
                    <a:lnTo>
                      <a:pt x="473" y="68"/>
                    </a:lnTo>
                    <a:lnTo>
                      <a:pt x="601" y="67"/>
                    </a:lnTo>
                    <a:lnTo>
                      <a:pt x="741" y="67"/>
                    </a:lnTo>
                    <a:lnTo>
                      <a:pt x="893" y="67"/>
                    </a:lnTo>
                    <a:lnTo>
                      <a:pt x="1054" y="68"/>
                    </a:lnTo>
                    <a:lnTo>
                      <a:pt x="1225" y="70"/>
                    </a:lnTo>
                    <a:lnTo>
                      <a:pt x="1403" y="73"/>
                    </a:lnTo>
                    <a:lnTo>
                      <a:pt x="1777" y="80"/>
                    </a:lnTo>
                    <a:lnTo>
                      <a:pt x="2167" y="89"/>
                    </a:lnTo>
                    <a:lnTo>
                      <a:pt x="2561" y="99"/>
                    </a:lnTo>
                    <a:lnTo>
                      <a:pt x="2952" y="111"/>
                    </a:lnTo>
                    <a:lnTo>
                      <a:pt x="3330" y="125"/>
                    </a:lnTo>
                    <a:lnTo>
                      <a:pt x="3682" y="140"/>
                    </a:lnTo>
                    <a:lnTo>
                      <a:pt x="3847" y="148"/>
                    </a:lnTo>
                    <a:lnTo>
                      <a:pt x="4001" y="156"/>
                    </a:lnTo>
                    <a:lnTo>
                      <a:pt x="4145" y="164"/>
                    </a:lnTo>
                    <a:lnTo>
                      <a:pt x="4277" y="172"/>
                    </a:lnTo>
                    <a:lnTo>
                      <a:pt x="4396" y="180"/>
                    </a:lnTo>
                    <a:lnTo>
                      <a:pt x="4498" y="189"/>
                    </a:lnTo>
                    <a:lnTo>
                      <a:pt x="4586" y="197"/>
                    </a:lnTo>
                    <a:lnTo>
                      <a:pt x="4657" y="205"/>
                    </a:lnTo>
                    <a:lnTo>
                      <a:pt x="4666" y="139"/>
                    </a:lnTo>
                    <a:lnTo>
                      <a:pt x="4593" y="130"/>
                    </a:lnTo>
                    <a:lnTo>
                      <a:pt x="4505" y="122"/>
                    </a:lnTo>
                    <a:lnTo>
                      <a:pt x="4400" y="113"/>
                    </a:lnTo>
                    <a:lnTo>
                      <a:pt x="4282" y="105"/>
                    </a:lnTo>
                    <a:lnTo>
                      <a:pt x="4149" y="97"/>
                    </a:lnTo>
                    <a:lnTo>
                      <a:pt x="4005" y="89"/>
                    </a:lnTo>
                    <a:lnTo>
                      <a:pt x="3850" y="81"/>
                    </a:lnTo>
                    <a:lnTo>
                      <a:pt x="3686" y="73"/>
                    </a:lnTo>
                    <a:lnTo>
                      <a:pt x="3332" y="58"/>
                    </a:lnTo>
                    <a:lnTo>
                      <a:pt x="2955" y="44"/>
                    </a:lnTo>
                    <a:lnTo>
                      <a:pt x="2564" y="32"/>
                    </a:lnTo>
                    <a:lnTo>
                      <a:pt x="2168" y="21"/>
                    </a:lnTo>
                    <a:lnTo>
                      <a:pt x="1778" y="12"/>
                    </a:lnTo>
                    <a:lnTo>
                      <a:pt x="1404" y="5"/>
                    </a:lnTo>
                    <a:lnTo>
                      <a:pt x="1225" y="3"/>
                    </a:lnTo>
                    <a:lnTo>
                      <a:pt x="1054" y="1"/>
                    </a:lnTo>
                    <a:lnTo>
                      <a:pt x="893" y="0"/>
                    </a:lnTo>
                    <a:lnTo>
                      <a:pt x="741" y="0"/>
                    </a:lnTo>
                    <a:lnTo>
                      <a:pt x="601" y="0"/>
                    </a:lnTo>
                    <a:lnTo>
                      <a:pt x="472" y="1"/>
                    </a:lnTo>
                    <a:lnTo>
                      <a:pt x="357" y="3"/>
                    </a:lnTo>
                    <a:lnTo>
                      <a:pt x="258" y="5"/>
                    </a:lnTo>
                    <a:lnTo>
                      <a:pt x="173" y="9"/>
                    </a:lnTo>
                    <a:lnTo>
                      <a:pt x="106" y="13"/>
                    </a:lnTo>
                    <a:lnTo>
                      <a:pt x="79" y="16"/>
                    </a:lnTo>
                    <a:lnTo>
                      <a:pt x="57" y="19"/>
                    </a:lnTo>
                    <a:lnTo>
                      <a:pt x="38" y="22"/>
                    </a:lnTo>
                    <a:lnTo>
                      <a:pt x="22" y="27"/>
                    </a:lnTo>
                    <a:lnTo>
                      <a:pt x="30" y="92"/>
                    </a:lnTo>
                    <a:lnTo>
                      <a:pt x="22" y="27"/>
                    </a:lnTo>
                    <a:lnTo>
                      <a:pt x="15" y="30"/>
                    </a:lnTo>
                    <a:lnTo>
                      <a:pt x="9" y="35"/>
                    </a:lnTo>
                    <a:lnTo>
                      <a:pt x="4" y="41"/>
                    </a:lnTo>
                    <a:lnTo>
                      <a:pt x="2" y="46"/>
                    </a:lnTo>
                    <a:lnTo>
                      <a:pt x="0" y="52"/>
                    </a:lnTo>
                    <a:lnTo>
                      <a:pt x="0" y="59"/>
                    </a:lnTo>
                    <a:lnTo>
                      <a:pt x="1" y="65"/>
                    </a:lnTo>
                    <a:lnTo>
                      <a:pt x="2" y="70"/>
                    </a:lnTo>
                    <a:lnTo>
                      <a:pt x="6" y="76"/>
                    </a:lnTo>
                    <a:lnTo>
                      <a:pt x="9" y="82"/>
                    </a:lnTo>
                    <a:lnTo>
                      <a:pt x="14" y="86"/>
                    </a:lnTo>
                    <a:lnTo>
                      <a:pt x="19" y="90"/>
                    </a:lnTo>
                    <a:lnTo>
                      <a:pt x="25" y="92"/>
                    </a:lnTo>
                    <a:lnTo>
                      <a:pt x="32" y="92"/>
                    </a:lnTo>
                    <a:lnTo>
                      <a:pt x="39" y="92"/>
                    </a:lnTo>
                    <a:lnTo>
                      <a:pt x="47" y="90"/>
                    </a:lnTo>
                    <a:lnTo>
                      <a:pt x="39" y="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3746520" y="4761000"/>
                <a:ext cx="1481040" cy="81000"/>
              </a:xfrm>
              <a:custGeom>
                <a:avLst/>
                <a:gdLst/>
                <a:ahLst/>
                <a:rect l="l" t="t" r="r" b="b"/>
                <a:pathLst>
                  <a:path w="4666" h="253">
                    <a:moveTo>
                      <a:pt x="4627" y="180"/>
                    </a:moveTo>
                    <a:lnTo>
                      <a:pt x="4605" y="125"/>
                    </a:lnTo>
                    <a:lnTo>
                      <a:pt x="4605" y="125"/>
                    </a:lnTo>
                    <a:lnTo>
                      <a:pt x="4603" y="128"/>
                    </a:lnTo>
                    <a:lnTo>
                      <a:pt x="4598" y="130"/>
                    </a:lnTo>
                    <a:lnTo>
                      <a:pt x="4593" y="132"/>
                    </a:lnTo>
                    <a:lnTo>
                      <a:pt x="4573" y="139"/>
                    </a:lnTo>
                    <a:lnTo>
                      <a:pt x="4549" y="145"/>
                    </a:lnTo>
                    <a:lnTo>
                      <a:pt x="4518" y="151"/>
                    </a:lnTo>
                    <a:lnTo>
                      <a:pt x="4483" y="157"/>
                    </a:lnTo>
                    <a:lnTo>
                      <a:pt x="4443" y="162"/>
                    </a:lnTo>
                    <a:lnTo>
                      <a:pt x="4398" y="166"/>
                    </a:lnTo>
                    <a:lnTo>
                      <a:pt x="4349" y="170"/>
                    </a:lnTo>
                    <a:lnTo>
                      <a:pt x="4295" y="173"/>
                    </a:lnTo>
                    <a:lnTo>
                      <a:pt x="4237" y="177"/>
                    </a:lnTo>
                    <a:lnTo>
                      <a:pt x="4175" y="179"/>
                    </a:lnTo>
                    <a:lnTo>
                      <a:pt x="4041" y="183"/>
                    </a:lnTo>
                    <a:lnTo>
                      <a:pt x="3893" y="185"/>
                    </a:lnTo>
                    <a:lnTo>
                      <a:pt x="3732" y="185"/>
                    </a:lnTo>
                    <a:lnTo>
                      <a:pt x="3562" y="183"/>
                    </a:lnTo>
                    <a:lnTo>
                      <a:pt x="3382" y="181"/>
                    </a:lnTo>
                    <a:lnTo>
                      <a:pt x="3195" y="177"/>
                    </a:lnTo>
                    <a:lnTo>
                      <a:pt x="3002" y="172"/>
                    </a:lnTo>
                    <a:lnTo>
                      <a:pt x="2804" y="165"/>
                    </a:lnTo>
                    <a:lnTo>
                      <a:pt x="2602" y="158"/>
                    </a:lnTo>
                    <a:lnTo>
                      <a:pt x="2398" y="149"/>
                    </a:lnTo>
                    <a:lnTo>
                      <a:pt x="2194" y="141"/>
                    </a:lnTo>
                    <a:lnTo>
                      <a:pt x="1991" y="131"/>
                    </a:lnTo>
                    <a:lnTo>
                      <a:pt x="1789" y="122"/>
                    </a:lnTo>
                    <a:lnTo>
                      <a:pt x="1591" y="112"/>
                    </a:lnTo>
                    <a:lnTo>
                      <a:pt x="1212" y="90"/>
                    </a:lnTo>
                    <a:lnTo>
                      <a:pt x="864" y="68"/>
                    </a:lnTo>
                    <a:lnTo>
                      <a:pt x="558" y="48"/>
                    </a:lnTo>
                    <a:lnTo>
                      <a:pt x="306" y="28"/>
                    </a:lnTo>
                    <a:lnTo>
                      <a:pt x="204" y="20"/>
                    </a:lnTo>
                    <a:lnTo>
                      <a:pt x="119" y="12"/>
                    </a:lnTo>
                    <a:lnTo>
                      <a:pt x="53" y="5"/>
                    </a:lnTo>
                    <a:lnTo>
                      <a:pt x="9" y="0"/>
                    </a:lnTo>
                    <a:lnTo>
                      <a:pt x="0" y="67"/>
                    </a:lnTo>
                    <a:lnTo>
                      <a:pt x="46" y="73"/>
                    </a:lnTo>
                    <a:lnTo>
                      <a:pt x="112" y="80"/>
                    </a:lnTo>
                    <a:lnTo>
                      <a:pt x="198" y="88"/>
                    </a:lnTo>
                    <a:lnTo>
                      <a:pt x="300" y="96"/>
                    </a:lnTo>
                    <a:lnTo>
                      <a:pt x="554" y="115"/>
                    </a:lnTo>
                    <a:lnTo>
                      <a:pt x="860" y="136"/>
                    </a:lnTo>
                    <a:lnTo>
                      <a:pt x="1208" y="157"/>
                    </a:lnTo>
                    <a:lnTo>
                      <a:pt x="1588" y="179"/>
                    </a:lnTo>
                    <a:lnTo>
                      <a:pt x="1786" y="189"/>
                    </a:lnTo>
                    <a:lnTo>
                      <a:pt x="1988" y="198"/>
                    </a:lnTo>
                    <a:lnTo>
                      <a:pt x="2192" y="209"/>
                    </a:lnTo>
                    <a:lnTo>
                      <a:pt x="2396" y="217"/>
                    </a:lnTo>
                    <a:lnTo>
                      <a:pt x="2600" y="226"/>
                    </a:lnTo>
                    <a:lnTo>
                      <a:pt x="2802" y="232"/>
                    </a:lnTo>
                    <a:lnTo>
                      <a:pt x="3000" y="239"/>
                    </a:lnTo>
                    <a:lnTo>
                      <a:pt x="3194" y="244"/>
                    </a:lnTo>
                    <a:lnTo>
                      <a:pt x="3381" y="248"/>
                    </a:lnTo>
                    <a:lnTo>
                      <a:pt x="3561" y="251"/>
                    </a:lnTo>
                    <a:lnTo>
                      <a:pt x="3732" y="253"/>
                    </a:lnTo>
                    <a:lnTo>
                      <a:pt x="3893" y="252"/>
                    </a:lnTo>
                    <a:lnTo>
                      <a:pt x="4041" y="251"/>
                    </a:lnTo>
                    <a:lnTo>
                      <a:pt x="4176" y="246"/>
                    </a:lnTo>
                    <a:lnTo>
                      <a:pt x="4239" y="244"/>
                    </a:lnTo>
                    <a:lnTo>
                      <a:pt x="4298" y="240"/>
                    </a:lnTo>
                    <a:lnTo>
                      <a:pt x="4353" y="237"/>
                    </a:lnTo>
                    <a:lnTo>
                      <a:pt x="4404" y="234"/>
                    </a:lnTo>
                    <a:lnTo>
                      <a:pt x="4450" y="229"/>
                    </a:lnTo>
                    <a:lnTo>
                      <a:pt x="4492" y="223"/>
                    </a:lnTo>
                    <a:lnTo>
                      <a:pt x="4531" y="218"/>
                    </a:lnTo>
                    <a:lnTo>
                      <a:pt x="4564" y="211"/>
                    </a:lnTo>
                    <a:lnTo>
                      <a:pt x="4593" y="204"/>
                    </a:lnTo>
                    <a:lnTo>
                      <a:pt x="4617" y="195"/>
                    </a:lnTo>
                    <a:lnTo>
                      <a:pt x="4628" y="190"/>
                    </a:lnTo>
                    <a:lnTo>
                      <a:pt x="4638" y="185"/>
                    </a:lnTo>
                    <a:lnTo>
                      <a:pt x="4648" y="178"/>
                    </a:lnTo>
                    <a:lnTo>
                      <a:pt x="4656" y="169"/>
                    </a:lnTo>
                    <a:lnTo>
                      <a:pt x="4636" y="114"/>
                    </a:lnTo>
                    <a:lnTo>
                      <a:pt x="4656" y="169"/>
                    </a:lnTo>
                    <a:lnTo>
                      <a:pt x="4661" y="162"/>
                    </a:lnTo>
                    <a:lnTo>
                      <a:pt x="4664" y="155"/>
                    </a:lnTo>
                    <a:lnTo>
                      <a:pt x="4666" y="149"/>
                    </a:lnTo>
                    <a:lnTo>
                      <a:pt x="4666" y="142"/>
                    </a:lnTo>
                    <a:lnTo>
                      <a:pt x="4663" y="137"/>
                    </a:lnTo>
                    <a:lnTo>
                      <a:pt x="4661" y="131"/>
                    </a:lnTo>
                    <a:lnTo>
                      <a:pt x="4658" y="125"/>
                    </a:lnTo>
                    <a:lnTo>
                      <a:pt x="4653" y="121"/>
                    </a:lnTo>
                    <a:lnTo>
                      <a:pt x="4647" y="117"/>
                    </a:lnTo>
                    <a:lnTo>
                      <a:pt x="4642" y="115"/>
                    </a:lnTo>
                    <a:lnTo>
                      <a:pt x="4636" y="113"/>
                    </a:lnTo>
                    <a:lnTo>
                      <a:pt x="4629" y="113"/>
                    </a:lnTo>
                    <a:lnTo>
                      <a:pt x="4623" y="114"/>
                    </a:lnTo>
                    <a:lnTo>
                      <a:pt x="4617" y="116"/>
                    </a:lnTo>
                    <a:lnTo>
                      <a:pt x="4611" y="120"/>
                    </a:lnTo>
                    <a:lnTo>
                      <a:pt x="4605" y="125"/>
                    </a:lnTo>
                    <a:lnTo>
                      <a:pt x="4627" y="1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3549600" y="5016600"/>
                <a:ext cx="1703520" cy="71280"/>
              </a:xfrm>
              <a:custGeom>
                <a:avLst/>
                <a:gdLst/>
                <a:ahLst/>
                <a:rect l="l" t="t" r="r" b="b"/>
                <a:pathLst>
                  <a:path w="5365" h="225">
                    <a:moveTo>
                      <a:pt x="43" y="44"/>
                    </a:moveTo>
                    <a:lnTo>
                      <a:pt x="53" y="104"/>
                    </a:lnTo>
                    <a:lnTo>
                      <a:pt x="54" y="103"/>
                    </a:lnTo>
                    <a:lnTo>
                      <a:pt x="57" y="102"/>
                    </a:lnTo>
                    <a:lnTo>
                      <a:pt x="64" y="99"/>
                    </a:lnTo>
                    <a:lnTo>
                      <a:pt x="72" y="97"/>
                    </a:lnTo>
                    <a:lnTo>
                      <a:pt x="95" y="93"/>
                    </a:lnTo>
                    <a:lnTo>
                      <a:pt x="125" y="88"/>
                    </a:lnTo>
                    <a:lnTo>
                      <a:pt x="160" y="85"/>
                    </a:lnTo>
                    <a:lnTo>
                      <a:pt x="201" y="81"/>
                    </a:lnTo>
                    <a:lnTo>
                      <a:pt x="248" y="78"/>
                    </a:lnTo>
                    <a:lnTo>
                      <a:pt x="300" y="76"/>
                    </a:lnTo>
                    <a:lnTo>
                      <a:pt x="419" y="71"/>
                    </a:lnTo>
                    <a:lnTo>
                      <a:pt x="556" y="69"/>
                    </a:lnTo>
                    <a:lnTo>
                      <a:pt x="709" y="68"/>
                    </a:lnTo>
                    <a:lnTo>
                      <a:pt x="879" y="68"/>
                    </a:lnTo>
                    <a:lnTo>
                      <a:pt x="1062" y="69"/>
                    </a:lnTo>
                    <a:lnTo>
                      <a:pt x="1256" y="72"/>
                    </a:lnTo>
                    <a:lnTo>
                      <a:pt x="1461" y="76"/>
                    </a:lnTo>
                    <a:lnTo>
                      <a:pt x="1674" y="80"/>
                    </a:lnTo>
                    <a:lnTo>
                      <a:pt x="2121" y="93"/>
                    </a:lnTo>
                    <a:lnTo>
                      <a:pt x="2585" y="106"/>
                    </a:lnTo>
                    <a:lnTo>
                      <a:pt x="3051" y="123"/>
                    </a:lnTo>
                    <a:lnTo>
                      <a:pt x="3508" y="141"/>
                    </a:lnTo>
                    <a:lnTo>
                      <a:pt x="3945" y="159"/>
                    </a:lnTo>
                    <a:lnTo>
                      <a:pt x="4347" y="176"/>
                    </a:lnTo>
                    <a:lnTo>
                      <a:pt x="4702" y="193"/>
                    </a:lnTo>
                    <a:lnTo>
                      <a:pt x="4998" y="207"/>
                    </a:lnTo>
                    <a:lnTo>
                      <a:pt x="5222" y="218"/>
                    </a:lnTo>
                    <a:lnTo>
                      <a:pt x="5361" y="225"/>
                    </a:lnTo>
                    <a:lnTo>
                      <a:pt x="5365" y="158"/>
                    </a:lnTo>
                    <a:lnTo>
                      <a:pt x="5225" y="151"/>
                    </a:lnTo>
                    <a:lnTo>
                      <a:pt x="5000" y="139"/>
                    </a:lnTo>
                    <a:lnTo>
                      <a:pt x="4705" y="126"/>
                    </a:lnTo>
                    <a:lnTo>
                      <a:pt x="4349" y="109"/>
                    </a:lnTo>
                    <a:lnTo>
                      <a:pt x="3947" y="91"/>
                    </a:lnTo>
                    <a:lnTo>
                      <a:pt x="3512" y="73"/>
                    </a:lnTo>
                    <a:lnTo>
                      <a:pt x="3053" y="56"/>
                    </a:lnTo>
                    <a:lnTo>
                      <a:pt x="2586" y="39"/>
                    </a:lnTo>
                    <a:lnTo>
                      <a:pt x="2123" y="25"/>
                    </a:lnTo>
                    <a:lnTo>
                      <a:pt x="1676" y="13"/>
                    </a:lnTo>
                    <a:lnTo>
                      <a:pt x="1462" y="8"/>
                    </a:lnTo>
                    <a:lnTo>
                      <a:pt x="1257" y="5"/>
                    </a:lnTo>
                    <a:lnTo>
                      <a:pt x="1062" y="1"/>
                    </a:lnTo>
                    <a:lnTo>
                      <a:pt x="879" y="0"/>
                    </a:lnTo>
                    <a:lnTo>
                      <a:pt x="709" y="0"/>
                    </a:lnTo>
                    <a:lnTo>
                      <a:pt x="556" y="1"/>
                    </a:lnTo>
                    <a:lnTo>
                      <a:pt x="418" y="4"/>
                    </a:lnTo>
                    <a:lnTo>
                      <a:pt x="297" y="8"/>
                    </a:lnTo>
                    <a:lnTo>
                      <a:pt x="244" y="10"/>
                    </a:lnTo>
                    <a:lnTo>
                      <a:pt x="196" y="14"/>
                    </a:lnTo>
                    <a:lnTo>
                      <a:pt x="154" y="17"/>
                    </a:lnTo>
                    <a:lnTo>
                      <a:pt x="117" y="22"/>
                    </a:lnTo>
                    <a:lnTo>
                      <a:pt x="85" y="26"/>
                    </a:lnTo>
                    <a:lnTo>
                      <a:pt x="57" y="31"/>
                    </a:lnTo>
                    <a:lnTo>
                      <a:pt x="45" y="34"/>
                    </a:lnTo>
                    <a:lnTo>
                      <a:pt x="35" y="38"/>
                    </a:lnTo>
                    <a:lnTo>
                      <a:pt x="24" y="42"/>
                    </a:lnTo>
                    <a:lnTo>
                      <a:pt x="15" y="48"/>
                    </a:lnTo>
                    <a:lnTo>
                      <a:pt x="25" y="109"/>
                    </a:lnTo>
                    <a:lnTo>
                      <a:pt x="15" y="48"/>
                    </a:lnTo>
                    <a:lnTo>
                      <a:pt x="8" y="53"/>
                    </a:lnTo>
                    <a:lnTo>
                      <a:pt x="5" y="58"/>
                    </a:lnTo>
                    <a:lnTo>
                      <a:pt x="2" y="64"/>
                    </a:lnTo>
                    <a:lnTo>
                      <a:pt x="0" y="71"/>
                    </a:lnTo>
                    <a:lnTo>
                      <a:pt x="0" y="77"/>
                    </a:lnTo>
                    <a:lnTo>
                      <a:pt x="0" y="83"/>
                    </a:lnTo>
                    <a:lnTo>
                      <a:pt x="3" y="89"/>
                    </a:lnTo>
                    <a:lnTo>
                      <a:pt x="6" y="95"/>
                    </a:lnTo>
                    <a:lnTo>
                      <a:pt x="9" y="99"/>
                    </a:lnTo>
                    <a:lnTo>
                      <a:pt x="15" y="104"/>
                    </a:lnTo>
                    <a:lnTo>
                      <a:pt x="20" y="107"/>
                    </a:lnTo>
                    <a:lnTo>
                      <a:pt x="27" y="110"/>
                    </a:lnTo>
                    <a:lnTo>
                      <a:pt x="32" y="110"/>
                    </a:lnTo>
                    <a:lnTo>
                      <a:pt x="39" y="110"/>
                    </a:lnTo>
                    <a:lnTo>
                      <a:pt x="46" y="107"/>
                    </a:lnTo>
                    <a:lnTo>
                      <a:pt x="53" y="104"/>
                    </a:lnTo>
                    <a:lnTo>
                      <a:pt x="43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3557520" y="5030640"/>
                <a:ext cx="1704960" cy="79560"/>
              </a:xfrm>
              <a:custGeom>
                <a:avLst/>
                <a:gdLst/>
                <a:ahLst/>
                <a:rect l="l" t="t" r="r" b="b"/>
                <a:pathLst>
                  <a:path w="5372" h="251">
                    <a:moveTo>
                      <a:pt x="5336" y="181"/>
                    </a:moveTo>
                    <a:lnTo>
                      <a:pt x="5315" y="124"/>
                    </a:lnTo>
                    <a:lnTo>
                      <a:pt x="5314" y="124"/>
                    </a:lnTo>
                    <a:lnTo>
                      <a:pt x="5311" y="125"/>
                    </a:lnTo>
                    <a:lnTo>
                      <a:pt x="5305" y="128"/>
                    </a:lnTo>
                    <a:lnTo>
                      <a:pt x="5298" y="131"/>
                    </a:lnTo>
                    <a:lnTo>
                      <a:pt x="5275" y="136"/>
                    </a:lnTo>
                    <a:lnTo>
                      <a:pt x="5247" y="143"/>
                    </a:lnTo>
                    <a:lnTo>
                      <a:pt x="5211" y="149"/>
                    </a:lnTo>
                    <a:lnTo>
                      <a:pt x="5169" y="154"/>
                    </a:lnTo>
                    <a:lnTo>
                      <a:pt x="5122" y="158"/>
                    </a:lnTo>
                    <a:lnTo>
                      <a:pt x="5070" y="163"/>
                    </a:lnTo>
                    <a:lnTo>
                      <a:pt x="5012" y="167"/>
                    </a:lnTo>
                    <a:lnTo>
                      <a:pt x="4949" y="171"/>
                    </a:lnTo>
                    <a:lnTo>
                      <a:pt x="4881" y="173"/>
                    </a:lnTo>
                    <a:lnTo>
                      <a:pt x="4809" y="176"/>
                    </a:lnTo>
                    <a:lnTo>
                      <a:pt x="4653" y="180"/>
                    </a:lnTo>
                    <a:lnTo>
                      <a:pt x="4481" y="182"/>
                    </a:lnTo>
                    <a:lnTo>
                      <a:pt x="4294" y="183"/>
                    </a:lnTo>
                    <a:lnTo>
                      <a:pt x="4095" y="183"/>
                    </a:lnTo>
                    <a:lnTo>
                      <a:pt x="3887" y="182"/>
                    </a:lnTo>
                    <a:lnTo>
                      <a:pt x="3669" y="179"/>
                    </a:lnTo>
                    <a:lnTo>
                      <a:pt x="3444" y="174"/>
                    </a:lnTo>
                    <a:lnTo>
                      <a:pt x="3214" y="170"/>
                    </a:lnTo>
                    <a:lnTo>
                      <a:pt x="2980" y="164"/>
                    </a:lnTo>
                    <a:lnTo>
                      <a:pt x="2744" y="157"/>
                    </a:lnTo>
                    <a:lnTo>
                      <a:pt x="2507" y="149"/>
                    </a:lnTo>
                    <a:lnTo>
                      <a:pt x="2271" y="141"/>
                    </a:lnTo>
                    <a:lnTo>
                      <a:pt x="2039" y="132"/>
                    </a:lnTo>
                    <a:lnTo>
                      <a:pt x="1810" y="122"/>
                    </a:lnTo>
                    <a:lnTo>
                      <a:pt x="1587" y="113"/>
                    </a:lnTo>
                    <a:lnTo>
                      <a:pt x="1373" y="102"/>
                    </a:lnTo>
                    <a:lnTo>
                      <a:pt x="1167" y="91"/>
                    </a:lnTo>
                    <a:lnTo>
                      <a:pt x="973" y="81"/>
                    </a:lnTo>
                    <a:lnTo>
                      <a:pt x="790" y="69"/>
                    </a:lnTo>
                    <a:lnTo>
                      <a:pt x="624" y="59"/>
                    </a:lnTo>
                    <a:lnTo>
                      <a:pt x="472" y="47"/>
                    </a:lnTo>
                    <a:lnTo>
                      <a:pt x="339" y="37"/>
                    </a:lnTo>
                    <a:lnTo>
                      <a:pt x="224" y="27"/>
                    </a:lnTo>
                    <a:lnTo>
                      <a:pt x="130" y="17"/>
                    </a:lnTo>
                    <a:lnTo>
                      <a:pt x="93" y="12"/>
                    </a:lnTo>
                    <a:lnTo>
                      <a:pt x="61" y="8"/>
                    </a:lnTo>
                    <a:lnTo>
                      <a:pt x="36" y="3"/>
                    </a:lnTo>
                    <a:lnTo>
                      <a:pt x="18" y="0"/>
                    </a:lnTo>
                    <a:lnTo>
                      <a:pt x="0" y="65"/>
                    </a:lnTo>
                    <a:lnTo>
                      <a:pt x="23" y="69"/>
                    </a:lnTo>
                    <a:lnTo>
                      <a:pt x="51" y="74"/>
                    </a:lnTo>
                    <a:lnTo>
                      <a:pt x="84" y="79"/>
                    </a:lnTo>
                    <a:lnTo>
                      <a:pt x="124" y="84"/>
                    </a:lnTo>
                    <a:lnTo>
                      <a:pt x="218" y="94"/>
                    </a:lnTo>
                    <a:lnTo>
                      <a:pt x="333" y="105"/>
                    </a:lnTo>
                    <a:lnTo>
                      <a:pt x="467" y="115"/>
                    </a:lnTo>
                    <a:lnTo>
                      <a:pt x="619" y="126"/>
                    </a:lnTo>
                    <a:lnTo>
                      <a:pt x="787" y="136"/>
                    </a:lnTo>
                    <a:lnTo>
                      <a:pt x="969" y="148"/>
                    </a:lnTo>
                    <a:lnTo>
                      <a:pt x="1163" y="158"/>
                    </a:lnTo>
                    <a:lnTo>
                      <a:pt x="1370" y="170"/>
                    </a:lnTo>
                    <a:lnTo>
                      <a:pt x="1584" y="180"/>
                    </a:lnTo>
                    <a:lnTo>
                      <a:pt x="1807" y="189"/>
                    </a:lnTo>
                    <a:lnTo>
                      <a:pt x="2035" y="199"/>
                    </a:lnTo>
                    <a:lnTo>
                      <a:pt x="2269" y="208"/>
                    </a:lnTo>
                    <a:lnTo>
                      <a:pt x="2505" y="216"/>
                    </a:lnTo>
                    <a:lnTo>
                      <a:pt x="2742" y="224"/>
                    </a:lnTo>
                    <a:lnTo>
                      <a:pt x="2978" y="231"/>
                    </a:lnTo>
                    <a:lnTo>
                      <a:pt x="3213" y="237"/>
                    </a:lnTo>
                    <a:lnTo>
                      <a:pt x="3443" y="241"/>
                    </a:lnTo>
                    <a:lnTo>
                      <a:pt x="3669" y="246"/>
                    </a:lnTo>
                    <a:lnTo>
                      <a:pt x="3887" y="249"/>
                    </a:lnTo>
                    <a:lnTo>
                      <a:pt x="4095" y="251"/>
                    </a:lnTo>
                    <a:lnTo>
                      <a:pt x="4294" y="251"/>
                    </a:lnTo>
                    <a:lnTo>
                      <a:pt x="4481" y="249"/>
                    </a:lnTo>
                    <a:lnTo>
                      <a:pt x="4654" y="247"/>
                    </a:lnTo>
                    <a:lnTo>
                      <a:pt x="4811" y="244"/>
                    </a:lnTo>
                    <a:lnTo>
                      <a:pt x="4884" y="240"/>
                    </a:lnTo>
                    <a:lnTo>
                      <a:pt x="4953" y="238"/>
                    </a:lnTo>
                    <a:lnTo>
                      <a:pt x="5015" y="235"/>
                    </a:lnTo>
                    <a:lnTo>
                      <a:pt x="5075" y="230"/>
                    </a:lnTo>
                    <a:lnTo>
                      <a:pt x="5128" y="225"/>
                    </a:lnTo>
                    <a:lnTo>
                      <a:pt x="5177" y="221"/>
                    </a:lnTo>
                    <a:lnTo>
                      <a:pt x="5221" y="215"/>
                    </a:lnTo>
                    <a:lnTo>
                      <a:pt x="5258" y="209"/>
                    </a:lnTo>
                    <a:lnTo>
                      <a:pt x="5291" y="203"/>
                    </a:lnTo>
                    <a:lnTo>
                      <a:pt x="5317" y="196"/>
                    </a:lnTo>
                    <a:lnTo>
                      <a:pt x="5330" y="191"/>
                    </a:lnTo>
                    <a:lnTo>
                      <a:pt x="5341" y="186"/>
                    </a:lnTo>
                    <a:lnTo>
                      <a:pt x="5352" y="180"/>
                    </a:lnTo>
                    <a:lnTo>
                      <a:pt x="5362" y="172"/>
                    </a:lnTo>
                    <a:lnTo>
                      <a:pt x="5340" y="114"/>
                    </a:lnTo>
                    <a:lnTo>
                      <a:pt x="5362" y="172"/>
                    </a:lnTo>
                    <a:lnTo>
                      <a:pt x="5366" y="166"/>
                    </a:lnTo>
                    <a:lnTo>
                      <a:pt x="5370" y="159"/>
                    </a:lnTo>
                    <a:lnTo>
                      <a:pt x="5372" y="154"/>
                    </a:lnTo>
                    <a:lnTo>
                      <a:pt x="5372" y="147"/>
                    </a:lnTo>
                    <a:lnTo>
                      <a:pt x="5371" y="141"/>
                    </a:lnTo>
                    <a:lnTo>
                      <a:pt x="5370" y="135"/>
                    </a:lnTo>
                    <a:lnTo>
                      <a:pt x="5366" y="130"/>
                    </a:lnTo>
                    <a:lnTo>
                      <a:pt x="5362" y="124"/>
                    </a:lnTo>
                    <a:lnTo>
                      <a:pt x="5357" y="120"/>
                    </a:lnTo>
                    <a:lnTo>
                      <a:pt x="5352" y="117"/>
                    </a:lnTo>
                    <a:lnTo>
                      <a:pt x="5346" y="115"/>
                    </a:lnTo>
                    <a:lnTo>
                      <a:pt x="5340" y="114"/>
                    </a:lnTo>
                    <a:lnTo>
                      <a:pt x="5333" y="114"/>
                    </a:lnTo>
                    <a:lnTo>
                      <a:pt x="5328" y="115"/>
                    </a:lnTo>
                    <a:lnTo>
                      <a:pt x="5321" y="118"/>
                    </a:lnTo>
                    <a:lnTo>
                      <a:pt x="5315" y="124"/>
                    </a:lnTo>
                    <a:lnTo>
                      <a:pt x="5336" y="1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5232240" y="47545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6" h="68">
                    <a:moveTo>
                      <a:pt x="0" y="68"/>
                    </a:moveTo>
                    <a:lnTo>
                      <a:pt x="8" y="68"/>
                    </a:lnTo>
                    <a:lnTo>
                      <a:pt x="15" y="65"/>
                    </a:lnTo>
                    <a:lnTo>
                      <a:pt x="21" y="62"/>
                    </a:lnTo>
                    <a:lnTo>
                      <a:pt x="27" y="59"/>
                    </a:lnTo>
                    <a:lnTo>
                      <a:pt x="30" y="53"/>
                    </a:lnTo>
                    <a:lnTo>
                      <a:pt x="32" y="47"/>
                    </a:lnTo>
                    <a:lnTo>
                      <a:pt x="35" y="41"/>
                    </a:lnTo>
                    <a:lnTo>
                      <a:pt x="36" y="36"/>
                    </a:lnTo>
                    <a:lnTo>
                      <a:pt x="35" y="29"/>
                    </a:lnTo>
                    <a:lnTo>
                      <a:pt x="33" y="23"/>
                    </a:lnTo>
                    <a:lnTo>
                      <a:pt x="31" y="17"/>
                    </a:lnTo>
                    <a:lnTo>
                      <a:pt x="28" y="12"/>
                    </a:lnTo>
                    <a:lnTo>
                      <a:pt x="23" y="7"/>
                    </a:lnTo>
                    <a:lnTo>
                      <a:pt x="17" y="4"/>
                    </a:lnTo>
                    <a:lnTo>
                      <a:pt x="11" y="1"/>
                    </a:lnTo>
                    <a:lnTo>
                      <a:pt x="3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3727440" y="4726080"/>
                <a:ext cx="1504800" cy="50760"/>
              </a:xfrm>
              <a:custGeom>
                <a:avLst/>
                <a:gdLst/>
                <a:ahLst/>
                <a:rect l="l" t="t" r="r" b="b"/>
                <a:pathLst>
                  <a:path w="4744" h="158">
                    <a:moveTo>
                      <a:pt x="14" y="97"/>
                    </a:moveTo>
                    <a:lnTo>
                      <a:pt x="37" y="93"/>
                    </a:lnTo>
                    <a:lnTo>
                      <a:pt x="65" y="89"/>
                    </a:lnTo>
                    <a:lnTo>
                      <a:pt x="99" y="86"/>
                    </a:lnTo>
                    <a:lnTo>
                      <a:pt x="139" y="84"/>
                    </a:lnTo>
                    <a:lnTo>
                      <a:pt x="234" y="78"/>
                    </a:lnTo>
                    <a:lnTo>
                      <a:pt x="346" y="73"/>
                    </a:lnTo>
                    <a:lnTo>
                      <a:pt x="474" y="71"/>
                    </a:lnTo>
                    <a:lnTo>
                      <a:pt x="618" y="69"/>
                    </a:lnTo>
                    <a:lnTo>
                      <a:pt x="775" y="69"/>
                    </a:lnTo>
                    <a:lnTo>
                      <a:pt x="944" y="69"/>
                    </a:lnTo>
                    <a:lnTo>
                      <a:pt x="1124" y="69"/>
                    </a:lnTo>
                    <a:lnTo>
                      <a:pt x="1312" y="71"/>
                    </a:lnTo>
                    <a:lnTo>
                      <a:pt x="1508" y="73"/>
                    </a:lnTo>
                    <a:lnTo>
                      <a:pt x="1710" y="77"/>
                    </a:lnTo>
                    <a:lnTo>
                      <a:pt x="2127" y="84"/>
                    </a:lnTo>
                    <a:lnTo>
                      <a:pt x="2549" y="93"/>
                    </a:lnTo>
                    <a:lnTo>
                      <a:pt x="2966" y="104"/>
                    </a:lnTo>
                    <a:lnTo>
                      <a:pt x="3367" y="114"/>
                    </a:lnTo>
                    <a:lnTo>
                      <a:pt x="3738" y="126"/>
                    </a:lnTo>
                    <a:lnTo>
                      <a:pt x="4068" y="135"/>
                    </a:lnTo>
                    <a:lnTo>
                      <a:pt x="4558" y="151"/>
                    </a:lnTo>
                    <a:lnTo>
                      <a:pt x="4741" y="158"/>
                    </a:lnTo>
                    <a:lnTo>
                      <a:pt x="4744" y="90"/>
                    </a:lnTo>
                    <a:lnTo>
                      <a:pt x="4559" y="84"/>
                    </a:lnTo>
                    <a:lnTo>
                      <a:pt x="4070" y="68"/>
                    </a:lnTo>
                    <a:lnTo>
                      <a:pt x="3739" y="58"/>
                    </a:lnTo>
                    <a:lnTo>
                      <a:pt x="3369" y="47"/>
                    </a:lnTo>
                    <a:lnTo>
                      <a:pt x="2969" y="37"/>
                    </a:lnTo>
                    <a:lnTo>
                      <a:pt x="2551" y="25"/>
                    </a:lnTo>
                    <a:lnTo>
                      <a:pt x="2128" y="16"/>
                    </a:lnTo>
                    <a:lnTo>
                      <a:pt x="1711" y="9"/>
                    </a:lnTo>
                    <a:lnTo>
                      <a:pt x="1509" y="6"/>
                    </a:lnTo>
                    <a:lnTo>
                      <a:pt x="1313" y="4"/>
                    </a:lnTo>
                    <a:lnTo>
                      <a:pt x="1124" y="1"/>
                    </a:lnTo>
                    <a:lnTo>
                      <a:pt x="944" y="0"/>
                    </a:lnTo>
                    <a:lnTo>
                      <a:pt x="775" y="0"/>
                    </a:lnTo>
                    <a:lnTo>
                      <a:pt x="618" y="1"/>
                    </a:lnTo>
                    <a:lnTo>
                      <a:pt x="473" y="4"/>
                    </a:lnTo>
                    <a:lnTo>
                      <a:pt x="344" y="6"/>
                    </a:lnTo>
                    <a:lnTo>
                      <a:pt x="230" y="10"/>
                    </a:lnTo>
                    <a:lnTo>
                      <a:pt x="136" y="16"/>
                    </a:lnTo>
                    <a:lnTo>
                      <a:pt x="95" y="18"/>
                    </a:lnTo>
                    <a:lnTo>
                      <a:pt x="58" y="22"/>
                    </a:lnTo>
                    <a:lnTo>
                      <a:pt x="27" y="26"/>
                    </a:lnTo>
                    <a:lnTo>
                      <a:pt x="0" y="31"/>
                    </a:lnTo>
                    <a:lnTo>
                      <a:pt x="14" y="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3718080" y="47372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27" y="0"/>
                    </a:moveTo>
                    <a:lnTo>
                      <a:pt x="20" y="2"/>
                    </a:lnTo>
                    <a:lnTo>
                      <a:pt x="13" y="6"/>
                    </a:lnTo>
                    <a:lnTo>
                      <a:pt x="9" y="9"/>
                    </a:lnTo>
                    <a:lnTo>
                      <a:pt x="4" y="15"/>
                    </a:lnTo>
                    <a:lnTo>
                      <a:pt x="2" y="21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3" y="46"/>
                    </a:lnTo>
                    <a:lnTo>
                      <a:pt x="5" y="51"/>
                    </a:lnTo>
                    <a:lnTo>
                      <a:pt x="9" y="56"/>
                    </a:lnTo>
                    <a:lnTo>
                      <a:pt x="13" y="60"/>
                    </a:lnTo>
                    <a:lnTo>
                      <a:pt x="19" y="64"/>
                    </a:lnTo>
                    <a:lnTo>
                      <a:pt x="26" y="66"/>
                    </a:lnTo>
                    <a:lnTo>
                      <a:pt x="33" y="66"/>
                    </a:lnTo>
                    <a:lnTo>
                      <a:pt x="41" y="6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5181480" y="502452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2" y="0"/>
                    </a:moveTo>
                    <a:lnTo>
                      <a:pt x="25" y="1"/>
                    </a:lnTo>
                    <a:lnTo>
                      <a:pt x="18" y="3"/>
                    </a:lnTo>
                    <a:lnTo>
                      <a:pt x="13" y="7"/>
                    </a:lnTo>
                    <a:lnTo>
                      <a:pt x="8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8" y="57"/>
                    </a:lnTo>
                    <a:lnTo>
                      <a:pt x="14" y="61"/>
                    </a:lnTo>
                    <a:lnTo>
                      <a:pt x="19" y="65"/>
                    </a:lnTo>
                    <a:lnTo>
                      <a:pt x="26" y="66"/>
                    </a:lnTo>
                    <a:lnTo>
                      <a:pt x="34" y="6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3645000" y="4938840"/>
                <a:ext cx="1557360" cy="106200"/>
              </a:xfrm>
              <a:custGeom>
                <a:avLst/>
                <a:gdLst/>
                <a:ahLst/>
                <a:rect l="l" t="t" r="r" b="b"/>
                <a:pathLst>
                  <a:path w="4908" h="335">
                    <a:moveTo>
                      <a:pt x="0" y="66"/>
                    </a:moveTo>
                    <a:lnTo>
                      <a:pt x="26" y="72"/>
                    </a:lnTo>
                    <a:lnTo>
                      <a:pt x="59" y="76"/>
                    </a:lnTo>
                    <a:lnTo>
                      <a:pt x="97" y="82"/>
                    </a:lnTo>
                    <a:lnTo>
                      <a:pt x="142" y="86"/>
                    </a:lnTo>
                    <a:lnTo>
                      <a:pt x="244" y="97"/>
                    </a:lnTo>
                    <a:lnTo>
                      <a:pt x="366" y="107"/>
                    </a:lnTo>
                    <a:lnTo>
                      <a:pt x="506" y="117"/>
                    </a:lnTo>
                    <a:lnTo>
                      <a:pt x="664" y="129"/>
                    </a:lnTo>
                    <a:lnTo>
                      <a:pt x="835" y="139"/>
                    </a:lnTo>
                    <a:lnTo>
                      <a:pt x="1019" y="150"/>
                    </a:lnTo>
                    <a:lnTo>
                      <a:pt x="1421" y="172"/>
                    </a:lnTo>
                    <a:lnTo>
                      <a:pt x="1853" y="194"/>
                    </a:lnTo>
                    <a:lnTo>
                      <a:pt x="2302" y="215"/>
                    </a:lnTo>
                    <a:lnTo>
                      <a:pt x="2756" y="235"/>
                    </a:lnTo>
                    <a:lnTo>
                      <a:pt x="3619" y="272"/>
                    </a:lnTo>
                    <a:lnTo>
                      <a:pt x="4333" y="303"/>
                    </a:lnTo>
                    <a:lnTo>
                      <a:pt x="4600" y="316"/>
                    </a:lnTo>
                    <a:lnTo>
                      <a:pt x="4788" y="325"/>
                    </a:lnTo>
                    <a:lnTo>
                      <a:pt x="4849" y="328"/>
                    </a:lnTo>
                    <a:lnTo>
                      <a:pt x="4884" y="332"/>
                    </a:lnTo>
                    <a:lnTo>
                      <a:pt x="4887" y="332"/>
                    </a:lnTo>
                    <a:lnTo>
                      <a:pt x="4884" y="268"/>
                    </a:lnTo>
                    <a:lnTo>
                      <a:pt x="4889" y="267"/>
                    </a:lnTo>
                    <a:lnTo>
                      <a:pt x="4876" y="268"/>
                    </a:lnTo>
                    <a:lnTo>
                      <a:pt x="4878" y="335"/>
                    </a:lnTo>
                    <a:lnTo>
                      <a:pt x="4893" y="334"/>
                    </a:lnTo>
                    <a:lnTo>
                      <a:pt x="4908" y="332"/>
                    </a:lnTo>
                    <a:lnTo>
                      <a:pt x="4902" y="265"/>
                    </a:lnTo>
                    <a:lnTo>
                      <a:pt x="4890" y="264"/>
                    </a:lnTo>
                    <a:lnTo>
                      <a:pt x="4853" y="261"/>
                    </a:lnTo>
                    <a:lnTo>
                      <a:pt x="4792" y="257"/>
                    </a:lnTo>
                    <a:lnTo>
                      <a:pt x="4604" y="248"/>
                    </a:lnTo>
                    <a:lnTo>
                      <a:pt x="4336" y="236"/>
                    </a:lnTo>
                    <a:lnTo>
                      <a:pt x="3622" y="205"/>
                    </a:lnTo>
                    <a:lnTo>
                      <a:pt x="2758" y="167"/>
                    </a:lnTo>
                    <a:lnTo>
                      <a:pt x="2305" y="148"/>
                    </a:lnTo>
                    <a:lnTo>
                      <a:pt x="1855" y="126"/>
                    </a:lnTo>
                    <a:lnTo>
                      <a:pt x="1424" y="105"/>
                    </a:lnTo>
                    <a:lnTo>
                      <a:pt x="1023" y="83"/>
                    </a:lnTo>
                    <a:lnTo>
                      <a:pt x="839" y="72"/>
                    </a:lnTo>
                    <a:lnTo>
                      <a:pt x="668" y="61"/>
                    </a:lnTo>
                    <a:lnTo>
                      <a:pt x="512" y="50"/>
                    </a:lnTo>
                    <a:lnTo>
                      <a:pt x="372" y="40"/>
                    </a:lnTo>
                    <a:lnTo>
                      <a:pt x="250" y="29"/>
                    </a:lnTo>
                    <a:lnTo>
                      <a:pt x="148" y="19"/>
                    </a:lnTo>
                    <a:lnTo>
                      <a:pt x="105" y="14"/>
                    </a:lnTo>
                    <a:lnTo>
                      <a:pt x="69" y="10"/>
                    </a:lnTo>
                    <a:lnTo>
                      <a:pt x="38" y="4"/>
                    </a:lnTo>
                    <a:lnTo>
                      <a:pt x="1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3635280" y="49388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41" y="0"/>
                    </a:moveTo>
                    <a:lnTo>
                      <a:pt x="33" y="0"/>
                    </a:lnTo>
                    <a:lnTo>
                      <a:pt x="25" y="0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9" y="10"/>
                    </a:lnTo>
                    <a:lnTo>
                      <a:pt x="6" y="14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4" y="51"/>
                    </a:lnTo>
                    <a:lnTo>
                      <a:pt x="8" y="56"/>
                    </a:lnTo>
                    <a:lnTo>
                      <a:pt x="12" y="60"/>
                    </a:lnTo>
                    <a:lnTo>
                      <a:pt x="19" y="64"/>
                    </a:lnTo>
                    <a:lnTo>
                      <a:pt x="27" y="66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5264280" y="45975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36" h="67">
                    <a:moveTo>
                      <a:pt x="0" y="67"/>
                    </a:moveTo>
                    <a:lnTo>
                      <a:pt x="8" y="67"/>
                    </a:lnTo>
                    <a:lnTo>
                      <a:pt x="15" y="65"/>
                    </a:lnTo>
                    <a:lnTo>
                      <a:pt x="20" y="62"/>
                    </a:lnTo>
                    <a:lnTo>
                      <a:pt x="26" y="58"/>
                    </a:lnTo>
                    <a:lnTo>
                      <a:pt x="29" y="53"/>
                    </a:lnTo>
                    <a:lnTo>
                      <a:pt x="33" y="48"/>
                    </a:lnTo>
                    <a:lnTo>
                      <a:pt x="35" y="42"/>
                    </a:lnTo>
                    <a:lnTo>
                      <a:pt x="36" y="35"/>
                    </a:lnTo>
                    <a:lnTo>
                      <a:pt x="35" y="29"/>
                    </a:lnTo>
                    <a:lnTo>
                      <a:pt x="34" y="24"/>
                    </a:lnTo>
                    <a:lnTo>
                      <a:pt x="32" y="17"/>
                    </a:lnTo>
                    <a:lnTo>
                      <a:pt x="29" y="12"/>
                    </a:lnTo>
                    <a:lnTo>
                      <a:pt x="25" y="8"/>
                    </a:lnTo>
                    <a:lnTo>
                      <a:pt x="19" y="3"/>
                    </a:lnTo>
                    <a:lnTo>
                      <a:pt x="12" y="1"/>
                    </a:lnTo>
                    <a:lnTo>
                      <a:pt x="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3882960" y="4538520"/>
                <a:ext cx="1382760" cy="79560"/>
              </a:xfrm>
              <a:custGeom>
                <a:avLst/>
                <a:gdLst/>
                <a:ahLst/>
                <a:rect l="l" t="t" r="r" b="b"/>
                <a:pathLst>
                  <a:path w="4355" h="252">
                    <a:moveTo>
                      <a:pt x="16" y="89"/>
                    </a:moveTo>
                    <a:lnTo>
                      <a:pt x="36" y="85"/>
                    </a:lnTo>
                    <a:lnTo>
                      <a:pt x="61" y="82"/>
                    </a:lnTo>
                    <a:lnTo>
                      <a:pt x="91" y="79"/>
                    </a:lnTo>
                    <a:lnTo>
                      <a:pt x="126" y="75"/>
                    </a:lnTo>
                    <a:lnTo>
                      <a:pt x="166" y="73"/>
                    </a:lnTo>
                    <a:lnTo>
                      <a:pt x="210" y="71"/>
                    </a:lnTo>
                    <a:lnTo>
                      <a:pt x="258" y="69"/>
                    </a:lnTo>
                    <a:lnTo>
                      <a:pt x="311" y="68"/>
                    </a:lnTo>
                    <a:lnTo>
                      <a:pt x="428" y="67"/>
                    </a:lnTo>
                    <a:lnTo>
                      <a:pt x="559" y="67"/>
                    </a:lnTo>
                    <a:lnTo>
                      <a:pt x="702" y="69"/>
                    </a:lnTo>
                    <a:lnTo>
                      <a:pt x="857" y="73"/>
                    </a:lnTo>
                    <a:lnTo>
                      <a:pt x="1021" y="77"/>
                    </a:lnTo>
                    <a:lnTo>
                      <a:pt x="1193" y="83"/>
                    </a:lnTo>
                    <a:lnTo>
                      <a:pt x="1373" y="90"/>
                    </a:lnTo>
                    <a:lnTo>
                      <a:pt x="1559" y="97"/>
                    </a:lnTo>
                    <a:lnTo>
                      <a:pt x="1941" y="114"/>
                    </a:lnTo>
                    <a:lnTo>
                      <a:pt x="2329" y="133"/>
                    </a:lnTo>
                    <a:lnTo>
                      <a:pt x="2715" y="154"/>
                    </a:lnTo>
                    <a:lnTo>
                      <a:pt x="3083" y="174"/>
                    </a:lnTo>
                    <a:lnTo>
                      <a:pt x="3425" y="194"/>
                    </a:lnTo>
                    <a:lnTo>
                      <a:pt x="3729" y="212"/>
                    </a:lnTo>
                    <a:lnTo>
                      <a:pt x="4181" y="241"/>
                    </a:lnTo>
                    <a:lnTo>
                      <a:pt x="4351" y="252"/>
                    </a:lnTo>
                    <a:lnTo>
                      <a:pt x="4355" y="185"/>
                    </a:lnTo>
                    <a:lnTo>
                      <a:pt x="4185" y="173"/>
                    </a:lnTo>
                    <a:lnTo>
                      <a:pt x="3733" y="145"/>
                    </a:lnTo>
                    <a:lnTo>
                      <a:pt x="3428" y="126"/>
                    </a:lnTo>
                    <a:lnTo>
                      <a:pt x="3086" y="107"/>
                    </a:lnTo>
                    <a:lnTo>
                      <a:pt x="2718" y="87"/>
                    </a:lnTo>
                    <a:lnTo>
                      <a:pt x="2333" y="66"/>
                    </a:lnTo>
                    <a:lnTo>
                      <a:pt x="1944" y="47"/>
                    </a:lnTo>
                    <a:lnTo>
                      <a:pt x="1561" y="29"/>
                    </a:lnTo>
                    <a:lnTo>
                      <a:pt x="1375" y="23"/>
                    </a:lnTo>
                    <a:lnTo>
                      <a:pt x="1195" y="16"/>
                    </a:lnTo>
                    <a:lnTo>
                      <a:pt x="1022" y="10"/>
                    </a:lnTo>
                    <a:lnTo>
                      <a:pt x="858" y="6"/>
                    </a:lnTo>
                    <a:lnTo>
                      <a:pt x="703" y="2"/>
                    </a:lnTo>
                    <a:lnTo>
                      <a:pt x="559" y="0"/>
                    </a:lnTo>
                    <a:lnTo>
                      <a:pt x="428" y="0"/>
                    </a:lnTo>
                    <a:lnTo>
                      <a:pt x="311" y="1"/>
                    </a:lnTo>
                    <a:lnTo>
                      <a:pt x="257" y="2"/>
                    </a:lnTo>
                    <a:lnTo>
                      <a:pt x="208" y="3"/>
                    </a:lnTo>
                    <a:lnTo>
                      <a:pt x="162" y="6"/>
                    </a:lnTo>
                    <a:lnTo>
                      <a:pt x="121" y="8"/>
                    </a:lnTo>
                    <a:lnTo>
                      <a:pt x="84" y="11"/>
                    </a:lnTo>
                    <a:lnTo>
                      <a:pt x="52" y="15"/>
                    </a:lnTo>
                    <a:lnTo>
                      <a:pt x="24" y="19"/>
                    </a:lnTo>
                    <a:lnTo>
                      <a:pt x="0" y="24"/>
                    </a:lnTo>
                    <a:lnTo>
                      <a:pt x="16" y="8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3875040" y="45450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26" y="0"/>
                    </a:moveTo>
                    <a:lnTo>
                      <a:pt x="18" y="2"/>
                    </a:lnTo>
                    <a:lnTo>
                      <a:pt x="13" y="7"/>
                    </a:lnTo>
                    <a:lnTo>
                      <a:pt x="7" y="11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41"/>
                    </a:lnTo>
                    <a:lnTo>
                      <a:pt x="4" y="47"/>
                    </a:lnTo>
                    <a:lnTo>
                      <a:pt x="7" y="52"/>
                    </a:lnTo>
                    <a:lnTo>
                      <a:pt x="10" y="57"/>
                    </a:lnTo>
                    <a:lnTo>
                      <a:pt x="15" y="61"/>
                    </a:lnTo>
                    <a:lnTo>
                      <a:pt x="21" y="65"/>
                    </a:lnTo>
                    <a:lnTo>
                      <a:pt x="28" y="66"/>
                    </a:lnTo>
                    <a:lnTo>
                      <a:pt x="34" y="66"/>
                    </a:lnTo>
                    <a:lnTo>
                      <a:pt x="42" y="65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3362400" y="5254560"/>
                <a:ext cx="743040" cy="95400"/>
              </a:xfrm>
              <a:custGeom>
                <a:avLst/>
                <a:gdLst/>
                <a:ahLst/>
                <a:rect l="l" t="t" r="r" b="b"/>
                <a:pathLst>
                  <a:path w="2336" h="299">
                    <a:moveTo>
                      <a:pt x="0" y="24"/>
                    </a:moveTo>
                    <a:lnTo>
                      <a:pt x="48" y="29"/>
                    </a:lnTo>
                    <a:lnTo>
                      <a:pt x="105" y="36"/>
                    </a:lnTo>
                    <a:lnTo>
                      <a:pt x="170" y="45"/>
                    </a:lnTo>
                    <a:lnTo>
                      <a:pt x="241" y="54"/>
                    </a:lnTo>
                    <a:lnTo>
                      <a:pt x="399" y="77"/>
                    </a:lnTo>
                    <a:lnTo>
                      <a:pt x="577" y="104"/>
                    </a:lnTo>
                    <a:lnTo>
                      <a:pt x="769" y="133"/>
                    </a:lnTo>
                    <a:lnTo>
                      <a:pt x="969" y="162"/>
                    </a:lnTo>
                    <a:lnTo>
                      <a:pt x="1173" y="192"/>
                    </a:lnTo>
                    <a:lnTo>
                      <a:pt x="1375" y="221"/>
                    </a:lnTo>
                    <a:lnTo>
                      <a:pt x="1474" y="234"/>
                    </a:lnTo>
                    <a:lnTo>
                      <a:pt x="1571" y="247"/>
                    </a:lnTo>
                    <a:lnTo>
                      <a:pt x="1666" y="258"/>
                    </a:lnTo>
                    <a:lnTo>
                      <a:pt x="1756" y="269"/>
                    </a:lnTo>
                    <a:lnTo>
                      <a:pt x="1843" y="278"/>
                    </a:lnTo>
                    <a:lnTo>
                      <a:pt x="1924" y="286"/>
                    </a:lnTo>
                    <a:lnTo>
                      <a:pt x="2000" y="293"/>
                    </a:lnTo>
                    <a:lnTo>
                      <a:pt x="2070" y="296"/>
                    </a:lnTo>
                    <a:lnTo>
                      <a:pt x="2133" y="299"/>
                    </a:lnTo>
                    <a:lnTo>
                      <a:pt x="2189" y="299"/>
                    </a:lnTo>
                    <a:lnTo>
                      <a:pt x="2237" y="298"/>
                    </a:lnTo>
                    <a:lnTo>
                      <a:pt x="2277" y="294"/>
                    </a:lnTo>
                    <a:lnTo>
                      <a:pt x="2307" y="287"/>
                    </a:lnTo>
                    <a:lnTo>
                      <a:pt x="2327" y="278"/>
                    </a:lnTo>
                    <a:lnTo>
                      <a:pt x="2336" y="266"/>
                    </a:lnTo>
                    <a:lnTo>
                      <a:pt x="2335" y="251"/>
                    </a:lnTo>
                    <a:lnTo>
                      <a:pt x="2300" y="240"/>
                    </a:lnTo>
                    <a:lnTo>
                      <a:pt x="2255" y="228"/>
                    </a:lnTo>
                    <a:lnTo>
                      <a:pt x="2202" y="215"/>
                    </a:lnTo>
                    <a:lnTo>
                      <a:pt x="2141" y="204"/>
                    </a:lnTo>
                    <a:lnTo>
                      <a:pt x="2073" y="190"/>
                    </a:lnTo>
                    <a:lnTo>
                      <a:pt x="1998" y="177"/>
                    </a:lnTo>
                    <a:lnTo>
                      <a:pt x="1917" y="165"/>
                    </a:lnTo>
                    <a:lnTo>
                      <a:pt x="1831" y="152"/>
                    </a:lnTo>
                    <a:lnTo>
                      <a:pt x="1740" y="140"/>
                    </a:lnTo>
                    <a:lnTo>
                      <a:pt x="1647" y="127"/>
                    </a:lnTo>
                    <a:lnTo>
                      <a:pt x="1549" y="115"/>
                    </a:lnTo>
                    <a:lnTo>
                      <a:pt x="1449" y="102"/>
                    </a:lnTo>
                    <a:lnTo>
                      <a:pt x="1245" y="79"/>
                    </a:lnTo>
                    <a:lnTo>
                      <a:pt x="1039" y="58"/>
                    </a:lnTo>
                    <a:lnTo>
                      <a:pt x="837" y="39"/>
                    </a:lnTo>
                    <a:lnTo>
                      <a:pt x="645" y="24"/>
                    </a:lnTo>
                    <a:lnTo>
                      <a:pt x="554" y="18"/>
                    </a:lnTo>
                    <a:lnTo>
                      <a:pt x="468" y="12"/>
                    </a:lnTo>
                    <a:lnTo>
                      <a:pt x="387" y="7"/>
                    </a:lnTo>
                    <a:lnTo>
                      <a:pt x="312" y="4"/>
                    </a:lnTo>
                    <a:lnTo>
                      <a:pt x="242" y="2"/>
                    </a:lnTo>
                    <a:lnTo>
                      <a:pt x="181" y="0"/>
                    </a:lnTo>
                    <a:lnTo>
                      <a:pt x="127" y="2"/>
                    </a:lnTo>
                    <a:lnTo>
                      <a:pt x="81" y="3"/>
                    </a:lnTo>
                    <a:lnTo>
                      <a:pt x="45" y="6"/>
                    </a:lnTo>
                    <a:lnTo>
                      <a:pt x="20" y="11"/>
                    </a:lnTo>
                    <a:lnTo>
                      <a:pt x="4" y="1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3362400" y="5251320"/>
                <a:ext cx="752400" cy="109800"/>
              </a:xfrm>
              <a:custGeom>
                <a:avLst/>
                <a:gdLst/>
                <a:ahLst/>
                <a:rect l="l" t="t" r="r" b="b"/>
                <a:pathLst>
                  <a:path w="2373" h="344">
                    <a:moveTo>
                      <a:pt x="2327" y="292"/>
                    </a:moveTo>
                    <a:lnTo>
                      <a:pt x="2307" y="274"/>
                    </a:lnTo>
                    <a:lnTo>
                      <a:pt x="2307" y="274"/>
                    </a:lnTo>
                    <a:lnTo>
                      <a:pt x="2306" y="272"/>
                    </a:lnTo>
                    <a:lnTo>
                      <a:pt x="2306" y="269"/>
                    </a:lnTo>
                    <a:lnTo>
                      <a:pt x="2307" y="266"/>
                    </a:lnTo>
                    <a:lnTo>
                      <a:pt x="2308" y="264"/>
                    </a:lnTo>
                    <a:lnTo>
                      <a:pt x="2310" y="261"/>
                    </a:lnTo>
                    <a:lnTo>
                      <a:pt x="2311" y="260"/>
                    </a:lnTo>
                    <a:lnTo>
                      <a:pt x="2312" y="259"/>
                    </a:lnTo>
                    <a:lnTo>
                      <a:pt x="2307" y="263"/>
                    </a:lnTo>
                    <a:lnTo>
                      <a:pt x="2299" y="265"/>
                    </a:lnTo>
                    <a:lnTo>
                      <a:pt x="2289" y="268"/>
                    </a:lnTo>
                    <a:lnTo>
                      <a:pt x="2274" y="271"/>
                    </a:lnTo>
                    <a:lnTo>
                      <a:pt x="2257" y="273"/>
                    </a:lnTo>
                    <a:lnTo>
                      <a:pt x="2238" y="274"/>
                    </a:lnTo>
                    <a:lnTo>
                      <a:pt x="2216" y="275"/>
                    </a:lnTo>
                    <a:lnTo>
                      <a:pt x="2192" y="276"/>
                    </a:lnTo>
                    <a:lnTo>
                      <a:pt x="2137" y="275"/>
                    </a:lnTo>
                    <a:lnTo>
                      <a:pt x="2075" y="273"/>
                    </a:lnTo>
                    <a:lnTo>
                      <a:pt x="2005" y="268"/>
                    </a:lnTo>
                    <a:lnTo>
                      <a:pt x="1930" y="263"/>
                    </a:lnTo>
                    <a:lnTo>
                      <a:pt x="1849" y="255"/>
                    </a:lnTo>
                    <a:lnTo>
                      <a:pt x="1762" y="246"/>
                    </a:lnTo>
                    <a:lnTo>
                      <a:pt x="1672" y="235"/>
                    </a:lnTo>
                    <a:lnTo>
                      <a:pt x="1579" y="224"/>
                    </a:lnTo>
                    <a:lnTo>
                      <a:pt x="1482" y="211"/>
                    </a:lnTo>
                    <a:lnTo>
                      <a:pt x="1383" y="198"/>
                    </a:lnTo>
                    <a:lnTo>
                      <a:pt x="1181" y="169"/>
                    </a:lnTo>
                    <a:lnTo>
                      <a:pt x="977" y="139"/>
                    </a:lnTo>
                    <a:lnTo>
                      <a:pt x="776" y="110"/>
                    </a:lnTo>
                    <a:lnTo>
                      <a:pt x="585" y="80"/>
                    </a:lnTo>
                    <a:lnTo>
                      <a:pt x="407" y="54"/>
                    </a:lnTo>
                    <a:lnTo>
                      <a:pt x="249" y="31"/>
                    </a:lnTo>
                    <a:lnTo>
                      <a:pt x="178" y="21"/>
                    </a:lnTo>
                    <a:lnTo>
                      <a:pt x="113" y="13"/>
                    </a:lnTo>
                    <a:lnTo>
                      <a:pt x="56" y="6"/>
                    </a:lnTo>
                    <a:lnTo>
                      <a:pt x="6" y="0"/>
                    </a:lnTo>
                    <a:lnTo>
                      <a:pt x="0" y="68"/>
                    </a:lnTo>
                    <a:lnTo>
                      <a:pt x="48" y="73"/>
                    </a:lnTo>
                    <a:lnTo>
                      <a:pt x="105" y="80"/>
                    </a:lnTo>
                    <a:lnTo>
                      <a:pt x="169" y="88"/>
                    </a:lnTo>
                    <a:lnTo>
                      <a:pt x="238" y="97"/>
                    </a:lnTo>
                    <a:lnTo>
                      <a:pt x="398" y="121"/>
                    </a:lnTo>
                    <a:lnTo>
                      <a:pt x="576" y="147"/>
                    </a:lnTo>
                    <a:lnTo>
                      <a:pt x="767" y="176"/>
                    </a:lnTo>
                    <a:lnTo>
                      <a:pt x="967" y="206"/>
                    </a:lnTo>
                    <a:lnTo>
                      <a:pt x="1171" y="236"/>
                    </a:lnTo>
                    <a:lnTo>
                      <a:pt x="1374" y="265"/>
                    </a:lnTo>
                    <a:lnTo>
                      <a:pt x="1473" y="277"/>
                    </a:lnTo>
                    <a:lnTo>
                      <a:pt x="1571" y="290"/>
                    </a:lnTo>
                    <a:lnTo>
                      <a:pt x="1664" y="303"/>
                    </a:lnTo>
                    <a:lnTo>
                      <a:pt x="1756" y="313"/>
                    </a:lnTo>
                    <a:lnTo>
                      <a:pt x="1842" y="322"/>
                    </a:lnTo>
                    <a:lnTo>
                      <a:pt x="1924" y="330"/>
                    </a:lnTo>
                    <a:lnTo>
                      <a:pt x="2001" y="336"/>
                    </a:lnTo>
                    <a:lnTo>
                      <a:pt x="2071" y="340"/>
                    </a:lnTo>
                    <a:lnTo>
                      <a:pt x="2135" y="342"/>
                    </a:lnTo>
                    <a:lnTo>
                      <a:pt x="2192" y="344"/>
                    </a:lnTo>
                    <a:lnTo>
                      <a:pt x="2218" y="342"/>
                    </a:lnTo>
                    <a:lnTo>
                      <a:pt x="2242" y="341"/>
                    </a:lnTo>
                    <a:lnTo>
                      <a:pt x="2264" y="340"/>
                    </a:lnTo>
                    <a:lnTo>
                      <a:pt x="2285" y="337"/>
                    </a:lnTo>
                    <a:lnTo>
                      <a:pt x="2303" y="335"/>
                    </a:lnTo>
                    <a:lnTo>
                      <a:pt x="2320" y="330"/>
                    </a:lnTo>
                    <a:lnTo>
                      <a:pt x="2335" y="324"/>
                    </a:lnTo>
                    <a:lnTo>
                      <a:pt x="2347" y="317"/>
                    </a:lnTo>
                    <a:lnTo>
                      <a:pt x="2356" y="311"/>
                    </a:lnTo>
                    <a:lnTo>
                      <a:pt x="2362" y="304"/>
                    </a:lnTo>
                    <a:lnTo>
                      <a:pt x="2368" y="296"/>
                    </a:lnTo>
                    <a:lnTo>
                      <a:pt x="2371" y="287"/>
                    </a:lnTo>
                    <a:lnTo>
                      <a:pt x="2373" y="276"/>
                    </a:lnTo>
                    <a:lnTo>
                      <a:pt x="2373" y="266"/>
                    </a:lnTo>
                    <a:lnTo>
                      <a:pt x="2372" y="257"/>
                    </a:lnTo>
                    <a:lnTo>
                      <a:pt x="2369" y="248"/>
                    </a:lnTo>
                    <a:lnTo>
                      <a:pt x="2350" y="230"/>
                    </a:lnTo>
                    <a:lnTo>
                      <a:pt x="2369" y="248"/>
                    </a:lnTo>
                    <a:lnTo>
                      <a:pt x="2365" y="241"/>
                    </a:lnTo>
                    <a:lnTo>
                      <a:pt x="2361" y="235"/>
                    </a:lnTo>
                    <a:lnTo>
                      <a:pt x="2355" y="232"/>
                    </a:lnTo>
                    <a:lnTo>
                      <a:pt x="2350" y="228"/>
                    </a:lnTo>
                    <a:lnTo>
                      <a:pt x="2343" y="227"/>
                    </a:lnTo>
                    <a:lnTo>
                      <a:pt x="2337" y="227"/>
                    </a:lnTo>
                    <a:lnTo>
                      <a:pt x="2330" y="228"/>
                    </a:lnTo>
                    <a:lnTo>
                      <a:pt x="2324" y="231"/>
                    </a:lnTo>
                    <a:lnTo>
                      <a:pt x="2319" y="233"/>
                    </a:lnTo>
                    <a:lnTo>
                      <a:pt x="2314" y="238"/>
                    </a:lnTo>
                    <a:lnTo>
                      <a:pt x="2310" y="242"/>
                    </a:lnTo>
                    <a:lnTo>
                      <a:pt x="2307" y="247"/>
                    </a:lnTo>
                    <a:lnTo>
                      <a:pt x="2305" y="253"/>
                    </a:lnTo>
                    <a:lnTo>
                      <a:pt x="2304" y="260"/>
                    </a:lnTo>
                    <a:lnTo>
                      <a:pt x="2305" y="267"/>
                    </a:lnTo>
                    <a:lnTo>
                      <a:pt x="2307" y="274"/>
                    </a:lnTo>
                    <a:lnTo>
                      <a:pt x="2327" y="29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3352680" y="5243400"/>
                <a:ext cx="755640" cy="100080"/>
              </a:xfrm>
              <a:custGeom>
                <a:avLst/>
                <a:gdLst/>
                <a:ahLst/>
                <a:rect l="l" t="t" r="r" b="b"/>
                <a:pathLst>
                  <a:path w="2381" h="315">
                    <a:moveTo>
                      <a:pt x="37" y="23"/>
                    </a:moveTo>
                    <a:lnTo>
                      <a:pt x="67" y="51"/>
                    </a:lnTo>
                    <a:lnTo>
                      <a:pt x="67" y="60"/>
                    </a:lnTo>
                    <a:lnTo>
                      <a:pt x="64" y="69"/>
                    </a:lnTo>
                    <a:lnTo>
                      <a:pt x="61" y="75"/>
                    </a:lnTo>
                    <a:lnTo>
                      <a:pt x="55" y="78"/>
                    </a:lnTo>
                    <a:lnTo>
                      <a:pt x="57" y="78"/>
                    </a:lnTo>
                    <a:lnTo>
                      <a:pt x="62" y="76"/>
                    </a:lnTo>
                    <a:lnTo>
                      <a:pt x="71" y="75"/>
                    </a:lnTo>
                    <a:lnTo>
                      <a:pt x="83" y="72"/>
                    </a:lnTo>
                    <a:lnTo>
                      <a:pt x="99" y="71"/>
                    </a:lnTo>
                    <a:lnTo>
                      <a:pt x="116" y="69"/>
                    </a:lnTo>
                    <a:lnTo>
                      <a:pt x="161" y="68"/>
                    </a:lnTo>
                    <a:lnTo>
                      <a:pt x="215" y="68"/>
                    </a:lnTo>
                    <a:lnTo>
                      <a:pt x="275" y="69"/>
                    </a:lnTo>
                    <a:lnTo>
                      <a:pt x="343" y="71"/>
                    </a:lnTo>
                    <a:lnTo>
                      <a:pt x="419" y="75"/>
                    </a:lnTo>
                    <a:lnTo>
                      <a:pt x="500" y="79"/>
                    </a:lnTo>
                    <a:lnTo>
                      <a:pt x="586" y="84"/>
                    </a:lnTo>
                    <a:lnTo>
                      <a:pt x="676" y="91"/>
                    </a:lnTo>
                    <a:lnTo>
                      <a:pt x="869" y="107"/>
                    </a:lnTo>
                    <a:lnTo>
                      <a:pt x="1070" y="125"/>
                    </a:lnTo>
                    <a:lnTo>
                      <a:pt x="1276" y="145"/>
                    </a:lnTo>
                    <a:lnTo>
                      <a:pt x="1479" y="168"/>
                    </a:lnTo>
                    <a:lnTo>
                      <a:pt x="1579" y="181"/>
                    </a:lnTo>
                    <a:lnTo>
                      <a:pt x="1676" y="193"/>
                    </a:lnTo>
                    <a:lnTo>
                      <a:pt x="1771" y="206"/>
                    </a:lnTo>
                    <a:lnTo>
                      <a:pt x="1861" y="218"/>
                    </a:lnTo>
                    <a:lnTo>
                      <a:pt x="1946" y="231"/>
                    </a:lnTo>
                    <a:lnTo>
                      <a:pt x="2026" y="243"/>
                    </a:lnTo>
                    <a:lnTo>
                      <a:pt x="2101" y="257"/>
                    </a:lnTo>
                    <a:lnTo>
                      <a:pt x="2168" y="270"/>
                    </a:lnTo>
                    <a:lnTo>
                      <a:pt x="2229" y="281"/>
                    </a:lnTo>
                    <a:lnTo>
                      <a:pt x="2281" y="294"/>
                    </a:lnTo>
                    <a:lnTo>
                      <a:pt x="2325" y="305"/>
                    </a:lnTo>
                    <a:lnTo>
                      <a:pt x="2358" y="315"/>
                    </a:lnTo>
                    <a:lnTo>
                      <a:pt x="2381" y="253"/>
                    </a:lnTo>
                    <a:lnTo>
                      <a:pt x="2343" y="240"/>
                    </a:lnTo>
                    <a:lnTo>
                      <a:pt x="2297" y="227"/>
                    </a:lnTo>
                    <a:lnTo>
                      <a:pt x="2244" y="216"/>
                    </a:lnTo>
                    <a:lnTo>
                      <a:pt x="2181" y="202"/>
                    </a:lnTo>
                    <a:lnTo>
                      <a:pt x="2113" y="190"/>
                    </a:lnTo>
                    <a:lnTo>
                      <a:pt x="2037" y="177"/>
                    </a:lnTo>
                    <a:lnTo>
                      <a:pt x="1956" y="165"/>
                    </a:lnTo>
                    <a:lnTo>
                      <a:pt x="1870" y="151"/>
                    </a:lnTo>
                    <a:lnTo>
                      <a:pt x="1779" y="138"/>
                    </a:lnTo>
                    <a:lnTo>
                      <a:pt x="1685" y="126"/>
                    </a:lnTo>
                    <a:lnTo>
                      <a:pt x="1587" y="113"/>
                    </a:lnTo>
                    <a:lnTo>
                      <a:pt x="1487" y="102"/>
                    </a:lnTo>
                    <a:lnTo>
                      <a:pt x="1283" y="79"/>
                    </a:lnTo>
                    <a:lnTo>
                      <a:pt x="1076" y="57"/>
                    </a:lnTo>
                    <a:lnTo>
                      <a:pt x="875" y="39"/>
                    </a:lnTo>
                    <a:lnTo>
                      <a:pt x="682" y="23"/>
                    </a:lnTo>
                    <a:lnTo>
                      <a:pt x="591" y="16"/>
                    </a:lnTo>
                    <a:lnTo>
                      <a:pt x="504" y="12"/>
                    </a:lnTo>
                    <a:lnTo>
                      <a:pt x="422" y="7"/>
                    </a:lnTo>
                    <a:lnTo>
                      <a:pt x="347" y="4"/>
                    </a:lnTo>
                    <a:lnTo>
                      <a:pt x="277" y="2"/>
                    </a:lnTo>
                    <a:lnTo>
                      <a:pt x="215" y="0"/>
                    </a:lnTo>
                    <a:lnTo>
                      <a:pt x="160" y="0"/>
                    </a:lnTo>
                    <a:lnTo>
                      <a:pt x="114" y="2"/>
                    </a:lnTo>
                    <a:lnTo>
                      <a:pt x="94" y="4"/>
                    </a:lnTo>
                    <a:lnTo>
                      <a:pt x="75" y="5"/>
                    </a:lnTo>
                    <a:lnTo>
                      <a:pt x="59" y="7"/>
                    </a:lnTo>
                    <a:lnTo>
                      <a:pt x="45" y="11"/>
                    </a:lnTo>
                    <a:lnTo>
                      <a:pt x="32" y="15"/>
                    </a:lnTo>
                    <a:lnTo>
                      <a:pt x="21" y="21"/>
                    </a:lnTo>
                    <a:lnTo>
                      <a:pt x="12" y="28"/>
                    </a:lnTo>
                    <a:lnTo>
                      <a:pt x="5" y="37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31" y="91"/>
                    </a:lnTo>
                    <a:lnTo>
                      <a:pt x="1" y="64"/>
                    </a:lnTo>
                    <a:lnTo>
                      <a:pt x="4" y="71"/>
                    </a:lnTo>
                    <a:lnTo>
                      <a:pt x="7" y="78"/>
                    </a:lnTo>
                    <a:lnTo>
                      <a:pt x="12" y="83"/>
                    </a:lnTo>
                    <a:lnTo>
                      <a:pt x="16" y="87"/>
                    </a:lnTo>
                    <a:lnTo>
                      <a:pt x="22" y="89"/>
                    </a:lnTo>
                    <a:lnTo>
                      <a:pt x="29" y="91"/>
                    </a:lnTo>
                    <a:lnTo>
                      <a:pt x="34" y="91"/>
                    </a:lnTo>
                    <a:lnTo>
                      <a:pt x="41" y="91"/>
                    </a:lnTo>
                    <a:lnTo>
                      <a:pt x="47" y="88"/>
                    </a:lnTo>
                    <a:lnTo>
                      <a:pt x="53" y="86"/>
                    </a:lnTo>
                    <a:lnTo>
                      <a:pt x="57" y="81"/>
                    </a:lnTo>
                    <a:lnTo>
                      <a:pt x="62" y="77"/>
                    </a:lnTo>
                    <a:lnTo>
                      <a:pt x="65" y="71"/>
                    </a:lnTo>
                    <a:lnTo>
                      <a:pt x="67" y="65"/>
                    </a:lnTo>
                    <a:lnTo>
                      <a:pt x="67" y="59"/>
                    </a:lnTo>
                    <a:lnTo>
                      <a:pt x="67" y="51"/>
                    </a:lnTo>
                    <a:lnTo>
                      <a:pt x="37" y="2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3282840" y="5442120"/>
                <a:ext cx="771480" cy="69840"/>
              </a:xfrm>
              <a:custGeom>
                <a:avLst/>
                <a:gdLst/>
                <a:ahLst/>
                <a:rect l="l" t="t" r="r" b="b"/>
                <a:pathLst>
                  <a:path w="2430" h="223">
                    <a:moveTo>
                      <a:pt x="0" y="168"/>
                    </a:moveTo>
                    <a:lnTo>
                      <a:pt x="47" y="176"/>
                    </a:lnTo>
                    <a:lnTo>
                      <a:pt x="102" y="184"/>
                    </a:lnTo>
                    <a:lnTo>
                      <a:pt x="164" y="191"/>
                    </a:lnTo>
                    <a:lnTo>
                      <a:pt x="235" y="197"/>
                    </a:lnTo>
                    <a:lnTo>
                      <a:pt x="313" y="202"/>
                    </a:lnTo>
                    <a:lnTo>
                      <a:pt x="396" y="208"/>
                    </a:lnTo>
                    <a:lnTo>
                      <a:pt x="485" y="211"/>
                    </a:lnTo>
                    <a:lnTo>
                      <a:pt x="578" y="216"/>
                    </a:lnTo>
                    <a:lnTo>
                      <a:pt x="676" y="218"/>
                    </a:lnTo>
                    <a:lnTo>
                      <a:pt x="777" y="221"/>
                    </a:lnTo>
                    <a:lnTo>
                      <a:pt x="880" y="222"/>
                    </a:lnTo>
                    <a:lnTo>
                      <a:pt x="986" y="223"/>
                    </a:lnTo>
                    <a:lnTo>
                      <a:pt x="1092" y="223"/>
                    </a:lnTo>
                    <a:lnTo>
                      <a:pt x="1199" y="221"/>
                    </a:lnTo>
                    <a:lnTo>
                      <a:pt x="1307" y="218"/>
                    </a:lnTo>
                    <a:lnTo>
                      <a:pt x="1413" y="216"/>
                    </a:lnTo>
                    <a:lnTo>
                      <a:pt x="1518" y="211"/>
                    </a:lnTo>
                    <a:lnTo>
                      <a:pt x="1620" y="206"/>
                    </a:lnTo>
                    <a:lnTo>
                      <a:pt x="1719" y="200"/>
                    </a:lnTo>
                    <a:lnTo>
                      <a:pt x="1815" y="192"/>
                    </a:lnTo>
                    <a:lnTo>
                      <a:pt x="1906" y="184"/>
                    </a:lnTo>
                    <a:lnTo>
                      <a:pt x="1993" y="174"/>
                    </a:lnTo>
                    <a:lnTo>
                      <a:pt x="2074" y="163"/>
                    </a:lnTo>
                    <a:lnTo>
                      <a:pt x="2148" y="151"/>
                    </a:lnTo>
                    <a:lnTo>
                      <a:pt x="2215" y="137"/>
                    </a:lnTo>
                    <a:lnTo>
                      <a:pt x="2274" y="122"/>
                    </a:lnTo>
                    <a:lnTo>
                      <a:pt x="2326" y="106"/>
                    </a:lnTo>
                    <a:lnTo>
                      <a:pt x="2367" y="89"/>
                    </a:lnTo>
                    <a:lnTo>
                      <a:pt x="2399" y="70"/>
                    </a:lnTo>
                    <a:lnTo>
                      <a:pt x="2419" y="49"/>
                    </a:lnTo>
                    <a:lnTo>
                      <a:pt x="2430" y="28"/>
                    </a:lnTo>
                    <a:lnTo>
                      <a:pt x="2427" y="4"/>
                    </a:lnTo>
                    <a:lnTo>
                      <a:pt x="2388" y="1"/>
                    </a:lnTo>
                    <a:lnTo>
                      <a:pt x="2344" y="0"/>
                    </a:lnTo>
                    <a:lnTo>
                      <a:pt x="2295" y="0"/>
                    </a:lnTo>
                    <a:lnTo>
                      <a:pt x="2241" y="1"/>
                    </a:lnTo>
                    <a:lnTo>
                      <a:pt x="2182" y="3"/>
                    </a:lnTo>
                    <a:lnTo>
                      <a:pt x="2119" y="6"/>
                    </a:lnTo>
                    <a:lnTo>
                      <a:pt x="2053" y="8"/>
                    </a:lnTo>
                    <a:lnTo>
                      <a:pt x="1983" y="13"/>
                    </a:lnTo>
                    <a:lnTo>
                      <a:pt x="1832" y="22"/>
                    </a:lnTo>
                    <a:lnTo>
                      <a:pt x="1671" y="35"/>
                    </a:lnTo>
                    <a:lnTo>
                      <a:pt x="1503" y="48"/>
                    </a:lnTo>
                    <a:lnTo>
                      <a:pt x="1327" y="63"/>
                    </a:lnTo>
                    <a:lnTo>
                      <a:pt x="968" y="94"/>
                    </a:lnTo>
                    <a:lnTo>
                      <a:pt x="615" y="125"/>
                    </a:lnTo>
                    <a:lnTo>
                      <a:pt x="446" y="138"/>
                    </a:lnTo>
                    <a:lnTo>
                      <a:pt x="286" y="150"/>
                    </a:lnTo>
                    <a:lnTo>
                      <a:pt x="137" y="16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3279600" y="5432400"/>
                <a:ext cx="784440" cy="90360"/>
              </a:xfrm>
              <a:custGeom>
                <a:avLst/>
                <a:gdLst/>
                <a:ahLst/>
                <a:rect l="l" t="t" r="r" b="b"/>
                <a:pathLst>
                  <a:path w="2470" h="285">
                    <a:moveTo>
                      <a:pt x="2431" y="67"/>
                    </a:moveTo>
                    <a:lnTo>
                      <a:pt x="2401" y="44"/>
                    </a:lnTo>
                    <a:lnTo>
                      <a:pt x="2402" y="46"/>
                    </a:lnTo>
                    <a:lnTo>
                      <a:pt x="2402" y="48"/>
                    </a:lnTo>
                    <a:lnTo>
                      <a:pt x="2402" y="50"/>
                    </a:lnTo>
                    <a:lnTo>
                      <a:pt x="2402" y="51"/>
                    </a:lnTo>
                    <a:lnTo>
                      <a:pt x="2402" y="52"/>
                    </a:lnTo>
                    <a:lnTo>
                      <a:pt x="2401" y="53"/>
                    </a:lnTo>
                    <a:lnTo>
                      <a:pt x="2400" y="56"/>
                    </a:lnTo>
                    <a:lnTo>
                      <a:pt x="2400" y="57"/>
                    </a:lnTo>
                    <a:lnTo>
                      <a:pt x="2393" y="65"/>
                    </a:lnTo>
                    <a:lnTo>
                      <a:pt x="2384" y="72"/>
                    </a:lnTo>
                    <a:lnTo>
                      <a:pt x="2373" y="80"/>
                    </a:lnTo>
                    <a:lnTo>
                      <a:pt x="2358" y="88"/>
                    </a:lnTo>
                    <a:lnTo>
                      <a:pt x="2340" y="95"/>
                    </a:lnTo>
                    <a:lnTo>
                      <a:pt x="2320" y="103"/>
                    </a:lnTo>
                    <a:lnTo>
                      <a:pt x="2296" y="111"/>
                    </a:lnTo>
                    <a:lnTo>
                      <a:pt x="2271" y="119"/>
                    </a:lnTo>
                    <a:lnTo>
                      <a:pt x="2244" y="126"/>
                    </a:lnTo>
                    <a:lnTo>
                      <a:pt x="2214" y="133"/>
                    </a:lnTo>
                    <a:lnTo>
                      <a:pt x="2182" y="140"/>
                    </a:lnTo>
                    <a:lnTo>
                      <a:pt x="2148" y="147"/>
                    </a:lnTo>
                    <a:lnTo>
                      <a:pt x="2075" y="158"/>
                    </a:lnTo>
                    <a:lnTo>
                      <a:pt x="1995" y="170"/>
                    </a:lnTo>
                    <a:lnTo>
                      <a:pt x="1909" y="179"/>
                    </a:lnTo>
                    <a:lnTo>
                      <a:pt x="1819" y="188"/>
                    </a:lnTo>
                    <a:lnTo>
                      <a:pt x="1723" y="195"/>
                    </a:lnTo>
                    <a:lnTo>
                      <a:pt x="1624" y="202"/>
                    </a:lnTo>
                    <a:lnTo>
                      <a:pt x="1522" y="207"/>
                    </a:lnTo>
                    <a:lnTo>
                      <a:pt x="1418" y="211"/>
                    </a:lnTo>
                    <a:lnTo>
                      <a:pt x="1313" y="214"/>
                    </a:lnTo>
                    <a:lnTo>
                      <a:pt x="1205" y="216"/>
                    </a:lnTo>
                    <a:lnTo>
                      <a:pt x="1098" y="218"/>
                    </a:lnTo>
                    <a:lnTo>
                      <a:pt x="992" y="218"/>
                    </a:lnTo>
                    <a:lnTo>
                      <a:pt x="886" y="218"/>
                    </a:lnTo>
                    <a:lnTo>
                      <a:pt x="784" y="216"/>
                    </a:lnTo>
                    <a:lnTo>
                      <a:pt x="683" y="214"/>
                    </a:lnTo>
                    <a:lnTo>
                      <a:pt x="585" y="211"/>
                    </a:lnTo>
                    <a:lnTo>
                      <a:pt x="493" y="207"/>
                    </a:lnTo>
                    <a:lnTo>
                      <a:pt x="404" y="203"/>
                    </a:lnTo>
                    <a:lnTo>
                      <a:pt x="321" y="198"/>
                    </a:lnTo>
                    <a:lnTo>
                      <a:pt x="244" y="192"/>
                    </a:lnTo>
                    <a:lnTo>
                      <a:pt x="174" y="186"/>
                    </a:lnTo>
                    <a:lnTo>
                      <a:pt x="111" y="179"/>
                    </a:lnTo>
                    <a:lnTo>
                      <a:pt x="57" y="172"/>
                    </a:lnTo>
                    <a:lnTo>
                      <a:pt x="13" y="164"/>
                    </a:lnTo>
                    <a:lnTo>
                      <a:pt x="0" y="230"/>
                    </a:lnTo>
                    <a:lnTo>
                      <a:pt x="47" y="238"/>
                    </a:lnTo>
                    <a:lnTo>
                      <a:pt x="103" y="246"/>
                    </a:lnTo>
                    <a:lnTo>
                      <a:pt x="167" y="253"/>
                    </a:lnTo>
                    <a:lnTo>
                      <a:pt x="239" y="260"/>
                    </a:lnTo>
                    <a:lnTo>
                      <a:pt x="316" y="265"/>
                    </a:lnTo>
                    <a:lnTo>
                      <a:pt x="401" y="270"/>
                    </a:lnTo>
                    <a:lnTo>
                      <a:pt x="490" y="275"/>
                    </a:lnTo>
                    <a:lnTo>
                      <a:pt x="583" y="278"/>
                    </a:lnTo>
                    <a:lnTo>
                      <a:pt x="681" y="281"/>
                    </a:lnTo>
                    <a:lnTo>
                      <a:pt x="783" y="284"/>
                    </a:lnTo>
                    <a:lnTo>
                      <a:pt x="886" y="285"/>
                    </a:lnTo>
                    <a:lnTo>
                      <a:pt x="992" y="285"/>
                    </a:lnTo>
                    <a:lnTo>
                      <a:pt x="1098" y="285"/>
                    </a:lnTo>
                    <a:lnTo>
                      <a:pt x="1207" y="284"/>
                    </a:lnTo>
                    <a:lnTo>
                      <a:pt x="1314" y="281"/>
                    </a:lnTo>
                    <a:lnTo>
                      <a:pt x="1420" y="278"/>
                    </a:lnTo>
                    <a:lnTo>
                      <a:pt x="1525" y="275"/>
                    </a:lnTo>
                    <a:lnTo>
                      <a:pt x="1628" y="269"/>
                    </a:lnTo>
                    <a:lnTo>
                      <a:pt x="1728" y="262"/>
                    </a:lnTo>
                    <a:lnTo>
                      <a:pt x="1824" y="255"/>
                    </a:lnTo>
                    <a:lnTo>
                      <a:pt x="1916" y="246"/>
                    </a:lnTo>
                    <a:lnTo>
                      <a:pt x="2003" y="237"/>
                    </a:lnTo>
                    <a:lnTo>
                      <a:pt x="2084" y="226"/>
                    </a:lnTo>
                    <a:lnTo>
                      <a:pt x="2160" y="213"/>
                    </a:lnTo>
                    <a:lnTo>
                      <a:pt x="2195" y="206"/>
                    </a:lnTo>
                    <a:lnTo>
                      <a:pt x="2228" y="199"/>
                    </a:lnTo>
                    <a:lnTo>
                      <a:pt x="2260" y="191"/>
                    </a:lnTo>
                    <a:lnTo>
                      <a:pt x="2290" y="184"/>
                    </a:lnTo>
                    <a:lnTo>
                      <a:pt x="2317" y="175"/>
                    </a:lnTo>
                    <a:lnTo>
                      <a:pt x="2343" y="167"/>
                    </a:lnTo>
                    <a:lnTo>
                      <a:pt x="2366" y="158"/>
                    </a:lnTo>
                    <a:lnTo>
                      <a:pt x="2388" y="148"/>
                    </a:lnTo>
                    <a:lnTo>
                      <a:pt x="2407" y="138"/>
                    </a:lnTo>
                    <a:lnTo>
                      <a:pt x="2424" y="126"/>
                    </a:lnTo>
                    <a:lnTo>
                      <a:pt x="2440" y="113"/>
                    </a:lnTo>
                    <a:lnTo>
                      <a:pt x="2451" y="100"/>
                    </a:lnTo>
                    <a:lnTo>
                      <a:pt x="2458" y="90"/>
                    </a:lnTo>
                    <a:lnTo>
                      <a:pt x="2463" y="82"/>
                    </a:lnTo>
                    <a:lnTo>
                      <a:pt x="2466" y="73"/>
                    </a:lnTo>
                    <a:lnTo>
                      <a:pt x="2469" y="62"/>
                    </a:lnTo>
                    <a:lnTo>
                      <a:pt x="2470" y="52"/>
                    </a:lnTo>
                    <a:lnTo>
                      <a:pt x="2470" y="42"/>
                    </a:lnTo>
                    <a:lnTo>
                      <a:pt x="2469" y="32"/>
                    </a:lnTo>
                    <a:lnTo>
                      <a:pt x="2465" y="22"/>
                    </a:lnTo>
                    <a:lnTo>
                      <a:pt x="2436" y="0"/>
                    </a:lnTo>
                    <a:lnTo>
                      <a:pt x="2465" y="22"/>
                    </a:lnTo>
                    <a:lnTo>
                      <a:pt x="2462" y="14"/>
                    </a:lnTo>
                    <a:lnTo>
                      <a:pt x="2458" y="9"/>
                    </a:lnTo>
                    <a:lnTo>
                      <a:pt x="2453" y="4"/>
                    </a:lnTo>
                    <a:lnTo>
                      <a:pt x="2447" y="2"/>
                    </a:lnTo>
                    <a:lnTo>
                      <a:pt x="2441" y="0"/>
                    </a:lnTo>
                    <a:lnTo>
                      <a:pt x="2434" y="0"/>
                    </a:lnTo>
                    <a:lnTo>
                      <a:pt x="2429" y="0"/>
                    </a:lnTo>
                    <a:lnTo>
                      <a:pt x="2423" y="1"/>
                    </a:lnTo>
                    <a:lnTo>
                      <a:pt x="2417" y="4"/>
                    </a:lnTo>
                    <a:lnTo>
                      <a:pt x="2412" y="8"/>
                    </a:lnTo>
                    <a:lnTo>
                      <a:pt x="2407" y="11"/>
                    </a:lnTo>
                    <a:lnTo>
                      <a:pt x="2404" y="17"/>
                    </a:lnTo>
                    <a:lnTo>
                      <a:pt x="2401" y="22"/>
                    </a:lnTo>
                    <a:lnTo>
                      <a:pt x="2400" y="29"/>
                    </a:lnTo>
                    <a:lnTo>
                      <a:pt x="2400" y="36"/>
                    </a:lnTo>
                    <a:lnTo>
                      <a:pt x="2401" y="44"/>
                    </a:lnTo>
                    <a:lnTo>
                      <a:pt x="2431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3271680" y="5430960"/>
                <a:ext cx="782640" cy="74520"/>
              </a:xfrm>
              <a:custGeom>
                <a:avLst/>
                <a:gdLst/>
                <a:ahLst/>
                <a:rect l="l" t="t" r="r" b="b"/>
                <a:pathLst>
                  <a:path w="2463" h="235">
                    <a:moveTo>
                      <a:pt x="40" y="168"/>
                    </a:moveTo>
                    <a:lnTo>
                      <a:pt x="35" y="235"/>
                    </a:lnTo>
                    <a:lnTo>
                      <a:pt x="171" y="227"/>
                    </a:lnTo>
                    <a:lnTo>
                      <a:pt x="322" y="217"/>
                    </a:lnTo>
                    <a:lnTo>
                      <a:pt x="481" y="204"/>
                    </a:lnTo>
                    <a:lnTo>
                      <a:pt x="651" y="191"/>
                    </a:lnTo>
                    <a:lnTo>
                      <a:pt x="1004" y="160"/>
                    </a:lnTo>
                    <a:lnTo>
                      <a:pt x="1362" y="129"/>
                    </a:lnTo>
                    <a:lnTo>
                      <a:pt x="1538" y="114"/>
                    </a:lnTo>
                    <a:lnTo>
                      <a:pt x="1707" y="101"/>
                    </a:lnTo>
                    <a:lnTo>
                      <a:pt x="1867" y="89"/>
                    </a:lnTo>
                    <a:lnTo>
                      <a:pt x="2018" y="79"/>
                    </a:lnTo>
                    <a:lnTo>
                      <a:pt x="2087" y="76"/>
                    </a:lnTo>
                    <a:lnTo>
                      <a:pt x="2155" y="72"/>
                    </a:lnTo>
                    <a:lnTo>
                      <a:pt x="2216" y="70"/>
                    </a:lnTo>
                    <a:lnTo>
                      <a:pt x="2274" y="68"/>
                    </a:lnTo>
                    <a:lnTo>
                      <a:pt x="2328" y="68"/>
                    </a:lnTo>
                    <a:lnTo>
                      <a:pt x="2377" y="68"/>
                    </a:lnTo>
                    <a:lnTo>
                      <a:pt x="2420" y="69"/>
                    </a:lnTo>
                    <a:lnTo>
                      <a:pt x="2458" y="71"/>
                    </a:lnTo>
                    <a:lnTo>
                      <a:pt x="2463" y="4"/>
                    </a:lnTo>
                    <a:lnTo>
                      <a:pt x="2423" y="1"/>
                    </a:lnTo>
                    <a:lnTo>
                      <a:pt x="2378" y="0"/>
                    </a:lnTo>
                    <a:lnTo>
                      <a:pt x="2328" y="0"/>
                    </a:lnTo>
                    <a:lnTo>
                      <a:pt x="2273" y="0"/>
                    </a:lnTo>
                    <a:lnTo>
                      <a:pt x="2214" y="3"/>
                    </a:lnTo>
                    <a:lnTo>
                      <a:pt x="2151" y="5"/>
                    </a:lnTo>
                    <a:lnTo>
                      <a:pt x="2084" y="8"/>
                    </a:lnTo>
                    <a:lnTo>
                      <a:pt x="2013" y="12"/>
                    </a:lnTo>
                    <a:lnTo>
                      <a:pt x="1863" y="22"/>
                    </a:lnTo>
                    <a:lnTo>
                      <a:pt x="1702" y="33"/>
                    </a:lnTo>
                    <a:lnTo>
                      <a:pt x="1532" y="47"/>
                    </a:lnTo>
                    <a:lnTo>
                      <a:pt x="1358" y="62"/>
                    </a:lnTo>
                    <a:lnTo>
                      <a:pt x="999" y="93"/>
                    </a:lnTo>
                    <a:lnTo>
                      <a:pt x="645" y="123"/>
                    </a:lnTo>
                    <a:lnTo>
                      <a:pt x="477" y="137"/>
                    </a:lnTo>
                    <a:lnTo>
                      <a:pt x="316" y="150"/>
                    </a:lnTo>
                    <a:lnTo>
                      <a:pt x="168" y="160"/>
                    </a:lnTo>
                    <a:lnTo>
                      <a:pt x="32" y="168"/>
                    </a:lnTo>
                    <a:lnTo>
                      <a:pt x="27" y="234"/>
                    </a:lnTo>
                    <a:lnTo>
                      <a:pt x="32" y="168"/>
                    </a:lnTo>
                    <a:lnTo>
                      <a:pt x="24" y="169"/>
                    </a:lnTo>
                    <a:lnTo>
                      <a:pt x="17" y="171"/>
                    </a:lnTo>
                    <a:lnTo>
                      <a:pt x="12" y="175"/>
                    </a:lnTo>
                    <a:lnTo>
                      <a:pt x="7" y="179"/>
                    </a:lnTo>
                    <a:lnTo>
                      <a:pt x="4" y="185"/>
                    </a:lnTo>
                    <a:lnTo>
                      <a:pt x="1" y="191"/>
                    </a:lnTo>
                    <a:lnTo>
                      <a:pt x="0" y="196"/>
                    </a:lnTo>
                    <a:lnTo>
                      <a:pt x="0" y="202"/>
                    </a:lnTo>
                    <a:lnTo>
                      <a:pt x="1" y="209"/>
                    </a:lnTo>
                    <a:lnTo>
                      <a:pt x="2" y="215"/>
                    </a:lnTo>
                    <a:lnTo>
                      <a:pt x="6" y="220"/>
                    </a:lnTo>
                    <a:lnTo>
                      <a:pt x="9" y="225"/>
                    </a:lnTo>
                    <a:lnTo>
                      <a:pt x="14" y="230"/>
                    </a:lnTo>
                    <a:lnTo>
                      <a:pt x="21" y="233"/>
                    </a:lnTo>
                    <a:lnTo>
                      <a:pt x="27" y="234"/>
                    </a:lnTo>
                    <a:lnTo>
                      <a:pt x="35" y="235"/>
                    </a:lnTo>
                    <a:lnTo>
                      <a:pt x="40" y="1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3379680" y="5199120"/>
                <a:ext cx="771480" cy="60120"/>
              </a:xfrm>
              <a:custGeom>
                <a:avLst/>
                <a:gdLst/>
                <a:ahLst/>
                <a:rect l="l" t="t" r="r" b="b"/>
                <a:pathLst>
                  <a:path w="2431" h="186">
                    <a:moveTo>
                      <a:pt x="0" y="0"/>
                    </a:moveTo>
                    <a:lnTo>
                      <a:pt x="45" y="13"/>
                    </a:lnTo>
                    <a:lnTo>
                      <a:pt x="99" y="24"/>
                    </a:lnTo>
                    <a:lnTo>
                      <a:pt x="161" y="37"/>
                    </a:lnTo>
                    <a:lnTo>
                      <a:pt x="231" y="49"/>
                    </a:lnTo>
                    <a:lnTo>
                      <a:pt x="307" y="62"/>
                    </a:lnTo>
                    <a:lnTo>
                      <a:pt x="389" y="74"/>
                    </a:lnTo>
                    <a:lnTo>
                      <a:pt x="478" y="86"/>
                    </a:lnTo>
                    <a:lnTo>
                      <a:pt x="571" y="98"/>
                    </a:lnTo>
                    <a:lnTo>
                      <a:pt x="668" y="110"/>
                    </a:lnTo>
                    <a:lnTo>
                      <a:pt x="768" y="121"/>
                    </a:lnTo>
                    <a:lnTo>
                      <a:pt x="871" y="131"/>
                    </a:lnTo>
                    <a:lnTo>
                      <a:pt x="975" y="142"/>
                    </a:lnTo>
                    <a:lnTo>
                      <a:pt x="1083" y="151"/>
                    </a:lnTo>
                    <a:lnTo>
                      <a:pt x="1189" y="159"/>
                    </a:lnTo>
                    <a:lnTo>
                      <a:pt x="1296" y="167"/>
                    </a:lnTo>
                    <a:lnTo>
                      <a:pt x="1402" y="172"/>
                    </a:lnTo>
                    <a:lnTo>
                      <a:pt x="1507" y="178"/>
                    </a:lnTo>
                    <a:lnTo>
                      <a:pt x="1609" y="183"/>
                    </a:lnTo>
                    <a:lnTo>
                      <a:pt x="1708" y="185"/>
                    </a:lnTo>
                    <a:lnTo>
                      <a:pt x="1804" y="186"/>
                    </a:lnTo>
                    <a:lnTo>
                      <a:pt x="1897" y="186"/>
                    </a:lnTo>
                    <a:lnTo>
                      <a:pt x="1983" y="184"/>
                    </a:lnTo>
                    <a:lnTo>
                      <a:pt x="2064" y="180"/>
                    </a:lnTo>
                    <a:lnTo>
                      <a:pt x="2139" y="175"/>
                    </a:lnTo>
                    <a:lnTo>
                      <a:pt x="2208" y="168"/>
                    </a:lnTo>
                    <a:lnTo>
                      <a:pt x="2268" y="158"/>
                    </a:lnTo>
                    <a:lnTo>
                      <a:pt x="2321" y="146"/>
                    </a:lnTo>
                    <a:lnTo>
                      <a:pt x="2363" y="133"/>
                    </a:lnTo>
                    <a:lnTo>
                      <a:pt x="2397" y="117"/>
                    </a:lnTo>
                    <a:lnTo>
                      <a:pt x="2420" y="98"/>
                    </a:lnTo>
                    <a:lnTo>
                      <a:pt x="2431" y="78"/>
                    </a:lnTo>
                    <a:lnTo>
                      <a:pt x="2431" y="54"/>
                    </a:lnTo>
                    <a:lnTo>
                      <a:pt x="2392" y="48"/>
                    </a:lnTo>
                    <a:lnTo>
                      <a:pt x="2349" y="44"/>
                    </a:lnTo>
                    <a:lnTo>
                      <a:pt x="2299" y="39"/>
                    </a:lnTo>
                    <a:lnTo>
                      <a:pt x="2245" y="34"/>
                    </a:lnTo>
                    <a:lnTo>
                      <a:pt x="2187" y="31"/>
                    </a:lnTo>
                    <a:lnTo>
                      <a:pt x="2125" y="28"/>
                    </a:lnTo>
                    <a:lnTo>
                      <a:pt x="2057" y="25"/>
                    </a:lnTo>
                    <a:lnTo>
                      <a:pt x="1987" y="23"/>
                    </a:lnTo>
                    <a:lnTo>
                      <a:pt x="1836" y="18"/>
                    </a:lnTo>
                    <a:lnTo>
                      <a:pt x="1675" y="16"/>
                    </a:lnTo>
                    <a:lnTo>
                      <a:pt x="1506" y="15"/>
                    </a:lnTo>
                    <a:lnTo>
                      <a:pt x="1330" y="14"/>
                    </a:lnTo>
                    <a:lnTo>
                      <a:pt x="970" y="13"/>
                    </a:lnTo>
                    <a:lnTo>
                      <a:pt x="615" y="12"/>
                    </a:lnTo>
                    <a:lnTo>
                      <a:pt x="445" y="10"/>
                    </a:lnTo>
                    <a:lnTo>
                      <a:pt x="286" y="8"/>
                    </a:lnTo>
                    <a:lnTo>
                      <a:pt x="13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3376440" y="5189400"/>
                <a:ext cx="785880" cy="79560"/>
              </a:xfrm>
              <a:custGeom>
                <a:avLst/>
                <a:gdLst/>
                <a:ahLst/>
                <a:rect l="l" t="t" r="r" b="b"/>
                <a:pathLst>
                  <a:path w="2477" h="252">
                    <a:moveTo>
                      <a:pt x="2435" y="119"/>
                    </a:moveTo>
                    <a:lnTo>
                      <a:pt x="2408" y="94"/>
                    </a:lnTo>
                    <a:lnTo>
                      <a:pt x="2409" y="96"/>
                    </a:lnTo>
                    <a:lnTo>
                      <a:pt x="2409" y="98"/>
                    </a:lnTo>
                    <a:lnTo>
                      <a:pt x="2409" y="100"/>
                    </a:lnTo>
                    <a:lnTo>
                      <a:pt x="2408" y="101"/>
                    </a:lnTo>
                    <a:lnTo>
                      <a:pt x="2408" y="102"/>
                    </a:lnTo>
                    <a:lnTo>
                      <a:pt x="2407" y="103"/>
                    </a:lnTo>
                    <a:lnTo>
                      <a:pt x="2406" y="105"/>
                    </a:lnTo>
                    <a:lnTo>
                      <a:pt x="2406" y="106"/>
                    </a:lnTo>
                    <a:lnTo>
                      <a:pt x="2398" y="113"/>
                    </a:lnTo>
                    <a:lnTo>
                      <a:pt x="2389" y="120"/>
                    </a:lnTo>
                    <a:lnTo>
                      <a:pt x="2376" y="127"/>
                    </a:lnTo>
                    <a:lnTo>
                      <a:pt x="2361" y="134"/>
                    </a:lnTo>
                    <a:lnTo>
                      <a:pt x="2343" y="139"/>
                    </a:lnTo>
                    <a:lnTo>
                      <a:pt x="2321" y="146"/>
                    </a:lnTo>
                    <a:lnTo>
                      <a:pt x="2298" y="152"/>
                    </a:lnTo>
                    <a:lnTo>
                      <a:pt x="2272" y="157"/>
                    </a:lnTo>
                    <a:lnTo>
                      <a:pt x="2244" y="162"/>
                    </a:lnTo>
                    <a:lnTo>
                      <a:pt x="2213" y="166"/>
                    </a:lnTo>
                    <a:lnTo>
                      <a:pt x="2181" y="170"/>
                    </a:lnTo>
                    <a:lnTo>
                      <a:pt x="2147" y="174"/>
                    </a:lnTo>
                    <a:lnTo>
                      <a:pt x="2111" y="176"/>
                    </a:lnTo>
                    <a:lnTo>
                      <a:pt x="2073" y="178"/>
                    </a:lnTo>
                    <a:lnTo>
                      <a:pt x="2033" y="181"/>
                    </a:lnTo>
                    <a:lnTo>
                      <a:pt x="1992" y="183"/>
                    </a:lnTo>
                    <a:lnTo>
                      <a:pt x="1905" y="184"/>
                    </a:lnTo>
                    <a:lnTo>
                      <a:pt x="1814" y="184"/>
                    </a:lnTo>
                    <a:lnTo>
                      <a:pt x="1718" y="183"/>
                    </a:lnTo>
                    <a:lnTo>
                      <a:pt x="1619" y="181"/>
                    </a:lnTo>
                    <a:lnTo>
                      <a:pt x="1518" y="177"/>
                    </a:lnTo>
                    <a:lnTo>
                      <a:pt x="1414" y="171"/>
                    </a:lnTo>
                    <a:lnTo>
                      <a:pt x="1308" y="165"/>
                    </a:lnTo>
                    <a:lnTo>
                      <a:pt x="1201" y="158"/>
                    </a:lnTo>
                    <a:lnTo>
                      <a:pt x="1095" y="150"/>
                    </a:lnTo>
                    <a:lnTo>
                      <a:pt x="989" y="141"/>
                    </a:lnTo>
                    <a:lnTo>
                      <a:pt x="884" y="130"/>
                    </a:lnTo>
                    <a:lnTo>
                      <a:pt x="781" y="120"/>
                    </a:lnTo>
                    <a:lnTo>
                      <a:pt x="681" y="109"/>
                    </a:lnTo>
                    <a:lnTo>
                      <a:pt x="585" y="97"/>
                    </a:lnTo>
                    <a:lnTo>
                      <a:pt x="492" y="85"/>
                    </a:lnTo>
                    <a:lnTo>
                      <a:pt x="405" y="72"/>
                    </a:lnTo>
                    <a:lnTo>
                      <a:pt x="322" y="61"/>
                    </a:lnTo>
                    <a:lnTo>
                      <a:pt x="247" y="48"/>
                    </a:lnTo>
                    <a:lnTo>
                      <a:pt x="177" y="36"/>
                    </a:lnTo>
                    <a:lnTo>
                      <a:pt x="116" y="23"/>
                    </a:lnTo>
                    <a:lnTo>
                      <a:pt x="62" y="12"/>
                    </a:lnTo>
                    <a:lnTo>
                      <a:pt x="19" y="0"/>
                    </a:lnTo>
                    <a:lnTo>
                      <a:pt x="0" y="65"/>
                    </a:lnTo>
                    <a:lnTo>
                      <a:pt x="47" y="77"/>
                    </a:lnTo>
                    <a:lnTo>
                      <a:pt x="102" y="89"/>
                    </a:lnTo>
                    <a:lnTo>
                      <a:pt x="165" y="102"/>
                    </a:lnTo>
                    <a:lnTo>
                      <a:pt x="235" y="114"/>
                    </a:lnTo>
                    <a:lnTo>
                      <a:pt x="312" y="127"/>
                    </a:lnTo>
                    <a:lnTo>
                      <a:pt x="395" y="139"/>
                    </a:lnTo>
                    <a:lnTo>
                      <a:pt x="484" y="152"/>
                    </a:lnTo>
                    <a:lnTo>
                      <a:pt x="577" y="163"/>
                    </a:lnTo>
                    <a:lnTo>
                      <a:pt x="674" y="176"/>
                    </a:lnTo>
                    <a:lnTo>
                      <a:pt x="775" y="186"/>
                    </a:lnTo>
                    <a:lnTo>
                      <a:pt x="877" y="198"/>
                    </a:lnTo>
                    <a:lnTo>
                      <a:pt x="983" y="207"/>
                    </a:lnTo>
                    <a:lnTo>
                      <a:pt x="1089" y="217"/>
                    </a:lnTo>
                    <a:lnTo>
                      <a:pt x="1196" y="225"/>
                    </a:lnTo>
                    <a:lnTo>
                      <a:pt x="1303" y="232"/>
                    </a:lnTo>
                    <a:lnTo>
                      <a:pt x="1409" y="239"/>
                    </a:lnTo>
                    <a:lnTo>
                      <a:pt x="1514" y="244"/>
                    </a:lnTo>
                    <a:lnTo>
                      <a:pt x="1618" y="248"/>
                    </a:lnTo>
                    <a:lnTo>
                      <a:pt x="1717" y="250"/>
                    </a:lnTo>
                    <a:lnTo>
                      <a:pt x="1814" y="252"/>
                    </a:lnTo>
                    <a:lnTo>
                      <a:pt x="1907" y="251"/>
                    </a:lnTo>
                    <a:lnTo>
                      <a:pt x="1994" y="250"/>
                    </a:lnTo>
                    <a:lnTo>
                      <a:pt x="2036" y="248"/>
                    </a:lnTo>
                    <a:lnTo>
                      <a:pt x="2076" y="246"/>
                    </a:lnTo>
                    <a:lnTo>
                      <a:pt x="2115" y="243"/>
                    </a:lnTo>
                    <a:lnTo>
                      <a:pt x="2153" y="240"/>
                    </a:lnTo>
                    <a:lnTo>
                      <a:pt x="2188" y="236"/>
                    </a:lnTo>
                    <a:lnTo>
                      <a:pt x="2222" y="233"/>
                    </a:lnTo>
                    <a:lnTo>
                      <a:pt x="2254" y="228"/>
                    </a:lnTo>
                    <a:lnTo>
                      <a:pt x="2284" y="223"/>
                    </a:lnTo>
                    <a:lnTo>
                      <a:pt x="2312" y="217"/>
                    </a:lnTo>
                    <a:lnTo>
                      <a:pt x="2339" y="211"/>
                    </a:lnTo>
                    <a:lnTo>
                      <a:pt x="2363" y="204"/>
                    </a:lnTo>
                    <a:lnTo>
                      <a:pt x="2385" y="197"/>
                    </a:lnTo>
                    <a:lnTo>
                      <a:pt x="2406" y="187"/>
                    </a:lnTo>
                    <a:lnTo>
                      <a:pt x="2424" y="177"/>
                    </a:lnTo>
                    <a:lnTo>
                      <a:pt x="2440" y="166"/>
                    </a:lnTo>
                    <a:lnTo>
                      <a:pt x="2454" y="153"/>
                    </a:lnTo>
                    <a:lnTo>
                      <a:pt x="2461" y="145"/>
                    </a:lnTo>
                    <a:lnTo>
                      <a:pt x="2466" y="137"/>
                    </a:lnTo>
                    <a:lnTo>
                      <a:pt x="2471" y="128"/>
                    </a:lnTo>
                    <a:lnTo>
                      <a:pt x="2474" y="118"/>
                    </a:lnTo>
                    <a:lnTo>
                      <a:pt x="2475" y="108"/>
                    </a:lnTo>
                    <a:lnTo>
                      <a:pt x="2477" y="98"/>
                    </a:lnTo>
                    <a:lnTo>
                      <a:pt x="2475" y="88"/>
                    </a:lnTo>
                    <a:lnTo>
                      <a:pt x="2474" y="78"/>
                    </a:lnTo>
                    <a:lnTo>
                      <a:pt x="2447" y="53"/>
                    </a:lnTo>
                    <a:lnTo>
                      <a:pt x="2474" y="78"/>
                    </a:lnTo>
                    <a:lnTo>
                      <a:pt x="2471" y="70"/>
                    </a:lnTo>
                    <a:lnTo>
                      <a:pt x="2467" y="64"/>
                    </a:lnTo>
                    <a:lnTo>
                      <a:pt x="2463" y="60"/>
                    </a:lnTo>
                    <a:lnTo>
                      <a:pt x="2458" y="56"/>
                    </a:lnTo>
                    <a:lnTo>
                      <a:pt x="2451" y="54"/>
                    </a:lnTo>
                    <a:lnTo>
                      <a:pt x="2446" y="52"/>
                    </a:lnTo>
                    <a:lnTo>
                      <a:pt x="2439" y="52"/>
                    </a:lnTo>
                    <a:lnTo>
                      <a:pt x="2433" y="53"/>
                    </a:lnTo>
                    <a:lnTo>
                      <a:pt x="2428" y="55"/>
                    </a:lnTo>
                    <a:lnTo>
                      <a:pt x="2422" y="58"/>
                    </a:lnTo>
                    <a:lnTo>
                      <a:pt x="2417" y="62"/>
                    </a:lnTo>
                    <a:lnTo>
                      <a:pt x="2413" y="66"/>
                    </a:lnTo>
                    <a:lnTo>
                      <a:pt x="2409" y="72"/>
                    </a:lnTo>
                    <a:lnTo>
                      <a:pt x="2408" y="79"/>
                    </a:lnTo>
                    <a:lnTo>
                      <a:pt x="2407" y="86"/>
                    </a:lnTo>
                    <a:lnTo>
                      <a:pt x="2408" y="94"/>
                    </a:lnTo>
                    <a:lnTo>
                      <a:pt x="2435" y="11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3368520" y="5189400"/>
                <a:ext cx="784440" cy="38160"/>
              </a:xfrm>
              <a:custGeom>
                <a:avLst/>
                <a:gdLst/>
                <a:ahLst/>
                <a:rect l="l" t="t" r="r" b="b"/>
                <a:pathLst>
                  <a:path w="2470" h="120">
                    <a:moveTo>
                      <a:pt x="42" y="1"/>
                    </a:moveTo>
                    <a:lnTo>
                      <a:pt x="31" y="67"/>
                    </a:lnTo>
                    <a:lnTo>
                      <a:pt x="168" y="72"/>
                    </a:lnTo>
                    <a:lnTo>
                      <a:pt x="318" y="74"/>
                    </a:lnTo>
                    <a:lnTo>
                      <a:pt x="478" y="77"/>
                    </a:lnTo>
                    <a:lnTo>
                      <a:pt x="648" y="78"/>
                    </a:lnTo>
                    <a:lnTo>
                      <a:pt x="1003" y="79"/>
                    </a:lnTo>
                    <a:lnTo>
                      <a:pt x="1363" y="80"/>
                    </a:lnTo>
                    <a:lnTo>
                      <a:pt x="1539" y="81"/>
                    </a:lnTo>
                    <a:lnTo>
                      <a:pt x="1707" y="83"/>
                    </a:lnTo>
                    <a:lnTo>
                      <a:pt x="1869" y="86"/>
                    </a:lnTo>
                    <a:lnTo>
                      <a:pt x="2018" y="89"/>
                    </a:lnTo>
                    <a:lnTo>
                      <a:pt x="2089" y="91"/>
                    </a:lnTo>
                    <a:lnTo>
                      <a:pt x="2155" y="95"/>
                    </a:lnTo>
                    <a:lnTo>
                      <a:pt x="2218" y="97"/>
                    </a:lnTo>
                    <a:lnTo>
                      <a:pt x="2276" y="102"/>
                    </a:lnTo>
                    <a:lnTo>
                      <a:pt x="2330" y="105"/>
                    </a:lnTo>
                    <a:lnTo>
                      <a:pt x="2379" y="110"/>
                    </a:lnTo>
                    <a:lnTo>
                      <a:pt x="2422" y="114"/>
                    </a:lnTo>
                    <a:lnTo>
                      <a:pt x="2458" y="120"/>
                    </a:lnTo>
                    <a:lnTo>
                      <a:pt x="2470" y="54"/>
                    </a:lnTo>
                    <a:lnTo>
                      <a:pt x="2430" y="48"/>
                    </a:lnTo>
                    <a:lnTo>
                      <a:pt x="2386" y="42"/>
                    </a:lnTo>
                    <a:lnTo>
                      <a:pt x="2335" y="38"/>
                    </a:lnTo>
                    <a:lnTo>
                      <a:pt x="2281" y="34"/>
                    </a:lnTo>
                    <a:lnTo>
                      <a:pt x="2221" y="30"/>
                    </a:lnTo>
                    <a:lnTo>
                      <a:pt x="2159" y="28"/>
                    </a:lnTo>
                    <a:lnTo>
                      <a:pt x="2091" y="24"/>
                    </a:lnTo>
                    <a:lnTo>
                      <a:pt x="2021" y="22"/>
                    </a:lnTo>
                    <a:lnTo>
                      <a:pt x="1870" y="18"/>
                    </a:lnTo>
                    <a:lnTo>
                      <a:pt x="1708" y="16"/>
                    </a:lnTo>
                    <a:lnTo>
                      <a:pt x="1539" y="14"/>
                    </a:lnTo>
                    <a:lnTo>
                      <a:pt x="1363" y="13"/>
                    </a:lnTo>
                    <a:lnTo>
                      <a:pt x="1003" y="12"/>
                    </a:lnTo>
                    <a:lnTo>
                      <a:pt x="648" y="10"/>
                    </a:lnTo>
                    <a:lnTo>
                      <a:pt x="479" y="9"/>
                    </a:lnTo>
                    <a:lnTo>
                      <a:pt x="319" y="7"/>
                    </a:lnTo>
                    <a:lnTo>
                      <a:pt x="169" y="5"/>
                    </a:lnTo>
                    <a:lnTo>
                      <a:pt x="34" y="0"/>
                    </a:lnTo>
                    <a:lnTo>
                      <a:pt x="23" y="66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9" y="2"/>
                    </a:lnTo>
                    <a:lnTo>
                      <a:pt x="13" y="6"/>
                    </a:lnTo>
                    <a:lnTo>
                      <a:pt x="9" y="9"/>
                    </a:lnTo>
                    <a:lnTo>
                      <a:pt x="4" y="15"/>
                    </a:lnTo>
                    <a:lnTo>
                      <a:pt x="2" y="21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3" y="50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7" y="64"/>
                    </a:lnTo>
                    <a:lnTo>
                      <a:pt x="23" y="66"/>
                    </a:lnTo>
                    <a:lnTo>
                      <a:pt x="31" y="67"/>
                    </a:lnTo>
                    <a:lnTo>
                      <a:pt x="42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3274920" y="5367240"/>
                <a:ext cx="800280" cy="52560"/>
              </a:xfrm>
              <a:custGeom>
                <a:avLst/>
                <a:gdLst/>
                <a:ahLst/>
                <a:rect l="l" t="t" r="r" b="b"/>
                <a:pathLst>
                  <a:path w="2519" h="164">
                    <a:moveTo>
                      <a:pt x="0" y="164"/>
                    </a:moveTo>
                    <a:lnTo>
                      <a:pt x="50" y="159"/>
                    </a:lnTo>
                    <a:lnTo>
                      <a:pt x="108" y="156"/>
                    </a:lnTo>
                    <a:lnTo>
                      <a:pt x="172" y="152"/>
                    </a:lnTo>
                    <a:lnTo>
                      <a:pt x="242" y="150"/>
                    </a:lnTo>
                    <a:lnTo>
                      <a:pt x="401" y="146"/>
                    </a:lnTo>
                    <a:lnTo>
                      <a:pt x="578" y="143"/>
                    </a:lnTo>
                    <a:lnTo>
                      <a:pt x="967" y="140"/>
                    </a:lnTo>
                    <a:lnTo>
                      <a:pt x="1378" y="134"/>
                    </a:lnTo>
                    <a:lnTo>
                      <a:pt x="1580" y="131"/>
                    </a:lnTo>
                    <a:lnTo>
                      <a:pt x="1773" y="124"/>
                    </a:lnTo>
                    <a:lnTo>
                      <a:pt x="1866" y="120"/>
                    </a:lnTo>
                    <a:lnTo>
                      <a:pt x="1955" y="116"/>
                    </a:lnTo>
                    <a:lnTo>
                      <a:pt x="2039" y="110"/>
                    </a:lnTo>
                    <a:lnTo>
                      <a:pt x="2119" y="104"/>
                    </a:lnTo>
                    <a:lnTo>
                      <a:pt x="2194" y="97"/>
                    </a:lnTo>
                    <a:lnTo>
                      <a:pt x="2262" y="89"/>
                    </a:lnTo>
                    <a:lnTo>
                      <a:pt x="2324" y="81"/>
                    </a:lnTo>
                    <a:lnTo>
                      <a:pt x="2380" y="71"/>
                    </a:lnTo>
                    <a:lnTo>
                      <a:pt x="2427" y="61"/>
                    </a:lnTo>
                    <a:lnTo>
                      <a:pt x="2466" y="48"/>
                    </a:lnTo>
                    <a:lnTo>
                      <a:pt x="2497" y="35"/>
                    </a:lnTo>
                    <a:lnTo>
                      <a:pt x="2519" y="21"/>
                    </a:lnTo>
                    <a:lnTo>
                      <a:pt x="2429" y="15"/>
                    </a:lnTo>
                    <a:lnTo>
                      <a:pt x="2306" y="11"/>
                    </a:lnTo>
                    <a:lnTo>
                      <a:pt x="2156" y="6"/>
                    </a:lnTo>
                    <a:lnTo>
                      <a:pt x="1984" y="3"/>
                    </a:lnTo>
                    <a:lnTo>
                      <a:pt x="1794" y="0"/>
                    </a:lnTo>
                    <a:lnTo>
                      <a:pt x="1592" y="0"/>
                    </a:lnTo>
                    <a:lnTo>
                      <a:pt x="1487" y="0"/>
                    </a:lnTo>
                    <a:lnTo>
                      <a:pt x="1382" y="2"/>
                    </a:lnTo>
                    <a:lnTo>
                      <a:pt x="1276" y="4"/>
                    </a:lnTo>
                    <a:lnTo>
                      <a:pt x="1170" y="6"/>
                    </a:lnTo>
                    <a:lnTo>
                      <a:pt x="1065" y="8"/>
                    </a:lnTo>
                    <a:lnTo>
                      <a:pt x="962" y="13"/>
                    </a:lnTo>
                    <a:lnTo>
                      <a:pt x="859" y="18"/>
                    </a:lnTo>
                    <a:lnTo>
                      <a:pt x="760" y="22"/>
                    </a:lnTo>
                    <a:lnTo>
                      <a:pt x="664" y="29"/>
                    </a:lnTo>
                    <a:lnTo>
                      <a:pt x="572" y="36"/>
                    </a:lnTo>
                    <a:lnTo>
                      <a:pt x="484" y="44"/>
                    </a:lnTo>
                    <a:lnTo>
                      <a:pt x="402" y="52"/>
                    </a:lnTo>
                    <a:lnTo>
                      <a:pt x="324" y="62"/>
                    </a:lnTo>
                    <a:lnTo>
                      <a:pt x="254" y="73"/>
                    </a:lnTo>
                    <a:lnTo>
                      <a:pt x="191" y="85"/>
                    </a:lnTo>
                    <a:lnTo>
                      <a:pt x="135" y="99"/>
                    </a:lnTo>
                    <a:lnTo>
                      <a:pt x="87" y="112"/>
                    </a:lnTo>
                    <a:lnTo>
                      <a:pt x="49" y="128"/>
                    </a:lnTo>
                    <a:lnTo>
                      <a:pt x="19" y="14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3274920" y="5362560"/>
                <a:ext cx="811440" cy="66600"/>
              </a:xfrm>
              <a:custGeom>
                <a:avLst/>
                <a:gdLst/>
                <a:ahLst/>
                <a:rect l="l" t="t" r="r" b="b"/>
                <a:pathLst>
                  <a:path w="2556" h="210">
                    <a:moveTo>
                      <a:pt x="2519" y="67"/>
                    </a:moveTo>
                    <a:lnTo>
                      <a:pt x="2499" y="9"/>
                    </a:lnTo>
                    <a:lnTo>
                      <a:pt x="2493" y="13"/>
                    </a:lnTo>
                    <a:lnTo>
                      <a:pt x="2484" y="18"/>
                    </a:lnTo>
                    <a:lnTo>
                      <a:pt x="2472" y="24"/>
                    </a:lnTo>
                    <a:lnTo>
                      <a:pt x="2458" y="29"/>
                    </a:lnTo>
                    <a:lnTo>
                      <a:pt x="2441" y="35"/>
                    </a:lnTo>
                    <a:lnTo>
                      <a:pt x="2422" y="41"/>
                    </a:lnTo>
                    <a:lnTo>
                      <a:pt x="2400" y="47"/>
                    </a:lnTo>
                    <a:lnTo>
                      <a:pt x="2376" y="51"/>
                    </a:lnTo>
                    <a:lnTo>
                      <a:pt x="2322" y="61"/>
                    </a:lnTo>
                    <a:lnTo>
                      <a:pt x="2261" y="69"/>
                    </a:lnTo>
                    <a:lnTo>
                      <a:pt x="2194" y="77"/>
                    </a:lnTo>
                    <a:lnTo>
                      <a:pt x="2120" y="84"/>
                    </a:lnTo>
                    <a:lnTo>
                      <a:pt x="2040" y="90"/>
                    </a:lnTo>
                    <a:lnTo>
                      <a:pt x="1956" y="96"/>
                    </a:lnTo>
                    <a:lnTo>
                      <a:pt x="1868" y="100"/>
                    </a:lnTo>
                    <a:lnTo>
                      <a:pt x="1775" y="104"/>
                    </a:lnTo>
                    <a:lnTo>
                      <a:pt x="1581" y="109"/>
                    </a:lnTo>
                    <a:lnTo>
                      <a:pt x="1381" y="114"/>
                    </a:lnTo>
                    <a:lnTo>
                      <a:pt x="969" y="118"/>
                    </a:lnTo>
                    <a:lnTo>
                      <a:pt x="579" y="123"/>
                    </a:lnTo>
                    <a:lnTo>
                      <a:pt x="403" y="125"/>
                    </a:lnTo>
                    <a:lnTo>
                      <a:pt x="245" y="129"/>
                    </a:lnTo>
                    <a:lnTo>
                      <a:pt x="174" y="132"/>
                    </a:lnTo>
                    <a:lnTo>
                      <a:pt x="109" y="134"/>
                    </a:lnTo>
                    <a:lnTo>
                      <a:pt x="50" y="138"/>
                    </a:lnTo>
                    <a:lnTo>
                      <a:pt x="0" y="142"/>
                    </a:lnTo>
                    <a:lnTo>
                      <a:pt x="6" y="210"/>
                    </a:lnTo>
                    <a:lnTo>
                      <a:pt x="55" y="205"/>
                    </a:lnTo>
                    <a:lnTo>
                      <a:pt x="112" y="202"/>
                    </a:lnTo>
                    <a:lnTo>
                      <a:pt x="177" y="199"/>
                    </a:lnTo>
                    <a:lnTo>
                      <a:pt x="246" y="196"/>
                    </a:lnTo>
                    <a:lnTo>
                      <a:pt x="404" y="193"/>
                    </a:lnTo>
                    <a:lnTo>
                      <a:pt x="581" y="190"/>
                    </a:lnTo>
                    <a:lnTo>
                      <a:pt x="970" y="186"/>
                    </a:lnTo>
                    <a:lnTo>
                      <a:pt x="1381" y="181"/>
                    </a:lnTo>
                    <a:lnTo>
                      <a:pt x="1584" y="177"/>
                    </a:lnTo>
                    <a:lnTo>
                      <a:pt x="1778" y="171"/>
                    </a:lnTo>
                    <a:lnTo>
                      <a:pt x="1871" y="167"/>
                    </a:lnTo>
                    <a:lnTo>
                      <a:pt x="1960" y="163"/>
                    </a:lnTo>
                    <a:lnTo>
                      <a:pt x="2044" y="157"/>
                    </a:lnTo>
                    <a:lnTo>
                      <a:pt x="2125" y="151"/>
                    </a:lnTo>
                    <a:lnTo>
                      <a:pt x="2200" y="145"/>
                    </a:lnTo>
                    <a:lnTo>
                      <a:pt x="2269" y="137"/>
                    </a:lnTo>
                    <a:lnTo>
                      <a:pt x="2333" y="128"/>
                    </a:lnTo>
                    <a:lnTo>
                      <a:pt x="2389" y="117"/>
                    </a:lnTo>
                    <a:lnTo>
                      <a:pt x="2415" y="112"/>
                    </a:lnTo>
                    <a:lnTo>
                      <a:pt x="2439" y="106"/>
                    </a:lnTo>
                    <a:lnTo>
                      <a:pt x="2460" y="100"/>
                    </a:lnTo>
                    <a:lnTo>
                      <a:pt x="2481" y="93"/>
                    </a:lnTo>
                    <a:lnTo>
                      <a:pt x="2499" y="86"/>
                    </a:lnTo>
                    <a:lnTo>
                      <a:pt x="2516" y="78"/>
                    </a:lnTo>
                    <a:lnTo>
                      <a:pt x="2531" y="69"/>
                    </a:lnTo>
                    <a:lnTo>
                      <a:pt x="2544" y="59"/>
                    </a:lnTo>
                    <a:lnTo>
                      <a:pt x="2524" y="0"/>
                    </a:lnTo>
                    <a:lnTo>
                      <a:pt x="2544" y="59"/>
                    </a:lnTo>
                    <a:lnTo>
                      <a:pt x="2549" y="52"/>
                    </a:lnTo>
                    <a:lnTo>
                      <a:pt x="2553" y="47"/>
                    </a:lnTo>
                    <a:lnTo>
                      <a:pt x="2555" y="41"/>
                    </a:lnTo>
                    <a:lnTo>
                      <a:pt x="2556" y="34"/>
                    </a:lnTo>
                    <a:lnTo>
                      <a:pt x="2555" y="28"/>
                    </a:lnTo>
                    <a:lnTo>
                      <a:pt x="2553" y="21"/>
                    </a:lnTo>
                    <a:lnTo>
                      <a:pt x="2550" y="16"/>
                    </a:lnTo>
                    <a:lnTo>
                      <a:pt x="2546" y="11"/>
                    </a:lnTo>
                    <a:lnTo>
                      <a:pt x="2541" y="7"/>
                    </a:lnTo>
                    <a:lnTo>
                      <a:pt x="2537" y="3"/>
                    </a:lnTo>
                    <a:lnTo>
                      <a:pt x="2531" y="1"/>
                    </a:lnTo>
                    <a:lnTo>
                      <a:pt x="2524" y="0"/>
                    </a:lnTo>
                    <a:lnTo>
                      <a:pt x="2519" y="0"/>
                    </a:lnTo>
                    <a:lnTo>
                      <a:pt x="2512" y="1"/>
                    </a:lnTo>
                    <a:lnTo>
                      <a:pt x="2505" y="4"/>
                    </a:lnTo>
                    <a:lnTo>
                      <a:pt x="2499" y="9"/>
                    </a:lnTo>
                    <a:lnTo>
                      <a:pt x="2519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3263760" y="5356080"/>
                <a:ext cx="812880" cy="73080"/>
              </a:xfrm>
              <a:custGeom>
                <a:avLst/>
                <a:gdLst/>
                <a:ahLst/>
                <a:rect l="l" t="t" r="r" b="b"/>
                <a:pathLst>
                  <a:path w="2556" h="231">
                    <a:moveTo>
                      <a:pt x="32" y="163"/>
                    </a:moveTo>
                    <a:lnTo>
                      <a:pt x="62" y="217"/>
                    </a:lnTo>
                    <a:lnTo>
                      <a:pt x="66" y="212"/>
                    </a:lnTo>
                    <a:lnTo>
                      <a:pt x="73" y="207"/>
                    </a:lnTo>
                    <a:lnTo>
                      <a:pt x="84" y="200"/>
                    </a:lnTo>
                    <a:lnTo>
                      <a:pt x="97" y="193"/>
                    </a:lnTo>
                    <a:lnTo>
                      <a:pt x="114" y="185"/>
                    </a:lnTo>
                    <a:lnTo>
                      <a:pt x="133" y="178"/>
                    </a:lnTo>
                    <a:lnTo>
                      <a:pt x="154" y="171"/>
                    </a:lnTo>
                    <a:lnTo>
                      <a:pt x="178" y="165"/>
                    </a:lnTo>
                    <a:lnTo>
                      <a:pt x="204" y="159"/>
                    </a:lnTo>
                    <a:lnTo>
                      <a:pt x="233" y="152"/>
                    </a:lnTo>
                    <a:lnTo>
                      <a:pt x="263" y="146"/>
                    </a:lnTo>
                    <a:lnTo>
                      <a:pt x="294" y="141"/>
                    </a:lnTo>
                    <a:lnTo>
                      <a:pt x="364" y="129"/>
                    </a:lnTo>
                    <a:lnTo>
                      <a:pt x="440" y="120"/>
                    </a:lnTo>
                    <a:lnTo>
                      <a:pt x="522" y="111"/>
                    </a:lnTo>
                    <a:lnTo>
                      <a:pt x="610" y="103"/>
                    </a:lnTo>
                    <a:lnTo>
                      <a:pt x="701" y="96"/>
                    </a:lnTo>
                    <a:lnTo>
                      <a:pt x="797" y="90"/>
                    </a:lnTo>
                    <a:lnTo>
                      <a:pt x="896" y="85"/>
                    </a:lnTo>
                    <a:lnTo>
                      <a:pt x="998" y="80"/>
                    </a:lnTo>
                    <a:lnTo>
                      <a:pt x="1102" y="77"/>
                    </a:lnTo>
                    <a:lnTo>
                      <a:pt x="1206" y="73"/>
                    </a:lnTo>
                    <a:lnTo>
                      <a:pt x="1311" y="71"/>
                    </a:lnTo>
                    <a:lnTo>
                      <a:pt x="1417" y="70"/>
                    </a:lnTo>
                    <a:lnTo>
                      <a:pt x="1523" y="69"/>
                    </a:lnTo>
                    <a:lnTo>
                      <a:pt x="1627" y="68"/>
                    </a:lnTo>
                    <a:lnTo>
                      <a:pt x="1829" y="69"/>
                    </a:lnTo>
                    <a:lnTo>
                      <a:pt x="2018" y="70"/>
                    </a:lnTo>
                    <a:lnTo>
                      <a:pt x="2190" y="73"/>
                    </a:lnTo>
                    <a:lnTo>
                      <a:pt x="2340" y="78"/>
                    </a:lnTo>
                    <a:lnTo>
                      <a:pt x="2462" y="84"/>
                    </a:lnTo>
                    <a:lnTo>
                      <a:pt x="2551" y="88"/>
                    </a:lnTo>
                    <a:lnTo>
                      <a:pt x="2556" y="21"/>
                    </a:lnTo>
                    <a:lnTo>
                      <a:pt x="2465" y="16"/>
                    </a:lnTo>
                    <a:lnTo>
                      <a:pt x="2342" y="10"/>
                    </a:lnTo>
                    <a:lnTo>
                      <a:pt x="2193" y="6"/>
                    </a:lnTo>
                    <a:lnTo>
                      <a:pt x="2019" y="3"/>
                    </a:lnTo>
                    <a:lnTo>
                      <a:pt x="1829" y="0"/>
                    </a:lnTo>
                    <a:lnTo>
                      <a:pt x="1627" y="0"/>
                    </a:lnTo>
                    <a:lnTo>
                      <a:pt x="1522" y="1"/>
                    </a:lnTo>
                    <a:lnTo>
                      <a:pt x="1417" y="3"/>
                    </a:lnTo>
                    <a:lnTo>
                      <a:pt x="1311" y="4"/>
                    </a:lnTo>
                    <a:lnTo>
                      <a:pt x="1205" y="6"/>
                    </a:lnTo>
                    <a:lnTo>
                      <a:pt x="1099" y="9"/>
                    </a:lnTo>
                    <a:lnTo>
                      <a:pt x="996" y="13"/>
                    </a:lnTo>
                    <a:lnTo>
                      <a:pt x="893" y="17"/>
                    </a:lnTo>
                    <a:lnTo>
                      <a:pt x="794" y="23"/>
                    </a:lnTo>
                    <a:lnTo>
                      <a:pt x="697" y="29"/>
                    </a:lnTo>
                    <a:lnTo>
                      <a:pt x="605" y="36"/>
                    </a:lnTo>
                    <a:lnTo>
                      <a:pt x="516" y="44"/>
                    </a:lnTo>
                    <a:lnTo>
                      <a:pt x="432" y="53"/>
                    </a:lnTo>
                    <a:lnTo>
                      <a:pt x="355" y="63"/>
                    </a:lnTo>
                    <a:lnTo>
                      <a:pt x="284" y="74"/>
                    </a:lnTo>
                    <a:lnTo>
                      <a:pt x="250" y="80"/>
                    </a:lnTo>
                    <a:lnTo>
                      <a:pt x="219" y="86"/>
                    </a:lnTo>
                    <a:lnTo>
                      <a:pt x="188" y="93"/>
                    </a:lnTo>
                    <a:lnTo>
                      <a:pt x="161" y="99"/>
                    </a:lnTo>
                    <a:lnTo>
                      <a:pt x="135" y="107"/>
                    </a:lnTo>
                    <a:lnTo>
                      <a:pt x="111" y="114"/>
                    </a:lnTo>
                    <a:lnTo>
                      <a:pt x="89" y="123"/>
                    </a:lnTo>
                    <a:lnTo>
                      <a:pt x="69" y="131"/>
                    </a:lnTo>
                    <a:lnTo>
                      <a:pt x="50" y="142"/>
                    </a:lnTo>
                    <a:lnTo>
                      <a:pt x="35" y="152"/>
                    </a:lnTo>
                    <a:lnTo>
                      <a:pt x="20" y="163"/>
                    </a:lnTo>
                    <a:lnTo>
                      <a:pt x="8" y="177"/>
                    </a:lnTo>
                    <a:lnTo>
                      <a:pt x="38" y="231"/>
                    </a:lnTo>
                    <a:lnTo>
                      <a:pt x="8" y="177"/>
                    </a:lnTo>
                    <a:lnTo>
                      <a:pt x="4" y="184"/>
                    </a:lnTo>
                    <a:lnTo>
                      <a:pt x="1" y="191"/>
                    </a:lnTo>
                    <a:lnTo>
                      <a:pt x="0" y="198"/>
                    </a:lnTo>
                    <a:lnTo>
                      <a:pt x="1" y="203"/>
                    </a:lnTo>
                    <a:lnTo>
                      <a:pt x="4" y="210"/>
                    </a:lnTo>
                    <a:lnTo>
                      <a:pt x="6" y="216"/>
                    </a:lnTo>
                    <a:lnTo>
                      <a:pt x="11" y="220"/>
                    </a:lnTo>
                    <a:lnTo>
                      <a:pt x="15" y="224"/>
                    </a:lnTo>
                    <a:lnTo>
                      <a:pt x="21" y="227"/>
                    </a:lnTo>
                    <a:lnTo>
                      <a:pt x="27" y="230"/>
                    </a:lnTo>
                    <a:lnTo>
                      <a:pt x="32" y="231"/>
                    </a:lnTo>
                    <a:lnTo>
                      <a:pt x="39" y="231"/>
                    </a:lnTo>
                    <a:lnTo>
                      <a:pt x="45" y="230"/>
                    </a:lnTo>
                    <a:lnTo>
                      <a:pt x="50" y="227"/>
                    </a:lnTo>
                    <a:lnTo>
                      <a:pt x="57" y="223"/>
                    </a:lnTo>
                    <a:lnTo>
                      <a:pt x="62" y="217"/>
                    </a:lnTo>
                    <a:lnTo>
                      <a:pt x="32" y="1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3379680" y="5099040"/>
                <a:ext cx="800280" cy="65160"/>
              </a:xfrm>
              <a:custGeom>
                <a:avLst/>
                <a:gdLst/>
                <a:ahLst/>
                <a:rect l="l" t="t" r="r" b="b"/>
                <a:pathLst>
                  <a:path w="2520" h="207">
                    <a:moveTo>
                      <a:pt x="0" y="76"/>
                    </a:moveTo>
                    <a:lnTo>
                      <a:pt x="50" y="76"/>
                    </a:lnTo>
                    <a:lnTo>
                      <a:pt x="108" y="78"/>
                    </a:lnTo>
                    <a:lnTo>
                      <a:pt x="172" y="81"/>
                    </a:lnTo>
                    <a:lnTo>
                      <a:pt x="242" y="84"/>
                    </a:lnTo>
                    <a:lnTo>
                      <a:pt x="400" y="95"/>
                    </a:lnTo>
                    <a:lnTo>
                      <a:pt x="576" y="107"/>
                    </a:lnTo>
                    <a:lnTo>
                      <a:pt x="965" y="139"/>
                    </a:lnTo>
                    <a:lnTo>
                      <a:pt x="1374" y="171"/>
                    </a:lnTo>
                    <a:lnTo>
                      <a:pt x="1575" y="185"/>
                    </a:lnTo>
                    <a:lnTo>
                      <a:pt x="1769" y="196"/>
                    </a:lnTo>
                    <a:lnTo>
                      <a:pt x="1861" y="200"/>
                    </a:lnTo>
                    <a:lnTo>
                      <a:pt x="1950" y="203"/>
                    </a:lnTo>
                    <a:lnTo>
                      <a:pt x="2036" y="205"/>
                    </a:lnTo>
                    <a:lnTo>
                      <a:pt x="2115" y="207"/>
                    </a:lnTo>
                    <a:lnTo>
                      <a:pt x="2190" y="207"/>
                    </a:lnTo>
                    <a:lnTo>
                      <a:pt x="2259" y="205"/>
                    </a:lnTo>
                    <a:lnTo>
                      <a:pt x="2322" y="202"/>
                    </a:lnTo>
                    <a:lnTo>
                      <a:pt x="2378" y="196"/>
                    </a:lnTo>
                    <a:lnTo>
                      <a:pt x="2425" y="191"/>
                    </a:lnTo>
                    <a:lnTo>
                      <a:pt x="2465" y="181"/>
                    </a:lnTo>
                    <a:lnTo>
                      <a:pt x="2497" y="171"/>
                    </a:lnTo>
                    <a:lnTo>
                      <a:pt x="2520" y="159"/>
                    </a:lnTo>
                    <a:lnTo>
                      <a:pt x="2431" y="145"/>
                    </a:lnTo>
                    <a:lnTo>
                      <a:pt x="2310" y="130"/>
                    </a:lnTo>
                    <a:lnTo>
                      <a:pt x="2161" y="112"/>
                    </a:lnTo>
                    <a:lnTo>
                      <a:pt x="1990" y="94"/>
                    </a:lnTo>
                    <a:lnTo>
                      <a:pt x="1801" y="74"/>
                    </a:lnTo>
                    <a:lnTo>
                      <a:pt x="1600" y="56"/>
                    </a:lnTo>
                    <a:lnTo>
                      <a:pt x="1496" y="48"/>
                    </a:lnTo>
                    <a:lnTo>
                      <a:pt x="1390" y="39"/>
                    </a:lnTo>
                    <a:lnTo>
                      <a:pt x="1285" y="31"/>
                    </a:lnTo>
                    <a:lnTo>
                      <a:pt x="1179" y="24"/>
                    </a:lnTo>
                    <a:lnTo>
                      <a:pt x="1075" y="17"/>
                    </a:lnTo>
                    <a:lnTo>
                      <a:pt x="971" y="11"/>
                    </a:lnTo>
                    <a:lnTo>
                      <a:pt x="868" y="7"/>
                    </a:lnTo>
                    <a:lnTo>
                      <a:pt x="769" y="3"/>
                    </a:lnTo>
                    <a:lnTo>
                      <a:pt x="673" y="1"/>
                    </a:lnTo>
                    <a:lnTo>
                      <a:pt x="581" y="0"/>
                    </a:lnTo>
                    <a:lnTo>
                      <a:pt x="492" y="0"/>
                    </a:lnTo>
                    <a:lnTo>
                      <a:pt x="409" y="1"/>
                    </a:lnTo>
                    <a:lnTo>
                      <a:pt x="331" y="5"/>
                    </a:lnTo>
                    <a:lnTo>
                      <a:pt x="261" y="9"/>
                    </a:lnTo>
                    <a:lnTo>
                      <a:pt x="197" y="15"/>
                    </a:lnTo>
                    <a:lnTo>
                      <a:pt x="140" y="23"/>
                    </a:lnTo>
                    <a:lnTo>
                      <a:pt x="91" y="33"/>
                    </a:lnTo>
                    <a:lnTo>
                      <a:pt x="51" y="46"/>
                    </a:lnTo>
                    <a:lnTo>
                      <a:pt x="20" y="59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3379680" y="5111640"/>
                <a:ext cx="809640" cy="63720"/>
              </a:xfrm>
              <a:custGeom>
                <a:avLst/>
                <a:gdLst/>
                <a:ahLst/>
                <a:rect l="l" t="t" r="r" b="b"/>
                <a:pathLst>
                  <a:path w="2554" h="199">
                    <a:moveTo>
                      <a:pt x="2516" y="150"/>
                    </a:moveTo>
                    <a:lnTo>
                      <a:pt x="2500" y="89"/>
                    </a:lnTo>
                    <a:lnTo>
                      <a:pt x="2494" y="94"/>
                    </a:lnTo>
                    <a:lnTo>
                      <a:pt x="2485" y="98"/>
                    </a:lnTo>
                    <a:lnTo>
                      <a:pt x="2472" y="103"/>
                    </a:lnTo>
                    <a:lnTo>
                      <a:pt x="2457" y="108"/>
                    </a:lnTo>
                    <a:lnTo>
                      <a:pt x="2439" y="111"/>
                    </a:lnTo>
                    <a:lnTo>
                      <a:pt x="2420" y="115"/>
                    </a:lnTo>
                    <a:lnTo>
                      <a:pt x="2398" y="119"/>
                    </a:lnTo>
                    <a:lnTo>
                      <a:pt x="2374" y="121"/>
                    </a:lnTo>
                    <a:lnTo>
                      <a:pt x="2319" y="126"/>
                    </a:lnTo>
                    <a:lnTo>
                      <a:pt x="2258" y="129"/>
                    </a:lnTo>
                    <a:lnTo>
                      <a:pt x="2190" y="131"/>
                    </a:lnTo>
                    <a:lnTo>
                      <a:pt x="2115" y="131"/>
                    </a:lnTo>
                    <a:lnTo>
                      <a:pt x="2036" y="130"/>
                    </a:lnTo>
                    <a:lnTo>
                      <a:pt x="1951" y="128"/>
                    </a:lnTo>
                    <a:lnTo>
                      <a:pt x="1862" y="125"/>
                    </a:lnTo>
                    <a:lnTo>
                      <a:pt x="1771" y="120"/>
                    </a:lnTo>
                    <a:lnTo>
                      <a:pt x="1577" y="109"/>
                    </a:lnTo>
                    <a:lnTo>
                      <a:pt x="1377" y="95"/>
                    </a:lnTo>
                    <a:lnTo>
                      <a:pt x="967" y="63"/>
                    </a:lnTo>
                    <a:lnTo>
                      <a:pt x="579" y="32"/>
                    </a:lnTo>
                    <a:lnTo>
                      <a:pt x="402" y="19"/>
                    </a:lnTo>
                    <a:lnTo>
                      <a:pt x="245" y="8"/>
                    </a:lnTo>
                    <a:lnTo>
                      <a:pt x="174" y="5"/>
                    </a:lnTo>
                    <a:lnTo>
                      <a:pt x="109" y="3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50" y="68"/>
                    </a:lnTo>
                    <a:lnTo>
                      <a:pt x="107" y="70"/>
                    </a:lnTo>
                    <a:lnTo>
                      <a:pt x="171" y="72"/>
                    </a:lnTo>
                    <a:lnTo>
                      <a:pt x="240" y="76"/>
                    </a:lnTo>
                    <a:lnTo>
                      <a:pt x="397" y="86"/>
                    </a:lnTo>
                    <a:lnTo>
                      <a:pt x="573" y="100"/>
                    </a:lnTo>
                    <a:lnTo>
                      <a:pt x="962" y="130"/>
                    </a:lnTo>
                    <a:lnTo>
                      <a:pt x="1371" y="162"/>
                    </a:lnTo>
                    <a:lnTo>
                      <a:pt x="1574" y="176"/>
                    </a:lnTo>
                    <a:lnTo>
                      <a:pt x="1768" y="187"/>
                    </a:lnTo>
                    <a:lnTo>
                      <a:pt x="1860" y="192"/>
                    </a:lnTo>
                    <a:lnTo>
                      <a:pt x="1949" y="195"/>
                    </a:lnTo>
                    <a:lnTo>
                      <a:pt x="2034" y="198"/>
                    </a:lnTo>
                    <a:lnTo>
                      <a:pt x="2115" y="199"/>
                    </a:lnTo>
                    <a:lnTo>
                      <a:pt x="2191" y="199"/>
                    </a:lnTo>
                    <a:lnTo>
                      <a:pt x="2260" y="196"/>
                    </a:lnTo>
                    <a:lnTo>
                      <a:pt x="2324" y="193"/>
                    </a:lnTo>
                    <a:lnTo>
                      <a:pt x="2381" y="189"/>
                    </a:lnTo>
                    <a:lnTo>
                      <a:pt x="2407" y="185"/>
                    </a:lnTo>
                    <a:lnTo>
                      <a:pt x="2431" y="182"/>
                    </a:lnTo>
                    <a:lnTo>
                      <a:pt x="2454" y="177"/>
                    </a:lnTo>
                    <a:lnTo>
                      <a:pt x="2475" y="173"/>
                    </a:lnTo>
                    <a:lnTo>
                      <a:pt x="2494" y="167"/>
                    </a:lnTo>
                    <a:lnTo>
                      <a:pt x="2511" y="160"/>
                    </a:lnTo>
                    <a:lnTo>
                      <a:pt x="2527" y="152"/>
                    </a:lnTo>
                    <a:lnTo>
                      <a:pt x="2541" y="143"/>
                    </a:lnTo>
                    <a:lnTo>
                      <a:pt x="2526" y="82"/>
                    </a:lnTo>
                    <a:lnTo>
                      <a:pt x="2541" y="143"/>
                    </a:lnTo>
                    <a:lnTo>
                      <a:pt x="2546" y="137"/>
                    </a:lnTo>
                    <a:lnTo>
                      <a:pt x="2551" y="131"/>
                    </a:lnTo>
                    <a:lnTo>
                      <a:pt x="2553" y="126"/>
                    </a:lnTo>
                    <a:lnTo>
                      <a:pt x="2554" y="119"/>
                    </a:lnTo>
                    <a:lnTo>
                      <a:pt x="2554" y="113"/>
                    </a:lnTo>
                    <a:lnTo>
                      <a:pt x="2553" y="108"/>
                    </a:lnTo>
                    <a:lnTo>
                      <a:pt x="2551" y="101"/>
                    </a:lnTo>
                    <a:lnTo>
                      <a:pt x="2547" y="96"/>
                    </a:lnTo>
                    <a:lnTo>
                      <a:pt x="2543" y="92"/>
                    </a:lnTo>
                    <a:lnTo>
                      <a:pt x="2538" y="87"/>
                    </a:lnTo>
                    <a:lnTo>
                      <a:pt x="2533" y="85"/>
                    </a:lnTo>
                    <a:lnTo>
                      <a:pt x="2527" y="82"/>
                    </a:lnTo>
                    <a:lnTo>
                      <a:pt x="2520" y="82"/>
                    </a:lnTo>
                    <a:lnTo>
                      <a:pt x="2513" y="82"/>
                    </a:lnTo>
                    <a:lnTo>
                      <a:pt x="2506" y="86"/>
                    </a:lnTo>
                    <a:lnTo>
                      <a:pt x="2500" y="89"/>
                    </a:lnTo>
                    <a:lnTo>
                      <a:pt x="2516" y="15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3368520" y="5087880"/>
                <a:ext cx="812880" cy="71640"/>
              </a:xfrm>
              <a:custGeom>
                <a:avLst/>
                <a:gdLst/>
                <a:ahLst/>
                <a:rect l="l" t="t" r="r" b="b"/>
                <a:pathLst>
                  <a:path w="2561" h="226">
                    <a:moveTo>
                      <a:pt x="35" y="76"/>
                    </a:moveTo>
                    <a:lnTo>
                      <a:pt x="60" y="132"/>
                    </a:lnTo>
                    <a:lnTo>
                      <a:pt x="64" y="128"/>
                    </a:lnTo>
                    <a:lnTo>
                      <a:pt x="72" y="123"/>
                    </a:lnTo>
                    <a:lnTo>
                      <a:pt x="84" y="117"/>
                    </a:lnTo>
                    <a:lnTo>
                      <a:pt x="97" y="112"/>
                    </a:lnTo>
                    <a:lnTo>
                      <a:pt x="114" y="106"/>
                    </a:lnTo>
                    <a:lnTo>
                      <a:pt x="134" y="100"/>
                    </a:lnTo>
                    <a:lnTo>
                      <a:pt x="155" y="95"/>
                    </a:lnTo>
                    <a:lnTo>
                      <a:pt x="180" y="90"/>
                    </a:lnTo>
                    <a:lnTo>
                      <a:pt x="207" y="87"/>
                    </a:lnTo>
                    <a:lnTo>
                      <a:pt x="235" y="83"/>
                    </a:lnTo>
                    <a:lnTo>
                      <a:pt x="266" y="80"/>
                    </a:lnTo>
                    <a:lnTo>
                      <a:pt x="298" y="76"/>
                    </a:lnTo>
                    <a:lnTo>
                      <a:pt x="369" y="72"/>
                    </a:lnTo>
                    <a:lnTo>
                      <a:pt x="445" y="68"/>
                    </a:lnTo>
                    <a:lnTo>
                      <a:pt x="528" y="67"/>
                    </a:lnTo>
                    <a:lnTo>
                      <a:pt x="616" y="67"/>
                    </a:lnTo>
                    <a:lnTo>
                      <a:pt x="707" y="68"/>
                    </a:lnTo>
                    <a:lnTo>
                      <a:pt x="803" y="72"/>
                    </a:lnTo>
                    <a:lnTo>
                      <a:pt x="902" y="75"/>
                    </a:lnTo>
                    <a:lnTo>
                      <a:pt x="1005" y="80"/>
                    </a:lnTo>
                    <a:lnTo>
                      <a:pt x="1107" y="85"/>
                    </a:lnTo>
                    <a:lnTo>
                      <a:pt x="1212" y="91"/>
                    </a:lnTo>
                    <a:lnTo>
                      <a:pt x="1318" y="99"/>
                    </a:lnTo>
                    <a:lnTo>
                      <a:pt x="1423" y="107"/>
                    </a:lnTo>
                    <a:lnTo>
                      <a:pt x="1528" y="115"/>
                    </a:lnTo>
                    <a:lnTo>
                      <a:pt x="1632" y="124"/>
                    </a:lnTo>
                    <a:lnTo>
                      <a:pt x="1832" y="142"/>
                    </a:lnTo>
                    <a:lnTo>
                      <a:pt x="2022" y="161"/>
                    </a:lnTo>
                    <a:lnTo>
                      <a:pt x="2193" y="180"/>
                    </a:lnTo>
                    <a:lnTo>
                      <a:pt x="2341" y="197"/>
                    </a:lnTo>
                    <a:lnTo>
                      <a:pt x="2462" y="213"/>
                    </a:lnTo>
                    <a:lnTo>
                      <a:pt x="2551" y="226"/>
                    </a:lnTo>
                    <a:lnTo>
                      <a:pt x="2561" y="158"/>
                    </a:lnTo>
                    <a:lnTo>
                      <a:pt x="2471" y="146"/>
                    </a:lnTo>
                    <a:lnTo>
                      <a:pt x="2349" y="130"/>
                    </a:lnTo>
                    <a:lnTo>
                      <a:pt x="2199" y="113"/>
                    </a:lnTo>
                    <a:lnTo>
                      <a:pt x="2028" y="95"/>
                    </a:lnTo>
                    <a:lnTo>
                      <a:pt x="1839" y="75"/>
                    </a:lnTo>
                    <a:lnTo>
                      <a:pt x="1637" y="57"/>
                    </a:lnTo>
                    <a:lnTo>
                      <a:pt x="1534" y="48"/>
                    </a:lnTo>
                    <a:lnTo>
                      <a:pt x="1429" y="40"/>
                    </a:lnTo>
                    <a:lnTo>
                      <a:pt x="1323" y="32"/>
                    </a:lnTo>
                    <a:lnTo>
                      <a:pt x="1217" y="24"/>
                    </a:lnTo>
                    <a:lnTo>
                      <a:pt x="1112" y="18"/>
                    </a:lnTo>
                    <a:lnTo>
                      <a:pt x="1007" y="12"/>
                    </a:lnTo>
                    <a:lnTo>
                      <a:pt x="906" y="8"/>
                    </a:lnTo>
                    <a:lnTo>
                      <a:pt x="805" y="4"/>
                    </a:lnTo>
                    <a:lnTo>
                      <a:pt x="708" y="1"/>
                    </a:lnTo>
                    <a:lnTo>
                      <a:pt x="616" y="0"/>
                    </a:lnTo>
                    <a:lnTo>
                      <a:pt x="527" y="0"/>
                    </a:lnTo>
                    <a:lnTo>
                      <a:pt x="444" y="1"/>
                    </a:lnTo>
                    <a:lnTo>
                      <a:pt x="365" y="4"/>
                    </a:lnTo>
                    <a:lnTo>
                      <a:pt x="293" y="9"/>
                    </a:lnTo>
                    <a:lnTo>
                      <a:pt x="259" y="12"/>
                    </a:lnTo>
                    <a:lnTo>
                      <a:pt x="227" y="16"/>
                    </a:lnTo>
                    <a:lnTo>
                      <a:pt x="198" y="19"/>
                    </a:lnTo>
                    <a:lnTo>
                      <a:pt x="169" y="24"/>
                    </a:lnTo>
                    <a:lnTo>
                      <a:pt x="142" y="29"/>
                    </a:lnTo>
                    <a:lnTo>
                      <a:pt x="118" y="34"/>
                    </a:lnTo>
                    <a:lnTo>
                      <a:pt x="95" y="41"/>
                    </a:lnTo>
                    <a:lnTo>
                      <a:pt x="74" y="48"/>
                    </a:lnTo>
                    <a:lnTo>
                      <a:pt x="55" y="56"/>
                    </a:lnTo>
                    <a:lnTo>
                      <a:pt x="38" y="65"/>
                    </a:lnTo>
                    <a:lnTo>
                      <a:pt x="22" y="75"/>
                    </a:lnTo>
                    <a:lnTo>
                      <a:pt x="9" y="88"/>
                    </a:lnTo>
                    <a:lnTo>
                      <a:pt x="35" y="144"/>
                    </a:lnTo>
                    <a:lnTo>
                      <a:pt x="9" y="88"/>
                    </a:lnTo>
                    <a:lnTo>
                      <a:pt x="5" y="95"/>
                    </a:lnTo>
                    <a:lnTo>
                      <a:pt x="2" y="101"/>
                    </a:lnTo>
                    <a:lnTo>
                      <a:pt x="0" y="107"/>
                    </a:lnTo>
                    <a:lnTo>
                      <a:pt x="0" y="114"/>
                    </a:lnTo>
                    <a:lnTo>
                      <a:pt x="2" y="120"/>
                    </a:lnTo>
                    <a:lnTo>
                      <a:pt x="5" y="125"/>
                    </a:lnTo>
                    <a:lnTo>
                      <a:pt x="8" y="131"/>
                    </a:lnTo>
                    <a:lnTo>
                      <a:pt x="13" y="136"/>
                    </a:lnTo>
                    <a:lnTo>
                      <a:pt x="17" y="139"/>
                    </a:lnTo>
                    <a:lnTo>
                      <a:pt x="23" y="142"/>
                    </a:lnTo>
                    <a:lnTo>
                      <a:pt x="29" y="144"/>
                    </a:lnTo>
                    <a:lnTo>
                      <a:pt x="36" y="145"/>
                    </a:lnTo>
                    <a:lnTo>
                      <a:pt x="41" y="144"/>
                    </a:lnTo>
                    <a:lnTo>
                      <a:pt x="48" y="141"/>
                    </a:lnTo>
                    <a:lnTo>
                      <a:pt x="54" y="138"/>
                    </a:lnTo>
                    <a:lnTo>
                      <a:pt x="60" y="132"/>
                    </a:lnTo>
                    <a:lnTo>
                      <a:pt x="35" y="7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3251160" y="54529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2" y="0"/>
                    </a:moveTo>
                    <a:lnTo>
                      <a:pt x="24" y="1"/>
                    </a:lnTo>
                    <a:lnTo>
                      <a:pt x="17" y="3"/>
                    </a:lnTo>
                    <a:lnTo>
                      <a:pt x="12" y="7"/>
                    </a:lnTo>
                    <a:lnTo>
                      <a:pt x="7" y="11"/>
                    </a:lnTo>
                    <a:lnTo>
                      <a:pt x="4" y="17"/>
                    </a:lnTo>
                    <a:lnTo>
                      <a:pt x="1" y="23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9" y="57"/>
                    </a:lnTo>
                    <a:lnTo>
                      <a:pt x="14" y="62"/>
                    </a:lnTo>
                    <a:lnTo>
                      <a:pt x="20" y="65"/>
                    </a:lnTo>
                    <a:lnTo>
                      <a:pt x="26" y="67"/>
                    </a:lnTo>
                    <a:lnTo>
                      <a:pt x="34" y="6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3260880" y="5388120"/>
                <a:ext cx="838080" cy="87120"/>
              </a:xfrm>
              <a:custGeom>
                <a:avLst/>
                <a:gdLst/>
                <a:ahLst/>
                <a:rect l="l" t="t" r="r" b="b"/>
                <a:pathLst>
                  <a:path w="2637" h="274">
                    <a:moveTo>
                      <a:pt x="2620" y="0"/>
                    </a:moveTo>
                    <a:lnTo>
                      <a:pt x="2573" y="12"/>
                    </a:lnTo>
                    <a:lnTo>
                      <a:pt x="2517" y="22"/>
                    </a:lnTo>
                    <a:lnTo>
                      <a:pt x="2451" y="34"/>
                    </a:lnTo>
                    <a:lnTo>
                      <a:pt x="2378" y="44"/>
                    </a:lnTo>
                    <a:lnTo>
                      <a:pt x="2297" y="54"/>
                    </a:lnTo>
                    <a:lnTo>
                      <a:pt x="2211" y="64"/>
                    </a:lnTo>
                    <a:lnTo>
                      <a:pt x="2117" y="75"/>
                    </a:lnTo>
                    <a:lnTo>
                      <a:pt x="2019" y="84"/>
                    </a:lnTo>
                    <a:lnTo>
                      <a:pt x="1918" y="93"/>
                    </a:lnTo>
                    <a:lnTo>
                      <a:pt x="1812" y="102"/>
                    </a:lnTo>
                    <a:lnTo>
                      <a:pt x="1702" y="111"/>
                    </a:lnTo>
                    <a:lnTo>
                      <a:pt x="1592" y="119"/>
                    </a:lnTo>
                    <a:lnTo>
                      <a:pt x="1366" y="135"/>
                    </a:lnTo>
                    <a:lnTo>
                      <a:pt x="1139" y="149"/>
                    </a:lnTo>
                    <a:lnTo>
                      <a:pt x="919" y="162"/>
                    </a:lnTo>
                    <a:lnTo>
                      <a:pt x="709" y="174"/>
                    </a:lnTo>
                    <a:lnTo>
                      <a:pt x="516" y="183"/>
                    </a:lnTo>
                    <a:lnTo>
                      <a:pt x="345" y="192"/>
                    </a:lnTo>
                    <a:lnTo>
                      <a:pt x="94" y="204"/>
                    </a:lnTo>
                    <a:lnTo>
                      <a:pt x="0" y="207"/>
                    </a:lnTo>
                    <a:lnTo>
                      <a:pt x="2" y="274"/>
                    </a:lnTo>
                    <a:lnTo>
                      <a:pt x="97" y="271"/>
                    </a:lnTo>
                    <a:lnTo>
                      <a:pt x="348" y="259"/>
                    </a:lnTo>
                    <a:lnTo>
                      <a:pt x="519" y="250"/>
                    </a:lnTo>
                    <a:lnTo>
                      <a:pt x="713" y="241"/>
                    </a:lnTo>
                    <a:lnTo>
                      <a:pt x="922" y="230"/>
                    </a:lnTo>
                    <a:lnTo>
                      <a:pt x="1143" y="216"/>
                    </a:lnTo>
                    <a:lnTo>
                      <a:pt x="1370" y="202"/>
                    </a:lnTo>
                    <a:lnTo>
                      <a:pt x="1596" y="186"/>
                    </a:lnTo>
                    <a:lnTo>
                      <a:pt x="1708" y="178"/>
                    </a:lnTo>
                    <a:lnTo>
                      <a:pt x="1817" y="169"/>
                    </a:lnTo>
                    <a:lnTo>
                      <a:pt x="1923" y="160"/>
                    </a:lnTo>
                    <a:lnTo>
                      <a:pt x="2026" y="151"/>
                    </a:lnTo>
                    <a:lnTo>
                      <a:pt x="2124" y="141"/>
                    </a:lnTo>
                    <a:lnTo>
                      <a:pt x="2217" y="132"/>
                    </a:lnTo>
                    <a:lnTo>
                      <a:pt x="2305" y="121"/>
                    </a:lnTo>
                    <a:lnTo>
                      <a:pt x="2387" y="111"/>
                    </a:lnTo>
                    <a:lnTo>
                      <a:pt x="2461" y="100"/>
                    </a:lnTo>
                    <a:lnTo>
                      <a:pt x="2529" y="88"/>
                    </a:lnTo>
                    <a:lnTo>
                      <a:pt x="2587" y="77"/>
                    </a:lnTo>
                    <a:lnTo>
                      <a:pt x="2637" y="66"/>
                    </a:lnTo>
                    <a:lnTo>
                      <a:pt x="262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4092480" y="53881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2" h="67">
                    <a:moveTo>
                      <a:pt x="17" y="67"/>
                    </a:moveTo>
                    <a:lnTo>
                      <a:pt x="25" y="64"/>
                    </a:lnTo>
                    <a:lnTo>
                      <a:pt x="31" y="60"/>
                    </a:lnTo>
                    <a:lnTo>
                      <a:pt x="35" y="55"/>
                    </a:lnTo>
                    <a:lnTo>
                      <a:pt x="39" y="49"/>
                    </a:lnTo>
                    <a:lnTo>
                      <a:pt x="41" y="44"/>
                    </a:lnTo>
                    <a:lnTo>
                      <a:pt x="42" y="38"/>
                    </a:lnTo>
                    <a:lnTo>
                      <a:pt x="42" y="31"/>
                    </a:lnTo>
                    <a:lnTo>
                      <a:pt x="41" y="25"/>
                    </a:lnTo>
                    <a:lnTo>
                      <a:pt x="39" y="20"/>
                    </a:lnTo>
                    <a:lnTo>
                      <a:pt x="36" y="14"/>
                    </a:lnTo>
                    <a:lnTo>
                      <a:pt x="32" y="9"/>
                    </a:lnTo>
                    <a:lnTo>
                      <a:pt x="27" y="5"/>
                    </a:lnTo>
                    <a:lnTo>
                      <a:pt x="21" y="3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7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3514680" y="5170320"/>
                <a:ext cx="9720" cy="2088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2" y="0"/>
                    </a:moveTo>
                    <a:lnTo>
                      <a:pt x="24" y="1"/>
                    </a:lnTo>
                    <a:lnTo>
                      <a:pt x="18" y="3"/>
                    </a:lnTo>
                    <a:lnTo>
                      <a:pt x="12" y="7"/>
                    </a:lnTo>
                    <a:lnTo>
                      <a:pt x="7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8" y="57"/>
                    </a:lnTo>
                    <a:lnTo>
                      <a:pt x="13" y="61"/>
                    </a:lnTo>
                    <a:lnTo>
                      <a:pt x="19" y="65"/>
                    </a:lnTo>
                    <a:lnTo>
                      <a:pt x="26" y="66"/>
                    </a:lnTo>
                    <a:lnTo>
                      <a:pt x="34" y="6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3524400" y="5165640"/>
                <a:ext cx="642960" cy="34920"/>
              </a:xfrm>
              <a:custGeom>
                <a:avLst/>
                <a:gdLst/>
                <a:ahLst/>
                <a:rect l="l" t="t" r="r" b="b"/>
                <a:pathLst>
                  <a:path w="2023" h="110">
                    <a:moveTo>
                      <a:pt x="2023" y="44"/>
                    </a:moveTo>
                    <a:lnTo>
                      <a:pt x="1975" y="37"/>
                    </a:lnTo>
                    <a:lnTo>
                      <a:pt x="1922" y="31"/>
                    </a:lnTo>
                    <a:lnTo>
                      <a:pt x="1862" y="25"/>
                    </a:lnTo>
                    <a:lnTo>
                      <a:pt x="1800" y="21"/>
                    </a:lnTo>
                    <a:lnTo>
                      <a:pt x="1731" y="17"/>
                    </a:lnTo>
                    <a:lnTo>
                      <a:pt x="1660" y="13"/>
                    </a:lnTo>
                    <a:lnTo>
                      <a:pt x="1585" y="11"/>
                    </a:lnTo>
                    <a:lnTo>
                      <a:pt x="1507" y="7"/>
                    </a:lnTo>
                    <a:lnTo>
                      <a:pt x="1344" y="4"/>
                    </a:lnTo>
                    <a:lnTo>
                      <a:pt x="1175" y="1"/>
                    </a:lnTo>
                    <a:lnTo>
                      <a:pt x="1004" y="0"/>
                    </a:lnTo>
                    <a:lnTo>
                      <a:pt x="834" y="0"/>
                    </a:lnTo>
                    <a:lnTo>
                      <a:pt x="516" y="3"/>
                    </a:lnTo>
                    <a:lnTo>
                      <a:pt x="251" y="6"/>
                    </a:lnTo>
                    <a:lnTo>
                      <a:pt x="68" y="11"/>
                    </a:lnTo>
                    <a:lnTo>
                      <a:pt x="0" y="12"/>
                    </a:lnTo>
                    <a:lnTo>
                      <a:pt x="2" y="79"/>
                    </a:lnTo>
                    <a:lnTo>
                      <a:pt x="69" y="78"/>
                    </a:lnTo>
                    <a:lnTo>
                      <a:pt x="252" y="73"/>
                    </a:lnTo>
                    <a:lnTo>
                      <a:pt x="516" y="70"/>
                    </a:lnTo>
                    <a:lnTo>
                      <a:pt x="835" y="68"/>
                    </a:lnTo>
                    <a:lnTo>
                      <a:pt x="1004" y="68"/>
                    </a:lnTo>
                    <a:lnTo>
                      <a:pt x="1175" y="69"/>
                    </a:lnTo>
                    <a:lnTo>
                      <a:pt x="1343" y="71"/>
                    </a:lnTo>
                    <a:lnTo>
                      <a:pt x="1506" y="74"/>
                    </a:lnTo>
                    <a:lnTo>
                      <a:pt x="1583" y="78"/>
                    </a:lnTo>
                    <a:lnTo>
                      <a:pt x="1657" y="80"/>
                    </a:lnTo>
                    <a:lnTo>
                      <a:pt x="1728" y="85"/>
                    </a:lnTo>
                    <a:lnTo>
                      <a:pt x="1795" y="88"/>
                    </a:lnTo>
                    <a:lnTo>
                      <a:pt x="1858" y="93"/>
                    </a:lnTo>
                    <a:lnTo>
                      <a:pt x="1915" y="98"/>
                    </a:lnTo>
                    <a:lnTo>
                      <a:pt x="1967" y="104"/>
                    </a:lnTo>
                    <a:lnTo>
                      <a:pt x="2013" y="110"/>
                    </a:lnTo>
                    <a:lnTo>
                      <a:pt x="2023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4164120" y="518004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9" h="67">
                    <a:moveTo>
                      <a:pt x="0" y="66"/>
                    </a:moveTo>
                    <a:lnTo>
                      <a:pt x="8" y="67"/>
                    </a:lnTo>
                    <a:lnTo>
                      <a:pt x="15" y="66"/>
                    </a:lnTo>
                    <a:lnTo>
                      <a:pt x="20" y="63"/>
                    </a:lnTo>
                    <a:lnTo>
                      <a:pt x="26" y="59"/>
                    </a:lnTo>
                    <a:lnTo>
                      <a:pt x="31" y="54"/>
                    </a:lnTo>
                    <a:lnTo>
                      <a:pt x="34" y="50"/>
                    </a:lnTo>
                    <a:lnTo>
                      <a:pt x="36" y="44"/>
                    </a:lnTo>
                    <a:lnTo>
                      <a:pt x="38" y="37"/>
                    </a:lnTo>
                    <a:lnTo>
                      <a:pt x="39" y="32"/>
                    </a:lnTo>
                    <a:lnTo>
                      <a:pt x="38" y="25"/>
                    </a:lnTo>
                    <a:lnTo>
                      <a:pt x="36" y="19"/>
                    </a:lnTo>
                    <a:lnTo>
                      <a:pt x="33" y="13"/>
                    </a:lnTo>
                    <a:lnTo>
                      <a:pt x="30" y="9"/>
                    </a:lnTo>
                    <a:lnTo>
                      <a:pt x="24" y="4"/>
                    </a:lnTo>
                    <a:lnTo>
                      <a:pt x="17" y="2"/>
                    </a:lnTo>
                    <a:lnTo>
                      <a:pt x="1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3225960" y="559116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35" h="68">
                    <a:moveTo>
                      <a:pt x="35" y="0"/>
                    </a:moveTo>
                    <a:lnTo>
                      <a:pt x="27" y="0"/>
                    </a:lnTo>
                    <a:lnTo>
                      <a:pt x="21" y="3"/>
                    </a:lnTo>
                    <a:lnTo>
                      <a:pt x="15" y="5"/>
                    </a:lnTo>
                    <a:lnTo>
                      <a:pt x="9" y="9"/>
                    </a:lnTo>
                    <a:lnTo>
                      <a:pt x="6" y="14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1" y="44"/>
                    </a:lnTo>
                    <a:lnTo>
                      <a:pt x="3" y="51"/>
                    </a:lnTo>
                    <a:lnTo>
                      <a:pt x="7" y="55"/>
                    </a:lnTo>
                    <a:lnTo>
                      <a:pt x="11" y="60"/>
                    </a:lnTo>
                    <a:lnTo>
                      <a:pt x="17" y="63"/>
                    </a:lnTo>
                    <a:lnTo>
                      <a:pt x="24" y="67"/>
                    </a:lnTo>
                    <a:lnTo>
                      <a:pt x="32" y="68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3235320" y="5587920"/>
                <a:ext cx="719280" cy="39600"/>
              </a:xfrm>
              <a:custGeom>
                <a:avLst/>
                <a:gdLst/>
                <a:ahLst/>
                <a:rect l="l" t="t" r="r" b="b"/>
                <a:pathLst>
                  <a:path w="2265" h="125">
                    <a:moveTo>
                      <a:pt x="2245" y="0"/>
                    </a:moveTo>
                    <a:lnTo>
                      <a:pt x="2226" y="5"/>
                    </a:lnTo>
                    <a:lnTo>
                      <a:pt x="2206" y="11"/>
                    </a:lnTo>
                    <a:lnTo>
                      <a:pt x="2184" y="15"/>
                    </a:lnTo>
                    <a:lnTo>
                      <a:pt x="2159" y="20"/>
                    </a:lnTo>
                    <a:lnTo>
                      <a:pt x="2104" y="28"/>
                    </a:lnTo>
                    <a:lnTo>
                      <a:pt x="2043" y="35"/>
                    </a:lnTo>
                    <a:lnTo>
                      <a:pt x="1973" y="41"/>
                    </a:lnTo>
                    <a:lnTo>
                      <a:pt x="1899" y="46"/>
                    </a:lnTo>
                    <a:lnTo>
                      <a:pt x="1821" y="49"/>
                    </a:lnTo>
                    <a:lnTo>
                      <a:pt x="1736" y="53"/>
                    </a:lnTo>
                    <a:lnTo>
                      <a:pt x="1650" y="55"/>
                    </a:lnTo>
                    <a:lnTo>
                      <a:pt x="1558" y="56"/>
                    </a:lnTo>
                    <a:lnTo>
                      <a:pt x="1465" y="56"/>
                    </a:lnTo>
                    <a:lnTo>
                      <a:pt x="1370" y="56"/>
                    </a:lnTo>
                    <a:lnTo>
                      <a:pt x="1176" y="54"/>
                    </a:lnTo>
                    <a:lnTo>
                      <a:pt x="983" y="51"/>
                    </a:lnTo>
                    <a:lnTo>
                      <a:pt x="792" y="45"/>
                    </a:lnTo>
                    <a:lnTo>
                      <a:pt x="612" y="38"/>
                    </a:lnTo>
                    <a:lnTo>
                      <a:pt x="447" y="31"/>
                    </a:lnTo>
                    <a:lnTo>
                      <a:pt x="300" y="24"/>
                    </a:lnTo>
                    <a:lnTo>
                      <a:pt x="84" y="13"/>
                    </a:lnTo>
                    <a:lnTo>
                      <a:pt x="3" y="8"/>
                    </a:lnTo>
                    <a:lnTo>
                      <a:pt x="0" y="76"/>
                    </a:lnTo>
                    <a:lnTo>
                      <a:pt x="81" y="80"/>
                    </a:lnTo>
                    <a:lnTo>
                      <a:pt x="298" y="92"/>
                    </a:lnTo>
                    <a:lnTo>
                      <a:pt x="443" y="99"/>
                    </a:lnTo>
                    <a:lnTo>
                      <a:pt x="610" y="105"/>
                    </a:lnTo>
                    <a:lnTo>
                      <a:pt x="791" y="112"/>
                    </a:lnTo>
                    <a:lnTo>
                      <a:pt x="980" y="118"/>
                    </a:lnTo>
                    <a:lnTo>
                      <a:pt x="1175" y="121"/>
                    </a:lnTo>
                    <a:lnTo>
                      <a:pt x="1370" y="124"/>
                    </a:lnTo>
                    <a:lnTo>
                      <a:pt x="1465" y="125"/>
                    </a:lnTo>
                    <a:lnTo>
                      <a:pt x="1560" y="124"/>
                    </a:lnTo>
                    <a:lnTo>
                      <a:pt x="1651" y="122"/>
                    </a:lnTo>
                    <a:lnTo>
                      <a:pt x="1738" y="120"/>
                    </a:lnTo>
                    <a:lnTo>
                      <a:pt x="1823" y="117"/>
                    </a:lnTo>
                    <a:lnTo>
                      <a:pt x="1904" y="113"/>
                    </a:lnTo>
                    <a:lnTo>
                      <a:pt x="1979" y="109"/>
                    </a:lnTo>
                    <a:lnTo>
                      <a:pt x="2049" y="102"/>
                    </a:lnTo>
                    <a:lnTo>
                      <a:pt x="2114" y="95"/>
                    </a:lnTo>
                    <a:lnTo>
                      <a:pt x="2171" y="86"/>
                    </a:lnTo>
                    <a:lnTo>
                      <a:pt x="2197" y="81"/>
                    </a:lnTo>
                    <a:lnTo>
                      <a:pt x="2222" y="76"/>
                    </a:lnTo>
                    <a:lnTo>
                      <a:pt x="2245" y="70"/>
                    </a:lnTo>
                    <a:lnTo>
                      <a:pt x="2265" y="64"/>
                    </a:lnTo>
                    <a:lnTo>
                      <a:pt x="224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>
                <a:off x="3948120" y="558792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43" h="66">
                    <a:moveTo>
                      <a:pt x="20" y="66"/>
                    </a:moveTo>
                    <a:lnTo>
                      <a:pt x="27" y="63"/>
                    </a:lnTo>
                    <a:lnTo>
                      <a:pt x="33" y="59"/>
                    </a:lnTo>
                    <a:lnTo>
                      <a:pt x="37" y="54"/>
                    </a:lnTo>
                    <a:lnTo>
                      <a:pt x="41" y="48"/>
                    </a:lnTo>
                    <a:lnTo>
                      <a:pt x="43" y="42"/>
                    </a:lnTo>
                    <a:lnTo>
                      <a:pt x="43" y="37"/>
                    </a:lnTo>
                    <a:lnTo>
                      <a:pt x="43" y="30"/>
                    </a:lnTo>
                    <a:lnTo>
                      <a:pt x="42" y="24"/>
                    </a:lnTo>
                    <a:lnTo>
                      <a:pt x="40" y="18"/>
                    </a:lnTo>
                    <a:lnTo>
                      <a:pt x="36" y="13"/>
                    </a:lnTo>
                    <a:lnTo>
                      <a:pt x="32" y="8"/>
                    </a:lnTo>
                    <a:lnTo>
                      <a:pt x="27" y="5"/>
                    </a:lnTo>
                    <a:lnTo>
                      <a:pt x="21" y="1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20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>
                <a:off x="2583000" y="3070080"/>
                <a:ext cx="3935160" cy="22320"/>
              </a:xfrm>
              <a:custGeom>
                <a:avLst/>
                <a:gdLst/>
                <a:ahLst/>
                <a:rect l="l" t="t" r="r" b="b"/>
                <a:pathLst>
                  <a:path w="12393" h="68">
                    <a:moveTo>
                      <a:pt x="12393" y="34"/>
                    </a:moveTo>
                    <a:lnTo>
                      <a:pt x="12360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2360" y="68"/>
                    </a:lnTo>
                    <a:lnTo>
                      <a:pt x="12393" y="34"/>
                    </a:lnTo>
                    <a:lnTo>
                      <a:pt x="12360" y="68"/>
                    </a:lnTo>
                    <a:lnTo>
                      <a:pt x="12366" y="67"/>
                    </a:lnTo>
                    <a:lnTo>
                      <a:pt x="12373" y="65"/>
                    </a:lnTo>
                    <a:lnTo>
                      <a:pt x="12380" y="62"/>
                    </a:lnTo>
                    <a:lnTo>
                      <a:pt x="12385" y="57"/>
                    </a:lnTo>
                    <a:lnTo>
                      <a:pt x="12388" y="52"/>
                    </a:lnTo>
                    <a:lnTo>
                      <a:pt x="12390" y="47"/>
                    </a:lnTo>
                    <a:lnTo>
                      <a:pt x="12393" y="41"/>
                    </a:lnTo>
                    <a:lnTo>
                      <a:pt x="12393" y="34"/>
                    </a:lnTo>
                    <a:lnTo>
                      <a:pt x="12393" y="28"/>
                    </a:lnTo>
                    <a:lnTo>
                      <a:pt x="12390" y="22"/>
                    </a:lnTo>
                    <a:lnTo>
                      <a:pt x="12388" y="16"/>
                    </a:lnTo>
                    <a:lnTo>
                      <a:pt x="12385" y="11"/>
                    </a:lnTo>
                    <a:lnTo>
                      <a:pt x="12380" y="7"/>
                    </a:lnTo>
                    <a:lnTo>
                      <a:pt x="12373" y="3"/>
                    </a:lnTo>
                    <a:lnTo>
                      <a:pt x="12366" y="1"/>
                    </a:lnTo>
                    <a:lnTo>
                      <a:pt x="12360" y="0"/>
                    </a:lnTo>
                    <a:lnTo>
                      <a:pt x="12393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6496200" y="3081240"/>
                <a:ext cx="21960" cy="2567160"/>
              </a:xfrm>
              <a:custGeom>
                <a:avLst/>
                <a:gdLst/>
                <a:ahLst/>
                <a:rect l="l" t="t" r="r" b="b"/>
                <a:pathLst>
                  <a:path w="68" h="8088">
                    <a:moveTo>
                      <a:pt x="35" y="8088"/>
                    </a:moveTo>
                    <a:lnTo>
                      <a:pt x="68" y="8055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8055"/>
                    </a:lnTo>
                    <a:lnTo>
                      <a:pt x="35" y="8088"/>
                    </a:lnTo>
                    <a:lnTo>
                      <a:pt x="0" y="8055"/>
                    </a:lnTo>
                    <a:lnTo>
                      <a:pt x="2" y="8063"/>
                    </a:lnTo>
                    <a:lnTo>
                      <a:pt x="3" y="8070"/>
                    </a:lnTo>
                    <a:lnTo>
                      <a:pt x="6" y="8075"/>
                    </a:lnTo>
                    <a:lnTo>
                      <a:pt x="11" y="8080"/>
                    </a:lnTo>
                    <a:lnTo>
                      <a:pt x="16" y="8083"/>
                    </a:lnTo>
                    <a:lnTo>
                      <a:pt x="22" y="8087"/>
                    </a:lnTo>
                    <a:lnTo>
                      <a:pt x="28" y="8088"/>
                    </a:lnTo>
                    <a:lnTo>
                      <a:pt x="35" y="8088"/>
                    </a:lnTo>
                    <a:lnTo>
                      <a:pt x="40" y="8088"/>
                    </a:lnTo>
                    <a:lnTo>
                      <a:pt x="46" y="8087"/>
                    </a:lnTo>
                    <a:lnTo>
                      <a:pt x="52" y="8083"/>
                    </a:lnTo>
                    <a:lnTo>
                      <a:pt x="57" y="8080"/>
                    </a:lnTo>
                    <a:lnTo>
                      <a:pt x="62" y="8075"/>
                    </a:lnTo>
                    <a:lnTo>
                      <a:pt x="65" y="8070"/>
                    </a:lnTo>
                    <a:lnTo>
                      <a:pt x="67" y="8063"/>
                    </a:lnTo>
                    <a:lnTo>
                      <a:pt x="68" y="8055"/>
                    </a:lnTo>
                    <a:lnTo>
                      <a:pt x="35" y="80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>
                <a:off x="2573280" y="5627520"/>
                <a:ext cx="3933720" cy="20880"/>
              </a:xfrm>
              <a:custGeom>
                <a:avLst/>
                <a:gdLst/>
                <a:ahLst/>
                <a:rect l="l" t="t" r="r" b="b"/>
                <a:pathLst>
                  <a:path w="12393" h="67">
                    <a:moveTo>
                      <a:pt x="0" y="34"/>
                    </a:moveTo>
                    <a:lnTo>
                      <a:pt x="33" y="67"/>
                    </a:lnTo>
                    <a:lnTo>
                      <a:pt x="12393" y="67"/>
                    </a:lnTo>
                    <a:lnTo>
                      <a:pt x="12393" y="0"/>
                    </a:lnTo>
                    <a:lnTo>
                      <a:pt x="33" y="0"/>
                    </a:lnTo>
                    <a:lnTo>
                      <a:pt x="0" y="34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8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4" y="16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8" y="57"/>
                    </a:lnTo>
                    <a:lnTo>
                      <a:pt x="12" y="61"/>
                    </a:lnTo>
                    <a:lnTo>
                      <a:pt x="18" y="65"/>
                    </a:lnTo>
                    <a:lnTo>
                      <a:pt x="25" y="67"/>
                    </a:lnTo>
                    <a:lnTo>
                      <a:pt x="33" y="6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>
                <a:off x="2573280" y="3070080"/>
                <a:ext cx="20520" cy="2568600"/>
              </a:xfrm>
              <a:custGeom>
                <a:avLst/>
                <a:gdLst/>
                <a:ahLst/>
                <a:rect l="l" t="t" r="r" b="b"/>
                <a:pathLst>
                  <a:path w="67" h="8089">
                    <a:moveTo>
                      <a:pt x="33" y="0"/>
                    </a:moveTo>
                    <a:lnTo>
                      <a:pt x="0" y="34"/>
                    </a:lnTo>
                    <a:lnTo>
                      <a:pt x="0" y="8089"/>
                    </a:lnTo>
                    <a:lnTo>
                      <a:pt x="67" y="8089"/>
                    </a:lnTo>
                    <a:lnTo>
                      <a:pt x="67" y="34"/>
                    </a:lnTo>
                    <a:lnTo>
                      <a:pt x="33" y="0"/>
                    </a:lnTo>
                    <a:lnTo>
                      <a:pt x="67" y="34"/>
                    </a:lnTo>
                    <a:lnTo>
                      <a:pt x="66" y="26"/>
                    </a:lnTo>
                    <a:lnTo>
                      <a:pt x="63" y="19"/>
                    </a:lnTo>
                    <a:lnTo>
                      <a:pt x="60" y="14"/>
                    </a:lnTo>
                    <a:lnTo>
                      <a:pt x="57" y="9"/>
                    </a:lnTo>
                    <a:lnTo>
                      <a:pt x="51" y="6"/>
                    </a:lnTo>
                    <a:lnTo>
                      <a:pt x="45" y="2"/>
                    </a:lnTo>
                    <a:lnTo>
                      <a:pt x="40" y="1"/>
                    </a:lnTo>
                    <a:lnTo>
                      <a:pt x="33" y="0"/>
                    </a:lnTo>
                    <a:lnTo>
                      <a:pt x="27" y="1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19"/>
                    </a:lnTo>
                    <a:lnTo>
                      <a:pt x="0" y="26"/>
                    </a:lnTo>
                    <a:lnTo>
                      <a:pt x="0" y="3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3708360" y="4309920"/>
                <a:ext cx="1357200" cy="238320"/>
              </a:xfrm>
              <a:custGeom>
                <a:avLst/>
                <a:gdLst/>
                <a:ahLst/>
                <a:rect l="l" t="t" r="r" b="b"/>
                <a:pathLst>
                  <a:path w="4275" h="747">
                    <a:moveTo>
                      <a:pt x="114" y="548"/>
                    </a:moveTo>
                    <a:lnTo>
                      <a:pt x="435" y="552"/>
                    </a:lnTo>
                    <a:lnTo>
                      <a:pt x="977" y="560"/>
                    </a:lnTo>
                    <a:lnTo>
                      <a:pt x="1306" y="564"/>
                    </a:lnTo>
                    <a:lnTo>
                      <a:pt x="1659" y="568"/>
                    </a:lnTo>
                    <a:lnTo>
                      <a:pt x="2026" y="570"/>
                    </a:lnTo>
                    <a:lnTo>
                      <a:pt x="2397" y="570"/>
                    </a:lnTo>
                    <a:lnTo>
                      <a:pt x="2580" y="570"/>
                    </a:lnTo>
                    <a:lnTo>
                      <a:pt x="2760" y="569"/>
                    </a:lnTo>
                    <a:lnTo>
                      <a:pt x="2937" y="568"/>
                    </a:lnTo>
                    <a:lnTo>
                      <a:pt x="3107" y="565"/>
                    </a:lnTo>
                    <a:lnTo>
                      <a:pt x="3271" y="562"/>
                    </a:lnTo>
                    <a:lnTo>
                      <a:pt x="3426" y="558"/>
                    </a:lnTo>
                    <a:lnTo>
                      <a:pt x="3572" y="554"/>
                    </a:lnTo>
                    <a:lnTo>
                      <a:pt x="3708" y="548"/>
                    </a:lnTo>
                    <a:lnTo>
                      <a:pt x="3831" y="542"/>
                    </a:lnTo>
                    <a:lnTo>
                      <a:pt x="3940" y="534"/>
                    </a:lnTo>
                    <a:lnTo>
                      <a:pt x="4035" y="525"/>
                    </a:lnTo>
                    <a:lnTo>
                      <a:pt x="4113" y="516"/>
                    </a:lnTo>
                    <a:lnTo>
                      <a:pt x="4176" y="505"/>
                    </a:lnTo>
                    <a:lnTo>
                      <a:pt x="4218" y="492"/>
                    </a:lnTo>
                    <a:lnTo>
                      <a:pt x="4242" y="479"/>
                    </a:lnTo>
                    <a:lnTo>
                      <a:pt x="4243" y="464"/>
                    </a:lnTo>
                    <a:lnTo>
                      <a:pt x="4203" y="455"/>
                    </a:lnTo>
                    <a:lnTo>
                      <a:pt x="4143" y="448"/>
                    </a:lnTo>
                    <a:lnTo>
                      <a:pt x="4065" y="441"/>
                    </a:lnTo>
                    <a:lnTo>
                      <a:pt x="3972" y="435"/>
                    </a:lnTo>
                    <a:lnTo>
                      <a:pt x="3863" y="432"/>
                    </a:lnTo>
                    <a:lnTo>
                      <a:pt x="3739" y="428"/>
                    </a:lnTo>
                    <a:lnTo>
                      <a:pt x="3604" y="425"/>
                    </a:lnTo>
                    <a:lnTo>
                      <a:pt x="3458" y="424"/>
                    </a:lnTo>
                    <a:lnTo>
                      <a:pt x="3301" y="423"/>
                    </a:lnTo>
                    <a:lnTo>
                      <a:pt x="3136" y="423"/>
                    </a:lnTo>
                    <a:lnTo>
                      <a:pt x="2964" y="423"/>
                    </a:lnTo>
                    <a:lnTo>
                      <a:pt x="2786" y="424"/>
                    </a:lnTo>
                    <a:lnTo>
                      <a:pt x="2605" y="426"/>
                    </a:lnTo>
                    <a:lnTo>
                      <a:pt x="2420" y="429"/>
                    </a:lnTo>
                    <a:lnTo>
                      <a:pt x="2234" y="432"/>
                    </a:lnTo>
                    <a:lnTo>
                      <a:pt x="2047" y="436"/>
                    </a:lnTo>
                    <a:lnTo>
                      <a:pt x="1861" y="441"/>
                    </a:lnTo>
                    <a:lnTo>
                      <a:pt x="1677" y="445"/>
                    </a:lnTo>
                    <a:lnTo>
                      <a:pt x="1497" y="451"/>
                    </a:lnTo>
                    <a:lnTo>
                      <a:pt x="1323" y="457"/>
                    </a:lnTo>
                    <a:lnTo>
                      <a:pt x="1155" y="463"/>
                    </a:lnTo>
                    <a:lnTo>
                      <a:pt x="994" y="469"/>
                    </a:lnTo>
                    <a:lnTo>
                      <a:pt x="843" y="476"/>
                    </a:lnTo>
                    <a:lnTo>
                      <a:pt x="702" y="483"/>
                    </a:lnTo>
                    <a:lnTo>
                      <a:pt x="573" y="491"/>
                    </a:lnTo>
                    <a:lnTo>
                      <a:pt x="457" y="499"/>
                    </a:lnTo>
                    <a:lnTo>
                      <a:pt x="356" y="507"/>
                    </a:lnTo>
                    <a:lnTo>
                      <a:pt x="270" y="515"/>
                    </a:lnTo>
                    <a:lnTo>
                      <a:pt x="202" y="523"/>
                    </a:lnTo>
                    <a:lnTo>
                      <a:pt x="152" y="531"/>
                    </a:lnTo>
                    <a:lnTo>
                      <a:pt x="122" y="540"/>
                    </a:lnTo>
                    <a:lnTo>
                      <a:pt x="114" y="548"/>
                    </a:lnTo>
                    <a:close/>
                    <a:moveTo>
                      <a:pt x="145" y="347"/>
                    </a:moveTo>
                    <a:lnTo>
                      <a:pt x="195" y="355"/>
                    </a:lnTo>
                    <a:lnTo>
                      <a:pt x="262" y="364"/>
                    </a:lnTo>
                    <a:lnTo>
                      <a:pt x="345" y="372"/>
                    </a:lnTo>
                    <a:lnTo>
                      <a:pt x="443" y="380"/>
                    </a:lnTo>
                    <a:lnTo>
                      <a:pt x="552" y="388"/>
                    </a:lnTo>
                    <a:lnTo>
                      <a:pt x="674" y="396"/>
                    </a:lnTo>
                    <a:lnTo>
                      <a:pt x="807" y="403"/>
                    </a:lnTo>
                    <a:lnTo>
                      <a:pt x="950" y="411"/>
                    </a:lnTo>
                    <a:lnTo>
                      <a:pt x="1100" y="418"/>
                    </a:lnTo>
                    <a:lnTo>
                      <a:pt x="1258" y="424"/>
                    </a:lnTo>
                    <a:lnTo>
                      <a:pt x="1422" y="429"/>
                    </a:lnTo>
                    <a:lnTo>
                      <a:pt x="1589" y="434"/>
                    </a:lnTo>
                    <a:lnTo>
                      <a:pt x="1760" y="439"/>
                    </a:lnTo>
                    <a:lnTo>
                      <a:pt x="1934" y="442"/>
                    </a:lnTo>
                    <a:lnTo>
                      <a:pt x="2108" y="444"/>
                    </a:lnTo>
                    <a:lnTo>
                      <a:pt x="2283" y="445"/>
                    </a:lnTo>
                    <a:lnTo>
                      <a:pt x="2455" y="447"/>
                    </a:lnTo>
                    <a:lnTo>
                      <a:pt x="2625" y="445"/>
                    </a:lnTo>
                    <a:lnTo>
                      <a:pt x="2790" y="444"/>
                    </a:lnTo>
                    <a:lnTo>
                      <a:pt x="2951" y="441"/>
                    </a:lnTo>
                    <a:lnTo>
                      <a:pt x="3103" y="437"/>
                    </a:lnTo>
                    <a:lnTo>
                      <a:pt x="3250" y="432"/>
                    </a:lnTo>
                    <a:lnTo>
                      <a:pt x="3387" y="425"/>
                    </a:lnTo>
                    <a:lnTo>
                      <a:pt x="3514" y="416"/>
                    </a:lnTo>
                    <a:lnTo>
                      <a:pt x="3629" y="405"/>
                    </a:lnTo>
                    <a:lnTo>
                      <a:pt x="3733" y="394"/>
                    </a:lnTo>
                    <a:lnTo>
                      <a:pt x="3822" y="380"/>
                    </a:lnTo>
                    <a:lnTo>
                      <a:pt x="3894" y="366"/>
                    </a:lnTo>
                    <a:lnTo>
                      <a:pt x="3953" y="348"/>
                    </a:lnTo>
                    <a:lnTo>
                      <a:pt x="3993" y="329"/>
                    </a:lnTo>
                    <a:lnTo>
                      <a:pt x="4013" y="309"/>
                    </a:lnTo>
                    <a:lnTo>
                      <a:pt x="4014" y="285"/>
                    </a:lnTo>
                    <a:lnTo>
                      <a:pt x="3972" y="282"/>
                    </a:lnTo>
                    <a:lnTo>
                      <a:pt x="3916" y="280"/>
                    </a:lnTo>
                    <a:lnTo>
                      <a:pt x="3849" y="278"/>
                    </a:lnTo>
                    <a:lnTo>
                      <a:pt x="3768" y="277"/>
                    </a:lnTo>
                    <a:lnTo>
                      <a:pt x="3576" y="275"/>
                    </a:lnTo>
                    <a:lnTo>
                      <a:pt x="3347" y="277"/>
                    </a:lnTo>
                    <a:lnTo>
                      <a:pt x="3089" y="278"/>
                    </a:lnTo>
                    <a:lnTo>
                      <a:pt x="2806" y="281"/>
                    </a:lnTo>
                    <a:lnTo>
                      <a:pt x="2506" y="286"/>
                    </a:lnTo>
                    <a:lnTo>
                      <a:pt x="2196" y="291"/>
                    </a:lnTo>
                    <a:lnTo>
                      <a:pt x="1882" y="297"/>
                    </a:lnTo>
                    <a:lnTo>
                      <a:pt x="1571" y="304"/>
                    </a:lnTo>
                    <a:lnTo>
                      <a:pt x="1270" y="311"/>
                    </a:lnTo>
                    <a:lnTo>
                      <a:pt x="986" y="318"/>
                    </a:lnTo>
                    <a:lnTo>
                      <a:pt x="724" y="326"/>
                    </a:lnTo>
                    <a:lnTo>
                      <a:pt x="493" y="334"/>
                    </a:lnTo>
                    <a:lnTo>
                      <a:pt x="298" y="340"/>
                    </a:lnTo>
                    <a:lnTo>
                      <a:pt x="145" y="347"/>
                    </a:lnTo>
                    <a:close/>
                    <a:moveTo>
                      <a:pt x="123" y="111"/>
                    </a:moveTo>
                    <a:lnTo>
                      <a:pt x="178" y="107"/>
                    </a:lnTo>
                    <a:lnTo>
                      <a:pt x="248" y="104"/>
                    </a:lnTo>
                    <a:lnTo>
                      <a:pt x="332" y="103"/>
                    </a:lnTo>
                    <a:lnTo>
                      <a:pt x="429" y="102"/>
                    </a:lnTo>
                    <a:lnTo>
                      <a:pt x="658" y="103"/>
                    </a:lnTo>
                    <a:lnTo>
                      <a:pt x="927" y="107"/>
                    </a:lnTo>
                    <a:lnTo>
                      <a:pt x="1550" y="119"/>
                    </a:lnTo>
                    <a:lnTo>
                      <a:pt x="2227" y="133"/>
                    </a:lnTo>
                    <a:lnTo>
                      <a:pt x="2563" y="139"/>
                    </a:lnTo>
                    <a:lnTo>
                      <a:pt x="2888" y="141"/>
                    </a:lnTo>
                    <a:lnTo>
                      <a:pt x="3043" y="142"/>
                    </a:lnTo>
                    <a:lnTo>
                      <a:pt x="3191" y="142"/>
                    </a:lnTo>
                    <a:lnTo>
                      <a:pt x="3332" y="140"/>
                    </a:lnTo>
                    <a:lnTo>
                      <a:pt x="3465" y="137"/>
                    </a:lnTo>
                    <a:lnTo>
                      <a:pt x="3588" y="134"/>
                    </a:lnTo>
                    <a:lnTo>
                      <a:pt x="3700" y="129"/>
                    </a:lnTo>
                    <a:lnTo>
                      <a:pt x="3800" y="124"/>
                    </a:lnTo>
                    <a:lnTo>
                      <a:pt x="3888" y="116"/>
                    </a:lnTo>
                    <a:lnTo>
                      <a:pt x="3962" y="108"/>
                    </a:lnTo>
                    <a:lnTo>
                      <a:pt x="4020" y="96"/>
                    </a:lnTo>
                    <a:lnTo>
                      <a:pt x="4062" y="84"/>
                    </a:lnTo>
                    <a:lnTo>
                      <a:pt x="4087" y="70"/>
                    </a:lnTo>
                    <a:lnTo>
                      <a:pt x="3982" y="62"/>
                    </a:lnTo>
                    <a:lnTo>
                      <a:pt x="3815" y="54"/>
                    </a:lnTo>
                    <a:lnTo>
                      <a:pt x="3594" y="44"/>
                    </a:lnTo>
                    <a:lnTo>
                      <a:pt x="3329" y="34"/>
                    </a:lnTo>
                    <a:lnTo>
                      <a:pt x="3030" y="24"/>
                    </a:lnTo>
                    <a:lnTo>
                      <a:pt x="2705" y="15"/>
                    </a:lnTo>
                    <a:lnTo>
                      <a:pt x="2366" y="8"/>
                    </a:lnTo>
                    <a:lnTo>
                      <a:pt x="2019" y="3"/>
                    </a:lnTo>
                    <a:lnTo>
                      <a:pt x="1846" y="2"/>
                    </a:lnTo>
                    <a:lnTo>
                      <a:pt x="1675" y="0"/>
                    </a:lnTo>
                    <a:lnTo>
                      <a:pt x="1507" y="0"/>
                    </a:lnTo>
                    <a:lnTo>
                      <a:pt x="1343" y="2"/>
                    </a:lnTo>
                    <a:lnTo>
                      <a:pt x="1185" y="3"/>
                    </a:lnTo>
                    <a:lnTo>
                      <a:pt x="1033" y="6"/>
                    </a:lnTo>
                    <a:lnTo>
                      <a:pt x="888" y="10"/>
                    </a:lnTo>
                    <a:lnTo>
                      <a:pt x="753" y="15"/>
                    </a:lnTo>
                    <a:lnTo>
                      <a:pt x="627" y="22"/>
                    </a:lnTo>
                    <a:lnTo>
                      <a:pt x="512" y="30"/>
                    </a:lnTo>
                    <a:lnTo>
                      <a:pt x="410" y="39"/>
                    </a:lnTo>
                    <a:lnTo>
                      <a:pt x="321" y="51"/>
                    </a:lnTo>
                    <a:lnTo>
                      <a:pt x="246" y="63"/>
                    </a:lnTo>
                    <a:lnTo>
                      <a:pt x="188" y="77"/>
                    </a:lnTo>
                    <a:lnTo>
                      <a:pt x="147" y="93"/>
                    </a:lnTo>
                    <a:lnTo>
                      <a:pt x="123" y="111"/>
                    </a:lnTo>
                    <a:close/>
                    <a:moveTo>
                      <a:pt x="82" y="248"/>
                    </a:moveTo>
                    <a:lnTo>
                      <a:pt x="239" y="249"/>
                    </a:lnTo>
                    <a:lnTo>
                      <a:pt x="653" y="249"/>
                    </a:lnTo>
                    <a:lnTo>
                      <a:pt x="933" y="249"/>
                    </a:lnTo>
                    <a:lnTo>
                      <a:pt x="1247" y="248"/>
                    </a:lnTo>
                    <a:lnTo>
                      <a:pt x="1588" y="246"/>
                    </a:lnTo>
                    <a:lnTo>
                      <a:pt x="1944" y="242"/>
                    </a:lnTo>
                    <a:lnTo>
                      <a:pt x="2304" y="238"/>
                    </a:lnTo>
                    <a:lnTo>
                      <a:pt x="2661" y="232"/>
                    </a:lnTo>
                    <a:lnTo>
                      <a:pt x="2834" y="228"/>
                    </a:lnTo>
                    <a:lnTo>
                      <a:pt x="3003" y="223"/>
                    </a:lnTo>
                    <a:lnTo>
                      <a:pt x="3166" y="218"/>
                    </a:lnTo>
                    <a:lnTo>
                      <a:pt x="3321" y="213"/>
                    </a:lnTo>
                    <a:lnTo>
                      <a:pt x="3467" y="207"/>
                    </a:lnTo>
                    <a:lnTo>
                      <a:pt x="3605" y="200"/>
                    </a:lnTo>
                    <a:lnTo>
                      <a:pt x="3730" y="193"/>
                    </a:lnTo>
                    <a:lnTo>
                      <a:pt x="3844" y="184"/>
                    </a:lnTo>
                    <a:lnTo>
                      <a:pt x="3945" y="176"/>
                    </a:lnTo>
                    <a:lnTo>
                      <a:pt x="4030" y="166"/>
                    </a:lnTo>
                    <a:lnTo>
                      <a:pt x="4100" y="156"/>
                    </a:lnTo>
                    <a:lnTo>
                      <a:pt x="4152" y="144"/>
                    </a:lnTo>
                    <a:lnTo>
                      <a:pt x="82" y="248"/>
                    </a:lnTo>
                    <a:close/>
                    <a:moveTo>
                      <a:pt x="0" y="683"/>
                    </a:moveTo>
                    <a:lnTo>
                      <a:pt x="168" y="688"/>
                    </a:lnTo>
                    <a:lnTo>
                      <a:pt x="614" y="702"/>
                    </a:lnTo>
                    <a:lnTo>
                      <a:pt x="912" y="711"/>
                    </a:lnTo>
                    <a:lnTo>
                      <a:pt x="1250" y="719"/>
                    </a:lnTo>
                    <a:lnTo>
                      <a:pt x="1612" y="727"/>
                    </a:lnTo>
                    <a:lnTo>
                      <a:pt x="1991" y="735"/>
                    </a:lnTo>
                    <a:lnTo>
                      <a:pt x="2373" y="741"/>
                    </a:lnTo>
                    <a:lnTo>
                      <a:pt x="2750" y="745"/>
                    </a:lnTo>
                    <a:lnTo>
                      <a:pt x="2932" y="745"/>
                    </a:lnTo>
                    <a:lnTo>
                      <a:pt x="3109" y="747"/>
                    </a:lnTo>
                    <a:lnTo>
                      <a:pt x="3280" y="745"/>
                    </a:lnTo>
                    <a:lnTo>
                      <a:pt x="3442" y="744"/>
                    </a:lnTo>
                    <a:lnTo>
                      <a:pt x="3594" y="742"/>
                    </a:lnTo>
                    <a:lnTo>
                      <a:pt x="3735" y="739"/>
                    </a:lnTo>
                    <a:lnTo>
                      <a:pt x="3864" y="734"/>
                    </a:lnTo>
                    <a:lnTo>
                      <a:pt x="3979" y="728"/>
                    </a:lnTo>
                    <a:lnTo>
                      <a:pt x="4079" y="722"/>
                    </a:lnTo>
                    <a:lnTo>
                      <a:pt x="4162" y="714"/>
                    </a:lnTo>
                    <a:lnTo>
                      <a:pt x="4229" y="704"/>
                    </a:lnTo>
                    <a:lnTo>
                      <a:pt x="4275" y="693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3745080" y="4446720"/>
                <a:ext cx="1322280" cy="55440"/>
              </a:xfrm>
              <a:custGeom>
                <a:avLst/>
                <a:gdLst/>
                <a:ahLst/>
                <a:rect l="l" t="t" r="r" b="b"/>
                <a:pathLst>
                  <a:path w="4166" h="175">
                    <a:moveTo>
                      <a:pt x="4121" y="67"/>
                    </a:moveTo>
                    <a:lnTo>
                      <a:pt x="4102" y="51"/>
                    </a:lnTo>
                    <a:lnTo>
                      <a:pt x="4100" y="45"/>
                    </a:lnTo>
                    <a:lnTo>
                      <a:pt x="4100" y="38"/>
                    </a:lnTo>
                    <a:lnTo>
                      <a:pt x="4101" y="31"/>
                    </a:lnTo>
                    <a:lnTo>
                      <a:pt x="4104" y="27"/>
                    </a:lnTo>
                    <a:lnTo>
                      <a:pt x="4104" y="27"/>
                    </a:lnTo>
                    <a:lnTo>
                      <a:pt x="4103" y="28"/>
                    </a:lnTo>
                    <a:lnTo>
                      <a:pt x="4098" y="30"/>
                    </a:lnTo>
                    <a:lnTo>
                      <a:pt x="4094" y="31"/>
                    </a:lnTo>
                    <a:lnTo>
                      <a:pt x="4077" y="37"/>
                    </a:lnTo>
                    <a:lnTo>
                      <a:pt x="4055" y="43"/>
                    </a:lnTo>
                    <a:lnTo>
                      <a:pt x="4028" y="48"/>
                    </a:lnTo>
                    <a:lnTo>
                      <a:pt x="3996" y="53"/>
                    </a:lnTo>
                    <a:lnTo>
                      <a:pt x="3959" y="59"/>
                    </a:lnTo>
                    <a:lnTo>
                      <a:pt x="3918" y="63"/>
                    </a:lnTo>
                    <a:lnTo>
                      <a:pt x="3874" y="68"/>
                    </a:lnTo>
                    <a:lnTo>
                      <a:pt x="3825" y="71"/>
                    </a:lnTo>
                    <a:lnTo>
                      <a:pt x="3715" y="79"/>
                    </a:lnTo>
                    <a:lnTo>
                      <a:pt x="3593" y="86"/>
                    </a:lnTo>
                    <a:lnTo>
                      <a:pt x="3458" y="92"/>
                    </a:lnTo>
                    <a:lnTo>
                      <a:pt x="3312" y="96"/>
                    </a:lnTo>
                    <a:lnTo>
                      <a:pt x="3157" y="100"/>
                    </a:lnTo>
                    <a:lnTo>
                      <a:pt x="2994" y="102"/>
                    </a:lnTo>
                    <a:lnTo>
                      <a:pt x="2824" y="104"/>
                    </a:lnTo>
                    <a:lnTo>
                      <a:pt x="2647" y="107"/>
                    </a:lnTo>
                    <a:lnTo>
                      <a:pt x="2467" y="107"/>
                    </a:lnTo>
                    <a:lnTo>
                      <a:pt x="2284" y="108"/>
                    </a:lnTo>
                    <a:lnTo>
                      <a:pt x="1913" y="107"/>
                    </a:lnTo>
                    <a:lnTo>
                      <a:pt x="1546" y="104"/>
                    </a:lnTo>
                    <a:lnTo>
                      <a:pt x="1194" y="101"/>
                    </a:lnTo>
                    <a:lnTo>
                      <a:pt x="864" y="97"/>
                    </a:lnTo>
                    <a:lnTo>
                      <a:pt x="322" y="89"/>
                    </a:lnTo>
                    <a:lnTo>
                      <a:pt x="1" y="85"/>
                    </a:lnTo>
                    <a:lnTo>
                      <a:pt x="0" y="152"/>
                    </a:lnTo>
                    <a:lnTo>
                      <a:pt x="320" y="157"/>
                    </a:lnTo>
                    <a:lnTo>
                      <a:pt x="864" y="165"/>
                    </a:lnTo>
                    <a:lnTo>
                      <a:pt x="1193" y="168"/>
                    </a:lnTo>
                    <a:lnTo>
                      <a:pt x="1546" y="172"/>
                    </a:lnTo>
                    <a:lnTo>
                      <a:pt x="1913" y="174"/>
                    </a:lnTo>
                    <a:lnTo>
                      <a:pt x="2284" y="175"/>
                    </a:lnTo>
                    <a:lnTo>
                      <a:pt x="2467" y="175"/>
                    </a:lnTo>
                    <a:lnTo>
                      <a:pt x="2647" y="174"/>
                    </a:lnTo>
                    <a:lnTo>
                      <a:pt x="2824" y="172"/>
                    </a:lnTo>
                    <a:lnTo>
                      <a:pt x="2995" y="169"/>
                    </a:lnTo>
                    <a:lnTo>
                      <a:pt x="3158" y="167"/>
                    </a:lnTo>
                    <a:lnTo>
                      <a:pt x="3314" y="164"/>
                    </a:lnTo>
                    <a:lnTo>
                      <a:pt x="3460" y="159"/>
                    </a:lnTo>
                    <a:lnTo>
                      <a:pt x="3596" y="153"/>
                    </a:lnTo>
                    <a:lnTo>
                      <a:pt x="3719" y="146"/>
                    </a:lnTo>
                    <a:lnTo>
                      <a:pt x="3829" y="139"/>
                    </a:lnTo>
                    <a:lnTo>
                      <a:pt x="3880" y="135"/>
                    </a:lnTo>
                    <a:lnTo>
                      <a:pt x="3925" y="131"/>
                    </a:lnTo>
                    <a:lnTo>
                      <a:pt x="3967" y="126"/>
                    </a:lnTo>
                    <a:lnTo>
                      <a:pt x="4006" y="120"/>
                    </a:lnTo>
                    <a:lnTo>
                      <a:pt x="4040" y="115"/>
                    </a:lnTo>
                    <a:lnTo>
                      <a:pt x="4070" y="109"/>
                    </a:lnTo>
                    <a:lnTo>
                      <a:pt x="4096" y="102"/>
                    </a:lnTo>
                    <a:lnTo>
                      <a:pt x="4117" y="95"/>
                    </a:lnTo>
                    <a:lnTo>
                      <a:pt x="4128" y="91"/>
                    </a:lnTo>
                    <a:lnTo>
                      <a:pt x="4137" y="86"/>
                    </a:lnTo>
                    <a:lnTo>
                      <a:pt x="4145" y="80"/>
                    </a:lnTo>
                    <a:lnTo>
                      <a:pt x="4154" y="72"/>
                    </a:lnTo>
                    <a:lnTo>
                      <a:pt x="4161" y="61"/>
                    </a:lnTo>
                    <a:lnTo>
                      <a:pt x="4166" y="47"/>
                    </a:lnTo>
                    <a:lnTo>
                      <a:pt x="4166" y="31"/>
                    </a:lnTo>
                    <a:lnTo>
                      <a:pt x="4160" y="18"/>
                    </a:lnTo>
                    <a:lnTo>
                      <a:pt x="4141" y="2"/>
                    </a:lnTo>
                    <a:lnTo>
                      <a:pt x="4160" y="18"/>
                    </a:lnTo>
                    <a:lnTo>
                      <a:pt x="4155" y="12"/>
                    </a:lnTo>
                    <a:lnTo>
                      <a:pt x="4151" y="6"/>
                    </a:lnTo>
                    <a:lnTo>
                      <a:pt x="4144" y="3"/>
                    </a:lnTo>
                    <a:lnTo>
                      <a:pt x="4138" y="2"/>
                    </a:lnTo>
                    <a:lnTo>
                      <a:pt x="4133" y="0"/>
                    </a:lnTo>
                    <a:lnTo>
                      <a:pt x="4126" y="0"/>
                    </a:lnTo>
                    <a:lnTo>
                      <a:pt x="4120" y="3"/>
                    </a:lnTo>
                    <a:lnTo>
                      <a:pt x="4114" y="5"/>
                    </a:lnTo>
                    <a:lnTo>
                      <a:pt x="4109" y="8"/>
                    </a:lnTo>
                    <a:lnTo>
                      <a:pt x="4104" y="13"/>
                    </a:lnTo>
                    <a:lnTo>
                      <a:pt x="4101" y="19"/>
                    </a:lnTo>
                    <a:lnTo>
                      <a:pt x="4098" y="24"/>
                    </a:lnTo>
                    <a:lnTo>
                      <a:pt x="4097" y="30"/>
                    </a:lnTo>
                    <a:lnTo>
                      <a:pt x="4097" y="37"/>
                    </a:lnTo>
                    <a:lnTo>
                      <a:pt x="4098" y="44"/>
                    </a:lnTo>
                    <a:lnTo>
                      <a:pt x="4102" y="51"/>
                    </a:lnTo>
                    <a:lnTo>
                      <a:pt x="4121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3735360" y="4433760"/>
                <a:ext cx="1324080" cy="61920"/>
              </a:xfrm>
              <a:custGeom>
                <a:avLst/>
                <a:gdLst/>
                <a:ahLst/>
                <a:rect l="l" t="t" r="r" b="b"/>
                <a:pathLst>
                  <a:path w="4173" h="194">
                    <a:moveTo>
                      <a:pt x="33" y="126"/>
                    </a:moveTo>
                    <a:lnTo>
                      <a:pt x="65" y="151"/>
                    </a:lnTo>
                    <a:lnTo>
                      <a:pt x="64" y="169"/>
                    </a:lnTo>
                    <a:lnTo>
                      <a:pt x="57" y="180"/>
                    </a:lnTo>
                    <a:lnTo>
                      <a:pt x="54" y="183"/>
                    </a:lnTo>
                    <a:lnTo>
                      <a:pt x="53" y="183"/>
                    </a:lnTo>
                    <a:lnTo>
                      <a:pt x="63" y="180"/>
                    </a:lnTo>
                    <a:lnTo>
                      <a:pt x="78" y="176"/>
                    </a:lnTo>
                    <a:lnTo>
                      <a:pt x="99" y="173"/>
                    </a:lnTo>
                    <a:lnTo>
                      <a:pt x="126" y="168"/>
                    </a:lnTo>
                    <a:lnTo>
                      <a:pt x="156" y="165"/>
                    </a:lnTo>
                    <a:lnTo>
                      <a:pt x="193" y="160"/>
                    </a:lnTo>
                    <a:lnTo>
                      <a:pt x="277" y="152"/>
                    </a:lnTo>
                    <a:lnTo>
                      <a:pt x="379" y="144"/>
                    </a:lnTo>
                    <a:lnTo>
                      <a:pt x="494" y="137"/>
                    </a:lnTo>
                    <a:lnTo>
                      <a:pt x="623" y="129"/>
                    </a:lnTo>
                    <a:lnTo>
                      <a:pt x="764" y="122"/>
                    </a:lnTo>
                    <a:lnTo>
                      <a:pt x="914" y="116"/>
                    </a:lnTo>
                    <a:lnTo>
                      <a:pt x="1075" y="109"/>
                    </a:lnTo>
                    <a:lnTo>
                      <a:pt x="1243" y="102"/>
                    </a:lnTo>
                    <a:lnTo>
                      <a:pt x="1417" y="96"/>
                    </a:lnTo>
                    <a:lnTo>
                      <a:pt x="1597" y="91"/>
                    </a:lnTo>
                    <a:lnTo>
                      <a:pt x="1781" y="86"/>
                    </a:lnTo>
                    <a:lnTo>
                      <a:pt x="1967" y="81"/>
                    </a:lnTo>
                    <a:lnTo>
                      <a:pt x="2154" y="78"/>
                    </a:lnTo>
                    <a:lnTo>
                      <a:pt x="2339" y="75"/>
                    </a:lnTo>
                    <a:lnTo>
                      <a:pt x="2524" y="72"/>
                    </a:lnTo>
                    <a:lnTo>
                      <a:pt x="2707" y="70"/>
                    </a:lnTo>
                    <a:lnTo>
                      <a:pt x="2883" y="69"/>
                    </a:lnTo>
                    <a:lnTo>
                      <a:pt x="3055" y="68"/>
                    </a:lnTo>
                    <a:lnTo>
                      <a:pt x="3220" y="69"/>
                    </a:lnTo>
                    <a:lnTo>
                      <a:pt x="3376" y="69"/>
                    </a:lnTo>
                    <a:lnTo>
                      <a:pt x="3523" y="71"/>
                    </a:lnTo>
                    <a:lnTo>
                      <a:pt x="3657" y="73"/>
                    </a:lnTo>
                    <a:lnTo>
                      <a:pt x="3780" y="77"/>
                    </a:lnTo>
                    <a:lnTo>
                      <a:pt x="3889" y="81"/>
                    </a:lnTo>
                    <a:lnTo>
                      <a:pt x="3982" y="87"/>
                    </a:lnTo>
                    <a:lnTo>
                      <a:pt x="4060" y="93"/>
                    </a:lnTo>
                    <a:lnTo>
                      <a:pt x="4091" y="96"/>
                    </a:lnTo>
                    <a:lnTo>
                      <a:pt x="4117" y="101"/>
                    </a:lnTo>
                    <a:lnTo>
                      <a:pt x="4138" y="104"/>
                    </a:lnTo>
                    <a:lnTo>
                      <a:pt x="4153" y="108"/>
                    </a:lnTo>
                    <a:lnTo>
                      <a:pt x="4173" y="43"/>
                    </a:lnTo>
                    <a:lnTo>
                      <a:pt x="4152" y="38"/>
                    </a:lnTo>
                    <a:lnTo>
                      <a:pt x="4127" y="33"/>
                    </a:lnTo>
                    <a:lnTo>
                      <a:pt x="4098" y="30"/>
                    </a:lnTo>
                    <a:lnTo>
                      <a:pt x="4065" y="25"/>
                    </a:lnTo>
                    <a:lnTo>
                      <a:pt x="3987" y="20"/>
                    </a:lnTo>
                    <a:lnTo>
                      <a:pt x="3892" y="14"/>
                    </a:lnTo>
                    <a:lnTo>
                      <a:pt x="3783" y="10"/>
                    </a:lnTo>
                    <a:lnTo>
                      <a:pt x="3660" y="6"/>
                    </a:lnTo>
                    <a:lnTo>
                      <a:pt x="3524" y="4"/>
                    </a:lnTo>
                    <a:lnTo>
                      <a:pt x="3377" y="2"/>
                    </a:lnTo>
                    <a:lnTo>
                      <a:pt x="3220" y="0"/>
                    </a:lnTo>
                    <a:lnTo>
                      <a:pt x="3055" y="0"/>
                    </a:lnTo>
                    <a:lnTo>
                      <a:pt x="2883" y="2"/>
                    </a:lnTo>
                    <a:lnTo>
                      <a:pt x="2705" y="3"/>
                    </a:lnTo>
                    <a:lnTo>
                      <a:pt x="2524" y="5"/>
                    </a:lnTo>
                    <a:lnTo>
                      <a:pt x="2338" y="7"/>
                    </a:lnTo>
                    <a:lnTo>
                      <a:pt x="2153" y="11"/>
                    </a:lnTo>
                    <a:lnTo>
                      <a:pt x="1966" y="14"/>
                    </a:lnTo>
                    <a:lnTo>
                      <a:pt x="1779" y="19"/>
                    </a:lnTo>
                    <a:lnTo>
                      <a:pt x="1595" y="23"/>
                    </a:lnTo>
                    <a:lnTo>
                      <a:pt x="1416" y="29"/>
                    </a:lnTo>
                    <a:lnTo>
                      <a:pt x="1241" y="35"/>
                    </a:lnTo>
                    <a:lnTo>
                      <a:pt x="1072" y="41"/>
                    </a:lnTo>
                    <a:lnTo>
                      <a:pt x="912" y="48"/>
                    </a:lnTo>
                    <a:lnTo>
                      <a:pt x="761" y="55"/>
                    </a:lnTo>
                    <a:lnTo>
                      <a:pt x="619" y="62"/>
                    </a:lnTo>
                    <a:lnTo>
                      <a:pt x="490" y="70"/>
                    </a:lnTo>
                    <a:lnTo>
                      <a:pt x="374" y="77"/>
                    </a:lnTo>
                    <a:lnTo>
                      <a:pt x="272" y="85"/>
                    </a:lnTo>
                    <a:lnTo>
                      <a:pt x="186" y="93"/>
                    </a:lnTo>
                    <a:lnTo>
                      <a:pt x="148" y="97"/>
                    </a:lnTo>
                    <a:lnTo>
                      <a:pt x="116" y="102"/>
                    </a:lnTo>
                    <a:lnTo>
                      <a:pt x="88" y="105"/>
                    </a:lnTo>
                    <a:lnTo>
                      <a:pt x="64" y="110"/>
                    </a:lnTo>
                    <a:lnTo>
                      <a:pt x="45" y="116"/>
                    </a:lnTo>
                    <a:lnTo>
                      <a:pt x="30" y="120"/>
                    </a:lnTo>
                    <a:lnTo>
                      <a:pt x="20" y="125"/>
                    </a:lnTo>
                    <a:lnTo>
                      <a:pt x="10" y="132"/>
                    </a:lnTo>
                    <a:lnTo>
                      <a:pt x="1" y="146"/>
                    </a:lnTo>
                    <a:lnTo>
                      <a:pt x="0" y="169"/>
                    </a:lnTo>
                    <a:lnTo>
                      <a:pt x="32" y="193"/>
                    </a:lnTo>
                    <a:lnTo>
                      <a:pt x="0" y="169"/>
                    </a:lnTo>
                    <a:lnTo>
                      <a:pt x="4" y="177"/>
                    </a:lnTo>
                    <a:lnTo>
                      <a:pt x="7" y="183"/>
                    </a:lnTo>
                    <a:lnTo>
                      <a:pt x="12" y="187"/>
                    </a:lnTo>
                    <a:lnTo>
                      <a:pt x="17" y="191"/>
                    </a:lnTo>
                    <a:lnTo>
                      <a:pt x="23" y="193"/>
                    </a:lnTo>
                    <a:lnTo>
                      <a:pt x="30" y="194"/>
                    </a:lnTo>
                    <a:lnTo>
                      <a:pt x="36" y="193"/>
                    </a:lnTo>
                    <a:lnTo>
                      <a:pt x="42" y="192"/>
                    </a:lnTo>
                    <a:lnTo>
                      <a:pt x="48" y="190"/>
                    </a:lnTo>
                    <a:lnTo>
                      <a:pt x="54" y="186"/>
                    </a:lnTo>
                    <a:lnTo>
                      <a:pt x="58" y="183"/>
                    </a:lnTo>
                    <a:lnTo>
                      <a:pt x="62" y="177"/>
                    </a:lnTo>
                    <a:lnTo>
                      <a:pt x="65" y="172"/>
                    </a:lnTo>
                    <a:lnTo>
                      <a:pt x="66" y="166"/>
                    </a:lnTo>
                    <a:lnTo>
                      <a:pt x="66" y="158"/>
                    </a:lnTo>
                    <a:lnTo>
                      <a:pt x="65" y="151"/>
                    </a:lnTo>
                    <a:lnTo>
                      <a:pt x="33" y="1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3753000" y="4389480"/>
                <a:ext cx="1242720" cy="73080"/>
              </a:xfrm>
              <a:custGeom>
                <a:avLst/>
                <a:gdLst/>
                <a:ahLst/>
                <a:rect l="l" t="t" r="r" b="b"/>
                <a:pathLst>
                  <a:path w="3913" h="230">
                    <a:moveTo>
                      <a:pt x="3874" y="69"/>
                    </a:moveTo>
                    <a:lnTo>
                      <a:pt x="3845" y="47"/>
                    </a:lnTo>
                    <a:lnTo>
                      <a:pt x="3845" y="46"/>
                    </a:lnTo>
                    <a:lnTo>
                      <a:pt x="3845" y="45"/>
                    </a:lnTo>
                    <a:lnTo>
                      <a:pt x="3845" y="44"/>
                    </a:lnTo>
                    <a:lnTo>
                      <a:pt x="3845" y="43"/>
                    </a:lnTo>
                    <a:lnTo>
                      <a:pt x="3845" y="44"/>
                    </a:lnTo>
                    <a:lnTo>
                      <a:pt x="3843" y="45"/>
                    </a:lnTo>
                    <a:lnTo>
                      <a:pt x="3841" y="47"/>
                    </a:lnTo>
                    <a:lnTo>
                      <a:pt x="3836" y="51"/>
                    </a:lnTo>
                    <a:lnTo>
                      <a:pt x="3829" y="55"/>
                    </a:lnTo>
                    <a:lnTo>
                      <a:pt x="3823" y="59"/>
                    </a:lnTo>
                    <a:lnTo>
                      <a:pt x="3813" y="62"/>
                    </a:lnTo>
                    <a:lnTo>
                      <a:pt x="3803" y="67"/>
                    </a:lnTo>
                    <a:lnTo>
                      <a:pt x="3778" y="74"/>
                    </a:lnTo>
                    <a:lnTo>
                      <a:pt x="3749" y="82"/>
                    </a:lnTo>
                    <a:lnTo>
                      <a:pt x="3715" y="90"/>
                    </a:lnTo>
                    <a:lnTo>
                      <a:pt x="3677" y="97"/>
                    </a:lnTo>
                    <a:lnTo>
                      <a:pt x="3636" y="104"/>
                    </a:lnTo>
                    <a:lnTo>
                      <a:pt x="3590" y="111"/>
                    </a:lnTo>
                    <a:lnTo>
                      <a:pt x="3540" y="117"/>
                    </a:lnTo>
                    <a:lnTo>
                      <a:pt x="3487" y="122"/>
                    </a:lnTo>
                    <a:lnTo>
                      <a:pt x="3432" y="127"/>
                    </a:lnTo>
                    <a:lnTo>
                      <a:pt x="3373" y="133"/>
                    </a:lnTo>
                    <a:lnTo>
                      <a:pt x="3247" y="141"/>
                    </a:lnTo>
                    <a:lnTo>
                      <a:pt x="3110" y="148"/>
                    </a:lnTo>
                    <a:lnTo>
                      <a:pt x="2965" y="153"/>
                    </a:lnTo>
                    <a:lnTo>
                      <a:pt x="2811" y="158"/>
                    </a:lnTo>
                    <a:lnTo>
                      <a:pt x="2652" y="160"/>
                    </a:lnTo>
                    <a:lnTo>
                      <a:pt x="2487" y="162"/>
                    </a:lnTo>
                    <a:lnTo>
                      <a:pt x="2317" y="162"/>
                    </a:lnTo>
                    <a:lnTo>
                      <a:pt x="2145" y="162"/>
                    </a:lnTo>
                    <a:lnTo>
                      <a:pt x="1971" y="160"/>
                    </a:lnTo>
                    <a:lnTo>
                      <a:pt x="1797" y="158"/>
                    </a:lnTo>
                    <a:lnTo>
                      <a:pt x="1624" y="154"/>
                    </a:lnTo>
                    <a:lnTo>
                      <a:pt x="1453" y="151"/>
                    </a:lnTo>
                    <a:lnTo>
                      <a:pt x="1285" y="145"/>
                    </a:lnTo>
                    <a:lnTo>
                      <a:pt x="1121" y="140"/>
                    </a:lnTo>
                    <a:lnTo>
                      <a:pt x="963" y="134"/>
                    </a:lnTo>
                    <a:lnTo>
                      <a:pt x="813" y="127"/>
                    </a:lnTo>
                    <a:lnTo>
                      <a:pt x="672" y="120"/>
                    </a:lnTo>
                    <a:lnTo>
                      <a:pt x="538" y="112"/>
                    </a:lnTo>
                    <a:lnTo>
                      <a:pt x="416" y="105"/>
                    </a:lnTo>
                    <a:lnTo>
                      <a:pt x="307" y="97"/>
                    </a:lnTo>
                    <a:lnTo>
                      <a:pt x="210" y="89"/>
                    </a:lnTo>
                    <a:lnTo>
                      <a:pt x="128" y="80"/>
                    </a:lnTo>
                    <a:lnTo>
                      <a:pt x="93" y="77"/>
                    </a:lnTo>
                    <a:lnTo>
                      <a:pt x="62" y="72"/>
                    </a:lnTo>
                    <a:lnTo>
                      <a:pt x="36" y="69"/>
                    </a:lnTo>
                    <a:lnTo>
                      <a:pt x="14" y="64"/>
                    </a:lnTo>
                    <a:lnTo>
                      <a:pt x="0" y="130"/>
                    </a:lnTo>
                    <a:lnTo>
                      <a:pt x="24" y="135"/>
                    </a:lnTo>
                    <a:lnTo>
                      <a:pt x="53" y="140"/>
                    </a:lnTo>
                    <a:lnTo>
                      <a:pt x="85" y="143"/>
                    </a:lnTo>
                    <a:lnTo>
                      <a:pt x="121" y="148"/>
                    </a:lnTo>
                    <a:lnTo>
                      <a:pt x="204" y="155"/>
                    </a:lnTo>
                    <a:lnTo>
                      <a:pt x="301" y="165"/>
                    </a:lnTo>
                    <a:lnTo>
                      <a:pt x="412" y="173"/>
                    </a:lnTo>
                    <a:lnTo>
                      <a:pt x="535" y="179"/>
                    </a:lnTo>
                    <a:lnTo>
                      <a:pt x="668" y="187"/>
                    </a:lnTo>
                    <a:lnTo>
                      <a:pt x="811" y="194"/>
                    </a:lnTo>
                    <a:lnTo>
                      <a:pt x="961" y="201"/>
                    </a:lnTo>
                    <a:lnTo>
                      <a:pt x="1119" y="207"/>
                    </a:lnTo>
                    <a:lnTo>
                      <a:pt x="1283" y="213"/>
                    </a:lnTo>
                    <a:lnTo>
                      <a:pt x="1450" y="218"/>
                    </a:lnTo>
                    <a:lnTo>
                      <a:pt x="1622" y="222"/>
                    </a:lnTo>
                    <a:lnTo>
                      <a:pt x="1796" y="225"/>
                    </a:lnTo>
                    <a:lnTo>
                      <a:pt x="1970" y="227"/>
                    </a:lnTo>
                    <a:lnTo>
                      <a:pt x="2145" y="230"/>
                    </a:lnTo>
                    <a:lnTo>
                      <a:pt x="2317" y="230"/>
                    </a:lnTo>
                    <a:lnTo>
                      <a:pt x="2487" y="230"/>
                    </a:lnTo>
                    <a:lnTo>
                      <a:pt x="2652" y="227"/>
                    </a:lnTo>
                    <a:lnTo>
                      <a:pt x="2813" y="225"/>
                    </a:lnTo>
                    <a:lnTo>
                      <a:pt x="2966" y="221"/>
                    </a:lnTo>
                    <a:lnTo>
                      <a:pt x="3114" y="215"/>
                    </a:lnTo>
                    <a:lnTo>
                      <a:pt x="3250" y="208"/>
                    </a:lnTo>
                    <a:lnTo>
                      <a:pt x="3378" y="200"/>
                    </a:lnTo>
                    <a:lnTo>
                      <a:pt x="3438" y="194"/>
                    </a:lnTo>
                    <a:lnTo>
                      <a:pt x="3494" y="190"/>
                    </a:lnTo>
                    <a:lnTo>
                      <a:pt x="3548" y="184"/>
                    </a:lnTo>
                    <a:lnTo>
                      <a:pt x="3598" y="177"/>
                    </a:lnTo>
                    <a:lnTo>
                      <a:pt x="3645" y="171"/>
                    </a:lnTo>
                    <a:lnTo>
                      <a:pt x="3689" y="163"/>
                    </a:lnTo>
                    <a:lnTo>
                      <a:pt x="3728" y="157"/>
                    </a:lnTo>
                    <a:lnTo>
                      <a:pt x="3764" y="148"/>
                    </a:lnTo>
                    <a:lnTo>
                      <a:pt x="3798" y="140"/>
                    </a:lnTo>
                    <a:lnTo>
                      <a:pt x="3825" y="130"/>
                    </a:lnTo>
                    <a:lnTo>
                      <a:pt x="3839" y="125"/>
                    </a:lnTo>
                    <a:lnTo>
                      <a:pt x="3851" y="119"/>
                    </a:lnTo>
                    <a:lnTo>
                      <a:pt x="3863" y="113"/>
                    </a:lnTo>
                    <a:lnTo>
                      <a:pt x="3873" y="108"/>
                    </a:lnTo>
                    <a:lnTo>
                      <a:pt x="3882" y="101"/>
                    </a:lnTo>
                    <a:lnTo>
                      <a:pt x="3891" y="93"/>
                    </a:lnTo>
                    <a:lnTo>
                      <a:pt x="3899" y="84"/>
                    </a:lnTo>
                    <a:lnTo>
                      <a:pt x="3906" y="73"/>
                    </a:lnTo>
                    <a:lnTo>
                      <a:pt x="3910" y="62"/>
                    </a:lnTo>
                    <a:lnTo>
                      <a:pt x="3913" y="48"/>
                    </a:lnTo>
                    <a:lnTo>
                      <a:pt x="3912" y="36"/>
                    </a:lnTo>
                    <a:lnTo>
                      <a:pt x="3908" y="23"/>
                    </a:lnTo>
                    <a:lnTo>
                      <a:pt x="3880" y="1"/>
                    </a:lnTo>
                    <a:lnTo>
                      <a:pt x="3908" y="23"/>
                    </a:lnTo>
                    <a:lnTo>
                      <a:pt x="3905" y="15"/>
                    </a:lnTo>
                    <a:lnTo>
                      <a:pt x="3900" y="11"/>
                    </a:lnTo>
                    <a:lnTo>
                      <a:pt x="3896" y="6"/>
                    </a:lnTo>
                    <a:lnTo>
                      <a:pt x="3889" y="3"/>
                    </a:lnTo>
                    <a:lnTo>
                      <a:pt x="3883" y="1"/>
                    </a:lnTo>
                    <a:lnTo>
                      <a:pt x="3877" y="0"/>
                    </a:lnTo>
                    <a:lnTo>
                      <a:pt x="3870" y="1"/>
                    </a:lnTo>
                    <a:lnTo>
                      <a:pt x="3865" y="4"/>
                    </a:lnTo>
                    <a:lnTo>
                      <a:pt x="3859" y="6"/>
                    </a:lnTo>
                    <a:lnTo>
                      <a:pt x="3853" y="9"/>
                    </a:lnTo>
                    <a:lnTo>
                      <a:pt x="3849" y="14"/>
                    </a:lnTo>
                    <a:lnTo>
                      <a:pt x="3845" y="20"/>
                    </a:lnTo>
                    <a:lnTo>
                      <a:pt x="3843" y="25"/>
                    </a:lnTo>
                    <a:lnTo>
                      <a:pt x="3842" y="32"/>
                    </a:lnTo>
                    <a:lnTo>
                      <a:pt x="3843" y="39"/>
                    </a:lnTo>
                    <a:lnTo>
                      <a:pt x="3845" y="47"/>
                    </a:lnTo>
                    <a:lnTo>
                      <a:pt x="3874" y="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>
                <a:off x="3745080" y="4387680"/>
                <a:ext cx="1239840" cy="44640"/>
              </a:xfrm>
              <a:custGeom>
                <a:avLst/>
                <a:gdLst/>
                <a:ahLst/>
                <a:rect l="l" t="t" r="r" b="b"/>
                <a:pathLst>
                  <a:path w="3906" h="140">
                    <a:moveTo>
                      <a:pt x="40" y="72"/>
                    </a:moveTo>
                    <a:lnTo>
                      <a:pt x="35" y="140"/>
                    </a:lnTo>
                    <a:lnTo>
                      <a:pt x="187" y="133"/>
                    </a:lnTo>
                    <a:lnTo>
                      <a:pt x="382" y="125"/>
                    </a:lnTo>
                    <a:lnTo>
                      <a:pt x="613" y="118"/>
                    </a:lnTo>
                    <a:lnTo>
                      <a:pt x="874" y="110"/>
                    </a:lnTo>
                    <a:lnTo>
                      <a:pt x="1159" y="102"/>
                    </a:lnTo>
                    <a:lnTo>
                      <a:pt x="1460" y="95"/>
                    </a:lnTo>
                    <a:lnTo>
                      <a:pt x="1770" y="88"/>
                    </a:lnTo>
                    <a:lnTo>
                      <a:pt x="2084" y="82"/>
                    </a:lnTo>
                    <a:lnTo>
                      <a:pt x="2394" y="77"/>
                    </a:lnTo>
                    <a:lnTo>
                      <a:pt x="2694" y="73"/>
                    </a:lnTo>
                    <a:lnTo>
                      <a:pt x="2977" y="70"/>
                    </a:lnTo>
                    <a:lnTo>
                      <a:pt x="3235" y="68"/>
                    </a:lnTo>
                    <a:lnTo>
                      <a:pt x="3464" y="68"/>
                    </a:lnTo>
                    <a:lnTo>
                      <a:pt x="3656" y="69"/>
                    </a:lnTo>
                    <a:lnTo>
                      <a:pt x="3736" y="70"/>
                    </a:lnTo>
                    <a:lnTo>
                      <a:pt x="3804" y="71"/>
                    </a:lnTo>
                    <a:lnTo>
                      <a:pt x="3859" y="73"/>
                    </a:lnTo>
                    <a:lnTo>
                      <a:pt x="3900" y="77"/>
                    </a:lnTo>
                    <a:lnTo>
                      <a:pt x="3906" y="9"/>
                    </a:lnTo>
                    <a:lnTo>
                      <a:pt x="3862" y="6"/>
                    </a:lnTo>
                    <a:lnTo>
                      <a:pt x="3805" y="4"/>
                    </a:lnTo>
                    <a:lnTo>
                      <a:pt x="3737" y="3"/>
                    </a:lnTo>
                    <a:lnTo>
                      <a:pt x="3657" y="1"/>
                    </a:lnTo>
                    <a:lnTo>
                      <a:pt x="3464" y="0"/>
                    </a:lnTo>
                    <a:lnTo>
                      <a:pt x="3235" y="0"/>
                    </a:lnTo>
                    <a:lnTo>
                      <a:pt x="2977" y="3"/>
                    </a:lnTo>
                    <a:lnTo>
                      <a:pt x="2693" y="6"/>
                    </a:lnTo>
                    <a:lnTo>
                      <a:pt x="2393" y="9"/>
                    </a:lnTo>
                    <a:lnTo>
                      <a:pt x="2083" y="15"/>
                    </a:lnTo>
                    <a:lnTo>
                      <a:pt x="1769" y="21"/>
                    </a:lnTo>
                    <a:lnTo>
                      <a:pt x="1459" y="28"/>
                    </a:lnTo>
                    <a:lnTo>
                      <a:pt x="1157" y="35"/>
                    </a:lnTo>
                    <a:lnTo>
                      <a:pt x="873" y="43"/>
                    </a:lnTo>
                    <a:lnTo>
                      <a:pt x="611" y="51"/>
                    </a:lnTo>
                    <a:lnTo>
                      <a:pt x="380" y="57"/>
                    </a:lnTo>
                    <a:lnTo>
                      <a:pt x="184" y="65"/>
                    </a:lnTo>
                    <a:lnTo>
                      <a:pt x="32" y="72"/>
                    </a:lnTo>
                    <a:lnTo>
                      <a:pt x="26" y="138"/>
                    </a:lnTo>
                    <a:lnTo>
                      <a:pt x="32" y="72"/>
                    </a:lnTo>
                    <a:lnTo>
                      <a:pt x="24" y="73"/>
                    </a:lnTo>
                    <a:lnTo>
                      <a:pt x="17" y="76"/>
                    </a:lnTo>
                    <a:lnTo>
                      <a:pt x="11" y="79"/>
                    </a:lnTo>
                    <a:lnTo>
                      <a:pt x="7" y="84"/>
                    </a:lnTo>
                    <a:lnTo>
                      <a:pt x="3" y="89"/>
                    </a:lnTo>
                    <a:lnTo>
                      <a:pt x="1" y="95"/>
                    </a:lnTo>
                    <a:lnTo>
                      <a:pt x="0" y="101"/>
                    </a:lnTo>
                    <a:lnTo>
                      <a:pt x="0" y="108"/>
                    </a:lnTo>
                    <a:lnTo>
                      <a:pt x="0" y="113"/>
                    </a:lnTo>
                    <a:lnTo>
                      <a:pt x="2" y="119"/>
                    </a:lnTo>
                    <a:lnTo>
                      <a:pt x="5" y="125"/>
                    </a:lnTo>
                    <a:lnTo>
                      <a:pt x="9" y="130"/>
                    </a:lnTo>
                    <a:lnTo>
                      <a:pt x="14" y="134"/>
                    </a:lnTo>
                    <a:lnTo>
                      <a:pt x="20" y="137"/>
                    </a:lnTo>
                    <a:lnTo>
                      <a:pt x="27" y="138"/>
                    </a:lnTo>
                    <a:lnTo>
                      <a:pt x="35" y="140"/>
                    </a:lnTo>
                    <a:lnTo>
                      <a:pt x="40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>
                <a:off x="3746520" y="4322880"/>
                <a:ext cx="1271520" cy="44280"/>
              </a:xfrm>
              <a:custGeom>
                <a:avLst/>
                <a:gdLst/>
                <a:ahLst/>
                <a:rect l="l" t="t" r="r" b="b"/>
                <a:pathLst>
                  <a:path w="4001" h="140">
                    <a:moveTo>
                      <a:pt x="3964" y="67"/>
                    </a:moveTo>
                    <a:lnTo>
                      <a:pt x="3944" y="9"/>
                    </a:lnTo>
                    <a:lnTo>
                      <a:pt x="3943" y="10"/>
                    </a:lnTo>
                    <a:lnTo>
                      <a:pt x="3940" y="12"/>
                    </a:lnTo>
                    <a:lnTo>
                      <a:pt x="3935" y="15"/>
                    </a:lnTo>
                    <a:lnTo>
                      <a:pt x="3931" y="17"/>
                    </a:lnTo>
                    <a:lnTo>
                      <a:pt x="3914" y="23"/>
                    </a:lnTo>
                    <a:lnTo>
                      <a:pt x="3892" y="27"/>
                    </a:lnTo>
                    <a:lnTo>
                      <a:pt x="3867" y="33"/>
                    </a:lnTo>
                    <a:lnTo>
                      <a:pt x="3836" y="38"/>
                    </a:lnTo>
                    <a:lnTo>
                      <a:pt x="3802" y="42"/>
                    </a:lnTo>
                    <a:lnTo>
                      <a:pt x="3764" y="47"/>
                    </a:lnTo>
                    <a:lnTo>
                      <a:pt x="3723" y="50"/>
                    </a:lnTo>
                    <a:lnTo>
                      <a:pt x="3678" y="55"/>
                    </a:lnTo>
                    <a:lnTo>
                      <a:pt x="3630" y="57"/>
                    </a:lnTo>
                    <a:lnTo>
                      <a:pt x="3578" y="60"/>
                    </a:lnTo>
                    <a:lnTo>
                      <a:pt x="3467" y="65"/>
                    </a:lnTo>
                    <a:lnTo>
                      <a:pt x="3345" y="68"/>
                    </a:lnTo>
                    <a:lnTo>
                      <a:pt x="3212" y="71"/>
                    </a:lnTo>
                    <a:lnTo>
                      <a:pt x="3071" y="72"/>
                    </a:lnTo>
                    <a:lnTo>
                      <a:pt x="2923" y="72"/>
                    </a:lnTo>
                    <a:lnTo>
                      <a:pt x="2768" y="72"/>
                    </a:lnTo>
                    <a:lnTo>
                      <a:pt x="2444" y="68"/>
                    </a:lnTo>
                    <a:lnTo>
                      <a:pt x="2107" y="64"/>
                    </a:lnTo>
                    <a:lnTo>
                      <a:pt x="1431" y="50"/>
                    </a:lnTo>
                    <a:lnTo>
                      <a:pt x="808" y="38"/>
                    </a:lnTo>
                    <a:lnTo>
                      <a:pt x="538" y="34"/>
                    </a:lnTo>
                    <a:lnTo>
                      <a:pt x="309" y="32"/>
                    </a:lnTo>
                    <a:lnTo>
                      <a:pt x="211" y="33"/>
                    </a:lnTo>
                    <a:lnTo>
                      <a:pt x="126" y="35"/>
                    </a:lnTo>
                    <a:lnTo>
                      <a:pt x="56" y="38"/>
                    </a:lnTo>
                    <a:lnTo>
                      <a:pt x="0" y="41"/>
                    </a:lnTo>
                    <a:lnTo>
                      <a:pt x="7" y="108"/>
                    </a:lnTo>
                    <a:lnTo>
                      <a:pt x="59" y="105"/>
                    </a:lnTo>
                    <a:lnTo>
                      <a:pt x="129" y="103"/>
                    </a:lnTo>
                    <a:lnTo>
                      <a:pt x="212" y="100"/>
                    </a:lnTo>
                    <a:lnTo>
                      <a:pt x="309" y="100"/>
                    </a:lnTo>
                    <a:lnTo>
                      <a:pt x="538" y="101"/>
                    </a:lnTo>
                    <a:lnTo>
                      <a:pt x="807" y="105"/>
                    </a:lnTo>
                    <a:lnTo>
                      <a:pt x="1430" y="117"/>
                    </a:lnTo>
                    <a:lnTo>
                      <a:pt x="2106" y="131"/>
                    </a:lnTo>
                    <a:lnTo>
                      <a:pt x="2443" y="136"/>
                    </a:lnTo>
                    <a:lnTo>
                      <a:pt x="2768" y="139"/>
                    </a:lnTo>
                    <a:lnTo>
                      <a:pt x="2923" y="140"/>
                    </a:lnTo>
                    <a:lnTo>
                      <a:pt x="3071" y="139"/>
                    </a:lnTo>
                    <a:lnTo>
                      <a:pt x="3212" y="138"/>
                    </a:lnTo>
                    <a:lnTo>
                      <a:pt x="3346" y="136"/>
                    </a:lnTo>
                    <a:lnTo>
                      <a:pt x="3469" y="132"/>
                    </a:lnTo>
                    <a:lnTo>
                      <a:pt x="3582" y="128"/>
                    </a:lnTo>
                    <a:lnTo>
                      <a:pt x="3633" y="124"/>
                    </a:lnTo>
                    <a:lnTo>
                      <a:pt x="3682" y="122"/>
                    </a:lnTo>
                    <a:lnTo>
                      <a:pt x="3729" y="117"/>
                    </a:lnTo>
                    <a:lnTo>
                      <a:pt x="3771" y="114"/>
                    </a:lnTo>
                    <a:lnTo>
                      <a:pt x="3810" y="109"/>
                    </a:lnTo>
                    <a:lnTo>
                      <a:pt x="3846" y="105"/>
                    </a:lnTo>
                    <a:lnTo>
                      <a:pt x="3878" y="99"/>
                    </a:lnTo>
                    <a:lnTo>
                      <a:pt x="3907" y="93"/>
                    </a:lnTo>
                    <a:lnTo>
                      <a:pt x="3932" y="87"/>
                    </a:lnTo>
                    <a:lnTo>
                      <a:pt x="3953" y="80"/>
                    </a:lnTo>
                    <a:lnTo>
                      <a:pt x="3964" y="75"/>
                    </a:lnTo>
                    <a:lnTo>
                      <a:pt x="3973" y="71"/>
                    </a:lnTo>
                    <a:lnTo>
                      <a:pt x="3982" y="65"/>
                    </a:lnTo>
                    <a:lnTo>
                      <a:pt x="3990" y="58"/>
                    </a:lnTo>
                    <a:lnTo>
                      <a:pt x="3969" y="0"/>
                    </a:lnTo>
                    <a:lnTo>
                      <a:pt x="3990" y="58"/>
                    </a:lnTo>
                    <a:lnTo>
                      <a:pt x="3996" y="52"/>
                    </a:lnTo>
                    <a:lnTo>
                      <a:pt x="3999" y="47"/>
                    </a:lnTo>
                    <a:lnTo>
                      <a:pt x="4000" y="40"/>
                    </a:lnTo>
                    <a:lnTo>
                      <a:pt x="4001" y="34"/>
                    </a:lnTo>
                    <a:lnTo>
                      <a:pt x="4000" y="27"/>
                    </a:lnTo>
                    <a:lnTo>
                      <a:pt x="3998" y="22"/>
                    </a:lnTo>
                    <a:lnTo>
                      <a:pt x="3996" y="16"/>
                    </a:lnTo>
                    <a:lnTo>
                      <a:pt x="3991" y="11"/>
                    </a:lnTo>
                    <a:lnTo>
                      <a:pt x="3987" y="7"/>
                    </a:lnTo>
                    <a:lnTo>
                      <a:pt x="3982" y="3"/>
                    </a:lnTo>
                    <a:lnTo>
                      <a:pt x="3975" y="1"/>
                    </a:lnTo>
                    <a:lnTo>
                      <a:pt x="3969" y="0"/>
                    </a:lnTo>
                    <a:lnTo>
                      <a:pt x="3963" y="0"/>
                    </a:lnTo>
                    <a:lnTo>
                      <a:pt x="3957" y="1"/>
                    </a:lnTo>
                    <a:lnTo>
                      <a:pt x="3950" y="4"/>
                    </a:lnTo>
                    <a:lnTo>
                      <a:pt x="3944" y="9"/>
                    </a:lnTo>
                    <a:lnTo>
                      <a:pt x="3964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3736800" y="4300560"/>
                <a:ext cx="1270080" cy="55440"/>
              </a:xfrm>
              <a:custGeom>
                <a:avLst/>
                <a:gdLst/>
                <a:ahLst/>
                <a:rect l="l" t="t" r="r" b="b"/>
                <a:pathLst>
                  <a:path w="4000" h="179">
                    <a:moveTo>
                      <a:pt x="31" y="111"/>
                    </a:moveTo>
                    <a:lnTo>
                      <a:pt x="62" y="166"/>
                    </a:lnTo>
                    <a:lnTo>
                      <a:pt x="62" y="165"/>
                    </a:lnTo>
                    <a:lnTo>
                      <a:pt x="64" y="162"/>
                    </a:lnTo>
                    <a:lnTo>
                      <a:pt x="67" y="160"/>
                    </a:lnTo>
                    <a:lnTo>
                      <a:pt x="72" y="158"/>
                    </a:lnTo>
                    <a:lnTo>
                      <a:pt x="88" y="151"/>
                    </a:lnTo>
                    <a:lnTo>
                      <a:pt x="110" y="144"/>
                    </a:lnTo>
                    <a:lnTo>
                      <a:pt x="135" y="136"/>
                    </a:lnTo>
                    <a:lnTo>
                      <a:pt x="164" y="130"/>
                    </a:lnTo>
                    <a:lnTo>
                      <a:pt x="199" y="123"/>
                    </a:lnTo>
                    <a:lnTo>
                      <a:pt x="237" y="118"/>
                    </a:lnTo>
                    <a:lnTo>
                      <a:pt x="278" y="112"/>
                    </a:lnTo>
                    <a:lnTo>
                      <a:pt x="324" y="106"/>
                    </a:lnTo>
                    <a:lnTo>
                      <a:pt x="373" y="102"/>
                    </a:lnTo>
                    <a:lnTo>
                      <a:pt x="425" y="97"/>
                    </a:lnTo>
                    <a:lnTo>
                      <a:pt x="539" y="89"/>
                    </a:lnTo>
                    <a:lnTo>
                      <a:pt x="665" y="82"/>
                    </a:lnTo>
                    <a:lnTo>
                      <a:pt x="800" y="78"/>
                    </a:lnTo>
                    <a:lnTo>
                      <a:pt x="944" y="73"/>
                    </a:lnTo>
                    <a:lnTo>
                      <a:pt x="1096" y="71"/>
                    </a:lnTo>
                    <a:lnTo>
                      <a:pt x="1254" y="69"/>
                    </a:lnTo>
                    <a:lnTo>
                      <a:pt x="1418" y="68"/>
                    </a:lnTo>
                    <a:lnTo>
                      <a:pt x="1586" y="68"/>
                    </a:lnTo>
                    <a:lnTo>
                      <a:pt x="1757" y="69"/>
                    </a:lnTo>
                    <a:lnTo>
                      <a:pt x="1930" y="70"/>
                    </a:lnTo>
                    <a:lnTo>
                      <a:pt x="2277" y="76"/>
                    </a:lnTo>
                    <a:lnTo>
                      <a:pt x="2616" y="82"/>
                    </a:lnTo>
                    <a:lnTo>
                      <a:pt x="2940" y="92"/>
                    </a:lnTo>
                    <a:lnTo>
                      <a:pt x="3239" y="102"/>
                    </a:lnTo>
                    <a:lnTo>
                      <a:pt x="3503" y="112"/>
                    </a:lnTo>
                    <a:lnTo>
                      <a:pt x="3723" y="121"/>
                    </a:lnTo>
                    <a:lnTo>
                      <a:pt x="3891" y="130"/>
                    </a:lnTo>
                    <a:lnTo>
                      <a:pt x="3995" y="137"/>
                    </a:lnTo>
                    <a:lnTo>
                      <a:pt x="4000" y="70"/>
                    </a:lnTo>
                    <a:lnTo>
                      <a:pt x="3894" y="63"/>
                    </a:lnTo>
                    <a:lnTo>
                      <a:pt x="3727" y="54"/>
                    </a:lnTo>
                    <a:lnTo>
                      <a:pt x="3506" y="45"/>
                    </a:lnTo>
                    <a:lnTo>
                      <a:pt x="3241" y="34"/>
                    </a:lnTo>
                    <a:lnTo>
                      <a:pt x="2941" y="24"/>
                    </a:lnTo>
                    <a:lnTo>
                      <a:pt x="2618" y="15"/>
                    </a:lnTo>
                    <a:lnTo>
                      <a:pt x="2278" y="8"/>
                    </a:lnTo>
                    <a:lnTo>
                      <a:pt x="1930" y="3"/>
                    </a:lnTo>
                    <a:lnTo>
                      <a:pt x="1757" y="1"/>
                    </a:lnTo>
                    <a:lnTo>
                      <a:pt x="1586" y="0"/>
                    </a:lnTo>
                    <a:lnTo>
                      <a:pt x="1418" y="0"/>
                    </a:lnTo>
                    <a:lnTo>
                      <a:pt x="1254" y="1"/>
                    </a:lnTo>
                    <a:lnTo>
                      <a:pt x="1096" y="4"/>
                    </a:lnTo>
                    <a:lnTo>
                      <a:pt x="943" y="6"/>
                    </a:lnTo>
                    <a:lnTo>
                      <a:pt x="798" y="11"/>
                    </a:lnTo>
                    <a:lnTo>
                      <a:pt x="663" y="15"/>
                    </a:lnTo>
                    <a:lnTo>
                      <a:pt x="536" y="22"/>
                    </a:lnTo>
                    <a:lnTo>
                      <a:pt x="421" y="30"/>
                    </a:lnTo>
                    <a:lnTo>
                      <a:pt x="367" y="34"/>
                    </a:lnTo>
                    <a:lnTo>
                      <a:pt x="317" y="40"/>
                    </a:lnTo>
                    <a:lnTo>
                      <a:pt x="270" y="45"/>
                    </a:lnTo>
                    <a:lnTo>
                      <a:pt x="227" y="50"/>
                    </a:lnTo>
                    <a:lnTo>
                      <a:pt x="187" y="57"/>
                    </a:lnTo>
                    <a:lnTo>
                      <a:pt x="151" y="64"/>
                    </a:lnTo>
                    <a:lnTo>
                      <a:pt x="119" y="71"/>
                    </a:lnTo>
                    <a:lnTo>
                      <a:pt x="89" y="79"/>
                    </a:lnTo>
                    <a:lnTo>
                      <a:pt x="64" y="88"/>
                    </a:lnTo>
                    <a:lnTo>
                      <a:pt x="43" y="97"/>
                    </a:lnTo>
                    <a:lnTo>
                      <a:pt x="32" y="103"/>
                    </a:lnTo>
                    <a:lnTo>
                      <a:pt x="23" y="109"/>
                    </a:lnTo>
                    <a:lnTo>
                      <a:pt x="15" y="117"/>
                    </a:lnTo>
                    <a:lnTo>
                      <a:pt x="7" y="125"/>
                    </a:lnTo>
                    <a:lnTo>
                      <a:pt x="38" y="178"/>
                    </a:lnTo>
                    <a:lnTo>
                      <a:pt x="7" y="125"/>
                    </a:lnTo>
                    <a:lnTo>
                      <a:pt x="4" y="131"/>
                    </a:lnTo>
                    <a:lnTo>
                      <a:pt x="1" y="138"/>
                    </a:lnTo>
                    <a:lnTo>
                      <a:pt x="0" y="145"/>
                    </a:lnTo>
                    <a:lnTo>
                      <a:pt x="0" y="151"/>
                    </a:lnTo>
                    <a:lnTo>
                      <a:pt x="2" y="158"/>
                    </a:lnTo>
                    <a:lnTo>
                      <a:pt x="6" y="163"/>
                    </a:lnTo>
                    <a:lnTo>
                      <a:pt x="9" y="168"/>
                    </a:lnTo>
                    <a:lnTo>
                      <a:pt x="14" y="173"/>
                    </a:lnTo>
                    <a:lnTo>
                      <a:pt x="20" y="176"/>
                    </a:lnTo>
                    <a:lnTo>
                      <a:pt x="25" y="178"/>
                    </a:lnTo>
                    <a:lnTo>
                      <a:pt x="31" y="179"/>
                    </a:lnTo>
                    <a:lnTo>
                      <a:pt x="38" y="179"/>
                    </a:lnTo>
                    <a:lnTo>
                      <a:pt x="45" y="178"/>
                    </a:lnTo>
                    <a:lnTo>
                      <a:pt x="50" y="175"/>
                    </a:lnTo>
                    <a:lnTo>
                      <a:pt x="56" y="171"/>
                    </a:lnTo>
                    <a:lnTo>
                      <a:pt x="62" y="166"/>
                    </a:lnTo>
                    <a:lnTo>
                      <a:pt x="31" y="1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3724200" y="43783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3" h="67">
                    <a:moveTo>
                      <a:pt x="33" y="0"/>
                    </a:moveTo>
                    <a:lnTo>
                      <a:pt x="25" y="1"/>
                    </a:lnTo>
                    <a:lnTo>
                      <a:pt x="19" y="2"/>
                    </a:lnTo>
                    <a:lnTo>
                      <a:pt x="13" y="6"/>
                    </a:lnTo>
                    <a:lnTo>
                      <a:pt x="8" y="10"/>
                    </a:lnTo>
                    <a:lnTo>
                      <a:pt x="5" y="16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1" y="46"/>
                    </a:lnTo>
                    <a:lnTo>
                      <a:pt x="5" y="51"/>
                    </a:lnTo>
                    <a:lnTo>
                      <a:pt x="8" y="57"/>
                    </a:lnTo>
                    <a:lnTo>
                      <a:pt x="13" y="62"/>
                    </a:lnTo>
                    <a:lnTo>
                      <a:pt x="19" y="64"/>
                    </a:lnTo>
                    <a:lnTo>
                      <a:pt x="25" y="66"/>
                    </a:lnTo>
                    <a:lnTo>
                      <a:pt x="33" y="6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>
                <a:off x="3735360" y="4346640"/>
                <a:ext cx="1295280" cy="54000"/>
              </a:xfrm>
              <a:custGeom>
                <a:avLst/>
                <a:gdLst/>
                <a:ahLst/>
                <a:rect l="l" t="t" r="r" b="b"/>
                <a:pathLst>
                  <a:path w="4079" h="171">
                    <a:moveTo>
                      <a:pt x="4062" y="0"/>
                    </a:moveTo>
                    <a:lnTo>
                      <a:pt x="4039" y="6"/>
                    </a:lnTo>
                    <a:lnTo>
                      <a:pt x="4012" y="11"/>
                    </a:lnTo>
                    <a:lnTo>
                      <a:pt x="3980" y="16"/>
                    </a:lnTo>
                    <a:lnTo>
                      <a:pt x="3944" y="21"/>
                    </a:lnTo>
                    <a:lnTo>
                      <a:pt x="3904" y="25"/>
                    </a:lnTo>
                    <a:lnTo>
                      <a:pt x="3859" y="30"/>
                    </a:lnTo>
                    <a:lnTo>
                      <a:pt x="3811" y="35"/>
                    </a:lnTo>
                    <a:lnTo>
                      <a:pt x="3760" y="39"/>
                    </a:lnTo>
                    <a:lnTo>
                      <a:pt x="3646" y="47"/>
                    </a:lnTo>
                    <a:lnTo>
                      <a:pt x="3521" y="54"/>
                    </a:lnTo>
                    <a:lnTo>
                      <a:pt x="3384" y="61"/>
                    </a:lnTo>
                    <a:lnTo>
                      <a:pt x="3238" y="68"/>
                    </a:lnTo>
                    <a:lnTo>
                      <a:pt x="3083" y="73"/>
                    </a:lnTo>
                    <a:lnTo>
                      <a:pt x="2920" y="78"/>
                    </a:lnTo>
                    <a:lnTo>
                      <a:pt x="2751" y="82"/>
                    </a:lnTo>
                    <a:lnTo>
                      <a:pt x="2578" y="86"/>
                    </a:lnTo>
                    <a:lnTo>
                      <a:pt x="2222" y="93"/>
                    </a:lnTo>
                    <a:lnTo>
                      <a:pt x="1861" y="97"/>
                    </a:lnTo>
                    <a:lnTo>
                      <a:pt x="1506" y="101"/>
                    </a:lnTo>
                    <a:lnTo>
                      <a:pt x="1165" y="103"/>
                    </a:lnTo>
                    <a:lnTo>
                      <a:pt x="851" y="104"/>
                    </a:lnTo>
                    <a:lnTo>
                      <a:pt x="571" y="104"/>
                    </a:lnTo>
                    <a:lnTo>
                      <a:pt x="157" y="103"/>
                    </a:lnTo>
                    <a:lnTo>
                      <a:pt x="0" y="103"/>
                    </a:lnTo>
                    <a:lnTo>
                      <a:pt x="0" y="170"/>
                    </a:lnTo>
                    <a:lnTo>
                      <a:pt x="157" y="171"/>
                    </a:lnTo>
                    <a:lnTo>
                      <a:pt x="571" y="171"/>
                    </a:lnTo>
                    <a:lnTo>
                      <a:pt x="851" y="171"/>
                    </a:lnTo>
                    <a:lnTo>
                      <a:pt x="1167" y="170"/>
                    </a:lnTo>
                    <a:lnTo>
                      <a:pt x="1506" y="168"/>
                    </a:lnTo>
                    <a:lnTo>
                      <a:pt x="1862" y="165"/>
                    </a:lnTo>
                    <a:lnTo>
                      <a:pt x="2223" y="160"/>
                    </a:lnTo>
                    <a:lnTo>
                      <a:pt x="2579" y="153"/>
                    </a:lnTo>
                    <a:lnTo>
                      <a:pt x="2753" y="150"/>
                    </a:lnTo>
                    <a:lnTo>
                      <a:pt x="2922" y="145"/>
                    </a:lnTo>
                    <a:lnTo>
                      <a:pt x="3084" y="141"/>
                    </a:lnTo>
                    <a:lnTo>
                      <a:pt x="3240" y="135"/>
                    </a:lnTo>
                    <a:lnTo>
                      <a:pt x="3387" y="128"/>
                    </a:lnTo>
                    <a:lnTo>
                      <a:pt x="3524" y="121"/>
                    </a:lnTo>
                    <a:lnTo>
                      <a:pt x="3651" y="114"/>
                    </a:lnTo>
                    <a:lnTo>
                      <a:pt x="3765" y="106"/>
                    </a:lnTo>
                    <a:lnTo>
                      <a:pt x="3817" y="102"/>
                    </a:lnTo>
                    <a:lnTo>
                      <a:pt x="3866" y="97"/>
                    </a:lnTo>
                    <a:lnTo>
                      <a:pt x="3911" y="93"/>
                    </a:lnTo>
                    <a:lnTo>
                      <a:pt x="3953" y="88"/>
                    </a:lnTo>
                    <a:lnTo>
                      <a:pt x="3990" y="82"/>
                    </a:lnTo>
                    <a:lnTo>
                      <a:pt x="4023" y="77"/>
                    </a:lnTo>
                    <a:lnTo>
                      <a:pt x="4053" y="71"/>
                    </a:lnTo>
                    <a:lnTo>
                      <a:pt x="4079" y="65"/>
                    </a:lnTo>
                    <a:lnTo>
                      <a:pt x="406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>
                <a:off x="5024520" y="434664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17" y="66"/>
                    </a:moveTo>
                    <a:lnTo>
                      <a:pt x="24" y="64"/>
                    </a:lnTo>
                    <a:lnTo>
                      <a:pt x="30" y="59"/>
                    </a:lnTo>
                    <a:lnTo>
                      <a:pt x="35" y="55"/>
                    </a:lnTo>
                    <a:lnTo>
                      <a:pt x="39" y="50"/>
                    </a:lnTo>
                    <a:lnTo>
                      <a:pt x="41" y="44"/>
                    </a:lnTo>
                    <a:lnTo>
                      <a:pt x="42" y="38"/>
                    </a:lnTo>
                    <a:lnTo>
                      <a:pt x="41" y="31"/>
                    </a:lnTo>
                    <a:lnTo>
                      <a:pt x="41" y="25"/>
                    </a:lnTo>
                    <a:lnTo>
                      <a:pt x="39" y="20"/>
                    </a:lnTo>
                    <a:lnTo>
                      <a:pt x="35" y="14"/>
                    </a:lnTo>
                    <a:lnTo>
                      <a:pt x="31" y="9"/>
                    </a:lnTo>
                    <a:lnTo>
                      <a:pt x="26" y="5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7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3699000" y="4516560"/>
                <a:ext cx="11160" cy="2196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4" y="0"/>
                    </a:moveTo>
                    <a:lnTo>
                      <a:pt x="26" y="0"/>
                    </a:lnTo>
                    <a:lnTo>
                      <a:pt x="20" y="2"/>
                    </a:lnTo>
                    <a:lnTo>
                      <a:pt x="14" y="5"/>
                    </a:lnTo>
                    <a:lnTo>
                      <a:pt x="9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38"/>
                    </a:lnTo>
                    <a:lnTo>
                      <a:pt x="1" y="44"/>
                    </a:lnTo>
                    <a:lnTo>
                      <a:pt x="4" y="50"/>
                    </a:lnTo>
                    <a:lnTo>
                      <a:pt x="7" y="56"/>
                    </a:lnTo>
                    <a:lnTo>
                      <a:pt x="12" y="60"/>
                    </a:lnTo>
                    <a:lnTo>
                      <a:pt x="17" y="64"/>
                    </a:lnTo>
                    <a:lnTo>
                      <a:pt x="24" y="66"/>
                    </a:lnTo>
                    <a:lnTo>
                      <a:pt x="32" y="6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3708360" y="4516560"/>
                <a:ext cx="1362240" cy="41040"/>
              </a:xfrm>
              <a:custGeom>
                <a:avLst/>
                <a:gdLst/>
                <a:ahLst/>
                <a:rect l="l" t="t" r="r" b="b"/>
                <a:pathLst>
                  <a:path w="4287" h="130">
                    <a:moveTo>
                      <a:pt x="4266" y="11"/>
                    </a:moveTo>
                    <a:lnTo>
                      <a:pt x="4248" y="16"/>
                    </a:lnTo>
                    <a:lnTo>
                      <a:pt x="4224" y="21"/>
                    </a:lnTo>
                    <a:lnTo>
                      <a:pt x="4194" y="26"/>
                    </a:lnTo>
                    <a:lnTo>
                      <a:pt x="4160" y="30"/>
                    </a:lnTo>
                    <a:lnTo>
                      <a:pt x="4120" y="34"/>
                    </a:lnTo>
                    <a:lnTo>
                      <a:pt x="4077" y="38"/>
                    </a:lnTo>
                    <a:lnTo>
                      <a:pt x="4029" y="42"/>
                    </a:lnTo>
                    <a:lnTo>
                      <a:pt x="3978" y="45"/>
                    </a:lnTo>
                    <a:lnTo>
                      <a:pt x="3864" y="51"/>
                    </a:lnTo>
                    <a:lnTo>
                      <a:pt x="3735" y="54"/>
                    </a:lnTo>
                    <a:lnTo>
                      <a:pt x="3593" y="58"/>
                    </a:lnTo>
                    <a:lnTo>
                      <a:pt x="3442" y="60"/>
                    </a:lnTo>
                    <a:lnTo>
                      <a:pt x="3280" y="62"/>
                    </a:lnTo>
                    <a:lnTo>
                      <a:pt x="3110" y="62"/>
                    </a:lnTo>
                    <a:lnTo>
                      <a:pt x="2933" y="62"/>
                    </a:lnTo>
                    <a:lnTo>
                      <a:pt x="2751" y="61"/>
                    </a:lnTo>
                    <a:lnTo>
                      <a:pt x="2375" y="58"/>
                    </a:lnTo>
                    <a:lnTo>
                      <a:pt x="1992" y="51"/>
                    </a:lnTo>
                    <a:lnTo>
                      <a:pt x="1613" y="44"/>
                    </a:lnTo>
                    <a:lnTo>
                      <a:pt x="1251" y="36"/>
                    </a:lnTo>
                    <a:lnTo>
                      <a:pt x="914" y="27"/>
                    </a:lnTo>
                    <a:lnTo>
                      <a:pt x="615" y="19"/>
                    </a:lnTo>
                    <a:lnTo>
                      <a:pt x="170" y="5"/>
                    </a:lnTo>
                    <a:lnTo>
                      <a:pt x="2" y="0"/>
                    </a:lnTo>
                    <a:lnTo>
                      <a:pt x="0" y="67"/>
                    </a:lnTo>
                    <a:lnTo>
                      <a:pt x="168" y="73"/>
                    </a:lnTo>
                    <a:lnTo>
                      <a:pt x="613" y="86"/>
                    </a:lnTo>
                    <a:lnTo>
                      <a:pt x="913" y="94"/>
                    </a:lnTo>
                    <a:lnTo>
                      <a:pt x="1250" y="103"/>
                    </a:lnTo>
                    <a:lnTo>
                      <a:pt x="1612" y="111"/>
                    </a:lnTo>
                    <a:lnTo>
                      <a:pt x="1991" y="118"/>
                    </a:lnTo>
                    <a:lnTo>
                      <a:pt x="2374" y="125"/>
                    </a:lnTo>
                    <a:lnTo>
                      <a:pt x="2751" y="129"/>
                    </a:lnTo>
                    <a:lnTo>
                      <a:pt x="2933" y="130"/>
                    </a:lnTo>
                    <a:lnTo>
                      <a:pt x="3110" y="130"/>
                    </a:lnTo>
                    <a:lnTo>
                      <a:pt x="3281" y="130"/>
                    </a:lnTo>
                    <a:lnTo>
                      <a:pt x="3443" y="127"/>
                    </a:lnTo>
                    <a:lnTo>
                      <a:pt x="3595" y="125"/>
                    </a:lnTo>
                    <a:lnTo>
                      <a:pt x="3737" y="122"/>
                    </a:lnTo>
                    <a:lnTo>
                      <a:pt x="3866" y="118"/>
                    </a:lnTo>
                    <a:lnTo>
                      <a:pt x="3981" y="113"/>
                    </a:lnTo>
                    <a:lnTo>
                      <a:pt x="4033" y="109"/>
                    </a:lnTo>
                    <a:lnTo>
                      <a:pt x="4082" y="106"/>
                    </a:lnTo>
                    <a:lnTo>
                      <a:pt x="4127" y="101"/>
                    </a:lnTo>
                    <a:lnTo>
                      <a:pt x="4167" y="97"/>
                    </a:lnTo>
                    <a:lnTo>
                      <a:pt x="4203" y="92"/>
                    </a:lnTo>
                    <a:lnTo>
                      <a:pt x="4235" y="87"/>
                    </a:lnTo>
                    <a:lnTo>
                      <a:pt x="4263" y="82"/>
                    </a:lnTo>
                    <a:lnTo>
                      <a:pt x="4287" y="75"/>
                    </a:lnTo>
                    <a:lnTo>
                      <a:pt x="4266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>
                <a:off x="5062680" y="4519440"/>
                <a:ext cx="14040" cy="20880"/>
              </a:xfrm>
              <a:custGeom>
                <a:avLst/>
                <a:gdLst/>
                <a:ahLst/>
                <a:rect l="l" t="t" r="r" b="b"/>
                <a:pathLst>
                  <a:path w="44" h="66">
                    <a:moveTo>
                      <a:pt x="21" y="66"/>
                    </a:moveTo>
                    <a:lnTo>
                      <a:pt x="27" y="63"/>
                    </a:lnTo>
                    <a:lnTo>
                      <a:pt x="33" y="59"/>
                    </a:lnTo>
                    <a:lnTo>
                      <a:pt x="38" y="53"/>
                    </a:lnTo>
                    <a:lnTo>
                      <a:pt x="41" y="49"/>
                    </a:lnTo>
                    <a:lnTo>
                      <a:pt x="43" y="42"/>
                    </a:lnTo>
                    <a:lnTo>
                      <a:pt x="44" y="36"/>
                    </a:lnTo>
                    <a:lnTo>
                      <a:pt x="43" y="29"/>
                    </a:lnTo>
                    <a:lnTo>
                      <a:pt x="42" y="24"/>
                    </a:lnTo>
                    <a:lnTo>
                      <a:pt x="40" y="18"/>
                    </a:lnTo>
                    <a:lnTo>
                      <a:pt x="36" y="12"/>
                    </a:lnTo>
                    <a:lnTo>
                      <a:pt x="32" y="8"/>
                    </a:lnTo>
                    <a:lnTo>
                      <a:pt x="27" y="4"/>
                    </a:lnTo>
                    <a:lnTo>
                      <a:pt x="22" y="2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21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>
                <a:off x="2590920" y="4206960"/>
                <a:ext cx="352440" cy="722160"/>
              </a:xfrm>
              <a:custGeom>
                <a:avLst/>
                <a:gdLst/>
                <a:ahLst/>
                <a:rect l="l" t="t" r="r" b="b"/>
                <a:pathLst>
                  <a:path w="1108" h="2272">
                    <a:moveTo>
                      <a:pt x="13" y="0"/>
                    </a:moveTo>
                    <a:lnTo>
                      <a:pt x="12" y="312"/>
                    </a:lnTo>
                    <a:lnTo>
                      <a:pt x="9" y="620"/>
                    </a:lnTo>
                    <a:lnTo>
                      <a:pt x="4" y="923"/>
                    </a:lnTo>
                    <a:lnTo>
                      <a:pt x="1" y="1219"/>
                    </a:lnTo>
                    <a:lnTo>
                      <a:pt x="0" y="1362"/>
                    </a:lnTo>
                    <a:lnTo>
                      <a:pt x="0" y="1503"/>
                    </a:lnTo>
                    <a:lnTo>
                      <a:pt x="1" y="1641"/>
                    </a:lnTo>
                    <a:lnTo>
                      <a:pt x="2" y="1775"/>
                    </a:lnTo>
                    <a:lnTo>
                      <a:pt x="5" y="1905"/>
                    </a:lnTo>
                    <a:lnTo>
                      <a:pt x="10" y="2032"/>
                    </a:lnTo>
                    <a:lnTo>
                      <a:pt x="16" y="2154"/>
                    </a:lnTo>
                    <a:lnTo>
                      <a:pt x="24" y="2272"/>
                    </a:lnTo>
                    <a:lnTo>
                      <a:pt x="84" y="2271"/>
                    </a:lnTo>
                    <a:lnTo>
                      <a:pt x="142" y="2266"/>
                    </a:lnTo>
                    <a:lnTo>
                      <a:pt x="197" y="2259"/>
                    </a:lnTo>
                    <a:lnTo>
                      <a:pt x="248" y="2249"/>
                    </a:lnTo>
                    <a:lnTo>
                      <a:pt x="298" y="2237"/>
                    </a:lnTo>
                    <a:lnTo>
                      <a:pt x="345" y="2223"/>
                    </a:lnTo>
                    <a:lnTo>
                      <a:pt x="389" y="2207"/>
                    </a:lnTo>
                    <a:lnTo>
                      <a:pt x="431" y="2188"/>
                    </a:lnTo>
                    <a:lnTo>
                      <a:pt x="469" y="2168"/>
                    </a:lnTo>
                    <a:lnTo>
                      <a:pt x="507" y="2146"/>
                    </a:lnTo>
                    <a:lnTo>
                      <a:pt x="542" y="2123"/>
                    </a:lnTo>
                    <a:lnTo>
                      <a:pt x="575" y="2098"/>
                    </a:lnTo>
                    <a:lnTo>
                      <a:pt x="607" y="2072"/>
                    </a:lnTo>
                    <a:lnTo>
                      <a:pt x="637" y="2046"/>
                    </a:lnTo>
                    <a:lnTo>
                      <a:pt x="664" y="2018"/>
                    </a:lnTo>
                    <a:lnTo>
                      <a:pt x="692" y="1990"/>
                    </a:lnTo>
                    <a:lnTo>
                      <a:pt x="716" y="1961"/>
                    </a:lnTo>
                    <a:lnTo>
                      <a:pt x="740" y="1932"/>
                    </a:lnTo>
                    <a:lnTo>
                      <a:pt x="762" y="1903"/>
                    </a:lnTo>
                    <a:lnTo>
                      <a:pt x="784" y="1874"/>
                    </a:lnTo>
                    <a:lnTo>
                      <a:pt x="824" y="1815"/>
                    </a:lnTo>
                    <a:lnTo>
                      <a:pt x="860" y="1758"/>
                    </a:lnTo>
                    <a:lnTo>
                      <a:pt x="896" y="1705"/>
                    </a:lnTo>
                    <a:lnTo>
                      <a:pt x="929" y="1656"/>
                    </a:lnTo>
                    <a:lnTo>
                      <a:pt x="946" y="1633"/>
                    </a:lnTo>
                    <a:lnTo>
                      <a:pt x="962" y="1611"/>
                    </a:lnTo>
                    <a:lnTo>
                      <a:pt x="979" y="1592"/>
                    </a:lnTo>
                    <a:lnTo>
                      <a:pt x="995" y="1575"/>
                    </a:lnTo>
                    <a:lnTo>
                      <a:pt x="1011" y="1476"/>
                    </a:lnTo>
                    <a:lnTo>
                      <a:pt x="1026" y="1391"/>
                    </a:lnTo>
                    <a:lnTo>
                      <a:pt x="1039" y="1318"/>
                    </a:lnTo>
                    <a:lnTo>
                      <a:pt x="1052" y="1256"/>
                    </a:lnTo>
                    <a:lnTo>
                      <a:pt x="1063" y="1205"/>
                    </a:lnTo>
                    <a:lnTo>
                      <a:pt x="1074" y="1164"/>
                    </a:lnTo>
                    <a:lnTo>
                      <a:pt x="1083" y="1131"/>
                    </a:lnTo>
                    <a:lnTo>
                      <a:pt x="1091" y="1106"/>
                    </a:lnTo>
                    <a:lnTo>
                      <a:pt x="1098" y="1087"/>
                    </a:lnTo>
                    <a:lnTo>
                      <a:pt x="1102" y="1075"/>
                    </a:lnTo>
                    <a:lnTo>
                      <a:pt x="1106" y="1068"/>
                    </a:lnTo>
                    <a:lnTo>
                      <a:pt x="1108" y="1066"/>
                    </a:lnTo>
                    <a:lnTo>
                      <a:pt x="1108" y="1067"/>
                    </a:lnTo>
                    <a:lnTo>
                      <a:pt x="1107" y="1070"/>
                    </a:lnTo>
                    <a:lnTo>
                      <a:pt x="1103" y="1075"/>
                    </a:lnTo>
                    <a:lnTo>
                      <a:pt x="1098" y="1081"/>
                    </a:lnTo>
                    <a:lnTo>
                      <a:pt x="1091" y="1087"/>
                    </a:lnTo>
                    <a:lnTo>
                      <a:pt x="1082" y="1092"/>
                    </a:lnTo>
                    <a:lnTo>
                      <a:pt x="1070" y="1095"/>
                    </a:lnTo>
                    <a:lnTo>
                      <a:pt x="1057" y="1097"/>
                    </a:lnTo>
                    <a:lnTo>
                      <a:pt x="1042" y="1094"/>
                    </a:lnTo>
                    <a:lnTo>
                      <a:pt x="1024" y="1087"/>
                    </a:lnTo>
                    <a:lnTo>
                      <a:pt x="1003" y="1076"/>
                    </a:lnTo>
                    <a:lnTo>
                      <a:pt x="981" y="1058"/>
                    </a:lnTo>
                    <a:lnTo>
                      <a:pt x="956" y="1033"/>
                    </a:lnTo>
                    <a:lnTo>
                      <a:pt x="929" y="1000"/>
                    </a:lnTo>
                    <a:lnTo>
                      <a:pt x="898" y="959"/>
                    </a:lnTo>
                    <a:lnTo>
                      <a:pt x="865" y="907"/>
                    </a:lnTo>
                    <a:lnTo>
                      <a:pt x="830" y="847"/>
                    </a:lnTo>
                    <a:lnTo>
                      <a:pt x="791" y="774"/>
                    </a:lnTo>
                    <a:lnTo>
                      <a:pt x="750" y="689"/>
                    </a:lnTo>
                    <a:lnTo>
                      <a:pt x="707" y="591"/>
                    </a:lnTo>
                    <a:lnTo>
                      <a:pt x="670" y="588"/>
                    </a:lnTo>
                    <a:lnTo>
                      <a:pt x="636" y="582"/>
                    </a:lnTo>
                    <a:lnTo>
                      <a:pt x="603" y="575"/>
                    </a:lnTo>
                    <a:lnTo>
                      <a:pt x="571" y="567"/>
                    </a:lnTo>
                    <a:lnTo>
                      <a:pt x="539" y="558"/>
                    </a:lnTo>
                    <a:lnTo>
                      <a:pt x="509" y="548"/>
                    </a:lnTo>
                    <a:lnTo>
                      <a:pt x="480" y="536"/>
                    </a:lnTo>
                    <a:lnTo>
                      <a:pt x="452" y="524"/>
                    </a:lnTo>
                    <a:lnTo>
                      <a:pt x="425" y="510"/>
                    </a:lnTo>
                    <a:lnTo>
                      <a:pt x="399" y="496"/>
                    </a:lnTo>
                    <a:lnTo>
                      <a:pt x="373" y="481"/>
                    </a:lnTo>
                    <a:lnTo>
                      <a:pt x="349" y="465"/>
                    </a:lnTo>
                    <a:lnTo>
                      <a:pt x="325" y="447"/>
                    </a:lnTo>
                    <a:lnTo>
                      <a:pt x="302" y="429"/>
                    </a:lnTo>
                    <a:lnTo>
                      <a:pt x="279" y="410"/>
                    </a:lnTo>
                    <a:lnTo>
                      <a:pt x="259" y="390"/>
                    </a:lnTo>
                    <a:lnTo>
                      <a:pt x="238" y="370"/>
                    </a:lnTo>
                    <a:lnTo>
                      <a:pt x="219" y="348"/>
                    </a:lnTo>
                    <a:lnTo>
                      <a:pt x="199" y="326"/>
                    </a:lnTo>
                    <a:lnTo>
                      <a:pt x="181" y="304"/>
                    </a:lnTo>
                    <a:lnTo>
                      <a:pt x="164" y="281"/>
                    </a:lnTo>
                    <a:lnTo>
                      <a:pt x="147" y="257"/>
                    </a:lnTo>
                    <a:lnTo>
                      <a:pt x="131" y="233"/>
                    </a:lnTo>
                    <a:lnTo>
                      <a:pt x="116" y="209"/>
                    </a:lnTo>
                    <a:lnTo>
                      <a:pt x="101" y="184"/>
                    </a:lnTo>
                    <a:lnTo>
                      <a:pt x="86" y="159"/>
                    </a:lnTo>
                    <a:lnTo>
                      <a:pt x="73" y="133"/>
                    </a:lnTo>
                    <a:lnTo>
                      <a:pt x="60" y="106"/>
                    </a:lnTo>
                    <a:lnTo>
                      <a:pt x="36" y="5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2581200" y="4206960"/>
                <a:ext cx="28800" cy="731880"/>
              </a:xfrm>
              <a:custGeom>
                <a:avLst/>
                <a:gdLst/>
                <a:ahLst/>
                <a:rect l="l" t="t" r="r" b="b"/>
                <a:pathLst>
                  <a:path w="90" h="2306">
                    <a:moveTo>
                      <a:pt x="57" y="2239"/>
                    </a:moveTo>
                    <a:lnTo>
                      <a:pt x="90" y="2269"/>
                    </a:lnTo>
                    <a:lnTo>
                      <a:pt x="82" y="2153"/>
                    </a:lnTo>
                    <a:lnTo>
                      <a:pt x="76" y="2031"/>
                    </a:lnTo>
                    <a:lnTo>
                      <a:pt x="72" y="1905"/>
                    </a:lnTo>
                    <a:lnTo>
                      <a:pt x="69" y="1774"/>
                    </a:lnTo>
                    <a:lnTo>
                      <a:pt x="67" y="1641"/>
                    </a:lnTo>
                    <a:lnTo>
                      <a:pt x="67" y="1503"/>
                    </a:lnTo>
                    <a:lnTo>
                      <a:pt x="67" y="1362"/>
                    </a:lnTo>
                    <a:lnTo>
                      <a:pt x="68" y="1219"/>
                    </a:lnTo>
                    <a:lnTo>
                      <a:pt x="72" y="923"/>
                    </a:lnTo>
                    <a:lnTo>
                      <a:pt x="75" y="621"/>
                    </a:lnTo>
                    <a:lnTo>
                      <a:pt x="78" y="312"/>
                    </a:lnTo>
                    <a:lnTo>
                      <a:pt x="81" y="0"/>
                    </a:lnTo>
                    <a:lnTo>
                      <a:pt x="13" y="0"/>
                    </a:lnTo>
                    <a:lnTo>
                      <a:pt x="11" y="312"/>
                    </a:lnTo>
                    <a:lnTo>
                      <a:pt x="8" y="620"/>
                    </a:lnTo>
                    <a:lnTo>
                      <a:pt x="4" y="923"/>
                    </a:lnTo>
                    <a:lnTo>
                      <a:pt x="1" y="1219"/>
                    </a:lnTo>
                    <a:lnTo>
                      <a:pt x="0" y="1362"/>
                    </a:lnTo>
                    <a:lnTo>
                      <a:pt x="0" y="1503"/>
                    </a:lnTo>
                    <a:lnTo>
                      <a:pt x="0" y="1641"/>
                    </a:lnTo>
                    <a:lnTo>
                      <a:pt x="2" y="1775"/>
                    </a:lnTo>
                    <a:lnTo>
                      <a:pt x="4" y="1907"/>
                    </a:lnTo>
                    <a:lnTo>
                      <a:pt x="9" y="2033"/>
                    </a:lnTo>
                    <a:lnTo>
                      <a:pt x="15" y="2156"/>
                    </a:lnTo>
                    <a:lnTo>
                      <a:pt x="23" y="2274"/>
                    </a:lnTo>
                    <a:lnTo>
                      <a:pt x="57" y="2306"/>
                    </a:lnTo>
                    <a:lnTo>
                      <a:pt x="23" y="2274"/>
                    </a:lnTo>
                    <a:lnTo>
                      <a:pt x="24" y="2282"/>
                    </a:lnTo>
                    <a:lnTo>
                      <a:pt x="27" y="2289"/>
                    </a:lnTo>
                    <a:lnTo>
                      <a:pt x="31" y="2295"/>
                    </a:lnTo>
                    <a:lnTo>
                      <a:pt x="35" y="2299"/>
                    </a:lnTo>
                    <a:lnTo>
                      <a:pt x="41" y="2302"/>
                    </a:lnTo>
                    <a:lnTo>
                      <a:pt x="46" y="2305"/>
                    </a:lnTo>
                    <a:lnTo>
                      <a:pt x="52" y="2306"/>
                    </a:lnTo>
                    <a:lnTo>
                      <a:pt x="59" y="2306"/>
                    </a:lnTo>
                    <a:lnTo>
                      <a:pt x="65" y="2305"/>
                    </a:lnTo>
                    <a:lnTo>
                      <a:pt x="70" y="2302"/>
                    </a:lnTo>
                    <a:lnTo>
                      <a:pt x="76" y="2299"/>
                    </a:lnTo>
                    <a:lnTo>
                      <a:pt x="82" y="2296"/>
                    </a:lnTo>
                    <a:lnTo>
                      <a:pt x="85" y="2290"/>
                    </a:lnTo>
                    <a:lnTo>
                      <a:pt x="89" y="2284"/>
                    </a:lnTo>
                    <a:lnTo>
                      <a:pt x="90" y="2277"/>
                    </a:lnTo>
                    <a:lnTo>
                      <a:pt x="90" y="2269"/>
                    </a:lnTo>
                    <a:lnTo>
                      <a:pt x="57" y="22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2598840" y="4695840"/>
                <a:ext cx="318960" cy="243000"/>
              </a:xfrm>
              <a:custGeom>
                <a:avLst/>
                <a:gdLst/>
                <a:ahLst/>
                <a:rect l="l" t="t" r="r" b="b"/>
                <a:pathLst>
                  <a:path w="1005" h="766">
                    <a:moveTo>
                      <a:pt x="938" y="29"/>
                    </a:moveTo>
                    <a:lnTo>
                      <a:pt x="948" y="11"/>
                    </a:lnTo>
                    <a:lnTo>
                      <a:pt x="930" y="29"/>
                    </a:lnTo>
                    <a:lnTo>
                      <a:pt x="912" y="51"/>
                    </a:lnTo>
                    <a:lnTo>
                      <a:pt x="895" y="72"/>
                    </a:lnTo>
                    <a:lnTo>
                      <a:pt x="878" y="96"/>
                    </a:lnTo>
                    <a:lnTo>
                      <a:pt x="843" y="146"/>
                    </a:lnTo>
                    <a:lnTo>
                      <a:pt x="809" y="200"/>
                    </a:lnTo>
                    <a:lnTo>
                      <a:pt x="772" y="256"/>
                    </a:lnTo>
                    <a:lnTo>
                      <a:pt x="733" y="314"/>
                    </a:lnTo>
                    <a:lnTo>
                      <a:pt x="711" y="343"/>
                    </a:lnTo>
                    <a:lnTo>
                      <a:pt x="689" y="371"/>
                    </a:lnTo>
                    <a:lnTo>
                      <a:pt x="667" y="400"/>
                    </a:lnTo>
                    <a:lnTo>
                      <a:pt x="643" y="427"/>
                    </a:lnTo>
                    <a:lnTo>
                      <a:pt x="616" y="454"/>
                    </a:lnTo>
                    <a:lnTo>
                      <a:pt x="589" y="482"/>
                    </a:lnTo>
                    <a:lnTo>
                      <a:pt x="562" y="507"/>
                    </a:lnTo>
                    <a:lnTo>
                      <a:pt x="531" y="532"/>
                    </a:lnTo>
                    <a:lnTo>
                      <a:pt x="499" y="555"/>
                    </a:lnTo>
                    <a:lnTo>
                      <a:pt x="465" y="578"/>
                    </a:lnTo>
                    <a:lnTo>
                      <a:pt x="448" y="588"/>
                    </a:lnTo>
                    <a:lnTo>
                      <a:pt x="430" y="598"/>
                    </a:lnTo>
                    <a:lnTo>
                      <a:pt x="411" y="608"/>
                    </a:lnTo>
                    <a:lnTo>
                      <a:pt x="392" y="618"/>
                    </a:lnTo>
                    <a:lnTo>
                      <a:pt x="373" y="627"/>
                    </a:lnTo>
                    <a:lnTo>
                      <a:pt x="352" y="635"/>
                    </a:lnTo>
                    <a:lnTo>
                      <a:pt x="331" y="644"/>
                    </a:lnTo>
                    <a:lnTo>
                      <a:pt x="310" y="651"/>
                    </a:lnTo>
                    <a:lnTo>
                      <a:pt x="288" y="659"/>
                    </a:lnTo>
                    <a:lnTo>
                      <a:pt x="265" y="664"/>
                    </a:lnTo>
                    <a:lnTo>
                      <a:pt x="241" y="671"/>
                    </a:lnTo>
                    <a:lnTo>
                      <a:pt x="217" y="676"/>
                    </a:lnTo>
                    <a:lnTo>
                      <a:pt x="194" y="681"/>
                    </a:lnTo>
                    <a:lnTo>
                      <a:pt x="167" y="686"/>
                    </a:lnTo>
                    <a:lnTo>
                      <a:pt x="141" y="689"/>
                    </a:lnTo>
                    <a:lnTo>
                      <a:pt x="115" y="693"/>
                    </a:lnTo>
                    <a:lnTo>
                      <a:pt x="86" y="695"/>
                    </a:lnTo>
                    <a:lnTo>
                      <a:pt x="59" y="696"/>
                    </a:lnTo>
                    <a:lnTo>
                      <a:pt x="29" y="697"/>
                    </a:lnTo>
                    <a:lnTo>
                      <a:pt x="0" y="699"/>
                    </a:lnTo>
                    <a:lnTo>
                      <a:pt x="0" y="766"/>
                    </a:lnTo>
                    <a:lnTo>
                      <a:pt x="31" y="765"/>
                    </a:lnTo>
                    <a:lnTo>
                      <a:pt x="61" y="764"/>
                    </a:lnTo>
                    <a:lnTo>
                      <a:pt x="92" y="762"/>
                    </a:lnTo>
                    <a:lnTo>
                      <a:pt x="122" y="759"/>
                    </a:lnTo>
                    <a:lnTo>
                      <a:pt x="150" y="757"/>
                    </a:lnTo>
                    <a:lnTo>
                      <a:pt x="178" y="752"/>
                    </a:lnTo>
                    <a:lnTo>
                      <a:pt x="205" y="748"/>
                    </a:lnTo>
                    <a:lnTo>
                      <a:pt x="232" y="742"/>
                    </a:lnTo>
                    <a:lnTo>
                      <a:pt x="257" y="736"/>
                    </a:lnTo>
                    <a:lnTo>
                      <a:pt x="282" y="729"/>
                    </a:lnTo>
                    <a:lnTo>
                      <a:pt x="308" y="723"/>
                    </a:lnTo>
                    <a:lnTo>
                      <a:pt x="331" y="715"/>
                    </a:lnTo>
                    <a:lnTo>
                      <a:pt x="354" y="707"/>
                    </a:lnTo>
                    <a:lnTo>
                      <a:pt x="377" y="697"/>
                    </a:lnTo>
                    <a:lnTo>
                      <a:pt x="400" y="688"/>
                    </a:lnTo>
                    <a:lnTo>
                      <a:pt x="422" y="678"/>
                    </a:lnTo>
                    <a:lnTo>
                      <a:pt x="442" y="668"/>
                    </a:lnTo>
                    <a:lnTo>
                      <a:pt x="463" y="658"/>
                    </a:lnTo>
                    <a:lnTo>
                      <a:pt x="482" y="646"/>
                    </a:lnTo>
                    <a:lnTo>
                      <a:pt x="501" y="635"/>
                    </a:lnTo>
                    <a:lnTo>
                      <a:pt x="538" y="611"/>
                    </a:lnTo>
                    <a:lnTo>
                      <a:pt x="572" y="585"/>
                    </a:lnTo>
                    <a:lnTo>
                      <a:pt x="605" y="558"/>
                    </a:lnTo>
                    <a:lnTo>
                      <a:pt x="636" y="531"/>
                    </a:lnTo>
                    <a:lnTo>
                      <a:pt x="664" y="501"/>
                    </a:lnTo>
                    <a:lnTo>
                      <a:pt x="692" y="473"/>
                    </a:lnTo>
                    <a:lnTo>
                      <a:pt x="718" y="443"/>
                    </a:lnTo>
                    <a:lnTo>
                      <a:pt x="742" y="413"/>
                    </a:lnTo>
                    <a:lnTo>
                      <a:pt x="766" y="383"/>
                    </a:lnTo>
                    <a:lnTo>
                      <a:pt x="787" y="353"/>
                    </a:lnTo>
                    <a:lnTo>
                      <a:pt x="827" y="294"/>
                    </a:lnTo>
                    <a:lnTo>
                      <a:pt x="865" y="237"/>
                    </a:lnTo>
                    <a:lnTo>
                      <a:pt x="899" y="184"/>
                    </a:lnTo>
                    <a:lnTo>
                      <a:pt x="932" y="135"/>
                    </a:lnTo>
                    <a:lnTo>
                      <a:pt x="948" y="113"/>
                    </a:lnTo>
                    <a:lnTo>
                      <a:pt x="964" y="93"/>
                    </a:lnTo>
                    <a:lnTo>
                      <a:pt x="980" y="75"/>
                    </a:lnTo>
                    <a:lnTo>
                      <a:pt x="995" y="59"/>
                    </a:lnTo>
                    <a:lnTo>
                      <a:pt x="1005" y="39"/>
                    </a:lnTo>
                    <a:lnTo>
                      <a:pt x="995" y="59"/>
                    </a:lnTo>
                    <a:lnTo>
                      <a:pt x="1001" y="52"/>
                    </a:lnTo>
                    <a:lnTo>
                      <a:pt x="1004" y="46"/>
                    </a:lnTo>
                    <a:lnTo>
                      <a:pt x="1005" y="39"/>
                    </a:lnTo>
                    <a:lnTo>
                      <a:pt x="1005" y="33"/>
                    </a:lnTo>
                    <a:lnTo>
                      <a:pt x="1005" y="27"/>
                    </a:lnTo>
                    <a:lnTo>
                      <a:pt x="1003" y="21"/>
                    </a:lnTo>
                    <a:lnTo>
                      <a:pt x="1000" y="15"/>
                    </a:lnTo>
                    <a:lnTo>
                      <a:pt x="995" y="11"/>
                    </a:lnTo>
                    <a:lnTo>
                      <a:pt x="990" y="6"/>
                    </a:lnTo>
                    <a:lnTo>
                      <a:pt x="986" y="3"/>
                    </a:lnTo>
                    <a:lnTo>
                      <a:pt x="979" y="2"/>
                    </a:lnTo>
                    <a:lnTo>
                      <a:pt x="973" y="0"/>
                    </a:lnTo>
                    <a:lnTo>
                      <a:pt x="966" y="0"/>
                    </a:lnTo>
                    <a:lnTo>
                      <a:pt x="961" y="2"/>
                    </a:lnTo>
                    <a:lnTo>
                      <a:pt x="954" y="5"/>
                    </a:lnTo>
                    <a:lnTo>
                      <a:pt x="948" y="11"/>
                    </a:lnTo>
                    <a:lnTo>
                      <a:pt x="938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2805120" y="4384800"/>
                <a:ext cx="147600" cy="323640"/>
              </a:xfrm>
              <a:custGeom>
                <a:avLst/>
                <a:gdLst/>
                <a:ahLst/>
                <a:rect l="l" t="t" r="r" b="b"/>
                <a:pathLst>
                  <a:path w="468" h="1021">
                    <a:moveTo>
                      <a:pt x="31" y="67"/>
                    </a:moveTo>
                    <a:lnTo>
                      <a:pt x="3" y="47"/>
                    </a:lnTo>
                    <a:lnTo>
                      <a:pt x="25" y="98"/>
                    </a:lnTo>
                    <a:lnTo>
                      <a:pt x="48" y="145"/>
                    </a:lnTo>
                    <a:lnTo>
                      <a:pt x="69" y="189"/>
                    </a:lnTo>
                    <a:lnTo>
                      <a:pt x="89" y="231"/>
                    </a:lnTo>
                    <a:lnTo>
                      <a:pt x="109" y="269"/>
                    </a:lnTo>
                    <a:lnTo>
                      <a:pt x="128" y="305"/>
                    </a:lnTo>
                    <a:lnTo>
                      <a:pt x="146" y="337"/>
                    </a:lnTo>
                    <a:lnTo>
                      <a:pt x="165" y="367"/>
                    </a:lnTo>
                    <a:lnTo>
                      <a:pt x="182" y="395"/>
                    </a:lnTo>
                    <a:lnTo>
                      <a:pt x="199" y="420"/>
                    </a:lnTo>
                    <a:lnTo>
                      <a:pt x="215" y="442"/>
                    </a:lnTo>
                    <a:lnTo>
                      <a:pt x="230" y="462"/>
                    </a:lnTo>
                    <a:lnTo>
                      <a:pt x="244" y="480"/>
                    </a:lnTo>
                    <a:lnTo>
                      <a:pt x="259" y="498"/>
                    </a:lnTo>
                    <a:lnTo>
                      <a:pt x="273" y="512"/>
                    </a:lnTo>
                    <a:lnTo>
                      <a:pt x="287" y="525"/>
                    </a:lnTo>
                    <a:lnTo>
                      <a:pt x="299" y="535"/>
                    </a:lnTo>
                    <a:lnTo>
                      <a:pt x="312" y="545"/>
                    </a:lnTo>
                    <a:lnTo>
                      <a:pt x="324" y="553"/>
                    </a:lnTo>
                    <a:lnTo>
                      <a:pt x="337" y="560"/>
                    </a:lnTo>
                    <a:lnTo>
                      <a:pt x="348" y="565"/>
                    </a:lnTo>
                    <a:lnTo>
                      <a:pt x="361" y="569"/>
                    </a:lnTo>
                    <a:lnTo>
                      <a:pt x="372" y="572"/>
                    </a:lnTo>
                    <a:lnTo>
                      <a:pt x="383" y="573"/>
                    </a:lnTo>
                    <a:lnTo>
                      <a:pt x="394" y="573"/>
                    </a:lnTo>
                    <a:lnTo>
                      <a:pt x="404" y="572"/>
                    </a:lnTo>
                    <a:lnTo>
                      <a:pt x="414" y="568"/>
                    </a:lnTo>
                    <a:lnTo>
                      <a:pt x="424" y="565"/>
                    </a:lnTo>
                    <a:lnTo>
                      <a:pt x="438" y="557"/>
                    </a:lnTo>
                    <a:lnTo>
                      <a:pt x="450" y="547"/>
                    </a:lnTo>
                    <a:lnTo>
                      <a:pt x="458" y="537"/>
                    </a:lnTo>
                    <a:lnTo>
                      <a:pt x="463" y="528"/>
                    </a:lnTo>
                    <a:lnTo>
                      <a:pt x="468" y="519"/>
                    </a:lnTo>
                    <a:lnTo>
                      <a:pt x="413" y="483"/>
                    </a:lnTo>
                    <a:lnTo>
                      <a:pt x="404" y="494"/>
                    </a:lnTo>
                    <a:lnTo>
                      <a:pt x="399" y="503"/>
                    </a:lnTo>
                    <a:lnTo>
                      <a:pt x="394" y="518"/>
                    </a:lnTo>
                    <a:lnTo>
                      <a:pt x="387" y="537"/>
                    </a:lnTo>
                    <a:lnTo>
                      <a:pt x="379" y="564"/>
                    </a:lnTo>
                    <a:lnTo>
                      <a:pt x="370" y="597"/>
                    </a:lnTo>
                    <a:lnTo>
                      <a:pt x="359" y="640"/>
                    </a:lnTo>
                    <a:lnTo>
                      <a:pt x="347" y="691"/>
                    </a:lnTo>
                    <a:lnTo>
                      <a:pt x="334" y="754"/>
                    </a:lnTo>
                    <a:lnTo>
                      <a:pt x="321" y="827"/>
                    </a:lnTo>
                    <a:lnTo>
                      <a:pt x="306" y="913"/>
                    </a:lnTo>
                    <a:lnTo>
                      <a:pt x="290" y="1011"/>
                    </a:lnTo>
                    <a:lnTo>
                      <a:pt x="357" y="1021"/>
                    </a:lnTo>
                    <a:lnTo>
                      <a:pt x="372" y="923"/>
                    </a:lnTo>
                    <a:lnTo>
                      <a:pt x="387" y="839"/>
                    </a:lnTo>
                    <a:lnTo>
                      <a:pt x="401" y="767"/>
                    </a:lnTo>
                    <a:lnTo>
                      <a:pt x="413" y="705"/>
                    </a:lnTo>
                    <a:lnTo>
                      <a:pt x="424" y="655"/>
                    </a:lnTo>
                    <a:lnTo>
                      <a:pt x="435" y="614"/>
                    </a:lnTo>
                    <a:lnTo>
                      <a:pt x="444" y="582"/>
                    </a:lnTo>
                    <a:lnTo>
                      <a:pt x="451" y="558"/>
                    </a:lnTo>
                    <a:lnTo>
                      <a:pt x="458" y="541"/>
                    </a:lnTo>
                    <a:lnTo>
                      <a:pt x="461" y="531"/>
                    </a:lnTo>
                    <a:lnTo>
                      <a:pt x="463" y="526"/>
                    </a:lnTo>
                    <a:lnTo>
                      <a:pt x="458" y="533"/>
                    </a:lnTo>
                    <a:lnTo>
                      <a:pt x="404" y="499"/>
                    </a:lnTo>
                    <a:lnTo>
                      <a:pt x="405" y="495"/>
                    </a:lnTo>
                    <a:lnTo>
                      <a:pt x="404" y="496"/>
                    </a:lnTo>
                    <a:lnTo>
                      <a:pt x="402" y="499"/>
                    </a:lnTo>
                    <a:lnTo>
                      <a:pt x="399" y="501"/>
                    </a:lnTo>
                    <a:lnTo>
                      <a:pt x="394" y="504"/>
                    </a:lnTo>
                    <a:lnTo>
                      <a:pt x="394" y="504"/>
                    </a:lnTo>
                    <a:lnTo>
                      <a:pt x="391" y="504"/>
                    </a:lnTo>
                    <a:lnTo>
                      <a:pt x="389" y="505"/>
                    </a:lnTo>
                    <a:lnTo>
                      <a:pt x="387" y="505"/>
                    </a:lnTo>
                    <a:lnTo>
                      <a:pt x="382" y="504"/>
                    </a:lnTo>
                    <a:lnTo>
                      <a:pt x="378" y="503"/>
                    </a:lnTo>
                    <a:lnTo>
                      <a:pt x="373" y="502"/>
                    </a:lnTo>
                    <a:lnTo>
                      <a:pt x="366" y="500"/>
                    </a:lnTo>
                    <a:lnTo>
                      <a:pt x="359" y="495"/>
                    </a:lnTo>
                    <a:lnTo>
                      <a:pt x="350" y="490"/>
                    </a:lnTo>
                    <a:lnTo>
                      <a:pt x="341" y="483"/>
                    </a:lnTo>
                    <a:lnTo>
                      <a:pt x="331" y="475"/>
                    </a:lnTo>
                    <a:lnTo>
                      <a:pt x="321" y="464"/>
                    </a:lnTo>
                    <a:lnTo>
                      <a:pt x="308" y="452"/>
                    </a:lnTo>
                    <a:lnTo>
                      <a:pt x="297" y="437"/>
                    </a:lnTo>
                    <a:lnTo>
                      <a:pt x="283" y="421"/>
                    </a:lnTo>
                    <a:lnTo>
                      <a:pt x="268" y="403"/>
                    </a:lnTo>
                    <a:lnTo>
                      <a:pt x="253" y="381"/>
                    </a:lnTo>
                    <a:lnTo>
                      <a:pt x="239" y="358"/>
                    </a:lnTo>
                    <a:lnTo>
                      <a:pt x="223" y="332"/>
                    </a:lnTo>
                    <a:lnTo>
                      <a:pt x="206" y="304"/>
                    </a:lnTo>
                    <a:lnTo>
                      <a:pt x="187" y="272"/>
                    </a:lnTo>
                    <a:lnTo>
                      <a:pt x="169" y="237"/>
                    </a:lnTo>
                    <a:lnTo>
                      <a:pt x="150" y="201"/>
                    </a:lnTo>
                    <a:lnTo>
                      <a:pt x="129" y="160"/>
                    </a:lnTo>
                    <a:lnTo>
                      <a:pt x="109" y="116"/>
                    </a:lnTo>
                    <a:lnTo>
                      <a:pt x="87" y="70"/>
                    </a:lnTo>
                    <a:lnTo>
                      <a:pt x="65" y="19"/>
                    </a:lnTo>
                    <a:lnTo>
                      <a:pt x="37" y="0"/>
                    </a:lnTo>
                    <a:lnTo>
                      <a:pt x="65" y="19"/>
                    </a:lnTo>
                    <a:lnTo>
                      <a:pt x="61" y="13"/>
                    </a:lnTo>
                    <a:lnTo>
                      <a:pt x="56" y="8"/>
                    </a:lnTo>
                    <a:lnTo>
                      <a:pt x="51" y="4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9"/>
                    </a:lnTo>
                    <a:lnTo>
                      <a:pt x="6" y="14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3" y="47"/>
                    </a:lnTo>
                    <a:lnTo>
                      <a:pt x="31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2584440" y="4195800"/>
                <a:ext cx="231840" cy="209520"/>
              </a:xfrm>
              <a:custGeom>
                <a:avLst/>
                <a:gdLst/>
                <a:ahLst/>
                <a:rect l="l" t="t" r="r" b="b"/>
                <a:pathLst>
                  <a:path w="730" h="659">
                    <a:moveTo>
                      <a:pt x="69" y="34"/>
                    </a:moveTo>
                    <a:lnTo>
                      <a:pt x="4" y="47"/>
                    </a:lnTo>
                    <a:lnTo>
                      <a:pt x="26" y="102"/>
                    </a:lnTo>
                    <a:lnTo>
                      <a:pt x="50" y="155"/>
                    </a:lnTo>
                    <a:lnTo>
                      <a:pt x="64" y="181"/>
                    </a:lnTo>
                    <a:lnTo>
                      <a:pt x="78" y="209"/>
                    </a:lnTo>
                    <a:lnTo>
                      <a:pt x="93" y="234"/>
                    </a:lnTo>
                    <a:lnTo>
                      <a:pt x="107" y="260"/>
                    </a:lnTo>
                    <a:lnTo>
                      <a:pt x="123" y="285"/>
                    </a:lnTo>
                    <a:lnTo>
                      <a:pt x="140" y="310"/>
                    </a:lnTo>
                    <a:lnTo>
                      <a:pt x="158" y="334"/>
                    </a:lnTo>
                    <a:lnTo>
                      <a:pt x="176" y="358"/>
                    </a:lnTo>
                    <a:lnTo>
                      <a:pt x="194" y="382"/>
                    </a:lnTo>
                    <a:lnTo>
                      <a:pt x="215" y="405"/>
                    </a:lnTo>
                    <a:lnTo>
                      <a:pt x="235" y="427"/>
                    </a:lnTo>
                    <a:lnTo>
                      <a:pt x="256" y="448"/>
                    </a:lnTo>
                    <a:lnTo>
                      <a:pt x="278" y="469"/>
                    </a:lnTo>
                    <a:lnTo>
                      <a:pt x="301" y="488"/>
                    </a:lnTo>
                    <a:lnTo>
                      <a:pt x="325" y="508"/>
                    </a:lnTo>
                    <a:lnTo>
                      <a:pt x="350" y="526"/>
                    </a:lnTo>
                    <a:lnTo>
                      <a:pt x="375" y="543"/>
                    </a:lnTo>
                    <a:lnTo>
                      <a:pt x="403" y="559"/>
                    </a:lnTo>
                    <a:lnTo>
                      <a:pt x="430" y="575"/>
                    </a:lnTo>
                    <a:lnTo>
                      <a:pt x="459" y="589"/>
                    </a:lnTo>
                    <a:lnTo>
                      <a:pt x="488" y="602"/>
                    </a:lnTo>
                    <a:lnTo>
                      <a:pt x="519" y="614"/>
                    </a:lnTo>
                    <a:lnTo>
                      <a:pt x="551" y="625"/>
                    </a:lnTo>
                    <a:lnTo>
                      <a:pt x="583" y="634"/>
                    </a:lnTo>
                    <a:lnTo>
                      <a:pt x="617" y="642"/>
                    </a:lnTo>
                    <a:lnTo>
                      <a:pt x="651" y="649"/>
                    </a:lnTo>
                    <a:lnTo>
                      <a:pt x="687" y="655"/>
                    </a:lnTo>
                    <a:lnTo>
                      <a:pt x="724" y="659"/>
                    </a:lnTo>
                    <a:lnTo>
                      <a:pt x="730" y="592"/>
                    </a:lnTo>
                    <a:lnTo>
                      <a:pt x="696" y="588"/>
                    </a:lnTo>
                    <a:lnTo>
                      <a:pt x="663" y="583"/>
                    </a:lnTo>
                    <a:lnTo>
                      <a:pt x="632" y="576"/>
                    </a:lnTo>
                    <a:lnTo>
                      <a:pt x="601" y="569"/>
                    </a:lnTo>
                    <a:lnTo>
                      <a:pt x="570" y="560"/>
                    </a:lnTo>
                    <a:lnTo>
                      <a:pt x="542" y="551"/>
                    </a:lnTo>
                    <a:lnTo>
                      <a:pt x="514" y="540"/>
                    </a:lnTo>
                    <a:lnTo>
                      <a:pt x="487" y="528"/>
                    </a:lnTo>
                    <a:lnTo>
                      <a:pt x="461" y="515"/>
                    </a:lnTo>
                    <a:lnTo>
                      <a:pt x="436" y="501"/>
                    </a:lnTo>
                    <a:lnTo>
                      <a:pt x="412" y="486"/>
                    </a:lnTo>
                    <a:lnTo>
                      <a:pt x="389" y="470"/>
                    </a:lnTo>
                    <a:lnTo>
                      <a:pt x="366" y="454"/>
                    </a:lnTo>
                    <a:lnTo>
                      <a:pt x="345" y="437"/>
                    </a:lnTo>
                    <a:lnTo>
                      <a:pt x="323" y="419"/>
                    </a:lnTo>
                    <a:lnTo>
                      <a:pt x="302" y="399"/>
                    </a:lnTo>
                    <a:lnTo>
                      <a:pt x="283" y="380"/>
                    </a:lnTo>
                    <a:lnTo>
                      <a:pt x="265" y="359"/>
                    </a:lnTo>
                    <a:lnTo>
                      <a:pt x="247" y="339"/>
                    </a:lnTo>
                    <a:lnTo>
                      <a:pt x="229" y="317"/>
                    </a:lnTo>
                    <a:lnTo>
                      <a:pt x="212" y="295"/>
                    </a:lnTo>
                    <a:lnTo>
                      <a:pt x="196" y="273"/>
                    </a:lnTo>
                    <a:lnTo>
                      <a:pt x="180" y="249"/>
                    </a:lnTo>
                    <a:lnTo>
                      <a:pt x="166" y="225"/>
                    </a:lnTo>
                    <a:lnTo>
                      <a:pt x="151" y="201"/>
                    </a:lnTo>
                    <a:lnTo>
                      <a:pt x="137" y="176"/>
                    </a:lnTo>
                    <a:lnTo>
                      <a:pt x="125" y="152"/>
                    </a:lnTo>
                    <a:lnTo>
                      <a:pt x="112" y="125"/>
                    </a:lnTo>
                    <a:lnTo>
                      <a:pt x="88" y="74"/>
                    </a:lnTo>
                    <a:lnTo>
                      <a:pt x="66" y="22"/>
                    </a:lnTo>
                    <a:lnTo>
                      <a:pt x="1" y="34"/>
                    </a:lnTo>
                    <a:lnTo>
                      <a:pt x="66" y="22"/>
                    </a:lnTo>
                    <a:lnTo>
                      <a:pt x="62" y="15"/>
                    </a:lnTo>
                    <a:lnTo>
                      <a:pt x="58" y="9"/>
                    </a:lnTo>
                    <a:lnTo>
                      <a:pt x="53" y="5"/>
                    </a:lnTo>
                    <a:lnTo>
                      <a:pt x="47" y="2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1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2" y="9"/>
                    </a:lnTo>
                    <a:lnTo>
                      <a:pt x="7" y="14"/>
                    </a:lnTo>
                    <a:lnTo>
                      <a:pt x="4" y="19"/>
                    </a:lnTo>
                    <a:lnTo>
                      <a:pt x="1" y="25"/>
                    </a:lnTo>
                    <a:lnTo>
                      <a:pt x="0" y="32"/>
                    </a:lnTo>
                    <a:lnTo>
                      <a:pt x="1" y="39"/>
                    </a:lnTo>
                    <a:lnTo>
                      <a:pt x="4" y="47"/>
                    </a:ln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2897280" y="4119480"/>
                <a:ext cx="347400" cy="577800"/>
              </a:xfrm>
              <a:custGeom>
                <a:avLst/>
                <a:gdLst/>
                <a:ahLst/>
                <a:rect l="l" t="t" r="r" b="b"/>
                <a:pathLst>
                  <a:path w="1095" h="1818">
                    <a:moveTo>
                      <a:pt x="0" y="0"/>
                    </a:moveTo>
                    <a:lnTo>
                      <a:pt x="0" y="292"/>
                    </a:lnTo>
                    <a:lnTo>
                      <a:pt x="0" y="549"/>
                    </a:lnTo>
                    <a:lnTo>
                      <a:pt x="1" y="667"/>
                    </a:lnTo>
                    <a:lnTo>
                      <a:pt x="3" y="779"/>
                    </a:lnTo>
                    <a:lnTo>
                      <a:pt x="6" y="887"/>
                    </a:lnTo>
                    <a:lnTo>
                      <a:pt x="10" y="992"/>
                    </a:lnTo>
                    <a:lnTo>
                      <a:pt x="17" y="1093"/>
                    </a:lnTo>
                    <a:lnTo>
                      <a:pt x="25" y="1192"/>
                    </a:lnTo>
                    <a:lnTo>
                      <a:pt x="30" y="1243"/>
                    </a:lnTo>
                    <a:lnTo>
                      <a:pt x="36" y="1292"/>
                    </a:lnTo>
                    <a:lnTo>
                      <a:pt x="41" y="1342"/>
                    </a:lnTo>
                    <a:lnTo>
                      <a:pt x="48" y="1392"/>
                    </a:lnTo>
                    <a:lnTo>
                      <a:pt x="55" y="1442"/>
                    </a:lnTo>
                    <a:lnTo>
                      <a:pt x="63" y="1494"/>
                    </a:lnTo>
                    <a:lnTo>
                      <a:pt x="72" y="1545"/>
                    </a:lnTo>
                    <a:lnTo>
                      <a:pt x="81" y="1597"/>
                    </a:lnTo>
                    <a:lnTo>
                      <a:pt x="91" y="1651"/>
                    </a:lnTo>
                    <a:lnTo>
                      <a:pt x="103" y="1706"/>
                    </a:lnTo>
                    <a:lnTo>
                      <a:pt x="115" y="1761"/>
                    </a:lnTo>
                    <a:lnTo>
                      <a:pt x="128" y="1818"/>
                    </a:lnTo>
                    <a:lnTo>
                      <a:pt x="245" y="1817"/>
                    </a:lnTo>
                    <a:lnTo>
                      <a:pt x="348" y="1814"/>
                    </a:lnTo>
                    <a:lnTo>
                      <a:pt x="395" y="1813"/>
                    </a:lnTo>
                    <a:lnTo>
                      <a:pt x="438" y="1811"/>
                    </a:lnTo>
                    <a:lnTo>
                      <a:pt x="479" y="1809"/>
                    </a:lnTo>
                    <a:lnTo>
                      <a:pt x="517" y="1805"/>
                    </a:lnTo>
                    <a:lnTo>
                      <a:pt x="552" y="1802"/>
                    </a:lnTo>
                    <a:lnTo>
                      <a:pt x="585" y="1797"/>
                    </a:lnTo>
                    <a:lnTo>
                      <a:pt x="615" y="1793"/>
                    </a:lnTo>
                    <a:lnTo>
                      <a:pt x="643" y="1788"/>
                    </a:lnTo>
                    <a:lnTo>
                      <a:pt x="669" y="1782"/>
                    </a:lnTo>
                    <a:lnTo>
                      <a:pt x="693" y="1777"/>
                    </a:lnTo>
                    <a:lnTo>
                      <a:pt x="716" y="1770"/>
                    </a:lnTo>
                    <a:lnTo>
                      <a:pt x="737" y="1763"/>
                    </a:lnTo>
                    <a:lnTo>
                      <a:pt x="756" y="1755"/>
                    </a:lnTo>
                    <a:lnTo>
                      <a:pt x="774" y="1747"/>
                    </a:lnTo>
                    <a:lnTo>
                      <a:pt x="791" y="1739"/>
                    </a:lnTo>
                    <a:lnTo>
                      <a:pt x="807" y="1730"/>
                    </a:lnTo>
                    <a:lnTo>
                      <a:pt x="823" y="1720"/>
                    </a:lnTo>
                    <a:lnTo>
                      <a:pt x="838" y="1709"/>
                    </a:lnTo>
                    <a:lnTo>
                      <a:pt x="852" y="1699"/>
                    </a:lnTo>
                    <a:lnTo>
                      <a:pt x="865" y="1688"/>
                    </a:lnTo>
                    <a:lnTo>
                      <a:pt x="893" y="1663"/>
                    </a:lnTo>
                    <a:lnTo>
                      <a:pt x="920" y="1636"/>
                    </a:lnTo>
                    <a:lnTo>
                      <a:pt x="950" y="1607"/>
                    </a:lnTo>
                    <a:lnTo>
                      <a:pt x="982" y="1574"/>
                    </a:lnTo>
                    <a:lnTo>
                      <a:pt x="998" y="1475"/>
                    </a:lnTo>
                    <a:lnTo>
                      <a:pt x="1013" y="1391"/>
                    </a:lnTo>
                    <a:lnTo>
                      <a:pt x="1026" y="1318"/>
                    </a:lnTo>
                    <a:lnTo>
                      <a:pt x="1039" y="1256"/>
                    </a:lnTo>
                    <a:lnTo>
                      <a:pt x="1050" y="1205"/>
                    </a:lnTo>
                    <a:lnTo>
                      <a:pt x="1060" y="1164"/>
                    </a:lnTo>
                    <a:lnTo>
                      <a:pt x="1070" y="1131"/>
                    </a:lnTo>
                    <a:lnTo>
                      <a:pt x="1078" y="1106"/>
                    </a:lnTo>
                    <a:lnTo>
                      <a:pt x="1084" y="1088"/>
                    </a:lnTo>
                    <a:lnTo>
                      <a:pt x="1089" y="1075"/>
                    </a:lnTo>
                    <a:lnTo>
                      <a:pt x="1092" y="1068"/>
                    </a:lnTo>
                    <a:lnTo>
                      <a:pt x="1095" y="1066"/>
                    </a:lnTo>
                    <a:lnTo>
                      <a:pt x="1095" y="1066"/>
                    </a:lnTo>
                    <a:lnTo>
                      <a:pt x="1092" y="1069"/>
                    </a:lnTo>
                    <a:lnTo>
                      <a:pt x="1089" y="1075"/>
                    </a:lnTo>
                    <a:lnTo>
                      <a:pt x="1084" y="1081"/>
                    </a:lnTo>
                    <a:lnTo>
                      <a:pt x="1078" y="1088"/>
                    </a:lnTo>
                    <a:lnTo>
                      <a:pt x="1068" y="1092"/>
                    </a:lnTo>
                    <a:lnTo>
                      <a:pt x="1057" y="1097"/>
                    </a:lnTo>
                    <a:lnTo>
                      <a:pt x="1043" y="1098"/>
                    </a:lnTo>
                    <a:lnTo>
                      <a:pt x="1027" y="1094"/>
                    </a:lnTo>
                    <a:lnTo>
                      <a:pt x="1010" y="1089"/>
                    </a:lnTo>
                    <a:lnTo>
                      <a:pt x="990" y="1076"/>
                    </a:lnTo>
                    <a:lnTo>
                      <a:pt x="967" y="1058"/>
                    </a:lnTo>
                    <a:lnTo>
                      <a:pt x="942" y="1034"/>
                    </a:lnTo>
                    <a:lnTo>
                      <a:pt x="915" y="1001"/>
                    </a:lnTo>
                    <a:lnTo>
                      <a:pt x="885" y="960"/>
                    </a:lnTo>
                    <a:lnTo>
                      <a:pt x="852" y="908"/>
                    </a:lnTo>
                    <a:lnTo>
                      <a:pt x="816" y="848"/>
                    </a:lnTo>
                    <a:lnTo>
                      <a:pt x="778" y="776"/>
                    </a:lnTo>
                    <a:lnTo>
                      <a:pt x="737" y="692"/>
                    </a:lnTo>
                    <a:lnTo>
                      <a:pt x="692" y="593"/>
                    </a:lnTo>
                    <a:lnTo>
                      <a:pt x="657" y="590"/>
                    </a:lnTo>
                    <a:lnTo>
                      <a:pt x="623" y="584"/>
                    </a:lnTo>
                    <a:lnTo>
                      <a:pt x="590" y="578"/>
                    </a:lnTo>
                    <a:lnTo>
                      <a:pt x="558" y="570"/>
                    </a:lnTo>
                    <a:lnTo>
                      <a:pt x="526" y="560"/>
                    </a:lnTo>
                    <a:lnTo>
                      <a:pt x="496" y="550"/>
                    </a:lnTo>
                    <a:lnTo>
                      <a:pt x="466" y="539"/>
                    </a:lnTo>
                    <a:lnTo>
                      <a:pt x="438" y="526"/>
                    </a:lnTo>
                    <a:lnTo>
                      <a:pt x="411" y="512"/>
                    </a:lnTo>
                    <a:lnTo>
                      <a:pt x="384" y="498"/>
                    </a:lnTo>
                    <a:lnTo>
                      <a:pt x="359" y="482"/>
                    </a:lnTo>
                    <a:lnTo>
                      <a:pt x="334" y="466"/>
                    </a:lnTo>
                    <a:lnTo>
                      <a:pt x="311" y="449"/>
                    </a:lnTo>
                    <a:lnTo>
                      <a:pt x="289" y="430"/>
                    </a:lnTo>
                    <a:lnTo>
                      <a:pt x="266" y="411"/>
                    </a:lnTo>
                    <a:lnTo>
                      <a:pt x="245" y="390"/>
                    </a:lnTo>
                    <a:lnTo>
                      <a:pt x="225" y="370"/>
                    </a:lnTo>
                    <a:lnTo>
                      <a:pt x="205" y="349"/>
                    </a:lnTo>
                    <a:lnTo>
                      <a:pt x="186" y="327"/>
                    </a:lnTo>
                    <a:lnTo>
                      <a:pt x="168" y="305"/>
                    </a:lnTo>
                    <a:lnTo>
                      <a:pt x="151" y="281"/>
                    </a:lnTo>
                    <a:lnTo>
                      <a:pt x="134" y="258"/>
                    </a:lnTo>
                    <a:lnTo>
                      <a:pt x="118" y="233"/>
                    </a:lnTo>
                    <a:lnTo>
                      <a:pt x="102" y="209"/>
                    </a:lnTo>
                    <a:lnTo>
                      <a:pt x="87" y="184"/>
                    </a:lnTo>
                    <a:lnTo>
                      <a:pt x="73" y="158"/>
                    </a:lnTo>
                    <a:lnTo>
                      <a:pt x="60" y="133"/>
                    </a:lnTo>
                    <a:lnTo>
                      <a:pt x="47" y="106"/>
                    </a:lnTo>
                    <a:lnTo>
                      <a:pt x="22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2886120" y="4119480"/>
                <a:ext cx="61920" cy="588960"/>
              </a:xfrm>
              <a:custGeom>
                <a:avLst/>
                <a:gdLst/>
                <a:ahLst/>
                <a:rect l="l" t="t" r="r" b="b"/>
                <a:pathLst>
                  <a:path w="196" h="1852">
                    <a:moveTo>
                      <a:pt x="162" y="1783"/>
                    </a:moveTo>
                    <a:lnTo>
                      <a:pt x="195" y="1811"/>
                    </a:lnTo>
                    <a:lnTo>
                      <a:pt x="182" y="1754"/>
                    </a:lnTo>
                    <a:lnTo>
                      <a:pt x="170" y="1699"/>
                    </a:lnTo>
                    <a:lnTo>
                      <a:pt x="158" y="1644"/>
                    </a:lnTo>
                    <a:lnTo>
                      <a:pt x="148" y="1592"/>
                    </a:lnTo>
                    <a:lnTo>
                      <a:pt x="139" y="1539"/>
                    </a:lnTo>
                    <a:lnTo>
                      <a:pt x="131" y="1488"/>
                    </a:lnTo>
                    <a:lnTo>
                      <a:pt x="123" y="1438"/>
                    </a:lnTo>
                    <a:lnTo>
                      <a:pt x="115" y="1388"/>
                    </a:lnTo>
                    <a:lnTo>
                      <a:pt x="108" y="1337"/>
                    </a:lnTo>
                    <a:lnTo>
                      <a:pt x="103" y="1288"/>
                    </a:lnTo>
                    <a:lnTo>
                      <a:pt x="97" y="1239"/>
                    </a:lnTo>
                    <a:lnTo>
                      <a:pt x="92" y="1190"/>
                    </a:lnTo>
                    <a:lnTo>
                      <a:pt x="84" y="1090"/>
                    </a:lnTo>
                    <a:lnTo>
                      <a:pt x="79" y="989"/>
                    </a:lnTo>
                    <a:lnTo>
                      <a:pt x="74" y="886"/>
                    </a:lnTo>
                    <a:lnTo>
                      <a:pt x="71" y="778"/>
                    </a:lnTo>
                    <a:lnTo>
                      <a:pt x="68" y="667"/>
                    </a:lnTo>
                    <a:lnTo>
                      <a:pt x="67" y="549"/>
                    </a:lnTo>
                    <a:lnTo>
                      <a:pt x="67" y="29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292"/>
                    </a:lnTo>
                    <a:lnTo>
                      <a:pt x="0" y="549"/>
                    </a:lnTo>
                    <a:lnTo>
                      <a:pt x="1" y="668"/>
                    </a:lnTo>
                    <a:lnTo>
                      <a:pt x="3" y="779"/>
                    </a:lnTo>
                    <a:lnTo>
                      <a:pt x="7" y="888"/>
                    </a:lnTo>
                    <a:lnTo>
                      <a:pt x="11" y="993"/>
                    </a:lnTo>
                    <a:lnTo>
                      <a:pt x="17" y="1095"/>
                    </a:lnTo>
                    <a:lnTo>
                      <a:pt x="25" y="1196"/>
                    </a:lnTo>
                    <a:lnTo>
                      <a:pt x="31" y="1246"/>
                    </a:lnTo>
                    <a:lnTo>
                      <a:pt x="35" y="1296"/>
                    </a:lnTo>
                    <a:lnTo>
                      <a:pt x="42" y="1346"/>
                    </a:lnTo>
                    <a:lnTo>
                      <a:pt x="49" y="1397"/>
                    </a:lnTo>
                    <a:lnTo>
                      <a:pt x="56" y="1448"/>
                    </a:lnTo>
                    <a:lnTo>
                      <a:pt x="64" y="1499"/>
                    </a:lnTo>
                    <a:lnTo>
                      <a:pt x="73" y="1551"/>
                    </a:lnTo>
                    <a:lnTo>
                      <a:pt x="82" y="1604"/>
                    </a:lnTo>
                    <a:lnTo>
                      <a:pt x="92" y="1658"/>
                    </a:lnTo>
                    <a:lnTo>
                      <a:pt x="104" y="1713"/>
                    </a:lnTo>
                    <a:lnTo>
                      <a:pt x="116" y="1769"/>
                    </a:lnTo>
                    <a:lnTo>
                      <a:pt x="129" y="1826"/>
                    </a:lnTo>
                    <a:lnTo>
                      <a:pt x="162" y="1852"/>
                    </a:lnTo>
                    <a:lnTo>
                      <a:pt x="129" y="1826"/>
                    </a:lnTo>
                    <a:lnTo>
                      <a:pt x="131" y="1832"/>
                    </a:lnTo>
                    <a:lnTo>
                      <a:pt x="136" y="1839"/>
                    </a:lnTo>
                    <a:lnTo>
                      <a:pt x="140" y="1844"/>
                    </a:lnTo>
                    <a:lnTo>
                      <a:pt x="145" y="1847"/>
                    </a:lnTo>
                    <a:lnTo>
                      <a:pt x="151" y="1850"/>
                    </a:lnTo>
                    <a:lnTo>
                      <a:pt x="157" y="1852"/>
                    </a:lnTo>
                    <a:lnTo>
                      <a:pt x="163" y="1852"/>
                    </a:lnTo>
                    <a:lnTo>
                      <a:pt x="170" y="1851"/>
                    </a:lnTo>
                    <a:lnTo>
                      <a:pt x="176" y="1848"/>
                    </a:lnTo>
                    <a:lnTo>
                      <a:pt x="181" y="1846"/>
                    </a:lnTo>
                    <a:lnTo>
                      <a:pt x="186" y="1842"/>
                    </a:lnTo>
                    <a:lnTo>
                      <a:pt x="190" y="1837"/>
                    </a:lnTo>
                    <a:lnTo>
                      <a:pt x="194" y="1831"/>
                    </a:lnTo>
                    <a:lnTo>
                      <a:pt x="195" y="1826"/>
                    </a:lnTo>
                    <a:lnTo>
                      <a:pt x="196" y="1818"/>
                    </a:lnTo>
                    <a:lnTo>
                      <a:pt x="195" y="1811"/>
                    </a:lnTo>
                    <a:lnTo>
                      <a:pt x="162" y="17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2938320" y="4608360"/>
                <a:ext cx="281160" cy="100080"/>
              </a:xfrm>
              <a:custGeom>
                <a:avLst/>
                <a:gdLst/>
                <a:ahLst/>
                <a:rect l="l" t="t" r="r" b="b"/>
                <a:pathLst>
                  <a:path w="888" h="313">
                    <a:moveTo>
                      <a:pt x="821" y="30"/>
                    </a:moveTo>
                    <a:lnTo>
                      <a:pt x="831" y="11"/>
                    </a:lnTo>
                    <a:lnTo>
                      <a:pt x="798" y="44"/>
                    </a:lnTo>
                    <a:lnTo>
                      <a:pt x="769" y="73"/>
                    </a:lnTo>
                    <a:lnTo>
                      <a:pt x="742" y="100"/>
                    </a:lnTo>
                    <a:lnTo>
                      <a:pt x="716" y="124"/>
                    </a:lnTo>
                    <a:lnTo>
                      <a:pt x="703" y="134"/>
                    </a:lnTo>
                    <a:lnTo>
                      <a:pt x="690" y="144"/>
                    </a:lnTo>
                    <a:lnTo>
                      <a:pt x="677" y="153"/>
                    </a:lnTo>
                    <a:lnTo>
                      <a:pt x="662" y="162"/>
                    </a:lnTo>
                    <a:lnTo>
                      <a:pt x="647" y="170"/>
                    </a:lnTo>
                    <a:lnTo>
                      <a:pt x="633" y="178"/>
                    </a:lnTo>
                    <a:lnTo>
                      <a:pt x="616" y="185"/>
                    </a:lnTo>
                    <a:lnTo>
                      <a:pt x="597" y="192"/>
                    </a:lnTo>
                    <a:lnTo>
                      <a:pt x="578" y="199"/>
                    </a:lnTo>
                    <a:lnTo>
                      <a:pt x="556" y="205"/>
                    </a:lnTo>
                    <a:lnTo>
                      <a:pt x="533" y="210"/>
                    </a:lnTo>
                    <a:lnTo>
                      <a:pt x="508" y="216"/>
                    </a:lnTo>
                    <a:lnTo>
                      <a:pt x="481" y="220"/>
                    </a:lnTo>
                    <a:lnTo>
                      <a:pt x="452" y="225"/>
                    </a:lnTo>
                    <a:lnTo>
                      <a:pt x="421" y="228"/>
                    </a:lnTo>
                    <a:lnTo>
                      <a:pt x="386" y="232"/>
                    </a:lnTo>
                    <a:lnTo>
                      <a:pt x="349" y="235"/>
                    </a:lnTo>
                    <a:lnTo>
                      <a:pt x="309" y="238"/>
                    </a:lnTo>
                    <a:lnTo>
                      <a:pt x="266" y="240"/>
                    </a:lnTo>
                    <a:lnTo>
                      <a:pt x="220" y="242"/>
                    </a:lnTo>
                    <a:lnTo>
                      <a:pt x="117" y="244"/>
                    </a:lnTo>
                    <a:lnTo>
                      <a:pt x="0" y="244"/>
                    </a:lnTo>
                    <a:lnTo>
                      <a:pt x="0" y="313"/>
                    </a:lnTo>
                    <a:lnTo>
                      <a:pt x="117" y="312"/>
                    </a:lnTo>
                    <a:lnTo>
                      <a:pt x="221" y="309"/>
                    </a:lnTo>
                    <a:lnTo>
                      <a:pt x="269" y="307"/>
                    </a:lnTo>
                    <a:lnTo>
                      <a:pt x="312" y="305"/>
                    </a:lnTo>
                    <a:lnTo>
                      <a:pt x="353" y="303"/>
                    </a:lnTo>
                    <a:lnTo>
                      <a:pt x="392" y="299"/>
                    </a:lnTo>
                    <a:lnTo>
                      <a:pt x="427" y="296"/>
                    </a:lnTo>
                    <a:lnTo>
                      <a:pt x="462" y="291"/>
                    </a:lnTo>
                    <a:lnTo>
                      <a:pt x="492" y="287"/>
                    </a:lnTo>
                    <a:lnTo>
                      <a:pt x="521" y="282"/>
                    </a:lnTo>
                    <a:lnTo>
                      <a:pt x="548" y="276"/>
                    </a:lnTo>
                    <a:lnTo>
                      <a:pt x="574" y="270"/>
                    </a:lnTo>
                    <a:lnTo>
                      <a:pt x="597" y="263"/>
                    </a:lnTo>
                    <a:lnTo>
                      <a:pt x="620" y="256"/>
                    </a:lnTo>
                    <a:lnTo>
                      <a:pt x="641" y="248"/>
                    </a:lnTo>
                    <a:lnTo>
                      <a:pt x="661" y="239"/>
                    </a:lnTo>
                    <a:lnTo>
                      <a:pt x="679" y="230"/>
                    </a:lnTo>
                    <a:lnTo>
                      <a:pt x="696" y="219"/>
                    </a:lnTo>
                    <a:lnTo>
                      <a:pt x="714" y="209"/>
                    </a:lnTo>
                    <a:lnTo>
                      <a:pt x="730" y="198"/>
                    </a:lnTo>
                    <a:lnTo>
                      <a:pt x="745" y="186"/>
                    </a:lnTo>
                    <a:lnTo>
                      <a:pt x="760" y="174"/>
                    </a:lnTo>
                    <a:lnTo>
                      <a:pt x="788" y="149"/>
                    </a:lnTo>
                    <a:lnTo>
                      <a:pt x="816" y="120"/>
                    </a:lnTo>
                    <a:lnTo>
                      <a:pt x="846" y="90"/>
                    </a:lnTo>
                    <a:lnTo>
                      <a:pt x="878" y="58"/>
                    </a:lnTo>
                    <a:lnTo>
                      <a:pt x="888" y="40"/>
                    </a:lnTo>
                    <a:lnTo>
                      <a:pt x="878" y="58"/>
                    </a:lnTo>
                    <a:lnTo>
                      <a:pt x="882" y="53"/>
                    </a:lnTo>
                    <a:lnTo>
                      <a:pt x="886" y="47"/>
                    </a:lnTo>
                    <a:lnTo>
                      <a:pt x="888" y="40"/>
                    </a:lnTo>
                    <a:lnTo>
                      <a:pt x="888" y="33"/>
                    </a:lnTo>
                    <a:lnTo>
                      <a:pt x="887" y="28"/>
                    </a:lnTo>
                    <a:lnTo>
                      <a:pt x="886" y="22"/>
                    </a:lnTo>
                    <a:lnTo>
                      <a:pt x="882" y="16"/>
                    </a:lnTo>
                    <a:lnTo>
                      <a:pt x="878" y="12"/>
                    </a:lnTo>
                    <a:lnTo>
                      <a:pt x="873" y="7"/>
                    </a:lnTo>
                    <a:lnTo>
                      <a:pt x="867" y="4"/>
                    </a:lnTo>
                    <a:lnTo>
                      <a:pt x="862" y="1"/>
                    </a:lnTo>
                    <a:lnTo>
                      <a:pt x="856" y="0"/>
                    </a:lnTo>
                    <a:lnTo>
                      <a:pt x="849" y="1"/>
                    </a:lnTo>
                    <a:lnTo>
                      <a:pt x="842" y="3"/>
                    </a:lnTo>
                    <a:lnTo>
                      <a:pt x="837" y="6"/>
                    </a:lnTo>
                    <a:lnTo>
                      <a:pt x="831" y="11"/>
                    </a:lnTo>
                    <a:lnTo>
                      <a:pt x="821" y="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3106800" y="4297320"/>
                <a:ext cx="147600" cy="324000"/>
              </a:xfrm>
              <a:custGeom>
                <a:avLst/>
                <a:gdLst/>
                <a:ahLst/>
                <a:rect l="l" t="t" r="r" b="b"/>
                <a:pathLst>
                  <a:path w="469" h="1020">
                    <a:moveTo>
                      <a:pt x="32" y="69"/>
                    </a:moveTo>
                    <a:lnTo>
                      <a:pt x="3" y="48"/>
                    </a:lnTo>
                    <a:lnTo>
                      <a:pt x="26" y="98"/>
                    </a:lnTo>
                    <a:lnTo>
                      <a:pt x="48" y="146"/>
                    </a:lnTo>
                    <a:lnTo>
                      <a:pt x="70" y="191"/>
                    </a:lnTo>
                    <a:lnTo>
                      <a:pt x="90" y="232"/>
                    </a:lnTo>
                    <a:lnTo>
                      <a:pt x="109" y="270"/>
                    </a:lnTo>
                    <a:lnTo>
                      <a:pt x="129" y="305"/>
                    </a:lnTo>
                    <a:lnTo>
                      <a:pt x="147" y="338"/>
                    </a:lnTo>
                    <a:lnTo>
                      <a:pt x="165" y="368"/>
                    </a:lnTo>
                    <a:lnTo>
                      <a:pt x="182" y="395"/>
                    </a:lnTo>
                    <a:lnTo>
                      <a:pt x="198" y="420"/>
                    </a:lnTo>
                    <a:lnTo>
                      <a:pt x="214" y="442"/>
                    </a:lnTo>
                    <a:lnTo>
                      <a:pt x="230" y="462"/>
                    </a:lnTo>
                    <a:lnTo>
                      <a:pt x="245" y="481"/>
                    </a:lnTo>
                    <a:lnTo>
                      <a:pt x="260" y="498"/>
                    </a:lnTo>
                    <a:lnTo>
                      <a:pt x="274" y="511"/>
                    </a:lnTo>
                    <a:lnTo>
                      <a:pt x="287" y="524"/>
                    </a:lnTo>
                    <a:lnTo>
                      <a:pt x="300" y="535"/>
                    </a:lnTo>
                    <a:lnTo>
                      <a:pt x="312" y="544"/>
                    </a:lnTo>
                    <a:lnTo>
                      <a:pt x="325" y="552"/>
                    </a:lnTo>
                    <a:lnTo>
                      <a:pt x="337" y="559"/>
                    </a:lnTo>
                    <a:lnTo>
                      <a:pt x="349" y="565"/>
                    </a:lnTo>
                    <a:lnTo>
                      <a:pt x="361" y="568"/>
                    </a:lnTo>
                    <a:lnTo>
                      <a:pt x="373" y="571"/>
                    </a:lnTo>
                    <a:lnTo>
                      <a:pt x="384" y="572"/>
                    </a:lnTo>
                    <a:lnTo>
                      <a:pt x="394" y="572"/>
                    </a:lnTo>
                    <a:lnTo>
                      <a:pt x="405" y="571"/>
                    </a:lnTo>
                    <a:lnTo>
                      <a:pt x="415" y="567"/>
                    </a:lnTo>
                    <a:lnTo>
                      <a:pt x="425" y="564"/>
                    </a:lnTo>
                    <a:lnTo>
                      <a:pt x="439" y="556"/>
                    </a:lnTo>
                    <a:lnTo>
                      <a:pt x="450" y="546"/>
                    </a:lnTo>
                    <a:lnTo>
                      <a:pt x="458" y="536"/>
                    </a:lnTo>
                    <a:lnTo>
                      <a:pt x="464" y="527"/>
                    </a:lnTo>
                    <a:lnTo>
                      <a:pt x="469" y="517"/>
                    </a:lnTo>
                    <a:lnTo>
                      <a:pt x="414" y="481"/>
                    </a:lnTo>
                    <a:lnTo>
                      <a:pt x="405" y="493"/>
                    </a:lnTo>
                    <a:lnTo>
                      <a:pt x="400" y="502"/>
                    </a:lnTo>
                    <a:lnTo>
                      <a:pt x="394" y="516"/>
                    </a:lnTo>
                    <a:lnTo>
                      <a:pt x="388" y="535"/>
                    </a:lnTo>
                    <a:lnTo>
                      <a:pt x="380" y="563"/>
                    </a:lnTo>
                    <a:lnTo>
                      <a:pt x="371" y="596"/>
                    </a:lnTo>
                    <a:lnTo>
                      <a:pt x="359" y="639"/>
                    </a:lnTo>
                    <a:lnTo>
                      <a:pt x="348" y="691"/>
                    </a:lnTo>
                    <a:lnTo>
                      <a:pt x="335" y="752"/>
                    </a:lnTo>
                    <a:lnTo>
                      <a:pt x="321" y="826"/>
                    </a:lnTo>
                    <a:lnTo>
                      <a:pt x="307" y="912"/>
                    </a:lnTo>
                    <a:lnTo>
                      <a:pt x="291" y="1010"/>
                    </a:lnTo>
                    <a:lnTo>
                      <a:pt x="358" y="1020"/>
                    </a:lnTo>
                    <a:lnTo>
                      <a:pt x="373" y="922"/>
                    </a:lnTo>
                    <a:lnTo>
                      <a:pt x="388" y="838"/>
                    </a:lnTo>
                    <a:lnTo>
                      <a:pt x="401" y="766"/>
                    </a:lnTo>
                    <a:lnTo>
                      <a:pt x="414" y="704"/>
                    </a:lnTo>
                    <a:lnTo>
                      <a:pt x="425" y="654"/>
                    </a:lnTo>
                    <a:lnTo>
                      <a:pt x="435" y="613"/>
                    </a:lnTo>
                    <a:lnTo>
                      <a:pt x="445" y="581"/>
                    </a:lnTo>
                    <a:lnTo>
                      <a:pt x="451" y="557"/>
                    </a:lnTo>
                    <a:lnTo>
                      <a:pt x="457" y="540"/>
                    </a:lnTo>
                    <a:lnTo>
                      <a:pt x="462" y="530"/>
                    </a:lnTo>
                    <a:lnTo>
                      <a:pt x="464" y="525"/>
                    </a:lnTo>
                    <a:lnTo>
                      <a:pt x="458" y="532"/>
                    </a:lnTo>
                    <a:lnTo>
                      <a:pt x="404" y="498"/>
                    </a:lnTo>
                    <a:lnTo>
                      <a:pt x="406" y="494"/>
                    </a:lnTo>
                    <a:lnTo>
                      <a:pt x="405" y="495"/>
                    </a:lnTo>
                    <a:lnTo>
                      <a:pt x="402" y="498"/>
                    </a:lnTo>
                    <a:lnTo>
                      <a:pt x="400" y="501"/>
                    </a:lnTo>
                    <a:lnTo>
                      <a:pt x="394" y="503"/>
                    </a:lnTo>
                    <a:lnTo>
                      <a:pt x="394" y="503"/>
                    </a:lnTo>
                    <a:lnTo>
                      <a:pt x="392" y="505"/>
                    </a:lnTo>
                    <a:lnTo>
                      <a:pt x="390" y="505"/>
                    </a:lnTo>
                    <a:lnTo>
                      <a:pt x="386" y="505"/>
                    </a:lnTo>
                    <a:lnTo>
                      <a:pt x="383" y="505"/>
                    </a:lnTo>
                    <a:lnTo>
                      <a:pt x="378" y="503"/>
                    </a:lnTo>
                    <a:lnTo>
                      <a:pt x="373" y="501"/>
                    </a:lnTo>
                    <a:lnTo>
                      <a:pt x="367" y="499"/>
                    </a:lnTo>
                    <a:lnTo>
                      <a:pt x="359" y="494"/>
                    </a:lnTo>
                    <a:lnTo>
                      <a:pt x="351" y="490"/>
                    </a:lnTo>
                    <a:lnTo>
                      <a:pt x="342" y="483"/>
                    </a:lnTo>
                    <a:lnTo>
                      <a:pt x="332" y="474"/>
                    </a:lnTo>
                    <a:lnTo>
                      <a:pt x="320" y="463"/>
                    </a:lnTo>
                    <a:lnTo>
                      <a:pt x="309" y="452"/>
                    </a:lnTo>
                    <a:lnTo>
                      <a:pt x="296" y="437"/>
                    </a:lnTo>
                    <a:lnTo>
                      <a:pt x="284" y="421"/>
                    </a:lnTo>
                    <a:lnTo>
                      <a:pt x="269" y="403"/>
                    </a:lnTo>
                    <a:lnTo>
                      <a:pt x="254" y="381"/>
                    </a:lnTo>
                    <a:lnTo>
                      <a:pt x="238" y="359"/>
                    </a:lnTo>
                    <a:lnTo>
                      <a:pt x="222" y="332"/>
                    </a:lnTo>
                    <a:lnTo>
                      <a:pt x="205" y="304"/>
                    </a:lnTo>
                    <a:lnTo>
                      <a:pt x="188" y="273"/>
                    </a:lnTo>
                    <a:lnTo>
                      <a:pt x="169" y="239"/>
                    </a:lnTo>
                    <a:lnTo>
                      <a:pt x="150" y="201"/>
                    </a:lnTo>
                    <a:lnTo>
                      <a:pt x="130" y="161"/>
                    </a:lnTo>
                    <a:lnTo>
                      <a:pt x="109" y="118"/>
                    </a:lnTo>
                    <a:lnTo>
                      <a:pt x="88" y="71"/>
                    </a:lnTo>
                    <a:lnTo>
                      <a:pt x="65" y="21"/>
                    </a:lnTo>
                    <a:lnTo>
                      <a:pt x="38" y="1"/>
                    </a:lnTo>
                    <a:lnTo>
                      <a:pt x="65" y="21"/>
                    </a:lnTo>
                    <a:lnTo>
                      <a:pt x="62" y="14"/>
                    </a:lnTo>
                    <a:lnTo>
                      <a:pt x="57" y="9"/>
                    </a:lnTo>
                    <a:lnTo>
                      <a:pt x="51" y="5"/>
                    </a:lnTo>
                    <a:lnTo>
                      <a:pt x="46" y="3"/>
                    </a:lnTo>
                    <a:lnTo>
                      <a:pt x="40" y="1"/>
                    </a:lnTo>
                    <a:lnTo>
                      <a:pt x="33" y="0"/>
                    </a:lnTo>
                    <a:lnTo>
                      <a:pt x="27" y="1"/>
                    </a:lnTo>
                    <a:lnTo>
                      <a:pt x="21" y="4"/>
                    </a:lnTo>
                    <a:lnTo>
                      <a:pt x="16" y="7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3" y="21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40"/>
                    </a:lnTo>
                    <a:lnTo>
                      <a:pt x="3" y="48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2886120" y="4108320"/>
                <a:ext cx="231840" cy="211320"/>
              </a:xfrm>
              <a:custGeom>
                <a:avLst/>
                <a:gdLst/>
                <a:ahLst/>
                <a:rect l="l" t="t" r="r" b="b"/>
                <a:pathLst>
                  <a:path w="730" h="662">
                    <a:moveTo>
                      <a:pt x="68" y="34"/>
                    </a:moveTo>
                    <a:lnTo>
                      <a:pt x="2" y="46"/>
                    </a:lnTo>
                    <a:lnTo>
                      <a:pt x="25" y="100"/>
                    </a:lnTo>
                    <a:lnTo>
                      <a:pt x="50" y="155"/>
                    </a:lnTo>
                    <a:lnTo>
                      <a:pt x="64" y="181"/>
                    </a:lnTo>
                    <a:lnTo>
                      <a:pt x="78" y="208"/>
                    </a:lnTo>
                    <a:lnTo>
                      <a:pt x="92" y="234"/>
                    </a:lnTo>
                    <a:lnTo>
                      <a:pt x="107" y="260"/>
                    </a:lnTo>
                    <a:lnTo>
                      <a:pt x="123" y="285"/>
                    </a:lnTo>
                    <a:lnTo>
                      <a:pt x="140" y="310"/>
                    </a:lnTo>
                    <a:lnTo>
                      <a:pt x="157" y="335"/>
                    </a:lnTo>
                    <a:lnTo>
                      <a:pt x="176" y="359"/>
                    </a:lnTo>
                    <a:lnTo>
                      <a:pt x="194" y="382"/>
                    </a:lnTo>
                    <a:lnTo>
                      <a:pt x="213" y="405"/>
                    </a:lnTo>
                    <a:lnTo>
                      <a:pt x="234" y="428"/>
                    </a:lnTo>
                    <a:lnTo>
                      <a:pt x="255" y="450"/>
                    </a:lnTo>
                    <a:lnTo>
                      <a:pt x="277" y="470"/>
                    </a:lnTo>
                    <a:lnTo>
                      <a:pt x="301" y="489"/>
                    </a:lnTo>
                    <a:lnTo>
                      <a:pt x="325" y="509"/>
                    </a:lnTo>
                    <a:lnTo>
                      <a:pt x="349" y="527"/>
                    </a:lnTo>
                    <a:lnTo>
                      <a:pt x="375" y="544"/>
                    </a:lnTo>
                    <a:lnTo>
                      <a:pt x="401" y="561"/>
                    </a:lnTo>
                    <a:lnTo>
                      <a:pt x="430" y="576"/>
                    </a:lnTo>
                    <a:lnTo>
                      <a:pt x="458" y="591"/>
                    </a:lnTo>
                    <a:lnTo>
                      <a:pt x="488" y="604"/>
                    </a:lnTo>
                    <a:lnTo>
                      <a:pt x="519" y="616"/>
                    </a:lnTo>
                    <a:lnTo>
                      <a:pt x="550" y="626"/>
                    </a:lnTo>
                    <a:lnTo>
                      <a:pt x="583" y="637"/>
                    </a:lnTo>
                    <a:lnTo>
                      <a:pt x="617" y="645"/>
                    </a:lnTo>
                    <a:lnTo>
                      <a:pt x="651" y="651"/>
                    </a:lnTo>
                    <a:lnTo>
                      <a:pt x="686" y="657"/>
                    </a:lnTo>
                    <a:lnTo>
                      <a:pt x="724" y="662"/>
                    </a:lnTo>
                    <a:lnTo>
                      <a:pt x="730" y="594"/>
                    </a:lnTo>
                    <a:lnTo>
                      <a:pt x="695" y="590"/>
                    </a:lnTo>
                    <a:lnTo>
                      <a:pt x="662" y="585"/>
                    </a:lnTo>
                    <a:lnTo>
                      <a:pt x="630" y="578"/>
                    </a:lnTo>
                    <a:lnTo>
                      <a:pt x="600" y="570"/>
                    </a:lnTo>
                    <a:lnTo>
                      <a:pt x="570" y="562"/>
                    </a:lnTo>
                    <a:lnTo>
                      <a:pt x="542" y="552"/>
                    </a:lnTo>
                    <a:lnTo>
                      <a:pt x="513" y="542"/>
                    </a:lnTo>
                    <a:lnTo>
                      <a:pt x="487" y="529"/>
                    </a:lnTo>
                    <a:lnTo>
                      <a:pt x="461" y="517"/>
                    </a:lnTo>
                    <a:lnTo>
                      <a:pt x="436" y="503"/>
                    </a:lnTo>
                    <a:lnTo>
                      <a:pt x="412" y="488"/>
                    </a:lnTo>
                    <a:lnTo>
                      <a:pt x="388" y="472"/>
                    </a:lnTo>
                    <a:lnTo>
                      <a:pt x="366" y="455"/>
                    </a:lnTo>
                    <a:lnTo>
                      <a:pt x="343" y="438"/>
                    </a:lnTo>
                    <a:lnTo>
                      <a:pt x="323" y="420"/>
                    </a:lnTo>
                    <a:lnTo>
                      <a:pt x="302" y="400"/>
                    </a:lnTo>
                    <a:lnTo>
                      <a:pt x="283" y="381"/>
                    </a:lnTo>
                    <a:lnTo>
                      <a:pt x="265" y="361"/>
                    </a:lnTo>
                    <a:lnTo>
                      <a:pt x="246" y="340"/>
                    </a:lnTo>
                    <a:lnTo>
                      <a:pt x="228" y="317"/>
                    </a:lnTo>
                    <a:lnTo>
                      <a:pt x="211" y="296"/>
                    </a:lnTo>
                    <a:lnTo>
                      <a:pt x="195" y="273"/>
                    </a:lnTo>
                    <a:lnTo>
                      <a:pt x="180" y="249"/>
                    </a:lnTo>
                    <a:lnTo>
                      <a:pt x="165" y="225"/>
                    </a:lnTo>
                    <a:lnTo>
                      <a:pt x="151" y="201"/>
                    </a:lnTo>
                    <a:lnTo>
                      <a:pt x="137" y="176"/>
                    </a:lnTo>
                    <a:lnTo>
                      <a:pt x="123" y="151"/>
                    </a:lnTo>
                    <a:lnTo>
                      <a:pt x="111" y="126"/>
                    </a:lnTo>
                    <a:lnTo>
                      <a:pt x="88" y="74"/>
                    </a:lnTo>
                    <a:lnTo>
                      <a:pt x="65" y="22"/>
                    </a:lnTo>
                    <a:lnTo>
                      <a:pt x="0" y="34"/>
                    </a:lnTo>
                    <a:lnTo>
                      <a:pt x="65" y="22"/>
                    </a:lnTo>
                    <a:lnTo>
                      <a:pt x="62" y="15"/>
                    </a:lnTo>
                    <a:lnTo>
                      <a:pt x="57" y="9"/>
                    </a:lnTo>
                    <a:lnTo>
                      <a:pt x="52" y="5"/>
                    </a:lnTo>
                    <a:lnTo>
                      <a:pt x="47" y="1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1" y="9"/>
                    </a:lnTo>
                    <a:lnTo>
                      <a:pt x="7" y="14"/>
                    </a:lnTo>
                    <a:lnTo>
                      <a:pt x="3" y="18"/>
                    </a:lnTo>
                    <a:lnTo>
                      <a:pt x="1" y="25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2" y="46"/>
                    </a:lnTo>
                    <a:lnTo>
                      <a:pt x="68" y="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3227400" y="4025880"/>
                <a:ext cx="255600" cy="423720"/>
              </a:xfrm>
              <a:custGeom>
                <a:avLst/>
                <a:gdLst/>
                <a:ahLst/>
                <a:rect l="l" t="t" r="r" b="b"/>
                <a:pathLst>
                  <a:path w="804" h="1339">
                    <a:moveTo>
                      <a:pt x="0" y="0"/>
                    </a:moveTo>
                    <a:lnTo>
                      <a:pt x="0" y="216"/>
                    </a:lnTo>
                    <a:lnTo>
                      <a:pt x="0" y="405"/>
                    </a:lnTo>
                    <a:lnTo>
                      <a:pt x="0" y="492"/>
                    </a:lnTo>
                    <a:lnTo>
                      <a:pt x="2" y="575"/>
                    </a:lnTo>
                    <a:lnTo>
                      <a:pt x="5" y="654"/>
                    </a:lnTo>
                    <a:lnTo>
                      <a:pt x="7" y="731"/>
                    </a:lnTo>
                    <a:lnTo>
                      <a:pt x="12" y="806"/>
                    </a:lnTo>
                    <a:lnTo>
                      <a:pt x="18" y="880"/>
                    </a:lnTo>
                    <a:lnTo>
                      <a:pt x="25" y="953"/>
                    </a:lnTo>
                    <a:lnTo>
                      <a:pt x="34" y="1026"/>
                    </a:lnTo>
                    <a:lnTo>
                      <a:pt x="46" y="1100"/>
                    </a:lnTo>
                    <a:lnTo>
                      <a:pt x="59" y="1177"/>
                    </a:lnTo>
                    <a:lnTo>
                      <a:pt x="75" y="1257"/>
                    </a:lnTo>
                    <a:lnTo>
                      <a:pt x="95" y="1339"/>
                    </a:lnTo>
                    <a:lnTo>
                      <a:pt x="180" y="1338"/>
                    </a:lnTo>
                    <a:lnTo>
                      <a:pt x="257" y="1336"/>
                    </a:lnTo>
                    <a:lnTo>
                      <a:pt x="323" y="1333"/>
                    </a:lnTo>
                    <a:lnTo>
                      <a:pt x="380" y="1328"/>
                    </a:lnTo>
                    <a:lnTo>
                      <a:pt x="406" y="1326"/>
                    </a:lnTo>
                    <a:lnTo>
                      <a:pt x="430" y="1323"/>
                    </a:lnTo>
                    <a:lnTo>
                      <a:pt x="453" y="1319"/>
                    </a:lnTo>
                    <a:lnTo>
                      <a:pt x="473" y="1316"/>
                    </a:lnTo>
                    <a:lnTo>
                      <a:pt x="493" y="1312"/>
                    </a:lnTo>
                    <a:lnTo>
                      <a:pt x="510" y="1308"/>
                    </a:lnTo>
                    <a:lnTo>
                      <a:pt x="527" y="1303"/>
                    </a:lnTo>
                    <a:lnTo>
                      <a:pt x="542" y="1298"/>
                    </a:lnTo>
                    <a:lnTo>
                      <a:pt x="557" y="1292"/>
                    </a:lnTo>
                    <a:lnTo>
                      <a:pt x="569" y="1286"/>
                    </a:lnTo>
                    <a:lnTo>
                      <a:pt x="582" y="1279"/>
                    </a:lnTo>
                    <a:lnTo>
                      <a:pt x="594" y="1273"/>
                    </a:lnTo>
                    <a:lnTo>
                      <a:pt x="606" y="1266"/>
                    </a:lnTo>
                    <a:lnTo>
                      <a:pt x="616" y="1258"/>
                    </a:lnTo>
                    <a:lnTo>
                      <a:pt x="626" y="1250"/>
                    </a:lnTo>
                    <a:lnTo>
                      <a:pt x="636" y="1242"/>
                    </a:lnTo>
                    <a:lnTo>
                      <a:pt x="676" y="1203"/>
                    </a:lnTo>
                    <a:lnTo>
                      <a:pt x="722" y="1157"/>
                    </a:lnTo>
                    <a:lnTo>
                      <a:pt x="733" y="1085"/>
                    </a:lnTo>
                    <a:lnTo>
                      <a:pt x="743" y="1023"/>
                    </a:lnTo>
                    <a:lnTo>
                      <a:pt x="754" y="969"/>
                    </a:lnTo>
                    <a:lnTo>
                      <a:pt x="763" y="925"/>
                    </a:lnTo>
                    <a:lnTo>
                      <a:pt x="772" y="887"/>
                    </a:lnTo>
                    <a:lnTo>
                      <a:pt x="780" y="856"/>
                    </a:lnTo>
                    <a:lnTo>
                      <a:pt x="786" y="832"/>
                    </a:lnTo>
                    <a:lnTo>
                      <a:pt x="792" y="813"/>
                    </a:lnTo>
                    <a:lnTo>
                      <a:pt x="800" y="791"/>
                    </a:lnTo>
                    <a:lnTo>
                      <a:pt x="804" y="784"/>
                    </a:lnTo>
                    <a:lnTo>
                      <a:pt x="804" y="788"/>
                    </a:lnTo>
                    <a:lnTo>
                      <a:pt x="797" y="796"/>
                    </a:lnTo>
                    <a:lnTo>
                      <a:pt x="792" y="800"/>
                    </a:lnTo>
                    <a:lnTo>
                      <a:pt x="786" y="805"/>
                    </a:lnTo>
                    <a:lnTo>
                      <a:pt x="778" y="807"/>
                    </a:lnTo>
                    <a:lnTo>
                      <a:pt x="767" y="808"/>
                    </a:lnTo>
                    <a:lnTo>
                      <a:pt x="756" y="806"/>
                    </a:lnTo>
                    <a:lnTo>
                      <a:pt x="743" y="801"/>
                    </a:lnTo>
                    <a:lnTo>
                      <a:pt x="729" y="792"/>
                    </a:lnTo>
                    <a:lnTo>
                      <a:pt x="712" y="779"/>
                    </a:lnTo>
                    <a:lnTo>
                      <a:pt x="693" y="760"/>
                    </a:lnTo>
                    <a:lnTo>
                      <a:pt x="673" y="737"/>
                    </a:lnTo>
                    <a:lnTo>
                      <a:pt x="651" y="707"/>
                    </a:lnTo>
                    <a:lnTo>
                      <a:pt x="627" y="669"/>
                    </a:lnTo>
                    <a:lnTo>
                      <a:pt x="601" y="625"/>
                    </a:lnTo>
                    <a:lnTo>
                      <a:pt x="572" y="571"/>
                    </a:lnTo>
                    <a:lnTo>
                      <a:pt x="542" y="509"/>
                    </a:lnTo>
                    <a:lnTo>
                      <a:pt x="510" y="437"/>
                    </a:lnTo>
                    <a:lnTo>
                      <a:pt x="484" y="435"/>
                    </a:lnTo>
                    <a:lnTo>
                      <a:pt x="458" y="431"/>
                    </a:lnTo>
                    <a:lnTo>
                      <a:pt x="433" y="426"/>
                    </a:lnTo>
                    <a:lnTo>
                      <a:pt x="409" y="420"/>
                    </a:lnTo>
                    <a:lnTo>
                      <a:pt x="387" y="413"/>
                    </a:lnTo>
                    <a:lnTo>
                      <a:pt x="365" y="405"/>
                    </a:lnTo>
                    <a:lnTo>
                      <a:pt x="343" y="397"/>
                    </a:lnTo>
                    <a:lnTo>
                      <a:pt x="323" y="388"/>
                    </a:lnTo>
                    <a:lnTo>
                      <a:pt x="302" y="378"/>
                    </a:lnTo>
                    <a:lnTo>
                      <a:pt x="283" y="367"/>
                    </a:lnTo>
                    <a:lnTo>
                      <a:pt x="264" y="355"/>
                    </a:lnTo>
                    <a:lnTo>
                      <a:pt x="245" y="343"/>
                    </a:lnTo>
                    <a:lnTo>
                      <a:pt x="228" y="330"/>
                    </a:lnTo>
                    <a:lnTo>
                      <a:pt x="211" y="316"/>
                    </a:lnTo>
                    <a:lnTo>
                      <a:pt x="195" y="303"/>
                    </a:lnTo>
                    <a:lnTo>
                      <a:pt x="180" y="288"/>
                    </a:lnTo>
                    <a:lnTo>
                      <a:pt x="164" y="273"/>
                    </a:lnTo>
                    <a:lnTo>
                      <a:pt x="151" y="257"/>
                    </a:lnTo>
                    <a:lnTo>
                      <a:pt x="136" y="241"/>
                    </a:lnTo>
                    <a:lnTo>
                      <a:pt x="123" y="224"/>
                    </a:lnTo>
                    <a:lnTo>
                      <a:pt x="110" y="207"/>
                    </a:lnTo>
                    <a:lnTo>
                      <a:pt x="98" y="190"/>
                    </a:lnTo>
                    <a:lnTo>
                      <a:pt x="86" y="172"/>
                    </a:lnTo>
                    <a:lnTo>
                      <a:pt x="74" y="154"/>
                    </a:lnTo>
                    <a:lnTo>
                      <a:pt x="54" y="117"/>
                    </a:lnTo>
                    <a:lnTo>
                      <a:pt x="34" y="79"/>
                    </a:lnTo>
                    <a:lnTo>
                      <a:pt x="1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3218040" y="4025880"/>
                <a:ext cx="50760" cy="434880"/>
              </a:xfrm>
              <a:custGeom>
                <a:avLst/>
                <a:gdLst/>
                <a:ahLst/>
                <a:rect l="l" t="t" r="r" b="b"/>
                <a:pathLst>
                  <a:path w="162" h="1372">
                    <a:moveTo>
                      <a:pt x="129" y="1304"/>
                    </a:moveTo>
                    <a:lnTo>
                      <a:pt x="161" y="1331"/>
                    </a:lnTo>
                    <a:lnTo>
                      <a:pt x="142" y="1249"/>
                    </a:lnTo>
                    <a:lnTo>
                      <a:pt x="127" y="1171"/>
                    </a:lnTo>
                    <a:lnTo>
                      <a:pt x="114" y="1096"/>
                    </a:lnTo>
                    <a:lnTo>
                      <a:pt x="103" y="1022"/>
                    </a:lnTo>
                    <a:lnTo>
                      <a:pt x="93" y="949"/>
                    </a:lnTo>
                    <a:lnTo>
                      <a:pt x="85" y="877"/>
                    </a:lnTo>
                    <a:lnTo>
                      <a:pt x="80" y="804"/>
                    </a:lnTo>
                    <a:lnTo>
                      <a:pt x="75" y="729"/>
                    </a:lnTo>
                    <a:lnTo>
                      <a:pt x="72" y="653"/>
                    </a:lnTo>
                    <a:lnTo>
                      <a:pt x="70" y="574"/>
                    </a:lnTo>
                    <a:lnTo>
                      <a:pt x="68" y="492"/>
                    </a:lnTo>
                    <a:lnTo>
                      <a:pt x="68" y="405"/>
                    </a:lnTo>
                    <a:lnTo>
                      <a:pt x="67" y="216"/>
                    </a:lnTo>
                    <a:lnTo>
                      <a:pt x="68" y="0"/>
                    </a:lnTo>
                    <a:lnTo>
                      <a:pt x="1" y="0"/>
                    </a:lnTo>
                    <a:lnTo>
                      <a:pt x="0" y="216"/>
                    </a:lnTo>
                    <a:lnTo>
                      <a:pt x="0" y="405"/>
                    </a:lnTo>
                    <a:lnTo>
                      <a:pt x="1" y="493"/>
                    </a:lnTo>
                    <a:lnTo>
                      <a:pt x="2" y="575"/>
                    </a:lnTo>
                    <a:lnTo>
                      <a:pt x="5" y="655"/>
                    </a:lnTo>
                    <a:lnTo>
                      <a:pt x="8" y="733"/>
                    </a:lnTo>
                    <a:lnTo>
                      <a:pt x="13" y="808"/>
                    </a:lnTo>
                    <a:lnTo>
                      <a:pt x="18" y="882"/>
                    </a:lnTo>
                    <a:lnTo>
                      <a:pt x="26" y="957"/>
                    </a:lnTo>
                    <a:lnTo>
                      <a:pt x="35" y="1031"/>
                    </a:lnTo>
                    <a:lnTo>
                      <a:pt x="47" y="1106"/>
                    </a:lnTo>
                    <a:lnTo>
                      <a:pt x="60" y="1184"/>
                    </a:lnTo>
                    <a:lnTo>
                      <a:pt x="76" y="1263"/>
                    </a:lnTo>
                    <a:lnTo>
                      <a:pt x="96" y="1346"/>
                    </a:lnTo>
                    <a:lnTo>
                      <a:pt x="129" y="1372"/>
                    </a:lnTo>
                    <a:lnTo>
                      <a:pt x="96" y="1346"/>
                    </a:lnTo>
                    <a:lnTo>
                      <a:pt x="98" y="1354"/>
                    </a:lnTo>
                    <a:lnTo>
                      <a:pt x="101" y="1359"/>
                    </a:lnTo>
                    <a:lnTo>
                      <a:pt x="106" y="1365"/>
                    </a:lnTo>
                    <a:lnTo>
                      <a:pt x="112" y="1368"/>
                    </a:lnTo>
                    <a:lnTo>
                      <a:pt x="117" y="1371"/>
                    </a:lnTo>
                    <a:lnTo>
                      <a:pt x="123" y="1372"/>
                    </a:lnTo>
                    <a:lnTo>
                      <a:pt x="130" y="1372"/>
                    </a:lnTo>
                    <a:lnTo>
                      <a:pt x="136" y="1371"/>
                    </a:lnTo>
                    <a:lnTo>
                      <a:pt x="142" y="1370"/>
                    </a:lnTo>
                    <a:lnTo>
                      <a:pt x="147" y="1366"/>
                    </a:lnTo>
                    <a:lnTo>
                      <a:pt x="153" y="1363"/>
                    </a:lnTo>
                    <a:lnTo>
                      <a:pt x="156" y="1358"/>
                    </a:lnTo>
                    <a:lnTo>
                      <a:pt x="160" y="1352"/>
                    </a:lnTo>
                    <a:lnTo>
                      <a:pt x="162" y="1346"/>
                    </a:lnTo>
                    <a:lnTo>
                      <a:pt x="162" y="1339"/>
                    </a:lnTo>
                    <a:lnTo>
                      <a:pt x="161" y="1331"/>
                    </a:lnTo>
                    <a:lnTo>
                      <a:pt x="129" y="130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3257640" y="4381560"/>
                <a:ext cx="210960" cy="79200"/>
              </a:xfrm>
              <a:custGeom>
                <a:avLst/>
                <a:gdLst/>
                <a:ahLst/>
                <a:rect l="l" t="t" r="r" b="b"/>
                <a:pathLst>
                  <a:path w="661" h="249">
                    <a:moveTo>
                      <a:pt x="594" y="30"/>
                    </a:moveTo>
                    <a:lnTo>
                      <a:pt x="603" y="10"/>
                    </a:lnTo>
                    <a:lnTo>
                      <a:pt x="558" y="56"/>
                    </a:lnTo>
                    <a:lnTo>
                      <a:pt x="519" y="94"/>
                    </a:lnTo>
                    <a:lnTo>
                      <a:pt x="511" y="100"/>
                    </a:lnTo>
                    <a:lnTo>
                      <a:pt x="501" y="108"/>
                    </a:lnTo>
                    <a:lnTo>
                      <a:pt x="491" y="115"/>
                    </a:lnTo>
                    <a:lnTo>
                      <a:pt x="482" y="121"/>
                    </a:lnTo>
                    <a:lnTo>
                      <a:pt x="471" y="127"/>
                    </a:lnTo>
                    <a:lnTo>
                      <a:pt x="460" y="132"/>
                    </a:lnTo>
                    <a:lnTo>
                      <a:pt x="448" y="138"/>
                    </a:lnTo>
                    <a:lnTo>
                      <a:pt x="435" y="143"/>
                    </a:lnTo>
                    <a:lnTo>
                      <a:pt x="422" y="147"/>
                    </a:lnTo>
                    <a:lnTo>
                      <a:pt x="407" y="152"/>
                    </a:lnTo>
                    <a:lnTo>
                      <a:pt x="390" y="156"/>
                    </a:lnTo>
                    <a:lnTo>
                      <a:pt x="371" y="160"/>
                    </a:lnTo>
                    <a:lnTo>
                      <a:pt x="352" y="163"/>
                    </a:lnTo>
                    <a:lnTo>
                      <a:pt x="330" y="167"/>
                    </a:lnTo>
                    <a:lnTo>
                      <a:pt x="308" y="170"/>
                    </a:lnTo>
                    <a:lnTo>
                      <a:pt x="283" y="172"/>
                    </a:lnTo>
                    <a:lnTo>
                      <a:pt x="226" y="176"/>
                    </a:lnTo>
                    <a:lnTo>
                      <a:pt x="161" y="179"/>
                    </a:lnTo>
                    <a:lnTo>
                      <a:pt x="85" y="181"/>
                    </a:lnTo>
                    <a:lnTo>
                      <a:pt x="0" y="181"/>
                    </a:lnTo>
                    <a:lnTo>
                      <a:pt x="0" y="249"/>
                    </a:lnTo>
                    <a:lnTo>
                      <a:pt x="86" y="249"/>
                    </a:lnTo>
                    <a:lnTo>
                      <a:pt x="163" y="247"/>
                    </a:lnTo>
                    <a:lnTo>
                      <a:pt x="230" y="244"/>
                    </a:lnTo>
                    <a:lnTo>
                      <a:pt x="288" y="240"/>
                    </a:lnTo>
                    <a:lnTo>
                      <a:pt x="314" y="236"/>
                    </a:lnTo>
                    <a:lnTo>
                      <a:pt x="340" y="234"/>
                    </a:lnTo>
                    <a:lnTo>
                      <a:pt x="362" y="231"/>
                    </a:lnTo>
                    <a:lnTo>
                      <a:pt x="384" y="226"/>
                    </a:lnTo>
                    <a:lnTo>
                      <a:pt x="405" y="221"/>
                    </a:lnTo>
                    <a:lnTo>
                      <a:pt x="424" y="217"/>
                    </a:lnTo>
                    <a:lnTo>
                      <a:pt x="442" y="212"/>
                    </a:lnTo>
                    <a:lnTo>
                      <a:pt x="458" y="207"/>
                    </a:lnTo>
                    <a:lnTo>
                      <a:pt x="474" y="200"/>
                    </a:lnTo>
                    <a:lnTo>
                      <a:pt x="489" y="194"/>
                    </a:lnTo>
                    <a:lnTo>
                      <a:pt x="503" y="186"/>
                    </a:lnTo>
                    <a:lnTo>
                      <a:pt x="516" y="179"/>
                    </a:lnTo>
                    <a:lnTo>
                      <a:pt x="529" y="171"/>
                    </a:lnTo>
                    <a:lnTo>
                      <a:pt x="541" y="162"/>
                    </a:lnTo>
                    <a:lnTo>
                      <a:pt x="553" y="153"/>
                    </a:lnTo>
                    <a:lnTo>
                      <a:pt x="564" y="144"/>
                    </a:lnTo>
                    <a:lnTo>
                      <a:pt x="605" y="104"/>
                    </a:lnTo>
                    <a:lnTo>
                      <a:pt x="651" y="58"/>
                    </a:lnTo>
                    <a:lnTo>
                      <a:pt x="660" y="39"/>
                    </a:lnTo>
                    <a:lnTo>
                      <a:pt x="651" y="58"/>
                    </a:lnTo>
                    <a:lnTo>
                      <a:pt x="655" y="53"/>
                    </a:lnTo>
                    <a:lnTo>
                      <a:pt x="659" y="46"/>
                    </a:lnTo>
                    <a:lnTo>
                      <a:pt x="661" y="39"/>
                    </a:lnTo>
                    <a:lnTo>
                      <a:pt x="661" y="33"/>
                    </a:lnTo>
                    <a:lnTo>
                      <a:pt x="660" y="26"/>
                    </a:lnTo>
                    <a:lnTo>
                      <a:pt x="658" y="21"/>
                    </a:lnTo>
                    <a:lnTo>
                      <a:pt x="654" y="15"/>
                    </a:lnTo>
                    <a:lnTo>
                      <a:pt x="651" y="10"/>
                    </a:lnTo>
                    <a:lnTo>
                      <a:pt x="646" y="7"/>
                    </a:lnTo>
                    <a:lnTo>
                      <a:pt x="640" y="4"/>
                    </a:lnTo>
                    <a:lnTo>
                      <a:pt x="635" y="1"/>
                    </a:lnTo>
                    <a:lnTo>
                      <a:pt x="628" y="0"/>
                    </a:lnTo>
                    <a:lnTo>
                      <a:pt x="622" y="0"/>
                    </a:lnTo>
                    <a:lnTo>
                      <a:pt x="615" y="2"/>
                    </a:lnTo>
                    <a:lnTo>
                      <a:pt x="609" y="6"/>
                    </a:lnTo>
                    <a:lnTo>
                      <a:pt x="603" y="10"/>
                    </a:lnTo>
                    <a:lnTo>
                      <a:pt x="594" y="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3379680" y="4152960"/>
                <a:ext cx="112680" cy="241200"/>
              </a:xfrm>
              <a:custGeom>
                <a:avLst/>
                <a:gdLst/>
                <a:ahLst/>
                <a:rect l="l" t="t" r="r" b="b"/>
                <a:pathLst>
                  <a:path w="356" h="758">
                    <a:moveTo>
                      <a:pt x="30" y="68"/>
                    </a:moveTo>
                    <a:lnTo>
                      <a:pt x="3" y="47"/>
                    </a:lnTo>
                    <a:lnTo>
                      <a:pt x="36" y="120"/>
                    </a:lnTo>
                    <a:lnTo>
                      <a:pt x="66" y="183"/>
                    </a:lnTo>
                    <a:lnTo>
                      <a:pt x="81" y="211"/>
                    </a:lnTo>
                    <a:lnTo>
                      <a:pt x="95" y="237"/>
                    </a:lnTo>
                    <a:lnTo>
                      <a:pt x="109" y="260"/>
                    </a:lnTo>
                    <a:lnTo>
                      <a:pt x="122" y="283"/>
                    </a:lnTo>
                    <a:lnTo>
                      <a:pt x="135" y="304"/>
                    </a:lnTo>
                    <a:lnTo>
                      <a:pt x="148" y="322"/>
                    </a:lnTo>
                    <a:lnTo>
                      <a:pt x="159" y="338"/>
                    </a:lnTo>
                    <a:lnTo>
                      <a:pt x="171" y="354"/>
                    </a:lnTo>
                    <a:lnTo>
                      <a:pt x="182" y="368"/>
                    </a:lnTo>
                    <a:lnTo>
                      <a:pt x="192" y="380"/>
                    </a:lnTo>
                    <a:lnTo>
                      <a:pt x="204" y="391"/>
                    </a:lnTo>
                    <a:lnTo>
                      <a:pt x="214" y="400"/>
                    </a:lnTo>
                    <a:lnTo>
                      <a:pt x="223" y="409"/>
                    </a:lnTo>
                    <a:lnTo>
                      <a:pt x="233" y="416"/>
                    </a:lnTo>
                    <a:lnTo>
                      <a:pt x="242" y="422"/>
                    </a:lnTo>
                    <a:lnTo>
                      <a:pt x="253" y="427"/>
                    </a:lnTo>
                    <a:lnTo>
                      <a:pt x="262" y="432"/>
                    </a:lnTo>
                    <a:lnTo>
                      <a:pt x="272" y="435"/>
                    </a:lnTo>
                    <a:lnTo>
                      <a:pt x="281" y="436"/>
                    </a:lnTo>
                    <a:lnTo>
                      <a:pt x="293" y="437"/>
                    </a:lnTo>
                    <a:lnTo>
                      <a:pt x="307" y="436"/>
                    </a:lnTo>
                    <a:lnTo>
                      <a:pt x="323" y="432"/>
                    </a:lnTo>
                    <a:lnTo>
                      <a:pt x="336" y="424"/>
                    </a:lnTo>
                    <a:lnTo>
                      <a:pt x="346" y="414"/>
                    </a:lnTo>
                    <a:lnTo>
                      <a:pt x="356" y="401"/>
                    </a:lnTo>
                    <a:lnTo>
                      <a:pt x="303" y="359"/>
                    </a:lnTo>
                    <a:lnTo>
                      <a:pt x="294" y="373"/>
                    </a:lnTo>
                    <a:lnTo>
                      <a:pt x="285" y="399"/>
                    </a:lnTo>
                    <a:lnTo>
                      <a:pt x="278" y="418"/>
                    </a:lnTo>
                    <a:lnTo>
                      <a:pt x="271" y="443"/>
                    </a:lnTo>
                    <a:lnTo>
                      <a:pt x="263" y="475"/>
                    </a:lnTo>
                    <a:lnTo>
                      <a:pt x="254" y="514"/>
                    </a:lnTo>
                    <a:lnTo>
                      <a:pt x="245" y="559"/>
                    </a:lnTo>
                    <a:lnTo>
                      <a:pt x="234" y="613"/>
                    </a:lnTo>
                    <a:lnTo>
                      <a:pt x="224" y="676"/>
                    </a:lnTo>
                    <a:lnTo>
                      <a:pt x="213" y="749"/>
                    </a:lnTo>
                    <a:lnTo>
                      <a:pt x="279" y="758"/>
                    </a:lnTo>
                    <a:lnTo>
                      <a:pt x="290" y="687"/>
                    </a:lnTo>
                    <a:lnTo>
                      <a:pt x="301" y="624"/>
                    </a:lnTo>
                    <a:lnTo>
                      <a:pt x="311" y="572"/>
                    </a:lnTo>
                    <a:lnTo>
                      <a:pt x="320" y="527"/>
                    </a:lnTo>
                    <a:lnTo>
                      <a:pt x="329" y="490"/>
                    </a:lnTo>
                    <a:lnTo>
                      <a:pt x="336" y="460"/>
                    </a:lnTo>
                    <a:lnTo>
                      <a:pt x="343" y="437"/>
                    </a:lnTo>
                    <a:lnTo>
                      <a:pt x="347" y="420"/>
                    </a:lnTo>
                    <a:lnTo>
                      <a:pt x="355" y="401"/>
                    </a:lnTo>
                    <a:lnTo>
                      <a:pt x="354" y="402"/>
                    </a:lnTo>
                    <a:lnTo>
                      <a:pt x="298" y="365"/>
                    </a:lnTo>
                    <a:lnTo>
                      <a:pt x="296" y="370"/>
                    </a:lnTo>
                    <a:lnTo>
                      <a:pt x="296" y="369"/>
                    </a:lnTo>
                    <a:lnTo>
                      <a:pt x="296" y="369"/>
                    </a:lnTo>
                    <a:lnTo>
                      <a:pt x="295" y="370"/>
                    </a:lnTo>
                    <a:lnTo>
                      <a:pt x="291" y="370"/>
                    </a:lnTo>
                    <a:lnTo>
                      <a:pt x="291" y="370"/>
                    </a:lnTo>
                    <a:lnTo>
                      <a:pt x="289" y="369"/>
                    </a:lnTo>
                    <a:lnTo>
                      <a:pt x="286" y="369"/>
                    </a:lnTo>
                    <a:lnTo>
                      <a:pt x="282" y="367"/>
                    </a:lnTo>
                    <a:lnTo>
                      <a:pt x="277" y="364"/>
                    </a:lnTo>
                    <a:lnTo>
                      <a:pt x="271" y="361"/>
                    </a:lnTo>
                    <a:lnTo>
                      <a:pt x="265" y="356"/>
                    </a:lnTo>
                    <a:lnTo>
                      <a:pt x="258" y="349"/>
                    </a:lnTo>
                    <a:lnTo>
                      <a:pt x="250" y="343"/>
                    </a:lnTo>
                    <a:lnTo>
                      <a:pt x="242" y="333"/>
                    </a:lnTo>
                    <a:lnTo>
                      <a:pt x="233" y="324"/>
                    </a:lnTo>
                    <a:lnTo>
                      <a:pt x="224" y="312"/>
                    </a:lnTo>
                    <a:lnTo>
                      <a:pt x="214" y="299"/>
                    </a:lnTo>
                    <a:lnTo>
                      <a:pt x="202" y="283"/>
                    </a:lnTo>
                    <a:lnTo>
                      <a:pt x="191" y="266"/>
                    </a:lnTo>
                    <a:lnTo>
                      <a:pt x="180" y="248"/>
                    </a:lnTo>
                    <a:lnTo>
                      <a:pt x="167" y="227"/>
                    </a:lnTo>
                    <a:lnTo>
                      <a:pt x="153" y="205"/>
                    </a:lnTo>
                    <a:lnTo>
                      <a:pt x="141" y="179"/>
                    </a:lnTo>
                    <a:lnTo>
                      <a:pt x="126" y="152"/>
                    </a:lnTo>
                    <a:lnTo>
                      <a:pt x="96" y="90"/>
                    </a:lnTo>
                    <a:lnTo>
                      <a:pt x="65" y="20"/>
                    </a:lnTo>
                    <a:lnTo>
                      <a:pt x="36" y="0"/>
                    </a:lnTo>
                    <a:lnTo>
                      <a:pt x="65" y="20"/>
                    </a:lnTo>
                    <a:lnTo>
                      <a:pt x="60" y="13"/>
                    </a:lnTo>
                    <a:lnTo>
                      <a:pt x="55" y="8"/>
                    </a:lnTo>
                    <a:lnTo>
                      <a:pt x="50" y="4"/>
                    </a:lnTo>
                    <a:lnTo>
                      <a:pt x="44" y="1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3" y="47"/>
                    </a:lnTo>
                    <a:lnTo>
                      <a:pt x="3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3218040" y="4014720"/>
                <a:ext cx="172800" cy="160560"/>
              </a:xfrm>
              <a:custGeom>
                <a:avLst/>
                <a:gdLst/>
                <a:ahLst/>
                <a:rect l="l" t="t" r="r" b="b"/>
                <a:pathLst>
                  <a:path w="546" h="505">
                    <a:moveTo>
                      <a:pt x="68" y="33"/>
                    </a:moveTo>
                    <a:lnTo>
                      <a:pt x="3" y="46"/>
                    </a:lnTo>
                    <a:lnTo>
                      <a:pt x="19" y="86"/>
                    </a:lnTo>
                    <a:lnTo>
                      <a:pt x="38" y="126"/>
                    </a:lnTo>
                    <a:lnTo>
                      <a:pt x="58" y="166"/>
                    </a:lnTo>
                    <a:lnTo>
                      <a:pt x="80" y="205"/>
                    </a:lnTo>
                    <a:lnTo>
                      <a:pt x="91" y="223"/>
                    </a:lnTo>
                    <a:lnTo>
                      <a:pt x="104" y="242"/>
                    </a:lnTo>
                    <a:lnTo>
                      <a:pt x="117" y="261"/>
                    </a:lnTo>
                    <a:lnTo>
                      <a:pt x="130" y="278"/>
                    </a:lnTo>
                    <a:lnTo>
                      <a:pt x="145" y="296"/>
                    </a:lnTo>
                    <a:lnTo>
                      <a:pt x="160" y="313"/>
                    </a:lnTo>
                    <a:lnTo>
                      <a:pt x="174" y="329"/>
                    </a:lnTo>
                    <a:lnTo>
                      <a:pt x="190" y="345"/>
                    </a:lnTo>
                    <a:lnTo>
                      <a:pt x="206" y="361"/>
                    </a:lnTo>
                    <a:lnTo>
                      <a:pt x="223" y="376"/>
                    </a:lnTo>
                    <a:lnTo>
                      <a:pt x="242" y="391"/>
                    </a:lnTo>
                    <a:lnTo>
                      <a:pt x="260" y="404"/>
                    </a:lnTo>
                    <a:lnTo>
                      <a:pt x="279" y="417"/>
                    </a:lnTo>
                    <a:lnTo>
                      <a:pt x="300" y="429"/>
                    </a:lnTo>
                    <a:lnTo>
                      <a:pt x="320" y="441"/>
                    </a:lnTo>
                    <a:lnTo>
                      <a:pt x="342" y="451"/>
                    </a:lnTo>
                    <a:lnTo>
                      <a:pt x="364" y="461"/>
                    </a:lnTo>
                    <a:lnTo>
                      <a:pt x="386" y="470"/>
                    </a:lnTo>
                    <a:lnTo>
                      <a:pt x="410" y="478"/>
                    </a:lnTo>
                    <a:lnTo>
                      <a:pt x="435" y="485"/>
                    </a:lnTo>
                    <a:lnTo>
                      <a:pt x="461" y="492"/>
                    </a:lnTo>
                    <a:lnTo>
                      <a:pt x="487" y="497"/>
                    </a:lnTo>
                    <a:lnTo>
                      <a:pt x="513" y="501"/>
                    </a:lnTo>
                    <a:lnTo>
                      <a:pt x="540" y="505"/>
                    </a:lnTo>
                    <a:lnTo>
                      <a:pt x="546" y="437"/>
                    </a:lnTo>
                    <a:lnTo>
                      <a:pt x="522" y="434"/>
                    </a:lnTo>
                    <a:lnTo>
                      <a:pt x="498" y="430"/>
                    </a:lnTo>
                    <a:lnTo>
                      <a:pt x="474" y="426"/>
                    </a:lnTo>
                    <a:lnTo>
                      <a:pt x="453" y="420"/>
                    </a:lnTo>
                    <a:lnTo>
                      <a:pt x="431" y="415"/>
                    </a:lnTo>
                    <a:lnTo>
                      <a:pt x="410" y="407"/>
                    </a:lnTo>
                    <a:lnTo>
                      <a:pt x="390" y="399"/>
                    </a:lnTo>
                    <a:lnTo>
                      <a:pt x="370" y="391"/>
                    </a:lnTo>
                    <a:lnTo>
                      <a:pt x="352" y="381"/>
                    </a:lnTo>
                    <a:lnTo>
                      <a:pt x="334" y="371"/>
                    </a:lnTo>
                    <a:lnTo>
                      <a:pt x="316" y="360"/>
                    </a:lnTo>
                    <a:lnTo>
                      <a:pt x="299" y="348"/>
                    </a:lnTo>
                    <a:lnTo>
                      <a:pt x="283" y="337"/>
                    </a:lnTo>
                    <a:lnTo>
                      <a:pt x="267" y="324"/>
                    </a:lnTo>
                    <a:lnTo>
                      <a:pt x="252" y="311"/>
                    </a:lnTo>
                    <a:lnTo>
                      <a:pt x="237" y="297"/>
                    </a:lnTo>
                    <a:lnTo>
                      <a:pt x="223" y="282"/>
                    </a:lnTo>
                    <a:lnTo>
                      <a:pt x="210" y="267"/>
                    </a:lnTo>
                    <a:lnTo>
                      <a:pt x="196" y="253"/>
                    </a:lnTo>
                    <a:lnTo>
                      <a:pt x="184" y="237"/>
                    </a:lnTo>
                    <a:lnTo>
                      <a:pt x="171" y="221"/>
                    </a:lnTo>
                    <a:lnTo>
                      <a:pt x="160" y="203"/>
                    </a:lnTo>
                    <a:lnTo>
                      <a:pt x="148" y="186"/>
                    </a:lnTo>
                    <a:lnTo>
                      <a:pt x="138" y="169"/>
                    </a:lnTo>
                    <a:lnTo>
                      <a:pt x="117" y="134"/>
                    </a:lnTo>
                    <a:lnTo>
                      <a:pt x="98" y="97"/>
                    </a:lnTo>
                    <a:lnTo>
                      <a:pt x="81" y="60"/>
                    </a:lnTo>
                    <a:lnTo>
                      <a:pt x="66" y="22"/>
                    </a:lnTo>
                    <a:lnTo>
                      <a:pt x="1" y="33"/>
                    </a:lnTo>
                    <a:lnTo>
                      <a:pt x="66" y="22"/>
                    </a:lnTo>
                    <a:lnTo>
                      <a:pt x="63" y="14"/>
                    </a:lnTo>
                    <a:lnTo>
                      <a:pt x="58" y="8"/>
                    </a:lnTo>
                    <a:lnTo>
                      <a:pt x="52" y="5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6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3" y="46"/>
                    </a:lnTo>
                    <a:lnTo>
                      <a:pt x="68" y="3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2595600" y="4017960"/>
                <a:ext cx="303120" cy="382680"/>
              </a:xfrm>
              <a:custGeom>
                <a:avLst/>
                <a:gdLst/>
                <a:ahLst/>
                <a:rect l="l" t="t" r="r" b="b"/>
                <a:pathLst>
                  <a:path w="951" h="1207">
                    <a:moveTo>
                      <a:pt x="265" y="12"/>
                    </a:moveTo>
                    <a:lnTo>
                      <a:pt x="244" y="26"/>
                    </a:lnTo>
                    <a:lnTo>
                      <a:pt x="223" y="41"/>
                    </a:lnTo>
                    <a:lnTo>
                      <a:pt x="204" y="55"/>
                    </a:lnTo>
                    <a:lnTo>
                      <a:pt x="186" y="71"/>
                    </a:lnTo>
                    <a:lnTo>
                      <a:pt x="168" y="87"/>
                    </a:lnTo>
                    <a:lnTo>
                      <a:pt x="153" y="104"/>
                    </a:lnTo>
                    <a:lnTo>
                      <a:pt x="137" y="123"/>
                    </a:lnTo>
                    <a:lnTo>
                      <a:pt x="123" y="141"/>
                    </a:lnTo>
                    <a:lnTo>
                      <a:pt x="109" y="159"/>
                    </a:lnTo>
                    <a:lnTo>
                      <a:pt x="98" y="179"/>
                    </a:lnTo>
                    <a:lnTo>
                      <a:pt x="86" y="198"/>
                    </a:lnTo>
                    <a:lnTo>
                      <a:pt x="76" y="219"/>
                    </a:lnTo>
                    <a:lnTo>
                      <a:pt x="66" y="239"/>
                    </a:lnTo>
                    <a:lnTo>
                      <a:pt x="58" y="261"/>
                    </a:lnTo>
                    <a:lnTo>
                      <a:pt x="50" y="282"/>
                    </a:lnTo>
                    <a:lnTo>
                      <a:pt x="42" y="304"/>
                    </a:lnTo>
                    <a:lnTo>
                      <a:pt x="35" y="327"/>
                    </a:lnTo>
                    <a:lnTo>
                      <a:pt x="29" y="350"/>
                    </a:lnTo>
                    <a:lnTo>
                      <a:pt x="25" y="373"/>
                    </a:lnTo>
                    <a:lnTo>
                      <a:pt x="20" y="397"/>
                    </a:lnTo>
                    <a:lnTo>
                      <a:pt x="12" y="444"/>
                    </a:lnTo>
                    <a:lnTo>
                      <a:pt x="7" y="494"/>
                    </a:lnTo>
                    <a:lnTo>
                      <a:pt x="3" y="544"/>
                    </a:lnTo>
                    <a:lnTo>
                      <a:pt x="1" y="595"/>
                    </a:lnTo>
                    <a:lnTo>
                      <a:pt x="0" y="648"/>
                    </a:lnTo>
                    <a:lnTo>
                      <a:pt x="0" y="700"/>
                    </a:lnTo>
                    <a:lnTo>
                      <a:pt x="5" y="722"/>
                    </a:lnTo>
                    <a:lnTo>
                      <a:pt x="13" y="742"/>
                    </a:lnTo>
                    <a:lnTo>
                      <a:pt x="21" y="763"/>
                    </a:lnTo>
                    <a:lnTo>
                      <a:pt x="31" y="783"/>
                    </a:lnTo>
                    <a:lnTo>
                      <a:pt x="40" y="804"/>
                    </a:lnTo>
                    <a:lnTo>
                      <a:pt x="51" y="823"/>
                    </a:lnTo>
                    <a:lnTo>
                      <a:pt x="62" y="843"/>
                    </a:lnTo>
                    <a:lnTo>
                      <a:pt x="76" y="862"/>
                    </a:lnTo>
                    <a:lnTo>
                      <a:pt x="90" y="881"/>
                    </a:lnTo>
                    <a:lnTo>
                      <a:pt x="103" y="900"/>
                    </a:lnTo>
                    <a:lnTo>
                      <a:pt x="119" y="918"/>
                    </a:lnTo>
                    <a:lnTo>
                      <a:pt x="135" y="935"/>
                    </a:lnTo>
                    <a:lnTo>
                      <a:pt x="153" y="953"/>
                    </a:lnTo>
                    <a:lnTo>
                      <a:pt x="170" y="970"/>
                    </a:lnTo>
                    <a:lnTo>
                      <a:pt x="189" y="986"/>
                    </a:lnTo>
                    <a:lnTo>
                      <a:pt x="208" y="1003"/>
                    </a:lnTo>
                    <a:lnTo>
                      <a:pt x="228" y="1019"/>
                    </a:lnTo>
                    <a:lnTo>
                      <a:pt x="248" y="1034"/>
                    </a:lnTo>
                    <a:lnTo>
                      <a:pt x="269" y="1050"/>
                    </a:lnTo>
                    <a:lnTo>
                      <a:pt x="292" y="1064"/>
                    </a:lnTo>
                    <a:lnTo>
                      <a:pt x="313" y="1079"/>
                    </a:lnTo>
                    <a:lnTo>
                      <a:pt x="336" y="1092"/>
                    </a:lnTo>
                    <a:lnTo>
                      <a:pt x="360" y="1106"/>
                    </a:lnTo>
                    <a:lnTo>
                      <a:pt x="384" y="1119"/>
                    </a:lnTo>
                    <a:lnTo>
                      <a:pt x="408" y="1131"/>
                    </a:lnTo>
                    <a:lnTo>
                      <a:pt x="433" y="1144"/>
                    </a:lnTo>
                    <a:lnTo>
                      <a:pt x="458" y="1155"/>
                    </a:lnTo>
                    <a:lnTo>
                      <a:pt x="484" y="1167"/>
                    </a:lnTo>
                    <a:lnTo>
                      <a:pt x="510" y="1178"/>
                    </a:lnTo>
                    <a:lnTo>
                      <a:pt x="537" y="1188"/>
                    </a:lnTo>
                    <a:lnTo>
                      <a:pt x="564" y="1197"/>
                    </a:lnTo>
                    <a:lnTo>
                      <a:pt x="591" y="1207"/>
                    </a:lnTo>
                    <a:lnTo>
                      <a:pt x="644" y="1146"/>
                    </a:lnTo>
                    <a:lnTo>
                      <a:pt x="692" y="1089"/>
                    </a:lnTo>
                    <a:lnTo>
                      <a:pt x="736" y="1035"/>
                    </a:lnTo>
                    <a:lnTo>
                      <a:pt x="776" y="984"/>
                    </a:lnTo>
                    <a:lnTo>
                      <a:pt x="794" y="960"/>
                    </a:lnTo>
                    <a:lnTo>
                      <a:pt x="811" y="936"/>
                    </a:lnTo>
                    <a:lnTo>
                      <a:pt x="827" y="912"/>
                    </a:lnTo>
                    <a:lnTo>
                      <a:pt x="842" y="889"/>
                    </a:lnTo>
                    <a:lnTo>
                      <a:pt x="857" y="865"/>
                    </a:lnTo>
                    <a:lnTo>
                      <a:pt x="870" y="843"/>
                    </a:lnTo>
                    <a:lnTo>
                      <a:pt x="882" y="820"/>
                    </a:lnTo>
                    <a:lnTo>
                      <a:pt x="894" y="796"/>
                    </a:lnTo>
                    <a:lnTo>
                      <a:pt x="904" y="773"/>
                    </a:lnTo>
                    <a:lnTo>
                      <a:pt x="913" y="749"/>
                    </a:lnTo>
                    <a:lnTo>
                      <a:pt x="921" y="725"/>
                    </a:lnTo>
                    <a:lnTo>
                      <a:pt x="928" y="701"/>
                    </a:lnTo>
                    <a:lnTo>
                      <a:pt x="933" y="676"/>
                    </a:lnTo>
                    <a:lnTo>
                      <a:pt x="939" y="651"/>
                    </a:lnTo>
                    <a:lnTo>
                      <a:pt x="944" y="625"/>
                    </a:lnTo>
                    <a:lnTo>
                      <a:pt x="947" y="598"/>
                    </a:lnTo>
                    <a:lnTo>
                      <a:pt x="949" y="571"/>
                    </a:lnTo>
                    <a:lnTo>
                      <a:pt x="951" y="543"/>
                    </a:lnTo>
                    <a:lnTo>
                      <a:pt x="951" y="513"/>
                    </a:lnTo>
                    <a:lnTo>
                      <a:pt x="951" y="482"/>
                    </a:lnTo>
                    <a:lnTo>
                      <a:pt x="948" y="450"/>
                    </a:lnTo>
                    <a:lnTo>
                      <a:pt x="946" y="417"/>
                    </a:lnTo>
                    <a:lnTo>
                      <a:pt x="943" y="383"/>
                    </a:lnTo>
                    <a:lnTo>
                      <a:pt x="938" y="347"/>
                    </a:lnTo>
                    <a:lnTo>
                      <a:pt x="925" y="322"/>
                    </a:lnTo>
                    <a:lnTo>
                      <a:pt x="912" y="298"/>
                    </a:lnTo>
                    <a:lnTo>
                      <a:pt x="898" y="274"/>
                    </a:lnTo>
                    <a:lnTo>
                      <a:pt x="883" y="253"/>
                    </a:lnTo>
                    <a:lnTo>
                      <a:pt x="868" y="231"/>
                    </a:lnTo>
                    <a:lnTo>
                      <a:pt x="852" y="211"/>
                    </a:lnTo>
                    <a:lnTo>
                      <a:pt x="837" y="191"/>
                    </a:lnTo>
                    <a:lnTo>
                      <a:pt x="821" y="173"/>
                    </a:lnTo>
                    <a:lnTo>
                      <a:pt x="803" y="155"/>
                    </a:lnTo>
                    <a:lnTo>
                      <a:pt x="785" y="139"/>
                    </a:lnTo>
                    <a:lnTo>
                      <a:pt x="767" y="123"/>
                    </a:lnTo>
                    <a:lnTo>
                      <a:pt x="749" y="108"/>
                    </a:lnTo>
                    <a:lnTo>
                      <a:pt x="729" y="94"/>
                    </a:lnTo>
                    <a:lnTo>
                      <a:pt x="710" y="82"/>
                    </a:lnTo>
                    <a:lnTo>
                      <a:pt x="689" y="69"/>
                    </a:lnTo>
                    <a:lnTo>
                      <a:pt x="669" y="58"/>
                    </a:lnTo>
                    <a:lnTo>
                      <a:pt x="647" y="49"/>
                    </a:lnTo>
                    <a:lnTo>
                      <a:pt x="626" y="39"/>
                    </a:lnTo>
                    <a:lnTo>
                      <a:pt x="603" y="31"/>
                    </a:lnTo>
                    <a:lnTo>
                      <a:pt x="580" y="23"/>
                    </a:lnTo>
                    <a:lnTo>
                      <a:pt x="557" y="18"/>
                    </a:lnTo>
                    <a:lnTo>
                      <a:pt x="533" y="12"/>
                    </a:lnTo>
                    <a:lnTo>
                      <a:pt x="508" y="7"/>
                    </a:lnTo>
                    <a:lnTo>
                      <a:pt x="484" y="4"/>
                    </a:lnTo>
                    <a:lnTo>
                      <a:pt x="458" y="2"/>
                    </a:lnTo>
                    <a:lnTo>
                      <a:pt x="432" y="1"/>
                    </a:lnTo>
                    <a:lnTo>
                      <a:pt x="406" y="0"/>
                    </a:lnTo>
                    <a:lnTo>
                      <a:pt x="379" y="1"/>
                    </a:lnTo>
                    <a:lnTo>
                      <a:pt x="351" y="2"/>
                    </a:lnTo>
                    <a:lnTo>
                      <a:pt x="324" y="4"/>
                    </a:lnTo>
                    <a:lnTo>
                      <a:pt x="295" y="7"/>
                    </a:lnTo>
                    <a:lnTo>
                      <a:pt x="26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2585880" y="4011480"/>
                <a:ext cx="100080" cy="239760"/>
              </a:xfrm>
              <a:custGeom>
                <a:avLst/>
                <a:gdLst/>
                <a:ahLst/>
                <a:rect l="l" t="t" r="r" b="b"/>
                <a:pathLst>
                  <a:path w="315" h="751">
                    <a:moveTo>
                      <a:pt x="66" y="710"/>
                    </a:moveTo>
                    <a:lnTo>
                      <a:pt x="67" y="718"/>
                    </a:lnTo>
                    <a:lnTo>
                      <a:pt x="67" y="666"/>
                    </a:lnTo>
                    <a:lnTo>
                      <a:pt x="68" y="614"/>
                    </a:lnTo>
                    <a:lnTo>
                      <a:pt x="69" y="564"/>
                    </a:lnTo>
                    <a:lnTo>
                      <a:pt x="74" y="515"/>
                    </a:lnTo>
                    <a:lnTo>
                      <a:pt x="78" y="467"/>
                    </a:lnTo>
                    <a:lnTo>
                      <a:pt x="86" y="420"/>
                    </a:lnTo>
                    <a:lnTo>
                      <a:pt x="91" y="397"/>
                    </a:lnTo>
                    <a:lnTo>
                      <a:pt x="95" y="376"/>
                    </a:lnTo>
                    <a:lnTo>
                      <a:pt x="101" y="353"/>
                    </a:lnTo>
                    <a:lnTo>
                      <a:pt x="108" y="332"/>
                    </a:lnTo>
                    <a:lnTo>
                      <a:pt x="115" y="311"/>
                    </a:lnTo>
                    <a:lnTo>
                      <a:pt x="122" y="291"/>
                    </a:lnTo>
                    <a:lnTo>
                      <a:pt x="130" y="271"/>
                    </a:lnTo>
                    <a:lnTo>
                      <a:pt x="139" y="251"/>
                    </a:lnTo>
                    <a:lnTo>
                      <a:pt x="149" y="232"/>
                    </a:lnTo>
                    <a:lnTo>
                      <a:pt x="159" y="214"/>
                    </a:lnTo>
                    <a:lnTo>
                      <a:pt x="171" y="197"/>
                    </a:lnTo>
                    <a:lnTo>
                      <a:pt x="183" y="178"/>
                    </a:lnTo>
                    <a:lnTo>
                      <a:pt x="196" y="161"/>
                    </a:lnTo>
                    <a:lnTo>
                      <a:pt x="209" y="145"/>
                    </a:lnTo>
                    <a:lnTo>
                      <a:pt x="225" y="129"/>
                    </a:lnTo>
                    <a:lnTo>
                      <a:pt x="241" y="114"/>
                    </a:lnTo>
                    <a:lnTo>
                      <a:pt x="258" y="100"/>
                    </a:lnTo>
                    <a:lnTo>
                      <a:pt x="277" y="85"/>
                    </a:lnTo>
                    <a:lnTo>
                      <a:pt x="295" y="71"/>
                    </a:lnTo>
                    <a:lnTo>
                      <a:pt x="315" y="59"/>
                    </a:lnTo>
                    <a:lnTo>
                      <a:pt x="281" y="0"/>
                    </a:lnTo>
                    <a:lnTo>
                      <a:pt x="257" y="15"/>
                    </a:lnTo>
                    <a:lnTo>
                      <a:pt x="236" y="31"/>
                    </a:lnTo>
                    <a:lnTo>
                      <a:pt x="215" y="47"/>
                    </a:lnTo>
                    <a:lnTo>
                      <a:pt x="196" y="64"/>
                    </a:lnTo>
                    <a:lnTo>
                      <a:pt x="178" y="83"/>
                    </a:lnTo>
                    <a:lnTo>
                      <a:pt x="160" y="101"/>
                    </a:lnTo>
                    <a:lnTo>
                      <a:pt x="143" y="119"/>
                    </a:lnTo>
                    <a:lnTo>
                      <a:pt x="129" y="138"/>
                    </a:lnTo>
                    <a:lnTo>
                      <a:pt x="115" y="159"/>
                    </a:lnTo>
                    <a:lnTo>
                      <a:pt x="101" y="180"/>
                    </a:lnTo>
                    <a:lnTo>
                      <a:pt x="90" y="200"/>
                    </a:lnTo>
                    <a:lnTo>
                      <a:pt x="78" y="222"/>
                    </a:lnTo>
                    <a:lnTo>
                      <a:pt x="68" y="243"/>
                    </a:lnTo>
                    <a:lnTo>
                      <a:pt x="59" y="266"/>
                    </a:lnTo>
                    <a:lnTo>
                      <a:pt x="51" y="289"/>
                    </a:lnTo>
                    <a:lnTo>
                      <a:pt x="43" y="312"/>
                    </a:lnTo>
                    <a:lnTo>
                      <a:pt x="36" y="336"/>
                    </a:lnTo>
                    <a:lnTo>
                      <a:pt x="30" y="360"/>
                    </a:lnTo>
                    <a:lnTo>
                      <a:pt x="25" y="384"/>
                    </a:lnTo>
                    <a:lnTo>
                      <a:pt x="20" y="409"/>
                    </a:lnTo>
                    <a:lnTo>
                      <a:pt x="12" y="458"/>
                    </a:lnTo>
                    <a:lnTo>
                      <a:pt x="7" y="508"/>
                    </a:lnTo>
                    <a:lnTo>
                      <a:pt x="2" y="561"/>
                    </a:lnTo>
                    <a:lnTo>
                      <a:pt x="1" y="612"/>
                    </a:lnTo>
                    <a:lnTo>
                      <a:pt x="0" y="664"/>
                    </a:lnTo>
                    <a:lnTo>
                      <a:pt x="0" y="718"/>
                    </a:lnTo>
                    <a:lnTo>
                      <a:pt x="1" y="726"/>
                    </a:lnTo>
                    <a:lnTo>
                      <a:pt x="0" y="718"/>
                    </a:lnTo>
                    <a:lnTo>
                      <a:pt x="0" y="726"/>
                    </a:lnTo>
                    <a:lnTo>
                      <a:pt x="2" y="733"/>
                    </a:lnTo>
                    <a:lnTo>
                      <a:pt x="5" y="739"/>
                    </a:lnTo>
                    <a:lnTo>
                      <a:pt x="10" y="743"/>
                    </a:lnTo>
                    <a:lnTo>
                      <a:pt x="16" y="747"/>
                    </a:lnTo>
                    <a:lnTo>
                      <a:pt x="21" y="750"/>
                    </a:lnTo>
                    <a:lnTo>
                      <a:pt x="27" y="751"/>
                    </a:lnTo>
                    <a:lnTo>
                      <a:pt x="33" y="751"/>
                    </a:lnTo>
                    <a:lnTo>
                      <a:pt x="40" y="751"/>
                    </a:lnTo>
                    <a:lnTo>
                      <a:pt x="45" y="749"/>
                    </a:lnTo>
                    <a:lnTo>
                      <a:pt x="51" y="747"/>
                    </a:lnTo>
                    <a:lnTo>
                      <a:pt x="57" y="743"/>
                    </a:lnTo>
                    <a:lnTo>
                      <a:pt x="60" y="739"/>
                    </a:lnTo>
                    <a:lnTo>
                      <a:pt x="64" y="733"/>
                    </a:lnTo>
                    <a:lnTo>
                      <a:pt x="66" y="726"/>
                    </a:lnTo>
                    <a:lnTo>
                      <a:pt x="67" y="718"/>
                    </a:lnTo>
                    <a:lnTo>
                      <a:pt x="66" y="7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2585880" y="4237200"/>
                <a:ext cx="208080" cy="174600"/>
              </a:xfrm>
              <a:custGeom>
                <a:avLst/>
                <a:gdLst/>
                <a:ahLst/>
                <a:rect l="l" t="t" r="r" b="b"/>
                <a:pathLst>
                  <a:path w="656" h="549">
                    <a:moveTo>
                      <a:pt x="597" y="493"/>
                    </a:moveTo>
                    <a:lnTo>
                      <a:pt x="634" y="483"/>
                    </a:lnTo>
                    <a:lnTo>
                      <a:pt x="607" y="473"/>
                    </a:lnTo>
                    <a:lnTo>
                      <a:pt x="581" y="464"/>
                    </a:lnTo>
                    <a:lnTo>
                      <a:pt x="555" y="454"/>
                    </a:lnTo>
                    <a:lnTo>
                      <a:pt x="529" y="444"/>
                    </a:lnTo>
                    <a:lnTo>
                      <a:pt x="504" y="432"/>
                    </a:lnTo>
                    <a:lnTo>
                      <a:pt x="480" y="421"/>
                    </a:lnTo>
                    <a:lnTo>
                      <a:pt x="455" y="410"/>
                    </a:lnTo>
                    <a:lnTo>
                      <a:pt x="432" y="397"/>
                    </a:lnTo>
                    <a:lnTo>
                      <a:pt x="408" y="385"/>
                    </a:lnTo>
                    <a:lnTo>
                      <a:pt x="385" y="372"/>
                    </a:lnTo>
                    <a:lnTo>
                      <a:pt x="363" y="358"/>
                    </a:lnTo>
                    <a:lnTo>
                      <a:pt x="342" y="345"/>
                    </a:lnTo>
                    <a:lnTo>
                      <a:pt x="320" y="330"/>
                    </a:lnTo>
                    <a:lnTo>
                      <a:pt x="300" y="315"/>
                    </a:lnTo>
                    <a:lnTo>
                      <a:pt x="280" y="300"/>
                    </a:lnTo>
                    <a:lnTo>
                      <a:pt x="261" y="285"/>
                    </a:lnTo>
                    <a:lnTo>
                      <a:pt x="243" y="269"/>
                    </a:lnTo>
                    <a:lnTo>
                      <a:pt x="226" y="253"/>
                    </a:lnTo>
                    <a:lnTo>
                      <a:pt x="208" y="237"/>
                    </a:lnTo>
                    <a:lnTo>
                      <a:pt x="192" y="220"/>
                    </a:lnTo>
                    <a:lnTo>
                      <a:pt x="177" y="203"/>
                    </a:lnTo>
                    <a:lnTo>
                      <a:pt x="162" y="186"/>
                    </a:lnTo>
                    <a:lnTo>
                      <a:pt x="148" y="169"/>
                    </a:lnTo>
                    <a:lnTo>
                      <a:pt x="135" y="151"/>
                    </a:lnTo>
                    <a:lnTo>
                      <a:pt x="123" y="134"/>
                    </a:lnTo>
                    <a:lnTo>
                      <a:pt x="113" y="114"/>
                    </a:lnTo>
                    <a:lnTo>
                      <a:pt x="102" y="96"/>
                    </a:lnTo>
                    <a:lnTo>
                      <a:pt x="92" y="78"/>
                    </a:lnTo>
                    <a:lnTo>
                      <a:pt x="84" y="58"/>
                    </a:lnTo>
                    <a:lnTo>
                      <a:pt x="77" y="39"/>
                    </a:lnTo>
                    <a:lnTo>
                      <a:pt x="71" y="19"/>
                    </a:lnTo>
                    <a:lnTo>
                      <a:pt x="65" y="0"/>
                    </a:lnTo>
                    <a:lnTo>
                      <a:pt x="0" y="16"/>
                    </a:lnTo>
                    <a:lnTo>
                      <a:pt x="6" y="39"/>
                    </a:lnTo>
                    <a:lnTo>
                      <a:pt x="14" y="62"/>
                    </a:lnTo>
                    <a:lnTo>
                      <a:pt x="21" y="84"/>
                    </a:lnTo>
                    <a:lnTo>
                      <a:pt x="32" y="106"/>
                    </a:lnTo>
                    <a:lnTo>
                      <a:pt x="42" y="128"/>
                    </a:lnTo>
                    <a:lnTo>
                      <a:pt x="53" y="148"/>
                    </a:lnTo>
                    <a:lnTo>
                      <a:pt x="67" y="169"/>
                    </a:lnTo>
                    <a:lnTo>
                      <a:pt x="80" y="189"/>
                    </a:lnTo>
                    <a:lnTo>
                      <a:pt x="94" y="210"/>
                    </a:lnTo>
                    <a:lnTo>
                      <a:pt x="109" y="229"/>
                    </a:lnTo>
                    <a:lnTo>
                      <a:pt x="126" y="248"/>
                    </a:lnTo>
                    <a:lnTo>
                      <a:pt x="143" y="267"/>
                    </a:lnTo>
                    <a:lnTo>
                      <a:pt x="161" y="285"/>
                    </a:lnTo>
                    <a:lnTo>
                      <a:pt x="179" y="302"/>
                    </a:lnTo>
                    <a:lnTo>
                      <a:pt x="198" y="321"/>
                    </a:lnTo>
                    <a:lnTo>
                      <a:pt x="219" y="337"/>
                    </a:lnTo>
                    <a:lnTo>
                      <a:pt x="239" y="354"/>
                    </a:lnTo>
                    <a:lnTo>
                      <a:pt x="260" y="370"/>
                    </a:lnTo>
                    <a:lnTo>
                      <a:pt x="283" y="386"/>
                    </a:lnTo>
                    <a:lnTo>
                      <a:pt x="304" y="400"/>
                    </a:lnTo>
                    <a:lnTo>
                      <a:pt x="327" y="415"/>
                    </a:lnTo>
                    <a:lnTo>
                      <a:pt x="351" y="430"/>
                    </a:lnTo>
                    <a:lnTo>
                      <a:pt x="375" y="444"/>
                    </a:lnTo>
                    <a:lnTo>
                      <a:pt x="400" y="458"/>
                    </a:lnTo>
                    <a:lnTo>
                      <a:pt x="425" y="470"/>
                    </a:lnTo>
                    <a:lnTo>
                      <a:pt x="450" y="483"/>
                    </a:lnTo>
                    <a:lnTo>
                      <a:pt x="476" y="494"/>
                    </a:lnTo>
                    <a:lnTo>
                      <a:pt x="504" y="505"/>
                    </a:lnTo>
                    <a:lnTo>
                      <a:pt x="530" y="517"/>
                    </a:lnTo>
                    <a:lnTo>
                      <a:pt x="557" y="527"/>
                    </a:lnTo>
                    <a:lnTo>
                      <a:pt x="585" y="537"/>
                    </a:lnTo>
                    <a:lnTo>
                      <a:pt x="613" y="547"/>
                    </a:lnTo>
                    <a:lnTo>
                      <a:pt x="648" y="537"/>
                    </a:lnTo>
                    <a:lnTo>
                      <a:pt x="613" y="547"/>
                    </a:lnTo>
                    <a:lnTo>
                      <a:pt x="620" y="549"/>
                    </a:lnTo>
                    <a:lnTo>
                      <a:pt x="628" y="549"/>
                    </a:lnTo>
                    <a:lnTo>
                      <a:pt x="634" y="548"/>
                    </a:lnTo>
                    <a:lnTo>
                      <a:pt x="639" y="544"/>
                    </a:lnTo>
                    <a:lnTo>
                      <a:pt x="645" y="541"/>
                    </a:lnTo>
                    <a:lnTo>
                      <a:pt x="650" y="536"/>
                    </a:lnTo>
                    <a:lnTo>
                      <a:pt x="653" y="532"/>
                    </a:lnTo>
                    <a:lnTo>
                      <a:pt x="655" y="525"/>
                    </a:lnTo>
                    <a:lnTo>
                      <a:pt x="656" y="519"/>
                    </a:lnTo>
                    <a:lnTo>
                      <a:pt x="656" y="513"/>
                    </a:lnTo>
                    <a:lnTo>
                      <a:pt x="656" y="507"/>
                    </a:lnTo>
                    <a:lnTo>
                      <a:pt x="654" y="501"/>
                    </a:lnTo>
                    <a:lnTo>
                      <a:pt x="651" y="495"/>
                    </a:lnTo>
                    <a:lnTo>
                      <a:pt x="646" y="491"/>
                    </a:lnTo>
                    <a:lnTo>
                      <a:pt x="641" y="486"/>
                    </a:lnTo>
                    <a:lnTo>
                      <a:pt x="634" y="483"/>
                    </a:lnTo>
                    <a:lnTo>
                      <a:pt x="597" y="4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2774880" y="4118040"/>
                <a:ext cx="133560" cy="290520"/>
              </a:xfrm>
              <a:custGeom>
                <a:avLst/>
                <a:gdLst/>
                <a:ahLst/>
                <a:rect l="l" t="t" r="r" b="b"/>
                <a:pathLst>
                  <a:path w="420" h="916">
                    <a:moveTo>
                      <a:pt x="343" y="49"/>
                    </a:moveTo>
                    <a:lnTo>
                      <a:pt x="340" y="39"/>
                    </a:lnTo>
                    <a:lnTo>
                      <a:pt x="344" y="73"/>
                    </a:lnTo>
                    <a:lnTo>
                      <a:pt x="348" y="107"/>
                    </a:lnTo>
                    <a:lnTo>
                      <a:pt x="350" y="139"/>
                    </a:lnTo>
                    <a:lnTo>
                      <a:pt x="351" y="170"/>
                    </a:lnTo>
                    <a:lnTo>
                      <a:pt x="351" y="200"/>
                    </a:lnTo>
                    <a:lnTo>
                      <a:pt x="351" y="228"/>
                    </a:lnTo>
                    <a:lnTo>
                      <a:pt x="350" y="256"/>
                    </a:lnTo>
                    <a:lnTo>
                      <a:pt x="348" y="282"/>
                    </a:lnTo>
                    <a:lnTo>
                      <a:pt x="344" y="307"/>
                    </a:lnTo>
                    <a:lnTo>
                      <a:pt x="341" y="332"/>
                    </a:lnTo>
                    <a:lnTo>
                      <a:pt x="336" y="356"/>
                    </a:lnTo>
                    <a:lnTo>
                      <a:pt x="330" y="379"/>
                    </a:lnTo>
                    <a:lnTo>
                      <a:pt x="324" y="402"/>
                    </a:lnTo>
                    <a:lnTo>
                      <a:pt x="316" y="425"/>
                    </a:lnTo>
                    <a:lnTo>
                      <a:pt x="307" y="447"/>
                    </a:lnTo>
                    <a:lnTo>
                      <a:pt x="298" y="469"/>
                    </a:lnTo>
                    <a:lnTo>
                      <a:pt x="287" y="491"/>
                    </a:lnTo>
                    <a:lnTo>
                      <a:pt x="275" y="514"/>
                    </a:lnTo>
                    <a:lnTo>
                      <a:pt x="262" y="535"/>
                    </a:lnTo>
                    <a:lnTo>
                      <a:pt x="249" y="558"/>
                    </a:lnTo>
                    <a:lnTo>
                      <a:pt x="234" y="581"/>
                    </a:lnTo>
                    <a:lnTo>
                      <a:pt x="219" y="604"/>
                    </a:lnTo>
                    <a:lnTo>
                      <a:pt x="202" y="628"/>
                    </a:lnTo>
                    <a:lnTo>
                      <a:pt x="184" y="651"/>
                    </a:lnTo>
                    <a:lnTo>
                      <a:pt x="145" y="701"/>
                    </a:lnTo>
                    <a:lnTo>
                      <a:pt x="101" y="754"/>
                    </a:lnTo>
                    <a:lnTo>
                      <a:pt x="53" y="810"/>
                    </a:lnTo>
                    <a:lnTo>
                      <a:pt x="0" y="872"/>
                    </a:lnTo>
                    <a:lnTo>
                      <a:pt x="51" y="916"/>
                    </a:lnTo>
                    <a:lnTo>
                      <a:pt x="104" y="855"/>
                    </a:lnTo>
                    <a:lnTo>
                      <a:pt x="153" y="798"/>
                    </a:lnTo>
                    <a:lnTo>
                      <a:pt x="197" y="743"/>
                    </a:lnTo>
                    <a:lnTo>
                      <a:pt x="237" y="693"/>
                    </a:lnTo>
                    <a:lnTo>
                      <a:pt x="256" y="667"/>
                    </a:lnTo>
                    <a:lnTo>
                      <a:pt x="274" y="643"/>
                    </a:lnTo>
                    <a:lnTo>
                      <a:pt x="291" y="619"/>
                    </a:lnTo>
                    <a:lnTo>
                      <a:pt x="306" y="594"/>
                    </a:lnTo>
                    <a:lnTo>
                      <a:pt x="321" y="570"/>
                    </a:lnTo>
                    <a:lnTo>
                      <a:pt x="334" y="546"/>
                    </a:lnTo>
                    <a:lnTo>
                      <a:pt x="347" y="522"/>
                    </a:lnTo>
                    <a:lnTo>
                      <a:pt x="359" y="497"/>
                    </a:lnTo>
                    <a:lnTo>
                      <a:pt x="370" y="473"/>
                    </a:lnTo>
                    <a:lnTo>
                      <a:pt x="379" y="447"/>
                    </a:lnTo>
                    <a:lnTo>
                      <a:pt x="388" y="422"/>
                    </a:lnTo>
                    <a:lnTo>
                      <a:pt x="396" y="396"/>
                    </a:lnTo>
                    <a:lnTo>
                      <a:pt x="401" y="371"/>
                    </a:lnTo>
                    <a:lnTo>
                      <a:pt x="407" y="344"/>
                    </a:lnTo>
                    <a:lnTo>
                      <a:pt x="412" y="316"/>
                    </a:lnTo>
                    <a:lnTo>
                      <a:pt x="415" y="289"/>
                    </a:lnTo>
                    <a:lnTo>
                      <a:pt x="417" y="259"/>
                    </a:lnTo>
                    <a:lnTo>
                      <a:pt x="419" y="230"/>
                    </a:lnTo>
                    <a:lnTo>
                      <a:pt x="420" y="200"/>
                    </a:lnTo>
                    <a:lnTo>
                      <a:pt x="419" y="168"/>
                    </a:lnTo>
                    <a:lnTo>
                      <a:pt x="417" y="135"/>
                    </a:lnTo>
                    <a:lnTo>
                      <a:pt x="415" y="102"/>
                    </a:lnTo>
                    <a:lnTo>
                      <a:pt x="412" y="66"/>
                    </a:lnTo>
                    <a:lnTo>
                      <a:pt x="407" y="30"/>
                    </a:lnTo>
                    <a:lnTo>
                      <a:pt x="404" y="20"/>
                    </a:lnTo>
                    <a:lnTo>
                      <a:pt x="407" y="30"/>
                    </a:lnTo>
                    <a:lnTo>
                      <a:pt x="405" y="22"/>
                    </a:lnTo>
                    <a:lnTo>
                      <a:pt x="403" y="16"/>
                    </a:lnTo>
                    <a:lnTo>
                      <a:pt x="398" y="11"/>
                    </a:lnTo>
                    <a:lnTo>
                      <a:pt x="393" y="6"/>
                    </a:lnTo>
                    <a:lnTo>
                      <a:pt x="388" y="4"/>
                    </a:lnTo>
                    <a:lnTo>
                      <a:pt x="382" y="1"/>
                    </a:lnTo>
                    <a:lnTo>
                      <a:pt x="375" y="0"/>
                    </a:lnTo>
                    <a:lnTo>
                      <a:pt x="370" y="1"/>
                    </a:lnTo>
                    <a:lnTo>
                      <a:pt x="363" y="3"/>
                    </a:lnTo>
                    <a:lnTo>
                      <a:pt x="357" y="5"/>
                    </a:lnTo>
                    <a:lnTo>
                      <a:pt x="351" y="8"/>
                    </a:lnTo>
                    <a:lnTo>
                      <a:pt x="348" y="13"/>
                    </a:lnTo>
                    <a:lnTo>
                      <a:pt x="343" y="17"/>
                    </a:lnTo>
                    <a:lnTo>
                      <a:pt x="341" y="24"/>
                    </a:lnTo>
                    <a:lnTo>
                      <a:pt x="340" y="31"/>
                    </a:lnTo>
                    <a:lnTo>
                      <a:pt x="340" y="39"/>
                    </a:lnTo>
                    <a:lnTo>
                      <a:pt x="343" y="4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2670120" y="4006800"/>
                <a:ext cx="233280" cy="125640"/>
              </a:xfrm>
              <a:custGeom>
                <a:avLst/>
                <a:gdLst/>
                <a:ahLst/>
                <a:rect l="l" t="t" r="r" b="b"/>
                <a:pathLst>
                  <a:path w="738" h="396">
                    <a:moveTo>
                      <a:pt x="51" y="75"/>
                    </a:moveTo>
                    <a:lnTo>
                      <a:pt x="40" y="79"/>
                    </a:lnTo>
                    <a:lnTo>
                      <a:pt x="67" y="75"/>
                    </a:lnTo>
                    <a:lnTo>
                      <a:pt x="96" y="71"/>
                    </a:lnTo>
                    <a:lnTo>
                      <a:pt x="122" y="70"/>
                    </a:lnTo>
                    <a:lnTo>
                      <a:pt x="148" y="68"/>
                    </a:lnTo>
                    <a:lnTo>
                      <a:pt x="175" y="68"/>
                    </a:lnTo>
                    <a:lnTo>
                      <a:pt x="200" y="68"/>
                    </a:lnTo>
                    <a:lnTo>
                      <a:pt x="225" y="70"/>
                    </a:lnTo>
                    <a:lnTo>
                      <a:pt x="249" y="72"/>
                    </a:lnTo>
                    <a:lnTo>
                      <a:pt x="273" y="75"/>
                    </a:lnTo>
                    <a:lnTo>
                      <a:pt x="295" y="79"/>
                    </a:lnTo>
                    <a:lnTo>
                      <a:pt x="318" y="84"/>
                    </a:lnTo>
                    <a:lnTo>
                      <a:pt x="340" y="91"/>
                    </a:lnTo>
                    <a:lnTo>
                      <a:pt x="362" y="97"/>
                    </a:lnTo>
                    <a:lnTo>
                      <a:pt x="382" y="104"/>
                    </a:lnTo>
                    <a:lnTo>
                      <a:pt x="403" y="113"/>
                    </a:lnTo>
                    <a:lnTo>
                      <a:pt x="423" y="122"/>
                    </a:lnTo>
                    <a:lnTo>
                      <a:pt x="442" y="133"/>
                    </a:lnTo>
                    <a:lnTo>
                      <a:pt x="461" y="144"/>
                    </a:lnTo>
                    <a:lnTo>
                      <a:pt x="480" y="156"/>
                    </a:lnTo>
                    <a:lnTo>
                      <a:pt x="497" y="169"/>
                    </a:lnTo>
                    <a:lnTo>
                      <a:pt x="515" y="183"/>
                    </a:lnTo>
                    <a:lnTo>
                      <a:pt x="533" y="198"/>
                    </a:lnTo>
                    <a:lnTo>
                      <a:pt x="549" y="213"/>
                    </a:lnTo>
                    <a:lnTo>
                      <a:pt x="564" y="230"/>
                    </a:lnTo>
                    <a:lnTo>
                      <a:pt x="580" y="247"/>
                    </a:lnTo>
                    <a:lnTo>
                      <a:pt x="595" y="265"/>
                    </a:lnTo>
                    <a:lnTo>
                      <a:pt x="610" y="286"/>
                    </a:lnTo>
                    <a:lnTo>
                      <a:pt x="625" y="305"/>
                    </a:lnTo>
                    <a:lnTo>
                      <a:pt x="639" y="327"/>
                    </a:lnTo>
                    <a:lnTo>
                      <a:pt x="652" y="348"/>
                    </a:lnTo>
                    <a:lnTo>
                      <a:pt x="665" y="372"/>
                    </a:lnTo>
                    <a:lnTo>
                      <a:pt x="677" y="396"/>
                    </a:lnTo>
                    <a:lnTo>
                      <a:pt x="738" y="367"/>
                    </a:lnTo>
                    <a:lnTo>
                      <a:pt x="724" y="340"/>
                    </a:lnTo>
                    <a:lnTo>
                      <a:pt x="710" y="315"/>
                    </a:lnTo>
                    <a:lnTo>
                      <a:pt x="696" y="291"/>
                    </a:lnTo>
                    <a:lnTo>
                      <a:pt x="681" y="267"/>
                    </a:lnTo>
                    <a:lnTo>
                      <a:pt x="665" y="246"/>
                    </a:lnTo>
                    <a:lnTo>
                      <a:pt x="649" y="224"/>
                    </a:lnTo>
                    <a:lnTo>
                      <a:pt x="632" y="204"/>
                    </a:lnTo>
                    <a:lnTo>
                      <a:pt x="615" y="184"/>
                    </a:lnTo>
                    <a:lnTo>
                      <a:pt x="596" y="165"/>
                    </a:lnTo>
                    <a:lnTo>
                      <a:pt x="577" y="148"/>
                    </a:lnTo>
                    <a:lnTo>
                      <a:pt x="558" y="130"/>
                    </a:lnTo>
                    <a:lnTo>
                      <a:pt x="538" y="115"/>
                    </a:lnTo>
                    <a:lnTo>
                      <a:pt x="518" y="100"/>
                    </a:lnTo>
                    <a:lnTo>
                      <a:pt x="497" y="86"/>
                    </a:lnTo>
                    <a:lnTo>
                      <a:pt x="476" y="73"/>
                    </a:lnTo>
                    <a:lnTo>
                      <a:pt x="453" y="62"/>
                    </a:lnTo>
                    <a:lnTo>
                      <a:pt x="430" y="52"/>
                    </a:lnTo>
                    <a:lnTo>
                      <a:pt x="407" y="41"/>
                    </a:lnTo>
                    <a:lnTo>
                      <a:pt x="383" y="34"/>
                    </a:lnTo>
                    <a:lnTo>
                      <a:pt x="359" y="26"/>
                    </a:lnTo>
                    <a:lnTo>
                      <a:pt x="334" y="19"/>
                    </a:lnTo>
                    <a:lnTo>
                      <a:pt x="309" y="13"/>
                    </a:lnTo>
                    <a:lnTo>
                      <a:pt x="283" y="8"/>
                    </a:lnTo>
                    <a:lnTo>
                      <a:pt x="257" y="5"/>
                    </a:lnTo>
                    <a:lnTo>
                      <a:pt x="229" y="3"/>
                    </a:lnTo>
                    <a:lnTo>
                      <a:pt x="203" y="0"/>
                    </a:lnTo>
                    <a:lnTo>
                      <a:pt x="175" y="0"/>
                    </a:lnTo>
                    <a:lnTo>
                      <a:pt x="147" y="0"/>
                    </a:lnTo>
                    <a:lnTo>
                      <a:pt x="118" y="3"/>
                    </a:lnTo>
                    <a:lnTo>
                      <a:pt x="89" y="5"/>
                    </a:lnTo>
                    <a:lnTo>
                      <a:pt x="59" y="8"/>
                    </a:lnTo>
                    <a:lnTo>
                      <a:pt x="29" y="12"/>
                    </a:lnTo>
                    <a:lnTo>
                      <a:pt x="17" y="16"/>
                    </a:lnTo>
                    <a:lnTo>
                      <a:pt x="29" y="12"/>
                    </a:lnTo>
                    <a:lnTo>
                      <a:pt x="22" y="14"/>
                    </a:lnTo>
                    <a:lnTo>
                      <a:pt x="15" y="18"/>
                    </a:lnTo>
                    <a:lnTo>
                      <a:pt x="9" y="22"/>
                    </a:lnTo>
                    <a:lnTo>
                      <a:pt x="6" y="27"/>
                    </a:lnTo>
                    <a:lnTo>
                      <a:pt x="2" y="32"/>
                    </a:lnTo>
                    <a:lnTo>
                      <a:pt x="1" y="38"/>
                    </a:lnTo>
                    <a:lnTo>
                      <a:pt x="0" y="45"/>
                    </a:lnTo>
                    <a:lnTo>
                      <a:pt x="1" y="51"/>
                    </a:lnTo>
                    <a:lnTo>
                      <a:pt x="2" y="57"/>
                    </a:lnTo>
                    <a:lnTo>
                      <a:pt x="5" y="63"/>
                    </a:lnTo>
                    <a:lnTo>
                      <a:pt x="8" y="68"/>
                    </a:lnTo>
                    <a:lnTo>
                      <a:pt x="13" y="72"/>
                    </a:lnTo>
                    <a:lnTo>
                      <a:pt x="18" y="76"/>
                    </a:lnTo>
                    <a:lnTo>
                      <a:pt x="25" y="78"/>
                    </a:lnTo>
                    <a:lnTo>
                      <a:pt x="32" y="79"/>
                    </a:lnTo>
                    <a:lnTo>
                      <a:pt x="40" y="79"/>
                    </a:lnTo>
                    <a:lnTo>
                      <a:pt x="51" y="7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2898720" y="3930480"/>
                <a:ext cx="301680" cy="384480"/>
              </a:xfrm>
              <a:custGeom>
                <a:avLst/>
                <a:gdLst/>
                <a:ahLst/>
                <a:rect l="l" t="t" r="r" b="b"/>
                <a:pathLst>
                  <a:path w="950" h="1209">
                    <a:moveTo>
                      <a:pt x="265" y="11"/>
                    </a:moveTo>
                    <a:lnTo>
                      <a:pt x="243" y="26"/>
                    </a:lnTo>
                    <a:lnTo>
                      <a:pt x="223" y="39"/>
                    </a:lnTo>
                    <a:lnTo>
                      <a:pt x="204" y="55"/>
                    </a:lnTo>
                    <a:lnTo>
                      <a:pt x="185" y="71"/>
                    </a:lnTo>
                    <a:lnTo>
                      <a:pt x="167" y="87"/>
                    </a:lnTo>
                    <a:lnTo>
                      <a:pt x="151" y="105"/>
                    </a:lnTo>
                    <a:lnTo>
                      <a:pt x="136" y="123"/>
                    </a:lnTo>
                    <a:lnTo>
                      <a:pt x="123" y="140"/>
                    </a:lnTo>
                    <a:lnTo>
                      <a:pt x="109" y="159"/>
                    </a:lnTo>
                    <a:lnTo>
                      <a:pt x="96" y="179"/>
                    </a:lnTo>
                    <a:lnTo>
                      <a:pt x="86" y="198"/>
                    </a:lnTo>
                    <a:lnTo>
                      <a:pt x="75" y="219"/>
                    </a:lnTo>
                    <a:lnTo>
                      <a:pt x="66" y="239"/>
                    </a:lnTo>
                    <a:lnTo>
                      <a:pt x="57" y="261"/>
                    </a:lnTo>
                    <a:lnTo>
                      <a:pt x="49" y="281"/>
                    </a:lnTo>
                    <a:lnTo>
                      <a:pt x="42" y="304"/>
                    </a:lnTo>
                    <a:lnTo>
                      <a:pt x="35" y="326"/>
                    </a:lnTo>
                    <a:lnTo>
                      <a:pt x="29" y="349"/>
                    </a:lnTo>
                    <a:lnTo>
                      <a:pt x="23" y="373"/>
                    </a:lnTo>
                    <a:lnTo>
                      <a:pt x="19" y="395"/>
                    </a:lnTo>
                    <a:lnTo>
                      <a:pt x="12" y="445"/>
                    </a:lnTo>
                    <a:lnTo>
                      <a:pt x="6" y="494"/>
                    </a:lnTo>
                    <a:lnTo>
                      <a:pt x="3" y="544"/>
                    </a:lnTo>
                    <a:lnTo>
                      <a:pt x="1" y="595"/>
                    </a:lnTo>
                    <a:lnTo>
                      <a:pt x="0" y="646"/>
                    </a:lnTo>
                    <a:lnTo>
                      <a:pt x="0" y="700"/>
                    </a:lnTo>
                    <a:lnTo>
                      <a:pt x="5" y="721"/>
                    </a:lnTo>
                    <a:lnTo>
                      <a:pt x="12" y="742"/>
                    </a:lnTo>
                    <a:lnTo>
                      <a:pt x="20" y="763"/>
                    </a:lnTo>
                    <a:lnTo>
                      <a:pt x="29" y="783"/>
                    </a:lnTo>
                    <a:lnTo>
                      <a:pt x="39" y="804"/>
                    </a:lnTo>
                    <a:lnTo>
                      <a:pt x="51" y="823"/>
                    </a:lnTo>
                    <a:lnTo>
                      <a:pt x="62" y="843"/>
                    </a:lnTo>
                    <a:lnTo>
                      <a:pt x="75" y="862"/>
                    </a:lnTo>
                    <a:lnTo>
                      <a:pt x="88" y="881"/>
                    </a:lnTo>
                    <a:lnTo>
                      <a:pt x="103" y="900"/>
                    </a:lnTo>
                    <a:lnTo>
                      <a:pt x="119" y="918"/>
                    </a:lnTo>
                    <a:lnTo>
                      <a:pt x="135" y="936"/>
                    </a:lnTo>
                    <a:lnTo>
                      <a:pt x="152" y="953"/>
                    </a:lnTo>
                    <a:lnTo>
                      <a:pt x="169" y="970"/>
                    </a:lnTo>
                    <a:lnTo>
                      <a:pt x="188" y="988"/>
                    </a:lnTo>
                    <a:lnTo>
                      <a:pt x="207" y="1004"/>
                    </a:lnTo>
                    <a:lnTo>
                      <a:pt x="228" y="1021"/>
                    </a:lnTo>
                    <a:lnTo>
                      <a:pt x="248" y="1035"/>
                    </a:lnTo>
                    <a:lnTo>
                      <a:pt x="269" y="1051"/>
                    </a:lnTo>
                    <a:lnTo>
                      <a:pt x="290" y="1066"/>
                    </a:lnTo>
                    <a:lnTo>
                      <a:pt x="313" y="1080"/>
                    </a:lnTo>
                    <a:lnTo>
                      <a:pt x="336" y="1095"/>
                    </a:lnTo>
                    <a:lnTo>
                      <a:pt x="360" y="1107"/>
                    </a:lnTo>
                    <a:lnTo>
                      <a:pt x="384" y="1121"/>
                    </a:lnTo>
                    <a:lnTo>
                      <a:pt x="408" y="1134"/>
                    </a:lnTo>
                    <a:lnTo>
                      <a:pt x="433" y="1146"/>
                    </a:lnTo>
                    <a:lnTo>
                      <a:pt x="458" y="1158"/>
                    </a:lnTo>
                    <a:lnTo>
                      <a:pt x="484" y="1169"/>
                    </a:lnTo>
                    <a:lnTo>
                      <a:pt x="510" y="1179"/>
                    </a:lnTo>
                    <a:lnTo>
                      <a:pt x="536" y="1189"/>
                    </a:lnTo>
                    <a:lnTo>
                      <a:pt x="564" y="1200"/>
                    </a:lnTo>
                    <a:lnTo>
                      <a:pt x="591" y="1209"/>
                    </a:lnTo>
                    <a:lnTo>
                      <a:pt x="644" y="1147"/>
                    </a:lnTo>
                    <a:lnTo>
                      <a:pt x="691" y="1090"/>
                    </a:lnTo>
                    <a:lnTo>
                      <a:pt x="736" y="1037"/>
                    </a:lnTo>
                    <a:lnTo>
                      <a:pt x="775" y="985"/>
                    </a:lnTo>
                    <a:lnTo>
                      <a:pt x="793" y="961"/>
                    </a:lnTo>
                    <a:lnTo>
                      <a:pt x="811" y="936"/>
                    </a:lnTo>
                    <a:lnTo>
                      <a:pt x="827" y="912"/>
                    </a:lnTo>
                    <a:lnTo>
                      <a:pt x="842" y="889"/>
                    </a:lnTo>
                    <a:lnTo>
                      <a:pt x="857" y="865"/>
                    </a:lnTo>
                    <a:lnTo>
                      <a:pt x="869" y="843"/>
                    </a:lnTo>
                    <a:lnTo>
                      <a:pt x="882" y="820"/>
                    </a:lnTo>
                    <a:lnTo>
                      <a:pt x="893" y="796"/>
                    </a:lnTo>
                    <a:lnTo>
                      <a:pt x="902" y="773"/>
                    </a:lnTo>
                    <a:lnTo>
                      <a:pt x="912" y="749"/>
                    </a:lnTo>
                    <a:lnTo>
                      <a:pt x="921" y="725"/>
                    </a:lnTo>
                    <a:lnTo>
                      <a:pt x="927" y="701"/>
                    </a:lnTo>
                    <a:lnTo>
                      <a:pt x="933" y="676"/>
                    </a:lnTo>
                    <a:lnTo>
                      <a:pt x="939" y="651"/>
                    </a:lnTo>
                    <a:lnTo>
                      <a:pt x="942" y="625"/>
                    </a:lnTo>
                    <a:lnTo>
                      <a:pt x="946" y="597"/>
                    </a:lnTo>
                    <a:lnTo>
                      <a:pt x="948" y="570"/>
                    </a:lnTo>
                    <a:lnTo>
                      <a:pt x="949" y="541"/>
                    </a:lnTo>
                    <a:lnTo>
                      <a:pt x="950" y="512"/>
                    </a:lnTo>
                    <a:lnTo>
                      <a:pt x="949" y="482"/>
                    </a:lnTo>
                    <a:lnTo>
                      <a:pt x="948" y="450"/>
                    </a:lnTo>
                    <a:lnTo>
                      <a:pt x="946" y="417"/>
                    </a:lnTo>
                    <a:lnTo>
                      <a:pt x="942" y="383"/>
                    </a:lnTo>
                    <a:lnTo>
                      <a:pt x="938" y="348"/>
                    </a:lnTo>
                    <a:lnTo>
                      <a:pt x="925" y="322"/>
                    </a:lnTo>
                    <a:lnTo>
                      <a:pt x="912" y="297"/>
                    </a:lnTo>
                    <a:lnTo>
                      <a:pt x="898" y="275"/>
                    </a:lnTo>
                    <a:lnTo>
                      <a:pt x="883" y="253"/>
                    </a:lnTo>
                    <a:lnTo>
                      <a:pt x="868" y="231"/>
                    </a:lnTo>
                    <a:lnTo>
                      <a:pt x="852" y="211"/>
                    </a:lnTo>
                    <a:lnTo>
                      <a:pt x="836" y="191"/>
                    </a:lnTo>
                    <a:lnTo>
                      <a:pt x="820" y="173"/>
                    </a:lnTo>
                    <a:lnTo>
                      <a:pt x="803" y="155"/>
                    </a:lnTo>
                    <a:lnTo>
                      <a:pt x="785" y="139"/>
                    </a:lnTo>
                    <a:lnTo>
                      <a:pt x="767" y="123"/>
                    </a:lnTo>
                    <a:lnTo>
                      <a:pt x="748" y="108"/>
                    </a:lnTo>
                    <a:lnTo>
                      <a:pt x="729" y="94"/>
                    </a:lnTo>
                    <a:lnTo>
                      <a:pt x="710" y="81"/>
                    </a:lnTo>
                    <a:lnTo>
                      <a:pt x="689" y="69"/>
                    </a:lnTo>
                    <a:lnTo>
                      <a:pt x="669" y="58"/>
                    </a:lnTo>
                    <a:lnTo>
                      <a:pt x="647" y="47"/>
                    </a:lnTo>
                    <a:lnTo>
                      <a:pt x="625" y="38"/>
                    </a:lnTo>
                    <a:lnTo>
                      <a:pt x="603" y="30"/>
                    </a:lnTo>
                    <a:lnTo>
                      <a:pt x="580" y="24"/>
                    </a:lnTo>
                    <a:lnTo>
                      <a:pt x="557" y="18"/>
                    </a:lnTo>
                    <a:lnTo>
                      <a:pt x="533" y="12"/>
                    </a:lnTo>
                    <a:lnTo>
                      <a:pt x="508" y="8"/>
                    </a:lnTo>
                    <a:lnTo>
                      <a:pt x="483" y="4"/>
                    </a:lnTo>
                    <a:lnTo>
                      <a:pt x="458" y="2"/>
                    </a:lnTo>
                    <a:lnTo>
                      <a:pt x="432" y="1"/>
                    </a:lnTo>
                    <a:lnTo>
                      <a:pt x="405" y="0"/>
                    </a:lnTo>
                    <a:lnTo>
                      <a:pt x="378" y="1"/>
                    </a:lnTo>
                    <a:lnTo>
                      <a:pt x="351" y="2"/>
                    </a:lnTo>
                    <a:lnTo>
                      <a:pt x="322" y="4"/>
                    </a:lnTo>
                    <a:lnTo>
                      <a:pt x="294" y="8"/>
                    </a:lnTo>
                    <a:lnTo>
                      <a:pt x="265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2887560" y="3924360"/>
                <a:ext cx="100080" cy="239760"/>
              </a:xfrm>
              <a:custGeom>
                <a:avLst/>
                <a:gdLst/>
                <a:ahLst/>
                <a:rect l="l" t="t" r="r" b="b"/>
                <a:pathLst>
                  <a:path w="317" h="751">
                    <a:moveTo>
                      <a:pt x="68" y="709"/>
                    </a:moveTo>
                    <a:lnTo>
                      <a:pt x="69" y="717"/>
                    </a:lnTo>
                    <a:lnTo>
                      <a:pt x="69" y="666"/>
                    </a:lnTo>
                    <a:lnTo>
                      <a:pt x="69" y="614"/>
                    </a:lnTo>
                    <a:lnTo>
                      <a:pt x="71" y="564"/>
                    </a:lnTo>
                    <a:lnTo>
                      <a:pt x="74" y="514"/>
                    </a:lnTo>
                    <a:lnTo>
                      <a:pt x="80" y="467"/>
                    </a:lnTo>
                    <a:lnTo>
                      <a:pt x="88" y="419"/>
                    </a:lnTo>
                    <a:lnTo>
                      <a:pt x="92" y="397"/>
                    </a:lnTo>
                    <a:lnTo>
                      <a:pt x="97" y="375"/>
                    </a:lnTo>
                    <a:lnTo>
                      <a:pt x="103" y="353"/>
                    </a:lnTo>
                    <a:lnTo>
                      <a:pt x="109" y="332"/>
                    </a:lnTo>
                    <a:lnTo>
                      <a:pt x="115" y="311"/>
                    </a:lnTo>
                    <a:lnTo>
                      <a:pt x="123" y="290"/>
                    </a:lnTo>
                    <a:lnTo>
                      <a:pt x="131" y="271"/>
                    </a:lnTo>
                    <a:lnTo>
                      <a:pt x="141" y="251"/>
                    </a:lnTo>
                    <a:lnTo>
                      <a:pt x="151" y="232"/>
                    </a:lnTo>
                    <a:lnTo>
                      <a:pt x="161" y="214"/>
                    </a:lnTo>
                    <a:lnTo>
                      <a:pt x="172" y="196"/>
                    </a:lnTo>
                    <a:lnTo>
                      <a:pt x="185" y="178"/>
                    </a:lnTo>
                    <a:lnTo>
                      <a:pt x="198" y="161"/>
                    </a:lnTo>
                    <a:lnTo>
                      <a:pt x="211" y="145"/>
                    </a:lnTo>
                    <a:lnTo>
                      <a:pt x="226" y="129"/>
                    </a:lnTo>
                    <a:lnTo>
                      <a:pt x="242" y="115"/>
                    </a:lnTo>
                    <a:lnTo>
                      <a:pt x="259" y="100"/>
                    </a:lnTo>
                    <a:lnTo>
                      <a:pt x="277" y="85"/>
                    </a:lnTo>
                    <a:lnTo>
                      <a:pt x="297" y="71"/>
                    </a:lnTo>
                    <a:lnTo>
                      <a:pt x="317" y="59"/>
                    </a:lnTo>
                    <a:lnTo>
                      <a:pt x="283" y="0"/>
                    </a:lnTo>
                    <a:lnTo>
                      <a:pt x="259" y="15"/>
                    </a:lnTo>
                    <a:lnTo>
                      <a:pt x="237" y="31"/>
                    </a:lnTo>
                    <a:lnTo>
                      <a:pt x="217" y="47"/>
                    </a:lnTo>
                    <a:lnTo>
                      <a:pt x="198" y="64"/>
                    </a:lnTo>
                    <a:lnTo>
                      <a:pt x="178" y="81"/>
                    </a:lnTo>
                    <a:lnTo>
                      <a:pt x="161" y="100"/>
                    </a:lnTo>
                    <a:lnTo>
                      <a:pt x="145" y="119"/>
                    </a:lnTo>
                    <a:lnTo>
                      <a:pt x="130" y="138"/>
                    </a:lnTo>
                    <a:lnTo>
                      <a:pt x="117" y="158"/>
                    </a:lnTo>
                    <a:lnTo>
                      <a:pt x="103" y="178"/>
                    </a:lnTo>
                    <a:lnTo>
                      <a:pt x="92" y="200"/>
                    </a:lnTo>
                    <a:lnTo>
                      <a:pt x="80" y="222"/>
                    </a:lnTo>
                    <a:lnTo>
                      <a:pt x="70" y="243"/>
                    </a:lnTo>
                    <a:lnTo>
                      <a:pt x="61" y="266"/>
                    </a:lnTo>
                    <a:lnTo>
                      <a:pt x="52" y="289"/>
                    </a:lnTo>
                    <a:lnTo>
                      <a:pt x="45" y="312"/>
                    </a:lnTo>
                    <a:lnTo>
                      <a:pt x="38" y="336"/>
                    </a:lnTo>
                    <a:lnTo>
                      <a:pt x="31" y="360"/>
                    </a:lnTo>
                    <a:lnTo>
                      <a:pt x="27" y="384"/>
                    </a:lnTo>
                    <a:lnTo>
                      <a:pt x="21" y="409"/>
                    </a:lnTo>
                    <a:lnTo>
                      <a:pt x="14" y="458"/>
                    </a:lnTo>
                    <a:lnTo>
                      <a:pt x="8" y="508"/>
                    </a:lnTo>
                    <a:lnTo>
                      <a:pt x="4" y="559"/>
                    </a:lnTo>
                    <a:lnTo>
                      <a:pt x="1" y="612"/>
                    </a:lnTo>
                    <a:lnTo>
                      <a:pt x="0" y="664"/>
                    </a:lnTo>
                    <a:lnTo>
                      <a:pt x="1" y="718"/>
                    </a:lnTo>
                    <a:lnTo>
                      <a:pt x="1" y="726"/>
                    </a:lnTo>
                    <a:lnTo>
                      <a:pt x="1" y="718"/>
                    </a:lnTo>
                    <a:lnTo>
                      <a:pt x="1" y="726"/>
                    </a:lnTo>
                    <a:lnTo>
                      <a:pt x="4" y="733"/>
                    </a:lnTo>
                    <a:lnTo>
                      <a:pt x="7" y="739"/>
                    </a:lnTo>
                    <a:lnTo>
                      <a:pt x="12" y="743"/>
                    </a:lnTo>
                    <a:lnTo>
                      <a:pt x="16" y="747"/>
                    </a:lnTo>
                    <a:lnTo>
                      <a:pt x="22" y="749"/>
                    </a:lnTo>
                    <a:lnTo>
                      <a:pt x="29" y="751"/>
                    </a:lnTo>
                    <a:lnTo>
                      <a:pt x="35" y="751"/>
                    </a:lnTo>
                    <a:lnTo>
                      <a:pt x="41" y="751"/>
                    </a:lnTo>
                    <a:lnTo>
                      <a:pt x="47" y="749"/>
                    </a:lnTo>
                    <a:lnTo>
                      <a:pt x="53" y="747"/>
                    </a:lnTo>
                    <a:lnTo>
                      <a:pt x="57" y="743"/>
                    </a:lnTo>
                    <a:lnTo>
                      <a:pt x="62" y="737"/>
                    </a:lnTo>
                    <a:lnTo>
                      <a:pt x="65" y="732"/>
                    </a:lnTo>
                    <a:lnTo>
                      <a:pt x="68" y="725"/>
                    </a:lnTo>
                    <a:lnTo>
                      <a:pt x="69" y="717"/>
                    </a:lnTo>
                    <a:lnTo>
                      <a:pt x="68" y="70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2887560" y="4149720"/>
                <a:ext cx="208080" cy="176040"/>
              </a:xfrm>
              <a:custGeom>
                <a:avLst/>
                <a:gdLst/>
                <a:ahLst/>
                <a:rect l="l" t="t" r="r" b="b"/>
                <a:pathLst>
                  <a:path w="658" h="552">
                    <a:moveTo>
                      <a:pt x="599" y="496"/>
                    </a:moveTo>
                    <a:lnTo>
                      <a:pt x="635" y="486"/>
                    </a:lnTo>
                    <a:lnTo>
                      <a:pt x="608" y="477"/>
                    </a:lnTo>
                    <a:lnTo>
                      <a:pt x="582" y="468"/>
                    </a:lnTo>
                    <a:lnTo>
                      <a:pt x="557" y="457"/>
                    </a:lnTo>
                    <a:lnTo>
                      <a:pt x="531" y="447"/>
                    </a:lnTo>
                    <a:lnTo>
                      <a:pt x="505" y="436"/>
                    </a:lnTo>
                    <a:lnTo>
                      <a:pt x="482" y="424"/>
                    </a:lnTo>
                    <a:lnTo>
                      <a:pt x="456" y="413"/>
                    </a:lnTo>
                    <a:lnTo>
                      <a:pt x="434" y="400"/>
                    </a:lnTo>
                    <a:lnTo>
                      <a:pt x="410" y="388"/>
                    </a:lnTo>
                    <a:lnTo>
                      <a:pt x="387" y="374"/>
                    </a:lnTo>
                    <a:lnTo>
                      <a:pt x="365" y="360"/>
                    </a:lnTo>
                    <a:lnTo>
                      <a:pt x="344" y="347"/>
                    </a:lnTo>
                    <a:lnTo>
                      <a:pt x="322" y="332"/>
                    </a:lnTo>
                    <a:lnTo>
                      <a:pt x="301" y="318"/>
                    </a:lnTo>
                    <a:lnTo>
                      <a:pt x="282" y="302"/>
                    </a:lnTo>
                    <a:lnTo>
                      <a:pt x="263" y="287"/>
                    </a:lnTo>
                    <a:lnTo>
                      <a:pt x="244" y="271"/>
                    </a:lnTo>
                    <a:lnTo>
                      <a:pt x="227" y="255"/>
                    </a:lnTo>
                    <a:lnTo>
                      <a:pt x="210" y="238"/>
                    </a:lnTo>
                    <a:lnTo>
                      <a:pt x="194" y="222"/>
                    </a:lnTo>
                    <a:lnTo>
                      <a:pt x="178" y="205"/>
                    </a:lnTo>
                    <a:lnTo>
                      <a:pt x="163" y="188"/>
                    </a:lnTo>
                    <a:lnTo>
                      <a:pt x="150" y="170"/>
                    </a:lnTo>
                    <a:lnTo>
                      <a:pt x="137" y="152"/>
                    </a:lnTo>
                    <a:lnTo>
                      <a:pt x="125" y="135"/>
                    </a:lnTo>
                    <a:lnTo>
                      <a:pt x="113" y="115"/>
                    </a:lnTo>
                    <a:lnTo>
                      <a:pt x="103" y="97"/>
                    </a:lnTo>
                    <a:lnTo>
                      <a:pt x="94" y="79"/>
                    </a:lnTo>
                    <a:lnTo>
                      <a:pt x="86" y="59"/>
                    </a:lnTo>
                    <a:lnTo>
                      <a:pt x="78" y="40"/>
                    </a:lnTo>
                    <a:lnTo>
                      <a:pt x="71" y="20"/>
                    </a:lnTo>
                    <a:lnTo>
                      <a:pt x="67" y="0"/>
                    </a:lnTo>
                    <a:lnTo>
                      <a:pt x="0" y="17"/>
                    </a:lnTo>
                    <a:lnTo>
                      <a:pt x="7" y="40"/>
                    </a:lnTo>
                    <a:lnTo>
                      <a:pt x="15" y="63"/>
                    </a:lnTo>
                    <a:lnTo>
                      <a:pt x="23" y="84"/>
                    </a:lnTo>
                    <a:lnTo>
                      <a:pt x="34" y="107"/>
                    </a:lnTo>
                    <a:lnTo>
                      <a:pt x="44" y="128"/>
                    </a:lnTo>
                    <a:lnTo>
                      <a:pt x="55" y="149"/>
                    </a:lnTo>
                    <a:lnTo>
                      <a:pt x="68" y="170"/>
                    </a:lnTo>
                    <a:lnTo>
                      <a:pt x="81" y="190"/>
                    </a:lnTo>
                    <a:lnTo>
                      <a:pt x="96" y="211"/>
                    </a:lnTo>
                    <a:lnTo>
                      <a:pt x="111" y="230"/>
                    </a:lnTo>
                    <a:lnTo>
                      <a:pt x="127" y="250"/>
                    </a:lnTo>
                    <a:lnTo>
                      <a:pt x="144" y="268"/>
                    </a:lnTo>
                    <a:lnTo>
                      <a:pt x="162" y="286"/>
                    </a:lnTo>
                    <a:lnTo>
                      <a:pt x="181" y="305"/>
                    </a:lnTo>
                    <a:lnTo>
                      <a:pt x="200" y="322"/>
                    </a:lnTo>
                    <a:lnTo>
                      <a:pt x="219" y="339"/>
                    </a:lnTo>
                    <a:lnTo>
                      <a:pt x="240" y="356"/>
                    </a:lnTo>
                    <a:lnTo>
                      <a:pt x="262" y="372"/>
                    </a:lnTo>
                    <a:lnTo>
                      <a:pt x="283" y="388"/>
                    </a:lnTo>
                    <a:lnTo>
                      <a:pt x="306" y="403"/>
                    </a:lnTo>
                    <a:lnTo>
                      <a:pt x="329" y="417"/>
                    </a:lnTo>
                    <a:lnTo>
                      <a:pt x="353" y="432"/>
                    </a:lnTo>
                    <a:lnTo>
                      <a:pt x="377" y="446"/>
                    </a:lnTo>
                    <a:lnTo>
                      <a:pt x="402" y="460"/>
                    </a:lnTo>
                    <a:lnTo>
                      <a:pt x="427" y="472"/>
                    </a:lnTo>
                    <a:lnTo>
                      <a:pt x="452" y="485"/>
                    </a:lnTo>
                    <a:lnTo>
                      <a:pt x="478" y="497"/>
                    </a:lnTo>
                    <a:lnTo>
                      <a:pt x="504" y="509"/>
                    </a:lnTo>
                    <a:lnTo>
                      <a:pt x="532" y="520"/>
                    </a:lnTo>
                    <a:lnTo>
                      <a:pt x="559" y="530"/>
                    </a:lnTo>
                    <a:lnTo>
                      <a:pt x="586" y="541"/>
                    </a:lnTo>
                    <a:lnTo>
                      <a:pt x="614" y="550"/>
                    </a:lnTo>
                    <a:lnTo>
                      <a:pt x="650" y="540"/>
                    </a:lnTo>
                    <a:lnTo>
                      <a:pt x="614" y="550"/>
                    </a:lnTo>
                    <a:lnTo>
                      <a:pt x="622" y="552"/>
                    </a:lnTo>
                    <a:lnTo>
                      <a:pt x="629" y="552"/>
                    </a:lnTo>
                    <a:lnTo>
                      <a:pt x="635" y="551"/>
                    </a:lnTo>
                    <a:lnTo>
                      <a:pt x="641" y="548"/>
                    </a:lnTo>
                    <a:lnTo>
                      <a:pt x="647" y="544"/>
                    </a:lnTo>
                    <a:lnTo>
                      <a:pt x="650" y="540"/>
                    </a:lnTo>
                    <a:lnTo>
                      <a:pt x="654" y="534"/>
                    </a:lnTo>
                    <a:lnTo>
                      <a:pt x="657" y="528"/>
                    </a:lnTo>
                    <a:lnTo>
                      <a:pt x="658" y="522"/>
                    </a:lnTo>
                    <a:lnTo>
                      <a:pt x="658" y="516"/>
                    </a:lnTo>
                    <a:lnTo>
                      <a:pt x="658" y="510"/>
                    </a:lnTo>
                    <a:lnTo>
                      <a:pt x="656" y="504"/>
                    </a:lnTo>
                    <a:lnTo>
                      <a:pt x="653" y="498"/>
                    </a:lnTo>
                    <a:lnTo>
                      <a:pt x="648" y="493"/>
                    </a:lnTo>
                    <a:lnTo>
                      <a:pt x="642" y="489"/>
                    </a:lnTo>
                    <a:lnTo>
                      <a:pt x="635" y="486"/>
                    </a:lnTo>
                    <a:lnTo>
                      <a:pt x="599" y="49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3078000" y="4030560"/>
                <a:ext cx="131760" cy="290520"/>
              </a:xfrm>
              <a:custGeom>
                <a:avLst/>
                <a:gdLst/>
                <a:ahLst/>
                <a:rect l="l" t="t" r="r" b="b"/>
                <a:pathLst>
                  <a:path w="418" h="918">
                    <a:moveTo>
                      <a:pt x="343" y="49"/>
                    </a:moveTo>
                    <a:lnTo>
                      <a:pt x="340" y="38"/>
                    </a:lnTo>
                    <a:lnTo>
                      <a:pt x="344" y="73"/>
                    </a:lnTo>
                    <a:lnTo>
                      <a:pt x="347" y="106"/>
                    </a:lnTo>
                    <a:lnTo>
                      <a:pt x="350" y="139"/>
                    </a:lnTo>
                    <a:lnTo>
                      <a:pt x="351" y="170"/>
                    </a:lnTo>
                    <a:lnTo>
                      <a:pt x="351" y="199"/>
                    </a:lnTo>
                    <a:lnTo>
                      <a:pt x="351" y="227"/>
                    </a:lnTo>
                    <a:lnTo>
                      <a:pt x="350" y="255"/>
                    </a:lnTo>
                    <a:lnTo>
                      <a:pt x="348" y="281"/>
                    </a:lnTo>
                    <a:lnTo>
                      <a:pt x="344" y="307"/>
                    </a:lnTo>
                    <a:lnTo>
                      <a:pt x="341" y="331"/>
                    </a:lnTo>
                    <a:lnTo>
                      <a:pt x="335" y="356"/>
                    </a:lnTo>
                    <a:lnTo>
                      <a:pt x="329" y="379"/>
                    </a:lnTo>
                    <a:lnTo>
                      <a:pt x="323" y="402"/>
                    </a:lnTo>
                    <a:lnTo>
                      <a:pt x="316" y="425"/>
                    </a:lnTo>
                    <a:lnTo>
                      <a:pt x="307" y="448"/>
                    </a:lnTo>
                    <a:lnTo>
                      <a:pt x="297" y="469"/>
                    </a:lnTo>
                    <a:lnTo>
                      <a:pt x="286" y="491"/>
                    </a:lnTo>
                    <a:lnTo>
                      <a:pt x="275" y="514"/>
                    </a:lnTo>
                    <a:lnTo>
                      <a:pt x="262" y="535"/>
                    </a:lnTo>
                    <a:lnTo>
                      <a:pt x="248" y="558"/>
                    </a:lnTo>
                    <a:lnTo>
                      <a:pt x="234" y="581"/>
                    </a:lnTo>
                    <a:lnTo>
                      <a:pt x="218" y="604"/>
                    </a:lnTo>
                    <a:lnTo>
                      <a:pt x="202" y="628"/>
                    </a:lnTo>
                    <a:lnTo>
                      <a:pt x="183" y="652"/>
                    </a:lnTo>
                    <a:lnTo>
                      <a:pt x="144" y="702"/>
                    </a:lnTo>
                    <a:lnTo>
                      <a:pt x="100" y="756"/>
                    </a:lnTo>
                    <a:lnTo>
                      <a:pt x="52" y="813"/>
                    </a:lnTo>
                    <a:lnTo>
                      <a:pt x="0" y="874"/>
                    </a:lnTo>
                    <a:lnTo>
                      <a:pt x="51" y="918"/>
                    </a:lnTo>
                    <a:lnTo>
                      <a:pt x="104" y="856"/>
                    </a:lnTo>
                    <a:lnTo>
                      <a:pt x="153" y="799"/>
                    </a:lnTo>
                    <a:lnTo>
                      <a:pt x="197" y="744"/>
                    </a:lnTo>
                    <a:lnTo>
                      <a:pt x="237" y="693"/>
                    </a:lnTo>
                    <a:lnTo>
                      <a:pt x="255" y="668"/>
                    </a:lnTo>
                    <a:lnTo>
                      <a:pt x="274" y="643"/>
                    </a:lnTo>
                    <a:lnTo>
                      <a:pt x="290" y="619"/>
                    </a:lnTo>
                    <a:lnTo>
                      <a:pt x="305" y="595"/>
                    </a:lnTo>
                    <a:lnTo>
                      <a:pt x="320" y="570"/>
                    </a:lnTo>
                    <a:lnTo>
                      <a:pt x="334" y="546"/>
                    </a:lnTo>
                    <a:lnTo>
                      <a:pt x="347" y="522"/>
                    </a:lnTo>
                    <a:lnTo>
                      <a:pt x="358" y="498"/>
                    </a:lnTo>
                    <a:lnTo>
                      <a:pt x="369" y="473"/>
                    </a:lnTo>
                    <a:lnTo>
                      <a:pt x="378" y="448"/>
                    </a:lnTo>
                    <a:lnTo>
                      <a:pt x="388" y="422"/>
                    </a:lnTo>
                    <a:lnTo>
                      <a:pt x="394" y="396"/>
                    </a:lnTo>
                    <a:lnTo>
                      <a:pt x="401" y="370"/>
                    </a:lnTo>
                    <a:lnTo>
                      <a:pt x="407" y="344"/>
                    </a:lnTo>
                    <a:lnTo>
                      <a:pt x="411" y="316"/>
                    </a:lnTo>
                    <a:lnTo>
                      <a:pt x="415" y="288"/>
                    </a:lnTo>
                    <a:lnTo>
                      <a:pt x="417" y="259"/>
                    </a:lnTo>
                    <a:lnTo>
                      <a:pt x="418" y="230"/>
                    </a:lnTo>
                    <a:lnTo>
                      <a:pt x="418" y="199"/>
                    </a:lnTo>
                    <a:lnTo>
                      <a:pt x="418" y="168"/>
                    </a:lnTo>
                    <a:lnTo>
                      <a:pt x="417" y="135"/>
                    </a:lnTo>
                    <a:lnTo>
                      <a:pt x="414" y="102"/>
                    </a:lnTo>
                    <a:lnTo>
                      <a:pt x="410" y="66"/>
                    </a:lnTo>
                    <a:lnTo>
                      <a:pt x="407" y="30"/>
                    </a:lnTo>
                    <a:lnTo>
                      <a:pt x="404" y="19"/>
                    </a:lnTo>
                    <a:lnTo>
                      <a:pt x="407" y="30"/>
                    </a:lnTo>
                    <a:lnTo>
                      <a:pt x="405" y="22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3" y="6"/>
                    </a:lnTo>
                    <a:lnTo>
                      <a:pt x="388" y="3"/>
                    </a:lnTo>
                    <a:lnTo>
                      <a:pt x="381" y="1"/>
                    </a:lnTo>
                    <a:lnTo>
                      <a:pt x="375" y="0"/>
                    </a:lnTo>
                    <a:lnTo>
                      <a:pt x="368" y="0"/>
                    </a:lnTo>
                    <a:lnTo>
                      <a:pt x="362" y="1"/>
                    </a:lnTo>
                    <a:lnTo>
                      <a:pt x="357" y="5"/>
                    </a:lnTo>
                    <a:lnTo>
                      <a:pt x="351" y="7"/>
                    </a:lnTo>
                    <a:lnTo>
                      <a:pt x="347" y="12"/>
                    </a:lnTo>
                    <a:lnTo>
                      <a:pt x="343" y="17"/>
                    </a:lnTo>
                    <a:lnTo>
                      <a:pt x="341" y="23"/>
                    </a:lnTo>
                    <a:lnTo>
                      <a:pt x="340" y="30"/>
                    </a:lnTo>
                    <a:lnTo>
                      <a:pt x="340" y="38"/>
                    </a:lnTo>
                    <a:lnTo>
                      <a:pt x="343" y="4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>
                <a:off x="2971800" y="3919680"/>
                <a:ext cx="233280" cy="125280"/>
              </a:xfrm>
              <a:custGeom>
                <a:avLst/>
                <a:gdLst/>
                <a:ahLst/>
                <a:rect l="l" t="t" r="r" b="b"/>
                <a:pathLst>
                  <a:path w="738" h="396">
                    <a:moveTo>
                      <a:pt x="51" y="75"/>
                    </a:moveTo>
                    <a:lnTo>
                      <a:pt x="40" y="79"/>
                    </a:lnTo>
                    <a:lnTo>
                      <a:pt x="67" y="75"/>
                    </a:lnTo>
                    <a:lnTo>
                      <a:pt x="95" y="71"/>
                    </a:lnTo>
                    <a:lnTo>
                      <a:pt x="122" y="69"/>
                    </a:lnTo>
                    <a:lnTo>
                      <a:pt x="148" y="68"/>
                    </a:lnTo>
                    <a:lnTo>
                      <a:pt x="174" y="68"/>
                    </a:lnTo>
                    <a:lnTo>
                      <a:pt x="199" y="68"/>
                    </a:lnTo>
                    <a:lnTo>
                      <a:pt x="225" y="69"/>
                    </a:lnTo>
                    <a:lnTo>
                      <a:pt x="248" y="71"/>
                    </a:lnTo>
                    <a:lnTo>
                      <a:pt x="272" y="75"/>
                    </a:lnTo>
                    <a:lnTo>
                      <a:pt x="295" y="79"/>
                    </a:lnTo>
                    <a:lnTo>
                      <a:pt x="318" y="84"/>
                    </a:lnTo>
                    <a:lnTo>
                      <a:pt x="340" y="89"/>
                    </a:lnTo>
                    <a:lnTo>
                      <a:pt x="361" y="96"/>
                    </a:lnTo>
                    <a:lnTo>
                      <a:pt x="382" y="104"/>
                    </a:lnTo>
                    <a:lnTo>
                      <a:pt x="402" y="112"/>
                    </a:lnTo>
                    <a:lnTo>
                      <a:pt x="423" y="123"/>
                    </a:lnTo>
                    <a:lnTo>
                      <a:pt x="441" y="133"/>
                    </a:lnTo>
                    <a:lnTo>
                      <a:pt x="460" y="143"/>
                    </a:lnTo>
                    <a:lnTo>
                      <a:pt x="479" y="156"/>
                    </a:lnTo>
                    <a:lnTo>
                      <a:pt x="497" y="168"/>
                    </a:lnTo>
                    <a:lnTo>
                      <a:pt x="514" y="183"/>
                    </a:lnTo>
                    <a:lnTo>
                      <a:pt x="531" y="197"/>
                    </a:lnTo>
                    <a:lnTo>
                      <a:pt x="548" y="213"/>
                    </a:lnTo>
                    <a:lnTo>
                      <a:pt x="564" y="230"/>
                    </a:lnTo>
                    <a:lnTo>
                      <a:pt x="580" y="247"/>
                    </a:lnTo>
                    <a:lnTo>
                      <a:pt x="595" y="265"/>
                    </a:lnTo>
                    <a:lnTo>
                      <a:pt x="610" y="285"/>
                    </a:lnTo>
                    <a:lnTo>
                      <a:pt x="625" y="305"/>
                    </a:lnTo>
                    <a:lnTo>
                      <a:pt x="638" y="327"/>
                    </a:lnTo>
                    <a:lnTo>
                      <a:pt x="651" y="348"/>
                    </a:lnTo>
                    <a:lnTo>
                      <a:pt x="665" y="372"/>
                    </a:lnTo>
                    <a:lnTo>
                      <a:pt x="677" y="396"/>
                    </a:lnTo>
                    <a:lnTo>
                      <a:pt x="738" y="366"/>
                    </a:lnTo>
                    <a:lnTo>
                      <a:pt x="724" y="340"/>
                    </a:lnTo>
                    <a:lnTo>
                      <a:pt x="710" y="315"/>
                    </a:lnTo>
                    <a:lnTo>
                      <a:pt x="695" y="290"/>
                    </a:lnTo>
                    <a:lnTo>
                      <a:pt x="681" y="267"/>
                    </a:lnTo>
                    <a:lnTo>
                      <a:pt x="665" y="245"/>
                    </a:lnTo>
                    <a:lnTo>
                      <a:pt x="647" y="224"/>
                    </a:lnTo>
                    <a:lnTo>
                      <a:pt x="631" y="204"/>
                    </a:lnTo>
                    <a:lnTo>
                      <a:pt x="613" y="183"/>
                    </a:lnTo>
                    <a:lnTo>
                      <a:pt x="595" y="165"/>
                    </a:lnTo>
                    <a:lnTo>
                      <a:pt x="577" y="148"/>
                    </a:lnTo>
                    <a:lnTo>
                      <a:pt x="557" y="131"/>
                    </a:lnTo>
                    <a:lnTo>
                      <a:pt x="538" y="115"/>
                    </a:lnTo>
                    <a:lnTo>
                      <a:pt x="517" y="100"/>
                    </a:lnTo>
                    <a:lnTo>
                      <a:pt x="496" y="86"/>
                    </a:lnTo>
                    <a:lnTo>
                      <a:pt x="474" y="73"/>
                    </a:lnTo>
                    <a:lnTo>
                      <a:pt x="453" y="62"/>
                    </a:lnTo>
                    <a:lnTo>
                      <a:pt x="430" y="51"/>
                    </a:lnTo>
                    <a:lnTo>
                      <a:pt x="407" y="42"/>
                    </a:lnTo>
                    <a:lnTo>
                      <a:pt x="383" y="32"/>
                    </a:lnTo>
                    <a:lnTo>
                      <a:pt x="358" y="26"/>
                    </a:lnTo>
                    <a:lnTo>
                      <a:pt x="334" y="19"/>
                    </a:lnTo>
                    <a:lnTo>
                      <a:pt x="309" y="13"/>
                    </a:lnTo>
                    <a:lnTo>
                      <a:pt x="283" y="8"/>
                    </a:lnTo>
                    <a:lnTo>
                      <a:pt x="256" y="5"/>
                    </a:lnTo>
                    <a:lnTo>
                      <a:pt x="229" y="2"/>
                    </a:lnTo>
                    <a:lnTo>
                      <a:pt x="202" y="0"/>
                    </a:lnTo>
                    <a:lnTo>
                      <a:pt x="174" y="0"/>
                    </a:lnTo>
                    <a:lnTo>
                      <a:pt x="146" y="0"/>
                    </a:lnTo>
                    <a:lnTo>
                      <a:pt x="117" y="2"/>
                    </a:lnTo>
                    <a:lnTo>
                      <a:pt x="89" y="4"/>
                    </a:lnTo>
                    <a:lnTo>
                      <a:pt x="59" y="7"/>
                    </a:lnTo>
                    <a:lnTo>
                      <a:pt x="28" y="12"/>
                    </a:lnTo>
                    <a:lnTo>
                      <a:pt x="17" y="16"/>
                    </a:lnTo>
                    <a:lnTo>
                      <a:pt x="28" y="12"/>
                    </a:lnTo>
                    <a:lnTo>
                      <a:pt x="20" y="14"/>
                    </a:lnTo>
                    <a:lnTo>
                      <a:pt x="15" y="18"/>
                    </a:lnTo>
                    <a:lnTo>
                      <a:pt x="9" y="22"/>
                    </a:lnTo>
                    <a:lnTo>
                      <a:pt x="6" y="27"/>
                    </a:lnTo>
                    <a:lnTo>
                      <a:pt x="2" y="32"/>
                    </a:lnTo>
                    <a:lnTo>
                      <a:pt x="1" y="38"/>
                    </a:lnTo>
                    <a:lnTo>
                      <a:pt x="0" y="45"/>
                    </a:lnTo>
                    <a:lnTo>
                      <a:pt x="1" y="51"/>
                    </a:lnTo>
                    <a:lnTo>
                      <a:pt x="2" y="56"/>
                    </a:lnTo>
                    <a:lnTo>
                      <a:pt x="4" y="63"/>
                    </a:lnTo>
                    <a:lnTo>
                      <a:pt x="8" y="68"/>
                    </a:lnTo>
                    <a:lnTo>
                      <a:pt x="12" y="72"/>
                    </a:lnTo>
                    <a:lnTo>
                      <a:pt x="18" y="76"/>
                    </a:lnTo>
                    <a:lnTo>
                      <a:pt x="24" y="78"/>
                    </a:lnTo>
                    <a:lnTo>
                      <a:pt x="32" y="79"/>
                    </a:lnTo>
                    <a:lnTo>
                      <a:pt x="40" y="79"/>
                    </a:lnTo>
                    <a:lnTo>
                      <a:pt x="51" y="7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>
                <a:off x="3227400" y="3886200"/>
                <a:ext cx="223920" cy="284040"/>
              </a:xfrm>
              <a:custGeom>
                <a:avLst/>
                <a:gdLst/>
                <a:ahLst/>
                <a:rect l="l" t="t" r="r" b="b"/>
                <a:pathLst>
                  <a:path w="701" h="893">
                    <a:moveTo>
                      <a:pt x="196" y="9"/>
                    </a:moveTo>
                    <a:lnTo>
                      <a:pt x="179" y="20"/>
                    </a:lnTo>
                    <a:lnTo>
                      <a:pt x="164" y="30"/>
                    </a:lnTo>
                    <a:lnTo>
                      <a:pt x="150" y="41"/>
                    </a:lnTo>
                    <a:lnTo>
                      <a:pt x="137" y="54"/>
                    </a:lnTo>
                    <a:lnTo>
                      <a:pt x="124" y="65"/>
                    </a:lnTo>
                    <a:lnTo>
                      <a:pt x="112" y="78"/>
                    </a:lnTo>
                    <a:lnTo>
                      <a:pt x="101" y="92"/>
                    </a:lnTo>
                    <a:lnTo>
                      <a:pt x="90" y="105"/>
                    </a:lnTo>
                    <a:lnTo>
                      <a:pt x="81" y="119"/>
                    </a:lnTo>
                    <a:lnTo>
                      <a:pt x="72" y="133"/>
                    </a:lnTo>
                    <a:lnTo>
                      <a:pt x="64" y="148"/>
                    </a:lnTo>
                    <a:lnTo>
                      <a:pt x="56" y="162"/>
                    </a:lnTo>
                    <a:lnTo>
                      <a:pt x="49" y="178"/>
                    </a:lnTo>
                    <a:lnTo>
                      <a:pt x="42" y="193"/>
                    </a:lnTo>
                    <a:lnTo>
                      <a:pt x="37" y="209"/>
                    </a:lnTo>
                    <a:lnTo>
                      <a:pt x="31" y="225"/>
                    </a:lnTo>
                    <a:lnTo>
                      <a:pt x="22" y="258"/>
                    </a:lnTo>
                    <a:lnTo>
                      <a:pt x="15" y="294"/>
                    </a:lnTo>
                    <a:lnTo>
                      <a:pt x="9" y="329"/>
                    </a:lnTo>
                    <a:lnTo>
                      <a:pt x="5" y="364"/>
                    </a:lnTo>
                    <a:lnTo>
                      <a:pt x="2" y="402"/>
                    </a:lnTo>
                    <a:lnTo>
                      <a:pt x="1" y="440"/>
                    </a:lnTo>
                    <a:lnTo>
                      <a:pt x="0" y="477"/>
                    </a:lnTo>
                    <a:lnTo>
                      <a:pt x="0" y="516"/>
                    </a:lnTo>
                    <a:lnTo>
                      <a:pt x="5" y="532"/>
                    </a:lnTo>
                    <a:lnTo>
                      <a:pt x="10" y="547"/>
                    </a:lnTo>
                    <a:lnTo>
                      <a:pt x="16" y="563"/>
                    </a:lnTo>
                    <a:lnTo>
                      <a:pt x="23" y="578"/>
                    </a:lnTo>
                    <a:lnTo>
                      <a:pt x="30" y="592"/>
                    </a:lnTo>
                    <a:lnTo>
                      <a:pt x="38" y="607"/>
                    </a:lnTo>
                    <a:lnTo>
                      <a:pt x="47" y="622"/>
                    </a:lnTo>
                    <a:lnTo>
                      <a:pt x="57" y="636"/>
                    </a:lnTo>
                    <a:lnTo>
                      <a:pt x="66" y="650"/>
                    </a:lnTo>
                    <a:lnTo>
                      <a:pt x="78" y="663"/>
                    </a:lnTo>
                    <a:lnTo>
                      <a:pt x="89" y="677"/>
                    </a:lnTo>
                    <a:lnTo>
                      <a:pt x="101" y="691"/>
                    </a:lnTo>
                    <a:lnTo>
                      <a:pt x="113" y="703"/>
                    </a:lnTo>
                    <a:lnTo>
                      <a:pt x="127" y="716"/>
                    </a:lnTo>
                    <a:lnTo>
                      <a:pt x="140" y="728"/>
                    </a:lnTo>
                    <a:lnTo>
                      <a:pt x="154" y="741"/>
                    </a:lnTo>
                    <a:lnTo>
                      <a:pt x="184" y="764"/>
                    </a:lnTo>
                    <a:lnTo>
                      <a:pt x="216" y="786"/>
                    </a:lnTo>
                    <a:lnTo>
                      <a:pt x="249" y="807"/>
                    </a:lnTo>
                    <a:lnTo>
                      <a:pt x="283" y="828"/>
                    </a:lnTo>
                    <a:lnTo>
                      <a:pt x="319" y="846"/>
                    </a:lnTo>
                    <a:lnTo>
                      <a:pt x="357" y="863"/>
                    </a:lnTo>
                    <a:lnTo>
                      <a:pt x="395" y="879"/>
                    </a:lnTo>
                    <a:lnTo>
                      <a:pt x="435" y="893"/>
                    </a:lnTo>
                    <a:lnTo>
                      <a:pt x="473" y="847"/>
                    </a:lnTo>
                    <a:lnTo>
                      <a:pt x="509" y="805"/>
                    </a:lnTo>
                    <a:lnTo>
                      <a:pt x="542" y="765"/>
                    </a:lnTo>
                    <a:lnTo>
                      <a:pt x="570" y="727"/>
                    </a:lnTo>
                    <a:lnTo>
                      <a:pt x="596" y="692"/>
                    </a:lnTo>
                    <a:lnTo>
                      <a:pt x="620" y="656"/>
                    </a:lnTo>
                    <a:lnTo>
                      <a:pt x="631" y="639"/>
                    </a:lnTo>
                    <a:lnTo>
                      <a:pt x="641" y="622"/>
                    </a:lnTo>
                    <a:lnTo>
                      <a:pt x="649" y="605"/>
                    </a:lnTo>
                    <a:lnTo>
                      <a:pt x="658" y="588"/>
                    </a:lnTo>
                    <a:lnTo>
                      <a:pt x="665" y="571"/>
                    </a:lnTo>
                    <a:lnTo>
                      <a:pt x="672" y="554"/>
                    </a:lnTo>
                    <a:lnTo>
                      <a:pt x="678" y="535"/>
                    </a:lnTo>
                    <a:lnTo>
                      <a:pt x="683" y="517"/>
                    </a:lnTo>
                    <a:lnTo>
                      <a:pt x="688" y="499"/>
                    </a:lnTo>
                    <a:lnTo>
                      <a:pt x="692" y="481"/>
                    </a:lnTo>
                    <a:lnTo>
                      <a:pt x="696" y="461"/>
                    </a:lnTo>
                    <a:lnTo>
                      <a:pt x="698" y="442"/>
                    </a:lnTo>
                    <a:lnTo>
                      <a:pt x="699" y="421"/>
                    </a:lnTo>
                    <a:lnTo>
                      <a:pt x="700" y="401"/>
                    </a:lnTo>
                    <a:lnTo>
                      <a:pt x="701" y="379"/>
                    </a:lnTo>
                    <a:lnTo>
                      <a:pt x="701" y="356"/>
                    </a:lnTo>
                    <a:lnTo>
                      <a:pt x="700" y="334"/>
                    </a:lnTo>
                    <a:lnTo>
                      <a:pt x="698" y="310"/>
                    </a:lnTo>
                    <a:lnTo>
                      <a:pt x="696" y="284"/>
                    </a:lnTo>
                    <a:lnTo>
                      <a:pt x="692" y="258"/>
                    </a:lnTo>
                    <a:lnTo>
                      <a:pt x="683" y="239"/>
                    </a:lnTo>
                    <a:lnTo>
                      <a:pt x="673" y="222"/>
                    </a:lnTo>
                    <a:lnTo>
                      <a:pt x="663" y="203"/>
                    </a:lnTo>
                    <a:lnTo>
                      <a:pt x="652" y="187"/>
                    </a:lnTo>
                    <a:lnTo>
                      <a:pt x="641" y="172"/>
                    </a:lnTo>
                    <a:lnTo>
                      <a:pt x="629" y="157"/>
                    </a:lnTo>
                    <a:lnTo>
                      <a:pt x="617" y="142"/>
                    </a:lnTo>
                    <a:lnTo>
                      <a:pt x="604" y="128"/>
                    </a:lnTo>
                    <a:lnTo>
                      <a:pt x="592" y="116"/>
                    </a:lnTo>
                    <a:lnTo>
                      <a:pt x="579" y="103"/>
                    </a:lnTo>
                    <a:lnTo>
                      <a:pt x="566" y="92"/>
                    </a:lnTo>
                    <a:lnTo>
                      <a:pt x="552" y="80"/>
                    </a:lnTo>
                    <a:lnTo>
                      <a:pt x="538" y="70"/>
                    </a:lnTo>
                    <a:lnTo>
                      <a:pt x="523" y="61"/>
                    </a:lnTo>
                    <a:lnTo>
                      <a:pt x="509" y="52"/>
                    </a:lnTo>
                    <a:lnTo>
                      <a:pt x="493" y="44"/>
                    </a:lnTo>
                    <a:lnTo>
                      <a:pt x="478" y="37"/>
                    </a:lnTo>
                    <a:lnTo>
                      <a:pt x="461" y="30"/>
                    </a:lnTo>
                    <a:lnTo>
                      <a:pt x="445" y="23"/>
                    </a:lnTo>
                    <a:lnTo>
                      <a:pt x="428" y="19"/>
                    </a:lnTo>
                    <a:lnTo>
                      <a:pt x="411" y="14"/>
                    </a:lnTo>
                    <a:lnTo>
                      <a:pt x="393" y="9"/>
                    </a:lnTo>
                    <a:lnTo>
                      <a:pt x="375" y="7"/>
                    </a:lnTo>
                    <a:lnTo>
                      <a:pt x="357" y="4"/>
                    </a:lnTo>
                    <a:lnTo>
                      <a:pt x="338" y="3"/>
                    </a:lnTo>
                    <a:lnTo>
                      <a:pt x="319" y="2"/>
                    </a:lnTo>
                    <a:lnTo>
                      <a:pt x="299" y="0"/>
                    </a:lnTo>
                    <a:lnTo>
                      <a:pt x="279" y="2"/>
                    </a:lnTo>
                    <a:lnTo>
                      <a:pt x="259" y="2"/>
                    </a:lnTo>
                    <a:lnTo>
                      <a:pt x="238" y="4"/>
                    </a:lnTo>
                    <a:lnTo>
                      <a:pt x="217" y="6"/>
                    </a:lnTo>
                    <a:lnTo>
                      <a:pt x="196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3218040" y="387972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247" h="569">
                    <a:moveTo>
                      <a:pt x="67" y="528"/>
                    </a:moveTo>
                    <a:lnTo>
                      <a:pt x="68" y="536"/>
                    </a:lnTo>
                    <a:lnTo>
                      <a:pt x="68" y="497"/>
                    </a:lnTo>
                    <a:lnTo>
                      <a:pt x="68" y="460"/>
                    </a:lnTo>
                    <a:lnTo>
                      <a:pt x="70" y="423"/>
                    </a:lnTo>
                    <a:lnTo>
                      <a:pt x="73" y="388"/>
                    </a:lnTo>
                    <a:lnTo>
                      <a:pt x="76" y="352"/>
                    </a:lnTo>
                    <a:lnTo>
                      <a:pt x="82" y="319"/>
                    </a:lnTo>
                    <a:lnTo>
                      <a:pt x="89" y="286"/>
                    </a:lnTo>
                    <a:lnTo>
                      <a:pt x="97" y="255"/>
                    </a:lnTo>
                    <a:lnTo>
                      <a:pt x="103" y="241"/>
                    </a:lnTo>
                    <a:lnTo>
                      <a:pt x="107" y="226"/>
                    </a:lnTo>
                    <a:lnTo>
                      <a:pt x="114" y="211"/>
                    </a:lnTo>
                    <a:lnTo>
                      <a:pt x="120" y="197"/>
                    </a:lnTo>
                    <a:lnTo>
                      <a:pt x="127" y="184"/>
                    </a:lnTo>
                    <a:lnTo>
                      <a:pt x="135" y="170"/>
                    </a:lnTo>
                    <a:lnTo>
                      <a:pt x="142" y="157"/>
                    </a:lnTo>
                    <a:lnTo>
                      <a:pt x="152" y="145"/>
                    </a:lnTo>
                    <a:lnTo>
                      <a:pt x="161" y="133"/>
                    </a:lnTo>
                    <a:lnTo>
                      <a:pt x="171" y="121"/>
                    </a:lnTo>
                    <a:lnTo>
                      <a:pt x="182" y="109"/>
                    </a:lnTo>
                    <a:lnTo>
                      <a:pt x="194" y="98"/>
                    </a:lnTo>
                    <a:lnTo>
                      <a:pt x="205" y="88"/>
                    </a:lnTo>
                    <a:lnTo>
                      <a:pt x="219" y="77"/>
                    </a:lnTo>
                    <a:lnTo>
                      <a:pt x="233" y="67"/>
                    </a:lnTo>
                    <a:lnTo>
                      <a:pt x="247" y="58"/>
                    </a:lnTo>
                    <a:lnTo>
                      <a:pt x="212" y="0"/>
                    </a:lnTo>
                    <a:lnTo>
                      <a:pt x="195" y="11"/>
                    </a:lnTo>
                    <a:lnTo>
                      <a:pt x="178" y="24"/>
                    </a:lnTo>
                    <a:lnTo>
                      <a:pt x="163" y="36"/>
                    </a:lnTo>
                    <a:lnTo>
                      <a:pt x="148" y="49"/>
                    </a:lnTo>
                    <a:lnTo>
                      <a:pt x="133" y="63"/>
                    </a:lnTo>
                    <a:lnTo>
                      <a:pt x="121" y="76"/>
                    </a:lnTo>
                    <a:lnTo>
                      <a:pt x="108" y="90"/>
                    </a:lnTo>
                    <a:lnTo>
                      <a:pt x="97" y="105"/>
                    </a:lnTo>
                    <a:lnTo>
                      <a:pt x="87" y="121"/>
                    </a:lnTo>
                    <a:lnTo>
                      <a:pt x="76" y="136"/>
                    </a:lnTo>
                    <a:lnTo>
                      <a:pt x="68" y="152"/>
                    </a:lnTo>
                    <a:lnTo>
                      <a:pt x="59" y="168"/>
                    </a:lnTo>
                    <a:lnTo>
                      <a:pt x="51" y="185"/>
                    </a:lnTo>
                    <a:lnTo>
                      <a:pt x="44" y="201"/>
                    </a:lnTo>
                    <a:lnTo>
                      <a:pt x="39" y="218"/>
                    </a:lnTo>
                    <a:lnTo>
                      <a:pt x="33" y="236"/>
                    </a:lnTo>
                    <a:lnTo>
                      <a:pt x="23" y="271"/>
                    </a:lnTo>
                    <a:lnTo>
                      <a:pt x="16" y="307"/>
                    </a:lnTo>
                    <a:lnTo>
                      <a:pt x="9" y="344"/>
                    </a:lnTo>
                    <a:lnTo>
                      <a:pt x="6" y="382"/>
                    </a:lnTo>
                    <a:lnTo>
                      <a:pt x="2" y="420"/>
                    </a:lnTo>
                    <a:lnTo>
                      <a:pt x="1" y="458"/>
                    </a:lnTo>
                    <a:lnTo>
                      <a:pt x="0" y="497"/>
                    </a:lnTo>
                    <a:lnTo>
                      <a:pt x="1" y="536"/>
                    </a:lnTo>
                    <a:lnTo>
                      <a:pt x="2" y="544"/>
                    </a:lnTo>
                    <a:lnTo>
                      <a:pt x="1" y="536"/>
                    </a:lnTo>
                    <a:lnTo>
                      <a:pt x="1" y="544"/>
                    </a:lnTo>
                    <a:lnTo>
                      <a:pt x="3" y="551"/>
                    </a:lnTo>
                    <a:lnTo>
                      <a:pt x="7" y="557"/>
                    </a:lnTo>
                    <a:lnTo>
                      <a:pt x="11" y="561"/>
                    </a:lnTo>
                    <a:lnTo>
                      <a:pt x="16" y="565"/>
                    </a:lnTo>
                    <a:lnTo>
                      <a:pt x="22" y="568"/>
                    </a:lnTo>
                    <a:lnTo>
                      <a:pt x="28" y="569"/>
                    </a:lnTo>
                    <a:lnTo>
                      <a:pt x="34" y="569"/>
                    </a:lnTo>
                    <a:lnTo>
                      <a:pt x="41" y="569"/>
                    </a:lnTo>
                    <a:lnTo>
                      <a:pt x="47" y="568"/>
                    </a:lnTo>
                    <a:lnTo>
                      <a:pt x="52" y="565"/>
                    </a:lnTo>
                    <a:lnTo>
                      <a:pt x="58" y="561"/>
                    </a:lnTo>
                    <a:lnTo>
                      <a:pt x="62" y="557"/>
                    </a:lnTo>
                    <a:lnTo>
                      <a:pt x="65" y="551"/>
                    </a:lnTo>
                    <a:lnTo>
                      <a:pt x="67" y="544"/>
                    </a:lnTo>
                    <a:lnTo>
                      <a:pt x="68" y="536"/>
                    </a:lnTo>
                    <a:lnTo>
                      <a:pt x="67" y="52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3218040" y="4048200"/>
                <a:ext cx="158400" cy="131760"/>
              </a:xfrm>
              <a:custGeom>
                <a:avLst/>
                <a:gdLst/>
                <a:ahLst/>
                <a:rect l="l" t="t" r="r" b="b"/>
                <a:pathLst>
                  <a:path w="501" h="419">
                    <a:moveTo>
                      <a:pt x="441" y="363"/>
                    </a:moveTo>
                    <a:lnTo>
                      <a:pt x="478" y="353"/>
                    </a:lnTo>
                    <a:lnTo>
                      <a:pt x="439" y="339"/>
                    </a:lnTo>
                    <a:lnTo>
                      <a:pt x="402" y="324"/>
                    </a:lnTo>
                    <a:lnTo>
                      <a:pt x="366" y="307"/>
                    </a:lnTo>
                    <a:lnTo>
                      <a:pt x="331" y="290"/>
                    </a:lnTo>
                    <a:lnTo>
                      <a:pt x="298" y="270"/>
                    </a:lnTo>
                    <a:lnTo>
                      <a:pt x="266" y="250"/>
                    </a:lnTo>
                    <a:lnTo>
                      <a:pt x="236" y="229"/>
                    </a:lnTo>
                    <a:lnTo>
                      <a:pt x="208" y="207"/>
                    </a:lnTo>
                    <a:lnTo>
                      <a:pt x="194" y="195"/>
                    </a:lnTo>
                    <a:lnTo>
                      <a:pt x="182" y="184"/>
                    </a:lnTo>
                    <a:lnTo>
                      <a:pt x="169" y="171"/>
                    </a:lnTo>
                    <a:lnTo>
                      <a:pt x="158" y="160"/>
                    </a:lnTo>
                    <a:lnTo>
                      <a:pt x="146" y="147"/>
                    </a:lnTo>
                    <a:lnTo>
                      <a:pt x="136" y="135"/>
                    </a:lnTo>
                    <a:lnTo>
                      <a:pt x="126" y="122"/>
                    </a:lnTo>
                    <a:lnTo>
                      <a:pt x="117" y="108"/>
                    </a:lnTo>
                    <a:lnTo>
                      <a:pt x="107" y="96"/>
                    </a:lnTo>
                    <a:lnTo>
                      <a:pt x="99" y="82"/>
                    </a:lnTo>
                    <a:lnTo>
                      <a:pt x="91" y="69"/>
                    </a:lnTo>
                    <a:lnTo>
                      <a:pt x="85" y="56"/>
                    </a:lnTo>
                    <a:lnTo>
                      <a:pt x="79" y="42"/>
                    </a:lnTo>
                    <a:lnTo>
                      <a:pt x="73" y="27"/>
                    </a:lnTo>
                    <a:lnTo>
                      <a:pt x="69" y="14"/>
                    </a:lnTo>
                    <a:lnTo>
                      <a:pt x="65" y="0"/>
                    </a:lnTo>
                    <a:lnTo>
                      <a:pt x="0" y="16"/>
                    </a:lnTo>
                    <a:lnTo>
                      <a:pt x="5" y="33"/>
                    </a:lnTo>
                    <a:lnTo>
                      <a:pt x="11" y="50"/>
                    </a:lnTo>
                    <a:lnTo>
                      <a:pt x="17" y="67"/>
                    </a:lnTo>
                    <a:lnTo>
                      <a:pt x="24" y="84"/>
                    </a:lnTo>
                    <a:lnTo>
                      <a:pt x="32" y="100"/>
                    </a:lnTo>
                    <a:lnTo>
                      <a:pt x="41" y="116"/>
                    </a:lnTo>
                    <a:lnTo>
                      <a:pt x="50" y="132"/>
                    </a:lnTo>
                    <a:lnTo>
                      <a:pt x="61" y="147"/>
                    </a:lnTo>
                    <a:lnTo>
                      <a:pt x="72" y="162"/>
                    </a:lnTo>
                    <a:lnTo>
                      <a:pt x="83" y="177"/>
                    </a:lnTo>
                    <a:lnTo>
                      <a:pt x="96" y="192"/>
                    </a:lnTo>
                    <a:lnTo>
                      <a:pt x="109" y="205"/>
                    </a:lnTo>
                    <a:lnTo>
                      <a:pt x="121" y="219"/>
                    </a:lnTo>
                    <a:lnTo>
                      <a:pt x="136" y="233"/>
                    </a:lnTo>
                    <a:lnTo>
                      <a:pt x="150" y="245"/>
                    </a:lnTo>
                    <a:lnTo>
                      <a:pt x="164" y="259"/>
                    </a:lnTo>
                    <a:lnTo>
                      <a:pt x="195" y="283"/>
                    </a:lnTo>
                    <a:lnTo>
                      <a:pt x="228" y="306"/>
                    </a:lnTo>
                    <a:lnTo>
                      <a:pt x="264" y="329"/>
                    </a:lnTo>
                    <a:lnTo>
                      <a:pt x="299" y="349"/>
                    </a:lnTo>
                    <a:lnTo>
                      <a:pt x="337" y="367"/>
                    </a:lnTo>
                    <a:lnTo>
                      <a:pt x="375" y="386"/>
                    </a:lnTo>
                    <a:lnTo>
                      <a:pt x="415" y="402"/>
                    </a:lnTo>
                    <a:lnTo>
                      <a:pt x="456" y="416"/>
                    </a:lnTo>
                    <a:lnTo>
                      <a:pt x="493" y="406"/>
                    </a:lnTo>
                    <a:lnTo>
                      <a:pt x="456" y="416"/>
                    </a:lnTo>
                    <a:lnTo>
                      <a:pt x="463" y="419"/>
                    </a:lnTo>
                    <a:lnTo>
                      <a:pt x="471" y="419"/>
                    </a:lnTo>
                    <a:lnTo>
                      <a:pt x="477" y="418"/>
                    </a:lnTo>
                    <a:lnTo>
                      <a:pt x="482" y="414"/>
                    </a:lnTo>
                    <a:lnTo>
                      <a:pt x="488" y="411"/>
                    </a:lnTo>
                    <a:lnTo>
                      <a:pt x="493" y="406"/>
                    </a:lnTo>
                    <a:lnTo>
                      <a:pt x="496" y="402"/>
                    </a:lnTo>
                    <a:lnTo>
                      <a:pt x="498" y="396"/>
                    </a:lnTo>
                    <a:lnTo>
                      <a:pt x="500" y="389"/>
                    </a:lnTo>
                    <a:lnTo>
                      <a:pt x="501" y="383"/>
                    </a:lnTo>
                    <a:lnTo>
                      <a:pt x="500" y="377"/>
                    </a:lnTo>
                    <a:lnTo>
                      <a:pt x="498" y="371"/>
                    </a:lnTo>
                    <a:lnTo>
                      <a:pt x="495" y="365"/>
                    </a:lnTo>
                    <a:lnTo>
                      <a:pt x="490" y="361"/>
                    </a:lnTo>
                    <a:lnTo>
                      <a:pt x="485" y="356"/>
                    </a:lnTo>
                    <a:lnTo>
                      <a:pt x="478" y="353"/>
                    </a:lnTo>
                    <a:lnTo>
                      <a:pt x="441" y="3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3357720" y="3957480"/>
                <a:ext cx="102960" cy="219240"/>
              </a:xfrm>
              <a:custGeom>
                <a:avLst/>
                <a:gdLst/>
                <a:ahLst/>
                <a:rect l="l" t="t" r="r" b="b"/>
                <a:pathLst>
                  <a:path w="325" h="690">
                    <a:moveTo>
                      <a:pt x="254" y="49"/>
                    </a:moveTo>
                    <a:lnTo>
                      <a:pt x="250" y="38"/>
                    </a:lnTo>
                    <a:lnTo>
                      <a:pt x="254" y="64"/>
                    </a:lnTo>
                    <a:lnTo>
                      <a:pt x="256" y="88"/>
                    </a:lnTo>
                    <a:lnTo>
                      <a:pt x="257" y="111"/>
                    </a:lnTo>
                    <a:lnTo>
                      <a:pt x="258" y="133"/>
                    </a:lnTo>
                    <a:lnTo>
                      <a:pt x="258" y="155"/>
                    </a:lnTo>
                    <a:lnTo>
                      <a:pt x="258" y="176"/>
                    </a:lnTo>
                    <a:lnTo>
                      <a:pt x="257" y="195"/>
                    </a:lnTo>
                    <a:lnTo>
                      <a:pt x="256" y="214"/>
                    </a:lnTo>
                    <a:lnTo>
                      <a:pt x="252" y="233"/>
                    </a:lnTo>
                    <a:lnTo>
                      <a:pt x="250" y="251"/>
                    </a:lnTo>
                    <a:lnTo>
                      <a:pt x="247" y="268"/>
                    </a:lnTo>
                    <a:lnTo>
                      <a:pt x="242" y="285"/>
                    </a:lnTo>
                    <a:lnTo>
                      <a:pt x="238" y="301"/>
                    </a:lnTo>
                    <a:lnTo>
                      <a:pt x="232" y="317"/>
                    </a:lnTo>
                    <a:lnTo>
                      <a:pt x="225" y="334"/>
                    </a:lnTo>
                    <a:lnTo>
                      <a:pt x="218" y="350"/>
                    </a:lnTo>
                    <a:lnTo>
                      <a:pt x="210" y="366"/>
                    </a:lnTo>
                    <a:lnTo>
                      <a:pt x="202" y="382"/>
                    </a:lnTo>
                    <a:lnTo>
                      <a:pt x="193" y="398"/>
                    </a:lnTo>
                    <a:lnTo>
                      <a:pt x="183" y="414"/>
                    </a:lnTo>
                    <a:lnTo>
                      <a:pt x="160" y="448"/>
                    </a:lnTo>
                    <a:lnTo>
                      <a:pt x="135" y="484"/>
                    </a:lnTo>
                    <a:lnTo>
                      <a:pt x="105" y="520"/>
                    </a:lnTo>
                    <a:lnTo>
                      <a:pt x="73" y="559"/>
                    </a:lnTo>
                    <a:lnTo>
                      <a:pt x="38" y="601"/>
                    </a:lnTo>
                    <a:lnTo>
                      <a:pt x="0" y="647"/>
                    </a:lnTo>
                    <a:lnTo>
                      <a:pt x="52" y="690"/>
                    </a:lnTo>
                    <a:lnTo>
                      <a:pt x="89" y="645"/>
                    </a:lnTo>
                    <a:lnTo>
                      <a:pt x="126" y="602"/>
                    </a:lnTo>
                    <a:lnTo>
                      <a:pt x="159" y="562"/>
                    </a:lnTo>
                    <a:lnTo>
                      <a:pt x="189" y="524"/>
                    </a:lnTo>
                    <a:lnTo>
                      <a:pt x="216" y="487"/>
                    </a:lnTo>
                    <a:lnTo>
                      <a:pt x="240" y="451"/>
                    </a:lnTo>
                    <a:lnTo>
                      <a:pt x="250" y="432"/>
                    </a:lnTo>
                    <a:lnTo>
                      <a:pt x="260" y="414"/>
                    </a:lnTo>
                    <a:lnTo>
                      <a:pt x="271" y="396"/>
                    </a:lnTo>
                    <a:lnTo>
                      <a:pt x="280" y="378"/>
                    </a:lnTo>
                    <a:lnTo>
                      <a:pt x="288" y="359"/>
                    </a:lnTo>
                    <a:lnTo>
                      <a:pt x="295" y="341"/>
                    </a:lnTo>
                    <a:lnTo>
                      <a:pt x="301" y="322"/>
                    </a:lnTo>
                    <a:lnTo>
                      <a:pt x="307" y="302"/>
                    </a:lnTo>
                    <a:lnTo>
                      <a:pt x="312" y="283"/>
                    </a:lnTo>
                    <a:lnTo>
                      <a:pt x="316" y="262"/>
                    </a:lnTo>
                    <a:lnTo>
                      <a:pt x="320" y="243"/>
                    </a:lnTo>
                    <a:lnTo>
                      <a:pt x="322" y="221"/>
                    </a:lnTo>
                    <a:lnTo>
                      <a:pt x="324" y="200"/>
                    </a:lnTo>
                    <a:lnTo>
                      <a:pt x="325" y="178"/>
                    </a:lnTo>
                    <a:lnTo>
                      <a:pt x="325" y="155"/>
                    </a:lnTo>
                    <a:lnTo>
                      <a:pt x="325" y="131"/>
                    </a:lnTo>
                    <a:lnTo>
                      <a:pt x="324" y="107"/>
                    </a:lnTo>
                    <a:lnTo>
                      <a:pt x="323" y="82"/>
                    </a:lnTo>
                    <a:lnTo>
                      <a:pt x="321" y="57"/>
                    </a:lnTo>
                    <a:lnTo>
                      <a:pt x="317" y="30"/>
                    </a:lnTo>
                    <a:lnTo>
                      <a:pt x="314" y="18"/>
                    </a:lnTo>
                    <a:lnTo>
                      <a:pt x="317" y="30"/>
                    </a:lnTo>
                    <a:lnTo>
                      <a:pt x="315" y="22"/>
                    </a:lnTo>
                    <a:lnTo>
                      <a:pt x="313" y="15"/>
                    </a:lnTo>
                    <a:lnTo>
                      <a:pt x="308" y="10"/>
                    </a:lnTo>
                    <a:lnTo>
                      <a:pt x="304" y="6"/>
                    </a:lnTo>
                    <a:lnTo>
                      <a:pt x="298" y="2"/>
                    </a:lnTo>
                    <a:lnTo>
                      <a:pt x="292" y="1"/>
                    </a:lnTo>
                    <a:lnTo>
                      <a:pt x="285" y="0"/>
                    </a:lnTo>
                    <a:lnTo>
                      <a:pt x="280" y="0"/>
                    </a:lnTo>
                    <a:lnTo>
                      <a:pt x="273" y="1"/>
                    </a:lnTo>
                    <a:lnTo>
                      <a:pt x="267" y="5"/>
                    </a:lnTo>
                    <a:lnTo>
                      <a:pt x="263" y="7"/>
                    </a:lnTo>
                    <a:lnTo>
                      <a:pt x="258" y="11"/>
                    </a:lnTo>
                    <a:lnTo>
                      <a:pt x="254" y="17"/>
                    </a:lnTo>
                    <a:lnTo>
                      <a:pt x="251" y="23"/>
                    </a:lnTo>
                    <a:lnTo>
                      <a:pt x="250" y="30"/>
                    </a:lnTo>
                    <a:lnTo>
                      <a:pt x="250" y="38"/>
                    </a:lnTo>
                    <a:lnTo>
                      <a:pt x="254" y="4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3279600" y="3875040"/>
                <a:ext cx="177840" cy="98640"/>
              </a:xfrm>
              <a:custGeom>
                <a:avLst/>
                <a:gdLst/>
                <a:ahLst/>
                <a:rect l="l" t="t" r="r" b="b"/>
                <a:pathLst>
                  <a:path w="561" h="306">
                    <a:moveTo>
                      <a:pt x="51" y="71"/>
                    </a:moveTo>
                    <a:lnTo>
                      <a:pt x="39" y="76"/>
                    </a:lnTo>
                    <a:lnTo>
                      <a:pt x="59" y="72"/>
                    </a:lnTo>
                    <a:lnTo>
                      <a:pt x="80" y="70"/>
                    </a:lnTo>
                    <a:lnTo>
                      <a:pt x="99" y="69"/>
                    </a:lnTo>
                    <a:lnTo>
                      <a:pt x="119" y="68"/>
                    </a:lnTo>
                    <a:lnTo>
                      <a:pt x="137" y="68"/>
                    </a:lnTo>
                    <a:lnTo>
                      <a:pt x="155" y="68"/>
                    </a:lnTo>
                    <a:lnTo>
                      <a:pt x="173" y="69"/>
                    </a:lnTo>
                    <a:lnTo>
                      <a:pt x="190" y="71"/>
                    </a:lnTo>
                    <a:lnTo>
                      <a:pt x="208" y="73"/>
                    </a:lnTo>
                    <a:lnTo>
                      <a:pt x="225" y="76"/>
                    </a:lnTo>
                    <a:lnTo>
                      <a:pt x="241" y="79"/>
                    </a:lnTo>
                    <a:lnTo>
                      <a:pt x="257" y="84"/>
                    </a:lnTo>
                    <a:lnTo>
                      <a:pt x="273" y="88"/>
                    </a:lnTo>
                    <a:lnTo>
                      <a:pt x="287" y="94"/>
                    </a:lnTo>
                    <a:lnTo>
                      <a:pt x="302" y="101"/>
                    </a:lnTo>
                    <a:lnTo>
                      <a:pt x="316" y="106"/>
                    </a:lnTo>
                    <a:lnTo>
                      <a:pt x="330" y="114"/>
                    </a:lnTo>
                    <a:lnTo>
                      <a:pt x="343" y="122"/>
                    </a:lnTo>
                    <a:lnTo>
                      <a:pt x="357" y="131"/>
                    </a:lnTo>
                    <a:lnTo>
                      <a:pt x="369" y="141"/>
                    </a:lnTo>
                    <a:lnTo>
                      <a:pt x="382" y="151"/>
                    </a:lnTo>
                    <a:lnTo>
                      <a:pt x="395" y="161"/>
                    </a:lnTo>
                    <a:lnTo>
                      <a:pt x="407" y="173"/>
                    </a:lnTo>
                    <a:lnTo>
                      <a:pt x="418" y="184"/>
                    </a:lnTo>
                    <a:lnTo>
                      <a:pt x="430" y="197"/>
                    </a:lnTo>
                    <a:lnTo>
                      <a:pt x="440" y="210"/>
                    </a:lnTo>
                    <a:lnTo>
                      <a:pt x="452" y="225"/>
                    </a:lnTo>
                    <a:lnTo>
                      <a:pt x="462" y="239"/>
                    </a:lnTo>
                    <a:lnTo>
                      <a:pt x="472" y="255"/>
                    </a:lnTo>
                    <a:lnTo>
                      <a:pt x="482" y="271"/>
                    </a:lnTo>
                    <a:lnTo>
                      <a:pt x="491" y="288"/>
                    </a:lnTo>
                    <a:lnTo>
                      <a:pt x="501" y="306"/>
                    </a:lnTo>
                    <a:lnTo>
                      <a:pt x="561" y="275"/>
                    </a:lnTo>
                    <a:lnTo>
                      <a:pt x="551" y="256"/>
                    </a:lnTo>
                    <a:lnTo>
                      <a:pt x="540" y="238"/>
                    </a:lnTo>
                    <a:lnTo>
                      <a:pt x="529" y="219"/>
                    </a:lnTo>
                    <a:lnTo>
                      <a:pt x="518" y="201"/>
                    </a:lnTo>
                    <a:lnTo>
                      <a:pt x="506" y="185"/>
                    </a:lnTo>
                    <a:lnTo>
                      <a:pt x="494" y="168"/>
                    </a:lnTo>
                    <a:lnTo>
                      <a:pt x="481" y="153"/>
                    </a:lnTo>
                    <a:lnTo>
                      <a:pt x="467" y="138"/>
                    </a:lnTo>
                    <a:lnTo>
                      <a:pt x="454" y="125"/>
                    </a:lnTo>
                    <a:lnTo>
                      <a:pt x="440" y="111"/>
                    </a:lnTo>
                    <a:lnTo>
                      <a:pt x="425" y="98"/>
                    </a:lnTo>
                    <a:lnTo>
                      <a:pt x="410" y="87"/>
                    </a:lnTo>
                    <a:lnTo>
                      <a:pt x="395" y="76"/>
                    </a:lnTo>
                    <a:lnTo>
                      <a:pt x="379" y="65"/>
                    </a:lnTo>
                    <a:lnTo>
                      <a:pt x="363" y="55"/>
                    </a:lnTo>
                    <a:lnTo>
                      <a:pt x="347" y="47"/>
                    </a:lnTo>
                    <a:lnTo>
                      <a:pt x="328" y="38"/>
                    </a:lnTo>
                    <a:lnTo>
                      <a:pt x="311" y="31"/>
                    </a:lnTo>
                    <a:lnTo>
                      <a:pt x="294" y="24"/>
                    </a:lnTo>
                    <a:lnTo>
                      <a:pt x="276" y="19"/>
                    </a:lnTo>
                    <a:lnTo>
                      <a:pt x="257" y="14"/>
                    </a:lnTo>
                    <a:lnTo>
                      <a:pt x="237" y="9"/>
                    </a:lnTo>
                    <a:lnTo>
                      <a:pt x="219" y="6"/>
                    </a:lnTo>
                    <a:lnTo>
                      <a:pt x="198" y="4"/>
                    </a:lnTo>
                    <a:lnTo>
                      <a:pt x="179" y="1"/>
                    </a:lnTo>
                    <a:lnTo>
                      <a:pt x="159" y="0"/>
                    </a:lnTo>
                    <a:lnTo>
                      <a:pt x="137" y="0"/>
                    </a:lnTo>
                    <a:lnTo>
                      <a:pt x="116" y="0"/>
                    </a:lnTo>
                    <a:lnTo>
                      <a:pt x="95" y="1"/>
                    </a:lnTo>
                    <a:lnTo>
                      <a:pt x="73" y="4"/>
                    </a:lnTo>
                    <a:lnTo>
                      <a:pt x="51" y="6"/>
                    </a:lnTo>
                    <a:lnTo>
                      <a:pt x="29" y="8"/>
                    </a:lnTo>
                    <a:lnTo>
                      <a:pt x="16" y="13"/>
                    </a:lnTo>
                    <a:lnTo>
                      <a:pt x="29" y="8"/>
                    </a:lnTo>
                    <a:lnTo>
                      <a:pt x="21" y="11"/>
                    </a:lnTo>
                    <a:lnTo>
                      <a:pt x="15" y="14"/>
                    </a:lnTo>
                    <a:lnTo>
                      <a:pt x="9" y="19"/>
                    </a:lnTo>
                    <a:lnTo>
                      <a:pt x="6" y="23"/>
                    </a:lnTo>
                    <a:lnTo>
                      <a:pt x="2" y="29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0" y="47"/>
                    </a:lnTo>
                    <a:lnTo>
                      <a:pt x="2" y="53"/>
                    </a:lnTo>
                    <a:lnTo>
                      <a:pt x="5" y="60"/>
                    </a:lnTo>
                    <a:lnTo>
                      <a:pt x="8" y="64"/>
                    </a:lnTo>
                    <a:lnTo>
                      <a:pt x="13" y="69"/>
                    </a:lnTo>
                    <a:lnTo>
                      <a:pt x="17" y="72"/>
                    </a:lnTo>
                    <a:lnTo>
                      <a:pt x="24" y="74"/>
                    </a:lnTo>
                    <a:lnTo>
                      <a:pt x="31" y="76"/>
                    </a:lnTo>
                    <a:lnTo>
                      <a:pt x="39" y="76"/>
                    </a:lnTo>
                    <a:lnTo>
                      <a:pt x="51" y="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2644920" y="417816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64" h="45">
                    <a:moveTo>
                      <a:pt x="64" y="24"/>
                    </a:moveTo>
                    <a:lnTo>
                      <a:pt x="61" y="16"/>
                    </a:lnTo>
                    <a:lnTo>
                      <a:pt x="58" y="10"/>
                    </a:lnTo>
                    <a:lnTo>
                      <a:pt x="52" y="7"/>
                    </a:lnTo>
                    <a:lnTo>
                      <a:pt x="46" y="3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6" y="13"/>
                    </a:lnTo>
                    <a:lnTo>
                      <a:pt x="3" y="18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2644920" y="4089240"/>
                <a:ext cx="160200" cy="111240"/>
              </a:xfrm>
              <a:custGeom>
                <a:avLst/>
                <a:gdLst/>
                <a:ahLst/>
                <a:rect l="l" t="t" r="r" b="b"/>
                <a:pathLst>
                  <a:path w="505" h="352">
                    <a:moveTo>
                      <a:pt x="485" y="0"/>
                    </a:moveTo>
                    <a:lnTo>
                      <a:pt x="464" y="8"/>
                    </a:lnTo>
                    <a:lnTo>
                      <a:pt x="442" y="16"/>
                    </a:lnTo>
                    <a:lnTo>
                      <a:pt x="421" y="25"/>
                    </a:lnTo>
                    <a:lnTo>
                      <a:pt x="400" y="34"/>
                    </a:lnTo>
                    <a:lnTo>
                      <a:pt x="358" y="56"/>
                    </a:lnTo>
                    <a:lnTo>
                      <a:pt x="317" y="80"/>
                    </a:lnTo>
                    <a:lnTo>
                      <a:pt x="277" y="105"/>
                    </a:lnTo>
                    <a:lnTo>
                      <a:pt x="238" y="130"/>
                    </a:lnTo>
                    <a:lnTo>
                      <a:pt x="201" y="156"/>
                    </a:lnTo>
                    <a:lnTo>
                      <a:pt x="166" y="182"/>
                    </a:lnTo>
                    <a:lnTo>
                      <a:pt x="106" y="228"/>
                    </a:lnTo>
                    <a:lnTo>
                      <a:pt x="57" y="265"/>
                    </a:lnTo>
                    <a:lnTo>
                      <a:pt x="40" y="277"/>
                    </a:lnTo>
                    <a:lnTo>
                      <a:pt x="27" y="285"/>
                    </a:lnTo>
                    <a:lnTo>
                      <a:pt x="26" y="286"/>
                    </a:lnTo>
                    <a:lnTo>
                      <a:pt x="28" y="285"/>
                    </a:lnTo>
                    <a:lnTo>
                      <a:pt x="43" y="286"/>
                    </a:lnTo>
                    <a:lnTo>
                      <a:pt x="63" y="307"/>
                    </a:lnTo>
                    <a:lnTo>
                      <a:pt x="0" y="328"/>
                    </a:lnTo>
                    <a:lnTo>
                      <a:pt x="24" y="352"/>
                    </a:lnTo>
                    <a:lnTo>
                      <a:pt x="44" y="352"/>
                    </a:lnTo>
                    <a:lnTo>
                      <a:pt x="54" y="348"/>
                    </a:lnTo>
                    <a:lnTo>
                      <a:pt x="62" y="342"/>
                    </a:lnTo>
                    <a:lnTo>
                      <a:pt x="78" y="332"/>
                    </a:lnTo>
                    <a:lnTo>
                      <a:pt x="98" y="318"/>
                    </a:lnTo>
                    <a:lnTo>
                      <a:pt x="146" y="282"/>
                    </a:lnTo>
                    <a:lnTo>
                      <a:pt x="207" y="235"/>
                    </a:lnTo>
                    <a:lnTo>
                      <a:pt x="240" y="211"/>
                    </a:lnTo>
                    <a:lnTo>
                      <a:pt x="276" y="186"/>
                    </a:lnTo>
                    <a:lnTo>
                      <a:pt x="313" y="161"/>
                    </a:lnTo>
                    <a:lnTo>
                      <a:pt x="351" y="137"/>
                    </a:lnTo>
                    <a:lnTo>
                      <a:pt x="390" y="115"/>
                    </a:lnTo>
                    <a:lnTo>
                      <a:pt x="429" y="95"/>
                    </a:lnTo>
                    <a:lnTo>
                      <a:pt x="448" y="87"/>
                    </a:lnTo>
                    <a:lnTo>
                      <a:pt x="467" y="79"/>
                    </a:lnTo>
                    <a:lnTo>
                      <a:pt x="486" y="71"/>
                    </a:lnTo>
                    <a:lnTo>
                      <a:pt x="505" y="65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2798640" y="40878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4" h="66">
                    <a:moveTo>
                      <a:pt x="20" y="66"/>
                    </a:moveTo>
                    <a:lnTo>
                      <a:pt x="28" y="63"/>
                    </a:lnTo>
                    <a:lnTo>
                      <a:pt x="33" y="58"/>
                    </a:lnTo>
                    <a:lnTo>
                      <a:pt x="38" y="54"/>
                    </a:lnTo>
                    <a:lnTo>
                      <a:pt x="41" y="48"/>
                    </a:lnTo>
                    <a:lnTo>
                      <a:pt x="42" y="42"/>
                    </a:lnTo>
                    <a:lnTo>
                      <a:pt x="44" y="35"/>
                    </a:lnTo>
                    <a:lnTo>
                      <a:pt x="44" y="30"/>
                    </a:lnTo>
                    <a:lnTo>
                      <a:pt x="42" y="24"/>
                    </a:lnTo>
                    <a:lnTo>
                      <a:pt x="39" y="17"/>
                    </a:lnTo>
                    <a:lnTo>
                      <a:pt x="37" y="13"/>
                    </a:lnTo>
                    <a:lnTo>
                      <a:pt x="32" y="8"/>
                    </a:lnTo>
                    <a:lnTo>
                      <a:pt x="27" y="3"/>
                    </a:lnTo>
                    <a:lnTo>
                      <a:pt x="21" y="1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20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>
                <a:off x="2946240" y="409104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67" y="24"/>
                    </a:moveTo>
                    <a:lnTo>
                      <a:pt x="63" y="16"/>
                    </a:lnTo>
                    <a:lnTo>
                      <a:pt x="60" y="10"/>
                    </a:lnTo>
                    <a:lnTo>
                      <a:pt x="54" y="6"/>
                    </a:lnTo>
                    <a:lnTo>
                      <a:pt x="48" y="2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4" y="2"/>
                    </a:lnTo>
                    <a:lnTo>
                      <a:pt x="19" y="5"/>
                    </a:lnTo>
                    <a:lnTo>
                      <a:pt x="13" y="8"/>
                    </a:lnTo>
                    <a:lnTo>
                      <a:pt x="8" y="13"/>
                    </a:lnTo>
                    <a:lnTo>
                      <a:pt x="5" y="17"/>
                    </a:lnTo>
                    <a:lnTo>
                      <a:pt x="3" y="23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3" y="45"/>
                    </a:lnTo>
                    <a:lnTo>
                      <a:pt x="67" y="2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2948040" y="4002120"/>
                <a:ext cx="160200" cy="111240"/>
              </a:xfrm>
              <a:custGeom>
                <a:avLst/>
                <a:gdLst/>
                <a:ahLst/>
                <a:rect l="l" t="t" r="r" b="b"/>
                <a:pathLst>
                  <a:path w="505" h="352">
                    <a:moveTo>
                      <a:pt x="485" y="0"/>
                    </a:moveTo>
                    <a:lnTo>
                      <a:pt x="464" y="7"/>
                    </a:lnTo>
                    <a:lnTo>
                      <a:pt x="442" y="16"/>
                    </a:lnTo>
                    <a:lnTo>
                      <a:pt x="421" y="24"/>
                    </a:lnTo>
                    <a:lnTo>
                      <a:pt x="400" y="34"/>
                    </a:lnTo>
                    <a:lnTo>
                      <a:pt x="358" y="56"/>
                    </a:lnTo>
                    <a:lnTo>
                      <a:pt x="317" y="80"/>
                    </a:lnTo>
                    <a:lnTo>
                      <a:pt x="277" y="104"/>
                    </a:lnTo>
                    <a:lnTo>
                      <a:pt x="238" y="130"/>
                    </a:lnTo>
                    <a:lnTo>
                      <a:pt x="201" y="155"/>
                    </a:lnTo>
                    <a:lnTo>
                      <a:pt x="166" y="182"/>
                    </a:lnTo>
                    <a:lnTo>
                      <a:pt x="105" y="227"/>
                    </a:lnTo>
                    <a:lnTo>
                      <a:pt x="57" y="265"/>
                    </a:lnTo>
                    <a:lnTo>
                      <a:pt x="40" y="277"/>
                    </a:lnTo>
                    <a:lnTo>
                      <a:pt x="27" y="285"/>
                    </a:lnTo>
                    <a:lnTo>
                      <a:pt x="26" y="287"/>
                    </a:lnTo>
                    <a:lnTo>
                      <a:pt x="28" y="285"/>
                    </a:lnTo>
                    <a:lnTo>
                      <a:pt x="43" y="287"/>
                    </a:lnTo>
                    <a:lnTo>
                      <a:pt x="64" y="307"/>
                    </a:lnTo>
                    <a:lnTo>
                      <a:pt x="0" y="328"/>
                    </a:lnTo>
                    <a:lnTo>
                      <a:pt x="24" y="350"/>
                    </a:lnTo>
                    <a:lnTo>
                      <a:pt x="44" y="352"/>
                    </a:lnTo>
                    <a:lnTo>
                      <a:pt x="54" y="347"/>
                    </a:lnTo>
                    <a:lnTo>
                      <a:pt x="64" y="342"/>
                    </a:lnTo>
                    <a:lnTo>
                      <a:pt x="78" y="332"/>
                    </a:lnTo>
                    <a:lnTo>
                      <a:pt x="98" y="318"/>
                    </a:lnTo>
                    <a:lnTo>
                      <a:pt x="146" y="281"/>
                    </a:lnTo>
                    <a:lnTo>
                      <a:pt x="207" y="235"/>
                    </a:lnTo>
                    <a:lnTo>
                      <a:pt x="240" y="211"/>
                    </a:lnTo>
                    <a:lnTo>
                      <a:pt x="276" y="186"/>
                    </a:lnTo>
                    <a:lnTo>
                      <a:pt x="313" y="161"/>
                    </a:lnTo>
                    <a:lnTo>
                      <a:pt x="351" y="137"/>
                    </a:lnTo>
                    <a:lnTo>
                      <a:pt x="390" y="115"/>
                    </a:lnTo>
                    <a:lnTo>
                      <a:pt x="429" y="95"/>
                    </a:lnTo>
                    <a:lnTo>
                      <a:pt x="448" y="87"/>
                    </a:lnTo>
                    <a:lnTo>
                      <a:pt x="467" y="78"/>
                    </a:lnTo>
                    <a:lnTo>
                      <a:pt x="486" y="71"/>
                    </a:lnTo>
                    <a:lnTo>
                      <a:pt x="505" y="64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3102120" y="40006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4" h="65">
                    <a:moveTo>
                      <a:pt x="20" y="65"/>
                    </a:moveTo>
                    <a:lnTo>
                      <a:pt x="28" y="63"/>
                    </a:lnTo>
                    <a:lnTo>
                      <a:pt x="33" y="58"/>
                    </a:lnTo>
                    <a:lnTo>
                      <a:pt x="38" y="54"/>
                    </a:lnTo>
                    <a:lnTo>
                      <a:pt x="41" y="48"/>
                    </a:lnTo>
                    <a:lnTo>
                      <a:pt x="43" y="42"/>
                    </a:lnTo>
                    <a:lnTo>
                      <a:pt x="44" y="35"/>
                    </a:lnTo>
                    <a:lnTo>
                      <a:pt x="44" y="30"/>
                    </a:lnTo>
                    <a:lnTo>
                      <a:pt x="43" y="23"/>
                    </a:lnTo>
                    <a:lnTo>
                      <a:pt x="39" y="17"/>
                    </a:lnTo>
                    <a:lnTo>
                      <a:pt x="36" y="13"/>
                    </a:lnTo>
                    <a:lnTo>
                      <a:pt x="32" y="8"/>
                    </a:lnTo>
                    <a:lnTo>
                      <a:pt x="27" y="3"/>
                    </a:lnTo>
                    <a:lnTo>
                      <a:pt x="21" y="1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2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>
                <a:off x="3260880" y="40021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66" y="24"/>
                    </a:moveTo>
                    <a:lnTo>
                      <a:pt x="64" y="17"/>
                    </a:lnTo>
                    <a:lnTo>
                      <a:pt x="59" y="11"/>
                    </a:lnTo>
                    <a:lnTo>
                      <a:pt x="55" y="6"/>
                    </a:lnTo>
                    <a:lnTo>
                      <a:pt x="49" y="3"/>
                    </a:lnTo>
                    <a:lnTo>
                      <a:pt x="43" y="1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5" y="1"/>
                    </a:lnTo>
                    <a:lnTo>
                      <a:pt x="18" y="4"/>
                    </a:lnTo>
                    <a:lnTo>
                      <a:pt x="14" y="7"/>
                    </a:lnTo>
                    <a:lnTo>
                      <a:pt x="8" y="11"/>
                    </a:lnTo>
                    <a:lnTo>
                      <a:pt x="4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1" y="43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>
                <a:off x="3260880" y="3935520"/>
                <a:ext cx="122040" cy="87120"/>
              </a:xfrm>
              <a:custGeom>
                <a:avLst/>
                <a:gdLst/>
                <a:ahLst/>
                <a:rect l="l" t="t" r="r" b="b"/>
                <a:pathLst>
                  <a:path w="383" h="276">
                    <a:moveTo>
                      <a:pt x="363" y="0"/>
                    </a:moveTo>
                    <a:lnTo>
                      <a:pt x="331" y="11"/>
                    </a:lnTo>
                    <a:lnTo>
                      <a:pt x="300" y="26"/>
                    </a:lnTo>
                    <a:lnTo>
                      <a:pt x="268" y="42"/>
                    </a:lnTo>
                    <a:lnTo>
                      <a:pt x="238" y="59"/>
                    </a:lnTo>
                    <a:lnTo>
                      <a:pt x="209" y="78"/>
                    </a:lnTo>
                    <a:lnTo>
                      <a:pt x="180" y="98"/>
                    </a:lnTo>
                    <a:lnTo>
                      <a:pt x="153" y="116"/>
                    </a:lnTo>
                    <a:lnTo>
                      <a:pt x="127" y="135"/>
                    </a:lnTo>
                    <a:lnTo>
                      <a:pt x="81" y="170"/>
                    </a:lnTo>
                    <a:lnTo>
                      <a:pt x="46" y="196"/>
                    </a:lnTo>
                    <a:lnTo>
                      <a:pt x="33" y="205"/>
                    </a:lnTo>
                    <a:lnTo>
                      <a:pt x="25" y="211"/>
                    </a:lnTo>
                    <a:lnTo>
                      <a:pt x="25" y="211"/>
                    </a:lnTo>
                    <a:lnTo>
                      <a:pt x="29" y="209"/>
                    </a:lnTo>
                    <a:lnTo>
                      <a:pt x="46" y="211"/>
                    </a:lnTo>
                    <a:lnTo>
                      <a:pt x="65" y="232"/>
                    </a:lnTo>
                    <a:lnTo>
                      <a:pt x="0" y="251"/>
                    </a:lnTo>
                    <a:lnTo>
                      <a:pt x="22" y="274"/>
                    </a:lnTo>
                    <a:lnTo>
                      <a:pt x="42" y="276"/>
                    </a:lnTo>
                    <a:lnTo>
                      <a:pt x="53" y="272"/>
                    </a:lnTo>
                    <a:lnTo>
                      <a:pt x="60" y="269"/>
                    </a:lnTo>
                    <a:lnTo>
                      <a:pt x="72" y="261"/>
                    </a:lnTo>
                    <a:lnTo>
                      <a:pt x="87" y="251"/>
                    </a:lnTo>
                    <a:lnTo>
                      <a:pt x="122" y="223"/>
                    </a:lnTo>
                    <a:lnTo>
                      <a:pt x="167" y="189"/>
                    </a:lnTo>
                    <a:lnTo>
                      <a:pt x="192" y="171"/>
                    </a:lnTo>
                    <a:lnTo>
                      <a:pt x="218" y="152"/>
                    </a:lnTo>
                    <a:lnTo>
                      <a:pt x="245" y="134"/>
                    </a:lnTo>
                    <a:lnTo>
                      <a:pt x="273" y="117"/>
                    </a:lnTo>
                    <a:lnTo>
                      <a:pt x="301" y="101"/>
                    </a:lnTo>
                    <a:lnTo>
                      <a:pt x="330" y="86"/>
                    </a:lnTo>
                    <a:lnTo>
                      <a:pt x="357" y="74"/>
                    </a:lnTo>
                    <a:lnTo>
                      <a:pt x="383" y="63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3376440" y="39355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4" h="65">
                    <a:moveTo>
                      <a:pt x="20" y="65"/>
                    </a:moveTo>
                    <a:lnTo>
                      <a:pt x="28" y="63"/>
                    </a:lnTo>
                    <a:lnTo>
                      <a:pt x="34" y="59"/>
                    </a:lnTo>
                    <a:lnTo>
                      <a:pt x="38" y="54"/>
                    </a:lnTo>
                    <a:lnTo>
                      <a:pt x="41" y="48"/>
                    </a:lnTo>
                    <a:lnTo>
                      <a:pt x="43" y="41"/>
                    </a:lnTo>
                    <a:lnTo>
                      <a:pt x="44" y="36"/>
                    </a:lnTo>
                    <a:lnTo>
                      <a:pt x="43" y="29"/>
                    </a:lnTo>
                    <a:lnTo>
                      <a:pt x="42" y="23"/>
                    </a:lnTo>
                    <a:lnTo>
                      <a:pt x="39" y="18"/>
                    </a:lnTo>
                    <a:lnTo>
                      <a:pt x="36" y="12"/>
                    </a:lnTo>
                    <a:lnTo>
                      <a:pt x="32" y="7"/>
                    </a:lnTo>
                    <a:lnTo>
                      <a:pt x="27" y="4"/>
                    </a:lnTo>
                    <a:lnTo>
                      <a:pt x="21" y="2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2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>
                <a:off x="2678040" y="407196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60" h="56">
                    <a:moveTo>
                      <a:pt x="60" y="12"/>
                    </a:moveTo>
                    <a:lnTo>
                      <a:pt x="54" y="6"/>
                    </a:lnTo>
                    <a:lnTo>
                      <a:pt x="49" y="3"/>
                    </a:lnTo>
                    <a:lnTo>
                      <a:pt x="42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2"/>
                    </a:lnTo>
                    <a:lnTo>
                      <a:pt x="18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1" y="43"/>
                    </a:lnTo>
                    <a:lnTo>
                      <a:pt x="4" y="50"/>
                    </a:lnTo>
                    <a:lnTo>
                      <a:pt x="9" y="5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2681280" y="4076640"/>
                <a:ext cx="96840" cy="154080"/>
              </a:xfrm>
              <a:custGeom>
                <a:avLst/>
                <a:gdLst/>
                <a:ahLst/>
                <a:rect l="l" t="t" r="r" b="b"/>
                <a:pathLst>
                  <a:path w="302" h="487">
                    <a:moveTo>
                      <a:pt x="302" y="469"/>
                    </a:moveTo>
                    <a:lnTo>
                      <a:pt x="286" y="420"/>
                    </a:lnTo>
                    <a:lnTo>
                      <a:pt x="269" y="372"/>
                    </a:lnTo>
                    <a:lnTo>
                      <a:pt x="249" y="326"/>
                    </a:lnTo>
                    <a:lnTo>
                      <a:pt x="230" y="283"/>
                    </a:lnTo>
                    <a:lnTo>
                      <a:pt x="210" y="242"/>
                    </a:lnTo>
                    <a:lnTo>
                      <a:pt x="189" y="204"/>
                    </a:lnTo>
                    <a:lnTo>
                      <a:pt x="167" y="168"/>
                    </a:lnTo>
                    <a:lnTo>
                      <a:pt x="148" y="135"/>
                    </a:lnTo>
                    <a:lnTo>
                      <a:pt x="110" y="79"/>
                    </a:lnTo>
                    <a:lnTo>
                      <a:pt x="80" y="37"/>
                    </a:lnTo>
                    <a:lnTo>
                      <a:pt x="59" y="10"/>
                    </a:lnTo>
                    <a:lnTo>
                      <a:pt x="51" y="0"/>
                    </a:lnTo>
                    <a:lnTo>
                      <a:pt x="0" y="44"/>
                    </a:lnTo>
                    <a:lnTo>
                      <a:pt x="7" y="52"/>
                    </a:lnTo>
                    <a:lnTo>
                      <a:pt x="26" y="77"/>
                    </a:lnTo>
                    <a:lnTo>
                      <a:pt x="55" y="118"/>
                    </a:lnTo>
                    <a:lnTo>
                      <a:pt x="91" y="171"/>
                    </a:lnTo>
                    <a:lnTo>
                      <a:pt x="110" y="202"/>
                    </a:lnTo>
                    <a:lnTo>
                      <a:pt x="130" y="236"/>
                    </a:lnTo>
                    <a:lnTo>
                      <a:pt x="149" y="274"/>
                    </a:lnTo>
                    <a:lnTo>
                      <a:pt x="169" y="313"/>
                    </a:lnTo>
                    <a:lnTo>
                      <a:pt x="188" y="354"/>
                    </a:lnTo>
                    <a:lnTo>
                      <a:pt x="206" y="397"/>
                    </a:lnTo>
                    <a:lnTo>
                      <a:pt x="222" y="442"/>
                    </a:lnTo>
                    <a:lnTo>
                      <a:pt x="237" y="487"/>
                    </a:lnTo>
                    <a:lnTo>
                      <a:pt x="302" y="4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2757600" y="422424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0" y="18"/>
                    </a:moveTo>
                    <a:lnTo>
                      <a:pt x="2" y="26"/>
                    </a:lnTo>
                    <a:lnTo>
                      <a:pt x="7" y="32"/>
                    </a:lnTo>
                    <a:lnTo>
                      <a:pt x="11" y="37"/>
                    </a:lnTo>
                    <a:lnTo>
                      <a:pt x="17" y="40"/>
                    </a:lnTo>
                    <a:lnTo>
                      <a:pt x="23" y="42"/>
                    </a:lnTo>
                    <a:lnTo>
                      <a:pt x="28" y="43"/>
                    </a:lnTo>
                    <a:lnTo>
                      <a:pt x="35" y="42"/>
                    </a:lnTo>
                    <a:lnTo>
                      <a:pt x="41" y="41"/>
                    </a:lnTo>
                    <a:lnTo>
                      <a:pt x="48" y="39"/>
                    </a:lnTo>
                    <a:lnTo>
                      <a:pt x="52" y="37"/>
                    </a:lnTo>
                    <a:lnTo>
                      <a:pt x="57" y="32"/>
                    </a:lnTo>
                    <a:lnTo>
                      <a:pt x="61" y="27"/>
                    </a:lnTo>
                    <a:lnTo>
                      <a:pt x="64" y="22"/>
                    </a:lnTo>
                    <a:lnTo>
                      <a:pt x="66" y="15"/>
                    </a:lnTo>
                    <a:lnTo>
                      <a:pt x="66" y="8"/>
                    </a:lnTo>
                    <a:lnTo>
                      <a:pt x="6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>
                <a:off x="2981160" y="398448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60" h="56">
                    <a:moveTo>
                      <a:pt x="60" y="11"/>
                    </a:moveTo>
                    <a:lnTo>
                      <a:pt x="54" y="7"/>
                    </a:lnTo>
                    <a:lnTo>
                      <a:pt x="48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8" y="12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1" y="43"/>
                    </a:lnTo>
                    <a:lnTo>
                      <a:pt x="4" y="49"/>
                    </a:lnTo>
                    <a:lnTo>
                      <a:pt x="9" y="56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2984400" y="3987720"/>
                <a:ext cx="95400" cy="155520"/>
              </a:xfrm>
              <a:custGeom>
                <a:avLst/>
                <a:gdLst/>
                <a:ahLst/>
                <a:rect l="l" t="t" r="r" b="b"/>
                <a:pathLst>
                  <a:path w="301" h="488">
                    <a:moveTo>
                      <a:pt x="301" y="469"/>
                    </a:moveTo>
                    <a:lnTo>
                      <a:pt x="286" y="420"/>
                    </a:lnTo>
                    <a:lnTo>
                      <a:pt x="269" y="373"/>
                    </a:lnTo>
                    <a:lnTo>
                      <a:pt x="249" y="328"/>
                    </a:lnTo>
                    <a:lnTo>
                      <a:pt x="230" y="284"/>
                    </a:lnTo>
                    <a:lnTo>
                      <a:pt x="210" y="243"/>
                    </a:lnTo>
                    <a:lnTo>
                      <a:pt x="188" y="204"/>
                    </a:lnTo>
                    <a:lnTo>
                      <a:pt x="167" y="169"/>
                    </a:lnTo>
                    <a:lnTo>
                      <a:pt x="148" y="136"/>
                    </a:lnTo>
                    <a:lnTo>
                      <a:pt x="110" y="80"/>
                    </a:lnTo>
                    <a:lnTo>
                      <a:pt x="80" y="38"/>
                    </a:lnTo>
                    <a:lnTo>
                      <a:pt x="59" y="10"/>
                    </a:lnTo>
                    <a:lnTo>
                      <a:pt x="51" y="0"/>
                    </a:lnTo>
                    <a:lnTo>
                      <a:pt x="0" y="45"/>
                    </a:lnTo>
                    <a:lnTo>
                      <a:pt x="7" y="53"/>
                    </a:lnTo>
                    <a:lnTo>
                      <a:pt x="26" y="78"/>
                    </a:lnTo>
                    <a:lnTo>
                      <a:pt x="55" y="118"/>
                    </a:lnTo>
                    <a:lnTo>
                      <a:pt x="91" y="172"/>
                    </a:lnTo>
                    <a:lnTo>
                      <a:pt x="109" y="203"/>
                    </a:lnTo>
                    <a:lnTo>
                      <a:pt x="130" y="237"/>
                    </a:lnTo>
                    <a:lnTo>
                      <a:pt x="149" y="274"/>
                    </a:lnTo>
                    <a:lnTo>
                      <a:pt x="169" y="313"/>
                    </a:lnTo>
                    <a:lnTo>
                      <a:pt x="188" y="355"/>
                    </a:lnTo>
                    <a:lnTo>
                      <a:pt x="205" y="397"/>
                    </a:lnTo>
                    <a:lnTo>
                      <a:pt x="222" y="442"/>
                    </a:lnTo>
                    <a:lnTo>
                      <a:pt x="237" y="488"/>
                    </a:lnTo>
                    <a:lnTo>
                      <a:pt x="301" y="4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3059280" y="413712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0" y="19"/>
                    </a:moveTo>
                    <a:lnTo>
                      <a:pt x="2" y="26"/>
                    </a:lnTo>
                    <a:lnTo>
                      <a:pt x="7" y="33"/>
                    </a:lnTo>
                    <a:lnTo>
                      <a:pt x="11" y="38"/>
                    </a:lnTo>
                    <a:lnTo>
                      <a:pt x="17" y="41"/>
                    </a:lnTo>
                    <a:lnTo>
                      <a:pt x="23" y="43"/>
                    </a:lnTo>
                    <a:lnTo>
                      <a:pt x="28" y="43"/>
                    </a:lnTo>
                    <a:lnTo>
                      <a:pt x="35" y="43"/>
                    </a:lnTo>
                    <a:lnTo>
                      <a:pt x="41" y="42"/>
                    </a:lnTo>
                    <a:lnTo>
                      <a:pt x="47" y="40"/>
                    </a:lnTo>
                    <a:lnTo>
                      <a:pt x="52" y="37"/>
                    </a:lnTo>
                    <a:lnTo>
                      <a:pt x="57" y="33"/>
                    </a:lnTo>
                    <a:lnTo>
                      <a:pt x="62" y="27"/>
                    </a:lnTo>
                    <a:lnTo>
                      <a:pt x="64" y="22"/>
                    </a:lnTo>
                    <a:lnTo>
                      <a:pt x="66" y="16"/>
                    </a:lnTo>
                    <a:lnTo>
                      <a:pt x="66" y="8"/>
                    </a:lnTo>
                    <a:lnTo>
                      <a:pt x="6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3286080" y="39225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9" y="12"/>
                    </a:moveTo>
                    <a:lnTo>
                      <a:pt x="53" y="7"/>
                    </a:lnTo>
                    <a:lnTo>
                      <a:pt x="48" y="3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17" y="5"/>
                    </a:lnTo>
                    <a:lnTo>
                      <a:pt x="11" y="9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1" y="43"/>
                    </a:lnTo>
                    <a:lnTo>
                      <a:pt x="3" y="50"/>
                    </a:lnTo>
                    <a:lnTo>
                      <a:pt x="8" y="57"/>
                    </a:lnTo>
                    <a:lnTo>
                      <a:pt x="59" y="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3289320" y="392760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239" h="368">
                    <a:moveTo>
                      <a:pt x="239" y="348"/>
                    </a:moveTo>
                    <a:lnTo>
                      <a:pt x="227" y="312"/>
                    </a:lnTo>
                    <a:lnTo>
                      <a:pt x="214" y="278"/>
                    </a:lnTo>
                    <a:lnTo>
                      <a:pt x="200" y="243"/>
                    </a:lnTo>
                    <a:lnTo>
                      <a:pt x="186" y="211"/>
                    </a:lnTo>
                    <a:lnTo>
                      <a:pt x="170" y="182"/>
                    </a:lnTo>
                    <a:lnTo>
                      <a:pt x="154" y="153"/>
                    </a:lnTo>
                    <a:lnTo>
                      <a:pt x="139" y="126"/>
                    </a:lnTo>
                    <a:lnTo>
                      <a:pt x="123" y="102"/>
                    </a:lnTo>
                    <a:lnTo>
                      <a:pt x="95" y="60"/>
                    </a:lnTo>
                    <a:lnTo>
                      <a:pt x="73" y="29"/>
                    </a:lnTo>
                    <a:lnTo>
                      <a:pt x="58" y="8"/>
                    </a:lnTo>
                    <a:lnTo>
                      <a:pt x="51" y="0"/>
                    </a:lnTo>
                    <a:lnTo>
                      <a:pt x="0" y="45"/>
                    </a:lnTo>
                    <a:lnTo>
                      <a:pt x="4" y="50"/>
                    </a:lnTo>
                    <a:lnTo>
                      <a:pt x="19" y="69"/>
                    </a:lnTo>
                    <a:lnTo>
                      <a:pt x="41" y="98"/>
                    </a:lnTo>
                    <a:lnTo>
                      <a:pt x="67" y="138"/>
                    </a:lnTo>
                    <a:lnTo>
                      <a:pt x="81" y="161"/>
                    </a:lnTo>
                    <a:lnTo>
                      <a:pt x="95" y="186"/>
                    </a:lnTo>
                    <a:lnTo>
                      <a:pt x="110" y="212"/>
                    </a:lnTo>
                    <a:lnTo>
                      <a:pt x="124" y="241"/>
                    </a:lnTo>
                    <a:lnTo>
                      <a:pt x="138" y="271"/>
                    </a:lnTo>
                    <a:lnTo>
                      <a:pt x="151" y="303"/>
                    </a:lnTo>
                    <a:lnTo>
                      <a:pt x="164" y="335"/>
                    </a:lnTo>
                    <a:lnTo>
                      <a:pt x="174" y="368"/>
                    </a:lnTo>
                    <a:lnTo>
                      <a:pt x="239" y="3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>
                <a:off x="3344760" y="403704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0" y="20"/>
                    </a:moveTo>
                    <a:lnTo>
                      <a:pt x="4" y="26"/>
                    </a:lnTo>
                    <a:lnTo>
                      <a:pt x="7" y="33"/>
                    </a:lnTo>
                    <a:lnTo>
                      <a:pt x="12" y="38"/>
                    </a:lnTo>
                    <a:lnTo>
                      <a:pt x="17" y="41"/>
                    </a:lnTo>
                    <a:lnTo>
                      <a:pt x="23" y="42"/>
                    </a:lnTo>
                    <a:lnTo>
                      <a:pt x="30" y="44"/>
                    </a:lnTo>
                    <a:lnTo>
                      <a:pt x="35" y="44"/>
                    </a:lnTo>
                    <a:lnTo>
                      <a:pt x="42" y="42"/>
                    </a:lnTo>
                    <a:lnTo>
                      <a:pt x="48" y="40"/>
                    </a:lnTo>
                    <a:lnTo>
                      <a:pt x="54" y="37"/>
                    </a:lnTo>
                    <a:lnTo>
                      <a:pt x="58" y="33"/>
                    </a:lnTo>
                    <a:lnTo>
                      <a:pt x="62" y="28"/>
                    </a:lnTo>
                    <a:lnTo>
                      <a:pt x="65" y="22"/>
                    </a:lnTo>
                    <a:lnTo>
                      <a:pt x="66" y="15"/>
                    </a:lnTo>
                    <a:lnTo>
                      <a:pt x="66" y="8"/>
                    </a:lnTo>
                    <a:lnTo>
                      <a:pt x="6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>
                <a:off x="2763720" y="4268880"/>
                <a:ext cx="54000" cy="33120"/>
              </a:xfrm>
              <a:custGeom>
                <a:avLst/>
                <a:gdLst/>
                <a:ahLst/>
                <a:rect l="l" t="t" r="r" b="b"/>
                <a:pathLst>
                  <a:path w="168" h="105">
                    <a:moveTo>
                      <a:pt x="48" y="16"/>
                    </a:moveTo>
                    <a:lnTo>
                      <a:pt x="65" y="10"/>
                    </a:lnTo>
                    <a:lnTo>
                      <a:pt x="81" y="4"/>
                    </a:lnTo>
                    <a:lnTo>
                      <a:pt x="98" y="2"/>
                    </a:lnTo>
                    <a:lnTo>
                      <a:pt x="114" y="0"/>
                    </a:lnTo>
                    <a:lnTo>
                      <a:pt x="129" y="0"/>
                    </a:lnTo>
                    <a:lnTo>
                      <a:pt x="141" y="3"/>
                    </a:lnTo>
                    <a:lnTo>
                      <a:pt x="147" y="5"/>
                    </a:lnTo>
                    <a:lnTo>
                      <a:pt x="152" y="7"/>
                    </a:lnTo>
                    <a:lnTo>
                      <a:pt x="157" y="11"/>
                    </a:lnTo>
                    <a:lnTo>
                      <a:pt x="162" y="14"/>
                    </a:lnTo>
                    <a:lnTo>
                      <a:pt x="164" y="19"/>
                    </a:lnTo>
                    <a:lnTo>
                      <a:pt x="166" y="22"/>
                    </a:lnTo>
                    <a:lnTo>
                      <a:pt x="168" y="28"/>
                    </a:lnTo>
                    <a:lnTo>
                      <a:pt x="168" y="32"/>
                    </a:lnTo>
                    <a:lnTo>
                      <a:pt x="168" y="37"/>
                    </a:lnTo>
                    <a:lnTo>
                      <a:pt x="168" y="41"/>
                    </a:lnTo>
                    <a:lnTo>
                      <a:pt x="166" y="46"/>
                    </a:lnTo>
                    <a:lnTo>
                      <a:pt x="164" y="52"/>
                    </a:lnTo>
                    <a:lnTo>
                      <a:pt x="160" y="56"/>
                    </a:lnTo>
                    <a:lnTo>
                      <a:pt x="157" y="62"/>
                    </a:lnTo>
                    <a:lnTo>
                      <a:pt x="152" y="67"/>
                    </a:lnTo>
                    <a:lnTo>
                      <a:pt x="148" y="71"/>
                    </a:lnTo>
                    <a:lnTo>
                      <a:pt x="135" y="80"/>
                    </a:lnTo>
                    <a:lnTo>
                      <a:pt x="121" y="89"/>
                    </a:lnTo>
                    <a:lnTo>
                      <a:pt x="105" y="96"/>
                    </a:lnTo>
                    <a:lnTo>
                      <a:pt x="87" y="101"/>
                    </a:lnTo>
                    <a:lnTo>
                      <a:pt x="72" y="104"/>
                    </a:lnTo>
                    <a:lnTo>
                      <a:pt x="57" y="105"/>
                    </a:lnTo>
                    <a:lnTo>
                      <a:pt x="42" y="104"/>
                    </a:lnTo>
                    <a:lnTo>
                      <a:pt x="28" y="102"/>
                    </a:lnTo>
                    <a:lnTo>
                      <a:pt x="23" y="100"/>
                    </a:lnTo>
                    <a:lnTo>
                      <a:pt x="18" y="97"/>
                    </a:lnTo>
                    <a:lnTo>
                      <a:pt x="13" y="95"/>
                    </a:lnTo>
                    <a:lnTo>
                      <a:pt x="9" y="92"/>
                    </a:lnTo>
                    <a:lnTo>
                      <a:pt x="5" y="87"/>
                    </a:lnTo>
                    <a:lnTo>
                      <a:pt x="3" y="83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8"/>
                    </a:lnTo>
                    <a:lnTo>
                      <a:pt x="1" y="63"/>
                    </a:lnTo>
                    <a:lnTo>
                      <a:pt x="2" y="59"/>
                    </a:lnTo>
                    <a:lnTo>
                      <a:pt x="4" y="53"/>
                    </a:lnTo>
                    <a:lnTo>
                      <a:pt x="8" y="48"/>
                    </a:lnTo>
                    <a:lnTo>
                      <a:pt x="11" y="43"/>
                    </a:lnTo>
                    <a:lnTo>
                      <a:pt x="16" y="38"/>
                    </a:lnTo>
                    <a:lnTo>
                      <a:pt x="21" y="34"/>
                    </a:lnTo>
                    <a:lnTo>
                      <a:pt x="33" y="24"/>
                    </a:lnTo>
                    <a:lnTo>
                      <a:pt x="48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>
                <a:off x="2774880" y="4259160"/>
                <a:ext cx="49320" cy="25560"/>
              </a:xfrm>
              <a:custGeom>
                <a:avLst/>
                <a:gdLst/>
                <a:ahLst/>
                <a:rect l="l" t="t" r="r" b="b"/>
                <a:pathLst>
                  <a:path w="154" h="81">
                    <a:moveTo>
                      <a:pt x="154" y="25"/>
                    </a:moveTo>
                    <a:lnTo>
                      <a:pt x="151" y="24"/>
                    </a:lnTo>
                    <a:lnTo>
                      <a:pt x="143" y="17"/>
                    </a:lnTo>
                    <a:lnTo>
                      <a:pt x="135" y="12"/>
                    </a:lnTo>
                    <a:lnTo>
                      <a:pt x="126" y="8"/>
                    </a:lnTo>
                    <a:lnTo>
                      <a:pt x="116" y="5"/>
                    </a:lnTo>
                    <a:lnTo>
                      <a:pt x="99" y="1"/>
                    </a:lnTo>
                    <a:lnTo>
                      <a:pt x="80" y="0"/>
                    </a:lnTo>
                    <a:lnTo>
                      <a:pt x="60" y="1"/>
                    </a:lnTo>
                    <a:lnTo>
                      <a:pt x="40" y="6"/>
                    </a:lnTo>
                    <a:lnTo>
                      <a:pt x="19" y="12"/>
                    </a:lnTo>
                    <a:lnTo>
                      <a:pt x="0" y="21"/>
                    </a:lnTo>
                    <a:lnTo>
                      <a:pt x="29" y="81"/>
                    </a:lnTo>
                    <a:lnTo>
                      <a:pt x="43" y="75"/>
                    </a:lnTo>
                    <a:lnTo>
                      <a:pt x="56" y="71"/>
                    </a:lnTo>
                    <a:lnTo>
                      <a:pt x="69" y="69"/>
                    </a:lnTo>
                    <a:lnTo>
                      <a:pt x="81" y="68"/>
                    </a:lnTo>
                    <a:lnTo>
                      <a:pt x="91" y="69"/>
                    </a:lnTo>
                    <a:lnTo>
                      <a:pt x="100" y="70"/>
                    </a:lnTo>
                    <a:lnTo>
                      <a:pt x="101" y="71"/>
                    </a:lnTo>
                    <a:lnTo>
                      <a:pt x="104" y="71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2" y="71"/>
                    </a:lnTo>
                    <a:lnTo>
                      <a:pt x="154" y="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2797200" y="4267080"/>
                <a:ext cx="31680" cy="39960"/>
              </a:xfrm>
              <a:custGeom>
                <a:avLst/>
                <a:gdLst/>
                <a:ahLst/>
                <a:rect l="l" t="t" r="r" b="b"/>
                <a:pathLst>
                  <a:path w="98" h="128">
                    <a:moveTo>
                      <a:pt x="30" y="128"/>
                    </a:moveTo>
                    <a:lnTo>
                      <a:pt x="30" y="128"/>
                    </a:lnTo>
                    <a:lnTo>
                      <a:pt x="49" y="118"/>
                    </a:lnTo>
                    <a:lnTo>
                      <a:pt x="63" y="106"/>
                    </a:lnTo>
                    <a:lnTo>
                      <a:pt x="71" y="100"/>
                    </a:lnTo>
                    <a:lnTo>
                      <a:pt x="78" y="93"/>
                    </a:lnTo>
                    <a:lnTo>
                      <a:pt x="84" y="85"/>
                    </a:lnTo>
                    <a:lnTo>
                      <a:pt x="89" y="77"/>
                    </a:lnTo>
                    <a:lnTo>
                      <a:pt x="93" y="68"/>
                    </a:lnTo>
                    <a:lnTo>
                      <a:pt x="95" y="58"/>
                    </a:lnTo>
                    <a:lnTo>
                      <a:pt x="98" y="49"/>
                    </a:lnTo>
                    <a:lnTo>
                      <a:pt x="98" y="39"/>
                    </a:lnTo>
                    <a:lnTo>
                      <a:pt x="95" y="28"/>
                    </a:lnTo>
                    <a:lnTo>
                      <a:pt x="93" y="19"/>
                    </a:lnTo>
                    <a:lnTo>
                      <a:pt x="87" y="9"/>
                    </a:lnTo>
                    <a:lnTo>
                      <a:pt x="82" y="0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0" y="44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29" y="45"/>
                    </a:lnTo>
                    <a:lnTo>
                      <a:pt x="28" y="46"/>
                    </a:lnTo>
                    <a:lnTo>
                      <a:pt x="27" y="48"/>
                    </a:lnTo>
                    <a:lnTo>
                      <a:pt x="24" y="52"/>
                    </a:lnTo>
                    <a:lnTo>
                      <a:pt x="21" y="54"/>
                    </a:lnTo>
                    <a:lnTo>
                      <a:pt x="12" y="61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0" y="12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>
                <a:off x="2759040" y="4287960"/>
                <a:ext cx="47520" cy="25200"/>
              </a:xfrm>
              <a:custGeom>
                <a:avLst/>
                <a:gdLst/>
                <a:ahLst/>
                <a:rect l="l" t="t" r="r" b="b"/>
                <a:pathLst>
                  <a:path w="150" h="81">
                    <a:moveTo>
                      <a:pt x="0" y="57"/>
                    </a:moveTo>
                    <a:lnTo>
                      <a:pt x="0" y="56"/>
                    </a:lnTo>
                    <a:lnTo>
                      <a:pt x="8" y="62"/>
                    </a:lnTo>
                    <a:lnTo>
                      <a:pt x="17" y="68"/>
                    </a:lnTo>
                    <a:lnTo>
                      <a:pt x="25" y="73"/>
                    </a:lnTo>
                    <a:lnTo>
                      <a:pt x="35" y="76"/>
                    </a:lnTo>
                    <a:lnTo>
                      <a:pt x="52" y="79"/>
                    </a:lnTo>
                    <a:lnTo>
                      <a:pt x="72" y="81"/>
                    </a:lnTo>
                    <a:lnTo>
                      <a:pt x="91" y="78"/>
                    </a:lnTo>
                    <a:lnTo>
                      <a:pt x="112" y="75"/>
                    </a:lnTo>
                    <a:lnTo>
                      <a:pt x="131" y="68"/>
                    </a:lnTo>
                    <a:lnTo>
                      <a:pt x="150" y="60"/>
                    </a:lnTo>
                    <a:lnTo>
                      <a:pt x="120" y="0"/>
                    </a:lnTo>
                    <a:lnTo>
                      <a:pt x="107" y="5"/>
                    </a:lnTo>
                    <a:lnTo>
                      <a:pt x="95" y="10"/>
                    </a:lnTo>
                    <a:lnTo>
                      <a:pt x="82" y="12"/>
                    </a:lnTo>
                    <a:lnTo>
                      <a:pt x="71" y="12"/>
                    </a:lnTo>
                    <a:lnTo>
                      <a:pt x="60" y="12"/>
                    </a:lnTo>
                    <a:lnTo>
                      <a:pt x="51" y="10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2754360" y="4265640"/>
                <a:ext cx="30240" cy="4140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66" y="1"/>
                    </a:moveTo>
                    <a:lnTo>
                      <a:pt x="66" y="0"/>
                    </a:lnTo>
                    <a:lnTo>
                      <a:pt x="49" y="10"/>
                    </a:lnTo>
                    <a:lnTo>
                      <a:pt x="34" y="21"/>
                    </a:lnTo>
                    <a:lnTo>
                      <a:pt x="25" y="28"/>
                    </a:lnTo>
                    <a:lnTo>
                      <a:pt x="19" y="35"/>
                    </a:lnTo>
                    <a:lnTo>
                      <a:pt x="13" y="43"/>
                    </a:lnTo>
                    <a:lnTo>
                      <a:pt x="8" y="51"/>
                    </a:lnTo>
                    <a:lnTo>
                      <a:pt x="4" y="60"/>
                    </a:lnTo>
                    <a:lnTo>
                      <a:pt x="1" y="69"/>
                    </a:lnTo>
                    <a:lnTo>
                      <a:pt x="0" y="79"/>
                    </a:lnTo>
                    <a:lnTo>
                      <a:pt x="0" y="90"/>
                    </a:lnTo>
                    <a:lnTo>
                      <a:pt x="2" y="101"/>
                    </a:lnTo>
                    <a:lnTo>
                      <a:pt x="5" y="111"/>
                    </a:lnTo>
                    <a:lnTo>
                      <a:pt x="11" y="121"/>
                    </a:lnTo>
                    <a:lnTo>
                      <a:pt x="18" y="130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7" y="83"/>
                    </a:lnTo>
                    <a:lnTo>
                      <a:pt x="67" y="84"/>
                    </a:lnTo>
                    <a:lnTo>
                      <a:pt x="67" y="85"/>
                    </a:lnTo>
                    <a:lnTo>
                      <a:pt x="67" y="85"/>
                    </a:lnTo>
                    <a:lnTo>
                      <a:pt x="67" y="84"/>
                    </a:lnTo>
                    <a:lnTo>
                      <a:pt x="68" y="83"/>
                    </a:lnTo>
                    <a:lnTo>
                      <a:pt x="69" y="81"/>
                    </a:lnTo>
                    <a:lnTo>
                      <a:pt x="70" y="78"/>
                    </a:lnTo>
                    <a:lnTo>
                      <a:pt x="73" y="76"/>
                    </a:lnTo>
                    <a:lnTo>
                      <a:pt x="75" y="74"/>
                    </a:lnTo>
                    <a:lnTo>
                      <a:pt x="84" y="67"/>
                    </a:lnTo>
                    <a:lnTo>
                      <a:pt x="95" y="61"/>
                    </a:lnTo>
                    <a:lnTo>
                      <a:pt x="95" y="6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>
                <a:off x="3065400" y="418140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69" h="106">
                    <a:moveTo>
                      <a:pt x="48" y="17"/>
                    </a:moveTo>
                    <a:lnTo>
                      <a:pt x="64" y="11"/>
                    </a:lnTo>
                    <a:lnTo>
                      <a:pt x="81" y="5"/>
                    </a:lnTo>
                    <a:lnTo>
                      <a:pt x="99" y="1"/>
                    </a:lnTo>
                    <a:lnTo>
                      <a:pt x="113" y="0"/>
                    </a:lnTo>
                    <a:lnTo>
                      <a:pt x="128" y="1"/>
                    </a:lnTo>
                    <a:lnTo>
                      <a:pt x="142" y="4"/>
                    </a:lnTo>
                    <a:lnTo>
                      <a:pt x="148" y="6"/>
                    </a:lnTo>
                    <a:lnTo>
                      <a:pt x="153" y="8"/>
                    </a:lnTo>
                    <a:lnTo>
                      <a:pt x="158" y="12"/>
                    </a:lnTo>
                    <a:lnTo>
                      <a:pt x="161" y="15"/>
                    </a:lnTo>
                    <a:lnTo>
                      <a:pt x="165" y="19"/>
                    </a:lnTo>
                    <a:lnTo>
                      <a:pt x="167" y="23"/>
                    </a:lnTo>
                    <a:lnTo>
                      <a:pt x="168" y="28"/>
                    </a:lnTo>
                    <a:lnTo>
                      <a:pt x="169" y="32"/>
                    </a:lnTo>
                    <a:lnTo>
                      <a:pt x="169" y="38"/>
                    </a:lnTo>
                    <a:lnTo>
                      <a:pt x="168" y="43"/>
                    </a:lnTo>
                    <a:lnTo>
                      <a:pt x="167" y="47"/>
                    </a:lnTo>
                    <a:lnTo>
                      <a:pt x="165" y="52"/>
                    </a:lnTo>
                    <a:lnTo>
                      <a:pt x="161" y="57"/>
                    </a:lnTo>
                    <a:lnTo>
                      <a:pt x="158" y="62"/>
                    </a:lnTo>
                    <a:lnTo>
                      <a:pt x="153" y="68"/>
                    </a:lnTo>
                    <a:lnTo>
                      <a:pt x="148" y="72"/>
                    </a:lnTo>
                    <a:lnTo>
                      <a:pt x="135" y="81"/>
                    </a:lnTo>
                    <a:lnTo>
                      <a:pt x="120" y="89"/>
                    </a:lnTo>
                    <a:lnTo>
                      <a:pt x="104" y="97"/>
                    </a:lnTo>
                    <a:lnTo>
                      <a:pt x="88" y="102"/>
                    </a:lnTo>
                    <a:lnTo>
                      <a:pt x="72" y="105"/>
                    </a:lnTo>
                    <a:lnTo>
                      <a:pt x="57" y="106"/>
                    </a:lnTo>
                    <a:lnTo>
                      <a:pt x="43" y="105"/>
                    </a:lnTo>
                    <a:lnTo>
                      <a:pt x="29" y="103"/>
                    </a:lnTo>
                    <a:lnTo>
                      <a:pt x="23" y="101"/>
                    </a:lnTo>
                    <a:lnTo>
                      <a:pt x="18" y="98"/>
                    </a:lnTo>
                    <a:lnTo>
                      <a:pt x="13" y="95"/>
                    </a:lnTo>
                    <a:lnTo>
                      <a:pt x="10" y="92"/>
                    </a:lnTo>
                    <a:lnTo>
                      <a:pt x="6" y="88"/>
                    </a:lnTo>
                    <a:lnTo>
                      <a:pt x="3" y="84"/>
                    </a:lnTo>
                    <a:lnTo>
                      <a:pt x="2" y="79"/>
                    </a:lnTo>
                    <a:lnTo>
                      <a:pt x="0" y="74"/>
                    </a:lnTo>
                    <a:lnTo>
                      <a:pt x="0" y="69"/>
                    </a:lnTo>
                    <a:lnTo>
                      <a:pt x="2" y="64"/>
                    </a:lnTo>
                    <a:lnTo>
                      <a:pt x="3" y="59"/>
                    </a:lnTo>
                    <a:lnTo>
                      <a:pt x="5" y="54"/>
                    </a:lnTo>
                    <a:lnTo>
                      <a:pt x="8" y="48"/>
                    </a:lnTo>
                    <a:lnTo>
                      <a:pt x="12" y="44"/>
                    </a:lnTo>
                    <a:lnTo>
                      <a:pt x="16" y="39"/>
                    </a:lnTo>
                    <a:lnTo>
                      <a:pt x="22" y="35"/>
                    </a:lnTo>
                    <a:lnTo>
                      <a:pt x="34" y="25"/>
                    </a:lnTo>
                    <a:lnTo>
                      <a:pt x="4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>
                <a:off x="3076560" y="4172040"/>
                <a:ext cx="47520" cy="25200"/>
              </a:xfrm>
              <a:custGeom>
                <a:avLst/>
                <a:gdLst/>
                <a:ahLst/>
                <a:rect l="l" t="t" r="r" b="b"/>
                <a:pathLst>
                  <a:path w="152" h="80">
                    <a:moveTo>
                      <a:pt x="152" y="25"/>
                    </a:moveTo>
                    <a:lnTo>
                      <a:pt x="151" y="24"/>
                    </a:lnTo>
                    <a:lnTo>
                      <a:pt x="143" y="17"/>
                    </a:lnTo>
                    <a:lnTo>
                      <a:pt x="135" y="12"/>
                    </a:lnTo>
                    <a:lnTo>
                      <a:pt x="126" y="8"/>
                    </a:lnTo>
                    <a:lnTo>
                      <a:pt x="116" y="4"/>
                    </a:lnTo>
                    <a:lnTo>
                      <a:pt x="99" y="1"/>
                    </a:lnTo>
                    <a:lnTo>
                      <a:pt x="79" y="0"/>
                    </a:lnTo>
                    <a:lnTo>
                      <a:pt x="60" y="1"/>
                    </a:lnTo>
                    <a:lnTo>
                      <a:pt x="39" y="5"/>
                    </a:lnTo>
                    <a:lnTo>
                      <a:pt x="19" y="12"/>
                    </a:lnTo>
                    <a:lnTo>
                      <a:pt x="0" y="20"/>
                    </a:lnTo>
                    <a:lnTo>
                      <a:pt x="29" y="80"/>
                    </a:lnTo>
                    <a:lnTo>
                      <a:pt x="43" y="74"/>
                    </a:lnTo>
                    <a:lnTo>
                      <a:pt x="55" y="71"/>
                    </a:lnTo>
                    <a:lnTo>
                      <a:pt x="68" y="69"/>
                    </a:lnTo>
                    <a:lnTo>
                      <a:pt x="80" y="68"/>
                    </a:lnTo>
                    <a:lnTo>
                      <a:pt x="91" y="68"/>
                    </a:lnTo>
                    <a:lnTo>
                      <a:pt x="100" y="70"/>
                    </a:lnTo>
                    <a:lnTo>
                      <a:pt x="101" y="70"/>
                    </a:lnTo>
                    <a:lnTo>
                      <a:pt x="103" y="71"/>
                    </a:lnTo>
                    <a:lnTo>
                      <a:pt x="104" y="72"/>
                    </a:lnTo>
                    <a:lnTo>
                      <a:pt x="103" y="72"/>
                    </a:lnTo>
                    <a:lnTo>
                      <a:pt x="102" y="70"/>
                    </a:lnTo>
                    <a:lnTo>
                      <a:pt x="152" y="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3098880" y="41799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98" h="128">
                    <a:moveTo>
                      <a:pt x="31" y="127"/>
                    </a:moveTo>
                    <a:lnTo>
                      <a:pt x="31" y="128"/>
                    </a:lnTo>
                    <a:lnTo>
                      <a:pt x="49" y="118"/>
                    </a:lnTo>
                    <a:lnTo>
                      <a:pt x="64" y="106"/>
                    </a:lnTo>
                    <a:lnTo>
                      <a:pt x="72" y="98"/>
                    </a:lnTo>
                    <a:lnTo>
                      <a:pt x="78" y="92"/>
                    </a:lnTo>
                    <a:lnTo>
                      <a:pt x="84" y="85"/>
                    </a:lnTo>
                    <a:lnTo>
                      <a:pt x="89" y="77"/>
                    </a:lnTo>
                    <a:lnTo>
                      <a:pt x="93" y="68"/>
                    </a:lnTo>
                    <a:lnTo>
                      <a:pt x="96" y="59"/>
                    </a:lnTo>
                    <a:lnTo>
                      <a:pt x="98" y="48"/>
                    </a:lnTo>
                    <a:lnTo>
                      <a:pt x="98" y="38"/>
                    </a:lnTo>
                    <a:lnTo>
                      <a:pt x="96" y="28"/>
                    </a:lnTo>
                    <a:lnTo>
                      <a:pt x="93" y="17"/>
                    </a:lnTo>
                    <a:lnTo>
                      <a:pt x="88" y="9"/>
                    </a:lnTo>
                    <a:lnTo>
                      <a:pt x="81" y="0"/>
                    </a:lnTo>
                    <a:lnTo>
                      <a:pt x="31" y="45"/>
                    </a:lnTo>
                    <a:lnTo>
                      <a:pt x="31" y="45"/>
                    </a:lnTo>
                    <a:lnTo>
                      <a:pt x="31" y="45"/>
                    </a:lnTo>
                    <a:lnTo>
                      <a:pt x="31" y="44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29" y="46"/>
                    </a:lnTo>
                    <a:lnTo>
                      <a:pt x="27" y="48"/>
                    </a:lnTo>
                    <a:lnTo>
                      <a:pt x="24" y="52"/>
                    </a:lnTo>
                    <a:lnTo>
                      <a:pt x="22" y="54"/>
                    </a:lnTo>
                    <a:lnTo>
                      <a:pt x="12" y="61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1" y="1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3060720" y="4200480"/>
                <a:ext cx="47520" cy="25560"/>
              </a:xfrm>
              <a:custGeom>
                <a:avLst/>
                <a:gdLst/>
                <a:ahLst/>
                <a:rect l="l" t="t" r="r" b="b"/>
                <a:pathLst>
                  <a:path w="150" h="80">
                    <a:moveTo>
                      <a:pt x="0" y="56"/>
                    </a:moveTo>
                    <a:lnTo>
                      <a:pt x="0" y="56"/>
                    </a:lnTo>
                    <a:lnTo>
                      <a:pt x="8" y="62"/>
                    </a:lnTo>
                    <a:lnTo>
                      <a:pt x="16" y="68"/>
                    </a:lnTo>
                    <a:lnTo>
                      <a:pt x="25" y="73"/>
                    </a:lnTo>
                    <a:lnTo>
                      <a:pt x="35" y="76"/>
                    </a:lnTo>
                    <a:lnTo>
                      <a:pt x="52" y="80"/>
                    </a:lnTo>
                    <a:lnTo>
                      <a:pt x="71" y="80"/>
                    </a:lnTo>
                    <a:lnTo>
                      <a:pt x="91" y="78"/>
                    </a:lnTo>
                    <a:lnTo>
                      <a:pt x="111" y="75"/>
                    </a:lnTo>
                    <a:lnTo>
                      <a:pt x="131" y="68"/>
                    </a:lnTo>
                    <a:lnTo>
                      <a:pt x="150" y="59"/>
                    </a:lnTo>
                    <a:lnTo>
                      <a:pt x="119" y="0"/>
                    </a:lnTo>
                    <a:lnTo>
                      <a:pt x="107" y="5"/>
                    </a:lnTo>
                    <a:lnTo>
                      <a:pt x="94" y="9"/>
                    </a:lnTo>
                    <a:lnTo>
                      <a:pt x="82" y="12"/>
                    </a:lnTo>
                    <a:lnTo>
                      <a:pt x="70" y="12"/>
                    </a:lnTo>
                    <a:lnTo>
                      <a:pt x="60" y="12"/>
                    </a:lnTo>
                    <a:lnTo>
                      <a:pt x="51" y="10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3056040" y="4178160"/>
                <a:ext cx="30240" cy="39960"/>
              </a:xfrm>
              <a:custGeom>
                <a:avLst/>
                <a:gdLst/>
                <a:ahLst/>
                <a:rect l="l" t="t" r="r" b="b"/>
                <a:pathLst>
                  <a:path w="96" h="129">
                    <a:moveTo>
                      <a:pt x="67" y="0"/>
                    </a:moveTo>
                    <a:lnTo>
                      <a:pt x="67" y="0"/>
                    </a:lnTo>
                    <a:lnTo>
                      <a:pt x="48" y="10"/>
                    </a:lnTo>
                    <a:lnTo>
                      <a:pt x="33" y="20"/>
                    </a:lnTo>
                    <a:lnTo>
                      <a:pt x="25" y="28"/>
                    </a:lnTo>
                    <a:lnTo>
                      <a:pt x="20" y="35"/>
                    </a:lnTo>
                    <a:lnTo>
                      <a:pt x="13" y="43"/>
                    </a:lnTo>
                    <a:lnTo>
                      <a:pt x="8" y="51"/>
                    </a:lnTo>
                    <a:lnTo>
                      <a:pt x="5" y="60"/>
                    </a:lnTo>
                    <a:lnTo>
                      <a:pt x="2" y="69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2" y="101"/>
                    </a:lnTo>
                    <a:lnTo>
                      <a:pt x="6" y="111"/>
                    </a:lnTo>
                    <a:lnTo>
                      <a:pt x="12" y="121"/>
                    </a:lnTo>
                    <a:lnTo>
                      <a:pt x="19" y="129"/>
                    </a:lnTo>
                    <a:lnTo>
                      <a:pt x="67" y="81"/>
                    </a:lnTo>
                    <a:lnTo>
                      <a:pt x="67" y="81"/>
                    </a:lnTo>
                    <a:lnTo>
                      <a:pt x="67" y="82"/>
                    </a:lnTo>
                    <a:lnTo>
                      <a:pt x="67" y="83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8" y="83"/>
                    </a:lnTo>
                    <a:lnTo>
                      <a:pt x="69" y="81"/>
                    </a:lnTo>
                    <a:lnTo>
                      <a:pt x="71" y="78"/>
                    </a:lnTo>
                    <a:lnTo>
                      <a:pt x="73" y="76"/>
                    </a:lnTo>
                    <a:lnTo>
                      <a:pt x="76" y="74"/>
                    </a:lnTo>
                    <a:lnTo>
                      <a:pt x="85" y="67"/>
                    </a:lnTo>
                    <a:lnTo>
                      <a:pt x="95" y="61"/>
                    </a:lnTo>
                    <a:lnTo>
                      <a:pt x="96" y="6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3351240" y="4070520"/>
                <a:ext cx="39600" cy="25200"/>
              </a:xfrm>
              <a:custGeom>
                <a:avLst/>
                <a:gdLst/>
                <a:ahLst/>
                <a:rect l="l" t="t" r="r" b="b"/>
                <a:pathLst>
                  <a:path w="124" h="79">
                    <a:moveTo>
                      <a:pt x="36" y="13"/>
                    </a:moveTo>
                    <a:lnTo>
                      <a:pt x="48" y="7"/>
                    </a:lnTo>
                    <a:lnTo>
                      <a:pt x="60" y="4"/>
                    </a:lnTo>
                    <a:lnTo>
                      <a:pt x="72" y="1"/>
                    </a:lnTo>
                    <a:lnTo>
                      <a:pt x="83" y="0"/>
                    </a:lnTo>
                    <a:lnTo>
                      <a:pt x="93" y="0"/>
                    </a:lnTo>
                    <a:lnTo>
                      <a:pt x="104" y="2"/>
                    </a:lnTo>
                    <a:lnTo>
                      <a:pt x="112" y="6"/>
                    </a:lnTo>
                    <a:lnTo>
                      <a:pt x="118" y="10"/>
                    </a:lnTo>
                    <a:lnTo>
                      <a:pt x="121" y="13"/>
                    </a:lnTo>
                    <a:lnTo>
                      <a:pt x="122" y="16"/>
                    </a:lnTo>
                    <a:lnTo>
                      <a:pt x="123" y="21"/>
                    </a:lnTo>
                    <a:lnTo>
                      <a:pt x="124" y="24"/>
                    </a:lnTo>
                    <a:lnTo>
                      <a:pt x="123" y="31"/>
                    </a:lnTo>
                    <a:lnTo>
                      <a:pt x="121" y="39"/>
                    </a:lnTo>
                    <a:lnTo>
                      <a:pt x="116" y="46"/>
                    </a:lnTo>
                    <a:lnTo>
                      <a:pt x="108" y="53"/>
                    </a:lnTo>
                    <a:lnTo>
                      <a:pt x="100" y="59"/>
                    </a:lnTo>
                    <a:lnTo>
                      <a:pt x="89" y="65"/>
                    </a:lnTo>
                    <a:lnTo>
                      <a:pt x="77" y="71"/>
                    </a:lnTo>
                    <a:lnTo>
                      <a:pt x="65" y="75"/>
                    </a:lnTo>
                    <a:lnTo>
                      <a:pt x="54" y="78"/>
                    </a:lnTo>
                    <a:lnTo>
                      <a:pt x="42" y="79"/>
                    </a:lnTo>
                    <a:lnTo>
                      <a:pt x="31" y="78"/>
                    </a:lnTo>
                    <a:lnTo>
                      <a:pt x="22" y="77"/>
                    </a:lnTo>
                    <a:lnTo>
                      <a:pt x="14" y="73"/>
                    </a:lnTo>
                    <a:lnTo>
                      <a:pt x="7" y="67"/>
                    </a:lnTo>
                    <a:lnTo>
                      <a:pt x="4" y="65"/>
                    </a:lnTo>
                    <a:lnTo>
                      <a:pt x="2" y="62"/>
                    </a:lnTo>
                    <a:lnTo>
                      <a:pt x="1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1" y="43"/>
                    </a:lnTo>
                    <a:lnTo>
                      <a:pt x="3" y="39"/>
                    </a:lnTo>
                    <a:lnTo>
                      <a:pt x="8" y="32"/>
                    </a:lnTo>
                    <a:lnTo>
                      <a:pt x="16" y="25"/>
                    </a:lnTo>
                    <a:lnTo>
                      <a:pt x="25" y="18"/>
                    </a:lnTo>
                    <a:lnTo>
                      <a:pt x="36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1" name=""/>
            <p:cNvGrpSpPr/>
            <p:nvPr/>
          </p:nvGrpSpPr>
          <p:grpSpPr>
            <a:xfrm>
              <a:off x="2585880" y="3790800"/>
              <a:ext cx="3951360" cy="1845000"/>
              <a:chOff x="2585880" y="3790800"/>
              <a:chExt cx="3951360" cy="1845000"/>
            </a:xfrm>
          </p:grpSpPr>
          <p:sp>
            <p:nvSpPr>
              <p:cNvPr id="6832" name=""/>
              <p:cNvSpPr/>
              <p:nvPr/>
            </p:nvSpPr>
            <p:spPr>
              <a:xfrm>
                <a:off x="3359160" y="406080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122" h="76">
                    <a:moveTo>
                      <a:pt x="122" y="21"/>
                    </a:moveTo>
                    <a:lnTo>
                      <a:pt x="120" y="19"/>
                    </a:lnTo>
                    <a:lnTo>
                      <a:pt x="106" y="8"/>
                    </a:lnTo>
                    <a:lnTo>
                      <a:pt x="90" y="2"/>
                    </a:lnTo>
                    <a:lnTo>
                      <a:pt x="75" y="0"/>
                    </a:lnTo>
                    <a:lnTo>
                      <a:pt x="60" y="0"/>
                    </a:lnTo>
                    <a:lnTo>
                      <a:pt x="45" y="1"/>
                    </a:lnTo>
                    <a:lnTo>
                      <a:pt x="29" y="5"/>
                    </a:lnTo>
                    <a:lnTo>
                      <a:pt x="14" y="9"/>
                    </a:lnTo>
                    <a:lnTo>
                      <a:pt x="0" y="15"/>
                    </a:lnTo>
                    <a:lnTo>
                      <a:pt x="28" y="76"/>
                    </a:lnTo>
                    <a:lnTo>
                      <a:pt x="37" y="72"/>
                    </a:lnTo>
                    <a:lnTo>
                      <a:pt x="46" y="70"/>
                    </a:lnTo>
                    <a:lnTo>
                      <a:pt x="54" y="67"/>
                    </a:lnTo>
                    <a:lnTo>
                      <a:pt x="62" y="67"/>
                    </a:lnTo>
                    <a:lnTo>
                      <a:pt x="69" y="67"/>
                    </a:lnTo>
                    <a:lnTo>
                      <a:pt x="73" y="67"/>
                    </a:lnTo>
                    <a:lnTo>
                      <a:pt x="74" y="68"/>
                    </a:lnTo>
                    <a:lnTo>
                      <a:pt x="73" y="66"/>
                    </a:lnTo>
                    <a:lnTo>
                      <a:pt x="70" y="65"/>
                    </a:lnTo>
                    <a:lnTo>
                      <a:pt x="122" y="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3375000" y="406728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32" y="107"/>
                    </a:moveTo>
                    <a:lnTo>
                      <a:pt x="31" y="108"/>
                    </a:lnTo>
                    <a:lnTo>
                      <a:pt x="44" y="100"/>
                    </a:lnTo>
                    <a:lnTo>
                      <a:pt x="58" y="91"/>
                    </a:lnTo>
                    <a:lnTo>
                      <a:pt x="68" y="79"/>
                    </a:lnTo>
                    <a:lnTo>
                      <a:pt x="77" y="66"/>
                    </a:lnTo>
                    <a:lnTo>
                      <a:pt x="83" y="50"/>
                    </a:lnTo>
                    <a:lnTo>
                      <a:pt x="84" y="36"/>
                    </a:lnTo>
                    <a:lnTo>
                      <a:pt x="83" y="23"/>
                    </a:lnTo>
                    <a:lnTo>
                      <a:pt x="80" y="16"/>
                    </a:lnTo>
                    <a:lnTo>
                      <a:pt x="76" y="8"/>
                    </a:lnTo>
                    <a:lnTo>
                      <a:pt x="71" y="0"/>
                    </a:lnTo>
                    <a:lnTo>
                      <a:pt x="19" y="44"/>
                    </a:lnTo>
                    <a:lnTo>
                      <a:pt x="18" y="43"/>
                    </a:lnTo>
                    <a:lnTo>
                      <a:pt x="18" y="42"/>
                    </a:lnTo>
                    <a:lnTo>
                      <a:pt x="17" y="41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8" y="35"/>
                    </a:lnTo>
                    <a:lnTo>
                      <a:pt x="17" y="36"/>
                    </a:lnTo>
                    <a:lnTo>
                      <a:pt x="14" y="39"/>
                    </a:lnTo>
                    <a:lnTo>
                      <a:pt x="9" y="43"/>
                    </a:lnTo>
                    <a:lnTo>
                      <a:pt x="2" y="46"/>
                    </a:lnTo>
                    <a:lnTo>
                      <a:pt x="0" y="47"/>
                    </a:lnTo>
                    <a:lnTo>
                      <a:pt x="32" y="10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>
                <a:off x="3346560" y="4081320"/>
                <a:ext cx="38160" cy="25560"/>
              </a:xfrm>
              <a:custGeom>
                <a:avLst/>
                <a:gdLst/>
                <a:ahLst/>
                <a:rect l="l" t="t" r="r" b="b"/>
                <a:pathLst>
                  <a:path w="122" h="77">
                    <a:moveTo>
                      <a:pt x="0" y="56"/>
                    </a:moveTo>
                    <a:lnTo>
                      <a:pt x="0" y="56"/>
                    </a:lnTo>
                    <a:lnTo>
                      <a:pt x="14" y="67"/>
                    </a:lnTo>
                    <a:lnTo>
                      <a:pt x="28" y="73"/>
                    </a:lnTo>
                    <a:lnTo>
                      <a:pt x="44" y="77"/>
                    </a:lnTo>
                    <a:lnTo>
                      <a:pt x="59" y="77"/>
                    </a:lnTo>
                    <a:lnTo>
                      <a:pt x="75" y="76"/>
                    </a:lnTo>
                    <a:lnTo>
                      <a:pt x="91" y="72"/>
                    </a:lnTo>
                    <a:lnTo>
                      <a:pt x="107" y="68"/>
                    </a:lnTo>
                    <a:lnTo>
                      <a:pt x="122" y="60"/>
                    </a:lnTo>
                    <a:lnTo>
                      <a:pt x="90" y="0"/>
                    </a:lnTo>
                    <a:lnTo>
                      <a:pt x="82" y="5"/>
                    </a:lnTo>
                    <a:lnTo>
                      <a:pt x="73" y="7"/>
                    </a:lnTo>
                    <a:lnTo>
                      <a:pt x="65" y="10"/>
                    </a:lnTo>
                    <a:lnTo>
                      <a:pt x="58" y="10"/>
                    </a:lnTo>
                    <a:lnTo>
                      <a:pt x="52" y="10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>
                <a:off x="3340080" y="40654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84" h="109">
                    <a:moveTo>
                      <a:pt x="56" y="0"/>
                    </a:moveTo>
                    <a:lnTo>
                      <a:pt x="56" y="0"/>
                    </a:lnTo>
                    <a:lnTo>
                      <a:pt x="41" y="8"/>
                    </a:lnTo>
                    <a:lnTo>
                      <a:pt x="28" y="17"/>
                    </a:lnTo>
                    <a:lnTo>
                      <a:pt x="17" y="27"/>
                    </a:lnTo>
                    <a:lnTo>
                      <a:pt x="9" y="40"/>
                    </a:lnTo>
                    <a:lnTo>
                      <a:pt x="4" y="49"/>
                    </a:lnTo>
                    <a:lnTo>
                      <a:pt x="2" y="57"/>
                    </a:lnTo>
                    <a:lnTo>
                      <a:pt x="0" y="66"/>
                    </a:lnTo>
                    <a:lnTo>
                      <a:pt x="1" y="75"/>
                    </a:lnTo>
                    <a:lnTo>
                      <a:pt x="2" y="85"/>
                    </a:lnTo>
                    <a:lnTo>
                      <a:pt x="5" y="95"/>
                    </a:lnTo>
                    <a:lnTo>
                      <a:pt x="11" y="103"/>
                    </a:lnTo>
                    <a:lnTo>
                      <a:pt x="17" y="109"/>
                    </a:lnTo>
                    <a:lnTo>
                      <a:pt x="65" y="61"/>
                    </a:lnTo>
                    <a:lnTo>
                      <a:pt x="65" y="63"/>
                    </a:lnTo>
                    <a:lnTo>
                      <a:pt x="66" y="64"/>
                    </a:lnTo>
                    <a:lnTo>
                      <a:pt x="67" y="66"/>
                    </a:lnTo>
                    <a:lnTo>
                      <a:pt x="67" y="68"/>
                    </a:lnTo>
                    <a:lnTo>
                      <a:pt x="67" y="71"/>
                    </a:lnTo>
                    <a:lnTo>
                      <a:pt x="67" y="72"/>
                    </a:lnTo>
                    <a:lnTo>
                      <a:pt x="67" y="73"/>
                    </a:lnTo>
                    <a:lnTo>
                      <a:pt x="66" y="75"/>
                    </a:lnTo>
                    <a:lnTo>
                      <a:pt x="68" y="72"/>
                    </a:lnTo>
                    <a:lnTo>
                      <a:pt x="72" y="68"/>
                    </a:lnTo>
                    <a:lnTo>
                      <a:pt x="76" y="65"/>
                    </a:lnTo>
                    <a:lnTo>
                      <a:pt x="84" y="61"/>
                    </a:lnTo>
                    <a:lnTo>
                      <a:pt x="84" y="6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>
                <a:off x="3494160" y="4049640"/>
                <a:ext cx="345960" cy="952560"/>
              </a:xfrm>
              <a:custGeom>
                <a:avLst/>
                <a:gdLst/>
                <a:ahLst/>
                <a:rect l="l" t="t" r="r" b="b"/>
                <a:pathLst>
                  <a:path w="1091" h="2998">
                    <a:moveTo>
                      <a:pt x="479" y="0"/>
                    </a:moveTo>
                    <a:lnTo>
                      <a:pt x="427" y="86"/>
                    </a:lnTo>
                    <a:lnTo>
                      <a:pt x="378" y="171"/>
                    </a:lnTo>
                    <a:lnTo>
                      <a:pt x="333" y="258"/>
                    </a:lnTo>
                    <a:lnTo>
                      <a:pt x="292" y="346"/>
                    </a:lnTo>
                    <a:lnTo>
                      <a:pt x="253" y="435"/>
                    </a:lnTo>
                    <a:lnTo>
                      <a:pt x="219" y="525"/>
                    </a:lnTo>
                    <a:lnTo>
                      <a:pt x="187" y="615"/>
                    </a:lnTo>
                    <a:lnTo>
                      <a:pt x="158" y="706"/>
                    </a:lnTo>
                    <a:lnTo>
                      <a:pt x="132" y="799"/>
                    </a:lnTo>
                    <a:lnTo>
                      <a:pt x="109" y="891"/>
                    </a:lnTo>
                    <a:lnTo>
                      <a:pt x="88" y="985"/>
                    </a:lnTo>
                    <a:lnTo>
                      <a:pt x="70" y="1078"/>
                    </a:lnTo>
                    <a:lnTo>
                      <a:pt x="55" y="1173"/>
                    </a:lnTo>
                    <a:lnTo>
                      <a:pt x="41" y="1268"/>
                    </a:lnTo>
                    <a:lnTo>
                      <a:pt x="30" y="1363"/>
                    </a:lnTo>
                    <a:lnTo>
                      <a:pt x="21" y="1458"/>
                    </a:lnTo>
                    <a:lnTo>
                      <a:pt x="13" y="1555"/>
                    </a:lnTo>
                    <a:lnTo>
                      <a:pt x="7" y="1651"/>
                    </a:lnTo>
                    <a:lnTo>
                      <a:pt x="4" y="1748"/>
                    </a:lnTo>
                    <a:lnTo>
                      <a:pt x="1" y="1844"/>
                    </a:lnTo>
                    <a:lnTo>
                      <a:pt x="0" y="1941"/>
                    </a:lnTo>
                    <a:lnTo>
                      <a:pt x="0" y="2038"/>
                    </a:lnTo>
                    <a:lnTo>
                      <a:pt x="1" y="2135"/>
                    </a:lnTo>
                    <a:lnTo>
                      <a:pt x="5" y="2232"/>
                    </a:lnTo>
                    <a:lnTo>
                      <a:pt x="8" y="2327"/>
                    </a:lnTo>
                    <a:lnTo>
                      <a:pt x="13" y="2424"/>
                    </a:lnTo>
                    <a:lnTo>
                      <a:pt x="17" y="2521"/>
                    </a:lnTo>
                    <a:lnTo>
                      <a:pt x="23" y="2617"/>
                    </a:lnTo>
                    <a:lnTo>
                      <a:pt x="36" y="2809"/>
                    </a:lnTo>
                    <a:lnTo>
                      <a:pt x="49" y="2998"/>
                    </a:lnTo>
                    <a:lnTo>
                      <a:pt x="130" y="2998"/>
                    </a:lnTo>
                    <a:lnTo>
                      <a:pt x="191" y="2997"/>
                    </a:lnTo>
                    <a:lnTo>
                      <a:pt x="235" y="2996"/>
                    </a:lnTo>
                    <a:lnTo>
                      <a:pt x="265" y="2994"/>
                    </a:lnTo>
                    <a:lnTo>
                      <a:pt x="284" y="2991"/>
                    </a:lnTo>
                    <a:lnTo>
                      <a:pt x="294" y="2988"/>
                    </a:lnTo>
                    <a:lnTo>
                      <a:pt x="299" y="2985"/>
                    </a:lnTo>
                    <a:lnTo>
                      <a:pt x="300" y="2982"/>
                    </a:lnTo>
                    <a:lnTo>
                      <a:pt x="301" y="2979"/>
                    </a:lnTo>
                    <a:lnTo>
                      <a:pt x="306" y="2975"/>
                    </a:lnTo>
                    <a:lnTo>
                      <a:pt x="316" y="2973"/>
                    </a:lnTo>
                    <a:lnTo>
                      <a:pt x="334" y="2970"/>
                    </a:lnTo>
                    <a:lnTo>
                      <a:pt x="365" y="2969"/>
                    </a:lnTo>
                    <a:lnTo>
                      <a:pt x="408" y="2966"/>
                    </a:lnTo>
                    <a:lnTo>
                      <a:pt x="470" y="2965"/>
                    </a:lnTo>
                    <a:lnTo>
                      <a:pt x="551" y="2965"/>
                    </a:lnTo>
                    <a:lnTo>
                      <a:pt x="565" y="2885"/>
                    </a:lnTo>
                    <a:lnTo>
                      <a:pt x="580" y="2805"/>
                    </a:lnTo>
                    <a:lnTo>
                      <a:pt x="600" y="2726"/>
                    </a:lnTo>
                    <a:lnTo>
                      <a:pt x="622" y="2647"/>
                    </a:lnTo>
                    <a:lnTo>
                      <a:pt x="644" y="2568"/>
                    </a:lnTo>
                    <a:lnTo>
                      <a:pt x="669" y="2489"/>
                    </a:lnTo>
                    <a:lnTo>
                      <a:pt x="696" y="2410"/>
                    </a:lnTo>
                    <a:lnTo>
                      <a:pt x="723" y="2332"/>
                    </a:lnTo>
                    <a:lnTo>
                      <a:pt x="781" y="2175"/>
                    </a:lnTo>
                    <a:lnTo>
                      <a:pt x="839" y="2018"/>
                    </a:lnTo>
                    <a:lnTo>
                      <a:pt x="868" y="1940"/>
                    </a:lnTo>
                    <a:lnTo>
                      <a:pt x="897" y="1862"/>
                    </a:lnTo>
                    <a:lnTo>
                      <a:pt x="925" y="1783"/>
                    </a:lnTo>
                    <a:lnTo>
                      <a:pt x="951" y="1706"/>
                    </a:lnTo>
                    <a:lnTo>
                      <a:pt x="976" y="1627"/>
                    </a:lnTo>
                    <a:lnTo>
                      <a:pt x="999" y="1549"/>
                    </a:lnTo>
                    <a:lnTo>
                      <a:pt x="1021" y="1472"/>
                    </a:lnTo>
                    <a:lnTo>
                      <a:pt x="1040" y="1393"/>
                    </a:lnTo>
                    <a:lnTo>
                      <a:pt x="1056" y="1315"/>
                    </a:lnTo>
                    <a:lnTo>
                      <a:pt x="1071" y="1237"/>
                    </a:lnTo>
                    <a:lnTo>
                      <a:pt x="1081" y="1159"/>
                    </a:lnTo>
                    <a:lnTo>
                      <a:pt x="1088" y="1080"/>
                    </a:lnTo>
                    <a:lnTo>
                      <a:pt x="1091" y="1003"/>
                    </a:lnTo>
                    <a:lnTo>
                      <a:pt x="1091" y="924"/>
                    </a:lnTo>
                    <a:lnTo>
                      <a:pt x="1086" y="845"/>
                    </a:lnTo>
                    <a:lnTo>
                      <a:pt x="1076" y="767"/>
                    </a:lnTo>
                    <a:lnTo>
                      <a:pt x="1063" y="688"/>
                    </a:lnTo>
                    <a:lnTo>
                      <a:pt x="1043" y="609"/>
                    </a:lnTo>
                    <a:lnTo>
                      <a:pt x="1018" y="531"/>
                    </a:lnTo>
                    <a:lnTo>
                      <a:pt x="987" y="452"/>
                    </a:lnTo>
                    <a:lnTo>
                      <a:pt x="961" y="448"/>
                    </a:lnTo>
                    <a:lnTo>
                      <a:pt x="936" y="444"/>
                    </a:lnTo>
                    <a:lnTo>
                      <a:pt x="912" y="439"/>
                    </a:lnTo>
                    <a:lnTo>
                      <a:pt x="888" y="432"/>
                    </a:lnTo>
                    <a:lnTo>
                      <a:pt x="865" y="426"/>
                    </a:lnTo>
                    <a:lnTo>
                      <a:pt x="843" y="418"/>
                    </a:lnTo>
                    <a:lnTo>
                      <a:pt x="821" y="408"/>
                    </a:lnTo>
                    <a:lnTo>
                      <a:pt x="801" y="399"/>
                    </a:lnTo>
                    <a:lnTo>
                      <a:pt x="780" y="389"/>
                    </a:lnTo>
                    <a:lnTo>
                      <a:pt x="761" y="378"/>
                    </a:lnTo>
                    <a:lnTo>
                      <a:pt x="742" y="366"/>
                    </a:lnTo>
                    <a:lnTo>
                      <a:pt x="724" y="354"/>
                    </a:lnTo>
                    <a:lnTo>
                      <a:pt x="707" y="340"/>
                    </a:lnTo>
                    <a:lnTo>
                      <a:pt x="690" y="326"/>
                    </a:lnTo>
                    <a:lnTo>
                      <a:pt x="674" y="312"/>
                    </a:lnTo>
                    <a:lnTo>
                      <a:pt x="658" y="297"/>
                    </a:lnTo>
                    <a:lnTo>
                      <a:pt x="643" y="281"/>
                    </a:lnTo>
                    <a:lnTo>
                      <a:pt x="628" y="265"/>
                    </a:lnTo>
                    <a:lnTo>
                      <a:pt x="615" y="248"/>
                    </a:lnTo>
                    <a:lnTo>
                      <a:pt x="601" y="231"/>
                    </a:lnTo>
                    <a:lnTo>
                      <a:pt x="588" y="213"/>
                    </a:lnTo>
                    <a:lnTo>
                      <a:pt x="576" y="195"/>
                    </a:lnTo>
                    <a:lnTo>
                      <a:pt x="565" y="177"/>
                    </a:lnTo>
                    <a:lnTo>
                      <a:pt x="553" y="159"/>
                    </a:lnTo>
                    <a:lnTo>
                      <a:pt x="531" y="120"/>
                    </a:lnTo>
                    <a:lnTo>
                      <a:pt x="512" y="81"/>
                    </a:lnTo>
                    <a:lnTo>
                      <a:pt x="495" y="41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>
                <a:off x="3483000" y="4044960"/>
                <a:ext cx="171360" cy="968400"/>
              </a:xfrm>
              <a:custGeom>
                <a:avLst/>
                <a:gdLst/>
                <a:ahLst/>
                <a:rect l="l" t="t" r="r" b="b"/>
                <a:pathLst>
                  <a:path w="540" h="3051">
                    <a:moveTo>
                      <a:pt x="83" y="2983"/>
                    </a:moveTo>
                    <a:lnTo>
                      <a:pt x="116" y="3014"/>
                    </a:lnTo>
                    <a:lnTo>
                      <a:pt x="104" y="2825"/>
                    </a:lnTo>
                    <a:lnTo>
                      <a:pt x="91" y="2633"/>
                    </a:lnTo>
                    <a:lnTo>
                      <a:pt x="86" y="2537"/>
                    </a:lnTo>
                    <a:lnTo>
                      <a:pt x="80" y="2441"/>
                    </a:lnTo>
                    <a:lnTo>
                      <a:pt x="75" y="2344"/>
                    </a:lnTo>
                    <a:lnTo>
                      <a:pt x="72" y="2248"/>
                    </a:lnTo>
                    <a:lnTo>
                      <a:pt x="70" y="2152"/>
                    </a:lnTo>
                    <a:lnTo>
                      <a:pt x="68" y="2056"/>
                    </a:lnTo>
                    <a:lnTo>
                      <a:pt x="67" y="1959"/>
                    </a:lnTo>
                    <a:lnTo>
                      <a:pt x="68" y="1863"/>
                    </a:lnTo>
                    <a:lnTo>
                      <a:pt x="71" y="1766"/>
                    </a:lnTo>
                    <a:lnTo>
                      <a:pt x="75" y="1670"/>
                    </a:lnTo>
                    <a:lnTo>
                      <a:pt x="81" y="1575"/>
                    </a:lnTo>
                    <a:lnTo>
                      <a:pt x="88" y="1480"/>
                    </a:lnTo>
                    <a:lnTo>
                      <a:pt x="97" y="1385"/>
                    </a:lnTo>
                    <a:lnTo>
                      <a:pt x="108" y="1290"/>
                    </a:lnTo>
                    <a:lnTo>
                      <a:pt x="115" y="1243"/>
                    </a:lnTo>
                    <a:lnTo>
                      <a:pt x="122" y="1197"/>
                    </a:lnTo>
                    <a:lnTo>
                      <a:pt x="129" y="1150"/>
                    </a:lnTo>
                    <a:lnTo>
                      <a:pt x="137" y="1103"/>
                    </a:lnTo>
                    <a:lnTo>
                      <a:pt x="146" y="1056"/>
                    </a:lnTo>
                    <a:lnTo>
                      <a:pt x="155" y="1009"/>
                    </a:lnTo>
                    <a:lnTo>
                      <a:pt x="165" y="963"/>
                    </a:lnTo>
                    <a:lnTo>
                      <a:pt x="176" y="917"/>
                    </a:lnTo>
                    <a:lnTo>
                      <a:pt x="187" y="871"/>
                    </a:lnTo>
                    <a:lnTo>
                      <a:pt x="198" y="826"/>
                    </a:lnTo>
                    <a:lnTo>
                      <a:pt x="211" y="780"/>
                    </a:lnTo>
                    <a:lnTo>
                      <a:pt x="225" y="735"/>
                    </a:lnTo>
                    <a:lnTo>
                      <a:pt x="238" y="689"/>
                    </a:lnTo>
                    <a:lnTo>
                      <a:pt x="253" y="644"/>
                    </a:lnTo>
                    <a:lnTo>
                      <a:pt x="268" y="599"/>
                    </a:lnTo>
                    <a:lnTo>
                      <a:pt x="284" y="554"/>
                    </a:lnTo>
                    <a:lnTo>
                      <a:pt x="301" y="510"/>
                    </a:lnTo>
                    <a:lnTo>
                      <a:pt x="318" y="465"/>
                    </a:lnTo>
                    <a:lnTo>
                      <a:pt x="337" y="422"/>
                    </a:lnTo>
                    <a:lnTo>
                      <a:pt x="357" y="377"/>
                    </a:lnTo>
                    <a:lnTo>
                      <a:pt x="376" y="334"/>
                    </a:lnTo>
                    <a:lnTo>
                      <a:pt x="397" y="291"/>
                    </a:lnTo>
                    <a:lnTo>
                      <a:pt x="418" y="247"/>
                    </a:lnTo>
                    <a:lnTo>
                      <a:pt x="441" y="205"/>
                    </a:lnTo>
                    <a:lnTo>
                      <a:pt x="465" y="163"/>
                    </a:lnTo>
                    <a:lnTo>
                      <a:pt x="489" y="120"/>
                    </a:lnTo>
                    <a:lnTo>
                      <a:pt x="514" y="79"/>
                    </a:lnTo>
                    <a:lnTo>
                      <a:pt x="540" y="36"/>
                    </a:lnTo>
                    <a:lnTo>
                      <a:pt x="485" y="0"/>
                    </a:lnTo>
                    <a:lnTo>
                      <a:pt x="457" y="43"/>
                    </a:lnTo>
                    <a:lnTo>
                      <a:pt x="431" y="87"/>
                    </a:lnTo>
                    <a:lnTo>
                      <a:pt x="406" y="130"/>
                    </a:lnTo>
                    <a:lnTo>
                      <a:pt x="382" y="173"/>
                    </a:lnTo>
                    <a:lnTo>
                      <a:pt x="359" y="217"/>
                    </a:lnTo>
                    <a:lnTo>
                      <a:pt x="336" y="261"/>
                    </a:lnTo>
                    <a:lnTo>
                      <a:pt x="316" y="306"/>
                    </a:lnTo>
                    <a:lnTo>
                      <a:pt x="295" y="350"/>
                    </a:lnTo>
                    <a:lnTo>
                      <a:pt x="275" y="396"/>
                    </a:lnTo>
                    <a:lnTo>
                      <a:pt x="257" y="440"/>
                    </a:lnTo>
                    <a:lnTo>
                      <a:pt x="238" y="486"/>
                    </a:lnTo>
                    <a:lnTo>
                      <a:pt x="221" y="531"/>
                    </a:lnTo>
                    <a:lnTo>
                      <a:pt x="204" y="577"/>
                    </a:lnTo>
                    <a:lnTo>
                      <a:pt x="189" y="623"/>
                    </a:lnTo>
                    <a:lnTo>
                      <a:pt x="173" y="668"/>
                    </a:lnTo>
                    <a:lnTo>
                      <a:pt x="160" y="715"/>
                    </a:lnTo>
                    <a:lnTo>
                      <a:pt x="146" y="762"/>
                    </a:lnTo>
                    <a:lnTo>
                      <a:pt x="133" y="808"/>
                    </a:lnTo>
                    <a:lnTo>
                      <a:pt x="121" y="854"/>
                    </a:lnTo>
                    <a:lnTo>
                      <a:pt x="109" y="902"/>
                    </a:lnTo>
                    <a:lnTo>
                      <a:pt x="99" y="949"/>
                    </a:lnTo>
                    <a:lnTo>
                      <a:pt x="89" y="996"/>
                    </a:lnTo>
                    <a:lnTo>
                      <a:pt x="80" y="1044"/>
                    </a:lnTo>
                    <a:lnTo>
                      <a:pt x="71" y="1090"/>
                    </a:lnTo>
                    <a:lnTo>
                      <a:pt x="63" y="1138"/>
                    </a:lnTo>
                    <a:lnTo>
                      <a:pt x="55" y="1186"/>
                    </a:lnTo>
                    <a:lnTo>
                      <a:pt x="48" y="1234"/>
                    </a:lnTo>
                    <a:lnTo>
                      <a:pt x="41" y="1282"/>
                    </a:lnTo>
                    <a:lnTo>
                      <a:pt x="30" y="1378"/>
                    </a:lnTo>
                    <a:lnTo>
                      <a:pt x="21" y="1474"/>
                    </a:lnTo>
                    <a:lnTo>
                      <a:pt x="14" y="1571"/>
                    </a:lnTo>
                    <a:lnTo>
                      <a:pt x="8" y="1668"/>
                    </a:lnTo>
                    <a:lnTo>
                      <a:pt x="3" y="1765"/>
                    </a:lnTo>
                    <a:lnTo>
                      <a:pt x="1" y="1862"/>
                    </a:lnTo>
                    <a:lnTo>
                      <a:pt x="0" y="1959"/>
                    </a:lnTo>
                    <a:lnTo>
                      <a:pt x="1" y="2056"/>
                    </a:lnTo>
                    <a:lnTo>
                      <a:pt x="2" y="2153"/>
                    </a:lnTo>
                    <a:lnTo>
                      <a:pt x="5" y="2250"/>
                    </a:lnTo>
                    <a:lnTo>
                      <a:pt x="8" y="2348"/>
                    </a:lnTo>
                    <a:lnTo>
                      <a:pt x="13" y="2444"/>
                    </a:lnTo>
                    <a:lnTo>
                      <a:pt x="18" y="2541"/>
                    </a:lnTo>
                    <a:lnTo>
                      <a:pt x="24" y="2638"/>
                    </a:lnTo>
                    <a:lnTo>
                      <a:pt x="37" y="2829"/>
                    </a:lnTo>
                    <a:lnTo>
                      <a:pt x="49" y="3019"/>
                    </a:lnTo>
                    <a:lnTo>
                      <a:pt x="83" y="3051"/>
                    </a:lnTo>
                    <a:lnTo>
                      <a:pt x="49" y="3019"/>
                    </a:lnTo>
                    <a:lnTo>
                      <a:pt x="51" y="3027"/>
                    </a:lnTo>
                    <a:lnTo>
                      <a:pt x="54" y="3033"/>
                    </a:lnTo>
                    <a:lnTo>
                      <a:pt x="57" y="3039"/>
                    </a:lnTo>
                    <a:lnTo>
                      <a:pt x="62" y="3044"/>
                    </a:lnTo>
                    <a:lnTo>
                      <a:pt x="67" y="3047"/>
                    </a:lnTo>
                    <a:lnTo>
                      <a:pt x="73" y="3049"/>
                    </a:lnTo>
                    <a:lnTo>
                      <a:pt x="79" y="3051"/>
                    </a:lnTo>
                    <a:lnTo>
                      <a:pt x="86" y="3051"/>
                    </a:lnTo>
                    <a:lnTo>
                      <a:pt x="91" y="3049"/>
                    </a:lnTo>
                    <a:lnTo>
                      <a:pt x="98" y="3047"/>
                    </a:lnTo>
                    <a:lnTo>
                      <a:pt x="103" y="3045"/>
                    </a:lnTo>
                    <a:lnTo>
                      <a:pt x="108" y="3040"/>
                    </a:lnTo>
                    <a:lnTo>
                      <a:pt x="112" y="3036"/>
                    </a:lnTo>
                    <a:lnTo>
                      <a:pt x="115" y="3029"/>
                    </a:lnTo>
                    <a:lnTo>
                      <a:pt x="116" y="3022"/>
                    </a:lnTo>
                    <a:lnTo>
                      <a:pt x="116" y="3014"/>
                    </a:lnTo>
                    <a:lnTo>
                      <a:pt x="83" y="29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3510000" y="4979880"/>
                <a:ext cx="169920" cy="33480"/>
              </a:xfrm>
              <a:custGeom>
                <a:avLst/>
                <a:gdLst/>
                <a:ahLst/>
                <a:rect l="l" t="t" r="r" b="b"/>
                <a:pathLst>
                  <a:path w="536" h="102">
                    <a:moveTo>
                      <a:pt x="469" y="29"/>
                    </a:moveTo>
                    <a:lnTo>
                      <a:pt x="502" y="0"/>
                    </a:lnTo>
                    <a:lnTo>
                      <a:pt x="421" y="0"/>
                    </a:lnTo>
                    <a:lnTo>
                      <a:pt x="359" y="2"/>
                    </a:lnTo>
                    <a:lnTo>
                      <a:pt x="314" y="3"/>
                    </a:lnTo>
                    <a:lnTo>
                      <a:pt x="283" y="6"/>
                    </a:lnTo>
                    <a:lnTo>
                      <a:pt x="261" y="9"/>
                    </a:lnTo>
                    <a:lnTo>
                      <a:pt x="244" y="14"/>
                    </a:lnTo>
                    <a:lnTo>
                      <a:pt x="228" y="24"/>
                    </a:lnTo>
                    <a:lnTo>
                      <a:pt x="221" y="35"/>
                    </a:lnTo>
                    <a:lnTo>
                      <a:pt x="225" y="31"/>
                    </a:lnTo>
                    <a:lnTo>
                      <a:pt x="233" y="26"/>
                    </a:lnTo>
                    <a:lnTo>
                      <a:pt x="228" y="26"/>
                    </a:lnTo>
                    <a:lnTo>
                      <a:pt x="213" y="29"/>
                    </a:lnTo>
                    <a:lnTo>
                      <a:pt x="185" y="31"/>
                    </a:lnTo>
                    <a:lnTo>
                      <a:pt x="142" y="33"/>
                    </a:lnTo>
                    <a:lnTo>
                      <a:pt x="81" y="33"/>
                    </a:lnTo>
                    <a:lnTo>
                      <a:pt x="0" y="34"/>
                    </a:lnTo>
                    <a:lnTo>
                      <a:pt x="0" y="102"/>
                    </a:lnTo>
                    <a:lnTo>
                      <a:pt x="81" y="102"/>
                    </a:lnTo>
                    <a:lnTo>
                      <a:pt x="143" y="100"/>
                    </a:lnTo>
                    <a:lnTo>
                      <a:pt x="188" y="98"/>
                    </a:lnTo>
                    <a:lnTo>
                      <a:pt x="219" y="96"/>
                    </a:lnTo>
                    <a:lnTo>
                      <a:pt x="241" y="94"/>
                    </a:lnTo>
                    <a:lnTo>
                      <a:pt x="258" y="88"/>
                    </a:lnTo>
                    <a:lnTo>
                      <a:pt x="274" y="78"/>
                    </a:lnTo>
                    <a:lnTo>
                      <a:pt x="281" y="66"/>
                    </a:lnTo>
                    <a:lnTo>
                      <a:pt x="276" y="72"/>
                    </a:lnTo>
                    <a:lnTo>
                      <a:pt x="269" y="76"/>
                    </a:lnTo>
                    <a:lnTo>
                      <a:pt x="274" y="75"/>
                    </a:lnTo>
                    <a:lnTo>
                      <a:pt x="289" y="73"/>
                    </a:lnTo>
                    <a:lnTo>
                      <a:pt x="317" y="71"/>
                    </a:lnTo>
                    <a:lnTo>
                      <a:pt x="360" y="70"/>
                    </a:lnTo>
                    <a:lnTo>
                      <a:pt x="421" y="68"/>
                    </a:lnTo>
                    <a:lnTo>
                      <a:pt x="502" y="67"/>
                    </a:lnTo>
                    <a:lnTo>
                      <a:pt x="535" y="39"/>
                    </a:lnTo>
                    <a:lnTo>
                      <a:pt x="502" y="67"/>
                    </a:lnTo>
                    <a:lnTo>
                      <a:pt x="510" y="67"/>
                    </a:lnTo>
                    <a:lnTo>
                      <a:pt x="517" y="65"/>
                    </a:lnTo>
                    <a:lnTo>
                      <a:pt x="522" y="62"/>
                    </a:lnTo>
                    <a:lnTo>
                      <a:pt x="527" y="57"/>
                    </a:lnTo>
                    <a:lnTo>
                      <a:pt x="530" y="52"/>
                    </a:lnTo>
                    <a:lnTo>
                      <a:pt x="534" y="47"/>
                    </a:lnTo>
                    <a:lnTo>
                      <a:pt x="535" y="40"/>
                    </a:lnTo>
                    <a:lnTo>
                      <a:pt x="536" y="34"/>
                    </a:lnTo>
                    <a:lnTo>
                      <a:pt x="535" y="27"/>
                    </a:lnTo>
                    <a:lnTo>
                      <a:pt x="534" y="22"/>
                    </a:lnTo>
                    <a:lnTo>
                      <a:pt x="530" y="16"/>
                    </a:lnTo>
                    <a:lnTo>
                      <a:pt x="527" y="10"/>
                    </a:lnTo>
                    <a:lnTo>
                      <a:pt x="522" y="7"/>
                    </a:lnTo>
                    <a:lnTo>
                      <a:pt x="517" y="3"/>
                    </a:lnTo>
                    <a:lnTo>
                      <a:pt x="510" y="1"/>
                    </a:lnTo>
                    <a:lnTo>
                      <a:pt x="502" y="0"/>
                    </a:lnTo>
                    <a:lnTo>
                      <a:pt x="469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3659040" y="4183200"/>
                <a:ext cx="192240" cy="809640"/>
              </a:xfrm>
              <a:custGeom>
                <a:avLst/>
                <a:gdLst/>
                <a:ahLst/>
                <a:rect l="l" t="t" r="r" b="b"/>
                <a:pathLst>
                  <a:path w="607" h="2552">
                    <a:moveTo>
                      <a:pt x="466" y="67"/>
                    </a:moveTo>
                    <a:lnTo>
                      <a:pt x="439" y="46"/>
                    </a:lnTo>
                    <a:lnTo>
                      <a:pt x="455" y="85"/>
                    </a:lnTo>
                    <a:lnTo>
                      <a:pt x="468" y="124"/>
                    </a:lnTo>
                    <a:lnTo>
                      <a:pt x="481" y="163"/>
                    </a:lnTo>
                    <a:lnTo>
                      <a:pt x="492" y="200"/>
                    </a:lnTo>
                    <a:lnTo>
                      <a:pt x="503" y="239"/>
                    </a:lnTo>
                    <a:lnTo>
                      <a:pt x="512" y="278"/>
                    </a:lnTo>
                    <a:lnTo>
                      <a:pt x="518" y="316"/>
                    </a:lnTo>
                    <a:lnTo>
                      <a:pt x="525" y="354"/>
                    </a:lnTo>
                    <a:lnTo>
                      <a:pt x="530" y="392"/>
                    </a:lnTo>
                    <a:lnTo>
                      <a:pt x="534" y="431"/>
                    </a:lnTo>
                    <a:lnTo>
                      <a:pt x="537" y="469"/>
                    </a:lnTo>
                    <a:lnTo>
                      <a:pt x="539" y="507"/>
                    </a:lnTo>
                    <a:lnTo>
                      <a:pt x="540" y="546"/>
                    </a:lnTo>
                    <a:lnTo>
                      <a:pt x="540" y="584"/>
                    </a:lnTo>
                    <a:lnTo>
                      <a:pt x="538" y="623"/>
                    </a:lnTo>
                    <a:lnTo>
                      <a:pt x="537" y="660"/>
                    </a:lnTo>
                    <a:lnTo>
                      <a:pt x="533" y="699"/>
                    </a:lnTo>
                    <a:lnTo>
                      <a:pt x="529" y="738"/>
                    </a:lnTo>
                    <a:lnTo>
                      <a:pt x="524" y="775"/>
                    </a:lnTo>
                    <a:lnTo>
                      <a:pt x="518" y="814"/>
                    </a:lnTo>
                    <a:lnTo>
                      <a:pt x="513" y="853"/>
                    </a:lnTo>
                    <a:lnTo>
                      <a:pt x="505" y="891"/>
                    </a:lnTo>
                    <a:lnTo>
                      <a:pt x="498" y="929"/>
                    </a:lnTo>
                    <a:lnTo>
                      <a:pt x="489" y="967"/>
                    </a:lnTo>
                    <a:lnTo>
                      <a:pt x="471" y="1045"/>
                    </a:lnTo>
                    <a:lnTo>
                      <a:pt x="449" y="1122"/>
                    </a:lnTo>
                    <a:lnTo>
                      <a:pt x="426" y="1200"/>
                    </a:lnTo>
                    <a:lnTo>
                      <a:pt x="401" y="1277"/>
                    </a:lnTo>
                    <a:lnTo>
                      <a:pt x="375" y="1355"/>
                    </a:lnTo>
                    <a:lnTo>
                      <a:pt x="347" y="1433"/>
                    </a:lnTo>
                    <a:lnTo>
                      <a:pt x="319" y="1510"/>
                    </a:lnTo>
                    <a:lnTo>
                      <a:pt x="289" y="1588"/>
                    </a:lnTo>
                    <a:lnTo>
                      <a:pt x="231" y="1745"/>
                    </a:lnTo>
                    <a:lnTo>
                      <a:pt x="173" y="1901"/>
                    </a:lnTo>
                    <a:lnTo>
                      <a:pt x="146" y="1981"/>
                    </a:lnTo>
                    <a:lnTo>
                      <a:pt x="119" y="2060"/>
                    </a:lnTo>
                    <a:lnTo>
                      <a:pt x="94" y="2140"/>
                    </a:lnTo>
                    <a:lnTo>
                      <a:pt x="70" y="2220"/>
                    </a:lnTo>
                    <a:lnTo>
                      <a:pt x="59" y="2260"/>
                    </a:lnTo>
                    <a:lnTo>
                      <a:pt x="49" y="2300"/>
                    </a:lnTo>
                    <a:lnTo>
                      <a:pt x="39" y="2340"/>
                    </a:lnTo>
                    <a:lnTo>
                      <a:pt x="29" y="2381"/>
                    </a:lnTo>
                    <a:lnTo>
                      <a:pt x="21" y="2421"/>
                    </a:lnTo>
                    <a:lnTo>
                      <a:pt x="13" y="2461"/>
                    </a:lnTo>
                    <a:lnTo>
                      <a:pt x="5" y="2502"/>
                    </a:lnTo>
                    <a:lnTo>
                      <a:pt x="0" y="2542"/>
                    </a:lnTo>
                    <a:lnTo>
                      <a:pt x="66" y="2552"/>
                    </a:lnTo>
                    <a:lnTo>
                      <a:pt x="73" y="2513"/>
                    </a:lnTo>
                    <a:lnTo>
                      <a:pt x="80" y="2473"/>
                    </a:lnTo>
                    <a:lnTo>
                      <a:pt x="88" y="2434"/>
                    </a:lnTo>
                    <a:lnTo>
                      <a:pt x="96" y="2394"/>
                    </a:lnTo>
                    <a:lnTo>
                      <a:pt x="105" y="2356"/>
                    </a:lnTo>
                    <a:lnTo>
                      <a:pt x="115" y="2317"/>
                    </a:lnTo>
                    <a:lnTo>
                      <a:pt x="124" y="2277"/>
                    </a:lnTo>
                    <a:lnTo>
                      <a:pt x="135" y="2238"/>
                    </a:lnTo>
                    <a:lnTo>
                      <a:pt x="158" y="2159"/>
                    </a:lnTo>
                    <a:lnTo>
                      <a:pt x="183" y="2082"/>
                    </a:lnTo>
                    <a:lnTo>
                      <a:pt x="210" y="2003"/>
                    </a:lnTo>
                    <a:lnTo>
                      <a:pt x="237" y="1925"/>
                    </a:lnTo>
                    <a:lnTo>
                      <a:pt x="294" y="1768"/>
                    </a:lnTo>
                    <a:lnTo>
                      <a:pt x="353" y="1612"/>
                    </a:lnTo>
                    <a:lnTo>
                      <a:pt x="382" y="1533"/>
                    </a:lnTo>
                    <a:lnTo>
                      <a:pt x="410" y="1455"/>
                    </a:lnTo>
                    <a:lnTo>
                      <a:pt x="439" y="1377"/>
                    </a:lnTo>
                    <a:lnTo>
                      <a:pt x="465" y="1298"/>
                    </a:lnTo>
                    <a:lnTo>
                      <a:pt x="490" y="1219"/>
                    </a:lnTo>
                    <a:lnTo>
                      <a:pt x="514" y="1140"/>
                    </a:lnTo>
                    <a:lnTo>
                      <a:pt x="536" y="1062"/>
                    </a:lnTo>
                    <a:lnTo>
                      <a:pt x="555" y="983"/>
                    </a:lnTo>
                    <a:lnTo>
                      <a:pt x="563" y="943"/>
                    </a:lnTo>
                    <a:lnTo>
                      <a:pt x="572" y="903"/>
                    </a:lnTo>
                    <a:lnTo>
                      <a:pt x="579" y="864"/>
                    </a:lnTo>
                    <a:lnTo>
                      <a:pt x="586" y="824"/>
                    </a:lnTo>
                    <a:lnTo>
                      <a:pt x="591" y="785"/>
                    </a:lnTo>
                    <a:lnTo>
                      <a:pt x="596" y="745"/>
                    </a:lnTo>
                    <a:lnTo>
                      <a:pt x="601" y="705"/>
                    </a:lnTo>
                    <a:lnTo>
                      <a:pt x="604" y="665"/>
                    </a:lnTo>
                    <a:lnTo>
                      <a:pt x="605" y="625"/>
                    </a:lnTo>
                    <a:lnTo>
                      <a:pt x="607" y="585"/>
                    </a:lnTo>
                    <a:lnTo>
                      <a:pt x="607" y="545"/>
                    </a:lnTo>
                    <a:lnTo>
                      <a:pt x="606" y="505"/>
                    </a:lnTo>
                    <a:lnTo>
                      <a:pt x="604" y="465"/>
                    </a:lnTo>
                    <a:lnTo>
                      <a:pt x="602" y="425"/>
                    </a:lnTo>
                    <a:lnTo>
                      <a:pt x="597" y="384"/>
                    </a:lnTo>
                    <a:lnTo>
                      <a:pt x="591" y="344"/>
                    </a:lnTo>
                    <a:lnTo>
                      <a:pt x="585" y="304"/>
                    </a:lnTo>
                    <a:lnTo>
                      <a:pt x="577" y="263"/>
                    </a:lnTo>
                    <a:lnTo>
                      <a:pt x="568" y="223"/>
                    </a:lnTo>
                    <a:lnTo>
                      <a:pt x="557" y="182"/>
                    </a:lnTo>
                    <a:lnTo>
                      <a:pt x="546" y="142"/>
                    </a:lnTo>
                    <a:lnTo>
                      <a:pt x="532" y="101"/>
                    </a:lnTo>
                    <a:lnTo>
                      <a:pt x="517" y="61"/>
                    </a:lnTo>
                    <a:lnTo>
                      <a:pt x="500" y="20"/>
                    </a:lnTo>
                    <a:lnTo>
                      <a:pt x="473" y="0"/>
                    </a:lnTo>
                    <a:lnTo>
                      <a:pt x="500" y="20"/>
                    </a:lnTo>
                    <a:lnTo>
                      <a:pt x="497" y="13"/>
                    </a:lnTo>
                    <a:lnTo>
                      <a:pt x="492" y="8"/>
                    </a:lnTo>
                    <a:lnTo>
                      <a:pt x="487" y="4"/>
                    </a:lnTo>
                    <a:lnTo>
                      <a:pt x="481" y="1"/>
                    </a:lnTo>
                    <a:lnTo>
                      <a:pt x="475" y="0"/>
                    </a:lnTo>
                    <a:lnTo>
                      <a:pt x="468" y="0"/>
                    </a:lnTo>
                    <a:lnTo>
                      <a:pt x="463" y="1"/>
                    </a:lnTo>
                    <a:lnTo>
                      <a:pt x="457" y="3"/>
                    </a:lnTo>
                    <a:lnTo>
                      <a:pt x="451" y="5"/>
                    </a:lnTo>
                    <a:lnTo>
                      <a:pt x="446" y="9"/>
                    </a:lnTo>
                    <a:lnTo>
                      <a:pt x="442" y="14"/>
                    </a:lnTo>
                    <a:lnTo>
                      <a:pt x="439" y="19"/>
                    </a:lnTo>
                    <a:lnTo>
                      <a:pt x="436" y="26"/>
                    </a:lnTo>
                    <a:lnTo>
                      <a:pt x="435" y="32"/>
                    </a:lnTo>
                    <a:lnTo>
                      <a:pt x="436" y="40"/>
                    </a:lnTo>
                    <a:lnTo>
                      <a:pt x="439" y="46"/>
                    </a:lnTo>
                    <a:lnTo>
                      <a:pt x="466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3635280" y="4038480"/>
                <a:ext cx="173160" cy="165240"/>
              </a:xfrm>
              <a:custGeom>
                <a:avLst/>
                <a:gdLst/>
                <a:ahLst/>
                <a:rect l="l" t="t" r="r" b="b"/>
                <a:pathLst>
                  <a:path w="546" h="519">
                    <a:moveTo>
                      <a:pt x="61" y="52"/>
                    </a:moveTo>
                    <a:lnTo>
                      <a:pt x="2" y="45"/>
                    </a:lnTo>
                    <a:lnTo>
                      <a:pt x="18" y="88"/>
                    </a:lnTo>
                    <a:lnTo>
                      <a:pt x="37" y="129"/>
                    </a:lnTo>
                    <a:lnTo>
                      <a:pt x="57" y="170"/>
                    </a:lnTo>
                    <a:lnTo>
                      <a:pt x="78" y="209"/>
                    </a:lnTo>
                    <a:lnTo>
                      <a:pt x="91" y="229"/>
                    </a:lnTo>
                    <a:lnTo>
                      <a:pt x="102" y="247"/>
                    </a:lnTo>
                    <a:lnTo>
                      <a:pt x="116" y="267"/>
                    </a:lnTo>
                    <a:lnTo>
                      <a:pt x="130" y="285"/>
                    </a:lnTo>
                    <a:lnTo>
                      <a:pt x="143" y="303"/>
                    </a:lnTo>
                    <a:lnTo>
                      <a:pt x="158" y="320"/>
                    </a:lnTo>
                    <a:lnTo>
                      <a:pt x="173" y="338"/>
                    </a:lnTo>
                    <a:lnTo>
                      <a:pt x="189" y="355"/>
                    </a:lnTo>
                    <a:lnTo>
                      <a:pt x="205" y="371"/>
                    </a:lnTo>
                    <a:lnTo>
                      <a:pt x="222" y="385"/>
                    </a:lnTo>
                    <a:lnTo>
                      <a:pt x="240" y="400"/>
                    </a:lnTo>
                    <a:lnTo>
                      <a:pt x="260" y="415"/>
                    </a:lnTo>
                    <a:lnTo>
                      <a:pt x="278" y="428"/>
                    </a:lnTo>
                    <a:lnTo>
                      <a:pt x="299" y="440"/>
                    </a:lnTo>
                    <a:lnTo>
                      <a:pt x="319" y="453"/>
                    </a:lnTo>
                    <a:lnTo>
                      <a:pt x="341" y="464"/>
                    </a:lnTo>
                    <a:lnTo>
                      <a:pt x="362" y="474"/>
                    </a:lnTo>
                    <a:lnTo>
                      <a:pt x="385" y="484"/>
                    </a:lnTo>
                    <a:lnTo>
                      <a:pt x="409" y="492"/>
                    </a:lnTo>
                    <a:lnTo>
                      <a:pt x="434" y="500"/>
                    </a:lnTo>
                    <a:lnTo>
                      <a:pt x="459" y="506"/>
                    </a:lnTo>
                    <a:lnTo>
                      <a:pt x="485" y="511"/>
                    </a:lnTo>
                    <a:lnTo>
                      <a:pt x="512" y="516"/>
                    </a:lnTo>
                    <a:lnTo>
                      <a:pt x="539" y="519"/>
                    </a:lnTo>
                    <a:lnTo>
                      <a:pt x="546" y="452"/>
                    </a:lnTo>
                    <a:lnTo>
                      <a:pt x="521" y="449"/>
                    </a:lnTo>
                    <a:lnTo>
                      <a:pt x="497" y="445"/>
                    </a:lnTo>
                    <a:lnTo>
                      <a:pt x="474" y="440"/>
                    </a:lnTo>
                    <a:lnTo>
                      <a:pt x="452" y="434"/>
                    </a:lnTo>
                    <a:lnTo>
                      <a:pt x="431" y="428"/>
                    </a:lnTo>
                    <a:lnTo>
                      <a:pt x="410" y="420"/>
                    </a:lnTo>
                    <a:lnTo>
                      <a:pt x="390" y="412"/>
                    </a:lnTo>
                    <a:lnTo>
                      <a:pt x="370" y="403"/>
                    </a:lnTo>
                    <a:lnTo>
                      <a:pt x="351" y="393"/>
                    </a:lnTo>
                    <a:lnTo>
                      <a:pt x="334" y="383"/>
                    </a:lnTo>
                    <a:lnTo>
                      <a:pt x="316" y="372"/>
                    </a:lnTo>
                    <a:lnTo>
                      <a:pt x="299" y="360"/>
                    </a:lnTo>
                    <a:lnTo>
                      <a:pt x="283" y="348"/>
                    </a:lnTo>
                    <a:lnTo>
                      <a:pt x="267" y="334"/>
                    </a:lnTo>
                    <a:lnTo>
                      <a:pt x="252" y="320"/>
                    </a:lnTo>
                    <a:lnTo>
                      <a:pt x="237" y="307"/>
                    </a:lnTo>
                    <a:lnTo>
                      <a:pt x="222" y="292"/>
                    </a:lnTo>
                    <a:lnTo>
                      <a:pt x="208" y="277"/>
                    </a:lnTo>
                    <a:lnTo>
                      <a:pt x="196" y="261"/>
                    </a:lnTo>
                    <a:lnTo>
                      <a:pt x="183" y="244"/>
                    </a:lnTo>
                    <a:lnTo>
                      <a:pt x="171" y="228"/>
                    </a:lnTo>
                    <a:lnTo>
                      <a:pt x="159" y="211"/>
                    </a:lnTo>
                    <a:lnTo>
                      <a:pt x="148" y="193"/>
                    </a:lnTo>
                    <a:lnTo>
                      <a:pt x="138" y="176"/>
                    </a:lnTo>
                    <a:lnTo>
                      <a:pt x="116" y="138"/>
                    </a:lnTo>
                    <a:lnTo>
                      <a:pt x="98" y="100"/>
                    </a:lnTo>
                    <a:lnTo>
                      <a:pt x="81" y="61"/>
                    </a:lnTo>
                    <a:lnTo>
                      <a:pt x="65" y="23"/>
                    </a:lnTo>
                    <a:lnTo>
                      <a:pt x="6" y="16"/>
                    </a:lnTo>
                    <a:lnTo>
                      <a:pt x="65" y="23"/>
                    </a:lnTo>
                    <a:lnTo>
                      <a:pt x="61" y="15"/>
                    </a:lnTo>
                    <a:lnTo>
                      <a:pt x="57" y="9"/>
                    </a:lnTo>
                    <a:lnTo>
                      <a:pt x="52" y="6"/>
                    </a:lnTo>
                    <a:lnTo>
                      <a:pt x="47" y="2"/>
                    </a:lnTo>
                    <a:lnTo>
                      <a:pt x="40" y="1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1" y="9"/>
                    </a:lnTo>
                    <a:lnTo>
                      <a:pt x="7" y="14"/>
                    </a:lnTo>
                    <a:lnTo>
                      <a:pt x="3" y="18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2" y="45"/>
                    </a:lnTo>
                    <a:lnTo>
                      <a:pt x="61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>
                <a:off x="3643200" y="3898800"/>
                <a:ext cx="235080" cy="300240"/>
              </a:xfrm>
              <a:custGeom>
                <a:avLst/>
                <a:gdLst/>
                <a:ahLst/>
                <a:rect l="l" t="t" r="r" b="b"/>
                <a:pathLst>
                  <a:path w="738" h="945">
                    <a:moveTo>
                      <a:pt x="330" y="0"/>
                    </a:moveTo>
                    <a:lnTo>
                      <a:pt x="312" y="6"/>
                    </a:lnTo>
                    <a:lnTo>
                      <a:pt x="295" y="13"/>
                    </a:lnTo>
                    <a:lnTo>
                      <a:pt x="278" y="20"/>
                    </a:lnTo>
                    <a:lnTo>
                      <a:pt x="262" y="27"/>
                    </a:lnTo>
                    <a:lnTo>
                      <a:pt x="246" y="36"/>
                    </a:lnTo>
                    <a:lnTo>
                      <a:pt x="231" y="45"/>
                    </a:lnTo>
                    <a:lnTo>
                      <a:pt x="218" y="54"/>
                    </a:lnTo>
                    <a:lnTo>
                      <a:pt x="204" y="64"/>
                    </a:lnTo>
                    <a:lnTo>
                      <a:pt x="190" y="76"/>
                    </a:lnTo>
                    <a:lnTo>
                      <a:pt x="178" y="87"/>
                    </a:lnTo>
                    <a:lnTo>
                      <a:pt x="165" y="98"/>
                    </a:lnTo>
                    <a:lnTo>
                      <a:pt x="154" y="111"/>
                    </a:lnTo>
                    <a:lnTo>
                      <a:pt x="143" y="125"/>
                    </a:lnTo>
                    <a:lnTo>
                      <a:pt x="132" y="138"/>
                    </a:lnTo>
                    <a:lnTo>
                      <a:pt x="123" y="152"/>
                    </a:lnTo>
                    <a:lnTo>
                      <a:pt x="113" y="167"/>
                    </a:lnTo>
                    <a:lnTo>
                      <a:pt x="94" y="198"/>
                    </a:lnTo>
                    <a:lnTo>
                      <a:pt x="77" y="230"/>
                    </a:lnTo>
                    <a:lnTo>
                      <a:pt x="62" y="263"/>
                    </a:lnTo>
                    <a:lnTo>
                      <a:pt x="48" y="298"/>
                    </a:lnTo>
                    <a:lnTo>
                      <a:pt x="35" y="333"/>
                    </a:lnTo>
                    <a:lnTo>
                      <a:pt x="23" y="371"/>
                    </a:lnTo>
                    <a:lnTo>
                      <a:pt x="11" y="409"/>
                    </a:lnTo>
                    <a:lnTo>
                      <a:pt x="0" y="448"/>
                    </a:lnTo>
                    <a:lnTo>
                      <a:pt x="0" y="463"/>
                    </a:lnTo>
                    <a:lnTo>
                      <a:pt x="1" y="481"/>
                    </a:lnTo>
                    <a:lnTo>
                      <a:pt x="2" y="498"/>
                    </a:lnTo>
                    <a:lnTo>
                      <a:pt x="4" y="515"/>
                    </a:lnTo>
                    <a:lnTo>
                      <a:pt x="8" y="531"/>
                    </a:lnTo>
                    <a:lnTo>
                      <a:pt x="11" y="548"/>
                    </a:lnTo>
                    <a:lnTo>
                      <a:pt x="16" y="565"/>
                    </a:lnTo>
                    <a:lnTo>
                      <a:pt x="20" y="581"/>
                    </a:lnTo>
                    <a:lnTo>
                      <a:pt x="26" y="598"/>
                    </a:lnTo>
                    <a:lnTo>
                      <a:pt x="33" y="615"/>
                    </a:lnTo>
                    <a:lnTo>
                      <a:pt x="40" y="631"/>
                    </a:lnTo>
                    <a:lnTo>
                      <a:pt x="48" y="648"/>
                    </a:lnTo>
                    <a:lnTo>
                      <a:pt x="57" y="664"/>
                    </a:lnTo>
                    <a:lnTo>
                      <a:pt x="66" y="680"/>
                    </a:lnTo>
                    <a:lnTo>
                      <a:pt x="75" y="697"/>
                    </a:lnTo>
                    <a:lnTo>
                      <a:pt x="85" y="713"/>
                    </a:lnTo>
                    <a:lnTo>
                      <a:pt x="107" y="745"/>
                    </a:lnTo>
                    <a:lnTo>
                      <a:pt x="131" y="776"/>
                    </a:lnTo>
                    <a:lnTo>
                      <a:pt x="157" y="806"/>
                    </a:lnTo>
                    <a:lnTo>
                      <a:pt x="186" y="835"/>
                    </a:lnTo>
                    <a:lnTo>
                      <a:pt x="215" y="865"/>
                    </a:lnTo>
                    <a:lnTo>
                      <a:pt x="246" y="892"/>
                    </a:lnTo>
                    <a:lnTo>
                      <a:pt x="279" y="919"/>
                    </a:lnTo>
                    <a:lnTo>
                      <a:pt x="313" y="945"/>
                    </a:lnTo>
                    <a:lnTo>
                      <a:pt x="363" y="911"/>
                    </a:lnTo>
                    <a:lnTo>
                      <a:pt x="409" y="879"/>
                    </a:lnTo>
                    <a:lnTo>
                      <a:pt x="451" y="849"/>
                    </a:lnTo>
                    <a:lnTo>
                      <a:pt x="490" y="821"/>
                    </a:lnTo>
                    <a:lnTo>
                      <a:pt x="525" y="792"/>
                    </a:lnTo>
                    <a:lnTo>
                      <a:pt x="557" y="765"/>
                    </a:lnTo>
                    <a:lnTo>
                      <a:pt x="572" y="751"/>
                    </a:lnTo>
                    <a:lnTo>
                      <a:pt x="587" y="736"/>
                    </a:lnTo>
                    <a:lnTo>
                      <a:pt x="599" y="722"/>
                    </a:lnTo>
                    <a:lnTo>
                      <a:pt x="613" y="708"/>
                    </a:lnTo>
                    <a:lnTo>
                      <a:pt x="624" y="693"/>
                    </a:lnTo>
                    <a:lnTo>
                      <a:pt x="636" y="677"/>
                    </a:lnTo>
                    <a:lnTo>
                      <a:pt x="647" y="662"/>
                    </a:lnTo>
                    <a:lnTo>
                      <a:pt x="658" y="645"/>
                    </a:lnTo>
                    <a:lnTo>
                      <a:pt x="667" y="629"/>
                    </a:lnTo>
                    <a:lnTo>
                      <a:pt x="676" y="611"/>
                    </a:lnTo>
                    <a:lnTo>
                      <a:pt x="684" y="592"/>
                    </a:lnTo>
                    <a:lnTo>
                      <a:pt x="692" y="574"/>
                    </a:lnTo>
                    <a:lnTo>
                      <a:pt x="700" y="555"/>
                    </a:lnTo>
                    <a:lnTo>
                      <a:pt x="707" y="534"/>
                    </a:lnTo>
                    <a:lnTo>
                      <a:pt x="712" y="513"/>
                    </a:lnTo>
                    <a:lnTo>
                      <a:pt x="719" y="490"/>
                    </a:lnTo>
                    <a:lnTo>
                      <a:pt x="724" y="467"/>
                    </a:lnTo>
                    <a:lnTo>
                      <a:pt x="729" y="442"/>
                    </a:lnTo>
                    <a:lnTo>
                      <a:pt x="734" y="416"/>
                    </a:lnTo>
                    <a:lnTo>
                      <a:pt x="738" y="389"/>
                    </a:lnTo>
                    <a:lnTo>
                      <a:pt x="734" y="368"/>
                    </a:lnTo>
                    <a:lnTo>
                      <a:pt x="729" y="348"/>
                    </a:lnTo>
                    <a:lnTo>
                      <a:pt x="724" y="328"/>
                    </a:lnTo>
                    <a:lnTo>
                      <a:pt x="718" y="308"/>
                    </a:lnTo>
                    <a:lnTo>
                      <a:pt x="712" y="290"/>
                    </a:lnTo>
                    <a:lnTo>
                      <a:pt x="705" y="272"/>
                    </a:lnTo>
                    <a:lnTo>
                      <a:pt x="697" y="255"/>
                    </a:lnTo>
                    <a:lnTo>
                      <a:pt x="689" y="238"/>
                    </a:lnTo>
                    <a:lnTo>
                      <a:pt x="681" y="220"/>
                    </a:lnTo>
                    <a:lnTo>
                      <a:pt x="672" y="205"/>
                    </a:lnTo>
                    <a:lnTo>
                      <a:pt x="662" y="190"/>
                    </a:lnTo>
                    <a:lnTo>
                      <a:pt x="652" y="175"/>
                    </a:lnTo>
                    <a:lnTo>
                      <a:pt x="642" y="160"/>
                    </a:lnTo>
                    <a:lnTo>
                      <a:pt x="630" y="147"/>
                    </a:lnTo>
                    <a:lnTo>
                      <a:pt x="618" y="134"/>
                    </a:lnTo>
                    <a:lnTo>
                      <a:pt x="606" y="121"/>
                    </a:lnTo>
                    <a:lnTo>
                      <a:pt x="593" y="110"/>
                    </a:lnTo>
                    <a:lnTo>
                      <a:pt x="579" y="98"/>
                    </a:lnTo>
                    <a:lnTo>
                      <a:pt x="565" y="88"/>
                    </a:lnTo>
                    <a:lnTo>
                      <a:pt x="550" y="78"/>
                    </a:lnTo>
                    <a:lnTo>
                      <a:pt x="536" y="68"/>
                    </a:lnTo>
                    <a:lnTo>
                      <a:pt x="520" y="58"/>
                    </a:lnTo>
                    <a:lnTo>
                      <a:pt x="503" y="50"/>
                    </a:lnTo>
                    <a:lnTo>
                      <a:pt x="487" y="43"/>
                    </a:lnTo>
                    <a:lnTo>
                      <a:pt x="468" y="36"/>
                    </a:lnTo>
                    <a:lnTo>
                      <a:pt x="450" y="29"/>
                    </a:lnTo>
                    <a:lnTo>
                      <a:pt x="432" y="22"/>
                    </a:lnTo>
                    <a:lnTo>
                      <a:pt x="412" y="17"/>
                    </a:lnTo>
                    <a:lnTo>
                      <a:pt x="393" y="12"/>
                    </a:lnTo>
                    <a:lnTo>
                      <a:pt x="373" y="7"/>
                    </a:lnTo>
                    <a:lnTo>
                      <a:pt x="352" y="4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>
                <a:off x="3632040" y="3889440"/>
                <a:ext cx="119160" cy="162000"/>
              </a:xfrm>
              <a:custGeom>
                <a:avLst/>
                <a:gdLst/>
                <a:ahLst/>
                <a:rect l="l" t="t" r="r" b="b"/>
                <a:pathLst>
                  <a:path w="373" h="513">
                    <a:moveTo>
                      <a:pt x="68" y="480"/>
                    </a:moveTo>
                    <a:lnTo>
                      <a:pt x="67" y="488"/>
                    </a:lnTo>
                    <a:lnTo>
                      <a:pt x="77" y="450"/>
                    </a:lnTo>
                    <a:lnTo>
                      <a:pt x="88" y="413"/>
                    </a:lnTo>
                    <a:lnTo>
                      <a:pt x="101" y="377"/>
                    </a:lnTo>
                    <a:lnTo>
                      <a:pt x="114" y="341"/>
                    </a:lnTo>
                    <a:lnTo>
                      <a:pt x="127" y="308"/>
                    </a:lnTo>
                    <a:lnTo>
                      <a:pt x="142" y="276"/>
                    </a:lnTo>
                    <a:lnTo>
                      <a:pt x="158" y="246"/>
                    </a:lnTo>
                    <a:lnTo>
                      <a:pt x="175" y="216"/>
                    </a:lnTo>
                    <a:lnTo>
                      <a:pt x="184" y="203"/>
                    </a:lnTo>
                    <a:lnTo>
                      <a:pt x="193" y="191"/>
                    </a:lnTo>
                    <a:lnTo>
                      <a:pt x="204" y="178"/>
                    </a:lnTo>
                    <a:lnTo>
                      <a:pt x="214" y="166"/>
                    </a:lnTo>
                    <a:lnTo>
                      <a:pt x="224" y="154"/>
                    </a:lnTo>
                    <a:lnTo>
                      <a:pt x="234" y="143"/>
                    </a:lnTo>
                    <a:lnTo>
                      <a:pt x="247" y="133"/>
                    </a:lnTo>
                    <a:lnTo>
                      <a:pt x="258" y="122"/>
                    </a:lnTo>
                    <a:lnTo>
                      <a:pt x="271" y="113"/>
                    </a:lnTo>
                    <a:lnTo>
                      <a:pt x="283" y="105"/>
                    </a:lnTo>
                    <a:lnTo>
                      <a:pt x="297" y="97"/>
                    </a:lnTo>
                    <a:lnTo>
                      <a:pt x="311" y="89"/>
                    </a:lnTo>
                    <a:lnTo>
                      <a:pt x="326" y="82"/>
                    </a:lnTo>
                    <a:lnTo>
                      <a:pt x="340" y="76"/>
                    </a:lnTo>
                    <a:lnTo>
                      <a:pt x="356" y="70"/>
                    </a:lnTo>
                    <a:lnTo>
                      <a:pt x="373" y="65"/>
                    </a:lnTo>
                    <a:lnTo>
                      <a:pt x="355" y="0"/>
                    </a:lnTo>
                    <a:lnTo>
                      <a:pt x="336" y="6"/>
                    </a:lnTo>
                    <a:lnTo>
                      <a:pt x="316" y="13"/>
                    </a:lnTo>
                    <a:lnTo>
                      <a:pt x="298" y="21"/>
                    </a:lnTo>
                    <a:lnTo>
                      <a:pt x="280" y="29"/>
                    </a:lnTo>
                    <a:lnTo>
                      <a:pt x="263" y="38"/>
                    </a:lnTo>
                    <a:lnTo>
                      <a:pt x="247" y="48"/>
                    </a:lnTo>
                    <a:lnTo>
                      <a:pt x="231" y="59"/>
                    </a:lnTo>
                    <a:lnTo>
                      <a:pt x="216" y="70"/>
                    </a:lnTo>
                    <a:lnTo>
                      <a:pt x="202" y="81"/>
                    </a:lnTo>
                    <a:lnTo>
                      <a:pt x="189" y="94"/>
                    </a:lnTo>
                    <a:lnTo>
                      <a:pt x="175" y="108"/>
                    </a:lnTo>
                    <a:lnTo>
                      <a:pt x="163" y="121"/>
                    </a:lnTo>
                    <a:lnTo>
                      <a:pt x="151" y="135"/>
                    </a:lnTo>
                    <a:lnTo>
                      <a:pt x="140" y="150"/>
                    </a:lnTo>
                    <a:lnTo>
                      <a:pt x="128" y="165"/>
                    </a:lnTo>
                    <a:lnTo>
                      <a:pt x="118" y="181"/>
                    </a:lnTo>
                    <a:lnTo>
                      <a:pt x="99" y="213"/>
                    </a:lnTo>
                    <a:lnTo>
                      <a:pt x="82" y="247"/>
                    </a:lnTo>
                    <a:lnTo>
                      <a:pt x="66" y="281"/>
                    </a:lnTo>
                    <a:lnTo>
                      <a:pt x="51" y="318"/>
                    </a:lnTo>
                    <a:lnTo>
                      <a:pt x="37" y="354"/>
                    </a:lnTo>
                    <a:lnTo>
                      <a:pt x="25" y="392"/>
                    </a:lnTo>
                    <a:lnTo>
                      <a:pt x="12" y="430"/>
                    </a:lnTo>
                    <a:lnTo>
                      <a:pt x="2" y="470"/>
                    </a:lnTo>
                    <a:lnTo>
                      <a:pt x="1" y="478"/>
                    </a:lnTo>
                    <a:lnTo>
                      <a:pt x="2" y="470"/>
                    </a:lnTo>
                    <a:lnTo>
                      <a:pt x="0" y="478"/>
                    </a:lnTo>
                    <a:lnTo>
                      <a:pt x="1" y="485"/>
                    </a:lnTo>
                    <a:lnTo>
                      <a:pt x="2" y="492"/>
                    </a:lnTo>
                    <a:lnTo>
                      <a:pt x="5" y="498"/>
                    </a:lnTo>
                    <a:lnTo>
                      <a:pt x="9" y="502"/>
                    </a:lnTo>
                    <a:lnTo>
                      <a:pt x="13" y="506"/>
                    </a:lnTo>
                    <a:lnTo>
                      <a:pt x="19" y="509"/>
                    </a:lnTo>
                    <a:lnTo>
                      <a:pt x="25" y="511"/>
                    </a:lnTo>
                    <a:lnTo>
                      <a:pt x="31" y="513"/>
                    </a:lnTo>
                    <a:lnTo>
                      <a:pt x="37" y="513"/>
                    </a:lnTo>
                    <a:lnTo>
                      <a:pt x="44" y="511"/>
                    </a:lnTo>
                    <a:lnTo>
                      <a:pt x="50" y="509"/>
                    </a:lnTo>
                    <a:lnTo>
                      <a:pt x="54" y="506"/>
                    </a:lnTo>
                    <a:lnTo>
                      <a:pt x="60" y="501"/>
                    </a:lnTo>
                    <a:lnTo>
                      <a:pt x="63" y="495"/>
                    </a:lnTo>
                    <a:lnTo>
                      <a:pt x="67" y="488"/>
                    </a:lnTo>
                    <a:lnTo>
                      <a:pt x="68" y="4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>
                <a:off x="3632040" y="4040280"/>
                <a:ext cx="120960" cy="169920"/>
              </a:xfrm>
              <a:custGeom>
                <a:avLst/>
                <a:gdLst/>
                <a:ahLst/>
                <a:rect l="l" t="t" r="r" b="b"/>
                <a:pathLst>
                  <a:path w="381" h="533">
                    <a:moveTo>
                      <a:pt x="329" y="470"/>
                    </a:moveTo>
                    <a:lnTo>
                      <a:pt x="367" y="470"/>
                    </a:lnTo>
                    <a:lnTo>
                      <a:pt x="334" y="446"/>
                    </a:lnTo>
                    <a:lnTo>
                      <a:pt x="302" y="420"/>
                    </a:lnTo>
                    <a:lnTo>
                      <a:pt x="272" y="394"/>
                    </a:lnTo>
                    <a:lnTo>
                      <a:pt x="244" y="367"/>
                    </a:lnTo>
                    <a:lnTo>
                      <a:pt x="216" y="338"/>
                    </a:lnTo>
                    <a:lnTo>
                      <a:pt x="191" y="308"/>
                    </a:lnTo>
                    <a:lnTo>
                      <a:pt x="168" y="279"/>
                    </a:lnTo>
                    <a:lnTo>
                      <a:pt x="147" y="248"/>
                    </a:lnTo>
                    <a:lnTo>
                      <a:pt x="138" y="233"/>
                    </a:lnTo>
                    <a:lnTo>
                      <a:pt x="128" y="218"/>
                    </a:lnTo>
                    <a:lnTo>
                      <a:pt x="120" y="202"/>
                    </a:lnTo>
                    <a:lnTo>
                      <a:pt x="112" y="187"/>
                    </a:lnTo>
                    <a:lnTo>
                      <a:pt x="104" y="172"/>
                    </a:lnTo>
                    <a:lnTo>
                      <a:pt x="98" y="156"/>
                    </a:lnTo>
                    <a:lnTo>
                      <a:pt x="92" y="141"/>
                    </a:lnTo>
                    <a:lnTo>
                      <a:pt x="86" y="125"/>
                    </a:lnTo>
                    <a:lnTo>
                      <a:pt x="82" y="110"/>
                    </a:lnTo>
                    <a:lnTo>
                      <a:pt x="78" y="94"/>
                    </a:lnTo>
                    <a:lnTo>
                      <a:pt x="75" y="79"/>
                    </a:lnTo>
                    <a:lnTo>
                      <a:pt x="71" y="63"/>
                    </a:lnTo>
                    <a:lnTo>
                      <a:pt x="69" y="48"/>
                    </a:lnTo>
                    <a:lnTo>
                      <a:pt x="68" y="32"/>
                    </a:lnTo>
                    <a:lnTo>
                      <a:pt x="68" y="17"/>
                    </a:lnTo>
                    <a:lnTo>
                      <a:pt x="68" y="2"/>
                    </a:lnTo>
                    <a:lnTo>
                      <a:pt x="1" y="0"/>
                    </a:lnTo>
                    <a:lnTo>
                      <a:pt x="0" y="19"/>
                    </a:lnTo>
                    <a:lnTo>
                      <a:pt x="1" y="37"/>
                    </a:lnTo>
                    <a:lnTo>
                      <a:pt x="3" y="55"/>
                    </a:lnTo>
                    <a:lnTo>
                      <a:pt x="5" y="73"/>
                    </a:lnTo>
                    <a:lnTo>
                      <a:pt x="9" y="92"/>
                    </a:lnTo>
                    <a:lnTo>
                      <a:pt x="12" y="110"/>
                    </a:lnTo>
                    <a:lnTo>
                      <a:pt x="17" y="128"/>
                    </a:lnTo>
                    <a:lnTo>
                      <a:pt x="22" y="146"/>
                    </a:lnTo>
                    <a:lnTo>
                      <a:pt x="29" y="164"/>
                    </a:lnTo>
                    <a:lnTo>
                      <a:pt x="36" y="182"/>
                    </a:lnTo>
                    <a:lnTo>
                      <a:pt x="43" y="199"/>
                    </a:lnTo>
                    <a:lnTo>
                      <a:pt x="52" y="217"/>
                    </a:lnTo>
                    <a:lnTo>
                      <a:pt x="60" y="234"/>
                    </a:lnTo>
                    <a:lnTo>
                      <a:pt x="70" y="251"/>
                    </a:lnTo>
                    <a:lnTo>
                      <a:pt x="81" y="268"/>
                    </a:lnTo>
                    <a:lnTo>
                      <a:pt x="91" y="286"/>
                    </a:lnTo>
                    <a:lnTo>
                      <a:pt x="114" y="319"/>
                    </a:lnTo>
                    <a:lnTo>
                      <a:pt x="139" y="352"/>
                    </a:lnTo>
                    <a:lnTo>
                      <a:pt x="166" y="383"/>
                    </a:lnTo>
                    <a:lnTo>
                      <a:pt x="196" y="413"/>
                    </a:lnTo>
                    <a:lnTo>
                      <a:pt x="226" y="443"/>
                    </a:lnTo>
                    <a:lnTo>
                      <a:pt x="258" y="472"/>
                    </a:lnTo>
                    <a:lnTo>
                      <a:pt x="293" y="500"/>
                    </a:lnTo>
                    <a:lnTo>
                      <a:pt x="328" y="526"/>
                    </a:lnTo>
                    <a:lnTo>
                      <a:pt x="367" y="526"/>
                    </a:lnTo>
                    <a:lnTo>
                      <a:pt x="328" y="526"/>
                    </a:lnTo>
                    <a:lnTo>
                      <a:pt x="335" y="530"/>
                    </a:lnTo>
                    <a:lnTo>
                      <a:pt x="342" y="532"/>
                    </a:lnTo>
                    <a:lnTo>
                      <a:pt x="348" y="533"/>
                    </a:lnTo>
                    <a:lnTo>
                      <a:pt x="354" y="532"/>
                    </a:lnTo>
                    <a:lnTo>
                      <a:pt x="361" y="530"/>
                    </a:lnTo>
                    <a:lnTo>
                      <a:pt x="366" y="526"/>
                    </a:lnTo>
                    <a:lnTo>
                      <a:pt x="371" y="523"/>
                    </a:lnTo>
                    <a:lnTo>
                      <a:pt x="375" y="518"/>
                    </a:lnTo>
                    <a:lnTo>
                      <a:pt x="378" y="513"/>
                    </a:lnTo>
                    <a:lnTo>
                      <a:pt x="380" y="507"/>
                    </a:lnTo>
                    <a:lnTo>
                      <a:pt x="381" y="500"/>
                    </a:lnTo>
                    <a:lnTo>
                      <a:pt x="381" y="494"/>
                    </a:lnTo>
                    <a:lnTo>
                      <a:pt x="380" y="488"/>
                    </a:lnTo>
                    <a:lnTo>
                      <a:pt x="377" y="482"/>
                    </a:lnTo>
                    <a:lnTo>
                      <a:pt x="373" y="476"/>
                    </a:lnTo>
                    <a:lnTo>
                      <a:pt x="367" y="470"/>
                    </a:lnTo>
                    <a:lnTo>
                      <a:pt x="329" y="4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3736800" y="4011480"/>
                <a:ext cx="150840" cy="195480"/>
              </a:xfrm>
              <a:custGeom>
                <a:avLst/>
                <a:gdLst/>
                <a:ahLst/>
                <a:rect l="l" t="t" r="r" b="b"/>
                <a:pathLst>
                  <a:path w="477" h="617">
                    <a:moveTo>
                      <a:pt x="410" y="40"/>
                    </a:moveTo>
                    <a:lnTo>
                      <a:pt x="409" y="30"/>
                    </a:lnTo>
                    <a:lnTo>
                      <a:pt x="406" y="56"/>
                    </a:lnTo>
                    <a:lnTo>
                      <a:pt x="401" y="81"/>
                    </a:lnTo>
                    <a:lnTo>
                      <a:pt x="396" y="104"/>
                    </a:lnTo>
                    <a:lnTo>
                      <a:pt x="391" y="127"/>
                    </a:lnTo>
                    <a:lnTo>
                      <a:pt x="385" y="148"/>
                    </a:lnTo>
                    <a:lnTo>
                      <a:pt x="380" y="169"/>
                    </a:lnTo>
                    <a:lnTo>
                      <a:pt x="373" y="188"/>
                    </a:lnTo>
                    <a:lnTo>
                      <a:pt x="366" y="207"/>
                    </a:lnTo>
                    <a:lnTo>
                      <a:pt x="358" y="225"/>
                    </a:lnTo>
                    <a:lnTo>
                      <a:pt x="350" y="241"/>
                    </a:lnTo>
                    <a:lnTo>
                      <a:pt x="342" y="258"/>
                    </a:lnTo>
                    <a:lnTo>
                      <a:pt x="333" y="273"/>
                    </a:lnTo>
                    <a:lnTo>
                      <a:pt x="324" y="288"/>
                    </a:lnTo>
                    <a:lnTo>
                      <a:pt x="314" y="302"/>
                    </a:lnTo>
                    <a:lnTo>
                      <a:pt x="303" y="317"/>
                    </a:lnTo>
                    <a:lnTo>
                      <a:pt x="292" y="331"/>
                    </a:lnTo>
                    <a:lnTo>
                      <a:pt x="280" y="345"/>
                    </a:lnTo>
                    <a:lnTo>
                      <a:pt x="267" y="358"/>
                    </a:lnTo>
                    <a:lnTo>
                      <a:pt x="254" y="372"/>
                    </a:lnTo>
                    <a:lnTo>
                      <a:pt x="239" y="385"/>
                    </a:lnTo>
                    <a:lnTo>
                      <a:pt x="209" y="412"/>
                    </a:lnTo>
                    <a:lnTo>
                      <a:pt x="174" y="439"/>
                    </a:lnTo>
                    <a:lnTo>
                      <a:pt x="136" y="467"/>
                    </a:lnTo>
                    <a:lnTo>
                      <a:pt x="95" y="496"/>
                    </a:lnTo>
                    <a:lnTo>
                      <a:pt x="49" y="528"/>
                    </a:lnTo>
                    <a:lnTo>
                      <a:pt x="0" y="561"/>
                    </a:lnTo>
                    <a:lnTo>
                      <a:pt x="38" y="617"/>
                    </a:lnTo>
                    <a:lnTo>
                      <a:pt x="87" y="584"/>
                    </a:lnTo>
                    <a:lnTo>
                      <a:pt x="133" y="552"/>
                    </a:lnTo>
                    <a:lnTo>
                      <a:pt x="176" y="521"/>
                    </a:lnTo>
                    <a:lnTo>
                      <a:pt x="215" y="493"/>
                    </a:lnTo>
                    <a:lnTo>
                      <a:pt x="252" y="463"/>
                    </a:lnTo>
                    <a:lnTo>
                      <a:pt x="285" y="435"/>
                    </a:lnTo>
                    <a:lnTo>
                      <a:pt x="301" y="420"/>
                    </a:lnTo>
                    <a:lnTo>
                      <a:pt x="316" y="405"/>
                    </a:lnTo>
                    <a:lnTo>
                      <a:pt x="329" y="390"/>
                    </a:lnTo>
                    <a:lnTo>
                      <a:pt x="343" y="374"/>
                    </a:lnTo>
                    <a:lnTo>
                      <a:pt x="357" y="358"/>
                    </a:lnTo>
                    <a:lnTo>
                      <a:pt x="368" y="342"/>
                    </a:lnTo>
                    <a:lnTo>
                      <a:pt x="380" y="325"/>
                    </a:lnTo>
                    <a:lnTo>
                      <a:pt x="391" y="308"/>
                    </a:lnTo>
                    <a:lnTo>
                      <a:pt x="401" y="290"/>
                    </a:lnTo>
                    <a:lnTo>
                      <a:pt x="410" y="271"/>
                    </a:lnTo>
                    <a:lnTo>
                      <a:pt x="420" y="251"/>
                    </a:lnTo>
                    <a:lnTo>
                      <a:pt x="429" y="232"/>
                    </a:lnTo>
                    <a:lnTo>
                      <a:pt x="437" y="211"/>
                    </a:lnTo>
                    <a:lnTo>
                      <a:pt x="443" y="190"/>
                    </a:lnTo>
                    <a:lnTo>
                      <a:pt x="450" y="167"/>
                    </a:lnTo>
                    <a:lnTo>
                      <a:pt x="456" y="143"/>
                    </a:lnTo>
                    <a:lnTo>
                      <a:pt x="462" y="119"/>
                    </a:lnTo>
                    <a:lnTo>
                      <a:pt x="467" y="94"/>
                    </a:lnTo>
                    <a:lnTo>
                      <a:pt x="472" y="66"/>
                    </a:lnTo>
                    <a:lnTo>
                      <a:pt x="477" y="39"/>
                    </a:lnTo>
                    <a:lnTo>
                      <a:pt x="477" y="29"/>
                    </a:lnTo>
                    <a:lnTo>
                      <a:pt x="477" y="39"/>
                    </a:lnTo>
                    <a:lnTo>
                      <a:pt x="477" y="31"/>
                    </a:lnTo>
                    <a:lnTo>
                      <a:pt x="475" y="24"/>
                    </a:lnTo>
                    <a:lnTo>
                      <a:pt x="473" y="17"/>
                    </a:lnTo>
                    <a:lnTo>
                      <a:pt x="470" y="13"/>
                    </a:lnTo>
                    <a:lnTo>
                      <a:pt x="465" y="8"/>
                    </a:lnTo>
                    <a:lnTo>
                      <a:pt x="459" y="5"/>
                    </a:lnTo>
                    <a:lnTo>
                      <a:pt x="454" y="2"/>
                    </a:lnTo>
                    <a:lnTo>
                      <a:pt x="448" y="1"/>
                    </a:lnTo>
                    <a:lnTo>
                      <a:pt x="441" y="0"/>
                    </a:lnTo>
                    <a:lnTo>
                      <a:pt x="436" y="1"/>
                    </a:lnTo>
                    <a:lnTo>
                      <a:pt x="430" y="2"/>
                    </a:lnTo>
                    <a:lnTo>
                      <a:pt x="424" y="6"/>
                    </a:lnTo>
                    <a:lnTo>
                      <a:pt x="418" y="10"/>
                    </a:lnTo>
                    <a:lnTo>
                      <a:pt x="415" y="15"/>
                    </a:lnTo>
                    <a:lnTo>
                      <a:pt x="412" y="22"/>
                    </a:lnTo>
                    <a:lnTo>
                      <a:pt x="409" y="30"/>
                    </a:lnTo>
                    <a:lnTo>
                      <a:pt x="410" y="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3736800" y="3887640"/>
                <a:ext cx="150840" cy="136800"/>
              </a:xfrm>
              <a:custGeom>
                <a:avLst/>
                <a:gdLst/>
                <a:ahLst/>
                <a:rect l="l" t="t" r="r" b="b"/>
                <a:pathLst>
                  <a:path w="476" h="428">
                    <a:moveTo>
                      <a:pt x="43" y="66"/>
                    </a:moveTo>
                    <a:lnTo>
                      <a:pt x="30" y="66"/>
                    </a:lnTo>
                    <a:lnTo>
                      <a:pt x="50" y="70"/>
                    </a:lnTo>
                    <a:lnTo>
                      <a:pt x="70" y="73"/>
                    </a:lnTo>
                    <a:lnTo>
                      <a:pt x="89" y="78"/>
                    </a:lnTo>
                    <a:lnTo>
                      <a:pt x="108" y="82"/>
                    </a:lnTo>
                    <a:lnTo>
                      <a:pt x="126" y="88"/>
                    </a:lnTo>
                    <a:lnTo>
                      <a:pt x="144" y="94"/>
                    </a:lnTo>
                    <a:lnTo>
                      <a:pt x="160" y="99"/>
                    </a:lnTo>
                    <a:lnTo>
                      <a:pt x="177" y="106"/>
                    </a:lnTo>
                    <a:lnTo>
                      <a:pt x="192" y="113"/>
                    </a:lnTo>
                    <a:lnTo>
                      <a:pt x="208" y="121"/>
                    </a:lnTo>
                    <a:lnTo>
                      <a:pt x="221" y="130"/>
                    </a:lnTo>
                    <a:lnTo>
                      <a:pt x="236" y="138"/>
                    </a:lnTo>
                    <a:lnTo>
                      <a:pt x="249" y="147"/>
                    </a:lnTo>
                    <a:lnTo>
                      <a:pt x="262" y="158"/>
                    </a:lnTo>
                    <a:lnTo>
                      <a:pt x="275" y="168"/>
                    </a:lnTo>
                    <a:lnTo>
                      <a:pt x="286" y="179"/>
                    </a:lnTo>
                    <a:lnTo>
                      <a:pt x="298" y="191"/>
                    </a:lnTo>
                    <a:lnTo>
                      <a:pt x="309" y="202"/>
                    </a:lnTo>
                    <a:lnTo>
                      <a:pt x="319" y="215"/>
                    </a:lnTo>
                    <a:lnTo>
                      <a:pt x="328" y="227"/>
                    </a:lnTo>
                    <a:lnTo>
                      <a:pt x="339" y="241"/>
                    </a:lnTo>
                    <a:lnTo>
                      <a:pt x="347" y="256"/>
                    </a:lnTo>
                    <a:lnTo>
                      <a:pt x="356" y="269"/>
                    </a:lnTo>
                    <a:lnTo>
                      <a:pt x="364" y="285"/>
                    </a:lnTo>
                    <a:lnTo>
                      <a:pt x="371" y="300"/>
                    </a:lnTo>
                    <a:lnTo>
                      <a:pt x="378" y="317"/>
                    </a:lnTo>
                    <a:lnTo>
                      <a:pt x="384" y="334"/>
                    </a:lnTo>
                    <a:lnTo>
                      <a:pt x="390" y="352"/>
                    </a:lnTo>
                    <a:lnTo>
                      <a:pt x="396" y="370"/>
                    </a:lnTo>
                    <a:lnTo>
                      <a:pt x="400" y="389"/>
                    </a:lnTo>
                    <a:lnTo>
                      <a:pt x="405" y="409"/>
                    </a:lnTo>
                    <a:lnTo>
                      <a:pt x="409" y="428"/>
                    </a:lnTo>
                    <a:lnTo>
                      <a:pt x="476" y="417"/>
                    </a:lnTo>
                    <a:lnTo>
                      <a:pt x="471" y="394"/>
                    </a:lnTo>
                    <a:lnTo>
                      <a:pt x="466" y="373"/>
                    </a:lnTo>
                    <a:lnTo>
                      <a:pt x="461" y="352"/>
                    </a:lnTo>
                    <a:lnTo>
                      <a:pt x="454" y="331"/>
                    </a:lnTo>
                    <a:lnTo>
                      <a:pt x="447" y="312"/>
                    </a:lnTo>
                    <a:lnTo>
                      <a:pt x="440" y="292"/>
                    </a:lnTo>
                    <a:lnTo>
                      <a:pt x="432" y="274"/>
                    </a:lnTo>
                    <a:lnTo>
                      <a:pt x="424" y="255"/>
                    </a:lnTo>
                    <a:lnTo>
                      <a:pt x="415" y="238"/>
                    </a:lnTo>
                    <a:lnTo>
                      <a:pt x="405" y="220"/>
                    </a:lnTo>
                    <a:lnTo>
                      <a:pt x="395" y="204"/>
                    </a:lnTo>
                    <a:lnTo>
                      <a:pt x="383" y="188"/>
                    </a:lnTo>
                    <a:lnTo>
                      <a:pt x="372" y="172"/>
                    </a:lnTo>
                    <a:lnTo>
                      <a:pt x="359" y="158"/>
                    </a:lnTo>
                    <a:lnTo>
                      <a:pt x="347" y="144"/>
                    </a:lnTo>
                    <a:lnTo>
                      <a:pt x="333" y="130"/>
                    </a:lnTo>
                    <a:lnTo>
                      <a:pt x="318" y="118"/>
                    </a:lnTo>
                    <a:lnTo>
                      <a:pt x="305" y="105"/>
                    </a:lnTo>
                    <a:lnTo>
                      <a:pt x="289" y="94"/>
                    </a:lnTo>
                    <a:lnTo>
                      <a:pt x="273" y="82"/>
                    </a:lnTo>
                    <a:lnTo>
                      <a:pt x="257" y="72"/>
                    </a:lnTo>
                    <a:lnTo>
                      <a:pt x="240" y="62"/>
                    </a:lnTo>
                    <a:lnTo>
                      <a:pt x="221" y="53"/>
                    </a:lnTo>
                    <a:lnTo>
                      <a:pt x="203" y="45"/>
                    </a:lnTo>
                    <a:lnTo>
                      <a:pt x="185" y="37"/>
                    </a:lnTo>
                    <a:lnTo>
                      <a:pt x="165" y="30"/>
                    </a:lnTo>
                    <a:lnTo>
                      <a:pt x="146" y="23"/>
                    </a:lnTo>
                    <a:lnTo>
                      <a:pt x="126" y="17"/>
                    </a:lnTo>
                    <a:lnTo>
                      <a:pt x="105" y="12"/>
                    </a:lnTo>
                    <a:lnTo>
                      <a:pt x="83" y="7"/>
                    </a:lnTo>
                    <a:lnTo>
                      <a:pt x="62" y="4"/>
                    </a:lnTo>
                    <a:lnTo>
                      <a:pt x="39" y="0"/>
                    </a:lnTo>
                    <a:lnTo>
                      <a:pt x="25" y="1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7" y="4"/>
                    </a:lnTo>
                    <a:lnTo>
                      <a:pt x="13" y="7"/>
                    </a:lnTo>
                    <a:lnTo>
                      <a:pt x="8" y="12"/>
                    </a:lnTo>
                    <a:lnTo>
                      <a:pt x="5" y="17"/>
                    </a:lnTo>
                    <a:lnTo>
                      <a:pt x="2" y="23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4" y="47"/>
                    </a:lnTo>
                    <a:lnTo>
                      <a:pt x="6" y="53"/>
                    </a:lnTo>
                    <a:lnTo>
                      <a:pt x="10" y="58"/>
                    </a:lnTo>
                    <a:lnTo>
                      <a:pt x="16" y="62"/>
                    </a:lnTo>
                    <a:lnTo>
                      <a:pt x="22" y="65"/>
                    </a:lnTo>
                    <a:lnTo>
                      <a:pt x="30" y="66"/>
                    </a:lnTo>
                    <a:lnTo>
                      <a:pt x="43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3684600" y="400680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4" h="63">
                    <a:moveTo>
                      <a:pt x="15" y="0"/>
                    </a:moveTo>
                    <a:lnTo>
                      <a:pt x="9" y="6"/>
                    </a:lnTo>
                    <a:lnTo>
                      <a:pt x="5" y="12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3" y="43"/>
                    </a:lnTo>
                    <a:lnTo>
                      <a:pt x="7" y="48"/>
                    </a:lnTo>
                    <a:lnTo>
                      <a:pt x="10" y="53"/>
                    </a:lnTo>
                    <a:lnTo>
                      <a:pt x="15" y="57"/>
                    </a:lnTo>
                    <a:lnTo>
                      <a:pt x="21" y="60"/>
                    </a:lnTo>
                    <a:lnTo>
                      <a:pt x="26" y="62"/>
                    </a:lnTo>
                    <a:lnTo>
                      <a:pt x="33" y="63"/>
                    </a:lnTo>
                    <a:lnTo>
                      <a:pt x="40" y="63"/>
                    </a:lnTo>
                    <a:lnTo>
                      <a:pt x="47" y="61"/>
                    </a:lnTo>
                    <a:lnTo>
                      <a:pt x="54" y="5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3689280" y="3967200"/>
                <a:ext cx="133560" cy="57240"/>
              </a:xfrm>
              <a:custGeom>
                <a:avLst/>
                <a:gdLst/>
                <a:ahLst/>
                <a:rect l="l" t="t" r="r" b="b"/>
                <a:pathLst>
                  <a:path w="417" h="181">
                    <a:moveTo>
                      <a:pt x="417" y="14"/>
                    </a:moveTo>
                    <a:lnTo>
                      <a:pt x="400" y="8"/>
                    </a:lnTo>
                    <a:lnTo>
                      <a:pt x="383" y="4"/>
                    </a:lnTo>
                    <a:lnTo>
                      <a:pt x="366" y="1"/>
                    </a:lnTo>
                    <a:lnTo>
                      <a:pt x="348" y="0"/>
                    </a:lnTo>
                    <a:lnTo>
                      <a:pt x="330" y="0"/>
                    </a:lnTo>
                    <a:lnTo>
                      <a:pt x="312" y="1"/>
                    </a:lnTo>
                    <a:lnTo>
                      <a:pt x="295" y="3"/>
                    </a:lnTo>
                    <a:lnTo>
                      <a:pt x="277" y="6"/>
                    </a:lnTo>
                    <a:lnTo>
                      <a:pt x="260" y="9"/>
                    </a:lnTo>
                    <a:lnTo>
                      <a:pt x="243" y="14"/>
                    </a:lnTo>
                    <a:lnTo>
                      <a:pt x="226" y="18"/>
                    </a:lnTo>
                    <a:lnTo>
                      <a:pt x="207" y="23"/>
                    </a:lnTo>
                    <a:lnTo>
                      <a:pt x="175" y="35"/>
                    </a:lnTo>
                    <a:lnTo>
                      <a:pt x="143" y="48"/>
                    </a:lnTo>
                    <a:lnTo>
                      <a:pt x="114" y="62"/>
                    </a:lnTo>
                    <a:lnTo>
                      <a:pt x="88" y="75"/>
                    </a:lnTo>
                    <a:lnTo>
                      <a:pt x="63" y="88"/>
                    </a:lnTo>
                    <a:lnTo>
                      <a:pt x="42" y="100"/>
                    </a:lnTo>
                    <a:lnTo>
                      <a:pt x="12" y="119"/>
                    </a:lnTo>
                    <a:lnTo>
                      <a:pt x="0" y="125"/>
                    </a:lnTo>
                    <a:lnTo>
                      <a:pt x="39" y="181"/>
                    </a:lnTo>
                    <a:lnTo>
                      <a:pt x="48" y="176"/>
                    </a:lnTo>
                    <a:lnTo>
                      <a:pt x="76" y="157"/>
                    </a:lnTo>
                    <a:lnTo>
                      <a:pt x="96" y="147"/>
                    </a:lnTo>
                    <a:lnTo>
                      <a:pt x="118" y="135"/>
                    </a:lnTo>
                    <a:lnTo>
                      <a:pt x="143" y="122"/>
                    </a:lnTo>
                    <a:lnTo>
                      <a:pt x="171" y="109"/>
                    </a:lnTo>
                    <a:lnTo>
                      <a:pt x="199" y="98"/>
                    </a:lnTo>
                    <a:lnTo>
                      <a:pt x="229" y="87"/>
                    </a:lnTo>
                    <a:lnTo>
                      <a:pt x="244" y="83"/>
                    </a:lnTo>
                    <a:lnTo>
                      <a:pt x="259" y="79"/>
                    </a:lnTo>
                    <a:lnTo>
                      <a:pt x="273" y="75"/>
                    </a:lnTo>
                    <a:lnTo>
                      <a:pt x="288" y="72"/>
                    </a:lnTo>
                    <a:lnTo>
                      <a:pt x="303" y="70"/>
                    </a:lnTo>
                    <a:lnTo>
                      <a:pt x="318" y="68"/>
                    </a:lnTo>
                    <a:lnTo>
                      <a:pt x="332" y="67"/>
                    </a:lnTo>
                    <a:lnTo>
                      <a:pt x="345" y="67"/>
                    </a:lnTo>
                    <a:lnTo>
                      <a:pt x="358" y="68"/>
                    </a:lnTo>
                    <a:lnTo>
                      <a:pt x="370" y="71"/>
                    </a:lnTo>
                    <a:lnTo>
                      <a:pt x="383" y="73"/>
                    </a:lnTo>
                    <a:lnTo>
                      <a:pt x="393" y="76"/>
                    </a:lnTo>
                    <a:lnTo>
                      <a:pt x="417" y="1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>
                <a:off x="3814920" y="39718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0" y="62"/>
                    </a:moveTo>
                    <a:lnTo>
                      <a:pt x="8" y="65"/>
                    </a:lnTo>
                    <a:lnTo>
                      <a:pt x="15" y="66"/>
                    </a:lnTo>
                    <a:lnTo>
                      <a:pt x="22" y="65"/>
                    </a:lnTo>
                    <a:lnTo>
                      <a:pt x="27" y="61"/>
                    </a:lnTo>
                    <a:lnTo>
                      <a:pt x="33" y="58"/>
                    </a:lnTo>
                    <a:lnTo>
                      <a:pt x="38" y="54"/>
                    </a:lnTo>
                    <a:lnTo>
                      <a:pt x="41" y="49"/>
                    </a:lnTo>
                    <a:lnTo>
                      <a:pt x="43" y="43"/>
                    </a:lnTo>
                    <a:lnTo>
                      <a:pt x="46" y="37"/>
                    </a:lnTo>
                    <a:lnTo>
                      <a:pt x="46" y="30"/>
                    </a:lnTo>
                    <a:lnTo>
                      <a:pt x="46" y="25"/>
                    </a:lnTo>
                    <a:lnTo>
                      <a:pt x="45" y="18"/>
                    </a:lnTo>
                    <a:lnTo>
                      <a:pt x="41" y="12"/>
                    </a:lnTo>
                    <a:lnTo>
                      <a:pt x="37" y="8"/>
                    </a:lnTo>
                    <a:lnTo>
                      <a:pt x="31" y="3"/>
                    </a:lnTo>
                    <a:lnTo>
                      <a:pt x="2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3730680" y="393552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65" y="20"/>
                    </a:moveTo>
                    <a:lnTo>
                      <a:pt x="60" y="13"/>
                    </a:lnTo>
                    <a:lnTo>
                      <a:pt x="56" y="7"/>
                    </a:lnTo>
                    <a:lnTo>
                      <a:pt x="50" y="4"/>
                    </a:lnTo>
                    <a:lnTo>
                      <a:pt x="44" y="2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3"/>
                    </a:lnTo>
                    <a:lnTo>
                      <a:pt x="15" y="6"/>
                    </a:lnTo>
                    <a:lnTo>
                      <a:pt x="10" y="11"/>
                    </a:lnTo>
                    <a:lnTo>
                      <a:pt x="5" y="15"/>
                    </a:lnTo>
                    <a:lnTo>
                      <a:pt x="2" y="21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40"/>
                    </a:lnTo>
                    <a:lnTo>
                      <a:pt x="3" y="47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3732120" y="3941640"/>
                <a:ext cx="55800" cy="146160"/>
              </a:xfrm>
              <a:custGeom>
                <a:avLst/>
                <a:gdLst/>
                <a:ahLst/>
                <a:rect l="l" t="t" r="r" b="b"/>
                <a:pathLst>
                  <a:path w="176" h="461">
                    <a:moveTo>
                      <a:pt x="176" y="461"/>
                    </a:moveTo>
                    <a:lnTo>
                      <a:pt x="175" y="420"/>
                    </a:lnTo>
                    <a:lnTo>
                      <a:pt x="171" y="379"/>
                    </a:lnTo>
                    <a:lnTo>
                      <a:pt x="166" y="337"/>
                    </a:lnTo>
                    <a:lnTo>
                      <a:pt x="158" y="298"/>
                    </a:lnTo>
                    <a:lnTo>
                      <a:pt x="150" y="258"/>
                    </a:lnTo>
                    <a:lnTo>
                      <a:pt x="139" y="220"/>
                    </a:lnTo>
                    <a:lnTo>
                      <a:pt x="129" y="183"/>
                    </a:lnTo>
                    <a:lnTo>
                      <a:pt x="119" y="149"/>
                    </a:lnTo>
                    <a:lnTo>
                      <a:pt x="98" y="90"/>
                    </a:lnTo>
                    <a:lnTo>
                      <a:pt x="80" y="42"/>
                    </a:lnTo>
                    <a:lnTo>
                      <a:pt x="66" y="11"/>
                    </a:lnTo>
                    <a:lnTo>
                      <a:pt x="62" y="0"/>
                    </a:lnTo>
                    <a:lnTo>
                      <a:pt x="0" y="27"/>
                    </a:lnTo>
                    <a:lnTo>
                      <a:pt x="5" y="37"/>
                    </a:lnTo>
                    <a:lnTo>
                      <a:pt x="17" y="67"/>
                    </a:lnTo>
                    <a:lnTo>
                      <a:pt x="34" y="113"/>
                    </a:lnTo>
                    <a:lnTo>
                      <a:pt x="55" y="171"/>
                    </a:lnTo>
                    <a:lnTo>
                      <a:pt x="64" y="203"/>
                    </a:lnTo>
                    <a:lnTo>
                      <a:pt x="74" y="237"/>
                    </a:lnTo>
                    <a:lnTo>
                      <a:pt x="83" y="274"/>
                    </a:lnTo>
                    <a:lnTo>
                      <a:pt x="91" y="310"/>
                    </a:lnTo>
                    <a:lnTo>
                      <a:pt x="98" y="348"/>
                    </a:lnTo>
                    <a:lnTo>
                      <a:pt x="104" y="387"/>
                    </a:lnTo>
                    <a:lnTo>
                      <a:pt x="107" y="423"/>
                    </a:lnTo>
                    <a:lnTo>
                      <a:pt x="109" y="461"/>
                    </a:lnTo>
                    <a:lnTo>
                      <a:pt x="176" y="4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3767040" y="408780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67" h="33">
                    <a:moveTo>
                      <a:pt x="0" y="0"/>
                    </a:moveTo>
                    <a:lnTo>
                      <a:pt x="0" y="8"/>
                    </a:lnTo>
                    <a:lnTo>
                      <a:pt x="2" y="15"/>
                    </a:lnTo>
                    <a:lnTo>
                      <a:pt x="5" y="20"/>
                    </a:lnTo>
                    <a:lnTo>
                      <a:pt x="10" y="25"/>
                    </a:lnTo>
                    <a:lnTo>
                      <a:pt x="15" y="28"/>
                    </a:lnTo>
                    <a:lnTo>
                      <a:pt x="21" y="32"/>
                    </a:lnTo>
                    <a:lnTo>
                      <a:pt x="27" y="33"/>
                    </a:lnTo>
                    <a:lnTo>
                      <a:pt x="33" y="33"/>
                    </a:lnTo>
                    <a:lnTo>
                      <a:pt x="39" y="33"/>
                    </a:lnTo>
                    <a:lnTo>
                      <a:pt x="45" y="32"/>
                    </a:lnTo>
                    <a:lnTo>
                      <a:pt x="51" y="28"/>
                    </a:lnTo>
                    <a:lnTo>
                      <a:pt x="57" y="25"/>
                    </a:lnTo>
                    <a:lnTo>
                      <a:pt x="61" y="20"/>
                    </a:lnTo>
                    <a:lnTo>
                      <a:pt x="63" y="15"/>
                    </a:lnTo>
                    <a:lnTo>
                      <a:pt x="66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3747960" y="41036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65" y="0"/>
                    </a:moveTo>
                    <a:lnTo>
                      <a:pt x="72" y="1"/>
                    </a:lnTo>
                    <a:lnTo>
                      <a:pt x="79" y="2"/>
                    </a:lnTo>
                    <a:lnTo>
                      <a:pt x="85" y="4"/>
                    </a:lnTo>
                    <a:lnTo>
                      <a:pt x="90" y="6"/>
                    </a:lnTo>
                    <a:lnTo>
                      <a:pt x="96" y="9"/>
                    </a:lnTo>
                    <a:lnTo>
                      <a:pt x="102" y="13"/>
                    </a:lnTo>
                    <a:lnTo>
                      <a:pt x="108" y="16"/>
                    </a:lnTo>
                    <a:lnTo>
                      <a:pt x="112" y="21"/>
                    </a:lnTo>
                    <a:lnTo>
                      <a:pt x="116" y="25"/>
                    </a:lnTo>
                    <a:lnTo>
                      <a:pt x="120" y="31"/>
                    </a:lnTo>
                    <a:lnTo>
                      <a:pt x="122" y="37"/>
                    </a:lnTo>
                    <a:lnTo>
                      <a:pt x="126" y="42"/>
                    </a:lnTo>
                    <a:lnTo>
                      <a:pt x="128" y="48"/>
                    </a:lnTo>
                    <a:lnTo>
                      <a:pt x="129" y="55"/>
                    </a:lnTo>
                    <a:lnTo>
                      <a:pt x="130" y="62"/>
                    </a:lnTo>
                    <a:lnTo>
                      <a:pt x="130" y="67"/>
                    </a:lnTo>
                    <a:lnTo>
                      <a:pt x="130" y="74"/>
                    </a:lnTo>
                    <a:lnTo>
                      <a:pt x="129" y="80"/>
                    </a:lnTo>
                    <a:lnTo>
                      <a:pt x="128" y="87"/>
                    </a:lnTo>
                    <a:lnTo>
                      <a:pt x="126" y="93"/>
                    </a:lnTo>
                    <a:lnTo>
                      <a:pt x="122" y="98"/>
                    </a:lnTo>
                    <a:lnTo>
                      <a:pt x="120" y="104"/>
                    </a:lnTo>
                    <a:lnTo>
                      <a:pt x="116" y="109"/>
                    </a:lnTo>
                    <a:lnTo>
                      <a:pt x="112" y="113"/>
                    </a:lnTo>
                    <a:lnTo>
                      <a:pt x="108" y="118"/>
                    </a:lnTo>
                    <a:lnTo>
                      <a:pt x="102" y="121"/>
                    </a:lnTo>
                    <a:lnTo>
                      <a:pt x="96" y="125"/>
                    </a:lnTo>
                    <a:lnTo>
                      <a:pt x="90" y="128"/>
                    </a:lnTo>
                    <a:lnTo>
                      <a:pt x="85" y="130"/>
                    </a:lnTo>
                    <a:lnTo>
                      <a:pt x="79" y="131"/>
                    </a:lnTo>
                    <a:lnTo>
                      <a:pt x="72" y="133"/>
                    </a:lnTo>
                    <a:lnTo>
                      <a:pt x="65" y="134"/>
                    </a:lnTo>
                    <a:lnTo>
                      <a:pt x="60" y="133"/>
                    </a:lnTo>
                    <a:lnTo>
                      <a:pt x="53" y="131"/>
                    </a:lnTo>
                    <a:lnTo>
                      <a:pt x="47" y="130"/>
                    </a:lnTo>
                    <a:lnTo>
                      <a:pt x="41" y="128"/>
                    </a:lnTo>
                    <a:lnTo>
                      <a:pt x="36" y="125"/>
                    </a:lnTo>
                    <a:lnTo>
                      <a:pt x="30" y="121"/>
                    </a:lnTo>
                    <a:lnTo>
                      <a:pt x="25" y="118"/>
                    </a:lnTo>
                    <a:lnTo>
                      <a:pt x="20" y="113"/>
                    </a:lnTo>
                    <a:lnTo>
                      <a:pt x="16" y="109"/>
                    </a:lnTo>
                    <a:lnTo>
                      <a:pt x="12" y="104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4" y="87"/>
                    </a:lnTo>
                    <a:lnTo>
                      <a:pt x="2" y="80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55"/>
                    </a:lnTo>
                    <a:lnTo>
                      <a:pt x="4" y="48"/>
                    </a:lnTo>
                    <a:lnTo>
                      <a:pt x="6" y="42"/>
                    </a:lnTo>
                    <a:lnTo>
                      <a:pt x="8" y="37"/>
                    </a:lnTo>
                    <a:lnTo>
                      <a:pt x="12" y="31"/>
                    </a:lnTo>
                    <a:lnTo>
                      <a:pt x="16" y="25"/>
                    </a:lnTo>
                    <a:lnTo>
                      <a:pt x="20" y="21"/>
                    </a:lnTo>
                    <a:lnTo>
                      <a:pt x="25" y="16"/>
                    </a:lnTo>
                    <a:lnTo>
                      <a:pt x="30" y="13"/>
                    </a:lnTo>
                    <a:lnTo>
                      <a:pt x="36" y="9"/>
                    </a:lnTo>
                    <a:lnTo>
                      <a:pt x="41" y="6"/>
                    </a:lnTo>
                    <a:lnTo>
                      <a:pt x="47" y="4"/>
                    </a:lnTo>
                    <a:lnTo>
                      <a:pt x="53" y="2"/>
                    </a:lnTo>
                    <a:lnTo>
                      <a:pt x="60" y="1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3768840" y="40942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100" y="100"/>
                    </a:moveTo>
                    <a:lnTo>
                      <a:pt x="100" y="100"/>
                    </a:lnTo>
                    <a:lnTo>
                      <a:pt x="98" y="91"/>
                    </a:lnTo>
                    <a:lnTo>
                      <a:pt x="97" y="81"/>
                    </a:lnTo>
                    <a:lnTo>
                      <a:pt x="95" y="72"/>
                    </a:lnTo>
                    <a:lnTo>
                      <a:pt x="92" y="63"/>
                    </a:lnTo>
                    <a:lnTo>
                      <a:pt x="88" y="54"/>
                    </a:lnTo>
                    <a:lnTo>
                      <a:pt x="82" y="46"/>
                    </a:lnTo>
                    <a:lnTo>
                      <a:pt x="78" y="38"/>
                    </a:lnTo>
                    <a:lnTo>
                      <a:pt x="71" y="31"/>
                    </a:lnTo>
                    <a:lnTo>
                      <a:pt x="64" y="24"/>
                    </a:lnTo>
                    <a:lnTo>
                      <a:pt x="56" y="18"/>
                    </a:lnTo>
                    <a:lnTo>
                      <a:pt x="48" y="13"/>
                    </a:lnTo>
                    <a:lnTo>
                      <a:pt x="40" y="8"/>
                    </a:lnTo>
                    <a:lnTo>
                      <a:pt x="31" y="5"/>
                    </a:lnTo>
                    <a:lnTo>
                      <a:pt x="21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4" y="67"/>
                    </a:lnTo>
                    <a:lnTo>
                      <a:pt x="6" y="67"/>
                    </a:lnTo>
                    <a:lnTo>
                      <a:pt x="9" y="69"/>
                    </a:lnTo>
                    <a:lnTo>
                      <a:pt x="12" y="70"/>
                    </a:lnTo>
                    <a:lnTo>
                      <a:pt x="15" y="71"/>
                    </a:lnTo>
                    <a:lnTo>
                      <a:pt x="17" y="73"/>
                    </a:lnTo>
                    <a:lnTo>
                      <a:pt x="20" y="74"/>
                    </a:lnTo>
                    <a:lnTo>
                      <a:pt x="22" y="77"/>
                    </a:lnTo>
                    <a:lnTo>
                      <a:pt x="24" y="80"/>
                    </a:lnTo>
                    <a:lnTo>
                      <a:pt x="27" y="82"/>
                    </a:lnTo>
                    <a:lnTo>
                      <a:pt x="28" y="85"/>
                    </a:lnTo>
                    <a:lnTo>
                      <a:pt x="29" y="88"/>
                    </a:lnTo>
                    <a:lnTo>
                      <a:pt x="30" y="91"/>
                    </a:lnTo>
                    <a:lnTo>
                      <a:pt x="31" y="95"/>
                    </a:lnTo>
                    <a:lnTo>
                      <a:pt x="32" y="98"/>
                    </a:lnTo>
                    <a:lnTo>
                      <a:pt x="32" y="100"/>
                    </a:lnTo>
                    <a:lnTo>
                      <a:pt x="32" y="100"/>
                    </a:lnTo>
                    <a:lnTo>
                      <a:pt x="100" y="10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3768840" y="412596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0" y="100"/>
                    </a:moveTo>
                    <a:lnTo>
                      <a:pt x="0" y="100"/>
                    </a:lnTo>
                    <a:lnTo>
                      <a:pt x="11" y="100"/>
                    </a:lnTo>
                    <a:lnTo>
                      <a:pt x="21" y="97"/>
                    </a:lnTo>
                    <a:lnTo>
                      <a:pt x="30" y="95"/>
                    </a:lnTo>
                    <a:lnTo>
                      <a:pt x="40" y="92"/>
                    </a:lnTo>
                    <a:lnTo>
                      <a:pt x="48" y="87"/>
                    </a:lnTo>
                    <a:lnTo>
                      <a:pt x="56" y="83"/>
                    </a:lnTo>
                    <a:lnTo>
                      <a:pt x="64" y="76"/>
                    </a:lnTo>
                    <a:lnTo>
                      <a:pt x="71" y="70"/>
                    </a:lnTo>
                    <a:lnTo>
                      <a:pt x="77" y="63"/>
                    </a:lnTo>
                    <a:lnTo>
                      <a:pt x="82" y="55"/>
                    </a:lnTo>
                    <a:lnTo>
                      <a:pt x="87" y="47"/>
                    </a:lnTo>
                    <a:lnTo>
                      <a:pt x="92" y="38"/>
                    </a:lnTo>
                    <a:lnTo>
                      <a:pt x="95" y="30"/>
                    </a:lnTo>
                    <a:lnTo>
                      <a:pt x="97" y="21"/>
                    </a:lnTo>
                    <a:lnTo>
                      <a:pt x="98" y="11"/>
                    </a:lnTo>
                    <a:lnTo>
                      <a:pt x="100" y="0"/>
                    </a:lnTo>
                    <a:lnTo>
                      <a:pt x="32" y="0"/>
                    </a:lnTo>
                    <a:lnTo>
                      <a:pt x="32" y="4"/>
                    </a:lnTo>
                    <a:lnTo>
                      <a:pt x="31" y="6"/>
                    </a:lnTo>
                    <a:lnTo>
                      <a:pt x="30" y="10"/>
                    </a:lnTo>
                    <a:lnTo>
                      <a:pt x="30" y="13"/>
                    </a:lnTo>
                    <a:lnTo>
                      <a:pt x="28" y="15"/>
                    </a:lnTo>
                    <a:lnTo>
                      <a:pt x="27" y="18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20" y="26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2" y="30"/>
                    </a:lnTo>
                    <a:lnTo>
                      <a:pt x="9" y="31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3736800" y="4125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2" y="21"/>
                    </a:lnTo>
                    <a:lnTo>
                      <a:pt x="6" y="30"/>
                    </a:lnTo>
                    <a:lnTo>
                      <a:pt x="9" y="39"/>
                    </a:lnTo>
                    <a:lnTo>
                      <a:pt x="13" y="47"/>
                    </a:lnTo>
                    <a:lnTo>
                      <a:pt x="18" y="55"/>
                    </a:lnTo>
                    <a:lnTo>
                      <a:pt x="24" y="63"/>
                    </a:lnTo>
                    <a:lnTo>
                      <a:pt x="31" y="70"/>
                    </a:lnTo>
                    <a:lnTo>
                      <a:pt x="37" y="77"/>
                    </a:lnTo>
                    <a:lnTo>
                      <a:pt x="45" y="83"/>
                    </a:lnTo>
                    <a:lnTo>
                      <a:pt x="53" y="87"/>
                    </a:lnTo>
                    <a:lnTo>
                      <a:pt x="62" y="92"/>
                    </a:lnTo>
                    <a:lnTo>
                      <a:pt x="70" y="95"/>
                    </a:lnTo>
                    <a:lnTo>
                      <a:pt x="80" y="97"/>
                    </a:lnTo>
                    <a:lnTo>
                      <a:pt x="89" y="100"/>
                    </a:lnTo>
                    <a:lnTo>
                      <a:pt x="99" y="100"/>
                    </a:lnTo>
                    <a:lnTo>
                      <a:pt x="99" y="32"/>
                    </a:lnTo>
                    <a:lnTo>
                      <a:pt x="97" y="32"/>
                    </a:lnTo>
                    <a:lnTo>
                      <a:pt x="95" y="32"/>
                    </a:lnTo>
                    <a:lnTo>
                      <a:pt x="91" y="31"/>
                    </a:lnTo>
                    <a:lnTo>
                      <a:pt x="89" y="30"/>
                    </a:lnTo>
                    <a:lnTo>
                      <a:pt x="86" y="29"/>
                    </a:lnTo>
                    <a:lnTo>
                      <a:pt x="83" y="27"/>
                    </a:lnTo>
                    <a:lnTo>
                      <a:pt x="81" y="24"/>
                    </a:lnTo>
                    <a:lnTo>
                      <a:pt x="78" y="22"/>
                    </a:lnTo>
                    <a:lnTo>
                      <a:pt x="75" y="20"/>
                    </a:lnTo>
                    <a:lnTo>
                      <a:pt x="74" y="18"/>
                    </a:lnTo>
                    <a:lnTo>
                      <a:pt x="72" y="14"/>
                    </a:lnTo>
                    <a:lnTo>
                      <a:pt x="71" y="12"/>
                    </a:lnTo>
                    <a:lnTo>
                      <a:pt x="70" y="8"/>
                    </a:lnTo>
                    <a:lnTo>
                      <a:pt x="69" y="6"/>
                    </a:lnTo>
                    <a:lnTo>
                      <a:pt x="69" y="4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3736800" y="40942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99" y="0"/>
                    </a:moveTo>
                    <a:lnTo>
                      <a:pt x="99" y="0"/>
                    </a:lnTo>
                    <a:lnTo>
                      <a:pt x="89" y="0"/>
                    </a:lnTo>
                    <a:lnTo>
                      <a:pt x="79" y="2"/>
                    </a:lnTo>
                    <a:lnTo>
                      <a:pt x="70" y="5"/>
                    </a:lnTo>
                    <a:lnTo>
                      <a:pt x="61" y="8"/>
                    </a:lnTo>
                    <a:lnTo>
                      <a:pt x="53" y="13"/>
                    </a:lnTo>
                    <a:lnTo>
                      <a:pt x="45" y="18"/>
                    </a:lnTo>
                    <a:lnTo>
                      <a:pt x="37" y="24"/>
                    </a:lnTo>
                    <a:lnTo>
                      <a:pt x="30" y="30"/>
                    </a:lnTo>
                    <a:lnTo>
                      <a:pt x="24" y="38"/>
                    </a:lnTo>
                    <a:lnTo>
                      <a:pt x="18" y="45"/>
                    </a:lnTo>
                    <a:lnTo>
                      <a:pt x="13" y="54"/>
                    </a:lnTo>
                    <a:lnTo>
                      <a:pt x="9" y="62"/>
                    </a:lnTo>
                    <a:lnTo>
                      <a:pt x="6" y="71"/>
                    </a:lnTo>
                    <a:lnTo>
                      <a:pt x="2" y="81"/>
                    </a:lnTo>
                    <a:lnTo>
                      <a:pt x="1" y="91"/>
                    </a:lnTo>
                    <a:lnTo>
                      <a:pt x="0" y="100"/>
                    </a:lnTo>
                    <a:lnTo>
                      <a:pt x="69" y="100"/>
                    </a:lnTo>
                    <a:lnTo>
                      <a:pt x="69" y="98"/>
                    </a:lnTo>
                    <a:lnTo>
                      <a:pt x="69" y="95"/>
                    </a:lnTo>
                    <a:lnTo>
                      <a:pt x="70" y="91"/>
                    </a:lnTo>
                    <a:lnTo>
                      <a:pt x="71" y="89"/>
                    </a:lnTo>
                    <a:lnTo>
                      <a:pt x="72" y="86"/>
                    </a:lnTo>
                    <a:lnTo>
                      <a:pt x="74" y="82"/>
                    </a:lnTo>
                    <a:lnTo>
                      <a:pt x="77" y="80"/>
                    </a:lnTo>
                    <a:lnTo>
                      <a:pt x="79" y="78"/>
                    </a:lnTo>
                    <a:lnTo>
                      <a:pt x="81" y="75"/>
                    </a:lnTo>
                    <a:lnTo>
                      <a:pt x="83" y="73"/>
                    </a:lnTo>
                    <a:lnTo>
                      <a:pt x="87" y="71"/>
                    </a:lnTo>
                    <a:lnTo>
                      <a:pt x="89" y="70"/>
                    </a:lnTo>
                    <a:lnTo>
                      <a:pt x="91" y="69"/>
                    </a:lnTo>
                    <a:lnTo>
                      <a:pt x="95" y="67"/>
                    </a:lnTo>
                    <a:lnTo>
                      <a:pt x="97" y="67"/>
                    </a:lnTo>
                    <a:lnTo>
                      <a:pt x="99" y="67"/>
                    </a:lnTo>
                    <a:lnTo>
                      <a:pt x="99" y="67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3273480" y="4033800"/>
                <a:ext cx="369720" cy="952560"/>
              </a:xfrm>
              <a:custGeom>
                <a:avLst/>
                <a:gdLst/>
                <a:ahLst/>
                <a:rect l="l" t="t" r="r" b="b"/>
                <a:pathLst>
                  <a:path w="1163" h="2998">
                    <a:moveTo>
                      <a:pt x="479" y="0"/>
                    </a:moveTo>
                    <a:lnTo>
                      <a:pt x="426" y="84"/>
                    </a:lnTo>
                    <a:lnTo>
                      <a:pt x="378" y="170"/>
                    </a:lnTo>
                    <a:lnTo>
                      <a:pt x="333" y="258"/>
                    </a:lnTo>
                    <a:lnTo>
                      <a:pt x="292" y="346"/>
                    </a:lnTo>
                    <a:lnTo>
                      <a:pt x="254" y="435"/>
                    </a:lnTo>
                    <a:lnTo>
                      <a:pt x="219" y="524"/>
                    </a:lnTo>
                    <a:lnTo>
                      <a:pt x="187" y="615"/>
                    </a:lnTo>
                    <a:lnTo>
                      <a:pt x="158" y="706"/>
                    </a:lnTo>
                    <a:lnTo>
                      <a:pt x="132" y="798"/>
                    </a:lnTo>
                    <a:lnTo>
                      <a:pt x="109" y="891"/>
                    </a:lnTo>
                    <a:lnTo>
                      <a:pt x="89" y="984"/>
                    </a:lnTo>
                    <a:lnTo>
                      <a:pt x="71" y="1078"/>
                    </a:lnTo>
                    <a:lnTo>
                      <a:pt x="55" y="1173"/>
                    </a:lnTo>
                    <a:lnTo>
                      <a:pt x="41" y="1267"/>
                    </a:lnTo>
                    <a:lnTo>
                      <a:pt x="29" y="1362"/>
                    </a:lnTo>
                    <a:lnTo>
                      <a:pt x="20" y="1458"/>
                    </a:lnTo>
                    <a:lnTo>
                      <a:pt x="14" y="1554"/>
                    </a:lnTo>
                    <a:lnTo>
                      <a:pt x="8" y="1651"/>
                    </a:lnTo>
                    <a:lnTo>
                      <a:pt x="3" y="1747"/>
                    </a:lnTo>
                    <a:lnTo>
                      <a:pt x="1" y="1844"/>
                    </a:lnTo>
                    <a:lnTo>
                      <a:pt x="0" y="1940"/>
                    </a:lnTo>
                    <a:lnTo>
                      <a:pt x="1" y="2036"/>
                    </a:lnTo>
                    <a:lnTo>
                      <a:pt x="2" y="2133"/>
                    </a:lnTo>
                    <a:lnTo>
                      <a:pt x="4" y="2230"/>
                    </a:lnTo>
                    <a:lnTo>
                      <a:pt x="8" y="2327"/>
                    </a:lnTo>
                    <a:lnTo>
                      <a:pt x="12" y="2424"/>
                    </a:lnTo>
                    <a:lnTo>
                      <a:pt x="18" y="2520"/>
                    </a:lnTo>
                    <a:lnTo>
                      <a:pt x="24" y="2616"/>
                    </a:lnTo>
                    <a:lnTo>
                      <a:pt x="36" y="2808"/>
                    </a:lnTo>
                    <a:lnTo>
                      <a:pt x="49" y="2998"/>
                    </a:lnTo>
                    <a:lnTo>
                      <a:pt x="93" y="2998"/>
                    </a:lnTo>
                    <a:lnTo>
                      <a:pt x="134" y="2996"/>
                    </a:lnTo>
                    <a:lnTo>
                      <a:pt x="173" y="2994"/>
                    </a:lnTo>
                    <a:lnTo>
                      <a:pt x="208" y="2991"/>
                    </a:lnTo>
                    <a:lnTo>
                      <a:pt x="240" y="2987"/>
                    </a:lnTo>
                    <a:lnTo>
                      <a:pt x="271" y="2982"/>
                    </a:lnTo>
                    <a:lnTo>
                      <a:pt x="300" y="2978"/>
                    </a:lnTo>
                    <a:lnTo>
                      <a:pt x="326" y="2972"/>
                    </a:lnTo>
                    <a:lnTo>
                      <a:pt x="351" y="2966"/>
                    </a:lnTo>
                    <a:lnTo>
                      <a:pt x="374" y="2959"/>
                    </a:lnTo>
                    <a:lnTo>
                      <a:pt x="397" y="2952"/>
                    </a:lnTo>
                    <a:lnTo>
                      <a:pt x="417" y="2946"/>
                    </a:lnTo>
                    <a:lnTo>
                      <a:pt x="457" y="2931"/>
                    </a:lnTo>
                    <a:lnTo>
                      <a:pt x="495" y="2915"/>
                    </a:lnTo>
                    <a:lnTo>
                      <a:pt x="532" y="2899"/>
                    </a:lnTo>
                    <a:lnTo>
                      <a:pt x="572" y="2884"/>
                    </a:lnTo>
                    <a:lnTo>
                      <a:pt x="593" y="2877"/>
                    </a:lnTo>
                    <a:lnTo>
                      <a:pt x="614" y="2870"/>
                    </a:lnTo>
                    <a:lnTo>
                      <a:pt x="638" y="2863"/>
                    </a:lnTo>
                    <a:lnTo>
                      <a:pt x="662" y="2858"/>
                    </a:lnTo>
                    <a:lnTo>
                      <a:pt x="690" y="2852"/>
                    </a:lnTo>
                    <a:lnTo>
                      <a:pt x="717" y="2846"/>
                    </a:lnTo>
                    <a:lnTo>
                      <a:pt x="748" y="2843"/>
                    </a:lnTo>
                    <a:lnTo>
                      <a:pt x="781" y="2838"/>
                    </a:lnTo>
                    <a:lnTo>
                      <a:pt x="816" y="2836"/>
                    </a:lnTo>
                    <a:lnTo>
                      <a:pt x="854" y="2834"/>
                    </a:lnTo>
                    <a:lnTo>
                      <a:pt x="895" y="2832"/>
                    </a:lnTo>
                    <a:lnTo>
                      <a:pt x="939" y="2832"/>
                    </a:lnTo>
                    <a:lnTo>
                      <a:pt x="952" y="2752"/>
                    </a:lnTo>
                    <a:lnTo>
                      <a:pt x="965" y="2674"/>
                    </a:lnTo>
                    <a:lnTo>
                      <a:pt x="979" y="2597"/>
                    </a:lnTo>
                    <a:lnTo>
                      <a:pt x="993" y="2520"/>
                    </a:lnTo>
                    <a:lnTo>
                      <a:pt x="1022" y="2368"/>
                    </a:lnTo>
                    <a:lnTo>
                      <a:pt x="1051" y="2220"/>
                    </a:lnTo>
                    <a:lnTo>
                      <a:pt x="1079" y="2073"/>
                    </a:lnTo>
                    <a:lnTo>
                      <a:pt x="1106" y="1928"/>
                    </a:lnTo>
                    <a:lnTo>
                      <a:pt x="1117" y="1855"/>
                    </a:lnTo>
                    <a:lnTo>
                      <a:pt x="1127" y="1783"/>
                    </a:lnTo>
                    <a:lnTo>
                      <a:pt x="1138" y="1711"/>
                    </a:lnTo>
                    <a:lnTo>
                      <a:pt x="1146" y="1639"/>
                    </a:lnTo>
                    <a:lnTo>
                      <a:pt x="1152" y="1567"/>
                    </a:lnTo>
                    <a:lnTo>
                      <a:pt x="1158" y="1496"/>
                    </a:lnTo>
                    <a:lnTo>
                      <a:pt x="1161" y="1424"/>
                    </a:lnTo>
                    <a:lnTo>
                      <a:pt x="1163" y="1352"/>
                    </a:lnTo>
                    <a:lnTo>
                      <a:pt x="1163" y="1279"/>
                    </a:lnTo>
                    <a:lnTo>
                      <a:pt x="1160" y="1206"/>
                    </a:lnTo>
                    <a:lnTo>
                      <a:pt x="1156" y="1133"/>
                    </a:lnTo>
                    <a:lnTo>
                      <a:pt x="1149" y="1060"/>
                    </a:lnTo>
                    <a:lnTo>
                      <a:pt x="1139" y="986"/>
                    </a:lnTo>
                    <a:lnTo>
                      <a:pt x="1127" y="911"/>
                    </a:lnTo>
                    <a:lnTo>
                      <a:pt x="1111" y="836"/>
                    </a:lnTo>
                    <a:lnTo>
                      <a:pt x="1093" y="761"/>
                    </a:lnTo>
                    <a:lnTo>
                      <a:pt x="1073" y="684"/>
                    </a:lnTo>
                    <a:lnTo>
                      <a:pt x="1047" y="608"/>
                    </a:lnTo>
                    <a:lnTo>
                      <a:pt x="1019" y="529"/>
                    </a:lnTo>
                    <a:lnTo>
                      <a:pt x="988" y="450"/>
                    </a:lnTo>
                    <a:lnTo>
                      <a:pt x="962" y="448"/>
                    </a:lnTo>
                    <a:lnTo>
                      <a:pt x="937" y="444"/>
                    </a:lnTo>
                    <a:lnTo>
                      <a:pt x="912" y="438"/>
                    </a:lnTo>
                    <a:lnTo>
                      <a:pt x="888" y="432"/>
                    </a:lnTo>
                    <a:lnTo>
                      <a:pt x="865" y="425"/>
                    </a:lnTo>
                    <a:lnTo>
                      <a:pt x="843" y="417"/>
                    </a:lnTo>
                    <a:lnTo>
                      <a:pt x="822" y="408"/>
                    </a:lnTo>
                    <a:lnTo>
                      <a:pt x="801" y="399"/>
                    </a:lnTo>
                    <a:lnTo>
                      <a:pt x="781" y="388"/>
                    </a:lnTo>
                    <a:lnTo>
                      <a:pt x="761" y="377"/>
                    </a:lnTo>
                    <a:lnTo>
                      <a:pt x="742" y="365"/>
                    </a:lnTo>
                    <a:lnTo>
                      <a:pt x="724" y="352"/>
                    </a:lnTo>
                    <a:lnTo>
                      <a:pt x="707" y="340"/>
                    </a:lnTo>
                    <a:lnTo>
                      <a:pt x="690" y="325"/>
                    </a:lnTo>
                    <a:lnTo>
                      <a:pt x="674" y="311"/>
                    </a:lnTo>
                    <a:lnTo>
                      <a:pt x="658" y="295"/>
                    </a:lnTo>
                    <a:lnTo>
                      <a:pt x="643" y="281"/>
                    </a:lnTo>
                    <a:lnTo>
                      <a:pt x="629" y="263"/>
                    </a:lnTo>
                    <a:lnTo>
                      <a:pt x="614" y="247"/>
                    </a:lnTo>
                    <a:lnTo>
                      <a:pt x="602" y="230"/>
                    </a:lnTo>
                    <a:lnTo>
                      <a:pt x="588" y="212"/>
                    </a:lnTo>
                    <a:lnTo>
                      <a:pt x="577" y="195"/>
                    </a:lnTo>
                    <a:lnTo>
                      <a:pt x="564" y="177"/>
                    </a:lnTo>
                    <a:lnTo>
                      <a:pt x="553" y="157"/>
                    </a:lnTo>
                    <a:lnTo>
                      <a:pt x="532" y="120"/>
                    </a:lnTo>
                    <a:lnTo>
                      <a:pt x="513" y="80"/>
                    </a:lnTo>
                    <a:lnTo>
                      <a:pt x="495" y="40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3263760" y="4029120"/>
                <a:ext cx="171720" cy="966600"/>
              </a:xfrm>
              <a:custGeom>
                <a:avLst/>
                <a:gdLst/>
                <a:ahLst/>
                <a:rect l="l" t="t" r="r" b="b"/>
                <a:pathLst>
                  <a:path w="540" h="3049">
                    <a:moveTo>
                      <a:pt x="82" y="2982"/>
                    </a:moveTo>
                    <a:lnTo>
                      <a:pt x="116" y="3014"/>
                    </a:lnTo>
                    <a:lnTo>
                      <a:pt x="102" y="2823"/>
                    </a:lnTo>
                    <a:lnTo>
                      <a:pt x="90" y="2633"/>
                    </a:lnTo>
                    <a:lnTo>
                      <a:pt x="84" y="2537"/>
                    </a:lnTo>
                    <a:lnTo>
                      <a:pt x="80" y="2440"/>
                    </a:lnTo>
                    <a:lnTo>
                      <a:pt x="75" y="2344"/>
                    </a:lnTo>
                    <a:lnTo>
                      <a:pt x="72" y="2247"/>
                    </a:lnTo>
                    <a:lnTo>
                      <a:pt x="69" y="2151"/>
                    </a:lnTo>
                    <a:lnTo>
                      <a:pt x="67" y="2054"/>
                    </a:lnTo>
                    <a:lnTo>
                      <a:pt x="67" y="1958"/>
                    </a:lnTo>
                    <a:lnTo>
                      <a:pt x="68" y="1862"/>
                    </a:lnTo>
                    <a:lnTo>
                      <a:pt x="70" y="1766"/>
                    </a:lnTo>
                    <a:lnTo>
                      <a:pt x="74" y="1670"/>
                    </a:lnTo>
                    <a:lnTo>
                      <a:pt x="80" y="1574"/>
                    </a:lnTo>
                    <a:lnTo>
                      <a:pt x="88" y="1479"/>
                    </a:lnTo>
                    <a:lnTo>
                      <a:pt x="97" y="1383"/>
                    </a:lnTo>
                    <a:lnTo>
                      <a:pt x="108" y="1289"/>
                    </a:lnTo>
                    <a:lnTo>
                      <a:pt x="114" y="1242"/>
                    </a:lnTo>
                    <a:lnTo>
                      <a:pt x="121" y="1195"/>
                    </a:lnTo>
                    <a:lnTo>
                      <a:pt x="129" y="1148"/>
                    </a:lnTo>
                    <a:lnTo>
                      <a:pt x="137" y="1102"/>
                    </a:lnTo>
                    <a:lnTo>
                      <a:pt x="146" y="1055"/>
                    </a:lnTo>
                    <a:lnTo>
                      <a:pt x="155" y="1009"/>
                    </a:lnTo>
                    <a:lnTo>
                      <a:pt x="164" y="963"/>
                    </a:lnTo>
                    <a:lnTo>
                      <a:pt x="175" y="917"/>
                    </a:lnTo>
                    <a:lnTo>
                      <a:pt x="186" y="870"/>
                    </a:lnTo>
                    <a:lnTo>
                      <a:pt x="198" y="824"/>
                    </a:lnTo>
                    <a:lnTo>
                      <a:pt x="211" y="779"/>
                    </a:lnTo>
                    <a:lnTo>
                      <a:pt x="223" y="733"/>
                    </a:lnTo>
                    <a:lnTo>
                      <a:pt x="237" y="689"/>
                    </a:lnTo>
                    <a:lnTo>
                      <a:pt x="252" y="643"/>
                    </a:lnTo>
                    <a:lnTo>
                      <a:pt x="268" y="599"/>
                    </a:lnTo>
                    <a:lnTo>
                      <a:pt x="284" y="554"/>
                    </a:lnTo>
                    <a:lnTo>
                      <a:pt x="300" y="510"/>
                    </a:lnTo>
                    <a:lnTo>
                      <a:pt x="318" y="465"/>
                    </a:lnTo>
                    <a:lnTo>
                      <a:pt x="336" y="421"/>
                    </a:lnTo>
                    <a:lnTo>
                      <a:pt x="355" y="377"/>
                    </a:lnTo>
                    <a:lnTo>
                      <a:pt x="376" y="334"/>
                    </a:lnTo>
                    <a:lnTo>
                      <a:pt x="396" y="291"/>
                    </a:lnTo>
                    <a:lnTo>
                      <a:pt x="418" y="247"/>
                    </a:lnTo>
                    <a:lnTo>
                      <a:pt x="441" y="204"/>
                    </a:lnTo>
                    <a:lnTo>
                      <a:pt x="464" y="162"/>
                    </a:lnTo>
                    <a:lnTo>
                      <a:pt x="489" y="119"/>
                    </a:lnTo>
                    <a:lnTo>
                      <a:pt x="514" y="77"/>
                    </a:lnTo>
                    <a:lnTo>
                      <a:pt x="540" y="35"/>
                    </a:lnTo>
                    <a:lnTo>
                      <a:pt x="483" y="0"/>
                    </a:lnTo>
                    <a:lnTo>
                      <a:pt x="457" y="42"/>
                    </a:lnTo>
                    <a:lnTo>
                      <a:pt x="431" y="85"/>
                    </a:lnTo>
                    <a:lnTo>
                      <a:pt x="406" y="129"/>
                    </a:lnTo>
                    <a:lnTo>
                      <a:pt x="382" y="172"/>
                    </a:lnTo>
                    <a:lnTo>
                      <a:pt x="358" y="216"/>
                    </a:lnTo>
                    <a:lnTo>
                      <a:pt x="336" y="261"/>
                    </a:lnTo>
                    <a:lnTo>
                      <a:pt x="314" y="305"/>
                    </a:lnTo>
                    <a:lnTo>
                      <a:pt x="294" y="350"/>
                    </a:lnTo>
                    <a:lnTo>
                      <a:pt x="275" y="394"/>
                    </a:lnTo>
                    <a:lnTo>
                      <a:pt x="255" y="440"/>
                    </a:lnTo>
                    <a:lnTo>
                      <a:pt x="237" y="484"/>
                    </a:lnTo>
                    <a:lnTo>
                      <a:pt x="220" y="530"/>
                    </a:lnTo>
                    <a:lnTo>
                      <a:pt x="204" y="576"/>
                    </a:lnTo>
                    <a:lnTo>
                      <a:pt x="188" y="623"/>
                    </a:lnTo>
                    <a:lnTo>
                      <a:pt x="173" y="668"/>
                    </a:lnTo>
                    <a:lnTo>
                      <a:pt x="159" y="714"/>
                    </a:lnTo>
                    <a:lnTo>
                      <a:pt x="146" y="761"/>
                    </a:lnTo>
                    <a:lnTo>
                      <a:pt x="133" y="807"/>
                    </a:lnTo>
                    <a:lnTo>
                      <a:pt x="121" y="854"/>
                    </a:lnTo>
                    <a:lnTo>
                      <a:pt x="109" y="901"/>
                    </a:lnTo>
                    <a:lnTo>
                      <a:pt x="99" y="948"/>
                    </a:lnTo>
                    <a:lnTo>
                      <a:pt x="89" y="996"/>
                    </a:lnTo>
                    <a:lnTo>
                      <a:pt x="78" y="1042"/>
                    </a:lnTo>
                    <a:lnTo>
                      <a:pt x="70" y="1090"/>
                    </a:lnTo>
                    <a:lnTo>
                      <a:pt x="62" y="1137"/>
                    </a:lnTo>
                    <a:lnTo>
                      <a:pt x="54" y="1185"/>
                    </a:lnTo>
                    <a:lnTo>
                      <a:pt x="48" y="1233"/>
                    </a:lnTo>
                    <a:lnTo>
                      <a:pt x="41" y="1281"/>
                    </a:lnTo>
                    <a:lnTo>
                      <a:pt x="29" y="1377"/>
                    </a:lnTo>
                    <a:lnTo>
                      <a:pt x="20" y="1472"/>
                    </a:lnTo>
                    <a:lnTo>
                      <a:pt x="12" y="1569"/>
                    </a:lnTo>
                    <a:lnTo>
                      <a:pt x="7" y="1666"/>
                    </a:lnTo>
                    <a:lnTo>
                      <a:pt x="3" y="1763"/>
                    </a:lnTo>
                    <a:lnTo>
                      <a:pt x="1" y="1860"/>
                    </a:lnTo>
                    <a:lnTo>
                      <a:pt x="0" y="1958"/>
                    </a:lnTo>
                    <a:lnTo>
                      <a:pt x="0" y="2055"/>
                    </a:lnTo>
                    <a:lnTo>
                      <a:pt x="2" y="2152"/>
                    </a:lnTo>
                    <a:lnTo>
                      <a:pt x="4" y="2249"/>
                    </a:lnTo>
                    <a:lnTo>
                      <a:pt x="8" y="2346"/>
                    </a:lnTo>
                    <a:lnTo>
                      <a:pt x="12" y="2443"/>
                    </a:lnTo>
                    <a:lnTo>
                      <a:pt x="17" y="2540"/>
                    </a:lnTo>
                    <a:lnTo>
                      <a:pt x="23" y="2636"/>
                    </a:lnTo>
                    <a:lnTo>
                      <a:pt x="35" y="2828"/>
                    </a:lnTo>
                    <a:lnTo>
                      <a:pt x="49" y="3018"/>
                    </a:lnTo>
                    <a:lnTo>
                      <a:pt x="82" y="3049"/>
                    </a:lnTo>
                    <a:lnTo>
                      <a:pt x="49" y="3018"/>
                    </a:lnTo>
                    <a:lnTo>
                      <a:pt x="50" y="3026"/>
                    </a:lnTo>
                    <a:lnTo>
                      <a:pt x="52" y="3033"/>
                    </a:lnTo>
                    <a:lnTo>
                      <a:pt x="57" y="3039"/>
                    </a:lnTo>
                    <a:lnTo>
                      <a:pt x="61" y="3042"/>
                    </a:lnTo>
                    <a:lnTo>
                      <a:pt x="66" y="3046"/>
                    </a:lnTo>
                    <a:lnTo>
                      <a:pt x="73" y="3048"/>
                    </a:lnTo>
                    <a:lnTo>
                      <a:pt x="78" y="3049"/>
                    </a:lnTo>
                    <a:lnTo>
                      <a:pt x="85" y="3049"/>
                    </a:lnTo>
                    <a:lnTo>
                      <a:pt x="91" y="3049"/>
                    </a:lnTo>
                    <a:lnTo>
                      <a:pt x="97" y="3047"/>
                    </a:lnTo>
                    <a:lnTo>
                      <a:pt x="102" y="3043"/>
                    </a:lnTo>
                    <a:lnTo>
                      <a:pt x="107" y="3040"/>
                    </a:lnTo>
                    <a:lnTo>
                      <a:pt x="111" y="3034"/>
                    </a:lnTo>
                    <a:lnTo>
                      <a:pt x="114" y="3029"/>
                    </a:lnTo>
                    <a:lnTo>
                      <a:pt x="116" y="3022"/>
                    </a:lnTo>
                    <a:lnTo>
                      <a:pt x="116" y="3014"/>
                    </a:lnTo>
                    <a:lnTo>
                      <a:pt x="82" y="298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3289320" y="4923000"/>
                <a:ext cx="293760" cy="72720"/>
              </a:xfrm>
              <a:custGeom>
                <a:avLst/>
                <a:gdLst/>
                <a:ahLst/>
                <a:rect l="l" t="t" r="r" b="b"/>
                <a:pathLst>
                  <a:path w="924" h="234">
                    <a:moveTo>
                      <a:pt x="857" y="29"/>
                    </a:moveTo>
                    <a:lnTo>
                      <a:pt x="890" y="0"/>
                    </a:lnTo>
                    <a:lnTo>
                      <a:pt x="846" y="1"/>
                    </a:lnTo>
                    <a:lnTo>
                      <a:pt x="804" y="3"/>
                    </a:lnTo>
                    <a:lnTo>
                      <a:pt x="765" y="5"/>
                    </a:lnTo>
                    <a:lnTo>
                      <a:pt x="728" y="8"/>
                    </a:lnTo>
                    <a:lnTo>
                      <a:pt x="695" y="12"/>
                    </a:lnTo>
                    <a:lnTo>
                      <a:pt x="663" y="16"/>
                    </a:lnTo>
                    <a:lnTo>
                      <a:pt x="634" y="22"/>
                    </a:lnTo>
                    <a:lnTo>
                      <a:pt x="606" y="28"/>
                    </a:lnTo>
                    <a:lnTo>
                      <a:pt x="580" y="35"/>
                    </a:lnTo>
                    <a:lnTo>
                      <a:pt x="556" y="40"/>
                    </a:lnTo>
                    <a:lnTo>
                      <a:pt x="533" y="48"/>
                    </a:lnTo>
                    <a:lnTo>
                      <a:pt x="511" y="55"/>
                    </a:lnTo>
                    <a:lnTo>
                      <a:pt x="471" y="71"/>
                    </a:lnTo>
                    <a:lnTo>
                      <a:pt x="433" y="87"/>
                    </a:lnTo>
                    <a:lnTo>
                      <a:pt x="395" y="102"/>
                    </a:lnTo>
                    <a:lnTo>
                      <a:pt x="357" y="117"/>
                    </a:lnTo>
                    <a:lnTo>
                      <a:pt x="336" y="124"/>
                    </a:lnTo>
                    <a:lnTo>
                      <a:pt x="316" y="130"/>
                    </a:lnTo>
                    <a:lnTo>
                      <a:pt x="293" y="136"/>
                    </a:lnTo>
                    <a:lnTo>
                      <a:pt x="270" y="142"/>
                    </a:lnTo>
                    <a:lnTo>
                      <a:pt x="244" y="147"/>
                    </a:lnTo>
                    <a:lnTo>
                      <a:pt x="218" y="152"/>
                    </a:lnTo>
                    <a:lnTo>
                      <a:pt x="188" y="157"/>
                    </a:lnTo>
                    <a:lnTo>
                      <a:pt x="156" y="160"/>
                    </a:lnTo>
                    <a:lnTo>
                      <a:pt x="122" y="163"/>
                    </a:lnTo>
                    <a:lnTo>
                      <a:pt x="84" y="166"/>
                    </a:lnTo>
                    <a:lnTo>
                      <a:pt x="44" y="167"/>
                    </a:lnTo>
                    <a:lnTo>
                      <a:pt x="0" y="167"/>
                    </a:lnTo>
                    <a:lnTo>
                      <a:pt x="0" y="234"/>
                    </a:lnTo>
                    <a:lnTo>
                      <a:pt x="45" y="234"/>
                    </a:lnTo>
                    <a:lnTo>
                      <a:pt x="88" y="233"/>
                    </a:lnTo>
                    <a:lnTo>
                      <a:pt x="126" y="231"/>
                    </a:lnTo>
                    <a:lnTo>
                      <a:pt x="163" y="227"/>
                    </a:lnTo>
                    <a:lnTo>
                      <a:pt x="196" y="224"/>
                    </a:lnTo>
                    <a:lnTo>
                      <a:pt x="228" y="219"/>
                    </a:lnTo>
                    <a:lnTo>
                      <a:pt x="257" y="214"/>
                    </a:lnTo>
                    <a:lnTo>
                      <a:pt x="285" y="208"/>
                    </a:lnTo>
                    <a:lnTo>
                      <a:pt x="310" y="201"/>
                    </a:lnTo>
                    <a:lnTo>
                      <a:pt x="335" y="194"/>
                    </a:lnTo>
                    <a:lnTo>
                      <a:pt x="358" y="187"/>
                    </a:lnTo>
                    <a:lnTo>
                      <a:pt x="379" y="181"/>
                    </a:lnTo>
                    <a:lnTo>
                      <a:pt x="421" y="165"/>
                    </a:lnTo>
                    <a:lnTo>
                      <a:pt x="458" y="149"/>
                    </a:lnTo>
                    <a:lnTo>
                      <a:pt x="496" y="134"/>
                    </a:lnTo>
                    <a:lnTo>
                      <a:pt x="535" y="119"/>
                    </a:lnTo>
                    <a:lnTo>
                      <a:pt x="554" y="112"/>
                    </a:lnTo>
                    <a:lnTo>
                      <a:pt x="576" y="105"/>
                    </a:lnTo>
                    <a:lnTo>
                      <a:pt x="597" y="100"/>
                    </a:lnTo>
                    <a:lnTo>
                      <a:pt x="621" y="94"/>
                    </a:lnTo>
                    <a:lnTo>
                      <a:pt x="646" y="88"/>
                    </a:lnTo>
                    <a:lnTo>
                      <a:pt x="674" y="84"/>
                    </a:lnTo>
                    <a:lnTo>
                      <a:pt x="703" y="79"/>
                    </a:lnTo>
                    <a:lnTo>
                      <a:pt x="735" y="76"/>
                    </a:lnTo>
                    <a:lnTo>
                      <a:pt x="769" y="72"/>
                    </a:lnTo>
                    <a:lnTo>
                      <a:pt x="807" y="70"/>
                    </a:lnTo>
                    <a:lnTo>
                      <a:pt x="847" y="69"/>
                    </a:lnTo>
                    <a:lnTo>
                      <a:pt x="890" y="68"/>
                    </a:lnTo>
                    <a:lnTo>
                      <a:pt x="924" y="39"/>
                    </a:lnTo>
                    <a:lnTo>
                      <a:pt x="890" y="68"/>
                    </a:lnTo>
                    <a:lnTo>
                      <a:pt x="898" y="68"/>
                    </a:lnTo>
                    <a:lnTo>
                      <a:pt x="905" y="65"/>
                    </a:lnTo>
                    <a:lnTo>
                      <a:pt x="911" y="62"/>
                    </a:lnTo>
                    <a:lnTo>
                      <a:pt x="916" y="57"/>
                    </a:lnTo>
                    <a:lnTo>
                      <a:pt x="920" y="53"/>
                    </a:lnTo>
                    <a:lnTo>
                      <a:pt x="922" y="47"/>
                    </a:lnTo>
                    <a:lnTo>
                      <a:pt x="923" y="40"/>
                    </a:lnTo>
                    <a:lnTo>
                      <a:pt x="924" y="35"/>
                    </a:lnTo>
                    <a:lnTo>
                      <a:pt x="923" y="28"/>
                    </a:lnTo>
                    <a:lnTo>
                      <a:pt x="922" y="22"/>
                    </a:lnTo>
                    <a:lnTo>
                      <a:pt x="920" y="16"/>
                    </a:lnTo>
                    <a:lnTo>
                      <a:pt x="916" y="12"/>
                    </a:lnTo>
                    <a:lnTo>
                      <a:pt x="911" y="7"/>
                    </a:lnTo>
                    <a:lnTo>
                      <a:pt x="905" y="4"/>
                    </a:lnTo>
                    <a:lnTo>
                      <a:pt x="898" y="1"/>
                    </a:lnTo>
                    <a:lnTo>
                      <a:pt x="890" y="0"/>
                    </a:lnTo>
                    <a:lnTo>
                      <a:pt x="857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3560760" y="4167360"/>
                <a:ext cx="93600" cy="766440"/>
              </a:xfrm>
              <a:custGeom>
                <a:avLst/>
                <a:gdLst/>
                <a:ahLst/>
                <a:rect l="l" t="t" r="r" b="b"/>
                <a:pathLst>
                  <a:path w="291" h="2419">
                    <a:moveTo>
                      <a:pt x="79" y="68"/>
                    </a:moveTo>
                    <a:lnTo>
                      <a:pt x="50" y="47"/>
                    </a:lnTo>
                    <a:lnTo>
                      <a:pt x="66" y="86"/>
                    </a:lnTo>
                    <a:lnTo>
                      <a:pt x="82" y="125"/>
                    </a:lnTo>
                    <a:lnTo>
                      <a:pt x="96" y="164"/>
                    </a:lnTo>
                    <a:lnTo>
                      <a:pt x="110" y="201"/>
                    </a:lnTo>
                    <a:lnTo>
                      <a:pt x="122" y="239"/>
                    </a:lnTo>
                    <a:lnTo>
                      <a:pt x="134" y="278"/>
                    </a:lnTo>
                    <a:lnTo>
                      <a:pt x="145" y="315"/>
                    </a:lnTo>
                    <a:lnTo>
                      <a:pt x="155" y="353"/>
                    </a:lnTo>
                    <a:lnTo>
                      <a:pt x="164" y="389"/>
                    </a:lnTo>
                    <a:lnTo>
                      <a:pt x="172" y="427"/>
                    </a:lnTo>
                    <a:lnTo>
                      <a:pt x="180" y="464"/>
                    </a:lnTo>
                    <a:lnTo>
                      <a:pt x="188" y="500"/>
                    </a:lnTo>
                    <a:lnTo>
                      <a:pt x="194" y="538"/>
                    </a:lnTo>
                    <a:lnTo>
                      <a:pt x="200" y="574"/>
                    </a:lnTo>
                    <a:lnTo>
                      <a:pt x="205" y="611"/>
                    </a:lnTo>
                    <a:lnTo>
                      <a:pt x="209" y="646"/>
                    </a:lnTo>
                    <a:lnTo>
                      <a:pt x="213" y="683"/>
                    </a:lnTo>
                    <a:lnTo>
                      <a:pt x="217" y="719"/>
                    </a:lnTo>
                    <a:lnTo>
                      <a:pt x="219" y="755"/>
                    </a:lnTo>
                    <a:lnTo>
                      <a:pt x="221" y="791"/>
                    </a:lnTo>
                    <a:lnTo>
                      <a:pt x="224" y="863"/>
                    </a:lnTo>
                    <a:lnTo>
                      <a:pt x="224" y="934"/>
                    </a:lnTo>
                    <a:lnTo>
                      <a:pt x="221" y="1006"/>
                    </a:lnTo>
                    <a:lnTo>
                      <a:pt x="218" y="1076"/>
                    </a:lnTo>
                    <a:lnTo>
                      <a:pt x="212" y="1148"/>
                    </a:lnTo>
                    <a:lnTo>
                      <a:pt x="206" y="1219"/>
                    </a:lnTo>
                    <a:lnTo>
                      <a:pt x="197" y="1290"/>
                    </a:lnTo>
                    <a:lnTo>
                      <a:pt x="188" y="1361"/>
                    </a:lnTo>
                    <a:lnTo>
                      <a:pt x="178" y="1433"/>
                    </a:lnTo>
                    <a:lnTo>
                      <a:pt x="165" y="1505"/>
                    </a:lnTo>
                    <a:lnTo>
                      <a:pt x="140" y="1650"/>
                    </a:lnTo>
                    <a:lnTo>
                      <a:pt x="112" y="1796"/>
                    </a:lnTo>
                    <a:lnTo>
                      <a:pt x="83" y="1946"/>
                    </a:lnTo>
                    <a:lnTo>
                      <a:pt x="54" y="2096"/>
                    </a:lnTo>
                    <a:lnTo>
                      <a:pt x="40" y="2174"/>
                    </a:lnTo>
                    <a:lnTo>
                      <a:pt x="25" y="2251"/>
                    </a:lnTo>
                    <a:lnTo>
                      <a:pt x="13" y="2330"/>
                    </a:lnTo>
                    <a:lnTo>
                      <a:pt x="0" y="2409"/>
                    </a:lnTo>
                    <a:lnTo>
                      <a:pt x="67" y="2419"/>
                    </a:lnTo>
                    <a:lnTo>
                      <a:pt x="79" y="2340"/>
                    </a:lnTo>
                    <a:lnTo>
                      <a:pt x="92" y="2263"/>
                    </a:lnTo>
                    <a:lnTo>
                      <a:pt x="106" y="2185"/>
                    </a:lnTo>
                    <a:lnTo>
                      <a:pt x="120" y="2109"/>
                    </a:lnTo>
                    <a:lnTo>
                      <a:pt x="149" y="1958"/>
                    </a:lnTo>
                    <a:lnTo>
                      <a:pt x="178" y="1809"/>
                    </a:lnTo>
                    <a:lnTo>
                      <a:pt x="206" y="1662"/>
                    </a:lnTo>
                    <a:lnTo>
                      <a:pt x="233" y="1517"/>
                    </a:lnTo>
                    <a:lnTo>
                      <a:pt x="244" y="1444"/>
                    </a:lnTo>
                    <a:lnTo>
                      <a:pt x="255" y="1371"/>
                    </a:lnTo>
                    <a:lnTo>
                      <a:pt x="265" y="1299"/>
                    </a:lnTo>
                    <a:lnTo>
                      <a:pt x="273" y="1226"/>
                    </a:lnTo>
                    <a:lnTo>
                      <a:pt x="279" y="1153"/>
                    </a:lnTo>
                    <a:lnTo>
                      <a:pt x="285" y="1081"/>
                    </a:lnTo>
                    <a:lnTo>
                      <a:pt x="289" y="1008"/>
                    </a:lnTo>
                    <a:lnTo>
                      <a:pt x="291" y="935"/>
                    </a:lnTo>
                    <a:lnTo>
                      <a:pt x="291" y="862"/>
                    </a:lnTo>
                    <a:lnTo>
                      <a:pt x="289" y="788"/>
                    </a:lnTo>
                    <a:lnTo>
                      <a:pt x="286" y="751"/>
                    </a:lnTo>
                    <a:lnTo>
                      <a:pt x="284" y="713"/>
                    </a:lnTo>
                    <a:lnTo>
                      <a:pt x="281" y="677"/>
                    </a:lnTo>
                    <a:lnTo>
                      <a:pt x="276" y="639"/>
                    </a:lnTo>
                    <a:lnTo>
                      <a:pt x="271" y="602"/>
                    </a:lnTo>
                    <a:lnTo>
                      <a:pt x="267" y="564"/>
                    </a:lnTo>
                    <a:lnTo>
                      <a:pt x="260" y="526"/>
                    </a:lnTo>
                    <a:lnTo>
                      <a:pt x="254" y="489"/>
                    </a:lnTo>
                    <a:lnTo>
                      <a:pt x="246" y="451"/>
                    </a:lnTo>
                    <a:lnTo>
                      <a:pt x="238" y="412"/>
                    </a:lnTo>
                    <a:lnTo>
                      <a:pt x="229" y="375"/>
                    </a:lnTo>
                    <a:lnTo>
                      <a:pt x="220" y="336"/>
                    </a:lnTo>
                    <a:lnTo>
                      <a:pt x="210" y="297"/>
                    </a:lnTo>
                    <a:lnTo>
                      <a:pt x="198" y="258"/>
                    </a:lnTo>
                    <a:lnTo>
                      <a:pt x="186" y="219"/>
                    </a:lnTo>
                    <a:lnTo>
                      <a:pt x="173" y="180"/>
                    </a:lnTo>
                    <a:lnTo>
                      <a:pt x="160" y="141"/>
                    </a:lnTo>
                    <a:lnTo>
                      <a:pt x="145" y="101"/>
                    </a:lnTo>
                    <a:lnTo>
                      <a:pt x="129" y="61"/>
                    </a:lnTo>
                    <a:lnTo>
                      <a:pt x="113" y="21"/>
                    </a:lnTo>
                    <a:lnTo>
                      <a:pt x="86" y="0"/>
                    </a:lnTo>
                    <a:lnTo>
                      <a:pt x="113" y="21"/>
                    </a:lnTo>
                    <a:lnTo>
                      <a:pt x="108" y="14"/>
                    </a:lnTo>
                    <a:lnTo>
                      <a:pt x="104" y="8"/>
                    </a:lnTo>
                    <a:lnTo>
                      <a:pt x="99" y="4"/>
                    </a:lnTo>
                    <a:lnTo>
                      <a:pt x="94" y="2"/>
                    </a:lnTo>
                    <a:lnTo>
                      <a:pt x="87" y="0"/>
                    </a:lnTo>
                    <a:lnTo>
                      <a:pt x="81" y="0"/>
                    </a:lnTo>
                    <a:lnTo>
                      <a:pt x="74" y="0"/>
                    </a:lnTo>
                    <a:lnTo>
                      <a:pt x="69" y="3"/>
                    </a:lnTo>
                    <a:lnTo>
                      <a:pt x="63" y="6"/>
                    </a:lnTo>
                    <a:lnTo>
                      <a:pt x="58" y="10"/>
                    </a:lnTo>
                    <a:lnTo>
                      <a:pt x="54" y="14"/>
                    </a:lnTo>
                    <a:lnTo>
                      <a:pt x="50" y="20"/>
                    </a:lnTo>
                    <a:lnTo>
                      <a:pt x="48" y="26"/>
                    </a:lnTo>
                    <a:lnTo>
                      <a:pt x="48" y="32"/>
                    </a:lnTo>
                    <a:lnTo>
                      <a:pt x="48" y="39"/>
                    </a:lnTo>
                    <a:lnTo>
                      <a:pt x="50" y="47"/>
                    </a:lnTo>
                    <a:lnTo>
                      <a:pt x="79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3414600" y="4022640"/>
                <a:ext cx="174600" cy="165240"/>
              </a:xfrm>
              <a:custGeom>
                <a:avLst/>
                <a:gdLst/>
                <a:ahLst/>
                <a:rect l="l" t="t" r="r" b="b"/>
                <a:pathLst>
                  <a:path w="548" h="519">
                    <a:moveTo>
                      <a:pt x="63" y="51"/>
                    </a:moveTo>
                    <a:lnTo>
                      <a:pt x="3" y="45"/>
                    </a:lnTo>
                    <a:lnTo>
                      <a:pt x="20" y="87"/>
                    </a:lnTo>
                    <a:lnTo>
                      <a:pt x="38" y="129"/>
                    </a:lnTo>
                    <a:lnTo>
                      <a:pt x="59" y="168"/>
                    </a:lnTo>
                    <a:lnTo>
                      <a:pt x="80" y="208"/>
                    </a:lnTo>
                    <a:lnTo>
                      <a:pt x="92" y="228"/>
                    </a:lnTo>
                    <a:lnTo>
                      <a:pt x="104" y="247"/>
                    </a:lnTo>
                    <a:lnTo>
                      <a:pt x="117" y="267"/>
                    </a:lnTo>
                    <a:lnTo>
                      <a:pt x="130" y="285"/>
                    </a:lnTo>
                    <a:lnTo>
                      <a:pt x="144" y="302"/>
                    </a:lnTo>
                    <a:lnTo>
                      <a:pt x="159" y="320"/>
                    </a:lnTo>
                    <a:lnTo>
                      <a:pt x="175" y="337"/>
                    </a:lnTo>
                    <a:lnTo>
                      <a:pt x="191" y="353"/>
                    </a:lnTo>
                    <a:lnTo>
                      <a:pt x="207" y="369"/>
                    </a:lnTo>
                    <a:lnTo>
                      <a:pt x="224" y="385"/>
                    </a:lnTo>
                    <a:lnTo>
                      <a:pt x="242" y="400"/>
                    </a:lnTo>
                    <a:lnTo>
                      <a:pt x="260" y="414"/>
                    </a:lnTo>
                    <a:lnTo>
                      <a:pt x="280" y="427"/>
                    </a:lnTo>
                    <a:lnTo>
                      <a:pt x="300" y="440"/>
                    </a:lnTo>
                    <a:lnTo>
                      <a:pt x="321" y="451"/>
                    </a:lnTo>
                    <a:lnTo>
                      <a:pt x="342" y="463"/>
                    </a:lnTo>
                    <a:lnTo>
                      <a:pt x="364" y="473"/>
                    </a:lnTo>
                    <a:lnTo>
                      <a:pt x="387" y="482"/>
                    </a:lnTo>
                    <a:lnTo>
                      <a:pt x="411" y="491"/>
                    </a:lnTo>
                    <a:lnTo>
                      <a:pt x="435" y="498"/>
                    </a:lnTo>
                    <a:lnTo>
                      <a:pt x="460" y="505"/>
                    </a:lnTo>
                    <a:lnTo>
                      <a:pt x="486" y="511"/>
                    </a:lnTo>
                    <a:lnTo>
                      <a:pt x="513" y="515"/>
                    </a:lnTo>
                    <a:lnTo>
                      <a:pt x="541" y="519"/>
                    </a:lnTo>
                    <a:lnTo>
                      <a:pt x="548" y="451"/>
                    </a:lnTo>
                    <a:lnTo>
                      <a:pt x="523" y="448"/>
                    </a:lnTo>
                    <a:lnTo>
                      <a:pt x="499" y="445"/>
                    </a:lnTo>
                    <a:lnTo>
                      <a:pt x="476" y="439"/>
                    </a:lnTo>
                    <a:lnTo>
                      <a:pt x="453" y="433"/>
                    </a:lnTo>
                    <a:lnTo>
                      <a:pt x="431" y="427"/>
                    </a:lnTo>
                    <a:lnTo>
                      <a:pt x="411" y="419"/>
                    </a:lnTo>
                    <a:lnTo>
                      <a:pt x="391" y="411"/>
                    </a:lnTo>
                    <a:lnTo>
                      <a:pt x="371" y="402"/>
                    </a:lnTo>
                    <a:lnTo>
                      <a:pt x="353" y="393"/>
                    </a:lnTo>
                    <a:lnTo>
                      <a:pt x="334" y="382"/>
                    </a:lnTo>
                    <a:lnTo>
                      <a:pt x="317" y="372"/>
                    </a:lnTo>
                    <a:lnTo>
                      <a:pt x="300" y="359"/>
                    </a:lnTo>
                    <a:lnTo>
                      <a:pt x="283" y="346"/>
                    </a:lnTo>
                    <a:lnTo>
                      <a:pt x="268" y="334"/>
                    </a:lnTo>
                    <a:lnTo>
                      <a:pt x="252" y="320"/>
                    </a:lnTo>
                    <a:lnTo>
                      <a:pt x="238" y="305"/>
                    </a:lnTo>
                    <a:lnTo>
                      <a:pt x="224" y="291"/>
                    </a:lnTo>
                    <a:lnTo>
                      <a:pt x="210" y="276"/>
                    </a:lnTo>
                    <a:lnTo>
                      <a:pt x="197" y="260"/>
                    </a:lnTo>
                    <a:lnTo>
                      <a:pt x="184" y="244"/>
                    </a:lnTo>
                    <a:lnTo>
                      <a:pt x="171" y="227"/>
                    </a:lnTo>
                    <a:lnTo>
                      <a:pt x="160" y="210"/>
                    </a:lnTo>
                    <a:lnTo>
                      <a:pt x="149" y="192"/>
                    </a:lnTo>
                    <a:lnTo>
                      <a:pt x="138" y="175"/>
                    </a:lnTo>
                    <a:lnTo>
                      <a:pt x="118" y="138"/>
                    </a:lnTo>
                    <a:lnTo>
                      <a:pt x="98" y="100"/>
                    </a:lnTo>
                    <a:lnTo>
                      <a:pt x="83" y="61"/>
                    </a:lnTo>
                    <a:lnTo>
                      <a:pt x="67" y="21"/>
                    </a:lnTo>
                    <a:lnTo>
                      <a:pt x="6" y="16"/>
                    </a:lnTo>
                    <a:lnTo>
                      <a:pt x="67" y="21"/>
                    </a:lnTo>
                    <a:lnTo>
                      <a:pt x="63" y="14"/>
                    </a:lnTo>
                    <a:lnTo>
                      <a:pt x="59" y="9"/>
                    </a:lnTo>
                    <a:lnTo>
                      <a:pt x="53" y="4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7" y="12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3" y="45"/>
                    </a:lnTo>
                    <a:lnTo>
                      <a:pt x="63" y="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2879640" y="4227480"/>
                <a:ext cx="585720" cy="1035000"/>
              </a:xfrm>
              <a:custGeom>
                <a:avLst/>
                <a:gdLst/>
                <a:ahLst/>
                <a:rect l="l" t="t" r="r" b="b"/>
                <a:pathLst>
                  <a:path w="1844" h="3259">
                    <a:moveTo>
                      <a:pt x="929" y="0"/>
                    </a:moveTo>
                    <a:lnTo>
                      <a:pt x="867" y="98"/>
                    </a:lnTo>
                    <a:lnTo>
                      <a:pt x="807" y="196"/>
                    </a:lnTo>
                    <a:lnTo>
                      <a:pt x="749" y="295"/>
                    </a:lnTo>
                    <a:lnTo>
                      <a:pt x="693" y="394"/>
                    </a:lnTo>
                    <a:lnTo>
                      <a:pt x="639" y="492"/>
                    </a:lnTo>
                    <a:lnTo>
                      <a:pt x="587" y="590"/>
                    </a:lnTo>
                    <a:lnTo>
                      <a:pt x="538" y="688"/>
                    </a:lnTo>
                    <a:lnTo>
                      <a:pt x="490" y="786"/>
                    </a:lnTo>
                    <a:lnTo>
                      <a:pt x="444" y="885"/>
                    </a:lnTo>
                    <a:lnTo>
                      <a:pt x="401" y="983"/>
                    </a:lnTo>
                    <a:lnTo>
                      <a:pt x="360" y="1083"/>
                    </a:lnTo>
                    <a:lnTo>
                      <a:pt x="321" y="1182"/>
                    </a:lnTo>
                    <a:lnTo>
                      <a:pt x="284" y="1281"/>
                    </a:lnTo>
                    <a:lnTo>
                      <a:pt x="249" y="1382"/>
                    </a:lnTo>
                    <a:lnTo>
                      <a:pt x="216" y="1481"/>
                    </a:lnTo>
                    <a:lnTo>
                      <a:pt x="187" y="1581"/>
                    </a:lnTo>
                    <a:lnTo>
                      <a:pt x="158" y="1683"/>
                    </a:lnTo>
                    <a:lnTo>
                      <a:pt x="133" y="1783"/>
                    </a:lnTo>
                    <a:lnTo>
                      <a:pt x="109" y="1885"/>
                    </a:lnTo>
                    <a:lnTo>
                      <a:pt x="87" y="1987"/>
                    </a:lnTo>
                    <a:lnTo>
                      <a:pt x="68" y="2090"/>
                    </a:lnTo>
                    <a:lnTo>
                      <a:pt x="52" y="2193"/>
                    </a:lnTo>
                    <a:lnTo>
                      <a:pt x="37" y="2297"/>
                    </a:lnTo>
                    <a:lnTo>
                      <a:pt x="25" y="2400"/>
                    </a:lnTo>
                    <a:lnTo>
                      <a:pt x="16" y="2505"/>
                    </a:lnTo>
                    <a:lnTo>
                      <a:pt x="8" y="2611"/>
                    </a:lnTo>
                    <a:lnTo>
                      <a:pt x="2" y="2718"/>
                    </a:lnTo>
                    <a:lnTo>
                      <a:pt x="0" y="2824"/>
                    </a:lnTo>
                    <a:lnTo>
                      <a:pt x="0" y="2932"/>
                    </a:lnTo>
                    <a:lnTo>
                      <a:pt x="1" y="3040"/>
                    </a:lnTo>
                    <a:lnTo>
                      <a:pt x="5" y="3149"/>
                    </a:lnTo>
                    <a:lnTo>
                      <a:pt x="12" y="3259"/>
                    </a:lnTo>
                    <a:lnTo>
                      <a:pt x="227" y="3259"/>
                    </a:lnTo>
                    <a:lnTo>
                      <a:pt x="441" y="3259"/>
                    </a:lnTo>
                    <a:lnTo>
                      <a:pt x="656" y="3259"/>
                    </a:lnTo>
                    <a:lnTo>
                      <a:pt x="872" y="3259"/>
                    </a:lnTo>
                    <a:lnTo>
                      <a:pt x="1086" y="3259"/>
                    </a:lnTo>
                    <a:lnTo>
                      <a:pt x="1302" y="3259"/>
                    </a:lnTo>
                    <a:lnTo>
                      <a:pt x="1517" y="3259"/>
                    </a:lnTo>
                    <a:lnTo>
                      <a:pt x="1732" y="3259"/>
                    </a:lnTo>
                    <a:lnTo>
                      <a:pt x="1759" y="3075"/>
                    </a:lnTo>
                    <a:lnTo>
                      <a:pt x="1783" y="2896"/>
                    </a:lnTo>
                    <a:lnTo>
                      <a:pt x="1794" y="2809"/>
                    </a:lnTo>
                    <a:lnTo>
                      <a:pt x="1803" y="2722"/>
                    </a:lnTo>
                    <a:lnTo>
                      <a:pt x="1812" y="2635"/>
                    </a:lnTo>
                    <a:lnTo>
                      <a:pt x="1821" y="2551"/>
                    </a:lnTo>
                    <a:lnTo>
                      <a:pt x="1828" y="2467"/>
                    </a:lnTo>
                    <a:lnTo>
                      <a:pt x="1834" y="2383"/>
                    </a:lnTo>
                    <a:lnTo>
                      <a:pt x="1838" y="2300"/>
                    </a:lnTo>
                    <a:lnTo>
                      <a:pt x="1842" y="2218"/>
                    </a:lnTo>
                    <a:lnTo>
                      <a:pt x="1844" y="2136"/>
                    </a:lnTo>
                    <a:lnTo>
                      <a:pt x="1844" y="2054"/>
                    </a:lnTo>
                    <a:lnTo>
                      <a:pt x="1843" y="1971"/>
                    </a:lnTo>
                    <a:lnTo>
                      <a:pt x="1841" y="1890"/>
                    </a:lnTo>
                    <a:lnTo>
                      <a:pt x="1837" y="1808"/>
                    </a:lnTo>
                    <a:lnTo>
                      <a:pt x="1830" y="1727"/>
                    </a:lnTo>
                    <a:lnTo>
                      <a:pt x="1824" y="1645"/>
                    </a:lnTo>
                    <a:lnTo>
                      <a:pt x="1813" y="1563"/>
                    </a:lnTo>
                    <a:lnTo>
                      <a:pt x="1802" y="1481"/>
                    </a:lnTo>
                    <a:lnTo>
                      <a:pt x="1788" y="1398"/>
                    </a:lnTo>
                    <a:lnTo>
                      <a:pt x="1772" y="1314"/>
                    </a:lnTo>
                    <a:lnTo>
                      <a:pt x="1755" y="1231"/>
                    </a:lnTo>
                    <a:lnTo>
                      <a:pt x="1735" y="1147"/>
                    </a:lnTo>
                    <a:lnTo>
                      <a:pt x="1712" y="1061"/>
                    </a:lnTo>
                    <a:lnTo>
                      <a:pt x="1688" y="974"/>
                    </a:lnTo>
                    <a:lnTo>
                      <a:pt x="1661" y="886"/>
                    </a:lnTo>
                    <a:lnTo>
                      <a:pt x="1630" y="799"/>
                    </a:lnTo>
                    <a:lnTo>
                      <a:pt x="1598" y="708"/>
                    </a:lnTo>
                    <a:lnTo>
                      <a:pt x="1563" y="618"/>
                    </a:lnTo>
                    <a:lnTo>
                      <a:pt x="1525" y="526"/>
                    </a:lnTo>
                    <a:lnTo>
                      <a:pt x="1494" y="522"/>
                    </a:lnTo>
                    <a:lnTo>
                      <a:pt x="1465" y="518"/>
                    </a:lnTo>
                    <a:lnTo>
                      <a:pt x="1436" y="511"/>
                    </a:lnTo>
                    <a:lnTo>
                      <a:pt x="1409" y="504"/>
                    </a:lnTo>
                    <a:lnTo>
                      <a:pt x="1381" y="496"/>
                    </a:lnTo>
                    <a:lnTo>
                      <a:pt x="1355" y="487"/>
                    </a:lnTo>
                    <a:lnTo>
                      <a:pt x="1330" y="477"/>
                    </a:lnTo>
                    <a:lnTo>
                      <a:pt x="1306" y="465"/>
                    </a:lnTo>
                    <a:lnTo>
                      <a:pt x="1282" y="454"/>
                    </a:lnTo>
                    <a:lnTo>
                      <a:pt x="1259" y="440"/>
                    </a:lnTo>
                    <a:lnTo>
                      <a:pt x="1238" y="427"/>
                    </a:lnTo>
                    <a:lnTo>
                      <a:pt x="1216" y="412"/>
                    </a:lnTo>
                    <a:lnTo>
                      <a:pt x="1196" y="397"/>
                    </a:lnTo>
                    <a:lnTo>
                      <a:pt x="1176" y="381"/>
                    </a:lnTo>
                    <a:lnTo>
                      <a:pt x="1157" y="364"/>
                    </a:lnTo>
                    <a:lnTo>
                      <a:pt x="1139" y="347"/>
                    </a:lnTo>
                    <a:lnTo>
                      <a:pt x="1121" y="329"/>
                    </a:lnTo>
                    <a:lnTo>
                      <a:pt x="1104" y="309"/>
                    </a:lnTo>
                    <a:lnTo>
                      <a:pt x="1088" y="290"/>
                    </a:lnTo>
                    <a:lnTo>
                      <a:pt x="1072" y="270"/>
                    </a:lnTo>
                    <a:lnTo>
                      <a:pt x="1058" y="250"/>
                    </a:lnTo>
                    <a:lnTo>
                      <a:pt x="1043" y="228"/>
                    </a:lnTo>
                    <a:lnTo>
                      <a:pt x="1029" y="208"/>
                    </a:lnTo>
                    <a:lnTo>
                      <a:pt x="1017" y="185"/>
                    </a:lnTo>
                    <a:lnTo>
                      <a:pt x="1004" y="163"/>
                    </a:lnTo>
                    <a:lnTo>
                      <a:pt x="991" y="140"/>
                    </a:lnTo>
                    <a:lnTo>
                      <a:pt x="980" y="117"/>
                    </a:lnTo>
                    <a:lnTo>
                      <a:pt x="969" y="95"/>
                    </a:lnTo>
                    <a:lnTo>
                      <a:pt x="948" y="48"/>
                    </a:lnTo>
                    <a:lnTo>
                      <a:pt x="9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2868480" y="4221000"/>
                <a:ext cx="316080" cy="1051200"/>
              </a:xfrm>
              <a:custGeom>
                <a:avLst/>
                <a:gdLst/>
                <a:ahLst/>
                <a:rect l="l" t="t" r="r" b="b"/>
                <a:pathLst>
                  <a:path w="992" h="3311">
                    <a:moveTo>
                      <a:pt x="47" y="3243"/>
                    </a:moveTo>
                    <a:lnTo>
                      <a:pt x="80" y="3275"/>
                    </a:lnTo>
                    <a:lnTo>
                      <a:pt x="77" y="3220"/>
                    </a:lnTo>
                    <a:lnTo>
                      <a:pt x="75" y="3166"/>
                    </a:lnTo>
                    <a:lnTo>
                      <a:pt x="71" y="3111"/>
                    </a:lnTo>
                    <a:lnTo>
                      <a:pt x="70" y="3057"/>
                    </a:lnTo>
                    <a:lnTo>
                      <a:pt x="69" y="3004"/>
                    </a:lnTo>
                    <a:lnTo>
                      <a:pt x="68" y="2950"/>
                    </a:lnTo>
                    <a:lnTo>
                      <a:pt x="68" y="2895"/>
                    </a:lnTo>
                    <a:lnTo>
                      <a:pt x="69" y="2843"/>
                    </a:lnTo>
                    <a:lnTo>
                      <a:pt x="69" y="2789"/>
                    </a:lnTo>
                    <a:lnTo>
                      <a:pt x="71" y="2737"/>
                    </a:lnTo>
                    <a:lnTo>
                      <a:pt x="73" y="2683"/>
                    </a:lnTo>
                    <a:lnTo>
                      <a:pt x="77" y="2631"/>
                    </a:lnTo>
                    <a:lnTo>
                      <a:pt x="80" y="2578"/>
                    </a:lnTo>
                    <a:lnTo>
                      <a:pt x="84" y="2526"/>
                    </a:lnTo>
                    <a:lnTo>
                      <a:pt x="88" y="2474"/>
                    </a:lnTo>
                    <a:lnTo>
                      <a:pt x="94" y="2422"/>
                    </a:lnTo>
                    <a:lnTo>
                      <a:pt x="100" y="2370"/>
                    </a:lnTo>
                    <a:lnTo>
                      <a:pt x="105" y="2319"/>
                    </a:lnTo>
                    <a:lnTo>
                      <a:pt x="112" y="2267"/>
                    </a:lnTo>
                    <a:lnTo>
                      <a:pt x="120" y="2215"/>
                    </a:lnTo>
                    <a:lnTo>
                      <a:pt x="128" y="2165"/>
                    </a:lnTo>
                    <a:lnTo>
                      <a:pt x="137" y="2114"/>
                    </a:lnTo>
                    <a:lnTo>
                      <a:pt x="146" y="2062"/>
                    </a:lnTo>
                    <a:lnTo>
                      <a:pt x="155" y="2011"/>
                    </a:lnTo>
                    <a:lnTo>
                      <a:pt x="166" y="1961"/>
                    </a:lnTo>
                    <a:lnTo>
                      <a:pt x="177" y="1911"/>
                    </a:lnTo>
                    <a:lnTo>
                      <a:pt x="189" y="1859"/>
                    </a:lnTo>
                    <a:lnTo>
                      <a:pt x="200" y="1809"/>
                    </a:lnTo>
                    <a:lnTo>
                      <a:pt x="212" y="1759"/>
                    </a:lnTo>
                    <a:lnTo>
                      <a:pt x="226" y="1709"/>
                    </a:lnTo>
                    <a:lnTo>
                      <a:pt x="240" y="1659"/>
                    </a:lnTo>
                    <a:lnTo>
                      <a:pt x="254" y="1608"/>
                    </a:lnTo>
                    <a:lnTo>
                      <a:pt x="268" y="1559"/>
                    </a:lnTo>
                    <a:lnTo>
                      <a:pt x="284" y="1509"/>
                    </a:lnTo>
                    <a:lnTo>
                      <a:pt x="299" y="1460"/>
                    </a:lnTo>
                    <a:lnTo>
                      <a:pt x="316" y="1410"/>
                    </a:lnTo>
                    <a:lnTo>
                      <a:pt x="350" y="1311"/>
                    </a:lnTo>
                    <a:lnTo>
                      <a:pt x="387" y="1212"/>
                    </a:lnTo>
                    <a:lnTo>
                      <a:pt x="426" y="1113"/>
                    </a:lnTo>
                    <a:lnTo>
                      <a:pt x="467" y="1015"/>
                    </a:lnTo>
                    <a:lnTo>
                      <a:pt x="510" y="917"/>
                    </a:lnTo>
                    <a:lnTo>
                      <a:pt x="556" y="819"/>
                    </a:lnTo>
                    <a:lnTo>
                      <a:pt x="602" y="721"/>
                    </a:lnTo>
                    <a:lnTo>
                      <a:pt x="653" y="623"/>
                    </a:lnTo>
                    <a:lnTo>
                      <a:pt x="704" y="526"/>
                    </a:lnTo>
                    <a:lnTo>
                      <a:pt x="757" y="428"/>
                    </a:lnTo>
                    <a:lnTo>
                      <a:pt x="813" y="329"/>
                    </a:lnTo>
                    <a:lnTo>
                      <a:pt x="870" y="232"/>
                    </a:lnTo>
                    <a:lnTo>
                      <a:pt x="931" y="134"/>
                    </a:lnTo>
                    <a:lnTo>
                      <a:pt x="992" y="36"/>
                    </a:lnTo>
                    <a:lnTo>
                      <a:pt x="935" y="0"/>
                    </a:lnTo>
                    <a:lnTo>
                      <a:pt x="873" y="99"/>
                    </a:lnTo>
                    <a:lnTo>
                      <a:pt x="813" y="197"/>
                    </a:lnTo>
                    <a:lnTo>
                      <a:pt x="754" y="296"/>
                    </a:lnTo>
                    <a:lnTo>
                      <a:pt x="698" y="394"/>
                    </a:lnTo>
                    <a:lnTo>
                      <a:pt x="645" y="494"/>
                    </a:lnTo>
                    <a:lnTo>
                      <a:pt x="592" y="592"/>
                    </a:lnTo>
                    <a:lnTo>
                      <a:pt x="542" y="691"/>
                    </a:lnTo>
                    <a:lnTo>
                      <a:pt x="494" y="790"/>
                    </a:lnTo>
                    <a:lnTo>
                      <a:pt x="448" y="890"/>
                    </a:lnTo>
                    <a:lnTo>
                      <a:pt x="405" y="989"/>
                    </a:lnTo>
                    <a:lnTo>
                      <a:pt x="363" y="1088"/>
                    </a:lnTo>
                    <a:lnTo>
                      <a:pt x="324" y="1188"/>
                    </a:lnTo>
                    <a:lnTo>
                      <a:pt x="287" y="1288"/>
                    </a:lnTo>
                    <a:lnTo>
                      <a:pt x="252" y="1388"/>
                    </a:lnTo>
                    <a:lnTo>
                      <a:pt x="235" y="1438"/>
                    </a:lnTo>
                    <a:lnTo>
                      <a:pt x="219" y="1490"/>
                    </a:lnTo>
                    <a:lnTo>
                      <a:pt x="205" y="1540"/>
                    </a:lnTo>
                    <a:lnTo>
                      <a:pt x="189" y="1590"/>
                    </a:lnTo>
                    <a:lnTo>
                      <a:pt x="175" y="1641"/>
                    </a:lnTo>
                    <a:lnTo>
                      <a:pt x="161" y="1692"/>
                    </a:lnTo>
                    <a:lnTo>
                      <a:pt x="148" y="1743"/>
                    </a:lnTo>
                    <a:lnTo>
                      <a:pt x="135" y="1793"/>
                    </a:lnTo>
                    <a:lnTo>
                      <a:pt x="122" y="1844"/>
                    </a:lnTo>
                    <a:lnTo>
                      <a:pt x="111" y="1896"/>
                    </a:lnTo>
                    <a:lnTo>
                      <a:pt x="100" y="1947"/>
                    </a:lnTo>
                    <a:lnTo>
                      <a:pt x="89" y="1999"/>
                    </a:lnTo>
                    <a:lnTo>
                      <a:pt x="79" y="2050"/>
                    </a:lnTo>
                    <a:lnTo>
                      <a:pt x="70" y="2102"/>
                    </a:lnTo>
                    <a:lnTo>
                      <a:pt x="62" y="2154"/>
                    </a:lnTo>
                    <a:lnTo>
                      <a:pt x="53" y="2206"/>
                    </a:lnTo>
                    <a:lnTo>
                      <a:pt x="46" y="2257"/>
                    </a:lnTo>
                    <a:lnTo>
                      <a:pt x="39" y="2310"/>
                    </a:lnTo>
                    <a:lnTo>
                      <a:pt x="32" y="2362"/>
                    </a:lnTo>
                    <a:lnTo>
                      <a:pt x="27" y="2415"/>
                    </a:lnTo>
                    <a:lnTo>
                      <a:pt x="21" y="2467"/>
                    </a:lnTo>
                    <a:lnTo>
                      <a:pt x="16" y="2521"/>
                    </a:lnTo>
                    <a:lnTo>
                      <a:pt x="13" y="2574"/>
                    </a:lnTo>
                    <a:lnTo>
                      <a:pt x="10" y="2627"/>
                    </a:lnTo>
                    <a:lnTo>
                      <a:pt x="6" y="2681"/>
                    </a:lnTo>
                    <a:lnTo>
                      <a:pt x="4" y="2734"/>
                    </a:lnTo>
                    <a:lnTo>
                      <a:pt x="2" y="2788"/>
                    </a:lnTo>
                    <a:lnTo>
                      <a:pt x="2" y="2842"/>
                    </a:lnTo>
                    <a:lnTo>
                      <a:pt x="0" y="2895"/>
                    </a:lnTo>
                    <a:lnTo>
                      <a:pt x="0" y="2950"/>
                    </a:lnTo>
                    <a:lnTo>
                      <a:pt x="2" y="3005"/>
                    </a:lnTo>
                    <a:lnTo>
                      <a:pt x="3" y="3058"/>
                    </a:lnTo>
                    <a:lnTo>
                      <a:pt x="4" y="3114"/>
                    </a:lnTo>
                    <a:lnTo>
                      <a:pt x="7" y="3169"/>
                    </a:lnTo>
                    <a:lnTo>
                      <a:pt x="10" y="3224"/>
                    </a:lnTo>
                    <a:lnTo>
                      <a:pt x="13" y="3280"/>
                    </a:lnTo>
                    <a:lnTo>
                      <a:pt x="47" y="3311"/>
                    </a:lnTo>
                    <a:lnTo>
                      <a:pt x="13" y="3280"/>
                    </a:lnTo>
                    <a:lnTo>
                      <a:pt x="15" y="3288"/>
                    </a:lnTo>
                    <a:lnTo>
                      <a:pt x="18" y="3295"/>
                    </a:lnTo>
                    <a:lnTo>
                      <a:pt x="21" y="3299"/>
                    </a:lnTo>
                    <a:lnTo>
                      <a:pt x="26" y="3304"/>
                    </a:lnTo>
                    <a:lnTo>
                      <a:pt x="31" y="3307"/>
                    </a:lnTo>
                    <a:lnTo>
                      <a:pt x="37" y="3309"/>
                    </a:lnTo>
                    <a:lnTo>
                      <a:pt x="43" y="3311"/>
                    </a:lnTo>
                    <a:lnTo>
                      <a:pt x="49" y="3311"/>
                    </a:lnTo>
                    <a:lnTo>
                      <a:pt x="55" y="3309"/>
                    </a:lnTo>
                    <a:lnTo>
                      <a:pt x="62" y="3308"/>
                    </a:lnTo>
                    <a:lnTo>
                      <a:pt x="68" y="3305"/>
                    </a:lnTo>
                    <a:lnTo>
                      <a:pt x="72" y="3300"/>
                    </a:lnTo>
                    <a:lnTo>
                      <a:pt x="76" y="3296"/>
                    </a:lnTo>
                    <a:lnTo>
                      <a:pt x="79" y="3290"/>
                    </a:lnTo>
                    <a:lnTo>
                      <a:pt x="80" y="3283"/>
                    </a:lnTo>
                    <a:lnTo>
                      <a:pt x="80" y="3275"/>
                    </a:lnTo>
                    <a:lnTo>
                      <a:pt x="47" y="32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2884320" y="5251320"/>
                <a:ext cx="557280" cy="20880"/>
              </a:xfrm>
              <a:custGeom>
                <a:avLst/>
                <a:gdLst/>
                <a:ahLst/>
                <a:rect l="l" t="t" r="r" b="b"/>
                <a:pathLst>
                  <a:path w="1754" h="68">
                    <a:moveTo>
                      <a:pt x="1687" y="29"/>
                    </a:moveTo>
                    <a:lnTo>
                      <a:pt x="1720" y="0"/>
                    </a:lnTo>
                    <a:lnTo>
                      <a:pt x="1505" y="0"/>
                    </a:lnTo>
                    <a:lnTo>
                      <a:pt x="1290" y="0"/>
                    </a:lnTo>
                    <a:lnTo>
                      <a:pt x="1074" y="0"/>
                    </a:lnTo>
                    <a:lnTo>
                      <a:pt x="860" y="0"/>
                    </a:lnTo>
                    <a:lnTo>
                      <a:pt x="644" y="0"/>
                    </a:lnTo>
                    <a:lnTo>
                      <a:pt x="429" y="0"/>
                    </a:lnTo>
                    <a:lnTo>
                      <a:pt x="21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15" y="68"/>
                    </a:lnTo>
                    <a:lnTo>
                      <a:pt x="429" y="68"/>
                    </a:lnTo>
                    <a:lnTo>
                      <a:pt x="644" y="68"/>
                    </a:lnTo>
                    <a:lnTo>
                      <a:pt x="860" y="68"/>
                    </a:lnTo>
                    <a:lnTo>
                      <a:pt x="1074" y="68"/>
                    </a:lnTo>
                    <a:lnTo>
                      <a:pt x="1290" y="68"/>
                    </a:lnTo>
                    <a:lnTo>
                      <a:pt x="1505" y="68"/>
                    </a:lnTo>
                    <a:lnTo>
                      <a:pt x="1720" y="68"/>
                    </a:lnTo>
                    <a:lnTo>
                      <a:pt x="1754" y="39"/>
                    </a:lnTo>
                    <a:lnTo>
                      <a:pt x="1720" y="68"/>
                    </a:lnTo>
                    <a:lnTo>
                      <a:pt x="1728" y="68"/>
                    </a:lnTo>
                    <a:lnTo>
                      <a:pt x="1735" y="65"/>
                    </a:lnTo>
                    <a:lnTo>
                      <a:pt x="1741" y="62"/>
                    </a:lnTo>
                    <a:lnTo>
                      <a:pt x="1746" y="57"/>
                    </a:lnTo>
                    <a:lnTo>
                      <a:pt x="1749" y="53"/>
                    </a:lnTo>
                    <a:lnTo>
                      <a:pt x="1752" y="47"/>
                    </a:lnTo>
                    <a:lnTo>
                      <a:pt x="1754" y="40"/>
                    </a:lnTo>
                    <a:lnTo>
                      <a:pt x="1754" y="34"/>
                    </a:lnTo>
                    <a:lnTo>
                      <a:pt x="1754" y="28"/>
                    </a:lnTo>
                    <a:lnTo>
                      <a:pt x="1752" y="22"/>
                    </a:lnTo>
                    <a:lnTo>
                      <a:pt x="1749" y="16"/>
                    </a:lnTo>
                    <a:lnTo>
                      <a:pt x="1746" y="10"/>
                    </a:lnTo>
                    <a:lnTo>
                      <a:pt x="1741" y="7"/>
                    </a:lnTo>
                    <a:lnTo>
                      <a:pt x="1735" y="4"/>
                    </a:lnTo>
                    <a:lnTo>
                      <a:pt x="1728" y="1"/>
                    </a:lnTo>
                    <a:lnTo>
                      <a:pt x="1720" y="0"/>
                    </a:lnTo>
                    <a:lnTo>
                      <a:pt x="1687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3354480" y="4383000"/>
                <a:ext cx="122040" cy="881280"/>
              </a:xfrm>
              <a:custGeom>
                <a:avLst/>
                <a:gdLst/>
                <a:ahLst/>
                <a:rect l="l" t="t" r="r" b="b"/>
                <a:pathLst>
                  <a:path w="387" h="2772">
                    <a:moveTo>
                      <a:pt x="31" y="68"/>
                    </a:moveTo>
                    <a:lnTo>
                      <a:pt x="3" y="48"/>
                    </a:lnTo>
                    <a:lnTo>
                      <a:pt x="41" y="139"/>
                    </a:lnTo>
                    <a:lnTo>
                      <a:pt x="75" y="229"/>
                    </a:lnTo>
                    <a:lnTo>
                      <a:pt x="108" y="318"/>
                    </a:lnTo>
                    <a:lnTo>
                      <a:pt x="138" y="406"/>
                    </a:lnTo>
                    <a:lnTo>
                      <a:pt x="164" y="491"/>
                    </a:lnTo>
                    <a:lnTo>
                      <a:pt x="189" y="577"/>
                    </a:lnTo>
                    <a:lnTo>
                      <a:pt x="211" y="663"/>
                    </a:lnTo>
                    <a:lnTo>
                      <a:pt x="231" y="746"/>
                    </a:lnTo>
                    <a:lnTo>
                      <a:pt x="248" y="829"/>
                    </a:lnTo>
                    <a:lnTo>
                      <a:pt x="264" y="911"/>
                    </a:lnTo>
                    <a:lnTo>
                      <a:pt x="278" y="993"/>
                    </a:lnTo>
                    <a:lnTo>
                      <a:pt x="289" y="1076"/>
                    </a:lnTo>
                    <a:lnTo>
                      <a:pt x="298" y="1157"/>
                    </a:lnTo>
                    <a:lnTo>
                      <a:pt x="306" y="1238"/>
                    </a:lnTo>
                    <a:lnTo>
                      <a:pt x="312" y="1319"/>
                    </a:lnTo>
                    <a:lnTo>
                      <a:pt x="317" y="1400"/>
                    </a:lnTo>
                    <a:lnTo>
                      <a:pt x="319" y="1481"/>
                    </a:lnTo>
                    <a:lnTo>
                      <a:pt x="320" y="1562"/>
                    </a:lnTo>
                    <a:lnTo>
                      <a:pt x="319" y="1643"/>
                    </a:lnTo>
                    <a:lnTo>
                      <a:pt x="317" y="1725"/>
                    </a:lnTo>
                    <a:lnTo>
                      <a:pt x="313" y="1807"/>
                    </a:lnTo>
                    <a:lnTo>
                      <a:pt x="309" y="1889"/>
                    </a:lnTo>
                    <a:lnTo>
                      <a:pt x="303" y="1972"/>
                    </a:lnTo>
                    <a:lnTo>
                      <a:pt x="296" y="2056"/>
                    </a:lnTo>
                    <a:lnTo>
                      <a:pt x="288" y="2140"/>
                    </a:lnTo>
                    <a:lnTo>
                      <a:pt x="279" y="2226"/>
                    </a:lnTo>
                    <a:lnTo>
                      <a:pt x="269" y="2312"/>
                    </a:lnTo>
                    <a:lnTo>
                      <a:pt x="259" y="2400"/>
                    </a:lnTo>
                    <a:lnTo>
                      <a:pt x="235" y="2578"/>
                    </a:lnTo>
                    <a:lnTo>
                      <a:pt x="208" y="2762"/>
                    </a:lnTo>
                    <a:lnTo>
                      <a:pt x="275" y="2772"/>
                    </a:lnTo>
                    <a:lnTo>
                      <a:pt x="301" y="2587"/>
                    </a:lnTo>
                    <a:lnTo>
                      <a:pt x="325" y="2408"/>
                    </a:lnTo>
                    <a:lnTo>
                      <a:pt x="336" y="2320"/>
                    </a:lnTo>
                    <a:lnTo>
                      <a:pt x="346" y="2234"/>
                    </a:lnTo>
                    <a:lnTo>
                      <a:pt x="355" y="2147"/>
                    </a:lnTo>
                    <a:lnTo>
                      <a:pt x="363" y="2061"/>
                    </a:lnTo>
                    <a:lnTo>
                      <a:pt x="370" y="1977"/>
                    </a:lnTo>
                    <a:lnTo>
                      <a:pt x="376" y="1894"/>
                    </a:lnTo>
                    <a:lnTo>
                      <a:pt x="381" y="1809"/>
                    </a:lnTo>
                    <a:lnTo>
                      <a:pt x="384" y="1726"/>
                    </a:lnTo>
                    <a:lnTo>
                      <a:pt x="386" y="1644"/>
                    </a:lnTo>
                    <a:lnTo>
                      <a:pt x="387" y="1562"/>
                    </a:lnTo>
                    <a:lnTo>
                      <a:pt x="386" y="1479"/>
                    </a:lnTo>
                    <a:lnTo>
                      <a:pt x="384" y="1396"/>
                    </a:lnTo>
                    <a:lnTo>
                      <a:pt x="379" y="1314"/>
                    </a:lnTo>
                    <a:lnTo>
                      <a:pt x="374" y="1232"/>
                    </a:lnTo>
                    <a:lnTo>
                      <a:pt x="366" y="1150"/>
                    </a:lnTo>
                    <a:lnTo>
                      <a:pt x="355" y="1066"/>
                    </a:lnTo>
                    <a:lnTo>
                      <a:pt x="344" y="983"/>
                    </a:lnTo>
                    <a:lnTo>
                      <a:pt x="330" y="900"/>
                    </a:lnTo>
                    <a:lnTo>
                      <a:pt x="314" y="815"/>
                    </a:lnTo>
                    <a:lnTo>
                      <a:pt x="296" y="731"/>
                    </a:lnTo>
                    <a:lnTo>
                      <a:pt x="277" y="645"/>
                    </a:lnTo>
                    <a:lnTo>
                      <a:pt x="254" y="560"/>
                    </a:lnTo>
                    <a:lnTo>
                      <a:pt x="229" y="473"/>
                    </a:lnTo>
                    <a:lnTo>
                      <a:pt x="202" y="384"/>
                    </a:lnTo>
                    <a:lnTo>
                      <a:pt x="171" y="295"/>
                    </a:lnTo>
                    <a:lnTo>
                      <a:pt x="139" y="205"/>
                    </a:lnTo>
                    <a:lnTo>
                      <a:pt x="102" y="114"/>
                    </a:lnTo>
                    <a:lnTo>
                      <a:pt x="65" y="21"/>
                    </a:lnTo>
                    <a:lnTo>
                      <a:pt x="37" y="1"/>
                    </a:lnTo>
                    <a:lnTo>
                      <a:pt x="65" y="21"/>
                    </a:lnTo>
                    <a:lnTo>
                      <a:pt x="61" y="13"/>
                    </a:lnTo>
                    <a:lnTo>
                      <a:pt x="57" y="9"/>
                    </a:lnTo>
                    <a:lnTo>
                      <a:pt x="51" y="4"/>
                    </a:lnTo>
                    <a:lnTo>
                      <a:pt x="45" y="2"/>
                    </a:lnTo>
                    <a:lnTo>
                      <a:pt x="39" y="1"/>
                    </a:lnTo>
                    <a:lnTo>
                      <a:pt x="33" y="0"/>
                    </a:lnTo>
                    <a:lnTo>
                      <a:pt x="26" y="1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3" y="48"/>
                    </a:lnTo>
                    <a:lnTo>
                      <a:pt x="31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3164040" y="4216320"/>
                <a:ext cx="201600" cy="189000"/>
              </a:xfrm>
              <a:custGeom>
                <a:avLst/>
                <a:gdLst/>
                <a:ahLst/>
                <a:rect l="l" t="t" r="r" b="b"/>
                <a:pathLst>
                  <a:path w="633" h="594">
                    <a:moveTo>
                      <a:pt x="62" y="52"/>
                    </a:moveTo>
                    <a:lnTo>
                      <a:pt x="2" y="45"/>
                    </a:lnTo>
                    <a:lnTo>
                      <a:pt x="21" y="94"/>
                    </a:lnTo>
                    <a:lnTo>
                      <a:pt x="43" y="142"/>
                    </a:lnTo>
                    <a:lnTo>
                      <a:pt x="54" y="166"/>
                    </a:lnTo>
                    <a:lnTo>
                      <a:pt x="67" y="190"/>
                    </a:lnTo>
                    <a:lnTo>
                      <a:pt x="79" y="213"/>
                    </a:lnTo>
                    <a:lnTo>
                      <a:pt x="92" y="236"/>
                    </a:lnTo>
                    <a:lnTo>
                      <a:pt x="106" y="259"/>
                    </a:lnTo>
                    <a:lnTo>
                      <a:pt x="120" y="282"/>
                    </a:lnTo>
                    <a:lnTo>
                      <a:pt x="135" y="303"/>
                    </a:lnTo>
                    <a:lnTo>
                      <a:pt x="151" y="324"/>
                    </a:lnTo>
                    <a:lnTo>
                      <a:pt x="167" y="345"/>
                    </a:lnTo>
                    <a:lnTo>
                      <a:pt x="184" y="366"/>
                    </a:lnTo>
                    <a:lnTo>
                      <a:pt x="201" y="385"/>
                    </a:lnTo>
                    <a:lnTo>
                      <a:pt x="221" y="404"/>
                    </a:lnTo>
                    <a:lnTo>
                      <a:pt x="239" y="423"/>
                    </a:lnTo>
                    <a:lnTo>
                      <a:pt x="259" y="440"/>
                    </a:lnTo>
                    <a:lnTo>
                      <a:pt x="280" y="457"/>
                    </a:lnTo>
                    <a:lnTo>
                      <a:pt x="302" y="473"/>
                    </a:lnTo>
                    <a:lnTo>
                      <a:pt x="324" y="489"/>
                    </a:lnTo>
                    <a:lnTo>
                      <a:pt x="347" y="504"/>
                    </a:lnTo>
                    <a:lnTo>
                      <a:pt x="371" y="518"/>
                    </a:lnTo>
                    <a:lnTo>
                      <a:pt x="396" y="530"/>
                    </a:lnTo>
                    <a:lnTo>
                      <a:pt x="421" y="542"/>
                    </a:lnTo>
                    <a:lnTo>
                      <a:pt x="449" y="553"/>
                    </a:lnTo>
                    <a:lnTo>
                      <a:pt x="476" y="562"/>
                    </a:lnTo>
                    <a:lnTo>
                      <a:pt x="505" y="571"/>
                    </a:lnTo>
                    <a:lnTo>
                      <a:pt x="533" y="578"/>
                    </a:lnTo>
                    <a:lnTo>
                      <a:pt x="564" y="585"/>
                    </a:lnTo>
                    <a:lnTo>
                      <a:pt x="595" y="590"/>
                    </a:lnTo>
                    <a:lnTo>
                      <a:pt x="627" y="594"/>
                    </a:lnTo>
                    <a:lnTo>
                      <a:pt x="633" y="527"/>
                    </a:lnTo>
                    <a:lnTo>
                      <a:pt x="604" y="523"/>
                    </a:lnTo>
                    <a:lnTo>
                      <a:pt x="576" y="519"/>
                    </a:lnTo>
                    <a:lnTo>
                      <a:pt x="549" y="513"/>
                    </a:lnTo>
                    <a:lnTo>
                      <a:pt x="522" y="506"/>
                    </a:lnTo>
                    <a:lnTo>
                      <a:pt x="497" y="498"/>
                    </a:lnTo>
                    <a:lnTo>
                      <a:pt x="473" y="489"/>
                    </a:lnTo>
                    <a:lnTo>
                      <a:pt x="449" y="480"/>
                    </a:lnTo>
                    <a:lnTo>
                      <a:pt x="426" y="470"/>
                    </a:lnTo>
                    <a:lnTo>
                      <a:pt x="403" y="458"/>
                    </a:lnTo>
                    <a:lnTo>
                      <a:pt x="381" y="446"/>
                    </a:lnTo>
                    <a:lnTo>
                      <a:pt x="361" y="433"/>
                    </a:lnTo>
                    <a:lnTo>
                      <a:pt x="342" y="418"/>
                    </a:lnTo>
                    <a:lnTo>
                      <a:pt x="322" y="405"/>
                    </a:lnTo>
                    <a:lnTo>
                      <a:pt x="303" y="389"/>
                    </a:lnTo>
                    <a:lnTo>
                      <a:pt x="285" y="373"/>
                    </a:lnTo>
                    <a:lnTo>
                      <a:pt x="267" y="357"/>
                    </a:lnTo>
                    <a:lnTo>
                      <a:pt x="251" y="340"/>
                    </a:lnTo>
                    <a:lnTo>
                      <a:pt x="236" y="321"/>
                    </a:lnTo>
                    <a:lnTo>
                      <a:pt x="220" y="303"/>
                    </a:lnTo>
                    <a:lnTo>
                      <a:pt x="205" y="284"/>
                    </a:lnTo>
                    <a:lnTo>
                      <a:pt x="190" y="264"/>
                    </a:lnTo>
                    <a:lnTo>
                      <a:pt x="176" y="244"/>
                    </a:lnTo>
                    <a:lnTo>
                      <a:pt x="163" y="223"/>
                    </a:lnTo>
                    <a:lnTo>
                      <a:pt x="150" y="202"/>
                    </a:lnTo>
                    <a:lnTo>
                      <a:pt x="137" y="181"/>
                    </a:lnTo>
                    <a:lnTo>
                      <a:pt x="126" y="159"/>
                    </a:lnTo>
                    <a:lnTo>
                      <a:pt x="115" y="137"/>
                    </a:lnTo>
                    <a:lnTo>
                      <a:pt x="104" y="115"/>
                    </a:lnTo>
                    <a:lnTo>
                      <a:pt x="84" y="68"/>
                    </a:lnTo>
                    <a:lnTo>
                      <a:pt x="66" y="21"/>
                    </a:lnTo>
                    <a:lnTo>
                      <a:pt x="5" y="16"/>
                    </a:lnTo>
                    <a:lnTo>
                      <a:pt x="66" y="21"/>
                    </a:lnTo>
                    <a:lnTo>
                      <a:pt x="62" y="15"/>
                    </a:lnTo>
                    <a:lnTo>
                      <a:pt x="58" y="9"/>
                    </a:lnTo>
                    <a:lnTo>
                      <a:pt x="52" y="5"/>
                    </a:lnTo>
                    <a:lnTo>
                      <a:pt x="46" y="2"/>
                    </a:lnTo>
                    <a:lnTo>
                      <a:pt x="41" y="1"/>
                    </a:lnTo>
                    <a:lnTo>
                      <a:pt x="34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1" y="9"/>
                    </a:lnTo>
                    <a:lnTo>
                      <a:pt x="6" y="13"/>
                    </a:lnTo>
                    <a:lnTo>
                      <a:pt x="3" y="18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62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2597040" y="4351320"/>
                <a:ext cx="685800" cy="1273320"/>
              </a:xfrm>
              <a:custGeom>
                <a:avLst/>
                <a:gdLst/>
                <a:ahLst/>
                <a:rect l="l" t="t" r="r" b="b"/>
                <a:pathLst>
                  <a:path w="2159" h="4012">
                    <a:moveTo>
                      <a:pt x="704" y="0"/>
                    </a:moveTo>
                    <a:lnTo>
                      <a:pt x="633" y="111"/>
                    </a:lnTo>
                    <a:lnTo>
                      <a:pt x="567" y="225"/>
                    </a:lnTo>
                    <a:lnTo>
                      <a:pt x="505" y="340"/>
                    </a:lnTo>
                    <a:lnTo>
                      <a:pt x="447" y="456"/>
                    </a:lnTo>
                    <a:lnTo>
                      <a:pt x="393" y="575"/>
                    </a:lnTo>
                    <a:lnTo>
                      <a:pt x="344" y="695"/>
                    </a:lnTo>
                    <a:lnTo>
                      <a:pt x="300" y="816"/>
                    </a:lnTo>
                    <a:lnTo>
                      <a:pt x="258" y="939"/>
                    </a:lnTo>
                    <a:lnTo>
                      <a:pt x="220" y="1062"/>
                    </a:lnTo>
                    <a:lnTo>
                      <a:pt x="186" y="1187"/>
                    </a:lnTo>
                    <a:lnTo>
                      <a:pt x="155" y="1312"/>
                    </a:lnTo>
                    <a:lnTo>
                      <a:pt x="128" y="1439"/>
                    </a:lnTo>
                    <a:lnTo>
                      <a:pt x="103" y="1566"/>
                    </a:lnTo>
                    <a:lnTo>
                      <a:pt x="81" y="1694"/>
                    </a:lnTo>
                    <a:lnTo>
                      <a:pt x="63" y="1823"/>
                    </a:lnTo>
                    <a:lnTo>
                      <a:pt x="47" y="1952"/>
                    </a:lnTo>
                    <a:lnTo>
                      <a:pt x="33" y="2082"/>
                    </a:lnTo>
                    <a:lnTo>
                      <a:pt x="23" y="2212"/>
                    </a:lnTo>
                    <a:lnTo>
                      <a:pt x="14" y="2342"/>
                    </a:lnTo>
                    <a:lnTo>
                      <a:pt x="7" y="2472"/>
                    </a:lnTo>
                    <a:lnTo>
                      <a:pt x="2" y="2602"/>
                    </a:lnTo>
                    <a:lnTo>
                      <a:pt x="0" y="2734"/>
                    </a:lnTo>
                    <a:lnTo>
                      <a:pt x="0" y="2864"/>
                    </a:lnTo>
                    <a:lnTo>
                      <a:pt x="0" y="2993"/>
                    </a:lnTo>
                    <a:lnTo>
                      <a:pt x="2" y="3123"/>
                    </a:lnTo>
                    <a:lnTo>
                      <a:pt x="7" y="3252"/>
                    </a:lnTo>
                    <a:lnTo>
                      <a:pt x="12" y="3380"/>
                    </a:lnTo>
                    <a:lnTo>
                      <a:pt x="17" y="3508"/>
                    </a:lnTo>
                    <a:lnTo>
                      <a:pt x="25" y="3636"/>
                    </a:lnTo>
                    <a:lnTo>
                      <a:pt x="32" y="3763"/>
                    </a:lnTo>
                    <a:lnTo>
                      <a:pt x="41" y="3888"/>
                    </a:lnTo>
                    <a:lnTo>
                      <a:pt x="50" y="4012"/>
                    </a:lnTo>
                    <a:lnTo>
                      <a:pt x="302" y="4012"/>
                    </a:lnTo>
                    <a:lnTo>
                      <a:pt x="560" y="4012"/>
                    </a:lnTo>
                    <a:lnTo>
                      <a:pt x="821" y="4012"/>
                    </a:lnTo>
                    <a:lnTo>
                      <a:pt x="1084" y="4012"/>
                    </a:lnTo>
                    <a:lnTo>
                      <a:pt x="1348" y="4012"/>
                    </a:lnTo>
                    <a:lnTo>
                      <a:pt x="1609" y="4012"/>
                    </a:lnTo>
                    <a:lnTo>
                      <a:pt x="1867" y="4012"/>
                    </a:lnTo>
                    <a:lnTo>
                      <a:pt x="2121" y="4012"/>
                    </a:lnTo>
                    <a:lnTo>
                      <a:pt x="2134" y="3908"/>
                    </a:lnTo>
                    <a:lnTo>
                      <a:pt x="2146" y="3801"/>
                    </a:lnTo>
                    <a:lnTo>
                      <a:pt x="2154" y="3696"/>
                    </a:lnTo>
                    <a:lnTo>
                      <a:pt x="2158" y="3590"/>
                    </a:lnTo>
                    <a:lnTo>
                      <a:pt x="2159" y="3483"/>
                    </a:lnTo>
                    <a:lnTo>
                      <a:pt x="2158" y="3377"/>
                    </a:lnTo>
                    <a:lnTo>
                      <a:pt x="2155" y="3270"/>
                    </a:lnTo>
                    <a:lnTo>
                      <a:pt x="2148" y="3163"/>
                    </a:lnTo>
                    <a:lnTo>
                      <a:pt x="2138" y="3055"/>
                    </a:lnTo>
                    <a:lnTo>
                      <a:pt x="2126" y="2948"/>
                    </a:lnTo>
                    <a:lnTo>
                      <a:pt x="2111" y="2840"/>
                    </a:lnTo>
                    <a:lnTo>
                      <a:pt x="2094" y="2732"/>
                    </a:lnTo>
                    <a:lnTo>
                      <a:pt x="2075" y="2624"/>
                    </a:lnTo>
                    <a:lnTo>
                      <a:pt x="2054" y="2516"/>
                    </a:lnTo>
                    <a:lnTo>
                      <a:pt x="2031" y="2408"/>
                    </a:lnTo>
                    <a:lnTo>
                      <a:pt x="2005" y="2300"/>
                    </a:lnTo>
                    <a:lnTo>
                      <a:pt x="1978" y="2192"/>
                    </a:lnTo>
                    <a:lnTo>
                      <a:pt x="1948" y="2083"/>
                    </a:lnTo>
                    <a:lnTo>
                      <a:pt x="1918" y="1976"/>
                    </a:lnTo>
                    <a:lnTo>
                      <a:pt x="1885" y="1868"/>
                    </a:lnTo>
                    <a:lnTo>
                      <a:pt x="1850" y="1760"/>
                    </a:lnTo>
                    <a:lnTo>
                      <a:pt x="1815" y="1653"/>
                    </a:lnTo>
                    <a:lnTo>
                      <a:pt x="1777" y="1545"/>
                    </a:lnTo>
                    <a:lnTo>
                      <a:pt x="1739" y="1437"/>
                    </a:lnTo>
                    <a:lnTo>
                      <a:pt x="1699" y="1331"/>
                    </a:lnTo>
                    <a:lnTo>
                      <a:pt x="1659" y="1224"/>
                    </a:lnTo>
                    <a:lnTo>
                      <a:pt x="1617" y="1118"/>
                    </a:lnTo>
                    <a:lnTo>
                      <a:pt x="1575" y="1012"/>
                    </a:lnTo>
                    <a:lnTo>
                      <a:pt x="1531" y="906"/>
                    </a:lnTo>
                    <a:lnTo>
                      <a:pt x="1487" y="801"/>
                    </a:lnTo>
                    <a:lnTo>
                      <a:pt x="1441" y="696"/>
                    </a:lnTo>
                    <a:lnTo>
                      <a:pt x="1397" y="591"/>
                    </a:lnTo>
                    <a:lnTo>
                      <a:pt x="1361" y="586"/>
                    </a:lnTo>
                    <a:lnTo>
                      <a:pt x="1326" y="582"/>
                    </a:lnTo>
                    <a:lnTo>
                      <a:pt x="1293" y="575"/>
                    </a:lnTo>
                    <a:lnTo>
                      <a:pt x="1261" y="567"/>
                    </a:lnTo>
                    <a:lnTo>
                      <a:pt x="1230" y="558"/>
                    </a:lnTo>
                    <a:lnTo>
                      <a:pt x="1199" y="548"/>
                    </a:lnTo>
                    <a:lnTo>
                      <a:pt x="1170" y="536"/>
                    </a:lnTo>
                    <a:lnTo>
                      <a:pt x="1142" y="524"/>
                    </a:lnTo>
                    <a:lnTo>
                      <a:pt x="1115" y="510"/>
                    </a:lnTo>
                    <a:lnTo>
                      <a:pt x="1089" y="495"/>
                    </a:lnTo>
                    <a:lnTo>
                      <a:pt x="1063" y="479"/>
                    </a:lnTo>
                    <a:lnTo>
                      <a:pt x="1039" y="463"/>
                    </a:lnTo>
                    <a:lnTo>
                      <a:pt x="1015" y="446"/>
                    </a:lnTo>
                    <a:lnTo>
                      <a:pt x="992" y="428"/>
                    </a:lnTo>
                    <a:lnTo>
                      <a:pt x="970" y="408"/>
                    </a:lnTo>
                    <a:lnTo>
                      <a:pt x="949" y="389"/>
                    </a:lnTo>
                    <a:lnTo>
                      <a:pt x="928" y="368"/>
                    </a:lnTo>
                    <a:lnTo>
                      <a:pt x="909" y="347"/>
                    </a:lnTo>
                    <a:lnTo>
                      <a:pt x="889" y="325"/>
                    </a:lnTo>
                    <a:lnTo>
                      <a:pt x="871" y="302"/>
                    </a:lnTo>
                    <a:lnTo>
                      <a:pt x="854" y="279"/>
                    </a:lnTo>
                    <a:lnTo>
                      <a:pt x="837" y="256"/>
                    </a:lnTo>
                    <a:lnTo>
                      <a:pt x="821" y="232"/>
                    </a:lnTo>
                    <a:lnTo>
                      <a:pt x="806" y="206"/>
                    </a:lnTo>
                    <a:lnTo>
                      <a:pt x="791" y="183"/>
                    </a:lnTo>
                    <a:lnTo>
                      <a:pt x="777" y="156"/>
                    </a:lnTo>
                    <a:lnTo>
                      <a:pt x="764" y="131"/>
                    </a:lnTo>
                    <a:lnTo>
                      <a:pt x="750" y="105"/>
                    </a:lnTo>
                    <a:lnTo>
                      <a:pt x="726" y="52"/>
                    </a:lnTo>
                    <a:lnTo>
                      <a:pt x="70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2585880" y="4344840"/>
                <a:ext cx="243000" cy="1290960"/>
              </a:xfrm>
              <a:custGeom>
                <a:avLst/>
                <a:gdLst/>
                <a:ahLst/>
                <a:rect l="l" t="t" r="r" b="b"/>
                <a:pathLst>
                  <a:path w="766" h="4065">
                    <a:moveTo>
                      <a:pt x="84" y="3997"/>
                    </a:moveTo>
                    <a:lnTo>
                      <a:pt x="117" y="4029"/>
                    </a:lnTo>
                    <a:lnTo>
                      <a:pt x="108" y="3905"/>
                    </a:lnTo>
                    <a:lnTo>
                      <a:pt x="100" y="3779"/>
                    </a:lnTo>
                    <a:lnTo>
                      <a:pt x="92" y="3653"/>
                    </a:lnTo>
                    <a:lnTo>
                      <a:pt x="85" y="3526"/>
                    </a:lnTo>
                    <a:lnTo>
                      <a:pt x="80" y="3398"/>
                    </a:lnTo>
                    <a:lnTo>
                      <a:pt x="74" y="3269"/>
                    </a:lnTo>
                    <a:lnTo>
                      <a:pt x="71" y="3140"/>
                    </a:lnTo>
                    <a:lnTo>
                      <a:pt x="68" y="3012"/>
                    </a:lnTo>
                    <a:lnTo>
                      <a:pt x="67" y="2883"/>
                    </a:lnTo>
                    <a:lnTo>
                      <a:pt x="68" y="2753"/>
                    </a:lnTo>
                    <a:lnTo>
                      <a:pt x="71" y="2622"/>
                    </a:lnTo>
                    <a:lnTo>
                      <a:pt x="75" y="2492"/>
                    </a:lnTo>
                    <a:lnTo>
                      <a:pt x="81" y="2364"/>
                    </a:lnTo>
                    <a:lnTo>
                      <a:pt x="90" y="2233"/>
                    </a:lnTo>
                    <a:lnTo>
                      <a:pt x="96" y="2168"/>
                    </a:lnTo>
                    <a:lnTo>
                      <a:pt x="101" y="2105"/>
                    </a:lnTo>
                    <a:lnTo>
                      <a:pt x="107" y="2039"/>
                    </a:lnTo>
                    <a:lnTo>
                      <a:pt x="114" y="1976"/>
                    </a:lnTo>
                    <a:lnTo>
                      <a:pt x="122" y="1911"/>
                    </a:lnTo>
                    <a:lnTo>
                      <a:pt x="130" y="1847"/>
                    </a:lnTo>
                    <a:lnTo>
                      <a:pt x="139" y="1783"/>
                    </a:lnTo>
                    <a:lnTo>
                      <a:pt x="148" y="1719"/>
                    </a:lnTo>
                    <a:lnTo>
                      <a:pt x="160" y="1655"/>
                    </a:lnTo>
                    <a:lnTo>
                      <a:pt x="170" y="1591"/>
                    </a:lnTo>
                    <a:lnTo>
                      <a:pt x="182" y="1528"/>
                    </a:lnTo>
                    <a:lnTo>
                      <a:pt x="195" y="1464"/>
                    </a:lnTo>
                    <a:lnTo>
                      <a:pt x="207" y="1402"/>
                    </a:lnTo>
                    <a:lnTo>
                      <a:pt x="222" y="1339"/>
                    </a:lnTo>
                    <a:lnTo>
                      <a:pt x="237" y="1276"/>
                    </a:lnTo>
                    <a:lnTo>
                      <a:pt x="253" y="1215"/>
                    </a:lnTo>
                    <a:lnTo>
                      <a:pt x="269" y="1152"/>
                    </a:lnTo>
                    <a:lnTo>
                      <a:pt x="286" y="1090"/>
                    </a:lnTo>
                    <a:lnTo>
                      <a:pt x="304" y="1029"/>
                    </a:lnTo>
                    <a:lnTo>
                      <a:pt x="324" y="968"/>
                    </a:lnTo>
                    <a:lnTo>
                      <a:pt x="344" y="907"/>
                    </a:lnTo>
                    <a:lnTo>
                      <a:pt x="365" y="846"/>
                    </a:lnTo>
                    <a:lnTo>
                      <a:pt x="388" y="786"/>
                    </a:lnTo>
                    <a:lnTo>
                      <a:pt x="410" y="726"/>
                    </a:lnTo>
                    <a:lnTo>
                      <a:pt x="434" y="667"/>
                    </a:lnTo>
                    <a:lnTo>
                      <a:pt x="459" y="608"/>
                    </a:lnTo>
                    <a:lnTo>
                      <a:pt x="484" y="548"/>
                    </a:lnTo>
                    <a:lnTo>
                      <a:pt x="512" y="490"/>
                    </a:lnTo>
                    <a:lnTo>
                      <a:pt x="539" y="432"/>
                    </a:lnTo>
                    <a:lnTo>
                      <a:pt x="569" y="374"/>
                    </a:lnTo>
                    <a:lnTo>
                      <a:pt x="598" y="317"/>
                    </a:lnTo>
                    <a:lnTo>
                      <a:pt x="630" y="260"/>
                    </a:lnTo>
                    <a:lnTo>
                      <a:pt x="662" y="204"/>
                    </a:lnTo>
                    <a:lnTo>
                      <a:pt x="695" y="148"/>
                    </a:lnTo>
                    <a:lnTo>
                      <a:pt x="731" y="92"/>
                    </a:lnTo>
                    <a:lnTo>
                      <a:pt x="766" y="37"/>
                    </a:lnTo>
                    <a:lnTo>
                      <a:pt x="710" y="0"/>
                    </a:lnTo>
                    <a:lnTo>
                      <a:pt x="674" y="55"/>
                    </a:lnTo>
                    <a:lnTo>
                      <a:pt x="638" y="113"/>
                    </a:lnTo>
                    <a:lnTo>
                      <a:pt x="604" y="170"/>
                    </a:lnTo>
                    <a:lnTo>
                      <a:pt x="571" y="227"/>
                    </a:lnTo>
                    <a:lnTo>
                      <a:pt x="539" y="285"/>
                    </a:lnTo>
                    <a:lnTo>
                      <a:pt x="508" y="343"/>
                    </a:lnTo>
                    <a:lnTo>
                      <a:pt x="479" y="402"/>
                    </a:lnTo>
                    <a:lnTo>
                      <a:pt x="451" y="462"/>
                    </a:lnTo>
                    <a:lnTo>
                      <a:pt x="423" y="521"/>
                    </a:lnTo>
                    <a:lnTo>
                      <a:pt x="397" y="580"/>
                    </a:lnTo>
                    <a:lnTo>
                      <a:pt x="372" y="641"/>
                    </a:lnTo>
                    <a:lnTo>
                      <a:pt x="348" y="701"/>
                    </a:lnTo>
                    <a:lnTo>
                      <a:pt x="324" y="763"/>
                    </a:lnTo>
                    <a:lnTo>
                      <a:pt x="302" y="823"/>
                    </a:lnTo>
                    <a:lnTo>
                      <a:pt x="280" y="885"/>
                    </a:lnTo>
                    <a:lnTo>
                      <a:pt x="260" y="948"/>
                    </a:lnTo>
                    <a:lnTo>
                      <a:pt x="241" y="1009"/>
                    </a:lnTo>
                    <a:lnTo>
                      <a:pt x="222" y="1072"/>
                    </a:lnTo>
                    <a:lnTo>
                      <a:pt x="204" y="1135"/>
                    </a:lnTo>
                    <a:lnTo>
                      <a:pt x="187" y="1198"/>
                    </a:lnTo>
                    <a:lnTo>
                      <a:pt x="171" y="1260"/>
                    </a:lnTo>
                    <a:lnTo>
                      <a:pt x="156" y="1324"/>
                    </a:lnTo>
                    <a:lnTo>
                      <a:pt x="141" y="1388"/>
                    </a:lnTo>
                    <a:lnTo>
                      <a:pt x="129" y="1452"/>
                    </a:lnTo>
                    <a:lnTo>
                      <a:pt x="115" y="1516"/>
                    </a:lnTo>
                    <a:lnTo>
                      <a:pt x="104" y="1580"/>
                    </a:lnTo>
                    <a:lnTo>
                      <a:pt x="92" y="1644"/>
                    </a:lnTo>
                    <a:lnTo>
                      <a:pt x="82" y="1709"/>
                    </a:lnTo>
                    <a:lnTo>
                      <a:pt x="72" y="1774"/>
                    </a:lnTo>
                    <a:lnTo>
                      <a:pt x="64" y="1838"/>
                    </a:lnTo>
                    <a:lnTo>
                      <a:pt x="55" y="1903"/>
                    </a:lnTo>
                    <a:lnTo>
                      <a:pt x="48" y="1968"/>
                    </a:lnTo>
                    <a:lnTo>
                      <a:pt x="40" y="2033"/>
                    </a:lnTo>
                    <a:lnTo>
                      <a:pt x="34" y="2098"/>
                    </a:lnTo>
                    <a:lnTo>
                      <a:pt x="28" y="2163"/>
                    </a:lnTo>
                    <a:lnTo>
                      <a:pt x="23" y="2229"/>
                    </a:lnTo>
                    <a:lnTo>
                      <a:pt x="14" y="2359"/>
                    </a:lnTo>
                    <a:lnTo>
                      <a:pt x="8" y="2490"/>
                    </a:lnTo>
                    <a:lnTo>
                      <a:pt x="3" y="2621"/>
                    </a:lnTo>
                    <a:lnTo>
                      <a:pt x="1" y="2751"/>
                    </a:lnTo>
                    <a:lnTo>
                      <a:pt x="0" y="2883"/>
                    </a:lnTo>
                    <a:lnTo>
                      <a:pt x="1" y="3013"/>
                    </a:lnTo>
                    <a:lnTo>
                      <a:pt x="3" y="3143"/>
                    </a:lnTo>
                    <a:lnTo>
                      <a:pt x="7" y="3272"/>
                    </a:lnTo>
                    <a:lnTo>
                      <a:pt x="13" y="3401"/>
                    </a:lnTo>
                    <a:lnTo>
                      <a:pt x="18" y="3529"/>
                    </a:lnTo>
                    <a:lnTo>
                      <a:pt x="25" y="3656"/>
                    </a:lnTo>
                    <a:lnTo>
                      <a:pt x="33" y="3783"/>
                    </a:lnTo>
                    <a:lnTo>
                      <a:pt x="41" y="3909"/>
                    </a:lnTo>
                    <a:lnTo>
                      <a:pt x="50" y="4034"/>
                    </a:lnTo>
                    <a:lnTo>
                      <a:pt x="84" y="4065"/>
                    </a:lnTo>
                    <a:lnTo>
                      <a:pt x="50" y="4034"/>
                    </a:lnTo>
                    <a:lnTo>
                      <a:pt x="51" y="4042"/>
                    </a:lnTo>
                    <a:lnTo>
                      <a:pt x="55" y="4049"/>
                    </a:lnTo>
                    <a:lnTo>
                      <a:pt x="58" y="4054"/>
                    </a:lnTo>
                    <a:lnTo>
                      <a:pt x="63" y="4058"/>
                    </a:lnTo>
                    <a:lnTo>
                      <a:pt x="68" y="4061"/>
                    </a:lnTo>
                    <a:lnTo>
                      <a:pt x="74" y="4063"/>
                    </a:lnTo>
                    <a:lnTo>
                      <a:pt x="80" y="4065"/>
                    </a:lnTo>
                    <a:lnTo>
                      <a:pt x="87" y="4065"/>
                    </a:lnTo>
                    <a:lnTo>
                      <a:pt x="92" y="4063"/>
                    </a:lnTo>
                    <a:lnTo>
                      <a:pt x="99" y="4062"/>
                    </a:lnTo>
                    <a:lnTo>
                      <a:pt x="104" y="4059"/>
                    </a:lnTo>
                    <a:lnTo>
                      <a:pt x="109" y="4054"/>
                    </a:lnTo>
                    <a:lnTo>
                      <a:pt x="113" y="4050"/>
                    </a:lnTo>
                    <a:lnTo>
                      <a:pt x="116" y="4044"/>
                    </a:lnTo>
                    <a:lnTo>
                      <a:pt x="117" y="4037"/>
                    </a:lnTo>
                    <a:lnTo>
                      <a:pt x="117" y="4029"/>
                    </a:lnTo>
                    <a:lnTo>
                      <a:pt x="84" y="39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2612880" y="5613480"/>
                <a:ext cx="668520" cy="22320"/>
              </a:xfrm>
              <a:custGeom>
                <a:avLst/>
                <a:gdLst/>
                <a:ahLst/>
                <a:rect l="l" t="t" r="r" b="b"/>
                <a:pathLst>
                  <a:path w="2104" h="68">
                    <a:moveTo>
                      <a:pt x="2036" y="29"/>
                    </a:moveTo>
                    <a:lnTo>
                      <a:pt x="2071" y="0"/>
                    </a:lnTo>
                    <a:lnTo>
                      <a:pt x="1817" y="0"/>
                    </a:lnTo>
                    <a:lnTo>
                      <a:pt x="1559" y="0"/>
                    </a:lnTo>
                    <a:lnTo>
                      <a:pt x="1298" y="0"/>
                    </a:lnTo>
                    <a:lnTo>
                      <a:pt x="1034" y="0"/>
                    </a:lnTo>
                    <a:lnTo>
                      <a:pt x="771" y="0"/>
                    </a:lnTo>
                    <a:lnTo>
                      <a:pt x="510" y="0"/>
                    </a:lnTo>
                    <a:lnTo>
                      <a:pt x="252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52" y="68"/>
                    </a:lnTo>
                    <a:lnTo>
                      <a:pt x="510" y="68"/>
                    </a:lnTo>
                    <a:lnTo>
                      <a:pt x="771" y="68"/>
                    </a:lnTo>
                    <a:lnTo>
                      <a:pt x="1034" y="68"/>
                    </a:lnTo>
                    <a:lnTo>
                      <a:pt x="1298" y="68"/>
                    </a:lnTo>
                    <a:lnTo>
                      <a:pt x="1559" y="68"/>
                    </a:lnTo>
                    <a:lnTo>
                      <a:pt x="1817" y="68"/>
                    </a:lnTo>
                    <a:lnTo>
                      <a:pt x="2071" y="68"/>
                    </a:lnTo>
                    <a:lnTo>
                      <a:pt x="2104" y="39"/>
                    </a:lnTo>
                    <a:lnTo>
                      <a:pt x="2071" y="68"/>
                    </a:lnTo>
                    <a:lnTo>
                      <a:pt x="2077" y="68"/>
                    </a:lnTo>
                    <a:lnTo>
                      <a:pt x="2084" y="65"/>
                    </a:lnTo>
                    <a:lnTo>
                      <a:pt x="2091" y="62"/>
                    </a:lnTo>
                    <a:lnTo>
                      <a:pt x="2096" y="57"/>
                    </a:lnTo>
                    <a:lnTo>
                      <a:pt x="2099" y="53"/>
                    </a:lnTo>
                    <a:lnTo>
                      <a:pt x="2101" y="47"/>
                    </a:lnTo>
                    <a:lnTo>
                      <a:pt x="2104" y="40"/>
                    </a:lnTo>
                    <a:lnTo>
                      <a:pt x="2104" y="34"/>
                    </a:lnTo>
                    <a:lnTo>
                      <a:pt x="2104" y="28"/>
                    </a:lnTo>
                    <a:lnTo>
                      <a:pt x="2101" y="22"/>
                    </a:lnTo>
                    <a:lnTo>
                      <a:pt x="2099" y="16"/>
                    </a:lnTo>
                    <a:lnTo>
                      <a:pt x="2096" y="11"/>
                    </a:lnTo>
                    <a:lnTo>
                      <a:pt x="2091" y="7"/>
                    </a:lnTo>
                    <a:lnTo>
                      <a:pt x="2084" y="4"/>
                    </a:lnTo>
                    <a:lnTo>
                      <a:pt x="2077" y="1"/>
                    </a:lnTo>
                    <a:lnTo>
                      <a:pt x="2071" y="0"/>
                    </a:lnTo>
                    <a:lnTo>
                      <a:pt x="2036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3029040" y="4527720"/>
                <a:ext cx="264960" cy="1098360"/>
              </a:xfrm>
              <a:custGeom>
                <a:avLst/>
                <a:gdLst/>
                <a:ahLst/>
                <a:rect l="l" t="t" r="r" b="b"/>
                <a:pathLst>
                  <a:path w="832" h="3460">
                    <a:moveTo>
                      <a:pt x="31" y="67"/>
                    </a:moveTo>
                    <a:lnTo>
                      <a:pt x="4" y="48"/>
                    </a:lnTo>
                    <a:lnTo>
                      <a:pt x="48" y="151"/>
                    </a:lnTo>
                    <a:lnTo>
                      <a:pt x="94" y="256"/>
                    </a:lnTo>
                    <a:lnTo>
                      <a:pt x="137" y="361"/>
                    </a:lnTo>
                    <a:lnTo>
                      <a:pt x="181" y="467"/>
                    </a:lnTo>
                    <a:lnTo>
                      <a:pt x="224" y="574"/>
                    </a:lnTo>
                    <a:lnTo>
                      <a:pt x="265" y="680"/>
                    </a:lnTo>
                    <a:lnTo>
                      <a:pt x="306" y="786"/>
                    </a:lnTo>
                    <a:lnTo>
                      <a:pt x="346" y="892"/>
                    </a:lnTo>
                    <a:lnTo>
                      <a:pt x="384" y="999"/>
                    </a:lnTo>
                    <a:lnTo>
                      <a:pt x="421" y="1106"/>
                    </a:lnTo>
                    <a:lnTo>
                      <a:pt x="456" y="1214"/>
                    </a:lnTo>
                    <a:lnTo>
                      <a:pt x="491" y="1321"/>
                    </a:lnTo>
                    <a:lnTo>
                      <a:pt x="523" y="1428"/>
                    </a:lnTo>
                    <a:lnTo>
                      <a:pt x="553" y="1535"/>
                    </a:lnTo>
                    <a:lnTo>
                      <a:pt x="583" y="1644"/>
                    </a:lnTo>
                    <a:lnTo>
                      <a:pt x="610" y="1751"/>
                    </a:lnTo>
                    <a:lnTo>
                      <a:pt x="635" y="1858"/>
                    </a:lnTo>
                    <a:lnTo>
                      <a:pt x="659" y="1965"/>
                    </a:lnTo>
                    <a:lnTo>
                      <a:pt x="680" y="2073"/>
                    </a:lnTo>
                    <a:lnTo>
                      <a:pt x="699" y="2181"/>
                    </a:lnTo>
                    <a:lnTo>
                      <a:pt x="708" y="2234"/>
                    </a:lnTo>
                    <a:lnTo>
                      <a:pt x="716" y="2287"/>
                    </a:lnTo>
                    <a:lnTo>
                      <a:pt x="723" y="2341"/>
                    </a:lnTo>
                    <a:lnTo>
                      <a:pt x="731" y="2394"/>
                    </a:lnTo>
                    <a:lnTo>
                      <a:pt x="737" y="2448"/>
                    </a:lnTo>
                    <a:lnTo>
                      <a:pt x="743" y="2502"/>
                    </a:lnTo>
                    <a:lnTo>
                      <a:pt x="747" y="2555"/>
                    </a:lnTo>
                    <a:lnTo>
                      <a:pt x="752" y="2608"/>
                    </a:lnTo>
                    <a:lnTo>
                      <a:pt x="756" y="2661"/>
                    </a:lnTo>
                    <a:lnTo>
                      <a:pt x="759" y="2714"/>
                    </a:lnTo>
                    <a:lnTo>
                      <a:pt x="761" y="2768"/>
                    </a:lnTo>
                    <a:lnTo>
                      <a:pt x="763" y="2820"/>
                    </a:lnTo>
                    <a:lnTo>
                      <a:pt x="763" y="2874"/>
                    </a:lnTo>
                    <a:lnTo>
                      <a:pt x="764" y="2926"/>
                    </a:lnTo>
                    <a:lnTo>
                      <a:pt x="763" y="2980"/>
                    </a:lnTo>
                    <a:lnTo>
                      <a:pt x="762" y="3032"/>
                    </a:lnTo>
                    <a:lnTo>
                      <a:pt x="761" y="3085"/>
                    </a:lnTo>
                    <a:lnTo>
                      <a:pt x="757" y="3137"/>
                    </a:lnTo>
                    <a:lnTo>
                      <a:pt x="754" y="3190"/>
                    </a:lnTo>
                    <a:lnTo>
                      <a:pt x="749" y="3242"/>
                    </a:lnTo>
                    <a:lnTo>
                      <a:pt x="745" y="3295"/>
                    </a:lnTo>
                    <a:lnTo>
                      <a:pt x="739" y="3346"/>
                    </a:lnTo>
                    <a:lnTo>
                      <a:pt x="732" y="3398"/>
                    </a:lnTo>
                    <a:lnTo>
                      <a:pt x="724" y="3450"/>
                    </a:lnTo>
                    <a:lnTo>
                      <a:pt x="792" y="3460"/>
                    </a:lnTo>
                    <a:lnTo>
                      <a:pt x="798" y="3408"/>
                    </a:lnTo>
                    <a:lnTo>
                      <a:pt x="805" y="3354"/>
                    </a:lnTo>
                    <a:lnTo>
                      <a:pt x="812" y="3301"/>
                    </a:lnTo>
                    <a:lnTo>
                      <a:pt x="817" y="3248"/>
                    </a:lnTo>
                    <a:lnTo>
                      <a:pt x="821" y="3194"/>
                    </a:lnTo>
                    <a:lnTo>
                      <a:pt x="825" y="3141"/>
                    </a:lnTo>
                    <a:lnTo>
                      <a:pt x="828" y="3087"/>
                    </a:lnTo>
                    <a:lnTo>
                      <a:pt x="829" y="3033"/>
                    </a:lnTo>
                    <a:lnTo>
                      <a:pt x="830" y="2980"/>
                    </a:lnTo>
                    <a:lnTo>
                      <a:pt x="832" y="2926"/>
                    </a:lnTo>
                    <a:lnTo>
                      <a:pt x="832" y="2872"/>
                    </a:lnTo>
                    <a:lnTo>
                      <a:pt x="830" y="2819"/>
                    </a:lnTo>
                    <a:lnTo>
                      <a:pt x="828" y="2765"/>
                    </a:lnTo>
                    <a:lnTo>
                      <a:pt x="826" y="2712"/>
                    </a:lnTo>
                    <a:lnTo>
                      <a:pt x="824" y="2657"/>
                    </a:lnTo>
                    <a:lnTo>
                      <a:pt x="819" y="2603"/>
                    </a:lnTo>
                    <a:lnTo>
                      <a:pt x="814" y="2548"/>
                    </a:lnTo>
                    <a:lnTo>
                      <a:pt x="810" y="2495"/>
                    </a:lnTo>
                    <a:lnTo>
                      <a:pt x="804" y="2441"/>
                    </a:lnTo>
                    <a:lnTo>
                      <a:pt x="797" y="2386"/>
                    </a:lnTo>
                    <a:lnTo>
                      <a:pt x="790" y="2332"/>
                    </a:lnTo>
                    <a:lnTo>
                      <a:pt x="783" y="2278"/>
                    </a:lnTo>
                    <a:lnTo>
                      <a:pt x="775" y="2223"/>
                    </a:lnTo>
                    <a:lnTo>
                      <a:pt x="767" y="2170"/>
                    </a:lnTo>
                    <a:lnTo>
                      <a:pt x="747" y="2061"/>
                    </a:lnTo>
                    <a:lnTo>
                      <a:pt x="726" y="1952"/>
                    </a:lnTo>
                    <a:lnTo>
                      <a:pt x="702" y="1843"/>
                    </a:lnTo>
                    <a:lnTo>
                      <a:pt x="675" y="1735"/>
                    </a:lnTo>
                    <a:lnTo>
                      <a:pt x="648" y="1627"/>
                    </a:lnTo>
                    <a:lnTo>
                      <a:pt x="618" y="1518"/>
                    </a:lnTo>
                    <a:lnTo>
                      <a:pt x="588" y="1409"/>
                    </a:lnTo>
                    <a:lnTo>
                      <a:pt x="555" y="1301"/>
                    </a:lnTo>
                    <a:lnTo>
                      <a:pt x="520" y="1193"/>
                    </a:lnTo>
                    <a:lnTo>
                      <a:pt x="485" y="1085"/>
                    </a:lnTo>
                    <a:lnTo>
                      <a:pt x="447" y="977"/>
                    </a:lnTo>
                    <a:lnTo>
                      <a:pt x="409" y="869"/>
                    </a:lnTo>
                    <a:lnTo>
                      <a:pt x="369" y="762"/>
                    </a:lnTo>
                    <a:lnTo>
                      <a:pt x="328" y="655"/>
                    </a:lnTo>
                    <a:lnTo>
                      <a:pt x="287" y="548"/>
                    </a:lnTo>
                    <a:lnTo>
                      <a:pt x="243" y="442"/>
                    </a:lnTo>
                    <a:lnTo>
                      <a:pt x="200" y="336"/>
                    </a:lnTo>
                    <a:lnTo>
                      <a:pt x="156" y="230"/>
                    </a:lnTo>
                    <a:lnTo>
                      <a:pt x="111" y="125"/>
                    </a:lnTo>
                    <a:lnTo>
                      <a:pt x="65" y="20"/>
                    </a:lnTo>
                    <a:lnTo>
                      <a:pt x="37" y="1"/>
                    </a:lnTo>
                    <a:lnTo>
                      <a:pt x="65" y="20"/>
                    </a:lnTo>
                    <a:lnTo>
                      <a:pt x="61" y="13"/>
                    </a:lnTo>
                    <a:lnTo>
                      <a:pt x="56" y="8"/>
                    </a:lnTo>
                    <a:lnTo>
                      <a:pt x="52" y="4"/>
                    </a:lnTo>
                    <a:lnTo>
                      <a:pt x="45" y="2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5" y="7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3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4" y="48"/>
                    </a:lnTo>
                    <a:lnTo>
                      <a:pt x="31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2809800" y="4340160"/>
                <a:ext cx="231840" cy="208080"/>
              </a:xfrm>
              <a:custGeom>
                <a:avLst/>
                <a:gdLst/>
                <a:ahLst/>
                <a:rect l="l" t="t" r="r" b="b"/>
                <a:pathLst>
                  <a:path w="730" h="658">
                    <a:moveTo>
                      <a:pt x="63" y="52"/>
                    </a:moveTo>
                    <a:lnTo>
                      <a:pt x="4" y="45"/>
                    </a:lnTo>
                    <a:lnTo>
                      <a:pt x="27" y="100"/>
                    </a:lnTo>
                    <a:lnTo>
                      <a:pt x="51" y="154"/>
                    </a:lnTo>
                    <a:lnTo>
                      <a:pt x="64" y="181"/>
                    </a:lnTo>
                    <a:lnTo>
                      <a:pt x="79" y="207"/>
                    </a:lnTo>
                    <a:lnTo>
                      <a:pt x="93" y="232"/>
                    </a:lnTo>
                    <a:lnTo>
                      <a:pt x="109" y="259"/>
                    </a:lnTo>
                    <a:lnTo>
                      <a:pt x="123" y="284"/>
                    </a:lnTo>
                    <a:lnTo>
                      <a:pt x="141" y="309"/>
                    </a:lnTo>
                    <a:lnTo>
                      <a:pt x="158" y="333"/>
                    </a:lnTo>
                    <a:lnTo>
                      <a:pt x="176" y="357"/>
                    </a:lnTo>
                    <a:lnTo>
                      <a:pt x="195" y="381"/>
                    </a:lnTo>
                    <a:lnTo>
                      <a:pt x="215" y="404"/>
                    </a:lnTo>
                    <a:lnTo>
                      <a:pt x="235" y="425"/>
                    </a:lnTo>
                    <a:lnTo>
                      <a:pt x="257" y="447"/>
                    </a:lnTo>
                    <a:lnTo>
                      <a:pt x="279" y="468"/>
                    </a:lnTo>
                    <a:lnTo>
                      <a:pt x="301" y="487"/>
                    </a:lnTo>
                    <a:lnTo>
                      <a:pt x="325" y="506"/>
                    </a:lnTo>
                    <a:lnTo>
                      <a:pt x="350" y="525"/>
                    </a:lnTo>
                    <a:lnTo>
                      <a:pt x="375" y="542"/>
                    </a:lnTo>
                    <a:lnTo>
                      <a:pt x="403" y="559"/>
                    </a:lnTo>
                    <a:lnTo>
                      <a:pt x="430" y="574"/>
                    </a:lnTo>
                    <a:lnTo>
                      <a:pt x="459" y="587"/>
                    </a:lnTo>
                    <a:lnTo>
                      <a:pt x="488" y="601"/>
                    </a:lnTo>
                    <a:lnTo>
                      <a:pt x="519" y="614"/>
                    </a:lnTo>
                    <a:lnTo>
                      <a:pt x="551" y="624"/>
                    </a:lnTo>
                    <a:lnTo>
                      <a:pt x="583" y="633"/>
                    </a:lnTo>
                    <a:lnTo>
                      <a:pt x="617" y="642"/>
                    </a:lnTo>
                    <a:lnTo>
                      <a:pt x="651" y="649"/>
                    </a:lnTo>
                    <a:lnTo>
                      <a:pt x="688" y="655"/>
                    </a:lnTo>
                    <a:lnTo>
                      <a:pt x="724" y="658"/>
                    </a:lnTo>
                    <a:lnTo>
                      <a:pt x="730" y="592"/>
                    </a:lnTo>
                    <a:lnTo>
                      <a:pt x="697" y="587"/>
                    </a:lnTo>
                    <a:lnTo>
                      <a:pt x="664" y="583"/>
                    </a:lnTo>
                    <a:lnTo>
                      <a:pt x="632" y="576"/>
                    </a:lnTo>
                    <a:lnTo>
                      <a:pt x="601" y="568"/>
                    </a:lnTo>
                    <a:lnTo>
                      <a:pt x="571" y="560"/>
                    </a:lnTo>
                    <a:lnTo>
                      <a:pt x="542" y="550"/>
                    </a:lnTo>
                    <a:lnTo>
                      <a:pt x="514" y="538"/>
                    </a:lnTo>
                    <a:lnTo>
                      <a:pt x="487" y="527"/>
                    </a:lnTo>
                    <a:lnTo>
                      <a:pt x="461" y="514"/>
                    </a:lnTo>
                    <a:lnTo>
                      <a:pt x="436" y="499"/>
                    </a:lnTo>
                    <a:lnTo>
                      <a:pt x="412" y="486"/>
                    </a:lnTo>
                    <a:lnTo>
                      <a:pt x="389" y="470"/>
                    </a:lnTo>
                    <a:lnTo>
                      <a:pt x="366" y="453"/>
                    </a:lnTo>
                    <a:lnTo>
                      <a:pt x="345" y="436"/>
                    </a:lnTo>
                    <a:lnTo>
                      <a:pt x="323" y="417"/>
                    </a:lnTo>
                    <a:lnTo>
                      <a:pt x="304" y="398"/>
                    </a:lnTo>
                    <a:lnTo>
                      <a:pt x="283" y="379"/>
                    </a:lnTo>
                    <a:lnTo>
                      <a:pt x="265" y="358"/>
                    </a:lnTo>
                    <a:lnTo>
                      <a:pt x="247" y="337"/>
                    </a:lnTo>
                    <a:lnTo>
                      <a:pt x="229" y="316"/>
                    </a:lnTo>
                    <a:lnTo>
                      <a:pt x="212" y="293"/>
                    </a:lnTo>
                    <a:lnTo>
                      <a:pt x="196" y="270"/>
                    </a:lnTo>
                    <a:lnTo>
                      <a:pt x="180" y="247"/>
                    </a:lnTo>
                    <a:lnTo>
                      <a:pt x="166" y="223"/>
                    </a:lnTo>
                    <a:lnTo>
                      <a:pt x="151" y="199"/>
                    </a:lnTo>
                    <a:lnTo>
                      <a:pt x="137" y="174"/>
                    </a:lnTo>
                    <a:lnTo>
                      <a:pt x="125" y="149"/>
                    </a:lnTo>
                    <a:lnTo>
                      <a:pt x="112" y="125"/>
                    </a:lnTo>
                    <a:lnTo>
                      <a:pt x="88" y="73"/>
                    </a:lnTo>
                    <a:lnTo>
                      <a:pt x="66" y="21"/>
                    </a:lnTo>
                    <a:lnTo>
                      <a:pt x="7" y="15"/>
                    </a:lnTo>
                    <a:lnTo>
                      <a:pt x="66" y="21"/>
                    </a:lnTo>
                    <a:lnTo>
                      <a:pt x="63" y="15"/>
                    </a:lnTo>
                    <a:lnTo>
                      <a:pt x="58" y="9"/>
                    </a:lnTo>
                    <a:lnTo>
                      <a:pt x="53" y="4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9" y="1"/>
                    </a:lnTo>
                    <a:lnTo>
                      <a:pt x="22" y="2"/>
                    </a:lnTo>
                    <a:lnTo>
                      <a:pt x="16" y="5"/>
                    </a:lnTo>
                    <a:lnTo>
                      <a:pt x="12" y="9"/>
                    </a:lnTo>
                    <a:lnTo>
                      <a:pt x="7" y="13"/>
                    </a:lnTo>
                    <a:lnTo>
                      <a:pt x="4" y="18"/>
                    </a:lnTo>
                    <a:lnTo>
                      <a:pt x="1" y="25"/>
                    </a:lnTo>
                    <a:lnTo>
                      <a:pt x="0" y="32"/>
                    </a:lnTo>
                    <a:lnTo>
                      <a:pt x="1" y="39"/>
                    </a:lnTo>
                    <a:lnTo>
                      <a:pt x="4" y="45"/>
                    </a:lnTo>
                    <a:lnTo>
                      <a:pt x="63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3487680" y="4110120"/>
                <a:ext cx="426960" cy="636480"/>
              </a:xfrm>
              <a:custGeom>
                <a:avLst/>
                <a:gdLst/>
                <a:ahLst/>
                <a:rect l="l" t="t" r="r" b="b"/>
                <a:pathLst>
                  <a:path w="1345" h="2004">
                    <a:moveTo>
                      <a:pt x="367" y="0"/>
                    </a:moveTo>
                    <a:lnTo>
                      <a:pt x="376" y="82"/>
                    </a:lnTo>
                    <a:lnTo>
                      <a:pt x="385" y="158"/>
                    </a:lnTo>
                    <a:lnTo>
                      <a:pt x="395" y="231"/>
                    </a:lnTo>
                    <a:lnTo>
                      <a:pt x="407" y="300"/>
                    </a:lnTo>
                    <a:lnTo>
                      <a:pt x="419" y="364"/>
                    </a:lnTo>
                    <a:lnTo>
                      <a:pt x="433" y="424"/>
                    </a:lnTo>
                    <a:lnTo>
                      <a:pt x="447" y="480"/>
                    </a:lnTo>
                    <a:lnTo>
                      <a:pt x="463" y="532"/>
                    </a:lnTo>
                    <a:lnTo>
                      <a:pt x="479" y="581"/>
                    </a:lnTo>
                    <a:lnTo>
                      <a:pt x="496" y="627"/>
                    </a:lnTo>
                    <a:lnTo>
                      <a:pt x="515" y="668"/>
                    </a:lnTo>
                    <a:lnTo>
                      <a:pt x="535" y="708"/>
                    </a:lnTo>
                    <a:lnTo>
                      <a:pt x="556" y="743"/>
                    </a:lnTo>
                    <a:lnTo>
                      <a:pt x="579" y="777"/>
                    </a:lnTo>
                    <a:lnTo>
                      <a:pt x="603" y="807"/>
                    </a:lnTo>
                    <a:lnTo>
                      <a:pt x="628" y="835"/>
                    </a:lnTo>
                    <a:lnTo>
                      <a:pt x="655" y="860"/>
                    </a:lnTo>
                    <a:lnTo>
                      <a:pt x="683" y="883"/>
                    </a:lnTo>
                    <a:lnTo>
                      <a:pt x="713" y="903"/>
                    </a:lnTo>
                    <a:lnTo>
                      <a:pt x="744" y="923"/>
                    </a:lnTo>
                    <a:lnTo>
                      <a:pt x="777" y="940"/>
                    </a:lnTo>
                    <a:lnTo>
                      <a:pt x="812" y="954"/>
                    </a:lnTo>
                    <a:lnTo>
                      <a:pt x="848" y="968"/>
                    </a:lnTo>
                    <a:lnTo>
                      <a:pt x="887" y="981"/>
                    </a:lnTo>
                    <a:lnTo>
                      <a:pt x="927" y="991"/>
                    </a:lnTo>
                    <a:lnTo>
                      <a:pt x="969" y="1001"/>
                    </a:lnTo>
                    <a:lnTo>
                      <a:pt x="1012" y="1009"/>
                    </a:lnTo>
                    <a:lnTo>
                      <a:pt x="1058" y="1017"/>
                    </a:lnTo>
                    <a:lnTo>
                      <a:pt x="1105" y="1024"/>
                    </a:lnTo>
                    <a:lnTo>
                      <a:pt x="1155" y="1031"/>
                    </a:lnTo>
                    <a:lnTo>
                      <a:pt x="1206" y="1037"/>
                    </a:lnTo>
                    <a:lnTo>
                      <a:pt x="1260" y="1042"/>
                    </a:lnTo>
                    <a:lnTo>
                      <a:pt x="1268" y="1050"/>
                    </a:lnTo>
                    <a:lnTo>
                      <a:pt x="1274" y="1058"/>
                    </a:lnTo>
                    <a:lnTo>
                      <a:pt x="1281" y="1067"/>
                    </a:lnTo>
                    <a:lnTo>
                      <a:pt x="1287" y="1077"/>
                    </a:lnTo>
                    <a:lnTo>
                      <a:pt x="1291" y="1086"/>
                    </a:lnTo>
                    <a:lnTo>
                      <a:pt x="1296" y="1096"/>
                    </a:lnTo>
                    <a:lnTo>
                      <a:pt x="1299" y="1107"/>
                    </a:lnTo>
                    <a:lnTo>
                      <a:pt x="1303" y="1118"/>
                    </a:lnTo>
                    <a:lnTo>
                      <a:pt x="1305" y="1129"/>
                    </a:lnTo>
                    <a:lnTo>
                      <a:pt x="1306" y="1140"/>
                    </a:lnTo>
                    <a:lnTo>
                      <a:pt x="1306" y="1151"/>
                    </a:lnTo>
                    <a:lnTo>
                      <a:pt x="1305" y="1162"/>
                    </a:lnTo>
                    <a:lnTo>
                      <a:pt x="1303" y="1174"/>
                    </a:lnTo>
                    <a:lnTo>
                      <a:pt x="1301" y="1184"/>
                    </a:lnTo>
                    <a:lnTo>
                      <a:pt x="1297" y="1195"/>
                    </a:lnTo>
                    <a:lnTo>
                      <a:pt x="1291" y="1204"/>
                    </a:lnTo>
                    <a:lnTo>
                      <a:pt x="1285" y="1215"/>
                    </a:lnTo>
                    <a:lnTo>
                      <a:pt x="1278" y="1224"/>
                    </a:lnTo>
                    <a:lnTo>
                      <a:pt x="1269" y="1233"/>
                    </a:lnTo>
                    <a:lnTo>
                      <a:pt x="1258" y="1241"/>
                    </a:lnTo>
                    <a:lnTo>
                      <a:pt x="1247" y="1248"/>
                    </a:lnTo>
                    <a:lnTo>
                      <a:pt x="1234" y="1255"/>
                    </a:lnTo>
                    <a:lnTo>
                      <a:pt x="1220" y="1260"/>
                    </a:lnTo>
                    <a:lnTo>
                      <a:pt x="1205" y="1265"/>
                    </a:lnTo>
                    <a:lnTo>
                      <a:pt x="1188" y="1269"/>
                    </a:lnTo>
                    <a:lnTo>
                      <a:pt x="1168" y="1272"/>
                    </a:lnTo>
                    <a:lnTo>
                      <a:pt x="1148" y="1273"/>
                    </a:lnTo>
                    <a:lnTo>
                      <a:pt x="1126" y="1273"/>
                    </a:lnTo>
                    <a:lnTo>
                      <a:pt x="1102" y="1272"/>
                    </a:lnTo>
                    <a:lnTo>
                      <a:pt x="1077" y="1269"/>
                    </a:lnTo>
                    <a:lnTo>
                      <a:pt x="1050" y="1266"/>
                    </a:lnTo>
                    <a:lnTo>
                      <a:pt x="1021" y="1260"/>
                    </a:lnTo>
                    <a:lnTo>
                      <a:pt x="1020" y="1272"/>
                    </a:lnTo>
                    <a:lnTo>
                      <a:pt x="1022" y="1283"/>
                    </a:lnTo>
                    <a:lnTo>
                      <a:pt x="1026" y="1293"/>
                    </a:lnTo>
                    <a:lnTo>
                      <a:pt x="1032" y="1304"/>
                    </a:lnTo>
                    <a:lnTo>
                      <a:pt x="1040" y="1313"/>
                    </a:lnTo>
                    <a:lnTo>
                      <a:pt x="1050" y="1322"/>
                    </a:lnTo>
                    <a:lnTo>
                      <a:pt x="1060" y="1330"/>
                    </a:lnTo>
                    <a:lnTo>
                      <a:pt x="1073" y="1337"/>
                    </a:lnTo>
                    <a:lnTo>
                      <a:pt x="1086" y="1345"/>
                    </a:lnTo>
                    <a:lnTo>
                      <a:pt x="1101" y="1352"/>
                    </a:lnTo>
                    <a:lnTo>
                      <a:pt x="1117" y="1358"/>
                    </a:lnTo>
                    <a:lnTo>
                      <a:pt x="1133" y="1364"/>
                    </a:lnTo>
                    <a:lnTo>
                      <a:pt x="1167" y="1377"/>
                    </a:lnTo>
                    <a:lnTo>
                      <a:pt x="1201" y="1389"/>
                    </a:lnTo>
                    <a:lnTo>
                      <a:pt x="1236" y="1403"/>
                    </a:lnTo>
                    <a:lnTo>
                      <a:pt x="1268" y="1417"/>
                    </a:lnTo>
                    <a:lnTo>
                      <a:pt x="1281" y="1423"/>
                    </a:lnTo>
                    <a:lnTo>
                      <a:pt x="1295" y="1431"/>
                    </a:lnTo>
                    <a:lnTo>
                      <a:pt x="1307" y="1439"/>
                    </a:lnTo>
                    <a:lnTo>
                      <a:pt x="1318" y="1447"/>
                    </a:lnTo>
                    <a:lnTo>
                      <a:pt x="1327" y="1458"/>
                    </a:lnTo>
                    <a:lnTo>
                      <a:pt x="1335" y="1467"/>
                    </a:lnTo>
                    <a:lnTo>
                      <a:pt x="1340" y="1477"/>
                    </a:lnTo>
                    <a:lnTo>
                      <a:pt x="1344" y="1488"/>
                    </a:lnTo>
                    <a:lnTo>
                      <a:pt x="1345" y="1501"/>
                    </a:lnTo>
                    <a:lnTo>
                      <a:pt x="1343" y="1514"/>
                    </a:lnTo>
                    <a:lnTo>
                      <a:pt x="1339" y="1527"/>
                    </a:lnTo>
                    <a:lnTo>
                      <a:pt x="1333" y="1542"/>
                    </a:lnTo>
                    <a:lnTo>
                      <a:pt x="1326" y="1560"/>
                    </a:lnTo>
                    <a:lnTo>
                      <a:pt x="1318" y="1576"/>
                    </a:lnTo>
                    <a:lnTo>
                      <a:pt x="1307" y="1589"/>
                    </a:lnTo>
                    <a:lnTo>
                      <a:pt x="1297" y="1600"/>
                    </a:lnTo>
                    <a:lnTo>
                      <a:pt x="1286" y="1609"/>
                    </a:lnTo>
                    <a:lnTo>
                      <a:pt x="1272" y="1617"/>
                    </a:lnTo>
                    <a:lnTo>
                      <a:pt x="1258" y="1623"/>
                    </a:lnTo>
                    <a:lnTo>
                      <a:pt x="1245" y="1628"/>
                    </a:lnTo>
                    <a:lnTo>
                      <a:pt x="1229" y="1631"/>
                    </a:lnTo>
                    <a:lnTo>
                      <a:pt x="1213" y="1632"/>
                    </a:lnTo>
                    <a:lnTo>
                      <a:pt x="1197" y="1633"/>
                    </a:lnTo>
                    <a:lnTo>
                      <a:pt x="1181" y="1632"/>
                    </a:lnTo>
                    <a:lnTo>
                      <a:pt x="1164" y="1631"/>
                    </a:lnTo>
                    <a:lnTo>
                      <a:pt x="1147" y="1629"/>
                    </a:lnTo>
                    <a:lnTo>
                      <a:pt x="1131" y="1626"/>
                    </a:lnTo>
                    <a:lnTo>
                      <a:pt x="1114" y="1623"/>
                    </a:lnTo>
                    <a:lnTo>
                      <a:pt x="1051" y="1608"/>
                    </a:lnTo>
                    <a:lnTo>
                      <a:pt x="1000" y="1597"/>
                    </a:lnTo>
                    <a:lnTo>
                      <a:pt x="989" y="1595"/>
                    </a:lnTo>
                    <a:lnTo>
                      <a:pt x="980" y="1595"/>
                    </a:lnTo>
                    <a:lnTo>
                      <a:pt x="973" y="1595"/>
                    </a:lnTo>
                    <a:lnTo>
                      <a:pt x="968" y="1596"/>
                    </a:lnTo>
                    <a:lnTo>
                      <a:pt x="963" y="1599"/>
                    </a:lnTo>
                    <a:lnTo>
                      <a:pt x="960" y="1603"/>
                    </a:lnTo>
                    <a:lnTo>
                      <a:pt x="960" y="1608"/>
                    </a:lnTo>
                    <a:lnTo>
                      <a:pt x="961" y="1615"/>
                    </a:lnTo>
                    <a:lnTo>
                      <a:pt x="949" y="1629"/>
                    </a:lnTo>
                    <a:lnTo>
                      <a:pt x="941" y="1641"/>
                    </a:lnTo>
                    <a:lnTo>
                      <a:pt x="937" y="1654"/>
                    </a:lnTo>
                    <a:lnTo>
                      <a:pt x="936" y="1666"/>
                    </a:lnTo>
                    <a:lnTo>
                      <a:pt x="936" y="1679"/>
                    </a:lnTo>
                    <a:lnTo>
                      <a:pt x="939" y="1690"/>
                    </a:lnTo>
                    <a:lnTo>
                      <a:pt x="945" y="1703"/>
                    </a:lnTo>
                    <a:lnTo>
                      <a:pt x="952" y="1714"/>
                    </a:lnTo>
                    <a:lnTo>
                      <a:pt x="961" y="1726"/>
                    </a:lnTo>
                    <a:lnTo>
                      <a:pt x="971" y="1736"/>
                    </a:lnTo>
                    <a:lnTo>
                      <a:pt x="983" y="1747"/>
                    </a:lnTo>
                    <a:lnTo>
                      <a:pt x="995" y="1758"/>
                    </a:lnTo>
                    <a:lnTo>
                      <a:pt x="1022" y="1779"/>
                    </a:lnTo>
                    <a:lnTo>
                      <a:pt x="1050" y="1801"/>
                    </a:lnTo>
                    <a:lnTo>
                      <a:pt x="1077" y="1823"/>
                    </a:lnTo>
                    <a:lnTo>
                      <a:pt x="1100" y="1843"/>
                    </a:lnTo>
                    <a:lnTo>
                      <a:pt x="1110" y="1855"/>
                    </a:lnTo>
                    <a:lnTo>
                      <a:pt x="1119" y="1866"/>
                    </a:lnTo>
                    <a:lnTo>
                      <a:pt x="1126" y="1876"/>
                    </a:lnTo>
                    <a:lnTo>
                      <a:pt x="1132" y="1888"/>
                    </a:lnTo>
                    <a:lnTo>
                      <a:pt x="1134" y="1899"/>
                    </a:lnTo>
                    <a:lnTo>
                      <a:pt x="1135" y="1912"/>
                    </a:lnTo>
                    <a:lnTo>
                      <a:pt x="1133" y="1923"/>
                    </a:lnTo>
                    <a:lnTo>
                      <a:pt x="1128" y="1936"/>
                    </a:lnTo>
                    <a:lnTo>
                      <a:pt x="1119" y="1948"/>
                    </a:lnTo>
                    <a:lnTo>
                      <a:pt x="1108" y="1961"/>
                    </a:lnTo>
                    <a:lnTo>
                      <a:pt x="1093" y="1973"/>
                    </a:lnTo>
                    <a:lnTo>
                      <a:pt x="1074" y="1987"/>
                    </a:lnTo>
                    <a:lnTo>
                      <a:pt x="1055" y="1992"/>
                    </a:lnTo>
                    <a:lnTo>
                      <a:pt x="1037" y="1995"/>
                    </a:lnTo>
                    <a:lnTo>
                      <a:pt x="1019" y="1998"/>
                    </a:lnTo>
                    <a:lnTo>
                      <a:pt x="1002" y="2001"/>
                    </a:lnTo>
                    <a:lnTo>
                      <a:pt x="985" y="2003"/>
                    </a:lnTo>
                    <a:lnTo>
                      <a:pt x="968" y="2004"/>
                    </a:lnTo>
                    <a:lnTo>
                      <a:pt x="952" y="2004"/>
                    </a:lnTo>
                    <a:lnTo>
                      <a:pt x="935" y="2004"/>
                    </a:lnTo>
                    <a:lnTo>
                      <a:pt x="903" y="2003"/>
                    </a:lnTo>
                    <a:lnTo>
                      <a:pt x="872" y="2000"/>
                    </a:lnTo>
                    <a:lnTo>
                      <a:pt x="842" y="1995"/>
                    </a:lnTo>
                    <a:lnTo>
                      <a:pt x="814" y="1988"/>
                    </a:lnTo>
                    <a:lnTo>
                      <a:pt x="785" y="1980"/>
                    </a:lnTo>
                    <a:lnTo>
                      <a:pt x="757" y="1972"/>
                    </a:lnTo>
                    <a:lnTo>
                      <a:pt x="729" y="1963"/>
                    </a:lnTo>
                    <a:lnTo>
                      <a:pt x="703" y="1953"/>
                    </a:lnTo>
                    <a:lnTo>
                      <a:pt x="650" y="1932"/>
                    </a:lnTo>
                    <a:lnTo>
                      <a:pt x="596" y="1912"/>
                    </a:lnTo>
                    <a:lnTo>
                      <a:pt x="538" y="1883"/>
                    </a:lnTo>
                    <a:lnTo>
                      <a:pt x="482" y="1852"/>
                    </a:lnTo>
                    <a:lnTo>
                      <a:pt x="431" y="1819"/>
                    </a:lnTo>
                    <a:lnTo>
                      <a:pt x="384" y="1785"/>
                    </a:lnTo>
                    <a:lnTo>
                      <a:pt x="340" y="1750"/>
                    </a:lnTo>
                    <a:lnTo>
                      <a:pt x="299" y="1712"/>
                    </a:lnTo>
                    <a:lnTo>
                      <a:pt x="261" y="1672"/>
                    </a:lnTo>
                    <a:lnTo>
                      <a:pt x="227" y="1631"/>
                    </a:lnTo>
                    <a:lnTo>
                      <a:pt x="196" y="1588"/>
                    </a:lnTo>
                    <a:lnTo>
                      <a:pt x="167" y="1543"/>
                    </a:lnTo>
                    <a:lnTo>
                      <a:pt x="141" y="1496"/>
                    </a:lnTo>
                    <a:lnTo>
                      <a:pt x="118" y="1448"/>
                    </a:lnTo>
                    <a:lnTo>
                      <a:pt x="98" y="1398"/>
                    </a:lnTo>
                    <a:lnTo>
                      <a:pt x="80" y="1346"/>
                    </a:lnTo>
                    <a:lnTo>
                      <a:pt x="64" y="1292"/>
                    </a:lnTo>
                    <a:lnTo>
                      <a:pt x="50" y="1236"/>
                    </a:lnTo>
                    <a:lnTo>
                      <a:pt x="37" y="1178"/>
                    </a:lnTo>
                    <a:lnTo>
                      <a:pt x="28" y="1119"/>
                    </a:lnTo>
                    <a:lnTo>
                      <a:pt x="19" y="1057"/>
                    </a:lnTo>
                    <a:lnTo>
                      <a:pt x="14" y="994"/>
                    </a:lnTo>
                    <a:lnTo>
                      <a:pt x="8" y="929"/>
                    </a:lnTo>
                    <a:lnTo>
                      <a:pt x="4" y="862"/>
                    </a:lnTo>
                    <a:lnTo>
                      <a:pt x="2" y="792"/>
                    </a:lnTo>
                    <a:lnTo>
                      <a:pt x="0" y="722"/>
                    </a:lnTo>
                    <a:lnTo>
                      <a:pt x="0" y="649"/>
                    </a:lnTo>
                    <a:lnTo>
                      <a:pt x="1" y="573"/>
                    </a:lnTo>
                    <a:lnTo>
                      <a:pt x="2" y="497"/>
                    </a:lnTo>
                    <a:lnTo>
                      <a:pt x="3" y="418"/>
                    </a:lnTo>
                    <a:lnTo>
                      <a:pt x="9" y="254"/>
                    </a:lnTo>
                    <a:lnTo>
                      <a:pt x="15" y="82"/>
                    </a:lnTo>
                    <a:lnTo>
                      <a:pt x="28" y="93"/>
                    </a:lnTo>
                    <a:lnTo>
                      <a:pt x="42" y="102"/>
                    </a:lnTo>
                    <a:lnTo>
                      <a:pt x="55" y="110"/>
                    </a:lnTo>
                    <a:lnTo>
                      <a:pt x="67" y="117"/>
                    </a:lnTo>
                    <a:lnTo>
                      <a:pt x="80" y="122"/>
                    </a:lnTo>
                    <a:lnTo>
                      <a:pt x="91" y="125"/>
                    </a:lnTo>
                    <a:lnTo>
                      <a:pt x="102" y="127"/>
                    </a:lnTo>
                    <a:lnTo>
                      <a:pt x="114" y="128"/>
                    </a:lnTo>
                    <a:lnTo>
                      <a:pt x="125" y="128"/>
                    </a:lnTo>
                    <a:lnTo>
                      <a:pt x="136" y="127"/>
                    </a:lnTo>
                    <a:lnTo>
                      <a:pt x="146" y="126"/>
                    </a:lnTo>
                    <a:lnTo>
                      <a:pt x="157" y="123"/>
                    </a:lnTo>
                    <a:lnTo>
                      <a:pt x="167" y="119"/>
                    </a:lnTo>
                    <a:lnTo>
                      <a:pt x="178" y="115"/>
                    </a:lnTo>
                    <a:lnTo>
                      <a:pt x="187" y="110"/>
                    </a:lnTo>
                    <a:lnTo>
                      <a:pt x="197" y="105"/>
                    </a:lnTo>
                    <a:lnTo>
                      <a:pt x="237" y="77"/>
                    </a:lnTo>
                    <a:lnTo>
                      <a:pt x="278" y="47"/>
                    </a:lnTo>
                    <a:lnTo>
                      <a:pt x="299" y="34"/>
                    </a:lnTo>
                    <a:lnTo>
                      <a:pt x="320" y="20"/>
                    </a:lnTo>
                    <a:lnTo>
                      <a:pt x="332" y="14"/>
                    </a:lnTo>
                    <a:lnTo>
                      <a:pt x="343" y="9"/>
                    </a:lnTo>
                    <a:lnTo>
                      <a:pt x="356" y="4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3594240" y="4110120"/>
                <a:ext cx="304560" cy="342720"/>
              </a:xfrm>
              <a:custGeom>
                <a:avLst/>
                <a:gdLst/>
                <a:ahLst/>
                <a:rect l="l" t="t" r="r" b="b"/>
                <a:pathLst>
                  <a:path w="960" h="1081">
                    <a:moveTo>
                      <a:pt x="948" y="1021"/>
                    </a:moveTo>
                    <a:lnTo>
                      <a:pt x="929" y="1013"/>
                    </a:lnTo>
                    <a:lnTo>
                      <a:pt x="875" y="1008"/>
                    </a:lnTo>
                    <a:lnTo>
                      <a:pt x="824" y="1002"/>
                    </a:lnTo>
                    <a:lnTo>
                      <a:pt x="776" y="995"/>
                    </a:lnTo>
                    <a:lnTo>
                      <a:pt x="728" y="988"/>
                    </a:lnTo>
                    <a:lnTo>
                      <a:pt x="684" y="980"/>
                    </a:lnTo>
                    <a:lnTo>
                      <a:pt x="642" y="972"/>
                    </a:lnTo>
                    <a:lnTo>
                      <a:pt x="601" y="963"/>
                    </a:lnTo>
                    <a:lnTo>
                      <a:pt x="562" y="952"/>
                    </a:lnTo>
                    <a:lnTo>
                      <a:pt x="525" y="940"/>
                    </a:lnTo>
                    <a:lnTo>
                      <a:pt x="490" y="928"/>
                    </a:lnTo>
                    <a:lnTo>
                      <a:pt x="474" y="921"/>
                    </a:lnTo>
                    <a:lnTo>
                      <a:pt x="458" y="913"/>
                    </a:lnTo>
                    <a:lnTo>
                      <a:pt x="442" y="905"/>
                    </a:lnTo>
                    <a:lnTo>
                      <a:pt x="426" y="897"/>
                    </a:lnTo>
                    <a:lnTo>
                      <a:pt x="411" y="889"/>
                    </a:lnTo>
                    <a:lnTo>
                      <a:pt x="398" y="880"/>
                    </a:lnTo>
                    <a:lnTo>
                      <a:pt x="383" y="870"/>
                    </a:lnTo>
                    <a:lnTo>
                      <a:pt x="369" y="860"/>
                    </a:lnTo>
                    <a:lnTo>
                      <a:pt x="356" y="849"/>
                    </a:lnTo>
                    <a:lnTo>
                      <a:pt x="343" y="839"/>
                    </a:lnTo>
                    <a:lnTo>
                      <a:pt x="330" y="827"/>
                    </a:lnTo>
                    <a:lnTo>
                      <a:pt x="318" y="815"/>
                    </a:lnTo>
                    <a:lnTo>
                      <a:pt x="307" y="802"/>
                    </a:lnTo>
                    <a:lnTo>
                      <a:pt x="294" y="790"/>
                    </a:lnTo>
                    <a:lnTo>
                      <a:pt x="283" y="775"/>
                    </a:lnTo>
                    <a:lnTo>
                      <a:pt x="272" y="761"/>
                    </a:lnTo>
                    <a:lnTo>
                      <a:pt x="261" y="745"/>
                    </a:lnTo>
                    <a:lnTo>
                      <a:pt x="251" y="729"/>
                    </a:lnTo>
                    <a:lnTo>
                      <a:pt x="240" y="713"/>
                    </a:lnTo>
                    <a:lnTo>
                      <a:pt x="230" y="695"/>
                    </a:lnTo>
                    <a:lnTo>
                      <a:pt x="221" y="677"/>
                    </a:lnTo>
                    <a:lnTo>
                      <a:pt x="211" y="658"/>
                    </a:lnTo>
                    <a:lnTo>
                      <a:pt x="202" y="638"/>
                    </a:lnTo>
                    <a:lnTo>
                      <a:pt x="194" y="617"/>
                    </a:lnTo>
                    <a:lnTo>
                      <a:pt x="185" y="596"/>
                    </a:lnTo>
                    <a:lnTo>
                      <a:pt x="177" y="574"/>
                    </a:lnTo>
                    <a:lnTo>
                      <a:pt x="169" y="550"/>
                    </a:lnTo>
                    <a:lnTo>
                      <a:pt x="161" y="526"/>
                    </a:lnTo>
                    <a:lnTo>
                      <a:pt x="146" y="475"/>
                    </a:lnTo>
                    <a:lnTo>
                      <a:pt x="132" y="420"/>
                    </a:lnTo>
                    <a:lnTo>
                      <a:pt x="118" y="361"/>
                    </a:lnTo>
                    <a:lnTo>
                      <a:pt x="107" y="298"/>
                    </a:lnTo>
                    <a:lnTo>
                      <a:pt x="96" y="229"/>
                    </a:lnTo>
                    <a:lnTo>
                      <a:pt x="85" y="158"/>
                    </a:lnTo>
                    <a:lnTo>
                      <a:pt x="75" y="81"/>
                    </a:lnTo>
                    <a:lnTo>
                      <a:pt x="67" y="0"/>
                    </a:lnTo>
                    <a:lnTo>
                      <a:pt x="0" y="7"/>
                    </a:lnTo>
                    <a:lnTo>
                      <a:pt x="9" y="89"/>
                    </a:lnTo>
                    <a:lnTo>
                      <a:pt x="18" y="167"/>
                    </a:lnTo>
                    <a:lnTo>
                      <a:pt x="28" y="240"/>
                    </a:lnTo>
                    <a:lnTo>
                      <a:pt x="40" y="309"/>
                    </a:lnTo>
                    <a:lnTo>
                      <a:pt x="52" y="374"/>
                    </a:lnTo>
                    <a:lnTo>
                      <a:pt x="66" y="435"/>
                    </a:lnTo>
                    <a:lnTo>
                      <a:pt x="81" y="493"/>
                    </a:lnTo>
                    <a:lnTo>
                      <a:pt x="96" y="545"/>
                    </a:lnTo>
                    <a:lnTo>
                      <a:pt x="105" y="572"/>
                    </a:lnTo>
                    <a:lnTo>
                      <a:pt x="113" y="597"/>
                    </a:lnTo>
                    <a:lnTo>
                      <a:pt x="122" y="621"/>
                    </a:lnTo>
                    <a:lnTo>
                      <a:pt x="131" y="644"/>
                    </a:lnTo>
                    <a:lnTo>
                      <a:pt x="140" y="665"/>
                    </a:lnTo>
                    <a:lnTo>
                      <a:pt x="150" y="687"/>
                    </a:lnTo>
                    <a:lnTo>
                      <a:pt x="161" y="708"/>
                    </a:lnTo>
                    <a:lnTo>
                      <a:pt x="171" y="728"/>
                    </a:lnTo>
                    <a:lnTo>
                      <a:pt x="182" y="747"/>
                    </a:lnTo>
                    <a:lnTo>
                      <a:pt x="194" y="766"/>
                    </a:lnTo>
                    <a:lnTo>
                      <a:pt x="205" y="784"/>
                    </a:lnTo>
                    <a:lnTo>
                      <a:pt x="218" y="800"/>
                    </a:lnTo>
                    <a:lnTo>
                      <a:pt x="230" y="817"/>
                    </a:lnTo>
                    <a:lnTo>
                      <a:pt x="243" y="833"/>
                    </a:lnTo>
                    <a:lnTo>
                      <a:pt x="256" y="848"/>
                    </a:lnTo>
                    <a:lnTo>
                      <a:pt x="270" y="863"/>
                    </a:lnTo>
                    <a:lnTo>
                      <a:pt x="284" y="876"/>
                    </a:lnTo>
                    <a:lnTo>
                      <a:pt x="299" y="889"/>
                    </a:lnTo>
                    <a:lnTo>
                      <a:pt x="313" y="901"/>
                    </a:lnTo>
                    <a:lnTo>
                      <a:pt x="329" y="914"/>
                    </a:lnTo>
                    <a:lnTo>
                      <a:pt x="344" y="925"/>
                    </a:lnTo>
                    <a:lnTo>
                      <a:pt x="361" y="936"/>
                    </a:lnTo>
                    <a:lnTo>
                      <a:pt x="377" y="946"/>
                    </a:lnTo>
                    <a:lnTo>
                      <a:pt x="394" y="956"/>
                    </a:lnTo>
                    <a:lnTo>
                      <a:pt x="411" y="965"/>
                    </a:lnTo>
                    <a:lnTo>
                      <a:pt x="429" y="974"/>
                    </a:lnTo>
                    <a:lnTo>
                      <a:pt x="447" y="982"/>
                    </a:lnTo>
                    <a:lnTo>
                      <a:pt x="466" y="990"/>
                    </a:lnTo>
                    <a:lnTo>
                      <a:pt x="504" y="1004"/>
                    </a:lnTo>
                    <a:lnTo>
                      <a:pt x="544" y="1017"/>
                    </a:lnTo>
                    <a:lnTo>
                      <a:pt x="585" y="1028"/>
                    </a:lnTo>
                    <a:lnTo>
                      <a:pt x="627" y="1038"/>
                    </a:lnTo>
                    <a:lnTo>
                      <a:pt x="671" y="1046"/>
                    </a:lnTo>
                    <a:lnTo>
                      <a:pt x="718" y="1054"/>
                    </a:lnTo>
                    <a:lnTo>
                      <a:pt x="766" y="1062"/>
                    </a:lnTo>
                    <a:lnTo>
                      <a:pt x="816" y="1068"/>
                    </a:lnTo>
                    <a:lnTo>
                      <a:pt x="869" y="1075"/>
                    </a:lnTo>
                    <a:lnTo>
                      <a:pt x="922" y="1081"/>
                    </a:lnTo>
                    <a:lnTo>
                      <a:pt x="904" y="1071"/>
                    </a:lnTo>
                    <a:lnTo>
                      <a:pt x="922" y="1081"/>
                    </a:lnTo>
                    <a:lnTo>
                      <a:pt x="930" y="1081"/>
                    </a:lnTo>
                    <a:lnTo>
                      <a:pt x="937" y="1079"/>
                    </a:lnTo>
                    <a:lnTo>
                      <a:pt x="944" y="1076"/>
                    </a:lnTo>
                    <a:lnTo>
                      <a:pt x="948" y="1073"/>
                    </a:lnTo>
                    <a:lnTo>
                      <a:pt x="953" y="1068"/>
                    </a:lnTo>
                    <a:lnTo>
                      <a:pt x="956" y="1062"/>
                    </a:lnTo>
                    <a:lnTo>
                      <a:pt x="959" y="1057"/>
                    </a:lnTo>
                    <a:lnTo>
                      <a:pt x="960" y="1050"/>
                    </a:lnTo>
                    <a:lnTo>
                      <a:pt x="960" y="1044"/>
                    </a:lnTo>
                    <a:lnTo>
                      <a:pt x="959" y="1037"/>
                    </a:lnTo>
                    <a:lnTo>
                      <a:pt x="956" y="1032"/>
                    </a:lnTo>
                    <a:lnTo>
                      <a:pt x="953" y="1026"/>
                    </a:lnTo>
                    <a:lnTo>
                      <a:pt x="949" y="1021"/>
                    </a:lnTo>
                    <a:lnTo>
                      <a:pt x="944" y="1018"/>
                    </a:lnTo>
                    <a:lnTo>
                      <a:pt x="937" y="1014"/>
                    </a:lnTo>
                    <a:lnTo>
                      <a:pt x="929" y="1013"/>
                    </a:lnTo>
                    <a:lnTo>
                      <a:pt x="948" y="10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3801960" y="4433760"/>
                <a:ext cx="111240" cy="92160"/>
              </a:xfrm>
              <a:custGeom>
                <a:avLst/>
                <a:gdLst/>
                <a:ahLst/>
                <a:rect l="l" t="t" r="r" b="b"/>
                <a:pathLst>
                  <a:path w="352" h="290">
                    <a:moveTo>
                      <a:pt x="67" y="249"/>
                    </a:moveTo>
                    <a:lnTo>
                      <a:pt x="27" y="276"/>
                    </a:lnTo>
                    <a:lnTo>
                      <a:pt x="57" y="282"/>
                    </a:lnTo>
                    <a:lnTo>
                      <a:pt x="86" y="287"/>
                    </a:lnTo>
                    <a:lnTo>
                      <a:pt x="113" y="289"/>
                    </a:lnTo>
                    <a:lnTo>
                      <a:pt x="138" y="290"/>
                    </a:lnTo>
                    <a:lnTo>
                      <a:pt x="162" y="290"/>
                    </a:lnTo>
                    <a:lnTo>
                      <a:pt x="185" y="288"/>
                    </a:lnTo>
                    <a:lnTo>
                      <a:pt x="206" y="285"/>
                    </a:lnTo>
                    <a:lnTo>
                      <a:pt x="226" y="281"/>
                    </a:lnTo>
                    <a:lnTo>
                      <a:pt x="244" y="275"/>
                    </a:lnTo>
                    <a:lnTo>
                      <a:pt x="261" y="268"/>
                    </a:lnTo>
                    <a:lnTo>
                      <a:pt x="277" y="260"/>
                    </a:lnTo>
                    <a:lnTo>
                      <a:pt x="292" y="251"/>
                    </a:lnTo>
                    <a:lnTo>
                      <a:pt x="304" y="241"/>
                    </a:lnTo>
                    <a:lnTo>
                      <a:pt x="316" y="230"/>
                    </a:lnTo>
                    <a:lnTo>
                      <a:pt x="325" y="217"/>
                    </a:lnTo>
                    <a:lnTo>
                      <a:pt x="334" y="204"/>
                    </a:lnTo>
                    <a:lnTo>
                      <a:pt x="341" y="191"/>
                    </a:lnTo>
                    <a:lnTo>
                      <a:pt x="346" y="177"/>
                    </a:lnTo>
                    <a:lnTo>
                      <a:pt x="349" y="163"/>
                    </a:lnTo>
                    <a:lnTo>
                      <a:pt x="352" y="150"/>
                    </a:lnTo>
                    <a:lnTo>
                      <a:pt x="352" y="135"/>
                    </a:lnTo>
                    <a:lnTo>
                      <a:pt x="352" y="121"/>
                    </a:lnTo>
                    <a:lnTo>
                      <a:pt x="351" y="107"/>
                    </a:lnTo>
                    <a:lnTo>
                      <a:pt x="349" y="94"/>
                    </a:lnTo>
                    <a:lnTo>
                      <a:pt x="346" y="80"/>
                    </a:lnTo>
                    <a:lnTo>
                      <a:pt x="341" y="68"/>
                    </a:lnTo>
                    <a:lnTo>
                      <a:pt x="335" y="55"/>
                    </a:lnTo>
                    <a:lnTo>
                      <a:pt x="330" y="42"/>
                    </a:lnTo>
                    <a:lnTo>
                      <a:pt x="322" y="31"/>
                    </a:lnTo>
                    <a:lnTo>
                      <a:pt x="314" y="21"/>
                    </a:lnTo>
                    <a:lnTo>
                      <a:pt x="304" y="11"/>
                    </a:lnTo>
                    <a:lnTo>
                      <a:pt x="295" y="0"/>
                    </a:lnTo>
                    <a:lnTo>
                      <a:pt x="251" y="50"/>
                    </a:lnTo>
                    <a:lnTo>
                      <a:pt x="255" y="56"/>
                    </a:lnTo>
                    <a:lnTo>
                      <a:pt x="261" y="62"/>
                    </a:lnTo>
                    <a:lnTo>
                      <a:pt x="266" y="69"/>
                    </a:lnTo>
                    <a:lnTo>
                      <a:pt x="270" y="77"/>
                    </a:lnTo>
                    <a:lnTo>
                      <a:pt x="275" y="84"/>
                    </a:lnTo>
                    <a:lnTo>
                      <a:pt x="278" y="92"/>
                    </a:lnTo>
                    <a:lnTo>
                      <a:pt x="281" y="100"/>
                    </a:lnTo>
                    <a:lnTo>
                      <a:pt x="283" y="107"/>
                    </a:lnTo>
                    <a:lnTo>
                      <a:pt x="284" y="117"/>
                    </a:lnTo>
                    <a:lnTo>
                      <a:pt x="285" y="125"/>
                    </a:lnTo>
                    <a:lnTo>
                      <a:pt x="285" y="134"/>
                    </a:lnTo>
                    <a:lnTo>
                      <a:pt x="285" y="142"/>
                    </a:lnTo>
                    <a:lnTo>
                      <a:pt x="284" y="150"/>
                    </a:lnTo>
                    <a:lnTo>
                      <a:pt x="282" y="157"/>
                    </a:lnTo>
                    <a:lnTo>
                      <a:pt x="278" y="165"/>
                    </a:lnTo>
                    <a:lnTo>
                      <a:pt x="275" y="171"/>
                    </a:lnTo>
                    <a:lnTo>
                      <a:pt x="271" y="178"/>
                    </a:lnTo>
                    <a:lnTo>
                      <a:pt x="266" y="184"/>
                    </a:lnTo>
                    <a:lnTo>
                      <a:pt x="259" y="191"/>
                    </a:lnTo>
                    <a:lnTo>
                      <a:pt x="252" y="196"/>
                    </a:lnTo>
                    <a:lnTo>
                      <a:pt x="244" y="202"/>
                    </a:lnTo>
                    <a:lnTo>
                      <a:pt x="234" y="207"/>
                    </a:lnTo>
                    <a:lnTo>
                      <a:pt x="222" y="211"/>
                    </a:lnTo>
                    <a:lnTo>
                      <a:pt x="209" y="216"/>
                    </a:lnTo>
                    <a:lnTo>
                      <a:pt x="194" y="218"/>
                    </a:lnTo>
                    <a:lnTo>
                      <a:pt x="178" y="222"/>
                    </a:lnTo>
                    <a:lnTo>
                      <a:pt x="160" y="223"/>
                    </a:lnTo>
                    <a:lnTo>
                      <a:pt x="140" y="223"/>
                    </a:lnTo>
                    <a:lnTo>
                      <a:pt x="118" y="222"/>
                    </a:lnTo>
                    <a:lnTo>
                      <a:pt x="95" y="219"/>
                    </a:lnTo>
                    <a:lnTo>
                      <a:pt x="68" y="216"/>
                    </a:lnTo>
                    <a:lnTo>
                      <a:pt x="41" y="210"/>
                    </a:lnTo>
                    <a:lnTo>
                      <a:pt x="1" y="238"/>
                    </a:lnTo>
                    <a:lnTo>
                      <a:pt x="41" y="210"/>
                    </a:lnTo>
                    <a:lnTo>
                      <a:pt x="33" y="209"/>
                    </a:lnTo>
                    <a:lnTo>
                      <a:pt x="26" y="210"/>
                    </a:lnTo>
                    <a:lnTo>
                      <a:pt x="19" y="212"/>
                    </a:lnTo>
                    <a:lnTo>
                      <a:pt x="14" y="215"/>
                    </a:lnTo>
                    <a:lnTo>
                      <a:pt x="9" y="219"/>
                    </a:lnTo>
                    <a:lnTo>
                      <a:pt x="6" y="224"/>
                    </a:lnTo>
                    <a:lnTo>
                      <a:pt x="2" y="230"/>
                    </a:lnTo>
                    <a:lnTo>
                      <a:pt x="1" y="236"/>
                    </a:lnTo>
                    <a:lnTo>
                      <a:pt x="0" y="242"/>
                    </a:lnTo>
                    <a:lnTo>
                      <a:pt x="0" y="249"/>
                    </a:lnTo>
                    <a:lnTo>
                      <a:pt x="2" y="255"/>
                    </a:lnTo>
                    <a:lnTo>
                      <a:pt x="5" y="260"/>
                    </a:lnTo>
                    <a:lnTo>
                      <a:pt x="8" y="266"/>
                    </a:lnTo>
                    <a:lnTo>
                      <a:pt x="13" y="271"/>
                    </a:lnTo>
                    <a:lnTo>
                      <a:pt x="19" y="274"/>
                    </a:lnTo>
                    <a:lnTo>
                      <a:pt x="27" y="276"/>
                    </a:lnTo>
                    <a:lnTo>
                      <a:pt x="67" y="24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3801960" y="4508640"/>
                <a:ext cx="123840" cy="102960"/>
              </a:xfrm>
              <a:custGeom>
                <a:avLst/>
                <a:gdLst/>
                <a:ahLst/>
                <a:rect l="l" t="t" r="r" b="b"/>
                <a:pathLst>
                  <a:path w="392" h="321">
                    <a:moveTo>
                      <a:pt x="378" y="297"/>
                    </a:moveTo>
                    <a:lnTo>
                      <a:pt x="376" y="304"/>
                    </a:lnTo>
                    <a:lnTo>
                      <a:pt x="384" y="285"/>
                    </a:lnTo>
                    <a:lnTo>
                      <a:pt x="390" y="267"/>
                    </a:lnTo>
                    <a:lnTo>
                      <a:pt x="392" y="256"/>
                    </a:lnTo>
                    <a:lnTo>
                      <a:pt x="392" y="246"/>
                    </a:lnTo>
                    <a:lnTo>
                      <a:pt x="392" y="237"/>
                    </a:lnTo>
                    <a:lnTo>
                      <a:pt x="390" y="225"/>
                    </a:lnTo>
                    <a:lnTo>
                      <a:pt x="385" y="209"/>
                    </a:lnTo>
                    <a:lnTo>
                      <a:pt x="377" y="193"/>
                    </a:lnTo>
                    <a:lnTo>
                      <a:pt x="367" y="180"/>
                    </a:lnTo>
                    <a:lnTo>
                      <a:pt x="354" y="167"/>
                    </a:lnTo>
                    <a:lnTo>
                      <a:pt x="341" y="157"/>
                    </a:lnTo>
                    <a:lnTo>
                      <a:pt x="327" y="148"/>
                    </a:lnTo>
                    <a:lnTo>
                      <a:pt x="311" y="139"/>
                    </a:lnTo>
                    <a:lnTo>
                      <a:pt x="295" y="131"/>
                    </a:lnTo>
                    <a:lnTo>
                      <a:pt x="262" y="116"/>
                    </a:lnTo>
                    <a:lnTo>
                      <a:pt x="228" y="103"/>
                    </a:lnTo>
                    <a:lnTo>
                      <a:pt x="193" y="91"/>
                    </a:lnTo>
                    <a:lnTo>
                      <a:pt x="160" y="78"/>
                    </a:lnTo>
                    <a:lnTo>
                      <a:pt x="144" y="71"/>
                    </a:lnTo>
                    <a:lnTo>
                      <a:pt x="129" y="66"/>
                    </a:lnTo>
                    <a:lnTo>
                      <a:pt x="116" y="59"/>
                    </a:lnTo>
                    <a:lnTo>
                      <a:pt x="104" y="53"/>
                    </a:lnTo>
                    <a:lnTo>
                      <a:pt x="93" y="46"/>
                    </a:lnTo>
                    <a:lnTo>
                      <a:pt x="84" y="41"/>
                    </a:lnTo>
                    <a:lnTo>
                      <a:pt x="77" y="34"/>
                    </a:lnTo>
                    <a:lnTo>
                      <a:pt x="73" y="29"/>
                    </a:lnTo>
                    <a:lnTo>
                      <a:pt x="71" y="24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8" y="16"/>
                    </a:lnTo>
                    <a:lnTo>
                      <a:pt x="68" y="13"/>
                    </a:lnTo>
                    <a:lnTo>
                      <a:pt x="68" y="11"/>
                    </a:lnTo>
                    <a:lnTo>
                      <a:pt x="2" y="0"/>
                    </a:lnTo>
                    <a:lnTo>
                      <a:pt x="1" y="9"/>
                    </a:lnTo>
                    <a:lnTo>
                      <a:pt x="0" y="18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9" y="53"/>
                    </a:lnTo>
                    <a:lnTo>
                      <a:pt x="18" y="68"/>
                    </a:lnTo>
                    <a:lnTo>
                      <a:pt x="30" y="82"/>
                    </a:lnTo>
                    <a:lnTo>
                      <a:pt x="42" y="93"/>
                    </a:lnTo>
                    <a:lnTo>
                      <a:pt x="56" y="102"/>
                    </a:lnTo>
                    <a:lnTo>
                      <a:pt x="71" y="111"/>
                    </a:lnTo>
                    <a:lnTo>
                      <a:pt x="85" y="119"/>
                    </a:lnTo>
                    <a:lnTo>
                      <a:pt x="101" y="127"/>
                    </a:lnTo>
                    <a:lnTo>
                      <a:pt x="119" y="134"/>
                    </a:lnTo>
                    <a:lnTo>
                      <a:pt x="136" y="141"/>
                    </a:lnTo>
                    <a:lnTo>
                      <a:pt x="170" y="154"/>
                    </a:lnTo>
                    <a:lnTo>
                      <a:pt x="204" y="166"/>
                    </a:lnTo>
                    <a:lnTo>
                      <a:pt x="237" y="179"/>
                    </a:lnTo>
                    <a:lnTo>
                      <a:pt x="267" y="192"/>
                    </a:lnTo>
                    <a:lnTo>
                      <a:pt x="279" y="198"/>
                    </a:lnTo>
                    <a:lnTo>
                      <a:pt x="292" y="205"/>
                    </a:lnTo>
                    <a:lnTo>
                      <a:pt x="302" y="212"/>
                    </a:lnTo>
                    <a:lnTo>
                      <a:pt x="310" y="217"/>
                    </a:lnTo>
                    <a:lnTo>
                      <a:pt x="316" y="224"/>
                    </a:lnTo>
                    <a:lnTo>
                      <a:pt x="320" y="230"/>
                    </a:lnTo>
                    <a:lnTo>
                      <a:pt x="323" y="236"/>
                    </a:lnTo>
                    <a:lnTo>
                      <a:pt x="325" y="241"/>
                    </a:lnTo>
                    <a:lnTo>
                      <a:pt x="325" y="243"/>
                    </a:lnTo>
                    <a:lnTo>
                      <a:pt x="325" y="246"/>
                    </a:lnTo>
                    <a:lnTo>
                      <a:pt x="325" y="248"/>
                    </a:lnTo>
                    <a:lnTo>
                      <a:pt x="325" y="251"/>
                    </a:lnTo>
                    <a:lnTo>
                      <a:pt x="321" y="261"/>
                    </a:lnTo>
                    <a:lnTo>
                      <a:pt x="317" y="271"/>
                    </a:lnTo>
                    <a:lnTo>
                      <a:pt x="315" y="278"/>
                    </a:lnTo>
                    <a:lnTo>
                      <a:pt x="317" y="271"/>
                    </a:lnTo>
                    <a:lnTo>
                      <a:pt x="313" y="279"/>
                    </a:lnTo>
                    <a:lnTo>
                      <a:pt x="312" y="286"/>
                    </a:lnTo>
                    <a:lnTo>
                      <a:pt x="312" y="293"/>
                    </a:lnTo>
                    <a:lnTo>
                      <a:pt x="313" y="298"/>
                    </a:lnTo>
                    <a:lnTo>
                      <a:pt x="317" y="304"/>
                    </a:lnTo>
                    <a:lnTo>
                      <a:pt x="320" y="310"/>
                    </a:lnTo>
                    <a:lnTo>
                      <a:pt x="325" y="313"/>
                    </a:lnTo>
                    <a:lnTo>
                      <a:pt x="331" y="317"/>
                    </a:lnTo>
                    <a:lnTo>
                      <a:pt x="336" y="320"/>
                    </a:lnTo>
                    <a:lnTo>
                      <a:pt x="342" y="321"/>
                    </a:lnTo>
                    <a:lnTo>
                      <a:pt x="348" y="321"/>
                    </a:lnTo>
                    <a:lnTo>
                      <a:pt x="354" y="321"/>
                    </a:lnTo>
                    <a:lnTo>
                      <a:pt x="360" y="319"/>
                    </a:lnTo>
                    <a:lnTo>
                      <a:pt x="366" y="316"/>
                    </a:lnTo>
                    <a:lnTo>
                      <a:pt x="372" y="310"/>
                    </a:lnTo>
                    <a:lnTo>
                      <a:pt x="376" y="304"/>
                    </a:lnTo>
                    <a:lnTo>
                      <a:pt x="378" y="2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3782880" y="4597560"/>
                <a:ext cx="138240" cy="42840"/>
              </a:xfrm>
              <a:custGeom>
                <a:avLst/>
                <a:gdLst/>
                <a:ahLst/>
                <a:rect l="l" t="t" r="r" b="b"/>
                <a:pathLst>
                  <a:path w="438" h="133">
                    <a:moveTo>
                      <a:pt x="59" y="105"/>
                    </a:moveTo>
                    <a:lnTo>
                      <a:pt x="67" y="73"/>
                    </a:lnTo>
                    <a:lnTo>
                      <a:pt x="67" y="73"/>
                    </a:lnTo>
                    <a:lnTo>
                      <a:pt x="66" y="81"/>
                    </a:lnTo>
                    <a:lnTo>
                      <a:pt x="60" y="90"/>
                    </a:lnTo>
                    <a:lnTo>
                      <a:pt x="53" y="95"/>
                    </a:lnTo>
                    <a:lnTo>
                      <a:pt x="51" y="95"/>
                    </a:lnTo>
                    <a:lnTo>
                      <a:pt x="54" y="95"/>
                    </a:lnTo>
                    <a:lnTo>
                      <a:pt x="60" y="96"/>
                    </a:lnTo>
                    <a:lnTo>
                      <a:pt x="67" y="97"/>
                    </a:lnTo>
                    <a:lnTo>
                      <a:pt x="118" y="108"/>
                    </a:lnTo>
                    <a:lnTo>
                      <a:pt x="181" y="123"/>
                    </a:lnTo>
                    <a:lnTo>
                      <a:pt x="199" y="127"/>
                    </a:lnTo>
                    <a:lnTo>
                      <a:pt x="216" y="129"/>
                    </a:lnTo>
                    <a:lnTo>
                      <a:pt x="234" y="131"/>
                    </a:lnTo>
                    <a:lnTo>
                      <a:pt x="253" y="133"/>
                    </a:lnTo>
                    <a:lnTo>
                      <a:pt x="271" y="133"/>
                    </a:lnTo>
                    <a:lnTo>
                      <a:pt x="290" y="133"/>
                    </a:lnTo>
                    <a:lnTo>
                      <a:pt x="308" y="131"/>
                    </a:lnTo>
                    <a:lnTo>
                      <a:pt x="327" y="128"/>
                    </a:lnTo>
                    <a:lnTo>
                      <a:pt x="344" y="122"/>
                    </a:lnTo>
                    <a:lnTo>
                      <a:pt x="362" y="114"/>
                    </a:lnTo>
                    <a:lnTo>
                      <a:pt x="378" y="105"/>
                    </a:lnTo>
                    <a:lnTo>
                      <a:pt x="393" y="93"/>
                    </a:lnTo>
                    <a:lnTo>
                      <a:pt x="401" y="85"/>
                    </a:lnTo>
                    <a:lnTo>
                      <a:pt x="408" y="78"/>
                    </a:lnTo>
                    <a:lnTo>
                      <a:pt x="414" y="70"/>
                    </a:lnTo>
                    <a:lnTo>
                      <a:pt x="420" y="59"/>
                    </a:lnTo>
                    <a:lnTo>
                      <a:pt x="430" y="41"/>
                    </a:lnTo>
                    <a:lnTo>
                      <a:pt x="438" y="19"/>
                    </a:lnTo>
                    <a:lnTo>
                      <a:pt x="375" y="0"/>
                    </a:lnTo>
                    <a:lnTo>
                      <a:pt x="369" y="14"/>
                    </a:lnTo>
                    <a:lnTo>
                      <a:pt x="362" y="26"/>
                    </a:lnTo>
                    <a:lnTo>
                      <a:pt x="360" y="31"/>
                    </a:lnTo>
                    <a:lnTo>
                      <a:pt x="356" y="35"/>
                    </a:lnTo>
                    <a:lnTo>
                      <a:pt x="352" y="39"/>
                    </a:lnTo>
                    <a:lnTo>
                      <a:pt x="350" y="42"/>
                    </a:lnTo>
                    <a:lnTo>
                      <a:pt x="340" y="49"/>
                    </a:lnTo>
                    <a:lnTo>
                      <a:pt x="331" y="55"/>
                    </a:lnTo>
                    <a:lnTo>
                      <a:pt x="321" y="58"/>
                    </a:lnTo>
                    <a:lnTo>
                      <a:pt x="311" y="62"/>
                    </a:lnTo>
                    <a:lnTo>
                      <a:pt x="298" y="64"/>
                    </a:lnTo>
                    <a:lnTo>
                      <a:pt x="285" y="66"/>
                    </a:lnTo>
                    <a:lnTo>
                      <a:pt x="271" y="66"/>
                    </a:lnTo>
                    <a:lnTo>
                      <a:pt x="256" y="66"/>
                    </a:lnTo>
                    <a:lnTo>
                      <a:pt x="241" y="65"/>
                    </a:lnTo>
                    <a:lnTo>
                      <a:pt x="226" y="63"/>
                    </a:lnTo>
                    <a:lnTo>
                      <a:pt x="210" y="60"/>
                    </a:lnTo>
                    <a:lnTo>
                      <a:pt x="196" y="57"/>
                    </a:lnTo>
                    <a:lnTo>
                      <a:pt x="133" y="42"/>
                    </a:lnTo>
                    <a:lnTo>
                      <a:pt x="80" y="31"/>
                    </a:lnTo>
                    <a:lnTo>
                      <a:pt x="67" y="28"/>
                    </a:lnTo>
                    <a:lnTo>
                      <a:pt x="55" y="27"/>
                    </a:lnTo>
                    <a:lnTo>
                      <a:pt x="43" y="28"/>
                    </a:lnTo>
                    <a:lnTo>
                      <a:pt x="29" y="32"/>
                    </a:lnTo>
                    <a:lnTo>
                      <a:pt x="13" y="41"/>
                    </a:lnTo>
                    <a:lnTo>
                      <a:pt x="3" y="58"/>
                    </a:lnTo>
                    <a:lnTo>
                      <a:pt x="0" y="76"/>
                    </a:lnTo>
                    <a:lnTo>
                      <a:pt x="2" y="91"/>
                    </a:lnTo>
                    <a:lnTo>
                      <a:pt x="10" y="59"/>
                    </a:lnTo>
                    <a:lnTo>
                      <a:pt x="2" y="91"/>
                    </a:lnTo>
                    <a:lnTo>
                      <a:pt x="5" y="99"/>
                    </a:lnTo>
                    <a:lnTo>
                      <a:pt x="9" y="105"/>
                    </a:lnTo>
                    <a:lnTo>
                      <a:pt x="14" y="109"/>
                    </a:lnTo>
                    <a:lnTo>
                      <a:pt x="19" y="113"/>
                    </a:lnTo>
                    <a:lnTo>
                      <a:pt x="26" y="115"/>
                    </a:lnTo>
                    <a:lnTo>
                      <a:pt x="31" y="116"/>
                    </a:lnTo>
                    <a:lnTo>
                      <a:pt x="37" y="115"/>
                    </a:lnTo>
                    <a:lnTo>
                      <a:pt x="44" y="114"/>
                    </a:lnTo>
                    <a:lnTo>
                      <a:pt x="50" y="112"/>
                    </a:lnTo>
                    <a:lnTo>
                      <a:pt x="55" y="109"/>
                    </a:lnTo>
                    <a:lnTo>
                      <a:pt x="60" y="105"/>
                    </a:lnTo>
                    <a:lnTo>
                      <a:pt x="65" y="100"/>
                    </a:lnTo>
                    <a:lnTo>
                      <a:pt x="67" y="95"/>
                    </a:lnTo>
                    <a:lnTo>
                      <a:pt x="68" y="88"/>
                    </a:lnTo>
                    <a:lnTo>
                      <a:pt x="69" y="81"/>
                    </a:lnTo>
                    <a:lnTo>
                      <a:pt x="67" y="73"/>
                    </a:lnTo>
                    <a:lnTo>
                      <a:pt x="59" y="10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3774960" y="4616280"/>
                <a:ext cx="84240" cy="136800"/>
              </a:xfrm>
              <a:custGeom>
                <a:avLst/>
                <a:gdLst/>
                <a:ahLst/>
                <a:rect l="l" t="t" r="r" b="b"/>
                <a:pathLst>
                  <a:path w="266" h="429">
                    <a:moveTo>
                      <a:pt x="181" y="427"/>
                    </a:moveTo>
                    <a:lnTo>
                      <a:pt x="190" y="424"/>
                    </a:lnTo>
                    <a:lnTo>
                      <a:pt x="212" y="408"/>
                    </a:lnTo>
                    <a:lnTo>
                      <a:pt x="229" y="394"/>
                    </a:lnTo>
                    <a:lnTo>
                      <a:pt x="238" y="385"/>
                    </a:lnTo>
                    <a:lnTo>
                      <a:pt x="245" y="377"/>
                    </a:lnTo>
                    <a:lnTo>
                      <a:pt x="250" y="368"/>
                    </a:lnTo>
                    <a:lnTo>
                      <a:pt x="256" y="360"/>
                    </a:lnTo>
                    <a:lnTo>
                      <a:pt x="260" y="351"/>
                    </a:lnTo>
                    <a:lnTo>
                      <a:pt x="263" y="340"/>
                    </a:lnTo>
                    <a:lnTo>
                      <a:pt x="265" y="331"/>
                    </a:lnTo>
                    <a:lnTo>
                      <a:pt x="266" y="322"/>
                    </a:lnTo>
                    <a:lnTo>
                      <a:pt x="266" y="312"/>
                    </a:lnTo>
                    <a:lnTo>
                      <a:pt x="266" y="303"/>
                    </a:lnTo>
                    <a:lnTo>
                      <a:pt x="264" y="293"/>
                    </a:lnTo>
                    <a:lnTo>
                      <a:pt x="261" y="283"/>
                    </a:lnTo>
                    <a:lnTo>
                      <a:pt x="254" y="268"/>
                    </a:lnTo>
                    <a:lnTo>
                      <a:pt x="245" y="254"/>
                    </a:lnTo>
                    <a:lnTo>
                      <a:pt x="234" y="241"/>
                    </a:lnTo>
                    <a:lnTo>
                      <a:pt x="222" y="227"/>
                    </a:lnTo>
                    <a:lnTo>
                      <a:pt x="197" y="204"/>
                    </a:lnTo>
                    <a:lnTo>
                      <a:pt x="168" y="183"/>
                    </a:lnTo>
                    <a:lnTo>
                      <a:pt x="141" y="161"/>
                    </a:lnTo>
                    <a:lnTo>
                      <a:pt x="115" y="141"/>
                    </a:lnTo>
                    <a:lnTo>
                      <a:pt x="103" y="130"/>
                    </a:lnTo>
                    <a:lnTo>
                      <a:pt x="93" y="120"/>
                    </a:lnTo>
                    <a:lnTo>
                      <a:pt x="84" y="111"/>
                    </a:lnTo>
                    <a:lnTo>
                      <a:pt x="77" y="102"/>
                    </a:lnTo>
                    <a:lnTo>
                      <a:pt x="73" y="94"/>
                    </a:lnTo>
                    <a:lnTo>
                      <a:pt x="68" y="86"/>
                    </a:lnTo>
                    <a:lnTo>
                      <a:pt x="68" y="84"/>
                    </a:lnTo>
                    <a:lnTo>
                      <a:pt x="67" y="81"/>
                    </a:lnTo>
                    <a:lnTo>
                      <a:pt x="67" y="79"/>
                    </a:lnTo>
                    <a:lnTo>
                      <a:pt x="67" y="76"/>
                    </a:lnTo>
                    <a:lnTo>
                      <a:pt x="67" y="73"/>
                    </a:lnTo>
                    <a:lnTo>
                      <a:pt x="68" y="71"/>
                    </a:lnTo>
                    <a:lnTo>
                      <a:pt x="69" y="68"/>
                    </a:lnTo>
                    <a:lnTo>
                      <a:pt x="70" y="64"/>
                    </a:lnTo>
                    <a:lnTo>
                      <a:pt x="73" y="61"/>
                    </a:lnTo>
                    <a:lnTo>
                      <a:pt x="75" y="56"/>
                    </a:lnTo>
                    <a:lnTo>
                      <a:pt x="78" y="52"/>
                    </a:lnTo>
                    <a:lnTo>
                      <a:pt x="83" y="46"/>
                    </a:lnTo>
                    <a:lnTo>
                      <a:pt x="34" y="0"/>
                    </a:lnTo>
                    <a:lnTo>
                      <a:pt x="27" y="8"/>
                    </a:lnTo>
                    <a:lnTo>
                      <a:pt x="20" y="17"/>
                    </a:lnTo>
                    <a:lnTo>
                      <a:pt x="14" y="25"/>
                    </a:lnTo>
                    <a:lnTo>
                      <a:pt x="10" y="34"/>
                    </a:lnTo>
                    <a:lnTo>
                      <a:pt x="5" y="45"/>
                    </a:lnTo>
                    <a:lnTo>
                      <a:pt x="2" y="54"/>
                    </a:lnTo>
                    <a:lnTo>
                      <a:pt x="1" y="64"/>
                    </a:lnTo>
                    <a:lnTo>
                      <a:pt x="0" y="73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3" y="102"/>
                    </a:lnTo>
                    <a:lnTo>
                      <a:pt x="6" y="112"/>
                    </a:lnTo>
                    <a:lnTo>
                      <a:pt x="13" y="127"/>
                    </a:lnTo>
                    <a:lnTo>
                      <a:pt x="22" y="142"/>
                    </a:lnTo>
                    <a:lnTo>
                      <a:pt x="34" y="155"/>
                    </a:lnTo>
                    <a:lnTo>
                      <a:pt x="45" y="168"/>
                    </a:lnTo>
                    <a:lnTo>
                      <a:pt x="58" y="181"/>
                    </a:lnTo>
                    <a:lnTo>
                      <a:pt x="71" y="192"/>
                    </a:lnTo>
                    <a:lnTo>
                      <a:pt x="100" y="215"/>
                    </a:lnTo>
                    <a:lnTo>
                      <a:pt x="127" y="235"/>
                    </a:lnTo>
                    <a:lnTo>
                      <a:pt x="153" y="256"/>
                    </a:lnTo>
                    <a:lnTo>
                      <a:pt x="175" y="276"/>
                    </a:lnTo>
                    <a:lnTo>
                      <a:pt x="183" y="284"/>
                    </a:lnTo>
                    <a:lnTo>
                      <a:pt x="190" y="293"/>
                    </a:lnTo>
                    <a:lnTo>
                      <a:pt x="195" y="300"/>
                    </a:lnTo>
                    <a:lnTo>
                      <a:pt x="198" y="308"/>
                    </a:lnTo>
                    <a:lnTo>
                      <a:pt x="199" y="309"/>
                    </a:lnTo>
                    <a:lnTo>
                      <a:pt x="199" y="313"/>
                    </a:lnTo>
                    <a:lnTo>
                      <a:pt x="199" y="315"/>
                    </a:lnTo>
                    <a:lnTo>
                      <a:pt x="199" y="317"/>
                    </a:lnTo>
                    <a:lnTo>
                      <a:pt x="199" y="320"/>
                    </a:lnTo>
                    <a:lnTo>
                      <a:pt x="199" y="322"/>
                    </a:lnTo>
                    <a:lnTo>
                      <a:pt x="198" y="324"/>
                    </a:lnTo>
                    <a:lnTo>
                      <a:pt x="197" y="328"/>
                    </a:lnTo>
                    <a:lnTo>
                      <a:pt x="195" y="331"/>
                    </a:lnTo>
                    <a:lnTo>
                      <a:pt x="191" y="335"/>
                    </a:lnTo>
                    <a:lnTo>
                      <a:pt x="188" y="339"/>
                    </a:lnTo>
                    <a:lnTo>
                      <a:pt x="183" y="344"/>
                    </a:lnTo>
                    <a:lnTo>
                      <a:pt x="171" y="355"/>
                    </a:lnTo>
                    <a:lnTo>
                      <a:pt x="153" y="366"/>
                    </a:lnTo>
                    <a:lnTo>
                      <a:pt x="164" y="362"/>
                    </a:lnTo>
                    <a:lnTo>
                      <a:pt x="153" y="366"/>
                    </a:lnTo>
                    <a:lnTo>
                      <a:pt x="148" y="371"/>
                    </a:lnTo>
                    <a:lnTo>
                      <a:pt x="143" y="377"/>
                    </a:lnTo>
                    <a:lnTo>
                      <a:pt x="140" y="382"/>
                    </a:lnTo>
                    <a:lnTo>
                      <a:pt x="139" y="389"/>
                    </a:lnTo>
                    <a:lnTo>
                      <a:pt x="138" y="395"/>
                    </a:lnTo>
                    <a:lnTo>
                      <a:pt x="139" y="402"/>
                    </a:lnTo>
                    <a:lnTo>
                      <a:pt x="141" y="408"/>
                    </a:lnTo>
                    <a:lnTo>
                      <a:pt x="143" y="413"/>
                    </a:lnTo>
                    <a:lnTo>
                      <a:pt x="148" y="418"/>
                    </a:lnTo>
                    <a:lnTo>
                      <a:pt x="152" y="422"/>
                    </a:lnTo>
                    <a:lnTo>
                      <a:pt x="157" y="426"/>
                    </a:lnTo>
                    <a:lnTo>
                      <a:pt x="164" y="428"/>
                    </a:lnTo>
                    <a:lnTo>
                      <a:pt x="169" y="429"/>
                    </a:lnTo>
                    <a:lnTo>
                      <a:pt x="176" y="429"/>
                    </a:lnTo>
                    <a:lnTo>
                      <a:pt x="183" y="427"/>
                    </a:lnTo>
                    <a:lnTo>
                      <a:pt x="190" y="424"/>
                    </a:lnTo>
                    <a:lnTo>
                      <a:pt x="181" y="4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3666960" y="4707000"/>
                <a:ext cx="165240" cy="50760"/>
              </a:xfrm>
              <a:custGeom>
                <a:avLst/>
                <a:gdLst/>
                <a:ahLst/>
                <a:rect l="l" t="t" r="r" b="b"/>
                <a:pathLst>
                  <a:path w="520" h="161">
                    <a:moveTo>
                      <a:pt x="19" y="66"/>
                    </a:moveTo>
                    <a:lnTo>
                      <a:pt x="23" y="67"/>
                    </a:lnTo>
                    <a:lnTo>
                      <a:pt x="74" y="86"/>
                    </a:lnTo>
                    <a:lnTo>
                      <a:pt x="128" y="107"/>
                    </a:lnTo>
                    <a:lnTo>
                      <a:pt x="155" y="117"/>
                    </a:lnTo>
                    <a:lnTo>
                      <a:pt x="184" y="127"/>
                    </a:lnTo>
                    <a:lnTo>
                      <a:pt x="213" y="136"/>
                    </a:lnTo>
                    <a:lnTo>
                      <a:pt x="243" y="144"/>
                    </a:lnTo>
                    <a:lnTo>
                      <a:pt x="274" y="151"/>
                    </a:lnTo>
                    <a:lnTo>
                      <a:pt x="304" y="157"/>
                    </a:lnTo>
                    <a:lnTo>
                      <a:pt x="337" y="160"/>
                    </a:lnTo>
                    <a:lnTo>
                      <a:pt x="371" y="161"/>
                    </a:lnTo>
                    <a:lnTo>
                      <a:pt x="389" y="161"/>
                    </a:lnTo>
                    <a:lnTo>
                      <a:pt x="407" y="160"/>
                    </a:lnTo>
                    <a:lnTo>
                      <a:pt x="425" y="159"/>
                    </a:lnTo>
                    <a:lnTo>
                      <a:pt x="443" y="158"/>
                    </a:lnTo>
                    <a:lnTo>
                      <a:pt x="462" y="154"/>
                    </a:lnTo>
                    <a:lnTo>
                      <a:pt x="481" y="151"/>
                    </a:lnTo>
                    <a:lnTo>
                      <a:pt x="500" y="148"/>
                    </a:lnTo>
                    <a:lnTo>
                      <a:pt x="520" y="142"/>
                    </a:lnTo>
                    <a:lnTo>
                      <a:pt x="503" y="77"/>
                    </a:lnTo>
                    <a:lnTo>
                      <a:pt x="485" y="81"/>
                    </a:lnTo>
                    <a:lnTo>
                      <a:pt x="467" y="85"/>
                    </a:lnTo>
                    <a:lnTo>
                      <a:pt x="451" y="88"/>
                    </a:lnTo>
                    <a:lnTo>
                      <a:pt x="434" y="91"/>
                    </a:lnTo>
                    <a:lnTo>
                      <a:pt x="418" y="92"/>
                    </a:lnTo>
                    <a:lnTo>
                      <a:pt x="402" y="93"/>
                    </a:lnTo>
                    <a:lnTo>
                      <a:pt x="388" y="94"/>
                    </a:lnTo>
                    <a:lnTo>
                      <a:pt x="373" y="94"/>
                    </a:lnTo>
                    <a:lnTo>
                      <a:pt x="343" y="93"/>
                    </a:lnTo>
                    <a:lnTo>
                      <a:pt x="314" y="89"/>
                    </a:lnTo>
                    <a:lnTo>
                      <a:pt x="286" y="85"/>
                    </a:lnTo>
                    <a:lnTo>
                      <a:pt x="259" y="78"/>
                    </a:lnTo>
                    <a:lnTo>
                      <a:pt x="231" y="71"/>
                    </a:lnTo>
                    <a:lnTo>
                      <a:pt x="205" y="63"/>
                    </a:lnTo>
                    <a:lnTo>
                      <a:pt x="178" y="54"/>
                    </a:lnTo>
                    <a:lnTo>
                      <a:pt x="152" y="44"/>
                    </a:lnTo>
                    <a:lnTo>
                      <a:pt x="98" y="23"/>
                    </a:lnTo>
                    <a:lnTo>
                      <a:pt x="44" y="3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36" y="2"/>
                    </a:lnTo>
                    <a:lnTo>
                      <a:pt x="30" y="0"/>
                    </a:lnTo>
                    <a:lnTo>
                      <a:pt x="23" y="3"/>
                    </a:lnTo>
                    <a:lnTo>
                      <a:pt x="17" y="5"/>
                    </a:lnTo>
                    <a:lnTo>
                      <a:pt x="13" y="8"/>
                    </a:lnTo>
                    <a:lnTo>
                      <a:pt x="8" y="13"/>
                    </a:lnTo>
                    <a:lnTo>
                      <a:pt x="5" y="18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2" y="48"/>
                    </a:lnTo>
                    <a:lnTo>
                      <a:pt x="5" y="54"/>
                    </a:lnTo>
                    <a:lnTo>
                      <a:pt x="9" y="59"/>
                    </a:lnTo>
                    <a:lnTo>
                      <a:pt x="15" y="63"/>
                    </a:lnTo>
                    <a:lnTo>
                      <a:pt x="23" y="67"/>
                    </a:lnTo>
                    <a:lnTo>
                      <a:pt x="19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3478320" y="4125960"/>
                <a:ext cx="204840" cy="601560"/>
              </a:xfrm>
              <a:custGeom>
                <a:avLst/>
                <a:gdLst/>
                <a:ahLst/>
                <a:rect l="l" t="t" r="r" b="b"/>
                <a:pathLst>
                  <a:path w="645" h="1894">
                    <a:moveTo>
                      <a:pt x="71" y="8"/>
                    </a:moveTo>
                    <a:lnTo>
                      <a:pt x="16" y="32"/>
                    </a:lnTo>
                    <a:lnTo>
                      <a:pt x="9" y="204"/>
                    </a:lnTo>
                    <a:lnTo>
                      <a:pt x="4" y="368"/>
                    </a:lnTo>
                    <a:lnTo>
                      <a:pt x="2" y="447"/>
                    </a:lnTo>
                    <a:lnTo>
                      <a:pt x="1" y="524"/>
                    </a:lnTo>
                    <a:lnTo>
                      <a:pt x="0" y="600"/>
                    </a:lnTo>
                    <a:lnTo>
                      <a:pt x="1" y="673"/>
                    </a:lnTo>
                    <a:lnTo>
                      <a:pt x="2" y="745"/>
                    </a:lnTo>
                    <a:lnTo>
                      <a:pt x="4" y="814"/>
                    </a:lnTo>
                    <a:lnTo>
                      <a:pt x="9" y="883"/>
                    </a:lnTo>
                    <a:lnTo>
                      <a:pt x="13" y="948"/>
                    </a:lnTo>
                    <a:lnTo>
                      <a:pt x="20" y="1013"/>
                    </a:lnTo>
                    <a:lnTo>
                      <a:pt x="28" y="1074"/>
                    </a:lnTo>
                    <a:lnTo>
                      <a:pt x="38" y="1136"/>
                    </a:lnTo>
                    <a:lnTo>
                      <a:pt x="51" y="1194"/>
                    </a:lnTo>
                    <a:lnTo>
                      <a:pt x="58" y="1223"/>
                    </a:lnTo>
                    <a:lnTo>
                      <a:pt x="65" y="1251"/>
                    </a:lnTo>
                    <a:lnTo>
                      <a:pt x="73" y="1280"/>
                    </a:lnTo>
                    <a:lnTo>
                      <a:pt x="82" y="1307"/>
                    </a:lnTo>
                    <a:lnTo>
                      <a:pt x="91" y="1334"/>
                    </a:lnTo>
                    <a:lnTo>
                      <a:pt x="100" y="1361"/>
                    </a:lnTo>
                    <a:lnTo>
                      <a:pt x="110" y="1387"/>
                    </a:lnTo>
                    <a:lnTo>
                      <a:pt x="122" y="1412"/>
                    </a:lnTo>
                    <a:lnTo>
                      <a:pt x="133" y="1438"/>
                    </a:lnTo>
                    <a:lnTo>
                      <a:pt x="146" y="1462"/>
                    </a:lnTo>
                    <a:lnTo>
                      <a:pt x="158" y="1487"/>
                    </a:lnTo>
                    <a:lnTo>
                      <a:pt x="172" y="1511"/>
                    </a:lnTo>
                    <a:lnTo>
                      <a:pt x="187" y="1535"/>
                    </a:lnTo>
                    <a:lnTo>
                      <a:pt x="201" y="1558"/>
                    </a:lnTo>
                    <a:lnTo>
                      <a:pt x="217" y="1581"/>
                    </a:lnTo>
                    <a:lnTo>
                      <a:pt x="234" y="1603"/>
                    </a:lnTo>
                    <a:lnTo>
                      <a:pt x="252" y="1624"/>
                    </a:lnTo>
                    <a:lnTo>
                      <a:pt x="270" y="1646"/>
                    </a:lnTo>
                    <a:lnTo>
                      <a:pt x="289" y="1666"/>
                    </a:lnTo>
                    <a:lnTo>
                      <a:pt x="310" y="1687"/>
                    </a:lnTo>
                    <a:lnTo>
                      <a:pt x="330" y="1706"/>
                    </a:lnTo>
                    <a:lnTo>
                      <a:pt x="352" y="1726"/>
                    </a:lnTo>
                    <a:lnTo>
                      <a:pt x="374" y="1745"/>
                    </a:lnTo>
                    <a:lnTo>
                      <a:pt x="398" y="1763"/>
                    </a:lnTo>
                    <a:lnTo>
                      <a:pt x="421" y="1781"/>
                    </a:lnTo>
                    <a:lnTo>
                      <a:pt x="447" y="1799"/>
                    </a:lnTo>
                    <a:lnTo>
                      <a:pt x="473" y="1816"/>
                    </a:lnTo>
                    <a:lnTo>
                      <a:pt x="499" y="1832"/>
                    </a:lnTo>
                    <a:lnTo>
                      <a:pt x="527" y="1848"/>
                    </a:lnTo>
                    <a:lnTo>
                      <a:pt x="556" y="1864"/>
                    </a:lnTo>
                    <a:lnTo>
                      <a:pt x="586" y="1879"/>
                    </a:lnTo>
                    <a:lnTo>
                      <a:pt x="616" y="1894"/>
                    </a:lnTo>
                    <a:lnTo>
                      <a:pt x="645" y="1832"/>
                    </a:lnTo>
                    <a:lnTo>
                      <a:pt x="615" y="1818"/>
                    </a:lnTo>
                    <a:lnTo>
                      <a:pt x="587" y="1805"/>
                    </a:lnTo>
                    <a:lnTo>
                      <a:pt x="561" y="1790"/>
                    </a:lnTo>
                    <a:lnTo>
                      <a:pt x="534" y="1774"/>
                    </a:lnTo>
                    <a:lnTo>
                      <a:pt x="508" y="1759"/>
                    </a:lnTo>
                    <a:lnTo>
                      <a:pt x="484" y="1743"/>
                    </a:lnTo>
                    <a:lnTo>
                      <a:pt x="460" y="1726"/>
                    </a:lnTo>
                    <a:lnTo>
                      <a:pt x="439" y="1710"/>
                    </a:lnTo>
                    <a:lnTo>
                      <a:pt x="417" y="1693"/>
                    </a:lnTo>
                    <a:lnTo>
                      <a:pt x="395" y="1674"/>
                    </a:lnTo>
                    <a:lnTo>
                      <a:pt x="376" y="1657"/>
                    </a:lnTo>
                    <a:lnTo>
                      <a:pt x="356" y="1639"/>
                    </a:lnTo>
                    <a:lnTo>
                      <a:pt x="338" y="1620"/>
                    </a:lnTo>
                    <a:lnTo>
                      <a:pt x="321" y="1600"/>
                    </a:lnTo>
                    <a:lnTo>
                      <a:pt x="304" y="1581"/>
                    </a:lnTo>
                    <a:lnTo>
                      <a:pt x="288" y="1562"/>
                    </a:lnTo>
                    <a:lnTo>
                      <a:pt x="272" y="1541"/>
                    </a:lnTo>
                    <a:lnTo>
                      <a:pt x="257" y="1519"/>
                    </a:lnTo>
                    <a:lnTo>
                      <a:pt x="244" y="1499"/>
                    </a:lnTo>
                    <a:lnTo>
                      <a:pt x="230" y="1477"/>
                    </a:lnTo>
                    <a:lnTo>
                      <a:pt x="217" y="1454"/>
                    </a:lnTo>
                    <a:lnTo>
                      <a:pt x="205" y="1433"/>
                    </a:lnTo>
                    <a:lnTo>
                      <a:pt x="193" y="1409"/>
                    </a:lnTo>
                    <a:lnTo>
                      <a:pt x="183" y="1386"/>
                    </a:lnTo>
                    <a:lnTo>
                      <a:pt x="173" y="1362"/>
                    </a:lnTo>
                    <a:lnTo>
                      <a:pt x="163" y="1337"/>
                    </a:lnTo>
                    <a:lnTo>
                      <a:pt x="154" y="1312"/>
                    </a:lnTo>
                    <a:lnTo>
                      <a:pt x="146" y="1287"/>
                    </a:lnTo>
                    <a:lnTo>
                      <a:pt x="138" y="1260"/>
                    </a:lnTo>
                    <a:lnTo>
                      <a:pt x="130" y="1234"/>
                    </a:lnTo>
                    <a:lnTo>
                      <a:pt x="123" y="1207"/>
                    </a:lnTo>
                    <a:lnTo>
                      <a:pt x="117" y="1179"/>
                    </a:lnTo>
                    <a:lnTo>
                      <a:pt x="105" y="1123"/>
                    </a:lnTo>
                    <a:lnTo>
                      <a:pt x="95" y="1065"/>
                    </a:lnTo>
                    <a:lnTo>
                      <a:pt x="87" y="1005"/>
                    </a:lnTo>
                    <a:lnTo>
                      <a:pt x="81" y="942"/>
                    </a:lnTo>
                    <a:lnTo>
                      <a:pt x="76" y="878"/>
                    </a:lnTo>
                    <a:lnTo>
                      <a:pt x="71" y="811"/>
                    </a:lnTo>
                    <a:lnTo>
                      <a:pt x="69" y="742"/>
                    </a:lnTo>
                    <a:lnTo>
                      <a:pt x="68" y="673"/>
                    </a:lnTo>
                    <a:lnTo>
                      <a:pt x="68" y="600"/>
                    </a:lnTo>
                    <a:lnTo>
                      <a:pt x="68" y="524"/>
                    </a:lnTo>
                    <a:lnTo>
                      <a:pt x="69" y="448"/>
                    </a:lnTo>
                    <a:lnTo>
                      <a:pt x="71" y="369"/>
                    </a:lnTo>
                    <a:lnTo>
                      <a:pt x="76" y="206"/>
                    </a:lnTo>
                    <a:lnTo>
                      <a:pt x="83" y="34"/>
                    </a:lnTo>
                    <a:lnTo>
                      <a:pt x="27" y="58"/>
                    </a:lnTo>
                    <a:lnTo>
                      <a:pt x="83" y="34"/>
                    </a:lnTo>
                    <a:lnTo>
                      <a:pt x="82" y="26"/>
                    </a:lnTo>
                    <a:lnTo>
                      <a:pt x="81" y="19"/>
                    </a:lnTo>
                    <a:lnTo>
                      <a:pt x="77" y="13"/>
                    </a:lnTo>
                    <a:lnTo>
                      <a:pt x="73" y="9"/>
                    </a:lnTo>
                    <a:lnTo>
                      <a:pt x="68" y="4"/>
                    </a:lnTo>
                    <a:lnTo>
                      <a:pt x="62" y="2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7" y="1"/>
                    </a:lnTo>
                    <a:lnTo>
                      <a:pt x="32" y="3"/>
                    </a:lnTo>
                    <a:lnTo>
                      <a:pt x="27" y="6"/>
                    </a:lnTo>
                    <a:lnTo>
                      <a:pt x="22" y="11"/>
                    </a:lnTo>
                    <a:lnTo>
                      <a:pt x="19" y="17"/>
                    </a:lnTo>
                    <a:lnTo>
                      <a:pt x="17" y="24"/>
                    </a:lnTo>
                    <a:lnTo>
                      <a:pt x="16" y="32"/>
                    </a:lnTo>
                    <a:lnTo>
                      <a:pt x="71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3486240" y="4100400"/>
                <a:ext cx="129960" cy="61920"/>
              </a:xfrm>
              <a:custGeom>
                <a:avLst/>
                <a:gdLst/>
                <a:ahLst/>
                <a:rect l="l" t="t" r="r" b="b"/>
                <a:pathLst>
                  <a:path w="408" h="197">
                    <a:moveTo>
                      <a:pt x="408" y="30"/>
                    </a:moveTo>
                    <a:lnTo>
                      <a:pt x="365" y="2"/>
                    </a:lnTo>
                    <a:lnTo>
                      <a:pt x="350" y="6"/>
                    </a:lnTo>
                    <a:lnTo>
                      <a:pt x="336" y="12"/>
                    </a:lnTo>
                    <a:lnTo>
                      <a:pt x="324" y="19"/>
                    </a:lnTo>
                    <a:lnTo>
                      <a:pt x="311" y="26"/>
                    </a:lnTo>
                    <a:lnTo>
                      <a:pt x="287" y="39"/>
                    </a:lnTo>
                    <a:lnTo>
                      <a:pt x="266" y="54"/>
                    </a:lnTo>
                    <a:lnTo>
                      <a:pt x="225" y="84"/>
                    </a:lnTo>
                    <a:lnTo>
                      <a:pt x="186" y="110"/>
                    </a:lnTo>
                    <a:lnTo>
                      <a:pt x="179" y="115"/>
                    </a:lnTo>
                    <a:lnTo>
                      <a:pt x="170" y="118"/>
                    </a:lnTo>
                    <a:lnTo>
                      <a:pt x="162" y="121"/>
                    </a:lnTo>
                    <a:lnTo>
                      <a:pt x="154" y="125"/>
                    </a:lnTo>
                    <a:lnTo>
                      <a:pt x="146" y="127"/>
                    </a:lnTo>
                    <a:lnTo>
                      <a:pt x="138" y="128"/>
                    </a:lnTo>
                    <a:lnTo>
                      <a:pt x="130" y="129"/>
                    </a:lnTo>
                    <a:lnTo>
                      <a:pt x="122" y="129"/>
                    </a:lnTo>
                    <a:lnTo>
                      <a:pt x="114" y="128"/>
                    </a:lnTo>
                    <a:lnTo>
                      <a:pt x="106" y="127"/>
                    </a:lnTo>
                    <a:lnTo>
                      <a:pt x="97" y="124"/>
                    </a:lnTo>
                    <a:lnTo>
                      <a:pt x="88" y="120"/>
                    </a:lnTo>
                    <a:lnTo>
                      <a:pt x="78" y="115"/>
                    </a:lnTo>
                    <a:lnTo>
                      <a:pt x="67" y="109"/>
                    </a:lnTo>
                    <a:lnTo>
                      <a:pt x="56" y="101"/>
                    </a:lnTo>
                    <a:lnTo>
                      <a:pt x="44" y="91"/>
                    </a:lnTo>
                    <a:lnTo>
                      <a:pt x="0" y="141"/>
                    </a:lnTo>
                    <a:lnTo>
                      <a:pt x="15" y="153"/>
                    </a:lnTo>
                    <a:lnTo>
                      <a:pt x="30" y="165"/>
                    </a:lnTo>
                    <a:lnTo>
                      <a:pt x="46" y="174"/>
                    </a:lnTo>
                    <a:lnTo>
                      <a:pt x="60" y="182"/>
                    </a:lnTo>
                    <a:lnTo>
                      <a:pt x="75" y="188"/>
                    </a:lnTo>
                    <a:lnTo>
                      <a:pt x="90" y="192"/>
                    </a:lnTo>
                    <a:lnTo>
                      <a:pt x="105" y="196"/>
                    </a:lnTo>
                    <a:lnTo>
                      <a:pt x="120" y="197"/>
                    </a:lnTo>
                    <a:lnTo>
                      <a:pt x="133" y="197"/>
                    </a:lnTo>
                    <a:lnTo>
                      <a:pt x="147" y="196"/>
                    </a:lnTo>
                    <a:lnTo>
                      <a:pt x="161" y="193"/>
                    </a:lnTo>
                    <a:lnTo>
                      <a:pt x="173" y="189"/>
                    </a:lnTo>
                    <a:lnTo>
                      <a:pt x="186" y="184"/>
                    </a:lnTo>
                    <a:lnTo>
                      <a:pt x="198" y="180"/>
                    </a:lnTo>
                    <a:lnTo>
                      <a:pt x="210" y="174"/>
                    </a:lnTo>
                    <a:lnTo>
                      <a:pt x="222" y="167"/>
                    </a:lnTo>
                    <a:lnTo>
                      <a:pt x="263" y="140"/>
                    </a:lnTo>
                    <a:lnTo>
                      <a:pt x="304" y="109"/>
                    </a:lnTo>
                    <a:lnTo>
                      <a:pt x="324" y="96"/>
                    </a:lnTo>
                    <a:lnTo>
                      <a:pt x="344" y="84"/>
                    </a:lnTo>
                    <a:lnTo>
                      <a:pt x="355" y="78"/>
                    </a:lnTo>
                    <a:lnTo>
                      <a:pt x="364" y="74"/>
                    </a:lnTo>
                    <a:lnTo>
                      <a:pt x="374" y="70"/>
                    </a:lnTo>
                    <a:lnTo>
                      <a:pt x="384" y="66"/>
                    </a:lnTo>
                    <a:lnTo>
                      <a:pt x="341" y="37"/>
                    </a:lnTo>
                    <a:lnTo>
                      <a:pt x="384" y="66"/>
                    </a:lnTo>
                    <a:lnTo>
                      <a:pt x="391" y="63"/>
                    </a:lnTo>
                    <a:lnTo>
                      <a:pt x="398" y="59"/>
                    </a:lnTo>
                    <a:lnTo>
                      <a:pt x="402" y="54"/>
                    </a:lnTo>
                    <a:lnTo>
                      <a:pt x="405" y="48"/>
                    </a:lnTo>
                    <a:lnTo>
                      <a:pt x="407" y="43"/>
                    </a:lnTo>
                    <a:lnTo>
                      <a:pt x="408" y="36"/>
                    </a:lnTo>
                    <a:lnTo>
                      <a:pt x="408" y="30"/>
                    </a:lnTo>
                    <a:lnTo>
                      <a:pt x="406" y="23"/>
                    </a:lnTo>
                    <a:lnTo>
                      <a:pt x="404" y="18"/>
                    </a:lnTo>
                    <a:lnTo>
                      <a:pt x="400" y="13"/>
                    </a:lnTo>
                    <a:lnTo>
                      <a:pt x="397" y="8"/>
                    </a:lnTo>
                    <a:lnTo>
                      <a:pt x="391" y="4"/>
                    </a:lnTo>
                    <a:lnTo>
                      <a:pt x="385" y="2"/>
                    </a:lnTo>
                    <a:lnTo>
                      <a:pt x="380" y="0"/>
                    </a:lnTo>
                    <a:lnTo>
                      <a:pt x="372" y="0"/>
                    </a:lnTo>
                    <a:lnTo>
                      <a:pt x="365" y="2"/>
                    </a:lnTo>
                    <a:lnTo>
                      <a:pt x="408" y="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3252960" y="4316400"/>
                <a:ext cx="537840" cy="762120"/>
              </a:xfrm>
              <a:custGeom>
                <a:avLst/>
                <a:gdLst/>
                <a:ahLst/>
                <a:rect l="l" t="t" r="r" b="b"/>
                <a:pathLst>
                  <a:path w="1698" h="2404">
                    <a:moveTo>
                      <a:pt x="418" y="0"/>
                    </a:moveTo>
                    <a:lnTo>
                      <a:pt x="428" y="96"/>
                    </a:lnTo>
                    <a:lnTo>
                      <a:pt x="441" y="188"/>
                    </a:lnTo>
                    <a:lnTo>
                      <a:pt x="456" y="273"/>
                    </a:lnTo>
                    <a:lnTo>
                      <a:pt x="472" y="354"/>
                    </a:lnTo>
                    <a:lnTo>
                      <a:pt x="489" y="431"/>
                    </a:lnTo>
                    <a:lnTo>
                      <a:pt x="508" y="502"/>
                    </a:lnTo>
                    <a:lnTo>
                      <a:pt x="529" y="571"/>
                    </a:lnTo>
                    <a:lnTo>
                      <a:pt x="551" y="634"/>
                    </a:lnTo>
                    <a:lnTo>
                      <a:pt x="575" y="693"/>
                    </a:lnTo>
                    <a:lnTo>
                      <a:pt x="601" y="749"/>
                    </a:lnTo>
                    <a:lnTo>
                      <a:pt x="629" y="800"/>
                    </a:lnTo>
                    <a:lnTo>
                      <a:pt x="658" y="848"/>
                    </a:lnTo>
                    <a:lnTo>
                      <a:pt x="689" y="893"/>
                    </a:lnTo>
                    <a:lnTo>
                      <a:pt x="722" y="934"/>
                    </a:lnTo>
                    <a:lnTo>
                      <a:pt x="757" y="972"/>
                    </a:lnTo>
                    <a:lnTo>
                      <a:pt x="793" y="1008"/>
                    </a:lnTo>
                    <a:lnTo>
                      <a:pt x="831" y="1040"/>
                    </a:lnTo>
                    <a:lnTo>
                      <a:pt x="869" y="1069"/>
                    </a:lnTo>
                    <a:lnTo>
                      <a:pt x="910" y="1096"/>
                    </a:lnTo>
                    <a:lnTo>
                      <a:pt x="954" y="1121"/>
                    </a:lnTo>
                    <a:lnTo>
                      <a:pt x="998" y="1142"/>
                    </a:lnTo>
                    <a:lnTo>
                      <a:pt x="1045" y="1163"/>
                    </a:lnTo>
                    <a:lnTo>
                      <a:pt x="1093" y="1181"/>
                    </a:lnTo>
                    <a:lnTo>
                      <a:pt x="1142" y="1197"/>
                    </a:lnTo>
                    <a:lnTo>
                      <a:pt x="1193" y="1212"/>
                    </a:lnTo>
                    <a:lnTo>
                      <a:pt x="1247" y="1226"/>
                    </a:lnTo>
                    <a:lnTo>
                      <a:pt x="1301" y="1237"/>
                    </a:lnTo>
                    <a:lnTo>
                      <a:pt x="1357" y="1247"/>
                    </a:lnTo>
                    <a:lnTo>
                      <a:pt x="1415" y="1258"/>
                    </a:lnTo>
                    <a:lnTo>
                      <a:pt x="1476" y="1266"/>
                    </a:lnTo>
                    <a:lnTo>
                      <a:pt x="1536" y="1274"/>
                    </a:lnTo>
                    <a:lnTo>
                      <a:pt x="1600" y="1281"/>
                    </a:lnTo>
                    <a:lnTo>
                      <a:pt x="1608" y="1290"/>
                    </a:lnTo>
                    <a:lnTo>
                      <a:pt x="1617" y="1299"/>
                    </a:lnTo>
                    <a:lnTo>
                      <a:pt x="1624" y="1309"/>
                    </a:lnTo>
                    <a:lnTo>
                      <a:pt x="1631" y="1319"/>
                    </a:lnTo>
                    <a:lnTo>
                      <a:pt x="1637" y="1331"/>
                    </a:lnTo>
                    <a:lnTo>
                      <a:pt x="1642" y="1343"/>
                    </a:lnTo>
                    <a:lnTo>
                      <a:pt x="1646" y="1356"/>
                    </a:lnTo>
                    <a:lnTo>
                      <a:pt x="1649" y="1368"/>
                    </a:lnTo>
                    <a:lnTo>
                      <a:pt x="1651" y="1381"/>
                    </a:lnTo>
                    <a:lnTo>
                      <a:pt x="1653" y="1393"/>
                    </a:lnTo>
                    <a:lnTo>
                      <a:pt x="1654" y="1407"/>
                    </a:lnTo>
                    <a:lnTo>
                      <a:pt x="1653" y="1420"/>
                    </a:lnTo>
                    <a:lnTo>
                      <a:pt x="1650" y="1432"/>
                    </a:lnTo>
                    <a:lnTo>
                      <a:pt x="1647" y="1446"/>
                    </a:lnTo>
                    <a:lnTo>
                      <a:pt x="1642" y="1457"/>
                    </a:lnTo>
                    <a:lnTo>
                      <a:pt x="1637" y="1470"/>
                    </a:lnTo>
                    <a:lnTo>
                      <a:pt x="1629" y="1481"/>
                    </a:lnTo>
                    <a:lnTo>
                      <a:pt x="1621" y="1492"/>
                    </a:lnTo>
                    <a:lnTo>
                      <a:pt x="1610" y="1502"/>
                    </a:lnTo>
                    <a:lnTo>
                      <a:pt x="1598" y="1512"/>
                    </a:lnTo>
                    <a:lnTo>
                      <a:pt x="1585" y="1520"/>
                    </a:lnTo>
                    <a:lnTo>
                      <a:pt x="1570" y="1528"/>
                    </a:lnTo>
                    <a:lnTo>
                      <a:pt x="1553" y="1535"/>
                    </a:lnTo>
                    <a:lnTo>
                      <a:pt x="1535" y="1541"/>
                    </a:lnTo>
                    <a:lnTo>
                      <a:pt x="1515" y="1544"/>
                    </a:lnTo>
                    <a:lnTo>
                      <a:pt x="1493" y="1547"/>
                    </a:lnTo>
                    <a:lnTo>
                      <a:pt x="1469" y="1550"/>
                    </a:lnTo>
                    <a:lnTo>
                      <a:pt x="1444" y="1550"/>
                    </a:lnTo>
                    <a:lnTo>
                      <a:pt x="1415" y="1549"/>
                    </a:lnTo>
                    <a:lnTo>
                      <a:pt x="1386" y="1545"/>
                    </a:lnTo>
                    <a:lnTo>
                      <a:pt x="1354" y="1541"/>
                    </a:lnTo>
                    <a:lnTo>
                      <a:pt x="1320" y="1534"/>
                    </a:lnTo>
                    <a:lnTo>
                      <a:pt x="1320" y="1549"/>
                    </a:lnTo>
                    <a:lnTo>
                      <a:pt x="1321" y="1561"/>
                    </a:lnTo>
                    <a:lnTo>
                      <a:pt x="1325" y="1574"/>
                    </a:lnTo>
                    <a:lnTo>
                      <a:pt x="1332" y="1585"/>
                    </a:lnTo>
                    <a:lnTo>
                      <a:pt x="1341" y="1597"/>
                    </a:lnTo>
                    <a:lnTo>
                      <a:pt x="1353" y="1607"/>
                    </a:lnTo>
                    <a:lnTo>
                      <a:pt x="1365" y="1616"/>
                    </a:lnTo>
                    <a:lnTo>
                      <a:pt x="1380" y="1625"/>
                    </a:lnTo>
                    <a:lnTo>
                      <a:pt x="1396" y="1633"/>
                    </a:lnTo>
                    <a:lnTo>
                      <a:pt x="1413" y="1641"/>
                    </a:lnTo>
                    <a:lnTo>
                      <a:pt x="1431" y="1649"/>
                    </a:lnTo>
                    <a:lnTo>
                      <a:pt x="1451" y="1657"/>
                    </a:lnTo>
                    <a:lnTo>
                      <a:pt x="1491" y="1672"/>
                    </a:lnTo>
                    <a:lnTo>
                      <a:pt x="1532" y="1686"/>
                    </a:lnTo>
                    <a:lnTo>
                      <a:pt x="1570" y="1700"/>
                    </a:lnTo>
                    <a:lnTo>
                      <a:pt x="1608" y="1716"/>
                    </a:lnTo>
                    <a:lnTo>
                      <a:pt x="1625" y="1725"/>
                    </a:lnTo>
                    <a:lnTo>
                      <a:pt x="1640" y="1735"/>
                    </a:lnTo>
                    <a:lnTo>
                      <a:pt x="1655" y="1744"/>
                    </a:lnTo>
                    <a:lnTo>
                      <a:pt x="1667" y="1754"/>
                    </a:lnTo>
                    <a:lnTo>
                      <a:pt x="1679" y="1764"/>
                    </a:lnTo>
                    <a:lnTo>
                      <a:pt x="1687" y="1776"/>
                    </a:lnTo>
                    <a:lnTo>
                      <a:pt x="1694" y="1788"/>
                    </a:lnTo>
                    <a:lnTo>
                      <a:pt x="1697" y="1802"/>
                    </a:lnTo>
                    <a:lnTo>
                      <a:pt x="1698" y="1816"/>
                    </a:lnTo>
                    <a:lnTo>
                      <a:pt x="1697" y="1830"/>
                    </a:lnTo>
                    <a:lnTo>
                      <a:pt x="1692" y="1848"/>
                    </a:lnTo>
                    <a:lnTo>
                      <a:pt x="1684" y="1865"/>
                    </a:lnTo>
                    <a:lnTo>
                      <a:pt x="1677" y="1885"/>
                    </a:lnTo>
                    <a:lnTo>
                      <a:pt x="1667" y="1903"/>
                    </a:lnTo>
                    <a:lnTo>
                      <a:pt x="1656" y="1919"/>
                    </a:lnTo>
                    <a:lnTo>
                      <a:pt x="1643" y="1932"/>
                    </a:lnTo>
                    <a:lnTo>
                      <a:pt x="1630" y="1943"/>
                    </a:lnTo>
                    <a:lnTo>
                      <a:pt x="1615" y="1953"/>
                    </a:lnTo>
                    <a:lnTo>
                      <a:pt x="1599" y="1959"/>
                    </a:lnTo>
                    <a:lnTo>
                      <a:pt x="1582" y="1964"/>
                    </a:lnTo>
                    <a:lnTo>
                      <a:pt x="1564" y="1967"/>
                    </a:lnTo>
                    <a:lnTo>
                      <a:pt x="1545" y="1970"/>
                    </a:lnTo>
                    <a:lnTo>
                      <a:pt x="1527" y="1970"/>
                    </a:lnTo>
                    <a:lnTo>
                      <a:pt x="1508" y="1970"/>
                    </a:lnTo>
                    <a:lnTo>
                      <a:pt x="1487" y="1967"/>
                    </a:lnTo>
                    <a:lnTo>
                      <a:pt x="1468" y="1965"/>
                    </a:lnTo>
                    <a:lnTo>
                      <a:pt x="1449" y="1963"/>
                    </a:lnTo>
                    <a:lnTo>
                      <a:pt x="1429" y="1958"/>
                    </a:lnTo>
                    <a:lnTo>
                      <a:pt x="1355" y="1941"/>
                    </a:lnTo>
                    <a:lnTo>
                      <a:pt x="1295" y="1927"/>
                    </a:lnTo>
                    <a:lnTo>
                      <a:pt x="1282" y="1926"/>
                    </a:lnTo>
                    <a:lnTo>
                      <a:pt x="1272" y="1925"/>
                    </a:lnTo>
                    <a:lnTo>
                      <a:pt x="1263" y="1925"/>
                    </a:lnTo>
                    <a:lnTo>
                      <a:pt x="1256" y="1927"/>
                    </a:lnTo>
                    <a:lnTo>
                      <a:pt x="1250" y="1930"/>
                    </a:lnTo>
                    <a:lnTo>
                      <a:pt x="1248" y="1934"/>
                    </a:lnTo>
                    <a:lnTo>
                      <a:pt x="1247" y="1941"/>
                    </a:lnTo>
                    <a:lnTo>
                      <a:pt x="1248" y="1949"/>
                    </a:lnTo>
                    <a:lnTo>
                      <a:pt x="1235" y="1965"/>
                    </a:lnTo>
                    <a:lnTo>
                      <a:pt x="1226" y="1980"/>
                    </a:lnTo>
                    <a:lnTo>
                      <a:pt x="1221" y="1995"/>
                    </a:lnTo>
                    <a:lnTo>
                      <a:pt x="1218" y="2010"/>
                    </a:lnTo>
                    <a:lnTo>
                      <a:pt x="1219" y="2023"/>
                    </a:lnTo>
                    <a:lnTo>
                      <a:pt x="1224" y="2038"/>
                    </a:lnTo>
                    <a:lnTo>
                      <a:pt x="1230" y="2052"/>
                    </a:lnTo>
                    <a:lnTo>
                      <a:pt x="1239" y="2064"/>
                    </a:lnTo>
                    <a:lnTo>
                      <a:pt x="1249" y="2078"/>
                    </a:lnTo>
                    <a:lnTo>
                      <a:pt x="1262" y="2091"/>
                    </a:lnTo>
                    <a:lnTo>
                      <a:pt x="1275" y="2104"/>
                    </a:lnTo>
                    <a:lnTo>
                      <a:pt x="1290" y="2117"/>
                    </a:lnTo>
                    <a:lnTo>
                      <a:pt x="1322" y="2142"/>
                    </a:lnTo>
                    <a:lnTo>
                      <a:pt x="1354" y="2167"/>
                    </a:lnTo>
                    <a:lnTo>
                      <a:pt x="1370" y="2180"/>
                    </a:lnTo>
                    <a:lnTo>
                      <a:pt x="1386" y="2191"/>
                    </a:lnTo>
                    <a:lnTo>
                      <a:pt x="1401" y="2204"/>
                    </a:lnTo>
                    <a:lnTo>
                      <a:pt x="1413" y="2216"/>
                    </a:lnTo>
                    <a:lnTo>
                      <a:pt x="1426" y="2230"/>
                    </a:lnTo>
                    <a:lnTo>
                      <a:pt x="1436" y="2242"/>
                    </a:lnTo>
                    <a:lnTo>
                      <a:pt x="1444" y="2255"/>
                    </a:lnTo>
                    <a:lnTo>
                      <a:pt x="1451" y="2269"/>
                    </a:lnTo>
                    <a:lnTo>
                      <a:pt x="1454" y="2282"/>
                    </a:lnTo>
                    <a:lnTo>
                      <a:pt x="1454" y="2296"/>
                    </a:lnTo>
                    <a:lnTo>
                      <a:pt x="1452" y="2310"/>
                    </a:lnTo>
                    <a:lnTo>
                      <a:pt x="1446" y="2323"/>
                    </a:lnTo>
                    <a:lnTo>
                      <a:pt x="1436" y="2338"/>
                    </a:lnTo>
                    <a:lnTo>
                      <a:pt x="1423" y="2353"/>
                    </a:lnTo>
                    <a:lnTo>
                      <a:pt x="1405" y="2368"/>
                    </a:lnTo>
                    <a:lnTo>
                      <a:pt x="1382" y="2384"/>
                    </a:lnTo>
                    <a:lnTo>
                      <a:pt x="1361" y="2389"/>
                    </a:lnTo>
                    <a:lnTo>
                      <a:pt x="1339" y="2394"/>
                    </a:lnTo>
                    <a:lnTo>
                      <a:pt x="1319" y="2397"/>
                    </a:lnTo>
                    <a:lnTo>
                      <a:pt x="1298" y="2401"/>
                    </a:lnTo>
                    <a:lnTo>
                      <a:pt x="1278" y="2403"/>
                    </a:lnTo>
                    <a:lnTo>
                      <a:pt x="1258" y="2404"/>
                    </a:lnTo>
                    <a:lnTo>
                      <a:pt x="1238" y="2404"/>
                    </a:lnTo>
                    <a:lnTo>
                      <a:pt x="1219" y="2404"/>
                    </a:lnTo>
                    <a:lnTo>
                      <a:pt x="1200" y="2404"/>
                    </a:lnTo>
                    <a:lnTo>
                      <a:pt x="1182" y="2403"/>
                    </a:lnTo>
                    <a:lnTo>
                      <a:pt x="1164" y="2401"/>
                    </a:lnTo>
                    <a:lnTo>
                      <a:pt x="1145" y="2399"/>
                    </a:lnTo>
                    <a:lnTo>
                      <a:pt x="1111" y="2393"/>
                    </a:lnTo>
                    <a:lnTo>
                      <a:pt x="1077" y="2385"/>
                    </a:lnTo>
                    <a:lnTo>
                      <a:pt x="1044" y="2376"/>
                    </a:lnTo>
                    <a:lnTo>
                      <a:pt x="1011" y="2366"/>
                    </a:lnTo>
                    <a:lnTo>
                      <a:pt x="979" y="2354"/>
                    </a:lnTo>
                    <a:lnTo>
                      <a:pt x="948" y="2343"/>
                    </a:lnTo>
                    <a:lnTo>
                      <a:pt x="885" y="2319"/>
                    </a:lnTo>
                    <a:lnTo>
                      <a:pt x="823" y="2295"/>
                    </a:lnTo>
                    <a:lnTo>
                      <a:pt x="754" y="2261"/>
                    </a:lnTo>
                    <a:lnTo>
                      <a:pt x="688" y="2224"/>
                    </a:lnTo>
                    <a:lnTo>
                      <a:pt x="627" y="2185"/>
                    </a:lnTo>
                    <a:lnTo>
                      <a:pt x="568" y="2144"/>
                    </a:lnTo>
                    <a:lnTo>
                      <a:pt x="514" y="2102"/>
                    </a:lnTo>
                    <a:lnTo>
                      <a:pt x="462" y="2056"/>
                    </a:lnTo>
                    <a:lnTo>
                      <a:pt x="415" y="2008"/>
                    </a:lnTo>
                    <a:lnTo>
                      <a:pt x="369" y="1958"/>
                    </a:lnTo>
                    <a:lnTo>
                      <a:pt x="328" y="1906"/>
                    </a:lnTo>
                    <a:lnTo>
                      <a:pt x="289" y="1852"/>
                    </a:lnTo>
                    <a:lnTo>
                      <a:pt x="254" y="1795"/>
                    </a:lnTo>
                    <a:lnTo>
                      <a:pt x="221" y="1736"/>
                    </a:lnTo>
                    <a:lnTo>
                      <a:pt x="190" y="1674"/>
                    </a:lnTo>
                    <a:lnTo>
                      <a:pt x="163" y="1611"/>
                    </a:lnTo>
                    <a:lnTo>
                      <a:pt x="138" y="1545"/>
                    </a:lnTo>
                    <a:lnTo>
                      <a:pt x="115" y="1478"/>
                    </a:lnTo>
                    <a:lnTo>
                      <a:pt x="95" y="1407"/>
                    </a:lnTo>
                    <a:lnTo>
                      <a:pt x="77" y="1335"/>
                    </a:lnTo>
                    <a:lnTo>
                      <a:pt x="61" y="1261"/>
                    </a:lnTo>
                    <a:lnTo>
                      <a:pt x="47" y="1185"/>
                    </a:lnTo>
                    <a:lnTo>
                      <a:pt x="36" y="1106"/>
                    </a:lnTo>
                    <a:lnTo>
                      <a:pt x="26" y="1024"/>
                    </a:lnTo>
                    <a:lnTo>
                      <a:pt x="18" y="942"/>
                    </a:lnTo>
                    <a:lnTo>
                      <a:pt x="11" y="856"/>
                    </a:lnTo>
                    <a:lnTo>
                      <a:pt x="6" y="768"/>
                    </a:lnTo>
                    <a:lnTo>
                      <a:pt x="3" y="679"/>
                    </a:lnTo>
                    <a:lnTo>
                      <a:pt x="1" y="587"/>
                    </a:lnTo>
                    <a:lnTo>
                      <a:pt x="0" y="493"/>
                    </a:lnTo>
                    <a:lnTo>
                      <a:pt x="1" y="397"/>
                    </a:lnTo>
                    <a:lnTo>
                      <a:pt x="2" y="299"/>
                    </a:lnTo>
                    <a:lnTo>
                      <a:pt x="4" y="200"/>
                    </a:lnTo>
                    <a:lnTo>
                      <a:pt x="8" y="97"/>
                    </a:lnTo>
                    <a:lnTo>
                      <a:pt x="24" y="110"/>
                    </a:lnTo>
                    <a:lnTo>
                      <a:pt x="39" y="121"/>
                    </a:lnTo>
                    <a:lnTo>
                      <a:pt x="54" y="131"/>
                    </a:lnTo>
                    <a:lnTo>
                      <a:pt x="68" y="137"/>
                    </a:lnTo>
                    <a:lnTo>
                      <a:pt x="83" y="143"/>
                    </a:lnTo>
                    <a:lnTo>
                      <a:pt x="96" y="148"/>
                    </a:lnTo>
                    <a:lnTo>
                      <a:pt x="110" y="150"/>
                    </a:lnTo>
                    <a:lnTo>
                      <a:pt x="123" y="151"/>
                    </a:lnTo>
                    <a:lnTo>
                      <a:pt x="136" y="152"/>
                    </a:lnTo>
                    <a:lnTo>
                      <a:pt x="149" y="151"/>
                    </a:lnTo>
                    <a:lnTo>
                      <a:pt x="161" y="149"/>
                    </a:lnTo>
                    <a:lnTo>
                      <a:pt x="173" y="145"/>
                    </a:lnTo>
                    <a:lnTo>
                      <a:pt x="185" y="141"/>
                    </a:lnTo>
                    <a:lnTo>
                      <a:pt x="197" y="136"/>
                    </a:lnTo>
                    <a:lnTo>
                      <a:pt x="209" y="129"/>
                    </a:lnTo>
                    <a:lnTo>
                      <a:pt x="221" y="124"/>
                    </a:lnTo>
                    <a:lnTo>
                      <a:pt x="245" y="109"/>
                    </a:lnTo>
                    <a:lnTo>
                      <a:pt x="267" y="93"/>
                    </a:lnTo>
                    <a:lnTo>
                      <a:pt x="291" y="76"/>
                    </a:lnTo>
                    <a:lnTo>
                      <a:pt x="314" y="58"/>
                    </a:lnTo>
                    <a:lnTo>
                      <a:pt x="339" y="42"/>
                    </a:lnTo>
                    <a:lnTo>
                      <a:pt x="364" y="26"/>
                    </a:lnTo>
                    <a:lnTo>
                      <a:pt x="377" y="19"/>
                    </a:lnTo>
                    <a:lnTo>
                      <a:pt x="391" y="12"/>
                    </a:lnTo>
                    <a:lnTo>
                      <a:pt x="404" y="6"/>
                    </a:lnTo>
                    <a:lnTo>
                      <a:pt x="4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3375000" y="4314960"/>
                <a:ext cx="395280" cy="417240"/>
              </a:xfrm>
              <a:custGeom>
                <a:avLst/>
                <a:gdLst/>
                <a:ahLst/>
                <a:rect l="l" t="t" r="r" b="b"/>
                <a:pathLst>
                  <a:path w="1248" h="1317">
                    <a:moveTo>
                      <a:pt x="1238" y="1258"/>
                    </a:moveTo>
                    <a:lnTo>
                      <a:pt x="1219" y="1250"/>
                    </a:lnTo>
                    <a:lnTo>
                      <a:pt x="1156" y="1242"/>
                    </a:lnTo>
                    <a:lnTo>
                      <a:pt x="1094" y="1236"/>
                    </a:lnTo>
                    <a:lnTo>
                      <a:pt x="1035" y="1226"/>
                    </a:lnTo>
                    <a:lnTo>
                      <a:pt x="978" y="1217"/>
                    </a:lnTo>
                    <a:lnTo>
                      <a:pt x="922" y="1207"/>
                    </a:lnTo>
                    <a:lnTo>
                      <a:pt x="869" y="1196"/>
                    </a:lnTo>
                    <a:lnTo>
                      <a:pt x="817" y="1183"/>
                    </a:lnTo>
                    <a:lnTo>
                      <a:pt x="767" y="1168"/>
                    </a:lnTo>
                    <a:lnTo>
                      <a:pt x="742" y="1160"/>
                    </a:lnTo>
                    <a:lnTo>
                      <a:pt x="719" y="1152"/>
                    </a:lnTo>
                    <a:lnTo>
                      <a:pt x="695" y="1144"/>
                    </a:lnTo>
                    <a:lnTo>
                      <a:pt x="672" y="1135"/>
                    </a:lnTo>
                    <a:lnTo>
                      <a:pt x="650" y="1125"/>
                    </a:lnTo>
                    <a:lnTo>
                      <a:pt x="628" y="1116"/>
                    </a:lnTo>
                    <a:lnTo>
                      <a:pt x="606" y="1106"/>
                    </a:lnTo>
                    <a:lnTo>
                      <a:pt x="585" y="1094"/>
                    </a:lnTo>
                    <a:lnTo>
                      <a:pt x="564" y="1083"/>
                    </a:lnTo>
                    <a:lnTo>
                      <a:pt x="544" y="1070"/>
                    </a:lnTo>
                    <a:lnTo>
                      <a:pt x="523" y="1058"/>
                    </a:lnTo>
                    <a:lnTo>
                      <a:pt x="504" y="1045"/>
                    </a:lnTo>
                    <a:lnTo>
                      <a:pt x="486" y="1030"/>
                    </a:lnTo>
                    <a:lnTo>
                      <a:pt x="466" y="1017"/>
                    </a:lnTo>
                    <a:lnTo>
                      <a:pt x="448" y="1002"/>
                    </a:lnTo>
                    <a:lnTo>
                      <a:pt x="431" y="986"/>
                    </a:lnTo>
                    <a:lnTo>
                      <a:pt x="413" y="969"/>
                    </a:lnTo>
                    <a:lnTo>
                      <a:pt x="395" y="952"/>
                    </a:lnTo>
                    <a:lnTo>
                      <a:pt x="380" y="934"/>
                    </a:lnTo>
                    <a:lnTo>
                      <a:pt x="362" y="915"/>
                    </a:lnTo>
                    <a:lnTo>
                      <a:pt x="346" y="896"/>
                    </a:lnTo>
                    <a:lnTo>
                      <a:pt x="332" y="876"/>
                    </a:lnTo>
                    <a:lnTo>
                      <a:pt x="317" y="855"/>
                    </a:lnTo>
                    <a:lnTo>
                      <a:pt x="302" y="833"/>
                    </a:lnTo>
                    <a:lnTo>
                      <a:pt x="287" y="810"/>
                    </a:lnTo>
                    <a:lnTo>
                      <a:pt x="273" y="786"/>
                    </a:lnTo>
                    <a:lnTo>
                      <a:pt x="260" y="762"/>
                    </a:lnTo>
                    <a:lnTo>
                      <a:pt x="246" y="736"/>
                    </a:lnTo>
                    <a:lnTo>
                      <a:pt x="234" y="710"/>
                    </a:lnTo>
                    <a:lnTo>
                      <a:pt x="221" y="682"/>
                    </a:lnTo>
                    <a:lnTo>
                      <a:pt x="210" y="654"/>
                    </a:lnTo>
                    <a:lnTo>
                      <a:pt x="198" y="625"/>
                    </a:lnTo>
                    <a:lnTo>
                      <a:pt x="187" y="594"/>
                    </a:lnTo>
                    <a:lnTo>
                      <a:pt x="175" y="562"/>
                    </a:lnTo>
                    <a:lnTo>
                      <a:pt x="165" y="531"/>
                    </a:lnTo>
                    <a:lnTo>
                      <a:pt x="155" y="496"/>
                    </a:lnTo>
                    <a:lnTo>
                      <a:pt x="146" y="462"/>
                    </a:lnTo>
                    <a:lnTo>
                      <a:pt x="137" y="426"/>
                    </a:lnTo>
                    <a:lnTo>
                      <a:pt x="128" y="389"/>
                    </a:lnTo>
                    <a:lnTo>
                      <a:pt x="120" y="350"/>
                    </a:lnTo>
                    <a:lnTo>
                      <a:pt x="110" y="311"/>
                    </a:lnTo>
                    <a:lnTo>
                      <a:pt x="104" y="270"/>
                    </a:lnTo>
                    <a:lnTo>
                      <a:pt x="96" y="228"/>
                    </a:lnTo>
                    <a:lnTo>
                      <a:pt x="90" y="186"/>
                    </a:lnTo>
                    <a:lnTo>
                      <a:pt x="83" y="142"/>
                    </a:lnTo>
                    <a:lnTo>
                      <a:pt x="77" y="96"/>
                    </a:lnTo>
                    <a:lnTo>
                      <a:pt x="72" y="49"/>
                    </a:lnTo>
                    <a:lnTo>
                      <a:pt x="66" y="0"/>
                    </a:lnTo>
                    <a:lnTo>
                      <a:pt x="0" y="7"/>
                    </a:lnTo>
                    <a:lnTo>
                      <a:pt x="4" y="56"/>
                    </a:lnTo>
                    <a:lnTo>
                      <a:pt x="10" y="104"/>
                    </a:lnTo>
                    <a:lnTo>
                      <a:pt x="16" y="151"/>
                    </a:lnTo>
                    <a:lnTo>
                      <a:pt x="23" y="195"/>
                    </a:lnTo>
                    <a:lnTo>
                      <a:pt x="30" y="240"/>
                    </a:lnTo>
                    <a:lnTo>
                      <a:pt x="38" y="282"/>
                    </a:lnTo>
                    <a:lnTo>
                      <a:pt x="44" y="324"/>
                    </a:lnTo>
                    <a:lnTo>
                      <a:pt x="53" y="364"/>
                    </a:lnTo>
                    <a:lnTo>
                      <a:pt x="61" y="404"/>
                    </a:lnTo>
                    <a:lnTo>
                      <a:pt x="71" y="442"/>
                    </a:lnTo>
                    <a:lnTo>
                      <a:pt x="81" y="479"/>
                    </a:lnTo>
                    <a:lnTo>
                      <a:pt x="90" y="515"/>
                    </a:lnTo>
                    <a:lnTo>
                      <a:pt x="101" y="550"/>
                    </a:lnTo>
                    <a:lnTo>
                      <a:pt x="112" y="584"/>
                    </a:lnTo>
                    <a:lnTo>
                      <a:pt x="123" y="617"/>
                    </a:lnTo>
                    <a:lnTo>
                      <a:pt x="134" y="649"/>
                    </a:lnTo>
                    <a:lnTo>
                      <a:pt x="147" y="680"/>
                    </a:lnTo>
                    <a:lnTo>
                      <a:pt x="159" y="710"/>
                    </a:lnTo>
                    <a:lnTo>
                      <a:pt x="173" y="738"/>
                    </a:lnTo>
                    <a:lnTo>
                      <a:pt x="187" y="767"/>
                    </a:lnTo>
                    <a:lnTo>
                      <a:pt x="201" y="794"/>
                    </a:lnTo>
                    <a:lnTo>
                      <a:pt x="215" y="820"/>
                    </a:lnTo>
                    <a:lnTo>
                      <a:pt x="230" y="845"/>
                    </a:lnTo>
                    <a:lnTo>
                      <a:pt x="245" y="869"/>
                    </a:lnTo>
                    <a:lnTo>
                      <a:pt x="261" y="893"/>
                    </a:lnTo>
                    <a:lnTo>
                      <a:pt x="277" y="916"/>
                    </a:lnTo>
                    <a:lnTo>
                      <a:pt x="294" y="938"/>
                    </a:lnTo>
                    <a:lnTo>
                      <a:pt x="311" y="958"/>
                    </a:lnTo>
                    <a:lnTo>
                      <a:pt x="329" y="979"/>
                    </a:lnTo>
                    <a:lnTo>
                      <a:pt x="348" y="998"/>
                    </a:lnTo>
                    <a:lnTo>
                      <a:pt x="366" y="1018"/>
                    </a:lnTo>
                    <a:lnTo>
                      <a:pt x="385" y="1035"/>
                    </a:lnTo>
                    <a:lnTo>
                      <a:pt x="405" y="1052"/>
                    </a:lnTo>
                    <a:lnTo>
                      <a:pt x="424" y="1069"/>
                    </a:lnTo>
                    <a:lnTo>
                      <a:pt x="444" y="1085"/>
                    </a:lnTo>
                    <a:lnTo>
                      <a:pt x="466" y="1100"/>
                    </a:lnTo>
                    <a:lnTo>
                      <a:pt x="487" y="1115"/>
                    </a:lnTo>
                    <a:lnTo>
                      <a:pt x="508" y="1128"/>
                    </a:lnTo>
                    <a:lnTo>
                      <a:pt x="530" y="1141"/>
                    </a:lnTo>
                    <a:lnTo>
                      <a:pt x="553" y="1153"/>
                    </a:lnTo>
                    <a:lnTo>
                      <a:pt x="576" y="1165"/>
                    </a:lnTo>
                    <a:lnTo>
                      <a:pt x="600" y="1176"/>
                    </a:lnTo>
                    <a:lnTo>
                      <a:pt x="622" y="1188"/>
                    </a:lnTo>
                    <a:lnTo>
                      <a:pt x="647" y="1198"/>
                    </a:lnTo>
                    <a:lnTo>
                      <a:pt x="671" y="1207"/>
                    </a:lnTo>
                    <a:lnTo>
                      <a:pt x="696" y="1216"/>
                    </a:lnTo>
                    <a:lnTo>
                      <a:pt x="722" y="1225"/>
                    </a:lnTo>
                    <a:lnTo>
                      <a:pt x="748" y="1233"/>
                    </a:lnTo>
                    <a:lnTo>
                      <a:pt x="800" y="1248"/>
                    </a:lnTo>
                    <a:lnTo>
                      <a:pt x="854" y="1262"/>
                    </a:lnTo>
                    <a:lnTo>
                      <a:pt x="910" y="1273"/>
                    </a:lnTo>
                    <a:lnTo>
                      <a:pt x="967" y="1284"/>
                    </a:lnTo>
                    <a:lnTo>
                      <a:pt x="1026" y="1294"/>
                    </a:lnTo>
                    <a:lnTo>
                      <a:pt x="1086" y="1302"/>
                    </a:lnTo>
                    <a:lnTo>
                      <a:pt x="1148" y="1310"/>
                    </a:lnTo>
                    <a:lnTo>
                      <a:pt x="1212" y="1317"/>
                    </a:lnTo>
                    <a:lnTo>
                      <a:pt x="1192" y="1309"/>
                    </a:lnTo>
                    <a:lnTo>
                      <a:pt x="1212" y="1317"/>
                    </a:lnTo>
                    <a:lnTo>
                      <a:pt x="1220" y="1317"/>
                    </a:lnTo>
                    <a:lnTo>
                      <a:pt x="1227" y="1315"/>
                    </a:lnTo>
                    <a:lnTo>
                      <a:pt x="1232" y="1313"/>
                    </a:lnTo>
                    <a:lnTo>
                      <a:pt x="1238" y="1309"/>
                    </a:lnTo>
                    <a:lnTo>
                      <a:pt x="1241" y="1304"/>
                    </a:lnTo>
                    <a:lnTo>
                      <a:pt x="1245" y="1300"/>
                    </a:lnTo>
                    <a:lnTo>
                      <a:pt x="1247" y="1293"/>
                    </a:lnTo>
                    <a:lnTo>
                      <a:pt x="1248" y="1287"/>
                    </a:lnTo>
                    <a:lnTo>
                      <a:pt x="1248" y="1280"/>
                    </a:lnTo>
                    <a:lnTo>
                      <a:pt x="1247" y="1274"/>
                    </a:lnTo>
                    <a:lnTo>
                      <a:pt x="1246" y="1269"/>
                    </a:lnTo>
                    <a:lnTo>
                      <a:pt x="1242" y="1263"/>
                    </a:lnTo>
                    <a:lnTo>
                      <a:pt x="1238" y="1258"/>
                    </a:lnTo>
                    <a:lnTo>
                      <a:pt x="1232" y="1254"/>
                    </a:lnTo>
                    <a:lnTo>
                      <a:pt x="1227" y="1252"/>
                    </a:lnTo>
                    <a:lnTo>
                      <a:pt x="1219" y="1250"/>
                    </a:lnTo>
                    <a:lnTo>
                      <a:pt x="1238" y="125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3660840" y="4714920"/>
                <a:ext cx="127080" cy="103320"/>
              </a:xfrm>
              <a:custGeom>
                <a:avLst/>
                <a:gdLst/>
                <a:ahLst/>
                <a:rect l="l" t="t" r="r" b="b"/>
                <a:pathLst>
                  <a:path w="400" h="328">
                    <a:moveTo>
                      <a:pt x="67" y="285"/>
                    </a:moveTo>
                    <a:lnTo>
                      <a:pt x="26" y="312"/>
                    </a:lnTo>
                    <a:lnTo>
                      <a:pt x="61" y="319"/>
                    </a:lnTo>
                    <a:lnTo>
                      <a:pt x="95" y="323"/>
                    </a:lnTo>
                    <a:lnTo>
                      <a:pt x="126" y="327"/>
                    </a:lnTo>
                    <a:lnTo>
                      <a:pt x="156" y="328"/>
                    </a:lnTo>
                    <a:lnTo>
                      <a:pt x="183" y="328"/>
                    </a:lnTo>
                    <a:lnTo>
                      <a:pt x="209" y="327"/>
                    </a:lnTo>
                    <a:lnTo>
                      <a:pt x="233" y="323"/>
                    </a:lnTo>
                    <a:lnTo>
                      <a:pt x="256" y="318"/>
                    </a:lnTo>
                    <a:lnTo>
                      <a:pt x="278" y="312"/>
                    </a:lnTo>
                    <a:lnTo>
                      <a:pt x="297" y="304"/>
                    </a:lnTo>
                    <a:lnTo>
                      <a:pt x="314" y="295"/>
                    </a:lnTo>
                    <a:lnTo>
                      <a:pt x="331" y="285"/>
                    </a:lnTo>
                    <a:lnTo>
                      <a:pt x="345" y="272"/>
                    </a:lnTo>
                    <a:lnTo>
                      <a:pt x="359" y="259"/>
                    </a:lnTo>
                    <a:lnTo>
                      <a:pt x="369" y="246"/>
                    </a:lnTo>
                    <a:lnTo>
                      <a:pt x="379" y="231"/>
                    </a:lnTo>
                    <a:lnTo>
                      <a:pt x="386" y="216"/>
                    </a:lnTo>
                    <a:lnTo>
                      <a:pt x="392" y="200"/>
                    </a:lnTo>
                    <a:lnTo>
                      <a:pt x="396" y="185"/>
                    </a:lnTo>
                    <a:lnTo>
                      <a:pt x="399" y="169"/>
                    </a:lnTo>
                    <a:lnTo>
                      <a:pt x="400" y="153"/>
                    </a:lnTo>
                    <a:lnTo>
                      <a:pt x="400" y="137"/>
                    </a:lnTo>
                    <a:lnTo>
                      <a:pt x="399" y="121"/>
                    </a:lnTo>
                    <a:lnTo>
                      <a:pt x="395" y="105"/>
                    </a:lnTo>
                    <a:lnTo>
                      <a:pt x="392" y="91"/>
                    </a:lnTo>
                    <a:lnTo>
                      <a:pt x="386" y="76"/>
                    </a:lnTo>
                    <a:lnTo>
                      <a:pt x="380" y="62"/>
                    </a:lnTo>
                    <a:lnTo>
                      <a:pt x="374" y="48"/>
                    </a:lnTo>
                    <a:lnTo>
                      <a:pt x="366" y="35"/>
                    </a:lnTo>
                    <a:lnTo>
                      <a:pt x="356" y="22"/>
                    </a:lnTo>
                    <a:lnTo>
                      <a:pt x="346" y="11"/>
                    </a:lnTo>
                    <a:lnTo>
                      <a:pt x="336" y="0"/>
                    </a:lnTo>
                    <a:lnTo>
                      <a:pt x="290" y="51"/>
                    </a:lnTo>
                    <a:lnTo>
                      <a:pt x="297" y="57"/>
                    </a:lnTo>
                    <a:lnTo>
                      <a:pt x="303" y="64"/>
                    </a:lnTo>
                    <a:lnTo>
                      <a:pt x="310" y="72"/>
                    </a:lnTo>
                    <a:lnTo>
                      <a:pt x="314" y="81"/>
                    </a:lnTo>
                    <a:lnTo>
                      <a:pt x="319" y="91"/>
                    </a:lnTo>
                    <a:lnTo>
                      <a:pt x="323" y="100"/>
                    </a:lnTo>
                    <a:lnTo>
                      <a:pt x="327" y="110"/>
                    </a:lnTo>
                    <a:lnTo>
                      <a:pt x="329" y="120"/>
                    </a:lnTo>
                    <a:lnTo>
                      <a:pt x="331" y="130"/>
                    </a:lnTo>
                    <a:lnTo>
                      <a:pt x="333" y="141"/>
                    </a:lnTo>
                    <a:lnTo>
                      <a:pt x="333" y="151"/>
                    </a:lnTo>
                    <a:lnTo>
                      <a:pt x="331" y="161"/>
                    </a:lnTo>
                    <a:lnTo>
                      <a:pt x="330" y="170"/>
                    </a:lnTo>
                    <a:lnTo>
                      <a:pt x="328" y="181"/>
                    </a:lnTo>
                    <a:lnTo>
                      <a:pt x="325" y="190"/>
                    </a:lnTo>
                    <a:lnTo>
                      <a:pt x="320" y="198"/>
                    </a:lnTo>
                    <a:lnTo>
                      <a:pt x="314" y="207"/>
                    </a:lnTo>
                    <a:lnTo>
                      <a:pt x="309" y="215"/>
                    </a:lnTo>
                    <a:lnTo>
                      <a:pt x="301" y="222"/>
                    </a:lnTo>
                    <a:lnTo>
                      <a:pt x="291" y="230"/>
                    </a:lnTo>
                    <a:lnTo>
                      <a:pt x="281" y="237"/>
                    </a:lnTo>
                    <a:lnTo>
                      <a:pt x="270" y="242"/>
                    </a:lnTo>
                    <a:lnTo>
                      <a:pt x="255" y="248"/>
                    </a:lnTo>
                    <a:lnTo>
                      <a:pt x="240" y="253"/>
                    </a:lnTo>
                    <a:lnTo>
                      <a:pt x="222" y="256"/>
                    </a:lnTo>
                    <a:lnTo>
                      <a:pt x="203" y="259"/>
                    </a:lnTo>
                    <a:lnTo>
                      <a:pt x="181" y="261"/>
                    </a:lnTo>
                    <a:lnTo>
                      <a:pt x="157" y="261"/>
                    </a:lnTo>
                    <a:lnTo>
                      <a:pt x="131" y="259"/>
                    </a:lnTo>
                    <a:lnTo>
                      <a:pt x="103" y="257"/>
                    </a:lnTo>
                    <a:lnTo>
                      <a:pt x="73" y="253"/>
                    </a:lnTo>
                    <a:lnTo>
                      <a:pt x="41" y="246"/>
                    </a:lnTo>
                    <a:lnTo>
                      <a:pt x="0" y="273"/>
                    </a:lnTo>
                    <a:lnTo>
                      <a:pt x="41" y="246"/>
                    </a:lnTo>
                    <a:lnTo>
                      <a:pt x="33" y="245"/>
                    </a:lnTo>
                    <a:lnTo>
                      <a:pt x="25" y="246"/>
                    </a:lnTo>
                    <a:lnTo>
                      <a:pt x="19" y="248"/>
                    </a:lnTo>
                    <a:lnTo>
                      <a:pt x="13" y="251"/>
                    </a:lnTo>
                    <a:lnTo>
                      <a:pt x="9" y="255"/>
                    </a:lnTo>
                    <a:lnTo>
                      <a:pt x="5" y="261"/>
                    </a:lnTo>
                    <a:lnTo>
                      <a:pt x="2" y="266"/>
                    </a:lnTo>
                    <a:lnTo>
                      <a:pt x="0" y="272"/>
                    </a:lnTo>
                    <a:lnTo>
                      <a:pt x="0" y="279"/>
                    </a:lnTo>
                    <a:lnTo>
                      <a:pt x="0" y="285"/>
                    </a:lnTo>
                    <a:lnTo>
                      <a:pt x="1" y="290"/>
                    </a:lnTo>
                    <a:lnTo>
                      <a:pt x="3" y="296"/>
                    </a:lnTo>
                    <a:lnTo>
                      <a:pt x="8" y="302"/>
                    </a:lnTo>
                    <a:lnTo>
                      <a:pt x="12" y="306"/>
                    </a:lnTo>
                    <a:lnTo>
                      <a:pt x="19" y="310"/>
                    </a:lnTo>
                    <a:lnTo>
                      <a:pt x="26" y="312"/>
                    </a:lnTo>
                    <a:lnTo>
                      <a:pt x="67" y="28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3660840" y="4800600"/>
                <a:ext cx="141120" cy="117360"/>
              </a:xfrm>
              <a:custGeom>
                <a:avLst/>
                <a:gdLst/>
                <a:ahLst/>
                <a:rect l="l" t="t" r="r" b="b"/>
                <a:pathLst>
                  <a:path w="447" h="371">
                    <a:moveTo>
                      <a:pt x="431" y="347"/>
                    </a:moveTo>
                    <a:lnTo>
                      <a:pt x="429" y="353"/>
                    </a:lnTo>
                    <a:lnTo>
                      <a:pt x="435" y="342"/>
                    </a:lnTo>
                    <a:lnTo>
                      <a:pt x="439" y="331"/>
                    </a:lnTo>
                    <a:lnTo>
                      <a:pt x="443" y="321"/>
                    </a:lnTo>
                    <a:lnTo>
                      <a:pt x="445" y="309"/>
                    </a:lnTo>
                    <a:lnTo>
                      <a:pt x="446" y="299"/>
                    </a:lnTo>
                    <a:lnTo>
                      <a:pt x="447" y="288"/>
                    </a:lnTo>
                    <a:lnTo>
                      <a:pt x="447" y="277"/>
                    </a:lnTo>
                    <a:lnTo>
                      <a:pt x="445" y="267"/>
                    </a:lnTo>
                    <a:lnTo>
                      <a:pt x="443" y="257"/>
                    </a:lnTo>
                    <a:lnTo>
                      <a:pt x="439" y="248"/>
                    </a:lnTo>
                    <a:lnTo>
                      <a:pt x="435" y="239"/>
                    </a:lnTo>
                    <a:lnTo>
                      <a:pt x="429" y="228"/>
                    </a:lnTo>
                    <a:lnTo>
                      <a:pt x="419" y="215"/>
                    </a:lnTo>
                    <a:lnTo>
                      <a:pt x="405" y="201"/>
                    </a:lnTo>
                    <a:lnTo>
                      <a:pt x="389" y="188"/>
                    </a:lnTo>
                    <a:lnTo>
                      <a:pt x="373" y="177"/>
                    </a:lnTo>
                    <a:lnTo>
                      <a:pt x="355" y="168"/>
                    </a:lnTo>
                    <a:lnTo>
                      <a:pt x="337" y="158"/>
                    </a:lnTo>
                    <a:lnTo>
                      <a:pt x="298" y="142"/>
                    </a:lnTo>
                    <a:lnTo>
                      <a:pt x="258" y="126"/>
                    </a:lnTo>
                    <a:lnTo>
                      <a:pt x="217" y="112"/>
                    </a:lnTo>
                    <a:lnTo>
                      <a:pt x="178" y="97"/>
                    </a:lnTo>
                    <a:lnTo>
                      <a:pt x="160" y="90"/>
                    </a:lnTo>
                    <a:lnTo>
                      <a:pt x="142" y="82"/>
                    </a:lnTo>
                    <a:lnTo>
                      <a:pt x="127" y="75"/>
                    </a:lnTo>
                    <a:lnTo>
                      <a:pt x="112" y="67"/>
                    </a:lnTo>
                    <a:lnTo>
                      <a:pt x="100" y="59"/>
                    </a:lnTo>
                    <a:lnTo>
                      <a:pt x="89" y="53"/>
                    </a:lnTo>
                    <a:lnTo>
                      <a:pt x="80" y="45"/>
                    </a:lnTo>
                    <a:lnTo>
                      <a:pt x="73" y="37"/>
                    </a:lnTo>
                    <a:lnTo>
                      <a:pt x="72" y="34"/>
                    </a:lnTo>
                    <a:lnTo>
                      <a:pt x="71" y="31"/>
                    </a:lnTo>
                    <a:lnTo>
                      <a:pt x="70" y="29"/>
                    </a:lnTo>
                    <a:lnTo>
                      <a:pt x="69" y="25"/>
                    </a:lnTo>
                    <a:lnTo>
                      <a:pt x="68" y="22"/>
                    </a:lnTo>
                    <a:lnTo>
                      <a:pt x="68" y="19"/>
                    </a:lnTo>
                    <a:lnTo>
                      <a:pt x="68" y="16"/>
                    </a:lnTo>
                    <a:lnTo>
                      <a:pt x="69" y="12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2" y="32"/>
                    </a:lnTo>
                    <a:lnTo>
                      <a:pt x="3" y="41"/>
                    </a:lnTo>
                    <a:lnTo>
                      <a:pt x="6" y="51"/>
                    </a:lnTo>
                    <a:lnTo>
                      <a:pt x="10" y="61"/>
                    </a:lnTo>
                    <a:lnTo>
                      <a:pt x="14" y="70"/>
                    </a:lnTo>
                    <a:lnTo>
                      <a:pt x="21" y="78"/>
                    </a:lnTo>
                    <a:lnTo>
                      <a:pt x="32" y="91"/>
                    </a:lnTo>
                    <a:lnTo>
                      <a:pt x="46" y="105"/>
                    </a:lnTo>
                    <a:lnTo>
                      <a:pt x="62" y="116"/>
                    </a:lnTo>
                    <a:lnTo>
                      <a:pt x="79" y="126"/>
                    </a:lnTo>
                    <a:lnTo>
                      <a:pt x="96" y="136"/>
                    </a:lnTo>
                    <a:lnTo>
                      <a:pt x="114" y="144"/>
                    </a:lnTo>
                    <a:lnTo>
                      <a:pt x="134" y="152"/>
                    </a:lnTo>
                    <a:lnTo>
                      <a:pt x="154" y="160"/>
                    </a:lnTo>
                    <a:lnTo>
                      <a:pt x="194" y="175"/>
                    </a:lnTo>
                    <a:lnTo>
                      <a:pt x="234" y="189"/>
                    </a:lnTo>
                    <a:lnTo>
                      <a:pt x="273" y="204"/>
                    </a:lnTo>
                    <a:lnTo>
                      <a:pt x="308" y="219"/>
                    </a:lnTo>
                    <a:lnTo>
                      <a:pt x="324" y="227"/>
                    </a:lnTo>
                    <a:lnTo>
                      <a:pt x="338" y="235"/>
                    </a:lnTo>
                    <a:lnTo>
                      <a:pt x="350" y="243"/>
                    </a:lnTo>
                    <a:lnTo>
                      <a:pt x="360" y="251"/>
                    </a:lnTo>
                    <a:lnTo>
                      <a:pt x="368" y="259"/>
                    </a:lnTo>
                    <a:lnTo>
                      <a:pt x="374" y="267"/>
                    </a:lnTo>
                    <a:lnTo>
                      <a:pt x="376" y="269"/>
                    </a:lnTo>
                    <a:lnTo>
                      <a:pt x="378" y="273"/>
                    </a:lnTo>
                    <a:lnTo>
                      <a:pt x="378" y="276"/>
                    </a:lnTo>
                    <a:lnTo>
                      <a:pt x="379" y="280"/>
                    </a:lnTo>
                    <a:lnTo>
                      <a:pt x="380" y="284"/>
                    </a:lnTo>
                    <a:lnTo>
                      <a:pt x="380" y="288"/>
                    </a:lnTo>
                    <a:lnTo>
                      <a:pt x="380" y="292"/>
                    </a:lnTo>
                    <a:lnTo>
                      <a:pt x="379" y="297"/>
                    </a:lnTo>
                    <a:lnTo>
                      <a:pt x="378" y="301"/>
                    </a:lnTo>
                    <a:lnTo>
                      <a:pt x="376" y="307"/>
                    </a:lnTo>
                    <a:lnTo>
                      <a:pt x="373" y="314"/>
                    </a:lnTo>
                    <a:lnTo>
                      <a:pt x="370" y="321"/>
                    </a:lnTo>
                    <a:lnTo>
                      <a:pt x="368" y="326"/>
                    </a:lnTo>
                    <a:lnTo>
                      <a:pt x="370" y="321"/>
                    </a:lnTo>
                    <a:lnTo>
                      <a:pt x="366" y="329"/>
                    </a:lnTo>
                    <a:lnTo>
                      <a:pt x="365" y="336"/>
                    </a:lnTo>
                    <a:lnTo>
                      <a:pt x="365" y="342"/>
                    </a:lnTo>
                    <a:lnTo>
                      <a:pt x="368" y="348"/>
                    </a:lnTo>
                    <a:lnTo>
                      <a:pt x="370" y="354"/>
                    </a:lnTo>
                    <a:lnTo>
                      <a:pt x="373" y="358"/>
                    </a:lnTo>
                    <a:lnTo>
                      <a:pt x="378" y="363"/>
                    </a:lnTo>
                    <a:lnTo>
                      <a:pt x="384" y="366"/>
                    </a:lnTo>
                    <a:lnTo>
                      <a:pt x="389" y="369"/>
                    </a:lnTo>
                    <a:lnTo>
                      <a:pt x="395" y="371"/>
                    </a:lnTo>
                    <a:lnTo>
                      <a:pt x="402" y="371"/>
                    </a:lnTo>
                    <a:lnTo>
                      <a:pt x="407" y="370"/>
                    </a:lnTo>
                    <a:lnTo>
                      <a:pt x="414" y="367"/>
                    </a:lnTo>
                    <a:lnTo>
                      <a:pt x="420" y="364"/>
                    </a:lnTo>
                    <a:lnTo>
                      <a:pt x="425" y="359"/>
                    </a:lnTo>
                    <a:lnTo>
                      <a:pt x="429" y="353"/>
                    </a:lnTo>
                    <a:lnTo>
                      <a:pt x="431" y="3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3637080" y="4903920"/>
                <a:ext cx="160200" cy="47520"/>
              </a:xfrm>
              <a:custGeom>
                <a:avLst/>
                <a:gdLst/>
                <a:ahLst/>
                <a:rect l="l" t="t" r="r" b="b"/>
                <a:pathLst>
                  <a:path w="503" h="150">
                    <a:moveTo>
                      <a:pt x="59" y="118"/>
                    </a:moveTo>
                    <a:lnTo>
                      <a:pt x="68" y="86"/>
                    </a:lnTo>
                    <a:lnTo>
                      <a:pt x="67" y="86"/>
                    </a:lnTo>
                    <a:lnTo>
                      <a:pt x="67" y="86"/>
                    </a:lnTo>
                    <a:lnTo>
                      <a:pt x="67" y="88"/>
                    </a:lnTo>
                    <a:lnTo>
                      <a:pt x="66" y="93"/>
                    </a:lnTo>
                    <a:lnTo>
                      <a:pt x="63" y="97"/>
                    </a:lnTo>
                    <a:lnTo>
                      <a:pt x="60" y="101"/>
                    </a:lnTo>
                    <a:lnTo>
                      <a:pt x="57" y="103"/>
                    </a:lnTo>
                    <a:lnTo>
                      <a:pt x="52" y="105"/>
                    </a:lnTo>
                    <a:lnTo>
                      <a:pt x="54" y="105"/>
                    </a:lnTo>
                    <a:lnTo>
                      <a:pt x="58" y="104"/>
                    </a:lnTo>
                    <a:lnTo>
                      <a:pt x="66" y="105"/>
                    </a:lnTo>
                    <a:lnTo>
                      <a:pt x="75" y="106"/>
                    </a:lnTo>
                    <a:lnTo>
                      <a:pt x="135" y="120"/>
                    </a:lnTo>
                    <a:lnTo>
                      <a:pt x="209" y="137"/>
                    </a:lnTo>
                    <a:lnTo>
                      <a:pt x="230" y="142"/>
                    </a:lnTo>
                    <a:lnTo>
                      <a:pt x="250" y="145"/>
                    </a:lnTo>
                    <a:lnTo>
                      <a:pt x="272" y="148"/>
                    </a:lnTo>
                    <a:lnTo>
                      <a:pt x="293" y="149"/>
                    </a:lnTo>
                    <a:lnTo>
                      <a:pt x="314" y="150"/>
                    </a:lnTo>
                    <a:lnTo>
                      <a:pt x="335" y="149"/>
                    </a:lnTo>
                    <a:lnTo>
                      <a:pt x="356" y="146"/>
                    </a:lnTo>
                    <a:lnTo>
                      <a:pt x="377" y="143"/>
                    </a:lnTo>
                    <a:lnTo>
                      <a:pt x="397" y="136"/>
                    </a:lnTo>
                    <a:lnTo>
                      <a:pt x="416" y="128"/>
                    </a:lnTo>
                    <a:lnTo>
                      <a:pt x="427" y="122"/>
                    </a:lnTo>
                    <a:lnTo>
                      <a:pt x="436" y="117"/>
                    </a:lnTo>
                    <a:lnTo>
                      <a:pt x="445" y="111"/>
                    </a:lnTo>
                    <a:lnTo>
                      <a:pt x="453" y="103"/>
                    </a:lnTo>
                    <a:lnTo>
                      <a:pt x="461" y="95"/>
                    </a:lnTo>
                    <a:lnTo>
                      <a:pt x="469" y="87"/>
                    </a:lnTo>
                    <a:lnTo>
                      <a:pt x="476" y="77"/>
                    </a:lnTo>
                    <a:lnTo>
                      <a:pt x="483" y="68"/>
                    </a:lnTo>
                    <a:lnTo>
                      <a:pt x="489" y="56"/>
                    </a:lnTo>
                    <a:lnTo>
                      <a:pt x="494" y="45"/>
                    </a:lnTo>
                    <a:lnTo>
                      <a:pt x="500" y="33"/>
                    </a:lnTo>
                    <a:lnTo>
                      <a:pt x="503" y="21"/>
                    </a:lnTo>
                    <a:lnTo>
                      <a:pt x="440" y="0"/>
                    </a:lnTo>
                    <a:lnTo>
                      <a:pt x="436" y="10"/>
                    </a:lnTo>
                    <a:lnTo>
                      <a:pt x="433" y="18"/>
                    </a:lnTo>
                    <a:lnTo>
                      <a:pt x="429" y="25"/>
                    </a:lnTo>
                    <a:lnTo>
                      <a:pt x="426" y="32"/>
                    </a:lnTo>
                    <a:lnTo>
                      <a:pt x="421" y="38"/>
                    </a:lnTo>
                    <a:lnTo>
                      <a:pt x="417" y="44"/>
                    </a:lnTo>
                    <a:lnTo>
                      <a:pt x="412" y="48"/>
                    </a:lnTo>
                    <a:lnTo>
                      <a:pt x="408" y="53"/>
                    </a:lnTo>
                    <a:lnTo>
                      <a:pt x="403" y="57"/>
                    </a:lnTo>
                    <a:lnTo>
                      <a:pt x="397" y="61"/>
                    </a:lnTo>
                    <a:lnTo>
                      <a:pt x="393" y="64"/>
                    </a:lnTo>
                    <a:lnTo>
                      <a:pt x="387" y="68"/>
                    </a:lnTo>
                    <a:lnTo>
                      <a:pt x="375" y="73"/>
                    </a:lnTo>
                    <a:lnTo>
                      <a:pt x="361" y="77"/>
                    </a:lnTo>
                    <a:lnTo>
                      <a:pt x="346" y="80"/>
                    </a:lnTo>
                    <a:lnTo>
                      <a:pt x="330" y="81"/>
                    </a:lnTo>
                    <a:lnTo>
                      <a:pt x="314" y="83"/>
                    </a:lnTo>
                    <a:lnTo>
                      <a:pt x="296" y="81"/>
                    </a:lnTo>
                    <a:lnTo>
                      <a:pt x="278" y="80"/>
                    </a:lnTo>
                    <a:lnTo>
                      <a:pt x="259" y="78"/>
                    </a:lnTo>
                    <a:lnTo>
                      <a:pt x="241" y="75"/>
                    </a:lnTo>
                    <a:lnTo>
                      <a:pt x="223" y="71"/>
                    </a:lnTo>
                    <a:lnTo>
                      <a:pt x="150" y="54"/>
                    </a:lnTo>
                    <a:lnTo>
                      <a:pt x="88" y="40"/>
                    </a:lnTo>
                    <a:lnTo>
                      <a:pt x="74" y="38"/>
                    </a:lnTo>
                    <a:lnTo>
                      <a:pt x="60" y="37"/>
                    </a:lnTo>
                    <a:lnTo>
                      <a:pt x="46" y="38"/>
                    </a:lnTo>
                    <a:lnTo>
                      <a:pt x="34" y="40"/>
                    </a:lnTo>
                    <a:lnTo>
                      <a:pt x="23" y="45"/>
                    </a:lnTo>
                    <a:lnTo>
                      <a:pt x="15" y="51"/>
                    </a:lnTo>
                    <a:lnTo>
                      <a:pt x="8" y="59"/>
                    </a:lnTo>
                    <a:lnTo>
                      <a:pt x="3" y="69"/>
                    </a:lnTo>
                    <a:lnTo>
                      <a:pt x="1" y="78"/>
                    </a:lnTo>
                    <a:lnTo>
                      <a:pt x="0" y="87"/>
                    </a:lnTo>
                    <a:lnTo>
                      <a:pt x="1" y="96"/>
                    </a:lnTo>
                    <a:lnTo>
                      <a:pt x="2" y="104"/>
                    </a:lnTo>
                    <a:lnTo>
                      <a:pt x="10" y="72"/>
                    </a:lnTo>
                    <a:lnTo>
                      <a:pt x="2" y="104"/>
                    </a:lnTo>
                    <a:lnTo>
                      <a:pt x="5" y="111"/>
                    </a:lnTo>
                    <a:lnTo>
                      <a:pt x="9" y="118"/>
                    </a:lnTo>
                    <a:lnTo>
                      <a:pt x="13" y="122"/>
                    </a:lnTo>
                    <a:lnTo>
                      <a:pt x="19" y="126"/>
                    </a:lnTo>
                    <a:lnTo>
                      <a:pt x="25" y="128"/>
                    </a:lnTo>
                    <a:lnTo>
                      <a:pt x="31" y="129"/>
                    </a:lnTo>
                    <a:lnTo>
                      <a:pt x="37" y="129"/>
                    </a:lnTo>
                    <a:lnTo>
                      <a:pt x="44" y="128"/>
                    </a:lnTo>
                    <a:lnTo>
                      <a:pt x="50" y="126"/>
                    </a:lnTo>
                    <a:lnTo>
                      <a:pt x="55" y="122"/>
                    </a:lnTo>
                    <a:lnTo>
                      <a:pt x="60" y="119"/>
                    </a:lnTo>
                    <a:lnTo>
                      <a:pt x="63" y="113"/>
                    </a:lnTo>
                    <a:lnTo>
                      <a:pt x="67" y="108"/>
                    </a:lnTo>
                    <a:lnTo>
                      <a:pt x="68" y="102"/>
                    </a:lnTo>
                    <a:lnTo>
                      <a:pt x="69" y="94"/>
                    </a:lnTo>
                    <a:lnTo>
                      <a:pt x="68" y="86"/>
                    </a:lnTo>
                    <a:lnTo>
                      <a:pt x="59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3629160" y="4927680"/>
                <a:ext cx="95040" cy="155520"/>
              </a:xfrm>
              <a:custGeom>
                <a:avLst/>
                <a:gdLst/>
                <a:ahLst/>
                <a:rect l="l" t="t" r="r" b="b"/>
                <a:pathLst>
                  <a:path w="303" h="492">
                    <a:moveTo>
                      <a:pt x="207" y="491"/>
                    </a:moveTo>
                    <a:lnTo>
                      <a:pt x="216" y="486"/>
                    </a:lnTo>
                    <a:lnTo>
                      <a:pt x="229" y="477"/>
                    </a:lnTo>
                    <a:lnTo>
                      <a:pt x="241" y="469"/>
                    </a:lnTo>
                    <a:lnTo>
                      <a:pt x="251" y="460"/>
                    </a:lnTo>
                    <a:lnTo>
                      <a:pt x="261" y="451"/>
                    </a:lnTo>
                    <a:lnTo>
                      <a:pt x="270" y="442"/>
                    </a:lnTo>
                    <a:lnTo>
                      <a:pt x="278" y="433"/>
                    </a:lnTo>
                    <a:lnTo>
                      <a:pt x="285" y="424"/>
                    </a:lnTo>
                    <a:lnTo>
                      <a:pt x="291" y="413"/>
                    </a:lnTo>
                    <a:lnTo>
                      <a:pt x="295" y="403"/>
                    </a:lnTo>
                    <a:lnTo>
                      <a:pt x="299" y="393"/>
                    </a:lnTo>
                    <a:lnTo>
                      <a:pt x="302" y="382"/>
                    </a:lnTo>
                    <a:lnTo>
                      <a:pt x="303" y="371"/>
                    </a:lnTo>
                    <a:lnTo>
                      <a:pt x="303" y="361"/>
                    </a:lnTo>
                    <a:lnTo>
                      <a:pt x="302" y="351"/>
                    </a:lnTo>
                    <a:lnTo>
                      <a:pt x="300" y="341"/>
                    </a:lnTo>
                    <a:lnTo>
                      <a:pt x="297" y="330"/>
                    </a:lnTo>
                    <a:lnTo>
                      <a:pt x="289" y="313"/>
                    </a:lnTo>
                    <a:lnTo>
                      <a:pt x="278" y="297"/>
                    </a:lnTo>
                    <a:lnTo>
                      <a:pt x="266" y="281"/>
                    </a:lnTo>
                    <a:lnTo>
                      <a:pt x="252" y="267"/>
                    </a:lnTo>
                    <a:lnTo>
                      <a:pt x="237" y="254"/>
                    </a:lnTo>
                    <a:lnTo>
                      <a:pt x="222" y="240"/>
                    </a:lnTo>
                    <a:lnTo>
                      <a:pt x="207" y="226"/>
                    </a:lnTo>
                    <a:lnTo>
                      <a:pt x="189" y="214"/>
                    </a:lnTo>
                    <a:lnTo>
                      <a:pt x="157" y="189"/>
                    </a:lnTo>
                    <a:lnTo>
                      <a:pt x="126" y="165"/>
                    </a:lnTo>
                    <a:lnTo>
                      <a:pt x="113" y="153"/>
                    </a:lnTo>
                    <a:lnTo>
                      <a:pt x="100" y="141"/>
                    </a:lnTo>
                    <a:lnTo>
                      <a:pt x="89" y="129"/>
                    </a:lnTo>
                    <a:lnTo>
                      <a:pt x="81" y="119"/>
                    </a:lnTo>
                    <a:lnTo>
                      <a:pt x="74" y="109"/>
                    </a:lnTo>
                    <a:lnTo>
                      <a:pt x="70" y="98"/>
                    </a:lnTo>
                    <a:lnTo>
                      <a:pt x="69" y="96"/>
                    </a:lnTo>
                    <a:lnTo>
                      <a:pt x="67" y="92"/>
                    </a:lnTo>
                    <a:lnTo>
                      <a:pt x="67" y="88"/>
                    </a:lnTo>
                    <a:lnTo>
                      <a:pt x="67" y="85"/>
                    </a:lnTo>
                    <a:lnTo>
                      <a:pt x="67" y="81"/>
                    </a:lnTo>
                    <a:lnTo>
                      <a:pt x="69" y="77"/>
                    </a:lnTo>
                    <a:lnTo>
                      <a:pt x="70" y="73"/>
                    </a:lnTo>
                    <a:lnTo>
                      <a:pt x="71" y="69"/>
                    </a:lnTo>
                    <a:lnTo>
                      <a:pt x="74" y="64"/>
                    </a:lnTo>
                    <a:lnTo>
                      <a:pt x="78" y="58"/>
                    </a:lnTo>
                    <a:lnTo>
                      <a:pt x="82" y="53"/>
                    </a:lnTo>
                    <a:lnTo>
                      <a:pt x="87" y="46"/>
                    </a:lnTo>
                    <a:lnTo>
                      <a:pt x="38" y="0"/>
                    </a:lnTo>
                    <a:lnTo>
                      <a:pt x="30" y="9"/>
                    </a:lnTo>
                    <a:lnTo>
                      <a:pt x="22" y="20"/>
                    </a:lnTo>
                    <a:lnTo>
                      <a:pt x="16" y="30"/>
                    </a:lnTo>
                    <a:lnTo>
                      <a:pt x="10" y="40"/>
                    </a:lnTo>
                    <a:lnTo>
                      <a:pt x="6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4"/>
                    </a:lnTo>
                    <a:lnTo>
                      <a:pt x="4" y="114"/>
                    </a:lnTo>
                    <a:lnTo>
                      <a:pt x="8" y="125"/>
                    </a:lnTo>
                    <a:lnTo>
                      <a:pt x="15" y="142"/>
                    </a:lnTo>
                    <a:lnTo>
                      <a:pt x="26" y="159"/>
                    </a:lnTo>
                    <a:lnTo>
                      <a:pt x="39" y="174"/>
                    </a:lnTo>
                    <a:lnTo>
                      <a:pt x="53" y="189"/>
                    </a:lnTo>
                    <a:lnTo>
                      <a:pt x="67" y="203"/>
                    </a:lnTo>
                    <a:lnTo>
                      <a:pt x="83" y="217"/>
                    </a:lnTo>
                    <a:lnTo>
                      <a:pt x="115" y="242"/>
                    </a:lnTo>
                    <a:lnTo>
                      <a:pt x="148" y="267"/>
                    </a:lnTo>
                    <a:lnTo>
                      <a:pt x="164" y="280"/>
                    </a:lnTo>
                    <a:lnTo>
                      <a:pt x="179" y="291"/>
                    </a:lnTo>
                    <a:lnTo>
                      <a:pt x="193" y="303"/>
                    </a:lnTo>
                    <a:lnTo>
                      <a:pt x="205" y="314"/>
                    </a:lnTo>
                    <a:lnTo>
                      <a:pt x="216" y="325"/>
                    </a:lnTo>
                    <a:lnTo>
                      <a:pt x="224" y="336"/>
                    </a:lnTo>
                    <a:lnTo>
                      <a:pt x="229" y="346"/>
                    </a:lnTo>
                    <a:lnTo>
                      <a:pt x="234" y="355"/>
                    </a:lnTo>
                    <a:lnTo>
                      <a:pt x="235" y="357"/>
                    </a:lnTo>
                    <a:lnTo>
                      <a:pt x="235" y="361"/>
                    </a:lnTo>
                    <a:lnTo>
                      <a:pt x="236" y="364"/>
                    </a:lnTo>
                    <a:lnTo>
                      <a:pt x="236" y="368"/>
                    </a:lnTo>
                    <a:lnTo>
                      <a:pt x="235" y="371"/>
                    </a:lnTo>
                    <a:lnTo>
                      <a:pt x="235" y="373"/>
                    </a:lnTo>
                    <a:lnTo>
                      <a:pt x="233" y="378"/>
                    </a:lnTo>
                    <a:lnTo>
                      <a:pt x="232" y="381"/>
                    </a:lnTo>
                    <a:lnTo>
                      <a:pt x="228" y="386"/>
                    </a:lnTo>
                    <a:lnTo>
                      <a:pt x="225" y="392"/>
                    </a:lnTo>
                    <a:lnTo>
                      <a:pt x="220" y="397"/>
                    </a:lnTo>
                    <a:lnTo>
                      <a:pt x="214" y="403"/>
                    </a:lnTo>
                    <a:lnTo>
                      <a:pt x="208" y="409"/>
                    </a:lnTo>
                    <a:lnTo>
                      <a:pt x="200" y="416"/>
                    </a:lnTo>
                    <a:lnTo>
                      <a:pt x="191" y="422"/>
                    </a:lnTo>
                    <a:lnTo>
                      <a:pt x="179" y="429"/>
                    </a:lnTo>
                    <a:lnTo>
                      <a:pt x="189" y="425"/>
                    </a:lnTo>
                    <a:lnTo>
                      <a:pt x="179" y="429"/>
                    </a:lnTo>
                    <a:lnTo>
                      <a:pt x="173" y="434"/>
                    </a:lnTo>
                    <a:lnTo>
                      <a:pt x="169" y="440"/>
                    </a:lnTo>
                    <a:lnTo>
                      <a:pt x="165" y="445"/>
                    </a:lnTo>
                    <a:lnTo>
                      <a:pt x="164" y="452"/>
                    </a:lnTo>
                    <a:lnTo>
                      <a:pt x="163" y="458"/>
                    </a:lnTo>
                    <a:lnTo>
                      <a:pt x="164" y="465"/>
                    </a:lnTo>
                    <a:lnTo>
                      <a:pt x="167" y="470"/>
                    </a:lnTo>
                    <a:lnTo>
                      <a:pt x="170" y="476"/>
                    </a:lnTo>
                    <a:lnTo>
                      <a:pt x="173" y="481"/>
                    </a:lnTo>
                    <a:lnTo>
                      <a:pt x="178" y="485"/>
                    </a:lnTo>
                    <a:lnTo>
                      <a:pt x="184" y="489"/>
                    </a:lnTo>
                    <a:lnTo>
                      <a:pt x="189" y="491"/>
                    </a:lnTo>
                    <a:lnTo>
                      <a:pt x="195" y="492"/>
                    </a:lnTo>
                    <a:lnTo>
                      <a:pt x="202" y="492"/>
                    </a:lnTo>
                    <a:lnTo>
                      <a:pt x="209" y="490"/>
                    </a:lnTo>
                    <a:lnTo>
                      <a:pt x="216" y="486"/>
                    </a:lnTo>
                    <a:lnTo>
                      <a:pt x="207" y="49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3503520" y="5033880"/>
                <a:ext cx="190440" cy="55800"/>
              </a:xfrm>
              <a:custGeom>
                <a:avLst/>
                <a:gdLst/>
                <a:ahLst/>
                <a:rect l="l" t="t" r="r" b="b"/>
                <a:pathLst>
                  <a:path w="602" h="178">
                    <a:moveTo>
                      <a:pt x="19" y="65"/>
                    </a:moveTo>
                    <a:lnTo>
                      <a:pt x="21" y="65"/>
                    </a:lnTo>
                    <a:lnTo>
                      <a:pt x="83" y="89"/>
                    </a:lnTo>
                    <a:lnTo>
                      <a:pt x="146" y="114"/>
                    </a:lnTo>
                    <a:lnTo>
                      <a:pt x="177" y="125"/>
                    </a:lnTo>
                    <a:lnTo>
                      <a:pt x="210" y="136"/>
                    </a:lnTo>
                    <a:lnTo>
                      <a:pt x="244" y="148"/>
                    </a:lnTo>
                    <a:lnTo>
                      <a:pt x="279" y="157"/>
                    </a:lnTo>
                    <a:lnTo>
                      <a:pt x="314" y="165"/>
                    </a:lnTo>
                    <a:lnTo>
                      <a:pt x="351" y="172"/>
                    </a:lnTo>
                    <a:lnTo>
                      <a:pt x="370" y="174"/>
                    </a:lnTo>
                    <a:lnTo>
                      <a:pt x="389" y="175"/>
                    </a:lnTo>
                    <a:lnTo>
                      <a:pt x="409" y="176"/>
                    </a:lnTo>
                    <a:lnTo>
                      <a:pt x="428" y="178"/>
                    </a:lnTo>
                    <a:lnTo>
                      <a:pt x="449" y="178"/>
                    </a:lnTo>
                    <a:lnTo>
                      <a:pt x="469" y="176"/>
                    </a:lnTo>
                    <a:lnTo>
                      <a:pt x="491" y="175"/>
                    </a:lnTo>
                    <a:lnTo>
                      <a:pt x="511" y="173"/>
                    </a:lnTo>
                    <a:lnTo>
                      <a:pt x="533" y="170"/>
                    </a:lnTo>
                    <a:lnTo>
                      <a:pt x="556" y="166"/>
                    </a:lnTo>
                    <a:lnTo>
                      <a:pt x="579" y="162"/>
                    </a:lnTo>
                    <a:lnTo>
                      <a:pt x="602" y="156"/>
                    </a:lnTo>
                    <a:lnTo>
                      <a:pt x="584" y="90"/>
                    </a:lnTo>
                    <a:lnTo>
                      <a:pt x="564" y="95"/>
                    </a:lnTo>
                    <a:lnTo>
                      <a:pt x="543" y="100"/>
                    </a:lnTo>
                    <a:lnTo>
                      <a:pt x="523" y="103"/>
                    </a:lnTo>
                    <a:lnTo>
                      <a:pt x="503" y="106"/>
                    </a:lnTo>
                    <a:lnTo>
                      <a:pt x="484" y="108"/>
                    </a:lnTo>
                    <a:lnTo>
                      <a:pt x="466" y="109"/>
                    </a:lnTo>
                    <a:lnTo>
                      <a:pt x="448" y="110"/>
                    </a:lnTo>
                    <a:lnTo>
                      <a:pt x="429" y="110"/>
                    </a:lnTo>
                    <a:lnTo>
                      <a:pt x="411" y="109"/>
                    </a:lnTo>
                    <a:lnTo>
                      <a:pt x="394" y="108"/>
                    </a:lnTo>
                    <a:lnTo>
                      <a:pt x="377" y="107"/>
                    </a:lnTo>
                    <a:lnTo>
                      <a:pt x="361" y="105"/>
                    </a:lnTo>
                    <a:lnTo>
                      <a:pt x="327" y="99"/>
                    </a:lnTo>
                    <a:lnTo>
                      <a:pt x="295" y="92"/>
                    </a:lnTo>
                    <a:lnTo>
                      <a:pt x="263" y="83"/>
                    </a:lnTo>
                    <a:lnTo>
                      <a:pt x="232" y="73"/>
                    </a:lnTo>
                    <a:lnTo>
                      <a:pt x="200" y="62"/>
                    </a:lnTo>
                    <a:lnTo>
                      <a:pt x="169" y="51"/>
                    </a:lnTo>
                    <a:lnTo>
                      <a:pt x="108" y="26"/>
                    </a:lnTo>
                    <a:lnTo>
                      <a:pt x="45" y="2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18" y="3"/>
                    </a:lnTo>
                    <a:lnTo>
                      <a:pt x="12" y="6"/>
                    </a:lnTo>
                    <a:lnTo>
                      <a:pt x="8" y="11"/>
                    </a:lnTo>
                    <a:lnTo>
                      <a:pt x="4" y="17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9" y="58"/>
                    </a:lnTo>
                    <a:lnTo>
                      <a:pt x="14" y="62"/>
                    </a:lnTo>
                    <a:lnTo>
                      <a:pt x="21" y="65"/>
                    </a:lnTo>
                    <a:lnTo>
                      <a:pt x="19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3241800" y="4335480"/>
                <a:ext cx="276120" cy="719280"/>
              </a:xfrm>
              <a:custGeom>
                <a:avLst/>
                <a:gdLst/>
                <a:ahLst/>
                <a:rect l="l" t="t" r="r" b="b"/>
                <a:pathLst>
                  <a:path w="870" h="2263">
                    <a:moveTo>
                      <a:pt x="62" y="8"/>
                    </a:moveTo>
                    <a:lnTo>
                      <a:pt x="7" y="33"/>
                    </a:lnTo>
                    <a:lnTo>
                      <a:pt x="4" y="136"/>
                    </a:lnTo>
                    <a:lnTo>
                      <a:pt x="1" y="236"/>
                    </a:lnTo>
                    <a:lnTo>
                      <a:pt x="0" y="334"/>
                    </a:lnTo>
                    <a:lnTo>
                      <a:pt x="0" y="430"/>
                    </a:lnTo>
                    <a:lnTo>
                      <a:pt x="0" y="525"/>
                    </a:lnTo>
                    <a:lnTo>
                      <a:pt x="2" y="617"/>
                    </a:lnTo>
                    <a:lnTo>
                      <a:pt x="5" y="708"/>
                    </a:lnTo>
                    <a:lnTo>
                      <a:pt x="11" y="795"/>
                    </a:lnTo>
                    <a:lnTo>
                      <a:pt x="17" y="881"/>
                    </a:lnTo>
                    <a:lnTo>
                      <a:pt x="25" y="965"/>
                    </a:lnTo>
                    <a:lnTo>
                      <a:pt x="35" y="1046"/>
                    </a:lnTo>
                    <a:lnTo>
                      <a:pt x="47" y="1126"/>
                    </a:lnTo>
                    <a:lnTo>
                      <a:pt x="54" y="1166"/>
                    </a:lnTo>
                    <a:lnTo>
                      <a:pt x="61" y="1204"/>
                    </a:lnTo>
                    <a:lnTo>
                      <a:pt x="69" y="1243"/>
                    </a:lnTo>
                    <a:lnTo>
                      <a:pt x="77" y="1280"/>
                    </a:lnTo>
                    <a:lnTo>
                      <a:pt x="86" y="1317"/>
                    </a:lnTo>
                    <a:lnTo>
                      <a:pt x="95" y="1353"/>
                    </a:lnTo>
                    <a:lnTo>
                      <a:pt x="106" y="1389"/>
                    </a:lnTo>
                    <a:lnTo>
                      <a:pt x="116" y="1424"/>
                    </a:lnTo>
                    <a:lnTo>
                      <a:pt x="127" y="1459"/>
                    </a:lnTo>
                    <a:lnTo>
                      <a:pt x="139" y="1494"/>
                    </a:lnTo>
                    <a:lnTo>
                      <a:pt x="151" y="1528"/>
                    </a:lnTo>
                    <a:lnTo>
                      <a:pt x="165" y="1561"/>
                    </a:lnTo>
                    <a:lnTo>
                      <a:pt x="178" y="1594"/>
                    </a:lnTo>
                    <a:lnTo>
                      <a:pt x="192" y="1626"/>
                    </a:lnTo>
                    <a:lnTo>
                      <a:pt x="208" y="1658"/>
                    </a:lnTo>
                    <a:lnTo>
                      <a:pt x="224" y="1689"/>
                    </a:lnTo>
                    <a:lnTo>
                      <a:pt x="240" y="1720"/>
                    </a:lnTo>
                    <a:lnTo>
                      <a:pt x="257" y="1749"/>
                    </a:lnTo>
                    <a:lnTo>
                      <a:pt x="275" y="1779"/>
                    </a:lnTo>
                    <a:lnTo>
                      <a:pt x="294" y="1807"/>
                    </a:lnTo>
                    <a:lnTo>
                      <a:pt x="313" y="1836"/>
                    </a:lnTo>
                    <a:lnTo>
                      <a:pt x="334" y="1863"/>
                    </a:lnTo>
                    <a:lnTo>
                      <a:pt x="355" y="1891"/>
                    </a:lnTo>
                    <a:lnTo>
                      <a:pt x="377" y="1917"/>
                    </a:lnTo>
                    <a:lnTo>
                      <a:pt x="400" y="1943"/>
                    </a:lnTo>
                    <a:lnTo>
                      <a:pt x="422" y="1968"/>
                    </a:lnTo>
                    <a:lnTo>
                      <a:pt x="448" y="1993"/>
                    </a:lnTo>
                    <a:lnTo>
                      <a:pt x="473" y="2017"/>
                    </a:lnTo>
                    <a:lnTo>
                      <a:pt x="498" y="2041"/>
                    </a:lnTo>
                    <a:lnTo>
                      <a:pt x="525" y="2064"/>
                    </a:lnTo>
                    <a:lnTo>
                      <a:pt x="552" y="2087"/>
                    </a:lnTo>
                    <a:lnTo>
                      <a:pt x="581" y="2109"/>
                    </a:lnTo>
                    <a:lnTo>
                      <a:pt x="611" y="2130"/>
                    </a:lnTo>
                    <a:lnTo>
                      <a:pt x="641" y="2151"/>
                    </a:lnTo>
                    <a:lnTo>
                      <a:pt x="672" y="2171"/>
                    </a:lnTo>
                    <a:lnTo>
                      <a:pt x="704" y="2191"/>
                    </a:lnTo>
                    <a:lnTo>
                      <a:pt x="737" y="2209"/>
                    </a:lnTo>
                    <a:lnTo>
                      <a:pt x="771" y="2227"/>
                    </a:lnTo>
                    <a:lnTo>
                      <a:pt x="807" y="2245"/>
                    </a:lnTo>
                    <a:lnTo>
                      <a:pt x="842" y="2263"/>
                    </a:lnTo>
                    <a:lnTo>
                      <a:pt x="870" y="2201"/>
                    </a:lnTo>
                    <a:lnTo>
                      <a:pt x="836" y="2185"/>
                    </a:lnTo>
                    <a:lnTo>
                      <a:pt x="802" y="2168"/>
                    </a:lnTo>
                    <a:lnTo>
                      <a:pt x="770" y="2150"/>
                    </a:lnTo>
                    <a:lnTo>
                      <a:pt x="738" y="2133"/>
                    </a:lnTo>
                    <a:lnTo>
                      <a:pt x="707" y="2113"/>
                    </a:lnTo>
                    <a:lnTo>
                      <a:pt x="678" y="2095"/>
                    </a:lnTo>
                    <a:lnTo>
                      <a:pt x="649" y="2075"/>
                    </a:lnTo>
                    <a:lnTo>
                      <a:pt x="621" y="2055"/>
                    </a:lnTo>
                    <a:lnTo>
                      <a:pt x="595" y="2034"/>
                    </a:lnTo>
                    <a:lnTo>
                      <a:pt x="568" y="2013"/>
                    </a:lnTo>
                    <a:lnTo>
                      <a:pt x="542" y="1991"/>
                    </a:lnTo>
                    <a:lnTo>
                      <a:pt x="518" y="1968"/>
                    </a:lnTo>
                    <a:lnTo>
                      <a:pt x="494" y="1945"/>
                    </a:lnTo>
                    <a:lnTo>
                      <a:pt x="471" y="1923"/>
                    </a:lnTo>
                    <a:lnTo>
                      <a:pt x="450" y="1899"/>
                    </a:lnTo>
                    <a:lnTo>
                      <a:pt x="428" y="1874"/>
                    </a:lnTo>
                    <a:lnTo>
                      <a:pt x="408" y="1848"/>
                    </a:lnTo>
                    <a:lnTo>
                      <a:pt x="387" y="1823"/>
                    </a:lnTo>
                    <a:lnTo>
                      <a:pt x="368" y="1797"/>
                    </a:lnTo>
                    <a:lnTo>
                      <a:pt x="349" y="1770"/>
                    </a:lnTo>
                    <a:lnTo>
                      <a:pt x="332" y="1742"/>
                    </a:lnTo>
                    <a:lnTo>
                      <a:pt x="315" y="1715"/>
                    </a:lnTo>
                    <a:lnTo>
                      <a:pt x="299" y="1686"/>
                    </a:lnTo>
                    <a:lnTo>
                      <a:pt x="283" y="1657"/>
                    </a:lnTo>
                    <a:lnTo>
                      <a:pt x="269" y="1627"/>
                    </a:lnTo>
                    <a:lnTo>
                      <a:pt x="254" y="1597"/>
                    </a:lnTo>
                    <a:lnTo>
                      <a:pt x="240" y="1567"/>
                    </a:lnTo>
                    <a:lnTo>
                      <a:pt x="226" y="1536"/>
                    </a:lnTo>
                    <a:lnTo>
                      <a:pt x="214" y="1504"/>
                    </a:lnTo>
                    <a:lnTo>
                      <a:pt x="202" y="1471"/>
                    </a:lnTo>
                    <a:lnTo>
                      <a:pt x="191" y="1438"/>
                    </a:lnTo>
                    <a:lnTo>
                      <a:pt x="181" y="1405"/>
                    </a:lnTo>
                    <a:lnTo>
                      <a:pt x="171" y="1370"/>
                    </a:lnTo>
                    <a:lnTo>
                      <a:pt x="160" y="1336"/>
                    </a:lnTo>
                    <a:lnTo>
                      <a:pt x="151" y="1301"/>
                    </a:lnTo>
                    <a:lnTo>
                      <a:pt x="143" y="1264"/>
                    </a:lnTo>
                    <a:lnTo>
                      <a:pt x="135" y="1228"/>
                    </a:lnTo>
                    <a:lnTo>
                      <a:pt x="127" y="1191"/>
                    </a:lnTo>
                    <a:lnTo>
                      <a:pt x="120" y="1154"/>
                    </a:lnTo>
                    <a:lnTo>
                      <a:pt x="114" y="1116"/>
                    </a:lnTo>
                    <a:lnTo>
                      <a:pt x="102" y="1038"/>
                    </a:lnTo>
                    <a:lnTo>
                      <a:pt x="92" y="957"/>
                    </a:lnTo>
                    <a:lnTo>
                      <a:pt x="84" y="875"/>
                    </a:lnTo>
                    <a:lnTo>
                      <a:pt x="78" y="791"/>
                    </a:lnTo>
                    <a:lnTo>
                      <a:pt x="72" y="704"/>
                    </a:lnTo>
                    <a:lnTo>
                      <a:pt x="69" y="615"/>
                    </a:lnTo>
                    <a:lnTo>
                      <a:pt x="67" y="524"/>
                    </a:lnTo>
                    <a:lnTo>
                      <a:pt x="67" y="430"/>
                    </a:lnTo>
                    <a:lnTo>
                      <a:pt x="67" y="334"/>
                    </a:lnTo>
                    <a:lnTo>
                      <a:pt x="68" y="238"/>
                    </a:lnTo>
                    <a:lnTo>
                      <a:pt x="71" y="137"/>
                    </a:lnTo>
                    <a:lnTo>
                      <a:pt x="75" y="36"/>
                    </a:lnTo>
                    <a:lnTo>
                      <a:pt x="19" y="60"/>
                    </a:lnTo>
                    <a:lnTo>
                      <a:pt x="75" y="36"/>
                    </a:lnTo>
                    <a:lnTo>
                      <a:pt x="74" y="28"/>
                    </a:lnTo>
                    <a:lnTo>
                      <a:pt x="72" y="21"/>
                    </a:lnTo>
                    <a:lnTo>
                      <a:pt x="69" y="15"/>
                    </a:lnTo>
                    <a:lnTo>
                      <a:pt x="64" y="10"/>
                    </a:lnTo>
                    <a:lnTo>
                      <a:pt x="60" y="6"/>
                    </a:lnTo>
                    <a:lnTo>
                      <a:pt x="54" y="4"/>
                    </a:lnTo>
                    <a:lnTo>
                      <a:pt x="49" y="1"/>
                    </a:lnTo>
                    <a:lnTo>
                      <a:pt x="42" y="0"/>
                    </a:lnTo>
                    <a:lnTo>
                      <a:pt x="36" y="1"/>
                    </a:lnTo>
                    <a:lnTo>
                      <a:pt x="29" y="2"/>
                    </a:lnTo>
                    <a:lnTo>
                      <a:pt x="23" y="5"/>
                    </a:lnTo>
                    <a:lnTo>
                      <a:pt x="19" y="8"/>
                    </a:lnTo>
                    <a:lnTo>
                      <a:pt x="14" y="13"/>
                    </a:lnTo>
                    <a:lnTo>
                      <a:pt x="11" y="18"/>
                    </a:lnTo>
                    <a:lnTo>
                      <a:pt x="9" y="25"/>
                    </a:lnTo>
                    <a:lnTo>
                      <a:pt x="7" y="33"/>
                    </a:lnTo>
                    <a:lnTo>
                      <a:pt x="62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3247920" y="4305240"/>
                <a:ext cx="147600" cy="69840"/>
              </a:xfrm>
              <a:custGeom>
                <a:avLst/>
                <a:gdLst/>
                <a:ahLst/>
                <a:rect l="l" t="t" r="r" b="b"/>
                <a:pathLst>
                  <a:path w="466" h="218">
                    <a:moveTo>
                      <a:pt x="465" y="30"/>
                    </a:moveTo>
                    <a:lnTo>
                      <a:pt x="421" y="2"/>
                    </a:lnTo>
                    <a:lnTo>
                      <a:pt x="406" y="7"/>
                    </a:lnTo>
                    <a:lnTo>
                      <a:pt x="390" y="14"/>
                    </a:lnTo>
                    <a:lnTo>
                      <a:pt x="376" y="22"/>
                    </a:lnTo>
                    <a:lnTo>
                      <a:pt x="361" y="30"/>
                    </a:lnTo>
                    <a:lnTo>
                      <a:pt x="335" y="46"/>
                    </a:lnTo>
                    <a:lnTo>
                      <a:pt x="309" y="63"/>
                    </a:lnTo>
                    <a:lnTo>
                      <a:pt x="285" y="81"/>
                    </a:lnTo>
                    <a:lnTo>
                      <a:pt x="262" y="98"/>
                    </a:lnTo>
                    <a:lnTo>
                      <a:pt x="239" y="113"/>
                    </a:lnTo>
                    <a:lnTo>
                      <a:pt x="218" y="127"/>
                    </a:lnTo>
                    <a:lnTo>
                      <a:pt x="207" y="133"/>
                    </a:lnTo>
                    <a:lnTo>
                      <a:pt x="197" y="138"/>
                    </a:lnTo>
                    <a:lnTo>
                      <a:pt x="187" y="142"/>
                    </a:lnTo>
                    <a:lnTo>
                      <a:pt x="178" y="145"/>
                    </a:lnTo>
                    <a:lnTo>
                      <a:pt x="167" y="149"/>
                    </a:lnTo>
                    <a:lnTo>
                      <a:pt x="158" y="150"/>
                    </a:lnTo>
                    <a:lnTo>
                      <a:pt x="148" y="151"/>
                    </a:lnTo>
                    <a:lnTo>
                      <a:pt x="139" y="151"/>
                    </a:lnTo>
                    <a:lnTo>
                      <a:pt x="129" y="150"/>
                    </a:lnTo>
                    <a:lnTo>
                      <a:pt x="118" y="148"/>
                    </a:lnTo>
                    <a:lnTo>
                      <a:pt x="108" y="144"/>
                    </a:lnTo>
                    <a:lnTo>
                      <a:pt x="97" y="140"/>
                    </a:lnTo>
                    <a:lnTo>
                      <a:pt x="84" y="134"/>
                    </a:lnTo>
                    <a:lnTo>
                      <a:pt x="72" y="126"/>
                    </a:lnTo>
                    <a:lnTo>
                      <a:pt x="58" y="117"/>
                    </a:lnTo>
                    <a:lnTo>
                      <a:pt x="43" y="104"/>
                    </a:lnTo>
                    <a:lnTo>
                      <a:pt x="0" y="156"/>
                    </a:lnTo>
                    <a:lnTo>
                      <a:pt x="17" y="170"/>
                    </a:lnTo>
                    <a:lnTo>
                      <a:pt x="34" y="182"/>
                    </a:lnTo>
                    <a:lnTo>
                      <a:pt x="51" y="193"/>
                    </a:lnTo>
                    <a:lnTo>
                      <a:pt x="68" y="201"/>
                    </a:lnTo>
                    <a:lnTo>
                      <a:pt x="85" y="208"/>
                    </a:lnTo>
                    <a:lnTo>
                      <a:pt x="102" y="214"/>
                    </a:lnTo>
                    <a:lnTo>
                      <a:pt x="118" y="217"/>
                    </a:lnTo>
                    <a:lnTo>
                      <a:pt x="136" y="218"/>
                    </a:lnTo>
                    <a:lnTo>
                      <a:pt x="152" y="218"/>
                    </a:lnTo>
                    <a:lnTo>
                      <a:pt x="167" y="217"/>
                    </a:lnTo>
                    <a:lnTo>
                      <a:pt x="182" y="214"/>
                    </a:lnTo>
                    <a:lnTo>
                      <a:pt x="197" y="210"/>
                    </a:lnTo>
                    <a:lnTo>
                      <a:pt x="212" y="206"/>
                    </a:lnTo>
                    <a:lnTo>
                      <a:pt x="226" y="199"/>
                    </a:lnTo>
                    <a:lnTo>
                      <a:pt x="238" y="193"/>
                    </a:lnTo>
                    <a:lnTo>
                      <a:pt x="252" y="185"/>
                    </a:lnTo>
                    <a:lnTo>
                      <a:pt x="277" y="170"/>
                    </a:lnTo>
                    <a:lnTo>
                      <a:pt x="301" y="153"/>
                    </a:lnTo>
                    <a:lnTo>
                      <a:pt x="325" y="136"/>
                    </a:lnTo>
                    <a:lnTo>
                      <a:pt x="349" y="119"/>
                    </a:lnTo>
                    <a:lnTo>
                      <a:pt x="372" y="102"/>
                    </a:lnTo>
                    <a:lnTo>
                      <a:pt x="395" y="87"/>
                    </a:lnTo>
                    <a:lnTo>
                      <a:pt x="407" y="81"/>
                    </a:lnTo>
                    <a:lnTo>
                      <a:pt x="418" y="76"/>
                    </a:lnTo>
                    <a:lnTo>
                      <a:pt x="431" y="70"/>
                    </a:lnTo>
                    <a:lnTo>
                      <a:pt x="442" y="65"/>
                    </a:lnTo>
                    <a:lnTo>
                      <a:pt x="399" y="37"/>
                    </a:lnTo>
                    <a:lnTo>
                      <a:pt x="442" y="65"/>
                    </a:lnTo>
                    <a:lnTo>
                      <a:pt x="450" y="63"/>
                    </a:lnTo>
                    <a:lnTo>
                      <a:pt x="456" y="59"/>
                    </a:lnTo>
                    <a:lnTo>
                      <a:pt x="460" y="53"/>
                    </a:lnTo>
                    <a:lnTo>
                      <a:pt x="463" y="47"/>
                    </a:lnTo>
                    <a:lnTo>
                      <a:pt x="465" y="41"/>
                    </a:lnTo>
                    <a:lnTo>
                      <a:pt x="466" y="36"/>
                    </a:lnTo>
                    <a:lnTo>
                      <a:pt x="465" y="29"/>
                    </a:lnTo>
                    <a:lnTo>
                      <a:pt x="464" y="23"/>
                    </a:lnTo>
                    <a:lnTo>
                      <a:pt x="462" y="17"/>
                    </a:lnTo>
                    <a:lnTo>
                      <a:pt x="458" y="12"/>
                    </a:lnTo>
                    <a:lnTo>
                      <a:pt x="454" y="7"/>
                    </a:lnTo>
                    <a:lnTo>
                      <a:pt x="448" y="4"/>
                    </a:lnTo>
                    <a:lnTo>
                      <a:pt x="442" y="2"/>
                    </a:lnTo>
                    <a:lnTo>
                      <a:pt x="435" y="0"/>
                    </a:lnTo>
                    <a:lnTo>
                      <a:pt x="429" y="0"/>
                    </a:lnTo>
                    <a:lnTo>
                      <a:pt x="421" y="2"/>
                    </a:lnTo>
                    <a:lnTo>
                      <a:pt x="465" y="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2911320" y="4451400"/>
                <a:ext cx="720720" cy="903240"/>
              </a:xfrm>
              <a:custGeom>
                <a:avLst/>
                <a:gdLst/>
                <a:ahLst/>
                <a:rect l="l" t="t" r="r" b="b"/>
                <a:pathLst>
                  <a:path w="2269" h="2848">
                    <a:moveTo>
                      <a:pt x="479" y="0"/>
                    </a:moveTo>
                    <a:lnTo>
                      <a:pt x="492" y="108"/>
                    </a:lnTo>
                    <a:lnTo>
                      <a:pt x="510" y="211"/>
                    </a:lnTo>
                    <a:lnTo>
                      <a:pt x="530" y="310"/>
                    </a:lnTo>
                    <a:lnTo>
                      <a:pt x="554" y="404"/>
                    </a:lnTo>
                    <a:lnTo>
                      <a:pt x="581" y="493"/>
                    </a:lnTo>
                    <a:lnTo>
                      <a:pt x="611" y="577"/>
                    </a:lnTo>
                    <a:lnTo>
                      <a:pt x="644" y="658"/>
                    </a:lnTo>
                    <a:lnTo>
                      <a:pt x="681" y="735"/>
                    </a:lnTo>
                    <a:lnTo>
                      <a:pt x="720" y="807"/>
                    </a:lnTo>
                    <a:lnTo>
                      <a:pt x="761" y="874"/>
                    </a:lnTo>
                    <a:lnTo>
                      <a:pt x="806" y="939"/>
                    </a:lnTo>
                    <a:lnTo>
                      <a:pt x="854" y="999"/>
                    </a:lnTo>
                    <a:lnTo>
                      <a:pt x="903" y="1055"/>
                    </a:lnTo>
                    <a:lnTo>
                      <a:pt x="954" y="1109"/>
                    </a:lnTo>
                    <a:lnTo>
                      <a:pt x="1009" y="1158"/>
                    </a:lnTo>
                    <a:lnTo>
                      <a:pt x="1065" y="1205"/>
                    </a:lnTo>
                    <a:lnTo>
                      <a:pt x="1123" y="1248"/>
                    </a:lnTo>
                    <a:lnTo>
                      <a:pt x="1182" y="1288"/>
                    </a:lnTo>
                    <a:lnTo>
                      <a:pt x="1244" y="1326"/>
                    </a:lnTo>
                    <a:lnTo>
                      <a:pt x="1308" y="1360"/>
                    </a:lnTo>
                    <a:lnTo>
                      <a:pt x="1371" y="1391"/>
                    </a:lnTo>
                    <a:lnTo>
                      <a:pt x="1438" y="1419"/>
                    </a:lnTo>
                    <a:lnTo>
                      <a:pt x="1506" y="1446"/>
                    </a:lnTo>
                    <a:lnTo>
                      <a:pt x="1574" y="1469"/>
                    </a:lnTo>
                    <a:lnTo>
                      <a:pt x="1644" y="1491"/>
                    </a:lnTo>
                    <a:lnTo>
                      <a:pt x="1715" y="1511"/>
                    </a:lnTo>
                    <a:lnTo>
                      <a:pt x="1786" y="1528"/>
                    </a:lnTo>
                    <a:lnTo>
                      <a:pt x="1858" y="1542"/>
                    </a:lnTo>
                    <a:lnTo>
                      <a:pt x="1931" y="1556"/>
                    </a:lnTo>
                    <a:lnTo>
                      <a:pt x="2005" y="1568"/>
                    </a:lnTo>
                    <a:lnTo>
                      <a:pt x="2079" y="1578"/>
                    </a:lnTo>
                    <a:lnTo>
                      <a:pt x="2153" y="1586"/>
                    </a:lnTo>
                    <a:lnTo>
                      <a:pt x="2164" y="1596"/>
                    </a:lnTo>
                    <a:lnTo>
                      <a:pt x="2173" y="1606"/>
                    </a:lnTo>
                    <a:lnTo>
                      <a:pt x="2182" y="1618"/>
                    </a:lnTo>
                    <a:lnTo>
                      <a:pt x="2190" y="1630"/>
                    </a:lnTo>
                    <a:lnTo>
                      <a:pt x="2197" y="1643"/>
                    </a:lnTo>
                    <a:lnTo>
                      <a:pt x="2202" y="1657"/>
                    </a:lnTo>
                    <a:lnTo>
                      <a:pt x="2208" y="1670"/>
                    </a:lnTo>
                    <a:lnTo>
                      <a:pt x="2212" y="1685"/>
                    </a:lnTo>
                    <a:lnTo>
                      <a:pt x="2214" y="1700"/>
                    </a:lnTo>
                    <a:lnTo>
                      <a:pt x="2216" y="1714"/>
                    </a:lnTo>
                    <a:lnTo>
                      <a:pt x="2216" y="1728"/>
                    </a:lnTo>
                    <a:lnTo>
                      <a:pt x="2215" y="1743"/>
                    </a:lnTo>
                    <a:lnTo>
                      <a:pt x="2213" y="1758"/>
                    </a:lnTo>
                    <a:lnTo>
                      <a:pt x="2209" y="1772"/>
                    </a:lnTo>
                    <a:lnTo>
                      <a:pt x="2204" y="1785"/>
                    </a:lnTo>
                    <a:lnTo>
                      <a:pt x="2197" y="1799"/>
                    </a:lnTo>
                    <a:lnTo>
                      <a:pt x="2189" y="1812"/>
                    </a:lnTo>
                    <a:lnTo>
                      <a:pt x="2179" y="1824"/>
                    </a:lnTo>
                    <a:lnTo>
                      <a:pt x="2166" y="1836"/>
                    </a:lnTo>
                    <a:lnTo>
                      <a:pt x="2152" y="1846"/>
                    </a:lnTo>
                    <a:lnTo>
                      <a:pt x="2136" y="1856"/>
                    </a:lnTo>
                    <a:lnTo>
                      <a:pt x="2119" y="1864"/>
                    </a:lnTo>
                    <a:lnTo>
                      <a:pt x="2100" y="1872"/>
                    </a:lnTo>
                    <a:lnTo>
                      <a:pt x="2078" y="1878"/>
                    </a:lnTo>
                    <a:lnTo>
                      <a:pt x="2055" y="1882"/>
                    </a:lnTo>
                    <a:lnTo>
                      <a:pt x="2029" y="1886"/>
                    </a:lnTo>
                    <a:lnTo>
                      <a:pt x="2002" y="1888"/>
                    </a:lnTo>
                    <a:lnTo>
                      <a:pt x="1972" y="1888"/>
                    </a:lnTo>
                    <a:lnTo>
                      <a:pt x="1939" y="1887"/>
                    </a:lnTo>
                    <a:lnTo>
                      <a:pt x="1905" y="1884"/>
                    </a:lnTo>
                    <a:lnTo>
                      <a:pt x="1867" y="1878"/>
                    </a:lnTo>
                    <a:lnTo>
                      <a:pt x="1827" y="1871"/>
                    </a:lnTo>
                    <a:lnTo>
                      <a:pt x="1826" y="1887"/>
                    </a:lnTo>
                    <a:lnTo>
                      <a:pt x="1829" y="1902"/>
                    </a:lnTo>
                    <a:lnTo>
                      <a:pt x="1834" y="1916"/>
                    </a:lnTo>
                    <a:lnTo>
                      <a:pt x="1842" y="1928"/>
                    </a:lnTo>
                    <a:lnTo>
                      <a:pt x="1854" y="1940"/>
                    </a:lnTo>
                    <a:lnTo>
                      <a:pt x="1866" y="1951"/>
                    </a:lnTo>
                    <a:lnTo>
                      <a:pt x="1882" y="1962"/>
                    </a:lnTo>
                    <a:lnTo>
                      <a:pt x="1899" y="1971"/>
                    </a:lnTo>
                    <a:lnTo>
                      <a:pt x="1917" y="1982"/>
                    </a:lnTo>
                    <a:lnTo>
                      <a:pt x="1938" y="1991"/>
                    </a:lnTo>
                    <a:lnTo>
                      <a:pt x="1958" y="1999"/>
                    </a:lnTo>
                    <a:lnTo>
                      <a:pt x="1981" y="2008"/>
                    </a:lnTo>
                    <a:lnTo>
                      <a:pt x="2027" y="2024"/>
                    </a:lnTo>
                    <a:lnTo>
                      <a:pt x="2075" y="2041"/>
                    </a:lnTo>
                    <a:lnTo>
                      <a:pt x="2120" y="2057"/>
                    </a:lnTo>
                    <a:lnTo>
                      <a:pt x="2164" y="2075"/>
                    </a:lnTo>
                    <a:lnTo>
                      <a:pt x="2183" y="2086"/>
                    </a:lnTo>
                    <a:lnTo>
                      <a:pt x="2201" y="2096"/>
                    </a:lnTo>
                    <a:lnTo>
                      <a:pt x="2218" y="2106"/>
                    </a:lnTo>
                    <a:lnTo>
                      <a:pt x="2233" y="2117"/>
                    </a:lnTo>
                    <a:lnTo>
                      <a:pt x="2245" y="2130"/>
                    </a:lnTo>
                    <a:lnTo>
                      <a:pt x="2255" y="2143"/>
                    </a:lnTo>
                    <a:lnTo>
                      <a:pt x="2263" y="2156"/>
                    </a:lnTo>
                    <a:lnTo>
                      <a:pt x="2267" y="2171"/>
                    </a:lnTo>
                    <a:lnTo>
                      <a:pt x="2269" y="2187"/>
                    </a:lnTo>
                    <a:lnTo>
                      <a:pt x="2267" y="2204"/>
                    </a:lnTo>
                    <a:lnTo>
                      <a:pt x="2262" y="2224"/>
                    </a:lnTo>
                    <a:lnTo>
                      <a:pt x="2253" y="2243"/>
                    </a:lnTo>
                    <a:lnTo>
                      <a:pt x="2243" y="2266"/>
                    </a:lnTo>
                    <a:lnTo>
                      <a:pt x="2232" y="2286"/>
                    </a:lnTo>
                    <a:lnTo>
                      <a:pt x="2220" y="2303"/>
                    </a:lnTo>
                    <a:lnTo>
                      <a:pt x="2205" y="2318"/>
                    </a:lnTo>
                    <a:lnTo>
                      <a:pt x="2189" y="2331"/>
                    </a:lnTo>
                    <a:lnTo>
                      <a:pt x="2172" y="2341"/>
                    </a:lnTo>
                    <a:lnTo>
                      <a:pt x="2152" y="2348"/>
                    </a:lnTo>
                    <a:lnTo>
                      <a:pt x="2133" y="2354"/>
                    </a:lnTo>
                    <a:lnTo>
                      <a:pt x="2112" y="2358"/>
                    </a:lnTo>
                    <a:lnTo>
                      <a:pt x="2091" y="2360"/>
                    </a:lnTo>
                    <a:lnTo>
                      <a:pt x="2069" y="2360"/>
                    </a:lnTo>
                    <a:lnTo>
                      <a:pt x="2046" y="2360"/>
                    </a:lnTo>
                    <a:lnTo>
                      <a:pt x="2023" y="2358"/>
                    </a:lnTo>
                    <a:lnTo>
                      <a:pt x="2001" y="2356"/>
                    </a:lnTo>
                    <a:lnTo>
                      <a:pt x="1978" y="2353"/>
                    </a:lnTo>
                    <a:lnTo>
                      <a:pt x="1955" y="2348"/>
                    </a:lnTo>
                    <a:lnTo>
                      <a:pt x="1870" y="2329"/>
                    </a:lnTo>
                    <a:lnTo>
                      <a:pt x="1800" y="2313"/>
                    </a:lnTo>
                    <a:lnTo>
                      <a:pt x="1785" y="2310"/>
                    </a:lnTo>
                    <a:lnTo>
                      <a:pt x="1774" y="2310"/>
                    </a:lnTo>
                    <a:lnTo>
                      <a:pt x="1764" y="2310"/>
                    </a:lnTo>
                    <a:lnTo>
                      <a:pt x="1754" y="2311"/>
                    </a:lnTo>
                    <a:lnTo>
                      <a:pt x="1749" y="2315"/>
                    </a:lnTo>
                    <a:lnTo>
                      <a:pt x="1745" y="2321"/>
                    </a:lnTo>
                    <a:lnTo>
                      <a:pt x="1744" y="2327"/>
                    </a:lnTo>
                    <a:lnTo>
                      <a:pt x="1745" y="2337"/>
                    </a:lnTo>
                    <a:lnTo>
                      <a:pt x="1730" y="2355"/>
                    </a:lnTo>
                    <a:lnTo>
                      <a:pt x="1720" y="2372"/>
                    </a:lnTo>
                    <a:lnTo>
                      <a:pt x="1713" y="2389"/>
                    </a:lnTo>
                    <a:lnTo>
                      <a:pt x="1711" y="2405"/>
                    </a:lnTo>
                    <a:lnTo>
                      <a:pt x="1712" y="2421"/>
                    </a:lnTo>
                    <a:lnTo>
                      <a:pt x="1717" y="2437"/>
                    </a:lnTo>
                    <a:lnTo>
                      <a:pt x="1725" y="2452"/>
                    </a:lnTo>
                    <a:lnTo>
                      <a:pt x="1734" y="2467"/>
                    </a:lnTo>
                    <a:lnTo>
                      <a:pt x="1746" y="2481"/>
                    </a:lnTo>
                    <a:lnTo>
                      <a:pt x="1761" y="2496"/>
                    </a:lnTo>
                    <a:lnTo>
                      <a:pt x="1776" y="2511"/>
                    </a:lnTo>
                    <a:lnTo>
                      <a:pt x="1793" y="2525"/>
                    </a:lnTo>
                    <a:lnTo>
                      <a:pt x="1831" y="2553"/>
                    </a:lnTo>
                    <a:lnTo>
                      <a:pt x="1868" y="2581"/>
                    </a:lnTo>
                    <a:lnTo>
                      <a:pt x="1887" y="2594"/>
                    </a:lnTo>
                    <a:lnTo>
                      <a:pt x="1905" y="2609"/>
                    </a:lnTo>
                    <a:lnTo>
                      <a:pt x="1922" y="2623"/>
                    </a:lnTo>
                    <a:lnTo>
                      <a:pt x="1937" y="2637"/>
                    </a:lnTo>
                    <a:lnTo>
                      <a:pt x="1952" y="2651"/>
                    </a:lnTo>
                    <a:lnTo>
                      <a:pt x="1963" y="2665"/>
                    </a:lnTo>
                    <a:lnTo>
                      <a:pt x="1973" y="2680"/>
                    </a:lnTo>
                    <a:lnTo>
                      <a:pt x="1980" y="2695"/>
                    </a:lnTo>
                    <a:lnTo>
                      <a:pt x="1984" y="2710"/>
                    </a:lnTo>
                    <a:lnTo>
                      <a:pt x="1985" y="2726"/>
                    </a:lnTo>
                    <a:lnTo>
                      <a:pt x="1982" y="2740"/>
                    </a:lnTo>
                    <a:lnTo>
                      <a:pt x="1976" y="2756"/>
                    </a:lnTo>
                    <a:lnTo>
                      <a:pt x="1964" y="2773"/>
                    </a:lnTo>
                    <a:lnTo>
                      <a:pt x="1948" y="2789"/>
                    </a:lnTo>
                    <a:lnTo>
                      <a:pt x="1928" y="2807"/>
                    </a:lnTo>
                    <a:lnTo>
                      <a:pt x="1903" y="2825"/>
                    </a:lnTo>
                    <a:lnTo>
                      <a:pt x="1876" y="2831"/>
                    </a:lnTo>
                    <a:lnTo>
                      <a:pt x="1851" y="2836"/>
                    </a:lnTo>
                    <a:lnTo>
                      <a:pt x="1827" y="2840"/>
                    </a:lnTo>
                    <a:lnTo>
                      <a:pt x="1803" y="2843"/>
                    </a:lnTo>
                    <a:lnTo>
                      <a:pt x="1780" y="2845"/>
                    </a:lnTo>
                    <a:lnTo>
                      <a:pt x="1757" y="2848"/>
                    </a:lnTo>
                    <a:lnTo>
                      <a:pt x="1734" y="2848"/>
                    </a:lnTo>
                    <a:lnTo>
                      <a:pt x="1712" y="2848"/>
                    </a:lnTo>
                    <a:lnTo>
                      <a:pt x="1691" y="2848"/>
                    </a:lnTo>
                    <a:lnTo>
                      <a:pt x="1669" y="2847"/>
                    </a:lnTo>
                    <a:lnTo>
                      <a:pt x="1647" y="2844"/>
                    </a:lnTo>
                    <a:lnTo>
                      <a:pt x="1627" y="2842"/>
                    </a:lnTo>
                    <a:lnTo>
                      <a:pt x="1587" y="2835"/>
                    </a:lnTo>
                    <a:lnTo>
                      <a:pt x="1547" y="2827"/>
                    </a:lnTo>
                    <a:lnTo>
                      <a:pt x="1508" y="2817"/>
                    </a:lnTo>
                    <a:lnTo>
                      <a:pt x="1471" y="2805"/>
                    </a:lnTo>
                    <a:lnTo>
                      <a:pt x="1434" y="2793"/>
                    </a:lnTo>
                    <a:lnTo>
                      <a:pt x="1398" y="2779"/>
                    </a:lnTo>
                    <a:lnTo>
                      <a:pt x="1326" y="2752"/>
                    </a:lnTo>
                    <a:lnTo>
                      <a:pt x="1254" y="2726"/>
                    </a:lnTo>
                    <a:lnTo>
                      <a:pt x="1172" y="2687"/>
                    </a:lnTo>
                    <a:lnTo>
                      <a:pt x="1093" y="2645"/>
                    </a:lnTo>
                    <a:lnTo>
                      <a:pt x="1018" y="2600"/>
                    </a:lnTo>
                    <a:lnTo>
                      <a:pt x="944" y="2551"/>
                    </a:lnTo>
                    <a:lnTo>
                      <a:pt x="873" y="2499"/>
                    </a:lnTo>
                    <a:lnTo>
                      <a:pt x="806" y="2444"/>
                    </a:lnTo>
                    <a:lnTo>
                      <a:pt x="741" y="2386"/>
                    </a:lnTo>
                    <a:lnTo>
                      <a:pt x="679" y="2324"/>
                    </a:lnTo>
                    <a:lnTo>
                      <a:pt x="619" y="2260"/>
                    </a:lnTo>
                    <a:lnTo>
                      <a:pt x="563" y="2193"/>
                    </a:lnTo>
                    <a:lnTo>
                      <a:pt x="508" y="2123"/>
                    </a:lnTo>
                    <a:lnTo>
                      <a:pt x="457" y="2050"/>
                    </a:lnTo>
                    <a:lnTo>
                      <a:pt x="408" y="1975"/>
                    </a:lnTo>
                    <a:lnTo>
                      <a:pt x="362" y="1897"/>
                    </a:lnTo>
                    <a:lnTo>
                      <a:pt x="320" y="1816"/>
                    </a:lnTo>
                    <a:lnTo>
                      <a:pt x="279" y="1733"/>
                    </a:lnTo>
                    <a:lnTo>
                      <a:pt x="242" y="1647"/>
                    </a:lnTo>
                    <a:lnTo>
                      <a:pt x="206" y="1558"/>
                    </a:lnTo>
                    <a:lnTo>
                      <a:pt x="174" y="1468"/>
                    </a:lnTo>
                    <a:lnTo>
                      <a:pt x="145" y="1376"/>
                    </a:lnTo>
                    <a:lnTo>
                      <a:pt x="119" y="1280"/>
                    </a:lnTo>
                    <a:lnTo>
                      <a:pt x="95" y="1183"/>
                    </a:lnTo>
                    <a:lnTo>
                      <a:pt x="73" y="1084"/>
                    </a:lnTo>
                    <a:lnTo>
                      <a:pt x="55" y="982"/>
                    </a:lnTo>
                    <a:lnTo>
                      <a:pt x="39" y="880"/>
                    </a:lnTo>
                    <a:lnTo>
                      <a:pt x="25" y="774"/>
                    </a:lnTo>
                    <a:lnTo>
                      <a:pt x="15" y="667"/>
                    </a:lnTo>
                    <a:lnTo>
                      <a:pt x="8" y="558"/>
                    </a:lnTo>
                    <a:lnTo>
                      <a:pt x="2" y="447"/>
                    </a:lnTo>
                    <a:lnTo>
                      <a:pt x="0" y="335"/>
                    </a:lnTo>
                    <a:lnTo>
                      <a:pt x="1" y="221"/>
                    </a:lnTo>
                    <a:lnTo>
                      <a:pt x="3" y="106"/>
                    </a:lnTo>
                    <a:lnTo>
                      <a:pt x="22" y="121"/>
                    </a:lnTo>
                    <a:lnTo>
                      <a:pt x="40" y="133"/>
                    </a:lnTo>
                    <a:lnTo>
                      <a:pt x="57" y="144"/>
                    </a:lnTo>
                    <a:lnTo>
                      <a:pt x="74" y="152"/>
                    </a:lnTo>
                    <a:lnTo>
                      <a:pt x="90" y="159"/>
                    </a:lnTo>
                    <a:lnTo>
                      <a:pt x="106" y="163"/>
                    </a:lnTo>
                    <a:lnTo>
                      <a:pt x="122" y="167"/>
                    </a:lnTo>
                    <a:lnTo>
                      <a:pt x="137" y="168"/>
                    </a:lnTo>
                    <a:lnTo>
                      <a:pt x="152" y="168"/>
                    </a:lnTo>
                    <a:lnTo>
                      <a:pt x="166" y="167"/>
                    </a:lnTo>
                    <a:lnTo>
                      <a:pt x="181" y="164"/>
                    </a:lnTo>
                    <a:lnTo>
                      <a:pt x="195" y="161"/>
                    </a:lnTo>
                    <a:lnTo>
                      <a:pt x="210" y="156"/>
                    </a:lnTo>
                    <a:lnTo>
                      <a:pt x="223" y="151"/>
                    </a:lnTo>
                    <a:lnTo>
                      <a:pt x="237" y="144"/>
                    </a:lnTo>
                    <a:lnTo>
                      <a:pt x="251" y="136"/>
                    </a:lnTo>
                    <a:lnTo>
                      <a:pt x="277" y="120"/>
                    </a:lnTo>
                    <a:lnTo>
                      <a:pt x="304" y="102"/>
                    </a:lnTo>
                    <a:lnTo>
                      <a:pt x="332" y="82"/>
                    </a:lnTo>
                    <a:lnTo>
                      <a:pt x="359" y="63"/>
                    </a:lnTo>
                    <a:lnTo>
                      <a:pt x="388" y="43"/>
                    </a:lnTo>
                    <a:lnTo>
                      <a:pt x="417" y="26"/>
                    </a:lnTo>
                    <a:lnTo>
                      <a:pt x="432" y="18"/>
                    </a:lnTo>
                    <a:lnTo>
                      <a:pt x="447" y="11"/>
                    </a:lnTo>
                    <a:lnTo>
                      <a:pt x="463" y="6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3054240" y="4449600"/>
                <a:ext cx="552600" cy="516240"/>
              </a:xfrm>
              <a:custGeom>
                <a:avLst/>
                <a:gdLst/>
                <a:ahLst/>
                <a:rect l="l" t="t" r="r" b="b"/>
                <a:pathLst>
                  <a:path w="1740" h="1623">
                    <a:moveTo>
                      <a:pt x="1729" y="1564"/>
                    </a:moveTo>
                    <a:lnTo>
                      <a:pt x="1711" y="1556"/>
                    </a:lnTo>
                    <a:lnTo>
                      <a:pt x="1637" y="1547"/>
                    </a:lnTo>
                    <a:lnTo>
                      <a:pt x="1564" y="1537"/>
                    </a:lnTo>
                    <a:lnTo>
                      <a:pt x="1491" y="1526"/>
                    </a:lnTo>
                    <a:lnTo>
                      <a:pt x="1419" y="1512"/>
                    </a:lnTo>
                    <a:lnTo>
                      <a:pt x="1347" y="1498"/>
                    </a:lnTo>
                    <a:lnTo>
                      <a:pt x="1277" y="1480"/>
                    </a:lnTo>
                    <a:lnTo>
                      <a:pt x="1242" y="1471"/>
                    </a:lnTo>
                    <a:lnTo>
                      <a:pt x="1207" y="1462"/>
                    </a:lnTo>
                    <a:lnTo>
                      <a:pt x="1173" y="1452"/>
                    </a:lnTo>
                    <a:lnTo>
                      <a:pt x="1139" y="1441"/>
                    </a:lnTo>
                    <a:lnTo>
                      <a:pt x="1104" y="1429"/>
                    </a:lnTo>
                    <a:lnTo>
                      <a:pt x="1071" y="1418"/>
                    </a:lnTo>
                    <a:lnTo>
                      <a:pt x="1038" y="1405"/>
                    </a:lnTo>
                    <a:lnTo>
                      <a:pt x="1005" y="1391"/>
                    </a:lnTo>
                    <a:lnTo>
                      <a:pt x="972" y="1378"/>
                    </a:lnTo>
                    <a:lnTo>
                      <a:pt x="940" y="1363"/>
                    </a:lnTo>
                    <a:lnTo>
                      <a:pt x="908" y="1348"/>
                    </a:lnTo>
                    <a:lnTo>
                      <a:pt x="876" y="1332"/>
                    </a:lnTo>
                    <a:lnTo>
                      <a:pt x="846" y="1316"/>
                    </a:lnTo>
                    <a:lnTo>
                      <a:pt x="815" y="1299"/>
                    </a:lnTo>
                    <a:lnTo>
                      <a:pt x="784" y="1281"/>
                    </a:lnTo>
                    <a:lnTo>
                      <a:pt x="754" y="1263"/>
                    </a:lnTo>
                    <a:lnTo>
                      <a:pt x="725" y="1243"/>
                    </a:lnTo>
                    <a:lnTo>
                      <a:pt x="696" y="1224"/>
                    </a:lnTo>
                    <a:lnTo>
                      <a:pt x="668" y="1203"/>
                    </a:lnTo>
                    <a:lnTo>
                      <a:pt x="639" y="1182"/>
                    </a:lnTo>
                    <a:lnTo>
                      <a:pt x="612" y="1159"/>
                    </a:lnTo>
                    <a:lnTo>
                      <a:pt x="585" y="1136"/>
                    </a:lnTo>
                    <a:lnTo>
                      <a:pt x="558" y="1112"/>
                    </a:lnTo>
                    <a:lnTo>
                      <a:pt x="532" y="1088"/>
                    </a:lnTo>
                    <a:lnTo>
                      <a:pt x="507" y="1062"/>
                    </a:lnTo>
                    <a:lnTo>
                      <a:pt x="482" y="1036"/>
                    </a:lnTo>
                    <a:lnTo>
                      <a:pt x="457" y="1008"/>
                    </a:lnTo>
                    <a:lnTo>
                      <a:pt x="434" y="981"/>
                    </a:lnTo>
                    <a:lnTo>
                      <a:pt x="410" y="951"/>
                    </a:lnTo>
                    <a:lnTo>
                      <a:pt x="387" y="921"/>
                    </a:lnTo>
                    <a:lnTo>
                      <a:pt x="366" y="891"/>
                    </a:lnTo>
                    <a:lnTo>
                      <a:pt x="344" y="859"/>
                    </a:lnTo>
                    <a:lnTo>
                      <a:pt x="323" y="826"/>
                    </a:lnTo>
                    <a:lnTo>
                      <a:pt x="303" y="792"/>
                    </a:lnTo>
                    <a:lnTo>
                      <a:pt x="284" y="757"/>
                    </a:lnTo>
                    <a:lnTo>
                      <a:pt x="265" y="722"/>
                    </a:lnTo>
                    <a:lnTo>
                      <a:pt x="247" y="685"/>
                    </a:lnTo>
                    <a:lnTo>
                      <a:pt x="229" y="648"/>
                    </a:lnTo>
                    <a:lnTo>
                      <a:pt x="213" y="609"/>
                    </a:lnTo>
                    <a:lnTo>
                      <a:pt x="197" y="569"/>
                    </a:lnTo>
                    <a:lnTo>
                      <a:pt x="181" y="528"/>
                    </a:lnTo>
                    <a:lnTo>
                      <a:pt x="167" y="486"/>
                    </a:lnTo>
                    <a:lnTo>
                      <a:pt x="154" y="442"/>
                    </a:lnTo>
                    <a:lnTo>
                      <a:pt x="140" y="398"/>
                    </a:lnTo>
                    <a:lnTo>
                      <a:pt x="129" y="352"/>
                    </a:lnTo>
                    <a:lnTo>
                      <a:pt x="117" y="305"/>
                    </a:lnTo>
                    <a:lnTo>
                      <a:pt x="106" y="257"/>
                    </a:lnTo>
                    <a:lnTo>
                      <a:pt x="97" y="208"/>
                    </a:lnTo>
                    <a:lnTo>
                      <a:pt x="87" y="158"/>
                    </a:lnTo>
                    <a:lnTo>
                      <a:pt x="80" y="107"/>
                    </a:lnTo>
                    <a:lnTo>
                      <a:pt x="73" y="53"/>
                    </a:lnTo>
                    <a:lnTo>
                      <a:pt x="67" y="0"/>
                    </a:lnTo>
                    <a:lnTo>
                      <a:pt x="0" y="6"/>
                    </a:lnTo>
                    <a:lnTo>
                      <a:pt x="5" y="61"/>
                    </a:lnTo>
                    <a:lnTo>
                      <a:pt x="13" y="116"/>
                    </a:lnTo>
                    <a:lnTo>
                      <a:pt x="21" y="168"/>
                    </a:lnTo>
                    <a:lnTo>
                      <a:pt x="30" y="221"/>
                    </a:lnTo>
                    <a:lnTo>
                      <a:pt x="41" y="271"/>
                    </a:lnTo>
                    <a:lnTo>
                      <a:pt x="51" y="320"/>
                    </a:lnTo>
                    <a:lnTo>
                      <a:pt x="62" y="368"/>
                    </a:lnTo>
                    <a:lnTo>
                      <a:pt x="75" y="416"/>
                    </a:lnTo>
                    <a:lnTo>
                      <a:pt x="89" y="462"/>
                    </a:lnTo>
                    <a:lnTo>
                      <a:pt x="102" y="506"/>
                    </a:lnTo>
                    <a:lnTo>
                      <a:pt x="118" y="551"/>
                    </a:lnTo>
                    <a:lnTo>
                      <a:pt x="134" y="593"/>
                    </a:lnTo>
                    <a:lnTo>
                      <a:pt x="150" y="634"/>
                    </a:lnTo>
                    <a:lnTo>
                      <a:pt x="167" y="675"/>
                    </a:lnTo>
                    <a:lnTo>
                      <a:pt x="186" y="714"/>
                    </a:lnTo>
                    <a:lnTo>
                      <a:pt x="205" y="753"/>
                    </a:lnTo>
                    <a:lnTo>
                      <a:pt x="224" y="790"/>
                    </a:lnTo>
                    <a:lnTo>
                      <a:pt x="245" y="827"/>
                    </a:lnTo>
                    <a:lnTo>
                      <a:pt x="265" y="861"/>
                    </a:lnTo>
                    <a:lnTo>
                      <a:pt x="288" y="896"/>
                    </a:lnTo>
                    <a:lnTo>
                      <a:pt x="310" y="929"/>
                    </a:lnTo>
                    <a:lnTo>
                      <a:pt x="334" y="961"/>
                    </a:lnTo>
                    <a:lnTo>
                      <a:pt x="358" y="993"/>
                    </a:lnTo>
                    <a:lnTo>
                      <a:pt x="382" y="1023"/>
                    </a:lnTo>
                    <a:lnTo>
                      <a:pt x="407" y="1053"/>
                    </a:lnTo>
                    <a:lnTo>
                      <a:pt x="432" y="1081"/>
                    </a:lnTo>
                    <a:lnTo>
                      <a:pt x="458" y="1110"/>
                    </a:lnTo>
                    <a:lnTo>
                      <a:pt x="485" y="1136"/>
                    </a:lnTo>
                    <a:lnTo>
                      <a:pt x="513" y="1162"/>
                    </a:lnTo>
                    <a:lnTo>
                      <a:pt x="540" y="1187"/>
                    </a:lnTo>
                    <a:lnTo>
                      <a:pt x="569" y="1211"/>
                    </a:lnTo>
                    <a:lnTo>
                      <a:pt x="598" y="1234"/>
                    </a:lnTo>
                    <a:lnTo>
                      <a:pt x="627" y="1257"/>
                    </a:lnTo>
                    <a:lnTo>
                      <a:pt x="657" y="1279"/>
                    </a:lnTo>
                    <a:lnTo>
                      <a:pt x="687" y="1299"/>
                    </a:lnTo>
                    <a:lnTo>
                      <a:pt x="718" y="1320"/>
                    </a:lnTo>
                    <a:lnTo>
                      <a:pt x="750" y="1339"/>
                    </a:lnTo>
                    <a:lnTo>
                      <a:pt x="782" y="1357"/>
                    </a:lnTo>
                    <a:lnTo>
                      <a:pt x="814" y="1375"/>
                    </a:lnTo>
                    <a:lnTo>
                      <a:pt x="846" y="1393"/>
                    </a:lnTo>
                    <a:lnTo>
                      <a:pt x="879" y="1409"/>
                    </a:lnTo>
                    <a:lnTo>
                      <a:pt x="912" y="1425"/>
                    </a:lnTo>
                    <a:lnTo>
                      <a:pt x="945" y="1439"/>
                    </a:lnTo>
                    <a:lnTo>
                      <a:pt x="979" y="1454"/>
                    </a:lnTo>
                    <a:lnTo>
                      <a:pt x="1013" y="1468"/>
                    </a:lnTo>
                    <a:lnTo>
                      <a:pt x="1047" y="1480"/>
                    </a:lnTo>
                    <a:lnTo>
                      <a:pt x="1083" y="1493"/>
                    </a:lnTo>
                    <a:lnTo>
                      <a:pt x="1118" y="1504"/>
                    </a:lnTo>
                    <a:lnTo>
                      <a:pt x="1153" y="1516"/>
                    </a:lnTo>
                    <a:lnTo>
                      <a:pt x="1189" y="1526"/>
                    </a:lnTo>
                    <a:lnTo>
                      <a:pt x="1224" y="1536"/>
                    </a:lnTo>
                    <a:lnTo>
                      <a:pt x="1261" y="1547"/>
                    </a:lnTo>
                    <a:lnTo>
                      <a:pt x="1332" y="1564"/>
                    </a:lnTo>
                    <a:lnTo>
                      <a:pt x="1406" y="1579"/>
                    </a:lnTo>
                    <a:lnTo>
                      <a:pt x="1479" y="1592"/>
                    </a:lnTo>
                    <a:lnTo>
                      <a:pt x="1555" y="1604"/>
                    </a:lnTo>
                    <a:lnTo>
                      <a:pt x="1629" y="1614"/>
                    </a:lnTo>
                    <a:lnTo>
                      <a:pt x="1704" y="1623"/>
                    </a:lnTo>
                    <a:lnTo>
                      <a:pt x="1685" y="1614"/>
                    </a:lnTo>
                    <a:lnTo>
                      <a:pt x="1704" y="1623"/>
                    </a:lnTo>
                    <a:lnTo>
                      <a:pt x="1712" y="1623"/>
                    </a:lnTo>
                    <a:lnTo>
                      <a:pt x="1719" y="1621"/>
                    </a:lnTo>
                    <a:lnTo>
                      <a:pt x="1725" y="1619"/>
                    </a:lnTo>
                    <a:lnTo>
                      <a:pt x="1730" y="1615"/>
                    </a:lnTo>
                    <a:lnTo>
                      <a:pt x="1734" y="1611"/>
                    </a:lnTo>
                    <a:lnTo>
                      <a:pt x="1737" y="1605"/>
                    </a:lnTo>
                    <a:lnTo>
                      <a:pt x="1739" y="1599"/>
                    </a:lnTo>
                    <a:lnTo>
                      <a:pt x="1740" y="1592"/>
                    </a:lnTo>
                    <a:lnTo>
                      <a:pt x="1740" y="1587"/>
                    </a:lnTo>
                    <a:lnTo>
                      <a:pt x="1739" y="1580"/>
                    </a:lnTo>
                    <a:lnTo>
                      <a:pt x="1738" y="1574"/>
                    </a:lnTo>
                    <a:lnTo>
                      <a:pt x="1735" y="1568"/>
                    </a:lnTo>
                    <a:lnTo>
                      <a:pt x="1730" y="1564"/>
                    </a:lnTo>
                    <a:lnTo>
                      <a:pt x="1725" y="1560"/>
                    </a:lnTo>
                    <a:lnTo>
                      <a:pt x="1719" y="1557"/>
                    </a:lnTo>
                    <a:lnTo>
                      <a:pt x="1711" y="1556"/>
                    </a:lnTo>
                    <a:lnTo>
                      <a:pt x="1729" y="15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3481560" y="4946760"/>
                <a:ext cx="144360" cy="114120"/>
              </a:xfrm>
              <a:custGeom>
                <a:avLst/>
                <a:gdLst/>
                <a:ahLst/>
                <a:rect l="l" t="t" r="r" b="b"/>
                <a:pathLst>
                  <a:path w="456" h="361">
                    <a:moveTo>
                      <a:pt x="66" y="316"/>
                    </a:moveTo>
                    <a:lnTo>
                      <a:pt x="27" y="343"/>
                    </a:lnTo>
                    <a:lnTo>
                      <a:pt x="68" y="350"/>
                    </a:lnTo>
                    <a:lnTo>
                      <a:pt x="106" y="356"/>
                    </a:lnTo>
                    <a:lnTo>
                      <a:pt x="143" y="359"/>
                    </a:lnTo>
                    <a:lnTo>
                      <a:pt x="177" y="361"/>
                    </a:lnTo>
                    <a:lnTo>
                      <a:pt x="209" y="360"/>
                    </a:lnTo>
                    <a:lnTo>
                      <a:pt x="239" y="359"/>
                    </a:lnTo>
                    <a:lnTo>
                      <a:pt x="267" y="356"/>
                    </a:lnTo>
                    <a:lnTo>
                      <a:pt x="292" y="350"/>
                    </a:lnTo>
                    <a:lnTo>
                      <a:pt x="316" y="343"/>
                    </a:lnTo>
                    <a:lnTo>
                      <a:pt x="339" y="334"/>
                    </a:lnTo>
                    <a:lnTo>
                      <a:pt x="359" y="325"/>
                    </a:lnTo>
                    <a:lnTo>
                      <a:pt x="378" y="312"/>
                    </a:lnTo>
                    <a:lnTo>
                      <a:pt x="394" y="300"/>
                    </a:lnTo>
                    <a:lnTo>
                      <a:pt x="408" y="286"/>
                    </a:lnTo>
                    <a:lnTo>
                      <a:pt x="421" y="271"/>
                    </a:lnTo>
                    <a:lnTo>
                      <a:pt x="431" y="255"/>
                    </a:lnTo>
                    <a:lnTo>
                      <a:pt x="440" y="238"/>
                    </a:lnTo>
                    <a:lnTo>
                      <a:pt x="447" y="221"/>
                    </a:lnTo>
                    <a:lnTo>
                      <a:pt x="452" y="204"/>
                    </a:lnTo>
                    <a:lnTo>
                      <a:pt x="455" y="186"/>
                    </a:lnTo>
                    <a:lnTo>
                      <a:pt x="456" y="169"/>
                    </a:lnTo>
                    <a:lnTo>
                      <a:pt x="455" y="151"/>
                    </a:lnTo>
                    <a:lnTo>
                      <a:pt x="454" y="133"/>
                    </a:lnTo>
                    <a:lnTo>
                      <a:pt x="451" y="116"/>
                    </a:lnTo>
                    <a:lnTo>
                      <a:pt x="446" y="99"/>
                    </a:lnTo>
                    <a:lnTo>
                      <a:pt x="440" y="83"/>
                    </a:lnTo>
                    <a:lnTo>
                      <a:pt x="432" y="67"/>
                    </a:lnTo>
                    <a:lnTo>
                      <a:pt x="424" y="52"/>
                    </a:lnTo>
                    <a:lnTo>
                      <a:pt x="415" y="37"/>
                    </a:lnTo>
                    <a:lnTo>
                      <a:pt x="405" y="24"/>
                    </a:lnTo>
                    <a:lnTo>
                      <a:pt x="394" y="11"/>
                    </a:lnTo>
                    <a:lnTo>
                      <a:pt x="381" y="0"/>
                    </a:lnTo>
                    <a:lnTo>
                      <a:pt x="337" y="50"/>
                    </a:lnTo>
                    <a:lnTo>
                      <a:pt x="346" y="58"/>
                    </a:lnTo>
                    <a:lnTo>
                      <a:pt x="353" y="67"/>
                    </a:lnTo>
                    <a:lnTo>
                      <a:pt x="361" y="76"/>
                    </a:lnTo>
                    <a:lnTo>
                      <a:pt x="366" y="86"/>
                    </a:lnTo>
                    <a:lnTo>
                      <a:pt x="372" y="97"/>
                    </a:lnTo>
                    <a:lnTo>
                      <a:pt x="378" y="108"/>
                    </a:lnTo>
                    <a:lnTo>
                      <a:pt x="381" y="120"/>
                    </a:lnTo>
                    <a:lnTo>
                      <a:pt x="385" y="131"/>
                    </a:lnTo>
                    <a:lnTo>
                      <a:pt x="387" y="143"/>
                    </a:lnTo>
                    <a:lnTo>
                      <a:pt x="388" y="155"/>
                    </a:lnTo>
                    <a:lnTo>
                      <a:pt x="388" y="167"/>
                    </a:lnTo>
                    <a:lnTo>
                      <a:pt x="388" y="179"/>
                    </a:lnTo>
                    <a:lnTo>
                      <a:pt x="386" y="189"/>
                    </a:lnTo>
                    <a:lnTo>
                      <a:pt x="383" y="201"/>
                    </a:lnTo>
                    <a:lnTo>
                      <a:pt x="379" y="211"/>
                    </a:lnTo>
                    <a:lnTo>
                      <a:pt x="374" y="221"/>
                    </a:lnTo>
                    <a:lnTo>
                      <a:pt x="367" y="231"/>
                    </a:lnTo>
                    <a:lnTo>
                      <a:pt x="359" y="240"/>
                    </a:lnTo>
                    <a:lnTo>
                      <a:pt x="350" y="248"/>
                    </a:lnTo>
                    <a:lnTo>
                      <a:pt x="339" y="258"/>
                    </a:lnTo>
                    <a:lnTo>
                      <a:pt x="326" y="266"/>
                    </a:lnTo>
                    <a:lnTo>
                      <a:pt x="312" y="272"/>
                    </a:lnTo>
                    <a:lnTo>
                      <a:pt x="296" y="279"/>
                    </a:lnTo>
                    <a:lnTo>
                      <a:pt x="276" y="284"/>
                    </a:lnTo>
                    <a:lnTo>
                      <a:pt x="256" y="288"/>
                    </a:lnTo>
                    <a:lnTo>
                      <a:pt x="232" y="292"/>
                    </a:lnTo>
                    <a:lnTo>
                      <a:pt x="207" y="293"/>
                    </a:lnTo>
                    <a:lnTo>
                      <a:pt x="178" y="294"/>
                    </a:lnTo>
                    <a:lnTo>
                      <a:pt x="147" y="292"/>
                    </a:lnTo>
                    <a:lnTo>
                      <a:pt x="114" y="290"/>
                    </a:lnTo>
                    <a:lnTo>
                      <a:pt x="79" y="284"/>
                    </a:lnTo>
                    <a:lnTo>
                      <a:pt x="40" y="277"/>
                    </a:lnTo>
                    <a:lnTo>
                      <a:pt x="0" y="304"/>
                    </a:lnTo>
                    <a:lnTo>
                      <a:pt x="40" y="277"/>
                    </a:lnTo>
                    <a:lnTo>
                      <a:pt x="32" y="276"/>
                    </a:lnTo>
                    <a:lnTo>
                      <a:pt x="25" y="277"/>
                    </a:lnTo>
                    <a:lnTo>
                      <a:pt x="19" y="279"/>
                    </a:lnTo>
                    <a:lnTo>
                      <a:pt x="14" y="283"/>
                    </a:lnTo>
                    <a:lnTo>
                      <a:pt x="8" y="286"/>
                    </a:lnTo>
                    <a:lnTo>
                      <a:pt x="5" y="292"/>
                    </a:lnTo>
                    <a:lnTo>
                      <a:pt x="3" y="298"/>
                    </a:lnTo>
                    <a:lnTo>
                      <a:pt x="0" y="303"/>
                    </a:lnTo>
                    <a:lnTo>
                      <a:pt x="0" y="310"/>
                    </a:lnTo>
                    <a:lnTo>
                      <a:pt x="0" y="316"/>
                    </a:lnTo>
                    <a:lnTo>
                      <a:pt x="1" y="321"/>
                    </a:lnTo>
                    <a:lnTo>
                      <a:pt x="4" y="327"/>
                    </a:lnTo>
                    <a:lnTo>
                      <a:pt x="8" y="333"/>
                    </a:lnTo>
                    <a:lnTo>
                      <a:pt x="13" y="337"/>
                    </a:lnTo>
                    <a:lnTo>
                      <a:pt x="20" y="341"/>
                    </a:lnTo>
                    <a:lnTo>
                      <a:pt x="27" y="343"/>
                    </a:lnTo>
                    <a:lnTo>
                      <a:pt x="66" y="3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3481560" y="5043600"/>
                <a:ext cx="161640" cy="129960"/>
              </a:xfrm>
              <a:custGeom>
                <a:avLst/>
                <a:gdLst/>
                <a:ahLst/>
                <a:rect l="l" t="t" r="r" b="b"/>
                <a:pathLst>
                  <a:path w="510" h="412">
                    <a:moveTo>
                      <a:pt x="492" y="388"/>
                    </a:moveTo>
                    <a:lnTo>
                      <a:pt x="489" y="394"/>
                    </a:lnTo>
                    <a:lnTo>
                      <a:pt x="495" y="383"/>
                    </a:lnTo>
                    <a:lnTo>
                      <a:pt x="500" y="370"/>
                    </a:lnTo>
                    <a:lnTo>
                      <a:pt x="504" y="359"/>
                    </a:lnTo>
                    <a:lnTo>
                      <a:pt x="507" y="346"/>
                    </a:lnTo>
                    <a:lnTo>
                      <a:pt x="509" y="335"/>
                    </a:lnTo>
                    <a:lnTo>
                      <a:pt x="510" y="323"/>
                    </a:lnTo>
                    <a:lnTo>
                      <a:pt x="509" y="312"/>
                    </a:lnTo>
                    <a:lnTo>
                      <a:pt x="507" y="300"/>
                    </a:lnTo>
                    <a:lnTo>
                      <a:pt x="504" y="289"/>
                    </a:lnTo>
                    <a:lnTo>
                      <a:pt x="501" y="279"/>
                    </a:lnTo>
                    <a:lnTo>
                      <a:pt x="496" y="268"/>
                    </a:lnTo>
                    <a:lnTo>
                      <a:pt x="489" y="258"/>
                    </a:lnTo>
                    <a:lnTo>
                      <a:pt x="477" y="242"/>
                    </a:lnTo>
                    <a:lnTo>
                      <a:pt x="462" y="227"/>
                    </a:lnTo>
                    <a:lnTo>
                      <a:pt x="445" y="214"/>
                    </a:lnTo>
                    <a:lnTo>
                      <a:pt x="425" y="201"/>
                    </a:lnTo>
                    <a:lnTo>
                      <a:pt x="405" y="190"/>
                    </a:lnTo>
                    <a:lnTo>
                      <a:pt x="383" y="179"/>
                    </a:lnTo>
                    <a:lnTo>
                      <a:pt x="340" y="161"/>
                    </a:lnTo>
                    <a:lnTo>
                      <a:pt x="293" y="144"/>
                    </a:lnTo>
                    <a:lnTo>
                      <a:pt x="245" y="127"/>
                    </a:lnTo>
                    <a:lnTo>
                      <a:pt x="200" y="111"/>
                    </a:lnTo>
                    <a:lnTo>
                      <a:pt x="178" y="103"/>
                    </a:lnTo>
                    <a:lnTo>
                      <a:pt x="158" y="94"/>
                    </a:lnTo>
                    <a:lnTo>
                      <a:pt x="139" y="86"/>
                    </a:lnTo>
                    <a:lnTo>
                      <a:pt x="122" y="77"/>
                    </a:lnTo>
                    <a:lnTo>
                      <a:pt x="106" y="69"/>
                    </a:lnTo>
                    <a:lnTo>
                      <a:pt x="94" y="59"/>
                    </a:lnTo>
                    <a:lnTo>
                      <a:pt x="88" y="55"/>
                    </a:lnTo>
                    <a:lnTo>
                      <a:pt x="83" y="51"/>
                    </a:lnTo>
                    <a:lnTo>
                      <a:pt x="80" y="47"/>
                    </a:lnTo>
                    <a:lnTo>
                      <a:pt x="77" y="43"/>
                    </a:lnTo>
                    <a:lnTo>
                      <a:pt x="73" y="38"/>
                    </a:lnTo>
                    <a:lnTo>
                      <a:pt x="71" y="35"/>
                    </a:lnTo>
                    <a:lnTo>
                      <a:pt x="70" y="31"/>
                    </a:lnTo>
                    <a:lnTo>
                      <a:pt x="69" y="28"/>
                    </a:lnTo>
                    <a:lnTo>
                      <a:pt x="67" y="24"/>
                    </a:lnTo>
                    <a:lnTo>
                      <a:pt x="67" y="20"/>
                    </a:lnTo>
                    <a:lnTo>
                      <a:pt x="67" y="16"/>
                    </a:lnTo>
                    <a:lnTo>
                      <a:pt x="67" y="12"/>
                    </a:lnTo>
                    <a:lnTo>
                      <a:pt x="1" y="0"/>
                    </a:lnTo>
                    <a:lnTo>
                      <a:pt x="0" y="12"/>
                    </a:lnTo>
                    <a:lnTo>
                      <a:pt x="0" y="23"/>
                    </a:lnTo>
                    <a:lnTo>
                      <a:pt x="1" y="35"/>
                    </a:lnTo>
                    <a:lnTo>
                      <a:pt x="4" y="45"/>
                    </a:lnTo>
                    <a:lnTo>
                      <a:pt x="7" y="55"/>
                    </a:lnTo>
                    <a:lnTo>
                      <a:pt x="12" y="65"/>
                    </a:lnTo>
                    <a:lnTo>
                      <a:pt x="16" y="75"/>
                    </a:lnTo>
                    <a:lnTo>
                      <a:pt x="23" y="84"/>
                    </a:lnTo>
                    <a:lnTo>
                      <a:pt x="30" y="92"/>
                    </a:lnTo>
                    <a:lnTo>
                      <a:pt x="37" y="100"/>
                    </a:lnTo>
                    <a:lnTo>
                      <a:pt x="45" y="106"/>
                    </a:lnTo>
                    <a:lnTo>
                      <a:pt x="54" y="113"/>
                    </a:lnTo>
                    <a:lnTo>
                      <a:pt x="71" y="125"/>
                    </a:lnTo>
                    <a:lnTo>
                      <a:pt x="89" y="136"/>
                    </a:lnTo>
                    <a:lnTo>
                      <a:pt x="110" y="146"/>
                    </a:lnTo>
                    <a:lnTo>
                      <a:pt x="131" y="157"/>
                    </a:lnTo>
                    <a:lnTo>
                      <a:pt x="153" y="166"/>
                    </a:lnTo>
                    <a:lnTo>
                      <a:pt x="177" y="175"/>
                    </a:lnTo>
                    <a:lnTo>
                      <a:pt x="222" y="191"/>
                    </a:lnTo>
                    <a:lnTo>
                      <a:pt x="270" y="207"/>
                    </a:lnTo>
                    <a:lnTo>
                      <a:pt x="315" y="224"/>
                    </a:lnTo>
                    <a:lnTo>
                      <a:pt x="357" y="241"/>
                    </a:lnTo>
                    <a:lnTo>
                      <a:pt x="374" y="250"/>
                    </a:lnTo>
                    <a:lnTo>
                      <a:pt x="391" y="259"/>
                    </a:lnTo>
                    <a:lnTo>
                      <a:pt x="406" y="268"/>
                    </a:lnTo>
                    <a:lnTo>
                      <a:pt x="417" y="278"/>
                    </a:lnTo>
                    <a:lnTo>
                      <a:pt x="428" y="287"/>
                    </a:lnTo>
                    <a:lnTo>
                      <a:pt x="435" y="297"/>
                    </a:lnTo>
                    <a:lnTo>
                      <a:pt x="437" y="300"/>
                    </a:lnTo>
                    <a:lnTo>
                      <a:pt x="439" y="305"/>
                    </a:lnTo>
                    <a:lnTo>
                      <a:pt x="440" y="310"/>
                    </a:lnTo>
                    <a:lnTo>
                      <a:pt x="441" y="313"/>
                    </a:lnTo>
                    <a:lnTo>
                      <a:pt x="441" y="318"/>
                    </a:lnTo>
                    <a:lnTo>
                      <a:pt x="443" y="322"/>
                    </a:lnTo>
                    <a:lnTo>
                      <a:pt x="441" y="328"/>
                    </a:lnTo>
                    <a:lnTo>
                      <a:pt x="441" y="333"/>
                    </a:lnTo>
                    <a:lnTo>
                      <a:pt x="439" y="339"/>
                    </a:lnTo>
                    <a:lnTo>
                      <a:pt x="437" y="346"/>
                    </a:lnTo>
                    <a:lnTo>
                      <a:pt x="433" y="354"/>
                    </a:lnTo>
                    <a:lnTo>
                      <a:pt x="430" y="361"/>
                    </a:lnTo>
                    <a:lnTo>
                      <a:pt x="428" y="368"/>
                    </a:lnTo>
                    <a:lnTo>
                      <a:pt x="430" y="361"/>
                    </a:lnTo>
                    <a:lnTo>
                      <a:pt x="427" y="369"/>
                    </a:lnTo>
                    <a:lnTo>
                      <a:pt x="425" y="376"/>
                    </a:lnTo>
                    <a:lnTo>
                      <a:pt x="425" y="383"/>
                    </a:lnTo>
                    <a:lnTo>
                      <a:pt x="427" y="388"/>
                    </a:lnTo>
                    <a:lnTo>
                      <a:pt x="429" y="394"/>
                    </a:lnTo>
                    <a:lnTo>
                      <a:pt x="433" y="400"/>
                    </a:lnTo>
                    <a:lnTo>
                      <a:pt x="438" y="404"/>
                    </a:lnTo>
                    <a:lnTo>
                      <a:pt x="443" y="408"/>
                    </a:lnTo>
                    <a:lnTo>
                      <a:pt x="448" y="410"/>
                    </a:lnTo>
                    <a:lnTo>
                      <a:pt x="455" y="411"/>
                    </a:lnTo>
                    <a:lnTo>
                      <a:pt x="461" y="412"/>
                    </a:lnTo>
                    <a:lnTo>
                      <a:pt x="468" y="411"/>
                    </a:lnTo>
                    <a:lnTo>
                      <a:pt x="473" y="409"/>
                    </a:lnTo>
                    <a:lnTo>
                      <a:pt x="479" y="405"/>
                    </a:lnTo>
                    <a:lnTo>
                      <a:pt x="485" y="401"/>
                    </a:lnTo>
                    <a:lnTo>
                      <a:pt x="489" y="394"/>
                    </a:lnTo>
                    <a:lnTo>
                      <a:pt x="492" y="3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3454560" y="5159520"/>
                <a:ext cx="182520" cy="52200"/>
              </a:xfrm>
              <a:custGeom>
                <a:avLst/>
                <a:gdLst/>
                <a:ahLst/>
                <a:rect l="l" t="t" r="r" b="b"/>
                <a:pathLst>
                  <a:path w="575" h="162">
                    <a:moveTo>
                      <a:pt x="59" y="127"/>
                    </a:moveTo>
                    <a:lnTo>
                      <a:pt x="68" y="94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7" y="96"/>
                    </a:lnTo>
                    <a:lnTo>
                      <a:pt x="67" y="100"/>
                    </a:lnTo>
                    <a:lnTo>
                      <a:pt x="64" y="104"/>
                    </a:lnTo>
                    <a:lnTo>
                      <a:pt x="60" y="108"/>
                    </a:lnTo>
                    <a:lnTo>
                      <a:pt x="58" y="110"/>
                    </a:lnTo>
                    <a:lnTo>
                      <a:pt x="54" y="112"/>
                    </a:lnTo>
                    <a:lnTo>
                      <a:pt x="57" y="110"/>
                    </a:lnTo>
                    <a:lnTo>
                      <a:pt x="63" y="110"/>
                    </a:lnTo>
                    <a:lnTo>
                      <a:pt x="72" y="112"/>
                    </a:lnTo>
                    <a:lnTo>
                      <a:pt x="83" y="113"/>
                    </a:lnTo>
                    <a:lnTo>
                      <a:pt x="153" y="129"/>
                    </a:lnTo>
                    <a:lnTo>
                      <a:pt x="238" y="148"/>
                    </a:lnTo>
                    <a:lnTo>
                      <a:pt x="262" y="153"/>
                    </a:lnTo>
                    <a:lnTo>
                      <a:pt x="286" y="156"/>
                    </a:lnTo>
                    <a:lnTo>
                      <a:pt x="310" y="158"/>
                    </a:lnTo>
                    <a:lnTo>
                      <a:pt x="335" y="161"/>
                    </a:lnTo>
                    <a:lnTo>
                      <a:pt x="359" y="162"/>
                    </a:lnTo>
                    <a:lnTo>
                      <a:pt x="383" y="161"/>
                    </a:lnTo>
                    <a:lnTo>
                      <a:pt x="407" y="158"/>
                    </a:lnTo>
                    <a:lnTo>
                      <a:pt x="431" y="154"/>
                    </a:lnTo>
                    <a:lnTo>
                      <a:pt x="454" y="147"/>
                    </a:lnTo>
                    <a:lnTo>
                      <a:pt x="475" y="139"/>
                    </a:lnTo>
                    <a:lnTo>
                      <a:pt x="487" y="132"/>
                    </a:lnTo>
                    <a:lnTo>
                      <a:pt x="497" y="126"/>
                    </a:lnTo>
                    <a:lnTo>
                      <a:pt x="507" y="118"/>
                    </a:lnTo>
                    <a:lnTo>
                      <a:pt x="518" y="110"/>
                    </a:lnTo>
                    <a:lnTo>
                      <a:pt x="527" y="102"/>
                    </a:lnTo>
                    <a:lnTo>
                      <a:pt x="535" y="93"/>
                    </a:lnTo>
                    <a:lnTo>
                      <a:pt x="543" y="82"/>
                    </a:lnTo>
                    <a:lnTo>
                      <a:pt x="551" y="72"/>
                    </a:lnTo>
                    <a:lnTo>
                      <a:pt x="557" y="59"/>
                    </a:lnTo>
                    <a:lnTo>
                      <a:pt x="564" y="46"/>
                    </a:lnTo>
                    <a:lnTo>
                      <a:pt x="569" y="34"/>
                    </a:lnTo>
                    <a:lnTo>
                      <a:pt x="575" y="20"/>
                    </a:lnTo>
                    <a:lnTo>
                      <a:pt x="511" y="0"/>
                    </a:lnTo>
                    <a:lnTo>
                      <a:pt x="506" y="10"/>
                    </a:lnTo>
                    <a:lnTo>
                      <a:pt x="503" y="19"/>
                    </a:lnTo>
                    <a:lnTo>
                      <a:pt x="498" y="27"/>
                    </a:lnTo>
                    <a:lnTo>
                      <a:pt x="494" y="35"/>
                    </a:lnTo>
                    <a:lnTo>
                      <a:pt x="489" y="43"/>
                    </a:lnTo>
                    <a:lnTo>
                      <a:pt x="483" y="49"/>
                    </a:lnTo>
                    <a:lnTo>
                      <a:pt x="479" y="54"/>
                    </a:lnTo>
                    <a:lnTo>
                      <a:pt x="473" y="60"/>
                    </a:lnTo>
                    <a:lnTo>
                      <a:pt x="466" y="65"/>
                    </a:lnTo>
                    <a:lnTo>
                      <a:pt x="461" y="69"/>
                    </a:lnTo>
                    <a:lnTo>
                      <a:pt x="454" y="74"/>
                    </a:lnTo>
                    <a:lnTo>
                      <a:pt x="448" y="77"/>
                    </a:lnTo>
                    <a:lnTo>
                      <a:pt x="432" y="83"/>
                    </a:lnTo>
                    <a:lnTo>
                      <a:pt x="415" y="88"/>
                    </a:lnTo>
                    <a:lnTo>
                      <a:pt x="398" y="91"/>
                    </a:lnTo>
                    <a:lnTo>
                      <a:pt x="378" y="93"/>
                    </a:lnTo>
                    <a:lnTo>
                      <a:pt x="359" y="94"/>
                    </a:lnTo>
                    <a:lnTo>
                      <a:pt x="339" y="93"/>
                    </a:lnTo>
                    <a:lnTo>
                      <a:pt x="317" y="92"/>
                    </a:lnTo>
                    <a:lnTo>
                      <a:pt x="295" y="89"/>
                    </a:lnTo>
                    <a:lnTo>
                      <a:pt x="274" y="85"/>
                    </a:lnTo>
                    <a:lnTo>
                      <a:pt x="253" y="82"/>
                    </a:lnTo>
                    <a:lnTo>
                      <a:pt x="168" y="62"/>
                    </a:lnTo>
                    <a:lnTo>
                      <a:pt x="97" y="46"/>
                    </a:lnTo>
                    <a:lnTo>
                      <a:pt x="80" y="44"/>
                    </a:lnTo>
                    <a:lnTo>
                      <a:pt x="64" y="43"/>
                    </a:lnTo>
                    <a:lnTo>
                      <a:pt x="49" y="43"/>
                    </a:lnTo>
                    <a:lnTo>
                      <a:pt x="35" y="46"/>
                    </a:lnTo>
                    <a:lnTo>
                      <a:pt x="25" y="51"/>
                    </a:lnTo>
                    <a:lnTo>
                      <a:pt x="17" y="57"/>
                    </a:lnTo>
                    <a:lnTo>
                      <a:pt x="9" y="65"/>
                    </a:lnTo>
                    <a:lnTo>
                      <a:pt x="3" y="75"/>
                    </a:lnTo>
                    <a:lnTo>
                      <a:pt x="1" y="85"/>
                    </a:lnTo>
                    <a:lnTo>
                      <a:pt x="0" y="96"/>
                    </a:lnTo>
                    <a:lnTo>
                      <a:pt x="1" y="105"/>
                    </a:lnTo>
                    <a:lnTo>
                      <a:pt x="3" y="113"/>
                    </a:lnTo>
                    <a:lnTo>
                      <a:pt x="11" y="81"/>
                    </a:lnTo>
                    <a:lnTo>
                      <a:pt x="3" y="113"/>
                    </a:lnTo>
                    <a:lnTo>
                      <a:pt x="6" y="121"/>
                    </a:lnTo>
                    <a:lnTo>
                      <a:pt x="10" y="126"/>
                    </a:lnTo>
                    <a:lnTo>
                      <a:pt x="15" y="131"/>
                    </a:lnTo>
                    <a:lnTo>
                      <a:pt x="20" y="134"/>
                    </a:lnTo>
                    <a:lnTo>
                      <a:pt x="26" y="137"/>
                    </a:lnTo>
                    <a:lnTo>
                      <a:pt x="32" y="138"/>
                    </a:lnTo>
                    <a:lnTo>
                      <a:pt x="39" y="138"/>
                    </a:lnTo>
                    <a:lnTo>
                      <a:pt x="44" y="137"/>
                    </a:lnTo>
                    <a:lnTo>
                      <a:pt x="50" y="134"/>
                    </a:lnTo>
                    <a:lnTo>
                      <a:pt x="56" y="131"/>
                    </a:lnTo>
                    <a:lnTo>
                      <a:pt x="60" y="127"/>
                    </a:lnTo>
                    <a:lnTo>
                      <a:pt x="65" y="122"/>
                    </a:lnTo>
                    <a:lnTo>
                      <a:pt x="67" y="116"/>
                    </a:lnTo>
                    <a:lnTo>
                      <a:pt x="70" y="109"/>
                    </a:lnTo>
                    <a:lnTo>
                      <a:pt x="70" y="102"/>
                    </a:lnTo>
                    <a:lnTo>
                      <a:pt x="68" y="94"/>
                    </a:lnTo>
                    <a:lnTo>
                      <a:pt x="59" y="1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3444840" y="5186520"/>
                <a:ext cx="108000" cy="172800"/>
              </a:xfrm>
              <a:custGeom>
                <a:avLst/>
                <a:gdLst/>
                <a:ahLst/>
                <a:rect l="l" t="t" r="r" b="b"/>
                <a:pathLst>
                  <a:path w="341" h="545">
                    <a:moveTo>
                      <a:pt x="233" y="543"/>
                    </a:moveTo>
                    <a:lnTo>
                      <a:pt x="242" y="539"/>
                    </a:lnTo>
                    <a:lnTo>
                      <a:pt x="257" y="529"/>
                    </a:lnTo>
                    <a:lnTo>
                      <a:pt x="270" y="520"/>
                    </a:lnTo>
                    <a:lnTo>
                      <a:pt x="283" y="510"/>
                    </a:lnTo>
                    <a:lnTo>
                      <a:pt x="294" y="501"/>
                    </a:lnTo>
                    <a:lnTo>
                      <a:pt x="303" y="490"/>
                    </a:lnTo>
                    <a:lnTo>
                      <a:pt x="312" y="480"/>
                    </a:lnTo>
                    <a:lnTo>
                      <a:pt x="320" y="470"/>
                    </a:lnTo>
                    <a:lnTo>
                      <a:pt x="327" y="458"/>
                    </a:lnTo>
                    <a:lnTo>
                      <a:pt x="332" y="448"/>
                    </a:lnTo>
                    <a:lnTo>
                      <a:pt x="336" y="437"/>
                    </a:lnTo>
                    <a:lnTo>
                      <a:pt x="339" y="425"/>
                    </a:lnTo>
                    <a:lnTo>
                      <a:pt x="341" y="413"/>
                    </a:lnTo>
                    <a:lnTo>
                      <a:pt x="341" y="401"/>
                    </a:lnTo>
                    <a:lnTo>
                      <a:pt x="340" y="391"/>
                    </a:lnTo>
                    <a:lnTo>
                      <a:pt x="337" y="380"/>
                    </a:lnTo>
                    <a:lnTo>
                      <a:pt x="334" y="369"/>
                    </a:lnTo>
                    <a:lnTo>
                      <a:pt x="330" y="359"/>
                    </a:lnTo>
                    <a:lnTo>
                      <a:pt x="324" y="349"/>
                    </a:lnTo>
                    <a:lnTo>
                      <a:pt x="318" y="340"/>
                    </a:lnTo>
                    <a:lnTo>
                      <a:pt x="311" y="331"/>
                    </a:lnTo>
                    <a:lnTo>
                      <a:pt x="299" y="315"/>
                    </a:lnTo>
                    <a:lnTo>
                      <a:pt x="283" y="299"/>
                    </a:lnTo>
                    <a:lnTo>
                      <a:pt x="266" y="283"/>
                    </a:lnTo>
                    <a:lnTo>
                      <a:pt x="247" y="269"/>
                    </a:lnTo>
                    <a:lnTo>
                      <a:pt x="229" y="254"/>
                    </a:lnTo>
                    <a:lnTo>
                      <a:pt x="211" y="239"/>
                    </a:lnTo>
                    <a:lnTo>
                      <a:pt x="172" y="212"/>
                    </a:lnTo>
                    <a:lnTo>
                      <a:pt x="137" y="185"/>
                    </a:lnTo>
                    <a:lnTo>
                      <a:pt x="121" y="171"/>
                    </a:lnTo>
                    <a:lnTo>
                      <a:pt x="106" y="158"/>
                    </a:lnTo>
                    <a:lnTo>
                      <a:pt x="94" y="146"/>
                    </a:lnTo>
                    <a:lnTo>
                      <a:pt x="83" y="132"/>
                    </a:lnTo>
                    <a:lnTo>
                      <a:pt x="79" y="126"/>
                    </a:lnTo>
                    <a:lnTo>
                      <a:pt x="75" y="121"/>
                    </a:lnTo>
                    <a:lnTo>
                      <a:pt x="73" y="115"/>
                    </a:lnTo>
                    <a:lnTo>
                      <a:pt x="71" y="110"/>
                    </a:lnTo>
                    <a:lnTo>
                      <a:pt x="68" y="106"/>
                    </a:lnTo>
                    <a:lnTo>
                      <a:pt x="67" y="101"/>
                    </a:lnTo>
                    <a:lnTo>
                      <a:pt x="67" y="97"/>
                    </a:lnTo>
                    <a:lnTo>
                      <a:pt x="67" y="92"/>
                    </a:lnTo>
                    <a:lnTo>
                      <a:pt x="67" y="88"/>
                    </a:lnTo>
                    <a:lnTo>
                      <a:pt x="68" y="83"/>
                    </a:lnTo>
                    <a:lnTo>
                      <a:pt x="70" y="78"/>
                    </a:lnTo>
                    <a:lnTo>
                      <a:pt x="72" y="73"/>
                    </a:lnTo>
                    <a:lnTo>
                      <a:pt x="75" y="67"/>
                    </a:lnTo>
                    <a:lnTo>
                      <a:pt x="80" y="60"/>
                    </a:lnTo>
                    <a:lnTo>
                      <a:pt x="86" y="53"/>
                    </a:lnTo>
                    <a:lnTo>
                      <a:pt x="91" y="46"/>
                    </a:lnTo>
                    <a:lnTo>
                      <a:pt x="43" y="0"/>
                    </a:lnTo>
                    <a:lnTo>
                      <a:pt x="34" y="10"/>
                    </a:lnTo>
                    <a:lnTo>
                      <a:pt x="25" y="20"/>
                    </a:lnTo>
                    <a:lnTo>
                      <a:pt x="18" y="32"/>
                    </a:lnTo>
                    <a:lnTo>
                      <a:pt x="11" y="43"/>
                    </a:lnTo>
                    <a:lnTo>
                      <a:pt x="7" y="54"/>
                    </a:lnTo>
                    <a:lnTo>
                      <a:pt x="3" y="66"/>
                    </a:lnTo>
                    <a:lnTo>
                      <a:pt x="1" y="78"/>
                    </a:lnTo>
                    <a:lnTo>
                      <a:pt x="0" y="90"/>
                    </a:lnTo>
                    <a:lnTo>
                      <a:pt x="0" y="101"/>
                    </a:lnTo>
                    <a:lnTo>
                      <a:pt x="1" y="113"/>
                    </a:lnTo>
                    <a:lnTo>
                      <a:pt x="3" y="124"/>
                    </a:lnTo>
                    <a:lnTo>
                      <a:pt x="8" y="134"/>
                    </a:lnTo>
                    <a:lnTo>
                      <a:pt x="11" y="145"/>
                    </a:lnTo>
                    <a:lnTo>
                      <a:pt x="17" y="155"/>
                    </a:lnTo>
                    <a:lnTo>
                      <a:pt x="23" y="164"/>
                    </a:lnTo>
                    <a:lnTo>
                      <a:pt x="30" y="173"/>
                    </a:lnTo>
                    <a:lnTo>
                      <a:pt x="43" y="190"/>
                    </a:lnTo>
                    <a:lnTo>
                      <a:pt x="59" y="206"/>
                    </a:lnTo>
                    <a:lnTo>
                      <a:pt x="76" y="222"/>
                    </a:lnTo>
                    <a:lnTo>
                      <a:pt x="95" y="237"/>
                    </a:lnTo>
                    <a:lnTo>
                      <a:pt x="132" y="266"/>
                    </a:lnTo>
                    <a:lnTo>
                      <a:pt x="170" y="294"/>
                    </a:lnTo>
                    <a:lnTo>
                      <a:pt x="188" y="308"/>
                    </a:lnTo>
                    <a:lnTo>
                      <a:pt x="205" y="321"/>
                    </a:lnTo>
                    <a:lnTo>
                      <a:pt x="221" y="334"/>
                    </a:lnTo>
                    <a:lnTo>
                      <a:pt x="236" y="347"/>
                    </a:lnTo>
                    <a:lnTo>
                      <a:pt x="249" y="359"/>
                    </a:lnTo>
                    <a:lnTo>
                      <a:pt x="259" y="373"/>
                    </a:lnTo>
                    <a:lnTo>
                      <a:pt x="262" y="377"/>
                    </a:lnTo>
                    <a:lnTo>
                      <a:pt x="266" y="383"/>
                    </a:lnTo>
                    <a:lnTo>
                      <a:pt x="268" y="388"/>
                    </a:lnTo>
                    <a:lnTo>
                      <a:pt x="270" y="392"/>
                    </a:lnTo>
                    <a:lnTo>
                      <a:pt x="271" y="397"/>
                    </a:lnTo>
                    <a:lnTo>
                      <a:pt x="273" y="401"/>
                    </a:lnTo>
                    <a:lnTo>
                      <a:pt x="274" y="405"/>
                    </a:lnTo>
                    <a:lnTo>
                      <a:pt x="274" y="409"/>
                    </a:lnTo>
                    <a:lnTo>
                      <a:pt x="273" y="413"/>
                    </a:lnTo>
                    <a:lnTo>
                      <a:pt x="271" y="417"/>
                    </a:lnTo>
                    <a:lnTo>
                      <a:pt x="270" y="422"/>
                    </a:lnTo>
                    <a:lnTo>
                      <a:pt x="268" y="426"/>
                    </a:lnTo>
                    <a:lnTo>
                      <a:pt x="265" y="432"/>
                    </a:lnTo>
                    <a:lnTo>
                      <a:pt x="260" y="438"/>
                    </a:lnTo>
                    <a:lnTo>
                      <a:pt x="254" y="445"/>
                    </a:lnTo>
                    <a:lnTo>
                      <a:pt x="247" y="452"/>
                    </a:lnTo>
                    <a:lnTo>
                      <a:pt x="239" y="458"/>
                    </a:lnTo>
                    <a:lnTo>
                      <a:pt x="230" y="466"/>
                    </a:lnTo>
                    <a:lnTo>
                      <a:pt x="219" y="474"/>
                    </a:lnTo>
                    <a:lnTo>
                      <a:pt x="206" y="482"/>
                    </a:lnTo>
                    <a:lnTo>
                      <a:pt x="217" y="478"/>
                    </a:lnTo>
                    <a:lnTo>
                      <a:pt x="206" y="482"/>
                    </a:lnTo>
                    <a:lnTo>
                      <a:pt x="201" y="487"/>
                    </a:lnTo>
                    <a:lnTo>
                      <a:pt x="196" y="493"/>
                    </a:lnTo>
                    <a:lnTo>
                      <a:pt x="193" y="498"/>
                    </a:lnTo>
                    <a:lnTo>
                      <a:pt x="190" y="504"/>
                    </a:lnTo>
                    <a:lnTo>
                      <a:pt x="190" y="511"/>
                    </a:lnTo>
                    <a:lnTo>
                      <a:pt x="192" y="517"/>
                    </a:lnTo>
                    <a:lnTo>
                      <a:pt x="193" y="523"/>
                    </a:lnTo>
                    <a:lnTo>
                      <a:pt x="196" y="528"/>
                    </a:lnTo>
                    <a:lnTo>
                      <a:pt x="200" y="534"/>
                    </a:lnTo>
                    <a:lnTo>
                      <a:pt x="204" y="538"/>
                    </a:lnTo>
                    <a:lnTo>
                      <a:pt x="210" y="542"/>
                    </a:lnTo>
                    <a:lnTo>
                      <a:pt x="216" y="544"/>
                    </a:lnTo>
                    <a:lnTo>
                      <a:pt x="221" y="545"/>
                    </a:lnTo>
                    <a:lnTo>
                      <a:pt x="228" y="544"/>
                    </a:lnTo>
                    <a:lnTo>
                      <a:pt x="235" y="543"/>
                    </a:lnTo>
                    <a:lnTo>
                      <a:pt x="242" y="539"/>
                    </a:lnTo>
                    <a:lnTo>
                      <a:pt x="233" y="5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3298680" y="5305320"/>
                <a:ext cx="220680" cy="60480"/>
              </a:xfrm>
              <a:custGeom>
                <a:avLst/>
                <a:gdLst/>
                <a:ahLst/>
                <a:rect l="l" t="t" r="r" b="b"/>
                <a:pathLst>
                  <a:path w="691" h="191">
                    <a:moveTo>
                      <a:pt x="20" y="65"/>
                    </a:moveTo>
                    <a:lnTo>
                      <a:pt x="23" y="67"/>
                    </a:lnTo>
                    <a:lnTo>
                      <a:pt x="93" y="93"/>
                    </a:lnTo>
                    <a:lnTo>
                      <a:pt x="166" y="120"/>
                    </a:lnTo>
                    <a:lnTo>
                      <a:pt x="203" y="134"/>
                    </a:lnTo>
                    <a:lnTo>
                      <a:pt x="240" y="146"/>
                    </a:lnTo>
                    <a:lnTo>
                      <a:pt x="279" y="158"/>
                    </a:lnTo>
                    <a:lnTo>
                      <a:pt x="319" y="168"/>
                    </a:lnTo>
                    <a:lnTo>
                      <a:pt x="360" y="177"/>
                    </a:lnTo>
                    <a:lnTo>
                      <a:pt x="402" y="184"/>
                    </a:lnTo>
                    <a:lnTo>
                      <a:pt x="424" y="187"/>
                    </a:lnTo>
                    <a:lnTo>
                      <a:pt x="447" y="189"/>
                    </a:lnTo>
                    <a:lnTo>
                      <a:pt x="469" y="190"/>
                    </a:lnTo>
                    <a:lnTo>
                      <a:pt x="492" y="191"/>
                    </a:lnTo>
                    <a:lnTo>
                      <a:pt x="515" y="191"/>
                    </a:lnTo>
                    <a:lnTo>
                      <a:pt x="539" y="190"/>
                    </a:lnTo>
                    <a:lnTo>
                      <a:pt x="563" y="189"/>
                    </a:lnTo>
                    <a:lnTo>
                      <a:pt x="587" y="186"/>
                    </a:lnTo>
                    <a:lnTo>
                      <a:pt x="612" y="183"/>
                    </a:lnTo>
                    <a:lnTo>
                      <a:pt x="638" y="178"/>
                    </a:lnTo>
                    <a:lnTo>
                      <a:pt x="664" y="173"/>
                    </a:lnTo>
                    <a:lnTo>
                      <a:pt x="691" y="166"/>
                    </a:lnTo>
                    <a:lnTo>
                      <a:pt x="675" y="101"/>
                    </a:lnTo>
                    <a:lnTo>
                      <a:pt x="650" y="106"/>
                    </a:lnTo>
                    <a:lnTo>
                      <a:pt x="626" y="112"/>
                    </a:lnTo>
                    <a:lnTo>
                      <a:pt x="603" y="116"/>
                    </a:lnTo>
                    <a:lnTo>
                      <a:pt x="580" y="119"/>
                    </a:lnTo>
                    <a:lnTo>
                      <a:pt x="557" y="121"/>
                    </a:lnTo>
                    <a:lnTo>
                      <a:pt x="536" y="122"/>
                    </a:lnTo>
                    <a:lnTo>
                      <a:pt x="514" y="124"/>
                    </a:lnTo>
                    <a:lnTo>
                      <a:pt x="492" y="124"/>
                    </a:lnTo>
                    <a:lnTo>
                      <a:pt x="472" y="122"/>
                    </a:lnTo>
                    <a:lnTo>
                      <a:pt x="451" y="121"/>
                    </a:lnTo>
                    <a:lnTo>
                      <a:pt x="432" y="120"/>
                    </a:lnTo>
                    <a:lnTo>
                      <a:pt x="412" y="118"/>
                    </a:lnTo>
                    <a:lnTo>
                      <a:pt x="373" y="111"/>
                    </a:lnTo>
                    <a:lnTo>
                      <a:pt x="335" y="103"/>
                    </a:lnTo>
                    <a:lnTo>
                      <a:pt x="297" y="93"/>
                    </a:lnTo>
                    <a:lnTo>
                      <a:pt x="261" y="82"/>
                    </a:lnTo>
                    <a:lnTo>
                      <a:pt x="225" y="70"/>
                    </a:lnTo>
                    <a:lnTo>
                      <a:pt x="189" y="57"/>
                    </a:lnTo>
                    <a:lnTo>
                      <a:pt x="117" y="30"/>
                    </a:lnTo>
                    <a:lnTo>
                      <a:pt x="44" y="3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3" y="1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8" y="13"/>
                    </a:lnTo>
                    <a:lnTo>
                      <a:pt x="4" y="17"/>
                    </a:lnTo>
                    <a:lnTo>
                      <a:pt x="2" y="23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2" y="48"/>
                    </a:lnTo>
                    <a:lnTo>
                      <a:pt x="5" y="54"/>
                    </a:lnTo>
                    <a:lnTo>
                      <a:pt x="9" y="59"/>
                    </a:lnTo>
                    <a:lnTo>
                      <a:pt x="16" y="63"/>
                    </a:lnTo>
                    <a:lnTo>
                      <a:pt x="23" y="67"/>
                    </a:lnTo>
                    <a:lnTo>
                      <a:pt x="2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2901960" y="4473720"/>
                <a:ext cx="412920" cy="852480"/>
              </a:xfrm>
              <a:custGeom>
                <a:avLst/>
                <a:gdLst/>
                <a:ahLst/>
                <a:rect l="l" t="t" r="r" b="b"/>
                <a:pathLst>
                  <a:path w="1302" h="2684">
                    <a:moveTo>
                      <a:pt x="60" y="8"/>
                    </a:moveTo>
                    <a:lnTo>
                      <a:pt x="4" y="33"/>
                    </a:lnTo>
                    <a:lnTo>
                      <a:pt x="2" y="91"/>
                    </a:lnTo>
                    <a:lnTo>
                      <a:pt x="1" y="149"/>
                    </a:lnTo>
                    <a:lnTo>
                      <a:pt x="0" y="206"/>
                    </a:lnTo>
                    <a:lnTo>
                      <a:pt x="1" y="263"/>
                    </a:lnTo>
                    <a:lnTo>
                      <a:pt x="1" y="320"/>
                    </a:lnTo>
                    <a:lnTo>
                      <a:pt x="3" y="376"/>
                    </a:lnTo>
                    <a:lnTo>
                      <a:pt x="4" y="432"/>
                    </a:lnTo>
                    <a:lnTo>
                      <a:pt x="8" y="488"/>
                    </a:lnTo>
                    <a:lnTo>
                      <a:pt x="11" y="543"/>
                    </a:lnTo>
                    <a:lnTo>
                      <a:pt x="16" y="598"/>
                    </a:lnTo>
                    <a:lnTo>
                      <a:pt x="20" y="651"/>
                    </a:lnTo>
                    <a:lnTo>
                      <a:pt x="26" y="706"/>
                    </a:lnTo>
                    <a:lnTo>
                      <a:pt x="32" y="759"/>
                    </a:lnTo>
                    <a:lnTo>
                      <a:pt x="40" y="812"/>
                    </a:lnTo>
                    <a:lnTo>
                      <a:pt x="47" y="865"/>
                    </a:lnTo>
                    <a:lnTo>
                      <a:pt x="56" y="916"/>
                    </a:lnTo>
                    <a:lnTo>
                      <a:pt x="65" y="967"/>
                    </a:lnTo>
                    <a:lnTo>
                      <a:pt x="74" y="1019"/>
                    </a:lnTo>
                    <a:lnTo>
                      <a:pt x="84" y="1069"/>
                    </a:lnTo>
                    <a:lnTo>
                      <a:pt x="96" y="1119"/>
                    </a:lnTo>
                    <a:lnTo>
                      <a:pt x="107" y="1168"/>
                    </a:lnTo>
                    <a:lnTo>
                      <a:pt x="119" y="1217"/>
                    </a:lnTo>
                    <a:lnTo>
                      <a:pt x="133" y="1265"/>
                    </a:lnTo>
                    <a:lnTo>
                      <a:pt x="147" y="1313"/>
                    </a:lnTo>
                    <a:lnTo>
                      <a:pt x="162" y="1360"/>
                    </a:lnTo>
                    <a:lnTo>
                      <a:pt x="176" y="1407"/>
                    </a:lnTo>
                    <a:lnTo>
                      <a:pt x="192" y="1453"/>
                    </a:lnTo>
                    <a:lnTo>
                      <a:pt x="210" y="1499"/>
                    </a:lnTo>
                    <a:lnTo>
                      <a:pt x="227" y="1544"/>
                    </a:lnTo>
                    <a:lnTo>
                      <a:pt x="245" y="1588"/>
                    </a:lnTo>
                    <a:lnTo>
                      <a:pt x="263" y="1631"/>
                    </a:lnTo>
                    <a:lnTo>
                      <a:pt x="282" y="1675"/>
                    </a:lnTo>
                    <a:lnTo>
                      <a:pt x="303" y="1717"/>
                    </a:lnTo>
                    <a:lnTo>
                      <a:pt x="324" y="1759"/>
                    </a:lnTo>
                    <a:lnTo>
                      <a:pt x="345" y="1800"/>
                    </a:lnTo>
                    <a:lnTo>
                      <a:pt x="368" y="1841"/>
                    </a:lnTo>
                    <a:lnTo>
                      <a:pt x="391" y="1881"/>
                    </a:lnTo>
                    <a:lnTo>
                      <a:pt x="414" y="1921"/>
                    </a:lnTo>
                    <a:lnTo>
                      <a:pt x="439" y="1959"/>
                    </a:lnTo>
                    <a:lnTo>
                      <a:pt x="464" y="1998"/>
                    </a:lnTo>
                    <a:lnTo>
                      <a:pt x="489" y="2034"/>
                    </a:lnTo>
                    <a:lnTo>
                      <a:pt x="515" y="2072"/>
                    </a:lnTo>
                    <a:lnTo>
                      <a:pt x="542" y="2107"/>
                    </a:lnTo>
                    <a:lnTo>
                      <a:pt x="570" y="2142"/>
                    </a:lnTo>
                    <a:lnTo>
                      <a:pt x="599" y="2177"/>
                    </a:lnTo>
                    <a:lnTo>
                      <a:pt x="628" y="2211"/>
                    </a:lnTo>
                    <a:lnTo>
                      <a:pt x="658" y="2244"/>
                    </a:lnTo>
                    <a:lnTo>
                      <a:pt x="688" y="2276"/>
                    </a:lnTo>
                    <a:lnTo>
                      <a:pt x="720" y="2308"/>
                    </a:lnTo>
                    <a:lnTo>
                      <a:pt x="752" y="2339"/>
                    </a:lnTo>
                    <a:lnTo>
                      <a:pt x="785" y="2368"/>
                    </a:lnTo>
                    <a:lnTo>
                      <a:pt x="818" y="2398"/>
                    </a:lnTo>
                    <a:lnTo>
                      <a:pt x="852" y="2427"/>
                    </a:lnTo>
                    <a:lnTo>
                      <a:pt x="887" y="2454"/>
                    </a:lnTo>
                    <a:lnTo>
                      <a:pt x="923" y="2480"/>
                    </a:lnTo>
                    <a:lnTo>
                      <a:pt x="959" y="2506"/>
                    </a:lnTo>
                    <a:lnTo>
                      <a:pt x="996" y="2532"/>
                    </a:lnTo>
                    <a:lnTo>
                      <a:pt x="1034" y="2557"/>
                    </a:lnTo>
                    <a:lnTo>
                      <a:pt x="1071" y="2579"/>
                    </a:lnTo>
                    <a:lnTo>
                      <a:pt x="1111" y="2602"/>
                    </a:lnTo>
                    <a:lnTo>
                      <a:pt x="1150" y="2624"/>
                    </a:lnTo>
                    <a:lnTo>
                      <a:pt x="1191" y="2646"/>
                    </a:lnTo>
                    <a:lnTo>
                      <a:pt x="1232" y="2665"/>
                    </a:lnTo>
                    <a:lnTo>
                      <a:pt x="1274" y="2684"/>
                    </a:lnTo>
                    <a:lnTo>
                      <a:pt x="1302" y="2623"/>
                    </a:lnTo>
                    <a:lnTo>
                      <a:pt x="1261" y="2605"/>
                    </a:lnTo>
                    <a:lnTo>
                      <a:pt x="1221" y="2585"/>
                    </a:lnTo>
                    <a:lnTo>
                      <a:pt x="1182" y="2565"/>
                    </a:lnTo>
                    <a:lnTo>
                      <a:pt x="1144" y="2544"/>
                    </a:lnTo>
                    <a:lnTo>
                      <a:pt x="1107" y="2522"/>
                    </a:lnTo>
                    <a:lnTo>
                      <a:pt x="1069" y="2500"/>
                    </a:lnTo>
                    <a:lnTo>
                      <a:pt x="1033" y="2476"/>
                    </a:lnTo>
                    <a:lnTo>
                      <a:pt x="997" y="2452"/>
                    </a:lnTo>
                    <a:lnTo>
                      <a:pt x="963" y="2427"/>
                    </a:lnTo>
                    <a:lnTo>
                      <a:pt x="929" y="2400"/>
                    </a:lnTo>
                    <a:lnTo>
                      <a:pt x="895" y="2374"/>
                    </a:lnTo>
                    <a:lnTo>
                      <a:pt x="862" y="2347"/>
                    </a:lnTo>
                    <a:lnTo>
                      <a:pt x="830" y="2318"/>
                    </a:lnTo>
                    <a:lnTo>
                      <a:pt x="798" y="2290"/>
                    </a:lnTo>
                    <a:lnTo>
                      <a:pt x="767" y="2260"/>
                    </a:lnTo>
                    <a:lnTo>
                      <a:pt x="737" y="2229"/>
                    </a:lnTo>
                    <a:lnTo>
                      <a:pt x="708" y="2197"/>
                    </a:lnTo>
                    <a:lnTo>
                      <a:pt x="678" y="2166"/>
                    </a:lnTo>
                    <a:lnTo>
                      <a:pt x="651" y="2133"/>
                    </a:lnTo>
                    <a:lnTo>
                      <a:pt x="623" y="2100"/>
                    </a:lnTo>
                    <a:lnTo>
                      <a:pt x="596" y="2066"/>
                    </a:lnTo>
                    <a:lnTo>
                      <a:pt x="570" y="2031"/>
                    </a:lnTo>
                    <a:lnTo>
                      <a:pt x="544" y="1995"/>
                    </a:lnTo>
                    <a:lnTo>
                      <a:pt x="520" y="1960"/>
                    </a:lnTo>
                    <a:lnTo>
                      <a:pt x="495" y="1922"/>
                    </a:lnTo>
                    <a:lnTo>
                      <a:pt x="472" y="1886"/>
                    </a:lnTo>
                    <a:lnTo>
                      <a:pt x="449" y="1847"/>
                    </a:lnTo>
                    <a:lnTo>
                      <a:pt x="426" y="1808"/>
                    </a:lnTo>
                    <a:lnTo>
                      <a:pt x="404" y="1769"/>
                    </a:lnTo>
                    <a:lnTo>
                      <a:pt x="384" y="1728"/>
                    </a:lnTo>
                    <a:lnTo>
                      <a:pt x="363" y="1688"/>
                    </a:lnTo>
                    <a:lnTo>
                      <a:pt x="344" y="1646"/>
                    </a:lnTo>
                    <a:lnTo>
                      <a:pt x="325" y="1605"/>
                    </a:lnTo>
                    <a:lnTo>
                      <a:pt x="306" y="1562"/>
                    </a:lnTo>
                    <a:lnTo>
                      <a:pt x="289" y="1518"/>
                    </a:lnTo>
                    <a:lnTo>
                      <a:pt x="272" y="1475"/>
                    </a:lnTo>
                    <a:lnTo>
                      <a:pt x="256" y="1431"/>
                    </a:lnTo>
                    <a:lnTo>
                      <a:pt x="240" y="1386"/>
                    </a:lnTo>
                    <a:lnTo>
                      <a:pt x="225" y="1340"/>
                    </a:lnTo>
                    <a:lnTo>
                      <a:pt x="212" y="1294"/>
                    </a:lnTo>
                    <a:lnTo>
                      <a:pt x="198" y="1247"/>
                    </a:lnTo>
                    <a:lnTo>
                      <a:pt x="184" y="1200"/>
                    </a:lnTo>
                    <a:lnTo>
                      <a:pt x="173" y="1152"/>
                    </a:lnTo>
                    <a:lnTo>
                      <a:pt x="162" y="1104"/>
                    </a:lnTo>
                    <a:lnTo>
                      <a:pt x="150" y="1055"/>
                    </a:lnTo>
                    <a:lnTo>
                      <a:pt x="140" y="1005"/>
                    </a:lnTo>
                    <a:lnTo>
                      <a:pt x="131" y="956"/>
                    </a:lnTo>
                    <a:lnTo>
                      <a:pt x="122" y="905"/>
                    </a:lnTo>
                    <a:lnTo>
                      <a:pt x="114" y="854"/>
                    </a:lnTo>
                    <a:lnTo>
                      <a:pt x="106" y="803"/>
                    </a:lnTo>
                    <a:lnTo>
                      <a:pt x="99" y="751"/>
                    </a:lnTo>
                    <a:lnTo>
                      <a:pt x="93" y="698"/>
                    </a:lnTo>
                    <a:lnTo>
                      <a:pt x="88" y="646"/>
                    </a:lnTo>
                    <a:lnTo>
                      <a:pt x="83" y="592"/>
                    </a:lnTo>
                    <a:lnTo>
                      <a:pt x="78" y="538"/>
                    </a:lnTo>
                    <a:lnTo>
                      <a:pt x="75" y="484"/>
                    </a:lnTo>
                    <a:lnTo>
                      <a:pt x="72" y="430"/>
                    </a:lnTo>
                    <a:lnTo>
                      <a:pt x="70" y="374"/>
                    </a:lnTo>
                    <a:lnTo>
                      <a:pt x="68" y="319"/>
                    </a:lnTo>
                    <a:lnTo>
                      <a:pt x="68" y="263"/>
                    </a:lnTo>
                    <a:lnTo>
                      <a:pt x="68" y="206"/>
                    </a:lnTo>
                    <a:lnTo>
                      <a:pt x="68" y="150"/>
                    </a:lnTo>
                    <a:lnTo>
                      <a:pt x="69" y="92"/>
                    </a:lnTo>
                    <a:lnTo>
                      <a:pt x="72" y="35"/>
                    </a:lnTo>
                    <a:lnTo>
                      <a:pt x="16" y="59"/>
                    </a:lnTo>
                    <a:lnTo>
                      <a:pt x="72" y="35"/>
                    </a:lnTo>
                    <a:lnTo>
                      <a:pt x="70" y="27"/>
                    </a:lnTo>
                    <a:lnTo>
                      <a:pt x="69" y="20"/>
                    </a:lnTo>
                    <a:lnTo>
                      <a:pt x="66" y="15"/>
                    </a:lnTo>
                    <a:lnTo>
                      <a:pt x="61" y="9"/>
                    </a:lnTo>
                    <a:lnTo>
                      <a:pt x="57" y="6"/>
                    </a:lnTo>
                    <a:lnTo>
                      <a:pt x="51" y="3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3" y="1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1" y="12"/>
                    </a:lnTo>
                    <a:lnTo>
                      <a:pt x="8" y="18"/>
                    </a:lnTo>
                    <a:lnTo>
                      <a:pt x="5" y="25"/>
                    </a:lnTo>
                    <a:lnTo>
                      <a:pt x="4" y="33"/>
                    </a:lnTo>
                    <a:lnTo>
                      <a:pt x="60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2906640" y="4440240"/>
                <a:ext cx="168480" cy="74520"/>
              </a:xfrm>
              <a:custGeom>
                <a:avLst/>
                <a:gdLst/>
                <a:ahLst/>
                <a:rect l="l" t="t" r="r" b="b"/>
                <a:pathLst>
                  <a:path w="531" h="236">
                    <a:moveTo>
                      <a:pt x="531" y="31"/>
                    </a:moveTo>
                    <a:lnTo>
                      <a:pt x="488" y="2"/>
                    </a:lnTo>
                    <a:lnTo>
                      <a:pt x="469" y="8"/>
                    </a:lnTo>
                    <a:lnTo>
                      <a:pt x="452" y="15"/>
                    </a:lnTo>
                    <a:lnTo>
                      <a:pt x="435" y="23"/>
                    </a:lnTo>
                    <a:lnTo>
                      <a:pt x="418" y="32"/>
                    </a:lnTo>
                    <a:lnTo>
                      <a:pt x="387" y="49"/>
                    </a:lnTo>
                    <a:lnTo>
                      <a:pt x="359" y="68"/>
                    </a:lnTo>
                    <a:lnTo>
                      <a:pt x="330" y="89"/>
                    </a:lnTo>
                    <a:lnTo>
                      <a:pt x="303" y="107"/>
                    </a:lnTo>
                    <a:lnTo>
                      <a:pt x="277" y="125"/>
                    </a:lnTo>
                    <a:lnTo>
                      <a:pt x="252" y="141"/>
                    </a:lnTo>
                    <a:lnTo>
                      <a:pt x="239" y="147"/>
                    </a:lnTo>
                    <a:lnTo>
                      <a:pt x="228" y="154"/>
                    </a:lnTo>
                    <a:lnTo>
                      <a:pt x="215" y="158"/>
                    </a:lnTo>
                    <a:lnTo>
                      <a:pt x="204" y="162"/>
                    </a:lnTo>
                    <a:lnTo>
                      <a:pt x="192" y="165"/>
                    </a:lnTo>
                    <a:lnTo>
                      <a:pt x="180" y="167"/>
                    </a:lnTo>
                    <a:lnTo>
                      <a:pt x="168" y="169"/>
                    </a:lnTo>
                    <a:lnTo>
                      <a:pt x="157" y="169"/>
                    </a:lnTo>
                    <a:lnTo>
                      <a:pt x="145" y="167"/>
                    </a:lnTo>
                    <a:lnTo>
                      <a:pt x="132" y="165"/>
                    </a:lnTo>
                    <a:lnTo>
                      <a:pt x="119" y="161"/>
                    </a:lnTo>
                    <a:lnTo>
                      <a:pt x="106" y="155"/>
                    </a:lnTo>
                    <a:lnTo>
                      <a:pt x="91" y="148"/>
                    </a:lnTo>
                    <a:lnTo>
                      <a:pt x="76" y="139"/>
                    </a:lnTo>
                    <a:lnTo>
                      <a:pt x="60" y="128"/>
                    </a:lnTo>
                    <a:lnTo>
                      <a:pt x="44" y="114"/>
                    </a:lnTo>
                    <a:lnTo>
                      <a:pt x="0" y="165"/>
                    </a:lnTo>
                    <a:lnTo>
                      <a:pt x="20" y="181"/>
                    </a:lnTo>
                    <a:lnTo>
                      <a:pt x="40" y="196"/>
                    </a:lnTo>
                    <a:lnTo>
                      <a:pt x="59" y="207"/>
                    </a:lnTo>
                    <a:lnTo>
                      <a:pt x="78" y="217"/>
                    </a:lnTo>
                    <a:lnTo>
                      <a:pt x="97" y="225"/>
                    </a:lnTo>
                    <a:lnTo>
                      <a:pt x="116" y="230"/>
                    </a:lnTo>
                    <a:lnTo>
                      <a:pt x="135" y="234"/>
                    </a:lnTo>
                    <a:lnTo>
                      <a:pt x="154" y="236"/>
                    </a:lnTo>
                    <a:lnTo>
                      <a:pt x="171" y="236"/>
                    </a:lnTo>
                    <a:lnTo>
                      <a:pt x="189" y="235"/>
                    </a:lnTo>
                    <a:lnTo>
                      <a:pt x="206" y="231"/>
                    </a:lnTo>
                    <a:lnTo>
                      <a:pt x="223" y="227"/>
                    </a:lnTo>
                    <a:lnTo>
                      <a:pt x="239" y="221"/>
                    </a:lnTo>
                    <a:lnTo>
                      <a:pt x="255" y="215"/>
                    </a:lnTo>
                    <a:lnTo>
                      <a:pt x="270" y="207"/>
                    </a:lnTo>
                    <a:lnTo>
                      <a:pt x="286" y="199"/>
                    </a:lnTo>
                    <a:lnTo>
                      <a:pt x="313" y="182"/>
                    </a:lnTo>
                    <a:lnTo>
                      <a:pt x="342" y="163"/>
                    </a:lnTo>
                    <a:lnTo>
                      <a:pt x="369" y="144"/>
                    </a:lnTo>
                    <a:lnTo>
                      <a:pt x="396" y="124"/>
                    </a:lnTo>
                    <a:lnTo>
                      <a:pt x="424" y="107"/>
                    </a:lnTo>
                    <a:lnTo>
                      <a:pt x="451" y="90"/>
                    </a:lnTo>
                    <a:lnTo>
                      <a:pt x="465" y="83"/>
                    </a:lnTo>
                    <a:lnTo>
                      <a:pt x="479" y="76"/>
                    </a:lnTo>
                    <a:lnTo>
                      <a:pt x="492" y="71"/>
                    </a:lnTo>
                    <a:lnTo>
                      <a:pt x="507" y="66"/>
                    </a:lnTo>
                    <a:lnTo>
                      <a:pt x="464" y="37"/>
                    </a:lnTo>
                    <a:lnTo>
                      <a:pt x="507" y="66"/>
                    </a:lnTo>
                    <a:lnTo>
                      <a:pt x="514" y="63"/>
                    </a:lnTo>
                    <a:lnTo>
                      <a:pt x="520" y="59"/>
                    </a:lnTo>
                    <a:lnTo>
                      <a:pt x="524" y="55"/>
                    </a:lnTo>
                    <a:lnTo>
                      <a:pt x="528" y="49"/>
                    </a:lnTo>
                    <a:lnTo>
                      <a:pt x="530" y="43"/>
                    </a:lnTo>
                    <a:lnTo>
                      <a:pt x="531" y="36"/>
                    </a:lnTo>
                    <a:lnTo>
                      <a:pt x="531" y="31"/>
                    </a:lnTo>
                    <a:lnTo>
                      <a:pt x="529" y="24"/>
                    </a:lnTo>
                    <a:lnTo>
                      <a:pt x="526" y="18"/>
                    </a:lnTo>
                    <a:lnTo>
                      <a:pt x="524" y="12"/>
                    </a:lnTo>
                    <a:lnTo>
                      <a:pt x="520" y="8"/>
                    </a:lnTo>
                    <a:lnTo>
                      <a:pt x="515" y="4"/>
                    </a:lnTo>
                    <a:lnTo>
                      <a:pt x="508" y="2"/>
                    </a:lnTo>
                    <a:lnTo>
                      <a:pt x="502" y="0"/>
                    </a:lnTo>
                    <a:lnTo>
                      <a:pt x="496" y="0"/>
                    </a:lnTo>
                    <a:lnTo>
                      <a:pt x="488" y="2"/>
                    </a:lnTo>
                    <a:lnTo>
                      <a:pt x="531" y="3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3424320" y="3882960"/>
                <a:ext cx="233280" cy="300240"/>
              </a:xfrm>
              <a:custGeom>
                <a:avLst/>
                <a:gdLst/>
                <a:ahLst/>
                <a:rect l="l" t="t" r="r" b="b"/>
                <a:pathLst>
                  <a:path w="737" h="944">
                    <a:moveTo>
                      <a:pt x="330" y="0"/>
                    </a:moveTo>
                    <a:lnTo>
                      <a:pt x="312" y="6"/>
                    </a:lnTo>
                    <a:lnTo>
                      <a:pt x="294" y="12"/>
                    </a:lnTo>
                    <a:lnTo>
                      <a:pt x="278" y="19"/>
                    </a:lnTo>
                    <a:lnTo>
                      <a:pt x="261" y="27"/>
                    </a:lnTo>
                    <a:lnTo>
                      <a:pt x="246" y="36"/>
                    </a:lnTo>
                    <a:lnTo>
                      <a:pt x="231" y="44"/>
                    </a:lnTo>
                    <a:lnTo>
                      <a:pt x="216" y="54"/>
                    </a:lnTo>
                    <a:lnTo>
                      <a:pt x="203" y="64"/>
                    </a:lnTo>
                    <a:lnTo>
                      <a:pt x="190" y="76"/>
                    </a:lnTo>
                    <a:lnTo>
                      <a:pt x="178" y="87"/>
                    </a:lnTo>
                    <a:lnTo>
                      <a:pt x="165" y="98"/>
                    </a:lnTo>
                    <a:lnTo>
                      <a:pt x="154" y="111"/>
                    </a:lnTo>
                    <a:lnTo>
                      <a:pt x="142" y="125"/>
                    </a:lnTo>
                    <a:lnTo>
                      <a:pt x="132" y="138"/>
                    </a:lnTo>
                    <a:lnTo>
                      <a:pt x="122" y="152"/>
                    </a:lnTo>
                    <a:lnTo>
                      <a:pt x="113" y="167"/>
                    </a:lnTo>
                    <a:lnTo>
                      <a:pt x="94" y="197"/>
                    </a:lnTo>
                    <a:lnTo>
                      <a:pt x="77" y="229"/>
                    </a:lnTo>
                    <a:lnTo>
                      <a:pt x="61" y="263"/>
                    </a:lnTo>
                    <a:lnTo>
                      <a:pt x="48" y="297"/>
                    </a:lnTo>
                    <a:lnTo>
                      <a:pt x="34" y="334"/>
                    </a:lnTo>
                    <a:lnTo>
                      <a:pt x="23" y="370"/>
                    </a:lnTo>
                    <a:lnTo>
                      <a:pt x="10" y="408"/>
                    </a:lnTo>
                    <a:lnTo>
                      <a:pt x="0" y="446"/>
                    </a:lnTo>
                    <a:lnTo>
                      <a:pt x="0" y="464"/>
                    </a:lnTo>
                    <a:lnTo>
                      <a:pt x="0" y="481"/>
                    </a:lnTo>
                    <a:lnTo>
                      <a:pt x="2" y="498"/>
                    </a:lnTo>
                    <a:lnTo>
                      <a:pt x="4" y="514"/>
                    </a:lnTo>
                    <a:lnTo>
                      <a:pt x="7" y="531"/>
                    </a:lnTo>
                    <a:lnTo>
                      <a:pt x="11" y="548"/>
                    </a:lnTo>
                    <a:lnTo>
                      <a:pt x="15" y="564"/>
                    </a:lnTo>
                    <a:lnTo>
                      <a:pt x="20" y="581"/>
                    </a:lnTo>
                    <a:lnTo>
                      <a:pt x="26" y="598"/>
                    </a:lnTo>
                    <a:lnTo>
                      <a:pt x="33" y="614"/>
                    </a:lnTo>
                    <a:lnTo>
                      <a:pt x="40" y="631"/>
                    </a:lnTo>
                    <a:lnTo>
                      <a:pt x="48" y="647"/>
                    </a:lnTo>
                    <a:lnTo>
                      <a:pt x="56" y="664"/>
                    </a:lnTo>
                    <a:lnTo>
                      <a:pt x="65" y="680"/>
                    </a:lnTo>
                    <a:lnTo>
                      <a:pt x="75" y="696"/>
                    </a:lnTo>
                    <a:lnTo>
                      <a:pt x="85" y="712"/>
                    </a:lnTo>
                    <a:lnTo>
                      <a:pt x="107" y="744"/>
                    </a:lnTo>
                    <a:lnTo>
                      <a:pt x="131" y="775"/>
                    </a:lnTo>
                    <a:lnTo>
                      <a:pt x="157" y="806"/>
                    </a:lnTo>
                    <a:lnTo>
                      <a:pt x="186" y="836"/>
                    </a:lnTo>
                    <a:lnTo>
                      <a:pt x="215" y="864"/>
                    </a:lnTo>
                    <a:lnTo>
                      <a:pt x="246" y="893"/>
                    </a:lnTo>
                    <a:lnTo>
                      <a:pt x="279" y="919"/>
                    </a:lnTo>
                    <a:lnTo>
                      <a:pt x="313" y="944"/>
                    </a:lnTo>
                    <a:lnTo>
                      <a:pt x="362" y="911"/>
                    </a:lnTo>
                    <a:lnTo>
                      <a:pt x="409" y="879"/>
                    </a:lnTo>
                    <a:lnTo>
                      <a:pt x="450" y="849"/>
                    </a:lnTo>
                    <a:lnTo>
                      <a:pt x="489" y="821"/>
                    </a:lnTo>
                    <a:lnTo>
                      <a:pt x="524" y="792"/>
                    </a:lnTo>
                    <a:lnTo>
                      <a:pt x="557" y="765"/>
                    </a:lnTo>
                    <a:lnTo>
                      <a:pt x="572" y="750"/>
                    </a:lnTo>
                    <a:lnTo>
                      <a:pt x="586" y="736"/>
                    </a:lnTo>
                    <a:lnTo>
                      <a:pt x="599" y="721"/>
                    </a:lnTo>
                    <a:lnTo>
                      <a:pt x="612" y="708"/>
                    </a:lnTo>
                    <a:lnTo>
                      <a:pt x="625" y="693"/>
                    </a:lnTo>
                    <a:lnTo>
                      <a:pt x="636" y="677"/>
                    </a:lnTo>
                    <a:lnTo>
                      <a:pt x="646" y="661"/>
                    </a:lnTo>
                    <a:lnTo>
                      <a:pt x="656" y="645"/>
                    </a:lnTo>
                    <a:lnTo>
                      <a:pt x="667" y="628"/>
                    </a:lnTo>
                    <a:lnTo>
                      <a:pt x="676" y="611"/>
                    </a:lnTo>
                    <a:lnTo>
                      <a:pt x="684" y="593"/>
                    </a:lnTo>
                    <a:lnTo>
                      <a:pt x="692" y="574"/>
                    </a:lnTo>
                    <a:lnTo>
                      <a:pt x="699" y="554"/>
                    </a:lnTo>
                    <a:lnTo>
                      <a:pt x="705" y="533"/>
                    </a:lnTo>
                    <a:lnTo>
                      <a:pt x="712" y="513"/>
                    </a:lnTo>
                    <a:lnTo>
                      <a:pt x="718" y="490"/>
                    </a:lnTo>
                    <a:lnTo>
                      <a:pt x="724" y="466"/>
                    </a:lnTo>
                    <a:lnTo>
                      <a:pt x="728" y="442"/>
                    </a:lnTo>
                    <a:lnTo>
                      <a:pt x="734" y="416"/>
                    </a:lnTo>
                    <a:lnTo>
                      <a:pt x="737" y="388"/>
                    </a:lnTo>
                    <a:lnTo>
                      <a:pt x="734" y="368"/>
                    </a:lnTo>
                    <a:lnTo>
                      <a:pt x="729" y="347"/>
                    </a:lnTo>
                    <a:lnTo>
                      <a:pt x="724" y="328"/>
                    </a:lnTo>
                    <a:lnTo>
                      <a:pt x="718" y="308"/>
                    </a:lnTo>
                    <a:lnTo>
                      <a:pt x="711" y="290"/>
                    </a:lnTo>
                    <a:lnTo>
                      <a:pt x="704" y="272"/>
                    </a:lnTo>
                    <a:lnTo>
                      <a:pt x="697" y="254"/>
                    </a:lnTo>
                    <a:lnTo>
                      <a:pt x="689" y="237"/>
                    </a:lnTo>
                    <a:lnTo>
                      <a:pt x="680" y="221"/>
                    </a:lnTo>
                    <a:lnTo>
                      <a:pt x="671" y="205"/>
                    </a:lnTo>
                    <a:lnTo>
                      <a:pt x="662" y="189"/>
                    </a:lnTo>
                    <a:lnTo>
                      <a:pt x="652" y="175"/>
                    </a:lnTo>
                    <a:lnTo>
                      <a:pt x="640" y="160"/>
                    </a:lnTo>
                    <a:lnTo>
                      <a:pt x="629" y="146"/>
                    </a:lnTo>
                    <a:lnTo>
                      <a:pt x="618" y="134"/>
                    </a:lnTo>
                    <a:lnTo>
                      <a:pt x="605" y="121"/>
                    </a:lnTo>
                    <a:lnTo>
                      <a:pt x="593" y="110"/>
                    </a:lnTo>
                    <a:lnTo>
                      <a:pt x="579" y="98"/>
                    </a:lnTo>
                    <a:lnTo>
                      <a:pt x="564" y="87"/>
                    </a:lnTo>
                    <a:lnTo>
                      <a:pt x="550" y="77"/>
                    </a:lnTo>
                    <a:lnTo>
                      <a:pt x="534" y="68"/>
                    </a:lnTo>
                    <a:lnTo>
                      <a:pt x="518" y="59"/>
                    </a:lnTo>
                    <a:lnTo>
                      <a:pt x="503" y="51"/>
                    </a:lnTo>
                    <a:lnTo>
                      <a:pt x="485" y="43"/>
                    </a:lnTo>
                    <a:lnTo>
                      <a:pt x="468" y="35"/>
                    </a:lnTo>
                    <a:lnTo>
                      <a:pt x="450" y="28"/>
                    </a:lnTo>
                    <a:lnTo>
                      <a:pt x="432" y="22"/>
                    </a:lnTo>
                    <a:lnTo>
                      <a:pt x="412" y="16"/>
                    </a:lnTo>
                    <a:lnTo>
                      <a:pt x="393" y="12"/>
                    </a:lnTo>
                    <a:lnTo>
                      <a:pt x="373" y="7"/>
                    </a:lnTo>
                    <a:lnTo>
                      <a:pt x="351" y="4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3413160" y="3873600"/>
                <a:ext cx="119160" cy="163440"/>
              </a:xfrm>
              <a:custGeom>
                <a:avLst/>
                <a:gdLst/>
                <a:ahLst/>
                <a:rect l="l" t="t" r="r" b="b"/>
                <a:pathLst>
                  <a:path w="374" h="514">
                    <a:moveTo>
                      <a:pt x="67" y="481"/>
                    </a:moveTo>
                    <a:lnTo>
                      <a:pt x="66" y="489"/>
                    </a:lnTo>
                    <a:lnTo>
                      <a:pt x="77" y="451"/>
                    </a:lnTo>
                    <a:lnTo>
                      <a:pt x="89" y="413"/>
                    </a:lnTo>
                    <a:lnTo>
                      <a:pt x="100" y="378"/>
                    </a:lnTo>
                    <a:lnTo>
                      <a:pt x="114" y="343"/>
                    </a:lnTo>
                    <a:lnTo>
                      <a:pt x="127" y="308"/>
                    </a:lnTo>
                    <a:lnTo>
                      <a:pt x="142" y="276"/>
                    </a:lnTo>
                    <a:lnTo>
                      <a:pt x="157" y="247"/>
                    </a:lnTo>
                    <a:lnTo>
                      <a:pt x="175" y="217"/>
                    </a:lnTo>
                    <a:lnTo>
                      <a:pt x="183" y="205"/>
                    </a:lnTo>
                    <a:lnTo>
                      <a:pt x="193" y="191"/>
                    </a:lnTo>
                    <a:lnTo>
                      <a:pt x="203" y="178"/>
                    </a:lnTo>
                    <a:lnTo>
                      <a:pt x="213" y="167"/>
                    </a:lnTo>
                    <a:lnTo>
                      <a:pt x="223" y="155"/>
                    </a:lnTo>
                    <a:lnTo>
                      <a:pt x="234" y="144"/>
                    </a:lnTo>
                    <a:lnTo>
                      <a:pt x="246" y="134"/>
                    </a:lnTo>
                    <a:lnTo>
                      <a:pt x="258" y="124"/>
                    </a:lnTo>
                    <a:lnTo>
                      <a:pt x="270" y="114"/>
                    </a:lnTo>
                    <a:lnTo>
                      <a:pt x="283" y="105"/>
                    </a:lnTo>
                    <a:lnTo>
                      <a:pt x="297" y="97"/>
                    </a:lnTo>
                    <a:lnTo>
                      <a:pt x="311" y="90"/>
                    </a:lnTo>
                    <a:lnTo>
                      <a:pt x="326" y="82"/>
                    </a:lnTo>
                    <a:lnTo>
                      <a:pt x="340" y="77"/>
                    </a:lnTo>
                    <a:lnTo>
                      <a:pt x="356" y="71"/>
                    </a:lnTo>
                    <a:lnTo>
                      <a:pt x="374" y="65"/>
                    </a:lnTo>
                    <a:lnTo>
                      <a:pt x="355" y="0"/>
                    </a:lnTo>
                    <a:lnTo>
                      <a:pt x="335" y="7"/>
                    </a:lnTo>
                    <a:lnTo>
                      <a:pt x="317" y="14"/>
                    </a:lnTo>
                    <a:lnTo>
                      <a:pt x="298" y="21"/>
                    </a:lnTo>
                    <a:lnTo>
                      <a:pt x="280" y="30"/>
                    </a:lnTo>
                    <a:lnTo>
                      <a:pt x="263" y="39"/>
                    </a:lnTo>
                    <a:lnTo>
                      <a:pt x="247" y="49"/>
                    </a:lnTo>
                    <a:lnTo>
                      <a:pt x="231" y="60"/>
                    </a:lnTo>
                    <a:lnTo>
                      <a:pt x="216" y="71"/>
                    </a:lnTo>
                    <a:lnTo>
                      <a:pt x="201" y="82"/>
                    </a:lnTo>
                    <a:lnTo>
                      <a:pt x="188" y="95"/>
                    </a:lnTo>
                    <a:lnTo>
                      <a:pt x="175" y="109"/>
                    </a:lnTo>
                    <a:lnTo>
                      <a:pt x="163" y="122"/>
                    </a:lnTo>
                    <a:lnTo>
                      <a:pt x="150" y="136"/>
                    </a:lnTo>
                    <a:lnTo>
                      <a:pt x="139" y="151"/>
                    </a:lnTo>
                    <a:lnTo>
                      <a:pt x="128" y="166"/>
                    </a:lnTo>
                    <a:lnTo>
                      <a:pt x="118" y="182"/>
                    </a:lnTo>
                    <a:lnTo>
                      <a:pt x="99" y="214"/>
                    </a:lnTo>
                    <a:lnTo>
                      <a:pt x="81" y="247"/>
                    </a:lnTo>
                    <a:lnTo>
                      <a:pt x="65" y="282"/>
                    </a:lnTo>
                    <a:lnTo>
                      <a:pt x="51" y="319"/>
                    </a:lnTo>
                    <a:lnTo>
                      <a:pt x="37" y="355"/>
                    </a:lnTo>
                    <a:lnTo>
                      <a:pt x="25" y="393"/>
                    </a:lnTo>
                    <a:lnTo>
                      <a:pt x="12" y="432"/>
                    </a:lnTo>
                    <a:lnTo>
                      <a:pt x="1" y="470"/>
                    </a:lnTo>
                    <a:lnTo>
                      <a:pt x="0" y="479"/>
                    </a:lnTo>
                    <a:lnTo>
                      <a:pt x="1" y="470"/>
                    </a:lnTo>
                    <a:lnTo>
                      <a:pt x="0" y="478"/>
                    </a:lnTo>
                    <a:lnTo>
                      <a:pt x="0" y="486"/>
                    </a:lnTo>
                    <a:lnTo>
                      <a:pt x="2" y="492"/>
                    </a:lnTo>
                    <a:lnTo>
                      <a:pt x="4" y="498"/>
                    </a:lnTo>
                    <a:lnTo>
                      <a:pt x="9" y="503"/>
                    </a:lnTo>
                    <a:lnTo>
                      <a:pt x="13" y="507"/>
                    </a:lnTo>
                    <a:lnTo>
                      <a:pt x="19" y="510"/>
                    </a:lnTo>
                    <a:lnTo>
                      <a:pt x="25" y="513"/>
                    </a:lnTo>
                    <a:lnTo>
                      <a:pt x="30" y="514"/>
                    </a:lnTo>
                    <a:lnTo>
                      <a:pt x="37" y="514"/>
                    </a:lnTo>
                    <a:lnTo>
                      <a:pt x="43" y="513"/>
                    </a:lnTo>
                    <a:lnTo>
                      <a:pt x="49" y="510"/>
                    </a:lnTo>
                    <a:lnTo>
                      <a:pt x="54" y="507"/>
                    </a:lnTo>
                    <a:lnTo>
                      <a:pt x="59" y="502"/>
                    </a:lnTo>
                    <a:lnTo>
                      <a:pt x="63" y="497"/>
                    </a:lnTo>
                    <a:lnTo>
                      <a:pt x="66" y="489"/>
                    </a:lnTo>
                    <a:lnTo>
                      <a:pt x="67" y="4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3413160" y="4025880"/>
                <a:ext cx="120600" cy="168120"/>
              </a:xfrm>
              <a:custGeom>
                <a:avLst/>
                <a:gdLst/>
                <a:ahLst/>
                <a:rect l="l" t="t" r="r" b="b"/>
                <a:pathLst>
                  <a:path w="381" h="532">
                    <a:moveTo>
                      <a:pt x="328" y="471"/>
                    </a:moveTo>
                    <a:lnTo>
                      <a:pt x="367" y="471"/>
                    </a:lnTo>
                    <a:lnTo>
                      <a:pt x="334" y="447"/>
                    </a:lnTo>
                    <a:lnTo>
                      <a:pt x="302" y="420"/>
                    </a:lnTo>
                    <a:lnTo>
                      <a:pt x="272" y="393"/>
                    </a:lnTo>
                    <a:lnTo>
                      <a:pt x="242" y="366"/>
                    </a:lnTo>
                    <a:lnTo>
                      <a:pt x="216" y="337"/>
                    </a:lnTo>
                    <a:lnTo>
                      <a:pt x="191" y="309"/>
                    </a:lnTo>
                    <a:lnTo>
                      <a:pt x="168" y="279"/>
                    </a:lnTo>
                    <a:lnTo>
                      <a:pt x="147" y="248"/>
                    </a:lnTo>
                    <a:lnTo>
                      <a:pt x="138" y="233"/>
                    </a:lnTo>
                    <a:lnTo>
                      <a:pt x="128" y="217"/>
                    </a:lnTo>
                    <a:lnTo>
                      <a:pt x="119" y="202"/>
                    </a:lnTo>
                    <a:lnTo>
                      <a:pt x="111" y="186"/>
                    </a:lnTo>
                    <a:lnTo>
                      <a:pt x="104" y="172"/>
                    </a:lnTo>
                    <a:lnTo>
                      <a:pt x="98" y="156"/>
                    </a:lnTo>
                    <a:lnTo>
                      <a:pt x="92" y="141"/>
                    </a:lnTo>
                    <a:lnTo>
                      <a:pt x="86" y="125"/>
                    </a:lnTo>
                    <a:lnTo>
                      <a:pt x="82" y="109"/>
                    </a:lnTo>
                    <a:lnTo>
                      <a:pt x="77" y="94"/>
                    </a:lnTo>
                    <a:lnTo>
                      <a:pt x="74" y="78"/>
                    </a:lnTo>
                    <a:lnTo>
                      <a:pt x="71" y="63"/>
                    </a:lnTo>
                    <a:lnTo>
                      <a:pt x="69" y="47"/>
                    </a:lnTo>
                    <a:lnTo>
                      <a:pt x="68" y="32"/>
                    </a:lnTo>
                    <a:lnTo>
                      <a:pt x="67" y="18"/>
                    </a:lnTo>
                    <a:lnTo>
                      <a:pt x="67" y="2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1" y="37"/>
                    </a:lnTo>
                    <a:lnTo>
                      <a:pt x="2" y="55"/>
                    </a:lnTo>
                    <a:lnTo>
                      <a:pt x="4" y="73"/>
                    </a:lnTo>
                    <a:lnTo>
                      <a:pt x="8" y="92"/>
                    </a:lnTo>
                    <a:lnTo>
                      <a:pt x="12" y="110"/>
                    </a:lnTo>
                    <a:lnTo>
                      <a:pt x="17" y="128"/>
                    </a:lnTo>
                    <a:lnTo>
                      <a:pt x="22" y="145"/>
                    </a:lnTo>
                    <a:lnTo>
                      <a:pt x="28" y="164"/>
                    </a:lnTo>
                    <a:lnTo>
                      <a:pt x="36" y="182"/>
                    </a:lnTo>
                    <a:lnTo>
                      <a:pt x="43" y="199"/>
                    </a:lnTo>
                    <a:lnTo>
                      <a:pt x="51" y="216"/>
                    </a:lnTo>
                    <a:lnTo>
                      <a:pt x="60" y="234"/>
                    </a:lnTo>
                    <a:lnTo>
                      <a:pt x="70" y="251"/>
                    </a:lnTo>
                    <a:lnTo>
                      <a:pt x="79" y="269"/>
                    </a:lnTo>
                    <a:lnTo>
                      <a:pt x="91" y="286"/>
                    </a:lnTo>
                    <a:lnTo>
                      <a:pt x="114" y="319"/>
                    </a:lnTo>
                    <a:lnTo>
                      <a:pt x="139" y="351"/>
                    </a:lnTo>
                    <a:lnTo>
                      <a:pt x="166" y="383"/>
                    </a:lnTo>
                    <a:lnTo>
                      <a:pt x="196" y="413"/>
                    </a:lnTo>
                    <a:lnTo>
                      <a:pt x="225" y="443"/>
                    </a:lnTo>
                    <a:lnTo>
                      <a:pt x="258" y="472"/>
                    </a:lnTo>
                    <a:lnTo>
                      <a:pt x="293" y="499"/>
                    </a:lnTo>
                    <a:lnTo>
                      <a:pt x="328" y="525"/>
                    </a:lnTo>
                    <a:lnTo>
                      <a:pt x="366" y="526"/>
                    </a:lnTo>
                    <a:lnTo>
                      <a:pt x="328" y="525"/>
                    </a:lnTo>
                    <a:lnTo>
                      <a:pt x="335" y="530"/>
                    </a:lnTo>
                    <a:lnTo>
                      <a:pt x="342" y="532"/>
                    </a:lnTo>
                    <a:lnTo>
                      <a:pt x="347" y="532"/>
                    </a:lnTo>
                    <a:lnTo>
                      <a:pt x="354" y="532"/>
                    </a:lnTo>
                    <a:lnTo>
                      <a:pt x="360" y="530"/>
                    </a:lnTo>
                    <a:lnTo>
                      <a:pt x="366" y="526"/>
                    </a:lnTo>
                    <a:lnTo>
                      <a:pt x="370" y="523"/>
                    </a:lnTo>
                    <a:lnTo>
                      <a:pt x="375" y="517"/>
                    </a:lnTo>
                    <a:lnTo>
                      <a:pt x="378" y="513"/>
                    </a:lnTo>
                    <a:lnTo>
                      <a:pt x="380" y="506"/>
                    </a:lnTo>
                    <a:lnTo>
                      <a:pt x="381" y="500"/>
                    </a:lnTo>
                    <a:lnTo>
                      <a:pt x="381" y="494"/>
                    </a:lnTo>
                    <a:lnTo>
                      <a:pt x="379" y="488"/>
                    </a:lnTo>
                    <a:lnTo>
                      <a:pt x="377" y="482"/>
                    </a:lnTo>
                    <a:lnTo>
                      <a:pt x="372" y="476"/>
                    </a:lnTo>
                    <a:lnTo>
                      <a:pt x="367" y="471"/>
                    </a:lnTo>
                    <a:lnTo>
                      <a:pt x="328" y="4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3516480" y="3995640"/>
                <a:ext cx="152280" cy="196920"/>
              </a:xfrm>
              <a:custGeom>
                <a:avLst/>
                <a:gdLst/>
                <a:ahLst/>
                <a:rect l="l" t="t" r="r" b="b"/>
                <a:pathLst>
                  <a:path w="478" h="617">
                    <a:moveTo>
                      <a:pt x="410" y="40"/>
                    </a:moveTo>
                    <a:lnTo>
                      <a:pt x="410" y="29"/>
                    </a:lnTo>
                    <a:lnTo>
                      <a:pt x="406" y="55"/>
                    </a:lnTo>
                    <a:lnTo>
                      <a:pt x="401" y="80"/>
                    </a:lnTo>
                    <a:lnTo>
                      <a:pt x="397" y="104"/>
                    </a:lnTo>
                    <a:lnTo>
                      <a:pt x="392" y="127"/>
                    </a:lnTo>
                    <a:lnTo>
                      <a:pt x="386" y="149"/>
                    </a:lnTo>
                    <a:lnTo>
                      <a:pt x="380" y="168"/>
                    </a:lnTo>
                    <a:lnTo>
                      <a:pt x="373" y="188"/>
                    </a:lnTo>
                    <a:lnTo>
                      <a:pt x="367" y="207"/>
                    </a:lnTo>
                    <a:lnTo>
                      <a:pt x="359" y="224"/>
                    </a:lnTo>
                    <a:lnTo>
                      <a:pt x="351" y="241"/>
                    </a:lnTo>
                    <a:lnTo>
                      <a:pt x="343" y="257"/>
                    </a:lnTo>
                    <a:lnTo>
                      <a:pt x="334" y="273"/>
                    </a:lnTo>
                    <a:lnTo>
                      <a:pt x="325" y="288"/>
                    </a:lnTo>
                    <a:lnTo>
                      <a:pt x="315" y="303"/>
                    </a:lnTo>
                    <a:lnTo>
                      <a:pt x="303" y="316"/>
                    </a:lnTo>
                    <a:lnTo>
                      <a:pt x="293" y="330"/>
                    </a:lnTo>
                    <a:lnTo>
                      <a:pt x="280" y="345"/>
                    </a:lnTo>
                    <a:lnTo>
                      <a:pt x="268" y="357"/>
                    </a:lnTo>
                    <a:lnTo>
                      <a:pt x="254" y="371"/>
                    </a:lnTo>
                    <a:lnTo>
                      <a:pt x="240" y="385"/>
                    </a:lnTo>
                    <a:lnTo>
                      <a:pt x="210" y="411"/>
                    </a:lnTo>
                    <a:lnTo>
                      <a:pt x="174" y="438"/>
                    </a:lnTo>
                    <a:lnTo>
                      <a:pt x="137" y="467"/>
                    </a:lnTo>
                    <a:lnTo>
                      <a:pt x="96" y="496"/>
                    </a:lnTo>
                    <a:lnTo>
                      <a:pt x="50" y="527"/>
                    </a:lnTo>
                    <a:lnTo>
                      <a:pt x="0" y="562"/>
                    </a:lnTo>
                    <a:lnTo>
                      <a:pt x="38" y="617"/>
                    </a:lnTo>
                    <a:lnTo>
                      <a:pt x="88" y="583"/>
                    </a:lnTo>
                    <a:lnTo>
                      <a:pt x="133" y="551"/>
                    </a:lnTo>
                    <a:lnTo>
                      <a:pt x="177" y="522"/>
                    </a:lnTo>
                    <a:lnTo>
                      <a:pt x="215" y="492"/>
                    </a:lnTo>
                    <a:lnTo>
                      <a:pt x="252" y="463"/>
                    </a:lnTo>
                    <a:lnTo>
                      <a:pt x="285" y="435"/>
                    </a:lnTo>
                    <a:lnTo>
                      <a:pt x="301" y="420"/>
                    </a:lnTo>
                    <a:lnTo>
                      <a:pt x="316" y="405"/>
                    </a:lnTo>
                    <a:lnTo>
                      <a:pt x="331" y="389"/>
                    </a:lnTo>
                    <a:lnTo>
                      <a:pt x="344" y="374"/>
                    </a:lnTo>
                    <a:lnTo>
                      <a:pt x="357" y="358"/>
                    </a:lnTo>
                    <a:lnTo>
                      <a:pt x="369" y="341"/>
                    </a:lnTo>
                    <a:lnTo>
                      <a:pt x="381" y="324"/>
                    </a:lnTo>
                    <a:lnTo>
                      <a:pt x="392" y="307"/>
                    </a:lnTo>
                    <a:lnTo>
                      <a:pt x="402" y="289"/>
                    </a:lnTo>
                    <a:lnTo>
                      <a:pt x="411" y="271"/>
                    </a:lnTo>
                    <a:lnTo>
                      <a:pt x="421" y="251"/>
                    </a:lnTo>
                    <a:lnTo>
                      <a:pt x="429" y="231"/>
                    </a:lnTo>
                    <a:lnTo>
                      <a:pt x="437" y="210"/>
                    </a:lnTo>
                    <a:lnTo>
                      <a:pt x="445" y="188"/>
                    </a:lnTo>
                    <a:lnTo>
                      <a:pt x="450" y="167"/>
                    </a:lnTo>
                    <a:lnTo>
                      <a:pt x="457" y="143"/>
                    </a:lnTo>
                    <a:lnTo>
                      <a:pt x="463" y="119"/>
                    </a:lnTo>
                    <a:lnTo>
                      <a:pt x="468" y="93"/>
                    </a:lnTo>
                    <a:lnTo>
                      <a:pt x="473" y="66"/>
                    </a:lnTo>
                    <a:lnTo>
                      <a:pt x="478" y="39"/>
                    </a:lnTo>
                    <a:lnTo>
                      <a:pt x="476" y="28"/>
                    </a:lnTo>
                    <a:lnTo>
                      <a:pt x="478" y="39"/>
                    </a:lnTo>
                    <a:lnTo>
                      <a:pt x="478" y="31"/>
                    </a:lnTo>
                    <a:lnTo>
                      <a:pt x="476" y="24"/>
                    </a:lnTo>
                    <a:lnTo>
                      <a:pt x="474" y="17"/>
                    </a:lnTo>
                    <a:lnTo>
                      <a:pt x="471" y="12"/>
                    </a:lnTo>
                    <a:lnTo>
                      <a:pt x="466" y="8"/>
                    </a:lnTo>
                    <a:lnTo>
                      <a:pt x="460" y="5"/>
                    </a:lnTo>
                    <a:lnTo>
                      <a:pt x="455" y="2"/>
                    </a:lnTo>
                    <a:lnTo>
                      <a:pt x="449" y="0"/>
                    </a:lnTo>
                    <a:lnTo>
                      <a:pt x="442" y="0"/>
                    </a:lnTo>
                    <a:lnTo>
                      <a:pt x="437" y="0"/>
                    </a:lnTo>
                    <a:lnTo>
                      <a:pt x="430" y="2"/>
                    </a:lnTo>
                    <a:lnTo>
                      <a:pt x="424" y="6"/>
                    </a:lnTo>
                    <a:lnTo>
                      <a:pt x="419" y="9"/>
                    </a:lnTo>
                    <a:lnTo>
                      <a:pt x="415" y="15"/>
                    </a:lnTo>
                    <a:lnTo>
                      <a:pt x="413" y="21"/>
                    </a:lnTo>
                    <a:lnTo>
                      <a:pt x="410" y="29"/>
                    </a:lnTo>
                    <a:lnTo>
                      <a:pt x="410" y="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3517920" y="3873600"/>
                <a:ext cx="150840" cy="135000"/>
              </a:xfrm>
              <a:custGeom>
                <a:avLst/>
                <a:gdLst/>
                <a:ahLst/>
                <a:rect l="l" t="t" r="r" b="b"/>
                <a:pathLst>
                  <a:path w="474" h="429">
                    <a:moveTo>
                      <a:pt x="44" y="66"/>
                    </a:moveTo>
                    <a:lnTo>
                      <a:pt x="30" y="67"/>
                    </a:lnTo>
                    <a:lnTo>
                      <a:pt x="50" y="71"/>
                    </a:lnTo>
                    <a:lnTo>
                      <a:pt x="70" y="74"/>
                    </a:lnTo>
                    <a:lnTo>
                      <a:pt x="89" y="79"/>
                    </a:lnTo>
                    <a:lnTo>
                      <a:pt x="107" y="83"/>
                    </a:lnTo>
                    <a:lnTo>
                      <a:pt x="126" y="88"/>
                    </a:lnTo>
                    <a:lnTo>
                      <a:pt x="143" y="94"/>
                    </a:lnTo>
                    <a:lnTo>
                      <a:pt x="160" y="101"/>
                    </a:lnTo>
                    <a:lnTo>
                      <a:pt x="176" y="107"/>
                    </a:lnTo>
                    <a:lnTo>
                      <a:pt x="192" y="114"/>
                    </a:lnTo>
                    <a:lnTo>
                      <a:pt x="207" y="122"/>
                    </a:lnTo>
                    <a:lnTo>
                      <a:pt x="221" y="130"/>
                    </a:lnTo>
                    <a:lnTo>
                      <a:pt x="235" y="139"/>
                    </a:lnTo>
                    <a:lnTo>
                      <a:pt x="249" y="148"/>
                    </a:lnTo>
                    <a:lnTo>
                      <a:pt x="261" y="159"/>
                    </a:lnTo>
                    <a:lnTo>
                      <a:pt x="274" y="169"/>
                    </a:lnTo>
                    <a:lnTo>
                      <a:pt x="286" y="179"/>
                    </a:lnTo>
                    <a:lnTo>
                      <a:pt x="298" y="191"/>
                    </a:lnTo>
                    <a:lnTo>
                      <a:pt x="308" y="203"/>
                    </a:lnTo>
                    <a:lnTo>
                      <a:pt x="318" y="216"/>
                    </a:lnTo>
                    <a:lnTo>
                      <a:pt x="329" y="228"/>
                    </a:lnTo>
                    <a:lnTo>
                      <a:pt x="338" y="242"/>
                    </a:lnTo>
                    <a:lnTo>
                      <a:pt x="347" y="256"/>
                    </a:lnTo>
                    <a:lnTo>
                      <a:pt x="355" y="271"/>
                    </a:lnTo>
                    <a:lnTo>
                      <a:pt x="363" y="285"/>
                    </a:lnTo>
                    <a:lnTo>
                      <a:pt x="371" y="301"/>
                    </a:lnTo>
                    <a:lnTo>
                      <a:pt x="378" y="318"/>
                    </a:lnTo>
                    <a:lnTo>
                      <a:pt x="384" y="334"/>
                    </a:lnTo>
                    <a:lnTo>
                      <a:pt x="390" y="353"/>
                    </a:lnTo>
                    <a:lnTo>
                      <a:pt x="395" y="371"/>
                    </a:lnTo>
                    <a:lnTo>
                      <a:pt x="400" y="389"/>
                    </a:lnTo>
                    <a:lnTo>
                      <a:pt x="405" y="409"/>
                    </a:lnTo>
                    <a:lnTo>
                      <a:pt x="408" y="429"/>
                    </a:lnTo>
                    <a:lnTo>
                      <a:pt x="474" y="417"/>
                    </a:lnTo>
                    <a:lnTo>
                      <a:pt x="471" y="395"/>
                    </a:lnTo>
                    <a:lnTo>
                      <a:pt x="465" y="373"/>
                    </a:lnTo>
                    <a:lnTo>
                      <a:pt x="460" y="353"/>
                    </a:lnTo>
                    <a:lnTo>
                      <a:pt x="454" y="332"/>
                    </a:lnTo>
                    <a:lnTo>
                      <a:pt x="447" y="313"/>
                    </a:lnTo>
                    <a:lnTo>
                      <a:pt x="440" y="293"/>
                    </a:lnTo>
                    <a:lnTo>
                      <a:pt x="432" y="274"/>
                    </a:lnTo>
                    <a:lnTo>
                      <a:pt x="423" y="256"/>
                    </a:lnTo>
                    <a:lnTo>
                      <a:pt x="414" y="239"/>
                    </a:lnTo>
                    <a:lnTo>
                      <a:pt x="405" y="221"/>
                    </a:lnTo>
                    <a:lnTo>
                      <a:pt x="393" y="204"/>
                    </a:lnTo>
                    <a:lnTo>
                      <a:pt x="383" y="188"/>
                    </a:lnTo>
                    <a:lnTo>
                      <a:pt x="372" y="174"/>
                    </a:lnTo>
                    <a:lnTo>
                      <a:pt x="359" y="159"/>
                    </a:lnTo>
                    <a:lnTo>
                      <a:pt x="346" y="144"/>
                    </a:lnTo>
                    <a:lnTo>
                      <a:pt x="333" y="130"/>
                    </a:lnTo>
                    <a:lnTo>
                      <a:pt x="318" y="118"/>
                    </a:lnTo>
                    <a:lnTo>
                      <a:pt x="303" y="105"/>
                    </a:lnTo>
                    <a:lnTo>
                      <a:pt x="289" y="94"/>
                    </a:lnTo>
                    <a:lnTo>
                      <a:pt x="273" y="83"/>
                    </a:lnTo>
                    <a:lnTo>
                      <a:pt x="256" y="73"/>
                    </a:lnTo>
                    <a:lnTo>
                      <a:pt x="238" y="63"/>
                    </a:lnTo>
                    <a:lnTo>
                      <a:pt x="221" y="54"/>
                    </a:lnTo>
                    <a:lnTo>
                      <a:pt x="203" y="46"/>
                    </a:lnTo>
                    <a:lnTo>
                      <a:pt x="185" y="38"/>
                    </a:lnTo>
                    <a:lnTo>
                      <a:pt x="165" y="31"/>
                    </a:lnTo>
                    <a:lnTo>
                      <a:pt x="145" y="24"/>
                    </a:lnTo>
                    <a:lnTo>
                      <a:pt x="124" y="18"/>
                    </a:lnTo>
                    <a:lnTo>
                      <a:pt x="104" y="13"/>
                    </a:lnTo>
                    <a:lnTo>
                      <a:pt x="83" y="8"/>
                    </a:lnTo>
                    <a:lnTo>
                      <a:pt x="61" y="4"/>
                    </a:lnTo>
                    <a:lnTo>
                      <a:pt x="39" y="0"/>
                    </a:lnTo>
                    <a:lnTo>
                      <a:pt x="25" y="1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3" y="1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8" y="13"/>
                    </a:lnTo>
                    <a:lnTo>
                      <a:pt x="5" y="17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1" y="42"/>
                    </a:lnTo>
                    <a:lnTo>
                      <a:pt x="2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5" y="63"/>
                    </a:lnTo>
                    <a:lnTo>
                      <a:pt x="22" y="66"/>
                    </a:lnTo>
                    <a:lnTo>
                      <a:pt x="30" y="67"/>
                    </a:lnTo>
                    <a:lnTo>
                      <a:pt x="44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3173400" y="4051440"/>
                <a:ext cx="273240" cy="349200"/>
              </a:xfrm>
              <a:custGeom>
                <a:avLst/>
                <a:gdLst/>
                <a:ahLst/>
                <a:rect l="l" t="t" r="r" b="b"/>
                <a:pathLst>
                  <a:path w="861" h="1104">
                    <a:moveTo>
                      <a:pt x="385" y="0"/>
                    </a:moveTo>
                    <a:lnTo>
                      <a:pt x="365" y="7"/>
                    </a:lnTo>
                    <a:lnTo>
                      <a:pt x="344" y="14"/>
                    </a:lnTo>
                    <a:lnTo>
                      <a:pt x="324" y="23"/>
                    </a:lnTo>
                    <a:lnTo>
                      <a:pt x="305" y="32"/>
                    </a:lnTo>
                    <a:lnTo>
                      <a:pt x="287" y="41"/>
                    </a:lnTo>
                    <a:lnTo>
                      <a:pt x="270" y="52"/>
                    </a:lnTo>
                    <a:lnTo>
                      <a:pt x="253" y="63"/>
                    </a:lnTo>
                    <a:lnTo>
                      <a:pt x="237" y="76"/>
                    </a:lnTo>
                    <a:lnTo>
                      <a:pt x="222" y="88"/>
                    </a:lnTo>
                    <a:lnTo>
                      <a:pt x="207" y="102"/>
                    </a:lnTo>
                    <a:lnTo>
                      <a:pt x="193" y="116"/>
                    </a:lnTo>
                    <a:lnTo>
                      <a:pt x="180" y="130"/>
                    </a:lnTo>
                    <a:lnTo>
                      <a:pt x="166" y="146"/>
                    </a:lnTo>
                    <a:lnTo>
                      <a:pt x="154" y="161"/>
                    </a:lnTo>
                    <a:lnTo>
                      <a:pt x="142" y="178"/>
                    </a:lnTo>
                    <a:lnTo>
                      <a:pt x="131" y="195"/>
                    </a:lnTo>
                    <a:lnTo>
                      <a:pt x="121" y="213"/>
                    </a:lnTo>
                    <a:lnTo>
                      <a:pt x="109" y="231"/>
                    </a:lnTo>
                    <a:lnTo>
                      <a:pt x="100" y="249"/>
                    </a:lnTo>
                    <a:lnTo>
                      <a:pt x="90" y="268"/>
                    </a:lnTo>
                    <a:lnTo>
                      <a:pt x="73" y="307"/>
                    </a:lnTo>
                    <a:lnTo>
                      <a:pt x="56" y="348"/>
                    </a:lnTo>
                    <a:lnTo>
                      <a:pt x="41" y="389"/>
                    </a:lnTo>
                    <a:lnTo>
                      <a:pt x="26" y="433"/>
                    </a:lnTo>
                    <a:lnTo>
                      <a:pt x="12" y="477"/>
                    </a:lnTo>
                    <a:lnTo>
                      <a:pt x="0" y="522"/>
                    </a:lnTo>
                    <a:lnTo>
                      <a:pt x="0" y="542"/>
                    </a:lnTo>
                    <a:lnTo>
                      <a:pt x="0" y="562"/>
                    </a:lnTo>
                    <a:lnTo>
                      <a:pt x="2" y="581"/>
                    </a:lnTo>
                    <a:lnTo>
                      <a:pt x="4" y="600"/>
                    </a:lnTo>
                    <a:lnTo>
                      <a:pt x="8" y="621"/>
                    </a:lnTo>
                    <a:lnTo>
                      <a:pt x="12" y="640"/>
                    </a:lnTo>
                    <a:lnTo>
                      <a:pt x="17" y="660"/>
                    </a:lnTo>
                    <a:lnTo>
                      <a:pt x="24" y="680"/>
                    </a:lnTo>
                    <a:lnTo>
                      <a:pt x="30" y="700"/>
                    </a:lnTo>
                    <a:lnTo>
                      <a:pt x="38" y="719"/>
                    </a:lnTo>
                    <a:lnTo>
                      <a:pt x="46" y="738"/>
                    </a:lnTo>
                    <a:lnTo>
                      <a:pt x="55" y="758"/>
                    </a:lnTo>
                    <a:lnTo>
                      <a:pt x="65" y="777"/>
                    </a:lnTo>
                    <a:lnTo>
                      <a:pt x="75" y="796"/>
                    </a:lnTo>
                    <a:lnTo>
                      <a:pt x="87" y="815"/>
                    </a:lnTo>
                    <a:lnTo>
                      <a:pt x="99" y="833"/>
                    </a:lnTo>
                    <a:lnTo>
                      <a:pt x="110" y="853"/>
                    </a:lnTo>
                    <a:lnTo>
                      <a:pt x="124" y="871"/>
                    </a:lnTo>
                    <a:lnTo>
                      <a:pt x="138" y="889"/>
                    </a:lnTo>
                    <a:lnTo>
                      <a:pt x="153" y="907"/>
                    </a:lnTo>
                    <a:lnTo>
                      <a:pt x="167" y="926"/>
                    </a:lnTo>
                    <a:lnTo>
                      <a:pt x="182" y="943"/>
                    </a:lnTo>
                    <a:lnTo>
                      <a:pt x="198" y="960"/>
                    </a:lnTo>
                    <a:lnTo>
                      <a:pt x="215" y="977"/>
                    </a:lnTo>
                    <a:lnTo>
                      <a:pt x="250" y="1011"/>
                    </a:lnTo>
                    <a:lnTo>
                      <a:pt x="286" y="1043"/>
                    </a:lnTo>
                    <a:lnTo>
                      <a:pt x="325" y="1074"/>
                    </a:lnTo>
                    <a:lnTo>
                      <a:pt x="364" y="1104"/>
                    </a:lnTo>
                    <a:lnTo>
                      <a:pt x="423" y="1065"/>
                    </a:lnTo>
                    <a:lnTo>
                      <a:pt x="476" y="1028"/>
                    </a:lnTo>
                    <a:lnTo>
                      <a:pt x="527" y="993"/>
                    </a:lnTo>
                    <a:lnTo>
                      <a:pt x="572" y="960"/>
                    </a:lnTo>
                    <a:lnTo>
                      <a:pt x="613" y="927"/>
                    </a:lnTo>
                    <a:lnTo>
                      <a:pt x="651" y="894"/>
                    </a:lnTo>
                    <a:lnTo>
                      <a:pt x="668" y="878"/>
                    </a:lnTo>
                    <a:lnTo>
                      <a:pt x="685" y="862"/>
                    </a:lnTo>
                    <a:lnTo>
                      <a:pt x="701" y="845"/>
                    </a:lnTo>
                    <a:lnTo>
                      <a:pt x="716" y="827"/>
                    </a:lnTo>
                    <a:lnTo>
                      <a:pt x="730" y="810"/>
                    </a:lnTo>
                    <a:lnTo>
                      <a:pt x="743" y="792"/>
                    </a:lnTo>
                    <a:lnTo>
                      <a:pt x="756" y="774"/>
                    </a:lnTo>
                    <a:lnTo>
                      <a:pt x="767" y="754"/>
                    </a:lnTo>
                    <a:lnTo>
                      <a:pt x="779" y="735"/>
                    </a:lnTo>
                    <a:lnTo>
                      <a:pt x="789" y="715"/>
                    </a:lnTo>
                    <a:lnTo>
                      <a:pt x="798" y="694"/>
                    </a:lnTo>
                    <a:lnTo>
                      <a:pt x="808" y="672"/>
                    </a:lnTo>
                    <a:lnTo>
                      <a:pt x="816" y="649"/>
                    </a:lnTo>
                    <a:lnTo>
                      <a:pt x="824" y="626"/>
                    </a:lnTo>
                    <a:lnTo>
                      <a:pt x="831" y="600"/>
                    </a:lnTo>
                    <a:lnTo>
                      <a:pt x="838" y="574"/>
                    </a:lnTo>
                    <a:lnTo>
                      <a:pt x="845" y="547"/>
                    </a:lnTo>
                    <a:lnTo>
                      <a:pt x="850" y="518"/>
                    </a:lnTo>
                    <a:lnTo>
                      <a:pt x="856" y="489"/>
                    </a:lnTo>
                    <a:lnTo>
                      <a:pt x="861" y="457"/>
                    </a:lnTo>
                    <a:lnTo>
                      <a:pt x="856" y="432"/>
                    </a:lnTo>
                    <a:lnTo>
                      <a:pt x="851" y="408"/>
                    </a:lnTo>
                    <a:lnTo>
                      <a:pt x="845" y="385"/>
                    </a:lnTo>
                    <a:lnTo>
                      <a:pt x="839" y="362"/>
                    </a:lnTo>
                    <a:lnTo>
                      <a:pt x="831" y="339"/>
                    </a:lnTo>
                    <a:lnTo>
                      <a:pt x="823" y="319"/>
                    </a:lnTo>
                    <a:lnTo>
                      <a:pt x="815" y="298"/>
                    </a:lnTo>
                    <a:lnTo>
                      <a:pt x="806" y="278"/>
                    </a:lnTo>
                    <a:lnTo>
                      <a:pt x="796" y="258"/>
                    </a:lnTo>
                    <a:lnTo>
                      <a:pt x="785" y="240"/>
                    </a:lnTo>
                    <a:lnTo>
                      <a:pt x="774" y="222"/>
                    </a:lnTo>
                    <a:lnTo>
                      <a:pt x="763" y="205"/>
                    </a:lnTo>
                    <a:lnTo>
                      <a:pt x="750" y="187"/>
                    </a:lnTo>
                    <a:lnTo>
                      <a:pt x="736" y="171"/>
                    </a:lnTo>
                    <a:lnTo>
                      <a:pt x="723" y="157"/>
                    </a:lnTo>
                    <a:lnTo>
                      <a:pt x="708" y="142"/>
                    </a:lnTo>
                    <a:lnTo>
                      <a:pt x="693" y="128"/>
                    </a:lnTo>
                    <a:lnTo>
                      <a:pt x="677" y="114"/>
                    </a:lnTo>
                    <a:lnTo>
                      <a:pt x="661" y="102"/>
                    </a:lnTo>
                    <a:lnTo>
                      <a:pt x="644" y="90"/>
                    </a:lnTo>
                    <a:lnTo>
                      <a:pt x="626" y="79"/>
                    </a:lnTo>
                    <a:lnTo>
                      <a:pt x="608" y="69"/>
                    </a:lnTo>
                    <a:lnTo>
                      <a:pt x="588" y="59"/>
                    </a:lnTo>
                    <a:lnTo>
                      <a:pt x="569" y="49"/>
                    </a:lnTo>
                    <a:lnTo>
                      <a:pt x="548" y="41"/>
                    </a:lnTo>
                    <a:lnTo>
                      <a:pt x="527" y="33"/>
                    </a:lnTo>
                    <a:lnTo>
                      <a:pt x="505" y="27"/>
                    </a:lnTo>
                    <a:lnTo>
                      <a:pt x="482" y="20"/>
                    </a:lnTo>
                    <a:lnTo>
                      <a:pt x="459" y="14"/>
                    </a:lnTo>
                    <a:lnTo>
                      <a:pt x="435" y="8"/>
                    </a:lnTo>
                    <a:lnTo>
                      <a:pt x="410" y="4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3162240" y="4040280"/>
                <a:ext cx="136440" cy="187200"/>
              </a:xfrm>
              <a:custGeom>
                <a:avLst/>
                <a:gdLst/>
                <a:ahLst/>
                <a:rect l="l" t="t" r="r" b="b"/>
                <a:pathLst>
                  <a:path w="428" h="588">
                    <a:moveTo>
                      <a:pt x="67" y="555"/>
                    </a:moveTo>
                    <a:lnTo>
                      <a:pt x="66" y="563"/>
                    </a:lnTo>
                    <a:lnTo>
                      <a:pt x="78" y="518"/>
                    </a:lnTo>
                    <a:lnTo>
                      <a:pt x="92" y="475"/>
                    </a:lnTo>
                    <a:lnTo>
                      <a:pt x="106" y="433"/>
                    </a:lnTo>
                    <a:lnTo>
                      <a:pt x="122" y="392"/>
                    </a:lnTo>
                    <a:lnTo>
                      <a:pt x="138" y="353"/>
                    </a:lnTo>
                    <a:lnTo>
                      <a:pt x="155" y="314"/>
                    </a:lnTo>
                    <a:lnTo>
                      <a:pt x="164" y="297"/>
                    </a:lnTo>
                    <a:lnTo>
                      <a:pt x="173" y="279"/>
                    </a:lnTo>
                    <a:lnTo>
                      <a:pt x="183" y="262"/>
                    </a:lnTo>
                    <a:lnTo>
                      <a:pt x="194" y="246"/>
                    </a:lnTo>
                    <a:lnTo>
                      <a:pt x="204" y="230"/>
                    </a:lnTo>
                    <a:lnTo>
                      <a:pt x="215" y="214"/>
                    </a:lnTo>
                    <a:lnTo>
                      <a:pt x="227" y="199"/>
                    </a:lnTo>
                    <a:lnTo>
                      <a:pt x="239" y="185"/>
                    </a:lnTo>
                    <a:lnTo>
                      <a:pt x="252" y="172"/>
                    </a:lnTo>
                    <a:lnTo>
                      <a:pt x="264" y="158"/>
                    </a:lnTo>
                    <a:lnTo>
                      <a:pt x="278" y="145"/>
                    </a:lnTo>
                    <a:lnTo>
                      <a:pt x="292" y="134"/>
                    </a:lnTo>
                    <a:lnTo>
                      <a:pt x="306" y="122"/>
                    </a:lnTo>
                    <a:lnTo>
                      <a:pt x="322" y="112"/>
                    </a:lnTo>
                    <a:lnTo>
                      <a:pt x="338" y="103"/>
                    </a:lnTo>
                    <a:lnTo>
                      <a:pt x="354" y="94"/>
                    </a:lnTo>
                    <a:lnTo>
                      <a:pt x="371" y="86"/>
                    </a:lnTo>
                    <a:lnTo>
                      <a:pt x="390" y="78"/>
                    </a:lnTo>
                    <a:lnTo>
                      <a:pt x="409" y="71"/>
                    </a:lnTo>
                    <a:lnTo>
                      <a:pt x="428" y="65"/>
                    </a:lnTo>
                    <a:lnTo>
                      <a:pt x="410" y="0"/>
                    </a:lnTo>
                    <a:lnTo>
                      <a:pt x="387" y="7"/>
                    </a:lnTo>
                    <a:lnTo>
                      <a:pt x="366" y="15"/>
                    </a:lnTo>
                    <a:lnTo>
                      <a:pt x="344" y="24"/>
                    </a:lnTo>
                    <a:lnTo>
                      <a:pt x="323" y="33"/>
                    </a:lnTo>
                    <a:lnTo>
                      <a:pt x="304" y="45"/>
                    </a:lnTo>
                    <a:lnTo>
                      <a:pt x="286" y="56"/>
                    </a:lnTo>
                    <a:lnTo>
                      <a:pt x="268" y="68"/>
                    </a:lnTo>
                    <a:lnTo>
                      <a:pt x="251" y="81"/>
                    </a:lnTo>
                    <a:lnTo>
                      <a:pt x="233" y="95"/>
                    </a:lnTo>
                    <a:lnTo>
                      <a:pt x="217" y="110"/>
                    </a:lnTo>
                    <a:lnTo>
                      <a:pt x="203" y="125"/>
                    </a:lnTo>
                    <a:lnTo>
                      <a:pt x="188" y="141"/>
                    </a:lnTo>
                    <a:lnTo>
                      <a:pt x="174" y="157"/>
                    </a:lnTo>
                    <a:lnTo>
                      <a:pt x="162" y="174"/>
                    </a:lnTo>
                    <a:lnTo>
                      <a:pt x="149" y="191"/>
                    </a:lnTo>
                    <a:lnTo>
                      <a:pt x="137" y="209"/>
                    </a:lnTo>
                    <a:lnTo>
                      <a:pt x="125" y="227"/>
                    </a:lnTo>
                    <a:lnTo>
                      <a:pt x="115" y="247"/>
                    </a:lnTo>
                    <a:lnTo>
                      <a:pt x="103" y="265"/>
                    </a:lnTo>
                    <a:lnTo>
                      <a:pt x="94" y="286"/>
                    </a:lnTo>
                    <a:lnTo>
                      <a:pt x="76" y="326"/>
                    </a:lnTo>
                    <a:lnTo>
                      <a:pt x="59" y="368"/>
                    </a:lnTo>
                    <a:lnTo>
                      <a:pt x="43" y="411"/>
                    </a:lnTo>
                    <a:lnTo>
                      <a:pt x="28" y="454"/>
                    </a:lnTo>
                    <a:lnTo>
                      <a:pt x="15" y="499"/>
                    </a:lnTo>
                    <a:lnTo>
                      <a:pt x="1" y="545"/>
                    </a:lnTo>
                    <a:lnTo>
                      <a:pt x="0" y="553"/>
                    </a:lnTo>
                    <a:lnTo>
                      <a:pt x="1" y="545"/>
                    </a:lnTo>
                    <a:lnTo>
                      <a:pt x="0" y="553"/>
                    </a:lnTo>
                    <a:lnTo>
                      <a:pt x="0" y="559"/>
                    </a:lnTo>
                    <a:lnTo>
                      <a:pt x="2" y="566"/>
                    </a:lnTo>
                    <a:lnTo>
                      <a:pt x="4" y="572"/>
                    </a:lnTo>
                    <a:lnTo>
                      <a:pt x="9" y="578"/>
                    </a:lnTo>
                    <a:lnTo>
                      <a:pt x="13" y="581"/>
                    </a:lnTo>
                    <a:lnTo>
                      <a:pt x="19" y="585"/>
                    </a:lnTo>
                    <a:lnTo>
                      <a:pt x="25" y="587"/>
                    </a:lnTo>
                    <a:lnTo>
                      <a:pt x="30" y="588"/>
                    </a:lnTo>
                    <a:lnTo>
                      <a:pt x="37" y="588"/>
                    </a:lnTo>
                    <a:lnTo>
                      <a:pt x="43" y="587"/>
                    </a:lnTo>
                    <a:lnTo>
                      <a:pt x="49" y="585"/>
                    </a:lnTo>
                    <a:lnTo>
                      <a:pt x="54" y="581"/>
                    </a:lnTo>
                    <a:lnTo>
                      <a:pt x="59" y="577"/>
                    </a:lnTo>
                    <a:lnTo>
                      <a:pt x="64" y="571"/>
                    </a:lnTo>
                    <a:lnTo>
                      <a:pt x="66" y="563"/>
                    </a:lnTo>
                    <a:lnTo>
                      <a:pt x="67" y="55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3162240" y="4216320"/>
                <a:ext cx="136440" cy="195480"/>
              </a:xfrm>
              <a:custGeom>
                <a:avLst/>
                <a:gdLst/>
                <a:ahLst/>
                <a:rect l="l" t="t" r="r" b="b"/>
                <a:pathLst>
                  <a:path w="432" h="617">
                    <a:moveTo>
                      <a:pt x="379" y="555"/>
                    </a:moveTo>
                    <a:lnTo>
                      <a:pt x="418" y="555"/>
                    </a:lnTo>
                    <a:lnTo>
                      <a:pt x="379" y="527"/>
                    </a:lnTo>
                    <a:lnTo>
                      <a:pt x="342" y="496"/>
                    </a:lnTo>
                    <a:lnTo>
                      <a:pt x="306" y="465"/>
                    </a:lnTo>
                    <a:lnTo>
                      <a:pt x="273" y="432"/>
                    </a:lnTo>
                    <a:lnTo>
                      <a:pt x="257" y="416"/>
                    </a:lnTo>
                    <a:lnTo>
                      <a:pt x="241" y="399"/>
                    </a:lnTo>
                    <a:lnTo>
                      <a:pt x="227" y="382"/>
                    </a:lnTo>
                    <a:lnTo>
                      <a:pt x="213" y="365"/>
                    </a:lnTo>
                    <a:lnTo>
                      <a:pt x="198" y="348"/>
                    </a:lnTo>
                    <a:lnTo>
                      <a:pt x="186" y="330"/>
                    </a:lnTo>
                    <a:lnTo>
                      <a:pt x="173" y="312"/>
                    </a:lnTo>
                    <a:lnTo>
                      <a:pt x="160" y="294"/>
                    </a:lnTo>
                    <a:lnTo>
                      <a:pt x="149" y="277"/>
                    </a:lnTo>
                    <a:lnTo>
                      <a:pt x="139" y="259"/>
                    </a:lnTo>
                    <a:lnTo>
                      <a:pt x="129" y="240"/>
                    </a:lnTo>
                    <a:lnTo>
                      <a:pt x="119" y="222"/>
                    </a:lnTo>
                    <a:lnTo>
                      <a:pt x="110" y="204"/>
                    </a:lnTo>
                    <a:lnTo>
                      <a:pt x="103" y="186"/>
                    </a:lnTo>
                    <a:lnTo>
                      <a:pt x="95" y="167"/>
                    </a:lnTo>
                    <a:lnTo>
                      <a:pt x="90" y="148"/>
                    </a:lnTo>
                    <a:lnTo>
                      <a:pt x="84" y="130"/>
                    </a:lnTo>
                    <a:lnTo>
                      <a:pt x="78" y="111"/>
                    </a:lnTo>
                    <a:lnTo>
                      <a:pt x="75" y="93"/>
                    </a:lnTo>
                    <a:lnTo>
                      <a:pt x="72" y="75"/>
                    </a:lnTo>
                    <a:lnTo>
                      <a:pt x="69" y="57"/>
                    </a:lnTo>
                    <a:lnTo>
                      <a:pt x="68" y="38"/>
                    </a:lnTo>
                    <a:lnTo>
                      <a:pt x="67" y="20"/>
                    </a:lnTo>
                    <a:lnTo>
                      <a:pt x="67" y="2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" y="43"/>
                    </a:lnTo>
                    <a:lnTo>
                      <a:pt x="2" y="63"/>
                    </a:lnTo>
                    <a:lnTo>
                      <a:pt x="5" y="85"/>
                    </a:lnTo>
                    <a:lnTo>
                      <a:pt x="9" y="106"/>
                    </a:lnTo>
                    <a:lnTo>
                      <a:pt x="13" y="127"/>
                    </a:lnTo>
                    <a:lnTo>
                      <a:pt x="19" y="148"/>
                    </a:lnTo>
                    <a:lnTo>
                      <a:pt x="25" y="170"/>
                    </a:lnTo>
                    <a:lnTo>
                      <a:pt x="33" y="190"/>
                    </a:lnTo>
                    <a:lnTo>
                      <a:pt x="41" y="211"/>
                    </a:lnTo>
                    <a:lnTo>
                      <a:pt x="49" y="231"/>
                    </a:lnTo>
                    <a:lnTo>
                      <a:pt x="59" y="252"/>
                    </a:lnTo>
                    <a:lnTo>
                      <a:pt x="69" y="272"/>
                    </a:lnTo>
                    <a:lnTo>
                      <a:pt x="81" y="292"/>
                    </a:lnTo>
                    <a:lnTo>
                      <a:pt x="92" y="312"/>
                    </a:lnTo>
                    <a:lnTo>
                      <a:pt x="105" y="332"/>
                    </a:lnTo>
                    <a:lnTo>
                      <a:pt x="117" y="351"/>
                    </a:lnTo>
                    <a:lnTo>
                      <a:pt x="131" y="370"/>
                    </a:lnTo>
                    <a:lnTo>
                      <a:pt x="146" y="389"/>
                    </a:lnTo>
                    <a:lnTo>
                      <a:pt x="160" y="408"/>
                    </a:lnTo>
                    <a:lnTo>
                      <a:pt x="175" y="426"/>
                    </a:lnTo>
                    <a:lnTo>
                      <a:pt x="191" y="445"/>
                    </a:lnTo>
                    <a:lnTo>
                      <a:pt x="208" y="463"/>
                    </a:lnTo>
                    <a:lnTo>
                      <a:pt x="225" y="480"/>
                    </a:lnTo>
                    <a:lnTo>
                      <a:pt x="261" y="514"/>
                    </a:lnTo>
                    <a:lnTo>
                      <a:pt x="298" y="548"/>
                    </a:lnTo>
                    <a:lnTo>
                      <a:pt x="337" y="579"/>
                    </a:lnTo>
                    <a:lnTo>
                      <a:pt x="378" y="610"/>
                    </a:lnTo>
                    <a:lnTo>
                      <a:pt x="417" y="611"/>
                    </a:lnTo>
                    <a:lnTo>
                      <a:pt x="378" y="610"/>
                    </a:lnTo>
                    <a:lnTo>
                      <a:pt x="385" y="615"/>
                    </a:lnTo>
                    <a:lnTo>
                      <a:pt x="392" y="617"/>
                    </a:lnTo>
                    <a:lnTo>
                      <a:pt x="399" y="617"/>
                    </a:lnTo>
                    <a:lnTo>
                      <a:pt x="404" y="617"/>
                    </a:lnTo>
                    <a:lnTo>
                      <a:pt x="411" y="615"/>
                    </a:lnTo>
                    <a:lnTo>
                      <a:pt x="416" y="611"/>
                    </a:lnTo>
                    <a:lnTo>
                      <a:pt x="422" y="608"/>
                    </a:lnTo>
                    <a:lnTo>
                      <a:pt x="425" y="602"/>
                    </a:lnTo>
                    <a:lnTo>
                      <a:pt x="428" y="597"/>
                    </a:lnTo>
                    <a:lnTo>
                      <a:pt x="431" y="592"/>
                    </a:lnTo>
                    <a:lnTo>
                      <a:pt x="432" y="585"/>
                    </a:lnTo>
                    <a:lnTo>
                      <a:pt x="432" y="579"/>
                    </a:lnTo>
                    <a:lnTo>
                      <a:pt x="431" y="572"/>
                    </a:lnTo>
                    <a:lnTo>
                      <a:pt x="428" y="567"/>
                    </a:lnTo>
                    <a:lnTo>
                      <a:pt x="424" y="561"/>
                    </a:lnTo>
                    <a:lnTo>
                      <a:pt x="418" y="555"/>
                    </a:lnTo>
                    <a:lnTo>
                      <a:pt x="379" y="55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3282840" y="4184640"/>
                <a:ext cx="174600" cy="225360"/>
              </a:xfrm>
              <a:custGeom>
                <a:avLst/>
                <a:gdLst/>
                <a:ahLst/>
                <a:rect l="l" t="t" r="r" b="b"/>
                <a:pathLst>
                  <a:path w="550" h="708">
                    <a:moveTo>
                      <a:pt x="483" y="38"/>
                    </a:moveTo>
                    <a:lnTo>
                      <a:pt x="483" y="28"/>
                    </a:lnTo>
                    <a:lnTo>
                      <a:pt x="478" y="59"/>
                    </a:lnTo>
                    <a:lnTo>
                      <a:pt x="472" y="87"/>
                    </a:lnTo>
                    <a:lnTo>
                      <a:pt x="467" y="116"/>
                    </a:lnTo>
                    <a:lnTo>
                      <a:pt x="461" y="142"/>
                    </a:lnTo>
                    <a:lnTo>
                      <a:pt x="454" y="167"/>
                    </a:lnTo>
                    <a:lnTo>
                      <a:pt x="447" y="191"/>
                    </a:lnTo>
                    <a:lnTo>
                      <a:pt x="439" y="214"/>
                    </a:lnTo>
                    <a:lnTo>
                      <a:pt x="431" y="236"/>
                    </a:lnTo>
                    <a:lnTo>
                      <a:pt x="422" y="256"/>
                    </a:lnTo>
                    <a:lnTo>
                      <a:pt x="413" y="276"/>
                    </a:lnTo>
                    <a:lnTo>
                      <a:pt x="404" y="295"/>
                    </a:lnTo>
                    <a:lnTo>
                      <a:pt x="394" y="313"/>
                    </a:lnTo>
                    <a:lnTo>
                      <a:pt x="382" y="332"/>
                    </a:lnTo>
                    <a:lnTo>
                      <a:pt x="371" y="349"/>
                    </a:lnTo>
                    <a:lnTo>
                      <a:pt x="358" y="366"/>
                    </a:lnTo>
                    <a:lnTo>
                      <a:pt x="345" y="382"/>
                    </a:lnTo>
                    <a:lnTo>
                      <a:pt x="331" y="398"/>
                    </a:lnTo>
                    <a:lnTo>
                      <a:pt x="316" y="414"/>
                    </a:lnTo>
                    <a:lnTo>
                      <a:pt x="300" y="430"/>
                    </a:lnTo>
                    <a:lnTo>
                      <a:pt x="283" y="445"/>
                    </a:lnTo>
                    <a:lnTo>
                      <a:pt x="247" y="476"/>
                    </a:lnTo>
                    <a:lnTo>
                      <a:pt x="207" y="508"/>
                    </a:lnTo>
                    <a:lnTo>
                      <a:pt x="162" y="542"/>
                    </a:lnTo>
                    <a:lnTo>
                      <a:pt x="112" y="576"/>
                    </a:lnTo>
                    <a:lnTo>
                      <a:pt x="58" y="612"/>
                    </a:lnTo>
                    <a:lnTo>
                      <a:pt x="0" y="652"/>
                    </a:lnTo>
                    <a:lnTo>
                      <a:pt x="38" y="708"/>
                    </a:lnTo>
                    <a:lnTo>
                      <a:pt x="96" y="668"/>
                    </a:lnTo>
                    <a:lnTo>
                      <a:pt x="151" y="632"/>
                    </a:lnTo>
                    <a:lnTo>
                      <a:pt x="201" y="596"/>
                    </a:lnTo>
                    <a:lnTo>
                      <a:pt x="248" y="562"/>
                    </a:lnTo>
                    <a:lnTo>
                      <a:pt x="290" y="529"/>
                    </a:lnTo>
                    <a:lnTo>
                      <a:pt x="329" y="495"/>
                    </a:lnTo>
                    <a:lnTo>
                      <a:pt x="347" y="478"/>
                    </a:lnTo>
                    <a:lnTo>
                      <a:pt x="364" y="461"/>
                    </a:lnTo>
                    <a:lnTo>
                      <a:pt x="380" y="443"/>
                    </a:lnTo>
                    <a:lnTo>
                      <a:pt x="396" y="425"/>
                    </a:lnTo>
                    <a:lnTo>
                      <a:pt x="411" y="407"/>
                    </a:lnTo>
                    <a:lnTo>
                      <a:pt x="426" y="387"/>
                    </a:lnTo>
                    <a:lnTo>
                      <a:pt x="438" y="368"/>
                    </a:lnTo>
                    <a:lnTo>
                      <a:pt x="451" y="349"/>
                    </a:lnTo>
                    <a:lnTo>
                      <a:pt x="463" y="327"/>
                    </a:lnTo>
                    <a:lnTo>
                      <a:pt x="475" y="305"/>
                    </a:lnTo>
                    <a:lnTo>
                      <a:pt x="485" y="284"/>
                    </a:lnTo>
                    <a:lnTo>
                      <a:pt x="494" y="260"/>
                    </a:lnTo>
                    <a:lnTo>
                      <a:pt x="503" y="236"/>
                    </a:lnTo>
                    <a:lnTo>
                      <a:pt x="511" y="212"/>
                    </a:lnTo>
                    <a:lnTo>
                      <a:pt x="519" y="186"/>
                    </a:lnTo>
                    <a:lnTo>
                      <a:pt x="526" y="158"/>
                    </a:lnTo>
                    <a:lnTo>
                      <a:pt x="533" y="130"/>
                    </a:lnTo>
                    <a:lnTo>
                      <a:pt x="538" y="100"/>
                    </a:lnTo>
                    <a:lnTo>
                      <a:pt x="544" y="70"/>
                    </a:lnTo>
                    <a:lnTo>
                      <a:pt x="550" y="37"/>
                    </a:lnTo>
                    <a:lnTo>
                      <a:pt x="549" y="27"/>
                    </a:lnTo>
                    <a:lnTo>
                      <a:pt x="550" y="37"/>
                    </a:lnTo>
                    <a:lnTo>
                      <a:pt x="550" y="29"/>
                    </a:lnTo>
                    <a:lnTo>
                      <a:pt x="549" y="22"/>
                    </a:lnTo>
                    <a:lnTo>
                      <a:pt x="546" y="17"/>
                    </a:lnTo>
                    <a:lnTo>
                      <a:pt x="543" y="11"/>
                    </a:lnTo>
                    <a:lnTo>
                      <a:pt x="538" y="6"/>
                    </a:lnTo>
                    <a:lnTo>
                      <a:pt x="533" y="3"/>
                    </a:lnTo>
                    <a:lnTo>
                      <a:pt x="527" y="1"/>
                    </a:lnTo>
                    <a:lnTo>
                      <a:pt x="520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502" y="2"/>
                    </a:lnTo>
                    <a:lnTo>
                      <a:pt x="496" y="4"/>
                    </a:lnTo>
                    <a:lnTo>
                      <a:pt x="492" y="9"/>
                    </a:lnTo>
                    <a:lnTo>
                      <a:pt x="487" y="13"/>
                    </a:lnTo>
                    <a:lnTo>
                      <a:pt x="485" y="20"/>
                    </a:lnTo>
                    <a:lnTo>
                      <a:pt x="483" y="28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3284640" y="4040280"/>
                <a:ext cx="172800" cy="156960"/>
              </a:xfrm>
              <a:custGeom>
                <a:avLst/>
                <a:gdLst/>
                <a:ahLst/>
                <a:rect l="l" t="t" r="r" b="b"/>
                <a:pathLst>
                  <a:path w="542" h="495">
                    <a:moveTo>
                      <a:pt x="42" y="66"/>
                    </a:moveTo>
                    <a:lnTo>
                      <a:pt x="30" y="66"/>
                    </a:lnTo>
                    <a:lnTo>
                      <a:pt x="54" y="71"/>
                    </a:lnTo>
                    <a:lnTo>
                      <a:pt x="77" y="74"/>
                    </a:lnTo>
                    <a:lnTo>
                      <a:pt x="99" y="80"/>
                    </a:lnTo>
                    <a:lnTo>
                      <a:pt x="122" y="85"/>
                    </a:lnTo>
                    <a:lnTo>
                      <a:pt x="143" y="92"/>
                    </a:lnTo>
                    <a:lnTo>
                      <a:pt x="164" y="98"/>
                    </a:lnTo>
                    <a:lnTo>
                      <a:pt x="184" y="105"/>
                    </a:lnTo>
                    <a:lnTo>
                      <a:pt x="203" y="113"/>
                    </a:lnTo>
                    <a:lnTo>
                      <a:pt x="221" y="122"/>
                    </a:lnTo>
                    <a:lnTo>
                      <a:pt x="240" y="131"/>
                    </a:lnTo>
                    <a:lnTo>
                      <a:pt x="257" y="141"/>
                    </a:lnTo>
                    <a:lnTo>
                      <a:pt x="273" y="151"/>
                    </a:lnTo>
                    <a:lnTo>
                      <a:pt x="289" y="162"/>
                    </a:lnTo>
                    <a:lnTo>
                      <a:pt x="305" y="174"/>
                    </a:lnTo>
                    <a:lnTo>
                      <a:pt x="319" y="186"/>
                    </a:lnTo>
                    <a:lnTo>
                      <a:pt x="333" y="199"/>
                    </a:lnTo>
                    <a:lnTo>
                      <a:pt x="347" y="212"/>
                    </a:lnTo>
                    <a:lnTo>
                      <a:pt x="359" y="226"/>
                    </a:lnTo>
                    <a:lnTo>
                      <a:pt x="371" y="241"/>
                    </a:lnTo>
                    <a:lnTo>
                      <a:pt x="383" y="257"/>
                    </a:lnTo>
                    <a:lnTo>
                      <a:pt x="393" y="273"/>
                    </a:lnTo>
                    <a:lnTo>
                      <a:pt x="404" y="290"/>
                    </a:lnTo>
                    <a:lnTo>
                      <a:pt x="414" y="307"/>
                    </a:lnTo>
                    <a:lnTo>
                      <a:pt x="423" y="325"/>
                    </a:lnTo>
                    <a:lnTo>
                      <a:pt x="432" y="344"/>
                    </a:lnTo>
                    <a:lnTo>
                      <a:pt x="440" y="363"/>
                    </a:lnTo>
                    <a:lnTo>
                      <a:pt x="447" y="384"/>
                    </a:lnTo>
                    <a:lnTo>
                      <a:pt x="454" y="404"/>
                    </a:lnTo>
                    <a:lnTo>
                      <a:pt x="461" y="426"/>
                    </a:lnTo>
                    <a:lnTo>
                      <a:pt x="466" y="449"/>
                    </a:lnTo>
                    <a:lnTo>
                      <a:pt x="471" y="471"/>
                    </a:lnTo>
                    <a:lnTo>
                      <a:pt x="476" y="495"/>
                    </a:lnTo>
                    <a:lnTo>
                      <a:pt x="542" y="484"/>
                    </a:lnTo>
                    <a:lnTo>
                      <a:pt x="537" y="459"/>
                    </a:lnTo>
                    <a:lnTo>
                      <a:pt x="531" y="434"/>
                    </a:lnTo>
                    <a:lnTo>
                      <a:pt x="526" y="409"/>
                    </a:lnTo>
                    <a:lnTo>
                      <a:pt x="519" y="385"/>
                    </a:lnTo>
                    <a:lnTo>
                      <a:pt x="511" y="362"/>
                    </a:lnTo>
                    <a:lnTo>
                      <a:pt x="503" y="339"/>
                    </a:lnTo>
                    <a:lnTo>
                      <a:pt x="494" y="317"/>
                    </a:lnTo>
                    <a:lnTo>
                      <a:pt x="484" y="296"/>
                    </a:lnTo>
                    <a:lnTo>
                      <a:pt x="473" y="275"/>
                    </a:lnTo>
                    <a:lnTo>
                      <a:pt x="462" y="256"/>
                    </a:lnTo>
                    <a:lnTo>
                      <a:pt x="450" y="236"/>
                    </a:lnTo>
                    <a:lnTo>
                      <a:pt x="438" y="217"/>
                    </a:lnTo>
                    <a:lnTo>
                      <a:pt x="424" y="200"/>
                    </a:lnTo>
                    <a:lnTo>
                      <a:pt x="409" y="183"/>
                    </a:lnTo>
                    <a:lnTo>
                      <a:pt x="396" y="166"/>
                    </a:lnTo>
                    <a:lnTo>
                      <a:pt x="380" y="151"/>
                    </a:lnTo>
                    <a:lnTo>
                      <a:pt x="364" y="136"/>
                    </a:lnTo>
                    <a:lnTo>
                      <a:pt x="347" y="121"/>
                    </a:lnTo>
                    <a:lnTo>
                      <a:pt x="328" y="107"/>
                    </a:lnTo>
                    <a:lnTo>
                      <a:pt x="310" y="95"/>
                    </a:lnTo>
                    <a:lnTo>
                      <a:pt x="291" y="84"/>
                    </a:lnTo>
                    <a:lnTo>
                      <a:pt x="271" y="72"/>
                    </a:lnTo>
                    <a:lnTo>
                      <a:pt x="251" y="61"/>
                    </a:lnTo>
                    <a:lnTo>
                      <a:pt x="229" y="52"/>
                    </a:lnTo>
                    <a:lnTo>
                      <a:pt x="208" y="42"/>
                    </a:lnTo>
                    <a:lnTo>
                      <a:pt x="186" y="34"/>
                    </a:lnTo>
                    <a:lnTo>
                      <a:pt x="162" y="26"/>
                    </a:lnTo>
                    <a:lnTo>
                      <a:pt x="139" y="20"/>
                    </a:lnTo>
                    <a:lnTo>
                      <a:pt x="114" y="14"/>
                    </a:lnTo>
                    <a:lnTo>
                      <a:pt x="90" y="8"/>
                    </a:lnTo>
                    <a:lnTo>
                      <a:pt x="64" y="4"/>
                    </a:lnTo>
                    <a:lnTo>
                      <a:pt x="38" y="0"/>
                    </a:lnTo>
                    <a:lnTo>
                      <a:pt x="24" y="1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7" y="4"/>
                    </a:lnTo>
                    <a:lnTo>
                      <a:pt x="12" y="7"/>
                    </a:lnTo>
                    <a:lnTo>
                      <a:pt x="7" y="12"/>
                    </a:lnTo>
                    <a:lnTo>
                      <a:pt x="4" y="17"/>
                    </a:lnTo>
                    <a:lnTo>
                      <a:pt x="1" y="23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2" y="48"/>
                    </a:lnTo>
                    <a:lnTo>
                      <a:pt x="6" y="53"/>
                    </a:lnTo>
                    <a:lnTo>
                      <a:pt x="9" y="58"/>
                    </a:lnTo>
                    <a:lnTo>
                      <a:pt x="15" y="62"/>
                    </a:lnTo>
                    <a:lnTo>
                      <a:pt x="22" y="65"/>
                    </a:lnTo>
                    <a:lnTo>
                      <a:pt x="30" y="66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2817720" y="4152960"/>
                <a:ext cx="317520" cy="393480"/>
              </a:xfrm>
              <a:custGeom>
                <a:avLst/>
                <a:gdLst/>
                <a:ahLst/>
                <a:rect l="l" t="t" r="r" b="b"/>
                <a:pathLst>
                  <a:path w="1001" h="1238">
                    <a:moveTo>
                      <a:pt x="448" y="0"/>
                    </a:moveTo>
                    <a:lnTo>
                      <a:pt x="425" y="7"/>
                    </a:lnTo>
                    <a:lnTo>
                      <a:pt x="401" y="15"/>
                    </a:lnTo>
                    <a:lnTo>
                      <a:pt x="378" y="24"/>
                    </a:lnTo>
                    <a:lnTo>
                      <a:pt x="356" y="35"/>
                    </a:lnTo>
                    <a:lnTo>
                      <a:pt x="334" y="46"/>
                    </a:lnTo>
                    <a:lnTo>
                      <a:pt x="315" y="57"/>
                    </a:lnTo>
                    <a:lnTo>
                      <a:pt x="296" y="70"/>
                    </a:lnTo>
                    <a:lnTo>
                      <a:pt x="277" y="84"/>
                    </a:lnTo>
                    <a:lnTo>
                      <a:pt x="259" y="98"/>
                    </a:lnTo>
                    <a:lnTo>
                      <a:pt x="242" y="113"/>
                    </a:lnTo>
                    <a:lnTo>
                      <a:pt x="226" y="129"/>
                    </a:lnTo>
                    <a:lnTo>
                      <a:pt x="210" y="145"/>
                    </a:lnTo>
                    <a:lnTo>
                      <a:pt x="195" y="162"/>
                    </a:lnTo>
                    <a:lnTo>
                      <a:pt x="181" y="181"/>
                    </a:lnTo>
                    <a:lnTo>
                      <a:pt x="167" y="199"/>
                    </a:lnTo>
                    <a:lnTo>
                      <a:pt x="154" y="218"/>
                    </a:lnTo>
                    <a:lnTo>
                      <a:pt x="142" y="238"/>
                    </a:lnTo>
                    <a:lnTo>
                      <a:pt x="129" y="258"/>
                    </a:lnTo>
                    <a:lnTo>
                      <a:pt x="118" y="279"/>
                    </a:lnTo>
                    <a:lnTo>
                      <a:pt x="106" y="300"/>
                    </a:lnTo>
                    <a:lnTo>
                      <a:pt x="86" y="345"/>
                    </a:lnTo>
                    <a:lnTo>
                      <a:pt x="67" y="391"/>
                    </a:lnTo>
                    <a:lnTo>
                      <a:pt x="48" y="437"/>
                    </a:lnTo>
                    <a:lnTo>
                      <a:pt x="31" y="486"/>
                    </a:lnTo>
                    <a:lnTo>
                      <a:pt x="15" y="535"/>
                    </a:lnTo>
                    <a:lnTo>
                      <a:pt x="0" y="587"/>
                    </a:lnTo>
                    <a:lnTo>
                      <a:pt x="0" y="608"/>
                    </a:lnTo>
                    <a:lnTo>
                      <a:pt x="2" y="631"/>
                    </a:lnTo>
                    <a:lnTo>
                      <a:pt x="3" y="653"/>
                    </a:lnTo>
                    <a:lnTo>
                      <a:pt x="6" y="675"/>
                    </a:lnTo>
                    <a:lnTo>
                      <a:pt x="10" y="696"/>
                    </a:lnTo>
                    <a:lnTo>
                      <a:pt x="15" y="719"/>
                    </a:lnTo>
                    <a:lnTo>
                      <a:pt x="21" y="741"/>
                    </a:lnTo>
                    <a:lnTo>
                      <a:pt x="28" y="762"/>
                    </a:lnTo>
                    <a:lnTo>
                      <a:pt x="36" y="784"/>
                    </a:lnTo>
                    <a:lnTo>
                      <a:pt x="45" y="806"/>
                    </a:lnTo>
                    <a:lnTo>
                      <a:pt x="55" y="827"/>
                    </a:lnTo>
                    <a:lnTo>
                      <a:pt x="65" y="849"/>
                    </a:lnTo>
                    <a:lnTo>
                      <a:pt x="77" y="871"/>
                    </a:lnTo>
                    <a:lnTo>
                      <a:pt x="89" y="893"/>
                    </a:lnTo>
                    <a:lnTo>
                      <a:pt x="102" y="913"/>
                    </a:lnTo>
                    <a:lnTo>
                      <a:pt x="116" y="935"/>
                    </a:lnTo>
                    <a:lnTo>
                      <a:pt x="130" y="955"/>
                    </a:lnTo>
                    <a:lnTo>
                      <a:pt x="145" y="976"/>
                    </a:lnTo>
                    <a:lnTo>
                      <a:pt x="161" y="996"/>
                    </a:lnTo>
                    <a:lnTo>
                      <a:pt x="178" y="1017"/>
                    </a:lnTo>
                    <a:lnTo>
                      <a:pt x="195" y="1036"/>
                    </a:lnTo>
                    <a:lnTo>
                      <a:pt x="214" y="1057"/>
                    </a:lnTo>
                    <a:lnTo>
                      <a:pt x="232" y="1076"/>
                    </a:lnTo>
                    <a:lnTo>
                      <a:pt x="251" y="1096"/>
                    </a:lnTo>
                    <a:lnTo>
                      <a:pt x="272" y="1114"/>
                    </a:lnTo>
                    <a:lnTo>
                      <a:pt x="292" y="1133"/>
                    </a:lnTo>
                    <a:lnTo>
                      <a:pt x="313" y="1151"/>
                    </a:lnTo>
                    <a:lnTo>
                      <a:pt x="334" y="1170"/>
                    </a:lnTo>
                    <a:lnTo>
                      <a:pt x="356" y="1187"/>
                    </a:lnTo>
                    <a:lnTo>
                      <a:pt x="379" y="1205"/>
                    </a:lnTo>
                    <a:lnTo>
                      <a:pt x="402" y="1222"/>
                    </a:lnTo>
                    <a:lnTo>
                      <a:pt x="425" y="1238"/>
                    </a:lnTo>
                    <a:lnTo>
                      <a:pt x="493" y="1195"/>
                    </a:lnTo>
                    <a:lnTo>
                      <a:pt x="556" y="1153"/>
                    </a:lnTo>
                    <a:lnTo>
                      <a:pt x="613" y="1114"/>
                    </a:lnTo>
                    <a:lnTo>
                      <a:pt x="665" y="1076"/>
                    </a:lnTo>
                    <a:lnTo>
                      <a:pt x="690" y="1058"/>
                    </a:lnTo>
                    <a:lnTo>
                      <a:pt x="713" y="1040"/>
                    </a:lnTo>
                    <a:lnTo>
                      <a:pt x="736" y="1021"/>
                    </a:lnTo>
                    <a:lnTo>
                      <a:pt x="756" y="1003"/>
                    </a:lnTo>
                    <a:lnTo>
                      <a:pt x="777" y="985"/>
                    </a:lnTo>
                    <a:lnTo>
                      <a:pt x="796" y="966"/>
                    </a:lnTo>
                    <a:lnTo>
                      <a:pt x="814" y="947"/>
                    </a:lnTo>
                    <a:lnTo>
                      <a:pt x="831" y="928"/>
                    </a:lnTo>
                    <a:lnTo>
                      <a:pt x="847" y="908"/>
                    </a:lnTo>
                    <a:lnTo>
                      <a:pt x="863" y="888"/>
                    </a:lnTo>
                    <a:lnTo>
                      <a:pt x="878" y="867"/>
                    </a:lnTo>
                    <a:lnTo>
                      <a:pt x="892" y="846"/>
                    </a:lnTo>
                    <a:lnTo>
                      <a:pt x="904" y="824"/>
                    </a:lnTo>
                    <a:lnTo>
                      <a:pt x="917" y="801"/>
                    </a:lnTo>
                    <a:lnTo>
                      <a:pt x="928" y="777"/>
                    </a:lnTo>
                    <a:lnTo>
                      <a:pt x="939" y="753"/>
                    </a:lnTo>
                    <a:lnTo>
                      <a:pt x="949" y="727"/>
                    </a:lnTo>
                    <a:lnTo>
                      <a:pt x="958" y="701"/>
                    </a:lnTo>
                    <a:lnTo>
                      <a:pt x="967" y="672"/>
                    </a:lnTo>
                    <a:lnTo>
                      <a:pt x="975" y="644"/>
                    </a:lnTo>
                    <a:lnTo>
                      <a:pt x="982" y="613"/>
                    </a:lnTo>
                    <a:lnTo>
                      <a:pt x="989" y="581"/>
                    </a:lnTo>
                    <a:lnTo>
                      <a:pt x="996" y="547"/>
                    </a:lnTo>
                    <a:lnTo>
                      <a:pt x="1001" y="511"/>
                    </a:lnTo>
                    <a:lnTo>
                      <a:pt x="996" y="484"/>
                    </a:lnTo>
                    <a:lnTo>
                      <a:pt x="990" y="457"/>
                    </a:lnTo>
                    <a:lnTo>
                      <a:pt x="983" y="432"/>
                    </a:lnTo>
                    <a:lnTo>
                      <a:pt x="975" y="405"/>
                    </a:lnTo>
                    <a:lnTo>
                      <a:pt x="967" y="381"/>
                    </a:lnTo>
                    <a:lnTo>
                      <a:pt x="958" y="357"/>
                    </a:lnTo>
                    <a:lnTo>
                      <a:pt x="948" y="333"/>
                    </a:lnTo>
                    <a:lnTo>
                      <a:pt x="938" y="312"/>
                    </a:lnTo>
                    <a:lnTo>
                      <a:pt x="926" y="290"/>
                    </a:lnTo>
                    <a:lnTo>
                      <a:pt x="914" y="268"/>
                    </a:lnTo>
                    <a:lnTo>
                      <a:pt x="900" y="249"/>
                    </a:lnTo>
                    <a:lnTo>
                      <a:pt x="886" y="230"/>
                    </a:lnTo>
                    <a:lnTo>
                      <a:pt x="871" y="210"/>
                    </a:lnTo>
                    <a:lnTo>
                      <a:pt x="857" y="193"/>
                    </a:lnTo>
                    <a:lnTo>
                      <a:pt x="841" y="176"/>
                    </a:lnTo>
                    <a:lnTo>
                      <a:pt x="824" y="159"/>
                    </a:lnTo>
                    <a:lnTo>
                      <a:pt x="806" y="143"/>
                    </a:lnTo>
                    <a:lnTo>
                      <a:pt x="788" y="128"/>
                    </a:lnTo>
                    <a:lnTo>
                      <a:pt x="769" y="114"/>
                    </a:lnTo>
                    <a:lnTo>
                      <a:pt x="748" y="101"/>
                    </a:lnTo>
                    <a:lnTo>
                      <a:pt x="728" y="88"/>
                    </a:lnTo>
                    <a:lnTo>
                      <a:pt x="706" y="77"/>
                    </a:lnTo>
                    <a:lnTo>
                      <a:pt x="684" y="65"/>
                    </a:lnTo>
                    <a:lnTo>
                      <a:pt x="662" y="55"/>
                    </a:lnTo>
                    <a:lnTo>
                      <a:pt x="638" y="46"/>
                    </a:lnTo>
                    <a:lnTo>
                      <a:pt x="613" y="37"/>
                    </a:lnTo>
                    <a:lnTo>
                      <a:pt x="588" y="29"/>
                    </a:lnTo>
                    <a:lnTo>
                      <a:pt x="561" y="22"/>
                    </a:lnTo>
                    <a:lnTo>
                      <a:pt x="534" y="15"/>
                    </a:lnTo>
                    <a:lnTo>
                      <a:pt x="507" y="9"/>
                    </a:lnTo>
                    <a:lnTo>
                      <a:pt x="478" y="4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2806560" y="4143240"/>
                <a:ext cx="155880" cy="208080"/>
              </a:xfrm>
              <a:custGeom>
                <a:avLst/>
                <a:gdLst/>
                <a:ahLst/>
                <a:rect l="l" t="t" r="r" b="b"/>
                <a:pathLst>
                  <a:path w="492" h="654">
                    <a:moveTo>
                      <a:pt x="67" y="621"/>
                    </a:moveTo>
                    <a:lnTo>
                      <a:pt x="66" y="629"/>
                    </a:lnTo>
                    <a:lnTo>
                      <a:pt x="81" y="579"/>
                    </a:lnTo>
                    <a:lnTo>
                      <a:pt x="97" y="530"/>
                    </a:lnTo>
                    <a:lnTo>
                      <a:pt x="114" y="482"/>
                    </a:lnTo>
                    <a:lnTo>
                      <a:pt x="131" y="436"/>
                    </a:lnTo>
                    <a:lnTo>
                      <a:pt x="151" y="392"/>
                    </a:lnTo>
                    <a:lnTo>
                      <a:pt x="171" y="348"/>
                    </a:lnTo>
                    <a:lnTo>
                      <a:pt x="181" y="328"/>
                    </a:lnTo>
                    <a:lnTo>
                      <a:pt x="193" y="308"/>
                    </a:lnTo>
                    <a:lnTo>
                      <a:pt x="204" y="289"/>
                    </a:lnTo>
                    <a:lnTo>
                      <a:pt x="216" y="270"/>
                    </a:lnTo>
                    <a:lnTo>
                      <a:pt x="228" y="251"/>
                    </a:lnTo>
                    <a:lnTo>
                      <a:pt x="242" y="234"/>
                    </a:lnTo>
                    <a:lnTo>
                      <a:pt x="256" y="217"/>
                    </a:lnTo>
                    <a:lnTo>
                      <a:pt x="269" y="201"/>
                    </a:lnTo>
                    <a:lnTo>
                      <a:pt x="284" y="186"/>
                    </a:lnTo>
                    <a:lnTo>
                      <a:pt x="299" y="171"/>
                    </a:lnTo>
                    <a:lnTo>
                      <a:pt x="315" y="157"/>
                    </a:lnTo>
                    <a:lnTo>
                      <a:pt x="332" y="144"/>
                    </a:lnTo>
                    <a:lnTo>
                      <a:pt x="349" y="131"/>
                    </a:lnTo>
                    <a:lnTo>
                      <a:pt x="366" y="119"/>
                    </a:lnTo>
                    <a:lnTo>
                      <a:pt x="386" y="109"/>
                    </a:lnTo>
                    <a:lnTo>
                      <a:pt x="405" y="98"/>
                    </a:lnTo>
                    <a:lnTo>
                      <a:pt x="425" y="89"/>
                    </a:lnTo>
                    <a:lnTo>
                      <a:pt x="446" y="80"/>
                    </a:lnTo>
                    <a:lnTo>
                      <a:pt x="469" y="72"/>
                    </a:lnTo>
                    <a:lnTo>
                      <a:pt x="492" y="65"/>
                    </a:lnTo>
                    <a:lnTo>
                      <a:pt x="474" y="0"/>
                    </a:lnTo>
                    <a:lnTo>
                      <a:pt x="448" y="8"/>
                    </a:lnTo>
                    <a:lnTo>
                      <a:pt x="423" y="17"/>
                    </a:lnTo>
                    <a:lnTo>
                      <a:pt x="398" y="26"/>
                    </a:lnTo>
                    <a:lnTo>
                      <a:pt x="375" y="38"/>
                    </a:lnTo>
                    <a:lnTo>
                      <a:pt x="352" y="49"/>
                    </a:lnTo>
                    <a:lnTo>
                      <a:pt x="331" y="62"/>
                    </a:lnTo>
                    <a:lnTo>
                      <a:pt x="310" y="76"/>
                    </a:lnTo>
                    <a:lnTo>
                      <a:pt x="291" y="90"/>
                    </a:lnTo>
                    <a:lnTo>
                      <a:pt x="272" y="105"/>
                    </a:lnTo>
                    <a:lnTo>
                      <a:pt x="253" y="121"/>
                    </a:lnTo>
                    <a:lnTo>
                      <a:pt x="236" y="138"/>
                    </a:lnTo>
                    <a:lnTo>
                      <a:pt x="219" y="155"/>
                    </a:lnTo>
                    <a:lnTo>
                      <a:pt x="203" y="174"/>
                    </a:lnTo>
                    <a:lnTo>
                      <a:pt x="188" y="193"/>
                    </a:lnTo>
                    <a:lnTo>
                      <a:pt x="174" y="212"/>
                    </a:lnTo>
                    <a:lnTo>
                      <a:pt x="160" y="233"/>
                    </a:lnTo>
                    <a:lnTo>
                      <a:pt x="147" y="254"/>
                    </a:lnTo>
                    <a:lnTo>
                      <a:pt x="134" y="274"/>
                    </a:lnTo>
                    <a:lnTo>
                      <a:pt x="122" y="296"/>
                    </a:lnTo>
                    <a:lnTo>
                      <a:pt x="111" y="319"/>
                    </a:lnTo>
                    <a:lnTo>
                      <a:pt x="89" y="364"/>
                    </a:lnTo>
                    <a:lnTo>
                      <a:pt x="69" y="411"/>
                    </a:lnTo>
                    <a:lnTo>
                      <a:pt x="50" y="459"/>
                    </a:lnTo>
                    <a:lnTo>
                      <a:pt x="33" y="509"/>
                    </a:lnTo>
                    <a:lnTo>
                      <a:pt x="17" y="559"/>
                    </a:lnTo>
                    <a:lnTo>
                      <a:pt x="3" y="611"/>
                    </a:lnTo>
                    <a:lnTo>
                      <a:pt x="0" y="619"/>
                    </a:lnTo>
                    <a:lnTo>
                      <a:pt x="3" y="611"/>
                    </a:lnTo>
                    <a:lnTo>
                      <a:pt x="0" y="619"/>
                    </a:lnTo>
                    <a:lnTo>
                      <a:pt x="0" y="625"/>
                    </a:lnTo>
                    <a:lnTo>
                      <a:pt x="3" y="632"/>
                    </a:lnTo>
                    <a:lnTo>
                      <a:pt x="5" y="638"/>
                    </a:lnTo>
                    <a:lnTo>
                      <a:pt x="9" y="643"/>
                    </a:lnTo>
                    <a:lnTo>
                      <a:pt x="14" y="647"/>
                    </a:lnTo>
                    <a:lnTo>
                      <a:pt x="18" y="649"/>
                    </a:lnTo>
                    <a:lnTo>
                      <a:pt x="25" y="652"/>
                    </a:lnTo>
                    <a:lnTo>
                      <a:pt x="31" y="653"/>
                    </a:lnTo>
                    <a:lnTo>
                      <a:pt x="38" y="654"/>
                    </a:lnTo>
                    <a:lnTo>
                      <a:pt x="44" y="653"/>
                    </a:lnTo>
                    <a:lnTo>
                      <a:pt x="49" y="651"/>
                    </a:lnTo>
                    <a:lnTo>
                      <a:pt x="55" y="647"/>
                    </a:lnTo>
                    <a:lnTo>
                      <a:pt x="60" y="643"/>
                    </a:lnTo>
                    <a:lnTo>
                      <a:pt x="64" y="637"/>
                    </a:lnTo>
                    <a:lnTo>
                      <a:pt x="66" y="629"/>
                    </a:lnTo>
                    <a:lnTo>
                      <a:pt x="67" y="6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2806560" y="4340160"/>
                <a:ext cx="157320" cy="217440"/>
              </a:xfrm>
              <a:custGeom>
                <a:avLst/>
                <a:gdLst/>
                <a:ahLst/>
                <a:rect l="l" t="t" r="r" b="b"/>
                <a:pathLst>
                  <a:path w="493" h="686">
                    <a:moveTo>
                      <a:pt x="440" y="625"/>
                    </a:moveTo>
                    <a:lnTo>
                      <a:pt x="478" y="625"/>
                    </a:lnTo>
                    <a:lnTo>
                      <a:pt x="455" y="609"/>
                    </a:lnTo>
                    <a:lnTo>
                      <a:pt x="433" y="592"/>
                    </a:lnTo>
                    <a:lnTo>
                      <a:pt x="411" y="575"/>
                    </a:lnTo>
                    <a:lnTo>
                      <a:pt x="390" y="558"/>
                    </a:lnTo>
                    <a:lnTo>
                      <a:pt x="368" y="540"/>
                    </a:lnTo>
                    <a:lnTo>
                      <a:pt x="348" y="522"/>
                    </a:lnTo>
                    <a:lnTo>
                      <a:pt x="329" y="504"/>
                    </a:lnTo>
                    <a:lnTo>
                      <a:pt x="309" y="486"/>
                    </a:lnTo>
                    <a:lnTo>
                      <a:pt x="290" y="466"/>
                    </a:lnTo>
                    <a:lnTo>
                      <a:pt x="273" y="448"/>
                    </a:lnTo>
                    <a:lnTo>
                      <a:pt x="254" y="429"/>
                    </a:lnTo>
                    <a:lnTo>
                      <a:pt x="238" y="409"/>
                    </a:lnTo>
                    <a:lnTo>
                      <a:pt x="221" y="390"/>
                    </a:lnTo>
                    <a:lnTo>
                      <a:pt x="207" y="369"/>
                    </a:lnTo>
                    <a:lnTo>
                      <a:pt x="192" y="350"/>
                    </a:lnTo>
                    <a:lnTo>
                      <a:pt x="178" y="329"/>
                    </a:lnTo>
                    <a:lnTo>
                      <a:pt x="164" y="309"/>
                    </a:lnTo>
                    <a:lnTo>
                      <a:pt x="152" y="289"/>
                    </a:lnTo>
                    <a:lnTo>
                      <a:pt x="140" y="269"/>
                    </a:lnTo>
                    <a:lnTo>
                      <a:pt x="129" y="248"/>
                    </a:lnTo>
                    <a:lnTo>
                      <a:pt x="119" y="228"/>
                    </a:lnTo>
                    <a:lnTo>
                      <a:pt x="110" y="207"/>
                    </a:lnTo>
                    <a:lnTo>
                      <a:pt x="102" y="187"/>
                    </a:lnTo>
                    <a:lnTo>
                      <a:pt x="94" y="166"/>
                    </a:lnTo>
                    <a:lnTo>
                      <a:pt x="88" y="145"/>
                    </a:lnTo>
                    <a:lnTo>
                      <a:pt x="82" y="125"/>
                    </a:lnTo>
                    <a:lnTo>
                      <a:pt x="77" y="105"/>
                    </a:lnTo>
                    <a:lnTo>
                      <a:pt x="73" y="83"/>
                    </a:lnTo>
                    <a:lnTo>
                      <a:pt x="71" y="62"/>
                    </a:lnTo>
                    <a:lnTo>
                      <a:pt x="69" y="43"/>
                    </a:lnTo>
                    <a:lnTo>
                      <a:pt x="67" y="22"/>
                    </a:lnTo>
                    <a:lnTo>
                      <a:pt x="67" y="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" y="46"/>
                    </a:lnTo>
                    <a:lnTo>
                      <a:pt x="4" y="70"/>
                    </a:lnTo>
                    <a:lnTo>
                      <a:pt x="7" y="94"/>
                    </a:lnTo>
                    <a:lnTo>
                      <a:pt x="12" y="117"/>
                    </a:lnTo>
                    <a:lnTo>
                      <a:pt x="16" y="141"/>
                    </a:lnTo>
                    <a:lnTo>
                      <a:pt x="23" y="164"/>
                    </a:lnTo>
                    <a:lnTo>
                      <a:pt x="30" y="188"/>
                    </a:lnTo>
                    <a:lnTo>
                      <a:pt x="39" y="211"/>
                    </a:lnTo>
                    <a:lnTo>
                      <a:pt x="48" y="233"/>
                    </a:lnTo>
                    <a:lnTo>
                      <a:pt x="58" y="256"/>
                    </a:lnTo>
                    <a:lnTo>
                      <a:pt x="70" y="279"/>
                    </a:lnTo>
                    <a:lnTo>
                      <a:pt x="81" y="301"/>
                    </a:lnTo>
                    <a:lnTo>
                      <a:pt x="94" y="324"/>
                    </a:lnTo>
                    <a:lnTo>
                      <a:pt x="107" y="345"/>
                    </a:lnTo>
                    <a:lnTo>
                      <a:pt x="122" y="367"/>
                    </a:lnTo>
                    <a:lnTo>
                      <a:pt x="137" y="389"/>
                    </a:lnTo>
                    <a:lnTo>
                      <a:pt x="153" y="410"/>
                    </a:lnTo>
                    <a:lnTo>
                      <a:pt x="169" y="432"/>
                    </a:lnTo>
                    <a:lnTo>
                      <a:pt x="186" y="453"/>
                    </a:lnTo>
                    <a:lnTo>
                      <a:pt x="204" y="473"/>
                    </a:lnTo>
                    <a:lnTo>
                      <a:pt x="224" y="494"/>
                    </a:lnTo>
                    <a:lnTo>
                      <a:pt x="242" y="514"/>
                    </a:lnTo>
                    <a:lnTo>
                      <a:pt x="262" y="534"/>
                    </a:lnTo>
                    <a:lnTo>
                      <a:pt x="282" y="553"/>
                    </a:lnTo>
                    <a:lnTo>
                      <a:pt x="303" y="572"/>
                    </a:lnTo>
                    <a:lnTo>
                      <a:pt x="325" y="591"/>
                    </a:lnTo>
                    <a:lnTo>
                      <a:pt x="347" y="610"/>
                    </a:lnTo>
                    <a:lnTo>
                      <a:pt x="370" y="628"/>
                    </a:lnTo>
                    <a:lnTo>
                      <a:pt x="392" y="645"/>
                    </a:lnTo>
                    <a:lnTo>
                      <a:pt x="415" y="664"/>
                    </a:lnTo>
                    <a:lnTo>
                      <a:pt x="439" y="680"/>
                    </a:lnTo>
                    <a:lnTo>
                      <a:pt x="477" y="681"/>
                    </a:lnTo>
                    <a:lnTo>
                      <a:pt x="439" y="680"/>
                    </a:lnTo>
                    <a:lnTo>
                      <a:pt x="446" y="684"/>
                    </a:lnTo>
                    <a:lnTo>
                      <a:pt x="453" y="686"/>
                    </a:lnTo>
                    <a:lnTo>
                      <a:pt x="460" y="686"/>
                    </a:lnTo>
                    <a:lnTo>
                      <a:pt x="466" y="686"/>
                    </a:lnTo>
                    <a:lnTo>
                      <a:pt x="472" y="684"/>
                    </a:lnTo>
                    <a:lnTo>
                      <a:pt x="478" y="681"/>
                    </a:lnTo>
                    <a:lnTo>
                      <a:pt x="482" y="677"/>
                    </a:lnTo>
                    <a:lnTo>
                      <a:pt x="486" y="672"/>
                    </a:lnTo>
                    <a:lnTo>
                      <a:pt x="489" y="667"/>
                    </a:lnTo>
                    <a:lnTo>
                      <a:pt x="492" y="660"/>
                    </a:lnTo>
                    <a:lnTo>
                      <a:pt x="493" y="654"/>
                    </a:lnTo>
                    <a:lnTo>
                      <a:pt x="493" y="648"/>
                    </a:lnTo>
                    <a:lnTo>
                      <a:pt x="492" y="642"/>
                    </a:lnTo>
                    <a:lnTo>
                      <a:pt x="488" y="636"/>
                    </a:lnTo>
                    <a:lnTo>
                      <a:pt x="485" y="631"/>
                    </a:lnTo>
                    <a:lnTo>
                      <a:pt x="478" y="625"/>
                    </a:lnTo>
                    <a:lnTo>
                      <a:pt x="440" y="6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2946240" y="4305240"/>
                <a:ext cx="200160" cy="250920"/>
              </a:xfrm>
              <a:custGeom>
                <a:avLst/>
                <a:gdLst/>
                <a:ahLst/>
                <a:rect l="l" t="t" r="r" b="b"/>
                <a:pathLst>
                  <a:path w="630" h="789">
                    <a:moveTo>
                      <a:pt x="562" y="39"/>
                    </a:moveTo>
                    <a:lnTo>
                      <a:pt x="562" y="29"/>
                    </a:lnTo>
                    <a:lnTo>
                      <a:pt x="557" y="63"/>
                    </a:lnTo>
                    <a:lnTo>
                      <a:pt x="550" y="96"/>
                    </a:lnTo>
                    <a:lnTo>
                      <a:pt x="543" y="127"/>
                    </a:lnTo>
                    <a:lnTo>
                      <a:pt x="536" y="157"/>
                    </a:lnTo>
                    <a:lnTo>
                      <a:pt x="528" y="185"/>
                    </a:lnTo>
                    <a:lnTo>
                      <a:pt x="520" y="213"/>
                    </a:lnTo>
                    <a:lnTo>
                      <a:pt x="511" y="238"/>
                    </a:lnTo>
                    <a:lnTo>
                      <a:pt x="502" y="263"/>
                    </a:lnTo>
                    <a:lnTo>
                      <a:pt x="492" y="286"/>
                    </a:lnTo>
                    <a:lnTo>
                      <a:pt x="480" y="308"/>
                    </a:lnTo>
                    <a:lnTo>
                      <a:pt x="469" y="330"/>
                    </a:lnTo>
                    <a:lnTo>
                      <a:pt x="457" y="351"/>
                    </a:lnTo>
                    <a:lnTo>
                      <a:pt x="444" y="371"/>
                    </a:lnTo>
                    <a:lnTo>
                      <a:pt x="430" y="391"/>
                    </a:lnTo>
                    <a:lnTo>
                      <a:pt x="415" y="409"/>
                    </a:lnTo>
                    <a:lnTo>
                      <a:pt x="400" y="428"/>
                    </a:lnTo>
                    <a:lnTo>
                      <a:pt x="383" y="446"/>
                    </a:lnTo>
                    <a:lnTo>
                      <a:pt x="366" y="464"/>
                    </a:lnTo>
                    <a:lnTo>
                      <a:pt x="348" y="482"/>
                    </a:lnTo>
                    <a:lnTo>
                      <a:pt x="329" y="500"/>
                    </a:lnTo>
                    <a:lnTo>
                      <a:pt x="308" y="517"/>
                    </a:lnTo>
                    <a:lnTo>
                      <a:pt x="286" y="535"/>
                    </a:lnTo>
                    <a:lnTo>
                      <a:pt x="264" y="553"/>
                    </a:lnTo>
                    <a:lnTo>
                      <a:pt x="240" y="571"/>
                    </a:lnTo>
                    <a:lnTo>
                      <a:pt x="187" y="608"/>
                    </a:lnTo>
                    <a:lnTo>
                      <a:pt x="130" y="647"/>
                    </a:lnTo>
                    <a:lnTo>
                      <a:pt x="69" y="688"/>
                    </a:lnTo>
                    <a:lnTo>
                      <a:pt x="0" y="733"/>
                    </a:lnTo>
                    <a:lnTo>
                      <a:pt x="37" y="789"/>
                    </a:lnTo>
                    <a:lnTo>
                      <a:pt x="105" y="744"/>
                    </a:lnTo>
                    <a:lnTo>
                      <a:pt x="168" y="703"/>
                    </a:lnTo>
                    <a:lnTo>
                      <a:pt x="226" y="663"/>
                    </a:lnTo>
                    <a:lnTo>
                      <a:pt x="280" y="626"/>
                    </a:lnTo>
                    <a:lnTo>
                      <a:pt x="305" y="606"/>
                    </a:lnTo>
                    <a:lnTo>
                      <a:pt x="329" y="588"/>
                    </a:lnTo>
                    <a:lnTo>
                      <a:pt x="351" y="569"/>
                    </a:lnTo>
                    <a:lnTo>
                      <a:pt x="373" y="550"/>
                    </a:lnTo>
                    <a:lnTo>
                      <a:pt x="394" y="531"/>
                    </a:lnTo>
                    <a:lnTo>
                      <a:pt x="414" y="511"/>
                    </a:lnTo>
                    <a:lnTo>
                      <a:pt x="433" y="492"/>
                    </a:lnTo>
                    <a:lnTo>
                      <a:pt x="451" y="472"/>
                    </a:lnTo>
                    <a:lnTo>
                      <a:pt x="468" y="451"/>
                    </a:lnTo>
                    <a:lnTo>
                      <a:pt x="485" y="430"/>
                    </a:lnTo>
                    <a:lnTo>
                      <a:pt x="500" y="409"/>
                    </a:lnTo>
                    <a:lnTo>
                      <a:pt x="514" y="386"/>
                    </a:lnTo>
                    <a:lnTo>
                      <a:pt x="528" y="363"/>
                    </a:lnTo>
                    <a:lnTo>
                      <a:pt x="541" y="339"/>
                    </a:lnTo>
                    <a:lnTo>
                      <a:pt x="553" y="314"/>
                    </a:lnTo>
                    <a:lnTo>
                      <a:pt x="563" y="288"/>
                    </a:lnTo>
                    <a:lnTo>
                      <a:pt x="575" y="262"/>
                    </a:lnTo>
                    <a:lnTo>
                      <a:pt x="584" y="233"/>
                    </a:lnTo>
                    <a:lnTo>
                      <a:pt x="593" y="205"/>
                    </a:lnTo>
                    <a:lnTo>
                      <a:pt x="601" y="174"/>
                    </a:lnTo>
                    <a:lnTo>
                      <a:pt x="609" y="142"/>
                    </a:lnTo>
                    <a:lnTo>
                      <a:pt x="616" y="110"/>
                    </a:lnTo>
                    <a:lnTo>
                      <a:pt x="623" y="75"/>
                    </a:lnTo>
                    <a:lnTo>
                      <a:pt x="628" y="39"/>
                    </a:lnTo>
                    <a:lnTo>
                      <a:pt x="628" y="28"/>
                    </a:lnTo>
                    <a:lnTo>
                      <a:pt x="628" y="39"/>
                    </a:lnTo>
                    <a:lnTo>
                      <a:pt x="630" y="31"/>
                    </a:lnTo>
                    <a:lnTo>
                      <a:pt x="628" y="24"/>
                    </a:lnTo>
                    <a:lnTo>
                      <a:pt x="626" y="17"/>
                    </a:lnTo>
                    <a:lnTo>
                      <a:pt x="622" y="13"/>
                    </a:lnTo>
                    <a:lnTo>
                      <a:pt x="618" y="8"/>
                    </a:lnTo>
                    <a:lnTo>
                      <a:pt x="612" y="5"/>
                    </a:lnTo>
                    <a:lnTo>
                      <a:pt x="607" y="2"/>
                    </a:lnTo>
                    <a:lnTo>
                      <a:pt x="601" y="0"/>
                    </a:lnTo>
                    <a:lnTo>
                      <a:pt x="594" y="0"/>
                    </a:lnTo>
                    <a:lnTo>
                      <a:pt x="589" y="0"/>
                    </a:lnTo>
                    <a:lnTo>
                      <a:pt x="582" y="3"/>
                    </a:lnTo>
                    <a:lnTo>
                      <a:pt x="576" y="5"/>
                    </a:lnTo>
                    <a:lnTo>
                      <a:pt x="571" y="9"/>
                    </a:lnTo>
                    <a:lnTo>
                      <a:pt x="567" y="14"/>
                    </a:lnTo>
                    <a:lnTo>
                      <a:pt x="565" y="21"/>
                    </a:lnTo>
                    <a:lnTo>
                      <a:pt x="562" y="29"/>
                    </a:lnTo>
                    <a:lnTo>
                      <a:pt x="562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2949480" y="4143240"/>
                <a:ext cx="196920" cy="174600"/>
              </a:xfrm>
              <a:custGeom>
                <a:avLst/>
                <a:gdLst/>
                <a:ahLst/>
                <a:rect l="l" t="t" r="r" b="b"/>
                <a:pathLst>
                  <a:path w="619" h="551">
                    <a:moveTo>
                      <a:pt x="43" y="66"/>
                    </a:moveTo>
                    <a:lnTo>
                      <a:pt x="30" y="67"/>
                    </a:lnTo>
                    <a:lnTo>
                      <a:pt x="57" y="72"/>
                    </a:lnTo>
                    <a:lnTo>
                      <a:pt x="85" y="77"/>
                    </a:lnTo>
                    <a:lnTo>
                      <a:pt x="112" y="82"/>
                    </a:lnTo>
                    <a:lnTo>
                      <a:pt x="138" y="88"/>
                    </a:lnTo>
                    <a:lnTo>
                      <a:pt x="162" y="95"/>
                    </a:lnTo>
                    <a:lnTo>
                      <a:pt x="187" y="103"/>
                    </a:lnTo>
                    <a:lnTo>
                      <a:pt x="210" y="111"/>
                    </a:lnTo>
                    <a:lnTo>
                      <a:pt x="233" y="120"/>
                    </a:lnTo>
                    <a:lnTo>
                      <a:pt x="255" y="130"/>
                    </a:lnTo>
                    <a:lnTo>
                      <a:pt x="275" y="140"/>
                    </a:lnTo>
                    <a:lnTo>
                      <a:pt x="296" y="152"/>
                    </a:lnTo>
                    <a:lnTo>
                      <a:pt x="315" y="163"/>
                    </a:lnTo>
                    <a:lnTo>
                      <a:pt x="334" y="176"/>
                    </a:lnTo>
                    <a:lnTo>
                      <a:pt x="353" y="190"/>
                    </a:lnTo>
                    <a:lnTo>
                      <a:pt x="370" y="203"/>
                    </a:lnTo>
                    <a:lnTo>
                      <a:pt x="386" y="218"/>
                    </a:lnTo>
                    <a:lnTo>
                      <a:pt x="402" y="233"/>
                    </a:lnTo>
                    <a:lnTo>
                      <a:pt x="416" y="249"/>
                    </a:lnTo>
                    <a:lnTo>
                      <a:pt x="431" y="266"/>
                    </a:lnTo>
                    <a:lnTo>
                      <a:pt x="445" y="283"/>
                    </a:lnTo>
                    <a:lnTo>
                      <a:pt x="458" y="301"/>
                    </a:lnTo>
                    <a:lnTo>
                      <a:pt x="470" y="321"/>
                    </a:lnTo>
                    <a:lnTo>
                      <a:pt x="481" y="340"/>
                    </a:lnTo>
                    <a:lnTo>
                      <a:pt x="492" y="361"/>
                    </a:lnTo>
                    <a:lnTo>
                      <a:pt x="502" y="381"/>
                    </a:lnTo>
                    <a:lnTo>
                      <a:pt x="511" y="404"/>
                    </a:lnTo>
                    <a:lnTo>
                      <a:pt x="520" y="427"/>
                    </a:lnTo>
                    <a:lnTo>
                      <a:pt x="528" y="450"/>
                    </a:lnTo>
                    <a:lnTo>
                      <a:pt x="535" y="475"/>
                    </a:lnTo>
                    <a:lnTo>
                      <a:pt x="542" y="499"/>
                    </a:lnTo>
                    <a:lnTo>
                      <a:pt x="548" y="525"/>
                    </a:lnTo>
                    <a:lnTo>
                      <a:pt x="553" y="551"/>
                    </a:lnTo>
                    <a:lnTo>
                      <a:pt x="619" y="540"/>
                    </a:lnTo>
                    <a:lnTo>
                      <a:pt x="614" y="511"/>
                    </a:lnTo>
                    <a:lnTo>
                      <a:pt x="608" y="484"/>
                    </a:lnTo>
                    <a:lnTo>
                      <a:pt x="600" y="456"/>
                    </a:lnTo>
                    <a:lnTo>
                      <a:pt x="592" y="429"/>
                    </a:lnTo>
                    <a:lnTo>
                      <a:pt x="584" y="404"/>
                    </a:lnTo>
                    <a:lnTo>
                      <a:pt x="574" y="378"/>
                    </a:lnTo>
                    <a:lnTo>
                      <a:pt x="564" y="354"/>
                    </a:lnTo>
                    <a:lnTo>
                      <a:pt x="552" y="330"/>
                    </a:lnTo>
                    <a:lnTo>
                      <a:pt x="540" y="307"/>
                    </a:lnTo>
                    <a:lnTo>
                      <a:pt x="527" y="285"/>
                    </a:lnTo>
                    <a:lnTo>
                      <a:pt x="513" y="264"/>
                    </a:lnTo>
                    <a:lnTo>
                      <a:pt x="499" y="243"/>
                    </a:lnTo>
                    <a:lnTo>
                      <a:pt x="483" y="224"/>
                    </a:lnTo>
                    <a:lnTo>
                      <a:pt x="467" y="204"/>
                    </a:lnTo>
                    <a:lnTo>
                      <a:pt x="450" y="186"/>
                    </a:lnTo>
                    <a:lnTo>
                      <a:pt x="431" y="168"/>
                    </a:lnTo>
                    <a:lnTo>
                      <a:pt x="413" y="152"/>
                    </a:lnTo>
                    <a:lnTo>
                      <a:pt x="394" y="136"/>
                    </a:lnTo>
                    <a:lnTo>
                      <a:pt x="373" y="121"/>
                    </a:lnTo>
                    <a:lnTo>
                      <a:pt x="352" y="106"/>
                    </a:lnTo>
                    <a:lnTo>
                      <a:pt x="330" y="94"/>
                    </a:lnTo>
                    <a:lnTo>
                      <a:pt x="307" y="81"/>
                    </a:lnTo>
                    <a:lnTo>
                      <a:pt x="283" y="69"/>
                    </a:lnTo>
                    <a:lnTo>
                      <a:pt x="259" y="58"/>
                    </a:lnTo>
                    <a:lnTo>
                      <a:pt x="234" y="48"/>
                    </a:lnTo>
                    <a:lnTo>
                      <a:pt x="208" y="39"/>
                    </a:lnTo>
                    <a:lnTo>
                      <a:pt x="182" y="31"/>
                    </a:lnTo>
                    <a:lnTo>
                      <a:pt x="154" y="23"/>
                    </a:lnTo>
                    <a:lnTo>
                      <a:pt x="127" y="16"/>
                    </a:lnTo>
                    <a:lnTo>
                      <a:pt x="98" y="10"/>
                    </a:lnTo>
                    <a:lnTo>
                      <a:pt x="69" y="5"/>
                    </a:lnTo>
                    <a:lnTo>
                      <a:pt x="38" y="0"/>
                    </a:lnTo>
                    <a:lnTo>
                      <a:pt x="25" y="1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7" y="13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2" y="42"/>
                    </a:lnTo>
                    <a:lnTo>
                      <a:pt x="3" y="48"/>
                    </a:lnTo>
                    <a:lnTo>
                      <a:pt x="6" y="54"/>
                    </a:lnTo>
                    <a:lnTo>
                      <a:pt x="11" y="58"/>
                    </a:lnTo>
                    <a:lnTo>
                      <a:pt x="15" y="63"/>
                    </a:lnTo>
                    <a:lnTo>
                      <a:pt x="22" y="65"/>
                    </a:lnTo>
                    <a:lnTo>
                      <a:pt x="30" y="67"/>
                    </a:lnTo>
                    <a:lnTo>
                      <a:pt x="43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3465360" y="399240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52" h="62">
                    <a:moveTo>
                      <a:pt x="15" y="0"/>
                    </a:moveTo>
                    <a:lnTo>
                      <a:pt x="9" y="5"/>
                    </a:lnTo>
                    <a:lnTo>
                      <a:pt x="4" y="11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1" y="35"/>
                    </a:lnTo>
                    <a:lnTo>
                      <a:pt x="2" y="41"/>
                    </a:lnTo>
                    <a:lnTo>
                      <a:pt x="5" y="46"/>
                    </a:lnTo>
                    <a:lnTo>
                      <a:pt x="10" y="52"/>
                    </a:lnTo>
                    <a:lnTo>
                      <a:pt x="15" y="55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2" y="62"/>
                    </a:lnTo>
                    <a:lnTo>
                      <a:pt x="39" y="61"/>
                    </a:lnTo>
                    <a:lnTo>
                      <a:pt x="45" y="59"/>
                    </a:lnTo>
                    <a:lnTo>
                      <a:pt x="52" y="5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3470400" y="3952800"/>
                <a:ext cx="131760" cy="57240"/>
              </a:xfrm>
              <a:custGeom>
                <a:avLst/>
                <a:gdLst/>
                <a:ahLst/>
                <a:rect l="l" t="t" r="r" b="b"/>
                <a:pathLst>
                  <a:path w="417" h="181">
                    <a:moveTo>
                      <a:pt x="417" y="14"/>
                    </a:moveTo>
                    <a:lnTo>
                      <a:pt x="400" y="8"/>
                    </a:lnTo>
                    <a:lnTo>
                      <a:pt x="381" y="3"/>
                    </a:lnTo>
                    <a:lnTo>
                      <a:pt x="364" y="1"/>
                    </a:lnTo>
                    <a:lnTo>
                      <a:pt x="347" y="0"/>
                    </a:lnTo>
                    <a:lnTo>
                      <a:pt x="329" y="0"/>
                    </a:lnTo>
                    <a:lnTo>
                      <a:pt x="312" y="1"/>
                    </a:lnTo>
                    <a:lnTo>
                      <a:pt x="294" y="2"/>
                    </a:lnTo>
                    <a:lnTo>
                      <a:pt x="277" y="6"/>
                    </a:lnTo>
                    <a:lnTo>
                      <a:pt x="258" y="9"/>
                    </a:lnTo>
                    <a:lnTo>
                      <a:pt x="241" y="13"/>
                    </a:lnTo>
                    <a:lnTo>
                      <a:pt x="224" y="17"/>
                    </a:lnTo>
                    <a:lnTo>
                      <a:pt x="207" y="23"/>
                    </a:lnTo>
                    <a:lnTo>
                      <a:pt x="174" y="34"/>
                    </a:lnTo>
                    <a:lnTo>
                      <a:pt x="143" y="48"/>
                    </a:lnTo>
                    <a:lnTo>
                      <a:pt x="114" y="62"/>
                    </a:lnTo>
                    <a:lnTo>
                      <a:pt x="86" y="74"/>
                    </a:lnTo>
                    <a:lnTo>
                      <a:pt x="62" y="88"/>
                    </a:lnTo>
                    <a:lnTo>
                      <a:pt x="41" y="99"/>
                    </a:lnTo>
                    <a:lnTo>
                      <a:pt x="11" y="118"/>
                    </a:lnTo>
                    <a:lnTo>
                      <a:pt x="0" y="126"/>
                    </a:lnTo>
                    <a:lnTo>
                      <a:pt x="37" y="181"/>
                    </a:lnTo>
                    <a:lnTo>
                      <a:pt x="46" y="176"/>
                    </a:lnTo>
                    <a:lnTo>
                      <a:pt x="76" y="157"/>
                    </a:lnTo>
                    <a:lnTo>
                      <a:pt x="94" y="146"/>
                    </a:lnTo>
                    <a:lnTo>
                      <a:pt x="117" y="135"/>
                    </a:lnTo>
                    <a:lnTo>
                      <a:pt x="142" y="122"/>
                    </a:lnTo>
                    <a:lnTo>
                      <a:pt x="169" y="110"/>
                    </a:lnTo>
                    <a:lnTo>
                      <a:pt x="198" y="98"/>
                    </a:lnTo>
                    <a:lnTo>
                      <a:pt x="229" y="87"/>
                    </a:lnTo>
                    <a:lnTo>
                      <a:pt x="244" y="82"/>
                    </a:lnTo>
                    <a:lnTo>
                      <a:pt x="258" y="79"/>
                    </a:lnTo>
                    <a:lnTo>
                      <a:pt x="273" y="74"/>
                    </a:lnTo>
                    <a:lnTo>
                      <a:pt x="288" y="72"/>
                    </a:lnTo>
                    <a:lnTo>
                      <a:pt x="303" y="70"/>
                    </a:lnTo>
                    <a:lnTo>
                      <a:pt x="316" y="68"/>
                    </a:lnTo>
                    <a:lnTo>
                      <a:pt x="330" y="67"/>
                    </a:lnTo>
                    <a:lnTo>
                      <a:pt x="344" y="67"/>
                    </a:lnTo>
                    <a:lnTo>
                      <a:pt x="358" y="68"/>
                    </a:lnTo>
                    <a:lnTo>
                      <a:pt x="370" y="70"/>
                    </a:lnTo>
                    <a:lnTo>
                      <a:pt x="381" y="73"/>
                    </a:lnTo>
                    <a:lnTo>
                      <a:pt x="393" y="76"/>
                    </a:lnTo>
                    <a:lnTo>
                      <a:pt x="417" y="1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3594240" y="395604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5" h="65">
                    <a:moveTo>
                      <a:pt x="0" y="62"/>
                    </a:moveTo>
                    <a:lnTo>
                      <a:pt x="8" y="65"/>
                    </a:lnTo>
                    <a:lnTo>
                      <a:pt x="15" y="65"/>
                    </a:lnTo>
                    <a:lnTo>
                      <a:pt x="22" y="64"/>
                    </a:lnTo>
                    <a:lnTo>
                      <a:pt x="27" y="61"/>
                    </a:lnTo>
                    <a:lnTo>
                      <a:pt x="32" y="58"/>
                    </a:lnTo>
                    <a:lnTo>
                      <a:pt x="36" y="53"/>
                    </a:lnTo>
                    <a:lnTo>
                      <a:pt x="40" y="49"/>
                    </a:lnTo>
                    <a:lnTo>
                      <a:pt x="43" y="43"/>
                    </a:lnTo>
                    <a:lnTo>
                      <a:pt x="44" y="36"/>
                    </a:lnTo>
                    <a:lnTo>
                      <a:pt x="45" y="31"/>
                    </a:lnTo>
                    <a:lnTo>
                      <a:pt x="45" y="24"/>
                    </a:lnTo>
                    <a:lnTo>
                      <a:pt x="43" y="18"/>
                    </a:lnTo>
                    <a:lnTo>
                      <a:pt x="41" y="12"/>
                    </a:lnTo>
                    <a:lnTo>
                      <a:pt x="36" y="8"/>
                    </a:lnTo>
                    <a:lnTo>
                      <a:pt x="31" y="3"/>
                    </a:lnTo>
                    <a:lnTo>
                      <a:pt x="2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3222720" y="417816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4" h="63">
                    <a:moveTo>
                      <a:pt x="15" y="0"/>
                    </a:moveTo>
                    <a:lnTo>
                      <a:pt x="9" y="6"/>
                    </a:lnTo>
                    <a:lnTo>
                      <a:pt x="5" y="12"/>
                    </a:lnTo>
                    <a:lnTo>
                      <a:pt x="3" y="17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1" y="53"/>
                    </a:lnTo>
                    <a:lnTo>
                      <a:pt x="15" y="57"/>
                    </a:lnTo>
                    <a:lnTo>
                      <a:pt x="21" y="60"/>
                    </a:lnTo>
                    <a:lnTo>
                      <a:pt x="27" y="62"/>
                    </a:lnTo>
                    <a:lnTo>
                      <a:pt x="33" y="63"/>
                    </a:lnTo>
                    <a:lnTo>
                      <a:pt x="40" y="63"/>
                    </a:lnTo>
                    <a:lnTo>
                      <a:pt x="47" y="61"/>
                    </a:lnTo>
                    <a:lnTo>
                      <a:pt x="54" y="5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3227400" y="4132440"/>
                <a:ext cx="154080" cy="64800"/>
              </a:xfrm>
              <a:custGeom>
                <a:avLst/>
                <a:gdLst/>
                <a:ahLst/>
                <a:rect l="l" t="t" r="r" b="b"/>
                <a:pathLst>
                  <a:path w="482" h="202">
                    <a:moveTo>
                      <a:pt x="482" y="15"/>
                    </a:moveTo>
                    <a:lnTo>
                      <a:pt x="463" y="9"/>
                    </a:lnTo>
                    <a:lnTo>
                      <a:pt x="444" y="5"/>
                    </a:lnTo>
                    <a:lnTo>
                      <a:pt x="423" y="1"/>
                    </a:lnTo>
                    <a:lnTo>
                      <a:pt x="404" y="0"/>
                    </a:lnTo>
                    <a:lnTo>
                      <a:pt x="383" y="0"/>
                    </a:lnTo>
                    <a:lnTo>
                      <a:pt x="363" y="1"/>
                    </a:lnTo>
                    <a:lnTo>
                      <a:pt x="342" y="4"/>
                    </a:lnTo>
                    <a:lnTo>
                      <a:pt x="322" y="7"/>
                    </a:lnTo>
                    <a:lnTo>
                      <a:pt x="302" y="12"/>
                    </a:lnTo>
                    <a:lnTo>
                      <a:pt x="282" y="16"/>
                    </a:lnTo>
                    <a:lnTo>
                      <a:pt x="262" y="22"/>
                    </a:lnTo>
                    <a:lnTo>
                      <a:pt x="242" y="28"/>
                    </a:lnTo>
                    <a:lnTo>
                      <a:pt x="204" y="41"/>
                    </a:lnTo>
                    <a:lnTo>
                      <a:pt x="168" y="56"/>
                    </a:lnTo>
                    <a:lnTo>
                      <a:pt x="134" y="72"/>
                    </a:lnTo>
                    <a:lnTo>
                      <a:pt x="102" y="88"/>
                    </a:lnTo>
                    <a:lnTo>
                      <a:pt x="73" y="103"/>
                    </a:lnTo>
                    <a:lnTo>
                      <a:pt x="49" y="117"/>
                    </a:lnTo>
                    <a:lnTo>
                      <a:pt x="14" y="138"/>
                    </a:lnTo>
                    <a:lnTo>
                      <a:pt x="0" y="146"/>
                    </a:lnTo>
                    <a:lnTo>
                      <a:pt x="39" y="202"/>
                    </a:lnTo>
                    <a:lnTo>
                      <a:pt x="49" y="195"/>
                    </a:lnTo>
                    <a:lnTo>
                      <a:pt x="83" y="175"/>
                    </a:lnTo>
                    <a:lnTo>
                      <a:pt x="106" y="162"/>
                    </a:lnTo>
                    <a:lnTo>
                      <a:pt x="132" y="147"/>
                    </a:lnTo>
                    <a:lnTo>
                      <a:pt x="162" y="133"/>
                    </a:lnTo>
                    <a:lnTo>
                      <a:pt x="194" y="118"/>
                    </a:lnTo>
                    <a:lnTo>
                      <a:pt x="228" y="104"/>
                    </a:lnTo>
                    <a:lnTo>
                      <a:pt x="264" y="91"/>
                    </a:lnTo>
                    <a:lnTo>
                      <a:pt x="281" y="86"/>
                    </a:lnTo>
                    <a:lnTo>
                      <a:pt x="299" y="81"/>
                    </a:lnTo>
                    <a:lnTo>
                      <a:pt x="316" y="77"/>
                    </a:lnTo>
                    <a:lnTo>
                      <a:pt x="334" y="73"/>
                    </a:lnTo>
                    <a:lnTo>
                      <a:pt x="351" y="71"/>
                    </a:lnTo>
                    <a:lnTo>
                      <a:pt x="368" y="69"/>
                    </a:lnTo>
                    <a:lnTo>
                      <a:pt x="384" y="67"/>
                    </a:lnTo>
                    <a:lnTo>
                      <a:pt x="401" y="67"/>
                    </a:lnTo>
                    <a:lnTo>
                      <a:pt x="416" y="69"/>
                    </a:lnTo>
                    <a:lnTo>
                      <a:pt x="431" y="71"/>
                    </a:lnTo>
                    <a:lnTo>
                      <a:pt x="446" y="74"/>
                    </a:lnTo>
                    <a:lnTo>
                      <a:pt x="460" y="79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3373560" y="413712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0" y="64"/>
                    </a:moveTo>
                    <a:lnTo>
                      <a:pt x="6" y="65"/>
                    </a:lnTo>
                    <a:lnTo>
                      <a:pt x="14" y="66"/>
                    </a:lnTo>
                    <a:lnTo>
                      <a:pt x="20" y="65"/>
                    </a:lnTo>
                    <a:lnTo>
                      <a:pt x="27" y="63"/>
                    </a:lnTo>
                    <a:lnTo>
                      <a:pt x="32" y="58"/>
                    </a:lnTo>
                    <a:lnTo>
                      <a:pt x="36" y="55"/>
                    </a:lnTo>
                    <a:lnTo>
                      <a:pt x="40" y="49"/>
                    </a:lnTo>
                    <a:lnTo>
                      <a:pt x="43" y="43"/>
                    </a:lnTo>
                    <a:lnTo>
                      <a:pt x="44" y="38"/>
                    </a:lnTo>
                    <a:lnTo>
                      <a:pt x="45" y="31"/>
                    </a:lnTo>
                    <a:lnTo>
                      <a:pt x="44" y="25"/>
                    </a:lnTo>
                    <a:lnTo>
                      <a:pt x="43" y="18"/>
                    </a:lnTo>
                    <a:lnTo>
                      <a:pt x="40" y="13"/>
                    </a:lnTo>
                    <a:lnTo>
                      <a:pt x="35" y="8"/>
                    </a:lnTo>
                    <a:lnTo>
                      <a:pt x="29" y="3"/>
                    </a:lnTo>
                    <a:lnTo>
                      <a:pt x="22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2878200" y="42991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16" y="0"/>
                    </a:moveTo>
                    <a:lnTo>
                      <a:pt x="9" y="5"/>
                    </a:lnTo>
                    <a:lnTo>
                      <a:pt x="5" y="10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2" y="41"/>
                    </a:lnTo>
                    <a:lnTo>
                      <a:pt x="6" y="46"/>
                    </a:lnTo>
                    <a:lnTo>
                      <a:pt x="10" y="51"/>
                    </a:lnTo>
                    <a:lnTo>
                      <a:pt x="15" y="56"/>
                    </a:lnTo>
                    <a:lnTo>
                      <a:pt x="19" y="58"/>
                    </a:lnTo>
                    <a:lnTo>
                      <a:pt x="26" y="61"/>
                    </a:lnTo>
                    <a:lnTo>
                      <a:pt x="32" y="62"/>
                    </a:lnTo>
                    <a:lnTo>
                      <a:pt x="39" y="62"/>
                    </a:lnTo>
                    <a:lnTo>
                      <a:pt x="46" y="59"/>
                    </a:lnTo>
                    <a:lnTo>
                      <a:pt x="53" y="5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2884320" y="4248000"/>
                <a:ext cx="174960" cy="69840"/>
              </a:xfrm>
              <a:custGeom>
                <a:avLst/>
                <a:gdLst/>
                <a:ahLst/>
                <a:rect l="l" t="t" r="r" b="b"/>
                <a:pathLst>
                  <a:path w="553" h="220">
                    <a:moveTo>
                      <a:pt x="553" y="15"/>
                    </a:moveTo>
                    <a:lnTo>
                      <a:pt x="530" y="9"/>
                    </a:lnTo>
                    <a:lnTo>
                      <a:pt x="508" y="3"/>
                    </a:lnTo>
                    <a:lnTo>
                      <a:pt x="486" y="1"/>
                    </a:lnTo>
                    <a:lnTo>
                      <a:pt x="463" y="0"/>
                    </a:lnTo>
                    <a:lnTo>
                      <a:pt x="439" y="0"/>
                    </a:lnTo>
                    <a:lnTo>
                      <a:pt x="416" y="1"/>
                    </a:lnTo>
                    <a:lnTo>
                      <a:pt x="392" y="3"/>
                    </a:lnTo>
                    <a:lnTo>
                      <a:pt x="369" y="7"/>
                    </a:lnTo>
                    <a:lnTo>
                      <a:pt x="347" y="11"/>
                    </a:lnTo>
                    <a:lnTo>
                      <a:pt x="323" y="17"/>
                    </a:lnTo>
                    <a:lnTo>
                      <a:pt x="300" y="23"/>
                    </a:lnTo>
                    <a:lnTo>
                      <a:pt x="277" y="29"/>
                    </a:lnTo>
                    <a:lnTo>
                      <a:pt x="234" y="45"/>
                    </a:lnTo>
                    <a:lnTo>
                      <a:pt x="192" y="61"/>
                    </a:lnTo>
                    <a:lnTo>
                      <a:pt x="152" y="80"/>
                    </a:lnTo>
                    <a:lnTo>
                      <a:pt x="115" y="97"/>
                    </a:lnTo>
                    <a:lnTo>
                      <a:pt x="83" y="114"/>
                    </a:lnTo>
                    <a:lnTo>
                      <a:pt x="55" y="130"/>
                    </a:lnTo>
                    <a:lnTo>
                      <a:pt x="15" y="154"/>
                    </a:lnTo>
                    <a:lnTo>
                      <a:pt x="0" y="164"/>
                    </a:lnTo>
                    <a:lnTo>
                      <a:pt x="37" y="220"/>
                    </a:lnTo>
                    <a:lnTo>
                      <a:pt x="50" y="212"/>
                    </a:lnTo>
                    <a:lnTo>
                      <a:pt x="89" y="188"/>
                    </a:lnTo>
                    <a:lnTo>
                      <a:pt x="115" y="173"/>
                    </a:lnTo>
                    <a:lnTo>
                      <a:pt x="146" y="157"/>
                    </a:lnTo>
                    <a:lnTo>
                      <a:pt x="180" y="141"/>
                    </a:lnTo>
                    <a:lnTo>
                      <a:pt x="218" y="124"/>
                    </a:lnTo>
                    <a:lnTo>
                      <a:pt x="258" y="108"/>
                    </a:lnTo>
                    <a:lnTo>
                      <a:pt x="299" y="93"/>
                    </a:lnTo>
                    <a:lnTo>
                      <a:pt x="319" y="88"/>
                    </a:lnTo>
                    <a:lnTo>
                      <a:pt x="340" y="82"/>
                    </a:lnTo>
                    <a:lnTo>
                      <a:pt x="360" y="77"/>
                    </a:lnTo>
                    <a:lnTo>
                      <a:pt x="381" y="73"/>
                    </a:lnTo>
                    <a:lnTo>
                      <a:pt x="401" y="71"/>
                    </a:lnTo>
                    <a:lnTo>
                      <a:pt x="422" y="68"/>
                    </a:lnTo>
                    <a:lnTo>
                      <a:pt x="441" y="67"/>
                    </a:lnTo>
                    <a:lnTo>
                      <a:pt x="461" y="67"/>
                    </a:lnTo>
                    <a:lnTo>
                      <a:pt x="479" y="68"/>
                    </a:lnTo>
                    <a:lnTo>
                      <a:pt x="497" y="71"/>
                    </a:lnTo>
                    <a:lnTo>
                      <a:pt x="514" y="74"/>
                    </a:lnTo>
                    <a:lnTo>
                      <a:pt x="530" y="79"/>
                    </a:lnTo>
                    <a:lnTo>
                      <a:pt x="553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3052800" y="425304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0" y="64"/>
                    </a:moveTo>
                    <a:lnTo>
                      <a:pt x="8" y="66"/>
                    </a:lnTo>
                    <a:lnTo>
                      <a:pt x="15" y="66"/>
                    </a:lnTo>
                    <a:lnTo>
                      <a:pt x="22" y="65"/>
                    </a:lnTo>
                    <a:lnTo>
                      <a:pt x="28" y="62"/>
                    </a:lnTo>
                    <a:lnTo>
                      <a:pt x="33" y="59"/>
                    </a:lnTo>
                    <a:lnTo>
                      <a:pt x="38" y="54"/>
                    </a:lnTo>
                    <a:lnTo>
                      <a:pt x="41" y="49"/>
                    </a:lnTo>
                    <a:lnTo>
                      <a:pt x="43" y="43"/>
                    </a:lnTo>
                    <a:lnTo>
                      <a:pt x="45" y="37"/>
                    </a:lnTo>
                    <a:lnTo>
                      <a:pt x="46" y="30"/>
                    </a:lnTo>
                    <a:lnTo>
                      <a:pt x="45" y="25"/>
                    </a:lnTo>
                    <a:lnTo>
                      <a:pt x="43" y="18"/>
                    </a:lnTo>
                    <a:lnTo>
                      <a:pt x="40" y="12"/>
                    </a:lnTo>
                    <a:lnTo>
                      <a:pt x="35" y="8"/>
                    </a:lnTo>
                    <a:lnTo>
                      <a:pt x="30" y="3"/>
                    </a:lnTo>
                    <a:lnTo>
                      <a:pt x="23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3511440" y="39196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5" y="20"/>
                    </a:moveTo>
                    <a:lnTo>
                      <a:pt x="60" y="14"/>
                    </a:lnTo>
                    <a:lnTo>
                      <a:pt x="56" y="8"/>
                    </a:lnTo>
                    <a:lnTo>
                      <a:pt x="50" y="4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6" y="1"/>
                    </a:lnTo>
                    <a:lnTo>
                      <a:pt x="19" y="4"/>
                    </a:lnTo>
                    <a:lnTo>
                      <a:pt x="15" y="7"/>
                    </a:lnTo>
                    <a:lnTo>
                      <a:pt x="9" y="11"/>
                    </a:lnTo>
                    <a:lnTo>
                      <a:pt x="6" y="16"/>
                    </a:lnTo>
                    <a:lnTo>
                      <a:pt x="2" y="21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" y="41"/>
                    </a:lnTo>
                    <a:lnTo>
                      <a:pt x="3" y="48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3513240" y="3925800"/>
                <a:ext cx="55440" cy="146160"/>
              </a:xfrm>
              <a:custGeom>
                <a:avLst/>
                <a:gdLst/>
                <a:ahLst/>
                <a:rect l="l" t="t" r="r" b="b"/>
                <a:pathLst>
                  <a:path w="176" h="461">
                    <a:moveTo>
                      <a:pt x="176" y="461"/>
                    </a:moveTo>
                    <a:lnTo>
                      <a:pt x="174" y="421"/>
                    </a:lnTo>
                    <a:lnTo>
                      <a:pt x="170" y="380"/>
                    </a:lnTo>
                    <a:lnTo>
                      <a:pt x="164" y="339"/>
                    </a:lnTo>
                    <a:lnTo>
                      <a:pt x="158" y="299"/>
                    </a:lnTo>
                    <a:lnTo>
                      <a:pt x="148" y="259"/>
                    </a:lnTo>
                    <a:lnTo>
                      <a:pt x="139" y="221"/>
                    </a:lnTo>
                    <a:lnTo>
                      <a:pt x="129" y="185"/>
                    </a:lnTo>
                    <a:lnTo>
                      <a:pt x="118" y="150"/>
                    </a:lnTo>
                    <a:lnTo>
                      <a:pt x="97" y="90"/>
                    </a:lnTo>
                    <a:lnTo>
                      <a:pt x="79" y="43"/>
                    </a:lnTo>
                    <a:lnTo>
                      <a:pt x="66" y="12"/>
                    </a:lnTo>
                    <a:lnTo>
                      <a:pt x="62" y="0"/>
                    </a:lnTo>
                    <a:lnTo>
                      <a:pt x="0" y="28"/>
                    </a:lnTo>
                    <a:lnTo>
                      <a:pt x="5" y="39"/>
                    </a:lnTo>
                    <a:lnTo>
                      <a:pt x="17" y="68"/>
                    </a:lnTo>
                    <a:lnTo>
                      <a:pt x="34" y="113"/>
                    </a:lnTo>
                    <a:lnTo>
                      <a:pt x="54" y="171"/>
                    </a:lnTo>
                    <a:lnTo>
                      <a:pt x="64" y="204"/>
                    </a:lnTo>
                    <a:lnTo>
                      <a:pt x="74" y="238"/>
                    </a:lnTo>
                    <a:lnTo>
                      <a:pt x="83" y="275"/>
                    </a:lnTo>
                    <a:lnTo>
                      <a:pt x="91" y="311"/>
                    </a:lnTo>
                    <a:lnTo>
                      <a:pt x="98" y="349"/>
                    </a:lnTo>
                    <a:lnTo>
                      <a:pt x="104" y="386"/>
                    </a:lnTo>
                    <a:lnTo>
                      <a:pt x="106" y="424"/>
                    </a:lnTo>
                    <a:lnTo>
                      <a:pt x="107" y="461"/>
                    </a:lnTo>
                    <a:lnTo>
                      <a:pt x="176" y="4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3546360" y="407196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0" y="0"/>
                    </a:moveTo>
                    <a:lnTo>
                      <a:pt x="2" y="8"/>
                    </a:lnTo>
                    <a:lnTo>
                      <a:pt x="4" y="14"/>
                    </a:lnTo>
                    <a:lnTo>
                      <a:pt x="7" y="20"/>
                    </a:lnTo>
                    <a:lnTo>
                      <a:pt x="12" y="26"/>
                    </a:lnTo>
                    <a:lnTo>
                      <a:pt x="16" y="29"/>
                    </a:lnTo>
                    <a:lnTo>
                      <a:pt x="22" y="32"/>
                    </a:lnTo>
                    <a:lnTo>
                      <a:pt x="29" y="34"/>
                    </a:lnTo>
                    <a:lnTo>
                      <a:pt x="35" y="34"/>
                    </a:lnTo>
                    <a:lnTo>
                      <a:pt x="41" y="34"/>
                    </a:lnTo>
                    <a:lnTo>
                      <a:pt x="47" y="32"/>
                    </a:lnTo>
                    <a:lnTo>
                      <a:pt x="53" y="29"/>
                    </a:lnTo>
                    <a:lnTo>
                      <a:pt x="57" y="26"/>
                    </a:lnTo>
                    <a:lnTo>
                      <a:pt x="62" y="20"/>
                    </a:lnTo>
                    <a:lnTo>
                      <a:pt x="65" y="14"/>
                    </a:lnTo>
                    <a:lnTo>
                      <a:pt x="68" y="8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3278160" y="409428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5" y="20"/>
                    </a:moveTo>
                    <a:lnTo>
                      <a:pt x="62" y="13"/>
                    </a:lnTo>
                    <a:lnTo>
                      <a:pt x="56" y="7"/>
                    </a:lnTo>
                    <a:lnTo>
                      <a:pt x="52" y="4"/>
                    </a:lnTo>
                    <a:lnTo>
                      <a:pt x="45" y="2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7" y="2"/>
                    </a:lnTo>
                    <a:lnTo>
                      <a:pt x="21" y="4"/>
                    </a:lnTo>
                    <a:lnTo>
                      <a:pt x="15" y="6"/>
                    </a:lnTo>
                    <a:lnTo>
                      <a:pt x="11" y="11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2" y="27"/>
                    </a:lnTo>
                    <a:lnTo>
                      <a:pt x="0" y="33"/>
                    </a:lnTo>
                    <a:lnTo>
                      <a:pt x="2" y="40"/>
                    </a:lnTo>
                    <a:lnTo>
                      <a:pt x="5" y="48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3279600" y="4100400"/>
                <a:ext cx="60480" cy="169920"/>
              </a:xfrm>
              <a:custGeom>
                <a:avLst/>
                <a:gdLst/>
                <a:ahLst/>
                <a:rect l="l" t="t" r="r" b="b"/>
                <a:pathLst>
                  <a:path w="194" h="535">
                    <a:moveTo>
                      <a:pt x="194" y="535"/>
                    </a:moveTo>
                    <a:lnTo>
                      <a:pt x="194" y="512"/>
                    </a:lnTo>
                    <a:lnTo>
                      <a:pt x="193" y="488"/>
                    </a:lnTo>
                    <a:lnTo>
                      <a:pt x="190" y="464"/>
                    </a:lnTo>
                    <a:lnTo>
                      <a:pt x="188" y="440"/>
                    </a:lnTo>
                    <a:lnTo>
                      <a:pt x="181" y="393"/>
                    </a:lnTo>
                    <a:lnTo>
                      <a:pt x="173" y="347"/>
                    </a:lnTo>
                    <a:lnTo>
                      <a:pt x="163" y="301"/>
                    </a:lnTo>
                    <a:lnTo>
                      <a:pt x="152" y="256"/>
                    </a:lnTo>
                    <a:lnTo>
                      <a:pt x="139" y="214"/>
                    </a:lnTo>
                    <a:lnTo>
                      <a:pt x="126" y="174"/>
                    </a:lnTo>
                    <a:lnTo>
                      <a:pt x="103" y="105"/>
                    </a:lnTo>
                    <a:lnTo>
                      <a:pt x="82" y="49"/>
                    </a:lnTo>
                    <a:lnTo>
                      <a:pt x="66" y="13"/>
                    </a:lnTo>
                    <a:lnTo>
                      <a:pt x="60" y="0"/>
                    </a:lnTo>
                    <a:lnTo>
                      <a:pt x="0" y="28"/>
                    </a:lnTo>
                    <a:lnTo>
                      <a:pt x="4" y="40"/>
                    </a:lnTo>
                    <a:lnTo>
                      <a:pt x="19" y="74"/>
                    </a:lnTo>
                    <a:lnTo>
                      <a:pt x="40" y="128"/>
                    </a:lnTo>
                    <a:lnTo>
                      <a:pt x="63" y="196"/>
                    </a:lnTo>
                    <a:lnTo>
                      <a:pt x="75" y="234"/>
                    </a:lnTo>
                    <a:lnTo>
                      <a:pt x="87" y="274"/>
                    </a:lnTo>
                    <a:lnTo>
                      <a:pt x="97" y="317"/>
                    </a:lnTo>
                    <a:lnTo>
                      <a:pt x="107" y="359"/>
                    </a:lnTo>
                    <a:lnTo>
                      <a:pt x="115" y="404"/>
                    </a:lnTo>
                    <a:lnTo>
                      <a:pt x="121" y="448"/>
                    </a:lnTo>
                    <a:lnTo>
                      <a:pt x="123" y="470"/>
                    </a:lnTo>
                    <a:lnTo>
                      <a:pt x="125" y="493"/>
                    </a:lnTo>
                    <a:lnTo>
                      <a:pt x="126" y="514"/>
                    </a:lnTo>
                    <a:lnTo>
                      <a:pt x="126" y="535"/>
                    </a:lnTo>
                    <a:lnTo>
                      <a:pt x="194" y="5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3319560" y="427032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68" h="34">
                    <a:moveTo>
                      <a:pt x="0" y="0"/>
                    </a:moveTo>
                    <a:lnTo>
                      <a:pt x="2" y="8"/>
                    </a:lnTo>
                    <a:lnTo>
                      <a:pt x="4" y="15"/>
                    </a:lnTo>
                    <a:lnTo>
                      <a:pt x="6" y="22"/>
                    </a:lnTo>
                    <a:lnTo>
                      <a:pt x="11" y="26"/>
                    </a:lnTo>
                    <a:lnTo>
                      <a:pt x="16" y="30"/>
                    </a:lnTo>
                    <a:lnTo>
                      <a:pt x="22" y="32"/>
                    </a:lnTo>
                    <a:lnTo>
                      <a:pt x="28" y="34"/>
                    </a:lnTo>
                    <a:lnTo>
                      <a:pt x="35" y="34"/>
                    </a:lnTo>
                    <a:lnTo>
                      <a:pt x="40" y="34"/>
                    </a:lnTo>
                    <a:lnTo>
                      <a:pt x="46" y="32"/>
                    </a:lnTo>
                    <a:lnTo>
                      <a:pt x="52" y="30"/>
                    </a:lnTo>
                    <a:lnTo>
                      <a:pt x="57" y="26"/>
                    </a:lnTo>
                    <a:lnTo>
                      <a:pt x="62" y="22"/>
                    </a:lnTo>
                    <a:lnTo>
                      <a:pt x="65" y="15"/>
                    </a:lnTo>
                    <a:lnTo>
                      <a:pt x="68" y="8"/>
                    </a:lnTo>
                    <a:lnTo>
                      <a:pt x="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2941560" y="420516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0"/>
                    </a:moveTo>
                    <a:lnTo>
                      <a:pt x="61" y="13"/>
                    </a:lnTo>
                    <a:lnTo>
                      <a:pt x="56" y="8"/>
                    </a:lnTo>
                    <a:lnTo>
                      <a:pt x="50" y="5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7" y="2"/>
                    </a:lnTo>
                    <a:lnTo>
                      <a:pt x="21" y="4"/>
                    </a:lnTo>
                    <a:lnTo>
                      <a:pt x="15" y="7"/>
                    </a:lnTo>
                    <a:lnTo>
                      <a:pt x="9" y="12"/>
                    </a:lnTo>
                    <a:lnTo>
                      <a:pt x="6" y="16"/>
                    </a:lnTo>
                    <a:lnTo>
                      <a:pt x="3" y="22"/>
                    </a:lnTo>
                    <a:lnTo>
                      <a:pt x="1" y="28"/>
                    </a:lnTo>
                    <a:lnTo>
                      <a:pt x="0" y="34"/>
                    </a:lnTo>
                    <a:lnTo>
                      <a:pt x="1" y="41"/>
                    </a:lnTo>
                    <a:lnTo>
                      <a:pt x="5" y="49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2943360" y="4211640"/>
                <a:ext cx="68040" cy="189000"/>
              </a:xfrm>
              <a:custGeom>
                <a:avLst/>
                <a:gdLst/>
                <a:ahLst/>
                <a:rect l="l" t="t" r="r" b="b"/>
                <a:pathLst>
                  <a:path w="215" h="599">
                    <a:moveTo>
                      <a:pt x="215" y="599"/>
                    </a:moveTo>
                    <a:lnTo>
                      <a:pt x="215" y="572"/>
                    </a:lnTo>
                    <a:lnTo>
                      <a:pt x="214" y="546"/>
                    </a:lnTo>
                    <a:lnTo>
                      <a:pt x="212" y="520"/>
                    </a:lnTo>
                    <a:lnTo>
                      <a:pt x="208" y="492"/>
                    </a:lnTo>
                    <a:lnTo>
                      <a:pt x="201" y="441"/>
                    </a:lnTo>
                    <a:lnTo>
                      <a:pt x="191" y="389"/>
                    </a:lnTo>
                    <a:lnTo>
                      <a:pt x="179" y="337"/>
                    </a:lnTo>
                    <a:lnTo>
                      <a:pt x="166" y="288"/>
                    </a:lnTo>
                    <a:lnTo>
                      <a:pt x="153" y="241"/>
                    </a:lnTo>
                    <a:lnTo>
                      <a:pt x="138" y="197"/>
                    </a:lnTo>
                    <a:lnTo>
                      <a:pt x="123" y="155"/>
                    </a:lnTo>
                    <a:lnTo>
                      <a:pt x="109" y="117"/>
                    </a:lnTo>
                    <a:lnTo>
                      <a:pt x="97" y="84"/>
                    </a:lnTo>
                    <a:lnTo>
                      <a:pt x="84" y="56"/>
                    </a:lnTo>
                    <a:lnTo>
                      <a:pt x="67" y="16"/>
                    </a:lnTo>
                    <a:lnTo>
                      <a:pt x="60" y="0"/>
                    </a:lnTo>
                    <a:lnTo>
                      <a:pt x="0" y="29"/>
                    </a:lnTo>
                    <a:lnTo>
                      <a:pt x="6" y="43"/>
                    </a:lnTo>
                    <a:lnTo>
                      <a:pt x="23" y="82"/>
                    </a:lnTo>
                    <a:lnTo>
                      <a:pt x="34" y="109"/>
                    </a:lnTo>
                    <a:lnTo>
                      <a:pt x="47" y="141"/>
                    </a:lnTo>
                    <a:lnTo>
                      <a:pt x="60" y="178"/>
                    </a:lnTo>
                    <a:lnTo>
                      <a:pt x="74" y="218"/>
                    </a:lnTo>
                    <a:lnTo>
                      <a:pt x="88" y="261"/>
                    </a:lnTo>
                    <a:lnTo>
                      <a:pt x="101" y="306"/>
                    </a:lnTo>
                    <a:lnTo>
                      <a:pt x="114" y="353"/>
                    </a:lnTo>
                    <a:lnTo>
                      <a:pt x="125" y="402"/>
                    </a:lnTo>
                    <a:lnTo>
                      <a:pt x="134" y="451"/>
                    </a:lnTo>
                    <a:lnTo>
                      <a:pt x="142" y="502"/>
                    </a:lnTo>
                    <a:lnTo>
                      <a:pt x="145" y="527"/>
                    </a:lnTo>
                    <a:lnTo>
                      <a:pt x="147" y="551"/>
                    </a:lnTo>
                    <a:lnTo>
                      <a:pt x="148" y="575"/>
                    </a:lnTo>
                    <a:lnTo>
                      <a:pt x="148" y="599"/>
                    </a:lnTo>
                    <a:lnTo>
                      <a:pt x="215" y="59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2989440" y="440064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0" y="0"/>
                    </a:moveTo>
                    <a:lnTo>
                      <a:pt x="1" y="8"/>
                    </a:lnTo>
                    <a:lnTo>
                      <a:pt x="3" y="14"/>
                    </a:lnTo>
                    <a:lnTo>
                      <a:pt x="6" y="20"/>
                    </a:lnTo>
                    <a:lnTo>
                      <a:pt x="10" y="25"/>
                    </a:lnTo>
                    <a:lnTo>
                      <a:pt x="16" y="29"/>
                    </a:lnTo>
                    <a:lnTo>
                      <a:pt x="22" y="32"/>
                    </a:lnTo>
                    <a:lnTo>
                      <a:pt x="27" y="33"/>
                    </a:lnTo>
                    <a:lnTo>
                      <a:pt x="34" y="34"/>
                    </a:lnTo>
                    <a:lnTo>
                      <a:pt x="40" y="33"/>
                    </a:lnTo>
                    <a:lnTo>
                      <a:pt x="46" y="32"/>
                    </a:lnTo>
                    <a:lnTo>
                      <a:pt x="51" y="29"/>
                    </a:lnTo>
                    <a:lnTo>
                      <a:pt x="57" y="25"/>
                    </a:lnTo>
                    <a:lnTo>
                      <a:pt x="62" y="20"/>
                    </a:lnTo>
                    <a:lnTo>
                      <a:pt x="65" y="14"/>
                    </a:lnTo>
                    <a:lnTo>
                      <a:pt x="67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3529080" y="408780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130" h="132">
                    <a:moveTo>
                      <a:pt x="65" y="0"/>
                    </a:moveTo>
                    <a:lnTo>
                      <a:pt x="72" y="0"/>
                    </a:lnTo>
                    <a:lnTo>
                      <a:pt x="78" y="1"/>
                    </a:lnTo>
                    <a:lnTo>
                      <a:pt x="85" y="3"/>
                    </a:lnTo>
                    <a:lnTo>
                      <a:pt x="90" y="6"/>
                    </a:lnTo>
                    <a:lnTo>
                      <a:pt x="96" y="8"/>
                    </a:lnTo>
                    <a:lnTo>
                      <a:pt x="102" y="11"/>
                    </a:lnTo>
                    <a:lnTo>
                      <a:pt x="106" y="16"/>
                    </a:lnTo>
                    <a:lnTo>
                      <a:pt x="111" y="21"/>
                    </a:lnTo>
                    <a:lnTo>
                      <a:pt x="116" y="25"/>
                    </a:lnTo>
                    <a:lnTo>
                      <a:pt x="119" y="30"/>
                    </a:lnTo>
                    <a:lnTo>
                      <a:pt x="122" y="35"/>
                    </a:lnTo>
                    <a:lnTo>
                      <a:pt x="125" y="41"/>
                    </a:lnTo>
                    <a:lnTo>
                      <a:pt x="127" y="48"/>
                    </a:lnTo>
                    <a:lnTo>
                      <a:pt x="129" y="54"/>
                    </a:lnTo>
                    <a:lnTo>
                      <a:pt x="130" y="60"/>
                    </a:lnTo>
                    <a:lnTo>
                      <a:pt x="130" y="67"/>
                    </a:lnTo>
                    <a:lnTo>
                      <a:pt x="130" y="74"/>
                    </a:lnTo>
                    <a:lnTo>
                      <a:pt x="129" y="80"/>
                    </a:lnTo>
                    <a:lnTo>
                      <a:pt x="127" y="86"/>
                    </a:lnTo>
                    <a:lnTo>
                      <a:pt x="125" y="92"/>
                    </a:lnTo>
                    <a:lnTo>
                      <a:pt x="122" y="98"/>
                    </a:lnTo>
                    <a:lnTo>
                      <a:pt x="119" y="103"/>
                    </a:lnTo>
                    <a:lnTo>
                      <a:pt x="116" y="108"/>
                    </a:lnTo>
                    <a:lnTo>
                      <a:pt x="111" y="113"/>
                    </a:lnTo>
                    <a:lnTo>
                      <a:pt x="106" y="117"/>
                    </a:lnTo>
                    <a:lnTo>
                      <a:pt x="102" y="121"/>
                    </a:lnTo>
                    <a:lnTo>
                      <a:pt x="96" y="124"/>
                    </a:lnTo>
                    <a:lnTo>
                      <a:pt x="90" y="127"/>
                    </a:lnTo>
                    <a:lnTo>
                      <a:pt x="85" y="130"/>
                    </a:lnTo>
                    <a:lnTo>
                      <a:pt x="78" y="131"/>
                    </a:lnTo>
                    <a:lnTo>
                      <a:pt x="72" y="132"/>
                    </a:lnTo>
                    <a:lnTo>
                      <a:pt x="65" y="132"/>
                    </a:lnTo>
                    <a:lnTo>
                      <a:pt x="59" y="132"/>
                    </a:lnTo>
                    <a:lnTo>
                      <a:pt x="53" y="131"/>
                    </a:lnTo>
                    <a:lnTo>
                      <a:pt x="46" y="130"/>
                    </a:lnTo>
                    <a:lnTo>
                      <a:pt x="40" y="127"/>
                    </a:lnTo>
                    <a:lnTo>
                      <a:pt x="35" y="124"/>
                    </a:lnTo>
                    <a:lnTo>
                      <a:pt x="30" y="121"/>
                    </a:lnTo>
                    <a:lnTo>
                      <a:pt x="24" y="117"/>
                    </a:lnTo>
                    <a:lnTo>
                      <a:pt x="20" y="113"/>
                    </a:lnTo>
                    <a:lnTo>
                      <a:pt x="15" y="108"/>
                    </a:lnTo>
                    <a:lnTo>
                      <a:pt x="12" y="103"/>
                    </a:lnTo>
                    <a:lnTo>
                      <a:pt x="8" y="98"/>
                    </a:lnTo>
                    <a:lnTo>
                      <a:pt x="5" y="92"/>
                    </a:lnTo>
                    <a:lnTo>
                      <a:pt x="3" y="86"/>
                    </a:lnTo>
                    <a:lnTo>
                      <a:pt x="2" y="80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0" y="60"/>
                    </a:lnTo>
                    <a:lnTo>
                      <a:pt x="2" y="54"/>
                    </a:lnTo>
                    <a:lnTo>
                      <a:pt x="3" y="48"/>
                    </a:lnTo>
                    <a:lnTo>
                      <a:pt x="5" y="41"/>
                    </a:lnTo>
                    <a:lnTo>
                      <a:pt x="8" y="35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20" y="21"/>
                    </a:lnTo>
                    <a:lnTo>
                      <a:pt x="24" y="16"/>
                    </a:lnTo>
                    <a:lnTo>
                      <a:pt x="30" y="11"/>
                    </a:lnTo>
                    <a:lnTo>
                      <a:pt x="35" y="8"/>
                    </a:lnTo>
                    <a:lnTo>
                      <a:pt x="40" y="6"/>
                    </a:lnTo>
                    <a:lnTo>
                      <a:pt x="46" y="3"/>
                    </a:lnTo>
                    <a:lnTo>
                      <a:pt x="53" y="1"/>
                    </a:lnTo>
                    <a:lnTo>
                      <a:pt x="59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3549600" y="4078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1">
                    <a:moveTo>
                      <a:pt x="100" y="101"/>
                    </a:moveTo>
                    <a:lnTo>
                      <a:pt x="100" y="101"/>
                    </a:lnTo>
                    <a:lnTo>
                      <a:pt x="98" y="91"/>
                    </a:lnTo>
                    <a:lnTo>
                      <a:pt x="97" y="82"/>
                    </a:lnTo>
                    <a:lnTo>
                      <a:pt x="95" y="72"/>
                    </a:lnTo>
                    <a:lnTo>
                      <a:pt x="92" y="63"/>
                    </a:lnTo>
                    <a:lnTo>
                      <a:pt x="87" y="55"/>
                    </a:lnTo>
                    <a:lnTo>
                      <a:pt x="82" y="45"/>
                    </a:lnTo>
                    <a:lnTo>
                      <a:pt x="77" y="39"/>
                    </a:lnTo>
                    <a:lnTo>
                      <a:pt x="71" y="31"/>
                    </a:lnTo>
                    <a:lnTo>
                      <a:pt x="64" y="24"/>
                    </a:lnTo>
                    <a:lnTo>
                      <a:pt x="56" y="18"/>
                    </a:lnTo>
                    <a:lnTo>
                      <a:pt x="48" y="13"/>
                    </a:lnTo>
                    <a:lnTo>
                      <a:pt x="39" y="9"/>
                    </a:lnTo>
                    <a:lnTo>
                      <a:pt x="30" y="5"/>
                    </a:lnTo>
                    <a:lnTo>
                      <a:pt x="21" y="2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3" y="67"/>
                    </a:lnTo>
                    <a:lnTo>
                      <a:pt x="6" y="68"/>
                    </a:lnTo>
                    <a:lnTo>
                      <a:pt x="8" y="69"/>
                    </a:lnTo>
                    <a:lnTo>
                      <a:pt x="12" y="70"/>
                    </a:lnTo>
                    <a:lnTo>
                      <a:pt x="14" y="72"/>
                    </a:lnTo>
                    <a:lnTo>
                      <a:pt x="17" y="73"/>
                    </a:lnTo>
                    <a:lnTo>
                      <a:pt x="20" y="75"/>
                    </a:lnTo>
                    <a:lnTo>
                      <a:pt x="22" y="77"/>
                    </a:lnTo>
                    <a:lnTo>
                      <a:pt x="24" y="80"/>
                    </a:lnTo>
                    <a:lnTo>
                      <a:pt x="25" y="82"/>
                    </a:lnTo>
                    <a:lnTo>
                      <a:pt x="28" y="85"/>
                    </a:lnTo>
                    <a:lnTo>
                      <a:pt x="29" y="89"/>
                    </a:lnTo>
                    <a:lnTo>
                      <a:pt x="30" y="91"/>
                    </a:lnTo>
                    <a:lnTo>
                      <a:pt x="31" y="94"/>
                    </a:lnTo>
                    <a:lnTo>
                      <a:pt x="31" y="98"/>
                    </a:lnTo>
                    <a:lnTo>
                      <a:pt x="31" y="101"/>
                    </a:lnTo>
                    <a:lnTo>
                      <a:pt x="31" y="101"/>
                    </a:lnTo>
                    <a:lnTo>
                      <a:pt x="100" y="1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3549600" y="41101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0" y="100"/>
                    </a:moveTo>
                    <a:lnTo>
                      <a:pt x="0" y="100"/>
                    </a:lnTo>
                    <a:lnTo>
                      <a:pt x="11" y="98"/>
                    </a:lnTo>
                    <a:lnTo>
                      <a:pt x="21" y="97"/>
                    </a:lnTo>
                    <a:lnTo>
                      <a:pt x="30" y="95"/>
                    </a:lnTo>
                    <a:lnTo>
                      <a:pt x="39" y="90"/>
                    </a:lnTo>
                    <a:lnTo>
                      <a:pt x="48" y="87"/>
                    </a:lnTo>
                    <a:lnTo>
                      <a:pt x="56" y="81"/>
                    </a:lnTo>
                    <a:lnTo>
                      <a:pt x="63" y="76"/>
                    </a:lnTo>
                    <a:lnTo>
                      <a:pt x="70" y="69"/>
                    </a:lnTo>
                    <a:lnTo>
                      <a:pt x="77" y="62"/>
                    </a:lnTo>
                    <a:lnTo>
                      <a:pt x="82" y="55"/>
                    </a:lnTo>
                    <a:lnTo>
                      <a:pt x="87" y="47"/>
                    </a:lnTo>
                    <a:lnTo>
                      <a:pt x="92" y="38"/>
                    </a:lnTo>
                    <a:lnTo>
                      <a:pt x="95" y="29"/>
                    </a:lnTo>
                    <a:lnTo>
                      <a:pt x="97" y="20"/>
                    </a:lnTo>
                    <a:lnTo>
                      <a:pt x="98" y="11"/>
                    </a:lnTo>
                    <a:lnTo>
                      <a:pt x="100" y="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0" y="8"/>
                    </a:lnTo>
                    <a:lnTo>
                      <a:pt x="29" y="12"/>
                    </a:lnTo>
                    <a:lnTo>
                      <a:pt x="28" y="14"/>
                    </a:lnTo>
                    <a:lnTo>
                      <a:pt x="27" y="17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5" y="28"/>
                    </a:lnTo>
                    <a:lnTo>
                      <a:pt x="12" y="29"/>
                    </a:lnTo>
                    <a:lnTo>
                      <a:pt x="9" y="30"/>
                    </a:lnTo>
                    <a:lnTo>
                      <a:pt x="6" y="31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3517920" y="41101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2" y="20"/>
                    </a:lnTo>
                    <a:lnTo>
                      <a:pt x="5" y="30"/>
                    </a:lnTo>
                    <a:lnTo>
                      <a:pt x="8" y="39"/>
                    </a:lnTo>
                    <a:lnTo>
                      <a:pt x="13" y="47"/>
                    </a:lnTo>
                    <a:lnTo>
                      <a:pt x="18" y="55"/>
                    </a:lnTo>
                    <a:lnTo>
                      <a:pt x="24" y="63"/>
                    </a:lnTo>
                    <a:lnTo>
                      <a:pt x="30" y="70"/>
                    </a:lnTo>
                    <a:lnTo>
                      <a:pt x="37" y="76"/>
                    </a:lnTo>
                    <a:lnTo>
                      <a:pt x="45" y="81"/>
                    </a:lnTo>
                    <a:lnTo>
                      <a:pt x="53" y="87"/>
                    </a:lnTo>
                    <a:lnTo>
                      <a:pt x="61" y="90"/>
                    </a:lnTo>
                    <a:lnTo>
                      <a:pt x="70" y="95"/>
                    </a:lnTo>
                    <a:lnTo>
                      <a:pt x="79" y="97"/>
                    </a:lnTo>
                    <a:lnTo>
                      <a:pt x="89" y="98"/>
                    </a:lnTo>
                    <a:lnTo>
                      <a:pt x="99" y="100"/>
                    </a:lnTo>
                    <a:lnTo>
                      <a:pt x="99" y="32"/>
                    </a:lnTo>
                    <a:lnTo>
                      <a:pt x="96" y="32"/>
                    </a:lnTo>
                    <a:lnTo>
                      <a:pt x="94" y="31"/>
                    </a:lnTo>
                    <a:lnTo>
                      <a:pt x="91" y="31"/>
                    </a:lnTo>
                    <a:lnTo>
                      <a:pt x="89" y="29"/>
                    </a:lnTo>
                    <a:lnTo>
                      <a:pt x="86" y="28"/>
                    </a:lnTo>
                    <a:lnTo>
                      <a:pt x="82" y="27"/>
                    </a:lnTo>
                    <a:lnTo>
                      <a:pt x="80" y="24"/>
                    </a:lnTo>
                    <a:lnTo>
                      <a:pt x="78" y="22"/>
                    </a:lnTo>
                    <a:lnTo>
                      <a:pt x="75" y="20"/>
                    </a:lnTo>
                    <a:lnTo>
                      <a:pt x="73" y="16"/>
                    </a:lnTo>
                    <a:lnTo>
                      <a:pt x="72" y="14"/>
                    </a:lnTo>
                    <a:lnTo>
                      <a:pt x="70" y="11"/>
                    </a:lnTo>
                    <a:lnTo>
                      <a:pt x="69" y="8"/>
                    </a:lnTo>
                    <a:lnTo>
                      <a:pt x="69" y="6"/>
                    </a:lnTo>
                    <a:lnTo>
                      <a:pt x="67" y="4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3517920" y="4078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1">
                    <a:moveTo>
                      <a:pt x="99" y="0"/>
                    </a:moveTo>
                    <a:lnTo>
                      <a:pt x="99" y="0"/>
                    </a:lnTo>
                    <a:lnTo>
                      <a:pt x="89" y="1"/>
                    </a:lnTo>
                    <a:lnTo>
                      <a:pt x="79" y="2"/>
                    </a:lnTo>
                    <a:lnTo>
                      <a:pt x="70" y="5"/>
                    </a:lnTo>
                    <a:lnTo>
                      <a:pt x="61" y="9"/>
                    </a:lnTo>
                    <a:lnTo>
                      <a:pt x="53" y="13"/>
                    </a:lnTo>
                    <a:lnTo>
                      <a:pt x="45" y="18"/>
                    </a:lnTo>
                    <a:lnTo>
                      <a:pt x="37" y="24"/>
                    </a:lnTo>
                    <a:lnTo>
                      <a:pt x="30" y="31"/>
                    </a:lnTo>
                    <a:lnTo>
                      <a:pt x="23" y="37"/>
                    </a:lnTo>
                    <a:lnTo>
                      <a:pt x="17" y="45"/>
                    </a:lnTo>
                    <a:lnTo>
                      <a:pt x="13" y="53"/>
                    </a:lnTo>
                    <a:lnTo>
                      <a:pt x="8" y="63"/>
                    </a:lnTo>
                    <a:lnTo>
                      <a:pt x="5" y="72"/>
                    </a:lnTo>
                    <a:lnTo>
                      <a:pt x="2" y="81"/>
                    </a:lnTo>
                    <a:lnTo>
                      <a:pt x="1" y="91"/>
                    </a:lnTo>
                    <a:lnTo>
                      <a:pt x="0" y="101"/>
                    </a:lnTo>
                    <a:lnTo>
                      <a:pt x="67" y="101"/>
                    </a:lnTo>
                    <a:lnTo>
                      <a:pt x="67" y="98"/>
                    </a:lnTo>
                    <a:lnTo>
                      <a:pt x="69" y="96"/>
                    </a:lnTo>
                    <a:lnTo>
                      <a:pt x="69" y="92"/>
                    </a:lnTo>
                    <a:lnTo>
                      <a:pt x="71" y="89"/>
                    </a:lnTo>
                    <a:lnTo>
                      <a:pt x="72" y="85"/>
                    </a:lnTo>
                    <a:lnTo>
                      <a:pt x="73" y="83"/>
                    </a:lnTo>
                    <a:lnTo>
                      <a:pt x="75" y="81"/>
                    </a:lnTo>
                    <a:lnTo>
                      <a:pt x="78" y="77"/>
                    </a:lnTo>
                    <a:lnTo>
                      <a:pt x="80" y="75"/>
                    </a:lnTo>
                    <a:lnTo>
                      <a:pt x="83" y="73"/>
                    </a:lnTo>
                    <a:lnTo>
                      <a:pt x="86" y="72"/>
                    </a:lnTo>
                    <a:lnTo>
                      <a:pt x="89" y="69"/>
                    </a:lnTo>
                    <a:lnTo>
                      <a:pt x="91" y="69"/>
                    </a:lnTo>
                    <a:lnTo>
                      <a:pt x="95" y="68"/>
                    </a:lnTo>
                    <a:lnTo>
                      <a:pt x="97" y="67"/>
                    </a:lnTo>
                    <a:lnTo>
                      <a:pt x="99" y="67"/>
                    </a:lnTo>
                    <a:lnTo>
                      <a:pt x="99" y="67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3295800" y="4290840"/>
                <a:ext cx="47520" cy="49320"/>
              </a:xfrm>
              <a:custGeom>
                <a:avLst/>
                <a:gdLst/>
                <a:ahLst/>
                <a:rect l="l" t="t" r="r" b="b"/>
                <a:pathLst>
                  <a:path w="153" h="155">
                    <a:moveTo>
                      <a:pt x="78" y="0"/>
                    </a:moveTo>
                    <a:lnTo>
                      <a:pt x="86" y="1"/>
                    </a:lnTo>
                    <a:lnTo>
                      <a:pt x="93" y="2"/>
                    </a:lnTo>
                    <a:lnTo>
                      <a:pt x="99" y="4"/>
                    </a:lnTo>
                    <a:lnTo>
                      <a:pt x="106" y="6"/>
                    </a:lnTo>
                    <a:lnTo>
                      <a:pt x="113" y="10"/>
                    </a:lnTo>
                    <a:lnTo>
                      <a:pt x="120" y="13"/>
                    </a:lnTo>
                    <a:lnTo>
                      <a:pt x="126" y="18"/>
                    </a:lnTo>
                    <a:lnTo>
                      <a:pt x="130" y="24"/>
                    </a:lnTo>
                    <a:lnTo>
                      <a:pt x="136" y="29"/>
                    </a:lnTo>
                    <a:lnTo>
                      <a:pt x="139" y="35"/>
                    </a:lnTo>
                    <a:lnTo>
                      <a:pt x="144" y="42"/>
                    </a:lnTo>
                    <a:lnTo>
                      <a:pt x="146" y="48"/>
                    </a:lnTo>
                    <a:lnTo>
                      <a:pt x="150" y="55"/>
                    </a:lnTo>
                    <a:lnTo>
                      <a:pt x="151" y="62"/>
                    </a:lnTo>
                    <a:lnTo>
                      <a:pt x="152" y="70"/>
                    </a:lnTo>
                    <a:lnTo>
                      <a:pt x="153" y="77"/>
                    </a:lnTo>
                    <a:lnTo>
                      <a:pt x="152" y="85"/>
                    </a:lnTo>
                    <a:lnTo>
                      <a:pt x="151" y="93"/>
                    </a:lnTo>
                    <a:lnTo>
                      <a:pt x="150" y="101"/>
                    </a:lnTo>
                    <a:lnTo>
                      <a:pt x="146" y="108"/>
                    </a:lnTo>
                    <a:lnTo>
                      <a:pt x="144" y="115"/>
                    </a:lnTo>
                    <a:lnTo>
                      <a:pt x="139" y="121"/>
                    </a:lnTo>
                    <a:lnTo>
                      <a:pt x="136" y="127"/>
                    </a:lnTo>
                    <a:lnTo>
                      <a:pt x="130" y="132"/>
                    </a:lnTo>
                    <a:lnTo>
                      <a:pt x="126" y="138"/>
                    </a:lnTo>
                    <a:lnTo>
                      <a:pt x="120" y="142"/>
                    </a:lnTo>
                    <a:lnTo>
                      <a:pt x="113" y="146"/>
                    </a:lnTo>
                    <a:lnTo>
                      <a:pt x="106" y="149"/>
                    </a:lnTo>
                    <a:lnTo>
                      <a:pt x="99" y="151"/>
                    </a:lnTo>
                    <a:lnTo>
                      <a:pt x="93" y="154"/>
                    </a:lnTo>
                    <a:lnTo>
                      <a:pt x="86" y="155"/>
                    </a:lnTo>
                    <a:lnTo>
                      <a:pt x="78" y="155"/>
                    </a:lnTo>
                    <a:lnTo>
                      <a:pt x="70" y="155"/>
                    </a:lnTo>
                    <a:lnTo>
                      <a:pt x="63" y="154"/>
                    </a:lnTo>
                    <a:lnTo>
                      <a:pt x="55" y="151"/>
                    </a:lnTo>
                    <a:lnTo>
                      <a:pt x="48" y="149"/>
                    </a:lnTo>
                    <a:lnTo>
                      <a:pt x="41" y="146"/>
                    </a:lnTo>
                    <a:lnTo>
                      <a:pt x="36" y="142"/>
                    </a:lnTo>
                    <a:lnTo>
                      <a:pt x="30" y="138"/>
                    </a:lnTo>
                    <a:lnTo>
                      <a:pt x="24" y="132"/>
                    </a:lnTo>
                    <a:lnTo>
                      <a:pt x="18" y="127"/>
                    </a:lnTo>
                    <a:lnTo>
                      <a:pt x="14" y="121"/>
                    </a:lnTo>
                    <a:lnTo>
                      <a:pt x="10" y="115"/>
                    </a:lnTo>
                    <a:lnTo>
                      <a:pt x="7" y="108"/>
                    </a:lnTo>
                    <a:lnTo>
                      <a:pt x="4" y="101"/>
                    </a:lnTo>
                    <a:lnTo>
                      <a:pt x="3" y="93"/>
                    </a:lnTo>
                    <a:lnTo>
                      <a:pt x="1" y="85"/>
                    </a:lnTo>
                    <a:lnTo>
                      <a:pt x="0" y="77"/>
                    </a:lnTo>
                    <a:lnTo>
                      <a:pt x="1" y="70"/>
                    </a:lnTo>
                    <a:lnTo>
                      <a:pt x="3" y="62"/>
                    </a:lnTo>
                    <a:lnTo>
                      <a:pt x="4" y="55"/>
                    </a:lnTo>
                    <a:lnTo>
                      <a:pt x="7" y="48"/>
                    </a:lnTo>
                    <a:lnTo>
                      <a:pt x="10" y="42"/>
                    </a:lnTo>
                    <a:lnTo>
                      <a:pt x="14" y="35"/>
                    </a:lnTo>
                    <a:lnTo>
                      <a:pt x="18" y="29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6" y="13"/>
                    </a:lnTo>
                    <a:lnTo>
                      <a:pt x="41" y="10"/>
                    </a:lnTo>
                    <a:lnTo>
                      <a:pt x="48" y="6"/>
                    </a:lnTo>
                    <a:lnTo>
                      <a:pt x="55" y="4"/>
                    </a:lnTo>
                    <a:lnTo>
                      <a:pt x="63" y="2"/>
                    </a:lnTo>
                    <a:lnTo>
                      <a:pt x="70" y="1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319560" y="4280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08" h="110">
                    <a:moveTo>
                      <a:pt x="108" y="110"/>
                    </a:moveTo>
                    <a:lnTo>
                      <a:pt x="108" y="110"/>
                    </a:lnTo>
                    <a:lnTo>
                      <a:pt x="108" y="100"/>
                    </a:lnTo>
                    <a:lnTo>
                      <a:pt x="106" y="88"/>
                    </a:lnTo>
                    <a:lnTo>
                      <a:pt x="103" y="78"/>
                    </a:lnTo>
                    <a:lnTo>
                      <a:pt x="100" y="68"/>
                    </a:lnTo>
                    <a:lnTo>
                      <a:pt x="96" y="59"/>
                    </a:lnTo>
                    <a:lnTo>
                      <a:pt x="90" y="50"/>
                    </a:lnTo>
                    <a:lnTo>
                      <a:pt x="84" y="41"/>
                    </a:lnTo>
                    <a:lnTo>
                      <a:pt x="77" y="33"/>
                    </a:lnTo>
                    <a:lnTo>
                      <a:pt x="69" y="26"/>
                    </a:lnTo>
                    <a:lnTo>
                      <a:pt x="61" y="19"/>
                    </a:lnTo>
                    <a:lnTo>
                      <a:pt x="52" y="13"/>
                    </a:lnTo>
                    <a:lnTo>
                      <a:pt x="43" y="9"/>
                    </a:lnTo>
                    <a:lnTo>
                      <a:pt x="33" y="5"/>
                    </a:lnTo>
                    <a:lnTo>
                      <a:pt x="23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3" y="67"/>
                    </a:lnTo>
                    <a:lnTo>
                      <a:pt x="8" y="68"/>
                    </a:lnTo>
                    <a:lnTo>
                      <a:pt x="11" y="69"/>
                    </a:lnTo>
                    <a:lnTo>
                      <a:pt x="15" y="70"/>
                    </a:lnTo>
                    <a:lnTo>
                      <a:pt x="19" y="73"/>
                    </a:lnTo>
                    <a:lnTo>
                      <a:pt x="21" y="74"/>
                    </a:lnTo>
                    <a:lnTo>
                      <a:pt x="25" y="77"/>
                    </a:lnTo>
                    <a:lnTo>
                      <a:pt x="28" y="79"/>
                    </a:lnTo>
                    <a:lnTo>
                      <a:pt x="31" y="83"/>
                    </a:lnTo>
                    <a:lnTo>
                      <a:pt x="34" y="86"/>
                    </a:lnTo>
                    <a:lnTo>
                      <a:pt x="36" y="90"/>
                    </a:lnTo>
                    <a:lnTo>
                      <a:pt x="37" y="94"/>
                    </a:lnTo>
                    <a:lnTo>
                      <a:pt x="39" y="98"/>
                    </a:lnTo>
                    <a:lnTo>
                      <a:pt x="40" y="102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108" y="1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3319560" y="431496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112"/>
                    </a:moveTo>
                    <a:lnTo>
                      <a:pt x="0" y="112"/>
                    </a:lnTo>
                    <a:lnTo>
                      <a:pt x="11" y="111"/>
                    </a:lnTo>
                    <a:lnTo>
                      <a:pt x="21" y="109"/>
                    </a:lnTo>
                    <a:lnTo>
                      <a:pt x="32" y="106"/>
                    </a:lnTo>
                    <a:lnTo>
                      <a:pt x="42" y="103"/>
                    </a:lnTo>
                    <a:lnTo>
                      <a:pt x="51" y="98"/>
                    </a:lnTo>
                    <a:lnTo>
                      <a:pt x="60" y="93"/>
                    </a:lnTo>
                    <a:lnTo>
                      <a:pt x="69" y="86"/>
                    </a:lnTo>
                    <a:lnTo>
                      <a:pt x="76" y="79"/>
                    </a:lnTo>
                    <a:lnTo>
                      <a:pt x="84" y="71"/>
                    </a:lnTo>
                    <a:lnTo>
                      <a:pt x="90" y="63"/>
                    </a:lnTo>
                    <a:lnTo>
                      <a:pt x="96" y="54"/>
                    </a:lnTo>
                    <a:lnTo>
                      <a:pt x="100" y="44"/>
                    </a:lnTo>
                    <a:lnTo>
                      <a:pt x="103" y="33"/>
                    </a:lnTo>
                    <a:lnTo>
                      <a:pt x="106" y="23"/>
                    </a:lnTo>
                    <a:lnTo>
                      <a:pt x="108" y="12"/>
                    </a:lnTo>
                    <a:lnTo>
                      <a:pt x="108" y="0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40" y="9"/>
                    </a:lnTo>
                    <a:lnTo>
                      <a:pt x="39" y="14"/>
                    </a:lnTo>
                    <a:lnTo>
                      <a:pt x="37" y="18"/>
                    </a:lnTo>
                    <a:lnTo>
                      <a:pt x="36" y="22"/>
                    </a:lnTo>
                    <a:lnTo>
                      <a:pt x="34" y="25"/>
                    </a:lnTo>
                    <a:lnTo>
                      <a:pt x="32" y="29"/>
                    </a:lnTo>
                    <a:lnTo>
                      <a:pt x="28" y="32"/>
                    </a:lnTo>
                    <a:lnTo>
                      <a:pt x="26" y="34"/>
                    </a:lnTo>
                    <a:lnTo>
                      <a:pt x="23" y="37"/>
                    </a:lnTo>
                    <a:lnTo>
                      <a:pt x="19" y="39"/>
                    </a:lnTo>
                    <a:lnTo>
                      <a:pt x="16" y="41"/>
                    </a:lnTo>
                    <a:lnTo>
                      <a:pt x="12" y="42"/>
                    </a:lnTo>
                    <a:lnTo>
                      <a:pt x="8" y="44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3284640" y="431496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111" h="112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" y="23"/>
                    </a:lnTo>
                    <a:lnTo>
                      <a:pt x="5" y="34"/>
                    </a:lnTo>
                    <a:lnTo>
                      <a:pt x="9" y="45"/>
                    </a:lnTo>
                    <a:lnTo>
                      <a:pt x="14" y="54"/>
                    </a:lnTo>
                    <a:lnTo>
                      <a:pt x="20" y="63"/>
                    </a:lnTo>
                    <a:lnTo>
                      <a:pt x="26" y="72"/>
                    </a:lnTo>
                    <a:lnTo>
                      <a:pt x="33" y="80"/>
                    </a:lnTo>
                    <a:lnTo>
                      <a:pt x="41" y="87"/>
                    </a:lnTo>
                    <a:lnTo>
                      <a:pt x="50" y="93"/>
                    </a:lnTo>
                    <a:lnTo>
                      <a:pt x="59" y="98"/>
                    </a:lnTo>
                    <a:lnTo>
                      <a:pt x="69" y="103"/>
                    </a:lnTo>
                    <a:lnTo>
                      <a:pt x="79" y="106"/>
                    </a:lnTo>
                    <a:lnTo>
                      <a:pt x="89" y="109"/>
                    </a:lnTo>
                    <a:lnTo>
                      <a:pt x="99" y="111"/>
                    </a:lnTo>
                    <a:lnTo>
                      <a:pt x="111" y="112"/>
                    </a:lnTo>
                    <a:lnTo>
                      <a:pt x="111" y="44"/>
                    </a:lnTo>
                    <a:lnTo>
                      <a:pt x="106" y="44"/>
                    </a:lnTo>
                    <a:lnTo>
                      <a:pt x="103" y="44"/>
                    </a:lnTo>
                    <a:lnTo>
                      <a:pt x="98" y="42"/>
                    </a:lnTo>
                    <a:lnTo>
                      <a:pt x="95" y="40"/>
                    </a:lnTo>
                    <a:lnTo>
                      <a:pt x="90" y="39"/>
                    </a:lnTo>
                    <a:lnTo>
                      <a:pt x="87" y="37"/>
                    </a:lnTo>
                    <a:lnTo>
                      <a:pt x="83" y="34"/>
                    </a:lnTo>
                    <a:lnTo>
                      <a:pt x="80" y="31"/>
                    </a:lnTo>
                    <a:lnTo>
                      <a:pt x="78" y="28"/>
                    </a:lnTo>
                    <a:lnTo>
                      <a:pt x="75" y="25"/>
                    </a:lnTo>
                    <a:lnTo>
                      <a:pt x="73" y="21"/>
                    </a:lnTo>
                    <a:lnTo>
                      <a:pt x="71" y="17"/>
                    </a:lnTo>
                    <a:lnTo>
                      <a:pt x="70" y="14"/>
                    </a:lnTo>
                    <a:lnTo>
                      <a:pt x="69" y="9"/>
                    </a:lnTo>
                    <a:lnTo>
                      <a:pt x="67" y="5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3284640" y="4280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11" h="110">
                    <a:moveTo>
                      <a:pt x="111" y="0"/>
                    </a:moveTo>
                    <a:lnTo>
                      <a:pt x="111" y="0"/>
                    </a:lnTo>
                    <a:lnTo>
                      <a:pt x="99" y="0"/>
                    </a:lnTo>
                    <a:lnTo>
                      <a:pt x="89" y="2"/>
                    </a:lnTo>
                    <a:lnTo>
                      <a:pt x="78" y="5"/>
                    </a:lnTo>
                    <a:lnTo>
                      <a:pt x="69" y="9"/>
                    </a:lnTo>
                    <a:lnTo>
                      <a:pt x="58" y="13"/>
                    </a:lnTo>
                    <a:lnTo>
                      <a:pt x="49" y="19"/>
                    </a:lnTo>
                    <a:lnTo>
                      <a:pt x="41" y="26"/>
                    </a:lnTo>
                    <a:lnTo>
                      <a:pt x="33" y="33"/>
                    </a:lnTo>
                    <a:lnTo>
                      <a:pt x="26" y="41"/>
                    </a:lnTo>
                    <a:lnTo>
                      <a:pt x="20" y="49"/>
                    </a:lnTo>
                    <a:lnTo>
                      <a:pt x="14" y="58"/>
                    </a:lnTo>
                    <a:lnTo>
                      <a:pt x="9" y="68"/>
                    </a:lnTo>
                    <a:lnTo>
                      <a:pt x="5" y="77"/>
                    </a:lnTo>
                    <a:lnTo>
                      <a:pt x="2" y="88"/>
                    </a:lnTo>
                    <a:lnTo>
                      <a:pt x="0" y="100"/>
                    </a:lnTo>
                    <a:lnTo>
                      <a:pt x="0" y="110"/>
                    </a:lnTo>
                    <a:lnTo>
                      <a:pt x="67" y="110"/>
                    </a:lnTo>
                    <a:lnTo>
                      <a:pt x="67" y="107"/>
                    </a:lnTo>
                    <a:lnTo>
                      <a:pt x="69" y="102"/>
                    </a:lnTo>
                    <a:lnTo>
                      <a:pt x="70" y="99"/>
                    </a:lnTo>
                    <a:lnTo>
                      <a:pt x="71" y="94"/>
                    </a:lnTo>
                    <a:lnTo>
                      <a:pt x="73" y="91"/>
                    </a:lnTo>
                    <a:lnTo>
                      <a:pt x="75" y="87"/>
                    </a:lnTo>
                    <a:lnTo>
                      <a:pt x="78" y="84"/>
                    </a:lnTo>
                    <a:lnTo>
                      <a:pt x="81" y="81"/>
                    </a:lnTo>
                    <a:lnTo>
                      <a:pt x="83" y="77"/>
                    </a:lnTo>
                    <a:lnTo>
                      <a:pt x="88" y="75"/>
                    </a:lnTo>
                    <a:lnTo>
                      <a:pt x="91" y="73"/>
                    </a:lnTo>
                    <a:lnTo>
                      <a:pt x="95" y="70"/>
                    </a:lnTo>
                    <a:lnTo>
                      <a:pt x="99" y="69"/>
                    </a:lnTo>
                    <a:lnTo>
                      <a:pt x="103" y="68"/>
                    </a:lnTo>
                    <a:lnTo>
                      <a:pt x="107" y="67"/>
                    </a:lnTo>
                    <a:lnTo>
                      <a:pt x="111" y="67"/>
                    </a:lnTo>
                    <a:lnTo>
                      <a:pt x="111" y="67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2959200" y="4422600"/>
                <a:ext cx="56880" cy="54000"/>
              </a:xfrm>
              <a:custGeom>
                <a:avLst/>
                <a:gdLst/>
                <a:ahLst/>
                <a:rect l="l" t="t" r="r" b="b"/>
                <a:pathLst>
                  <a:path w="177" h="172">
                    <a:moveTo>
                      <a:pt x="91" y="0"/>
                    </a:moveTo>
                    <a:lnTo>
                      <a:pt x="100" y="1"/>
                    </a:lnTo>
                    <a:lnTo>
                      <a:pt x="108" y="2"/>
                    </a:lnTo>
                    <a:lnTo>
                      <a:pt x="116" y="4"/>
                    </a:lnTo>
                    <a:lnTo>
                      <a:pt x="125" y="7"/>
                    </a:lnTo>
                    <a:lnTo>
                      <a:pt x="132" y="10"/>
                    </a:lnTo>
                    <a:lnTo>
                      <a:pt x="138" y="15"/>
                    </a:lnTo>
                    <a:lnTo>
                      <a:pt x="145" y="19"/>
                    </a:lnTo>
                    <a:lnTo>
                      <a:pt x="152" y="25"/>
                    </a:lnTo>
                    <a:lnTo>
                      <a:pt x="158" y="31"/>
                    </a:lnTo>
                    <a:lnTo>
                      <a:pt x="162" y="38"/>
                    </a:lnTo>
                    <a:lnTo>
                      <a:pt x="167" y="44"/>
                    </a:lnTo>
                    <a:lnTo>
                      <a:pt x="170" y="51"/>
                    </a:lnTo>
                    <a:lnTo>
                      <a:pt x="174" y="59"/>
                    </a:lnTo>
                    <a:lnTo>
                      <a:pt x="175" y="67"/>
                    </a:lnTo>
                    <a:lnTo>
                      <a:pt x="177" y="76"/>
                    </a:lnTo>
                    <a:lnTo>
                      <a:pt x="177" y="85"/>
                    </a:lnTo>
                    <a:lnTo>
                      <a:pt x="177" y="93"/>
                    </a:lnTo>
                    <a:lnTo>
                      <a:pt x="175" y="103"/>
                    </a:lnTo>
                    <a:lnTo>
                      <a:pt x="174" y="111"/>
                    </a:lnTo>
                    <a:lnTo>
                      <a:pt x="170" y="119"/>
                    </a:lnTo>
                    <a:lnTo>
                      <a:pt x="167" y="127"/>
                    </a:lnTo>
                    <a:lnTo>
                      <a:pt x="162" y="133"/>
                    </a:lnTo>
                    <a:lnTo>
                      <a:pt x="158" y="140"/>
                    </a:lnTo>
                    <a:lnTo>
                      <a:pt x="152" y="147"/>
                    </a:lnTo>
                    <a:lnTo>
                      <a:pt x="145" y="152"/>
                    </a:lnTo>
                    <a:lnTo>
                      <a:pt x="138" y="157"/>
                    </a:lnTo>
                    <a:lnTo>
                      <a:pt x="132" y="162"/>
                    </a:lnTo>
                    <a:lnTo>
                      <a:pt x="125" y="165"/>
                    </a:lnTo>
                    <a:lnTo>
                      <a:pt x="116" y="168"/>
                    </a:lnTo>
                    <a:lnTo>
                      <a:pt x="108" y="170"/>
                    </a:lnTo>
                    <a:lnTo>
                      <a:pt x="100" y="171"/>
                    </a:lnTo>
                    <a:lnTo>
                      <a:pt x="91" y="172"/>
                    </a:lnTo>
                    <a:lnTo>
                      <a:pt x="81" y="171"/>
                    </a:lnTo>
                    <a:lnTo>
                      <a:pt x="72" y="170"/>
                    </a:lnTo>
                    <a:lnTo>
                      <a:pt x="64" y="168"/>
                    </a:lnTo>
                    <a:lnTo>
                      <a:pt x="56" y="165"/>
                    </a:lnTo>
                    <a:lnTo>
                      <a:pt x="48" y="162"/>
                    </a:lnTo>
                    <a:lnTo>
                      <a:pt x="40" y="157"/>
                    </a:lnTo>
                    <a:lnTo>
                      <a:pt x="34" y="152"/>
                    </a:lnTo>
                    <a:lnTo>
                      <a:pt x="28" y="147"/>
                    </a:lnTo>
                    <a:lnTo>
                      <a:pt x="22" y="140"/>
                    </a:lnTo>
                    <a:lnTo>
                      <a:pt x="16" y="133"/>
                    </a:lnTo>
                    <a:lnTo>
                      <a:pt x="12" y="127"/>
                    </a:lnTo>
                    <a:lnTo>
                      <a:pt x="8" y="119"/>
                    </a:lnTo>
                    <a:lnTo>
                      <a:pt x="5" y="111"/>
                    </a:lnTo>
                    <a:lnTo>
                      <a:pt x="3" y="103"/>
                    </a:lnTo>
                    <a:lnTo>
                      <a:pt x="2" y="93"/>
                    </a:lnTo>
                    <a:lnTo>
                      <a:pt x="0" y="85"/>
                    </a:lnTo>
                    <a:lnTo>
                      <a:pt x="2" y="76"/>
                    </a:lnTo>
                    <a:lnTo>
                      <a:pt x="3" y="67"/>
                    </a:lnTo>
                    <a:lnTo>
                      <a:pt x="5" y="59"/>
                    </a:lnTo>
                    <a:lnTo>
                      <a:pt x="8" y="51"/>
                    </a:lnTo>
                    <a:lnTo>
                      <a:pt x="12" y="44"/>
                    </a:lnTo>
                    <a:lnTo>
                      <a:pt x="16" y="38"/>
                    </a:lnTo>
                    <a:lnTo>
                      <a:pt x="22" y="31"/>
                    </a:lnTo>
                    <a:lnTo>
                      <a:pt x="28" y="25"/>
                    </a:lnTo>
                    <a:lnTo>
                      <a:pt x="34" y="19"/>
                    </a:lnTo>
                    <a:lnTo>
                      <a:pt x="40" y="15"/>
                    </a:lnTo>
                    <a:lnTo>
                      <a:pt x="48" y="10"/>
                    </a:lnTo>
                    <a:lnTo>
                      <a:pt x="56" y="7"/>
                    </a:lnTo>
                    <a:lnTo>
                      <a:pt x="64" y="4"/>
                    </a:lnTo>
                    <a:lnTo>
                      <a:pt x="72" y="2"/>
                    </a:lnTo>
                    <a:lnTo>
                      <a:pt x="81" y="1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2989440" y="4411800"/>
                <a:ext cx="37800" cy="37800"/>
              </a:xfrm>
              <a:custGeom>
                <a:avLst/>
                <a:gdLst/>
                <a:ahLst/>
                <a:rect l="l" t="t" r="r" b="b"/>
                <a:pathLst>
                  <a:path w="120" h="118">
                    <a:moveTo>
                      <a:pt x="120" y="118"/>
                    </a:moveTo>
                    <a:lnTo>
                      <a:pt x="120" y="118"/>
                    </a:lnTo>
                    <a:lnTo>
                      <a:pt x="119" y="106"/>
                    </a:lnTo>
                    <a:lnTo>
                      <a:pt x="117" y="93"/>
                    </a:lnTo>
                    <a:lnTo>
                      <a:pt x="115" y="82"/>
                    </a:lnTo>
                    <a:lnTo>
                      <a:pt x="110" y="72"/>
                    </a:lnTo>
                    <a:lnTo>
                      <a:pt x="106" y="60"/>
                    </a:lnTo>
                    <a:lnTo>
                      <a:pt x="99" y="51"/>
                    </a:lnTo>
                    <a:lnTo>
                      <a:pt x="92" y="42"/>
                    </a:lnTo>
                    <a:lnTo>
                      <a:pt x="84" y="33"/>
                    </a:lnTo>
                    <a:lnTo>
                      <a:pt x="75" y="26"/>
                    </a:lnTo>
                    <a:lnTo>
                      <a:pt x="66" y="19"/>
                    </a:lnTo>
                    <a:lnTo>
                      <a:pt x="57" y="13"/>
                    </a:lnTo>
                    <a:lnTo>
                      <a:pt x="46" y="9"/>
                    </a:lnTo>
                    <a:lnTo>
                      <a:pt x="35" y="4"/>
                    </a:lnTo>
                    <a:lnTo>
                      <a:pt x="23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5" y="67"/>
                    </a:lnTo>
                    <a:lnTo>
                      <a:pt x="11" y="68"/>
                    </a:lnTo>
                    <a:lnTo>
                      <a:pt x="15" y="69"/>
                    </a:lnTo>
                    <a:lnTo>
                      <a:pt x="21" y="72"/>
                    </a:lnTo>
                    <a:lnTo>
                      <a:pt x="26" y="73"/>
                    </a:lnTo>
                    <a:lnTo>
                      <a:pt x="29" y="76"/>
                    </a:lnTo>
                    <a:lnTo>
                      <a:pt x="34" y="79"/>
                    </a:lnTo>
                    <a:lnTo>
                      <a:pt x="37" y="82"/>
                    </a:lnTo>
                    <a:lnTo>
                      <a:pt x="41" y="85"/>
                    </a:lnTo>
                    <a:lnTo>
                      <a:pt x="44" y="89"/>
                    </a:lnTo>
                    <a:lnTo>
                      <a:pt x="46" y="93"/>
                    </a:lnTo>
                    <a:lnTo>
                      <a:pt x="49" y="98"/>
                    </a:lnTo>
                    <a:lnTo>
                      <a:pt x="50" y="102"/>
                    </a:lnTo>
                    <a:lnTo>
                      <a:pt x="51" y="107"/>
                    </a:lnTo>
                    <a:lnTo>
                      <a:pt x="52" y="113"/>
                    </a:lnTo>
                    <a:lnTo>
                      <a:pt x="52" y="118"/>
                    </a:lnTo>
                    <a:lnTo>
                      <a:pt x="52" y="118"/>
                    </a:lnTo>
                    <a:lnTo>
                      <a:pt x="120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2989440" y="44496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0" y="120"/>
                    </a:moveTo>
                    <a:lnTo>
                      <a:pt x="0" y="120"/>
                    </a:lnTo>
                    <a:lnTo>
                      <a:pt x="11" y="120"/>
                    </a:lnTo>
                    <a:lnTo>
                      <a:pt x="23" y="118"/>
                    </a:lnTo>
                    <a:lnTo>
                      <a:pt x="35" y="116"/>
                    </a:lnTo>
                    <a:lnTo>
                      <a:pt x="46" y="111"/>
                    </a:lnTo>
                    <a:lnTo>
                      <a:pt x="57" y="107"/>
                    </a:lnTo>
                    <a:lnTo>
                      <a:pt x="67" y="100"/>
                    </a:lnTo>
                    <a:lnTo>
                      <a:pt x="76" y="93"/>
                    </a:lnTo>
                    <a:lnTo>
                      <a:pt x="85" y="85"/>
                    </a:lnTo>
                    <a:lnTo>
                      <a:pt x="92" y="77"/>
                    </a:lnTo>
                    <a:lnTo>
                      <a:pt x="100" y="68"/>
                    </a:lnTo>
                    <a:lnTo>
                      <a:pt x="106" y="57"/>
                    </a:lnTo>
                    <a:lnTo>
                      <a:pt x="110" y="47"/>
                    </a:lnTo>
                    <a:lnTo>
                      <a:pt x="115" y="36"/>
                    </a:lnTo>
                    <a:lnTo>
                      <a:pt x="117" y="24"/>
                    </a:lnTo>
                    <a:lnTo>
                      <a:pt x="119" y="12"/>
                    </a:lnTo>
                    <a:lnTo>
                      <a:pt x="120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1" y="11"/>
                    </a:lnTo>
                    <a:lnTo>
                      <a:pt x="50" y="16"/>
                    </a:lnTo>
                    <a:lnTo>
                      <a:pt x="49" y="21"/>
                    </a:lnTo>
                    <a:lnTo>
                      <a:pt x="46" y="26"/>
                    </a:lnTo>
                    <a:lnTo>
                      <a:pt x="43" y="30"/>
                    </a:lnTo>
                    <a:lnTo>
                      <a:pt x="41" y="34"/>
                    </a:lnTo>
                    <a:lnTo>
                      <a:pt x="37" y="38"/>
                    </a:lnTo>
                    <a:lnTo>
                      <a:pt x="34" y="42"/>
                    </a:lnTo>
                    <a:lnTo>
                      <a:pt x="29" y="44"/>
                    </a:lnTo>
                    <a:lnTo>
                      <a:pt x="25" y="47"/>
                    </a:lnTo>
                    <a:lnTo>
                      <a:pt x="20" y="48"/>
                    </a:lnTo>
                    <a:lnTo>
                      <a:pt x="15" y="51"/>
                    </a:lnTo>
                    <a:lnTo>
                      <a:pt x="11" y="52"/>
                    </a:lnTo>
                    <a:lnTo>
                      <a:pt x="5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2949480" y="4449600"/>
                <a:ext cx="39960" cy="38160"/>
              </a:xfrm>
              <a:custGeom>
                <a:avLst/>
                <a:gdLst/>
                <a:ahLst/>
                <a:rect l="l" t="t" r="r" b="b"/>
                <a:pathLst>
                  <a:path w="124" h="120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3" y="24"/>
                    </a:lnTo>
                    <a:lnTo>
                      <a:pt x="6" y="36"/>
                    </a:lnTo>
                    <a:lnTo>
                      <a:pt x="11" y="47"/>
                    </a:lnTo>
                    <a:lnTo>
                      <a:pt x="15" y="59"/>
                    </a:lnTo>
                    <a:lnTo>
                      <a:pt x="22" y="68"/>
                    </a:lnTo>
                    <a:lnTo>
                      <a:pt x="29" y="77"/>
                    </a:lnTo>
                    <a:lnTo>
                      <a:pt x="37" y="86"/>
                    </a:lnTo>
                    <a:lnTo>
                      <a:pt x="46" y="94"/>
                    </a:lnTo>
                    <a:lnTo>
                      <a:pt x="55" y="101"/>
                    </a:lnTo>
                    <a:lnTo>
                      <a:pt x="65" y="107"/>
                    </a:lnTo>
                    <a:lnTo>
                      <a:pt x="76" y="111"/>
                    </a:lnTo>
                    <a:lnTo>
                      <a:pt x="87" y="116"/>
                    </a:lnTo>
                    <a:lnTo>
                      <a:pt x="100" y="118"/>
                    </a:lnTo>
                    <a:lnTo>
                      <a:pt x="111" y="120"/>
                    </a:lnTo>
                    <a:lnTo>
                      <a:pt x="124" y="120"/>
                    </a:lnTo>
                    <a:lnTo>
                      <a:pt x="124" y="53"/>
                    </a:lnTo>
                    <a:lnTo>
                      <a:pt x="118" y="53"/>
                    </a:lnTo>
                    <a:lnTo>
                      <a:pt x="112" y="52"/>
                    </a:lnTo>
                    <a:lnTo>
                      <a:pt x="106" y="51"/>
                    </a:lnTo>
                    <a:lnTo>
                      <a:pt x="102" y="48"/>
                    </a:lnTo>
                    <a:lnTo>
                      <a:pt x="96" y="47"/>
                    </a:lnTo>
                    <a:lnTo>
                      <a:pt x="93" y="44"/>
                    </a:lnTo>
                    <a:lnTo>
                      <a:pt x="88" y="40"/>
                    </a:lnTo>
                    <a:lnTo>
                      <a:pt x="84" y="37"/>
                    </a:lnTo>
                    <a:lnTo>
                      <a:pt x="80" y="34"/>
                    </a:lnTo>
                    <a:lnTo>
                      <a:pt x="77" y="29"/>
                    </a:lnTo>
                    <a:lnTo>
                      <a:pt x="74" y="26"/>
                    </a:lnTo>
                    <a:lnTo>
                      <a:pt x="72" y="21"/>
                    </a:lnTo>
                    <a:lnTo>
                      <a:pt x="70" y="15"/>
                    </a:lnTo>
                    <a:lnTo>
                      <a:pt x="69" y="11"/>
                    </a:lnTo>
                    <a:lnTo>
                      <a:pt x="68" y="5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2949480" y="4411800"/>
                <a:ext cx="39960" cy="37800"/>
              </a:xfrm>
              <a:custGeom>
                <a:avLst/>
                <a:gdLst/>
                <a:ahLst/>
                <a:rect l="l" t="t" r="r" b="b"/>
                <a:pathLst>
                  <a:path w="124" h="118">
                    <a:moveTo>
                      <a:pt x="124" y="0"/>
                    </a:moveTo>
                    <a:lnTo>
                      <a:pt x="124" y="0"/>
                    </a:lnTo>
                    <a:lnTo>
                      <a:pt x="111" y="0"/>
                    </a:lnTo>
                    <a:lnTo>
                      <a:pt x="100" y="2"/>
                    </a:lnTo>
                    <a:lnTo>
                      <a:pt x="88" y="4"/>
                    </a:lnTo>
                    <a:lnTo>
                      <a:pt x="77" y="9"/>
                    </a:lnTo>
                    <a:lnTo>
                      <a:pt x="67" y="13"/>
                    </a:lnTo>
                    <a:lnTo>
                      <a:pt x="56" y="19"/>
                    </a:lnTo>
                    <a:lnTo>
                      <a:pt x="46" y="25"/>
                    </a:lnTo>
                    <a:lnTo>
                      <a:pt x="38" y="33"/>
                    </a:lnTo>
                    <a:lnTo>
                      <a:pt x="29" y="41"/>
                    </a:lnTo>
                    <a:lnTo>
                      <a:pt x="22" y="50"/>
                    </a:lnTo>
                    <a:lnTo>
                      <a:pt x="15" y="60"/>
                    </a:lnTo>
                    <a:lnTo>
                      <a:pt x="11" y="71"/>
                    </a:lnTo>
                    <a:lnTo>
                      <a:pt x="6" y="82"/>
                    </a:lnTo>
                    <a:lnTo>
                      <a:pt x="3" y="93"/>
                    </a:lnTo>
                    <a:lnTo>
                      <a:pt x="0" y="106"/>
                    </a:lnTo>
                    <a:lnTo>
                      <a:pt x="0" y="118"/>
                    </a:lnTo>
                    <a:lnTo>
                      <a:pt x="68" y="118"/>
                    </a:lnTo>
                    <a:lnTo>
                      <a:pt x="68" y="113"/>
                    </a:lnTo>
                    <a:lnTo>
                      <a:pt x="69" y="107"/>
                    </a:lnTo>
                    <a:lnTo>
                      <a:pt x="70" y="102"/>
                    </a:lnTo>
                    <a:lnTo>
                      <a:pt x="72" y="98"/>
                    </a:lnTo>
                    <a:lnTo>
                      <a:pt x="74" y="93"/>
                    </a:lnTo>
                    <a:lnTo>
                      <a:pt x="77" y="90"/>
                    </a:lnTo>
                    <a:lnTo>
                      <a:pt x="80" y="85"/>
                    </a:lnTo>
                    <a:lnTo>
                      <a:pt x="84" y="82"/>
                    </a:lnTo>
                    <a:lnTo>
                      <a:pt x="87" y="79"/>
                    </a:lnTo>
                    <a:lnTo>
                      <a:pt x="92" y="76"/>
                    </a:lnTo>
                    <a:lnTo>
                      <a:pt x="96" y="74"/>
                    </a:lnTo>
                    <a:lnTo>
                      <a:pt x="101" y="72"/>
                    </a:lnTo>
                    <a:lnTo>
                      <a:pt x="106" y="69"/>
                    </a:lnTo>
                    <a:lnTo>
                      <a:pt x="112" y="68"/>
                    </a:lnTo>
                    <a:lnTo>
                      <a:pt x="118" y="67"/>
                    </a:lnTo>
                    <a:lnTo>
                      <a:pt x="124" y="67"/>
                    </a:lnTo>
                    <a:lnTo>
                      <a:pt x="124" y="67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5904000" y="4124160"/>
                <a:ext cx="347400" cy="576360"/>
              </a:xfrm>
              <a:custGeom>
                <a:avLst/>
                <a:gdLst/>
                <a:ahLst/>
                <a:rect l="l" t="t" r="r" b="b"/>
                <a:pathLst>
                  <a:path w="1095" h="1818">
                    <a:moveTo>
                      <a:pt x="1095" y="0"/>
                    </a:moveTo>
                    <a:lnTo>
                      <a:pt x="1095" y="292"/>
                    </a:lnTo>
                    <a:lnTo>
                      <a:pt x="1095" y="550"/>
                    </a:lnTo>
                    <a:lnTo>
                      <a:pt x="1094" y="667"/>
                    </a:lnTo>
                    <a:lnTo>
                      <a:pt x="1091" y="780"/>
                    </a:lnTo>
                    <a:lnTo>
                      <a:pt x="1089" y="887"/>
                    </a:lnTo>
                    <a:lnTo>
                      <a:pt x="1085" y="991"/>
                    </a:lnTo>
                    <a:lnTo>
                      <a:pt x="1078" y="1093"/>
                    </a:lnTo>
                    <a:lnTo>
                      <a:pt x="1070" y="1193"/>
                    </a:lnTo>
                    <a:lnTo>
                      <a:pt x="1065" y="1242"/>
                    </a:lnTo>
                    <a:lnTo>
                      <a:pt x="1060" y="1292"/>
                    </a:lnTo>
                    <a:lnTo>
                      <a:pt x="1054" y="1342"/>
                    </a:lnTo>
                    <a:lnTo>
                      <a:pt x="1047" y="1393"/>
                    </a:lnTo>
                    <a:lnTo>
                      <a:pt x="1039" y="1443"/>
                    </a:lnTo>
                    <a:lnTo>
                      <a:pt x="1031" y="1494"/>
                    </a:lnTo>
                    <a:lnTo>
                      <a:pt x="1023" y="1546"/>
                    </a:lnTo>
                    <a:lnTo>
                      <a:pt x="1013" y="1598"/>
                    </a:lnTo>
                    <a:lnTo>
                      <a:pt x="1003" y="1652"/>
                    </a:lnTo>
                    <a:lnTo>
                      <a:pt x="991" y="1705"/>
                    </a:lnTo>
                    <a:lnTo>
                      <a:pt x="980" y="1761"/>
                    </a:lnTo>
                    <a:lnTo>
                      <a:pt x="967" y="1818"/>
                    </a:lnTo>
                    <a:lnTo>
                      <a:pt x="850" y="1817"/>
                    </a:lnTo>
                    <a:lnTo>
                      <a:pt x="746" y="1815"/>
                    </a:lnTo>
                    <a:lnTo>
                      <a:pt x="699" y="1813"/>
                    </a:lnTo>
                    <a:lnTo>
                      <a:pt x="656" y="1810"/>
                    </a:lnTo>
                    <a:lnTo>
                      <a:pt x="616" y="1808"/>
                    </a:lnTo>
                    <a:lnTo>
                      <a:pt x="577" y="1805"/>
                    </a:lnTo>
                    <a:lnTo>
                      <a:pt x="543" y="1801"/>
                    </a:lnTo>
                    <a:lnTo>
                      <a:pt x="510" y="1798"/>
                    </a:lnTo>
                    <a:lnTo>
                      <a:pt x="479" y="1793"/>
                    </a:lnTo>
                    <a:lnTo>
                      <a:pt x="452" y="1787"/>
                    </a:lnTo>
                    <a:lnTo>
                      <a:pt x="426" y="1783"/>
                    </a:lnTo>
                    <a:lnTo>
                      <a:pt x="402" y="1776"/>
                    </a:lnTo>
                    <a:lnTo>
                      <a:pt x="379" y="1770"/>
                    </a:lnTo>
                    <a:lnTo>
                      <a:pt x="358" y="1763"/>
                    </a:lnTo>
                    <a:lnTo>
                      <a:pt x="338" y="1755"/>
                    </a:lnTo>
                    <a:lnTo>
                      <a:pt x="320" y="1747"/>
                    </a:lnTo>
                    <a:lnTo>
                      <a:pt x="303" y="1738"/>
                    </a:lnTo>
                    <a:lnTo>
                      <a:pt x="287" y="1729"/>
                    </a:lnTo>
                    <a:lnTo>
                      <a:pt x="272" y="1720"/>
                    </a:lnTo>
                    <a:lnTo>
                      <a:pt x="257" y="1710"/>
                    </a:lnTo>
                    <a:lnTo>
                      <a:pt x="242" y="1698"/>
                    </a:lnTo>
                    <a:lnTo>
                      <a:pt x="228" y="1687"/>
                    </a:lnTo>
                    <a:lnTo>
                      <a:pt x="202" y="1663"/>
                    </a:lnTo>
                    <a:lnTo>
                      <a:pt x="174" y="1636"/>
                    </a:lnTo>
                    <a:lnTo>
                      <a:pt x="145" y="1606"/>
                    </a:lnTo>
                    <a:lnTo>
                      <a:pt x="113" y="1574"/>
                    </a:lnTo>
                    <a:lnTo>
                      <a:pt x="97" y="1476"/>
                    </a:lnTo>
                    <a:lnTo>
                      <a:pt x="83" y="1392"/>
                    </a:lnTo>
                    <a:lnTo>
                      <a:pt x="69" y="1319"/>
                    </a:lnTo>
                    <a:lnTo>
                      <a:pt x="56" y="1257"/>
                    </a:lnTo>
                    <a:lnTo>
                      <a:pt x="45" y="1206"/>
                    </a:lnTo>
                    <a:lnTo>
                      <a:pt x="34" y="1163"/>
                    </a:lnTo>
                    <a:lnTo>
                      <a:pt x="24" y="1130"/>
                    </a:lnTo>
                    <a:lnTo>
                      <a:pt x="18" y="1105"/>
                    </a:lnTo>
                    <a:lnTo>
                      <a:pt x="6" y="1076"/>
                    </a:lnTo>
                    <a:lnTo>
                      <a:pt x="0" y="1065"/>
                    </a:lnTo>
                    <a:lnTo>
                      <a:pt x="0" y="1066"/>
                    </a:lnTo>
                    <a:lnTo>
                      <a:pt x="2" y="1070"/>
                    </a:lnTo>
                    <a:lnTo>
                      <a:pt x="5" y="1076"/>
                    </a:lnTo>
                    <a:lnTo>
                      <a:pt x="11" y="1081"/>
                    </a:lnTo>
                    <a:lnTo>
                      <a:pt x="18" y="1087"/>
                    </a:lnTo>
                    <a:lnTo>
                      <a:pt x="27" y="1093"/>
                    </a:lnTo>
                    <a:lnTo>
                      <a:pt x="38" y="1096"/>
                    </a:lnTo>
                    <a:lnTo>
                      <a:pt x="52" y="1097"/>
                    </a:lnTo>
                    <a:lnTo>
                      <a:pt x="67" y="1095"/>
                    </a:lnTo>
                    <a:lnTo>
                      <a:pt x="85" y="1088"/>
                    </a:lnTo>
                    <a:lnTo>
                      <a:pt x="104" y="1077"/>
                    </a:lnTo>
                    <a:lnTo>
                      <a:pt x="127" y="1058"/>
                    </a:lnTo>
                    <a:lnTo>
                      <a:pt x="152" y="1033"/>
                    </a:lnTo>
                    <a:lnTo>
                      <a:pt x="179" y="1001"/>
                    </a:lnTo>
                    <a:lnTo>
                      <a:pt x="210" y="959"/>
                    </a:lnTo>
                    <a:lnTo>
                      <a:pt x="243" y="909"/>
                    </a:lnTo>
                    <a:lnTo>
                      <a:pt x="279" y="847"/>
                    </a:lnTo>
                    <a:lnTo>
                      <a:pt x="317" y="775"/>
                    </a:lnTo>
                    <a:lnTo>
                      <a:pt x="358" y="691"/>
                    </a:lnTo>
                    <a:lnTo>
                      <a:pt x="403" y="594"/>
                    </a:lnTo>
                    <a:lnTo>
                      <a:pt x="438" y="589"/>
                    </a:lnTo>
                    <a:lnTo>
                      <a:pt x="472" y="584"/>
                    </a:lnTo>
                    <a:lnTo>
                      <a:pt x="506" y="578"/>
                    </a:lnTo>
                    <a:lnTo>
                      <a:pt x="537" y="570"/>
                    </a:lnTo>
                    <a:lnTo>
                      <a:pt x="568" y="561"/>
                    </a:lnTo>
                    <a:lnTo>
                      <a:pt x="599" y="551"/>
                    </a:lnTo>
                    <a:lnTo>
                      <a:pt x="629" y="539"/>
                    </a:lnTo>
                    <a:lnTo>
                      <a:pt x="656" y="526"/>
                    </a:lnTo>
                    <a:lnTo>
                      <a:pt x="683" y="513"/>
                    </a:lnTo>
                    <a:lnTo>
                      <a:pt x="710" y="498"/>
                    </a:lnTo>
                    <a:lnTo>
                      <a:pt x="736" y="482"/>
                    </a:lnTo>
                    <a:lnTo>
                      <a:pt x="760" y="466"/>
                    </a:lnTo>
                    <a:lnTo>
                      <a:pt x="784" y="448"/>
                    </a:lnTo>
                    <a:lnTo>
                      <a:pt x="806" y="430"/>
                    </a:lnTo>
                    <a:lnTo>
                      <a:pt x="828" y="410"/>
                    </a:lnTo>
                    <a:lnTo>
                      <a:pt x="850" y="391"/>
                    </a:lnTo>
                    <a:lnTo>
                      <a:pt x="870" y="370"/>
                    </a:lnTo>
                    <a:lnTo>
                      <a:pt x="890" y="349"/>
                    </a:lnTo>
                    <a:lnTo>
                      <a:pt x="909" y="327"/>
                    </a:lnTo>
                    <a:lnTo>
                      <a:pt x="927" y="304"/>
                    </a:lnTo>
                    <a:lnTo>
                      <a:pt x="944" y="281"/>
                    </a:lnTo>
                    <a:lnTo>
                      <a:pt x="962" y="257"/>
                    </a:lnTo>
                    <a:lnTo>
                      <a:pt x="977" y="234"/>
                    </a:lnTo>
                    <a:lnTo>
                      <a:pt x="992" y="208"/>
                    </a:lnTo>
                    <a:lnTo>
                      <a:pt x="1007" y="183"/>
                    </a:lnTo>
                    <a:lnTo>
                      <a:pt x="1022" y="158"/>
                    </a:lnTo>
                    <a:lnTo>
                      <a:pt x="1036" y="132"/>
                    </a:lnTo>
                    <a:lnTo>
                      <a:pt x="1048" y="107"/>
                    </a:lnTo>
                    <a:lnTo>
                      <a:pt x="1072" y="53"/>
                    </a:lnTo>
                    <a:lnTo>
                      <a:pt x="109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6200640" y="4124160"/>
                <a:ext cx="61920" cy="587520"/>
              </a:xfrm>
              <a:custGeom>
                <a:avLst/>
                <a:gdLst/>
                <a:ahLst/>
                <a:rect l="l" t="t" r="r" b="b"/>
                <a:pathLst>
                  <a:path w="196" h="1851">
                    <a:moveTo>
                      <a:pt x="34" y="1851"/>
                    </a:moveTo>
                    <a:lnTo>
                      <a:pt x="66" y="1825"/>
                    </a:lnTo>
                    <a:lnTo>
                      <a:pt x="80" y="1768"/>
                    </a:lnTo>
                    <a:lnTo>
                      <a:pt x="91" y="1712"/>
                    </a:lnTo>
                    <a:lnTo>
                      <a:pt x="103" y="1657"/>
                    </a:lnTo>
                    <a:lnTo>
                      <a:pt x="113" y="1604"/>
                    </a:lnTo>
                    <a:lnTo>
                      <a:pt x="123" y="1551"/>
                    </a:lnTo>
                    <a:lnTo>
                      <a:pt x="132" y="1499"/>
                    </a:lnTo>
                    <a:lnTo>
                      <a:pt x="140" y="1447"/>
                    </a:lnTo>
                    <a:lnTo>
                      <a:pt x="147" y="1397"/>
                    </a:lnTo>
                    <a:lnTo>
                      <a:pt x="154" y="1346"/>
                    </a:lnTo>
                    <a:lnTo>
                      <a:pt x="160" y="1296"/>
                    </a:lnTo>
                    <a:lnTo>
                      <a:pt x="165" y="1245"/>
                    </a:lnTo>
                    <a:lnTo>
                      <a:pt x="171" y="1195"/>
                    </a:lnTo>
                    <a:lnTo>
                      <a:pt x="179" y="1095"/>
                    </a:lnTo>
                    <a:lnTo>
                      <a:pt x="185" y="993"/>
                    </a:lnTo>
                    <a:lnTo>
                      <a:pt x="189" y="888"/>
                    </a:lnTo>
                    <a:lnTo>
                      <a:pt x="193" y="780"/>
                    </a:lnTo>
                    <a:lnTo>
                      <a:pt x="194" y="667"/>
                    </a:lnTo>
                    <a:lnTo>
                      <a:pt x="195" y="550"/>
                    </a:lnTo>
                    <a:lnTo>
                      <a:pt x="196" y="292"/>
                    </a:lnTo>
                    <a:lnTo>
                      <a:pt x="195" y="0"/>
                    </a:lnTo>
                    <a:lnTo>
                      <a:pt x="128" y="0"/>
                    </a:lnTo>
                    <a:lnTo>
                      <a:pt x="128" y="292"/>
                    </a:lnTo>
                    <a:lnTo>
                      <a:pt x="128" y="550"/>
                    </a:lnTo>
                    <a:lnTo>
                      <a:pt x="127" y="667"/>
                    </a:lnTo>
                    <a:lnTo>
                      <a:pt x="125" y="779"/>
                    </a:lnTo>
                    <a:lnTo>
                      <a:pt x="122" y="886"/>
                    </a:lnTo>
                    <a:lnTo>
                      <a:pt x="117" y="990"/>
                    </a:lnTo>
                    <a:lnTo>
                      <a:pt x="112" y="1090"/>
                    </a:lnTo>
                    <a:lnTo>
                      <a:pt x="103" y="1190"/>
                    </a:lnTo>
                    <a:lnTo>
                      <a:pt x="98" y="1239"/>
                    </a:lnTo>
                    <a:lnTo>
                      <a:pt x="93" y="1289"/>
                    </a:lnTo>
                    <a:lnTo>
                      <a:pt x="87" y="1338"/>
                    </a:lnTo>
                    <a:lnTo>
                      <a:pt x="81" y="1388"/>
                    </a:lnTo>
                    <a:lnTo>
                      <a:pt x="73" y="1438"/>
                    </a:lnTo>
                    <a:lnTo>
                      <a:pt x="65" y="1489"/>
                    </a:lnTo>
                    <a:lnTo>
                      <a:pt x="56" y="1540"/>
                    </a:lnTo>
                    <a:lnTo>
                      <a:pt x="47" y="1591"/>
                    </a:lnTo>
                    <a:lnTo>
                      <a:pt x="36" y="1645"/>
                    </a:lnTo>
                    <a:lnTo>
                      <a:pt x="26" y="1698"/>
                    </a:lnTo>
                    <a:lnTo>
                      <a:pt x="14" y="1754"/>
                    </a:lnTo>
                    <a:lnTo>
                      <a:pt x="1" y="1810"/>
                    </a:lnTo>
                    <a:lnTo>
                      <a:pt x="34" y="1784"/>
                    </a:lnTo>
                    <a:lnTo>
                      <a:pt x="1" y="1810"/>
                    </a:lnTo>
                    <a:lnTo>
                      <a:pt x="0" y="1818"/>
                    </a:lnTo>
                    <a:lnTo>
                      <a:pt x="0" y="1825"/>
                    </a:lnTo>
                    <a:lnTo>
                      <a:pt x="2" y="1832"/>
                    </a:lnTo>
                    <a:lnTo>
                      <a:pt x="6" y="1838"/>
                    </a:lnTo>
                    <a:lnTo>
                      <a:pt x="10" y="1842"/>
                    </a:lnTo>
                    <a:lnTo>
                      <a:pt x="15" y="1846"/>
                    </a:lnTo>
                    <a:lnTo>
                      <a:pt x="21" y="1849"/>
                    </a:lnTo>
                    <a:lnTo>
                      <a:pt x="26" y="1850"/>
                    </a:lnTo>
                    <a:lnTo>
                      <a:pt x="33" y="1851"/>
                    </a:lnTo>
                    <a:lnTo>
                      <a:pt x="39" y="1851"/>
                    </a:lnTo>
                    <a:lnTo>
                      <a:pt x="44" y="1850"/>
                    </a:lnTo>
                    <a:lnTo>
                      <a:pt x="51" y="1848"/>
                    </a:lnTo>
                    <a:lnTo>
                      <a:pt x="56" y="1844"/>
                    </a:lnTo>
                    <a:lnTo>
                      <a:pt x="60" y="1839"/>
                    </a:lnTo>
                    <a:lnTo>
                      <a:pt x="64" y="1833"/>
                    </a:lnTo>
                    <a:lnTo>
                      <a:pt x="66" y="1825"/>
                    </a:lnTo>
                    <a:lnTo>
                      <a:pt x="34" y="18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5929200" y="4613400"/>
                <a:ext cx="282600" cy="98280"/>
              </a:xfrm>
              <a:custGeom>
                <a:avLst/>
                <a:gdLst/>
                <a:ahLst/>
                <a:rect l="l" t="t" r="r" b="b"/>
                <a:pathLst>
                  <a:path w="889" h="311">
                    <a:moveTo>
                      <a:pt x="1" y="39"/>
                    </a:moveTo>
                    <a:lnTo>
                      <a:pt x="11" y="58"/>
                    </a:lnTo>
                    <a:lnTo>
                      <a:pt x="43" y="90"/>
                    </a:lnTo>
                    <a:lnTo>
                      <a:pt x="72" y="120"/>
                    </a:lnTo>
                    <a:lnTo>
                      <a:pt x="100" y="147"/>
                    </a:lnTo>
                    <a:lnTo>
                      <a:pt x="129" y="173"/>
                    </a:lnTo>
                    <a:lnTo>
                      <a:pt x="144" y="186"/>
                    </a:lnTo>
                    <a:lnTo>
                      <a:pt x="158" y="197"/>
                    </a:lnTo>
                    <a:lnTo>
                      <a:pt x="174" y="209"/>
                    </a:lnTo>
                    <a:lnTo>
                      <a:pt x="192" y="219"/>
                    </a:lnTo>
                    <a:lnTo>
                      <a:pt x="209" y="228"/>
                    </a:lnTo>
                    <a:lnTo>
                      <a:pt x="228" y="238"/>
                    </a:lnTo>
                    <a:lnTo>
                      <a:pt x="247" y="246"/>
                    </a:lnTo>
                    <a:lnTo>
                      <a:pt x="269" y="254"/>
                    </a:lnTo>
                    <a:lnTo>
                      <a:pt x="291" y="262"/>
                    </a:lnTo>
                    <a:lnTo>
                      <a:pt x="315" y="269"/>
                    </a:lnTo>
                    <a:lnTo>
                      <a:pt x="340" y="275"/>
                    </a:lnTo>
                    <a:lnTo>
                      <a:pt x="367" y="280"/>
                    </a:lnTo>
                    <a:lnTo>
                      <a:pt x="397" y="286"/>
                    </a:lnTo>
                    <a:lnTo>
                      <a:pt x="428" y="291"/>
                    </a:lnTo>
                    <a:lnTo>
                      <a:pt x="461" y="295"/>
                    </a:lnTo>
                    <a:lnTo>
                      <a:pt x="497" y="299"/>
                    </a:lnTo>
                    <a:lnTo>
                      <a:pt x="535" y="302"/>
                    </a:lnTo>
                    <a:lnTo>
                      <a:pt x="577" y="304"/>
                    </a:lnTo>
                    <a:lnTo>
                      <a:pt x="620" y="307"/>
                    </a:lnTo>
                    <a:lnTo>
                      <a:pt x="668" y="308"/>
                    </a:lnTo>
                    <a:lnTo>
                      <a:pt x="771" y="310"/>
                    </a:lnTo>
                    <a:lnTo>
                      <a:pt x="889" y="311"/>
                    </a:lnTo>
                    <a:lnTo>
                      <a:pt x="889" y="244"/>
                    </a:lnTo>
                    <a:lnTo>
                      <a:pt x="772" y="243"/>
                    </a:lnTo>
                    <a:lnTo>
                      <a:pt x="669" y="241"/>
                    </a:lnTo>
                    <a:lnTo>
                      <a:pt x="624" y="239"/>
                    </a:lnTo>
                    <a:lnTo>
                      <a:pt x="580" y="237"/>
                    </a:lnTo>
                    <a:lnTo>
                      <a:pt x="540" y="235"/>
                    </a:lnTo>
                    <a:lnTo>
                      <a:pt x="503" y="231"/>
                    </a:lnTo>
                    <a:lnTo>
                      <a:pt x="469" y="228"/>
                    </a:lnTo>
                    <a:lnTo>
                      <a:pt x="437" y="223"/>
                    </a:lnTo>
                    <a:lnTo>
                      <a:pt x="407" y="220"/>
                    </a:lnTo>
                    <a:lnTo>
                      <a:pt x="380" y="214"/>
                    </a:lnTo>
                    <a:lnTo>
                      <a:pt x="355" y="210"/>
                    </a:lnTo>
                    <a:lnTo>
                      <a:pt x="332" y="204"/>
                    </a:lnTo>
                    <a:lnTo>
                      <a:pt x="311" y="197"/>
                    </a:lnTo>
                    <a:lnTo>
                      <a:pt x="292" y="192"/>
                    </a:lnTo>
                    <a:lnTo>
                      <a:pt x="274" y="185"/>
                    </a:lnTo>
                    <a:lnTo>
                      <a:pt x="257" y="177"/>
                    </a:lnTo>
                    <a:lnTo>
                      <a:pt x="241" y="169"/>
                    </a:lnTo>
                    <a:lnTo>
                      <a:pt x="226" y="161"/>
                    </a:lnTo>
                    <a:lnTo>
                      <a:pt x="212" y="152"/>
                    </a:lnTo>
                    <a:lnTo>
                      <a:pt x="198" y="142"/>
                    </a:lnTo>
                    <a:lnTo>
                      <a:pt x="186" y="132"/>
                    </a:lnTo>
                    <a:lnTo>
                      <a:pt x="173" y="122"/>
                    </a:lnTo>
                    <a:lnTo>
                      <a:pt x="147" y="98"/>
                    </a:lnTo>
                    <a:lnTo>
                      <a:pt x="120" y="72"/>
                    </a:lnTo>
                    <a:lnTo>
                      <a:pt x="91" y="42"/>
                    </a:lnTo>
                    <a:lnTo>
                      <a:pt x="58" y="10"/>
                    </a:lnTo>
                    <a:lnTo>
                      <a:pt x="68" y="30"/>
                    </a:lnTo>
                    <a:lnTo>
                      <a:pt x="58" y="10"/>
                    </a:lnTo>
                    <a:lnTo>
                      <a:pt x="52" y="6"/>
                    </a:lnTo>
                    <a:lnTo>
                      <a:pt x="46" y="2"/>
                    </a:lnTo>
                    <a:lnTo>
                      <a:pt x="40" y="0"/>
                    </a:lnTo>
                    <a:lnTo>
                      <a:pt x="33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6" y="7"/>
                    </a:lnTo>
                    <a:lnTo>
                      <a:pt x="10" y="10"/>
                    </a:lnTo>
                    <a:lnTo>
                      <a:pt x="7" y="15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6" y="52"/>
                    </a:lnTo>
                    <a:lnTo>
                      <a:pt x="11" y="58"/>
                    </a:lnTo>
                    <a:lnTo>
                      <a:pt x="1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5894280" y="4302000"/>
                <a:ext cx="149400" cy="322560"/>
              </a:xfrm>
              <a:custGeom>
                <a:avLst/>
                <a:gdLst/>
                <a:ahLst/>
                <a:rect l="l" t="t" r="r" b="b"/>
                <a:pathLst>
                  <a:path w="467" h="1019">
                    <a:moveTo>
                      <a:pt x="430" y="0"/>
                    </a:moveTo>
                    <a:lnTo>
                      <a:pt x="402" y="20"/>
                    </a:lnTo>
                    <a:lnTo>
                      <a:pt x="380" y="71"/>
                    </a:lnTo>
                    <a:lnTo>
                      <a:pt x="359" y="116"/>
                    </a:lnTo>
                    <a:lnTo>
                      <a:pt x="338" y="161"/>
                    </a:lnTo>
                    <a:lnTo>
                      <a:pt x="318" y="201"/>
                    </a:lnTo>
                    <a:lnTo>
                      <a:pt x="298" y="237"/>
                    </a:lnTo>
                    <a:lnTo>
                      <a:pt x="280" y="271"/>
                    </a:lnTo>
                    <a:lnTo>
                      <a:pt x="262" y="303"/>
                    </a:lnTo>
                    <a:lnTo>
                      <a:pt x="245" y="332"/>
                    </a:lnTo>
                    <a:lnTo>
                      <a:pt x="229" y="357"/>
                    </a:lnTo>
                    <a:lnTo>
                      <a:pt x="213" y="381"/>
                    </a:lnTo>
                    <a:lnTo>
                      <a:pt x="198" y="401"/>
                    </a:lnTo>
                    <a:lnTo>
                      <a:pt x="184" y="420"/>
                    </a:lnTo>
                    <a:lnTo>
                      <a:pt x="171" y="437"/>
                    </a:lnTo>
                    <a:lnTo>
                      <a:pt x="158" y="450"/>
                    </a:lnTo>
                    <a:lnTo>
                      <a:pt x="147" y="463"/>
                    </a:lnTo>
                    <a:lnTo>
                      <a:pt x="136" y="473"/>
                    </a:lnTo>
                    <a:lnTo>
                      <a:pt x="126" y="481"/>
                    </a:lnTo>
                    <a:lnTo>
                      <a:pt x="117" y="488"/>
                    </a:lnTo>
                    <a:lnTo>
                      <a:pt x="108" y="494"/>
                    </a:lnTo>
                    <a:lnTo>
                      <a:pt x="101" y="497"/>
                    </a:lnTo>
                    <a:lnTo>
                      <a:pt x="94" y="501"/>
                    </a:lnTo>
                    <a:lnTo>
                      <a:pt x="90" y="502"/>
                    </a:lnTo>
                    <a:lnTo>
                      <a:pt x="85" y="503"/>
                    </a:lnTo>
                    <a:lnTo>
                      <a:pt x="81" y="504"/>
                    </a:lnTo>
                    <a:lnTo>
                      <a:pt x="78" y="503"/>
                    </a:lnTo>
                    <a:lnTo>
                      <a:pt x="75" y="503"/>
                    </a:lnTo>
                    <a:lnTo>
                      <a:pt x="74" y="503"/>
                    </a:lnTo>
                    <a:lnTo>
                      <a:pt x="74" y="503"/>
                    </a:lnTo>
                    <a:lnTo>
                      <a:pt x="68" y="500"/>
                    </a:lnTo>
                    <a:lnTo>
                      <a:pt x="66" y="497"/>
                    </a:lnTo>
                    <a:lnTo>
                      <a:pt x="63" y="495"/>
                    </a:lnTo>
                    <a:lnTo>
                      <a:pt x="62" y="494"/>
                    </a:lnTo>
                    <a:lnTo>
                      <a:pt x="63" y="496"/>
                    </a:lnTo>
                    <a:lnTo>
                      <a:pt x="3" y="523"/>
                    </a:lnTo>
                    <a:lnTo>
                      <a:pt x="5" y="528"/>
                    </a:lnTo>
                    <a:lnTo>
                      <a:pt x="17" y="557"/>
                    </a:lnTo>
                    <a:lnTo>
                      <a:pt x="24" y="581"/>
                    </a:lnTo>
                    <a:lnTo>
                      <a:pt x="33" y="612"/>
                    </a:lnTo>
                    <a:lnTo>
                      <a:pt x="43" y="654"/>
                    </a:lnTo>
                    <a:lnTo>
                      <a:pt x="54" y="704"/>
                    </a:lnTo>
                    <a:lnTo>
                      <a:pt x="67" y="764"/>
                    </a:lnTo>
                    <a:lnTo>
                      <a:pt x="81" y="837"/>
                    </a:lnTo>
                    <a:lnTo>
                      <a:pt x="95" y="922"/>
                    </a:lnTo>
                    <a:lnTo>
                      <a:pt x="110" y="1019"/>
                    </a:lnTo>
                    <a:lnTo>
                      <a:pt x="177" y="1010"/>
                    </a:lnTo>
                    <a:lnTo>
                      <a:pt x="161" y="910"/>
                    </a:lnTo>
                    <a:lnTo>
                      <a:pt x="147" y="825"/>
                    </a:lnTo>
                    <a:lnTo>
                      <a:pt x="133" y="752"/>
                    </a:lnTo>
                    <a:lnTo>
                      <a:pt x="120" y="690"/>
                    </a:lnTo>
                    <a:lnTo>
                      <a:pt x="108" y="638"/>
                    </a:lnTo>
                    <a:lnTo>
                      <a:pt x="98" y="595"/>
                    </a:lnTo>
                    <a:lnTo>
                      <a:pt x="88" y="561"/>
                    </a:lnTo>
                    <a:lnTo>
                      <a:pt x="81" y="535"/>
                    </a:lnTo>
                    <a:lnTo>
                      <a:pt x="68" y="502"/>
                    </a:lnTo>
                    <a:lnTo>
                      <a:pt x="60" y="488"/>
                    </a:lnTo>
                    <a:lnTo>
                      <a:pt x="0" y="517"/>
                    </a:lnTo>
                    <a:lnTo>
                      <a:pt x="4" y="527"/>
                    </a:lnTo>
                    <a:lnTo>
                      <a:pt x="10" y="536"/>
                    </a:lnTo>
                    <a:lnTo>
                      <a:pt x="18" y="545"/>
                    </a:lnTo>
                    <a:lnTo>
                      <a:pt x="29" y="554"/>
                    </a:lnTo>
                    <a:lnTo>
                      <a:pt x="43" y="562"/>
                    </a:lnTo>
                    <a:lnTo>
                      <a:pt x="53" y="567"/>
                    </a:lnTo>
                    <a:lnTo>
                      <a:pt x="62" y="569"/>
                    </a:lnTo>
                    <a:lnTo>
                      <a:pt x="73" y="571"/>
                    </a:lnTo>
                    <a:lnTo>
                      <a:pt x="84" y="571"/>
                    </a:lnTo>
                    <a:lnTo>
                      <a:pt x="95" y="570"/>
                    </a:lnTo>
                    <a:lnTo>
                      <a:pt x="107" y="568"/>
                    </a:lnTo>
                    <a:lnTo>
                      <a:pt x="118" y="563"/>
                    </a:lnTo>
                    <a:lnTo>
                      <a:pt x="131" y="559"/>
                    </a:lnTo>
                    <a:lnTo>
                      <a:pt x="142" y="552"/>
                    </a:lnTo>
                    <a:lnTo>
                      <a:pt x="155" y="544"/>
                    </a:lnTo>
                    <a:lnTo>
                      <a:pt x="167" y="535"/>
                    </a:lnTo>
                    <a:lnTo>
                      <a:pt x="181" y="523"/>
                    </a:lnTo>
                    <a:lnTo>
                      <a:pt x="195" y="511"/>
                    </a:lnTo>
                    <a:lnTo>
                      <a:pt x="208" y="496"/>
                    </a:lnTo>
                    <a:lnTo>
                      <a:pt x="223" y="480"/>
                    </a:lnTo>
                    <a:lnTo>
                      <a:pt x="238" y="462"/>
                    </a:lnTo>
                    <a:lnTo>
                      <a:pt x="253" y="441"/>
                    </a:lnTo>
                    <a:lnTo>
                      <a:pt x="269" y="419"/>
                    </a:lnTo>
                    <a:lnTo>
                      <a:pt x="286" y="393"/>
                    </a:lnTo>
                    <a:lnTo>
                      <a:pt x="303" y="366"/>
                    </a:lnTo>
                    <a:lnTo>
                      <a:pt x="320" y="336"/>
                    </a:lnTo>
                    <a:lnTo>
                      <a:pt x="339" y="304"/>
                    </a:lnTo>
                    <a:lnTo>
                      <a:pt x="358" y="269"/>
                    </a:lnTo>
                    <a:lnTo>
                      <a:pt x="378" y="230"/>
                    </a:lnTo>
                    <a:lnTo>
                      <a:pt x="399" y="189"/>
                    </a:lnTo>
                    <a:lnTo>
                      <a:pt x="419" y="146"/>
                    </a:lnTo>
                    <a:lnTo>
                      <a:pt x="442" y="98"/>
                    </a:lnTo>
                    <a:lnTo>
                      <a:pt x="465" y="48"/>
                    </a:lnTo>
                    <a:lnTo>
                      <a:pt x="436" y="67"/>
                    </a:lnTo>
                    <a:lnTo>
                      <a:pt x="465" y="48"/>
                    </a:lnTo>
                    <a:lnTo>
                      <a:pt x="467" y="40"/>
                    </a:lnTo>
                    <a:lnTo>
                      <a:pt x="467" y="33"/>
                    </a:lnTo>
                    <a:lnTo>
                      <a:pt x="467" y="26"/>
                    </a:lnTo>
                    <a:lnTo>
                      <a:pt x="465" y="20"/>
                    </a:lnTo>
                    <a:lnTo>
                      <a:pt x="461" y="15"/>
                    </a:lnTo>
                    <a:lnTo>
                      <a:pt x="457" y="10"/>
                    </a:lnTo>
                    <a:lnTo>
                      <a:pt x="452" y="6"/>
                    </a:lnTo>
                    <a:lnTo>
                      <a:pt x="446" y="3"/>
                    </a:lnTo>
                    <a:lnTo>
                      <a:pt x="441" y="1"/>
                    </a:lnTo>
                    <a:lnTo>
                      <a:pt x="435" y="0"/>
                    </a:lnTo>
                    <a:lnTo>
                      <a:pt x="428" y="0"/>
                    </a:lnTo>
                    <a:lnTo>
                      <a:pt x="423" y="1"/>
                    </a:lnTo>
                    <a:lnTo>
                      <a:pt x="417" y="4"/>
                    </a:lnTo>
                    <a:lnTo>
                      <a:pt x="411" y="8"/>
                    </a:lnTo>
                    <a:lnTo>
                      <a:pt x="407" y="14"/>
                    </a:lnTo>
                    <a:lnTo>
                      <a:pt x="402" y="20"/>
                    </a:lnTo>
                    <a:lnTo>
                      <a:pt x="43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6031080" y="4113360"/>
                <a:ext cx="231480" cy="209520"/>
              </a:xfrm>
              <a:custGeom>
                <a:avLst/>
                <a:gdLst/>
                <a:ahLst/>
                <a:rect l="l" t="t" r="r" b="b"/>
                <a:pathLst>
                  <a:path w="730" h="662">
                    <a:moveTo>
                      <a:pt x="729" y="35"/>
                    </a:moveTo>
                    <a:lnTo>
                      <a:pt x="664" y="22"/>
                    </a:lnTo>
                    <a:lnTo>
                      <a:pt x="642" y="75"/>
                    </a:lnTo>
                    <a:lnTo>
                      <a:pt x="618" y="127"/>
                    </a:lnTo>
                    <a:lnTo>
                      <a:pt x="606" y="152"/>
                    </a:lnTo>
                    <a:lnTo>
                      <a:pt x="593" y="177"/>
                    </a:lnTo>
                    <a:lnTo>
                      <a:pt x="578" y="202"/>
                    </a:lnTo>
                    <a:lnTo>
                      <a:pt x="565" y="226"/>
                    </a:lnTo>
                    <a:lnTo>
                      <a:pt x="550" y="250"/>
                    </a:lnTo>
                    <a:lnTo>
                      <a:pt x="534" y="273"/>
                    </a:lnTo>
                    <a:lnTo>
                      <a:pt x="518" y="297"/>
                    </a:lnTo>
                    <a:lnTo>
                      <a:pt x="501" y="319"/>
                    </a:lnTo>
                    <a:lnTo>
                      <a:pt x="484" y="340"/>
                    </a:lnTo>
                    <a:lnTo>
                      <a:pt x="466" y="362"/>
                    </a:lnTo>
                    <a:lnTo>
                      <a:pt x="446" y="383"/>
                    </a:lnTo>
                    <a:lnTo>
                      <a:pt x="427" y="402"/>
                    </a:lnTo>
                    <a:lnTo>
                      <a:pt x="407" y="421"/>
                    </a:lnTo>
                    <a:lnTo>
                      <a:pt x="386" y="440"/>
                    </a:lnTo>
                    <a:lnTo>
                      <a:pt x="364" y="457"/>
                    </a:lnTo>
                    <a:lnTo>
                      <a:pt x="341" y="473"/>
                    </a:lnTo>
                    <a:lnTo>
                      <a:pt x="319" y="489"/>
                    </a:lnTo>
                    <a:lnTo>
                      <a:pt x="295" y="504"/>
                    </a:lnTo>
                    <a:lnTo>
                      <a:pt x="268" y="517"/>
                    </a:lnTo>
                    <a:lnTo>
                      <a:pt x="243" y="531"/>
                    </a:lnTo>
                    <a:lnTo>
                      <a:pt x="216" y="542"/>
                    </a:lnTo>
                    <a:lnTo>
                      <a:pt x="189" y="554"/>
                    </a:lnTo>
                    <a:lnTo>
                      <a:pt x="159" y="563"/>
                    </a:lnTo>
                    <a:lnTo>
                      <a:pt x="129" y="572"/>
                    </a:lnTo>
                    <a:lnTo>
                      <a:pt x="99" y="580"/>
                    </a:lnTo>
                    <a:lnTo>
                      <a:pt x="68" y="586"/>
                    </a:lnTo>
                    <a:lnTo>
                      <a:pt x="35" y="591"/>
                    </a:lnTo>
                    <a:lnTo>
                      <a:pt x="0" y="595"/>
                    </a:lnTo>
                    <a:lnTo>
                      <a:pt x="6" y="662"/>
                    </a:lnTo>
                    <a:lnTo>
                      <a:pt x="43" y="658"/>
                    </a:lnTo>
                    <a:lnTo>
                      <a:pt x="79" y="653"/>
                    </a:lnTo>
                    <a:lnTo>
                      <a:pt x="113" y="645"/>
                    </a:lnTo>
                    <a:lnTo>
                      <a:pt x="148" y="637"/>
                    </a:lnTo>
                    <a:lnTo>
                      <a:pt x="179" y="628"/>
                    </a:lnTo>
                    <a:lnTo>
                      <a:pt x="211" y="616"/>
                    </a:lnTo>
                    <a:lnTo>
                      <a:pt x="242" y="605"/>
                    </a:lnTo>
                    <a:lnTo>
                      <a:pt x="272" y="591"/>
                    </a:lnTo>
                    <a:lnTo>
                      <a:pt x="300" y="578"/>
                    </a:lnTo>
                    <a:lnTo>
                      <a:pt x="328" y="562"/>
                    </a:lnTo>
                    <a:lnTo>
                      <a:pt x="355" y="546"/>
                    </a:lnTo>
                    <a:lnTo>
                      <a:pt x="380" y="529"/>
                    </a:lnTo>
                    <a:lnTo>
                      <a:pt x="405" y="510"/>
                    </a:lnTo>
                    <a:lnTo>
                      <a:pt x="429" y="491"/>
                    </a:lnTo>
                    <a:lnTo>
                      <a:pt x="452" y="470"/>
                    </a:lnTo>
                    <a:lnTo>
                      <a:pt x="475" y="450"/>
                    </a:lnTo>
                    <a:lnTo>
                      <a:pt x="495" y="428"/>
                    </a:lnTo>
                    <a:lnTo>
                      <a:pt x="516" y="407"/>
                    </a:lnTo>
                    <a:lnTo>
                      <a:pt x="535" y="384"/>
                    </a:lnTo>
                    <a:lnTo>
                      <a:pt x="555" y="360"/>
                    </a:lnTo>
                    <a:lnTo>
                      <a:pt x="573" y="336"/>
                    </a:lnTo>
                    <a:lnTo>
                      <a:pt x="590" y="312"/>
                    </a:lnTo>
                    <a:lnTo>
                      <a:pt x="607" y="287"/>
                    </a:lnTo>
                    <a:lnTo>
                      <a:pt x="622" y="262"/>
                    </a:lnTo>
                    <a:lnTo>
                      <a:pt x="638" y="235"/>
                    </a:lnTo>
                    <a:lnTo>
                      <a:pt x="653" y="209"/>
                    </a:lnTo>
                    <a:lnTo>
                      <a:pt x="666" y="183"/>
                    </a:lnTo>
                    <a:lnTo>
                      <a:pt x="680" y="156"/>
                    </a:lnTo>
                    <a:lnTo>
                      <a:pt x="704" y="102"/>
                    </a:lnTo>
                    <a:lnTo>
                      <a:pt x="727" y="47"/>
                    </a:lnTo>
                    <a:lnTo>
                      <a:pt x="662" y="35"/>
                    </a:lnTo>
                    <a:lnTo>
                      <a:pt x="727" y="47"/>
                    </a:lnTo>
                    <a:lnTo>
                      <a:pt x="729" y="39"/>
                    </a:lnTo>
                    <a:lnTo>
                      <a:pt x="730" y="32"/>
                    </a:lnTo>
                    <a:lnTo>
                      <a:pt x="729" y="26"/>
                    </a:lnTo>
                    <a:lnTo>
                      <a:pt x="727" y="20"/>
                    </a:lnTo>
                    <a:lnTo>
                      <a:pt x="723" y="14"/>
                    </a:lnTo>
                    <a:lnTo>
                      <a:pt x="719" y="10"/>
                    </a:lnTo>
                    <a:lnTo>
                      <a:pt x="714" y="6"/>
                    </a:lnTo>
                    <a:lnTo>
                      <a:pt x="708" y="4"/>
                    </a:lnTo>
                    <a:lnTo>
                      <a:pt x="702" y="2"/>
                    </a:lnTo>
                    <a:lnTo>
                      <a:pt x="696" y="0"/>
                    </a:lnTo>
                    <a:lnTo>
                      <a:pt x="689" y="2"/>
                    </a:lnTo>
                    <a:lnTo>
                      <a:pt x="683" y="3"/>
                    </a:lnTo>
                    <a:lnTo>
                      <a:pt x="678" y="6"/>
                    </a:lnTo>
                    <a:lnTo>
                      <a:pt x="672" y="10"/>
                    </a:lnTo>
                    <a:lnTo>
                      <a:pt x="667" y="15"/>
                    </a:lnTo>
                    <a:lnTo>
                      <a:pt x="664" y="22"/>
                    </a:lnTo>
                    <a:lnTo>
                      <a:pt x="729" y="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6180120" y="4290840"/>
                <a:ext cx="347760" cy="729000"/>
              </a:xfrm>
              <a:custGeom>
                <a:avLst/>
                <a:gdLst/>
                <a:ahLst/>
                <a:rect l="l" t="t" r="r" b="b"/>
                <a:pathLst>
                  <a:path w="1094" h="2296">
                    <a:moveTo>
                      <a:pt x="1094" y="0"/>
                    </a:moveTo>
                    <a:lnTo>
                      <a:pt x="1094" y="312"/>
                    </a:lnTo>
                    <a:lnTo>
                      <a:pt x="1094" y="620"/>
                    </a:lnTo>
                    <a:lnTo>
                      <a:pt x="1094" y="773"/>
                    </a:lnTo>
                    <a:lnTo>
                      <a:pt x="1093" y="925"/>
                    </a:lnTo>
                    <a:lnTo>
                      <a:pt x="1091" y="1074"/>
                    </a:lnTo>
                    <a:lnTo>
                      <a:pt x="1087" y="1221"/>
                    </a:lnTo>
                    <a:lnTo>
                      <a:pt x="1082" y="1366"/>
                    </a:lnTo>
                    <a:lnTo>
                      <a:pt x="1076" y="1509"/>
                    </a:lnTo>
                    <a:lnTo>
                      <a:pt x="1067" y="1649"/>
                    </a:lnTo>
                    <a:lnTo>
                      <a:pt x="1057" y="1786"/>
                    </a:lnTo>
                    <a:lnTo>
                      <a:pt x="1051" y="1852"/>
                    </a:lnTo>
                    <a:lnTo>
                      <a:pt x="1044" y="1919"/>
                    </a:lnTo>
                    <a:lnTo>
                      <a:pt x="1037" y="1985"/>
                    </a:lnTo>
                    <a:lnTo>
                      <a:pt x="1029" y="2049"/>
                    </a:lnTo>
                    <a:lnTo>
                      <a:pt x="1020" y="2113"/>
                    </a:lnTo>
                    <a:lnTo>
                      <a:pt x="1011" y="2174"/>
                    </a:lnTo>
                    <a:lnTo>
                      <a:pt x="1001" y="2236"/>
                    </a:lnTo>
                    <a:lnTo>
                      <a:pt x="991" y="2296"/>
                    </a:lnTo>
                    <a:lnTo>
                      <a:pt x="930" y="2295"/>
                    </a:lnTo>
                    <a:lnTo>
                      <a:pt x="873" y="2290"/>
                    </a:lnTo>
                    <a:lnTo>
                      <a:pt x="820" y="2283"/>
                    </a:lnTo>
                    <a:lnTo>
                      <a:pt x="769" y="2272"/>
                    </a:lnTo>
                    <a:lnTo>
                      <a:pt x="723" y="2260"/>
                    </a:lnTo>
                    <a:lnTo>
                      <a:pt x="678" y="2245"/>
                    </a:lnTo>
                    <a:lnTo>
                      <a:pt x="637" y="2228"/>
                    </a:lnTo>
                    <a:lnTo>
                      <a:pt x="598" y="2208"/>
                    </a:lnTo>
                    <a:lnTo>
                      <a:pt x="562" y="2188"/>
                    </a:lnTo>
                    <a:lnTo>
                      <a:pt x="529" y="2165"/>
                    </a:lnTo>
                    <a:lnTo>
                      <a:pt x="497" y="2141"/>
                    </a:lnTo>
                    <a:lnTo>
                      <a:pt x="468" y="2115"/>
                    </a:lnTo>
                    <a:lnTo>
                      <a:pt x="441" y="2089"/>
                    </a:lnTo>
                    <a:lnTo>
                      <a:pt x="416" y="2060"/>
                    </a:lnTo>
                    <a:lnTo>
                      <a:pt x="392" y="2032"/>
                    </a:lnTo>
                    <a:lnTo>
                      <a:pt x="370" y="2002"/>
                    </a:lnTo>
                    <a:lnTo>
                      <a:pt x="349" y="1972"/>
                    </a:lnTo>
                    <a:lnTo>
                      <a:pt x="329" y="1943"/>
                    </a:lnTo>
                    <a:lnTo>
                      <a:pt x="311" y="1912"/>
                    </a:lnTo>
                    <a:lnTo>
                      <a:pt x="294" y="1881"/>
                    </a:lnTo>
                    <a:lnTo>
                      <a:pt x="262" y="1820"/>
                    </a:lnTo>
                    <a:lnTo>
                      <a:pt x="232" y="1762"/>
                    </a:lnTo>
                    <a:lnTo>
                      <a:pt x="203" y="1708"/>
                    </a:lnTo>
                    <a:lnTo>
                      <a:pt x="174" y="1656"/>
                    </a:lnTo>
                    <a:lnTo>
                      <a:pt x="159" y="1633"/>
                    </a:lnTo>
                    <a:lnTo>
                      <a:pt x="145" y="1612"/>
                    </a:lnTo>
                    <a:lnTo>
                      <a:pt x="129" y="1592"/>
                    </a:lnTo>
                    <a:lnTo>
                      <a:pt x="112" y="1574"/>
                    </a:lnTo>
                    <a:lnTo>
                      <a:pt x="97" y="1476"/>
                    </a:lnTo>
                    <a:lnTo>
                      <a:pt x="82" y="1391"/>
                    </a:lnTo>
                    <a:lnTo>
                      <a:pt x="68" y="1318"/>
                    </a:lnTo>
                    <a:lnTo>
                      <a:pt x="55" y="1256"/>
                    </a:lnTo>
                    <a:lnTo>
                      <a:pt x="43" y="1204"/>
                    </a:lnTo>
                    <a:lnTo>
                      <a:pt x="33" y="1163"/>
                    </a:lnTo>
                    <a:lnTo>
                      <a:pt x="24" y="1130"/>
                    </a:lnTo>
                    <a:lnTo>
                      <a:pt x="16" y="1105"/>
                    </a:lnTo>
                    <a:lnTo>
                      <a:pt x="4" y="1074"/>
                    </a:lnTo>
                    <a:lnTo>
                      <a:pt x="0" y="1065"/>
                    </a:lnTo>
                    <a:lnTo>
                      <a:pt x="0" y="1065"/>
                    </a:lnTo>
                    <a:lnTo>
                      <a:pt x="1" y="1069"/>
                    </a:lnTo>
                    <a:lnTo>
                      <a:pt x="4" y="1074"/>
                    </a:lnTo>
                    <a:lnTo>
                      <a:pt x="10" y="1080"/>
                    </a:lnTo>
                    <a:lnTo>
                      <a:pt x="17" y="1087"/>
                    </a:lnTo>
                    <a:lnTo>
                      <a:pt x="26" y="1091"/>
                    </a:lnTo>
                    <a:lnTo>
                      <a:pt x="38" y="1095"/>
                    </a:lnTo>
                    <a:lnTo>
                      <a:pt x="50" y="1096"/>
                    </a:lnTo>
                    <a:lnTo>
                      <a:pt x="66" y="1094"/>
                    </a:lnTo>
                    <a:lnTo>
                      <a:pt x="84" y="1087"/>
                    </a:lnTo>
                    <a:lnTo>
                      <a:pt x="104" y="1075"/>
                    </a:lnTo>
                    <a:lnTo>
                      <a:pt x="126" y="1057"/>
                    </a:lnTo>
                    <a:lnTo>
                      <a:pt x="152" y="1032"/>
                    </a:lnTo>
                    <a:lnTo>
                      <a:pt x="179" y="1000"/>
                    </a:lnTo>
                    <a:lnTo>
                      <a:pt x="209" y="958"/>
                    </a:lnTo>
                    <a:lnTo>
                      <a:pt x="242" y="908"/>
                    </a:lnTo>
                    <a:lnTo>
                      <a:pt x="278" y="846"/>
                    </a:lnTo>
                    <a:lnTo>
                      <a:pt x="316" y="774"/>
                    </a:lnTo>
                    <a:lnTo>
                      <a:pt x="357" y="689"/>
                    </a:lnTo>
                    <a:lnTo>
                      <a:pt x="401" y="592"/>
                    </a:lnTo>
                    <a:lnTo>
                      <a:pt x="437" y="587"/>
                    </a:lnTo>
                    <a:lnTo>
                      <a:pt x="471" y="583"/>
                    </a:lnTo>
                    <a:lnTo>
                      <a:pt x="504" y="576"/>
                    </a:lnTo>
                    <a:lnTo>
                      <a:pt x="537" y="568"/>
                    </a:lnTo>
                    <a:lnTo>
                      <a:pt x="568" y="559"/>
                    </a:lnTo>
                    <a:lnTo>
                      <a:pt x="598" y="548"/>
                    </a:lnTo>
                    <a:lnTo>
                      <a:pt x="627" y="537"/>
                    </a:lnTo>
                    <a:lnTo>
                      <a:pt x="655" y="524"/>
                    </a:lnTo>
                    <a:lnTo>
                      <a:pt x="683" y="511"/>
                    </a:lnTo>
                    <a:lnTo>
                      <a:pt x="709" y="496"/>
                    </a:lnTo>
                    <a:lnTo>
                      <a:pt x="734" y="480"/>
                    </a:lnTo>
                    <a:lnTo>
                      <a:pt x="759" y="464"/>
                    </a:lnTo>
                    <a:lnTo>
                      <a:pt x="783" y="447"/>
                    </a:lnTo>
                    <a:lnTo>
                      <a:pt x="806" y="429"/>
                    </a:lnTo>
                    <a:lnTo>
                      <a:pt x="828" y="409"/>
                    </a:lnTo>
                    <a:lnTo>
                      <a:pt x="849" y="389"/>
                    </a:lnTo>
                    <a:lnTo>
                      <a:pt x="870" y="369"/>
                    </a:lnTo>
                    <a:lnTo>
                      <a:pt x="889" y="348"/>
                    </a:lnTo>
                    <a:lnTo>
                      <a:pt x="907" y="326"/>
                    </a:lnTo>
                    <a:lnTo>
                      <a:pt x="926" y="303"/>
                    </a:lnTo>
                    <a:lnTo>
                      <a:pt x="944" y="280"/>
                    </a:lnTo>
                    <a:lnTo>
                      <a:pt x="960" y="256"/>
                    </a:lnTo>
                    <a:lnTo>
                      <a:pt x="976" y="232"/>
                    </a:lnTo>
                    <a:lnTo>
                      <a:pt x="992" y="207"/>
                    </a:lnTo>
                    <a:lnTo>
                      <a:pt x="1007" y="183"/>
                    </a:lnTo>
                    <a:lnTo>
                      <a:pt x="1020" y="157"/>
                    </a:lnTo>
                    <a:lnTo>
                      <a:pt x="1034" y="132"/>
                    </a:lnTo>
                    <a:lnTo>
                      <a:pt x="1048" y="106"/>
                    </a:lnTo>
                    <a:lnTo>
                      <a:pt x="1071" y="53"/>
                    </a:lnTo>
                    <a:lnTo>
                      <a:pt x="109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6483240" y="4290840"/>
                <a:ext cx="54000" cy="739800"/>
              </a:xfrm>
              <a:custGeom>
                <a:avLst/>
                <a:gdLst/>
                <a:ahLst/>
                <a:rect l="l" t="t" r="r" b="b"/>
                <a:pathLst>
                  <a:path w="172" h="2330">
                    <a:moveTo>
                      <a:pt x="35" y="2330"/>
                    </a:moveTo>
                    <a:lnTo>
                      <a:pt x="68" y="2302"/>
                    </a:lnTo>
                    <a:lnTo>
                      <a:pt x="78" y="2241"/>
                    </a:lnTo>
                    <a:lnTo>
                      <a:pt x="88" y="2180"/>
                    </a:lnTo>
                    <a:lnTo>
                      <a:pt x="97" y="2117"/>
                    </a:lnTo>
                    <a:lnTo>
                      <a:pt x="106" y="2053"/>
                    </a:lnTo>
                    <a:lnTo>
                      <a:pt x="114" y="1988"/>
                    </a:lnTo>
                    <a:lnTo>
                      <a:pt x="122" y="1923"/>
                    </a:lnTo>
                    <a:lnTo>
                      <a:pt x="128" y="1856"/>
                    </a:lnTo>
                    <a:lnTo>
                      <a:pt x="135" y="1789"/>
                    </a:lnTo>
                    <a:lnTo>
                      <a:pt x="145" y="1652"/>
                    </a:lnTo>
                    <a:lnTo>
                      <a:pt x="153" y="1511"/>
                    </a:lnTo>
                    <a:lnTo>
                      <a:pt x="160" y="1368"/>
                    </a:lnTo>
                    <a:lnTo>
                      <a:pt x="165" y="1223"/>
                    </a:lnTo>
                    <a:lnTo>
                      <a:pt x="168" y="1074"/>
                    </a:lnTo>
                    <a:lnTo>
                      <a:pt x="170" y="925"/>
                    </a:lnTo>
                    <a:lnTo>
                      <a:pt x="171" y="773"/>
                    </a:lnTo>
                    <a:lnTo>
                      <a:pt x="172" y="620"/>
                    </a:lnTo>
                    <a:lnTo>
                      <a:pt x="172" y="312"/>
                    </a:lnTo>
                    <a:lnTo>
                      <a:pt x="171" y="0"/>
                    </a:lnTo>
                    <a:lnTo>
                      <a:pt x="104" y="0"/>
                    </a:lnTo>
                    <a:lnTo>
                      <a:pt x="104" y="312"/>
                    </a:lnTo>
                    <a:lnTo>
                      <a:pt x="105" y="620"/>
                    </a:lnTo>
                    <a:lnTo>
                      <a:pt x="104" y="773"/>
                    </a:lnTo>
                    <a:lnTo>
                      <a:pt x="103" y="925"/>
                    </a:lnTo>
                    <a:lnTo>
                      <a:pt x="101" y="1073"/>
                    </a:lnTo>
                    <a:lnTo>
                      <a:pt x="97" y="1220"/>
                    </a:lnTo>
                    <a:lnTo>
                      <a:pt x="93" y="1365"/>
                    </a:lnTo>
                    <a:lnTo>
                      <a:pt x="86" y="1508"/>
                    </a:lnTo>
                    <a:lnTo>
                      <a:pt x="78" y="1647"/>
                    </a:lnTo>
                    <a:lnTo>
                      <a:pt x="68" y="1783"/>
                    </a:lnTo>
                    <a:lnTo>
                      <a:pt x="62" y="1850"/>
                    </a:lnTo>
                    <a:lnTo>
                      <a:pt x="55" y="1915"/>
                    </a:lnTo>
                    <a:lnTo>
                      <a:pt x="47" y="1980"/>
                    </a:lnTo>
                    <a:lnTo>
                      <a:pt x="39" y="2044"/>
                    </a:lnTo>
                    <a:lnTo>
                      <a:pt x="31" y="2108"/>
                    </a:lnTo>
                    <a:lnTo>
                      <a:pt x="22" y="2170"/>
                    </a:lnTo>
                    <a:lnTo>
                      <a:pt x="12" y="2230"/>
                    </a:lnTo>
                    <a:lnTo>
                      <a:pt x="0" y="2290"/>
                    </a:lnTo>
                    <a:lnTo>
                      <a:pt x="35" y="2262"/>
                    </a:lnTo>
                    <a:lnTo>
                      <a:pt x="0" y="2290"/>
                    </a:lnTo>
                    <a:lnTo>
                      <a:pt x="0" y="2298"/>
                    </a:lnTo>
                    <a:lnTo>
                      <a:pt x="1" y="2305"/>
                    </a:lnTo>
                    <a:lnTo>
                      <a:pt x="3" y="2311"/>
                    </a:lnTo>
                    <a:lnTo>
                      <a:pt x="6" y="2317"/>
                    </a:lnTo>
                    <a:lnTo>
                      <a:pt x="11" y="2321"/>
                    </a:lnTo>
                    <a:lnTo>
                      <a:pt x="16" y="2325"/>
                    </a:lnTo>
                    <a:lnTo>
                      <a:pt x="22" y="2328"/>
                    </a:lnTo>
                    <a:lnTo>
                      <a:pt x="28" y="2329"/>
                    </a:lnTo>
                    <a:lnTo>
                      <a:pt x="35" y="2330"/>
                    </a:lnTo>
                    <a:lnTo>
                      <a:pt x="40" y="2329"/>
                    </a:lnTo>
                    <a:lnTo>
                      <a:pt x="46" y="2328"/>
                    </a:lnTo>
                    <a:lnTo>
                      <a:pt x="52" y="2326"/>
                    </a:lnTo>
                    <a:lnTo>
                      <a:pt x="57" y="2321"/>
                    </a:lnTo>
                    <a:lnTo>
                      <a:pt x="62" y="2317"/>
                    </a:lnTo>
                    <a:lnTo>
                      <a:pt x="65" y="2310"/>
                    </a:lnTo>
                    <a:lnTo>
                      <a:pt x="68" y="2302"/>
                    </a:lnTo>
                    <a:lnTo>
                      <a:pt x="35" y="23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6203880" y="4780080"/>
                <a:ext cx="290520" cy="250560"/>
              </a:xfrm>
              <a:custGeom>
                <a:avLst/>
                <a:gdLst/>
                <a:ahLst/>
                <a:rect l="l" t="t" r="r" b="b"/>
                <a:pathLst>
                  <a:path w="914" h="790">
                    <a:moveTo>
                      <a:pt x="2" y="40"/>
                    </a:moveTo>
                    <a:lnTo>
                      <a:pt x="12" y="58"/>
                    </a:lnTo>
                    <a:lnTo>
                      <a:pt x="25" y="74"/>
                    </a:lnTo>
                    <a:lnTo>
                      <a:pt x="40" y="92"/>
                    </a:lnTo>
                    <a:lnTo>
                      <a:pt x="54" y="113"/>
                    </a:lnTo>
                    <a:lnTo>
                      <a:pt x="69" y="134"/>
                    </a:lnTo>
                    <a:lnTo>
                      <a:pt x="96" y="183"/>
                    </a:lnTo>
                    <a:lnTo>
                      <a:pt x="125" y="238"/>
                    </a:lnTo>
                    <a:lnTo>
                      <a:pt x="155" y="296"/>
                    </a:lnTo>
                    <a:lnTo>
                      <a:pt x="187" y="357"/>
                    </a:lnTo>
                    <a:lnTo>
                      <a:pt x="206" y="389"/>
                    </a:lnTo>
                    <a:lnTo>
                      <a:pt x="224" y="420"/>
                    </a:lnTo>
                    <a:lnTo>
                      <a:pt x="244" y="452"/>
                    </a:lnTo>
                    <a:lnTo>
                      <a:pt x="266" y="482"/>
                    </a:lnTo>
                    <a:lnTo>
                      <a:pt x="289" y="512"/>
                    </a:lnTo>
                    <a:lnTo>
                      <a:pt x="313" y="543"/>
                    </a:lnTo>
                    <a:lnTo>
                      <a:pt x="340" y="571"/>
                    </a:lnTo>
                    <a:lnTo>
                      <a:pt x="367" y="599"/>
                    </a:lnTo>
                    <a:lnTo>
                      <a:pt x="383" y="614"/>
                    </a:lnTo>
                    <a:lnTo>
                      <a:pt x="399" y="626"/>
                    </a:lnTo>
                    <a:lnTo>
                      <a:pt x="415" y="640"/>
                    </a:lnTo>
                    <a:lnTo>
                      <a:pt x="432" y="652"/>
                    </a:lnTo>
                    <a:lnTo>
                      <a:pt x="450" y="665"/>
                    </a:lnTo>
                    <a:lnTo>
                      <a:pt x="468" y="676"/>
                    </a:lnTo>
                    <a:lnTo>
                      <a:pt x="486" y="688"/>
                    </a:lnTo>
                    <a:lnTo>
                      <a:pt x="505" y="698"/>
                    </a:lnTo>
                    <a:lnTo>
                      <a:pt x="525" y="708"/>
                    </a:lnTo>
                    <a:lnTo>
                      <a:pt x="545" y="719"/>
                    </a:lnTo>
                    <a:lnTo>
                      <a:pt x="567" y="728"/>
                    </a:lnTo>
                    <a:lnTo>
                      <a:pt x="589" y="737"/>
                    </a:lnTo>
                    <a:lnTo>
                      <a:pt x="611" y="745"/>
                    </a:lnTo>
                    <a:lnTo>
                      <a:pt x="635" y="753"/>
                    </a:lnTo>
                    <a:lnTo>
                      <a:pt x="659" y="760"/>
                    </a:lnTo>
                    <a:lnTo>
                      <a:pt x="684" y="765"/>
                    </a:lnTo>
                    <a:lnTo>
                      <a:pt x="711" y="771"/>
                    </a:lnTo>
                    <a:lnTo>
                      <a:pt x="737" y="776"/>
                    </a:lnTo>
                    <a:lnTo>
                      <a:pt x="764" y="780"/>
                    </a:lnTo>
                    <a:lnTo>
                      <a:pt x="793" y="784"/>
                    </a:lnTo>
                    <a:lnTo>
                      <a:pt x="821" y="787"/>
                    </a:lnTo>
                    <a:lnTo>
                      <a:pt x="851" y="788"/>
                    </a:lnTo>
                    <a:lnTo>
                      <a:pt x="882" y="789"/>
                    </a:lnTo>
                    <a:lnTo>
                      <a:pt x="914" y="790"/>
                    </a:lnTo>
                    <a:lnTo>
                      <a:pt x="914" y="722"/>
                    </a:lnTo>
                    <a:lnTo>
                      <a:pt x="883" y="722"/>
                    </a:lnTo>
                    <a:lnTo>
                      <a:pt x="854" y="721"/>
                    </a:lnTo>
                    <a:lnTo>
                      <a:pt x="827" y="720"/>
                    </a:lnTo>
                    <a:lnTo>
                      <a:pt x="800" y="716"/>
                    </a:lnTo>
                    <a:lnTo>
                      <a:pt x="773" y="713"/>
                    </a:lnTo>
                    <a:lnTo>
                      <a:pt x="748" y="709"/>
                    </a:lnTo>
                    <a:lnTo>
                      <a:pt x="723" y="705"/>
                    </a:lnTo>
                    <a:lnTo>
                      <a:pt x="700" y="699"/>
                    </a:lnTo>
                    <a:lnTo>
                      <a:pt x="676" y="693"/>
                    </a:lnTo>
                    <a:lnTo>
                      <a:pt x="655" y="688"/>
                    </a:lnTo>
                    <a:lnTo>
                      <a:pt x="633" y="681"/>
                    </a:lnTo>
                    <a:lnTo>
                      <a:pt x="613" y="673"/>
                    </a:lnTo>
                    <a:lnTo>
                      <a:pt x="593" y="666"/>
                    </a:lnTo>
                    <a:lnTo>
                      <a:pt x="574" y="657"/>
                    </a:lnTo>
                    <a:lnTo>
                      <a:pt x="556" y="648"/>
                    </a:lnTo>
                    <a:lnTo>
                      <a:pt x="537" y="639"/>
                    </a:lnTo>
                    <a:lnTo>
                      <a:pt x="520" y="630"/>
                    </a:lnTo>
                    <a:lnTo>
                      <a:pt x="503" y="619"/>
                    </a:lnTo>
                    <a:lnTo>
                      <a:pt x="487" y="608"/>
                    </a:lnTo>
                    <a:lnTo>
                      <a:pt x="471" y="598"/>
                    </a:lnTo>
                    <a:lnTo>
                      <a:pt x="456" y="586"/>
                    </a:lnTo>
                    <a:lnTo>
                      <a:pt x="442" y="575"/>
                    </a:lnTo>
                    <a:lnTo>
                      <a:pt x="428" y="562"/>
                    </a:lnTo>
                    <a:lnTo>
                      <a:pt x="414" y="551"/>
                    </a:lnTo>
                    <a:lnTo>
                      <a:pt x="388" y="525"/>
                    </a:lnTo>
                    <a:lnTo>
                      <a:pt x="364" y="498"/>
                    </a:lnTo>
                    <a:lnTo>
                      <a:pt x="341" y="471"/>
                    </a:lnTo>
                    <a:lnTo>
                      <a:pt x="321" y="442"/>
                    </a:lnTo>
                    <a:lnTo>
                      <a:pt x="300" y="414"/>
                    </a:lnTo>
                    <a:lnTo>
                      <a:pt x="282" y="384"/>
                    </a:lnTo>
                    <a:lnTo>
                      <a:pt x="264" y="355"/>
                    </a:lnTo>
                    <a:lnTo>
                      <a:pt x="247" y="325"/>
                    </a:lnTo>
                    <a:lnTo>
                      <a:pt x="215" y="266"/>
                    </a:lnTo>
                    <a:lnTo>
                      <a:pt x="185" y="207"/>
                    </a:lnTo>
                    <a:lnTo>
                      <a:pt x="155" y="152"/>
                    </a:lnTo>
                    <a:lnTo>
                      <a:pt x="126" y="99"/>
                    </a:lnTo>
                    <a:lnTo>
                      <a:pt x="111" y="75"/>
                    </a:lnTo>
                    <a:lnTo>
                      <a:pt x="94" y="51"/>
                    </a:lnTo>
                    <a:lnTo>
                      <a:pt x="77" y="31"/>
                    </a:lnTo>
                    <a:lnTo>
                      <a:pt x="59" y="10"/>
                    </a:lnTo>
                    <a:lnTo>
                      <a:pt x="69" y="29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6" y="2"/>
                    </a:lnTo>
                    <a:lnTo>
                      <a:pt x="39" y="1"/>
                    </a:lnTo>
                    <a:lnTo>
                      <a:pt x="33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5" y="7"/>
                    </a:lnTo>
                    <a:lnTo>
                      <a:pt x="11" y="11"/>
                    </a:lnTo>
                    <a:lnTo>
                      <a:pt x="7" y="16"/>
                    </a:lnTo>
                    <a:lnTo>
                      <a:pt x="4" y="21"/>
                    </a:lnTo>
                    <a:lnTo>
                      <a:pt x="2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3" y="45"/>
                    </a:lnTo>
                    <a:lnTo>
                      <a:pt x="6" y="52"/>
                    </a:lnTo>
                    <a:lnTo>
                      <a:pt x="12" y="58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6168960" y="4467240"/>
                <a:ext cx="149400" cy="325440"/>
              </a:xfrm>
              <a:custGeom>
                <a:avLst/>
                <a:gdLst/>
                <a:ahLst/>
                <a:rect l="l" t="t" r="r" b="b"/>
                <a:pathLst>
                  <a:path w="468" h="1023">
                    <a:moveTo>
                      <a:pt x="431" y="2"/>
                    </a:moveTo>
                    <a:lnTo>
                      <a:pt x="403" y="21"/>
                    </a:lnTo>
                    <a:lnTo>
                      <a:pt x="381" y="71"/>
                    </a:lnTo>
                    <a:lnTo>
                      <a:pt x="360" y="118"/>
                    </a:lnTo>
                    <a:lnTo>
                      <a:pt x="338" y="161"/>
                    </a:lnTo>
                    <a:lnTo>
                      <a:pt x="319" y="201"/>
                    </a:lnTo>
                    <a:lnTo>
                      <a:pt x="300" y="239"/>
                    </a:lnTo>
                    <a:lnTo>
                      <a:pt x="281" y="273"/>
                    </a:lnTo>
                    <a:lnTo>
                      <a:pt x="263" y="304"/>
                    </a:lnTo>
                    <a:lnTo>
                      <a:pt x="246" y="332"/>
                    </a:lnTo>
                    <a:lnTo>
                      <a:pt x="230" y="359"/>
                    </a:lnTo>
                    <a:lnTo>
                      <a:pt x="214" y="383"/>
                    </a:lnTo>
                    <a:lnTo>
                      <a:pt x="199" y="403"/>
                    </a:lnTo>
                    <a:lnTo>
                      <a:pt x="186" y="421"/>
                    </a:lnTo>
                    <a:lnTo>
                      <a:pt x="172" y="439"/>
                    </a:lnTo>
                    <a:lnTo>
                      <a:pt x="159" y="452"/>
                    </a:lnTo>
                    <a:lnTo>
                      <a:pt x="148" y="465"/>
                    </a:lnTo>
                    <a:lnTo>
                      <a:pt x="137" y="475"/>
                    </a:lnTo>
                    <a:lnTo>
                      <a:pt x="126" y="484"/>
                    </a:lnTo>
                    <a:lnTo>
                      <a:pt x="117" y="491"/>
                    </a:lnTo>
                    <a:lnTo>
                      <a:pt x="109" y="496"/>
                    </a:lnTo>
                    <a:lnTo>
                      <a:pt x="102" y="500"/>
                    </a:lnTo>
                    <a:lnTo>
                      <a:pt x="96" y="502"/>
                    </a:lnTo>
                    <a:lnTo>
                      <a:pt x="90" y="505"/>
                    </a:lnTo>
                    <a:lnTo>
                      <a:pt x="85" y="505"/>
                    </a:lnTo>
                    <a:lnTo>
                      <a:pt x="82" y="506"/>
                    </a:lnTo>
                    <a:lnTo>
                      <a:pt x="78" y="506"/>
                    </a:lnTo>
                    <a:lnTo>
                      <a:pt x="76" y="505"/>
                    </a:lnTo>
                    <a:lnTo>
                      <a:pt x="75" y="505"/>
                    </a:lnTo>
                    <a:lnTo>
                      <a:pt x="74" y="505"/>
                    </a:lnTo>
                    <a:lnTo>
                      <a:pt x="69" y="502"/>
                    </a:lnTo>
                    <a:lnTo>
                      <a:pt x="66" y="499"/>
                    </a:lnTo>
                    <a:lnTo>
                      <a:pt x="64" y="497"/>
                    </a:lnTo>
                    <a:lnTo>
                      <a:pt x="64" y="496"/>
                    </a:lnTo>
                    <a:lnTo>
                      <a:pt x="65" y="498"/>
                    </a:lnTo>
                    <a:lnTo>
                      <a:pt x="4" y="525"/>
                    </a:lnTo>
                    <a:lnTo>
                      <a:pt x="7" y="530"/>
                    </a:lnTo>
                    <a:lnTo>
                      <a:pt x="17" y="558"/>
                    </a:lnTo>
                    <a:lnTo>
                      <a:pt x="25" y="582"/>
                    </a:lnTo>
                    <a:lnTo>
                      <a:pt x="34" y="614"/>
                    </a:lnTo>
                    <a:lnTo>
                      <a:pt x="43" y="655"/>
                    </a:lnTo>
                    <a:lnTo>
                      <a:pt x="56" y="706"/>
                    </a:lnTo>
                    <a:lnTo>
                      <a:pt x="67" y="767"/>
                    </a:lnTo>
                    <a:lnTo>
                      <a:pt x="82" y="840"/>
                    </a:lnTo>
                    <a:lnTo>
                      <a:pt x="96" y="925"/>
                    </a:lnTo>
                    <a:lnTo>
                      <a:pt x="112" y="1023"/>
                    </a:lnTo>
                    <a:lnTo>
                      <a:pt x="179" y="1012"/>
                    </a:lnTo>
                    <a:lnTo>
                      <a:pt x="163" y="913"/>
                    </a:lnTo>
                    <a:lnTo>
                      <a:pt x="148" y="828"/>
                    </a:lnTo>
                    <a:lnTo>
                      <a:pt x="134" y="755"/>
                    </a:lnTo>
                    <a:lnTo>
                      <a:pt x="121" y="692"/>
                    </a:lnTo>
                    <a:lnTo>
                      <a:pt x="109" y="641"/>
                    </a:lnTo>
                    <a:lnTo>
                      <a:pt x="99" y="597"/>
                    </a:lnTo>
                    <a:lnTo>
                      <a:pt x="90" y="564"/>
                    </a:lnTo>
                    <a:lnTo>
                      <a:pt x="81" y="537"/>
                    </a:lnTo>
                    <a:lnTo>
                      <a:pt x="69" y="505"/>
                    </a:lnTo>
                    <a:lnTo>
                      <a:pt x="61" y="490"/>
                    </a:lnTo>
                    <a:lnTo>
                      <a:pt x="0" y="518"/>
                    </a:lnTo>
                    <a:lnTo>
                      <a:pt x="4" y="529"/>
                    </a:lnTo>
                    <a:lnTo>
                      <a:pt x="10" y="538"/>
                    </a:lnTo>
                    <a:lnTo>
                      <a:pt x="19" y="547"/>
                    </a:lnTo>
                    <a:lnTo>
                      <a:pt x="31" y="557"/>
                    </a:lnTo>
                    <a:lnTo>
                      <a:pt x="43" y="565"/>
                    </a:lnTo>
                    <a:lnTo>
                      <a:pt x="53" y="569"/>
                    </a:lnTo>
                    <a:lnTo>
                      <a:pt x="64" y="572"/>
                    </a:lnTo>
                    <a:lnTo>
                      <a:pt x="74" y="573"/>
                    </a:lnTo>
                    <a:lnTo>
                      <a:pt x="84" y="573"/>
                    </a:lnTo>
                    <a:lnTo>
                      <a:pt x="96" y="572"/>
                    </a:lnTo>
                    <a:lnTo>
                      <a:pt x="108" y="570"/>
                    </a:lnTo>
                    <a:lnTo>
                      <a:pt x="120" y="565"/>
                    </a:lnTo>
                    <a:lnTo>
                      <a:pt x="132" y="561"/>
                    </a:lnTo>
                    <a:lnTo>
                      <a:pt x="143" y="554"/>
                    </a:lnTo>
                    <a:lnTo>
                      <a:pt x="156" y="546"/>
                    </a:lnTo>
                    <a:lnTo>
                      <a:pt x="169" y="537"/>
                    </a:lnTo>
                    <a:lnTo>
                      <a:pt x="182" y="525"/>
                    </a:lnTo>
                    <a:lnTo>
                      <a:pt x="195" y="513"/>
                    </a:lnTo>
                    <a:lnTo>
                      <a:pt x="210" y="498"/>
                    </a:lnTo>
                    <a:lnTo>
                      <a:pt x="223" y="482"/>
                    </a:lnTo>
                    <a:lnTo>
                      <a:pt x="238" y="464"/>
                    </a:lnTo>
                    <a:lnTo>
                      <a:pt x="254" y="443"/>
                    </a:lnTo>
                    <a:lnTo>
                      <a:pt x="270" y="420"/>
                    </a:lnTo>
                    <a:lnTo>
                      <a:pt x="286" y="395"/>
                    </a:lnTo>
                    <a:lnTo>
                      <a:pt x="304" y="368"/>
                    </a:lnTo>
                    <a:lnTo>
                      <a:pt x="321" y="338"/>
                    </a:lnTo>
                    <a:lnTo>
                      <a:pt x="340" y="306"/>
                    </a:lnTo>
                    <a:lnTo>
                      <a:pt x="359" y="271"/>
                    </a:lnTo>
                    <a:lnTo>
                      <a:pt x="379" y="232"/>
                    </a:lnTo>
                    <a:lnTo>
                      <a:pt x="400" y="191"/>
                    </a:lnTo>
                    <a:lnTo>
                      <a:pt x="420" y="147"/>
                    </a:lnTo>
                    <a:lnTo>
                      <a:pt x="442" y="99"/>
                    </a:lnTo>
                    <a:lnTo>
                      <a:pt x="465" y="48"/>
                    </a:lnTo>
                    <a:lnTo>
                      <a:pt x="438" y="68"/>
                    </a:lnTo>
                    <a:lnTo>
                      <a:pt x="465" y="48"/>
                    </a:lnTo>
                    <a:lnTo>
                      <a:pt x="467" y="40"/>
                    </a:lnTo>
                    <a:lnTo>
                      <a:pt x="468" y="34"/>
                    </a:lnTo>
                    <a:lnTo>
                      <a:pt x="467" y="27"/>
                    </a:lnTo>
                    <a:lnTo>
                      <a:pt x="466" y="21"/>
                    </a:lnTo>
                    <a:lnTo>
                      <a:pt x="463" y="15"/>
                    </a:lnTo>
                    <a:lnTo>
                      <a:pt x="458" y="11"/>
                    </a:lnTo>
                    <a:lnTo>
                      <a:pt x="454" y="7"/>
                    </a:lnTo>
                    <a:lnTo>
                      <a:pt x="448" y="4"/>
                    </a:lnTo>
                    <a:lnTo>
                      <a:pt x="442" y="2"/>
                    </a:lnTo>
                    <a:lnTo>
                      <a:pt x="435" y="0"/>
                    </a:lnTo>
                    <a:lnTo>
                      <a:pt x="430" y="0"/>
                    </a:lnTo>
                    <a:lnTo>
                      <a:pt x="423" y="3"/>
                    </a:lnTo>
                    <a:lnTo>
                      <a:pt x="417" y="5"/>
                    </a:lnTo>
                    <a:lnTo>
                      <a:pt x="413" y="8"/>
                    </a:lnTo>
                    <a:lnTo>
                      <a:pt x="407" y="14"/>
                    </a:lnTo>
                    <a:lnTo>
                      <a:pt x="403" y="21"/>
                    </a:lnTo>
                    <a:lnTo>
                      <a:pt x="431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6305400" y="4280040"/>
                <a:ext cx="231840" cy="209520"/>
              </a:xfrm>
              <a:custGeom>
                <a:avLst/>
                <a:gdLst/>
                <a:ahLst/>
                <a:rect l="l" t="t" r="r" b="b"/>
                <a:pathLst>
                  <a:path w="729" h="658">
                    <a:moveTo>
                      <a:pt x="729" y="33"/>
                    </a:moveTo>
                    <a:lnTo>
                      <a:pt x="664" y="21"/>
                    </a:lnTo>
                    <a:lnTo>
                      <a:pt x="643" y="73"/>
                    </a:lnTo>
                    <a:lnTo>
                      <a:pt x="619" y="124"/>
                    </a:lnTo>
                    <a:lnTo>
                      <a:pt x="606" y="149"/>
                    </a:lnTo>
                    <a:lnTo>
                      <a:pt x="593" y="174"/>
                    </a:lnTo>
                    <a:lnTo>
                      <a:pt x="579" y="199"/>
                    </a:lnTo>
                    <a:lnTo>
                      <a:pt x="565" y="223"/>
                    </a:lnTo>
                    <a:lnTo>
                      <a:pt x="550" y="247"/>
                    </a:lnTo>
                    <a:lnTo>
                      <a:pt x="534" y="270"/>
                    </a:lnTo>
                    <a:lnTo>
                      <a:pt x="518" y="293"/>
                    </a:lnTo>
                    <a:lnTo>
                      <a:pt x="501" y="316"/>
                    </a:lnTo>
                    <a:lnTo>
                      <a:pt x="484" y="337"/>
                    </a:lnTo>
                    <a:lnTo>
                      <a:pt x="466" y="358"/>
                    </a:lnTo>
                    <a:lnTo>
                      <a:pt x="447" y="378"/>
                    </a:lnTo>
                    <a:lnTo>
                      <a:pt x="427" y="398"/>
                    </a:lnTo>
                    <a:lnTo>
                      <a:pt x="407" y="417"/>
                    </a:lnTo>
                    <a:lnTo>
                      <a:pt x="386" y="435"/>
                    </a:lnTo>
                    <a:lnTo>
                      <a:pt x="365" y="452"/>
                    </a:lnTo>
                    <a:lnTo>
                      <a:pt x="342" y="470"/>
                    </a:lnTo>
                    <a:lnTo>
                      <a:pt x="318" y="484"/>
                    </a:lnTo>
                    <a:lnTo>
                      <a:pt x="294" y="499"/>
                    </a:lnTo>
                    <a:lnTo>
                      <a:pt x="269" y="514"/>
                    </a:lnTo>
                    <a:lnTo>
                      <a:pt x="244" y="527"/>
                    </a:lnTo>
                    <a:lnTo>
                      <a:pt x="216" y="538"/>
                    </a:lnTo>
                    <a:lnTo>
                      <a:pt x="189" y="549"/>
                    </a:lnTo>
                    <a:lnTo>
                      <a:pt x="159" y="560"/>
                    </a:lnTo>
                    <a:lnTo>
                      <a:pt x="130" y="568"/>
                    </a:lnTo>
                    <a:lnTo>
                      <a:pt x="99" y="576"/>
                    </a:lnTo>
                    <a:lnTo>
                      <a:pt x="67" y="583"/>
                    </a:lnTo>
                    <a:lnTo>
                      <a:pt x="34" y="587"/>
                    </a:lnTo>
                    <a:lnTo>
                      <a:pt x="0" y="592"/>
                    </a:lnTo>
                    <a:lnTo>
                      <a:pt x="7" y="658"/>
                    </a:lnTo>
                    <a:lnTo>
                      <a:pt x="43" y="654"/>
                    </a:lnTo>
                    <a:lnTo>
                      <a:pt x="78" y="649"/>
                    </a:lnTo>
                    <a:lnTo>
                      <a:pt x="114" y="642"/>
                    </a:lnTo>
                    <a:lnTo>
                      <a:pt x="147" y="633"/>
                    </a:lnTo>
                    <a:lnTo>
                      <a:pt x="180" y="624"/>
                    </a:lnTo>
                    <a:lnTo>
                      <a:pt x="212" y="613"/>
                    </a:lnTo>
                    <a:lnTo>
                      <a:pt x="243" y="601"/>
                    </a:lnTo>
                    <a:lnTo>
                      <a:pt x="272" y="587"/>
                    </a:lnTo>
                    <a:lnTo>
                      <a:pt x="301" y="573"/>
                    </a:lnTo>
                    <a:lnTo>
                      <a:pt x="328" y="559"/>
                    </a:lnTo>
                    <a:lnTo>
                      <a:pt x="354" y="541"/>
                    </a:lnTo>
                    <a:lnTo>
                      <a:pt x="381" y="524"/>
                    </a:lnTo>
                    <a:lnTo>
                      <a:pt x="406" y="506"/>
                    </a:lnTo>
                    <a:lnTo>
                      <a:pt x="430" y="487"/>
                    </a:lnTo>
                    <a:lnTo>
                      <a:pt x="452" y="467"/>
                    </a:lnTo>
                    <a:lnTo>
                      <a:pt x="474" y="447"/>
                    </a:lnTo>
                    <a:lnTo>
                      <a:pt x="496" y="425"/>
                    </a:lnTo>
                    <a:lnTo>
                      <a:pt x="516" y="403"/>
                    </a:lnTo>
                    <a:lnTo>
                      <a:pt x="536" y="381"/>
                    </a:lnTo>
                    <a:lnTo>
                      <a:pt x="555" y="357"/>
                    </a:lnTo>
                    <a:lnTo>
                      <a:pt x="572" y="333"/>
                    </a:lnTo>
                    <a:lnTo>
                      <a:pt x="590" y="309"/>
                    </a:lnTo>
                    <a:lnTo>
                      <a:pt x="606" y="284"/>
                    </a:lnTo>
                    <a:lnTo>
                      <a:pt x="622" y="258"/>
                    </a:lnTo>
                    <a:lnTo>
                      <a:pt x="637" y="232"/>
                    </a:lnTo>
                    <a:lnTo>
                      <a:pt x="652" y="206"/>
                    </a:lnTo>
                    <a:lnTo>
                      <a:pt x="666" y="180"/>
                    </a:lnTo>
                    <a:lnTo>
                      <a:pt x="679" y="154"/>
                    </a:lnTo>
                    <a:lnTo>
                      <a:pt x="704" y="100"/>
                    </a:lnTo>
                    <a:lnTo>
                      <a:pt x="727" y="45"/>
                    </a:lnTo>
                    <a:lnTo>
                      <a:pt x="662" y="33"/>
                    </a:lnTo>
                    <a:lnTo>
                      <a:pt x="727" y="45"/>
                    </a:lnTo>
                    <a:lnTo>
                      <a:pt x="729" y="38"/>
                    </a:lnTo>
                    <a:lnTo>
                      <a:pt x="729" y="30"/>
                    </a:lnTo>
                    <a:lnTo>
                      <a:pt x="728" y="25"/>
                    </a:lnTo>
                    <a:lnTo>
                      <a:pt x="727" y="18"/>
                    </a:lnTo>
                    <a:lnTo>
                      <a:pt x="724" y="13"/>
                    </a:lnTo>
                    <a:lnTo>
                      <a:pt x="719" y="9"/>
                    </a:lnTo>
                    <a:lnTo>
                      <a:pt x="713" y="5"/>
                    </a:lnTo>
                    <a:lnTo>
                      <a:pt x="708" y="2"/>
                    </a:lnTo>
                    <a:lnTo>
                      <a:pt x="702" y="1"/>
                    </a:lnTo>
                    <a:lnTo>
                      <a:pt x="696" y="0"/>
                    </a:lnTo>
                    <a:lnTo>
                      <a:pt x="689" y="0"/>
                    </a:lnTo>
                    <a:lnTo>
                      <a:pt x="684" y="1"/>
                    </a:lnTo>
                    <a:lnTo>
                      <a:pt x="678" y="4"/>
                    </a:lnTo>
                    <a:lnTo>
                      <a:pt x="672" y="9"/>
                    </a:lnTo>
                    <a:lnTo>
                      <a:pt x="668" y="13"/>
                    </a:lnTo>
                    <a:lnTo>
                      <a:pt x="664" y="21"/>
                    </a:lnTo>
                    <a:lnTo>
                      <a:pt x="729" y="3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5602320" y="4037040"/>
                <a:ext cx="347760" cy="576360"/>
              </a:xfrm>
              <a:custGeom>
                <a:avLst/>
                <a:gdLst/>
                <a:ahLst/>
                <a:rect l="l" t="t" r="r" b="b"/>
                <a:pathLst>
                  <a:path w="1094" h="1817">
                    <a:moveTo>
                      <a:pt x="1094" y="0"/>
                    </a:moveTo>
                    <a:lnTo>
                      <a:pt x="1094" y="293"/>
                    </a:lnTo>
                    <a:lnTo>
                      <a:pt x="1094" y="550"/>
                    </a:lnTo>
                    <a:lnTo>
                      <a:pt x="1093" y="668"/>
                    </a:lnTo>
                    <a:lnTo>
                      <a:pt x="1091" y="780"/>
                    </a:lnTo>
                    <a:lnTo>
                      <a:pt x="1088" y="888"/>
                    </a:lnTo>
                    <a:lnTo>
                      <a:pt x="1084" y="992"/>
                    </a:lnTo>
                    <a:lnTo>
                      <a:pt x="1077" y="1094"/>
                    </a:lnTo>
                    <a:lnTo>
                      <a:pt x="1069" y="1193"/>
                    </a:lnTo>
                    <a:lnTo>
                      <a:pt x="1064" y="1243"/>
                    </a:lnTo>
                    <a:lnTo>
                      <a:pt x="1059" y="1292"/>
                    </a:lnTo>
                    <a:lnTo>
                      <a:pt x="1053" y="1343"/>
                    </a:lnTo>
                    <a:lnTo>
                      <a:pt x="1046" y="1393"/>
                    </a:lnTo>
                    <a:lnTo>
                      <a:pt x="1039" y="1443"/>
                    </a:lnTo>
                    <a:lnTo>
                      <a:pt x="1031" y="1494"/>
                    </a:lnTo>
                    <a:lnTo>
                      <a:pt x="1022" y="1546"/>
                    </a:lnTo>
                    <a:lnTo>
                      <a:pt x="1013" y="1598"/>
                    </a:lnTo>
                    <a:lnTo>
                      <a:pt x="1002" y="1651"/>
                    </a:lnTo>
                    <a:lnTo>
                      <a:pt x="992" y="1705"/>
                    </a:lnTo>
                    <a:lnTo>
                      <a:pt x="979" y="1761"/>
                    </a:lnTo>
                    <a:lnTo>
                      <a:pt x="966" y="1817"/>
                    </a:lnTo>
                    <a:lnTo>
                      <a:pt x="849" y="1817"/>
                    </a:lnTo>
                    <a:lnTo>
                      <a:pt x="745" y="1815"/>
                    </a:lnTo>
                    <a:lnTo>
                      <a:pt x="700" y="1813"/>
                    </a:lnTo>
                    <a:lnTo>
                      <a:pt x="655" y="1810"/>
                    </a:lnTo>
                    <a:lnTo>
                      <a:pt x="615" y="1808"/>
                    </a:lnTo>
                    <a:lnTo>
                      <a:pt x="578" y="1805"/>
                    </a:lnTo>
                    <a:lnTo>
                      <a:pt x="542" y="1801"/>
                    </a:lnTo>
                    <a:lnTo>
                      <a:pt x="509" y="1797"/>
                    </a:lnTo>
                    <a:lnTo>
                      <a:pt x="480" y="1793"/>
                    </a:lnTo>
                    <a:lnTo>
                      <a:pt x="451" y="1787"/>
                    </a:lnTo>
                    <a:lnTo>
                      <a:pt x="425" y="1782"/>
                    </a:lnTo>
                    <a:lnTo>
                      <a:pt x="401" y="1776"/>
                    </a:lnTo>
                    <a:lnTo>
                      <a:pt x="378" y="1769"/>
                    </a:lnTo>
                    <a:lnTo>
                      <a:pt x="358" y="1762"/>
                    </a:lnTo>
                    <a:lnTo>
                      <a:pt x="338" y="1756"/>
                    </a:lnTo>
                    <a:lnTo>
                      <a:pt x="320" y="1748"/>
                    </a:lnTo>
                    <a:lnTo>
                      <a:pt x="303" y="1738"/>
                    </a:lnTo>
                    <a:lnTo>
                      <a:pt x="286" y="1729"/>
                    </a:lnTo>
                    <a:lnTo>
                      <a:pt x="271" y="1720"/>
                    </a:lnTo>
                    <a:lnTo>
                      <a:pt x="256" y="1710"/>
                    </a:lnTo>
                    <a:lnTo>
                      <a:pt x="243" y="1698"/>
                    </a:lnTo>
                    <a:lnTo>
                      <a:pt x="229" y="1687"/>
                    </a:lnTo>
                    <a:lnTo>
                      <a:pt x="202" y="1663"/>
                    </a:lnTo>
                    <a:lnTo>
                      <a:pt x="174" y="1636"/>
                    </a:lnTo>
                    <a:lnTo>
                      <a:pt x="145" y="1606"/>
                    </a:lnTo>
                    <a:lnTo>
                      <a:pt x="113" y="1574"/>
                    </a:lnTo>
                    <a:lnTo>
                      <a:pt x="97" y="1476"/>
                    </a:lnTo>
                    <a:lnTo>
                      <a:pt x="82" y="1390"/>
                    </a:lnTo>
                    <a:lnTo>
                      <a:pt x="68" y="1317"/>
                    </a:lnTo>
                    <a:lnTo>
                      <a:pt x="56" y="1256"/>
                    </a:lnTo>
                    <a:lnTo>
                      <a:pt x="44" y="1206"/>
                    </a:lnTo>
                    <a:lnTo>
                      <a:pt x="34" y="1163"/>
                    </a:lnTo>
                    <a:lnTo>
                      <a:pt x="25" y="1130"/>
                    </a:lnTo>
                    <a:lnTo>
                      <a:pt x="17" y="1105"/>
                    </a:lnTo>
                    <a:lnTo>
                      <a:pt x="5" y="1074"/>
                    </a:lnTo>
                    <a:lnTo>
                      <a:pt x="0" y="1065"/>
                    </a:lnTo>
                    <a:lnTo>
                      <a:pt x="0" y="1066"/>
                    </a:lnTo>
                    <a:lnTo>
                      <a:pt x="2" y="1070"/>
                    </a:lnTo>
                    <a:lnTo>
                      <a:pt x="4" y="1074"/>
                    </a:lnTo>
                    <a:lnTo>
                      <a:pt x="10" y="1081"/>
                    </a:lnTo>
                    <a:lnTo>
                      <a:pt x="17" y="1087"/>
                    </a:lnTo>
                    <a:lnTo>
                      <a:pt x="26" y="1093"/>
                    </a:lnTo>
                    <a:lnTo>
                      <a:pt x="37" y="1096"/>
                    </a:lnTo>
                    <a:lnTo>
                      <a:pt x="51" y="1097"/>
                    </a:lnTo>
                    <a:lnTo>
                      <a:pt x="66" y="1095"/>
                    </a:lnTo>
                    <a:lnTo>
                      <a:pt x="84" y="1088"/>
                    </a:lnTo>
                    <a:lnTo>
                      <a:pt x="105" y="1076"/>
                    </a:lnTo>
                    <a:lnTo>
                      <a:pt x="127" y="1058"/>
                    </a:lnTo>
                    <a:lnTo>
                      <a:pt x="151" y="1033"/>
                    </a:lnTo>
                    <a:lnTo>
                      <a:pt x="180" y="1000"/>
                    </a:lnTo>
                    <a:lnTo>
                      <a:pt x="209" y="959"/>
                    </a:lnTo>
                    <a:lnTo>
                      <a:pt x="243" y="909"/>
                    </a:lnTo>
                    <a:lnTo>
                      <a:pt x="278" y="847"/>
                    </a:lnTo>
                    <a:lnTo>
                      <a:pt x="317" y="775"/>
                    </a:lnTo>
                    <a:lnTo>
                      <a:pt x="358" y="691"/>
                    </a:lnTo>
                    <a:lnTo>
                      <a:pt x="402" y="593"/>
                    </a:lnTo>
                    <a:lnTo>
                      <a:pt x="437" y="590"/>
                    </a:lnTo>
                    <a:lnTo>
                      <a:pt x="472" y="584"/>
                    </a:lnTo>
                    <a:lnTo>
                      <a:pt x="505" y="577"/>
                    </a:lnTo>
                    <a:lnTo>
                      <a:pt x="537" y="569"/>
                    </a:lnTo>
                    <a:lnTo>
                      <a:pt x="569" y="560"/>
                    </a:lnTo>
                    <a:lnTo>
                      <a:pt x="598" y="550"/>
                    </a:lnTo>
                    <a:lnTo>
                      <a:pt x="628" y="538"/>
                    </a:lnTo>
                    <a:lnTo>
                      <a:pt x="656" y="526"/>
                    </a:lnTo>
                    <a:lnTo>
                      <a:pt x="683" y="512"/>
                    </a:lnTo>
                    <a:lnTo>
                      <a:pt x="710" y="497"/>
                    </a:lnTo>
                    <a:lnTo>
                      <a:pt x="735" y="482"/>
                    </a:lnTo>
                    <a:lnTo>
                      <a:pt x="759" y="465"/>
                    </a:lnTo>
                    <a:lnTo>
                      <a:pt x="783" y="448"/>
                    </a:lnTo>
                    <a:lnTo>
                      <a:pt x="806" y="430"/>
                    </a:lnTo>
                    <a:lnTo>
                      <a:pt x="829" y="410"/>
                    </a:lnTo>
                    <a:lnTo>
                      <a:pt x="849" y="391"/>
                    </a:lnTo>
                    <a:lnTo>
                      <a:pt x="870" y="370"/>
                    </a:lnTo>
                    <a:lnTo>
                      <a:pt x="889" y="349"/>
                    </a:lnTo>
                    <a:lnTo>
                      <a:pt x="908" y="327"/>
                    </a:lnTo>
                    <a:lnTo>
                      <a:pt x="927" y="304"/>
                    </a:lnTo>
                    <a:lnTo>
                      <a:pt x="944" y="281"/>
                    </a:lnTo>
                    <a:lnTo>
                      <a:pt x="961" y="258"/>
                    </a:lnTo>
                    <a:lnTo>
                      <a:pt x="977" y="234"/>
                    </a:lnTo>
                    <a:lnTo>
                      <a:pt x="992" y="208"/>
                    </a:lnTo>
                    <a:lnTo>
                      <a:pt x="1006" y="183"/>
                    </a:lnTo>
                    <a:lnTo>
                      <a:pt x="1021" y="158"/>
                    </a:lnTo>
                    <a:lnTo>
                      <a:pt x="1035" y="132"/>
                    </a:lnTo>
                    <a:lnTo>
                      <a:pt x="1047" y="106"/>
                    </a:lnTo>
                    <a:lnTo>
                      <a:pt x="1071" y="53"/>
                    </a:lnTo>
                    <a:lnTo>
                      <a:pt x="109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5899320" y="4037040"/>
                <a:ext cx="61920" cy="587520"/>
              </a:xfrm>
              <a:custGeom>
                <a:avLst/>
                <a:gdLst/>
                <a:ahLst/>
                <a:rect l="l" t="t" r="r" b="b"/>
                <a:pathLst>
                  <a:path w="196" h="1851">
                    <a:moveTo>
                      <a:pt x="34" y="1851"/>
                    </a:moveTo>
                    <a:lnTo>
                      <a:pt x="68" y="1825"/>
                    </a:lnTo>
                    <a:lnTo>
                      <a:pt x="80" y="1768"/>
                    </a:lnTo>
                    <a:lnTo>
                      <a:pt x="93" y="1712"/>
                    </a:lnTo>
                    <a:lnTo>
                      <a:pt x="103" y="1657"/>
                    </a:lnTo>
                    <a:lnTo>
                      <a:pt x="114" y="1604"/>
                    </a:lnTo>
                    <a:lnTo>
                      <a:pt x="123" y="1551"/>
                    </a:lnTo>
                    <a:lnTo>
                      <a:pt x="132" y="1499"/>
                    </a:lnTo>
                    <a:lnTo>
                      <a:pt x="140" y="1447"/>
                    </a:lnTo>
                    <a:lnTo>
                      <a:pt x="147" y="1397"/>
                    </a:lnTo>
                    <a:lnTo>
                      <a:pt x="154" y="1347"/>
                    </a:lnTo>
                    <a:lnTo>
                      <a:pt x="161" y="1297"/>
                    </a:lnTo>
                    <a:lnTo>
                      <a:pt x="166" y="1247"/>
                    </a:lnTo>
                    <a:lnTo>
                      <a:pt x="171" y="1196"/>
                    </a:lnTo>
                    <a:lnTo>
                      <a:pt x="179" y="1096"/>
                    </a:lnTo>
                    <a:lnTo>
                      <a:pt x="185" y="993"/>
                    </a:lnTo>
                    <a:lnTo>
                      <a:pt x="189" y="890"/>
                    </a:lnTo>
                    <a:lnTo>
                      <a:pt x="193" y="781"/>
                    </a:lnTo>
                    <a:lnTo>
                      <a:pt x="195" y="668"/>
                    </a:lnTo>
                    <a:lnTo>
                      <a:pt x="196" y="550"/>
                    </a:lnTo>
                    <a:lnTo>
                      <a:pt x="196" y="293"/>
                    </a:lnTo>
                    <a:lnTo>
                      <a:pt x="196" y="0"/>
                    </a:lnTo>
                    <a:lnTo>
                      <a:pt x="128" y="0"/>
                    </a:lnTo>
                    <a:lnTo>
                      <a:pt x="129" y="293"/>
                    </a:lnTo>
                    <a:lnTo>
                      <a:pt x="128" y="550"/>
                    </a:lnTo>
                    <a:lnTo>
                      <a:pt x="128" y="667"/>
                    </a:lnTo>
                    <a:lnTo>
                      <a:pt x="126" y="780"/>
                    </a:lnTo>
                    <a:lnTo>
                      <a:pt x="122" y="887"/>
                    </a:lnTo>
                    <a:lnTo>
                      <a:pt x="118" y="990"/>
                    </a:lnTo>
                    <a:lnTo>
                      <a:pt x="112" y="1092"/>
                    </a:lnTo>
                    <a:lnTo>
                      <a:pt x="104" y="1191"/>
                    </a:lnTo>
                    <a:lnTo>
                      <a:pt x="99" y="1240"/>
                    </a:lnTo>
                    <a:lnTo>
                      <a:pt x="94" y="1289"/>
                    </a:lnTo>
                    <a:lnTo>
                      <a:pt x="88" y="1338"/>
                    </a:lnTo>
                    <a:lnTo>
                      <a:pt x="81" y="1388"/>
                    </a:lnTo>
                    <a:lnTo>
                      <a:pt x="73" y="1438"/>
                    </a:lnTo>
                    <a:lnTo>
                      <a:pt x="65" y="1489"/>
                    </a:lnTo>
                    <a:lnTo>
                      <a:pt x="57" y="1540"/>
                    </a:lnTo>
                    <a:lnTo>
                      <a:pt x="47" y="1591"/>
                    </a:lnTo>
                    <a:lnTo>
                      <a:pt x="37" y="1645"/>
                    </a:lnTo>
                    <a:lnTo>
                      <a:pt x="26" y="1698"/>
                    </a:lnTo>
                    <a:lnTo>
                      <a:pt x="14" y="1753"/>
                    </a:lnTo>
                    <a:lnTo>
                      <a:pt x="1" y="1810"/>
                    </a:lnTo>
                    <a:lnTo>
                      <a:pt x="34" y="1784"/>
                    </a:lnTo>
                    <a:lnTo>
                      <a:pt x="1" y="1810"/>
                    </a:lnTo>
                    <a:lnTo>
                      <a:pt x="0" y="1818"/>
                    </a:lnTo>
                    <a:lnTo>
                      <a:pt x="1" y="1825"/>
                    </a:lnTo>
                    <a:lnTo>
                      <a:pt x="3" y="1832"/>
                    </a:lnTo>
                    <a:lnTo>
                      <a:pt x="6" y="1838"/>
                    </a:lnTo>
                    <a:lnTo>
                      <a:pt x="11" y="1842"/>
                    </a:lnTo>
                    <a:lnTo>
                      <a:pt x="15" y="1846"/>
                    </a:lnTo>
                    <a:lnTo>
                      <a:pt x="21" y="1849"/>
                    </a:lnTo>
                    <a:lnTo>
                      <a:pt x="26" y="1850"/>
                    </a:lnTo>
                    <a:lnTo>
                      <a:pt x="33" y="1851"/>
                    </a:lnTo>
                    <a:lnTo>
                      <a:pt x="39" y="1851"/>
                    </a:lnTo>
                    <a:lnTo>
                      <a:pt x="46" y="1850"/>
                    </a:lnTo>
                    <a:lnTo>
                      <a:pt x="52" y="1848"/>
                    </a:lnTo>
                    <a:lnTo>
                      <a:pt x="56" y="1843"/>
                    </a:lnTo>
                    <a:lnTo>
                      <a:pt x="61" y="1839"/>
                    </a:lnTo>
                    <a:lnTo>
                      <a:pt x="64" y="1833"/>
                    </a:lnTo>
                    <a:lnTo>
                      <a:pt x="68" y="1825"/>
                    </a:lnTo>
                    <a:lnTo>
                      <a:pt x="34" y="18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5627520" y="4525920"/>
                <a:ext cx="282600" cy="98640"/>
              </a:xfrm>
              <a:custGeom>
                <a:avLst/>
                <a:gdLst/>
                <a:ahLst/>
                <a:rect l="l" t="t" r="r" b="b"/>
                <a:pathLst>
                  <a:path w="888" h="311">
                    <a:moveTo>
                      <a:pt x="0" y="39"/>
                    </a:moveTo>
                    <a:lnTo>
                      <a:pt x="11" y="58"/>
                    </a:lnTo>
                    <a:lnTo>
                      <a:pt x="43" y="90"/>
                    </a:lnTo>
                    <a:lnTo>
                      <a:pt x="72" y="120"/>
                    </a:lnTo>
                    <a:lnTo>
                      <a:pt x="100" y="147"/>
                    </a:lnTo>
                    <a:lnTo>
                      <a:pt x="128" y="172"/>
                    </a:lnTo>
                    <a:lnTo>
                      <a:pt x="143" y="185"/>
                    </a:lnTo>
                    <a:lnTo>
                      <a:pt x="159" y="197"/>
                    </a:lnTo>
                    <a:lnTo>
                      <a:pt x="175" y="208"/>
                    </a:lnTo>
                    <a:lnTo>
                      <a:pt x="191" y="219"/>
                    </a:lnTo>
                    <a:lnTo>
                      <a:pt x="209" y="228"/>
                    </a:lnTo>
                    <a:lnTo>
                      <a:pt x="227" y="237"/>
                    </a:lnTo>
                    <a:lnTo>
                      <a:pt x="248" y="246"/>
                    </a:lnTo>
                    <a:lnTo>
                      <a:pt x="268" y="254"/>
                    </a:lnTo>
                    <a:lnTo>
                      <a:pt x="290" y="262"/>
                    </a:lnTo>
                    <a:lnTo>
                      <a:pt x="314" y="269"/>
                    </a:lnTo>
                    <a:lnTo>
                      <a:pt x="340" y="275"/>
                    </a:lnTo>
                    <a:lnTo>
                      <a:pt x="366" y="281"/>
                    </a:lnTo>
                    <a:lnTo>
                      <a:pt x="396" y="286"/>
                    </a:lnTo>
                    <a:lnTo>
                      <a:pt x="427" y="291"/>
                    </a:lnTo>
                    <a:lnTo>
                      <a:pt x="461" y="294"/>
                    </a:lnTo>
                    <a:lnTo>
                      <a:pt x="496" y="298"/>
                    </a:lnTo>
                    <a:lnTo>
                      <a:pt x="535" y="301"/>
                    </a:lnTo>
                    <a:lnTo>
                      <a:pt x="576" y="305"/>
                    </a:lnTo>
                    <a:lnTo>
                      <a:pt x="619" y="307"/>
                    </a:lnTo>
                    <a:lnTo>
                      <a:pt x="667" y="308"/>
                    </a:lnTo>
                    <a:lnTo>
                      <a:pt x="771" y="310"/>
                    </a:lnTo>
                    <a:lnTo>
                      <a:pt x="888" y="311"/>
                    </a:lnTo>
                    <a:lnTo>
                      <a:pt x="888" y="244"/>
                    </a:lnTo>
                    <a:lnTo>
                      <a:pt x="771" y="243"/>
                    </a:lnTo>
                    <a:lnTo>
                      <a:pt x="668" y="241"/>
                    </a:lnTo>
                    <a:lnTo>
                      <a:pt x="623" y="239"/>
                    </a:lnTo>
                    <a:lnTo>
                      <a:pt x="580" y="237"/>
                    </a:lnTo>
                    <a:lnTo>
                      <a:pt x="540" y="234"/>
                    </a:lnTo>
                    <a:lnTo>
                      <a:pt x="502" y="231"/>
                    </a:lnTo>
                    <a:lnTo>
                      <a:pt x="468" y="228"/>
                    </a:lnTo>
                    <a:lnTo>
                      <a:pt x="436" y="224"/>
                    </a:lnTo>
                    <a:lnTo>
                      <a:pt x="406" y="219"/>
                    </a:lnTo>
                    <a:lnTo>
                      <a:pt x="380" y="214"/>
                    </a:lnTo>
                    <a:lnTo>
                      <a:pt x="355" y="210"/>
                    </a:lnTo>
                    <a:lnTo>
                      <a:pt x="331" y="204"/>
                    </a:lnTo>
                    <a:lnTo>
                      <a:pt x="310" y="197"/>
                    </a:lnTo>
                    <a:lnTo>
                      <a:pt x="291" y="190"/>
                    </a:lnTo>
                    <a:lnTo>
                      <a:pt x="273" y="184"/>
                    </a:lnTo>
                    <a:lnTo>
                      <a:pt x="256" y="177"/>
                    </a:lnTo>
                    <a:lnTo>
                      <a:pt x="241" y="169"/>
                    </a:lnTo>
                    <a:lnTo>
                      <a:pt x="226" y="161"/>
                    </a:lnTo>
                    <a:lnTo>
                      <a:pt x="211" y="152"/>
                    </a:lnTo>
                    <a:lnTo>
                      <a:pt x="199" y="142"/>
                    </a:lnTo>
                    <a:lnTo>
                      <a:pt x="185" y="132"/>
                    </a:lnTo>
                    <a:lnTo>
                      <a:pt x="173" y="122"/>
                    </a:lnTo>
                    <a:lnTo>
                      <a:pt x="146" y="98"/>
                    </a:lnTo>
                    <a:lnTo>
                      <a:pt x="119" y="72"/>
                    </a:lnTo>
                    <a:lnTo>
                      <a:pt x="90" y="42"/>
                    </a:lnTo>
                    <a:lnTo>
                      <a:pt x="59" y="10"/>
                    </a:lnTo>
                    <a:lnTo>
                      <a:pt x="68" y="28"/>
                    </a:lnTo>
                    <a:lnTo>
                      <a:pt x="59" y="10"/>
                    </a:lnTo>
                    <a:lnTo>
                      <a:pt x="52" y="4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5" y="6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3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3" y="46"/>
                    </a:lnTo>
                    <a:lnTo>
                      <a:pt x="6" y="51"/>
                    </a:lnTo>
                    <a:lnTo>
                      <a:pt x="11" y="5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5592600" y="4214880"/>
                <a:ext cx="149400" cy="322200"/>
              </a:xfrm>
              <a:custGeom>
                <a:avLst/>
                <a:gdLst/>
                <a:ahLst/>
                <a:rect l="l" t="t" r="r" b="b"/>
                <a:pathLst>
                  <a:path w="468" h="1019">
                    <a:moveTo>
                      <a:pt x="431" y="0"/>
                    </a:moveTo>
                    <a:lnTo>
                      <a:pt x="403" y="20"/>
                    </a:lnTo>
                    <a:lnTo>
                      <a:pt x="381" y="71"/>
                    </a:lnTo>
                    <a:lnTo>
                      <a:pt x="359" y="116"/>
                    </a:lnTo>
                    <a:lnTo>
                      <a:pt x="338" y="160"/>
                    </a:lnTo>
                    <a:lnTo>
                      <a:pt x="318" y="200"/>
                    </a:lnTo>
                    <a:lnTo>
                      <a:pt x="298" y="237"/>
                    </a:lnTo>
                    <a:lnTo>
                      <a:pt x="280" y="271"/>
                    </a:lnTo>
                    <a:lnTo>
                      <a:pt x="262" y="302"/>
                    </a:lnTo>
                    <a:lnTo>
                      <a:pt x="246" y="331"/>
                    </a:lnTo>
                    <a:lnTo>
                      <a:pt x="229" y="357"/>
                    </a:lnTo>
                    <a:lnTo>
                      <a:pt x="214" y="381"/>
                    </a:lnTo>
                    <a:lnTo>
                      <a:pt x="199" y="401"/>
                    </a:lnTo>
                    <a:lnTo>
                      <a:pt x="184" y="420"/>
                    </a:lnTo>
                    <a:lnTo>
                      <a:pt x="172" y="436"/>
                    </a:lnTo>
                    <a:lnTo>
                      <a:pt x="159" y="451"/>
                    </a:lnTo>
                    <a:lnTo>
                      <a:pt x="147" y="463"/>
                    </a:lnTo>
                    <a:lnTo>
                      <a:pt x="137" y="473"/>
                    </a:lnTo>
                    <a:lnTo>
                      <a:pt x="126" y="481"/>
                    </a:lnTo>
                    <a:lnTo>
                      <a:pt x="117" y="488"/>
                    </a:lnTo>
                    <a:lnTo>
                      <a:pt x="109" y="494"/>
                    </a:lnTo>
                    <a:lnTo>
                      <a:pt x="101" y="497"/>
                    </a:lnTo>
                    <a:lnTo>
                      <a:pt x="96" y="501"/>
                    </a:lnTo>
                    <a:lnTo>
                      <a:pt x="90" y="502"/>
                    </a:lnTo>
                    <a:lnTo>
                      <a:pt x="85" y="503"/>
                    </a:lnTo>
                    <a:lnTo>
                      <a:pt x="82" y="503"/>
                    </a:lnTo>
                    <a:lnTo>
                      <a:pt x="78" y="503"/>
                    </a:lnTo>
                    <a:lnTo>
                      <a:pt x="76" y="503"/>
                    </a:lnTo>
                    <a:lnTo>
                      <a:pt x="74" y="503"/>
                    </a:lnTo>
                    <a:lnTo>
                      <a:pt x="74" y="503"/>
                    </a:lnTo>
                    <a:lnTo>
                      <a:pt x="68" y="500"/>
                    </a:lnTo>
                    <a:lnTo>
                      <a:pt x="66" y="497"/>
                    </a:lnTo>
                    <a:lnTo>
                      <a:pt x="64" y="494"/>
                    </a:lnTo>
                    <a:lnTo>
                      <a:pt x="63" y="493"/>
                    </a:lnTo>
                    <a:lnTo>
                      <a:pt x="64" y="496"/>
                    </a:lnTo>
                    <a:lnTo>
                      <a:pt x="3" y="524"/>
                    </a:lnTo>
                    <a:lnTo>
                      <a:pt x="7" y="528"/>
                    </a:lnTo>
                    <a:lnTo>
                      <a:pt x="17" y="557"/>
                    </a:lnTo>
                    <a:lnTo>
                      <a:pt x="24" y="579"/>
                    </a:lnTo>
                    <a:lnTo>
                      <a:pt x="33" y="611"/>
                    </a:lnTo>
                    <a:lnTo>
                      <a:pt x="43" y="652"/>
                    </a:lnTo>
                    <a:lnTo>
                      <a:pt x="55" y="704"/>
                    </a:lnTo>
                    <a:lnTo>
                      <a:pt x="67" y="764"/>
                    </a:lnTo>
                    <a:lnTo>
                      <a:pt x="81" y="836"/>
                    </a:lnTo>
                    <a:lnTo>
                      <a:pt x="96" y="922"/>
                    </a:lnTo>
                    <a:lnTo>
                      <a:pt x="110" y="1019"/>
                    </a:lnTo>
                    <a:lnTo>
                      <a:pt x="178" y="1008"/>
                    </a:lnTo>
                    <a:lnTo>
                      <a:pt x="162" y="910"/>
                    </a:lnTo>
                    <a:lnTo>
                      <a:pt x="147" y="825"/>
                    </a:lnTo>
                    <a:lnTo>
                      <a:pt x="133" y="752"/>
                    </a:lnTo>
                    <a:lnTo>
                      <a:pt x="121" y="689"/>
                    </a:lnTo>
                    <a:lnTo>
                      <a:pt x="109" y="638"/>
                    </a:lnTo>
                    <a:lnTo>
                      <a:pt x="98" y="595"/>
                    </a:lnTo>
                    <a:lnTo>
                      <a:pt x="89" y="561"/>
                    </a:lnTo>
                    <a:lnTo>
                      <a:pt x="81" y="534"/>
                    </a:lnTo>
                    <a:lnTo>
                      <a:pt x="68" y="502"/>
                    </a:lnTo>
                    <a:lnTo>
                      <a:pt x="60" y="487"/>
                    </a:lnTo>
                    <a:lnTo>
                      <a:pt x="0" y="517"/>
                    </a:lnTo>
                    <a:lnTo>
                      <a:pt x="4" y="526"/>
                    </a:lnTo>
                    <a:lnTo>
                      <a:pt x="10" y="535"/>
                    </a:lnTo>
                    <a:lnTo>
                      <a:pt x="18" y="545"/>
                    </a:lnTo>
                    <a:lnTo>
                      <a:pt x="29" y="554"/>
                    </a:lnTo>
                    <a:lnTo>
                      <a:pt x="43" y="562"/>
                    </a:lnTo>
                    <a:lnTo>
                      <a:pt x="53" y="567"/>
                    </a:lnTo>
                    <a:lnTo>
                      <a:pt x="64" y="569"/>
                    </a:lnTo>
                    <a:lnTo>
                      <a:pt x="74" y="570"/>
                    </a:lnTo>
                    <a:lnTo>
                      <a:pt x="84" y="570"/>
                    </a:lnTo>
                    <a:lnTo>
                      <a:pt x="96" y="570"/>
                    </a:lnTo>
                    <a:lnTo>
                      <a:pt x="107" y="567"/>
                    </a:lnTo>
                    <a:lnTo>
                      <a:pt x="118" y="563"/>
                    </a:lnTo>
                    <a:lnTo>
                      <a:pt x="131" y="558"/>
                    </a:lnTo>
                    <a:lnTo>
                      <a:pt x="143" y="552"/>
                    </a:lnTo>
                    <a:lnTo>
                      <a:pt x="155" y="544"/>
                    </a:lnTo>
                    <a:lnTo>
                      <a:pt x="169" y="534"/>
                    </a:lnTo>
                    <a:lnTo>
                      <a:pt x="181" y="524"/>
                    </a:lnTo>
                    <a:lnTo>
                      <a:pt x="195" y="511"/>
                    </a:lnTo>
                    <a:lnTo>
                      <a:pt x="208" y="496"/>
                    </a:lnTo>
                    <a:lnTo>
                      <a:pt x="223" y="480"/>
                    </a:lnTo>
                    <a:lnTo>
                      <a:pt x="238" y="462"/>
                    </a:lnTo>
                    <a:lnTo>
                      <a:pt x="253" y="441"/>
                    </a:lnTo>
                    <a:lnTo>
                      <a:pt x="269" y="419"/>
                    </a:lnTo>
                    <a:lnTo>
                      <a:pt x="286" y="393"/>
                    </a:lnTo>
                    <a:lnTo>
                      <a:pt x="303" y="366"/>
                    </a:lnTo>
                    <a:lnTo>
                      <a:pt x="321" y="336"/>
                    </a:lnTo>
                    <a:lnTo>
                      <a:pt x="340" y="304"/>
                    </a:lnTo>
                    <a:lnTo>
                      <a:pt x="359" y="269"/>
                    </a:lnTo>
                    <a:lnTo>
                      <a:pt x="378" y="230"/>
                    </a:lnTo>
                    <a:lnTo>
                      <a:pt x="399" y="189"/>
                    </a:lnTo>
                    <a:lnTo>
                      <a:pt x="420" y="145"/>
                    </a:lnTo>
                    <a:lnTo>
                      <a:pt x="442" y="98"/>
                    </a:lnTo>
                    <a:lnTo>
                      <a:pt x="465" y="47"/>
                    </a:lnTo>
                    <a:lnTo>
                      <a:pt x="436" y="67"/>
                    </a:lnTo>
                    <a:lnTo>
                      <a:pt x="465" y="47"/>
                    </a:lnTo>
                    <a:lnTo>
                      <a:pt x="467" y="40"/>
                    </a:lnTo>
                    <a:lnTo>
                      <a:pt x="468" y="32"/>
                    </a:lnTo>
                    <a:lnTo>
                      <a:pt x="467" y="26"/>
                    </a:lnTo>
                    <a:lnTo>
                      <a:pt x="465" y="19"/>
                    </a:lnTo>
                    <a:lnTo>
                      <a:pt x="462" y="15"/>
                    </a:lnTo>
                    <a:lnTo>
                      <a:pt x="458" y="9"/>
                    </a:lnTo>
                    <a:lnTo>
                      <a:pt x="452" y="6"/>
                    </a:lnTo>
                    <a:lnTo>
                      <a:pt x="447" y="2"/>
                    </a:lnTo>
                    <a:lnTo>
                      <a:pt x="441" y="1"/>
                    </a:lnTo>
                    <a:lnTo>
                      <a:pt x="435" y="0"/>
                    </a:lnTo>
                    <a:lnTo>
                      <a:pt x="428" y="0"/>
                    </a:lnTo>
                    <a:lnTo>
                      <a:pt x="423" y="1"/>
                    </a:lnTo>
                    <a:lnTo>
                      <a:pt x="417" y="3"/>
                    </a:lnTo>
                    <a:lnTo>
                      <a:pt x="411" y="8"/>
                    </a:lnTo>
                    <a:lnTo>
                      <a:pt x="407" y="14"/>
                    </a:lnTo>
                    <a:lnTo>
                      <a:pt x="403" y="20"/>
                    </a:lnTo>
                    <a:lnTo>
                      <a:pt x="43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5729400" y="4025880"/>
                <a:ext cx="231840" cy="209520"/>
              </a:xfrm>
              <a:custGeom>
                <a:avLst/>
                <a:gdLst/>
                <a:ahLst/>
                <a:rect l="l" t="t" r="r" b="b"/>
                <a:pathLst>
                  <a:path w="729" h="662">
                    <a:moveTo>
                      <a:pt x="729" y="35"/>
                    </a:moveTo>
                    <a:lnTo>
                      <a:pt x="664" y="22"/>
                    </a:lnTo>
                    <a:lnTo>
                      <a:pt x="642" y="75"/>
                    </a:lnTo>
                    <a:lnTo>
                      <a:pt x="618" y="127"/>
                    </a:lnTo>
                    <a:lnTo>
                      <a:pt x="605" y="152"/>
                    </a:lnTo>
                    <a:lnTo>
                      <a:pt x="593" y="177"/>
                    </a:lnTo>
                    <a:lnTo>
                      <a:pt x="579" y="201"/>
                    </a:lnTo>
                    <a:lnTo>
                      <a:pt x="564" y="226"/>
                    </a:lnTo>
                    <a:lnTo>
                      <a:pt x="549" y="250"/>
                    </a:lnTo>
                    <a:lnTo>
                      <a:pt x="533" y="273"/>
                    </a:lnTo>
                    <a:lnTo>
                      <a:pt x="517" y="296"/>
                    </a:lnTo>
                    <a:lnTo>
                      <a:pt x="500" y="319"/>
                    </a:lnTo>
                    <a:lnTo>
                      <a:pt x="483" y="340"/>
                    </a:lnTo>
                    <a:lnTo>
                      <a:pt x="465" y="361"/>
                    </a:lnTo>
                    <a:lnTo>
                      <a:pt x="447" y="382"/>
                    </a:lnTo>
                    <a:lnTo>
                      <a:pt x="427" y="402"/>
                    </a:lnTo>
                    <a:lnTo>
                      <a:pt x="407" y="420"/>
                    </a:lnTo>
                    <a:lnTo>
                      <a:pt x="385" y="439"/>
                    </a:lnTo>
                    <a:lnTo>
                      <a:pt x="363" y="457"/>
                    </a:lnTo>
                    <a:lnTo>
                      <a:pt x="341" y="473"/>
                    </a:lnTo>
                    <a:lnTo>
                      <a:pt x="318" y="489"/>
                    </a:lnTo>
                    <a:lnTo>
                      <a:pt x="294" y="504"/>
                    </a:lnTo>
                    <a:lnTo>
                      <a:pt x="269" y="517"/>
                    </a:lnTo>
                    <a:lnTo>
                      <a:pt x="243" y="530"/>
                    </a:lnTo>
                    <a:lnTo>
                      <a:pt x="215" y="542"/>
                    </a:lnTo>
                    <a:lnTo>
                      <a:pt x="188" y="554"/>
                    </a:lnTo>
                    <a:lnTo>
                      <a:pt x="159" y="563"/>
                    </a:lnTo>
                    <a:lnTo>
                      <a:pt x="130" y="572"/>
                    </a:lnTo>
                    <a:lnTo>
                      <a:pt x="99" y="580"/>
                    </a:lnTo>
                    <a:lnTo>
                      <a:pt x="67" y="586"/>
                    </a:lnTo>
                    <a:lnTo>
                      <a:pt x="34" y="591"/>
                    </a:lnTo>
                    <a:lnTo>
                      <a:pt x="0" y="595"/>
                    </a:lnTo>
                    <a:lnTo>
                      <a:pt x="5" y="662"/>
                    </a:lnTo>
                    <a:lnTo>
                      <a:pt x="43" y="658"/>
                    </a:lnTo>
                    <a:lnTo>
                      <a:pt x="78" y="652"/>
                    </a:lnTo>
                    <a:lnTo>
                      <a:pt x="113" y="645"/>
                    </a:lnTo>
                    <a:lnTo>
                      <a:pt x="147" y="637"/>
                    </a:lnTo>
                    <a:lnTo>
                      <a:pt x="180" y="628"/>
                    </a:lnTo>
                    <a:lnTo>
                      <a:pt x="211" y="617"/>
                    </a:lnTo>
                    <a:lnTo>
                      <a:pt x="241" y="605"/>
                    </a:lnTo>
                    <a:lnTo>
                      <a:pt x="271" y="591"/>
                    </a:lnTo>
                    <a:lnTo>
                      <a:pt x="300" y="577"/>
                    </a:lnTo>
                    <a:lnTo>
                      <a:pt x="327" y="562"/>
                    </a:lnTo>
                    <a:lnTo>
                      <a:pt x="354" y="546"/>
                    </a:lnTo>
                    <a:lnTo>
                      <a:pt x="379" y="528"/>
                    </a:lnTo>
                    <a:lnTo>
                      <a:pt x="404" y="510"/>
                    </a:lnTo>
                    <a:lnTo>
                      <a:pt x="428" y="491"/>
                    </a:lnTo>
                    <a:lnTo>
                      <a:pt x="451" y="471"/>
                    </a:lnTo>
                    <a:lnTo>
                      <a:pt x="474" y="450"/>
                    </a:lnTo>
                    <a:lnTo>
                      <a:pt x="496" y="428"/>
                    </a:lnTo>
                    <a:lnTo>
                      <a:pt x="515" y="407"/>
                    </a:lnTo>
                    <a:lnTo>
                      <a:pt x="536" y="384"/>
                    </a:lnTo>
                    <a:lnTo>
                      <a:pt x="554" y="360"/>
                    </a:lnTo>
                    <a:lnTo>
                      <a:pt x="572" y="336"/>
                    </a:lnTo>
                    <a:lnTo>
                      <a:pt x="589" y="312"/>
                    </a:lnTo>
                    <a:lnTo>
                      <a:pt x="606" y="287"/>
                    </a:lnTo>
                    <a:lnTo>
                      <a:pt x="622" y="261"/>
                    </a:lnTo>
                    <a:lnTo>
                      <a:pt x="637" y="235"/>
                    </a:lnTo>
                    <a:lnTo>
                      <a:pt x="652" y="209"/>
                    </a:lnTo>
                    <a:lnTo>
                      <a:pt x="665" y="183"/>
                    </a:lnTo>
                    <a:lnTo>
                      <a:pt x="679" y="156"/>
                    </a:lnTo>
                    <a:lnTo>
                      <a:pt x="704" y="102"/>
                    </a:lnTo>
                    <a:lnTo>
                      <a:pt x="727" y="47"/>
                    </a:lnTo>
                    <a:lnTo>
                      <a:pt x="661" y="35"/>
                    </a:lnTo>
                    <a:lnTo>
                      <a:pt x="727" y="47"/>
                    </a:lnTo>
                    <a:lnTo>
                      <a:pt x="728" y="39"/>
                    </a:lnTo>
                    <a:lnTo>
                      <a:pt x="729" y="32"/>
                    </a:lnTo>
                    <a:lnTo>
                      <a:pt x="728" y="26"/>
                    </a:lnTo>
                    <a:lnTo>
                      <a:pt x="726" y="20"/>
                    </a:lnTo>
                    <a:lnTo>
                      <a:pt x="722" y="14"/>
                    </a:lnTo>
                    <a:lnTo>
                      <a:pt x="718" y="10"/>
                    </a:lnTo>
                    <a:lnTo>
                      <a:pt x="713" y="6"/>
                    </a:lnTo>
                    <a:lnTo>
                      <a:pt x="708" y="3"/>
                    </a:lnTo>
                    <a:lnTo>
                      <a:pt x="702" y="2"/>
                    </a:lnTo>
                    <a:lnTo>
                      <a:pt x="695" y="0"/>
                    </a:lnTo>
                    <a:lnTo>
                      <a:pt x="689" y="0"/>
                    </a:lnTo>
                    <a:lnTo>
                      <a:pt x="683" y="3"/>
                    </a:lnTo>
                    <a:lnTo>
                      <a:pt x="677" y="5"/>
                    </a:lnTo>
                    <a:lnTo>
                      <a:pt x="672" y="10"/>
                    </a:lnTo>
                    <a:lnTo>
                      <a:pt x="668" y="15"/>
                    </a:lnTo>
                    <a:lnTo>
                      <a:pt x="664" y="22"/>
                    </a:lnTo>
                    <a:lnTo>
                      <a:pt x="729" y="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5364000" y="3941640"/>
                <a:ext cx="255600" cy="425520"/>
              </a:xfrm>
              <a:custGeom>
                <a:avLst/>
                <a:gdLst/>
                <a:ahLst/>
                <a:rect l="l" t="t" r="r" b="b"/>
                <a:pathLst>
                  <a:path w="805" h="1339">
                    <a:moveTo>
                      <a:pt x="805" y="0"/>
                    </a:moveTo>
                    <a:lnTo>
                      <a:pt x="805" y="215"/>
                    </a:lnTo>
                    <a:lnTo>
                      <a:pt x="805" y="404"/>
                    </a:lnTo>
                    <a:lnTo>
                      <a:pt x="804" y="492"/>
                    </a:lnTo>
                    <a:lnTo>
                      <a:pt x="803" y="574"/>
                    </a:lnTo>
                    <a:lnTo>
                      <a:pt x="801" y="654"/>
                    </a:lnTo>
                    <a:lnTo>
                      <a:pt x="797" y="730"/>
                    </a:lnTo>
                    <a:lnTo>
                      <a:pt x="793" y="806"/>
                    </a:lnTo>
                    <a:lnTo>
                      <a:pt x="787" y="879"/>
                    </a:lnTo>
                    <a:lnTo>
                      <a:pt x="780" y="953"/>
                    </a:lnTo>
                    <a:lnTo>
                      <a:pt x="770" y="1026"/>
                    </a:lnTo>
                    <a:lnTo>
                      <a:pt x="758" y="1101"/>
                    </a:lnTo>
                    <a:lnTo>
                      <a:pt x="746" y="1177"/>
                    </a:lnTo>
                    <a:lnTo>
                      <a:pt x="730" y="1257"/>
                    </a:lnTo>
                    <a:lnTo>
                      <a:pt x="711" y="1339"/>
                    </a:lnTo>
                    <a:lnTo>
                      <a:pt x="625" y="1339"/>
                    </a:lnTo>
                    <a:lnTo>
                      <a:pt x="549" y="1337"/>
                    </a:lnTo>
                    <a:lnTo>
                      <a:pt x="483" y="1334"/>
                    </a:lnTo>
                    <a:lnTo>
                      <a:pt x="424" y="1330"/>
                    </a:lnTo>
                    <a:lnTo>
                      <a:pt x="399" y="1327"/>
                    </a:lnTo>
                    <a:lnTo>
                      <a:pt x="375" y="1325"/>
                    </a:lnTo>
                    <a:lnTo>
                      <a:pt x="353" y="1321"/>
                    </a:lnTo>
                    <a:lnTo>
                      <a:pt x="332" y="1318"/>
                    </a:lnTo>
                    <a:lnTo>
                      <a:pt x="313" y="1313"/>
                    </a:lnTo>
                    <a:lnTo>
                      <a:pt x="296" y="1309"/>
                    </a:lnTo>
                    <a:lnTo>
                      <a:pt x="278" y="1304"/>
                    </a:lnTo>
                    <a:lnTo>
                      <a:pt x="264" y="1298"/>
                    </a:lnTo>
                    <a:lnTo>
                      <a:pt x="249" y="1294"/>
                    </a:lnTo>
                    <a:lnTo>
                      <a:pt x="235" y="1287"/>
                    </a:lnTo>
                    <a:lnTo>
                      <a:pt x="223" y="1281"/>
                    </a:lnTo>
                    <a:lnTo>
                      <a:pt x="211" y="1274"/>
                    </a:lnTo>
                    <a:lnTo>
                      <a:pt x="200" y="1268"/>
                    </a:lnTo>
                    <a:lnTo>
                      <a:pt x="190" y="1260"/>
                    </a:lnTo>
                    <a:lnTo>
                      <a:pt x="179" y="1252"/>
                    </a:lnTo>
                    <a:lnTo>
                      <a:pt x="169" y="1242"/>
                    </a:lnTo>
                    <a:lnTo>
                      <a:pt x="129" y="1205"/>
                    </a:lnTo>
                    <a:lnTo>
                      <a:pt x="84" y="1158"/>
                    </a:lnTo>
                    <a:lnTo>
                      <a:pt x="72" y="1086"/>
                    </a:lnTo>
                    <a:lnTo>
                      <a:pt x="62" y="1023"/>
                    </a:lnTo>
                    <a:lnTo>
                      <a:pt x="52" y="970"/>
                    </a:lnTo>
                    <a:lnTo>
                      <a:pt x="43" y="924"/>
                    </a:lnTo>
                    <a:lnTo>
                      <a:pt x="33" y="887"/>
                    </a:lnTo>
                    <a:lnTo>
                      <a:pt x="25" y="857"/>
                    </a:lnTo>
                    <a:lnTo>
                      <a:pt x="19" y="832"/>
                    </a:lnTo>
                    <a:lnTo>
                      <a:pt x="13" y="814"/>
                    </a:lnTo>
                    <a:lnTo>
                      <a:pt x="5" y="791"/>
                    </a:lnTo>
                    <a:lnTo>
                      <a:pt x="0" y="784"/>
                    </a:lnTo>
                    <a:lnTo>
                      <a:pt x="1" y="787"/>
                    </a:lnTo>
                    <a:lnTo>
                      <a:pt x="8" y="795"/>
                    </a:lnTo>
                    <a:lnTo>
                      <a:pt x="13" y="800"/>
                    </a:lnTo>
                    <a:lnTo>
                      <a:pt x="20" y="804"/>
                    </a:lnTo>
                    <a:lnTo>
                      <a:pt x="28" y="807"/>
                    </a:lnTo>
                    <a:lnTo>
                      <a:pt x="38" y="808"/>
                    </a:lnTo>
                    <a:lnTo>
                      <a:pt x="49" y="806"/>
                    </a:lnTo>
                    <a:lnTo>
                      <a:pt x="62" y="801"/>
                    </a:lnTo>
                    <a:lnTo>
                      <a:pt x="77" y="792"/>
                    </a:lnTo>
                    <a:lnTo>
                      <a:pt x="94" y="779"/>
                    </a:lnTo>
                    <a:lnTo>
                      <a:pt x="112" y="761"/>
                    </a:lnTo>
                    <a:lnTo>
                      <a:pt x="133" y="737"/>
                    </a:lnTo>
                    <a:lnTo>
                      <a:pt x="154" y="706"/>
                    </a:lnTo>
                    <a:lnTo>
                      <a:pt x="178" y="669"/>
                    </a:lnTo>
                    <a:lnTo>
                      <a:pt x="204" y="624"/>
                    </a:lnTo>
                    <a:lnTo>
                      <a:pt x="233" y="571"/>
                    </a:lnTo>
                    <a:lnTo>
                      <a:pt x="264" y="509"/>
                    </a:lnTo>
                    <a:lnTo>
                      <a:pt x="296" y="437"/>
                    </a:lnTo>
                    <a:lnTo>
                      <a:pt x="322" y="434"/>
                    </a:lnTo>
                    <a:lnTo>
                      <a:pt x="347" y="430"/>
                    </a:lnTo>
                    <a:lnTo>
                      <a:pt x="372" y="424"/>
                    </a:lnTo>
                    <a:lnTo>
                      <a:pt x="396" y="419"/>
                    </a:lnTo>
                    <a:lnTo>
                      <a:pt x="419" y="412"/>
                    </a:lnTo>
                    <a:lnTo>
                      <a:pt x="440" y="404"/>
                    </a:lnTo>
                    <a:lnTo>
                      <a:pt x="462" y="396"/>
                    </a:lnTo>
                    <a:lnTo>
                      <a:pt x="483" y="387"/>
                    </a:lnTo>
                    <a:lnTo>
                      <a:pt x="503" y="377"/>
                    </a:lnTo>
                    <a:lnTo>
                      <a:pt x="522" y="366"/>
                    </a:lnTo>
                    <a:lnTo>
                      <a:pt x="541" y="355"/>
                    </a:lnTo>
                    <a:lnTo>
                      <a:pt x="559" y="342"/>
                    </a:lnTo>
                    <a:lnTo>
                      <a:pt x="577" y="330"/>
                    </a:lnTo>
                    <a:lnTo>
                      <a:pt x="593" y="316"/>
                    </a:lnTo>
                    <a:lnTo>
                      <a:pt x="610" y="301"/>
                    </a:lnTo>
                    <a:lnTo>
                      <a:pt x="625" y="286"/>
                    </a:lnTo>
                    <a:lnTo>
                      <a:pt x="641" y="272"/>
                    </a:lnTo>
                    <a:lnTo>
                      <a:pt x="655" y="256"/>
                    </a:lnTo>
                    <a:lnTo>
                      <a:pt x="668" y="240"/>
                    </a:lnTo>
                    <a:lnTo>
                      <a:pt x="682" y="224"/>
                    </a:lnTo>
                    <a:lnTo>
                      <a:pt x="695" y="207"/>
                    </a:lnTo>
                    <a:lnTo>
                      <a:pt x="707" y="188"/>
                    </a:lnTo>
                    <a:lnTo>
                      <a:pt x="720" y="171"/>
                    </a:lnTo>
                    <a:lnTo>
                      <a:pt x="730" y="153"/>
                    </a:lnTo>
                    <a:lnTo>
                      <a:pt x="752" y="115"/>
                    </a:lnTo>
                    <a:lnTo>
                      <a:pt x="771" y="78"/>
                    </a:lnTo>
                    <a:lnTo>
                      <a:pt x="789" y="39"/>
                    </a:lnTo>
                    <a:lnTo>
                      <a:pt x="80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5578560" y="3941640"/>
                <a:ext cx="52200" cy="436680"/>
              </a:xfrm>
              <a:custGeom>
                <a:avLst/>
                <a:gdLst/>
                <a:ahLst/>
                <a:rect l="l" t="t" r="r" b="b"/>
                <a:pathLst>
                  <a:path w="162" h="1374">
                    <a:moveTo>
                      <a:pt x="34" y="1374"/>
                    </a:moveTo>
                    <a:lnTo>
                      <a:pt x="67" y="1347"/>
                    </a:lnTo>
                    <a:lnTo>
                      <a:pt x="85" y="1264"/>
                    </a:lnTo>
                    <a:lnTo>
                      <a:pt x="102" y="1184"/>
                    </a:lnTo>
                    <a:lnTo>
                      <a:pt x="116" y="1107"/>
                    </a:lnTo>
                    <a:lnTo>
                      <a:pt x="127" y="1030"/>
                    </a:lnTo>
                    <a:lnTo>
                      <a:pt x="136" y="956"/>
                    </a:lnTo>
                    <a:lnTo>
                      <a:pt x="144" y="882"/>
                    </a:lnTo>
                    <a:lnTo>
                      <a:pt x="150" y="808"/>
                    </a:lnTo>
                    <a:lnTo>
                      <a:pt x="154" y="733"/>
                    </a:lnTo>
                    <a:lnTo>
                      <a:pt x="158" y="655"/>
                    </a:lnTo>
                    <a:lnTo>
                      <a:pt x="160" y="575"/>
                    </a:lnTo>
                    <a:lnTo>
                      <a:pt x="161" y="492"/>
                    </a:lnTo>
                    <a:lnTo>
                      <a:pt x="162" y="404"/>
                    </a:lnTo>
                    <a:lnTo>
                      <a:pt x="162" y="215"/>
                    </a:lnTo>
                    <a:lnTo>
                      <a:pt x="161" y="0"/>
                    </a:lnTo>
                    <a:lnTo>
                      <a:pt x="94" y="0"/>
                    </a:lnTo>
                    <a:lnTo>
                      <a:pt x="95" y="215"/>
                    </a:lnTo>
                    <a:lnTo>
                      <a:pt x="94" y="404"/>
                    </a:lnTo>
                    <a:lnTo>
                      <a:pt x="94" y="491"/>
                    </a:lnTo>
                    <a:lnTo>
                      <a:pt x="93" y="574"/>
                    </a:lnTo>
                    <a:lnTo>
                      <a:pt x="91" y="653"/>
                    </a:lnTo>
                    <a:lnTo>
                      <a:pt x="87" y="729"/>
                    </a:lnTo>
                    <a:lnTo>
                      <a:pt x="83" y="803"/>
                    </a:lnTo>
                    <a:lnTo>
                      <a:pt x="77" y="876"/>
                    </a:lnTo>
                    <a:lnTo>
                      <a:pt x="69" y="948"/>
                    </a:lnTo>
                    <a:lnTo>
                      <a:pt x="60" y="1021"/>
                    </a:lnTo>
                    <a:lnTo>
                      <a:pt x="48" y="1095"/>
                    </a:lnTo>
                    <a:lnTo>
                      <a:pt x="35" y="1172"/>
                    </a:lnTo>
                    <a:lnTo>
                      <a:pt x="20" y="1249"/>
                    </a:lnTo>
                    <a:lnTo>
                      <a:pt x="2" y="1331"/>
                    </a:lnTo>
                    <a:lnTo>
                      <a:pt x="34" y="1305"/>
                    </a:lnTo>
                    <a:lnTo>
                      <a:pt x="2" y="1331"/>
                    </a:lnTo>
                    <a:lnTo>
                      <a:pt x="0" y="1339"/>
                    </a:lnTo>
                    <a:lnTo>
                      <a:pt x="0" y="1347"/>
                    </a:lnTo>
                    <a:lnTo>
                      <a:pt x="3" y="1353"/>
                    </a:lnTo>
                    <a:lnTo>
                      <a:pt x="5" y="1359"/>
                    </a:lnTo>
                    <a:lnTo>
                      <a:pt x="10" y="1363"/>
                    </a:lnTo>
                    <a:lnTo>
                      <a:pt x="14" y="1368"/>
                    </a:lnTo>
                    <a:lnTo>
                      <a:pt x="20" y="1370"/>
                    </a:lnTo>
                    <a:lnTo>
                      <a:pt x="27" y="1373"/>
                    </a:lnTo>
                    <a:lnTo>
                      <a:pt x="32" y="1374"/>
                    </a:lnTo>
                    <a:lnTo>
                      <a:pt x="39" y="1374"/>
                    </a:lnTo>
                    <a:lnTo>
                      <a:pt x="45" y="1373"/>
                    </a:lnTo>
                    <a:lnTo>
                      <a:pt x="51" y="1369"/>
                    </a:lnTo>
                    <a:lnTo>
                      <a:pt x="56" y="1366"/>
                    </a:lnTo>
                    <a:lnTo>
                      <a:pt x="61" y="1361"/>
                    </a:lnTo>
                    <a:lnTo>
                      <a:pt x="64" y="1354"/>
                    </a:lnTo>
                    <a:lnTo>
                      <a:pt x="67" y="1347"/>
                    </a:lnTo>
                    <a:lnTo>
                      <a:pt x="34" y="137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5380200" y="4299120"/>
                <a:ext cx="209520" cy="79200"/>
              </a:xfrm>
              <a:custGeom>
                <a:avLst/>
                <a:gdLst/>
                <a:ahLst/>
                <a:rect l="l" t="t" r="r" b="b"/>
                <a:pathLst>
                  <a:path w="662" h="250">
                    <a:moveTo>
                      <a:pt x="1" y="40"/>
                    </a:moveTo>
                    <a:lnTo>
                      <a:pt x="11" y="58"/>
                    </a:lnTo>
                    <a:lnTo>
                      <a:pt x="56" y="105"/>
                    </a:lnTo>
                    <a:lnTo>
                      <a:pt x="97" y="144"/>
                    </a:lnTo>
                    <a:lnTo>
                      <a:pt x="109" y="154"/>
                    </a:lnTo>
                    <a:lnTo>
                      <a:pt x="120" y="163"/>
                    </a:lnTo>
                    <a:lnTo>
                      <a:pt x="133" y="171"/>
                    </a:lnTo>
                    <a:lnTo>
                      <a:pt x="145" y="179"/>
                    </a:lnTo>
                    <a:lnTo>
                      <a:pt x="158" y="187"/>
                    </a:lnTo>
                    <a:lnTo>
                      <a:pt x="172" y="194"/>
                    </a:lnTo>
                    <a:lnTo>
                      <a:pt x="187" y="201"/>
                    </a:lnTo>
                    <a:lnTo>
                      <a:pt x="203" y="206"/>
                    </a:lnTo>
                    <a:lnTo>
                      <a:pt x="219" y="212"/>
                    </a:lnTo>
                    <a:lnTo>
                      <a:pt x="237" y="218"/>
                    </a:lnTo>
                    <a:lnTo>
                      <a:pt x="257" y="222"/>
                    </a:lnTo>
                    <a:lnTo>
                      <a:pt x="277" y="227"/>
                    </a:lnTo>
                    <a:lnTo>
                      <a:pt x="298" y="230"/>
                    </a:lnTo>
                    <a:lnTo>
                      <a:pt x="322" y="234"/>
                    </a:lnTo>
                    <a:lnTo>
                      <a:pt x="346" y="237"/>
                    </a:lnTo>
                    <a:lnTo>
                      <a:pt x="373" y="239"/>
                    </a:lnTo>
                    <a:lnTo>
                      <a:pt x="431" y="244"/>
                    </a:lnTo>
                    <a:lnTo>
                      <a:pt x="499" y="247"/>
                    </a:lnTo>
                    <a:lnTo>
                      <a:pt x="575" y="249"/>
                    </a:lnTo>
                    <a:lnTo>
                      <a:pt x="662" y="250"/>
                    </a:lnTo>
                    <a:lnTo>
                      <a:pt x="662" y="181"/>
                    </a:lnTo>
                    <a:lnTo>
                      <a:pt x="576" y="181"/>
                    </a:lnTo>
                    <a:lnTo>
                      <a:pt x="501" y="180"/>
                    </a:lnTo>
                    <a:lnTo>
                      <a:pt x="436" y="177"/>
                    </a:lnTo>
                    <a:lnTo>
                      <a:pt x="379" y="172"/>
                    </a:lnTo>
                    <a:lnTo>
                      <a:pt x="354" y="170"/>
                    </a:lnTo>
                    <a:lnTo>
                      <a:pt x="331" y="166"/>
                    </a:lnTo>
                    <a:lnTo>
                      <a:pt x="309" y="164"/>
                    </a:lnTo>
                    <a:lnTo>
                      <a:pt x="290" y="161"/>
                    </a:lnTo>
                    <a:lnTo>
                      <a:pt x="272" y="156"/>
                    </a:lnTo>
                    <a:lnTo>
                      <a:pt x="255" y="153"/>
                    </a:lnTo>
                    <a:lnTo>
                      <a:pt x="240" y="148"/>
                    </a:lnTo>
                    <a:lnTo>
                      <a:pt x="226" y="144"/>
                    </a:lnTo>
                    <a:lnTo>
                      <a:pt x="212" y="138"/>
                    </a:lnTo>
                    <a:lnTo>
                      <a:pt x="201" y="133"/>
                    </a:lnTo>
                    <a:lnTo>
                      <a:pt x="190" y="128"/>
                    </a:lnTo>
                    <a:lnTo>
                      <a:pt x="179" y="122"/>
                    </a:lnTo>
                    <a:lnTo>
                      <a:pt x="170" y="115"/>
                    </a:lnTo>
                    <a:lnTo>
                      <a:pt x="160" y="108"/>
                    </a:lnTo>
                    <a:lnTo>
                      <a:pt x="151" y="101"/>
                    </a:lnTo>
                    <a:lnTo>
                      <a:pt x="143" y="95"/>
                    </a:lnTo>
                    <a:lnTo>
                      <a:pt x="103" y="57"/>
                    </a:lnTo>
                    <a:lnTo>
                      <a:pt x="58" y="10"/>
                    </a:lnTo>
                    <a:lnTo>
                      <a:pt x="68" y="29"/>
                    </a:lnTo>
                    <a:lnTo>
                      <a:pt x="58" y="10"/>
                    </a:lnTo>
                    <a:lnTo>
                      <a:pt x="53" y="6"/>
                    </a:lnTo>
                    <a:lnTo>
                      <a:pt x="46" y="2"/>
                    </a:lnTo>
                    <a:lnTo>
                      <a:pt x="39" y="1"/>
                    </a:lnTo>
                    <a:lnTo>
                      <a:pt x="33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5" y="7"/>
                    </a:lnTo>
                    <a:lnTo>
                      <a:pt x="11" y="10"/>
                    </a:lnTo>
                    <a:lnTo>
                      <a:pt x="7" y="16"/>
                    </a:lnTo>
                    <a:lnTo>
                      <a:pt x="4" y="22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3" y="45"/>
                    </a:lnTo>
                    <a:lnTo>
                      <a:pt x="6" y="52"/>
                    </a:lnTo>
                    <a:lnTo>
                      <a:pt x="11" y="5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5354640" y="4070520"/>
                <a:ext cx="114120" cy="241200"/>
              </a:xfrm>
              <a:custGeom>
                <a:avLst/>
                <a:gdLst/>
                <a:ahLst/>
                <a:rect l="l" t="t" r="r" b="b"/>
                <a:pathLst>
                  <a:path w="357" h="761">
                    <a:moveTo>
                      <a:pt x="320" y="0"/>
                    </a:moveTo>
                    <a:lnTo>
                      <a:pt x="292" y="20"/>
                    </a:lnTo>
                    <a:lnTo>
                      <a:pt x="260" y="91"/>
                    </a:lnTo>
                    <a:lnTo>
                      <a:pt x="230" y="153"/>
                    </a:lnTo>
                    <a:lnTo>
                      <a:pt x="202" y="204"/>
                    </a:lnTo>
                    <a:lnTo>
                      <a:pt x="177" y="249"/>
                    </a:lnTo>
                    <a:lnTo>
                      <a:pt x="165" y="267"/>
                    </a:lnTo>
                    <a:lnTo>
                      <a:pt x="154" y="284"/>
                    </a:lnTo>
                    <a:lnTo>
                      <a:pt x="142" y="300"/>
                    </a:lnTo>
                    <a:lnTo>
                      <a:pt x="132" y="312"/>
                    </a:lnTo>
                    <a:lnTo>
                      <a:pt x="123" y="325"/>
                    </a:lnTo>
                    <a:lnTo>
                      <a:pt x="114" y="335"/>
                    </a:lnTo>
                    <a:lnTo>
                      <a:pt x="106" y="343"/>
                    </a:lnTo>
                    <a:lnTo>
                      <a:pt x="98" y="351"/>
                    </a:lnTo>
                    <a:lnTo>
                      <a:pt x="91" y="357"/>
                    </a:lnTo>
                    <a:lnTo>
                      <a:pt x="84" y="361"/>
                    </a:lnTo>
                    <a:lnTo>
                      <a:pt x="79" y="365"/>
                    </a:lnTo>
                    <a:lnTo>
                      <a:pt x="74" y="367"/>
                    </a:lnTo>
                    <a:lnTo>
                      <a:pt x="71" y="369"/>
                    </a:lnTo>
                    <a:lnTo>
                      <a:pt x="67" y="371"/>
                    </a:lnTo>
                    <a:lnTo>
                      <a:pt x="65" y="371"/>
                    </a:lnTo>
                    <a:lnTo>
                      <a:pt x="65" y="371"/>
                    </a:lnTo>
                    <a:lnTo>
                      <a:pt x="62" y="371"/>
                    </a:lnTo>
                    <a:lnTo>
                      <a:pt x="60" y="371"/>
                    </a:lnTo>
                    <a:lnTo>
                      <a:pt x="59" y="371"/>
                    </a:lnTo>
                    <a:lnTo>
                      <a:pt x="60" y="371"/>
                    </a:lnTo>
                    <a:lnTo>
                      <a:pt x="57" y="367"/>
                    </a:lnTo>
                    <a:lnTo>
                      <a:pt x="2" y="403"/>
                    </a:lnTo>
                    <a:lnTo>
                      <a:pt x="1" y="401"/>
                    </a:lnTo>
                    <a:lnTo>
                      <a:pt x="9" y="422"/>
                    </a:lnTo>
                    <a:lnTo>
                      <a:pt x="14" y="439"/>
                    </a:lnTo>
                    <a:lnTo>
                      <a:pt x="20" y="462"/>
                    </a:lnTo>
                    <a:lnTo>
                      <a:pt x="27" y="492"/>
                    </a:lnTo>
                    <a:lnTo>
                      <a:pt x="36" y="529"/>
                    </a:lnTo>
                    <a:lnTo>
                      <a:pt x="46" y="574"/>
                    </a:lnTo>
                    <a:lnTo>
                      <a:pt x="55" y="626"/>
                    </a:lnTo>
                    <a:lnTo>
                      <a:pt x="66" y="689"/>
                    </a:lnTo>
                    <a:lnTo>
                      <a:pt x="77" y="761"/>
                    </a:lnTo>
                    <a:lnTo>
                      <a:pt x="144" y="750"/>
                    </a:lnTo>
                    <a:lnTo>
                      <a:pt x="132" y="677"/>
                    </a:lnTo>
                    <a:lnTo>
                      <a:pt x="122" y="615"/>
                    </a:lnTo>
                    <a:lnTo>
                      <a:pt x="112" y="561"/>
                    </a:lnTo>
                    <a:lnTo>
                      <a:pt x="101" y="514"/>
                    </a:lnTo>
                    <a:lnTo>
                      <a:pt x="93" y="477"/>
                    </a:lnTo>
                    <a:lnTo>
                      <a:pt x="85" y="445"/>
                    </a:lnTo>
                    <a:lnTo>
                      <a:pt x="79" y="420"/>
                    </a:lnTo>
                    <a:lnTo>
                      <a:pt x="72" y="399"/>
                    </a:lnTo>
                    <a:lnTo>
                      <a:pt x="63" y="375"/>
                    </a:lnTo>
                    <a:lnTo>
                      <a:pt x="54" y="360"/>
                    </a:lnTo>
                    <a:lnTo>
                      <a:pt x="0" y="403"/>
                    </a:lnTo>
                    <a:lnTo>
                      <a:pt x="9" y="415"/>
                    </a:lnTo>
                    <a:lnTo>
                      <a:pt x="20" y="424"/>
                    </a:lnTo>
                    <a:lnTo>
                      <a:pt x="33" y="432"/>
                    </a:lnTo>
                    <a:lnTo>
                      <a:pt x="49" y="437"/>
                    </a:lnTo>
                    <a:lnTo>
                      <a:pt x="64" y="438"/>
                    </a:lnTo>
                    <a:lnTo>
                      <a:pt x="75" y="438"/>
                    </a:lnTo>
                    <a:lnTo>
                      <a:pt x="84" y="436"/>
                    </a:lnTo>
                    <a:lnTo>
                      <a:pt x="95" y="432"/>
                    </a:lnTo>
                    <a:lnTo>
                      <a:pt x="104" y="429"/>
                    </a:lnTo>
                    <a:lnTo>
                      <a:pt x="113" y="423"/>
                    </a:lnTo>
                    <a:lnTo>
                      <a:pt x="123" y="417"/>
                    </a:lnTo>
                    <a:lnTo>
                      <a:pt x="133" y="409"/>
                    </a:lnTo>
                    <a:lnTo>
                      <a:pt x="142" y="401"/>
                    </a:lnTo>
                    <a:lnTo>
                      <a:pt x="153" y="391"/>
                    </a:lnTo>
                    <a:lnTo>
                      <a:pt x="164" y="381"/>
                    </a:lnTo>
                    <a:lnTo>
                      <a:pt x="174" y="368"/>
                    </a:lnTo>
                    <a:lnTo>
                      <a:pt x="186" y="355"/>
                    </a:lnTo>
                    <a:lnTo>
                      <a:pt x="197" y="339"/>
                    </a:lnTo>
                    <a:lnTo>
                      <a:pt x="209" y="323"/>
                    </a:lnTo>
                    <a:lnTo>
                      <a:pt x="221" y="304"/>
                    </a:lnTo>
                    <a:lnTo>
                      <a:pt x="235" y="283"/>
                    </a:lnTo>
                    <a:lnTo>
                      <a:pt x="261" y="237"/>
                    </a:lnTo>
                    <a:lnTo>
                      <a:pt x="290" y="182"/>
                    </a:lnTo>
                    <a:lnTo>
                      <a:pt x="320" y="120"/>
                    </a:lnTo>
                    <a:lnTo>
                      <a:pt x="353" y="48"/>
                    </a:lnTo>
                    <a:lnTo>
                      <a:pt x="326" y="67"/>
                    </a:lnTo>
                    <a:lnTo>
                      <a:pt x="353" y="48"/>
                    </a:lnTo>
                    <a:lnTo>
                      <a:pt x="357" y="40"/>
                    </a:lnTo>
                    <a:lnTo>
                      <a:pt x="357" y="33"/>
                    </a:lnTo>
                    <a:lnTo>
                      <a:pt x="357" y="26"/>
                    </a:lnTo>
                    <a:lnTo>
                      <a:pt x="355" y="20"/>
                    </a:lnTo>
                    <a:lnTo>
                      <a:pt x="351" y="15"/>
                    </a:lnTo>
                    <a:lnTo>
                      <a:pt x="347" y="10"/>
                    </a:lnTo>
                    <a:lnTo>
                      <a:pt x="342" y="6"/>
                    </a:lnTo>
                    <a:lnTo>
                      <a:pt x="336" y="3"/>
                    </a:lnTo>
                    <a:lnTo>
                      <a:pt x="331" y="1"/>
                    </a:lnTo>
                    <a:lnTo>
                      <a:pt x="324" y="0"/>
                    </a:lnTo>
                    <a:lnTo>
                      <a:pt x="318" y="0"/>
                    </a:lnTo>
                    <a:lnTo>
                      <a:pt x="312" y="1"/>
                    </a:lnTo>
                    <a:lnTo>
                      <a:pt x="305" y="3"/>
                    </a:lnTo>
                    <a:lnTo>
                      <a:pt x="301" y="8"/>
                    </a:lnTo>
                    <a:lnTo>
                      <a:pt x="296" y="13"/>
                    </a:lnTo>
                    <a:lnTo>
                      <a:pt x="292" y="20"/>
                    </a:lnTo>
                    <a:lnTo>
                      <a:pt x="32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5456160" y="3930480"/>
                <a:ext cx="174600" cy="160560"/>
              </a:xfrm>
              <a:custGeom>
                <a:avLst/>
                <a:gdLst/>
                <a:ahLst/>
                <a:rect l="l" t="t" r="r" b="b"/>
                <a:pathLst>
                  <a:path w="546" h="504">
                    <a:moveTo>
                      <a:pt x="545" y="34"/>
                    </a:moveTo>
                    <a:lnTo>
                      <a:pt x="480" y="22"/>
                    </a:lnTo>
                    <a:lnTo>
                      <a:pt x="465" y="59"/>
                    </a:lnTo>
                    <a:lnTo>
                      <a:pt x="448" y="97"/>
                    </a:lnTo>
                    <a:lnTo>
                      <a:pt x="429" y="133"/>
                    </a:lnTo>
                    <a:lnTo>
                      <a:pt x="408" y="170"/>
                    </a:lnTo>
                    <a:lnTo>
                      <a:pt x="398" y="187"/>
                    </a:lnTo>
                    <a:lnTo>
                      <a:pt x="387" y="204"/>
                    </a:lnTo>
                    <a:lnTo>
                      <a:pt x="374" y="220"/>
                    </a:lnTo>
                    <a:lnTo>
                      <a:pt x="363" y="237"/>
                    </a:lnTo>
                    <a:lnTo>
                      <a:pt x="350" y="252"/>
                    </a:lnTo>
                    <a:lnTo>
                      <a:pt x="337" y="268"/>
                    </a:lnTo>
                    <a:lnTo>
                      <a:pt x="323" y="283"/>
                    </a:lnTo>
                    <a:lnTo>
                      <a:pt x="309" y="296"/>
                    </a:lnTo>
                    <a:lnTo>
                      <a:pt x="294" y="310"/>
                    </a:lnTo>
                    <a:lnTo>
                      <a:pt x="278" y="324"/>
                    </a:lnTo>
                    <a:lnTo>
                      <a:pt x="264" y="336"/>
                    </a:lnTo>
                    <a:lnTo>
                      <a:pt x="247" y="349"/>
                    </a:lnTo>
                    <a:lnTo>
                      <a:pt x="229" y="360"/>
                    </a:lnTo>
                    <a:lnTo>
                      <a:pt x="212" y="371"/>
                    </a:lnTo>
                    <a:lnTo>
                      <a:pt x="194" y="381"/>
                    </a:lnTo>
                    <a:lnTo>
                      <a:pt x="176" y="390"/>
                    </a:lnTo>
                    <a:lnTo>
                      <a:pt x="156" y="399"/>
                    </a:lnTo>
                    <a:lnTo>
                      <a:pt x="136" y="407"/>
                    </a:lnTo>
                    <a:lnTo>
                      <a:pt x="115" y="414"/>
                    </a:lnTo>
                    <a:lnTo>
                      <a:pt x="94" y="421"/>
                    </a:lnTo>
                    <a:lnTo>
                      <a:pt x="71" y="425"/>
                    </a:lnTo>
                    <a:lnTo>
                      <a:pt x="48" y="430"/>
                    </a:lnTo>
                    <a:lnTo>
                      <a:pt x="24" y="435"/>
                    </a:lnTo>
                    <a:lnTo>
                      <a:pt x="0" y="437"/>
                    </a:lnTo>
                    <a:lnTo>
                      <a:pt x="6" y="504"/>
                    </a:lnTo>
                    <a:lnTo>
                      <a:pt x="33" y="501"/>
                    </a:lnTo>
                    <a:lnTo>
                      <a:pt x="60" y="497"/>
                    </a:lnTo>
                    <a:lnTo>
                      <a:pt x="86" y="492"/>
                    </a:lnTo>
                    <a:lnTo>
                      <a:pt x="111" y="486"/>
                    </a:lnTo>
                    <a:lnTo>
                      <a:pt x="136" y="478"/>
                    </a:lnTo>
                    <a:lnTo>
                      <a:pt x="159" y="470"/>
                    </a:lnTo>
                    <a:lnTo>
                      <a:pt x="182" y="461"/>
                    </a:lnTo>
                    <a:lnTo>
                      <a:pt x="204" y="452"/>
                    </a:lnTo>
                    <a:lnTo>
                      <a:pt x="226" y="440"/>
                    </a:lnTo>
                    <a:lnTo>
                      <a:pt x="247" y="429"/>
                    </a:lnTo>
                    <a:lnTo>
                      <a:pt x="266" y="416"/>
                    </a:lnTo>
                    <a:lnTo>
                      <a:pt x="285" y="404"/>
                    </a:lnTo>
                    <a:lnTo>
                      <a:pt x="305" y="390"/>
                    </a:lnTo>
                    <a:lnTo>
                      <a:pt x="322" y="375"/>
                    </a:lnTo>
                    <a:lnTo>
                      <a:pt x="339" y="360"/>
                    </a:lnTo>
                    <a:lnTo>
                      <a:pt x="356" y="346"/>
                    </a:lnTo>
                    <a:lnTo>
                      <a:pt x="372" y="330"/>
                    </a:lnTo>
                    <a:lnTo>
                      <a:pt x="387" y="312"/>
                    </a:lnTo>
                    <a:lnTo>
                      <a:pt x="402" y="295"/>
                    </a:lnTo>
                    <a:lnTo>
                      <a:pt x="416" y="278"/>
                    </a:lnTo>
                    <a:lnTo>
                      <a:pt x="429" y="260"/>
                    </a:lnTo>
                    <a:lnTo>
                      <a:pt x="443" y="242"/>
                    </a:lnTo>
                    <a:lnTo>
                      <a:pt x="454" y="223"/>
                    </a:lnTo>
                    <a:lnTo>
                      <a:pt x="467" y="204"/>
                    </a:lnTo>
                    <a:lnTo>
                      <a:pt x="488" y="165"/>
                    </a:lnTo>
                    <a:lnTo>
                      <a:pt x="509" y="126"/>
                    </a:lnTo>
                    <a:lnTo>
                      <a:pt x="527" y="87"/>
                    </a:lnTo>
                    <a:lnTo>
                      <a:pt x="543" y="45"/>
                    </a:lnTo>
                    <a:lnTo>
                      <a:pt x="478" y="34"/>
                    </a:lnTo>
                    <a:lnTo>
                      <a:pt x="543" y="45"/>
                    </a:lnTo>
                    <a:lnTo>
                      <a:pt x="545" y="39"/>
                    </a:lnTo>
                    <a:lnTo>
                      <a:pt x="546" y="31"/>
                    </a:lnTo>
                    <a:lnTo>
                      <a:pt x="545" y="25"/>
                    </a:lnTo>
                    <a:lnTo>
                      <a:pt x="543" y="18"/>
                    </a:lnTo>
                    <a:lnTo>
                      <a:pt x="540" y="14"/>
                    </a:lnTo>
                    <a:lnTo>
                      <a:pt x="535" y="9"/>
                    </a:lnTo>
                    <a:lnTo>
                      <a:pt x="530" y="6"/>
                    </a:lnTo>
                    <a:lnTo>
                      <a:pt x="525" y="2"/>
                    </a:lnTo>
                    <a:lnTo>
                      <a:pt x="518" y="1"/>
                    </a:lnTo>
                    <a:lnTo>
                      <a:pt x="512" y="0"/>
                    </a:lnTo>
                    <a:lnTo>
                      <a:pt x="505" y="0"/>
                    </a:lnTo>
                    <a:lnTo>
                      <a:pt x="500" y="2"/>
                    </a:lnTo>
                    <a:lnTo>
                      <a:pt x="494" y="4"/>
                    </a:lnTo>
                    <a:lnTo>
                      <a:pt x="488" y="9"/>
                    </a:lnTo>
                    <a:lnTo>
                      <a:pt x="484" y="15"/>
                    </a:lnTo>
                    <a:lnTo>
                      <a:pt x="480" y="22"/>
                    </a:lnTo>
                    <a:lnTo>
                      <a:pt x="545" y="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5950080" y="3933720"/>
                <a:ext cx="301320" cy="384120"/>
              </a:xfrm>
              <a:custGeom>
                <a:avLst/>
                <a:gdLst/>
                <a:ahLst/>
                <a:rect l="l" t="t" r="r" b="b"/>
                <a:pathLst>
                  <a:path w="951" h="1209">
                    <a:moveTo>
                      <a:pt x="685" y="12"/>
                    </a:moveTo>
                    <a:lnTo>
                      <a:pt x="707" y="25"/>
                    </a:lnTo>
                    <a:lnTo>
                      <a:pt x="727" y="40"/>
                    </a:lnTo>
                    <a:lnTo>
                      <a:pt x="747" y="55"/>
                    </a:lnTo>
                    <a:lnTo>
                      <a:pt x="765" y="71"/>
                    </a:lnTo>
                    <a:lnTo>
                      <a:pt x="782" y="88"/>
                    </a:lnTo>
                    <a:lnTo>
                      <a:pt x="798" y="105"/>
                    </a:lnTo>
                    <a:lnTo>
                      <a:pt x="814" y="122"/>
                    </a:lnTo>
                    <a:lnTo>
                      <a:pt x="827" y="140"/>
                    </a:lnTo>
                    <a:lnTo>
                      <a:pt x="840" y="160"/>
                    </a:lnTo>
                    <a:lnTo>
                      <a:pt x="853" y="178"/>
                    </a:lnTo>
                    <a:lnTo>
                      <a:pt x="864" y="199"/>
                    </a:lnTo>
                    <a:lnTo>
                      <a:pt x="874" y="218"/>
                    </a:lnTo>
                    <a:lnTo>
                      <a:pt x="884" y="240"/>
                    </a:lnTo>
                    <a:lnTo>
                      <a:pt x="892" y="260"/>
                    </a:lnTo>
                    <a:lnTo>
                      <a:pt x="900" y="282"/>
                    </a:lnTo>
                    <a:lnTo>
                      <a:pt x="908" y="304"/>
                    </a:lnTo>
                    <a:lnTo>
                      <a:pt x="914" y="326"/>
                    </a:lnTo>
                    <a:lnTo>
                      <a:pt x="920" y="349"/>
                    </a:lnTo>
                    <a:lnTo>
                      <a:pt x="926" y="372"/>
                    </a:lnTo>
                    <a:lnTo>
                      <a:pt x="930" y="396"/>
                    </a:lnTo>
                    <a:lnTo>
                      <a:pt x="938" y="444"/>
                    </a:lnTo>
                    <a:lnTo>
                      <a:pt x="944" y="493"/>
                    </a:lnTo>
                    <a:lnTo>
                      <a:pt x="947" y="543"/>
                    </a:lnTo>
                    <a:lnTo>
                      <a:pt x="949" y="595"/>
                    </a:lnTo>
                    <a:lnTo>
                      <a:pt x="951" y="647"/>
                    </a:lnTo>
                    <a:lnTo>
                      <a:pt x="951" y="699"/>
                    </a:lnTo>
                    <a:lnTo>
                      <a:pt x="944" y="721"/>
                    </a:lnTo>
                    <a:lnTo>
                      <a:pt x="937" y="742"/>
                    </a:lnTo>
                    <a:lnTo>
                      <a:pt x="929" y="763"/>
                    </a:lnTo>
                    <a:lnTo>
                      <a:pt x="920" y="784"/>
                    </a:lnTo>
                    <a:lnTo>
                      <a:pt x="910" y="803"/>
                    </a:lnTo>
                    <a:lnTo>
                      <a:pt x="899" y="824"/>
                    </a:lnTo>
                    <a:lnTo>
                      <a:pt x="887" y="843"/>
                    </a:lnTo>
                    <a:lnTo>
                      <a:pt x="874" y="863"/>
                    </a:lnTo>
                    <a:lnTo>
                      <a:pt x="861" y="881"/>
                    </a:lnTo>
                    <a:lnTo>
                      <a:pt x="846" y="900"/>
                    </a:lnTo>
                    <a:lnTo>
                      <a:pt x="831" y="919"/>
                    </a:lnTo>
                    <a:lnTo>
                      <a:pt x="815" y="936"/>
                    </a:lnTo>
                    <a:lnTo>
                      <a:pt x="798" y="954"/>
                    </a:lnTo>
                    <a:lnTo>
                      <a:pt x="780" y="971"/>
                    </a:lnTo>
                    <a:lnTo>
                      <a:pt x="761" y="988"/>
                    </a:lnTo>
                    <a:lnTo>
                      <a:pt x="742" y="1004"/>
                    </a:lnTo>
                    <a:lnTo>
                      <a:pt x="723" y="1020"/>
                    </a:lnTo>
                    <a:lnTo>
                      <a:pt x="702" y="1036"/>
                    </a:lnTo>
                    <a:lnTo>
                      <a:pt x="680" y="1051"/>
                    </a:lnTo>
                    <a:lnTo>
                      <a:pt x="659" y="1066"/>
                    </a:lnTo>
                    <a:lnTo>
                      <a:pt x="637" y="1081"/>
                    </a:lnTo>
                    <a:lnTo>
                      <a:pt x="614" y="1094"/>
                    </a:lnTo>
                    <a:lnTo>
                      <a:pt x="590" y="1108"/>
                    </a:lnTo>
                    <a:lnTo>
                      <a:pt x="566" y="1120"/>
                    </a:lnTo>
                    <a:lnTo>
                      <a:pt x="542" y="1134"/>
                    </a:lnTo>
                    <a:lnTo>
                      <a:pt x="517" y="1146"/>
                    </a:lnTo>
                    <a:lnTo>
                      <a:pt x="492" y="1158"/>
                    </a:lnTo>
                    <a:lnTo>
                      <a:pt x="466" y="1168"/>
                    </a:lnTo>
                    <a:lnTo>
                      <a:pt x="440" y="1180"/>
                    </a:lnTo>
                    <a:lnTo>
                      <a:pt x="414" y="1190"/>
                    </a:lnTo>
                    <a:lnTo>
                      <a:pt x="386" y="1200"/>
                    </a:lnTo>
                    <a:lnTo>
                      <a:pt x="359" y="1209"/>
                    </a:lnTo>
                    <a:lnTo>
                      <a:pt x="307" y="1148"/>
                    </a:lnTo>
                    <a:lnTo>
                      <a:pt x="259" y="1091"/>
                    </a:lnTo>
                    <a:lnTo>
                      <a:pt x="214" y="1036"/>
                    </a:lnTo>
                    <a:lnTo>
                      <a:pt x="174" y="986"/>
                    </a:lnTo>
                    <a:lnTo>
                      <a:pt x="156" y="961"/>
                    </a:lnTo>
                    <a:lnTo>
                      <a:pt x="139" y="937"/>
                    </a:lnTo>
                    <a:lnTo>
                      <a:pt x="123" y="913"/>
                    </a:lnTo>
                    <a:lnTo>
                      <a:pt x="108" y="889"/>
                    </a:lnTo>
                    <a:lnTo>
                      <a:pt x="93" y="866"/>
                    </a:lnTo>
                    <a:lnTo>
                      <a:pt x="81" y="843"/>
                    </a:lnTo>
                    <a:lnTo>
                      <a:pt x="68" y="819"/>
                    </a:lnTo>
                    <a:lnTo>
                      <a:pt x="57" y="796"/>
                    </a:lnTo>
                    <a:lnTo>
                      <a:pt x="47" y="772"/>
                    </a:lnTo>
                    <a:lnTo>
                      <a:pt x="37" y="750"/>
                    </a:lnTo>
                    <a:lnTo>
                      <a:pt x="29" y="726"/>
                    </a:lnTo>
                    <a:lnTo>
                      <a:pt x="23" y="701"/>
                    </a:lnTo>
                    <a:lnTo>
                      <a:pt x="16" y="677"/>
                    </a:lnTo>
                    <a:lnTo>
                      <a:pt x="11" y="650"/>
                    </a:lnTo>
                    <a:lnTo>
                      <a:pt x="7" y="624"/>
                    </a:lnTo>
                    <a:lnTo>
                      <a:pt x="3" y="598"/>
                    </a:lnTo>
                    <a:lnTo>
                      <a:pt x="1" y="571"/>
                    </a:lnTo>
                    <a:lnTo>
                      <a:pt x="0" y="542"/>
                    </a:lnTo>
                    <a:lnTo>
                      <a:pt x="0" y="512"/>
                    </a:lnTo>
                    <a:lnTo>
                      <a:pt x="0" y="482"/>
                    </a:lnTo>
                    <a:lnTo>
                      <a:pt x="2" y="451"/>
                    </a:lnTo>
                    <a:lnTo>
                      <a:pt x="4" y="418"/>
                    </a:lnTo>
                    <a:lnTo>
                      <a:pt x="8" y="383"/>
                    </a:lnTo>
                    <a:lnTo>
                      <a:pt x="12" y="347"/>
                    </a:lnTo>
                    <a:lnTo>
                      <a:pt x="25" y="322"/>
                    </a:lnTo>
                    <a:lnTo>
                      <a:pt x="39" y="298"/>
                    </a:lnTo>
                    <a:lnTo>
                      <a:pt x="52" y="275"/>
                    </a:lnTo>
                    <a:lnTo>
                      <a:pt x="67" y="252"/>
                    </a:lnTo>
                    <a:lnTo>
                      <a:pt x="82" y="231"/>
                    </a:lnTo>
                    <a:lnTo>
                      <a:pt x="97" y="210"/>
                    </a:lnTo>
                    <a:lnTo>
                      <a:pt x="113" y="191"/>
                    </a:lnTo>
                    <a:lnTo>
                      <a:pt x="130" y="172"/>
                    </a:lnTo>
                    <a:lnTo>
                      <a:pt x="147" y="155"/>
                    </a:lnTo>
                    <a:lnTo>
                      <a:pt x="164" y="138"/>
                    </a:lnTo>
                    <a:lnTo>
                      <a:pt x="182" y="122"/>
                    </a:lnTo>
                    <a:lnTo>
                      <a:pt x="202" y="107"/>
                    </a:lnTo>
                    <a:lnTo>
                      <a:pt x="221" y="94"/>
                    </a:lnTo>
                    <a:lnTo>
                      <a:pt x="240" y="81"/>
                    </a:lnTo>
                    <a:lnTo>
                      <a:pt x="261" y="69"/>
                    </a:lnTo>
                    <a:lnTo>
                      <a:pt x="281" y="58"/>
                    </a:lnTo>
                    <a:lnTo>
                      <a:pt x="303" y="48"/>
                    </a:lnTo>
                    <a:lnTo>
                      <a:pt x="325" y="39"/>
                    </a:lnTo>
                    <a:lnTo>
                      <a:pt x="346" y="31"/>
                    </a:lnTo>
                    <a:lnTo>
                      <a:pt x="369" y="24"/>
                    </a:lnTo>
                    <a:lnTo>
                      <a:pt x="393" y="17"/>
                    </a:lnTo>
                    <a:lnTo>
                      <a:pt x="417" y="12"/>
                    </a:lnTo>
                    <a:lnTo>
                      <a:pt x="441" y="8"/>
                    </a:lnTo>
                    <a:lnTo>
                      <a:pt x="466" y="5"/>
                    </a:lnTo>
                    <a:lnTo>
                      <a:pt x="492" y="2"/>
                    </a:lnTo>
                    <a:lnTo>
                      <a:pt x="517" y="0"/>
                    </a:lnTo>
                    <a:lnTo>
                      <a:pt x="545" y="0"/>
                    </a:lnTo>
                    <a:lnTo>
                      <a:pt x="571" y="0"/>
                    </a:lnTo>
                    <a:lnTo>
                      <a:pt x="599" y="1"/>
                    </a:lnTo>
                    <a:lnTo>
                      <a:pt x="627" y="4"/>
                    </a:lnTo>
                    <a:lnTo>
                      <a:pt x="655" y="7"/>
                    </a:lnTo>
                    <a:lnTo>
                      <a:pt x="68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6161040" y="3929040"/>
                <a:ext cx="101520" cy="238320"/>
              </a:xfrm>
              <a:custGeom>
                <a:avLst/>
                <a:gdLst/>
                <a:ahLst/>
                <a:rect l="l" t="t" r="r" b="b"/>
                <a:pathLst>
                  <a:path w="316" h="751">
                    <a:moveTo>
                      <a:pt x="315" y="724"/>
                    </a:moveTo>
                    <a:lnTo>
                      <a:pt x="316" y="716"/>
                    </a:lnTo>
                    <a:lnTo>
                      <a:pt x="316" y="664"/>
                    </a:lnTo>
                    <a:lnTo>
                      <a:pt x="315" y="612"/>
                    </a:lnTo>
                    <a:lnTo>
                      <a:pt x="312" y="559"/>
                    </a:lnTo>
                    <a:lnTo>
                      <a:pt x="309" y="508"/>
                    </a:lnTo>
                    <a:lnTo>
                      <a:pt x="303" y="456"/>
                    </a:lnTo>
                    <a:lnTo>
                      <a:pt x="295" y="407"/>
                    </a:lnTo>
                    <a:lnTo>
                      <a:pt x="291" y="382"/>
                    </a:lnTo>
                    <a:lnTo>
                      <a:pt x="285" y="358"/>
                    </a:lnTo>
                    <a:lnTo>
                      <a:pt x="279" y="334"/>
                    </a:lnTo>
                    <a:lnTo>
                      <a:pt x="272" y="311"/>
                    </a:lnTo>
                    <a:lnTo>
                      <a:pt x="264" y="287"/>
                    </a:lnTo>
                    <a:lnTo>
                      <a:pt x="256" y="265"/>
                    </a:lnTo>
                    <a:lnTo>
                      <a:pt x="247" y="243"/>
                    </a:lnTo>
                    <a:lnTo>
                      <a:pt x="237" y="220"/>
                    </a:lnTo>
                    <a:lnTo>
                      <a:pt x="226" y="200"/>
                    </a:lnTo>
                    <a:lnTo>
                      <a:pt x="213" y="178"/>
                    </a:lnTo>
                    <a:lnTo>
                      <a:pt x="201" y="157"/>
                    </a:lnTo>
                    <a:lnTo>
                      <a:pt x="187" y="137"/>
                    </a:lnTo>
                    <a:lnTo>
                      <a:pt x="171" y="119"/>
                    </a:lnTo>
                    <a:lnTo>
                      <a:pt x="155" y="99"/>
                    </a:lnTo>
                    <a:lnTo>
                      <a:pt x="138" y="81"/>
                    </a:lnTo>
                    <a:lnTo>
                      <a:pt x="120" y="63"/>
                    </a:lnTo>
                    <a:lnTo>
                      <a:pt x="100" y="47"/>
                    </a:lnTo>
                    <a:lnTo>
                      <a:pt x="80" y="30"/>
                    </a:lnTo>
                    <a:lnTo>
                      <a:pt x="58" y="15"/>
                    </a:lnTo>
                    <a:lnTo>
                      <a:pt x="34" y="0"/>
                    </a:lnTo>
                    <a:lnTo>
                      <a:pt x="0" y="57"/>
                    </a:lnTo>
                    <a:lnTo>
                      <a:pt x="19" y="71"/>
                    </a:lnTo>
                    <a:lnTo>
                      <a:pt x="39" y="84"/>
                    </a:lnTo>
                    <a:lnTo>
                      <a:pt x="57" y="98"/>
                    </a:lnTo>
                    <a:lnTo>
                      <a:pt x="74" y="113"/>
                    </a:lnTo>
                    <a:lnTo>
                      <a:pt x="90" y="129"/>
                    </a:lnTo>
                    <a:lnTo>
                      <a:pt x="105" y="144"/>
                    </a:lnTo>
                    <a:lnTo>
                      <a:pt x="120" y="161"/>
                    </a:lnTo>
                    <a:lnTo>
                      <a:pt x="132" y="178"/>
                    </a:lnTo>
                    <a:lnTo>
                      <a:pt x="145" y="195"/>
                    </a:lnTo>
                    <a:lnTo>
                      <a:pt x="156" y="213"/>
                    </a:lnTo>
                    <a:lnTo>
                      <a:pt x="166" y="232"/>
                    </a:lnTo>
                    <a:lnTo>
                      <a:pt x="177" y="250"/>
                    </a:lnTo>
                    <a:lnTo>
                      <a:pt x="185" y="269"/>
                    </a:lnTo>
                    <a:lnTo>
                      <a:pt x="194" y="290"/>
                    </a:lnTo>
                    <a:lnTo>
                      <a:pt x="201" y="310"/>
                    </a:lnTo>
                    <a:lnTo>
                      <a:pt x="207" y="331"/>
                    </a:lnTo>
                    <a:lnTo>
                      <a:pt x="214" y="353"/>
                    </a:lnTo>
                    <a:lnTo>
                      <a:pt x="220" y="374"/>
                    </a:lnTo>
                    <a:lnTo>
                      <a:pt x="224" y="396"/>
                    </a:lnTo>
                    <a:lnTo>
                      <a:pt x="229" y="419"/>
                    </a:lnTo>
                    <a:lnTo>
                      <a:pt x="236" y="465"/>
                    </a:lnTo>
                    <a:lnTo>
                      <a:pt x="242" y="513"/>
                    </a:lnTo>
                    <a:lnTo>
                      <a:pt x="245" y="562"/>
                    </a:lnTo>
                    <a:lnTo>
                      <a:pt x="247" y="613"/>
                    </a:lnTo>
                    <a:lnTo>
                      <a:pt x="248" y="664"/>
                    </a:lnTo>
                    <a:lnTo>
                      <a:pt x="248" y="716"/>
                    </a:lnTo>
                    <a:lnTo>
                      <a:pt x="250" y="708"/>
                    </a:lnTo>
                    <a:lnTo>
                      <a:pt x="248" y="716"/>
                    </a:lnTo>
                    <a:lnTo>
                      <a:pt x="250" y="724"/>
                    </a:lnTo>
                    <a:lnTo>
                      <a:pt x="252" y="731"/>
                    </a:lnTo>
                    <a:lnTo>
                      <a:pt x="254" y="737"/>
                    </a:lnTo>
                    <a:lnTo>
                      <a:pt x="259" y="742"/>
                    </a:lnTo>
                    <a:lnTo>
                      <a:pt x="264" y="745"/>
                    </a:lnTo>
                    <a:lnTo>
                      <a:pt x="270" y="748"/>
                    </a:lnTo>
                    <a:lnTo>
                      <a:pt x="276" y="750"/>
                    </a:lnTo>
                    <a:lnTo>
                      <a:pt x="281" y="751"/>
                    </a:lnTo>
                    <a:lnTo>
                      <a:pt x="288" y="750"/>
                    </a:lnTo>
                    <a:lnTo>
                      <a:pt x="294" y="748"/>
                    </a:lnTo>
                    <a:lnTo>
                      <a:pt x="300" y="746"/>
                    </a:lnTo>
                    <a:lnTo>
                      <a:pt x="305" y="742"/>
                    </a:lnTo>
                    <a:lnTo>
                      <a:pt x="310" y="737"/>
                    </a:lnTo>
                    <a:lnTo>
                      <a:pt x="313" y="731"/>
                    </a:lnTo>
                    <a:lnTo>
                      <a:pt x="315" y="724"/>
                    </a:lnTo>
                    <a:lnTo>
                      <a:pt x="316" y="716"/>
                    </a:lnTo>
                    <a:lnTo>
                      <a:pt x="315" y="72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6053040" y="4154400"/>
                <a:ext cx="208080" cy="174600"/>
              </a:xfrm>
              <a:custGeom>
                <a:avLst/>
                <a:gdLst/>
                <a:ahLst/>
                <a:rect l="l" t="t" r="r" b="b"/>
                <a:pathLst>
                  <a:path w="658" h="552">
                    <a:moveTo>
                      <a:pt x="9" y="540"/>
                    </a:moveTo>
                    <a:lnTo>
                      <a:pt x="44" y="550"/>
                    </a:lnTo>
                    <a:lnTo>
                      <a:pt x="73" y="540"/>
                    </a:lnTo>
                    <a:lnTo>
                      <a:pt x="100" y="531"/>
                    </a:lnTo>
                    <a:lnTo>
                      <a:pt x="127" y="520"/>
                    </a:lnTo>
                    <a:lnTo>
                      <a:pt x="154" y="509"/>
                    </a:lnTo>
                    <a:lnTo>
                      <a:pt x="181" y="498"/>
                    </a:lnTo>
                    <a:lnTo>
                      <a:pt x="206" y="485"/>
                    </a:lnTo>
                    <a:lnTo>
                      <a:pt x="232" y="473"/>
                    </a:lnTo>
                    <a:lnTo>
                      <a:pt x="257" y="460"/>
                    </a:lnTo>
                    <a:lnTo>
                      <a:pt x="282" y="447"/>
                    </a:lnTo>
                    <a:lnTo>
                      <a:pt x="306" y="433"/>
                    </a:lnTo>
                    <a:lnTo>
                      <a:pt x="329" y="418"/>
                    </a:lnTo>
                    <a:lnTo>
                      <a:pt x="353" y="403"/>
                    </a:lnTo>
                    <a:lnTo>
                      <a:pt x="375" y="388"/>
                    </a:lnTo>
                    <a:lnTo>
                      <a:pt x="398" y="372"/>
                    </a:lnTo>
                    <a:lnTo>
                      <a:pt x="418" y="355"/>
                    </a:lnTo>
                    <a:lnTo>
                      <a:pt x="439" y="339"/>
                    </a:lnTo>
                    <a:lnTo>
                      <a:pt x="459" y="322"/>
                    </a:lnTo>
                    <a:lnTo>
                      <a:pt x="479" y="304"/>
                    </a:lnTo>
                    <a:lnTo>
                      <a:pt x="497" y="287"/>
                    </a:lnTo>
                    <a:lnTo>
                      <a:pt x="514" y="269"/>
                    </a:lnTo>
                    <a:lnTo>
                      <a:pt x="531" y="249"/>
                    </a:lnTo>
                    <a:lnTo>
                      <a:pt x="547" y="230"/>
                    </a:lnTo>
                    <a:lnTo>
                      <a:pt x="563" y="210"/>
                    </a:lnTo>
                    <a:lnTo>
                      <a:pt x="578" y="191"/>
                    </a:lnTo>
                    <a:lnTo>
                      <a:pt x="590" y="170"/>
                    </a:lnTo>
                    <a:lnTo>
                      <a:pt x="603" y="150"/>
                    </a:lnTo>
                    <a:lnTo>
                      <a:pt x="615" y="128"/>
                    </a:lnTo>
                    <a:lnTo>
                      <a:pt x="626" y="107"/>
                    </a:lnTo>
                    <a:lnTo>
                      <a:pt x="635" y="85"/>
                    </a:lnTo>
                    <a:lnTo>
                      <a:pt x="644" y="62"/>
                    </a:lnTo>
                    <a:lnTo>
                      <a:pt x="652" y="40"/>
                    </a:lnTo>
                    <a:lnTo>
                      <a:pt x="658" y="16"/>
                    </a:lnTo>
                    <a:lnTo>
                      <a:pt x="593" y="0"/>
                    </a:lnTo>
                    <a:lnTo>
                      <a:pt x="587" y="20"/>
                    </a:lnTo>
                    <a:lnTo>
                      <a:pt x="580" y="39"/>
                    </a:lnTo>
                    <a:lnTo>
                      <a:pt x="573" y="59"/>
                    </a:lnTo>
                    <a:lnTo>
                      <a:pt x="565" y="78"/>
                    </a:lnTo>
                    <a:lnTo>
                      <a:pt x="555" y="97"/>
                    </a:lnTo>
                    <a:lnTo>
                      <a:pt x="545" y="116"/>
                    </a:lnTo>
                    <a:lnTo>
                      <a:pt x="533" y="134"/>
                    </a:lnTo>
                    <a:lnTo>
                      <a:pt x="522" y="152"/>
                    </a:lnTo>
                    <a:lnTo>
                      <a:pt x="509" y="170"/>
                    </a:lnTo>
                    <a:lnTo>
                      <a:pt x="495" y="188"/>
                    </a:lnTo>
                    <a:lnTo>
                      <a:pt x="481" y="205"/>
                    </a:lnTo>
                    <a:lnTo>
                      <a:pt x="465" y="222"/>
                    </a:lnTo>
                    <a:lnTo>
                      <a:pt x="449" y="239"/>
                    </a:lnTo>
                    <a:lnTo>
                      <a:pt x="432" y="255"/>
                    </a:lnTo>
                    <a:lnTo>
                      <a:pt x="415" y="272"/>
                    </a:lnTo>
                    <a:lnTo>
                      <a:pt x="396" y="287"/>
                    </a:lnTo>
                    <a:lnTo>
                      <a:pt x="377" y="303"/>
                    </a:lnTo>
                    <a:lnTo>
                      <a:pt x="357" y="318"/>
                    </a:lnTo>
                    <a:lnTo>
                      <a:pt x="337" y="332"/>
                    </a:lnTo>
                    <a:lnTo>
                      <a:pt x="316" y="347"/>
                    </a:lnTo>
                    <a:lnTo>
                      <a:pt x="294" y="361"/>
                    </a:lnTo>
                    <a:lnTo>
                      <a:pt x="272" y="375"/>
                    </a:lnTo>
                    <a:lnTo>
                      <a:pt x="249" y="387"/>
                    </a:lnTo>
                    <a:lnTo>
                      <a:pt x="225" y="400"/>
                    </a:lnTo>
                    <a:lnTo>
                      <a:pt x="202" y="412"/>
                    </a:lnTo>
                    <a:lnTo>
                      <a:pt x="178" y="425"/>
                    </a:lnTo>
                    <a:lnTo>
                      <a:pt x="153" y="436"/>
                    </a:lnTo>
                    <a:lnTo>
                      <a:pt x="127" y="447"/>
                    </a:lnTo>
                    <a:lnTo>
                      <a:pt x="102" y="458"/>
                    </a:lnTo>
                    <a:lnTo>
                      <a:pt x="76" y="467"/>
                    </a:lnTo>
                    <a:lnTo>
                      <a:pt x="50" y="477"/>
                    </a:lnTo>
                    <a:lnTo>
                      <a:pt x="24" y="486"/>
                    </a:lnTo>
                    <a:lnTo>
                      <a:pt x="60" y="496"/>
                    </a:lnTo>
                    <a:lnTo>
                      <a:pt x="24" y="486"/>
                    </a:lnTo>
                    <a:lnTo>
                      <a:pt x="17" y="489"/>
                    </a:lnTo>
                    <a:lnTo>
                      <a:pt x="10" y="493"/>
                    </a:lnTo>
                    <a:lnTo>
                      <a:pt x="7" y="498"/>
                    </a:lnTo>
                    <a:lnTo>
                      <a:pt x="3" y="504"/>
                    </a:lnTo>
                    <a:lnTo>
                      <a:pt x="1" y="510"/>
                    </a:lnTo>
                    <a:lnTo>
                      <a:pt x="0" y="516"/>
                    </a:lnTo>
                    <a:lnTo>
                      <a:pt x="1" y="523"/>
                    </a:lnTo>
                    <a:lnTo>
                      <a:pt x="2" y="529"/>
                    </a:lnTo>
                    <a:lnTo>
                      <a:pt x="4" y="534"/>
                    </a:lnTo>
                    <a:lnTo>
                      <a:pt x="8" y="540"/>
                    </a:lnTo>
                    <a:lnTo>
                      <a:pt x="12" y="545"/>
                    </a:lnTo>
                    <a:lnTo>
                      <a:pt x="17" y="548"/>
                    </a:lnTo>
                    <a:lnTo>
                      <a:pt x="24" y="550"/>
                    </a:lnTo>
                    <a:lnTo>
                      <a:pt x="29" y="552"/>
                    </a:lnTo>
                    <a:lnTo>
                      <a:pt x="37" y="552"/>
                    </a:lnTo>
                    <a:lnTo>
                      <a:pt x="44" y="550"/>
                    </a:lnTo>
                    <a:lnTo>
                      <a:pt x="9" y="5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5938920" y="4033800"/>
                <a:ext cx="133200" cy="291960"/>
              </a:xfrm>
              <a:custGeom>
                <a:avLst/>
                <a:gdLst/>
                <a:ahLst/>
                <a:rect l="l" t="t" r="r" b="b"/>
                <a:pathLst>
                  <a:path w="419" h="917">
                    <a:moveTo>
                      <a:pt x="16" y="18"/>
                    </a:moveTo>
                    <a:lnTo>
                      <a:pt x="12" y="28"/>
                    </a:lnTo>
                    <a:lnTo>
                      <a:pt x="8" y="65"/>
                    </a:lnTo>
                    <a:lnTo>
                      <a:pt x="4" y="100"/>
                    </a:lnTo>
                    <a:lnTo>
                      <a:pt x="2" y="134"/>
                    </a:lnTo>
                    <a:lnTo>
                      <a:pt x="1" y="166"/>
                    </a:lnTo>
                    <a:lnTo>
                      <a:pt x="0" y="198"/>
                    </a:lnTo>
                    <a:lnTo>
                      <a:pt x="1" y="229"/>
                    </a:lnTo>
                    <a:lnTo>
                      <a:pt x="2" y="259"/>
                    </a:lnTo>
                    <a:lnTo>
                      <a:pt x="4" y="287"/>
                    </a:lnTo>
                    <a:lnTo>
                      <a:pt x="8" y="316"/>
                    </a:lnTo>
                    <a:lnTo>
                      <a:pt x="12" y="343"/>
                    </a:lnTo>
                    <a:lnTo>
                      <a:pt x="18" y="369"/>
                    </a:lnTo>
                    <a:lnTo>
                      <a:pt x="24" y="396"/>
                    </a:lnTo>
                    <a:lnTo>
                      <a:pt x="32" y="422"/>
                    </a:lnTo>
                    <a:lnTo>
                      <a:pt x="40" y="447"/>
                    </a:lnTo>
                    <a:lnTo>
                      <a:pt x="50" y="472"/>
                    </a:lnTo>
                    <a:lnTo>
                      <a:pt x="60" y="496"/>
                    </a:lnTo>
                    <a:lnTo>
                      <a:pt x="73" y="520"/>
                    </a:lnTo>
                    <a:lnTo>
                      <a:pt x="85" y="545"/>
                    </a:lnTo>
                    <a:lnTo>
                      <a:pt x="99" y="569"/>
                    </a:lnTo>
                    <a:lnTo>
                      <a:pt x="114" y="593"/>
                    </a:lnTo>
                    <a:lnTo>
                      <a:pt x="128" y="617"/>
                    </a:lnTo>
                    <a:lnTo>
                      <a:pt x="146" y="642"/>
                    </a:lnTo>
                    <a:lnTo>
                      <a:pt x="163" y="667"/>
                    </a:lnTo>
                    <a:lnTo>
                      <a:pt x="182" y="692"/>
                    </a:lnTo>
                    <a:lnTo>
                      <a:pt x="222" y="744"/>
                    </a:lnTo>
                    <a:lnTo>
                      <a:pt x="266" y="797"/>
                    </a:lnTo>
                    <a:lnTo>
                      <a:pt x="315" y="856"/>
                    </a:lnTo>
                    <a:lnTo>
                      <a:pt x="368" y="917"/>
                    </a:lnTo>
                    <a:lnTo>
                      <a:pt x="419" y="873"/>
                    </a:lnTo>
                    <a:lnTo>
                      <a:pt x="367" y="812"/>
                    </a:lnTo>
                    <a:lnTo>
                      <a:pt x="318" y="755"/>
                    </a:lnTo>
                    <a:lnTo>
                      <a:pt x="274" y="701"/>
                    </a:lnTo>
                    <a:lnTo>
                      <a:pt x="236" y="651"/>
                    </a:lnTo>
                    <a:lnTo>
                      <a:pt x="217" y="627"/>
                    </a:lnTo>
                    <a:lnTo>
                      <a:pt x="200" y="603"/>
                    </a:lnTo>
                    <a:lnTo>
                      <a:pt x="184" y="581"/>
                    </a:lnTo>
                    <a:lnTo>
                      <a:pt x="171" y="558"/>
                    </a:lnTo>
                    <a:lnTo>
                      <a:pt x="157" y="535"/>
                    </a:lnTo>
                    <a:lnTo>
                      <a:pt x="143" y="512"/>
                    </a:lnTo>
                    <a:lnTo>
                      <a:pt x="132" y="490"/>
                    </a:lnTo>
                    <a:lnTo>
                      <a:pt x="122" y="469"/>
                    </a:lnTo>
                    <a:lnTo>
                      <a:pt x="113" y="446"/>
                    </a:lnTo>
                    <a:lnTo>
                      <a:pt x="103" y="424"/>
                    </a:lnTo>
                    <a:lnTo>
                      <a:pt x="95" y="401"/>
                    </a:lnTo>
                    <a:lnTo>
                      <a:pt x="89" y="379"/>
                    </a:lnTo>
                    <a:lnTo>
                      <a:pt x="83" y="355"/>
                    </a:lnTo>
                    <a:lnTo>
                      <a:pt x="78" y="331"/>
                    </a:lnTo>
                    <a:lnTo>
                      <a:pt x="74" y="306"/>
                    </a:lnTo>
                    <a:lnTo>
                      <a:pt x="71" y="281"/>
                    </a:lnTo>
                    <a:lnTo>
                      <a:pt x="69" y="254"/>
                    </a:lnTo>
                    <a:lnTo>
                      <a:pt x="68" y="227"/>
                    </a:lnTo>
                    <a:lnTo>
                      <a:pt x="67" y="198"/>
                    </a:lnTo>
                    <a:lnTo>
                      <a:pt x="68" y="169"/>
                    </a:lnTo>
                    <a:lnTo>
                      <a:pt x="69" y="138"/>
                    </a:lnTo>
                    <a:lnTo>
                      <a:pt x="71" y="106"/>
                    </a:lnTo>
                    <a:lnTo>
                      <a:pt x="75" y="73"/>
                    </a:lnTo>
                    <a:lnTo>
                      <a:pt x="79" y="37"/>
                    </a:lnTo>
                    <a:lnTo>
                      <a:pt x="76" y="48"/>
                    </a:lnTo>
                    <a:lnTo>
                      <a:pt x="79" y="37"/>
                    </a:lnTo>
                    <a:lnTo>
                      <a:pt x="79" y="30"/>
                    </a:lnTo>
                    <a:lnTo>
                      <a:pt x="78" y="23"/>
                    </a:lnTo>
                    <a:lnTo>
                      <a:pt x="76" y="16"/>
                    </a:lnTo>
                    <a:lnTo>
                      <a:pt x="71" y="11"/>
                    </a:lnTo>
                    <a:lnTo>
                      <a:pt x="67" y="7"/>
                    </a:lnTo>
                    <a:lnTo>
                      <a:pt x="62" y="3"/>
                    </a:lnTo>
                    <a:lnTo>
                      <a:pt x="57" y="1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7" y="0"/>
                    </a:lnTo>
                    <a:lnTo>
                      <a:pt x="32" y="2"/>
                    </a:lnTo>
                    <a:lnTo>
                      <a:pt x="26" y="6"/>
                    </a:lnTo>
                    <a:lnTo>
                      <a:pt x="21" y="9"/>
                    </a:lnTo>
                    <a:lnTo>
                      <a:pt x="17" y="15"/>
                    </a:lnTo>
                    <a:lnTo>
                      <a:pt x="14" y="22"/>
                    </a:lnTo>
                    <a:lnTo>
                      <a:pt x="12" y="28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5943600" y="3924360"/>
                <a:ext cx="233280" cy="125280"/>
              </a:xfrm>
              <a:custGeom>
                <a:avLst/>
                <a:gdLst/>
                <a:ahLst/>
                <a:rect l="l" t="t" r="r" b="b"/>
                <a:pathLst>
                  <a:path w="736" h="396">
                    <a:moveTo>
                      <a:pt x="720" y="17"/>
                    </a:moveTo>
                    <a:lnTo>
                      <a:pt x="709" y="12"/>
                    </a:lnTo>
                    <a:lnTo>
                      <a:pt x="678" y="8"/>
                    </a:lnTo>
                    <a:lnTo>
                      <a:pt x="648" y="4"/>
                    </a:lnTo>
                    <a:lnTo>
                      <a:pt x="620" y="2"/>
                    </a:lnTo>
                    <a:lnTo>
                      <a:pt x="590" y="1"/>
                    </a:lnTo>
                    <a:lnTo>
                      <a:pt x="563" y="0"/>
                    </a:lnTo>
                    <a:lnTo>
                      <a:pt x="534" y="1"/>
                    </a:lnTo>
                    <a:lnTo>
                      <a:pt x="507" y="2"/>
                    </a:lnTo>
                    <a:lnTo>
                      <a:pt x="481" y="4"/>
                    </a:lnTo>
                    <a:lnTo>
                      <a:pt x="454" y="8"/>
                    </a:lnTo>
                    <a:lnTo>
                      <a:pt x="428" y="12"/>
                    </a:lnTo>
                    <a:lnTo>
                      <a:pt x="403" y="18"/>
                    </a:lnTo>
                    <a:lnTo>
                      <a:pt x="378" y="25"/>
                    </a:lnTo>
                    <a:lnTo>
                      <a:pt x="354" y="33"/>
                    </a:lnTo>
                    <a:lnTo>
                      <a:pt x="330" y="42"/>
                    </a:lnTo>
                    <a:lnTo>
                      <a:pt x="307" y="51"/>
                    </a:lnTo>
                    <a:lnTo>
                      <a:pt x="285" y="61"/>
                    </a:lnTo>
                    <a:lnTo>
                      <a:pt x="262" y="74"/>
                    </a:lnTo>
                    <a:lnTo>
                      <a:pt x="240" y="87"/>
                    </a:lnTo>
                    <a:lnTo>
                      <a:pt x="220" y="100"/>
                    </a:lnTo>
                    <a:lnTo>
                      <a:pt x="199" y="115"/>
                    </a:lnTo>
                    <a:lnTo>
                      <a:pt x="180" y="131"/>
                    </a:lnTo>
                    <a:lnTo>
                      <a:pt x="160" y="147"/>
                    </a:lnTo>
                    <a:lnTo>
                      <a:pt x="141" y="165"/>
                    </a:lnTo>
                    <a:lnTo>
                      <a:pt x="123" y="184"/>
                    </a:lnTo>
                    <a:lnTo>
                      <a:pt x="106" y="203"/>
                    </a:lnTo>
                    <a:lnTo>
                      <a:pt x="89" y="223"/>
                    </a:lnTo>
                    <a:lnTo>
                      <a:pt x="73" y="245"/>
                    </a:lnTo>
                    <a:lnTo>
                      <a:pt x="57" y="268"/>
                    </a:lnTo>
                    <a:lnTo>
                      <a:pt x="42" y="291"/>
                    </a:lnTo>
                    <a:lnTo>
                      <a:pt x="27" y="315"/>
                    </a:lnTo>
                    <a:lnTo>
                      <a:pt x="13" y="340"/>
                    </a:lnTo>
                    <a:lnTo>
                      <a:pt x="0" y="366"/>
                    </a:lnTo>
                    <a:lnTo>
                      <a:pt x="60" y="396"/>
                    </a:lnTo>
                    <a:lnTo>
                      <a:pt x="73" y="372"/>
                    </a:lnTo>
                    <a:lnTo>
                      <a:pt x="85" y="349"/>
                    </a:lnTo>
                    <a:lnTo>
                      <a:pt x="99" y="326"/>
                    </a:lnTo>
                    <a:lnTo>
                      <a:pt x="112" y="306"/>
                    </a:lnTo>
                    <a:lnTo>
                      <a:pt x="127" y="285"/>
                    </a:lnTo>
                    <a:lnTo>
                      <a:pt x="142" y="266"/>
                    </a:lnTo>
                    <a:lnTo>
                      <a:pt x="157" y="247"/>
                    </a:lnTo>
                    <a:lnTo>
                      <a:pt x="173" y="229"/>
                    </a:lnTo>
                    <a:lnTo>
                      <a:pt x="189" y="213"/>
                    </a:lnTo>
                    <a:lnTo>
                      <a:pt x="205" y="197"/>
                    </a:lnTo>
                    <a:lnTo>
                      <a:pt x="222" y="182"/>
                    </a:lnTo>
                    <a:lnTo>
                      <a:pt x="240" y="169"/>
                    </a:lnTo>
                    <a:lnTo>
                      <a:pt x="257" y="156"/>
                    </a:lnTo>
                    <a:lnTo>
                      <a:pt x="277" y="144"/>
                    </a:lnTo>
                    <a:lnTo>
                      <a:pt x="295" y="132"/>
                    </a:lnTo>
                    <a:lnTo>
                      <a:pt x="314" y="122"/>
                    </a:lnTo>
                    <a:lnTo>
                      <a:pt x="335" y="113"/>
                    </a:lnTo>
                    <a:lnTo>
                      <a:pt x="354" y="105"/>
                    </a:lnTo>
                    <a:lnTo>
                      <a:pt x="376" y="97"/>
                    </a:lnTo>
                    <a:lnTo>
                      <a:pt x="397" y="90"/>
                    </a:lnTo>
                    <a:lnTo>
                      <a:pt x="419" y="84"/>
                    </a:lnTo>
                    <a:lnTo>
                      <a:pt x="442" y="80"/>
                    </a:lnTo>
                    <a:lnTo>
                      <a:pt x="465" y="75"/>
                    </a:lnTo>
                    <a:lnTo>
                      <a:pt x="489" y="72"/>
                    </a:lnTo>
                    <a:lnTo>
                      <a:pt x="513" y="69"/>
                    </a:lnTo>
                    <a:lnTo>
                      <a:pt x="537" y="68"/>
                    </a:lnTo>
                    <a:lnTo>
                      <a:pt x="563" y="67"/>
                    </a:lnTo>
                    <a:lnTo>
                      <a:pt x="588" y="68"/>
                    </a:lnTo>
                    <a:lnTo>
                      <a:pt x="615" y="69"/>
                    </a:lnTo>
                    <a:lnTo>
                      <a:pt x="641" y="72"/>
                    </a:lnTo>
                    <a:lnTo>
                      <a:pt x="670" y="75"/>
                    </a:lnTo>
                    <a:lnTo>
                      <a:pt x="697" y="79"/>
                    </a:lnTo>
                    <a:lnTo>
                      <a:pt x="686" y="74"/>
                    </a:lnTo>
                    <a:lnTo>
                      <a:pt x="697" y="79"/>
                    </a:lnTo>
                    <a:lnTo>
                      <a:pt x="705" y="80"/>
                    </a:lnTo>
                    <a:lnTo>
                      <a:pt x="712" y="79"/>
                    </a:lnTo>
                    <a:lnTo>
                      <a:pt x="719" y="76"/>
                    </a:lnTo>
                    <a:lnTo>
                      <a:pt x="725" y="73"/>
                    </a:lnTo>
                    <a:lnTo>
                      <a:pt x="728" y="68"/>
                    </a:lnTo>
                    <a:lnTo>
                      <a:pt x="733" y="63"/>
                    </a:lnTo>
                    <a:lnTo>
                      <a:pt x="735" y="57"/>
                    </a:lnTo>
                    <a:lnTo>
                      <a:pt x="736" y="51"/>
                    </a:lnTo>
                    <a:lnTo>
                      <a:pt x="736" y="44"/>
                    </a:lnTo>
                    <a:lnTo>
                      <a:pt x="736" y="39"/>
                    </a:lnTo>
                    <a:lnTo>
                      <a:pt x="734" y="32"/>
                    </a:lnTo>
                    <a:lnTo>
                      <a:pt x="731" y="26"/>
                    </a:lnTo>
                    <a:lnTo>
                      <a:pt x="727" y="22"/>
                    </a:lnTo>
                    <a:lnTo>
                      <a:pt x="722" y="17"/>
                    </a:lnTo>
                    <a:lnTo>
                      <a:pt x="716" y="15"/>
                    </a:lnTo>
                    <a:lnTo>
                      <a:pt x="709" y="12"/>
                    </a:lnTo>
                    <a:lnTo>
                      <a:pt x="720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6224760" y="4100400"/>
                <a:ext cx="301320" cy="384120"/>
              </a:xfrm>
              <a:custGeom>
                <a:avLst/>
                <a:gdLst/>
                <a:ahLst/>
                <a:rect l="l" t="t" r="r" b="b"/>
                <a:pathLst>
                  <a:path w="951" h="1207">
                    <a:moveTo>
                      <a:pt x="686" y="11"/>
                    </a:moveTo>
                    <a:lnTo>
                      <a:pt x="708" y="25"/>
                    </a:lnTo>
                    <a:lnTo>
                      <a:pt x="729" y="40"/>
                    </a:lnTo>
                    <a:lnTo>
                      <a:pt x="748" y="56"/>
                    </a:lnTo>
                    <a:lnTo>
                      <a:pt x="766" y="72"/>
                    </a:lnTo>
                    <a:lnTo>
                      <a:pt x="783" y="88"/>
                    </a:lnTo>
                    <a:lnTo>
                      <a:pt x="799" y="105"/>
                    </a:lnTo>
                    <a:lnTo>
                      <a:pt x="814" y="122"/>
                    </a:lnTo>
                    <a:lnTo>
                      <a:pt x="829" y="140"/>
                    </a:lnTo>
                    <a:lnTo>
                      <a:pt x="841" y="159"/>
                    </a:lnTo>
                    <a:lnTo>
                      <a:pt x="854" y="179"/>
                    </a:lnTo>
                    <a:lnTo>
                      <a:pt x="865" y="198"/>
                    </a:lnTo>
                    <a:lnTo>
                      <a:pt x="876" y="219"/>
                    </a:lnTo>
                    <a:lnTo>
                      <a:pt x="885" y="239"/>
                    </a:lnTo>
                    <a:lnTo>
                      <a:pt x="894" y="260"/>
                    </a:lnTo>
                    <a:lnTo>
                      <a:pt x="902" y="282"/>
                    </a:lnTo>
                    <a:lnTo>
                      <a:pt x="909" y="304"/>
                    </a:lnTo>
                    <a:lnTo>
                      <a:pt x="916" y="326"/>
                    </a:lnTo>
                    <a:lnTo>
                      <a:pt x="921" y="349"/>
                    </a:lnTo>
                    <a:lnTo>
                      <a:pt x="927" y="373"/>
                    </a:lnTo>
                    <a:lnTo>
                      <a:pt x="931" y="396"/>
                    </a:lnTo>
                    <a:lnTo>
                      <a:pt x="939" y="444"/>
                    </a:lnTo>
                    <a:lnTo>
                      <a:pt x="944" y="494"/>
                    </a:lnTo>
                    <a:lnTo>
                      <a:pt x="949" y="544"/>
                    </a:lnTo>
                    <a:lnTo>
                      <a:pt x="951" y="595"/>
                    </a:lnTo>
                    <a:lnTo>
                      <a:pt x="951" y="647"/>
                    </a:lnTo>
                    <a:lnTo>
                      <a:pt x="951" y="699"/>
                    </a:lnTo>
                    <a:lnTo>
                      <a:pt x="945" y="721"/>
                    </a:lnTo>
                    <a:lnTo>
                      <a:pt x="938" y="741"/>
                    </a:lnTo>
                    <a:lnTo>
                      <a:pt x="930" y="762"/>
                    </a:lnTo>
                    <a:lnTo>
                      <a:pt x="921" y="782"/>
                    </a:lnTo>
                    <a:lnTo>
                      <a:pt x="911" y="803"/>
                    </a:lnTo>
                    <a:lnTo>
                      <a:pt x="901" y="822"/>
                    </a:lnTo>
                    <a:lnTo>
                      <a:pt x="888" y="842"/>
                    </a:lnTo>
                    <a:lnTo>
                      <a:pt x="876" y="861"/>
                    </a:lnTo>
                    <a:lnTo>
                      <a:pt x="862" y="879"/>
                    </a:lnTo>
                    <a:lnTo>
                      <a:pt x="847" y="899"/>
                    </a:lnTo>
                    <a:lnTo>
                      <a:pt x="832" y="917"/>
                    </a:lnTo>
                    <a:lnTo>
                      <a:pt x="816" y="934"/>
                    </a:lnTo>
                    <a:lnTo>
                      <a:pt x="799" y="951"/>
                    </a:lnTo>
                    <a:lnTo>
                      <a:pt x="781" y="968"/>
                    </a:lnTo>
                    <a:lnTo>
                      <a:pt x="763" y="985"/>
                    </a:lnTo>
                    <a:lnTo>
                      <a:pt x="743" y="1001"/>
                    </a:lnTo>
                    <a:lnTo>
                      <a:pt x="724" y="1019"/>
                    </a:lnTo>
                    <a:lnTo>
                      <a:pt x="703" y="1033"/>
                    </a:lnTo>
                    <a:lnTo>
                      <a:pt x="682" y="1049"/>
                    </a:lnTo>
                    <a:lnTo>
                      <a:pt x="660" y="1063"/>
                    </a:lnTo>
                    <a:lnTo>
                      <a:pt x="637" y="1078"/>
                    </a:lnTo>
                    <a:lnTo>
                      <a:pt x="615" y="1092"/>
                    </a:lnTo>
                    <a:lnTo>
                      <a:pt x="592" y="1105"/>
                    </a:lnTo>
                    <a:lnTo>
                      <a:pt x="568" y="1119"/>
                    </a:lnTo>
                    <a:lnTo>
                      <a:pt x="543" y="1132"/>
                    </a:lnTo>
                    <a:lnTo>
                      <a:pt x="518" y="1143"/>
                    </a:lnTo>
                    <a:lnTo>
                      <a:pt x="493" y="1155"/>
                    </a:lnTo>
                    <a:lnTo>
                      <a:pt x="468" y="1167"/>
                    </a:lnTo>
                    <a:lnTo>
                      <a:pt x="441" y="1177"/>
                    </a:lnTo>
                    <a:lnTo>
                      <a:pt x="414" y="1187"/>
                    </a:lnTo>
                    <a:lnTo>
                      <a:pt x="388" y="1198"/>
                    </a:lnTo>
                    <a:lnTo>
                      <a:pt x="360" y="1207"/>
                    </a:lnTo>
                    <a:lnTo>
                      <a:pt x="308" y="1145"/>
                    </a:lnTo>
                    <a:lnTo>
                      <a:pt x="259" y="1088"/>
                    </a:lnTo>
                    <a:lnTo>
                      <a:pt x="216" y="1035"/>
                    </a:lnTo>
                    <a:lnTo>
                      <a:pt x="176" y="983"/>
                    </a:lnTo>
                    <a:lnTo>
                      <a:pt x="157" y="959"/>
                    </a:lnTo>
                    <a:lnTo>
                      <a:pt x="140" y="935"/>
                    </a:lnTo>
                    <a:lnTo>
                      <a:pt x="124" y="911"/>
                    </a:lnTo>
                    <a:lnTo>
                      <a:pt x="108" y="887"/>
                    </a:lnTo>
                    <a:lnTo>
                      <a:pt x="95" y="865"/>
                    </a:lnTo>
                    <a:lnTo>
                      <a:pt x="81" y="842"/>
                    </a:lnTo>
                    <a:lnTo>
                      <a:pt x="70" y="818"/>
                    </a:lnTo>
                    <a:lnTo>
                      <a:pt x="58" y="795"/>
                    </a:lnTo>
                    <a:lnTo>
                      <a:pt x="48" y="772"/>
                    </a:lnTo>
                    <a:lnTo>
                      <a:pt x="39" y="748"/>
                    </a:lnTo>
                    <a:lnTo>
                      <a:pt x="31" y="724"/>
                    </a:lnTo>
                    <a:lnTo>
                      <a:pt x="24" y="700"/>
                    </a:lnTo>
                    <a:lnTo>
                      <a:pt x="17" y="675"/>
                    </a:lnTo>
                    <a:lnTo>
                      <a:pt x="13" y="650"/>
                    </a:lnTo>
                    <a:lnTo>
                      <a:pt x="8" y="624"/>
                    </a:lnTo>
                    <a:lnTo>
                      <a:pt x="5" y="598"/>
                    </a:lnTo>
                    <a:lnTo>
                      <a:pt x="2" y="570"/>
                    </a:lnTo>
                    <a:lnTo>
                      <a:pt x="1" y="542"/>
                    </a:lnTo>
                    <a:lnTo>
                      <a:pt x="0" y="512"/>
                    </a:lnTo>
                    <a:lnTo>
                      <a:pt x="1" y="481"/>
                    </a:lnTo>
                    <a:lnTo>
                      <a:pt x="2" y="450"/>
                    </a:lnTo>
                    <a:lnTo>
                      <a:pt x="5" y="417"/>
                    </a:lnTo>
                    <a:lnTo>
                      <a:pt x="8" y="383"/>
                    </a:lnTo>
                    <a:lnTo>
                      <a:pt x="13" y="347"/>
                    </a:lnTo>
                    <a:lnTo>
                      <a:pt x="26" y="322"/>
                    </a:lnTo>
                    <a:lnTo>
                      <a:pt x="39" y="298"/>
                    </a:lnTo>
                    <a:lnTo>
                      <a:pt x="54" y="275"/>
                    </a:lnTo>
                    <a:lnTo>
                      <a:pt x="67" y="252"/>
                    </a:lnTo>
                    <a:lnTo>
                      <a:pt x="82" y="231"/>
                    </a:lnTo>
                    <a:lnTo>
                      <a:pt x="98" y="211"/>
                    </a:lnTo>
                    <a:lnTo>
                      <a:pt x="114" y="191"/>
                    </a:lnTo>
                    <a:lnTo>
                      <a:pt x="131" y="172"/>
                    </a:lnTo>
                    <a:lnTo>
                      <a:pt x="148" y="155"/>
                    </a:lnTo>
                    <a:lnTo>
                      <a:pt x="165" y="138"/>
                    </a:lnTo>
                    <a:lnTo>
                      <a:pt x="184" y="123"/>
                    </a:lnTo>
                    <a:lnTo>
                      <a:pt x="203" y="108"/>
                    </a:lnTo>
                    <a:lnTo>
                      <a:pt x="221" y="93"/>
                    </a:lnTo>
                    <a:lnTo>
                      <a:pt x="242" y="81"/>
                    </a:lnTo>
                    <a:lnTo>
                      <a:pt x="261" y="69"/>
                    </a:lnTo>
                    <a:lnTo>
                      <a:pt x="283" y="58"/>
                    </a:lnTo>
                    <a:lnTo>
                      <a:pt x="303" y="48"/>
                    </a:lnTo>
                    <a:lnTo>
                      <a:pt x="325" y="39"/>
                    </a:lnTo>
                    <a:lnTo>
                      <a:pt x="348" y="31"/>
                    </a:lnTo>
                    <a:lnTo>
                      <a:pt x="371" y="24"/>
                    </a:lnTo>
                    <a:lnTo>
                      <a:pt x="395" y="17"/>
                    </a:lnTo>
                    <a:lnTo>
                      <a:pt x="418" y="12"/>
                    </a:lnTo>
                    <a:lnTo>
                      <a:pt x="442" y="8"/>
                    </a:lnTo>
                    <a:lnTo>
                      <a:pt x="468" y="4"/>
                    </a:lnTo>
                    <a:lnTo>
                      <a:pt x="493" y="2"/>
                    </a:lnTo>
                    <a:lnTo>
                      <a:pt x="519" y="0"/>
                    </a:lnTo>
                    <a:lnTo>
                      <a:pt x="545" y="0"/>
                    </a:lnTo>
                    <a:lnTo>
                      <a:pt x="572" y="0"/>
                    </a:lnTo>
                    <a:lnTo>
                      <a:pt x="600" y="2"/>
                    </a:lnTo>
                    <a:lnTo>
                      <a:pt x="628" y="4"/>
                    </a:lnTo>
                    <a:lnTo>
                      <a:pt x="657" y="7"/>
                    </a:lnTo>
                    <a:lnTo>
                      <a:pt x="686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6435720" y="4095720"/>
                <a:ext cx="101520" cy="238320"/>
              </a:xfrm>
              <a:custGeom>
                <a:avLst/>
                <a:gdLst/>
                <a:ahLst/>
                <a:rect l="l" t="t" r="r" b="b"/>
                <a:pathLst>
                  <a:path w="317" h="750">
                    <a:moveTo>
                      <a:pt x="316" y="725"/>
                    </a:moveTo>
                    <a:lnTo>
                      <a:pt x="317" y="717"/>
                    </a:lnTo>
                    <a:lnTo>
                      <a:pt x="317" y="664"/>
                    </a:lnTo>
                    <a:lnTo>
                      <a:pt x="316" y="611"/>
                    </a:lnTo>
                    <a:lnTo>
                      <a:pt x="314" y="559"/>
                    </a:lnTo>
                    <a:lnTo>
                      <a:pt x="310" y="507"/>
                    </a:lnTo>
                    <a:lnTo>
                      <a:pt x="305" y="456"/>
                    </a:lnTo>
                    <a:lnTo>
                      <a:pt x="297" y="407"/>
                    </a:lnTo>
                    <a:lnTo>
                      <a:pt x="292" y="382"/>
                    </a:lnTo>
                    <a:lnTo>
                      <a:pt x="286" y="358"/>
                    </a:lnTo>
                    <a:lnTo>
                      <a:pt x="281" y="335"/>
                    </a:lnTo>
                    <a:lnTo>
                      <a:pt x="274" y="311"/>
                    </a:lnTo>
                    <a:lnTo>
                      <a:pt x="266" y="288"/>
                    </a:lnTo>
                    <a:lnTo>
                      <a:pt x="257" y="265"/>
                    </a:lnTo>
                    <a:lnTo>
                      <a:pt x="248" y="243"/>
                    </a:lnTo>
                    <a:lnTo>
                      <a:pt x="237" y="221"/>
                    </a:lnTo>
                    <a:lnTo>
                      <a:pt x="227" y="199"/>
                    </a:lnTo>
                    <a:lnTo>
                      <a:pt x="214" y="178"/>
                    </a:lnTo>
                    <a:lnTo>
                      <a:pt x="202" y="157"/>
                    </a:lnTo>
                    <a:lnTo>
                      <a:pt x="187" y="138"/>
                    </a:lnTo>
                    <a:lnTo>
                      <a:pt x="172" y="118"/>
                    </a:lnTo>
                    <a:lnTo>
                      <a:pt x="156" y="99"/>
                    </a:lnTo>
                    <a:lnTo>
                      <a:pt x="139" y="81"/>
                    </a:lnTo>
                    <a:lnTo>
                      <a:pt x="121" y="64"/>
                    </a:lnTo>
                    <a:lnTo>
                      <a:pt x="100" y="46"/>
                    </a:lnTo>
                    <a:lnTo>
                      <a:pt x="80" y="30"/>
                    </a:lnTo>
                    <a:lnTo>
                      <a:pt x="58" y="14"/>
                    </a:lnTo>
                    <a:lnTo>
                      <a:pt x="35" y="0"/>
                    </a:lnTo>
                    <a:lnTo>
                      <a:pt x="0" y="57"/>
                    </a:lnTo>
                    <a:lnTo>
                      <a:pt x="21" y="70"/>
                    </a:lnTo>
                    <a:lnTo>
                      <a:pt x="40" y="84"/>
                    </a:lnTo>
                    <a:lnTo>
                      <a:pt x="58" y="98"/>
                    </a:lnTo>
                    <a:lnTo>
                      <a:pt x="75" y="113"/>
                    </a:lnTo>
                    <a:lnTo>
                      <a:pt x="91" y="129"/>
                    </a:lnTo>
                    <a:lnTo>
                      <a:pt x="106" y="145"/>
                    </a:lnTo>
                    <a:lnTo>
                      <a:pt x="120" y="161"/>
                    </a:lnTo>
                    <a:lnTo>
                      <a:pt x="134" y="178"/>
                    </a:lnTo>
                    <a:lnTo>
                      <a:pt x="146" y="195"/>
                    </a:lnTo>
                    <a:lnTo>
                      <a:pt x="156" y="213"/>
                    </a:lnTo>
                    <a:lnTo>
                      <a:pt x="168" y="231"/>
                    </a:lnTo>
                    <a:lnTo>
                      <a:pt x="177" y="251"/>
                    </a:lnTo>
                    <a:lnTo>
                      <a:pt x="186" y="270"/>
                    </a:lnTo>
                    <a:lnTo>
                      <a:pt x="194" y="289"/>
                    </a:lnTo>
                    <a:lnTo>
                      <a:pt x="202" y="310"/>
                    </a:lnTo>
                    <a:lnTo>
                      <a:pt x="209" y="331"/>
                    </a:lnTo>
                    <a:lnTo>
                      <a:pt x="214" y="352"/>
                    </a:lnTo>
                    <a:lnTo>
                      <a:pt x="220" y="374"/>
                    </a:lnTo>
                    <a:lnTo>
                      <a:pt x="226" y="397"/>
                    </a:lnTo>
                    <a:lnTo>
                      <a:pt x="230" y="418"/>
                    </a:lnTo>
                    <a:lnTo>
                      <a:pt x="237" y="465"/>
                    </a:lnTo>
                    <a:lnTo>
                      <a:pt x="243" y="513"/>
                    </a:lnTo>
                    <a:lnTo>
                      <a:pt x="246" y="562"/>
                    </a:lnTo>
                    <a:lnTo>
                      <a:pt x="249" y="612"/>
                    </a:lnTo>
                    <a:lnTo>
                      <a:pt x="250" y="664"/>
                    </a:lnTo>
                    <a:lnTo>
                      <a:pt x="250" y="716"/>
                    </a:lnTo>
                    <a:lnTo>
                      <a:pt x="251" y="708"/>
                    </a:lnTo>
                    <a:lnTo>
                      <a:pt x="250" y="716"/>
                    </a:lnTo>
                    <a:lnTo>
                      <a:pt x="251" y="724"/>
                    </a:lnTo>
                    <a:lnTo>
                      <a:pt x="252" y="731"/>
                    </a:lnTo>
                    <a:lnTo>
                      <a:pt x="256" y="737"/>
                    </a:lnTo>
                    <a:lnTo>
                      <a:pt x="260" y="741"/>
                    </a:lnTo>
                    <a:lnTo>
                      <a:pt x="265" y="746"/>
                    </a:lnTo>
                    <a:lnTo>
                      <a:pt x="270" y="748"/>
                    </a:lnTo>
                    <a:lnTo>
                      <a:pt x="277" y="749"/>
                    </a:lnTo>
                    <a:lnTo>
                      <a:pt x="283" y="750"/>
                    </a:lnTo>
                    <a:lnTo>
                      <a:pt x="290" y="749"/>
                    </a:lnTo>
                    <a:lnTo>
                      <a:pt x="295" y="748"/>
                    </a:lnTo>
                    <a:lnTo>
                      <a:pt x="301" y="746"/>
                    </a:lnTo>
                    <a:lnTo>
                      <a:pt x="307" y="742"/>
                    </a:lnTo>
                    <a:lnTo>
                      <a:pt x="310" y="738"/>
                    </a:lnTo>
                    <a:lnTo>
                      <a:pt x="314" y="732"/>
                    </a:lnTo>
                    <a:lnTo>
                      <a:pt x="316" y="725"/>
                    </a:lnTo>
                    <a:lnTo>
                      <a:pt x="317" y="717"/>
                    </a:lnTo>
                    <a:lnTo>
                      <a:pt x="316" y="7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6327720" y="4319640"/>
                <a:ext cx="209520" cy="174600"/>
              </a:xfrm>
              <a:custGeom>
                <a:avLst/>
                <a:gdLst/>
                <a:ahLst/>
                <a:rect l="l" t="t" r="r" b="b"/>
                <a:pathLst>
                  <a:path w="658" h="550">
                    <a:moveTo>
                      <a:pt x="8" y="538"/>
                    </a:moveTo>
                    <a:lnTo>
                      <a:pt x="45" y="548"/>
                    </a:lnTo>
                    <a:lnTo>
                      <a:pt x="72" y="539"/>
                    </a:lnTo>
                    <a:lnTo>
                      <a:pt x="100" y="528"/>
                    </a:lnTo>
                    <a:lnTo>
                      <a:pt x="128" y="518"/>
                    </a:lnTo>
                    <a:lnTo>
                      <a:pt x="154" y="507"/>
                    </a:lnTo>
                    <a:lnTo>
                      <a:pt x="180" y="495"/>
                    </a:lnTo>
                    <a:lnTo>
                      <a:pt x="206" y="483"/>
                    </a:lnTo>
                    <a:lnTo>
                      <a:pt x="233" y="470"/>
                    </a:lnTo>
                    <a:lnTo>
                      <a:pt x="258" y="458"/>
                    </a:lnTo>
                    <a:lnTo>
                      <a:pt x="282" y="444"/>
                    </a:lnTo>
                    <a:lnTo>
                      <a:pt x="306" y="430"/>
                    </a:lnTo>
                    <a:lnTo>
                      <a:pt x="330" y="415"/>
                    </a:lnTo>
                    <a:lnTo>
                      <a:pt x="352" y="401"/>
                    </a:lnTo>
                    <a:lnTo>
                      <a:pt x="375" y="386"/>
                    </a:lnTo>
                    <a:lnTo>
                      <a:pt x="397" y="370"/>
                    </a:lnTo>
                    <a:lnTo>
                      <a:pt x="419" y="354"/>
                    </a:lnTo>
                    <a:lnTo>
                      <a:pt x="439" y="337"/>
                    </a:lnTo>
                    <a:lnTo>
                      <a:pt x="458" y="320"/>
                    </a:lnTo>
                    <a:lnTo>
                      <a:pt x="478" y="302"/>
                    </a:lnTo>
                    <a:lnTo>
                      <a:pt x="496" y="284"/>
                    </a:lnTo>
                    <a:lnTo>
                      <a:pt x="514" y="266"/>
                    </a:lnTo>
                    <a:lnTo>
                      <a:pt x="531" y="248"/>
                    </a:lnTo>
                    <a:lnTo>
                      <a:pt x="547" y="228"/>
                    </a:lnTo>
                    <a:lnTo>
                      <a:pt x="563" y="209"/>
                    </a:lnTo>
                    <a:lnTo>
                      <a:pt x="577" y="190"/>
                    </a:lnTo>
                    <a:lnTo>
                      <a:pt x="591" y="169"/>
                    </a:lnTo>
                    <a:lnTo>
                      <a:pt x="603" y="148"/>
                    </a:lnTo>
                    <a:lnTo>
                      <a:pt x="615" y="128"/>
                    </a:lnTo>
                    <a:lnTo>
                      <a:pt x="626" y="106"/>
                    </a:lnTo>
                    <a:lnTo>
                      <a:pt x="635" y="85"/>
                    </a:lnTo>
                    <a:lnTo>
                      <a:pt x="644" y="62"/>
                    </a:lnTo>
                    <a:lnTo>
                      <a:pt x="651" y="40"/>
                    </a:lnTo>
                    <a:lnTo>
                      <a:pt x="658" y="17"/>
                    </a:lnTo>
                    <a:lnTo>
                      <a:pt x="593" y="0"/>
                    </a:lnTo>
                    <a:lnTo>
                      <a:pt x="587" y="20"/>
                    </a:lnTo>
                    <a:lnTo>
                      <a:pt x="580" y="39"/>
                    </a:lnTo>
                    <a:lnTo>
                      <a:pt x="574" y="58"/>
                    </a:lnTo>
                    <a:lnTo>
                      <a:pt x="564" y="78"/>
                    </a:lnTo>
                    <a:lnTo>
                      <a:pt x="555" y="96"/>
                    </a:lnTo>
                    <a:lnTo>
                      <a:pt x="545" y="114"/>
                    </a:lnTo>
                    <a:lnTo>
                      <a:pt x="534" y="132"/>
                    </a:lnTo>
                    <a:lnTo>
                      <a:pt x="522" y="151"/>
                    </a:lnTo>
                    <a:lnTo>
                      <a:pt x="509" y="169"/>
                    </a:lnTo>
                    <a:lnTo>
                      <a:pt x="495" y="186"/>
                    </a:lnTo>
                    <a:lnTo>
                      <a:pt x="480" y="203"/>
                    </a:lnTo>
                    <a:lnTo>
                      <a:pt x="465" y="220"/>
                    </a:lnTo>
                    <a:lnTo>
                      <a:pt x="449" y="237"/>
                    </a:lnTo>
                    <a:lnTo>
                      <a:pt x="432" y="253"/>
                    </a:lnTo>
                    <a:lnTo>
                      <a:pt x="414" y="269"/>
                    </a:lnTo>
                    <a:lnTo>
                      <a:pt x="396" y="285"/>
                    </a:lnTo>
                    <a:lnTo>
                      <a:pt x="377" y="300"/>
                    </a:lnTo>
                    <a:lnTo>
                      <a:pt x="357" y="315"/>
                    </a:lnTo>
                    <a:lnTo>
                      <a:pt x="336" y="330"/>
                    </a:lnTo>
                    <a:lnTo>
                      <a:pt x="316" y="345"/>
                    </a:lnTo>
                    <a:lnTo>
                      <a:pt x="294" y="358"/>
                    </a:lnTo>
                    <a:lnTo>
                      <a:pt x="271" y="372"/>
                    </a:lnTo>
                    <a:lnTo>
                      <a:pt x="249" y="385"/>
                    </a:lnTo>
                    <a:lnTo>
                      <a:pt x="226" y="397"/>
                    </a:lnTo>
                    <a:lnTo>
                      <a:pt x="202" y="410"/>
                    </a:lnTo>
                    <a:lnTo>
                      <a:pt x="178" y="422"/>
                    </a:lnTo>
                    <a:lnTo>
                      <a:pt x="153" y="434"/>
                    </a:lnTo>
                    <a:lnTo>
                      <a:pt x="128" y="444"/>
                    </a:lnTo>
                    <a:lnTo>
                      <a:pt x="103" y="455"/>
                    </a:lnTo>
                    <a:lnTo>
                      <a:pt x="77" y="464"/>
                    </a:lnTo>
                    <a:lnTo>
                      <a:pt x="50" y="475"/>
                    </a:lnTo>
                    <a:lnTo>
                      <a:pt x="24" y="484"/>
                    </a:lnTo>
                    <a:lnTo>
                      <a:pt x="59" y="494"/>
                    </a:lnTo>
                    <a:lnTo>
                      <a:pt x="24" y="484"/>
                    </a:lnTo>
                    <a:lnTo>
                      <a:pt x="16" y="486"/>
                    </a:lnTo>
                    <a:lnTo>
                      <a:pt x="10" y="491"/>
                    </a:lnTo>
                    <a:lnTo>
                      <a:pt x="6" y="496"/>
                    </a:lnTo>
                    <a:lnTo>
                      <a:pt x="2" y="501"/>
                    </a:lnTo>
                    <a:lnTo>
                      <a:pt x="1" y="508"/>
                    </a:lnTo>
                    <a:lnTo>
                      <a:pt x="0" y="514"/>
                    </a:lnTo>
                    <a:lnTo>
                      <a:pt x="0" y="520"/>
                    </a:lnTo>
                    <a:lnTo>
                      <a:pt x="2" y="526"/>
                    </a:lnTo>
                    <a:lnTo>
                      <a:pt x="5" y="532"/>
                    </a:lnTo>
                    <a:lnTo>
                      <a:pt x="8" y="538"/>
                    </a:lnTo>
                    <a:lnTo>
                      <a:pt x="13" y="542"/>
                    </a:lnTo>
                    <a:lnTo>
                      <a:pt x="17" y="545"/>
                    </a:lnTo>
                    <a:lnTo>
                      <a:pt x="23" y="548"/>
                    </a:lnTo>
                    <a:lnTo>
                      <a:pt x="30" y="550"/>
                    </a:lnTo>
                    <a:lnTo>
                      <a:pt x="37" y="549"/>
                    </a:lnTo>
                    <a:lnTo>
                      <a:pt x="45" y="548"/>
                    </a:lnTo>
                    <a:lnTo>
                      <a:pt x="8" y="5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6213600" y="4200480"/>
                <a:ext cx="133200" cy="290520"/>
              </a:xfrm>
              <a:custGeom>
                <a:avLst/>
                <a:gdLst/>
                <a:ahLst/>
                <a:rect l="l" t="t" r="r" b="b"/>
                <a:pathLst>
                  <a:path w="418" h="915">
                    <a:moveTo>
                      <a:pt x="16" y="18"/>
                    </a:moveTo>
                    <a:lnTo>
                      <a:pt x="13" y="29"/>
                    </a:lnTo>
                    <a:lnTo>
                      <a:pt x="8" y="65"/>
                    </a:lnTo>
                    <a:lnTo>
                      <a:pt x="5" y="100"/>
                    </a:lnTo>
                    <a:lnTo>
                      <a:pt x="2" y="134"/>
                    </a:lnTo>
                    <a:lnTo>
                      <a:pt x="1" y="166"/>
                    </a:lnTo>
                    <a:lnTo>
                      <a:pt x="0" y="198"/>
                    </a:lnTo>
                    <a:lnTo>
                      <a:pt x="0" y="229"/>
                    </a:lnTo>
                    <a:lnTo>
                      <a:pt x="1" y="258"/>
                    </a:lnTo>
                    <a:lnTo>
                      <a:pt x="5" y="287"/>
                    </a:lnTo>
                    <a:lnTo>
                      <a:pt x="8" y="314"/>
                    </a:lnTo>
                    <a:lnTo>
                      <a:pt x="13" y="342"/>
                    </a:lnTo>
                    <a:lnTo>
                      <a:pt x="17" y="369"/>
                    </a:lnTo>
                    <a:lnTo>
                      <a:pt x="24" y="395"/>
                    </a:lnTo>
                    <a:lnTo>
                      <a:pt x="32" y="421"/>
                    </a:lnTo>
                    <a:lnTo>
                      <a:pt x="40" y="446"/>
                    </a:lnTo>
                    <a:lnTo>
                      <a:pt x="50" y="471"/>
                    </a:lnTo>
                    <a:lnTo>
                      <a:pt x="60" y="495"/>
                    </a:lnTo>
                    <a:lnTo>
                      <a:pt x="72" y="519"/>
                    </a:lnTo>
                    <a:lnTo>
                      <a:pt x="84" y="544"/>
                    </a:lnTo>
                    <a:lnTo>
                      <a:pt x="98" y="568"/>
                    </a:lnTo>
                    <a:lnTo>
                      <a:pt x="113" y="592"/>
                    </a:lnTo>
                    <a:lnTo>
                      <a:pt x="129" y="616"/>
                    </a:lnTo>
                    <a:lnTo>
                      <a:pt x="146" y="641"/>
                    </a:lnTo>
                    <a:lnTo>
                      <a:pt x="163" y="665"/>
                    </a:lnTo>
                    <a:lnTo>
                      <a:pt x="182" y="690"/>
                    </a:lnTo>
                    <a:lnTo>
                      <a:pt x="222" y="741"/>
                    </a:lnTo>
                    <a:lnTo>
                      <a:pt x="267" y="796"/>
                    </a:lnTo>
                    <a:lnTo>
                      <a:pt x="315" y="853"/>
                    </a:lnTo>
                    <a:lnTo>
                      <a:pt x="367" y="915"/>
                    </a:lnTo>
                    <a:lnTo>
                      <a:pt x="418" y="871"/>
                    </a:lnTo>
                    <a:lnTo>
                      <a:pt x="366" y="810"/>
                    </a:lnTo>
                    <a:lnTo>
                      <a:pt x="318" y="752"/>
                    </a:lnTo>
                    <a:lnTo>
                      <a:pt x="275" y="699"/>
                    </a:lnTo>
                    <a:lnTo>
                      <a:pt x="235" y="649"/>
                    </a:lnTo>
                    <a:lnTo>
                      <a:pt x="218" y="625"/>
                    </a:lnTo>
                    <a:lnTo>
                      <a:pt x="201" y="602"/>
                    </a:lnTo>
                    <a:lnTo>
                      <a:pt x="185" y="578"/>
                    </a:lnTo>
                    <a:lnTo>
                      <a:pt x="170" y="555"/>
                    </a:lnTo>
                    <a:lnTo>
                      <a:pt x="156" y="533"/>
                    </a:lnTo>
                    <a:lnTo>
                      <a:pt x="144" y="511"/>
                    </a:lnTo>
                    <a:lnTo>
                      <a:pt x="132" y="489"/>
                    </a:lnTo>
                    <a:lnTo>
                      <a:pt x="122" y="467"/>
                    </a:lnTo>
                    <a:lnTo>
                      <a:pt x="112" y="444"/>
                    </a:lnTo>
                    <a:lnTo>
                      <a:pt x="104" y="423"/>
                    </a:lnTo>
                    <a:lnTo>
                      <a:pt x="96" y="400"/>
                    </a:lnTo>
                    <a:lnTo>
                      <a:pt x="89" y="377"/>
                    </a:lnTo>
                    <a:lnTo>
                      <a:pt x="83" y="354"/>
                    </a:lnTo>
                    <a:lnTo>
                      <a:pt x="79" y="330"/>
                    </a:lnTo>
                    <a:lnTo>
                      <a:pt x="74" y="305"/>
                    </a:lnTo>
                    <a:lnTo>
                      <a:pt x="71" y="280"/>
                    </a:lnTo>
                    <a:lnTo>
                      <a:pt x="68" y="254"/>
                    </a:lnTo>
                    <a:lnTo>
                      <a:pt x="67" y="227"/>
                    </a:lnTo>
                    <a:lnTo>
                      <a:pt x="67" y="198"/>
                    </a:lnTo>
                    <a:lnTo>
                      <a:pt x="68" y="168"/>
                    </a:lnTo>
                    <a:lnTo>
                      <a:pt x="70" y="138"/>
                    </a:lnTo>
                    <a:lnTo>
                      <a:pt x="72" y="106"/>
                    </a:lnTo>
                    <a:lnTo>
                      <a:pt x="75" y="73"/>
                    </a:lnTo>
                    <a:lnTo>
                      <a:pt x="80" y="37"/>
                    </a:lnTo>
                    <a:lnTo>
                      <a:pt x="76" y="47"/>
                    </a:lnTo>
                    <a:lnTo>
                      <a:pt x="80" y="37"/>
                    </a:lnTo>
                    <a:lnTo>
                      <a:pt x="80" y="29"/>
                    </a:lnTo>
                    <a:lnTo>
                      <a:pt x="79" y="22"/>
                    </a:lnTo>
                    <a:lnTo>
                      <a:pt x="75" y="17"/>
                    </a:lnTo>
                    <a:lnTo>
                      <a:pt x="72" y="11"/>
                    </a:lnTo>
                    <a:lnTo>
                      <a:pt x="67" y="6"/>
                    </a:lnTo>
                    <a:lnTo>
                      <a:pt x="62" y="3"/>
                    </a:lnTo>
                    <a:lnTo>
                      <a:pt x="56" y="1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32" y="2"/>
                    </a:lnTo>
                    <a:lnTo>
                      <a:pt x="26" y="5"/>
                    </a:lnTo>
                    <a:lnTo>
                      <a:pt x="22" y="9"/>
                    </a:lnTo>
                    <a:lnTo>
                      <a:pt x="17" y="14"/>
                    </a:lnTo>
                    <a:lnTo>
                      <a:pt x="14" y="21"/>
                    </a:lnTo>
                    <a:lnTo>
                      <a:pt x="13" y="29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6218280" y="4089240"/>
                <a:ext cx="235080" cy="125640"/>
              </a:xfrm>
              <a:custGeom>
                <a:avLst/>
                <a:gdLst/>
                <a:ahLst/>
                <a:rect l="l" t="t" r="r" b="b"/>
                <a:pathLst>
                  <a:path w="736" h="395">
                    <a:moveTo>
                      <a:pt x="720" y="17"/>
                    </a:moveTo>
                    <a:lnTo>
                      <a:pt x="708" y="12"/>
                    </a:lnTo>
                    <a:lnTo>
                      <a:pt x="678" y="8"/>
                    </a:lnTo>
                    <a:lnTo>
                      <a:pt x="649" y="4"/>
                    </a:lnTo>
                    <a:lnTo>
                      <a:pt x="619" y="2"/>
                    </a:lnTo>
                    <a:lnTo>
                      <a:pt x="591" y="1"/>
                    </a:lnTo>
                    <a:lnTo>
                      <a:pt x="562" y="0"/>
                    </a:lnTo>
                    <a:lnTo>
                      <a:pt x="535" y="1"/>
                    </a:lnTo>
                    <a:lnTo>
                      <a:pt x="507" y="2"/>
                    </a:lnTo>
                    <a:lnTo>
                      <a:pt x="481" y="4"/>
                    </a:lnTo>
                    <a:lnTo>
                      <a:pt x="455" y="9"/>
                    </a:lnTo>
                    <a:lnTo>
                      <a:pt x="429" y="13"/>
                    </a:lnTo>
                    <a:lnTo>
                      <a:pt x="404" y="19"/>
                    </a:lnTo>
                    <a:lnTo>
                      <a:pt x="378" y="25"/>
                    </a:lnTo>
                    <a:lnTo>
                      <a:pt x="355" y="33"/>
                    </a:lnTo>
                    <a:lnTo>
                      <a:pt x="331" y="42"/>
                    </a:lnTo>
                    <a:lnTo>
                      <a:pt x="307" y="51"/>
                    </a:lnTo>
                    <a:lnTo>
                      <a:pt x="284" y="62"/>
                    </a:lnTo>
                    <a:lnTo>
                      <a:pt x="262" y="74"/>
                    </a:lnTo>
                    <a:lnTo>
                      <a:pt x="241" y="86"/>
                    </a:lnTo>
                    <a:lnTo>
                      <a:pt x="220" y="100"/>
                    </a:lnTo>
                    <a:lnTo>
                      <a:pt x="200" y="115"/>
                    </a:lnTo>
                    <a:lnTo>
                      <a:pt x="179" y="131"/>
                    </a:lnTo>
                    <a:lnTo>
                      <a:pt x="160" y="147"/>
                    </a:lnTo>
                    <a:lnTo>
                      <a:pt x="141" y="165"/>
                    </a:lnTo>
                    <a:lnTo>
                      <a:pt x="123" y="183"/>
                    </a:lnTo>
                    <a:lnTo>
                      <a:pt x="106" y="203"/>
                    </a:lnTo>
                    <a:lnTo>
                      <a:pt x="89" y="223"/>
                    </a:lnTo>
                    <a:lnTo>
                      <a:pt x="73" y="245"/>
                    </a:lnTo>
                    <a:lnTo>
                      <a:pt x="57" y="268"/>
                    </a:lnTo>
                    <a:lnTo>
                      <a:pt x="41" y="290"/>
                    </a:lnTo>
                    <a:lnTo>
                      <a:pt x="27" y="314"/>
                    </a:lnTo>
                    <a:lnTo>
                      <a:pt x="14" y="341"/>
                    </a:lnTo>
                    <a:lnTo>
                      <a:pt x="0" y="366"/>
                    </a:lnTo>
                    <a:lnTo>
                      <a:pt x="60" y="395"/>
                    </a:lnTo>
                    <a:lnTo>
                      <a:pt x="73" y="371"/>
                    </a:lnTo>
                    <a:lnTo>
                      <a:pt x="86" y="349"/>
                    </a:lnTo>
                    <a:lnTo>
                      <a:pt x="99" y="326"/>
                    </a:lnTo>
                    <a:lnTo>
                      <a:pt x="113" y="305"/>
                    </a:lnTo>
                    <a:lnTo>
                      <a:pt x="127" y="285"/>
                    </a:lnTo>
                    <a:lnTo>
                      <a:pt x="141" y="265"/>
                    </a:lnTo>
                    <a:lnTo>
                      <a:pt x="157" y="247"/>
                    </a:lnTo>
                    <a:lnTo>
                      <a:pt x="172" y="229"/>
                    </a:lnTo>
                    <a:lnTo>
                      <a:pt x="188" y="213"/>
                    </a:lnTo>
                    <a:lnTo>
                      <a:pt x="205" y="197"/>
                    </a:lnTo>
                    <a:lnTo>
                      <a:pt x="222" y="182"/>
                    </a:lnTo>
                    <a:lnTo>
                      <a:pt x="239" y="168"/>
                    </a:lnTo>
                    <a:lnTo>
                      <a:pt x="258" y="156"/>
                    </a:lnTo>
                    <a:lnTo>
                      <a:pt x="276" y="143"/>
                    </a:lnTo>
                    <a:lnTo>
                      <a:pt x="295" y="132"/>
                    </a:lnTo>
                    <a:lnTo>
                      <a:pt x="315" y="122"/>
                    </a:lnTo>
                    <a:lnTo>
                      <a:pt x="334" y="112"/>
                    </a:lnTo>
                    <a:lnTo>
                      <a:pt x="355" y="105"/>
                    </a:lnTo>
                    <a:lnTo>
                      <a:pt x="376" y="97"/>
                    </a:lnTo>
                    <a:lnTo>
                      <a:pt x="397" y="90"/>
                    </a:lnTo>
                    <a:lnTo>
                      <a:pt x="420" y="84"/>
                    </a:lnTo>
                    <a:lnTo>
                      <a:pt x="441" y="79"/>
                    </a:lnTo>
                    <a:lnTo>
                      <a:pt x="464" y="75"/>
                    </a:lnTo>
                    <a:lnTo>
                      <a:pt x="488" y="71"/>
                    </a:lnTo>
                    <a:lnTo>
                      <a:pt x="512" y="69"/>
                    </a:lnTo>
                    <a:lnTo>
                      <a:pt x="537" y="68"/>
                    </a:lnTo>
                    <a:lnTo>
                      <a:pt x="562" y="68"/>
                    </a:lnTo>
                    <a:lnTo>
                      <a:pt x="588" y="68"/>
                    </a:lnTo>
                    <a:lnTo>
                      <a:pt x="614" y="69"/>
                    </a:lnTo>
                    <a:lnTo>
                      <a:pt x="642" y="71"/>
                    </a:lnTo>
                    <a:lnTo>
                      <a:pt x="669" y="75"/>
                    </a:lnTo>
                    <a:lnTo>
                      <a:pt x="698" y="78"/>
                    </a:lnTo>
                    <a:lnTo>
                      <a:pt x="685" y="74"/>
                    </a:lnTo>
                    <a:lnTo>
                      <a:pt x="698" y="78"/>
                    </a:lnTo>
                    <a:lnTo>
                      <a:pt x="706" y="79"/>
                    </a:lnTo>
                    <a:lnTo>
                      <a:pt x="713" y="78"/>
                    </a:lnTo>
                    <a:lnTo>
                      <a:pt x="719" y="76"/>
                    </a:lnTo>
                    <a:lnTo>
                      <a:pt x="724" y="73"/>
                    </a:lnTo>
                    <a:lnTo>
                      <a:pt x="728" y="68"/>
                    </a:lnTo>
                    <a:lnTo>
                      <a:pt x="732" y="62"/>
                    </a:lnTo>
                    <a:lnTo>
                      <a:pt x="734" y="57"/>
                    </a:lnTo>
                    <a:lnTo>
                      <a:pt x="736" y="51"/>
                    </a:lnTo>
                    <a:lnTo>
                      <a:pt x="736" y="44"/>
                    </a:lnTo>
                    <a:lnTo>
                      <a:pt x="736" y="38"/>
                    </a:lnTo>
                    <a:lnTo>
                      <a:pt x="734" y="33"/>
                    </a:lnTo>
                    <a:lnTo>
                      <a:pt x="732" y="27"/>
                    </a:lnTo>
                    <a:lnTo>
                      <a:pt x="727" y="21"/>
                    </a:lnTo>
                    <a:lnTo>
                      <a:pt x="723" y="18"/>
                    </a:lnTo>
                    <a:lnTo>
                      <a:pt x="716" y="14"/>
                    </a:lnTo>
                    <a:lnTo>
                      <a:pt x="708" y="12"/>
                    </a:lnTo>
                    <a:lnTo>
                      <a:pt x="720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5648400" y="3846600"/>
                <a:ext cx="301680" cy="384120"/>
              </a:xfrm>
              <a:custGeom>
                <a:avLst/>
                <a:gdLst/>
                <a:ahLst/>
                <a:rect l="l" t="t" r="r" b="b"/>
                <a:pathLst>
                  <a:path w="951" h="1208">
                    <a:moveTo>
                      <a:pt x="685" y="12"/>
                    </a:moveTo>
                    <a:lnTo>
                      <a:pt x="707" y="25"/>
                    </a:lnTo>
                    <a:lnTo>
                      <a:pt x="727" y="40"/>
                    </a:lnTo>
                    <a:lnTo>
                      <a:pt x="747" y="55"/>
                    </a:lnTo>
                    <a:lnTo>
                      <a:pt x="765" y="71"/>
                    </a:lnTo>
                    <a:lnTo>
                      <a:pt x="782" y="87"/>
                    </a:lnTo>
                    <a:lnTo>
                      <a:pt x="799" y="104"/>
                    </a:lnTo>
                    <a:lnTo>
                      <a:pt x="814" y="122"/>
                    </a:lnTo>
                    <a:lnTo>
                      <a:pt x="828" y="140"/>
                    </a:lnTo>
                    <a:lnTo>
                      <a:pt x="841" y="159"/>
                    </a:lnTo>
                    <a:lnTo>
                      <a:pt x="853" y="178"/>
                    </a:lnTo>
                    <a:lnTo>
                      <a:pt x="864" y="198"/>
                    </a:lnTo>
                    <a:lnTo>
                      <a:pt x="874" y="218"/>
                    </a:lnTo>
                    <a:lnTo>
                      <a:pt x="885" y="239"/>
                    </a:lnTo>
                    <a:lnTo>
                      <a:pt x="893" y="260"/>
                    </a:lnTo>
                    <a:lnTo>
                      <a:pt x="901" y="282"/>
                    </a:lnTo>
                    <a:lnTo>
                      <a:pt x="909" y="304"/>
                    </a:lnTo>
                    <a:lnTo>
                      <a:pt x="916" y="326"/>
                    </a:lnTo>
                    <a:lnTo>
                      <a:pt x="921" y="349"/>
                    </a:lnTo>
                    <a:lnTo>
                      <a:pt x="926" y="372"/>
                    </a:lnTo>
                    <a:lnTo>
                      <a:pt x="930" y="396"/>
                    </a:lnTo>
                    <a:lnTo>
                      <a:pt x="938" y="444"/>
                    </a:lnTo>
                    <a:lnTo>
                      <a:pt x="944" y="493"/>
                    </a:lnTo>
                    <a:lnTo>
                      <a:pt x="947" y="543"/>
                    </a:lnTo>
                    <a:lnTo>
                      <a:pt x="950" y="595"/>
                    </a:lnTo>
                    <a:lnTo>
                      <a:pt x="951" y="647"/>
                    </a:lnTo>
                    <a:lnTo>
                      <a:pt x="951" y="700"/>
                    </a:lnTo>
                    <a:lnTo>
                      <a:pt x="945" y="721"/>
                    </a:lnTo>
                    <a:lnTo>
                      <a:pt x="938" y="742"/>
                    </a:lnTo>
                    <a:lnTo>
                      <a:pt x="929" y="762"/>
                    </a:lnTo>
                    <a:lnTo>
                      <a:pt x="921" y="783"/>
                    </a:lnTo>
                    <a:lnTo>
                      <a:pt x="911" y="803"/>
                    </a:lnTo>
                    <a:lnTo>
                      <a:pt x="900" y="824"/>
                    </a:lnTo>
                    <a:lnTo>
                      <a:pt x="888" y="843"/>
                    </a:lnTo>
                    <a:lnTo>
                      <a:pt x="874" y="863"/>
                    </a:lnTo>
                    <a:lnTo>
                      <a:pt x="861" y="881"/>
                    </a:lnTo>
                    <a:lnTo>
                      <a:pt x="847" y="900"/>
                    </a:lnTo>
                    <a:lnTo>
                      <a:pt x="831" y="919"/>
                    </a:lnTo>
                    <a:lnTo>
                      <a:pt x="815" y="936"/>
                    </a:lnTo>
                    <a:lnTo>
                      <a:pt x="798" y="954"/>
                    </a:lnTo>
                    <a:lnTo>
                      <a:pt x="781" y="971"/>
                    </a:lnTo>
                    <a:lnTo>
                      <a:pt x="762" y="987"/>
                    </a:lnTo>
                    <a:lnTo>
                      <a:pt x="743" y="1004"/>
                    </a:lnTo>
                    <a:lnTo>
                      <a:pt x="723" y="1020"/>
                    </a:lnTo>
                    <a:lnTo>
                      <a:pt x="702" y="1036"/>
                    </a:lnTo>
                    <a:lnTo>
                      <a:pt x="682" y="1051"/>
                    </a:lnTo>
                    <a:lnTo>
                      <a:pt x="660" y="1066"/>
                    </a:lnTo>
                    <a:lnTo>
                      <a:pt x="637" y="1081"/>
                    </a:lnTo>
                    <a:lnTo>
                      <a:pt x="615" y="1094"/>
                    </a:lnTo>
                    <a:lnTo>
                      <a:pt x="591" y="1108"/>
                    </a:lnTo>
                    <a:lnTo>
                      <a:pt x="567" y="1121"/>
                    </a:lnTo>
                    <a:lnTo>
                      <a:pt x="543" y="1133"/>
                    </a:lnTo>
                    <a:lnTo>
                      <a:pt x="518" y="1146"/>
                    </a:lnTo>
                    <a:lnTo>
                      <a:pt x="493" y="1157"/>
                    </a:lnTo>
                    <a:lnTo>
                      <a:pt x="466" y="1168"/>
                    </a:lnTo>
                    <a:lnTo>
                      <a:pt x="440" y="1180"/>
                    </a:lnTo>
                    <a:lnTo>
                      <a:pt x="414" y="1190"/>
                    </a:lnTo>
                    <a:lnTo>
                      <a:pt x="387" y="1199"/>
                    </a:lnTo>
                    <a:lnTo>
                      <a:pt x="359" y="1208"/>
                    </a:lnTo>
                    <a:lnTo>
                      <a:pt x="307" y="1148"/>
                    </a:lnTo>
                    <a:lnTo>
                      <a:pt x="259" y="1090"/>
                    </a:lnTo>
                    <a:lnTo>
                      <a:pt x="214" y="1036"/>
                    </a:lnTo>
                    <a:lnTo>
                      <a:pt x="176" y="985"/>
                    </a:lnTo>
                    <a:lnTo>
                      <a:pt x="156" y="961"/>
                    </a:lnTo>
                    <a:lnTo>
                      <a:pt x="139" y="937"/>
                    </a:lnTo>
                    <a:lnTo>
                      <a:pt x="123" y="913"/>
                    </a:lnTo>
                    <a:lnTo>
                      <a:pt x="108" y="889"/>
                    </a:lnTo>
                    <a:lnTo>
                      <a:pt x="94" y="866"/>
                    </a:lnTo>
                    <a:lnTo>
                      <a:pt x="81" y="842"/>
                    </a:lnTo>
                    <a:lnTo>
                      <a:pt x="68" y="819"/>
                    </a:lnTo>
                    <a:lnTo>
                      <a:pt x="57" y="796"/>
                    </a:lnTo>
                    <a:lnTo>
                      <a:pt x="47" y="773"/>
                    </a:lnTo>
                    <a:lnTo>
                      <a:pt x="38" y="749"/>
                    </a:lnTo>
                    <a:lnTo>
                      <a:pt x="30" y="725"/>
                    </a:lnTo>
                    <a:lnTo>
                      <a:pt x="23" y="701"/>
                    </a:lnTo>
                    <a:lnTo>
                      <a:pt x="17" y="676"/>
                    </a:lnTo>
                    <a:lnTo>
                      <a:pt x="11" y="650"/>
                    </a:lnTo>
                    <a:lnTo>
                      <a:pt x="7" y="624"/>
                    </a:lnTo>
                    <a:lnTo>
                      <a:pt x="5" y="598"/>
                    </a:lnTo>
                    <a:lnTo>
                      <a:pt x="2" y="571"/>
                    </a:lnTo>
                    <a:lnTo>
                      <a:pt x="0" y="542"/>
                    </a:lnTo>
                    <a:lnTo>
                      <a:pt x="0" y="512"/>
                    </a:lnTo>
                    <a:lnTo>
                      <a:pt x="1" y="482"/>
                    </a:lnTo>
                    <a:lnTo>
                      <a:pt x="2" y="450"/>
                    </a:lnTo>
                    <a:lnTo>
                      <a:pt x="5" y="417"/>
                    </a:lnTo>
                    <a:lnTo>
                      <a:pt x="8" y="382"/>
                    </a:lnTo>
                    <a:lnTo>
                      <a:pt x="13" y="347"/>
                    </a:lnTo>
                    <a:lnTo>
                      <a:pt x="25" y="322"/>
                    </a:lnTo>
                    <a:lnTo>
                      <a:pt x="39" y="298"/>
                    </a:lnTo>
                    <a:lnTo>
                      <a:pt x="53" y="274"/>
                    </a:lnTo>
                    <a:lnTo>
                      <a:pt x="67" y="252"/>
                    </a:lnTo>
                    <a:lnTo>
                      <a:pt x="82" y="231"/>
                    </a:lnTo>
                    <a:lnTo>
                      <a:pt x="98" y="210"/>
                    </a:lnTo>
                    <a:lnTo>
                      <a:pt x="114" y="191"/>
                    </a:lnTo>
                    <a:lnTo>
                      <a:pt x="130" y="172"/>
                    </a:lnTo>
                    <a:lnTo>
                      <a:pt x="147" y="154"/>
                    </a:lnTo>
                    <a:lnTo>
                      <a:pt x="165" y="138"/>
                    </a:lnTo>
                    <a:lnTo>
                      <a:pt x="184" y="122"/>
                    </a:lnTo>
                    <a:lnTo>
                      <a:pt x="202" y="107"/>
                    </a:lnTo>
                    <a:lnTo>
                      <a:pt x="221" y="94"/>
                    </a:lnTo>
                    <a:lnTo>
                      <a:pt x="241" y="81"/>
                    </a:lnTo>
                    <a:lnTo>
                      <a:pt x="261" y="69"/>
                    </a:lnTo>
                    <a:lnTo>
                      <a:pt x="282" y="58"/>
                    </a:lnTo>
                    <a:lnTo>
                      <a:pt x="303" y="48"/>
                    </a:lnTo>
                    <a:lnTo>
                      <a:pt x="325" y="39"/>
                    </a:lnTo>
                    <a:lnTo>
                      <a:pt x="348" y="31"/>
                    </a:lnTo>
                    <a:lnTo>
                      <a:pt x="371" y="23"/>
                    </a:lnTo>
                    <a:lnTo>
                      <a:pt x="393" y="17"/>
                    </a:lnTo>
                    <a:lnTo>
                      <a:pt x="417" y="12"/>
                    </a:lnTo>
                    <a:lnTo>
                      <a:pt x="442" y="7"/>
                    </a:lnTo>
                    <a:lnTo>
                      <a:pt x="466" y="4"/>
                    </a:lnTo>
                    <a:lnTo>
                      <a:pt x="493" y="1"/>
                    </a:lnTo>
                    <a:lnTo>
                      <a:pt x="519" y="0"/>
                    </a:lnTo>
                    <a:lnTo>
                      <a:pt x="545" y="0"/>
                    </a:lnTo>
                    <a:lnTo>
                      <a:pt x="572" y="0"/>
                    </a:lnTo>
                    <a:lnTo>
                      <a:pt x="600" y="1"/>
                    </a:lnTo>
                    <a:lnTo>
                      <a:pt x="627" y="4"/>
                    </a:lnTo>
                    <a:lnTo>
                      <a:pt x="657" y="7"/>
                    </a:lnTo>
                    <a:lnTo>
                      <a:pt x="68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5859360" y="3841920"/>
                <a:ext cx="101880" cy="237960"/>
              </a:xfrm>
              <a:custGeom>
                <a:avLst/>
                <a:gdLst/>
                <a:ahLst/>
                <a:rect l="l" t="t" r="r" b="b"/>
                <a:pathLst>
                  <a:path w="317" h="750">
                    <a:moveTo>
                      <a:pt x="316" y="725"/>
                    </a:moveTo>
                    <a:lnTo>
                      <a:pt x="316" y="717"/>
                    </a:lnTo>
                    <a:lnTo>
                      <a:pt x="317" y="664"/>
                    </a:lnTo>
                    <a:lnTo>
                      <a:pt x="316" y="610"/>
                    </a:lnTo>
                    <a:lnTo>
                      <a:pt x="314" y="559"/>
                    </a:lnTo>
                    <a:lnTo>
                      <a:pt x="309" y="507"/>
                    </a:lnTo>
                    <a:lnTo>
                      <a:pt x="303" y="456"/>
                    </a:lnTo>
                    <a:lnTo>
                      <a:pt x="297" y="407"/>
                    </a:lnTo>
                    <a:lnTo>
                      <a:pt x="291" y="382"/>
                    </a:lnTo>
                    <a:lnTo>
                      <a:pt x="285" y="358"/>
                    </a:lnTo>
                    <a:lnTo>
                      <a:pt x="279" y="334"/>
                    </a:lnTo>
                    <a:lnTo>
                      <a:pt x="273" y="310"/>
                    </a:lnTo>
                    <a:lnTo>
                      <a:pt x="265" y="288"/>
                    </a:lnTo>
                    <a:lnTo>
                      <a:pt x="257" y="265"/>
                    </a:lnTo>
                    <a:lnTo>
                      <a:pt x="248" y="243"/>
                    </a:lnTo>
                    <a:lnTo>
                      <a:pt x="237" y="220"/>
                    </a:lnTo>
                    <a:lnTo>
                      <a:pt x="226" y="199"/>
                    </a:lnTo>
                    <a:lnTo>
                      <a:pt x="214" y="178"/>
                    </a:lnTo>
                    <a:lnTo>
                      <a:pt x="201" y="157"/>
                    </a:lnTo>
                    <a:lnTo>
                      <a:pt x="187" y="137"/>
                    </a:lnTo>
                    <a:lnTo>
                      <a:pt x="172" y="118"/>
                    </a:lnTo>
                    <a:lnTo>
                      <a:pt x="156" y="99"/>
                    </a:lnTo>
                    <a:lnTo>
                      <a:pt x="138" y="81"/>
                    </a:lnTo>
                    <a:lnTo>
                      <a:pt x="120" y="63"/>
                    </a:lnTo>
                    <a:lnTo>
                      <a:pt x="100" y="46"/>
                    </a:lnTo>
                    <a:lnTo>
                      <a:pt x="80" y="30"/>
                    </a:lnTo>
                    <a:lnTo>
                      <a:pt x="58" y="14"/>
                    </a:lnTo>
                    <a:lnTo>
                      <a:pt x="34" y="0"/>
                    </a:lnTo>
                    <a:lnTo>
                      <a:pt x="0" y="57"/>
                    </a:lnTo>
                    <a:lnTo>
                      <a:pt x="21" y="71"/>
                    </a:lnTo>
                    <a:lnTo>
                      <a:pt x="40" y="84"/>
                    </a:lnTo>
                    <a:lnTo>
                      <a:pt x="58" y="98"/>
                    </a:lnTo>
                    <a:lnTo>
                      <a:pt x="74" y="113"/>
                    </a:lnTo>
                    <a:lnTo>
                      <a:pt x="90" y="128"/>
                    </a:lnTo>
                    <a:lnTo>
                      <a:pt x="106" y="144"/>
                    </a:lnTo>
                    <a:lnTo>
                      <a:pt x="120" y="161"/>
                    </a:lnTo>
                    <a:lnTo>
                      <a:pt x="132" y="177"/>
                    </a:lnTo>
                    <a:lnTo>
                      <a:pt x="145" y="195"/>
                    </a:lnTo>
                    <a:lnTo>
                      <a:pt x="156" y="212"/>
                    </a:lnTo>
                    <a:lnTo>
                      <a:pt x="167" y="232"/>
                    </a:lnTo>
                    <a:lnTo>
                      <a:pt x="177" y="250"/>
                    </a:lnTo>
                    <a:lnTo>
                      <a:pt x="186" y="269"/>
                    </a:lnTo>
                    <a:lnTo>
                      <a:pt x="194" y="290"/>
                    </a:lnTo>
                    <a:lnTo>
                      <a:pt x="202" y="310"/>
                    </a:lnTo>
                    <a:lnTo>
                      <a:pt x="209" y="331"/>
                    </a:lnTo>
                    <a:lnTo>
                      <a:pt x="214" y="353"/>
                    </a:lnTo>
                    <a:lnTo>
                      <a:pt x="220" y="374"/>
                    </a:lnTo>
                    <a:lnTo>
                      <a:pt x="225" y="396"/>
                    </a:lnTo>
                    <a:lnTo>
                      <a:pt x="229" y="419"/>
                    </a:lnTo>
                    <a:lnTo>
                      <a:pt x="237" y="466"/>
                    </a:lnTo>
                    <a:lnTo>
                      <a:pt x="242" y="513"/>
                    </a:lnTo>
                    <a:lnTo>
                      <a:pt x="246" y="562"/>
                    </a:lnTo>
                    <a:lnTo>
                      <a:pt x="249" y="613"/>
                    </a:lnTo>
                    <a:lnTo>
                      <a:pt x="249" y="664"/>
                    </a:lnTo>
                    <a:lnTo>
                      <a:pt x="249" y="717"/>
                    </a:lnTo>
                    <a:lnTo>
                      <a:pt x="250" y="709"/>
                    </a:lnTo>
                    <a:lnTo>
                      <a:pt x="249" y="717"/>
                    </a:lnTo>
                    <a:lnTo>
                      <a:pt x="250" y="725"/>
                    </a:lnTo>
                    <a:lnTo>
                      <a:pt x="252" y="731"/>
                    </a:lnTo>
                    <a:lnTo>
                      <a:pt x="255" y="737"/>
                    </a:lnTo>
                    <a:lnTo>
                      <a:pt x="259" y="742"/>
                    </a:lnTo>
                    <a:lnTo>
                      <a:pt x="265" y="745"/>
                    </a:lnTo>
                    <a:lnTo>
                      <a:pt x="270" y="748"/>
                    </a:lnTo>
                    <a:lnTo>
                      <a:pt x="276" y="750"/>
                    </a:lnTo>
                    <a:lnTo>
                      <a:pt x="283" y="750"/>
                    </a:lnTo>
                    <a:lnTo>
                      <a:pt x="289" y="750"/>
                    </a:lnTo>
                    <a:lnTo>
                      <a:pt x="295" y="748"/>
                    </a:lnTo>
                    <a:lnTo>
                      <a:pt x="300" y="745"/>
                    </a:lnTo>
                    <a:lnTo>
                      <a:pt x="306" y="742"/>
                    </a:lnTo>
                    <a:lnTo>
                      <a:pt x="310" y="737"/>
                    </a:lnTo>
                    <a:lnTo>
                      <a:pt x="314" y="731"/>
                    </a:lnTo>
                    <a:lnTo>
                      <a:pt x="316" y="725"/>
                    </a:lnTo>
                    <a:lnTo>
                      <a:pt x="316" y="717"/>
                    </a:lnTo>
                    <a:lnTo>
                      <a:pt x="316" y="7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5751360" y="4067280"/>
                <a:ext cx="208080" cy="174600"/>
              </a:xfrm>
              <a:custGeom>
                <a:avLst/>
                <a:gdLst/>
                <a:ahLst/>
                <a:rect l="l" t="t" r="r" b="b"/>
                <a:pathLst>
                  <a:path w="658" h="551">
                    <a:moveTo>
                      <a:pt x="8" y="539"/>
                    </a:moveTo>
                    <a:lnTo>
                      <a:pt x="45" y="549"/>
                    </a:lnTo>
                    <a:lnTo>
                      <a:pt x="72" y="539"/>
                    </a:lnTo>
                    <a:lnTo>
                      <a:pt x="99" y="529"/>
                    </a:lnTo>
                    <a:lnTo>
                      <a:pt x="127" y="519"/>
                    </a:lnTo>
                    <a:lnTo>
                      <a:pt x="154" y="507"/>
                    </a:lnTo>
                    <a:lnTo>
                      <a:pt x="180" y="496"/>
                    </a:lnTo>
                    <a:lnTo>
                      <a:pt x="206" y="484"/>
                    </a:lnTo>
                    <a:lnTo>
                      <a:pt x="232" y="472"/>
                    </a:lnTo>
                    <a:lnTo>
                      <a:pt x="257" y="458"/>
                    </a:lnTo>
                    <a:lnTo>
                      <a:pt x="282" y="446"/>
                    </a:lnTo>
                    <a:lnTo>
                      <a:pt x="306" y="431"/>
                    </a:lnTo>
                    <a:lnTo>
                      <a:pt x="330" y="417"/>
                    </a:lnTo>
                    <a:lnTo>
                      <a:pt x="352" y="402"/>
                    </a:lnTo>
                    <a:lnTo>
                      <a:pt x="375" y="386"/>
                    </a:lnTo>
                    <a:lnTo>
                      <a:pt x="397" y="370"/>
                    </a:lnTo>
                    <a:lnTo>
                      <a:pt x="419" y="354"/>
                    </a:lnTo>
                    <a:lnTo>
                      <a:pt x="439" y="337"/>
                    </a:lnTo>
                    <a:lnTo>
                      <a:pt x="458" y="321"/>
                    </a:lnTo>
                    <a:lnTo>
                      <a:pt x="478" y="303"/>
                    </a:lnTo>
                    <a:lnTo>
                      <a:pt x="496" y="285"/>
                    </a:lnTo>
                    <a:lnTo>
                      <a:pt x="514" y="266"/>
                    </a:lnTo>
                    <a:lnTo>
                      <a:pt x="530" y="248"/>
                    </a:lnTo>
                    <a:lnTo>
                      <a:pt x="547" y="229"/>
                    </a:lnTo>
                    <a:lnTo>
                      <a:pt x="562" y="209"/>
                    </a:lnTo>
                    <a:lnTo>
                      <a:pt x="577" y="189"/>
                    </a:lnTo>
                    <a:lnTo>
                      <a:pt x="591" y="170"/>
                    </a:lnTo>
                    <a:lnTo>
                      <a:pt x="603" y="148"/>
                    </a:lnTo>
                    <a:lnTo>
                      <a:pt x="615" y="127"/>
                    </a:lnTo>
                    <a:lnTo>
                      <a:pt x="625" y="106"/>
                    </a:lnTo>
                    <a:lnTo>
                      <a:pt x="635" y="84"/>
                    </a:lnTo>
                    <a:lnTo>
                      <a:pt x="643" y="61"/>
                    </a:lnTo>
                    <a:lnTo>
                      <a:pt x="651" y="38"/>
                    </a:lnTo>
                    <a:lnTo>
                      <a:pt x="658" y="16"/>
                    </a:lnTo>
                    <a:lnTo>
                      <a:pt x="592" y="0"/>
                    </a:lnTo>
                    <a:lnTo>
                      <a:pt x="586" y="19"/>
                    </a:lnTo>
                    <a:lnTo>
                      <a:pt x="580" y="38"/>
                    </a:lnTo>
                    <a:lnTo>
                      <a:pt x="572" y="58"/>
                    </a:lnTo>
                    <a:lnTo>
                      <a:pt x="564" y="77"/>
                    </a:lnTo>
                    <a:lnTo>
                      <a:pt x="555" y="95"/>
                    </a:lnTo>
                    <a:lnTo>
                      <a:pt x="544" y="115"/>
                    </a:lnTo>
                    <a:lnTo>
                      <a:pt x="534" y="133"/>
                    </a:lnTo>
                    <a:lnTo>
                      <a:pt x="521" y="151"/>
                    </a:lnTo>
                    <a:lnTo>
                      <a:pt x="509" y="170"/>
                    </a:lnTo>
                    <a:lnTo>
                      <a:pt x="495" y="187"/>
                    </a:lnTo>
                    <a:lnTo>
                      <a:pt x="480" y="204"/>
                    </a:lnTo>
                    <a:lnTo>
                      <a:pt x="464" y="221"/>
                    </a:lnTo>
                    <a:lnTo>
                      <a:pt x="448" y="238"/>
                    </a:lnTo>
                    <a:lnTo>
                      <a:pt x="431" y="254"/>
                    </a:lnTo>
                    <a:lnTo>
                      <a:pt x="414" y="270"/>
                    </a:lnTo>
                    <a:lnTo>
                      <a:pt x="396" y="286"/>
                    </a:lnTo>
                    <a:lnTo>
                      <a:pt x="376" y="302"/>
                    </a:lnTo>
                    <a:lnTo>
                      <a:pt x="357" y="317"/>
                    </a:lnTo>
                    <a:lnTo>
                      <a:pt x="336" y="332"/>
                    </a:lnTo>
                    <a:lnTo>
                      <a:pt x="315" y="345"/>
                    </a:lnTo>
                    <a:lnTo>
                      <a:pt x="293" y="360"/>
                    </a:lnTo>
                    <a:lnTo>
                      <a:pt x="271" y="373"/>
                    </a:lnTo>
                    <a:lnTo>
                      <a:pt x="249" y="386"/>
                    </a:lnTo>
                    <a:lnTo>
                      <a:pt x="225" y="399"/>
                    </a:lnTo>
                    <a:lnTo>
                      <a:pt x="202" y="411"/>
                    </a:lnTo>
                    <a:lnTo>
                      <a:pt x="177" y="423"/>
                    </a:lnTo>
                    <a:lnTo>
                      <a:pt x="153" y="434"/>
                    </a:lnTo>
                    <a:lnTo>
                      <a:pt x="128" y="446"/>
                    </a:lnTo>
                    <a:lnTo>
                      <a:pt x="102" y="456"/>
                    </a:lnTo>
                    <a:lnTo>
                      <a:pt x="77" y="466"/>
                    </a:lnTo>
                    <a:lnTo>
                      <a:pt x="50" y="475"/>
                    </a:lnTo>
                    <a:lnTo>
                      <a:pt x="23" y="484"/>
                    </a:lnTo>
                    <a:lnTo>
                      <a:pt x="59" y="495"/>
                    </a:lnTo>
                    <a:lnTo>
                      <a:pt x="23" y="484"/>
                    </a:lnTo>
                    <a:lnTo>
                      <a:pt x="16" y="488"/>
                    </a:lnTo>
                    <a:lnTo>
                      <a:pt x="10" y="492"/>
                    </a:lnTo>
                    <a:lnTo>
                      <a:pt x="6" y="497"/>
                    </a:lnTo>
                    <a:lnTo>
                      <a:pt x="2" y="503"/>
                    </a:lnTo>
                    <a:lnTo>
                      <a:pt x="0" y="508"/>
                    </a:lnTo>
                    <a:lnTo>
                      <a:pt x="0" y="515"/>
                    </a:lnTo>
                    <a:lnTo>
                      <a:pt x="0" y="521"/>
                    </a:lnTo>
                    <a:lnTo>
                      <a:pt x="1" y="528"/>
                    </a:lnTo>
                    <a:lnTo>
                      <a:pt x="4" y="533"/>
                    </a:lnTo>
                    <a:lnTo>
                      <a:pt x="7" y="538"/>
                    </a:lnTo>
                    <a:lnTo>
                      <a:pt x="12" y="543"/>
                    </a:lnTo>
                    <a:lnTo>
                      <a:pt x="17" y="547"/>
                    </a:lnTo>
                    <a:lnTo>
                      <a:pt x="23" y="549"/>
                    </a:lnTo>
                    <a:lnTo>
                      <a:pt x="30" y="551"/>
                    </a:lnTo>
                    <a:lnTo>
                      <a:pt x="37" y="551"/>
                    </a:lnTo>
                    <a:lnTo>
                      <a:pt x="45" y="549"/>
                    </a:lnTo>
                    <a:lnTo>
                      <a:pt x="8" y="5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5637240" y="3946680"/>
                <a:ext cx="133200" cy="291960"/>
              </a:xfrm>
              <a:custGeom>
                <a:avLst/>
                <a:gdLst/>
                <a:ahLst/>
                <a:rect l="l" t="t" r="r" b="b"/>
                <a:pathLst>
                  <a:path w="419" h="918">
                    <a:moveTo>
                      <a:pt x="16" y="19"/>
                    </a:moveTo>
                    <a:lnTo>
                      <a:pt x="12" y="29"/>
                    </a:lnTo>
                    <a:lnTo>
                      <a:pt x="9" y="66"/>
                    </a:lnTo>
                    <a:lnTo>
                      <a:pt x="4" y="101"/>
                    </a:lnTo>
                    <a:lnTo>
                      <a:pt x="2" y="136"/>
                    </a:lnTo>
                    <a:lnTo>
                      <a:pt x="1" y="167"/>
                    </a:lnTo>
                    <a:lnTo>
                      <a:pt x="0" y="199"/>
                    </a:lnTo>
                    <a:lnTo>
                      <a:pt x="1" y="229"/>
                    </a:lnTo>
                    <a:lnTo>
                      <a:pt x="2" y="260"/>
                    </a:lnTo>
                    <a:lnTo>
                      <a:pt x="4" y="288"/>
                    </a:lnTo>
                    <a:lnTo>
                      <a:pt x="8" y="316"/>
                    </a:lnTo>
                    <a:lnTo>
                      <a:pt x="12" y="343"/>
                    </a:lnTo>
                    <a:lnTo>
                      <a:pt x="18" y="371"/>
                    </a:lnTo>
                    <a:lnTo>
                      <a:pt x="24" y="397"/>
                    </a:lnTo>
                    <a:lnTo>
                      <a:pt x="32" y="422"/>
                    </a:lnTo>
                    <a:lnTo>
                      <a:pt x="41" y="447"/>
                    </a:lnTo>
                    <a:lnTo>
                      <a:pt x="50" y="472"/>
                    </a:lnTo>
                    <a:lnTo>
                      <a:pt x="61" y="497"/>
                    </a:lnTo>
                    <a:lnTo>
                      <a:pt x="73" y="521"/>
                    </a:lnTo>
                    <a:lnTo>
                      <a:pt x="85" y="545"/>
                    </a:lnTo>
                    <a:lnTo>
                      <a:pt x="99" y="570"/>
                    </a:lnTo>
                    <a:lnTo>
                      <a:pt x="114" y="594"/>
                    </a:lnTo>
                    <a:lnTo>
                      <a:pt x="129" y="618"/>
                    </a:lnTo>
                    <a:lnTo>
                      <a:pt x="146" y="643"/>
                    </a:lnTo>
                    <a:lnTo>
                      <a:pt x="164" y="667"/>
                    </a:lnTo>
                    <a:lnTo>
                      <a:pt x="182" y="692"/>
                    </a:lnTo>
                    <a:lnTo>
                      <a:pt x="222" y="745"/>
                    </a:lnTo>
                    <a:lnTo>
                      <a:pt x="267" y="798"/>
                    </a:lnTo>
                    <a:lnTo>
                      <a:pt x="316" y="857"/>
                    </a:lnTo>
                    <a:lnTo>
                      <a:pt x="368" y="918"/>
                    </a:lnTo>
                    <a:lnTo>
                      <a:pt x="419" y="874"/>
                    </a:lnTo>
                    <a:lnTo>
                      <a:pt x="367" y="812"/>
                    </a:lnTo>
                    <a:lnTo>
                      <a:pt x="319" y="755"/>
                    </a:lnTo>
                    <a:lnTo>
                      <a:pt x="275" y="703"/>
                    </a:lnTo>
                    <a:lnTo>
                      <a:pt x="236" y="651"/>
                    </a:lnTo>
                    <a:lnTo>
                      <a:pt x="218" y="627"/>
                    </a:lnTo>
                    <a:lnTo>
                      <a:pt x="201" y="604"/>
                    </a:lnTo>
                    <a:lnTo>
                      <a:pt x="186" y="580"/>
                    </a:lnTo>
                    <a:lnTo>
                      <a:pt x="171" y="558"/>
                    </a:lnTo>
                    <a:lnTo>
                      <a:pt x="157" y="536"/>
                    </a:lnTo>
                    <a:lnTo>
                      <a:pt x="145" y="513"/>
                    </a:lnTo>
                    <a:lnTo>
                      <a:pt x="133" y="491"/>
                    </a:lnTo>
                    <a:lnTo>
                      <a:pt x="122" y="469"/>
                    </a:lnTo>
                    <a:lnTo>
                      <a:pt x="113" y="447"/>
                    </a:lnTo>
                    <a:lnTo>
                      <a:pt x="104" y="424"/>
                    </a:lnTo>
                    <a:lnTo>
                      <a:pt x="97" y="402"/>
                    </a:lnTo>
                    <a:lnTo>
                      <a:pt x="90" y="379"/>
                    </a:lnTo>
                    <a:lnTo>
                      <a:pt x="83" y="356"/>
                    </a:lnTo>
                    <a:lnTo>
                      <a:pt x="79" y="332"/>
                    </a:lnTo>
                    <a:lnTo>
                      <a:pt x="75" y="307"/>
                    </a:lnTo>
                    <a:lnTo>
                      <a:pt x="72" y="282"/>
                    </a:lnTo>
                    <a:lnTo>
                      <a:pt x="69" y="255"/>
                    </a:lnTo>
                    <a:lnTo>
                      <a:pt x="68" y="228"/>
                    </a:lnTo>
                    <a:lnTo>
                      <a:pt x="68" y="199"/>
                    </a:lnTo>
                    <a:lnTo>
                      <a:pt x="68" y="170"/>
                    </a:lnTo>
                    <a:lnTo>
                      <a:pt x="69" y="139"/>
                    </a:lnTo>
                    <a:lnTo>
                      <a:pt x="72" y="107"/>
                    </a:lnTo>
                    <a:lnTo>
                      <a:pt x="75" y="74"/>
                    </a:lnTo>
                    <a:lnTo>
                      <a:pt x="80" y="39"/>
                    </a:lnTo>
                    <a:lnTo>
                      <a:pt x="76" y="49"/>
                    </a:lnTo>
                    <a:lnTo>
                      <a:pt x="80" y="39"/>
                    </a:lnTo>
                    <a:lnTo>
                      <a:pt x="80" y="31"/>
                    </a:lnTo>
                    <a:lnTo>
                      <a:pt x="79" y="24"/>
                    </a:lnTo>
                    <a:lnTo>
                      <a:pt x="76" y="17"/>
                    </a:lnTo>
                    <a:lnTo>
                      <a:pt x="73" y="12"/>
                    </a:lnTo>
                    <a:lnTo>
                      <a:pt x="68" y="8"/>
                    </a:lnTo>
                    <a:lnTo>
                      <a:pt x="63" y="4"/>
                    </a:lnTo>
                    <a:lnTo>
                      <a:pt x="57" y="2"/>
                    </a:lnTo>
                    <a:lnTo>
                      <a:pt x="51" y="1"/>
                    </a:lnTo>
                    <a:lnTo>
                      <a:pt x="44" y="0"/>
                    </a:lnTo>
                    <a:lnTo>
                      <a:pt x="39" y="1"/>
                    </a:lnTo>
                    <a:lnTo>
                      <a:pt x="32" y="3"/>
                    </a:lnTo>
                    <a:lnTo>
                      <a:pt x="26" y="5"/>
                    </a:lnTo>
                    <a:lnTo>
                      <a:pt x="22" y="10"/>
                    </a:lnTo>
                    <a:lnTo>
                      <a:pt x="18" y="16"/>
                    </a:lnTo>
                    <a:lnTo>
                      <a:pt x="15" y="21"/>
                    </a:lnTo>
                    <a:lnTo>
                      <a:pt x="12" y="29"/>
                    </a:lnTo>
                    <a:lnTo>
                      <a:pt x="16" y="1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5641920" y="3836880"/>
                <a:ext cx="233280" cy="125640"/>
              </a:xfrm>
              <a:custGeom>
                <a:avLst/>
                <a:gdLst/>
                <a:ahLst/>
                <a:rect l="l" t="t" r="r" b="b"/>
                <a:pathLst>
                  <a:path w="737" h="396">
                    <a:moveTo>
                      <a:pt x="720" y="17"/>
                    </a:moveTo>
                    <a:lnTo>
                      <a:pt x="709" y="12"/>
                    </a:lnTo>
                    <a:lnTo>
                      <a:pt x="678" y="8"/>
                    </a:lnTo>
                    <a:lnTo>
                      <a:pt x="649" y="4"/>
                    </a:lnTo>
                    <a:lnTo>
                      <a:pt x="620" y="2"/>
                    </a:lnTo>
                    <a:lnTo>
                      <a:pt x="592" y="0"/>
                    </a:lnTo>
                    <a:lnTo>
                      <a:pt x="563" y="0"/>
                    </a:lnTo>
                    <a:lnTo>
                      <a:pt x="536" y="1"/>
                    </a:lnTo>
                    <a:lnTo>
                      <a:pt x="508" y="2"/>
                    </a:lnTo>
                    <a:lnTo>
                      <a:pt x="481" y="4"/>
                    </a:lnTo>
                    <a:lnTo>
                      <a:pt x="455" y="8"/>
                    </a:lnTo>
                    <a:lnTo>
                      <a:pt x="428" y="12"/>
                    </a:lnTo>
                    <a:lnTo>
                      <a:pt x="403" y="18"/>
                    </a:lnTo>
                    <a:lnTo>
                      <a:pt x="378" y="25"/>
                    </a:lnTo>
                    <a:lnTo>
                      <a:pt x="354" y="33"/>
                    </a:lnTo>
                    <a:lnTo>
                      <a:pt x="330" y="41"/>
                    </a:lnTo>
                    <a:lnTo>
                      <a:pt x="308" y="51"/>
                    </a:lnTo>
                    <a:lnTo>
                      <a:pt x="285" y="62"/>
                    </a:lnTo>
                    <a:lnTo>
                      <a:pt x="262" y="73"/>
                    </a:lnTo>
                    <a:lnTo>
                      <a:pt x="242" y="87"/>
                    </a:lnTo>
                    <a:lnTo>
                      <a:pt x="220" y="100"/>
                    </a:lnTo>
                    <a:lnTo>
                      <a:pt x="199" y="115"/>
                    </a:lnTo>
                    <a:lnTo>
                      <a:pt x="180" y="130"/>
                    </a:lnTo>
                    <a:lnTo>
                      <a:pt x="161" y="147"/>
                    </a:lnTo>
                    <a:lnTo>
                      <a:pt x="142" y="164"/>
                    </a:lnTo>
                    <a:lnTo>
                      <a:pt x="124" y="184"/>
                    </a:lnTo>
                    <a:lnTo>
                      <a:pt x="106" y="203"/>
                    </a:lnTo>
                    <a:lnTo>
                      <a:pt x="89" y="224"/>
                    </a:lnTo>
                    <a:lnTo>
                      <a:pt x="73" y="245"/>
                    </a:lnTo>
                    <a:lnTo>
                      <a:pt x="57" y="267"/>
                    </a:lnTo>
                    <a:lnTo>
                      <a:pt x="42" y="291"/>
                    </a:lnTo>
                    <a:lnTo>
                      <a:pt x="27" y="315"/>
                    </a:lnTo>
                    <a:lnTo>
                      <a:pt x="14" y="340"/>
                    </a:lnTo>
                    <a:lnTo>
                      <a:pt x="0" y="366"/>
                    </a:lnTo>
                    <a:lnTo>
                      <a:pt x="60" y="396"/>
                    </a:lnTo>
                    <a:lnTo>
                      <a:pt x="73" y="372"/>
                    </a:lnTo>
                    <a:lnTo>
                      <a:pt x="85" y="349"/>
                    </a:lnTo>
                    <a:lnTo>
                      <a:pt x="99" y="326"/>
                    </a:lnTo>
                    <a:lnTo>
                      <a:pt x="113" y="305"/>
                    </a:lnTo>
                    <a:lnTo>
                      <a:pt x="128" y="285"/>
                    </a:lnTo>
                    <a:lnTo>
                      <a:pt x="142" y="266"/>
                    </a:lnTo>
                    <a:lnTo>
                      <a:pt x="157" y="246"/>
                    </a:lnTo>
                    <a:lnTo>
                      <a:pt x="173" y="229"/>
                    </a:lnTo>
                    <a:lnTo>
                      <a:pt x="189" y="213"/>
                    </a:lnTo>
                    <a:lnTo>
                      <a:pt x="206" y="197"/>
                    </a:lnTo>
                    <a:lnTo>
                      <a:pt x="222" y="182"/>
                    </a:lnTo>
                    <a:lnTo>
                      <a:pt x="240" y="169"/>
                    </a:lnTo>
                    <a:lnTo>
                      <a:pt x="259" y="155"/>
                    </a:lnTo>
                    <a:lnTo>
                      <a:pt x="277" y="144"/>
                    </a:lnTo>
                    <a:lnTo>
                      <a:pt x="295" y="132"/>
                    </a:lnTo>
                    <a:lnTo>
                      <a:pt x="314" y="122"/>
                    </a:lnTo>
                    <a:lnTo>
                      <a:pt x="335" y="113"/>
                    </a:lnTo>
                    <a:lnTo>
                      <a:pt x="356" y="104"/>
                    </a:lnTo>
                    <a:lnTo>
                      <a:pt x="376" y="97"/>
                    </a:lnTo>
                    <a:lnTo>
                      <a:pt x="398" y="90"/>
                    </a:lnTo>
                    <a:lnTo>
                      <a:pt x="419" y="84"/>
                    </a:lnTo>
                    <a:lnTo>
                      <a:pt x="442" y="79"/>
                    </a:lnTo>
                    <a:lnTo>
                      <a:pt x="465" y="75"/>
                    </a:lnTo>
                    <a:lnTo>
                      <a:pt x="489" y="72"/>
                    </a:lnTo>
                    <a:lnTo>
                      <a:pt x="513" y="70"/>
                    </a:lnTo>
                    <a:lnTo>
                      <a:pt x="538" y="68"/>
                    </a:lnTo>
                    <a:lnTo>
                      <a:pt x="563" y="67"/>
                    </a:lnTo>
                    <a:lnTo>
                      <a:pt x="589" y="67"/>
                    </a:lnTo>
                    <a:lnTo>
                      <a:pt x="615" y="70"/>
                    </a:lnTo>
                    <a:lnTo>
                      <a:pt x="643" y="72"/>
                    </a:lnTo>
                    <a:lnTo>
                      <a:pt x="670" y="74"/>
                    </a:lnTo>
                    <a:lnTo>
                      <a:pt x="699" y="79"/>
                    </a:lnTo>
                    <a:lnTo>
                      <a:pt x="686" y="74"/>
                    </a:lnTo>
                    <a:lnTo>
                      <a:pt x="699" y="79"/>
                    </a:lnTo>
                    <a:lnTo>
                      <a:pt x="706" y="79"/>
                    </a:lnTo>
                    <a:lnTo>
                      <a:pt x="713" y="78"/>
                    </a:lnTo>
                    <a:lnTo>
                      <a:pt x="719" y="75"/>
                    </a:lnTo>
                    <a:lnTo>
                      <a:pt x="725" y="72"/>
                    </a:lnTo>
                    <a:lnTo>
                      <a:pt x="729" y="67"/>
                    </a:lnTo>
                    <a:lnTo>
                      <a:pt x="733" y="63"/>
                    </a:lnTo>
                    <a:lnTo>
                      <a:pt x="735" y="57"/>
                    </a:lnTo>
                    <a:lnTo>
                      <a:pt x="736" y="50"/>
                    </a:lnTo>
                    <a:lnTo>
                      <a:pt x="737" y="44"/>
                    </a:lnTo>
                    <a:lnTo>
                      <a:pt x="736" y="38"/>
                    </a:lnTo>
                    <a:lnTo>
                      <a:pt x="735" y="32"/>
                    </a:lnTo>
                    <a:lnTo>
                      <a:pt x="732" y="26"/>
                    </a:lnTo>
                    <a:lnTo>
                      <a:pt x="728" y="22"/>
                    </a:lnTo>
                    <a:lnTo>
                      <a:pt x="723" y="17"/>
                    </a:lnTo>
                    <a:lnTo>
                      <a:pt x="716" y="14"/>
                    </a:lnTo>
                    <a:lnTo>
                      <a:pt x="709" y="12"/>
                    </a:lnTo>
                    <a:lnTo>
                      <a:pt x="720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5397480" y="3801960"/>
                <a:ext cx="222120" cy="282600"/>
              </a:xfrm>
              <a:custGeom>
                <a:avLst/>
                <a:gdLst/>
                <a:ahLst/>
                <a:rect l="l" t="t" r="r" b="b"/>
                <a:pathLst>
                  <a:path w="701" h="891">
                    <a:moveTo>
                      <a:pt x="505" y="8"/>
                    </a:moveTo>
                    <a:lnTo>
                      <a:pt x="522" y="18"/>
                    </a:lnTo>
                    <a:lnTo>
                      <a:pt x="537" y="29"/>
                    </a:lnTo>
                    <a:lnTo>
                      <a:pt x="551" y="41"/>
                    </a:lnTo>
                    <a:lnTo>
                      <a:pt x="564" y="52"/>
                    </a:lnTo>
                    <a:lnTo>
                      <a:pt x="577" y="65"/>
                    </a:lnTo>
                    <a:lnTo>
                      <a:pt x="589" y="77"/>
                    </a:lnTo>
                    <a:lnTo>
                      <a:pt x="601" y="90"/>
                    </a:lnTo>
                    <a:lnTo>
                      <a:pt x="611" y="104"/>
                    </a:lnTo>
                    <a:lnTo>
                      <a:pt x="620" y="117"/>
                    </a:lnTo>
                    <a:lnTo>
                      <a:pt x="629" y="131"/>
                    </a:lnTo>
                    <a:lnTo>
                      <a:pt x="637" y="146"/>
                    </a:lnTo>
                    <a:lnTo>
                      <a:pt x="645" y="161"/>
                    </a:lnTo>
                    <a:lnTo>
                      <a:pt x="652" y="177"/>
                    </a:lnTo>
                    <a:lnTo>
                      <a:pt x="659" y="191"/>
                    </a:lnTo>
                    <a:lnTo>
                      <a:pt x="665" y="207"/>
                    </a:lnTo>
                    <a:lnTo>
                      <a:pt x="670" y="223"/>
                    </a:lnTo>
                    <a:lnTo>
                      <a:pt x="680" y="258"/>
                    </a:lnTo>
                    <a:lnTo>
                      <a:pt x="686" y="292"/>
                    </a:lnTo>
                    <a:lnTo>
                      <a:pt x="692" y="327"/>
                    </a:lnTo>
                    <a:lnTo>
                      <a:pt x="697" y="362"/>
                    </a:lnTo>
                    <a:lnTo>
                      <a:pt x="699" y="400"/>
                    </a:lnTo>
                    <a:lnTo>
                      <a:pt x="700" y="438"/>
                    </a:lnTo>
                    <a:lnTo>
                      <a:pt x="701" y="475"/>
                    </a:lnTo>
                    <a:lnTo>
                      <a:pt x="701" y="514"/>
                    </a:lnTo>
                    <a:lnTo>
                      <a:pt x="697" y="530"/>
                    </a:lnTo>
                    <a:lnTo>
                      <a:pt x="691" y="546"/>
                    </a:lnTo>
                    <a:lnTo>
                      <a:pt x="685" y="561"/>
                    </a:lnTo>
                    <a:lnTo>
                      <a:pt x="678" y="576"/>
                    </a:lnTo>
                    <a:lnTo>
                      <a:pt x="672" y="591"/>
                    </a:lnTo>
                    <a:lnTo>
                      <a:pt x="662" y="605"/>
                    </a:lnTo>
                    <a:lnTo>
                      <a:pt x="654" y="620"/>
                    </a:lnTo>
                    <a:lnTo>
                      <a:pt x="644" y="634"/>
                    </a:lnTo>
                    <a:lnTo>
                      <a:pt x="635" y="649"/>
                    </a:lnTo>
                    <a:lnTo>
                      <a:pt x="624" y="663"/>
                    </a:lnTo>
                    <a:lnTo>
                      <a:pt x="612" y="676"/>
                    </a:lnTo>
                    <a:lnTo>
                      <a:pt x="601" y="689"/>
                    </a:lnTo>
                    <a:lnTo>
                      <a:pt x="588" y="702"/>
                    </a:lnTo>
                    <a:lnTo>
                      <a:pt x="575" y="715"/>
                    </a:lnTo>
                    <a:lnTo>
                      <a:pt x="561" y="726"/>
                    </a:lnTo>
                    <a:lnTo>
                      <a:pt x="547" y="739"/>
                    </a:lnTo>
                    <a:lnTo>
                      <a:pt x="518" y="763"/>
                    </a:lnTo>
                    <a:lnTo>
                      <a:pt x="486" y="785"/>
                    </a:lnTo>
                    <a:lnTo>
                      <a:pt x="453" y="806"/>
                    </a:lnTo>
                    <a:lnTo>
                      <a:pt x="418" y="826"/>
                    </a:lnTo>
                    <a:lnTo>
                      <a:pt x="382" y="844"/>
                    </a:lnTo>
                    <a:lnTo>
                      <a:pt x="344" y="861"/>
                    </a:lnTo>
                    <a:lnTo>
                      <a:pt x="306" y="877"/>
                    </a:lnTo>
                    <a:lnTo>
                      <a:pt x="267" y="891"/>
                    </a:lnTo>
                    <a:lnTo>
                      <a:pt x="228" y="846"/>
                    </a:lnTo>
                    <a:lnTo>
                      <a:pt x="193" y="804"/>
                    </a:lnTo>
                    <a:lnTo>
                      <a:pt x="160" y="764"/>
                    </a:lnTo>
                    <a:lnTo>
                      <a:pt x="131" y="726"/>
                    </a:lnTo>
                    <a:lnTo>
                      <a:pt x="105" y="690"/>
                    </a:lnTo>
                    <a:lnTo>
                      <a:pt x="81" y="655"/>
                    </a:lnTo>
                    <a:lnTo>
                      <a:pt x="71" y="637"/>
                    </a:lnTo>
                    <a:lnTo>
                      <a:pt x="60" y="620"/>
                    </a:lnTo>
                    <a:lnTo>
                      <a:pt x="51" y="603"/>
                    </a:lnTo>
                    <a:lnTo>
                      <a:pt x="43" y="586"/>
                    </a:lnTo>
                    <a:lnTo>
                      <a:pt x="37" y="569"/>
                    </a:lnTo>
                    <a:lnTo>
                      <a:pt x="30" y="552"/>
                    </a:lnTo>
                    <a:lnTo>
                      <a:pt x="23" y="534"/>
                    </a:lnTo>
                    <a:lnTo>
                      <a:pt x="18" y="517"/>
                    </a:lnTo>
                    <a:lnTo>
                      <a:pt x="13" y="498"/>
                    </a:lnTo>
                    <a:lnTo>
                      <a:pt x="9" y="479"/>
                    </a:lnTo>
                    <a:lnTo>
                      <a:pt x="6" y="459"/>
                    </a:lnTo>
                    <a:lnTo>
                      <a:pt x="3" y="440"/>
                    </a:lnTo>
                    <a:lnTo>
                      <a:pt x="1" y="420"/>
                    </a:lnTo>
                    <a:lnTo>
                      <a:pt x="0" y="399"/>
                    </a:lnTo>
                    <a:lnTo>
                      <a:pt x="0" y="377"/>
                    </a:lnTo>
                    <a:lnTo>
                      <a:pt x="0" y="354"/>
                    </a:lnTo>
                    <a:lnTo>
                      <a:pt x="1" y="332"/>
                    </a:lnTo>
                    <a:lnTo>
                      <a:pt x="3" y="308"/>
                    </a:lnTo>
                    <a:lnTo>
                      <a:pt x="6" y="283"/>
                    </a:lnTo>
                    <a:lnTo>
                      <a:pt x="9" y="256"/>
                    </a:lnTo>
                    <a:lnTo>
                      <a:pt x="18" y="237"/>
                    </a:lnTo>
                    <a:lnTo>
                      <a:pt x="29" y="220"/>
                    </a:lnTo>
                    <a:lnTo>
                      <a:pt x="39" y="203"/>
                    </a:lnTo>
                    <a:lnTo>
                      <a:pt x="49" y="186"/>
                    </a:lnTo>
                    <a:lnTo>
                      <a:pt x="60" y="170"/>
                    </a:lnTo>
                    <a:lnTo>
                      <a:pt x="72" y="155"/>
                    </a:lnTo>
                    <a:lnTo>
                      <a:pt x="84" y="140"/>
                    </a:lnTo>
                    <a:lnTo>
                      <a:pt x="97" y="126"/>
                    </a:lnTo>
                    <a:lnTo>
                      <a:pt x="110" y="114"/>
                    </a:lnTo>
                    <a:lnTo>
                      <a:pt x="122" y="101"/>
                    </a:lnTo>
                    <a:lnTo>
                      <a:pt x="136" y="90"/>
                    </a:lnTo>
                    <a:lnTo>
                      <a:pt x="149" y="78"/>
                    </a:lnTo>
                    <a:lnTo>
                      <a:pt x="163" y="68"/>
                    </a:lnTo>
                    <a:lnTo>
                      <a:pt x="178" y="59"/>
                    </a:lnTo>
                    <a:lnTo>
                      <a:pt x="193" y="50"/>
                    </a:lnTo>
                    <a:lnTo>
                      <a:pt x="209" y="42"/>
                    </a:lnTo>
                    <a:lnTo>
                      <a:pt x="224" y="35"/>
                    </a:lnTo>
                    <a:lnTo>
                      <a:pt x="239" y="28"/>
                    </a:lnTo>
                    <a:lnTo>
                      <a:pt x="257" y="22"/>
                    </a:lnTo>
                    <a:lnTo>
                      <a:pt x="274" y="17"/>
                    </a:lnTo>
                    <a:lnTo>
                      <a:pt x="291" y="12"/>
                    </a:lnTo>
                    <a:lnTo>
                      <a:pt x="308" y="9"/>
                    </a:lnTo>
                    <a:lnTo>
                      <a:pt x="326" y="5"/>
                    </a:lnTo>
                    <a:lnTo>
                      <a:pt x="344" y="2"/>
                    </a:lnTo>
                    <a:lnTo>
                      <a:pt x="364" y="1"/>
                    </a:lnTo>
                    <a:lnTo>
                      <a:pt x="382" y="0"/>
                    </a:lnTo>
                    <a:lnTo>
                      <a:pt x="401" y="0"/>
                    </a:lnTo>
                    <a:lnTo>
                      <a:pt x="422" y="0"/>
                    </a:lnTo>
                    <a:lnTo>
                      <a:pt x="442" y="1"/>
                    </a:lnTo>
                    <a:lnTo>
                      <a:pt x="463" y="2"/>
                    </a:lnTo>
                    <a:lnTo>
                      <a:pt x="485" y="4"/>
                    </a:lnTo>
                    <a:lnTo>
                      <a:pt x="505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5551560" y="3795840"/>
                <a:ext cx="79200" cy="180720"/>
              </a:xfrm>
              <a:custGeom>
                <a:avLst/>
                <a:gdLst/>
                <a:ahLst/>
                <a:rect l="l" t="t" r="r" b="b"/>
                <a:pathLst>
                  <a:path w="247" h="569">
                    <a:moveTo>
                      <a:pt x="245" y="543"/>
                    </a:moveTo>
                    <a:lnTo>
                      <a:pt x="246" y="535"/>
                    </a:lnTo>
                    <a:lnTo>
                      <a:pt x="247" y="496"/>
                    </a:lnTo>
                    <a:lnTo>
                      <a:pt x="246" y="458"/>
                    </a:lnTo>
                    <a:lnTo>
                      <a:pt x="245" y="419"/>
                    </a:lnTo>
                    <a:lnTo>
                      <a:pt x="242" y="381"/>
                    </a:lnTo>
                    <a:lnTo>
                      <a:pt x="237" y="344"/>
                    </a:lnTo>
                    <a:lnTo>
                      <a:pt x="231" y="306"/>
                    </a:lnTo>
                    <a:lnTo>
                      <a:pt x="225" y="271"/>
                    </a:lnTo>
                    <a:lnTo>
                      <a:pt x="214" y="235"/>
                    </a:lnTo>
                    <a:lnTo>
                      <a:pt x="209" y="217"/>
                    </a:lnTo>
                    <a:lnTo>
                      <a:pt x="202" y="201"/>
                    </a:lnTo>
                    <a:lnTo>
                      <a:pt x="195" y="184"/>
                    </a:lnTo>
                    <a:lnTo>
                      <a:pt x="188" y="167"/>
                    </a:lnTo>
                    <a:lnTo>
                      <a:pt x="179" y="151"/>
                    </a:lnTo>
                    <a:lnTo>
                      <a:pt x="170" y="135"/>
                    </a:lnTo>
                    <a:lnTo>
                      <a:pt x="161" y="120"/>
                    </a:lnTo>
                    <a:lnTo>
                      <a:pt x="149" y="104"/>
                    </a:lnTo>
                    <a:lnTo>
                      <a:pt x="138" y="89"/>
                    </a:lnTo>
                    <a:lnTo>
                      <a:pt x="127" y="75"/>
                    </a:lnTo>
                    <a:lnTo>
                      <a:pt x="113" y="62"/>
                    </a:lnTo>
                    <a:lnTo>
                      <a:pt x="99" y="48"/>
                    </a:lnTo>
                    <a:lnTo>
                      <a:pt x="84" y="36"/>
                    </a:lnTo>
                    <a:lnTo>
                      <a:pt x="70" y="23"/>
                    </a:lnTo>
                    <a:lnTo>
                      <a:pt x="52" y="12"/>
                    </a:lnTo>
                    <a:lnTo>
                      <a:pt x="35" y="0"/>
                    </a:lnTo>
                    <a:lnTo>
                      <a:pt x="0" y="57"/>
                    </a:lnTo>
                    <a:lnTo>
                      <a:pt x="15" y="66"/>
                    </a:lnTo>
                    <a:lnTo>
                      <a:pt x="28" y="77"/>
                    </a:lnTo>
                    <a:lnTo>
                      <a:pt x="42" y="87"/>
                    </a:lnTo>
                    <a:lnTo>
                      <a:pt x="54" y="98"/>
                    </a:lnTo>
                    <a:lnTo>
                      <a:pt x="65" y="109"/>
                    </a:lnTo>
                    <a:lnTo>
                      <a:pt x="76" y="120"/>
                    </a:lnTo>
                    <a:lnTo>
                      <a:pt x="87" y="132"/>
                    </a:lnTo>
                    <a:lnTo>
                      <a:pt x="96" y="144"/>
                    </a:lnTo>
                    <a:lnTo>
                      <a:pt x="104" y="156"/>
                    </a:lnTo>
                    <a:lnTo>
                      <a:pt x="113" y="170"/>
                    </a:lnTo>
                    <a:lnTo>
                      <a:pt x="120" y="183"/>
                    </a:lnTo>
                    <a:lnTo>
                      <a:pt x="127" y="196"/>
                    </a:lnTo>
                    <a:lnTo>
                      <a:pt x="133" y="211"/>
                    </a:lnTo>
                    <a:lnTo>
                      <a:pt x="139" y="225"/>
                    </a:lnTo>
                    <a:lnTo>
                      <a:pt x="145" y="240"/>
                    </a:lnTo>
                    <a:lnTo>
                      <a:pt x="149" y="255"/>
                    </a:lnTo>
                    <a:lnTo>
                      <a:pt x="158" y="287"/>
                    </a:lnTo>
                    <a:lnTo>
                      <a:pt x="165" y="318"/>
                    </a:lnTo>
                    <a:lnTo>
                      <a:pt x="171" y="353"/>
                    </a:lnTo>
                    <a:lnTo>
                      <a:pt x="174" y="387"/>
                    </a:lnTo>
                    <a:lnTo>
                      <a:pt x="178" y="422"/>
                    </a:lnTo>
                    <a:lnTo>
                      <a:pt x="179" y="460"/>
                    </a:lnTo>
                    <a:lnTo>
                      <a:pt x="179" y="496"/>
                    </a:lnTo>
                    <a:lnTo>
                      <a:pt x="179" y="535"/>
                    </a:lnTo>
                    <a:lnTo>
                      <a:pt x="180" y="527"/>
                    </a:lnTo>
                    <a:lnTo>
                      <a:pt x="179" y="535"/>
                    </a:lnTo>
                    <a:lnTo>
                      <a:pt x="180" y="543"/>
                    </a:lnTo>
                    <a:lnTo>
                      <a:pt x="182" y="550"/>
                    </a:lnTo>
                    <a:lnTo>
                      <a:pt x="186" y="556"/>
                    </a:lnTo>
                    <a:lnTo>
                      <a:pt x="189" y="560"/>
                    </a:lnTo>
                    <a:lnTo>
                      <a:pt x="195" y="565"/>
                    </a:lnTo>
                    <a:lnTo>
                      <a:pt x="201" y="567"/>
                    </a:lnTo>
                    <a:lnTo>
                      <a:pt x="206" y="568"/>
                    </a:lnTo>
                    <a:lnTo>
                      <a:pt x="213" y="569"/>
                    </a:lnTo>
                    <a:lnTo>
                      <a:pt x="219" y="568"/>
                    </a:lnTo>
                    <a:lnTo>
                      <a:pt x="225" y="567"/>
                    </a:lnTo>
                    <a:lnTo>
                      <a:pt x="230" y="565"/>
                    </a:lnTo>
                    <a:lnTo>
                      <a:pt x="236" y="561"/>
                    </a:lnTo>
                    <a:lnTo>
                      <a:pt x="241" y="556"/>
                    </a:lnTo>
                    <a:lnTo>
                      <a:pt x="244" y="550"/>
                    </a:lnTo>
                    <a:lnTo>
                      <a:pt x="246" y="543"/>
                    </a:lnTo>
                    <a:lnTo>
                      <a:pt x="246" y="535"/>
                    </a:lnTo>
                    <a:lnTo>
                      <a:pt x="245" y="5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5470560" y="3962520"/>
                <a:ext cx="158760" cy="133200"/>
              </a:xfrm>
              <a:custGeom>
                <a:avLst/>
                <a:gdLst/>
                <a:ahLst/>
                <a:rect l="l" t="t" r="r" b="b"/>
                <a:pathLst>
                  <a:path w="500" h="419">
                    <a:moveTo>
                      <a:pt x="9" y="408"/>
                    </a:moveTo>
                    <a:lnTo>
                      <a:pt x="44" y="417"/>
                    </a:lnTo>
                    <a:lnTo>
                      <a:pt x="85" y="402"/>
                    </a:lnTo>
                    <a:lnTo>
                      <a:pt x="125" y="386"/>
                    </a:lnTo>
                    <a:lnTo>
                      <a:pt x="164" y="369"/>
                    </a:lnTo>
                    <a:lnTo>
                      <a:pt x="201" y="349"/>
                    </a:lnTo>
                    <a:lnTo>
                      <a:pt x="237" y="329"/>
                    </a:lnTo>
                    <a:lnTo>
                      <a:pt x="272" y="307"/>
                    </a:lnTo>
                    <a:lnTo>
                      <a:pt x="305" y="283"/>
                    </a:lnTo>
                    <a:lnTo>
                      <a:pt x="336" y="259"/>
                    </a:lnTo>
                    <a:lnTo>
                      <a:pt x="351" y="247"/>
                    </a:lnTo>
                    <a:lnTo>
                      <a:pt x="364" y="233"/>
                    </a:lnTo>
                    <a:lnTo>
                      <a:pt x="379" y="219"/>
                    </a:lnTo>
                    <a:lnTo>
                      <a:pt x="392" y="206"/>
                    </a:lnTo>
                    <a:lnTo>
                      <a:pt x="404" y="192"/>
                    </a:lnTo>
                    <a:lnTo>
                      <a:pt x="417" y="177"/>
                    </a:lnTo>
                    <a:lnTo>
                      <a:pt x="428" y="163"/>
                    </a:lnTo>
                    <a:lnTo>
                      <a:pt x="440" y="147"/>
                    </a:lnTo>
                    <a:lnTo>
                      <a:pt x="450" y="133"/>
                    </a:lnTo>
                    <a:lnTo>
                      <a:pt x="459" y="117"/>
                    </a:lnTo>
                    <a:lnTo>
                      <a:pt x="468" y="101"/>
                    </a:lnTo>
                    <a:lnTo>
                      <a:pt x="476" y="85"/>
                    </a:lnTo>
                    <a:lnTo>
                      <a:pt x="483" y="68"/>
                    </a:lnTo>
                    <a:lnTo>
                      <a:pt x="490" y="52"/>
                    </a:lnTo>
                    <a:lnTo>
                      <a:pt x="496" y="34"/>
                    </a:lnTo>
                    <a:lnTo>
                      <a:pt x="500" y="16"/>
                    </a:lnTo>
                    <a:lnTo>
                      <a:pt x="435" y="0"/>
                    </a:lnTo>
                    <a:lnTo>
                      <a:pt x="432" y="14"/>
                    </a:lnTo>
                    <a:lnTo>
                      <a:pt x="427" y="29"/>
                    </a:lnTo>
                    <a:lnTo>
                      <a:pt x="421" y="42"/>
                    </a:lnTo>
                    <a:lnTo>
                      <a:pt x="415" y="56"/>
                    </a:lnTo>
                    <a:lnTo>
                      <a:pt x="408" y="70"/>
                    </a:lnTo>
                    <a:lnTo>
                      <a:pt x="401" y="84"/>
                    </a:lnTo>
                    <a:lnTo>
                      <a:pt x="393" y="96"/>
                    </a:lnTo>
                    <a:lnTo>
                      <a:pt x="384" y="109"/>
                    </a:lnTo>
                    <a:lnTo>
                      <a:pt x="375" y="122"/>
                    </a:lnTo>
                    <a:lnTo>
                      <a:pt x="364" y="135"/>
                    </a:lnTo>
                    <a:lnTo>
                      <a:pt x="354" y="147"/>
                    </a:lnTo>
                    <a:lnTo>
                      <a:pt x="343" y="160"/>
                    </a:lnTo>
                    <a:lnTo>
                      <a:pt x="331" y="173"/>
                    </a:lnTo>
                    <a:lnTo>
                      <a:pt x="319" y="184"/>
                    </a:lnTo>
                    <a:lnTo>
                      <a:pt x="306" y="195"/>
                    </a:lnTo>
                    <a:lnTo>
                      <a:pt x="293" y="207"/>
                    </a:lnTo>
                    <a:lnTo>
                      <a:pt x="264" y="230"/>
                    </a:lnTo>
                    <a:lnTo>
                      <a:pt x="234" y="251"/>
                    </a:lnTo>
                    <a:lnTo>
                      <a:pt x="203" y="271"/>
                    </a:lnTo>
                    <a:lnTo>
                      <a:pt x="169" y="290"/>
                    </a:lnTo>
                    <a:lnTo>
                      <a:pt x="134" y="307"/>
                    </a:lnTo>
                    <a:lnTo>
                      <a:pt x="98" y="324"/>
                    </a:lnTo>
                    <a:lnTo>
                      <a:pt x="61" y="339"/>
                    </a:lnTo>
                    <a:lnTo>
                      <a:pt x="22" y="353"/>
                    </a:lnTo>
                    <a:lnTo>
                      <a:pt x="59" y="363"/>
                    </a:lnTo>
                    <a:lnTo>
                      <a:pt x="22" y="353"/>
                    </a:lnTo>
                    <a:lnTo>
                      <a:pt x="16" y="356"/>
                    </a:lnTo>
                    <a:lnTo>
                      <a:pt x="10" y="361"/>
                    </a:lnTo>
                    <a:lnTo>
                      <a:pt x="5" y="365"/>
                    </a:lnTo>
                    <a:lnTo>
                      <a:pt x="2" y="371"/>
                    </a:lnTo>
                    <a:lnTo>
                      <a:pt x="1" y="378"/>
                    </a:lnTo>
                    <a:lnTo>
                      <a:pt x="0" y="384"/>
                    </a:lnTo>
                    <a:lnTo>
                      <a:pt x="1" y="390"/>
                    </a:lnTo>
                    <a:lnTo>
                      <a:pt x="2" y="396"/>
                    </a:lnTo>
                    <a:lnTo>
                      <a:pt x="4" y="402"/>
                    </a:lnTo>
                    <a:lnTo>
                      <a:pt x="8" y="408"/>
                    </a:lnTo>
                    <a:lnTo>
                      <a:pt x="12" y="412"/>
                    </a:lnTo>
                    <a:lnTo>
                      <a:pt x="17" y="416"/>
                    </a:lnTo>
                    <a:lnTo>
                      <a:pt x="24" y="418"/>
                    </a:lnTo>
                    <a:lnTo>
                      <a:pt x="29" y="419"/>
                    </a:lnTo>
                    <a:lnTo>
                      <a:pt x="37" y="419"/>
                    </a:lnTo>
                    <a:lnTo>
                      <a:pt x="44" y="417"/>
                    </a:lnTo>
                    <a:lnTo>
                      <a:pt x="9" y="40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5386320" y="3873600"/>
                <a:ext cx="103320" cy="218880"/>
              </a:xfrm>
              <a:custGeom>
                <a:avLst/>
                <a:gdLst/>
                <a:ahLst/>
                <a:rect l="l" t="t" r="r" b="b"/>
                <a:pathLst>
                  <a:path w="326" h="692">
                    <a:moveTo>
                      <a:pt x="12" y="20"/>
                    </a:moveTo>
                    <a:lnTo>
                      <a:pt x="9" y="30"/>
                    </a:lnTo>
                    <a:lnTo>
                      <a:pt x="6" y="57"/>
                    </a:lnTo>
                    <a:lnTo>
                      <a:pt x="3" y="82"/>
                    </a:lnTo>
                    <a:lnTo>
                      <a:pt x="2" y="107"/>
                    </a:lnTo>
                    <a:lnTo>
                      <a:pt x="1" y="132"/>
                    </a:lnTo>
                    <a:lnTo>
                      <a:pt x="0" y="155"/>
                    </a:lnTo>
                    <a:lnTo>
                      <a:pt x="1" y="178"/>
                    </a:lnTo>
                    <a:lnTo>
                      <a:pt x="2" y="200"/>
                    </a:lnTo>
                    <a:lnTo>
                      <a:pt x="4" y="221"/>
                    </a:lnTo>
                    <a:lnTo>
                      <a:pt x="7" y="243"/>
                    </a:lnTo>
                    <a:lnTo>
                      <a:pt x="10" y="264"/>
                    </a:lnTo>
                    <a:lnTo>
                      <a:pt x="15" y="283"/>
                    </a:lnTo>
                    <a:lnTo>
                      <a:pt x="19" y="302"/>
                    </a:lnTo>
                    <a:lnTo>
                      <a:pt x="25" y="322"/>
                    </a:lnTo>
                    <a:lnTo>
                      <a:pt x="32" y="341"/>
                    </a:lnTo>
                    <a:lnTo>
                      <a:pt x="39" y="360"/>
                    </a:lnTo>
                    <a:lnTo>
                      <a:pt x="47" y="379"/>
                    </a:lnTo>
                    <a:lnTo>
                      <a:pt x="56" y="397"/>
                    </a:lnTo>
                    <a:lnTo>
                      <a:pt x="65" y="414"/>
                    </a:lnTo>
                    <a:lnTo>
                      <a:pt x="75" y="433"/>
                    </a:lnTo>
                    <a:lnTo>
                      <a:pt x="87" y="451"/>
                    </a:lnTo>
                    <a:lnTo>
                      <a:pt x="110" y="487"/>
                    </a:lnTo>
                    <a:lnTo>
                      <a:pt x="138" y="525"/>
                    </a:lnTo>
                    <a:lnTo>
                      <a:pt x="167" y="563"/>
                    </a:lnTo>
                    <a:lnTo>
                      <a:pt x="201" y="603"/>
                    </a:lnTo>
                    <a:lnTo>
                      <a:pt x="236" y="646"/>
                    </a:lnTo>
                    <a:lnTo>
                      <a:pt x="276" y="692"/>
                    </a:lnTo>
                    <a:lnTo>
                      <a:pt x="326" y="647"/>
                    </a:lnTo>
                    <a:lnTo>
                      <a:pt x="288" y="603"/>
                    </a:lnTo>
                    <a:lnTo>
                      <a:pt x="253" y="560"/>
                    </a:lnTo>
                    <a:lnTo>
                      <a:pt x="221" y="520"/>
                    </a:lnTo>
                    <a:lnTo>
                      <a:pt x="191" y="484"/>
                    </a:lnTo>
                    <a:lnTo>
                      <a:pt x="166" y="449"/>
                    </a:lnTo>
                    <a:lnTo>
                      <a:pt x="144" y="414"/>
                    </a:lnTo>
                    <a:lnTo>
                      <a:pt x="133" y="398"/>
                    </a:lnTo>
                    <a:lnTo>
                      <a:pt x="124" y="382"/>
                    </a:lnTo>
                    <a:lnTo>
                      <a:pt x="116" y="366"/>
                    </a:lnTo>
                    <a:lnTo>
                      <a:pt x="108" y="350"/>
                    </a:lnTo>
                    <a:lnTo>
                      <a:pt x="101" y="334"/>
                    </a:lnTo>
                    <a:lnTo>
                      <a:pt x="94" y="318"/>
                    </a:lnTo>
                    <a:lnTo>
                      <a:pt x="89" y="301"/>
                    </a:lnTo>
                    <a:lnTo>
                      <a:pt x="84" y="285"/>
                    </a:lnTo>
                    <a:lnTo>
                      <a:pt x="80" y="268"/>
                    </a:lnTo>
                    <a:lnTo>
                      <a:pt x="76" y="251"/>
                    </a:lnTo>
                    <a:lnTo>
                      <a:pt x="73" y="233"/>
                    </a:lnTo>
                    <a:lnTo>
                      <a:pt x="71" y="215"/>
                    </a:lnTo>
                    <a:lnTo>
                      <a:pt x="69" y="195"/>
                    </a:lnTo>
                    <a:lnTo>
                      <a:pt x="68" y="176"/>
                    </a:lnTo>
                    <a:lnTo>
                      <a:pt x="68" y="155"/>
                    </a:lnTo>
                    <a:lnTo>
                      <a:pt x="68" y="134"/>
                    </a:lnTo>
                    <a:lnTo>
                      <a:pt x="69" y="112"/>
                    </a:lnTo>
                    <a:lnTo>
                      <a:pt x="71" y="88"/>
                    </a:lnTo>
                    <a:lnTo>
                      <a:pt x="73" y="64"/>
                    </a:lnTo>
                    <a:lnTo>
                      <a:pt x="76" y="38"/>
                    </a:lnTo>
                    <a:lnTo>
                      <a:pt x="73" y="49"/>
                    </a:lnTo>
                    <a:lnTo>
                      <a:pt x="76" y="38"/>
                    </a:lnTo>
                    <a:lnTo>
                      <a:pt x="76" y="31"/>
                    </a:lnTo>
                    <a:lnTo>
                      <a:pt x="75" y="23"/>
                    </a:lnTo>
                    <a:lnTo>
                      <a:pt x="73" y="17"/>
                    </a:lnTo>
                    <a:lnTo>
                      <a:pt x="68" y="12"/>
                    </a:lnTo>
                    <a:lnTo>
                      <a:pt x="64" y="8"/>
                    </a:lnTo>
                    <a:lnTo>
                      <a:pt x="59" y="5"/>
                    </a:lnTo>
                    <a:lnTo>
                      <a:pt x="53" y="2"/>
                    </a:lnTo>
                    <a:lnTo>
                      <a:pt x="47" y="1"/>
                    </a:lnTo>
                    <a:lnTo>
                      <a:pt x="41" y="0"/>
                    </a:lnTo>
                    <a:lnTo>
                      <a:pt x="34" y="1"/>
                    </a:lnTo>
                    <a:lnTo>
                      <a:pt x="28" y="4"/>
                    </a:lnTo>
                    <a:lnTo>
                      <a:pt x="23" y="6"/>
                    </a:lnTo>
                    <a:lnTo>
                      <a:pt x="18" y="10"/>
                    </a:lnTo>
                    <a:lnTo>
                      <a:pt x="14" y="16"/>
                    </a:lnTo>
                    <a:lnTo>
                      <a:pt x="11" y="22"/>
                    </a:lnTo>
                    <a:lnTo>
                      <a:pt x="9" y="3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5389560" y="3790800"/>
                <a:ext cx="177840" cy="96840"/>
              </a:xfrm>
              <a:custGeom>
                <a:avLst/>
                <a:gdLst/>
                <a:ahLst/>
                <a:rect l="l" t="t" r="r" b="b"/>
                <a:pathLst>
                  <a:path w="561" h="306">
                    <a:moveTo>
                      <a:pt x="545" y="14"/>
                    </a:moveTo>
                    <a:lnTo>
                      <a:pt x="533" y="10"/>
                    </a:lnTo>
                    <a:lnTo>
                      <a:pt x="510" y="6"/>
                    </a:lnTo>
                    <a:lnTo>
                      <a:pt x="488" y="4"/>
                    </a:lnTo>
                    <a:lnTo>
                      <a:pt x="467" y="2"/>
                    </a:lnTo>
                    <a:lnTo>
                      <a:pt x="445" y="0"/>
                    </a:lnTo>
                    <a:lnTo>
                      <a:pt x="423" y="0"/>
                    </a:lnTo>
                    <a:lnTo>
                      <a:pt x="403" y="0"/>
                    </a:lnTo>
                    <a:lnTo>
                      <a:pt x="382" y="2"/>
                    </a:lnTo>
                    <a:lnTo>
                      <a:pt x="363" y="4"/>
                    </a:lnTo>
                    <a:lnTo>
                      <a:pt x="342" y="7"/>
                    </a:lnTo>
                    <a:lnTo>
                      <a:pt x="323" y="10"/>
                    </a:lnTo>
                    <a:lnTo>
                      <a:pt x="305" y="14"/>
                    </a:lnTo>
                    <a:lnTo>
                      <a:pt x="285" y="20"/>
                    </a:lnTo>
                    <a:lnTo>
                      <a:pt x="267" y="26"/>
                    </a:lnTo>
                    <a:lnTo>
                      <a:pt x="250" y="31"/>
                    </a:lnTo>
                    <a:lnTo>
                      <a:pt x="232" y="39"/>
                    </a:lnTo>
                    <a:lnTo>
                      <a:pt x="215" y="47"/>
                    </a:lnTo>
                    <a:lnTo>
                      <a:pt x="199" y="56"/>
                    </a:lnTo>
                    <a:lnTo>
                      <a:pt x="182" y="65"/>
                    </a:lnTo>
                    <a:lnTo>
                      <a:pt x="167" y="76"/>
                    </a:lnTo>
                    <a:lnTo>
                      <a:pt x="151" y="87"/>
                    </a:lnTo>
                    <a:lnTo>
                      <a:pt x="136" y="99"/>
                    </a:lnTo>
                    <a:lnTo>
                      <a:pt x="121" y="111"/>
                    </a:lnTo>
                    <a:lnTo>
                      <a:pt x="108" y="125"/>
                    </a:lnTo>
                    <a:lnTo>
                      <a:pt x="94" y="139"/>
                    </a:lnTo>
                    <a:lnTo>
                      <a:pt x="80" y="153"/>
                    </a:lnTo>
                    <a:lnTo>
                      <a:pt x="68" y="169"/>
                    </a:lnTo>
                    <a:lnTo>
                      <a:pt x="55" y="185"/>
                    </a:lnTo>
                    <a:lnTo>
                      <a:pt x="44" y="202"/>
                    </a:lnTo>
                    <a:lnTo>
                      <a:pt x="32" y="220"/>
                    </a:lnTo>
                    <a:lnTo>
                      <a:pt x="21" y="238"/>
                    </a:lnTo>
                    <a:lnTo>
                      <a:pt x="11" y="256"/>
                    </a:lnTo>
                    <a:lnTo>
                      <a:pt x="0" y="277"/>
                    </a:lnTo>
                    <a:lnTo>
                      <a:pt x="61" y="306"/>
                    </a:lnTo>
                    <a:lnTo>
                      <a:pt x="70" y="288"/>
                    </a:lnTo>
                    <a:lnTo>
                      <a:pt x="79" y="272"/>
                    </a:lnTo>
                    <a:lnTo>
                      <a:pt x="89" y="255"/>
                    </a:lnTo>
                    <a:lnTo>
                      <a:pt x="100" y="240"/>
                    </a:lnTo>
                    <a:lnTo>
                      <a:pt x="110" y="225"/>
                    </a:lnTo>
                    <a:lnTo>
                      <a:pt x="120" y="210"/>
                    </a:lnTo>
                    <a:lnTo>
                      <a:pt x="132" y="198"/>
                    </a:lnTo>
                    <a:lnTo>
                      <a:pt x="143" y="184"/>
                    </a:lnTo>
                    <a:lnTo>
                      <a:pt x="154" y="173"/>
                    </a:lnTo>
                    <a:lnTo>
                      <a:pt x="167" y="161"/>
                    </a:lnTo>
                    <a:lnTo>
                      <a:pt x="179" y="151"/>
                    </a:lnTo>
                    <a:lnTo>
                      <a:pt x="192" y="141"/>
                    </a:lnTo>
                    <a:lnTo>
                      <a:pt x="204" y="132"/>
                    </a:lnTo>
                    <a:lnTo>
                      <a:pt x="218" y="123"/>
                    </a:lnTo>
                    <a:lnTo>
                      <a:pt x="232" y="115"/>
                    </a:lnTo>
                    <a:lnTo>
                      <a:pt x="246" y="108"/>
                    </a:lnTo>
                    <a:lnTo>
                      <a:pt x="259" y="101"/>
                    </a:lnTo>
                    <a:lnTo>
                      <a:pt x="274" y="94"/>
                    </a:lnTo>
                    <a:lnTo>
                      <a:pt x="289" y="89"/>
                    </a:lnTo>
                    <a:lnTo>
                      <a:pt x="305" y="84"/>
                    </a:lnTo>
                    <a:lnTo>
                      <a:pt x="321" y="80"/>
                    </a:lnTo>
                    <a:lnTo>
                      <a:pt x="337" y="77"/>
                    </a:lnTo>
                    <a:lnTo>
                      <a:pt x="353" y="73"/>
                    </a:lnTo>
                    <a:lnTo>
                      <a:pt x="370" y="71"/>
                    </a:lnTo>
                    <a:lnTo>
                      <a:pt x="388" y="69"/>
                    </a:lnTo>
                    <a:lnTo>
                      <a:pt x="405" y="68"/>
                    </a:lnTo>
                    <a:lnTo>
                      <a:pt x="424" y="68"/>
                    </a:lnTo>
                    <a:lnTo>
                      <a:pt x="443" y="68"/>
                    </a:lnTo>
                    <a:lnTo>
                      <a:pt x="462" y="69"/>
                    </a:lnTo>
                    <a:lnTo>
                      <a:pt x="481" y="70"/>
                    </a:lnTo>
                    <a:lnTo>
                      <a:pt x="502" y="73"/>
                    </a:lnTo>
                    <a:lnTo>
                      <a:pt x="523" y="76"/>
                    </a:lnTo>
                    <a:lnTo>
                      <a:pt x="510" y="71"/>
                    </a:lnTo>
                    <a:lnTo>
                      <a:pt x="523" y="76"/>
                    </a:lnTo>
                    <a:lnTo>
                      <a:pt x="531" y="76"/>
                    </a:lnTo>
                    <a:lnTo>
                      <a:pt x="537" y="75"/>
                    </a:lnTo>
                    <a:lnTo>
                      <a:pt x="544" y="72"/>
                    </a:lnTo>
                    <a:lnTo>
                      <a:pt x="549" y="69"/>
                    </a:lnTo>
                    <a:lnTo>
                      <a:pt x="553" y="64"/>
                    </a:lnTo>
                    <a:lnTo>
                      <a:pt x="557" y="60"/>
                    </a:lnTo>
                    <a:lnTo>
                      <a:pt x="559" y="54"/>
                    </a:lnTo>
                    <a:lnTo>
                      <a:pt x="561" y="47"/>
                    </a:lnTo>
                    <a:lnTo>
                      <a:pt x="561" y="42"/>
                    </a:lnTo>
                    <a:lnTo>
                      <a:pt x="560" y="35"/>
                    </a:lnTo>
                    <a:lnTo>
                      <a:pt x="559" y="29"/>
                    </a:lnTo>
                    <a:lnTo>
                      <a:pt x="556" y="23"/>
                    </a:lnTo>
                    <a:lnTo>
                      <a:pt x="552" y="19"/>
                    </a:lnTo>
                    <a:lnTo>
                      <a:pt x="546" y="14"/>
                    </a:lnTo>
                    <a:lnTo>
                      <a:pt x="541" y="11"/>
                    </a:lnTo>
                    <a:lnTo>
                      <a:pt x="533" y="10"/>
                    </a:lnTo>
                    <a:lnTo>
                      <a:pt x="545" y="1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6181560" y="409572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4" y="44"/>
                    </a:moveTo>
                    <a:lnTo>
                      <a:pt x="65" y="36"/>
                    </a:lnTo>
                    <a:lnTo>
                      <a:pt x="65" y="29"/>
                    </a:lnTo>
                    <a:lnTo>
                      <a:pt x="64" y="22"/>
                    </a:lnTo>
                    <a:lnTo>
                      <a:pt x="61" y="17"/>
                    </a:lnTo>
                    <a:lnTo>
                      <a:pt x="58" y="11"/>
                    </a:lnTo>
                    <a:lnTo>
                      <a:pt x="53" y="8"/>
                    </a:lnTo>
                    <a:lnTo>
                      <a:pt x="48" y="4"/>
                    </a:lnTo>
                    <a:lnTo>
                      <a:pt x="42" y="2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7" y="2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3" y="16"/>
                    </a:lnTo>
                    <a:lnTo>
                      <a:pt x="0" y="22"/>
                    </a:lnTo>
                    <a:lnTo>
                      <a:pt x="64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6041880" y="4005360"/>
                <a:ext cx="160560" cy="110880"/>
              </a:xfrm>
              <a:custGeom>
                <a:avLst/>
                <a:gdLst/>
                <a:ahLst/>
                <a:rect l="l" t="t" r="r" b="b"/>
                <a:pathLst>
                  <a:path w="505" h="350">
                    <a:moveTo>
                      <a:pt x="0" y="64"/>
                    </a:moveTo>
                    <a:lnTo>
                      <a:pt x="18" y="70"/>
                    </a:lnTo>
                    <a:lnTo>
                      <a:pt x="36" y="77"/>
                    </a:lnTo>
                    <a:lnTo>
                      <a:pt x="56" y="85"/>
                    </a:lnTo>
                    <a:lnTo>
                      <a:pt x="75" y="94"/>
                    </a:lnTo>
                    <a:lnTo>
                      <a:pt x="114" y="115"/>
                    </a:lnTo>
                    <a:lnTo>
                      <a:pt x="152" y="137"/>
                    </a:lnTo>
                    <a:lnTo>
                      <a:pt x="191" y="161"/>
                    </a:lnTo>
                    <a:lnTo>
                      <a:pt x="228" y="185"/>
                    </a:lnTo>
                    <a:lnTo>
                      <a:pt x="264" y="210"/>
                    </a:lnTo>
                    <a:lnTo>
                      <a:pt x="297" y="235"/>
                    </a:lnTo>
                    <a:lnTo>
                      <a:pt x="359" y="280"/>
                    </a:lnTo>
                    <a:lnTo>
                      <a:pt x="407" y="317"/>
                    </a:lnTo>
                    <a:lnTo>
                      <a:pt x="426" y="332"/>
                    </a:lnTo>
                    <a:lnTo>
                      <a:pt x="441" y="342"/>
                    </a:lnTo>
                    <a:lnTo>
                      <a:pt x="450" y="347"/>
                    </a:lnTo>
                    <a:lnTo>
                      <a:pt x="460" y="350"/>
                    </a:lnTo>
                    <a:lnTo>
                      <a:pt x="481" y="350"/>
                    </a:lnTo>
                    <a:lnTo>
                      <a:pt x="505" y="327"/>
                    </a:lnTo>
                    <a:lnTo>
                      <a:pt x="441" y="305"/>
                    </a:lnTo>
                    <a:lnTo>
                      <a:pt x="461" y="285"/>
                    </a:lnTo>
                    <a:lnTo>
                      <a:pt x="476" y="285"/>
                    </a:lnTo>
                    <a:lnTo>
                      <a:pt x="478" y="285"/>
                    </a:lnTo>
                    <a:lnTo>
                      <a:pt x="477" y="285"/>
                    </a:lnTo>
                    <a:lnTo>
                      <a:pt x="465" y="276"/>
                    </a:lnTo>
                    <a:lnTo>
                      <a:pt x="448" y="263"/>
                    </a:lnTo>
                    <a:lnTo>
                      <a:pt x="399" y="227"/>
                    </a:lnTo>
                    <a:lnTo>
                      <a:pt x="338" y="180"/>
                    </a:lnTo>
                    <a:lnTo>
                      <a:pt x="303" y="155"/>
                    </a:lnTo>
                    <a:lnTo>
                      <a:pt x="266" y="129"/>
                    </a:lnTo>
                    <a:lnTo>
                      <a:pt x="228" y="104"/>
                    </a:lnTo>
                    <a:lnTo>
                      <a:pt x="188" y="78"/>
                    </a:lnTo>
                    <a:lnTo>
                      <a:pt x="146" y="54"/>
                    </a:lnTo>
                    <a:lnTo>
                      <a:pt x="105" y="34"/>
                    </a:lnTo>
                    <a:lnTo>
                      <a:pt x="83" y="24"/>
                    </a:lnTo>
                    <a:lnTo>
                      <a:pt x="62" y="15"/>
                    </a:lnTo>
                    <a:lnTo>
                      <a:pt x="41" y="7"/>
                    </a:lnTo>
                    <a:lnTo>
                      <a:pt x="1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6033960" y="400536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3"/>
                    </a:moveTo>
                    <a:lnTo>
                      <a:pt x="36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6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2" y="48"/>
                    </a:lnTo>
                    <a:lnTo>
                      <a:pt x="5" y="54"/>
                    </a:lnTo>
                    <a:lnTo>
                      <a:pt x="10" y="60"/>
                    </a:lnTo>
                    <a:lnTo>
                      <a:pt x="16" y="63"/>
                    </a:lnTo>
                    <a:lnTo>
                      <a:pt x="24" y="67"/>
                    </a:lnTo>
                    <a:lnTo>
                      <a:pt x="43" y="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6456240" y="42624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65" y="44"/>
                    </a:moveTo>
                    <a:lnTo>
                      <a:pt x="66" y="36"/>
                    </a:lnTo>
                    <a:lnTo>
                      <a:pt x="66" y="29"/>
                    </a:lnTo>
                    <a:lnTo>
                      <a:pt x="65" y="22"/>
                    </a:lnTo>
                    <a:lnTo>
                      <a:pt x="63" y="17"/>
                    </a:lnTo>
                    <a:lnTo>
                      <a:pt x="58" y="12"/>
                    </a:lnTo>
                    <a:lnTo>
                      <a:pt x="54" y="8"/>
                    </a:lnTo>
                    <a:lnTo>
                      <a:pt x="49" y="4"/>
                    </a:lnTo>
                    <a:lnTo>
                      <a:pt x="43" y="2"/>
                    </a:lnTo>
                    <a:lnTo>
                      <a:pt x="37" y="1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8" y="2"/>
                    </a:lnTo>
                    <a:lnTo>
                      <a:pt x="13" y="5"/>
                    </a:lnTo>
                    <a:lnTo>
                      <a:pt x="8" y="10"/>
                    </a:lnTo>
                    <a:lnTo>
                      <a:pt x="4" y="16"/>
                    </a:lnTo>
                    <a:lnTo>
                      <a:pt x="0" y="24"/>
                    </a:lnTo>
                    <a:lnTo>
                      <a:pt x="65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6316560" y="4172040"/>
                <a:ext cx="160560" cy="112680"/>
              </a:xfrm>
              <a:custGeom>
                <a:avLst/>
                <a:gdLst/>
                <a:ahLst/>
                <a:rect l="l" t="t" r="r" b="b"/>
                <a:pathLst>
                  <a:path w="506" h="351">
                    <a:moveTo>
                      <a:pt x="0" y="64"/>
                    </a:moveTo>
                    <a:lnTo>
                      <a:pt x="19" y="70"/>
                    </a:lnTo>
                    <a:lnTo>
                      <a:pt x="38" y="77"/>
                    </a:lnTo>
                    <a:lnTo>
                      <a:pt x="57" y="86"/>
                    </a:lnTo>
                    <a:lnTo>
                      <a:pt x="76" y="94"/>
                    </a:lnTo>
                    <a:lnTo>
                      <a:pt x="115" y="115"/>
                    </a:lnTo>
                    <a:lnTo>
                      <a:pt x="154" y="137"/>
                    </a:lnTo>
                    <a:lnTo>
                      <a:pt x="193" y="161"/>
                    </a:lnTo>
                    <a:lnTo>
                      <a:pt x="229" y="186"/>
                    </a:lnTo>
                    <a:lnTo>
                      <a:pt x="266" y="211"/>
                    </a:lnTo>
                    <a:lnTo>
                      <a:pt x="299" y="235"/>
                    </a:lnTo>
                    <a:lnTo>
                      <a:pt x="359" y="280"/>
                    </a:lnTo>
                    <a:lnTo>
                      <a:pt x="408" y="318"/>
                    </a:lnTo>
                    <a:lnTo>
                      <a:pt x="427" y="332"/>
                    </a:lnTo>
                    <a:lnTo>
                      <a:pt x="442" y="342"/>
                    </a:lnTo>
                    <a:lnTo>
                      <a:pt x="451" y="346"/>
                    </a:lnTo>
                    <a:lnTo>
                      <a:pt x="462" y="351"/>
                    </a:lnTo>
                    <a:lnTo>
                      <a:pt x="481" y="350"/>
                    </a:lnTo>
                    <a:lnTo>
                      <a:pt x="506" y="327"/>
                    </a:lnTo>
                    <a:lnTo>
                      <a:pt x="441" y="307"/>
                    </a:lnTo>
                    <a:lnTo>
                      <a:pt x="463" y="286"/>
                    </a:lnTo>
                    <a:lnTo>
                      <a:pt x="478" y="285"/>
                    </a:lnTo>
                    <a:lnTo>
                      <a:pt x="480" y="286"/>
                    </a:lnTo>
                    <a:lnTo>
                      <a:pt x="479" y="285"/>
                    </a:lnTo>
                    <a:lnTo>
                      <a:pt x="465" y="277"/>
                    </a:lnTo>
                    <a:lnTo>
                      <a:pt x="448" y="264"/>
                    </a:lnTo>
                    <a:lnTo>
                      <a:pt x="400" y="227"/>
                    </a:lnTo>
                    <a:lnTo>
                      <a:pt x="339" y="181"/>
                    </a:lnTo>
                    <a:lnTo>
                      <a:pt x="304" y="155"/>
                    </a:lnTo>
                    <a:lnTo>
                      <a:pt x="268" y="130"/>
                    </a:lnTo>
                    <a:lnTo>
                      <a:pt x="229" y="103"/>
                    </a:lnTo>
                    <a:lnTo>
                      <a:pt x="188" y="78"/>
                    </a:lnTo>
                    <a:lnTo>
                      <a:pt x="147" y="56"/>
                    </a:lnTo>
                    <a:lnTo>
                      <a:pt x="106" y="34"/>
                    </a:lnTo>
                    <a:lnTo>
                      <a:pt x="84" y="24"/>
                    </a:lnTo>
                    <a:lnTo>
                      <a:pt x="63" y="16"/>
                    </a:lnTo>
                    <a:lnTo>
                      <a:pt x="42" y="7"/>
                    </a:lnTo>
                    <a:lnTo>
                      <a:pt x="20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6308640" y="417204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4" h="65">
                    <a:moveTo>
                      <a:pt x="44" y="1"/>
                    </a:moveTo>
                    <a:lnTo>
                      <a:pt x="36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7" y="3"/>
                    </a:lnTo>
                    <a:lnTo>
                      <a:pt x="13" y="6"/>
                    </a:lnTo>
                    <a:lnTo>
                      <a:pt x="8" y="11"/>
                    </a:lnTo>
                    <a:lnTo>
                      <a:pt x="5" y="17"/>
                    </a:lnTo>
                    <a:lnTo>
                      <a:pt x="2" y="22"/>
                    </a:lnTo>
                    <a:lnTo>
                      <a:pt x="1" y="29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3" y="47"/>
                    </a:lnTo>
                    <a:lnTo>
                      <a:pt x="7" y="53"/>
                    </a:lnTo>
                    <a:lnTo>
                      <a:pt x="11" y="58"/>
                    </a:lnTo>
                    <a:lnTo>
                      <a:pt x="17" y="62"/>
                    </a:lnTo>
                    <a:lnTo>
                      <a:pt x="24" y="65"/>
                    </a:lnTo>
                    <a:lnTo>
                      <a:pt x="44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5880240" y="400860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64" y="44"/>
                    </a:moveTo>
                    <a:lnTo>
                      <a:pt x="65" y="36"/>
                    </a:lnTo>
                    <a:lnTo>
                      <a:pt x="66" y="29"/>
                    </a:lnTo>
                    <a:lnTo>
                      <a:pt x="64" y="23"/>
                    </a:lnTo>
                    <a:lnTo>
                      <a:pt x="61" y="17"/>
                    </a:lnTo>
                    <a:lnTo>
                      <a:pt x="58" y="11"/>
                    </a:lnTo>
                    <a:lnTo>
                      <a:pt x="53" y="7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12" y="5"/>
                    </a:lnTo>
                    <a:lnTo>
                      <a:pt x="7" y="9"/>
                    </a:lnTo>
                    <a:lnTo>
                      <a:pt x="3" y="16"/>
                    </a:lnTo>
                    <a:lnTo>
                      <a:pt x="0" y="23"/>
                    </a:lnTo>
                    <a:lnTo>
                      <a:pt x="64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5740560" y="3917880"/>
                <a:ext cx="160200" cy="111240"/>
              </a:xfrm>
              <a:custGeom>
                <a:avLst/>
                <a:gdLst/>
                <a:ahLst/>
                <a:rect l="l" t="t" r="r" b="b"/>
                <a:pathLst>
                  <a:path w="505" h="351">
                    <a:moveTo>
                      <a:pt x="0" y="65"/>
                    </a:moveTo>
                    <a:lnTo>
                      <a:pt x="18" y="70"/>
                    </a:lnTo>
                    <a:lnTo>
                      <a:pt x="37" y="78"/>
                    </a:lnTo>
                    <a:lnTo>
                      <a:pt x="56" y="86"/>
                    </a:lnTo>
                    <a:lnTo>
                      <a:pt x="75" y="95"/>
                    </a:lnTo>
                    <a:lnTo>
                      <a:pt x="115" y="115"/>
                    </a:lnTo>
                    <a:lnTo>
                      <a:pt x="152" y="138"/>
                    </a:lnTo>
                    <a:lnTo>
                      <a:pt x="191" y="160"/>
                    </a:lnTo>
                    <a:lnTo>
                      <a:pt x="229" y="186"/>
                    </a:lnTo>
                    <a:lnTo>
                      <a:pt x="264" y="211"/>
                    </a:lnTo>
                    <a:lnTo>
                      <a:pt x="297" y="235"/>
                    </a:lnTo>
                    <a:lnTo>
                      <a:pt x="359" y="281"/>
                    </a:lnTo>
                    <a:lnTo>
                      <a:pt x="407" y="318"/>
                    </a:lnTo>
                    <a:lnTo>
                      <a:pt x="426" y="333"/>
                    </a:lnTo>
                    <a:lnTo>
                      <a:pt x="442" y="342"/>
                    </a:lnTo>
                    <a:lnTo>
                      <a:pt x="450" y="348"/>
                    </a:lnTo>
                    <a:lnTo>
                      <a:pt x="460" y="351"/>
                    </a:lnTo>
                    <a:lnTo>
                      <a:pt x="481" y="351"/>
                    </a:lnTo>
                    <a:lnTo>
                      <a:pt x="505" y="328"/>
                    </a:lnTo>
                    <a:lnTo>
                      <a:pt x="441" y="307"/>
                    </a:lnTo>
                    <a:lnTo>
                      <a:pt x="461" y="286"/>
                    </a:lnTo>
                    <a:lnTo>
                      <a:pt x="476" y="286"/>
                    </a:lnTo>
                    <a:lnTo>
                      <a:pt x="478" y="286"/>
                    </a:lnTo>
                    <a:lnTo>
                      <a:pt x="477" y="285"/>
                    </a:lnTo>
                    <a:lnTo>
                      <a:pt x="465" y="277"/>
                    </a:lnTo>
                    <a:lnTo>
                      <a:pt x="448" y="264"/>
                    </a:lnTo>
                    <a:lnTo>
                      <a:pt x="400" y="228"/>
                    </a:lnTo>
                    <a:lnTo>
                      <a:pt x="338" y="181"/>
                    </a:lnTo>
                    <a:lnTo>
                      <a:pt x="303" y="156"/>
                    </a:lnTo>
                    <a:lnTo>
                      <a:pt x="266" y="130"/>
                    </a:lnTo>
                    <a:lnTo>
                      <a:pt x="228" y="105"/>
                    </a:lnTo>
                    <a:lnTo>
                      <a:pt x="188" y="79"/>
                    </a:lnTo>
                    <a:lnTo>
                      <a:pt x="147" y="56"/>
                    </a:lnTo>
                    <a:lnTo>
                      <a:pt x="105" y="35"/>
                    </a:lnTo>
                    <a:lnTo>
                      <a:pt x="83" y="25"/>
                    </a:lnTo>
                    <a:lnTo>
                      <a:pt x="62" y="16"/>
                    </a:lnTo>
                    <a:lnTo>
                      <a:pt x="41" y="8"/>
                    </a:lnTo>
                    <a:lnTo>
                      <a:pt x="19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5732640" y="391788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2"/>
                    </a:moveTo>
                    <a:lnTo>
                      <a:pt x="36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1" y="43"/>
                    </a:lnTo>
                    <a:lnTo>
                      <a:pt x="2" y="48"/>
                    </a:lnTo>
                    <a:lnTo>
                      <a:pt x="5" y="54"/>
                    </a:lnTo>
                    <a:lnTo>
                      <a:pt x="10" y="59"/>
                    </a:lnTo>
                    <a:lnTo>
                      <a:pt x="16" y="63"/>
                    </a:lnTo>
                    <a:lnTo>
                      <a:pt x="24" y="67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5565600" y="391788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65" y="43"/>
                    </a:moveTo>
                    <a:lnTo>
                      <a:pt x="66" y="35"/>
                    </a:lnTo>
                    <a:lnTo>
                      <a:pt x="66" y="28"/>
                    </a:lnTo>
                    <a:lnTo>
                      <a:pt x="64" y="21"/>
                    </a:lnTo>
                    <a:lnTo>
                      <a:pt x="62" y="16"/>
                    </a:lnTo>
                    <a:lnTo>
                      <a:pt x="57" y="11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1" y="1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3" y="1"/>
                    </a:lnTo>
                    <a:lnTo>
                      <a:pt x="17" y="3"/>
                    </a:lnTo>
                    <a:lnTo>
                      <a:pt x="12" y="7"/>
                    </a:lnTo>
                    <a:lnTo>
                      <a:pt x="7" y="11"/>
                    </a:lnTo>
                    <a:lnTo>
                      <a:pt x="3" y="17"/>
                    </a:lnTo>
                    <a:lnTo>
                      <a:pt x="0" y="24"/>
                    </a:lnTo>
                    <a:lnTo>
                      <a:pt x="65" y="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5464080" y="3851280"/>
                <a:ext cx="122400" cy="88920"/>
              </a:xfrm>
              <a:custGeom>
                <a:avLst/>
                <a:gdLst/>
                <a:ahLst/>
                <a:rect l="l" t="t" r="r" b="b"/>
                <a:pathLst>
                  <a:path w="383" h="276">
                    <a:moveTo>
                      <a:pt x="0" y="65"/>
                    </a:moveTo>
                    <a:lnTo>
                      <a:pt x="26" y="74"/>
                    </a:lnTo>
                    <a:lnTo>
                      <a:pt x="54" y="87"/>
                    </a:lnTo>
                    <a:lnTo>
                      <a:pt x="82" y="102"/>
                    </a:lnTo>
                    <a:lnTo>
                      <a:pt x="111" y="117"/>
                    </a:lnTo>
                    <a:lnTo>
                      <a:pt x="138" y="136"/>
                    </a:lnTo>
                    <a:lnTo>
                      <a:pt x="166" y="154"/>
                    </a:lnTo>
                    <a:lnTo>
                      <a:pt x="192" y="172"/>
                    </a:lnTo>
                    <a:lnTo>
                      <a:pt x="217" y="191"/>
                    </a:lnTo>
                    <a:lnTo>
                      <a:pt x="261" y="224"/>
                    </a:lnTo>
                    <a:lnTo>
                      <a:pt x="297" y="251"/>
                    </a:lnTo>
                    <a:lnTo>
                      <a:pt x="311" y="261"/>
                    </a:lnTo>
                    <a:lnTo>
                      <a:pt x="323" y="269"/>
                    </a:lnTo>
                    <a:lnTo>
                      <a:pt x="331" y="273"/>
                    </a:lnTo>
                    <a:lnTo>
                      <a:pt x="340" y="276"/>
                    </a:lnTo>
                    <a:lnTo>
                      <a:pt x="360" y="276"/>
                    </a:lnTo>
                    <a:lnTo>
                      <a:pt x="383" y="252"/>
                    </a:lnTo>
                    <a:lnTo>
                      <a:pt x="318" y="233"/>
                    </a:lnTo>
                    <a:lnTo>
                      <a:pt x="339" y="212"/>
                    </a:lnTo>
                    <a:lnTo>
                      <a:pt x="355" y="211"/>
                    </a:lnTo>
                    <a:lnTo>
                      <a:pt x="358" y="212"/>
                    </a:lnTo>
                    <a:lnTo>
                      <a:pt x="358" y="212"/>
                    </a:lnTo>
                    <a:lnTo>
                      <a:pt x="349" y="206"/>
                    </a:lnTo>
                    <a:lnTo>
                      <a:pt x="338" y="197"/>
                    </a:lnTo>
                    <a:lnTo>
                      <a:pt x="301" y="170"/>
                    </a:lnTo>
                    <a:lnTo>
                      <a:pt x="257" y="136"/>
                    </a:lnTo>
                    <a:lnTo>
                      <a:pt x="231" y="117"/>
                    </a:lnTo>
                    <a:lnTo>
                      <a:pt x="203" y="98"/>
                    </a:lnTo>
                    <a:lnTo>
                      <a:pt x="175" y="79"/>
                    </a:lnTo>
                    <a:lnTo>
                      <a:pt x="145" y="60"/>
                    </a:lnTo>
                    <a:lnTo>
                      <a:pt x="114" y="42"/>
                    </a:lnTo>
                    <a:lnTo>
                      <a:pt x="83" y="26"/>
                    </a:lnTo>
                    <a:lnTo>
                      <a:pt x="53" y="13"/>
                    </a:lnTo>
                    <a:lnTo>
                      <a:pt x="21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5456160" y="38512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45" y="1"/>
                    </a:moveTo>
                    <a:lnTo>
                      <a:pt x="37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7" y="3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5" y="17"/>
                    </a:lnTo>
                    <a:lnTo>
                      <a:pt x="3" y="23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3" y="48"/>
                    </a:lnTo>
                    <a:lnTo>
                      <a:pt x="6" y="53"/>
                    </a:lnTo>
                    <a:lnTo>
                      <a:pt x="11" y="58"/>
                    </a:lnTo>
                    <a:lnTo>
                      <a:pt x="16" y="63"/>
                    </a:lnTo>
                    <a:lnTo>
                      <a:pt x="24" y="66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6149880" y="39877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0" h="57">
                    <a:moveTo>
                      <a:pt x="52" y="57"/>
                    </a:moveTo>
                    <a:lnTo>
                      <a:pt x="56" y="50"/>
                    </a:lnTo>
                    <a:lnTo>
                      <a:pt x="58" y="43"/>
                    </a:lnTo>
                    <a:lnTo>
                      <a:pt x="60" y="37"/>
                    </a:lnTo>
                    <a:lnTo>
                      <a:pt x="60" y="31"/>
                    </a:lnTo>
                    <a:lnTo>
                      <a:pt x="58" y="24"/>
                    </a:lnTo>
                    <a:lnTo>
                      <a:pt x="56" y="18"/>
                    </a:lnTo>
                    <a:lnTo>
                      <a:pt x="53" y="14"/>
                    </a:lnTo>
                    <a:lnTo>
                      <a:pt x="48" y="9"/>
                    </a:lnTo>
                    <a:lnTo>
                      <a:pt x="42" y="6"/>
                    </a:lnTo>
                    <a:lnTo>
                      <a:pt x="37" y="2"/>
                    </a:lnTo>
                    <a:lnTo>
                      <a:pt x="31" y="1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2" y="4"/>
                    </a:lnTo>
                    <a:lnTo>
                      <a:pt x="6" y="7"/>
                    </a:lnTo>
                    <a:lnTo>
                      <a:pt x="0" y="13"/>
                    </a:lnTo>
                    <a:lnTo>
                      <a:pt x="52" y="5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6070680" y="3992400"/>
                <a:ext cx="95040" cy="154080"/>
              </a:xfrm>
              <a:custGeom>
                <a:avLst/>
                <a:gdLst/>
                <a:ahLst/>
                <a:rect l="l" t="t" r="r" b="b"/>
                <a:pathLst>
                  <a:path w="303" h="487">
                    <a:moveTo>
                      <a:pt x="65" y="487"/>
                    </a:moveTo>
                    <a:lnTo>
                      <a:pt x="72" y="464"/>
                    </a:lnTo>
                    <a:lnTo>
                      <a:pt x="80" y="441"/>
                    </a:lnTo>
                    <a:lnTo>
                      <a:pt x="88" y="418"/>
                    </a:lnTo>
                    <a:lnTo>
                      <a:pt x="96" y="397"/>
                    </a:lnTo>
                    <a:lnTo>
                      <a:pt x="114" y="353"/>
                    </a:lnTo>
                    <a:lnTo>
                      <a:pt x="133" y="312"/>
                    </a:lnTo>
                    <a:lnTo>
                      <a:pt x="153" y="273"/>
                    </a:lnTo>
                    <a:lnTo>
                      <a:pt x="173" y="237"/>
                    </a:lnTo>
                    <a:lnTo>
                      <a:pt x="192" y="203"/>
                    </a:lnTo>
                    <a:lnTo>
                      <a:pt x="211" y="171"/>
                    </a:lnTo>
                    <a:lnTo>
                      <a:pt x="230" y="142"/>
                    </a:lnTo>
                    <a:lnTo>
                      <a:pt x="247" y="117"/>
                    </a:lnTo>
                    <a:lnTo>
                      <a:pt x="263" y="95"/>
                    </a:lnTo>
                    <a:lnTo>
                      <a:pt x="276" y="77"/>
                    </a:lnTo>
                    <a:lnTo>
                      <a:pt x="296" y="52"/>
                    </a:lnTo>
                    <a:lnTo>
                      <a:pt x="303" y="44"/>
                    </a:lnTo>
                    <a:lnTo>
                      <a:pt x="251" y="0"/>
                    </a:lnTo>
                    <a:lnTo>
                      <a:pt x="243" y="10"/>
                    </a:lnTo>
                    <a:lnTo>
                      <a:pt x="223" y="36"/>
                    </a:lnTo>
                    <a:lnTo>
                      <a:pt x="208" y="56"/>
                    </a:lnTo>
                    <a:lnTo>
                      <a:pt x="192" y="78"/>
                    </a:lnTo>
                    <a:lnTo>
                      <a:pt x="174" y="106"/>
                    </a:lnTo>
                    <a:lnTo>
                      <a:pt x="154" y="135"/>
                    </a:lnTo>
                    <a:lnTo>
                      <a:pt x="135" y="167"/>
                    </a:lnTo>
                    <a:lnTo>
                      <a:pt x="113" y="204"/>
                    </a:lnTo>
                    <a:lnTo>
                      <a:pt x="93" y="243"/>
                    </a:lnTo>
                    <a:lnTo>
                      <a:pt x="72" y="284"/>
                    </a:lnTo>
                    <a:lnTo>
                      <a:pt x="53" y="327"/>
                    </a:lnTo>
                    <a:lnTo>
                      <a:pt x="34" y="372"/>
                    </a:lnTo>
                    <a:lnTo>
                      <a:pt x="24" y="396"/>
                    </a:lnTo>
                    <a:lnTo>
                      <a:pt x="16" y="419"/>
                    </a:lnTo>
                    <a:lnTo>
                      <a:pt x="8" y="443"/>
                    </a:lnTo>
                    <a:lnTo>
                      <a:pt x="0" y="469"/>
                    </a:lnTo>
                    <a:lnTo>
                      <a:pt x="65" y="48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6068880" y="414180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1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3" y="21"/>
                    </a:lnTo>
                    <a:lnTo>
                      <a:pt x="5" y="27"/>
                    </a:lnTo>
                    <a:lnTo>
                      <a:pt x="8" y="31"/>
                    </a:lnTo>
                    <a:lnTo>
                      <a:pt x="14" y="36"/>
                    </a:lnTo>
                    <a:lnTo>
                      <a:pt x="19" y="39"/>
                    </a:lnTo>
                    <a:lnTo>
                      <a:pt x="25" y="42"/>
                    </a:lnTo>
                    <a:lnTo>
                      <a:pt x="31" y="43"/>
                    </a:lnTo>
                    <a:lnTo>
                      <a:pt x="37" y="43"/>
                    </a:lnTo>
                    <a:lnTo>
                      <a:pt x="44" y="42"/>
                    </a:lnTo>
                    <a:lnTo>
                      <a:pt x="49" y="39"/>
                    </a:lnTo>
                    <a:lnTo>
                      <a:pt x="55" y="36"/>
                    </a:lnTo>
                    <a:lnTo>
                      <a:pt x="60" y="31"/>
                    </a:lnTo>
                    <a:lnTo>
                      <a:pt x="64" y="26"/>
                    </a:lnTo>
                    <a:lnTo>
                      <a:pt x="66" y="1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6424560" y="415620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59" h="56">
                    <a:moveTo>
                      <a:pt x="51" y="56"/>
                    </a:moveTo>
                    <a:lnTo>
                      <a:pt x="56" y="49"/>
                    </a:lnTo>
                    <a:lnTo>
                      <a:pt x="58" y="42"/>
                    </a:lnTo>
                    <a:lnTo>
                      <a:pt x="59" y="37"/>
                    </a:lnTo>
                    <a:lnTo>
                      <a:pt x="59" y="30"/>
                    </a:lnTo>
                    <a:lnTo>
                      <a:pt x="58" y="24"/>
                    </a:lnTo>
                    <a:lnTo>
                      <a:pt x="54" y="18"/>
                    </a:lnTo>
                    <a:lnTo>
                      <a:pt x="51" y="13"/>
                    </a:lnTo>
                    <a:lnTo>
                      <a:pt x="46" y="8"/>
                    </a:lnTo>
                    <a:lnTo>
                      <a:pt x="42" y="5"/>
                    </a:lnTo>
                    <a:lnTo>
                      <a:pt x="36" y="2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1" y="2"/>
                    </a:lnTo>
                    <a:lnTo>
                      <a:pt x="5" y="7"/>
                    </a:lnTo>
                    <a:lnTo>
                      <a:pt x="0" y="12"/>
                    </a:lnTo>
                    <a:lnTo>
                      <a:pt x="51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6345360" y="4159080"/>
                <a:ext cx="95040" cy="155880"/>
              </a:xfrm>
              <a:custGeom>
                <a:avLst/>
                <a:gdLst/>
                <a:ahLst/>
                <a:rect l="l" t="t" r="r" b="b"/>
                <a:pathLst>
                  <a:path w="302" h="488">
                    <a:moveTo>
                      <a:pt x="65" y="488"/>
                    </a:moveTo>
                    <a:lnTo>
                      <a:pt x="72" y="464"/>
                    </a:lnTo>
                    <a:lnTo>
                      <a:pt x="80" y="441"/>
                    </a:lnTo>
                    <a:lnTo>
                      <a:pt x="88" y="419"/>
                    </a:lnTo>
                    <a:lnTo>
                      <a:pt x="96" y="397"/>
                    </a:lnTo>
                    <a:lnTo>
                      <a:pt x="114" y="354"/>
                    </a:lnTo>
                    <a:lnTo>
                      <a:pt x="132" y="312"/>
                    </a:lnTo>
                    <a:lnTo>
                      <a:pt x="151" y="273"/>
                    </a:lnTo>
                    <a:lnTo>
                      <a:pt x="172" y="237"/>
                    </a:lnTo>
                    <a:lnTo>
                      <a:pt x="191" y="203"/>
                    </a:lnTo>
                    <a:lnTo>
                      <a:pt x="211" y="171"/>
                    </a:lnTo>
                    <a:lnTo>
                      <a:pt x="229" y="143"/>
                    </a:lnTo>
                    <a:lnTo>
                      <a:pt x="246" y="117"/>
                    </a:lnTo>
                    <a:lnTo>
                      <a:pt x="262" y="95"/>
                    </a:lnTo>
                    <a:lnTo>
                      <a:pt x="276" y="77"/>
                    </a:lnTo>
                    <a:lnTo>
                      <a:pt x="295" y="52"/>
                    </a:lnTo>
                    <a:lnTo>
                      <a:pt x="302" y="44"/>
                    </a:lnTo>
                    <a:lnTo>
                      <a:pt x="251" y="0"/>
                    </a:lnTo>
                    <a:lnTo>
                      <a:pt x="243" y="10"/>
                    </a:lnTo>
                    <a:lnTo>
                      <a:pt x="222" y="36"/>
                    </a:lnTo>
                    <a:lnTo>
                      <a:pt x="207" y="57"/>
                    </a:lnTo>
                    <a:lnTo>
                      <a:pt x="191" y="79"/>
                    </a:lnTo>
                    <a:lnTo>
                      <a:pt x="173" y="106"/>
                    </a:lnTo>
                    <a:lnTo>
                      <a:pt x="154" y="135"/>
                    </a:lnTo>
                    <a:lnTo>
                      <a:pt x="133" y="168"/>
                    </a:lnTo>
                    <a:lnTo>
                      <a:pt x="113" y="204"/>
                    </a:lnTo>
                    <a:lnTo>
                      <a:pt x="92" y="243"/>
                    </a:lnTo>
                    <a:lnTo>
                      <a:pt x="72" y="284"/>
                    </a:lnTo>
                    <a:lnTo>
                      <a:pt x="51" y="327"/>
                    </a:lnTo>
                    <a:lnTo>
                      <a:pt x="33" y="372"/>
                    </a:lnTo>
                    <a:lnTo>
                      <a:pt x="24" y="395"/>
                    </a:lnTo>
                    <a:lnTo>
                      <a:pt x="16" y="419"/>
                    </a:lnTo>
                    <a:lnTo>
                      <a:pt x="8" y="445"/>
                    </a:lnTo>
                    <a:lnTo>
                      <a:pt x="0" y="468"/>
                    </a:lnTo>
                    <a:lnTo>
                      <a:pt x="65" y="4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6345360" y="43084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1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1" y="22"/>
                    </a:lnTo>
                    <a:lnTo>
                      <a:pt x="4" y="28"/>
                    </a:lnTo>
                    <a:lnTo>
                      <a:pt x="8" y="34"/>
                    </a:lnTo>
                    <a:lnTo>
                      <a:pt x="12" y="37"/>
                    </a:lnTo>
                    <a:lnTo>
                      <a:pt x="18" y="40"/>
                    </a:lnTo>
                    <a:lnTo>
                      <a:pt x="24" y="43"/>
                    </a:lnTo>
                    <a:lnTo>
                      <a:pt x="31" y="44"/>
                    </a:lnTo>
                    <a:lnTo>
                      <a:pt x="36" y="44"/>
                    </a:lnTo>
                    <a:lnTo>
                      <a:pt x="43" y="43"/>
                    </a:lnTo>
                    <a:lnTo>
                      <a:pt x="49" y="42"/>
                    </a:lnTo>
                    <a:lnTo>
                      <a:pt x="54" y="38"/>
                    </a:lnTo>
                    <a:lnTo>
                      <a:pt x="59" y="34"/>
                    </a:lnTo>
                    <a:lnTo>
                      <a:pt x="62" y="27"/>
                    </a:lnTo>
                    <a:lnTo>
                      <a:pt x="66" y="2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5846760" y="39006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52" y="56"/>
                    </a:moveTo>
                    <a:lnTo>
                      <a:pt x="56" y="50"/>
                    </a:lnTo>
                    <a:lnTo>
                      <a:pt x="60" y="43"/>
                    </a:lnTo>
                    <a:lnTo>
                      <a:pt x="61" y="37"/>
                    </a:lnTo>
                    <a:lnTo>
                      <a:pt x="60" y="30"/>
                    </a:lnTo>
                    <a:lnTo>
                      <a:pt x="58" y="24"/>
                    </a:lnTo>
                    <a:lnTo>
                      <a:pt x="56" y="18"/>
                    </a:lnTo>
                    <a:lnTo>
                      <a:pt x="53" y="14"/>
                    </a:lnTo>
                    <a:lnTo>
                      <a:pt x="48" y="9"/>
                    </a:lnTo>
                    <a:lnTo>
                      <a:pt x="42" y="5"/>
                    </a:lnTo>
                    <a:lnTo>
                      <a:pt x="37" y="2"/>
                    </a:lnTo>
                    <a:lnTo>
                      <a:pt x="31" y="1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3" y="4"/>
                    </a:lnTo>
                    <a:lnTo>
                      <a:pt x="6" y="7"/>
                    </a:lnTo>
                    <a:lnTo>
                      <a:pt x="0" y="13"/>
                    </a:lnTo>
                    <a:lnTo>
                      <a:pt x="52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5767560" y="3905280"/>
                <a:ext cx="96840" cy="154080"/>
              </a:xfrm>
              <a:custGeom>
                <a:avLst/>
                <a:gdLst/>
                <a:ahLst/>
                <a:rect l="l" t="t" r="r" b="b"/>
                <a:pathLst>
                  <a:path w="301" h="487">
                    <a:moveTo>
                      <a:pt x="63" y="487"/>
                    </a:moveTo>
                    <a:lnTo>
                      <a:pt x="70" y="464"/>
                    </a:lnTo>
                    <a:lnTo>
                      <a:pt x="78" y="441"/>
                    </a:lnTo>
                    <a:lnTo>
                      <a:pt x="86" y="418"/>
                    </a:lnTo>
                    <a:lnTo>
                      <a:pt x="94" y="397"/>
                    </a:lnTo>
                    <a:lnTo>
                      <a:pt x="112" y="353"/>
                    </a:lnTo>
                    <a:lnTo>
                      <a:pt x="132" y="312"/>
                    </a:lnTo>
                    <a:lnTo>
                      <a:pt x="151" y="274"/>
                    </a:lnTo>
                    <a:lnTo>
                      <a:pt x="171" y="236"/>
                    </a:lnTo>
                    <a:lnTo>
                      <a:pt x="190" y="202"/>
                    </a:lnTo>
                    <a:lnTo>
                      <a:pt x="209" y="171"/>
                    </a:lnTo>
                    <a:lnTo>
                      <a:pt x="228" y="142"/>
                    </a:lnTo>
                    <a:lnTo>
                      <a:pt x="246" y="117"/>
                    </a:lnTo>
                    <a:lnTo>
                      <a:pt x="261" y="96"/>
                    </a:lnTo>
                    <a:lnTo>
                      <a:pt x="274" y="77"/>
                    </a:lnTo>
                    <a:lnTo>
                      <a:pt x="294" y="51"/>
                    </a:lnTo>
                    <a:lnTo>
                      <a:pt x="301" y="43"/>
                    </a:lnTo>
                    <a:lnTo>
                      <a:pt x="249" y="0"/>
                    </a:lnTo>
                    <a:lnTo>
                      <a:pt x="241" y="10"/>
                    </a:lnTo>
                    <a:lnTo>
                      <a:pt x="221" y="36"/>
                    </a:lnTo>
                    <a:lnTo>
                      <a:pt x="206" y="56"/>
                    </a:lnTo>
                    <a:lnTo>
                      <a:pt x="190" y="78"/>
                    </a:lnTo>
                    <a:lnTo>
                      <a:pt x="172" y="105"/>
                    </a:lnTo>
                    <a:lnTo>
                      <a:pt x="152" y="134"/>
                    </a:lnTo>
                    <a:lnTo>
                      <a:pt x="133" y="167"/>
                    </a:lnTo>
                    <a:lnTo>
                      <a:pt x="112" y="204"/>
                    </a:lnTo>
                    <a:lnTo>
                      <a:pt x="91" y="242"/>
                    </a:lnTo>
                    <a:lnTo>
                      <a:pt x="70" y="283"/>
                    </a:lnTo>
                    <a:lnTo>
                      <a:pt x="51" y="326"/>
                    </a:lnTo>
                    <a:lnTo>
                      <a:pt x="31" y="372"/>
                    </a:lnTo>
                    <a:lnTo>
                      <a:pt x="22" y="396"/>
                    </a:lnTo>
                    <a:lnTo>
                      <a:pt x="14" y="420"/>
                    </a:lnTo>
                    <a:lnTo>
                      <a:pt x="6" y="443"/>
                    </a:lnTo>
                    <a:lnTo>
                      <a:pt x="0" y="469"/>
                    </a:lnTo>
                    <a:lnTo>
                      <a:pt x="63" y="48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5767560" y="40543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3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3" y="21"/>
                    </a:lnTo>
                    <a:lnTo>
                      <a:pt x="5" y="27"/>
                    </a:lnTo>
                    <a:lnTo>
                      <a:pt x="9" y="32"/>
                    </a:lnTo>
                    <a:lnTo>
                      <a:pt x="14" y="36"/>
                    </a:lnTo>
                    <a:lnTo>
                      <a:pt x="19" y="38"/>
                    </a:lnTo>
                    <a:lnTo>
                      <a:pt x="25" y="41"/>
                    </a:lnTo>
                    <a:lnTo>
                      <a:pt x="31" y="42"/>
                    </a:lnTo>
                    <a:lnTo>
                      <a:pt x="38" y="43"/>
                    </a:lnTo>
                    <a:lnTo>
                      <a:pt x="44" y="42"/>
                    </a:lnTo>
                    <a:lnTo>
                      <a:pt x="49" y="40"/>
                    </a:lnTo>
                    <a:lnTo>
                      <a:pt x="55" y="36"/>
                    </a:lnTo>
                    <a:lnTo>
                      <a:pt x="60" y="32"/>
                    </a:lnTo>
                    <a:lnTo>
                      <a:pt x="64" y="26"/>
                    </a:lnTo>
                    <a:lnTo>
                      <a:pt x="66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5541840" y="38386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0" h="56">
                    <a:moveTo>
                      <a:pt x="52" y="56"/>
                    </a:moveTo>
                    <a:lnTo>
                      <a:pt x="56" y="49"/>
                    </a:lnTo>
                    <a:lnTo>
                      <a:pt x="58" y="42"/>
                    </a:lnTo>
                    <a:lnTo>
                      <a:pt x="60" y="37"/>
                    </a:lnTo>
                    <a:lnTo>
                      <a:pt x="60" y="30"/>
                    </a:lnTo>
                    <a:lnTo>
                      <a:pt x="58" y="24"/>
                    </a:lnTo>
                    <a:lnTo>
                      <a:pt x="56" y="18"/>
                    </a:lnTo>
                    <a:lnTo>
                      <a:pt x="52" y="13"/>
                    </a:lnTo>
                    <a:lnTo>
                      <a:pt x="48" y="8"/>
                    </a:lnTo>
                    <a:lnTo>
                      <a:pt x="43" y="5"/>
                    </a:lnTo>
                    <a:lnTo>
                      <a:pt x="37" y="2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2" y="2"/>
                    </a:lnTo>
                    <a:lnTo>
                      <a:pt x="6" y="7"/>
                    </a:lnTo>
                    <a:lnTo>
                      <a:pt x="0" y="11"/>
                    </a:lnTo>
                    <a:lnTo>
                      <a:pt x="52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5483160" y="38433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240" h="368">
                    <a:moveTo>
                      <a:pt x="65" y="368"/>
                    </a:moveTo>
                    <a:lnTo>
                      <a:pt x="75" y="335"/>
                    </a:lnTo>
                    <a:lnTo>
                      <a:pt x="88" y="303"/>
                    </a:lnTo>
                    <a:lnTo>
                      <a:pt x="101" y="271"/>
                    </a:lnTo>
                    <a:lnTo>
                      <a:pt x="115" y="241"/>
                    </a:lnTo>
                    <a:lnTo>
                      <a:pt x="129" y="213"/>
                    </a:lnTo>
                    <a:lnTo>
                      <a:pt x="144" y="186"/>
                    </a:lnTo>
                    <a:lnTo>
                      <a:pt x="159" y="161"/>
                    </a:lnTo>
                    <a:lnTo>
                      <a:pt x="172" y="139"/>
                    </a:lnTo>
                    <a:lnTo>
                      <a:pt x="199" y="99"/>
                    </a:lnTo>
                    <a:lnTo>
                      <a:pt x="220" y="69"/>
                    </a:lnTo>
                    <a:lnTo>
                      <a:pt x="235" y="51"/>
                    </a:lnTo>
                    <a:lnTo>
                      <a:pt x="240" y="45"/>
                    </a:lnTo>
                    <a:lnTo>
                      <a:pt x="188" y="0"/>
                    </a:lnTo>
                    <a:lnTo>
                      <a:pt x="182" y="8"/>
                    </a:lnTo>
                    <a:lnTo>
                      <a:pt x="167" y="29"/>
                    </a:lnTo>
                    <a:lnTo>
                      <a:pt x="144" y="60"/>
                    </a:lnTo>
                    <a:lnTo>
                      <a:pt x="117" y="102"/>
                    </a:lnTo>
                    <a:lnTo>
                      <a:pt x="101" y="127"/>
                    </a:lnTo>
                    <a:lnTo>
                      <a:pt x="85" y="153"/>
                    </a:lnTo>
                    <a:lnTo>
                      <a:pt x="70" y="182"/>
                    </a:lnTo>
                    <a:lnTo>
                      <a:pt x="54" y="212"/>
                    </a:lnTo>
                    <a:lnTo>
                      <a:pt x="39" y="245"/>
                    </a:lnTo>
                    <a:lnTo>
                      <a:pt x="25" y="278"/>
                    </a:lnTo>
                    <a:lnTo>
                      <a:pt x="13" y="313"/>
                    </a:lnTo>
                    <a:lnTo>
                      <a:pt x="0" y="348"/>
                    </a:lnTo>
                    <a:lnTo>
                      <a:pt x="65" y="3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5481720" y="39528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66" h="45">
                    <a:moveTo>
                      <a:pt x="1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1" y="22"/>
                    </a:lnTo>
                    <a:lnTo>
                      <a:pt x="5" y="28"/>
                    </a:lnTo>
                    <a:lnTo>
                      <a:pt x="8" y="34"/>
                    </a:lnTo>
                    <a:lnTo>
                      <a:pt x="13" y="37"/>
                    </a:lnTo>
                    <a:lnTo>
                      <a:pt x="18" y="40"/>
                    </a:lnTo>
                    <a:lnTo>
                      <a:pt x="24" y="43"/>
                    </a:lnTo>
                    <a:lnTo>
                      <a:pt x="31" y="44"/>
                    </a:lnTo>
                    <a:lnTo>
                      <a:pt x="37" y="45"/>
                    </a:lnTo>
                    <a:lnTo>
                      <a:pt x="43" y="44"/>
                    </a:lnTo>
                    <a:lnTo>
                      <a:pt x="49" y="42"/>
                    </a:lnTo>
                    <a:lnTo>
                      <a:pt x="55" y="38"/>
                    </a:lnTo>
                    <a:lnTo>
                      <a:pt x="59" y="34"/>
                    </a:lnTo>
                    <a:lnTo>
                      <a:pt x="63" y="28"/>
                    </a:lnTo>
                    <a:lnTo>
                      <a:pt x="66" y="2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6029280" y="418608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69" h="105">
                    <a:moveTo>
                      <a:pt x="121" y="16"/>
                    </a:moveTo>
                    <a:lnTo>
                      <a:pt x="104" y="9"/>
                    </a:lnTo>
                    <a:lnTo>
                      <a:pt x="88" y="4"/>
                    </a:lnTo>
                    <a:lnTo>
                      <a:pt x="71" y="1"/>
                    </a:lnTo>
                    <a:lnTo>
                      <a:pt x="55" y="0"/>
                    </a:lnTo>
                    <a:lnTo>
                      <a:pt x="40" y="0"/>
                    </a:lnTo>
                    <a:lnTo>
                      <a:pt x="27" y="3"/>
                    </a:lnTo>
                    <a:lnTo>
                      <a:pt x="22" y="6"/>
                    </a:lnTo>
                    <a:lnTo>
                      <a:pt x="16" y="8"/>
                    </a:lnTo>
                    <a:lnTo>
                      <a:pt x="11" y="10"/>
                    </a:lnTo>
                    <a:lnTo>
                      <a:pt x="8" y="14"/>
                    </a:lnTo>
                    <a:lnTo>
                      <a:pt x="4" y="18"/>
                    </a:lnTo>
                    <a:lnTo>
                      <a:pt x="2" y="23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1"/>
                    </a:lnTo>
                    <a:lnTo>
                      <a:pt x="2" y="47"/>
                    </a:lnTo>
                    <a:lnTo>
                      <a:pt x="4" y="51"/>
                    </a:lnTo>
                    <a:lnTo>
                      <a:pt x="7" y="56"/>
                    </a:lnTo>
                    <a:lnTo>
                      <a:pt x="11" y="61"/>
                    </a:lnTo>
                    <a:lnTo>
                      <a:pt x="16" y="66"/>
                    </a:lnTo>
                    <a:lnTo>
                      <a:pt x="20" y="71"/>
                    </a:lnTo>
                    <a:lnTo>
                      <a:pt x="33" y="80"/>
                    </a:lnTo>
                    <a:lnTo>
                      <a:pt x="48" y="89"/>
                    </a:lnTo>
                    <a:lnTo>
                      <a:pt x="64" y="96"/>
                    </a:lnTo>
                    <a:lnTo>
                      <a:pt x="80" y="101"/>
                    </a:lnTo>
                    <a:lnTo>
                      <a:pt x="97" y="104"/>
                    </a:lnTo>
                    <a:lnTo>
                      <a:pt x="112" y="105"/>
                    </a:lnTo>
                    <a:lnTo>
                      <a:pt x="126" y="105"/>
                    </a:lnTo>
                    <a:lnTo>
                      <a:pt x="139" y="103"/>
                    </a:lnTo>
                    <a:lnTo>
                      <a:pt x="146" y="100"/>
                    </a:lnTo>
                    <a:lnTo>
                      <a:pt x="150" y="98"/>
                    </a:lnTo>
                    <a:lnTo>
                      <a:pt x="155" y="95"/>
                    </a:lnTo>
                    <a:lnTo>
                      <a:pt x="160" y="91"/>
                    </a:lnTo>
                    <a:lnTo>
                      <a:pt x="163" y="87"/>
                    </a:lnTo>
                    <a:lnTo>
                      <a:pt x="165" y="82"/>
                    </a:lnTo>
                    <a:lnTo>
                      <a:pt x="168" y="77"/>
                    </a:lnTo>
                    <a:lnTo>
                      <a:pt x="169" y="73"/>
                    </a:lnTo>
                    <a:lnTo>
                      <a:pt x="169" y="68"/>
                    </a:lnTo>
                    <a:lnTo>
                      <a:pt x="168" y="63"/>
                    </a:lnTo>
                    <a:lnTo>
                      <a:pt x="165" y="58"/>
                    </a:lnTo>
                    <a:lnTo>
                      <a:pt x="163" y="52"/>
                    </a:lnTo>
                    <a:lnTo>
                      <a:pt x="161" y="48"/>
                    </a:lnTo>
                    <a:lnTo>
                      <a:pt x="156" y="43"/>
                    </a:lnTo>
                    <a:lnTo>
                      <a:pt x="153" y="38"/>
                    </a:lnTo>
                    <a:lnTo>
                      <a:pt x="147" y="33"/>
                    </a:lnTo>
                    <a:lnTo>
                      <a:pt x="134" y="24"/>
                    </a:lnTo>
                    <a:lnTo>
                      <a:pt x="12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6024600" y="4175280"/>
                <a:ext cx="49320" cy="25200"/>
              </a:xfrm>
              <a:custGeom>
                <a:avLst/>
                <a:gdLst/>
                <a:ahLst/>
                <a:rect l="l" t="t" r="r" b="b"/>
                <a:pathLst>
                  <a:path w="154" h="81">
                    <a:moveTo>
                      <a:pt x="51" y="70"/>
                    </a:moveTo>
                    <a:lnTo>
                      <a:pt x="49" y="72"/>
                    </a:lnTo>
                    <a:lnTo>
                      <a:pt x="49" y="72"/>
                    </a:lnTo>
                    <a:lnTo>
                      <a:pt x="50" y="72"/>
                    </a:lnTo>
                    <a:lnTo>
                      <a:pt x="52" y="70"/>
                    </a:lnTo>
                    <a:lnTo>
                      <a:pt x="53" y="69"/>
                    </a:lnTo>
                    <a:lnTo>
                      <a:pt x="62" y="68"/>
                    </a:lnTo>
                    <a:lnTo>
                      <a:pt x="73" y="67"/>
                    </a:lnTo>
                    <a:lnTo>
                      <a:pt x="84" y="68"/>
                    </a:lnTo>
                    <a:lnTo>
                      <a:pt x="98" y="70"/>
                    </a:lnTo>
                    <a:lnTo>
                      <a:pt x="110" y="75"/>
                    </a:lnTo>
                    <a:lnTo>
                      <a:pt x="124" y="81"/>
                    </a:lnTo>
                    <a:lnTo>
                      <a:pt x="154" y="20"/>
                    </a:lnTo>
                    <a:lnTo>
                      <a:pt x="133" y="11"/>
                    </a:lnTo>
                    <a:lnTo>
                      <a:pt x="114" y="5"/>
                    </a:lnTo>
                    <a:lnTo>
                      <a:pt x="93" y="2"/>
                    </a:lnTo>
                    <a:lnTo>
                      <a:pt x="74" y="0"/>
                    </a:lnTo>
                    <a:lnTo>
                      <a:pt x="54" y="1"/>
                    </a:lnTo>
                    <a:lnTo>
                      <a:pt x="37" y="4"/>
                    </a:lnTo>
                    <a:lnTo>
                      <a:pt x="26" y="8"/>
                    </a:lnTo>
                    <a:lnTo>
                      <a:pt x="18" y="12"/>
                    </a:lnTo>
                    <a:lnTo>
                      <a:pt x="9" y="17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51" y="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6019920" y="4183200"/>
                <a:ext cx="29880" cy="41040"/>
              </a:xfrm>
              <a:custGeom>
                <a:avLst/>
                <a:gdLst/>
                <a:ahLst/>
                <a:rect l="l" t="t" r="r" b="b"/>
                <a:pathLst>
                  <a:path w="98" h="127">
                    <a:moveTo>
                      <a:pt x="98" y="67"/>
                    </a:moveTo>
                    <a:lnTo>
                      <a:pt x="98" y="66"/>
                    </a:lnTo>
                    <a:lnTo>
                      <a:pt x="85" y="59"/>
                    </a:lnTo>
                    <a:lnTo>
                      <a:pt x="76" y="52"/>
                    </a:lnTo>
                    <a:lnTo>
                      <a:pt x="74" y="50"/>
                    </a:lnTo>
                    <a:lnTo>
                      <a:pt x="70" y="48"/>
                    </a:lnTo>
                    <a:lnTo>
                      <a:pt x="69" y="46"/>
                    </a:lnTo>
                    <a:lnTo>
                      <a:pt x="68" y="43"/>
                    </a:lnTo>
                    <a:lnTo>
                      <a:pt x="67" y="42"/>
                    </a:lnTo>
                    <a:lnTo>
                      <a:pt x="67" y="41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7" y="44"/>
                    </a:lnTo>
                    <a:lnTo>
                      <a:pt x="16" y="0"/>
                    </a:lnTo>
                    <a:lnTo>
                      <a:pt x="10" y="8"/>
                    </a:lnTo>
                    <a:lnTo>
                      <a:pt x="4" y="17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8"/>
                    </a:lnTo>
                    <a:lnTo>
                      <a:pt x="2" y="57"/>
                    </a:lnTo>
                    <a:lnTo>
                      <a:pt x="4" y="67"/>
                    </a:lnTo>
                    <a:lnTo>
                      <a:pt x="9" y="75"/>
                    </a:lnTo>
                    <a:lnTo>
                      <a:pt x="13" y="83"/>
                    </a:lnTo>
                    <a:lnTo>
                      <a:pt x="19" y="91"/>
                    </a:lnTo>
                    <a:lnTo>
                      <a:pt x="26" y="98"/>
                    </a:lnTo>
                    <a:lnTo>
                      <a:pt x="34" y="105"/>
                    </a:lnTo>
                    <a:lnTo>
                      <a:pt x="49" y="116"/>
                    </a:lnTo>
                    <a:lnTo>
                      <a:pt x="67" y="127"/>
                    </a:lnTo>
                    <a:lnTo>
                      <a:pt x="67" y="127"/>
                    </a:lnTo>
                    <a:lnTo>
                      <a:pt x="98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6040440" y="4205160"/>
                <a:ext cx="47520" cy="25560"/>
              </a:xfrm>
              <a:custGeom>
                <a:avLst/>
                <a:gdLst/>
                <a:ahLst/>
                <a:rect l="l" t="t" r="r" b="b"/>
                <a:pathLst>
                  <a:path w="150" h="80">
                    <a:moveTo>
                      <a:pt x="103" y="8"/>
                    </a:moveTo>
                    <a:lnTo>
                      <a:pt x="103" y="8"/>
                    </a:lnTo>
                    <a:lnTo>
                      <a:pt x="103" y="8"/>
                    </a:lnTo>
                    <a:lnTo>
                      <a:pt x="101" y="9"/>
                    </a:lnTo>
                    <a:lnTo>
                      <a:pt x="99" y="9"/>
                    </a:lnTo>
                    <a:lnTo>
                      <a:pt x="98" y="10"/>
                    </a:lnTo>
                    <a:lnTo>
                      <a:pt x="90" y="12"/>
                    </a:lnTo>
                    <a:lnTo>
                      <a:pt x="80" y="13"/>
                    </a:lnTo>
                    <a:lnTo>
                      <a:pt x="67" y="12"/>
                    </a:lnTo>
                    <a:lnTo>
                      <a:pt x="56" y="9"/>
                    </a:lnTo>
                    <a:lnTo>
                      <a:pt x="43" y="6"/>
                    </a:lnTo>
                    <a:lnTo>
                      <a:pt x="31" y="0"/>
                    </a:lnTo>
                    <a:lnTo>
                      <a:pt x="0" y="60"/>
                    </a:lnTo>
                    <a:lnTo>
                      <a:pt x="19" y="69"/>
                    </a:lnTo>
                    <a:lnTo>
                      <a:pt x="39" y="74"/>
                    </a:lnTo>
                    <a:lnTo>
                      <a:pt x="59" y="79"/>
                    </a:lnTo>
                    <a:lnTo>
                      <a:pt x="79" y="80"/>
                    </a:lnTo>
                    <a:lnTo>
                      <a:pt x="97" y="79"/>
                    </a:lnTo>
                    <a:lnTo>
                      <a:pt x="115" y="76"/>
                    </a:lnTo>
                    <a:lnTo>
                      <a:pt x="125" y="72"/>
                    </a:lnTo>
                    <a:lnTo>
                      <a:pt x="133" y="69"/>
                    </a:lnTo>
                    <a:lnTo>
                      <a:pt x="142" y="63"/>
                    </a:lnTo>
                    <a:lnTo>
                      <a:pt x="150" y="56"/>
                    </a:lnTo>
                    <a:lnTo>
                      <a:pt x="150" y="56"/>
                    </a:lnTo>
                    <a:lnTo>
                      <a:pt x="103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6064200" y="4181400"/>
                <a:ext cx="30240" cy="41400"/>
              </a:xfrm>
              <a:custGeom>
                <a:avLst/>
                <a:gdLst/>
                <a:ahLst/>
                <a:rect l="l" t="t" r="r" b="b"/>
                <a:pathLst>
                  <a:path w="96" h="129">
                    <a:moveTo>
                      <a:pt x="0" y="61"/>
                    </a:moveTo>
                    <a:lnTo>
                      <a:pt x="0" y="61"/>
                    </a:lnTo>
                    <a:lnTo>
                      <a:pt x="11" y="66"/>
                    </a:lnTo>
                    <a:lnTo>
                      <a:pt x="20" y="73"/>
                    </a:lnTo>
                    <a:lnTo>
                      <a:pt x="23" y="75"/>
                    </a:lnTo>
                    <a:lnTo>
                      <a:pt x="25" y="78"/>
                    </a:lnTo>
                    <a:lnTo>
                      <a:pt x="26" y="81"/>
                    </a:lnTo>
                    <a:lnTo>
                      <a:pt x="27" y="82"/>
                    </a:lnTo>
                    <a:lnTo>
                      <a:pt x="28" y="83"/>
                    </a:lnTo>
                    <a:lnTo>
                      <a:pt x="28" y="85"/>
                    </a:lnTo>
                    <a:lnTo>
                      <a:pt x="28" y="85"/>
                    </a:lnTo>
                    <a:lnTo>
                      <a:pt x="28" y="83"/>
                    </a:lnTo>
                    <a:lnTo>
                      <a:pt x="28" y="82"/>
                    </a:lnTo>
                    <a:lnTo>
                      <a:pt x="30" y="82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77" y="129"/>
                    </a:lnTo>
                    <a:lnTo>
                      <a:pt x="84" y="121"/>
                    </a:lnTo>
                    <a:lnTo>
                      <a:pt x="90" y="111"/>
                    </a:lnTo>
                    <a:lnTo>
                      <a:pt x="93" y="101"/>
                    </a:lnTo>
                    <a:lnTo>
                      <a:pt x="96" y="90"/>
                    </a:lnTo>
                    <a:lnTo>
                      <a:pt x="96" y="80"/>
                    </a:lnTo>
                    <a:lnTo>
                      <a:pt x="95" y="70"/>
                    </a:lnTo>
                    <a:lnTo>
                      <a:pt x="91" y="60"/>
                    </a:lnTo>
                    <a:lnTo>
                      <a:pt x="88" y="52"/>
                    </a:lnTo>
                    <a:lnTo>
                      <a:pt x="82" y="42"/>
                    </a:lnTo>
                    <a:lnTo>
                      <a:pt x="76" y="36"/>
                    </a:lnTo>
                    <a:lnTo>
                      <a:pt x="69" y="28"/>
                    </a:lnTo>
                    <a:lnTo>
                      <a:pt x="62" y="21"/>
                    </a:lnTo>
                    <a:lnTo>
                      <a:pt x="47" y="9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6305400" y="435132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69" h="103">
                    <a:moveTo>
                      <a:pt x="122" y="16"/>
                    </a:moveTo>
                    <a:lnTo>
                      <a:pt x="105" y="9"/>
                    </a:lnTo>
                    <a:lnTo>
                      <a:pt x="89" y="5"/>
                    </a:lnTo>
                    <a:lnTo>
                      <a:pt x="72" y="1"/>
                    </a:lnTo>
                    <a:lnTo>
                      <a:pt x="56" y="0"/>
                    </a:lnTo>
                    <a:lnTo>
                      <a:pt x="42" y="1"/>
                    </a:lnTo>
                    <a:lnTo>
                      <a:pt x="29" y="4"/>
                    </a:lnTo>
                    <a:lnTo>
                      <a:pt x="22" y="6"/>
                    </a:lnTo>
                    <a:lnTo>
                      <a:pt x="18" y="8"/>
                    </a:lnTo>
                    <a:lnTo>
                      <a:pt x="13" y="11"/>
                    </a:lnTo>
                    <a:lnTo>
                      <a:pt x="8" y="14"/>
                    </a:lnTo>
                    <a:lnTo>
                      <a:pt x="5" y="19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0" y="32"/>
                    </a:lnTo>
                    <a:lnTo>
                      <a:pt x="0" y="37"/>
                    </a:lnTo>
                    <a:lnTo>
                      <a:pt x="2" y="41"/>
                    </a:lnTo>
                    <a:lnTo>
                      <a:pt x="4" y="46"/>
                    </a:lnTo>
                    <a:lnTo>
                      <a:pt x="6" y="50"/>
                    </a:lnTo>
                    <a:lnTo>
                      <a:pt x="8" y="55"/>
                    </a:lnTo>
                    <a:lnTo>
                      <a:pt x="13" y="60"/>
                    </a:lnTo>
                    <a:lnTo>
                      <a:pt x="18" y="65"/>
                    </a:lnTo>
                    <a:lnTo>
                      <a:pt x="22" y="70"/>
                    </a:lnTo>
                    <a:lnTo>
                      <a:pt x="35" y="78"/>
                    </a:lnTo>
                    <a:lnTo>
                      <a:pt x="49" y="87"/>
                    </a:lnTo>
                    <a:lnTo>
                      <a:pt x="65" y="94"/>
                    </a:lnTo>
                    <a:lnTo>
                      <a:pt x="81" y="100"/>
                    </a:lnTo>
                    <a:lnTo>
                      <a:pt x="97" y="102"/>
                    </a:lnTo>
                    <a:lnTo>
                      <a:pt x="113" y="103"/>
                    </a:lnTo>
                    <a:lnTo>
                      <a:pt x="128" y="103"/>
                    </a:lnTo>
                    <a:lnTo>
                      <a:pt x="141" y="100"/>
                    </a:lnTo>
                    <a:lnTo>
                      <a:pt x="146" y="98"/>
                    </a:lnTo>
                    <a:lnTo>
                      <a:pt x="152" y="96"/>
                    </a:lnTo>
                    <a:lnTo>
                      <a:pt x="157" y="93"/>
                    </a:lnTo>
                    <a:lnTo>
                      <a:pt x="161" y="89"/>
                    </a:lnTo>
                    <a:lnTo>
                      <a:pt x="165" y="85"/>
                    </a:lnTo>
                    <a:lnTo>
                      <a:pt x="167" y="80"/>
                    </a:lnTo>
                    <a:lnTo>
                      <a:pt x="169" y="77"/>
                    </a:lnTo>
                    <a:lnTo>
                      <a:pt x="169" y="71"/>
                    </a:lnTo>
                    <a:lnTo>
                      <a:pt x="169" y="66"/>
                    </a:lnTo>
                    <a:lnTo>
                      <a:pt x="169" y="62"/>
                    </a:lnTo>
                    <a:lnTo>
                      <a:pt x="167" y="57"/>
                    </a:lnTo>
                    <a:lnTo>
                      <a:pt x="165" y="52"/>
                    </a:lnTo>
                    <a:lnTo>
                      <a:pt x="158" y="42"/>
                    </a:lnTo>
                    <a:lnTo>
                      <a:pt x="149" y="33"/>
                    </a:lnTo>
                    <a:lnTo>
                      <a:pt x="136" y="24"/>
                    </a:lnTo>
                    <a:lnTo>
                      <a:pt x="122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6299280" y="4340160"/>
                <a:ext cx="48960" cy="25560"/>
              </a:xfrm>
              <a:custGeom>
                <a:avLst/>
                <a:gdLst/>
                <a:ahLst/>
                <a:rect l="l" t="t" r="r" b="b"/>
                <a:pathLst>
                  <a:path w="154" h="81">
                    <a:moveTo>
                      <a:pt x="51" y="71"/>
                    </a:moveTo>
                    <a:lnTo>
                      <a:pt x="49" y="72"/>
                    </a:lnTo>
                    <a:lnTo>
                      <a:pt x="49" y="72"/>
                    </a:lnTo>
                    <a:lnTo>
                      <a:pt x="51" y="72"/>
                    </a:lnTo>
                    <a:lnTo>
                      <a:pt x="53" y="71"/>
                    </a:lnTo>
                    <a:lnTo>
                      <a:pt x="54" y="71"/>
                    </a:lnTo>
                    <a:lnTo>
                      <a:pt x="63" y="68"/>
                    </a:lnTo>
                    <a:lnTo>
                      <a:pt x="73" y="68"/>
                    </a:lnTo>
                    <a:lnTo>
                      <a:pt x="85" y="68"/>
                    </a:lnTo>
                    <a:lnTo>
                      <a:pt x="97" y="71"/>
                    </a:lnTo>
                    <a:lnTo>
                      <a:pt x="111" y="75"/>
                    </a:lnTo>
                    <a:lnTo>
                      <a:pt x="125" y="81"/>
                    </a:lnTo>
                    <a:lnTo>
                      <a:pt x="154" y="21"/>
                    </a:lnTo>
                    <a:lnTo>
                      <a:pt x="134" y="11"/>
                    </a:lnTo>
                    <a:lnTo>
                      <a:pt x="114" y="6"/>
                    </a:lnTo>
                    <a:lnTo>
                      <a:pt x="94" y="2"/>
                    </a:lnTo>
                    <a:lnTo>
                      <a:pt x="73" y="0"/>
                    </a:lnTo>
                    <a:lnTo>
                      <a:pt x="55" y="1"/>
                    </a:lnTo>
                    <a:lnTo>
                      <a:pt x="38" y="5"/>
                    </a:lnTo>
                    <a:lnTo>
                      <a:pt x="27" y="8"/>
                    </a:lnTo>
                    <a:lnTo>
                      <a:pt x="19" y="13"/>
                    </a:lnTo>
                    <a:lnTo>
                      <a:pt x="9" y="18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51" y="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6294600" y="434808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98" h="125">
                    <a:moveTo>
                      <a:pt x="98" y="65"/>
                    </a:moveTo>
                    <a:lnTo>
                      <a:pt x="97" y="64"/>
                    </a:lnTo>
                    <a:lnTo>
                      <a:pt x="86" y="57"/>
                    </a:lnTo>
                    <a:lnTo>
                      <a:pt x="76" y="50"/>
                    </a:lnTo>
                    <a:lnTo>
                      <a:pt x="73" y="48"/>
                    </a:lnTo>
                    <a:lnTo>
                      <a:pt x="71" y="46"/>
                    </a:lnTo>
                    <a:lnTo>
                      <a:pt x="69" y="44"/>
                    </a:lnTo>
                    <a:lnTo>
                      <a:pt x="68" y="42"/>
                    </a:lnTo>
                    <a:lnTo>
                      <a:pt x="68" y="41"/>
                    </a:lnTo>
                    <a:lnTo>
                      <a:pt x="68" y="40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4"/>
                    </a:lnTo>
                    <a:lnTo>
                      <a:pt x="67" y="45"/>
                    </a:lnTo>
                    <a:lnTo>
                      <a:pt x="67" y="45"/>
                    </a:lnTo>
                    <a:lnTo>
                      <a:pt x="67" y="45"/>
                    </a:lnTo>
                    <a:lnTo>
                      <a:pt x="16" y="0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2" y="28"/>
                    </a:lnTo>
                    <a:lnTo>
                      <a:pt x="0" y="37"/>
                    </a:lnTo>
                    <a:lnTo>
                      <a:pt x="0" y="47"/>
                    </a:lnTo>
                    <a:lnTo>
                      <a:pt x="3" y="57"/>
                    </a:lnTo>
                    <a:lnTo>
                      <a:pt x="5" y="66"/>
                    </a:lnTo>
                    <a:lnTo>
                      <a:pt x="10" y="76"/>
                    </a:lnTo>
                    <a:lnTo>
                      <a:pt x="14" y="84"/>
                    </a:lnTo>
                    <a:lnTo>
                      <a:pt x="20" y="90"/>
                    </a:lnTo>
                    <a:lnTo>
                      <a:pt x="27" y="97"/>
                    </a:lnTo>
                    <a:lnTo>
                      <a:pt x="35" y="104"/>
                    </a:lnTo>
                    <a:lnTo>
                      <a:pt x="49" y="114"/>
                    </a:lnTo>
                    <a:lnTo>
                      <a:pt x="68" y="125"/>
                    </a:lnTo>
                    <a:lnTo>
                      <a:pt x="68" y="125"/>
                    </a:lnTo>
                    <a:lnTo>
                      <a:pt x="98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6316560" y="4368960"/>
                <a:ext cx="47880" cy="25200"/>
              </a:xfrm>
              <a:custGeom>
                <a:avLst/>
                <a:gdLst/>
                <a:ahLst/>
                <a:rect l="l" t="t" r="r" b="b"/>
                <a:pathLst>
                  <a:path w="150" h="80">
                    <a:moveTo>
                      <a:pt x="102" y="8"/>
                    </a:moveTo>
                    <a:lnTo>
                      <a:pt x="102" y="8"/>
                    </a:lnTo>
                    <a:lnTo>
                      <a:pt x="102" y="8"/>
                    </a:lnTo>
                    <a:lnTo>
                      <a:pt x="101" y="9"/>
                    </a:lnTo>
                    <a:lnTo>
                      <a:pt x="99" y="9"/>
                    </a:lnTo>
                    <a:lnTo>
                      <a:pt x="98" y="11"/>
                    </a:lnTo>
                    <a:lnTo>
                      <a:pt x="89" y="12"/>
                    </a:lnTo>
                    <a:lnTo>
                      <a:pt x="78" y="13"/>
                    </a:lnTo>
                    <a:lnTo>
                      <a:pt x="67" y="12"/>
                    </a:lnTo>
                    <a:lnTo>
                      <a:pt x="56" y="9"/>
                    </a:lnTo>
                    <a:lnTo>
                      <a:pt x="43" y="6"/>
                    </a:lnTo>
                    <a:lnTo>
                      <a:pt x="30" y="0"/>
                    </a:lnTo>
                    <a:lnTo>
                      <a:pt x="0" y="60"/>
                    </a:lnTo>
                    <a:lnTo>
                      <a:pt x="18" y="69"/>
                    </a:lnTo>
                    <a:lnTo>
                      <a:pt x="38" y="74"/>
                    </a:lnTo>
                    <a:lnTo>
                      <a:pt x="58" y="79"/>
                    </a:lnTo>
                    <a:lnTo>
                      <a:pt x="78" y="80"/>
                    </a:lnTo>
                    <a:lnTo>
                      <a:pt x="97" y="79"/>
                    </a:lnTo>
                    <a:lnTo>
                      <a:pt x="114" y="76"/>
                    </a:lnTo>
                    <a:lnTo>
                      <a:pt x="124" y="72"/>
                    </a:lnTo>
                    <a:lnTo>
                      <a:pt x="133" y="69"/>
                    </a:lnTo>
                    <a:lnTo>
                      <a:pt x="142" y="63"/>
                    </a:lnTo>
                    <a:lnTo>
                      <a:pt x="150" y="56"/>
                    </a:lnTo>
                    <a:lnTo>
                      <a:pt x="150" y="56"/>
                    </a:lnTo>
                    <a:lnTo>
                      <a:pt x="102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6338880" y="4346640"/>
                <a:ext cx="30240" cy="41040"/>
              </a:xfrm>
              <a:custGeom>
                <a:avLst/>
                <a:gdLst/>
                <a:ahLst/>
                <a:rect l="l" t="t" r="r" b="b"/>
                <a:pathLst>
                  <a:path w="95" h="126">
                    <a:moveTo>
                      <a:pt x="0" y="60"/>
                    </a:moveTo>
                    <a:lnTo>
                      <a:pt x="0" y="60"/>
                    </a:lnTo>
                    <a:lnTo>
                      <a:pt x="11" y="66"/>
                    </a:lnTo>
                    <a:lnTo>
                      <a:pt x="19" y="73"/>
                    </a:lnTo>
                    <a:lnTo>
                      <a:pt x="25" y="77"/>
                    </a:lnTo>
                    <a:lnTo>
                      <a:pt x="28" y="83"/>
                    </a:lnTo>
                    <a:lnTo>
                      <a:pt x="28" y="83"/>
                    </a:lnTo>
                    <a:lnTo>
                      <a:pt x="28" y="83"/>
                    </a:lnTo>
                    <a:lnTo>
                      <a:pt x="28" y="83"/>
                    </a:lnTo>
                    <a:lnTo>
                      <a:pt x="28" y="82"/>
                    </a:lnTo>
                    <a:lnTo>
                      <a:pt x="28" y="79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77" y="126"/>
                    </a:lnTo>
                    <a:lnTo>
                      <a:pt x="84" y="118"/>
                    </a:lnTo>
                    <a:lnTo>
                      <a:pt x="90" y="109"/>
                    </a:lnTo>
                    <a:lnTo>
                      <a:pt x="93" y="99"/>
                    </a:lnTo>
                    <a:lnTo>
                      <a:pt x="95" y="87"/>
                    </a:lnTo>
                    <a:lnTo>
                      <a:pt x="95" y="77"/>
                    </a:lnTo>
                    <a:lnTo>
                      <a:pt x="93" y="67"/>
                    </a:lnTo>
                    <a:lnTo>
                      <a:pt x="91" y="58"/>
                    </a:lnTo>
                    <a:lnTo>
                      <a:pt x="85" y="47"/>
                    </a:lnTo>
                    <a:lnTo>
                      <a:pt x="76" y="34"/>
                    </a:lnTo>
                    <a:lnTo>
                      <a:pt x="62" y="20"/>
                    </a:lnTo>
                    <a:lnTo>
                      <a:pt x="46" y="9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5727600" y="409896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69" h="105">
                    <a:moveTo>
                      <a:pt x="121" y="16"/>
                    </a:moveTo>
                    <a:lnTo>
                      <a:pt x="105" y="9"/>
                    </a:lnTo>
                    <a:lnTo>
                      <a:pt x="88" y="3"/>
                    </a:lnTo>
                    <a:lnTo>
                      <a:pt x="71" y="1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28" y="3"/>
                    </a:lnTo>
                    <a:lnTo>
                      <a:pt x="22" y="4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8" y="14"/>
                    </a:lnTo>
                    <a:lnTo>
                      <a:pt x="5" y="18"/>
                    </a:lnTo>
                    <a:lnTo>
                      <a:pt x="2" y="23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2" y="47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62"/>
                    </a:lnTo>
                    <a:lnTo>
                      <a:pt x="16" y="66"/>
                    </a:lnTo>
                    <a:lnTo>
                      <a:pt x="22" y="71"/>
                    </a:lnTo>
                    <a:lnTo>
                      <a:pt x="33" y="80"/>
                    </a:lnTo>
                    <a:lnTo>
                      <a:pt x="49" y="89"/>
                    </a:lnTo>
                    <a:lnTo>
                      <a:pt x="64" y="96"/>
                    </a:lnTo>
                    <a:lnTo>
                      <a:pt x="81" y="100"/>
                    </a:lnTo>
                    <a:lnTo>
                      <a:pt x="97" y="104"/>
                    </a:lnTo>
                    <a:lnTo>
                      <a:pt x="112" y="105"/>
                    </a:lnTo>
                    <a:lnTo>
                      <a:pt x="127" y="105"/>
                    </a:lnTo>
                    <a:lnTo>
                      <a:pt x="140" y="101"/>
                    </a:lnTo>
                    <a:lnTo>
                      <a:pt x="146" y="100"/>
                    </a:lnTo>
                    <a:lnTo>
                      <a:pt x="151" y="97"/>
                    </a:lnTo>
                    <a:lnTo>
                      <a:pt x="156" y="95"/>
                    </a:lnTo>
                    <a:lnTo>
                      <a:pt x="160" y="91"/>
                    </a:lnTo>
                    <a:lnTo>
                      <a:pt x="163" y="87"/>
                    </a:lnTo>
                    <a:lnTo>
                      <a:pt x="165" y="82"/>
                    </a:lnTo>
                    <a:lnTo>
                      <a:pt x="168" y="78"/>
                    </a:lnTo>
                    <a:lnTo>
                      <a:pt x="169" y="73"/>
                    </a:lnTo>
                    <a:lnTo>
                      <a:pt x="169" y="68"/>
                    </a:lnTo>
                    <a:lnTo>
                      <a:pt x="168" y="63"/>
                    </a:lnTo>
                    <a:lnTo>
                      <a:pt x="167" y="58"/>
                    </a:lnTo>
                    <a:lnTo>
                      <a:pt x="164" y="52"/>
                    </a:lnTo>
                    <a:lnTo>
                      <a:pt x="161" y="48"/>
                    </a:lnTo>
                    <a:lnTo>
                      <a:pt x="157" y="42"/>
                    </a:lnTo>
                    <a:lnTo>
                      <a:pt x="153" y="38"/>
                    </a:lnTo>
                    <a:lnTo>
                      <a:pt x="147" y="33"/>
                    </a:lnTo>
                    <a:lnTo>
                      <a:pt x="136" y="24"/>
                    </a:lnTo>
                    <a:lnTo>
                      <a:pt x="12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5722920" y="4087800"/>
                <a:ext cx="47520" cy="25560"/>
              </a:xfrm>
              <a:custGeom>
                <a:avLst/>
                <a:gdLst/>
                <a:ahLst/>
                <a:rect l="l" t="t" r="r" b="b"/>
                <a:pathLst>
                  <a:path w="153" h="81">
                    <a:moveTo>
                      <a:pt x="50" y="70"/>
                    </a:moveTo>
                    <a:lnTo>
                      <a:pt x="49" y="72"/>
                    </a:lnTo>
                    <a:lnTo>
                      <a:pt x="49" y="72"/>
                    </a:lnTo>
                    <a:lnTo>
                      <a:pt x="49" y="72"/>
                    </a:lnTo>
                    <a:lnTo>
                      <a:pt x="51" y="70"/>
                    </a:lnTo>
                    <a:lnTo>
                      <a:pt x="53" y="69"/>
                    </a:lnTo>
                    <a:lnTo>
                      <a:pt x="62" y="68"/>
                    </a:lnTo>
                    <a:lnTo>
                      <a:pt x="72" y="67"/>
                    </a:lnTo>
                    <a:lnTo>
                      <a:pt x="84" y="68"/>
                    </a:lnTo>
                    <a:lnTo>
                      <a:pt x="97" y="70"/>
                    </a:lnTo>
                    <a:lnTo>
                      <a:pt x="111" y="75"/>
                    </a:lnTo>
                    <a:lnTo>
                      <a:pt x="123" y="81"/>
                    </a:lnTo>
                    <a:lnTo>
                      <a:pt x="153" y="20"/>
                    </a:lnTo>
                    <a:lnTo>
                      <a:pt x="133" y="11"/>
                    </a:lnTo>
                    <a:lnTo>
                      <a:pt x="113" y="5"/>
                    </a:lnTo>
                    <a:lnTo>
                      <a:pt x="92" y="1"/>
                    </a:lnTo>
                    <a:lnTo>
                      <a:pt x="73" y="0"/>
                    </a:lnTo>
                    <a:lnTo>
                      <a:pt x="54" y="1"/>
                    </a:lnTo>
                    <a:lnTo>
                      <a:pt x="37" y="4"/>
                    </a:lnTo>
                    <a:lnTo>
                      <a:pt x="26" y="8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50" y="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5716440" y="4095720"/>
                <a:ext cx="32040" cy="41400"/>
              </a:xfrm>
              <a:custGeom>
                <a:avLst/>
                <a:gdLst/>
                <a:ahLst/>
                <a:rect l="l" t="t" r="r" b="b"/>
                <a:pathLst>
                  <a:path w="98" h="128">
                    <a:moveTo>
                      <a:pt x="98" y="67"/>
                    </a:moveTo>
                    <a:lnTo>
                      <a:pt x="98" y="67"/>
                    </a:lnTo>
                    <a:lnTo>
                      <a:pt x="85" y="60"/>
                    </a:lnTo>
                    <a:lnTo>
                      <a:pt x="76" y="53"/>
                    </a:lnTo>
                    <a:lnTo>
                      <a:pt x="74" y="51"/>
                    </a:lnTo>
                    <a:lnTo>
                      <a:pt x="72" y="49"/>
                    </a:lnTo>
                    <a:lnTo>
                      <a:pt x="70" y="47"/>
                    </a:lnTo>
                    <a:lnTo>
                      <a:pt x="68" y="44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7" y="45"/>
                    </a:lnTo>
                    <a:lnTo>
                      <a:pt x="67" y="45"/>
                    </a:lnTo>
                    <a:lnTo>
                      <a:pt x="17" y="0"/>
                    </a:lnTo>
                    <a:lnTo>
                      <a:pt x="10" y="9"/>
                    </a:lnTo>
                    <a:lnTo>
                      <a:pt x="6" y="18"/>
                    </a:lnTo>
                    <a:lnTo>
                      <a:pt x="2" y="28"/>
                    </a:lnTo>
                    <a:lnTo>
                      <a:pt x="0" y="37"/>
                    </a:lnTo>
                    <a:lnTo>
                      <a:pt x="0" y="48"/>
                    </a:lnTo>
                    <a:lnTo>
                      <a:pt x="2" y="58"/>
                    </a:lnTo>
                    <a:lnTo>
                      <a:pt x="6" y="68"/>
                    </a:lnTo>
                    <a:lnTo>
                      <a:pt x="9" y="76"/>
                    </a:lnTo>
                    <a:lnTo>
                      <a:pt x="14" y="84"/>
                    </a:lnTo>
                    <a:lnTo>
                      <a:pt x="19" y="92"/>
                    </a:lnTo>
                    <a:lnTo>
                      <a:pt x="26" y="99"/>
                    </a:lnTo>
                    <a:lnTo>
                      <a:pt x="34" y="106"/>
                    </a:lnTo>
                    <a:lnTo>
                      <a:pt x="49" y="117"/>
                    </a:lnTo>
                    <a:lnTo>
                      <a:pt x="67" y="128"/>
                    </a:lnTo>
                    <a:lnTo>
                      <a:pt x="67" y="128"/>
                    </a:lnTo>
                    <a:lnTo>
                      <a:pt x="98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5738760" y="411624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151" h="81">
                    <a:moveTo>
                      <a:pt x="103" y="9"/>
                    </a:moveTo>
                    <a:lnTo>
                      <a:pt x="103" y="9"/>
                    </a:lnTo>
                    <a:lnTo>
                      <a:pt x="103" y="9"/>
                    </a:lnTo>
                    <a:lnTo>
                      <a:pt x="102" y="9"/>
                    </a:lnTo>
                    <a:lnTo>
                      <a:pt x="101" y="10"/>
                    </a:lnTo>
                    <a:lnTo>
                      <a:pt x="99" y="12"/>
                    </a:lnTo>
                    <a:lnTo>
                      <a:pt x="90" y="13"/>
                    </a:lnTo>
                    <a:lnTo>
                      <a:pt x="80" y="14"/>
                    </a:lnTo>
                    <a:lnTo>
                      <a:pt x="69" y="13"/>
                    </a:lnTo>
                    <a:lnTo>
                      <a:pt x="56" y="10"/>
                    </a:lnTo>
                    <a:lnTo>
                      <a:pt x="44" y="6"/>
                    </a:lnTo>
                    <a:lnTo>
                      <a:pt x="31" y="0"/>
                    </a:lnTo>
                    <a:lnTo>
                      <a:pt x="0" y="61"/>
                    </a:lnTo>
                    <a:lnTo>
                      <a:pt x="20" y="69"/>
                    </a:lnTo>
                    <a:lnTo>
                      <a:pt x="39" y="75"/>
                    </a:lnTo>
                    <a:lnTo>
                      <a:pt x="60" y="79"/>
                    </a:lnTo>
                    <a:lnTo>
                      <a:pt x="79" y="81"/>
                    </a:lnTo>
                    <a:lnTo>
                      <a:pt x="98" y="80"/>
                    </a:lnTo>
                    <a:lnTo>
                      <a:pt x="115" y="77"/>
                    </a:lnTo>
                    <a:lnTo>
                      <a:pt x="126" y="73"/>
                    </a:lnTo>
                    <a:lnTo>
                      <a:pt x="134" y="69"/>
                    </a:lnTo>
                    <a:lnTo>
                      <a:pt x="143" y="64"/>
                    </a:lnTo>
                    <a:lnTo>
                      <a:pt x="151" y="57"/>
                    </a:lnTo>
                    <a:lnTo>
                      <a:pt x="151" y="57"/>
                    </a:lnTo>
                    <a:lnTo>
                      <a:pt x="103" y="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5761080" y="4094280"/>
                <a:ext cx="31680" cy="41040"/>
              </a:xfrm>
              <a:custGeom>
                <a:avLst/>
                <a:gdLst/>
                <a:ahLst/>
                <a:rect l="l" t="t" r="r" b="b"/>
                <a:pathLst>
                  <a:path w="96" h="130">
                    <a:moveTo>
                      <a:pt x="0" y="62"/>
                    </a:moveTo>
                    <a:lnTo>
                      <a:pt x="1" y="62"/>
                    </a:lnTo>
                    <a:lnTo>
                      <a:pt x="12" y="67"/>
                    </a:lnTo>
                    <a:lnTo>
                      <a:pt x="21" y="74"/>
                    </a:lnTo>
                    <a:lnTo>
                      <a:pt x="23" y="77"/>
                    </a:lnTo>
                    <a:lnTo>
                      <a:pt x="25" y="79"/>
                    </a:lnTo>
                    <a:lnTo>
                      <a:pt x="28" y="81"/>
                    </a:lnTo>
                    <a:lnTo>
                      <a:pt x="29" y="83"/>
                    </a:lnTo>
                    <a:lnTo>
                      <a:pt x="29" y="85"/>
                    </a:lnTo>
                    <a:lnTo>
                      <a:pt x="29" y="86"/>
                    </a:lnTo>
                    <a:lnTo>
                      <a:pt x="29" y="86"/>
                    </a:lnTo>
                    <a:lnTo>
                      <a:pt x="29" y="85"/>
                    </a:lnTo>
                    <a:lnTo>
                      <a:pt x="29" y="83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78" y="130"/>
                    </a:lnTo>
                    <a:lnTo>
                      <a:pt x="85" y="121"/>
                    </a:lnTo>
                    <a:lnTo>
                      <a:pt x="90" y="112"/>
                    </a:lnTo>
                    <a:lnTo>
                      <a:pt x="94" y="102"/>
                    </a:lnTo>
                    <a:lnTo>
                      <a:pt x="96" y="91"/>
                    </a:lnTo>
                    <a:lnTo>
                      <a:pt x="96" y="80"/>
                    </a:lnTo>
                    <a:lnTo>
                      <a:pt x="95" y="70"/>
                    </a:lnTo>
                    <a:lnTo>
                      <a:pt x="91" y="61"/>
                    </a:lnTo>
                    <a:lnTo>
                      <a:pt x="88" y="51"/>
                    </a:lnTo>
                    <a:lnTo>
                      <a:pt x="82" y="43"/>
                    </a:lnTo>
                    <a:lnTo>
                      <a:pt x="77" y="35"/>
                    </a:lnTo>
                    <a:lnTo>
                      <a:pt x="71" y="29"/>
                    </a:lnTo>
                    <a:lnTo>
                      <a:pt x="63" y="22"/>
                    </a:lnTo>
                    <a:lnTo>
                      <a:pt x="48" y="1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5456160" y="398772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124" h="78">
                    <a:moveTo>
                      <a:pt x="88" y="12"/>
                    </a:moveTo>
                    <a:lnTo>
                      <a:pt x="77" y="8"/>
                    </a:lnTo>
                    <a:lnTo>
                      <a:pt x="64" y="4"/>
                    </a:lnTo>
                    <a:lnTo>
                      <a:pt x="53" y="1"/>
                    </a:lnTo>
                    <a:lnTo>
                      <a:pt x="41" y="0"/>
                    </a:lnTo>
                    <a:lnTo>
                      <a:pt x="31" y="1"/>
                    </a:lnTo>
                    <a:lnTo>
                      <a:pt x="21" y="2"/>
                    </a:lnTo>
                    <a:lnTo>
                      <a:pt x="13" y="5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2" y="17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1" y="31"/>
                    </a:lnTo>
                    <a:lnTo>
                      <a:pt x="4" y="38"/>
                    </a:lnTo>
                    <a:lnTo>
                      <a:pt x="8" y="46"/>
                    </a:lnTo>
                    <a:lnTo>
                      <a:pt x="15" y="53"/>
                    </a:lnTo>
                    <a:lnTo>
                      <a:pt x="24" y="60"/>
                    </a:lnTo>
                    <a:lnTo>
                      <a:pt x="36" y="66"/>
                    </a:lnTo>
                    <a:lnTo>
                      <a:pt x="47" y="70"/>
                    </a:lnTo>
                    <a:lnTo>
                      <a:pt x="59" y="75"/>
                    </a:lnTo>
                    <a:lnTo>
                      <a:pt x="71" y="77"/>
                    </a:lnTo>
                    <a:lnTo>
                      <a:pt x="82" y="78"/>
                    </a:lnTo>
                    <a:lnTo>
                      <a:pt x="94" y="78"/>
                    </a:lnTo>
                    <a:lnTo>
                      <a:pt x="103" y="76"/>
                    </a:lnTo>
                    <a:lnTo>
                      <a:pt x="111" y="73"/>
                    </a:lnTo>
                    <a:lnTo>
                      <a:pt x="118" y="68"/>
                    </a:lnTo>
                    <a:lnTo>
                      <a:pt x="120" y="65"/>
                    </a:lnTo>
                    <a:lnTo>
                      <a:pt x="122" y="61"/>
                    </a:lnTo>
                    <a:lnTo>
                      <a:pt x="123" y="58"/>
                    </a:lnTo>
                    <a:lnTo>
                      <a:pt x="124" y="54"/>
                    </a:lnTo>
                    <a:lnTo>
                      <a:pt x="124" y="50"/>
                    </a:lnTo>
                    <a:lnTo>
                      <a:pt x="123" y="46"/>
                    </a:lnTo>
                    <a:lnTo>
                      <a:pt x="122" y="43"/>
                    </a:lnTo>
                    <a:lnTo>
                      <a:pt x="121" y="39"/>
                    </a:lnTo>
                    <a:lnTo>
                      <a:pt x="115" y="31"/>
                    </a:lnTo>
                    <a:lnTo>
                      <a:pt x="108" y="25"/>
                    </a:lnTo>
                    <a:lnTo>
                      <a:pt x="99" y="18"/>
                    </a:lnTo>
                    <a:lnTo>
                      <a:pt x="88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5450040" y="3976560"/>
                <a:ext cx="39600" cy="24120"/>
              </a:xfrm>
              <a:custGeom>
                <a:avLst/>
                <a:gdLst/>
                <a:ahLst/>
                <a:rect l="l" t="t" r="r" b="b"/>
                <a:pathLst>
                  <a:path w="122" h="77">
                    <a:moveTo>
                      <a:pt x="51" y="65"/>
                    </a:moveTo>
                    <a:lnTo>
                      <a:pt x="49" y="68"/>
                    </a:lnTo>
                    <a:lnTo>
                      <a:pt x="48" y="69"/>
                    </a:lnTo>
                    <a:lnTo>
                      <a:pt x="49" y="69"/>
                    </a:lnTo>
                    <a:lnTo>
                      <a:pt x="52" y="68"/>
                    </a:lnTo>
                    <a:lnTo>
                      <a:pt x="59" y="68"/>
                    </a:lnTo>
                    <a:lnTo>
                      <a:pt x="66" y="69"/>
                    </a:lnTo>
                    <a:lnTo>
                      <a:pt x="75" y="70"/>
                    </a:lnTo>
                    <a:lnTo>
                      <a:pt x="84" y="73"/>
                    </a:lnTo>
                    <a:lnTo>
                      <a:pt x="93" y="77"/>
                    </a:lnTo>
                    <a:lnTo>
                      <a:pt x="122" y="15"/>
                    </a:lnTo>
                    <a:lnTo>
                      <a:pt x="107" y="10"/>
                    </a:lnTo>
                    <a:lnTo>
                      <a:pt x="91" y="5"/>
                    </a:lnTo>
                    <a:lnTo>
                      <a:pt x="76" y="2"/>
                    </a:lnTo>
                    <a:lnTo>
                      <a:pt x="61" y="0"/>
                    </a:lnTo>
                    <a:lnTo>
                      <a:pt x="47" y="0"/>
                    </a:lnTo>
                    <a:lnTo>
                      <a:pt x="32" y="4"/>
                    </a:lnTo>
                    <a:lnTo>
                      <a:pt x="16" y="10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51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5446800" y="3983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84" h="107">
                    <a:moveTo>
                      <a:pt x="84" y="48"/>
                    </a:moveTo>
                    <a:lnTo>
                      <a:pt x="82" y="47"/>
                    </a:lnTo>
                    <a:lnTo>
                      <a:pt x="75" y="42"/>
                    </a:lnTo>
                    <a:lnTo>
                      <a:pt x="71" y="39"/>
                    </a:lnTo>
                    <a:lnTo>
                      <a:pt x="67" y="37"/>
                    </a:lnTo>
                    <a:lnTo>
                      <a:pt x="66" y="35"/>
                    </a:lnTo>
                    <a:lnTo>
                      <a:pt x="67" y="35"/>
                    </a:lnTo>
                    <a:lnTo>
                      <a:pt x="67" y="35"/>
                    </a:lnTo>
                    <a:lnTo>
                      <a:pt x="66" y="40"/>
                    </a:lnTo>
                    <a:lnTo>
                      <a:pt x="66" y="41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14" y="0"/>
                    </a:lnTo>
                    <a:lnTo>
                      <a:pt x="8" y="7"/>
                    </a:lnTo>
                    <a:lnTo>
                      <a:pt x="5" y="15"/>
                    </a:lnTo>
                    <a:lnTo>
                      <a:pt x="1" y="24"/>
                    </a:lnTo>
                    <a:lnTo>
                      <a:pt x="0" y="35"/>
                    </a:lnTo>
                    <a:lnTo>
                      <a:pt x="1" y="50"/>
                    </a:lnTo>
                    <a:lnTo>
                      <a:pt x="7" y="66"/>
                    </a:lnTo>
                    <a:lnTo>
                      <a:pt x="15" y="79"/>
                    </a:lnTo>
                    <a:lnTo>
                      <a:pt x="26" y="90"/>
                    </a:lnTo>
                    <a:lnTo>
                      <a:pt x="40" y="101"/>
                    </a:lnTo>
                    <a:lnTo>
                      <a:pt x="54" y="107"/>
                    </a:lnTo>
                    <a:lnTo>
                      <a:pt x="53" y="107"/>
                    </a:lnTo>
                    <a:lnTo>
                      <a:pt x="84" y="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5462640" y="399888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122" h="76">
                    <a:moveTo>
                      <a:pt x="74" y="8"/>
                    </a:moveTo>
                    <a:lnTo>
                      <a:pt x="74" y="8"/>
                    </a:lnTo>
                    <a:lnTo>
                      <a:pt x="75" y="7"/>
                    </a:lnTo>
                    <a:lnTo>
                      <a:pt x="73" y="7"/>
                    </a:lnTo>
                    <a:lnTo>
                      <a:pt x="69" y="8"/>
                    </a:lnTo>
                    <a:lnTo>
                      <a:pt x="63" y="8"/>
                    </a:lnTo>
                    <a:lnTo>
                      <a:pt x="57" y="8"/>
                    </a:lnTo>
                    <a:lnTo>
                      <a:pt x="49" y="6"/>
                    </a:lnTo>
                    <a:lnTo>
                      <a:pt x="39" y="3"/>
                    </a:lnTo>
                    <a:lnTo>
                      <a:pt x="31" y="0"/>
                    </a:lnTo>
                    <a:lnTo>
                      <a:pt x="0" y="59"/>
                    </a:lnTo>
                    <a:lnTo>
                      <a:pt x="14" y="66"/>
                    </a:lnTo>
                    <a:lnTo>
                      <a:pt x="30" y="72"/>
                    </a:lnTo>
                    <a:lnTo>
                      <a:pt x="46" y="74"/>
                    </a:lnTo>
                    <a:lnTo>
                      <a:pt x="62" y="76"/>
                    </a:lnTo>
                    <a:lnTo>
                      <a:pt x="77" y="75"/>
                    </a:lnTo>
                    <a:lnTo>
                      <a:pt x="93" y="72"/>
                    </a:lnTo>
                    <a:lnTo>
                      <a:pt x="108" y="66"/>
                    </a:lnTo>
                    <a:lnTo>
                      <a:pt x="122" y="56"/>
                    </a:lnTo>
                    <a:lnTo>
                      <a:pt x="122" y="56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5479920" y="39816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83" h="111">
                    <a:moveTo>
                      <a:pt x="0" y="62"/>
                    </a:moveTo>
                    <a:lnTo>
                      <a:pt x="0" y="62"/>
                    </a:lnTo>
                    <a:lnTo>
                      <a:pt x="7" y="65"/>
                    </a:lnTo>
                    <a:lnTo>
                      <a:pt x="13" y="70"/>
                    </a:lnTo>
                    <a:lnTo>
                      <a:pt x="16" y="73"/>
                    </a:lnTo>
                    <a:lnTo>
                      <a:pt x="19" y="76"/>
                    </a:lnTo>
                    <a:lnTo>
                      <a:pt x="17" y="73"/>
                    </a:lnTo>
                    <a:lnTo>
                      <a:pt x="17" y="73"/>
                    </a:lnTo>
                    <a:lnTo>
                      <a:pt x="16" y="71"/>
                    </a:lnTo>
                    <a:lnTo>
                      <a:pt x="17" y="70"/>
                    </a:lnTo>
                    <a:lnTo>
                      <a:pt x="17" y="66"/>
                    </a:lnTo>
                    <a:lnTo>
                      <a:pt x="19" y="65"/>
                    </a:lnTo>
                    <a:lnTo>
                      <a:pt x="19" y="63"/>
                    </a:lnTo>
                    <a:lnTo>
                      <a:pt x="20" y="63"/>
                    </a:lnTo>
                    <a:lnTo>
                      <a:pt x="68" y="111"/>
                    </a:lnTo>
                    <a:lnTo>
                      <a:pt x="73" y="103"/>
                    </a:lnTo>
                    <a:lnTo>
                      <a:pt x="79" y="95"/>
                    </a:lnTo>
                    <a:lnTo>
                      <a:pt x="82" y="86"/>
                    </a:lnTo>
                    <a:lnTo>
                      <a:pt x="83" y="77"/>
                    </a:lnTo>
                    <a:lnTo>
                      <a:pt x="83" y="68"/>
                    </a:lnTo>
                    <a:lnTo>
                      <a:pt x="82" y="57"/>
                    </a:lnTo>
                    <a:lnTo>
                      <a:pt x="80" y="49"/>
                    </a:lnTo>
                    <a:lnTo>
                      <a:pt x="76" y="40"/>
                    </a:lnTo>
                    <a:lnTo>
                      <a:pt x="68" y="29"/>
                    </a:lnTo>
                    <a:lnTo>
                      <a:pt x="56" y="17"/>
                    </a:lnTo>
                    <a:lnTo>
                      <a:pt x="42" y="8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5006880" y="3967200"/>
                <a:ext cx="346320" cy="950760"/>
              </a:xfrm>
              <a:custGeom>
                <a:avLst/>
                <a:gdLst/>
                <a:ahLst/>
                <a:rect l="l" t="t" r="r" b="b"/>
                <a:pathLst>
                  <a:path w="1091" h="2999">
                    <a:moveTo>
                      <a:pt x="614" y="0"/>
                    </a:moveTo>
                    <a:lnTo>
                      <a:pt x="665" y="85"/>
                    </a:lnTo>
                    <a:lnTo>
                      <a:pt x="714" y="171"/>
                    </a:lnTo>
                    <a:lnTo>
                      <a:pt x="759" y="258"/>
                    </a:lnTo>
                    <a:lnTo>
                      <a:pt x="800" y="346"/>
                    </a:lnTo>
                    <a:lnTo>
                      <a:pt x="838" y="435"/>
                    </a:lnTo>
                    <a:lnTo>
                      <a:pt x="874" y="524"/>
                    </a:lnTo>
                    <a:lnTo>
                      <a:pt x="904" y="616"/>
                    </a:lnTo>
                    <a:lnTo>
                      <a:pt x="934" y="707"/>
                    </a:lnTo>
                    <a:lnTo>
                      <a:pt x="959" y="798"/>
                    </a:lnTo>
                    <a:lnTo>
                      <a:pt x="983" y="892"/>
                    </a:lnTo>
                    <a:lnTo>
                      <a:pt x="1004" y="984"/>
                    </a:lnTo>
                    <a:lnTo>
                      <a:pt x="1022" y="1079"/>
                    </a:lnTo>
                    <a:lnTo>
                      <a:pt x="1037" y="1172"/>
                    </a:lnTo>
                    <a:lnTo>
                      <a:pt x="1050" y="1268"/>
                    </a:lnTo>
                    <a:lnTo>
                      <a:pt x="1062" y="1363"/>
                    </a:lnTo>
                    <a:lnTo>
                      <a:pt x="1071" y="1459"/>
                    </a:lnTo>
                    <a:lnTo>
                      <a:pt x="1079" y="1555"/>
                    </a:lnTo>
                    <a:lnTo>
                      <a:pt x="1085" y="1650"/>
                    </a:lnTo>
                    <a:lnTo>
                      <a:pt x="1088" y="1747"/>
                    </a:lnTo>
                    <a:lnTo>
                      <a:pt x="1090" y="1843"/>
                    </a:lnTo>
                    <a:lnTo>
                      <a:pt x="1091" y="1940"/>
                    </a:lnTo>
                    <a:lnTo>
                      <a:pt x="1091" y="2037"/>
                    </a:lnTo>
                    <a:lnTo>
                      <a:pt x="1089" y="2134"/>
                    </a:lnTo>
                    <a:lnTo>
                      <a:pt x="1087" y="2231"/>
                    </a:lnTo>
                    <a:lnTo>
                      <a:pt x="1083" y="2328"/>
                    </a:lnTo>
                    <a:lnTo>
                      <a:pt x="1079" y="2424"/>
                    </a:lnTo>
                    <a:lnTo>
                      <a:pt x="1074" y="2521"/>
                    </a:lnTo>
                    <a:lnTo>
                      <a:pt x="1069" y="2617"/>
                    </a:lnTo>
                    <a:lnTo>
                      <a:pt x="1056" y="2808"/>
                    </a:lnTo>
                    <a:lnTo>
                      <a:pt x="1042" y="2999"/>
                    </a:lnTo>
                    <a:lnTo>
                      <a:pt x="961" y="2998"/>
                    </a:lnTo>
                    <a:lnTo>
                      <a:pt x="901" y="2997"/>
                    </a:lnTo>
                    <a:lnTo>
                      <a:pt x="857" y="2995"/>
                    </a:lnTo>
                    <a:lnTo>
                      <a:pt x="827" y="2993"/>
                    </a:lnTo>
                    <a:lnTo>
                      <a:pt x="808" y="2991"/>
                    </a:lnTo>
                    <a:lnTo>
                      <a:pt x="797" y="2987"/>
                    </a:lnTo>
                    <a:lnTo>
                      <a:pt x="794" y="2985"/>
                    </a:lnTo>
                    <a:lnTo>
                      <a:pt x="792" y="2982"/>
                    </a:lnTo>
                    <a:lnTo>
                      <a:pt x="790" y="2978"/>
                    </a:lnTo>
                    <a:lnTo>
                      <a:pt x="786" y="2976"/>
                    </a:lnTo>
                    <a:lnTo>
                      <a:pt x="776" y="2973"/>
                    </a:lnTo>
                    <a:lnTo>
                      <a:pt x="757" y="2970"/>
                    </a:lnTo>
                    <a:lnTo>
                      <a:pt x="727" y="2968"/>
                    </a:lnTo>
                    <a:lnTo>
                      <a:pt x="683" y="2966"/>
                    </a:lnTo>
                    <a:lnTo>
                      <a:pt x="622" y="2965"/>
                    </a:lnTo>
                    <a:lnTo>
                      <a:pt x="541" y="2965"/>
                    </a:lnTo>
                    <a:lnTo>
                      <a:pt x="527" y="2885"/>
                    </a:lnTo>
                    <a:lnTo>
                      <a:pt x="511" y="2805"/>
                    </a:lnTo>
                    <a:lnTo>
                      <a:pt x="492" y="2726"/>
                    </a:lnTo>
                    <a:lnTo>
                      <a:pt x="471" y="2646"/>
                    </a:lnTo>
                    <a:lnTo>
                      <a:pt x="447" y="2568"/>
                    </a:lnTo>
                    <a:lnTo>
                      <a:pt x="422" y="2489"/>
                    </a:lnTo>
                    <a:lnTo>
                      <a:pt x="396" y="2410"/>
                    </a:lnTo>
                    <a:lnTo>
                      <a:pt x="369" y="2331"/>
                    </a:lnTo>
                    <a:lnTo>
                      <a:pt x="311" y="2174"/>
                    </a:lnTo>
                    <a:lnTo>
                      <a:pt x="252" y="2018"/>
                    </a:lnTo>
                    <a:lnTo>
                      <a:pt x="223" y="1940"/>
                    </a:lnTo>
                    <a:lnTo>
                      <a:pt x="194" y="1861"/>
                    </a:lnTo>
                    <a:lnTo>
                      <a:pt x="167" y="1784"/>
                    </a:lnTo>
                    <a:lnTo>
                      <a:pt x="141" y="1705"/>
                    </a:lnTo>
                    <a:lnTo>
                      <a:pt x="116" y="1628"/>
                    </a:lnTo>
                    <a:lnTo>
                      <a:pt x="92" y="1549"/>
                    </a:lnTo>
                    <a:lnTo>
                      <a:pt x="71" y="1471"/>
                    </a:lnTo>
                    <a:lnTo>
                      <a:pt x="52" y="1394"/>
                    </a:lnTo>
                    <a:lnTo>
                      <a:pt x="35" y="1315"/>
                    </a:lnTo>
                    <a:lnTo>
                      <a:pt x="21" y="1237"/>
                    </a:lnTo>
                    <a:lnTo>
                      <a:pt x="11" y="1159"/>
                    </a:lnTo>
                    <a:lnTo>
                      <a:pt x="4" y="1081"/>
                    </a:lnTo>
                    <a:lnTo>
                      <a:pt x="0" y="1002"/>
                    </a:lnTo>
                    <a:lnTo>
                      <a:pt x="0" y="924"/>
                    </a:lnTo>
                    <a:lnTo>
                      <a:pt x="6" y="846"/>
                    </a:lnTo>
                    <a:lnTo>
                      <a:pt x="15" y="767"/>
                    </a:lnTo>
                    <a:lnTo>
                      <a:pt x="29" y="689"/>
                    </a:lnTo>
                    <a:lnTo>
                      <a:pt x="48" y="610"/>
                    </a:lnTo>
                    <a:lnTo>
                      <a:pt x="73" y="530"/>
                    </a:lnTo>
                    <a:lnTo>
                      <a:pt x="104" y="451"/>
                    </a:lnTo>
                    <a:lnTo>
                      <a:pt x="130" y="448"/>
                    </a:lnTo>
                    <a:lnTo>
                      <a:pt x="155" y="444"/>
                    </a:lnTo>
                    <a:lnTo>
                      <a:pt x="179" y="439"/>
                    </a:lnTo>
                    <a:lnTo>
                      <a:pt x="203" y="433"/>
                    </a:lnTo>
                    <a:lnTo>
                      <a:pt x="226" y="425"/>
                    </a:lnTo>
                    <a:lnTo>
                      <a:pt x="249" y="417"/>
                    </a:lnTo>
                    <a:lnTo>
                      <a:pt x="271" y="409"/>
                    </a:lnTo>
                    <a:lnTo>
                      <a:pt x="291" y="399"/>
                    </a:lnTo>
                    <a:lnTo>
                      <a:pt x="312" y="389"/>
                    </a:lnTo>
                    <a:lnTo>
                      <a:pt x="331" y="377"/>
                    </a:lnTo>
                    <a:lnTo>
                      <a:pt x="349" y="366"/>
                    </a:lnTo>
                    <a:lnTo>
                      <a:pt x="368" y="353"/>
                    </a:lnTo>
                    <a:lnTo>
                      <a:pt x="385" y="339"/>
                    </a:lnTo>
                    <a:lnTo>
                      <a:pt x="402" y="326"/>
                    </a:lnTo>
                    <a:lnTo>
                      <a:pt x="418" y="311"/>
                    </a:lnTo>
                    <a:lnTo>
                      <a:pt x="434" y="296"/>
                    </a:lnTo>
                    <a:lnTo>
                      <a:pt x="448" y="280"/>
                    </a:lnTo>
                    <a:lnTo>
                      <a:pt x="463" y="264"/>
                    </a:lnTo>
                    <a:lnTo>
                      <a:pt x="477" y="248"/>
                    </a:lnTo>
                    <a:lnTo>
                      <a:pt x="491" y="231"/>
                    </a:lnTo>
                    <a:lnTo>
                      <a:pt x="503" y="213"/>
                    </a:lnTo>
                    <a:lnTo>
                      <a:pt x="516" y="195"/>
                    </a:lnTo>
                    <a:lnTo>
                      <a:pt x="527" y="176"/>
                    </a:lnTo>
                    <a:lnTo>
                      <a:pt x="539" y="158"/>
                    </a:lnTo>
                    <a:lnTo>
                      <a:pt x="560" y="119"/>
                    </a:lnTo>
                    <a:lnTo>
                      <a:pt x="580" y="81"/>
                    </a:lnTo>
                    <a:lnTo>
                      <a:pt x="597" y="41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2" name=""/>
            <p:cNvGrpSpPr/>
            <p:nvPr/>
          </p:nvGrpSpPr>
          <p:grpSpPr>
            <a:xfrm>
              <a:off x="2585880" y="3075120"/>
              <a:ext cx="3927600" cy="2576520"/>
              <a:chOff x="2585880" y="3075120"/>
              <a:chExt cx="3927600" cy="2576520"/>
            </a:xfrm>
          </p:grpSpPr>
          <p:sp>
            <p:nvSpPr>
              <p:cNvPr id="7033" name=""/>
              <p:cNvSpPr/>
              <p:nvPr/>
            </p:nvSpPr>
            <p:spPr>
              <a:xfrm>
                <a:off x="5192640" y="3960720"/>
                <a:ext cx="171360" cy="968400"/>
              </a:xfrm>
              <a:custGeom>
                <a:avLst/>
                <a:gdLst/>
                <a:ahLst/>
                <a:rect l="l" t="t" r="r" b="b"/>
                <a:pathLst>
                  <a:path w="541" h="3051">
                    <a:moveTo>
                      <a:pt x="457" y="3051"/>
                    </a:moveTo>
                    <a:lnTo>
                      <a:pt x="492" y="3020"/>
                    </a:lnTo>
                    <a:lnTo>
                      <a:pt x="504" y="2830"/>
                    </a:lnTo>
                    <a:lnTo>
                      <a:pt x="517" y="2638"/>
                    </a:lnTo>
                    <a:lnTo>
                      <a:pt x="522" y="2541"/>
                    </a:lnTo>
                    <a:lnTo>
                      <a:pt x="528" y="2445"/>
                    </a:lnTo>
                    <a:lnTo>
                      <a:pt x="533" y="2348"/>
                    </a:lnTo>
                    <a:lnTo>
                      <a:pt x="536" y="2251"/>
                    </a:lnTo>
                    <a:lnTo>
                      <a:pt x="538" y="2154"/>
                    </a:lnTo>
                    <a:lnTo>
                      <a:pt x="539" y="2056"/>
                    </a:lnTo>
                    <a:lnTo>
                      <a:pt x="541" y="1959"/>
                    </a:lnTo>
                    <a:lnTo>
                      <a:pt x="539" y="1862"/>
                    </a:lnTo>
                    <a:lnTo>
                      <a:pt x="537" y="1765"/>
                    </a:lnTo>
                    <a:lnTo>
                      <a:pt x="533" y="1668"/>
                    </a:lnTo>
                    <a:lnTo>
                      <a:pt x="527" y="1571"/>
                    </a:lnTo>
                    <a:lnTo>
                      <a:pt x="520" y="1474"/>
                    </a:lnTo>
                    <a:lnTo>
                      <a:pt x="511" y="1378"/>
                    </a:lnTo>
                    <a:lnTo>
                      <a:pt x="500" y="1283"/>
                    </a:lnTo>
                    <a:lnTo>
                      <a:pt x="486" y="1187"/>
                    </a:lnTo>
                    <a:lnTo>
                      <a:pt x="470" y="1092"/>
                    </a:lnTo>
                    <a:lnTo>
                      <a:pt x="461" y="1044"/>
                    </a:lnTo>
                    <a:lnTo>
                      <a:pt x="452" y="997"/>
                    </a:lnTo>
                    <a:lnTo>
                      <a:pt x="441" y="949"/>
                    </a:lnTo>
                    <a:lnTo>
                      <a:pt x="431" y="903"/>
                    </a:lnTo>
                    <a:lnTo>
                      <a:pt x="420" y="856"/>
                    </a:lnTo>
                    <a:lnTo>
                      <a:pt x="407" y="809"/>
                    </a:lnTo>
                    <a:lnTo>
                      <a:pt x="395" y="762"/>
                    </a:lnTo>
                    <a:lnTo>
                      <a:pt x="381" y="716"/>
                    </a:lnTo>
                    <a:lnTo>
                      <a:pt x="367" y="670"/>
                    </a:lnTo>
                    <a:lnTo>
                      <a:pt x="351" y="623"/>
                    </a:lnTo>
                    <a:lnTo>
                      <a:pt x="337" y="578"/>
                    </a:lnTo>
                    <a:lnTo>
                      <a:pt x="319" y="532"/>
                    </a:lnTo>
                    <a:lnTo>
                      <a:pt x="302" y="486"/>
                    </a:lnTo>
                    <a:lnTo>
                      <a:pt x="284" y="441"/>
                    </a:lnTo>
                    <a:lnTo>
                      <a:pt x="266" y="396"/>
                    </a:lnTo>
                    <a:lnTo>
                      <a:pt x="245" y="351"/>
                    </a:lnTo>
                    <a:lnTo>
                      <a:pt x="225" y="306"/>
                    </a:lnTo>
                    <a:lnTo>
                      <a:pt x="204" y="262"/>
                    </a:lnTo>
                    <a:lnTo>
                      <a:pt x="182" y="218"/>
                    </a:lnTo>
                    <a:lnTo>
                      <a:pt x="159" y="174"/>
                    </a:lnTo>
                    <a:lnTo>
                      <a:pt x="135" y="130"/>
                    </a:lnTo>
                    <a:lnTo>
                      <a:pt x="110" y="87"/>
                    </a:lnTo>
                    <a:lnTo>
                      <a:pt x="83" y="44"/>
                    </a:lnTo>
                    <a:lnTo>
                      <a:pt x="56" y="0"/>
                    </a:lnTo>
                    <a:lnTo>
                      <a:pt x="0" y="37"/>
                    </a:lnTo>
                    <a:lnTo>
                      <a:pt x="26" y="79"/>
                    </a:lnTo>
                    <a:lnTo>
                      <a:pt x="52" y="121"/>
                    </a:lnTo>
                    <a:lnTo>
                      <a:pt x="75" y="163"/>
                    </a:lnTo>
                    <a:lnTo>
                      <a:pt x="99" y="206"/>
                    </a:lnTo>
                    <a:lnTo>
                      <a:pt x="122" y="249"/>
                    </a:lnTo>
                    <a:lnTo>
                      <a:pt x="144" y="292"/>
                    </a:lnTo>
                    <a:lnTo>
                      <a:pt x="164" y="336"/>
                    </a:lnTo>
                    <a:lnTo>
                      <a:pt x="185" y="379"/>
                    </a:lnTo>
                    <a:lnTo>
                      <a:pt x="203" y="422"/>
                    </a:lnTo>
                    <a:lnTo>
                      <a:pt x="221" y="467"/>
                    </a:lnTo>
                    <a:lnTo>
                      <a:pt x="240" y="510"/>
                    </a:lnTo>
                    <a:lnTo>
                      <a:pt x="257" y="555"/>
                    </a:lnTo>
                    <a:lnTo>
                      <a:pt x="273" y="600"/>
                    </a:lnTo>
                    <a:lnTo>
                      <a:pt x="288" y="645"/>
                    </a:lnTo>
                    <a:lnTo>
                      <a:pt x="302" y="689"/>
                    </a:lnTo>
                    <a:lnTo>
                      <a:pt x="316" y="735"/>
                    </a:lnTo>
                    <a:lnTo>
                      <a:pt x="330" y="781"/>
                    </a:lnTo>
                    <a:lnTo>
                      <a:pt x="342" y="826"/>
                    </a:lnTo>
                    <a:lnTo>
                      <a:pt x="354" y="872"/>
                    </a:lnTo>
                    <a:lnTo>
                      <a:pt x="365" y="918"/>
                    </a:lnTo>
                    <a:lnTo>
                      <a:pt x="375" y="964"/>
                    </a:lnTo>
                    <a:lnTo>
                      <a:pt x="386" y="1010"/>
                    </a:lnTo>
                    <a:lnTo>
                      <a:pt x="395" y="1057"/>
                    </a:lnTo>
                    <a:lnTo>
                      <a:pt x="404" y="1103"/>
                    </a:lnTo>
                    <a:lnTo>
                      <a:pt x="419" y="1197"/>
                    </a:lnTo>
                    <a:lnTo>
                      <a:pt x="432" y="1291"/>
                    </a:lnTo>
                    <a:lnTo>
                      <a:pt x="444" y="1385"/>
                    </a:lnTo>
                    <a:lnTo>
                      <a:pt x="453" y="1480"/>
                    </a:lnTo>
                    <a:lnTo>
                      <a:pt x="460" y="1576"/>
                    </a:lnTo>
                    <a:lnTo>
                      <a:pt x="465" y="1672"/>
                    </a:lnTo>
                    <a:lnTo>
                      <a:pt x="470" y="1767"/>
                    </a:lnTo>
                    <a:lnTo>
                      <a:pt x="472" y="1863"/>
                    </a:lnTo>
                    <a:lnTo>
                      <a:pt x="472" y="1959"/>
                    </a:lnTo>
                    <a:lnTo>
                      <a:pt x="472" y="2056"/>
                    </a:lnTo>
                    <a:lnTo>
                      <a:pt x="471" y="2152"/>
                    </a:lnTo>
                    <a:lnTo>
                      <a:pt x="469" y="2249"/>
                    </a:lnTo>
                    <a:lnTo>
                      <a:pt x="465" y="2345"/>
                    </a:lnTo>
                    <a:lnTo>
                      <a:pt x="461" y="2442"/>
                    </a:lnTo>
                    <a:lnTo>
                      <a:pt x="455" y="2538"/>
                    </a:lnTo>
                    <a:lnTo>
                      <a:pt x="449" y="2633"/>
                    </a:lnTo>
                    <a:lnTo>
                      <a:pt x="437" y="2825"/>
                    </a:lnTo>
                    <a:lnTo>
                      <a:pt x="424" y="3016"/>
                    </a:lnTo>
                    <a:lnTo>
                      <a:pt x="457" y="2984"/>
                    </a:lnTo>
                    <a:lnTo>
                      <a:pt x="424" y="3016"/>
                    </a:lnTo>
                    <a:lnTo>
                      <a:pt x="424" y="3024"/>
                    </a:lnTo>
                    <a:lnTo>
                      <a:pt x="425" y="3030"/>
                    </a:lnTo>
                    <a:lnTo>
                      <a:pt x="429" y="3036"/>
                    </a:lnTo>
                    <a:lnTo>
                      <a:pt x="432" y="3041"/>
                    </a:lnTo>
                    <a:lnTo>
                      <a:pt x="438" y="3045"/>
                    </a:lnTo>
                    <a:lnTo>
                      <a:pt x="443" y="3049"/>
                    </a:lnTo>
                    <a:lnTo>
                      <a:pt x="449" y="3050"/>
                    </a:lnTo>
                    <a:lnTo>
                      <a:pt x="455" y="3051"/>
                    </a:lnTo>
                    <a:lnTo>
                      <a:pt x="462" y="3051"/>
                    </a:lnTo>
                    <a:lnTo>
                      <a:pt x="468" y="3050"/>
                    </a:lnTo>
                    <a:lnTo>
                      <a:pt x="473" y="3048"/>
                    </a:lnTo>
                    <a:lnTo>
                      <a:pt x="479" y="3044"/>
                    </a:lnTo>
                    <a:lnTo>
                      <a:pt x="484" y="3040"/>
                    </a:lnTo>
                    <a:lnTo>
                      <a:pt x="487" y="3035"/>
                    </a:lnTo>
                    <a:lnTo>
                      <a:pt x="490" y="3028"/>
                    </a:lnTo>
                    <a:lnTo>
                      <a:pt x="492" y="3020"/>
                    </a:lnTo>
                    <a:lnTo>
                      <a:pt x="457" y="30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5168880" y="4897440"/>
                <a:ext cx="169920" cy="31680"/>
              </a:xfrm>
              <a:custGeom>
                <a:avLst/>
                <a:gdLst/>
                <a:ahLst/>
                <a:rect l="l" t="t" r="r" b="b"/>
                <a:pathLst>
                  <a:path w="535" h="102">
                    <a:moveTo>
                      <a:pt x="1" y="39"/>
                    </a:moveTo>
                    <a:lnTo>
                      <a:pt x="34" y="69"/>
                    </a:lnTo>
                    <a:lnTo>
                      <a:pt x="115" y="69"/>
                    </a:lnTo>
                    <a:lnTo>
                      <a:pt x="175" y="70"/>
                    </a:lnTo>
                    <a:lnTo>
                      <a:pt x="218" y="71"/>
                    </a:lnTo>
                    <a:lnTo>
                      <a:pt x="247" y="73"/>
                    </a:lnTo>
                    <a:lnTo>
                      <a:pt x="262" y="76"/>
                    </a:lnTo>
                    <a:lnTo>
                      <a:pt x="266" y="77"/>
                    </a:lnTo>
                    <a:lnTo>
                      <a:pt x="260" y="72"/>
                    </a:lnTo>
                    <a:lnTo>
                      <a:pt x="255" y="67"/>
                    </a:lnTo>
                    <a:lnTo>
                      <a:pt x="262" y="78"/>
                    </a:lnTo>
                    <a:lnTo>
                      <a:pt x="278" y="89"/>
                    </a:lnTo>
                    <a:lnTo>
                      <a:pt x="295" y="94"/>
                    </a:lnTo>
                    <a:lnTo>
                      <a:pt x="317" y="96"/>
                    </a:lnTo>
                    <a:lnTo>
                      <a:pt x="347" y="99"/>
                    </a:lnTo>
                    <a:lnTo>
                      <a:pt x="393" y="101"/>
                    </a:lnTo>
                    <a:lnTo>
                      <a:pt x="454" y="102"/>
                    </a:lnTo>
                    <a:lnTo>
                      <a:pt x="535" y="102"/>
                    </a:lnTo>
                    <a:lnTo>
                      <a:pt x="535" y="35"/>
                    </a:lnTo>
                    <a:lnTo>
                      <a:pt x="454" y="35"/>
                    </a:lnTo>
                    <a:lnTo>
                      <a:pt x="394" y="34"/>
                    </a:lnTo>
                    <a:lnTo>
                      <a:pt x="351" y="31"/>
                    </a:lnTo>
                    <a:lnTo>
                      <a:pt x="322" y="30"/>
                    </a:lnTo>
                    <a:lnTo>
                      <a:pt x="307" y="28"/>
                    </a:lnTo>
                    <a:lnTo>
                      <a:pt x="303" y="27"/>
                    </a:lnTo>
                    <a:lnTo>
                      <a:pt x="311" y="31"/>
                    </a:lnTo>
                    <a:lnTo>
                      <a:pt x="315" y="36"/>
                    </a:lnTo>
                    <a:lnTo>
                      <a:pt x="307" y="24"/>
                    </a:lnTo>
                    <a:lnTo>
                      <a:pt x="291" y="14"/>
                    </a:lnTo>
                    <a:lnTo>
                      <a:pt x="274" y="10"/>
                    </a:lnTo>
                    <a:lnTo>
                      <a:pt x="253" y="6"/>
                    </a:lnTo>
                    <a:lnTo>
                      <a:pt x="222" y="4"/>
                    </a:lnTo>
                    <a:lnTo>
                      <a:pt x="176" y="3"/>
                    </a:lnTo>
                    <a:lnTo>
                      <a:pt x="115" y="2"/>
                    </a:lnTo>
                    <a:lnTo>
                      <a:pt x="34" y="0"/>
                    </a:lnTo>
                    <a:lnTo>
                      <a:pt x="67" y="3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3" y="7"/>
                    </a:lnTo>
                    <a:lnTo>
                      <a:pt x="9" y="12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9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2" y="47"/>
                    </a:lnTo>
                    <a:lnTo>
                      <a:pt x="5" y="53"/>
                    </a:lnTo>
                    <a:lnTo>
                      <a:pt x="9" y="57"/>
                    </a:lnTo>
                    <a:lnTo>
                      <a:pt x="13" y="62"/>
                    </a:lnTo>
                    <a:lnTo>
                      <a:pt x="19" y="65"/>
                    </a:lnTo>
                    <a:lnTo>
                      <a:pt x="26" y="68"/>
                    </a:lnTo>
                    <a:lnTo>
                      <a:pt x="34" y="69"/>
                    </a:lnTo>
                    <a:lnTo>
                      <a:pt x="1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4995720" y="4098960"/>
                <a:ext cx="193680" cy="809640"/>
              </a:xfrm>
              <a:custGeom>
                <a:avLst/>
                <a:gdLst/>
                <a:ahLst/>
                <a:rect l="l" t="t" r="r" b="b"/>
                <a:pathLst>
                  <a:path w="608" h="2552">
                    <a:moveTo>
                      <a:pt x="135" y="1"/>
                    </a:moveTo>
                    <a:lnTo>
                      <a:pt x="107" y="22"/>
                    </a:lnTo>
                    <a:lnTo>
                      <a:pt x="90" y="62"/>
                    </a:lnTo>
                    <a:lnTo>
                      <a:pt x="75" y="103"/>
                    </a:lnTo>
                    <a:lnTo>
                      <a:pt x="62" y="143"/>
                    </a:lnTo>
                    <a:lnTo>
                      <a:pt x="50" y="184"/>
                    </a:lnTo>
                    <a:lnTo>
                      <a:pt x="40" y="224"/>
                    </a:lnTo>
                    <a:lnTo>
                      <a:pt x="30" y="265"/>
                    </a:lnTo>
                    <a:lnTo>
                      <a:pt x="23" y="305"/>
                    </a:lnTo>
                    <a:lnTo>
                      <a:pt x="16" y="345"/>
                    </a:lnTo>
                    <a:lnTo>
                      <a:pt x="10" y="386"/>
                    </a:lnTo>
                    <a:lnTo>
                      <a:pt x="6" y="426"/>
                    </a:lnTo>
                    <a:lnTo>
                      <a:pt x="4" y="466"/>
                    </a:lnTo>
                    <a:lnTo>
                      <a:pt x="1" y="507"/>
                    </a:lnTo>
                    <a:lnTo>
                      <a:pt x="0" y="547"/>
                    </a:lnTo>
                    <a:lnTo>
                      <a:pt x="0" y="586"/>
                    </a:lnTo>
                    <a:lnTo>
                      <a:pt x="1" y="626"/>
                    </a:lnTo>
                    <a:lnTo>
                      <a:pt x="4" y="666"/>
                    </a:lnTo>
                    <a:lnTo>
                      <a:pt x="7" y="706"/>
                    </a:lnTo>
                    <a:lnTo>
                      <a:pt x="12" y="746"/>
                    </a:lnTo>
                    <a:lnTo>
                      <a:pt x="16" y="786"/>
                    </a:lnTo>
                    <a:lnTo>
                      <a:pt x="22" y="825"/>
                    </a:lnTo>
                    <a:lnTo>
                      <a:pt x="29" y="865"/>
                    </a:lnTo>
                    <a:lnTo>
                      <a:pt x="36" y="905"/>
                    </a:lnTo>
                    <a:lnTo>
                      <a:pt x="44" y="945"/>
                    </a:lnTo>
                    <a:lnTo>
                      <a:pt x="53" y="985"/>
                    </a:lnTo>
                    <a:lnTo>
                      <a:pt x="72" y="1063"/>
                    </a:lnTo>
                    <a:lnTo>
                      <a:pt x="94" y="1142"/>
                    </a:lnTo>
                    <a:lnTo>
                      <a:pt x="118" y="1221"/>
                    </a:lnTo>
                    <a:lnTo>
                      <a:pt x="143" y="1298"/>
                    </a:lnTo>
                    <a:lnTo>
                      <a:pt x="169" y="1377"/>
                    </a:lnTo>
                    <a:lnTo>
                      <a:pt x="197" y="1456"/>
                    </a:lnTo>
                    <a:lnTo>
                      <a:pt x="226" y="1535"/>
                    </a:lnTo>
                    <a:lnTo>
                      <a:pt x="254" y="1612"/>
                    </a:lnTo>
                    <a:lnTo>
                      <a:pt x="314" y="1770"/>
                    </a:lnTo>
                    <a:lnTo>
                      <a:pt x="371" y="1926"/>
                    </a:lnTo>
                    <a:lnTo>
                      <a:pt x="398" y="2003"/>
                    </a:lnTo>
                    <a:lnTo>
                      <a:pt x="424" y="2082"/>
                    </a:lnTo>
                    <a:lnTo>
                      <a:pt x="449" y="2161"/>
                    </a:lnTo>
                    <a:lnTo>
                      <a:pt x="472" y="2238"/>
                    </a:lnTo>
                    <a:lnTo>
                      <a:pt x="493" y="2317"/>
                    </a:lnTo>
                    <a:lnTo>
                      <a:pt x="512" y="2396"/>
                    </a:lnTo>
                    <a:lnTo>
                      <a:pt x="520" y="2435"/>
                    </a:lnTo>
                    <a:lnTo>
                      <a:pt x="528" y="2475"/>
                    </a:lnTo>
                    <a:lnTo>
                      <a:pt x="535" y="2513"/>
                    </a:lnTo>
                    <a:lnTo>
                      <a:pt x="542" y="2552"/>
                    </a:lnTo>
                    <a:lnTo>
                      <a:pt x="608" y="2543"/>
                    </a:lnTo>
                    <a:lnTo>
                      <a:pt x="602" y="2502"/>
                    </a:lnTo>
                    <a:lnTo>
                      <a:pt x="594" y="2462"/>
                    </a:lnTo>
                    <a:lnTo>
                      <a:pt x="586" y="2421"/>
                    </a:lnTo>
                    <a:lnTo>
                      <a:pt x="578" y="2381"/>
                    </a:lnTo>
                    <a:lnTo>
                      <a:pt x="559" y="2301"/>
                    </a:lnTo>
                    <a:lnTo>
                      <a:pt x="537" y="2220"/>
                    </a:lnTo>
                    <a:lnTo>
                      <a:pt x="513" y="2140"/>
                    </a:lnTo>
                    <a:lnTo>
                      <a:pt x="488" y="2062"/>
                    </a:lnTo>
                    <a:lnTo>
                      <a:pt x="462" y="1982"/>
                    </a:lnTo>
                    <a:lnTo>
                      <a:pt x="435" y="1903"/>
                    </a:lnTo>
                    <a:lnTo>
                      <a:pt x="376" y="1746"/>
                    </a:lnTo>
                    <a:lnTo>
                      <a:pt x="318" y="1589"/>
                    </a:lnTo>
                    <a:lnTo>
                      <a:pt x="289" y="1511"/>
                    </a:lnTo>
                    <a:lnTo>
                      <a:pt x="260" y="1433"/>
                    </a:lnTo>
                    <a:lnTo>
                      <a:pt x="233" y="1355"/>
                    </a:lnTo>
                    <a:lnTo>
                      <a:pt x="207" y="1278"/>
                    </a:lnTo>
                    <a:lnTo>
                      <a:pt x="181" y="1200"/>
                    </a:lnTo>
                    <a:lnTo>
                      <a:pt x="159" y="1123"/>
                    </a:lnTo>
                    <a:lnTo>
                      <a:pt x="137" y="1046"/>
                    </a:lnTo>
                    <a:lnTo>
                      <a:pt x="119" y="969"/>
                    </a:lnTo>
                    <a:lnTo>
                      <a:pt x="110" y="930"/>
                    </a:lnTo>
                    <a:lnTo>
                      <a:pt x="102" y="892"/>
                    </a:lnTo>
                    <a:lnTo>
                      <a:pt x="95" y="853"/>
                    </a:lnTo>
                    <a:lnTo>
                      <a:pt x="89" y="815"/>
                    </a:lnTo>
                    <a:lnTo>
                      <a:pt x="83" y="777"/>
                    </a:lnTo>
                    <a:lnTo>
                      <a:pt x="79" y="738"/>
                    </a:lnTo>
                    <a:lnTo>
                      <a:pt x="74" y="699"/>
                    </a:lnTo>
                    <a:lnTo>
                      <a:pt x="71" y="662"/>
                    </a:lnTo>
                    <a:lnTo>
                      <a:pt x="69" y="623"/>
                    </a:lnTo>
                    <a:lnTo>
                      <a:pt x="67" y="585"/>
                    </a:lnTo>
                    <a:lnTo>
                      <a:pt x="67" y="547"/>
                    </a:lnTo>
                    <a:lnTo>
                      <a:pt x="69" y="508"/>
                    </a:lnTo>
                    <a:lnTo>
                      <a:pt x="71" y="470"/>
                    </a:lnTo>
                    <a:lnTo>
                      <a:pt x="73" y="431"/>
                    </a:lnTo>
                    <a:lnTo>
                      <a:pt x="78" y="394"/>
                    </a:lnTo>
                    <a:lnTo>
                      <a:pt x="82" y="355"/>
                    </a:lnTo>
                    <a:lnTo>
                      <a:pt x="89" y="317"/>
                    </a:lnTo>
                    <a:lnTo>
                      <a:pt x="96" y="278"/>
                    </a:lnTo>
                    <a:lnTo>
                      <a:pt x="105" y="240"/>
                    </a:lnTo>
                    <a:lnTo>
                      <a:pt x="115" y="202"/>
                    </a:lnTo>
                    <a:lnTo>
                      <a:pt x="127" y="163"/>
                    </a:lnTo>
                    <a:lnTo>
                      <a:pt x="139" y="124"/>
                    </a:lnTo>
                    <a:lnTo>
                      <a:pt x="153" y="86"/>
                    </a:lnTo>
                    <a:lnTo>
                      <a:pt x="169" y="47"/>
                    </a:lnTo>
                    <a:lnTo>
                      <a:pt x="142" y="67"/>
                    </a:lnTo>
                    <a:lnTo>
                      <a:pt x="169" y="47"/>
                    </a:lnTo>
                    <a:lnTo>
                      <a:pt x="171" y="40"/>
                    </a:lnTo>
                    <a:lnTo>
                      <a:pt x="172" y="33"/>
                    </a:lnTo>
                    <a:lnTo>
                      <a:pt x="171" y="26"/>
                    </a:lnTo>
                    <a:lnTo>
                      <a:pt x="169" y="21"/>
                    </a:lnTo>
                    <a:lnTo>
                      <a:pt x="166" y="15"/>
                    </a:lnTo>
                    <a:lnTo>
                      <a:pt x="162" y="10"/>
                    </a:lnTo>
                    <a:lnTo>
                      <a:pt x="156" y="6"/>
                    </a:lnTo>
                    <a:lnTo>
                      <a:pt x="151" y="3"/>
                    </a:lnTo>
                    <a:lnTo>
                      <a:pt x="145" y="1"/>
                    </a:lnTo>
                    <a:lnTo>
                      <a:pt x="139" y="0"/>
                    </a:lnTo>
                    <a:lnTo>
                      <a:pt x="132" y="1"/>
                    </a:lnTo>
                    <a:lnTo>
                      <a:pt x="127" y="2"/>
                    </a:lnTo>
                    <a:lnTo>
                      <a:pt x="121" y="5"/>
                    </a:lnTo>
                    <a:lnTo>
                      <a:pt x="115" y="9"/>
                    </a:lnTo>
                    <a:lnTo>
                      <a:pt x="111" y="15"/>
                    </a:lnTo>
                    <a:lnTo>
                      <a:pt x="107" y="22"/>
                    </a:lnTo>
                    <a:lnTo>
                      <a:pt x="135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5038560" y="3956040"/>
                <a:ext cx="174960" cy="163440"/>
              </a:xfrm>
              <a:custGeom>
                <a:avLst/>
                <a:gdLst/>
                <a:ahLst/>
                <a:rect l="l" t="t" r="r" b="b"/>
                <a:pathLst>
                  <a:path w="546" h="518">
                    <a:moveTo>
                      <a:pt x="540" y="15"/>
                    </a:moveTo>
                    <a:lnTo>
                      <a:pt x="481" y="22"/>
                    </a:lnTo>
                    <a:lnTo>
                      <a:pt x="465" y="61"/>
                    </a:lnTo>
                    <a:lnTo>
                      <a:pt x="448" y="100"/>
                    </a:lnTo>
                    <a:lnTo>
                      <a:pt x="430" y="138"/>
                    </a:lnTo>
                    <a:lnTo>
                      <a:pt x="408" y="175"/>
                    </a:lnTo>
                    <a:lnTo>
                      <a:pt x="398" y="193"/>
                    </a:lnTo>
                    <a:lnTo>
                      <a:pt x="386" y="210"/>
                    </a:lnTo>
                    <a:lnTo>
                      <a:pt x="375" y="227"/>
                    </a:lnTo>
                    <a:lnTo>
                      <a:pt x="362" y="245"/>
                    </a:lnTo>
                    <a:lnTo>
                      <a:pt x="350" y="261"/>
                    </a:lnTo>
                    <a:lnTo>
                      <a:pt x="337" y="277"/>
                    </a:lnTo>
                    <a:lnTo>
                      <a:pt x="324" y="291"/>
                    </a:lnTo>
                    <a:lnTo>
                      <a:pt x="309" y="306"/>
                    </a:lnTo>
                    <a:lnTo>
                      <a:pt x="294" y="321"/>
                    </a:lnTo>
                    <a:lnTo>
                      <a:pt x="279" y="335"/>
                    </a:lnTo>
                    <a:lnTo>
                      <a:pt x="263" y="347"/>
                    </a:lnTo>
                    <a:lnTo>
                      <a:pt x="247" y="360"/>
                    </a:lnTo>
                    <a:lnTo>
                      <a:pt x="230" y="371"/>
                    </a:lnTo>
                    <a:lnTo>
                      <a:pt x="212" y="383"/>
                    </a:lnTo>
                    <a:lnTo>
                      <a:pt x="195" y="393"/>
                    </a:lnTo>
                    <a:lnTo>
                      <a:pt x="175" y="403"/>
                    </a:lnTo>
                    <a:lnTo>
                      <a:pt x="156" y="412"/>
                    </a:lnTo>
                    <a:lnTo>
                      <a:pt x="135" y="420"/>
                    </a:lnTo>
                    <a:lnTo>
                      <a:pt x="115" y="427"/>
                    </a:lnTo>
                    <a:lnTo>
                      <a:pt x="93" y="434"/>
                    </a:lnTo>
                    <a:lnTo>
                      <a:pt x="72" y="440"/>
                    </a:lnTo>
                    <a:lnTo>
                      <a:pt x="49" y="444"/>
                    </a:lnTo>
                    <a:lnTo>
                      <a:pt x="25" y="449"/>
                    </a:lnTo>
                    <a:lnTo>
                      <a:pt x="0" y="452"/>
                    </a:lnTo>
                    <a:lnTo>
                      <a:pt x="7" y="518"/>
                    </a:lnTo>
                    <a:lnTo>
                      <a:pt x="34" y="516"/>
                    </a:lnTo>
                    <a:lnTo>
                      <a:pt x="60" y="512"/>
                    </a:lnTo>
                    <a:lnTo>
                      <a:pt x="86" y="506"/>
                    </a:lnTo>
                    <a:lnTo>
                      <a:pt x="111" y="499"/>
                    </a:lnTo>
                    <a:lnTo>
                      <a:pt x="137" y="492"/>
                    </a:lnTo>
                    <a:lnTo>
                      <a:pt x="159" y="483"/>
                    </a:lnTo>
                    <a:lnTo>
                      <a:pt x="183" y="474"/>
                    </a:lnTo>
                    <a:lnTo>
                      <a:pt x="205" y="464"/>
                    </a:lnTo>
                    <a:lnTo>
                      <a:pt x="227" y="452"/>
                    </a:lnTo>
                    <a:lnTo>
                      <a:pt x="247" y="441"/>
                    </a:lnTo>
                    <a:lnTo>
                      <a:pt x="267" y="428"/>
                    </a:lnTo>
                    <a:lnTo>
                      <a:pt x="286" y="415"/>
                    </a:lnTo>
                    <a:lnTo>
                      <a:pt x="305" y="400"/>
                    </a:lnTo>
                    <a:lnTo>
                      <a:pt x="322" y="386"/>
                    </a:lnTo>
                    <a:lnTo>
                      <a:pt x="339" y="370"/>
                    </a:lnTo>
                    <a:lnTo>
                      <a:pt x="357" y="354"/>
                    </a:lnTo>
                    <a:lnTo>
                      <a:pt x="373" y="337"/>
                    </a:lnTo>
                    <a:lnTo>
                      <a:pt x="387" y="321"/>
                    </a:lnTo>
                    <a:lnTo>
                      <a:pt x="402" y="303"/>
                    </a:lnTo>
                    <a:lnTo>
                      <a:pt x="416" y="284"/>
                    </a:lnTo>
                    <a:lnTo>
                      <a:pt x="430" y="266"/>
                    </a:lnTo>
                    <a:lnTo>
                      <a:pt x="443" y="248"/>
                    </a:lnTo>
                    <a:lnTo>
                      <a:pt x="455" y="229"/>
                    </a:lnTo>
                    <a:lnTo>
                      <a:pt x="467" y="209"/>
                    </a:lnTo>
                    <a:lnTo>
                      <a:pt x="489" y="169"/>
                    </a:lnTo>
                    <a:lnTo>
                      <a:pt x="509" y="128"/>
                    </a:lnTo>
                    <a:lnTo>
                      <a:pt x="528" y="87"/>
                    </a:lnTo>
                    <a:lnTo>
                      <a:pt x="544" y="46"/>
                    </a:lnTo>
                    <a:lnTo>
                      <a:pt x="484" y="52"/>
                    </a:lnTo>
                    <a:lnTo>
                      <a:pt x="544" y="46"/>
                    </a:lnTo>
                    <a:lnTo>
                      <a:pt x="546" y="38"/>
                    </a:lnTo>
                    <a:lnTo>
                      <a:pt x="546" y="31"/>
                    </a:lnTo>
                    <a:lnTo>
                      <a:pt x="545" y="24"/>
                    </a:lnTo>
                    <a:lnTo>
                      <a:pt x="542" y="19"/>
                    </a:lnTo>
                    <a:lnTo>
                      <a:pt x="539" y="13"/>
                    </a:lnTo>
                    <a:lnTo>
                      <a:pt x="534" y="8"/>
                    </a:lnTo>
                    <a:lnTo>
                      <a:pt x="530" y="5"/>
                    </a:lnTo>
                    <a:lnTo>
                      <a:pt x="524" y="3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506" y="0"/>
                    </a:lnTo>
                    <a:lnTo>
                      <a:pt x="499" y="2"/>
                    </a:lnTo>
                    <a:lnTo>
                      <a:pt x="493" y="5"/>
                    </a:lnTo>
                    <a:lnTo>
                      <a:pt x="489" y="10"/>
                    </a:lnTo>
                    <a:lnTo>
                      <a:pt x="484" y="15"/>
                    </a:lnTo>
                    <a:lnTo>
                      <a:pt x="481" y="22"/>
                    </a:lnTo>
                    <a:lnTo>
                      <a:pt x="540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4970520" y="3814920"/>
                <a:ext cx="233280" cy="299880"/>
              </a:xfrm>
              <a:custGeom>
                <a:avLst/>
                <a:gdLst/>
                <a:ahLst/>
                <a:rect l="l" t="t" r="r" b="b"/>
                <a:pathLst>
                  <a:path w="739" h="944">
                    <a:moveTo>
                      <a:pt x="408" y="0"/>
                    </a:moveTo>
                    <a:lnTo>
                      <a:pt x="426" y="5"/>
                    </a:lnTo>
                    <a:lnTo>
                      <a:pt x="443" y="12"/>
                    </a:lnTo>
                    <a:lnTo>
                      <a:pt x="460" y="19"/>
                    </a:lnTo>
                    <a:lnTo>
                      <a:pt x="476" y="27"/>
                    </a:lnTo>
                    <a:lnTo>
                      <a:pt x="492" y="35"/>
                    </a:lnTo>
                    <a:lnTo>
                      <a:pt x="507" y="44"/>
                    </a:lnTo>
                    <a:lnTo>
                      <a:pt x="521" y="55"/>
                    </a:lnTo>
                    <a:lnTo>
                      <a:pt x="535" y="65"/>
                    </a:lnTo>
                    <a:lnTo>
                      <a:pt x="548" y="75"/>
                    </a:lnTo>
                    <a:lnTo>
                      <a:pt x="561" y="86"/>
                    </a:lnTo>
                    <a:lnTo>
                      <a:pt x="572" y="99"/>
                    </a:lnTo>
                    <a:lnTo>
                      <a:pt x="584" y="112"/>
                    </a:lnTo>
                    <a:lnTo>
                      <a:pt x="595" y="124"/>
                    </a:lnTo>
                    <a:lnTo>
                      <a:pt x="606" y="138"/>
                    </a:lnTo>
                    <a:lnTo>
                      <a:pt x="615" y="151"/>
                    </a:lnTo>
                    <a:lnTo>
                      <a:pt x="626" y="166"/>
                    </a:lnTo>
                    <a:lnTo>
                      <a:pt x="644" y="197"/>
                    </a:lnTo>
                    <a:lnTo>
                      <a:pt x="661" y="229"/>
                    </a:lnTo>
                    <a:lnTo>
                      <a:pt x="676" y="262"/>
                    </a:lnTo>
                    <a:lnTo>
                      <a:pt x="691" y="298"/>
                    </a:lnTo>
                    <a:lnTo>
                      <a:pt x="703" y="333"/>
                    </a:lnTo>
                    <a:lnTo>
                      <a:pt x="716" y="371"/>
                    </a:lnTo>
                    <a:lnTo>
                      <a:pt x="727" y="408"/>
                    </a:lnTo>
                    <a:lnTo>
                      <a:pt x="739" y="447"/>
                    </a:lnTo>
                    <a:lnTo>
                      <a:pt x="739" y="464"/>
                    </a:lnTo>
                    <a:lnTo>
                      <a:pt x="737" y="480"/>
                    </a:lnTo>
                    <a:lnTo>
                      <a:pt x="736" y="497"/>
                    </a:lnTo>
                    <a:lnTo>
                      <a:pt x="734" y="514"/>
                    </a:lnTo>
                    <a:lnTo>
                      <a:pt x="731" y="531"/>
                    </a:lnTo>
                    <a:lnTo>
                      <a:pt x="727" y="547"/>
                    </a:lnTo>
                    <a:lnTo>
                      <a:pt x="723" y="564"/>
                    </a:lnTo>
                    <a:lnTo>
                      <a:pt x="718" y="582"/>
                    </a:lnTo>
                    <a:lnTo>
                      <a:pt x="711" y="598"/>
                    </a:lnTo>
                    <a:lnTo>
                      <a:pt x="706" y="615"/>
                    </a:lnTo>
                    <a:lnTo>
                      <a:pt x="698" y="632"/>
                    </a:lnTo>
                    <a:lnTo>
                      <a:pt x="691" y="648"/>
                    </a:lnTo>
                    <a:lnTo>
                      <a:pt x="672" y="681"/>
                    </a:lnTo>
                    <a:lnTo>
                      <a:pt x="653" y="713"/>
                    </a:lnTo>
                    <a:lnTo>
                      <a:pt x="631" y="745"/>
                    </a:lnTo>
                    <a:lnTo>
                      <a:pt x="607" y="776"/>
                    </a:lnTo>
                    <a:lnTo>
                      <a:pt x="581" y="806"/>
                    </a:lnTo>
                    <a:lnTo>
                      <a:pt x="553" y="836"/>
                    </a:lnTo>
                    <a:lnTo>
                      <a:pt x="523" y="865"/>
                    </a:lnTo>
                    <a:lnTo>
                      <a:pt x="492" y="892"/>
                    </a:lnTo>
                    <a:lnTo>
                      <a:pt x="459" y="919"/>
                    </a:lnTo>
                    <a:lnTo>
                      <a:pt x="425" y="944"/>
                    </a:lnTo>
                    <a:lnTo>
                      <a:pt x="375" y="910"/>
                    </a:lnTo>
                    <a:lnTo>
                      <a:pt x="329" y="879"/>
                    </a:lnTo>
                    <a:lnTo>
                      <a:pt x="287" y="850"/>
                    </a:lnTo>
                    <a:lnTo>
                      <a:pt x="248" y="820"/>
                    </a:lnTo>
                    <a:lnTo>
                      <a:pt x="213" y="793"/>
                    </a:lnTo>
                    <a:lnTo>
                      <a:pt x="181" y="764"/>
                    </a:lnTo>
                    <a:lnTo>
                      <a:pt x="166" y="750"/>
                    </a:lnTo>
                    <a:lnTo>
                      <a:pt x="151" y="737"/>
                    </a:lnTo>
                    <a:lnTo>
                      <a:pt x="139" y="722"/>
                    </a:lnTo>
                    <a:lnTo>
                      <a:pt x="125" y="707"/>
                    </a:lnTo>
                    <a:lnTo>
                      <a:pt x="114" y="692"/>
                    </a:lnTo>
                    <a:lnTo>
                      <a:pt x="102" y="677"/>
                    </a:lnTo>
                    <a:lnTo>
                      <a:pt x="91" y="661"/>
                    </a:lnTo>
                    <a:lnTo>
                      <a:pt x="81" y="645"/>
                    </a:lnTo>
                    <a:lnTo>
                      <a:pt x="72" y="628"/>
                    </a:lnTo>
                    <a:lnTo>
                      <a:pt x="63" y="611"/>
                    </a:lnTo>
                    <a:lnTo>
                      <a:pt x="55" y="593"/>
                    </a:lnTo>
                    <a:lnTo>
                      <a:pt x="47" y="574"/>
                    </a:lnTo>
                    <a:lnTo>
                      <a:pt x="39" y="554"/>
                    </a:lnTo>
                    <a:lnTo>
                      <a:pt x="32" y="534"/>
                    </a:lnTo>
                    <a:lnTo>
                      <a:pt x="25" y="512"/>
                    </a:lnTo>
                    <a:lnTo>
                      <a:pt x="19" y="490"/>
                    </a:lnTo>
                    <a:lnTo>
                      <a:pt x="15" y="466"/>
                    </a:lnTo>
                    <a:lnTo>
                      <a:pt x="9" y="441"/>
                    </a:lnTo>
                    <a:lnTo>
                      <a:pt x="4" y="416"/>
                    </a:lnTo>
                    <a:lnTo>
                      <a:pt x="0" y="389"/>
                    </a:lnTo>
                    <a:lnTo>
                      <a:pt x="4" y="368"/>
                    </a:lnTo>
                    <a:lnTo>
                      <a:pt x="9" y="348"/>
                    </a:lnTo>
                    <a:lnTo>
                      <a:pt x="15" y="328"/>
                    </a:lnTo>
                    <a:lnTo>
                      <a:pt x="20" y="309"/>
                    </a:lnTo>
                    <a:lnTo>
                      <a:pt x="26" y="290"/>
                    </a:lnTo>
                    <a:lnTo>
                      <a:pt x="33" y="271"/>
                    </a:lnTo>
                    <a:lnTo>
                      <a:pt x="41" y="254"/>
                    </a:lnTo>
                    <a:lnTo>
                      <a:pt x="49" y="237"/>
                    </a:lnTo>
                    <a:lnTo>
                      <a:pt x="57" y="220"/>
                    </a:lnTo>
                    <a:lnTo>
                      <a:pt x="66" y="205"/>
                    </a:lnTo>
                    <a:lnTo>
                      <a:pt x="76" y="189"/>
                    </a:lnTo>
                    <a:lnTo>
                      <a:pt x="87" y="174"/>
                    </a:lnTo>
                    <a:lnTo>
                      <a:pt x="97" y="161"/>
                    </a:lnTo>
                    <a:lnTo>
                      <a:pt x="108" y="147"/>
                    </a:lnTo>
                    <a:lnTo>
                      <a:pt x="120" y="133"/>
                    </a:lnTo>
                    <a:lnTo>
                      <a:pt x="132" y="122"/>
                    </a:lnTo>
                    <a:lnTo>
                      <a:pt x="146" y="109"/>
                    </a:lnTo>
                    <a:lnTo>
                      <a:pt x="159" y="98"/>
                    </a:lnTo>
                    <a:lnTo>
                      <a:pt x="173" y="88"/>
                    </a:lnTo>
                    <a:lnTo>
                      <a:pt x="188" y="77"/>
                    </a:lnTo>
                    <a:lnTo>
                      <a:pt x="203" y="68"/>
                    </a:lnTo>
                    <a:lnTo>
                      <a:pt x="219" y="59"/>
                    </a:lnTo>
                    <a:lnTo>
                      <a:pt x="236" y="50"/>
                    </a:lnTo>
                    <a:lnTo>
                      <a:pt x="252" y="42"/>
                    </a:lnTo>
                    <a:lnTo>
                      <a:pt x="270" y="35"/>
                    </a:lnTo>
                    <a:lnTo>
                      <a:pt x="288" y="28"/>
                    </a:lnTo>
                    <a:lnTo>
                      <a:pt x="307" y="23"/>
                    </a:lnTo>
                    <a:lnTo>
                      <a:pt x="326" y="17"/>
                    </a:lnTo>
                    <a:lnTo>
                      <a:pt x="345" y="12"/>
                    </a:lnTo>
                    <a:lnTo>
                      <a:pt x="366" y="8"/>
                    </a:lnTo>
                    <a:lnTo>
                      <a:pt x="386" y="3"/>
                    </a:lnTo>
                    <a:lnTo>
                      <a:pt x="40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5095800" y="3805200"/>
                <a:ext cx="119160" cy="163440"/>
              </a:xfrm>
              <a:custGeom>
                <a:avLst/>
                <a:gdLst/>
                <a:ahLst/>
                <a:rect l="l" t="t" r="r" b="b"/>
                <a:pathLst>
                  <a:path w="374" h="513">
                    <a:moveTo>
                      <a:pt x="373" y="478"/>
                    </a:moveTo>
                    <a:lnTo>
                      <a:pt x="372" y="470"/>
                    </a:lnTo>
                    <a:lnTo>
                      <a:pt x="361" y="431"/>
                    </a:lnTo>
                    <a:lnTo>
                      <a:pt x="349" y="392"/>
                    </a:lnTo>
                    <a:lnTo>
                      <a:pt x="336" y="355"/>
                    </a:lnTo>
                    <a:lnTo>
                      <a:pt x="322" y="317"/>
                    </a:lnTo>
                    <a:lnTo>
                      <a:pt x="308" y="282"/>
                    </a:lnTo>
                    <a:lnTo>
                      <a:pt x="292" y="246"/>
                    </a:lnTo>
                    <a:lnTo>
                      <a:pt x="275" y="213"/>
                    </a:lnTo>
                    <a:lnTo>
                      <a:pt x="255" y="181"/>
                    </a:lnTo>
                    <a:lnTo>
                      <a:pt x="245" y="165"/>
                    </a:lnTo>
                    <a:lnTo>
                      <a:pt x="234" y="149"/>
                    </a:lnTo>
                    <a:lnTo>
                      <a:pt x="222" y="136"/>
                    </a:lnTo>
                    <a:lnTo>
                      <a:pt x="211" y="121"/>
                    </a:lnTo>
                    <a:lnTo>
                      <a:pt x="198" y="107"/>
                    </a:lnTo>
                    <a:lnTo>
                      <a:pt x="185" y="95"/>
                    </a:lnTo>
                    <a:lnTo>
                      <a:pt x="171" y="82"/>
                    </a:lnTo>
                    <a:lnTo>
                      <a:pt x="157" y="69"/>
                    </a:lnTo>
                    <a:lnTo>
                      <a:pt x="141" y="59"/>
                    </a:lnTo>
                    <a:lnTo>
                      <a:pt x="126" y="48"/>
                    </a:lnTo>
                    <a:lnTo>
                      <a:pt x="109" y="39"/>
                    </a:lnTo>
                    <a:lnTo>
                      <a:pt x="93" y="28"/>
                    </a:lnTo>
                    <a:lnTo>
                      <a:pt x="75" y="20"/>
                    </a:lnTo>
                    <a:lnTo>
                      <a:pt x="57" y="12"/>
                    </a:lnTo>
                    <a:lnTo>
                      <a:pt x="37" y="6"/>
                    </a:lnTo>
                    <a:lnTo>
                      <a:pt x="18" y="0"/>
                    </a:lnTo>
                    <a:lnTo>
                      <a:pt x="0" y="65"/>
                    </a:lnTo>
                    <a:lnTo>
                      <a:pt x="17" y="69"/>
                    </a:lnTo>
                    <a:lnTo>
                      <a:pt x="33" y="75"/>
                    </a:lnTo>
                    <a:lnTo>
                      <a:pt x="48" y="82"/>
                    </a:lnTo>
                    <a:lnTo>
                      <a:pt x="63" y="89"/>
                    </a:lnTo>
                    <a:lnTo>
                      <a:pt x="76" y="97"/>
                    </a:lnTo>
                    <a:lnTo>
                      <a:pt x="90" y="105"/>
                    </a:lnTo>
                    <a:lnTo>
                      <a:pt x="102" y="114"/>
                    </a:lnTo>
                    <a:lnTo>
                      <a:pt x="115" y="123"/>
                    </a:lnTo>
                    <a:lnTo>
                      <a:pt x="126" y="133"/>
                    </a:lnTo>
                    <a:lnTo>
                      <a:pt x="138" y="144"/>
                    </a:lnTo>
                    <a:lnTo>
                      <a:pt x="149" y="154"/>
                    </a:lnTo>
                    <a:lnTo>
                      <a:pt x="159" y="165"/>
                    </a:lnTo>
                    <a:lnTo>
                      <a:pt x="170" y="178"/>
                    </a:lnTo>
                    <a:lnTo>
                      <a:pt x="180" y="190"/>
                    </a:lnTo>
                    <a:lnTo>
                      <a:pt x="189" y="203"/>
                    </a:lnTo>
                    <a:lnTo>
                      <a:pt x="198" y="217"/>
                    </a:lnTo>
                    <a:lnTo>
                      <a:pt x="215" y="245"/>
                    </a:lnTo>
                    <a:lnTo>
                      <a:pt x="231" y="276"/>
                    </a:lnTo>
                    <a:lnTo>
                      <a:pt x="246" y="308"/>
                    </a:lnTo>
                    <a:lnTo>
                      <a:pt x="260" y="342"/>
                    </a:lnTo>
                    <a:lnTo>
                      <a:pt x="272" y="376"/>
                    </a:lnTo>
                    <a:lnTo>
                      <a:pt x="285" y="413"/>
                    </a:lnTo>
                    <a:lnTo>
                      <a:pt x="296" y="450"/>
                    </a:lnTo>
                    <a:lnTo>
                      <a:pt x="307" y="488"/>
                    </a:lnTo>
                    <a:lnTo>
                      <a:pt x="305" y="480"/>
                    </a:lnTo>
                    <a:lnTo>
                      <a:pt x="307" y="488"/>
                    </a:lnTo>
                    <a:lnTo>
                      <a:pt x="310" y="495"/>
                    </a:lnTo>
                    <a:lnTo>
                      <a:pt x="313" y="502"/>
                    </a:lnTo>
                    <a:lnTo>
                      <a:pt x="318" y="506"/>
                    </a:lnTo>
                    <a:lnTo>
                      <a:pt x="324" y="510"/>
                    </a:lnTo>
                    <a:lnTo>
                      <a:pt x="329" y="512"/>
                    </a:lnTo>
                    <a:lnTo>
                      <a:pt x="336" y="513"/>
                    </a:lnTo>
                    <a:lnTo>
                      <a:pt x="342" y="512"/>
                    </a:lnTo>
                    <a:lnTo>
                      <a:pt x="349" y="511"/>
                    </a:lnTo>
                    <a:lnTo>
                      <a:pt x="354" y="510"/>
                    </a:lnTo>
                    <a:lnTo>
                      <a:pt x="360" y="506"/>
                    </a:lnTo>
                    <a:lnTo>
                      <a:pt x="365" y="502"/>
                    </a:lnTo>
                    <a:lnTo>
                      <a:pt x="368" y="497"/>
                    </a:lnTo>
                    <a:lnTo>
                      <a:pt x="372" y="492"/>
                    </a:lnTo>
                    <a:lnTo>
                      <a:pt x="373" y="485"/>
                    </a:lnTo>
                    <a:lnTo>
                      <a:pt x="374" y="478"/>
                    </a:lnTo>
                    <a:lnTo>
                      <a:pt x="372" y="470"/>
                    </a:lnTo>
                    <a:lnTo>
                      <a:pt x="373" y="47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5094360" y="3957480"/>
                <a:ext cx="120600" cy="168480"/>
              </a:xfrm>
              <a:custGeom>
                <a:avLst/>
                <a:gdLst/>
                <a:ahLst/>
                <a:rect l="l" t="t" r="r" b="b"/>
                <a:pathLst>
                  <a:path w="382" h="533">
                    <a:moveTo>
                      <a:pt x="15" y="526"/>
                    </a:moveTo>
                    <a:lnTo>
                      <a:pt x="53" y="526"/>
                    </a:lnTo>
                    <a:lnTo>
                      <a:pt x="89" y="500"/>
                    </a:lnTo>
                    <a:lnTo>
                      <a:pt x="123" y="472"/>
                    </a:lnTo>
                    <a:lnTo>
                      <a:pt x="155" y="444"/>
                    </a:lnTo>
                    <a:lnTo>
                      <a:pt x="186" y="414"/>
                    </a:lnTo>
                    <a:lnTo>
                      <a:pt x="215" y="383"/>
                    </a:lnTo>
                    <a:lnTo>
                      <a:pt x="242" y="351"/>
                    </a:lnTo>
                    <a:lnTo>
                      <a:pt x="267" y="318"/>
                    </a:lnTo>
                    <a:lnTo>
                      <a:pt x="291" y="285"/>
                    </a:lnTo>
                    <a:lnTo>
                      <a:pt x="311" y="251"/>
                    </a:lnTo>
                    <a:lnTo>
                      <a:pt x="329" y="217"/>
                    </a:lnTo>
                    <a:lnTo>
                      <a:pt x="337" y="199"/>
                    </a:lnTo>
                    <a:lnTo>
                      <a:pt x="345" y="181"/>
                    </a:lnTo>
                    <a:lnTo>
                      <a:pt x="352" y="164"/>
                    </a:lnTo>
                    <a:lnTo>
                      <a:pt x="359" y="146"/>
                    </a:lnTo>
                    <a:lnTo>
                      <a:pt x="365" y="128"/>
                    </a:lnTo>
                    <a:lnTo>
                      <a:pt x="369" y="109"/>
                    </a:lnTo>
                    <a:lnTo>
                      <a:pt x="373" y="91"/>
                    </a:lnTo>
                    <a:lnTo>
                      <a:pt x="376" y="73"/>
                    </a:lnTo>
                    <a:lnTo>
                      <a:pt x="378" y="55"/>
                    </a:lnTo>
                    <a:lnTo>
                      <a:pt x="381" y="36"/>
                    </a:lnTo>
                    <a:lnTo>
                      <a:pt x="382" y="18"/>
                    </a:lnTo>
                    <a:lnTo>
                      <a:pt x="381" y="0"/>
                    </a:lnTo>
                    <a:lnTo>
                      <a:pt x="313" y="2"/>
                    </a:lnTo>
                    <a:lnTo>
                      <a:pt x="313" y="17"/>
                    </a:lnTo>
                    <a:lnTo>
                      <a:pt x="313" y="32"/>
                    </a:lnTo>
                    <a:lnTo>
                      <a:pt x="312" y="48"/>
                    </a:lnTo>
                    <a:lnTo>
                      <a:pt x="310" y="63"/>
                    </a:lnTo>
                    <a:lnTo>
                      <a:pt x="307" y="79"/>
                    </a:lnTo>
                    <a:lnTo>
                      <a:pt x="303" y="93"/>
                    </a:lnTo>
                    <a:lnTo>
                      <a:pt x="300" y="109"/>
                    </a:lnTo>
                    <a:lnTo>
                      <a:pt x="294" y="125"/>
                    </a:lnTo>
                    <a:lnTo>
                      <a:pt x="289" y="140"/>
                    </a:lnTo>
                    <a:lnTo>
                      <a:pt x="283" y="156"/>
                    </a:lnTo>
                    <a:lnTo>
                      <a:pt x="276" y="171"/>
                    </a:lnTo>
                    <a:lnTo>
                      <a:pt x="269" y="187"/>
                    </a:lnTo>
                    <a:lnTo>
                      <a:pt x="253" y="218"/>
                    </a:lnTo>
                    <a:lnTo>
                      <a:pt x="234" y="249"/>
                    </a:lnTo>
                    <a:lnTo>
                      <a:pt x="213" y="278"/>
                    </a:lnTo>
                    <a:lnTo>
                      <a:pt x="190" y="308"/>
                    </a:lnTo>
                    <a:lnTo>
                      <a:pt x="165" y="338"/>
                    </a:lnTo>
                    <a:lnTo>
                      <a:pt x="138" y="366"/>
                    </a:lnTo>
                    <a:lnTo>
                      <a:pt x="109" y="393"/>
                    </a:lnTo>
                    <a:lnTo>
                      <a:pt x="79" y="421"/>
                    </a:lnTo>
                    <a:lnTo>
                      <a:pt x="48" y="446"/>
                    </a:lnTo>
                    <a:lnTo>
                      <a:pt x="15" y="471"/>
                    </a:lnTo>
                    <a:lnTo>
                      <a:pt x="52" y="470"/>
                    </a:lnTo>
                    <a:lnTo>
                      <a:pt x="15" y="471"/>
                    </a:lnTo>
                    <a:lnTo>
                      <a:pt x="8" y="476"/>
                    </a:lnTo>
                    <a:lnTo>
                      <a:pt x="4" y="481"/>
                    </a:lnTo>
                    <a:lnTo>
                      <a:pt x="1" y="488"/>
                    </a:lnTo>
                    <a:lnTo>
                      <a:pt x="0" y="494"/>
                    </a:lnTo>
                    <a:lnTo>
                      <a:pt x="0" y="501"/>
                    </a:lnTo>
                    <a:lnTo>
                      <a:pt x="1" y="506"/>
                    </a:lnTo>
                    <a:lnTo>
                      <a:pt x="3" y="512"/>
                    </a:lnTo>
                    <a:lnTo>
                      <a:pt x="7" y="518"/>
                    </a:lnTo>
                    <a:lnTo>
                      <a:pt x="10" y="522"/>
                    </a:lnTo>
                    <a:lnTo>
                      <a:pt x="15" y="527"/>
                    </a:lnTo>
                    <a:lnTo>
                      <a:pt x="20" y="530"/>
                    </a:lnTo>
                    <a:lnTo>
                      <a:pt x="27" y="531"/>
                    </a:lnTo>
                    <a:lnTo>
                      <a:pt x="33" y="533"/>
                    </a:lnTo>
                    <a:lnTo>
                      <a:pt x="40" y="531"/>
                    </a:lnTo>
                    <a:lnTo>
                      <a:pt x="47" y="529"/>
                    </a:lnTo>
                    <a:lnTo>
                      <a:pt x="53" y="526"/>
                    </a:lnTo>
                    <a:lnTo>
                      <a:pt x="15" y="5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4959360" y="3929040"/>
                <a:ext cx="150840" cy="195120"/>
              </a:xfrm>
              <a:custGeom>
                <a:avLst/>
                <a:gdLst/>
                <a:ahLst/>
                <a:rect l="l" t="t" r="r" b="b"/>
                <a:pathLst>
                  <a:path w="476" h="616">
                    <a:moveTo>
                      <a:pt x="0" y="27"/>
                    </a:moveTo>
                    <a:lnTo>
                      <a:pt x="0" y="37"/>
                    </a:lnTo>
                    <a:lnTo>
                      <a:pt x="4" y="66"/>
                    </a:lnTo>
                    <a:lnTo>
                      <a:pt x="9" y="92"/>
                    </a:lnTo>
                    <a:lnTo>
                      <a:pt x="15" y="117"/>
                    </a:lnTo>
                    <a:lnTo>
                      <a:pt x="20" y="142"/>
                    </a:lnTo>
                    <a:lnTo>
                      <a:pt x="26" y="165"/>
                    </a:lnTo>
                    <a:lnTo>
                      <a:pt x="33" y="188"/>
                    </a:lnTo>
                    <a:lnTo>
                      <a:pt x="40" y="210"/>
                    </a:lnTo>
                    <a:lnTo>
                      <a:pt x="48" y="230"/>
                    </a:lnTo>
                    <a:lnTo>
                      <a:pt x="56" y="251"/>
                    </a:lnTo>
                    <a:lnTo>
                      <a:pt x="65" y="270"/>
                    </a:lnTo>
                    <a:lnTo>
                      <a:pt x="75" y="288"/>
                    </a:lnTo>
                    <a:lnTo>
                      <a:pt x="85" y="307"/>
                    </a:lnTo>
                    <a:lnTo>
                      <a:pt x="97" y="324"/>
                    </a:lnTo>
                    <a:lnTo>
                      <a:pt x="108" y="341"/>
                    </a:lnTo>
                    <a:lnTo>
                      <a:pt x="120" y="357"/>
                    </a:lnTo>
                    <a:lnTo>
                      <a:pt x="133" y="373"/>
                    </a:lnTo>
                    <a:lnTo>
                      <a:pt x="147" y="389"/>
                    </a:lnTo>
                    <a:lnTo>
                      <a:pt x="161" y="404"/>
                    </a:lnTo>
                    <a:lnTo>
                      <a:pt x="175" y="418"/>
                    </a:lnTo>
                    <a:lnTo>
                      <a:pt x="191" y="433"/>
                    </a:lnTo>
                    <a:lnTo>
                      <a:pt x="224" y="463"/>
                    </a:lnTo>
                    <a:lnTo>
                      <a:pt x="261" y="491"/>
                    </a:lnTo>
                    <a:lnTo>
                      <a:pt x="301" y="521"/>
                    </a:lnTo>
                    <a:lnTo>
                      <a:pt x="343" y="551"/>
                    </a:lnTo>
                    <a:lnTo>
                      <a:pt x="390" y="583"/>
                    </a:lnTo>
                    <a:lnTo>
                      <a:pt x="439" y="616"/>
                    </a:lnTo>
                    <a:lnTo>
                      <a:pt x="476" y="560"/>
                    </a:lnTo>
                    <a:lnTo>
                      <a:pt x="427" y="527"/>
                    </a:lnTo>
                    <a:lnTo>
                      <a:pt x="382" y="495"/>
                    </a:lnTo>
                    <a:lnTo>
                      <a:pt x="340" y="466"/>
                    </a:lnTo>
                    <a:lnTo>
                      <a:pt x="302" y="438"/>
                    </a:lnTo>
                    <a:lnTo>
                      <a:pt x="268" y="410"/>
                    </a:lnTo>
                    <a:lnTo>
                      <a:pt x="236" y="383"/>
                    </a:lnTo>
                    <a:lnTo>
                      <a:pt x="222" y="370"/>
                    </a:lnTo>
                    <a:lnTo>
                      <a:pt x="210" y="357"/>
                    </a:lnTo>
                    <a:lnTo>
                      <a:pt x="196" y="343"/>
                    </a:lnTo>
                    <a:lnTo>
                      <a:pt x="184" y="329"/>
                    </a:lnTo>
                    <a:lnTo>
                      <a:pt x="173" y="316"/>
                    </a:lnTo>
                    <a:lnTo>
                      <a:pt x="163" y="301"/>
                    </a:lnTo>
                    <a:lnTo>
                      <a:pt x="153" y="287"/>
                    </a:lnTo>
                    <a:lnTo>
                      <a:pt x="143" y="272"/>
                    </a:lnTo>
                    <a:lnTo>
                      <a:pt x="134" y="256"/>
                    </a:lnTo>
                    <a:lnTo>
                      <a:pt x="125" y="240"/>
                    </a:lnTo>
                    <a:lnTo>
                      <a:pt x="118" y="223"/>
                    </a:lnTo>
                    <a:lnTo>
                      <a:pt x="110" y="205"/>
                    </a:lnTo>
                    <a:lnTo>
                      <a:pt x="104" y="187"/>
                    </a:lnTo>
                    <a:lnTo>
                      <a:pt x="97" y="167"/>
                    </a:lnTo>
                    <a:lnTo>
                      <a:pt x="91" y="147"/>
                    </a:lnTo>
                    <a:lnTo>
                      <a:pt x="85" y="125"/>
                    </a:lnTo>
                    <a:lnTo>
                      <a:pt x="80" y="104"/>
                    </a:lnTo>
                    <a:lnTo>
                      <a:pt x="75" y="80"/>
                    </a:lnTo>
                    <a:lnTo>
                      <a:pt x="70" y="54"/>
                    </a:lnTo>
                    <a:lnTo>
                      <a:pt x="67" y="28"/>
                    </a:lnTo>
                    <a:lnTo>
                      <a:pt x="66" y="39"/>
                    </a:lnTo>
                    <a:lnTo>
                      <a:pt x="67" y="28"/>
                    </a:lnTo>
                    <a:lnTo>
                      <a:pt x="65" y="20"/>
                    </a:lnTo>
                    <a:lnTo>
                      <a:pt x="61" y="13"/>
                    </a:lnTo>
                    <a:lnTo>
                      <a:pt x="58" y="9"/>
                    </a:lnTo>
                    <a:lnTo>
                      <a:pt x="52" y="4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3" y="1"/>
                    </a:lnTo>
                    <a:lnTo>
                      <a:pt x="16" y="3"/>
                    </a:lnTo>
                    <a:lnTo>
                      <a:pt x="11" y="7"/>
                    </a:lnTo>
                    <a:lnTo>
                      <a:pt x="7" y="11"/>
                    </a:lnTo>
                    <a:lnTo>
                      <a:pt x="3" y="17"/>
                    </a:lnTo>
                    <a:lnTo>
                      <a:pt x="1" y="23"/>
                    </a:lnTo>
                    <a:lnTo>
                      <a:pt x="0" y="29"/>
                    </a:lnTo>
                    <a:lnTo>
                      <a:pt x="0" y="3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4959360" y="3805200"/>
                <a:ext cx="150840" cy="135000"/>
              </a:xfrm>
              <a:custGeom>
                <a:avLst/>
                <a:gdLst/>
                <a:ahLst/>
                <a:rect l="l" t="t" r="r" b="b"/>
                <a:pathLst>
                  <a:path w="474" h="428">
                    <a:moveTo>
                      <a:pt x="450" y="1"/>
                    </a:moveTo>
                    <a:lnTo>
                      <a:pt x="436" y="0"/>
                    </a:lnTo>
                    <a:lnTo>
                      <a:pt x="414" y="3"/>
                    </a:lnTo>
                    <a:lnTo>
                      <a:pt x="392" y="8"/>
                    </a:lnTo>
                    <a:lnTo>
                      <a:pt x="370" y="12"/>
                    </a:lnTo>
                    <a:lnTo>
                      <a:pt x="350" y="17"/>
                    </a:lnTo>
                    <a:lnTo>
                      <a:pt x="329" y="24"/>
                    </a:lnTo>
                    <a:lnTo>
                      <a:pt x="310" y="29"/>
                    </a:lnTo>
                    <a:lnTo>
                      <a:pt x="291" y="36"/>
                    </a:lnTo>
                    <a:lnTo>
                      <a:pt x="271" y="44"/>
                    </a:lnTo>
                    <a:lnTo>
                      <a:pt x="254" y="53"/>
                    </a:lnTo>
                    <a:lnTo>
                      <a:pt x="236" y="62"/>
                    </a:lnTo>
                    <a:lnTo>
                      <a:pt x="219" y="72"/>
                    </a:lnTo>
                    <a:lnTo>
                      <a:pt x="203" y="82"/>
                    </a:lnTo>
                    <a:lnTo>
                      <a:pt x="187" y="93"/>
                    </a:lnTo>
                    <a:lnTo>
                      <a:pt x="171" y="105"/>
                    </a:lnTo>
                    <a:lnTo>
                      <a:pt x="156" y="117"/>
                    </a:lnTo>
                    <a:lnTo>
                      <a:pt x="142" y="130"/>
                    </a:lnTo>
                    <a:lnTo>
                      <a:pt x="129" y="143"/>
                    </a:lnTo>
                    <a:lnTo>
                      <a:pt x="116" y="157"/>
                    </a:lnTo>
                    <a:lnTo>
                      <a:pt x="104" y="172"/>
                    </a:lnTo>
                    <a:lnTo>
                      <a:pt x="92" y="188"/>
                    </a:lnTo>
                    <a:lnTo>
                      <a:pt x="81" y="204"/>
                    </a:lnTo>
                    <a:lnTo>
                      <a:pt x="70" y="220"/>
                    </a:lnTo>
                    <a:lnTo>
                      <a:pt x="60" y="237"/>
                    </a:lnTo>
                    <a:lnTo>
                      <a:pt x="51" y="255"/>
                    </a:lnTo>
                    <a:lnTo>
                      <a:pt x="43" y="273"/>
                    </a:lnTo>
                    <a:lnTo>
                      <a:pt x="35" y="292"/>
                    </a:lnTo>
                    <a:lnTo>
                      <a:pt x="27" y="311"/>
                    </a:lnTo>
                    <a:lnTo>
                      <a:pt x="21" y="332"/>
                    </a:lnTo>
                    <a:lnTo>
                      <a:pt x="15" y="352"/>
                    </a:lnTo>
                    <a:lnTo>
                      <a:pt x="9" y="373"/>
                    </a:lnTo>
                    <a:lnTo>
                      <a:pt x="4" y="394"/>
                    </a:lnTo>
                    <a:lnTo>
                      <a:pt x="0" y="416"/>
                    </a:lnTo>
                    <a:lnTo>
                      <a:pt x="66" y="428"/>
                    </a:lnTo>
                    <a:lnTo>
                      <a:pt x="70" y="408"/>
                    </a:lnTo>
                    <a:lnTo>
                      <a:pt x="75" y="389"/>
                    </a:lnTo>
                    <a:lnTo>
                      <a:pt x="80" y="369"/>
                    </a:lnTo>
                    <a:lnTo>
                      <a:pt x="85" y="351"/>
                    </a:lnTo>
                    <a:lnTo>
                      <a:pt x="91" y="334"/>
                    </a:lnTo>
                    <a:lnTo>
                      <a:pt x="98" y="317"/>
                    </a:lnTo>
                    <a:lnTo>
                      <a:pt x="105" y="301"/>
                    </a:lnTo>
                    <a:lnTo>
                      <a:pt x="112" y="285"/>
                    </a:lnTo>
                    <a:lnTo>
                      <a:pt x="120" y="270"/>
                    </a:lnTo>
                    <a:lnTo>
                      <a:pt x="129" y="255"/>
                    </a:lnTo>
                    <a:lnTo>
                      <a:pt x="137" y="240"/>
                    </a:lnTo>
                    <a:lnTo>
                      <a:pt x="147" y="228"/>
                    </a:lnTo>
                    <a:lnTo>
                      <a:pt x="156" y="214"/>
                    </a:lnTo>
                    <a:lnTo>
                      <a:pt x="166" y="202"/>
                    </a:lnTo>
                    <a:lnTo>
                      <a:pt x="178" y="190"/>
                    </a:lnTo>
                    <a:lnTo>
                      <a:pt x="189" y="179"/>
                    </a:lnTo>
                    <a:lnTo>
                      <a:pt x="200" y="167"/>
                    </a:lnTo>
                    <a:lnTo>
                      <a:pt x="213" y="157"/>
                    </a:lnTo>
                    <a:lnTo>
                      <a:pt x="226" y="148"/>
                    </a:lnTo>
                    <a:lnTo>
                      <a:pt x="239" y="139"/>
                    </a:lnTo>
                    <a:lnTo>
                      <a:pt x="253" y="130"/>
                    </a:lnTo>
                    <a:lnTo>
                      <a:pt x="268" y="122"/>
                    </a:lnTo>
                    <a:lnTo>
                      <a:pt x="283" y="114"/>
                    </a:lnTo>
                    <a:lnTo>
                      <a:pt x="298" y="106"/>
                    </a:lnTo>
                    <a:lnTo>
                      <a:pt x="314" y="100"/>
                    </a:lnTo>
                    <a:lnTo>
                      <a:pt x="332" y="93"/>
                    </a:lnTo>
                    <a:lnTo>
                      <a:pt x="350" y="88"/>
                    </a:lnTo>
                    <a:lnTo>
                      <a:pt x="367" y="82"/>
                    </a:lnTo>
                    <a:lnTo>
                      <a:pt x="386" y="77"/>
                    </a:lnTo>
                    <a:lnTo>
                      <a:pt x="406" y="74"/>
                    </a:lnTo>
                    <a:lnTo>
                      <a:pt x="425" y="69"/>
                    </a:lnTo>
                    <a:lnTo>
                      <a:pt x="446" y="67"/>
                    </a:lnTo>
                    <a:lnTo>
                      <a:pt x="432" y="66"/>
                    </a:lnTo>
                    <a:lnTo>
                      <a:pt x="446" y="67"/>
                    </a:lnTo>
                    <a:lnTo>
                      <a:pt x="454" y="65"/>
                    </a:lnTo>
                    <a:lnTo>
                      <a:pt x="459" y="62"/>
                    </a:lnTo>
                    <a:lnTo>
                      <a:pt x="465" y="58"/>
                    </a:lnTo>
                    <a:lnTo>
                      <a:pt x="469" y="53"/>
                    </a:lnTo>
                    <a:lnTo>
                      <a:pt x="472" y="48"/>
                    </a:lnTo>
                    <a:lnTo>
                      <a:pt x="474" y="42"/>
                    </a:lnTo>
                    <a:lnTo>
                      <a:pt x="474" y="35"/>
                    </a:lnTo>
                    <a:lnTo>
                      <a:pt x="474" y="29"/>
                    </a:lnTo>
                    <a:lnTo>
                      <a:pt x="473" y="22"/>
                    </a:lnTo>
                    <a:lnTo>
                      <a:pt x="471" y="17"/>
                    </a:lnTo>
                    <a:lnTo>
                      <a:pt x="467" y="11"/>
                    </a:lnTo>
                    <a:lnTo>
                      <a:pt x="463" y="7"/>
                    </a:lnTo>
                    <a:lnTo>
                      <a:pt x="458" y="3"/>
                    </a:lnTo>
                    <a:lnTo>
                      <a:pt x="451" y="1"/>
                    </a:lnTo>
                    <a:lnTo>
                      <a:pt x="444" y="0"/>
                    </a:lnTo>
                    <a:lnTo>
                      <a:pt x="436" y="0"/>
                    </a:lnTo>
                    <a:lnTo>
                      <a:pt x="450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5145120" y="392436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0" y="56"/>
                    </a:moveTo>
                    <a:lnTo>
                      <a:pt x="7" y="59"/>
                    </a:lnTo>
                    <a:lnTo>
                      <a:pt x="13" y="62"/>
                    </a:lnTo>
                    <a:lnTo>
                      <a:pt x="20" y="62"/>
                    </a:lnTo>
                    <a:lnTo>
                      <a:pt x="27" y="60"/>
                    </a:lnTo>
                    <a:lnTo>
                      <a:pt x="33" y="59"/>
                    </a:lnTo>
                    <a:lnTo>
                      <a:pt x="39" y="56"/>
                    </a:lnTo>
                    <a:lnTo>
                      <a:pt x="43" y="51"/>
                    </a:lnTo>
                    <a:lnTo>
                      <a:pt x="47" y="47"/>
                    </a:lnTo>
                    <a:lnTo>
                      <a:pt x="50" y="41"/>
                    </a:lnTo>
                    <a:lnTo>
                      <a:pt x="52" y="35"/>
                    </a:lnTo>
                    <a:lnTo>
                      <a:pt x="53" y="29"/>
                    </a:lnTo>
                    <a:lnTo>
                      <a:pt x="53" y="23"/>
                    </a:lnTo>
                    <a:lnTo>
                      <a:pt x="51" y="16"/>
                    </a:lnTo>
                    <a:lnTo>
                      <a:pt x="49" y="10"/>
                    </a:lnTo>
                    <a:lnTo>
                      <a:pt x="44" y="5"/>
                    </a:lnTo>
                    <a:lnTo>
                      <a:pt x="39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5024520" y="3882960"/>
                <a:ext cx="133200" cy="58680"/>
              </a:xfrm>
              <a:custGeom>
                <a:avLst/>
                <a:gdLst/>
                <a:ahLst/>
                <a:rect l="l" t="t" r="r" b="b"/>
                <a:pathLst>
                  <a:path w="418" h="183">
                    <a:moveTo>
                      <a:pt x="24" y="78"/>
                    </a:moveTo>
                    <a:lnTo>
                      <a:pt x="34" y="73"/>
                    </a:lnTo>
                    <a:lnTo>
                      <a:pt x="47" y="71"/>
                    </a:lnTo>
                    <a:lnTo>
                      <a:pt x="60" y="70"/>
                    </a:lnTo>
                    <a:lnTo>
                      <a:pt x="72" y="69"/>
                    </a:lnTo>
                    <a:lnTo>
                      <a:pt x="86" y="69"/>
                    </a:lnTo>
                    <a:lnTo>
                      <a:pt x="99" y="69"/>
                    </a:lnTo>
                    <a:lnTo>
                      <a:pt x="114" y="71"/>
                    </a:lnTo>
                    <a:lnTo>
                      <a:pt x="128" y="72"/>
                    </a:lnTo>
                    <a:lnTo>
                      <a:pt x="159" y="79"/>
                    </a:lnTo>
                    <a:lnTo>
                      <a:pt x="188" y="88"/>
                    </a:lnTo>
                    <a:lnTo>
                      <a:pt x="218" y="98"/>
                    </a:lnTo>
                    <a:lnTo>
                      <a:pt x="247" y="110"/>
                    </a:lnTo>
                    <a:lnTo>
                      <a:pt x="274" y="122"/>
                    </a:lnTo>
                    <a:lnTo>
                      <a:pt x="299" y="136"/>
                    </a:lnTo>
                    <a:lnTo>
                      <a:pt x="322" y="148"/>
                    </a:lnTo>
                    <a:lnTo>
                      <a:pt x="341" y="159"/>
                    </a:lnTo>
                    <a:lnTo>
                      <a:pt x="370" y="176"/>
                    </a:lnTo>
                    <a:lnTo>
                      <a:pt x="379" y="183"/>
                    </a:lnTo>
                    <a:lnTo>
                      <a:pt x="418" y="127"/>
                    </a:lnTo>
                    <a:lnTo>
                      <a:pt x="405" y="119"/>
                    </a:lnTo>
                    <a:lnTo>
                      <a:pt x="375" y="101"/>
                    </a:lnTo>
                    <a:lnTo>
                      <a:pt x="355" y="88"/>
                    </a:lnTo>
                    <a:lnTo>
                      <a:pt x="330" y="76"/>
                    </a:lnTo>
                    <a:lnTo>
                      <a:pt x="304" y="62"/>
                    </a:lnTo>
                    <a:lnTo>
                      <a:pt x="274" y="48"/>
                    </a:lnTo>
                    <a:lnTo>
                      <a:pt x="242" y="36"/>
                    </a:lnTo>
                    <a:lnTo>
                      <a:pt x="209" y="24"/>
                    </a:lnTo>
                    <a:lnTo>
                      <a:pt x="175" y="14"/>
                    </a:lnTo>
                    <a:lnTo>
                      <a:pt x="141" y="6"/>
                    </a:lnTo>
                    <a:lnTo>
                      <a:pt x="122" y="4"/>
                    </a:lnTo>
                    <a:lnTo>
                      <a:pt x="105" y="2"/>
                    </a:lnTo>
                    <a:lnTo>
                      <a:pt x="87" y="0"/>
                    </a:lnTo>
                    <a:lnTo>
                      <a:pt x="70" y="2"/>
                    </a:lnTo>
                    <a:lnTo>
                      <a:pt x="52" y="3"/>
                    </a:lnTo>
                    <a:lnTo>
                      <a:pt x="34" y="5"/>
                    </a:lnTo>
                    <a:lnTo>
                      <a:pt x="17" y="10"/>
                    </a:lnTo>
                    <a:lnTo>
                      <a:pt x="0" y="14"/>
                    </a:lnTo>
                    <a:lnTo>
                      <a:pt x="24" y="7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5018040" y="388764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3" y="0"/>
                    </a:moveTo>
                    <a:lnTo>
                      <a:pt x="16" y="3"/>
                    </a:lnTo>
                    <a:lnTo>
                      <a:pt x="11" y="8"/>
                    </a:lnTo>
                    <a:lnTo>
                      <a:pt x="6" y="14"/>
                    </a:lnTo>
                    <a:lnTo>
                      <a:pt x="3" y="19"/>
                    </a:lnTo>
                    <a:lnTo>
                      <a:pt x="2" y="25"/>
                    </a:lnTo>
                    <a:lnTo>
                      <a:pt x="0" y="32"/>
                    </a:lnTo>
                    <a:lnTo>
                      <a:pt x="2" y="38"/>
                    </a:lnTo>
                    <a:lnTo>
                      <a:pt x="4" y="43"/>
                    </a:lnTo>
                    <a:lnTo>
                      <a:pt x="6" y="49"/>
                    </a:lnTo>
                    <a:lnTo>
                      <a:pt x="10" y="55"/>
                    </a:lnTo>
                    <a:lnTo>
                      <a:pt x="14" y="59"/>
                    </a:lnTo>
                    <a:lnTo>
                      <a:pt x="20" y="63"/>
                    </a:lnTo>
                    <a:lnTo>
                      <a:pt x="26" y="65"/>
                    </a:lnTo>
                    <a:lnTo>
                      <a:pt x="32" y="66"/>
                    </a:lnTo>
                    <a:lnTo>
                      <a:pt x="39" y="65"/>
                    </a:lnTo>
                    <a:lnTo>
                      <a:pt x="47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5095800" y="38512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1" y="48"/>
                    </a:moveTo>
                    <a:lnTo>
                      <a:pt x="63" y="40"/>
                    </a:lnTo>
                    <a:lnTo>
                      <a:pt x="65" y="33"/>
                    </a:lnTo>
                    <a:lnTo>
                      <a:pt x="63" y="26"/>
                    </a:lnTo>
                    <a:lnTo>
                      <a:pt x="62" y="20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6"/>
                    </a:lnTo>
                    <a:lnTo>
                      <a:pt x="44" y="3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3" y="3"/>
                    </a:lnTo>
                    <a:lnTo>
                      <a:pt x="9" y="8"/>
                    </a:lnTo>
                    <a:lnTo>
                      <a:pt x="3" y="12"/>
                    </a:lnTo>
                    <a:lnTo>
                      <a:pt x="0" y="19"/>
                    </a:lnTo>
                    <a:lnTo>
                      <a:pt x="61" y="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5059440" y="3857760"/>
                <a:ext cx="55440" cy="145800"/>
              </a:xfrm>
              <a:custGeom>
                <a:avLst/>
                <a:gdLst/>
                <a:ahLst/>
                <a:rect l="l" t="t" r="r" b="b"/>
                <a:pathLst>
                  <a:path w="175" h="461">
                    <a:moveTo>
                      <a:pt x="67" y="461"/>
                    </a:moveTo>
                    <a:lnTo>
                      <a:pt x="67" y="443"/>
                    </a:lnTo>
                    <a:lnTo>
                      <a:pt x="68" y="425"/>
                    </a:lnTo>
                    <a:lnTo>
                      <a:pt x="69" y="405"/>
                    </a:lnTo>
                    <a:lnTo>
                      <a:pt x="71" y="387"/>
                    </a:lnTo>
                    <a:lnTo>
                      <a:pt x="77" y="349"/>
                    </a:lnTo>
                    <a:lnTo>
                      <a:pt x="84" y="312"/>
                    </a:lnTo>
                    <a:lnTo>
                      <a:pt x="92" y="274"/>
                    </a:lnTo>
                    <a:lnTo>
                      <a:pt x="101" y="239"/>
                    </a:lnTo>
                    <a:lnTo>
                      <a:pt x="110" y="203"/>
                    </a:lnTo>
                    <a:lnTo>
                      <a:pt x="120" y="171"/>
                    </a:lnTo>
                    <a:lnTo>
                      <a:pt x="141" y="113"/>
                    </a:lnTo>
                    <a:lnTo>
                      <a:pt x="158" y="68"/>
                    </a:lnTo>
                    <a:lnTo>
                      <a:pt x="171" y="39"/>
                    </a:lnTo>
                    <a:lnTo>
                      <a:pt x="175" y="29"/>
                    </a:lnTo>
                    <a:lnTo>
                      <a:pt x="114" y="0"/>
                    </a:lnTo>
                    <a:lnTo>
                      <a:pt x="108" y="12"/>
                    </a:lnTo>
                    <a:lnTo>
                      <a:pt x="95" y="44"/>
                    </a:lnTo>
                    <a:lnTo>
                      <a:pt x="77" y="90"/>
                    </a:lnTo>
                    <a:lnTo>
                      <a:pt x="57" y="151"/>
                    </a:lnTo>
                    <a:lnTo>
                      <a:pt x="46" y="185"/>
                    </a:lnTo>
                    <a:lnTo>
                      <a:pt x="36" y="222"/>
                    </a:lnTo>
                    <a:lnTo>
                      <a:pt x="26" y="259"/>
                    </a:lnTo>
                    <a:lnTo>
                      <a:pt x="18" y="298"/>
                    </a:lnTo>
                    <a:lnTo>
                      <a:pt x="10" y="338"/>
                    </a:lnTo>
                    <a:lnTo>
                      <a:pt x="4" y="379"/>
                    </a:lnTo>
                    <a:lnTo>
                      <a:pt x="2" y="400"/>
                    </a:lnTo>
                    <a:lnTo>
                      <a:pt x="1" y="420"/>
                    </a:lnTo>
                    <a:lnTo>
                      <a:pt x="0" y="441"/>
                    </a:lnTo>
                    <a:lnTo>
                      <a:pt x="0" y="461"/>
                    </a:lnTo>
                    <a:lnTo>
                      <a:pt x="67" y="4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5059440" y="400356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0" y="0"/>
                    </a:moveTo>
                    <a:lnTo>
                      <a:pt x="1" y="8"/>
                    </a:lnTo>
                    <a:lnTo>
                      <a:pt x="2" y="15"/>
                    </a:lnTo>
                    <a:lnTo>
                      <a:pt x="5" y="21"/>
                    </a:lnTo>
                    <a:lnTo>
                      <a:pt x="10" y="25"/>
                    </a:lnTo>
                    <a:lnTo>
                      <a:pt x="16" y="30"/>
                    </a:lnTo>
                    <a:lnTo>
                      <a:pt x="21" y="32"/>
                    </a:lnTo>
                    <a:lnTo>
                      <a:pt x="27" y="33"/>
                    </a:lnTo>
                    <a:lnTo>
                      <a:pt x="34" y="34"/>
                    </a:lnTo>
                    <a:lnTo>
                      <a:pt x="39" y="33"/>
                    </a:lnTo>
                    <a:lnTo>
                      <a:pt x="45" y="32"/>
                    </a:lnTo>
                    <a:lnTo>
                      <a:pt x="51" y="30"/>
                    </a:lnTo>
                    <a:lnTo>
                      <a:pt x="57" y="25"/>
                    </a:lnTo>
                    <a:lnTo>
                      <a:pt x="61" y="21"/>
                    </a:lnTo>
                    <a:lnTo>
                      <a:pt x="65" y="15"/>
                    </a:lnTo>
                    <a:lnTo>
                      <a:pt x="66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5057640" y="401940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65" y="0"/>
                    </a:moveTo>
                    <a:lnTo>
                      <a:pt x="58" y="1"/>
                    </a:lnTo>
                    <a:lnTo>
                      <a:pt x="51" y="3"/>
                    </a:lnTo>
                    <a:lnTo>
                      <a:pt x="46" y="4"/>
                    </a:lnTo>
                    <a:lnTo>
                      <a:pt x="39" y="6"/>
                    </a:lnTo>
                    <a:lnTo>
                      <a:pt x="33" y="9"/>
                    </a:lnTo>
                    <a:lnTo>
                      <a:pt x="29" y="13"/>
                    </a:lnTo>
                    <a:lnTo>
                      <a:pt x="23" y="16"/>
                    </a:lnTo>
                    <a:lnTo>
                      <a:pt x="18" y="21"/>
                    </a:lnTo>
                    <a:lnTo>
                      <a:pt x="15" y="25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5" y="43"/>
                    </a:lnTo>
                    <a:lnTo>
                      <a:pt x="2" y="49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0" y="75"/>
                    </a:lnTo>
                    <a:lnTo>
                      <a:pt x="1" y="81"/>
                    </a:lnTo>
                    <a:lnTo>
                      <a:pt x="2" y="87"/>
                    </a:lnTo>
                    <a:lnTo>
                      <a:pt x="5" y="93"/>
                    </a:lnTo>
                    <a:lnTo>
                      <a:pt x="7" y="98"/>
                    </a:lnTo>
                    <a:lnTo>
                      <a:pt x="10" y="104"/>
                    </a:lnTo>
                    <a:lnTo>
                      <a:pt x="15" y="109"/>
                    </a:lnTo>
                    <a:lnTo>
                      <a:pt x="18" y="113"/>
                    </a:lnTo>
                    <a:lnTo>
                      <a:pt x="23" y="118"/>
                    </a:lnTo>
                    <a:lnTo>
                      <a:pt x="29" y="122"/>
                    </a:lnTo>
                    <a:lnTo>
                      <a:pt x="33" y="126"/>
                    </a:lnTo>
                    <a:lnTo>
                      <a:pt x="39" y="128"/>
                    </a:lnTo>
                    <a:lnTo>
                      <a:pt x="46" y="130"/>
                    </a:lnTo>
                    <a:lnTo>
                      <a:pt x="51" y="133"/>
                    </a:lnTo>
                    <a:lnTo>
                      <a:pt x="58" y="134"/>
                    </a:lnTo>
                    <a:lnTo>
                      <a:pt x="65" y="134"/>
                    </a:lnTo>
                    <a:lnTo>
                      <a:pt x="71" y="134"/>
                    </a:lnTo>
                    <a:lnTo>
                      <a:pt x="78" y="133"/>
                    </a:lnTo>
                    <a:lnTo>
                      <a:pt x="83" y="130"/>
                    </a:lnTo>
                    <a:lnTo>
                      <a:pt x="89" y="128"/>
                    </a:lnTo>
                    <a:lnTo>
                      <a:pt x="95" y="126"/>
                    </a:lnTo>
                    <a:lnTo>
                      <a:pt x="100" y="122"/>
                    </a:lnTo>
                    <a:lnTo>
                      <a:pt x="105" y="118"/>
                    </a:lnTo>
                    <a:lnTo>
                      <a:pt x="109" y="113"/>
                    </a:lnTo>
                    <a:lnTo>
                      <a:pt x="114" y="109"/>
                    </a:lnTo>
                    <a:lnTo>
                      <a:pt x="119" y="104"/>
                    </a:lnTo>
                    <a:lnTo>
                      <a:pt x="122" y="98"/>
                    </a:lnTo>
                    <a:lnTo>
                      <a:pt x="124" y="93"/>
                    </a:lnTo>
                    <a:lnTo>
                      <a:pt x="127" y="87"/>
                    </a:lnTo>
                    <a:lnTo>
                      <a:pt x="129" y="81"/>
                    </a:lnTo>
                    <a:lnTo>
                      <a:pt x="130" y="75"/>
                    </a:lnTo>
                    <a:lnTo>
                      <a:pt x="130" y="69"/>
                    </a:lnTo>
                    <a:lnTo>
                      <a:pt x="130" y="62"/>
                    </a:lnTo>
                    <a:lnTo>
                      <a:pt x="129" y="55"/>
                    </a:lnTo>
                    <a:lnTo>
                      <a:pt x="127" y="49"/>
                    </a:lnTo>
                    <a:lnTo>
                      <a:pt x="124" y="43"/>
                    </a:lnTo>
                    <a:lnTo>
                      <a:pt x="122" y="37"/>
                    </a:lnTo>
                    <a:lnTo>
                      <a:pt x="119" y="31"/>
                    </a:lnTo>
                    <a:lnTo>
                      <a:pt x="114" y="25"/>
                    </a:lnTo>
                    <a:lnTo>
                      <a:pt x="109" y="21"/>
                    </a:lnTo>
                    <a:lnTo>
                      <a:pt x="105" y="16"/>
                    </a:lnTo>
                    <a:lnTo>
                      <a:pt x="100" y="13"/>
                    </a:lnTo>
                    <a:lnTo>
                      <a:pt x="95" y="9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8" y="3"/>
                    </a:lnTo>
                    <a:lnTo>
                      <a:pt x="71" y="1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5046840" y="4010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2">
                    <a:moveTo>
                      <a:pt x="67" y="102"/>
                    </a:moveTo>
                    <a:lnTo>
                      <a:pt x="67" y="102"/>
                    </a:lnTo>
                    <a:lnTo>
                      <a:pt x="67" y="98"/>
                    </a:lnTo>
                    <a:lnTo>
                      <a:pt x="68" y="95"/>
                    </a:lnTo>
                    <a:lnTo>
                      <a:pt x="69" y="92"/>
                    </a:lnTo>
                    <a:lnTo>
                      <a:pt x="69" y="88"/>
                    </a:lnTo>
                    <a:lnTo>
                      <a:pt x="72" y="86"/>
                    </a:lnTo>
                    <a:lnTo>
                      <a:pt x="73" y="82"/>
                    </a:lnTo>
                    <a:lnTo>
                      <a:pt x="75" y="80"/>
                    </a:lnTo>
                    <a:lnTo>
                      <a:pt x="77" y="78"/>
                    </a:lnTo>
                    <a:lnTo>
                      <a:pt x="80" y="76"/>
                    </a:lnTo>
                    <a:lnTo>
                      <a:pt x="82" y="73"/>
                    </a:lnTo>
                    <a:lnTo>
                      <a:pt x="84" y="71"/>
                    </a:lnTo>
                    <a:lnTo>
                      <a:pt x="86" y="70"/>
                    </a:lnTo>
                    <a:lnTo>
                      <a:pt x="90" y="69"/>
                    </a:lnTo>
                    <a:lnTo>
                      <a:pt x="93" y="69"/>
                    </a:lnTo>
                    <a:lnTo>
                      <a:pt x="96" y="68"/>
                    </a:lnTo>
                    <a:lnTo>
                      <a:pt x="99" y="68"/>
                    </a:lnTo>
                    <a:lnTo>
                      <a:pt x="99" y="0"/>
                    </a:lnTo>
                    <a:lnTo>
                      <a:pt x="89" y="0"/>
                    </a:lnTo>
                    <a:lnTo>
                      <a:pt x="78" y="3"/>
                    </a:lnTo>
                    <a:lnTo>
                      <a:pt x="68" y="5"/>
                    </a:lnTo>
                    <a:lnTo>
                      <a:pt x="59" y="8"/>
                    </a:lnTo>
                    <a:lnTo>
                      <a:pt x="51" y="13"/>
                    </a:lnTo>
                    <a:lnTo>
                      <a:pt x="43" y="19"/>
                    </a:lnTo>
                    <a:lnTo>
                      <a:pt x="35" y="24"/>
                    </a:lnTo>
                    <a:lnTo>
                      <a:pt x="28" y="31"/>
                    </a:lnTo>
                    <a:lnTo>
                      <a:pt x="21" y="38"/>
                    </a:lnTo>
                    <a:lnTo>
                      <a:pt x="16" y="46"/>
                    </a:lnTo>
                    <a:lnTo>
                      <a:pt x="11" y="54"/>
                    </a:lnTo>
                    <a:lnTo>
                      <a:pt x="8" y="63"/>
                    </a:lnTo>
                    <a:lnTo>
                      <a:pt x="4" y="72"/>
                    </a:lnTo>
                    <a:lnTo>
                      <a:pt x="2" y="81"/>
                    </a:lnTo>
                    <a:lnTo>
                      <a:pt x="1" y="92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67" y="10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5046840" y="40417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99" y="31"/>
                    </a:moveTo>
                    <a:lnTo>
                      <a:pt x="99" y="31"/>
                    </a:lnTo>
                    <a:lnTo>
                      <a:pt x="96" y="31"/>
                    </a:lnTo>
                    <a:lnTo>
                      <a:pt x="92" y="31"/>
                    </a:lnTo>
                    <a:lnTo>
                      <a:pt x="90" y="29"/>
                    </a:lnTo>
                    <a:lnTo>
                      <a:pt x="86" y="28"/>
                    </a:lnTo>
                    <a:lnTo>
                      <a:pt x="84" y="27"/>
                    </a:lnTo>
                    <a:lnTo>
                      <a:pt x="82" y="25"/>
                    </a:lnTo>
                    <a:lnTo>
                      <a:pt x="80" y="24"/>
                    </a:lnTo>
                    <a:lnTo>
                      <a:pt x="76" y="21"/>
                    </a:lnTo>
                    <a:lnTo>
                      <a:pt x="75" y="19"/>
                    </a:lnTo>
                    <a:lnTo>
                      <a:pt x="73" y="16"/>
                    </a:lnTo>
                    <a:lnTo>
                      <a:pt x="72" y="13"/>
                    </a:lnTo>
                    <a:lnTo>
                      <a:pt x="69" y="11"/>
                    </a:lnTo>
                    <a:lnTo>
                      <a:pt x="68" y="8"/>
                    </a:lnTo>
                    <a:lnTo>
                      <a:pt x="68" y="6"/>
                    </a:lnTo>
                    <a:lnTo>
                      <a:pt x="67" y="2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1" y="9"/>
                    </a:lnTo>
                    <a:lnTo>
                      <a:pt x="2" y="19"/>
                    </a:lnTo>
                    <a:lnTo>
                      <a:pt x="4" y="28"/>
                    </a:lnTo>
                    <a:lnTo>
                      <a:pt x="8" y="37"/>
                    </a:lnTo>
                    <a:lnTo>
                      <a:pt x="11" y="45"/>
                    </a:lnTo>
                    <a:lnTo>
                      <a:pt x="17" y="53"/>
                    </a:lnTo>
                    <a:lnTo>
                      <a:pt x="23" y="61"/>
                    </a:lnTo>
                    <a:lnTo>
                      <a:pt x="28" y="68"/>
                    </a:lnTo>
                    <a:lnTo>
                      <a:pt x="35" y="75"/>
                    </a:lnTo>
                    <a:lnTo>
                      <a:pt x="43" y="81"/>
                    </a:lnTo>
                    <a:lnTo>
                      <a:pt x="51" y="85"/>
                    </a:lnTo>
                    <a:lnTo>
                      <a:pt x="60" y="90"/>
                    </a:lnTo>
                    <a:lnTo>
                      <a:pt x="68" y="93"/>
                    </a:lnTo>
                    <a:lnTo>
                      <a:pt x="78" y="97"/>
                    </a:lnTo>
                    <a:lnTo>
                      <a:pt x="89" y="98"/>
                    </a:lnTo>
                    <a:lnTo>
                      <a:pt x="99" y="98"/>
                    </a:lnTo>
                    <a:lnTo>
                      <a:pt x="99" y="98"/>
                    </a:lnTo>
                    <a:lnTo>
                      <a:pt x="99" y="3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5078520" y="40417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31" y="0"/>
                    </a:moveTo>
                    <a:lnTo>
                      <a:pt x="31" y="0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0" y="8"/>
                    </a:lnTo>
                    <a:lnTo>
                      <a:pt x="29" y="10"/>
                    </a:lnTo>
                    <a:lnTo>
                      <a:pt x="27" y="13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18" y="24"/>
                    </a:lnTo>
                    <a:lnTo>
                      <a:pt x="16" y="25"/>
                    </a:lnTo>
                    <a:lnTo>
                      <a:pt x="14" y="27"/>
                    </a:lnTo>
                    <a:lnTo>
                      <a:pt x="10" y="28"/>
                    </a:lnTo>
                    <a:lnTo>
                      <a:pt x="8" y="29"/>
                    </a:lnTo>
                    <a:lnTo>
                      <a:pt x="5" y="31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98"/>
                    </a:lnTo>
                    <a:lnTo>
                      <a:pt x="10" y="98"/>
                    </a:lnTo>
                    <a:lnTo>
                      <a:pt x="19" y="96"/>
                    </a:lnTo>
                    <a:lnTo>
                      <a:pt x="30" y="93"/>
                    </a:lnTo>
                    <a:lnTo>
                      <a:pt x="38" y="90"/>
                    </a:lnTo>
                    <a:lnTo>
                      <a:pt x="47" y="85"/>
                    </a:lnTo>
                    <a:lnTo>
                      <a:pt x="55" y="81"/>
                    </a:lnTo>
                    <a:lnTo>
                      <a:pt x="62" y="75"/>
                    </a:lnTo>
                    <a:lnTo>
                      <a:pt x="68" y="68"/>
                    </a:lnTo>
                    <a:lnTo>
                      <a:pt x="75" y="61"/>
                    </a:lnTo>
                    <a:lnTo>
                      <a:pt x="81" y="55"/>
                    </a:lnTo>
                    <a:lnTo>
                      <a:pt x="86" y="47"/>
                    </a:lnTo>
                    <a:lnTo>
                      <a:pt x="90" y="37"/>
                    </a:lnTo>
                    <a:lnTo>
                      <a:pt x="93" y="28"/>
                    </a:lnTo>
                    <a:lnTo>
                      <a:pt x="96" y="19"/>
                    </a:lnTo>
                    <a:lnTo>
                      <a:pt x="98" y="1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5078520" y="4010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2">
                    <a:moveTo>
                      <a:pt x="0" y="68"/>
                    </a:moveTo>
                    <a:lnTo>
                      <a:pt x="0" y="68"/>
                    </a:lnTo>
                    <a:lnTo>
                      <a:pt x="2" y="68"/>
                    </a:lnTo>
                    <a:lnTo>
                      <a:pt x="5" y="69"/>
                    </a:lnTo>
                    <a:lnTo>
                      <a:pt x="7" y="69"/>
                    </a:lnTo>
                    <a:lnTo>
                      <a:pt x="10" y="70"/>
                    </a:lnTo>
                    <a:lnTo>
                      <a:pt x="13" y="71"/>
                    </a:lnTo>
                    <a:lnTo>
                      <a:pt x="16" y="73"/>
                    </a:lnTo>
                    <a:lnTo>
                      <a:pt x="18" y="76"/>
                    </a:lnTo>
                    <a:lnTo>
                      <a:pt x="21" y="78"/>
                    </a:lnTo>
                    <a:lnTo>
                      <a:pt x="23" y="80"/>
                    </a:lnTo>
                    <a:lnTo>
                      <a:pt x="25" y="82"/>
                    </a:lnTo>
                    <a:lnTo>
                      <a:pt x="27" y="86"/>
                    </a:lnTo>
                    <a:lnTo>
                      <a:pt x="29" y="89"/>
                    </a:lnTo>
                    <a:lnTo>
                      <a:pt x="30" y="92"/>
                    </a:lnTo>
                    <a:lnTo>
                      <a:pt x="31" y="95"/>
                    </a:lnTo>
                    <a:lnTo>
                      <a:pt x="31" y="98"/>
                    </a:lnTo>
                    <a:lnTo>
                      <a:pt x="31" y="102"/>
                    </a:lnTo>
                    <a:lnTo>
                      <a:pt x="99" y="102"/>
                    </a:lnTo>
                    <a:lnTo>
                      <a:pt x="98" y="92"/>
                    </a:lnTo>
                    <a:lnTo>
                      <a:pt x="97" y="81"/>
                    </a:lnTo>
                    <a:lnTo>
                      <a:pt x="93" y="72"/>
                    </a:lnTo>
                    <a:lnTo>
                      <a:pt x="90" y="62"/>
                    </a:lnTo>
                    <a:lnTo>
                      <a:pt x="87" y="54"/>
                    </a:lnTo>
                    <a:lnTo>
                      <a:pt x="81" y="46"/>
                    </a:lnTo>
                    <a:lnTo>
                      <a:pt x="75" y="38"/>
                    </a:lnTo>
                    <a:lnTo>
                      <a:pt x="70" y="30"/>
                    </a:lnTo>
                    <a:lnTo>
                      <a:pt x="62" y="24"/>
                    </a:lnTo>
                    <a:lnTo>
                      <a:pt x="55" y="19"/>
                    </a:lnTo>
                    <a:lnTo>
                      <a:pt x="47" y="13"/>
                    </a:lnTo>
                    <a:lnTo>
                      <a:pt x="38" y="8"/>
                    </a:lnTo>
                    <a:lnTo>
                      <a:pt x="30" y="5"/>
                    </a:lnTo>
                    <a:lnTo>
                      <a:pt x="19" y="3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5111640" y="3949560"/>
                <a:ext cx="462240" cy="952560"/>
              </a:xfrm>
              <a:custGeom>
                <a:avLst/>
                <a:gdLst/>
                <a:ahLst/>
                <a:rect l="l" t="t" r="r" b="b"/>
                <a:pathLst>
                  <a:path w="1453" h="2999">
                    <a:moveTo>
                      <a:pt x="976" y="0"/>
                    </a:moveTo>
                    <a:lnTo>
                      <a:pt x="1028" y="85"/>
                    </a:lnTo>
                    <a:lnTo>
                      <a:pt x="1076" y="171"/>
                    </a:lnTo>
                    <a:lnTo>
                      <a:pt x="1121" y="258"/>
                    </a:lnTo>
                    <a:lnTo>
                      <a:pt x="1163" y="346"/>
                    </a:lnTo>
                    <a:lnTo>
                      <a:pt x="1200" y="435"/>
                    </a:lnTo>
                    <a:lnTo>
                      <a:pt x="1236" y="525"/>
                    </a:lnTo>
                    <a:lnTo>
                      <a:pt x="1268" y="615"/>
                    </a:lnTo>
                    <a:lnTo>
                      <a:pt x="1296" y="707"/>
                    </a:lnTo>
                    <a:lnTo>
                      <a:pt x="1322" y="799"/>
                    </a:lnTo>
                    <a:lnTo>
                      <a:pt x="1345" y="891"/>
                    </a:lnTo>
                    <a:lnTo>
                      <a:pt x="1366" y="985"/>
                    </a:lnTo>
                    <a:lnTo>
                      <a:pt x="1384" y="1078"/>
                    </a:lnTo>
                    <a:lnTo>
                      <a:pt x="1400" y="1173"/>
                    </a:lnTo>
                    <a:lnTo>
                      <a:pt x="1413" y="1268"/>
                    </a:lnTo>
                    <a:lnTo>
                      <a:pt x="1424" y="1364"/>
                    </a:lnTo>
                    <a:lnTo>
                      <a:pt x="1434" y="1458"/>
                    </a:lnTo>
                    <a:lnTo>
                      <a:pt x="1441" y="1555"/>
                    </a:lnTo>
                    <a:lnTo>
                      <a:pt x="1447" y="1651"/>
                    </a:lnTo>
                    <a:lnTo>
                      <a:pt x="1450" y="1747"/>
                    </a:lnTo>
                    <a:lnTo>
                      <a:pt x="1453" y="1844"/>
                    </a:lnTo>
                    <a:lnTo>
                      <a:pt x="1453" y="1941"/>
                    </a:lnTo>
                    <a:lnTo>
                      <a:pt x="1453" y="2038"/>
                    </a:lnTo>
                    <a:lnTo>
                      <a:pt x="1452" y="2135"/>
                    </a:lnTo>
                    <a:lnTo>
                      <a:pt x="1450" y="2231"/>
                    </a:lnTo>
                    <a:lnTo>
                      <a:pt x="1445" y="2328"/>
                    </a:lnTo>
                    <a:lnTo>
                      <a:pt x="1442" y="2425"/>
                    </a:lnTo>
                    <a:lnTo>
                      <a:pt x="1436" y="2521"/>
                    </a:lnTo>
                    <a:lnTo>
                      <a:pt x="1431" y="2617"/>
                    </a:lnTo>
                    <a:lnTo>
                      <a:pt x="1418" y="2809"/>
                    </a:lnTo>
                    <a:lnTo>
                      <a:pt x="1406" y="2999"/>
                    </a:lnTo>
                    <a:lnTo>
                      <a:pt x="1360" y="2999"/>
                    </a:lnTo>
                    <a:lnTo>
                      <a:pt x="1314" y="2995"/>
                    </a:lnTo>
                    <a:lnTo>
                      <a:pt x="1270" y="2992"/>
                    </a:lnTo>
                    <a:lnTo>
                      <a:pt x="1225" y="2986"/>
                    </a:lnTo>
                    <a:lnTo>
                      <a:pt x="1182" y="2979"/>
                    </a:lnTo>
                    <a:lnTo>
                      <a:pt x="1139" y="2972"/>
                    </a:lnTo>
                    <a:lnTo>
                      <a:pt x="1097" y="2963"/>
                    </a:lnTo>
                    <a:lnTo>
                      <a:pt x="1053" y="2953"/>
                    </a:lnTo>
                    <a:lnTo>
                      <a:pt x="1011" y="2943"/>
                    </a:lnTo>
                    <a:lnTo>
                      <a:pt x="969" y="2931"/>
                    </a:lnTo>
                    <a:lnTo>
                      <a:pt x="928" y="2919"/>
                    </a:lnTo>
                    <a:lnTo>
                      <a:pt x="886" y="2906"/>
                    </a:lnTo>
                    <a:lnTo>
                      <a:pt x="804" y="2880"/>
                    </a:lnTo>
                    <a:lnTo>
                      <a:pt x="722" y="2853"/>
                    </a:lnTo>
                    <a:lnTo>
                      <a:pt x="638" y="2825"/>
                    </a:lnTo>
                    <a:lnTo>
                      <a:pt x="556" y="2799"/>
                    </a:lnTo>
                    <a:lnTo>
                      <a:pt x="514" y="2786"/>
                    </a:lnTo>
                    <a:lnTo>
                      <a:pt x="473" y="2775"/>
                    </a:lnTo>
                    <a:lnTo>
                      <a:pt x="431" y="2764"/>
                    </a:lnTo>
                    <a:lnTo>
                      <a:pt x="389" y="2752"/>
                    </a:lnTo>
                    <a:lnTo>
                      <a:pt x="346" y="2743"/>
                    </a:lnTo>
                    <a:lnTo>
                      <a:pt x="303" y="2734"/>
                    </a:lnTo>
                    <a:lnTo>
                      <a:pt x="260" y="2726"/>
                    </a:lnTo>
                    <a:lnTo>
                      <a:pt x="216" y="2719"/>
                    </a:lnTo>
                    <a:lnTo>
                      <a:pt x="172" y="2714"/>
                    </a:lnTo>
                    <a:lnTo>
                      <a:pt x="128" y="2710"/>
                    </a:lnTo>
                    <a:lnTo>
                      <a:pt x="83" y="2708"/>
                    </a:lnTo>
                    <a:lnTo>
                      <a:pt x="38" y="2706"/>
                    </a:lnTo>
                    <a:lnTo>
                      <a:pt x="26" y="2628"/>
                    </a:lnTo>
                    <a:lnTo>
                      <a:pt x="17" y="2550"/>
                    </a:lnTo>
                    <a:lnTo>
                      <a:pt x="10" y="2475"/>
                    </a:lnTo>
                    <a:lnTo>
                      <a:pt x="4" y="2400"/>
                    </a:lnTo>
                    <a:lnTo>
                      <a:pt x="1" y="2327"/>
                    </a:lnTo>
                    <a:lnTo>
                      <a:pt x="0" y="2255"/>
                    </a:lnTo>
                    <a:lnTo>
                      <a:pt x="0" y="2184"/>
                    </a:lnTo>
                    <a:lnTo>
                      <a:pt x="1" y="2114"/>
                    </a:lnTo>
                    <a:lnTo>
                      <a:pt x="4" y="2045"/>
                    </a:lnTo>
                    <a:lnTo>
                      <a:pt x="9" y="1976"/>
                    </a:lnTo>
                    <a:lnTo>
                      <a:pt x="16" y="1909"/>
                    </a:lnTo>
                    <a:lnTo>
                      <a:pt x="24" y="1842"/>
                    </a:lnTo>
                    <a:lnTo>
                      <a:pt x="33" y="1776"/>
                    </a:lnTo>
                    <a:lnTo>
                      <a:pt x="44" y="1709"/>
                    </a:lnTo>
                    <a:lnTo>
                      <a:pt x="57" y="1643"/>
                    </a:lnTo>
                    <a:lnTo>
                      <a:pt x="71" y="1577"/>
                    </a:lnTo>
                    <a:lnTo>
                      <a:pt x="87" y="1512"/>
                    </a:lnTo>
                    <a:lnTo>
                      <a:pt x="104" y="1446"/>
                    </a:lnTo>
                    <a:lnTo>
                      <a:pt x="121" y="1380"/>
                    </a:lnTo>
                    <a:lnTo>
                      <a:pt x="140" y="1312"/>
                    </a:lnTo>
                    <a:lnTo>
                      <a:pt x="162" y="1246"/>
                    </a:lnTo>
                    <a:lnTo>
                      <a:pt x="183" y="1179"/>
                    </a:lnTo>
                    <a:lnTo>
                      <a:pt x="206" y="1110"/>
                    </a:lnTo>
                    <a:lnTo>
                      <a:pt x="231" y="1042"/>
                    </a:lnTo>
                    <a:lnTo>
                      <a:pt x="256" y="972"/>
                    </a:lnTo>
                    <a:lnTo>
                      <a:pt x="284" y="902"/>
                    </a:lnTo>
                    <a:lnTo>
                      <a:pt x="311" y="830"/>
                    </a:lnTo>
                    <a:lnTo>
                      <a:pt x="341" y="757"/>
                    </a:lnTo>
                    <a:lnTo>
                      <a:pt x="401" y="607"/>
                    </a:lnTo>
                    <a:lnTo>
                      <a:pt x="466" y="452"/>
                    </a:lnTo>
                    <a:lnTo>
                      <a:pt x="492" y="449"/>
                    </a:lnTo>
                    <a:lnTo>
                      <a:pt x="517" y="444"/>
                    </a:lnTo>
                    <a:lnTo>
                      <a:pt x="543" y="440"/>
                    </a:lnTo>
                    <a:lnTo>
                      <a:pt x="566" y="433"/>
                    </a:lnTo>
                    <a:lnTo>
                      <a:pt x="589" y="426"/>
                    </a:lnTo>
                    <a:lnTo>
                      <a:pt x="611" y="418"/>
                    </a:lnTo>
                    <a:lnTo>
                      <a:pt x="633" y="409"/>
                    </a:lnTo>
                    <a:lnTo>
                      <a:pt x="653" y="400"/>
                    </a:lnTo>
                    <a:lnTo>
                      <a:pt x="674" y="389"/>
                    </a:lnTo>
                    <a:lnTo>
                      <a:pt x="693" y="378"/>
                    </a:lnTo>
                    <a:lnTo>
                      <a:pt x="711" y="367"/>
                    </a:lnTo>
                    <a:lnTo>
                      <a:pt x="729" y="353"/>
                    </a:lnTo>
                    <a:lnTo>
                      <a:pt x="748" y="340"/>
                    </a:lnTo>
                    <a:lnTo>
                      <a:pt x="764" y="327"/>
                    </a:lnTo>
                    <a:lnTo>
                      <a:pt x="781" y="312"/>
                    </a:lnTo>
                    <a:lnTo>
                      <a:pt x="796" y="297"/>
                    </a:lnTo>
                    <a:lnTo>
                      <a:pt x="812" y="281"/>
                    </a:lnTo>
                    <a:lnTo>
                      <a:pt x="825" y="265"/>
                    </a:lnTo>
                    <a:lnTo>
                      <a:pt x="839" y="248"/>
                    </a:lnTo>
                    <a:lnTo>
                      <a:pt x="853" y="231"/>
                    </a:lnTo>
                    <a:lnTo>
                      <a:pt x="865" y="214"/>
                    </a:lnTo>
                    <a:lnTo>
                      <a:pt x="878" y="195"/>
                    </a:lnTo>
                    <a:lnTo>
                      <a:pt x="890" y="177"/>
                    </a:lnTo>
                    <a:lnTo>
                      <a:pt x="902" y="159"/>
                    </a:lnTo>
                    <a:lnTo>
                      <a:pt x="922" y="120"/>
                    </a:lnTo>
                    <a:lnTo>
                      <a:pt x="942" y="81"/>
                    </a:lnTo>
                    <a:lnTo>
                      <a:pt x="960" y="40"/>
                    </a:lnTo>
                    <a:lnTo>
                      <a:pt x="9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5413320" y="3944880"/>
                <a:ext cx="171360" cy="968400"/>
              </a:xfrm>
              <a:custGeom>
                <a:avLst/>
                <a:gdLst/>
                <a:ahLst/>
                <a:rect l="l" t="t" r="r" b="b"/>
                <a:pathLst>
                  <a:path w="541" h="3051">
                    <a:moveTo>
                      <a:pt x="459" y="3051"/>
                    </a:moveTo>
                    <a:lnTo>
                      <a:pt x="492" y="3019"/>
                    </a:lnTo>
                    <a:lnTo>
                      <a:pt x="505" y="2829"/>
                    </a:lnTo>
                    <a:lnTo>
                      <a:pt x="518" y="2638"/>
                    </a:lnTo>
                    <a:lnTo>
                      <a:pt x="523" y="2541"/>
                    </a:lnTo>
                    <a:lnTo>
                      <a:pt x="528" y="2444"/>
                    </a:lnTo>
                    <a:lnTo>
                      <a:pt x="533" y="2347"/>
                    </a:lnTo>
                    <a:lnTo>
                      <a:pt x="536" y="2250"/>
                    </a:lnTo>
                    <a:lnTo>
                      <a:pt x="538" y="2153"/>
                    </a:lnTo>
                    <a:lnTo>
                      <a:pt x="541" y="2056"/>
                    </a:lnTo>
                    <a:lnTo>
                      <a:pt x="541" y="1959"/>
                    </a:lnTo>
                    <a:lnTo>
                      <a:pt x="539" y="1862"/>
                    </a:lnTo>
                    <a:lnTo>
                      <a:pt x="537" y="1765"/>
                    </a:lnTo>
                    <a:lnTo>
                      <a:pt x="534" y="1667"/>
                    </a:lnTo>
                    <a:lnTo>
                      <a:pt x="528" y="1571"/>
                    </a:lnTo>
                    <a:lnTo>
                      <a:pt x="520" y="1474"/>
                    </a:lnTo>
                    <a:lnTo>
                      <a:pt x="511" y="1377"/>
                    </a:lnTo>
                    <a:lnTo>
                      <a:pt x="500" y="1281"/>
                    </a:lnTo>
                    <a:lnTo>
                      <a:pt x="486" y="1187"/>
                    </a:lnTo>
                    <a:lnTo>
                      <a:pt x="470" y="1091"/>
                    </a:lnTo>
                    <a:lnTo>
                      <a:pt x="461" y="1044"/>
                    </a:lnTo>
                    <a:lnTo>
                      <a:pt x="452" y="996"/>
                    </a:lnTo>
                    <a:lnTo>
                      <a:pt x="441" y="949"/>
                    </a:lnTo>
                    <a:lnTo>
                      <a:pt x="431" y="901"/>
                    </a:lnTo>
                    <a:lnTo>
                      <a:pt x="420" y="855"/>
                    </a:lnTo>
                    <a:lnTo>
                      <a:pt x="407" y="808"/>
                    </a:lnTo>
                    <a:lnTo>
                      <a:pt x="395" y="762"/>
                    </a:lnTo>
                    <a:lnTo>
                      <a:pt x="381" y="715"/>
                    </a:lnTo>
                    <a:lnTo>
                      <a:pt x="367" y="669"/>
                    </a:lnTo>
                    <a:lnTo>
                      <a:pt x="352" y="623"/>
                    </a:lnTo>
                    <a:lnTo>
                      <a:pt x="337" y="577"/>
                    </a:lnTo>
                    <a:lnTo>
                      <a:pt x="321" y="532"/>
                    </a:lnTo>
                    <a:lnTo>
                      <a:pt x="302" y="486"/>
                    </a:lnTo>
                    <a:lnTo>
                      <a:pt x="285" y="440"/>
                    </a:lnTo>
                    <a:lnTo>
                      <a:pt x="266" y="396"/>
                    </a:lnTo>
                    <a:lnTo>
                      <a:pt x="246" y="350"/>
                    </a:lnTo>
                    <a:lnTo>
                      <a:pt x="226" y="306"/>
                    </a:lnTo>
                    <a:lnTo>
                      <a:pt x="204" y="261"/>
                    </a:lnTo>
                    <a:lnTo>
                      <a:pt x="181" y="217"/>
                    </a:lnTo>
                    <a:lnTo>
                      <a:pt x="159" y="173"/>
                    </a:lnTo>
                    <a:lnTo>
                      <a:pt x="135" y="130"/>
                    </a:lnTo>
                    <a:lnTo>
                      <a:pt x="110" y="87"/>
                    </a:lnTo>
                    <a:lnTo>
                      <a:pt x="83" y="43"/>
                    </a:lnTo>
                    <a:lnTo>
                      <a:pt x="57" y="0"/>
                    </a:lnTo>
                    <a:lnTo>
                      <a:pt x="0" y="37"/>
                    </a:lnTo>
                    <a:lnTo>
                      <a:pt x="26" y="78"/>
                    </a:lnTo>
                    <a:lnTo>
                      <a:pt x="52" y="120"/>
                    </a:lnTo>
                    <a:lnTo>
                      <a:pt x="77" y="163"/>
                    </a:lnTo>
                    <a:lnTo>
                      <a:pt x="99" y="205"/>
                    </a:lnTo>
                    <a:lnTo>
                      <a:pt x="122" y="248"/>
                    </a:lnTo>
                    <a:lnTo>
                      <a:pt x="144" y="291"/>
                    </a:lnTo>
                    <a:lnTo>
                      <a:pt x="164" y="334"/>
                    </a:lnTo>
                    <a:lnTo>
                      <a:pt x="185" y="378"/>
                    </a:lnTo>
                    <a:lnTo>
                      <a:pt x="204" y="422"/>
                    </a:lnTo>
                    <a:lnTo>
                      <a:pt x="223" y="466"/>
                    </a:lnTo>
                    <a:lnTo>
                      <a:pt x="240" y="510"/>
                    </a:lnTo>
                    <a:lnTo>
                      <a:pt x="257" y="555"/>
                    </a:lnTo>
                    <a:lnTo>
                      <a:pt x="273" y="599"/>
                    </a:lnTo>
                    <a:lnTo>
                      <a:pt x="289" y="644"/>
                    </a:lnTo>
                    <a:lnTo>
                      <a:pt x="302" y="689"/>
                    </a:lnTo>
                    <a:lnTo>
                      <a:pt x="317" y="735"/>
                    </a:lnTo>
                    <a:lnTo>
                      <a:pt x="330" y="779"/>
                    </a:lnTo>
                    <a:lnTo>
                      <a:pt x="342" y="825"/>
                    </a:lnTo>
                    <a:lnTo>
                      <a:pt x="354" y="872"/>
                    </a:lnTo>
                    <a:lnTo>
                      <a:pt x="365" y="917"/>
                    </a:lnTo>
                    <a:lnTo>
                      <a:pt x="375" y="963"/>
                    </a:lnTo>
                    <a:lnTo>
                      <a:pt x="386" y="1010"/>
                    </a:lnTo>
                    <a:lnTo>
                      <a:pt x="395" y="1057"/>
                    </a:lnTo>
                    <a:lnTo>
                      <a:pt x="404" y="1102"/>
                    </a:lnTo>
                    <a:lnTo>
                      <a:pt x="419" y="1196"/>
                    </a:lnTo>
                    <a:lnTo>
                      <a:pt x="432" y="1290"/>
                    </a:lnTo>
                    <a:lnTo>
                      <a:pt x="444" y="1385"/>
                    </a:lnTo>
                    <a:lnTo>
                      <a:pt x="453" y="1480"/>
                    </a:lnTo>
                    <a:lnTo>
                      <a:pt x="461" y="1576"/>
                    </a:lnTo>
                    <a:lnTo>
                      <a:pt x="466" y="1670"/>
                    </a:lnTo>
                    <a:lnTo>
                      <a:pt x="470" y="1766"/>
                    </a:lnTo>
                    <a:lnTo>
                      <a:pt x="472" y="1863"/>
                    </a:lnTo>
                    <a:lnTo>
                      <a:pt x="473" y="1959"/>
                    </a:lnTo>
                    <a:lnTo>
                      <a:pt x="473" y="2056"/>
                    </a:lnTo>
                    <a:lnTo>
                      <a:pt x="471" y="2152"/>
                    </a:lnTo>
                    <a:lnTo>
                      <a:pt x="469" y="2248"/>
                    </a:lnTo>
                    <a:lnTo>
                      <a:pt x="465" y="2345"/>
                    </a:lnTo>
                    <a:lnTo>
                      <a:pt x="461" y="2440"/>
                    </a:lnTo>
                    <a:lnTo>
                      <a:pt x="456" y="2537"/>
                    </a:lnTo>
                    <a:lnTo>
                      <a:pt x="451" y="2633"/>
                    </a:lnTo>
                    <a:lnTo>
                      <a:pt x="438" y="2825"/>
                    </a:lnTo>
                    <a:lnTo>
                      <a:pt x="424" y="3014"/>
                    </a:lnTo>
                    <a:lnTo>
                      <a:pt x="459" y="2983"/>
                    </a:lnTo>
                    <a:lnTo>
                      <a:pt x="424" y="3014"/>
                    </a:lnTo>
                    <a:lnTo>
                      <a:pt x="424" y="3022"/>
                    </a:lnTo>
                    <a:lnTo>
                      <a:pt x="427" y="3029"/>
                    </a:lnTo>
                    <a:lnTo>
                      <a:pt x="429" y="3036"/>
                    </a:lnTo>
                    <a:lnTo>
                      <a:pt x="433" y="3041"/>
                    </a:lnTo>
                    <a:lnTo>
                      <a:pt x="438" y="3045"/>
                    </a:lnTo>
                    <a:lnTo>
                      <a:pt x="444" y="3047"/>
                    </a:lnTo>
                    <a:lnTo>
                      <a:pt x="449" y="3050"/>
                    </a:lnTo>
                    <a:lnTo>
                      <a:pt x="455" y="3051"/>
                    </a:lnTo>
                    <a:lnTo>
                      <a:pt x="462" y="3051"/>
                    </a:lnTo>
                    <a:lnTo>
                      <a:pt x="468" y="3050"/>
                    </a:lnTo>
                    <a:lnTo>
                      <a:pt x="474" y="3047"/>
                    </a:lnTo>
                    <a:lnTo>
                      <a:pt x="479" y="3044"/>
                    </a:lnTo>
                    <a:lnTo>
                      <a:pt x="484" y="3039"/>
                    </a:lnTo>
                    <a:lnTo>
                      <a:pt x="488" y="3034"/>
                    </a:lnTo>
                    <a:lnTo>
                      <a:pt x="490" y="3027"/>
                    </a:lnTo>
                    <a:lnTo>
                      <a:pt x="492" y="3019"/>
                    </a:lnTo>
                    <a:lnTo>
                      <a:pt x="459" y="30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5113440" y="4799160"/>
                <a:ext cx="444240" cy="114120"/>
              </a:xfrm>
              <a:custGeom>
                <a:avLst/>
                <a:gdLst/>
                <a:ahLst/>
                <a:rect l="l" t="t" r="r" b="b"/>
                <a:pathLst>
                  <a:path w="1403" h="360">
                    <a:moveTo>
                      <a:pt x="0" y="38"/>
                    </a:moveTo>
                    <a:lnTo>
                      <a:pt x="35" y="68"/>
                    </a:lnTo>
                    <a:lnTo>
                      <a:pt x="79" y="68"/>
                    </a:lnTo>
                    <a:lnTo>
                      <a:pt x="122" y="71"/>
                    </a:lnTo>
                    <a:lnTo>
                      <a:pt x="166" y="75"/>
                    </a:lnTo>
                    <a:lnTo>
                      <a:pt x="209" y="79"/>
                    </a:lnTo>
                    <a:lnTo>
                      <a:pt x="251" y="86"/>
                    </a:lnTo>
                    <a:lnTo>
                      <a:pt x="294" y="94"/>
                    </a:lnTo>
                    <a:lnTo>
                      <a:pt x="335" y="103"/>
                    </a:lnTo>
                    <a:lnTo>
                      <a:pt x="378" y="112"/>
                    </a:lnTo>
                    <a:lnTo>
                      <a:pt x="419" y="122"/>
                    </a:lnTo>
                    <a:lnTo>
                      <a:pt x="461" y="134"/>
                    </a:lnTo>
                    <a:lnTo>
                      <a:pt x="502" y="146"/>
                    </a:lnTo>
                    <a:lnTo>
                      <a:pt x="543" y="158"/>
                    </a:lnTo>
                    <a:lnTo>
                      <a:pt x="625" y="184"/>
                    </a:lnTo>
                    <a:lnTo>
                      <a:pt x="707" y="211"/>
                    </a:lnTo>
                    <a:lnTo>
                      <a:pt x="790" y="239"/>
                    </a:lnTo>
                    <a:lnTo>
                      <a:pt x="874" y="265"/>
                    </a:lnTo>
                    <a:lnTo>
                      <a:pt x="915" y="279"/>
                    </a:lnTo>
                    <a:lnTo>
                      <a:pt x="957" y="290"/>
                    </a:lnTo>
                    <a:lnTo>
                      <a:pt x="1000" y="303"/>
                    </a:lnTo>
                    <a:lnTo>
                      <a:pt x="1042" y="313"/>
                    </a:lnTo>
                    <a:lnTo>
                      <a:pt x="1086" y="323"/>
                    </a:lnTo>
                    <a:lnTo>
                      <a:pt x="1130" y="332"/>
                    </a:lnTo>
                    <a:lnTo>
                      <a:pt x="1173" y="340"/>
                    </a:lnTo>
                    <a:lnTo>
                      <a:pt x="1218" y="347"/>
                    </a:lnTo>
                    <a:lnTo>
                      <a:pt x="1263" y="352"/>
                    </a:lnTo>
                    <a:lnTo>
                      <a:pt x="1309" y="356"/>
                    </a:lnTo>
                    <a:lnTo>
                      <a:pt x="1355" y="359"/>
                    </a:lnTo>
                    <a:lnTo>
                      <a:pt x="1403" y="360"/>
                    </a:lnTo>
                    <a:lnTo>
                      <a:pt x="1403" y="292"/>
                    </a:lnTo>
                    <a:lnTo>
                      <a:pt x="1358" y="291"/>
                    </a:lnTo>
                    <a:lnTo>
                      <a:pt x="1314" y="289"/>
                    </a:lnTo>
                    <a:lnTo>
                      <a:pt x="1270" y="286"/>
                    </a:lnTo>
                    <a:lnTo>
                      <a:pt x="1227" y="280"/>
                    </a:lnTo>
                    <a:lnTo>
                      <a:pt x="1185" y="273"/>
                    </a:lnTo>
                    <a:lnTo>
                      <a:pt x="1143" y="266"/>
                    </a:lnTo>
                    <a:lnTo>
                      <a:pt x="1100" y="257"/>
                    </a:lnTo>
                    <a:lnTo>
                      <a:pt x="1058" y="248"/>
                    </a:lnTo>
                    <a:lnTo>
                      <a:pt x="1017" y="237"/>
                    </a:lnTo>
                    <a:lnTo>
                      <a:pt x="975" y="225"/>
                    </a:lnTo>
                    <a:lnTo>
                      <a:pt x="934" y="214"/>
                    </a:lnTo>
                    <a:lnTo>
                      <a:pt x="893" y="201"/>
                    </a:lnTo>
                    <a:lnTo>
                      <a:pt x="811" y="175"/>
                    </a:lnTo>
                    <a:lnTo>
                      <a:pt x="729" y="148"/>
                    </a:lnTo>
                    <a:lnTo>
                      <a:pt x="646" y="120"/>
                    </a:lnTo>
                    <a:lnTo>
                      <a:pt x="563" y="94"/>
                    </a:lnTo>
                    <a:lnTo>
                      <a:pt x="521" y="81"/>
                    </a:lnTo>
                    <a:lnTo>
                      <a:pt x="479" y="69"/>
                    </a:lnTo>
                    <a:lnTo>
                      <a:pt x="436" y="57"/>
                    </a:lnTo>
                    <a:lnTo>
                      <a:pt x="394" y="46"/>
                    </a:lnTo>
                    <a:lnTo>
                      <a:pt x="350" y="37"/>
                    </a:lnTo>
                    <a:lnTo>
                      <a:pt x="307" y="28"/>
                    </a:lnTo>
                    <a:lnTo>
                      <a:pt x="263" y="20"/>
                    </a:lnTo>
                    <a:lnTo>
                      <a:pt x="218" y="13"/>
                    </a:lnTo>
                    <a:lnTo>
                      <a:pt x="172" y="7"/>
                    </a:lnTo>
                    <a:lnTo>
                      <a:pt x="127" y="4"/>
                    </a:lnTo>
                    <a:lnTo>
                      <a:pt x="81" y="0"/>
                    </a:lnTo>
                    <a:lnTo>
                      <a:pt x="35" y="0"/>
                    </a:lnTo>
                    <a:lnTo>
                      <a:pt x="68" y="29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8" y="11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1" y="28"/>
                    </a:lnTo>
                    <a:lnTo>
                      <a:pt x="0" y="33"/>
                    </a:lnTo>
                    <a:lnTo>
                      <a:pt x="1" y="40"/>
                    </a:lnTo>
                    <a:lnTo>
                      <a:pt x="3" y="46"/>
                    </a:lnTo>
                    <a:lnTo>
                      <a:pt x="5" y="52"/>
                    </a:lnTo>
                    <a:lnTo>
                      <a:pt x="8" y="57"/>
                    </a:lnTo>
                    <a:lnTo>
                      <a:pt x="14" y="61"/>
                    </a:lnTo>
                    <a:lnTo>
                      <a:pt x="20" y="64"/>
                    </a:lnTo>
                    <a:lnTo>
                      <a:pt x="27" y="67"/>
                    </a:lnTo>
                    <a:lnTo>
                      <a:pt x="35" y="6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5100480" y="4083120"/>
                <a:ext cx="169920" cy="728640"/>
              </a:xfrm>
              <a:custGeom>
                <a:avLst/>
                <a:gdLst/>
                <a:ahLst/>
                <a:rect l="l" t="t" r="r" b="b"/>
                <a:pathLst>
                  <a:path w="534" h="2293">
                    <a:moveTo>
                      <a:pt x="497" y="0"/>
                    </a:moveTo>
                    <a:lnTo>
                      <a:pt x="469" y="20"/>
                    </a:lnTo>
                    <a:lnTo>
                      <a:pt x="404" y="177"/>
                    </a:lnTo>
                    <a:lnTo>
                      <a:pt x="343" y="326"/>
                    </a:lnTo>
                    <a:lnTo>
                      <a:pt x="314" y="399"/>
                    </a:lnTo>
                    <a:lnTo>
                      <a:pt x="286" y="471"/>
                    </a:lnTo>
                    <a:lnTo>
                      <a:pt x="260" y="542"/>
                    </a:lnTo>
                    <a:lnTo>
                      <a:pt x="233" y="613"/>
                    </a:lnTo>
                    <a:lnTo>
                      <a:pt x="208" y="681"/>
                    </a:lnTo>
                    <a:lnTo>
                      <a:pt x="186" y="749"/>
                    </a:lnTo>
                    <a:lnTo>
                      <a:pt x="164" y="818"/>
                    </a:lnTo>
                    <a:lnTo>
                      <a:pt x="142" y="885"/>
                    </a:lnTo>
                    <a:lnTo>
                      <a:pt x="123" y="953"/>
                    </a:lnTo>
                    <a:lnTo>
                      <a:pt x="105" y="1019"/>
                    </a:lnTo>
                    <a:lnTo>
                      <a:pt x="87" y="1086"/>
                    </a:lnTo>
                    <a:lnTo>
                      <a:pt x="73" y="1152"/>
                    </a:lnTo>
                    <a:lnTo>
                      <a:pt x="58" y="1218"/>
                    </a:lnTo>
                    <a:lnTo>
                      <a:pt x="45" y="1286"/>
                    </a:lnTo>
                    <a:lnTo>
                      <a:pt x="34" y="1353"/>
                    </a:lnTo>
                    <a:lnTo>
                      <a:pt x="25" y="1420"/>
                    </a:lnTo>
                    <a:lnTo>
                      <a:pt x="16" y="1488"/>
                    </a:lnTo>
                    <a:lnTo>
                      <a:pt x="10" y="1556"/>
                    </a:lnTo>
                    <a:lnTo>
                      <a:pt x="4" y="1624"/>
                    </a:lnTo>
                    <a:lnTo>
                      <a:pt x="2" y="1695"/>
                    </a:lnTo>
                    <a:lnTo>
                      <a:pt x="0" y="1766"/>
                    </a:lnTo>
                    <a:lnTo>
                      <a:pt x="0" y="1837"/>
                    </a:lnTo>
                    <a:lnTo>
                      <a:pt x="2" y="1910"/>
                    </a:lnTo>
                    <a:lnTo>
                      <a:pt x="5" y="1984"/>
                    </a:lnTo>
                    <a:lnTo>
                      <a:pt x="11" y="2059"/>
                    </a:lnTo>
                    <a:lnTo>
                      <a:pt x="18" y="2136"/>
                    </a:lnTo>
                    <a:lnTo>
                      <a:pt x="27" y="2214"/>
                    </a:lnTo>
                    <a:lnTo>
                      <a:pt x="37" y="2293"/>
                    </a:lnTo>
                    <a:lnTo>
                      <a:pt x="105" y="2284"/>
                    </a:lnTo>
                    <a:lnTo>
                      <a:pt x="93" y="2205"/>
                    </a:lnTo>
                    <a:lnTo>
                      <a:pt x="85" y="2129"/>
                    </a:lnTo>
                    <a:lnTo>
                      <a:pt x="78" y="2053"/>
                    </a:lnTo>
                    <a:lnTo>
                      <a:pt x="73" y="1980"/>
                    </a:lnTo>
                    <a:lnTo>
                      <a:pt x="69" y="1907"/>
                    </a:lnTo>
                    <a:lnTo>
                      <a:pt x="67" y="1837"/>
                    </a:lnTo>
                    <a:lnTo>
                      <a:pt x="67" y="1766"/>
                    </a:lnTo>
                    <a:lnTo>
                      <a:pt x="69" y="1698"/>
                    </a:lnTo>
                    <a:lnTo>
                      <a:pt x="72" y="1629"/>
                    </a:lnTo>
                    <a:lnTo>
                      <a:pt x="77" y="1562"/>
                    </a:lnTo>
                    <a:lnTo>
                      <a:pt x="83" y="1494"/>
                    </a:lnTo>
                    <a:lnTo>
                      <a:pt x="91" y="1428"/>
                    </a:lnTo>
                    <a:lnTo>
                      <a:pt x="100" y="1363"/>
                    </a:lnTo>
                    <a:lnTo>
                      <a:pt x="111" y="1297"/>
                    </a:lnTo>
                    <a:lnTo>
                      <a:pt x="124" y="1232"/>
                    </a:lnTo>
                    <a:lnTo>
                      <a:pt x="138" y="1167"/>
                    </a:lnTo>
                    <a:lnTo>
                      <a:pt x="152" y="1102"/>
                    </a:lnTo>
                    <a:lnTo>
                      <a:pt x="170" y="1036"/>
                    </a:lnTo>
                    <a:lnTo>
                      <a:pt x="188" y="971"/>
                    </a:lnTo>
                    <a:lnTo>
                      <a:pt x="207" y="905"/>
                    </a:lnTo>
                    <a:lnTo>
                      <a:pt x="228" y="838"/>
                    </a:lnTo>
                    <a:lnTo>
                      <a:pt x="249" y="771"/>
                    </a:lnTo>
                    <a:lnTo>
                      <a:pt x="272" y="704"/>
                    </a:lnTo>
                    <a:lnTo>
                      <a:pt x="297" y="635"/>
                    </a:lnTo>
                    <a:lnTo>
                      <a:pt x="322" y="566"/>
                    </a:lnTo>
                    <a:lnTo>
                      <a:pt x="349" y="495"/>
                    </a:lnTo>
                    <a:lnTo>
                      <a:pt x="377" y="424"/>
                    </a:lnTo>
                    <a:lnTo>
                      <a:pt x="406" y="351"/>
                    </a:lnTo>
                    <a:lnTo>
                      <a:pt x="467" y="202"/>
                    </a:lnTo>
                    <a:lnTo>
                      <a:pt x="532" y="47"/>
                    </a:lnTo>
                    <a:lnTo>
                      <a:pt x="504" y="67"/>
                    </a:lnTo>
                    <a:lnTo>
                      <a:pt x="532" y="47"/>
                    </a:lnTo>
                    <a:lnTo>
                      <a:pt x="534" y="39"/>
                    </a:lnTo>
                    <a:lnTo>
                      <a:pt x="534" y="32"/>
                    </a:lnTo>
                    <a:lnTo>
                      <a:pt x="533" y="25"/>
                    </a:lnTo>
                    <a:lnTo>
                      <a:pt x="532" y="19"/>
                    </a:lnTo>
                    <a:lnTo>
                      <a:pt x="529" y="14"/>
                    </a:lnTo>
                    <a:lnTo>
                      <a:pt x="524" y="9"/>
                    </a:lnTo>
                    <a:lnTo>
                      <a:pt x="520" y="6"/>
                    </a:lnTo>
                    <a:lnTo>
                      <a:pt x="514" y="2"/>
                    </a:lnTo>
                    <a:lnTo>
                      <a:pt x="508" y="1"/>
                    </a:lnTo>
                    <a:lnTo>
                      <a:pt x="501" y="0"/>
                    </a:lnTo>
                    <a:lnTo>
                      <a:pt x="496" y="0"/>
                    </a:lnTo>
                    <a:lnTo>
                      <a:pt x="489" y="1"/>
                    </a:lnTo>
                    <a:lnTo>
                      <a:pt x="483" y="4"/>
                    </a:lnTo>
                    <a:lnTo>
                      <a:pt x="477" y="8"/>
                    </a:lnTo>
                    <a:lnTo>
                      <a:pt x="473" y="14"/>
                    </a:lnTo>
                    <a:lnTo>
                      <a:pt x="469" y="20"/>
                    </a:lnTo>
                    <a:lnTo>
                      <a:pt x="49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5259240" y="3940200"/>
                <a:ext cx="173160" cy="163440"/>
              </a:xfrm>
              <a:custGeom>
                <a:avLst/>
                <a:gdLst/>
                <a:ahLst/>
                <a:rect l="l" t="t" r="r" b="b"/>
                <a:pathLst>
                  <a:path w="547" h="519">
                    <a:moveTo>
                      <a:pt x="541" y="16"/>
                    </a:moveTo>
                    <a:lnTo>
                      <a:pt x="481" y="22"/>
                    </a:lnTo>
                    <a:lnTo>
                      <a:pt x="465" y="62"/>
                    </a:lnTo>
                    <a:lnTo>
                      <a:pt x="448" y="100"/>
                    </a:lnTo>
                    <a:lnTo>
                      <a:pt x="430" y="138"/>
                    </a:lnTo>
                    <a:lnTo>
                      <a:pt x="409" y="176"/>
                    </a:lnTo>
                    <a:lnTo>
                      <a:pt x="398" y="193"/>
                    </a:lnTo>
                    <a:lnTo>
                      <a:pt x="387" y="211"/>
                    </a:lnTo>
                    <a:lnTo>
                      <a:pt x="375" y="228"/>
                    </a:lnTo>
                    <a:lnTo>
                      <a:pt x="363" y="244"/>
                    </a:lnTo>
                    <a:lnTo>
                      <a:pt x="350" y="261"/>
                    </a:lnTo>
                    <a:lnTo>
                      <a:pt x="337" y="276"/>
                    </a:lnTo>
                    <a:lnTo>
                      <a:pt x="323" y="292"/>
                    </a:lnTo>
                    <a:lnTo>
                      <a:pt x="310" y="307"/>
                    </a:lnTo>
                    <a:lnTo>
                      <a:pt x="295" y="321"/>
                    </a:lnTo>
                    <a:lnTo>
                      <a:pt x="279" y="334"/>
                    </a:lnTo>
                    <a:lnTo>
                      <a:pt x="263" y="348"/>
                    </a:lnTo>
                    <a:lnTo>
                      <a:pt x="247" y="361"/>
                    </a:lnTo>
                    <a:lnTo>
                      <a:pt x="230" y="372"/>
                    </a:lnTo>
                    <a:lnTo>
                      <a:pt x="213" y="383"/>
                    </a:lnTo>
                    <a:lnTo>
                      <a:pt x="195" y="394"/>
                    </a:lnTo>
                    <a:lnTo>
                      <a:pt x="175" y="403"/>
                    </a:lnTo>
                    <a:lnTo>
                      <a:pt x="156" y="412"/>
                    </a:lnTo>
                    <a:lnTo>
                      <a:pt x="137" y="420"/>
                    </a:lnTo>
                    <a:lnTo>
                      <a:pt x="116" y="428"/>
                    </a:lnTo>
                    <a:lnTo>
                      <a:pt x="94" y="435"/>
                    </a:lnTo>
                    <a:lnTo>
                      <a:pt x="72" y="440"/>
                    </a:lnTo>
                    <a:lnTo>
                      <a:pt x="49" y="445"/>
                    </a:lnTo>
                    <a:lnTo>
                      <a:pt x="25" y="450"/>
                    </a:lnTo>
                    <a:lnTo>
                      <a:pt x="0" y="452"/>
                    </a:lnTo>
                    <a:lnTo>
                      <a:pt x="7" y="519"/>
                    </a:lnTo>
                    <a:lnTo>
                      <a:pt x="34" y="516"/>
                    </a:lnTo>
                    <a:lnTo>
                      <a:pt x="61" y="511"/>
                    </a:lnTo>
                    <a:lnTo>
                      <a:pt x="88" y="505"/>
                    </a:lnTo>
                    <a:lnTo>
                      <a:pt x="113" y="500"/>
                    </a:lnTo>
                    <a:lnTo>
                      <a:pt x="137" y="492"/>
                    </a:lnTo>
                    <a:lnTo>
                      <a:pt x="160" y="484"/>
                    </a:lnTo>
                    <a:lnTo>
                      <a:pt x="183" y="474"/>
                    </a:lnTo>
                    <a:lnTo>
                      <a:pt x="205" y="463"/>
                    </a:lnTo>
                    <a:lnTo>
                      <a:pt x="227" y="453"/>
                    </a:lnTo>
                    <a:lnTo>
                      <a:pt x="247" y="440"/>
                    </a:lnTo>
                    <a:lnTo>
                      <a:pt x="268" y="428"/>
                    </a:lnTo>
                    <a:lnTo>
                      <a:pt x="287" y="414"/>
                    </a:lnTo>
                    <a:lnTo>
                      <a:pt x="305" y="401"/>
                    </a:lnTo>
                    <a:lnTo>
                      <a:pt x="323" y="386"/>
                    </a:lnTo>
                    <a:lnTo>
                      <a:pt x="341" y="371"/>
                    </a:lnTo>
                    <a:lnTo>
                      <a:pt x="357" y="354"/>
                    </a:lnTo>
                    <a:lnTo>
                      <a:pt x="373" y="338"/>
                    </a:lnTo>
                    <a:lnTo>
                      <a:pt x="388" y="321"/>
                    </a:lnTo>
                    <a:lnTo>
                      <a:pt x="402" y="304"/>
                    </a:lnTo>
                    <a:lnTo>
                      <a:pt x="417" y="285"/>
                    </a:lnTo>
                    <a:lnTo>
                      <a:pt x="430" y="267"/>
                    </a:lnTo>
                    <a:lnTo>
                      <a:pt x="443" y="248"/>
                    </a:lnTo>
                    <a:lnTo>
                      <a:pt x="456" y="229"/>
                    </a:lnTo>
                    <a:lnTo>
                      <a:pt x="467" y="209"/>
                    </a:lnTo>
                    <a:lnTo>
                      <a:pt x="489" y="170"/>
                    </a:lnTo>
                    <a:lnTo>
                      <a:pt x="509" y="129"/>
                    </a:lnTo>
                    <a:lnTo>
                      <a:pt x="528" y="88"/>
                    </a:lnTo>
                    <a:lnTo>
                      <a:pt x="545" y="46"/>
                    </a:lnTo>
                    <a:lnTo>
                      <a:pt x="484" y="53"/>
                    </a:lnTo>
                    <a:lnTo>
                      <a:pt x="545" y="46"/>
                    </a:lnTo>
                    <a:lnTo>
                      <a:pt x="546" y="39"/>
                    </a:lnTo>
                    <a:lnTo>
                      <a:pt x="547" y="31"/>
                    </a:lnTo>
                    <a:lnTo>
                      <a:pt x="546" y="25"/>
                    </a:lnTo>
                    <a:lnTo>
                      <a:pt x="544" y="18"/>
                    </a:lnTo>
                    <a:lnTo>
                      <a:pt x="540" y="14"/>
                    </a:lnTo>
                    <a:lnTo>
                      <a:pt x="536" y="9"/>
                    </a:lnTo>
                    <a:lnTo>
                      <a:pt x="530" y="6"/>
                    </a:lnTo>
                    <a:lnTo>
                      <a:pt x="524" y="2"/>
                    </a:lnTo>
                    <a:lnTo>
                      <a:pt x="518" y="1"/>
                    </a:lnTo>
                    <a:lnTo>
                      <a:pt x="512" y="0"/>
                    </a:lnTo>
                    <a:lnTo>
                      <a:pt x="506" y="1"/>
                    </a:lnTo>
                    <a:lnTo>
                      <a:pt x="500" y="2"/>
                    </a:lnTo>
                    <a:lnTo>
                      <a:pt x="494" y="6"/>
                    </a:lnTo>
                    <a:lnTo>
                      <a:pt x="489" y="9"/>
                    </a:lnTo>
                    <a:lnTo>
                      <a:pt x="484" y="15"/>
                    </a:lnTo>
                    <a:lnTo>
                      <a:pt x="481" y="22"/>
                    </a:lnTo>
                    <a:lnTo>
                      <a:pt x="541" y="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5354640" y="4143240"/>
                <a:ext cx="574560" cy="1020960"/>
              </a:xfrm>
              <a:custGeom>
                <a:avLst/>
                <a:gdLst/>
                <a:ahLst/>
                <a:rect l="l" t="t" r="r" b="b"/>
                <a:pathLst>
                  <a:path w="1811" h="3216">
                    <a:moveTo>
                      <a:pt x="1002" y="0"/>
                    </a:moveTo>
                    <a:lnTo>
                      <a:pt x="1063" y="98"/>
                    </a:lnTo>
                    <a:lnTo>
                      <a:pt x="1122" y="196"/>
                    </a:lnTo>
                    <a:lnTo>
                      <a:pt x="1178" y="294"/>
                    </a:lnTo>
                    <a:lnTo>
                      <a:pt x="1232" y="391"/>
                    </a:lnTo>
                    <a:lnTo>
                      <a:pt x="1283" y="488"/>
                    </a:lnTo>
                    <a:lnTo>
                      <a:pt x="1331" y="587"/>
                    </a:lnTo>
                    <a:lnTo>
                      <a:pt x="1378" y="684"/>
                    </a:lnTo>
                    <a:lnTo>
                      <a:pt x="1421" y="780"/>
                    </a:lnTo>
                    <a:lnTo>
                      <a:pt x="1462" y="877"/>
                    </a:lnTo>
                    <a:lnTo>
                      <a:pt x="1500" y="974"/>
                    </a:lnTo>
                    <a:lnTo>
                      <a:pt x="1536" y="1071"/>
                    </a:lnTo>
                    <a:lnTo>
                      <a:pt x="1569" y="1168"/>
                    </a:lnTo>
                    <a:lnTo>
                      <a:pt x="1601" y="1266"/>
                    </a:lnTo>
                    <a:lnTo>
                      <a:pt x="1630" y="1363"/>
                    </a:lnTo>
                    <a:lnTo>
                      <a:pt x="1657" y="1462"/>
                    </a:lnTo>
                    <a:lnTo>
                      <a:pt x="1681" y="1560"/>
                    </a:lnTo>
                    <a:lnTo>
                      <a:pt x="1704" y="1659"/>
                    </a:lnTo>
                    <a:lnTo>
                      <a:pt x="1723" y="1758"/>
                    </a:lnTo>
                    <a:lnTo>
                      <a:pt x="1741" y="1857"/>
                    </a:lnTo>
                    <a:lnTo>
                      <a:pt x="1757" y="1958"/>
                    </a:lnTo>
                    <a:lnTo>
                      <a:pt x="1770" y="2058"/>
                    </a:lnTo>
                    <a:lnTo>
                      <a:pt x="1783" y="2160"/>
                    </a:lnTo>
                    <a:lnTo>
                      <a:pt x="1792" y="2261"/>
                    </a:lnTo>
                    <a:lnTo>
                      <a:pt x="1800" y="2364"/>
                    </a:lnTo>
                    <a:lnTo>
                      <a:pt x="1805" y="2468"/>
                    </a:lnTo>
                    <a:lnTo>
                      <a:pt x="1809" y="2572"/>
                    </a:lnTo>
                    <a:lnTo>
                      <a:pt x="1811" y="2677"/>
                    </a:lnTo>
                    <a:lnTo>
                      <a:pt x="1811" y="2783"/>
                    </a:lnTo>
                    <a:lnTo>
                      <a:pt x="1809" y="2890"/>
                    </a:lnTo>
                    <a:lnTo>
                      <a:pt x="1805" y="2997"/>
                    </a:lnTo>
                    <a:lnTo>
                      <a:pt x="1800" y="3107"/>
                    </a:lnTo>
                    <a:lnTo>
                      <a:pt x="1793" y="3216"/>
                    </a:lnTo>
                    <a:lnTo>
                      <a:pt x="1578" y="3216"/>
                    </a:lnTo>
                    <a:lnTo>
                      <a:pt x="1363" y="3216"/>
                    </a:lnTo>
                    <a:lnTo>
                      <a:pt x="1149" y="3216"/>
                    </a:lnTo>
                    <a:lnTo>
                      <a:pt x="933" y="3216"/>
                    </a:lnTo>
                    <a:lnTo>
                      <a:pt x="719" y="3216"/>
                    </a:lnTo>
                    <a:lnTo>
                      <a:pt x="503" y="3216"/>
                    </a:lnTo>
                    <a:lnTo>
                      <a:pt x="288" y="3216"/>
                    </a:lnTo>
                    <a:lnTo>
                      <a:pt x="73" y="3216"/>
                    </a:lnTo>
                    <a:lnTo>
                      <a:pt x="60" y="3124"/>
                    </a:lnTo>
                    <a:lnTo>
                      <a:pt x="47" y="3033"/>
                    </a:lnTo>
                    <a:lnTo>
                      <a:pt x="37" y="2944"/>
                    </a:lnTo>
                    <a:lnTo>
                      <a:pt x="27" y="2856"/>
                    </a:lnTo>
                    <a:lnTo>
                      <a:pt x="19" y="2769"/>
                    </a:lnTo>
                    <a:lnTo>
                      <a:pt x="13" y="2683"/>
                    </a:lnTo>
                    <a:lnTo>
                      <a:pt x="8" y="2599"/>
                    </a:lnTo>
                    <a:lnTo>
                      <a:pt x="3" y="2516"/>
                    </a:lnTo>
                    <a:lnTo>
                      <a:pt x="1" y="2432"/>
                    </a:lnTo>
                    <a:lnTo>
                      <a:pt x="0" y="2351"/>
                    </a:lnTo>
                    <a:lnTo>
                      <a:pt x="1" y="2269"/>
                    </a:lnTo>
                    <a:lnTo>
                      <a:pt x="3" y="2189"/>
                    </a:lnTo>
                    <a:lnTo>
                      <a:pt x="6" y="2108"/>
                    </a:lnTo>
                    <a:lnTo>
                      <a:pt x="11" y="2029"/>
                    </a:lnTo>
                    <a:lnTo>
                      <a:pt x="18" y="1950"/>
                    </a:lnTo>
                    <a:lnTo>
                      <a:pt x="27" y="1870"/>
                    </a:lnTo>
                    <a:lnTo>
                      <a:pt x="36" y="1790"/>
                    </a:lnTo>
                    <a:lnTo>
                      <a:pt x="49" y="1710"/>
                    </a:lnTo>
                    <a:lnTo>
                      <a:pt x="61" y="1632"/>
                    </a:lnTo>
                    <a:lnTo>
                      <a:pt x="77" y="1551"/>
                    </a:lnTo>
                    <a:lnTo>
                      <a:pt x="94" y="1471"/>
                    </a:lnTo>
                    <a:lnTo>
                      <a:pt x="112" y="1390"/>
                    </a:lnTo>
                    <a:lnTo>
                      <a:pt x="133" y="1308"/>
                    </a:lnTo>
                    <a:lnTo>
                      <a:pt x="156" y="1225"/>
                    </a:lnTo>
                    <a:lnTo>
                      <a:pt x="180" y="1142"/>
                    </a:lnTo>
                    <a:lnTo>
                      <a:pt x="206" y="1059"/>
                    </a:lnTo>
                    <a:lnTo>
                      <a:pt x="234" y="973"/>
                    </a:lnTo>
                    <a:lnTo>
                      <a:pt x="265" y="888"/>
                    </a:lnTo>
                    <a:lnTo>
                      <a:pt x="297" y="800"/>
                    </a:lnTo>
                    <a:lnTo>
                      <a:pt x="331" y="711"/>
                    </a:lnTo>
                    <a:lnTo>
                      <a:pt x="368" y="621"/>
                    </a:lnTo>
                    <a:lnTo>
                      <a:pt x="405" y="529"/>
                    </a:lnTo>
                    <a:lnTo>
                      <a:pt x="436" y="525"/>
                    </a:lnTo>
                    <a:lnTo>
                      <a:pt x="466" y="520"/>
                    </a:lnTo>
                    <a:lnTo>
                      <a:pt x="494" y="515"/>
                    </a:lnTo>
                    <a:lnTo>
                      <a:pt x="522" y="507"/>
                    </a:lnTo>
                    <a:lnTo>
                      <a:pt x="549" y="499"/>
                    </a:lnTo>
                    <a:lnTo>
                      <a:pt x="575" y="490"/>
                    </a:lnTo>
                    <a:lnTo>
                      <a:pt x="600" y="479"/>
                    </a:lnTo>
                    <a:lnTo>
                      <a:pt x="624" y="468"/>
                    </a:lnTo>
                    <a:lnTo>
                      <a:pt x="648" y="456"/>
                    </a:lnTo>
                    <a:lnTo>
                      <a:pt x="671" y="443"/>
                    </a:lnTo>
                    <a:lnTo>
                      <a:pt x="693" y="429"/>
                    </a:lnTo>
                    <a:lnTo>
                      <a:pt x="714" y="414"/>
                    </a:lnTo>
                    <a:lnTo>
                      <a:pt x="734" y="398"/>
                    </a:lnTo>
                    <a:lnTo>
                      <a:pt x="754" y="382"/>
                    </a:lnTo>
                    <a:lnTo>
                      <a:pt x="772" y="365"/>
                    </a:lnTo>
                    <a:lnTo>
                      <a:pt x="791" y="348"/>
                    </a:lnTo>
                    <a:lnTo>
                      <a:pt x="809" y="330"/>
                    </a:lnTo>
                    <a:lnTo>
                      <a:pt x="826" y="310"/>
                    </a:lnTo>
                    <a:lnTo>
                      <a:pt x="842" y="291"/>
                    </a:lnTo>
                    <a:lnTo>
                      <a:pt x="858" y="272"/>
                    </a:lnTo>
                    <a:lnTo>
                      <a:pt x="873" y="251"/>
                    </a:lnTo>
                    <a:lnTo>
                      <a:pt x="886" y="229"/>
                    </a:lnTo>
                    <a:lnTo>
                      <a:pt x="901" y="208"/>
                    </a:lnTo>
                    <a:lnTo>
                      <a:pt x="914" y="186"/>
                    </a:lnTo>
                    <a:lnTo>
                      <a:pt x="926" y="163"/>
                    </a:lnTo>
                    <a:lnTo>
                      <a:pt x="939" y="142"/>
                    </a:lnTo>
                    <a:lnTo>
                      <a:pt x="950" y="119"/>
                    </a:lnTo>
                    <a:lnTo>
                      <a:pt x="962" y="95"/>
                    </a:lnTo>
                    <a:lnTo>
                      <a:pt x="982" y="48"/>
                    </a:lnTo>
                    <a:lnTo>
                      <a:pt x="100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5662440" y="4137120"/>
                <a:ext cx="277920" cy="1036440"/>
              </a:xfrm>
              <a:custGeom>
                <a:avLst/>
                <a:gdLst/>
                <a:ahLst/>
                <a:rect l="l" t="t" r="r" b="b"/>
                <a:pathLst>
                  <a:path w="871" h="3267">
                    <a:moveTo>
                      <a:pt x="820" y="3267"/>
                    </a:moveTo>
                    <a:lnTo>
                      <a:pt x="854" y="3237"/>
                    </a:lnTo>
                    <a:lnTo>
                      <a:pt x="861" y="3126"/>
                    </a:lnTo>
                    <a:lnTo>
                      <a:pt x="865" y="3016"/>
                    </a:lnTo>
                    <a:lnTo>
                      <a:pt x="869" y="2908"/>
                    </a:lnTo>
                    <a:lnTo>
                      <a:pt x="871" y="2801"/>
                    </a:lnTo>
                    <a:lnTo>
                      <a:pt x="871" y="2695"/>
                    </a:lnTo>
                    <a:lnTo>
                      <a:pt x="869" y="2589"/>
                    </a:lnTo>
                    <a:lnTo>
                      <a:pt x="865" y="2485"/>
                    </a:lnTo>
                    <a:lnTo>
                      <a:pt x="860" y="2380"/>
                    </a:lnTo>
                    <a:lnTo>
                      <a:pt x="853" y="2277"/>
                    </a:lnTo>
                    <a:lnTo>
                      <a:pt x="843" y="2174"/>
                    </a:lnTo>
                    <a:lnTo>
                      <a:pt x="831" y="2073"/>
                    </a:lnTo>
                    <a:lnTo>
                      <a:pt x="817" y="1971"/>
                    </a:lnTo>
                    <a:lnTo>
                      <a:pt x="802" y="1870"/>
                    </a:lnTo>
                    <a:lnTo>
                      <a:pt x="783" y="1769"/>
                    </a:lnTo>
                    <a:lnTo>
                      <a:pt x="763" y="1670"/>
                    </a:lnTo>
                    <a:lnTo>
                      <a:pt x="741" y="1571"/>
                    </a:lnTo>
                    <a:lnTo>
                      <a:pt x="716" y="1472"/>
                    </a:lnTo>
                    <a:lnTo>
                      <a:pt x="690" y="1372"/>
                    </a:lnTo>
                    <a:lnTo>
                      <a:pt x="660" y="1274"/>
                    </a:lnTo>
                    <a:lnTo>
                      <a:pt x="628" y="1176"/>
                    </a:lnTo>
                    <a:lnTo>
                      <a:pt x="595" y="1078"/>
                    </a:lnTo>
                    <a:lnTo>
                      <a:pt x="559" y="980"/>
                    </a:lnTo>
                    <a:lnTo>
                      <a:pt x="520" y="883"/>
                    </a:lnTo>
                    <a:lnTo>
                      <a:pt x="479" y="785"/>
                    </a:lnTo>
                    <a:lnTo>
                      <a:pt x="436" y="687"/>
                    </a:lnTo>
                    <a:lnTo>
                      <a:pt x="389" y="590"/>
                    </a:lnTo>
                    <a:lnTo>
                      <a:pt x="340" y="492"/>
                    </a:lnTo>
                    <a:lnTo>
                      <a:pt x="289" y="393"/>
                    </a:lnTo>
                    <a:lnTo>
                      <a:pt x="235" y="295"/>
                    </a:lnTo>
                    <a:lnTo>
                      <a:pt x="178" y="197"/>
                    </a:lnTo>
                    <a:lnTo>
                      <a:pt x="119" y="99"/>
                    </a:lnTo>
                    <a:lnTo>
                      <a:pt x="57" y="0"/>
                    </a:lnTo>
                    <a:lnTo>
                      <a:pt x="0" y="36"/>
                    </a:lnTo>
                    <a:lnTo>
                      <a:pt x="62" y="134"/>
                    </a:lnTo>
                    <a:lnTo>
                      <a:pt x="120" y="231"/>
                    </a:lnTo>
                    <a:lnTo>
                      <a:pt x="176" y="328"/>
                    </a:lnTo>
                    <a:lnTo>
                      <a:pt x="229" y="425"/>
                    </a:lnTo>
                    <a:lnTo>
                      <a:pt x="281" y="522"/>
                    </a:lnTo>
                    <a:lnTo>
                      <a:pt x="328" y="619"/>
                    </a:lnTo>
                    <a:lnTo>
                      <a:pt x="374" y="715"/>
                    </a:lnTo>
                    <a:lnTo>
                      <a:pt x="417" y="811"/>
                    </a:lnTo>
                    <a:lnTo>
                      <a:pt x="457" y="908"/>
                    </a:lnTo>
                    <a:lnTo>
                      <a:pt x="496" y="1004"/>
                    </a:lnTo>
                    <a:lnTo>
                      <a:pt x="531" y="1101"/>
                    </a:lnTo>
                    <a:lnTo>
                      <a:pt x="564" y="1197"/>
                    </a:lnTo>
                    <a:lnTo>
                      <a:pt x="596" y="1294"/>
                    </a:lnTo>
                    <a:lnTo>
                      <a:pt x="625" y="1391"/>
                    </a:lnTo>
                    <a:lnTo>
                      <a:pt x="651" y="1489"/>
                    </a:lnTo>
                    <a:lnTo>
                      <a:pt x="675" y="1586"/>
                    </a:lnTo>
                    <a:lnTo>
                      <a:pt x="698" y="1684"/>
                    </a:lnTo>
                    <a:lnTo>
                      <a:pt x="717" y="1782"/>
                    </a:lnTo>
                    <a:lnTo>
                      <a:pt x="735" y="1881"/>
                    </a:lnTo>
                    <a:lnTo>
                      <a:pt x="750" y="1980"/>
                    </a:lnTo>
                    <a:lnTo>
                      <a:pt x="764" y="2081"/>
                    </a:lnTo>
                    <a:lnTo>
                      <a:pt x="775" y="2181"/>
                    </a:lnTo>
                    <a:lnTo>
                      <a:pt x="786" y="2283"/>
                    </a:lnTo>
                    <a:lnTo>
                      <a:pt x="792" y="2384"/>
                    </a:lnTo>
                    <a:lnTo>
                      <a:pt x="798" y="2487"/>
                    </a:lnTo>
                    <a:lnTo>
                      <a:pt x="802" y="2591"/>
                    </a:lnTo>
                    <a:lnTo>
                      <a:pt x="804" y="2695"/>
                    </a:lnTo>
                    <a:lnTo>
                      <a:pt x="804" y="2801"/>
                    </a:lnTo>
                    <a:lnTo>
                      <a:pt x="802" y="2907"/>
                    </a:lnTo>
                    <a:lnTo>
                      <a:pt x="798" y="3014"/>
                    </a:lnTo>
                    <a:lnTo>
                      <a:pt x="794" y="3122"/>
                    </a:lnTo>
                    <a:lnTo>
                      <a:pt x="786" y="3232"/>
                    </a:lnTo>
                    <a:lnTo>
                      <a:pt x="820" y="3200"/>
                    </a:lnTo>
                    <a:lnTo>
                      <a:pt x="786" y="3232"/>
                    </a:lnTo>
                    <a:lnTo>
                      <a:pt x="787" y="3240"/>
                    </a:lnTo>
                    <a:lnTo>
                      <a:pt x="788" y="3247"/>
                    </a:lnTo>
                    <a:lnTo>
                      <a:pt x="791" y="3253"/>
                    </a:lnTo>
                    <a:lnTo>
                      <a:pt x="795" y="3258"/>
                    </a:lnTo>
                    <a:lnTo>
                      <a:pt x="799" y="3262"/>
                    </a:lnTo>
                    <a:lnTo>
                      <a:pt x="805" y="3265"/>
                    </a:lnTo>
                    <a:lnTo>
                      <a:pt x="811" y="3267"/>
                    </a:lnTo>
                    <a:lnTo>
                      <a:pt x="817" y="3267"/>
                    </a:lnTo>
                    <a:lnTo>
                      <a:pt x="823" y="3267"/>
                    </a:lnTo>
                    <a:lnTo>
                      <a:pt x="830" y="3266"/>
                    </a:lnTo>
                    <a:lnTo>
                      <a:pt x="836" y="3264"/>
                    </a:lnTo>
                    <a:lnTo>
                      <a:pt x="841" y="3261"/>
                    </a:lnTo>
                    <a:lnTo>
                      <a:pt x="846" y="3257"/>
                    </a:lnTo>
                    <a:lnTo>
                      <a:pt x="849" y="3251"/>
                    </a:lnTo>
                    <a:lnTo>
                      <a:pt x="852" y="3245"/>
                    </a:lnTo>
                    <a:lnTo>
                      <a:pt x="854" y="3237"/>
                    </a:lnTo>
                    <a:lnTo>
                      <a:pt x="820" y="32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5367240" y="5153040"/>
                <a:ext cx="555840" cy="20520"/>
              </a:xfrm>
              <a:custGeom>
                <a:avLst/>
                <a:gdLst/>
                <a:ahLst/>
                <a:rect l="l" t="t" r="r" b="b"/>
                <a:pathLst>
                  <a:path w="1754" h="67">
                    <a:moveTo>
                      <a:pt x="0" y="39"/>
                    </a:moveTo>
                    <a:lnTo>
                      <a:pt x="34" y="67"/>
                    </a:lnTo>
                    <a:lnTo>
                      <a:pt x="249" y="67"/>
                    </a:lnTo>
                    <a:lnTo>
                      <a:pt x="464" y="67"/>
                    </a:lnTo>
                    <a:lnTo>
                      <a:pt x="680" y="67"/>
                    </a:lnTo>
                    <a:lnTo>
                      <a:pt x="894" y="67"/>
                    </a:lnTo>
                    <a:lnTo>
                      <a:pt x="1110" y="67"/>
                    </a:lnTo>
                    <a:lnTo>
                      <a:pt x="1324" y="67"/>
                    </a:lnTo>
                    <a:lnTo>
                      <a:pt x="1539" y="67"/>
                    </a:lnTo>
                    <a:lnTo>
                      <a:pt x="1754" y="67"/>
                    </a:lnTo>
                    <a:lnTo>
                      <a:pt x="1754" y="0"/>
                    </a:lnTo>
                    <a:lnTo>
                      <a:pt x="1539" y="0"/>
                    </a:lnTo>
                    <a:lnTo>
                      <a:pt x="1324" y="0"/>
                    </a:lnTo>
                    <a:lnTo>
                      <a:pt x="1110" y="0"/>
                    </a:lnTo>
                    <a:lnTo>
                      <a:pt x="894" y="0"/>
                    </a:lnTo>
                    <a:lnTo>
                      <a:pt x="680" y="0"/>
                    </a:lnTo>
                    <a:lnTo>
                      <a:pt x="464" y="0"/>
                    </a:lnTo>
                    <a:lnTo>
                      <a:pt x="249" y="0"/>
                    </a:lnTo>
                    <a:lnTo>
                      <a:pt x="34" y="0"/>
                    </a:lnTo>
                    <a:lnTo>
                      <a:pt x="67" y="30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8" y="11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7"/>
                    </a:lnTo>
                    <a:lnTo>
                      <a:pt x="5" y="53"/>
                    </a:lnTo>
                    <a:lnTo>
                      <a:pt x="8" y="57"/>
                    </a:lnTo>
                    <a:lnTo>
                      <a:pt x="13" y="62"/>
                    </a:lnTo>
                    <a:lnTo>
                      <a:pt x="19" y="65"/>
                    </a:lnTo>
                    <a:lnTo>
                      <a:pt x="26" y="67"/>
                    </a:lnTo>
                    <a:lnTo>
                      <a:pt x="34" y="6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5343480" y="4300560"/>
                <a:ext cx="150840" cy="865080"/>
              </a:xfrm>
              <a:custGeom>
                <a:avLst/>
                <a:gdLst/>
                <a:ahLst/>
                <a:rect l="l" t="t" r="r" b="b"/>
                <a:pathLst>
                  <a:path w="474" h="2726">
                    <a:moveTo>
                      <a:pt x="436" y="0"/>
                    </a:moveTo>
                    <a:lnTo>
                      <a:pt x="409" y="21"/>
                    </a:lnTo>
                    <a:lnTo>
                      <a:pt x="370" y="113"/>
                    </a:lnTo>
                    <a:lnTo>
                      <a:pt x="333" y="203"/>
                    </a:lnTo>
                    <a:lnTo>
                      <a:pt x="299" y="292"/>
                    </a:lnTo>
                    <a:lnTo>
                      <a:pt x="267" y="381"/>
                    </a:lnTo>
                    <a:lnTo>
                      <a:pt x="236" y="468"/>
                    </a:lnTo>
                    <a:lnTo>
                      <a:pt x="208" y="554"/>
                    </a:lnTo>
                    <a:lnTo>
                      <a:pt x="182" y="638"/>
                    </a:lnTo>
                    <a:lnTo>
                      <a:pt x="158" y="721"/>
                    </a:lnTo>
                    <a:lnTo>
                      <a:pt x="135" y="805"/>
                    </a:lnTo>
                    <a:lnTo>
                      <a:pt x="114" y="887"/>
                    </a:lnTo>
                    <a:lnTo>
                      <a:pt x="95" y="968"/>
                    </a:lnTo>
                    <a:lnTo>
                      <a:pt x="78" y="1050"/>
                    </a:lnTo>
                    <a:lnTo>
                      <a:pt x="62" y="1130"/>
                    </a:lnTo>
                    <a:lnTo>
                      <a:pt x="50" y="1211"/>
                    </a:lnTo>
                    <a:lnTo>
                      <a:pt x="37" y="1291"/>
                    </a:lnTo>
                    <a:lnTo>
                      <a:pt x="27" y="1370"/>
                    </a:lnTo>
                    <a:lnTo>
                      <a:pt x="19" y="1451"/>
                    </a:lnTo>
                    <a:lnTo>
                      <a:pt x="12" y="1531"/>
                    </a:lnTo>
                    <a:lnTo>
                      <a:pt x="6" y="1612"/>
                    </a:lnTo>
                    <a:lnTo>
                      <a:pt x="3" y="1693"/>
                    </a:lnTo>
                    <a:lnTo>
                      <a:pt x="0" y="1774"/>
                    </a:lnTo>
                    <a:lnTo>
                      <a:pt x="0" y="1856"/>
                    </a:lnTo>
                    <a:lnTo>
                      <a:pt x="2" y="1939"/>
                    </a:lnTo>
                    <a:lnTo>
                      <a:pt x="4" y="2022"/>
                    </a:lnTo>
                    <a:lnTo>
                      <a:pt x="7" y="2106"/>
                    </a:lnTo>
                    <a:lnTo>
                      <a:pt x="13" y="2191"/>
                    </a:lnTo>
                    <a:lnTo>
                      <a:pt x="20" y="2276"/>
                    </a:lnTo>
                    <a:lnTo>
                      <a:pt x="28" y="2364"/>
                    </a:lnTo>
                    <a:lnTo>
                      <a:pt x="37" y="2452"/>
                    </a:lnTo>
                    <a:lnTo>
                      <a:pt x="48" y="2542"/>
                    </a:lnTo>
                    <a:lnTo>
                      <a:pt x="60" y="2633"/>
                    </a:lnTo>
                    <a:lnTo>
                      <a:pt x="73" y="2726"/>
                    </a:lnTo>
                    <a:lnTo>
                      <a:pt x="140" y="2717"/>
                    </a:lnTo>
                    <a:lnTo>
                      <a:pt x="127" y="2624"/>
                    </a:lnTo>
                    <a:lnTo>
                      <a:pt x="114" y="2534"/>
                    </a:lnTo>
                    <a:lnTo>
                      <a:pt x="104" y="2445"/>
                    </a:lnTo>
                    <a:lnTo>
                      <a:pt x="95" y="2357"/>
                    </a:lnTo>
                    <a:lnTo>
                      <a:pt x="87" y="2272"/>
                    </a:lnTo>
                    <a:lnTo>
                      <a:pt x="80" y="2186"/>
                    </a:lnTo>
                    <a:lnTo>
                      <a:pt x="75" y="2102"/>
                    </a:lnTo>
                    <a:lnTo>
                      <a:pt x="71" y="2020"/>
                    </a:lnTo>
                    <a:lnTo>
                      <a:pt x="69" y="1937"/>
                    </a:lnTo>
                    <a:lnTo>
                      <a:pt x="68" y="1856"/>
                    </a:lnTo>
                    <a:lnTo>
                      <a:pt x="68" y="1775"/>
                    </a:lnTo>
                    <a:lnTo>
                      <a:pt x="70" y="1696"/>
                    </a:lnTo>
                    <a:lnTo>
                      <a:pt x="73" y="1616"/>
                    </a:lnTo>
                    <a:lnTo>
                      <a:pt x="79" y="1537"/>
                    </a:lnTo>
                    <a:lnTo>
                      <a:pt x="86" y="1457"/>
                    </a:lnTo>
                    <a:lnTo>
                      <a:pt x="94" y="1378"/>
                    </a:lnTo>
                    <a:lnTo>
                      <a:pt x="104" y="1300"/>
                    </a:lnTo>
                    <a:lnTo>
                      <a:pt x="116" y="1221"/>
                    </a:lnTo>
                    <a:lnTo>
                      <a:pt x="129" y="1142"/>
                    </a:lnTo>
                    <a:lnTo>
                      <a:pt x="144" y="1062"/>
                    </a:lnTo>
                    <a:lnTo>
                      <a:pt x="161" y="983"/>
                    </a:lnTo>
                    <a:lnTo>
                      <a:pt x="179" y="903"/>
                    </a:lnTo>
                    <a:lnTo>
                      <a:pt x="200" y="822"/>
                    </a:lnTo>
                    <a:lnTo>
                      <a:pt x="223" y="740"/>
                    </a:lnTo>
                    <a:lnTo>
                      <a:pt x="247" y="657"/>
                    </a:lnTo>
                    <a:lnTo>
                      <a:pt x="272" y="574"/>
                    </a:lnTo>
                    <a:lnTo>
                      <a:pt x="300" y="490"/>
                    </a:lnTo>
                    <a:lnTo>
                      <a:pt x="330" y="403"/>
                    </a:lnTo>
                    <a:lnTo>
                      <a:pt x="362" y="316"/>
                    </a:lnTo>
                    <a:lnTo>
                      <a:pt x="396" y="228"/>
                    </a:lnTo>
                    <a:lnTo>
                      <a:pt x="433" y="138"/>
                    </a:lnTo>
                    <a:lnTo>
                      <a:pt x="470" y="47"/>
                    </a:lnTo>
                    <a:lnTo>
                      <a:pt x="443" y="68"/>
                    </a:lnTo>
                    <a:lnTo>
                      <a:pt x="470" y="47"/>
                    </a:lnTo>
                    <a:lnTo>
                      <a:pt x="472" y="39"/>
                    </a:lnTo>
                    <a:lnTo>
                      <a:pt x="474" y="32"/>
                    </a:lnTo>
                    <a:lnTo>
                      <a:pt x="472" y="25"/>
                    </a:lnTo>
                    <a:lnTo>
                      <a:pt x="471" y="20"/>
                    </a:lnTo>
                    <a:lnTo>
                      <a:pt x="468" y="14"/>
                    </a:lnTo>
                    <a:lnTo>
                      <a:pt x="463" y="9"/>
                    </a:lnTo>
                    <a:lnTo>
                      <a:pt x="459" y="6"/>
                    </a:lnTo>
                    <a:lnTo>
                      <a:pt x="453" y="3"/>
                    </a:lnTo>
                    <a:lnTo>
                      <a:pt x="446" y="1"/>
                    </a:lnTo>
                    <a:lnTo>
                      <a:pt x="441" y="0"/>
                    </a:lnTo>
                    <a:lnTo>
                      <a:pt x="434" y="0"/>
                    </a:lnTo>
                    <a:lnTo>
                      <a:pt x="428" y="1"/>
                    </a:lnTo>
                    <a:lnTo>
                      <a:pt x="422" y="5"/>
                    </a:lnTo>
                    <a:lnTo>
                      <a:pt x="417" y="8"/>
                    </a:lnTo>
                    <a:lnTo>
                      <a:pt x="412" y="14"/>
                    </a:lnTo>
                    <a:lnTo>
                      <a:pt x="409" y="21"/>
                    </a:lnTo>
                    <a:lnTo>
                      <a:pt x="43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5481720" y="4132440"/>
                <a:ext cx="201600" cy="188640"/>
              </a:xfrm>
              <a:custGeom>
                <a:avLst/>
                <a:gdLst/>
                <a:ahLst/>
                <a:rect l="l" t="t" r="r" b="b"/>
                <a:pathLst>
                  <a:path w="634" h="597">
                    <a:moveTo>
                      <a:pt x="628" y="16"/>
                    </a:moveTo>
                    <a:lnTo>
                      <a:pt x="568" y="23"/>
                    </a:lnTo>
                    <a:lnTo>
                      <a:pt x="549" y="68"/>
                    </a:lnTo>
                    <a:lnTo>
                      <a:pt x="529" y="115"/>
                    </a:lnTo>
                    <a:lnTo>
                      <a:pt x="519" y="137"/>
                    </a:lnTo>
                    <a:lnTo>
                      <a:pt x="507" y="160"/>
                    </a:lnTo>
                    <a:lnTo>
                      <a:pt x="495" y="181"/>
                    </a:lnTo>
                    <a:lnTo>
                      <a:pt x="483" y="203"/>
                    </a:lnTo>
                    <a:lnTo>
                      <a:pt x="470" y="225"/>
                    </a:lnTo>
                    <a:lnTo>
                      <a:pt x="457" y="245"/>
                    </a:lnTo>
                    <a:lnTo>
                      <a:pt x="443" y="266"/>
                    </a:lnTo>
                    <a:lnTo>
                      <a:pt x="429" y="285"/>
                    </a:lnTo>
                    <a:lnTo>
                      <a:pt x="414" y="305"/>
                    </a:lnTo>
                    <a:lnTo>
                      <a:pt x="398" y="323"/>
                    </a:lnTo>
                    <a:lnTo>
                      <a:pt x="382" y="341"/>
                    </a:lnTo>
                    <a:lnTo>
                      <a:pt x="366" y="358"/>
                    </a:lnTo>
                    <a:lnTo>
                      <a:pt x="348" y="375"/>
                    </a:lnTo>
                    <a:lnTo>
                      <a:pt x="331" y="391"/>
                    </a:lnTo>
                    <a:lnTo>
                      <a:pt x="311" y="406"/>
                    </a:lnTo>
                    <a:lnTo>
                      <a:pt x="292" y="421"/>
                    </a:lnTo>
                    <a:lnTo>
                      <a:pt x="272" y="435"/>
                    </a:lnTo>
                    <a:lnTo>
                      <a:pt x="251" y="448"/>
                    </a:lnTo>
                    <a:lnTo>
                      <a:pt x="230" y="461"/>
                    </a:lnTo>
                    <a:lnTo>
                      <a:pt x="207" y="472"/>
                    </a:lnTo>
                    <a:lnTo>
                      <a:pt x="185" y="482"/>
                    </a:lnTo>
                    <a:lnTo>
                      <a:pt x="161" y="492"/>
                    </a:lnTo>
                    <a:lnTo>
                      <a:pt x="137" y="501"/>
                    </a:lnTo>
                    <a:lnTo>
                      <a:pt x="111" y="509"/>
                    </a:lnTo>
                    <a:lnTo>
                      <a:pt x="84" y="516"/>
                    </a:lnTo>
                    <a:lnTo>
                      <a:pt x="57" y="521"/>
                    </a:lnTo>
                    <a:lnTo>
                      <a:pt x="30" y="526"/>
                    </a:lnTo>
                    <a:lnTo>
                      <a:pt x="0" y="529"/>
                    </a:lnTo>
                    <a:lnTo>
                      <a:pt x="7" y="597"/>
                    </a:lnTo>
                    <a:lnTo>
                      <a:pt x="39" y="593"/>
                    </a:lnTo>
                    <a:lnTo>
                      <a:pt x="70" y="587"/>
                    </a:lnTo>
                    <a:lnTo>
                      <a:pt x="100" y="581"/>
                    </a:lnTo>
                    <a:lnTo>
                      <a:pt x="129" y="574"/>
                    </a:lnTo>
                    <a:lnTo>
                      <a:pt x="157" y="565"/>
                    </a:lnTo>
                    <a:lnTo>
                      <a:pt x="185" y="555"/>
                    </a:lnTo>
                    <a:lnTo>
                      <a:pt x="212" y="544"/>
                    </a:lnTo>
                    <a:lnTo>
                      <a:pt x="237" y="533"/>
                    </a:lnTo>
                    <a:lnTo>
                      <a:pt x="262" y="520"/>
                    </a:lnTo>
                    <a:lnTo>
                      <a:pt x="286" y="505"/>
                    </a:lnTo>
                    <a:lnTo>
                      <a:pt x="309" y="492"/>
                    </a:lnTo>
                    <a:lnTo>
                      <a:pt x="332" y="476"/>
                    </a:lnTo>
                    <a:lnTo>
                      <a:pt x="353" y="460"/>
                    </a:lnTo>
                    <a:lnTo>
                      <a:pt x="374" y="443"/>
                    </a:lnTo>
                    <a:lnTo>
                      <a:pt x="394" y="424"/>
                    </a:lnTo>
                    <a:lnTo>
                      <a:pt x="413" y="406"/>
                    </a:lnTo>
                    <a:lnTo>
                      <a:pt x="431" y="387"/>
                    </a:lnTo>
                    <a:lnTo>
                      <a:pt x="449" y="367"/>
                    </a:lnTo>
                    <a:lnTo>
                      <a:pt x="466" y="347"/>
                    </a:lnTo>
                    <a:lnTo>
                      <a:pt x="482" y="325"/>
                    </a:lnTo>
                    <a:lnTo>
                      <a:pt x="498" y="305"/>
                    </a:lnTo>
                    <a:lnTo>
                      <a:pt x="513" y="282"/>
                    </a:lnTo>
                    <a:lnTo>
                      <a:pt x="528" y="260"/>
                    </a:lnTo>
                    <a:lnTo>
                      <a:pt x="541" y="237"/>
                    </a:lnTo>
                    <a:lnTo>
                      <a:pt x="554" y="214"/>
                    </a:lnTo>
                    <a:lnTo>
                      <a:pt x="567" y="190"/>
                    </a:lnTo>
                    <a:lnTo>
                      <a:pt x="579" y="168"/>
                    </a:lnTo>
                    <a:lnTo>
                      <a:pt x="590" y="142"/>
                    </a:lnTo>
                    <a:lnTo>
                      <a:pt x="612" y="95"/>
                    </a:lnTo>
                    <a:lnTo>
                      <a:pt x="632" y="46"/>
                    </a:lnTo>
                    <a:lnTo>
                      <a:pt x="571" y="52"/>
                    </a:lnTo>
                    <a:lnTo>
                      <a:pt x="632" y="46"/>
                    </a:lnTo>
                    <a:lnTo>
                      <a:pt x="633" y="39"/>
                    </a:lnTo>
                    <a:lnTo>
                      <a:pt x="634" y="32"/>
                    </a:lnTo>
                    <a:lnTo>
                      <a:pt x="633" y="25"/>
                    </a:lnTo>
                    <a:lnTo>
                      <a:pt x="630" y="18"/>
                    </a:lnTo>
                    <a:lnTo>
                      <a:pt x="627" y="14"/>
                    </a:lnTo>
                    <a:lnTo>
                      <a:pt x="622" y="9"/>
                    </a:lnTo>
                    <a:lnTo>
                      <a:pt x="617" y="6"/>
                    </a:lnTo>
                    <a:lnTo>
                      <a:pt x="611" y="2"/>
                    </a:lnTo>
                    <a:lnTo>
                      <a:pt x="605" y="1"/>
                    </a:lnTo>
                    <a:lnTo>
                      <a:pt x="598" y="0"/>
                    </a:lnTo>
                    <a:lnTo>
                      <a:pt x="593" y="1"/>
                    </a:lnTo>
                    <a:lnTo>
                      <a:pt x="587" y="2"/>
                    </a:lnTo>
                    <a:lnTo>
                      <a:pt x="581" y="6"/>
                    </a:lnTo>
                    <a:lnTo>
                      <a:pt x="576" y="9"/>
                    </a:lnTo>
                    <a:lnTo>
                      <a:pt x="571" y="15"/>
                    </a:lnTo>
                    <a:lnTo>
                      <a:pt x="568" y="23"/>
                    </a:lnTo>
                    <a:lnTo>
                      <a:pt x="628" y="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5618160" y="4267080"/>
                <a:ext cx="663480" cy="1365480"/>
              </a:xfrm>
              <a:custGeom>
                <a:avLst/>
                <a:gdLst/>
                <a:ahLst/>
                <a:rect l="l" t="t" r="r" b="b"/>
                <a:pathLst>
                  <a:path w="2089" h="4297">
                    <a:moveTo>
                      <a:pt x="1288" y="0"/>
                    </a:moveTo>
                    <a:lnTo>
                      <a:pt x="1358" y="113"/>
                    </a:lnTo>
                    <a:lnTo>
                      <a:pt x="1426" y="228"/>
                    </a:lnTo>
                    <a:lnTo>
                      <a:pt x="1490" y="348"/>
                    </a:lnTo>
                    <a:lnTo>
                      <a:pt x="1549" y="469"/>
                    </a:lnTo>
                    <a:lnTo>
                      <a:pt x="1605" y="594"/>
                    </a:lnTo>
                    <a:lnTo>
                      <a:pt x="1657" y="722"/>
                    </a:lnTo>
                    <a:lnTo>
                      <a:pt x="1706" y="851"/>
                    </a:lnTo>
                    <a:lnTo>
                      <a:pt x="1752" y="983"/>
                    </a:lnTo>
                    <a:lnTo>
                      <a:pt x="1793" y="1118"/>
                    </a:lnTo>
                    <a:lnTo>
                      <a:pt x="1832" y="1254"/>
                    </a:lnTo>
                    <a:lnTo>
                      <a:pt x="1868" y="1390"/>
                    </a:lnTo>
                    <a:lnTo>
                      <a:pt x="1900" y="1530"/>
                    </a:lnTo>
                    <a:lnTo>
                      <a:pt x="1930" y="1670"/>
                    </a:lnTo>
                    <a:lnTo>
                      <a:pt x="1957" y="1810"/>
                    </a:lnTo>
                    <a:lnTo>
                      <a:pt x="1981" y="1953"/>
                    </a:lnTo>
                    <a:lnTo>
                      <a:pt x="2003" y="2096"/>
                    </a:lnTo>
                    <a:lnTo>
                      <a:pt x="2021" y="2238"/>
                    </a:lnTo>
                    <a:lnTo>
                      <a:pt x="2037" y="2381"/>
                    </a:lnTo>
                    <a:lnTo>
                      <a:pt x="2050" y="2524"/>
                    </a:lnTo>
                    <a:lnTo>
                      <a:pt x="2063" y="2667"/>
                    </a:lnTo>
                    <a:lnTo>
                      <a:pt x="2072" y="2810"/>
                    </a:lnTo>
                    <a:lnTo>
                      <a:pt x="2079" y="2952"/>
                    </a:lnTo>
                    <a:lnTo>
                      <a:pt x="2084" y="3094"/>
                    </a:lnTo>
                    <a:lnTo>
                      <a:pt x="2087" y="3234"/>
                    </a:lnTo>
                    <a:lnTo>
                      <a:pt x="2089" y="3373"/>
                    </a:lnTo>
                    <a:lnTo>
                      <a:pt x="2088" y="3510"/>
                    </a:lnTo>
                    <a:lnTo>
                      <a:pt x="2086" y="3647"/>
                    </a:lnTo>
                    <a:lnTo>
                      <a:pt x="2082" y="3782"/>
                    </a:lnTo>
                    <a:lnTo>
                      <a:pt x="2078" y="3914"/>
                    </a:lnTo>
                    <a:lnTo>
                      <a:pt x="2071" y="4044"/>
                    </a:lnTo>
                    <a:lnTo>
                      <a:pt x="2063" y="4172"/>
                    </a:lnTo>
                    <a:lnTo>
                      <a:pt x="2055" y="4297"/>
                    </a:lnTo>
                    <a:lnTo>
                      <a:pt x="1805" y="4297"/>
                    </a:lnTo>
                    <a:lnTo>
                      <a:pt x="1556" y="4297"/>
                    </a:lnTo>
                    <a:lnTo>
                      <a:pt x="1306" y="4297"/>
                    </a:lnTo>
                    <a:lnTo>
                      <a:pt x="1056" y="4297"/>
                    </a:lnTo>
                    <a:lnTo>
                      <a:pt x="807" y="4297"/>
                    </a:lnTo>
                    <a:lnTo>
                      <a:pt x="557" y="4297"/>
                    </a:lnTo>
                    <a:lnTo>
                      <a:pt x="306" y="4297"/>
                    </a:lnTo>
                    <a:lnTo>
                      <a:pt x="57" y="4297"/>
                    </a:lnTo>
                    <a:lnTo>
                      <a:pt x="42" y="4191"/>
                    </a:lnTo>
                    <a:lnTo>
                      <a:pt x="29" y="4083"/>
                    </a:lnTo>
                    <a:lnTo>
                      <a:pt x="19" y="3973"/>
                    </a:lnTo>
                    <a:lnTo>
                      <a:pt x="11" y="3862"/>
                    </a:lnTo>
                    <a:lnTo>
                      <a:pt x="5" y="3749"/>
                    </a:lnTo>
                    <a:lnTo>
                      <a:pt x="1" y="3635"/>
                    </a:lnTo>
                    <a:lnTo>
                      <a:pt x="0" y="3519"/>
                    </a:lnTo>
                    <a:lnTo>
                      <a:pt x="1" y="3402"/>
                    </a:lnTo>
                    <a:lnTo>
                      <a:pt x="3" y="3284"/>
                    </a:lnTo>
                    <a:lnTo>
                      <a:pt x="8" y="3166"/>
                    </a:lnTo>
                    <a:lnTo>
                      <a:pt x="14" y="3046"/>
                    </a:lnTo>
                    <a:lnTo>
                      <a:pt x="24" y="2926"/>
                    </a:lnTo>
                    <a:lnTo>
                      <a:pt x="34" y="2805"/>
                    </a:lnTo>
                    <a:lnTo>
                      <a:pt x="47" y="2684"/>
                    </a:lnTo>
                    <a:lnTo>
                      <a:pt x="62" y="2563"/>
                    </a:lnTo>
                    <a:lnTo>
                      <a:pt x="79" y="2441"/>
                    </a:lnTo>
                    <a:lnTo>
                      <a:pt x="98" y="2320"/>
                    </a:lnTo>
                    <a:lnTo>
                      <a:pt x="118" y="2199"/>
                    </a:lnTo>
                    <a:lnTo>
                      <a:pt x="141" y="2078"/>
                    </a:lnTo>
                    <a:lnTo>
                      <a:pt x="165" y="1957"/>
                    </a:lnTo>
                    <a:lnTo>
                      <a:pt x="191" y="1838"/>
                    </a:lnTo>
                    <a:lnTo>
                      <a:pt x="220" y="1718"/>
                    </a:lnTo>
                    <a:lnTo>
                      <a:pt x="249" y="1600"/>
                    </a:lnTo>
                    <a:lnTo>
                      <a:pt x="281" y="1483"/>
                    </a:lnTo>
                    <a:lnTo>
                      <a:pt x="314" y="1366"/>
                    </a:lnTo>
                    <a:lnTo>
                      <a:pt x="350" y="1250"/>
                    </a:lnTo>
                    <a:lnTo>
                      <a:pt x="386" y="1137"/>
                    </a:lnTo>
                    <a:lnTo>
                      <a:pt x="425" y="1024"/>
                    </a:lnTo>
                    <a:lnTo>
                      <a:pt x="465" y="914"/>
                    </a:lnTo>
                    <a:lnTo>
                      <a:pt x="507" y="804"/>
                    </a:lnTo>
                    <a:lnTo>
                      <a:pt x="550" y="697"/>
                    </a:lnTo>
                    <a:lnTo>
                      <a:pt x="595" y="591"/>
                    </a:lnTo>
                    <a:lnTo>
                      <a:pt x="630" y="587"/>
                    </a:lnTo>
                    <a:lnTo>
                      <a:pt x="664" y="582"/>
                    </a:lnTo>
                    <a:lnTo>
                      <a:pt x="698" y="575"/>
                    </a:lnTo>
                    <a:lnTo>
                      <a:pt x="730" y="567"/>
                    </a:lnTo>
                    <a:lnTo>
                      <a:pt x="761" y="558"/>
                    </a:lnTo>
                    <a:lnTo>
                      <a:pt x="792" y="547"/>
                    </a:lnTo>
                    <a:lnTo>
                      <a:pt x="820" y="536"/>
                    </a:lnTo>
                    <a:lnTo>
                      <a:pt x="849" y="525"/>
                    </a:lnTo>
                    <a:lnTo>
                      <a:pt x="876" y="511"/>
                    </a:lnTo>
                    <a:lnTo>
                      <a:pt x="902" y="496"/>
                    </a:lnTo>
                    <a:lnTo>
                      <a:pt x="929" y="480"/>
                    </a:lnTo>
                    <a:lnTo>
                      <a:pt x="953" y="464"/>
                    </a:lnTo>
                    <a:lnTo>
                      <a:pt x="977" y="447"/>
                    </a:lnTo>
                    <a:lnTo>
                      <a:pt x="999" y="429"/>
                    </a:lnTo>
                    <a:lnTo>
                      <a:pt x="1021" y="409"/>
                    </a:lnTo>
                    <a:lnTo>
                      <a:pt x="1043" y="390"/>
                    </a:lnTo>
                    <a:lnTo>
                      <a:pt x="1063" y="369"/>
                    </a:lnTo>
                    <a:lnTo>
                      <a:pt x="1083" y="348"/>
                    </a:lnTo>
                    <a:lnTo>
                      <a:pt x="1102" y="326"/>
                    </a:lnTo>
                    <a:lnTo>
                      <a:pt x="1119" y="303"/>
                    </a:lnTo>
                    <a:lnTo>
                      <a:pt x="1137" y="280"/>
                    </a:lnTo>
                    <a:lnTo>
                      <a:pt x="1153" y="258"/>
                    </a:lnTo>
                    <a:lnTo>
                      <a:pt x="1170" y="232"/>
                    </a:lnTo>
                    <a:lnTo>
                      <a:pt x="1185" y="209"/>
                    </a:lnTo>
                    <a:lnTo>
                      <a:pt x="1200" y="183"/>
                    </a:lnTo>
                    <a:lnTo>
                      <a:pt x="1214" y="158"/>
                    </a:lnTo>
                    <a:lnTo>
                      <a:pt x="1227" y="132"/>
                    </a:lnTo>
                    <a:lnTo>
                      <a:pt x="1241" y="106"/>
                    </a:lnTo>
                    <a:lnTo>
                      <a:pt x="1265" y="53"/>
                    </a:lnTo>
                    <a:lnTo>
                      <a:pt x="128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6018120" y="4262400"/>
                <a:ext cx="273240" cy="1381320"/>
              </a:xfrm>
              <a:custGeom>
                <a:avLst/>
                <a:gdLst/>
                <a:ahLst/>
                <a:rect l="l" t="t" r="r" b="b"/>
                <a:pathLst>
                  <a:path w="863" h="4350">
                    <a:moveTo>
                      <a:pt x="796" y="4350"/>
                    </a:moveTo>
                    <a:lnTo>
                      <a:pt x="829" y="4319"/>
                    </a:lnTo>
                    <a:lnTo>
                      <a:pt x="838" y="4193"/>
                    </a:lnTo>
                    <a:lnTo>
                      <a:pt x="846" y="4065"/>
                    </a:lnTo>
                    <a:lnTo>
                      <a:pt x="852" y="3934"/>
                    </a:lnTo>
                    <a:lnTo>
                      <a:pt x="858" y="3801"/>
                    </a:lnTo>
                    <a:lnTo>
                      <a:pt x="861" y="3666"/>
                    </a:lnTo>
                    <a:lnTo>
                      <a:pt x="863" y="3530"/>
                    </a:lnTo>
                    <a:lnTo>
                      <a:pt x="863" y="3392"/>
                    </a:lnTo>
                    <a:lnTo>
                      <a:pt x="862" y="3252"/>
                    </a:lnTo>
                    <a:lnTo>
                      <a:pt x="859" y="3112"/>
                    </a:lnTo>
                    <a:lnTo>
                      <a:pt x="853" y="2970"/>
                    </a:lnTo>
                    <a:lnTo>
                      <a:pt x="846" y="2828"/>
                    </a:lnTo>
                    <a:lnTo>
                      <a:pt x="837" y="2684"/>
                    </a:lnTo>
                    <a:lnTo>
                      <a:pt x="826" y="2540"/>
                    </a:lnTo>
                    <a:lnTo>
                      <a:pt x="812" y="2397"/>
                    </a:lnTo>
                    <a:lnTo>
                      <a:pt x="804" y="2324"/>
                    </a:lnTo>
                    <a:lnTo>
                      <a:pt x="795" y="2253"/>
                    </a:lnTo>
                    <a:lnTo>
                      <a:pt x="786" y="2181"/>
                    </a:lnTo>
                    <a:lnTo>
                      <a:pt x="777" y="2110"/>
                    </a:lnTo>
                    <a:lnTo>
                      <a:pt x="766" y="2038"/>
                    </a:lnTo>
                    <a:lnTo>
                      <a:pt x="755" y="1966"/>
                    </a:lnTo>
                    <a:lnTo>
                      <a:pt x="744" y="1895"/>
                    </a:lnTo>
                    <a:lnTo>
                      <a:pt x="731" y="1824"/>
                    </a:lnTo>
                    <a:lnTo>
                      <a:pt x="717" y="1753"/>
                    </a:lnTo>
                    <a:lnTo>
                      <a:pt x="704" y="1682"/>
                    </a:lnTo>
                    <a:lnTo>
                      <a:pt x="689" y="1611"/>
                    </a:lnTo>
                    <a:lnTo>
                      <a:pt x="674" y="1542"/>
                    </a:lnTo>
                    <a:lnTo>
                      <a:pt x="658" y="1471"/>
                    </a:lnTo>
                    <a:lnTo>
                      <a:pt x="641" y="1401"/>
                    </a:lnTo>
                    <a:lnTo>
                      <a:pt x="624" y="1332"/>
                    </a:lnTo>
                    <a:lnTo>
                      <a:pt x="606" y="1263"/>
                    </a:lnTo>
                    <a:lnTo>
                      <a:pt x="586" y="1195"/>
                    </a:lnTo>
                    <a:lnTo>
                      <a:pt x="567" y="1127"/>
                    </a:lnTo>
                    <a:lnTo>
                      <a:pt x="545" y="1059"/>
                    </a:lnTo>
                    <a:lnTo>
                      <a:pt x="525" y="992"/>
                    </a:lnTo>
                    <a:lnTo>
                      <a:pt x="502" y="925"/>
                    </a:lnTo>
                    <a:lnTo>
                      <a:pt x="478" y="858"/>
                    </a:lnTo>
                    <a:lnTo>
                      <a:pt x="454" y="793"/>
                    </a:lnTo>
                    <a:lnTo>
                      <a:pt x="429" y="728"/>
                    </a:lnTo>
                    <a:lnTo>
                      <a:pt x="404" y="663"/>
                    </a:lnTo>
                    <a:lnTo>
                      <a:pt x="377" y="599"/>
                    </a:lnTo>
                    <a:lnTo>
                      <a:pt x="349" y="537"/>
                    </a:lnTo>
                    <a:lnTo>
                      <a:pt x="321" y="474"/>
                    </a:lnTo>
                    <a:lnTo>
                      <a:pt x="291" y="412"/>
                    </a:lnTo>
                    <a:lnTo>
                      <a:pt x="260" y="351"/>
                    </a:lnTo>
                    <a:lnTo>
                      <a:pt x="228" y="290"/>
                    </a:lnTo>
                    <a:lnTo>
                      <a:pt x="196" y="231"/>
                    </a:lnTo>
                    <a:lnTo>
                      <a:pt x="163" y="172"/>
                    </a:lnTo>
                    <a:lnTo>
                      <a:pt x="128" y="113"/>
                    </a:lnTo>
                    <a:lnTo>
                      <a:pt x="93" y="56"/>
                    </a:lnTo>
                    <a:lnTo>
                      <a:pt x="56" y="0"/>
                    </a:lnTo>
                    <a:lnTo>
                      <a:pt x="0" y="37"/>
                    </a:lnTo>
                    <a:lnTo>
                      <a:pt x="36" y="93"/>
                    </a:lnTo>
                    <a:lnTo>
                      <a:pt x="71" y="149"/>
                    </a:lnTo>
                    <a:lnTo>
                      <a:pt x="104" y="206"/>
                    </a:lnTo>
                    <a:lnTo>
                      <a:pt x="137" y="264"/>
                    </a:lnTo>
                    <a:lnTo>
                      <a:pt x="169" y="322"/>
                    </a:lnTo>
                    <a:lnTo>
                      <a:pt x="200" y="382"/>
                    </a:lnTo>
                    <a:lnTo>
                      <a:pt x="231" y="442"/>
                    </a:lnTo>
                    <a:lnTo>
                      <a:pt x="259" y="502"/>
                    </a:lnTo>
                    <a:lnTo>
                      <a:pt x="288" y="564"/>
                    </a:lnTo>
                    <a:lnTo>
                      <a:pt x="315" y="626"/>
                    </a:lnTo>
                    <a:lnTo>
                      <a:pt x="341" y="690"/>
                    </a:lnTo>
                    <a:lnTo>
                      <a:pt x="366" y="752"/>
                    </a:lnTo>
                    <a:lnTo>
                      <a:pt x="391" y="817"/>
                    </a:lnTo>
                    <a:lnTo>
                      <a:pt x="415" y="881"/>
                    </a:lnTo>
                    <a:lnTo>
                      <a:pt x="438" y="947"/>
                    </a:lnTo>
                    <a:lnTo>
                      <a:pt x="460" y="1012"/>
                    </a:lnTo>
                    <a:lnTo>
                      <a:pt x="481" y="1079"/>
                    </a:lnTo>
                    <a:lnTo>
                      <a:pt x="502" y="1146"/>
                    </a:lnTo>
                    <a:lnTo>
                      <a:pt x="521" y="1213"/>
                    </a:lnTo>
                    <a:lnTo>
                      <a:pt x="541" y="1281"/>
                    </a:lnTo>
                    <a:lnTo>
                      <a:pt x="559" y="1349"/>
                    </a:lnTo>
                    <a:lnTo>
                      <a:pt x="576" y="1417"/>
                    </a:lnTo>
                    <a:lnTo>
                      <a:pt x="592" y="1487"/>
                    </a:lnTo>
                    <a:lnTo>
                      <a:pt x="608" y="1555"/>
                    </a:lnTo>
                    <a:lnTo>
                      <a:pt x="624" y="1625"/>
                    </a:lnTo>
                    <a:lnTo>
                      <a:pt x="638" y="1695"/>
                    </a:lnTo>
                    <a:lnTo>
                      <a:pt x="651" y="1765"/>
                    </a:lnTo>
                    <a:lnTo>
                      <a:pt x="665" y="1836"/>
                    </a:lnTo>
                    <a:lnTo>
                      <a:pt x="676" y="1906"/>
                    </a:lnTo>
                    <a:lnTo>
                      <a:pt x="689" y="1976"/>
                    </a:lnTo>
                    <a:lnTo>
                      <a:pt x="699" y="2048"/>
                    </a:lnTo>
                    <a:lnTo>
                      <a:pt x="709" y="2119"/>
                    </a:lnTo>
                    <a:lnTo>
                      <a:pt x="720" y="2190"/>
                    </a:lnTo>
                    <a:lnTo>
                      <a:pt x="729" y="2262"/>
                    </a:lnTo>
                    <a:lnTo>
                      <a:pt x="737" y="2332"/>
                    </a:lnTo>
                    <a:lnTo>
                      <a:pt x="745" y="2403"/>
                    </a:lnTo>
                    <a:lnTo>
                      <a:pt x="758" y="2547"/>
                    </a:lnTo>
                    <a:lnTo>
                      <a:pt x="770" y="2688"/>
                    </a:lnTo>
                    <a:lnTo>
                      <a:pt x="779" y="2831"/>
                    </a:lnTo>
                    <a:lnTo>
                      <a:pt x="786" y="2972"/>
                    </a:lnTo>
                    <a:lnTo>
                      <a:pt x="791" y="3113"/>
                    </a:lnTo>
                    <a:lnTo>
                      <a:pt x="795" y="3253"/>
                    </a:lnTo>
                    <a:lnTo>
                      <a:pt x="796" y="3392"/>
                    </a:lnTo>
                    <a:lnTo>
                      <a:pt x="796" y="3529"/>
                    </a:lnTo>
                    <a:lnTo>
                      <a:pt x="794" y="3665"/>
                    </a:lnTo>
                    <a:lnTo>
                      <a:pt x="790" y="3800"/>
                    </a:lnTo>
                    <a:lnTo>
                      <a:pt x="785" y="3931"/>
                    </a:lnTo>
                    <a:lnTo>
                      <a:pt x="779" y="4061"/>
                    </a:lnTo>
                    <a:lnTo>
                      <a:pt x="771" y="4189"/>
                    </a:lnTo>
                    <a:lnTo>
                      <a:pt x="762" y="4314"/>
                    </a:lnTo>
                    <a:lnTo>
                      <a:pt x="796" y="4282"/>
                    </a:lnTo>
                    <a:lnTo>
                      <a:pt x="762" y="4314"/>
                    </a:lnTo>
                    <a:lnTo>
                      <a:pt x="762" y="4322"/>
                    </a:lnTo>
                    <a:lnTo>
                      <a:pt x="764" y="4329"/>
                    </a:lnTo>
                    <a:lnTo>
                      <a:pt x="766" y="4335"/>
                    </a:lnTo>
                    <a:lnTo>
                      <a:pt x="771" y="4340"/>
                    </a:lnTo>
                    <a:lnTo>
                      <a:pt x="776" y="4344"/>
                    </a:lnTo>
                    <a:lnTo>
                      <a:pt x="781" y="4347"/>
                    </a:lnTo>
                    <a:lnTo>
                      <a:pt x="787" y="4350"/>
                    </a:lnTo>
                    <a:lnTo>
                      <a:pt x="793" y="4350"/>
                    </a:lnTo>
                    <a:lnTo>
                      <a:pt x="799" y="4350"/>
                    </a:lnTo>
                    <a:lnTo>
                      <a:pt x="805" y="4348"/>
                    </a:lnTo>
                    <a:lnTo>
                      <a:pt x="811" y="4346"/>
                    </a:lnTo>
                    <a:lnTo>
                      <a:pt x="817" y="4344"/>
                    </a:lnTo>
                    <a:lnTo>
                      <a:pt x="821" y="4339"/>
                    </a:lnTo>
                    <a:lnTo>
                      <a:pt x="826" y="4334"/>
                    </a:lnTo>
                    <a:lnTo>
                      <a:pt x="828" y="4327"/>
                    </a:lnTo>
                    <a:lnTo>
                      <a:pt x="829" y="4319"/>
                    </a:lnTo>
                    <a:lnTo>
                      <a:pt x="796" y="435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5626080" y="5621400"/>
                <a:ext cx="644400" cy="22320"/>
              </a:xfrm>
              <a:custGeom>
                <a:avLst/>
                <a:gdLst/>
                <a:ahLst/>
                <a:rect l="l" t="t" r="r" b="b"/>
                <a:pathLst>
                  <a:path w="2031" h="68">
                    <a:moveTo>
                      <a:pt x="0" y="39"/>
                    </a:moveTo>
                    <a:lnTo>
                      <a:pt x="33" y="68"/>
                    </a:lnTo>
                    <a:lnTo>
                      <a:pt x="282" y="68"/>
                    </a:lnTo>
                    <a:lnTo>
                      <a:pt x="533" y="68"/>
                    </a:lnTo>
                    <a:lnTo>
                      <a:pt x="783" y="68"/>
                    </a:lnTo>
                    <a:lnTo>
                      <a:pt x="1032" y="68"/>
                    </a:lnTo>
                    <a:lnTo>
                      <a:pt x="1282" y="68"/>
                    </a:lnTo>
                    <a:lnTo>
                      <a:pt x="1532" y="68"/>
                    </a:lnTo>
                    <a:lnTo>
                      <a:pt x="1781" y="68"/>
                    </a:lnTo>
                    <a:lnTo>
                      <a:pt x="2031" y="68"/>
                    </a:lnTo>
                    <a:lnTo>
                      <a:pt x="2031" y="0"/>
                    </a:lnTo>
                    <a:lnTo>
                      <a:pt x="1781" y="0"/>
                    </a:lnTo>
                    <a:lnTo>
                      <a:pt x="1532" y="0"/>
                    </a:lnTo>
                    <a:lnTo>
                      <a:pt x="1282" y="0"/>
                    </a:lnTo>
                    <a:lnTo>
                      <a:pt x="1032" y="0"/>
                    </a:lnTo>
                    <a:lnTo>
                      <a:pt x="783" y="0"/>
                    </a:lnTo>
                    <a:lnTo>
                      <a:pt x="533" y="0"/>
                    </a:lnTo>
                    <a:lnTo>
                      <a:pt x="282" y="0"/>
                    </a:lnTo>
                    <a:lnTo>
                      <a:pt x="33" y="0"/>
                    </a:lnTo>
                    <a:lnTo>
                      <a:pt x="67" y="29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8" y="12"/>
                    </a:lnTo>
                    <a:lnTo>
                      <a:pt x="4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7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8" y="65"/>
                    </a:lnTo>
                    <a:lnTo>
                      <a:pt x="25" y="68"/>
                    </a:lnTo>
                    <a:lnTo>
                      <a:pt x="33" y="6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5607000" y="4444920"/>
                <a:ext cx="211320" cy="1189080"/>
              </a:xfrm>
              <a:custGeom>
                <a:avLst/>
                <a:gdLst/>
                <a:ahLst/>
                <a:rect l="l" t="t" r="r" b="b"/>
                <a:pathLst>
                  <a:path w="664" h="3744">
                    <a:moveTo>
                      <a:pt x="627" y="0"/>
                    </a:moveTo>
                    <a:lnTo>
                      <a:pt x="599" y="20"/>
                    </a:lnTo>
                    <a:lnTo>
                      <a:pt x="554" y="126"/>
                    </a:lnTo>
                    <a:lnTo>
                      <a:pt x="510" y="233"/>
                    </a:lnTo>
                    <a:lnTo>
                      <a:pt x="469" y="343"/>
                    </a:lnTo>
                    <a:lnTo>
                      <a:pt x="428" y="455"/>
                    </a:lnTo>
                    <a:lnTo>
                      <a:pt x="389" y="568"/>
                    </a:lnTo>
                    <a:lnTo>
                      <a:pt x="353" y="683"/>
                    </a:lnTo>
                    <a:lnTo>
                      <a:pt x="317" y="798"/>
                    </a:lnTo>
                    <a:lnTo>
                      <a:pt x="284" y="916"/>
                    </a:lnTo>
                    <a:lnTo>
                      <a:pt x="252" y="1033"/>
                    </a:lnTo>
                    <a:lnTo>
                      <a:pt x="222" y="1153"/>
                    </a:lnTo>
                    <a:lnTo>
                      <a:pt x="194" y="1273"/>
                    </a:lnTo>
                    <a:lnTo>
                      <a:pt x="168" y="1393"/>
                    </a:lnTo>
                    <a:lnTo>
                      <a:pt x="143" y="1514"/>
                    </a:lnTo>
                    <a:lnTo>
                      <a:pt x="120" y="1636"/>
                    </a:lnTo>
                    <a:lnTo>
                      <a:pt x="100" y="1757"/>
                    </a:lnTo>
                    <a:lnTo>
                      <a:pt x="80" y="1879"/>
                    </a:lnTo>
                    <a:lnTo>
                      <a:pt x="64" y="2001"/>
                    </a:lnTo>
                    <a:lnTo>
                      <a:pt x="48" y="2123"/>
                    </a:lnTo>
                    <a:lnTo>
                      <a:pt x="36" y="2244"/>
                    </a:lnTo>
                    <a:lnTo>
                      <a:pt x="24" y="2366"/>
                    </a:lnTo>
                    <a:lnTo>
                      <a:pt x="16" y="2486"/>
                    </a:lnTo>
                    <a:lnTo>
                      <a:pt x="10" y="2607"/>
                    </a:lnTo>
                    <a:lnTo>
                      <a:pt x="4" y="2725"/>
                    </a:lnTo>
                    <a:lnTo>
                      <a:pt x="2" y="2844"/>
                    </a:lnTo>
                    <a:lnTo>
                      <a:pt x="0" y="2961"/>
                    </a:lnTo>
                    <a:lnTo>
                      <a:pt x="3" y="3078"/>
                    </a:lnTo>
                    <a:lnTo>
                      <a:pt x="4" y="3135"/>
                    </a:lnTo>
                    <a:lnTo>
                      <a:pt x="6" y="3193"/>
                    </a:lnTo>
                    <a:lnTo>
                      <a:pt x="10" y="3250"/>
                    </a:lnTo>
                    <a:lnTo>
                      <a:pt x="12" y="3306"/>
                    </a:lnTo>
                    <a:lnTo>
                      <a:pt x="16" y="3363"/>
                    </a:lnTo>
                    <a:lnTo>
                      <a:pt x="21" y="3419"/>
                    </a:lnTo>
                    <a:lnTo>
                      <a:pt x="25" y="3474"/>
                    </a:lnTo>
                    <a:lnTo>
                      <a:pt x="31" y="3528"/>
                    </a:lnTo>
                    <a:lnTo>
                      <a:pt x="37" y="3583"/>
                    </a:lnTo>
                    <a:lnTo>
                      <a:pt x="44" y="3638"/>
                    </a:lnTo>
                    <a:lnTo>
                      <a:pt x="51" y="3692"/>
                    </a:lnTo>
                    <a:lnTo>
                      <a:pt x="59" y="3744"/>
                    </a:lnTo>
                    <a:lnTo>
                      <a:pt x="126" y="3734"/>
                    </a:lnTo>
                    <a:lnTo>
                      <a:pt x="118" y="3682"/>
                    </a:lnTo>
                    <a:lnTo>
                      <a:pt x="111" y="3629"/>
                    </a:lnTo>
                    <a:lnTo>
                      <a:pt x="104" y="3576"/>
                    </a:lnTo>
                    <a:lnTo>
                      <a:pt x="98" y="3522"/>
                    </a:lnTo>
                    <a:lnTo>
                      <a:pt x="93" y="3468"/>
                    </a:lnTo>
                    <a:lnTo>
                      <a:pt x="88" y="3413"/>
                    </a:lnTo>
                    <a:lnTo>
                      <a:pt x="84" y="3357"/>
                    </a:lnTo>
                    <a:lnTo>
                      <a:pt x="79" y="3302"/>
                    </a:lnTo>
                    <a:lnTo>
                      <a:pt x="77" y="3247"/>
                    </a:lnTo>
                    <a:lnTo>
                      <a:pt x="73" y="3190"/>
                    </a:lnTo>
                    <a:lnTo>
                      <a:pt x="71" y="3134"/>
                    </a:lnTo>
                    <a:lnTo>
                      <a:pt x="70" y="3077"/>
                    </a:lnTo>
                    <a:lnTo>
                      <a:pt x="69" y="2961"/>
                    </a:lnTo>
                    <a:lnTo>
                      <a:pt x="69" y="2845"/>
                    </a:lnTo>
                    <a:lnTo>
                      <a:pt x="71" y="2727"/>
                    </a:lnTo>
                    <a:lnTo>
                      <a:pt x="77" y="2609"/>
                    </a:lnTo>
                    <a:lnTo>
                      <a:pt x="84" y="2490"/>
                    </a:lnTo>
                    <a:lnTo>
                      <a:pt x="92" y="2370"/>
                    </a:lnTo>
                    <a:lnTo>
                      <a:pt x="103" y="2251"/>
                    </a:lnTo>
                    <a:lnTo>
                      <a:pt x="116" y="2130"/>
                    </a:lnTo>
                    <a:lnTo>
                      <a:pt x="130" y="2010"/>
                    </a:lnTo>
                    <a:lnTo>
                      <a:pt x="147" y="1889"/>
                    </a:lnTo>
                    <a:lnTo>
                      <a:pt x="166" y="1768"/>
                    </a:lnTo>
                    <a:lnTo>
                      <a:pt x="186" y="1647"/>
                    </a:lnTo>
                    <a:lnTo>
                      <a:pt x="209" y="1526"/>
                    </a:lnTo>
                    <a:lnTo>
                      <a:pt x="233" y="1406"/>
                    </a:lnTo>
                    <a:lnTo>
                      <a:pt x="259" y="1288"/>
                    </a:lnTo>
                    <a:lnTo>
                      <a:pt x="288" y="1168"/>
                    </a:lnTo>
                    <a:lnTo>
                      <a:pt x="317" y="1050"/>
                    </a:lnTo>
                    <a:lnTo>
                      <a:pt x="349" y="933"/>
                    </a:lnTo>
                    <a:lnTo>
                      <a:pt x="382" y="818"/>
                    </a:lnTo>
                    <a:lnTo>
                      <a:pt x="417" y="702"/>
                    </a:lnTo>
                    <a:lnTo>
                      <a:pt x="453" y="589"/>
                    </a:lnTo>
                    <a:lnTo>
                      <a:pt x="492" y="478"/>
                    </a:lnTo>
                    <a:lnTo>
                      <a:pt x="532" y="367"/>
                    </a:lnTo>
                    <a:lnTo>
                      <a:pt x="573" y="259"/>
                    </a:lnTo>
                    <a:lnTo>
                      <a:pt x="616" y="151"/>
                    </a:lnTo>
                    <a:lnTo>
                      <a:pt x="660" y="46"/>
                    </a:lnTo>
                    <a:lnTo>
                      <a:pt x="633" y="67"/>
                    </a:lnTo>
                    <a:lnTo>
                      <a:pt x="660" y="46"/>
                    </a:lnTo>
                    <a:lnTo>
                      <a:pt x="664" y="40"/>
                    </a:lnTo>
                    <a:lnTo>
                      <a:pt x="664" y="32"/>
                    </a:lnTo>
                    <a:lnTo>
                      <a:pt x="664" y="26"/>
                    </a:lnTo>
                    <a:lnTo>
                      <a:pt x="662" y="19"/>
                    </a:lnTo>
                    <a:lnTo>
                      <a:pt x="658" y="14"/>
                    </a:lnTo>
                    <a:lnTo>
                      <a:pt x="654" y="9"/>
                    </a:lnTo>
                    <a:lnTo>
                      <a:pt x="649" y="5"/>
                    </a:lnTo>
                    <a:lnTo>
                      <a:pt x="643" y="2"/>
                    </a:lnTo>
                    <a:lnTo>
                      <a:pt x="638" y="1"/>
                    </a:lnTo>
                    <a:lnTo>
                      <a:pt x="631" y="0"/>
                    </a:lnTo>
                    <a:lnTo>
                      <a:pt x="625" y="0"/>
                    </a:lnTo>
                    <a:lnTo>
                      <a:pt x="619" y="1"/>
                    </a:lnTo>
                    <a:lnTo>
                      <a:pt x="613" y="3"/>
                    </a:lnTo>
                    <a:lnTo>
                      <a:pt x="608" y="8"/>
                    </a:lnTo>
                    <a:lnTo>
                      <a:pt x="603" y="13"/>
                    </a:lnTo>
                    <a:lnTo>
                      <a:pt x="599" y="20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5805360" y="4255920"/>
                <a:ext cx="231840" cy="209880"/>
              </a:xfrm>
              <a:custGeom>
                <a:avLst/>
                <a:gdLst/>
                <a:ahLst/>
                <a:rect l="l" t="t" r="r" b="b"/>
                <a:pathLst>
                  <a:path w="730" h="660">
                    <a:moveTo>
                      <a:pt x="723" y="16"/>
                    </a:moveTo>
                    <a:lnTo>
                      <a:pt x="664" y="22"/>
                    </a:lnTo>
                    <a:lnTo>
                      <a:pt x="642" y="75"/>
                    </a:lnTo>
                    <a:lnTo>
                      <a:pt x="618" y="127"/>
                    </a:lnTo>
                    <a:lnTo>
                      <a:pt x="606" y="152"/>
                    </a:lnTo>
                    <a:lnTo>
                      <a:pt x="593" y="177"/>
                    </a:lnTo>
                    <a:lnTo>
                      <a:pt x="578" y="201"/>
                    </a:lnTo>
                    <a:lnTo>
                      <a:pt x="565" y="225"/>
                    </a:lnTo>
                    <a:lnTo>
                      <a:pt x="550" y="249"/>
                    </a:lnTo>
                    <a:lnTo>
                      <a:pt x="534" y="273"/>
                    </a:lnTo>
                    <a:lnTo>
                      <a:pt x="518" y="296"/>
                    </a:lnTo>
                    <a:lnTo>
                      <a:pt x="501" y="318"/>
                    </a:lnTo>
                    <a:lnTo>
                      <a:pt x="484" y="339"/>
                    </a:lnTo>
                    <a:lnTo>
                      <a:pt x="466" y="361"/>
                    </a:lnTo>
                    <a:lnTo>
                      <a:pt x="446" y="380"/>
                    </a:lnTo>
                    <a:lnTo>
                      <a:pt x="427" y="401"/>
                    </a:lnTo>
                    <a:lnTo>
                      <a:pt x="407" y="419"/>
                    </a:lnTo>
                    <a:lnTo>
                      <a:pt x="386" y="437"/>
                    </a:lnTo>
                    <a:lnTo>
                      <a:pt x="364" y="455"/>
                    </a:lnTo>
                    <a:lnTo>
                      <a:pt x="341" y="472"/>
                    </a:lnTo>
                    <a:lnTo>
                      <a:pt x="318" y="487"/>
                    </a:lnTo>
                    <a:lnTo>
                      <a:pt x="293" y="501"/>
                    </a:lnTo>
                    <a:lnTo>
                      <a:pt x="268" y="516"/>
                    </a:lnTo>
                    <a:lnTo>
                      <a:pt x="243" y="529"/>
                    </a:lnTo>
                    <a:lnTo>
                      <a:pt x="216" y="540"/>
                    </a:lnTo>
                    <a:lnTo>
                      <a:pt x="189" y="552"/>
                    </a:lnTo>
                    <a:lnTo>
                      <a:pt x="159" y="561"/>
                    </a:lnTo>
                    <a:lnTo>
                      <a:pt x="129" y="570"/>
                    </a:lnTo>
                    <a:lnTo>
                      <a:pt x="98" y="578"/>
                    </a:lnTo>
                    <a:lnTo>
                      <a:pt x="67" y="583"/>
                    </a:lnTo>
                    <a:lnTo>
                      <a:pt x="33" y="589"/>
                    </a:lnTo>
                    <a:lnTo>
                      <a:pt x="0" y="593"/>
                    </a:lnTo>
                    <a:lnTo>
                      <a:pt x="6" y="660"/>
                    </a:lnTo>
                    <a:lnTo>
                      <a:pt x="43" y="655"/>
                    </a:lnTo>
                    <a:lnTo>
                      <a:pt x="79" y="650"/>
                    </a:lnTo>
                    <a:lnTo>
                      <a:pt x="113" y="643"/>
                    </a:lnTo>
                    <a:lnTo>
                      <a:pt x="147" y="635"/>
                    </a:lnTo>
                    <a:lnTo>
                      <a:pt x="179" y="626"/>
                    </a:lnTo>
                    <a:lnTo>
                      <a:pt x="211" y="614"/>
                    </a:lnTo>
                    <a:lnTo>
                      <a:pt x="242" y="603"/>
                    </a:lnTo>
                    <a:lnTo>
                      <a:pt x="272" y="589"/>
                    </a:lnTo>
                    <a:lnTo>
                      <a:pt x="300" y="575"/>
                    </a:lnTo>
                    <a:lnTo>
                      <a:pt x="328" y="561"/>
                    </a:lnTo>
                    <a:lnTo>
                      <a:pt x="354" y="544"/>
                    </a:lnTo>
                    <a:lnTo>
                      <a:pt x="380" y="526"/>
                    </a:lnTo>
                    <a:lnTo>
                      <a:pt x="405" y="508"/>
                    </a:lnTo>
                    <a:lnTo>
                      <a:pt x="429" y="490"/>
                    </a:lnTo>
                    <a:lnTo>
                      <a:pt x="452" y="469"/>
                    </a:lnTo>
                    <a:lnTo>
                      <a:pt x="474" y="449"/>
                    </a:lnTo>
                    <a:lnTo>
                      <a:pt x="495" y="427"/>
                    </a:lnTo>
                    <a:lnTo>
                      <a:pt x="516" y="406"/>
                    </a:lnTo>
                    <a:lnTo>
                      <a:pt x="535" y="383"/>
                    </a:lnTo>
                    <a:lnTo>
                      <a:pt x="554" y="360"/>
                    </a:lnTo>
                    <a:lnTo>
                      <a:pt x="573" y="336"/>
                    </a:lnTo>
                    <a:lnTo>
                      <a:pt x="590" y="311"/>
                    </a:lnTo>
                    <a:lnTo>
                      <a:pt x="606" y="287"/>
                    </a:lnTo>
                    <a:lnTo>
                      <a:pt x="622" y="261"/>
                    </a:lnTo>
                    <a:lnTo>
                      <a:pt x="638" y="236"/>
                    </a:lnTo>
                    <a:lnTo>
                      <a:pt x="651" y="209"/>
                    </a:lnTo>
                    <a:lnTo>
                      <a:pt x="666" y="183"/>
                    </a:lnTo>
                    <a:lnTo>
                      <a:pt x="680" y="156"/>
                    </a:lnTo>
                    <a:lnTo>
                      <a:pt x="704" y="102"/>
                    </a:lnTo>
                    <a:lnTo>
                      <a:pt x="727" y="47"/>
                    </a:lnTo>
                    <a:lnTo>
                      <a:pt x="667" y="53"/>
                    </a:lnTo>
                    <a:lnTo>
                      <a:pt x="727" y="47"/>
                    </a:lnTo>
                    <a:lnTo>
                      <a:pt x="729" y="39"/>
                    </a:lnTo>
                    <a:lnTo>
                      <a:pt x="730" y="32"/>
                    </a:lnTo>
                    <a:lnTo>
                      <a:pt x="729" y="26"/>
                    </a:lnTo>
                    <a:lnTo>
                      <a:pt x="727" y="20"/>
                    </a:lnTo>
                    <a:lnTo>
                      <a:pt x="723" y="14"/>
                    </a:lnTo>
                    <a:lnTo>
                      <a:pt x="719" y="10"/>
                    </a:lnTo>
                    <a:lnTo>
                      <a:pt x="713" y="6"/>
                    </a:lnTo>
                    <a:lnTo>
                      <a:pt x="708" y="3"/>
                    </a:lnTo>
                    <a:lnTo>
                      <a:pt x="702" y="2"/>
                    </a:lnTo>
                    <a:lnTo>
                      <a:pt x="696" y="0"/>
                    </a:lnTo>
                    <a:lnTo>
                      <a:pt x="689" y="2"/>
                    </a:lnTo>
                    <a:lnTo>
                      <a:pt x="683" y="3"/>
                    </a:lnTo>
                    <a:lnTo>
                      <a:pt x="678" y="5"/>
                    </a:lnTo>
                    <a:lnTo>
                      <a:pt x="672" y="10"/>
                    </a:lnTo>
                    <a:lnTo>
                      <a:pt x="667" y="15"/>
                    </a:lnTo>
                    <a:lnTo>
                      <a:pt x="664" y="22"/>
                    </a:lnTo>
                    <a:lnTo>
                      <a:pt x="723" y="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5838840" y="4433760"/>
                <a:ext cx="663480" cy="1208160"/>
              </a:xfrm>
              <a:custGeom>
                <a:avLst/>
                <a:gdLst/>
                <a:ahLst/>
                <a:rect l="l" t="t" r="r" b="b"/>
                <a:pathLst>
                  <a:path w="2090" h="3805">
                    <a:moveTo>
                      <a:pt x="1456" y="0"/>
                    </a:moveTo>
                    <a:lnTo>
                      <a:pt x="1527" y="107"/>
                    </a:lnTo>
                    <a:lnTo>
                      <a:pt x="1593" y="216"/>
                    </a:lnTo>
                    <a:lnTo>
                      <a:pt x="1652" y="325"/>
                    </a:lnTo>
                    <a:lnTo>
                      <a:pt x="1708" y="436"/>
                    </a:lnTo>
                    <a:lnTo>
                      <a:pt x="1758" y="547"/>
                    </a:lnTo>
                    <a:lnTo>
                      <a:pt x="1805" y="658"/>
                    </a:lnTo>
                    <a:lnTo>
                      <a:pt x="1847" y="770"/>
                    </a:lnTo>
                    <a:lnTo>
                      <a:pt x="1885" y="884"/>
                    </a:lnTo>
                    <a:lnTo>
                      <a:pt x="1918" y="998"/>
                    </a:lnTo>
                    <a:lnTo>
                      <a:pt x="1949" y="1112"/>
                    </a:lnTo>
                    <a:lnTo>
                      <a:pt x="1975" y="1228"/>
                    </a:lnTo>
                    <a:lnTo>
                      <a:pt x="1999" y="1344"/>
                    </a:lnTo>
                    <a:lnTo>
                      <a:pt x="2018" y="1462"/>
                    </a:lnTo>
                    <a:lnTo>
                      <a:pt x="2035" y="1579"/>
                    </a:lnTo>
                    <a:lnTo>
                      <a:pt x="2050" y="1698"/>
                    </a:lnTo>
                    <a:lnTo>
                      <a:pt x="2061" y="1816"/>
                    </a:lnTo>
                    <a:lnTo>
                      <a:pt x="2072" y="1936"/>
                    </a:lnTo>
                    <a:lnTo>
                      <a:pt x="2079" y="2057"/>
                    </a:lnTo>
                    <a:lnTo>
                      <a:pt x="2084" y="2178"/>
                    </a:lnTo>
                    <a:lnTo>
                      <a:pt x="2088" y="2300"/>
                    </a:lnTo>
                    <a:lnTo>
                      <a:pt x="2090" y="2422"/>
                    </a:lnTo>
                    <a:lnTo>
                      <a:pt x="2090" y="2545"/>
                    </a:lnTo>
                    <a:lnTo>
                      <a:pt x="2089" y="2669"/>
                    </a:lnTo>
                    <a:lnTo>
                      <a:pt x="2088" y="2793"/>
                    </a:lnTo>
                    <a:lnTo>
                      <a:pt x="2074" y="3295"/>
                    </a:lnTo>
                    <a:lnTo>
                      <a:pt x="2059" y="3805"/>
                    </a:lnTo>
                    <a:lnTo>
                      <a:pt x="1809" y="3805"/>
                    </a:lnTo>
                    <a:lnTo>
                      <a:pt x="1558" y="3805"/>
                    </a:lnTo>
                    <a:lnTo>
                      <a:pt x="1304" y="3805"/>
                    </a:lnTo>
                    <a:lnTo>
                      <a:pt x="1051" y="3805"/>
                    </a:lnTo>
                    <a:lnTo>
                      <a:pt x="797" y="3805"/>
                    </a:lnTo>
                    <a:lnTo>
                      <a:pt x="543" y="3805"/>
                    </a:lnTo>
                    <a:lnTo>
                      <a:pt x="291" y="3805"/>
                    </a:lnTo>
                    <a:lnTo>
                      <a:pt x="40" y="3805"/>
                    </a:lnTo>
                    <a:lnTo>
                      <a:pt x="27" y="3705"/>
                    </a:lnTo>
                    <a:lnTo>
                      <a:pt x="15" y="3603"/>
                    </a:lnTo>
                    <a:lnTo>
                      <a:pt x="7" y="3501"/>
                    </a:lnTo>
                    <a:lnTo>
                      <a:pt x="3" y="3401"/>
                    </a:lnTo>
                    <a:lnTo>
                      <a:pt x="0" y="3300"/>
                    </a:lnTo>
                    <a:lnTo>
                      <a:pt x="1" y="3198"/>
                    </a:lnTo>
                    <a:lnTo>
                      <a:pt x="6" y="3098"/>
                    </a:lnTo>
                    <a:lnTo>
                      <a:pt x="13" y="2996"/>
                    </a:lnTo>
                    <a:lnTo>
                      <a:pt x="22" y="2895"/>
                    </a:lnTo>
                    <a:lnTo>
                      <a:pt x="34" y="2794"/>
                    </a:lnTo>
                    <a:lnTo>
                      <a:pt x="48" y="2693"/>
                    </a:lnTo>
                    <a:lnTo>
                      <a:pt x="65" y="2591"/>
                    </a:lnTo>
                    <a:lnTo>
                      <a:pt x="85" y="2491"/>
                    </a:lnTo>
                    <a:lnTo>
                      <a:pt x="106" y="2389"/>
                    </a:lnTo>
                    <a:lnTo>
                      <a:pt x="129" y="2288"/>
                    </a:lnTo>
                    <a:lnTo>
                      <a:pt x="155" y="2187"/>
                    </a:lnTo>
                    <a:lnTo>
                      <a:pt x="183" y="2086"/>
                    </a:lnTo>
                    <a:lnTo>
                      <a:pt x="212" y="1985"/>
                    </a:lnTo>
                    <a:lnTo>
                      <a:pt x="243" y="1884"/>
                    </a:lnTo>
                    <a:lnTo>
                      <a:pt x="276" y="1783"/>
                    </a:lnTo>
                    <a:lnTo>
                      <a:pt x="310" y="1682"/>
                    </a:lnTo>
                    <a:lnTo>
                      <a:pt x="346" y="1581"/>
                    </a:lnTo>
                    <a:lnTo>
                      <a:pt x="383" y="1480"/>
                    </a:lnTo>
                    <a:lnTo>
                      <a:pt x="421" y="1379"/>
                    </a:lnTo>
                    <a:lnTo>
                      <a:pt x="461" y="1278"/>
                    </a:lnTo>
                    <a:lnTo>
                      <a:pt x="502" y="1177"/>
                    </a:lnTo>
                    <a:lnTo>
                      <a:pt x="543" y="1076"/>
                    </a:lnTo>
                    <a:lnTo>
                      <a:pt x="586" y="976"/>
                    </a:lnTo>
                    <a:lnTo>
                      <a:pt x="630" y="875"/>
                    </a:lnTo>
                    <a:lnTo>
                      <a:pt x="674" y="774"/>
                    </a:lnTo>
                    <a:lnTo>
                      <a:pt x="718" y="673"/>
                    </a:lnTo>
                    <a:lnTo>
                      <a:pt x="764" y="573"/>
                    </a:lnTo>
                    <a:lnTo>
                      <a:pt x="799" y="568"/>
                    </a:lnTo>
                    <a:lnTo>
                      <a:pt x="834" y="563"/>
                    </a:lnTo>
                    <a:lnTo>
                      <a:pt x="867" y="557"/>
                    </a:lnTo>
                    <a:lnTo>
                      <a:pt x="900" y="549"/>
                    </a:lnTo>
                    <a:lnTo>
                      <a:pt x="931" y="540"/>
                    </a:lnTo>
                    <a:lnTo>
                      <a:pt x="960" y="529"/>
                    </a:lnTo>
                    <a:lnTo>
                      <a:pt x="990" y="519"/>
                    </a:lnTo>
                    <a:lnTo>
                      <a:pt x="1018" y="507"/>
                    </a:lnTo>
                    <a:lnTo>
                      <a:pt x="1046" y="493"/>
                    </a:lnTo>
                    <a:lnTo>
                      <a:pt x="1072" y="479"/>
                    </a:lnTo>
                    <a:lnTo>
                      <a:pt x="1097" y="464"/>
                    </a:lnTo>
                    <a:lnTo>
                      <a:pt x="1122" y="448"/>
                    </a:lnTo>
                    <a:lnTo>
                      <a:pt x="1146" y="431"/>
                    </a:lnTo>
                    <a:lnTo>
                      <a:pt x="1169" y="413"/>
                    </a:lnTo>
                    <a:lnTo>
                      <a:pt x="1190" y="395"/>
                    </a:lnTo>
                    <a:lnTo>
                      <a:pt x="1212" y="375"/>
                    </a:lnTo>
                    <a:lnTo>
                      <a:pt x="1231" y="356"/>
                    </a:lnTo>
                    <a:lnTo>
                      <a:pt x="1252" y="336"/>
                    </a:lnTo>
                    <a:lnTo>
                      <a:pt x="1270" y="315"/>
                    </a:lnTo>
                    <a:lnTo>
                      <a:pt x="1288" y="293"/>
                    </a:lnTo>
                    <a:lnTo>
                      <a:pt x="1306" y="270"/>
                    </a:lnTo>
                    <a:lnTo>
                      <a:pt x="1323" y="248"/>
                    </a:lnTo>
                    <a:lnTo>
                      <a:pt x="1339" y="225"/>
                    </a:lnTo>
                    <a:lnTo>
                      <a:pt x="1355" y="201"/>
                    </a:lnTo>
                    <a:lnTo>
                      <a:pt x="1369" y="177"/>
                    </a:lnTo>
                    <a:lnTo>
                      <a:pt x="1383" y="152"/>
                    </a:lnTo>
                    <a:lnTo>
                      <a:pt x="1397" y="128"/>
                    </a:lnTo>
                    <a:lnTo>
                      <a:pt x="1409" y="103"/>
                    </a:lnTo>
                    <a:lnTo>
                      <a:pt x="1434" y="51"/>
                    </a:lnTo>
                    <a:lnTo>
                      <a:pt x="145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6292800" y="4427640"/>
                <a:ext cx="220680" cy="1224000"/>
              </a:xfrm>
              <a:custGeom>
                <a:avLst/>
                <a:gdLst/>
                <a:ahLst/>
                <a:rect l="l" t="t" r="r" b="b"/>
                <a:pathLst>
                  <a:path w="695" h="3858">
                    <a:moveTo>
                      <a:pt x="630" y="3858"/>
                    </a:moveTo>
                    <a:lnTo>
                      <a:pt x="664" y="3825"/>
                    </a:lnTo>
                    <a:lnTo>
                      <a:pt x="679" y="3315"/>
                    </a:lnTo>
                    <a:lnTo>
                      <a:pt x="692" y="2813"/>
                    </a:lnTo>
                    <a:lnTo>
                      <a:pt x="694" y="2688"/>
                    </a:lnTo>
                    <a:lnTo>
                      <a:pt x="695" y="2564"/>
                    </a:lnTo>
                    <a:lnTo>
                      <a:pt x="694" y="2441"/>
                    </a:lnTo>
                    <a:lnTo>
                      <a:pt x="692" y="2318"/>
                    </a:lnTo>
                    <a:lnTo>
                      <a:pt x="688" y="2196"/>
                    </a:lnTo>
                    <a:lnTo>
                      <a:pt x="684" y="2074"/>
                    </a:lnTo>
                    <a:lnTo>
                      <a:pt x="676" y="1953"/>
                    </a:lnTo>
                    <a:lnTo>
                      <a:pt x="667" y="1833"/>
                    </a:lnTo>
                    <a:lnTo>
                      <a:pt x="661" y="1773"/>
                    </a:lnTo>
                    <a:lnTo>
                      <a:pt x="654" y="1713"/>
                    </a:lnTo>
                    <a:lnTo>
                      <a:pt x="647" y="1654"/>
                    </a:lnTo>
                    <a:lnTo>
                      <a:pt x="640" y="1594"/>
                    </a:lnTo>
                    <a:lnTo>
                      <a:pt x="631" y="1534"/>
                    </a:lnTo>
                    <a:lnTo>
                      <a:pt x="623" y="1475"/>
                    </a:lnTo>
                    <a:lnTo>
                      <a:pt x="613" y="1417"/>
                    </a:lnTo>
                    <a:lnTo>
                      <a:pt x="603" y="1357"/>
                    </a:lnTo>
                    <a:lnTo>
                      <a:pt x="591" y="1299"/>
                    </a:lnTo>
                    <a:lnTo>
                      <a:pt x="579" y="1240"/>
                    </a:lnTo>
                    <a:lnTo>
                      <a:pt x="566" y="1182"/>
                    </a:lnTo>
                    <a:lnTo>
                      <a:pt x="553" y="1123"/>
                    </a:lnTo>
                    <a:lnTo>
                      <a:pt x="538" y="1065"/>
                    </a:lnTo>
                    <a:lnTo>
                      <a:pt x="522" y="1008"/>
                    </a:lnTo>
                    <a:lnTo>
                      <a:pt x="505" y="950"/>
                    </a:lnTo>
                    <a:lnTo>
                      <a:pt x="488" y="893"/>
                    </a:lnTo>
                    <a:lnTo>
                      <a:pt x="469" y="835"/>
                    </a:lnTo>
                    <a:lnTo>
                      <a:pt x="450" y="778"/>
                    </a:lnTo>
                    <a:lnTo>
                      <a:pt x="428" y="722"/>
                    </a:lnTo>
                    <a:lnTo>
                      <a:pt x="407" y="665"/>
                    </a:lnTo>
                    <a:lnTo>
                      <a:pt x="384" y="608"/>
                    </a:lnTo>
                    <a:lnTo>
                      <a:pt x="360" y="552"/>
                    </a:lnTo>
                    <a:lnTo>
                      <a:pt x="335" y="496"/>
                    </a:lnTo>
                    <a:lnTo>
                      <a:pt x="310" y="440"/>
                    </a:lnTo>
                    <a:lnTo>
                      <a:pt x="282" y="384"/>
                    </a:lnTo>
                    <a:lnTo>
                      <a:pt x="253" y="328"/>
                    </a:lnTo>
                    <a:lnTo>
                      <a:pt x="223" y="274"/>
                    </a:lnTo>
                    <a:lnTo>
                      <a:pt x="192" y="219"/>
                    </a:lnTo>
                    <a:lnTo>
                      <a:pt x="160" y="164"/>
                    </a:lnTo>
                    <a:lnTo>
                      <a:pt x="126" y="109"/>
                    </a:lnTo>
                    <a:lnTo>
                      <a:pt x="92" y="54"/>
                    </a:lnTo>
                    <a:lnTo>
                      <a:pt x="56" y="0"/>
                    </a:lnTo>
                    <a:lnTo>
                      <a:pt x="0" y="38"/>
                    </a:lnTo>
                    <a:lnTo>
                      <a:pt x="35" y="91"/>
                    </a:lnTo>
                    <a:lnTo>
                      <a:pt x="69" y="145"/>
                    </a:lnTo>
                    <a:lnTo>
                      <a:pt x="102" y="198"/>
                    </a:lnTo>
                    <a:lnTo>
                      <a:pt x="134" y="252"/>
                    </a:lnTo>
                    <a:lnTo>
                      <a:pt x="165" y="305"/>
                    </a:lnTo>
                    <a:lnTo>
                      <a:pt x="194" y="360"/>
                    </a:lnTo>
                    <a:lnTo>
                      <a:pt x="222" y="415"/>
                    </a:lnTo>
                    <a:lnTo>
                      <a:pt x="248" y="469"/>
                    </a:lnTo>
                    <a:lnTo>
                      <a:pt x="274" y="523"/>
                    </a:lnTo>
                    <a:lnTo>
                      <a:pt x="298" y="579"/>
                    </a:lnTo>
                    <a:lnTo>
                      <a:pt x="322" y="634"/>
                    </a:lnTo>
                    <a:lnTo>
                      <a:pt x="344" y="689"/>
                    </a:lnTo>
                    <a:lnTo>
                      <a:pt x="366" y="745"/>
                    </a:lnTo>
                    <a:lnTo>
                      <a:pt x="386" y="801"/>
                    </a:lnTo>
                    <a:lnTo>
                      <a:pt x="406" y="857"/>
                    </a:lnTo>
                    <a:lnTo>
                      <a:pt x="424" y="912"/>
                    </a:lnTo>
                    <a:lnTo>
                      <a:pt x="441" y="969"/>
                    </a:lnTo>
                    <a:lnTo>
                      <a:pt x="457" y="1025"/>
                    </a:lnTo>
                    <a:lnTo>
                      <a:pt x="472" y="1082"/>
                    </a:lnTo>
                    <a:lnTo>
                      <a:pt x="486" y="1139"/>
                    </a:lnTo>
                    <a:lnTo>
                      <a:pt x="500" y="1196"/>
                    </a:lnTo>
                    <a:lnTo>
                      <a:pt x="513" y="1255"/>
                    </a:lnTo>
                    <a:lnTo>
                      <a:pt x="525" y="1312"/>
                    </a:lnTo>
                    <a:lnTo>
                      <a:pt x="537" y="1370"/>
                    </a:lnTo>
                    <a:lnTo>
                      <a:pt x="547" y="1428"/>
                    </a:lnTo>
                    <a:lnTo>
                      <a:pt x="556" y="1486"/>
                    </a:lnTo>
                    <a:lnTo>
                      <a:pt x="565" y="1544"/>
                    </a:lnTo>
                    <a:lnTo>
                      <a:pt x="573" y="1603"/>
                    </a:lnTo>
                    <a:lnTo>
                      <a:pt x="581" y="1661"/>
                    </a:lnTo>
                    <a:lnTo>
                      <a:pt x="588" y="1720"/>
                    </a:lnTo>
                    <a:lnTo>
                      <a:pt x="594" y="1779"/>
                    </a:lnTo>
                    <a:lnTo>
                      <a:pt x="599" y="1839"/>
                    </a:lnTo>
                    <a:lnTo>
                      <a:pt x="608" y="1957"/>
                    </a:lnTo>
                    <a:lnTo>
                      <a:pt x="616" y="2077"/>
                    </a:lnTo>
                    <a:lnTo>
                      <a:pt x="621" y="2198"/>
                    </a:lnTo>
                    <a:lnTo>
                      <a:pt x="624" y="2319"/>
                    </a:lnTo>
                    <a:lnTo>
                      <a:pt x="627" y="2441"/>
                    </a:lnTo>
                    <a:lnTo>
                      <a:pt x="627" y="2564"/>
                    </a:lnTo>
                    <a:lnTo>
                      <a:pt x="627" y="2688"/>
                    </a:lnTo>
                    <a:lnTo>
                      <a:pt x="624" y="2811"/>
                    </a:lnTo>
                    <a:lnTo>
                      <a:pt x="612" y="3313"/>
                    </a:lnTo>
                    <a:lnTo>
                      <a:pt x="597" y="3824"/>
                    </a:lnTo>
                    <a:lnTo>
                      <a:pt x="630" y="3791"/>
                    </a:lnTo>
                    <a:lnTo>
                      <a:pt x="597" y="3824"/>
                    </a:lnTo>
                    <a:lnTo>
                      <a:pt x="597" y="3832"/>
                    </a:lnTo>
                    <a:lnTo>
                      <a:pt x="599" y="3839"/>
                    </a:lnTo>
                    <a:lnTo>
                      <a:pt x="603" y="3844"/>
                    </a:lnTo>
                    <a:lnTo>
                      <a:pt x="607" y="3849"/>
                    </a:lnTo>
                    <a:lnTo>
                      <a:pt x="612" y="3852"/>
                    </a:lnTo>
                    <a:lnTo>
                      <a:pt x="618" y="3856"/>
                    </a:lnTo>
                    <a:lnTo>
                      <a:pt x="623" y="3857"/>
                    </a:lnTo>
                    <a:lnTo>
                      <a:pt x="630" y="3858"/>
                    </a:lnTo>
                    <a:lnTo>
                      <a:pt x="636" y="3857"/>
                    </a:lnTo>
                    <a:lnTo>
                      <a:pt x="643" y="3856"/>
                    </a:lnTo>
                    <a:lnTo>
                      <a:pt x="648" y="3854"/>
                    </a:lnTo>
                    <a:lnTo>
                      <a:pt x="653" y="3850"/>
                    </a:lnTo>
                    <a:lnTo>
                      <a:pt x="657" y="3846"/>
                    </a:lnTo>
                    <a:lnTo>
                      <a:pt x="661" y="3840"/>
                    </a:lnTo>
                    <a:lnTo>
                      <a:pt x="663" y="3833"/>
                    </a:lnTo>
                    <a:lnTo>
                      <a:pt x="664" y="3825"/>
                    </a:lnTo>
                    <a:lnTo>
                      <a:pt x="630" y="385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5842080" y="5630760"/>
                <a:ext cx="650880" cy="20880"/>
              </a:xfrm>
              <a:custGeom>
                <a:avLst/>
                <a:gdLst/>
                <a:ahLst/>
                <a:rect l="l" t="t" r="r" b="b"/>
                <a:pathLst>
                  <a:path w="2052" h="67">
                    <a:moveTo>
                      <a:pt x="0" y="39"/>
                    </a:moveTo>
                    <a:lnTo>
                      <a:pt x="33" y="67"/>
                    </a:lnTo>
                    <a:lnTo>
                      <a:pt x="284" y="67"/>
                    </a:lnTo>
                    <a:lnTo>
                      <a:pt x="536" y="67"/>
                    </a:lnTo>
                    <a:lnTo>
                      <a:pt x="790" y="67"/>
                    </a:lnTo>
                    <a:lnTo>
                      <a:pt x="1044" y="67"/>
                    </a:lnTo>
                    <a:lnTo>
                      <a:pt x="1297" y="67"/>
                    </a:lnTo>
                    <a:lnTo>
                      <a:pt x="1551" y="67"/>
                    </a:lnTo>
                    <a:lnTo>
                      <a:pt x="1802" y="67"/>
                    </a:lnTo>
                    <a:lnTo>
                      <a:pt x="2052" y="67"/>
                    </a:lnTo>
                    <a:lnTo>
                      <a:pt x="2052" y="0"/>
                    </a:lnTo>
                    <a:lnTo>
                      <a:pt x="1802" y="0"/>
                    </a:lnTo>
                    <a:lnTo>
                      <a:pt x="1551" y="0"/>
                    </a:lnTo>
                    <a:lnTo>
                      <a:pt x="1297" y="0"/>
                    </a:lnTo>
                    <a:lnTo>
                      <a:pt x="1044" y="0"/>
                    </a:lnTo>
                    <a:lnTo>
                      <a:pt x="790" y="0"/>
                    </a:lnTo>
                    <a:lnTo>
                      <a:pt x="536" y="0"/>
                    </a:lnTo>
                    <a:lnTo>
                      <a:pt x="284" y="0"/>
                    </a:lnTo>
                    <a:lnTo>
                      <a:pt x="33" y="0"/>
                    </a:lnTo>
                    <a:lnTo>
                      <a:pt x="66" y="28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18" y="2"/>
                    </a:lnTo>
                    <a:lnTo>
                      <a:pt x="13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1" y="20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1" y="46"/>
                    </a:lnTo>
                    <a:lnTo>
                      <a:pt x="5" y="51"/>
                    </a:lnTo>
                    <a:lnTo>
                      <a:pt x="8" y="57"/>
                    </a:lnTo>
                    <a:lnTo>
                      <a:pt x="13" y="60"/>
                    </a:lnTo>
                    <a:lnTo>
                      <a:pt x="18" y="64"/>
                    </a:lnTo>
                    <a:lnTo>
                      <a:pt x="25" y="66"/>
                    </a:lnTo>
                    <a:lnTo>
                      <a:pt x="33" y="6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5829480" y="4603680"/>
                <a:ext cx="263520" cy="1040040"/>
              </a:xfrm>
              <a:custGeom>
                <a:avLst/>
                <a:gdLst/>
                <a:ahLst/>
                <a:rect l="l" t="t" r="r" b="b"/>
                <a:pathLst>
                  <a:path w="831" h="3272">
                    <a:moveTo>
                      <a:pt x="794" y="0"/>
                    </a:moveTo>
                    <a:lnTo>
                      <a:pt x="766" y="20"/>
                    </a:lnTo>
                    <a:lnTo>
                      <a:pt x="721" y="121"/>
                    </a:lnTo>
                    <a:lnTo>
                      <a:pt x="676" y="221"/>
                    </a:lnTo>
                    <a:lnTo>
                      <a:pt x="632" y="322"/>
                    </a:lnTo>
                    <a:lnTo>
                      <a:pt x="588" y="423"/>
                    </a:lnTo>
                    <a:lnTo>
                      <a:pt x="545" y="524"/>
                    </a:lnTo>
                    <a:lnTo>
                      <a:pt x="503" y="626"/>
                    </a:lnTo>
                    <a:lnTo>
                      <a:pt x="463" y="726"/>
                    </a:lnTo>
                    <a:lnTo>
                      <a:pt x="423" y="828"/>
                    </a:lnTo>
                    <a:lnTo>
                      <a:pt x="384" y="929"/>
                    </a:lnTo>
                    <a:lnTo>
                      <a:pt x="347" y="1031"/>
                    </a:lnTo>
                    <a:lnTo>
                      <a:pt x="311" y="1133"/>
                    </a:lnTo>
                    <a:lnTo>
                      <a:pt x="277" y="1233"/>
                    </a:lnTo>
                    <a:lnTo>
                      <a:pt x="244" y="1334"/>
                    </a:lnTo>
                    <a:lnTo>
                      <a:pt x="212" y="1436"/>
                    </a:lnTo>
                    <a:lnTo>
                      <a:pt x="184" y="1538"/>
                    </a:lnTo>
                    <a:lnTo>
                      <a:pt x="155" y="1639"/>
                    </a:lnTo>
                    <a:lnTo>
                      <a:pt x="130" y="1742"/>
                    </a:lnTo>
                    <a:lnTo>
                      <a:pt x="106" y="1843"/>
                    </a:lnTo>
                    <a:lnTo>
                      <a:pt x="85" y="1945"/>
                    </a:lnTo>
                    <a:lnTo>
                      <a:pt x="65" y="2046"/>
                    </a:lnTo>
                    <a:lnTo>
                      <a:pt x="56" y="2098"/>
                    </a:lnTo>
                    <a:lnTo>
                      <a:pt x="48" y="2149"/>
                    </a:lnTo>
                    <a:lnTo>
                      <a:pt x="40" y="2199"/>
                    </a:lnTo>
                    <a:lnTo>
                      <a:pt x="33" y="2251"/>
                    </a:lnTo>
                    <a:lnTo>
                      <a:pt x="28" y="2301"/>
                    </a:lnTo>
                    <a:lnTo>
                      <a:pt x="22" y="2352"/>
                    </a:lnTo>
                    <a:lnTo>
                      <a:pt x="16" y="2403"/>
                    </a:lnTo>
                    <a:lnTo>
                      <a:pt x="12" y="2455"/>
                    </a:lnTo>
                    <a:lnTo>
                      <a:pt x="8" y="2505"/>
                    </a:lnTo>
                    <a:lnTo>
                      <a:pt x="5" y="2556"/>
                    </a:lnTo>
                    <a:lnTo>
                      <a:pt x="3" y="2608"/>
                    </a:lnTo>
                    <a:lnTo>
                      <a:pt x="1" y="2659"/>
                    </a:lnTo>
                    <a:lnTo>
                      <a:pt x="0" y="2709"/>
                    </a:lnTo>
                    <a:lnTo>
                      <a:pt x="0" y="2761"/>
                    </a:lnTo>
                    <a:lnTo>
                      <a:pt x="0" y="2812"/>
                    </a:lnTo>
                    <a:lnTo>
                      <a:pt x="1" y="2862"/>
                    </a:lnTo>
                    <a:lnTo>
                      <a:pt x="4" y="2913"/>
                    </a:lnTo>
                    <a:lnTo>
                      <a:pt x="6" y="2965"/>
                    </a:lnTo>
                    <a:lnTo>
                      <a:pt x="9" y="3016"/>
                    </a:lnTo>
                    <a:lnTo>
                      <a:pt x="14" y="3067"/>
                    </a:lnTo>
                    <a:lnTo>
                      <a:pt x="20" y="3118"/>
                    </a:lnTo>
                    <a:lnTo>
                      <a:pt x="25" y="3169"/>
                    </a:lnTo>
                    <a:lnTo>
                      <a:pt x="32" y="3220"/>
                    </a:lnTo>
                    <a:lnTo>
                      <a:pt x="40" y="3272"/>
                    </a:lnTo>
                    <a:lnTo>
                      <a:pt x="106" y="3261"/>
                    </a:lnTo>
                    <a:lnTo>
                      <a:pt x="99" y="3211"/>
                    </a:lnTo>
                    <a:lnTo>
                      <a:pt x="93" y="3161"/>
                    </a:lnTo>
                    <a:lnTo>
                      <a:pt x="87" y="3111"/>
                    </a:lnTo>
                    <a:lnTo>
                      <a:pt x="81" y="3061"/>
                    </a:lnTo>
                    <a:lnTo>
                      <a:pt x="77" y="3010"/>
                    </a:lnTo>
                    <a:lnTo>
                      <a:pt x="73" y="2961"/>
                    </a:lnTo>
                    <a:lnTo>
                      <a:pt x="71" y="2911"/>
                    </a:lnTo>
                    <a:lnTo>
                      <a:pt x="69" y="2861"/>
                    </a:lnTo>
                    <a:lnTo>
                      <a:pt x="67" y="2811"/>
                    </a:lnTo>
                    <a:lnTo>
                      <a:pt x="67" y="2761"/>
                    </a:lnTo>
                    <a:lnTo>
                      <a:pt x="67" y="2710"/>
                    </a:lnTo>
                    <a:lnTo>
                      <a:pt x="69" y="2660"/>
                    </a:lnTo>
                    <a:lnTo>
                      <a:pt x="70" y="2610"/>
                    </a:lnTo>
                    <a:lnTo>
                      <a:pt x="72" y="2560"/>
                    </a:lnTo>
                    <a:lnTo>
                      <a:pt x="75" y="2510"/>
                    </a:lnTo>
                    <a:lnTo>
                      <a:pt x="79" y="2459"/>
                    </a:lnTo>
                    <a:lnTo>
                      <a:pt x="83" y="2409"/>
                    </a:lnTo>
                    <a:lnTo>
                      <a:pt x="88" y="2359"/>
                    </a:lnTo>
                    <a:lnTo>
                      <a:pt x="94" y="2309"/>
                    </a:lnTo>
                    <a:lnTo>
                      <a:pt x="101" y="2259"/>
                    </a:lnTo>
                    <a:lnTo>
                      <a:pt x="107" y="2209"/>
                    </a:lnTo>
                    <a:lnTo>
                      <a:pt x="115" y="2159"/>
                    </a:lnTo>
                    <a:lnTo>
                      <a:pt x="123" y="2109"/>
                    </a:lnTo>
                    <a:lnTo>
                      <a:pt x="131" y="2059"/>
                    </a:lnTo>
                    <a:lnTo>
                      <a:pt x="151" y="1957"/>
                    </a:lnTo>
                    <a:lnTo>
                      <a:pt x="172" y="1857"/>
                    </a:lnTo>
                    <a:lnTo>
                      <a:pt x="195" y="1757"/>
                    </a:lnTo>
                    <a:lnTo>
                      <a:pt x="221" y="1656"/>
                    </a:lnTo>
                    <a:lnTo>
                      <a:pt x="248" y="1556"/>
                    </a:lnTo>
                    <a:lnTo>
                      <a:pt x="277" y="1455"/>
                    </a:lnTo>
                    <a:lnTo>
                      <a:pt x="308" y="1355"/>
                    </a:lnTo>
                    <a:lnTo>
                      <a:pt x="341" y="1255"/>
                    </a:lnTo>
                    <a:lnTo>
                      <a:pt x="375" y="1154"/>
                    </a:lnTo>
                    <a:lnTo>
                      <a:pt x="411" y="1054"/>
                    </a:lnTo>
                    <a:lnTo>
                      <a:pt x="447" y="953"/>
                    </a:lnTo>
                    <a:lnTo>
                      <a:pt x="486" y="852"/>
                    </a:lnTo>
                    <a:lnTo>
                      <a:pt x="525" y="751"/>
                    </a:lnTo>
                    <a:lnTo>
                      <a:pt x="566" y="651"/>
                    </a:lnTo>
                    <a:lnTo>
                      <a:pt x="608" y="551"/>
                    </a:lnTo>
                    <a:lnTo>
                      <a:pt x="650" y="450"/>
                    </a:lnTo>
                    <a:lnTo>
                      <a:pt x="693" y="349"/>
                    </a:lnTo>
                    <a:lnTo>
                      <a:pt x="738" y="248"/>
                    </a:lnTo>
                    <a:lnTo>
                      <a:pt x="782" y="148"/>
                    </a:lnTo>
                    <a:lnTo>
                      <a:pt x="828" y="48"/>
                    </a:lnTo>
                    <a:lnTo>
                      <a:pt x="801" y="67"/>
                    </a:lnTo>
                    <a:lnTo>
                      <a:pt x="828" y="48"/>
                    </a:lnTo>
                    <a:lnTo>
                      <a:pt x="830" y="40"/>
                    </a:lnTo>
                    <a:lnTo>
                      <a:pt x="831" y="33"/>
                    </a:lnTo>
                    <a:lnTo>
                      <a:pt x="830" y="26"/>
                    </a:lnTo>
                    <a:lnTo>
                      <a:pt x="829" y="20"/>
                    </a:lnTo>
                    <a:lnTo>
                      <a:pt x="826" y="14"/>
                    </a:lnTo>
                    <a:lnTo>
                      <a:pt x="821" y="10"/>
                    </a:lnTo>
                    <a:lnTo>
                      <a:pt x="816" y="5"/>
                    </a:lnTo>
                    <a:lnTo>
                      <a:pt x="811" y="3"/>
                    </a:lnTo>
                    <a:lnTo>
                      <a:pt x="805" y="1"/>
                    </a:lnTo>
                    <a:lnTo>
                      <a:pt x="798" y="0"/>
                    </a:lnTo>
                    <a:lnTo>
                      <a:pt x="793" y="0"/>
                    </a:lnTo>
                    <a:lnTo>
                      <a:pt x="787" y="1"/>
                    </a:lnTo>
                    <a:lnTo>
                      <a:pt x="780" y="3"/>
                    </a:lnTo>
                    <a:lnTo>
                      <a:pt x="775" y="8"/>
                    </a:lnTo>
                    <a:lnTo>
                      <a:pt x="770" y="12"/>
                    </a:lnTo>
                    <a:lnTo>
                      <a:pt x="766" y="20"/>
                    </a:lnTo>
                    <a:lnTo>
                      <a:pt x="79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6081840" y="4422600"/>
                <a:ext cx="230040" cy="203400"/>
              </a:xfrm>
              <a:custGeom>
                <a:avLst/>
                <a:gdLst/>
                <a:ahLst/>
                <a:rect l="l" t="t" r="r" b="b"/>
                <a:pathLst>
                  <a:path w="729" h="640">
                    <a:moveTo>
                      <a:pt x="724" y="15"/>
                    </a:moveTo>
                    <a:lnTo>
                      <a:pt x="664" y="22"/>
                    </a:lnTo>
                    <a:lnTo>
                      <a:pt x="643" y="72"/>
                    </a:lnTo>
                    <a:lnTo>
                      <a:pt x="619" y="122"/>
                    </a:lnTo>
                    <a:lnTo>
                      <a:pt x="606" y="146"/>
                    </a:lnTo>
                    <a:lnTo>
                      <a:pt x="592" y="170"/>
                    </a:lnTo>
                    <a:lnTo>
                      <a:pt x="579" y="194"/>
                    </a:lnTo>
                    <a:lnTo>
                      <a:pt x="565" y="217"/>
                    </a:lnTo>
                    <a:lnTo>
                      <a:pt x="550" y="239"/>
                    </a:lnTo>
                    <a:lnTo>
                      <a:pt x="534" y="262"/>
                    </a:lnTo>
                    <a:lnTo>
                      <a:pt x="518" y="284"/>
                    </a:lnTo>
                    <a:lnTo>
                      <a:pt x="501" y="306"/>
                    </a:lnTo>
                    <a:lnTo>
                      <a:pt x="484" y="326"/>
                    </a:lnTo>
                    <a:lnTo>
                      <a:pt x="466" y="347"/>
                    </a:lnTo>
                    <a:lnTo>
                      <a:pt x="447" y="366"/>
                    </a:lnTo>
                    <a:lnTo>
                      <a:pt x="427" y="385"/>
                    </a:lnTo>
                    <a:lnTo>
                      <a:pt x="408" y="404"/>
                    </a:lnTo>
                    <a:lnTo>
                      <a:pt x="386" y="421"/>
                    </a:lnTo>
                    <a:lnTo>
                      <a:pt x="364" y="438"/>
                    </a:lnTo>
                    <a:lnTo>
                      <a:pt x="342" y="454"/>
                    </a:lnTo>
                    <a:lnTo>
                      <a:pt x="319" y="470"/>
                    </a:lnTo>
                    <a:lnTo>
                      <a:pt x="294" y="484"/>
                    </a:lnTo>
                    <a:lnTo>
                      <a:pt x="269" y="497"/>
                    </a:lnTo>
                    <a:lnTo>
                      <a:pt x="244" y="510"/>
                    </a:lnTo>
                    <a:lnTo>
                      <a:pt x="216" y="521"/>
                    </a:lnTo>
                    <a:lnTo>
                      <a:pt x="189" y="532"/>
                    </a:lnTo>
                    <a:lnTo>
                      <a:pt x="159" y="542"/>
                    </a:lnTo>
                    <a:lnTo>
                      <a:pt x="130" y="550"/>
                    </a:lnTo>
                    <a:lnTo>
                      <a:pt x="99" y="558"/>
                    </a:lnTo>
                    <a:lnTo>
                      <a:pt x="67" y="563"/>
                    </a:lnTo>
                    <a:lnTo>
                      <a:pt x="34" y="569"/>
                    </a:lnTo>
                    <a:lnTo>
                      <a:pt x="0" y="573"/>
                    </a:lnTo>
                    <a:lnTo>
                      <a:pt x="7" y="640"/>
                    </a:lnTo>
                    <a:lnTo>
                      <a:pt x="43" y="635"/>
                    </a:lnTo>
                    <a:lnTo>
                      <a:pt x="78" y="631"/>
                    </a:lnTo>
                    <a:lnTo>
                      <a:pt x="114" y="624"/>
                    </a:lnTo>
                    <a:lnTo>
                      <a:pt x="147" y="616"/>
                    </a:lnTo>
                    <a:lnTo>
                      <a:pt x="180" y="606"/>
                    </a:lnTo>
                    <a:lnTo>
                      <a:pt x="211" y="595"/>
                    </a:lnTo>
                    <a:lnTo>
                      <a:pt x="241" y="584"/>
                    </a:lnTo>
                    <a:lnTo>
                      <a:pt x="271" y="571"/>
                    </a:lnTo>
                    <a:lnTo>
                      <a:pt x="299" y="558"/>
                    </a:lnTo>
                    <a:lnTo>
                      <a:pt x="327" y="543"/>
                    </a:lnTo>
                    <a:lnTo>
                      <a:pt x="354" y="527"/>
                    </a:lnTo>
                    <a:lnTo>
                      <a:pt x="379" y="510"/>
                    </a:lnTo>
                    <a:lnTo>
                      <a:pt x="404" y="493"/>
                    </a:lnTo>
                    <a:lnTo>
                      <a:pt x="428" y="473"/>
                    </a:lnTo>
                    <a:lnTo>
                      <a:pt x="451" y="455"/>
                    </a:lnTo>
                    <a:lnTo>
                      <a:pt x="474" y="435"/>
                    </a:lnTo>
                    <a:lnTo>
                      <a:pt x="494" y="414"/>
                    </a:lnTo>
                    <a:lnTo>
                      <a:pt x="515" y="392"/>
                    </a:lnTo>
                    <a:lnTo>
                      <a:pt x="535" y="371"/>
                    </a:lnTo>
                    <a:lnTo>
                      <a:pt x="554" y="348"/>
                    </a:lnTo>
                    <a:lnTo>
                      <a:pt x="572" y="325"/>
                    </a:lnTo>
                    <a:lnTo>
                      <a:pt x="589" y="301"/>
                    </a:lnTo>
                    <a:lnTo>
                      <a:pt x="606" y="277"/>
                    </a:lnTo>
                    <a:lnTo>
                      <a:pt x="622" y="253"/>
                    </a:lnTo>
                    <a:lnTo>
                      <a:pt x="637" y="228"/>
                    </a:lnTo>
                    <a:lnTo>
                      <a:pt x="652" y="203"/>
                    </a:lnTo>
                    <a:lnTo>
                      <a:pt x="665" y="178"/>
                    </a:lnTo>
                    <a:lnTo>
                      <a:pt x="679" y="152"/>
                    </a:lnTo>
                    <a:lnTo>
                      <a:pt x="704" y="99"/>
                    </a:lnTo>
                    <a:lnTo>
                      <a:pt x="727" y="47"/>
                    </a:lnTo>
                    <a:lnTo>
                      <a:pt x="668" y="53"/>
                    </a:lnTo>
                    <a:lnTo>
                      <a:pt x="727" y="47"/>
                    </a:lnTo>
                    <a:lnTo>
                      <a:pt x="729" y="40"/>
                    </a:lnTo>
                    <a:lnTo>
                      <a:pt x="729" y="32"/>
                    </a:lnTo>
                    <a:lnTo>
                      <a:pt x="728" y="26"/>
                    </a:lnTo>
                    <a:lnTo>
                      <a:pt x="727" y="19"/>
                    </a:lnTo>
                    <a:lnTo>
                      <a:pt x="724" y="15"/>
                    </a:lnTo>
                    <a:lnTo>
                      <a:pt x="719" y="10"/>
                    </a:lnTo>
                    <a:lnTo>
                      <a:pt x="713" y="6"/>
                    </a:lnTo>
                    <a:lnTo>
                      <a:pt x="709" y="3"/>
                    </a:lnTo>
                    <a:lnTo>
                      <a:pt x="702" y="1"/>
                    </a:lnTo>
                    <a:lnTo>
                      <a:pt x="696" y="0"/>
                    </a:lnTo>
                    <a:lnTo>
                      <a:pt x="689" y="1"/>
                    </a:lnTo>
                    <a:lnTo>
                      <a:pt x="684" y="2"/>
                    </a:lnTo>
                    <a:lnTo>
                      <a:pt x="678" y="4"/>
                    </a:lnTo>
                    <a:lnTo>
                      <a:pt x="672" y="9"/>
                    </a:lnTo>
                    <a:lnTo>
                      <a:pt x="668" y="15"/>
                    </a:lnTo>
                    <a:lnTo>
                      <a:pt x="664" y="22"/>
                    </a:lnTo>
                    <a:lnTo>
                      <a:pt x="724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4932360" y="4027320"/>
                <a:ext cx="426960" cy="636840"/>
              </a:xfrm>
              <a:custGeom>
                <a:avLst/>
                <a:gdLst/>
                <a:ahLst/>
                <a:rect l="l" t="t" r="r" b="b"/>
                <a:pathLst>
                  <a:path w="1346" h="2006">
                    <a:moveTo>
                      <a:pt x="978" y="0"/>
                    </a:moveTo>
                    <a:lnTo>
                      <a:pt x="969" y="82"/>
                    </a:lnTo>
                    <a:lnTo>
                      <a:pt x="960" y="160"/>
                    </a:lnTo>
                    <a:lnTo>
                      <a:pt x="949" y="233"/>
                    </a:lnTo>
                    <a:lnTo>
                      <a:pt x="939" y="301"/>
                    </a:lnTo>
                    <a:lnTo>
                      <a:pt x="926" y="365"/>
                    </a:lnTo>
                    <a:lnTo>
                      <a:pt x="912" y="426"/>
                    </a:lnTo>
                    <a:lnTo>
                      <a:pt x="899" y="481"/>
                    </a:lnTo>
                    <a:lnTo>
                      <a:pt x="883" y="534"/>
                    </a:lnTo>
                    <a:lnTo>
                      <a:pt x="867" y="583"/>
                    </a:lnTo>
                    <a:lnTo>
                      <a:pt x="848" y="629"/>
                    </a:lnTo>
                    <a:lnTo>
                      <a:pt x="830" y="671"/>
                    </a:lnTo>
                    <a:lnTo>
                      <a:pt x="811" y="710"/>
                    </a:lnTo>
                    <a:lnTo>
                      <a:pt x="789" y="746"/>
                    </a:lnTo>
                    <a:lnTo>
                      <a:pt x="766" y="779"/>
                    </a:lnTo>
                    <a:lnTo>
                      <a:pt x="742" y="810"/>
                    </a:lnTo>
                    <a:lnTo>
                      <a:pt x="717" y="837"/>
                    </a:lnTo>
                    <a:lnTo>
                      <a:pt x="690" y="863"/>
                    </a:lnTo>
                    <a:lnTo>
                      <a:pt x="662" y="885"/>
                    </a:lnTo>
                    <a:lnTo>
                      <a:pt x="632" y="907"/>
                    </a:lnTo>
                    <a:lnTo>
                      <a:pt x="601" y="925"/>
                    </a:lnTo>
                    <a:lnTo>
                      <a:pt x="568" y="942"/>
                    </a:lnTo>
                    <a:lnTo>
                      <a:pt x="533" y="957"/>
                    </a:lnTo>
                    <a:lnTo>
                      <a:pt x="496" y="971"/>
                    </a:lnTo>
                    <a:lnTo>
                      <a:pt x="459" y="983"/>
                    </a:lnTo>
                    <a:lnTo>
                      <a:pt x="419" y="995"/>
                    </a:lnTo>
                    <a:lnTo>
                      <a:pt x="377" y="1004"/>
                    </a:lnTo>
                    <a:lnTo>
                      <a:pt x="333" y="1013"/>
                    </a:lnTo>
                    <a:lnTo>
                      <a:pt x="288" y="1021"/>
                    </a:lnTo>
                    <a:lnTo>
                      <a:pt x="240" y="1028"/>
                    </a:lnTo>
                    <a:lnTo>
                      <a:pt x="191" y="1035"/>
                    </a:lnTo>
                    <a:lnTo>
                      <a:pt x="139" y="1041"/>
                    </a:lnTo>
                    <a:lnTo>
                      <a:pt x="86" y="1046"/>
                    </a:lnTo>
                    <a:lnTo>
                      <a:pt x="78" y="1053"/>
                    </a:lnTo>
                    <a:lnTo>
                      <a:pt x="71" y="1061"/>
                    </a:lnTo>
                    <a:lnTo>
                      <a:pt x="64" y="1070"/>
                    </a:lnTo>
                    <a:lnTo>
                      <a:pt x="58" y="1079"/>
                    </a:lnTo>
                    <a:lnTo>
                      <a:pt x="53" y="1088"/>
                    </a:lnTo>
                    <a:lnTo>
                      <a:pt x="49" y="1099"/>
                    </a:lnTo>
                    <a:lnTo>
                      <a:pt x="45" y="1109"/>
                    </a:lnTo>
                    <a:lnTo>
                      <a:pt x="42" y="1119"/>
                    </a:lnTo>
                    <a:lnTo>
                      <a:pt x="40" y="1131"/>
                    </a:lnTo>
                    <a:lnTo>
                      <a:pt x="39" y="1142"/>
                    </a:lnTo>
                    <a:lnTo>
                      <a:pt x="39" y="1152"/>
                    </a:lnTo>
                    <a:lnTo>
                      <a:pt x="40" y="1164"/>
                    </a:lnTo>
                    <a:lnTo>
                      <a:pt x="41" y="1175"/>
                    </a:lnTo>
                    <a:lnTo>
                      <a:pt x="45" y="1185"/>
                    </a:lnTo>
                    <a:lnTo>
                      <a:pt x="48" y="1196"/>
                    </a:lnTo>
                    <a:lnTo>
                      <a:pt x="54" y="1206"/>
                    </a:lnTo>
                    <a:lnTo>
                      <a:pt x="60" y="1216"/>
                    </a:lnTo>
                    <a:lnTo>
                      <a:pt x="68" y="1225"/>
                    </a:lnTo>
                    <a:lnTo>
                      <a:pt x="77" y="1233"/>
                    </a:lnTo>
                    <a:lnTo>
                      <a:pt x="87" y="1241"/>
                    </a:lnTo>
                    <a:lnTo>
                      <a:pt x="98" y="1249"/>
                    </a:lnTo>
                    <a:lnTo>
                      <a:pt x="111" y="1256"/>
                    </a:lnTo>
                    <a:lnTo>
                      <a:pt x="125" y="1262"/>
                    </a:lnTo>
                    <a:lnTo>
                      <a:pt x="141" y="1266"/>
                    </a:lnTo>
                    <a:lnTo>
                      <a:pt x="158" y="1270"/>
                    </a:lnTo>
                    <a:lnTo>
                      <a:pt x="177" y="1272"/>
                    </a:lnTo>
                    <a:lnTo>
                      <a:pt x="198" y="1274"/>
                    </a:lnTo>
                    <a:lnTo>
                      <a:pt x="219" y="1274"/>
                    </a:lnTo>
                    <a:lnTo>
                      <a:pt x="243" y="1273"/>
                    </a:lnTo>
                    <a:lnTo>
                      <a:pt x="268" y="1271"/>
                    </a:lnTo>
                    <a:lnTo>
                      <a:pt x="296" y="1266"/>
                    </a:lnTo>
                    <a:lnTo>
                      <a:pt x="324" y="1261"/>
                    </a:lnTo>
                    <a:lnTo>
                      <a:pt x="325" y="1273"/>
                    </a:lnTo>
                    <a:lnTo>
                      <a:pt x="323" y="1285"/>
                    </a:lnTo>
                    <a:lnTo>
                      <a:pt x="320" y="1295"/>
                    </a:lnTo>
                    <a:lnTo>
                      <a:pt x="314" y="1304"/>
                    </a:lnTo>
                    <a:lnTo>
                      <a:pt x="306" y="1313"/>
                    </a:lnTo>
                    <a:lnTo>
                      <a:pt x="296" y="1322"/>
                    </a:lnTo>
                    <a:lnTo>
                      <a:pt x="284" y="1330"/>
                    </a:lnTo>
                    <a:lnTo>
                      <a:pt x="273" y="1338"/>
                    </a:lnTo>
                    <a:lnTo>
                      <a:pt x="258" y="1345"/>
                    </a:lnTo>
                    <a:lnTo>
                      <a:pt x="244" y="1352"/>
                    </a:lnTo>
                    <a:lnTo>
                      <a:pt x="228" y="1359"/>
                    </a:lnTo>
                    <a:lnTo>
                      <a:pt x="212" y="1366"/>
                    </a:lnTo>
                    <a:lnTo>
                      <a:pt x="178" y="1378"/>
                    </a:lnTo>
                    <a:lnTo>
                      <a:pt x="143" y="1391"/>
                    </a:lnTo>
                    <a:lnTo>
                      <a:pt x="110" y="1403"/>
                    </a:lnTo>
                    <a:lnTo>
                      <a:pt x="78" y="1417"/>
                    </a:lnTo>
                    <a:lnTo>
                      <a:pt x="63" y="1424"/>
                    </a:lnTo>
                    <a:lnTo>
                      <a:pt x="50" y="1432"/>
                    </a:lnTo>
                    <a:lnTo>
                      <a:pt x="38" y="1440"/>
                    </a:lnTo>
                    <a:lnTo>
                      <a:pt x="27" y="1449"/>
                    </a:lnTo>
                    <a:lnTo>
                      <a:pt x="17" y="1458"/>
                    </a:lnTo>
                    <a:lnTo>
                      <a:pt x="11" y="1468"/>
                    </a:lnTo>
                    <a:lnTo>
                      <a:pt x="5" y="1479"/>
                    </a:lnTo>
                    <a:lnTo>
                      <a:pt x="1" y="1490"/>
                    </a:lnTo>
                    <a:lnTo>
                      <a:pt x="0" y="1501"/>
                    </a:lnTo>
                    <a:lnTo>
                      <a:pt x="3" y="1515"/>
                    </a:lnTo>
                    <a:lnTo>
                      <a:pt x="6" y="1529"/>
                    </a:lnTo>
                    <a:lnTo>
                      <a:pt x="13" y="1544"/>
                    </a:lnTo>
                    <a:lnTo>
                      <a:pt x="20" y="1561"/>
                    </a:lnTo>
                    <a:lnTo>
                      <a:pt x="28" y="1577"/>
                    </a:lnTo>
                    <a:lnTo>
                      <a:pt x="37" y="1590"/>
                    </a:lnTo>
                    <a:lnTo>
                      <a:pt x="48" y="1602"/>
                    </a:lnTo>
                    <a:lnTo>
                      <a:pt x="60" y="1611"/>
                    </a:lnTo>
                    <a:lnTo>
                      <a:pt x="72" y="1618"/>
                    </a:lnTo>
                    <a:lnTo>
                      <a:pt x="86" y="1625"/>
                    </a:lnTo>
                    <a:lnTo>
                      <a:pt x="101" y="1628"/>
                    </a:lnTo>
                    <a:lnTo>
                      <a:pt x="117" y="1631"/>
                    </a:lnTo>
                    <a:lnTo>
                      <a:pt x="131" y="1633"/>
                    </a:lnTo>
                    <a:lnTo>
                      <a:pt x="149" y="1634"/>
                    </a:lnTo>
                    <a:lnTo>
                      <a:pt x="164" y="1633"/>
                    </a:lnTo>
                    <a:lnTo>
                      <a:pt x="182" y="1631"/>
                    </a:lnTo>
                    <a:lnTo>
                      <a:pt x="198" y="1630"/>
                    </a:lnTo>
                    <a:lnTo>
                      <a:pt x="215" y="1627"/>
                    </a:lnTo>
                    <a:lnTo>
                      <a:pt x="232" y="1624"/>
                    </a:lnTo>
                    <a:lnTo>
                      <a:pt x="294" y="1610"/>
                    </a:lnTo>
                    <a:lnTo>
                      <a:pt x="346" y="1597"/>
                    </a:lnTo>
                    <a:lnTo>
                      <a:pt x="356" y="1596"/>
                    </a:lnTo>
                    <a:lnTo>
                      <a:pt x="365" y="1595"/>
                    </a:lnTo>
                    <a:lnTo>
                      <a:pt x="372" y="1595"/>
                    </a:lnTo>
                    <a:lnTo>
                      <a:pt x="378" y="1597"/>
                    </a:lnTo>
                    <a:lnTo>
                      <a:pt x="382" y="1600"/>
                    </a:lnTo>
                    <a:lnTo>
                      <a:pt x="384" y="1603"/>
                    </a:lnTo>
                    <a:lnTo>
                      <a:pt x="386" y="1609"/>
                    </a:lnTo>
                    <a:lnTo>
                      <a:pt x="384" y="1616"/>
                    </a:lnTo>
                    <a:lnTo>
                      <a:pt x="396" y="1629"/>
                    </a:lnTo>
                    <a:lnTo>
                      <a:pt x="404" y="1643"/>
                    </a:lnTo>
                    <a:lnTo>
                      <a:pt x="408" y="1655"/>
                    </a:lnTo>
                    <a:lnTo>
                      <a:pt x="410" y="1668"/>
                    </a:lnTo>
                    <a:lnTo>
                      <a:pt x="410" y="1679"/>
                    </a:lnTo>
                    <a:lnTo>
                      <a:pt x="406" y="1692"/>
                    </a:lnTo>
                    <a:lnTo>
                      <a:pt x="400" y="1703"/>
                    </a:lnTo>
                    <a:lnTo>
                      <a:pt x="394" y="1715"/>
                    </a:lnTo>
                    <a:lnTo>
                      <a:pt x="384" y="1726"/>
                    </a:lnTo>
                    <a:lnTo>
                      <a:pt x="374" y="1738"/>
                    </a:lnTo>
                    <a:lnTo>
                      <a:pt x="363" y="1748"/>
                    </a:lnTo>
                    <a:lnTo>
                      <a:pt x="350" y="1759"/>
                    </a:lnTo>
                    <a:lnTo>
                      <a:pt x="323" y="1781"/>
                    </a:lnTo>
                    <a:lnTo>
                      <a:pt x="296" y="1801"/>
                    </a:lnTo>
                    <a:lnTo>
                      <a:pt x="268" y="1823"/>
                    </a:lnTo>
                    <a:lnTo>
                      <a:pt x="244" y="1845"/>
                    </a:lnTo>
                    <a:lnTo>
                      <a:pt x="234" y="1855"/>
                    </a:lnTo>
                    <a:lnTo>
                      <a:pt x="226" y="1867"/>
                    </a:lnTo>
                    <a:lnTo>
                      <a:pt x="219" y="1878"/>
                    </a:lnTo>
                    <a:lnTo>
                      <a:pt x="213" y="1889"/>
                    </a:lnTo>
                    <a:lnTo>
                      <a:pt x="210" y="1901"/>
                    </a:lnTo>
                    <a:lnTo>
                      <a:pt x="210" y="1912"/>
                    </a:lnTo>
                    <a:lnTo>
                      <a:pt x="212" y="1924"/>
                    </a:lnTo>
                    <a:lnTo>
                      <a:pt x="217" y="1936"/>
                    </a:lnTo>
                    <a:lnTo>
                      <a:pt x="225" y="1949"/>
                    </a:lnTo>
                    <a:lnTo>
                      <a:pt x="237" y="1961"/>
                    </a:lnTo>
                    <a:lnTo>
                      <a:pt x="252" y="1974"/>
                    </a:lnTo>
                    <a:lnTo>
                      <a:pt x="272" y="1987"/>
                    </a:lnTo>
                    <a:lnTo>
                      <a:pt x="290" y="1992"/>
                    </a:lnTo>
                    <a:lnTo>
                      <a:pt x="308" y="1997"/>
                    </a:lnTo>
                    <a:lnTo>
                      <a:pt x="326" y="1999"/>
                    </a:lnTo>
                    <a:lnTo>
                      <a:pt x="343" y="2002"/>
                    </a:lnTo>
                    <a:lnTo>
                      <a:pt x="361" y="2003"/>
                    </a:lnTo>
                    <a:lnTo>
                      <a:pt x="378" y="2005"/>
                    </a:lnTo>
                    <a:lnTo>
                      <a:pt x="394" y="2006"/>
                    </a:lnTo>
                    <a:lnTo>
                      <a:pt x="411" y="2006"/>
                    </a:lnTo>
                    <a:lnTo>
                      <a:pt x="441" y="2005"/>
                    </a:lnTo>
                    <a:lnTo>
                      <a:pt x="472" y="2001"/>
                    </a:lnTo>
                    <a:lnTo>
                      <a:pt x="503" y="1995"/>
                    </a:lnTo>
                    <a:lnTo>
                      <a:pt x="532" y="1989"/>
                    </a:lnTo>
                    <a:lnTo>
                      <a:pt x="560" y="1982"/>
                    </a:lnTo>
                    <a:lnTo>
                      <a:pt x="587" y="1973"/>
                    </a:lnTo>
                    <a:lnTo>
                      <a:pt x="615" y="1963"/>
                    </a:lnTo>
                    <a:lnTo>
                      <a:pt x="642" y="1953"/>
                    </a:lnTo>
                    <a:lnTo>
                      <a:pt x="696" y="1933"/>
                    </a:lnTo>
                    <a:lnTo>
                      <a:pt x="749" y="1913"/>
                    </a:lnTo>
                    <a:lnTo>
                      <a:pt x="807" y="1884"/>
                    </a:lnTo>
                    <a:lnTo>
                      <a:pt x="863" y="1853"/>
                    </a:lnTo>
                    <a:lnTo>
                      <a:pt x="913" y="1821"/>
                    </a:lnTo>
                    <a:lnTo>
                      <a:pt x="961" y="1787"/>
                    </a:lnTo>
                    <a:lnTo>
                      <a:pt x="1006" y="1750"/>
                    </a:lnTo>
                    <a:lnTo>
                      <a:pt x="1047" y="1712"/>
                    </a:lnTo>
                    <a:lnTo>
                      <a:pt x="1083" y="1674"/>
                    </a:lnTo>
                    <a:lnTo>
                      <a:pt x="1119" y="1631"/>
                    </a:lnTo>
                    <a:lnTo>
                      <a:pt x="1149" y="1589"/>
                    </a:lnTo>
                    <a:lnTo>
                      <a:pt x="1178" y="1545"/>
                    </a:lnTo>
                    <a:lnTo>
                      <a:pt x="1204" y="1498"/>
                    </a:lnTo>
                    <a:lnTo>
                      <a:pt x="1227" y="1449"/>
                    </a:lnTo>
                    <a:lnTo>
                      <a:pt x="1247" y="1399"/>
                    </a:lnTo>
                    <a:lnTo>
                      <a:pt x="1266" y="1347"/>
                    </a:lnTo>
                    <a:lnTo>
                      <a:pt x="1282" y="1294"/>
                    </a:lnTo>
                    <a:lnTo>
                      <a:pt x="1295" y="1238"/>
                    </a:lnTo>
                    <a:lnTo>
                      <a:pt x="1308" y="1180"/>
                    </a:lnTo>
                    <a:lnTo>
                      <a:pt x="1317" y="1120"/>
                    </a:lnTo>
                    <a:lnTo>
                      <a:pt x="1326" y="1059"/>
                    </a:lnTo>
                    <a:lnTo>
                      <a:pt x="1332" y="996"/>
                    </a:lnTo>
                    <a:lnTo>
                      <a:pt x="1338" y="931"/>
                    </a:lnTo>
                    <a:lnTo>
                      <a:pt x="1341" y="864"/>
                    </a:lnTo>
                    <a:lnTo>
                      <a:pt x="1343" y="794"/>
                    </a:lnTo>
                    <a:lnTo>
                      <a:pt x="1344" y="723"/>
                    </a:lnTo>
                    <a:lnTo>
                      <a:pt x="1346" y="650"/>
                    </a:lnTo>
                    <a:lnTo>
                      <a:pt x="1344" y="575"/>
                    </a:lnTo>
                    <a:lnTo>
                      <a:pt x="1343" y="499"/>
                    </a:lnTo>
                    <a:lnTo>
                      <a:pt x="1342" y="420"/>
                    </a:lnTo>
                    <a:lnTo>
                      <a:pt x="1336" y="256"/>
                    </a:lnTo>
                    <a:lnTo>
                      <a:pt x="1331" y="82"/>
                    </a:lnTo>
                    <a:lnTo>
                      <a:pt x="1317" y="94"/>
                    </a:lnTo>
                    <a:lnTo>
                      <a:pt x="1303" y="104"/>
                    </a:lnTo>
                    <a:lnTo>
                      <a:pt x="1291" y="111"/>
                    </a:lnTo>
                    <a:lnTo>
                      <a:pt x="1278" y="118"/>
                    </a:lnTo>
                    <a:lnTo>
                      <a:pt x="1266" y="122"/>
                    </a:lnTo>
                    <a:lnTo>
                      <a:pt x="1254" y="127"/>
                    </a:lnTo>
                    <a:lnTo>
                      <a:pt x="1243" y="129"/>
                    </a:lnTo>
                    <a:lnTo>
                      <a:pt x="1232" y="130"/>
                    </a:lnTo>
                    <a:lnTo>
                      <a:pt x="1220" y="130"/>
                    </a:lnTo>
                    <a:lnTo>
                      <a:pt x="1210" y="129"/>
                    </a:lnTo>
                    <a:lnTo>
                      <a:pt x="1198" y="127"/>
                    </a:lnTo>
                    <a:lnTo>
                      <a:pt x="1188" y="124"/>
                    </a:lnTo>
                    <a:lnTo>
                      <a:pt x="1178" y="120"/>
                    </a:lnTo>
                    <a:lnTo>
                      <a:pt x="1168" y="115"/>
                    </a:lnTo>
                    <a:lnTo>
                      <a:pt x="1157" y="111"/>
                    </a:lnTo>
                    <a:lnTo>
                      <a:pt x="1148" y="105"/>
                    </a:lnTo>
                    <a:lnTo>
                      <a:pt x="1108" y="79"/>
                    </a:lnTo>
                    <a:lnTo>
                      <a:pt x="1067" y="49"/>
                    </a:lnTo>
                    <a:lnTo>
                      <a:pt x="1047" y="34"/>
                    </a:lnTo>
                    <a:lnTo>
                      <a:pt x="1024" y="22"/>
                    </a:lnTo>
                    <a:lnTo>
                      <a:pt x="1014" y="15"/>
                    </a:lnTo>
                    <a:lnTo>
                      <a:pt x="1002" y="10"/>
                    </a:lnTo>
                    <a:lnTo>
                      <a:pt x="990" y="5"/>
                    </a:lnTo>
                    <a:lnTo>
                      <a:pt x="97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4948200" y="4025880"/>
                <a:ext cx="304920" cy="343080"/>
              </a:xfrm>
              <a:custGeom>
                <a:avLst/>
                <a:gdLst/>
                <a:ahLst/>
                <a:rect l="l" t="t" r="r" b="b"/>
                <a:pathLst>
                  <a:path w="959" h="1081">
                    <a:moveTo>
                      <a:pt x="55" y="1073"/>
                    </a:moveTo>
                    <a:lnTo>
                      <a:pt x="37" y="1081"/>
                    </a:lnTo>
                    <a:lnTo>
                      <a:pt x="91" y="1076"/>
                    </a:lnTo>
                    <a:lnTo>
                      <a:pt x="143" y="1070"/>
                    </a:lnTo>
                    <a:lnTo>
                      <a:pt x="192" y="1063"/>
                    </a:lnTo>
                    <a:lnTo>
                      <a:pt x="241" y="1056"/>
                    </a:lnTo>
                    <a:lnTo>
                      <a:pt x="287" y="1048"/>
                    </a:lnTo>
                    <a:lnTo>
                      <a:pt x="332" y="1039"/>
                    </a:lnTo>
                    <a:lnTo>
                      <a:pt x="375" y="1029"/>
                    </a:lnTo>
                    <a:lnTo>
                      <a:pt x="416" y="1017"/>
                    </a:lnTo>
                    <a:lnTo>
                      <a:pt x="456" y="1005"/>
                    </a:lnTo>
                    <a:lnTo>
                      <a:pt x="493" y="991"/>
                    </a:lnTo>
                    <a:lnTo>
                      <a:pt x="513" y="983"/>
                    </a:lnTo>
                    <a:lnTo>
                      <a:pt x="530" y="975"/>
                    </a:lnTo>
                    <a:lnTo>
                      <a:pt x="548" y="966"/>
                    </a:lnTo>
                    <a:lnTo>
                      <a:pt x="565" y="957"/>
                    </a:lnTo>
                    <a:lnTo>
                      <a:pt x="582" y="948"/>
                    </a:lnTo>
                    <a:lnTo>
                      <a:pt x="598" y="938"/>
                    </a:lnTo>
                    <a:lnTo>
                      <a:pt x="614" y="926"/>
                    </a:lnTo>
                    <a:lnTo>
                      <a:pt x="630" y="915"/>
                    </a:lnTo>
                    <a:lnTo>
                      <a:pt x="646" y="903"/>
                    </a:lnTo>
                    <a:lnTo>
                      <a:pt x="661" y="891"/>
                    </a:lnTo>
                    <a:lnTo>
                      <a:pt x="674" y="877"/>
                    </a:lnTo>
                    <a:lnTo>
                      <a:pt x="689" y="863"/>
                    </a:lnTo>
                    <a:lnTo>
                      <a:pt x="703" y="849"/>
                    </a:lnTo>
                    <a:lnTo>
                      <a:pt x="717" y="834"/>
                    </a:lnTo>
                    <a:lnTo>
                      <a:pt x="729" y="818"/>
                    </a:lnTo>
                    <a:lnTo>
                      <a:pt x="742" y="802"/>
                    </a:lnTo>
                    <a:lnTo>
                      <a:pt x="753" y="785"/>
                    </a:lnTo>
                    <a:lnTo>
                      <a:pt x="766" y="766"/>
                    </a:lnTo>
                    <a:lnTo>
                      <a:pt x="777" y="748"/>
                    </a:lnTo>
                    <a:lnTo>
                      <a:pt x="787" y="729"/>
                    </a:lnTo>
                    <a:lnTo>
                      <a:pt x="799" y="708"/>
                    </a:lnTo>
                    <a:lnTo>
                      <a:pt x="809" y="688"/>
                    </a:lnTo>
                    <a:lnTo>
                      <a:pt x="818" y="666"/>
                    </a:lnTo>
                    <a:lnTo>
                      <a:pt x="828" y="643"/>
                    </a:lnTo>
                    <a:lnTo>
                      <a:pt x="847" y="596"/>
                    </a:lnTo>
                    <a:lnTo>
                      <a:pt x="864" y="546"/>
                    </a:lnTo>
                    <a:lnTo>
                      <a:pt x="879" y="493"/>
                    </a:lnTo>
                    <a:lnTo>
                      <a:pt x="893" y="436"/>
                    </a:lnTo>
                    <a:lnTo>
                      <a:pt x="907" y="374"/>
                    </a:lnTo>
                    <a:lnTo>
                      <a:pt x="920" y="309"/>
                    </a:lnTo>
                    <a:lnTo>
                      <a:pt x="931" y="239"/>
                    </a:lnTo>
                    <a:lnTo>
                      <a:pt x="941" y="166"/>
                    </a:lnTo>
                    <a:lnTo>
                      <a:pt x="950" y="89"/>
                    </a:lnTo>
                    <a:lnTo>
                      <a:pt x="959" y="5"/>
                    </a:lnTo>
                    <a:lnTo>
                      <a:pt x="892" y="0"/>
                    </a:lnTo>
                    <a:lnTo>
                      <a:pt x="884" y="81"/>
                    </a:lnTo>
                    <a:lnTo>
                      <a:pt x="874" y="157"/>
                    </a:lnTo>
                    <a:lnTo>
                      <a:pt x="864" y="229"/>
                    </a:lnTo>
                    <a:lnTo>
                      <a:pt x="852" y="298"/>
                    </a:lnTo>
                    <a:lnTo>
                      <a:pt x="841" y="360"/>
                    </a:lnTo>
                    <a:lnTo>
                      <a:pt x="827" y="420"/>
                    </a:lnTo>
                    <a:lnTo>
                      <a:pt x="814" y="475"/>
                    </a:lnTo>
                    <a:lnTo>
                      <a:pt x="799" y="527"/>
                    </a:lnTo>
                    <a:lnTo>
                      <a:pt x="783" y="574"/>
                    </a:lnTo>
                    <a:lnTo>
                      <a:pt x="766" y="618"/>
                    </a:lnTo>
                    <a:lnTo>
                      <a:pt x="757" y="639"/>
                    </a:lnTo>
                    <a:lnTo>
                      <a:pt x="747" y="659"/>
                    </a:lnTo>
                    <a:lnTo>
                      <a:pt x="738" y="677"/>
                    </a:lnTo>
                    <a:lnTo>
                      <a:pt x="729" y="696"/>
                    </a:lnTo>
                    <a:lnTo>
                      <a:pt x="719" y="714"/>
                    </a:lnTo>
                    <a:lnTo>
                      <a:pt x="709" y="730"/>
                    </a:lnTo>
                    <a:lnTo>
                      <a:pt x="698" y="746"/>
                    </a:lnTo>
                    <a:lnTo>
                      <a:pt x="687" y="762"/>
                    </a:lnTo>
                    <a:lnTo>
                      <a:pt x="676" y="776"/>
                    </a:lnTo>
                    <a:lnTo>
                      <a:pt x="664" y="790"/>
                    </a:lnTo>
                    <a:lnTo>
                      <a:pt x="653" y="803"/>
                    </a:lnTo>
                    <a:lnTo>
                      <a:pt x="641" y="815"/>
                    </a:lnTo>
                    <a:lnTo>
                      <a:pt x="629" y="828"/>
                    </a:lnTo>
                    <a:lnTo>
                      <a:pt x="616" y="839"/>
                    </a:lnTo>
                    <a:lnTo>
                      <a:pt x="603" y="851"/>
                    </a:lnTo>
                    <a:lnTo>
                      <a:pt x="590" y="861"/>
                    </a:lnTo>
                    <a:lnTo>
                      <a:pt x="576" y="871"/>
                    </a:lnTo>
                    <a:lnTo>
                      <a:pt x="562" y="881"/>
                    </a:lnTo>
                    <a:lnTo>
                      <a:pt x="548" y="890"/>
                    </a:lnTo>
                    <a:lnTo>
                      <a:pt x="532" y="898"/>
                    </a:lnTo>
                    <a:lnTo>
                      <a:pt x="517" y="907"/>
                    </a:lnTo>
                    <a:lnTo>
                      <a:pt x="501" y="914"/>
                    </a:lnTo>
                    <a:lnTo>
                      <a:pt x="485" y="922"/>
                    </a:lnTo>
                    <a:lnTo>
                      <a:pt x="469" y="928"/>
                    </a:lnTo>
                    <a:lnTo>
                      <a:pt x="434" y="942"/>
                    </a:lnTo>
                    <a:lnTo>
                      <a:pt x="397" y="954"/>
                    </a:lnTo>
                    <a:lnTo>
                      <a:pt x="359" y="964"/>
                    </a:lnTo>
                    <a:lnTo>
                      <a:pt x="318" y="973"/>
                    </a:lnTo>
                    <a:lnTo>
                      <a:pt x="275" y="982"/>
                    </a:lnTo>
                    <a:lnTo>
                      <a:pt x="230" y="989"/>
                    </a:lnTo>
                    <a:lnTo>
                      <a:pt x="183" y="997"/>
                    </a:lnTo>
                    <a:lnTo>
                      <a:pt x="134" y="1003"/>
                    </a:lnTo>
                    <a:lnTo>
                      <a:pt x="83" y="1008"/>
                    </a:lnTo>
                    <a:lnTo>
                      <a:pt x="30" y="1014"/>
                    </a:lnTo>
                    <a:lnTo>
                      <a:pt x="11" y="1022"/>
                    </a:lnTo>
                    <a:lnTo>
                      <a:pt x="30" y="1014"/>
                    </a:lnTo>
                    <a:lnTo>
                      <a:pt x="22" y="1016"/>
                    </a:lnTo>
                    <a:lnTo>
                      <a:pt x="16" y="1019"/>
                    </a:lnTo>
                    <a:lnTo>
                      <a:pt x="10" y="1023"/>
                    </a:lnTo>
                    <a:lnTo>
                      <a:pt x="6" y="1028"/>
                    </a:lnTo>
                    <a:lnTo>
                      <a:pt x="3" y="1033"/>
                    </a:lnTo>
                    <a:lnTo>
                      <a:pt x="1" y="1039"/>
                    </a:lnTo>
                    <a:lnTo>
                      <a:pt x="0" y="1045"/>
                    </a:lnTo>
                    <a:lnTo>
                      <a:pt x="0" y="1052"/>
                    </a:lnTo>
                    <a:lnTo>
                      <a:pt x="1" y="1057"/>
                    </a:lnTo>
                    <a:lnTo>
                      <a:pt x="3" y="1063"/>
                    </a:lnTo>
                    <a:lnTo>
                      <a:pt x="6" y="1069"/>
                    </a:lnTo>
                    <a:lnTo>
                      <a:pt x="11" y="1073"/>
                    </a:lnTo>
                    <a:lnTo>
                      <a:pt x="16" y="1078"/>
                    </a:lnTo>
                    <a:lnTo>
                      <a:pt x="22" y="1080"/>
                    </a:lnTo>
                    <a:lnTo>
                      <a:pt x="29" y="1081"/>
                    </a:lnTo>
                    <a:lnTo>
                      <a:pt x="37" y="1081"/>
                    </a:lnTo>
                    <a:lnTo>
                      <a:pt x="55" y="10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4933800" y="4351320"/>
                <a:ext cx="111240" cy="90360"/>
              </a:xfrm>
              <a:custGeom>
                <a:avLst/>
                <a:gdLst/>
                <a:ahLst/>
                <a:rect l="l" t="t" r="r" b="b"/>
                <a:pathLst>
                  <a:path w="353" h="287">
                    <a:moveTo>
                      <a:pt x="352" y="235"/>
                    </a:moveTo>
                    <a:lnTo>
                      <a:pt x="312" y="208"/>
                    </a:lnTo>
                    <a:lnTo>
                      <a:pt x="285" y="213"/>
                    </a:lnTo>
                    <a:lnTo>
                      <a:pt x="259" y="217"/>
                    </a:lnTo>
                    <a:lnTo>
                      <a:pt x="236" y="219"/>
                    </a:lnTo>
                    <a:lnTo>
                      <a:pt x="213" y="220"/>
                    </a:lnTo>
                    <a:lnTo>
                      <a:pt x="194" y="220"/>
                    </a:lnTo>
                    <a:lnTo>
                      <a:pt x="175" y="219"/>
                    </a:lnTo>
                    <a:lnTo>
                      <a:pt x="158" y="217"/>
                    </a:lnTo>
                    <a:lnTo>
                      <a:pt x="144" y="213"/>
                    </a:lnTo>
                    <a:lnTo>
                      <a:pt x="131" y="210"/>
                    </a:lnTo>
                    <a:lnTo>
                      <a:pt x="120" y="205"/>
                    </a:lnTo>
                    <a:lnTo>
                      <a:pt x="109" y="200"/>
                    </a:lnTo>
                    <a:lnTo>
                      <a:pt x="101" y="194"/>
                    </a:lnTo>
                    <a:lnTo>
                      <a:pt x="93" y="188"/>
                    </a:lnTo>
                    <a:lnTo>
                      <a:pt x="88" y="183"/>
                    </a:lnTo>
                    <a:lnTo>
                      <a:pt x="82" y="176"/>
                    </a:lnTo>
                    <a:lnTo>
                      <a:pt x="79" y="169"/>
                    </a:lnTo>
                    <a:lnTo>
                      <a:pt x="74" y="162"/>
                    </a:lnTo>
                    <a:lnTo>
                      <a:pt x="72" y="155"/>
                    </a:lnTo>
                    <a:lnTo>
                      <a:pt x="69" y="147"/>
                    </a:lnTo>
                    <a:lnTo>
                      <a:pt x="68" y="140"/>
                    </a:lnTo>
                    <a:lnTo>
                      <a:pt x="67" y="132"/>
                    </a:lnTo>
                    <a:lnTo>
                      <a:pt x="68" y="123"/>
                    </a:lnTo>
                    <a:lnTo>
                      <a:pt x="68" y="115"/>
                    </a:lnTo>
                    <a:lnTo>
                      <a:pt x="71" y="107"/>
                    </a:lnTo>
                    <a:lnTo>
                      <a:pt x="73" y="99"/>
                    </a:lnTo>
                    <a:lnTo>
                      <a:pt x="75" y="91"/>
                    </a:lnTo>
                    <a:lnTo>
                      <a:pt x="79" y="83"/>
                    </a:lnTo>
                    <a:lnTo>
                      <a:pt x="83" y="76"/>
                    </a:lnTo>
                    <a:lnTo>
                      <a:pt x="87" y="70"/>
                    </a:lnTo>
                    <a:lnTo>
                      <a:pt x="92" y="63"/>
                    </a:lnTo>
                    <a:lnTo>
                      <a:pt x="97" y="57"/>
                    </a:lnTo>
                    <a:lnTo>
                      <a:pt x="102" y="51"/>
                    </a:lnTo>
                    <a:lnTo>
                      <a:pt x="58" y="0"/>
                    </a:lnTo>
                    <a:lnTo>
                      <a:pt x="49" y="9"/>
                    </a:lnTo>
                    <a:lnTo>
                      <a:pt x="40" y="19"/>
                    </a:lnTo>
                    <a:lnTo>
                      <a:pt x="32" y="31"/>
                    </a:lnTo>
                    <a:lnTo>
                      <a:pt x="24" y="42"/>
                    </a:lnTo>
                    <a:lnTo>
                      <a:pt x="18" y="54"/>
                    </a:lnTo>
                    <a:lnTo>
                      <a:pt x="12" y="66"/>
                    </a:lnTo>
                    <a:lnTo>
                      <a:pt x="8" y="79"/>
                    </a:lnTo>
                    <a:lnTo>
                      <a:pt x="4" y="92"/>
                    </a:lnTo>
                    <a:lnTo>
                      <a:pt x="2" y="106"/>
                    </a:lnTo>
                    <a:lnTo>
                      <a:pt x="1" y="120"/>
                    </a:lnTo>
                    <a:lnTo>
                      <a:pt x="0" y="133"/>
                    </a:lnTo>
                    <a:lnTo>
                      <a:pt x="1" y="147"/>
                    </a:lnTo>
                    <a:lnTo>
                      <a:pt x="3" y="162"/>
                    </a:lnTo>
                    <a:lnTo>
                      <a:pt x="8" y="176"/>
                    </a:lnTo>
                    <a:lnTo>
                      <a:pt x="12" y="189"/>
                    </a:lnTo>
                    <a:lnTo>
                      <a:pt x="19" y="203"/>
                    </a:lnTo>
                    <a:lnTo>
                      <a:pt x="27" y="216"/>
                    </a:lnTo>
                    <a:lnTo>
                      <a:pt x="37" y="228"/>
                    </a:lnTo>
                    <a:lnTo>
                      <a:pt x="49" y="238"/>
                    </a:lnTo>
                    <a:lnTo>
                      <a:pt x="61" y="249"/>
                    </a:lnTo>
                    <a:lnTo>
                      <a:pt x="76" y="259"/>
                    </a:lnTo>
                    <a:lnTo>
                      <a:pt x="92" y="267"/>
                    </a:lnTo>
                    <a:lnTo>
                      <a:pt x="109" y="274"/>
                    </a:lnTo>
                    <a:lnTo>
                      <a:pt x="128" y="278"/>
                    </a:lnTo>
                    <a:lnTo>
                      <a:pt x="147" y="283"/>
                    </a:lnTo>
                    <a:lnTo>
                      <a:pt x="169" y="286"/>
                    </a:lnTo>
                    <a:lnTo>
                      <a:pt x="190" y="287"/>
                    </a:lnTo>
                    <a:lnTo>
                      <a:pt x="215" y="287"/>
                    </a:lnTo>
                    <a:lnTo>
                      <a:pt x="240" y="286"/>
                    </a:lnTo>
                    <a:lnTo>
                      <a:pt x="268" y="284"/>
                    </a:lnTo>
                    <a:lnTo>
                      <a:pt x="296" y="279"/>
                    </a:lnTo>
                    <a:lnTo>
                      <a:pt x="326" y="274"/>
                    </a:lnTo>
                    <a:lnTo>
                      <a:pt x="286" y="246"/>
                    </a:lnTo>
                    <a:lnTo>
                      <a:pt x="326" y="274"/>
                    </a:lnTo>
                    <a:lnTo>
                      <a:pt x="334" y="272"/>
                    </a:lnTo>
                    <a:lnTo>
                      <a:pt x="340" y="268"/>
                    </a:lnTo>
                    <a:lnTo>
                      <a:pt x="345" y="264"/>
                    </a:lnTo>
                    <a:lnTo>
                      <a:pt x="349" y="258"/>
                    </a:lnTo>
                    <a:lnTo>
                      <a:pt x="351" y="252"/>
                    </a:lnTo>
                    <a:lnTo>
                      <a:pt x="353" y="246"/>
                    </a:lnTo>
                    <a:lnTo>
                      <a:pt x="353" y="241"/>
                    </a:lnTo>
                    <a:lnTo>
                      <a:pt x="352" y="234"/>
                    </a:lnTo>
                    <a:lnTo>
                      <a:pt x="350" y="228"/>
                    </a:lnTo>
                    <a:lnTo>
                      <a:pt x="348" y="222"/>
                    </a:lnTo>
                    <a:lnTo>
                      <a:pt x="344" y="217"/>
                    </a:lnTo>
                    <a:lnTo>
                      <a:pt x="340" y="213"/>
                    </a:lnTo>
                    <a:lnTo>
                      <a:pt x="334" y="210"/>
                    </a:lnTo>
                    <a:lnTo>
                      <a:pt x="327" y="208"/>
                    </a:lnTo>
                    <a:lnTo>
                      <a:pt x="320" y="206"/>
                    </a:lnTo>
                    <a:lnTo>
                      <a:pt x="312" y="208"/>
                    </a:lnTo>
                    <a:lnTo>
                      <a:pt x="352" y="2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4921200" y="4425840"/>
                <a:ext cx="123840" cy="101880"/>
              </a:xfrm>
              <a:custGeom>
                <a:avLst/>
                <a:gdLst/>
                <a:ahLst/>
                <a:rect l="l" t="t" r="r" b="b"/>
                <a:pathLst>
                  <a:path w="391" h="323">
                    <a:moveTo>
                      <a:pt x="78" y="278"/>
                    </a:moveTo>
                    <a:lnTo>
                      <a:pt x="75" y="273"/>
                    </a:lnTo>
                    <a:lnTo>
                      <a:pt x="73" y="267"/>
                    </a:lnTo>
                    <a:lnTo>
                      <a:pt x="71" y="261"/>
                    </a:lnTo>
                    <a:lnTo>
                      <a:pt x="69" y="257"/>
                    </a:lnTo>
                    <a:lnTo>
                      <a:pt x="68" y="253"/>
                    </a:lnTo>
                    <a:lnTo>
                      <a:pt x="68" y="250"/>
                    </a:lnTo>
                    <a:lnTo>
                      <a:pt x="68" y="246"/>
                    </a:lnTo>
                    <a:lnTo>
                      <a:pt x="68" y="243"/>
                    </a:lnTo>
                    <a:lnTo>
                      <a:pt x="68" y="241"/>
                    </a:lnTo>
                    <a:lnTo>
                      <a:pt x="69" y="238"/>
                    </a:lnTo>
                    <a:lnTo>
                      <a:pt x="70" y="236"/>
                    </a:lnTo>
                    <a:lnTo>
                      <a:pt x="71" y="234"/>
                    </a:lnTo>
                    <a:lnTo>
                      <a:pt x="71" y="232"/>
                    </a:lnTo>
                    <a:lnTo>
                      <a:pt x="77" y="225"/>
                    </a:lnTo>
                    <a:lnTo>
                      <a:pt x="82" y="219"/>
                    </a:lnTo>
                    <a:lnTo>
                      <a:pt x="90" y="212"/>
                    </a:lnTo>
                    <a:lnTo>
                      <a:pt x="101" y="205"/>
                    </a:lnTo>
                    <a:lnTo>
                      <a:pt x="112" y="199"/>
                    </a:lnTo>
                    <a:lnTo>
                      <a:pt x="125" y="193"/>
                    </a:lnTo>
                    <a:lnTo>
                      <a:pt x="155" y="179"/>
                    </a:lnTo>
                    <a:lnTo>
                      <a:pt x="188" y="167"/>
                    </a:lnTo>
                    <a:lnTo>
                      <a:pt x="223" y="155"/>
                    </a:lnTo>
                    <a:lnTo>
                      <a:pt x="257" y="141"/>
                    </a:lnTo>
                    <a:lnTo>
                      <a:pt x="274" y="135"/>
                    </a:lnTo>
                    <a:lnTo>
                      <a:pt x="291" y="128"/>
                    </a:lnTo>
                    <a:lnTo>
                      <a:pt x="307" y="121"/>
                    </a:lnTo>
                    <a:lnTo>
                      <a:pt x="322" y="112"/>
                    </a:lnTo>
                    <a:lnTo>
                      <a:pt x="337" y="104"/>
                    </a:lnTo>
                    <a:lnTo>
                      <a:pt x="350" y="94"/>
                    </a:lnTo>
                    <a:lnTo>
                      <a:pt x="363" y="82"/>
                    </a:lnTo>
                    <a:lnTo>
                      <a:pt x="374" y="70"/>
                    </a:lnTo>
                    <a:lnTo>
                      <a:pt x="383" y="55"/>
                    </a:lnTo>
                    <a:lnTo>
                      <a:pt x="389" y="39"/>
                    </a:lnTo>
                    <a:lnTo>
                      <a:pt x="391" y="29"/>
                    </a:lnTo>
                    <a:lnTo>
                      <a:pt x="391" y="19"/>
                    </a:lnTo>
                    <a:lnTo>
                      <a:pt x="391" y="10"/>
                    </a:lnTo>
                    <a:lnTo>
                      <a:pt x="390" y="0"/>
                    </a:lnTo>
                    <a:lnTo>
                      <a:pt x="324" y="11"/>
                    </a:lnTo>
                    <a:lnTo>
                      <a:pt x="324" y="14"/>
                    </a:lnTo>
                    <a:lnTo>
                      <a:pt x="324" y="16"/>
                    </a:lnTo>
                    <a:lnTo>
                      <a:pt x="324" y="18"/>
                    </a:lnTo>
                    <a:lnTo>
                      <a:pt x="324" y="19"/>
                    </a:lnTo>
                    <a:lnTo>
                      <a:pt x="322" y="25"/>
                    </a:lnTo>
                    <a:lnTo>
                      <a:pt x="319" y="30"/>
                    </a:lnTo>
                    <a:lnTo>
                      <a:pt x="315" y="35"/>
                    </a:lnTo>
                    <a:lnTo>
                      <a:pt x="308" y="41"/>
                    </a:lnTo>
                    <a:lnTo>
                      <a:pt x="299" y="47"/>
                    </a:lnTo>
                    <a:lnTo>
                      <a:pt x="289" y="54"/>
                    </a:lnTo>
                    <a:lnTo>
                      <a:pt x="276" y="60"/>
                    </a:lnTo>
                    <a:lnTo>
                      <a:pt x="262" y="66"/>
                    </a:lnTo>
                    <a:lnTo>
                      <a:pt x="249" y="73"/>
                    </a:lnTo>
                    <a:lnTo>
                      <a:pt x="233" y="79"/>
                    </a:lnTo>
                    <a:lnTo>
                      <a:pt x="200" y="91"/>
                    </a:lnTo>
                    <a:lnTo>
                      <a:pt x="164" y="104"/>
                    </a:lnTo>
                    <a:lnTo>
                      <a:pt x="130" y="118"/>
                    </a:lnTo>
                    <a:lnTo>
                      <a:pt x="97" y="131"/>
                    </a:lnTo>
                    <a:lnTo>
                      <a:pt x="80" y="139"/>
                    </a:lnTo>
                    <a:lnTo>
                      <a:pt x="65" y="148"/>
                    </a:lnTo>
                    <a:lnTo>
                      <a:pt x="52" y="157"/>
                    </a:lnTo>
                    <a:lnTo>
                      <a:pt x="38" y="169"/>
                    </a:lnTo>
                    <a:lnTo>
                      <a:pt x="25" y="180"/>
                    </a:lnTo>
                    <a:lnTo>
                      <a:pt x="16" y="194"/>
                    </a:lnTo>
                    <a:lnTo>
                      <a:pt x="11" y="202"/>
                    </a:lnTo>
                    <a:lnTo>
                      <a:pt x="7" y="211"/>
                    </a:lnTo>
                    <a:lnTo>
                      <a:pt x="4" y="219"/>
                    </a:lnTo>
                    <a:lnTo>
                      <a:pt x="1" y="228"/>
                    </a:lnTo>
                    <a:lnTo>
                      <a:pt x="0" y="237"/>
                    </a:lnTo>
                    <a:lnTo>
                      <a:pt x="0" y="248"/>
                    </a:lnTo>
                    <a:lnTo>
                      <a:pt x="0" y="257"/>
                    </a:lnTo>
                    <a:lnTo>
                      <a:pt x="3" y="266"/>
                    </a:lnTo>
                    <a:lnTo>
                      <a:pt x="5" y="276"/>
                    </a:lnTo>
                    <a:lnTo>
                      <a:pt x="7" y="285"/>
                    </a:lnTo>
                    <a:lnTo>
                      <a:pt x="12" y="295"/>
                    </a:lnTo>
                    <a:lnTo>
                      <a:pt x="16" y="305"/>
                    </a:lnTo>
                    <a:lnTo>
                      <a:pt x="14" y="298"/>
                    </a:lnTo>
                    <a:lnTo>
                      <a:pt x="16" y="305"/>
                    </a:lnTo>
                    <a:lnTo>
                      <a:pt x="21" y="311"/>
                    </a:lnTo>
                    <a:lnTo>
                      <a:pt x="26" y="316"/>
                    </a:lnTo>
                    <a:lnTo>
                      <a:pt x="32" y="319"/>
                    </a:lnTo>
                    <a:lnTo>
                      <a:pt x="38" y="322"/>
                    </a:lnTo>
                    <a:lnTo>
                      <a:pt x="44" y="323"/>
                    </a:lnTo>
                    <a:lnTo>
                      <a:pt x="50" y="322"/>
                    </a:lnTo>
                    <a:lnTo>
                      <a:pt x="56" y="321"/>
                    </a:lnTo>
                    <a:lnTo>
                      <a:pt x="62" y="318"/>
                    </a:lnTo>
                    <a:lnTo>
                      <a:pt x="68" y="315"/>
                    </a:lnTo>
                    <a:lnTo>
                      <a:pt x="72" y="310"/>
                    </a:lnTo>
                    <a:lnTo>
                      <a:pt x="75" y="306"/>
                    </a:lnTo>
                    <a:lnTo>
                      <a:pt x="79" y="300"/>
                    </a:lnTo>
                    <a:lnTo>
                      <a:pt x="80" y="293"/>
                    </a:lnTo>
                    <a:lnTo>
                      <a:pt x="80" y="286"/>
                    </a:lnTo>
                    <a:lnTo>
                      <a:pt x="79" y="280"/>
                    </a:lnTo>
                    <a:lnTo>
                      <a:pt x="75" y="273"/>
                    </a:lnTo>
                    <a:lnTo>
                      <a:pt x="78" y="27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4925880" y="4513320"/>
                <a:ext cx="139680" cy="42840"/>
              </a:xfrm>
              <a:custGeom>
                <a:avLst/>
                <a:gdLst/>
                <a:ahLst/>
                <a:rect l="l" t="t" r="r" b="b"/>
                <a:pathLst>
                  <a:path w="439" h="135">
                    <a:moveTo>
                      <a:pt x="429" y="60"/>
                    </a:moveTo>
                    <a:lnTo>
                      <a:pt x="437" y="92"/>
                    </a:lnTo>
                    <a:lnTo>
                      <a:pt x="439" y="77"/>
                    </a:lnTo>
                    <a:lnTo>
                      <a:pt x="435" y="59"/>
                    </a:lnTo>
                    <a:lnTo>
                      <a:pt x="424" y="41"/>
                    </a:lnTo>
                    <a:lnTo>
                      <a:pt x="409" y="32"/>
                    </a:lnTo>
                    <a:lnTo>
                      <a:pt x="394" y="29"/>
                    </a:lnTo>
                    <a:lnTo>
                      <a:pt x="383" y="29"/>
                    </a:lnTo>
                    <a:lnTo>
                      <a:pt x="370" y="29"/>
                    </a:lnTo>
                    <a:lnTo>
                      <a:pt x="358" y="31"/>
                    </a:lnTo>
                    <a:lnTo>
                      <a:pt x="305" y="44"/>
                    </a:lnTo>
                    <a:lnTo>
                      <a:pt x="243" y="59"/>
                    </a:lnTo>
                    <a:lnTo>
                      <a:pt x="228" y="61"/>
                    </a:lnTo>
                    <a:lnTo>
                      <a:pt x="212" y="63"/>
                    </a:lnTo>
                    <a:lnTo>
                      <a:pt x="197" y="65"/>
                    </a:lnTo>
                    <a:lnTo>
                      <a:pt x="182" y="67"/>
                    </a:lnTo>
                    <a:lnTo>
                      <a:pt x="168" y="67"/>
                    </a:lnTo>
                    <a:lnTo>
                      <a:pt x="153" y="67"/>
                    </a:lnTo>
                    <a:lnTo>
                      <a:pt x="140" y="65"/>
                    </a:lnTo>
                    <a:lnTo>
                      <a:pt x="128" y="63"/>
                    </a:lnTo>
                    <a:lnTo>
                      <a:pt x="116" y="60"/>
                    </a:lnTo>
                    <a:lnTo>
                      <a:pt x="107" y="55"/>
                    </a:lnTo>
                    <a:lnTo>
                      <a:pt x="98" y="49"/>
                    </a:lnTo>
                    <a:lnTo>
                      <a:pt x="89" y="43"/>
                    </a:lnTo>
                    <a:lnTo>
                      <a:pt x="85" y="39"/>
                    </a:lnTo>
                    <a:lnTo>
                      <a:pt x="82" y="36"/>
                    </a:lnTo>
                    <a:lnTo>
                      <a:pt x="79" y="31"/>
                    </a:lnTo>
                    <a:lnTo>
                      <a:pt x="75" y="27"/>
                    </a:lnTo>
                    <a:lnTo>
                      <a:pt x="73" y="21"/>
                    </a:lnTo>
                    <a:lnTo>
                      <a:pt x="69" y="14"/>
                    </a:lnTo>
                    <a:lnTo>
                      <a:pt x="67" y="8"/>
                    </a:lnTo>
                    <a:lnTo>
                      <a:pt x="64" y="0"/>
                    </a:lnTo>
                    <a:lnTo>
                      <a:pt x="0" y="20"/>
                    </a:lnTo>
                    <a:lnTo>
                      <a:pt x="3" y="31"/>
                    </a:lnTo>
                    <a:lnTo>
                      <a:pt x="8" y="41"/>
                    </a:lnTo>
                    <a:lnTo>
                      <a:pt x="12" y="52"/>
                    </a:lnTo>
                    <a:lnTo>
                      <a:pt x="18" y="61"/>
                    </a:lnTo>
                    <a:lnTo>
                      <a:pt x="24" y="70"/>
                    </a:lnTo>
                    <a:lnTo>
                      <a:pt x="31" y="79"/>
                    </a:lnTo>
                    <a:lnTo>
                      <a:pt x="38" y="86"/>
                    </a:lnTo>
                    <a:lnTo>
                      <a:pt x="46" y="94"/>
                    </a:lnTo>
                    <a:lnTo>
                      <a:pt x="59" y="105"/>
                    </a:lnTo>
                    <a:lnTo>
                      <a:pt x="76" y="116"/>
                    </a:lnTo>
                    <a:lnTo>
                      <a:pt x="95" y="122"/>
                    </a:lnTo>
                    <a:lnTo>
                      <a:pt x="112" y="128"/>
                    </a:lnTo>
                    <a:lnTo>
                      <a:pt x="130" y="132"/>
                    </a:lnTo>
                    <a:lnTo>
                      <a:pt x="148" y="134"/>
                    </a:lnTo>
                    <a:lnTo>
                      <a:pt x="168" y="135"/>
                    </a:lnTo>
                    <a:lnTo>
                      <a:pt x="186" y="134"/>
                    </a:lnTo>
                    <a:lnTo>
                      <a:pt x="204" y="133"/>
                    </a:lnTo>
                    <a:lnTo>
                      <a:pt x="221" y="130"/>
                    </a:lnTo>
                    <a:lnTo>
                      <a:pt x="239" y="127"/>
                    </a:lnTo>
                    <a:lnTo>
                      <a:pt x="258" y="124"/>
                    </a:lnTo>
                    <a:lnTo>
                      <a:pt x="320" y="109"/>
                    </a:lnTo>
                    <a:lnTo>
                      <a:pt x="372" y="97"/>
                    </a:lnTo>
                    <a:lnTo>
                      <a:pt x="378" y="96"/>
                    </a:lnTo>
                    <a:lnTo>
                      <a:pt x="384" y="96"/>
                    </a:lnTo>
                    <a:lnTo>
                      <a:pt x="388" y="96"/>
                    </a:lnTo>
                    <a:lnTo>
                      <a:pt x="385" y="95"/>
                    </a:lnTo>
                    <a:lnTo>
                      <a:pt x="378" y="91"/>
                    </a:lnTo>
                    <a:lnTo>
                      <a:pt x="373" y="81"/>
                    </a:lnTo>
                    <a:lnTo>
                      <a:pt x="372" y="75"/>
                    </a:lnTo>
                    <a:lnTo>
                      <a:pt x="372" y="73"/>
                    </a:lnTo>
                    <a:lnTo>
                      <a:pt x="380" y="106"/>
                    </a:lnTo>
                    <a:lnTo>
                      <a:pt x="372" y="73"/>
                    </a:lnTo>
                    <a:lnTo>
                      <a:pt x="369" y="81"/>
                    </a:lnTo>
                    <a:lnTo>
                      <a:pt x="369" y="88"/>
                    </a:lnTo>
                    <a:lnTo>
                      <a:pt x="372" y="95"/>
                    </a:lnTo>
                    <a:lnTo>
                      <a:pt x="374" y="101"/>
                    </a:lnTo>
                    <a:lnTo>
                      <a:pt x="378" y="105"/>
                    </a:lnTo>
                    <a:lnTo>
                      <a:pt x="383" y="110"/>
                    </a:lnTo>
                    <a:lnTo>
                      <a:pt x="389" y="113"/>
                    </a:lnTo>
                    <a:lnTo>
                      <a:pt x="394" y="116"/>
                    </a:lnTo>
                    <a:lnTo>
                      <a:pt x="400" y="117"/>
                    </a:lnTo>
                    <a:lnTo>
                      <a:pt x="407" y="117"/>
                    </a:lnTo>
                    <a:lnTo>
                      <a:pt x="413" y="116"/>
                    </a:lnTo>
                    <a:lnTo>
                      <a:pt x="419" y="113"/>
                    </a:lnTo>
                    <a:lnTo>
                      <a:pt x="424" y="110"/>
                    </a:lnTo>
                    <a:lnTo>
                      <a:pt x="430" y="105"/>
                    </a:lnTo>
                    <a:lnTo>
                      <a:pt x="433" y="100"/>
                    </a:lnTo>
                    <a:lnTo>
                      <a:pt x="437" y="92"/>
                    </a:lnTo>
                    <a:lnTo>
                      <a:pt x="429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4987800" y="4532400"/>
                <a:ext cx="85680" cy="136440"/>
              </a:xfrm>
              <a:custGeom>
                <a:avLst/>
                <a:gdLst/>
                <a:ahLst/>
                <a:rect l="l" t="t" r="r" b="b"/>
                <a:pathLst>
                  <a:path w="268" h="429">
                    <a:moveTo>
                      <a:pt x="104" y="363"/>
                    </a:moveTo>
                    <a:lnTo>
                      <a:pt x="114" y="366"/>
                    </a:lnTo>
                    <a:lnTo>
                      <a:pt x="97" y="355"/>
                    </a:lnTo>
                    <a:lnTo>
                      <a:pt x="83" y="343"/>
                    </a:lnTo>
                    <a:lnTo>
                      <a:pt x="80" y="340"/>
                    </a:lnTo>
                    <a:lnTo>
                      <a:pt x="76" y="335"/>
                    </a:lnTo>
                    <a:lnTo>
                      <a:pt x="73" y="331"/>
                    </a:lnTo>
                    <a:lnTo>
                      <a:pt x="71" y="327"/>
                    </a:lnTo>
                    <a:lnTo>
                      <a:pt x="69" y="324"/>
                    </a:lnTo>
                    <a:lnTo>
                      <a:pt x="68" y="321"/>
                    </a:lnTo>
                    <a:lnTo>
                      <a:pt x="68" y="319"/>
                    </a:lnTo>
                    <a:lnTo>
                      <a:pt x="68" y="317"/>
                    </a:lnTo>
                    <a:lnTo>
                      <a:pt x="67" y="315"/>
                    </a:lnTo>
                    <a:lnTo>
                      <a:pt x="68" y="312"/>
                    </a:lnTo>
                    <a:lnTo>
                      <a:pt x="68" y="310"/>
                    </a:lnTo>
                    <a:lnTo>
                      <a:pt x="69" y="309"/>
                    </a:lnTo>
                    <a:lnTo>
                      <a:pt x="72" y="301"/>
                    </a:lnTo>
                    <a:lnTo>
                      <a:pt x="77" y="293"/>
                    </a:lnTo>
                    <a:lnTo>
                      <a:pt x="84" y="285"/>
                    </a:lnTo>
                    <a:lnTo>
                      <a:pt x="92" y="276"/>
                    </a:lnTo>
                    <a:lnTo>
                      <a:pt x="114" y="255"/>
                    </a:lnTo>
                    <a:lnTo>
                      <a:pt x="140" y="235"/>
                    </a:lnTo>
                    <a:lnTo>
                      <a:pt x="167" y="214"/>
                    </a:lnTo>
                    <a:lnTo>
                      <a:pt x="195" y="193"/>
                    </a:lnTo>
                    <a:lnTo>
                      <a:pt x="210" y="180"/>
                    </a:lnTo>
                    <a:lnTo>
                      <a:pt x="222" y="167"/>
                    </a:lnTo>
                    <a:lnTo>
                      <a:pt x="234" y="155"/>
                    </a:lnTo>
                    <a:lnTo>
                      <a:pt x="245" y="141"/>
                    </a:lnTo>
                    <a:lnTo>
                      <a:pt x="254" y="126"/>
                    </a:lnTo>
                    <a:lnTo>
                      <a:pt x="261" y="112"/>
                    </a:lnTo>
                    <a:lnTo>
                      <a:pt x="264" y="101"/>
                    </a:lnTo>
                    <a:lnTo>
                      <a:pt x="267" y="92"/>
                    </a:lnTo>
                    <a:lnTo>
                      <a:pt x="268" y="83"/>
                    </a:lnTo>
                    <a:lnTo>
                      <a:pt x="268" y="74"/>
                    </a:lnTo>
                    <a:lnTo>
                      <a:pt x="267" y="64"/>
                    </a:lnTo>
                    <a:lnTo>
                      <a:pt x="264" y="53"/>
                    </a:lnTo>
                    <a:lnTo>
                      <a:pt x="262" y="44"/>
                    </a:lnTo>
                    <a:lnTo>
                      <a:pt x="258" y="35"/>
                    </a:lnTo>
                    <a:lnTo>
                      <a:pt x="253" y="26"/>
                    </a:lnTo>
                    <a:lnTo>
                      <a:pt x="247" y="17"/>
                    </a:lnTo>
                    <a:lnTo>
                      <a:pt x="240" y="8"/>
                    </a:lnTo>
                    <a:lnTo>
                      <a:pt x="234" y="0"/>
                    </a:lnTo>
                    <a:lnTo>
                      <a:pt x="185" y="46"/>
                    </a:lnTo>
                    <a:lnTo>
                      <a:pt x="189" y="51"/>
                    </a:lnTo>
                    <a:lnTo>
                      <a:pt x="193" y="56"/>
                    </a:lnTo>
                    <a:lnTo>
                      <a:pt x="195" y="60"/>
                    </a:lnTo>
                    <a:lnTo>
                      <a:pt x="197" y="64"/>
                    </a:lnTo>
                    <a:lnTo>
                      <a:pt x="198" y="67"/>
                    </a:lnTo>
                    <a:lnTo>
                      <a:pt x="199" y="70"/>
                    </a:lnTo>
                    <a:lnTo>
                      <a:pt x="201" y="73"/>
                    </a:lnTo>
                    <a:lnTo>
                      <a:pt x="201" y="75"/>
                    </a:lnTo>
                    <a:lnTo>
                      <a:pt x="201" y="78"/>
                    </a:lnTo>
                    <a:lnTo>
                      <a:pt x="199" y="81"/>
                    </a:lnTo>
                    <a:lnTo>
                      <a:pt x="199" y="84"/>
                    </a:lnTo>
                    <a:lnTo>
                      <a:pt x="199" y="85"/>
                    </a:lnTo>
                    <a:lnTo>
                      <a:pt x="195" y="94"/>
                    </a:lnTo>
                    <a:lnTo>
                      <a:pt x="190" y="102"/>
                    </a:lnTo>
                    <a:lnTo>
                      <a:pt x="183" y="112"/>
                    </a:lnTo>
                    <a:lnTo>
                      <a:pt x="174" y="121"/>
                    </a:lnTo>
                    <a:lnTo>
                      <a:pt x="164" y="130"/>
                    </a:lnTo>
                    <a:lnTo>
                      <a:pt x="153" y="140"/>
                    </a:lnTo>
                    <a:lnTo>
                      <a:pt x="126" y="161"/>
                    </a:lnTo>
                    <a:lnTo>
                      <a:pt x="99" y="182"/>
                    </a:lnTo>
                    <a:lnTo>
                      <a:pt x="71" y="204"/>
                    </a:lnTo>
                    <a:lnTo>
                      <a:pt x="45" y="227"/>
                    </a:lnTo>
                    <a:lnTo>
                      <a:pt x="33" y="240"/>
                    </a:lnTo>
                    <a:lnTo>
                      <a:pt x="23" y="254"/>
                    </a:lnTo>
                    <a:lnTo>
                      <a:pt x="14" y="269"/>
                    </a:lnTo>
                    <a:lnTo>
                      <a:pt x="7" y="283"/>
                    </a:lnTo>
                    <a:lnTo>
                      <a:pt x="3" y="293"/>
                    </a:lnTo>
                    <a:lnTo>
                      <a:pt x="1" y="302"/>
                    </a:lnTo>
                    <a:lnTo>
                      <a:pt x="0" y="311"/>
                    </a:lnTo>
                    <a:lnTo>
                      <a:pt x="1" y="321"/>
                    </a:lnTo>
                    <a:lnTo>
                      <a:pt x="1" y="331"/>
                    </a:lnTo>
                    <a:lnTo>
                      <a:pt x="4" y="341"/>
                    </a:lnTo>
                    <a:lnTo>
                      <a:pt x="7" y="350"/>
                    </a:lnTo>
                    <a:lnTo>
                      <a:pt x="11" y="359"/>
                    </a:lnTo>
                    <a:lnTo>
                      <a:pt x="17" y="367"/>
                    </a:lnTo>
                    <a:lnTo>
                      <a:pt x="23" y="376"/>
                    </a:lnTo>
                    <a:lnTo>
                      <a:pt x="30" y="384"/>
                    </a:lnTo>
                    <a:lnTo>
                      <a:pt x="39" y="393"/>
                    </a:lnTo>
                    <a:lnTo>
                      <a:pt x="56" y="408"/>
                    </a:lnTo>
                    <a:lnTo>
                      <a:pt x="77" y="423"/>
                    </a:lnTo>
                    <a:lnTo>
                      <a:pt x="87" y="428"/>
                    </a:lnTo>
                    <a:lnTo>
                      <a:pt x="77" y="423"/>
                    </a:lnTo>
                    <a:lnTo>
                      <a:pt x="84" y="426"/>
                    </a:lnTo>
                    <a:lnTo>
                      <a:pt x="91" y="429"/>
                    </a:lnTo>
                    <a:lnTo>
                      <a:pt x="98" y="429"/>
                    </a:lnTo>
                    <a:lnTo>
                      <a:pt x="104" y="428"/>
                    </a:lnTo>
                    <a:lnTo>
                      <a:pt x="109" y="425"/>
                    </a:lnTo>
                    <a:lnTo>
                      <a:pt x="115" y="422"/>
                    </a:lnTo>
                    <a:lnTo>
                      <a:pt x="120" y="418"/>
                    </a:lnTo>
                    <a:lnTo>
                      <a:pt x="124" y="413"/>
                    </a:lnTo>
                    <a:lnTo>
                      <a:pt x="126" y="407"/>
                    </a:lnTo>
                    <a:lnTo>
                      <a:pt x="129" y="401"/>
                    </a:lnTo>
                    <a:lnTo>
                      <a:pt x="130" y="396"/>
                    </a:lnTo>
                    <a:lnTo>
                      <a:pt x="129" y="389"/>
                    </a:lnTo>
                    <a:lnTo>
                      <a:pt x="128" y="383"/>
                    </a:lnTo>
                    <a:lnTo>
                      <a:pt x="124" y="376"/>
                    </a:lnTo>
                    <a:lnTo>
                      <a:pt x="120" y="372"/>
                    </a:lnTo>
                    <a:lnTo>
                      <a:pt x="114" y="366"/>
                    </a:lnTo>
                    <a:lnTo>
                      <a:pt x="104" y="3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5014800" y="4622760"/>
                <a:ext cx="165240" cy="50760"/>
              </a:xfrm>
              <a:custGeom>
                <a:avLst/>
                <a:gdLst/>
                <a:ahLst/>
                <a:rect l="l" t="t" r="r" b="b"/>
                <a:pathLst>
                  <a:path w="519" h="160">
                    <a:moveTo>
                      <a:pt x="471" y="3"/>
                    </a:moveTo>
                    <a:lnTo>
                      <a:pt x="475" y="2"/>
                    </a:lnTo>
                    <a:lnTo>
                      <a:pt x="420" y="22"/>
                    </a:lnTo>
                    <a:lnTo>
                      <a:pt x="368" y="42"/>
                    </a:lnTo>
                    <a:lnTo>
                      <a:pt x="342" y="53"/>
                    </a:lnTo>
                    <a:lnTo>
                      <a:pt x="314" y="62"/>
                    </a:lnTo>
                    <a:lnTo>
                      <a:pt x="288" y="70"/>
                    </a:lnTo>
                    <a:lnTo>
                      <a:pt x="261" y="78"/>
                    </a:lnTo>
                    <a:lnTo>
                      <a:pt x="233" y="83"/>
                    </a:lnTo>
                    <a:lnTo>
                      <a:pt x="205" y="88"/>
                    </a:lnTo>
                    <a:lnTo>
                      <a:pt x="176" y="91"/>
                    </a:lnTo>
                    <a:lnTo>
                      <a:pt x="147" y="92"/>
                    </a:lnTo>
                    <a:lnTo>
                      <a:pt x="132" y="92"/>
                    </a:lnTo>
                    <a:lnTo>
                      <a:pt x="116" y="92"/>
                    </a:lnTo>
                    <a:lnTo>
                      <a:pt x="101" y="91"/>
                    </a:lnTo>
                    <a:lnTo>
                      <a:pt x="85" y="89"/>
                    </a:lnTo>
                    <a:lnTo>
                      <a:pt x="68" y="87"/>
                    </a:lnTo>
                    <a:lnTo>
                      <a:pt x="52" y="84"/>
                    </a:lnTo>
                    <a:lnTo>
                      <a:pt x="35" y="80"/>
                    </a:lnTo>
                    <a:lnTo>
                      <a:pt x="17" y="77"/>
                    </a:lnTo>
                    <a:lnTo>
                      <a:pt x="0" y="142"/>
                    </a:lnTo>
                    <a:lnTo>
                      <a:pt x="19" y="146"/>
                    </a:lnTo>
                    <a:lnTo>
                      <a:pt x="38" y="151"/>
                    </a:lnTo>
                    <a:lnTo>
                      <a:pt x="58" y="154"/>
                    </a:lnTo>
                    <a:lnTo>
                      <a:pt x="76" y="156"/>
                    </a:lnTo>
                    <a:lnTo>
                      <a:pt x="94" y="159"/>
                    </a:lnTo>
                    <a:lnTo>
                      <a:pt x="112" y="160"/>
                    </a:lnTo>
                    <a:lnTo>
                      <a:pt x="131" y="160"/>
                    </a:lnTo>
                    <a:lnTo>
                      <a:pt x="148" y="160"/>
                    </a:lnTo>
                    <a:lnTo>
                      <a:pt x="182" y="159"/>
                    </a:lnTo>
                    <a:lnTo>
                      <a:pt x="215" y="155"/>
                    </a:lnTo>
                    <a:lnTo>
                      <a:pt x="246" y="150"/>
                    </a:lnTo>
                    <a:lnTo>
                      <a:pt x="277" y="143"/>
                    </a:lnTo>
                    <a:lnTo>
                      <a:pt x="306" y="135"/>
                    </a:lnTo>
                    <a:lnTo>
                      <a:pt x="336" y="126"/>
                    </a:lnTo>
                    <a:lnTo>
                      <a:pt x="363" y="116"/>
                    </a:lnTo>
                    <a:lnTo>
                      <a:pt x="392" y="106"/>
                    </a:lnTo>
                    <a:lnTo>
                      <a:pt x="445" y="86"/>
                    </a:lnTo>
                    <a:lnTo>
                      <a:pt x="498" y="65"/>
                    </a:lnTo>
                    <a:lnTo>
                      <a:pt x="500" y="64"/>
                    </a:lnTo>
                    <a:lnTo>
                      <a:pt x="498" y="65"/>
                    </a:lnTo>
                    <a:lnTo>
                      <a:pt x="505" y="63"/>
                    </a:lnTo>
                    <a:lnTo>
                      <a:pt x="510" y="58"/>
                    </a:lnTo>
                    <a:lnTo>
                      <a:pt x="515" y="53"/>
                    </a:lnTo>
                    <a:lnTo>
                      <a:pt x="517" y="47"/>
                    </a:lnTo>
                    <a:lnTo>
                      <a:pt x="519" y="41"/>
                    </a:lnTo>
                    <a:lnTo>
                      <a:pt x="519" y="35"/>
                    </a:lnTo>
                    <a:lnTo>
                      <a:pt x="519" y="29"/>
                    </a:lnTo>
                    <a:lnTo>
                      <a:pt x="518" y="23"/>
                    </a:lnTo>
                    <a:lnTo>
                      <a:pt x="515" y="17"/>
                    </a:lnTo>
                    <a:lnTo>
                      <a:pt x="511" y="11"/>
                    </a:lnTo>
                    <a:lnTo>
                      <a:pt x="507" y="7"/>
                    </a:lnTo>
                    <a:lnTo>
                      <a:pt x="502" y="3"/>
                    </a:lnTo>
                    <a:lnTo>
                      <a:pt x="497" y="1"/>
                    </a:lnTo>
                    <a:lnTo>
                      <a:pt x="490" y="0"/>
                    </a:lnTo>
                    <a:lnTo>
                      <a:pt x="483" y="0"/>
                    </a:lnTo>
                    <a:lnTo>
                      <a:pt x="475" y="2"/>
                    </a:lnTo>
                    <a:lnTo>
                      <a:pt x="471" y="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5165640" y="4041720"/>
                <a:ext cx="204840" cy="601560"/>
              </a:xfrm>
              <a:custGeom>
                <a:avLst/>
                <a:gdLst/>
                <a:ahLst/>
                <a:rect l="l" t="t" r="r" b="b"/>
                <a:pathLst>
                  <a:path w="645" h="1894">
                    <a:moveTo>
                      <a:pt x="618" y="59"/>
                    </a:moveTo>
                    <a:lnTo>
                      <a:pt x="562" y="34"/>
                    </a:lnTo>
                    <a:lnTo>
                      <a:pt x="569" y="208"/>
                    </a:lnTo>
                    <a:lnTo>
                      <a:pt x="574" y="371"/>
                    </a:lnTo>
                    <a:lnTo>
                      <a:pt x="576" y="450"/>
                    </a:lnTo>
                    <a:lnTo>
                      <a:pt x="577" y="527"/>
                    </a:lnTo>
                    <a:lnTo>
                      <a:pt x="577" y="601"/>
                    </a:lnTo>
                    <a:lnTo>
                      <a:pt x="577" y="674"/>
                    </a:lnTo>
                    <a:lnTo>
                      <a:pt x="576" y="745"/>
                    </a:lnTo>
                    <a:lnTo>
                      <a:pt x="574" y="814"/>
                    </a:lnTo>
                    <a:lnTo>
                      <a:pt x="569" y="880"/>
                    </a:lnTo>
                    <a:lnTo>
                      <a:pt x="565" y="944"/>
                    </a:lnTo>
                    <a:lnTo>
                      <a:pt x="558" y="1006"/>
                    </a:lnTo>
                    <a:lnTo>
                      <a:pt x="550" y="1067"/>
                    </a:lnTo>
                    <a:lnTo>
                      <a:pt x="541" y="1125"/>
                    </a:lnTo>
                    <a:lnTo>
                      <a:pt x="528" y="1182"/>
                    </a:lnTo>
                    <a:lnTo>
                      <a:pt x="523" y="1208"/>
                    </a:lnTo>
                    <a:lnTo>
                      <a:pt x="515" y="1236"/>
                    </a:lnTo>
                    <a:lnTo>
                      <a:pt x="508" y="1262"/>
                    </a:lnTo>
                    <a:lnTo>
                      <a:pt x="500" y="1288"/>
                    </a:lnTo>
                    <a:lnTo>
                      <a:pt x="491" y="1313"/>
                    </a:lnTo>
                    <a:lnTo>
                      <a:pt x="482" y="1338"/>
                    </a:lnTo>
                    <a:lnTo>
                      <a:pt x="472" y="1362"/>
                    </a:lnTo>
                    <a:lnTo>
                      <a:pt x="462" y="1387"/>
                    </a:lnTo>
                    <a:lnTo>
                      <a:pt x="451" y="1410"/>
                    </a:lnTo>
                    <a:lnTo>
                      <a:pt x="439" y="1433"/>
                    </a:lnTo>
                    <a:lnTo>
                      <a:pt x="428" y="1456"/>
                    </a:lnTo>
                    <a:lnTo>
                      <a:pt x="415" y="1479"/>
                    </a:lnTo>
                    <a:lnTo>
                      <a:pt x="402" y="1500"/>
                    </a:lnTo>
                    <a:lnTo>
                      <a:pt x="388" y="1521"/>
                    </a:lnTo>
                    <a:lnTo>
                      <a:pt x="373" y="1541"/>
                    </a:lnTo>
                    <a:lnTo>
                      <a:pt x="357" y="1562"/>
                    </a:lnTo>
                    <a:lnTo>
                      <a:pt x="341" y="1582"/>
                    </a:lnTo>
                    <a:lnTo>
                      <a:pt x="324" y="1602"/>
                    </a:lnTo>
                    <a:lnTo>
                      <a:pt x="307" y="1621"/>
                    </a:lnTo>
                    <a:lnTo>
                      <a:pt x="289" y="1640"/>
                    </a:lnTo>
                    <a:lnTo>
                      <a:pt x="270" y="1658"/>
                    </a:lnTo>
                    <a:lnTo>
                      <a:pt x="249" y="1676"/>
                    </a:lnTo>
                    <a:lnTo>
                      <a:pt x="228" y="1693"/>
                    </a:lnTo>
                    <a:lnTo>
                      <a:pt x="207" y="1710"/>
                    </a:lnTo>
                    <a:lnTo>
                      <a:pt x="184" y="1727"/>
                    </a:lnTo>
                    <a:lnTo>
                      <a:pt x="161" y="1743"/>
                    </a:lnTo>
                    <a:lnTo>
                      <a:pt x="136" y="1759"/>
                    </a:lnTo>
                    <a:lnTo>
                      <a:pt x="111" y="1775"/>
                    </a:lnTo>
                    <a:lnTo>
                      <a:pt x="85" y="1790"/>
                    </a:lnTo>
                    <a:lnTo>
                      <a:pt x="57" y="1805"/>
                    </a:lnTo>
                    <a:lnTo>
                      <a:pt x="30" y="1819"/>
                    </a:lnTo>
                    <a:lnTo>
                      <a:pt x="0" y="1833"/>
                    </a:lnTo>
                    <a:lnTo>
                      <a:pt x="29" y="1894"/>
                    </a:lnTo>
                    <a:lnTo>
                      <a:pt x="60" y="1880"/>
                    </a:lnTo>
                    <a:lnTo>
                      <a:pt x="89" y="1864"/>
                    </a:lnTo>
                    <a:lnTo>
                      <a:pt x="118" y="1849"/>
                    </a:lnTo>
                    <a:lnTo>
                      <a:pt x="146" y="1832"/>
                    </a:lnTo>
                    <a:lnTo>
                      <a:pt x="173" y="1816"/>
                    </a:lnTo>
                    <a:lnTo>
                      <a:pt x="199" y="1799"/>
                    </a:lnTo>
                    <a:lnTo>
                      <a:pt x="224" y="1782"/>
                    </a:lnTo>
                    <a:lnTo>
                      <a:pt x="248" y="1764"/>
                    </a:lnTo>
                    <a:lnTo>
                      <a:pt x="271" y="1746"/>
                    </a:lnTo>
                    <a:lnTo>
                      <a:pt x="293" y="1726"/>
                    </a:lnTo>
                    <a:lnTo>
                      <a:pt x="315" y="1708"/>
                    </a:lnTo>
                    <a:lnTo>
                      <a:pt x="336" y="1687"/>
                    </a:lnTo>
                    <a:lnTo>
                      <a:pt x="356" y="1667"/>
                    </a:lnTo>
                    <a:lnTo>
                      <a:pt x="376" y="1646"/>
                    </a:lnTo>
                    <a:lnTo>
                      <a:pt x="394" y="1626"/>
                    </a:lnTo>
                    <a:lnTo>
                      <a:pt x="411" y="1604"/>
                    </a:lnTo>
                    <a:lnTo>
                      <a:pt x="428" y="1581"/>
                    </a:lnTo>
                    <a:lnTo>
                      <a:pt x="444" y="1559"/>
                    </a:lnTo>
                    <a:lnTo>
                      <a:pt x="459" y="1536"/>
                    </a:lnTo>
                    <a:lnTo>
                      <a:pt x="474" y="1513"/>
                    </a:lnTo>
                    <a:lnTo>
                      <a:pt x="487" y="1489"/>
                    </a:lnTo>
                    <a:lnTo>
                      <a:pt x="500" y="1464"/>
                    </a:lnTo>
                    <a:lnTo>
                      <a:pt x="512" y="1440"/>
                    </a:lnTo>
                    <a:lnTo>
                      <a:pt x="524" y="1414"/>
                    </a:lnTo>
                    <a:lnTo>
                      <a:pt x="535" y="1389"/>
                    </a:lnTo>
                    <a:lnTo>
                      <a:pt x="545" y="1362"/>
                    </a:lnTo>
                    <a:lnTo>
                      <a:pt x="555" y="1336"/>
                    </a:lnTo>
                    <a:lnTo>
                      <a:pt x="564" y="1309"/>
                    </a:lnTo>
                    <a:lnTo>
                      <a:pt x="573" y="1281"/>
                    </a:lnTo>
                    <a:lnTo>
                      <a:pt x="581" y="1253"/>
                    </a:lnTo>
                    <a:lnTo>
                      <a:pt x="588" y="1225"/>
                    </a:lnTo>
                    <a:lnTo>
                      <a:pt x="594" y="1196"/>
                    </a:lnTo>
                    <a:lnTo>
                      <a:pt x="607" y="1138"/>
                    </a:lnTo>
                    <a:lnTo>
                      <a:pt x="617" y="1077"/>
                    </a:lnTo>
                    <a:lnTo>
                      <a:pt x="625" y="1014"/>
                    </a:lnTo>
                    <a:lnTo>
                      <a:pt x="632" y="950"/>
                    </a:lnTo>
                    <a:lnTo>
                      <a:pt x="637" y="884"/>
                    </a:lnTo>
                    <a:lnTo>
                      <a:pt x="641" y="816"/>
                    </a:lnTo>
                    <a:lnTo>
                      <a:pt x="643" y="746"/>
                    </a:lnTo>
                    <a:lnTo>
                      <a:pt x="645" y="674"/>
                    </a:lnTo>
                    <a:lnTo>
                      <a:pt x="645" y="601"/>
                    </a:lnTo>
                    <a:lnTo>
                      <a:pt x="645" y="526"/>
                    </a:lnTo>
                    <a:lnTo>
                      <a:pt x="643" y="448"/>
                    </a:lnTo>
                    <a:lnTo>
                      <a:pt x="641" y="370"/>
                    </a:lnTo>
                    <a:lnTo>
                      <a:pt x="637" y="205"/>
                    </a:lnTo>
                    <a:lnTo>
                      <a:pt x="630" y="32"/>
                    </a:lnTo>
                    <a:lnTo>
                      <a:pt x="574" y="8"/>
                    </a:lnTo>
                    <a:lnTo>
                      <a:pt x="630" y="32"/>
                    </a:lnTo>
                    <a:lnTo>
                      <a:pt x="629" y="25"/>
                    </a:lnTo>
                    <a:lnTo>
                      <a:pt x="626" y="18"/>
                    </a:lnTo>
                    <a:lnTo>
                      <a:pt x="623" y="13"/>
                    </a:lnTo>
                    <a:lnTo>
                      <a:pt x="618" y="8"/>
                    </a:lnTo>
                    <a:lnTo>
                      <a:pt x="614" y="5"/>
                    </a:lnTo>
                    <a:lnTo>
                      <a:pt x="608" y="1"/>
                    </a:lnTo>
                    <a:lnTo>
                      <a:pt x="601" y="0"/>
                    </a:lnTo>
                    <a:lnTo>
                      <a:pt x="596" y="0"/>
                    </a:lnTo>
                    <a:lnTo>
                      <a:pt x="589" y="1"/>
                    </a:lnTo>
                    <a:lnTo>
                      <a:pt x="583" y="2"/>
                    </a:lnTo>
                    <a:lnTo>
                      <a:pt x="577" y="6"/>
                    </a:lnTo>
                    <a:lnTo>
                      <a:pt x="573" y="9"/>
                    </a:lnTo>
                    <a:lnTo>
                      <a:pt x="568" y="14"/>
                    </a:lnTo>
                    <a:lnTo>
                      <a:pt x="565" y="21"/>
                    </a:lnTo>
                    <a:lnTo>
                      <a:pt x="564" y="27"/>
                    </a:lnTo>
                    <a:lnTo>
                      <a:pt x="562" y="34"/>
                    </a:lnTo>
                    <a:lnTo>
                      <a:pt x="618" y="5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5232240" y="4016520"/>
                <a:ext cx="128880" cy="61920"/>
              </a:xfrm>
              <a:custGeom>
                <a:avLst/>
                <a:gdLst/>
                <a:ahLst/>
                <a:rect l="l" t="t" r="r" b="b"/>
                <a:pathLst>
                  <a:path w="408" h="196">
                    <a:moveTo>
                      <a:pt x="67" y="36"/>
                    </a:moveTo>
                    <a:lnTo>
                      <a:pt x="24" y="66"/>
                    </a:lnTo>
                    <a:lnTo>
                      <a:pt x="34" y="70"/>
                    </a:lnTo>
                    <a:lnTo>
                      <a:pt x="45" y="73"/>
                    </a:lnTo>
                    <a:lnTo>
                      <a:pt x="54" y="79"/>
                    </a:lnTo>
                    <a:lnTo>
                      <a:pt x="64" y="83"/>
                    </a:lnTo>
                    <a:lnTo>
                      <a:pt x="85" y="96"/>
                    </a:lnTo>
                    <a:lnTo>
                      <a:pt x="104" y="109"/>
                    </a:lnTo>
                    <a:lnTo>
                      <a:pt x="145" y="139"/>
                    </a:lnTo>
                    <a:lnTo>
                      <a:pt x="186" y="167"/>
                    </a:lnTo>
                    <a:lnTo>
                      <a:pt x="197" y="173"/>
                    </a:lnTo>
                    <a:lnTo>
                      <a:pt x="210" y="179"/>
                    </a:lnTo>
                    <a:lnTo>
                      <a:pt x="221" y="185"/>
                    </a:lnTo>
                    <a:lnTo>
                      <a:pt x="234" y="189"/>
                    </a:lnTo>
                    <a:lnTo>
                      <a:pt x="248" y="193"/>
                    </a:lnTo>
                    <a:lnTo>
                      <a:pt x="261" y="195"/>
                    </a:lnTo>
                    <a:lnTo>
                      <a:pt x="275" y="196"/>
                    </a:lnTo>
                    <a:lnTo>
                      <a:pt x="289" y="196"/>
                    </a:lnTo>
                    <a:lnTo>
                      <a:pt x="303" y="195"/>
                    </a:lnTo>
                    <a:lnTo>
                      <a:pt x="318" y="192"/>
                    </a:lnTo>
                    <a:lnTo>
                      <a:pt x="333" y="187"/>
                    </a:lnTo>
                    <a:lnTo>
                      <a:pt x="348" y="181"/>
                    </a:lnTo>
                    <a:lnTo>
                      <a:pt x="363" y="173"/>
                    </a:lnTo>
                    <a:lnTo>
                      <a:pt x="379" y="164"/>
                    </a:lnTo>
                    <a:lnTo>
                      <a:pt x="394" y="154"/>
                    </a:lnTo>
                    <a:lnTo>
                      <a:pt x="408" y="141"/>
                    </a:lnTo>
                    <a:lnTo>
                      <a:pt x="364" y="90"/>
                    </a:lnTo>
                    <a:lnTo>
                      <a:pt x="352" y="100"/>
                    </a:lnTo>
                    <a:lnTo>
                      <a:pt x="341" y="108"/>
                    </a:lnTo>
                    <a:lnTo>
                      <a:pt x="330" y="115"/>
                    </a:lnTo>
                    <a:lnTo>
                      <a:pt x="321" y="120"/>
                    </a:lnTo>
                    <a:lnTo>
                      <a:pt x="310" y="124"/>
                    </a:lnTo>
                    <a:lnTo>
                      <a:pt x="302" y="127"/>
                    </a:lnTo>
                    <a:lnTo>
                      <a:pt x="293" y="128"/>
                    </a:lnTo>
                    <a:lnTo>
                      <a:pt x="286" y="129"/>
                    </a:lnTo>
                    <a:lnTo>
                      <a:pt x="277" y="129"/>
                    </a:lnTo>
                    <a:lnTo>
                      <a:pt x="270" y="128"/>
                    </a:lnTo>
                    <a:lnTo>
                      <a:pt x="262" y="127"/>
                    </a:lnTo>
                    <a:lnTo>
                      <a:pt x="254" y="124"/>
                    </a:lnTo>
                    <a:lnTo>
                      <a:pt x="246" y="122"/>
                    </a:lnTo>
                    <a:lnTo>
                      <a:pt x="238" y="119"/>
                    </a:lnTo>
                    <a:lnTo>
                      <a:pt x="229" y="114"/>
                    </a:lnTo>
                    <a:lnTo>
                      <a:pt x="223" y="109"/>
                    </a:lnTo>
                    <a:lnTo>
                      <a:pt x="183" y="84"/>
                    </a:lnTo>
                    <a:lnTo>
                      <a:pt x="143" y="55"/>
                    </a:lnTo>
                    <a:lnTo>
                      <a:pt x="121" y="39"/>
                    </a:lnTo>
                    <a:lnTo>
                      <a:pt x="97" y="25"/>
                    </a:lnTo>
                    <a:lnTo>
                      <a:pt x="85" y="18"/>
                    </a:lnTo>
                    <a:lnTo>
                      <a:pt x="72" y="12"/>
                    </a:lnTo>
                    <a:lnTo>
                      <a:pt x="58" y="7"/>
                    </a:lnTo>
                    <a:lnTo>
                      <a:pt x="45" y="1"/>
                    </a:lnTo>
                    <a:lnTo>
                      <a:pt x="0" y="31"/>
                    </a:lnTo>
                    <a:lnTo>
                      <a:pt x="45" y="1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3" y="1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7" y="12"/>
                    </a:lnTo>
                    <a:lnTo>
                      <a:pt x="4" y="18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1" y="42"/>
                    </a:lnTo>
                    <a:lnTo>
                      <a:pt x="3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6" y="63"/>
                    </a:lnTo>
                    <a:lnTo>
                      <a:pt x="24" y="66"/>
                    </a:lnTo>
                    <a:lnTo>
                      <a:pt x="67" y="3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5056200" y="4232160"/>
                <a:ext cx="539640" cy="763560"/>
              </a:xfrm>
              <a:custGeom>
                <a:avLst/>
                <a:gdLst/>
                <a:ahLst/>
                <a:rect l="l" t="t" r="r" b="b"/>
                <a:pathLst>
                  <a:path w="1700" h="2404">
                    <a:moveTo>
                      <a:pt x="1281" y="0"/>
                    </a:moveTo>
                    <a:lnTo>
                      <a:pt x="1271" y="96"/>
                    </a:lnTo>
                    <a:lnTo>
                      <a:pt x="1259" y="186"/>
                    </a:lnTo>
                    <a:lnTo>
                      <a:pt x="1244" y="273"/>
                    </a:lnTo>
                    <a:lnTo>
                      <a:pt x="1228" y="354"/>
                    </a:lnTo>
                    <a:lnTo>
                      <a:pt x="1211" y="430"/>
                    </a:lnTo>
                    <a:lnTo>
                      <a:pt x="1191" y="502"/>
                    </a:lnTo>
                    <a:lnTo>
                      <a:pt x="1171" y="569"/>
                    </a:lnTo>
                    <a:lnTo>
                      <a:pt x="1148" y="632"/>
                    </a:lnTo>
                    <a:lnTo>
                      <a:pt x="1124" y="691"/>
                    </a:lnTo>
                    <a:lnTo>
                      <a:pt x="1098" y="747"/>
                    </a:lnTo>
                    <a:lnTo>
                      <a:pt x="1071" y="799"/>
                    </a:lnTo>
                    <a:lnTo>
                      <a:pt x="1041" y="847"/>
                    </a:lnTo>
                    <a:lnTo>
                      <a:pt x="1010" y="892"/>
                    </a:lnTo>
                    <a:lnTo>
                      <a:pt x="977" y="933"/>
                    </a:lnTo>
                    <a:lnTo>
                      <a:pt x="943" y="971"/>
                    </a:lnTo>
                    <a:lnTo>
                      <a:pt x="906" y="1006"/>
                    </a:lnTo>
                    <a:lnTo>
                      <a:pt x="869" y="1038"/>
                    </a:lnTo>
                    <a:lnTo>
                      <a:pt x="829" y="1068"/>
                    </a:lnTo>
                    <a:lnTo>
                      <a:pt x="788" y="1095"/>
                    </a:lnTo>
                    <a:lnTo>
                      <a:pt x="746" y="1119"/>
                    </a:lnTo>
                    <a:lnTo>
                      <a:pt x="701" y="1142"/>
                    </a:lnTo>
                    <a:lnTo>
                      <a:pt x="654" y="1161"/>
                    </a:lnTo>
                    <a:lnTo>
                      <a:pt x="607" y="1180"/>
                    </a:lnTo>
                    <a:lnTo>
                      <a:pt x="558" y="1197"/>
                    </a:lnTo>
                    <a:lnTo>
                      <a:pt x="506" y="1212"/>
                    </a:lnTo>
                    <a:lnTo>
                      <a:pt x="453" y="1224"/>
                    </a:lnTo>
                    <a:lnTo>
                      <a:pt x="398" y="1236"/>
                    </a:lnTo>
                    <a:lnTo>
                      <a:pt x="342" y="1247"/>
                    </a:lnTo>
                    <a:lnTo>
                      <a:pt x="284" y="1256"/>
                    </a:lnTo>
                    <a:lnTo>
                      <a:pt x="223" y="1264"/>
                    </a:lnTo>
                    <a:lnTo>
                      <a:pt x="162" y="1272"/>
                    </a:lnTo>
                    <a:lnTo>
                      <a:pt x="99" y="1279"/>
                    </a:lnTo>
                    <a:lnTo>
                      <a:pt x="90" y="1288"/>
                    </a:lnTo>
                    <a:lnTo>
                      <a:pt x="82" y="1297"/>
                    </a:lnTo>
                    <a:lnTo>
                      <a:pt x="75" y="1308"/>
                    </a:lnTo>
                    <a:lnTo>
                      <a:pt x="68" y="1319"/>
                    </a:lnTo>
                    <a:lnTo>
                      <a:pt x="63" y="1330"/>
                    </a:lnTo>
                    <a:lnTo>
                      <a:pt x="57" y="1342"/>
                    </a:lnTo>
                    <a:lnTo>
                      <a:pt x="52" y="1354"/>
                    </a:lnTo>
                    <a:lnTo>
                      <a:pt x="50" y="1367"/>
                    </a:lnTo>
                    <a:lnTo>
                      <a:pt x="48" y="1379"/>
                    </a:lnTo>
                    <a:lnTo>
                      <a:pt x="46" y="1393"/>
                    </a:lnTo>
                    <a:lnTo>
                      <a:pt x="46" y="1406"/>
                    </a:lnTo>
                    <a:lnTo>
                      <a:pt x="47" y="1418"/>
                    </a:lnTo>
                    <a:lnTo>
                      <a:pt x="49" y="1432"/>
                    </a:lnTo>
                    <a:lnTo>
                      <a:pt x="52" y="1444"/>
                    </a:lnTo>
                    <a:lnTo>
                      <a:pt x="57" y="1457"/>
                    </a:lnTo>
                    <a:lnTo>
                      <a:pt x="63" y="1468"/>
                    </a:lnTo>
                    <a:lnTo>
                      <a:pt x="70" y="1480"/>
                    </a:lnTo>
                    <a:lnTo>
                      <a:pt x="79" y="1491"/>
                    </a:lnTo>
                    <a:lnTo>
                      <a:pt x="89" y="1501"/>
                    </a:lnTo>
                    <a:lnTo>
                      <a:pt x="100" y="1511"/>
                    </a:lnTo>
                    <a:lnTo>
                      <a:pt x="114" y="1520"/>
                    </a:lnTo>
                    <a:lnTo>
                      <a:pt x="129" y="1527"/>
                    </a:lnTo>
                    <a:lnTo>
                      <a:pt x="146" y="1533"/>
                    </a:lnTo>
                    <a:lnTo>
                      <a:pt x="164" y="1539"/>
                    </a:lnTo>
                    <a:lnTo>
                      <a:pt x="185" y="1544"/>
                    </a:lnTo>
                    <a:lnTo>
                      <a:pt x="206" y="1546"/>
                    </a:lnTo>
                    <a:lnTo>
                      <a:pt x="230" y="1548"/>
                    </a:lnTo>
                    <a:lnTo>
                      <a:pt x="255" y="1548"/>
                    </a:lnTo>
                    <a:lnTo>
                      <a:pt x="284" y="1547"/>
                    </a:lnTo>
                    <a:lnTo>
                      <a:pt x="314" y="1544"/>
                    </a:lnTo>
                    <a:lnTo>
                      <a:pt x="345" y="1539"/>
                    </a:lnTo>
                    <a:lnTo>
                      <a:pt x="380" y="1532"/>
                    </a:lnTo>
                    <a:lnTo>
                      <a:pt x="380" y="1547"/>
                    </a:lnTo>
                    <a:lnTo>
                      <a:pt x="379" y="1561"/>
                    </a:lnTo>
                    <a:lnTo>
                      <a:pt x="374" y="1572"/>
                    </a:lnTo>
                    <a:lnTo>
                      <a:pt x="367" y="1585"/>
                    </a:lnTo>
                    <a:lnTo>
                      <a:pt x="358" y="1595"/>
                    </a:lnTo>
                    <a:lnTo>
                      <a:pt x="347" y="1605"/>
                    </a:lnTo>
                    <a:lnTo>
                      <a:pt x="333" y="1614"/>
                    </a:lnTo>
                    <a:lnTo>
                      <a:pt x="319" y="1624"/>
                    </a:lnTo>
                    <a:lnTo>
                      <a:pt x="303" y="1633"/>
                    </a:lnTo>
                    <a:lnTo>
                      <a:pt x="285" y="1641"/>
                    </a:lnTo>
                    <a:lnTo>
                      <a:pt x="267" y="1647"/>
                    </a:lnTo>
                    <a:lnTo>
                      <a:pt x="249" y="1655"/>
                    </a:lnTo>
                    <a:lnTo>
                      <a:pt x="209" y="1670"/>
                    </a:lnTo>
                    <a:lnTo>
                      <a:pt x="168" y="1685"/>
                    </a:lnTo>
                    <a:lnTo>
                      <a:pt x="129" y="1700"/>
                    </a:lnTo>
                    <a:lnTo>
                      <a:pt x="91" y="1716"/>
                    </a:lnTo>
                    <a:lnTo>
                      <a:pt x="74" y="1724"/>
                    </a:lnTo>
                    <a:lnTo>
                      <a:pt x="58" y="1733"/>
                    </a:lnTo>
                    <a:lnTo>
                      <a:pt x="45" y="1742"/>
                    </a:lnTo>
                    <a:lnTo>
                      <a:pt x="32" y="1752"/>
                    </a:lnTo>
                    <a:lnTo>
                      <a:pt x="21" y="1764"/>
                    </a:lnTo>
                    <a:lnTo>
                      <a:pt x="13" y="1775"/>
                    </a:lnTo>
                    <a:lnTo>
                      <a:pt x="6" y="1787"/>
                    </a:lnTo>
                    <a:lnTo>
                      <a:pt x="2" y="1800"/>
                    </a:lnTo>
                    <a:lnTo>
                      <a:pt x="0" y="1814"/>
                    </a:lnTo>
                    <a:lnTo>
                      <a:pt x="2" y="1830"/>
                    </a:lnTo>
                    <a:lnTo>
                      <a:pt x="7" y="1846"/>
                    </a:lnTo>
                    <a:lnTo>
                      <a:pt x="15" y="1863"/>
                    </a:lnTo>
                    <a:lnTo>
                      <a:pt x="23" y="1885"/>
                    </a:lnTo>
                    <a:lnTo>
                      <a:pt x="32" y="1903"/>
                    </a:lnTo>
                    <a:lnTo>
                      <a:pt x="43" y="1918"/>
                    </a:lnTo>
                    <a:lnTo>
                      <a:pt x="56" y="1932"/>
                    </a:lnTo>
                    <a:lnTo>
                      <a:pt x="70" y="1942"/>
                    </a:lnTo>
                    <a:lnTo>
                      <a:pt x="84" y="1951"/>
                    </a:lnTo>
                    <a:lnTo>
                      <a:pt x="100" y="1958"/>
                    </a:lnTo>
                    <a:lnTo>
                      <a:pt x="117" y="1962"/>
                    </a:lnTo>
                    <a:lnTo>
                      <a:pt x="135" y="1966"/>
                    </a:lnTo>
                    <a:lnTo>
                      <a:pt x="154" y="1968"/>
                    </a:lnTo>
                    <a:lnTo>
                      <a:pt x="172" y="1969"/>
                    </a:lnTo>
                    <a:lnTo>
                      <a:pt x="192" y="1968"/>
                    </a:lnTo>
                    <a:lnTo>
                      <a:pt x="211" y="1967"/>
                    </a:lnTo>
                    <a:lnTo>
                      <a:pt x="231" y="1965"/>
                    </a:lnTo>
                    <a:lnTo>
                      <a:pt x="251" y="1961"/>
                    </a:lnTo>
                    <a:lnTo>
                      <a:pt x="270" y="1958"/>
                    </a:lnTo>
                    <a:lnTo>
                      <a:pt x="344" y="1941"/>
                    </a:lnTo>
                    <a:lnTo>
                      <a:pt x="405" y="1926"/>
                    </a:lnTo>
                    <a:lnTo>
                      <a:pt x="416" y="1925"/>
                    </a:lnTo>
                    <a:lnTo>
                      <a:pt x="428" y="1924"/>
                    </a:lnTo>
                    <a:lnTo>
                      <a:pt x="437" y="1925"/>
                    </a:lnTo>
                    <a:lnTo>
                      <a:pt x="444" y="1926"/>
                    </a:lnTo>
                    <a:lnTo>
                      <a:pt x="448" y="1929"/>
                    </a:lnTo>
                    <a:lnTo>
                      <a:pt x="451" y="1934"/>
                    </a:lnTo>
                    <a:lnTo>
                      <a:pt x="453" y="1940"/>
                    </a:lnTo>
                    <a:lnTo>
                      <a:pt x="451" y="1948"/>
                    </a:lnTo>
                    <a:lnTo>
                      <a:pt x="464" y="1964"/>
                    </a:lnTo>
                    <a:lnTo>
                      <a:pt x="473" y="1979"/>
                    </a:lnTo>
                    <a:lnTo>
                      <a:pt x="479" y="1994"/>
                    </a:lnTo>
                    <a:lnTo>
                      <a:pt x="481" y="2008"/>
                    </a:lnTo>
                    <a:lnTo>
                      <a:pt x="480" y="2023"/>
                    </a:lnTo>
                    <a:lnTo>
                      <a:pt x="475" y="2037"/>
                    </a:lnTo>
                    <a:lnTo>
                      <a:pt x="470" y="2050"/>
                    </a:lnTo>
                    <a:lnTo>
                      <a:pt x="461" y="2064"/>
                    </a:lnTo>
                    <a:lnTo>
                      <a:pt x="450" y="2076"/>
                    </a:lnTo>
                    <a:lnTo>
                      <a:pt x="438" y="2090"/>
                    </a:lnTo>
                    <a:lnTo>
                      <a:pt x="424" y="2103"/>
                    </a:lnTo>
                    <a:lnTo>
                      <a:pt x="409" y="2115"/>
                    </a:lnTo>
                    <a:lnTo>
                      <a:pt x="377" y="2140"/>
                    </a:lnTo>
                    <a:lnTo>
                      <a:pt x="345" y="2165"/>
                    </a:lnTo>
                    <a:lnTo>
                      <a:pt x="330" y="2178"/>
                    </a:lnTo>
                    <a:lnTo>
                      <a:pt x="314" y="2191"/>
                    </a:lnTo>
                    <a:lnTo>
                      <a:pt x="299" y="2203"/>
                    </a:lnTo>
                    <a:lnTo>
                      <a:pt x="285" y="2216"/>
                    </a:lnTo>
                    <a:lnTo>
                      <a:pt x="274" y="2228"/>
                    </a:lnTo>
                    <a:lnTo>
                      <a:pt x="263" y="2241"/>
                    </a:lnTo>
                    <a:lnTo>
                      <a:pt x="255" y="2254"/>
                    </a:lnTo>
                    <a:lnTo>
                      <a:pt x="249" y="2267"/>
                    </a:lnTo>
                    <a:lnTo>
                      <a:pt x="245" y="2281"/>
                    </a:lnTo>
                    <a:lnTo>
                      <a:pt x="245" y="2294"/>
                    </a:lnTo>
                    <a:lnTo>
                      <a:pt x="247" y="2308"/>
                    </a:lnTo>
                    <a:lnTo>
                      <a:pt x="253" y="2323"/>
                    </a:lnTo>
                    <a:lnTo>
                      <a:pt x="262" y="2337"/>
                    </a:lnTo>
                    <a:lnTo>
                      <a:pt x="276" y="2351"/>
                    </a:lnTo>
                    <a:lnTo>
                      <a:pt x="294" y="2367"/>
                    </a:lnTo>
                    <a:lnTo>
                      <a:pt x="317" y="2382"/>
                    </a:lnTo>
                    <a:lnTo>
                      <a:pt x="339" y="2388"/>
                    </a:lnTo>
                    <a:lnTo>
                      <a:pt x="360" y="2392"/>
                    </a:lnTo>
                    <a:lnTo>
                      <a:pt x="381" y="2397"/>
                    </a:lnTo>
                    <a:lnTo>
                      <a:pt x="401" y="2399"/>
                    </a:lnTo>
                    <a:lnTo>
                      <a:pt x="422" y="2402"/>
                    </a:lnTo>
                    <a:lnTo>
                      <a:pt x="441" y="2403"/>
                    </a:lnTo>
                    <a:lnTo>
                      <a:pt x="461" y="2404"/>
                    </a:lnTo>
                    <a:lnTo>
                      <a:pt x="480" y="2404"/>
                    </a:lnTo>
                    <a:lnTo>
                      <a:pt x="499" y="2403"/>
                    </a:lnTo>
                    <a:lnTo>
                      <a:pt x="518" y="2402"/>
                    </a:lnTo>
                    <a:lnTo>
                      <a:pt x="536" y="2400"/>
                    </a:lnTo>
                    <a:lnTo>
                      <a:pt x="553" y="2398"/>
                    </a:lnTo>
                    <a:lnTo>
                      <a:pt x="588" y="2392"/>
                    </a:lnTo>
                    <a:lnTo>
                      <a:pt x="622" y="2385"/>
                    </a:lnTo>
                    <a:lnTo>
                      <a:pt x="656" y="2375"/>
                    </a:lnTo>
                    <a:lnTo>
                      <a:pt x="689" y="2365"/>
                    </a:lnTo>
                    <a:lnTo>
                      <a:pt x="721" y="2354"/>
                    </a:lnTo>
                    <a:lnTo>
                      <a:pt x="751" y="2341"/>
                    </a:lnTo>
                    <a:lnTo>
                      <a:pt x="814" y="2317"/>
                    </a:lnTo>
                    <a:lnTo>
                      <a:pt x="877" y="2293"/>
                    </a:lnTo>
                    <a:lnTo>
                      <a:pt x="945" y="2259"/>
                    </a:lnTo>
                    <a:lnTo>
                      <a:pt x="1011" y="2224"/>
                    </a:lnTo>
                    <a:lnTo>
                      <a:pt x="1073" y="2185"/>
                    </a:lnTo>
                    <a:lnTo>
                      <a:pt x="1131" y="2144"/>
                    </a:lnTo>
                    <a:lnTo>
                      <a:pt x="1186" y="2100"/>
                    </a:lnTo>
                    <a:lnTo>
                      <a:pt x="1237" y="2055"/>
                    </a:lnTo>
                    <a:lnTo>
                      <a:pt x="1285" y="2007"/>
                    </a:lnTo>
                    <a:lnTo>
                      <a:pt x="1330" y="1957"/>
                    </a:lnTo>
                    <a:lnTo>
                      <a:pt x="1371" y="1905"/>
                    </a:lnTo>
                    <a:lnTo>
                      <a:pt x="1410" y="1851"/>
                    </a:lnTo>
                    <a:lnTo>
                      <a:pt x="1446" y="1794"/>
                    </a:lnTo>
                    <a:lnTo>
                      <a:pt x="1479" y="1734"/>
                    </a:lnTo>
                    <a:lnTo>
                      <a:pt x="1509" y="1674"/>
                    </a:lnTo>
                    <a:lnTo>
                      <a:pt x="1537" y="1610"/>
                    </a:lnTo>
                    <a:lnTo>
                      <a:pt x="1562" y="1545"/>
                    </a:lnTo>
                    <a:lnTo>
                      <a:pt x="1585" y="1476"/>
                    </a:lnTo>
                    <a:lnTo>
                      <a:pt x="1604" y="1407"/>
                    </a:lnTo>
                    <a:lnTo>
                      <a:pt x="1622" y="1334"/>
                    </a:lnTo>
                    <a:lnTo>
                      <a:pt x="1638" y="1260"/>
                    </a:lnTo>
                    <a:lnTo>
                      <a:pt x="1652" y="1183"/>
                    </a:lnTo>
                    <a:lnTo>
                      <a:pt x="1663" y="1104"/>
                    </a:lnTo>
                    <a:lnTo>
                      <a:pt x="1674" y="1023"/>
                    </a:lnTo>
                    <a:lnTo>
                      <a:pt x="1682" y="940"/>
                    </a:lnTo>
                    <a:lnTo>
                      <a:pt x="1688" y="855"/>
                    </a:lnTo>
                    <a:lnTo>
                      <a:pt x="1693" y="768"/>
                    </a:lnTo>
                    <a:lnTo>
                      <a:pt x="1696" y="678"/>
                    </a:lnTo>
                    <a:lnTo>
                      <a:pt x="1699" y="586"/>
                    </a:lnTo>
                    <a:lnTo>
                      <a:pt x="1700" y="493"/>
                    </a:lnTo>
                    <a:lnTo>
                      <a:pt x="1699" y="397"/>
                    </a:lnTo>
                    <a:lnTo>
                      <a:pt x="1698" y="299"/>
                    </a:lnTo>
                    <a:lnTo>
                      <a:pt x="1695" y="199"/>
                    </a:lnTo>
                    <a:lnTo>
                      <a:pt x="1692" y="96"/>
                    </a:lnTo>
                    <a:lnTo>
                      <a:pt x="1676" y="110"/>
                    </a:lnTo>
                    <a:lnTo>
                      <a:pt x="1660" y="121"/>
                    </a:lnTo>
                    <a:lnTo>
                      <a:pt x="1645" y="130"/>
                    </a:lnTo>
                    <a:lnTo>
                      <a:pt x="1631" y="137"/>
                    </a:lnTo>
                    <a:lnTo>
                      <a:pt x="1617" y="143"/>
                    </a:lnTo>
                    <a:lnTo>
                      <a:pt x="1603" y="147"/>
                    </a:lnTo>
                    <a:lnTo>
                      <a:pt x="1589" y="151"/>
                    </a:lnTo>
                    <a:lnTo>
                      <a:pt x="1577" y="152"/>
                    </a:lnTo>
                    <a:lnTo>
                      <a:pt x="1563" y="152"/>
                    </a:lnTo>
                    <a:lnTo>
                      <a:pt x="1550" y="151"/>
                    </a:lnTo>
                    <a:lnTo>
                      <a:pt x="1538" y="148"/>
                    </a:lnTo>
                    <a:lnTo>
                      <a:pt x="1527" y="145"/>
                    </a:lnTo>
                    <a:lnTo>
                      <a:pt x="1514" y="140"/>
                    </a:lnTo>
                    <a:lnTo>
                      <a:pt x="1501" y="136"/>
                    </a:lnTo>
                    <a:lnTo>
                      <a:pt x="1490" y="130"/>
                    </a:lnTo>
                    <a:lnTo>
                      <a:pt x="1479" y="123"/>
                    </a:lnTo>
                    <a:lnTo>
                      <a:pt x="1455" y="108"/>
                    </a:lnTo>
                    <a:lnTo>
                      <a:pt x="1432" y="92"/>
                    </a:lnTo>
                    <a:lnTo>
                      <a:pt x="1408" y="74"/>
                    </a:lnTo>
                    <a:lnTo>
                      <a:pt x="1384" y="57"/>
                    </a:lnTo>
                    <a:lnTo>
                      <a:pt x="1360" y="40"/>
                    </a:lnTo>
                    <a:lnTo>
                      <a:pt x="1335" y="24"/>
                    </a:lnTo>
                    <a:lnTo>
                      <a:pt x="1322" y="17"/>
                    </a:lnTo>
                    <a:lnTo>
                      <a:pt x="1309" y="10"/>
                    </a:lnTo>
                    <a:lnTo>
                      <a:pt x="1295" y="5"/>
                    </a:lnTo>
                    <a:lnTo>
                      <a:pt x="128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5076720" y="4232160"/>
                <a:ext cx="395280" cy="417600"/>
              </a:xfrm>
              <a:custGeom>
                <a:avLst/>
                <a:gdLst/>
                <a:ahLst/>
                <a:rect l="l" t="t" r="r" b="b"/>
                <a:pathLst>
                  <a:path w="1248" h="1316">
                    <a:moveTo>
                      <a:pt x="56" y="1307"/>
                    </a:moveTo>
                    <a:lnTo>
                      <a:pt x="37" y="1316"/>
                    </a:lnTo>
                    <a:lnTo>
                      <a:pt x="100" y="1308"/>
                    </a:lnTo>
                    <a:lnTo>
                      <a:pt x="162" y="1301"/>
                    </a:lnTo>
                    <a:lnTo>
                      <a:pt x="222" y="1292"/>
                    </a:lnTo>
                    <a:lnTo>
                      <a:pt x="282" y="1283"/>
                    </a:lnTo>
                    <a:lnTo>
                      <a:pt x="339" y="1272"/>
                    </a:lnTo>
                    <a:lnTo>
                      <a:pt x="395" y="1260"/>
                    </a:lnTo>
                    <a:lnTo>
                      <a:pt x="448" y="1247"/>
                    </a:lnTo>
                    <a:lnTo>
                      <a:pt x="501" y="1232"/>
                    </a:lnTo>
                    <a:lnTo>
                      <a:pt x="527" y="1224"/>
                    </a:lnTo>
                    <a:lnTo>
                      <a:pt x="552" y="1215"/>
                    </a:lnTo>
                    <a:lnTo>
                      <a:pt x="577" y="1206"/>
                    </a:lnTo>
                    <a:lnTo>
                      <a:pt x="601" y="1196"/>
                    </a:lnTo>
                    <a:lnTo>
                      <a:pt x="625" y="1186"/>
                    </a:lnTo>
                    <a:lnTo>
                      <a:pt x="649" y="1176"/>
                    </a:lnTo>
                    <a:lnTo>
                      <a:pt x="673" y="1164"/>
                    </a:lnTo>
                    <a:lnTo>
                      <a:pt x="696" y="1152"/>
                    </a:lnTo>
                    <a:lnTo>
                      <a:pt x="717" y="1139"/>
                    </a:lnTo>
                    <a:lnTo>
                      <a:pt x="740" y="1127"/>
                    </a:lnTo>
                    <a:lnTo>
                      <a:pt x="762" y="1113"/>
                    </a:lnTo>
                    <a:lnTo>
                      <a:pt x="782" y="1098"/>
                    </a:lnTo>
                    <a:lnTo>
                      <a:pt x="804" y="1083"/>
                    </a:lnTo>
                    <a:lnTo>
                      <a:pt x="823" y="1067"/>
                    </a:lnTo>
                    <a:lnTo>
                      <a:pt x="844" y="1052"/>
                    </a:lnTo>
                    <a:lnTo>
                      <a:pt x="863" y="1034"/>
                    </a:lnTo>
                    <a:lnTo>
                      <a:pt x="883" y="1016"/>
                    </a:lnTo>
                    <a:lnTo>
                      <a:pt x="901" y="998"/>
                    </a:lnTo>
                    <a:lnTo>
                      <a:pt x="919" y="979"/>
                    </a:lnTo>
                    <a:lnTo>
                      <a:pt x="937" y="958"/>
                    </a:lnTo>
                    <a:lnTo>
                      <a:pt x="954" y="936"/>
                    </a:lnTo>
                    <a:lnTo>
                      <a:pt x="970" y="915"/>
                    </a:lnTo>
                    <a:lnTo>
                      <a:pt x="987" y="892"/>
                    </a:lnTo>
                    <a:lnTo>
                      <a:pt x="1003" y="869"/>
                    </a:lnTo>
                    <a:lnTo>
                      <a:pt x="1018" y="844"/>
                    </a:lnTo>
                    <a:lnTo>
                      <a:pt x="1033" y="819"/>
                    </a:lnTo>
                    <a:lnTo>
                      <a:pt x="1048" y="793"/>
                    </a:lnTo>
                    <a:lnTo>
                      <a:pt x="1062" y="765"/>
                    </a:lnTo>
                    <a:lnTo>
                      <a:pt x="1075" y="738"/>
                    </a:lnTo>
                    <a:lnTo>
                      <a:pt x="1089" y="708"/>
                    </a:lnTo>
                    <a:lnTo>
                      <a:pt x="1101" y="678"/>
                    </a:lnTo>
                    <a:lnTo>
                      <a:pt x="1114" y="648"/>
                    </a:lnTo>
                    <a:lnTo>
                      <a:pt x="1125" y="616"/>
                    </a:lnTo>
                    <a:lnTo>
                      <a:pt x="1137" y="583"/>
                    </a:lnTo>
                    <a:lnTo>
                      <a:pt x="1147" y="548"/>
                    </a:lnTo>
                    <a:lnTo>
                      <a:pt x="1158" y="514"/>
                    </a:lnTo>
                    <a:lnTo>
                      <a:pt x="1168" y="478"/>
                    </a:lnTo>
                    <a:lnTo>
                      <a:pt x="1178" y="441"/>
                    </a:lnTo>
                    <a:lnTo>
                      <a:pt x="1187" y="402"/>
                    </a:lnTo>
                    <a:lnTo>
                      <a:pt x="1195" y="364"/>
                    </a:lnTo>
                    <a:lnTo>
                      <a:pt x="1203" y="323"/>
                    </a:lnTo>
                    <a:lnTo>
                      <a:pt x="1211" y="281"/>
                    </a:lnTo>
                    <a:lnTo>
                      <a:pt x="1219" y="238"/>
                    </a:lnTo>
                    <a:lnTo>
                      <a:pt x="1226" y="194"/>
                    </a:lnTo>
                    <a:lnTo>
                      <a:pt x="1238" y="102"/>
                    </a:lnTo>
                    <a:lnTo>
                      <a:pt x="1248" y="6"/>
                    </a:lnTo>
                    <a:lnTo>
                      <a:pt x="1182" y="0"/>
                    </a:lnTo>
                    <a:lnTo>
                      <a:pt x="1171" y="94"/>
                    </a:lnTo>
                    <a:lnTo>
                      <a:pt x="1158" y="184"/>
                    </a:lnTo>
                    <a:lnTo>
                      <a:pt x="1152" y="228"/>
                    </a:lnTo>
                    <a:lnTo>
                      <a:pt x="1145" y="269"/>
                    </a:lnTo>
                    <a:lnTo>
                      <a:pt x="1137" y="310"/>
                    </a:lnTo>
                    <a:lnTo>
                      <a:pt x="1129" y="349"/>
                    </a:lnTo>
                    <a:lnTo>
                      <a:pt x="1121" y="388"/>
                    </a:lnTo>
                    <a:lnTo>
                      <a:pt x="1112" y="425"/>
                    </a:lnTo>
                    <a:lnTo>
                      <a:pt x="1103" y="461"/>
                    </a:lnTo>
                    <a:lnTo>
                      <a:pt x="1093" y="496"/>
                    </a:lnTo>
                    <a:lnTo>
                      <a:pt x="1083" y="529"/>
                    </a:lnTo>
                    <a:lnTo>
                      <a:pt x="1073" y="562"/>
                    </a:lnTo>
                    <a:lnTo>
                      <a:pt x="1062" y="593"/>
                    </a:lnTo>
                    <a:lnTo>
                      <a:pt x="1050" y="624"/>
                    </a:lnTo>
                    <a:lnTo>
                      <a:pt x="1039" y="653"/>
                    </a:lnTo>
                    <a:lnTo>
                      <a:pt x="1027" y="682"/>
                    </a:lnTo>
                    <a:lnTo>
                      <a:pt x="1015" y="709"/>
                    </a:lnTo>
                    <a:lnTo>
                      <a:pt x="1001" y="736"/>
                    </a:lnTo>
                    <a:lnTo>
                      <a:pt x="989" y="761"/>
                    </a:lnTo>
                    <a:lnTo>
                      <a:pt x="975" y="786"/>
                    </a:lnTo>
                    <a:lnTo>
                      <a:pt x="961" y="809"/>
                    </a:lnTo>
                    <a:lnTo>
                      <a:pt x="946" y="831"/>
                    </a:lnTo>
                    <a:lnTo>
                      <a:pt x="932" y="853"/>
                    </a:lnTo>
                    <a:lnTo>
                      <a:pt x="917" y="875"/>
                    </a:lnTo>
                    <a:lnTo>
                      <a:pt x="901" y="895"/>
                    </a:lnTo>
                    <a:lnTo>
                      <a:pt x="885" y="915"/>
                    </a:lnTo>
                    <a:lnTo>
                      <a:pt x="869" y="933"/>
                    </a:lnTo>
                    <a:lnTo>
                      <a:pt x="853" y="951"/>
                    </a:lnTo>
                    <a:lnTo>
                      <a:pt x="836" y="968"/>
                    </a:lnTo>
                    <a:lnTo>
                      <a:pt x="818" y="984"/>
                    </a:lnTo>
                    <a:lnTo>
                      <a:pt x="800" y="1000"/>
                    </a:lnTo>
                    <a:lnTo>
                      <a:pt x="782" y="1015"/>
                    </a:lnTo>
                    <a:lnTo>
                      <a:pt x="763" y="1030"/>
                    </a:lnTo>
                    <a:lnTo>
                      <a:pt x="745" y="1044"/>
                    </a:lnTo>
                    <a:lnTo>
                      <a:pt x="724" y="1056"/>
                    </a:lnTo>
                    <a:lnTo>
                      <a:pt x="705" y="1070"/>
                    </a:lnTo>
                    <a:lnTo>
                      <a:pt x="684" y="1081"/>
                    </a:lnTo>
                    <a:lnTo>
                      <a:pt x="664" y="1093"/>
                    </a:lnTo>
                    <a:lnTo>
                      <a:pt x="642" y="1104"/>
                    </a:lnTo>
                    <a:lnTo>
                      <a:pt x="620" y="1114"/>
                    </a:lnTo>
                    <a:lnTo>
                      <a:pt x="599" y="1125"/>
                    </a:lnTo>
                    <a:lnTo>
                      <a:pt x="576" y="1134"/>
                    </a:lnTo>
                    <a:lnTo>
                      <a:pt x="553" y="1143"/>
                    </a:lnTo>
                    <a:lnTo>
                      <a:pt x="529" y="1152"/>
                    </a:lnTo>
                    <a:lnTo>
                      <a:pt x="505" y="1160"/>
                    </a:lnTo>
                    <a:lnTo>
                      <a:pt x="481" y="1167"/>
                    </a:lnTo>
                    <a:lnTo>
                      <a:pt x="431" y="1182"/>
                    </a:lnTo>
                    <a:lnTo>
                      <a:pt x="380" y="1194"/>
                    </a:lnTo>
                    <a:lnTo>
                      <a:pt x="325" y="1206"/>
                    </a:lnTo>
                    <a:lnTo>
                      <a:pt x="270" y="1216"/>
                    </a:lnTo>
                    <a:lnTo>
                      <a:pt x="212" y="1226"/>
                    </a:lnTo>
                    <a:lnTo>
                      <a:pt x="154" y="1234"/>
                    </a:lnTo>
                    <a:lnTo>
                      <a:pt x="93" y="1242"/>
                    </a:lnTo>
                    <a:lnTo>
                      <a:pt x="30" y="1249"/>
                    </a:lnTo>
                    <a:lnTo>
                      <a:pt x="10" y="1257"/>
                    </a:lnTo>
                    <a:lnTo>
                      <a:pt x="30" y="1249"/>
                    </a:lnTo>
                    <a:lnTo>
                      <a:pt x="22" y="1250"/>
                    </a:lnTo>
                    <a:lnTo>
                      <a:pt x="15" y="1253"/>
                    </a:lnTo>
                    <a:lnTo>
                      <a:pt x="10" y="1257"/>
                    </a:lnTo>
                    <a:lnTo>
                      <a:pt x="6" y="1261"/>
                    </a:lnTo>
                    <a:lnTo>
                      <a:pt x="2" y="1267"/>
                    </a:lnTo>
                    <a:lnTo>
                      <a:pt x="0" y="1273"/>
                    </a:lnTo>
                    <a:lnTo>
                      <a:pt x="0" y="1280"/>
                    </a:lnTo>
                    <a:lnTo>
                      <a:pt x="0" y="1285"/>
                    </a:lnTo>
                    <a:lnTo>
                      <a:pt x="1" y="1292"/>
                    </a:lnTo>
                    <a:lnTo>
                      <a:pt x="4" y="1298"/>
                    </a:lnTo>
                    <a:lnTo>
                      <a:pt x="6" y="1304"/>
                    </a:lnTo>
                    <a:lnTo>
                      <a:pt x="10" y="1308"/>
                    </a:lnTo>
                    <a:lnTo>
                      <a:pt x="16" y="1312"/>
                    </a:lnTo>
                    <a:lnTo>
                      <a:pt x="22" y="1314"/>
                    </a:lnTo>
                    <a:lnTo>
                      <a:pt x="29" y="1316"/>
                    </a:lnTo>
                    <a:lnTo>
                      <a:pt x="37" y="1316"/>
                    </a:lnTo>
                    <a:lnTo>
                      <a:pt x="56" y="130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5059440" y="4630680"/>
                <a:ext cx="127080" cy="104760"/>
              </a:xfrm>
              <a:custGeom>
                <a:avLst/>
                <a:gdLst/>
                <a:ahLst/>
                <a:rect l="l" t="t" r="r" b="b"/>
                <a:pathLst>
                  <a:path w="400" h="328">
                    <a:moveTo>
                      <a:pt x="400" y="274"/>
                    </a:moveTo>
                    <a:lnTo>
                      <a:pt x="359" y="246"/>
                    </a:lnTo>
                    <a:lnTo>
                      <a:pt x="327" y="252"/>
                    </a:lnTo>
                    <a:lnTo>
                      <a:pt x="296" y="257"/>
                    </a:lnTo>
                    <a:lnTo>
                      <a:pt x="269" y="259"/>
                    </a:lnTo>
                    <a:lnTo>
                      <a:pt x="242" y="261"/>
                    </a:lnTo>
                    <a:lnTo>
                      <a:pt x="218" y="260"/>
                    </a:lnTo>
                    <a:lnTo>
                      <a:pt x="197" y="259"/>
                    </a:lnTo>
                    <a:lnTo>
                      <a:pt x="177" y="257"/>
                    </a:lnTo>
                    <a:lnTo>
                      <a:pt x="159" y="252"/>
                    </a:lnTo>
                    <a:lnTo>
                      <a:pt x="143" y="247"/>
                    </a:lnTo>
                    <a:lnTo>
                      <a:pt x="130" y="242"/>
                    </a:lnTo>
                    <a:lnTo>
                      <a:pt x="118" y="236"/>
                    </a:lnTo>
                    <a:lnTo>
                      <a:pt x="108" y="229"/>
                    </a:lnTo>
                    <a:lnTo>
                      <a:pt x="99" y="222"/>
                    </a:lnTo>
                    <a:lnTo>
                      <a:pt x="91" y="214"/>
                    </a:lnTo>
                    <a:lnTo>
                      <a:pt x="85" y="206"/>
                    </a:lnTo>
                    <a:lnTo>
                      <a:pt x="79" y="198"/>
                    </a:lnTo>
                    <a:lnTo>
                      <a:pt x="75" y="189"/>
                    </a:lnTo>
                    <a:lnTo>
                      <a:pt x="71" y="180"/>
                    </a:lnTo>
                    <a:lnTo>
                      <a:pt x="69" y="171"/>
                    </a:lnTo>
                    <a:lnTo>
                      <a:pt x="67" y="161"/>
                    </a:lnTo>
                    <a:lnTo>
                      <a:pt x="67" y="150"/>
                    </a:lnTo>
                    <a:lnTo>
                      <a:pt x="67" y="140"/>
                    </a:lnTo>
                    <a:lnTo>
                      <a:pt x="68" y="130"/>
                    </a:lnTo>
                    <a:lnTo>
                      <a:pt x="70" y="120"/>
                    </a:lnTo>
                    <a:lnTo>
                      <a:pt x="73" y="109"/>
                    </a:lnTo>
                    <a:lnTo>
                      <a:pt x="76" y="100"/>
                    </a:lnTo>
                    <a:lnTo>
                      <a:pt x="79" y="90"/>
                    </a:lnTo>
                    <a:lnTo>
                      <a:pt x="85" y="81"/>
                    </a:lnTo>
                    <a:lnTo>
                      <a:pt x="90" y="73"/>
                    </a:lnTo>
                    <a:lnTo>
                      <a:pt x="95" y="64"/>
                    </a:lnTo>
                    <a:lnTo>
                      <a:pt x="102" y="57"/>
                    </a:lnTo>
                    <a:lnTo>
                      <a:pt x="109" y="50"/>
                    </a:lnTo>
                    <a:lnTo>
                      <a:pt x="63" y="0"/>
                    </a:lnTo>
                    <a:lnTo>
                      <a:pt x="53" y="11"/>
                    </a:lnTo>
                    <a:lnTo>
                      <a:pt x="43" y="23"/>
                    </a:lnTo>
                    <a:lnTo>
                      <a:pt x="34" y="35"/>
                    </a:lnTo>
                    <a:lnTo>
                      <a:pt x="26" y="48"/>
                    </a:lnTo>
                    <a:lnTo>
                      <a:pt x="19" y="61"/>
                    </a:lnTo>
                    <a:lnTo>
                      <a:pt x="12" y="76"/>
                    </a:lnTo>
                    <a:lnTo>
                      <a:pt x="8" y="90"/>
                    </a:lnTo>
                    <a:lnTo>
                      <a:pt x="4" y="106"/>
                    </a:lnTo>
                    <a:lnTo>
                      <a:pt x="1" y="121"/>
                    </a:lnTo>
                    <a:lnTo>
                      <a:pt x="0" y="137"/>
                    </a:lnTo>
                    <a:lnTo>
                      <a:pt x="0" y="153"/>
                    </a:lnTo>
                    <a:lnTo>
                      <a:pt x="1" y="169"/>
                    </a:lnTo>
                    <a:lnTo>
                      <a:pt x="3" y="185"/>
                    </a:lnTo>
                    <a:lnTo>
                      <a:pt x="8" y="201"/>
                    </a:lnTo>
                    <a:lnTo>
                      <a:pt x="13" y="217"/>
                    </a:lnTo>
                    <a:lnTo>
                      <a:pt x="20" y="231"/>
                    </a:lnTo>
                    <a:lnTo>
                      <a:pt x="29" y="245"/>
                    </a:lnTo>
                    <a:lnTo>
                      <a:pt x="41" y="260"/>
                    </a:lnTo>
                    <a:lnTo>
                      <a:pt x="53" y="273"/>
                    </a:lnTo>
                    <a:lnTo>
                      <a:pt x="68" y="284"/>
                    </a:lnTo>
                    <a:lnTo>
                      <a:pt x="84" y="294"/>
                    </a:lnTo>
                    <a:lnTo>
                      <a:pt x="102" y="303"/>
                    </a:lnTo>
                    <a:lnTo>
                      <a:pt x="122" y="311"/>
                    </a:lnTo>
                    <a:lnTo>
                      <a:pt x="143" y="318"/>
                    </a:lnTo>
                    <a:lnTo>
                      <a:pt x="166" y="323"/>
                    </a:lnTo>
                    <a:lnTo>
                      <a:pt x="190" y="326"/>
                    </a:lnTo>
                    <a:lnTo>
                      <a:pt x="216" y="327"/>
                    </a:lnTo>
                    <a:lnTo>
                      <a:pt x="244" y="328"/>
                    </a:lnTo>
                    <a:lnTo>
                      <a:pt x="273" y="326"/>
                    </a:lnTo>
                    <a:lnTo>
                      <a:pt x="304" y="324"/>
                    </a:lnTo>
                    <a:lnTo>
                      <a:pt x="338" y="318"/>
                    </a:lnTo>
                    <a:lnTo>
                      <a:pt x="374" y="311"/>
                    </a:lnTo>
                    <a:lnTo>
                      <a:pt x="332" y="284"/>
                    </a:lnTo>
                    <a:lnTo>
                      <a:pt x="374" y="311"/>
                    </a:lnTo>
                    <a:lnTo>
                      <a:pt x="380" y="309"/>
                    </a:lnTo>
                    <a:lnTo>
                      <a:pt x="387" y="306"/>
                    </a:lnTo>
                    <a:lnTo>
                      <a:pt x="392" y="301"/>
                    </a:lnTo>
                    <a:lnTo>
                      <a:pt x="395" y="297"/>
                    </a:lnTo>
                    <a:lnTo>
                      <a:pt x="399" y="291"/>
                    </a:lnTo>
                    <a:lnTo>
                      <a:pt x="400" y="284"/>
                    </a:lnTo>
                    <a:lnTo>
                      <a:pt x="400" y="278"/>
                    </a:lnTo>
                    <a:lnTo>
                      <a:pt x="399" y="271"/>
                    </a:lnTo>
                    <a:lnTo>
                      <a:pt x="397" y="266"/>
                    </a:lnTo>
                    <a:lnTo>
                      <a:pt x="394" y="260"/>
                    </a:lnTo>
                    <a:lnTo>
                      <a:pt x="391" y="255"/>
                    </a:lnTo>
                    <a:lnTo>
                      <a:pt x="386" y="251"/>
                    </a:lnTo>
                    <a:lnTo>
                      <a:pt x="380" y="247"/>
                    </a:lnTo>
                    <a:lnTo>
                      <a:pt x="375" y="245"/>
                    </a:lnTo>
                    <a:lnTo>
                      <a:pt x="367" y="245"/>
                    </a:lnTo>
                    <a:lnTo>
                      <a:pt x="359" y="246"/>
                    </a:lnTo>
                    <a:lnTo>
                      <a:pt x="400" y="27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5045040" y="4718160"/>
                <a:ext cx="141480" cy="117360"/>
              </a:xfrm>
              <a:custGeom>
                <a:avLst/>
                <a:gdLst/>
                <a:ahLst/>
                <a:rect l="l" t="t" r="r" b="b"/>
                <a:pathLst>
                  <a:path w="447" h="369">
                    <a:moveTo>
                      <a:pt x="80" y="326"/>
                    </a:moveTo>
                    <a:lnTo>
                      <a:pt x="78" y="319"/>
                    </a:lnTo>
                    <a:lnTo>
                      <a:pt x="74" y="312"/>
                    </a:lnTo>
                    <a:lnTo>
                      <a:pt x="72" y="307"/>
                    </a:lnTo>
                    <a:lnTo>
                      <a:pt x="70" y="301"/>
                    </a:lnTo>
                    <a:lnTo>
                      <a:pt x="68" y="295"/>
                    </a:lnTo>
                    <a:lnTo>
                      <a:pt x="67" y="291"/>
                    </a:lnTo>
                    <a:lnTo>
                      <a:pt x="67" y="286"/>
                    </a:lnTo>
                    <a:lnTo>
                      <a:pt x="67" y="283"/>
                    </a:lnTo>
                    <a:lnTo>
                      <a:pt x="68" y="279"/>
                    </a:lnTo>
                    <a:lnTo>
                      <a:pt x="68" y="276"/>
                    </a:lnTo>
                    <a:lnTo>
                      <a:pt x="70" y="272"/>
                    </a:lnTo>
                    <a:lnTo>
                      <a:pt x="72" y="269"/>
                    </a:lnTo>
                    <a:lnTo>
                      <a:pt x="73" y="267"/>
                    </a:lnTo>
                    <a:lnTo>
                      <a:pt x="80" y="258"/>
                    </a:lnTo>
                    <a:lnTo>
                      <a:pt x="87" y="250"/>
                    </a:lnTo>
                    <a:lnTo>
                      <a:pt x="97" y="242"/>
                    </a:lnTo>
                    <a:lnTo>
                      <a:pt x="109" y="234"/>
                    </a:lnTo>
                    <a:lnTo>
                      <a:pt x="123" y="226"/>
                    </a:lnTo>
                    <a:lnTo>
                      <a:pt x="138" y="219"/>
                    </a:lnTo>
                    <a:lnTo>
                      <a:pt x="174" y="203"/>
                    </a:lnTo>
                    <a:lnTo>
                      <a:pt x="213" y="188"/>
                    </a:lnTo>
                    <a:lnTo>
                      <a:pt x="253" y="174"/>
                    </a:lnTo>
                    <a:lnTo>
                      <a:pt x="293" y="159"/>
                    </a:lnTo>
                    <a:lnTo>
                      <a:pt x="313" y="151"/>
                    </a:lnTo>
                    <a:lnTo>
                      <a:pt x="332" y="143"/>
                    </a:lnTo>
                    <a:lnTo>
                      <a:pt x="351" y="134"/>
                    </a:lnTo>
                    <a:lnTo>
                      <a:pt x="368" y="125"/>
                    </a:lnTo>
                    <a:lnTo>
                      <a:pt x="385" y="115"/>
                    </a:lnTo>
                    <a:lnTo>
                      <a:pt x="401" y="104"/>
                    </a:lnTo>
                    <a:lnTo>
                      <a:pt x="415" y="91"/>
                    </a:lnTo>
                    <a:lnTo>
                      <a:pt x="426" y="77"/>
                    </a:lnTo>
                    <a:lnTo>
                      <a:pt x="432" y="68"/>
                    </a:lnTo>
                    <a:lnTo>
                      <a:pt x="437" y="59"/>
                    </a:lnTo>
                    <a:lnTo>
                      <a:pt x="441" y="50"/>
                    </a:lnTo>
                    <a:lnTo>
                      <a:pt x="443" y="41"/>
                    </a:lnTo>
                    <a:lnTo>
                      <a:pt x="446" y="31"/>
                    </a:lnTo>
                    <a:lnTo>
                      <a:pt x="447" y="20"/>
                    </a:lnTo>
                    <a:lnTo>
                      <a:pt x="447" y="10"/>
                    </a:lnTo>
                    <a:lnTo>
                      <a:pt x="446" y="0"/>
                    </a:lnTo>
                    <a:lnTo>
                      <a:pt x="378" y="10"/>
                    </a:lnTo>
                    <a:lnTo>
                      <a:pt x="380" y="15"/>
                    </a:lnTo>
                    <a:lnTo>
                      <a:pt x="380" y="18"/>
                    </a:lnTo>
                    <a:lnTo>
                      <a:pt x="380" y="21"/>
                    </a:lnTo>
                    <a:lnTo>
                      <a:pt x="378" y="24"/>
                    </a:lnTo>
                    <a:lnTo>
                      <a:pt x="377" y="27"/>
                    </a:lnTo>
                    <a:lnTo>
                      <a:pt x="376" y="31"/>
                    </a:lnTo>
                    <a:lnTo>
                      <a:pt x="375" y="33"/>
                    </a:lnTo>
                    <a:lnTo>
                      <a:pt x="374" y="35"/>
                    </a:lnTo>
                    <a:lnTo>
                      <a:pt x="367" y="43"/>
                    </a:lnTo>
                    <a:lnTo>
                      <a:pt x="358" y="51"/>
                    </a:lnTo>
                    <a:lnTo>
                      <a:pt x="348" y="59"/>
                    </a:lnTo>
                    <a:lnTo>
                      <a:pt x="335" y="66"/>
                    </a:lnTo>
                    <a:lnTo>
                      <a:pt x="320" y="74"/>
                    </a:lnTo>
                    <a:lnTo>
                      <a:pt x="304" y="82"/>
                    </a:lnTo>
                    <a:lnTo>
                      <a:pt x="287" y="89"/>
                    </a:lnTo>
                    <a:lnTo>
                      <a:pt x="269" y="96"/>
                    </a:lnTo>
                    <a:lnTo>
                      <a:pt x="230" y="110"/>
                    </a:lnTo>
                    <a:lnTo>
                      <a:pt x="189" y="125"/>
                    </a:lnTo>
                    <a:lnTo>
                      <a:pt x="149" y="140"/>
                    </a:lnTo>
                    <a:lnTo>
                      <a:pt x="111" y="157"/>
                    </a:lnTo>
                    <a:lnTo>
                      <a:pt x="91" y="166"/>
                    </a:lnTo>
                    <a:lnTo>
                      <a:pt x="74" y="177"/>
                    </a:lnTo>
                    <a:lnTo>
                      <a:pt x="58" y="187"/>
                    </a:lnTo>
                    <a:lnTo>
                      <a:pt x="42" y="199"/>
                    </a:lnTo>
                    <a:lnTo>
                      <a:pt x="28" y="213"/>
                    </a:lnTo>
                    <a:lnTo>
                      <a:pt x="17" y="228"/>
                    </a:lnTo>
                    <a:lnTo>
                      <a:pt x="11" y="237"/>
                    </a:lnTo>
                    <a:lnTo>
                      <a:pt x="8" y="246"/>
                    </a:lnTo>
                    <a:lnTo>
                      <a:pt x="5" y="256"/>
                    </a:lnTo>
                    <a:lnTo>
                      <a:pt x="2" y="266"/>
                    </a:lnTo>
                    <a:lnTo>
                      <a:pt x="0" y="276"/>
                    </a:lnTo>
                    <a:lnTo>
                      <a:pt x="0" y="287"/>
                    </a:lnTo>
                    <a:lnTo>
                      <a:pt x="0" y="297"/>
                    </a:lnTo>
                    <a:lnTo>
                      <a:pt x="2" y="309"/>
                    </a:lnTo>
                    <a:lnTo>
                      <a:pt x="5" y="319"/>
                    </a:lnTo>
                    <a:lnTo>
                      <a:pt x="8" y="331"/>
                    </a:lnTo>
                    <a:lnTo>
                      <a:pt x="13" y="341"/>
                    </a:lnTo>
                    <a:lnTo>
                      <a:pt x="18" y="351"/>
                    </a:lnTo>
                    <a:lnTo>
                      <a:pt x="16" y="345"/>
                    </a:lnTo>
                    <a:lnTo>
                      <a:pt x="18" y="351"/>
                    </a:lnTo>
                    <a:lnTo>
                      <a:pt x="23" y="358"/>
                    </a:lnTo>
                    <a:lnTo>
                      <a:pt x="27" y="364"/>
                    </a:lnTo>
                    <a:lnTo>
                      <a:pt x="33" y="367"/>
                    </a:lnTo>
                    <a:lnTo>
                      <a:pt x="40" y="369"/>
                    </a:lnTo>
                    <a:lnTo>
                      <a:pt x="46" y="369"/>
                    </a:lnTo>
                    <a:lnTo>
                      <a:pt x="52" y="369"/>
                    </a:lnTo>
                    <a:lnTo>
                      <a:pt x="58" y="368"/>
                    </a:lnTo>
                    <a:lnTo>
                      <a:pt x="64" y="365"/>
                    </a:lnTo>
                    <a:lnTo>
                      <a:pt x="70" y="361"/>
                    </a:lnTo>
                    <a:lnTo>
                      <a:pt x="74" y="358"/>
                    </a:lnTo>
                    <a:lnTo>
                      <a:pt x="78" y="352"/>
                    </a:lnTo>
                    <a:lnTo>
                      <a:pt x="80" y="347"/>
                    </a:lnTo>
                    <a:lnTo>
                      <a:pt x="82" y="341"/>
                    </a:lnTo>
                    <a:lnTo>
                      <a:pt x="82" y="334"/>
                    </a:lnTo>
                    <a:lnTo>
                      <a:pt x="81" y="327"/>
                    </a:lnTo>
                    <a:lnTo>
                      <a:pt x="78" y="319"/>
                    </a:lnTo>
                    <a:lnTo>
                      <a:pt x="80" y="3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5049720" y="4821120"/>
                <a:ext cx="160560" cy="47880"/>
              </a:xfrm>
              <a:custGeom>
                <a:avLst/>
                <a:gdLst/>
                <a:ahLst/>
                <a:rect l="l" t="t" r="r" b="b"/>
                <a:pathLst>
                  <a:path w="504" h="148">
                    <a:moveTo>
                      <a:pt x="494" y="71"/>
                    </a:moveTo>
                    <a:lnTo>
                      <a:pt x="502" y="103"/>
                    </a:lnTo>
                    <a:lnTo>
                      <a:pt x="504" y="87"/>
                    </a:lnTo>
                    <a:lnTo>
                      <a:pt x="502" y="71"/>
                    </a:lnTo>
                    <a:lnTo>
                      <a:pt x="495" y="58"/>
                    </a:lnTo>
                    <a:lnTo>
                      <a:pt x="488" y="50"/>
                    </a:lnTo>
                    <a:lnTo>
                      <a:pt x="480" y="44"/>
                    </a:lnTo>
                    <a:lnTo>
                      <a:pt x="470" y="40"/>
                    </a:lnTo>
                    <a:lnTo>
                      <a:pt x="457" y="37"/>
                    </a:lnTo>
                    <a:lnTo>
                      <a:pt x="443" y="37"/>
                    </a:lnTo>
                    <a:lnTo>
                      <a:pt x="430" y="38"/>
                    </a:lnTo>
                    <a:lnTo>
                      <a:pt x="415" y="40"/>
                    </a:lnTo>
                    <a:lnTo>
                      <a:pt x="353" y="54"/>
                    </a:lnTo>
                    <a:lnTo>
                      <a:pt x="280" y="71"/>
                    </a:lnTo>
                    <a:lnTo>
                      <a:pt x="262" y="74"/>
                    </a:lnTo>
                    <a:lnTo>
                      <a:pt x="244" y="76"/>
                    </a:lnTo>
                    <a:lnTo>
                      <a:pt x="225" y="79"/>
                    </a:lnTo>
                    <a:lnTo>
                      <a:pt x="207" y="81"/>
                    </a:lnTo>
                    <a:lnTo>
                      <a:pt x="189" y="81"/>
                    </a:lnTo>
                    <a:lnTo>
                      <a:pt x="173" y="81"/>
                    </a:lnTo>
                    <a:lnTo>
                      <a:pt x="157" y="79"/>
                    </a:lnTo>
                    <a:lnTo>
                      <a:pt x="142" y="76"/>
                    </a:lnTo>
                    <a:lnTo>
                      <a:pt x="129" y="72"/>
                    </a:lnTo>
                    <a:lnTo>
                      <a:pt x="115" y="66"/>
                    </a:lnTo>
                    <a:lnTo>
                      <a:pt x="111" y="64"/>
                    </a:lnTo>
                    <a:lnTo>
                      <a:pt x="105" y="60"/>
                    </a:lnTo>
                    <a:lnTo>
                      <a:pt x="100" y="56"/>
                    </a:lnTo>
                    <a:lnTo>
                      <a:pt x="96" y="52"/>
                    </a:lnTo>
                    <a:lnTo>
                      <a:pt x="90" y="48"/>
                    </a:lnTo>
                    <a:lnTo>
                      <a:pt x="87" y="42"/>
                    </a:lnTo>
                    <a:lnTo>
                      <a:pt x="82" y="38"/>
                    </a:lnTo>
                    <a:lnTo>
                      <a:pt x="77" y="31"/>
                    </a:lnTo>
                    <a:lnTo>
                      <a:pt x="74" y="24"/>
                    </a:lnTo>
                    <a:lnTo>
                      <a:pt x="71" y="17"/>
                    </a:lnTo>
                    <a:lnTo>
                      <a:pt x="67" y="9"/>
                    </a:lnTo>
                    <a:lnTo>
                      <a:pt x="64" y="0"/>
                    </a:lnTo>
                    <a:lnTo>
                      <a:pt x="0" y="19"/>
                    </a:lnTo>
                    <a:lnTo>
                      <a:pt x="3" y="32"/>
                    </a:lnTo>
                    <a:lnTo>
                      <a:pt x="9" y="44"/>
                    </a:lnTo>
                    <a:lnTo>
                      <a:pt x="15" y="56"/>
                    </a:lnTo>
                    <a:lnTo>
                      <a:pt x="20" y="66"/>
                    </a:lnTo>
                    <a:lnTo>
                      <a:pt x="26" y="76"/>
                    </a:lnTo>
                    <a:lnTo>
                      <a:pt x="34" y="86"/>
                    </a:lnTo>
                    <a:lnTo>
                      <a:pt x="42" y="95"/>
                    </a:lnTo>
                    <a:lnTo>
                      <a:pt x="50" y="102"/>
                    </a:lnTo>
                    <a:lnTo>
                      <a:pt x="58" y="110"/>
                    </a:lnTo>
                    <a:lnTo>
                      <a:pt x="67" y="116"/>
                    </a:lnTo>
                    <a:lnTo>
                      <a:pt x="76" y="122"/>
                    </a:lnTo>
                    <a:lnTo>
                      <a:pt x="87" y="128"/>
                    </a:lnTo>
                    <a:lnTo>
                      <a:pt x="106" y="136"/>
                    </a:lnTo>
                    <a:lnTo>
                      <a:pt x="126" y="141"/>
                    </a:lnTo>
                    <a:lnTo>
                      <a:pt x="147" y="146"/>
                    </a:lnTo>
                    <a:lnTo>
                      <a:pt x="169" y="148"/>
                    </a:lnTo>
                    <a:lnTo>
                      <a:pt x="189" y="148"/>
                    </a:lnTo>
                    <a:lnTo>
                      <a:pt x="211" y="148"/>
                    </a:lnTo>
                    <a:lnTo>
                      <a:pt x="231" y="146"/>
                    </a:lnTo>
                    <a:lnTo>
                      <a:pt x="253" y="144"/>
                    </a:lnTo>
                    <a:lnTo>
                      <a:pt x="274" y="140"/>
                    </a:lnTo>
                    <a:lnTo>
                      <a:pt x="294" y="136"/>
                    </a:lnTo>
                    <a:lnTo>
                      <a:pt x="368" y="119"/>
                    </a:lnTo>
                    <a:lnTo>
                      <a:pt x="429" y="105"/>
                    </a:lnTo>
                    <a:lnTo>
                      <a:pt x="438" y="104"/>
                    </a:lnTo>
                    <a:lnTo>
                      <a:pt x="445" y="104"/>
                    </a:lnTo>
                    <a:lnTo>
                      <a:pt x="449" y="104"/>
                    </a:lnTo>
                    <a:lnTo>
                      <a:pt x="451" y="104"/>
                    </a:lnTo>
                    <a:lnTo>
                      <a:pt x="446" y="103"/>
                    </a:lnTo>
                    <a:lnTo>
                      <a:pt x="443" y="99"/>
                    </a:lnTo>
                    <a:lnTo>
                      <a:pt x="440" y="96"/>
                    </a:lnTo>
                    <a:lnTo>
                      <a:pt x="437" y="88"/>
                    </a:lnTo>
                    <a:lnTo>
                      <a:pt x="437" y="86"/>
                    </a:lnTo>
                    <a:lnTo>
                      <a:pt x="437" y="86"/>
                    </a:lnTo>
                    <a:lnTo>
                      <a:pt x="445" y="118"/>
                    </a:lnTo>
                    <a:lnTo>
                      <a:pt x="437" y="86"/>
                    </a:lnTo>
                    <a:lnTo>
                      <a:pt x="434" y="94"/>
                    </a:lnTo>
                    <a:lnTo>
                      <a:pt x="435" y="100"/>
                    </a:lnTo>
                    <a:lnTo>
                      <a:pt x="437" y="107"/>
                    </a:lnTo>
                    <a:lnTo>
                      <a:pt x="440" y="113"/>
                    </a:lnTo>
                    <a:lnTo>
                      <a:pt x="443" y="118"/>
                    </a:lnTo>
                    <a:lnTo>
                      <a:pt x="448" y="121"/>
                    </a:lnTo>
                    <a:lnTo>
                      <a:pt x="454" y="124"/>
                    </a:lnTo>
                    <a:lnTo>
                      <a:pt x="459" y="127"/>
                    </a:lnTo>
                    <a:lnTo>
                      <a:pt x="466" y="128"/>
                    </a:lnTo>
                    <a:lnTo>
                      <a:pt x="472" y="128"/>
                    </a:lnTo>
                    <a:lnTo>
                      <a:pt x="479" y="127"/>
                    </a:lnTo>
                    <a:lnTo>
                      <a:pt x="484" y="124"/>
                    </a:lnTo>
                    <a:lnTo>
                      <a:pt x="490" y="121"/>
                    </a:lnTo>
                    <a:lnTo>
                      <a:pt x="495" y="116"/>
                    </a:lnTo>
                    <a:lnTo>
                      <a:pt x="498" y="111"/>
                    </a:lnTo>
                    <a:lnTo>
                      <a:pt x="502" y="103"/>
                    </a:lnTo>
                    <a:lnTo>
                      <a:pt x="494" y="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5122800" y="4843440"/>
                <a:ext cx="95400" cy="155520"/>
              </a:xfrm>
              <a:custGeom>
                <a:avLst/>
                <a:gdLst/>
                <a:ahLst/>
                <a:rect l="l" t="t" r="r" b="b"/>
                <a:pathLst>
                  <a:path w="303" h="491">
                    <a:moveTo>
                      <a:pt x="114" y="425"/>
                    </a:moveTo>
                    <a:lnTo>
                      <a:pt x="124" y="429"/>
                    </a:lnTo>
                    <a:lnTo>
                      <a:pt x="113" y="422"/>
                    </a:lnTo>
                    <a:lnTo>
                      <a:pt x="104" y="415"/>
                    </a:lnTo>
                    <a:lnTo>
                      <a:pt x="96" y="409"/>
                    </a:lnTo>
                    <a:lnTo>
                      <a:pt x="89" y="402"/>
                    </a:lnTo>
                    <a:lnTo>
                      <a:pt x="83" y="397"/>
                    </a:lnTo>
                    <a:lnTo>
                      <a:pt x="79" y="391"/>
                    </a:lnTo>
                    <a:lnTo>
                      <a:pt x="75" y="386"/>
                    </a:lnTo>
                    <a:lnTo>
                      <a:pt x="72" y="382"/>
                    </a:lnTo>
                    <a:lnTo>
                      <a:pt x="69" y="377"/>
                    </a:lnTo>
                    <a:lnTo>
                      <a:pt x="68" y="374"/>
                    </a:lnTo>
                    <a:lnTo>
                      <a:pt x="68" y="371"/>
                    </a:lnTo>
                    <a:lnTo>
                      <a:pt x="67" y="367"/>
                    </a:lnTo>
                    <a:lnTo>
                      <a:pt x="67" y="364"/>
                    </a:lnTo>
                    <a:lnTo>
                      <a:pt x="67" y="361"/>
                    </a:lnTo>
                    <a:lnTo>
                      <a:pt x="68" y="358"/>
                    </a:lnTo>
                    <a:lnTo>
                      <a:pt x="69" y="355"/>
                    </a:lnTo>
                    <a:lnTo>
                      <a:pt x="74" y="345"/>
                    </a:lnTo>
                    <a:lnTo>
                      <a:pt x="80" y="336"/>
                    </a:lnTo>
                    <a:lnTo>
                      <a:pt x="88" y="325"/>
                    </a:lnTo>
                    <a:lnTo>
                      <a:pt x="98" y="315"/>
                    </a:lnTo>
                    <a:lnTo>
                      <a:pt x="111" y="303"/>
                    </a:lnTo>
                    <a:lnTo>
                      <a:pt x="124" y="291"/>
                    </a:lnTo>
                    <a:lnTo>
                      <a:pt x="139" y="279"/>
                    </a:lnTo>
                    <a:lnTo>
                      <a:pt x="155" y="267"/>
                    </a:lnTo>
                    <a:lnTo>
                      <a:pt x="187" y="242"/>
                    </a:lnTo>
                    <a:lnTo>
                      <a:pt x="220" y="216"/>
                    </a:lnTo>
                    <a:lnTo>
                      <a:pt x="236" y="203"/>
                    </a:lnTo>
                    <a:lnTo>
                      <a:pt x="251" y="189"/>
                    </a:lnTo>
                    <a:lnTo>
                      <a:pt x="264" y="174"/>
                    </a:lnTo>
                    <a:lnTo>
                      <a:pt x="277" y="158"/>
                    </a:lnTo>
                    <a:lnTo>
                      <a:pt x="287" y="141"/>
                    </a:lnTo>
                    <a:lnTo>
                      <a:pt x="295" y="124"/>
                    </a:lnTo>
                    <a:lnTo>
                      <a:pt x="300" y="114"/>
                    </a:lnTo>
                    <a:lnTo>
                      <a:pt x="302" y="104"/>
                    </a:lnTo>
                    <a:lnTo>
                      <a:pt x="303" y="93"/>
                    </a:lnTo>
                    <a:lnTo>
                      <a:pt x="303" y="83"/>
                    </a:lnTo>
                    <a:lnTo>
                      <a:pt x="302" y="72"/>
                    </a:lnTo>
                    <a:lnTo>
                      <a:pt x="301" y="61"/>
                    </a:lnTo>
                    <a:lnTo>
                      <a:pt x="297" y="50"/>
                    </a:lnTo>
                    <a:lnTo>
                      <a:pt x="293" y="40"/>
                    </a:lnTo>
                    <a:lnTo>
                      <a:pt x="287" y="29"/>
                    </a:lnTo>
                    <a:lnTo>
                      <a:pt x="282" y="19"/>
                    </a:lnTo>
                    <a:lnTo>
                      <a:pt x="274" y="10"/>
                    </a:lnTo>
                    <a:lnTo>
                      <a:pt x="266" y="0"/>
                    </a:lnTo>
                    <a:lnTo>
                      <a:pt x="217" y="47"/>
                    </a:lnTo>
                    <a:lnTo>
                      <a:pt x="221" y="52"/>
                    </a:lnTo>
                    <a:lnTo>
                      <a:pt x="226" y="58"/>
                    </a:lnTo>
                    <a:lnTo>
                      <a:pt x="229" y="64"/>
                    </a:lnTo>
                    <a:lnTo>
                      <a:pt x="231" y="68"/>
                    </a:lnTo>
                    <a:lnTo>
                      <a:pt x="234" y="73"/>
                    </a:lnTo>
                    <a:lnTo>
                      <a:pt x="235" y="77"/>
                    </a:lnTo>
                    <a:lnTo>
                      <a:pt x="236" y="81"/>
                    </a:lnTo>
                    <a:lnTo>
                      <a:pt x="236" y="84"/>
                    </a:lnTo>
                    <a:lnTo>
                      <a:pt x="236" y="88"/>
                    </a:lnTo>
                    <a:lnTo>
                      <a:pt x="236" y="92"/>
                    </a:lnTo>
                    <a:lnTo>
                      <a:pt x="235" y="96"/>
                    </a:lnTo>
                    <a:lnTo>
                      <a:pt x="234" y="98"/>
                    </a:lnTo>
                    <a:lnTo>
                      <a:pt x="229" y="109"/>
                    </a:lnTo>
                    <a:lnTo>
                      <a:pt x="222" y="118"/>
                    </a:lnTo>
                    <a:lnTo>
                      <a:pt x="213" y="130"/>
                    </a:lnTo>
                    <a:lnTo>
                      <a:pt x="203" y="141"/>
                    </a:lnTo>
                    <a:lnTo>
                      <a:pt x="190" y="153"/>
                    </a:lnTo>
                    <a:lnTo>
                      <a:pt x="177" y="164"/>
                    </a:lnTo>
                    <a:lnTo>
                      <a:pt x="146" y="189"/>
                    </a:lnTo>
                    <a:lnTo>
                      <a:pt x="114" y="213"/>
                    </a:lnTo>
                    <a:lnTo>
                      <a:pt x="97" y="227"/>
                    </a:lnTo>
                    <a:lnTo>
                      <a:pt x="81" y="239"/>
                    </a:lnTo>
                    <a:lnTo>
                      <a:pt x="66" y="253"/>
                    </a:lnTo>
                    <a:lnTo>
                      <a:pt x="51" y="267"/>
                    </a:lnTo>
                    <a:lnTo>
                      <a:pt x="38" y="282"/>
                    </a:lnTo>
                    <a:lnTo>
                      <a:pt x="25" y="296"/>
                    </a:lnTo>
                    <a:lnTo>
                      <a:pt x="15" y="313"/>
                    </a:lnTo>
                    <a:lnTo>
                      <a:pt x="7" y="329"/>
                    </a:lnTo>
                    <a:lnTo>
                      <a:pt x="3" y="341"/>
                    </a:lnTo>
                    <a:lnTo>
                      <a:pt x="1" y="351"/>
                    </a:lnTo>
                    <a:lnTo>
                      <a:pt x="0" y="361"/>
                    </a:lnTo>
                    <a:lnTo>
                      <a:pt x="0" y="372"/>
                    </a:lnTo>
                    <a:lnTo>
                      <a:pt x="1" y="382"/>
                    </a:lnTo>
                    <a:lnTo>
                      <a:pt x="5" y="393"/>
                    </a:lnTo>
                    <a:lnTo>
                      <a:pt x="8" y="404"/>
                    </a:lnTo>
                    <a:lnTo>
                      <a:pt x="12" y="414"/>
                    </a:lnTo>
                    <a:lnTo>
                      <a:pt x="18" y="423"/>
                    </a:lnTo>
                    <a:lnTo>
                      <a:pt x="25" y="433"/>
                    </a:lnTo>
                    <a:lnTo>
                      <a:pt x="33" y="442"/>
                    </a:lnTo>
                    <a:lnTo>
                      <a:pt x="42" y="452"/>
                    </a:lnTo>
                    <a:lnTo>
                      <a:pt x="51" y="460"/>
                    </a:lnTo>
                    <a:lnTo>
                      <a:pt x="63" y="469"/>
                    </a:lnTo>
                    <a:lnTo>
                      <a:pt x="74" y="478"/>
                    </a:lnTo>
                    <a:lnTo>
                      <a:pt x="88" y="486"/>
                    </a:lnTo>
                    <a:lnTo>
                      <a:pt x="97" y="490"/>
                    </a:lnTo>
                    <a:lnTo>
                      <a:pt x="88" y="486"/>
                    </a:lnTo>
                    <a:lnTo>
                      <a:pt x="95" y="489"/>
                    </a:lnTo>
                    <a:lnTo>
                      <a:pt x="101" y="491"/>
                    </a:lnTo>
                    <a:lnTo>
                      <a:pt x="108" y="491"/>
                    </a:lnTo>
                    <a:lnTo>
                      <a:pt x="114" y="490"/>
                    </a:lnTo>
                    <a:lnTo>
                      <a:pt x="120" y="488"/>
                    </a:lnTo>
                    <a:lnTo>
                      <a:pt x="125" y="485"/>
                    </a:lnTo>
                    <a:lnTo>
                      <a:pt x="130" y="481"/>
                    </a:lnTo>
                    <a:lnTo>
                      <a:pt x="133" y="475"/>
                    </a:lnTo>
                    <a:lnTo>
                      <a:pt x="137" y="470"/>
                    </a:lnTo>
                    <a:lnTo>
                      <a:pt x="139" y="464"/>
                    </a:lnTo>
                    <a:lnTo>
                      <a:pt x="139" y="458"/>
                    </a:lnTo>
                    <a:lnTo>
                      <a:pt x="139" y="452"/>
                    </a:lnTo>
                    <a:lnTo>
                      <a:pt x="138" y="446"/>
                    </a:lnTo>
                    <a:lnTo>
                      <a:pt x="134" y="440"/>
                    </a:lnTo>
                    <a:lnTo>
                      <a:pt x="130" y="434"/>
                    </a:lnTo>
                    <a:lnTo>
                      <a:pt x="124" y="429"/>
                    </a:lnTo>
                    <a:lnTo>
                      <a:pt x="114" y="4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5153040" y="4950000"/>
                <a:ext cx="192240" cy="56880"/>
              </a:xfrm>
              <a:custGeom>
                <a:avLst/>
                <a:gdLst/>
                <a:ahLst/>
                <a:rect l="l" t="t" r="r" b="b"/>
                <a:pathLst>
                  <a:path w="602" h="178">
                    <a:moveTo>
                      <a:pt x="554" y="3"/>
                    </a:moveTo>
                    <a:lnTo>
                      <a:pt x="556" y="2"/>
                    </a:lnTo>
                    <a:lnTo>
                      <a:pt x="493" y="26"/>
                    </a:lnTo>
                    <a:lnTo>
                      <a:pt x="432" y="51"/>
                    </a:lnTo>
                    <a:lnTo>
                      <a:pt x="401" y="63"/>
                    </a:lnTo>
                    <a:lnTo>
                      <a:pt x="369" y="74"/>
                    </a:lnTo>
                    <a:lnTo>
                      <a:pt x="338" y="83"/>
                    </a:lnTo>
                    <a:lnTo>
                      <a:pt x="307" y="92"/>
                    </a:lnTo>
                    <a:lnTo>
                      <a:pt x="273" y="99"/>
                    </a:lnTo>
                    <a:lnTo>
                      <a:pt x="240" y="106"/>
                    </a:lnTo>
                    <a:lnTo>
                      <a:pt x="224" y="107"/>
                    </a:lnTo>
                    <a:lnTo>
                      <a:pt x="207" y="110"/>
                    </a:lnTo>
                    <a:lnTo>
                      <a:pt x="189" y="111"/>
                    </a:lnTo>
                    <a:lnTo>
                      <a:pt x="172" y="111"/>
                    </a:lnTo>
                    <a:lnTo>
                      <a:pt x="154" y="111"/>
                    </a:lnTo>
                    <a:lnTo>
                      <a:pt x="136" y="111"/>
                    </a:lnTo>
                    <a:lnTo>
                      <a:pt x="116" y="108"/>
                    </a:lnTo>
                    <a:lnTo>
                      <a:pt x="98" y="107"/>
                    </a:lnTo>
                    <a:lnTo>
                      <a:pt x="79" y="104"/>
                    </a:lnTo>
                    <a:lnTo>
                      <a:pt x="58" y="100"/>
                    </a:lnTo>
                    <a:lnTo>
                      <a:pt x="37" y="96"/>
                    </a:lnTo>
                    <a:lnTo>
                      <a:pt x="17" y="91"/>
                    </a:lnTo>
                    <a:lnTo>
                      <a:pt x="0" y="156"/>
                    </a:lnTo>
                    <a:lnTo>
                      <a:pt x="23" y="162"/>
                    </a:lnTo>
                    <a:lnTo>
                      <a:pt x="45" y="167"/>
                    </a:lnTo>
                    <a:lnTo>
                      <a:pt x="67" y="171"/>
                    </a:lnTo>
                    <a:lnTo>
                      <a:pt x="90" y="173"/>
                    </a:lnTo>
                    <a:lnTo>
                      <a:pt x="110" y="176"/>
                    </a:lnTo>
                    <a:lnTo>
                      <a:pt x="132" y="178"/>
                    </a:lnTo>
                    <a:lnTo>
                      <a:pt x="153" y="178"/>
                    </a:lnTo>
                    <a:lnTo>
                      <a:pt x="173" y="178"/>
                    </a:lnTo>
                    <a:lnTo>
                      <a:pt x="193" y="178"/>
                    </a:lnTo>
                    <a:lnTo>
                      <a:pt x="212" y="177"/>
                    </a:lnTo>
                    <a:lnTo>
                      <a:pt x="231" y="175"/>
                    </a:lnTo>
                    <a:lnTo>
                      <a:pt x="251" y="172"/>
                    </a:lnTo>
                    <a:lnTo>
                      <a:pt x="287" y="167"/>
                    </a:lnTo>
                    <a:lnTo>
                      <a:pt x="322" y="157"/>
                    </a:lnTo>
                    <a:lnTo>
                      <a:pt x="357" y="148"/>
                    </a:lnTo>
                    <a:lnTo>
                      <a:pt x="391" y="138"/>
                    </a:lnTo>
                    <a:lnTo>
                      <a:pt x="424" y="127"/>
                    </a:lnTo>
                    <a:lnTo>
                      <a:pt x="456" y="114"/>
                    </a:lnTo>
                    <a:lnTo>
                      <a:pt x="519" y="89"/>
                    </a:lnTo>
                    <a:lnTo>
                      <a:pt x="580" y="66"/>
                    </a:lnTo>
                    <a:lnTo>
                      <a:pt x="582" y="65"/>
                    </a:lnTo>
                    <a:lnTo>
                      <a:pt x="580" y="66"/>
                    </a:lnTo>
                    <a:lnTo>
                      <a:pt x="587" y="63"/>
                    </a:lnTo>
                    <a:lnTo>
                      <a:pt x="593" y="58"/>
                    </a:lnTo>
                    <a:lnTo>
                      <a:pt x="597" y="54"/>
                    </a:lnTo>
                    <a:lnTo>
                      <a:pt x="599" y="48"/>
                    </a:lnTo>
                    <a:lnTo>
                      <a:pt x="602" y="41"/>
                    </a:lnTo>
                    <a:lnTo>
                      <a:pt x="602" y="35"/>
                    </a:lnTo>
                    <a:lnTo>
                      <a:pt x="602" y="29"/>
                    </a:lnTo>
                    <a:lnTo>
                      <a:pt x="599" y="23"/>
                    </a:lnTo>
                    <a:lnTo>
                      <a:pt x="597" y="17"/>
                    </a:lnTo>
                    <a:lnTo>
                      <a:pt x="594" y="13"/>
                    </a:lnTo>
                    <a:lnTo>
                      <a:pt x="589" y="8"/>
                    </a:lnTo>
                    <a:lnTo>
                      <a:pt x="584" y="3"/>
                    </a:lnTo>
                    <a:lnTo>
                      <a:pt x="578" y="1"/>
                    </a:lnTo>
                    <a:lnTo>
                      <a:pt x="571" y="0"/>
                    </a:lnTo>
                    <a:lnTo>
                      <a:pt x="564" y="1"/>
                    </a:lnTo>
                    <a:lnTo>
                      <a:pt x="556" y="2"/>
                    </a:lnTo>
                    <a:lnTo>
                      <a:pt x="554" y="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5329080" y="4253040"/>
                <a:ext cx="276480" cy="717480"/>
              </a:xfrm>
              <a:custGeom>
                <a:avLst/>
                <a:gdLst/>
                <a:ahLst/>
                <a:rect l="l" t="t" r="r" b="b"/>
                <a:pathLst>
                  <a:path w="871" h="2261">
                    <a:moveTo>
                      <a:pt x="851" y="59"/>
                    </a:moveTo>
                    <a:lnTo>
                      <a:pt x="796" y="34"/>
                    </a:lnTo>
                    <a:lnTo>
                      <a:pt x="799" y="137"/>
                    </a:lnTo>
                    <a:lnTo>
                      <a:pt x="801" y="236"/>
                    </a:lnTo>
                    <a:lnTo>
                      <a:pt x="804" y="334"/>
                    </a:lnTo>
                    <a:lnTo>
                      <a:pt x="804" y="430"/>
                    </a:lnTo>
                    <a:lnTo>
                      <a:pt x="802" y="522"/>
                    </a:lnTo>
                    <a:lnTo>
                      <a:pt x="801" y="614"/>
                    </a:lnTo>
                    <a:lnTo>
                      <a:pt x="798" y="703"/>
                    </a:lnTo>
                    <a:lnTo>
                      <a:pt x="792" y="789"/>
                    </a:lnTo>
                    <a:lnTo>
                      <a:pt x="786" y="874"/>
                    </a:lnTo>
                    <a:lnTo>
                      <a:pt x="779" y="957"/>
                    </a:lnTo>
                    <a:lnTo>
                      <a:pt x="768" y="1037"/>
                    </a:lnTo>
                    <a:lnTo>
                      <a:pt x="757" y="1114"/>
                    </a:lnTo>
                    <a:lnTo>
                      <a:pt x="750" y="1153"/>
                    </a:lnTo>
                    <a:lnTo>
                      <a:pt x="743" y="1190"/>
                    </a:lnTo>
                    <a:lnTo>
                      <a:pt x="735" y="1227"/>
                    </a:lnTo>
                    <a:lnTo>
                      <a:pt x="727" y="1264"/>
                    </a:lnTo>
                    <a:lnTo>
                      <a:pt x="719" y="1299"/>
                    </a:lnTo>
                    <a:lnTo>
                      <a:pt x="710" y="1335"/>
                    </a:lnTo>
                    <a:lnTo>
                      <a:pt x="700" y="1369"/>
                    </a:lnTo>
                    <a:lnTo>
                      <a:pt x="690" y="1403"/>
                    </a:lnTo>
                    <a:lnTo>
                      <a:pt x="679" y="1437"/>
                    </a:lnTo>
                    <a:lnTo>
                      <a:pt x="668" y="1470"/>
                    </a:lnTo>
                    <a:lnTo>
                      <a:pt x="655" y="1502"/>
                    </a:lnTo>
                    <a:lnTo>
                      <a:pt x="643" y="1534"/>
                    </a:lnTo>
                    <a:lnTo>
                      <a:pt x="630" y="1565"/>
                    </a:lnTo>
                    <a:lnTo>
                      <a:pt x="617" y="1596"/>
                    </a:lnTo>
                    <a:lnTo>
                      <a:pt x="602" y="1627"/>
                    </a:lnTo>
                    <a:lnTo>
                      <a:pt x="587" y="1656"/>
                    </a:lnTo>
                    <a:lnTo>
                      <a:pt x="571" y="1685"/>
                    </a:lnTo>
                    <a:lnTo>
                      <a:pt x="555" y="1713"/>
                    </a:lnTo>
                    <a:lnTo>
                      <a:pt x="538" y="1741"/>
                    </a:lnTo>
                    <a:lnTo>
                      <a:pt x="520" y="1768"/>
                    </a:lnTo>
                    <a:lnTo>
                      <a:pt x="501" y="1796"/>
                    </a:lnTo>
                    <a:lnTo>
                      <a:pt x="482" y="1822"/>
                    </a:lnTo>
                    <a:lnTo>
                      <a:pt x="463" y="1847"/>
                    </a:lnTo>
                    <a:lnTo>
                      <a:pt x="442" y="1872"/>
                    </a:lnTo>
                    <a:lnTo>
                      <a:pt x="421" y="1897"/>
                    </a:lnTo>
                    <a:lnTo>
                      <a:pt x="399" y="1921"/>
                    </a:lnTo>
                    <a:lnTo>
                      <a:pt x="376" y="1945"/>
                    </a:lnTo>
                    <a:lnTo>
                      <a:pt x="352" y="1968"/>
                    </a:lnTo>
                    <a:lnTo>
                      <a:pt x="327" y="1990"/>
                    </a:lnTo>
                    <a:lnTo>
                      <a:pt x="302" y="2011"/>
                    </a:lnTo>
                    <a:lnTo>
                      <a:pt x="276" y="2033"/>
                    </a:lnTo>
                    <a:lnTo>
                      <a:pt x="250" y="2053"/>
                    </a:lnTo>
                    <a:lnTo>
                      <a:pt x="221" y="2074"/>
                    </a:lnTo>
                    <a:lnTo>
                      <a:pt x="193" y="2093"/>
                    </a:lnTo>
                    <a:lnTo>
                      <a:pt x="163" y="2113"/>
                    </a:lnTo>
                    <a:lnTo>
                      <a:pt x="132" y="2131"/>
                    </a:lnTo>
                    <a:lnTo>
                      <a:pt x="100" y="2149"/>
                    </a:lnTo>
                    <a:lnTo>
                      <a:pt x="68" y="2166"/>
                    </a:lnTo>
                    <a:lnTo>
                      <a:pt x="34" y="2183"/>
                    </a:lnTo>
                    <a:lnTo>
                      <a:pt x="0" y="2199"/>
                    </a:lnTo>
                    <a:lnTo>
                      <a:pt x="28" y="2261"/>
                    </a:lnTo>
                    <a:lnTo>
                      <a:pt x="64" y="2244"/>
                    </a:lnTo>
                    <a:lnTo>
                      <a:pt x="99" y="2227"/>
                    </a:lnTo>
                    <a:lnTo>
                      <a:pt x="133" y="2209"/>
                    </a:lnTo>
                    <a:lnTo>
                      <a:pt x="166" y="2189"/>
                    </a:lnTo>
                    <a:lnTo>
                      <a:pt x="198" y="2170"/>
                    </a:lnTo>
                    <a:lnTo>
                      <a:pt x="229" y="2149"/>
                    </a:lnTo>
                    <a:lnTo>
                      <a:pt x="260" y="2129"/>
                    </a:lnTo>
                    <a:lnTo>
                      <a:pt x="289" y="2108"/>
                    </a:lnTo>
                    <a:lnTo>
                      <a:pt x="318" y="2085"/>
                    </a:lnTo>
                    <a:lnTo>
                      <a:pt x="345" y="2064"/>
                    </a:lnTo>
                    <a:lnTo>
                      <a:pt x="372" y="2040"/>
                    </a:lnTo>
                    <a:lnTo>
                      <a:pt x="398" y="2017"/>
                    </a:lnTo>
                    <a:lnTo>
                      <a:pt x="423" y="1992"/>
                    </a:lnTo>
                    <a:lnTo>
                      <a:pt x="448" y="1968"/>
                    </a:lnTo>
                    <a:lnTo>
                      <a:pt x="471" y="1942"/>
                    </a:lnTo>
                    <a:lnTo>
                      <a:pt x="494" y="1916"/>
                    </a:lnTo>
                    <a:lnTo>
                      <a:pt x="515" y="1889"/>
                    </a:lnTo>
                    <a:lnTo>
                      <a:pt x="537" y="1863"/>
                    </a:lnTo>
                    <a:lnTo>
                      <a:pt x="556" y="1834"/>
                    </a:lnTo>
                    <a:lnTo>
                      <a:pt x="577" y="1806"/>
                    </a:lnTo>
                    <a:lnTo>
                      <a:pt x="595" y="1777"/>
                    </a:lnTo>
                    <a:lnTo>
                      <a:pt x="613" y="1748"/>
                    </a:lnTo>
                    <a:lnTo>
                      <a:pt x="630" y="1718"/>
                    </a:lnTo>
                    <a:lnTo>
                      <a:pt x="646" y="1687"/>
                    </a:lnTo>
                    <a:lnTo>
                      <a:pt x="662" y="1656"/>
                    </a:lnTo>
                    <a:lnTo>
                      <a:pt x="677" y="1624"/>
                    </a:lnTo>
                    <a:lnTo>
                      <a:pt x="692" y="1592"/>
                    </a:lnTo>
                    <a:lnTo>
                      <a:pt x="706" y="1559"/>
                    </a:lnTo>
                    <a:lnTo>
                      <a:pt x="719" y="1526"/>
                    </a:lnTo>
                    <a:lnTo>
                      <a:pt x="732" y="1492"/>
                    </a:lnTo>
                    <a:lnTo>
                      <a:pt x="743" y="1458"/>
                    </a:lnTo>
                    <a:lnTo>
                      <a:pt x="755" y="1424"/>
                    </a:lnTo>
                    <a:lnTo>
                      <a:pt x="765" y="1388"/>
                    </a:lnTo>
                    <a:lnTo>
                      <a:pt x="775" y="1352"/>
                    </a:lnTo>
                    <a:lnTo>
                      <a:pt x="784" y="1315"/>
                    </a:lnTo>
                    <a:lnTo>
                      <a:pt x="793" y="1279"/>
                    </a:lnTo>
                    <a:lnTo>
                      <a:pt x="801" y="1241"/>
                    </a:lnTo>
                    <a:lnTo>
                      <a:pt x="809" y="1203"/>
                    </a:lnTo>
                    <a:lnTo>
                      <a:pt x="816" y="1165"/>
                    </a:lnTo>
                    <a:lnTo>
                      <a:pt x="823" y="1125"/>
                    </a:lnTo>
                    <a:lnTo>
                      <a:pt x="836" y="1046"/>
                    </a:lnTo>
                    <a:lnTo>
                      <a:pt x="845" y="964"/>
                    </a:lnTo>
                    <a:lnTo>
                      <a:pt x="854" y="879"/>
                    </a:lnTo>
                    <a:lnTo>
                      <a:pt x="859" y="794"/>
                    </a:lnTo>
                    <a:lnTo>
                      <a:pt x="865" y="706"/>
                    </a:lnTo>
                    <a:lnTo>
                      <a:pt x="869" y="616"/>
                    </a:lnTo>
                    <a:lnTo>
                      <a:pt x="870" y="523"/>
                    </a:lnTo>
                    <a:lnTo>
                      <a:pt x="871" y="430"/>
                    </a:lnTo>
                    <a:lnTo>
                      <a:pt x="871" y="333"/>
                    </a:lnTo>
                    <a:lnTo>
                      <a:pt x="869" y="235"/>
                    </a:lnTo>
                    <a:lnTo>
                      <a:pt x="866" y="134"/>
                    </a:lnTo>
                    <a:lnTo>
                      <a:pt x="863" y="32"/>
                    </a:lnTo>
                    <a:lnTo>
                      <a:pt x="807" y="8"/>
                    </a:lnTo>
                    <a:lnTo>
                      <a:pt x="863" y="32"/>
                    </a:lnTo>
                    <a:lnTo>
                      <a:pt x="862" y="24"/>
                    </a:lnTo>
                    <a:lnTo>
                      <a:pt x="859" y="17"/>
                    </a:lnTo>
                    <a:lnTo>
                      <a:pt x="856" y="12"/>
                    </a:lnTo>
                    <a:lnTo>
                      <a:pt x="851" y="7"/>
                    </a:lnTo>
                    <a:lnTo>
                      <a:pt x="847" y="3"/>
                    </a:lnTo>
                    <a:lnTo>
                      <a:pt x="841" y="1"/>
                    </a:lnTo>
                    <a:lnTo>
                      <a:pt x="834" y="0"/>
                    </a:lnTo>
                    <a:lnTo>
                      <a:pt x="829" y="0"/>
                    </a:lnTo>
                    <a:lnTo>
                      <a:pt x="822" y="1"/>
                    </a:lnTo>
                    <a:lnTo>
                      <a:pt x="816" y="2"/>
                    </a:lnTo>
                    <a:lnTo>
                      <a:pt x="810" y="6"/>
                    </a:lnTo>
                    <a:lnTo>
                      <a:pt x="806" y="9"/>
                    </a:lnTo>
                    <a:lnTo>
                      <a:pt x="801" y="13"/>
                    </a:lnTo>
                    <a:lnTo>
                      <a:pt x="798" y="19"/>
                    </a:lnTo>
                    <a:lnTo>
                      <a:pt x="797" y="26"/>
                    </a:lnTo>
                    <a:lnTo>
                      <a:pt x="796" y="34"/>
                    </a:lnTo>
                    <a:lnTo>
                      <a:pt x="851" y="5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5451480" y="4221000"/>
                <a:ext cx="147600" cy="69840"/>
              </a:xfrm>
              <a:custGeom>
                <a:avLst/>
                <a:gdLst/>
                <a:ahLst/>
                <a:rect l="l" t="t" r="r" b="b"/>
                <a:pathLst>
                  <a:path w="466" h="219">
                    <a:moveTo>
                      <a:pt x="67" y="37"/>
                    </a:moveTo>
                    <a:lnTo>
                      <a:pt x="24" y="66"/>
                    </a:lnTo>
                    <a:lnTo>
                      <a:pt x="36" y="71"/>
                    </a:lnTo>
                    <a:lnTo>
                      <a:pt x="48" y="75"/>
                    </a:lnTo>
                    <a:lnTo>
                      <a:pt x="59" y="81"/>
                    </a:lnTo>
                    <a:lnTo>
                      <a:pt x="71" y="88"/>
                    </a:lnTo>
                    <a:lnTo>
                      <a:pt x="95" y="103"/>
                    </a:lnTo>
                    <a:lnTo>
                      <a:pt x="118" y="118"/>
                    </a:lnTo>
                    <a:lnTo>
                      <a:pt x="142" y="136"/>
                    </a:lnTo>
                    <a:lnTo>
                      <a:pt x="166" y="154"/>
                    </a:lnTo>
                    <a:lnTo>
                      <a:pt x="189" y="171"/>
                    </a:lnTo>
                    <a:lnTo>
                      <a:pt x="215" y="186"/>
                    </a:lnTo>
                    <a:lnTo>
                      <a:pt x="227" y="194"/>
                    </a:lnTo>
                    <a:lnTo>
                      <a:pt x="241" y="201"/>
                    </a:lnTo>
                    <a:lnTo>
                      <a:pt x="254" y="206"/>
                    </a:lnTo>
                    <a:lnTo>
                      <a:pt x="269" y="211"/>
                    </a:lnTo>
                    <a:lnTo>
                      <a:pt x="284" y="215"/>
                    </a:lnTo>
                    <a:lnTo>
                      <a:pt x="299" y="218"/>
                    </a:lnTo>
                    <a:lnTo>
                      <a:pt x="315" y="219"/>
                    </a:lnTo>
                    <a:lnTo>
                      <a:pt x="331" y="219"/>
                    </a:lnTo>
                    <a:lnTo>
                      <a:pt x="348" y="218"/>
                    </a:lnTo>
                    <a:lnTo>
                      <a:pt x="364" y="214"/>
                    </a:lnTo>
                    <a:lnTo>
                      <a:pt x="381" y="209"/>
                    </a:lnTo>
                    <a:lnTo>
                      <a:pt x="398" y="202"/>
                    </a:lnTo>
                    <a:lnTo>
                      <a:pt x="415" y="193"/>
                    </a:lnTo>
                    <a:lnTo>
                      <a:pt x="432" y="182"/>
                    </a:lnTo>
                    <a:lnTo>
                      <a:pt x="449" y="170"/>
                    </a:lnTo>
                    <a:lnTo>
                      <a:pt x="466" y="156"/>
                    </a:lnTo>
                    <a:lnTo>
                      <a:pt x="422" y="105"/>
                    </a:lnTo>
                    <a:lnTo>
                      <a:pt x="408" y="116"/>
                    </a:lnTo>
                    <a:lnTo>
                      <a:pt x="395" y="126"/>
                    </a:lnTo>
                    <a:lnTo>
                      <a:pt x="382" y="134"/>
                    </a:lnTo>
                    <a:lnTo>
                      <a:pt x="370" y="140"/>
                    </a:lnTo>
                    <a:lnTo>
                      <a:pt x="358" y="146"/>
                    </a:lnTo>
                    <a:lnTo>
                      <a:pt x="348" y="149"/>
                    </a:lnTo>
                    <a:lnTo>
                      <a:pt x="338" y="150"/>
                    </a:lnTo>
                    <a:lnTo>
                      <a:pt x="327" y="152"/>
                    </a:lnTo>
                    <a:lnTo>
                      <a:pt x="317" y="152"/>
                    </a:lnTo>
                    <a:lnTo>
                      <a:pt x="308" y="152"/>
                    </a:lnTo>
                    <a:lnTo>
                      <a:pt x="299" y="149"/>
                    </a:lnTo>
                    <a:lnTo>
                      <a:pt x="289" y="147"/>
                    </a:lnTo>
                    <a:lnTo>
                      <a:pt x="280" y="144"/>
                    </a:lnTo>
                    <a:lnTo>
                      <a:pt x="269" y="139"/>
                    </a:lnTo>
                    <a:lnTo>
                      <a:pt x="259" y="134"/>
                    </a:lnTo>
                    <a:lnTo>
                      <a:pt x="249" y="129"/>
                    </a:lnTo>
                    <a:lnTo>
                      <a:pt x="227" y="114"/>
                    </a:lnTo>
                    <a:lnTo>
                      <a:pt x="204" y="99"/>
                    </a:lnTo>
                    <a:lnTo>
                      <a:pt x="181" y="82"/>
                    </a:lnTo>
                    <a:lnTo>
                      <a:pt x="158" y="64"/>
                    </a:lnTo>
                    <a:lnTo>
                      <a:pt x="131" y="47"/>
                    </a:lnTo>
                    <a:lnTo>
                      <a:pt x="105" y="29"/>
                    </a:lnTo>
                    <a:lnTo>
                      <a:pt x="90" y="22"/>
                    </a:lnTo>
                    <a:lnTo>
                      <a:pt x="77" y="15"/>
                    </a:lnTo>
                    <a:lnTo>
                      <a:pt x="61" y="8"/>
                    </a:lnTo>
                    <a:lnTo>
                      <a:pt x="46" y="2"/>
                    </a:lnTo>
                    <a:lnTo>
                      <a:pt x="1" y="31"/>
                    </a:lnTo>
                    <a:lnTo>
                      <a:pt x="46" y="2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4" y="1"/>
                    </a:lnTo>
                    <a:lnTo>
                      <a:pt x="18" y="3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5" y="17"/>
                    </a:lnTo>
                    <a:lnTo>
                      <a:pt x="2" y="23"/>
                    </a:lnTo>
                    <a:lnTo>
                      <a:pt x="1" y="29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2" y="48"/>
                    </a:lnTo>
                    <a:lnTo>
                      <a:pt x="6" y="53"/>
                    </a:lnTo>
                    <a:lnTo>
                      <a:pt x="10" y="58"/>
                    </a:lnTo>
                    <a:lnTo>
                      <a:pt x="16" y="63"/>
                    </a:lnTo>
                    <a:lnTo>
                      <a:pt x="24" y="66"/>
                    </a:lnTo>
                    <a:lnTo>
                      <a:pt x="67" y="3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5214960" y="4367160"/>
                <a:ext cx="720720" cy="905040"/>
              </a:xfrm>
              <a:custGeom>
                <a:avLst/>
                <a:gdLst/>
                <a:ahLst/>
                <a:rect l="l" t="t" r="r" b="b"/>
                <a:pathLst>
                  <a:path w="2268" h="2849">
                    <a:moveTo>
                      <a:pt x="1790" y="0"/>
                    </a:moveTo>
                    <a:lnTo>
                      <a:pt x="1776" y="109"/>
                    </a:lnTo>
                    <a:lnTo>
                      <a:pt x="1759" y="213"/>
                    </a:lnTo>
                    <a:lnTo>
                      <a:pt x="1738" y="311"/>
                    </a:lnTo>
                    <a:lnTo>
                      <a:pt x="1714" y="404"/>
                    </a:lnTo>
                    <a:lnTo>
                      <a:pt x="1687" y="493"/>
                    </a:lnTo>
                    <a:lnTo>
                      <a:pt x="1657" y="579"/>
                    </a:lnTo>
                    <a:lnTo>
                      <a:pt x="1623" y="659"/>
                    </a:lnTo>
                    <a:lnTo>
                      <a:pt x="1588" y="735"/>
                    </a:lnTo>
                    <a:lnTo>
                      <a:pt x="1548" y="807"/>
                    </a:lnTo>
                    <a:lnTo>
                      <a:pt x="1506" y="876"/>
                    </a:lnTo>
                    <a:lnTo>
                      <a:pt x="1461" y="939"/>
                    </a:lnTo>
                    <a:lnTo>
                      <a:pt x="1415" y="1000"/>
                    </a:lnTo>
                    <a:lnTo>
                      <a:pt x="1366" y="1057"/>
                    </a:lnTo>
                    <a:lnTo>
                      <a:pt x="1313" y="1109"/>
                    </a:lnTo>
                    <a:lnTo>
                      <a:pt x="1259" y="1160"/>
                    </a:lnTo>
                    <a:lnTo>
                      <a:pt x="1204" y="1205"/>
                    </a:lnTo>
                    <a:lnTo>
                      <a:pt x="1145" y="1249"/>
                    </a:lnTo>
                    <a:lnTo>
                      <a:pt x="1086" y="1289"/>
                    </a:lnTo>
                    <a:lnTo>
                      <a:pt x="1025" y="1326"/>
                    </a:lnTo>
                    <a:lnTo>
                      <a:pt x="961" y="1360"/>
                    </a:lnTo>
                    <a:lnTo>
                      <a:pt x="896" y="1391"/>
                    </a:lnTo>
                    <a:lnTo>
                      <a:pt x="830" y="1421"/>
                    </a:lnTo>
                    <a:lnTo>
                      <a:pt x="762" y="1447"/>
                    </a:lnTo>
                    <a:lnTo>
                      <a:pt x="694" y="1470"/>
                    </a:lnTo>
                    <a:lnTo>
                      <a:pt x="625" y="1492"/>
                    </a:lnTo>
                    <a:lnTo>
                      <a:pt x="554" y="1511"/>
                    </a:lnTo>
                    <a:lnTo>
                      <a:pt x="482" y="1528"/>
                    </a:lnTo>
                    <a:lnTo>
                      <a:pt x="410" y="1544"/>
                    </a:lnTo>
                    <a:lnTo>
                      <a:pt x="337" y="1557"/>
                    </a:lnTo>
                    <a:lnTo>
                      <a:pt x="263" y="1568"/>
                    </a:lnTo>
                    <a:lnTo>
                      <a:pt x="189" y="1578"/>
                    </a:lnTo>
                    <a:lnTo>
                      <a:pt x="115" y="1586"/>
                    </a:lnTo>
                    <a:lnTo>
                      <a:pt x="105" y="1597"/>
                    </a:lnTo>
                    <a:lnTo>
                      <a:pt x="96" y="1607"/>
                    </a:lnTo>
                    <a:lnTo>
                      <a:pt x="86" y="1619"/>
                    </a:lnTo>
                    <a:lnTo>
                      <a:pt x="78" y="1631"/>
                    </a:lnTo>
                    <a:lnTo>
                      <a:pt x="72" y="1644"/>
                    </a:lnTo>
                    <a:lnTo>
                      <a:pt x="66" y="1657"/>
                    </a:lnTo>
                    <a:lnTo>
                      <a:pt x="60" y="1672"/>
                    </a:lnTo>
                    <a:lnTo>
                      <a:pt x="57" y="1686"/>
                    </a:lnTo>
                    <a:lnTo>
                      <a:pt x="53" y="1700"/>
                    </a:lnTo>
                    <a:lnTo>
                      <a:pt x="52" y="1715"/>
                    </a:lnTo>
                    <a:lnTo>
                      <a:pt x="52" y="1730"/>
                    </a:lnTo>
                    <a:lnTo>
                      <a:pt x="53" y="1744"/>
                    </a:lnTo>
                    <a:lnTo>
                      <a:pt x="56" y="1759"/>
                    </a:lnTo>
                    <a:lnTo>
                      <a:pt x="59" y="1772"/>
                    </a:lnTo>
                    <a:lnTo>
                      <a:pt x="65" y="1787"/>
                    </a:lnTo>
                    <a:lnTo>
                      <a:pt x="72" y="1800"/>
                    </a:lnTo>
                    <a:lnTo>
                      <a:pt x="80" y="1813"/>
                    </a:lnTo>
                    <a:lnTo>
                      <a:pt x="90" y="1825"/>
                    </a:lnTo>
                    <a:lnTo>
                      <a:pt x="102" y="1836"/>
                    </a:lnTo>
                    <a:lnTo>
                      <a:pt x="116" y="1848"/>
                    </a:lnTo>
                    <a:lnTo>
                      <a:pt x="131" y="1857"/>
                    </a:lnTo>
                    <a:lnTo>
                      <a:pt x="149" y="1866"/>
                    </a:lnTo>
                    <a:lnTo>
                      <a:pt x="169" y="1873"/>
                    </a:lnTo>
                    <a:lnTo>
                      <a:pt x="190" y="1878"/>
                    </a:lnTo>
                    <a:lnTo>
                      <a:pt x="213" y="1884"/>
                    </a:lnTo>
                    <a:lnTo>
                      <a:pt x="239" y="1887"/>
                    </a:lnTo>
                    <a:lnTo>
                      <a:pt x="267" y="1889"/>
                    </a:lnTo>
                    <a:lnTo>
                      <a:pt x="296" y="1890"/>
                    </a:lnTo>
                    <a:lnTo>
                      <a:pt x="329" y="1887"/>
                    </a:lnTo>
                    <a:lnTo>
                      <a:pt x="363" y="1884"/>
                    </a:lnTo>
                    <a:lnTo>
                      <a:pt x="401" y="1880"/>
                    </a:lnTo>
                    <a:lnTo>
                      <a:pt x="441" y="1872"/>
                    </a:lnTo>
                    <a:lnTo>
                      <a:pt x="442" y="1887"/>
                    </a:lnTo>
                    <a:lnTo>
                      <a:pt x="440" y="1902"/>
                    </a:lnTo>
                    <a:lnTo>
                      <a:pt x="434" y="1916"/>
                    </a:lnTo>
                    <a:lnTo>
                      <a:pt x="426" y="1929"/>
                    </a:lnTo>
                    <a:lnTo>
                      <a:pt x="415" y="1941"/>
                    </a:lnTo>
                    <a:lnTo>
                      <a:pt x="402" y="1953"/>
                    </a:lnTo>
                    <a:lnTo>
                      <a:pt x="386" y="1963"/>
                    </a:lnTo>
                    <a:lnTo>
                      <a:pt x="369" y="1973"/>
                    </a:lnTo>
                    <a:lnTo>
                      <a:pt x="351" y="1982"/>
                    </a:lnTo>
                    <a:lnTo>
                      <a:pt x="330" y="1991"/>
                    </a:lnTo>
                    <a:lnTo>
                      <a:pt x="310" y="2000"/>
                    </a:lnTo>
                    <a:lnTo>
                      <a:pt x="287" y="2008"/>
                    </a:lnTo>
                    <a:lnTo>
                      <a:pt x="241" y="2026"/>
                    </a:lnTo>
                    <a:lnTo>
                      <a:pt x="194" y="2042"/>
                    </a:lnTo>
                    <a:lnTo>
                      <a:pt x="148" y="2059"/>
                    </a:lnTo>
                    <a:lnTo>
                      <a:pt x="105" y="2076"/>
                    </a:lnTo>
                    <a:lnTo>
                      <a:pt x="85" y="2086"/>
                    </a:lnTo>
                    <a:lnTo>
                      <a:pt x="67" y="2096"/>
                    </a:lnTo>
                    <a:lnTo>
                      <a:pt x="50" y="2107"/>
                    </a:lnTo>
                    <a:lnTo>
                      <a:pt x="35" y="2118"/>
                    </a:lnTo>
                    <a:lnTo>
                      <a:pt x="23" y="2130"/>
                    </a:lnTo>
                    <a:lnTo>
                      <a:pt x="13" y="2143"/>
                    </a:lnTo>
                    <a:lnTo>
                      <a:pt x="5" y="2158"/>
                    </a:lnTo>
                    <a:lnTo>
                      <a:pt x="1" y="2173"/>
                    </a:lnTo>
                    <a:lnTo>
                      <a:pt x="0" y="2189"/>
                    </a:lnTo>
                    <a:lnTo>
                      <a:pt x="1" y="2206"/>
                    </a:lnTo>
                    <a:lnTo>
                      <a:pt x="7" y="2224"/>
                    </a:lnTo>
                    <a:lnTo>
                      <a:pt x="16" y="2243"/>
                    </a:lnTo>
                    <a:lnTo>
                      <a:pt x="25" y="2267"/>
                    </a:lnTo>
                    <a:lnTo>
                      <a:pt x="36" y="2287"/>
                    </a:lnTo>
                    <a:lnTo>
                      <a:pt x="49" y="2305"/>
                    </a:lnTo>
                    <a:lnTo>
                      <a:pt x="64" y="2319"/>
                    </a:lnTo>
                    <a:lnTo>
                      <a:pt x="80" y="2331"/>
                    </a:lnTo>
                    <a:lnTo>
                      <a:pt x="97" y="2342"/>
                    </a:lnTo>
                    <a:lnTo>
                      <a:pt x="115" y="2350"/>
                    </a:lnTo>
                    <a:lnTo>
                      <a:pt x="135" y="2355"/>
                    </a:lnTo>
                    <a:lnTo>
                      <a:pt x="156" y="2359"/>
                    </a:lnTo>
                    <a:lnTo>
                      <a:pt x="178" y="2361"/>
                    </a:lnTo>
                    <a:lnTo>
                      <a:pt x="199" y="2361"/>
                    </a:lnTo>
                    <a:lnTo>
                      <a:pt x="222" y="2361"/>
                    </a:lnTo>
                    <a:lnTo>
                      <a:pt x="245" y="2359"/>
                    </a:lnTo>
                    <a:lnTo>
                      <a:pt x="268" y="2356"/>
                    </a:lnTo>
                    <a:lnTo>
                      <a:pt x="290" y="2353"/>
                    </a:lnTo>
                    <a:lnTo>
                      <a:pt x="313" y="2348"/>
                    </a:lnTo>
                    <a:lnTo>
                      <a:pt x="399" y="2329"/>
                    </a:lnTo>
                    <a:lnTo>
                      <a:pt x="468" y="2313"/>
                    </a:lnTo>
                    <a:lnTo>
                      <a:pt x="483" y="2312"/>
                    </a:lnTo>
                    <a:lnTo>
                      <a:pt x="495" y="2311"/>
                    </a:lnTo>
                    <a:lnTo>
                      <a:pt x="505" y="2311"/>
                    </a:lnTo>
                    <a:lnTo>
                      <a:pt x="514" y="2313"/>
                    </a:lnTo>
                    <a:lnTo>
                      <a:pt x="520" y="2316"/>
                    </a:lnTo>
                    <a:lnTo>
                      <a:pt x="523" y="2321"/>
                    </a:lnTo>
                    <a:lnTo>
                      <a:pt x="524" y="2329"/>
                    </a:lnTo>
                    <a:lnTo>
                      <a:pt x="523" y="2338"/>
                    </a:lnTo>
                    <a:lnTo>
                      <a:pt x="538" y="2355"/>
                    </a:lnTo>
                    <a:lnTo>
                      <a:pt x="548" y="2372"/>
                    </a:lnTo>
                    <a:lnTo>
                      <a:pt x="555" y="2389"/>
                    </a:lnTo>
                    <a:lnTo>
                      <a:pt x="557" y="2405"/>
                    </a:lnTo>
                    <a:lnTo>
                      <a:pt x="556" y="2421"/>
                    </a:lnTo>
                    <a:lnTo>
                      <a:pt x="552" y="2437"/>
                    </a:lnTo>
                    <a:lnTo>
                      <a:pt x="544" y="2452"/>
                    </a:lnTo>
                    <a:lnTo>
                      <a:pt x="533" y="2467"/>
                    </a:lnTo>
                    <a:lnTo>
                      <a:pt x="522" y="2482"/>
                    </a:lnTo>
                    <a:lnTo>
                      <a:pt x="507" y="2497"/>
                    </a:lnTo>
                    <a:lnTo>
                      <a:pt x="491" y="2512"/>
                    </a:lnTo>
                    <a:lnTo>
                      <a:pt x="474" y="2525"/>
                    </a:lnTo>
                    <a:lnTo>
                      <a:pt x="438" y="2554"/>
                    </a:lnTo>
                    <a:lnTo>
                      <a:pt x="400" y="2581"/>
                    </a:lnTo>
                    <a:lnTo>
                      <a:pt x="382" y="2596"/>
                    </a:lnTo>
                    <a:lnTo>
                      <a:pt x="363" y="2610"/>
                    </a:lnTo>
                    <a:lnTo>
                      <a:pt x="346" y="2623"/>
                    </a:lnTo>
                    <a:lnTo>
                      <a:pt x="330" y="2637"/>
                    </a:lnTo>
                    <a:lnTo>
                      <a:pt x="317" y="2652"/>
                    </a:lnTo>
                    <a:lnTo>
                      <a:pt x="305" y="2667"/>
                    </a:lnTo>
                    <a:lnTo>
                      <a:pt x="295" y="2680"/>
                    </a:lnTo>
                    <a:lnTo>
                      <a:pt x="288" y="2695"/>
                    </a:lnTo>
                    <a:lnTo>
                      <a:pt x="284" y="2711"/>
                    </a:lnTo>
                    <a:lnTo>
                      <a:pt x="284" y="2726"/>
                    </a:lnTo>
                    <a:lnTo>
                      <a:pt x="286" y="2742"/>
                    </a:lnTo>
                    <a:lnTo>
                      <a:pt x="293" y="2758"/>
                    </a:lnTo>
                    <a:lnTo>
                      <a:pt x="304" y="2774"/>
                    </a:lnTo>
                    <a:lnTo>
                      <a:pt x="320" y="2791"/>
                    </a:lnTo>
                    <a:lnTo>
                      <a:pt x="341" y="2808"/>
                    </a:lnTo>
                    <a:lnTo>
                      <a:pt x="366" y="2825"/>
                    </a:lnTo>
                    <a:lnTo>
                      <a:pt x="391" y="2831"/>
                    </a:lnTo>
                    <a:lnTo>
                      <a:pt x="416" y="2837"/>
                    </a:lnTo>
                    <a:lnTo>
                      <a:pt x="441" y="2841"/>
                    </a:lnTo>
                    <a:lnTo>
                      <a:pt x="465" y="2844"/>
                    </a:lnTo>
                    <a:lnTo>
                      <a:pt x="488" y="2847"/>
                    </a:lnTo>
                    <a:lnTo>
                      <a:pt x="512" y="2848"/>
                    </a:lnTo>
                    <a:lnTo>
                      <a:pt x="534" y="2849"/>
                    </a:lnTo>
                    <a:lnTo>
                      <a:pt x="556" y="2849"/>
                    </a:lnTo>
                    <a:lnTo>
                      <a:pt x="578" y="2848"/>
                    </a:lnTo>
                    <a:lnTo>
                      <a:pt x="599" y="2847"/>
                    </a:lnTo>
                    <a:lnTo>
                      <a:pt x="620" y="2846"/>
                    </a:lnTo>
                    <a:lnTo>
                      <a:pt x="642" y="2842"/>
                    </a:lnTo>
                    <a:lnTo>
                      <a:pt x="682" y="2837"/>
                    </a:lnTo>
                    <a:lnTo>
                      <a:pt x="721" y="2828"/>
                    </a:lnTo>
                    <a:lnTo>
                      <a:pt x="759" y="2817"/>
                    </a:lnTo>
                    <a:lnTo>
                      <a:pt x="797" y="2806"/>
                    </a:lnTo>
                    <a:lnTo>
                      <a:pt x="834" y="2793"/>
                    </a:lnTo>
                    <a:lnTo>
                      <a:pt x="871" y="2781"/>
                    </a:lnTo>
                    <a:lnTo>
                      <a:pt x="943" y="2753"/>
                    </a:lnTo>
                    <a:lnTo>
                      <a:pt x="1014" y="2726"/>
                    </a:lnTo>
                    <a:lnTo>
                      <a:pt x="1096" y="2688"/>
                    </a:lnTo>
                    <a:lnTo>
                      <a:pt x="1175" y="2646"/>
                    </a:lnTo>
                    <a:lnTo>
                      <a:pt x="1250" y="2601"/>
                    </a:lnTo>
                    <a:lnTo>
                      <a:pt x="1324" y="2551"/>
                    </a:lnTo>
                    <a:lnTo>
                      <a:pt x="1394" y="2500"/>
                    </a:lnTo>
                    <a:lnTo>
                      <a:pt x="1462" y="2444"/>
                    </a:lnTo>
                    <a:lnTo>
                      <a:pt x="1527" y="2386"/>
                    </a:lnTo>
                    <a:lnTo>
                      <a:pt x="1589" y="2326"/>
                    </a:lnTo>
                    <a:lnTo>
                      <a:pt x="1649" y="2261"/>
                    </a:lnTo>
                    <a:lnTo>
                      <a:pt x="1705" y="2194"/>
                    </a:lnTo>
                    <a:lnTo>
                      <a:pt x="1760" y="2124"/>
                    </a:lnTo>
                    <a:lnTo>
                      <a:pt x="1811" y="2051"/>
                    </a:lnTo>
                    <a:lnTo>
                      <a:pt x="1859" y="1975"/>
                    </a:lnTo>
                    <a:lnTo>
                      <a:pt x="1906" y="1898"/>
                    </a:lnTo>
                    <a:lnTo>
                      <a:pt x="1948" y="1817"/>
                    </a:lnTo>
                    <a:lnTo>
                      <a:pt x="1989" y="1733"/>
                    </a:lnTo>
                    <a:lnTo>
                      <a:pt x="2027" y="1648"/>
                    </a:lnTo>
                    <a:lnTo>
                      <a:pt x="2061" y="1560"/>
                    </a:lnTo>
                    <a:lnTo>
                      <a:pt x="2094" y="1469"/>
                    </a:lnTo>
                    <a:lnTo>
                      <a:pt x="2124" y="1376"/>
                    </a:lnTo>
                    <a:lnTo>
                      <a:pt x="2150" y="1282"/>
                    </a:lnTo>
                    <a:lnTo>
                      <a:pt x="2174" y="1184"/>
                    </a:lnTo>
                    <a:lnTo>
                      <a:pt x="2195" y="1084"/>
                    </a:lnTo>
                    <a:lnTo>
                      <a:pt x="2214" y="983"/>
                    </a:lnTo>
                    <a:lnTo>
                      <a:pt x="2230" y="880"/>
                    </a:lnTo>
                    <a:lnTo>
                      <a:pt x="2242" y="775"/>
                    </a:lnTo>
                    <a:lnTo>
                      <a:pt x="2254" y="668"/>
                    </a:lnTo>
                    <a:lnTo>
                      <a:pt x="2260" y="558"/>
                    </a:lnTo>
                    <a:lnTo>
                      <a:pt x="2266" y="449"/>
                    </a:lnTo>
                    <a:lnTo>
                      <a:pt x="2268" y="336"/>
                    </a:lnTo>
                    <a:lnTo>
                      <a:pt x="2267" y="222"/>
                    </a:lnTo>
                    <a:lnTo>
                      <a:pt x="2265" y="107"/>
                    </a:lnTo>
                    <a:lnTo>
                      <a:pt x="2247" y="121"/>
                    </a:lnTo>
                    <a:lnTo>
                      <a:pt x="2228" y="134"/>
                    </a:lnTo>
                    <a:lnTo>
                      <a:pt x="2211" y="144"/>
                    </a:lnTo>
                    <a:lnTo>
                      <a:pt x="2194" y="153"/>
                    </a:lnTo>
                    <a:lnTo>
                      <a:pt x="2178" y="159"/>
                    </a:lnTo>
                    <a:lnTo>
                      <a:pt x="2162" y="165"/>
                    </a:lnTo>
                    <a:lnTo>
                      <a:pt x="2146" y="167"/>
                    </a:lnTo>
                    <a:lnTo>
                      <a:pt x="2132" y="169"/>
                    </a:lnTo>
                    <a:lnTo>
                      <a:pt x="2116" y="169"/>
                    </a:lnTo>
                    <a:lnTo>
                      <a:pt x="2102" y="168"/>
                    </a:lnTo>
                    <a:lnTo>
                      <a:pt x="2087" y="165"/>
                    </a:lnTo>
                    <a:lnTo>
                      <a:pt x="2073" y="161"/>
                    </a:lnTo>
                    <a:lnTo>
                      <a:pt x="2059" y="157"/>
                    </a:lnTo>
                    <a:lnTo>
                      <a:pt x="2045" y="151"/>
                    </a:lnTo>
                    <a:lnTo>
                      <a:pt x="2031" y="144"/>
                    </a:lnTo>
                    <a:lnTo>
                      <a:pt x="2018" y="137"/>
                    </a:lnTo>
                    <a:lnTo>
                      <a:pt x="1990" y="120"/>
                    </a:lnTo>
                    <a:lnTo>
                      <a:pt x="1964" y="102"/>
                    </a:lnTo>
                    <a:lnTo>
                      <a:pt x="1937" y="83"/>
                    </a:lnTo>
                    <a:lnTo>
                      <a:pt x="1909" y="63"/>
                    </a:lnTo>
                    <a:lnTo>
                      <a:pt x="1881" y="45"/>
                    </a:lnTo>
                    <a:lnTo>
                      <a:pt x="1851" y="28"/>
                    </a:lnTo>
                    <a:lnTo>
                      <a:pt x="1836" y="20"/>
                    </a:lnTo>
                    <a:lnTo>
                      <a:pt x="1822" y="13"/>
                    </a:lnTo>
                    <a:lnTo>
                      <a:pt x="1806" y="6"/>
                    </a:lnTo>
                    <a:lnTo>
                      <a:pt x="179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5241960" y="4365720"/>
                <a:ext cx="552240" cy="515880"/>
              </a:xfrm>
              <a:custGeom>
                <a:avLst/>
                <a:gdLst/>
                <a:ahLst/>
                <a:rect l="l" t="t" r="r" b="b"/>
                <a:pathLst>
                  <a:path w="1741" h="1624">
                    <a:moveTo>
                      <a:pt x="56" y="1616"/>
                    </a:moveTo>
                    <a:lnTo>
                      <a:pt x="36" y="1624"/>
                    </a:lnTo>
                    <a:lnTo>
                      <a:pt x="112" y="1614"/>
                    </a:lnTo>
                    <a:lnTo>
                      <a:pt x="186" y="1605"/>
                    </a:lnTo>
                    <a:lnTo>
                      <a:pt x="260" y="1593"/>
                    </a:lnTo>
                    <a:lnTo>
                      <a:pt x="334" y="1580"/>
                    </a:lnTo>
                    <a:lnTo>
                      <a:pt x="407" y="1564"/>
                    </a:lnTo>
                    <a:lnTo>
                      <a:pt x="480" y="1547"/>
                    </a:lnTo>
                    <a:lnTo>
                      <a:pt x="516" y="1538"/>
                    </a:lnTo>
                    <a:lnTo>
                      <a:pt x="552" y="1528"/>
                    </a:lnTo>
                    <a:lnTo>
                      <a:pt x="587" y="1516"/>
                    </a:lnTo>
                    <a:lnTo>
                      <a:pt x="622" y="1506"/>
                    </a:lnTo>
                    <a:lnTo>
                      <a:pt x="658" y="1493"/>
                    </a:lnTo>
                    <a:lnTo>
                      <a:pt x="692" y="1481"/>
                    </a:lnTo>
                    <a:lnTo>
                      <a:pt x="727" y="1468"/>
                    </a:lnTo>
                    <a:lnTo>
                      <a:pt x="761" y="1455"/>
                    </a:lnTo>
                    <a:lnTo>
                      <a:pt x="794" y="1440"/>
                    </a:lnTo>
                    <a:lnTo>
                      <a:pt x="829" y="1425"/>
                    </a:lnTo>
                    <a:lnTo>
                      <a:pt x="862" y="1410"/>
                    </a:lnTo>
                    <a:lnTo>
                      <a:pt x="895" y="1393"/>
                    </a:lnTo>
                    <a:lnTo>
                      <a:pt x="927" y="1376"/>
                    </a:lnTo>
                    <a:lnTo>
                      <a:pt x="959" y="1359"/>
                    </a:lnTo>
                    <a:lnTo>
                      <a:pt x="991" y="1339"/>
                    </a:lnTo>
                    <a:lnTo>
                      <a:pt x="1022" y="1320"/>
                    </a:lnTo>
                    <a:lnTo>
                      <a:pt x="1053" y="1301"/>
                    </a:lnTo>
                    <a:lnTo>
                      <a:pt x="1083" y="1279"/>
                    </a:lnTo>
                    <a:lnTo>
                      <a:pt x="1113" y="1257"/>
                    </a:lnTo>
                    <a:lnTo>
                      <a:pt x="1142" y="1236"/>
                    </a:lnTo>
                    <a:lnTo>
                      <a:pt x="1172" y="1212"/>
                    </a:lnTo>
                    <a:lnTo>
                      <a:pt x="1200" y="1188"/>
                    </a:lnTo>
                    <a:lnTo>
                      <a:pt x="1228" y="1163"/>
                    </a:lnTo>
                    <a:lnTo>
                      <a:pt x="1255" y="1136"/>
                    </a:lnTo>
                    <a:lnTo>
                      <a:pt x="1281" y="1110"/>
                    </a:lnTo>
                    <a:lnTo>
                      <a:pt x="1309" y="1083"/>
                    </a:lnTo>
                    <a:lnTo>
                      <a:pt x="1334" y="1054"/>
                    </a:lnTo>
                    <a:lnTo>
                      <a:pt x="1359" y="1025"/>
                    </a:lnTo>
                    <a:lnTo>
                      <a:pt x="1383" y="994"/>
                    </a:lnTo>
                    <a:lnTo>
                      <a:pt x="1407" y="962"/>
                    </a:lnTo>
                    <a:lnTo>
                      <a:pt x="1431" y="930"/>
                    </a:lnTo>
                    <a:lnTo>
                      <a:pt x="1452" y="897"/>
                    </a:lnTo>
                    <a:lnTo>
                      <a:pt x="1474" y="863"/>
                    </a:lnTo>
                    <a:lnTo>
                      <a:pt x="1496" y="827"/>
                    </a:lnTo>
                    <a:lnTo>
                      <a:pt x="1516" y="791"/>
                    </a:lnTo>
                    <a:lnTo>
                      <a:pt x="1535" y="753"/>
                    </a:lnTo>
                    <a:lnTo>
                      <a:pt x="1555" y="715"/>
                    </a:lnTo>
                    <a:lnTo>
                      <a:pt x="1572" y="675"/>
                    </a:lnTo>
                    <a:lnTo>
                      <a:pt x="1590" y="636"/>
                    </a:lnTo>
                    <a:lnTo>
                      <a:pt x="1606" y="593"/>
                    </a:lnTo>
                    <a:lnTo>
                      <a:pt x="1622" y="551"/>
                    </a:lnTo>
                    <a:lnTo>
                      <a:pt x="1637" y="508"/>
                    </a:lnTo>
                    <a:lnTo>
                      <a:pt x="1652" y="462"/>
                    </a:lnTo>
                    <a:lnTo>
                      <a:pt x="1665" y="416"/>
                    </a:lnTo>
                    <a:lnTo>
                      <a:pt x="1678" y="370"/>
                    </a:lnTo>
                    <a:lnTo>
                      <a:pt x="1689" y="321"/>
                    </a:lnTo>
                    <a:lnTo>
                      <a:pt x="1700" y="272"/>
                    </a:lnTo>
                    <a:lnTo>
                      <a:pt x="1710" y="221"/>
                    </a:lnTo>
                    <a:lnTo>
                      <a:pt x="1719" y="170"/>
                    </a:lnTo>
                    <a:lnTo>
                      <a:pt x="1727" y="116"/>
                    </a:lnTo>
                    <a:lnTo>
                      <a:pt x="1735" y="63"/>
                    </a:lnTo>
                    <a:lnTo>
                      <a:pt x="1741" y="7"/>
                    </a:lnTo>
                    <a:lnTo>
                      <a:pt x="1673" y="0"/>
                    </a:lnTo>
                    <a:lnTo>
                      <a:pt x="1668" y="55"/>
                    </a:lnTo>
                    <a:lnTo>
                      <a:pt x="1661" y="107"/>
                    </a:lnTo>
                    <a:lnTo>
                      <a:pt x="1653" y="159"/>
                    </a:lnTo>
                    <a:lnTo>
                      <a:pt x="1644" y="209"/>
                    </a:lnTo>
                    <a:lnTo>
                      <a:pt x="1635" y="258"/>
                    </a:lnTo>
                    <a:lnTo>
                      <a:pt x="1623" y="306"/>
                    </a:lnTo>
                    <a:lnTo>
                      <a:pt x="1612" y="353"/>
                    </a:lnTo>
                    <a:lnTo>
                      <a:pt x="1600" y="398"/>
                    </a:lnTo>
                    <a:lnTo>
                      <a:pt x="1587" y="443"/>
                    </a:lnTo>
                    <a:lnTo>
                      <a:pt x="1573" y="486"/>
                    </a:lnTo>
                    <a:lnTo>
                      <a:pt x="1558" y="528"/>
                    </a:lnTo>
                    <a:lnTo>
                      <a:pt x="1543" y="569"/>
                    </a:lnTo>
                    <a:lnTo>
                      <a:pt x="1527" y="609"/>
                    </a:lnTo>
                    <a:lnTo>
                      <a:pt x="1510" y="648"/>
                    </a:lnTo>
                    <a:lnTo>
                      <a:pt x="1493" y="686"/>
                    </a:lnTo>
                    <a:lnTo>
                      <a:pt x="1475" y="722"/>
                    </a:lnTo>
                    <a:lnTo>
                      <a:pt x="1457" y="759"/>
                    </a:lnTo>
                    <a:lnTo>
                      <a:pt x="1437" y="793"/>
                    </a:lnTo>
                    <a:lnTo>
                      <a:pt x="1417" y="827"/>
                    </a:lnTo>
                    <a:lnTo>
                      <a:pt x="1396" y="860"/>
                    </a:lnTo>
                    <a:lnTo>
                      <a:pt x="1375" y="892"/>
                    </a:lnTo>
                    <a:lnTo>
                      <a:pt x="1353" y="922"/>
                    </a:lnTo>
                    <a:lnTo>
                      <a:pt x="1330" y="953"/>
                    </a:lnTo>
                    <a:lnTo>
                      <a:pt x="1306" y="981"/>
                    </a:lnTo>
                    <a:lnTo>
                      <a:pt x="1282" y="1010"/>
                    </a:lnTo>
                    <a:lnTo>
                      <a:pt x="1258" y="1037"/>
                    </a:lnTo>
                    <a:lnTo>
                      <a:pt x="1233" y="1063"/>
                    </a:lnTo>
                    <a:lnTo>
                      <a:pt x="1208" y="1088"/>
                    </a:lnTo>
                    <a:lnTo>
                      <a:pt x="1182" y="1114"/>
                    </a:lnTo>
                    <a:lnTo>
                      <a:pt x="1156" y="1138"/>
                    </a:lnTo>
                    <a:lnTo>
                      <a:pt x="1128" y="1160"/>
                    </a:lnTo>
                    <a:lnTo>
                      <a:pt x="1101" y="1182"/>
                    </a:lnTo>
                    <a:lnTo>
                      <a:pt x="1073" y="1204"/>
                    </a:lnTo>
                    <a:lnTo>
                      <a:pt x="1044" y="1224"/>
                    </a:lnTo>
                    <a:lnTo>
                      <a:pt x="1016" y="1245"/>
                    </a:lnTo>
                    <a:lnTo>
                      <a:pt x="986" y="1263"/>
                    </a:lnTo>
                    <a:lnTo>
                      <a:pt x="956" y="1282"/>
                    </a:lnTo>
                    <a:lnTo>
                      <a:pt x="926" y="1300"/>
                    </a:lnTo>
                    <a:lnTo>
                      <a:pt x="895" y="1317"/>
                    </a:lnTo>
                    <a:lnTo>
                      <a:pt x="864" y="1334"/>
                    </a:lnTo>
                    <a:lnTo>
                      <a:pt x="832" y="1349"/>
                    </a:lnTo>
                    <a:lnTo>
                      <a:pt x="800" y="1365"/>
                    </a:lnTo>
                    <a:lnTo>
                      <a:pt x="768" y="1378"/>
                    </a:lnTo>
                    <a:lnTo>
                      <a:pt x="735" y="1392"/>
                    </a:lnTo>
                    <a:lnTo>
                      <a:pt x="702" y="1406"/>
                    </a:lnTo>
                    <a:lnTo>
                      <a:pt x="669" y="1418"/>
                    </a:lnTo>
                    <a:lnTo>
                      <a:pt x="636" y="1430"/>
                    </a:lnTo>
                    <a:lnTo>
                      <a:pt x="602" y="1441"/>
                    </a:lnTo>
                    <a:lnTo>
                      <a:pt x="568" y="1452"/>
                    </a:lnTo>
                    <a:lnTo>
                      <a:pt x="533" y="1463"/>
                    </a:lnTo>
                    <a:lnTo>
                      <a:pt x="498" y="1472"/>
                    </a:lnTo>
                    <a:lnTo>
                      <a:pt x="464" y="1481"/>
                    </a:lnTo>
                    <a:lnTo>
                      <a:pt x="393" y="1498"/>
                    </a:lnTo>
                    <a:lnTo>
                      <a:pt x="321" y="1513"/>
                    </a:lnTo>
                    <a:lnTo>
                      <a:pt x="250" y="1527"/>
                    </a:lnTo>
                    <a:lnTo>
                      <a:pt x="177" y="1538"/>
                    </a:lnTo>
                    <a:lnTo>
                      <a:pt x="104" y="1548"/>
                    </a:lnTo>
                    <a:lnTo>
                      <a:pt x="30" y="1556"/>
                    </a:lnTo>
                    <a:lnTo>
                      <a:pt x="11" y="1564"/>
                    </a:lnTo>
                    <a:lnTo>
                      <a:pt x="30" y="1556"/>
                    </a:lnTo>
                    <a:lnTo>
                      <a:pt x="22" y="1557"/>
                    </a:lnTo>
                    <a:lnTo>
                      <a:pt x="15" y="1561"/>
                    </a:lnTo>
                    <a:lnTo>
                      <a:pt x="10" y="1564"/>
                    </a:lnTo>
                    <a:lnTo>
                      <a:pt x="6" y="1570"/>
                    </a:lnTo>
                    <a:lnTo>
                      <a:pt x="2" y="1574"/>
                    </a:lnTo>
                    <a:lnTo>
                      <a:pt x="0" y="1581"/>
                    </a:lnTo>
                    <a:lnTo>
                      <a:pt x="0" y="1587"/>
                    </a:lnTo>
                    <a:lnTo>
                      <a:pt x="0" y="1593"/>
                    </a:lnTo>
                    <a:lnTo>
                      <a:pt x="1" y="1600"/>
                    </a:lnTo>
                    <a:lnTo>
                      <a:pt x="3" y="1605"/>
                    </a:lnTo>
                    <a:lnTo>
                      <a:pt x="6" y="1611"/>
                    </a:lnTo>
                    <a:lnTo>
                      <a:pt x="10" y="1616"/>
                    </a:lnTo>
                    <a:lnTo>
                      <a:pt x="16" y="1619"/>
                    </a:lnTo>
                    <a:lnTo>
                      <a:pt x="22" y="1622"/>
                    </a:lnTo>
                    <a:lnTo>
                      <a:pt x="28" y="1624"/>
                    </a:lnTo>
                    <a:lnTo>
                      <a:pt x="36" y="1624"/>
                    </a:lnTo>
                    <a:lnTo>
                      <a:pt x="56" y="16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5221440" y="4862520"/>
                <a:ext cx="144360" cy="115920"/>
              </a:xfrm>
              <a:custGeom>
                <a:avLst/>
                <a:gdLst/>
                <a:ahLst/>
                <a:rect l="l" t="t" r="r" b="b"/>
                <a:pathLst>
                  <a:path w="456" h="362">
                    <a:moveTo>
                      <a:pt x="456" y="305"/>
                    </a:moveTo>
                    <a:lnTo>
                      <a:pt x="416" y="277"/>
                    </a:lnTo>
                    <a:lnTo>
                      <a:pt x="377" y="284"/>
                    </a:lnTo>
                    <a:lnTo>
                      <a:pt x="342" y="290"/>
                    </a:lnTo>
                    <a:lnTo>
                      <a:pt x="309" y="293"/>
                    </a:lnTo>
                    <a:lnTo>
                      <a:pt x="278" y="295"/>
                    </a:lnTo>
                    <a:lnTo>
                      <a:pt x="250" y="295"/>
                    </a:lnTo>
                    <a:lnTo>
                      <a:pt x="223" y="292"/>
                    </a:lnTo>
                    <a:lnTo>
                      <a:pt x="201" y="290"/>
                    </a:lnTo>
                    <a:lnTo>
                      <a:pt x="180" y="285"/>
                    </a:lnTo>
                    <a:lnTo>
                      <a:pt x="161" y="280"/>
                    </a:lnTo>
                    <a:lnTo>
                      <a:pt x="145" y="273"/>
                    </a:lnTo>
                    <a:lnTo>
                      <a:pt x="130" y="266"/>
                    </a:lnTo>
                    <a:lnTo>
                      <a:pt x="117" y="258"/>
                    </a:lnTo>
                    <a:lnTo>
                      <a:pt x="106" y="250"/>
                    </a:lnTo>
                    <a:lnTo>
                      <a:pt x="97" y="241"/>
                    </a:lnTo>
                    <a:lnTo>
                      <a:pt x="89" y="232"/>
                    </a:lnTo>
                    <a:lnTo>
                      <a:pt x="82" y="222"/>
                    </a:lnTo>
                    <a:lnTo>
                      <a:pt x="78" y="211"/>
                    </a:lnTo>
                    <a:lnTo>
                      <a:pt x="73" y="201"/>
                    </a:lnTo>
                    <a:lnTo>
                      <a:pt x="71" y="191"/>
                    </a:lnTo>
                    <a:lnTo>
                      <a:pt x="68" y="179"/>
                    </a:lnTo>
                    <a:lnTo>
                      <a:pt x="67" y="168"/>
                    </a:lnTo>
                    <a:lnTo>
                      <a:pt x="68" y="155"/>
                    </a:lnTo>
                    <a:lnTo>
                      <a:pt x="70" y="144"/>
                    </a:lnTo>
                    <a:lnTo>
                      <a:pt x="72" y="133"/>
                    </a:lnTo>
                    <a:lnTo>
                      <a:pt x="74" y="121"/>
                    </a:lnTo>
                    <a:lnTo>
                      <a:pt x="79" y="109"/>
                    </a:lnTo>
                    <a:lnTo>
                      <a:pt x="83" y="98"/>
                    </a:lnTo>
                    <a:lnTo>
                      <a:pt x="89" y="87"/>
                    </a:lnTo>
                    <a:lnTo>
                      <a:pt x="96" y="77"/>
                    </a:lnTo>
                    <a:lnTo>
                      <a:pt x="103" y="68"/>
                    </a:lnTo>
                    <a:lnTo>
                      <a:pt x="111" y="60"/>
                    </a:lnTo>
                    <a:lnTo>
                      <a:pt x="120" y="52"/>
                    </a:lnTo>
                    <a:lnTo>
                      <a:pt x="75" y="0"/>
                    </a:lnTo>
                    <a:lnTo>
                      <a:pt x="63" y="12"/>
                    </a:lnTo>
                    <a:lnTo>
                      <a:pt x="51" y="25"/>
                    </a:lnTo>
                    <a:lnTo>
                      <a:pt x="41" y="39"/>
                    </a:lnTo>
                    <a:lnTo>
                      <a:pt x="32" y="53"/>
                    </a:lnTo>
                    <a:lnTo>
                      <a:pt x="23" y="69"/>
                    </a:lnTo>
                    <a:lnTo>
                      <a:pt x="16" y="83"/>
                    </a:lnTo>
                    <a:lnTo>
                      <a:pt x="10" y="101"/>
                    </a:lnTo>
                    <a:lnTo>
                      <a:pt x="6" y="117"/>
                    </a:lnTo>
                    <a:lnTo>
                      <a:pt x="2" y="135"/>
                    </a:lnTo>
                    <a:lnTo>
                      <a:pt x="1" y="152"/>
                    </a:lnTo>
                    <a:lnTo>
                      <a:pt x="0" y="169"/>
                    </a:lnTo>
                    <a:lnTo>
                      <a:pt x="1" y="187"/>
                    </a:lnTo>
                    <a:lnTo>
                      <a:pt x="5" y="204"/>
                    </a:lnTo>
                    <a:lnTo>
                      <a:pt x="9" y="223"/>
                    </a:lnTo>
                    <a:lnTo>
                      <a:pt x="16" y="240"/>
                    </a:lnTo>
                    <a:lnTo>
                      <a:pt x="25" y="256"/>
                    </a:lnTo>
                    <a:lnTo>
                      <a:pt x="35" y="272"/>
                    </a:lnTo>
                    <a:lnTo>
                      <a:pt x="48" y="287"/>
                    </a:lnTo>
                    <a:lnTo>
                      <a:pt x="63" y="301"/>
                    </a:lnTo>
                    <a:lnTo>
                      <a:pt x="79" y="314"/>
                    </a:lnTo>
                    <a:lnTo>
                      <a:pt x="97" y="325"/>
                    </a:lnTo>
                    <a:lnTo>
                      <a:pt x="117" y="336"/>
                    </a:lnTo>
                    <a:lnTo>
                      <a:pt x="139" y="344"/>
                    </a:lnTo>
                    <a:lnTo>
                      <a:pt x="163" y="350"/>
                    </a:lnTo>
                    <a:lnTo>
                      <a:pt x="189" y="356"/>
                    </a:lnTo>
                    <a:lnTo>
                      <a:pt x="218" y="360"/>
                    </a:lnTo>
                    <a:lnTo>
                      <a:pt x="247" y="362"/>
                    </a:lnTo>
                    <a:lnTo>
                      <a:pt x="279" y="362"/>
                    </a:lnTo>
                    <a:lnTo>
                      <a:pt x="314" y="361"/>
                    </a:lnTo>
                    <a:lnTo>
                      <a:pt x="350" y="357"/>
                    </a:lnTo>
                    <a:lnTo>
                      <a:pt x="389" y="352"/>
                    </a:lnTo>
                    <a:lnTo>
                      <a:pt x="430" y="344"/>
                    </a:lnTo>
                    <a:lnTo>
                      <a:pt x="390" y="316"/>
                    </a:lnTo>
                    <a:lnTo>
                      <a:pt x="430" y="344"/>
                    </a:lnTo>
                    <a:lnTo>
                      <a:pt x="437" y="341"/>
                    </a:lnTo>
                    <a:lnTo>
                      <a:pt x="443" y="338"/>
                    </a:lnTo>
                    <a:lnTo>
                      <a:pt x="448" y="333"/>
                    </a:lnTo>
                    <a:lnTo>
                      <a:pt x="451" y="329"/>
                    </a:lnTo>
                    <a:lnTo>
                      <a:pt x="455" y="323"/>
                    </a:lnTo>
                    <a:lnTo>
                      <a:pt x="456" y="316"/>
                    </a:lnTo>
                    <a:lnTo>
                      <a:pt x="456" y="311"/>
                    </a:lnTo>
                    <a:lnTo>
                      <a:pt x="456" y="304"/>
                    </a:lnTo>
                    <a:lnTo>
                      <a:pt x="454" y="298"/>
                    </a:lnTo>
                    <a:lnTo>
                      <a:pt x="451" y="292"/>
                    </a:lnTo>
                    <a:lnTo>
                      <a:pt x="447" y="288"/>
                    </a:lnTo>
                    <a:lnTo>
                      <a:pt x="442" y="283"/>
                    </a:lnTo>
                    <a:lnTo>
                      <a:pt x="438" y="280"/>
                    </a:lnTo>
                    <a:lnTo>
                      <a:pt x="431" y="277"/>
                    </a:lnTo>
                    <a:lnTo>
                      <a:pt x="424" y="277"/>
                    </a:lnTo>
                    <a:lnTo>
                      <a:pt x="416" y="277"/>
                    </a:lnTo>
                    <a:lnTo>
                      <a:pt x="456" y="30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5203800" y="4959360"/>
                <a:ext cx="162000" cy="131760"/>
              </a:xfrm>
              <a:custGeom>
                <a:avLst/>
                <a:gdLst/>
                <a:ahLst/>
                <a:rect l="l" t="t" r="r" b="b"/>
                <a:pathLst>
                  <a:path w="509" h="412">
                    <a:moveTo>
                      <a:pt x="82" y="367"/>
                    </a:moveTo>
                    <a:lnTo>
                      <a:pt x="79" y="361"/>
                    </a:lnTo>
                    <a:lnTo>
                      <a:pt x="75" y="353"/>
                    </a:lnTo>
                    <a:lnTo>
                      <a:pt x="73" y="345"/>
                    </a:lnTo>
                    <a:lnTo>
                      <a:pt x="70" y="339"/>
                    </a:lnTo>
                    <a:lnTo>
                      <a:pt x="68" y="333"/>
                    </a:lnTo>
                    <a:lnTo>
                      <a:pt x="67" y="327"/>
                    </a:lnTo>
                    <a:lnTo>
                      <a:pt x="67" y="322"/>
                    </a:lnTo>
                    <a:lnTo>
                      <a:pt x="67" y="317"/>
                    </a:lnTo>
                    <a:lnTo>
                      <a:pt x="68" y="312"/>
                    </a:lnTo>
                    <a:lnTo>
                      <a:pt x="69" y="309"/>
                    </a:lnTo>
                    <a:lnTo>
                      <a:pt x="70" y="304"/>
                    </a:lnTo>
                    <a:lnTo>
                      <a:pt x="73" y="300"/>
                    </a:lnTo>
                    <a:lnTo>
                      <a:pt x="75" y="296"/>
                    </a:lnTo>
                    <a:lnTo>
                      <a:pt x="78" y="292"/>
                    </a:lnTo>
                    <a:lnTo>
                      <a:pt x="82" y="287"/>
                    </a:lnTo>
                    <a:lnTo>
                      <a:pt x="86" y="283"/>
                    </a:lnTo>
                    <a:lnTo>
                      <a:pt x="91" y="278"/>
                    </a:lnTo>
                    <a:lnTo>
                      <a:pt x="103" y="268"/>
                    </a:lnTo>
                    <a:lnTo>
                      <a:pt x="118" y="259"/>
                    </a:lnTo>
                    <a:lnTo>
                      <a:pt x="134" y="250"/>
                    </a:lnTo>
                    <a:lnTo>
                      <a:pt x="152" y="242"/>
                    </a:lnTo>
                    <a:lnTo>
                      <a:pt x="195" y="223"/>
                    </a:lnTo>
                    <a:lnTo>
                      <a:pt x="239" y="207"/>
                    </a:lnTo>
                    <a:lnTo>
                      <a:pt x="286" y="190"/>
                    </a:lnTo>
                    <a:lnTo>
                      <a:pt x="332" y="174"/>
                    </a:lnTo>
                    <a:lnTo>
                      <a:pt x="356" y="165"/>
                    </a:lnTo>
                    <a:lnTo>
                      <a:pt x="378" y="156"/>
                    </a:lnTo>
                    <a:lnTo>
                      <a:pt x="400" y="147"/>
                    </a:lnTo>
                    <a:lnTo>
                      <a:pt x="420" y="137"/>
                    </a:lnTo>
                    <a:lnTo>
                      <a:pt x="438" y="125"/>
                    </a:lnTo>
                    <a:lnTo>
                      <a:pt x="457" y="113"/>
                    </a:lnTo>
                    <a:lnTo>
                      <a:pt x="473" y="99"/>
                    </a:lnTo>
                    <a:lnTo>
                      <a:pt x="485" y="84"/>
                    </a:lnTo>
                    <a:lnTo>
                      <a:pt x="492" y="75"/>
                    </a:lnTo>
                    <a:lnTo>
                      <a:pt x="498" y="65"/>
                    </a:lnTo>
                    <a:lnTo>
                      <a:pt x="502" y="56"/>
                    </a:lnTo>
                    <a:lnTo>
                      <a:pt x="506" y="45"/>
                    </a:lnTo>
                    <a:lnTo>
                      <a:pt x="508" y="34"/>
                    </a:lnTo>
                    <a:lnTo>
                      <a:pt x="509" y="23"/>
                    </a:lnTo>
                    <a:lnTo>
                      <a:pt x="509" y="12"/>
                    </a:lnTo>
                    <a:lnTo>
                      <a:pt x="508" y="0"/>
                    </a:lnTo>
                    <a:lnTo>
                      <a:pt x="442" y="11"/>
                    </a:lnTo>
                    <a:lnTo>
                      <a:pt x="442" y="16"/>
                    </a:lnTo>
                    <a:lnTo>
                      <a:pt x="442" y="20"/>
                    </a:lnTo>
                    <a:lnTo>
                      <a:pt x="442" y="24"/>
                    </a:lnTo>
                    <a:lnTo>
                      <a:pt x="441" y="27"/>
                    </a:lnTo>
                    <a:lnTo>
                      <a:pt x="440" y="31"/>
                    </a:lnTo>
                    <a:lnTo>
                      <a:pt x="438" y="35"/>
                    </a:lnTo>
                    <a:lnTo>
                      <a:pt x="436" y="39"/>
                    </a:lnTo>
                    <a:lnTo>
                      <a:pt x="434" y="41"/>
                    </a:lnTo>
                    <a:lnTo>
                      <a:pt x="426" y="51"/>
                    </a:lnTo>
                    <a:lnTo>
                      <a:pt x="416" y="59"/>
                    </a:lnTo>
                    <a:lnTo>
                      <a:pt x="402" y="68"/>
                    </a:lnTo>
                    <a:lnTo>
                      <a:pt x="387" y="77"/>
                    </a:lnTo>
                    <a:lnTo>
                      <a:pt x="370" y="85"/>
                    </a:lnTo>
                    <a:lnTo>
                      <a:pt x="352" y="95"/>
                    </a:lnTo>
                    <a:lnTo>
                      <a:pt x="331" y="102"/>
                    </a:lnTo>
                    <a:lnTo>
                      <a:pt x="310" y="110"/>
                    </a:lnTo>
                    <a:lnTo>
                      <a:pt x="264" y="128"/>
                    </a:lnTo>
                    <a:lnTo>
                      <a:pt x="216" y="144"/>
                    </a:lnTo>
                    <a:lnTo>
                      <a:pt x="169" y="161"/>
                    </a:lnTo>
                    <a:lnTo>
                      <a:pt x="125" y="179"/>
                    </a:lnTo>
                    <a:lnTo>
                      <a:pt x="103" y="190"/>
                    </a:lnTo>
                    <a:lnTo>
                      <a:pt x="84" y="201"/>
                    </a:lnTo>
                    <a:lnTo>
                      <a:pt x="65" y="213"/>
                    </a:lnTo>
                    <a:lnTo>
                      <a:pt x="49" y="226"/>
                    </a:lnTo>
                    <a:lnTo>
                      <a:pt x="39" y="234"/>
                    </a:lnTo>
                    <a:lnTo>
                      <a:pt x="33" y="242"/>
                    </a:lnTo>
                    <a:lnTo>
                      <a:pt x="25" y="250"/>
                    </a:lnTo>
                    <a:lnTo>
                      <a:pt x="19" y="259"/>
                    </a:lnTo>
                    <a:lnTo>
                      <a:pt x="13" y="268"/>
                    </a:lnTo>
                    <a:lnTo>
                      <a:pt x="9" y="278"/>
                    </a:lnTo>
                    <a:lnTo>
                      <a:pt x="4" y="290"/>
                    </a:lnTo>
                    <a:lnTo>
                      <a:pt x="2" y="300"/>
                    </a:lnTo>
                    <a:lnTo>
                      <a:pt x="1" y="311"/>
                    </a:lnTo>
                    <a:lnTo>
                      <a:pt x="0" y="323"/>
                    </a:lnTo>
                    <a:lnTo>
                      <a:pt x="1" y="334"/>
                    </a:lnTo>
                    <a:lnTo>
                      <a:pt x="2" y="347"/>
                    </a:lnTo>
                    <a:lnTo>
                      <a:pt x="5" y="358"/>
                    </a:lnTo>
                    <a:lnTo>
                      <a:pt x="10" y="369"/>
                    </a:lnTo>
                    <a:lnTo>
                      <a:pt x="14" y="382"/>
                    </a:lnTo>
                    <a:lnTo>
                      <a:pt x="21" y="393"/>
                    </a:lnTo>
                    <a:lnTo>
                      <a:pt x="18" y="388"/>
                    </a:lnTo>
                    <a:lnTo>
                      <a:pt x="21" y="393"/>
                    </a:lnTo>
                    <a:lnTo>
                      <a:pt x="25" y="400"/>
                    </a:lnTo>
                    <a:lnTo>
                      <a:pt x="30" y="406"/>
                    </a:lnTo>
                    <a:lnTo>
                      <a:pt x="36" y="409"/>
                    </a:lnTo>
                    <a:lnTo>
                      <a:pt x="42" y="411"/>
                    </a:lnTo>
                    <a:lnTo>
                      <a:pt x="49" y="412"/>
                    </a:lnTo>
                    <a:lnTo>
                      <a:pt x="54" y="412"/>
                    </a:lnTo>
                    <a:lnTo>
                      <a:pt x="61" y="409"/>
                    </a:lnTo>
                    <a:lnTo>
                      <a:pt x="67" y="407"/>
                    </a:lnTo>
                    <a:lnTo>
                      <a:pt x="71" y="404"/>
                    </a:lnTo>
                    <a:lnTo>
                      <a:pt x="76" y="399"/>
                    </a:lnTo>
                    <a:lnTo>
                      <a:pt x="79" y="395"/>
                    </a:lnTo>
                    <a:lnTo>
                      <a:pt x="83" y="389"/>
                    </a:lnTo>
                    <a:lnTo>
                      <a:pt x="84" y="382"/>
                    </a:lnTo>
                    <a:lnTo>
                      <a:pt x="84" y="375"/>
                    </a:lnTo>
                    <a:lnTo>
                      <a:pt x="83" y="368"/>
                    </a:lnTo>
                    <a:lnTo>
                      <a:pt x="79" y="361"/>
                    </a:lnTo>
                    <a:lnTo>
                      <a:pt x="82" y="3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5210280" y="5076720"/>
                <a:ext cx="182520" cy="50760"/>
              </a:xfrm>
              <a:custGeom>
                <a:avLst/>
                <a:gdLst/>
                <a:ahLst/>
                <a:rect l="l" t="t" r="r" b="b"/>
                <a:pathLst>
                  <a:path w="574" h="162">
                    <a:moveTo>
                      <a:pt x="563" y="81"/>
                    </a:moveTo>
                    <a:lnTo>
                      <a:pt x="571" y="114"/>
                    </a:lnTo>
                    <a:lnTo>
                      <a:pt x="573" y="105"/>
                    </a:lnTo>
                    <a:lnTo>
                      <a:pt x="574" y="96"/>
                    </a:lnTo>
                    <a:lnTo>
                      <a:pt x="573" y="87"/>
                    </a:lnTo>
                    <a:lnTo>
                      <a:pt x="571" y="75"/>
                    </a:lnTo>
                    <a:lnTo>
                      <a:pt x="565" y="66"/>
                    </a:lnTo>
                    <a:lnTo>
                      <a:pt x="557" y="57"/>
                    </a:lnTo>
                    <a:lnTo>
                      <a:pt x="549" y="52"/>
                    </a:lnTo>
                    <a:lnTo>
                      <a:pt x="539" y="47"/>
                    </a:lnTo>
                    <a:lnTo>
                      <a:pt x="525" y="45"/>
                    </a:lnTo>
                    <a:lnTo>
                      <a:pt x="511" y="44"/>
                    </a:lnTo>
                    <a:lnTo>
                      <a:pt x="495" y="45"/>
                    </a:lnTo>
                    <a:lnTo>
                      <a:pt x="477" y="47"/>
                    </a:lnTo>
                    <a:lnTo>
                      <a:pt x="407" y="63"/>
                    </a:lnTo>
                    <a:lnTo>
                      <a:pt x="321" y="82"/>
                    </a:lnTo>
                    <a:lnTo>
                      <a:pt x="301" y="87"/>
                    </a:lnTo>
                    <a:lnTo>
                      <a:pt x="279" y="90"/>
                    </a:lnTo>
                    <a:lnTo>
                      <a:pt x="257" y="93"/>
                    </a:lnTo>
                    <a:lnTo>
                      <a:pt x="236" y="94"/>
                    </a:lnTo>
                    <a:lnTo>
                      <a:pt x="215" y="95"/>
                    </a:lnTo>
                    <a:lnTo>
                      <a:pt x="196" y="94"/>
                    </a:lnTo>
                    <a:lnTo>
                      <a:pt x="177" y="93"/>
                    </a:lnTo>
                    <a:lnTo>
                      <a:pt x="158" y="89"/>
                    </a:lnTo>
                    <a:lnTo>
                      <a:pt x="150" y="87"/>
                    </a:lnTo>
                    <a:lnTo>
                      <a:pt x="142" y="85"/>
                    </a:lnTo>
                    <a:lnTo>
                      <a:pt x="134" y="81"/>
                    </a:lnTo>
                    <a:lnTo>
                      <a:pt x="128" y="78"/>
                    </a:lnTo>
                    <a:lnTo>
                      <a:pt x="121" y="74"/>
                    </a:lnTo>
                    <a:lnTo>
                      <a:pt x="114" y="70"/>
                    </a:lnTo>
                    <a:lnTo>
                      <a:pt x="108" y="66"/>
                    </a:lnTo>
                    <a:lnTo>
                      <a:pt x="101" y="61"/>
                    </a:lnTo>
                    <a:lnTo>
                      <a:pt x="96" y="56"/>
                    </a:lnTo>
                    <a:lnTo>
                      <a:pt x="90" y="49"/>
                    </a:lnTo>
                    <a:lnTo>
                      <a:pt x="85" y="44"/>
                    </a:lnTo>
                    <a:lnTo>
                      <a:pt x="81" y="37"/>
                    </a:lnTo>
                    <a:lnTo>
                      <a:pt x="76" y="29"/>
                    </a:lnTo>
                    <a:lnTo>
                      <a:pt x="72" y="20"/>
                    </a:lnTo>
                    <a:lnTo>
                      <a:pt x="68" y="10"/>
                    </a:lnTo>
                    <a:lnTo>
                      <a:pt x="64" y="0"/>
                    </a:lnTo>
                    <a:lnTo>
                      <a:pt x="0" y="21"/>
                    </a:lnTo>
                    <a:lnTo>
                      <a:pt x="4" y="34"/>
                    </a:lnTo>
                    <a:lnTo>
                      <a:pt x="10" y="48"/>
                    </a:lnTo>
                    <a:lnTo>
                      <a:pt x="17" y="61"/>
                    </a:lnTo>
                    <a:lnTo>
                      <a:pt x="24" y="72"/>
                    </a:lnTo>
                    <a:lnTo>
                      <a:pt x="31" y="83"/>
                    </a:lnTo>
                    <a:lnTo>
                      <a:pt x="40" y="94"/>
                    </a:lnTo>
                    <a:lnTo>
                      <a:pt x="48" y="103"/>
                    </a:lnTo>
                    <a:lnTo>
                      <a:pt x="57" y="112"/>
                    </a:lnTo>
                    <a:lnTo>
                      <a:pt x="67" y="120"/>
                    </a:lnTo>
                    <a:lnTo>
                      <a:pt x="77" y="127"/>
                    </a:lnTo>
                    <a:lnTo>
                      <a:pt x="88" y="134"/>
                    </a:lnTo>
                    <a:lnTo>
                      <a:pt x="98" y="138"/>
                    </a:lnTo>
                    <a:lnTo>
                      <a:pt x="109" y="144"/>
                    </a:lnTo>
                    <a:lnTo>
                      <a:pt x="121" y="147"/>
                    </a:lnTo>
                    <a:lnTo>
                      <a:pt x="132" y="152"/>
                    </a:lnTo>
                    <a:lnTo>
                      <a:pt x="145" y="154"/>
                    </a:lnTo>
                    <a:lnTo>
                      <a:pt x="167" y="159"/>
                    </a:lnTo>
                    <a:lnTo>
                      <a:pt x="191" y="161"/>
                    </a:lnTo>
                    <a:lnTo>
                      <a:pt x="215" y="162"/>
                    </a:lnTo>
                    <a:lnTo>
                      <a:pt x="239" y="161"/>
                    </a:lnTo>
                    <a:lnTo>
                      <a:pt x="263" y="160"/>
                    </a:lnTo>
                    <a:lnTo>
                      <a:pt x="288" y="156"/>
                    </a:lnTo>
                    <a:lnTo>
                      <a:pt x="312" y="153"/>
                    </a:lnTo>
                    <a:lnTo>
                      <a:pt x="336" y="148"/>
                    </a:lnTo>
                    <a:lnTo>
                      <a:pt x="422" y="129"/>
                    </a:lnTo>
                    <a:lnTo>
                      <a:pt x="491" y="113"/>
                    </a:lnTo>
                    <a:lnTo>
                      <a:pt x="503" y="112"/>
                    </a:lnTo>
                    <a:lnTo>
                      <a:pt x="512" y="111"/>
                    </a:lnTo>
                    <a:lnTo>
                      <a:pt x="517" y="112"/>
                    </a:lnTo>
                    <a:lnTo>
                      <a:pt x="520" y="112"/>
                    </a:lnTo>
                    <a:lnTo>
                      <a:pt x="516" y="111"/>
                    </a:lnTo>
                    <a:lnTo>
                      <a:pt x="513" y="109"/>
                    </a:lnTo>
                    <a:lnTo>
                      <a:pt x="511" y="105"/>
                    </a:lnTo>
                    <a:lnTo>
                      <a:pt x="508" y="101"/>
                    </a:lnTo>
                    <a:lnTo>
                      <a:pt x="507" y="97"/>
                    </a:lnTo>
                    <a:lnTo>
                      <a:pt x="506" y="95"/>
                    </a:lnTo>
                    <a:lnTo>
                      <a:pt x="507" y="95"/>
                    </a:lnTo>
                    <a:lnTo>
                      <a:pt x="506" y="96"/>
                    </a:lnTo>
                    <a:lnTo>
                      <a:pt x="515" y="128"/>
                    </a:lnTo>
                    <a:lnTo>
                      <a:pt x="506" y="96"/>
                    </a:lnTo>
                    <a:lnTo>
                      <a:pt x="505" y="104"/>
                    </a:lnTo>
                    <a:lnTo>
                      <a:pt x="505" y="111"/>
                    </a:lnTo>
                    <a:lnTo>
                      <a:pt x="507" y="118"/>
                    </a:lnTo>
                    <a:lnTo>
                      <a:pt x="509" y="123"/>
                    </a:lnTo>
                    <a:lnTo>
                      <a:pt x="514" y="128"/>
                    </a:lnTo>
                    <a:lnTo>
                      <a:pt x="519" y="131"/>
                    </a:lnTo>
                    <a:lnTo>
                      <a:pt x="524" y="135"/>
                    </a:lnTo>
                    <a:lnTo>
                      <a:pt x="530" y="137"/>
                    </a:lnTo>
                    <a:lnTo>
                      <a:pt x="536" y="138"/>
                    </a:lnTo>
                    <a:lnTo>
                      <a:pt x="542" y="138"/>
                    </a:lnTo>
                    <a:lnTo>
                      <a:pt x="548" y="137"/>
                    </a:lnTo>
                    <a:lnTo>
                      <a:pt x="554" y="135"/>
                    </a:lnTo>
                    <a:lnTo>
                      <a:pt x="560" y="133"/>
                    </a:lnTo>
                    <a:lnTo>
                      <a:pt x="564" y="127"/>
                    </a:lnTo>
                    <a:lnTo>
                      <a:pt x="569" y="121"/>
                    </a:lnTo>
                    <a:lnTo>
                      <a:pt x="571" y="114"/>
                    </a:lnTo>
                    <a:lnTo>
                      <a:pt x="563" y="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5294160" y="5102280"/>
                <a:ext cx="108000" cy="173160"/>
              </a:xfrm>
              <a:custGeom>
                <a:avLst/>
                <a:gdLst/>
                <a:ahLst/>
                <a:rect l="l" t="t" r="r" b="b"/>
                <a:pathLst>
                  <a:path w="341" h="546">
                    <a:moveTo>
                      <a:pt x="125" y="478"/>
                    </a:moveTo>
                    <a:lnTo>
                      <a:pt x="135" y="483"/>
                    </a:lnTo>
                    <a:lnTo>
                      <a:pt x="122" y="475"/>
                    </a:lnTo>
                    <a:lnTo>
                      <a:pt x="111" y="467"/>
                    </a:lnTo>
                    <a:lnTo>
                      <a:pt x="102" y="459"/>
                    </a:lnTo>
                    <a:lnTo>
                      <a:pt x="94" y="452"/>
                    </a:lnTo>
                    <a:lnTo>
                      <a:pt x="87" y="445"/>
                    </a:lnTo>
                    <a:lnTo>
                      <a:pt x="81" y="438"/>
                    </a:lnTo>
                    <a:lnTo>
                      <a:pt x="77" y="433"/>
                    </a:lnTo>
                    <a:lnTo>
                      <a:pt x="73" y="427"/>
                    </a:lnTo>
                    <a:lnTo>
                      <a:pt x="71" y="422"/>
                    </a:lnTo>
                    <a:lnTo>
                      <a:pt x="70" y="418"/>
                    </a:lnTo>
                    <a:lnTo>
                      <a:pt x="69" y="414"/>
                    </a:lnTo>
                    <a:lnTo>
                      <a:pt x="68" y="410"/>
                    </a:lnTo>
                    <a:lnTo>
                      <a:pt x="68" y="406"/>
                    </a:lnTo>
                    <a:lnTo>
                      <a:pt x="69" y="402"/>
                    </a:lnTo>
                    <a:lnTo>
                      <a:pt x="69" y="398"/>
                    </a:lnTo>
                    <a:lnTo>
                      <a:pt x="71" y="394"/>
                    </a:lnTo>
                    <a:lnTo>
                      <a:pt x="73" y="388"/>
                    </a:lnTo>
                    <a:lnTo>
                      <a:pt x="76" y="384"/>
                    </a:lnTo>
                    <a:lnTo>
                      <a:pt x="79" y="378"/>
                    </a:lnTo>
                    <a:lnTo>
                      <a:pt x="83" y="373"/>
                    </a:lnTo>
                    <a:lnTo>
                      <a:pt x="93" y="361"/>
                    </a:lnTo>
                    <a:lnTo>
                      <a:pt x="105" y="348"/>
                    </a:lnTo>
                    <a:lnTo>
                      <a:pt x="119" y="334"/>
                    </a:lnTo>
                    <a:lnTo>
                      <a:pt x="135" y="322"/>
                    </a:lnTo>
                    <a:lnTo>
                      <a:pt x="153" y="308"/>
                    </a:lnTo>
                    <a:lnTo>
                      <a:pt x="171" y="295"/>
                    </a:lnTo>
                    <a:lnTo>
                      <a:pt x="209" y="267"/>
                    </a:lnTo>
                    <a:lnTo>
                      <a:pt x="247" y="239"/>
                    </a:lnTo>
                    <a:lnTo>
                      <a:pt x="265" y="223"/>
                    </a:lnTo>
                    <a:lnTo>
                      <a:pt x="282" y="208"/>
                    </a:lnTo>
                    <a:lnTo>
                      <a:pt x="298" y="191"/>
                    </a:lnTo>
                    <a:lnTo>
                      <a:pt x="312" y="175"/>
                    </a:lnTo>
                    <a:lnTo>
                      <a:pt x="319" y="164"/>
                    </a:lnTo>
                    <a:lnTo>
                      <a:pt x="324" y="155"/>
                    </a:lnTo>
                    <a:lnTo>
                      <a:pt x="329" y="145"/>
                    </a:lnTo>
                    <a:lnTo>
                      <a:pt x="333" y="136"/>
                    </a:lnTo>
                    <a:lnTo>
                      <a:pt x="337" y="125"/>
                    </a:lnTo>
                    <a:lnTo>
                      <a:pt x="340" y="113"/>
                    </a:lnTo>
                    <a:lnTo>
                      <a:pt x="341" y="103"/>
                    </a:lnTo>
                    <a:lnTo>
                      <a:pt x="341" y="90"/>
                    </a:lnTo>
                    <a:lnTo>
                      <a:pt x="340" y="79"/>
                    </a:lnTo>
                    <a:lnTo>
                      <a:pt x="338" y="67"/>
                    </a:lnTo>
                    <a:lnTo>
                      <a:pt x="334" y="55"/>
                    </a:lnTo>
                    <a:lnTo>
                      <a:pt x="330" y="44"/>
                    </a:lnTo>
                    <a:lnTo>
                      <a:pt x="323" y="32"/>
                    </a:lnTo>
                    <a:lnTo>
                      <a:pt x="316" y="22"/>
                    </a:lnTo>
                    <a:lnTo>
                      <a:pt x="307" y="10"/>
                    </a:lnTo>
                    <a:lnTo>
                      <a:pt x="298" y="0"/>
                    </a:lnTo>
                    <a:lnTo>
                      <a:pt x="250" y="47"/>
                    </a:lnTo>
                    <a:lnTo>
                      <a:pt x="256" y="55"/>
                    </a:lnTo>
                    <a:lnTo>
                      <a:pt x="262" y="62"/>
                    </a:lnTo>
                    <a:lnTo>
                      <a:pt x="266" y="67"/>
                    </a:lnTo>
                    <a:lnTo>
                      <a:pt x="269" y="73"/>
                    </a:lnTo>
                    <a:lnTo>
                      <a:pt x="272" y="79"/>
                    </a:lnTo>
                    <a:lnTo>
                      <a:pt x="273" y="83"/>
                    </a:lnTo>
                    <a:lnTo>
                      <a:pt x="274" y="88"/>
                    </a:lnTo>
                    <a:lnTo>
                      <a:pt x="274" y="93"/>
                    </a:lnTo>
                    <a:lnTo>
                      <a:pt x="274" y="97"/>
                    </a:lnTo>
                    <a:lnTo>
                      <a:pt x="273" y="102"/>
                    </a:lnTo>
                    <a:lnTo>
                      <a:pt x="272" y="106"/>
                    </a:lnTo>
                    <a:lnTo>
                      <a:pt x="271" y="111"/>
                    </a:lnTo>
                    <a:lnTo>
                      <a:pt x="268" y="117"/>
                    </a:lnTo>
                    <a:lnTo>
                      <a:pt x="265" y="122"/>
                    </a:lnTo>
                    <a:lnTo>
                      <a:pt x="262" y="128"/>
                    </a:lnTo>
                    <a:lnTo>
                      <a:pt x="258" y="133"/>
                    </a:lnTo>
                    <a:lnTo>
                      <a:pt x="248" y="146"/>
                    </a:lnTo>
                    <a:lnTo>
                      <a:pt x="235" y="159"/>
                    </a:lnTo>
                    <a:lnTo>
                      <a:pt x="220" y="172"/>
                    </a:lnTo>
                    <a:lnTo>
                      <a:pt x="205" y="185"/>
                    </a:lnTo>
                    <a:lnTo>
                      <a:pt x="169" y="212"/>
                    </a:lnTo>
                    <a:lnTo>
                      <a:pt x="130" y="241"/>
                    </a:lnTo>
                    <a:lnTo>
                      <a:pt x="112" y="255"/>
                    </a:lnTo>
                    <a:lnTo>
                      <a:pt x="93" y="269"/>
                    </a:lnTo>
                    <a:lnTo>
                      <a:pt x="76" y="284"/>
                    </a:lnTo>
                    <a:lnTo>
                      <a:pt x="59" y="299"/>
                    </a:lnTo>
                    <a:lnTo>
                      <a:pt x="43" y="315"/>
                    </a:lnTo>
                    <a:lnTo>
                      <a:pt x="30" y="331"/>
                    </a:lnTo>
                    <a:lnTo>
                      <a:pt x="23" y="341"/>
                    </a:lnTo>
                    <a:lnTo>
                      <a:pt x="18" y="350"/>
                    </a:lnTo>
                    <a:lnTo>
                      <a:pt x="12" y="360"/>
                    </a:lnTo>
                    <a:lnTo>
                      <a:pt x="7" y="370"/>
                    </a:lnTo>
                    <a:lnTo>
                      <a:pt x="4" y="380"/>
                    </a:lnTo>
                    <a:lnTo>
                      <a:pt x="2" y="392"/>
                    </a:lnTo>
                    <a:lnTo>
                      <a:pt x="0" y="403"/>
                    </a:lnTo>
                    <a:lnTo>
                      <a:pt x="0" y="414"/>
                    </a:lnTo>
                    <a:lnTo>
                      <a:pt x="2" y="426"/>
                    </a:lnTo>
                    <a:lnTo>
                      <a:pt x="5" y="437"/>
                    </a:lnTo>
                    <a:lnTo>
                      <a:pt x="10" y="449"/>
                    </a:lnTo>
                    <a:lnTo>
                      <a:pt x="14" y="460"/>
                    </a:lnTo>
                    <a:lnTo>
                      <a:pt x="21" y="470"/>
                    </a:lnTo>
                    <a:lnTo>
                      <a:pt x="29" y="480"/>
                    </a:lnTo>
                    <a:lnTo>
                      <a:pt x="37" y="491"/>
                    </a:lnTo>
                    <a:lnTo>
                      <a:pt x="47" y="501"/>
                    </a:lnTo>
                    <a:lnTo>
                      <a:pt x="59" y="511"/>
                    </a:lnTo>
                    <a:lnTo>
                      <a:pt x="71" y="520"/>
                    </a:lnTo>
                    <a:lnTo>
                      <a:pt x="85" y="531"/>
                    </a:lnTo>
                    <a:lnTo>
                      <a:pt x="100" y="540"/>
                    </a:lnTo>
                    <a:lnTo>
                      <a:pt x="109" y="544"/>
                    </a:lnTo>
                    <a:lnTo>
                      <a:pt x="100" y="540"/>
                    </a:lnTo>
                    <a:lnTo>
                      <a:pt x="106" y="543"/>
                    </a:lnTo>
                    <a:lnTo>
                      <a:pt x="113" y="546"/>
                    </a:lnTo>
                    <a:lnTo>
                      <a:pt x="120" y="546"/>
                    </a:lnTo>
                    <a:lnTo>
                      <a:pt x="126" y="544"/>
                    </a:lnTo>
                    <a:lnTo>
                      <a:pt x="132" y="542"/>
                    </a:lnTo>
                    <a:lnTo>
                      <a:pt x="137" y="539"/>
                    </a:lnTo>
                    <a:lnTo>
                      <a:pt x="142" y="534"/>
                    </a:lnTo>
                    <a:lnTo>
                      <a:pt x="145" y="530"/>
                    </a:lnTo>
                    <a:lnTo>
                      <a:pt x="149" y="524"/>
                    </a:lnTo>
                    <a:lnTo>
                      <a:pt x="150" y="518"/>
                    </a:lnTo>
                    <a:lnTo>
                      <a:pt x="151" y="511"/>
                    </a:lnTo>
                    <a:lnTo>
                      <a:pt x="151" y="506"/>
                    </a:lnTo>
                    <a:lnTo>
                      <a:pt x="149" y="499"/>
                    </a:lnTo>
                    <a:lnTo>
                      <a:pt x="145" y="493"/>
                    </a:lnTo>
                    <a:lnTo>
                      <a:pt x="141" y="487"/>
                    </a:lnTo>
                    <a:lnTo>
                      <a:pt x="135" y="483"/>
                    </a:lnTo>
                    <a:lnTo>
                      <a:pt x="125" y="47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5329080" y="522288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691" h="189">
                    <a:moveTo>
                      <a:pt x="643" y="2"/>
                    </a:moveTo>
                    <a:lnTo>
                      <a:pt x="646" y="1"/>
                    </a:lnTo>
                    <a:lnTo>
                      <a:pt x="573" y="28"/>
                    </a:lnTo>
                    <a:lnTo>
                      <a:pt x="501" y="56"/>
                    </a:lnTo>
                    <a:lnTo>
                      <a:pt x="465" y="68"/>
                    </a:lnTo>
                    <a:lnTo>
                      <a:pt x="428" y="81"/>
                    </a:lnTo>
                    <a:lnTo>
                      <a:pt x="392" y="92"/>
                    </a:lnTo>
                    <a:lnTo>
                      <a:pt x="355" y="101"/>
                    </a:lnTo>
                    <a:lnTo>
                      <a:pt x="318" y="109"/>
                    </a:lnTo>
                    <a:lnTo>
                      <a:pt x="278" y="116"/>
                    </a:lnTo>
                    <a:lnTo>
                      <a:pt x="259" y="119"/>
                    </a:lnTo>
                    <a:lnTo>
                      <a:pt x="239" y="121"/>
                    </a:lnTo>
                    <a:lnTo>
                      <a:pt x="219" y="122"/>
                    </a:lnTo>
                    <a:lnTo>
                      <a:pt x="198" y="122"/>
                    </a:lnTo>
                    <a:lnTo>
                      <a:pt x="176" y="122"/>
                    </a:lnTo>
                    <a:lnTo>
                      <a:pt x="155" y="121"/>
                    </a:lnTo>
                    <a:lnTo>
                      <a:pt x="133" y="120"/>
                    </a:lnTo>
                    <a:lnTo>
                      <a:pt x="110" y="117"/>
                    </a:lnTo>
                    <a:lnTo>
                      <a:pt x="88" y="114"/>
                    </a:lnTo>
                    <a:lnTo>
                      <a:pt x="65" y="111"/>
                    </a:lnTo>
                    <a:lnTo>
                      <a:pt x="41" y="106"/>
                    </a:lnTo>
                    <a:lnTo>
                      <a:pt x="16" y="99"/>
                    </a:lnTo>
                    <a:lnTo>
                      <a:pt x="0" y="165"/>
                    </a:lnTo>
                    <a:lnTo>
                      <a:pt x="26" y="171"/>
                    </a:lnTo>
                    <a:lnTo>
                      <a:pt x="52" y="177"/>
                    </a:lnTo>
                    <a:lnTo>
                      <a:pt x="77" y="181"/>
                    </a:lnTo>
                    <a:lnTo>
                      <a:pt x="102" y="185"/>
                    </a:lnTo>
                    <a:lnTo>
                      <a:pt x="127" y="187"/>
                    </a:lnTo>
                    <a:lnTo>
                      <a:pt x="151" y="189"/>
                    </a:lnTo>
                    <a:lnTo>
                      <a:pt x="175" y="189"/>
                    </a:lnTo>
                    <a:lnTo>
                      <a:pt x="198" y="189"/>
                    </a:lnTo>
                    <a:lnTo>
                      <a:pt x="221" y="189"/>
                    </a:lnTo>
                    <a:lnTo>
                      <a:pt x="244" y="188"/>
                    </a:lnTo>
                    <a:lnTo>
                      <a:pt x="265" y="186"/>
                    </a:lnTo>
                    <a:lnTo>
                      <a:pt x="288" y="184"/>
                    </a:lnTo>
                    <a:lnTo>
                      <a:pt x="330" y="177"/>
                    </a:lnTo>
                    <a:lnTo>
                      <a:pt x="371" y="168"/>
                    </a:lnTo>
                    <a:lnTo>
                      <a:pt x="410" y="157"/>
                    </a:lnTo>
                    <a:lnTo>
                      <a:pt x="450" y="145"/>
                    </a:lnTo>
                    <a:lnTo>
                      <a:pt x="488" y="132"/>
                    </a:lnTo>
                    <a:lnTo>
                      <a:pt x="524" y="119"/>
                    </a:lnTo>
                    <a:lnTo>
                      <a:pt x="597" y="91"/>
                    </a:lnTo>
                    <a:lnTo>
                      <a:pt x="668" y="65"/>
                    </a:lnTo>
                    <a:lnTo>
                      <a:pt x="670" y="64"/>
                    </a:lnTo>
                    <a:lnTo>
                      <a:pt x="668" y="65"/>
                    </a:lnTo>
                    <a:lnTo>
                      <a:pt x="675" y="62"/>
                    </a:lnTo>
                    <a:lnTo>
                      <a:pt x="680" y="58"/>
                    </a:lnTo>
                    <a:lnTo>
                      <a:pt x="685" y="52"/>
                    </a:lnTo>
                    <a:lnTo>
                      <a:pt x="688" y="47"/>
                    </a:lnTo>
                    <a:lnTo>
                      <a:pt x="691" y="41"/>
                    </a:lnTo>
                    <a:lnTo>
                      <a:pt x="691" y="35"/>
                    </a:lnTo>
                    <a:lnTo>
                      <a:pt x="691" y="28"/>
                    </a:lnTo>
                    <a:lnTo>
                      <a:pt x="688" y="23"/>
                    </a:lnTo>
                    <a:lnTo>
                      <a:pt x="686" y="17"/>
                    </a:lnTo>
                    <a:lnTo>
                      <a:pt x="683" y="11"/>
                    </a:lnTo>
                    <a:lnTo>
                      <a:pt x="678" y="7"/>
                    </a:lnTo>
                    <a:lnTo>
                      <a:pt x="673" y="3"/>
                    </a:lnTo>
                    <a:lnTo>
                      <a:pt x="667" y="1"/>
                    </a:lnTo>
                    <a:lnTo>
                      <a:pt x="661" y="0"/>
                    </a:lnTo>
                    <a:lnTo>
                      <a:pt x="653" y="0"/>
                    </a:lnTo>
                    <a:lnTo>
                      <a:pt x="646" y="1"/>
                    </a:lnTo>
                    <a:lnTo>
                      <a:pt x="643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5532480" y="4390920"/>
                <a:ext cx="412560" cy="851040"/>
              </a:xfrm>
              <a:custGeom>
                <a:avLst/>
                <a:gdLst/>
                <a:ahLst/>
                <a:rect l="l" t="t" r="r" b="b"/>
                <a:pathLst>
                  <a:path w="1300" h="2684">
                    <a:moveTo>
                      <a:pt x="1286" y="60"/>
                    </a:moveTo>
                    <a:lnTo>
                      <a:pt x="1230" y="35"/>
                    </a:lnTo>
                    <a:lnTo>
                      <a:pt x="1232" y="93"/>
                    </a:lnTo>
                    <a:lnTo>
                      <a:pt x="1233" y="150"/>
                    </a:lnTo>
                    <a:lnTo>
                      <a:pt x="1233" y="206"/>
                    </a:lnTo>
                    <a:lnTo>
                      <a:pt x="1233" y="263"/>
                    </a:lnTo>
                    <a:lnTo>
                      <a:pt x="1233" y="319"/>
                    </a:lnTo>
                    <a:lnTo>
                      <a:pt x="1231" y="375"/>
                    </a:lnTo>
                    <a:lnTo>
                      <a:pt x="1229" y="429"/>
                    </a:lnTo>
                    <a:lnTo>
                      <a:pt x="1226" y="484"/>
                    </a:lnTo>
                    <a:lnTo>
                      <a:pt x="1223" y="538"/>
                    </a:lnTo>
                    <a:lnTo>
                      <a:pt x="1218" y="591"/>
                    </a:lnTo>
                    <a:lnTo>
                      <a:pt x="1214" y="645"/>
                    </a:lnTo>
                    <a:lnTo>
                      <a:pt x="1208" y="698"/>
                    </a:lnTo>
                    <a:lnTo>
                      <a:pt x="1202" y="751"/>
                    </a:lnTo>
                    <a:lnTo>
                      <a:pt x="1196" y="803"/>
                    </a:lnTo>
                    <a:lnTo>
                      <a:pt x="1188" y="854"/>
                    </a:lnTo>
                    <a:lnTo>
                      <a:pt x="1180" y="905"/>
                    </a:lnTo>
                    <a:lnTo>
                      <a:pt x="1170" y="955"/>
                    </a:lnTo>
                    <a:lnTo>
                      <a:pt x="1161" y="1006"/>
                    </a:lnTo>
                    <a:lnTo>
                      <a:pt x="1151" y="1055"/>
                    </a:lnTo>
                    <a:lnTo>
                      <a:pt x="1140" y="1104"/>
                    </a:lnTo>
                    <a:lnTo>
                      <a:pt x="1128" y="1152"/>
                    </a:lnTo>
                    <a:lnTo>
                      <a:pt x="1116" y="1200"/>
                    </a:lnTo>
                    <a:lnTo>
                      <a:pt x="1103" y="1247"/>
                    </a:lnTo>
                    <a:lnTo>
                      <a:pt x="1090" y="1293"/>
                    </a:lnTo>
                    <a:lnTo>
                      <a:pt x="1076" y="1340"/>
                    </a:lnTo>
                    <a:lnTo>
                      <a:pt x="1061" y="1386"/>
                    </a:lnTo>
                    <a:lnTo>
                      <a:pt x="1045" y="1430"/>
                    </a:lnTo>
                    <a:lnTo>
                      <a:pt x="1029" y="1475"/>
                    </a:lnTo>
                    <a:lnTo>
                      <a:pt x="1012" y="1519"/>
                    </a:lnTo>
                    <a:lnTo>
                      <a:pt x="995" y="1562"/>
                    </a:lnTo>
                    <a:lnTo>
                      <a:pt x="977" y="1605"/>
                    </a:lnTo>
                    <a:lnTo>
                      <a:pt x="957" y="1647"/>
                    </a:lnTo>
                    <a:lnTo>
                      <a:pt x="938" y="1688"/>
                    </a:lnTo>
                    <a:lnTo>
                      <a:pt x="917" y="1729"/>
                    </a:lnTo>
                    <a:lnTo>
                      <a:pt x="897" y="1769"/>
                    </a:lnTo>
                    <a:lnTo>
                      <a:pt x="875" y="1808"/>
                    </a:lnTo>
                    <a:lnTo>
                      <a:pt x="852" y="1848"/>
                    </a:lnTo>
                    <a:lnTo>
                      <a:pt x="830" y="1885"/>
                    </a:lnTo>
                    <a:lnTo>
                      <a:pt x="806" y="1923"/>
                    </a:lnTo>
                    <a:lnTo>
                      <a:pt x="782" y="1959"/>
                    </a:lnTo>
                    <a:lnTo>
                      <a:pt x="757" y="1996"/>
                    </a:lnTo>
                    <a:lnTo>
                      <a:pt x="732" y="2031"/>
                    </a:lnTo>
                    <a:lnTo>
                      <a:pt x="705" y="2065"/>
                    </a:lnTo>
                    <a:lnTo>
                      <a:pt x="678" y="2100"/>
                    </a:lnTo>
                    <a:lnTo>
                      <a:pt x="651" y="2133"/>
                    </a:lnTo>
                    <a:lnTo>
                      <a:pt x="622" y="2166"/>
                    </a:lnTo>
                    <a:lnTo>
                      <a:pt x="594" y="2198"/>
                    </a:lnTo>
                    <a:lnTo>
                      <a:pt x="564" y="2229"/>
                    </a:lnTo>
                    <a:lnTo>
                      <a:pt x="534" y="2259"/>
                    </a:lnTo>
                    <a:lnTo>
                      <a:pt x="502" y="2289"/>
                    </a:lnTo>
                    <a:lnTo>
                      <a:pt x="472" y="2318"/>
                    </a:lnTo>
                    <a:lnTo>
                      <a:pt x="440" y="2346"/>
                    </a:lnTo>
                    <a:lnTo>
                      <a:pt x="407" y="2374"/>
                    </a:lnTo>
                    <a:lnTo>
                      <a:pt x="372" y="2400"/>
                    </a:lnTo>
                    <a:lnTo>
                      <a:pt x="338" y="2426"/>
                    </a:lnTo>
                    <a:lnTo>
                      <a:pt x="304" y="2451"/>
                    </a:lnTo>
                    <a:lnTo>
                      <a:pt x="268" y="2475"/>
                    </a:lnTo>
                    <a:lnTo>
                      <a:pt x="232" y="2499"/>
                    </a:lnTo>
                    <a:lnTo>
                      <a:pt x="195" y="2522"/>
                    </a:lnTo>
                    <a:lnTo>
                      <a:pt x="157" y="2544"/>
                    </a:lnTo>
                    <a:lnTo>
                      <a:pt x="119" y="2564"/>
                    </a:lnTo>
                    <a:lnTo>
                      <a:pt x="81" y="2585"/>
                    </a:lnTo>
                    <a:lnTo>
                      <a:pt x="41" y="2604"/>
                    </a:lnTo>
                    <a:lnTo>
                      <a:pt x="0" y="2622"/>
                    </a:lnTo>
                    <a:lnTo>
                      <a:pt x="27" y="2684"/>
                    </a:lnTo>
                    <a:lnTo>
                      <a:pt x="69" y="2666"/>
                    </a:lnTo>
                    <a:lnTo>
                      <a:pt x="110" y="2645"/>
                    </a:lnTo>
                    <a:lnTo>
                      <a:pt x="151" y="2625"/>
                    </a:lnTo>
                    <a:lnTo>
                      <a:pt x="190" y="2602"/>
                    </a:lnTo>
                    <a:lnTo>
                      <a:pt x="230" y="2580"/>
                    </a:lnTo>
                    <a:lnTo>
                      <a:pt x="268" y="2556"/>
                    </a:lnTo>
                    <a:lnTo>
                      <a:pt x="305" y="2532"/>
                    </a:lnTo>
                    <a:lnTo>
                      <a:pt x="342" y="2506"/>
                    </a:lnTo>
                    <a:lnTo>
                      <a:pt x="378" y="2481"/>
                    </a:lnTo>
                    <a:lnTo>
                      <a:pt x="414" y="2453"/>
                    </a:lnTo>
                    <a:lnTo>
                      <a:pt x="449" y="2426"/>
                    </a:lnTo>
                    <a:lnTo>
                      <a:pt x="483" y="2397"/>
                    </a:lnTo>
                    <a:lnTo>
                      <a:pt x="516" y="2368"/>
                    </a:lnTo>
                    <a:lnTo>
                      <a:pt x="549" y="2338"/>
                    </a:lnTo>
                    <a:lnTo>
                      <a:pt x="581" y="2307"/>
                    </a:lnTo>
                    <a:lnTo>
                      <a:pt x="613" y="2275"/>
                    </a:lnTo>
                    <a:lnTo>
                      <a:pt x="643" y="2243"/>
                    </a:lnTo>
                    <a:lnTo>
                      <a:pt x="673" y="2210"/>
                    </a:lnTo>
                    <a:lnTo>
                      <a:pt x="702" y="2177"/>
                    </a:lnTo>
                    <a:lnTo>
                      <a:pt x="730" y="2142"/>
                    </a:lnTo>
                    <a:lnTo>
                      <a:pt x="759" y="2107"/>
                    </a:lnTo>
                    <a:lnTo>
                      <a:pt x="786" y="2071"/>
                    </a:lnTo>
                    <a:lnTo>
                      <a:pt x="813" y="2035"/>
                    </a:lnTo>
                    <a:lnTo>
                      <a:pt x="838" y="1997"/>
                    </a:lnTo>
                    <a:lnTo>
                      <a:pt x="863" y="1959"/>
                    </a:lnTo>
                    <a:lnTo>
                      <a:pt x="888" y="1921"/>
                    </a:lnTo>
                    <a:lnTo>
                      <a:pt x="911" y="1881"/>
                    </a:lnTo>
                    <a:lnTo>
                      <a:pt x="933" y="1841"/>
                    </a:lnTo>
                    <a:lnTo>
                      <a:pt x="956" y="1801"/>
                    </a:lnTo>
                    <a:lnTo>
                      <a:pt x="978" y="1759"/>
                    </a:lnTo>
                    <a:lnTo>
                      <a:pt x="998" y="1718"/>
                    </a:lnTo>
                    <a:lnTo>
                      <a:pt x="1019" y="1674"/>
                    </a:lnTo>
                    <a:lnTo>
                      <a:pt x="1038" y="1632"/>
                    </a:lnTo>
                    <a:lnTo>
                      <a:pt x="1056" y="1587"/>
                    </a:lnTo>
                    <a:lnTo>
                      <a:pt x="1075" y="1543"/>
                    </a:lnTo>
                    <a:lnTo>
                      <a:pt x="1092" y="1498"/>
                    </a:lnTo>
                    <a:lnTo>
                      <a:pt x="1109" y="1453"/>
                    </a:lnTo>
                    <a:lnTo>
                      <a:pt x="1125" y="1407"/>
                    </a:lnTo>
                    <a:lnTo>
                      <a:pt x="1140" y="1360"/>
                    </a:lnTo>
                    <a:lnTo>
                      <a:pt x="1155" y="1312"/>
                    </a:lnTo>
                    <a:lnTo>
                      <a:pt x="1168" y="1265"/>
                    </a:lnTo>
                    <a:lnTo>
                      <a:pt x="1182" y="1217"/>
                    </a:lnTo>
                    <a:lnTo>
                      <a:pt x="1194" y="1168"/>
                    </a:lnTo>
                    <a:lnTo>
                      <a:pt x="1206" y="1119"/>
                    </a:lnTo>
                    <a:lnTo>
                      <a:pt x="1217" y="1068"/>
                    </a:lnTo>
                    <a:lnTo>
                      <a:pt x="1227" y="1018"/>
                    </a:lnTo>
                    <a:lnTo>
                      <a:pt x="1237" y="968"/>
                    </a:lnTo>
                    <a:lnTo>
                      <a:pt x="1246" y="915"/>
                    </a:lnTo>
                    <a:lnTo>
                      <a:pt x="1255" y="864"/>
                    </a:lnTo>
                    <a:lnTo>
                      <a:pt x="1262" y="812"/>
                    </a:lnTo>
                    <a:lnTo>
                      <a:pt x="1269" y="759"/>
                    </a:lnTo>
                    <a:lnTo>
                      <a:pt x="1275" y="706"/>
                    </a:lnTo>
                    <a:lnTo>
                      <a:pt x="1281" y="652"/>
                    </a:lnTo>
                    <a:lnTo>
                      <a:pt x="1286" y="597"/>
                    </a:lnTo>
                    <a:lnTo>
                      <a:pt x="1290" y="542"/>
                    </a:lnTo>
                    <a:lnTo>
                      <a:pt x="1294" y="488"/>
                    </a:lnTo>
                    <a:lnTo>
                      <a:pt x="1296" y="432"/>
                    </a:lnTo>
                    <a:lnTo>
                      <a:pt x="1298" y="376"/>
                    </a:lnTo>
                    <a:lnTo>
                      <a:pt x="1300" y="320"/>
                    </a:lnTo>
                    <a:lnTo>
                      <a:pt x="1300" y="263"/>
                    </a:lnTo>
                    <a:lnTo>
                      <a:pt x="1300" y="206"/>
                    </a:lnTo>
                    <a:lnTo>
                      <a:pt x="1300" y="149"/>
                    </a:lnTo>
                    <a:lnTo>
                      <a:pt x="1299" y="91"/>
                    </a:lnTo>
                    <a:lnTo>
                      <a:pt x="1297" y="32"/>
                    </a:lnTo>
                    <a:lnTo>
                      <a:pt x="1241" y="8"/>
                    </a:lnTo>
                    <a:lnTo>
                      <a:pt x="1297" y="32"/>
                    </a:lnTo>
                    <a:lnTo>
                      <a:pt x="1296" y="24"/>
                    </a:lnTo>
                    <a:lnTo>
                      <a:pt x="1294" y="18"/>
                    </a:lnTo>
                    <a:lnTo>
                      <a:pt x="1290" y="12"/>
                    </a:lnTo>
                    <a:lnTo>
                      <a:pt x="1286" y="7"/>
                    </a:lnTo>
                    <a:lnTo>
                      <a:pt x="1280" y="4"/>
                    </a:lnTo>
                    <a:lnTo>
                      <a:pt x="1274" y="2"/>
                    </a:lnTo>
                    <a:lnTo>
                      <a:pt x="1269" y="0"/>
                    </a:lnTo>
                    <a:lnTo>
                      <a:pt x="1263" y="0"/>
                    </a:lnTo>
                    <a:lnTo>
                      <a:pt x="1256" y="0"/>
                    </a:lnTo>
                    <a:lnTo>
                      <a:pt x="1250" y="3"/>
                    </a:lnTo>
                    <a:lnTo>
                      <a:pt x="1245" y="5"/>
                    </a:lnTo>
                    <a:lnTo>
                      <a:pt x="1240" y="10"/>
                    </a:lnTo>
                    <a:lnTo>
                      <a:pt x="1235" y="14"/>
                    </a:lnTo>
                    <a:lnTo>
                      <a:pt x="1232" y="20"/>
                    </a:lnTo>
                    <a:lnTo>
                      <a:pt x="1230" y="27"/>
                    </a:lnTo>
                    <a:lnTo>
                      <a:pt x="1230" y="35"/>
                    </a:lnTo>
                    <a:lnTo>
                      <a:pt x="1286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5772240" y="4356000"/>
                <a:ext cx="169920" cy="74880"/>
              </a:xfrm>
              <a:custGeom>
                <a:avLst/>
                <a:gdLst/>
                <a:ahLst/>
                <a:rect l="l" t="t" r="r" b="b"/>
                <a:pathLst>
                  <a:path w="532" h="235">
                    <a:moveTo>
                      <a:pt x="68" y="37"/>
                    </a:moveTo>
                    <a:lnTo>
                      <a:pt x="24" y="65"/>
                    </a:lnTo>
                    <a:lnTo>
                      <a:pt x="38" y="71"/>
                    </a:lnTo>
                    <a:lnTo>
                      <a:pt x="53" y="77"/>
                    </a:lnTo>
                    <a:lnTo>
                      <a:pt x="67" y="83"/>
                    </a:lnTo>
                    <a:lnTo>
                      <a:pt x="80" y="89"/>
                    </a:lnTo>
                    <a:lnTo>
                      <a:pt x="108" y="106"/>
                    </a:lnTo>
                    <a:lnTo>
                      <a:pt x="135" y="125"/>
                    </a:lnTo>
                    <a:lnTo>
                      <a:pt x="162" y="143"/>
                    </a:lnTo>
                    <a:lnTo>
                      <a:pt x="190" y="162"/>
                    </a:lnTo>
                    <a:lnTo>
                      <a:pt x="217" y="182"/>
                    </a:lnTo>
                    <a:lnTo>
                      <a:pt x="245" y="199"/>
                    </a:lnTo>
                    <a:lnTo>
                      <a:pt x="261" y="207"/>
                    </a:lnTo>
                    <a:lnTo>
                      <a:pt x="276" y="215"/>
                    </a:lnTo>
                    <a:lnTo>
                      <a:pt x="292" y="222"/>
                    </a:lnTo>
                    <a:lnTo>
                      <a:pt x="308" y="227"/>
                    </a:lnTo>
                    <a:lnTo>
                      <a:pt x="325" y="231"/>
                    </a:lnTo>
                    <a:lnTo>
                      <a:pt x="342" y="234"/>
                    </a:lnTo>
                    <a:lnTo>
                      <a:pt x="359" y="235"/>
                    </a:lnTo>
                    <a:lnTo>
                      <a:pt x="378" y="235"/>
                    </a:lnTo>
                    <a:lnTo>
                      <a:pt x="396" y="234"/>
                    </a:lnTo>
                    <a:lnTo>
                      <a:pt x="415" y="230"/>
                    </a:lnTo>
                    <a:lnTo>
                      <a:pt x="434" y="224"/>
                    </a:lnTo>
                    <a:lnTo>
                      <a:pt x="453" y="217"/>
                    </a:lnTo>
                    <a:lnTo>
                      <a:pt x="472" y="207"/>
                    </a:lnTo>
                    <a:lnTo>
                      <a:pt x="492" y="195"/>
                    </a:lnTo>
                    <a:lnTo>
                      <a:pt x="511" y="182"/>
                    </a:lnTo>
                    <a:lnTo>
                      <a:pt x="532" y="166"/>
                    </a:lnTo>
                    <a:lnTo>
                      <a:pt x="487" y="114"/>
                    </a:lnTo>
                    <a:lnTo>
                      <a:pt x="471" y="128"/>
                    </a:lnTo>
                    <a:lnTo>
                      <a:pt x="455" y="138"/>
                    </a:lnTo>
                    <a:lnTo>
                      <a:pt x="439" y="148"/>
                    </a:lnTo>
                    <a:lnTo>
                      <a:pt x="426" y="156"/>
                    </a:lnTo>
                    <a:lnTo>
                      <a:pt x="412" y="161"/>
                    </a:lnTo>
                    <a:lnTo>
                      <a:pt x="399" y="165"/>
                    </a:lnTo>
                    <a:lnTo>
                      <a:pt x="387" y="167"/>
                    </a:lnTo>
                    <a:lnTo>
                      <a:pt x="374" y="168"/>
                    </a:lnTo>
                    <a:lnTo>
                      <a:pt x="363" y="168"/>
                    </a:lnTo>
                    <a:lnTo>
                      <a:pt x="350" y="167"/>
                    </a:lnTo>
                    <a:lnTo>
                      <a:pt x="339" y="166"/>
                    </a:lnTo>
                    <a:lnTo>
                      <a:pt x="328" y="162"/>
                    </a:lnTo>
                    <a:lnTo>
                      <a:pt x="316" y="158"/>
                    </a:lnTo>
                    <a:lnTo>
                      <a:pt x="304" y="153"/>
                    </a:lnTo>
                    <a:lnTo>
                      <a:pt x="292" y="148"/>
                    </a:lnTo>
                    <a:lnTo>
                      <a:pt x="280" y="141"/>
                    </a:lnTo>
                    <a:lnTo>
                      <a:pt x="253" y="125"/>
                    </a:lnTo>
                    <a:lnTo>
                      <a:pt x="228" y="108"/>
                    </a:lnTo>
                    <a:lnTo>
                      <a:pt x="201" y="88"/>
                    </a:lnTo>
                    <a:lnTo>
                      <a:pt x="173" y="69"/>
                    </a:lnTo>
                    <a:lnTo>
                      <a:pt x="143" y="49"/>
                    </a:lnTo>
                    <a:lnTo>
                      <a:pt x="113" y="31"/>
                    </a:lnTo>
                    <a:lnTo>
                      <a:pt x="96" y="22"/>
                    </a:lnTo>
                    <a:lnTo>
                      <a:pt x="79" y="14"/>
                    </a:lnTo>
                    <a:lnTo>
                      <a:pt x="62" y="7"/>
                    </a:lnTo>
                    <a:lnTo>
                      <a:pt x="44" y="2"/>
                    </a:lnTo>
                    <a:lnTo>
                      <a:pt x="0" y="30"/>
                    </a:lnTo>
                    <a:lnTo>
                      <a:pt x="44" y="2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2" y="2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7" y="13"/>
                    </a:lnTo>
                    <a:lnTo>
                      <a:pt x="4" y="17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2" y="43"/>
                    </a:lnTo>
                    <a:lnTo>
                      <a:pt x="4" y="48"/>
                    </a:lnTo>
                    <a:lnTo>
                      <a:pt x="6" y="54"/>
                    </a:lnTo>
                    <a:lnTo>
                      <a:pt x="11" y="59"/>
                    </a:lnTo>
                    <a:lnTo>
                      <a:pt x="17" y="63"/>
                    </a:lnTo>
                    <a:lnTo>
                      <a:pt x="24" y="65"/>
                    </a:lnTo>
                    <a:lnTo>
                      <a:pt x="68" y="3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5191200" y="3798720"/>
                <a:ext cx="233280" cy="300240"/>
              </a:xfrm>
              <a:custGeom>
                <a:avLst/>
                <a:gdLst/>
                <a:ahLst/>
                <a:rect l="l" t="t" r="r" b="b"/>
                <a:pathLst>
                  <a:path w="738" h="943">
                    <a:moveTo>
                      <a:pt x="407" y="0"/>
                    </a:moveTo>
                    <a:lnTo>
                      <a:pt x="425" y="5"/>
                    </a:lnTo>
                    <a:lnTo>
                      <a:pt x="444" y="11"/>
                    </a:lnTo>
                    <a:lnTo>
                      <a:pt x="460" y="19"/>
                    </a:lnTo>
                    <a:lnTo>
                      <a:pt x="477" y="26"/>
                    </a:lnTo>
                    <a:lnTo>
                      <a:pt x="492" y="35"/>
                    </a:lnTo>
                    <a:lnTo>
                      <a:pt x="506" y="44"/>
                    </a:lnTo>
                    <a:lnTo>
                      <a:pt x="521" y="53"/>
                    </a:lnTo>
                    <a:lnTo>
                      <a:pt x="535" y="63"/>
                    </a:lnTo>
                    <a:lnTo>
                      <a:pt x="547" y="75"/>
                    </a:lnTo>
                    <a:lnTo>
                      <a:pt x="560" y="86"/>
                    </a:lnTo>
                    <a:lnTo>
                      <a:pt x="573" y="98"/>
                    </a:lnTo>
                    <a:lnTo>
                      <a:pt x="584" y="110"/>
                    </a:lnTo>
                    <a:lnTo>
                      <a:pt x="595" y="124"/>
                    </a:lnTo>
                    <a:lnTo>
                      <a:pt x="606" y="138"/>
                    </a:lnTo>
                    <a:lnTo>
                      <a:pt x="616" y="151"/>
                    </a:lnTo>
                    <a:lnTo>
                      <a:pt x="625" y="166"/>
                    </a:lnTo>
                    <a:lnTo>
                      <a:pt x="643" y="196"/>
                    </a:lnTo>
                    <a:lnTo>
                      <a:pt x="660" y="228"/>
                    </a:lnTo>
                    <a:lnTo>
                      <a:pt x="675" y="262"/>
                    </a:lnTo>
                    <a:lnTo>
                      <a:pt x="690" y="296"/>
                    </a:lnTo>
                    <a:lnTo>
                      <a:pt x="704" y="333"/>
                    </a:lnTo>
                    <a:lnTo>
                      <a:pt x="715" y="369"/>
                    </a:lnTo>
                    <a:lnTo>
                      <a:pt x="728" y="408"/>
                    </a:lnTo>
                    <a:lnTo>
                      <a:pt x="738" y="446"/>
                    </a:lnTo>
                    <a:lnTo>
                      <a:pt x="738" y="463"/>
                    </a:lnTo>
                    <a:lnTo>
                      <a:pt x="738" y="480"/>
                    </a:lnTo>
                    <a:lnTo>
                      <a:pt x="736" y="497"/>
                    </a:lnTo>
                    <a:lnTo>
                      <a:pt x="733" y="513"/>
                    </a:lnTo>
                    <a:lnTo>
                      <a:pt x="731" y="530"/>
                    </a:lnTo>
                    <a:lnTo>
                      <a:pt x="726" y="547"/>
                    </a:lnTo>
                    <a:lnTo>
                      <a:pt x="723" y="564"/>
                    </a:lnTo>
                    <a:lnTo>
                      <a:pt x="717" y="580"/>
                    </a:lnTo>
                    <a:lnTo>
                      <a:pt x="712" y="597"/>
                    </a:lnTo>
                    <a:lnTo>
                      <a:pt x="705" y="614"/>
                    </a:lnTo>
                    <a:lnTo>
                      <a:pt x="698" y="630"/>
                    </a:lnTo>
                    <a:lnTo>
                      <a:pt x="690" y="648"/>
                    </a:lnTo>
                    <a:lnTo>
                      <a:pt x="673" y="680"/>
                    </a:lnTo>
                    <a:lnTo>
                      <a:pt x="652" y="713"/>
                    </a:lnTo>
                    <a:lnTo>
                      <a:pt x="631" y="743"/>
                    </a:lnTo>
                    <a:lnTo>
                      <a:pt x="607" y="775"/>
                    </a:lnTo>
                    <a:lnTo>
                      <a:pt x="581" y="805"/>
                    </a:lnTo>
                    <a:lnTo>
                      <a:pt x="553" y="835"/>
                    </a:lnTo>
                    <a:lnTo>
                      <a:pt x="522" y="863"/>
                    </a:lnTo>
                    <a:lnTo>
                      <a:pt x="492" y="892"/>
                    </a:lnTo>
                    <a:lnTo>
                      <a:pt x="459" y="918"/>
                    </a:lnTo>
                    <a:lnTo>
                      <a:pt x="424" y="943"/>
                    </a:lnTo>
                    <a:lnTo>
                      <a:pt x="375" y="910"/>
                    </a:lnTo>
                    <a:lnTo>
                      <a:pt x="330" y="878"/>
                    </a:lnTo>
                    <a:lnTo>
                      <a:pt x="288" y="848"/>
                    </a:lnTo>
                    <a:lnTo>
                      <a:pt x="249" y="820"/>
                    </a:lnTo>
                    <a:lnTo>
                      <a:pt x="213" y="791"/>
                    </a:lnTo>
                    <a:lnTo>
                      <a:pt x="180" y="764"/>
                    </a:lnTo>
                    <a:lnTo>
                      <a:pt x="166" y="750"/>
                    </a:lnTo>
                    <a:lnTo>
                      <a:pt x="152" y="735"/>
                    </a:lnTo>
                    <a:lnTo>
                      <a:pt x="138" y="722"/>
                    </a:lnTo>
                    <a:lnTo>
                      <a:pt x="126" y="707"/>
                    </a:lnTo>
                    <a:lnTo>
                      <a:pt x="113" y="692"/>
                    </a:lnTo>
                    <a:lnTo>
                      <a:pt x="102" y="676"/>
                    </a:lnTo>
                    <a:lnTo>
                      <a:pt x="91" y="661"/>
                    </a:lnTo>
                    <a:lnTo>
                      <a:pt x="81" y="644"/>
                    </a:lnTo>
                    <a:lnTo>
                      <a:pt x="71" y="628"/>
                    </a:lnTo>
                    <a:lnTo>
                      <a:pt x="62" y="610"/>
                    </a:lnTo>
                    <a:lnTo>
                      <a:pt x="54" y="592"/>
                    </a:lnTo>
                    <a:lnTo>
                      <a:pt x="46" y="573"/>
                    </a:lnTo>
                    <a:lnTo>
                      <a:pt x="39" y="554"/>
                    </a:lnTo>
                    <a:lnTo>
                      <a:pt x="32" y="533"/>
                    </a:lnTo>
                    <a:lnTo>
                      <a:pt x="25" y="512"/>
                    </a:lnTo>
                    <a:lnTo>
                      <a:pt x="20" y="489"/>
                    </a:lnTo>
                    <a:lnTo>
                      <a:pt x="14" y="466"/>
                    </a:lnTo>
                    <a:lnTo>
                      <a:pt x="9" y="441"/>
                    </a:lnTo>
                    <a:lnTo>
                      <a:pt x="5" y="415"/>
                    </a:lnTo>
                    <a:lnTo>
                      <a:pt x="0" y="389"/>
                    </a:lnTo>
                    <a:lnTo>
                      <a:pt x="4" y="367"/>
                    </a:lnTo>
                    <a:lnTo>
                      <a:pt x="8" y="346"/>
                    </a:lnTo>
                    <a:lnTo>
                      <a:pt x="14" y="327"/>
                    </a:lnTo>
                    <a:lnTo>
                      <a:pt x="20" y="308"/>
                    </a:lnTo>
                    <a:lnTo>
                      <a:pt x="26" y="289"/>
                    </a:lnTo>
                    <a:lnTo>
                      <a:pt x="33" y="271"/>
                    </a:lnTo>
                    <a:lnTo>
                      <a:pt x="40" y="253"/>
                    </a:lnTo>
                    <a:lnTo>
                      <a:pt x="48" y="236"/>
                    </a:lnTo>
                    <a:lnTo>
                      <a:pt x="57" y="220"/>
                    </a:lnTo>
                    <a:lnTo>
                      <a:pt x="66" y="204"/>
                    </a:lnTo>
                    <a:lnTo>
                      <a:pt x="76" y="189"/>
                    </a:lnTo>
                    <a:lnTo>
                      <a:pt x="86" y="174"/>
                    </a:lnTo>
                    <a:lnTo>
                      <a:pt x="97" y="159"/>
                    </a:lnTo>
                    <a:lnTo>
                      <a:pt x="109" y="146"/>
                    </a:lnTo>
                    <a:lnTo>
                      <a:pt x="120" y="133"/>
                    </a:lnTo>
                    <a:lnTo>
                      <a:pt x="133" y="120"/>
                    </a:lnTo>
                    <a:lnTo>
                      <a:pt x="145" y="109"/>
                    </a:lnTo>
                    <a:lnTo>
                      <a:pt x="159" y="98"/>
                    </a:lnTo>
                    <a:lnTo>
                      <a:pt x="174" y="86"/>
                    </a:lnTo>
                    <a:lnTo>
                      <a:pt x="187" y="76"/>
                    </a:lnTo>
                    <a:lnTo>
                      <a:pt x="203" y="67"/>
                    </a:lnTo>
                    <a:lnTo>
                      <a:pt x="219" y="58"/>
                    </a:lnTo>
                    <a:lnTo>
                      <a:pt x="235" y="50"/>
                    </a:lnTo>
                    <a:lnTo>
                      <a:pt x="252" y="42"/>
                    </a:lnTo>
                    <a:lnTo>
                      <a:pt x="269" y="35"/>
                    </a:lnTo>
                    <a:lnTo>
                      <a:pt x="288" y="28"/>
                    </a:lnTo>
                    <a:lnTo>
                      <a:pt x="306" y="21"/>
                    </a:lnTo>
                    <a:lnTo>
                      <a:pt x="325" y="16"/>
                    </a:lnTo>
                    <a:lnTo>
                      <a:pt x="345" y="11"/>
                    </a:lnTo>
                    <a:lnTo>
                      <a:pt x="365" y="6"/>
                    </a:lnTo>
                    <a:lnTo>
                      <a:pt x="387" y="3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5316480" y="3789360"/>
                <a:ext cx="119160" cy="162000"/>
              </a:xfrm>
              <a:custGeom>
                <a:avLst/>
                <a:gdLst/>
                <a:ahLst/>
                <a:rect l="l" t="t" r="r" b="b"/>
                <a:pathLst>
                  <a:path w="374" h="514">
                    <a:moveTo>
                      <a:pt x="374" y="480"/>
                    </a:moveTo>
                    <a:lnTo>
                      <a:pt x="373" y="472"/>
                    </a:lnTo>
                    <a:lnTo>
                      <a:pt x="362" y="432"/>
                    </a:lnTo>
                    <a:lnTo>
                      <a:pt x="349" y="393"/>
                    </a:lnTo>
                    <a:lnTo>
                      <a:pt x="336" y="355"/>
                    </a:lnTo>
                    <a:lnTo>
                      <a:pt x="324" y="319"/>
                    </a:lnTo>
                    <a:lnTo>
                      <a:pt x="309" y="282"/>
                    </a:lnTo>
                    <a:lnTo>
                      <a:pt x="292" y="248"/>
                    </a:lnTo>
                    <a:lnTo>
                      <a:pt x="275" y="214"/>
                    </a:lnTo>
                    <a:lnTo>
                      <a:pt x="255" y="182"/>
                    </a:lnTo>
                    <a:lnTo>
                      <a:pt x="245" y="166"/>
                    </a:lnTo>
                    <a:lnTo>
                      <a:pt x="235" y="151"/>
                    </a:lnTo>
                    <a:lnTo>
                      <a:pt x="224" y="136"/>
                    </a:lnTo>
                    <a:lnTo>
                      <a:pt x="211" y="123"/>
                    </a:lnTo>
                    <a:lnTo>
                      <a:pt x="198" y="109"/>
                    </a:lnTo>
                    <a:lnTo>
                      <a:pt x="186" y="95"/>
                    </a:lnTo>
                    <a:lnTo>
                      <a:pt x="172" y="84"/>
                    </a:lnTo>
                    <a:lnTo>
                      <a:pt x="157" y="71"/>
                    </a:lnTo>
                    <a:lnTo>
                      <a:pt x="143" y="60"/>
                    </a:lnTo>
                    <a:lnTo>
                      <a:pt x="127" y="50"/>
                    </a:lnTo>
                    <a:lnTo>
                      <a:pt x="111" y="39"/>
                    </a:lnTo>
                    <a:lnTo>
                      <a:pt x="94" y="30"/>
                    </a:lnTo>
                    <a:lnTo>
                      <a:pt x="75" y="22"/>
                    </a:lnTo>
                    <a:lnTo>
                      <a:pt x="57" y="14"/>
                    </a:lnTo>
                    <a:lnTo>
                      <a:pt x="39" y="7"/>
                    </a:lnTo>
                    <a:lnTo>
                      <a:pt x="18" y="0"/>
                    </a:lnTo>
                    <a:lnTo>
                      <a:pt x="0" y="65"/>
                    </a:lnTo>
                    <a:lnTo>
                      <a:pt x="17" y="71"/>
                    </a:lnTo>
                    <a:lnTo>
                      <a:pt x="33" y="77"/>
                    </a:lnTo>
                    <a:lnTo>
                      <a:pt x="48" y="84"/>
                    </a:lnTo>
                    <a:lnTo>
                      <a:pt x="63" y="91"/>
                    </a:lnTo>
                    <a:lnTo>
                      <a:pt x="77" y="97"/>
                    </a:lnTo>
                    <a:lnTo>
                      <a:pt x="90" y="107"/>
                    </a:lnTo>
                    <a:lnTo>
                      <a:pt x="104" y="115"/>
                    </a:lnTo>
                    <a:lnTo>
                      <a:pt x="115" y="124"/>
                    </a:lnTo>
                    <a:lnTo>
                      <a:pt x="128" y="134"/>
                    </a:lnTo>
                    <a:lnTo>
                      <a:pt x="139" y="144"/>
                    </a:lnTo>
                    <a:lnTo>
                      <a:pt x="149" y="156"/>
                    </a:lnTo>
                    <a:lnTo>
                      <a:pt x="161" y="167"/>
                    </a:lnTo>
                    <a:lnTo>
                      <a:pt x="171" y="178"/>
                    </a:lnTo>
                    <a:lnTo>
                      <a:pt x="180" y="191"/>
                    </a:lnTo>
                    <a:lnTo>
                      <a:pt x="191" y="205"/>
                    </a:lnTo>
                    <a:lnTo>
                      <a:pt x="198" y="217"/>
                    </a:lnTo>
                    <a:lnTo>
                      <a:pt x="217" y="247"/>
                    </a:lnTo>
                    <a:lnTo>
                      <a:pt x="232" y="277"/>
                    </a:lnTo>
                    <a:lnTo>
                      <a:pt x="246" y="310"/>
                    </a:lnTo>
                    <a:lnTo>
                      <a:pt x="260" y="343"/>
                    </a:lnTo>
                    <a:lnTo>
                      <a:pt x="274" y="378"/>
                    </a:lnTo>
                    <a:lnTo>
                      <a:pt x="285" y="413"/>
                    </a:lnTo>
                    <a:lnTo>
                      <a:pt x="297" y="451"/>
                    </a:lnTo>
                    <a:lnTo>
                      <a:pt x="308" y="489"/>
                    </a:lnTo>
                    <a:lnTo>
                      <a:pt x="307" y="481"/>
                    </a:lnTo>
                    <a:lnTo>
                      <a:pt x="308" y="489"/>
                    </a:lnTo>
                    <a:lnTo>
                      <a:pt x="310" y="497"/>
                    </a:lnTo>
                    <a:lnTo>
                      <a:pt x="315" y="502"/>
                    </a:lnTo>
                    <a:lnTo>
                      <a:pt x="319" y="507"/>
                    </a:lnTo>
                    <a:lnTo>
                      <a:pt x="325" y="510"/>
                    </a:lnTo>
                    <a:lnTo>
                      <a:pt x="331" y="513"/>
                    </a:lnTo>
                    <a:lnTo>
                      <a:pt x="336" y="514"/>
                    </a:lnTo>
                    <a:lnTo>
                      <a:pt x="343" y="514"/>
                    </a:lnTo>
                    <a:lnTo>
                      <a:pt x="349" y="513"/>
                    </a:lnTo>
                    <a:lnTo>
                      <a:pt x="355" y="510"/>
                    </a:lnTo>
                    <a:lnTo>
                      <a:pt x="360" y="507"/>
                    </a:lnTo>
                    <a:lnTo>
                      <a:pt x="365" y="504"/>
                    </a:lnTo>
                    <a:lnTo>
                      <a:pt x="369" y="498"/>
                    </a:lnTo>
                    <a:lnTo>
                      <a:pt x="372" y="492"/>
                    </a:lnTo>
                    <a:lnTo>
                      <a:pt x="374" y="486"/>
                    </a:lnTo>
                    <a:lnTo>
                      <a:pt x="374" y="480"/>
                    </a:lnTo>
                    <a:lnTo>
                      <a:pt x="373" y="472"/>
                    </a:lnTo>
                    <a:lnTo>
                      <a:pt x="374" y="4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5315040" y="3941640"/>
                <a:ext cx="120600" cy="168480"/>
              </a:xfrm>
              <a:custGeom>
                <a:avLst/>
                <a:gdLst/>
                <a:ahLst/>
                <a:rect l="l" t="t" r="r" b="b"/>
                <a:pathLst>
                  <a:path w="382" h="532">
                    <a:moveTo>
                      <a:pt x="16" y="526"/>
                    </a:moveTo>
                    <a:lnTo>
                      <a:pt x="54" y="524"/>
                    </a:lnTo>
                    <a:lnTo>
                      <a:pt x="89" y="498"/>
                    </a:lnTo>
                    <a:lnTo>
                      <a:pt x="123" y="471"/>
                    </a:lnTo>
                    <a:lnTo>
                      <a:pt x="155" y="442"/>
                    </a:lnTo>
                    <a:lnTo>
                      <a:pt x="186" y="413"/>
                    </a:lnTo>
                    <a:lnTo>
                      <a:pt x="216" y="382"/>
                    </a:lnTo>
                    <a:lnTo>
                      <a:pt x="243" y="350"/>
                    </a:lnTo>
                    <a:lnTo>
                      <a:pt x="268" y="318"/>
                    </a:lnTo>
                    <a:lnTo>
                      <a:pt x="291" y="285"/>
                    </a:lnTo>
                    <a:lnTo>
                      <a:pt x="311" y="251"/>
                    </a:lnTo>
                    <a:lnTo>
                      <a:pt x="330" y="216"/>
                    </a:lnTo>
                    <a:lnTo>
                      <a:pt x="339" y="198"/>
                    </a:lnTo>
                    <a:lnTo>
                      <a:pt x="346" y="181"/>
                    </a:lnTo>
                    <a:lnTo>
                      <a:pt x="354" y="163"/>
                    </a:lnTo>
                    <a:lnTo>
                      <a:pt x="359" y="145"/>
                    </a:lnTo>
                    <a:lnTo>
                      <a:pt x="365" y="127"/>
                    </a:lnTo>
                    <a:lnTo>
                      <a:pt x="370" y="109"/>
                    </a:lnTo>
                    <a:lnTo>
                      <a:pt x="374" y="91"/>
                    </a:lnTo>
                    <a:lnTo>
                      <a:pt x="377" y="73"/>
                    </a:lnTo>
                    <a:lnTo>
                      <a:pt x="380" y="54"/>
                    </a:lnTo>
                    <a:lnTo>
                      <a:pt x="381" y="36"/>
                    </a:lnTo>
                    <a:lnTo>
                      <a:pt x="382" y="18"/>
                    </a:lnTo>
                    <a:lnTo>
                      <a:pt x="382" y="0"/>
                    </a:lnTo>
                    <a:lnTo>
                      <a:pt x="315" y="1"/>
                    </a:lnTo>
                    <a:lnTo>
                      <a:pt x="315" y="17"/>
                    </a:lnTo>
                    <a:lnTo>
                      <a:pt x="314" y="32"/>
                    </a:lnTo>
                    <a:lnTo>
                      <a:pt x="313" y="46"/>
                    </a:lnTo>
                    <a:lnTo>
                      <a:pt x="310" y="62"/>
                    </a:lnTo>
                    <a:lnTo>
                      <a:pt x="308" y="77"/>
                    </a:lnTo>
                    <a:lnTo>
                      <a:pt x="305" y="93"/>
                    </a:lnTo>
                    <a:lnTo>
                      <a:pt x="300" y="109"/>
                    </a:lnTo>
                    <a:lnTo>
                      <a:pt x="295" y="124"/>
                    </a:lnTo>
                    <a:lnTo>
                      <a:pt x="290" y="140"/>
                    </a:lnTo>
                    <a:lnTo>
                      <a:pt x="284" y="155"/>
                    </a:lnTo>
                    <a:lnTo>
                      <a:pt x="277" y="171"/>
                    </a:lnTo>
                    <a:lnTo>
                      <a:pt x="270" y="186"/>
                    </a:lnTo>
                    <a:lnTo>
                      <a:pt x="253" y="218"/>
                    </a:lnTo>
                    <a:lnTo>
                      <a:pt x="235" y="247"/>
                    </a:lnTo>
                    <a:lnTo>
                      <a:pt x="213" y="278"/>
                    </a:lnTo>
                    <a:lnTo>
                      <a:pt x="191" y="308"/>
                    </a:lnTo>
                    <a:lnTo>
                      <a:pt x="165" y="337"/>
                    </a:lnTo>
                    <a:lnTo>
                      <a:pt x="139" y="365"/>
                    </a:lnTo>
                    <a:lnTo>
                      <a:pt x="110" y="393"/>
                    </a:lnTo>
                    <a:lnTo>
                      <a:pt x="80" y="419"/>
                    </a:lnTo>
                    <a:lnTo>
                      <a:pt x="48" y="446"/>
                    </a:lnTo>
                    <a:lnTo>
                      <a:pt x="15" y="470"/>
                    </a:lnTo>
                    <a:lnTo>
                      <a:pt x="54" y="470"/>
                    </a:lnTo>
                    <a:lnTo>
                      <a:pt x="15" y="470"/>
                    </a:lnTo>
                    <a:lnTo>
                      <a:pt x="9" y="475"/>
                    </a:lnTo>
                    <a:lnTo>
                      <a:pt x="5" y="481"/>
                    </a:lnTo>
                    <a:lnTo>
                      <a:pt x="2" y="487"/>
                    </a:lnTo>
                    <a:lnTo>
                      <a:pt x="0" y="494"/>
                    </a:lnTo>
                    <a:lnTo>
                      <a:pt x="0" y="499"/>
                    </a:lnTo>
                    <a:lnTo>
                      <a:pt x="1" y="506"/>
                    </a:lnTo>
                    <a:lnTo>
                      <a:pt x="4" y="512"/>
                    </a:lnTo>
                    <a:lnTo>
                      <a:pt x="7" y="518"/>
                    </a:lnTo>
                    <a:lnTo>
                      <a:pt x="12" y="522"/>
                    </a:lnTo>
                    <a:lnTo>
                      <a:pt x="16" y="526"/>
                    </a:lnTo>
                    <a:lnTo>
                      <a:pt x="22" y="529"/>
                    </a:lnTo>
                    <a:lnTo>
                      <a:pt x="28" y="531"/>
                    </a:lnTo>
                    <a:lnTo>
                      <a:pt x="34" y="532"/>
                    </a:lnTo>
                    <a:lnTo>
                      <a:pt x="40" y="531"/>
                    </a:lnTo>
                    <a:lnTo>
                      <a:pt x="47" y="529"/>
                    </a:lnTo>
                    <a:lnTo>
                      <a:pt x="54" y="524"/>
                    </a:lnTo>
                    <a:lnTo>
                      <a:pt x="16" y="5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5180040" y="3911760"/>
                <a:ext cx="150840" cy="196560"/>
              </a:xfrm>
              <a:custGeom>
                <a:avLst/>
                <a:gdLst/>
                <a:ahLst/>
                <a:rect l="l" t="t" r="r" b="b"/>
                <a:pathLst>
                  <a:path w="478" h="618">
                    <a:moveTo>
                      <a:pt x="1" y="28"/>
                    </a:moveTo>
                    <a:lnTo>
                      <a:pt x="1" y="39"/>
                    </a:lnTo>
                    <a:lnTo>
                      <a:pt x="5" y="67"/>
                    </a:lnTo>
                    <a:lnTo>
                      <a:pt x="9" y="94"/>
                    </a:lnTo>
                    <a:lnTo>
                      <a:pt x="15" y="119"/>
                    </a:lnTo>
                    <a:lnTo>
                      <a:pt x="21" y="143"/>
                    </a:lnTo>
                    <a:lnTo>
                      <a:pt x="26" y="167"/>
                    </a:lnTo>
                    <a:lnTo>
                      <a:pt x="33" y="190"/>
                    </a:lnTo>
                    <a:lnTo>
                      <a:pt x="41" y="210"/>
                    </a:lnTo>
                    <a:lnTo>
                      <a:pt x="49" y="232"/>
                    </a:lnTo>
                    <a:lnTo>
                      <a:pt x="57" y="251"/>
                    </a:lnTo>
                    <a:lnTo>
                      <a:pt x="66" y="271"/>
                    </a:lnTo>
                    <a:lnTo>
                      <a:pt x="75" y="290"/>
                    </a:lnTo>
                    <a:lnTo>
                      <a:pt x="86" y="307"/>
                    </a:lnTo>
                    <a:lnTo>
                      <a:pt x="97" y="326"/>
                    </a:lnTo>
                    <a:lnTo>
                      <a:pt x="108" y="343"/>
                    </a:lnTo>
                    <a:lnTo>
                      <a:pt x="121" y="359"/>
                    </a:lnTo>
                    <a:lnTo>
                      <a:pt x="133" y="375"/>
                    </a:lnTo>
                    <a:lnTo>
                      <a:pt x="147" y="389"/>
                    </a:lnTo>
                    <a:lnTo>
                      <a:pt x="162" y="405"/>
                    </a:lnTo>
                    <a:lnTo>
                      <a:pt x="177" y="420"/>
                    </a:lnTo>
                    <a:lnTo>
                      <a:pt x="193" y="435"/>
                    </a:lnTo>
                    <a:lnTo>
                      <a:pt x="226" y="464"/>
                    </a:lnTo>
                    <a:lnTo>
                      <a:pt x="262" y="492"/>
                    </a:lnTo>
                    <a:lnTo>
                      <a:pt x="301" y="522"/>
                    </a:lnTo>
                    <a:lnTo>
                      <a:pt x="344" y="553"/>
                    </a:lnTo>
                    <a:lnTo>
                      <a:pt x="390" y="583"/>
                    </a:lnTo>
                    <a:lnTo>
                      <a:pt x="440" y="618"/>
                    </a:lnTo>
                    <a:lnTo>
                      <a:pt x="478" y="562"/>
                    </a:lnTo>
                    <a:lnTo>
                      <a:pt x="428" y="529"/>
                    </a:lnTo>
                    <a:lnTo>
                      <a:pt x="382" y="497"/>
                    </a:lnTo>
                    <a:lnTo>
                      <a:pt x="341" y="467"/>
                    </a:lnTo>
                    <a:lnTo>
                      <a:pt x="303" y="438"/>
                    </a:lnTo>
                    <a:lnTo>
                      <a:pt x="268" y="412"/>
                    </a:lnTo>
                    <a:lnTo>
                      <a:pt x="237" y="385"/>
                    </a:lnTo>
                    <a:lnTo>
                      <a:pt x="224" y="371"/>
                    </a:lnTo>
                    <a:lnTo>
                      <a:pt x="210" y="359"/>
                    </a:lnTo>
                    <a:lnTo>
                      <a:pt x="197" y="345"/>
                    </a:lnTo>
                    <a:lnTo>
                      <a:pt x="185" y="331"/>
                    </a:lnTo>
                    <a:lnTo>
                      <a:pt x="173" y="318"/>
                    </a:lnTo>
                    <a:lnTo>
                      <a:pt x="163" y="303"/>
                    </a:lnTo>
                    <a:lnTo>
                      <a:pt x="153" y="288"/>
                    </a:lnTo>
                    <a:lnTo>
                      <a:pt x="144" y="273"/>
                    </a:lnTo>
                    <a:lnTo>
                      <a:pt x="135" y="257"/>
                    </a:lnTo>
                    <a:lnTo>
                      <a:pt x="127" y="241"/>
                    </a:lnTo>
                    <a:lnTo>
                      <a:pt x="119" y="224"/>
                    </a:lnTo>
                    <a:lnTo>
                      <a:pt x="112" y="207"/>
                    </a:lnTo>
                    <a:lnTo>
                      <a:pt x="105" y="189"/>
                    </a:lnTo>
                    <a:lnTo>
                      <a:pt x="98" y="169"/>
                    </a:lnTo>
                    <a:lnTo>
                      <a:pt x="91" y="149"/>
                    </a:lnTo>
                    <a:lnTo>
                      <a:pt x="87" y="127"/>
                    </a:lnTo>
                    <a:lnTo>
                      <a:pt x="81" y="104"/>
                    </a:lnTo>
                    <a:lnTo>
                      <a:pt x="76" y="80"/>
                    </a:lnTo>
                    <a:lnTo>
                      <a:pt x="72" y="56"/>
                    </a:lnTo>
                    <a:lnTo>
                      <a:pt x="67" y="29"/>
                    </a:lnTo>
                    <a:lnTo>
                      <a:pt x="67" y="40"/>
                    </a:lnTo>
                    <a:lnTo>
                      <a:pt x="67" y="29"/>
                    </a:lnTo>
                    <a:lnTo>
                      <a:pt x="65" y="22"/>
                    </a:lnTo>
                    <a:lnTo>
                      <a:pt x="63" y="15"/>
                    </a:lnTo>
                    <a:lnTo>
                      <a:pt x="58" y="9"/>
                    </a:lnTo>
                    <a:lnTo>
                      <a:pt x="54" y="6"/>
                    </a:lnTo>
                    <a:lnTo>
                      <a:pt x="48" y="3"/>
                    </a:lnTo>
                    <a:lnTo>
                      <a:pt x="41" y="2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3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3" y="17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1" y="39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5180040" y="3787920"/>
                <a:ext cx="150840" cy="136440"/>
              </a:xfrm>
              <a:custGeom>
                <a:avLst/>
                <a:gdLst/>
                <a:ahLst/>
                <a:rect l="l" t="t" r="r" b="b"/>
                <a:pathLst>
                  <a:path w="474" h="429">
                    <a:moveTo>
                      <a:pt x="449" y="1"/>
                    </a:moveTo>
                    <a:lnTo>
                      <a:pt x="436" y="1"/>
                    </a:lnTo>
                    <a:lnTo>
                      <a:pt x="414" y="5"/>
                    </a:lnTo>
                    <a:lnTo>
                      <a:pt x="391" y="8"/>
                    </a:lnTo>
                    <a:lnTo>
                      <a:pt x="371" y="13"/>
                    </a:lnTo>
                    <a:lnTo>
                      <a:pt x="350" y="19"/>
                    </a:lnTo>
                    <a:lnTo>
                      <a:pt x="330" y="24"/>
                    </a:lnTo>
                    <a:lnTo>
                      <a:pt x="309" y="31"/>
                    </a:lnTo>
                    <a:lnTo>
                      <a:pt x="290" y="38"/>
                    </a:lnTo>
                    <a:lnTo>
                      <a:pt x="272" y="46"/>
                    </a:lnTo>
                    <a:lnTo>
                      <a:pt x="253" y="54"/>
                    </a:lnTo>
                    <a:lnTo>
                      <a:pt x="236" y="63"/>
                    </a:lnTo>
                    <a:lnTo>
                      <a:pt x="219" y="73"/>
                    </a:lnTo>
                    <a:lnTo>
                      <a:pt x="202" y="84"/>
                    </a:lnTo>
                    <a:lnTo>
                      <a:pt x="186" y="95"/>
                    </a:lnTo>
                    <a:lnTo>
                      <a:pt x="171" y="106"/>
                    </a:lnTo>
                    <a:lnTo>
                      <a:pt x="156" y="119"/>
                    </a:lnTo>
                    <a:lnTo>
                      <a:pt x="143" y="132"/>
                    </a:lnTo>
                    <a:lnTo>
                      <a:pt x="129" y="145"/>
                    </a:lnTo>
                    <a:lnTo>
                      <a:pt x="115" y="159"/>
                    </a:lnTo>
                    <a:lnTo>
                      <a:pt x="103" y="174"/>
                    </a:lnTo>
                    <a:lnTo>
                      <a:pt x="91" y="189"/>
                    </a:lnTo>
                    <a:lnTo>
                      <a:pt x="81" y="205"/>
                    </a:lnTo>
                    <a:lnTo>
                      <a:pt x="70" y="222"/>
                    </a:lnTo>
                    <a:lnTo>
                      <a:pt x="61" y="239"/>
                    </a:lnTo>
                    <a:lnTo>
                      <a:pt x="52" y="256"/>
                    </a:lnTo>
                    <a:lnTo>
                      <a:pt x="42" y="274"/>
                    </a:lnTo>
                    <a:lnTo>
                      <a:pt x="34" y="294"/>
                    </a:lnTo>
                    <a:lnTo>
                      <a:pt x="28" y="313"/>
                    </a:lnTo>
                    <a:lnTo>
                      <a:pt x="21" y="332"/>
                    </a:lnTo>
                    <a:lnTo>
                      <a:pt x="15" y="353"/>
                    </a:lnTo>
                    <a:lnTo>
                      <a:pt x="9" y="373"/>
                    </a:lnTo>
                    <a:lnTo>
                      <a:pt x="4" y="395"/>
                    </a:lnTo>
                    <a:lnTo>
                      <a:pt x="0" y="417"/>
                    </a:lnTo>
                    <a:lnTo>
                      <a:pt x="66" y="429"/>
                    </a:lnTo>
                    <a:lnTo>
                      <a:pt x="70" y="409"/>
                    </a:lnTo>
                    <a:lnTo>
                      <a:pt x="74" y="391"/>
                    </a:lnTo>
                    <a:lnTo>
                      <a:pt x="80" y="371"/>
                    </a:lnTo>
                    <a:lnTo>
                      <a:pt x="85" y="353"/>
                    </a:lnTo>
                    <a:lnTo>
                      <a:pt x="91" y="336"/>
                    </a:lnTo>
                    <a:lnTo>
                      <a:pt x="97" y="319"/>
                    </a:lnTo>
                    <a:lnTo>
                      <a:pt x="104" y="302"/>
                    </a:lnTo>
                    <a:lnTo>
                      <a:pt x="112" y="287"/>
                    </a:lnTo>
                    <a:lnTo>
                      <a:pt x="120" y="271"/>
                    </a:lnTo>
                    <a:lnTo>
                      <a:pt x="128" y="256"/>
                    </a:lnTo>
                    <a:lnTo>
                      <a:pt x="137" y="242"/>
                    </a:lnTo>
                    <a:lnTo>
                      <a:pt x="146" y="229"/>
                    </a:lnTo>
                    <a:lnTo>
                      <a:pt x="156" y="216"/>
                    </a:lnTo>
                    <a:lnTo>
                      <a:pt x="167" y="203"/>
                    </a:lnTo>
                    <a:lnTo>
                      <a:pt x="177" y="191"/>
                    </a:lnTo>
                    <a:lnTo>
                      <a:pt x="188" y="181"/>
                    </a:lnTo>
                    <a:lnTo>
                      <a:pt x="201" y="169"/>
                    </a:lnTo>
                    <a:lnTo>
                      <a:pt x="213" y="159"/>
                    </a:lnTo>
                    <a:lnTo>
                      <a:pt x="226" y="149"/>
                    </a:lnTo>
                    <a:lnTo>
                      <a:pt x="240" y="140"/>
                    </a:lnTo>
                    <a:lnTo>
                      <a:pt x="253" y="130"/>
                    </a:lnTo>
                    <a:lnTo>
                      <a:pt x="268" y="122"/>
                    </a:lnTo>
                    <a:lnTo>
                      <a:pt x="283" y="114"/>
                    </a:lnTo>
                    <a:lnTo>
                      <a:pt x="299" y="108"/>
                    </a:lnTo>
                    <a:lnTo>
                      <a:pt x="315" y="101"/>
                    </a:lnTo>
                    <a:lnTo>
                      <a:pt x="332" y="95"/>
                    </a:lnTo>
                    <a:lnTo>
                      <a:pt x="349" y="89"/>
                    </a:lnTo>
                    <a:lnTo>
                      <a:pt x="367" y="84"/>
                    </a:lnTo>
                    <a:lnTo>
                      <a:pt x="386" y="79"/>
                    </a:lnTo>
                    <a:lnTo>
                      <a:pt x="405" y="74"/>
                    </a:lnTo>
                    <a:lnTo>
                      <a:pt x="424" y="71"/>
                    </a:lnTo>
                    <a:lnTo>
                      <a:pt x="445" y="68"/>
                    </a:lnTo>
                    <a:lnTo>
                      <a:pt x="431" y="66"/>
                    </a:lnTo>
                    <a:lnTo>
                      <a:pt x="445" y="68"/>
                    </a:lnTo>
                    <a:lnTo>
                      <a:pt x="453" y="66"/>
                    </a:lnTo>
                    <a:lnTo>
                      <a:pt x="460" y="63"/>
                    </a:lnTo>
                    <a:lnTo>
                      <a:pt x="464" y="59"/>
                    </a:lnTo>
                    <a:lnTo>
                      <a:pt x="469" y="54"/>
                    </a:lnTo>
                    <a:lnTo>
                      <a:pt x="472" y="48"/>
                    </a:lnTo>
                    <a:lnTo>
                      <a:pt x="473" y="43"/>
                    </a:lnTo>
                    <a:lnTo>
                      <a:pt x="474" y="37"/>
                    </a:lnTo>
                    <a:lnTo>
                      <a:pt x="474" y="30"/>
                    </a:lnTo>
                    <a:lnTo>
                      <a:pt x="473" y="24"/>
                    </a:lnTo>
                    <a:lnTo>
                      <a:pt x="470" y="19"/>
                    </a:lnTo>
                    <a:lnTo>
                      <a:pt x="466" y="13"/>
                    </a:lnTo>
                    <a:lnTo>
                      <a:pt x="463" y="8"/>
                    </a:lnTo>
                    <a:lnTo>
                      <a:pt x="457" y="5"/>
                    </a:lnTo>
                    <a:lnTo>
                      <a:pt x="452" y="3"/>
                    </a:lnTo>
                    <a:lnTo>
                      <a:pt x="444" y="0"/>
                    </a:lnTo>
                    <a:lnTo>
                      <a:pt x="436" y="1"/>
                    </a:lnTo>
                    <a:lnTo>
                      <a:pt x="449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5400720" y="3967200"/>
                <a:ext cx="272880" cy="350640"/>
              </a:xfrm>
              <a:custGeom>
                <a:avLst/>
                <a:gdLst/>
                <a:ahLst/>
                <a:rect l="l" t="t" r="r" b="b"/>
                <a:pathLst>
                  <a:path w="860" h="1106">
                    <a:moveTo>
                      <a:pt x="475" y="0"/>
                    </a:moveTo>
                    <a:lnTo>
                      <a:pt x="496" y="7"/>
                    </a:lnTo>
                    <a:lnTo>
                      <a:pt x="516" y="15"/>
                    </a:lnTo>
                    <a:lnTo>
                      <a:pt x="536" y="23"/>
                    </a:lnTo>
                    <a:lnTo>
                      <a:pt x="555" y="32"/>
                    </a:lnTo>
                    <a:lnTo>
                      <a:pt x="573" y="41"/>
                    </a:lnTo>
                    <a:lnTo>
                      <a:pt x="590" y="52"/>
                    </a:lnTo>
                    <a:lnTo>
                      <a:pt x="607" y="64"/>
                    </a:lnTo>
                    <a:lnTo>
                      <a:pt x="623" y="75"/>
                    </a:lnTo>
                    <a:lnTo>
                      <a:pt x="638" y="88"/>
                    </a:lnTo>
                    <a:lnTo>
                      <a:pt x="653" y="101"/>
                    </a:lnTo>
                    <a:lnTo>
                      <a:pt x="668" y="116"/>
                    </a:lnTo>
                    <a:lnTo>
                      <a:pt x="680" y="130"/>
                    </a:lnTo>
                    <a:lnTo>
                      <a:pt x="694" y="146"/>
                    </a:lnTo>
                    <a:lnTo>
                      <a:pt x="707" y="162"/>
                    </a:lnTo>
                    <a:lnTo>
                      <a:pt x="718" y="178"/>
                    </a:lnTo>
                    <a:lnTo>
                      <a:pt x="729" y="195"/>
                    </a:lnTo>
                    <a:lnTo>
                      <a:pt x="740" y="212"/>
                    </a:lnTo>
                    <a:lnTo>
                      <a:pt x="750" y="230"/>
                    </a:lnTo>
                    <a:lnTo>
                      <a:pt x="760" y="248"/>
                    </a:lnTo>
                    <a:lnTo>
                      <a:pt x="770" y="268"/>
                    </a:lnTo>
                    <a:lnTo>
                      <a:pt x="787" y="307"/>
                    </a:lnTo>
                    <a:lnTo>
                      <a:pt x="805" y="348"/>
                    </a:lnTo>
                    <a:lnTo>
                      <a:pt x="819" y="390"/>
                    </a:lnTo>
                    <a:lnTo>
                      <a:pt x="834" y="433"/>
                    </a:lnTo>
                    <a:lnTo>
                      <a:pt x="848" y="477"/>
                    </a:lnTo>
                    <a:lnTo>
                      <a:pt x="860" y="522"/>
                    </a:lnTo>
                    <a:lnTo>
                      <a:pt x="860" y="542"/>
                    </a:lnTo>
                    <a:lnTo>
                      <a:pt x="860" y="561"/>
                    </a:lnTo>
                    <a:lnTo>
                      <a:pt x="858" y="580"/>
                    </a:lnTo>
                    <a:lnTo>
                      <a:pt x="856" y="601"/>
                    </a:lnTo>
                    <a:lnTo>
                      <a:pt x="852" y="620"/>
                    </a:lnTo>
                    <a:lnTo>
                      <a:pt x="848" y="640"/>
                    </a:lnTo>
                    <a:lnTo>
                      <a:pt x="843" y="660"/>
                    </a:lnTo>
                    <a:lnTo>
                      <a:pt x="837" y="680"/>
                    </a:lnTo>
                    <a:lnTo>
                      <a:pt x="830" y="699"/>
                    </a:lnTo>
                    <a:lnTo>
                      <a:pt x="823" y="719"/>
                    </a:lnTo>
                    <a:lnTo>
                      <a:pt x="814" y="738"/>
                    </a:lnTo>
                    <a:lnTo>
                      <a:pt x="805" y="757"/>
                    </a:lnTo>
                    <a:lnTo>
                      <a:pt x="795" y="777"/>
                    </a:lnTo>
                    <a:lnTo>
                      <a:pt x="785" y="796"/>
                    </a:lnTo>
                    <a:lnTo>
                      <a:pt x="774" y="816"/>
                    </a:lnTo>
                    <a:lnTo>
                      <a:pt x="761" y="834"/>
                    </a:lnTo>
                    <a:lnTo>
                      <a:pt x="749" y="853"/>
                    </a:lnTo>
                    <a:lnTo>
                      <a:pt x="736" y="871"/>
                    </a:lnTo>
                    <a:lnTo>
                      <a:pt x="723" y="890"/>
                    </a:lnTo>
                    <a:lnTo>
                      <a:pt x="708" y="908"/>
                    </a:lnTo>
                    <a:lnTo>
                      <a:pt x="677" y="943"/>
                    </a:lnTo>
                    <a:lnTo>
                      <a:pt x="645" y="979"/>
                    </a:lnTo>
                    <a:lnTo>
                      <a:pt x="611" y="1012"/>
                    </a:lnTo>
                    <a:lnTo>
                      <a:pt x="574" y="1045"/>
                    </a:lnTo>
                    <a:lnTo>
                      <a:pt x="536" y="1076"/>
                    </a:lnTo>
                    <a:lnTo>
                      <a:pt x="497" y="1106"/>
                    </a:lnTo>
                    <a:lnTo>
                      <a:pt x="438" y="1067"/>
                    </a:lnTo>
                    <a:lnTo>
                      <a:pt x="384" y="1029"/>
                    </a:lnTo>
                    <a:lnTo>
                      <a:pt x="334" y="993"/>
                    </a:lnTo>
                    <a:lnTo>
                      <a:pt x="288" y="960"/>
                    </a:lnTo>
                    <a:lnTo>
                      <a:pt x="268" y="943"/>
                    </a:lnTo>
                    <a:lnTo>
                      <a:pt x="247" y="927"/>
                    </a:lnTo>
                    <a:lnTo>
                      <a:pt x="228" y="911"/>
                    </a:lnTo>
                    <a:lnTo>
                      <a:pt x="210" y="894"/>
                    </a:lnTo>
                    <a:lnTo>
                      <a:pt x="192" y="878"/>
                    </a:lnTo>
                    <a:lnTo>
                      <a:pt x="175" y="861"/>
                    </a:lnTo>
                    <a:lnTo>
                      <a:pt x="159" y="845"/>
                    </a:lnTo>
                    <a:lnTo>
                      <a:pt x="145" y="828"/>
                    </a:lnTo>
                    <a:lnTo>
                      <a:pt x="131" y="810"/>
                    </a:lnTo>
                    <a:lnTo>
                      <a:pt x="117" y="793"/>
                    </a:lnTo>
                    <a:lnTo>
                      <a:pt x="105" y="773"/>
                    </a:lnTo>
                    <a:lnTo>
                      <a:pt x="93" y="755"/>
                    </a:lnTo>
                    <a:lnTo>
                      <a:pt x="82" y="736"/>
                    </a:lnTo>
                    <a:lnTo>
                      <a:pt x="72" y="715"/>
                    </a:lnTo>
                    <a:lnTo>
                      <a:pt x="61" y="693"/>
                    </a:lnTo>
                    <a:lnTo>
                      <a:pt x="52" y="672"/>
                    </a:lnTo>
                    <a:lnTo>
                      <a:pt x="44" y="649"/>
                    </a:lnTo>
                    <a:lnTo>
                      <a:pt x="36" y="625"/>
                    </a:lnTo>
                    <a:lnTo>
                      <a:pt x="28" y="600"/>
                    </a:lnTo>
                    <a:lnTo>
                      <a:pt x="21" y="574"/>
                    </a:lnTo>
                    <a:lnTo>
                      <a:pt x="16" y="546"/>
                    </a:lnTo>
                    <a:lnTo>
                      <a:pt x="10" y="518"/>
                    </a:lnTo>
                    <a:lnTo>
                      <a:pt x="4" y="488"/>
                    </a:lnTo>
                    <a:lnTo>
                      <a:pt x="0" y="456"/>
                    </a:lnTo>
                    <a:lnTo>
                      <a:pt x="4" y="432"/>
                    </a:lnTo>
                    <a:lnTo>
                      <a:pt x="9" y="408"/>
                    </a:lnTo>
                    <a:lnTo>
                      <a:pt x="16" y="384"/>
                    </a:lnTo>
                    <a:lnTo>
                      <a:pt x="21" y="361"/>
                    </a:lnTo>
                    <a:lnTo>
                      <a:pt x="29" y="340"/>
                    </a:lnTo>
                    <a:lnTo>
                      <a:pt x="37" y="318"/>
                    </a:lnTo>
                    <a:lnTo>
                      <a:pt x="45" y="298"/>
                    </a:lnTo>
                    <a:lnTo>
                      <a:pt x="54" y="277"/>
                    </a:lnTo>
                    <a:lnTo>
                      <a:pt x="65" y="258"/>
                    </a:lnTo>
                    <a:lnTo>
                      <a:pt x="75" y="239"/>
                    </a:lnTo>
                    <a:lnTo>
                      <a:pt x="86" y="221"/>
                    </a:lnTo>
                    <a:lnTo>
                      <a:pt x="98" y="204"/>
                    </a:lnTo>
                    <a:lnTo>
                      <a:pt x="110" y="187"/>
                    </a:lnTo>
                    <a:lnTo>
                      <a:pt x="124" y="171"/>
                    </a:lnTo>
                    <a:lnTo>
                      <a:pt x="138" y="156"/>
                    </a:lnTo>
                    <a:lnTo>
                      <a:pt x="153" y="141"/>
                    </a:lnTo>
                    <a:lnTo>
                      <a:pt x="167" y="128"/>
                    </a:lnTo>
                    <a:lnTo>
                      <a:pt x="183" y="114"/>
                    </a:lnTo>
                    <a:lnTo>
                      <a:pt x="199" y="102"/>
                    </a:lnTo>
                    <a:lnTo>
                      <a:pt x="216" y="90"/>
                    </a:lnTo>
                    <a:lnTo>
                      <a:pt x="235" y="79"/>
                    </a:lnTo>
                    <a:lnTo>
                      <a:pt x="253" y="68"/>
                    </a:lnTo>
                    <a:lnTo>
                      <a:pt x="272" y="58"/>
                    </a:lnTo>
                    <a:lnTo>
                      <a:pt x="292" y="49"/>
                    </a:lnTo>
                    <a:lnTo>
                      <a:pt x="312" y="41"/>
                    </a:lnTo>
                    <a:lnTo>
                      <a:pt x="334" y="33"/>
                    </a:lnTo>
                    <a:lnTo>
                      <a:pt x="355" y="26"/>
                    </a:lnTo>
                    <a:lnTo>
                      <a:pt x="378" y="19"/>
                    </a:lnTo>
                    <a:lnTo>
                      <a:pt x="401" y="13"/>
                    </a:lnTo>
                    <a:lnTo>
                      <a:pt x="425" y="9"/>
                    </a:lnTo>
                    <a:lnTo>
                      <a:pt x="449" y="4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5549760" y="3957480"/>
                <a:ext cx="135000" cy="185760"/>
              </a:xfrm>
              <a:custGeom>
                <a:avLst/>
                <a:gdLst/>
                <a:ahLst/>
                <a:rect l="l" t="t" r="r" b="b"/>
                <a:pathLst>
                  <a:path w="429" h="587">
                    <a:moveTo>
                      <a:pt x="429" y="553"/>
                    </a:moveTo>
                    <a:lnTo>
                      <a:pt x="428" y="545"/>
                    </a:lnTo>
                    <a:lnTo>
                      <a:pt x="414" y="500"/>
                    </a:lnTo>
                    <a:lnTo>
                      <a:pt x="400" y="454"/>
                    </a:lnTo>
                    <a:lnTo>
                      <a:pt x="385" y="411"/>
                    </a:lnTo>
                    <a:lnTo>
                      <a:pt x="369" y="367"/>
                    </a:lnTo>
                    <a:lnTo>
                      <a:pt x="352" y="326"/>
                    </a:lnTo>
                    <a:lnTo>
                      <a:pt x="334" y="285"/>
                    </a:lnTo>
                    <a:lnTo>
                      <a:pt x="324" y="266"/>
                    </a:lnTo>
                    <a:lnTo>
                      <a:pt x="314" y="246"/>
                    </a:lnTo>
                    <a:lnTo>
                      <a:pt x="303" y="227"/>
                    </a:lnTo>
                    <a:lnTo>
                      <a:pt x="292" y="209"/>
                    </a:lnTo>
                    <a:lnTo>
                      <a:pt x="279" y="190"/>
                    </a:lnTo>
                    <a:lnTo>
                      <a:pt x="267" y="173"/>
                    </a:lnTo>
                    <a:lnTo>
                      <a:pt x="254" y="156"/>
                    </a:lnTo>
                    <a:lnTo>
                      <a:pt x="241" y="140"/>
                    </a:lnTo>
                    <a:lnTo>
                      <a:pt x="226" y="124"/>
                    </a:lnTo>
                    <a:lnTo>
                      <a:pt x="211" y="109"/>
                    </a:lnTo>
                    <a:lnTo>
                      <a:pt x="195" y="95"/>
                    </a:lnTo>
                    <a:lnTo>
                      <a:pt x="178" y="81"/>
                    </a:lnTo>
                    <a:lnTo>
                      <a:pt x="161" y="68"/>
                    </a:lnTo>
                    <a:lnTo>
                      <a:pt x="143" y="56"/>
                    </a:lnTo>
                    <a:lnTo>
                      <a:pt x="124" y="44"/>
                    </a:lnTo>
                    <a:lnTo>
                      <a:pt x="104" y="33"/>
                    </a:lnTo>
                    <a:lnTo>
                      <a:pt x="83" y="24"/>
                    </a:lnTo>
                    <a:lnTo>
                      <a:pt x="63" y="15"/>
                    </a:lnTo>
                    <a:lnTo>
                      <a:pt x="41" y="7"/>
                    </a:lnTo>
                    <a:lnTo>
                      <a:pt x="18" y="0"/>
                    </a:lnTo>
                    <a:lnTo>
                      <a:pt x="0" y="65"/>
                    </a:lnTo>
                    <a:lnTo>
                      <a:pt x="19" y="71"/>
                    </a:lnTo>
                    <a:lnTo>
                      <a:pt x="39" y="77"/>
                    </a:lnTo>
                    <a:lnTo>
                      <a:pt x="56" y="85"/>
                    </a:lnTo>
                    <a:lnTo>
                      <a:pt x="74" y="93"/>
                    </a:lnTo>
                    <a:lnTo>
                      <a:pt x="90" y="103"/>
                    </a:lnTo>
                    <a:lnTo>
                      <a:pt x="106" y="113"/>
                    </a:lnTo>
                    <a:lnTo>
                      <a:pt x="122" y="123"/>
                    </a:lnTo>
                    <a:lnTo>
                      <a:pt x="137" y="133"/>
                    </a:lnTo>
                    <a:lnTo>
                      <a:pt x="150" y="146"/>
                    </a:lnTo>
                    <a:lnTo>
                      <a:pt x="164" y="158"/>
                    </a:lnTo>
                    <a:lnTo>
                      <a:pt x="177" y="171"/>
                    </a:lnTo>
                    <a:lnTo>
                      <a:pt x="189" y="185"/>
                    </a:lnTo>
                    <a:lnTo>
                      <a:pt x="202" y="198"/>
                    </a:lnTo>
                    <a:lnTo>
                      <a:pt x="213" y="214"/>
                    </a:lnTo>
                    <a:lnTo>
                      <a:pt x="225" y="229"/>
                    </a:lnTo>
                    <a:lnTo>
                      <a:pt x="235" y="245"/>
                    </a:lnTo>
                    <a:lnTo>
                      <a:pt x="245" y="262"/>
                    </a:lnTo>
                    <a:lnTo>
                      <a:pt x="255" y="279"/>
                    </a:lnTo>
                    <a:lnTo>
                      <a:pt x="264" y="296"/>
                    </a:lnTo>
                    <a:lnTo>
                      <a:pt x="274" y="315"/>
                    </a:lnTo>
                    <a:lnTo>
                      <a:pt x="291" y="352"/>
                    </a:lnTo>
                    <a:lnTo>
                      <a:pt x="307" y="392"/>
                    </a:lnTo>
                    <a:lnTo>
                      <a:pt x="321" y="432"/>
                    </a:lnTo>
                    <a:lnTo>
                      <a:pt x="336" y="476"/>
                    </a:lnTo>
                    <a:lnTo>
                      <a:pt x="349" y="519"/>
                    </a:lnTo>
                    <a:lnTo>
                      <a:pt x="363" y="562"/>
                    </a:lnTo>
                    <a:lnTo>
                      <a:pt x="361" y="554"/>
                    </a:lnTo>
                    <a:lnTo>
                      <a:pt x="363" y="562"/>
                    </a:lnTo>
                    <a:lnTo>
                      <a:pt x="365" y="570"/>
                    </a:lnTo>
                    <a:lnTo>
                      <a:pt x="369" y="576"/>
                    </a:lnTo>
                    <a:lnTo>
                      <a:pt x="374" y="581"/>
                    </a:lnTo>
                    <a:lnTo>
                      <a:pt x="378" y="584"/>
                    </a:lnTo>
                    <a:lnTo>
                      <a:pt x="385" y="586"/>
                    </a:lnTo>
                    <a:lnTo>
                      <a:pt x="391" y="587"/>
                    </a:lnTo>
                    <a:lnTo>
                      <a:pt x="398" y="587"/>
                    </a:lnTo>
                    <a:lnTo>
                      <a:pt x="404" y="586"/>
                    </a:lnTo>
                    <a:lnTo>
                      <a:pt x="409" y="584"/>
                    </a:lnTo>
                    <a:lnTo>
                      <a:pt x="415" y="581"/>
                    </a:lnTo>
                    <a:lnTo>
                      <a:pt x="420" y="577"/>
                    </a:lnTo>
                    <a:lnTo>
                      <a:pt x="424" y="573"/>
                    </a:lnTo>
                    <a:lnTo>
                      <a:pt x="426" y="567"/>
                    </a:lnTo>
                    <a:lnTo>
                      <a:pt x="429" y="560"/>
                    </a:lnTo>
                    <a:lnTo>
                      <a:pt x="429" y="553"/>
                    </a:lnTo>
                    <a:lnTo>
                      <a:pt x="428" y="545"/>
                    </a:lnTo>
                    <a:lnTo>
                      <a:pt x="429" y="5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5548320" y="4132440"/>
                <a:ext cx="136440" cy="196560"/>
              </a:xfrm>
              <a:custGeom>
                <a:avLst/>
                <a:gdLst/>
                <a:ahLst/>
                <a:rect l="l" t="t" r="r" b="b"/>
                <a:pathLst>
                  <a:path w="432" h="620">
                    <a:moveTo>
                      <a:pt x="14" y="613"/>
                    </a:moveTo>
                    <a:lnTo>
                      <a:pt x="53" y="612"/>
                    </a:lnTo>
                    <a:lnTo>
                      <a:pt x="94" y="581"/>
                    </a:lnTo>
                    <a:lnTo>
                      <a:pt x="133" y="549"/>
                    </a:lnTo>
                    <a:lnTo>
                      <a:pt x="171" y="516"/>
                    </a:lnTo>
                    <a:lnTo>
                      <a:pt x="206" y="480"/>
                    </a:lnTo>
                    <a:lnTo>
                      <a:pt x="239" y="445"/>
                    </a:lnTo>
                    <a:lnTo>
                      <a:pt x="271" y="409"/>
                    </a:lnTo>
                    <a:lnTo>
                      <a:pt x="286" y="389"/>
                    </a:lnTo>
                    <a:lnTo>
                      <a:pt x="301" y="370"/>
                    </a:lnTo>
                    <a:lnTo>
                      <a:pt x="314" y="350"/>
                    </a:lnTo>
                    <a:lnTo>
                      <a:pt x="327" y="331"/>
                    </a:lnTo>
                    <a:lnTo>
                      <a:pt x="339" y="312"/>
                    </a:lnTo>
                    <a:lnTo>
                      <a:pt x="351" y="292"/>
                    </a:lnTo>
                    <a:lnTo>
                      <a:pt x="362" y="272"/>
                    </a:lnTo>
                    <a:lnTo>
                      <a:pt x="372" y="251"/>
                    </a:lnTo>
                    <a:lnTo>
                      <a:pt x="381" y="231"/>
                    </a:lnTo>
                    <a:lnTo>
                      <a:pt x="391" y="210"/>
                    </a:lnTo>
                    <a:lnTo>
                      <a:pt x="399" y="190"/>
                    </a:lnTo>
                    <a:lnTo>
                      <a:pt x="407" y="169"/>
                    </a:lnTo>
                    <a:lnTo>
                      <a:pt x="412" y="148"/>
                    </a:lnTo>
                    <a:lnTo>
                      <a:pt x="418" y="127"/>
                    </a:lnTo>
                    <a:lnTo>
                      <a:pt x="423" y="106"/>
                    </a:lnTo>
                    <a:lnTo>
                      <a:pt x="426" y="85"/>
                    </a:lnTo>
                    <a:lnTo>
                      <a:pt x="429" y="64"/>
                    </a:lnTo>
                    <a:lnTo>
                      <a:pt x="431" y="42"/>
                    </a:lnTo>
                    <a:lnTo>
                      <a:pt x="432" y="21"/>
                    </a:lnTo>
                    <a:lnTo>
                      <a:pt x="432" y="0"/>
                    </a:lnTo>
                    <a:lnTo>
                      <a:pt x="364" y="1"/>
                    </a:lnTo>
                    <a:lnTo>
                      <a:pt x="364" y="20"/>
                    </a:lnTo>
                    <a:lnTo>
                      <a:pt x="363" y="38"/>
                    </a:lnTo>
                    <a:lnTo>
                      <a:pt x="362" y="56"/>
                    </a:lnTo>
                    <a:lnTo>
                      <a:pt x="360" y="74"/>
                    </a:lnTo>
                    <a:lnTo>
                      <a:pt x="356" y="93"/>
                    </a:lnTo>
                    <a:lnTo>
                      <a:pt x="352" y="112"/>
                    </a:lnTo>
                    <a:lnTo>
                      <a:pt x="347" y="130"/>
                    </a:lnTo>
                    <a:lnTo>
                      <a:pt x="342" y="148"/>
                    </a:lnTo>
                    <a:lnTo>
                      <a:pt x="336" y="167"/>
                    </a:lnTo>
                    <a:lnTo>
                      <a:pt x="328" y="185"/>
                    </a:lnTo>
                    <a:lnTo>
                      <a:pt x="320" y="203"/>
                    </a:lnTo>
                    <a:lnTo>
                      <a:pt x="312" y="222"/>
                    </a:lnTo>
                    <a:lnTo>
                      <a:pt x="303" y="240"/>
                    </a:lnTo>
                    <a:lnTo>
                      <a:pt x="293" y="258"/>
                    </a:lnTo>
                    <a:lnTo>
                      <a:pt x="282" y="276"/>
                    </a:lnTo>
                    <a:lnTo>
                      <a:pt x="271" y="295"/>
                    </a:lnTo>
                    <a:lnTo>
                      <a:pt x="258" y="313"/>
                    </a:lnTo>
                    <a:lnTo>
                      <a:pt x="246" y="330"/>
                    </a:lnTo>
                    <a:lnTo>
                      <a:pt x="232" y="348"/>
                    </a:lnTo>
                    <a:lnTo>
                      <a:pt x="218" y="365"/>
                    </a:lnTo>
                    <a:lnTo>
                      <a:pt x="189" y="399"/>
                    </a:lnTo>
                    <a:lnTo>
                      <a:pt x="158" y="434"/>
                    </a:lnTo>
                    <a:lnTo>
                      <a:pt x="124" y="467"/>
                    </a:lnTo>
                    <a:lnTo>
                      <a:pt x="89" y="498"/>
                    </a:lnTo>
                    <a:lnTo>
                      <a:pt x="52" y="528"/>
                    </a:lnTo>
                    <a:lnTo>
                      <a:pt x="13" y="558"/>
                    </a:lnTo>
                    <a:lnTo>
                      <a:pt x="52" y="557"/>
                    </a:lnTo>
                    <a:lnTo>
                      <a:pt x="13" y="558"/>
                    </a:lnTo>
                    <a:lnTo>
                      <a:pt x="8" y="563"/>
                    </a:lnTo>
                    <a:lnTo>
                      <a:pt x="3" y="568"/>
                    </a:lnTo>
                    <a:lnTo>
                      <a:pt x="1" y="575"/>
                    </a:lnTo>
                    <a:lnTo>
                      <a:pt x="0" y="581"/>
                    </a:lnTo>
                    <a:lnTo>
                      <a:pt x="0" y="588"/>
                    </a:lnTo>
                    <a:lnTo>
                      <a:pt x="1" y="593"/>
                    </a:lnTo>
                    <a:lnTo>
                      <a:pt x="3" y="599"/>
                    </a:lnTo>
                    <a:lnTo>
                      <a:pt x="6" y="605"/>
                    </a:lnTo>
                    <a:lnTo>
                      <a:pt x="10" y="609"/>
                    </a:lnTo>
                    <a:lnTo>
                      <a:pt x="16" y="614"/>
                    </a:lnTo>
                    <a:lnTo>
                      <a:pt x="20" y="616"/>
                    </a:lnTo>
                    <a:lnTo>
                      <a:pt x="27" y="619"/>
                    </a:lnTo>
                    <a:lnTo>
                      <a:pt x="33" y="620"/>
                    </a:lnTo>
                    <a:lnTo>
                      <a:pt x="39" y="619"/>
                    </a:lnTo>
                    <a:lnTo>
                      <a:pt x="46" y="616"/>
                    </a:lnTo>
                    <a:lnTo>
                      <a:pt x="53" y="612"/>
                    </a:lnTo>
                    <a:lnTo>
                      <a:pt x="14" y="61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5391000" y="4102200"/>
                <a:ext cx="173160" cy="225360"/>
              </a:xfrm>
              <a:custGeom>
                <a:avLst/>
                <a:gdLst/>
                <a:ahLst/>
                <a:rect l="l" t="t" r="r" b="b"/>
                <a:pathLst>
                  <a:path w="549" h="711">
                    <a:moveTo>
                      <a:pt x="1" y="27"/>
                    </a:moveTo>
                    <a:lnTo>
                      <a:pt x="0" y="39"/>
                    </a:lnTo>
                    <a:lnTo>
                      <a:pt x="5" y="71"/>
                    </a:lnTo>
                    <a:lnTo>
                      <a:pt x="11" y="102"/>
                    </a:lnTo>
                    <a:lnTo>
                      <a:pt x="17" y="131"/>
                    </a:lnTo>
                    <a:lnTo>
                      <a:pt x="23" y="159"/>
                    </a:lnTo>
                    <a:lnTo>
                      <a:pt x="30" y="186"/>
                    </a:lnTo>
                    <a:lnTo>
                      <a:pt x="38" y="212"/>
                    </a:lnTo>
                    <a:lnTo>
                      <a:pt x="46" y="237"/>
                    </a:lnTo>
                    <a:lnTo>
                      <a:pt x="55" y="261"/>
                    </a:lnTo>
                    <a:lnTo>
                      <a:pt x="65" y="284"/>
                    </a:lnTo>
                    <a:lnTo>
                      <a:pt x="75" y="307"/>
                    </a:lnTo>
                    <a:lnTo>
                      <a:pt x="86" y="329"/>
                    </a:lnTo>
                    <a:lnTo>
                      <a:pt x="98" y="349"/>
                    </a:lnTo>
                    <a:lnTo>
                      <a:pt x="110" y="370"/>
                    </a:lnTo>
                    <a:lnTo>
                      <a:pt x="124" y="389"/>
                    </a:lnTo>
                    <a:lnTo>
                      <a:pt x="137" y="407"/>
                    </a:lnTo>
                    <a:lnTo>
                      <a:pt x="153" y="426"/>
                    </a:lnTo>
                    <a:lnTo>
                      <a:pt x="168" y="444"/>
                    </a:lnTo>
                    <a:lnTo>
                      <a:pt x="185" y="462"/>
                    </a:lnTo>
                    <a:lnTo>
                      <a:pt x="202" y="479"/>
                    </a:lnTo>
                    <a:lnTo>
                      <a:pt x="221" y="496"/>
                    </a:lnTo>
                    <a:lnTo>
                      <a:pt x="240" y="513"/>
                    </a:lnTo>
                    <a:lnTo>
                      <a:pt x="259" y="531"/>
                    </a:lnTo>
                    <a:lnTo>
                      <a:pt x="280" y="547"/>
                    </a:lnTo>
                    <a:lnTo>
                      <a:pt x="302" y="564"/>
                    </a:lnTo>
                    <a:lnTo>
                      <a:pt x="348" y="598"/>
                    </a:lnTo>
                    <a:lnTo>
                      <a:pt x="399" y="634"/>
                    </a:lnTo>
                    <a:lnTo>
                      <a:pt x="452" y="671"/>
                    </a:lnTo>
                    <a:lnTo>
                      <a:pt x="511" y="711"/>
                    </a:lnTo>
                    <a:lnTo>
                      <a:pt x="549" y="655"/>
                    </a:lnTo>
                    <a:lnTo>
                      <a:pt x="491" y="615"/>
                    </a:lnTo>
                    <a:lnTo>
                      <a:pt x="437" y="578"/>
                    </a:lnTo>
                    <a:lnTo>
                      <a:pt x="387" y="543"/>
                    </a:lnTo>
                    <a:lnTo>
                      <a:pt x="343" y="510"/>
                    </a:lnTo>
                    <a:lnTo>
                      <a:pt x="322" y="494"/>
                    </a:lnTo>
                    <a:lnTo>
                      <a:pt x="303" y="478"/>
                    </a:lnTo>
                    <a:lnTo>
                      <a:pt x="283" y="462"/>
                    </a:lnTo>
                    <a:lnTo>
                      <a:pt x="266" y="446"/>
                    </a:lnTo>
                    <a:lnTo>
                      <a:pt x="249" y="431"/>
                    </a:lnTo>
                    <a:lnTo>
                      <a:pt x="233" y="415"/>
                    </a:lnTo>
                    <a:lnTo>
                      <a:pt x="218" y="399"/>
                    </a:lnTo>
                    <a:lnTo>
                      <a:pt x="205" y="383"/>
                    </a:lnTo>
                    <a:lnTo>
                      <a:pt x="191" y="366"/>
                    </a:lnTo>
                    <a:lnTo>
                      <a:pt x="179" y="349"/>
                    </a:lnTo>
                    <a:lnTo>
                      <a:pt x="167" y="332"/>
                    </a:lnTo>
                    <a:lnTo>
                      <a:pt x="156" y="315"/>
                    </a:lnTo>
                    <a:lnTo>
                      <a:pt x="145" y="297"/>
                    </a:lnTo>
                    <a:lnTo>
                      <a:pt x="136" y="277"/>
                    </a:lnTo>
                    <a:lnTo>
                      <a:pt x="126" y="258"/>
                    </a:lnTo>
                    <a:lnTo>
                      <a:pt x="118" y="236"/>
                    </a:lnTo>
                    <a:lnTo>
                      <a:pt x="110" y="215"/>
                    </a:lnTo>
                    <a:lnTo>
                      <a:pt x="102" y="192"/>
                    </a:lnTo>
                    <a:lnTo>
                      <a:pt x="95" y="168"/>
                    </a:lnTo>
                    <a:lnTo>
                      <a:pt x="88" y="143"/>
                    </a:lnTo>
                    <a:lnTo>
                      <a:pt x="83" y="116"/>
                    </a:lnTo>
                    <a:lnTo>
                      <a:pt x="77" y="89"/>
                    </a:lnTo>
                    <a:lnTo>
                      <a:pt x="71" y="59"/>
                    </a:lnTo>
                    <a:lnTo>
                      <a:pt x="67" y="29"/>
                    </a:lnTo>
                    <a:lnTo>
                      <a:pt x="67" y="39"/>
                    </a:lnTo>
                    <a:lnTo>
                      <a:pt x="67" y="29"/>
                    </a:lnTo>
                    <a:lnTo>
                      <a:pt x="65" y="21"/>
                    </a:lnTo>
                    <a:lnTo>
                      <a:pt x="62" y="15"/>
                    </a:lnTo>
                    <a:lnTo>
                      <a:pt x="58" y="9"/>
                    </a:lnTo>
                    <a:lnTo>
                      <a:pt x="53" y="6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1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6" y="11"/>
                    </a:lnTo>
                    <a:lnTo>
                      <a:pt x="3" y="17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5391000" y="3956040"/>
                <a:ext cx="171720" cy="157320"/>
              </a:xfrm>
              <a:custGeom>
                <a:avLst/>
                <a:gdLst/>
                <a:ahLst/>
                <a:rect l="l" t="t" r="r" b="b"/>
                <a:pathLst>
                  <a:path w="541" h="495">
                    <a:moveTo>
                      <a:pt x="517" y="1"/>
                    </a:moveTo>
                    <a:lnTo>
                      <a:pt x="504" y="0"/>
                    </a:lnTo>
                    <a:lnTo>
                      <a:pt x="477" y="4"/>
                    </a:lnTo>
                    <a:lnTo>
                      <a:pt x="451" y="9"/>
                    </a:lnTo>
                    <a:lnTo>
                      <a:pt x="426" y="13"/>
                    </a:lnTo>
                    <a:lnTo>
                      <a:pt x="402" y="20"/>
                    </a:lnTo>
                    <a:lnTo>
                      <a:pt x="378" y="27"/>
                    </a:lnTo>
                    <a:lnTo>
                      <a:pt x="355" y="34"/>
                    </a:lnTo>
                    <a:lnTo>
                      <a:pt x="333" y="42"/>
                    </a:lnTo>
                    <a:lnTo>
                      <a:pt x="311" y="51"/>
                    </a:lnTo>
                    <a:lnTo>
                      <a:pt x="290" y="61"/>
                    </a:lnTo>
                    <a:lnTo>
                      <a:pt x="270" y="72"/>
                    </a:lnTo>
                    <a:lnTo>
                      <a:pt x="250" y="83"/>
                    </a:lnTo>
                    <a:lnTo>
                      <a:pt x="231" y="94"/>
                    </a:lnTo>
                    <a:lnTo>
                      <a:pt x="213" y="108"/>
                    </a:lnTo>
                    <a:lnTo>
                      <a:pt x="195" y="121"/>
                    </a:lnTo>
                    <a:lnTo>
                      <a:pt x="178" y="135"/>
                    </a:lnTo>
                    <a:lnTo>
                      <a:pt x="162" y="150"/>
                    </a:lnTo>
                    <a:lnTo>
                      <a:pt x="146" y="166"/>
                    </a:lnTo>
                    <a:lnTo>
                      <a:pt x="131" y="182"/>
                    </a:lnTo>
                    <a:lnTo>
                      <a:pt x="117" y="199"/>
                    </a:lnTo>
                    <a:lnTo>
                      <a:pt x="103" y="218"/>
                    </a:lnTo>
                    <a:lnTo>
                      <a:pt x="91" y="236"/>
                    </a:lnTo>
                    <a:lnTo>
                      <a:pt x="79" y="255"/>
                    </a:lnTo>
                    <a:lnTo>
                      <a:pt x="68" y="275"/>
                    </a:lnTo>
                    <a:lnTo>
                      <a:pt x="58" y="295"/>
                    </a:lnTo>
                    <a:lnTo>
                      <a:pt x="48" y="317"/>
                    </a:lnTo>
                    <a:lnTo>
                      <a:pt x="38" y="339"/>
                    </a:lnTo>
                    <a:lnTo>
                      <a:pt x="30" y="361"/>
                    </a:lnTo>
                    <a:lnTo>
                      <a:pt x="22" y="384"/>
                    </a:lnTo>
                    <a:lnTo>
                      <a:pt x="16" y="408"/>
                    </a:lnTo>
                    <a:lnTo>
                      <a:pt x="10" y="433"/>
                    </a:lnTo>
                    <a:lnTo>
                      <a:pt x="4" y="458"/>
                    </a:lnTo>
                    <a:lnTo>
                      <a:pt x="0" y="483"/>
                    </a:lnTo>
                    <a:lnTo>
                      <a:pt x="66" y="495"/>
                    </a:lnTo>
                    <a:lnTo>
                      <a:pt x="70" y="471"/>
                    </a:lnTo>
                    <a:lnTo>
                      <a:pt x="75" y="448"/>
                    </a:lnTo>
                    <a:lnTo>
                      <a:pt x="81" y="426"/>
                    </a:lnTo>
                    <a:lnTo>
                      <a:pt x="87" y="405"/>
                    </a:lnTo>
                    <a:lnTo>
                      <a:pt x="94" y="384"/>
                    </a:lnTo>
                    <a:lnTo>
                      <a:pt x="101" y="364"/>
                    </a:lnTo>
                    <a:lnTo>
                      <a:pt x="109" y="344"/>
                    </a:lnTo>
                    <a:lnTo>
                      <a:pt x="118" y="325"/>
                    </a:lnTo>
                    <a:lnTo>
                      <a:pt x="127" y="307"/>
                    </a:lnTo>
                    <a:lnTo>
                      <a:pt x="136" y="289"/>
                    </a:lnTo>
                    <a:lnTo>
                      <a:pt x="148" y="272"/>
                    </a:lnTo>
                    <a:lnTo>
                      <a:pt x="158" y="256"/>
                    </a:lnTo>
                    <a:lnTo>
                      <a:pt x="170" y="242"/>
                    </a:lnTo>
                    <a:lnTo>
                      <a:pt x="182" y="227"/>
                    </a:lnTo>
                    <a:lnTo>
                      <a:pt x="195" y="212"/>
                    </a:lnTo>
                    <a:lnTo>
                      <a:pt x="208" y="199"/>
                    </a:lnTo>
                    <a:lnTo>
                      <a:pt x="222" y="186"/>
                    </a:lnTo>
                    <a:lnTo>
                      <a:pt x="237" y="174"/>
                    </a:lnTo>
                    <a:lnTo>
                      <a:pt x="252" y="162"/>
                    </a:lnTo>
                    <a:lnTo>
                      <a:pt x="269" y="151"/>
                    </a:lnTo>
                    <a:lnTo>
                      <a:pt x="285" y="141"/>
                    </a:lnTo>
                    <a:lnTo>
                      <a:pt x="302" y="131"/>
                    </a:lnTo>
                    <a:lnTo>
                      <a:pt x="320" y="122"/>
                    </a:lnTo>
                    <a:lnTo>
                      <a:pt x="338" y="113"/>
                    </a:lnTo>
                    <a:lnTo>
                      <a:pt x="358" y="105"/>
                    </a:lnTo>
                    <a:lnTo>
                      <a:pt x="377" y="98"/>
                    </a:lnTo>
                    <a:lnTo>
                      <a:pt x="398" y="91"/>
                    </a:lnTo>
                    <a:lnTo>
                      <a:pt x="419" y="85"/>
                    </a:lnTo>
                    <a:lnTo>
                      <a:pt x="442" y="80"/>
                    </a:lnTo>
                    <a:lnTo>
                      <a:pt x="465" y="75"/>
                    </a:lnTo>
                    <a:lnTo>
                      <a:pt x="488" y="70"/>
                    </a:lnTo>
                    <a:lnTo>
                      <a:pt x="512" y="67"/>
                    </a:lnTo>
                    <a:lnTo>
                      <a:pt x="499" y="66"/>
                    </a:lnTo>
                    <a:lnTo>
                      <a:pt x="512" y="67"/>
                    </a:lnTo>
                    <a:lnTo>
                      <a:pt x="520" y="65"/>
                    </a:lnTo>
                    <a:lnTo>
                      <a:pt x="526" y="62"/>
                    </a:lnTo>
                    <a:lnTo>
                      <a:pt x="532" y="58"/>
                    </a:lnTo>
                    <a:lnTo>
                      <a:pt x="535" y="53"/>
                    </a:lnTo>
                    <a:lnTo>
                      <a:pt x="539" y="48"/>
                    </a:lnTo>
                    <a:lnTo>
                      <a:pt x="540" y="42"/>
                    </a:lnTo>
                    <a:lnTo>
                      <a:pt x="541" y="35"/>
                    </a:lnTo>
                    <a:lnTo>
                      <a:pt x="541" y="29"/>
                    </a:lnTo>
                    <a:lnTo>
                      <a:pt x="540" y="23"/>
                    </a:lnTo>
                    <a:lnTo>
                      <a:pt x="538" y="17"/>
                    </a:lnTo>
                    <a:lnTo>
                      <a:pt x="534" y="12"/>
                    </a:lnTo>
                    <a:lnTo>
                      <a:pt x="530" y="7"/>
                    </a:lnTo>
                    <a:lnTo>
                      <a:pt x="524" y="3"/>
                    </a:lnTo>
                    <a:lnTo>
                      <a:pt x="518" y="1"/>
                    </a:lnTo>
                    <a:lnTo>
                      <a:pt x="512" y="0"/>
                    </a:lnTo>
                    <a:lnTo>
                      <a:pt x="504" y="0"/>
                    </a:lnTo>
                    <a:lnTo>
                      <a:pt x="517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5711760" y="4070520"/>
                <a:ext cx="317520" cy="393480"/>
              </a:xfrm>
              <a:custGeom>
                <a:avLst/>
                <a:gdLst/>
                <a:ahLst/>
                <a:rect l="l" t="t" r="r" b="b"/>
                <a:pathLst>
                  <a:path w="1001" h="1239">
                    <a:moveTo>
                      <a:pt x="553" y="0"/>
                    </a:moveTo>
                    <a:lnTo>
                      <a:pt x="577" y="7"/>
                    </a:lnTo>
                    <a:lnTo>
                      <a:pt x="601" y="16"/>
                    </a:lnTo>
                    <a:lnTo>
                      <a:pt x="624" y="25"/>
                    </a:lnTo>
                    <a:lnTo>
                      <a:pt x="645" y="35"/>
                    </a:lnTo>
                    <a:lnTo>
                      <a:pt x="666" y="45"/>
                    </a:lnTo>
                    <a:lnTo>
                      <a:pt x="686" y="58"/>
                    </a:lnTo>
                    <a:lnTo>
                      <a:pt x="706" y="71"/>
                    </a:lnTo>
                    <a:lnTo>
                      <a:pt x="724" y="84"/>
                    </a:lnTo>
                    <a:lnTo>
                      <a:pt x="742" y="98"/>
                    </a:lnTo>
                    <a:lnTo>
                      <a:pt x="759" y="113"/>
                    </a:lnTo>
                    <a:lnTo>
                      <a:pt x="775" y="129"/>
                    </a:lnTo>
                    <a:lnTo>
                      <a:pt x="791" y="146"/>
                    </a:lnTo>
                    <a:lnTo>
                      <a:pt x="806" y="163"/>
                    </a:lnTo>
                    <a:lnTo>
                      <a:pt x="821" y="180"/>
                    </a:lnTo>
                    <a:lnTo>
                      <a:pt x="834" y="199"/>
                    </a:lnTo>
                    <a:lnTo>
                      <a:pt x="847" y="218"/>
                    </a:lnTo>
                    <a:lnTo>
                      <a:pt x="860" y="238"/>
                    </a:lnTo>
                    <a:lnTo>
                      <a:pt x="872" y="258"/>
                    </a:lnTo>
                    <a:lnTo>
                      <a:pt x="884" y="279"/>
                    </a:lnTo>
                    <a:lnTo>
                      <a:pt x="895" y="300"/>
                    </a:lnTo>
                    <a:lnTo>
                      <a:pt x="915" y="344"/>
                    </a:lnTo>
                    <a:lnTo>
                      <a:pt x="935" y="390"/>
                    </a:lnTo>
                    <a:lnTo>
                      <a:pt x="953" y="437"/>
                    </a:lnTo>
                    <a:lnTo>
                      <a:pt x="970" y="486"/>
                    </a:lnTo>
                    <a:lnTo>
                      <a:pt x="986" y="536"/>
                    </a:lnTo>
                    <a:lnTo>
                      <a:pt x="1001" y="586"/>
                    </a:lnTo>
                    <a:lnTo>
                      <a:pt x="1001" y="609"/>
                    </a:lnTo>
                    <a:lnTo>
                      <a:pt x="1000" y="631"/>
                    </a:lnTo>
                    <a:lnTo>
                      <a:pt x="999" y="654"/>
                    </a:lnTo>
                    <a:lnTo>
                      <a:pt x="995" y="675"/>
                    </a:lnTo>
                    <a:lnTo>
                      <a:pt x="991" y="697"/>
                    </a:lnTo>
                    <a:lnTo>
                      <a:pt x="986" y="720"/>
                    </a:lnTo>
                    <a:lnTo>
                      <a:pt x="980" y="741"/>
                    </a:lnTo>
                    <a:lnTo>
                      <a:pt x="974" y="763"/>
                    </a:lnTo>
                    <a:lnTo>
                      <a:pt x="966" y="786"/>
                    </a:lnTo>
                    <a:lnTo>
                      <a:pt x="956" y="808"/>
                    </a:lnTo>
                    <a:lnTo>
                      <a:pt x="946" y="829"/>
                    </a:lnTo>
                    <a:lnTo>
                      <a:pt x="936" y="850"/>
                    </a:lnTo>
                    <a:lnTo>
                      <a:pt x="925" y="871"/>
                    </a:lnTo>
                    <a:lnTo>
                      <a:pt x="912" y="893"/>
                    </a:lnTo>
                    <a:lnTo>
                      <a:pt x="899" y="914"/>
                    </a:lnTo>
                    <a:lnTo>
                      <a:pt x="886" y="935"/>
                    </a:lnTo>
                    <a:lnTo>
                      <a:pt x="871" y="956"/>
                    </a:lnTo>
                    <a:lnTo>
                      <a:pt x="856" y="976"/>
                    </a:lnTo>
                    <a:lnTo>
                      <a:pt x="840" y="997"/>
                    </a:lnTo>
                    <a:lnTo>
                      <a:pt x="823" y="1017"/>
                    </a:lnTo>
                    <a:lnTo>
                      <a:pt x="806" y="1037"/>
                    </a:lnTo>
                    <a:lnTo>
                      <a:pt x="788" y="1056"/>
                    </a:lnTo>
                    <a:lnTo>
                      <a:pt x="768" y="1077"/>
                    </a:lnTo>
                    <a:lnTo>
                      <a:pt x="750" y="1095"/>
                    </a:lnTo>
                    <a:lnTo>
                      <a:pt x="730" y="1114"/>
                    </a:lnTo>
                    <a:lnTo>
                      <a:pt x="709" y="1133"/>
                    </a:lnTo>
                    <a:lnTo>
                      <a:pt x="689" y="1151"/>
                    </a:lnTo>
                    <a:lnTo>
                      <a:pt x="667" y="1169"/>
                    </a:lnTo>
                    <a:lnTo>
                      <a:pt x="622" y="1205"/>
                    </a:lnTo>
                    <a:lnTo>
                      <a:pt x="577" y="1239"/>
                    </a:lnTo>
                    <a:lnTo>
                      <a:pt x="508" y="1194"/>
                    </a:lnTo>
                    <a:lnTo>
                      <a:pt x="446" y="1153"/>
                    </a:lnTo>
                    <a:lnTo>
                      <a:pt x="389" y="1114"/>
                    </a:lnTo>
                    <a:lnTo>
                      <a:pt x="336" y="1077"/>
                    </a:lnTo>
                    <a:lnTo>
                      <a:pt x="311" y="1057"/>
                    </a:lnTo>
                    <a:lnTo>
                      <a:pt x="288" y="1039"/>
                    </a:lnTo>
                    <a:lnTo>
                      <a:pt x="266" y="1022"/>
                    </a:lnTo>
                    <a:lnTo>
                      <a:pt x="244" y="1004"/>
                    </a:lnTo>
                    <a:lnTo>
                      <a:pt x="225" y="984"/>
                    </a:lnTo>
                    <a:lnTo>
                      <a:pt x="205" y="966"/>
                    </a:lnTo>
                    <a:lnTo>
                      <a:pt x="187" y="948"/>
                    </a:lnTo>
                    <a:lnTo>
                      <a:pt x="170" y="928"/>
                    </a:lnTo>
                    <a:lnTo>
                      <a:pt x="153" y="909"/>
                    </a:lnTo>
                    <a:lnTo>
                      <a:pt x="138" y="889"/>
                    </a:lnTo>
                    <a:lnTo>
                      <a:pt x="123" y="868"/>
                    </a:lnTo>
                    <a:lnTo>
                      <a:pt x="109" y="847"/>
                    </a:lnTo>
                    <a:lnTo>
                      <a:pt x="97" y="825"/>
                    </a:lnTo>
                    <a:lnTo>
                      <a:pt x="84" y="802"/>
                    </a:lnTo>
                    <a:lnTo>
                      <a:pt x="73" y="779"/>
                    </a:lnTo>
                    <a:lnTo>
                      <a:pt x="63" y="754"/>
                    </a:lnTo>
                    <a:lnTo>
                      <a:pt x="52" y="729"/>
                    </a:lnTo>
                    <a:lnTo>
                      <a:pt x="43" y="701"/>
                    </a:lnTo>
                    <a:lnTo>
                      <a:pt x="34" y="673"/>
                    </a:lnTo>
                    <a:lnTo>
                      <a:pt x="26" y="644"/>
                    </a:lnTo>
                    <a:lnTo>
                      <a:pt x="19" y="614"/>
                    </a:lnTo>
                    <a:lnTo>
                      <a:pt x="13" y="581"/>
                    </a:lnTo>
                    <a:lnTo>
                      <a:pt x="6" y="547"/>
                    </a:lnTo>
                    <a:lnTo>
                      <a:pt x="0" y="512"/>
                    </a:lnTo>
                    <a:lnTo>
                      <a:pt x="6" y="484"/>
                    </a:lnTo>
                    <a:lnTo>
                      <a:pt x="11" y="457"/>
                    </a:lnTo>
                    <a:lnTo>
                      <a:pt x="18" y="431"/>
                    </a:lnTo>
                    <a:lnTo>
                      <a:pt x="26" y="406"/>
                    </a:lnTo>
                    <a:lnTo>
                      <a:pt x="34" y="381"/>
                    </a:lnTo>
                    <a:lnTo>
                      <a:pt x="43" y="357"/>
                    </a:lnTo>
                    <a:lnTo>
                      <a:pt x="54" y="334"/>
                    </a:lnTo>
                    <a:lnTo>
                      <a:pt x="64" y="311"/>
                    </a:lnTo>
                    <a:lnTo>
                      <a:pt x="75" y="290"/>
                    </a:lnTo>
                    <a:lnTo>
                      <a:pt x="88" y="269"/>
                    </a:lnTo>
                    <a:lnTo>
                      <a:pt x="100" y="249"/>
                    </a:lnTo>
                    <a:lnTo>
                      <a:pt x="115" y="229"/>
                    </a:lnTo>
                    <a:lnTo>
                      <a:pt x="129" y="211"/>
                    </a:lnTo>
                    <a:lnTo>
                      <a:pt x="145" y="193"/>
                    </a:lnTo>
                    <a:lnTo>
                      <a:pt x="161" y="175"/>
                    </a:lnTo>
                    <a:lnTo>
                      <a:pt x="178" y="158"/>
                    </a:lnTo>
                    <a:lnTo>
                      <a:pt x="195" y="144"/>
                    </a:lnTo>
                    <a:lnTo>
                      <a:pt x="213" y="129"/>
                    </a:lnTo>
                    <a:lnTo>
                      <a:pt x="233" y="114"/>
                    </a:lnTo>
                    <a:lnTo>
                      <a:pt x="253" y="101"/>
                    </a:lnTo>
                    <a:lnTo>
                      <a:pt x="274" y="89"/>
                    </a:lnTo>
                    <a:lnTo>
                      <a:pt x="295" y="76"/>
                    </a:lnTo>
                    <a:lnTo>
                      <a:pt x="317" y="65"/>
                    </a:lnTo>
                    <a:lnTo>
                      <a:pt x="340" y="55"/>
                    </a:lnTo>
                    <a:lnTo>
                      <a:pt x="364" y="45"/>
                    </a:lnTo>
                    <a:lnTo>
                      <a:pt x="389" y="36"/>
                    </a:lnTo>
                    <a:lnTo>
                      <a:pt x="414" y="28"/>
                    </a:lnTo>
                    <a:lnTo>
                      <a:pt x="440" y="21"/>
                    </a:lnTo>
                    <a:lnTo>
                      <a:pt x="467" y="15"/>
                    </a:lnTo>
                    <a:lnTo>
                      <a:pt x="495" y="9"/>
                    </a:lnTo>
                    <a:lnTo>
                      <a:pt x="523" y="4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5884920" y="4059360"/>
                <a:ext cx="155520" cy="207720"/>
              </a:xfrm>
              <a:custGeom>
                <a:avLst/>
                <a:gdLst/>
                <a:ahLst/>
                <a:rect l="l" t="t" r="r" b="b"/>
                <a:pathLst>
                  <a:path w="491" h="653">
                    <a:moveTo>
                      <a:pt x="491" y="618"/>
                    </a:moveTo>
                    <a:lnTo>
                      <a:pt x="490" y="610"/>
                    </a:lnTo>
                    <a:lnTo>
                      <a:pt x="474" y="559"/>
                    </a:lnTo>
                    <a:lnTo>
                      <a:pt x="458" y="509"/>
                    </a:lnTo>
                    <a:lnTo>
                      <a:pt x="441" y="458"/>
                    </a:lnTo>
                    <a:lnTo>
                      <a:pt x="423" y="410"/>
                    </a:lnTo>
                    <a:lnTo>
                      <a:pt x="402" y="364"/>
                    </a:lnTo>
                    <a:lnTo>
                      <a:pt x="381" y="318"/>
                    </a:lnTo>
                    <a:lnTo>
                      <a:pt x="369" y="296"/>
                    </a:lnTo>
                    <a:lnTo>
                      <a:pt x="357" y="275"/>
                    </a:lnTo>
                    <a:lnTo>
                      <a:pt x="344" y="253"/>
                    </a:lnTo>
                    <a:lnTo>
                      <a:pt x="332" y="232"/>
                    </a:lnTo>
                    <a:lnTo>
                      <a:pt x="318" y="212"/>
                    </a:lnTo>
                    <a:lnTo>
                      <a:pt x="303" y="193"/>
                    </a:lnTo>
                    <a:lnTo>
                      <a:pt x="288" y="174"/>
                    </a:lnTo>
                    <a:lnTo>
                      <a:pt x="272" y="156"/>
                    </a:lnTo>
                    <a:lnTo>
                      <a:pt x="255" y="138"/>
                    </a:lnTo>
                    <a:lnTo>
                      <a:pt x="238" y="122"/>
                    </a:lnTo>
                    <a:lnTo>
                      <a:pt x="220" y="106"/>
                    </a:lnTo>
                    <a:lnTo>
                      <a:pt x="200" y="90"/>
                    </a:lnTo>
                    <a:lnTo>
                      <a:pt x="181" y="75"/>
                    </a:lnTo>
                    <a:lnTo>
                      <a:pt x="161" y="62"/>
                    </a:lnTo>
                    <a:lnTo>
                      <a:pt x="139" y="49"/>
                    </a:lnTo>
                    <a:lnTo>
                      <a:pt x="116" y="37"/>
                    </a:lnTo>
                    <a:lnTo>
                      <a:pt x="92" y="27"/>
                    </a:lnTo>
                    <a:lnTo>
                      <a:pt x="68" y="17"/>
                    </a:lnTo>
                    <a:lnTo>
                      <a:pt x="43" y="8"/>
                    </a:lnTo>
                    <a:lnTo>
                      <a:pt x="17" y="0"/>
                    </a:lnTo>
                    <a:lnTo>
                      <a:pt x="0" y="66"/>
                    </a:lnTo>
                    <a:lnTo>
                      <a:pt x="23" y="73"/>
                    </a:lnTo>
                    <a:lnTo>
                      <a:pt x="44" y="80"/>
                    </a:lnTo>
                    <a:lnTo>
                      <a:pt x="66" y="89"/>
                    </a:lnTo>
                    <a:lnTo>
                      <a:pt x="86" y="98"/>
                    </a:lnTo>
                    <a:lnTo>
                      <a:pt x="106" y="108"/>
                    </a:lnTo>
                    <a:lnTo>
                      <a:pt x="124" y="120"/>
                    </a:lnTo>
                    <a:lnTo>
                      <a:pt x="142" y="131"/>
                    </a:lnTo>
                    <a:lnTo>
                      <a:pt x="159" y="143"/>
                    </a:lnTo>
                    <a:lnTo>
                      <a:pt x="176" y="157"/>
                    </a:lnTo>
                    <a:lnTo>
                      <a:pt x="192" y="171"/>
                    </a:lnTo>
                    <a:lnTo>
                      <a:pt x="207" y="186"/>
                    </a:lnTo>
                    <a:lnTo>
                      <a:pt x="222" y="202"/>
                    </a:lnTo>
                    <a:lnTo>
                      <a:pt x="236" y="218"/>
                    </a:lnTo>
                    <a:lnTo>
                      <a:pt x="249" y="234"/>
                    </a:lnTo>
                    <a:lnTo>
                      <a:pt x="263" y="252"/>
                    </a:lnTo>
                    <a:lnTo>
                      <a:pt x="276" y="270"/>
                    </a:lnTo>
                    <a:lnTo>
                      <a:pt x="287" y="288"/>
                    </a:lnTo>
                    <a:lnTo>
                      <a:pt x="298" y="308"/>
                    </a:lnTo>
                    <a:lnTo>
                      <a:pt x="310" y="328"/>
                    </a:lnTo>
                    <a:lnTo>
                      <a:pt x="320" y="348"/>
                    </a:lnTo>
                    <a:lnTo>
                      <a:pt x="341" y="391"/>
                    </a:lnTo>
                    <a:lnTo>
                      <a:pt x="360" y="436"/>
                    </a:lnTo>
                    <a:lnTo>
                      <a:pt x="377" y="482"/>
                    </a:lnTo>
                    <a:lnTo>
                      <a:pt x="394" y="530"/>
                    </a:lnTo>
                    <a:lnTo>
                      <a:pt x="410" y="578"/>
                    </a:lnTo>
                    <a:lnTo>
                      <a:pt x="425" y="628"/>
                    </a:lnTo>
                    <a:lnTo>
                      <a:pt x="424" y="620"/>
                    </a:lnTo>
                    <a:lnTo>
                      <a:pt x="425" y="628"/>
                    </a:lnTo>
                    <a:lnTo>
                      <a:pt x="427" y="636"/>
                    </a:lnTo>
                    <a:lnTo>
                      <a:pt x="432" y="642"/>
                    </a:lnTo>
                    <a:lnTo>
                      <a:pt x="436" y="647"/>
                    </a:lnTo>
                    <a:lnTo>
                      <a:pt x="442" y="650"/>
                    </a:lnTo>
                    <a:lnTo>
                      <a:pt x="448" y="652"/>
                    </a:lnTo>
                    <a:lnTo>
                      <a:pt x="454" y="653"/>
                    </a:lnTo>
                    <a:lnTo>
                      <a:pt x="460" y="653"/>
                    </a:lnTo>
                    <a:lnTo>
                      <a:pt x="466" y="652"/>
                    </a:lnTo>
                    <a:lnTo>
                      <a:pt x="472" y="650"/>
                    </a:lnTo>
                    <a:lnTo>
                      <a:pt x="477" y="647"/>
                    </a:lnTo>
                    <a:lnTo>
                      <a:pt x="482" y="642"/>
                    </a:lnTo>
                    <a:lnTo>
                      <a:pt x="487" y="637"/>
                    </a:lnTo>
                    <a:lnTo>
                      <a:pt x="489" y="632"/>
                    </a:lnTo>
                    <a:lnTo>
                      <a:pt x="491" y="625"/>
                    </a:lnTo>
                    <a:lnTo>
                      <a:pt x="491" y="618"/>
                    </a:lnTo>
                    <a:lnTo>
                      <a:pt x="490" y="610"/>
                    </a:lnTo>
                    <a:lnTo>
                      <a:pt x="491" y="6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5884920" y="4255920"/>
                <a:ext cx="155520" cy="217800"/>
              </a:xfrm>
              <a:custGeom>
                <a:avLst/>
                <a:gdLst/>
                <a:ahLst/>
                <a:rect l="l" t="t" r="r" b="b"/>
                <a:pathLst>
                  <a:path w="492" h="688">
                    <a:moveTo>
                      <a:pt x="16" y="681"/>
                    </a:moveTo>
                    <a:lnTo>
                      <a:pt x="53" y="681"/>
                    </a:lnTo>
                    <a:lnTo>
                      <a:pt x="100" y="647"/>
                    </a:lnTo>
                    <a:lnTo>
                      <a:pt x="146" y="610"/>
                    </a:lnTo>
                    <a:lnTo>
                      <a:pt x="167" y="592"/>
                    </a:lnTo>
                    <a:lnTo>
                      <a:pt x="189" y="573"/>
                    </a:lnTo>
                    <a:lnTo>
                      <a:pt x="209" y="555"/>
                    </a:lnTo>
                    <a:lnTo>
                      <a:pt x="230" y="535"/>
                    </a:lnTo>
                    <a:lnTo>
                      <a:pt x="249" y="515"/>
                    </a:lnTo>
                    <a:lnTo>
                      <a:pt x="269" y="495"/>
                    </a:lnTo>
                    <a:lnTo>
                      <a:pt x="288" y="475"/>
                    </a:lnTo>
                    <a:lnTo>
                      <a:pt x="305" y="454"/>
                    </a:lnTo>
                    <a:lnTo>
                      <a:pt x="323" y="434"/>
                    </a:lnTo>
                    <a:lnTo>
                      <a:pt x="339" y="412"/>
                    </a:lnTo>
                    <a:lnTo>
                      <a:pt x="355" y="390"/>
                    </a:lnTo>
                    <a:lnTo>
                      <a:pt x="370" y="369"/>
                    </a:lnTo>
                    <a:lnTo>
                      <a:pt x="385" y="347"/>
                    </a:lnTo>
                    <a:lnTo>
                      <a:pt x="399" y="325"/>
                    </a:lnTo>
                    <a:lnTo>
                      <a:pt x="411" y="304"/>
                    </a:lnTo>
                    <a:lnTo>
                      <a:pt x="423" y="281"/>
                    </a:lnTo>
                    <a:lnTo>
                      <a:pt x="434" y="258"/>
                    </a:lnTo>
                    <a:lnTo>
                      <a:pt x="444" y="235"/>
                    </a:lnTo>
                    <a:lnTo>
                      <a:pt x="453" y="212"/>
                    </a:lnTo>
                    <a:lnTo>
                      <a:pt x="462" y="189"/>
                    </a:lnTo>
                    <a:lnTo>
                      <a:pt x="469" y="165"/>
                    </a:lnTo>
                    <a:lnTo>
                      <a:pt x="476" y="143"/>
                    </a:lnTo>
                    <a:lnTo>
                      <a:pt x="481" y="119"/>
                    </a:lnTo>
                    <a:lnTo>
                      <a:pt x="485" y="96"/>
                    </a:lnTo>
                    <a:lnTo>
                      <a:pt x="489" y="72"/>
                    </a:lnTo>
                    <a:lnTo>
                      <a:pt x="491" y="48"/>
                    </a:lnTo>
                    <a:lnTo>
                      <a:pt x="492" y="24"/>
                    </a:lnTo>
                    <a:lnTo>
                      <a:pt x="492" y="0"/>
                    </a:lnTo>
                    <a:lnTo>
                      <a:pt x="425" y="2"/>
                    </a:lnTo>
                    <a:lnTo>
                      <a:pt x="425" y="23"/>
                    </a:lnTo>
                    <a:lnTo>
                      <a:pt x="424" y="43"/>
                    </a:lnTo>
                    <a:lnTo>
                      <a:pt x="421" y="64"/>
                    </a:lnTo>
                    <a:lnTo>
                      <a:pt x="419" y="84"/>
                    </a:lnTo>
                    <a:lnTo>
                      <a:pt x="415" y="106"/>
                    </a:lnTo>
                    <a:lnTo>
                      <a:pt x="410" y="127"/>
                    </a:lnTo>
                    <a:lnTo>
                      <a:pt x="404" y="147"/>
                    </a:lnTo>
                    <a:lnTo>
                      <a:pt x="399" y="168"/>
                    </a:lnTo>
                    <a:lnTo>
                      <a:pt x="391" y="188"/>
                    </a:lnTo>
                    <a:lnTo>
                      <a:pt x="383" y="209"/>
                    </a:lnTo>
                    <a:lnTo>
                      <a:pt x="374" y="229"/>
                    </a:lnTo>
                    <a:lnTo>
                      <a:pt x="363" y="250"/>
                    </a:lnTo>
                    <a:lnTo>
                      <a:pt x="352" y="270"/>
                    </a:lnTo>
                    <a:lnTo>
                      <a:pt x="341" y="291"/>
                    </a:lnTo>
                    <a:lnTo>
                      <a:pt x="328" y="312"/>
                    </a:lnTo>
                    <a:lnTo>
                      <a:pt x="314" y="331"/>
                    </a:lnTo>
                    <a:lnTo>
                      <a:pt x="301" y="351"/>
                    </a:lnTo>
                    <a:lnTo>
                      <a:pt x="286" y="371"/>
                    </a:lnTo>
                    <a:lnTo>
                      <a:pt x="270" y="390"/>
                    </a:lnTo>
                    <a:lnTo>
                      <a:pt x="254" y="411"/>
                    </a:lnTo>
                    <a:lnTo>
                      <a:pt x="238" y="430"/>
                    </a:lnTo>
                    <a:lnTo>
                      <a:pt x="220" y="448"/>
                    </a:lnTo>
                    <a:lnTo>
                      <a:pt x="201" y="468"/>
                    </a:lnTo>
                    <a:lnTo>
                      <a:pt x="183" y="486"/>
                    </a:lnTo>
                    <a:lnTo>
                      <a:pt x="164" y="504"/>
                    </a:lnTo>
                    <a:lnTo>
                      <a:pt x="144" y="523"/>
                    </a:lnTo>
                    <a:lnTo>
                      <a:pt x="124" y="541"/>
                    </a:lnTo>
                    <a:lnTo>
                      <a:pt x="103" y="558"/>
                    </a:lnTo>
                    <a:lnTo>
                      <a:pt x="59" y="593"/>
                    </a:lnTo>
                    <a:lnTo>
                      <a:pt x="14" y="625"/>
                    </a:lnTo>
                    <a:lnTo>
                      <a:pt x="52" y="625"/>
                    </a:lnTo>
                    <a:lnTo>
                      <a:pt x="14" y="625"/>
                    </a:lnTo>
                    <a:lnTo>
                      <a:pt x="8" y="631"/>
                    </a:lnTo>
                    <a:lnTo>
                      <a:pt x="4" y="637"/>
                    </a:lnTo>
                    <a:lnTo>
                      <a:pt x="1" y="642"/>
                    </a:lnTo>
                    <a:lnTo>
                      <a:pt x="0" y="649"/>
                    </a:lnTo>
                    <a:lnTo>
                      <a:pt x="0" y="655"/>
                    </a:lnTo>
                    <a:lnTo>
                      <a:pt x="1" y="662"/>
                    </a:lnTo>
                    <a:lnTo>
                      <a:pt x="3" y="667"/>
                    </a:lnTo>
                    <a:lnTo>
                      <a:pt x="5" y="673"/>
                    </a:lnTo>
                    <a:lnTo>
                      <a:pt x="10" y="678"/>
                    </a:lnTo>
                    <a:lnTo>
                      <a:pt x="14" y="682"/>
                    </a:lnTo>
                    <a:lnTo>
                      <a:pt x="20" y="685"/>
                    </a:lnTo>
                    <a:lnTo>
                      <a:pt x="26" y="687"/>
                    </a:lnTo>
                    <a:lnTo>
                      <a:pt x="33" y="688"/>
                    </a:lnTo>
                    <a:lnTo>
                      <a:pt x="40" y="687"/>
                    </a:lnTo>
                    <a:lnTo>
                      <a:pt x="46" y="685"/>
                    </a:lnTo>
                    <a:lnTo>
                      <a:pt x="53" y="681"/>
                    </a:lnTo>
                    <a:lnTo>
                      <a:pt x="16" y="6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5700600" y="4221000"/>
                <a:ext cx="200160" cy="250920"/>
              </a:xfrm>
              <a:custGeom>
                <a:avLst/>
                <a:gdLst/>
                <a:ahLst/>
                <a:rect l="l" t="t" r="r" b="b"/>
                <a:pathLst>
                  <a:path w="629" h="788">
                    <a:moveTo>
                      <a:pt x="1" y="28"/>
                    </a:moveTo>
                    <a:lnTo>
                      <a:pt x="1" y="39"/>
                    </a:lnTo>
                    <a:lnTo>
                      <a:pt x="7" y="75"/>
                    </a:lnTo>
                    <a:lnTo>
                      <a:pt x="13" y="109"/>
                    </a:lnTo>
                    <a:lnTo>
                      <a:pt x="20" y="142"/>
                    </a:lnTo>
                    <a:lnTo>
                      <a:pt x="28" y="174"/>
                    </a:lnTo>
                    <a:lnTo>
                      <a:pt x="36" y="205"/>
                    </a:lnTo>
                    <a:lnTo>
                      <a:pt x="45" y="234"/>
                    </a:lnTo>
                    <a:lnTo>
                      <a:pt x="55" y="262"/>
                    </a:lnTo>
                    <a:lnTo>
                      <a:pt x="65" y="288"/>
                    </a:lnTo>
                    <a:lnTo>
                      <a:pt x="76" y="315"/>
                    </a:lnTo>
                    <a:lnTo>
                      <a:pt x="89" y="340"/>
                    </a:lnTo>
                    <a:lnTo>
                      <a:pt x="101" y="364"/>
                    </a:lnTo>
                    <a:lnTo>
                      <a:pt x="115" y="387"/>
                    </a:lnTo>
                    <a:lnTo>
                      <a:pt x="130" y="409"/>
                    </a:lnTo>
                    <a:lnTo>
                      <a:pt x="145" y="431"/>
                    </a:lnTo>
                    <a:lnTo>
                      <a:pt x="161" y="452"/>
                    </a:lnTo>
                    <a:lnTo>
                      <a:pt x="178" y="472"/>
                    </a:lnTo>
                    <a:lnTo>
                      <a:pt x="196" y="493"/>
                    </a:lnTo>
                    <a:lnTo>
                      <a:pt x="215" y="512"/>
                    </a:lnTo>
                    <a:lnTo>
                      <a:pt x="236" y="531"/>
                    </a:lnTo>
                    <a:lnTo>
                      <a:pt x="256" y="551"/>
                    </a:lnTo>
                    <a:lnTo>
                      <a:pt x="278" y="569"/>
                    </a:lnTo>
                    <a:lnTo>
                      <a:pt x="301" y="589"/>
                    </a:lnTo>
                    <a:lnTo>
                      <a:pt x="325" y="607"/>
                    </a:lnTo>
                    <a:lnTo>
                      <a:pt x="350" y="626"/>
                    </a:lnTo>
                    <a:lnTo>
                      <a:pt x="403" y="664"/>
                    </a:lnTo>
                    <a:lnTo>
                      <a:pt x="462" y="703"/>
                    </a:lnTo>
                    <a:lnTo>
                      <a:pt x="524" y="745"/>
                    </a:lnTo>
                    <a:lnTo>
                      <a:pt x="593" y="788"/>
                    </a:lnTo>
                    <a:lnTo>
                      <a:pt x="629" y="732"/>
                    </a:lnTo>
                    <a:lnTo>
                      <a:pt x="561" y="688"/>
                    </a:lnTo>
                    <a:lnTo>
                      <a:pt x="499" y="647"/>
                    </a:lnTo>
                    <a:lnTo>
                      <a:pt x="442" y="608"/>
                    </a:lnTo>
                    <a:lnTo>
                      <a:pt x="390" y="571"/>
                    </a:lnTo>
                    <a:lnTo>
                      <a:pt x="366" y="553"/>
                    </a:lnTo>
                    <a:lnTo>
                      <a:pt x="343" y="535"/>
                    </a:lnTo>
                    <a:lnTo>
                      <a:pt x="321" y="518"/>
                    </a:lnTo>
                    <a:lnTo>
                      <a:pt x="301" y="500"/>
                    </a:lnTo>
                    <a:lnTo>
                      <a:pt x="281" y="482"/>
                    </a:lnTo>
                    <a:lnTo>
                      <a:pt x="263" y="464"/>
                    </a:lnTo>
                    <a:lnTo>
                      <a:pt x="245" y="447"/>
                    </a:lnTo>
                    <a:lnTo>
                      <a:pt x="229" y="429"/>
                    </a:lnTo>
                    <a:lnTo>
                      <a:pt x="213" y="409"/>
                    </a:lnTo>
                    <a:lnTo>
                      <a:pt x="199" y="391"/>
                    </a:lnTo>
                    <a:lnTo>
                      <a:pt x="186" y="372"/>
                    </a:lnTo>
                    <a:lnTo>
                      <a:pt x="172" y="351"/>
                    </a:lnTo>
                    <a:lnTo>
                      <a:pt x="161" y="331"/>
                    </a:lnTo>
                    <a:lnTo>
                      <a:pt x="148" y="309"/>
                    </a:lnTo>
                    <a:lnTo>
                      <a:pt x="138" y="287"/>
                    </a:lnTo>
                    <a:lnTo>
                      <a:pt x="127" y="263"/>
                    </a:lnTo>
                    <a:lnTo>
                      <a:pt x="118" y="238"/>
                    </a:lnTo>
                    <a:lnTo>
                      <a:pt x="109" y="213"/>
                    </a:lnTo>
                    <a:lnTo>
                      <a:pt x="101" y="186"/>
                    </a:lnTo>
                    <a:lnTo>
                      <a:pt x="93" y="157"/>
                    </a:lnTo>
                    <a:lnTo>
                      <a:pt x="85" y="128"/>
                    </a:lnTo>
                    <a:lnTo>
                      <a:pt x="80" y="97"/>
                    </a:lnTo>
                    <a:lnTo>
                      <a:pt x="73" y="64"/>
                    </a:lnTo>
                    <a:lnTo>
                      <a:pt x="67" y="28"/>
                    </a:lnTo>
                    <a:lnTo>
                      <a:pt x="67" y="40"/>
                    </a:lnTo>
                    <a:lnTo>
                      <a:pt x="67" y="28"/>
                    </a:lnTo>
                    <a:lnTo>
                      <a:pt x="65" y="20"/>
                    </a:lnTo>
                    <a:lnTo>
                      <a:pt x="63" y="15"/>
                    </a:lnTo>
                    <a:lnTo>
                      <a:pt x="58" y="9"/>
                    </a:lnTo>
                    <a:lnTo>
                      <a:pt x="53" y="6"/>
                    </a:lnTo>
                    <a:lnTo>
                      <a:pt x="48" y="2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7" y="4"/>
                    </a:lnTo>
                    <a:lnTo>
                      <a:pt x="11" y="8"/>
                    </a:lnTo>
                    <a:lnTo>
                      <a:pt x="7" y="12"/>
                    </a:lnTo>
                    <a:lnTo>
                      <a:pt x="3" y="18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1" y="39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5702400" y="4059360"/>
                <a:ext cx="195120" cy="174600"/>
              </a:xfrm>
              <a:custGeom>
                <a:avLst/>
                <a:gdLst/>
                <a:ahLst/>
                <a:rect l="l" t="t" r="r" b="b"/>
                <a:pathLst>
                  <a:path w="619" h="551">
                    <a:moveTo>
                      <a:pt x="594" y="0"/>
                    </a:moveTo>
                    <a:lnTo>
                      <a:pt x="581" y="0"/>
                    </a:lnTo>
                    <a:lnTo>
                      <a:pt x="551" y="4"/>
                    </a:lnTo>
                    <a:lnTo>
                      <a:pt x="521" y="9"/>
                    </a:lnTo>
                    <a:lnTo>
                      <a:pt x="492" y="15"/>
                    </a:lnTo>
                    <a:lnTo>
                      <a:pt x="465" y="21"/>
                    </a:lnTo>
                    <a:lnTo>
                      <a:pt x="438" y="29"/>
                    </a:lnTo>
                    <a:lnTo>
                      <a:pt x="410" y="37"/>
                    </a:lnTo>
                    <a:lnTo>
                      <a:pt x="385" y="46"/>
                    </a:lnTo>
                    <a:lnTo>
                      <a:pt x="360" y="57"/>
                    </a:lnTo>
                    <a:lnTo>
                      <a:pt x="336" y="68"/>
                    </a:lnTo>
                    <a:lnTo>
                      <a:pt x="312" y="80"/>
                    </a:lnTo>
                    <a:lnTo>
                      <a:pt x="290" y="92"/>
                    </a:lnTo>
                    <a:lnTo>
                      <a:pt x="268" y="106"/>
                    </a:lnTo>
                    <a:lnTo>
                      <a:pt x="246" y="120"/>
                    </a:lnTo>
                    <a:lnTo>
                      <a:pt x="226" y="134"/>
                    </a:lnTo>
                    <a:lnTo>
                      <a:pt x="206" y="150"/>
                    </a:lnTo>
                    <a:lnTo>
                      <a:pt x="188" y="167"/>
                    </a:lnTo>
                    <a:lnTo>
                      <a:pt x="170" y="185"/>
                    </a:lnTo>
                    <a:lnTo>
                      <a:pt x="153" y="203"/>
                    </a:lnTo>
                    <a:lnTo>
                      <a:pt x="136" y="222"/>
                    </a:lnTo>
                    <a:lnTo>
                      <a:pt x="121" y="242"/>
                    </a:lnTo>
                    <a:lnTo>
                      <a:pt x="106" y="262"/>
                    </a:lnTo>
                    <a:lnTo>
                      <a:pt x="92" y="284"/>
                    </a:lnTo>
                    <a:lnTo>
                      <a:pt x="80" y="307"/>
                    </a:lnTo>
                    <a:lnTo>
                      <a:pt x="67" y="329"/>
                    </a:lnTo>
                    <a:lnTo>
                      <a:pt x="56" y="353"/>
                    </a:lnTo>
                    <a:lnTo>
                      <a:pt x="46" y="377"/>
                    </a:lnTo>
                    <a:lnTo>
                      <a:pt x="35" y="402"/>
                    </a:lnTo>
                    <a:lnTo>
                      <a:pt x="27" y="428"/>
                    </a:lnTo>
                    <a:lnTo>
                      <a:pt x="18" y="455"/>
                    </a:lnTo>
                    <a:lnTo>
                      <a:pt x="11" y="482"/>
                    </a:lnTo>
                    <a:lnTo>
                      <a:pt x="6" y="510"/>
                    </a:lnTo>
                    <a:lnTo>
                      <a:pt x="0" y="539"/>
                    </a:lnTo>
                    <a:lnTo>
                      <a:pt x="66" y="551"/>
                    </a:lnTo>
                    <a:lnTo>
                      <a:pt x="71" y="523"/>
                    </a:lnTo>
                    <a:lnTo>
                      <a:pt x="77" y="498"/>
                    </a:lnTo>
                    <a:lnTo>
                      <a:pt x="83" y="473"/>
                    </a:lnTo>
                    <a:lnTo>
                      <a:pt x="91" y="449"/>
                    </a:lnTo>
                    <a:lnTo>
                      <a:pt x="99" y="425"/>
                    </a:lnTo>
                    <a:lnTo>
                      <a:pt x="108" y="402"/>
                    </a:lnTo>
                    <a:lnTo>
                      <a:pt x="117" y="381"/>
                    </a:lnTo>
                    <a:lnTo>
                      <a:pt x="128" y="359"/>
                    </a:lnTo>
                    <a:lnTo>
                      <a:pt x="138" y="339"/>
                    </a:lnTo>
                    <a:lnTo>
                      <a:pt x="149" y="319"/>
                    </a:lnTo>
                    <a:lnTo>
                      <a:pt x="162" y="301"/>
                    </a:lnTo>
                    <a:lnTo>
                      <a:pt x="174" y="282"/>
                    </a:lnTo>
                    <a:lnTo>
                      <a:pt x="188" y="264"/>
                    </a:lnTo>
                    <a:lnTo>
                      <a:pt x="203" y="248"/>
                    </a:lnTo>
                    <a:lnTo>
                      <a:pt x="218" y="232"/>
                    </a:lnTo>
                    <a:lnTo>
                      <a:pt x="234" y="216"/>
                    </a:lnTo>
                    <a:lnTo>
                      <a:pt x="250" y="202"/>
                    </a:lnTo>
                    <a:lnTo>
                      <a:pt x="267" y="188"/>
                    </a:lnTo>
                    <a:lnTo>
                      <a:pt x="285" y="175"/>
                    </a:lnTo>
                    <a:lnTo>
                      <a:pt x="303" y="163"/>
                    </a:lnTo>
                    <a:lnTo>
                      <a:pt x="324" y="150"/>
                    </a:lnTo>
                    <a:lnTo>
                      <a:pt x="343" y="139"/>
                    </a:lnTo>
                    <a:lnTo>
                      <a:pt x="365" y="129"/>
                    </a:lnTo>
                    <a:lnTo>
                      <a:pt x="386" y="120"/>
                    </a:lnTo>
                    <a:lnTo>
                      <a:pt x="409" y="110"/>
                    </a:lnTo>
                    <a:lnTo>
                      <a:pt x="432" y="101"/>
                    </a:lnTo>
                    <a:lnTo>
                      <a:pt x="456" y="94"/>
                    </a:lnTo>
                    <a:lnTo>
                      <a:pt x="481" y="86"/>
                    </a:lnTo>
                    <a:lnTo>
                      <a:pt x="507" y="81"/>
                    </a:lnTo>
                    <a:lnTo>
                      <a:pt x="533" y="75"/>
                    </a:lnTo>
                    <a:lnTo>
                      <a:pt x="562" y="70"/>
                    </a:lnTo>
                    <a:lnTo>
                      <a:pt x="589" y="66"/>
                    </a:lnTo>
                    <a:lnTo>
                      <a:pt x="577" y="66"/>
                    </a:lnTo>
                    <a:lnTo>
                      <a:pt x="589" y="66"/>
                    </a:lnTo>
                    <a:lnTo>
                      <a:pt x="597" y="65"/>
                    </a:lnTo>
                    <a:lnTo>
                      <a:pt x="604" y="61"/>
                    </a:lnTo>
                    <a:lnTo>
                      <a:pt x="609" y="58"/>
                    </a:lnTo>
                    <a:lnTo>
                      <a:pt x="613" y="52"/>
                    </a:lnTo>
                    <a:lnTo>
                      <a:pt x="617" y="48"/>
                    </a:lnTo>
                    <a:lnTo>
                      <a:pt x="618" y="41"/>
                    </a:lnTo>
                    <a:lnTo>
                      <a:pt x="619" y="35"/>
                    </a:lnTo>
                    <a:lnTo>
                      <a:pt x="619" y="28"/>
                    </a:lnTo>
                    <a:lnTo>
                      <a:pt x="618" y="23"/>
                    </a:lnTo>
                    <a:lnTo>
                      <a:pt x="616" y="17"/>
                    </a:lnTo>
                    <a:lnTo>
                      <a:pt x="612" y="11"/>
                    </a:lnTo>
                    <a:lnTo>
                      <a:pt x="608" y="7"/>
                    </a:lnTo>
                    <a:lnTo>
                      <a:pt x="602" y="3"/>
                    </a:lnTo>
                    <a:lnTo>
                      <a:pt x="596" y="1"/>
                    </a:lnTo>
                    <a:lnTo>
                      <a:pt x="589" y="0"/>
                    </a:lnTo>
                    <a:lnTo>
                      <a:pt x="581" y="0"/>
                    </a:lnTo>
                    <a:lnTo>
                      <a:pt x="59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5986440" y="4237200"/>
                <a:ext cx="318960" cy="393480"/>
              </a:xfrm>
              <a:custGeom>
                <a:avLst/>
                <a:gdLst/>
                <a:ahLst/>
                <a:rect l="l" t="t" r="r" b="b"/>
                <a:pathLst>
                  <a:path w="1001" h="1239">
                    <a:moveTo>
                      <a:pt x="552" y="0"/>
                    </a:moveTo>
                    <a:lnTo>
                      <a:pt x="577" y="8"/>
                    </a:lnTo>
                    <a:lnTo>
                      <a:pt x="601" y="16"/>
                    </a:lnTo>
                    <a:lnTo>
                      <a:pt x="623" y="25"/>
                    </a:lnTo>
                    <a:lnTo>
                      <a:pt x="646" y="35"/>
                    </a:lnTo>
                    <a:lnTo>
                      <a:pt x="666" y="47"/>
                    </a:lnTo>
                    <a:lnTo>
                      <a:pt x="687" y="58"/>
                    </a:lnTo>
                    <a:lnTo>
                      <a:pt x="706" y="70"/>
                    </a:lnTo>
                    <a:lnTo>
                      <a:pt x="724" y="84"/>
                    </a:lnTo>
                    <a:lnTo>
                      <a:pt x="743" y="98"/>
                    </a:lnTo>
                    <a:lnTo>
                      <a:pt x="759" y="114"/>
                    </a:lnTo>
                    <a:lnTo>
                      <a:pt x="776" y="129"/>
                    </a:lnTo>
                    <a:lnTo>
                      <a:pt x="792" y="146"/>
                    </a:lnTo>
                    <a:lnTo>
                      <a:pt x="806" y="163"/>
                    </a:lnTo>
                    <a:lnTo>
                      <a:pt x="820" y="181"/>
                    </a:lnTo>
                    <a:lnTo>
                      <a:pt x="834" y="199"/>
                    </a:lnTo>
                    <a:lnTo>
                      <a:pt x="847" y="218"/>
                    </a:lnTo>
                    <a:lnTo>
                      <a:pt x="860" y="238"/>
                    </a:lnTo>
                    <a:lnTo>
                      <a:pt x="873" y="258"/>
                    </a:lnTo>
                    <a:lnTo>
                      <a:pt x="884" y="279"/>
                    </a:lnTo>
                    <a:lnTo>
                      <a:pt x="895" y="300"/>
                    </a:lnTo>
                    <a:lnTo>
                      <a:pt x="916" y="344"/>
                    </a:lnTo>
                    <a:lnTo>
                      <a:pt x="935" y="389"/>
                    </a:lnTo>
                    <a:lnTo>
                      <a:pt x="953" y="437"/>
                    </a:lnTo>
                    <a:lnTo>
                      <a:pt x="969" y="485"/>
                    </a:lnTo>
                    <a:lnTo>
                      <a:pt x="985" y="534"/>
                    </a:lnTo>
                    <a:lnTo>
                      <a:pt x="1001" y="584"/>
                    </a:lnTo>
                    <a:lnTo>
                      <a:pt x="1001" y="607"/>
                    </a:lnTo>
                    <a:lnTo>
                      <a:pt x="1000" y="628"/>
                    </a:lnTo>
                    <a:lnTo>
                      <a:pt x="998" y="651"/>
                    </a:lnTo>
                    <a:lnTo>
                      <a:pt x="996" y="673"/>
                    </a:lnTo>
                    <a:lnTo>
                      <a:pt x="991" y="696"/>
                    </a:lnTo>
                    <a:lnTo>
                      <a:pt x="987" y="717"/>
                    </a:lnTo>
                    <a:lnTo>
                      <a:pt x="980" y="740"/>
                    </a:lnTo>
                    <a:lnTo>
                      <a:pt x="973" y="762"/>
                    </a:lnTo>
                    <a:lnTo>
                      <a:pt x="965" y="784"/>
                    </a:lnTo>
                    <a:lnTo>
                      <a:pt x="957" y="805"/>
                    </a:lnTo>
                    <a:lnTo>
                      <a:pt x="947" y="827"/>
                    </a:lnTo>
                    <a:lnTo>
                      <a:pt x="936" y="849"/>
                    </a:lnTo>
                    <a:lnTo>
                      <a:pt x="925" y="870"/>
                    </a:lnTo>
                    <a:lnTo>
                      <a:pt x="912" y="892"/>
                    </a:lnTo>
                    <a:lnTo>
                      <a:pt x="900" y="914"/>
                    </a:lnTo>
                    <a:lnTo>
                      <a:pt x="885" y="934"/>
                    </a:lnTo>
                    <a:lnTo>
                      <a:pt x="871" y="955"/>
                    </a:lnTo>
                    <a:lnTo>
                      <a:pt x="855" y="976"/>
                    </a:lnTo>
                    <a:lnTo>
                      <a:pt x="839" y="997"/>
                    </a:lnTo>
                    <a:lnTo>
                      <a:pt x="823" y="1016"/>
                    </a:lnTo>
                    <a:lnTo>
                      <a:pt x="805" y="1037"/>
                    </a:lnTo>
                    <a:lnTo>
                      <a:pt x="787" y="1056"/>
                    </a:lnTo>
                    <a:lnTo>
                      <a:pt x="769" y="1077"/>
                    </a:lnTo>
                    <a:lnTo>
                      <a:pt x="749" y="1095"/>
                    </a:lnTo>
                    <a:lnTo>
                      <a:pt x="730" y="1114"/>
                    </a:lnTo>
                    <a:lnTo>
                      <a:pt x="709" y="1134"/>
                    </a:lnTo>
                    <a:lnTo>
                      <a:pt x="689" y="1152"/>
                    </a:lnTo>
                    <a:lnTo>
                      <a:pt x="667" y="1170"/>
                    </a:lnTo>
                    <a:lnTo>
                      <a:pt x="623" y="1205"/>
                    </a:lnTo>
                    <a:lnTo>
                      <a:pt x="576" y="1239"/>
                    </a:lnTo>
                    <a:lnTo>
                      <a:pt x="509" y="1194"/>
                    </a:lnTo>
                    <a:lnTo>
                      <a:pt x="446" y="1153"/>
                    </a:lnTo>
                    <a:lnTo>
                      <a:pt x="389" y="1114"/>
                    </a:lnTo>
                    <a:lnTo>
                      <a:pt x="336" y="1077"/>
                    </a:lnTo>
                    <a:lnTo>
                      <a:pt x="312" y="1057"/>
                    </a:lnTo>
                    <a:lnTo>
                      <a:pt x="288" y="1039"/>
                    </a:lnTo>
                    <a:lnTo>
                      <a:pt x="266" y="1021"/>
                    </a:lnTo>
                    <a:lnTo>
                      <a:pt x="244" y="1003"/>
                    </a:lnTo>
                    <a:lnTo>
                      <a:pt x="224" y="984"/>
                    </a:lnTo>
                    <a:lnTo>
                      <a:pt x="206" y="966"/>
                    </a:lnTo>
                    <a:lnTo>
                      <a:pt x="187" y="947"/>
                    </a:lnTo>
                    <a:lnTo>
                      <a:pt x="170" y="927"/>
                    </a:lnTo>
                    <a:lnTo>
                      <a:pt x="153" y="908"/>
                    </a:lnTo>
                    <a:lnTo>
                      <a:pt x="138" y="887"/>
                    </a:lnTo>
                    <a:lnTo>
                      <a:pt x="124" y="867"/>
                    </a:lnTo>
                    <a:lnTo>
                      <a:pt x="110" y="846"/>
                    </a:lnTo>
                    <a:lnTo>
                      <a:pt x="96" y="823"/>
                    </a:lnTo>
                    <a:lnTo>
                      <a:pt x="85" y="801"/>
                    </a:lnTo>
                    <a:lnTo>
                      <a:pt x="73" y="777"/>
                    </a:lnTo>
                    <a:lnTo>
                      <a:pt x="62" y="753"/>
                    </a:lnTo>
                    <a:lnTo>
                      <a:pt x="53" y="726"/>
                    </a:lnTo>
                    <a:lnTo>
                      <a:pt x="44" y="699"/>
                    </a:lnTo>
                    <a:lnTo>
                      <a:pt x="35" y="672"/>
                    </a:lnTo>
                    <a:lnTo>
                      <a:pt x="27" y="642"/>
                    </a:lnTo>
                    <a:lnTo>
                      <a:pt x="19" y="611"/>
                    </a:lnTo>
                    <a:lnTo>
                      <a:pt x="12" y="579"/>
                    </a:lnTo>
                    <a:lnTo>
                      <a:pt x="6" y="545"/>
                    </a:lnTo>
                    <a:lnTo>
                      <a:pt x="0" y="510"/>
                    </a:lnTo>
                    <a:lnTo>
                      <a:pt x="5" y="482"/>
                    </a:lnTo>
                    <a:lnTo>
                      <a:pt x="12" y="455"/>
                    </a:lnTo>
                    <a:lnTo>
                      <a:pt x="19" y="430"/>
                    </a:lnTo>
                    <a:lnTo>
                      <a:pt x="25" y="404"/>
                    </a:lnTo>
                    <a:lnTo>
                      <a:pt x="35" y="380"/>
                    </a:lnTo>
                    <a:lnTo>
                      <a:pt x="44" y="356"/>
                    </a:lnTo>
                    <a:lnTo>
                      <a:pt x="54" y="333"/>
                    </a:lnTo>
                    <a:lnTo>
                      <a:pt x="64" y="310"/>
                    </a:lnTo>
                    <a:lnTo>
                      <a:pt x="76" y="290"/>
                    </a:lnTo>
                    <a:lnTo>
                      <a:pt x="88" y="268"/>
                    </a:lnTo>
                    <a:lnTo>
                      <a:pt x="101" y="248"/>
                    </a:lnTo>
                    <a:lnTo>
                      <a:pt x="114" y="229"/>
                    </a:lnTo>
                    <a:lnTo>
                      <a:pt x="129" y="210"/>
                    </a:lnTo>
                    <a:lnTo>
                      <a:pt x="144" y="193"/>
                    </a:lnTo>
                    <a:lnTo>
                      <a:pt x="161" y="175"/>
                    </a:lnTo>
                    <a:lnTo>
                      <a:pt x="177" y="159"/>
                    </a:lnTo>
                    <a:lnTo>
                      <a:pt x="195" y="143"/>
                    </a:lnTo>
                    <a:lnTo>
                      <a:pt x="214" y="129"/>
                    </a:lnTo>
                    <a:lnTo>
                      <a:pt x="233" y="115"/>
                    </a:lnTo>
                    <a:lnTo>
                      <a:pt x="252" y="101"/>
                    </a:lnTo>
                    <a:lnTo>
                      <a:pt x="273" y="89"/>
                    </a:lnTo>
                    <a:lnTo>
                      <a:pt x="295" y="76"/>
                    </a:lnTo>
                    <a:lnTo>
                      <a:pt x="317" y="66"/>
                    </a:lnTo>
                    <a:lnTo>
                      <a:pt x="340" y="56"/>
                    </a:lnTo>
                    <a:lnTo>
                      <a:pt x="364" y="45"/>
                    </a:lnTo>
                    <a:lnTo>
                      <a:pt x="388" y="37"/>
                    </a:lnTo>
                    <a:lnTo>
                      <a:pt x="414" y="29"/>
                    </a:lnTo>
                    <a:lnTo>
                      <a:pt x="440" y="21"/>
                    </a:lnTo>
                    <a:lnTo>
                      <a:pt x="467" y="16"/>
                    </a:lnTo>
                    <a:lnTo>
                      <a:pt x="495" y="9"/>
                    </a:lnTo>
                    <a:lnTo>
                      <a:pt x="524" y="4"/>
                    </a:lnTo>
                    <a:lnTo>
                      <a:pt x="55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6159600" y="4227480"/>
                <a:ext cx="155520" cy="206280"/>
              </a:xfrm>
              <a:custGeom>
                <a:avLst/>
                <a:gdLst/>
                <a:ahLst/>
                <a:rect l="l" t="t" r="r" b="b"/>
                <a:pathLst>
                  <a:path w="490" h="650">
                    <a:moveTo>
                      <a:pt x="490" y="616"/>
                    </a:moveTo>
                    <a:lnTo>
                      <a:pt x="489" y="607"/>
                    </a:lnTo>
                    <a:lnTo>
                      <a:pt x="474" y="557"/>
                    </a:lnTo>
                    <a:lnTo>
                      <a:pt x="457" y="506"/>
                    </a:lnTo>
                    <a:lnTo>
                      <a:pt x="440" y="457"/>
                    </a:lnTo>
                    <a:lnTo>
                      <a:pt x="422" y="408"/>
                    </a:lnTo>
                    <a:lnTo>
                      <a:pt x="403" y="361"/>
                    </a:lnTo>
                    <a:lnTo>
                      <a:pt x="381" y="317"/>
                    </a:lnTo>
                    <a:lnTo>
                      <a:pt x="370" y="294"/>
                    </a:lnTo>
                    <a:lnTo>
                      <a:pt x="357" y="274"/>
                    </a:lnTo>
                    <a:lnTo>
                      <a:pt x="344" y="252"/>
                    </a:lnTo>
                    <a:lnTo>
                      <a:pt x="332" y="231"/>
                    </a:lnTo>
                    <a:lnTo>
                      <a:pt x="317" y="211"/>
                    </a:lnTo>
                    <a:lnTo>
                      <a:pt x="303" y="191"/>
                    </a:lnTo>
                    <a:lnTo>
                      <a:pt x="287" y="173"/>
                    </a:lnTo>
                    <a:lnTo>
                      <a:pt x="272" y="155"/>
                    </a:lnTo>
                    <a:lnTo>
                      <a:pt x="256" y="138"/>
                    </a:lnTo>
                    <a:lnTo>
                      <a:pt x="238" y="121"/>
                    </a:lnTo>
                    <a:lnTo>
                      <a:pt x="220" y="105"/>
                    </a:lnTo>
                    <a:lnTo>
                      <a:pt x="201" y="89"/>
                    </a:lnTo>
                    <a:lnTo>
                      <a:pt x="180" y="75"/>
                    </a:lnTo>
                    <a:lnTo>
                      <a:pt x="160" y="61"/>
                    </a:lnTo>
                    <a:lnTo>
                      <a:pt x="138" y="49"/>
                    </a:lnTo>
                    <a:lnTo>
                      <a:pt x="116" y="36"/>
                    </a:lnTo>
                    <a:lnTo>
                      <a:pt x="93" y="26"/>
                    </a:lnTo>
                    <a:lnTo>
                      <a:pt x="69" y="16"/>
                    </a:lnTo>
                    <a:lnTo>
                      <a:pt x="44" y="8"/>
                    </a:lnTo>
                    <a:lnTo>
                      <a:pt x="17" y="0"/>
                    </a:lnTo>
                    <a:lnTo>
                      <a:pt x="0" y="65"/>
                    </a:lnTo>
                    <a:lnTo>
                      <a:pt x="23" y="72"/>
                    </a:lnTo>
                    <a:lnTo>
                      <a:pt x="45" y="80"/>
                    </a:lnTo>
                    <a:lnTo>
                      <a:pt x="66" y="88"/>
                    </a:lnTo>
                    <a:lnTo>
                      <a:pt x="87" y="97"/>
                    </a:lnTo>
                    <a:lnTo>
                      <a:pt x="106" y="107"/>
                    </a:lnTo>
                    <a:lnTo>
                      <a:pt x="124" y="118"/>
                    </a:lnTo>
                    <a:lnTo>
                      <a:pt x="143" y="130"/>
                    </a:lnTo>
                    <a:lnTo>
                      <a:pt x="160" y="142"/>
                    </a:lnTo>
                    <a:lnTo>
                      <a:pt x="176" y="156"/>
                    </a:lnTo>
                    <a:lnTo>
                      <a:pt x="192" y="170"/>
                    </a:lnTo>
                    <a:lnTo>
                      <a:pt x="208" y="185"/>
                    </a:lnTo>
                    <a:lnTo>
                      <a:pt x="222" y="201"/>
                    </a:lnTo>
                    <a:lnTo>
                      <a:pt x="236" y="217"/>
                    </a:lnTo>
                    <a:lnTo>
                      <a:pt x="250" y="234"/>
                    </a:lnTo>
                    <a:lnTo>
                      <a:pt x="262" y="251"/>
                    </a:lnTo>
                    <a:lnTo>
                      <a:pt x="275" y="269"/>
                    </a:lnTo>
                    <a:lnTo>
                      <a:pt x="287" y="287"/>
                    </a:lnTo>
                    <a:lnTo>
                      <a:pt x="299" y="307"/>
                    </a:lnTo>
                    <a:lnTo>
                      <a:pt x="310" y="327"/>
                    </a:lnTo>
                    <a:lnTo>
                      <a:pt x="321" y="347"/>
                    </a:lnTo>
                    <a:lnTo>
                      <a:pt x="341" y="390"/>
                    </a:lnTo>
                    <a:lnTo>
                      <a:pt x="359" y="433"/>
                    </a:lnTo>
                    <a:lnTo>
                      <a:pt x="378" y="480"/>
                    </a:lnTo>
                    <a:lnTo>
                      <a:pt x="393" y="527"/>
                    </a:lnTo>
                    <a:lnTo>
                      <a:pt x="409" y="576"/>
                    </a:lnTo>
                    <a:lnTo>
                      <a:pt x="424" y="626"/>
                    </a:lnTo>
                    <a:lnTo>
                      <a:pt x="423" y="617"/>
                    </a:lnTo>
                    <a:lnTo>
                      <a:pt x="424" y="626"/>
                    </a:lnTo>
                    <a:lnTo>
                      <a:pt x="428" y="633"/>
                    </a:lnTo>
                    <a:lnTo>
                      <a:pt x="432" y="640"/>
                    </a:lnTo>
                    <a:lnTo>
                      <a:pt x="437" y="644"/>
                    </a:lnTo>
                    <a:lnTo>
                      <a:pt x="443" y="648"/>
                    </a:lnTo>
                    <a:lnTo>
                      <a:pt x="448" y="649"/>
                    </a:lnTo>
                    <a:lnTo>
                      <a:pt x="454" y="650"/>
                    </a:lnTo>
                    <a:lnTo>
                      <a:pt x="461" y="650"/>
                    </a:lnTo>
                    <a:lnTo>
                      <a:pt x="466" y="649"/>
                    </a:lnTo>
                    <a:lnTo>
                      <a:pt x="472" y="647"/>
                    </a:lnTo>
                    <a:lnTo>
                      <a:pt x="478" y="643"/>
                    </a:lnTo>
                    <a:lnTo>
                      <a:pt x="482" y="639"/>
                    </a:lnTo>
                    <a:lnTo>
                      <a:pt x="487" y="634"/>
                    </a:lnTo>
                    <a:lnTo>
                      <a:pt x="489" y="628"/>
                    </a:lnTo>
                    <a:lnTo>
                      <a:pt x="490" y="622"/>
                    </a:lnTo>
                    <a:lnTo>
                      <a:pt x="490" y="615"/>
                    </a:lnTo>
                    <a:lnTo>
                      <a:pt x="489" y="607"/>
                    </a:lnTo>
                    <a:lnTo>
                      <a:pt x="490" y="6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6159600" y="4422600"/>
                <a:ext cx="155520" cy="219240"/>
              </a:xfrm>
              <a:custGeom>
                <a:avLst/>
                <a:gdLst/>
                <a:ahLst/>
                <a:rect l="l" t="t" r="r" b="b"/>
                <a:pathLst>
                  <a:path w="492" h="689">
                    <a:moveTo>
                      <a:pt x="16" y="683"/>
                    </a:moveTo>
                    <a:lnTo>
                      <a:pt x="53" y="682"/>
                    </a:lnTo>
                    <a:lnTo>
                      <a:pt x="101" y="648"/>
                    </a:lnTo>
                    <a:lnTo>
                      <a:pt x="146" y="613"/>
                    </a:lnTo>
                    <a:lnTo>
                      <a:pt x="169" y="593"/>
                    </a:lnTo>
                    <a:lnTo>
                      <a:pt x="190" y="574"/>
                    </a:lnTo>
                    <a:lnTo>
                      <a:pt x="211" y="555"/>
                    </a:lnTo>
                    <a:lnTo>
                      <a:pt x="231" y="535"/>
                    </a:lnTo>
                    <a:lnTo>
                      <a:pt x="251" y="516"/>
                    </a:lnTo>
                    <a:lnTo>
                      <a:pt x="270" y="496"/>
                    </a:lnTo>
                    <a:lnTo>
                      <a:pt x="288" y="476"/>
                    </a:lnTo>
                    <a:lnTo>
                      <a:pt x="307" y="454"/>
                    </a:lnTo>
                    <a:lnTo>
                      <a:pt x="324" y="433"/>
                    </a:lnTo>
                    <a:lnTo>
                      <a:pt x="341" y="412"/>
                    </a:lnTo>
                    <a:lnTo>
                      <a:pt x="357" y="391"/>
                    </a:lnTo>
                    <a:lnTo>
                      <a:pt x="372" y="370"/>
                    </a:lnTo>
                    <a:lnTo>
                      <a:pt x="386" y="348"/>
                    </a:lnTo>
                    <a:lnTo>
                      <a:pt x="399" y="325"/>
                    </a:lnTo>
                    <a:lnTo>
                      <a:pt x="413" y="303"/>
                    </a:lnTo>
                    <a:lnTo>
                      <a:pt x="424" y="281"/>
                    </a:lnTo>
                    <a:lnTo>
                      <a:pt x="435" y="258"/>
                    </a:lnTo>
                    <a:lnTo>
                      <a:pt x="446" y="235"/>
                    </a:lnTo>
                    <a:lnTo>
                      <a:pt x="455" y="212"/>
                    </a:lnTo>
                    <a:lnTo>
                      <a:pt x="463" y="188"/>
                    </a:lnTo>
                    <a:lnTo>
                      <a:pt x="471" y="165"/>
                    </a:lnTo>
                    <a:lnTo>
                      <a:pt x="476" y="141"/>
                    </a:lnTo>
                    <a:lnTo>
                      <a:pt x="482" y="119"/>
                    </a:lnTo>
                    <a:lnTo>
                      <a:pt x="487" y="95"/>
                    </a:lnTo>
                    <a:lnTo>
                      <a:pt x="490" y="71"/>
                    </a:lnTo>
                    <a:lnTo>
                      <a:pt x="492" y="47"/>
                    </a:lnTo>
                    <a:lnTo>
                      <a:pt x="492" y="24"/>
                    </a:lnTo>
                    <a:lnTo>
                      <a:pt x="492" y="0"/>
                    </a:lnTo>
                    <a:lnTo>
                      <a:pt x="425" y="1"/>
                    </a:lnTo>
                    <a:lnTo>
                      <a:pt x="425" y="22"/>
                    </a:lnTo>
                    <a:lnTo>
                      <a:pt x="425" y="42"/>
                    </a:lnTo>
                    <a:lnTo>
                      <a:pt x="423" y="64"/>
                    </a:lnTo>
                    <a:lnTo>
                      <a:pt x="419" y="84"/>
                    </a:lnTo>
                    <a:lnTo>
                      <a:pt x="416" y="105"/>
                    </a:lnTo>
                    <a:lnTo>
                      <a:pt x="411" y="125"/>
                    </a:lnTo>
                    <a:lnTo>
                      <a:pt x="406" y="146"/>
                    </a:lnTo>
                    <a:lnTo>
                      <a:pt x="399" y="166"/>
                    </a:lnTo>
                    <a:lnTo>
                      <a:pt x="392" y="188"/>
                    </a:lnTo>
                    <a:lnTo>
                      <a:pt x="383" y="209"/>
                    </a:lnTo>
                    <a:lnTo>
                      <a:pt x="374" y="229"/>
                    </a:lnTo>
                    <a:lnTo>
                      <a:pt x="364" y="250"/>
                    </a:lnTo>
                    <a:lnTo>
                      <a:pt x="353" y="270"/>
                    </a:lnTo>
                    <a:lnTo>
                      <a:pt x="342" y="291"/>
                    </a:lnTo>
                    <a:lnTo>
                      <a:pt x="329" y="311"/>
                    </a:lnTo>
                    <a:lnTo>
                      <a:pt x="316" y="332"/>
                    </a:lnTo>
                    <a:lnTo>
                      <a:pt x="302" y="351"/>
                    </a:lnTo>
                    <a:lnTo>
                      <a:pt x="287" y="372"/>
                    </a:lnTo>
                    <a:lnTo>
                      <a:pt x="271" y="391"/>
                    </a:lnTo>
                    <a:lnTo>
                      <a:pt x="255" y="411"/>
                    </a:lnTo>
                    <a:lnTo>
                      <a:pt x="238" y="430"/>
                    </a:lnTo>
                    <a:lnTo>
                      <a:pt x="221" y="449"/>
                    </a:lnTo>
                    <a:lnTo>
                      <a:pt x="203" y="469"/>
                    </a:lnTo>
                    <a:lnTo>
                      <a:pt x="185" y="487"/>
                    </a:lnTo>
                    <a:lnTo>
                      <a:pt x="165" y="506"/>
                    </a:lnTo>
                    <a:lnTo>
                      <a:pt x="145" y="525"/>
                    </a:lnTo>
                    <a:lnTo>
                      <a:pt x="124" y="542"/>
                    </a:lnTo>
                    <a:lnTo>
                      <a:pt x="104" y="559"/>
                    </a:lnTo>
                    <a:lnTo>
                      <a:pt x="60" y="594"/>
                    </a:lnTo>
                    <a:lnTo>
                      <a:pt x="15" y="627"/>
                    </a:lnTo>
                    <a:lnTo>
                      <a:pt x="52" y="626"/>
                    </a:lnTo>
                    <a:lnTo>
                      <a:pt x="15" y="627"/>
                    </a:lnTo>
                    <a:lnTo>
                      <a:pt x="9" y="632"/>
                    </a:lnTo>
                    <a:lnTo>
                      <a:pt x="4" y="638"/>
                    </a:lnTo>
                    <a:lnTo>
                      <a:pt x="2" y="644"/>
                    </a:lnTo>
                    <a:lnTo>
                      <a:pt x="1" y="650"/>
                    </a:lnTo>
                    <a:lnTo>
                      <a:pt x="0" y="657"/>
                    </a:lnTo>
                    <a:lnTo>
                      <a:pt x="1" y="663"/>
                    </a:lnTo>
                    <a:lnTo>
                      <a:pt x="3" y="668"/>
                    </a:lnTo>
                    <a:lnTo>
                      <a:pt x="7" y="674"/>
                    </a:lnTo>
                    <a:lnTo>
                      <a:pt x="11" y="679"/>
                    </a:lnTo>
                    <a:lnTo>
                      <a:pt x="16" y="683"/>
                    </a:lnTo>
                    <a:lnTo>
                      <a:pt x="22" y="687"/>
                    </a:lnTo>
                    <a:lnTo>
                      <a:pt x="27" y="688"/>
                    </a:lnTo>
                    <a:lnTo>
                      <a:pt x="33" y="689"/>
                    </a:lnTo>
                    <a:lnTo>
                      <a:pt x="40" y="689"/>
                    </a:lnTo>
                    <a:lnTo>
                      <a:pt x="47" y="687"/>
                    </a:lnTo>
                    <a:lnTo>
                      <a:pt x="53" y="682"/>
                    </a:lnTo>
                    <a:lnTo>
                      <a:pt x="16" y="6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5977080" y="4387680"/>
                <a:ext cx="198360" cy="250920"/>
              </a:xfrm>
              <a:custGeom>
                <a:avLst/>
                <a:gdLst/>
                <a:ahLst/>
                <a:rect l="l" t="t" r="r" b="b"/>
                <a:pathLst>
                  <a:path w="628" h="792">
                    <a:moveTo>
                      <a:pt x="1" y="29"/>
                    </a:moveTo>
                    <a:lnTo>
                      <a:pt x="0" y="39"/>
                    </a:lnTo>
                    <a:lnTo>
                      <a:pt x="7" y="76"/>
                    </a:lnTo>
                    <a:lnTo>
                      <a:pt x="13" y="110"/>
                    </a:lnTo>
                    <a:lnTo>
                      <a:pt x="21" y="143"/>
                    </a:lnTo>
                    <a:lnTo>
                      <a:pt x="28" y="175"/>
                    </a:lnTo>
                    <a:lnTo>
                      <a:pt x="37" y="206"/>
                    </a:lnTo>
                    <a:lnTo>
                      <a:pt x="45" y="234"/>
                    </a:lnTo>
                    <a:lnTo>
                      <a:pt x="55" y="263"/>
                    </a:lnTo>
                    <a:lnTo>
                      <a:pt x="65" y="290"/>
                    </a:lnTo>
                    <a:lnTo>
                      <a:pt x="77" y="315"/>
                    </a:lnTo>
                    <a:lnTo>
                      <a:pt x="88" y="340"/>
                    </a:lnTo>
                    <a:lnTo>
                      <a:pt x="102" y="366"/>
                    </a:lnTo>
                    <a:lnTo>
                      <a:pt x="115" y="388"/>
                    </a:lnTo>
                    <a:lnTo>
                      <a:pt x="129" y="411"/>
                    </a:lnTo>
                    <a:lnTo>
                      <a:pt x="145" y="433"/>
                    </a:lnTo>
                    <a:lnTo>
                      <a:pt x="161" y="455"/>
                    </a:lnTo>
                    <a:lnTo>
                      <a:pt x="178" y="475"/>
                    </a:lnTo>
                    <a:lnTo>
                      <a:pt x="196" y="494"/>
                    </a:lnTo>
                    <a:lnTo>
                      <a:pt x="216" y="515"/>
                    </a:lnTo>
                    <a:lnTo>
                      <a:pt x="235" y="534"/>
                    </a:lnTo>
                    <a:lnTo>
                      <a:pt x="257" y="553"/>
                    </a:lnTo>
                    <a:lnTo>
                      <a:pt x="278" y="572"/>
                    </a:lnTo>
                    <a:lnTo>
                      <a:pt x="301" y="590"/>
                    </a:lnTo>
                    <a:lnTo>
                      <a:pt x="325" y="610"/>
                    </a:lnTo>
                    <a:lnTo>
                      <a:pt x="350" y="628"/>
                    </a:lnTo>
                    <a:lnTo>
                      <a:pt x="404" y="667"/>
                    </a:lnTo>
                    <a:lnTo>
                      <a:pt x="462" y="707"/>
                    </a:lnTo>
                    <a:lnTo>
                      <a:pt x="525" y="748"/>
                    </a:lnTo>
                    <a:lnTo>
                      <a:pt x="592" y="792"/>
                    </a:lnTo>
                    <a:lnTo>
                      <a:pt x="628" y="735"/>
                    </a:lnTo>
                    <a:lnTo>
                      <a:pt x="561" y="692"/>
                    </a:lnTo>
                    <a:lnTo>
                      <a:pt x="498" y="651"/>
                    </a:lnTo>
                    <a:lnTo>
                      <a:pt x="441" y="612"/>
                    </a:lnTo>
                    <a:lnTo>
                      <a:pt x="390" y="574"/>
                    </a:lnTo>
                    <a:lnTo>
                      <a:pt x="366" y="556"/>
                    </a:lnTo>
                    <a:lnTo>
                      <a:pt x="343" y="538"/>
                    </a:lnTo>
                    <a:lnTo>
                      <a:pt x="322" y="521"/>
                    </a:lnTo>
                    <a:lnTo>
                      <a:pt x="301" y="502"/>
                    </a:lnTo>
                    <a:lnTo>
                      <a:pt x="282" y="485"/>
                    </a:lnTo>
                    <a:lnTo>
                      <a:pt x="264" y="467"/>
                    </a:lnTo>
                    <a:lnTo>
                      <a:pt x="245" y="449"/>
                    </a:lnTo>
                    <a:lnTo>
                      <a:pt x="229" y="431"/>
                    </a:lnTo>
                    <a:lnTo>
                      <a:pt x="213" y="412"/>
                    </a:lnTo>
                    <a:lnTo>
                      <a:pt x="199" y="393"/>
                    </a:lnTo>
                    <a:lnTo>
                      <a:pt x="185" y="374"/>
                    </a:lnTo>
                    <a:lnTo>
                      <a:pt x="172" y="353"/>
                    </a:lnTo>
                    <a:lnTo>
                      <a:pt x="160" y="332"/>
                    </a:lnTo>
                    <a:lnTo>
                      <a:pt x="148" y="311"/>
                    </a:lnTo>
                    <a:lnTo>
                      <a:pt x="138" y="288"/>
                    </a:lnTo>
                    <a:lnTo>
                      <a:pt x="128" y="264"/>
                    </a:lnTo>
                    <a:lnTo>
                      <a:pt x="119" y="240"/>
                    </a:lnTo>
                    <a:lnTo>
                      <a:pt x="110" y="214"/>
                    </a:lnTo>
                    <a:lnTo>
                      <a:pt x="101" y="186"/>
                    </a:lnTo>
                    <a:lnTo>
                      <a:pt x="94" y="159"/>
                    </a:lnTo>
                    <a:lnTo>
                      <a:pt x="86" y="128"/>
                    </a:lnTo>
                    <a:lnTo>
                      <a:pt x="79" y="97"/>
                    </a:lnTo>
                    <a:lnTo>
                      <a:pt x="73" y="64"/>
                    </a:lnTo>
                    <a:lnTo>
                      <a:pt x="67" y="29"/>
                    </a:lnTo>
                    <a:lnTo>
                      <a:pt x="67" y="40"/>
                    </a:lnTo>
                    <a:lnTo>
                      <a:pt x="67" y="29"/>
                    </a:lnTo>
                    <a:lnTo>
                      <a:pt x="65" y="22"/>
                    </a:lnTo>
                    <a:lnTo>
                      <a:pt x="62" y="15"/>
                    </a:lnTo>
                    <a:lnTo>
                      <a:pt x="58" y="10"/>
                    </a:lnTo>
                    <a:lnTo>
                      <a:pt x="53" y="6"/>
                    </a:lnTo>
                    <a:lnTo>
                      <a:pt x="47" y="3"/>
                    </a:lnTo>
                    <a:lnTo>
                      <a:pt x="41" y="2"/>
                    </a:lnTo>
                    <a:lnTo>
                      <a:pt x="36" y="0"/>
                    </a:lnTo>
                    <a:lnTo>
                      <a:pt x="29" y="2"/>
                    </a:lnTo>
                    <a:lnTo>
                      <a:pt x="23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7" y="13"/>
                    </a:lnTo>
                    <a:lnTo>
                      <a:pt x="4" y="19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5977080" y="4226040"/>
                <a:ext cx="196560" cy="174600"/>
              </a:xfrm>
              <a:custGeom>
                <a:avLst/>
                <a:gdLst/>
                <a:ahLst/>
                <a:rect l="l" t="t" r="r" b="b"/>
                <a:pathLst>
                  <a:path w="619" h="548">
                    <a:moveTo>
                      <a:pt x="594" y="1"/>
                    </a:moveTo>
                    <a:lnTo>
                      <a:pt x="582" y="0"/>
                    </a:lnTo>
                    <a:lnTo>
                      <a:pt x="551" y="4"/>
                    </a:lnTo>
                    <a:lnTo>
                      <a:pt x="521" y="9"/>
                    </a:lnTo>
                    <a:lnTo>
                      <a:pt x="493" y="16"/>
                    </a:lnTo>
                    <a:lnTo>
                      <a:pt x="464" y="22"/>
                    </a:lnTo>
                    <a:lnTo>
                      <a:pt x="437" y="29"/>
                    </a:lnTo>
                    <a:lnTo>
                      <a:pt x="411" y="38"/>
                    </a:lnTo>
                    <a:lnTo>
                      <a:pt x="385" y="48"/>
                    </a:lnTo>
                    <a:lnTo>
                      <a:pt x="359" y="58"/>
                    </a:lnTo>
                    <a:lnTo>
                      <a:pt x="336" y="68"/>
                    </a:lnTo>
                    <a:lnTo>
                      <a:pt x="313" y="80"/>
                    </a:lnTo>
                    <a:lnTo>
                      <a:pt x="290" y="92"/>
                    </a:lnTo>
                    <a:lnTo>
                      <a:pt x="267" y="106"/>
                    </a:lnTo>
                    <a:lnTo>
                      <a:pt x="247" y="119"/>
                    </a:lnTo>
                    <a:lnTo>
                      <a:pt x="226" y="135"/>
                    </a:lnTo>
                    <a:lnTo>
                      <a:pt x="207" y="150"/>
                    </a:lnTo>
                    <a:lnTo>
                      <a:pt x="187" y="167"/>
                    </a:lnTo>
                    <a:lnTo>
                      <a:pt x="170" y="184"/>
                    </a:lnTo>
                    <a:lnTo>
                      <a:pt x="153" y="203"/>
                    </a:lnTo>
                    <a:lnTo>
                      <a:pt x="136" y="222"/>
                    </a:lnTo>
                    <a:lnTo>
                      <a:pt x="121" y="242"/>
                    </a:lnTo>
                    <a:lnTo>
                      <a:pt x="106" y="262"/>
                    </a:lnTo>
                    <a:lnTo>
                      <a:pt x="93" y="284"/>
                    </a:lnTo>
                    <a:lnTo>
                      <a:pt x="79" y="305"/>
                    </a:lnTo>
                    <a:lnTo>
                      <a:pt x="68" y="328"/>
                    </a:lnTo>
                    <a:lnTo>
                      <a:pt x="56" y="352"/>
                    </a:lnTo>
                    <a:lnTo>
                      <a:pt x="46" y="376"/>
                    </a:lnTo>
                    <a:lnTo>
                      <a:pt x="36" y="401"/>
                    </a:lnTo>
                    <a:lnTo>
                      <a:pt x="27" y="426"/>
                    </a:lnTo>
                    <a:lnTo>
                      <a:pt x="19" y="454"/>
                    </a:lnTo>
                    <a:lnTo>
                      <a:pt x="12" y="480"/>
                    </a:lnTo>
                    <a:lnTo>
                      <a:pt x="5" y="508"/>
                    </a:lnTo>
                    <a:lnTo>
                      <a:pt x="0" y="537"/>
                    </a:lnTo>
                    <a:lnTo>
                      <a:pt x="66" y="548"/>
                    </a:lnTo>
                    <a:lnTo>
                      <a:pt x="71" y="522"/>
                    </a:lnTo>
                    <a:lnTo>
                      <a:pt x="77" y="496"/>
                    </a:lnTo>
                    <a:lnTo>
                      <a:pt x="84" y="472"/>
                    </a:lnTo>
                    <a:lnTo>
                      <a:pt x="92" y="448"/>
                    </a:lnTo>
                    <a:lnTo>
                      <a:pt x="100" y="424"/>
                    </a:lnTo>
                    <a:lnTo>
                      <a:pt x="108" y="401"/>
                    </a:lnTo>
                    <a:lnTo>
                      <a:pt x="117" y="380"/>
                    </a:lnTo>
                    <a:lnTo>
                      <a:pt x="127" y="359"/>
                    </a:lnTo>
                    <a:lnTo>
                      <a:pt x="138" y="339"/>
                    </a:lnTo>
                    <a:lnTo>
                      <a:pt x="150" y="319"/>
                    </a:lnTo>
                    <a:lnTo>
                      <a:pt x="162" y="300"/>
                    </a:lnTo>
                    <a:lnTo>
                      <a:pt x="175" y="281"/>
                    </a:lnTo>
                    <a:lnTo>
                      <a:pt x="188" y="264"/>
                    </a:lnTo>
                    <a:lnTo>
                      <a:pt x="202" y="248"/>
                    </a:lnTo>
                    <a:lnTo>
                      <a:pt x="218" y="232"/>
                    </a:lnTo>
                    <a:lnTo>
                      <a:pt x="233" y="216"/>
                    </a:lnTo>
                    <a:lnTo>
                      <a:pt x="250" y="202"/>
                    </a:lnTo>
                    <a:lnTo>
                      <a:pt x="267" y="188"/>
                    </a:lnTo>
                    <a:lnTo>
                      <a:pt x="285" y="175"/>
                    </a:lnTo>
                    <a:lnTo>
                      <a:pt x="304" y="163"/>
                    </a:lnTo>
                    <a:lnTo>
                      <a:pt x="323" y="150"/>
                    </a:lnTo>
                    <a:lnTo>
                      <a:pt x="343" y="140"/>
                    </a:lnTo>
                    <a:lnTo>
                      <a:pt x="364" y="130"/>
                    </a:lnTo>
                    <a:lnTo>
                      <a:pt x="387" y="119"/>
                    </a:lnTo>
                    <a:lnTo>
                      <a:pt x="408" y="110"/>
                    </a:lnTo>
                    <a:lnTo>
                      <a:pt x="432" y="102"/>
                    </a:lnTo>
                    <a:lnTo>
                      <a:pt x="456" y="94"/>
                    </a:lnTo>
                    <a:lnTo>
                      <a:pt x="481" y="88"/>
                    </a:lnTo>
                    <a:lnTo>
                      <a:pt x="508" y="81"/>
                    </a:lnTo>
                    <a:lnTo>
                      <a:pt x="534" y="76"/>
                    </a:lnTo>
                    <a:lnTo>
                      <a:pt x="561" y="70"/>
                    </a:lnTo>
                    <a:lnTo>
                      <a:pt x="590" y="67"/>
                    </a:lnTo>
                    <a:lnTo>
                      <a:pt x="577" y="66"/>
                    </a:lnTo>
                    <a:lnTo>
                      <a:pt x="590" y="67"/>
                    </a:lnTo>
                    <a:lnTo>
                      <a:pt x="598" y="65"/>
                    </a:lnTo>
                    <a:lnTo>
                      <a:pt x="603" y="62"/>
                    </a:lnTo>
                    <a:lnTo>
                      <a:pt x="609" y="58"/>
                    </a:lnTo>
                    <a:lnTo>
                      <a:pt x="614" y="53"/>
                    </a:lnTo>
                    <a:lnTo>
                      <a:pt x="616" y="48"/>
                    </a:lnTo>
                    <a:lnTo>
                      <a:pt x="618" y="42"/>
                    </a:lnTo>
                    <a:lnTo>
                      <a:pt x="619" y="35"/>
                    </a:lnTo>
                    <a:lnTo>
                      <a:pt x="618" y="29"/>
                    </a:lnTo>
                    <a:lnTo>
                      <a:pt x="617" y="22"/>
                    </a:lnTo>
                    <a:lnTo>
                      <a:pt x="615" y="17"/>
                    </a:lnTo>
                    <a:lnTo>
                      <a:pt x="611" y="12"/>
                    </a:lnTo>
                    <a:lnTo>
                      <a:pt x="608" y="7"/>
                    </a:lnTo>
                    <a:lnTo>
                      <a:pt x="602" y="3"/>
                    </a:lnTo>
                    <a:lnTo>
                      <a:pt x="597" y="1"/>
                    </a:lnTo>
                    <a:lnTo>
                      <a:pt x="589" y="0"/>
                    </a:lnTo>
                    <a:lnTo>
                      <a:pt x="582" y="0"/>
                    </a:lnTo>
                    <a:lnTo>
                      <a:pt x="594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5365800" y="39085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3" h="63">
                    <a:moveTo>
                      <a:pt x="0" y="56"/>
                    </a:moveTo>
                    <a:lnTo>
                      <a:pt x="7" y="60"/>
                    </a:lnTo>
                    <a:lnTo>
                      <a:pt x="14" y="63"/>
                    </a:lnTo>
                    <a:lnTo>
                      <a:pt x="21" y="63"/>
                    </a:lnTo>
                    <a:lnTo>
                      <a:pt x="26" y="62"/>
                    </a:lnTo>
                    <a:lnTo>
                      <a:pt x="32" y="59"/>
                    </a:lnTo>
                    <a:lnTo>
                      <a:pt x="38" y="57"/>
                    </a:lnTo>
                    <a:lnTo>
                      <a:pt x="42" y="52"/>
                    </a:lnTo>
                    <a:lnTo>
                      <a:pt x="47" y="48"/>
                    </a:lnTo>
                    <a:lnTo>
                      <a:pt x="49" y="42"/>
                    </a:lnTo>
                    <a:lnTo>
                      <a:pt x="51" y="36"/>
                    </a:lnTo>
                    <a:lnTo>
                      <a:pt x="53" y="30"/>
                    </a:lnTo>
                    <a:lnTo>
                      <a:pt x="53" y="24"/>
                    </a:lnTo>
                    <a:lnTo>
                      <a:pt x="51" y="17"/>
                    </a:lnTo>
                    <a:lnTo>
                      <a:pt x="48" y="11"/>
                    </a:lnTo>
                    <a:lnTo>
                      <a:pt x="43" y="6"/>
                    </a:lnTo>
                    <a:lnTo>
                      <a:pt x="38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>
                <a:off x="5245200" y="386856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417" h="182">
                    <a:moveTo>
                      <a:pt x="23" y="77"/>
                    </a:moveTo>
                    <a:lnTo>
                      <a:pt x="35" y="73"/>
                    </a:lnTo>
                    <a:lnTo>
                      <a:pt x="46" y="71"/>
                    </a:lnTo>
                    <a:lnTo>
                      <a:pt x="59" y="69"/>
                    </a:lnTo>
                    <a:lnTo>
                      <a:pt x="71" y="68"/>
                    </a:lnTo>
                    <a:lnTo>
                      <a:pt x="85" y="68"/>
                    </a:lnTo>
                    <a:lnTo>
                      <a:pt x="100" y="69"/>
                    </a:lnTo>
                    <a:lnTo>
                      <a:pt x="114" y="70"/>
                    </a:lnTo>
                    <a:lnTo>
                      <a:pt x="128" y="72"/>
                    </a:lnTo>
                    <a:lnTo>
                      <a:pt x="143" y="76"/>
                    </a:lnTo>
                    <a:lnTo>
                      <a:pt x="158" y="79"/>
                    </a:lnTo>
                    <a:lnTo>
                      <a:pt x="173" y="84"/>
                    </a:lnTo>
                    <a:lnTo>
                      <a:pt x="188" y="87"/>
                    </a:lnTo>
                    <a:lnTo>
                      <a:pt x="217" y="99"/>
                    </a:lnTo>
                    <a:lnTo>
                      <a:pt x="247" y="110"/>
                    </a:lnTo>
                    <a:lnTo>
                      <a:pt x="274" y="123"/>
                    </a:lnTo>
                    <a:lnTo>
                      <a:pt x="299" y="135"/>
                    </a:lnTo>
                    <a:lnTo>
                      <a:pt x="322" y="148"/>
                    </a:lnTo>
                    <a:lnTo>
                      <a:pt x="340" y="159"/>
                    </a:lnTo>
                    <a:lnTo>
                      <a:pt x="369" y="176"/>
                    </a:lnTo>
                    <a:lnTo>
                      <a:pt x="379" y="182"/>
                    </a:lnTo>
                    <a:lnTo>
                      <a:pt x="417" y="126"/>
                    </a:lnTo>
                    <a:lnTo>
                      <a:pt x="405" y="119"/>
                    </a:lnTo>
                    <a:lnTo>
                      <a:pt x="376" y="101"/>
                    </a:lnTo>
                    <a:lnTo>
                      <a:pt x="354" y="88"/>
                    </a:lnTo>
                    <a:lnTo>
                      <a:pt x="330" y="76"/>
                    </a:lnTo>
                    <a:lnTo>
                      <a:pt x="303" y="62"/>
                    </a:lnTo>
                    <a:lnTo>
                      <a:pt x="273" y="48"/>
                    </a:lnTo>
                    <a:lnTo>
                      <a:pt x="242" y="36"/>
                    </a:lnTo>
                    <a:lnTo>
                      <a:pt x="209" y="23"/>
                    </a:lnTo>
                    <a:lnTo>
                      <a:pt x="192" y="19"/>
                    </a:lnTo>
                    <a:lnTo>
                      <a:pt x="175" y="14"/>
                    </a:lnTo>
                    <a:lnTo>
                      <a:pt x="157" y="10"/>
                    </a:lnTo>
                    <a:lnTo>
                      <a:pt x="140" y="6"/>
                    </a:lnTo>
                    <a:lnTo>
                      <a:pt x="123" y="4"/>
                    </a:lnTo>
                    <a:lnTo>
                      <a:pt x="104" y="2"/>
                    </a:lnTo>
                    <a:lnTo>
                      <a:pt x="87" y="0"/>
                    </a:lnTo>
                    <a:lnTo>
                      <a:pt x="69" y="0"/>
                    </a:lnTo>
                    <a:lnTo>
                      <a:pt x="52" y="2"/>
                    </a:lnTo>
                    <a:lnTo>
                      <a:pt x="34" y="5"/>
                    </a:lnTo>
                    <a:lnTo>
                      <a:pt x="17" y="8"/>
                    </a:lnTo>
                    <a:lnTo>
                      <a:pt x="0" y="14"/>
                    </a:lnTo>
                    <a:lnTo>
                      <a:pt x="23" y="7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5238720" y="38736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22" y="0"/>
                    </a:moveTo>
                    <a:lnTo>
                      <a:pt x="15" y="4"/>
                    </a:lnTo>
                    <a:lnTo>
                      <a:pt x="9" y="8"/>
                    </a:lnTo>
                    <a:lnTo>
                      <a:pt x="4" y="13"/>
                    </a:lnTo>
                    <a:lnTo>
                      <a:pt x="2" y="18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0" y="38"/>
                    </a:lnTo>
                    <a:lnTo>
                      <a:pt x="2" y="44"/>
                    </a:lnTo>
                    <a:lnTo>
                      <a:pt x="4" y="49"/>
                    </a:lnTo>
                    <a:lnTo>
                      <a:pt x="9" y="55"/>
                    </a:lnTo>
                    <a:lnTo>
                      <a:pt x="12" y="59"/>
                    </a:lnTo>
                    <a:lnTo>
                      <a:pt x="18" y="63"/>
                    </a:lnTo>
                    <a:lnTo>
                      <a:pt x="24" y="65"/>
                    </a:lnTo>
                    <a:lnTo>
                      <a:pt x="31" y="66"/>
                    </a:lnTo>
                    <a:lnTo>
                      <a:pt x="38" y="65"/>
                    </a:lnTo>
                    <a:lnTo>
                      <a:pt x="45" y="6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5607000" y="409572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54" h="61">
                    <a:moveTo>
                      <a:pt x="0" y="56"/>
                    </a:moveTo>
                    <a:lnTo>
                      <a:pt x="7" y="59"/>
                    </a:lnTo>
                    <a:lnTo>
                      <a:pt x="14" y="61"/>
                    </a:lnTo>
                    <a:lnTo>
                      <a:pt x="21" y="61"/>
                    </a:lnTo>
                    <a:lnTo>
                      <a:pt x="28" y="61"/>
                    </a:lnTo>
                    <a:lnTo>
                      <a:pt x="33" y="59"/>
                    </a:lnTo>
                    <a:lnTo>
                      <a:pt x="39" y="56"/>
                    </a:lnTo>
                    <a:lnTo>
                      <a:pt x="44" y="51"/>
                    </a:lnTo>
                    <a:lnTo>
                      <a:pt x="47" y="47"/>
                    </a:lnTo>
                    <a:lnTo>
                      <a:pt x="51" y="41"/>
                    </a:lnTo>
                    <a:lnTo>
                      <a:pt x="53" y="35"/>
                    </a:lnTo>
                    <a:lnTo>
                      <a:pt x="54" y="29"/>
                    </a:lnTo>
                    <a:lnTo>
                      <a:pt x="54" y="23"/>
                    </a:lnTo>
                    <a:lnTo>
                      <a:pt x="52" y="17"/>
                    </a:lnTo>
                    <a:lnTo>
                      <a:pt x="49" y="10"/>
                    </a:lnTo>
                    <a:lnTo>
                      <a:pt x="45" y="4"/>
                    </a:lnTo>
                    <a:lnTo>
                      <a:pt x="39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5465880" y="4049640"/>
                <a:ext cx="153720" cy="63720"/>
              </a:xfrm>
              <a:custGeom>
                <a:avLst/>
                <a:gdLst/>
                <a:ahLst/>
                <a:rect l="l" t="t" r="r" b="b"/>
                <a:pathLst>
                  <a:path w="482" h="202">
                    <a:moveTo>
                      <a:pt x="23" y="77"/>
                    </a:moveTo>
                    <a:lnTo>
                      <a:pt x="36" y="73"/>
                    </a:lnTo>
                    <a:lnTo>
                      <a:pt x="51" y="69"/>
                    </a:lnTo>
                    <a:lnTo>
                      <a:pt x="65" y="68"/>
                    </a:lnTo>
                    <a:lnTo>
                      <a:pt x="81" y="67"/>
                    </a:lnTo>
                    <a:lnTo>
                      <a:pt x="97" y="67"/>
                    </a:lnTo>
                    <a:lnTo>
                      <a:pt x="114" y="68"/>
                    </a:lnTo>
                    <a:lnTo>
                      <a:pt x="131" y="69"/>
                    </a:lnTo>
                    <a:lnTo>
                      <a:pt x="148" y="73"/>
                    </a:lnTo>
                    <a:lnTo>
                      <a:pt x="166" y="76"/>
                    </a:lnTo>
                    <a:lnTo>
                      <a:pt x="183" y="80"/>
                    </a:lnTo>
                    <a:lnTo>
                      <a:pt x="202" y="85"/>
                    </a:lnTo>
                    <a:lnTo>
                      <a:pt x="219" y="90"/>
                    </a:lnTo>
                    <a:lnTo>
                      <a:pt x="254" y="104"/>
                    </a:lnTo>
                    <a:lnTo>
                      <a:pt x="288" y="117"/>
                    </a:lnTo>
                    <a:lnTo>
                      <a:pt x="320" y="132"/>
                    </a:lnTo>
                    <a:lnTo>
                      <a:pt x="350" y="147"/>
                    </a:lnTo>
                    <a:lnTo>
                      <a:pt x="376" y="161"/>
                    </a:lnTo>
                    <a:lnTo>
                      <a:pt x="399" y="173"/>
                    </a:lnTo>
                    <a:lnTo>
                      <a:pt x="433" y="194"/>
                    </a:lnTo>
                    <a:lnTo>
                      <a:pt x="443" y="202"/>
                    </a:lnTo>
                    <a:lnTo>
                      <a:pt x="482" y="146"/>
                    </a:lnTo>
                    <a:lnTo>
                      <a:pt x="468" y="137"/>
                    </a:lnTo>
                    <a:lnTo>
                      <a:pt x="433" y="116"/>
                    </a:lnTo>
                    <a:lnTo>
                      <a:pt x="409" y="101"/>
                    </a:lnTo>
                    <a:lnTo>
                      <a:pt x="381" y="86"/>
                    </a:lnTo>
                    <a:lnTo>
                      <a:pt x="349" y="71"/>
                    </a:lnTo>
                    <a:lnTo>
                      <a:pt x="315" y="55"/>
                    </a:lnTo>
                    <a:lnTo>
                      <a:pt x="278" y="40"/>
                    </a:lnTo>
                    <a:lnTo>
                      <a:pt x="240" y="26"/>
                    </a:lnTo>
                    <a:lnTo>
                      <a:pt x="220" y="20"/>
                    </a:lnTo>
                    <a:lnTo>
                      <a:pt x="201" y="15"/>
                    </a:lnTo>
                    <a:lnTo>
                      <a:pt x="180" y="10"/>
                    </a:lnTo>
                    <a:lnTo>
                      <a:pt x="161" y="5"/>
                    </a:lnTo>
                    <a:lnTo>
                      <a:pt x="140" y="3"/>
                    </a:lnTo>
                    <a:lnTo>
                      <a:pt x="120" y="1"/>
                    </a:lnTo>
                    <a:lnTo>
                      <a:pt x="99" y="0"/>
                    </a:lnTo>
                    <a:lnTo>
                      <a:pt x="79" y="0"/>
                    </a:lnTo>
                    <a:lnTo>
                      <a:pt x="59" y="1"/>
                    </a:lnTo>
                    <a:lnTo>
                      <a:pt x="39" y="3"/>
                    </a:lnTo>
                    <a:lnTo>
                      <a:pt x="19" y="8"/>
                    </a:lnTo>
                    <a:lnTo>
                      <a:pt x="0" y="13"/>
                    </a:lnTo>
                    <a:lnTo>
                      <a:pt x="23" y="7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5459400" y="405288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6" h="67">
                    <a:moveTo>
                      <a:pt x="23" y="0"/>
                    </a:moveTo>
                    <a:lnTo>
                      <a:pt x="16" y="4"/>
                    </a:lnTo>
                    <a:lnTo>
                      <a:pt x="10" y="8"/>
                    </a:lnTo>
                    <a:lnTo>
                      <a:pt x="6" y="14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6" y="50"/>
                    </a:lnTo>
                    <a:lnTo>
                      <a:pt x="9" y="55"/>
                    </a:lnTo>
                    <a:lnTo>
                      <a:pt x="14" y="60"/>
                    </a:lnTo>
                    <a:lnTo>
                      <a:pt x="18" y="63"/>
                    </a:lnTo>
                    <a:lnTo>
                      <a:pt x="25" y="65"/>
                    </a:lnTo>
                    <a:lnTo>
                      <a:pt x="31" y="67"/>
                    </a:lnTo>
                    <a:lnTo>
                      <a:pt x="39" y="67"/>
                    </a:lnTo>
                    <a:lnTo>
                      <a:pt x="46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5952960" y="421488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0" y="56"/>
                    </a:moveTo>
                    <a:lnTo>
                      <a:pt x="7" y="60"/>
                    </a:lnTo>
                    <a:lnTo>
                      <a:pt x="14" y="62"/>
                    </a:lnTo>
                    <a:lnTo>
                      <a:pt x="21" y="62"/>
                    </a:lnTo>
                    <a:lnTo>
                      <a:pt x="27" y="62"/>
                    </a:lnTo>
                    <a:lnTo>
                      <a:pt x="33" y="60"/>
                    </a:lnTo>
                    <a:lnTo>
                      <a:pt x="38" y="56"/>
                    </a:lnTo>
                    <a:lnTo>
                      <a:pt x="42" y="52"/>
                    </a:lnTo>
                    <a:lnTo>
                      <a:pt x="47" y="47"/>
                    </a:lnTo>
                    <a:lnTo>
                      <a:pt x="50" y="41"/>
                    </a:lnTo>
                    <a:lnTo>
                      <a:pt x="51" y="36"/>
                    </a:lnTo>
                    <a:lnTo>
                      <a:pt x="53" y="29"/>
                    </a:lnTo>
                    <a:lnTo>
                      <a:pt x="53" y="23"/>
                    </a:lnTo>
                    <a:lnTo>
                      <a:pt x="51" y="16"/>
                    </a:lnTo>
                    <a:lnTo>
                      <a:pt x="48" y="11"/>
                    </a:lnTo>
                    <a:lnTo>
                      <a:pt x="43" y="5"/>
                    </a:lnTo>
                    <a:lnTo>
                      <a:pt x="38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5789520" y="4162320"/>
                <a:ext cx="174600" cy="69840"/>
              </a:xfrm>
              <a:custGeom>
                <a:avLst/>
                <a:gdLst/>
                <a:ahLst/>
                <a:rect l="l" t="t" r="r" b="b"/>
                <a:pathLst>
                  <a:path w="554" h="220">
                    <a:moveTo>
                      <a:pt x="22" y="79"/>
                    </a:moveTo>
                    <a:lnTo>
                      <a:pt x="38" y="74"/>
                    </a:lnTo>
                    <a:lnTo>
                      <a:pt x="56" y="71"/>
                    </a:lnTo>
                    <a:lnTo>
                      <a:pt x="74" y="68"/>
                    </a:lnTo>
                    <a:lnTo>
                      <a:pt x="92" y="67"/>
                    </a:lnTo>
                    <a:lnTo>
                      <a:pt x="111" y="67"/>
                    </a:lnTo>
                    <a:lnTo>
                      <a:pt x="131" y="68"/>
                    </a:lnTo>
                    <a:lnTo>
                      <a:pt x="151" y="71"/>
                    </a:lnTo>
                    <a:lnTo>
                      <a:pt x="172" y="74"/>
                    </a:lnTo>
                    <a:lnTo>
                      <a:pt x="192" y="78"/>
                    </a:lnTo>
                    <a:lnTo>
                      <a:pt x="213" y="82"/>
                    </a:lnTo>
                    <a:lnTo>
                      <a:pt x="233" y="88"/>
                    </a:lnTo>
                    <a:lnTo>
                      <a:pt x="254" y="95"/>
                    </a:lnTo>
                    <a:lnTo>
                      <a:pt x="295" y="108"/>
                    </a:lnTo>
                    <a:lnTo>
                      <a:pt x="335" y="124"/>
                    </a:lnTo>
                    <a:lnTo>
                      <a:pt x="372" y="141"/>
                    </a:lnTo>
                    <a:lnTo>
                      <a:pt x="407" y="157"/>
                    </a:lnTo>
                    <a:lnTo>
                      <a:pt x="437" y="175"/>
                    </a:lnTo>
                    <a:lnTo>
                      <a:pt x="465" y="188"/>
                    </a:lnTo>
                    <a:lnTo>
                      <a:pt x="502" y="212"/>
                    </a:lnTo>
                    <a:lnTo>
                      <a:pt x="516" y="220"/>
                    </a:lnTo>
                    <a:lnTo>
                      <a:pt x="554" y="164"/>
                    </a:lnTo>
                    <a:lnTo>
                      <a:pt x="538" y="154"/>
                    </a:lnTo>
                    <a:lnTo>
                      <a:pt x="498" y="130"/>
                    </a:lnTo>
                    <a:lnTo>
                      <a:pt x="469" y="115"/>
                    </a:lnTo>
                    <a:lnTo>
                      <a:pt x="437" y="98"/>
                    </a:lnTo>
                    <a:lnTo>
                      <a:pt x="401" y="80"/>
                    </a:lnTo>
                    <a:lnTo>
                      <a:pt x="361" y="63"/>
                    </a:lnTo>
                    <a:lnTo>
                      <a:pt x="319" y="46"/>
                    </a:lnTo>
                    <a:lnTo>
                      <a:pt x="276" y="31"/>
                    </a:lnTo>
                    <a:lnTo>
                      <a:pt x="253" y="23"/>
                    </a:lnTo>
                    <a:lnTo>
                      <a:pt x="230" y="17"/>
                    </a:lnTo>
                    <a:lnTo>
                      <a:pt x="206" y="11"/>
                    </a:lnTo>
                    <a:lnTo>
                      <a:pt x="183" y="7"/>
                    </a:lnTo>
                    <a:lnTo>
                      <a:pt x="159" y="3"/>
                    </a:lnTo>
                    <a:lnTo>
                      <a:pt x="136" y="1"/>
                    </a:lnTo>
                    <a:lnTo>
                      <a:pt x="114" y="0"/>
                    </a:lnTo>
                    <a:lnTo>
                      <a:pt x="90" y="0"/>
                    </a:lnTo>
                    <a:lnTo>
                      <a:pt x="67" y="1"/>
                    </a:lnTo>
                    <a:lnTo>
                      <a:pt x="44" y="5"/>
                    </a:lnTo>
                    <a:lnTo>
                      <a:pt x="22" y="9"/>
                    </a:lnTo>
                    <a:lnTo>
                      <a:pt x="0" y="15"/>
                    </a:lnTo>
                    <a:lnTo>
                      <a:pt x="22" y="7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5781600" y="416736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23" y="0"/>
                    </a:moveTo>
                    <a:lnTo>
                      <a:pt x="16" y="3"/>
                    </a:lnTo>
                    <a:lnTo>
                      <a:pt x="10" y="8"/>
                    </a:lnTo>
                    <a:lnTo>
                      <a:pt x="6" y="14"/>
                    </a:lnTo>
                    <a:lnTo>
                      <a:pt x="2" y="18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7"/>
                    </a:lnTo>
                    <a:lnTo>
                      <a:pt x="2" y="43"/>
                    </a:lnTo>
                    <a:lnTo>
                      <a:pt x="4" y="49"/>
                    </a:lnTo>
                    <a:lnTo>
                      <a:pt x="8" y="55"/>
                    </a:lnTo>
                    <a:lnTo>
                      <a:pt x="12" y="59"/>
                    </a:lnTo>
                    <a:lnTo>
                      <a:pt x="18" y="63"/>
                    </a:lnTo>
                    <a:lnTo>
                      <a:pt x="24" y="65"/>
                    </a:lnTo>
                    <a:lnTo>
                      <a:pt x="31" y="66"/>
                    </a:lnTo>
                    <a:lnTo>
                      <a:pt x="38" y="66"/>
                    </a:lnTo>
                    <a:lnTo>
                      <a:pt x="45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6227640" y="43815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2" h="63">
                    <a:moveTo>
                      <a:pt x="0" y="56"/>
                    </a:moveTo>
                    <a:lnTo>
                      <a:pt x="6" y="60"/>
                    </a:lnTo>
                    <a:lnTo>
                      <a:pt x="13" y="62"/>
                    </a:lnTo>
                    <a:lnTo>
                      <a:pt x="20" y="63"/>
                    </a:lnTo>
                    <a:lnTo>
                      <a:pt x="26" y="62"/>
                    </a:lnTo>
                    <a:lnTo>
                      <a:pt x="31" y="59"/>
                    </a:lnTo>
                    <a:lnTo>
                      <a:pt x="37" y="56"/>
                    </a:lnTo>
                    <a:lnTo>
                      <a:pt x="42" y="51"/>
                    </a:lnTo>
                    <a:lnTo>
                      <a:pt x="46" y="47"/>
                    </a:lnTo>
                    <a:lnTo>
                      <a:pt x="49" y="41"/>
                    </a:lnTo>
                    <a:lnTo>
                      <a:pt x="51" y="35"/>
                    </a:lnTo>
                    <a:lnTo>
                      <a:pt x="52" y="28"/>
                    </a:lnTo>
                    <a:lnTo>
                      <a:pt x="52" y="23"/>
                    </a:lnTo>
                    <a:lnTo>
                      <a:pt x="50" y="16"/>
                    </a:lnTo>
                    <a:lnTo>
                      <a:pt x="47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6064200" y="4329000"/>
                <a:ext cx="174600" cy="69840"/>
              </a:xfrm>
              <a:custGeom>
                <a:avLst/>
                <a:gdLst/>
                <a:ahLst/>
                <a:rect l="l" t="t" r="r" b="b"/>
                <a:pathLst>
                  <a:path w="553" h="220">
                    <a:moveTo>
                      <a:pt x="23" y="80"/>
                    </a:moveTo>
                    <a:lnTo>
                      <a:pt x="39" y="74"/>
                    </a:lnTo>
                    <a:lnTo>
                      <a:pt x="56" y="70"/>
                    </a:lnTo>
                    <a:lnTo>
                      <a:pt x="73" y="68"/>
                    </a:lnTo>
                    <a:lnTo>
                      <a:pt x="92" y="67"/>
                    </a:lnTo>
                    <a:lnTo>
                      <a:pt x="112" y="67"/>
                    </a:lnTo>
                    <a:lnTo>
                      <a:pt x="131" y="68"/>
                    </a:lnTo>
                    <a:lnTo>
                      <a:pt x="152" y="70"/>
                    </a:lnTo>
                    <a:lnTo>
                      <a:pt x="172" y="74"/>
                    </a:lnTo>
                    <a:lnTo>
                      <a:pt x="193" y="77"/>
                    </a:lnTo>
                    <a:lnTo>
                      <a:pt x="213" y="83"/>
                    </a:lnTo>
                    <a:lnTo>
                      <a:pt x="234" y="89"/>
                    </a:lnTo>
                    <a:lnTo>
                      <a:pt x="254" y="94"/>
                    </a:lnTo>
                    <a:lnTo>
                      <a:pt x="295" y="109"/>
                    </a:lnTo>
                    <a:lnTo>
                      <a:pt x="335" y="124"/>
                    </a:lnTo>
                    <a:lnTo>
                      <a:pt x="372" y="141"/>
                    </a:lnTo>
                    <a:lnTo>
                      <a:pt x="407" y="158"/>
                    </a:lnTo>
                    <a:lnTo>
                      <a:pt x="438" y="174"/>
                    </a:lnTo>
                    <a:lnTo>
                      <a:pt x="464" y="189"/>
                    </a:lnTo>
                    <a:lnTo>
                      <a:pt x="503" y="212"/>
                    </a:lnTo>
                    <a:lnTo>
                      <a:pt x="517" y="220"/>
                    </a:lnTo>
                    <a:lnTo>
                      <a:pt x="553" y="164"/>
                    </a:lnTo>
                    <a:lnTo>
                      <a:pt x="538" y="154"/>
                    </a:lnTo>
                    <a:lnTo>
                      <a:pt x="498" y="131"/>
                    </a:lnTo>
                    <a:lnTo>
                      <a:pt x="470" y="115"/>
                    </a:lnTo>
                    <a:lnTo>
                      <a:pt x="437" y="98"/>
                    </a:lnTo>
                    <a:lnTo>
                      <a:pt x="400" y="80"/>
                    </a:lnTo>
                    <a:lnTo>
                      <a:pt x="361" y="62"/>
                    </a:lnTo>
                    <a:lnTo>
                      <a:pt x="319" y="45"/>
                    </a:lnTo>
                    <a:lnTo>
                      <a:pt x="276" y="30"/>
                    </a:lnTo>
                    <a:lnTo>
                      <a:pt x="252" y="24"/>
                    </a:lnTo>
                    <a:lnTo>
                      <a:pt x="229" y="17"/>
                    </a:lnTo>
                    <a:lnTo>
                      <a:pt x="206" y="12"/>
                    </a:lnTo>
                    <a:lnTo>
                      <a:pt x="184" y="7"/>
                    </a:lnTo>
                    <a:lnTo>
                      <a:pt x="160" y="3"/>
                    </a:lnTo>
                    <a:lnTo>
                      <a:pt x="137" y="1"/>
                    </a:lnTo>
                    <a:lnTo>
                      <a:pt x="113" y="0"/>
                    </a:lnTo>
                    <a:lnTo>
                      <a:pt x="90" y="0"/>
                    </a:lnTo>
                    <a:lnTo>
                      <a:pt x="67" y="1"/>
                    </a:lnTo>
                    <a:lnTo>
                      <a:pt x="45" y="4"/>
                    </a:lnTo>
                    <a:lnTo>
                      <a:pt x="22" y="9"/>
                    </a:lnTo>
                    <a:lnTo>
                      <a:pt x="0" y="16"/>
                    </a:lnTo>
                    <a:lnTo>
                      <a:pt x="23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6056280" y="433404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6" h="65">
                    <a:moveTo>
                      <a:pt x="23" y="0"/>
                    </a:moveTo>
                    <a:lnTo>
                      <a:pt x="16" y="3"/>
                    </a:lnTo>
                    <a:lnTo>
                      <a:pt x="11" y="6"/>
                    </a:lnTo>
                    <a:lnTo>
                      <a:pt x="6" y="12"/>
                    </a:lnTo>
                    <a:lnTo>
                      <a:pt x="3" y="18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3" y="42"/>
                    </a:lnTo>
                    <a:lnTo>
                      <a:pt x="5" y="48"/>
                    </a:lnTo>
                    <a:lnTo>
                      <a:pt x="8" y="53"/>
                    </a:lnTo>
                    <a:lnTo>
                      <a:pt x="13" y="58"/>
                    </a:lnTo>
                    <a:lnTo>
                      <a:pt x="19" y="61"/>
                    </a:lnTo>
                    <a:lnTo>
                      <a:pt x="24" y="64"/>
                    </a:lnTo>
                    <a:lnTo>
                      <a:pt x="30" y="65"/>
                    </a:lnTo>
                    <a:lnTo>
                      <a:pt x="38" y="65"/>
                    </a:lnTo>
                    <a:lnTo>
                      <a:pt x="46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5315040" y="38368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61" y="47"/>
                    </a:moveTo>
                    <a:lnTo>
                      <a:pt x="63" y="40"/>
                    </a:lnTo>
                    <a:lnTo>
                      <a:pt x="65" y="33"/>
                    </a:lnTo>
                    <a:lnTo>
                      <a:pt x="65" y="26"/>
                    </a:lnTo>
                    <a:lnTo>
                      <a:pt x="62" y="20"/>
                    </a:lnTo>
                    <a:lnTo>
                      <a:pt x="59" y="15"/>
                    </a:lnTo>
                    <a:lnTo>
                      <a:pt x="55" y="10"/>
                    </a:lnTo>
                    <a:lnTo>
                      <a:pt x="50" y="6"/>
                    </a:lnTo>
                    <a:lnTo>
                      <a:pt x="45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4" y="3"/>
                    </a:lnTo>
                    <a:lnTo>
                      <a:pt x="9" y="7"/>
                    </a:lnTo>
                    <a:lnTo>
                      <a:pt x="4" y="12"/>
                    </a:lnTo>
                    <a:lnTo>
                      <a:pt x="0" y="19"/>
                    </a:lnTo>
                    <a:lnTo>
                      <a:pt x="61" y="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5280120" y="3841920"/>
                <a:ext cx="55440" cy="147600"/>
              </a:xfrm>
              <a:custGeom>
                <a:avLst/>
                <a:gdLst/>
                <a:ahLst/>
                <a:rect l="l" t="t" r="r" b="b"/>
                <a:pathLst>
                  <a:path w="175" h="461">
                    <a:moveTo>
                      <a:pt x="68" y="461"/>
                    </a:moveTo>
                    <a:lnTo>
                      <a:pt x="68" y="443"/>
                    </a:lnTo>
                    <a:lnTo>
                      <a:pt x="68" y="424"/>
                    </a:lnTo>
                    <a:lnTo>
                      <a:pt x="70" y="405"/>
                    </a:lnTo>
                    <a:lnTo>
                      <a:pt x="71" y="387"/>
                    </a:lnTo>
                    <a:lnTo>
                      <a:pt x="77" y="348"/>
                    </a:lnTo>
                    <a:lnTo>
                      <a:pt x="84" y="311"/>
                    </a:lnTo>
                    <a:lnTo>
                      <a:pt x="92" y="274"/>
                    </a:lnTo>
                    <a:lnTo>
                      <a:pt x="101" y="238"/>
                    </a:lnTo>
                    <a:lnTo>
                      <a:pt x="111" y="203"/>
                    </a:lnTo>
                    <a:lnTo>
                      <a:pt x="122" y="171"/>
                    </a:lnTo>
                    <a:lnTo>
                      <a:pt x="141" y="113"/>
                    </a:lnTo>
                    <a:lnTo>
                      <a:pt x="158" y="68"/>
                    </a:lnTo>
                    <a:lnTo>
                      <a:pt x="171" y="38"/>
                    </a:lnTo>
                    <a:lnTo>
                      <a:pt x="175" y="28"/>
                    </a:lnTo>
                    <a:lnTo>
                      <a:pt x="114" y="0"/>
                    </a:lnTo>
                    <a:lnTo>
                      <a:pt x="109" y="12"/>
                    </a:lnTo>
                    <a:lnTo>
                      <a:pt x="96" y="43"/>
                    </a:lnTo>
                    <a:lnTo>
                      <a:pt x="78" y="90"/>
                    </a:lnTo>
                    <a:lnTo>
                      <a:pt x="58" y="150"/>
                    </a:lnTo>
                    <a:lnTo>
                      <a:pt x="46" y="184"/>
                    </a:lnTo>
                    <a:lnTo>
                      <a:pt x="36" y="221"/>
                    </a:lnTo>
                    <a:lnTo>
                      <a:pt x="27" y="259"/>
                    </a:lnTo>
                    <a:lnTo>
                      <a:pt x="18" y="298"/>
                    </a:lnTo>
                    <a:lnTo>
                      <a:pt x="11" y="338"/>
                    </a:lnTo>
                    <a:lnTo>
                      <a:pt x="5" y="379"/>
                    </a:lnTo>
                    <a:lnTo>
                      <a:pt x="3" y="400"/>
                    </a:lnTo>
                    <a:lnTo>
                      <a:pt x="1" y="420"/>
                    </a:lnTo>
                    <a:lnTo>
                      <a:pt x="1" y="441"/>
                    </a:lnTo>
                    <a:lnTo>
                      <a:pt x="0" y="461"/>
                    </a:lnTo>
                    <a:lnTo>
                      <a:pt x="68" y="4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5280120" y="398952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0" y="0"/>
                    </a:moveTo>
                    <a:lnTo>
                      <a:pt x="1" y="8"/>
                    </a:lnTo>
                    <a:lnTo>
                      <a:pt x="3" y="15"/>
                    </a:lnTo>
                    <a:lnTo>
                      <a:pt x="6" y="21"/>
                    </a:lnTo>
                    <a:lnTo>
                      <a:pt x="11" y="25"/>
                    </a:lnTo>
                    <a:lnTo>
                      <a:pt x="16" y="29"/>
                    </a:lnTo>
                    <a:lnTo>
                      <a:pt x="21" y="31"/>
                    </a:lnTo>
                    <a:lnTo>
                      <a:pt x="27" y="33"/>
                    </a:lnTo>
                    <a:lnTo>
                      <a:pt x="34" y="33"/>
                    </a:lnTo>
                    <a:lnTo>
                      <a:pt x="39" y="33"/>
                    </a:lnTo>
                    <a:lnTo>
                      <a:pt x="46" y="31"/>
                    </a:lnTo>
                    <a:lnTo>
                      <a:pt x="52" y="29"/>
                    </a:lnTo>
                    <a:lnTo>
                      <a:pt x="57" y="25"/>
                    </a:lnTo>
                    <a:lnTo>
                      <a:pt x="61" y="21"/>
                    </a:lnTo>
                    <a:lnTo>
                      <a:pt x="65" y="15"/>
                    </a:lnTo>
                    <a:lnTo>
                      <a:pt x="67" y="8"/>
                    </a:lnTo>
                    <a:lnTo>
                      <a:pt x="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5549760" y="401148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2" y="48"/>
                    </a:moveTo>
                    <a:lnTo>
                      <a:pt x="64" y="41"/>
                    </a:lnTo>
                    <a:lnTo>
                      <a:pt x="65" y="33"/>
                    </a:lnTo>
                    <a:lnTo>
                      <a:pt x="64" y="26"/>
                    </a:lnTo>
                    <a:lnTo>
                      <a:pt x="62" y="20"/>
                    </a:lnTo>
                    <a:lnTo>
                      <a:pt x="59" y="15"/>
                    </a:lnTo>
                    <a:lnTo>
                      <a:pt x="55" y="10"/>
                    </a:lnTo>
                    <a:lnTo>
                      <a:pt x="50" y="7"/>
                    </a:lnTo>
                    <a:lnTo>
                      <a:pt x="44" y="3"/>
                    </a:lnTo>
                    <a:lnTo>
                      <a:pt x="39" y="1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4" y="3"/>
                    </a:lnTo>
                    <a:lnTo>
                      <a:pt x="9" y="8"/>
                    </a:lnTo>
                    <a:lnTo>
                      <a:pt x="3" y="12"/>
                    </a:lnTo>
                    <a:lnTo>
                      <a:pt x="0" y="19"/>
                    </a:lnTo>
                    <a:lnTo>
                      <a:pt x="62" y="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5506920" y="4016520"/>
                <a:ext cx="61920" cy="171360"/>
              </a:xfrm>
              <a:custGeom>
                <a:avLst/>
                <a:gdLst/>
                <a:ahLst/>
                <a:rect l="l" t="t" r="r" b="b"/>
                <a:pathLst>
                  <a:path w="195" h="536">
                    <a:moveTo>
                      <a:pt x="67" y="536"/>
                    </a:moveTo>
                    <a:lnTo>
                      <a:pt x="67" y="515"/>
                    </a:lnTo>
                    <a:lnTo>
                      <a:pt x="68" y="493"/>
                    </a:lnTo>
                    <a:lnTo>
                      <a:pt x="70" y="471"/>
                    </a:lnTo>
                    <a:lnTo>
                      <a:pt x="73" y="450"/>
                    </a:lnTo>
                    <a:lnTo>
                      <a:pt x="78" y="405"/>
                    </a:lnTo>
                    <a:lnTo>
                      <a:pt x="86" y="361"/>
                    </a:lnTo>
                    <a:lnTo>
                      <a:pt x="97" y="317"/>
                    </a:lnTo>
                    <a:lnTo>
                      <a:pt x="107" y="275"/>
                    </a:lnTo>
                    <a:lnTo>
                      <a:pt x="118" y="234"/>
                    </a:lnTo>
                    <a:lnTo>
                      <a:pt x="131" y="196"/>
                    </a:lnTo>
                    <a:lnTo>
                      <a:pt x="142" y="161"/>
                    </a:lnTo>
                    <a:lnTo>
                      <a:pt x="154" y="128"/>
                    </a:lnTo>
                    <a:lnTo>
                      <a:pt x="165" y="99"/>
                    </a:lnTo>
                    <a:lnTo>
                      <a:pt x="174" y="76"/>
                    </a:lnTo>
                    <a:lnTo>
                      <a:pt x="189" y="40"/>
                    </a:lnTo>
                    <a:lnTo>
                      <a:pt x="195" y="29"/>
                    </a:lnTo>
                    <a:lnTo>
                      <a:pt x="133" y="0"/>
                    </a:lnTo>
                    <a:lnTo>
                      <a:pt x="127" y="14"/>
                    </a:lnTo>
                    <a:lnTo>
                      <a:pt x="112" y="49"/>
                    </a:lnTo>
                    <a:lnTo>
                      <a:pt x="102" y="76"/>
                    </a:lnTo>
                    <a:lnTo>
                      <a:pt x="91" y="105"/>
                    </a:lnTo>
                    <a:lnTo>
                      <a:pt x="78" y="138"/>
                    </a:lnTo>
                    <a:lnTo>
                      <a:pt x="66" y="176"/>
                    </a:lnTo>
                    <a:lnTo>
                      <a:pt x="53" y="216"/>
                    </a:lnTo>
                    <a:lnTo>
                      <a:pt x="42" y="258"/>
                    </a:lnTo>
                    <a:lnTo>
                      <a:pt x="30" y="301"/>
                    </a:lnTo>
                    <a:lnTo>
                      <a:pt x="20" y="347"/>
                    </a:lnTo>
                    <a:lnTo>
                      <a:pt x="12" y="394"/>
                    </a:lnTo>
                    <a:lnTo>
                      <a:pt x="5" y="441"/>
                    </a:lnTo>
                    <a:lnTo>
                      <a:pt x="3" y="466"/>
                    </a:lnTo>
                    <a:lnTo>
                      <a:pt x="1" y="489"/>
                    </a:lnTo>
                    <a:lnTo>
                      <a:pt x="0" y="512"/>
                    </a:lnTo>
                    <a:lnTo>
                      <a:pt x="0" y="536"/>
                    </a:lnTo>
                    <a:lnTo>
                      <a:pt x="67" y="53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5506920" y="418788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0" y="0"/>
                    </a:moveTo>
                    <a:lnTo>
                      <a:pt x="0" y="8"/>
                    </a:lnTo>
                    <a:lnTo>
                      <a:pt x="2" y="15"/>
                    </a:lnTo>
                    <a:lnTo>
                      <a:pt x="5" y="21"/>
                    </a:lnTo>
                    <a:lnTo>
                      <a:pt x="10" y="26"/>
                    </a:lnTo>
                    <a:lnTo>
                      <a:pt x="14" y="29"/>
                    </a:lnTo>
                    <a:lnTo>
                      <a:pt x="20" y="32"/>
                    </a:lnTo>
                    <a:lnTo>
                      <a:pt x="27" y="34"/>
                    </a:lnTo>
                    <a:lnTo>
                      <a:pt x="33" y="34"/>
                    </a:lnTo>
                    <a:lnTo>
                      <a:pt x="40" y="34"/>
                    </a:lnTo>
                    <a:lnTo>
                      <a:pt x="45" y="32"/>
                    </a:lnTo>
                    <a:lnTo>
                      <a:pt x="51" y="29"/>
                    </a:lnTo>
                    <a:lnTo>
                      <a:pt x="57" y="26"/>
                    </a:lnTo>
                    <a:lnTo>
                      <a:pt x="61" y="21"/>
                    </a:lnTo>
                    <a:lnTo>
                      <a:pt x="63" y="15"/>
                    </a:lnTo>
                    <a:lnTo>
                      <a:pt x="66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5884920" y="412128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60" y="47"/>
                    </a:moveTo>
                    <a:lnTo>
                      <a:pt x="64" y="41"/>
                    </a:lnTo>
                    <a:lnTo>
                      <a:pt x="65" y="33"/>
                    </a:lnTo>
                    <a:lnTo>
                      <a:pt x="64" y="26"/>
                    </a:lnTo>
                    <a:lnTo>
                      <a:pt x="63" y="20"/>
                    </a:lnTo>
                    <a:lnTo>
                      <a:pt x="59" y="14"/>
                    </a:lnTo>
                    <a:lnTo>
                      <a:pt x="55" y="10"/>
                    </a:lnTo>
                    <a:lnTo>
                      <a:pt x="50" y="5"/>
                    </a:lnTo>
                    <a:lnTo>
                      <a:pt x="45" y="3"/>
                    </a:lnTo>
                    <a:lnTo>
                      <a:pt x="39" y="1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5" y="3"/>
                    </a:lnTo>
                    <a:lnTo>
                      <a:pt x="9" y="6"/>
                    </a:lnTo>
                    <a:lnTo>
                      <a:pt x="5" y="12"/>
                    </a:lnTo>
                    <a:lnTo>
                      <a:pt x="0" y="19"/>
                    </a:lnTo>
                    <a:lnTo>
                      <a:pt x="60" y="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5835600" y="412740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215" h="601">
                    <a:moveTo>
                      <a:pt x="67" y="601"/>
                    </a:moveTo>
                    <a:lnTo>
                      <a:pt x="67" y="576"/>
                    </a:lnTo>
                    <a:lnTo>
                      <a:pt x="68" y="552"/>
                    </a:lnTo>
                    <a:lnTo>
                      <a:pt x="71" y="527"/>
                    </a:lnTo>
                    <a:lnTo>
                      <a:pt x="73" y="503"/>
                    </a:lnTo>
                    <a:lnTo>
                      <a:pt x="76" y="478"/>
                    </a:lnTo>
                    <a:lnTo>
                      <a:pt x="81" y="453"/>
                    </a:lnTo>
                    <a:lnTo>
                      <a:pt x="86" y="428"/>
                    </a:lnTo>
                    <a:lnTo>
                      <a:pt x="90" y="403"/>
                    </a:lnTo>
                    <a:lnTo>
                      <a:pt x="101" y="354"/>
                    </a:lnTo>
                    <a:lnTo>
                      <a:pt x="114" y="307"/>
                    </a:lnTo>
                    <a:lnTo>
                      <a:pt x="128" y="261"/>
                    </a:lnTo>
                    <a:lnTo>
                      <a:pt x="141" y="218"/>
                    </a:lnTo>
                    <a:lnTo>
                      <a:pt x="155" y="178"/>
                    </a:lnTo>
                    <a:lnTo>
                      <a:pt x="169" y="141"/>
                    </a:lnTo>
                    <a:lnTo>
                      <a:pt x="181" y="108"/>
                    </a:lnTo>
                    <a:lnTo>
                      <a:pt x="193" y="81"/>
                    </a:lnTo>
                    <a:lnTo>
                      <a:pt x="210" y="42"/>
                    </a:lnTo>
                    <a:lnTo>
                      <a:pt x="215" y="28"/>
                    </a:lnTo>
                    <a:lnTo>
                      <a:pt x="155" y="0"/>
                    </a:lnTo>
                    <a:lnTo>
                      <a:pt x="148" y="15"/>
                    </a:lnTo>
                    <a:lnTo>
                      <a:pt x="131" y="55"/>
                    </a:lnTo>
                    <a:lnTo>
                      <a:pt x="119" y="83"/>
                    </a:lnTo>
                    <a:lnTo>
                      <a:pt x="106" y="117"/>
                    </a:lnTo>
                    <a:lnTo>
                      <a:pt x="92" y="155"/>
                    </a:lnTo>
                    <a:lnTo>
                      <a:pt x="78" y="196"/>
                    </a:lnTo>
                    <a:lnTo>
                      <a:pt x="63" y="241"/>
                    </a:lnTo>
                    <a:lnTo>
                      <a:pt x="49" y="289"/>
                    </a:lnTo>
                    <a:lnTo>
                      <a:pt x="37" y="338"/>
                    </a:lnTo>
                    <a:lnTo>
                      <a:pt x="24" y="389"/>
                    </a:lnTo>
                    <a:lnTo>
                      <a:pt x="19" y="415"/>
                    </a:lnTo>
                    <a:lnTo>
                      <a:pt x="14" y="441"/>
                    </a:lnTo>
                    <a:lnTo>
                      <a:pt x="10" y="468"/>
                    </a:lnTo>
                    <a:lnTo>
                      <a:pt x="7" y="495"/>
                    </a:lnTo>
                    <a:lnTo>
                      <a:pt x="3" y="521"/>
                    </a:lnTo>
                    <a:lnTo>
                      <a:pt x="1" y="548"/>
                    </a:lnTo>
                    <a:lnTo>
                      <a:pt x="0" y="575"/>
                    </a:lnTo>
                    <a:lnTo>
                      <a:pt x="0" y="601"/>
                    </a:lnTo>
                    <a:lnTo>
                      <a:pt x="67" y="6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5835600" y="43178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67" h="33">
                    <a:moveTo>
                      <a:pt x="0" y="0"/>
                    </a:moveTo>
                    <a:lnTo>
                      <a:pt x="0" y="8"/>
                    </a:lnTo>
                    <a:lnTo>
                      <a:pt x="2" y="15"/>
                    </a:lnTo>
                    <a:lnTo>
                      <a:pt x="6" y="21"/>
                    </a:lnTo>
                    <a:lnTo>
                      <a:pt x="10" y="25"/>
                    </a:lnTo>
                    <a:lnTo>
                      <a:pt x="15" y="29"/>
                    </a:lnTo>
                    <a:lnTo>
                      <a:pt x="21" y="31"/>
                    </a:lnTo>
                    <a:lnTo>
                      <a:pt x="27" y="33"/>
                    </a:lnTo>
                    <a:lnTo>
                      <a:pt x="33" y="33"/>
                    </a:lnTo>
                    <a:lnTo>
                      <a:pt x="40" y="33"/>
                    </a:lnTo>
                    <a:lnTo>
                      <a:pt x="46" y="31"/>
                    </a:lnTo>
                    <a:lnTo>
                      <a:pt x="51" y="29"/>
                    </a:lnTo>
                    <a:lnTo>
                      <a:pt x="57" y="25"/>
                    </a:lnTo>
                    <a:lnTo>
                      <a:pt x="60" y="21"/>
                    </a:lnTo>
                    <a:lnTo>
                      <a:pt x="64" y="15"/>
                    </a:lnTo>
                    <a:lnTo>
                      <a:pt x="66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6161040" y="428796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61" y="48"/>
                    </a:moveTo>
                    <a:lnTo>
                      <a:pt x="63" y="42"/>
                    </a:lnTo>
                    <a:lnTo>
                      <a:pt x="64" y="35"/>
                    </a:lnTo>
                    <a:lnTo>
                      <a:pt x="64" y="28"/>
                    </a:lnTo>
                    <a:lnTo>
                      <a:pt x="62" y="21"/>
                    </a:lnTo>
                    <a:lnTo>
                      <a:pt x="60" y="16"/>
                    </a:lnTo>
                    <a:lnTo>
                      <a:pt x="55" y="11"/>
                    </a:lnTo>
                    <a:lnTo>
                      <a:pt x="51" y="7"/>
                    </a:lnTo>
                    <a:lnTo>
                      <a:pt x="45" y="4"/>
                    </a:lnTo>
                    <a:lnTo>
                      <a:pt x="39" y="2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4"/>
                    </a:lnTo>
                    <a:lnTo>
                      <a:pt x="10" y="7"/>
                    </a:lnTo>
                    <a:lnTo>
                      <a:pt x="4" y="13"/>
                    </a:lnTo>
                    <a:lnTo>
                      <a:pt x="0" y="20"/>
                    </a:lnTo>
                    <a:lnTo>
                      <a:pt x="61" y="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6110280" y="4294080"/>
                <a:ext cx="69840" cy="190440"/>
              </a:xfrm>
              <a:custGeom>
                <a:avLst/>
                <a:gdLst/>
                <a:ahLst/>
                <a:rect l="l" t="t" r="r" b="b"/>
                <a:pathLst>
                  <a:path w="217" h="599">
                    <a:moveTo>
                      <a:pt x="69" y="599"/>
                    </a:moveTo>
                    <a:lnTo>
                      <a:pt x="69" y="575"/>
                    </a:lnTo>
                    <a:lnTo>
                      <a:pt x="70" y="550"/>
                    </a:lnTo>
                    <a:lnTo>
                      <a:pt x="72" y="526"/>
                    </a:lnTo>
                    <a:lnTo>
                      <a:pt x="74" y="501"/>
                    </a:lnTo>
                    <a:lnTo>
                      <a:pt x="78" y="476"/>
                    </a:lnTo>
                    <a:lnTo>
                      <a:pt x="81" y="451"/>
                    </a:lnTo>
                    <a:lnTo>
                      <a:pt x="86" y="427"/>
                    </a:lnTo>
                    <a:lnTo>
                      <a:pt x="91" y="401"/>
                    </a:lnTo>
                    <a:lnTo>
                      <a:pt x="103" y="352"/>
                    </a:lnTo>
                    <a:lnTo>
                      <a:pt x="115" y="306"/>
                    </a:lnTo>
                    <a:lnTo>
                      <a:pt x="128" y="260"/>
                    </a:lnTo>
                    <a:lnTo>
                      <a:pt x="143" y="217"/>
                    </a:lnTo>
                    <a:lnTo>
                      <a:pt x="156" y="177"/>
                    </a:lnTo>
                    <a:lnTo>
                      <a:pt x="170" y="140"/>
                    </a:lnTo>
                    <a:lnTo>
                      <a:pt x="183" y="108"/>
                    </a:lnTo>
                    <a:lnTo>
                      <a:pt x="194" y="81"/>
                    </a:lnTo>
                    <a:lnTo>
                      <a:pt x="211" y="42"/>
                    </a:lnTo>
                    <a:lnTo>
                      <a:pt x="217" y="28"/>
                    </a:lnTo>
                    <a:lnTo>
                      <a:pt x="156" y="0"/>
                    </a:lnTo>
                    <a:lnTo>
                      <a:pt x="150" y="15"/>
                    </a:lnTo>
                    <a:lnTo>
                      <a:pt x="131" y="55"/>
                    </a:lnTo>
                    <a:lnTo>
                      <a:pt x="120" y="83"/>
                    </a:lnTo>
                    <a:lnTo>
                      <a:pt x="106" y="116"/>
                    </a:lnTo>
                    <a:lnTo>
                      <a:pt x="93" y="154"/>
                    </a:lnTo>
                    <a:lnTo>
                      <a:pt x="79" y="195"/>
                    </a:lnTo>
                    <a:lnTo>
                      <a:pt x="64" y="239"/>
                    </a:lnTo>
                    <a:lnTo>
                      <a:pt x="50" y="287"/>
                    </a:lnTo>
                    <a:lnTo>
                      <a:pt x="37" y="336"/>
                    </a:lnTo>
                    <a:lnTo>
                      <a:pt x="25" y="387"/>
                    </a:lnTo>
                    <a:lnTo>
                      <a:pt x="20" y="413"/>
                    </a:lnTo>
                    <a:lnTo>
                      <a:pt x="15" y="439"/>
                    </a:lnTo>
                    <a:lnTo>
                      <a:pt x="11" y="466"/>
                    </a:lnTo>
                    <a:lnTo>
                      <a:pt x="7" y="493"/>
                    </a:lnTo>
                    <a:lnTo>
                      <a:pt x="5" y="519"/>
                    </a:lnTo>
                    <a:lnTo>
                      <a:pt x="3" y="545"/>
                    </a:lnTo>
                    <a:lnTo>
                      <a:pt x="1" y="573"/>
                    </a:lnTo>
                    <a:lnTo>
                      <a:pt x="0" y="599"/>
                    </a:lnTo>
                    <a:lnTo>
                      <a:pt x="69" y="59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6110280" y="448452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69" h="33">
                    <a:moveTo>
                      <a:pt x="0" y="0"/>
                    </a:moveTo>
                    <a:lnTo>
                      <a:pt x="1" y="8"/>
                    </a:lnTo>
                    <a:lnTo>
                      <a:pt x="4" y="15"/>
                    </a:lnTo>
                    <a:lnTo>
                      <a:pt x="7" y="20"/>
                    </a:lnTo>
                    <a:lnTo>
                      <a:pt x="12" y="25"/>
                    </a:lnTo>
                    <a:lnTo>
                      <a:pt x="16" y="28"/>
                    </a:lnTo>
                    <a:lnTo>
                      <a:pt x="22" y="32"/>
                    </a:lnTo>
                    <a:lnTo>
                      <a:pt x="28" y="33"/>
                    </a:lnTo>
                    <a:lnTo>
                      <a:pt x="34" y="33"/>
                    </a:lnTo>
                    <a:lnTo>
                      <a:pt x="41" y="33"/>
                    </a:lnTo>
                    <a:lnTo>
                      <a:pt x="47" y="32"/>
                    </a:lnTo>
                    <a:lnTo>
                      <a:pt x="53" y="28"/>
                    </a:lnTo>
                    <a:lnTo>
                      <a:pt x="57" y="25"/>
                    </a:lnTo>
                    <a:lnTo>
                      <a:pt x="62" y="20"/>
                    </a:lnTo>
                    <a:lnTo>
                      <a:pt x="65" y="15"/>
                    </a:lnTo>
                    <a:lnTo>
                      <a:pt x="68" y="8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5278320" y="4005360"/>
                <a:ext cx="41400" cy="4104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65" y="0"/>
                    </a:moveTo>
                    <a:lnTo>
                      <a:pt x="58" y="0"/>
                    </a:lnTo>
                    <a:lnTo>
                      <a:pt x="53" y="2"/>
                    </a:lnTo>
                    <a:lnTo>
                      <a:pt x="46" y="4"/>
                    </a:lnTo>
                    <a:lnTo>
                      <a:pt x="40" y="6"/>
                    </a:lnTo>
                    <a:lnTo>
                      <a:pt x="34" y="10"/>
                    </a:lnTo>
                    <a:lnTo>
                      <a:pt x="29" y="13"/>
                    </a:lnTo>
                    <a:lnTo>
                      <a:pt x="24" y="16"/>
                    </a:lnTo>
                    <a:lnTo>
                      <a:pt x="20" y="21"/>
                    </a:lnTo>
                    <a:lnTo>
                      <a:pt x="15" y="26"/>
                    </a:lnTo>
                    <a:lnTo>
                      <a:pt x="12" y="31"/>
                    </a:lnTo>
                    <a:lnTo>
                      <a:pt x="8" y="37"/>
                    </a:lnTo>
                    <a:lnTo>
                      <a:pt x="6" y="43"/>
                    </a:lnTo>
                    <a:lnTo>
                      <a:pt x="4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68"/>
                    </a:lnTo>
                    <a:lnTo>
                      <a:pt x="0" y="75"/>
                    </a:lnTo>
                    <a:lnTo>
                      <a:pt x="1" y="80"/>
                    </a:lnTo>
                    <a:lnTo>
                      <a:pt x="4" y="87"/>
                    </a:lnTo>
                    <a:lnTo>
                      <a:pt x="6" y="93"/>
                    </a:lnTo>
                    <a:lnTo>
                      <a:pt x="8" y="99"/>
                    </a:lnTo>
                    <a:lnTo>
                      <a:pt x="12" y="104"/>
                    </a:lnTo>
                    <a:lnTo>
                      <a:pt x="15" y="109"/>
                    </a:lnTo>
                    <a:lnTo>
                      <a:pt x="20" y="113"/>
                    </a:lnTo>
                    <a:lnTo>
                      <a:pt x="24" y="118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3" y="132"/>
                    </a:lnTo>
                    <a:lnTo>
                      <a:pt x="58" y="133"/>
                    </a:lnTo>
                    <a:lnTo>
                      <a:pt x="65" y="134"/>
                    </a:lnTo>
                    <a:lnTo>
                      <a:pt x="72" y="133"/>
                    </a:lnTo>
                    <a:lnTo>
                      <a:pt x="78" y="132"/>
                    </a:lnTo>
                    <a:lnTo>
                      <a:pt x="85" y="130"/>
                    </a:lnTo>
                    <a:lnTo>
                      <a:pt x="90" y="128"/>
                    </a:lnTo>
                    <a:lnTo>
                      <a:pt x="96" y="125"/>
                    </a:lnTo>
                    <a:lnTo>
                      <a:pt x="101" y="121"/>
                    </a:lnTo>
                    <a:lnTo>
                      <a:pt x="106" y="118"/>
                    </a:lnTo>
                    <a:lnTo>
                      <a:pt x="111" y="113"/>
                    </a:lnTo>
                    <a:lnTo>
                      <a:pt x="115" y="109"/>
                    </a:lnTo>
                    <a:lnTo>
                      <a:pt x="119" y="104"/>
                    </a:lnTo>
                    <a:lnTo>
                      <a:pt x="122" y="99"/>
                    </a:lnTo>
                    <a:lnTo>
                      <a:pt x="126" y="93"/>
                    </a:lnTo>
                    <a:lnTo>
                      <a:pt x="128" y="87"/>
                    </a:lnTo>
                    <a:lnTo>
                      <a:pt x="129" y="80"/>
                    </a:lnTo>
                    <a:lnTo>
                      <a:pt x="130" y="75"/>
                    </a:lnTo>
                    <a:lnTo>
                      <a:pt x="130" y="68"/>
                    </a:lnTo>
                    <a:lnTo>
                      <a:pt x="130" y="62"/>
                    </a:lnTo>
                    <a:lnTo>
                      <a:pt x="129" y="55"/>
                    </a:lnTo>
                    <a:lnTo>
                      <a:pt x="128" y="48"/>
                    </a:lnTo>
                    <a:lnTo>
                      <a:pt x="126" y="43"/>
                    </a:lnTo>
                    <a:lnTo>
                      <a:pt x="122" y="37"/>
                    </a:lnTo>
                    <a:lnTo>
                      <a:pt x="119" y="31"/>
                    </a:lnTo>
                    <a:lnTo>
                      <a:pt x="115" y="26"/>
                    </a:lnTo>
                    <a:lnTo>
                      <a:pt x="111" y="21"/>
                    </a:lnTo>
                    <a:lnTo>
                      <a:pt x="101" y="13"/>
                    </a:lnTo>
                    <a:lnTo>
                      <a:pt x="90" y="6"/>
                    </a:lnTo>
                    <a:lnTo>
                      <a:pt x="85" y="4"/>
                    </a:lnTo>
                    <a:lnTo>
                      <a:pt x="78" y="2"/>
                    </a:lnTo>
                    <a:lnTo>
                      <a:pt x="72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5267160" y="39942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98" h="101">
                    <a:moveTo>
                      <a:pt x="67" y="101"/>
                    </a:moveTo>
                    <a:lnTo>
                      <a:pt x="67" y="101"/>
                    </a:lnTo>
                    <a:lnTo>
                      <a:pt x="67" y="97"/>
                    </a:lnTo>
                    <a:lnTo>
                      <a:pt x="67" y="94"/>
                    </a:lnTo>
                    <a:lnTo>
                      <a:pt x="69" y="92"/>
                    </a:lnTo>
                    <a:lnTo>
                      <a:pt x="70" y="88"/>
                    </a:lnTo>
                    <a:lnTo>
                      <a:pt x="71" y="85"/>
                    </a:lnTo>
                    <a:lnTo>
                      <a:pt x="73" y="82"/>
                    </a:lnTo>
                    <a:lnTo>
                      <a:pt x="74" y="79"/>
                    </a:lnTo>
                    <a:lnTo>
                      <a:pt x="77" y="77"/>
                    </a:lnTo>
                    <a:lnTo>
                      <a:pt x="79" y="75"/>
                    </a:lnTo>
                    <a:lnTo>
                      <a:pt x="81" y="73"/>
                    </a:lnTo>
                    <a:lnTo>
                      <a:pt x="85" y="71"/>
                    </a:lnTo>
                    <a:lnTo>
                      <a:pt x="87" y="70"/>
                    </a:lnTo>
                    <a:lnTo>
                      <a:pt x="89" y="69"/>
                    </a:lnTo>
                    <a:lnTo>
                      <a:pt x="93" y="68"/>
                    </a:lnTo>
                    <a:lnTo>
                      <a:pt x="96" y="68"/>
                    </a:lnTo>
                    <a:lnTo>
                      <a:pt x="98" y="68"/>
                    </a:lnTo>
                    <a:lnTo>
                      <a:pt x="98" y="0"/>
                    </a:lnTo>
                    <a:lnTo>
                      <a:pt x="88" y="0"/>
                    </a:lnTo>
                    <a:lnTo>
                      <a:pt x="78" y="1"/>
                    </a:lnTo>
                    <a:lnTo>
                      <a:pt x="69" y="5"/>
                    </a:lnTo>
                    <a:lnTo>
                      <a:pt x="60" y="8"/>
                    </a:lnTo>
                    <a:lnTo>
                      <a:pt x="50" y="13"/>
                    </a:lnTo>
                    <a:lnTo>
                      <a:pt x="42" y="17"/>
                    </a:lnTo>
                    <a:lnTo>
                      <a:pt x="34" y="24"/>
                    </a:lnTo>
                    <a:lnTo>
                      <a:pt x="28" y="30"/>
                    </a:lnTo>
                    <a:lnTo>
                      <a:pt x="22" y="38"/>
                    </a:lnTo>
                    <a:lnTo>
                      <a:pt x="16" y="46"/>
                    </a:lnTo>
                    <a:lnTo>
                      <a:pt x="12" y="54"/>
                    </a:lnTo>
                    <a:lnTo>
                      <a:pt x="7" y="63"/>
                    </a:lnTo>
                    <a:lnTo>
                      <a:pt x="4" y="72"/>
                    </a:lnTo>
                    <a:lnTo>
                      <a:pt x="1" y="81"/>
                    </a:lnTo>
                    <a:lnTo>
                      <a:pt x="0" y="92"/>
                    </a:lnTo>
                    <a:lnTo>
                      <a:pt x="0" y="101"/>
                    </a:lnTo>
                    <a:lnTo>
                      <a:pt x="0" y="101"/>
                    </a:lnTo>
                    <a:lnTo>
                      <a:pt x="67" y="1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5267160" y="40258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98" h="99">
                    <a:moveTo>
                      <a:pt x="98" y="32"/>
                    </a:moveTo>
                    <a:lnTo>
                      <a:pt x="98" y="32"/>
                    </a:lnTo>
                    <a:lnTo>
                      <a:pt x="95" y="32"/>
                    </a:lnTo>
                    <a:lnTo>
                      <a:pt x="93" y="31"/>
                    </a:lnTo>
                    <a:lnTo>
                      <a:pt x="89" y="31"/>
                    </a:lnTo>
                    <a:lnTo>
                      <a:pt x="87" y="29"/>
                    </a:lnTo>
                    <a:lnTo>
                      <a:pt x="83" y="27"/>
                    </a:lnTo>
                    <a:lnTo>
                      <a:pt x="81" y="26"/>
                    </a:lnTo>
                    <a:lnTo>
                      <a:pt x="79" y="24"/>
                    </a:lnTo>
                    <a:lnTo>
                      <a:pt x="77" y="23"/>
                    </a:lnTo>
                    <a:lnTo>
                      <a:pt x="74" y="19"/>
                    </a:lnTo>
                    <a:lnTo>
                      <a:pt x="72" y="17"/>
                    </a:lnTo>
                    <a:lnTo>
                      <a:pt x="71" y="15"/>
                    </a:lnTo>
                    <a:lnTo>
                      <a:pt x="70" y="11"/>
                    </a:lnTo>
                    <a:lnTo>
                      <a:pt x="69" y="9"/>
                    </a:lnTo>
                    <a:lnTo>
                      <a:pt x="67" y="5"/>
                    </a:lnTo>
                    <a:lnTo>
                      <a:pt x="67" y="3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9"/>
                    </a:lnTo>
                    <a:lnTo>
                      <a:pt x="4" y="29"/>
                    </a:lnTo>
                    <a:lnTo>
                      <a:pt x="7" y="37"/>
                    </a:lnTo>
                    <a:lnTo>
                      <a:pt x="12" y="47"/>
                    </a:lnTo>
                    <a:lnTo>
                      <a:pt x="16" y="55"/>
                    </a:lnTo>
                    <a:lnTo>
                      <a:pt x="22" y="62"/>
                    </a:lnTo>
                    <a:lnTo>
                      <a:pt x="29" y="69"/>
                    </a:lnTo>
                    <a:lnTo>
                      <a:pt x="34" y="75"/>
                    </a:lnTo>
                    <a:lnTo>
                      <a:pt x="42" y="82"/>
                    </a:lnTo>
                    <a:lnTo>
                      <a:pt x="50" y="86"/>
                    </a:lnTo>
                    <a:lnTo>
                      <a:pt x="60" y="91"/>
                    </a:lnTo>
                    <a:lnTo>
                      <a:pt x="69" y="94"/>
                    </a:lnTo>
                    <a:lnTo>
                      <a:pt x="78" y="97"/>
                    </a:lnTo>
                    <a:lnTo>
                      <a:pt x="88" y="99"/>
                    </a:lnTo>
                    <a:lnTo>
                      <a:pt x="98" y="99"/>
                    </a:lnTo>
                    <a:lnTo>
                      <a:pt x="98" y="99"/>
                    </a:lnTo>
                    <a:lnTo>
                      <a:pt x="98" y="3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5299200" y="40258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32" y="0"/>
                    </a:moveTo>
                    <a:lnTo>
                      <a:pt x="32" y="0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31" y="8"/>
                    </a:lnTo>
                    <a:lnTo>
                      <a:pt x="30" y="11"/>
                    </a:lnTo>
                    <a:lnTo>
                      <a:pt x="28" y="13"/>
                    </a:lnTo>
                    <a:lnTo>
                      <a:pt x="26" y="17"/>
                    </a:lnTo>
                    <a:lnTo>
                      <a:pt x="24" y="19"/>
                    </a:lnTo>
                    <a:lnTo>
                      <a:pt x="22" y="21"/>
                    </a:lnTo>
                    <a:lnTo>
                      <a:pt x="20" y="24"/>
                    </a:lnTo>
                    <a:lnTo>
                      <a:pt x="16" y="26"/>
                    </a:lnTo>
                    <a:lnTo>
                      <a:pt x="14" y="28"/>
                    </a:lnTo>
                    <a:lnTo>
                      <a:pt x="12" y="29"/>
                    </a:lnTo>
                    <a:lnTo>
                      <a:pt x="8" y="31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99"/>
                    </a:lnTo>
                    <a:lnTo>
                      <a:pt x="11" y="99"/>
                    </a:lnTo>
                    <a:lnTo>
                      <a:pt x="21" y="97"/>
                    </a:lnTo>
                    <a:lnTo>
                      <a:pt x="30" y="94"/>
                    </a:lnTo>
                    <a:lnTo>
                      <a:pt x="39" y="91"/>
                    </a:lnTo>
                    <a:lnTo>
                      <a:pt x="47" y="86"/>
                    </a:lnTo>
                    <a:lnTo>
                      <a:pt x="55" y="82"/>
                    </a:lnTo>
                    <a:lnTo>
                      <a:pt x="63" y="76"/>
                    </a:lnTo>
                    <a:lnTo>
                      <a:pt x="70" y="69"/>
                    </a:lnTo>
                    <a:lnTo>
                      <a:pt x="76" y="62"/>
                    </a:lnTo>
                    <a:lnTo>
                      <a:pt x="81" y="55"/>
                    </a:lnTo>
                    <a:lnTo>
                      <a:pt x="87" y="47"/>
                    </a:lnTo>
                    <a:lnTo>
                      <a:pt x="91" y="39"/>
                    </a:lnTo>
                    <a:lnTo>
                      <a:pt x="95" y="29"/>
                    </a:lnTo>
                    <a:lnTo>
                      <a:pt x="97" y="20"/>
                    </a:lnTo>
                    <a:lnTo>
                      <a:pt x="99" y="1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5299200" y="399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1">
                    <a:moveTo>
                      <a:pt x="0" y="68"/>
                    </a:moveTo>
                    <a:lnTo>
                      <a:pt x="0" y="68"/>
                    </a:lnTo>
                    <a:lnTo>
                      <a:pt x="3" y="68"/>
                    </a:lnTo>
                    <a:lnTo>
                      <a:pt x="6" y="68"/>
                    </a:lnTo>
                    <a:lnTo>
                      <a:pt x="8" y="69"/>
                    </a:lnTo>
                    <a:lnTo>
                      <a:pt x="9" y="69"/>
                    </a:lnTo>
                    <a:lnTo>
                      <a:pt x="16" y="73"/>
                    </a:lnTo>
                    <a:lnTo>
                      <a:pt x="23" y="78"/>
                    </a:lnTo>
                    <a:lnTo>
                      <a:pt x="24" y="80"/>
                    </a:lnTo>
                    <a:lnTo>
                      <a:pt x="26" y="82"/>
                    </a:lnTo>
                    <a:lnTo>
                      <a:pt x="28" y="86"/>
                    </a:lnTo>
                    <a:lnTo>
                      <a:pt x="30" y="88"/>
                    </a:lnTo>
                    <a:lnTo>
                      <a:pt x="31" y="92"/>
                    </a:lnTo>
                    <a:lnTo>
                      <a:pt x="31" y="95"/>
                    </a:lnTo>
                    <a:lnTo>
                      <a:pt x="32" y="98"/>
                    </a:lnTo>
                    <a:lnTo>
                      <a:pt x="32" y="101"/>
                    </a:lnTo>
                    <a:lnTo>
                      <a:pt x="99" y="101"/>
                    </a:lnTo>
                    <a:lnTo>
                      <a:pt x="99" y="90"/>
                    </a:lnTo>
                    <a:lnTo>
                      <a:pt x="97" y="81"/>
                    </a:lnTo>
                    <a:lnTo>
                      <a:pt x="95" y="71"/>
                    </a:lnTo>
                    <a:lnTo>
                      <a:pt x="91" y="62"/>
                    </a:lnTo>
                    <a:lnTo>
                      <a:pt x="87" y="53"/>
                    </a:lnTo>
                    <a:lnTo>
                      <a:pt x="82" y="45"/>
                    </a:lnTo>
                    <a:lnTo>
                      <a:pt x="77" y="38"/>
                    </a:lnTo>
                    <a:lnTo>
                      <a:pt x="69" y="29"/>
                    </a:lnTo>
                    <a:lnTo>
                      <a:pt x="55" y="17"/>
                    </a:lnTo>
                    <a:lnTo>
                      <a:pt x="40" y="9"/>
                    </a:lnTo>
                    <a:lnTo>
                      <a:pt x="30" y="5"/>
                    </a:lnTo>
                    <a:lnTo>
                      <a:pt x="21" y="3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5504040" y="4206960"/>
                <a:ext cx="47520" cy="48960"/>
              </a:xfrm>
              <a:custGeom>
                <a:avLst/>
                <a:gdLst/>
                <a:ahLst/>
                <a:rect l="l" t="t" r="r" b="b"/>
                <a:pathLst>
                  <a:path w="153" h="154">
                    <a:moveTo>
                      <a:pt x="76" y="0"/>
                    </a:moveTo>
                    <a:lnTo>
                      <a:pt x="68" y="0"/>
                    </a:lnTo>
                    <a:lnTo>
                      <a:pt x="61" y="1"/>
                    </a:lnTo>
                    <a:lnTo>
                      <a:pt x="53" y="4"/>
                    </a:lnTo>
                    <a:lnTo>
                      <a:pt x="46" y="6"/>
                    </a:lnTo>
                    <a:lnTo>
                      <a:pt x="40" y="9"/>
                    </a:lnTo>
                    <a:lnTo>
                      <a:pt x="33" y="14"/>
                    </a:lnTo>
                    <a:lnTo>
                      <a:pt x="28" y="18"/>
                    </a:lnTo>
                    <a:lnTo>
                      <a:pt x="23" y="23"/>
                    </a:lnTo>
                    <a:lnTo>
                      <a:pt x="17" y="29"/>
                    </a:lnTo>
                    <a:lnTo>
                      <a:pt x="14" y="34"/>
                    </a:lnTo>
                    <a:lnTo>
                      <a:pt x="9" y="41"/>
                    </a:lnTo>
                    <a:lnTo>
                      <a:pt x="6" y="48"/>
                    </a:lnTo>
                    <a:lnTo>
                      <a:pt x="4" y="55"/>
                    </a:lnTo>
                    <a:lnTo>
                      <a:pt x="3" y="62"/>
                    </a:lnTo>
                    <a:lnTo>
                      <a:pt x="2" y="70"/>
                    </a:lnTo>
                    <a:lnTo>
                      <a:pt x="0" y="78"/>
                    </a:lnTo>
                    <a:lnTo>
                      <a:pt x="2" y="86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9" y="114"/>
                    </a:lnTo>
                    <a:lnTo>
                      <a:pt x="14" y="121"/>
                    </a:lnTo>
                    <a:lnTo>
                      <a:pt x="17" y="127"/>
                    </a:lnTo>
                    <a:lnTo>
                      <a:pt x="23" y="133"/>
                    </a:lnTo>
                    <a:lnTo>
                      <a:pt x="28" y="137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6" y="149"/>
                    </a:lnTo>
                    <a:lnTo>
                      <a:pt x="53" y="151"/>
                    </a:lnTo>
                    <a:lnTo>
                      <a:pt x="61" y="153"/>
                    </a:lnTo>
                    <a:lnTo>
                      <a:pt x="68" y="154"/>
                    </a:lnTo>
                    <a:lnTo>
                      <a:pt x="76" y="154"/>
                    </a:lnTo>
                    <a:lnTo>
                      <a:pt x="84" y="154"/>
                    </a:lnTo>
                    <a:lnTo>
                      <a:pt x="90" y="153"/>
                    </a:lnTo>
                    <a:lnTo>
                      <a:pt x="97" y="151"/>
                    </a:lnTo>
                    <a:lnTo>
                      <a:pt x="105" y="149"/>
                    </a:lnTo>
                    <a:lnTo>
                      <a:pt x="112" y="145"/>
                    </a:lnTo>
                    <a:lnTo>
                      <a:pt x="118" y="142"/>
                    </a:lnTo>
                    <a:lnTo>
                      <a:pt x="123" y="137"/>
                    </a:lnTo>
                    <a:lnTo>
                      <a:pt x="129" y="133"/>
                    </a:lnTo>
                    <a:lnTo>
                      <a:pt x="135" y="127"/>
                    </a:lnTo>
                    <a:lnTo>
                      <a:pt x="139" y="121"/>
                    </a:lnTo>
                    <a:lnTo>
                      <a:pt x="143" y="114"/>
                    </a:lnTo>
                    <a:lnTo>
                      <a:pt x="146" y="107"/>
                    </a:lnTo>
                    <a:lnTo>
                      <a:pt x="149" y="101"/>
                    </a:lnTo>
                    <a:lnTo>
                      <a:pt x="151" y="93"/>
                    </a:lnTo>
                    <a:lnTo>
                      <a:pt x="152" y="86"/>
                    </a:lnTo>
                    <a:lnTo>
                      <a:pt x="153" y="78"/>
                    </a:lnTo>
                    <a:lnTo>
                      <a:pt x="152" y="70"/>
                    </a:lnTo>
                    <a:lnTo>
                      <a:pt x="151" y="62"/>
                    </a:lnTo>
                    <a:lnTo>
                      <a:pt x="149" y="55"/>
                    </a:lnTo>
                    <a:lnTo>
                      <a:pt x="146" y="48"/>
                    </a:lnTo>
                    <a:lnTo>
                      <a:pt x="143" y="41"/>
                    </a:lnTo>
                    <a:lnTo>
                      <a:pt x="139" y="34"/>
                    </a:lnTo>
                    <a:lnTo>
                      <a:pt x="135" y="29"/>
                    </a:lnTo>
                    <a:lnTo>
                      <a:pt x="129" y="23"/>
                    </a:lnTo>
                    <a:lnTo>
                      <a:pt x="123" y="18"/>
                    </a:lnTo>
                    <a:lnTo>
                      <a:pt x="118" y="14"/>
                    </a:lnTo>
                    <a:lnTo>
                      <a:pt x="112" y="9"/>
                    </a:lnTo>
                    <a:lnTo>
                      <a:pt x="105" y="6"/>
                    </a:lnTo>
                    <a:lnTo>
                      <a:pt x="97" y="4"/>
                    </a:lnTo>
                    <a:lnTo>
                      <a:pt x="90" y="1"/>
                    </a:lnTo>
                    <a:lnTo>
                      <a:pt x="84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5492880" y="41958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109" h="112">
                    <a:moveTo>
                      <a:pt x="68" y="112"/>
                    </a:moveTo>
                    <a:lnTo>
                      <a:pt x="68" y="112"/>
                    </a:lnTo>
                    <a:lnTo>
                      <a:pt x="68" y="107"/>
                    </a:lnTo>
                    <a:lnTo>
                      <a:pt x="69" y="103"/>
                    </a:lnTo>
                    <a:lnTo>
                      <a:pt x="69" y="99"/>
                    </a:lnTo>
                    <a:lnTo>
                      <a:pt x="71" y="95"/>
                    </a:lnTo>
                    <a:lnTo>
                      <a:pt x="72" y="91"/>
                    </a:lnTo>
                    <a:lnTo>
                      <a:pt x="74" y="87"/>
                    </a:lnTo>
                    <a:lnTo>
                      <a:pt x="77" y="83"/>
                    </a:lnTo>
                    <a:lnTo>
                      <a:pt x="80" y="81"/>
                    </a:lnTo>
                    <a:lnTo>
                      <a:pt x="84" y="78"/>
                    </a:lnTo>
                    <a:lnTo>
                      <a:pt x="86" y="75"/>
                    </a:lnTo>
                    <a:lnTo>
                      <a:pt x="89" y="73"/>
                    </a:lnTo>
                    <a:lnTo>
                      <a:pt x="94" y="71"/>
                    </a:lnTo>
                    <a:lnTo>
                      <a:pt x="97" y="70"/>
                    </a:lnTo>
                    <a:lnTo>
                      <a:pt x="101" y="68"/>
                    </a:lnTo>
                    <a:lnTo>
                      <a:pt x="104" y="68"/>
                    </a:lnTo>
                    <a:lnTo>
                      <a:pt x="109" y="67"/>
                    </a:lnTo>
                    <a:lnTo>
                      <a:pt x="109" y="0"/>
                    </a:lnTo>
                    <a:lnTo>
                      <a:pt x="97" y="1"/>
                    </a:lnTo>
                    <a:lnTo>
                      <a:pt x="86" y="2"/>
                    </a:lnTo>
                    <a:lnTo>
                      <a:pt x="76" y="6"/>
                    </a:lnTo>
                    <a:lnTo>
                      <a:pt x="65" y="9"/>
                    </a:lnTo>
                    <a:lnTo>
                      <a:pt x="56" y="15"/>
                    </a:lnTo>
                    <a:lnTo>
                      <a:pt x="47" y="21"/>
                    </a:lnTo>
                    <a:lnTo>
                      <a:pt x="39" y="26"/>
                    </a:lnTo>
                    <a:lnTo>
                      <a:pt x="31" y="34"/>
                    </a:lnTo>
                    <a:lnTo>
                      <a:pt x="24" y="42"/>
                    </a:lnTo>
                    <a:lnTo>
                      <a:pt x="19" y="50"/>
                    </a:lnTo>
                    <a:lnTo>
                      <a:pt x="13" y="59"/>
                    </a:lnTo>
                    <a:lnTo>
                      <a:pt x="8" y="68"/>
                    </a:lnTo>
                    <a:lnTo>
                      <a:pt x="5" y="79"/>
                    </a:lnTo>
                    <a:lnTo>
                      <a:pt x="3" y="90"/>
                    </a:lnTo>
                    <a:lnTo>
                      <a:pt x="0" y="100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68" y="1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5492880" y="4232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09" h="110">
                    <a:moveTo>
                      <a:pt x="109" y="43"/>
                    </a:moveTo>
                    <a:lnTo>
                      <a:pt x="109" y="43"/>
                    </a:lnTo>
                    <a:lnTo>
                      <a:pt x="104" y="43"/>
                    </a:lnTo>
                    <a:lnTo>
                      <a:pt x="101" y="42"/>
                    </a:lnTo>
                    <a:lnTo>
                      <a:pt x="96" y="41"/>
                    </a:lnTo>
                    <a:lnTo>
                      <a:pt x="93" y="40"/>
                    </a:lnTo>
                    <a:lnTo>
                      <a:pt x="89" y="37"/>
                    </a:lnTo>
                    <a:lnTo>
                      <a:pt x="86" y="35"/>
                    </a:lnTo>
                    <a:lnTo>
                      <a:pt x="82" y="34"/>
                    </a:lnTo>
                    <a:lnTo>
                      <a:pt x="80" y="31"/>
                    </a:lnTo>
                    <a:lnTo>
                      <a:pt x="77" y="27"/>
                    </a:lnTo>
                    <a:lnTo>
                      <a:pt x="74" y="25"/>
                    </a:lnTo>
                    <a:lnTo>
                      <a:pt x="73" y="21"/>
                    </a:lnTo>
                    <a:lnTo>
                      <a:pt x="71" y="17"/>
                    </a:lnTo>
                    <a:lnTo>
                      <a:pt x="70" y="13"/>
                    </a:lnTo>
                    <a:lnTo>
                      <a:pt x="69" y="9"/>
                    </a:lnTo>
                    <a:lnTo>
                      <a:pt x="68" y="4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3" y="21"/>
                    </a:lnTo>
                    <a:lnTo>
                      <a:pt x="5" y="32"/>
                    </a:lnTo>
                    <a:lnTo>
                      <a:pt x="8" y="42"/>
                    </a:lnTo>
                    <a:lnTo>
                      <a:pt x="13" y="52"/>
                    </a:lnTo>
                    <a:lnTo>
                      <a:pt x="19" y="61"/>
                    </a:lnTo>
                    <a:lnTo>
                      <a:pt x="24" y="71"/>
                    </a:lnTo>
                    <a:lnTo>
                      <a:pt x="31" y="77"/>
                    </a:lnTo>
                    <a:lnTo>
                      <a:pt x="39" y="85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6" y="101"/>
                    </a:lnTo>
                    <a:lnTo>
                      <a:pt x="77" y="106"/>
                    </a:lnTo>
                    <a:lnTo>
                      <a:pt x="87" y="108"/>
                    </a:lnTo>
                    <a:lnTo>
                      <a:pt x="97" y="109"/>
                    </a:lnTo>
                    <a:lnTo>
                      <a:pt x="109" y="110"/>
                    </a:lnTo>
                    <a:lnTo>
                      <a:pt x="109" y="110"/>
                    </a:lnTo>
                    <a:lnTo>
                      <a:pt x="109" y="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5527800" y="4232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43" y="0"/>
                    </a:moveTo>
                    <a:lnTo>
                      <a:pt x="43" y="0"/>
                    </a:lnTo>
                    <a:lnTo>
                      <a:pt x="43" y="4"/>
                    </a:lnTo>
                    <a:lnTo>
                      <a:pt x="42" y="8"/>
                    </a:lnTo>
                    <a:lnTo>
                      <a:pt x="41" y="12"/>
                    </a:lnTo>
                    <a:lnTo>
                      <a:pt x="40" y="16"/>
                    </a:lnTo>
                    <a:lnTo>
                      <a:pt x="37" y="20"/>
                    </a:lnTo>
                    <a:lnTo>
                      <a:pt x="35" y="24"/>
                    </a:lnTo>
                    <a:lnTo>
                      <a:pt x="33" y="27"/>
                    </a:lnTo>
                    <a:lnTo>
                      <a:pt x="30" y="31"/>
                    </a:lnTo>
                    <a:lnTo>
                      <a:pt x="27" y="33"/>
                    </a:lnTo>
                    <a:lnTo>
                      <a:pt x="24" y="35"/>
                    </a:lnTo>
                    <a:lnTo>
                      <a:pt x="20" y="37"/>
                    </a:lnTo>
                    <a:lnTo>
                      <a:pt x="16" y="40"/>
                    </a:lnTo>
                    <a:lnTo>
                      <a:pt x="12" y="41"/>
                    </a:lnTo>
                    <a:lnTo>
                      <a:pt x="8" y="42"/>
                    </a:lnTo>
                    <a:lnTo>
                      <a:pt x="4" y="43"/>
                    </a:lnTo>
                    <a:lnTo>
                      <a:pt x="0" y="43"/>
                    </a:lnTo>
                    <a:lnTo>
                      <a:pt x="0" y="110"/>
                    </a:lnTo>
                    <a:lnTo>
                      <a:pt x="10" y="109"/>
                    </a:lnTo>
                    <a:lnTo>
                      <a:pt x="21" y="108"/>
                    </a:lnTo>
                    <a:lnTo>
                      <a:pt x="32" y="106"/>
                    </a:lnTo>
                    <a:lnTo>
                      <a:pt x="42" y="101"/>
                    </a:lnTo>
                    <a:lnTo>
                      <a:pt x="51" y="97"/>
                    </a:lnTo>
                    <a:lnTo>
                      <a:pt x="60" y="92"/>
                    </a:lnTo>
                    <a:lnTo>
                      <a:pt x="69" y="85"/>
                    </a:lnTo>
                    <a:lnTo>
                      <a:pt x="77" y="78"/>
                    </a:lnTo>
                    <a:lnTo>
                      <a:pt x="84" y="71"/>
                    </a:lnTo>
                    <a:lnTo>
                      <a:pt x="91" y="63"/>
                    </a:lnTo>
                    <a:lnTo>
                      <a:pt x="97" y="53"/>
                    </a:lnTo>
                    <a:lnTo>
                      <a:pt x="101" y="43"/>
                    </a:lnTo>
                    <a:lnTo>
                      <a:pt x="106" y="33"/>
                    </a:lnTo>
                    <a:lnTo>
                      <a:pt x="108" y="21"/>
                    </a:lnTo>
                    <a:lnTo>
                      <a:pt x="110" y="11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5527800" y="41958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110" h="112">
                    <a:moveTo>
                      <a:pt x="0" y="67"/>
                    </a:moveTo>
                    <a:lnTo>
                      <a:pt x="0" y="67"/>
                    </a:lnTo>
                    <a:lnTo>
                      <a:pt x="3" y="68"/>
                    </a:lnTo>
                    <a:lnTo>
                      <a:pt x="8" y="68"/>
                    </a:lnTo>
                    <a:lnTo>
                      <a:pt x="11" y="70"/>
                    </a:lnTo>
                    <a:lnTo>
                      <a:pt x="16" y="71"/>
                    </a:lnTo>
                    <a:lnTo>
                      <a:pt x="19" y="73"/>
                    </a:lnTo>
                    <a:lnTo>
                      <a:pt x="22" y="75"/>
                    </a:lnTo>
                    <a:lnTo>
                      <a:pt x="26" y="78"/>
                    </a:lnTo>
                    <a:lnTo>
                      <a:pt x="29" y="81"/>
                    </a:lnTo>
                    <a:lnTo>
                      <a:pt x="33" y="84"/>
                    </a:lnTo>
                    <a:lnTo>
                      <a:pt x="35" y="88"/>
                    </a:lnTo>
                    <a:lnTo>
                      <a:pt x="37" y="91"/>
                    </a:lnTo>
                    <a:lnTo>
                      <a:pt x="40" y="96"/>
                    </a:lnTo>
                    <a:lnTo>
                      <a:pt x="41" y="99"/>
                    </a:lnTo>
                    <a:lnTo>
                      <a:pt x="42" y="104"/>
                    </a:lnTo>
                    <a:lnTo>
                      <a:pt x="43" y="107"/>
                    </a:lnTo>
                    <a:lnTo>
                      <a:pt x="43" y="112"/>
                    </a:lnTo>
                    <a:lnTo>
                      <a:pt x="110" y="112"/>
                    </a:lnTo>
                    <a:lnTo>
                      <a:pt x="110" y="100"/>
                    </a:lnTo>
                    <a:lnTo>
                      <a:pt x="108" y="89"/>
                    </a:lnTo>
                    <a:lnTo>
                      <a:pt x="106" y="79"/>
                    </a:lnTo>
                    <a:lnTo>
                      <a:pt x="101" y="68"/>
                    </a:lnTo>
                    <a:lnTo>
                      <a:pt x="97" y="58"/>
                    </a:lnTo>
                    <a:lnTo>
                      <a:pt x="91" y="50"/>
                    </a:lnTo>
                    <a:lnTo>
                      <a:pt x="84" y="41"/>
                    </a:lnTo>
                    <a:lnTo>
                      <a:pt x="77" y="33"/>
                    </a:lnTo>
                    <a:lnTo>
                      <a:pt x="69" y="26"/>
                    </a:lnTo>
                    <a:lnTo>
                      <a:pt x="61" y="19"/>
                    </a:lnTo>
                    <a:lnTo>
                      <a:pt x="52" y="15"/>
                    </a:lnTo>
                    <a:lnTo>
                      <a:pt x="43" y="9"/>
                    </a:lnTo>
                    <a:lnTo>
                      <a:pt x="33" y="6"/>
                    </a:lnTo>
                    <a:lnTo>
                      <a:pt x="21" y="2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5830920" y="4340160"/>
                <a:ext cx="57240" cy="54000"/>
              </a:xfrm>
              <a:custGeom>
                <a:avLst/>
                <a:gdLst/>
                <a:ahLst/>
                <a:rect l="l" t="t" r="r" b="b"/>
                <a:pathLst>
                  <a:path w="177" h="171">
                    <a:moveTo>
                      <a:pt x="87" y="0"/>
                    </a:moveTo>
                    <a:lnTo>
                      <a:pt x="78" y="0"/>
                    </a:lnTo>
                    <a:lnTo>
                      <a:pt x="70" y="1"/>
                    </a:lnTo>
                    <a:lnTo>
                      <a:pt x="61" y="3"/>
                    </a:lnTo>
                    <a:lnTo>
                      <a:pt x="53" y="7"/>
                    </a:lnTo>
                    <a:lnTo>
                      <a:pt x="46" y="10"/>
                    </a:lnTo>
                    <a:lnTo>
                      <a:pt x="38" y="15"/>
                    </a:lnTo>
                    <a:lnTo>
                      <a:pt x="32" y="19"/>
                    </a:lnTo>
                    <a:lnTo>
                      <a:pt x="25" y="25"/>
                    </a:lnTo>
                    <a:lnTo>
                      <a:pt x="20" y="32"/>
                    </a:lnTo>
                    <a:lnTo>
                      <a:pt x="15" y="37"/>
                    </a:lnTo>
                    <a:lnTo>
                      <a:pt x="10" y="45"/>
                    </a:lnTo>
                    <a:lnTo>
                      <a:pt x="7" y="52"/>
                    </a:lnTo>
                    <a:lnTo>
                      <a:pt x="4" y="60"/>
                    </a:lnTo>
                    <a:lnTo>
                      <a:pt x="2" y="69"/>
                    </a:lnTo>
                    <a:lnTo>
                      <a:pt x="0" y="77"/>
                    </a:lnTo>
                    <a:lnTo>
                      <a:pt x="0" y="86"/>
                    </a:lnTo>
                    <a:lnTo>
                      <a:pt x="0" y="96"/>
                    </a:lnTo>
                    <a:lnTo>
                      <a:pt x="2" y="104"/>
                    </a:lnTo>
                    <a:lnTo>
                      <a:pt x="4" y="112"/>
                    </a:lnTo>
                    <a:lnTo>
                      <a:pt x="7" y="120"/>
                    </a:lnTo>
                    <a:lnTo>
                      <a:pt x="10" y="126"/>
                    </a:lnTo>
                    <a:lnTo>
                      <a:pt x="15" y="133"/>
                    </a:lnTo>
                    <a:lnTo>
                      <a:pt x="20" y="140"/>
                    </a:lnTo>
                    <a:lnTo>
                      <a:pt x="25" y="146"/>
                    </a:lnTo>
                    <a:lnTo>
                      <a:pt x="32" y="151"/>
                    </a:lnTo>
                    <a:lnTo>
                      <a:pt x="38" y="156"/>
                    </a:lnTo>
                    <a:lnTo>
                      <a:pt x="46" y="161"/>
                    </a:lnTo>
                    <a:lnTo>
                      <a:pt x="53" y="164"/>
                    </a:lnTo>
                    <a:lnTo>
                      <a:pt x="61" y="167"/>
                    </a:lnTo>
                    <a:lnTo>
                      <a:pt x="70" y="170"/>
                    </a:lnTo>
                    <a:lnTo>
                      <a:pt x="78" y="171"/>
                    </a:lnTo>
                    <a:lnTo>
                      <a:pt x="87" y="171"/>
                    </a:lnTo>
                    <a:lnTo>
                      <a:pt x="96" y="171"/>
                    </a:lnTo>
                    <a:lnTo>
                      <a:pt x="105" y="170"/>
                    </a:lnTo>
                    <a:lnTo>
                      <a:pt x="113" y="167"/>
                    </a:lnTo>
                    <a:lnTo>
                      <a:pt x="121" y="164"/>
                    </a:lnTo>
                    <a:lnTo>
                      <a:pt x="129" y="161"/>
                    </a:lnTo>
                    <a:lnTo>
                      <a:pt x="137" y="156"/>
                    </a:lnTo>
                    <a:lnTo>
                      <a:pt x="144" y="151"/>
                    </a:lnTo>
                    <a:lnTo>
                      <a:pt x="150" y="146"/>
                    </a:lnTo>
                    <a:lnTo>
                      <a:pt x="155" y="140"/>
                    </a:lnTo>
                    <a:lnTo>
                      <a:pt x="161" y="133"/>
                    </a:lnTo>
                    <a:lnTo>
                      <a:pt x="166" y="126"/>
                    </a:lnTo>
                    <a:lnTo>
                      <a:pt x="169" y="120"/>
                    </a:lnTo>
                    <a:lnTo>
                      <a:pt x="172" y="112"/>
                    </a:lnTo>
                    <a:lnTo>
                      <a:pt x="175" y="104"/>
                    </a:lnTo>
                    <a:lnTo>
                      <a:pt x="176" y="96"/>
                    </a:lnTo>
                    <a:lnTo>
                      <a:pt x="177" y="86"/>
                    </a:lnTo>
                    <a:lnTo>
                      <a:pt x="176" y="77"/>
                    </a:lnTo>
                    <a:lnTo>
                      <a:pt x="175" y="69"/>
                    </a:lnTo>
                    <a:lnTo>
                      <a:pt x="172" y="60"/>
                    </a:lnTo>
                    <a:lnTo>
                      <a:pt x="169" y="52"/>
                    </a:lnTo>
                    <a:lnTo>
                      <a:pt x="166" y="45"/>
                    </a:lnTo>
                    <a:lnTo>
                      <a:pt x="161" y="37"/>
                    </a:lnTo>
                    <a:lnTo>
                      <a:pt x="155" y="32"/>
                    </a:lnTo>
                    <a:lnTo>
                      <a:pt x="150" y="25"/>
                    </a:lnTo>
                    <a:lnTo>
                      <a:pt x="144" y="19"/>
                    </a:lnTo>
                    <a:lnTo>
                      <a:pt x="137" y="15"/>
                    </a:lnTo>
                    <a:lnTo>
                      <a:pt x="129" y="10"/>
                    </a:lnTo>
                    <a:lnTo>
                      <a:pt x="121" y="7"/>
                    </a:lnTo>
                    <a:lnTo>
                      <a:pt x="113" y="3"/>
                    </a:lnTo>
                    <a:lnTo>
                      <a:pt x="105" y="1"/>
                    </a:lnTo>
                    <a:lnTo>
                      <a:pt x="96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5821200" y="43290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21" h="120">
                    <a:moveTo>
                      <a:pt x="68" y="120"/>
                    </a:moveTo>
                    <a:lnTo>
                      <a:pt x="68" y="120"/>
                    </a:lnTo>
                    <a:lnTo>
                      <a:pt x="68" y="115"/>
                    </a:lnTo>
                    <a:lnTo>
                      <a:pt x="70" y="110"/>
                    </a:lnTo>
                    <a:lnTo>
                      <a:pt x="71" y="104"/>
                    </a:lnTo>
                    <a:lnTo>
                      <a:pt x="72" y="100"/>
                    </a:lnTo>
                    <a:lnTo>
                      <a:pt x="74" y="95"/>
                    </a:lnTo>
                    <a:lnTo>
                      <a:pt x="76" y="91"/>
                    </a:lnTo>
                    <a:lnTo>
                      <a:pt x="80" y="86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1" y="76"/>
                    </a:lnTo>
                    <a:lnTo>
                      <a:pt x="96" y="74"/>
                    </a:lnTo>
                    <a:lnTo>
                      <a:pt x="100" y="71"/>
                    </a:lnTo>
                    <a:lnTo>
                      <a:pt x="105" y="70"/>
                    </a:lnTo>
                    <a:lnTo>
                      <a:pt x="111" y="68"/>
                    </a:lnTo>
                    <a:lnTo>
                      <a:pt x="115" y="68"/>
                    </a:lnTo>
                    <a:lnTo>
                      <a:pt x="121" y="68"/>
                    </a:lnTo>
                    <a:lnTo>
                      <a:pt x="121" y="0"/>
                    </a:lnTo>
                    <a:lnTo>
                      <a:pt x="108" y="1"/>
                    </a:lnTo>
                    <a:lnTo>
                      <a:pt x="97" y="3"/>
                    </a:lnTo>
                    <a:lnTo>
                      <a:pt x="86" y="5"/>
                    </a:lnTo>
                    <a:lnTo>
                      <a:pt x="74" y="10"/>
                    </a:lnTo>
                    <a:lnTo>
                      <a:pt x="64" y="14"/>
                    </a:lnTo>
                    <a:lnTo>
                      <a:pt x="54" y="20"/>
                    </a:lnTo>
                    <a:lnTo>
                      <a:pt x="44" y="27"/>
                    </a:lnTo>
                    <a:lnTo>
                      <a:pt x="35" y="35"/>
                    </a:lnTo>
                    <a:lnTo>
                      <a:pt x="27" y="44"/>
                    </a:lnTo>
                    <a:lnTo>
                      <a:pt x="21" y="53"/>
                    </a:lnTo>
                    <a:lnTo>
                      <a:pt x="15" y="63"/>
                    </a:lnTo>
                    <a:lnTo>
                      <a:pt x="10" y="74"/>
                    </a:lnTo>
                    <a:lnTo>
                      <a:pt x="6" y="85"/>
                    </a:lnTo>
                    <a:lnTo>
                      <a:pt x="2" y="97"/>
                    </a:lnTo>
                    <a:lnTo>
                      <a:pt x="1" y="109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68" y="1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5821200" y="43671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21" h="119">
                    <a:moveTo>
                      <a:pt x="121" y="52"/>
                    </a:moveTo>
                    <a:lnTo>
                      <a:pt x="121" y="52"/>
                    </a:lnTo>
                    <a:lnTo>
                      <a:pt x="115" y="51"/>
                    </a:lnTo>
                    <a:lnTo>
                      <a:pt x="109" y="51"/>
                    </a:lnTo>
                    <a:lnTo>
                      <a:pt x="105" y="50"/>
                    </a:lnTo>
                    <a:lnTo>
                      <a:pt x="100" y="47"/>
                    </a:lnTo>
                    <a:lnTo>
                      <a:pt x="95" y="45"/>
                    </a:lnTo>
                    <a:lnTo>
                      <a:pt x="91" y="43"/>
                    </a:lnTo>
                    <a:lnTo>
                      <a:pt x="87" y="39"/>
                    </a:lnTo>
                    <a:lnTo>
                      <a:pt x="83" y="36"/>
                    </a:lnTo>
                    <a:lnTo>
                      <a:pt x="80" y="32"/>
                    </a:lnTo>
                    <a:lnTo>
                      <a:pt x="76" y="28"/>
                    </a:lnTo>
                    <a:lnTo>
                      <a:pt x="74" y="24"/>
                    </a:lnTo>
                    <a:lnTo>
                      <a:pt x="72" y="20"/>
                    </a:lnTo>
                    <a:lnTo>
                      <a:pt x="70" y="15"/>
                    </a:lnTo>
                    <a:lnTo>
                      <a:pt x="68" y="11"/>
                    </a:lnTo>
                    <a:lnTo>
                      <a:pt x="68" y="6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3" y="24"/>
                    </a:lnTo>
                    <a:lnTo>
                      <a:pt x="6" y="36"/>
                    </a:lnTo>
                    <a:lnTo>
                      <a:pt x="10" y="46"/>
                    </a:lnTo>
                    <a:lnTo>
                      <a:pt x="15" y="58"/>
                    </a:lnTo>
                    <a:lnTo>
                      <a:pt x="22" y="67"/>
                    </a:lnTo>
                    <a:lnTo>
                      <a:pt x="29" y="76"/>
                    </a:lnTo>
                    <a:lnTo>
                      <a:pt x="36" y="84"/>
                    </a:lnTo>
                    <a:lnTo>
                      <a:pt x="44" y="92"/>
                    </a:lnTo>
                    <a:lnTo>
                      <a:pt x="54" y="99"/>
                    </a:lnTo>
                    <a:lnTo>
                      <a:pt x="64" y="104"/>
                    </a:lnTo>
                    <a:lnTo>
                      <a:pt x="74" y="110"/>
                    </a:lnTo>
                    <a:lnTo>
                      <a:pt x="86" y="113"/>
                    </a:lnTo>
                    <a:lnTo>
                      <a:pt x="97" y="117"/>
                    </a:lnTo>
                    <a:lnTo>
                      <a:pt x="109" y="118"/>
                    </a:lnTo>
                    <a:lnTo>
                      <a:pt x="121" y="119"/>
                    </a:lnTo>
                    <a:lnTo>
                      <a:pt x="121" y="119"/>
                    </a:lnTo>
                    <a:lnTo>
                      <a:pt x="121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5859360" y="43671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23" h="119">
                    <a:moveTo>
                      <a:pt x="56" y="0"/>
                    </a:moveTo>
                    <a:lnTo>
                      <a:pt x="56" y="0"/>
                    </a:lnTo>
                    <a:lnTo>
                      <a:pt x="56" y="5"/>
                    </a:lnTo>
                    <a:lnTo>
                      <a:pt x="55" y="10"/>
                    </a:lnTo>
                    <a:lnTo>
                      <a:pt x="53" y="15"/>
                    </a:lnTo>
                    <a:lnTo>
                      <a:pt x="51" y="20"/>
                    </a:lnTo>
                    <a:lnTo>
                      <a:pt x="49" y="23"/>
                    </a:lnTo>
                    <a:lnTo>
                      <a:pt x="47" y="28"/>
                    </a:lnTo>
                    <a:lnTo>
                      <a:pt x="43" y="32"/>
                    </a:lnTo>
                    <a:lnTo>
                      <a:pt x="40" y="36"/>
                    </a:lnTo>
                    <a:lnTo>
                      <a:pt x="35" y="39"/>
                    </a:lnTo>
                    <a:lnTo>
                      <a:pt x="32" y="42"/>
                    </a:lnTo>
                    <a:lnTo>
                      <a:pt x="27" y="45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51"/>
                    </a:lnTo>
                    <a:lnTo>
                      <a:pt x="6" y="51"/>
                    </a:lnTo>
                    <a:lnTo>
                      <a:pt x="0" y="52"/>
                    </a:lnTo>
                    <a:lnTo>
                      <a:pt x="0" y="119"/>
                    </a:lnTo>
                    <a:lnTo>
                      <a:pt x="12" y="118"/>
                    </a:lnTo>
                    <a:lnTo>
                      <a:pt x="24" y="117"/>
                    </a:lnTo>
                    <a:lnTo>
                      <a:pt x="36" y="113"/>
                    </a:lnTo>
                    <a:lnTo>
                      <a:pt x="47" y="110"/>
                    </a:lnTo>
                    <a:lnTo>
                      <a:pt x="58" y="104"/>
                    </a:lnTo>
                    <a:lnTo>
                      <a:pt x="68" y="99"/>
                    </a:lnTo>
                    <a:lnTo>
                      <a:pt x="77" y="92"/>
                    </a:lnTo>
                    <a:lnTo>
                      <a:pt x="85" y="85"/>
                    </a:lnTo>
                    <a:lnTo>
                      <a:pt x="94" y="76"/>
                    </a:lnTo>
                    <a:lnTo>
                      <a:pt x="101" y="68"/>
                    </a:lnTo>
                    <a:lnTo>
                      <a:pt x="107" y="58"/>
                    </a:lnTo>
                    <a:lnTo>
                      <a:pt x="113" y="47"/>
                    </a:lnTo>
                    <a:lnTo>
                      <a:pt x="117" y="36"/>
                    </a:lnTo>
                    <a:lnTo>
                      <a:pt x="121" y="24"/>
                    </a:lnTo>
                    <a:lnTo>
                      <a:pt x="122" y="13"/>
                    </a:lnTo>
                    <a:lnTo>
                      <a:pt x="123" y="0"/>
                    </a:lnTo>
                    <a:lnTo>
                      <a:pt x="123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5859360" y="43290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23" h="120">
                    <a:moveTo>
                      <a:pt x="0" y="68"/>
                    </a:moveTo>
                    <a:lnTo>
                      <a:pt x="0" y="68"/>
                    </a:lnTo>
                    <a:lnTo>
                      <a:pt x="6" y="68"/>
                    </a:lnTo>
                    <a:lnTo>
                      <a:pt x="11" y="69"/>
                    </a:lnTo>
                    <a:lnTo>
                      <a:pt x="17" y="70"/>
                    </a:lnTo>
                    <a:lnTo>
                      <a:pt x="22" y="71"/>
                    </a:lnTo>
                    <a:lnTo>
                      <a:pt x="26" y="74"/>
                    </a:lnTo>
                    <a:lnTo>
                      <a:pt x="31" y="77"/>
                    </a:lnTo>
                    <a:lnTo>
                      <a:pt x="35" y="79"/>
                    </a:lnTo>
                    <a:lnTo>
                      <a:pt x="40" y="83"/>
                    </a:lnTo>
                    <a:lnTo>
                      <a:pt x="43" y="87"/>
                    </a:lnTo>
                    <a:lnTo>
                      <a:pt x="47" y="91"/>
                    </a:lnTo>
                    <a:lnTo>
                      <a:pt x="49" y="95"/>
                    </a:lnTo>
                    <a:lnTo>
                      <a:pt x="51" y="100"/>
                    </a:lnTo>
                    <a:lnTo>
                      <a:pt x="53" y="104"/>
                    </a:lnTo>
                    <a:lnTo>
                      <a:pt x="55" y="110"/>
                    </a:lnTo>
                    <a:lnTo>
                      <a:pt x="56" y="115"/>
                    </a:lnTo>
                    <a:lnTo>
                      <a:pt x="56" y="120"/>
                    </a:lnTo>
                    <a:lnTo>
                      <a:pt x="123" y="120"/>
                    </a:lnTo>
                    <a:lnTo>
                      <a:pt x="122" y="108"/>
                    </a:lnTo>
                    <a:lnTo>
                      <a:pt x="121" y="95"/>
                    </a:lnTo>
                    <a:lnTo>
                      <a:pt x="117" y="84"/>
                    </a:lnTo>
                    <a:lnTo>
                      <a:pt x="113" y="73"/>
                    </a:lnTo>
                    <a:lnTo>
                      <a:pt x="108" y="62"/>
                    </a:lnTo>
                    <a:lnTo>
                      <a:pt x="101" y="52"/>
                    </a:lnTo>
                    <a:lnTo>
                      <a:pt x="94" y="44"/>
                    </a:lnTo>
                    <a:lnTo>
                      <a:pt x="86" y="35"/>
                    </a:lnTo>
                    <a:lnTo>
                      <a:pt x="77" y="27"/>
                    </a:lnTo>
                    <a:lnTo>
                      <a:pt x="68" y="20"/>
                    </a:lnTo>
                    <a:lnTo>
                      <a:pt x="58" y="14"/>
                    </a:lnTo>
                    <a:lnTo>
                      <a:pt x="47" y="10"/>
                    </a:lnTo>
                    <a:lnTo>
                      <a:pt x="36" y="5"/>
                    </a:lnTo>
                    <a:lnTo>
                      <a:pt x="24" y="2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6107040" y="45054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175" h="172">
                    <a:moveTo>
                      <a:pt x="86" y="0"/>
                    </a:moveTo>
                    <a:lnTo>
                      <a:pt x="77" y="2"/>
                    </a:lnTo>
                    <a:lnTo>
                      <a:pt x="68" y="3"/>
                    </a:lnTo>
                    <a:lnTo>
                      <a:pt x="60" y="4"/>
                    </a:lnTo>
                    <a:lnTo>
                      <a:pt x="52" y="7"/>
                    </a:lnTo>
                    <a:lnTo>
                      <a:pt x="44" y="11"/>
                    </a:lnTo>
                    <a:lnTo>
                      <a:pt x="37" y="14"/>
                    </a:lnTo>
                    <a:lnTo>
                      <a:pt x="30" y="20"/>
                    </a:lnTo>
                    <a:lnTo>
                      <a:pt x="25" y="24"/>
                    </a:lnTo>
                    <a:lnTo>
                      <a:pt x="19" y="31"/>
                    </a:lnTo>
                    <a:lnTo>
                      <a:pt x="14" y="37"/>
                    </a:lnTo>
                    <a:lnTo>
                      <a:pt x="10" y="44"/>
                    </a:lnTo>
                    <a:lnTo>
                      <a:pt x="6" y="52"/>
                    </a:lnTo>
                    <a:lnTo>
                      <a:pt x="3" y="60"/>
                    </a:lnTo>
                    <a:lnTo>
                      <a:pt x="1" y="68"/>
                    </a:lnTo>
                    <a:lnTo>
                      <a:pt x="0" y="76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1" y="103"/>
                    </a:lnTo>
                    <a:lnTo>
                      <a:pt x="3" y="111"/>
                    </a:lnTo>
                    <a:lnTo>
                      <a:pt x="6" y="119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9" y="141"/>
                    </a:lnTo>
                    <a:lnTo>
                      <a:pt x="25" y="146"/>
                    </a:lnTo>
                    <a:lnTo>
                      <a:pt x="30" y="152"/>
                    </a:lnTo>
                    <a:lnTo>
                      <a:pt x="37" y="157"/>
                    </a:lnTo>
                    <a:lnTo>
                      <a:pt x="44" y="161"/>
                    </a:lnTo>
                    <a:lnTo>
                      <a:pt x="52" y="165"/>
                    </a:lnTo>
                    <a:lnTo>
                      <a:pt x="60" y="168"/>
                    </a:lnTo>
                    <a:lnTo>
                      <a:pt x="68" y="170"/>
                    </a:lnTo>
                    <a:lnTo>
                      <a:pt x="77" y="172"/>
                    </a:lnTo>
                    <a:lnTo>
                      <a:pt x="86" y="172"/>
                    </a:lnTo>
                    <a:lnTo>
                      <a:pt x="95" y="172"/>
                    </a:lnTo>
                    <a:lnTo>
                      <a:pt x="103" y="170"/>
                    </a:lnTo>
                    <a:lnTo>
                      <a:pt x="112" y="168"/>
                    </a:lnTo>
                    <a:lnTo>
                      <a:pt x="120" y="165"/>
                    </a:lnTo>
                    <a:lnTo>
                      <a:pt x="128" y="161"/>
                    </a:lnTo>
                    <a:lnTo>
                      <a:pt x="135" y="157"/>
                    </a:lnTo>
                    <a:lnTo>
                      <a:pt x="142" y="152"/>
                    </a:lnTo>
                    <a:lnTo>
                      <a:pt x="149" y="146"/>
                    </a:lnTo>
                    <a:lnTo>
                      <a:pt x="155" y="141"/>
                    </a:lnTo>
                    <a:lnTo>
                      <a:pt x="160" y="134"/>
                    </a:lnTo>
                    <a:lnTo>
                      <a:pt x="164" y="127"/>
                    </a:lnTo>
                    <a:lnTo>
                      <a:pt x="168" y="119"/>
                    </a:lnTo>
                    <a:lnTo>
                      <a:pt x="172" y="111"/>
                    </a:lnTo>
                    <a:lnTo>
                      <a:pt x="174" y="103"/>
                    </a:lnTo>
                    <a:lnTo>
                      <a:pt x="175" y="94"/>
                    </a:lnTo>
                    <a:lnTo>
                      <a:pt x="175" y="85"/>
                    </a:lnTo>
                    <a:lnTo>
                      <a:pt x="175" y="76"/>
                    </a:lnTo>
                    <a:lnTo>
                      <a:pt x="174" y="68"/>
                    </a:lnTo>
                    <a:lnTo>
                      <a:pt x="172" y="60"/>
                    </a:lnTo>
                    <a:lnTo>
                      <a:pt x="168" y="52"/>
                    </a:lnTo>
                    <a:lnTo>
                      <a:pt x="164" y="44"/>
                    </a:lnTo>
                    <a:lnTo>
                      <a:pt x="160" y="37"/>
                    </a:lnTo>
                    <a:lnTo>
                      <a:pt x="155" y="31"/>
                    </a:lnTo>
                    <a:lnTo>
                      <a:pt x="149" y="24"/>
                    </a:lnTo>
                    <a:lnTo>
                      <a:pt x="142" y="20"/>
                    </a:lnTo>
                    <a:lnTo>
                      <a:pt x="135" y="14"/>
                    </a:lnTo>
                    <a:lnTo>
                      <a:pt x="128" y="11"/>
                    </a:lnTo>
                    <a:lnTo>
                      <a:pt x="120" y="7"/>
                    </a:lnTo>
                    <a:lnTo>
                      <a:pt x="112" y="4"/>
                    </a:lnTo>
                    <a:lnTo>
                      <a:pt x="103" y="3"/>
                    </a:lnTo>
                    <a:lnTo>
                      <a:pt x="95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6095880" y="449568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121" h="118">
                    <a:moveTo>
                      <a:pt x="68" y="118"/>
                    </a:moveTo>
                    <a:lnTo>
                      <a:pt x="68" y="118"/>
                    </a:lnTo>
                    <a:lnTo>
                      <a:pt x="69" y="112"/>
                    </a:lnTo>
                    <a:lnTo>
                      <a:pt x="69" y="108"/>
                    </a:lnTo>
                    <a:lnTo>
                      <a:pt x="70" y="103"/>
                    </a:lnTo>
                    <a:lnTo>
                      <a:pt x="72" y="97"/>
                    </a:lnTo>
                    <a:lnTo>
                      <a:pt x="75" y="94"/>
                    </a:lnTo>
                    <a:lnTo>
                      <a:pt x="77" y="89"/>
                    </a:lnTo>
                    <a:lnTo>
                      <a:pt x="80" y="86"/>
                    </a:lnTo>
                    <a:lnTo>
                      <a:pt x="82" y="82"/>
                    </a:lnTo>
                    <a:lnTo>
                      <a:pt x="87" y="79"/>
                    </a:lnTo>
                    <a:lnTo>
                      <a:pt x="90" y="76"/>
                    </a:lnTo>
                    <a:lnTo>
                      <a:pt x="95" y="73"/>
                    </a:lnTo>
                    <a:lnTo>
                      <a:pt x="100" y="71"/>
                    </a:lnTo>
                    <a:lnTo>
                      <a:pt x="104" y="70"/>
                    </a:lnTo>
                    <a:lnTo>
                      <a:pt x="110" y="69"/>
                    </a:lnTo>
                    <a:lnTo>
                      <a:pt x="116" y="68"/>
                    </a:lnTo>
                    <a:lnTo>
                      <a:pt x="121" y="68"/>
                    </a:lnTo>
                    <a:lnTo>
                      <a:pt x="121" y="0"/>
                    </a:lnTo>
                    <a:lnTo>
                      <a:pt x="109" y="0"/>
                    </a:lnTo>
                    <a:lnTo>
                      <a:pt x="97" y="3"/>
                    </a:lnTo>
                    <a:lnTo>
                      <a:pt x="86" y="5"/>
                    </a:lnTo>
                    <a:lnTo>
                      <a:pt x="75" y="8"/>
                    </a:lnTo>
                    <a:lnTo>
                      <a:pt x="64" y="14"/>
                    </a:lnTo>
                    <a:lnTo>
                      <a:pt x="54" y="20"/>
                    </a:lnTo>
                    <a:lnTo>
                      <a:pt x="45" y="25"/>
                    </a:lnTo>
                    <a:lnTo>
                      <a:pt x="36" y="33"/>
                    </a:lnTo>
                    <a:lnTo>
                      <a:pt x="28" y="41"/>
                    </a:lnTo>
                    <a:lnTo>
                      <a:pt x="21" y="51"/>
                    </a:lnTo>
                    <a:lnTo>
                      <a:pt x="15" y="61"/>
                    </a:lnTo>
                    <a:lnTo>
                      <a:pt x="10" y="71"/>
                    </a:lnTo>
                    <a:lnTo>
                      <a:pt x="6" y="82"/>
                    </a:lnTo>
                    <a:lnTo>
                      <a:pt x="3" y="94"/>
                    </a:lnTo>
                    <a:lnTo>
                      <a:pt x="2" y="106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68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6095880" y="4532400"/>
                <a:ext cx="38160" cy="39600"/>
              </a:xfrm>
              <a:custGeom>
                <a:avLst/>
                <a:gdLst/>
                <a:ahLst/>
                <a:rect l="l" t="t" r="r" b="b"/>
                <a:pathLst>
                  <a:path w="121" h="121">
                    <a:moveTo>
                      <a:pt x="121" y="53"/>
                    </a:moveTo>
                    <a:lnTo>
                      <a:pt x="121" y="53"/>
                    </a:lnTo>
                    <a:lnTo>
                      <a:pt x="116" y="53"/>
                    </a:lnTo>
                    <a:lnTo>
                      <a:pt x="110" y="52"/>
                    </a:lnTo>
                    <a:lnTo>
                      <a:pt x="105" y="51"/>
                    </a:lnTo>
                    <a:lnTo>
                      <a:pt x="100" y="49"/>
                    </a:lnTo>
                    <a:lnTo>
                      <a:pt x="95" y="47"/>
                    </a:lnTo>
                    <a:lnTo>
                      <a:pt x="92" y="44"/>
                    </a:lnTo>
                    <a:lnTo>
                      <a:pt x="87" y="41"/>
                    </a:lnTo>
                    <a:lnTo>
                      <a:pt x="84" y="37"/>
                    </a:lnTo>
                    <a:lnTo>
                      <a:pt x="80" y="34"/>
                    </a:lnTo>
                    <a:lnTo>
                      <a:pt x="77" y="30"/>
                    </a:lnTo>
                    <a:lnTo>
                      <a:pt x="75" y="26"/>
                    </a:lnTo>
                    <a:lnTo>
                      <a:pt x="72" y="22"/>
                    </a:lnTo>
                    <a:lnTo>
                      <a:pt x="70" y="16"/>
                    </a:lnTo>
                    <a:lnTo>
                      <a:pt x="69" y="11"/>
                    </a:lnTo>
                    <a:lnTo>
                      <a:pt x="69" y="6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2" y="12"/>
                    </a:lnTo>
                    <a:lnTo>
                      <a:pt x="3" y="24"/>
                    </a:lnTo>
                    <a:lnTo>
                      <a:pt x="6" y="36"/>
                    </a:lnTo>
                    <a:lnTo>
                      <a:pt x="10" y="47"/>
                    </a:lnTo>
                    <a:lnTo>
                      <a:pt x="15" y="58"/>
                    </a:lnTo>
                    <a:lnTo>
                      <a:pt x="21" y="68"/>
                    </a:lnTo>
                    <a:lnTo>
                      <a:pt x="28" y="77"/>
                    </a:lnTo>
                    <a:lnTo>
                      <a:pt x="36" y="85"/>
                    </a:lnTo>
                    <a:lnTo>
                      <a:pt x="44" y="93"/>
                    </a:lnTo>
                    <a:lnTo>
                      <a:pt x="54" y="100"/>
                    </a:lnTo>
                    <a:lnTo>
                      <a:pt x="63" y="106"/>
                    </a:lnTo>
                    <a:lnTo>
                      <a:pt x="75" y="112"/>
                    </a:lnTo>
                    <a:lnTo>
                      <a:pt x="85" y="115"/>
                    </a:lnTo>
                    <a:lnTo>
                      <a:pt x="97" y="118"/>
                    </a:lnTo>
                    <a:lnTo>
                      <a:pt x="109" y="120"/>
                    </a:lnTo>
                    <a:lnTo>
                      <a:pt x="121" y="121"/>
                    </a:lnTo>
                    <a:lnTo>
                      <a:pt x="121" y="121"/>
                    </a:lnTo>
                    <a:lnTo>
                      <a:pt x="121" y="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6134040" y="453240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123" h="121">
                    <a:moveTo>
                      <a:pt x="56" y="0"/>
                    </a:moveTo>
                    <a:lnTo>
                      <a:pt x="56" y="0"/>
                    </a:lnTo>
                    <a:lnTo>
                      <a:pt x="55" y="6"/>
                    </a:lnTo>
                    <a:lnTo>
                      <a:pt x="55" y="10"/>
                    </a:lnTo>
                    <a:lnTo>
                      <a:pt x="53" y="16"/>
                    </a:lnTo>
                    <a:lnTo>
                      <a:pt x="52" y="20"/>
                    </a:lnTo>
                    <a:lnTo>
                      <a:pt x="49" y="25"/>
                    </a:lnTo>
                    <a:lnTo>
                      <a:pt x="46" y="30"/>
                    </a:lnTo>
                    <a:lnTo>
                      <a:pt x="44" y="34"/>
                    </a:lnTo>
                    <a:lnTo>
                      <a:pt x="39" y="37"/>
                    </a:lnTo>
                    <a:lnTo>
                      <a:pt x="36" y="41"/>
                    </a:lnTo>
                    <a:lnTo>
                      <a:pt x="31" y="44"/>
                    </a:lnTo>
                    <a:lnTo>
                      <a:pt x="26" y="47"/>
                    </a:lnTo>
                    <a:lnTo>
                      <a:pt x="22" y="49"/>
                    </a:lnTo>
                    <a:lnTo>
                      <a:pt x="16" y="51"/>
                    </a:lnTo>
                    <a:lnTo>
                      <a:pt x="12" y="52"/>
                    </a:lnTo>
                    <a:lnTo>
                      <a:pt x="6" y="53"/>
                    </a:lnTo>
                    <a:lnTo>
                      <a:pt x="0" y="53"/>
                    </a:lnTo>
                    <a:lnTo>
                      <a:pt x="0" y="121"/>
                    </a:lnTo>
                    <a:lnTo>
                      <a:pt x="13" y="120"/>
                    </a:lnTo>
                    <a:lnTo>
                      <a:pt x="24" y="118"/>
                    </a:lnTo>
                    <a:lnTo>
                      <a:pt x="36" y="115"/>
                    </a:lnTo>
                    <a:lnTo>
                      <a:pt x="47" y="112"/>
                    </a:lnTo>
                    <a:lnTo>
                      <a:pt x="58" y="106"/>
                    </a:lnTo>
                    <a:lnTo>
                      <a:pt x="68" y="100"/>
                    </a:lnTo>
                    <a:lnTo>
                      <a:pt x="78" y="93"/>
                    </a:lnTo>
                    <a:lnTo>
                      <a:pt x="86" y="85"/>
                    </a:lnTo>
                    <a:lnTo>
                      <a:pt x="94" y="77"/>
                    </a:lnTo>
                    <a:lnTo>
                      <a:pt x="102" y="68"/>
                    </a:lnTo>
                    <a:lnTo>
                      <a:pt x="107" y="58"/>
                    </a:lnTo>
                    <a:lnTo>
                      <a:pt x="113" y="48"/>
                    </a:lnTo>
                    <a:lnTo>
                      <a:pt x="118" y="36"/>
                    </a:lnTo>
                    <a:lnTo>
                      <a:pt x="120" y="25"/>
                    </a:lnTo>
                    <a:lnTo>
                      <a:pt x="122" y="12"/>
                    </a:lnTo>
                    <a:lnTo>
                      <a:pt x="123" y="0"/>
                    </a:lnTo>
                    <a:lnTo>
                      <a:pt x="123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6134040" y="4495680"/>
                <a:ext cx="39600" cy="36720"/>
              </a:xfrm>
              <a:custGeom>
                <a:avLst/>
                <a:gdLst/>
                <a:ahLst/>
                <a:rect l="l" t="t" r="r" b="b"/>
                <a:pathLst>
                  <a:path w="123" h="118">
                    <a:moveTo>
                      <a:pt x="0" y="68"/>
                    </a:moveTo>
                    <a:lnTo>
                      <a:pt x="0" y="68"/>
                    </a:lnTo>
                    <a:lnTo>
                      <a:pt x="6" y="68"/>
                    </a:lnTo>
                    <a:lnTo>
                      <a:pt x="12" y="69"/>
                    </a:lnTo>
                    <a:lnTo>
                      <a:pt x="17" y="70"/>
                    </a:lnTo>
                    <a:lnTo>
                      <a:pt x="22" y="71"/>
                    </a:lnTo>
                    <a:lnTo>
                      <a:pt x="28" y="73"/>
                    </a:lnTo>
                    <a:lnTo>
                      <a:pt x="32" y="77"/>
                    </a:lnTo>
                    <a:lnTo>
                      <a:pt x="36" y="79"/>
                    </a:lnTo>
                    <a:lnTo>
                      <a:pt x="40" y="82"/>
                    </a:lnTo>
                    <a:lnTo>
                      <a:pt x="44" y="86"/>
                    </a:lnTo>
                    <a:lnTo>
                      <a:pt x="47" y="90"/>
                    </a:lnTo>
                    <a:lnTo>
                      <a:pt x="49" y="94"/>
                    </a:lnTo>
                    <a:lnTo>
                      <a:pt x="52" y="98"/>
                    </a:lnTo>
                    <a:lnTo>
                      <a:pt x="53" y="103"/>
                    </a:lnTo>
                    <a:lnTo>
                      <a:pt x="55" y="108"/>
                    </a:lnTo>
                    <a:lnTo>
                      <a:pt x="55" y="113"/>
                    </a:lnTo>
                    <a:lnTo>
                      <a:pt x="56" y="118"/>
                    </a:lnTo>
                    <a:lnTo>
                      <a:pt x="123" y="118"/>
                    </a:lnTo>
                    <a:lnTo>
                      <a:pt x="122" y="105"/>
                    </a:lnTo>
                    <a:lnTo>
                      <a:pt x="120" y="94"/>
                    </a:lnTo>
                    <a:lnTo>
                      <a:pt x="118" y="82"/>
                    </a:lnTo>
                    <a:lnTo>
                      <a:pt x="113" y="71"/>
                    </a:lnTo>
                    <a:lnTo>
                      <a:pt x="107" y="60"/>
                    </a:lnTo>
                    <a:lnTo>
                      <a:pt x="101" y="51"/>
                    </a:lnTo>
                    <a:lnTo>
                      <a:pt x="94" y="41"/>
                    </a:lnTo>
                    <a:lnTo>
                      <a:pt x="86" y="33"/>
                    </a:lnTo>
                    <a:lnTo>
                      <a:pt x="77" y="25"/>
                    </a:lnTo>
                    <a:lnTo>
                      <a:pt x="68" y="19"/>
                    </a:lnTo>
                    <a:lnTo>
                      <a:pt x="57" y="13"/>
                    </a:lnTo>
                    <a:lnTo>
                      <a:pt x="47" y="8"/>
                    </a:lnTo>
                    <a:lnTo>
                      <a:pt x="36" y="5"/>
                    </a:lnTo>
                    <a:lnTo>
                      <a:pt x="24" y="3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2585880" y="3075120"/>
                <a:ext cx="3922920" cy="527040"/>
              </a:xfrm>
              <a:custGeom>
                <a:avLst/>
                <a:gdLst/>
                <a:ahLst/>
                <a:rect l="l" t="t" r="r" b="b"/>
                <a:pathLst>
                  <a:path w="12354" h="1662">
                    <a:moveTo>
                      <a:pt x="0" y="0"/>
                    </a:moveTo>
                    <a:lnTo>
                      <a:pt x="12354" y="0"/>
                    </a:lnTo>
                    <a:lnTo>
                      <a:pt x="12354" y="1458"/>
                    </a:lnTo>
                    <a:lnTo>
                      <a:pt x="12316" y="1459"/>
                    </a:lnTo>
                    <a:lnTo>
                      <a:pt x="12275" y="1460"/>
                    </a:lnTo>
                    <a:lnTo>
                      <a:pt x="12230" y="1464"/>
                    </a:lnTo>
                    <a:lnTo>
                      <a:pt x="12179" y="1467"/>
                    </a:lnTo>
                    <a:lnTo>
                      <a:pt x="12069" y="1476"/>
                    </a:lnTo>
                    <a:lnTo>
                      <a:pt x="11945" y="1489"/>
                    </a:lnTo>
                    <a:lnTo>
                      <a:pt x="11810" y="1501"/>
                    </a:lnTo>
                    <a:lnTo>
                      <a:pt x="11666" y="1514"/>
                    </a:lnTo>
                    <a:lnTo>
                      <a:pt x="11517" y="1526"/>
                    </a:lnTo>
                    <a:lnTo>
                      <a:pt x="11363" y="1537"/>
                    </a:lnTo>
                    <a:lnTo>
                      <a:pt x="11286" y="1540"/>
                    </a:lnTo>
                    <a:lnTo>
                      <a:pt x="11208" y="1543"/>
                    </a:lnTo>
                    <a:lnTo>
                      <a:pt x="11131" y="1546"/>
                    </a:lnTo>
                    <a:lnTo>
                      <a:pt x="11053" y="1548"/>
                    </a:lnTo>
                    <a:lnTo>
                      <a:pt x="10977" y="1548"/>
                    </a:lnTo>
                    <a:lnTo>
                      <a:pt x="10902" y="1547"/>
                    </a:lnTo>
                    <a:lnTo>
                      <a:pt x="10827" y="1543"/>
                    </a:lnTo>
                    <a:lnTo>
                      <a:pt x="10754" y="1540"/>
                    </a:lnTo>
                    <a:lnTo>
                      <a:pt x="10683" y="1534"/>
                    </a:lnTo>
                    <a:lnTo>
                      <a:pt x="10614" y="1526"/>
                    </a:lnTo>
                    <a:lnTo>
                      <a:pt x="10548" y="1517"/>
                    </a:lnTo>
                    <a:lnTo>
                      <a:pt x="10484" y="1506"/>
                    </a:lnTo>
                    <a:lnTo>
                      <a:pt x="10424" y="1492"/>
                    </a:lnTo>
                    <a:lnTo>
                      <a:pt x="10366" y="1476"/>
                    </a:lnTo>
                    <a:lnTo>
                      <a:pt x="10312" y="1458"/>
                    </a:lnTo>
                    <a:lnTo>
                      <a:pt x="10262" y="1436"/>
                    </a:lnTo>
                    <a:lnTo>
                      <a:pt x="10191" y="1437"/>
                    </a:lnTo>
                    <a:lnTo>
                      <a:pt x="10118" y="1438"/>
                    </a:lnTo>
                    <a:lnTo>
                      <a:pt x="10044" y="1441"/>
                    </a:lnTo>
                    <a:lnTo>
                      <a:pt x="9968" y="1444"/>
                    </a:lnTo>
                    <a:lnTo>
                      <a:pt x="9812" y="1451"/>
                    </a:lnTo>
                    <a:lnTo>
                      <a:pt x="9651" y="1461"/>
                    </a:lnTo>
                    <a:lnTo>
                      <a:pt x="9315" y="1484"/>
                    </a:lnTo>
                    <a:lnTo>
                      <a:pt x="8966" y="1508"/>
                    </a:lnTo>
                    <a:lnTo>
                      <a:pt x="8787" y="1518"/>
                    </a:lnTo>
                    <a:lnTo>
                      <a:pt x="8607" y="1526"/>
                    </a:lnTo>
                    <a:lnTo>
                      <a:pt x="8517" y="1530"/>
                    </a:lnTo>
                    <a:lnTo>
                      <a:pt x="8425" y="1532"/>
                    </a:lnTo>
                    <a:lnTo>
                      <a:pt x="8335" y="1533"/>
                    </a:lnTo>
                    <a:lnTo>
                      <a:pt x="8244" y="1534"/>
                    </a:lnTo>
                    <a:lnTo>
                      <a:pt x="8154" y="1534"/>
                    </a:lnTo>
                    <a:lnTo>
                      <a:pt x="8063" y="1533"/>
                    </a:lnTo>
                    <a:lnTo>
                      <a:pt x="7973" y="1531"/>
                    </a:lnTo>
                    <a:lnTo>
                      <a:pt x="7883" y="1527"/>
                    </a:lnTo>
                    <a:lnTo>
                      <a:pt x="7793" y="1523"/>
                    </a:lnTo>
                    <a:lnTo>
                      <a:pt x="7704" y="1516"/>
                    </a:lnTo>
                    <a:lnTo>
                      <a:pt x="7615" y="1508"/>
                    </a:lnTo>
                    <a:lnTo>
                      <a:pt x="7526" y="1499"/>
                    </a:lnTo>
                    <a:lnTo>
                      <a:pt x="7470" y="1482"/>
                    </a:lnTo>
                    <a:lnTo>
                      <a:pt x="7417" y="1467"/>
                    </a:lnTo>
                    <a:lnTo>
                      <a:pt x="7364" y="1457"/>
                    </a:lnTo>
                    <a:lnTo>
                      <a:pt x="7313" y="1449"/>
                    </a:lnTo>
                    <a:lnTo>
                      <a:pt x="7264" y="1444"/>
                    </a:lnTo>
                    <a:lnTo>
                      <a:pt x="7215" y="1441"/>
                    </a:lnTo>
                    <a:lnTo>
                      <a:pt x="7167" y="1441"/>
                    </a:lnTo>
                    <a:lnTo>
                      <a:pt x="7119" y="1443"/>
                    </a:lnTo>
                    <a:lnTo>
                      <a:pt x="7072" y="1448"/>
                    </a:lnTo>
                    <a:lnTo>
                      <a:pt x="7024" y="1453"/>
                    </a:lnTo>
                    <a:lnTo>
                      <a:pt x="6975" y="1460"/>
                    </a:lnTo>
                    <a:lnTo>
                      <a:pt x="6926" y="1468"/>
                    </a:lnTo>
                    <a:lnTo>
                      <a:pt x="6825" y="1487"/>
                    </a:lnTo>
                    <a:lnTo>
                      <a:pt x="6717" y="1508"/>
                    </a:lnTo>
                    <a:lnTo>
                      <a:pt x="6658" y="1518"/>
                    </a:lnTo>
                    <a:lnTo>
                      <a:pt x="6599" y="1529"/>
                    </a:lnTo>
                    <a:lnTo>
                      <a:pt x="6536" y="1538"/>
                    </a:lnTo>
                    <a:lnTo>
                      <a:pt x="6470" y="1547"/>
                    </a:lnTo>
                    <a:lnTo>
                      <a:pt x="6401" y="1554"/>
                    </a:lnTo>
                    <a:lnTo>
                      <a:pt x="6328" y="1561"/>
                    </a:lnTo>
                    <a:lnTo>
                      <a:pt x="6251" y="1565"/>
                    </a:lnTo>
                    <a:lnTo>
                      <a:pt x="6171" y="1569"/>
                    </a:lnTo>
                    <a:lnTo>
                      <a:pt x="6084" y="1570"/>
                    </a:lnTo>
                    <a:lnTo>
                      <a:pt x="5994" y="1569"/>
                    </a:lnTo>
                    <a:lnTo>
                      <a:pt x="5898" y="1565"/>
                    </a:lnTo>
                    <a:lnTo>
                      <a:pt x="5797" y="1559"/>
                    </a:lnTo>
                    <a:lnTo>
                      <a:pt x="5691" y="1550"/>
                    </a:lnTo>
                    <a:lnTo>
                      <a:pt x="5578" y="1538"/>
                    </a:lnTo>
                    <a:lnTo>
                      <a:pt x="5459" y="1522"/>
                    </a:lnTo>
                    <a:lnTo>
                      <a:pt x="5334" y="1501"/>
                    </a:lnTo>
                    <a:lnTo>
                      <a:pt x="5288" y="1493"/>
                    </a:lnTo>
                    <a:lnTo>
                      <a:pt x="5241" y="1487"/>
                    </a:lnTo>
                    <a:lnTo>
                      <a:pt x="5194" y="1483"/>
                    </a:lnTo>
                    <a:lnTo>
                      <a:pt x="5145" y="1482"/>
                    </a:lnTo>
                    <a:lnTo>
                      <a:pt x="5094" y="1483"/>
                    </a:lnTo>
                    <a:lnTo>
                      <a:pt x="5043" y="1486"/>
                    </a:lnTo>
                    <a:lnTo>
                      <a:pt x="4989" y="1491"/>
                    </a:lnTo>
                    <a:lnTo>
                      <a:pt x="4934" y="1497"/>
                    </a:lnTo>
                    <a:lnTo>
                      <a:pt x="4877" y="1505"/>
                    </a:lnTo>
                    <a:lnTo>
                      <a:pt x="4817" y="1513"/>
                    </a:lnTo>
                    <a:lnTo>
                      <a:pt x="4757" y="1523"/>
                    </a:lnTo>
                    <a:lnTo>
                      <a:pt x="4693" y="1533"/>
                    </a:lnTo>
                    <a:lnTo>
                      <a:pt x="4560" y="1555"/>
                    </a:lnTo>
                    <a:lnTo>
                      <a:pt x="4415" y="1579"/>
                    </a:lnTo>
                    <a:lnTo>
                      <a:pt x="4340" y="1590"/>
                    </a:lnTo>
                    <a:lnTo>
                      <a:pt x="4260" y="1600"/>
                    </a:lnTo>
                    <a:lnTo>
                      <a:pt x="4179" y="1612"/>
                    </a:lnTo>
                    <a:lnTo>
                      <a:pt x="4093" y="1621"/>
                    </a:lnTo>
                    <a:lnTo>
                      <a:pt x="4006" y="1630"/>
                    </a:lnTo>
                    <a:lnTo>
                      <a:pt x="3914" y="1637"/>
                    </a:lnTo>
                    <a:lnTo>
                      <a:pt x="3820" y="1644"/>
                    </a:lnTo>
                    <a:lnTo>
                      <a:pt x="3721" y="1648"/>
                    </a:lnTo>
                    <a:lnTo>
                      <a:pt x="3619" y="1652"/>
                    </a:lnTo>
                    <a:lnTo>
                      <a:pt x="3513" y="1653"/>
                    </a:lnTo>
                    <a:lnTo>
                      <a:pt x="3404" y="1652"/>
                    </a:lnTo>
                    <a:lnTo>
                      <a:pt x="3291" y="1648"/>
                    </a:lnTo>
                    <a:lnTo>
                      <a:pt x="3173" y="1643"/>
                    </a:lnTo>
                    <a:lnTo>
                      <a:pt x="3051" y="1634"/>
                    </a:lnTo>
                    <a:lnTo>
                      <a:pt x="2926" y="1622"/>
                    </a:lnTo>
                    <a:lnTo>
                      <a:pt x="2795" y="1608"/>
                    </a:lnTo>
                    <a:lnTo>
                      <a:pt x="2719" y="1581"/>
                    </a:lnTo>
                    <a:lnTo>
                      <a:pt x="2641" y="1558"/>
                    </a:lnTo>
                    <a:lnTo>
                      <a:pt x="2564" y="1540"/>
                    </a:lnTo>
                    <a:lnTo>
                      <a:pt x="2485" y="1525"/>
                    </a:lnTo>
                    <a:lnTo>
                      <a:pt x="2406" y="1513"/>
                    </a:lnTo>
                    <a:lnTo>
                      <a:pt x="2328" y="1505"/>
                    </a:lnTo>
                    <a:lnTo>
                      <a:pt x="2248" y="1499"/>
                    </a:lnTo>
                    <a:lnTo>
                      <a:pt x="2168" y="1497"/>
                    </a:lnTo>
                    <a:lnTo>
                      <a:pt x="2087" y="1497"/>
                    </a:lnTo>
                    <a:lnTo>
                      <a:pt x="2005" y="1498"/>
                    </a:lnTo>
                    <a:lnTo>
                      <a:pt x="1923" y="1502"/>
                    </a:lnTo>
                    <a:lnTo>
                      <a:pt x="1841" y="1508"/>
                    </a:lnTo>
                    <a:lnTo>
                      <a:pt x="1758" y="1516"/>
                    </a:lnTo>
                    <a:lnTo>
                      <a:pt x="1673" y="1525"/>
                    </a:lnTo>
                    <a:lnTo>
                      <a:pt x="1588" y="1534"/>
                    </a:lnTo>
                    <a:lnTo>
                      <a:pt x="1502" y="1546"/>
                    </a:lnTo>
                    <a:lnTo>
                      <a:pt x="1328" y="1569"/>
                    </a:lnTo>
                    <a:lnTo>
                      <a:pt x="1151" y="1594"/>
                    </a:lnTo>
                    <a:lnTo>
                      <a:pt x="1061" y="1605"/>
                    </a:lnTo>
                    <a:lnTo>
                      <a:pt x="970" y="1616"/>
                    </a:lnTo>
                    <a:lnTo>
                      <a:pt x="877" y="1627"/>
                    </a:lnTo>
                    <a:lnTo>
                      <a:pt x="784" y="1637"/>
                    </a:lnTo>
                    <a:lnTo>
                      <a:pt x="691" y="1645"/>
                    </a:lnTo>
                    <a:lnTo>
                      <a:pt x="595" y="1652"/>
                    </a:lnTo>
                    <a:lnTo>
                      <a:pt x="498" y="1657"/>
                    </a:lnTo>
                    <a:lnTo>
                      <a:pt x="401" y="1661"/>
                    </a:lnTo>
                    <a:lnTo>
                      <a:pt x="302" y="1662"/>
                    </a:lnTo>
                    <a:lnTo>
                      <a:pt x="203" y="1661"/>
                    </a:lnTo>
                    <a:lnTo>
                      <a:pt x="101" y="1657"/>
                    </a:lnTo>
                    <a:lnTo>
                      <a:pt x="0" y="16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4565520" y="3075120"/>
                <a:ext cx="244440" cy="466560"/>
              </a:xfrm>
              <a:custGeom>
                <a:avLst/>
                <a:gdLst/>
                <a:ahLst/>
                <a:rect l="l" t="t" r="r" b="b"/>
                <a:pathLst>
                  <a:path w="770" h="1472">
                    <a:moveTo>
                      <a:pt x="124" y="0"/>
                    </a:moveTo>
                    <a:lnTo>
                      <a:pt x="178" y="91"/>
                    </a:lnTo>
                    <a:lnTo>
                      <a:pt x="232" y="183"/>
                    </a:lnTo>
                    <a:lnTo>
                      <a:pt x="283" y="279"/>
                    </a:lnTo>
                    <a:lnTo>
                      <a:pt x="333" y="375"/>
                    </a:lnTo>
                    <a:lnTo>
                      <a:pt x="382" y="472"/>
                    </a:lnTo>
                    <a:lnTo>
                      <a:pt x="429" y="570"/>
                    </a:lnTo>
                    <a:lnTo>
                      <a:pt x="474" y="667"/>
                    </a:lnTo>
                    <a:lnTo>
                      <a:pt x="517" y="763"/>
                    </a:lnTo>
                    <a:lnTo>
                      <a:pt x="557" y="859"/>
                    </a:lnTo>
                    <a:lnTo>
                      <a:pt x="596" y="954"/>
                    </a:lnTo>
                    <a:lnTo>
                      <a:pt x="631" y="1045"/>
                    </a:lnTo>
                    <a:lnTo>
                      <a:pt x="664" y="1134"/>
                    </a:lnTo>
                    <a:lnTo>
                      <a:pt x="695" y="1221"/>
                    </a:lnTo>
                    <a:lnTo>
                      <a:pt x="723" y="1303"/>
                    </a:lnTo>
                    <a:lnTo>
                      <a:pt x="747" y="1381"/>
                    </a:lnTo>
                    <a:lnTo>
                      <a:pt x="770" y="1456"/>
                    </a:lnTo>
                    <a:lnTo>
                      <a:pt x="757" y="1458"/>
                    </a:lnTo>
                    <a:lnTo>
                      <a:pt x="745" y="1459"/>
                    </a:lnTo>
                    <a:lnTo>
                      <a:pt x="734" y="1461"/>
                    </a:lnTo>
                    <a:lnTo>
                      <a:pt x="721" y="1464"/>
                    </a:lnTo>
                    <a:lnTo>
                      <a:pt x="708" y="1466"/>
                    </a:lnTo>
                    <a:lnTo>
                      <a:pt x="697" y="1467"/>
                    </a:lnTo>
                    <a:lnTo>
                      <a:pt x="684" y="1469"/>
                    </a:lnTo>
                    <a:lnTo>
                      <a:pt x="672" y="1472"/>
                    </a:lnTo>
                    <a:lnTo>
                      <a:pt x="607" y="1316"/>
                    </a:lnTo>
                    <a:lnTo>
                      <a:pt x="533" y="1144"/>
                    </a:lnTo>
                    <a:lnTo>
                      <a:pt x="452" y="958"/>
                    </a:lnTo>
                    <a:lnTo>
                      <a:pt x="365" y="765"/>
                    </a:lnTo>
                    <a:lnTo>
                      <a:pt x="275" y="568"/>
                    </a:lnTo>
                    <a:lnTo>
                      <a:pt x="183" y="372"/>
                    </a:lnTo>
                    <a:lnTo>
                      <a:pt x="137" y="276"/>
                    </a:lnTo>
                    <a:lnTo>
                      <a:pt x="92" y="181"/>
                    </a:lnTo>
                    <a:lnTo>
                      <a:pt x="46" y="89"/>
                    </a:lnTo>
                    <a:lnTo>
                      <a:pt x="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4599000" y="3075120"/>
                <a:ext cx="219240" cy="463320"/>
              </a:xfrm>
              <a:custGeom>
                <a:avLst/>
                <a:gdLst/>
                <a:ahLst/>
                <a:rect l="l" t="t" r="r" b="b"/>
                <a:pathLst>
                  <a:path w="693" h="1460">
                    <a:moveTo>
                      <a:pt x="693" y="1452"/>
                    </a:moveTo>
                    <a:lnTo>
                      <a:pt x="675" y="1392"/>
                    </a:lnTo>
                    <a:lnTo>
                      <a:pt x="647" y="1305"/>
                    </a:lnTo>
                    <a:lnTo>
                      <a:pt x="615" y="1214"/>
                    </a:lnTo>
                    <a:lnTo>
                      <a:pt x="581" y="1119"/>
                    </a:lnTo>
                    <a:lnTo>
                      <a:pt x="543" y="1021"/>
                    </a:lnTo>
                    <a:lnTo>
                      <a:pt x="503" y="920"/>
                    </a:lnTo>
                    <a:lnTo>
                      <a:pt x="460" y="818"/>
                    </a:lnTo>
                    <a:lnTo>
                      <a:pt x="414" y="714"/>
                    </a:lnTo>
                    <a:lnTo>
                      <a:pt x="365" y="609"/>
                    </a:lnTo>
                    <a:lnTo>
                      <a:pt x="315" y="503"/>
                    </a:lnTo>
                    <a:lnTo>
                      <a:pt x="263" y="399"/>
                    </a:lnTo>
                    <a:lnTo>
                      <a:pt x="235" y="347"/>
                    </a:lnTo>
                    <a:lnTo>
                      <a:pt x="208" y="294"/>
                    </a:lnTo>
                    <a:lnTo>
                      <a:pt x="179" y="243"/>
                    </a:lnTo>
                    <a:lnTo>
                      <a:pt x="151" y="193"/>
                    </a:lnTo>
                    <a:lnTo>
                      <a:pt x="121" y="141"/>
                    </a:lnTo>
                    <a:lnTo>
                      <a:pt x="93" y="92"/>
                    </a:lnTo>
                    <a:lnTo>
                      <a:pt x="62" y="43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4" y="23"/>
                    </a:lnTo>
                    <a:lnTo>
                      <a:pt x="44" y="72"/>
                    </a:lnTo>
                    <a:lnTo>
                      <a:pt x="72" y="121"/>
                    </a:lnTo>
                    <a:lnTo>
                      <a:pt x="100" y="172"/>
                    </a:lnTo>
                    <a:lnTo>
                      <a:pt x="128" y="222"/>
                    </a:lnTo>
                    <a:lnTo>
                      <a:pt x="155" y="274"/>
                    </a:lnTo>
                    <a:lnTo>
                      <a:pt x="182" y="325"/>
                    </a:lnTo>
                    <a:lnTo>
                      <a:pt x="234" y="430"/>
                    </a:lnTo>
                    <a:lnTo>
                      <a:pt x="285" y="534"/>
                    </a:lnTo>
                    <a:lnTo>
                      <a:pt x="333" y="639"/>
                    </a:lnTo>
                    <a:lnTo>
                      <a:pt x="379" y="743"/>
                    </a:lnTo>
                    <a:lnTo>
                      <a:pt x="421" y="844"/>
                    </a:lnTo>
                    <a:lnTo>
                      <a:pt x="462" y="944"/>
                    </a:lnTo>
                    <a:lnTo>
                      <a:pt x="500" y="1043"/>
                    </a:lnTo>
                    <a:lnTo>
                      <a:pt x="534" y="1137"/>
                    </a:lnTo>
                    <a:lnTo>
                      <a:pt x="565" y="1229"/>
                    </a:lnTo>
                    <a:lnTo>
                      <a:pt x="593" y="1314"/>
                    </a:lnTo>
                    <a:lnTo>
                      <a:pt x="617" y="1395"/>
                    </a:lnTo>
                    <a:lnTo>
                      <a:pt x="635" y="1460"/>
                    </a:lnTo>
                    <a:lnTo>
                      <a:pt x="642" y="1459"/>
                    </a:lnTo>
                    <a:lnTo>
                      <a:pt x="650" y="1458"/>
                    </a:lnTo>
                    <a:lnTo>
                      <a:pt x="657" y="1457"/>
                    </a:lnTo>
                    <a:lnTo>
                      <a:pt x="664" y="1456"/>
                    </a:lnTo>
                    <a:lnTo>
                      <a:pt x="672" y="1454"/>
                    </a:lnTo>
                    <a:lnTo>
                      <a:pt x="679" y="1454"/>
                    </a:lnTo>
                    <a:lnTo>
                      <a:pt x="686" y="1453"/>
                    </a:lnTo>
                    <a:lnTo>
                      <a:pt x="693" y="145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4559400" y="3075120"/>
                <a:ext cx="226800" cy="468360"/>
              </a:xfrm>
              <a:custGeom>
                <a:avLst/>
                <a:gdLst/>
                <a:ahLst/>
                <a:rect l="l" t="t" r="r" b="b"/>
                <a:pathLst>
                  <a:path w="716" h="1476">
                    <a:moveTo>
                      <a:pt x="0" y="0"/>
                    </a:moveTo>
                    <a:lnTo>
                      <a:pt x="6" y="11"/>
                    </a:lnTo>
                    <a:lnTo>
                      <a:pt x="60" y="120"/>
                    </a:lnTo>
                    <a:lnTo>
                      <a:pt x="114" y="230"/>
                    </a:lnTo>
                    <a:lnTo>
                      <a:pt x="169" y="344"/>
                    </a:lnTo>
                    <a:lnTo>
                      <a:pt x="223" y="461"/>
                    </a:lnTo>
                    <a:lnTo>
                      <a:pt x="278" y="578"/>
                    </a:lnTo>
                    <a:lnTo>
                      <a:pt x="330" y="695"/>
                    </a:lnTo>
                    <a:lnTo>
                      <a:pt x="383" y="810"/>
                    </a:lnTo>
                    <a:lnTo>
                      <a:pt x="434" y="924"/>
                    </a:lnTo>
                    <a:lnTo>
                      <a:pt x="483" y="1035"/>
                    </a:lnTo>
                    <a:lnTo>
                      <a:pt x="573" y="1244"/>
                    </a:lnTo>
                    <a:lnTo>
                      <a:pt x="651" y="1432"/>
                    </a:lnTo>
                    <a:lnTo>
                      <a:pt x="669" y="1476"/>
                    </a:lnTo>
                    <a:lnTo>
                      <a:pt x="675" y="1475"/>
                    </a:lnTo>
                    <a:lnTo>
                      <a:pt x="682" y="1474"/>
                    </a:lnTo>
                    <a:lnTo>
                      <a:pt x="687" y="1473"/>
                    </a:lnTo>
                    <a:lnTo>
                      <a:pt x="693" y="1472"/>
                    </a:lnTo>
                    <a:lnTo>
                      <a:pt x="699" y="1470"/>
                    </a:lnTo>
                    <a:lnTo>
                      <a:pt x="704" y="1470"/>
                    </a:lnTo>
                    <a:lnTo>
                      <a:pt x="710" y="1469"/>
                    </a:lnTo>
                    <a:lnTo>
                      <a:pt x="716" y="1468"/>
                    </a:lnTo>
                    <a:lnTo>
                      <a:pt x="654" y="1320"/>
                    </a:lnTo>
                    <a:lnTo>
                      <a:pt x="563" y="1110"/>
                    </a:lnTo>
                    <a:lnTo>
                      <a:pt x="515" y="999"/>
                    </a:lnTo>
                    <a:lnTo>
                      <a:pt x="464" y="885"/>
                    </a:lnTo>
                    <a:lnTo>
                      <a:pt x="411" y="769"/>
                    </a:lnTo>
                    <a:lnTo>
                      <a:pt x="358" y="652"/>
                    </a:lnTo>
                    <a:lnTo>
                      <a:pt x="304" y="536"/>
                    </a:lnTo>
                    <a:lnTo>
                      <a:pt x="249" y="420"/>
                    </a:lnTo>
                    <a:lnTo>
                      <a:pt x="195" y="304"/>
                    </a:lnTo>
                    <a:lnTo>
                      <a:pt x="140" y="193"/>
                    </a:lnTo>
                    <a:lnTo>
                      <a:pt x="86" y="85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4478400" y="3075120"/>
                <a:ext cx="245880" cy="482400"/>
              </a:xfrm>
              <a:custGeom>
                <a:avLst/>
                <a:gdLst/>
                <a:ahLst/>
                <a:rect l="l" t="t" r="r" b="b"/>
                <a:pathLst>
                  <a:path w="774" h="1519">
                    <a:moveTo>
                      <a:pt x="126" y="0"/>
                    </a:moveTo>
                    <a:lnTo>
                      <a:pt x="155" y="48"/>
                    </a:lnTo>
                    <a:lnTo>
                      <a:pt x="183" y="97"/>
                    </a:lnTo>
                    <a:lnTo>
                      <a:pt x="211" y="146"/>
                    </a:lnTo>
                    <a:lnTo>
                      <a:pt x="239" y="195"/>
                    </a:lnTo>
                    <a:lnTo>
                      <a:pt x="293" y="295"/>
                    </a:lnTo>
                    <a:lnTo>
                      <a:pt x="344" y="397"/>
                    </a:lnTo>
                    <a:lnTo>
                      <a:pt x="394" y="499"/>
                    </a:lnTo>
                    <a:lnTo>
                      <a:pt x="442" y="602"/>
                    </a:lnTo>
                    <a:lnTo>
                      <a:pt x="488" y="704"/>
                    </a:lnTo>
                    <a:lnTo>
                      <a:pt x="531" y="804"/>
                    </a:lnTo>
                    <a:lnTo>
                      <a:pt x="572" y="903"/>
                    </a:lnTo>
                    <a:lnTo>
                      <a:pt x="610" y="1000"/>
                    </a:lnTo>
                    <a:lnTo>
                      <a:pt x="645" y="1095"/>
                    </a:lnTo>
                    <a:lnTo>
                      <a:pt x="677" y="1185"/>
                    </a:lnTo>
                    <a:lnTo>
                      <a:pt x="707" y="1272"/>
                    </a:lnTo>
                    <a:lnTo>
                      <a:pt x="733" y="1355"/>
                    </a:lnTo>
                    <a:lnTo>
                      <a:pt x="755" y="1433"/>
                    </a:lnTo>
                    <a:lnTo>
                      <a:pt x="774" y="1505"/>
                    </a:lnTo>
                    <a:lnTo>
                      <a:pt x="764" y="1506"/>
                    </a:lnTo>
                    <a:lnTo>
                      <a:pt x="753" y="1508"/>
                    </a:lnTo>
                    <a:lnTo>
                      <a:pt x="742" y="1510"/>
                    </a:lnTo>
                    <a:lnTo>
                      <a:pt x="732" y="1513"/>
                    </a:lnTo>
                    <a:lnTo>
                      <a:pt x="720" y="1514"/>
                    </a:lnTo>
                    <a:lnTo>
                      <a:pt x="710" y="1516"/>
                    </a:lnTo>
                    <a:lnTo>
                      <a:pt x="699" y="1518"/>
                    </a:lnTo>
                    <a:lnTo>
                      <a:pt x="687" y="1519"/>
                    </a:lnTo>
                    <a:lnTo>
                      <a:pt x="626" y="1369"/>
                    </a:lnTo>
                    <a:lnTo>
                      <a:pt x="553" y="1195"/>
                    </a:lnTo>
                    <a:lnTo>
                      <a:pt x="471" y="1007"/>
                    </a:lnTo>
                    <a:lnTo>
                      <a:pt x="382" y="806"/>
                    </a:lnTo>
                    <a:lnTo>
                      <a:pt x="288" y="601"/>
                    </a:lnTo>
                    <a:lnTo>
                      <a:pt x="193" y="395"/>
                    </a:lnTo>
                    <a:lnTo>
                      <a:pt x="144" y="293"/>
                    </a:lnTo>
                    <a:lnTo>
                      <a:pt x="96" y="193"/>
                    </a:lnTo>
                    <a:lnTo>
                      <a:pt x="48" y="94"/>
                    </a:lnTo>
                    <a:lnTo>
                      <a:pt x="0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4513320" y="3075120"/>
                <a:ext cx="220680" cy="479160"/>
              </a:xfrm>
              <a:custGeom>
                <a:avLst/>
                <a:gdLst/>
                <a:ahLst/>
                <a:rect l="l" t="t" r="r" b="b"/>
                <a:pathLst>
                  <a:path w="696" h="1509">
                    <a:moveTo>
                      <a:pt x="696" y="1499"/>
                    </a:moveTo>
                    <a:lnTo>
                      <a:pt x="680" y="1442"/>
                    </a:lnTo>
                    <a:lnTo>
                      <a:pt x="656" y="1361"/>
                    </a:lnTo>
                    <a:lnTo>
                      <a:pt x="627" y="1274"/>
                    </a:lnTo>
                    <a:lnTo>
                      <a:pt x="596" y="1183"/>
                    </a:lnTo>
                    <a:lnTo>
                      <a:pt x="561" y="1088"/>
                    </a:lnTo>
                    <a:lnTo>
                      <a:pt x="523" y="990"/>
                    </a:lnTo>
                    <a:lnTo>
                      <a:pt x="484" y="889"/>
                    </a:lnTo>
                    <a:lnTo>
                      <a:pt x="440" y="786"/>
                    </a:lnTo>
                    <a:lnTo>
                      <a:pt x="395" y="682"/>
                    </a:lnTo>
                    <a:lnTo>
                      <a:pt x="346" y="577"/>
                    </a:lnTo>
                    <a:lnTo>
                      <a:pt x="295" y="472"/>
                    </a:lnTo>
                    <a:lnTo>
                      <a:pt x="243" y="367"/>
                    </a:lnTo>
                    <a:lnTo>
                      <a:pt x="216" y="315"/>
                    </a:lnTo>
                    <a:lnTo>
                      <a:pt x="188" y="263"/>
                    </a:lnTo>
                    <a:lnTo>
                      <a:pt x="160" y="212"/>
                    </a:lnTo>
                    <a:lnTo>
                      <a:pt x="131" y="161"/>
                    </a:lnTo>
                    <a:lnTo>
                      <a:pt x="102" y="110"/>
                    </a:lnTo>
                    <a:lnTo>
                      <a:pt x="73" y="60"/>
                    </a:lnTo>
                    <a:lnTo>
                      <a:pt x="42" y="11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53" y="90"/>
                    </a:lnTo>
                    <a:lnTo>
                      <a:pt x="80" y="140"/>
                    </a:lnTo>
                    <a:lnTo>
                      <a:pt x="108" y="191"/>
                    </a:lnTo>
                    <a:lnTo>
                      <a:pt x="136" y="243"/>
                    </a:lnTo>
                    <a:lnTo>
                      <a:pt x="162" y="294"/>
                    </a:lnTo>
                    <a:lnTo>
                      <a:pt x="215" y="398"/>
                    </a:lnTo>
                    <a:lnTo>
                      <a:pt x="266" y="503"/>
                    </a:lnTo>
                    <a:lnTo>
                      <a:pt x="314" y="607"/>
                    </a:lnTo>
                    <a:lnTo>
                      <a:pt x="359" y="711"/>
                    </a:lnTo>
                    <a:lnTo>
                      <a:pt x="401" y="813"/>
                    </a:lnTo>
                    <a:lnTo>
                      <a:pt x="443" y="914"/>
                    </a:lnTo>
                    <a:lnTo>
                      <a:pt x="480" y="1012"/>
                    </a:lnTo>
                    <a:lnTo>
                      <a:pt x="514" y="1105"/>
                    </a:lnTo>
                    <a:lnTo>
                      <a:pt x="545" y="1197"/>
                    </a:lnTo>
                    <a:lnTo>
                      <a:pt x="574" y="1283"/>
                    </a:lnTo>
                    <a:lnTo>
                      <a:pt x="598" y="1364"/>
                    </a:lnTo>
                    <a:lnTo>
                      <a:pt x="619" y="1440"/>
                    </a:lnTo>
                    <a:lnTo>
                      <a:pt x="636" y="1509"/>
                    </a:lnTo>
                    <a:lnTo>
                      <a:pt x="636" y="1509"/>
                    </a:lnTo>
                    <a:lnTo>
                      <a:pt x="643" y="1508"/>
                    </a:lnTo>
                    <a:lnTo>
                      <a:pt x="651" y="1507"/>
                    </a:lnTo>
                    <a:lnTo>
                      <a:pt x="659" y="1506"/>
                    </a:lnTo>
                    <a:lnTo>
                      <a:pt x="666" y="1505"/>
                    </a:lnTo>
                    <a:lnTo>
                      <a:pt x="674" y="1502"/>
                    </a:lnTo>
                    <a:lnTo>
                      <a:pt x="681" y="1501"/>
                    </a:lnTo>
                    <a:lnTo>
                      <a:pt x="688" y="1500"/>
                    </a:lnTo>
                    <a:lnTo>
                      <a:pt x="696" y="149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>
                <a:off x="4471920" y="3075120"/>
                <a:ext cx="231840" cy="484200"/>
              </a:xfrm>
              <a:custGeom>
                <a:avLst/>
                <a:gdLst/>
                <a:ahLst/>
                <a:rect l="l" t="t" r="r" b="b"/>
                <a:pathLst>
                  <a:path w="733" h="1524">
                    <a:moveTo>
                      <a:pt x="0" y="0"/>
                    </a:moveTo>
                    <a:lnTo>
                      <a:pt x="45" y="88"/>
                    </a:lnTo>
                    <a:lnTo>
                      <a:pt x="98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2" y="546"/>
                    </a:lnTo>
                    <a:lnTo>
                      <a:pt x="316" y="663"/>
                    </a:lnTo>
                    <a:lnTo>
                      <a:pt x="367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8" y="1213"/>
                    </a:lnTo>
                    <a:lnTo>
                      <a:pt x="635" y="1400"/>
                    </a:lnTo>
                    <a:lnTo>
                      <a:pt x="669" y="1482"/>
                    </a:lnTo>
                    <a:lnTo>
                      <a:pt x="685" y="1524"/>
                    </a:lnTo>
                    <a:lnTo>
                      <a:pt x="692" y="1523"/>
                    </a:lnTo>
                    <a:lnTo>
                      <a:pt x="698" y="1522"/>
                    </a:lnTo>
                    <a:lnTo>
                      <a:pt x="704" y="1521"/>
                    </a:lnTo>
                    <a:lnTo>
                      <a:pt x="709" y="1519"/>
                    </a:lnTo>
                    <a:lnTo>
                      <a:pt x="715" y="1518"/>
                    </a:lnTo>
                    <a:lnTo>
                      <a:pt x="722" y="1518"/>
                    </a:lnTo>
                    <a:lnTo>
                      <a:pt x="728" y="1517"/>
                    </a:lnTo>
                    <a:lnTo>
                      <a:pt x="733" y="1516"/>
                    </a:lnTo>
                    <a:lnTo>
                      <a:pt x="717" y="1475"/>
                    </a:lnTo>
                    <a:lnTo>
                      <a:pt x="639" y="1289"/>
                    </a:lnTo>
                    <a:lnTo>
                      <a:pt x="547" y="1079"/>
                    </a:lnTo>
                    <a:lnTo>
                      <a:pt x="500" y="967"/>
                    </a:lnTo>
                    <a:lnTo>
                      <a:pt x="448" y="854"/>
                    </a:lnTo>
                    <a:lnTo>
                      <a:pt x="396" y="738"/>
                    </a:lnTo>
                    <a:lnTo>
                      <a:pt x="342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4" y="162"/>
                    </a:lnTo>
                    <a:lnTo>
                      <a:pt x="71" y="53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4394160" y="3075120"/>
                <a:ext cx="247680" cy="493560"/>
              </a:xfrm>
              <a:custGeom>
                <a:avLst/>
                <a:gdLst/>
                <a:ahLst/>
                <a:rect l="l" t="t" r="r" b="b"/>
                <a:pathLst>
                  <a:path w="783" h="1555">
                    <a:moveTo>
                      <a:pt x="127" y="0"/>
                    </a:moveTo>
                    <a:lnTo>
                      <a:pt x="156" y="50"/>
                    </a:lnTo>
                    <a:lnTo>
                      <a:pt x="186" y="100"/>
                    </a:lnTo>
                    <a:lnTo>
                      <a:pt x="214" y="152"/>
                    </a:lnTo>
                    <a:lnTo>
                      <a:pt x="243" y="203"/>
                    </a:lnTo>
                    <a:lnTo>
                      <a:pt x="299" y="308"/>
                    </a:lnTo>
                    <a:lnTo>
                      <a:pt x="352" y="413"/>
                    </a:lnTo>
                    <a:lnTo>
                      <a:pt x="404" y="519"/>
                    </a:lnTo>
                    <a:lnTo>
                      <a:pt x="453" y="625"/>
                    </a:lnTo>
                    <a:lnTo>
                      <a:pt x="499" y="731"/>
                    </a:lnTo>
                    <a:lnTo>
                      <a:pt x="544" y="835"/>
                    </a:lnTo>
                    <a:lnTo>
                      <a:pt x="585" y="938"/>
                    </a:lnTo>
                    <a:lnTo>
                      <a:pt x="624" y="1037"/>
                    </a:lnTo>
                    <a:lnTo>
                      <a:pt x="659" y="1134"/>
                    </a:lnTo>
                    <a:lnTo>
                      <a:pt x="691" y="1226"/>
                    </a:lnTo>
                    <a:lnTo>
                      <a:pt x="719" y="1314"/>
                    </a:lnTo>
                    <a:lnTo>
                      <a:pt x="745" y="1397"/>
                    </a:lnTo>
                    <a:lnTo>
                      <a:pt x="766" y="1475"/>
                    </a:lnTo>
                    <a:lnTo>
                      <a:pt x="783" y="1546"/>
                    </a:lnTo>
                    <a:lnTo>
                      <a:pt x="774" y="1547"/>
                    </a:lnTo>
                    <a:lnTo>
                      <a:pt x="764" y="1548"/>
                    </a:lnTo>
                    <a:lnTo>
                      <a:pt x="754" y="1549"/>
                    </a:lnTo>
                    <a:lnTo>
                      <a:pt x="743" y="1550"/>
                    </a:lnTo>
                    <a:lnTo>
                      <a:pt x="732" y="1551"/>
                    </a:lnTo>
                    <a:lnTo>
                      <a:pt x="722" y="1553"/>
                    </a:lnTo>
                    <a:lnTo>
                      <a:pt x="711" y="1554"/>
                    </a:lnTo>
                    <a:lnTo>
                      <a:pt x="701" y="1555"/>
                    </a:lnTo>
                    <a:lnTo>
                      <a:pt x="640" y="1404"/>
                    </a:lnTo>
                    <a:lnTo>
                      <a:pt x="567" y="1231"/>
                    </a:lnTo>
                    <a:lnTo>
                      <a:pt x="483" y="1038"/>
                    </a:lnTo>
                    <a:lnTo>
                      <a:pt x="392" y="833"/>
                    </a:lnTo>
                    <a:lnTo>
                      <a:pt x="297" y="622"/>
                    </a:lnTo>
                    <a:lnTo>
                      <a:pt x="197" y="408"/>
                    </a:lnTo>
                    <a:lnTo>
                      <a:pt x="148" y="302"/>
                    </a:lnTo>
                    <a:lnTo>
                      <a:pt x="98" y="199"/>
                    </a:lnTo>
                    <a:lnTo>
                      <a:pt x="48" y="98"/>
                    </a:lnTo>
                    <a:lnTo>
                      <a:pt x="0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4427640" y="3075120"/>
                <a:ext cx="225360" cy="492120"/>
              </a:xfrm>
              <a:custGeom>
                <a:avLst/>
                <a:gdLst/>
                <a:ahLst/>
                <a:rect l="l" t="t" r="r" b="b"/>
                <a:pathLst>
                  <a:path w="706" h="1549">
                    <a:moveTo>
                      <a:pt x="706" y="1541"/>
                    </a:moveTo>
                    <a:lnTo>
                      <a:pt x="700" y="1518"/>
                    </a:lnTo>
                    <a:lnTo>
                      <a:pt x="680" y="1442"/>
                    </a:lnTo>
                    <a:lnTo>
                      <a:pt x="655" y="1361"/>
                    </a:lnTo>
                    <a:lnTo>
                      <a:pt x="627" y="1274"/>
                    </a:lnTo>
                    <a:lnTo>
                      <a:pt x="596" y="1183"/>
                    </a:lnTo>
                    <a:lnTo>
                      <a:pt x="561" y="1088"/>
                    </a:lnTo>
                    <a:lnTo>
                      <a:pt x="524" y="990"/>
                    </a:lnTo>
                    <a:lnTo>
                      <a:pt x="484" y="889"/>
                    </a:lnTo>
                    <a:lnTo>
                      <a:pt x="440" y="786"/>
                    </a:lnTo>
                    <a:lnTo>
                      <a:pt x="395" y="682"/>
                    </a:lnTo>
                    <a:lnTo>
                      <a:pt x="346" y="577"/>
                    </a:lnTo>
                    <a:lnTo>
                      <a:pt x="296" y="472"/>
                    </a:lnTo>
                    <a:lnTo>
                      <a:pt x="243" y="367"/>
                    </a:lnTo>
                    <a:lnTo>
                      <a:pt x="216" y="315"/>
                    </a:lnTo>
                    <a:lnTo>
                      <a:pt x="189" y="263"/>
                    </a:lnTo>
                    <a:lnTo>
                      <a:pt x="160" y="212"/>
                    </a:lnTo>
                    <a:lnTo>
                      <a:pt x="132" y="161"/>
                    </a:lnTo>
                    <a:lnTo>
                      <a:pt x="102" y="110"/>
                    </a:lnTo>
                    <a:lnTo>
                      <a:pt x="73" y="60"/>
                    </a:lnTo>
                    <a:lnTo>
                      <a:pt x="43" y="11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53" y="90"/>
                    </a:lnTo>
                    <a:lnTo>
                      <a:pt x="81" y="140"/>
                    </a:lnTo>
                    <a:lnTo>
                      <a:pt x="109" y="191"/>
                    </a:lnTo>
                    <a:lnTo>
                      <a:pt x="136" y="243"/>
                    </a:lnTo>
                    <a:lnTo>
                      <a:pt x="163" y="294"/>
                    </a:lnTo>
                    <a:lnTo>
                      <a:pt x="215" y="398"/>
                    </a:lnTo>
                    <a:lnTo>
                      <a:pt x="266" y="503"/>
                    </a:lnTo>
                    <a:lnTo>
                      <a:pt x="314" y="607"/>
                    </a:lnTo>
                    <a:lnTo>
                      <a:pt x="360" y="711"/>
                    </a:lnTo>
                    <a:lnTo>
                      <a:pt x="402" y="813"/>
                    </a:lnTo>
                    <a:lnTo>
                      <a:pt x="443" y="914"/>
                    </a:lnTo>
                    <a:lnTo>
                      <a:pt x="479" y="1012"/>
                    </a:lnTo>
                    <a:lnTo>
                      <a:pt x="515" y="1105"/>
                    </a:lnTo>
                    <a:lnTo>
                      <a:pt x="545" y="1197"/>
                    </a:lnTo>
                    <a:lnTo>
                      <a:pt x="573" y="1283"/>
                    </a:lnTo>
                    <a:lnTo>
                      <a:pt x="598" y="1364"/>
                    </a:lnTo>
                    <a:lnTo>
                      <a:pt x="618" y="1440"/>
                    </a:lnTo>
                    <a:lnTo>
                      <a:pt x="635" y="1509"/>
                    </a:lnTo>
                    <a:lnTo>
                      <a:pt x="643" y="1549"/>
                    </a:lnTo>
                    <a:lnTo>
                      <a:pt x="651" y="1548"/>
                    </a:lnTo>
                    <a:lnTo>
                      <a:pt x="659" y="1547"/>
                    </a:lnTo>
                    <a:lnTo>
                      <a:pt x="667" y="1547"/>
                    </a:lnTo>
                    <a:lnTo>
                      <a:pt x="675" y="1546"/>
                    </a:lnTo>
                    <a:lnTo>
                      <a:pt x="683" y="1545"/>
                    </a:lnTo>
                    <a:lnTo>
                      <a:pt x="691" y="1543"/>
                    </a:lnTo>
                    <a:lnTo>
                      <a:pt x="698" y="1542"/>
                    </a:lnTo>
                    <a:lnTo>
                      <a:pt x="706" y="154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4386240" y="3075120"/>
                <a:ext cx="238320" cy="493560"/>
              </a:xfrm>
              <a:custGeom>
                <a:avLst/>
                <a:gdLst/>
                <a:ahLst/>
                <a:rect l="l" t="t" r="r" b="b"/>
                <a:pathLst>
                  <a:path w="748" h="1557">
                    <a:moveTo>
                      <a:pt x="0" y="0"/>
                    </a:moveTo>
                    <a:lnTo>
                      <a:pt x="45" y="88"/>
                    </a:lnTo>
                    <a:lnTo>
                      <a:pt x="98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3" y="546"/>
                    </a:lnTo>
                    <a:lnTo>
                      <a:pt x="316" y="663"/>
                    </a:lnTo>
                    <a:lnTo>
                      <a:pt x="367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8" y="1213"/>
                    </a:lnTo>
                    <a:lnTo>
                      <a:pt x="636" y="1400"/>
                    </a:lnTo>
                    <a:lnTo>
                      <a:pt x="670" y="1482"/>
                    </a:lnTo>
                    <a:lnTo>
                      <a:pt x="699" y="1556"/>
                    </a:lnTo>
                    <a:lnTo>
                      <a:pt x="699" y="1557"/>
                    </a:lnTo>
                    <a:lnTo>
                      <a:pt x="706" y="1556"/>
                    </a:lnTo>
                    <a:lnTo>
                      <a:pt x="712" y="1556"/>
                    </a:lnTo>
                    <a:lnTo>
                      <a:pt x="717" y="1555"/>
                    </a:lnTo>
                    <a:lnTo>
                      <a:pt x="724" y="1555"/>
                    </a:lnTo>
                    <a:lnTo>
                      <a:pt x="730" y="1554"/>
                    </a:lnTo>
                    <a:lnTo>
                      <a:pt x="736" y="1554"/>
                    </a:lnTo>
                    <a:lnTo>
                      <a:pt x="742" y="1553"/>
                    </a:lnTo>
                    <a:lnTo>
                      <a:pt x="748" y="1553"/>
                    </a:lnTo>
                    <a:lnTo>
                      <a:pt x="717" y="1475"/>
                    </a:lnTo>
                    <a:lnTo>
                      <a:pt x="639" y="1289"/>
                    </a:lnTo>
                    <a:lnTo>
                      <a:pt x="549" y="1079"/>
                    </a:lnTo>
                    <a:lnTo>
                      <a:pt x="500" y="967"/>
                    </a:lnTo>
                    <a:lnTo>
                      <a:pt x="448" y="854"/>
                    </a:lnTo>
                    <a:lnTo>
                      <a:pt x="396" y="738"/>
                    </a:lnTo>
                    <a:lnTo>
                      <a:pt x="343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5" y="162"/>
                    </a:lnTo>
                    <a:lnTo>
                      <a:pt x="71" y="53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4308480" y="3075120"/>
                <a:ext cx="250920" cy="498240"/>
              </a:xfrm>
              <a:custGeom>
                <a:avLst/>
                <a:gdLst/>
                <a:ahLst/>
                <a:rect l="l" t="t" r="r" b="b"/>
                <a:pathLst>
                  <a:path w="790" h="1570">
                    <a:moveTo>
                      <a:pt x="126" y="0"/>
                    </a:moveTo>
                    <a:lnTo>
                      <a:pt x="157" y="51"/>
                    </a:lnTo>
                    <a:lnTo>
                      <a:pt x="187" y="102"/>
                    </a:lnTo>
                    <a:lnTo>
                      <a:pt x="217" y="155"/>
                    </a:lnTo>
                    <a:lnTo>
                      <a:pt x="245" y="207"/>
                    </a:lnTo>
                    <a:lnTo>
                      <a:pt x="274" y="260"/>
                    </a:lnTo>
                    <a:lnTo>
                      <a:pt x="302" y="314"/>
                    </a:lnTo>
                    <a:lnTo>
                      <a:pt x="329" y="368"/>
                    </a:lnTo>
                    <a:lnTo>
                      <a:pt x="357" y="422"/>
                    </a:lnTo>
                    <a:lnTo>
                      <a:pt x="409" y="530"/>
                    </a:lnTo>
                    <a:lnTo>
                      <a:pt x="459" y="639"/>
                    </a:lnTo>
                    <a:lnTo>
                      <a:pt x="506" y="746"/>
                    </a:lnTo>
                    <a:lnTo>
                      <a:pt x="552" y="852"/>
                    </a:lnTo>
                    <a:lnTo>
                      <a:pt x="593" y="956"/>
                    </a:lnTo>
                    <a:lnTo>
                      <a:pt x="632" y="1057"/>
                    </a:lnTo>
                    <a:lnTo>
                      <a:pt x="667" y="1154"/>
                    </a:lnTo>
                    <a:lnTo>
                      <a:pt x="699" y="1248"/>
                    </a:lnTo>
                    <a:lnTo>
                      <a:pt x="727" y="1337"/>
                    </a:lnTo>
                    <a:lnTo>
                      <a:pt x="752" y="1420"/>
                    </a:lnTo>
                    <a:lnTo>
                      <a:pt x="773" y="1497"/>
                    </a:lnTo>
                    <a:lnTo>
                      <a:pt x="790" y="1567"/>
                    </a:lnTo>
                    <a:lnTo>
                      <a:pt x="780" y="1567"/>
                    </a:lnTo>
                    <a:lnTo>
                      <a:pt x="769" y="1569"/>
                    </a:lnTo>
                    <a:lnTo>
                      <a:pt x="759" y="1569"/>
                    </a:lnTo>
                    <a:lnTo>
                      <a:pt x="749" y="1569"/>
                    </a:lnTo>
                    <a:lnTo>
                      <a:pt x="739" y="1569"/>
                    </a:lnTo>
                    <a:lnTo>
                      <a:pt x="728" y="1569"/>
                    </a:lnTo>
                    <a:lnTo>
                      <a:pt x="718" y="1570"/>
                    </a:lnTo>
                    <a:lnTo>
                      <a:pt x="708" y="1570"/>
                    </a:lnTo>
                    <a:lnTo>
                      <a:pt x="647" y="1420"/>
                    </a:lnTo>
                    <a:lnTo>
                      <a:pt x="573" y="1246"/>
                    </a:lnTo>
                    <a:lnTo>
                      <a:pt x="490" y="1052"/>
                    </a:lnTo>
                    <a:lnTo>
                      <a:pt x="398" y="844"/>
                    </a:lnTo>
                    <a:lnTo>
                      <a:pt x="301" y="630"/>
                    </a:lnTo>
                    <a:lnTo>
                      <a:pt x="201" y="414"/>
                    </a:lnTo>
                    <a:lnTo>
                      <a:pt x="149" y="307"/>
                    </a:lnTo>
                    <a:lnTo>
                      <a:pt x="99" y="202"/>
                    </a:lnTo>
                    <a:lnTo>
                      <a:pt x="49" y="99"/>
                    </a:lnTo>
                    <a:lnTo>
                      <a:pt x="0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4341960" y="3075120"/>
                <a:ext cx="226800" cy="498240"/>
              </a:xfrm>
              <a:custGeom>
                <a:avLst/>
                <a:gdLst/>
                <a:ahLst/>
                <a:rect l="l" t="t" r="r" b="b"/>
                <a:pathLst>
                  <a:path w="713" h="1569">
                    <a:moveTo>
                      <a:pt x="713" y="1566"/>
                    </a:moveTo>
                    <a:lnTo>
                      <a:pt x="701" y="1518"/>
                    </a:lnTo>
                    <a:lnTo>
                      <a:pt x="680" y="1442"/>
                    </a:lnTo>
                    <a:lnTo>
                      <a:pt x="656" y="1361"/>
                    </a:lnTo>
                    <a:lnTo>
                      <a:pt x="627" y="1274"/>
                    </a:lnTo>
                    <a:lnTo>
                      <a:pt x="596" y="1183"/>
                    </a:lnTo>
                    <a:lnTo>
                      <a:pt x="561" y="1088"/>
                    </a:lnTo>
                    <a:lnTo>
                      <a:pt x="524" y="990"/>
                    </a:lnTo>
                    <a:lnTo>
                      <a:pt x="484" y="889"/>
                    </a:lnTo>
                    <a:lnTo>
                      <a:pt x="440" y="786"/>
                    </a:lnTo>
                    <a:lnTo>
                      <a:pt x="395" y="682"/>
                    </a:lnTo>
                    <a:lnTo>
                      <a:pt x="346" y="577"/>
                    </a:lnTo>
                    <a:lnTo>
                      <a:pt x="296" y="472"/>
                    </a:lnTo>
                    <a:lnTo>
                      <a:pt x="243" y="367"/>
                    </a:lnTo>
                    <a:lnTo>
                      <a:pt x="216" y="315"/>
                    </a:lnTo>
                    <a:lnTo>
                      <a:pt x="188" y="263"/>
                    </a:lnTo>
                    <a:lnTo>
                      <a:pt x="160" y="212"/>
                    </a:lnTo>
                    <a:lnTo>
                      <a:pt x="131" y="161"/>
                    </a:lnTo>
                    <a:lnTo>
                      <a:pt x="102" y="110"/>
                    </a:lnTo>
                    <a:lnTo>
                      <a:pt x="73" y="60"/>
                    </a:lnTo>
                    <a:lnTo>
                      <a:pt x="42" y="11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53" y="90"/>
                    </a:lnTo>
                    <a:lnTo>
                      <a:pt x="81" y="140"/>
                    </a:lnTo>
                    <a:lnTo>
                      <a:pt x="109" y="191"/>
                    </a:lnTo>
                    <a:lnTo>
                      <a:pt x="136" y="243"/>
                    </a:lnTo>
                    <a:lnTo>
                      <a:pt x="163" y="294"/>
                    </a:lnTo>
                    <a:lnTo>
                      <a:pt x="216" y="398"/>
                    </a:lnTo>
                    <a:lnTo>
                      <a:pt x="266" y="503"/>
                    </a:lnTo>
                    <a:lnTo>
                      <a:pt x="314" y="607"/>
                    </a:lnTo>
                    <a:lnTo>
                      <a:pt x="359" y="711"/>
                    </a:lnTo>
                    <a:lnTo>
                      <a:pt x="402" y="813"/>
                    </a:lnTo>
                    <a:lnTo>
                      <a:pt x="443" y="914"/>
                    </a:lnTo>
                    <a:lnTo>
                      <a:pt x="480" y="1012"/>
                    </a:lnTo>
                    <a:lnTo>
                      <a:pt x="514" y="1105"/>
                    </a:lnTo>
                    <a:lnTo>
                      <a:pt x="546" y="1197"/>
                    </a:lnTo>
                    <a:lnTo>
                      <a:pt x="574" y="1283"/>
                    </a:lnTo>
                    <a:lnTo>
                      <a:pt x="599" y="1364"/>
                    </a:lnTo>
                    <a:lnTo>
                      <a:pt x="619" y="1440"/>
                    </a:lnTo>
                    <a:lnTo>
                      <a:pt x="636" y="1509"/>
                    </a:lnTo>
                    <a:lnTo>
                      <a:pt x="649" y="1569"/>
                    </a:lnTo>
                    <a:lnTo>
                      <a:pt x="657" y="1569"/>
                    </a:lnTo>
                    <a:lnTo>
                      <a:pt x="665" y="1567"/>
                    </a:lnTo>
                    <a:lnTo>
                      <a:pt x="673" y="1567"/>
                    </a:lnTo>
                    <a:lnTo>
                      <a:pt x="681" y="1567"/>
                    </a:lnTo>
                    <a:lnTo>
                      <a:pt x="689" y="1567"/>
                    </a:lnTo>
                    <a:lnTo>
                      <a:pt x="697" y="1566"/>
                    </a:lnTo>
                    <a:lnTo>
                      <a:pt x="705" y="1566"/>
                    </a:lnTo>
                    <a:lnTo>
                      <a:pt x="713" y="156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4300560" y="3075120"/>
                <a:ext cx="239760" cy="498240"/>
              </a:xfrm>
              <a:custGeom>
                <a:avLst/>
                <a:gdLst/>
                <a:ahLst/>
                <a:rect l="l" t="t" r="r" b="b"/>
                <a:pathLst>
                  <a:path w="756" h="1570">
                    <a:moveTo>
                      <a:pt x="0" y="0"/>
                    </a:moveTo>
                    <a:lnTo>
                      <a:pt x="45" y="88"/>
                    </a:lnTo>
                    <a:lnTo>
                      <a:pt x="98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2" y="546"/>
                    </a:lnTo>
                    <a:lnTo>
                      <a:pt x="316" y="663"/>
                    </a:lnTo>
                    <a:lnTo>
                      <a:pt x="368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8" y="1213"/>
                    </a:lnTo>
                    <a:lnTo>
                      <a:pt x="636" y="1400"/>
                    </a:lnTo>
                    <a:lnTo>
                      <a:pt x="670" y="1482"/>
                    </a:lnTo>
                    <a:lnTo>
                      <a:pt x="700" y="1556"/>
                    </a:lnTo>
                    <a:lnTo>
                      <a:pt x="706" y="1570"/>
                    </a:lnTo>
                    <a:lnTo>
                      <a:pt x="712" y="1570"/>
                    </a:lnTo>
                    <a:lnTo>
                      <a:pt x="718" y="1570"/>
                    </a:lnTo>
                    <a:lnTo>
                      <a:pt x="724" y="1570"/>
                    </a:lnTo>
                    <a:lnTo>
                      <a:pt x="731" y="1570"/>
                    </a:lnTo>
                    <a:lnTo>
                      <a:pt x="737" y="1570"/>
                    </a:lnTo>
                    <a:lnTo>
                      <a:pt x="743" y="1570"/>
                    </a:lnTo>
                    <a:lnTo>
                      <a:pt x="749" y="1569"/>
                    </a:lnTo>
                    <a:lnTo>
                      <a:pt x="756" y="1569"/>
                    </a:lnTo>
                    <a:lnTo>
                      <a:pt x="751" y="1558"/>
                    </a:lnTo>
                    <a:lnTo>
                      <a:pt x="718" y="1475"/>
                    </a:lnTo>
                    <a:lnTo>
                      <a:pt x="640" y="1289"/>
                    </a:lnTo>
                    <a:lnTo>
                      <a:pt x="548" y="1079"/>
                    </a:lnTo>
                    <a:lnTo>
                      <a:pt x="499" y="967"/>
                    </a:lnTo>
                    <a:lnTo>
                      <a:pt x="449" y="854"/>
                    </a:lnTo>
                    <a:lnTo>
                      <a:pt x="397" y="738"/>
                    </a:lnTo>
                    <a:lnTo>
                      <a:pt x="343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4" y="162"/>
                    </a:lnTo>
                    <a:lnTo>
                      <a:pt x="71" y="5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>
                <a:off x="4222800" y="3075120"/>
                <a:ext cx="250920" cy="496800"/>
              </a:xfrm>
              <a:custGeom>
                <a:avLst/>
                <a:gdLst/>
                <a:ahLst/>
                <a:rect l="l" t="t" r="r" b="b"/>
                <a:pathLst>
                  <a:path w="791" h="1567">
                    <a:moveTo>
                      <a:pt x="127" y="0"/>
                    </a:moveTo>
                    <a:lnTo>
                      <a:pt x="157" y="51"/>
                    </a:lnTo>
                    <a:lnTo>
                      <a:pt x="187" y="102"/>
                    </a:lnTo>
                    <a:lnTo>
                      <a:pt x="217" y="155"/>
                    </a:lnTo>
                    <a:lnTo>
                      <a:pt x="246" y="207"/>
                    </a:lnTo>
                    <a:lnTo>
                      <a:pt x="275" y="260"/>
                    </a:lnTo>
                    <a:lnTo>
                      <a:pt x="303" y="314"/>
                    </a:lnTo>
                    <a:lnTo>
                      <a:pt x="331" y="368"/>
                    </a:lnTo>
                    <a:lnTo>
                      <a:pt x="358" y="422"/>
                    </a:lnTo>
                    <a:lnTo>
                      <a:pt x="410" y="530"/>
                    </a:lnTo>
                    <a:lnTo>
                      <a:pt x="461" y="639"/>
                    </a:lnTo>
                    <a:lnTo>
                      <a:pt x="507" y="746"/>
                    </a:lnTo>
                    <a:lnTo>
                      <a:pt x="553" y="852"/>
                    </a:lnTo>
                    <a:lnTo>
                      <a:pt x="594" y="956"/>
                    </a:lnTo>
                    <a:lnTo>
                      <a:pt x="633" y="1057"/>
                    </a:lnTo>
                    <a:lnTo>
                      <a:pt x="668" y="1156"/>
                    </a:lnTo>
                    <a:lnTo>
                      <a:pt x="700" y="1248"/>
                    </a:lnTo>
                    <a:lnTo>
                      <a:pt x="729" y="1337"/>
                    </a:lnTo>
                    <a:lnTo>
                      <a:pt x="754" y="1420"/>
                    </a:lnTo>
                    <a:lnTo>
                      <a:pt x="774" y="1498"/>
                    </a:lnTo>
                    <a:lnTo>
                      <a:pt x="791" y="1567"/>
                    </a:lnTo>
                    <a:lnTo>
                      <a:pt x="781" y="1567"/>
                    </a:lnTo>
                    <a:lnTo>
                      <a:pt x="771" y="1566"/>
                    </a:lnTo>
                    <a:lnTo>
                      <a:pt x="759" y="1566"/>
                    </a:lnTo>
                    <a:lnTo>
                      <a:pt x="749" y="1565"/>
                    </a:lnTo>
                    <a:lnTo>
                      <a:pt x="739" y="1565"/>
                    </a:lnTo>
                    <a:lnTo>
                      <a:pt x="729" y="1565"/>
                    </a:lnTo>
                    <a:lnTo>
                      <a:pt x="717" y="1564"/>
                    </a:lnTo>
                    <a:lnTo>
                      <a:pt x="707" y="1563"/>
                    </a:lnTo>
                    <a:lnTo>
                      <a:pt x="645" y="1413"/>
                    </a:lnTo>
                    <a:lnTo>
                      <a:pt x="572" y="1239"/>
                    </a:lnTo>
                    <a:lnTo>
                      <a:pt x="489" y="1046"/>
                    </a:lnTo>
                    <a:lnTo>
                      <a:pt x="398" y="839"/>
                    </a:lnTo>
                    <a:lnTo>
                      <a:pt x="301" y="626"/>
                    </a:lnTo>
                    <a:lnTo>
                      <a:pt x="201" y="412"/>
                    </a:lnTo>
                    <a:lnTo>
                      <a:pt x="151" y="306"/>
                    </a:lnTo>
                    <a:lnTo>
                      <a:pt x="99" y="201"/>
                    </a:lnTo>
                    <a:lnTo>
                      <a:pt x="49" y="99"/>
                    </a:lnTo>
                    <a:lnTo>
                      <a:pt x="0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>
                <a:off x="4257720" y="3075120"/>
                <a:ext cx="226800" cy="498240"/>
              </a:xfrm>
              <a:custGeom>
                <a:avLst/>
                <a:gdLst/>
                <a:ahLst/>
                <a:rect l="l" t="t" r="r" b="b"/>
                <a:pathLst>
                  <a:path w="715" h="1569">
                    <a:moveTo>
                      <a:pt x="715" y="1569"/>
                    </a:moveTo>
                    <a:lnTo>
                      <a:pt x="703" y="1518"/>
                    </a:lnTo>
                    <a:lnTo>
                      <a:pt x="682" y="1442"/>
                    </a:lnTo>
                    <a:lnTo>
                      <a:pt x="657" y="1361"/>
                    </a:lnTo>
                    <a:lnTo>
                      <a:pt x="628" y="1274"/>
                    </a:lnTo>
                    <a:lnTo>
                      <a:pt x="598" y="1183"/>
                    </a:lnTo>
                    <a:lnTo>
                      <a:pt x="562" y="1088"/>
                    </a:lnTo>
                    <a:lnTo>
                      <a:pt x="525" y="990"/>
                    </a:lnTo>
                    <a:lnTo>
                      <a:pt x="485" y="889"/>
                    </a:lnTo>
                    <a:lnTo>
                      <a:pt x="442" y="786"/>
                    </a:lnTo>
                    <a:lnTo>
                      <a:pt x="396" y="682"/>
                    </a:lnTo>
                    <a:lnTo>
                      <a:pt x="347" y="577"/>
                    </a:lnTo>
                    <a:lnTo>
                      <a:pt x="297" y="472"/>
                    </a:lnTo>
                    <a:lnTo>
                      <a:pt x="244" y="367"/>
                    </a:lnTo>
                    <a:lnTo>
                      <a:pt x="217" y="315"/>
                    </a:lnTo>
                    <a:lnTo>
                      <a:pt x="188" y="263"/>
                    </a:lnTo>
                    <a:lnTo>
                      <a:pt x="161" y="212"/>
                    </a:lnTo>
                    <a:lnTo>
                      <a:pt x="133" y="161"/>
                    </a:lnTo>
                    <a:lnTo>
                      <a:pt x="103" y="110"/>
                    </a:lnTo>
                    <a:lnTo>
                      <a:pt x="73" y="60"/>
                    </a:lnTo>
                    <a:lnTo>
                      <a:pt x="44" y="11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53" y="90"/>
                    </a:lnTo>
                    <a:lnTo>
                      <a:pt x="81" y="140"/>
                    </a:lnTo>
                    <a:lnTo>
                      <a:pt x="110" y="191"/>
                    </a:lnTo>
                    <a:lnTo>
                      <a:pt x="137" y="243"/>
                    </a:lnTo>
                    <a:lnTo>
                      <a:pt x="163" y="294"/>
                    </a:lnTo>
                    <a:lnTo>
                      <a:pt x="216" y="398"/>
                    </a:lnTo>
                    <a:lnTo>
                      <a:pt x="267" y="503"/>
                    </a:lnTo>
                    <a:lnTo>
                      <a:pt x="315" y="607"/>
                    </a:lnTo>
                    <a:lnTo>
                      <a:pt x="361" y="711"/>
                    </a:lnTo>
                    <a:lnTo>
                      <a:pt x="403" y="813"/>
                    </a:lnTo>
                    <a:lnTo>
                      <a:pt x="444" y="914"/>
                    </a:lnTo>
                    <a:lnTo>
                      <a:pt x="481" y="1012"/>
                    </a:lnTo>
                    <a:lnTo>
                      <a:pt x="516" y="1105"/>
                    </a:lnTo>
                    <a:lnTo>
                      <a:pt x="548" y="1197"/>
                    </a:lnTo>
                    <a:lnTo>
                      <a:pt x="575" y="1283"/>
                    </a:lnTo>
                    <a:lnTo>
                      <a:pt x="600" y="1364"/>
                    </a:lnTo>
                    <a:lnTo>
                      <a:pt x="621" y="1440"/>
                    </a:lnTo>
                    <a:lnTo>
                      <a:pt x="638" y="1509"/>
                    </a:lnTo>
                    <a:lnTo>
                      <a:pt x="650" y="1566"/>
                    </a:lnTo>
                    <a:lnTo>
                      <a:pt x="658" y="1566"/>
                    </a:lnTo>
                    <a:lnTo>
                      <a:pt x="666" y="1566"/>
                    </a:lnTo>
                    <a:lnTo>
                      <a:pt x="674" y="1567"/>
                    </a:lnTo>
                    <a:lnTo>
                      <a:pt x="682" y="1567"/>
                    </a:lnTo>
                    <a:lnTo>
                      <a:pt x="691" y="1567"/>
                    </a:lnTo>
                    <a:lnTo>
                      <a:pt x="699" y="1567"/>
                    </a:lnTo>
                    <a:lnTo>
                      <a:pt x="707" y="1569"/>
                    </a:lnTo>
                    <a:lnTo>
                      <a:pt x="715" y="156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4216320" y="3075120"/>
                <a:ext cx="239760" cy="496800"/>
              </a:xfrm>
              <a:custGeom>
                <a:avLst/>
                <a:gdLst/>
                <a:ahLst/>
                <a:rect l="l" t="t" r="r" b="b"/>
                <a:pathLst>
                  <a:path w="754" h="1565">
                    <a:moveTo>
                      <a:pt x="0" y="0"/>
                    </a:moveTo>
                    <a:lnTo>
                      <a:pt x="44" y="88"/>
                    </a:lnTo>
                    <a:lnTo>
                      <a:pt x="98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3" y="546"/>
                    </a:lnTo>
                    <a:lnTo>
                      <a:pt x="316" y="663"/>
                    </a:lnTo>
                    <a:lnTo>
                      <a:pt x="369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9" y="1213"/>
                    </a:lnTo>
                    <a:lnTo>
                      <a:pt x="637" y="1400"/>
                    </a:lnTo>
                    <a:lnTo>
                      <a:pt x="671" y="1482"/>
                    </a:lnTo>
                    <a:lnTo>
                      <a:pt x="700" y="1556"/>
                    </a:lnTo>
                    <a:lnTo>
                      <a:pt x="703" y="1562"/>
                    </a:lnTo>
                    <a:lnTo>
                      <a:pt x="708" y="1562"/>
                    </a:lnTo>
                    <a:lnTo>
                      <a:pt x="715" y="1563"/>
                    </a:lnTo>
                    <a:lnTo>
                      <a:pt x="722" y="1563"/>
                    </a:lnTo>
                    <a:lnTo>
                      <a:pt x="729" y="1563"/>
                    </a:lnTo>
                    <a:lnTo>
                      <a:pt x="735" y="1564"/>
                    </a:lnTo>
                    <a:lnTo>
                      <a:pt x="741" y="1564"/>
                    </a:lnTo>
                    <a:lnTo>
                      <a:pt x="748" y="1564"/>
                    </a:lnTo>
                    <a:lnTo>
                      <a:pt x="754" y="1565"/>
                    </a:lnTo>
                    <a:lnTo>
                      <a:pt x="752" y="1558"/>
                    </a:lnTo>
                    <a:lnTo>
                      <a:pt x="719" y="1475"/>
                    </a:lnTo>
                    <a:lnTo>
                      <a:pt x="640" y="1289"/>
                    </a:lnTo>
                    <a:lnTo>
                      <a:pt x="549" y="1079"/>
                    </a:lnTo>
                    <a:lnTo>
                      <a:pt x="500" y="967"/>
                    </a:lnTo>
                    <a:lnTo>
                      <a:pt x="450" y="854"/>
                    </a:lnTo>
                    <a:lnTo>
                      <a:pt x="397" y="738"/>
                    </a:lnTo>
                    <a:lnTo>
                      <a:pt x="344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5" y="162"/>
                    </a:lnTo>
                    <a:lnTo>
                      <a:pt x="71" y="53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4138560" y="3075120"/>
                <a:ext cx="249120" cy="492120"/>
              </a:xfrm>
              <a:custGeom>
                <a:avLst/>
                <a:gdLst/>
                <a:ahLst/>
                <a:rect l="l" t="t" r="r" b="b"/>
                <a:pathLst>
                  <a:path w="787" h="1548">
                    <a:moveTo>
                      <a:pt x="127" y="0"/>
                    </a:moveTo>
                    <a:lnTo>
                      <a:pt x="157" y="50"/>
                    </a:lnTo>
                    <a:lnTo>
                      <a:pt x="187" y="100"/>
                    </a:lnTo>
                    <a:lnTo>
                      <a:pt x="216" y="152"/>
                    </a:lnTo>
                    <a:lnTo>
                      <a:pt x="244" y="203"/>
                    </a:lnTo>
                    <a:lnTo>
                      <a:pt x="273" y="255"/>
                    </a:lnTo>
                    <a:lnTo>
                      <a:pt x="300" y="308"/>
                    </a:lnTo>
                    <a:lnTo>
                      <a:pt x="327" y="361"/>
                    </a:lnTo>
                    <a:lnTo>
                      <a:pt x="355" y="414"/>
                    </a:lnTo>
                    <a:lnTo>
                      <a:pt x="406" y="521"/>
                    </a:lnTo>
                    <a:lnTo>
                      <a:pt x="455" y="627"/>
                    </a:lnTo>
                    <a:lnTo>
                      <a:pt x="502" y="733"/>
                    </a:lnTo>
                    <a:lnTo>
                      <a:pt x="546" y="837"/>
                    </a:lnTo>
                    <a:lnTo>
                      <a:pt x="588" y="940"/>
                    </a:lnTo>
                    <a:lnTo>
                      <a:pt x="626" y="1039"/>
                    </a:lnTo>
                    <a:lnTo>
                      <a:pt x="661" y="1136"/>
                    </a:lnTo>
                    <a:lnTo>
                      <a:pt x="694" y="1229"/>
                    </a:lnTo>
                    <a:lnTo>
                      <a:pt x="723" y="1318"/>
                    </a:lnTo>
                    <a:lnTo>
                      <a:pt x="748" y="1400"/>
                    </a:lnTo>
                    <a:lnTo>
                      <a:pt x="770" y="1477"/>
                    </a:lnTo>
                    <a:lnTo>
                      <a:pt x="787" y="1548"/>
                    </a:lnTo>
                    <a:lnTo>
                      <a:pt x="775" y="1547"/>
                    </a:lnTo>
                    <a:lnTo>
                      <a:pt x="765" y="1546"/>
                    </a:lnTo>
                    <a:lnTo>
                      <a:pt x="754" y="1545"/>
                    </a:lnTo>
                    <a:lnTo>
                      <a:pt x="742" y="1543"/>
                    </a:lnTo>
                    <a:lnTo>
                      <a:pt x="731" y="1542"/>
                    </a:lnTo>
                    <a:lnTo>
                      <a:pt x="719" y="1541"/>
                    </a:lnTo>
                    <a:lnTo>
                      <a:pt x="708" y="1540"/>
                    </a:lnTo>
                    <a:lnTo>
                      <a:pt x="697" y="1538"/>
                    </a:lnTo>
                    <a:lnTo>
                      <a:pt x="635" y="1387"/>
                    </a:lnTo>
                    <a:lnTo>
                      <a:pt x="562" y="1214"/>
                    </a:lnTo>
                    <a:lnTo>
                      <a:pt x="479" y="1023"/>
                    </a:lnTo>
                    <a:lnTo>
                      <a:pt x="389" y="820"/>
                    </a:lnTo>
                    <a:lnTo>
                      <a:pt x="294" y="611"/>
                    </a:lnTo>
                    <a:lnTo>
                      <a:pt x="196" y="401"/>
                    </a:lnTo>
                    <a:lnTo>
                      <a:pt x="147" y="298"/>
                    </a:lnTo>
                    <a:lnTo>
                      <a:pt x="97" y="196"/>
                    </a:lnTo>
                    <a:lnTo>
                      <a:pt x="49" y="97"/>
                    </a:lnTo>
                    <a:lnTo>
                      <a:pt x="0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4173480" y="3075120"/>
                <a:ext cx="223920" cy="492120"/>
              </a:xfrm>
              <a:custGeom>
                <a:avLst/>
                <a:gdLst/>
                <a:ahLst/>
                <a:rect l="l" t="t" r="r" b="b"/>
                <a:pathLst>
                  <a:path w="709" h="1551">
                    <a:moveTo>
                      <a:pt x="709" y="1551"/>
                    </a:moveTo>
                    <a:lnTo>
                      <a:pt x="701" y="1518"/>
                    </a:lnTo>
                    <a:lnTo>
                      <a:pt x="680" y="1442"/>
                    </a:lnTo>
                    <a:lnTo>
                      <a:pt x="655" y="1361"/>
                    </a:lnTo>
                    <a:lnTo>
                      <a:pt x="627" y="1274"/>
                    </a:lnTo>
                    <a:lnTo>
                      <a:pt x="596" y="1183"/>
                    </a:lnTo>
                    <a:lnTo>
                      <a:pt x="560" y="1088"/>
                    </a:lnTo>
                    <a:lnTo>
                      <a:pt x="523" y="990"/>
                    </a:lnTo>
                    <a:lnTo>
                      <a:pt x="483" y="889"/>
                    </a:lnTo>
                    <a:lnTo>
                      <a:pt x="440" y="786"/>
                    </a:lnTo>
                    <a:lnTo>
                      <a:pt x="394" y="682"/>
                    </a:lnTo>
                    <a:lnTo>
                      <a:pt x="345" y="577"/>
                    </a:lnTo>
                    <a:lnTo>
                      <a:pt x="295" y="472"/>
                    </a:lnTo>
                    <a:lnTo>
                      <a:pt x="242" y="367"/>
                    </a:lnTo>
                    <a:lnTo>
                      <a:pt x="215" y="315"/>
                    </a:lnTo>
                    <a:lnTo>
                      <a:pt x="187" y="263"/>
                    </a:lnTo>
                    <a:lnTo>
                      <a:pt x="159" y="212"/>
                    </a:lnTo>
                    <a:lnTo>
                      <a:pt x="131" y="161"/>
                    </a:lnTo>
                    <a:lnTo>
                      <a:pt x="101" y="110"/>
                    </a:lnTo>
                    <a:lnTo>
                      <a:pt x="71" y="60"/>
                    </a:lnTo>
                    <a:lnTo>
                      <a:pt x="42" y="11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22" y="40"/>
                    </a:lnTo>
                    <a:lnTo>
                      <a:pt x="52" y="90"/>
                    </a:lnTo>
                    <a:lnTo>
                      <a:pt x="79" y="140"/>
                    </a:lnTo>
                    <a:lnTo>
                      <a:pt x="108" y="191"/>
                    </a:lnTo>
                    <a:lnTo>
                      <a:pt x="135" y="243"/>
                    </a:lnTo>
                    <a:lnTo>
                      <a:pt x="161" y="294"/>
                    </a:lnTo>
                    <a:lnTo>
                      <a:pt x="214" y="398"/>
                    </a:lnTo>
                    <a:lnTo>
                      <a:pt x="265" y="503"/>
                    </a:lnTo>
                    <a:lnTo>
                      <a:pt x="313" y="607"/>
                    </a:lnTo>
                    <a:lnTo>
                      <a:pt x="359" y="711"/>
                    </a:lnTo>
                    <a:lnTo>
                      <a:pt x="402" y="813"/>
                    </a:lnTo>
                    <a:lnTo>
                      <a:pt x="442" y="914"/>
                    </a:lnTo>
                    <a:lnTo>
                      <a:pt x="480" y="1012"/>
                    </a:lnTo>
                    <a:lnTo>
                      <a:pt x="514" y="1105"/>
                    </a:lnTo>
                    <a:lnTo>
                      <a:pt x="546" y="1197"/>
                    </a:lnTo>
                    <a:lnTo>
                      <a:pt x="573" y="1283"/>
                    </a:lnTo>
                    <a:lnTo>
                      <a:pt x="598" y="1364"/>
                    </a:lnTo>
                    <a:lnTo>
                      <a:pt x="619" y="1440"/>
                    </a:lnTo>
                    <a:lnTo>
                      <a:pt x="636" y="1509"/>
                    </a:lnTo>
                    <a:lnTo>
                      <a:pt x="644" y="1545"/>
                    </a:lnTo>
                    <a:lnTo>
                      <a:pt x="652" y="1546"/>
                    </a:lnTo>
                    <a:lnTo>
                      <a:pt x="660" y="1547"/>
                    </a:lnTo>
                    <a:lnTo>
                      <a:pt x="668" y="1547"/>
                    </a:lnTo>
                    <a:lnTo>
                      <a:pt x="677" y="1548"/>
                    </a:lnTo>
                    <a:lnTo>
                      <a:pt x="685" y="1549"/>
                    </a:lnTo>
                    <a:lnTo>
                      <a:pt x="693" y="1550"/>
                    </a:lnTo>
                    <a:lnTo>
                      <a:pt x="701" y="1550"/>
                    </a:lnTo>
                    <a:lnTo>
                      <a:pt x="709" y="155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4130640" y="3075120"/>
                <a:ext cx="236520" cy="488880"/>
              </a:xfrm>
              <a:custGeom>
                <a:avLst/>
                <a:gdLst/>
                <a:ahLst/>
                <a:rect l="l" t="t" r="r" b="b"/>
                <a:pathLst>
                  <a:path w="745" h="1541">
                    <a:moveTo>
                      <a:pt x="0" y="0"/>
                    </a:moveTo>
                    <a:lnTo>
                      <a:pt x="45" y="88"/>
                    </a:lnTo>
                    <a:lnTo>
                      <a:pt x="99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3" y="546"/>
                    </a:lnTo>
                    <a:lnTo>
                      <a:pt x="316" y="663"/>
                    </a:lnTo>
                    <a:lnTo>
                      <a:pt x="369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9" y="1213"/>
                    </a:lnTo>
                    <a:lnTo>
                      <a:pt x="638" y="1400"/>
                    </a:lnTo>
                    <a:lnTo>
                      <a:pt x="671" y="1482"/>
                    </a:lnTo>
                    <a:lnTo>
                      <a:pt x="691" y="1534"/>
                    </a:lnTo>
                    <a:lnTo>
                      <a:pt x="698" y="1535"/>
                    </a:lnTo>
                    <a:lnTo>
                      <a:pt x="705" y="1537"/>
                    </a:lnTo>
                    <a:lnTo>
                      <a:pt x="712" y="1538"/>
                    </a:lnTo>
                    <a:lnTo>
                      <a:pt x="719" y="1538"/>
                    </a:lnTo>
                    <a:lnTo>
                      <a:pt x="726" y="1539"/>
                    </a:lnTo>
                    <a:lnTo>
                      <a:pt x="732" y="1540"/>
                    </a:lnTo>
                    <a:lnTo>
                      <a:pt x="738" y="1540"/>
                    </a:lnTo>
                    <a:lnTo>
                      <a:pt x="745" y="1541"/>
                    </a:lnTo>
                    <a:lnTo>
                      <a:pt x="719" y="1475"/>
                    </a:lnTo>
                    <a:lnTo>
                      <a:pt x="640" y="1289"/>
                    </a:lnTo>
                    <a:lnTo>
                      <a:pt x="549" y="1079"/>
                    </a:lnTo>
                    <a:lnTo>
                      <a:pt x="500" y="967"/>
                    </a:lnTo>
                    <a:lnTo>
                      <a:pt x="450" y="854"/>
                    </a:lnTo>
                    <a:lnTo>
                      <a:pt x="397" y="738"/>
                    </a:lnTo>
                    <a:lnTo>
                      <a:pt x="344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5" y="162"/>
                    </a:lnTo>
                    <a:lnTo>
                      <a:pt x="71" y="53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4057560" y="3075120"/>
                <a:ext cx="216000" cy="476280"/>
              </a:xfrm>
              <a:custGeom>
                <a:avLst/>
                <a:gdLst/>
                <a:ahLst/>
                <a:rect l="l" t="t" r="r" b="b"/>
                <a:pathLst>
                  <a:path w="681" h="1499">
                    <a:moveTo>
                      <a:pt x="114" y="0"/>
                    </a:moveTo>
                    <a:lnTo>
                      <a:pt x="163" y="94"/>
                    </a:lnTo>
                    <a:lnTo>
                      <a:pt x="211" y="190"/>
                    </a:lnTo>
                    <a:lnTo>
                      <a:pt x="257" y="287"/>
                    </a:lnTo>
                    <a:lnTo>
                      <a:pt x="301" y="387"/>
                    </a:lnTo>
                    <a:lnTo>
                      <a:pt x="343" y="486"/>
                    </a:lnTo>
                    <a:lnTo>
                      <a:pt x="384" y="586"/>
                    </a:lnTo>
                    <a:lnTo>
                      <a:pt x="423" y="685"/>
                    </a:lnTo>
                    <a:lnTo>
                      <a:pt x="461" y="785"/>
                    </a:lnTo>
                    <a:lnTo>
                      <a:pt x="496" y="883"/>
                    </a:lnTo>
                    <a:lnTo>
                      <a:pt x="529" y="979"/>
                    </a:lnTo>
                    <a:lnTo>
                      <a:pt x="560" y="1073"/>
                    </a:lnTo>
                    <a:lnTo>
                      <a:pt x="590" y="1166"/>
                    </a:lnTo>
                    <a:lnTo>
                      <a:pt x="616" y="1254"/>
                    </a:lnTo>
                    <a:lnTo>
                      <a:pt x="640" y="1339"/>
                    </a:lnTo>
                    <a:lnTo>
                      <a:pt x="661" y="1421"/>
                    </a:lnTo>
                    <a:lnTo>
                      <a:pt x="681" y="1499"/>
                    </a:lnTo>
                    <a:lnTo>
                      <a:pt x="667" y="1495"/>
                    </a:lnTo>
                    <a:lnTo>
                      <a:pt x="653" y="1493"/>
                    </a:lnTo>
                    <a:lnTo>
                      <a:pt x="640" y="1491"/>
                    </a:lnTo>
                    <a:lnTo>
                      <a:pt x="626" y="1490"/>
                    </a:lnTo>
                    <a:lnTo>
                      <a:pt x="612" y="1487"/>
                    </a:lnTo>
                    <a:lnTo>
                      <a:pt x="599" y="1486"/>
                    </a:lnTo>
                    <a:lnTo>
                      <a:pt x="584" y="1485"/>
                    </a:lnTo>
                    <a:lnTo>
                      <a:pt x="570" y="1484"/>
                    </a:lnTo>
                    <a:lnTo>
                      <a:pt x="513" y="1322"/>
                    </a:lnTo>
                    <a:lnTo>
                      <a:pt x="449" y="1146"/>
                    </a:lnTo>
                    <a:lnTo>
                      <a:pt x="380" y="958"/>
                    </a:lnTo>
                    <a:lnTo>
                      <a:pt x="307" y="764"/>
                    </a:lnTo>
                    <a:lnTo>
                      <a:pt x="230" y="568"/>
                    </a:lnTo>
                    <a:lnTo>
                      <a:pt x="154" y="372"/>
                    </a:lnTo>
                    <a:lnTo>
                      <a:pt x="114" y="276"/>
                    </a:lnTo>
                    <a:lnTo>
                      <a:pt x="75" y="181"/>
                    </a:lnTo>
                    <a:lnTo>
                      <a:pt x="38" y="89"/>
                    </a:lnTo>
                    <a:lnTo>
                      <a:pt x="0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4087800" y="3075120"/>
                <a:ext cx="196920" cy="477720"/>
              </a:xfrm>
              <a:custGeom>
                <a:avLst/>
                <a:gdLst/>
                <a:ahLst/>
                <a:rect l="l" t="t" r="r" b="b"/>
                <a:pathLst>
                  <a:path w="619" h="1505">
                    <a:moveTo>
                      <a:pt x="619" y="1505"/>
                    </a:moveTo>
                    <a:lnTo>
                      <a:pt x="613" y="1478"/>
                    </a:lnTo>
                    <a:lnTo>
                      <a:pt x="589" y="1388"/>
                    </a:lnTo>
                    <a:lnTo>
                      <a:pt x="563" y="1294"/>
                    </a:lnTo>
                    <a:lnTo>
                      <a:pt x="533" y="1195"/>
                    </a:lnTo>
                    <a:lnTo>
                      <a:pt x="501" y="1093"/>
                    </a:lnTo>
                    <a:lnTo>
                      <a:pt x="466" y="988"/>
                    </a:lnTo>
                    <a:lnTo>
                      <a:pt x="428" y="881"/>
                    </a:lnTo>
                    <a:lnTo>
                      <a:pt x="388" y="771"/>
                    </a:lnTo>
                    <a:lnTo>
                      <a:pt x="345" y="660"/>
                    </a:lnTo>
                    <a:lnTo>
                      <a:pt x="301" y="550"/>
                    </a:lnTo>
                    <a:lnTo>
                      <a:pt x="254" y="439"/>
                    </a:lnTo>
                    <a:lnTo>
                      <a:pt x="205" y="330"/>
                    </a:lnTo>
                    <a:lnTo>
                      <a:pt x="154" y="221"/>
                    </a:lnTo>
                    <a:lnTo>
                      <a:pt x="127" y="167"/>
                    </a:lnTo>
                    <a:lnTo>
                      <a:pt x="101" y="114"/>
                    </a:lnTo>
                    <a:lnTo>
                      <a:pt x="74" y="61"/>
                    </a:lnTo>
                    <a:lnTo>
                      <a:pt x="46" y="10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21" y="41"/>
                    </a:lnTo>
                    <a:lnTo>
                      <a:pt x="48" y="93"/>
                    </a:lnTo>
                    <a:lnTo>
                      <a:pt x="74" y="146"/>
                    </a:lnTo>
                    <a:lnTo>
                      <a:pt x="124" y="254"/>
                    </a:lnTo>
                    <a:lnTo>
                      <a:pt x="173" y="364"/>
                    </a:lnTo>
                    <a:lnTo>
                      <a:pt x="220" y="474"/>
                    </a:lnTo>
                    <a:lnTo>
                      <a:pt x="264" y="584"/>
                    </a:lnTo>
                    <a:lnTo>
                      <a:pt x="306" y="695"/>
                    </a:lnTo>
                    <a:lnTo>
                      <a:pt x="346" y="803"/>
                    </a:lnTo>
                    <a:lnTo>
                      <a:pt x="384" y="910"/>
                    </a:lnTo>
                    <a:lnTo>
                      <a:pt x="419" y="1015"/>
                    </a:lnTo>
                    <a:lnTo>
                      <a:pt x="451" y="1118"/>
                    </a:lnTo>
                    <a:lnTo>
                      <a:pt x="481" y="1216"/>
                    </a:lnTo>
                    <a:lnTo>
                      <a:pt x="507" y="1311"/>
                    </a:lnTo>
                    <a:lnTo>
                      <a:pt x="531" y="1400"/>
                    </a:lnTo>
                    <a:lnTo>
                      <a:pt x="551" y="1484"/>
                    </a:lnTo>
                    <a:lnTo>
                      <a:pt x="553" y="1492"/>
                    </a:lnTo>
                    <a:lnTo>
                      <a:pt x="559" y="1493"/>
                    </a:lnTo>
                    <a:lnTo>
                      <a:pt x="565" y="1494"/>
                    </a:lnTo>
                    <a:lnTo>
                      <a:pt x="572" y="1495"/>
                    </a:lnTo>
                    <a:lnTo>
                      <a:pt x="578" y="1497"/>
                    </a:lnTo>
                    <a:lnTo>
                      <a:pt x="583" y="1498"/>
                    </a:lnTo>
                    <a:lnTo>
                      <a:pt x="590" y="1499"/>
                    </a:lnTo>
                    <a:lnTo>
                      <a:pt x="596" y="1500"/>
                    </a:lnTo>
                    <a:lnTo>
                      <a:pt x="603" y="1501"/>
                    </a:lnTo>
                    <a:lnTo>
                      <a:pt x="604" y="1502"/>
                    </a:lnTo>
                    <a:lnTo>
                      <a:pt x="606" y="1502"/>
                    </a:lnTo>
                    <a:lnTo>
                      <a:pt x="608" y="1502"/>
                    </a:lnTo>
                    <a:lnTo>
                      <a:pt x="611" y="1503"/>
                    </a:lnTo>
                    <a:lnTo>
                      <a:pt x="613" y="1503"/>
                    </a:lnTo>
                    <a:lnTo>
                      <a:pt x="615" y="1503"/>
                    </a:lnTo>
                    <a:lnTo>
                      <a:pt x="618" y="1505"/>
                    </a:lnTo>
                    <a:lnTo>
                      <a:pt x="619" y="150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4049640" y="3075120"/>
                <a:ext cx="198360" cy="471240"/>
              </a:xfrm>
              <a:custGeom>
                <a:avLst/>
                <a:gdLst/>
                <a:ahLst/>
                <a:rect l="l" t="t" r="r" b="b"/>
                <a:pathLst>
                  <a:path w="623" h="1486">
                    <a:moveTo>
                      <a:pt x="0" y="0"/>
                    </a:moveTo>
                    <a:lnTo>
                      <a:pt x="7" y="16"/>
                    </a:lnTo>
                    <a:lnTo>
                      <a:pt x="55" y="130"/>
                    </a:lnTo>
                    <a:lnTo>
                      <a:pt x="103" y="247"/>
                    </a:lnTo>
                    <a:lnTo>
                      <a:pt x="152" y="368"/>
                    </a:lnTo>
                    <a:lnTo>
                      <a:pt x="200" y="490"/>
                    </a:lnTo>
                    <a:lnTo>
                      <a:pt x="248" y="614"/>
                    </a:lnTo>
                    <a:lnTo>
                      <a:pt x="341" y="858"/>
                    </a:lnTo>
                    <a:lnTo>
                      <a:pt x="429" y="1094"/>
                    </a:lnTo>
                    <a:lnTo>
                      <a:pt x="507" y="1313"/>
                    </a:lnTo>
                    <a:lnTo>
                      <a:pt x="567" y="1483"/>
                    </a:lnTo>
                    <a:lnTo>
                      <a:pt x="574" y="1483"/>
                    </a:lnTo>
                    <a:lnTo>
                      <a:pt x="580" y="1483"/>
                    </a:lnTo>
                    <a:lnTo>
                      <a:pt x="588" y="1484"/>
                    </a:lnTo>
                    <a:lnTo>
                      <a:pt x="595" y="1484"/>
                    </a:lnTo>
                    <a:lnTo>
                      <a:pt x="602" y="1485"/>
                    </a:lnTo>
                    <a:lnTo>
                      <a:pt x="609" y="1485"/>
                    </a:lnTo>
                    <a:lnTo>
                      <a:pt x="616" y="1486"/>
                    </a:lnTo>
                    <a:lnTo>
                      <a:pt x="623" y="1486"/>
                    </a:lnTo>
                    <a:lnTo>
                      <a:pt x="590" y="1391"/>
                    </a:lnTo>
                    <a:lnTo>
                      <a:pt x="510" y="1170"/>
                    </a:lnTo>
                    <a:lnTo>
                      <a:pt x="422" y="934"/>
                    </a:lnTo>
                    <a:lnTo>
                      <a:pt x="330" y="690"/>
                    </a:lnTo>
                    <a:lnTo>
                      <a:pt x="281" y="567"/>
                    </a:lnTo>
                    <a:lnTo>
                      <a:pt x="233" y="445"/>
                    </a:lnTo>
                    <a:lnTo>
                      <a:pt x="185" y="324"/>
                    </a:lnTo>
                    <a:lnTo>
                      <a:pt x="136" y="206"/>
                    </a:lnTo>
                    <a:lnTo>
                      <a:pt x="88" y="92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3530520" y="3075120"/>
                <a:ext cx="230400" cy="523800"/>
              </a:xfrm>
              <a:custGeom>
                <a:avLst/>
                <a:gdLst/>
                <a:ahLst/>
                <a:rect l="l" t="t" r="r" b="b"/>
                <a:pathLst>
                  <a:path w="726" h="1652">
                    <a:moveTo>
                      <a:pt x="109" y="0"/>
                    </a:moveTo>
                    <a:lnTo>
                      <a:pt x="136" y="51"/>
                    </a:lnTo>
                    <a:lnTo>
                      <a:pt x="164" y="104"/>
                    </a:lnTo>
                    <a:lnTo>
                      <a:pt x="191" y="157"/>
                    </a:lnTo>
                    <a:lnTo>
                      <a:pt x="218" y="211"/>
                    </a:lnTo>
                    <a:lnTo>
                      <a:pt x="244" y="264"/>
                    </a:lnTo>
                    <a:lnTo>
                      <a:pt x="269" y="319"/>
                    </a:lnTo>
                    <a:lnTo>
                      <a:pt x="294" y="374"/>
                    </a:lnTo>
                    <a:lnTo>
                      <a:pt x="319" y="430"/>
                    </a:lnTo>
                    <a:lnTo>
                      <a:pt x="367" y="542"/>
                    </a:lnTo>
                    <a:lnTo>
                      <a:pt x="413" y="654"/>
                    </a:lnTo>
                    <a:lnTo>
                      <a:pt x="457" y="765"/>
                    </a:lnTo>
                    <a:lnTo>
                      <a:pt x="498" y="875"/>
                    </a:lnTo>
                    <a:lnTo>
                      <a:pt x="537" y="984"/>
                    </a:lnTo>
                    <a:lnTo>
                      <a:pt x="573" y="1092"/>
                    </a:lnTo>
                    <a:lnTo>
                      <a:pt x="606" y="1195"/>
                    </a:lnTo>
                    <a:lnTo>
                      <a:pt x="636" y="1296"/>
                    </a:lnTo>
                    <a:lnTo>
                      <a:pt x="664" y="1392"/>
                    </a:lnTo>
                    <a:lnTo>
                      <a:pt x="688" y="1483"/>
                    </a:lnTo>
                    <a:lnTo>
                      <a:pt x="709" y="1570"/>
                    </a:lnTo>
                    <a:lnTo>
                      <a:pt x="726" y="1650"/>
                    </a:lnTo>
                    <a:lnTo>
                      <a:pt x="715" y="1650"/>
                    </a:lnTo>
                    <a:lnTo>
                      <a:pt x="704" y="1650"/>
                    </a:lnTo>
                    <a:lnTo>
                      <a:pt x="692" y="1651"/>
                    </a:lnTo>
                    <a:lnTo>
                      <a:pt x="680" y="1651"/>
                    </a:lnTo>
                    <a:lnTo>
                      <a:pt x="668" y="1651"/>
                    </a:lnTo>
                    <a:lnTo>
                      <a:pt x="657" y="1651"/>
                    </a:lnTo>
                    <a:lnTo>
                      <a:pt x="644" y="1652"/>
                    </a:lnTo>
                    <a:lnTo>
                      <a:pt x="633" y="1652"/>
                    </a:lnTo>
                    <a:lnTo>
                      <a:pt x="575" y="1482"/>
                    </a:lnTo>
                    <a:lnTo>
                      <a:pt x="506" y="1290"/>
                    </a:lnTo>
                    <a:lnTo>
                      <a:pt x="430" y="1082"/>
                    </a:lnTo>
                    <a:lnTo>
                      <a:pt x="348" y="863"/>
                    </a:lnTo>
                    <a:lnTo>
                      <a:pt x="262" y="640"/>
                    </a:lnTo>
                    <a:lnTo>
                      <a:pt x="174" y="417"/>
                    </a:lnTo>
                    <a:lnTo>
                      <a:pt x="130" y="309"/>
                    </a:lnTo>
                    <a:lnTo>
                      <a:pt x="86" y="203"/>
                    </a:lnTo>
                    <a:lnTo>
                      <a:pt x="42" y="99"/>
                    </a:lnTo>
                    <a:lnTo>
                      <a:pt x="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3559320" y="3075120"/>
                <a:ext cx="212760" cy="523800"/>
              </a:xfrm>
              <a:custGeom>
                <a:avLst/>
                <a:gdLst/>
                <a:ahLst/>
                <a:rect l="l" t="t" r="r" b="b"/>
                <a:pathLst>
                  <a:path w="669" h="1651">
                    <a:moveTo>
                      <a:pt x="669" y="1648"/>
                    </a:moveTo>
                    <a:lnTo>
                      <a:pt x="664" y="1621"/>
                    </a:lnTo>
                    <a:lnTo>
                      <a:pt x="643" y="1537"/>
                    </a:lnTo>
                    <a:lnTo>
                      <a:pt x="620" y="1446"/>
                    </a:lnTo>
                    <a:lnTo>
                      <a:pt x="593" y="1352"/>
                    </a:lnTo>
                    <a:lnTo>
                      <a:pt x="563" y="1254"/>
                    </a:lnTo>
                    <a:lnTo>
                      <a:pt x="531" y="1151"/>
                    </a:lnTo>
                    <a:lnTo>
                      <a:pt x="496" y="1046"/>
                    </a:lnTo>
                    <a:lnTo>
                      <a:pt x="458" y="938"/>
                    </a:lnTo>
                    <a:lnTo>
                      <a:pt x="419" y="829"/>
                    </a:lnTo>
                    <a:lnTo>
                      <a:pt x="376" y="719"/>
                    </a:lnTo>
                    <a:lnTo>
                      <a:pt x="331" y="608"/>
                    </a:lnTo>
                    <a:lnTo>
                      <a:pt x="284" y="497"/>
                    </a:lnTo>
                    <a:lnTo>
                      <a:pt x="235" y="387"/>
                    </a:lnTo>
                    <a:lnTo>
                      <a:pt x="184" y="278"/>
                    </a:lnTo>
                    <a:lnTo>
                      <a:pt x="157" y="225"/>
                    </a:lnTo>
                    <a:lnTo>
                      <a:pt x="131" y="172"/>
                    </a:lnTo>
                    <a:lnTo>
                      <a:pt x="104" y="120"/>
                    </a:lnTo>
                    <a:lnTo>
                      <a:pt x="77" y="68"/>
                    </a:lnTo>
                    <a:lnTo>
                      <a:pt x="49" y="17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24" y="47"/>
                    </a:lnTo>
                    <a:lnTo>
                      <a:pt x="51" y="99"/>
                    </a:lnTo>
                    <a:lnTo>
                      <a:pt x="78" y="152"/>
                    </a:lnTo>
                    <a:lnTo>
                      <a:pt x="104" y="204"/>
                    </a:lnTo>
                    <a:lnTo>
                      <a:pt x="154" y="312"/>
                    </a:lnTo>
                    <a:lnTo>
                      <a:pt x="203" y="422"/>
                    </a:lnTo>
                    <a:lnTo>
                      <a:pt x="250" y="531"/>
                    </a:lnTo>
                    <a:lnTo>
                      <a:pt x="294" y="642"/>
                    </a:lnTo>
                    <a:lnTo>
                      <a:pt x="336" y="753"/>
                    </a:lnTo>
                    <a:lnTo>
                      <a:pt x="377" y="861"/>
                    </a:lnTo>
                    <a:lnTo>
                      <a:pt x="415" y="968"/>
                    </a:lnTo>
                    <a:lnTo>
                      <a:pt x="449" y="1073"/>
                    </a:lnTo>
                    <a:lnTo>
                      <a:pt x="482" y="1176"/>
                    </a:lnTo>
                    <a:lnTo>
                      <a:pt x="511" y="1274"/>
                    </a:lnTo>
                    <a:lnTo>
                      <a:pt x="538" y="1369"/>
                    </a:lnTo>
                    <a:lnTo>
                      <a:pt x="561" y="1458"/>
                    </a:lnTo>
                    <a:lnTo>
                      <a:pt x="582" y="1542"/>
                    </a:lnTo>
                    <a:lnTo>
                      <a:pt x="599" y="1620"/>
                    </a:lnTo>
                    <a:lnTo>
                      <a:pt x="604" y="1651"/>
                    </a:lnTo>
                    <a:lnTo>
                      <a:pt x="612" y="1650"/>
                    </a:lnTo>
                    <a:lnTo>
                      <a:pt x="620" y="1650"/>
                    </a:lnTo>
                    <a:lnTo>
                      <a:pt x="628" y="1650"/>
                    </a:lnTo>
                    <a:lnTo>
                      <a:pt x="637" y="1650"/>
                    </a:lnTo>
                    <a:lnTo>
                      <a:pt x="645" y="1648"/>
                    </a:lnTo>
                    <a:lnTo>
                      <a:pt x="653" y="1648"/>
                    </a:lnTo>
                    <a:lnTo>
                      <a:pt x="661" y="1648"/>
                    </a:lnTo>
                    <a:lnTo>
                      <a:pt x="669" y="16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3522600" y="3075120"/>
                <a:ext cx="217440" cy="523800"/>
              </a:xfrm>
              <a:custGeom>
                <a:avLst/>
                <a:gdLst/>
                <a:ahLst/>
                <a:rect l="l" t="t" r="r" b="b"/>
                <a:pathLst>
                  <a:path w="685" h="1652">
                    <a:moveTo>
                      <a:pt x="0" y="0"/>
                    </a:moveTo>
                    <a:lnTo>
                      <a:pt x="32" y="74"/>
                    </a:lnTo>
                    <a:lnTo>
                      <a:pt x="80" y="188"/>
                    </a:lnTo>
                    <a:lnTo>
                      <a:pt x="128" y="306"/>
                    </a:lnTo>
                    <a:lnTo>
                      <a:pt x="177" y="426"/>
                    </a:lnTo>
                    <a:lnTo>
                      <a:pt x="225" y="549"/>
                    </a:lnTo>
                    <a:lnTo>
                      <a:pt x="273" y="672"/>
                    </a:lnTo>
                    <a:lnTo>
                      <a:pt x="366" y="916"/>
                    </a:lnTo>
                    <a:lnTo>
                      <a:pt x="454" y="1152"/>
                    </a:lnTo>
                    <a:lnTo>
                      <a:pt x="533" y="1371"/>
                    </a:lnTo>
                    <a:lnTo>
                      <a:pt x="601" y="1566"/>
                    </a:lnTo>
                    <a:lnTo>
                      <a:pt x="631" y="1652"/>
                    </a:lnTo>
                    <a:lnTo>
                      <a:pt x="637" y="1652"/>
                    </a:lnTo>
                    <a:lnTo>
                      <a:pt x="644" y="1652"/>
                    </a:lnTo>
                    <a:lnTo>
                      <a:pt x="651" y="1652"/>
                    </a:lnTo>
                    <a:lnTo>
                      <a:pt x="658" y="1652"/>
                    </a:lnTo>
                    <a:lnTo>
                      <a:pt x="665" y="1652"/>
                    </a:lnTo>
                    <a:lnTo>
                      <a:pt x="672" y="1652"/>
                    </a:lnTo>
                    <a:lnTo>
                      <a:pt x="678" y="1652"/>
                    </a:lnTo>
                    <a:lnTo>
                      <a:pt x="685" y="1651"/>
                    </a:lnTo>
                    <a:lnTo>
                      <a:pt x="683" y="1644"/>
                    </a:lnTo>
                    <a:lnTo>
                      <a:pt x="615" y="1448"/>
                    </a:lnTo>
                    <a:lnTo>
                      <a:pt x="535" y="1229"/>
                    </a:lnTo>
                    <a:lnTo>
                      <a:pt x="448" y="992"/>
                    </a:lnTo>
                    <a:lnTo>
                      <a:pt x="355" y="748"/>
                    </a:lnTo>
                    <a:lnTo>
                      <a:pt x="307" y="625"/>
                    </a:lnTo>
                    <a:lnTo>
                      <a:pt x="258" y="503"/>
                    </a:lnTo>
                    <a:lnTo>
                      <a:pt x="210" y="382"/>
                    </a:lnTo>
                    <a:lnTo>
                      <a:pt x="161" y="263"/>
                    </a:lnTo>
                    <a:lnTo>
                      <a:pt x="113" y="149"/>
                    </a:lnTo>
                    <a:lnTo>
                      <a:pt x="66" y="4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3639960" y="3075120"/>
                <a:ext cx="219240" cy="519120"/>
              </a:xfrm>
              <a:custGeom>
                <a:avLst/>
                <a:gdLst/>
                <a:ahLst/>
                <a:rect l="l" t="t" r="r" b="b"/>
                <a:pathLst>
                  <a:path w="687" h="1636">
                    <a:moveTo>
                      <a:pt x="123" y="0"/>
                    </a:moveTo>
                    <a:lnTo>
                      <a:pt x="150" y="55"/>
                    </a:lnTo>
                    <a:lnTo>
                      <a:pt x="176" y="110"/>
                    </a:lnTo>
                    <a:lnTo>
                      <a:pt x="204" y="166"/>
                    </a:lnTo>
                    <a:lnTo>
                      <a:pt x="229" y="222"/>
                    </a:lnTo>
                    <a:lnTo>
                      <a:pt x="279" y="336"/>
                    </a:lnTo>
                    <a:lnTo>
                      <a:pt x="328" y="450"/>
                    </a:lnTo>
                    <a:lnTo>
                      <a:pt x="374" y="565"/>
                    </a:lnTo>
                    <a:lnTo>
                      <a:pt x="417" y="679"/>
                    </a:lnTo>
                    <a:lnTo>
                      <a:pt x="458" y="792"/>
                    </a:lnTo>
                    <a:lnTo>
                      <a:pt x="496" y="901"/>
                    </a:lnTo>
                    <a:lnTo>
                      <a:pt x="531" y="1009"/>
                    </a:lnTo>
                    <a:lnTo>
                      <a:pt x="563" y="1113"/>
                    </a:lnTo>
                    <a:lnTo>
                      <a:pt x="592" y="1214"/>
                    </a:lnTo>
                    <a:lnTo>
                      <a:pt x="619" y="1310"/>
                    </a:lnTo>
                    <a:lnTo>
                      <a:pt x="641" y="1400"/>
                    </a:lnTo>
                    <a:lnTo>
                      <a:pt x="660" y="1483"/>
                    </a:lnTo>
                    <a:lnTo>
                      <a:pt x="676" y="1561"/>
                    </a:lnTo>
                    <a:lnTo>
                      <a:pt x="687" y="1629"/>
                    </a:lnTo>
                    <a:lnTo>
                      <a:pt x="678" y="1630"/>
                    </a:lnTo>
                    <a:lnTo>
                      <a:pt x="669" y="1631"/>
                    </a:lnTo>
                    <a:lnTo>
                      <a:pt x="660" y="1632"/>
                    </a:lnTo>
                    <a:lnTo>
                      <a:pt x="651" y="1632"/>
                    </a:lnTo>
                    <a:lnTo>
                      <a:pt x="641" y="1634"/>
                    </a:lnTo>
                    <a:lnTo>
                      <a:pt x="632" y="1635"/>
                    </a:lnTo>
                    <a:lnTo>
                      <a:pt x="623" y="1635"/>
                    </a:lnTo>
                    <a:lnTo>
                      <a:pt x="614" y="1636"/>
                    </a:lnTo>
                    <a:lnTo>
                      <a:pt x="564" y="1487"/>
                    </a:lnTo>
                    <a:lnTo>
                      <a:pt x="502" y="1310"/>
                    </a:lnTo>
                    <a:lnTo>
                      <a:pt x="432" y="1111"/>
                    </a:lnTo>
                    <a:lnTo>
                      <a:pt x="352" y="895"/>
                    </a:lnTo>
                    <a:lnTo>
                      <a:pt x="268" y="671"/>
                    </a:lnTo>
                    <a:lnTo>
                      <a:pt x="179" y="442"/>
                    </a:lnTo>
                    <a:lnTo>
                      <a:pt x="134" y="330"/>
                    </a:lnTo>
                    <a:lnTo>
                      <a:pt x="89" y="217"/>
                    </a:lnTo>
                    <a:lnTo>
                      <a:pt x="44" y="107"/>
                    </a:lnTo>
                    <a:lnTo>
                      <a:pt x="0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3672000" y="3075120"/>
                <a:ext cx="196560" cy="517320"/>
              </a:xfrm>
              <a:custGeom>
                <a:avLst/>
                <a:gdLst/>
                <a:ahLst/>
                <a:rect l="l" t="t" r="r" b="b"/>
                <a:pathLst>
                  <a:path w="620" h="1632">
                    <a:moveTo>
                      <a:pt x="620" y="1627"/>
                    </a:moveTo>
                    <a:lnTo>
                      <a:pt x="608" y="1556"/>
                    </a:lnTo>
                    <a:lnTo>
                      <a:pt x="591" y="1478"/>
                    </a:lnTo>
                    <a:lnTo>
                      <a:pt x="570" y="1394"/>
                    </a:lnTo>
                    <a:lnTo>
                      <a:pt x="546" y="1304"/>
                    </a:lnTo>
                    <a:lnTo>
                      <a:pt x="520" y="1209"/>
                    </a:lnTo>
                    <a:lnTo>
                      <a:pt x="490" y="1111"/>
                    </a:lnTo>
                    <a:lnTo>
                      <a:pt x="458" y="1008"/>
                    </a:lnTo>
                    <a:lnTo>
                      <a:pt x="423" y="903"/>
                    </a:lnTo>
                    <a:lnTo>
                      <a:pt x="385" y="796"/>
                    </a:lnTo>
                    <a:lnTo>
                      <a:pt x="346" y="687"/>
                    </a:lnTo>
                    <a:lnTo>
                      <a:pt x="302" y="576"/>
                    </a:lnTo>
                    <a:lnTo>
                      <a:pt x="258" y="465"/>
                    </a:lnTo>
                    <a:lnTo>
                      <a:pt x="211" y="355"/>
                    </a:lnTo>
                    <a:lnTo>
                      <a:pt x="162" y="245"/>
                    </a:lnTo>
                    <a:lnTo>
                      <a:pt x="111" y="137"/>
                    </a:lnTo>
                    <a:lnTo>
                      <a:pt x="84" y="83"/>
                    </a:lnTo>
                    <a:lnTo>
                      <a:pt x="58" y="29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30" y="61"/>
                    </a:lnTo>
                    <a:lnTo>
                      <a:pt x="81" y="170"/>
                    </a:lnTo>
                    <a:lnTo>
                      <a:pt x="130" y="279"/>
                    </a:lnTo>
                    <a:lnTo>
                      <a:pt x="177" y="390"/>
                    </a:lnTo>
                    <a:lnTo>
                      <a:pt x="221" y="499"/>
                    </a:lnTo>
                    <a:lnTo>
                      <a:pt x="263" y="610"/>
                    </a:lnTo>
                    <a:lnTo>
                      <a:pt x="303" y="719"/>
                    </a:lnTo>
                    <a:lnTo>
                      <a:pt x="341" y="826"/>
                    </a:lnTo>
                    <a:lnTo>
                      <a:pt x="376" y="931"/>
                    </a:lnTo>
                    <a:lnTo>
                      <a:pt x="408" y="1033"/>
                    </a:lnTo>
                    <a:lnTo>
                      <a:pt x="438" y="1132"/>
                    </a:lnTo>
                    <a:lnTo>
                      <a:pt x="464" y="1226"/>
                    </a:lnTo>
                    <a:lnTo>
                      <a:pt x="488" y="1315"/>
                    </a:lnTo>
                    <a:lnTo>
                      <a:pt x="509" y="1400"/>
                    </a:lnTo>
                    <a:lnTo>
                      <a:pt x="526" y="1477"/>
                    </a:lnTo>
                    <a:lnTo>
                      <a:pt x="538" y="1549"/>
                    </a:lnTo>
                    <a:lnTo>
                      <a:pt x="548" y="1613"/>
                    </a:lnTo>
                    <a:lnTo>
                      <a:pt x="551" y="1632"/>
                    </a:lnTo>
                    <a:lnTo>
                      <a:pt x="560" y="1632"/>
                    </a:lnTo>
                    <a:lnTo>
                      <a:pt x="569" y="1631"/>
                    </a:lnTo>
                    <a:lnTo>
                      <a:pt x="577" y="1630"/>
                    </a:lnTo>
                    <a:lnTo>
                      <a:pt x="586" y="1629"/>
                    </a:lnTo>
                    <a:lnTo>
                      <a:pt x="594" y="1629"/>
                    </a:lnTo>
                    <a:lnTo>
                      <a:pt x="603" y="1628"/>
                    </a:lnTo>
                    <a:lnTo>
                      <a:pt x="612" y="1627"/>
                    </a:lnTo>
                    <a:lnTo>
                      <a:pt x="620" y="162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3632040" y="3075120"/>
                <a:ext cx="211320" cy="520560"/>
              </a:xfrm>
              <a:custGeom>
                <a:avLst/>
                <a:gdLst/>
                <a:ahLst/>
                <a:rect l="l" t="t" r="r" b="b"/>
                <a:pathLst>
                  <a:path w="666" h="1638">
                    <a:moveTo>
                      <a:pt x="0" y="0"/>
                    </a:moveTo>
                    <a:lnTo>
                      <a:pt x="19" y="45"/>
                    </a:lnTo>
                    <a:lnTo>
                      <a:pt x="67" y="163"/>
                    </a:lnTo>
                    <a:lnTo>
                      <a:pt x="116" y="284"/>
                    </a:lnTo>
                    <a:lnTo>
                      <a:pt x="164" y="406"/>
                    </a:lnTo>
                    <a:lnTo>
                      <a:pt x="212" y="529"/>
                    </a:lnTo>
                    <a:lnTo>
                      <a:pt x="305" y="773"/>
                    </a:lnTo>
                    <a:lnTo>
                      <a:pt x="392" y="1009"/>
                    </a:lnTo>
                    <a:lnTo>
                      <a:pt x="472" y="1229"/>
                    </a:lnTo>
                    <a:lnTo>
                      <a:pt x="540" y="1424"/>
                    </a:lnTo>
                    <a:lnTo>
                      <a:pt x="570" y="1510"/>
                    </a:lnTo>
                    <a:lnTo>
                      <a:pt x="595" y="1588"/>
                    </a:lnTo>
                    <a:lnTo>
                      <a:pt x="611" y="1638"/>
                    </a:lnTo>
                    <a:lnTo>
                      <a:pt x="617" y="1637"/>
                    </a:lnTo>
                    <a:lnTo>
                      <a:pt x="624" y="1637"/>
                    </a:lnTo>
                    <a:lnTo>
                      <a:pt x="631" y="1636"/>
                    </a:lnTo>
                    <a:lnTo>
                      <a:pt x="638" y="1636"/>
                    </a:lnTo>
                    <a:lnTo>
                      <a:pt x="645" y="1636"/>
                    </a:lnTo>
                    <a:lnTo>
                      <a:pt x="653" y="1635"/>
                    </a:lnTo>
                    <a:lnTo>
                      <a:pt x="660" y="1635"/>
                    </a:lnTo>
                    <a:lnTo>
                      <a:pt x="666" y="1634"/>
                    </a:lnTo>
                    <a:lnTo>
                      <a:pt x="651" y="1588"/>
                    </a:lnTo>
                    <a:lnTo>
                      <a:pt x="621" y="1501"/>
                    </a:lnTo>
                    <a:lnTo>
                      <a:pt x="552" y="1305"/>
                    </a:lnTo>
                    <a:lnTo>
                      <a:pt x="474" y="1086"/>
                    </a:lnTo>
                    <a:lnTo>
                      <a:pt x="386" y="850"/>
                    </a:lnTo>
                    <a:lnTo>
                      <a:pt x="294" y="606"/>
                    </a:lnTo>
                    <a:lnTo>
                      <a:pt x="245" y="482"/>
                    </a:lnTo>
                    <a:lnTo>
                      <a:pt x="197" y="360"/>
                    </a:lnTo>
                    <a:lnTo>
                      <a:pt x="148" y="239"/>
                    </a:lnTo>
                    <a:lnTo>
                      <a:pt x="100" y="122"/>
                    </a:lnTo>
                    <a:lnTo>
                      <a:pt x="52" y="7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3051000" y="3075120"/>
                <a:ext cx="220680" cy="474480"/>
              </a:xfrm>
              <a:custGeom>
                <a:avLst/>
                <a:gdLst/>
                <a:ahLst/>
                <a:rect l="l" t="t" r="r" b="b"/>
                <a:pathLst>
                  <a:path w="693" h="1497">
                    <a:moveTo>
                      <a:pt x="108" y="0"/>
                    </a:moveTo>
                    <a:lnTo>
                      <a:pt x="157" y="91"/>
                    </a:lnTo>
                    <a:lnTo>
                      <a:pt x="205" y="185"/>
                    </a:lnTo>
                    <a:lnTo>
                      <a:pt x="252" y="280"/>
                    </a:lnTo>
                    <a:lnTo>
                      <a:pt x="296" y="377"/>
                    </a:lnTo>
                    <a:lnTo>
                      <a:pt x="340" y="476"/>
                    </a:lnTo>
                    <a:lnTo>
                      <a:pt x="382" y="575"/>
                    </a:lnTo>
                    <a:lnTo>
                      <a:pt x="422" y="674"/>
                    </a:lnTo>
                    <a:lnTo>
                      <a:pt x="461" y="772"/>
                    </a:lnTo>
                    <a:lnTo>
                      <a:pt x="497" y="870"/>
                    </a:lnTo>
                    <a:lnTo>
                      <a:pt x="531" y="966"/>
                    </a:lnTo>
                    <a:lnTo>
                      <a:pt x="564" y="1062"/>
                    </a:lnTo>
                    <a:lnTo>
                      <a:pt x="594" y="1154"/>
                    </a:lnTo>
                    <a:lnTo>
                      <a:pt x="622" y="1244"/>
                    </a:lnTo>
                    <a:lnTo>
                      <a:pt x="648" y="1332"/>
                    </a:lnTo>
                    <a:lnTo>
                      <a:pt x="671" y="1416"/>
                    </a:lnTo>
                    <a:lnTo>
                      <a:pt x="693" y="1497"/>
                    </a:lnTo>
                    <a:lnTo>
                      <a:pt x="678" y="1497"/>
                    </a:lnTo>
                    <a:lnTo>
                      <a:pt x="665" y="1495"/>
                    </a:lnTo>
                    <a:lnTo>
                      <a:pt x="651" y="1495"/>
                    </a:lnTo>
                    <a:lnTo>
                      <a:pt x="636" y="1495"/>
                    </a:lnTo>
                    <a:lnTo>
                      <a:pt x="622" y="1497"/>
                    </a:lnTo>
                    <a:lnTo>
                      <a:pt x="609" y="1497"/>
                    </a:lnTo>
                    <a:lnTo>
                      <a:pt x="594" y="1497"/>
                    </a:lnTo>
                    <a:lnTo>
                      <a:pt x="580" y="1497"/>
                    </a:lnTo>
                    <a:lnTo>
                      <a:pt x="521" y="1329"/>
                    </a:lnTo>
                    <a:lnTo>
                      <a:pt x="455" y="1148"/>
                    </a:lnTo>
                    <a:lnTo>
                      <a:pt x="384" y="957"/>
                    </a:lnTo>
                    <a:lnTo>
                      <a:pt x="309" y="761"/>
                    </a:lnTo>
                    <a:lnTo>
                      <a:pt x="233" y="562"/>
                    </a:lnTo>
                    <a:lnTo>
                      <a:pt x="154" y="367"/>
                    </a:lnTo>
                    <a:lnTo>
                      <a:pt x="115" y="271"/>
                    </a:lnTo>
                    <a:lnTo>
                      <a:pt x="76" y="178"/>
                    </a:lnTo>
                    <a:lnTo>
                      <a:pt x="38" y="88"/>
                    </a:lnTo>
                    <a:lnTo>
                      <a:pt x="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3079800" y="3075120"/>
                <a:ext cx="201600" cy="474480"/>
              </a:xfrm>
              <a:custGeom>
                <a:avLst/>
                <a:gdLst/>
                <a:ahLst/>
                <a:rect l="l" t="t" r="r" b="b"/>
                <a:pathLst>
                  <a:path w="634" h="1497">
                    <a:moveTo>
                      <a:pt x="634" y="1497"/>
                    </a:moveTo>
                    <a:lnTo>
                      <a:pt x="622" y="1451"/>
                    </a:lnTo>
                    <a:lnTo>
                      <a:pt x="596" y="1356"/>
                    </a:lnTo>
                    <a:lnTo>
                      <a:pt x="567" y="1258"/>
                    </a:lnTo>
                    <a:lnTo>
                      <a:pt x="533" y="1156"/>
                    </a:lnTo>
                    <a:lnTo>
                      <a:pt x="499" y="1051"/>
                    </a:lnTo>
                    <a:lnTo>
                      <a:pt x="462" y="943"/>
                    </a:lnTo>
                    <a:lnTo>
                      <a:pt x="421" y="834"/>
                    </a:lnTo>
                    <a:lnTo>
                      <a:pt x="378" y="723"/>
                    </a:lnTo>
                    <a:lnTo>
                      <a:pt x="334" y="612"/>
                    </a:lnTo>
                    <a:lnTo>
                      <a:pt x="286" y="502"/>
                    </a:lnTo>
                    <a:lnTo>
                      <a:pt x="237" y="392"/>
                    </a:lnTo>
                    <a:lnTo>
                      <a:pt x="187" y="284"/>
                    </a:lnTo>
                    <a:lnTo>
                      <a:pt x="161" y="230"/>
                    </a:lnTo>
                    <a:lnTo>
                      <a:pt x="134" y="177"/>
                    </a:lnTo>
                    <a:lnTo>
                      <a:pt x="107" y="124"/>
                    </a:lnTo>
                    <a:lnTo>
                      <a:pt x="80" y="73"/>
                    </a:lnTo>
                    <a:lnTo>
                      <a:pt x="51" y="21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7" y="52"/>
                    </a:lnTo>
                    <a:lnTo>
                      <a:pt x="54" y="104"/>
                    </a:lnTo>
                    <a:lnTo>
                      <a:pt x="80" y="156"/>
                    </a:lnTo>
                    <a:lnTo>
                      <a:pt x="106" y="209"/>
                    </a:lnTo>
                    <a:lnTo>
                      <a:pt x="157" y="317"/>
                    </a:lnTo>
                    <a:lnTo>
                      <a:pt x="206" y="426"/>
                    </a:lnTo>
                    <a:lnTo>
                      <a:pt x="253" y="537"/>
                    </a:lnTo>
                    <a:lnTo>
                      <a:pt x="297" y="647"/>
                    </a:lnTo>
                    <a:lnTo>
                      <a:pt x="340" y="757"/>
                    </a:lnTo>
                    <a:lnTo>
                      <a:pt x="380" y="866"/>
                    </a:lnTo>
                    <a:lnTo>
                      <a:pt x="417" y="973"/>
                    </a:lnTo>
                    <a:lnTo>
                      <a:pt x="453" y="1078"/>
                    </a:lnTo>
                    <a:lnTo>
                      <a:pt x="484" y="1181"/>
                    </a:lnTo>
                    <a:lnTo>
                      <a:pt x="514" y="1279"/>
                    </a:lnTo>
                    <a:lnTo>
                      <a:pt x="540" y="1373"/>
                    </a:lnTo>
                    <a:lnTo>
                      <a:pt x="564" y="1462"/>
                    </a:lnTo>
                    <a:lnTo>
                      <a:pt x="572" y="1495"/>
                    </a:lnTo>
                    <a:lnTo>
                      <a:pt x="580" y="1497"/>
                    </a:lnTo>
                    <a:lnTo>
                      <a:pt x="587" y="1497"/>
                    </a:lnTo>
                    <a:lnTo>
                      <a:pt x="595" y="1497"/>
                    </a:lnTo>
                    <a:lnTo>
                      <a:pt x="603" y="1497"/>
                    </a:lnTo>
                    <a:lnTo>
                      <a:pt x="611" y="1497"/>
                    </a:lnTo>
                    <a:lnTo>
                      <a:pt x="619" y="1497"/>
                    </a:lnTo>
                    <a:lnTo>
                      <a:pt x="627" y="1497"/>
                    </a:lnTo>
                    <a:lnTo>
                      <a:pt x="634" y="149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3044880" y="3075120"/>
                <a:ext cx="199800" cy="476280"/>
              </a:xfrm>
              <a:custGeom>
                <a:avLst/>
                <a:gdLst/>
                <a:ahLst/>
                <a:rect l="l" t="t" r="r" b="b"/>
                <a:pathLst>
                  <a:path w="632" h="1498">
                    <a:moveTo>
                      <a:pt x="0" y="0"/>
                    </a:moveTo>
                    <a:lnTo>
                      <a:pt x="34" y="79"/>
                    </a:lnTo>
                    <a:lnTo>
                      <a:pt x="82" y="193"/>
                    </a:lnTo>
                    <a:lnTo>
                      <a:pt x="130" y="310"/>
                    </a:lnTo>
                    <a:lnTo>
                      <a:pt x="179" y="431"/>
                    </a:lnTo>
                    <a:lnTo>
                      <a:pt x="227" y="553"/>
                    </a:lnTo>
                    <a:lnTo>
                      <a:pt x="275" y="676"/>
                    </a:lnTo>
                    <a:lnTo>
                      <a:pt x="368" y="920"/>
                    </a:lnTo>
                    <a:lnTo>
                      <a:pt x="455" y="1157"/>
                    </a:lnTo>
                    <a:lnTo>
                      <a:pt x="535" y="1376"/>
                    </a:lnTo>
                    <a:lnTo>
                      <a:pt x="577" y="1498"/>
                    </a:lnTo>
                    <a:lnTo>
                      <a:pt x="584" y="1498"/>
                    </a:lnTo>
                    <a:lnTo>
                      <a:pt x="591" y="1498"/>
                    </a:lnTo>
                    <a:lnTo>
                      <a:pt x="597" y="1497"/>
                    </a:lnTo>
                    <a:lnTo>
                      <a:pt x="604" y="1497"/>
                    </a:lnTo>
                    <a:lnTo>
                      <a:pt x="611" y="1497"/>
                    </a:lnTo>
                    <a:lnTo>
                      <a:pt x="618" y="1497"/>
                    </a:lnTo>
                    <a:lnTo>
                      <a:pt x="625" y="1497"/>
                    </a:lnTo>
                    <a:lnTo>
                      <a:pt x="632" y="1497"/>
                    </a:lnTo>
                    <a:lnTo>
                      <a:pt x="616" y="1453"/>
                    </a:lnTo>
                    <a:lnTo>
                      <a:pt x="537" y="1233"/>
                    </a:lnTo>
                    <a:lnTo>
                      <a:pt x="449" y="997"/>
                    </a:lnTo>
                    <a:lnTo>
                      <a:pt x="356" y="753"/>
                    </a:lnTo>
                    <a:lnTo>
                      <a:pt x="308" y="630"/>
                    </a:lnTo>
                    <a:lnTo>
                      <a:pt x="260" y="507"/>
                    </a:lnTo>
                    <a:lnTo>
                      <a:pt x="211" y="387"/>
                    </a:lnTo>
                    <a:lnTo>
                      <a:pt x="163" y="269"/>
                    </a:lnTo>
                    <a:lnTo>
                      <a:pt x="115" y="155"/>
                    </a:lnTo>
                    <a:lnTo>
                      <a:pt x="67" y="44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2749680" y="3075120"/>
                <a:ext cx="110880" cy="520560"/>
              </a:xfrm>
              <a:custGeom>
                <a:avLst/>
                <a:gdLst/>
                <a:ahLst/>
                <a:rect l="l" t="t" r="r" b="b"/>
                <a:pathLst>
                  <a:path w="352" h="1638">
                    <a:moveTo>
                      <a:pt x="105" y="0"/>
                    </a:moveTo>
                    <a:lnTo>
                      <a:pt x="132" y="108"/>
                    </a:lnTo>
                    <a:lnTo>
                      <a:pt x="158" y="218"/>
                    </a:lnTo>
                    <a:lnTo>
                      <a:pt x="182" y="328"/>
                    </a:lnTo>
                    <a:lnTo>
                      <a:pt x="205" y="439"/>
                    </a:lnTo>
                    <a:lnTo>
                      <a:pt x="227" y="550"/>
                    </a:lnTo>
                    <a:lnTo>
                      <a:pt x="246" y="659"/>
                    </a:lnTo>
                    <a:lnTo>
                      <a:pt x="263" y="769"/>
                    </a:lnTo>
                    <a:lnTo>
                      <a:pt x="280" y="876"/>
                    </a:lnTo>
                    <a:lnTo>
                      <a:pt x="295" y="981"/>
                    </a:lnTo>
                    <a:lnTo>
                      <a:pt x="308" y="1085"/>
                    </a:lnTo>
                    <a:lnTo>
                      <a:pt x="319" y="1184"/>
                    </a:lnTo>
                    <a:lnTo>
                      <a:pt x="329" y="1281"/>
                    </a:lnTo>
                    <a:lnTo>
                      <a:pt x="337" y="1375"/>
                    </a:lnTo>
                    <a:lnTo>
                      <a:pt x="344" y="1465"/>
                    </a:lnTo>
                    <a:lnTo>
                      <a:pt x="349" y="1549"/>
                    </a:lnTo>
                    <a:lnTo>
                      <a:pt x="352" y="1628"/>
                    </a:lnTo>
                    <a:lnTo>
                      <a:pt x="341" y="1630"/>
                    </a:lnTo>
                    <a:lnTo>
                      <a:pt x="329" y="1631"/>
                    </a:lnTo>
                    <a:lnTo>
                      <a:pt x="317" y="1632"/>
                    </a:lnTo>
                    <a:lnTo>
                      <a:pt x="305" y="1634"/>
                    </a:lnTo>
                    <a:lnTo>
                      <a:pt x="294" y="1635"/>
                    </a:lnTo>
                    <a:lnTo>
                      <a:pt x="283" y="1636"/>
                    </a:lnTo>
                    <a:lnTo>
                      <a:pt x="270" y="1637"/>
                    </a:lnTo>
                    <a:lnTo>
                      <a:pt x="259" y="1638"/>
                    </a:lnTo>
                    <a:lnTo>
                      <a:pt x="236" y="1469"/>
                    </a:lnTo>
                    <a:lnTo>
                      <a:pt x="210" y="1281"/>
                    </a:lnTo>
                    <a:lnTo>
                      <a:pt x="180" y="1078"/>
                    </a:lnTo>
                    <a:lnTo>
                      <a:pt x="148" y="866"/>
                    </a:lnTo>
                    <a:lnTo>
                      <a:pt x="113" y="648"/>
                    </a:lnTo>
                    <a:lnTo>
                      <a:pt x="76" y="428"/>
                    </a:lnTo>
                    <a:lnTo>
                      <a:pt x="39" y="210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2773440" y="3075120"/>
                <a:ext cx="100080" cy="517320"/>
              </a:xfrm>
              <a:custGeom>
                <a:avLst/>
                <a:gdLst/>
                <a:ahLst/>
                <a:rect l="l" t="t" r="r" b="b"/>
                <a:pathLst>
                  <a:path w="317" h="1632">
                    <a:moveTo>
                      <a:pt x="317" y="1624"/>
                    </a:moveTo>
                    <a:lnTo>
                      <a:pt x="316" y="1600"/>
                    </a:lnTo>
                    <a:lnTo>
                      <a:pt x="311" y="1505"/>
                    </a:lnTo>
                    <a:lnTo>
                      <a:pt x="303" y="1403"/>
                    </a:lnTo>
                    <a:lnTo>
                      <a:pt x="293" y="1296"/>
                    </a:lnTo>
                    <a:lnTo>
                      <a:pt x="282" y="1184"/>
                    </a:lnTo>
                    <a:lnTo>
                      <a:pt x="268" y="1069"/>
                    </a:lnTo>
                    <a:lnTo>
                      <a:pt x="252" y="949"/>
                    </a:lnTo>
                    <a:lnTo>
                      <a:pt x="234" y="828"/>
                    </a:lnTo>
                    <a:lnTo>
                      <a:pt x="214" y="705"/>
                    </a:lnTo>
                    <a:lnTo>
                      <a:pt x="192" y="579"/>
                    </a:lnTo>
                    <a:lnTo>
                      <a:pt x="168" y="454"/>
                    </a:lnTo>
                    <a:lnTo>
                      <a:pt x="141" y="328"/>
                    </a:lnTo>
                    <a:lnTo>
                      <a:pt x="113" y="203"/>
                    </a:lnTo>
                    <a:lnTo>
                      <a:pt x="98" y="141"/>
                    </a:lnTo>
                    <a:lnTo>
                      <a:pt x="82" y="79"/>
                    </a:lnTo>
                    <a:lnTo>
                      <a:pt x="66" y="18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6" y="63"/>
                    </a:lnTo>
                    <a:lnTo>
                      <a:pt x="31" y="124"/>
                    </a:lnTo>
                    <a:lnTo>
                      <a:pt x="59" y="250"/>
                    </a:lnTo>
                    <a:lnTo>
                      <a:pt x="86" y="375"/>
                    </a:lnTo>
                    <a:lnTo>
                      <a:pt x="110" y="501"/>
                    </a:lnTo>
                    <a:lnTo>
                      <a:pt x="132" y="625"/>
                    </a:lnTo>
                    <a:lnTo>
                      <a:pt x="152" y="749"/>
                    </a:lnTo>
                    <a:lnTo>
                      <a:pt x="170" y="870"/>
                    </a:lnTo>
                    <a:lnTo>
                      <a:pt x="186" y="989"/>
                    </a:lnTo>
                    <a:lnTo>
                      <a:pt x="200" y="1104"/>
                    </a:lnTo>
                    <a:lnTo>
                      <a:pt x="211" y="1216"/>
                    </a:lnTo>
                    <a:lnTo>
                      <a:pt x="221" y="1323"/>
                    </a:lnTo>
                    <a:lnTo>
                      <a:pt x="228" y="1425"/>
                    </a:lnTo>
                    <a:lnTo>
                      <a:pt x="234" y="1521"/>
                    </a:lnTo>
                    <a:lnTo>
                      <a:pt x="237" y="1610"/>
                    </a:lnTo>
                    <a:lnTo>
                      <a:pt x="238" y="1632"/>
                    </a:lnTo>
                    <a:lnTo>
                      <a:pt x="247" y="1631"/>
                    </a:lnTo>
                    <a:lnTo>
                      <a:pt x="258" y="1630"/>
                    </a:lnTo>
                    <a:lnTo>
                      <a:pt x="268" y="1629"/>
                    </a:lnTo>
                    <a:lnTo>
                      <a:pt x="278" y="1629"/>
                    </a:lnTo>
                    <a:lnTo>
                      <a:pt x="287" y="1628"/>
                    </a:lnTo>
                    <a:lnTo>
                      <a:pt x="298" y="1627"/>
                    </a:lnTo>
                    <a:lnTo>
                      <a:pt x="308" y="1626"/>
                    </a:lnTo>
                    <a:lnTo>
                      <a:pt x="317" y="16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2738520" y="3075120"/>
                <a:ext cx="104760" cy="520560"/>
              </a:xfrm>
              <a:custGeom>
                <a:avLst/>
                <a:gdLst/>
                <a:ahLst/>
                <a:rect l="l" t="t" r="r" b="b"/>
                <a:pathLst>
                  <a:path w="328" h="1642">
                    <a:moveTo>
                      <a:pt x="0" y="0"/>
                    </a:moveTo>
                    <a:lnTo>
                      <a:pt x="9" y="51"/>
                    </a:lnTo>
                    <a:lnTo>
                      <a:pt x="34" y="185"/>
                    </a:lnTo>
                    <a:lnTo>
                      <a:pt x="58" y="320"/>
                    </a:lnTo>
                    <a:lnTo>
                      <a:pt x="81" y="458"/>
                    </a:lnTo>
                    <a:lnTo>
                      <a:pt x="105" y="596"/>
                    </a:lnTo>
                    <a:lnTo>
                      <a:pt x="148" y="870"/>
                    </a:lnTo>
                    <a:lnTo>
                      <a:pt x="188" y="1133"/>
                    </a:lnTo>
                    <a:lnTo>
                      <a:pt x="222" y="1377"/>
                    </a:lnTo>
                    <a:lnTo>
                      <a:pt x="251" y="1594"/>
                    </a:lnTo>
                    <a:lnTo>
                      <a:pt x="257" y="1642"/>
                    </a:lnTo>
                    <a:lnTo>
                      <a:pt x="265" y="1640"/>
                    </a:lnTo>
                    <a:lnTo>
                      <a:pt x="275" y="1639"/>
                    </a:lnTo>
                    <a:lnTo>
                      <a:pt x="284" y="1639"/>
                    </a:lnTo>
                    <a:lnTo>
                      <a:pt x="293" y="1638"/>
                    </a:lnTo>
                    <a:lnTo>
                      <a:pt x="302" y="1637"/>
                    </a:lnTo>
                    <a:lnTo>
                      <a:pt x="310" y="1636"/>
                    </a:lnTo>
                    <a:lnTo>
                      <a:pt x="319" y="1636"/>
                    </a:lnTo>
                    <a:lnTo>
                      <a:pt x="328" y="1635"/>
                    </a:lnTo>
                    <a:lnTo>
                      <a:pt x="304" y="1456"/>
                    </a:lnTo>
                    <a:lnTo>
                      <a:pt x="270" y="1211"/>
                    </a:lnTo>
                    <a:lnTo>
                      <a:pt x="230" y="949"/>
                    </a:lnTo>
                    <a:lnTo>
                      <a:pt x="187" y="675"/>
                    </a:lnTo>
                    <a:lnTo>
                      <a:pt x="163" y="537"/>
                    </a:lnTo>
                    <a:lnTo>
                      <a:pt x="140" y="399"/>
                    </a:lnTo>
                    <a:lnTo>
                      <a:pt x="116" y="263"/>
                    </a:lnTo>
                    <a:lnTo>
                      <a:pt x="92" y="130"/>
                    </a:lnTo>
                    <a:lnTo>
                      <a:pt x="67" y="1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4923000" y="3075120"/>
                <a:ext cx="222120" cy="487080"/>
              </a:xfrm>
              <a:custGeom>
                <a:avLst/>
                <a:gdLst/>
                <a:ahLst/>
                <a:rect l="l" t="t" r="r" b="b"/>
                <a:pathLst>
                  <a:path w="701" h="1533">
                    <a:moveTo>
                      <a:pt x="103" y="0"/>
                    </a:moveTo>
                    <a:lnTo>
                      <a:pt x="151" y="90"/>
                    </a:lnTo>
                    <a:lnTo>
                      <a:pt x="198" y="183"/>
                    </a:lnTo>
                    <a:lnTo>
                      <a:pt x="245" y="278"/>
                    </a:lnTo>
                    <a:lnTo>
                      <a:pt x="289" y="375"/>
                    </a:lnTo>
                    <a:lnTo>
                      <a:pt x="333" y="473"/>
                    </a:lnTo>
                    <a:lnTo>
                      <a:pt x="375" y="573"/>
                    </a:lnTo>
                    <a:lnTo>
                      <a:pt x="415" y="672"/>
                    </a:lnTo>
                    <a:lnTo>
                      <a:pt x="455" y="772"/>
                    </a:lnTo>
                    <a:lnTo>
                      <a:pt x="491" y="871"/>
                    </a:lnTo>
                    <a:lnTo>
                      <a:pt x="526" y="971"/>
                    </a:lnTo>
                    <a:lnTo>
                      <a:pt x="561" y="1070"/>
                    </a:lnTo>
                    <a:lnTo>
                      <a:pt x="592" y="1167"/>
                    </a:lnTo>
                    <a:lnTo>
                      <a:pt x="622" y="1262"/>
                    </a:lnTo>
                    <a:lnTo>
                      <a:pt x="651" y="1355"/>
                    </a:lnTo>
                    <a:lnTo>
                      <a:pt x="677" y="1445"/>
                    </a:lnTo>
                    <a:lnTo>
                      <a:pt x="701" y="1533"/>
                    </a:lnTo>
                    <a:lnTo>
                      <a:pt x="684" y="1533"/>
                    </a:lnTo>
                    <a:lnTo>
                      <a:pt x="668" y="1532"/>
                    </a:lnTo>
                    <a:lnTo>
                      <a:pt x="651" y="1532"/>
                    </a:lnTo>
                    <a:lnTo>
                      <a:pt x="634" y="1532"/>
                    </a:lnTo>
                    <a:lnTo>
                      <a:pt x="618" y="1531"/>
                    </a:lnTo>
                    <a:lnTo>
                      <a:pt x="600" y="1531"/>
                    </a:lnTo>
                    <a:lnTo>
                      <a:pt x="584" y="1530"/>
                    </a:lnTo>
                    <a:lnTo>
                      <a:pt x="567" y="1530"/>
                    </a:lnTo>
                    <a:lnTo>
                      <a:pt x="505" y="1346"/>
                    </a:lnTo>
                    <a:lnTo>
                      <a:pt x="437" y="1154"/>
                    </a:lnTo>
                    <a:lnTo>
                      <a:pt x="367" y="956"/>
                    </a:lnTo>
                    <a:lnTo>
                      <a:pt x="294" y="755"/>
                    </a:lnTo>
                    <a:lnTo>
                      <a:pt x="220" y="555"/>
                    </a:lnTo>
                    <a:lnTo>
                      <a:pt x="144" y="360"/>
                    </a:lnTo>
                    <a:lnTo>
                      <a:pt x="108" y="267"/>
                    </a:lnTo>
                    <a:lnTo>
                      <a:pt x="71" y="174"/>
                    </a:lnTo>
                    <a:lnTo>
                      <a:pt x="35" y="85"/>
                    </a:lnTo>
                    <a:lnTo>
                      <a:pt x="0" y="0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4950000" y="3075120"/>
                <a:ext cx="204480" cy="487080"/>
              </a:xfrm>
              <a:custGeom>
                <a:avLst/>
                <a:gdLst/>
                <a:ahLst/>
                <a:rect l="l" t="t" r="r" b="b"/>
                <a:pathLst>
                  <a:path w="649" h="1533">
                    <a:moveTo>
                      <a:pt x="649" y="1533"/>
                    </a:moveTo>
                    <a:lnTo>
                      <a:pt x="623" y="1442"/>
                    </a:lnTo>
                    <a:lnTo>
                      <a:pt x="590" y="1332"/>
                    </a:lnTo>
                    <a:lnTo>
                      <a:pt x="555" y="1218"/>
                    </a:lnTo>
                    <a:lnTo>
                      <a:pt x="516" y="1102"/>
                    </a:lnTo>
                    <a:lnTo>
                      <a:pt x="476" y="984"/>
                    </a:lnTo>
                    <a:lnTo>
                      <a:pt x="433" y="866"/>
                    </a:lnTo>
                    <a:lnTo>
                      <a:pt x="386" y="746"/>
                    </a:lnTo>
                    <a:lnTo>
                      <a:pt x="338" y="626"/>
                    </a:lnTo>
                    <a:lnTo>
                      <a:pt x="315" y="567"/>
                    </a:lnTo>
                    <a:lnTo>
                      <a:pt x="288" y="507"/>
                    </a:lnTo>
                    <a:lnTo>
                      <a:pt x="263" y="448"/>
                    </a:lnTo>
                    <a:lnTo>
                      <a:pt x="237" y="390"/>
                    </a:lnTo>
                    <a:lnTo>
                      <a:pt x="210" y="332"/>
                    </a:lnTo>
                    <a:lnTo>
                      <a:pt x="182" y="274"/>
                    </a:lnTo>
                    <a:lnTo>
                      <a:pt x="155" y="218"/>
                    </a:lnTo>
                    <a:lnTo>
                      <a:pt x="126" y="161"/>
                    </a:lnTo>
                    <a:lnTo>
                      <a:pt x="98" y="106"/>
                    </a:lnTo>
                    <a:lnTo>
                      <a:pt x="68" y="51"/>
                    </a:lnTo>
                    <a:lnTo>
                      <a:pt x="40" y="0"/>
                    </a:lnTo>
                    <a:lnTo>
                      <a:pt x="0" y="0"/>
                    </a:lnTo>
                    <a:lnTo>
                      <a:pt x="18" y="33"/>
                    </a:lnTo>
                    <a:lnTo>
                      <a:pt x="47" y="88"/>
                    </a:lnTo>
                    <a:lnTo>
                      <a:pt x="74" y="144"/>
                    </a:lnTo>
                    <a:lnTo>
                      <a:pt x="101" y="199"/>
                    </a:lnTo>
                    <a:lnTo>
                      <a:pt x="129" y="258"/>
                    </a:lnTo>
                    <a:lnTo>
                      <a:pt x="156" y="315"/>
                    </a:lnTo>
                    <a:lnTo>
                      <a:pt x="182" y="373"/>
                    </a:lnTo>
                    <a:lnTo>
                      <a:pt x="207" y="432"/>
                    </a:lnTo>
                    <a:lnTo>
                      <a:pt x="232" y="490"/>
                    </a:lnTo>
                    <a:lnTo>
                      <a:pt x="258" y="550"/>
                    </a:lnTo>
                    <a:lnTo>
                      <a:pt x="305" y="669"/>
                    </a:lnTo>
                    <a:lnTo>
                      <a:pt x="351" y="789"/>
                    </a:lnTo>
                    <a:lnTo>
                      <a:pt x="394" y="908"/>
                    </a:lnTo>
                    <a:lnTo>
                      <a:pt x="435" y="1025"/>
                    </a:lnTo>
                    <a:lnTo>
                      <a:pt x="473" y="1141"/>
                    </a:lnTo>
                    <a:lnTo>
                      <a:pt x="508" y="1255"/>
                    </a:lnTo>
                    <a:lnTo>
                      <a:pt x="541" y="1364"/>
                    </a:lnTo>
                    <a:lnTo>
                      <a:pt x="571" y="1470"/>
                    </a:lnTo>
                    <a:lnTo>
                      <a:pt x="587" y="1532"/>
                    </a:lnTo>
                    <a:lnTo>
                      <a:pt x="595" y="1532"/>
                    </a:lnTo>
                    <a:lnTo>
                      <a:pt x="602" y="1533"/>
                    </a:lnTo>
                    <a:lnTo>
                      <a:pt x="610" y="1533"/>
                    </a:lnTo>
                    <a:lnTo>
                      <a:pt x="618" y="1533"/>
                    </a:lnTo>
                    <a:lnTo>
                      <a:pt x="626" y="1533"/>
                    </a:lnTo>
                    <a:lnTo>
                      <a:pt x="633" y="1533"/>
                    </a:lnTo>
                    <a:lnTo>
                      <a:pt x="641" y="1533"/>
                    </a:lnTo>
                    <a:lnTo>
                      <a:pt x="649" y="153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4915080" y="3075120"/>
                <a:ext cx="196560" cy="485640"/>
              </a:xfrm>
              <a:custGeom>
                <a:avLst/>
                <a:gdLst/>
                <a:ahLst/>
                <a:rect l="l" t="t" r="r" b="b"/>
                <a:pathLst>
                  <a:path w="620" h="1530">
                    <a:moveTo>
                      <a:pt x="0" y="0"/>
                    </a:moveTo>
                    <a:lnTo>
                      <a:pt x="20" y="50"/>
                    </a:lnTo>
                    <a:lnTo>
                      <a:pt x="68" y="169"/>
                    </a:lnTo>
                    <a:lnTo>
                      <a:pt x="117" y="292"/>
                    </a:lnTo>
                    <a:lnTo>
                      <a:pt x="167" y="420"/>
                    </a:lnTo>
                    <a:lnTo>
                      <a:pt x="216" y="550"/>
                    </a:lnTo>
                    <a:lnTo>
                      <a:pt x="265" y="682"/>
                    </a:lnTo>
                    <a:lnTo>
                      <a:pt x="314" y="814"/>
                    </a:lnTo>
                    <a:lnTo>
                      <a:pt x="362" y="947"/>
                    </a:lnTo>
                    <a:lnTo>
                      <a:pt x="409" y="1078"/>
                    </a:lnTo>
                    <a:lnTo>
                      <a:pt x="454" y="1208"/>
                    </a:lnTo>
                    <a:lnTo>
                      <a:pt x="498" y="1333"/>
                    </a:lnTo>
                    <a:lnTo>
                      <a:pt x="564" y="1527"/>
                    </a:lnTo>
                    <a:lnTo>
                      <a:pt x="571" y="1529"/>
                    </a:lnTo>
                    <a:lnTo>
                      <a:pt x="578" y="1529"/>
                    </a:lnTo>
                    <a:lnTo>
                      <a:pt x="586" y="1529"/>
                    </a:lnTo>
                    <a:lnTo>
                      <a:pt x="592" y="1529"/>
                    </a:lnTo>
                    <a:lnTo>
                      <a:pt x="599" y="1530"/>
                    </a:lnTo>
                    <a:lnTo>
                      <a:pt x="606" y="1530"/>
                    </a:lnTo>
                    <a:lnTo>
                      <a:pt x="613" y="1530"/>
                    </a:lnTo>
                    <a:lnTo>
                      <a:pt x="620" y="1530"/>
                    </a:lnTo>
                    <a:lnTo>
                      <a:pt x="580" y="1410"/>
                    </a:lnTo>
                    <a:lnTo>
                      <a:pt x="537" y="1284"/>
                    </a:lnTo>
                    <a:lnTo>
                      <a:pt x="491" y="1156"/>
                    </a:lnTo>
                    <a:lnTo>
                      <a:pt x="444" y="1024"/>
                    </a:lnTo>
                    <a:lnTo>
                      <a:pt x="396" y="891"/>
                    </a:lnTo>
                    <a:lnTo>
                      <a:pt x="347" y="758"/>
                    </a:lnTo>
                    <a:lnTo>
                      <a:pt x="297" y="626"/>
                    </a:lnTo>
                    <a:lnTo>
                      <a:pt x="248" y="496"/>
                    </a:lnTo>
                    <a:lnTo>
                      <a:pt x="199" y="368"/>
                    </a:lnTo>
                    <a:lnTo>
                      <a:pt x="150" y="245"/>
                    </a:lnTo>
                    <a:lnTo>
                      <a:pt x="102" y="126"/>
                    </a:lnTo>
                    <a:lnTo>
                      <a:pt x="54" y="13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5030640" y="3075120"/>
                <a:ext cx="216000" cy="487080"/>
              </a:xfrm>
              <a:custGeom>
                <a:avLst/>
                <a:gdLst/>
                <a:ahLst/>
                <a:rect l="l" t="t" r="r" b="b"/>
                <a:pathLst>
                  <a:path w="679" h="1534">
                    <a:moveTo>
                      <a:pt x="119" y="0"/>
                    </a:moveTo>
                    <a:lnTo>
                      <a:pt x="166" y="94"/>
                    </a:lnTo>
                    <a:lnTo>
                      <a:pt x="213" y="191"/>
                    </a:lnTo>
                    <a:lnTo>
                      <a:pt x="257" y="291"/>
                    </a:lnTo>
                    <a:lnTo>
                      <a:pt x="299" y="390"/>
                    </a:lnTo>
                    <a:lnTo>
                      <a:pt x="342" y="490"/>
                    </a:lnTo>
                    <a:lnTo>
                      <a:pt x="382" y="591"/>
                    </a:lnTo>
                    <a:lnTo>
                      <a:pt x="419" y="692"/>
                    </a:lnTo>
                    <a:lnTo>
                      <a:pt x="456" y="793"/>
                    </a:lnTo>
                    <a:lnTo>
                      <a:pt x="491" y="892"/>
                    </a:lnTo>
                    <a:lnTo>
                      <a:pt x="524" y="990"/>
                    </a:lnTo>
                    <a:lnTo>
                      <a:pt x="555" y="1087"/>
                    </a:lnTo>
                    <a:lnTo>
                      <a:pt x="583" y="1182"/>
                    </a:lnTo>
                    <a:lnTo>
                      <a:pt x="611" y="1274"/>
                    </a:lnTo>
                    <a:lnTo>
                      <a:pt x="636" y="1364"/>
                    </a:lnTo>
                    <a:lnTo>
                      <a:pt x="659" y="1450"/>
                    </a:lnTo>
                    <a:lnTo>
                      <a:pt x="679" y="1533"/>
                    </a:lnTo>
                    <a:lnTo>
                      <a:pt x="664" y="1533"/>
                    </a:lnTo>
                    <a:lnTo>
                      <a:pt x="648" y="1533"/>
                    </a:lnTo>
                    <a:lnTo>
                      <a:pt x="634" y="1533"/>
                    </a:lnTo>
                    <a:lnTo>
                      <a:pt x="619" y="1534"/>
                    </a:lnTo>
                    <a:lnTo>
                      <a:pt x="604" y="1534"/>
                    </a:lnTo>
                    <a:lnTo>
                      <a:pt x="589" y="1534"/>
                    </a:lnTo>
                    <a:lnTo>
                      <a:pt x="573" y="1534"/>
                    </a:lnTo>
                    <a:lnTo>
                      <a:pt x="558" y="1534"/>
                    </a:lnTo>
                    <a:lnTo>
                      <a:pt x="500" y="1362"/>
                    </a:lnTo>
                    <a:lnTo>
                      <a:pt x="437" y="1176"/>
                    </a:lnTo>
                    <a:lnTo>
                      <a:pt x="369" y="982"/>
                    </a:lnTo>
                    <a:lnTo>
                      <a:pt x="297" y="781"/>
                    </a:lnTo>
                    <a:lnTo>
                      <a:pt x="223" y="579"/>
                    </a:lnTo>
                    <a:lnTo>
                      <a:pt x="149" y="380"/>
                    </a:lnTo>
                    <a:lnTo>
                      <a:pt x="74" y="186"/>
                    </a:lnTo>
                    <a:lnTo>
                      <a:pt x="0" y="0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5062680" y="3075120"/>
                <a:ext cx="193680" cy="487080"/>
              </a:xfrm>
              <a:custGeom>
                <a:avLst/>
                <a:gdLst/>
                <a:ahLst/>
                <a:rect l="l" t="t" r="r" b="b"/>
                <a:pathLst>
                  <a:path w="612" h="1533">
                    <a:moveTo>
                      <a:pt x="612" y="1532"/>
                    </a:moveTo>
                    <a:lnTo>
                      <a:pt x="606" y="1510"/>
                    </a:lnTo>
                    <a:lnTo>
                      <a:pt x="580" y="1409"/>
                    </a:lnTo>
                    <a:lnTo>
                      <a:pt x="550" y="1303"/>
                    </a:lnTo>
                    <a:lnTo>
                      <a:pt x="518" y="1192"/>
                    </a:lnTo>
                    <a:lnTo>
                      <a:pt x="483" y="1078"/>
                    </a:lnTo>
                    <a:lnTo>
                      <a:pt x="444" y="963"/>
                    </a:lnTo>
                    <a:lnTo>
                      <a:pt x="403" y="844"/>
                    </a:lnTo>
                    <a:lnTo>
                      <a:pt x="360" y="725"/>
                    </a:lnTo>
                    <a:lnTo>
                      <a:pt x="314" y="606"/>
                    </a:lnTo>
                    <a:lnTo>
                      <a:pt x="266" y="486"/>
                    </a:lnTo>
                    <a:lnTo>
                      <a:pt x="241" y="426"/>
                    </a:lnTo>
                    <a:lnTo>
                      <a:pt x="216" y="367"/>
                    </a:lnTo>
                    <a:lnTo>
                      <a:pt x="190" y="308"/>
                    </a:lnTo>
                    <a:lnTo>
                      <a:pt x="164" y="250"/>
                    </a:lnTo>
                    <a:lnTo>
                      <a:pt x="138" y="191"/>
                    </a:lnTo>
                    <a:lnTo>
                      <a:pt x="110" y="134"/>
                    </a:lnTo>
                    <a:lnTo>
                      <a:pt x="82" y="77"/>
                    </a:lnTo>
                    <a:lnTo>
                      <a:pt x="53" y="21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9" y="60"/>
                    </a:lnTo>
                    <a:lnTo>
                      <a:pt x="57" y="117"/>
                    </a:lnTo>
                    <a:lnTo>
                      <a:pt x="83" y="174"/>
                    </a:lnTo>
                    <a:lnTo>
                      <a:pt x="109" y="233"/>
                    </a:lnTo>
                    <a:lnTo>
                      <a:pt x="135" y="292"/>
                    </a:lnTo>
                    <a:lnTo>
                      <a:pt x="160" y="351"/>
                    </a:lnTo>
                    <a:lnTo>
                      <a:pt x="186" y="411"/>
                    </a:lnTo>
                    <a:lnTo>
                      <a:pt x="233" y="529"/>
                    </a:lnTo>
                    <a:lnTo>
                      <a:pt x="279" y="649"/>
                    </a:lnTo>
                    <a:lnTo>
                      <a:pt x="322" y="768"/>
                    </a:lnTo>
                    <a:lnTo>
                      <a:pt x="362" y="885"/>
                    </a:lnTo>
                    <a:lnTo>
                      <a:pt x="401" y="1001"/>
                    </a:lnTo>
                    <a:lnTo>
                      <a:pt x="436" y="1114"/>
                    </a:lnTo>
                    <a:lnTo>
                      <a:pt x="468" y="1224"/>
                    </a:lnTo>
                    <a:lnTo>
                      <a:pt x="498" y="1330"/>
                    </a:lnTo>
                    <a:lnTo>
                      <a:pt x="525" y="1432"/>
                    </a:lnTo>
                    <a:lnTo>
                      <a:pt x="548" y="1529"/>
                    </a:lnTo>
                    <a:lnTo>
                      <a:pt x="549" y="1533"/>
                    </a:lnTo>
                    <a:lnTo>
                      <a:pt x="557" y="1533"/>
                    </a:lnTo>
                    <a:lnTo>
                      <a:pt x="565" y="1533"/>
                    </a:lnTo>
                    <a:lnTo>
                      <a:pt x="573" y="1533"/>
                    </a:lnTo>
                    <a:lnTo>
                      <a:pt x="581" y="1533"/>
                    </a:lnTo>
                    <a:lnTo>
                      <a:pt x="588" y="1533"/>
                    </a:lnTo>
                    <a:lnTo>
                      <a:pt x="596" y="1532"/>
                    </a:lnTo>
                    <a:lnTo>
                      <a:pt x="604" y="1532"/>
                    </a:lnTo>
                    <a:lnTo>
                      <a:pt x="612" y="153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5022720" y="3075120"/>
                <a:ext cx="195480" cy="487080"/>
              </a:xfrm>
              <a:custGeom>
                <a:avLst/>
                <a:gdLst/>
                <a:ahLst/>
                <a:rect l="l" t="t" r="r" b="b"/>
                <a:pathLst>
                  <a:path w="612" h="1534">
                    <a:moveTo>
                      <a:pt x="0" y="0"/>
                    </a:moveTo>
                    <a:lnTo>
                      <a:pt x="11" y="28"/>
                    </a:lnTo>
                    <a:lnTo>
                      <a:pt x="60" y="152"/>
                    </a:lnTo>
                    <a:lnTo>
                      <a:pt x="109" y="279"/>
                    </a:lnTo>
                    <a:lnTo>
                      <a:pt x="159" y="409"/>
                    </a:lnTo>
                    <a:lnTo>
                      <a:pt x="208" y="542"/>
                    </a:lnTo>
                    <a:lnTo>
                      <a:pt x="257" y="674"/>
                    </a:lnTo>
                    <a:lnTo>
                      <a:pt x="305" y="808"/>
                    </a:lnTo>
                    <a:lnTo>
                      <a:pt x="352" y="939"/>
                    </a:lnTo>
                    <a:lnTo>
                      <a:pt x="397" y="1068"/>
                    </a:lnTo>
                    <a:lnTo>
                      <a:pt x="441" y="1193"/>
                    </a:lnTo>
                    <a:lnTo>
                      <a:pt x="521" y="1430"/>
                    </a:lnTo>
                    <a:lnTo>
                      <a:pt x="555" y="1534"/>
                    </a:lnTo>
                    <a:lnTo>
                      <a:pt x="563" y="1534"/>
                    </a:lnTo>
                    <a:lnTo>
                      <a:pt x="570" y="1534"/>
                    </a:lnTo>
                    <a:lnTo>
                      <a:pt x="576" y="1534"/>
                    </a:lnTo>
                    <a:lnTo>
                      <a:pt x="583" y="1534"/>
                    </a:lnTo>
                    <a:lnTo>
                      <a:pt x="590" y="1534"/>
                    </a:lnTo>
                    <a:lnTo>
                      <a:pt x="597" y="1534"/>
                    </a:lnTo>
                    <a:lnTo>
                      <a:pt x="604" y="1534"/>
                    </a:lnTo>
                    <a:lnTo>
                      <a:pt x="612" y="1534"/>
                    </a:lnTo>
                    <a:lnTo>
                      <a:pt x="603" y="1508"/>
                    </a:lnTo>
                    <a:lnTo>
                      <a:pt x="522" y="1271"/>
                    </a:lnTo>
                    <a:lnTo>
                      <a:pt x="478" y="1144"/>
                    </a:lnTo>
                    <a:lnTo>
                      <a:pt x="433" y="1015"/>
                    </a:lnTo>
                    <a:lnTo>
                      <a:pt x="386" y="884"/>
                    </a:lnTo>
                    <a:lnTo>
                      <a:pt x="338" y="752"/>
                    </a:lnTo>
                    <a:lnTo>
                      <a:pt x="289" y="618"/>
                    </a:lnTo>
                    <a:lnTo>
                      <a:pt x="240" y="486"/>
                    </a:lnTo>
                    <a:lnTo>
                      <a:pt x="191" y="356"/>
                    </a:lnTo>
                    <a:lnTo>
                      <a:pt x="141" y="228"/>
                    </a:lnTo>
                    <a:lnTo>
                      <a:pt x="92" y="105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5140440" y="3075120"/>
                <a:ext cx="195120" cy="485640"/>
              </a:xfrm>
              <a:custGeom>
                <a:avLst/>
                <a:gdLst/>
                <a:ahLst/>
                <a:rect l="l" t="t" r="r" b="b"/>
                <a:pathLst>
                  <a:path w="615" h="1530">
                    <a:moveTo>
                      <a:pt x="67" y="0"/>
                    </a:moveTo>
                    <a:lnTo>
                      <a:pt x="110" y="84"/>
                    </a:lnTo>
                    <a:lnTo>
                      <a:pt x="154" y="172"/>
                    </a:lnTo>
                    <a:lnTo>
                      <a:pt x="195" y="262"/>
                    </a:lnTo>
                    <a:lnTo>
                      <a:pt x="236" y="355"/>
                    </a:lnTo>
                    <a:lnTo>
                      <a:pt x="275" y="449"/>
                    </a:lnTo>
                    <a:lnTo>
                      <a:pt x="312" y="545"/>
                    </a:lnTo>
                    <a:lnTo>
                      <a:pt x="349" y="643"/>
                    </a:lnTo>
                    <a:lnTo>
                      <a:pt x="384" y="741"/>
                    </a:lnTo>
                    <a:lnTo>
                      <a:pt x="418" y="841"/>
                    </a:lnTo>
                    <a:lnTo>
                      <a:pt x="451" y="940"/>
                    </a:lnTo>
                    <a:lnTo>
                      <a:pt x="482" y="1039"/>
                    </a:lnTo>
                    <a:lnTo>
                      <a:pt x="512" y="1138"/>
                    </a:lnTo>
                    <a:lnTo>
                      <a:pt x="540" y="1237"/>
                    </a:lnTo>
                    <a:lnTo>
                      <a:pt x="566" y="1333"/>
                    </a:lnTo>
                    <a:lnTo>
                      <a:pt x="591" y="1429"/>
                    </a:lnTo>
                    <a:lnTo>
                      <a:pt x="615" y="1524"/>
                    </a:lnTo>
                    <a:lnTo>
                      <a:pt x="597" y="1525"/>
                    </a:lnTo>
                    <a:lnTo>
                      <a:pt x="580" y="1525"/>
                    </a:lnTo>
                    <a:lnTo>
                      <a:pt x="563" y="1526"/>
                    </a:lnTo>
                    <a:lnTo>
                      <a:pt x="546" y="1526"/>
                    </a:lnTo>
                    <a:lnTo>
                      <a:pt x="528" y="1527"/>
                    </a:lnTo>
                    <a:lnTo>
                      <a:pt x="511" y="1529"/>
                    </a:lnTo>
                    <a:lnTo>
                      <a:pt x="492" y="1529"/>
                    </a:lnTo>
                    <a:lnTo>
                      <a:pt x="475" y="1530"/>
                    </a:lnTo>
                    <a:lnTo>
                      <a:pt x="419" y="1330"/>
                    </a:lnTo>
                    <a:lnTo>
                      <a:pt x="361" y="1127"/>
                    </a:lnTo>
                    <a:lnTo>
                      <a:pt x="301" y="922"/>
                    </a:lnTo>
                    <a:lnTo>
                      <a:pt x="239" y="719"/>
                    </a:lnTo>
                    <a:lnTo>
                      <a:pt x="178" y="522"/>
                    </a:lnTo>
                    <a:lnTo>
                      <a:pt x="116" y="334"/>
                    </a:lnTo>
                    <a:lnTo>
                      <a:pt x="86" y="245"/>
                    </a:lnTo>
                    <a:lnTo>
                      <a:pt x="57" y="160"/>
                    </a:lnTo>
                    <a:lnTo>
                      <a:pt x="28" y="77"/>
                    </a:lnTo>
                    <a:lnTo>
                      <a:pt x="0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5154480" y="3075120"/>
                <a:ext cx="190800" cy="484200"/>
              </a:xfrm>
              <a:custGeom>
                <a:avLst/>
                <a:gdLst/>
                <a:ahLst/>
                <a:rect l="l" t="t" r="r" b="b"/>
                <a:pathLst>
                  <a:path w="599" h="1525">
                    <a:moveTo>
                      <a:pt x="599" y="1523"/>
                    </a:moveTo>
                    <a:lnTo>
                      <a:pt x="593" y="1498"/>
                    </a:lnTo>
                    <a:lnTo>
                      <a:pt x="562" y="1377"/>
                    </a:lnTo>
                    <a:lnTo>
                      <a:pt x="529" y="1255"/>
                    </a:lnTo>
                    <a:lnTo>
                      <a:pt x="492" y="1130"/>
                    </a:lnTo>
                    <a:lnTo>
                      <a:pt x="453" y="1005"/>
                    </a:lnTo>
                    <a:lnTo>
                      <a:pt x="412" y="879"/>
                    </a:lnTo>
                    <a:lnTo>
                      <a:pt x="392" y="817"/>
                    </a:lnTo>
                    <a:lnTo>
                      <a:pt x="369" y="755"/>
                    </a:lnTo>
                    <a:lnTo>
                      <a:pt x="347" y="692"/>
                    </a:lnTo>
                    <a:lnTo>
                      <a:pt x="324" y="631"/>
                    </a:lnTo>
                    <a:lnTo>
                      <a:pt x="301" y="570"/>
                    </a:lnTo>
                    <a:lnTo>
                      <a:pt x="277" y="509"/>
                    </a:lnTo>
                    <a:lnTo>
                      <a:pt x="253" y="449"/>
                    </a:lnTo>
                    <a:lnTo>
                      <a:pt x="228" y="390"/>
                    </a:lnTo>
                    <a:lnTo>
                      <a:pt x="202" y="331"/>
                    </a:lnTo>
                    <a:lnTo>
                      <a:pt x="176" y="274"/>
                    </a:lnTo>
                    <a:lnTo>
                      <a:pt x="150" y="217"/>
                    </a:lnTo>
                    <a:lnTo>
                      <a:pt x="124" y="161"/>
                    </a:lnTo>
                    <a:lnTo>
                      <a:pt x="96" y="106"/>
                    </a:lnTo>
                    <a:lnTo>
                      <a:pt x="69" y="52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17" y="33"/>
                    </a:lnTo>
                    <a:lnTo>
                      <a:pt x="43" y="86"/>
                    </a:lnTo>
                    <a:lnTo>
                      <a:pt x="70" y="142"/>
                    </a:lnTo>
                    <a:lnTo>
                      <a:pt x="96" y="198"/>
                    </a:lnTo>
                    <a:lnTo>
                      <a:pt x="122" y="255"/>
                    </a:lnTo>
                    <a:lnTo>
                      <a:pt x="147" y="314"/>
                    </a:lnTo>
                    <a:lnTo>
                      <a:pt x="172" y="373"/>
                    </a:lnTo>
                    <a:lnTo>
                      <a:pt x="196" y="433"/>
                    </a:lnTo>
                    <a:lnTo>
                      <a:pt x="220" y="494"/>
                    </a:lnTo>
                    <a:lnTo>
                      <a:pt x="242" y="554"/>
                    </a:lnTo>
                    <a:lnTo>
                      <a:pt x="265" y="616"/>
                    </a:lnTo>
                    <a:lnTo>
                      <a:pt x="288" y="677"/>
                    </a:lnTo>
                    <a:lnTo>
                      <a:pt x="310" y="740"/>
                    </a:lnTo>
                    <a:lnTo>
                      <a:pt x="330" y="802"/>
                    </a:lnTo>
                    <a:lnTo>
                      <a:pt x="371" y="927"/>
                    </a:lnTo>
                    <a:lnTo>
                      <a:pt x="410" y="1053"/>
                    </a:lnTo>
                    <a:lnTo>
                      <a:pt x="446" y="1176"/>
                    </a:lnTo>
                    <a:lnTo>
                      <a:pt x="479" y="1299"/>
                    </a:lnTo>
                    <a:lnTo>
                      <a:pt x="511" y="1419"/>
                    </a:lnTo>
                    <a:lnTo>
                      <a:pt x="536" y="1525"/>
                    </a:lnTo>
                    <a:lnTo>
                      <a:pt x="544" y="1525"/>
                    </a:lnTo>
                    <a:lnTo>
                      <a:pt x="552" y="1525"/>
                    </a:lnTo>
                    <a:lnTo>
                      <a:pt x="560" y="1524"/>
                    </a:lnTo>
                    <a:lnTo>
                      <a:pt x="568" y="1524"/>
                    </a:lnTo>
                    <a:lnTo>
                      <a:pt x="575" y="1524"/>
                    </a:lnTo>
                    <a:lnTo>
                      <a:pt x="583" y="1523"/>
                    </a:lnTo>
                    <a:lnTo>
                      <a:pt x="591" y="1523"/>
                    </a:lnTo>
                    <a:lnTo>
                      <a:pt x="599" y="152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5130720" y="3075120"/>
                <a:ext cx="169920" cy="485640"/>
              </a:xfrm>
              <a:custGeom>
                <a:avLst/>
                <a:gdLst/>
                <a:ahLst/>
                <a:rect l="l" t="t" r="r" b="b"/>
                <a:pathLst>
                  <a:path w="533" h="1530">
                    <a:moveTo>
                      <a:pt x="0" y="0"/>
                    </a:moveTo>
                    <a:lnTo>
                      <a:pt x="12" y="29"/>
                    </a:lnTo>
                    <a:lnTo>
                      <a:pt x="51" y="140"/>
                    </a:lnTo>
                    <a:lnTo>
                      <a:pt x="92" y="259"/>
                    </a:lnTo>
                    <a:lnTo>
                      <a:pt x="133" y="382"/>
                    </a:lnTo>
                    <a:lnTo>
                      <a:pt x="174" y="512"/>
                    </a:lnTo>
                    <a:lnTo>
                      <a:pt x="216" y="646"/>
                    </a:lnTo>
                    <a:lnTo>
                      <a:pt x="257" y="781"/>
                    </a:lnTo>
                    <a:lnTo>
                      <a:pt x="299" y="919"/>
                    </a:lnTo>
                    <a:lnTo>
                      <a:pt x="339" y="1059"/>
                    </a:lnTo>
                    <a:lnTo>
                      <a:pt x="380" y="1197"/>
                    </a:lnTo>
                    <a:lnTo>
                      <a:pt x="419" y="1333"/>
                    </a:lnTo>
                    <a:lnTo>
                      <a:pt x="456" y="1468"/>
                    </a:lnTo>
                    <a:lnTo>
                      <a:pt x="474" y="1530"/>
                    </a:lnTo>
                    <a:lnTo>
                      <a:pt x="480" y="1530"/>
                    </a:lnTo>
                    <a:lnTo>
                      <a:pt x="488" y="1530"/>
                    </a:lnTo>
                    <a:lnTo>
                      <a:pt x="496" y="1530"/>
                    </a:lnTo>
                    <a:lnTo>
                      <a:pt x="503" y="1530"/>
                    </a:lnTo>
                    <a:lnTo>
                      <a:pt x="511" y="1529"/>
                    </a:lnTo>
                    <a:lnTo>
                      <a:pt x="518" y="1529"/>
                    </a:lnTo>
                    <a:lnTo>
                      <a:pt x="526" y="1529"/>
                    </a:lnTo>
                    <a:lnTo>
                      <a:pt x="533" y="1529"/>
                    </a:lnTo>
                    <a:lnTo>
                      <a:pt x="501" y="1411"/>
                    </a:lnTo>
                    <a:lnTo>
                      <a:pt x="461" y="1274"/>
                    </a:lnTo>
                    <a:lnTo>
                      <a:pt x="421" y="1136"/>
                    </a:lnTo>
                    <a:lnTo>
                      <a:pt x="380" y="997"/>
                    </a:lnTo>
                    <a:lnTo>
                      <a:pt x="339" y="859"/>
                    </a:lnTo>
                    <a:lnTo>
                      <a:pt x="297" y="723"/>
                    </a:lnTo>
                    <a:lnTo>
                      <a:pt x="256" y="590"/>
                    </a:lnTo>
                    <a:lnTo>
                      <a:pt x="214" y="460"/>
                    </a:lnTo>
                    <a:lnTo>
                      <a:pt x="173" y="335"/>
                    </a:lnTo>
                    <a:lnTo>
                      <a:pt x="133" y="218"/>
                    </a:lnTo>
                    <a:lnTo>
                      <a:pt x="94" y="106"/>
                    </a:lnTo>
                    <a:lnTo>
                      <a:pt x="55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5245200" y="3075120"/>
                <a:ext cx="190440" cy="480960"/>
              </a:xfrm>
              <a:custGeom>
                <a:avLst/>
                <a:gdLst/>
                <a:ahLst/>
                <a:rect l="l" t="t" r="r" b="b"/>
                <a:pathLst>
                  <a:path w="600" h="1515">
                    <a:moveTo>
                      <a:pt x="84" y="0"/>
                    </a:moveTo>
                    <a:lnTo>
                      <a:pt x="125" y="86"/>
                    </a:lnTo>
                    <a:lnTo>
                      <a:pt x="166" y="175"/>
                    </a:lnTo>
                    <a:lnTo>
                      <a:pt x="206" y="267"/>
                    </a:lnTo>
                    <a:lnTo>
                      <a:pt x="243" y="360"/>
                    </a:lnTo>
                    <a:lnTo>
                      <a:pt x="281" y="455"/>
                    </a:lnTo>
                    <a:lnTo>
                      <a:pt x="316" y="551"/>
                    </a:lnTo>
                    <a:lnTo>
                      <a:pt x="352" y="648"/>
                    </a:lnTo>
                    <a:lnTo>
                      <a:pt x="385" y="745"/>
                    </a:lnTo>
                    <a:lnTo>
                      <a:pt x="417" y="843"/>
                    </a:lnTo>
                    <a:lnTo>
                      <a:pt x="447" y="940"/>
                    </a:lnTo>
                    <a:lnTo>
                      <a:pt x="476" y="1038"/>
                    </a:lnTo>
                    <a:lnTo>
                      <a:pt x="504" y="1134"/>
                    </a:lnTo>
                    <a:lnTo>
                      <a:pt x="531" y="1230"/>
                    </a:lnTo>
                    <a:lnTo>
                      <a:pt x="554" y="1324"/>
                    </a:lnTo>
                    <a:lnTo>
                      <a:pt x="578" y="1417"/>
                    </a:lnTo>
                    <a:lnTo>
                      <a:pt x="600" y="1507"/>
                    </a:lnTo>
                    <a:lnTo>
                      <a:pt x="583" y="1508"/>
                    </a:lnTo>
                    <a:lnTo>
                      <a:pt x="566" y="1509"/>
                    </a:lnTo>
                    <a:lnTo>
                      <a:pt x="549" y="1510"/>
                    </a:lnTo>
                    <a:lnTo>
                      <a:pt x="532" y="1511"/>
                    </a:lnTo>
                    <a:lnTo>
                      <a:pt x="515" y="1513"/>
                    </a:lnTo>
                    <a:lnTo>
                      <a:pt x="497" y="1514"/>
                    </a:lnTo>
                    <a:lnTo>
                      <a:pt x="480" y="1514"/>
                    </a:lnTo>
                    <a:lnTo>
                      <a:pt x="463" y="1515"/>
                    </a:lnTo>
                    <a:lnTo>
                      <a:pt x="411" y="1324"/>
                    </a:lnTo>
                    <a:lnTo>
                      <a:pt x="355" y="1128"/>
                    </a:lnTo>
                    <a:lnTo>
                      <a:pt x="297" y="928"/>
                    </a:lnTo>
                    <a:lnTo>
                      <a:pt x="238" y="729"/>
                    </a:lnTo>
                    <a:lnTo>
                      <a:pt x="177" y="533"/>
                    </a:lnTo>
                    <a:lnTo>
                      <a:pt x="118" y="344"/>
                    </a:lnTo>
                    <a:lnTo>
                      <a:pt x="87" y="253"/>
                    </a:lnTo>
                    <a:lnTo>
                      <a:pt x="59" y="165"/>
                    </a:lnTo>
                    <a:lnTo>
                      <a:pt x="29" y="81"/>
                    </a:lnTo>
                    <a:lnTo>
                      <a:pt x="0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5264280" y="3075120"/>
                <a:ext cx="180720" cy="479160"/>
              </a:xfrm>
              <a:custGeom>
                <a:avLst/>
                <a:gdLst/>
                <a:ahLst/>
                <a:rect l="l" t="t" r="r" b="b"/>
                <a:pathLst>
                  <a:path w="569" h="1509">
                    <a:moveTo>
                      <a:pt x="569" y="1506"/>
                    </a:moveTo>
                    <a:lnTo>
                      <a:pt x="543" y="1396"/>
                    </a:lnTo>
                    <a:lnTo>
                      <a:pt x="511" y="1275"/>
                    </a:lnTo>
                    <a:lnTo>
                      <a:pt x="478" y="1153"/>
                    </a:lnTo>
                    <a:lnTo>
                      <a:pt x="441" y="1029"/>
                    </a:lnTo>
                    <a:lnTo>
                      <a:pt x="402" y="903"/>
                    </a:lnTo>
                    <a:lnTo>
                      <a:pt x="361" y="778"/>
                    </a:lnTo>
                    <a:lnTo>
                      <a:pt x="341" y="715"/>
                    </a:lnTo>
                    <a:lnTo>
                      <a:pt x="319" y="654"/>
                    </a:lnTo>
                    <a:lnTo>
                      <a:pt x="296" y="591"/>
                    </a:lnTo>
                    <a:lnTo>
                      <a:pt x="274" y="529"/>
                    </a:lnTo>
                    <a:lnTo>
                      <a:pt x="251" y="469"/>
                    </a:lnTo>
                    <a:lnTo>
                      <a:pt x="227" y="407"/>
                    </a:lnTo>
                    <a:lnTo>
                      <a:pt x="202" y="348"/>
                    </a:lnTo>
                    <a:lnTo>
                      <a:pt x="177" y="288"/>
                    </a:lnTo>
                    <a:lnTo>
                      <a:pt x="152" y="229"/>
                    </a:lnTo>
                    <a:lnTo>
                      <a:pt x="125" y="172"/>
                    </a:lnTo>
                    <a:lnTo>
                      <a:pt x="99" y="115"/>
                    </a:lnTo>
                    <a:lnTo>
                      <a:pt x="73" y="59"/>
                    </a:lnTo>
                    <a:lnTo>
                      <a:pt x="46" y="4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19" y="41"/>
                    </a:lnTo>
                    <a:lnTo>
                      <a:pt x="46" y="97"/>
                    </a:lnTo>
                    <a:lnTo>
                      <a:pt x="71" y="154"/>
                    </a:lnTo>
                    <a:lnTo>
                      <a:pt x="96" y="212"/>
                    </a:lnTo>
                    <a:lnTo>
                      <a:pt x="121" y="271"/>
                    </a:lnTo>
                    <a:lnTo>
                      <a:pt x="145" y="332"/>
                    </a:lnTo>
                    <a:lnTo>
                      <a:pt x="169" y="392"/>
                    </a:lnTo>
                    <a:lnTo>
                      <a:pt x="191" y="453"/>
                    </a:lnTo>
                    <a:lnTo>
                      <a:pt x="214" y="514"/>
                    </a:lnTo>
                    <a:lnTo>
                      <a:pt x="237" y="576"/>
                    </a:lnTo>
                    <a:lnTo>
                      <a:pt x="259" y="639"/>
                    </a:lnTo>
                    <a:lnTo>
                      <a:pt x="280" y="700"/>
                    </a:lnTo>
                    <a:lnTo>
                      <a:pt x="320" y="826"/>
                    </a:lnTo>
                    <a:lnTo>
                      <a:pt x="359" y="951"/>
                    </a:lnTo>
                    <a:lnTo>
                      <a:pt x="396" y="1074"/>
                    </a:lnTo>
                    <a:lnTo>
                      <a:pt x="429" y="1198"/>
                    </a:lnTo>
                    <a:lnTo>
                      <a:pt x="461" y="1318"/>
                    </a:lnTo>
                    <a:lnTo>
                      <a:pt x="489" y="1435"/>
                    </a:lnTo>
                    <a:lnTo>
                      <a:pt x="506" y="1509"/>
                    </a:lnTo>
                    <a:lnTo>
                      <a:pt x="514" y="1509"/>
                    </a:lnTo>
                    <a:lnTo>
                      <a:pt x="522" y="1508"/>
                    </a:lnTo>
                    <a:lnTo>
                      <a:pt x="529" y="1508"/>
                    </a:lnTo>
                    <a:lnTo>
                      <a:pt x="537" y="1507"/>
                    </a:lnTo>
                    <a:lnTo>
                      <a:pt x="545" y="1507"/>
                    </a:lnTo>
                    <a:lnTo>
                      <a:pt x="553" y="1506"/>
                    </a:lnTo>
                    <a:lnTo>
                      <a:pt x="561" y="1506"/>
                    </a:lnTo>
                    <a:lnTo>
                      <a:pt x="569" y="150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5237280" y="3075120"/>
                <a:ext cx="164880" cy="480960"/>
              </a:xfrm>
              <a:custGeom>
                <a:avLst/>
                <a:gdLst/>
                <a:ahLst/>
                <a:rect l="l" t="t" r="r" b="b"/>
                <a:pathLst>
                  <a:path w="521" h="1517">
                    <a:moveTo>
                      <a:pt x="0" y="0"/>
                    </a:moveTo>
                    <a:lnTo>
                      <a:pt x="15" y="39"/>
                    </a:lnTo>
                    <a:lnTo>
                      <a:pt x="55" y="157"/>
                    </a:lnTo>
                    <a:lnTo>
                      <a:pt x="96" y="282"/>
                    </a:lnTo>
                    <a:lnTo>
                      <a:pt x="137" y="411"/>
                    </a:lnTo>
                    <a:lnTo>
                      <a:pt x="179" y="544"/>
                    </a:lnTo>
                    <a:lnTo>
                      <a:pt x="220" y="680"/>
                    </a:lnTo>
                    <a:lnTo>
                      <a:pt x="262" y="818"/>
                    </a:lnTo>
                    <a:lnTo>
                      <a:pt x="303" y="957"/>
                    </a:lnTo>
                    <a:lnTo>
                      <a:pt x="343" y="1095"/>
                    </a:lnTo>
                    <a:lnTo>
                      <a:pt x="382" y="1232"/>
                    </a:lnTo>
                    <a:lnTo>
                      <a:pt x="420" y="1367"/>
                    </a:lnTo>
                    <a:lnTo>
                      <a:pt x="456" y="1498"/>
                    </a:lnTo>
                    <a:lnTo>
                      <a:pt x="461" y="1517"/>
                    </a:lnTo>
                    <a:lnTo>
                      <a:pt x="469" y="1516"/>
                    </a:lnTo>
                    <a:lnTo>
                      <a:pt x="475" y="1516"/>
                    </a:lnTo>
                    <a:lnTo>
                      <a:pt x="483" y="1516"/>
                    </a:lnTo>
                    <a:lnTo>
                      <a:pt x="490" y="1515"/>
                    </a:lnTo>
                    <a:lnTo>
                      <a:pt x="498" y="1515"/>
                    </a:lnTo>
                    <a:lnTo>
                      <a:pt x="505" y="1514"/>
                    </a:lnTo>
                    <a:lnTo>
                      <a:pt x="513" y="1514"/>
                    </a:lnTo>
                    <a:lnTo>
                      <a:pt x="521" y="1514"/>
                    </a:lnTo>
                    <a:lnTo>
                      <a:pt x="502" y="1444"/>
                    </a:lnTo>
                    <a:lnTo>
                      <a:pt x="464" y="1311"/>
                    </a:lnTo>
                    <a:lnTo>
                      <a:pt x="425" y="1173"/>
                    </a:lnTo>
                    <a:lnTo>
                      <a:pt x="385" y="1035"/>
                    </a:lnTo>
                    <a:lnTo>
                      <a:pt x="344" y="895"/>
                    </a:lnTo>
                    <a:lnTo>
                      <a:pt x="302" y="757"/>
                    </a:lnTo>
                    <a:lnTo>
                      <a:pt x="261" y="622"/>
                    </a:lnTo>
                    <a:lnTo>
                      <a:pt x="219" y="488"/>
                    </a:lnTo>
                    <a:lnTo>
                      <a:pt x="178" y="359"/>
                    </a:lnTo>
                    <a:lnTo>
                      <a:pt x="136" y="234"/>
                    </a:lnTo>
                    <a:lnTo>
                      <a:pt x="96" y="116"/>
                    </a:lnTo>
                    <a:lnTo>
                      <a:pt x="57" y="4"/>
                    </a:lnTo>
                    <a:lnTo>
                      <a:pt x="5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5349960" y="3075120"/>
                <a:ext cx="183960" cy="474480"/>
              </a:xfrm>
              <a:custGeom>
                <a:avLst/>
                <a:gdLst/>
                <a:ahLst/>
                <a:rect l="l" t="t" r="r" b="b"/>
                <a:pathLst>
                  <a:path w="581" h="1495">
                    <a:moveTo>
                      <a:pt x="97" y="0"/>
                    </a:moveTo>
                    <a:lnTo>
                      <a:pt x="137" y="88"/>
                    </a:lnTo>
                    <a:lnTo>
                      <a:pt x="174" y="178"/>
                    </a:lnTo>
                    <a:lnTo>
                      <a:pt x="212" y="270"/>
                    </a:lnTo>
                    <a:lnTo>
                      <a:pt x="248" y="364"/>
                    </a:lnTo>
                    <a:lnTo>
                      <a:pt x="284" y="458"/>
                    </a:lnTo>
                    <a:lnTo>
                      <a:pt x="318" y="553"/>
                    </a:lnTo>
                    <a:lnTo>
                      <a:pt x="350" y="649"/>
                    </a:lnTo>
                    <a:lnTo>
                      <a:pt x="382" y="745"/>
                    </a:lnTo>
                    <a:lnTo>
                      <a:pt x="411" y="842"/>
                    </a:lnTo>
                    <a:lnTo>
                      <a:pt x="440" y="938"/>
                    </a:lnTo>
                    <a:lnTo>
                      <a:pt x="467" y="1032"/>
                    </a:lnTo>
                    <a:lnTo>
                      <a:pt x="493" y="1126"/>
                    </a:lnTo>
                    <a:lnTo>
                      <a:pt x="517" y="1219"/>
                    </a:lnTo>
                    <a:lnTo>
                      <a:pt x="540" y="1311"/>
                    </a:lnTo>
                    <a:lnTo>
                      <a:pt x="562" y="1400"/>
                    </a:lnTo>
                    <a:lnTo>
                      <a:pt x="581" y="1486"/>
                    </a:lnTo>
                    <a:lnTo>
                      <a:pt x="565" y="1487"/>
                    </a:lnTo>
                    <a:lnTo>
                      <a:pt x="548" y="1489"/>
                    </a:lnTo>
                    <a:lnTo>
                      <a:pt x="532" y="1490"/>
                    </a:lnTo>
                    <a:lnTo>
                      <a:pt x="516" y="1491"/>
                    </a:lnTo>
                    <a:lnTo>
                      <a:pt x="499" y="1492"/>
                    </a:lnTo>
                    <a:lnTo>
                      <a:pt x="483" y="1493"/>
                    </a:lnTo>
                    <a:lnTo>
                      <a:pt x="466" y="1494"/>
                    </a:lnTo>
                    <a:lnTo>
                      <a:pt x="450" y="1495"/>
                    </a:lnTo>
                    <a:lnTo>
                      <a:pt x="400" y="1313"/>
                    </a:lnTo>
                    <a:lnTo>
                      <a:pt x="346" y="1124"/>
                    </a:lnTo>
                    <a:lnTo>
                      <a:pt x="290" y="930"/>
                    </a:lnTo>
                    <a:lnTo>
                      <a:pt x="233" y="733"/>
                    </a:lnTo>
                    <a:lnTo>
                      <a:pt x="174" y="541"/>
                    </a:lnTo>
                    <a:lnTo>
                      <a:pt x="116" y="351"/>
                    </a:lnTo>
                    <a:lnTo>
                      <a:pt x="57" y="170"/>
                    </a:lnTo>
                    <a:lnTo>
                      <a:pt x="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372280" y="3075120"/>
                <a:ext cx="171360" cy="473040"/>
              </a:xfrm>
              <a:custGeom>
                <a:avLst/>
                <a:gdLst/>
                <a:ahLst/>
                <a:rect l="l" t="t" r="r" b="b"/>
                <a:pathLst>
                  <a:path w="540" h="1489">
                    <a:moveTo>
                      <a:pt x="540" y="1484"/>
                    </a:moveTo>
                    <a:lnTo>
                      <a:pt x="523" y="1410"/>
                    </a:lnTo>
                    <a:lnTo>
                      <a:pt x="494" y="1292"/>
                    </a:lnTo>
                    <a:lnTo>
                      <a:pt x="463" y="1171"/>
                    </a:lnTo>
                    <a:lnTo>
                      <a:pt x="429" y="1049"/>
                    </a:lnTo>
                    <a:lnTo>
                      <a:pt x="393" y="925"/>
                    </a:lnTo>
                    <a:lnTo>
                      <a:pt x="354" y="800"/>
                    </a:lnTo>
                    <a:lnTo>
                      <a:pt x="314" y="674"/>
                    </a:lnTo>
                    <a:lnTo>
                      <a:pt x="293" y="611"/>
                    </a:lnTo>
                    <a:lnTo>
                      <a:pt x="271" y="550"/>
                    </a:lnTo>
                    <a:lnTo>
                      <a:pt x="248" y="487"/>
                    </a:lnTo>
                    <a:lnTo>
                      <a:pt x="225" y="425"/>
                    </a:lnTo>
                    <a:lnTo>
                      <a:pt x="203" y="365"/>
                    </a:lnTo>
                    <a:lnTo>
                      <a:pt x="179" y="303"/>
                    </a:lnTo>
                    <a:lnTo>
                      <a:pt x="154" y="244"/>
                    </a:lnTo>
                    <a:lnTo>
                      <a:pt x="129" y="185"/>
                    </a:lnTo>
                    <a:lnTo>
                      <a:pt x="103" y="125"/>
                    </a:lnTo>
                    <a:lnTo>
                      <a:pt x="77" y="68"/>
                    </a:lnTo>
                    <a:lnTo>
                      <a:pt x="51" y="1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22" y="50"/>
                    </a:lnTo>
                    <a:lnTo>
                      <a:pt x="48" y="108"/>
                    </a:lnTo>
                    <a:lnTo>
                      <a:pt x="73" y="167"/>
                    </a:lnTo>
                    <a:lnTo>
                      <a:pt x="97" y="228"/>
                    </a:lnTo>
                    <a:lnTo>
                      <a:pt x="121" y="288"/>
                    </a:lnTo>
                    <a:lnTo>
                      <a:pt x="144" y="349"/>
                    </a:lnTo>
                    <a:lnTo>
                      <a:pt x="167" y="411"/>
                    </a:lnTo>
                    <a:lnTo>
                      <a:pt x="189" y="472"/>
                    </a:lnTo>
                    <a:lnTo>
                      <a:pt x="211" y="535"/>
                    </a:lnTo>
                    <a:lnTo>
                      <a:pt x="232" y="596"/>
                    </a:lnTo>
                    <a:lnTo>
                      <a:pt x="272" y="722"/>
                    </a:lnTo>
                    <a:lnTo>
                      <a:pt x="311" y="847"/>
                    </a:lnTo>
                    <a:lnTo>
                      <a:pt x="347" y="971"/>
                    </a:lnTo>
                    <a:lnTo>
                      <a:pt x="382" y="1094"/>
                    </a:lnTo>
                    <a:lnTo>
                      <a:pt x="412" y="1214"/>
                    </a:lnTo>
                    <a:lnTo>
                      <a:pt x="441" y="1331"/>
                    </a:lnTo>
                    <a:lnTo>
                      <a:pt x="467" y="1445"/>
                    </a:lnTo>
                    <a:lnTo>
                      <a:pt x="476" y="1489"/>
                    </a:lnTo>
                    <a:lnTo>
                      <a:pt x="484" y="1489"/>
                    </a:lnTo>
                    <a:lnTo>
                      <a:pt x="492" y="1487"/>
                    </a:lnTo>
                    <a:lnTo>
                      <a:pt x="500" y="1487"/>
                    </a:lnTo>
                    <a:lnTo>
                      <a:pt x="508" y="1486"/>
                    </a:lnTo>
                    <a:lnTo>
                      <a:pt x="516" y="1486"/>
                    </a:lnTo>
                    <a:lnTo>
                      <a:pt x="524" y="1485"/>
                    </a:lnTo>
                    <a:lnTo>
                      <a:pt x="532" y="1485"/>
                    </a:lnTo>
                    <a:lnTo>
                      <a:pt x="540" y="148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5340240" y="3075120"/>
                <a:ext cx="162000" cy="476280"/>
              </a:xfrm>
              <a:custGeom>
                <a:avLst/>
                <a:gdLst/>
                <a:ahLst/>
                <a:rect l="l" t="t" r="r" b="b"/>
                <a:pathLst>
                  <a:path w="508" h="1498">
                    <a:moveTo>
                      <a:pt x="0" y="0"/>
                    </a:moveTo>
                    <a:lnTo>
                      <a:pt x="19" y="53"/>
                    </a:lnTo>
                    <a:lnTo>
                      <a:pt x="60" y="178"/>
                    </a:lnTo>
                    <a:lnTo>
                      <a:pt x="101" y="307"/>
                    </a:lnTo>
                    <a:lnTo>
                      <a:pt x="143" y="440"/>
                    </a:lnTo>
                    <a:lnTo>
                      <a:pt x="184" y="576"/>
                    </a:lnTo>
                    <a:lnTo>
                      <a:pt x="226" y="714"/>
                    </a:lnTo>
                    <a:lnTo>
                      <a:pt x="267" y="853"/>
                    </a:lnTo>
                    <a:lnTo>
                      <a:pt x="307" y="991"/>
                    </a:lnTo>
                    <a:lnTo>
                      <a:pt x="346" y="1128"/>
                    </a:lnTo>
                    <a:lnTo>
                      <a:pt x="383" y="1263"/>
                    </a:lnTo>
                    <a:lnTo>
                      <a:pt x="420" y="1394"/>
                    </a:lnTo>
                    <a:lnTo>
                      <a:pt x="447" y="1498"/>
                    </a:lnTo>
                    <a:lnTo>
                      <a:pt x="455" y="1497"/>
                    </a:lnTo>
                    <a:lnTo>
                      <a:pt x="462" y="1497"/>
                    </a:lnTo>
                    <a:lnTo>
                      <a:pt x="470" y="1497"/>
                    </a:lnTo>
                    <a:lnTo>
                      <a:pt x="477" y="1495"/>
                    </a:lnTo>
                    <a:lnTo>
                      <a:pt x="485" y="1495"/>
                    </a:lnTo>
                    <a:lnTo>
                      <a:pt x="493" y="1494"/>
                    </a:lnTo>
                    <a:lnTo>
                      <a:pt x="500" y="1494"/>
                    </a:lnTo>
                    <a:lnTo>
                      <a:pt x="508" y="1493"/>
                    </a:lnTo>
                    <a:lnTo>
                      <a:pt x="502" y="1472"/>
                    </a:lnTo>
                    <a:lnTo>
                      <a:pt x="465" y="1340"/>
                    </a:lnTo>
                    <a:lnTo>
                      <a:pt x="428" y="1207"/>
                    </a:lnTo>
                    <a:lnTo>
                      <a:pt x="389" y="1069"/>
                    </a:lnTo>
                    <a:lnTo>
                      <a:pt x="349" y="931"/>
                    </a:lnTo>
                    <a:lnTo>
                      <a:pt x="308" y="792"/>
                    </a:lnTo>
                    <a:lnTo>
                      <a:pt x="266" y="654"/>
                    </a:lnTo>
                    <a:lnTo>
                      <a:pt x="225" y="518"/>
                    </a:lnTo>
                    <a:lnTo>
                      <a:pt x="183" y="384"/>
                    </a:lnTo>
                    <a:lnTo>
                      <a:pt x="142" y="255"/>
                    </a:lnTo>
                    <a:lnTo>
                      <a:pt x="101" y="130"/>
                    </a:lnTo>
                    <a:lnTo>
                      <a:pt x="60" y="12"/>
                    </a:lnTo>
                    <a:lnTo>
                      <a:pt x="5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5454720" y="3075120"/>
                <a:ext cx="177840" cy="468360"/>
              </a:xfrm>
              <a:custGeom>
                <a:avLst/>
                <a:gdLst/>
                <a:ahLst/>
                <a:rect l="l" t="t" r="r" b="b"/>
                <a:pathLst>
                  <a:path w="564" h="1474">
                    <a:moveTo>
                      <a:pt x="108" y="0"/>
                    </a:moveTo>
                    <a:lnTo>
                      <a:pt x="146" y="89"/>
                    </a:lnTo>
                    <a:lnTo>
                      <a:pt x="183" y="180"/>
                    </a:lnTo>
                    <a:lnTo>
                      <a:pt x="219" y="272"/>
                    </a:lnTo>
                    <a:lnTo>
                      <a:pt x="253" y="366"/>
                    </a:lnTo>
                    <a:lnTo>
                      <a:pt x="286" y="461"/>
                    </a:lnTo>
                    <a:lnTo>
                      <a:pt x="318" y="555"/>
                    </a:lnTo>
                    <a:lnTo>
                      <a:pt x="349" y="650"/>
                    </a:lnTo>
                    <a:lnTo>
                      <a:pt x="379" y="745"/>
                    </a:lnTo>
                    <a:lnTo>
                      <a:pt x="407" y="839"/>
                    </a:lnTo>
                    <a:lnTo>
                      <a:pt x="433" y="933"/>
                    </a:lnTo>
                    <a:lnTo>
                      <a:pt x="460" y="1025"/>
                    </a:lnTo>
                    <a:lnTo>
                      <a:pt x="484" y="1118"/>
                    </a:lnTo>
                    <a:lnTo>
                      <a:pt x="506" y="1207"/>
                    </a:lnTo>
                    <a:lnTo>
                      <a:pt x="527" y="1296"/>
                    </a:lnTo>
                    <a:lnTo>
                      <a:pt x="546" y="1381"/>
                    </a:lnTo>
                    <a:lnTo>
                      <a:pt x="564" y="1465"/>
                    </a:lnTo>
                    <a:lnTo>
                      <a:pt x="549" y="1466"/>
                    </a:lnTo>
                    <a:lnTo>
                      <a:pt x="533" y="1467"/>
                    </a:lnTo>
                    <a:lnTo>
                      <a:pt x="517" y="1468"/>
                    </a:lnTo>
                    <a:lnTo>
                      <a:pt x="501" y="1469"/>
                    </a:lnTo>
                    <a:lnTo>
                      <a:pt x="485" y="1470"/>
                    </a:lnTo>
                    <a:lnTo>
                      <a:pt x="469" y="1472"/>
                    </a:lnTo>
                    <a:lnTo>
                      <a:pt x="453" y="1473"/>
                    </a:lnTo>
                    <a:lnTo>
                      <a:pt x="437" y="1474"/>
                    </a:lnTo>
                    <a:lnTo>
                      <a:pt x="390" y="1299"/>
                    </a:lnTo>
                    <a:lnTo>
                      <a:pt x="339" y="1116"/>
                    </a:lnTo>
                    <a:lnTo>
                      <a:pt x="285" y="927"/>
                    </a:lnTo>
                    <a:lnTo>
                      <a:pt x="229" y="736"/>
                    </a:lnTo>
                    <a:lnTo>
                      <a:pt x="172" y="545"/>
                    </a:lnTo>
                    <a:lnTo>
                      <a:pt x="115" y="356"/>
                    </a:lnTo>
                    <a:lnTo>
                      <a:pt x="57" y="174"/>
                    </a:lnTo>
                    <a:lnTo>
                      <a:pt x="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5481720" y="3075120"/>
                <a:ext cx="162000" cy="465120"/>
              </a:xfrm>
              <a:custGeom>
                <a:avLst/>
                <a:gdLst/>
                <a:ahLst/>
                <a:rect l="l" t="t" r="r" b="b"/>
                <a:pathLst>
                  <a:path w="511" h="1467">
                    <a:moveTo>
                      <a:pt x="511" y="1462"/>
                    </a:moveTo>
                    <a:lnTo>
                      <a:pt x="502" y="1420"/>
                    </a:lnTo>
                    <a:lnTo>
                      <a:pt x="476" y="1306"/>
                    </a:lnTo>
                    <a:lnTo>
                      <a:pt x="448" y="1189"/>
                    </a:lnTo>
                    <a:lnTo>
                      <a:pt x="417" y="1068"/>
                    </a:lnTo>
                    <a:lnTo>
                      <a:pt x="383" y="946"/>
                    </a:lnTo>
                    <a:lnTo>
                      <a:pt x="346" y="821"/>
                    </a:lnTo>
                    <a:lnTo>
                      <a:pt x="307" y="696"/>
                    </a:lnTo>
                    <a:lnTo>
                      <a:pt x="267" y="570"/>
                    </a:lnTo>
                    <a:lnTo>
                      <a:pt x="246" y="507"/>
                    </a:lnTo>
                    <a:lnTo>
                      <a:pt x="224" y="446"/>
                    </a:lnTo>
                    <a:lnTo>
                      <a:pt x="201" y="383"/>
                    </a:lnTo>
                    <a:lnTo>
                      <a:pt x="179" y="322"/>
                    </a:lnTo>
                    <a:lnTo>
                      <a:pt x="156" y="261"/>
                    </a:lnTo>
                    <a:lnTo>
                      <a:pt x="132" y="199"/>
                    </a:lnTo>
                    <a:lnTo>
                      <a:pt x="107" y="140"/>
                    </a:lnTo>
                    <a:lnTo>
                      <a:pt x="83" y="81"/>
                    </a:lnTo>
                    <a:lnTo>
                      <a:pt x="57" y="21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26" y="64"/>
                    </a:lnTo>
                    <a:lnTo>
                      <a:pt x="50" y="124"/>
                    </a:lnTo>
                    <a:lnTo>
                      <a:pt x="74" y="185"/>
                    </a:lnTo>
                    <a:lnTo>
                      <a:pt x="98" y="245"/>
                    </a:lnTo>
                    <a:lnTo>
                      <a:pt x="120" y="307"/>
                    </a:lnTo>
                    <a:lnTo>
                      <a:pt x="142" y="368"/>
                    </a:lnTo>
                    <a:lnTo>
                      <a:pt x="164" y="431"/>
                    </a:lnTo>
                    <a:lnTo>
                      <a:pt x="185" y="493"/>
                    </a:lnTo>
                    <a:lnTo>
                      <a:pt x="226" y="618"/>
                    </a:lnTo>
                    <a:lnTo>
                      <a:pt x="264" y="744"/>
                    </a:lnTo>
                    <a:lnTo>
                      <a:pt x="301" y="867"/>
                    </a:lnTo>
                    <a:lnTo>
                      <a:pt x="335" y="990"/>
                    </a:lnTo>
                    <a:lnTo>
                      <a:pt x="365" y="1110"/>
                    </a:lnTo>
                    <a:lnTo>
                      <a:pt x="394" y="1227"/>
                    </a:lnTo>
                    <a:lnTo>
                      <a:pt x="420" y="1341"/>
                    </a:lnTo>
                    <a:lnTo>
                      <a:pt x="444" y="1451"/>
                    </a:lnTo>
                    <a:lnTo>
                      <a:pt x="446" y="1467"/>
                    </a:lnTo>
                    <a:lnTo>
                      <a:pt x="454" y="1467"/>
                    </a:lnTo>
                    <a:lnTo>
                      <a:pt x="462" y="1466"/>
                    </a:lnTo>
                    <a:lnTo>
                      <a:pt x="472" y="1466"/>
                    </a:lnTo>
                    <a:lnTo>
                      <a:pt x="479" y="1465"/>
                    </a:lnTo>
                    <a:lnTo>
                      <a:pt x="487" y="1465"/>
                    </a:lnTo>
                    <a:lnTo>
                      <a:pt x="495" y="1464"/>
                    </a:lnTo>
                    <a:lnTo>
                      <a:pt x="503" y="1464"/>
                    </a:lnTo>
                    <a:lnTo>
                      <a:pt x="511" y="146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5445000" y="3075120"/>
                <a:ext cx="157320" cy="468360"/>
              </a:xfrm>
              <a:custGeom>
                <a:avLst/>
                <a:gdLst/>
                <a:ahLst/>
                <a:rect l="l" t="t" r="r" b="b"/>
                <a:pathLst>
                  <a:path w="493" h="1476">
                    <a:moveTo>
                      <a:pt x="0" y="0"/>
                    </a:moveTo>
                    <a:lnTo>
                      <a:pt x="24" y="74"/>
                    </a:lnTo>
                    <a:lnTo>
                      <a:pt x="65" y="203"/>
                    </a:lnTo>
                    <a:lnTo>
                      <a:pt x="107" y="336"/>
                    </a:lnTo>
                    <a:lnTo>
                      <a:pt x="149" y="472"/>
                    </a:lnTo>
                    <a:lnTo>
                      <a:pt x="190" y="610"/>
                    </a:lnTo>
                    <a:lnTo>
                      <a:pt x="231" y="749"/>
                    </a:lnTo>
                    <a:lnTo>
                      <a:pt x="271" y="887"/>
                    </a:lnTo>
                    <a:lnTo>
                      <a:pt x="310" y="1024"/>
                    </a:lnTo>
                    <a:lnTo>
                      <a:pt x="348" y="1159"/>
                    </a:lnTo>
                    <a:lnTo>
                      <a:pt x="384" y="1290"/>
                    </a:lnTo>
                    <a:lnTo>
                      <a:pt x="434" y="1476"/>
                    </a:lnTo>
                    <a:lnTo>
                      <a:pt x="441" y="1475"/>
                    </a:lnTo>
                    <a:lnTo>
                      <a:pt x="449" y="1475"/>
                    </a:lnTo>
                    <a:lnTo>
                      <a:pt x="456" y="1474"/>
                    </a:lnTo>
                    <a:lnTo>
                      <a:pt x="464" y="1474"/>
                    </a:lnTo>
                    <a:lnTo>
                      <a:pt x="471" y="1473"/>
                    </a:lnTo>
                    <a:lnTo>
                      <a:pt x="479" y="1473"/>
                    </a:lnTo>
                    <a:lnTo>
                      <a:pt x="487" y="1472"/>
                    </a:lnTo>
                    <a:lnTo>
                      <a:pt x="493" y="1472"/>
                    </a:lnTo>
                    <a:lnTo>
                      <a:pt x="466" y="1368"/>
                    </a:lnTo>
                    <a:lnTo>
                      <a:pt x="430" y="1237"/>
                    </a:lnTo>
                    <a:lnTo>
                      <a:pt x="392" y="1103"/>
                    </a:lnTo>
                    <a:lnTo>
                      <a:pt x="353" y="965"/>
                    </a:lnTo>
                    <a:lnTo>
                      <a:pt x="313" y="827"/>
                    </a:lnTo>
                    <a:lnTo>
                      <a:pt x="272" y="688"/>
                    </a:lnTo>
                    <a:lnTo>
                      <a:pt x="230" y="550"/>
                    </a:lnTo>
                    <a:lnTo>
                      <a:pt x="189" y="414"/>
                    </a:lnTo>
                    <a:lnTo>
                      <a:pt x="147" y="280"/>
                    </a:lnTo>
                    <a:lnTo>
                      <a:pt x="106" y="152"/>
                    </a:lnTo>
                    <a:lnTo>
                      <a:pt x="65" y="26"/>
                    </a:lnTo>
                    <a:lnTo>
                      <a:pt x="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5557680" y="3075120"/>
                <a:ext cx="173160" cy="461880"/>
              </a:xfrm>
              <a:custGeom>
                <a:avLst/>
                <a:gdLst/>
                <a:ahLst/>
                <a:rect l="l" t="t" r="r" b="b"/>
                <a:pathLst>
                  <a:path w="547" h="1453">
                    <a:moveTo>
                      <a:pt x="118" y="0"/>
                    </a:moveTo>
                    <a:lnTo>
                      <a:pt x="154" y="91"/>
                    </a:lnTo>
                    <a:lnTo>
                      <a:pt x="189" y="182"/>
                    </a:lnTo>
                    <a:lnTo>
                      <a:pt x="223" y="276"/>
                    </a:lnTo>
                    <a:lnTo>
                      <a:pt x="256" y="369"/>
                    </a:lnTo>
                    <a:lnTo>
                      <a:pt x="288" y="463"/>
                    </a:lnTo>
                    <a:lnTo>
                      <a:pt x="318" y="558"/>
                    </a:lnTo>
                    <a:lnTo>
                      <a:pt x="348" y="651"/>
                    </a:lnTo>
                    <a:lnTo>
                      <a:pt x="375" y="746"/>
                    </a:lnTo>
                    <a:lnTo>
                      <a:pt x="402" y="838"/>
                    </a:lnTo>
                    <a:lnTo>
                      <a:pt x="427" y="931"/>
                    </a:lnTo>
                    <a:lnTo>
                      <a:pt x="451" y="1022"/>
                    </a:lnTo>
                    <a:lnTo>
                      <a:pt x="473" y="1111"/>
                    </a:lnTo>
                    <a:lnTo>
                      <a:pt x="494" y="1198"/>
                    </a:lnTo>
                    <a:lnTo>
                      <a:pt x="513" y="1283"/>
                    </a:lnTo>
                    <a:lnTo>
                      <a:pt x="530" y="1367"/>
                    </a:lnTo>
                    <a:lnTo>
                      <a:pt x="547" y="1446"/>
                    </a:lnTo>
                    <a:lnTo>
                      <a:pt x="531" y="1448"/>
                    </a:lnTo>
                    <a:lnTo>
                      <a:pt x="517" y="1448"/>
                    </a:lnTo>
                    <a:lnTo>
                      <a:pt x="502" y="1449"/>
                    </a:lnTo>
                    <a:lnTo>
                      <a:pt x="486" y="1450"/>
                    </a:lnTo>
                    <a:lnTo>
                      <a:pt x="471" y="1451"/>
                    </a:lnTo>
                    <a:lnTo>
                      <a:pt x="455" y="1451"/>
                    </a:lnTo>
                    <a:lnTo>
                      <a:pt x="440" y="1452"/>
                    </a:lnTo>
                    <a:lnTo>
                      <a:pt x="424" y="1453"/>
                    </a:lnTo>
                    <a:lnTo>
                      <a:pt x="380" y="1286"/>
                    </a:lnTo>
                    <a:lnTo>
                      <a:pt x="331" y="1109"/>
                    </a:lnTo>
                    <a:lnTo>
                      <a:pt x="280" y="925"/>
                    </a:lnTo>
                    <a:lnTo>
                      <a:pt x="226" y="738"/>
                    </a:lnTo>
                    <a:lnTo>
                      <a:pt x="170" y="549"/>
                    </a:lnTo>
                    <a:lnTo>
                      <a:pt x="113" y="360"/>
                    </a:lnTo>
                    <a:lnTo>
                      <a:pt x="56" y="177"/>
                    </a:lnTo>
                    <a:lnTo>
                      <a:pt x="0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5586480" y="3075120"/>
                <a:ext cx="155520" cy="460080"/>
              </a:xfrm>
              <a:custGeom>
                <a:avLst/>
                <a:gdLst/>
                <a:ahLst/>
                <a:rect l="l" t="t" r="r" b="b"/>
                <a:pathLst>
                  <a:path w="486" h="1449">
                    <a:moveTo>
                      <a:pt x="486" y="1445"/>
                    </a:moveTo>
                    <a:lnTo>
                      <a:pt x="484" y="1428"/>
                    </a:lnTo>
                    <a:lnTo>
                      <a:pt x="460" y="1319"/>
                    </a:lnTo>
                    <a:lnTo>
                      <a:pt x="434" y="1205"/>
                    </a:lnTo>
                    <a:lnTo>
                      <a:pt x="405" y="1087"/>
                    </a:lnTo>
                    <a:lnTo>
                      <a:pt x="375" y="966"/>
                    </a:lnTo>
                    <a:lnTo>
                      <a:pt x="340" y="844"/>
                    </a:lnTo>
                    <a:lnTo>
                      <a:pt x="304" y="720"/>
                    </a:lnTo>
                    <a:lnTo>
                      <a:pt x="265" y="594"/>
                    </a:lnTo>
                    <a:lnTo>
                      <a:pt x="225" y="469"/>
                    </a:lnTo>
                    <a:lnTo>
                      <a:pt x="204" y="407"/>
                    </a:lnTo>
                    <a:lnTo>
                      <a:pt x="182" y="344"/>
                    </a:lnTo>
                    <a:lnTo>
                      <a:pt x="159" y="282"/>
                    </a:lnTo>
                    <a:lnTo>
                      <a:pt x="136" y="220"/>
                    </a:lnTo>
                    <a:lnTo>
                      <a:pt x="114" y="160"/>
                    </a:lnTo>
                    <a:lnTo>
                      <a:pt x="90" y="99"/>
                    </a:lnTo>
                    <a:lnTo>
                      <a:pt x="65" y="39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9" y="23"/>
                    </a:lnTo>
                    <a:lnTo>
                      <a:pt x="31" y="83"/>
                    </a:lnTo>
                    <a:lnTo>
                      <a:pt x="55" y="144"/>
                    </a:lnTo>
                    <a:lnTo>
                      <a:pt x="78" y="205"/>
                    </a:lnTo>
                    <a:lnTo>
                      <a:pt x="100" y="267"/>
                    </a:lnTo>
                    <a:lnTo>
                      <a:pt x="122" y="330"/>
                    </a:lnTo>
                    <a:lnTo>
                      <a:pt x="143" y="392"/>
                    </a:lnTo>
                    <a:lnTo>
                      <a:pt x="184" y="517"/>
                    </a:lnTo>
                    <a:lnTo>
                      <a:pt x="222" y="642"/>
                    </a:lnTo>
                    <a:lnTo>
                      <a:pt x="258" y="765"/>
                    </a:lnTo>
                    <a:lnTo>
                      <a:pt x="293" y="889"/>
                    </a:lnTo>
                    <a:lnTo>
                      <a:pt x="323" y="1008"/>
                    </a:lnTo>
                    <a:lnTo>
                      <a:pt x="352" y="1126"/>
                    </a:lnTo>
                    <a:lnTo>
                      <a:pt x="378" y="1240"/>
                    </a:lnTo>
                    <a:lnTo>
                      <a:pt x="402" y="1349"/>
                    </a:lnTo>
                    <a:lnTo>
                      <a:pt x="420" y="1449"/>
                    </a:lnTo>
                    <a:lnTo>
                      <a:pt x="429" y="1448"/>
                    </a:lnTo>
                    <a:lnTo>
                      <a:pt x="437" y="1448"/>
                    </a:lnTo>
                    <a:lnTo>
                      <a:pt x="445" y="1446"/>
                    </a:lnTo>
                    <a:lnTo>
                      <a:pt x="454" y="1446"/>
                    </a:lnTo>
                    <a:lnTo>
                      <a:pt x="462" y="1446"/>
                    </a:lnTo>
                    <a:lnTo>
                      <a:pt x="470" y="1445"/>
                    </a:lnTo>
                    <a:lnTo>
                      <a:pt x="478" y="1445"/>
                    </a:lnTo>
                    <a:lnTo>
                      <a:pt x="486" y="144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5548320" y="3075120"/>
                <a:ext cx="154080" cy="461880"/>
              </a:xfrm>
              <a:custGeom>
                <a:avLst/>
                <a:gdLst/>
                <a:ahLst/>
                <a:rect l="l" t="t" r="r" b="b"/>
                <a:pathLst>
                  <a:path w="482" h="1454">
                    <a:moveTo>
                      <a:pt x="0" y="0"/>
                    </a:moveTo>
                    <a:lnTo>
                      <a:pt x="32" y="101"/>
                    </a:lnTo>
                    <a:lnTo>
                      <a:pt x="74" y="235"/>
                    </a:lnTo>
                    <a:lnTo>
                      <a:pt x="116" y="371"/>
                    </a:lnTo>
                    <a:lnTo>
                      <a:pt x="157" y="509"/>
                    </a:lnTo>
                    <a:lnTo>
                      <a:pt x="198" y="648"/>
                    </a:lnTo>
                    <a:lnTo>
                      <a:pt x="238" y="786"/>
                    </a:lnTo>
                    <a:lnTo>
                      <a:pt x="277" y="923"/>
                    </a:lnTo>
                    <a:lnTo>
                      <a:pt x="314" y="1057"/>
                    </a:lnTo>
                    <a:lnTo>
                      <a:pt x="351" y="1189"/>
                    </a:lnTo>
                    <a:lnTo>
                      <a:pt x="417" y="1435"/>
                    </a:lnTo>
                    <a:lnTo>
                      <a:pt x="423" y="1454"/>
                    </a:lnTo>
                    <a:lnTo>
                      <a:pt x="430" y="1454"/>
                    </a:lnTo>
                    <a:lnTo>
                      <a:pt x="437" y="1454"/>
                    </a:lnTo>
                    <a:lnTo>
                      <a:pt x="444" y="1453"/>
                    </a:lnTo>
                    <a:lnTo>
                      <a:pt x="452" y="1453"/>
                    </a:lnTo>
                    <a:lnTo>
                      <a:pt x="460" y="1453"/>
                    </a:lnTo>
                    <a:lnTo>
                      <a:pt x="467" y="1452"/>
                    </a:lnTo>
                    <a:lnTo>
                      <a:pt x="475" y="1452"/>
                    </a:lnTo>
                    <a:lnTo>
                      <a:pt x="482" y="1451"/>
                    </a:lnTo>
                    <a:lnTo>
                      <a:pt x="433" y="1266"/>
                    </a:lnTo>
                    <a:lnTo>
                      <a:pt x="396" y="1136"/>
                    </a:lnTo>
                    <a:lnTo>
                      <a:pt x="359" y="1001"/>
                    </a:lnTo>
                    <a:lnTo>
                      <a:pt x="320" y="865"/>
                    </a:lnTo>
                    <a:lnTo>
                      <a:pt x="280" y="725"/>
                    </a:lnTo>
                    <a:lnTo>
                      <a:pt x="239" y="586"/>
                    </a:lnTo>
                    <a:lnTo>
                      <a:pt x="197" y="448"/>
                    </a:lnTo>
                    <a:lnTo>
                      <a:pt x="156" y="312"/>
                    </a:lnTo>
                    <a:lnTo>
                      <a:pt x="114" y="179"/>
                    </a:lnTo>
                    <a:lnTo>
                      <a:pt x="73" y="50"/>
                    </a:lnTo>
                    <a:lnTo>
                      <a:pt x="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5638680" y="3075120"/>
                <a:ext cx="157320" cy="457200"/>
              </a:xfrm>
              <a:custGeom>
                <a:avLst/>
                <a:gdLst/>
                <a:ahLst/>
                <a:rect l="l" t="t" r="r" b="b"/>
                <a:pathLst>
                  <a:path w="499" h="1442">
                    <a:moveTo>
                      <a:pt x="138" y="0"/>
                    </a:moveTo>
                    <a:lnTo>
                      <a:pt x="173" y="99"/>
                    </a:lnTo>
                    <a:lnTo>
                      <a:pt x="205" y="198"/>
                    </a:lnTo>
                    <a:lnTo>
                      <a:pt x="236" y="299"/>
                    </a:lnTo>
                    <a:lnTo>
                      <a:pt x="266" y="398"/>
                    </a:lnTo>
                    <a:lnTo>
                      <a:pt x="295" y="496"/>
                    </a:lnTo>
                    <a:lnTo>
                      <a:pt x="322" y="593"/>
                    </a:lnTo>
                    <a:lnTo>
                      <a:pt x="347" y="690"/>
                    </a:lnTo>
                    <a:lnTo>
                      <a:pt x="371" y="785"/>
                    </a:lnTo>
                    <a:lnTo>
                      <a:pt x="393" y="877"/>
                    </a:lnTo>
                    <a:lnTo>
                      <a:pt x="413" y="967"/>
                    </a:lnTo>
                    <a:lnTo>
                      <a:pt x="431" y="1054"/>
                    </a:lnTo>
                    <a:lnTo>
                      <a:pt x="448" y="1138"/>
                    </a:lnTo>
                    <a:lnTo>
                      <a:pt x="464" y="1219"/>
                    </a:lnTo>
                    <a:lnTo>
                      <a:pt x="477" y="1297"/>
                    </a:lnTo>
                    <a:lnTo>
                      <a:pt x="488" y="1370"/>
                    </a:lnTo>
                    <a:lnTo>
                      <a:pt x="499" y="1438"/>
                    </a:lnTo>
                    <a:lnTo>
                      <a:pt x="486" y="1438"/>
                    </a:lnTo>
                    <a:lnTo>
                      <a:pt x="475" y="1440"/>
                    </a:lnTo>
                    <a:lnTo>
                      <a:pt x="463" y="1440"/>
                    </a:lnTo>
                    <a:lnTo>
                      <a:pt x="451" y="1440"/>
                    </a:lnTo>
                    <a:lnTo>
                      <a:pt x="439" y="1441"/>
                    </a:lnTo>
                    <a:lnTo>
                      <a:pt x="427" y="1441"/>
                    </a:lnTo>
                    <a:lnTo>
                      <a:pt x="415" y="1441"/>
                    </a:lnTo>
                    <a:lnTo>
                      <a:pt x="403" y="1442"/>
                    </a:lnTo>
                    <a:lnTo>
                      <a:pt x="366" y="1297"/>
                    </a:lnTo>
                    <a:lnTo>
                      <a:pt x="324" y="1137"/>
                    </a:lnTo>
                    <a:lnTo>
                      <a:pt x="279" y="963"/>
                    </a:lnTo>
                    <a:lnTo>
                      <a:pt x="227" y="778"/>
                    </a:lnTo>
                    <a:lnTo>
                      <a:pt x="174" y="587"/>
                    </a:lnTo>
                    <a:lnTo>
                      <a:pt x="117" y="391"/>
                    </a:lnTo>
                    <a:lnTo>
                      <a:pt x="60" y="195"/>
                    </a:lnTo>
                    <a:lnTo>
                      <a:pt x="0" y="0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5673600" y="3075120"/>
                <a:ext cx="133560" cy="457200"/>
              </a:xfrm>
              <a:custGeom>
                <a:avLst/>
                <a:gdLst/>
                <a:ahLst/>
                <a:rect l="l" t="t" r="r" b="b"/>
                <a:pathLst>
                  <a:path w="423" h="1440">
                    <a:moveTo>
                      <a:pt x="423" y="1437"/>
                    </a:moveTo>
                    <a:lnTo>
                      <a:pt x="418" y="1409"/>
                    </a:lnTo>
                    <a:lnTo>
                      <a:pt x="405" y="1316"/>
                    </a:lnTo>
                    <a:lnTo>
                      <a:pt x="386" y="1217"/>
                    </a:lnTo>
                    <a:lnTo>
                      <a:pt x="366" y="1112"/>
                    </a:lnTo>
                    <a:lnTo>
                      <a:pt x="342" y="1003"/>
                    </a:lnTo>
                    <a:lnTo>
                      <a:pt x="317" y="889"/>
                    </a:lnTo>
                    <a:lnTo>
                      <a:pt x="287" y="771"/>
                    </a:lnTo>
                    <a:lnTo>
                      <a:pt x="257" y="650"/>
                    </a:lnTo>
                    <a:lnTo>
                      <a:pt x="223" y="528"/>
                    </a:lnTo>
                    <a:lnTo>
                      <a:pt x="187" y="404"/>
                    </a:lnTo>
                    <a:lnTo>
                      <a:pt x="148" y="278"/>
                    </a:lnTo>
                    <a:lnTo>
                      <a:pt x="107" y="153"/>
                    </a:lnTo>
                    <a:lnTo>
                      <a:pt x="86" y="90"/>
                    </a:lnTo>
                    <a:lnTo>
                      <a:pt x="64" y="28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5" y="13"/>
                    </a:lnTo>
                    <a:lnTo>
                      <a:pt x="25" y="75"/>
                    </a:lnTo>
                    <a:lnTo>
                      <a:pt x="66" y="201"/>
                    </a:lnTo>
                    <a:lnTo>
                      <a:pt x="105" y="326"/>
                    </a:lnTo>
                    <a:lnTo>
                      <a:pt x="141" y="449"/>
                    </a:lnTo>
                    <a:lnTo>
                      <a:pt x="174" y="573"/>
                    </a:lnTo>
                    <a:lnTo>
                      <a:pt x="206" y="692"/>
                    </a:lnTo>
                    <a:lnTo>
                      <a:pt x="235" y="810"/>
                    </a:lnTo>
                    <a:lnTo>
                      <a:pt x="260" y="924"/>
                    </a:lnTo>
                    <a:lnTo>
                      <a:pt x="284" y="1033"/>
                    </a:lnTo>
                    <a:lnTo>
                      <a:pt x="304" y="1137"/>
                    </a:lnTo>
                    <a:lnTo>
                      <a:pt x="322" y="1237"/>
                    </a:lnTo>
                    <a:lnTo>
                      <a:pt x="336" y="1329"/>
                    </a:lnTo>
                    <a:lnTo>
                      <a:pt x="349" y="1416"/>
                    </a:lnTo>
                    <a:lnTo>
                      <a:pt x="351" y="1440"/>
                    </a:lnTo>
                    <a:lnTo>
                      <a:pt x="360" y="1440"/>
                    </a:lnTo>
                    <a:lnTo>
                      <a:pt x="369" y="1440"/>
                    </a:lnTo>
                    <a:lnTo>
                      <a:pt x="379" y="1438"/>
                    </a:lnTo>
                    <a:lnTo>
                      <a:pt x="388" y="1438"/>
                    </a:lnTo>
                    <a:lnTo>
                      <a:pt x="396" y="1438"/>
                    </a:lnTo>
                    <a:lnTo>
                      <a:pt x="405" y="1438"/>
                    </a:lnTo>
                    <a:lnTo>
                      <a:pt x="414" y="1438"/>
                    </a:lnTo>
                    <a:lnTo>
                      <a:pt x="423" y="143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5629320" y="3075120"/>
                <a:ext cx="146160" cy="458640"/>
              </a:xfrm>
              <a:custGeom>
                <a:avLst/>
                <a:gdLst/>
                <a:ahLst/>
                <a:rect l="l" t="t" r="r" b="b"/>
                <a:pathLst>
                  <a:path w="463" h="1443">
                    <a:moveTo>
                      <a:pt x="0" y="0"/>
                    </a:moveTo>
                    <a:lnTo>
                      <a:pt x="17" y="55"/>
                    </a:lnTo>
                    <a:lnTo>
                      <a:pt x="58" y="193"/>
                    </a:lnTo>
                    <a:lnTo>
                      <a:pt x="99" y="332"/>
                    </a:lnTo>
                    <a:lnTo>
                      <a:pt x="139" y="470"/>
                    </a:lnTo>
                    <a:lnTo>
                      <a:pt x="179" y="607"/>
                    </a:lnTo>
                    <a:lnTo>
                      <a:pt x="216" y="741"/>
                    </a:lnTo>
                    <a:lnTo>
                      <a:pt x="252" y="873"/>
                    </a:lnTo>
                    <a:lnTo>
                      <a:pt x="319" y="1119"/>
                    </a:lnTo>
                    <a:lnTo>
                      <a:pt x="375" y="1338"/>
                    </a:lnTo>
                    <a:lnTo>
                      <a:pt x="399" y="1435"/>
                    </a:lnTo>
                    <a:lnTo>
                      <a:pt x="401" y="1443"/>
                    </a:lnTo>
                    <a:lnTo>
                      <a:pt x="409" y="1443"/>
                    </a:lnTo>
                    <a:lnTo>
                      <a:pt x="417" y="1442"/>
                    </a:lnTo>
                    <a:lnTo>
                      <a:pt x="424" y="1442"/>
                    </a:lnTo>
                    <a:lnTo>
                      <a:pt x="432" y="1442"/>
                    </a:lnTo>
                    <a:lnTo>
                      <a:pt x="440" y="1442"/>
                    </a:lnTo>
                    <a:lnTo>
                      <a:pt x="448" y="1441"/>
                    </a:lnTo>
                    <a:lnTo>
                      <a:pt x="456" y="1441"/>
                    </a:lnTo>
                    <a:lnTo>
                      <a:pt x="463" y="1441"/>
                    </a:lnTo>
                    <a:lnTo>
                      <a:pt x="457" y="1417"/>
                    </a:lnTo>
                    <a:lnTo>
                      <a:pt x="400" y="1197"/>
                    </a:lnTo>
                    <a:lnTo>
                      <a:pt x="334" y="950"/>
                    </a:lnTo>
                    <a:lnTo>
                      <a:pt x="298" y="819"/>
                    </a:lnTo>
                    <a:lnTo>
                      <a:pt x="261" y="684"/>
                    </a:lnTo>
                    <a:lnTo>
                      <a:pt x="221" y="547"/>
                    </a:lnTo>
                    <a:lnTo>
                      <a:pt x="181" y="409"/>
                    </a:lnTo>
                    <a:lnTo>
                      <a:pt x="140" y="270"/>
                    </a:lnTo>
                    <a:lnTo>
                      <a:pt x="99" y="132"/>
                    </a:lnTo>
                    <a:lnTo>
                      <a:pt x="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5946840" y="3075120"/>
                <a:ext cx="164880" cy="492120"/>
              </a:xfrm>
              <a:custGeom>
                <a:avLst/>
                <a:gdLst/>
                <a:ahLst/>
                <a:rect l="l" t="t" r="r" b="b"/>
                <a:pathLst>
                  <a:path w="521" h="1548">
                    <a:moveTo>
                      <a:pt x="106" y="0"/>
                    </a:moveTo>
                    <a:lnTo>
                      <a:pt x="142" y="96"/>
                    </a:lnTo>
                    <a:lnTo>
                      <a:pt x="178" y="194"/>
                    </a:lnTo>
                    <a:lnTo>
                      <a:pt x="211" y="292"/>
                    </a:lnTo>
                    <a:lnTo>
                      <a:pt x="244" y="392"/>
                    </a:lnTo>
                    <a:lnTo>
                      <a:pt x="275" y="493"/>
                    </a:lnTo>
                    <a:lnTo>
                      <a:pt x="304" y="593"/>
                    </a:lnTo>
                    <a:lnTo>
                      <a:pt x="333" y="693"/>
                    </a:lnTo>
                    <a:lnTo>
                      <a:pt x="360" y="794"/>
                    </a:lnTo>
                    <a:lnTo>
                      <a:pt x="385" y="894"/>
                    </a:lnTo>
                    <a:lnTo>
                      <a:pt x="409" y="993"/>
                    </a:lnTo>
                    <a:lnTo>
                      <a:pt x="432" y="1090"/>
                    </a:lnTo>
                    <a:lnTo>
                      <a:pt x="452" y="1186"/>
                    </a:lnTo>
                    <a:lnTo>
                      <a:pt x="472" y="1280"/>
                    </a:lnTo>
                    <a:lnTo>
                      <a:pt x="490" y="1372"/>
                    </a:lnTo>
                    <a:lnTo>
                      <a:pt x="506" y="1461"/>
                    </a:lnTo>
                    <a:lnTo>
                      <a:pt x="521" y="1547"/>
                    </a:lnTo>
                    <a:lnTo>
                      <a:pt x="506" y="1547"/>
                    </a:lnTo>
                    <a:lnTo>
                      <a:pt x="490" y="1547"/>
                    </a:lnTo>
                    <a:lnTo>
                      <a:pt x="475" y="1548"/>
                    </a:lnTo>
                    <a:lnTo>
                      <a:pt x="459" y="1548"/>
                    </a:lnTo>
                    <a:lnTo>
                      <a:pt x="444" y="1548"/>
                    </a:lnTo>
                    <a:lnTo>
                      <a:pt x="429" y="1548"/>
                    </a:lnTo>
                    <a:lnTo>
                      <a:pt x="414" y="1548"/>
                    </a:lnTo>
                    <a:lnTo>
                      <a:pt x="399" y="1548"/>
                    </a:lnTo>
                    <a:lnTo>
                      <a:pt x="357" y="1368"/>
                    </a:lnTo>
                    <a:lnTo>
                      <a:pt x="311" y="1178"/>
                    </a:lnTo>
                    <a:lnTo>
                      <a:pt x="263" y="981"/>
                    </a:lnTo>
                    <a:lnTo>
                      <a:pt x="212" y="780"/>
                    </a:lnTo>
                    <a:lnTo>
                      <a:pt x="159" y="578"/>
                    </a:lnTo>
                    <a:lnTo>
                      <a:pt x="107" y="379"/>
                    </a:lnTo>
                    <a:lnTo>
                      <a:pt x="53" y="185"/>
                    </a:lnTo>
                    <a:lnTo>
                      <a:pt x="0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5972040" y="3075120"/>
                <a:ext cx="150840" cy="490320"/>
              </a:xfrm>
              <a:custGeom>
                <a:avLst/>
                <a:gdLst/>
                <a:ahLst/>
                <a:rect l="l" t="t" r="r" b="b"/>
                <a:pathLst>
                  <a:path w="475" h="1547">
                    <a:moveTo>
                      <a:pt x="475" y="1546"/>
                    </a:moveTo>
                    <a:lnTo>
                      <a:pt x="456" y="1438"/>
                    </a:lnTo>
                    <a:lnTo>
                      <a:pt x="433" y="1323"/>
                    </a:lnTo>
                    <a:lnTo>
                      <a:pt x="408" y="1203"/>
                    </a:lnTo>
                    <a:lnTo>
                      <a:pt x="381" y="1081"/>
                    </a:lnTo>
                    <a:lnTo>
                      <a:pt x="351" y="956"/>
                    </a:lnTo>
                    <a:lnTo>
                      <a:pt x="319" y="829"/>
                    </a:lnTo>
                    <a:lnTo>
                      <a:pt x="285" y="701"/>
                    </a:lnTo>
                    <a:lnTo>
                      <a:pt x="247" y="574"/>
                    </a:lnTo>
                    <a:lnTo>
                      <a:pt x="208" y="446"/>
                    </a:lnTo>
                    <a:lnTo>
                      <a:pt x="167" y="319"/>
                    </a:lnTo>
                    <a:lnTo>
                      <a:pt x="146" y="256"/>
                    </a:lnTo>
                    <a:lnTo>
                      <a:pt x="124" y="194"/>
                    </a:lnTo>
                    <a:lnTo>
                      <a:pt x="101" y="132"/>
                    </a:lnTo>
                    <a:lnTo>
                      <a:pt x="78" y="71"/>
                    </a:lnTo>
                    <a:lnTo>
                      <a:pt x="56" y="11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20" y="56"/>
                    </a:lnTo>
                    <a:lnTo>
                      <a:pt x="42" y="117"/>
                    </a:lnTo>
                    <a:lnTo>
                      <a:pt x="65" y="179"/>
                    </a:lnTo>
                    <a:lnTo>
                      <a:pt x="85" y="242"/>
                    </a:lnTo>
                    <a:lnTo>
                      <a:pt x="126" y="368"/>
                    </a:lnTo>
                    <a:lnTo>
                      <a:pt x="166" y="496"/>
                    </a:lnTo>
                    <a:lnTo>
                      <a:pt x="203" y="624"/>
                    </a:lnTo>
                    <a:lnTo>
                      <a:pt x="237" y="752"/>
                    </a:lnTo>
                    <a:lnTo>
                      <a:pt x="269" y="878"/>
                    </a:lnTo>
                    <a:lnTo>
                      <a:pt x="298" y="1003"/>
                    </a:lnTo>
                    <a:lnTo>
                      <a:pt x="326" y="1125"/>
                    </a:lnTo>
                    <a:lnTo>
                      <a:pt x="351" y="1244"/>
                    </a:lnTo>
                    <a:lnTo>
                      <a:pt x="374" y="1360"/>
                    </a:lnTo>
                    <a:lnTo>
                      <a:pt x="393" y="1472"/>
                    </a:lnTo>
                    <a:lnTo>
                      <a:pt x="406" y="1547"/>
                    </a:lnTo>
                    <a:lnTo>
                      <a:pt x="415" y="1547"/>
                    </a:lnTo>
                    <a:lnTo>
                      <a:pt x="423" y="1547"/>
                    </a:lnTo>
                    <a:lnTo>
                      <a:pt x="432" y="1547"/>
                    </a:lnTo>
                    <a:lnTo>
                      <a:pt x="440" y="1547"/>
                    </a:lnTo>
                    <a:lnTo>
                      <a:pt x="449" y="1547"/>
                    </a:lnTo>
                    <a:lnTo>
                      <a:pt x="457" y="1546"/>
                    </a:lnTo>
                    <a:lnTo>
                      <a:pt x="466" y="1546"/>
                    </a:lnTo>
                    <a:lnTo>
                      <a:pt x="475" y="154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5937120" y="3075120"/>
                <a:ext cx="146160" cy="492120"/>
              </a:xfrm>
              <a:custGeom>
                <a:avLst/>
                <a:gdLst/>
                <a:ahLst/>
                <a:rect l="l" t="t" r="r" b="b"/>
                <a:pathLst>
                  <a:path w="461" h="1548">
                    <a:moveTo>
                      <a:pt x="0" y="0"/>
                    </a:moveTo>
                    <a:lnTo>
                      <a:pt x="17" y="57"/>
                    </a:lnTo>
                    <a:lnTo>
                      <a:pt x="54" y="189"/>
                    </a:lnTo>
                    <a:lnTo>
                      <a:pt x="91" y="325"/>
                    </a:lnTo>
                    <a:lnTo>
                      <a:pt x="129" y="464"/>
                    </a:lnTo>
                    <a:lnTo>
                      <a:pt x="167" y="604"/>
                    </a:lnTo>
                    <a:lnTo>
                      <a:pt x="203" y="747"/>
                    </a:lnTo>
                    <a:lnTo>
                      <a:pt x="238" y="887"/>
                    </a:lnTo>
                    <a:lnTo>
                      <a:pt x="273" y="1028"/>
                    </a:lnTo>
                    <a:lnTo>
                      <a:pt x="306" y="1165"/>
                    </a:lnTo>
                    <a:lnTo>
                      <a:pt x="339" y="1297"/>
                    </a:lnTo>
                    <a:lnTo>
                      <a:pt x="397" y="1548"/>
                    </a:lnTo>
                    <a:lnTo>
                      <a:pt x="405" y="1548"/>
                    </a:lnTo>
                    <a:lnTo>
                      <a:pt x="413" y="1548"/>
                    </a:lnTo>
                    <a:lnTo>
                      <a:pt x="421" y="1548"/>
                    </a:lnTo>
                    <a:lnTo>
                      <a:pt x="429" y="1548"/>
                    </a:lnTo>
                    <a:lnTo>
                      <a:pt x="437" y="1548"/>
                    </a:lnTo>
                    <a:lnTo>
                      <a:pt x="445" y="1548"/>
                    </a:lnTo>
                    <a:lnTo>
                      <a:pt x="453" y="1548"/>
                    </a:lnTo>
                    <a:lnTo>
                      <a:pt x="461" y="1548"/>
                    </a:lnTo>
                    <a:lnTo>
                      <a:pt x="421" y="1376"/>
                    </a:lnTo>
                    <a:lnTo>
                      <a:pt x="389" y="1242"/>
                    </a:lnTo>
                    <a:lnTo>
                      <a:pt x="355" y="1105"/>
                    </a:lnTo>
                    <a:lnTo>
                      <a:pt x="321" y="966"/>
                    </a:lnTo>
                    <a:lnTo>
                      <a:pt x="284" y="825"/>
                    </a:lnTo>
                    <a:lnTo>
                      <a:pt x="248" y="683"/>
                    </a:lnTo>
                    <a:lnTo>
                      <a:pt x="211" y="542"/>
                    </a:lnTo>
                    <a:lnTo>
                      <a:pt x="174" y="404"/>
                    </a:lnTo>
                    <a:lnTo>
                      <a:pt x="136" y="267"/>
                    </a:lnTo>
                    <a:lnTo>
                      <a:pt x="98" y="134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6294600" y="3075120"/>
                <a:ext cx="149040" cy="471240"/>
              </a:xfrm>
              <a:custGeom>
                <a:avLst/>
                <a:gdLst/>
                <a:ahLst/>
                <a:rect l="l" t="t" r="r" b="b"/>
                <a:pathLst>
                  <a:path w="471" h="1483">
                    <a:moveTo>
                      <a:pt x="113" y="0"/>
                    </a:moveTo>
                    <a:lnTo>
                      <a:pt x="144" y="89"/>
                    </a:lnTo>
                    <a:lnTo>
                      <a:pt x="172" y="180"/>
                    </a:lnTo>
                    <a:lnTo>
                      <a:pt x="201" y="271"/>
                    </a:lnTo>
                    <a:lnTo>
                      <a:pt x="227" y="364"/>
                    </a:lnTo>
                    <a:lnTo>
                      <a:pt x="253" y="457"/>
                    </a:lnTo>
                    <a:lnTo>
                      <a:pt x="278" y="551"/>
                    </a:lnTo>
                    <a:lnTo>
                      <a:pt x="302" y="644"/>
                    </a:lnTo>
                    <a:lnTo>
                      <a:pt x="325" y="739"/>
                    </a:lnTo>
                    <a:lnTo>
                      <a:pt x="347" y="833"/>
                    </a:lnTo>
                    <a:lnTo>
                      <a:pt x="367" y="926"/>
                    </a:lnTo>
                    <a:lnTo>
                      <a:pt x="388" y="1020"/>
                    </a:lnTo>
                    <a:lnTo>
                      <a:pt x="406" y="1111"/>
                    </a:lnTo>
                    <a:lnTo>
                      <a:pt x="424" y="1203"/>
                    </a:lnTo>
                    <a:lnTo>
                      <a:pt x="440" y="1294"/>
                    </a:lnTo>
                    <a:lnTo>
                      <a:pt x="456" y="1383"/>
                    </a:lnTo>
                    <a:lnTo>
                      <a:pt x="471" y="1469"/>
                    </a:lnTo>
                    <a:lnTo>
                      <a:pt x="453" y="1470"/>
                    </a:lnTo>
                    <a:lnTo>
                      <a:pt x="436" y="1473"/>
                    </a:lnTo>
                    <a:lnTo>
                      <a:pt x="418" y="1474"/>
                    </a:lnTo>
                    <a:lnTo>
                      <a:pt x="398" y="1476"/>
                    </a:lnTo>
                    <a:lnTo>
                      <a:pt x="380" y="1477"/>
                    </a:lnTo>
                    <a:lnTo>
                      <a:pt x="361" y="1480"/>
                    </a:lnTo>
                    <a:lnTo>
                      <a:pt x="341" y="1481"/>
                    </a:lnTo>
                    <a:lnTo>
                      <a:pt x="321" y="1483"/>
                    </a:lnTo>
                    <a:lnTo>
                      <a:pt x="285" y="1300"/>
                    </a:lnTo>
                    <a:lnTo>
                      <a:pt x="248" y="1112"/>
                    </a:lnTo>
                    <a:lnTo>
                      <a:pt x="208" y="922"/>
                    </a:lnTo>
                    <a:lnTo>
                      <a:pt x="168" y="730"/>
                    </a:lnTo>
                    <a:lnTo>
                      <a:pt x="126" y="541"/>
                    </a:lnTo>
                    <a:lnTo>
                      <a:pt x="85" y="355"/>
                    </a:lnTo>
                    <a:lnTo>
                      <a:pt x="42" y="173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6321600" y="3075120"/>
                <a:ext cx="133200" cy="468360"/>
              </a:xfrm>
              <a:custGeom>
                <a:avLst/>
                <a:gdLst/>
                <a:ahLst/>
                <a:rect l="l" t="t" r="r" b="b"/>
                <a:pathLst>
                  <a:path w="419" h="1473">
                    <a:moveTo>
                      <a:pt x="419" y="1467"/>
                    </a:moveTo>
                    <a:lnTo>
                      <a:pt x="410" y="1412"/>
                    </a:lnTo>
                    <a:lnTo>
                      <a:pt x="385" y="1273"/>
                    </a:lnTo>
                    <a:lnTo>
                      <a:pt x="358" y="1130"/>
                    </a:lnTo>
                    <a:lnTo>
                      <a:pt x="327" y="986"/>
                    </a:lnTo>
                    <a:lnTo>
                      <a:pt x="295" y="839"/>
                    </a:lnTo>
                    <a:lnTo>
                      <a:pt x="260" y="692"/>
                    </a:lnTo>
                    <a:lnTo>
                      <a:pt x="240" y="618"/>
                    </a:lnTo>
                    <a:lnTo>
                      <a:pt x="222" y="545"/>
                    </a:lnTo>
                    <a:lnTo>
                      <a:pt x="202" y="472"/>
                    </a:lnTo>
                    <a:lnTo>
                      <a:pt x="182" y="400"/>
                    </a:lnTo>
                    <a:lnTo>
                      <a:pt x="161" y="327"/>
                    </a:lnTo>
                    <a:lnTo>
                      <a:pt x="139" y="255"/>
                    </a:lnTo>
                    <a:lnTo>
                      <a:pt x="117" y="185"/>
                    </a:lnTo>
                    <a:lnTo>
                      <a:pt x="94" y="114"/>
                    </a:lnTo>
                    <a:lnTo>
                      <a:pt x="70" y="44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12" y="36"/>
                    </a:lnTo>
                    <a:lnTo>
                      <a:pt x="35" y="107"/>
                    </a:lnTo>
                    <a:lnTo>
                      <a:pt x="57" y="178"/>
                    </a:lnTo>
                    <a:lnTo>
                      <a:pt x="78" y="250"/>
                    </a:lnTo>
                    <a:lnTo>
                      <a:pt x="100" y="322"/>
                    </a:lnTo>
                    <a:lnTo>
                      <a:pt x="119" y="395"/>
                    </a:lnTo>
                    <a:lnTo>
                      <a:pt x="140" y="468"/>
                    </a:lnTo>
                    <a:lnTo>
                      <a:pt x="159" y="541"/>
                    </a:lnTo>
                    <a:lnTo>
                      <a:pt x="178" y="614"/>
                    </a:lnTo>
                    <a:lnTo>
                      <a:pt x="213" y="761"/>
                    </a:lnTo>
                    <a:lnTo>
                      <a:pt x="245" y="907"/>
                    </a:lnTo>
                    <a:lnTo>
                      <a:pt x="276" y="1052"/>
                    </a:lnTo>
                    <a:lnTo>
                      <a:pt x="303" y="1193"/>
                    </a:lnTo>
                    <a:lnTo>
                      <a:pt x="328" y="1333"/>
                    </a:lnTo>
                    <a:lnTo>
                      <a:pt x="350" y="1469"/>
                    </a:lnTo>
                    <a:lnTo>
                      <a:pt x="351" y="1473"/>
                    </a:lnTo>
                    <a:lnTo>
                      <a:pt x="359" y="1472"/>
                    </a:lnTo>
                    <a:lnTo>
                      <a:pt x="368" y="1470"/>
                    </a:lnTo>
                    <a:lnTo>
                      <a:pt x="377" y="1470"/>
                    </a:lnTo>
                    <a:lnTo>
                      <a:pt x="385" y="1469"/>
                    </a:lnTo>
                    <a:lnTo>
                      <a:pt x="394" y="1469"/>
                    </a:lnTo>
                    <a:lnTo>
                      <a:pt x="402" y="1468"/>
                    </a:lnTo>
                    <a:lnTo>
                      <a:pt x="410" y="1467"/>
                    </a:lnTo>
                    <a:lnTo>
                      <a:pt x="419" y="146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6284880" y="3075120"/>
                <a:ext cx="122400" cy="471240"/>
              </a:xfrm>
              <a:custGeom>
                <a:avLst/>
                <a:gdLst/>
                <a:ahLst/>
                <a:rect l="l" t="t" r="r" b="b"/>
                <a:pathLst>
                  <a:path w="386" h="1486">
                    <a:moveTo>
                      <a:pt x="0" y="0"/>
                    </a:moveTo>
                    <a:lnTo>
                      <a:pt x="24" y="98"/>
                    </a:lnTo>
                    <a:lnTo>
                      <a:pt x="60" y="248"/>
                    </a:lnTo>
                    <a:lnTo>
                      <a:pt x="96" y="405"/>
                    </a:lnTo>
                    <a:lnTo>
                      <a:pt x="131" y="565"/>
                    </a:lnTo>
                    <a:lnTo>
                      <a:pt x="166" y="725"/>
                    </a:lnTo>
                    <a:lnTo>
                      <a:pt x="200" y="887"/>
                    </a:lnTo>
                    <a:lnTo>
                      <a:pt x="234" y="1048"/>
                    </a:lnTo>
                    <a:lnTo>
                      <a:pt x="266" y="1208"/>
                    </a:lnTo>
                    <a:lnTo>
                      <a:pt x="297" y="1364"/>
                    </a:lnTo>
                    <a:lnTo>
                      <a:pt x="321" y="1486"/>
                    </a:lnTo>
                    <a:lnTo>
                      <a:pt x="329" y="1485"/>
                    </a:lnTo>
                    <a:lnTo>
                      <a:pt x="337" y="1484"/>
                    </a:lnTo>
                    <a:lnTo>
                      <a:pt x="345" y="1484"/>
                    </a:lnTo>
                    <a:lnTo>
                      <a:pt x="354" y="1483"/>
                    </a:lnTo>
                    <a:lnTo>
                      <a:pt x="362" y="1482"/>
                    </a:lnTo>
                    <a:lnTo>
                      <a:pt x="370" y="1482"/>
                    </a:lnTo>
                    <a:lnTo>
                      <a:pt x="378" y="1481"/>
                    </a:lnTo>
                    <a:lnTo>
                      <a:pt x="386" y="1480"/>
                    </a:lnTo>
                    <a:lnTo>
                      <a:pt x="379" y="1443"/>
                    </a:lnTo>
                    <a:lnTo>
                      <a:pt x="348" y="1287"/>
                    </a:lnTo>
                    <a:lnTo>
                      <a:pt x="315" y="1127"/>
                    </a:lnTo>
                    <a:lnTo>
                      <a:pt x="282" y="965"/>
                    </a:lnTo>
                    <a:lnTo>
                      <a:pt x="248" y="804"/>
                    </a:lnTo>
                    <a:lnTo>
                      <a:pt x="214" y="642"/>
                    </a:lnTo>
                    <a:lnTo>
                      <a:pt x="178" y="484"/>
                    </a:lnTo>
                    <a:lnTo>
                      <a:pt x="142" y="327"/>
                    </a:lnTo>
                    <a:lnTo>
                      <a:pt x="106" y="175"/>
                    </a:lnTo>
                    <a:lnTo>
                      <a:pt x="71" y="31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3976560" y="3075120"/>
                <a:ext cx="214560" cy="474480"/>
              </a:xfrm>
              <a:custGeom>
                <a:avLst/>
                <a:gdLst/>
                <a:ahLst/>
                <a:rect l="l" t="t" r="r" b="b"/>
                <a:pathLst>
                  <a:path w="672" h="1494">
                    <a:moveTo>
                      <a:pt x="118" y="0"/>
                    </a:moveTo>
                    <a:lnTo>
                      <a:pt x="166" y="94"/>
                    </a:lnTo>
                    <a:lnTo>
                      <a:pt x="213" y="190"/>
                    </a:lnTo>
                    <a:lnTo>
                      <a:pt x="257" y="288"/>
                    </a:lnTo>
                    <a:lnTo>
                      <a:pt x="302" y="387"/>
                    </a:lnTo>
                    <a:lnTo>
                      <a:pt x="343" y="486"/>
                    </a:lnTo>
                    <a:lnTo>
                      <a:pt x="384" y="585"/>
                    </a:lnTo>
                    <a:lnTo>
                      <a:pt x="422" y="684"/>
                    </a:lnTo>
                    <a:lnTo>
                      <a:pt x="458" y="782"/>
                    </a:lnTo>
                    <a:lnTo>
                      <a:pt x="493" y="879"/>
                    </a:lnTo>
                    <a:lnTo>
                      <a:pt x="525" y="974"/>
                    </a:lnTo>
                    <a:lnTo>
                      <a:pt x="556" y="1068"/>
                    </a:lnTo>
                    <a:lnTo>
                      <a:pt x="584" y="1158"/>
                    </a:lnTo>
                    <a:lnTo>
                      <a:pt x="610" y="1246"/>
                    </a:lnTo>
                    <a:lnTo>
                      <a:pt x="633" y="1329"/>
                    </a:lnTo>
                    <a:lnTo>
                      <a:pt x="653" y="1410"/>
                    </a:lnTo>
                    <a:lnTo>
                      <a:pt x="672" y="1485"/>
                    </a:lnTo>
                    <a:lnTo>
                      <a:pt x="660" y="1486"/>
                    </a:lnTo>
                    <a:lnTo>
                      <a:pt x="647" y="1487"/>
                    </a:lnTo>
                    <a:lnTo>
                      <a:pt x="635" y="1487"/>
                    </a:lnTo>
                    <a:lnTo>
                      <a:pt x="622" y="1489"/>
                    </a:lnTo>
                    <a:lnTo>
                      <a:pt x="610" y="1491"/>
                    </a:lnTo>
                    <a:lnTo>
                      <a:pt x="597" y="1492"/>
                    </a:lnTo>
                    <a:lnTo>
                      <a:pt x="585" y="1493"/>
                    </a:lnTo>
                    <a:lnTo>
                      <a:pt x="571" y="1494"/>
                    </a:lnTo>
                    <a:lnTo>
                      <a:pt x="516" y="1336"/>
                    </a:lnTo>
                    <a:lnTo>
                      <a:pt x="452" y="1160"/>
                    </a:lnTo>
                    <a:lnTo>
                      <a:pt x="384" y="973"/>
                    </a:lnTo>
                    <a:lnTo>
                      <a:pt x="311" y="778"/>
                    </a:lnTo>
                    <a:lnTo>
                      <a:pt x="235" y="578"/>
                    </a:lnTo>
                    <a:lnTo>
                      <a:pt x="156" y="380"/>
                    </a:lnTo>
                    <a:lnTo>
                      <a:pt x="117" y="282"/>
                    </a:lnTo>
                    <a:lnTo>
                      <a:pt x="77" y="186"/>
                    </a:lnTo>
                    <a:lnTo>
                      <a:pt x="39" y="91"/>
                    </a:lnTo>
                    <a:lnTo>
                      <a:pt x="0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4008600" y="3075120"/>
                <a:ext cx="191880" cy="471240"/>
              </a:xfrm>
              <a:custGeom>
                <a:avLst/>
                <a:gdLst/>
                <a:ahLst/>
                <a:rect l="l" t="t" r="r" b="b"/>
                <a:pathLst>
                  <a:path w="606" h="1487">
                    <a:moveTo>
                      <a:pt x="606" y="1484"/>
                    </a:moveTo>
                    <a:lnTo>
                      <a:pt x="597" y="1446"/>
                    </a:lnTo>
                    <a:lnTo>
                      <a:pt x="573" y="1357"/>
                    </a:lnTo>
                    <a:lnTo>
                      <a:pt x="547" y="1263"/>
                    </a:lnTo>
                    <a:lnTo>
                      <a:pt x="517" y="1163"/>
                    </a:lnTo>
                    <a:lnTo>
                      <a:pt x="485" y="1062"/>
                    </a:lnTo>
                    <a:lnTo>
                      <a:pt x="450" y="956"/>
                    </a:lnTo>
                    <a:lnTo>
                      <a:pt x="412" y="849"/>
                    </a:lnTo>
                    <a:lnTo>
                      <a:pt x="373" y="739"/>
                    </a:lnTo>
                    <a:lnTo>
                      <a:pt x="329" y="630"/>
                    </a:lnTo>
                    <a:lnTo>
                      <a:pt x="285" y="518"/>
                    </a:lnTo>
                    <a:lnTo>
                      <a:pt x="238" y="407"/>
                    </a:lnTo>
                    <a:lnTo>
                      <a:pt x="189" y="298"/>
                    </a:lnTo>
                    <a:lnTo>
                      <a:pt x="138" y="189"/>
                    </a:lnTo>
                    <a:lnTo>
                      <a:pt x="111" y="136"/>
                    </a:lnTo>
                    <a:lnTo>
                      <a:pt x="85" y="83"/>
                    </a:lnTo>
                    <a:lnTo>
                      <a:pt x="58" y="31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32" y="61"/>
                    </a:lnTo>
                    <a:lnTo>
                      <a:pt x="58" y="115"/>
                    </a:lnTo>
                    <a:lnTo>
                      <a:pt x="108" y="223"/>
                    </a:lnTo>
                    <a:lnTo>
                      <a:pt x="157" y="333"/>
                    </a:lnTo>
                    <a:lnTo>
                      <a:pt x="204" y="442"/>
                    </a:lnTo>
                    <a:lnTo>
                      <a:pt x="248" y="553"/>
                    </a:lnTo>
                    <a:lnTo>
                      <a:pt x="290" y="663"/>
                    </a:lnTo>
                    <a:lnTo>
                      <a:pt x="330" y="772"/>
                    </a:lnTo>
                    <a:lnTo>
                      <a:pt x="368" y="879"/>
                    </a:lnTo>
                    <a:lnTo>
                      <a:pt x="403" y="984"/>
                    </a:lnTo>
                    <a:lnTo>
                      <a:pt x="435" y="1086"/>
                    </a:lnTo>
                    <a:lnTo>
                      <a:pt x="465" y="1185"/>
                    </a:lnTo>
                    <a:lnTo>
                      <a:pt x="491" y="1279"/>
                    </a:lnTo>
                    <a:lnTo>
                      <a:pt x="515" y="1369"/>
                    </a:lnTo>
                    <a:lnTo>
                      <a:pt x="536" y="1452"/>
                    </a:lnTo>
                    <a:lnTo>
                      <a:pt x="542" y="1487"/>
                    </a:lnTo>
                    <a:lnTo>
                      <a:pt x="550" y="1487"/>
                    </a:lnTo>
                    <a:lnTo>
                      <a:pt x="558" y="1486"/>
                    </a:lnTo>
                    <a:lnTo>
                      <a:pt x="566" y="1486"/>
                    </a:lnTo>
                    <a:lnTo>
                      <a:pt x="574" y="1485"/>
                    </a:lnTo>
                    <a:lnTo>
                      <a:pt x="582" y="1485"/>
                    </a:lnTo>
                    <a:lnTo>
                      <a:pt x="590" y="1484"/>
                    </a:lnTo>
                    <a:lnTo>
                      <a:pt x="598" y="1484"/>
                    </a:lnTo>
                    <a:lnTo>
                      <a:pt x="606" y="148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3968640" y="3075120"/>
                <a:ext cx="198720" cy="476280"/>
              </a:xfrm>
              <a:custGeom>
                <a:avLst/>
                <a:gdLst/>
                <a:ahLst/>
                <a:rect l="l" t="t" r="r" b="b"/>
                <a:pathLst>
                  <a:path w="621" h="1498">
                    <a:moveTo>
                      <a:pt x="0" y="0"/>
                    </a:moveTo>
                    <a:lnTo>
                      <a:pt x="41" y="99"/>
                    </a:lnTo>
                    <a:lnTo>
                      <a:pt x="89" y="217"/>
                    </a:lnTo>
                    <a:lnTo>
                      <a:pt x="138" y="336"/>
                    </a:lnTo>
                    <a:lnTo>
                      <a:pt x="186" y="460"/>
                    </a:lnTo>
                    <a:lnTo>
                      <a:pt x="234" y="582"/>
                    </a:lnTo>
                    <a:lnTo>
                      <a:pt x="327" y="827"/>
                    </a:lnTo>
                    <a:lnTo>
                      <a:pt x="415" y="1062"/>
                    </a:lnTo>
                    <a:lnTo>
                      <a:pt x="494" y="1282"/>
                    </a:lnTo>
                    <a:lnTo>
                      <a:pt x="562" y="1477"/>
                    </a:lnTo>
                    <a:lnTo>
                      <a:pt x="569" y="1498"/>
                    </a:lnTo>
                    <a:lnTo>
                      <a:pt x="576" y="1497"/>
                    </a:lnTo>
                    <a:lnTo>
                      <a:pt x="582" y="1495"/>
                    </a:lnTo>
                    <a:lnTo>
                      <a:pt x="589" y="1495"/>
                    </a:lnTo>
                    <a:lnTo>
                      <a:pt x="595" y="1494"/>
                    </a:lnTo>
                    <a:lnTo>
                      <a:pt x="602" y="1494"/>
                    </a:lnTo>
                    <a:lnTo>
                      <a:pt x="609" y="1493"/>
                    </a:lnTo>
                    <a:lnTo>
                      <a:pt x="616" y="1492"/>
                    </a:lnTo>
                    <a:lnTo>
                      <a:pt x="621" y="1492"/>
                    </a:lnTo>
                    <a:lnTo>
                      <a:pt x="576" y="1359"/>
                    </a:lnTo>
                    <a:lnTo>
                      <a:pt x="496" y="1138"/>
                    </a:lnTo>
                    <a:lnTo>
                      <a:pt x="408" y="903"/>
                    </a:lnTo>
                    <a:lnTo>
                      <a:pt x="316" y="658"/>
                    </a:lnTo>
                    <a:lnTo>
                      <a:pt x="268" y="535"/>
                    </a:lnTo>
                    <a:lnTo>
                      <a:pt x="219" y="413"/>
                    </a:lnTo>
                    <a:lnTo>
                      <a:pt x="171" y="293"/>
                    </a:lnTo>
                    <a:lnTo>
                      <a:pt x="122" y="174"/>
                    </a:lnTo>
                    <a:lnTo>
                      <a:pt x="74" y="6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3449520" y="3075120"/>
                <a:ext cx="228600" cy="523800"/>
              </a:xfrm>
              <a:custGeom>
                <a:avLst/>
                <a:gdLst/>
                <a:ahLst/>
                <a:rect l="l" t="t" r="r" b="b"/>
                <a:pathLst>
                  <a:path w="719" h="1652">
                    <a:moveTo>
                      <a:pt x="112" y="0"/>
                    </a:moveTo>
                    <a:lnTo>
                      <a:pt x="140" y="52"/>
                    </a:lnTo>
                    <a:lnTo>
                      <a:pt x="168" y="106"/>
                    </a:lnTo>
                    <a:lnTo>
                      <a:pt x="194" y="160"/>
                    </a:lnTo>
                    <a:lnTo>
                      <a:pt x="221" y="214"/>
                    </a:lnTo>
                    <a:lnTo>
                      <a:pt x="247" y="269"/>
                    </a:lnTo>
                    <a:lnTo>
                      <a:pt x="272" y="325"/>
                    </a:lnTo>
                    <a:lnTo>
                      <a:pt x="298" y="381"/>
                    </a:lnTo>
                    <a:lnTo>
                      <a:pt x="323" y="437"/>
                    </a:lnTo>
                    <a:lnTo>
                      <a:pt x="371" y="550"/>
                    </a:lnTo>
                    <a:lnTo>
                      <a:pt x="416" y="663"/>
                    </a:lnTo>
                    <a:lnTo>
                      <a:pt x="458" y="774"/>
                    </a:lnTo>
                    <a:lnTo>
                      <a:pt x="499" y="886"/>
                    </a:lnTo>
                    <a:lnTo>
                      <a:pt x="537" y="995"/>
                    </a:lnTo>
                    <a:lnTo>
                      <a:pt x="572" y="1102"/>
                    </a:lnTo>
                    <a:lnTo>
                      <a:pt x="605" y="1206"/>
                    </a:lnTo>
                    <a:lnTo>
                      <a:pt x="634" y="1305"/>
                    </a:lnTo>
                    <a:lnTo>
                      <a:pt x="660" y="1401"/>
                    </a:lnTo>
                    <a:lnTo>
                      <a:pt x="684" y="1490"/>
                    </a:lnTo>
                    <a:lnTo>
                      <a:pt x="703" y="1574"/>
                    </a:lnTo>
                    <a:lnTo>
                      <a:pt x="719" y="1652"/>
                    </a:lnTo>
                    <a:lnTo>
                      <a:pt x="708" y="1652"/>
                    </a:lnTo>
                    <a:lnTo>
                      <a:pt x="698" y="1652"/>
                    </a:lnTo>
                    <a:lnTo>
                      <a:pt x="686" y="1652"/>
                    </a:lnTo>
                    <a:lnTo>
                      <a:pt x="675" y="1652"/>
                    </a:lnTo>
                    <a:lnTo>
                      <a:pt x="663" y="1652"/>
                    </a:lnTo>
                    <a:lnTo>
                      <a:pt x="652" y="1651"/>
                    </a:lnTo>
                    <a:lnTo>
                      <a:pt x="641" y="1651"/>
                    </a:lnTo>
                    <a:lnTo>
                      <a:pt x="629" y="1651"/>
                    </a:lnTo>
                    <a:lnTo>
                      <a:pt x="572" y="1485"/>
                    </a:lnTo>
                    <a:lnTo>
                      <a:pt x="505" y="1296"/>
                    </a:lnTo>
                    <a:lnTo>
                      <a:pt x="430" y="1089"/>
                    </a:lnTo>
                    <a:lnTo>
                      <a:pt x="349" y="871"/>
                    </a:lnTo>
                    <a:lnTo>
                      <a:pt x="263" y="648"/>
                    </a:lnTo>
                    <a:lnTo>
                      <a:pt x="176" y="424"/>
                    </a:lnTo>
                    <a:lnTo>
                      <a:pt x="131" y="314"/>
                    </a:lnTo>
                    <a:lnTo>
                      <a:pt x="87" y="206"/>
                    </a:lnTo>
                    <a:lnTo>
                      <a:pt x="43" y="101"/>
                    </a:lnTo>
                    <a:lnTo>
                      <a:pt x="0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3478320" y="3075120"/>
                <a:ext cx="210960" cy="525240"/>
              </a:xfrm>
              <a:custGeom>
                <a:avLst/>
                <a:gdLst/>
                <a:ahLst/>
                <a:rect l="l" t="t" r="r" b="b"/>
                <a:pathLst>
                  <a:path w="661" h="1653">
                    <a:moveTo>
                      <a:pt x="661" y="1653"/>
                    </a:moveTo>
                    <a:lnTo>
                      <a:pt x="648" y="1589"/>
                    </a:lnTo>
                    <a:lnTo>
                      <a:pt x="627" y="1505"/>
                    </a:lnTo>
                    <a:lnTo>
                      <a:pt x="604" y="1416"/>
                    </a:lnTo>
                    <a:lnTo>
                      <a:pt x="577" y="1321"/>
                    </a:lnTo>
                    <a:lnTo>
                      <a:pt x="547" y="1222"/>
                    </a:lnTo>
                    <a:lnTo>
                      <a:pt x="515" y="1120"/>
                    </a:lnTo>
                    <a:lnTo>
                      <a:pt x="480" y="1014"/>
                    </a:lnTo>
                    <a:lnTo>
                      <a:pt x="443" y="907"/>
                    </a:lnTo>
                    <a:lnTo>
                      <a:pt x="403" y="797"/>
                    </a:lnTo>
                    <a:lnTo>
                      <a:pt x="360" y="687"/>
                    </a:lnTo>
                    <a:lnTo>
                      <a:pt x="315" y="576"/>
                    </a:lnTo>
                    <a:lnTo>
                      <a:pt x="268" y="465"/>
                    </a:lnTo>
                    <a:lnTo>
                      <a:pt x="219" y="356"/>
                    </a:lnTo>
                    <a:lnTo>
                      <a:pt x="168" y="247"/>
                    </a:lnTo>
                    <a:lnTo>
                      <a:pt x="142" y="194"/>
                    </a:lnTo>
                    <a:lnTo>
                      <a:pt x="115" y="140"/>
                    </a:lnTo>
                    <a:lnTo>
                      <a:pt x="88" y="88"/>
                    </a:lnTo>
                    <a:lnTo>
                      <a:pt x="61" y="36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8" y="16"/>
                    </a:lnTo>
                    <a:lnTo>
                      <a:pt x="36" y="67"/>
                    </a:lnTo>
                    <a:lnTo>
                      <a:pt x="62" y="120"/>
                    </a:lnTo>
                    <a:lnTo>
                      <a:pt x="88" y="173"/>
                    </a:lnTo>
                    <a:lnTo>
                      <a:pt x="138" y="280"/>
                    </a:lnTo>
                    <a:lnTo>
                      <a:pt x="187" y="390"/>
                    </a:lnTo>
                    <a:lnTo>
                      <a:pt x="234" y="501"/>
                    </a:lnTo>
                    <a:lnTo>
                      <a:pt x="278" y="611"/>
                    </a:lnTo>
                    <a:lnTo>
                      <a:pt x="322" y="721"/>
                    </a:lnTo>
                    <a:lnTo>
                      <a:pt x="362" y="829"/>
                    </a:lnTo>
                    <a:lnTo>
                      <a:pt x="399" y="938"/>
                    </a:lnTo>
                    <a:lnTo>
                      <a:pt x="433" y="1043"/>
                    </a:lnTo>
                    <a:lnTo>
                      <a:pt x="466" y="1144"/>
                    </a:lnTo>
                    <a:lnTo>
                      <a:pt x="495" y="1242"/>
                    </a:lnTo>
                    <a:lnTo>
                      <a:pt x="522" y="1337"/>
                    </a:lnTo>
                    <a:lnTo>
                      <a:pt x="545" y="1427"/>
                    </a:lnTo>
                    <a:lnTo>
                      <a:pt x="566" y="1510"/>
                    </a:lnTo>
                    <a:lnTo>
                      <a:pt x="583" y="1589"/>
                    </a:lnTo>
                    <a:lnTo>
                      <a:pt x="594" y="1652"/>
                    </a:lnTo>
                    <a:lnTo>
                      <a:pt x="603" y="1652"/>
                    </a:lnTo>
                    <a:lnTo>
                      <a:pt x="611" y="1652"/>
                    </a:lnTo>
                    <a:lnTo>
                      <a:pt x="619" y="1652"/>
                    </a:lnTo>
                    <a:lnTo>
                      <a:pt x="628" y="1652"/>
                    </a:lnTo>
                    <a:lnTo>
                      <a:pt x="636" y="1652"/>
                    </a:lnTo>
                    <a:lnTo>
                      <a:pt x="644" y="1652"/>
                    </a:lnTo>
                    <a:lnTo>
                      <a:pt x="653" y="1653"/>
                    </a:lnTo>
                    <a:lnTo>
                      <a:pt x="661" y="165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3" name=""/>
            <p:cNvGrpSpPr/>
            <p:nvPr/>
          </p:nvGrpSpPr>
          <p:grpSpPr>
            <a:xfrm>
              <a:off x="2585880" y="3075120"/>
              <a:ext cx="3922920" cy="527040"/>
              <a:chOff x="2585880" y="3075120"/>
              <a:chExt cx="3922920" cy="527040"/>
            </a:xfrm>
          </p:grpSpPr>
          <p:sp>
            <p:nvSpPr>
              <p:cNvPr id="7234" name=""/>
              <p:cNvSpPr/>
              <p:nvPr/>
            </p:nvSpPr>
            <p:spPr>
              <a:xfrm>
                <a:off x="3441600" y="3075120"/>
                <a:ext cx="217440" cy="523800"/>
              </a:xfrm>
              <a:custGeom>
                <a:avLst/>
                <a:gdLst/>
                <a:ahLst/>
                <a:rect l="l" t="t" r="r" b="b"/>
                <a:pathLst>
                  <a:path w="682" h="1651">
                    <a:moveTo>
                      <a:pt x="0" y="0"/>
                    </a:moveTo>
                    <a:lnTo>
                      <a:pt x="18" y="42"/>
                    </a:lnTo>
                    <a:lnTo>
                      <a:pt x="66" y="157"/>
                    </a:lnTo>
                    <a:lnTo>
                      <a:pt x="115" y="275"/>
                    </a:lnTo>
                    <a:lnTo>
                      <a:pt x="163" y="395"/>
                    </a:lnTo>
                    <a:lnTo>
                      <a:pt x="212" y="517"/>
                    </a:lnTo>
                    <a:lnTo>
                      <a:pt x="259" y="640"/>
                    </a:lnTo>
                    <a:lnTo>
                      <a:pt x="352" y="884"/>
                    </a:lnTo>
                    <a:lnTo>
                      <a:pt x="440" y="1120"/>
                    </a:lnTo>
                    <a:lnTo>
                      <a:pt x="519" y="1339"/>
                    </a:lnTo>
                    <a:lnTo>
                      <a:pt x="587" y="1535"/>
                    </a:lnTo>
                    <a:lnTo>
                      <a:pt x="617" y="1621"/>
                    </a:lnTo>
                    <a:lnTo>
                      <a:pt x="626" y="1650"/>
                    </a:lnTo>
                    <a:lnTo>
                      <a:pt x="633" y="1650"/>
                    </a:lnTo>
                    <a:lnTo>
                      <a:pt x="639" y="1650"/>
                    </a:lnTo>
                    <a:lnTo>
                      <a:pt x="647" y="1650"/>
                    </a:lnTo>
                    <a:lnTo>
                      <a:pt x="654" y="1651"/>
                    </a:lnTo>
                    <a:lnTo>
                      <a:pt x="661" y="1651"/>
                    </a:lnTo>
                    <a:lnTo>
                      <a:pt x="668" y="1651"/>
                    </a:lnTo>
                    <a:lnTo>
                      <a:pt x="675" y="1651"/>
                    </a:lnTo>
                    <a:lnTo>
                      <a:pt x="682" y="1651"/>
                    </a:lnTo>
                    <a:lnTo>
                      <a:pt x="669" y="1612"/>
                    </a:lnTo>
                    <a:lnTo>
                      <a:pt x="601" y="1417"/>
                    </a:lnTo>
                    <a:lnTo>
                      <a:pt x="521" y="1197"/>
                    </a:lnTo>
                    <a:lnTo>
                      <a:pt x="434" y="960"/>
                    </a:lnTo>
                    <a:lnTo>
                      <a:pt x="341" y="716"/>
                    </a:lnTo>
                    <a:lnTo>
                      <a:pt x="293" y="593"/>
                    </a:lnTo>
                    <a:lnTo>
                      <a:pt x="244" y="471"/>
                    </a:lnTo>
                    <a:lnTo>
                      <a:pt x="196" y="350"/>
                    </a:lnTo>
                    <a:lnTo>
                      <a:pt x="147" y="233"/>
                    </a:lnTo>
                    <a:lnTo>
                      <a:pt x="99" y="118"/>
                    </a:lnTo>
                    <a:lnTo>
                      <a:pt x="52" y="9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2971800" y="3075120"/>
                <a:ext cx="217440" cy="480960"/>
              </a:xfrm>
              <a:custGeom>
                <a:avLst/>
                <a:gdLst/>
                <a:ahLst/>
                <a:rect l="l" t="t" r="r" b="b"/>
                <a:pathLst>
                  <a:path w="687" h="1513">
                    <a:moveTo>
                      <a:pt x="111" y="0"/>
                    </a:moveTo>
                    <a:lnTo>
                      <a:pt x="160" y="93"/>
                    </a:lnTo>
                    <a:lnTo>
                      <a:pt x="207" y="188"/>
                    </a:lnTo>
                    <a:lnTo>
                      <a:pt x="254" y="286"/>
                    </a:lnTo>
                    <a:lnTo>
                      <a:pt x="299" y="384"/>
                    </a:lnTo>
                    <a:lnTo>
                      <a:pt x="342" y="484"/>
                    </a:lnTo>
                    <a:lnTo>
                      <a:pt x="384" y="584"/>
                    </a:lnTo>
                    <a:lnTo>
                      <a:pt x="424" y="683"/>
                    </a:lnTo>
                    <a:lnTo>
                      <a:pt x="462" y="782"/>
                    </a:lnTo>
                    <a:lnTo>
                      <a:pt x="497" y="881"/>
                    </a:lnTo>
                    <a:lnTo>
                      <a:pt x="531" y="978"/>
                    </a:lnTo>
                    <a:lnTo>
                      <a:pt x="563" y="1072"/>
                    </a:lnTo>
                    <a:lnTo>
                      <a:pt x="593" y="1166"/>
                    </a:lnTo>
                    <a:lnTo>
                      <a:pt x="620" y="1256"/>
                    </a:lnTo>
                    <a:lnTo>
                      <a:pt x="645" y="1341"/>
                    </a:lnTo>
                    <a:lnTo>
                      <a:pt x="668" y="1425"/>
                    </a:lnTo>
                    <a:lnTo>
                      <a:pt x="687" y="1503"/>
                    </a:lnTo>
                    <a:lnTo>
                      <a:pt x="674" y="1505"/>
                    </a:lnTo>
                    <a:lnTo>
                      <a:pt x="661" y="1506"/>
                    </a:lnTo>
                    <a:lnTo>
                      <a:pt x="647" y="1507"/>
                    </a:lnTo>
                    <a:lnTo>
                      <a:pt x="635" y="1508"/>
                    </a:lnTo>
                    <a:lnTo>
                      <a:pt x="621" y="1509"/>
                    </a:lnTo>
                    <a:lnTo>
                      <a:pt x="609" y="1510"/>
                    </a:lnTo>
                    <a:lnTo>
                      <a:pt x="595" y="1511"/>
                    </a:lnTo>
                    <a:lnTo>
                      <a:pt x="582" y="1513"/>
                    </a:lnTo>
                    <a:lnTo>
                      <a:pt x="523" y="1346"/>
                    </a:lnTo>
                    <a:lnTo>
                      <a:pt x="458" y="1166"/>
                    </a:lnTo>
                    <a:lnTo>
                      <a:pt x="388" y="974"/>
                    </a:lnTo>
                    <a:lnTo>
                      <a:pt x="312" y="776"/>
                    </a:lnTo>
                    <a:lnTo>
                      <a:pt x="235" y="575"/>
                    </a:lnTo>
                    <a:lnTo>
                      <a:pt x="156" y="376"/>
                    </a:lnTo>
                    <a:lnTo>
                      <a:pt x="116" y="278"/>
                    </a:lnTo>
                    <a:lnTo>
                      <a:pt x="76" y="183"/>
                    </a:lnTo>
                    <a:lnTo>
                      <a:pt x="38" y="90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3000240" y="3075120"/>
                <a:ext cx="198720" cy="477720"/>
              </a:xfrm>
              <a:custGeom>
                <a:avLst/>
                <a:gdLst/>
                <a:ahLst/>
                <a:rect l="l" t="t" r="r" b="b"/>
                <a:pathLst>
                  <a:path w="628" h="1506">
                    <a:moveTo>
                      <a:pt x="628" y="1502"/>
                    </a:moveTo>
                    <a:lnTo>
                      <a:pt x="606" y="1420"/>
                    </a:lnTo>
                    <a:lnTo>
                      <a:pt x="580" y="1325"/>
                    </a:lnTo>
                    <a:lnTo>
                      <a:pt x="551" y="1226"/>
                    </a:lnTo>
                    <a:lnTo>
                      <a:pt x="519" y="1125"/>
                    </a:lnTo>
                    <a:lnTo>
                      <a:pt x="483" y="1019"/>
                    </a:lnTo>
                    <a:lnTo>
                      <a:pt x="446" y="911"/>
                    </a:lnTo>
                    <a:lnTo>
                      <a:pt x="406" y="802"/>
                    </a:lnTo>
                    <a:lnTo>
                      <a:pt x="363" y="692"/>
                    </a:lnTo>
                    <a:lnTo>
                      <a:pt x="318" y="582"/>
                    </a:lnTo>
                    <a:lnTo>
                      <a:pt x="271" y="470"/>
                    </a:lnTo>
                    <a:lnTo>
                      <a:pt x="222" y="360"/>
                    </a:lnTo>
                    <a:lnTo>
                      <a:pt x="171" y="252"/>
                    </a:lnTo>
                    <a:lnTo>
                      <a:pt x="145" y="198"/>
                    </a:lnTo>
                    <a:lnTo>
                      <a:pt x="119" y="146"/>
                    </a:lnTo>
                    <a:lnTo>
                      <a:pt x="91" y="93"/>
                    </a:lnTo>
                    <a:lnTo>
                      <a:pt x="64" y="4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11" y="20"/>
                    </a:lnTo>
                    <a:lnTo>
                      <a:pt x="38" y="72"/>
                    </a:lnTo>
                    <a:lnTo>
                      <a:pt x="65" y="124"/>
                    </a:lnTo>
                    <a:lnTo>
                      <a:pt x="90" y="178"/>
                    </a:lnTo>
                    <a:lnTo>
                      <a:pt x="141" y="286"/>
                    </a:lnTo>
                    <a:lnTo>
                      <a:pt x="190" y="396"/>
                    </a:lnTo>
                    <a:lnTo>
                      <a:pt x="237" y="505"/>
                    </a:lnTo>
                    <a:lnTo>
                      <a:pt x="282" y="616"/>
                    </a:lnTo>
                    <a:lnTo>
                      <a:pt x="324" y="725"/>
                    </a:lnTo>
                    <a:lnTo>
                      <a:pt x="364" y="835"/>
                    </a:lnTo>
                    <a:lnTo>
                      <a:pt x="401" y="942"/>
                    </a:lnTo>
                    <a:lnTo>
                      <a:pt x="437" y="1047"/>
                    </a:lnTo>
                    <a:lnTo>
                      <a:pt x="469" y="1149"/>
                    </a:lnTo>
                    <a:lnTo>
                      <a:pt x="498" y="1248"/>
                    </a:lnTo>
                    <a:lnTo>
                      <a:pt x="524" y="1341"/>
                    </a:lnTo>
                    <a:lnTo>
                      <a:pt x="548" y="1432"/>
                    </a:lnTo>
                    <a:lnTo>
                      <a:pt x="567" y="1506"/>
                    </a:lnTo>
                    <a:lnTo>
                      <a:pt x="573" y="1506"/>
                    </a:lnTo>
                    <a:lnTo>
                      <a:pt x="581" y="1505"/>
                    </a:lnTo>
                    <a:lnTo>
                      <a:pt x="589" y="1505"/>
                    </a:lnTo>
                    <a:lnTo>
                      <a:pt x="597" y="1503"/>
                    </a:lnTo>
                    <a:lnTo>
                      <a:pt x="604" y="1503"/>
                    </a:lnTo>
                    <a:lnTo>
                      <a:pt x="612" y="1502"/>
                    </a:lnTo>
                    <a:lnTo>
                      <a:pt x="620" y="1502"/>
                    </a:lnTo>
                    <a:lnTo>
                      <a:pt x="628" y="15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2963880" y="3075120"/>
                <a:ext cx="200160" cy="480960"/>
              </a:xfrm>
              <a:custGeom>
                <a:avLst/>
                <a:gdLst/>
                <a:ahLst/>
                <a:rect l="l" t="t" r="r" b="b"/>
                <a:pathLst>
                  <a:path w="633" h="1515">
                    <a:moveTo>
                      <a:pt x="0" y="0"/>
                    </a:moveTo>
                    <a:lnTo>
                      <a:pt x="20" y="48"/>
                    </a:lnTo>
                    <a:lnTo>
                      <a:pt x="68" y="162"/>
                    </a:lnTo>
                    <a:lnTo>
                      <a:pt x="116" y="279"/>
                    </a:lnTo>
                    <a:lnTo>
                      <a:pt x="165" y="399"/>
                    </a:lnTo>
                    <a:lnTo>
                      <a:pt x="213" y="522"/>
                    </a:lnTo>
                    <a:lnTo>
                      <a:pt x="261" y="644"/>
                    </a:lnTo>
                    <a:lnTo>
                      <a:pt x="354" y="890"/>
                    </a:lnTo>
                    <a:lnTo>
                      <a:pt x="441" y="1125"/>
                    </a:lnTo>
                    <a:lnTo>
                      <a:pt x="521" y="1345"/>
                    </a:lnTo>
                    <a:lnTo>
                      <a:pt x="580" y="1515"/>
                    </a:lnTo>
                    <a:lnTo>
                      <a:pt x="587" y="1514"/>
                    </a:lnTo>
                    <a:lnTo>
                      <a:pt x="594" y="1514"/>
                    </a:lnTo>
                    <a:lnTo>
                      <a:pt x="599" y="1513"/>
                    </a:lnTo>
                    <a:lnTo>
                      <a:pt x="606" y="1513"/>
                    </a:lnTo>
                    <a:lnTo>
                      <a:pt x="613" y="1511"/>
                    </a:lnTo>
                    <a:lnTo>
                      <a:pt x="620" y="1511"/>
                    </a:lnTo>
                    <a:lnTo>
                      <a:pt x="627" y="1510"/>
                    </a:lnTo>
                    <a:lnTo>
                      <a:pt x="633" y="1510"/>
                    </a:lnTo>
                    <a:lnTo>
                      <a:pt x="602" y="1421"/>
                    </a:lnTo>
                    <a:lnTo>
                      <a:pt x="523" y="1201"/>
                    </a:lnTo>
                    <a:lnTo>
                      <a:pt x="435" y="966"/>
                    </a:lnTo>
                    <a:lnTo>
                      <a:pt x="343" y="721"/>
                    </a:lnTo>
                    <a:lnTo>
                      <a:pt x="294" y="598"/>
                    </a:lnTo>
                    <a:lnTo>
                      <a:pt x="246" y="476"/>
                    </a:lnTo>
                    <a:lnTo>
                      <a:pt x="197" y="356"/>
                    </a:lnTo>
                    <a:lnTo>
                      <a:pt x="149" y="237"/>
                    </a:lnTo>
                    <a:lnTo>
                      <a:pt x="101" y="123"/>
                    </a:lnTo>
                    <a:lnTo>
                      <a:pt x="55" y="13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2678040" y="3075120"/>
                <a:ext cx="104760" cy="525240"/>
              </a:xfrm>
              <a:custGeom>
                <a:avLst/>
                <a:gdLst/>
                <a:ahLst/>
                <a:rect l="l" t="t" r="r" b="b"/>
                <a:pathLst>
                  <a:path w="329" h="1655">
                    <a:moveTo>
                      <a:pt x="116" y="0"/>
                    </a:moveTo>
                    <a:lnTo>
                      <a:pt x="142" y="117"/>
                    </a:lnTo>
                    <a:lnTo>
                      <a:pt x="167" y="235"/>
                    </a:lnTo>
                    <a:lnTo>
                      <a:pt x="191" y="352"/>
                    </a:lnTo>
                    <a:lnTo>
                      <a:pt x="212" y="470"/>
                    </a:lnTo>
                    <a:lnTo>
                      <a:pt x="232" y="586"/>
                    </a:lnTo>
                    <a:lnTo>
                      <a:pt x="250" y="701"/>
                    </a:lnTo>
                    <a:lnTo>
                      <a:pt x="266" y="814"/>
                    </a:lnTo>
                    <a:lnTo>
                      <a:pt x="280" y="924"/>
                    </a:lnTo>
                    <a:lnTo>
                      <a:pt x="292" y="1031"/>
                    </a:lnTo>
                    <a:lnTo>
                      <a:pt x="302" y="1135"/>
                    </a:lnTo>
                    <a:lnTo>
                      <a:pt x="312" y="1234"/>
                    </a:lnTo>
                    <a:lnTo>
                      <a:pt x="318" y="1329"/>
                    </a:lnTo>
                    <a:lnTo>
                      <a:pt x="323" y="1419"/>
                    </a:lnTo>
                    <a:lnTo>
                      <a:pt x="326" y="1502"/>
                    </a:lnTo>
                    <a:lnTo>
                      <a:pt x="329" y="1580"/>
                    </a:lnTo>
                    <a:lnTo>
                      <a:pt x="329" y="1651"/>
                    </a:lnTo>
                    <a:lnTo>
                      <a:pt x="318" y="1652"/>
                    </a:lnTo>
                    <a:lnTo>
                      <a:pt x="309" y="1652"/>
                    </a:lnTo>
                    <a:lnTo>
                      <a:pt x="300" y="1653"/>
                    </a:lnTo>
                    <a:lnTo>
                      <a:pt x="291" y="1653"/>
                    </a:lnTo>
                    <a:lnTo>
                      <a:pt x="281" y="1654"/>
                    </a:lnTo>
                    <a:lnTo>
                      <a:pt x="272" y="1654"/>
                    </a:lnTo>
                    <a:lnTo>
                      <a:pt x="263" y="1655"/>
                    </a:lnTo>
                    <a:lnTo>
                      <a:pt x="252" y="1655"/>
                    </a:lnTo>
                    <a:lnTo>
                      <a:pt x="234" y="1503"/>
                    </a:lnTo>
                    <a:lnTo>
                      <a:pt x="210" y="1327"/>
                    </a:lnTo>
                    <a:lnTo>
                      <a:pt x="183" y="1128"/>
                    </a:lnTo>
                    <a:lnTo>
                      <a:pt x="151" y="914"/>
                    </a:lnTo>
                    <a:lnTo>
                      <a:pt x="117" y="689"/>
                    </a:lnTo>
                    <a:lnTo>
                      <a:pt x="80" y="458"/>
                    </a:lnTo>
                    <a:lnTo>
                      <a:pt x="40" y="227"/>
                    </a:lnTo>
                    <a:lnTo>
                      <a:pt x="0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2705040" y="3075120"/>
                <a:ext cx="90720" cy="525240"/>
              </a:xfrm>
              <a:custGeom>
                <a:avLst/>
                <a:gdLst/>
                <a:ahLst/>
                <a:rect l="l" t="t" r="r" b="b"/>
                <a:pathLst>
                  <a:path w="286" h="1654">
                    <a:moveTo>
                      <a:pt x="286" y="1647"/>
                    </a:moveTo>
                    <a:lnTo>
                      <a:pt x="286" y="1629"/>
                    </a:lnTo>
                    <a:lnTo>
                      <a:pt x="283" y="1547"/>
                    </a:lnTo>
                    <a:lnTo>
                      <a:pt x="280" y="1458"/>
                    </a:lnTo>
                    <a:lnTo>
                      <a:pt x="274" y="1362"/>
                    </a:lnTo>
                    <a:lnTo>
                      <a:pt x="268" y="1260"/>
                    </a:lnTo>
                    <a:lnTo>
                      <a:pt x="257" y="1153"/>
                    </a:lnTo>
                    <a:lnTo>
                      <a:pt x="246" y="1041"/>
                    </a:lnTo>
                    <a:lnTo>
                      <a:pt x="232" y="926"/>
                    </a:lnTo>
                    <a:lnTo>
                      <a:pt x="216" y="808"/>
                    </a:lnTo>
                    <a:lnTo>
                      <a:pt x="198" y="685"/>
                    </a:lnTo>
                    <a:lnTo>
                      <a:pt x="179" y="562"/>
                    </a:lnTo>
                    <a:lnTo>
                      <a:pt x="156" y="437"/>
                    </a:lnTo>
                    <a:lnTo>
                      <a:pt x="132" y="311"/>
                    </a:lnTo>
                    <a:lnTo>
                      <a:pt x="106" y="186"/>
                    </a:lnTo>
                    <a:lnTo>
                      <a:pt x="77" y="6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24" y="107"/>
                    </a:lnTo>
                    <a:lnTo>
                      <a:pt x="50" y="233"/>
                    </a:lnTo>
                    <a:lnTo>
                      <a:pt x="74" y="358"/>
                    </a:lnTo>
                    <a:lnTo>
                      <a:pt x="95" y="484"/>
                    </a:lnTo>
                    <a:lnTo>
                      <a:pt x="116" y="607"/>
                    </a:lnTo>
                    <a:lnTo>
                      <a:pt x="134" y="728"/>
                    </a:lnTo>
                    <a:lnTo>
                      <a:pt x="150" y="846"/>
                    </a:lnTo>
                    <a:lnTo>
                      <a:pt x="164" y="962"/>
                    </a:lnTo>
                    <a:lnTo>
                      <a:pt x="175" y="1073"/>
                    </a:lnTo>
                    <a:lnTo>
                      <a:pt x="185" y="1181"/>
                    </a:lnTo>
                    <a:lnTo>
                      <a:pt x="192" y="1282"/>
                    </a:lnTo>
                    <a:lnTo>
                      <a:pt x="198" y="1378"/>
                    </a:lnTo>
                    <a:lnTo>
                      <a:pt x="201" y="1467"/>
                    </a:lnTo>
                    <a:lnTo>
                      <a:pt x="204" y="1549"/>
                    </a:lnTo>
                    <a:lnTo>
                      <a:pt x="203" y="1623"/>
                    </a:lnTo>
                    <a:lnTo>
                      <a:pt x="201" y="1654"/>
                    </a:lnTo>
                    <a:lnTo>
                      <a:pt x="213" y="1653"/>
                    </a:lnTo>
                    <a:lnTo>
                      <a:pt x="223" y="1652"/>
                    </a:lnTo>
                    <a:lnTo>
                      <a:pt x="233" y="1652"/>
                    </a:lnTo>
                    <a:lnTo>
                      <a:pt x="244" y="1651"/>
                    </a:lnTo>
                    <a:lnTo>
                      <a:pt x="254" y="1651"/>
                    </a:lnTo>
                    <a:lnTo>
                      <a:pt x="265" y="1650"/>
                    </a:lnTo>
                    <a:lnTo>
                      <a:pt x="275" y="1648"/>
                    </a:lnTo>
                    <a:lnTo>
                      <a:pt x="286" y="164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2666880" y="3075120"/>
                <a:ext cx="103320" cy="525240"/>
              </a:xfrm>
              <a:custGeom>
                <a:avLst/>
                <a:gdLst/>
                <a:ahLst/>
                <a:rect l="l" t="t" r="r" b="b"/>
                <a:pathLst>
                  <a:path w="323" h="1657">
                    <a:moveTo>
                      <a:pt x="0" y="0"/>
                    </a:moveTo>
                    <a:lnTo>
                      <a:pt x="8" y="42"/>
                    </a:lnTo>
                    <a:lnTo>
                      <a:pt x="32" y="178"/>
                    </a:lnTo>
                    <a:lnTo>
                      <a:pt x="55" y="316"/>
                    </a:lnTo>
                    <a:lnTo>
                      <a:pt x="78" y="454"/>
                    </a:lnTo>
                    <a:lnTo>
                      <a:pt x="122" y="728"/>
                    </a:lnTo>
                    <a:lnTo>
                      <a:pt x="161" y="990"/>
                    </a:lnTo>
                    <a:lnTo>
                      <a:pt x="196" y="1234"/>
                    </a:lnTo>
                    <a:lnTo>
                      <a:pt x="225" y="1451"/>
                    </a:lnTo>
                    <a:lnTo>
                      <a:pt x="237" y="1546"/>
                    </a:lnTo>
                    <a:lnTo>
                      <a:pt x="248" y="1631"/>
                    </a:lnTo>
                    <a:lnTo>
                      <a:pt x="250" y="1657"/>
                    </a:lnTo>
                    <a:lnTo>
                      <a:pt x="259" y="1657"/>
                    </a:lnTo>
                    <a:lnTo>
                      <a:pt x="268" y="1656"/>
                    </a:lnTo>
                    <a:lnTo>
                      <a:pt x="277" y="1656"/>
                    </a:lnTo>
                    <a:lnTo>
                      <a:pt x="286" y="1655"/>
                    </a:lnTo>
                    <a:lnTo>
                      <a:pt x="295" y="1655"/>
                    </a:lnTo>
                    <a:lnTo>
                      <a:pt x="305" y="1654"/>
                    </a:lnTo>
                    <a:lnTo>
                      <a:pt x="314" y="1654"/>
                    </a:lnTo>
                    <a:lnTo>
                      <a:pt x="323" y="1653"/>
                    </a:lnTo>
                    <a:lnTo>
                      <a:pt x="319" y="1626"/>
                    </a:lnTo>
                    <a:lnTo>
                      <a:pt x="307" y="1530"/>
                    </a:lnTo>
                    <a:lnTo>
                      <a:pt x="278" y="1313"/>
                    </a:lnTo>
                    <a:lnTo>
                      <a:pt x="243" y="1070"/>
                    </a:lnTo>
                    <a:lnTo>
                      <a:pt x="204" y="806"/>
                    </a:lnTo>
                    <a:lnTo>
                      <a:pt x="161" y="533"/>
                    </a:lnTo>
                    <a:lnTo>
                      <a:pt x="137" y="395"/>
                    </a:lnTo>
                    <a:lnTo>
                      <a:pt x="114" y="256"/>
                    </a:lnTo>
                    <a:lnTo>
                      <a:pt x="90" y="121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4838760" y="3075120"/>
                <a:ext cx="218880" cy="482400"/>
              </a:xfrm>
              <a:custGeom>
                <a:avLst/>
                <a:gdLst/>
                <a:ahLst/>
                <a:rect l="l" t="t" r="r" b="b"/>
                <a:pathLst>
                  <a:path w="692" h="1522">
                    <a:moveTo>
                      <a:pt x="109" y="0"/>
                    </a:moveTo>
                    <a:lnTo>
                      <a:pt x="156" y="91"/>
                    </a:lnTo>
                    <a:lnTo>
                      <a:pt x="203" y="185"/>
                    </a:lnTo>
                    <a:lnTo>
                      <a:pt x="248" y="279"/>
                    </a:lnTo>
                    <a:lnTo>
                      <a:pt x="292" y="376"/>
                    </a:lnTo>
                    <a:lnTo>
                      <a:pt x="334" y="474"/>
                    </a:lnTo>
                    <a:lnTo>
                      <a:pt x="375" y="574"/>
                    </a:lnTo>
                    <a:lnTo>
                      <a:pt x="415" y="673"/>
                    </a:lnTo>
                    <a:lnTo>
                      <a:pt x="452" y="772"/>
                    </a:lnTo>
                    <a:lnTo>
                      <a:pt x="489" y="870"/>
                    </a:lnTo>
                    <a:lnTo>
                      <a:pt x="523" y="970"/>
                    </a:lnTo>
                    <a:lnTo>
                      <a:pt x="556" y="1067"/>
                    </a:lnTo>
                    <a:lnTo>
                      <a:pt x="587" y="1161"/>
                    </a:lnTo>
                    <a:lnTo>
                      <a:pt x="617" y="1256"/>
                    </a:lnTo>
                    <a:lnTo>
                      <a:pt x="644" y="1347"/>
                    </a:lnTo>
                    <a:lnTo>
                      <a:pt x="669" y="1436"/>
                    </a:lnTo>
                    <a:lnTo>
                      <a:pt x="692" y="1522"/>
                    </a:lnTo>
                    <a:lnTo>
                      <a:pt x="675" y="1521"/>
                    </a:lnTo>
                    <a:lnTo>
                      <a:pt x="658" y="1519"/>
                    </a:lnTo>
                    <a:lnTo>
                      <a:pt x="642" y="1518"/>
                    </a:lnTo>
                    <a:lnTo>
                      <a:pt x="625" y="1517"/>
                    </a:lnTo>
                    <a:lnTo>
                      <a:pt x="609" y="1516"/>
                    </a:lnTo>
                    <a:lnTo>
                      <a:pt x="592" y="1515"/>
                    </a:lnTo>
                    <a:lnTo>
                      <a:pt x="574" y="1514"/>
                    </a:lnTo>
                    <a:lnTo>
                      <a:pt x="559" y="1511"/>
                    </a:lnTo>
                    <a:lnTo>
                      <a:pt x="498" y="1333"/>
                    </a:lnTo>
                    <a:lnTo>
                      <a:pt x="432" y="1145"/>
                    </a:lnTo>
                    <a:lnTo>
                      <a:pt x="364" y="950"/>
                    </a:lnTo>
                    <a:lnTo>
                      <a:pt x="292" y="753"/>
                    </a:lnTo>
                    <a:lnTo>
                      <a:pt x="218" y="555"/>
                    </a:lnTo>
                    <a:lnTo>
                      <a:pt x="145" y="361"/>
                    </a:lnTo>
                    <a:lnTo>
                      <a:pt x="107" y="267"/>
                    </a:lnTo>
                    <a:lnTo>
                      <a:pt x="71" y="175"/>
                    </a:lnTo>
                    <a:lnTo>
                      <a:pt x="35" y="86"/>
                    </a:lnTo>
                    <a:lnTo>
                      <a:pt x="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4865760" y="3075120"/>
                <a:ext cx="201600" cy="484200"/>
              </a:xfrm>
              <a:custGeom>
                <a:avLst/>
                <a:gdLst/>
                <a:ahLst/>
                <a:rect l="l" t="t" r="r" b="b"/>
                <a:pathLst>
                  <a:path w="634" h="1524">
                    <a:moveTo>
                      <a:pt x="634" y="1524"/>
                    </a:moveTo>
                    <a:lnTo>
                      <a:pt x="629" y="1505"/>
                    </a:lnTo>
                    <a:lnTo>
                      <a:pt x="599" y="1399"/>
                    </a:lnTo>
                    <a:lnTo>
                      <a:pt x="566" y="1289"/>
                    </a:lnTo>
                    <a:lnTo>
                      <a:pt x="531" y="1175"/>
                    </a:lnTo>
                    <a:lnTo>
                      <a:pt x="493" y="1059"/>
                    </a:lnTo>
                    <a:lnTo>
                      <a:pt x="452" y="941"/>
                    </a:lnTo>
                    <a:lnTo>
                      <a:pt x="409" y="822"/>
                    </a:lnTo>
                    <a:lnTo>
                      <a:pt x="363" y="703"/>
                    </a:lnTo>
                    <a:lnTo>
                      <a:pt x="316" y="583"/>
                    </a:lnTo>
                    <a:lnTo>
                      <a:pt x="291" y="523"/>
                    </a:lnTo>
                    <a:lnTo>
                      <a:pt x="265" y="464"/>
                    </a:lnTo>
                    <a:lnTo>
                      <a:pt x="239" y="405"/>
                    </a:lnTo>
                    <a:lnTo>
                      <a:pt x="213" y="347"/>
                    </a:lnTo>
                    <a:lnTo>
                      <a:pt x="186" y="288"/>
                    </a:lnTo>
                    <a:lnTo>
                      <a:pt x="158" y="230"/>
                    </a:lnTo>
                    <a:lnTo>
                      <a:pt x="131" y="174"/>
                    </a:lnTo>
                    <a:lnTo>
                      <a:pt x="102" y="117"/>
                    </a:lnTo>
                    <a:lnTo>
                      <a:pt x="74" y="63"/>
                    </a:lnTo>
                    <a:lnTo>
                      <a:pt x="44" y="8"/>
                    </a:lnTo>
                    <a:lnTo>
                      <a:pt x="40" y="0"/>
                    </a:lnTo>
                    <a:lnTo>
                      <a:pt x="0" y="0"/>
                    </a:lnTo>
                    <a:lnTo>
                      <a:pt x="23" y="44"/>
                    </a:lnTo>
                    <a:lnTo>
                      <a:pt x="50" y="100"/>
                    </a:lnTo>
                    <a:lnTo>
                      <a:pt x="78" y="156"/>
                    </a:lnTo>
                    <a:lnTo>
                      <a:pt x="106" y="213"/>
                    </a:lnTo>
                    <a:lnTo>
                      <a:pt x="132" y="271"/>
                    </a:lnTo>
                    <a:lnTo>
                      <a:pt x="158" y="330"/>
                    </a:lnTo>
                    <a:lnTo>
                      <a:pt x="185" y="389"/>
                    </a:lnTo>
                    <a:lnTo>
                      <a:pt x="210" y="447"/>
                    </a:lnTo>
                    <a:lnTo>
                      <a:pt x="234" y="506"/>
                    </a:lnTo>
                    <a:lnTo>
                      <a:pt x="281" y="626"/>
                    </a:lnTo>
                    <a:lnTo>
                      <a:pt x="327" y="746"/>
                    </a:lnTo>
                    <a:lnTo>
                      <a:pt x="370" y="865"/>
                    </a:lnTo>
                    <a:lnTo>
                      <a:pt x="411" y="982"/>
                    </a:lnTo>
                    <a:lnTo>
                      <a:pt x="449" y="1097"/>
                    </a:lnTo>
                    <a:lnTo>
                      <a:pt x="484" y="1211"/>
                    </a:lnTo>
                    <a:lnTo>
                      <a:pt x="517" y="1321"/>
                    </a:lnTo>
                    <a:lnTo>
                      <a:pt x="547" y="1427"/>
                    </a:lnTo>
                    <a:lnTo>
                      <a:pt x="571" y="1519"/>
                    </a:lnTo>
                    <a:lnTo>
                      <a:pt x="579" y="1521"/>
                    </a:lnTo>
                    <a:lnTo>
                      <a:pt x="587" y="1521"/>
                    </a:lnTo>
                    <a:lnTo>
                      <a:pt x="595" y="1522"/>
                    </a:lnTo>
                    <a:lnTo>
                      <a:pt x="603" y="1522"/>
                    </a:lnTo>
                    <a:lnTo>
                      <a:pt x="610" y="1523"/>
                    </a:lnTo>
                    <a:lnTo>
                      <a:pt x="618" y="1523"/>
                    </a:lnTo>
                    <a:lnTo>
                      <a:pt x="626" y="1523"/>
                    </a:lnTo>
                    <a:lnTo>
                      <a:pt x="634" y="15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4830840" y="3075120"/>
                <a:ext cx="193680" cy="480960"/>
              </a:xfrm>
              <a:custGeom>
                <a:avLst/>
                <a:gdLst/>
                <a:ahLst/>
                <a:rect l="l" t="t" r="r" b="b"/>
                <a:pathLst>
                  <a:path w="612" h="1515">
                    <a:moveTo>
                      <a:pt x="0" y="0"/>
                    </a:moveTo>
                    <a:lnTo>
                      <a:pt x="3" y="7"/>
                    </a:lnTo>
                    <a:lnTo>
                      <a:pt x="51" y="125"/>
                    </a:lnTo>
                    <a:lnTo>
                      <a:pt x="100" y="248"/>
                    </a:lnTo>
                    <a:lnTo>
                      <a:pt x="149" y="376"/>
                    </a:lnTo>
                    <a:lnTo>
                      <a:pt x="198" y="506"/>
                    </a:lnTo>
                    <a:lnTo>
                      <a:pt x="248" y="639"/>
                    </a:lnTo>
                    <a:lnTo>
                      <a:pt x="296" y="771"/>
                    </a:lnTo>
                    <a:lnTo>
                      <a:pt x="344" y="903"/>
                    </a:lnTo>
                    <a:lnTo>
                      <a:pt x="391" y="1035"/>
                    </a:lnTo>
                    <a:lnTo>
                      <a:pt x="436" y="1165"/>
                    </a:lnTo>
                    <a:lnTo>
                      <a:pt x="480" y="1290"/>
                    </a:lnTo>
                    <a:lnTo>
                      <a:pt x="555" y="1509"/>
                    </a:lnTo>
                    <a:lnTo>
                      <a:pt x="562" y="1510"/>
                    </a:lnTo>
                    <a:lnTo>
                      <a:pt x="569" y="1510"/>
                    </a:lnTo>
                    <a:lnTo>
                      <a:pt x="577" y="1511"/>
                    </a:lnTo>
                    <a:lnTo>
                      <a:pt x="584" y="1511"/>
                    </a:lnTo>
                    <a:lnTo>
                      <a:pt x="590" y="1513"/>
                    </a:lnTo>
                    <a:lnTo>
                      <a:pt x="597" y="1514"/>
                    </a:lnTo>
                    <a:lnTo>
                      <a:pt x="605" y="1514"/>
                    </a:lnTo>
                    <a:lnTo>
                      <a:pt x="612" y="1515"/>
                    </a:lnTo>
                    <a:lnTo>
                      <a:pt x="562" y="1367"/>
                    </a:lnTo>
                    <a:lnTo>
                      <a:pt x="519" y="1241"/>
                    </a:lnTo>
                    <a:lnTo>
                      <a:pt x="473" y="1112"/>
                    </a:lnTo>
                    <a:lnTo>
                      <a:pt x="426" y="981"/>
                    </a:lnTo>
                    <a:lnTo>
                      <a:pt x="378" y="847"/>
                    </a:lnTo>
                    <a:lnTo>
                      <a:pt x="329" y="715"/>
                    </a:lnTo>
                    <a:lnTo>
                      <a:pt x="280" y="583"/>
                    </a:lnTo>
                    <a:lnTo>
                      <a:pt x="230" y="453"/>
                    </a:lnTo>
                    <a:lnTo>
                      <a:pt x="181" y="325"/>
                    </a:lnTo>
                    <a:lnTo>
                      <a:pt x="132" y="202"/>
                    </a:lnTo>
                    <a:lnTo>
                      <a:pt x="84" y="83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5867280" y="3075120"/>
                <a:ext cx="162000" cy="490320"/>
              </a:xfrm>
              <a:custGeom>
                <a:avLst/>
                <a:gdLst/>
                <a:ahLst/>
                <a:rect l="l" t="t" r="r" b="b"/>
                <a:pathLst>
                  <a:path w="509" h="1545">
                    <a:moveTo>
                      <a:pt x="117" y="0"/>
                    </a:moveTo>
                    <a:lnTo>
                      <a:pt x="152" y="99"/>
                    </a:lnTo>
                    <a:lnTo>
                      <a:pt x="185" y="198"/>
                    </a:lnTo>
                    <a:lnTo>
                      <a:pt x="218" y="299"/>
                    </a:lnTo>
                    <a:lnTo>
                      <a:pt x="249" y="400"/>
                    </a:lnTo>
                    <a:lnTo>
                      <a:pt x="280" y="503"/>
                    </a:lnTo>
                    <a:lnTo>
                      <a:pt x="308" y="604"/>
                    </a:lnTo>
                    <a:lnTo>
                      <a:pt x="334" y="706"/>
                    </a:lnTo>
                    <a:lnTo>
                      <a:pt x="361" y="806"/>
                    </a:lnTo>
                    <a:lnTo>
                      <a:pt x="385" y="906"/>
                    </a:lnTo>
                    <a:lnTo>
                      <a:pt x="406" y="1004"/>
                    </a:lnTo>
                    <a:lnTo>
                      <a:pt x="428" y="1101"/>
                    </a:lnTo>
                    <a:lnTo>
                      <a:pt x="447" y="1195"/>
                    </a:lnTo>
                    <a:lnTo>
                      <a:pt x="465" y="1287"/>
                    </a:lnTo>
                    <a:lnTo>
                      <a:pt x="481" y="1376"/>
                    </a:lnTo>
                    <a:lnTo>
                      <a:pt x="495" y="1462"/>
                    </a:lnTo>
                    <a:lnTo>
                      <a:pt x="509" y="1545"/>
                    </a:lnTo>
                    <a:lnTo>
                      <a:pt x="494" y="1545"/>
                    </a:lnTo>
                    <a:lnTo>
                      <a:pt x="479" y="1543"/>
                    </a:lnTo>
                    <a:lnTo>
                      <a:pt x="464" y="1542"/>
                    </a:lnTo>
                    <a:lnTo>
                      <a:pt x="450" y="1542"/>
                    </a:lnTo>
                    <a:lnTo>
                      <a:pt x="435" y="1541"/>
                    </a:lnTo>
                    <a:lnTo>
                      <a:pt x="420" y="1540"/>
                    </a:lnTo>
                    <a:lnTo>
                      <a:pt x="405" y="1539"/>
                    </a:lnTo>
                    <a:lnTo>
                      <a:pt x="391" y="1538"/>
                    </a:lnTo>
                    <a:lnTo>
                      <a:pt x="351" y="1365"/>
                    </a:lnTo>
                    <a:lnTo>
                      <a:pt x="308" y="1181"/>
                    </a:lnTo>
                    <a:lnTo>
                      <a:pt x="261" y="988"/>
                    </a:lnTo>
                    <a:lnTo>
                      <a:pt x="211" y="789"/>
                    </a:lnTo>
                    <a:lnTo>
                      <a:pt x="160" y="587"/>
                    </a:lnTo>
                    <a:lnTo>
                      <a:pt x="108" y="387"/>
                    </a:lnTo>
                    <a:lnTo>
                      <a:pt x="54" y="190"/>
                    </a:lnTo>
                    <a:lnTo>
                      <a:pt x="0" y="0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5896080" y="3075120"/>
                <a:ext cx="144360" cy="490320"/>
              </a:xfrm>
              <a:custGeom>
                <a:avLst/>
                <a:gdLst/>
                <a:ahLst/>
                <a:rect l="l" t="t" r="r" b="b"/>
                <a:pathLst>
                  <a:path w="455" h="1546">
                    <a:moveTo>
                      <a:pt x="455" y="1546"/>
                    </a:moveTo>
                    <a:lnTo>
                      <a:pt x="439" y="1449"/>
                    </a:lnTo>
                    <a:lnTo>
                      <a:pt x="419" y="1337"/>
                    </a:lnTo>
                    <a:lnTo>
                      <a:pt x="397" y="1222"/>
                    </a:lnTo>
                    <a:lnTo>
                      <a:pt x="372" y="1102"/>
                    </a:lnTo>
                    <a:lnTo>
                      <a:pt x="345" y="980"/>
                    </a:lnTo>
                    <a:lnTo>
                      <a:pt x="315" y="854"/>
                    </a:lnTo>
                    <a:lnTo>
                      <a:pt x="282" y="728"/>
                    </a:lnTo>
                    <a:lnTo>
                      <a:pt x="248" y="600"/>
                    </a:lnTo>
                    <a:lnTo>
                      <a:pt x="211" y="472"/>
                    </a:lnTo>
                    <a:lnTo>
                      <a:pt x="172" y="344"/>
                    </a:lnTo>
                    <a:lnTo>
                      <a:pt x="131" y="218"/>
                    </a:lnTo>
                    <a:lnTo>
                      <a:pt x="110" y="155"/>
                    </a:lnTo>
                    <a:lnTo>
                      <a:pt x="88" y="92"/>
                    </a:lnTo>
                    <a:lnTo>
                      <a:pt x="65" y="31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6" y="16"/>
                    </a:lnTo>
                    <a:lnTo>
                      <a:pt x="28" y="77"/>
                    </a:lnTo>
                    <a:lnTo>
                      <a:pt x="49" y="140"/>
                    </a:lnTo>
                    <a:lnTo>
                      <a:pt x="90" y="267"/>
                    </a:lnTo>
                    <a:lnTo>
                      <a:pt x="129" y="395"/>
                    </a:lnTo>
                    <a:lnTo>
                      <a:pt x="166" y="522"/>
                    </a:lnTo>
                    <a:lnTo>
                      <a:pt x="201" y="650"/>
                    </a:lnTo>
                    <a:lnTo>
                      <a:pt x="233" y="777"/>
                    </a:lnTo>
                    <a:lnTo>
                      <a:pt x="262" y="901"/>
                    </a:lnTo>
                    <a:lnTo>
                      <a:pt x="290" y="1023"/>
                    </a:lnTo>
                    <a:lnTo>
                      <a:pt x="315" y="1143"/>
                    </a:lnTo>
                    <a:lnTo>
                      <a:pt x="337" y="1258"/>
                    </a:lnTo>
                    <a:lnTo>
                      <a:pt x="357" y="1370"/>
                    </a:lnTo>
                    <a:lnTo>
                      <a:pt x="374" y="1476"/>
                    </a:lnTo>
                    <a:lnTo>
                      <a:pt x="383" y="1543"/>
                    </a:lnTo>
                    <a:lnTo>
                      <a:pt x="392" y="1543"/>
                    </a:lnTo>
                    <a:lnTo>
                      <a:pt x="402" y="1545"/>
                    </a:lnTo>
                    <a:lnTo>
                      <a:pt x="411" y="1545"/>
                    </a:lnTo>
                    <a:lnTo>
                      <a:pt x="419" y="1545"/>
                    </a:lnTo>
                    <a:lnTo>
                      <a:pt x="428" y="1546"/>
                    </a:lnTo>
                    <a:lnTo>
                      <a:pt x="437" y="1546"/>
                    </a:lnTo>
                    <a:lnTo>
                      <a:pt x="446" y="1546"/>
                    </a:lnTo>
                    <a:lnTo>
                      <a:pt x="455" y="154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5859360" y="3075120"/>
                <a:ext cx="142920" cy="488880"/>
              </a:xfrm>
              <a:custGeom>
                <a:avLst/>
                <a:gdLst/>
                <a:ahLst/>
                <a:rect l="l" t="t" r="r" b="b"/>
                <a:pathLst>
                  <a:path w="452" h="1540">
                    <a:moveTo>
                      <a:pt x="0" y="0"/>
                    </a:moveTo>
                    <a:lnTo>
                      <a:pt x="25" y="88"/>
                    </a:lnTo>
                    <a:lnTo>
                      <a:pt x="62" y="223"/>
                    </a:lnTo>
                    <a:lnTo>
                      <a:pt x="100" y="363"/>
                    </a:lnTo>
                    <a:lnTo>
                      <a:pt x="137" y="504"/>
                    </a:lnTo>
                    <a:lnTo>
                      <a:pt x="173" y="646"/>
                    </a:lnTo>
                    <a:lnTo>
                      <a:pt x="208" y="786"/>
                    </a:lnTo>
                    <a:lnTo>
                      <a:pt x="244" y="926"/>
                    </a:lnTo>
                    <a:lnTo>
                      <a:pt x="277" y="1063"/>
                    </a:lnTo>
                    <a:lnTo>
                      <a:pt x="309" y="1197"/>
                    </a:lnTo>
                    <a:lnTo>
                      <a:pt x="367" y="1448"/>
                    </a:lnTo>
                    <a:lnTo>
                      <a:pt x="387" y="1535"/>
                    </a:lnTo>
                    <a:lnTo>
                      <a:pt x="395" y="1535"/>
                    </a:lnTo>
                    <a:lnTo>
                      <a:pt x="403" y="1537"/>
                    </a:lnTo>
                    <a:lnTo>
                      <a:pt x="411" y="1538"/>
                    </a:lnTo>
                    <a:lnTo>
                      <a:pt x="419" y="1538"/>
                    </a:lnTo>
                    <a:lnTo>
                      <a:pt x="428" y="1539"/>
                    </a:lnTo>
                    <a:lnTo>
                      <a:pt x="436" y="1539"/>
                    </a:lnTo>
                    <a:lnTo>
                      <a:pt x="444" y="1540"/>
                    </a:lnTo>
                    <a:lnTo>
                      <a:pt x="452" y="1540"/>
                    </a:lnTo>
                    <a:lnTo>
                      <a:pt x="450" y="1526"/>
                    </a:lnTo>
                    <a:lnTo>
                      <a:pt x="391" y="1274"/>
                    </a:lnTo>
                    <a:lnTo>
                      <a:pt x="359" y="1142"/>
                    </a:lnTo>
                    <a:lnTo>
                      <a:pt x="326" y="1004"/>
                    </a:lnTo>
                    <a:lnTo>
                      <a:pt x="292" y="865"/>
                    </a:lnTo>
                    <a:lnTo>
                      <a:pt x="255" y="723"/>
                    </a:lnTo>
                    <a:lnTo>
                      <a:pt x="219" y="582"/>
                    </a:lnTo>
                    <a:lnTo>
                      <a:pt x="182" y="441"/>
                    </a:lnTo>
                    <a:lnTo>
                      <a:pt x="144" y="302"/>
                    </a:lnTo>
                    <a:lnTo>
                      <a:pt x="107" y="165"/>
                    </a:lnTo>
                    <a:lnTo>
                      <a:pt x="69" y="34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>
                <a:off x="6208560" y="3075120"/>
                <a:ext cx="146160" cy="479160"/>
              </a:xfrm>
              <a:custGeom>
                <a:avLst/>
                <a:gdLst/>
                <a:ahLst/>
                <a:rect l="l" t="t" r="r" b="b"/>
                <a:pathLst>
                  <a:path w="462" h="1508">
                    <a:moveTo>
                      <a:pt x="125" y="0"/>
                    </a:moveTo>
                    <a:lnTo>
                      <a:pt x="155" y="93"/>
                    </a:lnTo>
                    <a:lnTo>
                      <a:pt x="182" y="188"/>
                    </a:lnTo>
                    <a:lnTo>
                      <a:pt x="210" y="283"/>
                    </a:lnTo>
                    <a:lnTo>
                      <a:pt x="236" y="379"/>
                    </a:lnTo>
                    <a:lnTo>
                      <a:pt x="261" y="476"/>
                    </a:lnTo>
                    <a:lnTo>
                      <a:pt x="285" y="571"/>
                    </a:lnTo>
                    <a:lnTo>
                      <a:pt x="306" y="668"/>
                    </a:lnTo>
                    <a:lnTo>
                      <a:pt x="328" y="764"/>
                    </a:lnTo>
                    <a:lnTo>
                      <a:pt x="349" y="859"/>
                    </a:lnTo>
                    <a:lnTo>
                      <a:pt x="368" y="954"/>
                    </a:lnTo>
                    <a:lnTo>
                      <a:pt x="387" y="1048"/>
                    </a:lnTo>
                    <a:lnTo>
                      <a:pt x="405" y="1141"/>
                    </a:lnTo>
                    <a:lnTo>
                      <a:pt x="420" y="1232"/>
                    </a:lnTo>
                    <a:lnTo>
                      <a:pt x="435" y="1322"/>
                    </a:lnTo>
                    <a:lnTo>
                      <a:pt x="449" y="1410"/>
                    </a:lnTo>
                    <a:lnTo>
                      <a:pt x="462" y="1495"/>
                    </a:lnTo>
                    <a:lnTo>
                      <a:pt x="444" y="1497"/>
                    </a:lnTo>
                    <a:lnTo>
                      <a:pt x="426" y="1499"/>
                    </a:lnTo>
                    <a:lnTo>
                      <a:pt x="409" y="1500"/>
                    </a:lnTo>
                    <a:lnTo>
                      <a:pt x="391" y="1502"/>
                    </a:lnTo>
                    <a:lnTo>
                      <a:pt x="373" y="1503"/>
                    </a:lnTo>
                    <a:lnTo>
                      <a:pt x="355" y="1506"/>
                    </a:lnTo>
                    <a:lnTo>
                      <a:pt x="337" y="1507"/>
                    </a:lnTo>
                    <a:lnTo>
                      <a:pt x="318" y="1508"/>
                    </a:lnTo>
                    <a:lnTo>
                      <a:pt x="284" y="1329"/>
                    </a:lnTo>
                    <a:lnTo>
                      <a:pt x="247" y="1143"/>
                    </a:lnTo>
                    <a:lnTo>
                      <a:pt x="208" y="951"/>
                    </a:lnTo>
                    <a:lnTo>
                      <a:pt x="169" y="757"/>
                    </a:lnTo>
                    <a:lnTo>
                      <a:pt x="127" y="563"/>
                    </a:lnTo>
                    <a:lnTo>
                      <a:pt x="85" y="372"/>
                    </a:lnTo>
                    <a:lnTo>
                      <a:pt x="43" y="182"/>
                    </a:lnTo>
                    <a:lnTo>
                      <a:pt x="0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6238800" y="3075120"/>
                <a:ext cx="127080" cy="476280"/>
              </a:xfrm>
              <a:custGeom>
                <a:avLst/>
                <a:gdLst/>
                <a:ahLst/>
                <a:rect l="l" t="t" r="r" b="b"/>
                <a:pathLst>
                  <a:path w="400" h="1499">
                    <a:moveTo>
                      <a:pt x="400" y="1492"/>
                    </a:moveTo>
                    <a:lnTo>
                      <a:pt x="387" y="1409"/>
                    </a:lnTo>
                    <a:lnTo>
                      <a:pt x="365" y="1272"/>
                    </a:lnTo>
                    <a:lnTo>
                      <a:pt x="339" y="1133"/>
                    </a:lnTo>
                    <a:lnTo>
                      <a:pt x="312" y="990"/>
                    </a:lnTo>
                    <a:lnTo>
                      <a:pt x="282" y="845"/>
                    </a:lnTo>
                    <a:lnTo>
                      <a:pt x="249" y="699"/>
                    </a:lnTo>
                    <a:lnTo>
                      <a:pt x="214" y="552"/>
                    </a:lnTo>
                    <a:lnTo>
                      <a:pt x="196" y="479"/>
                    </a:lnTo>
                    <a:lnTo>
                      <a:pt x="176" y="406"/>
                    </a:lnTo>
                    <a:lnTo>
                      <a:pt x="157" y="333"/>
                    </a:lnTo>
                    <a:lnTo>
                      <a:pt x="137" y="260"/>
                    </a:lnTo>
                    <a:lnTo>
                      <a:pt x="115" y="187"/>
                    </a:lnTo>
                    <a:lnTo>
                      <a:pt x="93" y="115"/>
                    </a:lnTo>
                    <a:lnTo>
                      <a:pt x="72" y="44"/>
                    </a:lnTo>
                    <a:lnTo>
                      <a:pt x="57" y="0"/>
                    </a:lnTo>
                    <a:lnTo>
                      <a:pt x="0" y="0"/>
                    </a:lnTo>
                    <a:lnTo>
                      <a:pt x="12" y="37"/>
                    </a:lnTo>
                    <a:lnTo>
                      <a:pt x="34" y="109"/>
                    </a:lnTo>
                    <a:lnTo>
                      <a:pt x="54" y="181"/>
                    </a:lnTo>
                    <a:lnTo>
                      <a:pt x="75" y="254"/>
                    </a:lnTo>
                    <a:lnTo>
                      <a:pt x="94" y="327"/>
                    </a:lnTo>
                    <a:lnTo>
                      <a:pt x="114" y="400"/>
                    </a:lnTo>
                    <a:lnTo>
                      <a:pt x="132" y="473"/>
                    </a:lnTo>
                    <a:lnTo>
                      <a:pt x="167" y="620"/>
                    </a:lnTo>
                    <a:lnTo>
                      <a:pt x="200" y="766"/>
                    </a:lnTo>
                    <a:lnTo>
                      <a:pt x="230" y="911"/>
                    </a:lnTo>
                    <a:lnTo>
                      <a:pt x="257" y="1054"/>
                    </a:lnTo>
                    <a:lnTo>
                      <a:pt x="282" y="1193"/>
                    </a:lnTo>
                    <a:lnTo>
                      <a:pt x="305" y="1329"/>
                    </a:lnTo>
                    <a:lnTo>
                      <a:pt x="325" y="1460"/>
                    </a:lnTo>
                    <a:lnTo>
                      <a:pt x="329" y="1499"/>
                    </a:lnTo>
                    <a:lnTo>
                      <a:pt x="338" y="1498"/>
                    </a:lnTo>
                    <a:lnTo>
                      <a:pt x="347" y="1497"/>
                    </a:lnTo>
                    <a:lnTo>
                      <a:pt x="355" y="1497"/>
                    </a:lnTo>
                    <a:lnTo>
                      <a:pt x="365" y="1495"/>
                    </a:lnTo>
                    <a:lnTo>
                      <a:pt x="374" y="1494"/>
                    </a:lnTo>
                    <a:lnTo>
                      <a:pt x="382" y="1493"/>
                    </a:lnTo>
                    <a:lnTo>
                      <a:pt x="391" y="1493"/>
                    </a:lnTo>
                    <a:lnTo>
                      <a:pt x="400" y="149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6197760" y="3075120"/>
                <a:ext cx="122040" cy="479160"/>
              </a:xfrm>
              <a:custGeom>
                <a:avLst/>
                <a:gdLst/>
                <a:ahLst/>
                <a:rect l="l" t="t" r="r" b="b"/>
                <a:pathLst>
                  <a:path w="383" h="1511">
                    <a:moveTo>
                      <a:pt x="0" y="0"/>
                    </a:moveTo>
                    <a:lnTo>
                      <a:pt x="26" y="109"/>
                    </a:lnTo>
                    <a:lnTo>
                      <a:pt x="61" y="264"/>
                    </a:lnTo>
                    <a:lnTo>
                      <a:pt x="97" y="424"/>
                    </a:lnTo>
                    <a:lnTo>
                      <a:pt x="132" y="585"/>
                    </a:lnTo>
                    <a:lnTo>
                      <a:pt x="166" y="747"/>
                    </a:lnTo>
                    <a:lnTo>
                      <a:pt x="199" y="908"/>
                    </a:lnTo>
                    <a:lnTo>
                      <a:pt x="231" y="1068"/>
                    </a:lnTo>
                    <a:lnTo>
                      <a:pt x="262" y="1224"/>
                    </a:lnTo>
                    <a:lnTo>
                      <a:pt x="292" y="1376"/>
                    </a:lnTo>
                    <a:lnTo>
                      <a:pt x="317" y="1511"/>
                    </a:lnTo>
                    <a:lnTo>
                      <a:pt x="326" y="1510"/>
                    </a:lnTo>
                    <a:lnTo>
                      <a:pt x="334" y="1510"/>
                    </a:lnTo>
                    <a:lnTo>
                      <a:pt x="342" y="1509"/>
                    </a:lnTo>
                    <a:lnTo>
                      <a:pt x="351" y="1508"/>
                    </a:lnTo>
                    <a:lnTo>
                      <a:pt x="359" y="1508"/>
                    </a:lnTo>
                    <a:lnTo>
                      <a:pt x="367" y="1507"/>
                    </a:lnTo>
                    <a:lnTo>
                      <a:pt x="375" y="1506"/>
                    </a:lnTo>
                    <a:lnTo>
                      <a:pt x="383" y="1506"/>
                    </a:lnTo>
                    <a:lnTo>
                      <a:pt x="374" y="1456"/>
                    </a:lnTo>
                    <a:lnTo>
                      <a:pt x="344" y="1303"/>
                    </a:lnTo>
                    <a:lnTo>
                      <a:pt x="313" y="1146"/>
                    </a:lnTo>
                    <a:lnTo>
                      <a:pt x="281" y="987"/>
                    </a:lnTo>
                    <a:lnTo>
                      <a:pt x="248" y="826"/>
                    </a:lnTo>
                    <a:lnTo>
                      <a:pt x="213" y="664"/>
                    </a:lnTo>
                    <a:lnTo>
                      <a:pt x="179" y="503"/>
                    </a:lnTo>
                    <a:lnTo>
                      <a:pt x="144" y="343"/>
                    </a:lnTo>
                    <a:lnTo>
                      <a:pt x="108" y="187"/>
                    </a:lnTo>
                    <a:lnTo>
                      <a:pt x="72" y="36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>
                <a:off x="3895560" y="3075120"/>
                <a:ext cx="214560" cy="485640"/>
              </a:xfrm>
              <a:custGeom>
                <a:avLst/>
                <a:gdLst/>
                <a:ahLst/>
                <a:rect l="l" t="t" r="r" b="b"/>
                <a:pathLst>
                  <a:path w="672" h="1530">
                    <a:moveTo>
                      <a:pt x="120" y="0"/>
                    </a:moveTo>
                    <a:lnTo>
                      <a:pt x="169" y="98"/>
                    </a:lnTo>
                    <a:lnTo>
                      <a:pt x="217" y="198"/>
                    </a:lnTo>
                    <a:lnTo>
                      <a:pt x="263" y="300"/>
                    </a:lnTo>
                    <a:lnTo>
                      <a:pt x="307" y="401"/>
                    </a:lnTo>
                    <a:lnTo>
                      <a:pt x="350" y="504"/>
                    </a:lnTo>
                    <a:lnTo>
                      <a:pt x="391" y="607"/>
                    </a:lnTo>
                    <a:lnTo>
                      <a:pt x="429" y="708"/>
                    </a:lnTo>
                    <a:lnTo>
                      <a:pt x="466" y="809"/>
                    </a:lnTo>
                    <a:lnTo>
                      <a:pt x="500" y="908"/>
                    </a:lnTo>
                    <a:lnTo>
                      <a:pt x="532" y="1005"/>
                    </a:lnTo>
                    <a:lnTo>
                      <a:pt x="562" y="1100"/>
                    </a:lnTo>
                    <a:lnTo>
                      <a:pt x="589" y="1191"/>
                    </a:lnTo>
                    <a:lnTo>
                      <a:pt x="614" y="1279"/>
                    </a:lnTo>
                    <a:lnTo>
                      <a:pt x="636" y="1362"/>
                    </a:lnTo>
                    <a:lnTo>
                      <a:pt x="655" y="1442"/>
                    </a:lnTo>
                    <a:lnTo>
                      <a:pt x="672" y="1516"/>
                    </a:lnTo>
                    <a:lnTo>
                      <a:pt x="661" y="1517"/>
                    </a:lnTo>
                    <a:lnTo>
                      <a:pt x="649" y="1519"/>
                    </a:lnTo>
                    <a:lnTo>
                      <a:pt x="638" y="1521"/>
                    </a:lnTo>
                    <a:lnTo>
                      <a:pt x="627" y="1523"/>
                    </a:lnTo>
                    <a:lnTo>
                      <a:pt x="615" y="1525"/>
                    </a:lnTo>
                    <a:lnTo>
                      <a:pt x="604" y="1526"/>
                    </a:lnTo>
                    <a:lnTo>
                      <a:pt x="592" y="1529"/>
                    </a:lnTo>
                    <a:lnTo>
                      <a:pt x="581" y="1530"/>
                    </a:lnTo>
                    <a:lnTo>
                      <a:pt x="526" y="1375"/>
                    </a:lnTo>
                    <a:lnTo>
                      <a:pt x="465" y="1199"/>
                    </a:lnTo>
                    <a:lnTo>
                      <a:pt x="395" y="1009"/>
                    </a:lnTo>
                    <a:lnTo>
                      <a:pt x="321" y="809"/>
                    </a:lnTo>
                    <a:lnTo>
                      <a:pt x="242" y="603"/>
                    </a:lnTo>
                    <a:lnTo>
                      <a:pt x="162" y="397"/>
                    </a:lnTo>
                    <a:lnTo>
                      <a:pt x="122" y="295"/>
                    </a:lnTo>
                    <a:lnTo>
                      <a:pt x="81" y="195"/>
                    </a:lnTo>
                    <a:lnTo>
                      <a:pt x="40" y="96"/>
                    </a:lnTo>
                    <a:lnTo>
                      <a:pt x="0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>
                <a:off x="3927600" y="3075120"/>
                <a:ext cx="191880" cy="482400"/>
              </a:xfrm>
              <a:custGeom>
                <a:avLst/>
                <a:gdLst/>
                <a:ahLst/>
                <a:rect l="l" t="t" r="r" b="b"/>
                <a:pathLst>
                  <a:path w="604" h="1521">
                    <a:moveTo>
                      <a:pt x="604" y="1510"/>
                    </a:moveTo>
                    <a:lnTo>
                      <a:pt x="602" y="1500"/>
                    </a:lnTo>
                    <a:lnTo>
                      <a:pt x="581" y="1416"/>
                    </a:lnTo>
                    <a:lnTo>
                      <a:pt x="557" y="1325"/>
                    </a:lnTo>
                    <a:lnTo>
                      <a:pt x="531" y="1231"/>
                    </a:lnTo>
                    <a:lnTo>
                      <a:pt x="501" y="1133"/>
                    </a:lnTo>
                    <a:lnTo>
                      <a:pt x="469" y="1030"/>
                    </a:lnTo>
                    <a:lnTo>
                      <a:pt x="434" y="925"/>
                    </a:lnTo>
                    <a:lnTo>
                      <a:pt x="397" y="818"/>
                    </a:lnTo>
                    <a:lnTo>
                      <a:pt x="357" y="708"/>
                    </a:lnTo>
                    <a:lnTo>
                      <a:pt x="314" y="598"/>
                    </a:lnTo>
                    <a:lnTo>
                      <a:pt x="269" y="487"/>
                    </a:lnTo>
                    <a:lnTo>
                      <a:pt x="222" y="376"/>
                    </a:lnTo>
                    <a:lnTo>
                      <a:pt x="173" y="267"/>
                    </a:lnTo>
                    <a:lnTo>
                      <a:pt x="122" y="158"/>
                    </a:lnTo>
                    <a:lnTo>
                      <a:pt x="96" y="105"/>
                    </a:lnTo>
                    <a:lnTo>
                      <a:pt x="69" y="51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16" y="31"/>
                    </a:lnTo>
                    <a:lnTo>
                      <a:pt x="42" y="83"/>
                    </a:lnTo>
                    <a:lnTo>
                      <a:pt x="92" y="191"/>
                    </a:lnTo>
                    <a:lnTo>
                      <a:pt x="141" y="301"/>
                    </a:lnTo>
                    <a:lnTo>
                      <a:pt x="188" y="412"/>
                    </a:lnTo>
                    <a:lnTo>
                      <a:pt x="232" y="521"/>
                    </a:lnTo>
                    <a:lnTo>
                      <a:pt x="275" y="632"/>
                    </a:lnTo>
                    <a:lnTo>
                      <a:pt x="316" y="740"/>
                    </a:lnTo>
                    <a:lnTo>
                      <a:pt x="353" y="847"/>
                    </a:lnTo>
                    <a:lnTo>
                      <a:pt x="387" y="952"/>
                    </a:lnTo>
                    <a:lnTo>
                      <a:pt x="420" y="1055"/>
                    </a:lnTo>
                    <a:lnTo>
                      <a:pt x="449" y="1153"/>
                    </a:lnTo>
                    <a:lnTo>
                      <a:pt x="476" y="1248"/>
                    </a:lnTo>
                    <a:lnTo>
                      <a:pt x="499" y="1337"/>
                    </a:lnTo>
                    <a:lnTo>
                      <a:pt x="520" y="1421"/>
                    </a:lnTo>
                    <a:lnTo>
                      <a:pt x="537" y="1499"/>
                    </a:lnTo>
                    <a:lnTo>
                      <a:pt x="540" y="1521"/>
                    </a:lnTo>
                    <a:lnTo>
                      <a:pt x="548" y="1519"/>
                    </a:lnTo>
                    <a:lnTo>
                      <a:pt x="556" y="1518"/>
                    </a:lnTo>
                    <a:lnTo>
                      <a:pt x="564" y="1517"/>
                    </a:lnTo>
                    <a:lnTo>
                      <a:pt x="572" y="1516"/>
                    </a:lnTo>
                    <a:lnTo>
                      <a:pt x="580" y="1515"/>
                    </a:lnTo>
                    <a:lnTo>
                      <a:pt x="588" y="1514"/>
                    </a:lnTo>
                    <a:lnTo>
                      <a:pt x="596" y="1513"/>
                    </a:lnTo>
                    <a:lnTo>
                      <a:pt x="604" y="151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3887640" y="3075120"/>
                <a:ext cx="201600" cy="487080"/>
              </a:xfrm>
              <a:custGeom>
                <a:avLst/>
                <a:gdLst/>
                <a:ahLst/>
                <a:rect l="l" t="t" r="r" b="b"/>
                <a:pathLst>
                  <a:path w="632" h="1534">
                    <a:moveTo>
                      <a:pt x="0" y="0"/>
                    </a:moveTo>
                    <a:lnTo>
                      <a:pt x="28" y="67"/>
                    </a:lnTo>
                    <a:lnTo>
                      <a:pt x="76" y="185"/>
                    </a:lnTo>
                    <a:lnTo>
                      <a:pt x="125" y="306"/>
                    </a:lnTo>
                    <a:lnTo>
                      <a:pt x="173" y="428"/>
                    </a:lnTo>
                    <a:lnTo>
                      <a:pt x="221" y="551"/>
                    </a:lnTo>
                    <a:lnTo>
                      <a:pt x="314" y="795"/>
                    </a:lnTo>
                    <a:lnTo>
                      <a:pt x="402" y="1031"/>
                    </a:lnTo>
                    <a:lnTo>
                      <a:pt x="481" y="1250"/>
                    </a:lnTo>
                    <a:lnTo>
                      <a:pt x="549" y="1445"/>
                    </a:lnTo>
                    <a:lnTo>
                      <a:pt x="579" y="1532"/>
                    </a:lnTo>
                    <a:lnTo>
                      <a:pt x="580" y="1534"/>
                    </a:lnTo>
                    <a:lnTo>
                      <a:pt x="586" y="1533"/>
                    </a:lnTo>
                    <a:lnTo>
                      <a:pt x="592" y="1532"/>
                    </a:lnTo>
                    <a:lnTo>
                      <a:pt x="599" y="1532"/>
                    </a:lnTo>
                    <a:lnTo>
                      <a:pt x="606" y="1531"/>
                    </a:lnTo>
                    <a:lnTo>
                      <a:pt x="612" y="1530"/>
                    </a:lnTo>
                    <a:lnTo>
                      <a:pt x="619" y="1529"/>
                    </a:lnTo>
                    <a:lnTo>
                      <a:pt x="625" y="1527"/>
                    </a:lnTo>
                    <a:lnTo>
                      <a:pt x="632" y="1526"/>
                    </a:lnTo>
                    <a:lnTo>
                      <a:pt x="631" y="1523"/>
                    </a:lnTo>
                    <a:lnTo>
                      <a:pt x="563" y="1327"/>
                    </a:lnTo>
                    <a:lnTo>
                      <a:pt x="483" y="1108"/>
                    </a:lnTo>
                    <a:lnTo>
                      <a:pt x="396" y="871"/>
                    </a:lnTo>
                    <a:lnTo>
                      <a:pt x="303" y="627"/>
                    </a:lnTo>
                    <a:lnTo>
                      <a:pt x="255" y="504"/>
                    </a:lnTo>
                    <a:lnTo>
                      <a:pt x="206" y="382"/>
                    </a:lnTo>
                    <a:lnTo>
                      <a:pt x="158" y="261"/>
                    </a:lnTo>
                    <a:lnTo>
                      <a:pt x="109" y="144"/>
                    </a:lnTo>
                    <a:lnTo>
                      <a:pt x="61" y="29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3370320" y="3075120"/>
                <a:ext cx="223920" cy="522000"/>
              </a:xfrm>
              <a:custGeom>
                <a:avLst/>
                <a:gdLst/>
                <a:ahLst/>
                <a:rect l="l" t="t" r="r" b="b"/>
                <a:pathLst>
                  <a:path w="709" h="1643">
                    <a:moveTo>
                      <a:pt x="115" y="0"/>
                    </a:moveTo>
                    <a:lnTo>
                      <a:pt x="142" y="53"/>
                    </a:lnTo>
                    <a:lnTo>
                      <a:pt x="170" y="107"/>
                    </a:lnTo>
                    <a:lnTo>
                      <a:pt x="197" y="161"/>
                    </a:lnTo>
                    <a:lnTo>
                      <a:pt x="223" y="217"/>
                    </a:lnTo>
                    <a:lnTo>
                      <a:pt x="248" y="271"/>
                    </a:lnTo>
                    <a:lnTo>
                      <a:pt x="275" y="327"/>
                    </a:lnTo>
                    <a:lnTo>
                      <a:pt x="299" y="383"/>
                    </a:lnTo>
                    <a:lnTo>
                      <a:pt x="324" y="439"/>
                    </a:lnTo>
                    <a:lnTo>
                      <a:pt x="370" y="552"/>
                    </a:lnTo>
                    <a:lnTo>
                      <a:pt x="415" y="665"/>
                    </a:lnTo>
                    <a:lnTo>
                      <a:pt x="457" y="778"/>
                    </a:lnTo>
                    <a:lnTo>
                      <a:pt x="497" y="889"/>
                    </a:lnTo>
                    <a:lnTo>
                      <a:pt x="535" y="997"/>
                    </a:lnTo>
                    <a:lnTo>
                      <a:pt x="569" y="1103"/>
                    </a:lnTo>
                    <a:lnTo>
                      <a:pt x="600" y="1205"/>
                    </a:lnTo>
                    <a:lnTo>
                      <a:pt x="628" y="1304"/>
                    </a:lnTo>
                    <a:lnTo>
                      <a:pt x="654" y="1397"/>
                    </a:lnTo>
                    <a:lnTo>
                      <a:pt x="676" y="1485"/>
                    </a:lnTo>
                    <a:lnTo>
                      <a:pt x="694" y="1567"/>
                    </a:lnTo>
                    <a:lnTo>
                      <a:pt x="709" y="1643"/>
                    </a:lnTo>
                    <a:lnTo>
                      <a:pt x="699" y="1642"/>
                    </a:lnTo>
                    <a:lnTo>
                      <a:pt x="687" y="1642"/>
                    </a:lnTo>
                    <a:lnTo>
                      <a:pt x="677" y="1640"/>
                    </a:lnTo>
                    <a:lnTo>
                      <a:pt x="666" y="1640"/>
                    </a:lnTo>
                    <a:lnTo>
                      <a:pt x="654" y="1639"/>
                    </a:lnTo>
                    <a:lnTo>
                      <a:pt x="644" y="1638"/>
                    </a:lnTo>
                    <a:lnTo>
                      <a:pt x="633" y="1638"/>
                    </a:lnTo>
                    <a:lnTo>
                      <a:pt x="621" y="1637"/>
                    </a:lnTo>
                    <a:lnTo>
                      <a:pt x="567" y="1476"/>
                    </a:lnTo>
                    <a:lnTo>
                      <a:pt x="500" y="1291"/>
                    </a:lnTo>
                    <a:lnTo>
                      <a:pt x="427" y="1087"/>
                    </a:lnTo>
                    <a:lnTo>
                      <a:pt x="346" y="871"/>
                    </a:lnTo>
                    <a:lnTo>
                      <a:pt x="262" y="649"/>
                    </a:lnTo>
                    <a:lnTo>
                      <a:pt x="174" y="425"/>
                    </a:lnTo>
                    <a:lnTo>
                      <a:pt x="131" y="316"/>
                    </a:lnTo>
                    <a:lnTo>
                      <a:pt x="87" y="207"/>
                    </a:lnTo>
                    <a:lnTo>
                      <a:pt x="43" y="102"/>
                    </a:lnTo>
                    <a:lnTo>
                      <a:pt x="0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3400560" y="3075120"/>
                <a:ext cx="204480" cy="522000"/>
              </a:xfrm>
              <a:custGeom>
                <a:avLst/>
                <a:gdLst/>
                <a:ahLst/>
                <a:rect l="l" t="t" r="r" b="b"/>
                <a:pathLst>
                  <a:path w="648" h="1645">
                    <a:moveTo>
                      <a:pt x="648" y="1645"/>
                    </a:moveTo>
                    <a:lnTo>
                      <a:pt x="646" y="1634"/>
                    </a:lnTo>
                    <a:lnTo>
                      <a:pt x="629" y="1555"/>
                    </a:lnTo>
                    <a:lnTo>
                      <a:pt x="608" y="1470"/>
                    </a:lnTo>
                    <a:lnTo>
                      <a:pt x="586" y="1381"/>
                    </a:lnTo>
                    <a:lnTo>
                      <a:pt x="559" y="1287"/>
                    </a:lnTo>
                    <a:lnTo>
                      <a:pt x="530" y="1187"/>
                    </a:lnTo>
                    <a:lnTo>
                      <a:pt x="497" y="1086"/>
                    </a:lnTo>
                    <a:lnTo>
                      <a:pt x="461" y="981"/>
                    </a:lnTo>
                    <a:lnTo>
                      <a:pt x="424" y="873"/>
                    </a:lnTo>
                    <a:lnTo>
                      <a:pt x="384" y="764"/>
                    </a:lnTo>
                    <a:lnTo>
                      <a:pt x="342" y="654"/>
                    </a:lnTo>
                    <a:lnTo>
                      <a:pt x="296" y="543"/>
                    </a:lnTo>
                    <a:lnTo>
                      <a:pt x="249" y="432"/>
                    </a:lnTo>
                    <a:lnTo>
                      <a:pt x="200" y="322"/>
                    </a:lnTo>
                    <a:lnTo>
                      <a:pt x="150" y="213"/>
                    </a:lnTo>
                    <a:lnTo>
                      <a:pt x="124" y="160"/>
                    </a:lnTo>
                    <a:lnTo>
                      <a:pt x="96" y="107"/>
                    </a:lnTo>
                    <a:lnTo>
                      <a:pt x="69" y="55"/>
                    </a:lnTo>
                    <a:lnTo>
                      <a:pt x="42" y="3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17" y="33"/>
                    </a:lnTo>
                    <a:lnTo>
                      <a:pt x="43" y="86"/>
                    </a:lnTo>
                    <a:lnTo>
                      <a:pt x="69" y="139"/>
                    </a:lnTo>
                    <a:lnTo>
                      <a:pt x="119" y="247"/>
                    </a:lnTo>
                    <a:lnTo>
                      <a:pt x="168" y="357"/>
                    </a:lnTo>
                    <a:lnTo>
                      <a:pt x="215" y="466"/>
                    </a:lnTo>
                    <a:lnTo>
                      <a:pt x="259" y="577"/>
                    </a:lnTo>
                    <a:lnTo>
                      <a:pt x="303" y="687"/>
                    </a:lnTo>
                    <a:lnTo>
                      <a:pt x="343" y="796"/>
                    </a:lnTo>
                    <a:lnTo>
                      <a:pt x="380" y="903"/>
                    </a:lnTo>
                    <a:lnTo>
                      <a:pt x="415" y="1008"/>
                    </a:lnTo>
                    <a:lnTo>
                      <a:pt x="448" y="1110"/>
                    </a:lnTo>
                    <a:lnTo>
                      <a:pt x="477" y="1209"/>
                    </a:lnTo>
                    <a:lnTo>
                      <a:pt x="503" y="1304"/>
                    </a:lnTo>
                    <a:lnTo>
                      <a:pt x="526" y="1393"/>
                    </a:lnTo>
                    <a:lnTo>
                      <a:pt x="547" y="1477"/>
                    </a:lnTo>
                    <a:lnTo>
                      <a:pt x="564" y="1555"/>
                    </a:lnTo>
                    <a:lnTo>
                      <a:pt x="578" y="1626"/>
                    </a:lnTo>
                    <a:lnTo>
                      <a:pt x="580" y="1640"/>
                    </a:lnTo>
                    <a:lnTo>
                      <a:pt x="588" y="1642"/>
                    </a:lnTo>
                    <a:lnTo>
                      <a:pt x="597" y="1642"/>
                    </a:lnTo>
                    <a:lnTo>
                      <a:pt x="605" y="1643"/>
                    </a:lnTo>
                    <a:lnTo>
                      <a:pt x="614" y="1643"/>
                    </a:lnTo>
                    <a:lnTo>
                      <a:pt x="622" y="1643"/>
                    </a:lnTo>
                    <a:lnTo>
                      <a:pt x="631" y="1644"/>
                    </a:lnTo>
                    <a:lnTo>
                      <a:pt x="639" y="1644"/>
                    </a:lnTo>
                    <a:lnTo>
                      <a:pt x="648" y="164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3362400" y="3075120"/>
                <a:ext cx="214200" cy="520560"/>
              </a:xfrm>
              <a:custGeom>
                <a:avLst/>
                <a:gdLst/>
                <a:ahLst/>
                <a:rect l="l" t="t" r="r" b="b"/>
                <a:pathLst>
                  <a:path w="675" h="1639">
                    <a:moveTo>
                      <a:pt x="0" y="0"/>
                    </a:moveTo>
                    <a:lnTo>
                      <a:pt x="3" y="9"/>
                    </a:lnTo>
                    <a:lnTo>
                      <a:pt x="51" y="123"/>
                    </a:lnTo>
                    <a:lnTo>
                      <a:pt x="100" y="241"/>
                    </a:lnTo>
                    <a:lnTo>
                      <a:pt x="148" y="361"/>
                    </a:lnTo>
                    <a:lnTo>
                      <a:pt x="197" y="484"/>
                    </a:lnTo>
                    <a:lnTo>
                      <a:pt x="245" y="606"/>
                    </a:lnTo>
                    <a:lnTo>
                      <a:pt x="337" y="851"/>
                    </a:lnTo>
                    <a:lnTo>
                      <a:pt x="425" y="1086"/>
                    </a:lnTo>
                    <a:lnTo>
                      <a:pt x="504" y="1306"/>
                    </a:lnTo>
                    <a:lnTo>
                      <a:pt x="572" y="1501"/>
                    </a:lnTo>
                    <a:lnTo>
                      <a:pt x="602" y="1588"/>
                    </a:lnTo>
                    <a:lnTo>
                      <a:pt x="618" y="1635"/>
                    </a:lnTo>
                    <a:lnTo>
                      <a:pt x="625" y="1635"/>
                    </a:lnTo>
                    <a:lnTo>
                      <a:pt x="631" y="1636"/>
                    </a:lnTo>
                    <a:lnTo>
                      <a:pt x="639" y="1636"/>
                    </a:lnTo>
                    <a:lnTo>
                      <a:pt x="646" y="1637"/>
                    </a:lnTo>
                    <a:lnTo>
                      <a:pt x="653" y="1637"/>
                    </a:lnTo>
                    <a:lnTo>
                      <a:pt x="660" y="1638"/>
                    </a:lnTo>
                    <a:lnTo>
                      <a:pt x="668" y="1638"/>
                    </a:lnTo>
                    <a:lnTo>
                      <a:pt x="675" y="1639"/>
                    </a:lnTo>
                    <a:lnTo>
                      <a:pt x="654" y="1579"/>
                    </a:lnTo>
                    <a:lnTo>
                      <a:pt x="586" y="1383"/>
                    </a:lnTo>
                    <a:lnTo>
                      <a:pt x="506" y="1163"/>
                    </a:lnTo>
                    <a:lnTo>
                      <a:pt x="419" y="927"/>
                    </a:lnTo>
                    <a:lnTo>
                      <a:pt x="326" y="682"/>
                    </a:lnTo>
                    <a:lnTo>
                      <a:pt x="278" y="560"/>
                    </a:lnTo>
                    <a:lnTo>
                      <a:pt x="230" y="437"/>
                    </a:lnTo>
                    <a:lnTo>
                      <a:pt x="181" y="317"/>
                    </a:lnTo>
                    <a:lnTo>
                      <a:pt x="133" y="198"/>
                    </a:lnTo>
                    <a:lnTo>
                      <a:pt x="85" y="84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2890800" y="3075120"/>
                <a:ext cx="217440" cy="488880"/>
              </a:xfrm>
              <a:custGeom>
                <a:avLst/>
                <a:gdLst/>
                <a:ahLst/>
                <a:rect l="l" t="t" r="r" b="b"/>
                <a:pathLst>
                  <a:path w="687" h="1539">
                    <a:moveTo>
                      <a:pt x="115" y="0"/>
                    </a:moveTo>
                    <a:lnTo>
                      <a:pt x="165" y="97"/>
                    </a:lnTo>
                    <a:lnTo>
                      <a:pt x="214" y="195"/>
                    </a:lnTo>
                    <a:lnTo>
                      <a:pt x="261" y="295"/>
                    </a:lnTo>
                    <a:lnTo>
                      <a:pt x="305" y="397"/>
                    </a:lnTo>
                    <a:lnTo>
                      <a:pt x="349" y="499"/>
                    </a:lnTo>
                    <a:lnTo>
                      <a:pt x="391" y="601"/>
                    </a:lnTo>
                    <a:lnTo>
                      <a:pt x="431" y="704"/>
                    </a:lnTo>
                    <a:lnTo>
                      <a:pt x="468" y="804"/>
                    </a:lnTo>
                    <a:lnTo>
                      <a:pt x="504" y="905"/>
                    </a:lnTo>
                    <a:lnTo>
                      <a:pt x="538" y="1003"/>
                    </a:lnTo>
                    <a:lnTo>
                      <a:pt x="569" y="1098"/>
                    </a:lnTo>
                    <a:lnTo>
                      <a:pt x="597" y="1192"/>
                    </a:lnTo>
                    <a:lnTo>
                      <a:pt x="623" y="1282"/>
                    </a:lnTo>
                    <a:lnTo>
                      <a:pt x="647" y="1369"/>
                    </a:lnTo>
                    <a:lnTo>
                      <a:pt x="669" y="1450"/>
                    </a:lnTo>
                    <a:lnTo>
                      <a:pt x="687" y="1527"/>
                    </a:lnTo>
                    <a:lnTo>
                      <a:pt x="675" y="1529"/>
                    </a:lnTo>
                    <a:lnTo>
                      <a:pt x="663" y="1531"/>
                    </a:lnTo>
                    <a:lnTo>
                      <a:pt x="651" y="1532"/>
                    </a:lnTo>
                    <a:lnTo>
                      <a:pt x="638" y="1533"/>
                    </a:lnTo>
                    <a:lnTo>
                      <a:pt x="626" y="1534"/>
                    </a:lnTo>
                    <a:lnTo>
                      <a:pt x="614" y="1537"/>
                    </a:lnTo>
                    <a:lnTo>
                      <a:pt x="602" y="1538"/>
                    </a:lnTo>
                    <a:lnTo>
                      <a:pt x="589" y="1539"/>
                    </a:lnTo>
                    <a:lnTo>
                      <a:pt x="532" y="1377"/>
                    </a:lnTo>
                    <a:lnTo>
                      <a:pt x="468" y="1197"/>
                    </a:lnTo>
                    <a:lnTo>
                      <a:pt x="396" y="1003"/>
                    </a:lnTo>
                    <a:lnTo>
                      <a:pt x="321" y="801"/>
                    </a:lnTo>
                    <a:lnTo>
                      <a:pt x="243" y="595"/>
                    </a:lnTo>
                    <a:lnTo>
                      <a:pt x="162" y="390"/>
                    </a:lnTo>
                    <a:lnTo>
                      <a:pt x="121" y="290"/>
                    </a:lnTo>
                    <a:lnTo>
                      <a:pt x="81" y="190"/>
                    </a:lnTo>
                    <a:lnTo>
                      <a:pt x="40" y="93"/>
                    </a:lnTo>
                    <a:lnTo>
                      <a:pt x="0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>
                <a:off x="2921040" y="3075120"/>
                <a:ext cx="198360" cy="485640"/>
              </a:xfrm>
              <a:custGeom>
                <a:avLst/>
                <a:gdLst/>
                <a:ahLst/>
                <a:rect l="l" t="t" r="r" b="b"/>
                <a:pathLst>
                  <a:path w="624" h="1531">
                    <a:moveTo>
                      <a:pt x="624" y="1524"/>
                    </a:moveTo>
                    <a:lnTo>
                      <a:pt x="613" y="1476"/>
                    </a:lnTo>
                    <a:lnTo>
                      <a:pt x="589" y="1386"/>
                    </a:lnTo>
                    <a:lnTo>
                      <a:pt x="562" y="1291"/>
                    </a:lnTo>
                    <a:lnTo>
                      <a:pt x="533" y="1193"/>
                    </a:lnTo>
                    <a:lnTo>
                      <a:pt x="501" y="1090"/>
                    </a:lnTo>
                    <a:lnTo>
                      <a:pt x="465" y="986"/>
                    </a:lnTo>
                    <a:lnTo>
                      <a:pt x="428" y="878"/>
                    </a:lnTo>
                    <a:lnTo>
                      <a:pt x="388" y="769"/>
                    </a:lnTo>
                    <a:lnTo>
                      <a:pt x="345" y="658"/>
                    </a:lnTo>
                    <a:lnTo>
                      <a:pt x="300" y="547"/>
                    </a:lnTo>
                    <a:lnTo>
                      <a:pt x="253" y="437"/>
                    </a:lnTo>
                    <a:lnTo>
                      <a:pt x="204" y="327"/>
                    </a:lnTo>
                    <a:lnTo>
                      <a:pt x="153" y="218"/>
                    </a:lnTo>
                    <a:lnTo>
                      <a:pt x="127" y="165"/>
                    </a:lnTo>
                    <a:lnTo>
                      <a:pt x="101" y="112"/>
                    </a:lnTo>
                    <a:lnTo>
                      <a:pt x="73" y="59"/>
                    </a:lnTo>
                    <a:lnTo>
                      <a:pt x="46" y="8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20" y="39"/>
                    </a:lnTo>
                    <a:lnTo>
                      <a:pt x="47" y="91"/>
                    </a:lnTo>
                    <a:lnTo>
                      <a:pt x="72" y="144"/>
                    </a:lnTo>
                    <a:lnTo>
                      <a:pt x="123" y="252"/>
                    </a:lnTo>
                    <a:lnTo>
                      <a:pt x="172" y="361"/>
                    </a:lnTo>
                    <a:lnTo>
                      <a:pt x="219" y="472"/>
                    </a:lnTo>
                    <a:lnTo>
                      <a:pt x="264" y="582"/>
                    </a:lnTo>
                    <a:lnTo>
                      <a:pt x="306" y="692"/>
                    </a:lnTo>
                    <a:lnTo>
                      <a:pt x="346" y="801"/>
                    </a:lnTo>
                    <a:lnTo>
                      <a:pt x="383" y="908"/>
                    </a:lnTo>
                    <a:lnTo>
                      <a:pt x="419" y="1013"/>
                    </a:lnTo>
                    <a:lnTo>
                      <a:pt x="451" y="1116"/>
                    </a:lnTo>
                    <a:lnTo>
                      <a:pt x="480" y="1214"/>
                    </a:lnTo>
                    <a:lnTo>
                      <a:pt x="506" y="1308"/>
                    </a:lnTo>
                    <a:lnTo>
                      <a:pt x="530" y="1397"/>
                    </a:lnTo>
                    <a:lnTo>
                      <a:pt x="551" y="1482"/>
                    </a:lnTo>
                    <a:lnTo>
                      <a:pt x="561" y="1531"/>
                    </a:lnTo>
                    <a:lnTo>
                      <a:pt x="569" y="1531"/>
                    </a:lnTo>
                    <a:lnTo>
                      <a:pt x="577" y="1530"/>
                    </a:lnTo>
                    <a:lnTo>
                      <a:pt x="585" y="1529"/>
                    </a:lnTo>
                    <a:lnTo>
                      <a:pt x="593" y="1527"/>
                    </a:lnTo>
                    <a:lnTo>
                      <a:pt x="600" y="1526"/>
                    </a:lnTo>
                    <a:lnTo>
                      <a:pt x="608" y="1526"/>
                    </a:lnTo>
                    <a:lnTo>
                      <a:pt x="616" y="1525"/>
                    </a:lnTo>
                    <a:lnTo>
                      <a:pt x="624" y="15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2882880" y="3075120"/>
                <a:ext cx="203400" cy="488880"/>
              </a:xfrm>
              <a:custGeom>
                <a:avLst/>
                <a:gdLst/>
                <a:ahLst/>
                <a:rect l="l" t="t" r="r" b="b"/>
                <a:pathLst>
                  <a:path w="639" h="1542">
                    <a:moveTo>
                      <a:pt x="0" y="0"/>
                    </a:moveTo>
                    <a:lnTo>
                      <a:pt x="5" y="13"/>
                    </a:lnTo>
                    <a:lnTo>
                      <a:pt x="53" y="128"/>
                    </a:lnTo>
                    <a:lnTo>
                      <a:pt x="101" y="245"/>
                    </a:lnTo>
                    <a:lnTo>
                      <a:pt x="150" y="366"/>
                    </a:lnTo>
                    <a:lnTo>
                      <a:pt x="198" y="488"/>
                    </a:lnTo>
                    <a:lnTo>
                      <a:pt x="246" y="611"/>
                    </a:lnTo>
                    <a:lnTo>
                      <a:pt x="339" y="855"/>
                    </a:lnTo>
                    <a:lnTo>
                      <a:pt x="426" y="1092"/>
                    </a:lnTo>
                    <a:lnTo>
                      <a:pt x="506" y="1311"/>
                    </a:lnTo>
                    <a:lnTo>
                      <a:pt x="574" y="1506"/>
                    </a:lnTo>
                    <a:lnTo>
                      <a:pt x="587" y="1542"/>
                    </a:lnTo>
                    <a:lnTo>
                      <a:pt x="593" y="1542"/>
                    </a:lnTo>
                    <a:lnTo>
                      <a:pt x="599" y="1541"/>
                    </a:lnTo>
                    <a:lnTo>
                      <a:pt x="606" y="1540"/>
                    </a:lnTo>
                    <a:lnTo>
                      <a:pt x="613" y="1539"/>
                    </a:lnTo>
                    <a:lnTo>
                      <a:pt x="620" y="1539"/>
                    </a:lnTo>
                    <a:lnTo>
                      <a:pt x="626" y="1538"/>
                    </a:lnTo>
                    <a:lnTo>
                      <a:pt x="632" y="1537"/>
                    </a:lnTo>
                    <a:lnTo>
                      <a:pt x="639" y="1537"/>
                    </a:lnTo>
                    <a:lnTo>
                      <a:pt x="587" y="1387"/>
                    </a:lnTo>
                    <a:lnTo>
                      <a:pt x="508" y="1168"/>
                    </a:lnTo>
                    <a:lnTo>
                      <a:pt x="420" y="932"/>
                    </a:lnTo>
                    <a:lnTo>
                      <a:pt x="328" y="688"/>
                    </a:lnTo>
                    <a:lnTo>
                      <a:pt x="279" y="565"/>
                    </a:lnTo>
                    <a:lnTo>
                      <a:pt x="231" y="442"/>
                    </a:lnTo>
                    <a:lnTo>
                      <a:pt x="182" y="322"/>
                    </a:lnTo>
                    <a:lnTo>
                      <a:pt x="134" y="203"/>
                    </a:lnTo>
                    <a:lnTo>
                      <a:pt x="86" y="89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4753080" y="3075120"/>
                <a:ext cx="215640" cy="473040"/>
              </a:xfrm>
              <a:custGeom>
                <a:avLst/>
                <a:gdLst/>
                <a:ahLst/>
                <a:rect l="l" t="t" r="r" b="b"/>
                <a:pathLst>
                  <a:path w="677" h="1492">
                    <a:moveTo>
                      <a:pt x="114" y="0"/>
                    </a:moveTo>
                    <a:lnTo>
                      <a:pt x="161" y="90"/>
                    </a:lnTo>
                    <a:lnTo>
                      <a:pt x="205" y="182"/>
                    </a:lnTo>
                    <a:lnTo>
                      <a:pt x="249" y="277"/>
                    </a:lnTo>
                    <a:lnTo>
                      <a:pt x="291" y="373"/>
                    </a:lnTo>
                    <a:lnTo>
                      <a:pt x="332" y="469"/>
                    </a:lnTo>
                    <a:lnTo>
                      <a:pt x="372" y="566"/>
                    </a:lnTo>
                    <a:lnTo>
                      <a:pt x="411" y="664"/>
                    </a:lnTo>
                    <a:lnTo>
                      <a:pt x="447" y="761"/>
                    </a:lnTo>
                    <a:lnTo>
                      <a:pt x="481" y="858"/>
                    </a:lnTo>
                    <a:lnTo>
                      <a:pt x="516" y="954"/>
                    </a:lnTo>
                    <a:lnTo>
                      <a:pt x="547" y="1048"/>
                    </a:lnTo>
                    <a:lnTo>
                      <a:pt x="577" y="1142"/>
                    </a:lnTo>
                    <a:lnTo>
                      <a:pt x="604" y="1233"/>
                    </a:lnTo>
                    <a:lnTo>
                      <a:pt x="631" y="1322"/>
                    </a:lnTo>
                    <a:lnTo>
                      <a:pt x="655" y="1409"/>
                    </a:lnTo>
                    <a:lnTo>
                      <a:pt x="677" y="1492"/>
                    </a:lnTo>
                    <a:lnTo>
                      <a:pt x="659" y="1486"/>
                    </a:lnTo>
                    <a:lnTo>
                      <a:pt x="641" y="1482"/>
                    </a:lnTo>
                    <a:lnTo>
                      <a:pt x="623" y="1476"/>
                    </a:lnTo>
                    <a:lnTo>
                      <a:pt x="606" y="1472"/>
                    </a:lnTo>
                    <a:lnTo>
                      <a:pt x="587" y="1467"/>
                    </a:lnTo>
                    <a:lnTo>
                      <a:pt x="570" y="1464"/>
                    </a:lnTo>
                    <a:lnTo>
                      <a:pt x="553" y="1460"/>
                    </a:lnTo>
                    <a:lnTo>
                      <a:pt x="537" y="1457"/>
                    </a:lnTo>
                    <a:lnTo>
                      <a:pt x="478" y="1284"/>
                    </a:lnTo>
                    <a:lnTo>
                      <a:pt x="415" y="1104"/>
                    </a:lnTo>
                    <a:lnTo>
                      <a:pt x="349" y="917"/>
                    </a:lnTo>
                    <a:lnTo>
                      <a:pt x="281" y="728"/>
                    </a:lnTo>
                    <a:lnTo>
                      <a:pt x="210" y="538"/>
                    </a:lnTo>
                    <a:lnTo>
                      <a:pt x="139" y="351"/>
                    </a:lnTo>
                    <a:lnTo>
                      <a:pt x="69" y="171"/>
                    </a:lnTo>
                    <a:lnTo>
                      <a:pt x="0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4782960" y="3075120"/>
                <a:ext cx="196920" cy="476280"/>
              </a:xfrm>
              <a:custGeom>
                <a:avLst/>
                <a:gdLst/>
                <a:ahLst/>
                <a:rect l="l" t="t" r="r" b="b"/>
                <a:pathLst>
                  <a:path w="617" h="1500">
                    <a:moveTo>
                      <a:pt x="617" y="1500"/>
                    </a:moveTo>
                    <a:lnTo>
                      <a:pt x="605" y="1459"/>
                    </a:lnTo>
                    <a:lnTo>
                      <a:pt x="575" y="1353"/>
                    </a:lnTo>
                    <a:lnTo>
                      <a:pt x="542" y="1242"/>
                    </a:lnTo>
                    <a:lnTo>
                      <a:pt x="507" y="1129"/>
                    </a:lnTo>
                    <a:lnTo>
                      <a:pt x="469" y="1013"/>
                    </a:lnTo>
                    <a:lnTo>
                      <a:pt x="428" y="895"/>
                    </a:lnTo>
                    <a:lnTo>
                      <a:pt x="385" y="776"/>
                    </a:lnTo>
                    <a:lnTo>
                      <a:pt x="339" y="656"/>
                    </a:lnTo>
                    <a:lnTo>
                      <a:pt x="292" y="537"/>
                    </a:lnTo>
                    <a:lnTo>
                      <a:pt x="267" y="477"/>
                    </a:lnTo>
                    <a:lnTo>
                      <a:pt x="241" y="417"/>
                    </a:lnTo>
                    <a:lnTo>
                      <a:pt x="215" y="359"/>
                    </a:lnTo>
                    <a:lnTo>
                      <a:pt x="189" y="300"/>
                    </a:lnTo>
                    <a:lnTo>
                      <a:pt x="162" y="242"/>
                    </a:lnTo>
                    <a:lnTo>
                      <a:pt x="135" y="185"/>
                    </a:lnTo>
                    <a:lnTo>
                      <a:pt x="107" y="128"/>
                    </a:lnTo>
                    <a:lnTo>
                      <a:pt x="78" y="72"/>
                    </a:lnTo>
                    <a:lnTo>
                      <a:pt x="50" y="17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27" y="55"/>
                    </a:lnTo>
                    <a:lnTo>
                      <a:pt x="54" y="110"/>
                    </a:lnTo>
                    <a:lnTo>
                      <a:pt x="82" y="167"/>
                    </a:lnTo>
                    <a:lnTo>
                      <a:pt x="108" y="226"/>
                    </a:lnTo>
                    <a:lnTo>
                      <a:pt x="134" y="284"/>
                    </a:lnTo>
                    <a:lnTo>
                      <a:pt x="161" y="342"/>
                    </a:lnTo>
                    <a:lnTo>
                      <a:pt x="186" y="401"/>
                    </a:lnTo>
                    <a:lnTo>
                      <a:pt x="211" y="461"/>
                    </a:lnTo>
                    <a:lnTo>
                      <a:pt x="259" y="580"/>
                    </a:lnTo>
                    <a:lnTo>
                      <a:pt x="304" y="699"/>
                    </a:lnTo>
                    <a:lnTo>
                      <a:pt x="347" y="818"/>
                    </a:lnTo>
                    <a:lnTo>
                      <a:pt x="387" y="936"/>
                    </a:lnTo>
                    <a:lnTo>
                      <a:pt x="426" y="1052"/>
                    </a:lnTo>
                    <a:lnTo>
                      <a:pt x="461" y="1165"/>
                    </a:lnTo>
                    <a:lnTo>
                      <a:pt x="493" y="1275"/>
                    </a:lnTo>
                    <a:lnTo>
                      <a:pt x="523" y="1381"/>
                    </a:lnTo>
                    <a:lnTo>
                      <a:pt x="549" y="1482"/>
                    </a:lnTo>
                    <a:lnTo>
                      <a:pt x="556" y="1484"/>
                    </a:lnTo>
                    <a:lnTo>
                      <a:pt x="563" y="1486"/>
                    </a:lnTo>
                    <a:lnTo>
                      <a:pt x="570" y="1489"/>
                    </a:lnTo>
                    <a:lnTo>
                      <a:pt x="577" y="1490"/>
                    </a:lnTo>
                    <a:lnTo>
                      <a:pt x="583" y="1492"/>
                    </a:lnTo>
                    <a:lnTo>
                      <a:pt x="590" y="1494"/>
                    </a:lnTo>
                    <a:lnTo>
                      <a:pt x="597" y="1497"/>
                    </a:lnTo>
                    <a:lnTo>
                      <a:pt x="604" y="1499"/>
                    </a:lnTo>
                    <a:lnTo>
                      <a:pt x="605" y="1500"/>
                    </a:lnTo>
                    <a:lnTo>
                      <a:pt x="607" y="1500"/>
                    </a:lnTo>
                    <a:lnTo>
                      <a:pt x="609" y="1500"/>
                    </a:lnTo>
                    <a:lnTo>
                      <a:pt x="610" y="1500"/>
                    </a:lnTo>
                    <a:lnTo>
                      <a:pt x="612" y="1500"/>
                    </a:lnTo>
                    <a:lnTo>
                      <a:pt x="613" y="1500"/>
                    </a:lnTo>
                    <a:lnTo>
                      <a:pt x="614" y="1500"/>
                    </a:lnTo>
                    <a:lnTo>
                      <a:pt x="617" y="150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4745160" y="3075120"/>
                <a:ext cx="188640" cy="463320"/>
              </a:xfrm>
              <a:custGeom>
                <a:avLst/>
                <a:gdLst/>
                <a:ahLst/>
                <a:rect l="l" t="t" r="r" b="b"/>
                <a:pathLst>
                  <a:path w="591" h="1462">
                    <a:moveTo>
                      <a:pt x="0" y="0"/>
                    </a:moveTo>
                    <a:lnTo>
                      <a:pt x="32" y="80"/>
                    </a:lnTo>
                    <a:lnTo>
                      <a:pt x="81" y="203"/>
                    </a:lnTo>
                    <a:lnTo>
                      <a:pt x="130" y="330"/>
                    </a:lnTo>
                    <a:lnTo>
                      <a:pt x="180" y="461"/>
                    </a:lnTo>
                    <a:lnTo>
                      <a:pt x="229" y="592"/>
                    </a:lnTo>
                    <a:lnTo>
                      <a:pt x="278" y="725"/>
                    </a:lnTo>
                    <a:lnTo>
                      <a:pt x="326" y="858"/>
                    </a:lnTo>
                    <a:lnTo>
                      <a:pt x="373" y="989"/>
                    </a:lnTo>
                    <a:lnTo>
                      <a:pt x="417" y="1118"/>
                    </a:lnTo>
                    <a:lnTo>
                      <a:pt x="462" y="1243"/>
                    </a:lnTo>
                    <a:lnTo>
                      <a:pt x="533" y="1452"/>
                    </a:lnTo>
                    <a:lnTo>
                      <a:pt x="539" y="1453"/>
                    </a:lnTo>
                    <a:lnTo>
                      <a:pt x="546" y="1454"/>
                    </a:lnTo>
                    <a:lnTo>
                      <a:pt x="554" y="1456"/>
                    </a:lnTo>
                    <a:lnTo>
                      <a:pt x="561" y="1457"/>
                    </a:lnTo>
                    <a:lnTo>
                      <a:pt x="569" y="1458"/>
                    </a:lnTo>
                    <a:lnTo>
                      <a:pt x="576" y="1459"/>
                    </a:lnTo>
                    <a:lnTo>
                      <a:pt x="584" y="1461"/>
                    </a:lnTo>
                    <a:lnTo>
                      <a:pt x="591" y="1462"/>
                    </a:lnTo>
                    <a:lnTo>
                      <a:pt x="543" y="1321"/>
                    </a:lnTo>
                    <a:lnTo>
                      <a:pt x="500" y="1195"/>
                    </a:lnTo>
                    <a:lnTo>
                      <a:pt x="454" y="1067"/>
                    </a:lnTo>
                    <a:lnTo>
                      <a:pt x="407" y="934"/>
                    </a:lnTo>
                    <a:lnTo>
                      <a:pt x="359" y="802"/>
                    </a:lnTo>
                    <a:lnTo>
                      <a:pt x="310" y="669"/>
                    </a:lnTo>
                    <a:lnTo>
                      <a:pt x="261" y="537"/>
                    </a:lnTo>
                    <a:lnTo>
                      <a:pt x="212" y="406"/>
                    </a:lnTo>
                    <a:lnTo>
                      <a:pt x="162" y="279"/>
                    </a:lnTo>
                    <a:lnTo>
                      <a:pt x="113" y="155"/>
                    </a:lnTo>
                    <a:lnTo>
                      <a:pt x="65" y="3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5788080" y="3075120"/>
                <a:ext cx="155520" cy="482400"/>
              </a:xfrm>
              <a:custGeom>
                <a:avLst/>
                <a:gdLst/>
                <a:ahLst/>
                <a:rect l="l" t="t" r="r" b="b"/>
                <a:pathLst>
                  <a:path w="490" h="1522">
                    <a:moveTo>
                      <a:pt x="123" y="0"/>
                    </a:moveTo>
                    <a:lnTo>
                      <a:pt x="157" y="100"/>
                    </a:lnTo>
                    <a:lnTo>
                      <a:pt x="189" y="201"/>
                    </a:lnTo>
                    <a:lnTo>
                      <a:pt x="220" y="301"/>
                    </a:lnTo>
                    <a:lnTo>
                      <a:pt x="250" y="403"/>
                    </a:lnTo>
                    <a:lnTo>
                      <a:pt x="278" y="504"/>
                    </a:lnTo>
                    <a:lnTo>
                      <a:pt x="305" y="606"/>
                    </a:lnTo>
                    <a:lnTo>
                      <a:pt x="330" y="706"/>
                    </a:lnTo>
                    <a:lnTo>
                      <a:pt x="354" y="805"/>
                    </a:lnTo>
                    <a:lnTo>
                      <a:pt x="377" y="903"/>
                    </a:lnTo>
                    <a:lnTo>
                      <a:pt x="397" y="1000"/>
                    </a:lnTo>
                    <a:lnTo>
                      <a:pt x="417" y="1094"/>
                    </a:lnTo>
                    <a:lnTo>
                      <a:pt x="435" y="1185"/>
                    </a:lnTo>
                    <a:lnTo>
                      <a:pt x="451" y="1274"/>
                    </a:lnTo>
                    <a:lnTo>
                      <a:pt x="466" y="1361"/>
                    </a:lnTo>
                    <a:lnTo>
                      <a:pt x="478" y="1443"/>
                    </a:lnTo>
                    <a:lnTo>
                      <a:pt x="490" y="1522"/>
                    </a:lnTo>
                    <a:lnTo>
                      <a:pt x="475" y="1519"/>
                    </a:lnTo>
                    <a:lnTo>
                      <a:pt x="460" y="1517"/>
                    </a:lnTo>
                    <a:lnTo>
                      <a:pt x="446" y="1515"/>
                    </a:lnTo>
                    <a:lnTo>
                      <a:pt x="432" y="1513"/>
                    </a:lnTo>
                    <a:lnTo>
                      <a:pt x="418" y="1509"/>
                    </a:lnTo>
                    <a:lnTo>
                      <a:pt x="403" y="1507"/>
                    </a:lnTo>
                    <a:lnTo>
                      <a:pt x="389" y="1505"/>
                    </a:lnTo>
                    <a:lnTo>
                      <a:pt x="376" y="1501"/>
                    </a:lnTo>
                    <a:lnTo>
                      <a:pt x="338" y="1337"/>
                    </a:lnTo>
                    <a:lnTo>
                      <a:pt x="297" y="1161"/>
                    </a:lnTo>
                    <a:lnTo>
                      <a:pt x="253" y="974"/>
                    </a:lnTo>
                    <a:lnTo>
                      <a:pt x="205" y="781"/>
                    </a:lnTo>
                    <a:lnTo>
                      <a:pt x="156" y="584"/>
                    </a:lnTo>
                    <a:lnTo>
                      <a:pt x="104" y="387"/>
                    </a:lnTo>
                    <a:lnTo>
                      <a:pt x="52" y="190"/>
                    </a:lnTo>
                    <a:lnTo>
                      <a:pt x="0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5818320" y="3075120"/>
                <a:ext cx="137880" cy="484200"/>
              </a:xfrm>
              <a:custGeom>
                <a:avLst/>
                <a:gdLst/>
                <a:ahLst/>
                <a:rect l="l" t="t" r="r" b="b"/>
                <a:pathLst>
                  <a:path w="431" h="1526">
                    <a:moveTo>
                      <a:pt x="431" y="1526"/>
                    </a:moveTo>
                    <a:lnTo>
                      <a:pt x="420" y="1453"/>
                    </a:lnTo>
                    <a:lnTo>
                      <a:pt x="403" y="1347"/>
                    </a:lnTo>
                    <a:lnTo>
                      <a:pt x="383" y="1237"/>
                    </a:lnTo>
                    <a:lnTo>
                      <a:pt x="361" y="1120"/>
                    </a:lnTo>
                    <a:lnTo>
                      <a:pt x="335" y="1000"/>
                    </a:lnTo>
                    <a:lnTo>
                      <a:pt x="309" y="878"/>
                    </a:lnTo>
                    <a:lnTo>
                      <a:pt x="278" y="754"/>
                    </a:lnTo>
                    <a:lnTo>
                      <a:pt x="247" y="626"/>
                    </a:lnTo>
                    <a:lnTo>
                      <a:pt x="212" y="498"/>
                    </a:lnTo>
                    <a:lnTo>
                      <a:pt x="176" y="371"/>
                    </a:lnTo>
                    <a:lnTo>
                      <a:pt x="156" y="307"/>
                    </a:lnTo>
                    <a:lnTo>
                      <a:pt x="136" y="243"/>
                    </a:lnTo>
                    <a:lnTo>
                      <a:pt x="115" y="179"/>
                    </a:lnTo>
                    <a:lnTo>
                      <a:pt x="95" y="116"/>
                    </a:lnTo>
                    <a:lnTo>
                      <a:pt x="73" y="53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14" y="39"/>
                    </a:lnTo>
                    <a:lnTo>
                      <a:pt x="35" y="102"/>
                    </a:lnTo>
                    <a:lnTo>
                      <a:pt x="54" y="165"/>
                    </a:lnTo>
                    <a:lnTo>
                      <a:pt x="74" y="229"/>
                    </a:lnTo>
                    <a:lnTo>
                      <a:pt x="94" y="293"/>
                    </a:lnTo>
                    <a:lnTo>
                      <a:pt x="130" y="421"/>
                    </a:lnTo>
                    <a:lnTo>
                      <a:pt x="164" y="549"/>
                    </a:lnTo>
                    <a:lnTo>
                      <a:pt x="196" y="675"/>
                    </a:lnTo>
                    <a:lnTo>
                      <a:pt x="226" y="800"/>
                    </a:lnTo>
                    <a:lnTo>
                      <a:pt x="255" y="923"/>
                    </a:lnTo>
                    <a:lnTo>
                      <a:pt x="278" y="1041"/>
                    </a:lnTo>
                    <a:lnTo>
                      <a:pt x="301" y="1157"/>
                    </a:lnTo>
                    <a:lnTo>
                      <a:pt x="321" y="1268"/>
                    </a:lnTo>
                    <a:lnTo>
                      <a:pt x="338" y="1375"/>
                    </a:lnTo>
                    <a:lnTo>
                      <a:pt x="353" y="1475"/>
                    </a:lnTo>
                    <a:lnTo>
                      <a:pt x="358" y="1516"/>
                    </a:lnTo>
                    <a:lnTo>
                      <a:pt x="367" y="1517"/>
                    </a:lnTo>
                    <a:lnTo>
                      <a:pt x="375" y="1518"/>
                    </a:lnTo>
                    <a:lnTo>
                      <a:pt x="384" y="1521"/>
                    </a:lnTo>
                    <a:lnTo>
                      <a:pt x="394" y="1522"/>
                    </a:lnTo>
                    <a:lnTo>
                      <a:pt x="403" y="1523"/>
                    </a:lnTo>
                    <a:lnTo>
                      <a:pt x="412" y="1524"/>
                    </a:lnTo>
                    <a:lnTo>
                      <a:pt x="422" y="1525"/>
                    </a:lnTo>
                    <a:lnTo>
                      <a:pt x="431" y="152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5778360" y="3075120"/>
                <a:ext cx="139680" cy="479160"/>
              </a:xfrm>
              <a:custGeom>
                <a:avLst/>
                <a:gdLst/>
                <a:ahLst/>
                <a:rect l="l" t="t" r="r" b="b"/>
                <a:pathLst>
                  <a:path w="439" h="1508">
                    <a:moveTo>
                      <a:pt x="0" y="0"/>
                    </a:moveTo>
                    <a:lnTo>
                      <a:pt x="33" y="122"/>
                    </a:lnTo>
                    <a:lnTo>
                      <a:pt x="71" y="261"/>
                    </a:lnTo>
                    <a:lnTo>
                      <a:pt x="108" y="403"/>
                    </a:lnTo>
                    <a:lnTo>
                      <a:pt x="145" y="544"/>
                    </a:lnTo>
                    <a:lnTo>
                      <a:pt x="180" y="684"/>
                    </a:lnTo>
                    <a:lnTo>
                      <a:pt x="214" y="825"/>
                    </a:lnTo>
                    <a:lnTo>
                      <a:pt x="248" y="962"/>
                    </a:lnTo>
                    <a:lnTo>
                      <a:pt x="280" y="1095"/>
                    </a:lnTo>
                    <a:lnTo>
                      <a:pt x="338" y="1346"/>
                    </a:lnTo>
                    <a:lnTo>
                      <a:pt x="372" y="1493"/>
                    </a:lnTo>
                    <a:lnTo>
                      <a:pt x="380" y="1495"/>
                    </a:lnTo>
                    <a:lnTo>
                      <a:pt x="388" y="1498"/>
                    </a:lnTo>
                    <a:lnTo>
                      <a:pt x="397" y="1499"/>
                    </a:lnTo>
                    <a:lnTo>
                      <a:pt x="405" y="1501"/>
                    </a:lnTo>
                    <a:lnTo>
                      <a:pt x="414" y="1502"/>
                    </a:lnTo>
                    <a:lnTo>
                      <a:pt x="422" y="1505"/>
                    </a:lnTo>
                    <a:lnTo>
                      <a:pt x="431" y="1507"/>
                    </a:lnTo>
                    <a:lnTo>
                      <a:pt x="439" y="1508"/>
                    </a:lnTo>
                    <a:lnTo>
                      <a:pt x="421" y="1425"/>
                    </a:lnTo>
                    <a:lnTo>
                      <a:pt x="362" y="1174"/>
                    </a:lnTo>
                    <a:lnTo>
                      <a:pt x="331" y="1040"/>
                    </a:lnTo>
                    <a:lnTo>
                      <a:pt x="296" y="903"/>
                    </a:lnTo>
                    <a:lnTo>
                      <a:pt x="262" y="763"/>
                    </a:lnTo>
                    <a:lnTo>
                      <a:pt x="227" y="622"/>
                    </a:lnTo>
                    <a:lnTo>
                      <a:pt x="190" y="480"/>
                    </a:lnTo>
                    <a:lnTo>
                      <a:pt x="153" y="340"/>
                    </a:lnTo>
                    <a:lnTo>
                      <a:pt x="115" y="201"/>
                    </a:lnTo>
                    <a:lnTo>
                      <a:pt x="77" y="64"/>
                    </a:lnTo>
                    <a:lnTo>
                      <a:pt x="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6121440" y="3075120"/>
                <a:ext cx="142920" cy="485640"/>
              </a:xfrm>
              <a:custGeom>
                <a:avLst/>
                <a:gdLst/>
                <a:ahLst/>
                <a:rect l="l" t="t" r="r" b="b"/>
                <a:pathLst>
                  <a:path w="451" h="1531">
                    <a:moveTo>
                      <a:pt x="136" y="0"/>
                    </a:moveTo>
                    <a:lnTo>
                      <a:pt x="165" y="98"/>
                    </a:lnTo>
                    <a:lnTo>
                      <a:pt x="192" y="197"/>
                    </a:lnTo>
                    <a:lnTo>
                      <a:pt x="218" y="295"/>
                    </a:lnTo>
                    <a:lnTo>
                      <a:pt x="243" y="396"/>
                    </a:lnTo>
                    <a:lnTo>
                      <a:pt x="266" y="495"/>
                    </a:lnTo>
                    <a:lnTo>
                      <a:pt x="289" y="594"/>
                    </a:lnTo>
                    <a:lnTo>
                      <a:pt x="310" y="692"/>
                    </a:lnTo>
                    <a:lnTo>
                      <a:pt x="331" y="790"/>
                    </a:lnTo>
                    <a:lnTo>
                      <a:pt x="350" y="887"/>
                    </a:lnTo>
                    <a:lnTo>
                      <a:pt x="369" y="983"/>
                    </a:lnTo>
                    <a:lnTo>
                      <a:pt x="385" y="1078"/>
                    </a:lnTo>
                    <a:lnTo>
                      <a:pt x="400" y="1170"/>
                    </a:lnTo>
                    <a:lnTo>
                      <a:pt x="414" y="1262"/>
                    </a:lnTo>
                    <a:lnTo>
                      <a:pt x="428" y="1351"/>
                    </a:lnTo>
                    <a:lnTo>
                      <a:pt x="439" y="1437"/>
                    </a:lnTo>
                    <a:lnTo>
                      <a:pt x="451" y="1521"/>
                    </a:lnTo>
                    <a:lnTo>
                      <a:pt x="434" y="1522"/>
                    </a:lnTo>
                    <a:lnTo>
                      <a:pt x="418" y="1523"/>
                    </a:lnTo>
                    <a:lnTo>
                      <a:pt x="400" y="1524"/>
                    </a:lnTo>
                    <a:lnTo>
                      <a:pt x="383" y="1526"/>
                    </a:lnTo>
                    <a:lnTo>
                      <a:pt x="366" y="1527"/>
                    </a:lnTo>
                    <a:lnTo>
                      <a:pt x="349" y="1529"/>
                    </a:lnTo>
                    <a:lnTo>
                      <a:pt x="333" y="1530"/>
                    </a:lnTo>
                    <a:lnTo>
                      <a:pt x="316" y="1531"/>
                    </a:lnTo>
                    <a:lnTo>
                      <a:pt x="283" y="1356"/>
                    </a:lnTo>
                    <a:lnTo>
                      <a:pt x="248" y="1171"/>
                    </a:lnTo>
                    <a:lnTo>
                      <a:pt x="210" y="981"/>
                    </a:lnTo>
                    <a:lnTo>
                      <a:pt x="170" y="785"/>
                    </a:lnTo>
                    <a:lnTo>
                      <a:pt x="129" y="586"/>
                    </a:lnTo>
                    <a:lnTo>
                      <a:pt x="87" y="388"/>
                    </a:lnTo>
                    <a:lnTo>
                      <a:pt x="44" y="191"/>
                    </a:lnTo>
                    <a:lnTo>
                      <a:pt x="0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6154560" y="3075120"/>
                <a:ext cx="120960" cy="484200"/>
              </a:xfrm>
              <a:custGeom>
                <a:avLst/>
                <a:gdLst/>
                <a:ahLst/>
                <a:rect l="l" t="t" r="r" b="b"/>
                <a:pathLst>
                  <a:path w="380" h="1523">
                    <a:moveTo>
                      <a:pt x="380" y="1517"/>
                    </a:moveTo>
                    <a:lnTo>
                      <a:pt x="364" y="1397"/>
                    </a:lnTo>
                    <a:lnTo>
                      <a:pt x="345" y="1266"/>
                    </a:lnTo>
                    <a:lnTo>
                      <a:pt x="322" y="1130"/>
                    </a:lnTo>
                    <a:lnTo>
                      <a:pt x="298" y="990"/>
                    </a:lnTo>
                    <a:lnTo>
                      <a:pt x="269" y="847"/>
                    </a:lnTo>
                    <a:lnTo>
                      <a:pt x="240" y="703"/>
                    </a:lnTo>
                    <a:lnTo>
                      <a:pt x="207" y="557"/>
                    </a:lnTo>
                    <a:lnTo>
                      <a:pt x="171" y="409"/>
                    </a:lnTo>
                    <a:lnTo>
                      <a:pt x="153" y="336"/>
                    </a:lnTo>
                    <a:lnTo>
                      <a:pt x="134" y="263"/>
                    </a:lnTo>
                    <a:lnTo>
                      <a:pt x="114" y="190"/>
                    </a:lnTo>
                    <a:lnTo>
                      <a:pt x="94" y="117"/>
                    </a:lnTo>
                    <a:lnTo>
                      <a:pt x="73" y="44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12" y="40"/>
                    </a:lnTo>
                    <a:lnTo>
                      <a:pt x="32" y="112"/>
                    </a:lnTo>
                    <a:lnTo>
                      <a:pt x="52" y="185"/>
                    </a:lnTo>
                    <a:lnTo>
                      <a:pt x="71" y="258"/>
                    </a:lnTo>
                    <a:lnTo>
                      <a:pt x="89" y="332"/>
                    </a:lnTo>
                    <a:lnTo>
                      <a:pt x="125" y="478"/>
                    </a:lnTo>
                    <a:lnTo>
                      <a:pt x="158" y="624"/>
                    </a:lnTo>
                    <a:lnTo>
                      <a:pt x="187" y="769"/>
                    </a:lnTo>
                    <a:lnTo>
                      <a:pt x="215" y="911"/>
                    </a:lnTo>
                    <a:lnTo>
                      <a:pt x="240" y="1051"/>
                    </a:lnTo>
                    <a:lnTo>
                      <a:pt x="263" y="1186"/>
                    </a:lnTo>
                    <a:lnTo>
                      <a:pt x="282" y="1319"/>
                    </a:lnTo>
                    <a:lnTo>
                      <a:pt x="299" y="1444"/>
                    </a:lnTo>
                    <a:lnTo>
                      <a:pt x="308" y="1523"/>
                    </a:lnTo>
                    <a:lnTo>
                      <a:pt x="317" y="1523"/>
                    </a:lnTo>
                    <a:lnTo>
                      <a:pt x="326" y="1522"/>
                    </a:lnTo>
                    <a:lnTo>
                      <a:pt x="336" y="1522"/>
                    </a:lnTo>
                    <a:lnTo>
                      <a:pt x="345" y="1521"/>
                    </a:lnTo>
                    <a:lnTo>
                      <a:pt x="354" y="1519"/>
                    </a:lnTo>
                    <a:lnTo>
                      <a:pt x="362" y="1519"/>
                    </a:lnTo>
                    <a:lnTo>
                      <a:pt x="371" y="1518"/>
                    </a:lnTo>
                    <a:lnTo>
                      <a:pt x="380" y="151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>
                <a:off x="6111720" y="3075120"/>
                <a:ext cx="120960" cy="487080"/>
              </a:xfrm>
              <a:custGeom>
                <a:avLst/>
                <a:gdLst/>
                <a:ahLst/>
                <a:rect l="l" t="t" r="r" b="b"/>
                <a:pathLst>
                  <a:path w="381" h="1533">
                    <a:moveTo>
                      <a:pt x="0" y="0"/>
                    </a:moveTo>
                    <a:lnTo>
                      <a:pt x="28" y="122"/>
                    </a:lnTo>
                    <a:lnTo>
                      <a:pt x="63" y="282"/>
                    </a:lnTo>
                    <a:lnTo>
                      <a:pt x="98" y="442"/>
                    </a:lnTo>
                    <a:lnTo>
                      <a:pt x="133" y="604"/>
                    </a:lnTo>
                    <a:lnTo>
                      <a:pt x="166" y="765"/>
                    </a:lnTo>
                    <a:lnTo>
                      <a:pt x="198" y="925"/>
                    </a:lnTo>
                    <a:lnTo>
                      <a:pt x="228" y="1081"/>
                    </a:lnTo>
                    <a:lnTo>
                      <a:pt x="258" y="1234"/>
                    </a:lnTo>
                    <a:lnTo>
                      <a:pt x="287" y="1380"/>
                    </a:lnTo>
                    <a:lnTo>
                      <a:pt x="312" y="1521"/>
                    </a:lnTo>
                    <a:lnTo>
                      <a:pt x="314" y="1533"/>
                    </a:lnTo>
                    <a:lnTo>
                      <a:pt x="323" y="1532"/>
                    </a:lnTo>
                    <a:lnTo>
                      <a:pt x="331" y="1532"/>
                    </a:lnTo>
                    <a:lnTo>
                      <a:pt x="339" y="1531"/>
                    </a:lnTo>
                    <a:lnTo>
                      <a:pt x="348" y="1531"/>
                    </a:lnTo>
                    <a:lnTo>
                      <a:pt x="356" y="1530"/>
                    </a:lnTo>
                    <a:lnTo>
                      <a:pt x="364" y="1530"/>
                    </a:lnTo>
                    <a:lnTo>
                      <a:pt x="373" y="1529"/>
                    </a:lnTo>
                    <a:lnTo>
                      <a:pt x="381" y="1529"/>
                    </a:lnTo>
                    <a:lnTo>
                      <a:pt x="369" y="1459"/>
                    </a:lnTo>
                    <a:lnTo>
                      <a:pt x="340" y="1313"/>
                    </a:lnTo>
                    <a:lnTo>
                      <a:pt x="311" y="1160"/>
                    </a:lnTo>
                    <a:lnTo>
                      <a:pt x="280" y="1004"/>
                    </a:lnTo>
                    <a:lnTo>
                      <a:pt x="248" y="844"/>
                    </a:lnTo>
                    <a:lnTo>
                      <a:pt x="215" y="683"/>
                    </a:lnTo>
                    <a:lnTo>
                      <a:pt x="181" y="521"/>
                    </a:lnTo>
                    <a:lnTo>
                      <a:pt x="145" y="360"/>
                    </a:lnTo>
                    <a:lnTo>
                      <a:pt x="110" y="201"/>
                    </a:lnTo>
                    <a:lnTo>
                      <a:pt x="75" y="45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3816360" y="3075120"/>
                <a:ext cx="212760" cy="498240"/>
              </a:xfrm>
              <a:custGeom>
                <a:avLst/>
                <a:gdLst/>
                <a:ahLst/>
                <a:rect l="l" t="t" r="r" b="b"/>
                <a:pathLst>
                  <a:path w="672" h="1571">
                    <a:moveTo>
                      <a:pt x="124" y="0"/>
                    </a:moveTo>
                    <a:lnTo>
                      <a:pt x="174" y="104"/>
                    </a:lnTo>
                    <a:lnTo>
                      <a:pt x="223" y="209"/>
                    </a:lnTo>
                    <a:lnTo>
                      <a:pt x="271" y="316"/>
                    </a:lnTo>
                    <a:lnTo>
                      <a:pt x="316" y="423"/>
                    </a:lnTo>
                    <a:lnTo>
                      <a:pt x="359" y="530"/>
                    </a:lnTo>
                    <a:lnTo>
                      <a:pt x="401" y="638"/>
                    </a:lnTo>
                    <a:lnTo>
                      <a:pt x="440" y="744"/>
                    </a:lnTo>
                    <a:lnTo>
                      <a:pt x="476" y="847"/>
                    </a:lnTo>
                    <a:lnTo>
                      <a:pt x="510" y="950"/>
                    </a:lnTo>
                    <a:lnTo>
                      <a:pt x="542" y="1049"/>
                    </a:lnTo>
                    <a:lnTo>
                      <a:pt x="571" y="1145"/>
                    </a:lnTo>
                    <a:lnTo>
                      <a:pt x="597" y="1238"/>
                    </a:lnTo>
                    <a:lnTo>
                      <a:pt x="621" y="1325"/>
                    </a:lnTo>
                    <a:lnTo>
                      <a:pt x="640" y="1409"/>
                    </a:lnTo>
                    <a:lnTo>
                      <a:pt x="658" y="1486"/>
                    </a:lnTo>
                    <a:lnTo>
                      <a:pt x="672" y="1557"/>
                    </a:lnTo>
                    <a:lnTo>
                      <a:pt x="662" y="1559"/>
                    </a:lnTo>
                    <a:lnTo>
                      <a:pt x="652" y="1561"/>
                    </a:lnTo>
                    <a:lnTo>
                      <a:pt x="641" y="1563"/>
                    </a:lnTo>
                    <a:lnTo>
                      <a:pt x="632" y="1564"/>
                    </a:lnTo>
                    <a:lnTo>
                      <a:pt x="622" y="1565"/>
                    </a:lnTo>
                    <a:lnTo>
                      <a:pt x="612" y="1567"/>
                    </a:lnTo>
                    <a:lnTo>
                      <a:pt x="601" y="1569"/>
                    </a:lnTo>
                    <a:lnTo>
                      <a:pt x="591" y="1571"/>
                    </a:lnTo>
                    <a:lnTo>
                      <a:pt x="540" y="1420"/>
                    </a:lnTo>
                    <a:lnTo>
                      <a:pt x="478" y="1246"/>
                    </a:lnTo>
                    <a:lnTo>
                      <a:pt x="409" y="1053"/>
                    </a:lnTo>
                    <a:lnTo>
                      <a:pt x="334" y="847"/>
                    </a:lnTo>
                    <a:lnTo>
                      <a:pt x="253" y="634"/>
                    </a:lnTo>
                    <a:lnTo>
                      <a:pt x="169" y="418"/>
                    </a:lnTo>
                    <a:lnTo>
                      <a:pt x="126" y="311"/>
                    </a:lnTo>
                    <a:lnTo>
                      <a:pt x="84" y="205"/>
                    </a:lnTo>
                    <a:lnTo>
                      <a:pt x="42" y="101"/>
                    </a:lnTo>
                    <a:lnTo>
                      <a:pt x="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3848040" y="3075120"/>
                <a:ext cx="192240" cy="496800"/>
              </a:xfrm>
              <a:custGeom>
                <a:avLst/>
                <a:gdLst/>
                <a:ahLst/>
                <a:rect l="l" t="t" r="r" b="b"/>
                <a:pathLst>
                  <a:path w="603" h="1563">
                    <a:moveTo>
                      <a:pt x="603" y="1551"/>
                    </a:moveTo>
                    <a:lnTo>
                      <a:pt x="602" y="1545"/>
                    </a:lnTo>
                    <a:lnTo>
                      <a:pt x="585" y="1466"/>
                    </a:lnTo>
                    <a:lnTo>
                      <a:pt x="564" y="1381"/>
                    </a:lnTo>
                    <a:lnTo>
                      <a:pt x="542" y="1292"/>
                    </a:lnTo>
                    <a:lnTo>
                      <a:pt x="514" y="1198"/>
                    </a:lnTo>
                    <a:lnTo>
                      <a:pt x="485" y="1098"/>
                    </a:lnTo>
                    <a:lnTo>
                      <a:pt x="453" y="997"/>
                    </a:lnTo>
                    <a:lnTo>
                      <a:pt x="417" y="891"/>
                    </a:lnTo>
                    <a:lnTo>
                      <a:pt x="380" y="784"/>
                    </a:lnTo>
                    <a:lnTo>
                      <a:pt x="340" y="674"/>
                    </a:lnTo>
                    <a:lnTo>
                      <a:pt x="298" y="563"/>
                    </a:lnTo>
                    <a:lnTo>
                      <a:pt x="252" y="453"/>
                    </a:lnTo>
                    <a:lnTo>
                      <a:pt x="205" y="342"/>
                    </a:lnTo>
                    <a:lnTo>
                      <a:pt x="156" y="233"/>
                    </a:lnTo>
                    <a:lnTo>
                      <a:pt x="105" y="124"/>
                    </a:lnTo>
                    <a:lnTo>
                      <a:pt x="79" y="71"/>
                    </a:lnTo>
                    <a:lnTo>
                      <a:pt x="52" y="18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25" y="50"/>
                    </a:lnTo>
                    <a:lnTo>
                      <a:pt x="75" y="157"/>
                    </a:lnTo>
                    <a:lnTo>
                      <a:pt x="124" y="267"/>
                    </a:lnTo>
                    <a:lnTo>
                      <a:pt x="171" y="377"/>
                    </a:lnTo>
                    <a:lnTo>
                      <a:pt x="215" y="488"/>
                    </a:lnTo>
                    <a:lnTo>
                      <a:pt x="259" y="598"/>
                    </a:lnTo>
                    <a:lnTo>
                      <a:pt x="299" y="707"/>
                    </a:lnTo>
                    <a:lnTo>
                      <a:pt x="336" y="814"/>
                    </a:lnTo>
                    <a:lnTo>
                      <a:pt x="371" y="919"/>
                    </a:lnTo>
                    <a:lnTo>
                      <a:pt x="404" y="1021"/>
                    </a:lnTo>
                    <a:lnTo>
                      <a:pt x="432" y="1119"/>
                    </a:lnTo>
                    <a:lnTo>
                      <a:pt x="459" y="1214"/>
                    </a:lnTo>
                    <a:lnTo>
                      <a:pt x="482" y="1304"/>
                    </a:lnTo>
                    <a:lnTo>
                      <a:pt x="503" y="1387"/>
                    </a:lnTo>
                    <a:lnTo>
                      <a:pt x="520" y="1466"/>
                    </a:lnTo>
                    <a:lnTo>
                      <a:pt x="534" y="1537"/>
                    </a:lnTo>
                    <a:lnTo>
                      <a:pt x="537" y="1563"/>
                    </a:lnTo>
                    <a:lnTo>
                      <a:pt x="546" y="1562"/>
                    </a:lnTo>
                    <a:lnTo>
                      <a:pt x="554" y="1561"/>
                    </a:lnTo>
                    <a:lnTo>
                      <a:pt x="562" y="1558"/>
                    </a:lnTo>
                    <a:lnTo>
                      <a:pt x="570" y="1557"/>
                    </a:lnTo>
                    <a:lnTo>
                      <a:pt x="579" y="1556"/>
                    </a:lnTo>
                    <a:lnTo>
                      <a:pt x="587" y="1555"/>
                    </a:lnTo>
                    <a:lnTo>
                      <a:pt x="595" y="1554"/>
                    </a:lnTo>
                    <a:lnTo>
                      <a:pt x="603" y="155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3808440" y="3075120"/>
                <a:ext cx="203040" cy="500040"/>
              </a:xfrm>
              <a:custGeom>
                <a:avLst/>
                <a:gdLst/>
                <a:ahLst/>
                <a:rect l="l" t="t" r="r" b="b"/>
                <a:pathLst>
                  <a:path w="643" h="1574">
                    <a:moveTo>
                      <a:pt x="0" y="0"/>
                    </a:moveTo>
                    <a:lnTo>
                      <a:pt x="14" y="34"/>
                    </a:lnTo>
                    <a:lnTo>
                      <a:pt x="63" y="152"/>
                    </a:lnTo>
                    <a:lnTo>
                      <a:pt x="111" y="271"/>
                    </a:lnTo>
                    <a:lnTo>
                      <a:pt x="160" y="393"/>
                    </a:lnTo>
                    <a:lnTo>
                      <a:pt x="207" y="517"/>
                    </a:lnTo>
                    <a:lnTo>
                      <a:pt x="300" y="761"/>
                    </a:lnTo>
                    <a:lnTo>
                      <a:pt x="388" y="997"/>
                    </a:lnTo>
                    <a:lnTo>
                      <a:pt x="467" y="1216"/>
                    </a:lnTo>
                    <a:lnTo>
                      <a:pt x="535" y="1412"/>
                    </a:lnTo>
                    <a:lnTo>
                      <a:pt x="565" y="1498"/>
                    </a:lnTo>
                    <a:lnTo>
                      <a:pt x="590" y="1574"/>
                    </a:lnTo>
                    <a:lnTo>
                      <a:pt x="597" y="1574"/>
                    </a:lnTo>
                    <a:lnTo>
                      <a:pt x="604" y="1573"/>
                    </a:lnTo>
                    <a:lnTo>
                      <a:pt x="610" y="1572"/>
                    </a:lnTo>
                    <a:lnTo>
                      <a:pt x="617" y="1571"/>
                    </a:lnTo>
                    <a:lnTo>
                      <a:pt x="623" y="1570"/>
                    </a:lnTo>
                    <a:lnTo>
                      <a:pt x="630" y="1569"/>
                    </a:lnTo>
                    <a:lnTo>
                      <a:pt x="637" y="1567"/>
                    </a:lnTo>
                    <a:lnTo>
                      <a:pt x="643" y="1566"/>
                    </a:lnTo>
                    <a:lnTo>
                      <a:pt x="617" y="1489"/>
                    </a:lnTo>
                    <a:lnTo>
                      <a:pt x="549" y="1294"/>
                    </a:lnTo>
                    <a:lnTo>
                      <a:pt x="469" y="1073"/>
                    </a:lnTo>
                    <a:lnTo>
                      <a:pt x="382" y="837"/>
                    </a:lnTo>
                    <a:lnTo>
                      <a:pt x="289" y="593"/>
                    </a:lnTo>
                    <a:lnTo>
                      <a:pt x="241" y="470"/>
                    </a:lnTo>
                    <a:lnTo>
                      <a:pt x="192" y="348"/>
                    </a:lnTo>
                    <a:lnTo>
                      <a:pt x="144" y="227"/>
                    </a:lnTo>
                    <a:lnTo>
                      <a:pt x="95" y="109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3289320" y="3075120"/>
                <a:ext cx="220680" cy="514080"/>
              </a:xfrm>
              <a:custGeom>
                <a:avLst/>
                <a:gdLst/>
                <a:ahLst/>
                <a:rect l="l" t="t" r="r" b="b"/>
                <a:pathLst>
                  <a:path w="697" h="1621">
                    <a:moveTo>
                      <a:pt x="118" y="0"/>
                    </a:moveTo>
                    <a:lnTo>
                      <a:pt x="146" y="53"/>
                    </a:lnTo>
                    <a:lnTo>
                      <a:pt x="172" y="107"/>
                    </a:lnTo>
                    <a:lnTo>
                      <a:pt x="198" y="161"/>
                    </a:lnTo>
                    <a:lnTo>
                      <a:pt x="224" y="215"/>
                    </a:lnTo>
                    <a:lnTo>
                      <a:pt x="274" y="326"/>
                    </a:lnTo>
                    <a:lnTo>
                      <a:pt x="322" y="437"/>
                    </a:lnTo>
                    <a:lnTo>
                      <a:pt x="368" y="549"/>
                    </a:lnTo>
                    <a:lnTo>
                      <a:pt x="411" y="660"/>
                    </a:lnTo>
                    <a:lnTo>
                      <a:pt x="453" y="771"/>
                    </a:lnTo>
                    <a:lnTo>
                      <a:pt x="492" y="881"/>
                    </a:lnTo>
                    <a:lnTo>
                      <a:pt x="528" y="988"/>
                    </a:lnTo>
                    <a:lnTo>
                      <a:pt x="562" y="1092"/>
                    </a:lnTo>
                    <a:lnTo>
                      <a:pt x="591" y="1192"/>
                    </a:lnTo>
                    <a:lnTo>
                      <a:pt x="620" y="1289"/>
                    </a:lnTo>
                    <a:lnTo>
                      <a:pt x="644" y="1380"/>
                    </a:lnTo>
                    <a:lnTo>
                      <a:pt x="665" y="1467"/>
                    </a:lnTo>
                    <a:lnTo>
                      <a:pt x="683" y="1548"/>
                    </a:lnTo>
                    <a:lnTo>
                      <a:pt x="697" y="1621"/>
                    </a:lnTo>
                    <a:lnTo>
                      <a:pt x="686" y="1620"/>
                    </a:lnTo>
                    <a:lnTo>
                      <a:pt x="676" y="1619"/>
                    </a:lnTo>
                    <a:lnTo>
                      <a:pt x="664" y="1618"/>
                    </a:lnTo>
                    <a:lnTo>
                      <a:pt x="654" y="1616"/>
                    </a:lnTo>
                    <a:lnTo>
                      <a:pt x="643" y="1615"/>
                    </a:lnTo>
                    <a:lnTo>
                      <a:pt x="631" y="1614"/>
                    </a:lnTo>
                    <a:lnTo>
                      <a:pt x="621" y="1613"/>
                    </a:lnTo>
                    <a:lnTo>
                      <a:pt x="610" y="1612"/>
                    </a:lnTo>
                    <a:lnTo>
                      <a:pt x="556" y="1454"/>
                    </a:lnTo>
                    <a:lnTo>
                      <a:pt x="492" y="1273"/>
                    </a:lnTo>
                    <a:lnTo>
                      <a:pt x="420" y="1073"/>
                    </a:lnTo>
                    <a:lnTo>
                      <a:pt x="342" y="861"/>
                    </a:lnTo>
                    <a:lnTo>
                      <a:pt x="258" y="643"/>
                    </a:lnTo>
                    <a:lnTo>
                      <a:pt x="172" y="423"/>
                    </a:lnTo>
                    <a:lnTo>
                      <a:pt x="129" y="314"/>
                    </a:lnTo>
                    <a:lnTo>
                      <a:pt x="85" y="206"/>
                    </a:lnTo>
                    <a:lnTo>
                      <a:pt x="42" y="101"/>
                    </a:lnTo>
                    <a:lnTo>
                      <a:pt x="0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3319560" y="3075120"/>
                <a:ext cx="201600" cy="515880"/>
              </a:xfrm>
              <a:custGeom>
                <a:avLst/>
                <a:gdLst/>
                <a:ahLst/>
                <a:rect l="l" t="t" r="r" b="b"/>
                <a:pathLst>
                  <a:path w="635" h="1624">
                    <a:moveTo>
                      <a:pt x="635" y="1624"/>
                    </a:moveTo>
                    <a:lnTo>
                      <a:pt x="630" y="1602"/>
                    </a:lnTo>
                    <a:lnTo>
                      <a:pt x="613" y="1524"/>
                    </a:lnTo>
                    <a:lnTo>
                      <a:pt x="592" y="1440"/>
                    </a:lnTo>
                    <a:lnTo>
                      <a:pt x="570" y="1349"/>
                    </a:lnTo>
                    <a:lnTo>
                      <a:pt x="543" y="1255"/>
                    </a:lnTo>
                    <a:lnTo>
                      <a:pt x="514" y="1157"/>
                    </a:lnTo>
                    <a:lnTo>
                      <a:pt x="481" y="1054"/>
                    </a:lnTo>
                    <a:lnTo>
                      <a:pt x="445" y="949"/>
                    </a:lnTo>
                    <a:lnTo>
                      <a:pt x="409" y="842"/>
                    </a:lnTo>
                    <a:lnTo>
                      <a:pt x="368" y="732"/>
                    </a:lnTo>
                    <a:lnTo>
                      <a:pt x="326" y="622"/>
                    </a:lnTo>
                    <a:lnTo>
                      <a:pt x="280" y="511"/>
                    </a:lnTo>
                    <a:lnTo>
                      <a:pt x="233" y="400"/>
                    </a:lnTo>
                    <a:lnTo>
                      <a:pt x="184" y="291"/>
                    </a:lnTo>
                    <a:lnTo>
                      <a:pt x="134" y="182"/>
                    </a:lnTo>
                    <a:lnTo>
                      <a:pt x="108" y="129"/>
                    </a:lnTo>
                    <a:lnTo>
                      <a:pt x="81" y="75"/>
                    </a:lnTo>
                    <a:lnTo>
                      <a:pt x="53" y="23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7" y="55"/>
                    </a:lnTo>
                    <a:lnTo>
                      <a:pt x="53" y="108"/>
                    </a:lnTo>
                    <a:lnTo>
                      <a:pt x="103" y="215"/>
                    </a:lnTo>
                    <a:lnTo>
                      <a:pt x="152" y="325"/>
                    </a:lnTo>
                    <a:lnTo>
                      <a:pt x="199" y="436"/>
                    </a:lnTo>
                    <a:lnTo>
                      <a:pt x="245" y="546"/>
                    </a:lnTo>
                    <a:lnTo>
                      <a:pt x="287" y="656"/>
                    </a:lnTo>
                    <a:lnTo>
                      <a:pt x="327" y="764"/>
                    </a:lnTo>
                    <a:lnTo>
                      <a:pt x="364" y="871"/>
                    </a:lnTo>
                    <a:lnTo>
                      <a:pt x="400" y="976"/>
                    </a:lnTo>
                    <a:lnTo>
                      <a:pt x="432" y="1079"/>
                    </a:lnTo>
                    <a:lnTo>
                      <a:pt x="461" y="1177"/>
                    </a:lnTo>
                    <a:lnTo>
                      <a:pt x="488" y="1272"/>
                    </a:lnTo>
                    <a:lnTo>
                      <a:pt x="511" y="1362"/>
                    </a:lnTo>
                    <a:lnTo>
                      <a:pt x="531" y="1445"/>
                    </a:lnTo>
                    <a:lnTo>
                      <a:pt x="548" y="1523"/>
                    </a:lnTo>
                    <a:lnTo>
                      <a:pt x="562" y="1595"/>
                    </a:lnTo>
                    <a:lnTo>
                      <a:pt x="565" y="1618"/>
                    </a:lnTo>
                    <a:lnTo>
                      <a:pt x="574" y="1619"/>
                    </a:lnTo>
                    <a:lnTo>
                      <a:pt x="582" y="1619"/>
                    </a:lnTo>
                    <a:lnTo>
                      <a:pt x="591" y="1620"/>
                    </a:lnTo>
                    <a:lnTo>
                      <a:pt x="600" y="1621"/>
                    </a:lnTo>
                    <a:lnTo>
                      <a:pt x="608" y="1622"/>
                    </a:lnTo>
                    <a:lnTo>
                      <a:pt x="617" y="1623"/>
                    </a:lnTo>
                    <a:lnTo>
                      <a:pt x="625" y="1623"/>
                    </a:lnTo>
                    <a:lnTo>
                      <a:pt x="635" y="16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3281400" y="3075120"/>
                <a:ext cx="209520" cy="512640"/>
              </a:xfrm>
              <a:custGeom>
                <a:avLst/>
                <a:gdLst/>
                <a:ahLst/>
                <a:rect l="l" t="t" r="r" b="b"/>
                <a:pathLst>
                  <a:path w="663" h="1614">
                    <a:moveTo>
                      <a:pt x="0" y="0"/>
                    </a:moveTo>
                    <a:lnTo>
                      <a:pt x="37" y="91"/>
                    </a:lnTo>
                    <a:lnTo>
                      <a:pt x="86" y="210"/>
                    </a:lnTo>
                    <a:lnTo>
                      <a:pt x="134" y="330"/>
                    </a:lnTo>
                    <a:lnTo>
                      <a:pt x="183" y="452"/>
                    </a:lnTo>
                    <a:lnTo>
                      <a:pt x="231" y="575"/>
                    </a:lnTo>
                    <a:lnTo>
                      <a:pt x="323" y="819"/>
                    </a:lnTo>
                    <a:lnTo>
                      <a:pt x="411" y="1055"/>
                    </a:lnTo>
                    <a:lnTo>
                      <a:pt x="490" y="1274"/>
                    </a:lnTo>
                    <a:lnTo>
                      <a:pt x="558" y="1470"/>
                    </a:lnTo>
                    <a:lnTo>
                      <a:pt x="588" y="1556"/>
                    </a:lnTo>
                    <a:lnTo>
                      <a:pt x="605" y="1607"/>
                    </a:lnTo>
                    <a:lnTo>
                      <a:pt x="605" y="1608"/>
                    </a:lnTo>
                    <a:lnTo>
                      <a:pt x="605" y="1608"/>
                    </a:lnTo>
                    <a:lnTo>
                      <a:pt x="605" y="1608"/>
                    </a:lnTo>
                    <a:lnTo>
                      <a:pt x="613" y="1608"/>
                    </a:lnTo>
                    <a:lnTo>
                      <a:pt x="620" y="1610"/>
                    </a:lnTo>
                    <a:lnTo>
                      <a:pt x="627" y="1611"/>
                    </a:lnTo>
                    <a:lnTo>
                      <a:pt x="635" y="1612"/>
                    </a:lnTo>
                    <a:lnTo>
                      <a:pt x="641" y="1612"/>
                    </a:lnTo>
                    <a:lnTo>
                      <a:pt x="648" y="1613"/>
                    </a:lnTo>
                    <a:lnTo>
                      <a:pt x="656" y="1614"/>
                    </a:lnTo>
                    <a:lnTo>
                      <a:pt x="663" y="1614"/>
                    </a:lnTo>
                    <a:lnTo>
                      <a:pt x="640" y="1547"/>
                    </a:lnTo>
                    <a:lnTo>
                      <a:pt x="572" y="1352"/>
                    </a:lnTo>
                    <a:lnTo>
                      <a:pt x="492" y="1132"/>
                    </a:lnTo>
                    <a:lnTo>
                      <a:pt x="405" y="895"/>
                    </a:lnTo>
                    <a:lnTo>
                      <a:pt x="312" y="651"/>
                    </a:lnTo>
                    <a:lnTo>
                      <a:pt x="264" y="528"/>
                    </a:lnTo>
                    <a:lnTo>
                      <a:pt x="216" y="406"/>
                    </a:lnTo>
                    <a:lnTo>
                      <a:pt x="167" y="285"/>
                    </a:lnTo>
                    <a:lnTo>
                      <a:pt x="119" y="167"/>
                    </a:lnTo>
                    <a:lnTo>
                      <a:pt x="71" y="53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2809800" y="3075120"/>
                <a:ext cx="219240" cy="498240"/>
              </a:xfrm>
              <a:custGeom>
                <a:avLst/>
                <a:gdLst/>
                <a:ahLst/>
                <a:rect l="l" t="t" r="r" b="b"/>
                <a:pathLst>
                  <a:path w="688" h="1572">
                    <a:moveTo>
                      <a:pt x="119" y="0"/>
                    </a:moveTo>
                    <a:lnTo>
                      <a:pt x="170" y="100"/>
                    </a:lnTo>
                    <a:lnTo>
                      <a:pt x="219" y="203"/>
                    </a:lnTo>
                    <a:lnTo>
                      <a:pt x="267" y="308"/>
                    </a:lnTo>
                    <a:lnTo>
                      <a:pt x="314" y="413"/>
                    </a:lnTo>
                    <a:lnTo>
                      <a:pt x="357" y="519"/>
                    </a:lnTo>
                    <a:lnTo>
                      <a:pt x="399" y="625"/>
                    </a:lnTo>
                    <a:lnTo>
                      <a:pt x="439" y="730"/>
                    </a:lnTo>
                    <a:lnTo>
                      <a:pt x="477" y="834"/>
                    </a:lnTo>
                    <a:lnTo>
                      <a:pt x="513" y="936"/>
                    </a:lnTo>
                    <a:lnTo>
                      <a:pt x="547" y="1037"/>
                    </a:lnTo>
                    <a:lnTo>
                      <a:pt x="576" y="1134"/>
                    </a:lnTo>
                    <a:lnTo>
                      <a:pt x="605" y="1229"/>
                    </a:lnTo>
                    <a:lnTo>
                      <a:pt x="630" y="1319"/>
                    </a:lnTo>
                    <a:lnTo>
                      <a:pt x="653" y="1404"/>
                    </a:lnTo>
                    <a:lnTo>
                      <a:pt x="672" y="1485"/>
                    </a:lnTo>
                    <a:lnTo>
                      <a:pt x="688" y="1561"/>
                    </a:lnTo>
                    <a:lnTo>
                      <a:pt x="677" y="1562"/>
                    </a:lnTo>
                    <a:lnTo>
                      <a:pt x="666" y="1563"/>
                    </a:lnTo>
                    <a:lnTo>
                      <a:pt x="655" y="1565"/>
                    </a:lnTo>
                    <a:lnTo>
                      <a:pt x="643" y="1566"/>
                    </a:lnTo>
                    <a:lnTo>
                      <a:pt x="632" y="1567"/>
                    </a:lnTo>
                    <a:lnTo>
                      <a:pt x="621" y="1570"/>
                    </a:lnTo>
                    <a:lnTo>
                      <a:pt x="609" y="1571"/>
                    </a:lnTo>
                    <a:lnTo>
                      <a:pt x="599" y="1572"/>
                    </a:lnTo>
                    <a:lnTo>
                      <a:pt x="543" y="1413"/>
                    </a:lnTo>
                    <a:lnTo>
                      <a:pt x="479" y="1233"/>
                    </a:lnTo>
                    <a:lnTo>
                      <a:pt x="409" y="1038"/>
                    </a:lnTo>
                    <a:lnTo>
                      <a:pt x="332" y="831"/>
                    </a:lnTo>
                    <a:lnTo>
                      <a:pt x="251" y="619"/>
                    </a:lnTo>
                    <a:lnTo>
                      <a:pt x="168" y="407"/>
                    </a:lnTo>
                    <a:lnTo>
                      <a:pt x="126" y="302"/>
                    </a:lnTo>
                    <a:lnTo>
                      <a:pt x="84" y="199"/>
                    </a:lnTo>
                    <a:lnTo>
                      <a:pt x="42" y="98"/>
                    </a:lnTo>
                    <a:lnTo>
                      <a:pt x="0" y="0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2840040" y="3075120"/>
                <a:ext cx="198360" cy="496800"/>
              </a:xfrm>
              <a:custGeom>
                <a:avLst/>
                <a:gdLst/>
                <a:ahLst/>
                <a:rect l="l" t="t" r="r" b="b"/>
                <a:pathLst>
                  <a:path w="623" h="1564">
                    <a:moveTo>
                      <a:pt x="623" y="1556"/>
                    </a:moveTo>
                    <a:lnTo>
                      <a:pt x="617" y="1529"/>
                    </a:lnTo>
                    <a:lnTo>
                      <a:pt x="597" y="1444"/>
                    </a:lnTo>
                    <a:lnTo>
                      <a:pt x="573" y="1355"/>
                    </a:lnTo>
                    <a:lnTo>
                      <a:pt x="546" y="1260"/>
                    </a:lnTo>
                    <a:lnTo>
                      <a:pt x="517" y="1161"/>
                    </a:lnTo>
                    <a:lnTo>
                      <a:pt x="485" y="1060"/>
                    </a:lnTo>
                    <a:lnTo>
                      <a:pt x="450" y="954"/>
                    </a:lnTo>
                    <a:lnTo>
                      <a:pt x="412" y="846"/>
                    </a:lnTo>
                    <a:lnTo>
                      <a:pt x="372" y="737"/>
                    </a:lnTo>
                    <a:lnTo>
                      <a:pt x="329" y="626"/>
                    </a:lnTo>
                    <a:lnTo>
                      <a:pt x="284" y="515"/>
                    </a:lnTo>
                    <a:lnTo>
                      <a:pt x="238" y="405"/>
                    </a:lnTo>
                    <a:lnTo>
                      <a:pt x="188" y="295"/>
                    </a:lnTo>
                    <a:lnTo>
                      <a:pt x="137" y="187"/>
                    </a:lnTo>
                    <a:lnTo>
                      <a:pt x="111" y="133"/>
                    </a:lnTo>
                    <a:lnTo>
                      <a:pt x="85" y="81"/>
                    </a:lnTo>
                    <a:lnTo>
                      <a:pt x="57" y="28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31" y="59"/>
                    </a:lnTo>
                    <a:lnTo>
                      <a:pt x="57" y="113"/>
                    </a:lnTo>
                    <a:lnTo>
                      <a:pt x="108" y="220"/>
                    </a:lnTo>
                    <a:lnTo>
                      <a:pt x="157" y="330"/>
                    </a:lnTo>
                    <a:lnTo>
                      <a:pt x="203" y="440"/>
                    </a:lnTo>
                    <a:lnTo>
                      <a:pt x="248" y="551"/>
                    </a:lnTo>
                    <a:lnTo>
                      <a:pt x="290" y="660"/>
                    </a:lnTo>
                    <a:lnTo>
                      <a:pt x="330" y="770"/>
                    </a:lnTo>
                    <a:lnTo>
                      <a:pt x="367" y="877"/>
                    </a:lnTo>
                    <a:lnTo>
                      <a:pt x="403" y="982"/>
                    </a:lnTo>
                    <a:lnTo>
                      <a:pt x="435" y="1084"/>
                    </a:lnTo>
                    <a:lnTo>
                      <a:pt x="464" y="1182"/>
                    </a:lnTo>
                    <a:lnTo>
                      <a:pt x="491" y="1276"/>
                    </a:lnTo>
                    <a:lnTo>
                      <a:pt x="515" y="1367"/>
                    </a:lnTo>
                    <a:lnTo>
                      <a:pt x="535" y="1450"/>
                    </a:lnTo>
                    <a:lnTo>
                      <a:pt x="552" y="1529"/>
                    </a:lnTo>
                    <a:lnTo>
                      <a:pt x="559" y="1564"/>
                    </a:lnTo>
                    <a:lnTo>
                      <a:pt x="567" y="1564"/>
                    </a:lnTo>
                    <a:lnTo>
                      <a:pt x="575" y="1563"/>
                    </a:lnTo>
                    <a:lnTo>
                      <a:pt x="583" y="1562"/>
                    </a:lnTo>
                    <a:lnTo>
                      <a:pt x="591" y="1561"/>
                    </a:lnTo>
                    <a:lnTo>
                      <a:pt x="599" y="1559"/>
                    </a:lnTo>
                    <a:lnTo>
                      <a:pt x="607" y="1558"/>
                    </a:lnTo>
                    <a:lnTo>
                      <a:pt x="615" y="1557"/>
                    </a:lnTo>
                    <a:lnTo>
                      <a:pt x="623" y="155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2801880" y="3075120"/>
                <a:ext cx="206280" cy="500040"/>
              </a:xfrm>
              <a:custGeom>
                <a:avLst/>
                <a:gdLst/>
                <a:ahLst/>
                <a:rect l="l" t="t" r="r" b="b"/>
                <a:pathLst>
                  <a:path w="648" h="1576">
                    <a:moveTo>
                      <a:pt x="0" y="0"/>
                    </a:moveTo>
                    <a:lnTo>
                      <a:pt x="39" y="97"/>
                    </a:lnTo>
                    <a:lnTo>
                      <a:pt x="87" y="214"/>
                    </a:lnTo>
                    <a:lnTo>
                      <a:pt x="136" y="334"/>
                    </a:lnTo>
                    <a:lnTo>
                      <a:pt x="184" y="456"/>
                    </a:lnTo>
                    <a:lnTo>
                      <a:pt x="232" y="579"/>
                    </a:lnTo>
                    <a:lnTo>
                      <a:pt x="326" y="824"/>
                    </a:lnTo>
                    <a:lnTo>
                      <a:pt x="413" y="1060"/>
                    </a:lnTo>
                    <a:lnTo>
                      <a:pt x="492" y="1279"/>
                    </a:lnTo>
                    <a:lnTo>
                      <a:pt x="560" y="1475"/>
                    </a:lnTo>
                    <a:lnTo>
                      <a:pt x="590" y="1561"/>
                    </a:lnTo>
                    <a:lnTo>
                      <a:pt x="595" y="1576"/>
                    </a:lnTo>
                    <a:lnTo>
                      <a:pt x="601" y="1575"/>
                    </a:lnTo>
                    <a:lnTo>
                      <a:pt x="608" y="1574"/>
                    </a:lnTo>
                    <a:lnTo>
                      <a:pt x="614" y="1573"/>
                    </a:lnTo>
                    <a:lnTo>
                      <a:pt x="621" y="1572"/>
                    </a:lnTo>
                    <a:lnTo>
                      <a:pt x="628" y="1572"/>
                    </a:lnTo>
                    <a:lnTo>
                      <a:pt x="635" y="1571"/>
                    </a:lnTo>
                    <a:lnTo>
                      <a:pt x="641" y="1570"/>
                    </a:lnTo>
                    <a:lnTo>
                      <a:pt x="648" y="1569"/>
                    </a:lnTo>
                    <a:lnTo>
                      <a:pt x="643" y="1551"/>
                    </a:lnTo>
                    <a:lnTo>
                      <a:pt x="574" y="1356"/>
                    </a:lnTo>
                    <a:lnTo>
                      <a:pt x="494" y="1136"/>
                    </a:lnTo>
                    <a:lnTo>
                      <a:pt x="407" y="901"/>
                    </a:lnTo>
                    <a:lnTo>
                      <a:pt x="314" y="656"/>
                    </a:lnTo>
                    <a:lnTo>
                      <a:pt x="266" y="533"/>
                    </a:lnTo>
                    <a:lnTo>
                      <a:pt x="217" y="411"/>
                    </a:lnTo>
                    <a:lnTo>
                      <a:pt x="169" y="290"/>
                    </a:lnTo>
                    <a:lnTo>
                      <a:pt x="120" y="172"/>
                    </a:lnTo>
                    <a:lnTo>
                      <a:pt x="73" y="58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4670280" y="3075120"/>
                <a:ext cx="208080" cy="458640"/>
              </a:xfrm>
              <a:custGeom>
                <a:avLst/>
                <a:gdLst/>
                <a:ahLst/>
                <a:rect l="l" t="t" r="r" b="b"/>
                <a:pathLst>
                  <a:path w="658" h="1445">
                    <a:moveTo>
                      <a:pt x="118" y="0"/>
                    </a:moveTo>
                    <a:lnTo>
                      <a:pt x="163" y="88"/>
                    </a:lnTo>
                    <a:lnTo>
                      <a:pt x="205" y="178"/>
                    </a:lnTo>
                    <a:lnTo>
                      <a:pt x="247" y="269"/>
                    </a:lnTo>
                    <a:lnTo>
                      <a:pt x="287" y="361"/>
                    </a:lnTo>
                    <a:lnTo>
                      <a:pt x="327" y="455"/>
                    </a:lnTo>
                    <a:lnTo>
                      <a:pt x="365" y="549"/>
                    </a:lnTo>
                    <a:lnTo>
                      <a:pt x="401" y="642"/>
                    </a:lnTo>
                    <a:lnTo>
                      <a:pt x="435" y="737"/>
                    </a:lnTo>
                    <a:lnTo>
                      <a:pt x="469" y="829"/>
                    </a:lnTo>
                    <a:lnTo>
                      <a:pt x="501" y="922"/>
                    </a:lnTo>
                    <a:lnTo>
                      <a:pt x="531" y="1013"/>
                    </a:lnTo>
                    <a:lnTo>
                      <a:pt x="560" y="1103"/>
                    </a:lnTo>
                    <a:lnTo>
                      <a:pt x="587" y="1191"/>
                    </a:lnTo>
                    <a:lnTo>
                      <a:pt x="612" y="1278"/>
                    </a:lnTo>
                    <a:lnTo>
                      <a:pt x="636" y="1361"/>
                    </a:lnTo>
                    <a:lnTo>
                      <a:pt x="658" y="1442"/>
                    </a:lnTo>
                    <a:lnTo>
                      <a:pt x="640" y="1441"/>
                    </a:lnTo>
                    <a:lnTo>
                      <a:pt x="625" y="1441"/>
                    </a:lnTo>
                    <a:lnTo>
                      <a:pt x="609" y="1441"/>
                    </a:lnTo>
                    <a:lnTo>
                      <a:pt x="593" y="1442"/>
                    </a:lnTo>
                    <a:lnTo>
                      <a:pt x="577" y="1442"/>
                    </a:lnTo>
                    <a:lnTo>
                      <a:pt x="561" y="1443"/>
                    </a:lnTo>
                    <a:lnTo>
                      <a:pt x="545" y="1444"/>
                    </a:lnTo>
                    <a:lnTo>
                      <a:pt x="529" y="1445"/>
                    </a:lnTo>
                    <a:lnTo>
                      <a:pt x="472" y="1278"/>
                    </a:lnTo>
                    <a:lnTo>
                      <a:pt x="410" y="1100"/>
                    </a:lnTo>
                    <a:lnTo>
                      <a:pt x="345" y="916"/>
                    </a:lnTo>
                    <a:lnTo>
                      <a:pt x="278" y="728"/>
                    </a:lnTo>
                    <a:lnTo>
                      <a:pt x="208" y="539"/>
                    </a:lnTo>
                    <a:lnTo>
                      <a:pt x="139" y="353"/>
                    </a:lnTo>
                    <a:lnTo>
                      <a:pt x="68" y="172"/>
                    </a:lnTo>
                    <a:lnTo>
                      <a:pt x="0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4700520" y="3075120"/>
                <a:ext cx="187560" cy="458640"/>
              </a:xfrm>
              <a:custGeom>
                <a:avLst/>
                <a:gdLst/>
                <a:ahLst/>
                <a:rect l="l" t="t" r="r" b="b"/>
                <a:pathLst>
                  <a:path w="591" h="1443">
                    <a:moveTo>
                      <a:pt x="591" y="1443"/>
                    </a:moveTo>
                    <a:lnTo>
                      <a:pt x="585" y="1416"/>
                    </a:lnTo>
                    <a:lnTo>
                      <a:pt x="555" y="1310"/>
                    </a:lnTo>
                    <a:lnTo>
                      <a:pt x="522" y="1199"/>
                    </a:lnTo>
                    <a:lnTo>
                      <a:pt x="486" y="1086"/>
                    </a:lnTo>
                    <a:lnTo>
                      <a:pt x="448" y="970"/>
                    </a:lnTo>
                    <a:lnTo>
                      <a:pt x="408" y="852"/>
                    </a:lnTo>
                    <a:lnTo>
                      <a:pt x="365" y="732"/>
                    </a:lnTo>
                    <a:lnTo>
                      <a:pt x="318" y="612"/>
                    </a:lnTo>
                    <a:lnTo>
                      <a:pt x="270" y="494"/>
                    </a:lnTo>
                    <a:lnTo>
                      <a:pt x="246" y="433"/>
                    </a:lnTo>
                    <a:lnTo>
                      <a:pt x="220" y="374"/>
                    </a:lnTo>
                    <a:lnTo>
                      <a:pt x="195" y="316"/>
                    </a:lnTo>
                    <a:lnTo>
                      <a:pt x="167" y="256"/>
                    </a:lnTo>
                    <a:lnTo>
                      <a:pt x="141" y="198"/>
                    </a:lnTo>
                    <a:lnTo>
                      <a:pt x="114" y="141"/>
                    </a:lnTo>
                    <a:lnTo>
                      <a:pt x="86" y="84"/>
                    </a:lnTo>
                    <a:lnTo>
                      <a:pt x="58" y="28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5" y="11"/>
                    </a:lnTo>
                    <a:lnTo>
                      <a:pt x="33" y="67"/>
                    </a:lnTo>
                    <a:lnTo>
                      <a:pt x="60" y="124"/>
                    </a:lnTo>
                    <a:lnTo>
                      <a:pt x="87" y="182"/>
                    </a:lnTo>
                    <a:lnTo>
                      <a:pt x="114" y="241"/>
                    </a:lnTo>
                    <a:lnTo>
                      <a:pt x="139" y="299"/>
                    </a:lnTo>
                    <a:lnTo>
                      <a:pt x="164" y="358"/>
                    </a:lnTo>
                    <a:lnTo>
                      <a:pt x="189" y="417"/>
                    </a:lnTo>
                    <a:lnTo>
                      <a:pt x="237" y="537"/>
                    </a:lnTo>
                    <a:lnTo>
                      <a:pt x="282" y="656"/>
                    </a:lnTo>
                    <a:lnTo>
                      <a:pt x="326" y="774"/>
                    </a:lnTo>
                    <a:lnTo>
                      <a:pt x="367" y="892"/>
                    </a:lnTo>
                    <a:lnTo>
                      <a:pt x="404" y="1008"/>
                    </a:lnTo>
                    <a:lnTo>
                      <a:pt x="440" y="1121"/>
                    </a:lnTo>
                    <a:lnTo>
                      <a:pt x="473" y="1232"/>
                    </a:lnTo>
                    <a:lnTo>
                      <a:pt x="502" y="1338"/>
                    </a:lnTo>
                    <a:lnTo>
                      <a:pt x="529" y="1440"/>
                    </a:lnTo>
                    <a:lnTo>
                      <a:pt x="529" y="1441"/>
                    </a:lnTo>
                    <a:lnTo>
                      <a:pt x="537" y="1441"/>
                    </a:lnTo>
                    <a:lnTo>
                      <a:pt x="545" y="1441"/>
                    </a:lnTo>
                    <a:lnTo>
                      <a:pt x="553" y="1442"/>
                    </a:lnTo>
                    <a:lnTo>
                      <a:pt x="559" y="1442"/>
                    </a:lnTo>
                    <a:lnTo>
                      <a:pt x="567" y="1442"/>
                    </a:lnTo>
                    <a:lnTo>
                      <a:pt x="575" y="1442"/>
                    </a:lnTo>
                    <a:lnTo>
                      <a:pt x="583" y="1443"/>
                    </a:lnTo>
                    <a:lnTo>
                      <a:pt x="591" y="144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4662360" y="3075120"/>
                <a:ext cx="184320" cy="460080"/>
              </a:xfrm>
              <a:custGeom>
                <a:avLst/>
                <a:gdLst/>
                <a:ahLst/>
                <a:rect l="l" t="t" r="r" b="b"/>
                <a:pathLst>
                  <a:path w="581" h="1448">
                    <a:moveTo>
                      <a:pt x="0" y="0"/>
                    </a:moveTo>
                    <a:lnTo>
                      <a:pt x="13" y="36"/>
                    </a:lnTo>
                    <a:lnTo>
                      <a:pt x="62" y="160"/>
                    </a:lnTo>
                    <a:lnTo>
                      <a:pt x="113" y="286"/>
                    </a:lnTo>
                    <a:lnTo>
                      <a:pt x="162" y="416"/>
                    </a:lnTo>
                    <a:lnTo>
                      <a:pt x="211" y="549"/>
                    </a:lnTo>
                    <a:lnTo>
                      <a:pt x="260" y="682"/>
                    </a:lnTo>
                    <a:lnTo>
                      <a:pt x="308" y="814"/>
                    </a:lnTo>
                    <a:lnTo>
                      <a:pt x="354" y="946"/>
                    </a:lnTo>
                    <a:lnTo>
                      <a:pt x="400" y="1074"/>
                    </a:lnTo>
                    <a:lnTo>
                      <a:pt x="443" y="1200"/>
                    </a:lnTo>
                    <a:lnTo>
                      <a:pt x="524" y="1437"/>
                    </a:lnTo>
                    <a:lnTo>
                      <a:pt x="528" y="1448"/>
                    </a:lnTo>
                    <a:lnTo>
                      <a:pt x="534" y="1448"/>
                    </a:lnTo>
                    <a:lnTo>
                      <a:pt x="540" y="1446"/>
                    </a:lnTo>
                    <a:lnTo>
                      <a:pt x="547" y="1446"/>
                    </a:lnTo>
                    <a:lnTo>
                      <a:pt x="554" y="1445"/>
                    </a:lnTo>
                    <a:lnTo>
                      <a:pt x="561" y="1445"/>
                    </a:lnTo>
                    <a:lnTo>
                      <a:pt x="567" y="1444"/>
                    </a:lnTo>
                    <a:lnTo>
                      <a:pt x="574" y="1444"/>
                    </a:lnTo>
                    <a:lnTo>
                      <a:pt x="581" y="1443"/>
                    </a:lnTo>
                    <a:lnTo>
                      <a:pt x="525" y="1278"/>
                    </a:lnTo>
                    <a:lnTo>
                      <a:pt x="482" y="1152"/>
                    </a:lnTo>
                    <a:lnTo>
                      <a:pt x="436" y="1023"/>
                    </a:lnTo>
                    <a:lnTo>
                      <a:pt x="390" y="891"/>
                    </a:lnTo>
                    <a:lnTo>
                      <a:pt x="342" y="758"/>
                    </a:lnTo>
                    <a:lnTo>
                      <a:pt x="293" y="625"/>
                    </a:lnTo>
                    <a:lnTo>
                      <a:pt x="243" y="494"/>
                    </a:lnTo>
                    <a:lnTo>
                      <a:pt x="194" y="363"/>
                    </a:lnTo>
                    <a:lnTo>
                      <a:pt x="145" y="236"/>
                    </a:lnTo>
                    <a:lnTo>
                      <a:pt x="95" y="112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5710320" y="3075120"/>
                <a:ext cx="147600" cy="461880"/>
              </a:xfrm>
              <a:custGeom>
                <a:avLst/>
                <a:gdLst/>
                <a:ahLst/>
                <a:rect l="l" t="t" r="r" b="b"/>
                <a:pathLst>
                  <a:path w="466" h="1454">
                    <a:moveTo>
                      <a:pt x="129" y="0"/>
                    </a:moveTo>
                    <a:lnTo>
                      <a:pt x="160" y="97"/>
                    </a:lnTo>
                    <a:lnTo>
                      <a:pt x="190" y="195"/>
                    </a:lnTo>
                    <a:lnTo>
                      <a:pt x="219" y="293"/>
                    </a:lnTo>
                    <a:lnTo>
                      <a:pt x="246" y="391"/>
                    </a:lnTo>
                    <a:lnTo>
                      <a:pt x="272" y="488"/>
                    </a:lnTo>
                    <a:lnTo>
                      <a:pt x="298" y="585"/>
                    </a:lnTo>
                    <a:lnTo>
                      <a:pt x="320" y="682"/>
                    </a:lnTo>
                    <a:lnTo>
                      <a:pt x="343" y="777"/>
                    </a:lnTo>
                    <a:lnTo>
                      <a:pt x="364" y="870"/>
                    </a:lnTo>
                    <a:lnTo>
                      <a:pt x="383" y="962"/>
                    </a:lnTo>
                    <a:lnTo>
                      <a:pt x="400" y="1051"/>
                    </a:lnTo>
                    <a:lnTo>
                      <a:pt x="416" y="1137"/>
                    </a:lnTo>
                    <a:lnTo>
                      <a:pt x="431" y="1222"/>
                    </a:lnTo>
                    <a:lnTo>
                      <a:pt x="445" y="1303"/>
                    </a:lnTo>
                    <a:lnTo>
                      <a:pt x="456" y="1380"/>
                    </a:lnTo>
                    <a:lnTo>
                      <a:pt x="466" y="1454"/>
                    </a:lnTo>
                    <a:lnTo>
                      <a:pt x="461" y="1452"/>
                    </a:lnTo>
                    <a:lnTo>
                      <a:pt x="455" y="1450"/>
                    </a:lnTo>
                    <a:lnTo>
                      <a:pt x="449" y="1449"/>
                    </a:lnTo>
                    <a:lnTo>
                      <a:pt x="443" y="1446"/>
                    </a:lnTo>
                    <a:lnTo>
                      <a:pt x="439" y="1444"/>
                    </a:lnTo>
                    <a:lnTo>
                      <a:pt x="433" y="1442"/>
                    </a:lnTo>
                    <a:lnTo>
                      <a:pt x="428" y="1438"/>
                    </a:lnTo>
                    <a:lnTo>
                      <a:pt x="423" y="1436"/>
                    </a:lnTo>
                    <a:lnTo>
                      <a:pt x="415" y="1436"/>
                    </a:lnTo>
                    <a:lnTo>
                      <a:pt x="406" y="1436"/>
                    </a:lnTo>
                    <a:lnTo>
                      <a:pt x="398" y="1436"/>
                    </a:lnTo>
                    <a:lnTo>
                      <a:pt x="389" y="1436"/>
                    </a:lnTo>
                    <a:lnTo>
                      <a:pt x="381" y="1437"/>
                    </a:lnTo>
                    <a:lnTo>
                      <a:pt x="373" y="1437"/>
                    </a:lnTo>
                    <a:lnTo>
                      <a:pt x="364" y="1437"/>
                    </a:lnTo>
                    <a:lnTo>
                      <a:pt x="356" y="1437"/>
                    </a:lnTo>
                    <a:lnTo>
                      <a:pt x="320" y="1283"/>
                    </a:lnTo>
                    <a:lnTo>
                      <a:pt x="283" y="1117"/>
                    </a:lnTo>
                    <a:lnTo>
                      <a:pt x="241" y="940"/>
                    </a:lnTo>
                    <a:lnTo>
                      <a:pt x="196" y="755"/>
                    </a:lnTo>
                    <a:lnTo>
                      <a:pt x="148" y="567"/>
                    </a:lnTo>
                    <a:lnTo>
                      <a:pt x="100" y="376"/>
                    </a:lnTo>
                    <a:lnTo>
                      <a:pt x="50" y="187"/>
                    </a:lnTo>
                    <a:lnTo>
                      <a:pt x="0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5742000" y="3075120"/>
                <a:ext cx="127080" cy="466560"/>
              </a:xfrm>
              <a:custGeom>
                <a:avLst/>
                <a:gdLst/>
                <a:ahLst/>
                <a:rect l="l" t="t" r="r" b="b"/>
                <a:pathLst>
                  <a:path w="404" h="1468">
                    <a:moveTo>
                      <a:pt x="404" y="1468"/>
                    </a:moveTo>
                    <a:lnTo>
                      <a:pt x="402" y="1452"/>
                    </a:lnTo>
                    <a:lnTo>
                      <a:pt x="387" y="1352"/>
                    </a:lnTo>
                    <a:lnTo>
                      <a:pt x="370" y="1246"/>
                    </a:lnTo>
                    <a:lnTo>
                      <a:pt x="350" y="1135"/>
                    </a:lnTo>
                    <a:lnTo>
                      <a:pt x="328" y="1019"/>
                    </a:lnTo>
                    <a:lnTo>
                      <a:pt x="302" y="900"/>
                    </a:lnTo>
                    <a:lnTo>
                      <a:pt x="275" y="777"/>
                    </a:lnTo>
                    <a:lnTo>
                      <a:pt x="245" y="652"/>
                    </a:lnTo>
                    <a:lnTo>
                      <a:pt x="214" y="525"/>
                    </a:lnTo>
                    <a:lnTo>
                      <a:pt x="178" y="398"/>
                    </a:lnTo>
                    <a:lnTo>
                      <a:pt x="142" y="269"/>
                    </a:lnTo>
                    <a:lnTo>
                      <a:pt x="122" y="205"/>
                    </a:lnTo>
                    <a:lnTo>
                      <a:pt x="103" y="141"/>
                    </a:lnTo>
                    <a:lnTo>
                      <a:pt x="82" y="79"/>
                    </a:lnTo>
                    <a:lnTo>
                      <a:pt x="62" y="15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1" y="64"/>
                    </a:lnTo>
                    <a:lnTo>
                      <a:pt x="40" y="128"/>
                    </a:lnTo>
                    <a:lnTo>
                      <a:pt x="60" y="191"/>
                    </a:lnTo>
                    <a:lnTo>
                      <a:pt x="96" y="319"/>
                    </a:lnTo>
                    <a:lnTo>
                      <a:pt x="131" y="447"/>
                    </a:lnTo>
                    <a:lnTo>
                      <a:pt x="163" y="574"/>
                    </a:lnTo>
                    <a:lnTo>
                      <a:pt x="193" y="698"/>
                    </a:lnTo>
                    <a:lnTo>
                      <a:pt x="220" y="821"/>
                    </a:lnTo>
                    <a:lnTo>
                      <a:pt x="245" y="940"/>
                    </a:lnTo>
                    <a:lnTo>
                      <a:pt x="268" y="1055"/>
                    </a:lnTo>
                    <a:lnTo>
                      <a:pt x="288" y="1167"/>
                    </a:lnTo>
                    <a:lnTo>
                      <a:pt x="305" y="1273"/>
                    </a:lnTo>
                    <a:lnTo>
                      <a:pt x="320" y="1373"/>
                    </a:lnTo>
                    <a:lnTo>
                      <a:pt x="328" y="1438"/>
                    </a:lnTo>
                    <a:lnTo>
                      <a:pt x="337" y="1443"/>
                    </a:lnTo>
                    <a:lnTo>
                      <a:pt x="346" y="1446"/>
                    </a:lnTo>
                    <a:lnTo>
                      <a:pt x="355" y="1450"/>
                    </a:lnTo>
                    <a:lnTo>
                      <a:pt x="364" y="1454"/>
                    </a:lnTo>
                    <a:lnTo>
                      <a:pt x="374" y="1458"/>
                    </a:lnTo>
                    <a:lnTo>
                      <a:pt x="383" y="1461"/>
                    </a:lnTo>
                    <a:lnTo>
                      <a:pt x="394" y="1465"/>
                    </a:lnTo>
                    <a:lnTo>
                      <a:pt x="404" y="146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5699160" y="3075120"/>
                <a:ext cx="133200" cy="455400"/>
              </a:xfrm>
              <a:custGeom>
                <a:avLst/>
                <a:gdLst/>
                <a:ahLst/>
                <a:rect l="l" t="t" r="r" b="b"/>
                <a:pathLst>
                  <a:path w="419" h="1437">
                    <a:moveTo>
                      <a:pt x="0" y="0"/>
                    </a:moveTo>
                    <a:lnTo>
                      <a:pt x="6" y="21"/>
                    </a:lnTo>
                    <a:lnTo>
                      <a:pt x="44" y="160"/>
                    </a:lnTo>
                    <a:lnTo>
                      <a:pt x="80" y="301"/>
                    </a:lnTo>
                    <a:lnTo>
                      <a:pt x="117" y="442"/>
                    </a:lnTo>
                    <a:lnTo>
                      <a:pt x="153" y="584"/>
                    </a:lnTo>
                    <a:lnTo>
                      <a:pt x="187" y="723"/>
                    </a:lnTo>
                    <a:lnTo>
                      <a:pt x="220" y="860"/>
                    </a:lnTo>
                    <a:lnTo>
                      <a:pt x="252" y="993"/>
                    </a:lnTo>
                    <a:lnTo>
                      <a:pt x="311" y="1244"/>
                    </a:lnTo>
                    <a:lnTo>
                      <a:pt x="354" y="1437"/>
                    </a:lnTo>
                    <a:lnTo>
                      <a:pt x="363" y="1437"/>
                    </a:lnTo>
                    <a:lnTo>
                      <a:pt x="371" y="1437"/>
                    </a:lnTo>
                    <a:lnTo>
                      <a:pt x="379" y="1437"/>
                    </a:lnTo>
                    <a:lnTo>
                      <a:pt x="387" y="1437"/>
                    </a:lnTo>
                    <a:lnTo>
                      <a:pt x="395" y="1437"/>
                    </a:lnTo>
                    <a:lnTo>
                      <a:pt x="403" y="1437"/>
                    </a:lnTo>
                    <a:lnTo>
                      <a:pt x="411" y="1437"/>
                    </a:lnTo>
                    <a:lnTo>
                      <a:pt x="419" y="1436"/>
                    </a:lnTo>
                    <a:lnTo>
                      <a:pt x="394" y="1323"/>
                    </a:lnTo>
                    <a:lnTo>
                      <a:pt x="334" y="1072"/>
                    </a:lnTo>
                    <a:lnTo>
                      <a:pt x="302" y="939"/>
                    </a:lnTo>
                    <a:lnTo>
                      <a:pt x="269" y="802"/>
                    </a:lnTo>
                    <a:lnTo>
                      <a:pt x="235" y="661"/>
                    </a:lnTo>
                    <a:lnTo>
                      <a:pt x="199" y="520"/>
                    </a:lnTo>
                    <a:lnTo>
                      <a:pt x="162" y="379"/>
                    </a:lnTo>
                    <a:lnTo>
                      <a:pt x="126" y="238"/>
                    </a:lnTo>
                    <a:lnTo>
                      <a:pt x="88" y="99"/>
                    </a:lnTo>
                    <a:lnTo>
                      <a:pt x="6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6033960" y="3075120"/>
                <a:ext cx="138240" cy="490320"/>
              </a:xfrm>
              <a:custGeom>
                <a:avLst/>
                <a:gdLst/>
                <a:ahLst/>
                <a:rect l="l" t="t" r="r" b="b"/>
                <a:pathLst>
                  <a:path w="436" h="1545">
                    <a:moveTo>
                      <a:pt x="144" y="0"/>
                    </a:moveTo>
                    <a:lnTo>
                      <a:pt x="172" y="102"/>
                    </a:lnTo>
                    <a:lnTo>
                      <a:pt x="199" y="205"/>
                    </a:lnTo>
                    <a:lnTo>
                      <a:pt x="224" y="309"/>
                    </a:lnTo>
                    <a:lnTo>
                      <a:pt x="248" y="412"/>
                    </a:lnTo>
                    <a:lnTo>
                      <a:pt x="271" y="514"/>
                    </a:lnTo>
                    <a:lnTo>
                      <a:pt x="293" y="616"/>
                    </a:lnTo>
                    <a:lnTo>
                      <a:pt x="312" y="717"/>
                    </a:lnTo>
                    <a:lnTo>
                      <a:pt x="331" y="817"/>
                    </a:lnTo>
                    <a:lnTo>
                      <a:pt x="348" y="915"/>
                    </a:lnTo>
                    <a:lnTo>
                      <a:pt x="366" y="1012"/>
                    </a:lnTo>
                    <a:lnTo>
                      <a:pt x="380" y="1106"/>
                    </a:lnTo>
                    <a:lnTo>
                      <a:pt x="394" y="1199"/>
                    </a:lnTo>
                    <a:lnTo>
                      <a:pt x="407" y="1288"/>
                    </a:lnTo>
                    <a:lnTo>
                      <a:pt x="418" y="1376"/>
                    </a:lnTo>
                    <a:lnTo>
                      <a:pt x="427" y="1459"/>
                    </a:lnTo>
                    <a:lnTo>
                      <a:pt x="436" y="1540"/>
                    </a:lnTo>
                    <a:lnTo>
                      <a:pt x="420" y="1540"/>
                    </a:lnTo>
                    <a:lnTo>
                      <a:pt x="404" y="1541"/>
                    </a:lnTo>
                    <a:lnTo>
                      <a:pt x="389" y="1542"/>
                    </a:lnTo>
                    <a:lnTo>
                      <a:pt x="374" y="1542"/>
                    </a:lnTo>
                    <a:lnTo>
                      <a:pt x="359" y="1543"/>
                    </a:lnTo>
                    <a:lnTo>
                      <a:pt x="343" y="1543"/>
                    </a:lnTo>
                    <a:lnTo>
                      <a:pt x="327" y="1545"/>
                    </a:lnTo>
                    <a:lnTo>
                      <a:pt x="312" y="1545"/>
                    </a:lnTo>
                    <a:lnTo>
                      <a:pt x="281" y="1377"/>
                    </a:lnTo>
                    <a:lnTo>
                      <a:pt x="247" y="1197"/>
                    </a:lnTo>
                    <a:lnTo>
                      <a:pt x="211" y="1007"/>
                    </a:lnTo>
                    <a:lnTo>
                      <a:pt x="172" y="810"/>
                    </a:lnTo>
                    <a:lnTo>
                      <a:pt x="131" y="608"/>
                    </a:lnTo>
                    <a:lnTo>
                      <a:pt x="89" y="404"/>
                    </a:lnTo>
                    <a:lnTo>
                      <a:pt x="45" y="201"/>
                    </a:lnTo>
                    <a:lnTo>
                      <a:pt x="0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6070680" y="3075120"/>
                <a:ext cx="114120" cy="488880"/>
              </a:xfrm>
              <a:custGeom>
                <a:avLst/>
                <a:gdLst/>
                <a:ahLst/>
                <a:rect l="l" t="t" r="r" b="b"/>
                <a:pathLst>
                  <a:path w="359" h="1541">
                    <a:moveTo>
                      <a:pt x="359" y="1538"/>
                    </a:moveTo>
                    <a:lnTo>
                      <a:pt x="355" y="1501"/>
                    </a:lnTo>
                    <a:lnTo>
                      <a:pt x="340" y="1381"/>
                    </a:lnTo>
                    <a:lnTo>
                      <a:pt x="323" y="1255"/>
                    </a:lnTo>
                    <a:lnTo>
                      <a:pt x="304" y="1124"/>
                    </a:lnTo>
                    <a:lnTo>
                      <a:pt x="282" y="988"/>
                    </a:lnTo>
                    <a:lnTo>
                      <a:pt x="257" y="847"/>
                    </a:lnTo>
                    <a:lnTo>
                      <a:pt x="229" y="705"/>
                    </a:lnTo>
                    <a:lnTo>
                      <a:pt x="199" y="560"/>
                    </a:lnTo>
                    <a:lnTo>
                      <a:pt x="166" y="414"/>
                    </a:lnTo>
                    <a:lnTo>
                      <a:pt x="132" y="267"/>
                    </a:lnTo>
                    <a:lnTo>
                      <a:pt x="112" y="194"/>
                    </a:lnTo>
                    <a:lnTo>
                      <a:pt x="93" y="121"/>
                    </a:lnTo>
                    <a:lnTo>
                      <a:pt x="74" y="48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12" y="42"/>
                    </a:lnTo>
                    <a:lnTo>
                      <a:pt x="30" y="116"/>
                    </a:lnTo>
                    <a:lnTo>
                      <a:pt x="50" y="189"/>
                    </a:lnTo>
                    <a:lnTo>
                      <a:pt x="84" y="335"/>
                    </a:lnTo>
                    <a:lnTo>
                      <a:pt x="117" y="481"/>
                    </a:lnTo>
                    <a:lnTo>
                      <a:pt x="147" y="626"/>
                    </a:lnTo>
                    <a:lnTo>
                      <a:pt x="175" y="769"/>
                    </a:lnTo>
                    <a:lnTo>
                      <a:pt x="199" y="908"/>
                    </a:lnTo>
                    <a:lnTo>
                      <a:pt x="222" y="1045"/>
                    </a:lnTo>
                    <a:lnTo>
                      <a:pt x="241" y="1176"/>
                    </a:lnTo>
                    <a:lnTo>
                      <a:pt x="258" y="1302"/>
                    </a:lnTo>
                    <a:lnTo>
                      <a:pt x="273" y="1422"/>
                    </a:lnTo>
                    <a:lnTo>
                      <a:pt x="285" y="1535"/>
                    </a:lnTo>
                    <a:lnTo>
                      <a:pt x="285" y="1541"/>
                    </a:lnTo>
                    <a:lnTo>
                      <a:pt x="294" y="1541"/>
                    </a:lnTo>
                    <a:lnTo>
                      <a:pt x="303" y="1541"/>
                    </a:lnTo>
                    <a:lnTo>
                      <a:pt x="312" y="1540"/>
                    </a:lnTo>
                    <a:lnTo>
                      <a:pt x="322" y="1540"/>
                    </a:lnTo>
                    <a:lnTo>
                      <a:pt x="331" y="1539"/>
                    </a:lnTo>
                    <a:lnTo>
                      <a:pt x="340" y="1539"/>
                    </a:lnTo>
                    <a:lnTo>
                      <a:pt x="350" y="1539"/>
                    </a:lnTo>
                    <a:lnTo>
                      <a:pt x="359" y="153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6024600" y="3075120"/>
                <a:ext cx="119160" cy="490320"/>
              </a:xfrm>
              <a:custGeom>
                <a:avLst/>
                <a:gdLst/>
                <a:ahLst/>
                <a:rect l="l" t="t" r="r" b="b"/>
                <a:pathLst>
                  <a:path w="377" h="1546">
                    <a:moveTo>
                      <a:pt x="0" y="0"/>
                    </a:moveTo>
                    <a:lnTo>
                      <a:pt x="30" y="139"/>
                    </a:lnTo>
                    <a:lnTo>
                      <a:pt x="66" y="300"/>
                    </a:lnTo>
                    <a:lnTo>
                      <a:pt x="100" y="462"/>
                    </a:lnTo>
                    <a:lnTo>
                      <a:pt x="133" y="624"/>
                    </a:lnTo>
                    <a:lnTo>
                      <a:pt x="166" y="782"/>
                    </a:lnTo>
                    <a:lnTo>
                      <a:pt x="197" y="939"/>
                    </a:lnTo>
                    <a:lnTo>
                      <a:pt x="225" y="1092"/>
                    </a:lnTo>
                    <a:lnTo>
                      <a:pt x="254" y="1238"/>
                    </a:lnTo>
                    <a:lnTo>
                      <a:pt x="280" y="1378"/>
                    </a:lnTo>
                    <a:lnTo>
                      <a:pt x="303" y="1510"/>
                    </a:lnTo>
                    <a:lnTo>
                      <a:pt x="310" y="1546"/>
                    </a:lnTo>
                    <a:lnTo>
                      <a:pt x="318" y="1546"/>
                    </a:lnTo>
                    <a:lnTo>
                      <a:pt x="327" y="1546"/>
                    </a:lnTo>
                    <a:lnTo>
                      <a:pt x="335" y="1546"/>
                    </a:lnTo>
                    <a:lnTo>
                      <a:pt x="344" y="1545"/>
                    </a:lnTo>
                    <a:lnTo>
                      <a:pt x="352" y="1545"/>
                    </a:lnTo>
                    <a:lnTo>
                      <a:pt x="361" y="1545"/>
                    </a:lnTo>
                    <a:lnTo>
                      <a:pt x="369" y="1545"/>
                    </a:lnTo>
                    <a:lnTo>
                      <a:pt x="377" y="1543"/>
                    </a:lnTo>
                    <a:lnTo>
                      <a:pt x="362" y="1457"/>
                    </a:lnTo>
                    <a:lnTo>
                      <a:pt x="336" y="1318"/>
                    </a:lnTo>
                    <a:lnTo>
                      <a:pt x="309" y="1170"/>
                    </a:lnTo>
                    <a:lnTo>
                      <a:pt x="279" y="1019"/>
                    </a:lnTo>
                    <a:lnTo>
                      <a:pt x="247" y="861"/>
                    </a:lnTo>
                    <a:lnTo>
                      <a:pt x="215" y="701"/>
                    </a:lnTo>
                    <a:lnTo>
                      <a:pt x="182" y="541"/>
                    </a:lnTo>
                    <a:lnTo>
                      <a:pt x="148" y="379"/>
                    </a:lnTo>
                    <a:lnTo>
                      <a:pt x="113" y="218"/>
                    </a:lnTo>
                    <a:lnTo>
                      <a:pt x="77" y="58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3735360" y="3075120"/>
                <a:ext cx="212760" cy="509400"/>
              </a:xfrm>
              <a:custGeom>
                <a:avLst/>
                <a:gdLst/>
                <a:ahLst/>
                <a:rect l="l" t="t" r="r" b="b"/>
                <a:pathLst>
                  <a:path w="672" h="1606">
                    <a:moveTo>
                      <a:pt x="127" y="0"/>
                    </a:moveTo>
                    <a:lnTo>
                      <a:pt x="154" y="55"/>
                    </a:lnTo>
                    <a:lnTo>
                      <a:pt x="180" y="109"/>
                    </a:lnTo>
                    <a:lnTo>
                      <a:pt x="205" y="165"/>
                    </a:lnTo>
                    <a:lnTo>
                      <a:pt x="230" y="221"/>
                    </a:lnTo>
                    <a:lnTo>
                      <a:pt x="279" y="333"/>
                    </a:lnTo>
                    <a:lnTo>
                      <a:pt x="326" y="446"/>
                    </a:lnTo>
                    <a:lnTo>
                      <a:pt x="371" y="559"/>
                    </a:lnTo>
                    <a:lnTo>
                      <a:pt x="413" y="671"/>
                    </a:lnTo>
                    <a:lnTo>
                      <a:pt x="452" y="780"/>
                    </a:lnTo>
                    <a:lnTo>
                      <a:pt x="489" y="889"/>
                    </a:lnTo>
                    <a:lnTo>
                      <a:pt x="522" y="995"/>
                    </a:lnTo>
                    <a:lnTo>
                      <a:pt x="554" y="1096"/>
                    </a:lnTo>
                    <a:lnTo>
                      <a:pt x="582" y="1193"/>
                    </a:lnTo>
                    <a:lnTo>
                      <a:pt x="607" y="1287"/>
                    </a:lnTo>
                    <a:lnTo>
                      <a:pt x="628" y="1375"/>
                    </a:lnTo>
                    <a:lnTo>
                      <a:pt x="647" y="1456"/>
                    </a:lnTo>
                    <a:lnTo>
                      <a:pt x="661" y="1530"/>
                    </a:lnTo>
                    <a:lnTo>
                      <a:pt x="672" y="1597"/>
                    </a:lnTo>
                    <a:lnTo>
                      <a:pt x="663" y="1598"/>
                    </a:lnTo>
                    <a:lnTo>
                      <a:pt x="655" y="1599"/>
                    </a:lnTo>
                    <a:lnTo>
                      <a:pt x="645" y="1600"/>
                    </a:lnTo>
                    <a:lnTo>
                      <a:pt x="636" y="1602"/>
                    </a:lnTo>
                    <a:lnTo>
                      <a:pt x="628" y="1603"/>
                    </a:lnTo>
                    <a:lnTo>
                      <a:pt x="619" y="1604"/>
                    </a:lnTo>
                    <a:lnTo>
                      <a:pt x="610" y="1605"/>
                    </a:lnTo>
                    <a:lnTo>
                      <a:pt x="601" y="1606"/>
                    </a:lnTo>
                    <a:lnTo>
                      <a:pt x="553" y="1462"/>
                    </a:lnTo>
                    <a:lnTo>
                      <a:pt x="494" y="1291"/>
                    </a:lnTo>
                    <a:lnTo>
                      <a:pt x="424" y="1097"/>
                    </a:lnTo>
                    <a:lnTo>
                      <a:pt x="348" y="886"/>
                    </a:lnTo>
                    <a:lnTo>
                      <a:pt x="265" y="666"/>
                    </a:lnTo>
                    <a:lnTo>
                      <a:pt x="178" y="440"/>
                    </a:lnTo>
                    <a:lnTo>
                      <a:pt x="134" y="328"/>
                    </a:lnTo>
                    <a:lnTo>
                      <a:pt x="89" y="217"/>
                    </a:lnTo>
                    <a:lnTo>
                      <a:pt x="45" y="107"/>
                    </a:lnTo>
                    <a:lnTo>
                      <a:pt x="0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3768840" y="3075120"/>
                <a:ext cx="190440" cy="507960"/>
              </a:xfrm>
              <a:custGeom>
                <a:avLst/>
                <a:gdLst/>
                <a:ahLst/>
                <a:rect l="l" t="t" r="r" b="b"/>
                <a:pathLst>
                  <a:path w="601" h="1602">
                    <a:moveTo>
                      <a:pt x="601" y="1592"/>
                    </a:moveTo>
                    <a:lnTo>
                      <a:pt x="600" y="1584"/>
                    </a:lnTo>
                    <a:lnTo>
                      <a:pt x="586" y="1513"/>
                    </a:lnTo>
                    <a:lnTo>
                      <a:pt x="569" y="1435"/>
                    </a:lnTo>
                    <a:lnTo>
                      <a:pt x="548" y="1351"/>
                    </a:lnTo>
                    <a:lnTo>
                      <a:pt x="526" y="1260"/>
                    </a:lnTo>
                    <a:lnTo>
                      <a:pt x="498" y="1166"/>
                    </a:lnTo>
                    <a:lnTo>
                      <a:pt x="469" y="1068"/>
                    </a:lnTo>
                    <a:lnTo>
                      <a:pt x="437" y="965"/>
                    </a:lnTo>
                    <a:lnTo>
                      <a:pt x="401" y="860"/>
                    </a:lnTo>
                    <a:lnTo>
                      <a:pt x="364" y="753"/>
                    </a:lnTo>
                    <a:lnTo>
                      <a:pt x="324" y="643"/>
                    </a:lnTo>
                    <a:lnTo>
                      <a:pt x="282" y="533"/>
                    </a:lnTo>
                    <a:lnTo>
                      <a:pt x="236" y="422"/>
                    </a:lnTo>
                    <a:lnTo>
                      <a:pt x="189" y="311"/>
                    </a:lnTo>
                    <a:lnTo>
                      <a:pt x="140" y="202"/>
                    </a:lnTo>
                    <a:lnTo>
                      <a:pt x="90" y="92"/>
                    </a:lnTo>
                    <a:lnTo>
                      <a:pt x="64" y="40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9" y="18"/>
                    </a:lnTo>
                    <a:lnTo>
                      <a:pt x="59" y="126"/>
                    </a:lnTo>
                    <a:lnTo>
                      <a:pt x="108" y="236"/>
                    </a:lnTo>
                    <a:lnTo>
                      <a:pt x="155" y="347"/>
                    </a:lnTo>
                    <a:lnTo>
                      <a:pt x="200" y="456"/>
                    </a:lnTo>
                    <a:lnTo>
                      <a:pt x="243" y="567"/>
                    </a:lnTo>
                    <a:lnTo>
                      <a:pt x="283" y="675"/>
                    </a:lnTo>
                    <a:lnTo>
                      <a:pt x="320" y="782"/>
                    </a:lnTo>
                    <a:lnTo>
                      <a:pt x="355" y="887"/>
                    </a:lnTo>
                    <a:lnTo>
                      <a:pt x="388" y="990"/>
                    </a:lnTo>
                    <a:lnTo>
                      <a:pt x="417" y="1088"/>
                    </a:lnTo>
                    <a:lnTo>
                      <a:pt x="444" y="1183"/>
                    </a:lnTo>
                    <a:lnTo>
                      <a:pt x="466" y="1272"/>
                    </a:lnTo>
                    <a:lnTo>
                      <a:pt x="487" y="1356"/>
                    </a:lnTo>
                    <a:lnTo>
                      <a:pt x="504" y="1434"/>
                    </a:lnTo>
                    <a:lnTo>
                      <a:pt x="518" y="1506"/>
                    </a:lnTo>
                    <a:lnTo>
                      <a:pt x="528" y="1570"/>
                    </a:lnTo>
                    <a:lnTo>
                      <a:pt x="531" y="1598"/>
                    </a:lnTo>
                    <a:lnTo>
                      <a:pt x="531" y="1602"/>
                    </a:lnTo>
                    <a:lnTo>
                      <a:pt x="540" y="1600"/>
                    </a:lnTo>
                    <a:lnTo>
                      <a:pt x="548" y="1599"/>
                    </a:lnTo>
                    <a:lnTo>
                      <a:pt x="558" y="1598"/>
                    </a:lnTo>
                    <a:lnTo>
                      <a:pt x="567" y="1597"/>
                    </a:lnTo>
                    <a:lnTo>
                      <a:pt x="575" y="1596"/>
                    </a:lnTo>
                    <a:lnTo>
                      <a:pt x="584" y="1595"/>
                    </a:lnTo>
                    <a:lnTo>
                      <a:pt x="592" y="1594"/>
                    </a:lnTo>
                    <a:lnTo>
                      <a:pt x="601" y="159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3727440" y="3075120"/>
                <a:ext cx="206280" cy="511200"/>
              </a:xfrm>
              <a:custGeom>
                <a:avLst/>
                <a:gdLst/>
                <a:ahLst/>
                <a:rect l="l" t="t" r="r" b="b"/>
                <a:pathLst>
                  <a:path w="652" h="1610">
                    <a:moveTo>
                      <a:pt x="0" y="0"/>
                    </a:moveTo>
                    <a:lnTo>
                      <a:pt x="0" y="2"/>
                    </a:lnTo>
                    <a:lnTo>
                      <a:pt x="49" y="120"/>
                    </a:lnTo>
                    <a:lnTo>
                      <a:pt x="97" y="241"/>
                    </a:lnTo>
                    <a:lnTo>
                      <a:pt x="146" y="363"/>
                    </a:lnTo>
                    <a:lnTo>
                      <a:pt x="194" y="486"/>
                    </a:lnTo>
                    <a:lnTo>
                      <a:pt x="286" y="730"/>
                    </a:lnTo>
                    <a:lnTo>
                      <a:pt x="374" y="966"/>
                    </a:lnTo>
                    <a:lnTo>
                      <a:pt x="453" y="1185"/>
                    </a:lnTo>
                    <a:lnTo>
                      <a:pt x="521" y="1380"/>
                    </a:lnTo>
                    <a:lnTo>
                      <a:pt x="551" y="1467"/>
                    </a:lnTo>
                    <a:lnTo>
                      <a:pt x="576" y="1545"/>
                    </a:lnTo>
                    <a:lnTo>
                      <a:pt x="598" y="1610"/>
                    </a:lnTo>
                    <a:lnTo>
                      <a:pt x="604" y="1608"/>
                    </a:lnTo>
                    <a:lnTo>
                      <a:pt x="611" y="1608"/>
                    </a:lnTo>
                    <a:lnTo>
                      <a:pt x="618" y="1607"/>
                    </a:lnTo>
                    <a:lnTo>
                      <a:pt x="625" y="1606"/>
                    </a:lnTo>
                    <a:lnTo>
                      <a:pt x="632" y="1605"/>
                    </a:lnTo>
                    <a:lnTo>
                      <a:pt x="639" y="1604"/>
                    </a:lnTo>
                    <a:lnTo>
                      <a:pt x="645" y="1604"/>
                    </a:lnTo>
                    <a:lnTo>
                      <a:pt x="652" y="1603"/>
                    </a:lnTo>
                    <a:lnTo>
                      <a:pt x="633" y="1543"/>
                    </a:lnTo>
                    <a:lnTo>
                      <a:pt x="603" y="1458"/>
                    </a:lnTo>
                    <a:lnTo>
                      <a:pt x="535" y="1262"/>
                    </a:lnTo>
                    <a:lnTo>
                      <a:pt x="455" y="1043"/>
                    </a:lnTo>
                    <a:lnTo>
                      <a:pt x="368" y="806"/>
                    </a:lnTo>
                    <a:lnTo>
                      <a:pt x="275" y="562"/>
                    </a:lnTo>
                    <a:lnTo>
                      <a:pt x="227" y="439"/>
                    </a:lnTo>
                    <a:lnTo>
                      <a:pt x="178" y="317"/>
                    </a:lnTo>
                    <a:lnTo>
                      <a:pt x="130" y="196"/>
                    </a:lnTo>
                    <a:lnTo>
                      <a:pt x="81" y="77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3208320" y="3075120"/>
                <a:ext cx="216000" cy="495000"/>
              </a:xfrm>
              <a:custGeom>
                <a:avLst/>
                <a:gdLst/>
                <a:ahLst/>
                <a:rect l="l" t="t" r="r" b="b"/>
                <a:pathLst>
                  <a:path w="680" h="1558">
                    <a:moveTo>
                      <a:pt x="122" y="0"/>
                    </a:moveTo>
                    <a:lnTo>
                      <a:pt x="149" y="51"/>
                    </a:lnTo>
                    <a:lnTo>
                      <a:pt x="174" y="102"/>
                    </a:lnTo>
                    <a:lnTo>
                      <a:pt x="198" y="154"/>
                    </a:lnTo>
                    <a:lnTo>
                      <a:pt x="223" y="206"/>
                    </a:lnTo>
                    <a:lnTo>
                      <a:pt x="271" y="312"/>
                    </a:lnTo>
                    <a:lnTo>
                      <a:pt x="316" y="418"/>
                    </a:lnTo>
                    <a:lnTo>
                      <a:pt x="359" y="525"/>
                    </a:lnTo>
                    <a:lnTo>
                      <a:pt x="400" y="632"/>
                    </a:lnTo>
                    <a:lnTo>
                      <a:pt x="440" y="737"/>
                    </a:lnTo>
                    <a:lnTo>
                      <a:pt x="477" y="842"/>
                    </a:lnTo>
                    <a:lnTo>
                      <a:pt x="512" y="943"/>
                    </a:lnTo>
                    <a:lnTo>
                      <a:pt x="544" y="1044"/>
                    </a:lnTo>
                    <a:lnTo>
                      <a:pt x="574" y="1140"/>
                    </a:lnTo>
                    <a:lnTo>
                      <a:pt x="601" y="1233"/>
                    </a:lnTo>
                    <a:lnTo>
                      <a:pt x="625" y="1322"/>
                    </a:lnTo>
                    <a:lnTo>
                      <a:pt x="647" y="1406"/>
                    </a:lnTo>
                    <a:lnTo>
                      <a:pt x="665" y="1485"/>
                    </a:lnTo>
                    <a:lnTo>
                      <a:pt x="680" y="1558"/>
                    </a:lnTo>
                    <a:lnTo>
                      <a:pt x="667" y="1555"/>
                    </a:lnTo>
                    <a:lnTo>
                      <a:pt x="656" y="1551"/>
                    </a:lnTo>
                    <a:lnTo>
                      <a:pt x="643" y="1549"/>
                    </a:lnTo>
                    <a:lnTo>
                      <a:pt x="631" y="1546"/>
                    </a:lnTo>
                    <a:lnTo>
                      <a:pt x="619" y="1543"/>
                    </a:lnTo>
                    <a:lnTo>
                      <a:pt x="607" y="1540"/>
                    </a:lnTo>
                    <a:lnTo>
                      <a:pt x="595" y="1538"/>
                    </a:lnTo>
                    <a:lnTo>
                      <a:pt x="583" y="1535"/>
                    </a:lnTo>
                    <a:lnTo>
                      <a:pt x="529" y="1380"/>
                    </a:lnTo>
                    <a:lnTo>
                      <a:pt x="468" y="1206"/>
                    </a:lnTo>
                    <a:lnTo>
                      <a:pt x="398" y="1015"/>
                    </a:lnTo>
                    <a:lnTo>
                      <a:pt x="324" y="814"/>
                    </a:lnTo>
                    <a:lnTo>
                      <a:pt x="245" y="608"/>
                    </a:lnTo>
                    <a:lnTo>
                      <a:pt x="163" y="400"/>
                    </a:lnTo>
                    <a:lnTo>
                      <a:pt x="123" y="298"/>
                    </a:lnTo>
                    <a:lnTo>
                      <a:pt x="82" y="196"/>
                    </a:lnTo>
                    <a:lnTo>
                      <a:pt x="41" y="97"/>
                    </a:lnTo>
                    <a:lnTo>
                      <a:pt x="0" y="0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3240000" y="3075120"/>
                <a:ext cx="195480" cy="496800"/>
              </a:xfrm>
              <a:custGeom>
                <a:avLst/>
                <a:gdLst/>
                <a:ahLst/>
                <a:rect l="l" t="t" r="r" b="b"/>
                <a:pathLst>
                  <a:path w="614" h="1567">
                    <a:moveTo>
                      <a:pt x="614" y="1567"/>
                    </a:moveTo>
                    <a:lnTo>
                      <a:pt x="597" y="1492"/>
                    </a:lnTo>
                    <a:lnTo>
                      <a:pt x="577" y="1408"/>
                    </a:lnTo>
                    <a:lnTo>
                      <a:pt x="554" y="1319"/>
                    </a:lnTo>
                    <a:lnTo>
                      <a:pt x="527" y="1224"/>
                    </a:lnTo>
                    <a:lnTo>
                      <a:pt x="498" y="1125"/>
                    </a:lnTo>
                    <a:lnTo>
                      <a:pt x="465" y="1023"/>
                    </a:lnTo>
                    <a:lnTo>
                      <a:pt x="431" y="918"/>
                    </a:lnTo>
                    <a:lnTo>
                      <a:pt x="393" y="810"/>
                    </a:lnTo>
                    <a:lnTo>
                      <a:pt x="352" y="700"/>
                    </a:lnTo>
                    <a:lnTo>
                      <a:pt x="310" y="591"/>
                    </a:lnTo>
                    <a:lnTo>
                      <a:pt x="265" y="480"/>
                    </a:lnTo>
                    <a:lnTo>
                      <a:pt x="217" y="369"/>
                    </a:lnTo>
                    <a:lnTo>
                      <a:pt x="168" y="259"/>
                    </a:lnTo>
                    <a:lnTo>
                      <a:pt x="118" y="150"/>
                    </a:lnTo>
                    <a:lnTo>
                      <a:pt x="92" y="97"/>
                    </a:lnTo>
                    <a:lnTo>
                      <a:pt x="65" y="4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1" y="24"/>
                    </a:lnTo>
                    <a:lnTo>
                      <a:pt x="37" y="76"/>
                    </a:lnTo>
                    <a:lnTo>
                      <a:pt x="89" y="185"/>
                    </a:lnTo>
                    <a:lnTo>
                      <a:pt x="136" y="294"/>
                    </a:lnTo>
                    <a:lnTo>
                      <a:pt x="183" y="404"/>
                    </a:lnTo>
                    <a:lnTo>
                      <a:pt x="229" y="514"/>
                    </a:lnTo>
                    <a:lnTo>
                      <a:pt x="271" y="624"/>
                    </a:lnTo>
                    <a:lnTo>
                      <a:pt x="311" y="733"/>
                    </a:lnTo>
                    <a:lnTo>
                      <a:pt x="349" y="841"/>
                    </a:lnTo>
                    <a:lnTo>
                      <a:pt x="384" y="946"/>
                    </a:lnTo>
                    <a:lnTo>
                      <a:pt x="416" y="1047"/>
                    </a:lnTo>
                    <a:lnTo>
                      <a:pt x="445" y="1146"/>
                    </a:lnTo>
                    <a:lnTo>
                      <a:pt x="472" y="1240"/>
                    </a:lnTo>
                    <a:lnTo>
                      <a:pt x="496" y="1330"/>
                    </a:lnTo>
                    <a:lnTo>
                      <a:pt x="515" y="1414"/>
                    </a:lnTo>
                    <a:lnTo>
                      <a:pt x="532" y="1492"/>
                    </a:lnTo>
                    <a:lnTo>
                      <a:pt x="543" y="1549"/>
                    </a:lnTo>
                    <a:lnTo>
                      <a:pt x="551" y="1551"/>
                    </a:lnTo>
                    <a:lnTo>
                      <a:pt x="561" y="1554"/>
                    </a:lnTo>
                    <a:lnTo>
                      <a:pt x="570" y="1556"/>
                    </a:lnTo>
                    <a:lnTo>
                      <a:pt x="579" y="1558"/>
                    </a:lnTo>
                    <a:lnTo>
                      <a:pt x="587" y="1561"/>
                    </a:lnTo>
                    <a:lnTo>
                      <a:pt x="596" y="1563"/>
                    </a:lnTo>
                    <a:lnTo>
                      <a:pt x="605" y="1565"/>
                    </a:lnTo>
                    <a:lnTo>
                      <a:pt x="614" y="156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3200400" y="3075120"/>
                <a:ext cx="201600" cy="488880"/>
              </a:xfrm>
              <a:custGeom>
                <a:avLst/>
                <a:gdLst/>
                <a:ahLst/>
                <a:rect l="l" t="t" r="r" b="b"/>
                <a:pathLst>
                  <a:path w="638" h="1541">
                    <a:moveTo>
                      <a:pt x="0" y="0"/>
                    </a:moveTo>
                    <a:lnTo>
                      <a:pt x="26" y="60"/>
                    </a:lnTo>
                    <a:lnTo>
                      <a:pt x="74" y="178"/>
                    </a:lnTo>
                    <a:lnTo>
                      <a:pt x="122" y="299"/>
                    </a:lnTo>
                    <a:lnTo>
                      <a:pt x="171" y="421"/>
                    </a:lnTo>
                    <a:lnTo>
                      <a:pt x="219" y="543"/>
                    </a:lnTo>
                    <a:lnTo>
                      <a:pt x="311" y="788"/>
                    </a:lnTo>
                    <a:lnTo>
                      <a:pt x="399" y="1023"/>
                    </a:lnTo>
                    <a:lnTo>
                      <a:pt x="478" y="1243"/>
                    </a:lnTo>
                    <a:lnTo>
                      <a:pt x="547" y="1438"/>
                    </a:lnTo>
                    <a:lnTo>
                      <a:pt x="576" y="1525"/>
                    </a:lnTo>
                    <a:lnTo>
                      <a:pt x="578" y="1530"/>
                    </a:lnTo>
                    <a:lnTo>
                      <a:pt x="585" y="1531"/>
                    </a:lnTo>
                    <a:lnTo>
                      <a:pt x="593" y="1532"/>
                    </a:lnTo>
                    <a:lnTo>
                      <a:pt x="600" y="1534"/>
                    </a:lnTo>
                    <a:lnTo>
                      <a:pt x="608" y="1535"/>
                    </a:lnTo>
                    <a:lnTo>
                      <a:pt x="615" y="1537"/>
                    </a:lnTo>
                    <a:lnTo>
                      <a:pt x="623" y="1539"/>
                    </a:lnTo>
                    <a:lnTo>
                      <a:pt x="630" y="1540"/>
                    </a:lnTo>
                    <a:lnTo>
                      <a:pt x="638" y="1541"/>
                    </a:lnTo>
                    <a:lnTo>
                      <a:pt x="628" y="1516"/>
                    </a:lnTo>
                    <a:lnTo>
                      <a:pt x="560" y="1320"/>
                    </a:lnTo>
                    <a:lnTo>
                      <a:pt x="481" y="1101"/>
                    </a:lnTo>
                    <a:lnTo>
                      <a:pt x="394" y="865"/>
                    </a:lnTo>
                    <a:lnTo>
                      <a:pt x="300" y="619"/>
                    </a:lnTo>
                    <a:lnTo>
                      <a:pt x="252" y="497"/>
                    </a:lnTo>
                    <a:lnTo>
                      <a:pt x="204" y="374"/>
                    </a:lnTo>
                    <a:lnTo>
                      <a:pt x="155" y="254"/>
                    </a:lnTo>
                    <a:lnTo>
                      <a:pt x="107" y="136"/>
                    </a:lnTo>
                    <a:lnTo>
                      <a:pt x="60" y="21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3135240" y="3075120"/>
                <a:ext cx="212760" cy="480960"/>
              </a:xfrm>
              <a:custGeom>
                <a:avLst/>
                <a:gdLst/>
                <a:ahLst/>
                <a:rect l="l" t="t" r="r" b="b"/>
                <a:pathLst>
                  <a:path w="671" h="1513">
                    <a:moveTo>
                      <a:pt x="122" y="0"/>
                    </a:moveTo>
                    <a:lnTo>
                      <a:pt x="171" y="98"/>
                    </a:lnTo>
                    <a:lnTo>
                      <a:pt x="219" y="198"/>
                    </a:lnTo>
                    <a:lnTo>
                      <a:pt x="265" y="300"/>
                    </a:lnTo>
                    <a:lnTo>
                      <a:pt x="308" y="401"/>
                    </a:lnTo>
                    <a:lnTo>
                      <a:pt x="350" y="504"/>
                    </a:lnTo>
                    <a:lnTo>
                      <a:pt x="392" y="607"/>
                    </a:lnTo>
                    <a:lnTo>
                      <a:pt x="430" y="708"/>
                    </a:lnTo>
                    <a:lnTo>
                      <a:pt x="466" y="809"/>
                    </a:lnTo>
                    <a:lnTo>
                      <a:pt x="500" y="908"/>
                    </a:lnTo>
                    <a:lnTo>
                      <a:pt x="532" y="1004"/>
                    </a:lnTo>
                    <a:lnTo>
                      <a:pt x="561" y="1098"/>
                    </a:lnTo>
                    <a:lnTo>
                      <a:pt x="589" y="1190"/>
                    </a:lnTo>
                    <a:lnTo>
                      <a:pt x="613" y="1276"/>
                    </a:lnTo>
                    <a:lnTo>
                      <a:pt x="635" y="1360"/>
                    </a:lnTo>
                    <a:lnTo>
                      <a:pt x="655" y="1438"/>
                    </a:lnTo>
                    <a:lnTo>
                      <a:pt x="671" y="1513"/>
                    </a:lnTo>
                    <a:lnTo>
                      <a:pt x="658" y="1511"/>
                    </a:lnTo>
                    <a:lnTo>
                      <a:pt x="646" y="1509"/>
                    </a:lnTo>
                    <a:lnTo>
                      <a:pt x="633" y="1508"/>
                    </a:lnTo>
                    <a:lnTo>
                      <a:pt x="622" y="1507"/>
                    </a:lnTo>
                    <a:lnTo>
                      <a:pt x="609" y="1506"/>
                    </a:lnTo>
                    <a:lnTo>
                      <a:pt x="597" y="1505"/>
                    </a:lnTo>
                    <a:lnTo>
                      <a:pt x="584" y="1503"/>
                    </a:lnTo>
                    <a:lnTo>
                      <a:pt x="572" y="1502"/>
                    </a:lnTo>
                    <a:lnTo>
                      <a:pt x="518" y="1347"/>
                    </a:lnTo>
                    <a:lnTo>
                      <a:pt x="456" y="1175"/>
                    </a:lnTo>
                    <a:lnTo>
                      <a:pt x="388" y="988"/>
                    </a:lnTo>
                    <a:lnTo>
                      <a:pt x="315" y="792"/>
                    </a:lnTo>
                    <a:lnTo>
                      <a:pt x="239" y="591"/>
                    </a:lnTo>
                    <a:lnTo>
                      <a:pt x="160" y="389"/>
                    </a:lnTo>
                    <a:lnTo>
                      <a:pt x="120" y="288"/>
                    </a:lnTo>
                    <a:lnTo>
                      <a:pt x="80" y="190"/>
                    </a:lnTo>
                    <a:lnTo>
                      <a:pt x="40" y="94"/>
                    </a:lnTo>
                    <a:lnTo>
                      <a:pt x="0" y="0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3166920" y="3075120"/>
                <a:ext cx="192240" cy="480960"/>
              </a:xfrm>
              <a:custGeom>
                <a:avLst/>
                <a:gdLst/>
                <a:ahLst/>
                <a:rect l="l" t="t" r="r" b="b"/>
                <a:pathLst>
                  <a:path w="603" h="1517">
                    <a:moveTo>
                      <a:pt x="603" y="1517"/>
                    </a:moveTo>
                    <a:lnTo>
                      <a:pt x="597" y="1492"/>
                    </a:lnTo>
                    <a:lnTo>
                      <a:pt x="578" y="1408"/>
                    </a:lnTo>
                    <a:lnTo>
                      <a:pt x="554" y="1319"/>
                    </a:lnTo>
                    <a:lnTo>
                      <a:pt x="528" y="1224"/>
                    </a:lnTo>
                    <a:lnTo>
                      <a:pt x="498" y="1125"/>
                    </a:lnTo>
                    <a:lnTo>
                      <a:pt x="465" y="1023"/>
                    </a:lnTo>
                    <a:lnTo>
                      <a:pt x="431" y="918"/>
                    </a:lnTo>
                    <a:lnTo>
                      <a:pt x="393" y="810"/>
                    </a:lnTo>
                    <a:lnTo>
                      <a:pt x="352" y="700"/>
                    </a:lnTo>
                    <a:lnTo>
                      <a:pt x="310" y="591"/>
                    </a:lnTo>
                    <a:lnTo>
                      <a:pt x="265" y="480"/>
                    </a:lnTo>
                    <a:lnTo>
                      <a:pt x="218" y="369"/>
                    </a:lnTo>
                    <a:lnTo>
                      <a:pt x="169" y="259"/>
                    </a:lnTo>
                    <a:lnTo>
                      <a:pt x="118" y="150"/>
                    </a:lnTo>
                    <a:lnTo>
                      <a:pt x="92" y="97"/>
                    </a:lnTo>
                    <a:lnTo>
                      <a:pt x="65" y="4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1" y="24"/>
                    </a:lnTo>
                    <a:lnTo>
                      <a:pt x="37" y="76"/>
                    </a:lnTo>
                    <a:lnTo>
                      <a:pt x="89" y="185"/>
                    </a:lnTo>
                    <a:lnTo>
                      <a:pt x="138" y="294"/>
                    </a:lnTo>
                    <a:lnTo>
                      <a:pt x="184" y="404"/>
                    </a:lnTo>
                    <a:lnTo>
                      <a:pt x="229" y="514"/>
                    </a:lnTo>
                    <a:lnTo>
                      <a:pt x="271" y="624"/>
                    </a:lnTo>
                    <a:lnTo>
                      <a:pt x="311" y="733"/>
                    </a:lnTo>
                    <a:lnTo>
                      <a:pt x="349" y="841"/>
                    </a:lnTo>
                    <a:lnTo>
                      <a:pt x="384" y="946"/>
                    </a:lnTo>
                    <a:lnTo>
                      <a:pt x="416" y="1047"/>
                    </a:lnTo>
                    <a:lnTo>
                      <a:pt x="446" y="1146"/>
                    </a:lnTo>
                    <a:lnTo>
                      <a:pt x="472" y="1240"/>
                    </a:lnTo>
                    <a:lnTo>
                      <a:pt x="496" y="1330"/>
                    </a:lnTo>
                    <a:lnTo>
                      <a:pt x="515" y="1414"/>
                    </a:lnTo>
                    <a:lnTo>
                      <a:pt x="532" y="1492"/>
                    </a:lnTo>
                    <a:lnTo>
                      <a:pt x="536" y="1508"/>
                    </a:lnTo>
                    <a:lnTo>
                      <a:pt x="544" y="1509"/>
                    </a:lnTo>
                    <a:lnTo>
                      <a:pt x="553" y="1510"/>
                    </a:lnTo>
                    <a:lnTo>
                      <a:pt x="561" y="1511"/>
                    </a:lnTo>
                    <a:lnTo>
                      <a:pt x="570" y="1513"/>
                    </a:lnTo>
                    <a:lnTo>
                      <a:pt x="578" y="1514"/>
                    </a:lnTo>
                    <a:lnTo>
                      <a:pt x="586" y="1515"/>
                    </a:lnTo>
                    <a:lnTo>
                      <a:pt x="595" y="1516"/>
                    </a:lnTo>
                    <a:lnTo>
                      <a:pt x="603" y="151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3129120" y="3075120"/>
                <a:ext cx="196560" cy="477720"/>
              </a:xfrm>
              <a:custGeom>
                <a:avLst/>
                <a:gdLst/>
                <a:ahLst/>
                <a:rect l="l" t="t" r="r" b="b"/>
                <a:pathLst>
                  <a:path w="623" h="1505">
                    <a:moveTo>
                      <a:pt x="0" y="0"/>
                    </a:moveTo>
                    <a:lnTo>
                      <a:pt x="25" y="60"/>
                    </a:lnTo>
                    <a:lnTo>
                      <a:pt x="73" y="178"/>
                    </a:lnTo>
                    <a:lnTo>
                      <a:pt x="122" y="299"/>
                    </a:lnTo>
                    <a:lnTo>
                      <a:pt x="169" y="421"/>
                    </a:lnTo>
                    <a:lnTo>
                      <a:pt x="217" y="543"/>
                    </a:lnTo>
                    <a:lnTo>
                      <a:pt x="311" y="788"/>
                    </a:lnTo>
                    <a:lnTo>
                      <a:pt x="397" y="1023"/>
                    </a:lnTo>
                    <a:lnTo>
                      <a:pt x="477" y="1243"/>
                    </a:lnTo>
                    <a:lnTo>
                      <a:pt x="546" y="1438"/>
                    </a:lnTo>
                    <a:lnTo>
                      <a:pt x="566" y="1501"/>
                    </a:lnTo>
                    <a:lnTo>
                      <a:pt x="573" y="1501"/>
                    </a:lnTo>
                    <a:lnTo>
                      <a:pt x="581" y="1501"/>
                    </a:lnTo>
                    <a:lnTo>
                      <a:pt x="588" y="1502"/>
                    </a:lnTo>
                    <a:lnTo>
                      <a:pt x="595" y="1502"/>
                    </a:lnTo>
                    <a:lnTo>
                      <a:pt x="601" y="1503"/>
                    </a:lnTo>
                    <a:lnTo>
                      <a:pt x="609" y="1503"/>
                    </a:lnTo>
                    <a:lnTo>
                      <a:pt x="616" y="1505"/>
                    </a:lnTo>
                    <a:lnTo>
                      <a:pt x="623" y="1505"/>
                    </a:lnTo>
                    <a:lnTo>
                      <a:pt x="558" y="1320"/>
                    </a:lnTo>
                    <a:lnTo>
                      <a:pt x="479" y="1101"/>
                    </a:lnTo>
                    <a:lnTo>
                      <a:pt x="392" y="865"/>
                    </a:lnTo>
                    <a:lnTo>
                      <a:pt x="298" y="619"/>
                    </a:lnTo>
                    <a:lnTo>
                      <a:pt x="250" y="497"/>
                    </a:lnTo>
                    <a:lnTo>
                      <a:pt x="202" y="374"/>
                    </a:lnTo>
                    <a:lnTo>
                      <a:pt x="153" y="254"/>
                    </a:lnTo>
                    <a:lnTo>
                      <a:pt x="106" y="136"/>
                    </a:lnTo>
                    <a:lnTo>
                      <a:pt x="58" y="21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2728800" y="3075120"/>
                <a:ext cx="219240" cy="509400"/>
              </a:xfrm>
              <a:custGeom>
                <a:avLst/>
                <a:gdLst/>
                <a:ahLst/>
                <a:rect l="l" t="t" r="r" b="b"/>
                <a:pathLst>
                  <a:path w="688" h="1605">
                    <a:moveTo>
                      <a:pt x="121" y="0"/>
                    </a:moveTo>
                    <a:lnTo>
                      <a:pt x="148" y="52"/>
                    </a:lnTo>
                    <a:lnTo>
                      <a:pt x="174" y="106"/>
                    </a:lnTo>
                    <a:lnTo>
                      <a:pt x="200" y="160"/>
                    </a:lnTo>
                    <a:lnTo>
                      <a:pt x="225" y="213"/>
                    </a:lnTo>
                    <a:lnTo>
                      <a:pt x="274" y="322"/>
                    </a:lnTo>
                    <a:lnTo>
                      <a:pt x="321" y="432"/>
                    </a:lnTo>
                    <a:lnTo>
                      <a:pt x="366" y="542"/>
                    </a:lnTo>
                    <a:lnTo>
                      <a:pt x="408" y="652"/>
                    </a:lnTo>
                    <a:lnTo>
                      <a:pt x="448" y="761"/>
                    </a:lnTo>
                    <a:lnTo>
                      <a:pt x="487" y="868"/>
                    </a:lnTo>
                    <a:lnTo>
                      <a:pt x="521" y="973"/>
                    </a:lnTo>
                    <a:lnTo>
                      <a:pt x="554" y="1076"/>
                    </a:lnTo>
                    <a:lnTo>
                      <a:pt x="584" y="1174"/>
                    </a:lnTo>
                    <a:lnTo>
                      <a:pt x="611" y="1268"/>
                    </a:lnTo>
                    <a:lnTo>
                      <a:pt x="635" y="1359"/>
                    </a:lnTo>
                    <a:lnTo>
                      <a:pt x="656" y="1444"/>
                    </a:lnTo>
                    <a:lnTo>
                      <a:pt x="673" y="1523"/>
                    </a:lnTo>
                    <a:lnTo>
                      <a:pt x="688" y="1595"/>
                    </a:lnTo>
                    <a:lnTo>
                      <a:pt x="677" y="1596"/>
                    </a:lnTo>
                    <a:lnTo>
                      <a:pt x="667" y="1598"/>
                    </a:lnTo>
                    <a:lnTo>
                      <a:pt x="657" y="1599"/>
                    </a:lnTo>
                    <a:lnTo>
                      <a:pt x="647" y="1600"/>
                    </a:lnTo>
                    <a:lnTo>
                      <a:pt x="636" y="1602"/>
                    </a:lnTo>
                    <a:lnTo>
                      <a:pt x="626" y="1603"/>
                    </a:lnTo>
                    <a:lnTo>
                      <a:pt x="617" y="1604"/>
                    </a:lnTo>
                    <a:lnTo>
                      <a:pt x="607" y="1605"/>
                    </a:lnTo>
                    <a:lnTo>
                      <a:pt x="554" y="1452"/>
                    </a:lnTo>
                    <a:lnTo>
                      <a:pt x="492" y="1273"/>
                    </a:lnTo>
                    <a:lnTo>
                      <a:pt x="420" y="1076"/>
                    </a:lnTo>
                    <a:lnTo>
                      <a:pt x="342" y="865"/>
                    </a:lnTo>
                    <a:lnTo>
                      <a:pt x="259" y="647"/>
                    </a:lnTo>
                    <a:lnTo>
                      <a:pt x="174" y="425"/>
                    </a:lnTo>
                    <a:lnTo>
                      <a:pt x="130" y="316"/>
                    </a:lnTo>
                    <a:lnTo>
                      <a:pt x="87" y="209"/>
                    </a:lnTo>
                    <a:lnTo>
                      <a:pt x="44" y="102"/>
                    </a:lnTo>
                    <a:lnTo>
                      <a:pt x="0" y="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2760840" y="3075120"/>
                <a:ext cx="196560" cy="507960"/>
              </a:xfrm>
              <a:custGeom>
                <a:avLst/>
                <a:gdLst/>
                <a:ahLst/>
                <a:rect l="l" t="t" r="r" b="b"/>
                <a:pathLst>
                  <a:path w="621" h="1599">
                    <a:moveTo>
                      <a:pt x="621" y="1590"/>
                    </a:moveTo>
                    <a:lnTo>
                      <a:pt x="618" y="1575"/>
                    </a:lnTo>
                    <a:lnTo>
                      <a:pt x="601" y="1498"/>
                    </a:lnTo>
                    <a:lnTo>
                      <a:pt x="581" y="1413"/>
                    </a:lnTo>
                    <a:lnTo>
                      <a:pt x="557" y="1323"/>
                    </a:lnTo>
                    <a:lnTo>
                      <a:pt x="531" y="1229"/>
                    </a:lnTo>
                    <a:lnTo>
                      <a:pt x="501" y="1130"/>
                    </a:lnTo>
                    <a:lnTo>
                      <a:pt x="469" y="1028"/>
                    </a:lnTo>
                    <a:lnTo>
                      <a:pt x="434" y="923"/>
                    </a:lnTo>
                    <a:lnTo>
                      <a:pt x="396" y="816"/>
                    </a:lnTo>
                    <a:lnTo>
                      <a:pt x="356" y="706"/>
                    </a:lnTo>
                    <a:lnTo>
                      <a:pt x="313" y="595"/>
                    </a:lnTo>
                    <a:lnTo>
                      <a:pt x="268" y="485"/>
                    </a:lnTo>
                    <a:lnTo>
                      <a:pt x="222" y="374"/>
                    </a:lnTo>
                    <a:lnTo>
                      <a:pt x="173" y="264"/>
                    </a:lnTo>
                    <a:lnTo>
                      <a:pt x="121" y="155"/>
                    </a:lnTo>
                    <a:lnTo>
                      <a:pt x="95" y="102"/>
                    </a:lnTo>
                    <a:lnTo>
                      <a:pt x="69" y="49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15" y="28"/>
                    </a:lnTo>
                    <a:lnTo>
                      <a:pt x="41" y="81"/>
                    </a:lnTo>
                    <a:lnTo>
                      <a:pt x="92" y="189"/>
                    </a:lnTo>
                    <a:lnTo>
                      <a:pt x="141" y="299"/>
                    </a:lnTo>
                    <a:lnTo>
                      <a:pt x="187" y="409"/>
                    </a:lnTo>
                    <a:lnTo>
                      <a:pt x="232" y="519"/>
                    </a:lnTo>
                    <a:lnTo>
                      <a:pt x="274" y="630"/>
                    </a:lnTo>
                    <a:lnTo>
                      <a:pt x="314" y="738"/>
                    </a:lnTo>
                    <a:lnTo>
                      <a:pt x="353" y="845"/>
                    </a:lnTo>
                    <a:lnTo>
                      <a:pt x="387" y="950"/>
                    </a:lnTo>
                    <a:lnTo>
                      <a:pt x="419" y="1053"/>
                    </a:lnTo>
                    <a:lnTo>
                      <a:pt x="448" y="1151"/>
                    </a:lnTo>
                    <a:lnTo>
                      <a:pt x="476" y="1246"/>
                    </a:lnTo>
                    <a:lnTo>
                      <a:pt x="499" y="1335"/>
                    </a:lnTo>
                    <a:lnTo>
                      <a:pt x="519" y="1419"/>
                    </a:lnTo>
                    <a:lnTo>
                      <a:pt x="536" y="1497"/>
                    </a:lnTo>
                    <a:lnTo>
                      <a:pt x="550" y="1569"/>
                    </a:lnTo>
                    <a:lnTo>
                      <a:pt x="554" y="1599"/>
                    </a:lnTo>
                    <a:lnTo>
                      <a:pt x="562" y="1598"/>
                    </a:lnTo>
                    <a:lnTo>
                      <a:pt x="570" y="1597"/>
                    </a:lnTo>
                    <a:lnTo>
                      <a:pt x="580" y="1596"/>
                    </a:lnTo>
                    <a:lnTo>
                      <a:pt x="588" y="1595"/>
                    </a:lnTo>
                    <a:lnTo>
                      <a:pt x="596" y="1594"/>
                    </a:lnTo>
                    <a:lnTo>
                      <a:pt x="605" y="1592"/>
                    </a:lnTo>
                    <a:lnTo>
                      <a:pt x="613" y="1591"/>
                    </a:lnTo>
                    <a:lnTo>
                      <a:pt x="621" y="159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2720880" y="3075120"/>
                <a:ext cx="209520" cy="511200"/>
              </a:xfrm>
              <a:custGeom>
                <a:avLst/>
                <a:gdLst/>
                <a:ahLst/>
                <a:rect l="l" t="t" r="r" b="b"/>
                <a:pathLst>
                  <a:path w="658" h="1610">
                    <a:moveTo>
                      <a:pt x="0" y="0"/>
                    </a:moveTo>
                    <a:lnTo>
                      <a:pt x="28" y="65"/>
                    </a:lnTo>
                    <a:lnTo>
                      <a:pt x="75" y="182"/>
                    </a:lnTo>
                    <a:lnTo>
                      <a:pt x="124" y="303"/>
                    </a:lnTo>
                    <a:lnTo>
                      <a:pt x="172" y="425"/>
                    </a:lnTo>
                    <a:lnTo>
                      <a:pt x="220" y="549"/>
                    </a:lnTo>
                    <a:lnTo>
                      <a:pt x="314" y="793"/>
                    </a:lnTo>
                    <a:lnTo>
                      <a:pt x="401" y="1029"/>
                    </a:lnTo>
                    <a:lnTo>
                      <a:pt x="480" y="1248"/>
                    </a:lnTo>
                    <a:lnTo>
                      <a:pt x="549" y="1443"/>
                    </a:lnTo>
                    <a:lnTo>
                      <a:pt x="578" y="1530"/>
                    </a:lnTo>
                    <a:lnTo>
                      <a:pt x="603" y="1607"/>
                    </a:lnTo>
                    <a:lnTo>
                      <a:pt x="604" y="1610"/>
                    </a:lnTo>
                    <a:lnTo>
                      <a:pt x="611" y="1608"/>
                    </a:lnTo>
                    <a:lnTo>
                      <a:pt x="618" y="1607"/>
                    </a:lnTo>
                    <a:lnTo>
                      <a:pt x="624" y="1606"/>
                    </a:lnTo>
                    <a:lnTo>
                      <a:pt x="631" y="1606"/>
                    </a:lnTo>
                    <a:lnTo>
                      <a:pt x="637" y="1605"/>
                    </a:lnTo>
                    <a:lnTo>
                      <a:pt x="644" y="1604"/>
                    </a:lnTo>
                    <a:lnTo>
                      <a:pt x="651" y="1603"/>
                    </a:lnTo>
                    <a:lnTo>
                      <a:pt x="658" y="1602"/>
                    </a:lnTo>
                    <a:lnTo>
                      <a:pt x="631" y="1521"/>
                    </a:lnTo>
                    <a:lnTo>
                      <a:pt x="562" y="1324"/>
                    </a:lnTo>
                    <a:lnTo>
                      <a:pt x="482" y="1105"/>
                    </a:lnTo>
                    <a:lnTo>
                      <a:pt x="395" y="869"/>
                    </a:lnTo>
                    <a:lnTo>
                      <a:pt x="302" y="625"/>
                    </a:lnTo>
                    <a:lnTo>
                      <a:pt x="254" y="502"/>
                    </a:lnTo>
                    <a:lnTo>
                      <a:pt x="205" y="380"/>
                    </a:lnTo>
                    <a:lnTo>
                      <a:pt x="158" y="259"/>
                    </a:lnTo>
                    <a:lnTo>
                      <a:pt x="108" y="140"/>
                    </a:lnTo>
                    <a:lnTo>
                      <a:pt x="61" y="26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6380280" y="3075120"/>
                <a:ext cx="120600" cy="463320"/>
              </a:xfrm>
              <a:custGeom>
                <a:avLst/>
                <a:gdLst/>
                <a:ahLst/>
                <a:rect l="l" t="t" r="r" b="b"/>
                <a:pathLst>
                  <a:path w="379" h="1461">
                    <a:moveTo>
                      <a:pt x="379" y="1009"/>
                    </a:moveTo>
                    <a:lnTo>
                      <a:pt x="353" y="885"/>
                    </a:lnTo>
                    <a:lnTo>
                      <a:pt x="327" y="758"/>
                    </a:lnTo>
                    <a:lnTo>
                      <a:pt x="297" y="632"/>
                    </a:lnTo>
                    <a:lnTo>
                      <a:pt x="266" y="504"/>
                    </a:lnTo>
                    <a:lnTo>
                      <a:pt x="233" y="376"/>
                    </a:lnTo>
                    <a:lnTo>
                      <a:pt x="199" y="250"/>
                    </a:lnTo>
                    <a:lnTo>
                      <a:pt x="163" y="124"/>
                    </a:lnTo>
                    <a:lnTo>
                      <a:pt x="125" y="0"/>
                    </a:lnTo>
                    <a:lnTo>
                      <a:pt x="0" y="0"/>
                    </a:lnTo>
                    <a:lnTo>
                      <a:pt x="41" y="177"/>
                    </a:lnTo>
                    <a:lnTo>
                      <a:pt x="83" y="360"/>
                    </a:lnTo>
                    <a:lnTo>
                      <a:pt x="123" y="546"/>
                    </a:lnTo>
                    <a:lnTo>
                      <a:pt x="163" y="733"/>
                    </a:lnTo>
                    <a:lnTo>
                      <a:pt x="203" y="922"/>
                    </a:lnTo>
                    <a:lnTo>
                      <a:pt x="239" y="1106"/>
                    </a:lnTo>
                    <a:lnTo>
                      <a:pt x="275" y="1287"/>
                    </a:lnTo>
                    <a:lnTo>
                      <a:pt x="309" y="1461"/>
                    </a:lnTo>
                    <a:lnTo>
                      <a:pt x="319" y="1461"/>
                    </a:lnTo>
                    <a:lnTo>
                      <a:pt x="328" y="1460"/>
                    </a:lnTo>
                    <a:lnTo>
                      <a:pt x="337" y="1460"/>
                    </a:lnTo>
                    <a:lnTo>
                      <a:pt x="345" y="1460"/>
                    </a:lnTo>
                    <a:lnTo>
                      <a:pt x="354" y="1459"/>
                    </a:lnTo>
                    <a:lnTo>
                      <a:pt x="362" y="1459"/>
                    </a:lnTo>
                    <a:lnTo>
                      <a:pt x="371" y="1459"/>
                    </a:lnTo>
                    <a:lnTo>
                      <a:pt x="379" y="1459"/>
                    </a:lnTo>
                    <a:lnTo>
                      <a:pt x="379" y="10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6408720" y="3075120"/>
                <a:ext cx="100080" cy="322200"/>
              </a:xfrm>
              <a:custGeom>
                <a:avLst/>
                <a:gdLst/>
                <a:ahLst/>
                <a:rect l="l" t="t" r="r" b="b"/>
                <a:pathLst>
                  <a:path w="311" h="1015">
                    <a:moveTo>
                      <a:pt x="0" y="0"/>
                    </a:moveTo>
                    <a:lnTo>
                      <a:pt x="10" y="33"/>
                    </a:lnTo>
                    <a:lnTo>
                      <a:pt x="32" y="102"/>
                    </a:lnTo>
                    <a:lnTo>
                      <a:pt x="52" y="172"/>
                    </a:lnTo>
                    <a:lnTo>
                      <a:pt x="73" y="242"/>
                    </a:lnTo>
                    <a:lnTo>
                      <a:pt x="92" y="312"/>
                    </a:lnTo>
                    <a:lnTo>
                      <a:pt x="110" y="382"/>
                    </a:lnTo>
                    <a:lnTo>
                      <a:pt x="128" y="453"/>
                    </a:lnTo>
                    <a:lnTo>
                      <a:pt x="164" y="595"/>
                    </a:lnTo>
                    <a:lnTo>
                      <a:pt x="197" y="737"/>
                    </a:lnTo>
                    <a:lnTo>
                      <a:pt x="228" y="877"/>
                    </a:lnTo>
                    <a:lnTo>
                      <a:pt x="256" y="1015"/>
                    </a:lnTo>
                    <a:lnTo>
                      <a:pt x="311" y="1005"/>
                    </a:lnTo>
                    <a:lnTo>
                      <a:pt x="311" y="947"/>
                    </a:lnTo>
                    <a:lnTo>
                      <a:pt x="294" y="863"/>
                    </a:lnTo>
                    <a:lnTo>
                      <a:pt x="263" y="722"/>
                    </a:lnTo>
                    <a:lnTo>
                      <a:pt x="230" y="579"/>
                    </a:lnTo>
                    <a:lnTo>
                      <a:pt x="195" y="437"/>
                    </a:lnTo>
                    <a:lnTo>
                      <a:pt x="176" y="365"/>
                    </a:lnTo>
                    <a:lnTo>
                      <a:pt x="157" y="294"/>
                    </a:lnTo>
                    <a:lnTo>
                      <a:pt x="138" y="223"/>
                    </a:lnTo>
                    <a:lnTo>
                      <a:pt x="117" y="153"/>
                    </a:lnTo>
                    <a:lnTo>
                      <a:pt x="97" y="83"/>
                    </a:lnTo>
                    <a:lnTo>
                      <a:pt x="75" y="13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6369120" y="3075120"/>
                <a:ext cx="120600" cy="465120"/>
              </a:xfrm>
              <a:custGeom>
                <a:avLst/>
                <a:gdLst/>
                <a:ahLst/>
                <a:rect l="l" t="t" r="r" b="b"/>
                <a:pathLst>
                  <a:path w="378" h="1464">
                    <a:moveTo>
                      <a:pt x="378" y="1460"/>
                    </a:moveTo>
                    <a:lnTo>
                      <a:pt x="373" y="1433"/>
                    </a:lnTo>
                    <a:lnTo>
                      <a:pt x="330" y="1214"/>
                    </a:lnTo>
                    <a:lnTo>
                      <a:pt x="284" y="984"/>
                    </a:lnTo>
                    <a:lnTo>
                      <a:pt x="236" y="752"/>
                    </a:lnTo>
                    <a:lnTo>
                      <a:pt x="186" y="517"/>
                    </a:lnTo>
                    <a:lnTo>
                      <a:pt x="135" y="285"/>
                    </a:lnTo>
                    <a:lnTo>
                      <a:pt x="84" y="60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19" y="76"/>
                    </a:lnTo>
                    <a:lnTo>
                      <a:pt x="70" y="300"/>
                    </a:lnTo>
                    <a:lnTo>
                      <a:pt x="120" y="531"/>
                    </a:lnTo>
                    <a:lnTo>
                      <a:pt x="170" y="765"/>
                    </a:lnTo>
                    <a:lnTo>
                      <a:pt x="218" y="998"/>
                    </a:lnTo>
                    <a:lnTo>
                      <a:pt x="264" y="1226"/>
                    </a:lnTo>
                    <a:lnTo>
                      <a:pt x="307" y="1445"/>
                    </a:lnTo>
                    <a:lnTo>
                      <a:pt x="310" y="1464"/>
                    </a:lnTo>
                    <a:lnTo>
                      <a:pt x="318" y="1464"/>
                    </a:lnTo>
                    <a:lnTo>
                      <a:pt x="328" y="1462"/>
                    </a:lnTo>
                    <a:lnTo>
                      <a:pt x="337" y="1462"/>
                    </a:lnTo>
                    <a:lnTo>
                      <a:pt x="345" y="1461"/>
                    </a:lnTo>
                    <a:lnTo>
                      <a:pt x="354" y="1461"/>
                    </a:lnTo>
                    <a:lnTo>
                      <a:pt x="362" y="1460"/>
                    </a:lnTo>
                    <a:lnTo>
                      <a:pt x="370" y="1460"/>
                    </a:lnTo>
                    <a:lnTo>
                      <a:pt x="378" y="146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6489720" y="3384720"/>
                <a:ext cx="19080" cy="153720"/>
              </a:xfrm>
              <a:custGeom>
                <a:avLst/>
                <a:gdLst/>
                <a:ahLst/>
                <a:rect l="l" t="t" r="r" b="b"/>
                <a:pathLst>
                  <a:path w="56" h="485">
                    <a:moveTo>
                      <a:pt x="56" y="29"/>
                    </a:moveTo>
                    <a:lnTo>
                      <a:pt x="0" y="34"/>
                    </a:lnTo>
                    <a:lnTo>
                      <a:pt x="0" y="485"/>
                    </a:lnTo>
                    <a:lnTo>
                      <a:pt x="7" y="484"/>
                    </a:lnTo>
                    <a:lnTo>
                      <a:pt x="15" y="484"/>
                    </a:lnTo>
                    <a:lnTo>
                      <a:pt x="22" y="484"/>
                    </a:lnTo>
                    <a:lnTo>
                      <a:pt x="29" y="484"/>
                    </a:lnTo>
                    <a:lnTo>
                      <a:pt x="35" y="484"/>
                    </a:lnTo>
                    <a:lnTo>
                      <a:pt x="42" y="483"/>
                    </a:lnTo>
                    <a:lnTo>
                      <a:pt x="49" y="483"/>
                    </a:lnTo>
                    <a:lnTo>
                      <a:pt x="56" y="483"/>
                    </a:lnTo>
                    <a:lnTo>
                      <a:pt x="56" y="29"/>
                    </a:lnTo>
                    <a:close/>
                    <a:moveTo>
                      <a:pt x="56" y="8"/>
                    </a:moveTo>
                    <a:lnTo>
                      <a:pt x="51" y="5"/>
                    </a:lnTo>
                    <a:lnTo>
                      <a:pt x="46" y="3"/>
                    </a:lnTo>
                    <a:lnTo>
                      <a:pt x="40" y="1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22" y="3"/>
                    </a:lnTo>
                    <a:lnTo>
                      <a:pt x="16" y="5"/>
                    </a:lnTo>
                    <a:lnTo>
                      <a:pt x="10" y="9"/>
                    </a:lnTo>
                    <a:lnTo>
                      <a:pt x="6" y="14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0" y="34"/>
                    </a:lnTo>
                    <a:lnTo>
                      <a:pt x="56" y="29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2585880" y="3133800"/>
                <a:ext cx="36720" cy="457200"/>
              </a:xfrm>
              <a:custGeom>
                <a:avLst/>
                <a:gdLst/>
                <a:ahLst/>
                <a:rect l="l" t="t" r="r" b="b"/>
                <a:pathLst>
                  <a:path w="116" h="1440">
                    <a:moveTo>
                      <a:pt x="0" y="0"/>
                    </a:moveTo>
                    <a:lnTo>
                      <a:pt x="11" y="72"/>
                    </a:lnTo>
                    <a:lnTo>
                      <a:pt x="24" y="143"/>
                    </a:lnTo>
                    <a:lnTo>
                      <a:pt x="34" y="214"/>
                    </a:lnTo>
                    <a:lnTo>
                      <a:pt x="44" y="283"/>
                    </a:lnTo>
                    <a:lnTo>
                      <a:pt x="62" y="420"/>
                    </a:lnTo>
                    <a:lnTo>
                      <a:pt x="78" y="553"/>
                    </a:lnTo>
                    <a:lnTo>
                      <a:pt x="91" y="679"/>
                    </a:lnTo>
                    <a:lnTo>
                      <a:pt x="101" y="800"/>
                    </a:lnTo>
                    <a:lnTo>
                      <a:pt x="109" y="913"/>
                    </a:lnTo>
                    <a:lnTo>
                      <a:pt x="114" y="1018"/>
                    </a:lnTo>
                    <a:lnTo>
                      <a:pt x="115" y="1067"/>
                    </a:lnTo>
                    <a:lnTo>
                      <a:pt x="116" y="1114"/>
                    </a:lnTo>
                    <a:lnTo>
                      <a:pt x="116" y="1157"/>
                    </a:lnTo>
                    <a:lnTo>
                      <a:pt x="115" y="1200"/>
                    </a:lnTo>
                    <a:lnTo>
                      <a:pt x="114" y="1237"/>
                    </a:lnTo>
                    <a:lnTo>
                      <a:pt x="113" y="1273"/>
                    </a:lnTo>
                    <a:lnTo>
                      <a:pt x="109" y="1306"/>
                    </a:lnTo>
                    <a:lnTo>
                      <a:pt x="107" y="1335"/>
                    </a:lnTo>
                    <a:lnTo>
                      <a:pt x="102" y="1360"/>
                    </a:lnTo>
                    <a:lnTo>
                      <a:pt x="98" y="1383"/>
                    </a:lnTo>
                    <a:lnTo>
                      <a:pt x="93" y="1403"/>
                    </a:lnTo>
                    <a:lnTo>
                      <a:pt x="87" y="1417"/>
                    </a:lnTo>
                    <a:lnTo>
                      <a:pt x="81" y="1429"/>
                    </a:lnTo>
                    <a:lnTo>
                      <a:pt x="74" y="1437"/>
                    </a:lnTo>
                    <a:lnTo>
                      <a:pt x="66" y="1440"/>
                    </a:lnTo>
                    <a:lnTo>
                      <a:pt x="57" y="1439"/>
                    </a:lnTo>
                    <a:lnTo>
                      <a:pt x="59" y="1440"/>
                    </a:lnTo>
                    <a:lnTo>
                      <a:pt x="59" y="1440"/>
                    </a:lnTo>
                    <a:lnTo>
                      <a:pt x="60" y="1439"/>
                    </a:lnTo>
                    <a:lnTo>
                      <a:pt x="61" y="1436"/>
                    </a:lnTo>
                    <a:lnTo>
                      <a:pt x="61" y="1424"/>
                    </a:lnTo>
                    <a:lnTo>
                      <a:pt x="61" y="1408"/>
                    </a:lnTo>
                    <a:lnTo>
                      <a:pt x="58" y="1362"/>
                    </a:lnTo>
                    <a:lnTo>
                      <a:pt x="52" y="1294"/>
                    </a:lnTo>
                    <a:lnTo>
                      <a:pt x="43" y="1210"/>
                    </a:lnTo>
                    <a:lnTo>
                      <a:pt x="30" y="1111"/>
                    </a:lnTo>
                    <a:lnTo>
                      <a:pt x="16" y="996"/>
                    </a:lnTo>
                    <a:lnTo>
                      <a:pt x="0" y="8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2585880" y="3075120"/>
                <a:ext cx="7920" cy="282600"/>
              </a:xfrm>
              <a:custGeom>
                <a:avLst/>
                <a:gdLst/>
                <a:ahLst/>
                <a:rect l="l" t="t" r="r" b="b"/>
                <a:pathLst>
                  <a:path w="26" h="890">
                    <a:moveTo>
                      <a:pt x="26" y="64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890"/>
                    </a:lnTo>
                    <a:lnTo>
                      <a:pt x="0" y="878"/>
                    </a:lnTo>
                    <a:lnTo>
                      <a:pt x="0" y="52"/>
                    </a:lnTo>
                    <a:lnTo>
                      <a:pt x="26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2585880" y="3090960"/>
                <a:ext cx="52560" cy="506160"/>
              </a:xfrm>
              <a:custGeom>
                <a:avLst/>
                <a:gdLst/>
                <a:ahLst/>
                <a:rect l="l" t="t" r="r" b="b"/>
                <a:pathLst>
                  <a:path w="168" h="1595">
                    <a:moveTo>
                      <a:pt x="109" y="1592"/>
                    </a:moveTo>
                    <a:lnTo>
                      <a:pt x="92" y="1592"/>
                    </a:lnTo>
                    <a:lnTo>
                      <a:pt x="111" y="1595"/>
                    </a:lnTo>
                    <a:lnTo>
                      <a:pt x="117" y="1595"/>
                    </a:lnTo>
                    <a:lnTo>
                      <a:pt x="123" y="1594"/>
                    </a:lnTo>
                    <a:lnTo>
                      <a:pt x="126" y="1591"/>
                    </a:lnTo>
                    <a:lnTo>
                      <a:pt x="131" y="1587"/>
                    </a:lnTo>
                    <a:lnTo>
                      <a:pt x="134" y="1582"/>
                    </a:lnTo>
                    <a:lnTo>
                      <a:pt x="138" y="1576"/>
                    </a:lnTo>
                    <a:lnTo>
                      <a:pt x="141" y="1569"/>
                    </a:lnTo>
                    <a:lnTo>
                      <a:pt x="147" y="1551"/>
                    </a:lnTo>
                    <a:lnTo>
                      <a:pt x="152" y="1530"/>
                    </a:lnTo>
                    <a:lnTo>
                      <a:pt x="157" y="1504"/>
                    </a:lnTo>
                    <a:lnTo>
                      <a:pt x="160" y="1475"/>
                    </a:lnTo>
                    <a:lnTo>
                      <a:pt x="164" y="1442"/>
                    </a:lnTo>
                    <a:lnTo>
                      <a:pt x="166" y="1406"/>
                    </a:lnTo>
                    <a:lnTo>
                      <a:pt x="167" y="1366"/>
                    </a:lnTo>
                    <a:lnTo>
                      <a:pt x="168" y="1323"/>
                    </a:lnTo>
                    <a:lnTo>
                      <a:pt x="168" y="1277"/>
                    </a:lnTo>
                    <a:lnTo>
                      <a:pt x="168" y="1228"/>
                    </a:lnTo>
                    <a:lnTo>
                      <a:pt x="166" y="1177"/>
                    </a:lnTo>
                    <a:lnTo>
                      <a:pt x="165" y="1122"/>
                    </a:lnTo>
                    <a:lnTo>
                      <a:pt x="162" y="1065"/>
                    </a:lnTo>
                    <a:lnTo>
                      <a:pt x="158" y="1005"/>
                    </a:lnTo>
                    <a:lnTo>
                      <a:pt x="154" y="944"/>
                    </a:lnTo>
                    <a:lnTo>
                      <a:pt x="148" y="881"/>
                    </a:lnTo>
                    <a:lnTo>
                      <a:pt x="142" y="815"/>
                    </a:lnTo>
                    <a:lnTo>
                      <a:pt x="135" y="748"/>
                    </a:lnTo>
                    <a:lnTo>
                      <a:pt x="129" y="679"/>
                    </a:lnTo>
                    <a:lnTo>
                      <a:pt x="119" y="609"/>
                    </a:lnTo>
                    <a:lnTo>
                      <a:pt x="110" y="538"/>
                    </a:lnTo>
                    <a:lnTo>
                      <a:pt x="101" y="465"/>
                    </a:lnTo>
                    <a:lnTo>
                      <a:pt x="90" y="390"/>
                    </a:lnTo>
                    <a:lnTo>
                      <a:pt x="79" y="316"/>
                    </a:lnTo>
                    <a:lnTo>
                      <a:pt x="67" y="241"/>
                    </a:lnTo>
                    <a:lnTo>
                      <a:pt x="54" y="165"/>
                    </a:lnTo>
                    <a:lnTo>
                      <a:pt x="40" y="89"/>
                    </a:lnTo>
                    <a:lnTo>
                      <a:pt x="26" y="12"/>
                    </a:lnTo>
                    <a:lnTo>
                      <a:pt x="0" y="0"/>
                    </a:lnTo>
                    <a:lnTo>
                      <a:pt x="0" y="449"/>
                    </a:lnTo>
                    <a:lnTo>
                      <a:pt x="5" y="491"/>
                    </a:lnTo>
                    <a:lnTo>
                      <a:pt x="15" y="563"/>
                    </a:lnTo>
                    <a:lnTo>
                      <a:pt x="22" y="633"/>
                    </a:lnTo>
                    <a:lnTo>
                      <a:pt x="29" y="702"/>
                    </a:lnTo>
                    <a:lnTo>
                      <a:pt x="36" y="769"/>
                    </a:lnTo>
                    <a:lnTo>
                      <a:pt x="43" y="834"/>
                    </a:lnTo>
                    <a:lnTo>
                      <a:pt x="48" y="898"/>
                    </a:lnTo>
                    <a:lnTo>
                      <a:pt x="52" y="959"/>
                    </a:lnTo>
                    <a:lnTo>
                      <a:pt x="56" y="1018"/>
                    </a:lnTo>
                    <a:lnTo>
                      <a:pt x="59" y="1075"/>
                    </a:lnTo>
                    <a:lnTo>
                      <a:pt x="61" y="1130"/>
                    </a:lnTo>
                    <a:lnTo>
                      <a:pt x="62" y="1181"/>
                    </a:lnTo>
                    <a:lnTo>
                      <a:pt x="64" y="1230"/>
                    </a:lnTo>
                    <a:lnTo>
                      <a:pt x="64" y="1277"/>
                    </a:lnTo>
                    <a:lnTo>
                      <a:pt x="62" y="1319"/>
                    </a:lnTo>
                    <a:lnTo>
                      <a:pt x="61" y="1359"/>
                    </a:lnTo>
                    <a:lnTo>
                      <a:pt x="58" y="1396"/>
                    </a:lnTo>
                    <a:lnTo>
                      <a:pt x="56" y="1429"/>
                    </a:lnTo>
                    <a:lnTo>
                      <a:pt x="51" y="1457"/>
                    </a:lnTo>
                    <a:lnTo>
                      <a:pt x="46" y="1483"/>
                    </a:lnTo>
                    <a:lnTo>
                      <a:pt x="42" y="1504"/>
                    </a:lnTo>
                    <a:lnTo>
                      <a:pt x="35" y="1521"/>
                    </a:lnTo>
                    <a:lnTo>
                      <a:pt x="33" y="1529"/>
                    </a:lnTo>
                    <a:lnTo>
                      <a:pt x="29" y="1535"/>
                    </a:lnTo>
                    <a:lnTo>
                      <a:pt x="26" y="1539"/>
                    </a:lnTo>
                    <a:lnTo>
                      <a:pt x="21" y="1543"/>
                    </a:lnTo>
                    <a:lnTo>
                      <a:pt x="18" y="1545"/>
                    </a:lnTo>
                    <a:lnTo>
                      <a:pt x="15" y="1546"/>
                    </a:lnTo>
                    <a:lnTo>
                      <a:pt x="12" y="1547"/>
                    </a:lnTo>
                    <a:lnTo>
                      <a:pt x="22" y="1550"/>
                    </a:lnTo>
                    <a:lnTo>
                      <a:pt x="5" y="1548"/>
                    </a:lnTo>
                    <a:lnTo>
                      <a:pt x="22" y="1550"/>
                    </a:lnTo>
                    <a:lnTo>
                      <a:pt x="1" y="1543"/>
                    </a:lnTo>
                    <a:lnTo>
                      <a:pt x="5" y="1548"/>
                    </a:lnTo>
                    <a:lnTo>
                      <a:pt x="109" y="159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2585880" y="3354480"/>
                <a:ext cx="36720" cy="242640"/>
              </a:xfrm>
              <a:custGeom>
                <a:avLst/>
                <a:gdLst/>
                <a:ahLst/>
                <a:rect l="l" t="t" r="r" b="b"/>
                <a:pathLst>
                  <a:path w="114" h="769">
                    <a:moveTo>
                      <a:pt x="0" y="583"/>
                    </a:moveTo>
                    <a:lnTo>
                      <a:pt x="2" y="612"/>
                    </a:lnTo>
                    <a:lnTo>
                      <a:pt x="8" y="677"/>
                    </a:lnTo>
                    <a:lnTo>
                      <a:pt x="9" y="698"/>
                    </a:lnTo>
                    <a:lnTo>
                      <a:pt x="9" y="714"/>
                    </a:lnTo>
                    <a:lnTo>
                      <a:pt x="8" y="719"/>
                    </a:lnTo>
                    <a:lnTo>
                      <a:pt x="7" y="721"/>
                    </a:lnTo>
                    <a:lnTo>
                      <a:pt x="13" y="721"/>
                    </a:lnTo>
                    <a:lnTo>
                      <a:pt x="109" y="766"/>
                    </a:lnTo>
                    <a:lnTo>
                      <a:pt x="5" y="722"/>
                    </a:lnTo>
                    <a:lnTo>
                      <a:pt x="103" y="769"/>
                    </a:lnTo>
                    <a:lnTo>
                      <a:pt x="113" y="768"/>
                    </a:lnTo>
                    <a:lnTo>
                      <a:pt x="114" y="766"/>
                    </a:lnTo>
                    <a:lnTo>
                      <a:pt x="114" y="760"/>
                    </a:lnTo>
                    <a:lnTo>
                      <a:pt x="114" y="745"/>
                    </a:lnTo>
                    <a:lnTo>
                      <a:pt x="113" y="722"/>
                    </a:lnTo>
                    <a:lnTo>
                      <a:pt x="108" y="657"/>
                    </a:lnTo>
                    <a:lnTo>
                      <a:pt x="99" y="567"/>
                    </a:lnTo>
                    <a:lnTo>
                      <a:pt x="85" y="454"/>
                    </a:lnTo>
                    <a:lnTo>
                      <a:pt x="68" y="323"/>
                    </a:lnTo>
                    <a:lnTo>
                      <a:pt x="49" y="174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0" y="0"/>
                    </a:lnTo>
                    <a:lnTo>
                      <a:pt x="0" y="58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606760" y="3075120"/>
                <a:ext cx="95040" cy="527040"/>
              </a:xfrm>
              <a:custGeom>
                <a:avLst/>
                <a:gdLst/>
                <a:ahLst/>
                <a:rect l="l" t="t" r="r" b="b"/>
                <a:pathLst>
                  <a:path w="301" h="1662">
                    <a:moveTo>
                      <a:pt x="122" y="0"/>
                    </a:moveTo>
                    <a:lnTo>
                      <a:pt x="148" y="129"/>
                    </a:lnTo>
                    <a:lnTo>
                      <a:pt x="173" y="258"/>
                    </a:lnTo>
                    <a:lnTo>
                      <a:pt x="196" y="385"/>
                    </a:lnTo>
                    <a:lnTo>
                      <a:pt x="216" y="512"/>
                    </a:lnTo>
                    <a:lnTo>
                      <a:pt x="235" y="636"/>
                    </a:lnTo>
                    <a:lnTo>
                      <a:pt x="250" y="758"/>
                    </a:lnTo>
                    <a:lnTo>
                      <a:pt x="264" y="876"/>
                    </a:lnTo>
                    <a:lnTo>
                      <a:pt x="276" y="990"/>
                    </a:lnTo>
                    <a:lnTo>
                      <a:pt x="285" y="1098"/>
                    </a:lnTo>
                    <a:lnTo>
                      <a:pt x="292" y="1201"/>
                    </a:lnTo>
                    <a:lnTo>
                      <a:pt x="297" y="1298"/>
                    </a:lnTo>
                    <a:lnTo>
                      <a:pt x="301" y="1388"/>
                    </a:lnTo>
                    <a:lnTo>
                      <a:pt x="301" y="1469"/>
                    </a:lnTo>
                    <a:lnTo>
                      <a:pt x="299" y="1543"/>
                    </a:lnTo>
                    <a:lnTo>
                      <a:pt x="298" y="1576"/>
                    </a:lnTo>
                    <a:lnTo>
                      <a:pt x="296" y="1607"/>
                    </a:lnTo>
                    <a:lnTo>
                      <a:pt x="294" y="1636"/>
                    </a:lnTo>
                    <a:lnTo>
                      <a:pt x="290" y="1662"/>
                    </a:lnTo>
                    <a:lnTo>
                      <a:pt x="285" y="1662"/>
                    </a:lnTo>
                    <a:lnTo>
                      <a:pt x="278" y="1662"/>
                    </a:lnTo>
                    <a:lnTo>
                      <a:pt x="272" y="1662"/>
                    </a:lnTo>
                    <a:lnTo>
                      <a:pt x="265" y="1662"/>
                    </a:lnTo>
                    <a:lnTo>
                      <a:pt x="260" y="1662"/>
                    </a:lnTo>
                    <a:lnTo>
                      <a:pt x="253" y="1662"/>
                    </a:lnTo>
                    <a:lnTo>
                      <a:pt x="246" y="1662"/>
                    </a:lnTo>
                    <a:lnTo>
                      <a:pt x="240" y="1662"/>
                    </a:lnTo>
                    <a:lnTo>
                      <a:pt x="235" y="1607"/>
                    </a:lnTo>
                    <a:lnTo>
                      <a:pt x="228" y="1541"/>
                    </a:lnTo>
                    <a:lnTo>
                      <a:pt x="219" y="1466"/>
                    </a:lnTo>
                    <a:lnTo>
                      <a:pt x="208" y="1381"/>
                    </a:lnTo>
                    <a:lnTo>
                      <a:pt x="184" y="1192"/>
                    </a:lnTo>
                    <a:lnTo>
                      <a:pt x="155" y="978"/>
                    </a:lnTo>
                    <a:lnTo>
                      <a:pt x="121" y="745"/>
                    </a:lnTo>
                    <a:lnTo>
                      <a:pt x="83" y="499"/>
                    </a:lnTo>
                    <a:lnTo>
                      <a:pt x="42" y="250"/>
                    </a:lnTo>
                    <a:lnTo>
                      <a:pt x="0" y="0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2629080" y="3075120"/>
                <a:ext cx="88560" cy="527040"/>
              </a:xfrm>
              <a:custGeom>
                <a:avLst/>
                <a:gdLst/>
                <a:ahLst/>
                <a:rect l="l" t="t" r="r" b="b"/>
                <a:pathLst>
                  <a:path w="280" h="1662">
                    <a:moveTo>
                      <a:pt x="273" y="1661"/>
                    </a:moveTo>
                    <a:lnTo>
                      <a:pt x="273" y="1659"/>
                    </a:lnTo>
                    <a:lnTo>
                      <a:pt x="278" y="1611"/>
                    </a:lnTo>
                    <a:lnTo>
                      <a:pt x="280" y="1555"/>
                    </a:lnTo>
                    <a:lnTo>
                      <a:pt x="280" y="1493"/>
                    </a:lnTo>
                    <a:lnTo>
                      <a:pt x="280" y="1426"/>
                    </a:lnTo>
                    <a:lnTo>
                      <a:pt x="278" y="1353"/>
                    </a:lnTo>
                    <a:lnTo>
                      <a:pt x="274" y="1275"/>
                    </a:lnTo>
                    <a:lnTo>
                      <a:pt x="270" y="1192"/>
                    </a:lnTo>
                    <a:lnTo>
                      <a:pt x="263" y="1105"/>
                    </a:lnTo>
                    <a:lnTo>
                      <a:pt x="255" y="1015"/>
                    </a:lnTo>
                    <a:lnTo>
                      <a:pt x="246" y="922"/>
                    </a:lnTo>
                    <a:lnTo>
                      <a:pt x="234" y="825"/>
                    </a:lnTo>
                    <a:lnTo>
                      <a:pt x="222" y="724"/>
                    </a:lnTo>
                    <a:lnTo>
                      <a:pt x="208" y="623"/>
                    </a:lnTo>
                    <a:lnTo>
                      <a:pt x="193" y="519"/>
                    </a:lnTo>
                    <a:lnTo>
                      <a:pt x="176" y="414"/>
                    </a:lnTo>
                    <a:lnTo>
                      <a:pt x="158" y="308"/>
                    </a:lnTo>
                    <a:lnTo>
                      <a:pt x="138" y="202"/>
                    </a:lnTo>
                    <a:lnTo>
                      <a:pt x="116" y="94"/>
                    </a:lnTo>
                    <a:lnTo>
                      <a:pt x="95" y="0"/>
                    </a:lnTo>
                    <a:lnTo>
                      <a:pt x="0" y="0"/>
                    </a:lnTo>
                    <a:lnTo>
                      <a:pt x="10" y="48"/>
                    </a:lnTo>
                    <a:lnTo>
                      <a:pt x="32" y="155"/>
                    </a:lnTo>
                    <a:lnTo>
                      <a:pt x="52" y="262"/>
                    </a:lnTo>
                    <a:lnTo>
                      <a:pt x="70" y="368"/>
                    </a:lnTo>
                    <a:lnTo>
                      <a:pt x="87" y="473"/>
                    </a:lnTo>
                    <a:lnTo>
                      <a:pt x="102" y="577"/>
                    </a:lnTo>
                    <a:lnTo>
                      <a:pt x="117" y="679"/>
                    </a:lnTo>
                    <a:lnTo>
                      <a:pt x="130" y="778"/>
                    </a:lnTo>
                    <a:lnTo>
                      <a:pt x="140" y="875"/>
                    </a:lnTo>
                    <a:lnTo>
                      <a:pt x="149" y="968"/>
                    </a:lnTo>
                    <a:lnTo>
                      <a:pt x="158" y="1060"/>
                    </a:lnTo>
                    <a:lnTo>
                      <a:pt x="164" y="1146"/>
                    </a:lnTo>
                    <a:lnTo>
                      <a:pt x="169" y="1229"/>
                    </a:lnTo>
                    <a:lnTo>
                      <a:pt x="173" y="1306"/>
                    </a:lnTo>
                    <a:lnTo>
                      <a:pt x="174" y="1379"/>
                    </a:lnTo>
                    <a:lnTo>
                      <a:pt x="175" y="1446"/>
                    </a:lnTo>
                    <a:lnTo>
                      <a:pt x="174" y="1508"/>
                    </a:lnTo>
                    <a:lnTo>
                      <a:pt x="172" y="1564"/>
                    </a:lnTo>
                    <a:lnTo>
                      <a:pt x="168" y="1612"/>
                    </a:lnTo>
                    <a:lnTo>
                      <a:pt x="165" y="1635"/>
                    </a:lnTo>
                    <a:lnTo>
                      <a:pt x="163" y="1654"/>
                    </a:lnTo>
                    <a:lnTo>
                      <a:pt x="162" y="1662"/>
                    </a:lnTo>
                    <a:lnTo>
                      <a:pt x="175" y="1662"/>
                    </a:lnTo>
                    <a:lnTo>
                      <a:pt x="189" y="1662"/>
                    </a:lnTo>
                    <a:lnTo>
                      <a:pt x="204" y="1662"/>
                    </a:lnTo>
                    <a:lnTo>
                      <a:pt x="217" y="1662"/>
                    </a:lnTo>
                    <a:lnTo>
                      <a:pt x="231" y="1662"/>
                    </a:lnTo>
                    <a:lnTo>
                      <a:pt x="245" y="1662"/>
                    </a:lnTo>
                    <a:lnTo>
                      <a:pt x="260" y="1661"/>
                    </a:lnTo>
                    <a:lnTo>
                      <a:pt x="273" y="166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2590920" y="3075120"/>
                <a:ext cx="108000" cy="527040"/>
              </a:xfrm>
              <a:custGeom>
                <a:avLst/>
                <a:gdLst/>
                <a:ahLst/>
                <a:rect l="l" t="t" r="r" b="b"/>
                <a:pathLst>
                  <a:path w="339" h="1662">
                    <a:moveTo>
                      <a:pt x="0" y="0"/>
                    </a:moveTo>
                    <a:lnTo>
                      <a:pt x="5" y="35"/>
                    </a:lnTo>
                    <a:lnTo>
                      <a:pt x="38" y="227"/>
                    </a:lnTo>
                    <a:lnTo>
                      <a:pt x="69" y="420"/>
                    </a:lnTo>
                    <a:lnTo>
                      <a:pt x="99" y="609"/>
                    </a:lnTo>
                    <a:lnTo>
                      <a:pt x="127" y="794"/>
                    </a:lnTo>
                    <a:lnTo>
                      <a:pt x="152" y="970"/>
                    </a:lnTo>
                    <a:lnTo>
                      <a:pt x="175" y="1136"/>
                    </a:lnTo>
                    <a:lnTo>
                      <a:pt x="196" y="1287"/>
                    </a:lnTo>
                    <a:lnTo>
                      <a:pt x="213" y="1422"/>
                    </a:lnTo>
                    <a:lnTo>
                      <a:pt x="225" y="1538"/>
                    </a:lnTo>
                    <a:lnTo>
                      <a:pt x="236" y="1630"/>
                    </a:lnTo>
                    <a:lnTo>
                      <a:pt x="238" y="1662"/>
                    </a:lnTo>
                    <a:lnTo>
                      <a:pt x="250" y="1662"/>
                    </a:lnTo>
                    <a:lnTo>
                      <a:pt x="263" y="1662"/>
                    </a:lnTo>
                    <a:lnTo>
                      <a:pt x="276" y="1662"/>
                    </a:lnTo>
                    <a:lnTo>
                      <a:pt x="289" y="1662"/>
                    </a:lnTo>
                    <a:lnTo>
                      <a:pt x="302" y="1662"/>
                    </a:lnTo>
                    <a:lnTo>
                      <a:pt x="314" y="1662"/>
                    </a:lnTo>
                    <a:lnTo>
                      <a:pt x="327" y="1662"/>
                    </a:lnTo>
                    <a:lnTo>
                      <a:pt x="339" y="1662"/>
                    </a:lnTo>
                    <a:lnTo>
                      <a:pt x="331" y="1583"/>
                    </a:lnTo>
                    <a:lnTo>
                      <a:pt x="318" y="1468"/>
                    </a:lnTo>
                    <a:lnTo>
                      <a:pt x="302" y="1333"/>
                    </a:lnTo>
                    <a:lnTo>
                      <a:pt x="281" y="1182"/>
                    </a:lnTo>
                    <a:lnTo>
                      <a:pt x="258" y="1016"/>
                    </a:lnTo>
                    <a:lnTo>
                      <a:pt x="232" y="839"/>
                    </a:lnTo>
                    <a:lnTo>
                      <a:pt x="205" y="656"/>
                    </a:lnTo>
                    <a:lnTo>
                      <a:pt x="175" y="465"/>
                    </a:lnTo>
                    <a:lnTo>
                      <a:pt x="144" y="274"/>
                    </a:lnTo>
                    <a:lnTo>
                      <a:pt x="111" y="82"/>
                    </a:lnTo>
                    <a:lnTo>
                      <a:pt x="9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4280040" y="3075120"/>
                <a:ext cx="247680" cy="480960"/>
              </a:xfrm>
              <a:custGeom>
                <a:avLst/>
                <a:gdLst/>
                <a:ahLst/>
                <a:rect l="l" t="t" r="r" b="b"/>
                <a:pathLst>
                  <a:path w="781" h="1517">
                    <a:moveTo>
                      <a:pt x="659" y="0"/>
                    </a:moveTo>
                    <a:lnTo>
                      <a:pt x="629" y="47"/>
                    </a:lnTo>
                    <a:lnTo>
                      <a:pt x="601" y="94"/>
                    </a:lnTo>
                    <a:lnTo>
                      <a:pt x="573" y="144"/>
                    </a:lnTo>
                    <a:lnTo>
                      <a:pt x="546" y="191"/>
                    </a:lnTo>
                    <a:lnTo>
                      <a:pt x="491" y="291"/>
                    </a:lnTo>
                    <a:lnTo>
                      <a:pt x="440" y="391"/>
                    </a:lnTo>
                    <a:lnTo>
                      <a:pt x="389" y="493"/>
                    </a:lnTo>
                    <a:lnTo>
                      <a:pt x="341" y="594"/>
                    </a:lnTo>
                    <a:lnTo>
                      <a:pt x="295" y="695"/>
                    </a:lnTo>
                    <a:lnTo>
                      <a:pt x="251" y="795"/>
                    </a:lnTo>
                    <a:lnTo>
                      <a:pt x="210" y="894"/>
                    </a:lnTo>
                    <a:lnTo>
                      <a:pt x="171" y="991"/>
                    </a:lnTo>
                    <a:lnTo>
                      <a:pt x="135" y="1086"/>
                    </a:lnTo>
                    <a:lnTo>
                      <a:pt x="101" y="1177"/>
                    </a:lnTo>
                    <a:lnTo>
                      <a:pt x="72" y="1265"/>
                    </a:lnTo>
                    <a:lnTo>
                      <a:pt x="44" y="1349"/>
                    </a:lnTo>
                    <a:lnTo>
                      <a:pt x="21" y="1428"/>
                    </a:lnTo>
                    <a:lnTo>
                      <a:pt x="0" y="1502"/>
                    </a:lnTo>
                    <a:lnTo>
                      <a:pt x="11" y="1505"/>
                    </a:lnTo>
                    <a:lnTo>
                      <a:pt x="23" y="1506"/>
                    </a:lnTo>
                    <a:lnTo>
                      <a:pt x="34" y="1508"/>
                    </a:lnTo>
                    <a:lnTo>
                      <a:pt x="46" y="1509"/>
                    </a:lnTo>
                    <a:lnTo>
                      <a:pt x="57" y="1511"/>
                    </a:lnTo>
                    <a:lnTo>
                      <a:pt x="68" y="1514"/>
                    </a:lnTo>
                    <a:lnTo>
                      <a:pt x="80" y="1515"/>
                    </a:lnTo>
                    <a:lnTo>
                      <a:pt x="91" y="1517"/>
                    </a:lnTo>
                    <a:lnTo>
                      <a:pt x="156" y="1361"/>
                    </a:lnTo>
                    <a:lnTo>
                      <a:pt x="230" y="1186"/>
                    </a:lnTo>
                    <a:lnTo>
                      <a:pt x="314" y="996"/>
                    </a:lnTo>
                    <a:lnTo>
                      <a:pt x="402" y="796"/>
                    </a:lnTo>
                    <a:lnTo>
                      <a:pt x="496" y="592"/>
                    </a:lnTo>
                    <a:lnTo>
                      <a:pt x="592" y="388"/>
                    </a:lnTo>
                    <a:lnTo>
                      <a:pt x="640" y="287"/>
                    </a:lnTo>
                    <a:lnTo>
                      <a:pt x="687" y="189"/>
                    </a:lnTo>
                    <a:lnTo>
                      <a:pt x="734" y="92"/>
                    </a:lnTo>
                    <a:lnTo>
                      <a:pt x="781" y="0"/>
                    </a:lnTo>
                    <a:lnTo>
                      <a:pt x="65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4264200" y="3075120"/>
                <a:ext cx="245880" cy="479160"/>
              </a:xfrm>
              <a:custGeom>
                <a:avLst/>
                <a:gdLst/>
                <a:ahLst/>
                <a:rect l="l" t="t" r="r" b="b"/>
                <a:pathLst>
                  <a:path w="775" h="1510">
                    <a:moveTo>
                      <a:pt x="99" y="1510"/>
                    </a:moveTo>
                    <a:lnTo>
                      <a:pt x="109" y="1475"/>
                    </a:lnTo>
                    <a:lnTo>
                      <a:pt x="133" y="1394"/>
                    </a:lnTo>
                    <a:lnTo>
                      <a:pt x="162" y="1307"/>
                    </a:lnTo>
                    <a:lnTo>
                      <a:pt x="194" y="1216"/>
                    </a:lnTo>
                    <a:lnTo>
                      <a:pt x="228" y="1121"/>
                    </a:lnTo>
                    <a:lnTo>
                      <a:pt x="265" y="1023"/>
                    </a:lnTo>
                    <a:lnTo>
                      <a:pt x="305" y="923"/>
                    </a:lnTo>
                    <a:lnTo>
                      <a:pt x="349" y="820"/>
                    </a:lnTo>
                    <a:lnTo>
                      <a:pt x="394" y="716"/>
                    </a:lnTo>
                    <a:lnTo>
                      <a:pt x="442" y="611"/>
                    </a:lnTo>
                    <a:lnTo>
                      <a:pt x="492" y="507"/>
                    </a:lnTo>
                    <a:lnTo>
                      <a:pt x="546" y="403"/>
                    </a:lnTo>
                    <a:lnTo>
                      <a:pt x="572" y="351"/>
                    </a:lnTo>
                    <a:lnTo>
                      <a:pt x="600" y="299"/>
                    </a:lnTo>
                    <a:lnTo>
                      <a:pt x="628" y="248"/>
                    </a:lnTo>
                    <a:lnTo>
                      <a:pt x="657" y="197"/>
                    </a:lnTo>
                    <a:lnTo>
                      <a:pt x="685" y="147"/>
                    </a:lnTo>
                    <a:lnTo>
                      <a:pt x="715" y="98"/>
                    </a:lnTo>
                    <a:lnTo>
                      <a:pt x="744" y="49"/>
                    </a:lnTo>
                    <a:lnTo>
                      <a:pt x="774" y="1"/>
                    </a:lnTo>
                    <a:lnTo>
                      <a:pt x="775" y="0"/>
                    </a:lnTo>
                    <a:lnTo>
                      <a:pt x="643" y="0"/>
                    </a:lnTo>
                    <a:lnTo>
                      <a:pt x="633" y="17"/>
                    </a:lnTo>
                    <a:lnTo>
                      <a:pt x="603" y="66"/>
                    </a:lnTo>
                    <a:lnTo>
                      <a:pt x="574" y="116"/>
                    </a:lnTo>
                    <a:lnTo>
                      <a:pt x="546" y="166"/>
                    </a:lnTo>
                    <a:lnTo>
                      <a:pt x="517" y="218"/>
                    </a:lnTo>
                    <a:lnTo>
                      <a:pt x="490" y="269"/>
                    </a:lnTo>
                    <a:lnTo>
                      <a:pt x="464" y="322"/>
                    </a:lnTo>
                    <a:lnTo>
                      <a:pt x="411" y="425"/>
                    </a:lnTo>
                    <a:lnTo>
                      <a:pt x="360" y="530"/>
                    </a:lnTo>
                    <a:lnTo>
                      <a:pt x="312" y="635"/>
                    </a:lnTo>
                    <a:lnTo>
                      <a:pt x="267" y="739"/>
                    </a:lnTo>
                    <a:lnTo>
                      <a:pt x="223" y="842"/>
                    </a:lnTo>
                    <a:lnTo>
                      <a:pt x="183" y="942"/>
                    </a:lnTo>
                    <a:lnTo>
                      <a:pt x="146" y="1040"/>
                    </a:lnTo>
                    <a:lnTo>
                      <a:pt x="112" y="1135"/>
                    </a:lnTo>
                    <a:lnTo>
                      <a:pt x="80" y="1226"/>
                    </a:lnTo>
                    <a:lnTo>
                      <a:pt x="51" y="1313"/>
                    </a:lnTo>
                    <a:lnTo>
                      <a:pt x="27" y="1394"/>
                    </a:lnTo>
                    <a:lnTo>
                      <a:pt x="7" y="1470"/>
                    </a:lnTo>
                    <a:lnTo>
                      <a:pt x="0" y="1493"/>
                    </a:lnTo>
                    <a:lnTo>
                      <a:pt x="7" y="1494"/>
                    </a:lnTo>
                    <a:lnTo>
                      <a:pt x="12" y="1494"/>
                    </a:lnTo>
                    <a:lnTo>
                      <a:pt x="18" y="1495"/>
                    </a:lnTo>
                    <a:lnTo>
                      <a:pt x="24" y="1497"/>
                    </a:lnTo>
                    <a:lnTo>
                      <a:pt x="30" y="1498"/>
                    </a:lnTo>
                    <a:lnTo>
                      <a:pt x="35" y="1499"/>
                    </a:lnTo>
                    <a:lnTo>
                      <a:pt x="41" y="1500"/>
                    </a:lnTo>
                    <a:lnTo>
                      <a:pt x="48" y="1501"/>
                    </a:lnTo>
                    <a:lnTo>
                      <a:pt x="53" y="1502"/>
                    </a:lnTo>
                    <a:lnTo>
                      <a:pt x="60" y="1503"/>
                    </a:lnTo>
                    <a:lnTo>
                      <a:pt x="67" y="1505"/>
                    </a:lnTo>
                    <a:lnTo>
                      <a:pt x="74" y="1506"/>
                    </a:lnTo>
                    <a:lnTo>
                      <a:pt x="80" y="1507"/>
                    </a:lnTo>
                    <a:lnTo>
                      <a:pt x="87" y="1508"/>
                    </a:lnTo>
                    <a:lnTo>
                      <a:pt x="93" y="1509"/>
                    </a:lnTo>
                    <a:lnTo>
                      <a:pt x="99" y="151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4292640" y="3075120"/>
                <a:ext cx="253800" cy="484200"/>
              </a:xfrm>
              <a:custGeom>
                <a:avLst/>
                <a:gdLst/>
                <a:ahLst/>
                <a:rect l="l" t="t" r="r" b="b"/>
                <a:pathLst>
                  <a:path w="804" h="1524">
                    <a:moveTo>
                      <a:pt x="681" y="0"/>
                    </a:moveTo>
                    <a:lnTo>
                      <a:pt x="678" y="8"/>
                    </a:lnTo>
                    <a:lnTo>
                      <a:pt x="624" y="115"/>
                    </a:lnTo>
                    <a:lnTo>
                      <a:pt x="570" y="227"/>
                    </a:lnTo>
                    <a:lnTo>
                      <a:pt x="515" y="341"/>
                    </a:lnTo>
                    <a:lnTo>
                      <a:pt x="460" y="457"/>
                    </a:lnTo>
                    <a:lnTo>
                      <a:pt x="405" y="575"/>
                    </a:lnTo>
                    <a:lnTo>
                      <a:pt x="352" y="691"/>
                    </a:lnTo>
                    <a:lnTo>
                      <a:pt x="301" y="808"/>
                    </a:lnTo>
                    <a:lnTo>
                      <a:pt x="249" y="920"/>
                    </a:lnTo>
                    <a:lnTo>
                      <a:pt x="200" y="1032"/>
                    </a:lnTo>
                    <a:lnTo>
                      <a:pt x="154" y="1140"/>
                    </a:lnTo>
                    <a:lnTo>
                      <a:pt x="110" y="1241"/>
                    </a:lnTo>
                    <a:lnTo>
                      <a:pt x="69" y="1338"/>
                    </a:lnTo>
                    <a:lnTo>
                      <a:pt x="32" y="1428"/>
                    </a:lnTo>
                    <a:lnTo>
                      <a:pt x="0" y="1508"/>
                    </a:lnTo>
                    <a:lnTo>
                      <a:pt x="13" y="1510"/>
                    </a:lnTo>
                    <a:lnTo>
                      <a:pt x="27" y="1513"/>
                    </a:lnTo>
                    <a:lnTo>
                      <a:pt x="41" y="1515"/>
                    </a:lnTo>
                    <a:lnTo>
                      <a:pt x="54" y="1517"/>
                    </a:lnTo>
                    <a:lnTo>
                      <a:pt x="68" y="1518"/>
                    </a:lnTo>
                    <a:lnTo>
                      <a:pt x="81" y="1521"/>
                    </a:lnTo>
                    <a:lnTo>
                      <a:pt x="94" y="1523"/>
                    </a:lnTo>
                    <a:lnTo>
                      <a:pt x="108" y="1524"/>
                    </a:lnTo>
                    <a:lnTo>
                      <a:pt x="114" y="1509"/>
                    </a:lnTo>
                    <a:lnTo>
                      <a:pt x="151" y="1419"/>
                    </a:lnTo>
                    <a:lnTo>
                      <a:pt x="192" y="1323"/>
                    </a:lnTo>
                    <a:lnTo>
                      <a:pt x="236" y="1221"/>
                    </a:lnTo>
                    <a:lnTo>
                      <a:pt x="282" y="1113"/>
                    </a:lnTo>
                    <a:lnTo>
                      <a:pt x="331" y="1003"/>
                    </a:lnTo>
                    <a:lnTo>
                      <a:pt x="382" y="889"/>
                    </a:lnTo>
                    <a:lnTo>
                      <a:pt x="434" y="772"/>
                    </a:lnTo>
                    <a:lnTo>
                      <a:pt x="488" y="656"/>
                    </a:lnTo>
                    <a:lnTo>
                      <a:pt x="542" y="538"/>
                    </a:lnTo>
                    <a:lnTo>
                      <a:pt x="597" y="423"/>
                    </a:lnTo>
                    <a:lnTo>
                      <a:pt x="652" y="308"/>
                    </a:lnTo>
                    <a:lnTo>
                      <a:pt x="705" y="197"/>
                    </a:lnTo>
                    <a:lnTo>
                      <a:pt x="759" y="89"/>
                    </a:lnTo>
                    <a:lnTo>
                      <a:pt x="804" y="0"/>
                    </a:lnTo>
                    <a:lnTo>
                      <a:pt x="68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>
                <a:off x="4365720" y="3075120"/>
                <a:ext cx="249120" cy="492120"/>
              </a:xfrm>
              <a:custGeom>
                <a:avLst/>
                <a:gdLst/>
                <a:ahLst/>
                <a:rect l="l" t="t" r="r" b="b"/>
                <a:pathLst>
                  <a:path w="784" h="1550">
                    <a:moveTo>
                      <a:pt x="657" y="0"/>
                    </a:moveTo>
                    <a:lnTo>
                      <a:pt x="627" y="50"/>
                    </a:lnTo>
                    <a:lnTo>
                      <a:pt x="599" y="100"/>
                    </a:lnTo>
                    <a:lnTo>
                      <a:pt x="569" y="150"/>
                    </a:lnTo>
                    <a:lnTo>
                      <a:pt x="541" y="202"/>
                    </a:lnTo>
                    <a:lnTo>
                      <a:pt x="513" y="254"/>
                    </a:lnTo>
                    <a:lnTo>
                      <a:pt x="486" y="306"/>
                    </a:lnTo>
                    <a:lnTo>
                      <a:pt x="459" y="358"/>
                    </a:lnTo>
                    <a:lnTo>
                      <a:pt x="432" y="412"/>
                    </a:lnTo>
                    <a:lnTo>
                      <a:pt x="381" y="517"/>
                    </a:lnTo>
                    <a:lnTo>
                      <a:pt x="332" y="623"/>
                    </a:lnTo>
                    <a:lnTo>
                      <a:pt x="285" y="728"/>
                    </a:lnTo>
                    <a:lnTo>
                      <a:pt x="241" y="831"/>
                    </a:lnTo>
                    <a:lnTo>
                      <a:pt x="200" y="933"/>
                    </a:lnTo>
                    <a:lnTo>
                      <a:pt x="161" y="1032"/>
                    </a:lnTo>
                    <a:lnTo>
                      <a:pt x="126" y="1129"/>
                    </a:lnTo>
                    <a:lnTo>
                      <a:pt x="94" y="1222"/>
                    </a:lnTo>
                    <a:lnTo>
                      <a:pt x="65" y="1310"/>
                    </a:lnTo>
                    <a:lnTo>
                      <a:pt x="40" y="1393"/>
                    </a:lnTo>
                    <a:lnTo>
                      <a:pt x="19" y="1469"/>
                    </a:lnTo>
                    <a:lnTo>
                      <a:pt x="0" y="1541"/>
                    </a:lnTo>
                    <a:lnTo>
                      <a:pt x="11" y="1542"/>
                    </a:lnTo>
                    <a:lnTo>
                      <a:pt x="22" y="1543"/>
                    </a:lnTo>
                    <a:lnTo>
                      <a:pt x="32" y="1545"/>
                    </a:lnTo>
                    <a:lnTo>
                      <a:pt x="43" y="1546"/>
                    </a:lnTo>
                    <a:lnTo>
                      <a:pt x="53" y="1547"/>
                    </a:lnTo>
                    <a:lnTo>
                      <a:pt x="63" y="1548"/>
                    </a:lnTo>
                    <a:lnTo>
                      <a:pt x="73" y="1549"/>
                    </a:lnTo>
                    <a:lnTo>
                      <a:pt x="84" y="1550"/>
                    </a:lnTo>
                    <a:lnTo>
                      <a:pt x="145" y="1400"/>
                    </a:lnTo>
                    <a:lnTo>
                      <a:pt x="218" y="1225"/>
                    </a:lnTo>
                    <a:lnTo>
                      <a:pt x="301" y="1033"/>
                    </a:lnTo>
                    <a:lnTo>
                      <a:pt x="391" y="829"/>
                    </a:lnTo>
                    <a:lnTo>
                      <a:pt x="439" y="724"/>
                    </a:lnTo>
                    <a:lnTo>
                      <a:pt x="487" y="618"/>
                    </a:lnTo>
                    <a:lnTo>
                      <a:pt x="536" y="512"/>
                    </a:lnTo>
                    <a:lnTo>
                      <a:pt x="586" y="406"/>
                    </a:lnTo>
                    <a:lnTo>
                      <a:pt x="635" y="301"/>
                    </a:lnTo>
                    <a:lnTo>
                      <a:pt x="685" y="198"/>
                    </a:lnTo>
                    <a:lnTo>
                      <a:pt x="735" y="98"/>
                    </a:lnTo>
                    <a:lnTo>
                      <a:pt x="784" y="0"/>
                    </a:lnTo>
                    <a:lnTo>
                      <a:pt x="65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4349880" y="3075120"/>
                <a:ext cx="245880" cy="490320"/>
              </a:xfrm>
              <a:custGeom>
                <a:avLst/>
                <a:gdLst/>
                <a:ahLst/>
                <a:rect l="l" t="t" r="r" b="b"/>
                <a:pathLst>
                  <a:path w="772" h="1546">
                    <a:moveTo>
                      <a:pt x="100" y="1546"/>
                    </a:moveTo>
                    <a:lnTo>
                      <a:pt x="106" y="1519"/>
                    </a:lnTo>
                    <a:lnTo>
                      <a:pt x="127" y="1444"/>
                    </a:lnTo>
                    <a:lnTo>
                      <a:pt x="151" y="1362"/>
                    </a:lnTo>
                    <a:lnTo>
                      <a:pt x="179" y="1275"/>
                    </a:lnTo>
                    <a:lnTo>
                      <a:pt x="210" y="1185"/>
                    </a:lnTo>
                    <a:lnTo>
                      <a:pt x="245" y="1090"/>
                    </a:lnTo>
                    <a:lnTo>
                      <a:pt x="283" y="992"/>
                    </a:lnTo>
                    <a:lnTo>
                      <a:pt x="323" y="892"/>
                    </a:lnTo>
                    <a:lnTo>
                      <a:pt x="366" y="789"/>
                    </a:lnTo>
                    <a:lnTo>
                      <a:pt x="412" y="685"/>
                    </a:lnTo>
                    <a:lnTo>
                      <a:pt x="460" y="580"/>
                    </a:lnTo>
                    <a:lnTo>
                      <a:pt x="510" y="476"/>
                    </a:lnTo>
                    <a:lnTo>
                      <a:pt x="563" y="372"/>
                    </a:lnTo>
                    <a:lnTo>
                      <a:pt x="590" y="319"/>
                    </a:lnTo>
                    <a:lnTo>
                      <a:pt x="617" y="268"/>
                    </a:lnTo>
                    <a:lnTo>
                      <a:pt x="646" y="217"/>
                    </a:lnTo>
                    <a:lnTo>
                      <a:pt x="674" y="166"/>
                    </a:lnTo>
                    <a:lnTo>
                      <a:pt x="703" y="116"/>
                    </a:lnTo>
                    <a:lnTo>
                      <a:pt x="732" y="66"/>
                    </a:lnTo>
                    <a:lnTo>
                      <a:pt x="762" y="18"/>
                    </a:lnTo>
                    <a:lnTo>
                      <a:pt x="772" y="0"/>
                    </a:lnTo>
                    <a:lnTo>
                      <a:pt x="641" y="0"/>
                    </a:lnTo>
                    <a:lnTo>
                      <a:pt x="620" y="35"/>
                    </a:lnTo>
                    <a:lnTo>
                      <a:pt x="592" y="84"/>
                    </a:lnTo>
                    <a:lnTo>
                      <a:pt x="563" y="136"/>
                    </a:lnTo>
                    <a:lnTo>
                      <a:pt x="535" y="187"/>
                    </a:lnTo>
                    <a:lnTo>
                      <a:pt x="508" y="238"/>
                    </a:lnTo>
                    <a:lnTo>
                      <a:pt x="481" y="290"/>
                    </a:lnTo>
                    <a:lnTo>
                      <a:pt x="429" y="395"/>
                    </a:lnTo>
                    <a:lnTo>
                      <a:pt x="378" y="499"/>
                    </a:lnTo>
                    <a:lnTo>
                      <a:pt x="330" y="604"/>
                    </a:lnTo>
                    <a:lnTo>
                      <a:pt x="284" y="708"/>
                    </a:lnTo>
                    <a:lnTo>
                      <a:pt x="241" y="811"/>
                    </a:lnTo>
                    <a:lnTo>
                      <a:pt x="201" y="911"/>
                    </a:lnTo>
                    <a:lnTo>
                      <a:pt x="163" y="1009"/>
                    </a:lnTo>
                    <a:lnTo>
                      <a:pt x="128" y="1104"/>
                    </a:lnTo>
                    <a:lnTo>
                      <a:pt x="97" y="1194"/>
                    </a:lnTo>
                    <a:lnTo>
                      <a:pt x="69" y="1281"/>
                    </a:lnTo>
                    <a:lnTo>
                      <a:pt x="45" y="1363"/>
                    </a:lnTo>
                    <a:lnTo>
                      <a:pt x="23" y="1438"/>
                    </a:lnTo>
                    <a:lnTo>
                      <a:pt x="14" y="1474"/>
                    </a:lnTo>
                    <a:lnTo>
                      <a:pt x="6" y="1508"/>
                    </a:lnTo>
                    <a:lnTo>
                      <a:pt x="0" y="1534"/>
                    </a:lnTo>
                    <a:lnTo>
                      <a:pt x="13" y="1537"/>
                    </a:lnTo>
                    <a:lnTo>
                      <a:pt x="25" y="1538"/>
                    </a:lnTo>
                    <a:lnTo>
                      <a:pt x="38" y="1539"/>
                    </a:lnTo>
                    <a:lnTo>
                      <a:pt x="50" y="1541"/>
                    </a:lnTo>
                    <a:lnTo>
                      <a:pt x="63" y="1542"/>
                    </a:lnTo>
                    <a:lnTo>
                      <a:pt x="74" y="1543"/>
                    </a:lnTo>
                    <a:lnTo>
                      <a:pt x="87" y="1545"/>
                    </a:lnTo>
                    <a:lnTo>
                      <a:pt x="100" y="154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4375080" y="3075120"/>
                <a:ext cx="258840" cy="493560"/>
              </a:xfrm>
              <a:custGeom>
                <a:avLst/>
                <a:gdLst/>
                <a:ahLst/>
                <a:rect l="l" t="t" r="r" b="b"/>
                <a:pathLst>
                  <a:path w="816" h="1555">
                    <a:moveTo>
                      <a:pt x="693" y="0"/>
                    </a:moveTo>
                    <a:lnTo>
                      <a:pt x="651" y="84"/>
                    </a:lnTo>
                    <a:lnTo>
                      <a:pt x="597" y="196"/>
                    </a:lnTo>
                    <a:lnTo>
                      <a:pt x="542" y="310"/>
                    </a:lnTo>
                    <a:lnTo>
                      <a:pt x="488" y="426"/>
                    </a:lnTo>
                    <a:lnTo>
                      <a:pt x="433" y="543"/>
                    </a:lnTo>
                    <a:lnTo>
                      <a:pt x="379" y="660"/>
                    </a:lnTo>
                    <a:lnTo>
                      <a:pt x="327" y="776"/>
                    </a:lnTo>
                    <a:lnTo>
                      <a:pt x="277" y="890"/>
                    </a:lnTo>
                    <a:lnTo>
                      <a:pt x="228" y="1000"/>
                    </a:lnTo>
                    <a:lnTo>
                      <a:pt x="181" y="1108"/>
                    </a:lnTo>
                    <a:lnTo>
                      <a:pt x="138" y="1210"/>
                    </a:lnTo>
                    <a:lnTo>
                      <a:pt x="97" y="1307"/>
                    </a:lnTo>
                    <a:lnTo>
                      <a:pt x="59" y="1397"/>
                    </a:lnTo>
                    <a:lnTo>
                      <a:pt x="26" y="1480"/>
                    </a:lnTo>
                    <a:lnTo>
                      <a:pt x="0" y="1545"/>
                    </a:lnTo>
                    <a:lnTo>
                      <a:pt x="15" y="1546"/>
                    </a:lnTo>
                    <a:lnTo>
                      <a:pt x="28" y="1547"/>
                    </a:lnTo>
                    <a:lnTo>
                      <a:pt x="42" y="1548"/>
                    </a:lnTo>
                    <a:lnTo>
                      <a:pt x="56" y="1550"/>
                    </a:lnTo>
                    <a:lnTo>
                      <a:pt x="69" y="1551"/>
                    </a:lnTo>
                    <a:lnTo>
                      <a:pt x="83" y="1553"/>
                    </a:lnTo>
                    <a:lnTo>
                      <a:pt x="97" y="1554"/>
                    </a:lnTo>
                    <a:lnTo>
                      <a:pt x="110" y="1555"/>
                    </a:lnTo>
                    <a:lnTo>
                      <a:pt x="141" y="1478"/>
                    </a:lnTo>
                    <a:lnTo>
                      <a:pt x="179" y="1388"/>
                    </a:lnTo>
                    <a:lnTo>
                      <a:pt x="220" y="1291"/>
                    </a:lnTo>
                    <a:lnTo>
                      <a:pt x="263" y="1189"/>
                    </a:lnTo>
                    <a:lnTo>
                      <a:pt x="310" y="1081"/>
                    </a:lnTo>
                    <a:lnTo>
                      <a:pt x="359" y="971"/>
                    </a:lnTo>
                    <a:lnTo>
                      <a:pt x="409" y="857"/>
                    </a:lnTo>
                    <a:lnTo>
                      <a:pt x="462" y="741"/>
                    </a:lnTo>
                    <a:lnTo>
                      <a:pt x="515" y="624"/>
                    </a:lnTo>
                    <a:lnTo>
                      <a:pt x="570" y="507"/>
                    </a:lnTo>
                    <a:lnTo>
                      <a:pt x="625" y="391"/>
                    </a:lnTo>
                    <a:lnTo>
                      <a:pt x="679" y="277"/>
                    </a:lnTo>
                    <a:lnTo>
                      <a:pt x="733" y="165"/>
                    </a:lnTo>
                    <a:lnTo>
                      <a:pt x="786" y="57"/>
                    </a:lnTo>
                    <a:lnTo>
                      <a:pt x="816" y="0"/>
                    </a:lnTo>
                    <a:lnTo>
                      <a:pt x="69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4449600" y="3075120"/>
                <a:ext cx="249480" cy="496800"/>
              </a:xfrm>
              <a:custGeom>
                <a:avLst/>
                <a:gdLst/>
                <a:ahLst/>
                <a:rect l="l" t="t" r="r" b="b"/>
                <a:pathLst>
                  <a:path w="788" h="1567">
                    <a:moveTo>
                      <a:pt x="661" y="0"/>
                    </a:moveTo>
                    <a:lnTo>
                      <a:pt x="631" y="51"/>
                    </a:lnTo>
                    <a:lnTo>
                      <a:pt x="601" y="102"/>
                    </a:lnTo>
                    <a:lnTo>
                      <a:pt x="572" y="154"/>
                    </a:lnTo>
                    <a:lnTo>
                      <a:pt x="542" y="206"/>
                    </a:lnTo>
                    <a:lnTo>
                      <a:pt x="514" y="260"/>
                    </a:lnTo>
                    <a:lnTo>
                      <a:pt x="486" y="312"/>
                    </a:lnTo>
                    <a:lnTo>
                      <a:pt x="458" y="366"/>
                    </a:lnTo>
                    <a:lnTo>
                      <a:pt x="432" y="421"/>
                    </a:lnTo>
                    <a:lnTo>
                      <a:pt x="379" y="528"/>
                    </a:lnTo>
                    <a:lnTo>
                      <a:pt x="329" y="636"/>
                    </a:lnTo>
                    <a:lnTo>
                      <a:pt x="282" y="744"/>
                    </a:lnTo>
                    <a:lnTo>
                      <a:pt x="238" y="850"/>
                    </a:lnTo>
                    <a:lnTo>
                      <a:pt x="196" y="952"/>
                    </a:lnTo>
                    <a:lnTo>
                      <a:pt x="158" y="1054"/>
                    </a:lnTo>
                    <a:lnTo>
                      <a:pt x="123" y="1151"/>
                    </a:lnTo>
                    <a:lnTo>
                      <a:pt x="91" y="1244"/>
                    </a:lnTo>
                    <a:lnTo>
                      <a:pt x="62" y="1333"/>
                    </a:lnTo>
                    <a:lnTo>
                      <a:pt x="37" y="1417"/>
                    </a:lnTo>
                    <a:lnTo>
                      <a:pt x="27" y="1456"/>
                    </a:lnTo>
                    <a:lnTo>
                      <a:pt x="17" y="1493"/>
                    </a:lnTo>
                    <a:lnTo>
                      <a:pt x="8" y="1530"/>
                    </a:lnTo>
                    <a:lnTo>
                      <a:pt x="0" y="1564"/>
                    </a:lnTo>
                    <a:lnTo>
                      <a:pt x="10" y="1564"/>
                    </a:lnTo>
                    <a:lnTo>
                      <a:pt x="21" y="1565"/>
                    </a:lnTo>
                    <a:lnTo>
                      <a:pt x="31" y="1565"/>
                    </a:lnTo>
                    <a:lnTo>
                      <a:pt x="42" y="1566"/>
                    </a:lnTo>
                    <a:lnTo>
                      <a:pt x="52" y="1566"/>
                    </a:lnTo>
                    <a:lnTo>
                      <a:pt x="61" y="1566"/>
                    </a:lnTo>
                    <a:lnTo>
                      <a:pt x="71" y="1567"/>
                    </a:lnTo>
                    <a:lnTo>
                      <a:pt x="82" y="1567"/>
                    </a:lnTo>
                    <a:lnTo>
                      <a:pt x="142" y="1418"/>
                    </a:lnTo>
                    <a:lnTo>
                      <a:pt x="216" y="1243"/>
                    </a:lnTo>
                    <a:lnTo>
                      <a:pt x="299" y="1049"/>
                    </a:lnTo>
                    <a:lnTo>
                      <a:pt x="391" y="843"/>
                    </a:lnTo>
                    <a:lnTo>
                      <a:pt x="438" y="737"/>
                    </a:lnTo>
                    <a:lnTo>
                      <a:pt x="487" y="628"/>
                    </a:lnTo>
                    <a:lnTo>
                      <a:pt x="538" y="521"/>
                    </a:lnTo>
                    <a:lnTo>
                      <a:pt x="588" y="413"/>
                    </a:lnTo>
                    <a:lnTo>
                      <a:pt x="638" y="307"/>
                    </a:lnTo>
                    <a:lnTo>
                      <a:pt x="688" y="202"/>
                    </a:lnTo>
                    <a:lnTo>
                      <a:pt x="738" y="99"/>
                    </a:lnTo>
                    <a:lnTo>
                      <a:pt x="788" y="0"/>
                    </a:lnTo>
                    <a:lnTo>
                      <a:pt x="66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4433760" y="3075120"/>
                <a:ext cx="246240" cy="496800"/>
              </a:xfrm>
              <a:custGeom>
                <a:avLst/>
                <a:gdLst/>
                <a:ahLst/>
                <a:rect l="l" t="t" r="r" b="b"/>
                <a:pathLst>
                  <a:path w="776" h="1566">
                    <a:moveTo>
                      <a:pt x="99" y="1566"/>
                    </a:moveTo>
                    <a:lnTo>
                      <a:pt x="101" y="1555"/>
                    </a:lnTo>
                    <a:lnTo>
                      <a:pt x="110" y="1519"/>
                    </a:lnTo>
                    <a:lnTo>
                      <a:pt x="131" y="1444"/>
                    </a:lnTo>
                    <a:lnTo>
                      <a:pt x="156" y="1362"/>
                    </a:lnTo>
                    <a:lnTo>
                      <a:pt x="183" y="1275"/>
                    </a:lnTo>
                    <a:lnTo>
                      <a:pt x="215" y="1185"/>
                    </a:lnTo>
                    <a:lnTo>
                      <a:pt x="249" y="1090"/>
                    </a:lnTo>
                    <a:lnTo>
                      <a:pt x="287" y="992"/>
                    </a:lnTo>
                    <a:lnTo>
                      <a:pt x="327" y="892"/>
                    </a:lnTo>
                    <a:lnTo>
                      <a:pt x="370" y="789"/>
                    </a:lnTo>
                    <a:lnTo>
                      <a:pt x="416" y="685"/>
                    </a:lnTo>
                    <a:lnTo>
                      <a:pt x="464" y="580"/>
                    </a:lnTo>
                    <a:lnTo>
                      <a:pt x="514" y="476"/>
                    </a:lnTo>
                    <a:lnTo>
                      <a:pt x="567" y="372"/>
                    </a:lnTo>
                    <a:lnTo>
                      <a:pt x="593" y="319"/>
                    </a:lnTo>
                    <a:lnTo>
                      <a:pt x="621" y="268"/>
                    </a:lnTo>
                    <a:lnTo>
                      <a:pt x="649" y="217"/>
                    </a:lnTo>
                    <a:lnTo>
                      <a:pt x="678" y="166"/>
                    </a:lnTo>
                    <a:lnTo>
                      <a:pt x="706" y="116"/>
                    </a:lnTo>
                    <a:lnTo>
                      <a:pt x="736" y="66"/>
                    </a:lnTo>
                    <a:lnTo>
                      <a:pt x="764" y="18"/>
                    </a:lnTo>
                    <a:lnTo>
                      <a:pt x="776" y="0"/>
                    </a:lnTo>
                    <a:lnTo>
                      <a:pt x="645" y="0"/>
                    </a:lnTo>
                    <a:lnTo>
                      <a:pt x="624" y="35"/>
                    </a:lnTo>
                    <a:lnTo>
                      <a:pt x="596" y="84"/>
                    </a:lnTo>
                    <a:lnTo>
                      <a:pt x="567" y="136"/>
                    </a:lnTo>
                    <a:lnTo>
                      <a:pt x="539" y="187"/>
                    </a:lnTo>
                    <a:lnTo>
                      <a:pt x="511" y="238"/>
                    </a:lnTo>
                    <a:lnTo>
                      <a:pt x="485" y="290"/>
                    </a:lnTo>
                    <a:lnTo>
                      <a:pt x="433" y="395"/>
                    </a:lnTo>
                    <a:lnTo>
                      <a:pt x="381" y="499"/>
                    </a:lnTo>
                    <a:lnTo>
                      <a:pt x="334" y="604"/>
                    </a:lnTo>
                    <a:lnTo>
                      <a:pt x="288" y="708"/>
                    </a:lnTo>
                    <a:lnTo>
                      <a:pt x="245" y="811"/>
                    </a:lnTo>
                    <a:lnTo>
                      <a:pt x="205" y="911"/>
                    </a:lnTo>
                    <a:lnTo>
                      <a:pt x="167" y="1009"/>
                    </a:lnTo>
                    <a:lnTo>
                      <a:pt x="133" y="1104"/>
                    </a:lnTo>
                    <a:lnTo>
                      <a:pt x="101" y="1194"/>
                    </a:lnTo>
                    <a:lnTo>
                      <a:pt x="74" y="1281"/>
                    </a:lnTo>
                    <a:lnTo>
                      <a:pt x="49" y="1363"/>
                    </a:lnTo>
                    <a:lnTo>
                      <a:pt x="28" y="1438"/>
                    </a:lnTo>
                    <a:lnTo>
                      <a:pt x="19" y="1474"/>
                    </a:lnTo>
                    <a:lnTo>
                      <a:pt x="11" y="1508"/>
                    </a:lnTo>
                    <a:lnTo>
                      <a:pt x="4" y="1540"/>
                    </a:lnTo>
                    <a:lnTo>
                      <a:pt x="0" y="1561"/>
                    </a:lnTo>
                    <a:lnTo>
                      <a:pt x="12" y="1562"/>
                    </a:lnTo>
                    <a:lnTo>
                      <a:pt x="25" y="1562"/>
                    </a:lnTo>
                    <a:lnTo>
                      <a:pt x="37" y="1563"/>
                    </a:lnTo>
                    <a:lnTo>
                      <a:pt x="50" y="1564"/>
                    </a:lnTo>
                    <a:lnTo>
                      <a:pt x="62" y="1564"/>
                    </a:lnTo>
                    <a:lnTo>
                      <a:pt x="75" y="1565"/>
                    </a:lnTo>
                    <a:lnTo>
                      <a:pt x="86" y="1565"/>
                    </a:lnTo>
                    <a:lnTo>
                      <a:pt x="99" y="156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4457880" y="3075120"/>
                <a:ext cx="261720" cy="498240"/>
              </a:xfrm>
              <a:custGeom>
                <a:avLst/>
                <a:gdLst/>
                <a:ahLst/>
                <a:rect l="l" t="t" r="r" b="b"/>
                <a:pathLst>
                  <a:path w="824" h="1569">
                    <a:moveTo>
                      <a:pt x="701" y="0"/>
                    </a:moveTo>
                    <a:lnTo>
                      <a:pt x="659" y="84"/>
                    </a:lnTo>
                    <a:lnTo>
                      <a:pt x="605" y="196"/>
                    </a:lnTo>
                    <a:lnTo>
                      <a:pt x="550" y="310"/>
                    </a:lnTo>
                    <a:lnTo>
                      <a:pt x="496" y="426"/>
                    </a:lnTo>
                    <a:lnTo>
                      <a:pt x="441" y="543"/>
                    </a:lnTo>
                    <a:lnTo>
                      <a:pt x="387" y="660"/>
                    </a:lnTo>
                    <a:lnTo>
                      <a:pt x="335" y="776"/>
                    </a:lnTo>
                    <a:lnTo>
                      <a:pt x="285" y="890"/>
                    </a:lnTo>
                    <a:lnTo>
                      <a:pt x="236" y="1000"/>
                    </a:lnTo>
                    <a:lnTo>
                      <a:pt x="189" y="1108"/>
                    </a:lnTo>
                    <a:lnTo>
                      <a:pt x="146" y="1210"/>
                    </a:lnTo>
                    <a:lnTo>
                      <a:pt x="105" y="1307"/>
                    </a:lnTo>
                    <a:lnTo>
                      <a:pt x="67" y="1397"/>
                    </a:lnTo>
                    <a:lnTo>
                      <a:pt x="34" y="1480"/>
                    </a:lnTo>
                    <a:lnTo>
                      <a:pt x="4" y="1554"/>
                    </a:lnTo>
                    <a:lnTo>
                      <a:pt x="0" y="1565"/>
                    </a:lnTo>
                    <a:lnTo>
                      <a:pt x="15" y="1566"/>
                    </a:lnTo>
                    <a:lnTo>
                      <a:pt x="28" y="1566"/>
                    </a:lnTo>
                    <a:lnTo>
                      <a:pt x="43" y="1567"/>
                    </a:lnTo>
                    <a:lnTo>
                      <a:pt x="57" y="1567"/>
                    </a:lnTo>
                    <a:lnTo>
                      <a:pt x="70" y="1569"/>
                    </a:lnTo>
                    <a:lnTo>
                      <a:pt x="85" y="1569"/>
                    </a:lnTo>
                    <a:lnTo>
                      <a:pt x="99" y="1569"/>
                    </a:lnTo>
                    <a:lnTo>
                      <a:pt x="113" y="1569"/>
                    </a:lnTo>
                    <a:lnTo>
                      <a:pt x="116" y="1561"/>
                    </a:lnTo>
                    <a:lnTo>
                      <a:pt x="149" y="1478"/>
                    </a:lnTo>
                    <a:lnTo>
                      <a:pt x="187" y="1388"/>
                    </a:lnTo>
                    <a:lnTo>
                      <a:pt x="228" y="1291"/>
                    </a:lnTo>
                    <a:lnTo>
                      <a:pt x="271" y="1189"/>
                    </a:lnTo>
                    <a:lnTo>
                      <a:pt x="318" y="1081"/>
                    </a:lnTo>
                    <a:lnTo>
                      <a:pt x="367" y="971"/>
                    </a:lnTo>
                    <a:lnTo>
                      <a:pt x="417" y="857"/>
                    </a:lnTo>
                    <a:lnTo>
                      <a:pt x="469" y="741"/>
                    </a:lnTo>
                    <a:lnTo>
                      <a:pt x="523" y="624"/>
                    </a:lnTo>
                    <a:lnTo>
                      <a:pt x="578" y="507"/>
                    </a:lnTo>
                    <a:lnTo>
                      <a:pt x="631" y="391"/>
                    </a:lnTo>
                    <a:lnTo>
                      <a:pt x="686" y="277"/>
                    </a:lnTo>
                    <a:lnTo>
                      <a:pt x="741" y="165"/>
                    </a:lnTo>
                    <a:lnTo>
                      <a:pt x="794" y="57"/>
                    </a:lnTo>
                    <a:lnTo>
                      <a:pt x="824" y="0"/>
                    </a:lnTo>
                    <a:lnTo>
                      <a:pt x="70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4535640" y="3075120"/>
                <a:ext cx="250560" cy="498240"/>
              </a:xfrm>
              <a:custGeom>
                <a:avLst/>
                <a:gdLst/>
                <a:ahLst/>
                <a:rect l="l" t="t" r="r" b="b"/>
                <a:pathLst>
                  <a:path w="790" h="1570">
                    <a:moveTo>
                      <a:pt x="662" y="0"/>
                    </a:moveTo>
                    <a:lnTo>
                      <a:pt x="632" y="51"/>
                    </a:lnTo>
                    <a:lnTo>
                      <a:pt x="602" y="102"/>
                    </a:lnTo>
                    <a:lnTo>
                      <a:pt x="572" y="155"/>
                    </a:lnTo>
                    <a:lnTo>
                      <a:pt x="543" y="207"/>
                    </a:lnTo>
                    <a:lnTo>
                      <a:pt x="515" y="261"/>
                    </a:lnTo>
                    <a:lnTo>
                      <a:pt x="486" y="315"/>
                    </a:lnTo>
                    <a:lnTo>
                      <a:pt x="459" y="368"/>
                    </a:lnTo>
                    <a:lnTo>
                      <a:pt x="432" y="423"/>
                    </a:lnTo>
                    <a:lnTo>
                      <a:pt x="379" y="531"/>
                    </a:lnTo>
                    <a:lnTo>
                      <a:pt x="329" y="640"/>
                    </a:lnTo>
                    <a:lnTo>
                      <a:pt x="282" y="747"/>
                    </a:lnTo>
                    <a:lnTo>
                      <a:pt x="237" y="853"/>
                    </a:lnTo>
                    <a:lnTo>
                      <a:pt x="196" y="958"/>
                    </a:lnTo>
                    <a:lnTo>
                      <a:pt x="157" y="1059"/>
                    </a:lnTo>
                    <a:lnTo>
                      <a:pt x="122" y="1157"/>
                    </a:lnTo>
                    <a:lnTo>
                      <a:pt x="90" y="1250"/>
                    </a:lnTo>
                    <a:lnTo>
                      <a:pt x="61" y="1339"/>
                    </a:lnTo>
                    <a:lnTo>
                      <a:pt x="37" y="1422"/>
                    </a:lnTo>
                    <a:lnTo>
                      <a:pt x="26" y="1461"/>
                    </a:lnTo>
                    <a:lnTo>
                      <a:pt x="17" y="1499"/>
                    </a:lnTo>
                    <a:lnTo>
                      <a:pt x="8" y="1535"/>
                    </a:lnTo>
                    <a:lnTo>
                      <a:pt x="0" y="1570"/>
                    </a:lnTo>
                    <a:lnTo>
                      <a:pt x="11" y="1570"/>
                    </a:lnTo>
                    <a:lnTo>
                      <a:pt x="21" y="1569"/>
                    </a:lnTo>
                    <a:lnTo>
                      <a:pt x="32" y="1569"/>
                    </a:lnTo>
                    <a:lnTo>
                      <a:pt x="42" y="1569"/>
                    </a:lnTo>
                    <a:lnTo>
                      <a:pt x="52" y="1569"/>
                    </a:lnTo>
                    <a:lnTo>
                      <a:pt x="62" y="1567"/>
                    </a:lnTo>
                    <a:lnTo>
                      <a:pt x="73" y="1567"/>
                    </a:lnTo>
                    <a:lnTo>
                      <a:pt x="83" y="1567"/>
                    </a:lnTo>
                    <a:lnTo>
                      <a:pt x="143" y="1417"/>
                    </a:lnTo>
                    <a:lnTo>
                      <a:pt x="217" y="1242"/>
                    </a:lnTo>
                    <a:lnTo>
                      <a:pt x="301" y="1049"/>
                    </a:lnTo>
                    <a:lnTo>
                      <a:pt x="392" y="843"/>
                    </a:lnTo>
                    <a:lnTo>
                      <a:pt x="440" y="736"/>
                    </a:lnTo>
                    <a:lnTo>
                      <a:pt x="489" y="628"/>
                    </a:lnTo>
                    <a:lnTo>
                      <a:pt x="539" y="520"/>
                    </a:lnTo>
                    <a:lnTo>
                      <a:pt x="589" y="413"/>
                    </a:lnTo>
                    <a:lnTo>
                      <a:pt x="639" y="307"/>
                    </a:lnTo>
                    <a:lnTo>
                      <a:pt x="689" y="202"/>
                    </a:lnTo>
                    <a:lnTo>
                      <a:pt x="739" y="99"/>
                    </a:lnTo>
                    <a:lnTo>
                      <a:pt x="790" y="0"/>
                    </a:lnTo>
                    <a:lnTo>
                      <a:pt x="66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4519440" y="3075120"/>
                <a:ext cx="246240" cy="498240"/>
              </a:xfrm>
              <a:custGeom>
                <a:avLst/>
                <a:gdLst/>
                <a:ahLst/>
                <a:rect l="l" t="t" r="r" b="b"/>
                <a:pathLst>
                  <a:path w="777" h="1570">
                    <a:moveTo>
                      <a:pt x="100" y="1569"/>
                    </a:moveTo>
                    <a:lnTo>
                      <a:pt x="102" y="1555"/>
                    </a:lnTo>
                    <a:lnTo>
                      <a:pt x="111" y="1519"/>
                    </a:lnTo>
                    <a:lnTo>
                      <a:pt x="132" y="1444"/>
                    </a:lnTo>
                    <a:lnTo>
                      <a:pt x="157" y="1362"/>
                    </a:lnTo>
                    <a:lnTo>
                      <a:pt x="184" y="1275"/>
                    </a:lnTo>
                    <a:lnTo>
                      <a:pt x="216" y="1185"/>
                    </a:lnTo>
                    <a:lnTo>
                      <a:pt x="250" y="1090"/>
                    </a:lnTo>
                    <a:lnTo>
                      <a:pt x="288" y="992"/>
                    </a:lnTo>
                    <a:lnTo>
                      <a:pt x="328" y="892"/>
                    </a:lnTo>
                    <a:lnTo>
                      <a:pt x="371" y="789"/>
                    </a:lnTo>
                    <a:lnTo>
                      <a:pt x="417" y="685"/>
                    </a:lnTo>
                    <a:lnTo>
                      <a:pt x="465" y="580"/>
                    </a:lnTo>
                    <a:lnTo>
                      <a:pt x="515" y="476"/>
                    </a:lnTo>
                    <a:lnTo>
                      <a:pt x="568" y="372"/>
                    </a:lnTo>
                    <a:lnTo>
                      <a:pt x="595" y="319"/>
                    </a:lnTo>
                    <a:lnTo>
                      <a:pt x="622" y="268"/>
                    </a:lnTo>
                    <a:lnTo>
                      <a:pt x="651" y="217"/>
                    </a:lnTo>
                    <a:lnTo>
                      <a:pt x="679" y="166"/>
                    </a:lnTo>
                    <a:lnTo>
                      <a:pt x="708" y="116"/>
                    </a:lnTo>
                    <a:lnTo>
                      <a:pt x="737" y="66"/>
                    </a:lnTo>
                    <a:lnTo>
                      <a:pt x="766" y="18"/>
                    </a:lnTo>
                    <a:lnTo>
                      <a:pt x="777" y="0"/>
                    </a:lnTo>
                    <a:lnTo>
                      <a:pt x="646" y="0"/>
                    </a:lnTo>
                    <a:lnTo>
                      <a:pt x="625" y="35"/>
                    </a:lnTo>
                    <a:lnTo>
                      <a:pt x="597" y="84"/>
                    </a:lnTo>
                    <a:lnTo>
                      <a:pt x="568" y="136"/>
                    </a:lnTo>
                    <a:lnTo>
                      <a:pt x="540" y="187"/>
                    </a:lnTo>
                    <a:lnTo>
                      <a:pt x="513" y="238"/>
                    </a:lnTo>
                    <a:lnTo>
                      <a:pt x="486" y="290"/>
                    </a:lnTo>
                    <a:lnTo>
                      <a:pt x="434" y="395"/>
                    </a:lnTo>
                    <a:lnTo>
                      <a:pt x="383" y="499"/>
                    </a:lnTo>
                    <a:lnTo>
                      <a:pt x="335" y="604"/>
                    </a:lnTo>
                    <a:lnTo>
                      <a:pt x="289" y="708"/>
                    </a:lnTo>
                    <a:lnTo>
                      <a:pt x="246" y="811"/>
                    </a:lnTo>
                    <a:lnTo>
                      <a:pt x="206" y="911"/>
                    </a:lnTo>
                    <a:lnTo>
                      <a:pt x="168" y="1009"/>
                    </a:lnTo>
                    <a:lnTo>
                      <a:pt x="134" y="1104"/>
                    </a:lnTo>
                    <a:lnTo>
                      <a:pt x="102" y="1194"/>
                    </a:lnTo>
                    <a:lnTo>
                      <a:pt x="75" y="1281"/>
                    </a:lnTo>
                    <a:lnTo>
                      <a:pt x="50" y="1363"/>
                    </a:lnTo>
                    <a:lnTo>
                      <a:pt x="29" y="1438"/>
                    </a:lnTo>
                    <a:lnTo>
                      <a:pt x="20" y="1474"/>
                    </a:lnTo>
                    <a:lnTo>
                      <a:pt x="12" y="1508"/>
                    </a:lnTo>
                    <a:lnTo>
                      <a:pt x="5" y="1540"/>
                    </a:lnTo>
                    <a:lnTo>
                      <a:pt x="0" y="1570"/>
                    </a:lnTo>
                    <a:lnTo>
                      <a:pt x="12" y="1570"/>
                    </a:lnTo>
                    <a:lnTo>
                      <a:pt x="25" y="1570"/>
                    </a:lnTo>
                    <a:lnTo>
                      <a:pt x="37" y="1570"/>
                    </a:lnTo>
                    <a:lnTo>
                      <a:pt x="50" y="1570"/>
                    </a:lnTo>
                    <a:lnTo>
                      <a:pt x="62" y="1569"/>
                    </a:lnTo>
                    <a:lnTo>
                      <a:pt x="75" y="1569"/>
                    </a:lnTo>
                    <a:lnTo>
                      <a:pt x="87" y="1569"/>
                    </a:lnTo>
                    <a:lnTo>
                      <a:pt x="100" y="156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4543560" y="3075120"/>
                <a:ext cx="261720" cy="498240"/>
              </a:xfrm>
              <a:custGeom>
                <a:avLst/>
                <a:gdLst/>
                <a:ahLst/>
                <a:rect l="l" t="t" r="r" b="b"/>
                <a:pathLst>
                  <a:path w="825" h="1569">
                    <a:moveTo>
                      <a:pt x="702" y="0"/>
                    </a:moveTo>
                    <a:lnTo>
                      <a:pt x="660" y="84"/>
                    </a:lnTo>
                    <a:lnTo>
                      <a:pt x="606" y="196"/>
                    </a:lnTo>
                    <a:lnTo>
                      <a:pt x="552" y="310"/>
                    </a:lnTo>
                    <a:lnTo>
                      <a:pt x="497" y="426"/>
                    </a:lnTo>
                    <a:lnTo>
                      <a:pt x="442" y="543"/>
                    </a:lnTo>
                    <a:lnTo>
                      <a:pt x="389" y="660"/>
                    </a:lnTo>
                    <a:lnTo>
                      <a:pt x="336" y="776"/>
                    </a:lnTo>
                    <a:lnTo>
                      <a:pt x="286" y="890"/>
                    </a:lnTo>
                    <a:lnTo>
                      <a:pt x="237" y="1000"/>
                    </a:lnTo>
                    <a:lnTo>
                      <a:pt x="190" y="1108"/>
                    </a:lnTo>
                    <a:lnTo>
                      <a:pt x="147" y="1210"/>
                    </a:lnTo>
                    <a:lnTo>
                      <a:pt x="106" y="1307"/>
                    </a:lnTo>
                    <a:lnTo>
                      <a:pt x="68" y="1397"/>
                    </a:lnTo>
                    <a:lnTo>
                      <a:pt x="35" y="1480"/>
                    </a:lnTo>
                    <a:lnTo>
                      <a:pt x="6" y="1554"/>
                    </a:lnTo>
                    <a:lnTo>
                      <a:pt x="0" y="1569"/>
                    </a:lnTo>
                    <a:lnTo>
                      <a:pt x="15" y="1569"/>
                    </a:lnTo>
                    <a:lnTo>
                      <a:pt x="29" y="1567"/>
                    </a:lnTo>
                    <a:lnTo>
                      <a:pt x="44" y="1567"/>
                    </a:lnTo>
                    <a:lnTo>
                      <a:pt x="59" y="1566"/>
                    </a:lnTo>
                    <a:lnTo>
                      <a:pt x="73" y="1566"/>
                    </a:lnTo>
                    <a:lnTo>
                      <a:pt x="88" y="1565"/>
                    </a:lnTo>
                    <a:lnTo>
                      <a:pt x="101" y="1565"/>
                    </a:lnTo>
                    <a:lnTo>
                      <a:pt x="116" y="1564"/>
                    </a:lnTo>
                    <a:lnTo>
                      <a:pt x="117" y="1561"/>
                    </a:lnTo>
                    <a:lnTo>
                      <a:pt x="150" y="1478"/>
                    </a:lnTo>
                    <a:lnTo>
                      <a:pt x="188" y="1388"/>
                    </a:lnTo>
                    <a:lnTo>
                      <a:pt x="229" y="1291"/>
                    </a:lnTo>
                    <a:lnTo>
                      <a:pt x="272" y="1189"/>
                    </a:lnTo>
                    <a:lnTo>
                      <a:pt x="319" y="1081"/>
                    </a:lnTo>
                    <a:lnTo>
                      <a:pt x="368" y="971"/>
                    </a:lnTo>
                    <a:lnTo>
                      <a:pt x="418" y="857"/>
                    </a:lnTo>
                    <a:lnTo>
                      <a:pt x="471" y="741"/>
                    </a:lnTo>
                    <a:lnTo>
                      <a:pt x="524" y="624"/>
                    </a:lnTo>
                    <a:lnTo>
                      <a:pt x="579" y="507"/>
                    </a:lnTo>
                    <a:lnTo>
                      <a:pt x="633" y="391"/>
                    </a:lnTo>
                    <a:lnTo>
                      <a:pt x="687" y="277"/>
                    </a:lnTo>
                    <a:lnTo>
                      <a:pt x="742" y="165"/>
                    </a:lnTo>
                    <a:lnTo>
                      <a:pt x="796" y="57"/>
                    </a:lnTo>
                    <a:lnTo>
                      <a:pt x="825" y="0"/>
                    </a:lnTo>
                    <a:lnTo>
                      <a:pt x="70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4619520" y="3075120"/>
                <a:ext cx="250920" cy="493560"/>
              </a:xfrm>
              <a:custGeom>
                <a:avLst/>
                <a:gdLst/>
                <a:ahLst/>
                <a:rect l="l" t="t" r="r" b="b"/>
                <a:pathLst>
                  <a:path w="787" h="1554">
                    <a:moveTo>
                      <a:pt x="661" y="0"/>
                    </a:moveTo>
                    <a:lnTo>
                      <a:pt x="631" y="50"/>
                    </a:lnTo>
                    <a:lnTo>
                      <a:pt x="600" y="101"/>
                    </a:lnTo>
                    <a:lnTo>
                      <a:pt x="572" y="153"/>
                    </a:lnTo>
                    <a:lnTo>
                      <a:pt x="543" y="204"/>
                    </a:lnTo>
                    <a:lnTo>
                      <a:pt x="515" y="256"/>
                    </a:lnTo>
                    <a:lnTo>
                      <a:pt x="486" y="310"/>
                    </a:lnTo>
                    <a:lnTo>
                      <a:pt x="459" y="363"/>
                    </a:lnTo>
                    <a:lnTo>
                      <a:pt x="433" y="416"/>
                    </a:lnTo>
                    <a:lnTo>
                      <a:pt x="380" y="523"/>
                    </a:lnTo>
                    <a:lnTo>
                      <a:pt x="331" y="631"/>
                    </a:lnTo>
                    <a:lnTo>
                      <a:pt x="283" y="737"/>
                    </a:lnTo>
                    <a:lnTo>
                      <a:pt x="240" y="842"/>
                    </a:lnTo>
                    <a:lnTo>
                      <a:pt x="198" y="944"/>
                    </a:lnTo>
                    <a:lnTo>
                      <a:pt x="159" y="1045"/>
                    </a:lnTo>
                    <a:lnTo>
                      <a:pt x="124" y="1142"/>
                    </a:lnTo>
                    <a:lnTo>
                      <a:pt x="92" y="1234"/>
                    </a:lnTo>
                    <a:lnTo>
                      <a:pt x="63" y="1322"/>
                    </a:lnTo>
                    <a:lnTo>
                      <a:pt x="38" y="1405"/>
                    </a:lnTo>
                    <a:lnTo>
                      <a:pt x="17" y="1483"/>
                    </a:lnTo>
                    <a:lnTo>
                      <a:pt x="0" y="1554"/>
                    </a:lnTo>
                    <a:lnTo>
                      <a:pt x="11" y="1553"/>
                    </a:lnTo>
                    <a:lnTo>
                      <a:pt x="22" y="1551"/>
                    </a:lnTo>
                    <a:lnTo>
                      <a:pt x="34" y="1550"/>
                    </a:lnTo>
                    <a:lnTo>
                      <a:pt x="45" y="1549"/>
                    </a:lnTo>
                    <a:lnTo>
                      <a:pt x="57" y="1547"/>
                    </a:lnTo>
                    <a:lnTo>
                      <a:pt x="67" y="1546"/>
                    </a:lnTo>
                    <a:lnTo>
                      <a:pt x="78" y="1545"/>
                    </a:lnTo>
                    <a:lnTo>
                      <a:pt x="90" y="1543"/>
                    </a:lnTo>
                    <a:lnTo>
                      <a:pt x="151" y="1393"/>
                    </a:lnTo>
                    <a:lnTo>
                      <a:pt x="224" y="1218"/>
                    </a:lnTo>
                    <a:lnTo>
                      <a:pt x="307" y="1028"/>
                    </a:lnTo>
                    <a:lnTo>
                      <a:pt x="397" y="825"/>
                    </a:lnTo>
                    <a:lnTo>
                      <a:pt x="492" y="615"/>
                    </a:lnTo>
                    <a:lnTo>
                      <a:pt x="591" y="404"/>
                    </a:lnTo>
                    <a:lnTo>
                      <a:pt x="640" y="300"/>
                    </a:lnTo>
                    <a:lnTo>
                      <a:pt x="690" y="197"/>
                    </a:lnTo>
                    <a:lnTo>
                      <a:pt x="739" y="97"/>
                    </a:lnTo>
                    <a:lnTo>
                      <a:pt x="787" y="0"/>
                    </a:lnTo>
                    <a:lnTo>
                      <a:pt x="66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4603680" y="3075120"/>
                <a:ext cx="247680" cy="495000"/>
              </a:xfrm>
              <a:custGeom>
                <a:avLst/>
                <a:gdLst/>
                <a:ahLst/>
                <a:rect l="l" t="t" r="r" b="b"/>
                <a:pathLst>
                  <a:path w="778" h="1558">
                    <a:moveTo>
                      <a:pt x="103" y="1548"/>
                    </a:moveTo>
                    <a:lnTo>
                      <a:pt x="110" y="1519"/>
                    </a:lnTo>
                    <a:lnTo>
                      <a:pt x="132" y="1444"/>
                    </a:lnTo>
                    <a:lnTo>
                      <a:pt x="156" y="1362"/>
                    </a:lnTo>
                    <a:lnTo>
                      <a:pt x="184" y="1275"/>
                    </a:lnTo>
                    <a:lnTo>
                      <a:pt x="215" y="1185"/>
                    </a:lnTo>
                    <a:lnTo>
                      <a:pt x="250" y="1090"/>
                    </a:lnTo>
                    <a:lnTo>
                      <a:pt x="288" y="992"/>
                    </a:lnTo>
                    <a:lnTo>
                      <a:pt x="328" y="892"/>
                    </a:lnTo>
                    <a:lnTo>
                      <a:pt x="371" y="789"/>
                    </a:lnTo>
                    <a:lnTo>
                      <a:pt x="417" y="685"/>
                    </a:lnTo>
                    <a:lnTo>
                      <a:pt x="464" y="580"/>
                    </a:lnTo>
                    <a:lnTo>
                      <a:pt x="516" y="476"/>
                    </a:lnTo>
                    <a:lnTo>
                      <a:pt x="568" y="372"/>
                    </a:lnTo>
                    <a:lnTo>
                      <a:pt x="594" y="319"/>
                    </a:lnTo>
                    <a:lnTo>
                      <a:pt x="623" y="268"/>
                    </a:lnTo>
                    <a:lnTo>
                      <a:pt x="650" y="217"/>
                    </a:lnTo>
                    <a:lnTo>
                      <a:pt x="679" y="166"/>
                    </a:lnTo>
                    <a:lnTo>
                      <a:pt x="707" y="116"/>
                    </a:lnTo>
                    <a:lnTo>
                      <a:pt x="737" y="66"/>
                    </a:lnTo>
                    <a:lnTo>
                      <a:pt x="767" y="18"/>
                    </a:lnTo>
                    <a:lnTo>
                      <a:pt x="778" y="0"/>
                    </a:lnTo>
                    <a:lnTo>
                      <a:pt x="647" y="0"/>
                    </a:lnTo>
                    <a:lnTo>
                      <a:pt x="626" y="35"/>
                    </a:lnTo>
                    <a:lnTo>
                      <a:pt x="597" y="84"/>
                    </a:lnTo>
                    <a:lnTo>
                      <a:pt x="568" y="136"/>
                    </a:lnTo>
                    <a:lnTo>
                      <a:pt x="541" y="187"/>
                    </a:lnTo>
                    <a:lnTo>
                      <a:pt x="513" y="238"/>
                    </a:lnTo>
                    <a:lnTo>
                      <a:pt x="486" y="290"/>
                    </a:lnTo>
                    <a:lnTo>
                      <a:pt x="434" y="395"/>
                    </a:lnTo>
                    <a:lnTo>
                      <a:pt x="382" y="499"/>
                    </a:lnTo>
                    <a:lnTo>
                      <a:pt x="334" y="604"/>
                    </a:lnTo>
                    <a:lnTo>
                      <a:pt x="289" y="708"/>
                    </a:lnTo>
                    <a:lnTo>
                      <a:pt x="246" y="811"/>
                    </a:lnTo>
                    <a:lnTo>
                      <a:pt x="206" y="911"/>
                    </a:lnTo>
                    <a:lnTo>
                      <a:pt x="168" y="1009"/>
                    </a:lnTo>
                    <a:lnTo>
                      <a:pt x="133" y="1104"/>
                    </a:lnTo>
                    <a:lnTo>
                      <a:pt x="102" y="1194"/>
                    </a:lnTo>
                    <a:lnTo>
                      <a:pt x="73" y="1281"/>
                    </a:lnTo>
                    <a:lnTo>
                      <a:pt x="49" y="1363"/>
                    </a:lnTo>
                    <a:lnTo>
                      <a:pt x="28" y="1438"/>
                    </a:lnTo>
                    <a:lnTo>
                      <a:pt x="19" y="1474"/>
                    </a:lnTo>
                    <a:lnTo>
                      <a:pt x="11" y="1508"/>
                    </a:lnTo>
                    <a:lnTo>
                      <a:pt x="4" y="1540"/>
                    </a:lnTo>
                    <a:lnTo>
                      <a:pt x="0" y="1558"/>
                    </a:lnTo>
                    <a:lnTo>
                      <a:pt x="13" y="1557"/>
                    </a:lnTo>
                    <a:lnTo>
                      <a:pt x="27" y="1556"/>
                    </a:lnTo>
                    <a:lnTo>
                      <a:pt x="39" y="1555"/>
                    </a:lnTo>
                    <a:lnTo>
                      <a:pt x="53" y="1554"/>
                    </a:lnTo>
                    <a:lnTo>
                      <a:pt x="65" y="1551"/>
                    </a:lnTo>
                    <a:lnTo>
                      <a:pt x="78" y="1550"/>
                    </a:lnTo>
                    <a:lnTo>
                      <a:pt x="91" y="1549"/>
                    </a:lnTo>
                    <a:lnTo>
                      <a:pt x="103" y="15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4629240" y="3075120"/>
                <a:ext cx="260280" cy="492120"/>
              </a:xfrm>
              <a:custGeom>
                <a:avLst/>
                <a:gdLst/>
                <a:ahLst/>
                <a:rect l="l" t="t" r="r" b="b"/>
                <a:pathLst>
                  <a:path w="820" h="1550">
                    <a:moveTo>
                      <a:pt x="697" y="0"/>
                    </a:moveTo>
                    <a:lnTo>
                      <a:pt x="656" y="84"/>
                    </a:lnTo>
                    <a:lnTo>
                      <a:pt x="601" y="196"/>
                    </a:lnTo>
                    <a:lnTo>
                      <a:pt x="546" y="310"/>
                    </a:lnTo>
                    <a:lnTo>
                      <a:pt x="492" y="426"/>
                    </a:lnTo>
                    <a:lnTo>
                      <a:pt x="437" y="543"/>
                    </a:lnTo>
                    <a:lnTo>
                      <a:pt x="383" y="660"/>
                    </a:lnTo>
                    <a:lnTo>
                      <a:pt x="331" y="776"/>
                    </a:lnTo>
                    <a:lnTo>
                      <a:pt x="280" y="890"/>
                    </a:lnTo>
                    <a:lnTo>
                      <a:pt x="232" y="1000"/>
                    </a:lnTo>
                    <a:lnTo>
                      <a:pt x="185" y="1108"/>
                    </a:lnTo>
                    <a:lnTo>
                      <a:pt x="140" y="1210"/>
                    </a:lnTo>
                    <a:lnTo>
                      <a:pt x="99" y="1307"/>
                    </a:lnTo>
                    <a:lnTo>
                      <a:pt x="62" y="1397"/>
                    </a:lnTo>
                    <a:lnTo>
                      <a:pt x="29" y="1480"/>
                    </a:lnTo>
                    <a:lnTo>
                      <a:pt x="0" y="1550"/>
                    </a:lnTo>
                    <a:lnTo>
                      <a:pt x="16" y="1549"/>
                    </a:lnTo>
                    <a:lnTo>
                      <a:pt x="31" y="1547"/>
                    </a:lnTo>
                    <a:lnTo>
                      <a:pt x="47" y="1545"/>
                    </a:lnTo>
                    <a:lnTo>
                      <a:pt x="62" y="1543"/>
                    </a:lnTo>
                    <a:lnTo>
                      <a:pt x="77" y="1541"/>
                    </a:lnTo>
                    <a:lnTo>
                      <a:pt x="91" y="1539"/>
                    </a:lnTo>
                    <a:lnTo>
                      <a:pt x="106" y="1537"/>
                    </a:lnTo>
                    <a:lnTo>
                      <a:pt x="121" y="1534"/>
                    </a:lnTo>
                    <a:lnTo>
                      <a:pt x="144" y="1478"/>
                    </a:lnTo>
                    <a:lnTo>
                      <a:pt x="182" y="1388"/>
                    </a:lnTo>
                    <a:lnTo>
                      <a:pt x="223" y="1291"/>
                    </a:lnTo>
                    <a:lnTo>
                      <a:pt x="267" y="1189"/>
                    </a:lnTo>
                    <a:lnTo>
                      <a:pt x="314" y="1081"/>
                    </a:lnTo>
                    <a:lnTo>
                      <a:pt x="362" y="971"/>
                    </a:lnTo>
                    <a:lnTo>
                      <a:pt x="413" y="857"/>
                    </a:lnTo>
                    <a:lnTo>
                      <a:pt x="465" y="741"/>
                    </a:lnTo>
                    <a:lnTo>
                      <a:pt x="519" y="624"/>
                    </a:lnTo>
                    <a:lnTo>
                      <a:pt x="574" y="507"/>
                    </a:lnTo>
                    <a:lnTo>
                      <a:pt x="628" y="391"/>
                    </a:lnTo>
                    <a:lnTo>
                      <a:pt x="683" y="277"/>
                    </a:lnTo>
                    <a:lnTo>
                      <a:pt x="737" y="165"/>
                    </a:lnTo>
                    <a:lnTo>
                      <a:pt x="791" y="57"/>
                    </a:lnTo>
                    <a:lnTo>
                      <a:pt x="820" y="0"/>
                    </a:lnTo>
                    <a:lnTo>
                      <a:pt x="69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4708440" y="3075120"/>
                <a:ext cx="246240" cy="480960"/>
              </a:xfrm>
              <a:custGeom>
                <a:avLst/>
                <a:gdLst/>
                <a:ahLst/>
                <a:rect l="l" t="t" r="r" b="b"/>
                <a:pathLst>
                  <a:path w="778" h="1514">
                    <a:moveTo>
                      <a:pt x="652" y="0"/>
                    </a:moveTo>
                    <a:lnTo>
                      <a:pt x="622" y="49"/>
                    </a:lnTo>
                    <a:lnTo>
                      <a:pt x="594" y="97"/>
                    </a:lnTo>
                    <a:lnTo>
                      <a:pt x="565" y="147"/>
                    </a:lnTo>
                    <a:lnTo>
                      <a:pt x="538" y="197"/>
                    </a:lnTo>
                    <a:lnTo>
                      <a:pt x="483" y="299"/>
                    </a:lnTo>
                    <a:lnTo>
                      <a:pt x="431" y="400"/>
                    </a:lnTo>
                    <a:lnTo>
                      <a:pt x="380" y="504"/>
                    </a:lnTo>
                    <a:lnTo>
                      <a:pt x="333" y="607"/>
                    </a:lnTo>
                    <a:lnTo>
                      <a:pt x="287" y="709"/>
                    </a:lnTo>
                    <a:lnTo>
                      <a:pt x="242" y="811"/>
                    </a:lnTo>
                    <a:lnTo>
                      <a:pt x="203" y="911"/>
                    </a:lnTo>
                    <a:lnTo>
                      <a:pt x="164" y="1008"/>
                    </a:lnTo>
                    <a:lnTo>
                      <a:pt x="128" y="1103"/>
                    </a:lnTo>
                    <a:lnTo>
                      <a:pt x="97" y="1194"/>
                    </a:lnTo>
                    <a:lnTo>
                      <a:pt x="67" y="1282"/>
                    </a:lnTo>
                    <a:lnTo>
                      <a:pt x="42" y="1364"/>
                    </a:lnTo>
                    <a:lnTo>
                      <a:pt x="19" y="1442"/>
                    </a:lnTo>
                    <a:lnTo>
                      <a:pt x="0" y="1514"/>
                    </a:lnTo>
                    <a:lnTo>
                      <a:pt x="13" y="1511"/>
                    </a:lnTo>
                    <a:lnTo>
                      <a:pt x="26" y="1509"/>
                    </a:lnTo>
                    <a:lnTo>
                      <a:pt x="38" y="1507"/>
                    </a:lnTo>
                    <a:lnTo>
                      <a:pt x="51" y="1505"/>
                    </a:lnTo>
                    <a:lnTo>
                      <a:pt x="62" y="1502"/>
                    </a:lnTo>
                    <a:lnTo>
                      <a:pt x="75" y="1500"/>
                    </a:lnTo>
                    <a:lnTo>
                      <a:pt x="87" y="1498"/>
                    </a:lnTo>
                    <a:lnTo>
                      <a:pt x="99" y="1495"/>
                    </a:lnTo>
                    <a:lnTo>
                      <a:pt x="163" y="1343"/>
                    </a:lnTo>
                    <a:lnTo>
                      <a:pt x="236" y="1171"/>
                    </a:lnTo>
                    <a:lnTo>
                      <a:pt x="317" y="986"/>
                    </a:lnTo>
                    <a:lnTo>
                      <a:pt x="404" y="789"/>
                    </a:lnTo>
                    <a:lnTo>
                      <a:pt x="496" y="587"/>
                    </a:lnTo>
                    <a:lnTo>
                      <a:pt x="590" y="385"/>
                    </a:lnTo>
                    <a:lnTo>
                      <a:pt x="637" y="286"/>
                    </a:lnTo>
                    <a:lnTo>
                      <a:pt x="685" y="188"/>
                    </a:lnTo>
                    <a:lnTo>
                      <a:pt x="732" y="92"/>
                    </a:lnTo>
                    <a:lnTo>
                      <a:pt x="778" y="0"/>
                    </a:lnTo>
                    <a:lnTo>
                      <a:pt x="65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4691160" y="3075120"/>
                <a:ext cx="244440" cy="484200"/>
              </a:xfrm>
              <a:custGeom>
                <a:avLst/>
                <a:gdLst/>
                <a:ahLst/>
                <a:rect l="l" t="t" r="r" b="b"/>
                <a:pathLst>
                  <a:path w="771" h="1523">
                    <a:moveTo>
                      <a:pt x="107" y="1503"/>
                    </a:moveTo>
                    <a:lnTo>
                      <a:pt x="124" y="1444"/>
                    </a:lnTo>
                    <a:lnTo>
                      <a:pt x="148" y="1362"/>
                    </a:lnTo>
                    <a:lnTo>
                      <a:pt x="177" y="1275"/>
                    </a:lnTo>
                    <a:lnTo>
                      <a:pt x="208" y="1185"/>
                    </a:lnTo>
                    <a:lnTo>
                      <a:pt x="242" y="1090"/>
                    </a:lnTo>
                    <a:lnTo>
                      <a:pt x="280" y="992"/>
                    </a:lnTo>
                    <a:lnTo>
                      <a:pt x="321" y="892"/>
                    </a:lnTo>
                    <a:lnTo>
                      <a:pt x="364" y="789"/>
                    </a:lnTo>
                    <a:lnTo>
                      <a:pt x="409" y="685"/>
                    </a:lnTo>
                    <a:lnTo>
                      <a:pt x="457" y="580"/>
                    </a:lnTo>
                    <a:lnTo>
                      <a:pt x="508" y="476"/>
                    </a:lnTo>
                    <a:lnTo>
                      <a:pt x="561" y="372"/>
                    </a:lnTo>
                    <a:lnTo>
                      <a:pt x="587" y="319"/>
                    </a:lnTo>
                    <a:lnTo>
                      <a:pt x="615" y="268"/>
                    </a:lnTo>
                    <a:lnTo>
                      <a:pt x="643" y="217"/>
                    </a:lnTo>
                    <a:lnTo>
                      <a:pt x="672" y="166"/>
                    </a:lnTo>
                    <a:lnTo>
                      <a:pt x="700" y="116"/>
                    </a:lnTo>
                    <a:lnTo>
                      <a:pt x="730" y="66"/>
                    </a:lnTo>
                    <a:lnTo>
                      <a:pt x="759" y="18"/>
                    </a:lnTo>
                    <a:lnTo>
                      <a:pt x="771" y="0"/>
                    </a:lnTo>
                    <a:lnTo>
                      <a:pt x="639" y="0"/>
                    </a:lnTo>
                    <a:lnTo>
                      <a:pt x="618" y="35"/>
                    </a:lnTo>
                    <a:lnTo>
                      <a:pt x="590" y="84"/>
                    </a:lnTo>
                    <a:lnTo>
                      <a:pt x="561" y="136"/>
                    </a:lnTo>
                    <a:lnTo>
                      <a:pt x="534" y="187"/>
                    </a:lnTo>
                    <a:lnTo>
                      <a:pt x="505" y="238"/>
                    </a:lnTo>
                    <a:lnTo>
                      <a:pt x="479" y="290"/>
                    </a:lnTo>
                    <a:lnTo>
                      <a:pt x="427" y="395"/>
                    </a:lnTo>
                    <a:lnTo>
                      <a:pt x="375" y="499"/>
                    </a:lnTo>
                    <a:lnTo>
                      <a:pt x="327" y="604"/>
                    </a:lnTo>
                    <a:lnTo>
                      <a:pt x="282" y="708"/>
                    </a:lnTo>
                    <a:lnTo>
                      <a:pt x="238" y="811"/>
                    </a:lnTo>
                    <a:lnTo>
                      <a:pt x="197" y="911"/>
                    </a:lnTo>
                    <a:lnTo>
                      <a:pt x="160" y="1009"/>
                    </a:lnTo>
                    <a:lnTo>
                      <a:pt x="126" y="1104"/>
                    </a:lnTo>
                    <a:lnTo>
                      <a:pt x="95" y="1194"/>
                    </a:lnTo>
                    <a:lnTo>
                      <a:pt x="66" y="1281"/>
                    </a:lnTo>
                    <a:lnTo>
                      <a:pt x="41" y="1363"/>
                    </a:lnTo>
                    <a:lnTo>
                      <a:pt x="21" y="1438"/>
                    </a:lnTo>
                    <a:lnTo>
                      <a:pt x="12" y="1474"/>
                    </a:lnTo>
                    <a:lnTo>
                      <a:pt x="4" y="1508"/>
                    </a:lnTo>
                    <a:lnTo>
                      <a:pt x="0" y="1523"/>
                    </a:lnTo>
                    <a:lnTo>
                      <a:pt x="14" y="1521"/>
                    </a:lnTo>
                    <a:lnTo>
                      <a:pt x="28" y="1518"/>
                    </a:lnTo>
                    <a:lnTo>
                      <a:pt x="41" y="1516"/>
                    </a:lnTo>
                    <a:lnTo>
                      <a:pt x="55" y="1514"/>
                    </a:lnTo>
                    <a:lnTo>
                      <a:pt x="69" y="1510"/>
                    </a:lnTo>
                    <a:lnTo>
                      <a:pt x="81" y="1508"/>
                    </a:lnTo>
                    <a:lnTo>
                      <a:pt x="95" y="1506"/>
                    </a:lnTo>
                    <a:lnTo>
                      <a:pt x="107" y="150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4719600" y="3075120"/>
                <a:ext cx="255600" cy="477720"/>
              </a:xfrm>
              <a:custGeom>
                <a:avLst/>
                <a:gdLst/>
                <a:ahLst/>
                <a:rect l="l" t="t" r="r" b="b"/>
                <a:pathLst>
                  <a:path w="803" h="1507">
                    <a:moveTo>
                      <a:pt x="680" y="0"/>
                    </a:moveTo>
                    <a:lnTo>
                      <a:pt x="638" y="84"/>
                    </a:lnTo>
                    <a:lnTo>
                      <a:pt x="584" y="196"/>
                    </a:lnTo>
                    <a:lnTo>
                      <a:pt x="529" y="310"/>
                    </a:lnTo>
                    <a:lnTo>
                      <a:pt x="473" y="426"/>
                    </a:lnTo>
                    <a:lnTo>
                      <a:pt x="420" y="543"/>
                    </a:lnTo>
                    <a:lnTo>
                      <a:pt x="366" y="660"/>
                    </a:lnTo>
                    <a:lnTo>
                      <a:pt x="314" y="776"/>
                    </a:lnTo>
                    <a:lnTo>
                      <a:pt x="262" y="890"/>
                    </a:lnTo>
                    <a:lnTo>
                      <a:pt x="213" y="1000"/>
                    </a:lnTo>
                    <a:lnTo>
                      <a:pt x="168" y="1108"/>
                    </a:lnTo>
                    <a:lnTo>
                      <a:pt x="123" y="1210"/>
                    </a:lnTo>
                    <a:lnTo>
                      <a:pt x="82" y="1307"/>
                    </a:lnTo>
                    <a:lnTo>
                      <a:pt x="45" y="1397"/>
                    </a:lnTo>
                    <a:lnTo>
                      <a:pt x="11" y="1480"/>
                    </a:lnTo>
                    <a:lnTo>
                      <a:pt x="0" y="1507"/>
                    </a:lnTo>
                    <a:lnTo>
                      <a:pt x="16" y="1503"/>
                    </a:lnTo>
                    <a:lnTo>
                      <a:pt x="32" y="1501"/>
                    </a:lnTo>
                    <a:lnTo>
                      <a:pt x="48" y="1498"/>
                    </a:lnTo>
                    <a:lnTo>
                      <a:pt x="64" y="1494"/>
                    </a:lnTo>
                    <a:lnTo>
                      <a:pt x="79" y="1492"/>
                    </a:lnTo>
                    <a:lnTo>
                      <a:pt x="95" y="1489"/>
                    </a:lnTo>
                    <a:lnTo>
                      <a:pt x="110" y="1486"/>
                    </a:lnTo>
                    <a:lnTo>
                      <a:pt x="125" y="1483"/>
                    </a:lnTo>
                    <a:lnTo>
                      <a:pt x="127" y="1478"/>
                    </a:lnTo>
                    <a:lnTo>
                      <a:pt x="164" y="1388"/>
                    </a:lnTo>
                    <a:lnTo>
                      <a:pt x="205" y="1291"/>
                    </a:lnTo>
                    <a:lnTo>
                      <a:pt x="249" y="1189"/>
                    </a:lnTo>
                    <a:lnTo>
                      <a:pt x="296" y="1081"/>
                    </a:lnTo>
                    <a:lnTo>
                      <a:pt x="345" y="971"/>
                    </a:lnTo>
                    <a:lnTo>
                      <a:pt x="396" y="857"/>
                    </a:lnTo>
                    <a:lnTo>
                      <a:pt x="448" y="741"/>
                    </a:lnTo>
                    <a:lnTo>
                      <a:pt x="502" y="624"/>
                    </a:lnTo>
                    <a:lnTo>
                      <a:pt x="555" y="507"/>
                    </a:lnTo>
                    <a:lnTo>
                      <a:pt x="610" y="391"/>
                    </a:lnTo>
                    <a:lnTo>
                      <a:pt x="665" y="277"/>
                    </a:lnTo>
                    <a:lnTo>
                      <a:pt x="720" y="165"/>
                    </a:lnTo>
                    <a:lnTo>
                      <a:pt x="773" y="57"/>
                    </a:lnTo>
                    <a:lnTo>
                      <a:pt x="803" y="0"/>
                    </a:lnTo>
                    <a:lnTo>
                      <a:pt x="68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4822920" y="3075120"/>
                <a:ext cx="212760" cy="460080"/>
              </a:xfrm>
              <a:custGeom>
                <a:avLst/>
                <a:gdLst/>
                <a:ahLst/>
                <a:rect l="l" t="t" r="r" b="b"/>
                <a:pathLst>
                  <a:path w="669" h="1450">
                    <a:moveTo>
                      <a:pt x="554" y="0"/>
                    </a:moveTo>
                    <a:lnTo>
                      <a:pt x="507" y="90"/>
                    </a:lnTo>
                    <a:lnTo>
                      <a:pt x="462" y="182"/>
                    </a:lnTo>
                    <a:lnTo>
                      <a:pt x="417" y="276"/>
                    </a:lnTo>
                    <a:lnTo>
                      <a:pt x="375" y="371"/>
                    </a:lnTo>
                    <a:lnTo>
                      <a:pt x="333" y="466"/>
                    </a:lnTo>
                    <a:lnTo>
                      <a:pt x="294" y="562"/>
                    </a:lnTo>
                    <a:lnTo>
                      <a:pt x="256" y="658"/>
                    </a:lnTo>
                    <a:lnTo>
                      <a:pt x="219" y="754"/>
                    </a:lnTo>
                    <a:lnTo>
                      <a:pt x="185" y="849"/>
                    </a:lnTo>
                    <a:lnTo>
                      <a:pt x="152" y="941"/>
                    </a:lnTo>
                    <a:lnTo>
                      <a:pt x="121" y="1032"/>
                    </a:lnTo>
                    <a:lnTo>
                      <a:pt x="93" y="1122"/>
                    </a:lnTo>
                    <a:lnTo>
                      <a:pt x="66" y="1209"/>
                    </a:lnTo>
                    <a:lnTo>
                      <a:pt x="42" y="1292"/>
                    </a:lnTo>
                    <a:lnTo>
                      <a:pt x="20" y="1373"/>
                    </a:lnTo>
                    <a:lnTo>
                      <a:pt x="0" y="1450"/>
                    </a:lnTo>
                    <a:lnTo>
                      <a:pt x="14" y="1449"/>
                    </a:lnTo>
                    <a:lnTo>
                      <a:pt x="29" y="1448"/>
                    </a:lnTo>
                    <a:lnTo>
                      <a:pt x="42" y="1445"/>
                    </a:lnTo>
                    <a:lnTo>
                      <a:pt x="57" y="1444"/>
                    </a:lnTo>
                    <a:lnTo>
                      <a:pt x="71" y="1444"/>
                    </a:lnTo>
                    <a:lnTo>
                      <a:pt x="86" y="1443"/>
                    </a:lnTo>
                    <a:lnTo>
                      <a:pt x="99" y="1442"/>
                    </a:lnTo>
                    <a:lnTo>
                      <a:pt x="114" y="1442"/>
                    </a:lnTo>
                    <a:lnTo>
                      <a:pt x="170" y="1281"/>
                    </a:lnTo>
                    <a:lnTo>
                      <a:pt x="233" y="1108"/>
                    </a:lnTo>
                    <a:lnTo>
                      <a:pt x="301" y="926"/>
                    </a:lnTo>
                    <a:lnTo>
                      <a:pt x="372" y="738"/>
                    </a:lnTo>
                    <a:lnTo>
                      <a:pt x="446" y="547"/>
                    </a:lnTo>
                    <a:lnTo>
                      <a:pt x="520" y="359"/>
                    </a:lnTo>
                    <a:lnTo>
                      <a:pt x="595" y="175"/>
                    </a:lnTo>
                    <a:lnTo>
                      <a:pt x="669" y="0"/>
                    </a:lnTo>
                    <a:lnTo>
                      <a:pt x="55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4807080" y="3075120"/>
                <a:ext cx="212760" cy="463320"/>
              </a:xfrm>
              <a:custGeom>
                <a:avLst/>
                <a:gdLst/>
                <a:ahLst/>
                <a:rect l="l" t="t" r="r" b="b"/>
                <a:pathLst>
                  <a:path w="669" h="1458">
                    <a:moveTo>
                      <a:pt x="105" y="1445"/>
                    </a:moveTo>
                    <a:lnTo>
                      <a:pt x="119" y="1391"/>
                    </a:lnTo>
                    <a:lnTo>
                      <a:pt x="146" y="1296"/>
                    </a:lnTo>
                    <a:lnTo>
                      <a:pt x="175" y="1197"/>
                    </a:lnTo>
                    <a:lnTo>
                      <a:pt x="207" y="1095"/>
                    </a:lnTo>
                    <a:lnTo>
                      <a:pt x="243" y="990"/>
                    </a:lnTo>
                    <a:lnTo>
                      <a:pt x="280" y="882"/>
                    </a:lnTo>
                    <a:lnTo>
                      <a:pt x="320" y="773"/>
                    </a:lnTo>
                    <a:lnTo>
                      <a:pt x="363" y="663"/>
                    </a:lnTo>
                    <a:lnTo>
                      <a:pt x="408" y="552"/>
                    </a:lnTo>
                    <a:lnTo>
                      <a:pt x="455" y="442"/>
                    </a:lnTo>
                    <a:lnTo>
                      <a:pt x="479" y="387"/>
                    </a:lnTo>
                    <a:lnTo>
                      <a:pt x="504" y="332"/>
                    </a:lnTo>
                    <a:lnTo>
                      <a:pt x="529" y="278"/>
                    </a:lnTo>
                    <a:lnTo>
                      <a:pt x="554" y="225"/>
                    </a:lnTo>
                    <a:lnTo>
                      <a:pt x="580" y="171"/>
                    </a:lnTo>
                    <a:lnTo>
                      <a:pt x="606" y="118"/>
                    </a:lnTo>
                    <a:lnTo>
                      <a:pt x="634" y="66"/>
                    </a:lnTo>
                    <a:lnTo>
                      <a:pt x="661" y="15"/>
                    </a:lnTo>
                    <a:lnTo>
                      <a:pt x="669" y="0"/>
                    </a:lnTo>
                    <a:lnTo>
                      <a:pt x="544" y="0"/>
                    </a:lnTo>
                    <a:lnTo>
                      <a:pt x="525" y="36"/>
                    </a:lnTo>
                    <a:lnTo>
                      <a:pt x="498" y="90"/>
                    </a:lnTo>
                    <a:lnTo>
                      <a:pt x="472" y="142"/>
                    </a:lnTo>
                    <a:lnTo>
                      <a:pt x="447" y="197"/>
                    </a:lnTo>
                    <a:lnTo>
                      <a:pt x="422" y="251"/>
                    </a:lnTo>
                    <a:lnTo>
                      <a:pt x="396" y="306"/>
                    </a:lnTo>
                    <a:lnTo>
                      <a:pt x="373" y="360"/>
                    </a:lnTo>
                    <a:lnTo>
                      <a:pt x="326" y="471"/>
                    </a:lnTo>
                    <a:lnTo>
                      <a:pt x="281" y="582"/>
                    </a:lnTo>
                    <a:lnTo>
                      <a:pt x="238" y="692"/>
                    </a:lnTo>
                    <a:lnTo>
                      <a:pt x="198" y="801"/>
                    </a:lnTo>
                    <a:lnTo>
                      <a:pt x="160" y="909"/>
                    </a:lnTo>
                    <a:lnTo>
                      <a:pt x="125" y="1014"/>
                    </a:lnTo>
                    <a:lnTo>
                      <a:pt x="93" y="1116"/>
                    </a:lnTo>
                    <a:lnTo>
                      <a:pt x="64" y="1215"/>
                    </a:lnTo>
                    <a:lnTo>
                      <a:pt x="37" y="1310"/>
                    </a:lnTo>
                    <a:lnTo>
                      <a:pt x="13" y="1399"/>
                    </a:lnTo>
                    <a:lnTo>
                      <a:pt x="0" y="1458"/>
                    </a:lnTo>
                    <a:lnTo>
                      <a:pt x="12" y="1456"/>
                    </a:lnTo>
                    <a:lnTo>
                      <a:pt x="26" y="1453"/>
                    </a:lnTo>
                    <a:lnTo>
                      <a:pt x="40" y="1452"/>
                    </a:lnTo>
                    <a:lnTo>
                      <a:pt x="52" y="1450"/>
                    </a:lnTo>
                    <a:lnTo>
                      <a:pt x="66" y="1449"/>
                    </a:lnTo>
                    <a:lnTo>
                      <a:pt x="78" y="1448"/>
                    </a:lnTo>
                    <a:lnTo>
                      <a:pt x="92" y="1446"/>
                    </a:lnTo>
                    <a:lnTo>
                      <a:pt x="105" y="144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4842000" y="3075120"/>
                <a:ext cx="212760" cy="458640"/>
              </a:xfrm>
              <a:custGeom>
                <a:avLst/>
                <a:gdLst/>
                <a:ahLst/>
                <a:rect l="l" t="t" r="r" b="b"/>
                <a:pathLst>
                  <a:path w="669" h="1444">
                    <a:moveTo>
                      <a:pt x="553" y="0"/>
                    </a:moveTo>
                    <a:lnTo>
                      <a:pt x="548" y="13"/>
                    </a:lnTo>
                    <a:lnTo>
                      <a:pt x="500" y="128"/>
                    </a:lnTo>
                    <a:lnTo>
                      <a:pt x="451" y="245"/>
                    </a:lnTo>
                    <a:lnTo>
                      <a:pt x="403" y="366"/>
                    </a:lnTo>
                    <a:lnTo>
                      <a:pt x="354" y="488"/>
                    </a:lnTo>
                    <a:lnTo>
                      <a:pt x="306" y="611"/>
                    </a:lnTo>
                    <a:lnTo>
                      <a:pt x="259" y="733"/>
                    </a:lnTo>
                    <a:lnTo>
                      <a:pt x="213" y="855"/>
                    </a:lnTo>
                    <a:lnTo>
                      <a:pt x="168" y="975"/>
                    </a:lnTo>
                    <a:lnTo>
                      <a:pt x="126" y="1092"/>
                    </a:lnTo>
                    <a:lnTo>
                      <a:pt x="46" y="1311"/>
                    </a:lnTo>
                    <a:lnTo>
                      <a:pt x="0" y="1444"/>
                    </a:lnTo>
                    <a:lnTo>
                      <a:pt x="14" y="1443"/>
                    </a:lnTo>
                    <a:lnTo>
                      <a:pt x="28" y="1443"/>
                    </a:lnTo>
                    <a:lnTo>
                      <a:pt x="41" y="1442"/>
                    </a:lnTo>
                    <a:lnTo>
                      <a:pt x="55" y="1442"/>
                    </a:lnTo>
                    <a:lnTo>
                      <a:pt x="69" y="1441"/>
                    </a:lnTo>
                    <a:lnTo>
                      <a:pt x="84" y="1441"/>
                    </a:lnTo>
                    <a:lnTo>
                      <a:pt x="97" y="1441"/>
                    </a:lnTo>
                    <a:lnTo>
                      <a:pt x="111" y="1441"/>
                    </a:lnTo>
                    <a:lnTo>
                      <a:pt x="128" y="1392"/>
                    </a:lnTo>
                    <a:lnTo>
                      <a:pt x="208" y="1173"/>
                    </a:lnTo>
                    <a:lnTo>
                      <a:pt x="250" y="1056"/>
                    </a:lnTo>
                    <a:lnTo>
                      <a:pt x="296" y="936"/>
                    </a:lnTo>
                    <a:lnTo>
                      <a:pt x="341" y="816"/>
                    </a:lnTo>
                    <a:lnTo>
                      <a:pt x="388" y="692"/>
                    </a:lnTo>
                    <a:lnTo>
                      <a:pt x="436" y="569"/>
                    </a:lnTo>
                    <a:lnTo>
                      <a:pt x="485" y="447"/>
                    </a:lnTo>
                    <a:lnTo>
                      <a:pt x="533" y="326"/>
                    </a:lnTo>
                    <a:lnTo>
                      <a:pt x="582" y="209"/>
                    </a:lnTo>
                    <a:lnTo>
                      <a:pt x="630" y="94"/>
                    </a:lnTo>
                    <a:lnTo>
                      <a:pt x="669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5342040" y="3075120"/>
                <a:ext cx="220680" cy="484200"/>
              </a:xfrm>
              <a:custGeom>
                <a:avLst/>
                <a:gdLst/>
                <a:ahLst/>
                <a:rect l="l" t="t" r="r" b="b"/>
                <a:pathLst>
                  <a:path w="697" h="1523">
                    <a:moveTo>
                      <a:pt x="589" y="0"/>
                    </a:moveTo>
                    <a:lnTo>
                      <a:pt x="564" y="47"/>
                    </a:lnTo>
                    <a:lnTo>
                      <a:pt x="539" y="93"/>
                    </a:lnTo>
                    <a:lnTo>
                      <a:pt x="515" y="141"/>
                    </a:lnTo>
                    <a:lnTo>
                      <a:pt x="490" y="189"/>
                    </a:lnTo>
                    <a:lnTo>
                      <a:pt x="443" y="287"/>
                    </a:lnTo>
                    <a:lnTo>
                      <a:pt x="397" y="387"/>
                    </a:lnTo>
                    <a:lnTo>
                      <a:pt x="353" y="487"/>
                    </a:lnTo>
                    <a:lnTo>
                      <a:pt x="311" y="588"/>
                    </a:lnTo>
                    <a:lnTo>
                      <a:pt x="270" y="690"/>
                    </a:lnTo>
                    <a:lnTo>
                      <a:pt x="231" y="790"/>
                    </a:lnTo>
                    <a:lnTo>
                      <a:pt x="194" y="890"/>
                    </a:lnTo>
                    <a:lnTo>
                      <a:pt x="159" y="988"/>
                    </a:lnTo>
                    <a:lnTo>
                      <a:pt x="127" y="1085"/>
                    </a:lnTo>
                    <a:lnTo>
                      <a:pt x="96" y="1179"/>
                    </a:lnTo>
                    <a:lnTo>
                      <a:pt x="69" y="1271"/>
                    </a:lnTo>
                    <a:lnTo>
                      <a:pt x="43" y="1359"/>
                    </a:lnTo>
                    <a:lnTo>
                      <a:pt x="20" y="1443"/>
                    </a:lnTo>
                    <a:lnTo>
                      <a:pt x="0" y="1523"/>
                    </a:lnTo>
                    <a:lnTo>
                      <a:pt x="14" y="1523"/>
                    </a:lnTo>
                    <a:lnTo>
                      <a:pt x="28" y="1522"/>
                    </a:lnTo>
                    <a:lnTo>
                      <a:pt x="42" y="1522"/>
                    </a:lnTo>
                    <a:lnTo>
                      <a:pt x="55" y="1521"/>
                    </a:lnTo>
                    <a:lnTo>
                      <a:pt x="69" y="1519"/>
                    </a:lnTo>
                    <a:lnTo>
                      <a:pt x="83" y="1519"/>
                    </a:lnTo>
                    <a:lnTo>
                      <a:pt x="98" y="1518"/>
                    </a:lnTo>
                    <a:lnTo>
                      <a:pt x="111" y="1518"/>
                    </a:lnTo>
                    <a:lnTo>
                      <a:pt x="171" y="1349"/>
                    </a:lnTo>
                    <a:lnTo>
                      <a:pt x="237" y="1167"/>
                    </a:lnTo>
                    <a:lnTo>
                      <a:pt x="308" y="974"/>
                    </a:lnTo>
                    <a:lnTo>
                      <a:pt x="384" y="774"/>
                    </a:lnTo>
                    <a:lnTo>
                      <a:pt x="462" y="573"/>
                    </a:lnTo>
                    <a:lnTo>
                      <a:pt x="541" y="374"/>
                    </a:lnTo>
                    <a:lnTo>
                      <a:pt x="581" y="277"/>
                    </a:lnTo>
                    <a:lnTo>
                      <a:pt x="621" y="181"/>
                    </a:lnTo>
                    <a:lnTo>
                      <a:pt x="660" y="89"/>
                    </a:lnTo>
                    <a:lnTo>
                      <a:pt x="697" y="0"/>
                    </a:lnTo>
                    <a:lnTo>
                      <a:pt x="58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5324400" y="3075120"/>
                <a:ext cx="223920" cy="484200"/>
              </a:xfrm>
              <a:custGeom>
                <a:avLst/>
                <a:gdLst/>
                <a:ahLst/>
                <a:rect l="l" t="t" r="r" b="b"/>
                <a:pathLst>
                  <a:path w="705" h="1525">
                    <a:moveTo>
                      <a:pt x="104" y="1521"/>
                    </a:moveTo>
                    <a:lnTo>
                      <a:pt x="123" y="1448"/>
                    </a:lnTo>
                    <a:lnTo>
                      <a:pt x="150" y="1353"/>
                    </a:lnTo>
                    <a:lnTo>
                      <a:pt x="179" y="1255"/>
                    </a:lnTo>
                    <a:lnTo>
                      <a:pt x="211" y="1153"/>
                    </a:lnTo>
                    <a:lnTo>
                      <a:pt x="246" y="1047"/>
                    </a:lnTo>
                    <a:lnTo>
                      <a:pt x="284" y="940"/>
                    </a:lnTo>
                    <a:lnTo>
                      <a:pt x="324" y="831"/>
                    </a:lnTo>
                    <a:lnTo>
                      <a:pt x="366" y="721"/>
                    </a:lnTo>
                    <a:lnTo>
                      <a:pt x="411" y="610"/>
                    </a:lnTo>
                    <a:lnTo>
                      <a:pt x="458" y="499"/>
                    </a:lnTo>
                    <a:lnTo>
                      <a:pt x="482" y="445"/>
                    </a:lnTo>
                    <a:lnTo>
                      <a:pt x="508" y="390"/>
                    </a:lnTo>
                    <a:lnTo>
                      <a:pt x="533" y="336"/>
                    </a:lnTo>
                    <a:lnTo>
                      <a:pt x="558" y="282"/>
                    </a:lnTo>
                    <a:lnTo>
                      <a:pt x="584" y="229"/>
                    </a:lnTo>
                    <a:lnTo>
                      <a:pt x="610" y="175"/>
                    </a:lnTo>
                    <a:lnTo>
                      <a:pt x="637" y="124"/>
                    </a:lnTo>
                    <a:lnTo>
                      <a:pt x="665" y="73"/>
                    </a:lnTo>
                    <a:lnTo>
                      <a:pt x="692" y="21"/>
                    </a:lnTo>
                    <a:lnTo>
                      <a:pt x="705" y="0"/>
                    </a:lnTo>
                    <a:lnTo>
                      <a:pt x="578" y="0"/>
                    </a:lnTo>
                    <a:lnTo>
                      <a:pt x="555" y="43"/>
                    </a:lnTo>
                    <a:lnTo>
                      <a:pt x="528" y="94"/>
                    </a:lnTo>
                    <a:lnTo>
                      <a:pt x="502" y="147"/>
                    </a:lnTo>
                    <a:lnTo>
                      <a:pt x="476" y="201"/>
                    </a:lnTo>
                    <a:lnTo>
                      <a:pt x="451" y="255"/>
                    </a:lnTo>
                    <a:lnTo>
                      <a:pt x="425" y="309"/>
                    </a:lnTo>
                    <a:lnTo>
                      <a:pt x="400" y="364"/>
                    </a:lnTo>
                    <a:lnTo>
                      <a:pt x="376" y="418"/>
                    </a:lnTo>
                    <a:lnTo>
                      <a:pt x="330" y="529"/>
                    </a:lnTo>
                    <a:lnTo>
                      <a:pt x="284" y="640"/>
                    </a:lnTo>
                    <a:lnTo>
                      <a:pt x="242" y="750"/>
                    </a:lnTo>
                    <a:lnTo>
                      <a:pt x="202" y="859"/>
                    </a:lnTo>
                    <a:lnTo>
                      <a:pt x="164" y="966"/>
                    </a:lnTo>
                    <a:lnTo>
                      <a:pt x="129" y="1071"/>
                    </a:lnTo>
                    <a:lnTo>
                      <a:pt x="97" y="1174"/>
                    </a:lnTo>
                    <a:lnTo>
                      <a:pt x="67" y="1272"/>
                    </a:lnTo>
                    <a:lnTo>
                      <a:pt x="41" y="1367"/>
                    </a:lnTo>
                    <a:lnTo>
                      <a:pt x="17" y="1457"/>
                    </a:lnTo>
                    <a:lnTo>
                      <a:pt x="0" y="1525"/>
                    </a:lnTo>
                    <a:lnTo>
                      <a:pt x="14" y="1525"/>
                    </a:lnTo>
                    <a:lnTo>
                      <a:pt x="26" y="1524"/>
                    </a:lnTo>
                    <a:lnTo>
                      <a:pt x="39" y="1524"/>
                    </a:lnTo>
                    <a:lnTo>
                      <a:pt x="53" y="1523"/>
                    </a:lnTo>
                    <a:lnTo>
                      <a:pt x="65" y="1523"/>
                    </a:lnTo>
                    <a:lnTo>
                      <a:pt x="78" y="1522"/>
                    </a:lnTo>
                    <a:lnTo>
                      <a:pt x="91" y="1522"/>
                    </a:lnTo>
                    <a:lnTo>
                      <a:pt x="104" y="152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5359320" y="3075120"/>
                <a:ext cx="222480" cy="482400"/>
              </a:xfrm>
              <a:custGeom>
                <a:avLst/>
                <a:gdLst/>
                <a:ahLst/>
                <a:rect l="l" t="t" r="r" b="b"/>
                <a:pathLst>
                  <a:path w="701" h="1521">
                    <a:moveTo>
                      <a:pt x="584" y="0"/>
                    </a:moveTo>
                    <a:lnTo>
                      <a:pt x="553" y="72"/>
                    </a:lnTo>
                    <a:lnTo>
                      <a:pt x="505" y="186"/>
                    </a:lnTo>
                    <a:lnTo>
                      <a:pt x="458" y="303"/>
                    </a:lnTo>
                    <a:lnTo>
                      <a:pt x="408" y="424"/>
                    </a:lnTo>
                    <a:lnTo>
                      <a:pt x="361" y="546"/>
                    </a:lnTo>
                    <a:lnTo>
                      <a:pt x="313" y="668"/>
                    </a:lnTo>
                    <a:lnTo>
                      <a:pt x="266" y="792"/>
                    </a:lnTo>
                    <a:lnTo>
                      <a:pt x="219" y="914"/>
                    </a:lnTo>
                    <a:lnTo>
                      <a:pt x="175" y="1033"/>
                    </a:lnTo>
                    <a:lnTo>
                      <a:pt x="133" y="1150"/>
                    </a:lnTo>
                    <a:lnTo>
                      <a:pt x="53" y="1369"/>
                    </a:lnTo>
                    <a:lnTo>
                      <a:pt x="0" y="1521"/>
                    </a:lnTo>
                    <a:lnTo>
                      <a:pt x="14" y="1519"/>
                    </a:lnTo>
                    <a:lnTo>
                      <a:pt x="28" y="1519"/>
                    </a:lnTo>
                    <a:lnTo>
                      <a:pt x="43" y="1518"/>
                    </a:lnTo>
                    <a:lnTo>
                      <a:pt x="56" y="1518"/>
                    </a:lnTo>
                    <a:lnTo>
                      <a:pt x="70" y="1517"/>
                    </a:lnTo>
                    <a:lnTo>
                      <a:pt x="85" y="1516"/>
                    </a:lnTo>
                    <a:lnTo>
                      <a:pt x="98" y="1516"/>
                    </a:lnTo>
                    <a:lnTo>
                      <a:pt x="112" y="1515"/>
                    </a:lnTo>
                    <a:lnTo>
                      <a:pt x="135" y="1450"/>
                    </a:lnTo>
                    <a:lnTo>
                      <a:pt x="215" y="1231"/>
                    </a:lnTo>
                    <a:lnTo>
                      <a:pt x="257" y="1114"/>
                    </a:lnTo>
                    <a:lnTo>
                      <a:pt x="301" y="995"/>
                    </a:lnTo>
                    <a:lnTo>
                      <a:pt x="348" y="873"/>
                    </a:lnTo>
                    <a:lnTo>
                      <a:pt x="395" y="750"/>
                    </a:lnTo>
                    <a:lnTo>
                      <a:pt x="443" y="627"/>
                    </a:lnTo>
                    <a:lnTo>
                      <a:pt x="491" y="505"/>
                    </a:lnTo>
                    <a:lnTo>
                      <a:pt x="540" y="384"/>
                    </a:lnTo>
                    <a:lnTo>
                      <a:pt x="587" y="267"/>
                    </a:lnTo>
                    <a:lnTo>
                      <a:pt x="635" y="153"/>
                    </a:lnTo>
                    <a:lnTo>
                      <a:pt x="683" y="43"/>
                    </a:lnTo>
                    <a:lnTo>
                      <a:pt x="701" y="0"/>
                    </a:lnTo>
                    <a:lnTo>
                      <a:pt x="584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5240160" y="3075120"/>
                <a:ext cx="212760" cy="487080"/>
              </a:xfrm>
              <a:custGeom>
                <a:avLst/>
                <a:gdLst/>
                <a:ahLst/>
                <a:rect l="l" t="t" r="r" b="b"/>
                <a:pathLst>
                  <a:path w="671" h="1533">
                    <a:moveTo>
                      <a:pt x="548" y="0"/>
                    </a:moveTo>
                    <a:lnTo>
                      <a:pt x="523" y="50"/>
                    </a:lnTo>
                    <a:lnTo>
                      <a:pt x="499" y="100"/>
                    </a:lnTo>
                    <a:lnTo>
                      <a:pt x="474" y="152"/>
                    </a:lnTo>
                    <a:lnTo>
                      <a:pt x="450" y="203"/>
                    </a:lnTo>
                    <a:lnTo>
                      <a:pt x="404" y="307"/>
                    </a:lnTo>
                    <a:lnTo>
                      <a:pt x="360" y="412"/>
                    </a:lnTo>
                    <a:lnTo>
                      <a:pt x="316" y="517"/>
                    </a:lnTo>
                    <a:lnTo>
                      <a:pt x="275" y="620"/>
                    </a:lnTo>
                    <a:lnTo>
                      <a:pt x="236" y="724"/>
                    </a:lnTo>
                    <a:lnTo>
                      <a:pt x="201" y="827"/>
                    </a:lnTo>
                    <a:lnTo>
                      <a:pt x="167" y="927"/>
                    </a:lnTo>
                    <a:lnTo>
                      <a:pt x="135" y="1025"/>
                    </a:lnTo>
                    <a:lnTo>
                      <a:pt x="105" y="1120"/>
                    </a:lnTo>
                    <a:lnTo>
                      <a:pt x="79" y="1211"/>
                    </a:lnTo>
                    <a:lnTo>
                      <a:pt x="55" y="1299"/>
                    </a:lnTo>
                    <a:lnTo>
                      <a:pt x="34" y="1383"/>
                    </a:lnTo>
                    <a:lnTo>
                      <a:pt x="15" y="1461"/>
                    </a:lnTo>
                    <a:lnTo>
                      <a:pt x="0" y="1533"/>
                    </a:lnTo>
                    <a:lnTo>
                      <a:pt x="12" y="1533"/>
                    </a:lnTo>
                    <a:lnTo>
                      <a:pt x="23" y="1533"/>
                    </a:lnTo>
                    <a:lnTo>
                      <a:pt x="35" y="1533"/>
                    </a:lnTo>
                    <a:lnTo>
                      <a:pt x="46" y="1532"/>
                    </a:lnTo>
                    <a:lnTo>
                      <a:pt x="57" y="1532"/>
                    </a:lnTo>
                    <a:lnTo>
                      <a:pt x="69" y="1532"/>
                    </a:lnTo>
                    <a:lnTo>
                      <a:pt x="80" y="1532"/>
                    </a:lnTo>
                    <a:lnTo>
                      <a:pt x="92" y="1531"/>
                    </a:lnTo>
                    <a:lnTo>
                      <a:pt x="144" y="1378"/>
                    </a:lnTo>
                    <a:lnTo>
                      <a:pt x="206" y="1205"/>
                    </a:lnTo>
                    <a:lnTo>
                      <a:pt x="274" y="1015"/>
                    </a:lnTo>
                    <a:lnTo>
                      <a:pt x="348" y="816"/>
                    </a:lnTo>
                    <a:lnTo>
                      <a:pt x="427" y="609"/>
                    </a:lnTo>
                    <a:lnTo>
                      <a:pt x="508" y="401"/>
                    </a:lnTo>
                    <a:lnTo>
                      <a:pt x="549" y="299"/>
                    </a:lnTo>
                    <a:lnTo>
                      <a:pt x="590" y="197"/>
                    </a:lnTo>
                    <a:lnTo>
                      <a:pt x="631" y="97"/>
                    </a:lnTo>
                    <a:lnTo>
                      <a:pt x="671" y="0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5224320" y="3075120"/>
                <a:ext cx="209520" cy="487080"/>
              </a:xfrm>
              <a:custGeom>
                <a:avLst/>
                <a:gdLst/>
                <a:ahLst/>
                <a:rect l="l" t="t" r="r" b="b"/>
                <a:pathLst>
                  <a:path w="659" h="1534">
                    <a:moveTo>
                      <a:pt x="100" y="1532"/>
                    </a:moveTo>
                    <a:lnTo>
                      <a:pt x="111" y="1480"/>
                    </a:lnTo>
                    <a:lnTo>
                      <a:pt x="130" y="1395"/>
                    </a:lnTo>
                    <a:lnTo>
                      <a:pt x="154" y="1305"/>
                    </a:lnTo>
                    <a:lnTo>
                      <a:pt x="181" y="1211"/>
                    </a:lnTo>
                    <a:lnTo>
                      <a:pt x="210" y="1112"/>
                    </a:lnTo>
                    <a:lnTo>
                      <a:pt x="242" y="1011"/>
                    </a:lnTo>
                    <a:lnTo>
                      <a:pt x="277" y="906"/>
                    </a:lnTo>
                    <a:lnTo>
                      <a:pt x="315" y="797"/>
                    </a:lnTo>
                    <a:lnTo>
                      <a:pt x="355" y="689"/>
                    </a:lnTo>
                    <a:lnTo>
                      <a:pt x="398" y="578"/>
                    </a:lnTo>
                    <a:lnTo>
                      <a:pt x="443" y="468"/>
                    </a:lnTo>
                    <a:lnTo>
                      <a:pt x="489" y="357"/>
                    </a:lnTo>
                    <a:lnTo>
                      <a:pt x="513" y="302"/>
                    </a:lnTo>
                    <a:lnTo>
                      <a:pt x="539" y="247"/>
                    </a:lnTo>
                    <a:lnTo>
                      <a:pt x="564" y="194"/>
                    </a:lnTo>
                    <a:lnTo>
                      <a:pt x="589" y="140"/>
                    </a:lnTo>
                    <a:lnTo>
                      <a:pt x="615" y="86"/>
                    </a:lnTo>
                    <a:lnTo>
                      <a:pt x="641" y="34"/>
                    </a:lnTo>
                    <a:lnTo>
                      <a:pt x="659" y="0"/>
                    </a:lnTo>
                    <a:lnTo>
                      <a:pt x="536" y="0"/>
                    </a:lnTo>
                    <a:lnTo>
                      <a:pt x="533" y="5"/>
                    </a:lnTo>
                    <a:lnTo>
                      <a:pt x="507" y="58"/>
                    </a:lnTo>
                    <a:lnTo>
                      <a:pt x="482" y="113"/>
                    </a:lnTo>
                    <a:lnTo>
                      <a:pt x="456" y="166"/>
                    </a:lnTo>
                    <a:lnTo>
                      <a:pt x="431" y="221"/>
                    </a:lnTo>
                    <a:lnTo>
                      <a:pt x="407" y="276"/>
                    </a:lnTo>
                    <a:lnTo>
                      <a:pt x="361" y="387"/>
                    </a:lnTo>
                    <a:lnTo>
                      <a:pt x="316" y="497"/>
                    </a:lnTo>
                    <a:lnTo>
                      <a:pt x="273" y="608"/>
                    </a:lnTo>
                    <a:lnTo>
                      <a:pt x="233" y="716"/>
                    </a:lnTo>
                    <a:lnTo>
                      <a:pt x="195" y="825"/>
                    </a:lnTo>
                    <a:lnTo>
                      <a:pt x="160" y="930"/>
                    </a:lnTo>
                    <a:lnTo>
                      <a:pt x="128" y="1031"/>
                    </a:lnTo>
                    <a:lnTo>
                      <a:pt x="98" y="1130"/>
                    </a:lnTo>
                    <a:lnTo>
                      <a:pt x="72" y="1224"/>
                    </a:lnTo>
                    <a:lnTo>
                      <a:pt x="48" y="1314"/>
                    </a:lnTo>
                    <a:lnTo>
                      <a:pt x="28" y="1399"/>
                    </a:lnTo>
                    <a:lnTo>
                      <a:pt x="12" y="1476"/>
                    </a:lnTo>
                    <a:lnTo>
                      <a:pt x="4" y="1513"/>
                    </a:lnTo>
                    <a:lnTo>
                      <a:pt x="0" y="1534"/>
                    </a:lnTo>
                    <a:lnTo>
                      <a:pt x="13" y="1534"/>
                    </a:lnTo>
                    <a:lnTo>
                      <a:pt x="24" y="1533"/>
                    </a:lnTo>
                    <a:lnTo>
                      <a:pt x="37" y="1533"/>
                    </a:lnTo>
                    <a:lnTo>
                      <a:pt x="49" y="1533"/>
                    </a:lnTo>
                    <a:lnTo>
                      <a:pt x="62" y="1533"/>
                    </a:lnTo>
                    <a:lnTo>
                      <a:pt x="75" y="1533"/>
                    </a:lnTo>
                    <a:lnTo>
                      <a:pt x="87" y="1532"/>
                    </a:lnTo>
                    <a:lnTo>
                      <a:pt x="100" y="153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5251320" y="3075120"/>
                <a:ext cx="220680" cy="485640"/>
              </a:xfrm>
              <a:custGeom>
                <a:avLst/>
                <a:gdLst/>
                <a:ahLst/>
                <a:rect l="l" t="t" r="r" b="b"/>
                <a:pathLst>
                  <a:path w="692" h="1532">
                    <a:moveTo>
                      <a:pt x="577" y="0"/>
                    </a:moveTo>
                    <a:lnTo>
                      <a:pt x="559" y="43"/>
                    </a:lnTo>
                    <a:lnTo>
                      <a:pt x="510" y="161"/>
                    </a:lnTo>
                    <a:lnTo>
                      <a:pt x="462" y="282"/>
                    </a:lnTo>
                    <a:lnTo>
                      <a:pt x="413" y="404"/>
                    </a:lnTo>
                    <a:lnTo>
                      <a:pt x="365" y="527"/>
                    </a:lnTo>
                    <a:lnTo>
                      <a:pt x="318" y="649"/>
                    </a:lnTo>
                    <a:lnTo>
                      <a:pt x="272" y="771"/>
                    </a:lnTo>
                    <a:lnTo>
                      <a:pt x="228" y="891"/>
                    </a:lnTo>
                    <a:lnTo>
                      <a:pt x="185" y="1007"/>
                    </a:lnTo>
                    <a:lnTo>
                      <a:pt x="106" y="1226"/>
                    </a:lnTo>
                    <a:lnTo>
                      <a:pt x="38" y="1422"/>
                    </a:lnTo>
                    <a:lnTo>
                      <a:pt x="8" y="1508"/>
                    </a:lnTo>
                    <a:lnTo>
                      <a:pt x="0" y="1532"/>
                    </a:lnTo>
                    <a:lnTo>
                      <a:pt x="14" y="1532"/>
                    </a:lnTo>
                    <a:lnTo>
                      <a:pt x="27" y="1532"/>
                    </a:lnTo>
                    <a:lnTo>
                      <a:pt x="41" y="1532"/>
                    </a:lnTo>
                    <a:lnTo>
                      <a:pt x="55" y="1531"/>
                    </a:lnTo>
                    <a:lnTo>
                      <a:pt x="68" y="1531"/>
                    </a:lnTo>
                    <a:lnTo>
                      <a:pt x="82" y="1531"/>
                    </a:lnTo>
                    <a:lnTo>
                      <a:pt x="96" y="1530"/>
                    </a:lnTo>
                    <a:lnTo>
                      <a:pt x="111" y="1530"/>
                    </a:lnTo>
                    <a:lnTo>
                      <a:pt x="120" y="1503"/>
                    </a:lnTo>
                    <a:lnTo>
                      <a:pt x="188" y="1307"/>
                    </a:lnTo>
                    <a:lnTo>
                      <a:pt x="267" y="1088"/>
                    </a:lnTo>
                    <a:lnTo>
                      <a:pt x="310" y="972"/>
                    </a:lnTo>
                    <a:lnTo>
                      <a:pt x="354" y="852"/>
                    </a:lnTo>
                    <a:lnTo>
                      <a:pt x="400" y="730"/>
                    </a:lnTo>
                    <a:lnTo>
                      <a:pt x="447" y="608"/>
                    </a:lnTo>
                    <a:lnTo>
                      <a:pt x="495" y="485"/>
                    </a:lnTo>
                    <a:lnTo>
                      <a:pt x="544" y="363"/>
                    </a:lnTo>
                    <a:lnTo>
                      <a:pt x="592" y="242"/>
                    </a:lnTo>
                    <a:lnTo>
                      <a:pt x="641" y="124"/>
                    </a:lnTo>
                    <a:lnTo>
                      <a:pt x="688" y="10"/>
                    </a:lnTo>
                    <a:lnTo>
                      <a:pt x="692" y="0"/>
                    </a:lnTo>
                    <a:lnTo>
                      <a:pt x="57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5826240" y="3075120"/>
                <a:ext cx="215640" cy="463320"/>
              </a:xfrm>
              <a:custGeom>
                <a:avLst/>
                <a:gdLst/>
                <a:ahLst/>
                <a:rect l="l" t="t" r="r" b="b"/>
                <a:pathLst>
                  <a:path w="677" h="1459">
                    <a:moveTo>
                      <a:pt x="569" y="0"/>
                    </a:moveTo>
                    <a:lnTo>
                      <a:pt x="522" y="86"/>
                    </a:lnTo>
                    <a:lnTo>
                      <a:pt x="477" y="177"/>
                    </a:lnTo>
                    <a:lnTo>
                      <a:pt x="432" y="267"/>
                    </a:lnTo>
                    <a:lnTo>
                      <a:pt x="389" y="359"/>
                    </a:lnTo>
                    <a:lnTo>
                      <a:pt x="347" y="453"/>
                    </a:lnTo>
                    <a:lnTo>
                      <a:pt x="307" y="547"/>
                    </a:lnTo>
                    <a:lnTo>
                      <a:pt x="268" y="641"/>
                    </a:lnTo>
                    <a:lnTo>
                      <a:pt x="232" y="736"/>
                    </a:lnTo>
                    <a:lnTo>
                      <a:pt x="196" y="829"/>
                    </a:lnTo>
                    <a:lnTo>
                      <a:pt x="162" y="922"/>
                    </a:lnTo>
                    <a:lnTo>
                      <a:pt x="130" y="1013"/>
                    </a:lnTo>
                    <a:lnTo>
                      <a:pt x="101" y="1103"/>
                    </a:lnTo>
                    <a:lnTo>
                      <a:pt x="72" y="1191"/>
                    </a:lnTo>
                    <a:lnTo>
                      <a:pt x="46" y="1275"/>
                    </a:lnTo>
                    <a:lnTo>
                      <a:pt x="22" y="1357"/>
                    </a:lnTo>
                    <a:lnTo>
                      <a:pt x="0" y="1437"/>
                    </a:lnTo>
                    <a:lnTo>
                      <a:pt x="7" y="1437"/>
                    </a:lnTo>
                    <a:lnTo>
                      <a:pt x="14" y="1437"/>
                    </a:lnTo>
                    <a:lnTo>
                      <a:pt x="21" y="1437"/>
                    </a:lnTo>
                    <a:lnTo>
                      <a:pt x="28" y="1436"/>
                    </a:lnTo>
                    <a:lnTo>
                      <a:pt x="34" y="1436"/>
                    </a:lnTo>
                    <a:lnTo>
                      <a:pt x="41" y="1436"/>
                    </a:lnTo>
                    <a:lnTo>
                      <a:pt x="48" y="1436"/>
                    </a:lnTo>
                    <a:lnTo>
                      <a:pt x="55" y="1436"/>
                    </a:lnTo>
                    <a:lnTo>
                      <a:pt x="62" y="1440"/>
                    </a:lnTo>
                    <a:lnTo>
                      <a:pt x="69" y="1443"/>
                    </a:lnTo>
                    <a:lnTo>
                      <a:pt x="75" y="1445"/>
                    </a:lnTo>
                    <a:lnTo>
                      <a:pt x="82" y="1449"/>
                    </a:lnTo>
                    <a:lnTo>
                      <a:pt x="89" y="1451"/>
                    </a:lnTo>
                    <a:lnTo>
                      <a:pt x="96" y="1454"/>
                    </a:lnTo>
                    <a:lnTo>
                      <a:pt x="103" y="1457"/>
                    </a:lnTo>
                    <a:lnTo>
                      <a:pt x="111" y="1459"/>
                    </a:lnTo>
                    <a:lnTo>
                      <a:pt x="170" y="1294"/>
                    </a:lnTo>
                    <a:lnTo>
                      <a:pt x="235" y="1114"/>
                    </a:lnTo>
                    <a:lnTo>
                      <a:pt x="305" y="928"/>
                    </a:lnTo>
                    <a:lnTo>
                      <a:pt x="378" y="737"/>
                    </a:lnTo>
                    <a:lnTo>
                      <a:pt x="452" y="545"/>
                    </a:lnTo>
                    <a:lnTo>
                      <a:pt x="528" y="356"/>
                    </a:lnTo>
                    <a:lnTo>
                      <a:pt x="566" y="263"/>
                    </a:lnTo>
                    <a:lnTo>
                      <a:pt x="603" y="173"/>
                    </a:lnTo>
                    <a:lnTo>
                      <a:pt x="641" y="85"/>
                    </a:lnTo>
                    <a:lnTo>
                      <a:pt x="677" y="0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5810400" y="3075120"/>
                <a:ext cx="217440" cy="455400"/>
              </a:xfrm>
              <a:custGeom>
                <a:avLst/>
                <a:gdLst/>
                <a:ahLst/>
                <a:rect l="l" t="t" r="r" b="b"/>
                <a:pathLst>
                  <a:path w="684" h="1437">
                    <a:moveTo>
                      <a:pt x="104" y="1436"/>
                    </a:moveTo>
                    <a:lnTo>
                      <a:pt x="125" y="1359"/>
                    </a:lnTo>
                    <a:lnTo>
                      <a:pt x="155" y="1259"/>
                    </a:lnTo>
                    <a:lnTo>
                      <a:pt x="188" y="1158"/>
                    </a:lnTo>
                    <a:lnTo>
                      <a:pt x="222" y="1053"/>
                    </a:lnTo>
                    <a:lnTo>
                      <a:pt x="260" y="944"/>
                    </a:lnTo>
                    <a:lnTo>
                      <a:pt x="301" y="836"/>
                    </a:lnTo>
                    <a:lnTo>
                      <a:pt x="343" y="725"/>
                    </a:lnTo>
                    <a:lnTo>
                      <a:pt x="388" y="615"/>
                    </a:lnTo>
                    <a:lnTo>
                      <a:pt x="434" y="505"/>
                    </a:lnTo>
                    <a:lnTo>
                      <a:pt x="458" y="449"/>
                    </a:lnTo>
                    <a:lnTo>
                      <a:pt x="483" y="395"/>
                    </a:lnTo>
                    <a:lnTo>
                      <a:pt x="508" y="341"/>
                    </a:lnTo>
                    <a:lnTo>
                      <a:pt x="535" y="287"/>
                    </a:lnTo>
                    <a:lnTo>
                      <a:pt x="560" y="234"/>
                    </a:lnTo>
                    <a:lnTo>
                      <a:pt x="587" y="181"/>
                    </a:lnTo>
                    <a:lnTo>
                      <a:pt x="613" y="129"/>
                    </a:lnTo>
                    <a:lnTo>
                      <a:pt x="641" y="77"/>
                    </a:lnTo>
                    <a:lnTo>
                      <a:pt x="669" y="27"/>
                    </a:lnTo>
                    <a:lnTo>
                      <a:pt x="684" y="0"/>
                    </a:lnTo>
                    <a:lnTo>
                      <a:pt x="557" y="0"/>
                    </a:lnTo>
                    <a:lnTo>
                      <a:pt x="531" y="48"/>
                    </a:lnTo>
                    <a:lnTo>
                      <a:pt x="505" y="99"/>
                    </a:lnTo>
                    <a:lnTo>
                      <a:pt x="479" y="153"/>
                    </a:lnTo>
                    <a:lnTo>
                      <a:pt x="453" y="205"/>
                    </a:lnTo>
                    <a:lnTo>
                      <a:pt x="426" y="260"/>
                    </a:lnTo>
                    <a:lnTo>
                      <a:pt x="401" y="314"/>
                    </a:lnTo>
                    <a:lnTo>
                      <a:pt x="376" y="368"/>
                    </a:lnTo>
                    <a:lnTo>
                      <a:pt x="352" y="423"/>
                    </a:lnTo>
                    <a:lnTo>
                      <a:pt x="305" y="534"/>
                    </a:lnTo>
                    <a:lnTo>
                      <a:pt x="261" y="644"/>
                    </a:lnTo>
                    <a:lnTo>
                      <a:pt x="219" y="755"/>
                    </a:lnTo>
                    <a:lnTo>
                      <a:pt x="178" y="863"/>
                    </a:lnTo>
                    <a:lnTo>
                      <a:pt x="140" y="972"/>
                    </a:lnTo>
                    <a:lnTo>
                      <a:pt x="106" y="1077"/>
                    </a:lnTo>
                    <a:lnTo>
                      <a:pt x="73" y="1178"/>
                    </a:lnTo>
                    <a:lnTo>
                      <a:pt x="43" y="1278"/>
                    </a:lnTo>
                    <a:lnTo>
                      <a:pt x="17" y="1372"/>
                    </a:lnTo>
                    <a:lnTo>
                      <a:pt x="0" y="1437"/>
                    </a:lnTo>
                    <a:lnTo>
                      <a:pt x="12" y="1437"/>
                    </a:lnTo>
                    <a:lnTo>
                      <a:pt x="26" y="1437"/>
                    </a:lnTo>
                    <a:lnTo>
                      <a:pt x="39" y="1437"/>
                    </a:lnTo>
                    <a:lnTo>
                      <a:pt x="52" y="1437"/>
                    </a:lnTo>
                    <a:lnTo>
                      <a:pt x="65" y="1437"/>
                    </a:lnTo>
                    <a:lnTo>
                      <a:pt x="79" y="1436"/>
                    </a:lnTo>
                    <a:lnTo>
                      <a:pt x="91" y="1436"/>
                    </a:lnTo>
                    <a:lnTo>
                      <a:pt x="104" y="14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5846760" y="3075120"/>
                <a:ext cx="214200" cy="468360"/>
              </a:xfrm>
              <a:custGeom>
                <a:avLst/>
                <a:gdLst/>
                <a:ahLst/>
                <a:rect l="l" t="t" r="r" b="b"/>
                <a:pathLst>
                  <a:path w="675" h="1476">
                    <a:moveTo>
                      <a:pt x="557" y="0"/>
                    </a:moveTo>
                    <a:lnTo>
                      <a:pt x="524" y="76"/>
                    </a:lnTo>
                    <a:lnTo>
                      <a:pt x="476" y="190"/>
                    </a:lnTo>
                    <a:lnTo>
                      <a:pt x="428" y="308"/>
                    </a:lnTo>
                    <a:lnTo>
                      <a:pt x="379" y="429"/>
                    </a:lnTo>
                    <a:lnTo>
                      <a:pt x="332" y="551"/>
                    </a:lnTo>
                    <a:lnTo>
                      <a:pt x="284" y="674"/>
                    </a:lnTo>
                    <a:lnTo>
                      <a:pt x="236" y="796"/>
                    </a:lnTo>
                    <a:lnTo>
                      <a:pt x="190" y="918"/>
                    </a:lnTo>
                    <a:lnTo>
                      <a:pt x="146" y="1038"/>
                    </a:lnTo>
                    <a:lnTo>
                      <a:pt x="102" y="1154"/>
                    </a:lnTo>
                    <a:lnTo>
                      <a:pt x="24" y="1373"/>
                    </a:lnTo>
                    <a:lnTo>
                      <a:pt x="0" y="1440"/>
                    </a:lnTo>
                    <a:lnTo>
                      <a:pt x="11" y="1445"/>
                    </a:lnTo>
                    <a:lnTo>
                      <a:pt x="24" y="1450"/>
                    </a:lnTo>
                    <a:lnTo>
                      <a:pt x="35" y="1454"/>
                    </a:lnTo>
                    <a:lnTo>
                      <a:pt x="48" y="1459"/>
                    </a:lnTo>
                    <a:lnTo>
                      <a:pt x="60" y="1464"/>
                    </a:lnTo>
                    <a:lnTo>
                      <a:pt x="73" y="1468"/>
                    </a:lnTo>
                    <a:lnTo>
                      <a:pt x="85" y="1473"/>
                    </a:lnTo>
                    <a:lnTo>
                      <a:pt x="98" y="1476"/>
                    </a:lnTo>
                    <a:lnTo>
                      <a:pt x="106" y="1454"/>
                    </a:lnTo>
                    <a:lnTo>
                      <a:pt x="184" y="1235"/>
                    </a:lnTo>
                    <a:lnTo>
                      <a:pt x="228" y="1119"/>
                    </a:lnTo>
                    <a:lnTo>
                      <a:pt x="272" y="999"/>
                    </a:lnTo>
                    <a:lnTo>
                      <a:pt x="318" y="878"/>
                    </a:lnTo>
                    <a:lnTo>
                      <a:pt x="366" y="755"/>
                    </a:lnTo>
                    <a:lnTo>
                      <a:pt x="414" y="632"/>
                    </a:lnTo>
                    <a:lnTo>
                      <a:pt x="462" y="510"/>
                    </a:lnTo>
                    <a:lnTo>
                      <a:pt x="509" y="389"/>
                    </a:lnTo>
                    <a:lnTo>
                      <a:pt x="558" y="271"/>
                    </a:lnTo>
                    <a:lnTo>
                      <a:pt x="606" y="157"/>
                    </a:lnTo>
                    <a:lnTo>
                      <a:pt x="653" y="48"/>
                    </a:lnTo>
                    <a:lnTo>
                      <a:pt x="675" y="0"/>
                    </a:lnTo>
                    <a:lnTo>
                      <a:pt x="55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6234120" y="3075120"/>
                <a:ext cx="111240" cy="484200"/>
              </a:xfrm>
              <a:custGeom>
                <a:avLst/>
                <a:gdLst/>
                <a:ahLst/>
                <a:rect l="l" t="t" r="r" b="b"/>
                <a:pathLst>
                  <a:path w="349" h="1527">
                    <a:moveTo>
                      <a:pt x="243" y="0"/>
                    </a:moveTo>
                    <a:lnTo>
                      <a:pt x="217" y="100"/>
                    </a:lnTo>
                    <a:lnTo>
                      <a:pt x="194" y="201"/>
                    </a:lnTo>
                    <a:lnTo>
                      <a:pt x="171" y="303"/>
                    </a:lnTo>
                    <a:lnTo>
                      <a:pt x="149" y="405"/>
                    </a:lnTo>
                    <a:lnTo>
                      <a:pt x="129" y="506"/>
                    </a:lnTo>
                    <a:lnTo>
                      <a:pt x="110" y="608"/>
                    </a:lnTo>
                    <a:lnTo>
                      <a:pt x="93" y="709"/>
                    </a:lnTo>
                    <a:lnTo>
                      <a:pt x="77" y="809"/>
                    </a:lnTo>
                    <a:lnTo>
                      <a:pt x="64" y="907"/>
                    </a:lnTo>
                    <a:lnTo>
                      <a:pt x="50" y="1004"/>
                    </a:lnTo>
                    <a:lnTo>
                      <a:pt x="39" y="1098"/>
                    </a:lnTo>
                    <a:lnTo>
                      <a:pt x="28" y="1191"/>
                    </a:lnTo>
                    <a:lnTo>
                      <a:pt x="19" y="1280"/>
                    </a:lnTo>
                    <a:lnTo>
                      <a:pt x="11" y="1367"/>
                    </a:lnTo>
                    <a:lnTo>
                      <a:pt x="5" y="1449"/>
                    </a:lnTo>
                    <a:lnTo>
                      <a:pt x="0" y="1527"/>
                    </a:lnTo>
                    <a:lnTo>
                      <a:pt x="13" y="1527"/>
                    </a:lnTo>
                    <a:lnTo>
                      <a:pt x="26" y="1526"/>
                    </a:lnTo>
                    <a:lnTo>
                      <a:pt x="40" y="1525"/>
                    </a:lnTo>
                    <a:lnTo>
                      <a:pt x="52" y="1524"/>
                    </a:lnTo>
                    <a:lnTo>
                      <a:pt x="66" y="1523"/>
                    </a:lnTo>
                    <a:lnTo>
                      <a:pt x="78" y="1522"/>
                    </a:lnTo>
                    <a:lnTo>
                      <a:pt x="91" y="1521"/>
                    </a:lnTo>
                    <a:lnTo>
                      <a:pt x="105" y="1519"/>
                    </a:lnTo>
                    <a:lnTo>
                      <a:pt x="127" y="1354"/>
                    </a:lnTo>
                    <a:lnTo>
                      <a:pt x="153" y="1175"/>
                    </a:lnTo>
                    <a:lnTo>
                      <a:pt x="181" y="986"/>
                    </a:lnTo>
                    <a:lnTo>
                      <a:pt x="212" y="789"/>
                    </a:lnTo>
                    <a:lnTo>
                      <a:pt x="244" y="588"/>
                    </a:lnTo>
                    <a:lnTo>
                      <a:pt x="278" y="389"/>
                    </a:lnTo>
                    <a:lnTo>
                      <a:pt x="312" y="191"/>
                    </a:lnTo>
                    <a:lnTo>
                      <a:pt x="349" y="0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6219720" y="3075120"/>
                <a:ext cx="108000" cy="485640"/>
              </a:xfrm>
              <a:custGeom>
                <a:avLst/>
                <a:gdLst/>
                <a:ahLst/>
                <a:rect l="l" t="t" r="r" b="b"/>
                <a:pathLst>
                  <a:path w="339" h="1531">
                    <a:moveTo>
                      <a:pt x="88" y="1525"/>
                    </a:moveTo>
                    <a:lnTo>
                      <a:pt x="89" y="1505"/>
                    </a:lnTo>
                    <a:lnTo>
                      <a:pt x="96" y="1403"/>
                    </a:lnTo>
                    <a:lnTo>
                      <a:pt x="106" y="1296"/>
                    </a:lnTo>
                    <a:lnTo>
                      <a:pt x="118" y="1184"/>
                    </a:lnTo>
                    <a:lnTo>
                      <a:pt x="132" y="1069"/>
                    </a:lnTo>
                    <a:lnTo>
                      <a:pt x="147" y="950"/>
                    </a:lnTo>
                    <a:lnTo>
                      <a:pt x="166" y="829"/>
                    </a:lnTo>
                    <a:lnTo>
                      <a:pt x="186" y="705"/>
                    </a:lnTo>
                    <a:lnTo>
                      <a:pt x="208" y="580"/>
                    </a:lnTo>
                    <a:lnTo>
                      <a:pt x="232" y="455"/>
                    </a:lnTo>
                    <a:lnTo>
                      <a:pt x="258" y="330"/>
                    </a:lnTo>
                    <a:lnTo>
                      <a:pt x="287" y="204"/>
                    </a:lnTo>
                    <a:lnTo>
                      <a:pt x="301" y="142"/>
                    </a:lnTo>
                    <a:lnTo>
                      <a:pt x="317" y="81"/>
                    </a:lnTo>
                    <a:lnTo>
                      <a:pt x="333" y="19"/>
                    </a:lnTo>
                    <a:lnTo>
                      <a:pt x="339" y="0"/>
                    </a:lnTo>
                    <a:lnTo>
                      <a:pt x="235" y="0"/>
                    </a:lnTo>
                    <a:lnTo>
                      <a:pt x="219" y="61"/>
                    </a:lnTo>
                    <a:lnTo>
                      <a:pt x="204" y="123"/>
                    </a:lnTo>
                    <a:lnTo>
                      <a:pt x="176" y="248"/>
                    </a:lnTo>
                    <a:lnTo>
                      <a:pt x="150" y="374"/>
                    </a:lnTo>
                    <a:lnTo>
                      <a:pt x="126" y="499"/>
                    </a:lnTo>
                    <a:lnTo>
                      <a:pt x="103" y="625"/>
                    </a:lnTo>
                    <a:lnTo>
                      <a:pt x="84" y="748"/>
                    </a:lnTo>
                    <a:lnTo>
                      <a:pt x="65" y="869"/>
                    </a:lnTo>
                    <a:lnTo>
                      <a:pt x="49" y="989"/>
                    </a:lnTo>
                    <a:lnTo>
                      <a:pt x="36" y="1104"/>
                    </a:lnTo>
                    <a:lnTo>
                      <a:pt x="24" y="1216"/>
                    </a:lnTo>
                    <a:lnTo>
                      <a:pt x="14" y="1322"/>
                    </a:lnTo>
                    <a:lnTo>
                      <a:pt x="7" y="1425"/>
                    </a:lnTo>
                    <a:lnTo>
                      <a:pt x="2" y="1521"/>
                    </a:lnTo>
                    <a:lnTo>
                      <a:pt x="0" y="1531"/>
                    </a:lnTo>
                    <a:lnTo>
                      <a:pt x="12" y="1530"/>
                    </a:lnTo>
                    <a:lnTo>
                      <a:pt x="22" y="1530"/>
                    </a:lnTo>
                    <a:lnTo>
                      <a:pt x="33" y="1529"/>
                    </a:lnTo>
                    <a:lnTo>
                      <a:pt x="45" y="1527"/>
                    </a:lnTo>
                    <a:lnTo>
                      <a:pt x="55" y="1527"/>
                    </a:lnTo>
                    <a:lnTo>
                      <a:pt x="67" y="1526"/>
                    </a:lnTo>
                    <a:lnTo>
                      <a:pt x="77" y="1525"/>
                    </a:lnTo>
                    <a:lnTo>
                      <a:pt x="88" y="152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6251400" y="3075120"/>
                <a:ext cx="108000" cy="484200"/>
              </a:xfrm>
              <a:custGeom>
                <a:avLst/>
                <a:gdLst/>
                <a:ahLst/>
                <a:rect l="l" t="t" r="r" b="b"/>
                <a:pathLst>
                  <a:path w="338" h="1524">
                    <a:moveTo>
                      <a:pt x="242" y="0"/>
                    </a:moveTo>
                    <a:lnTo>
                      <a:pt x="232" y="50"/>
                    </a:lnTo>
                    <a:lnTo>
                      <a:pt x="207" y="183"/>
                    </a:lnTo>
                    <a:lnTo>
                      <a:pt x="183" y="319"/>
                    </a:lnTo>
                    <a:lnTo>
                      <a:pt x="161" y="457"/>
                    </a:lnTo>
                    <a:lnTo>
                      <a:pt x="138" y="595"/>
                    </a:lnTo>
                    <a:lnTo>
                      <a:pt x="115" y="733"/>
                    </a:lnTo>
                    <a:lnTo>
                      <a:pt x="93" y="869"/>
                    </a:lnTo>
                    <a:lnTo>
                      <a:pt x="73" y="1003"/>
                    </a:lnTo>
                    <a:lnTo>
                      <a:pt x="55" y="1133"/>
                    </a:lnTo>
                    <a:lnTo>
                      <a:pt x="19" y="1376"/>
                    </a:lnTo>
                    <a:lnTo>
                      <a:pt x="0" y="1524"/>
                    </a:lnTo>
                    <a:lnTo>
                      <a:pt x="11" y="1523"/>
                    </a:lnTo>
                    <a:lnTo>
                      <a:pt x="24" y="1522"/>
                    </a:lnTo>
                    <a:lnTo>
                      <a:pt x="35" y="1521"/>
                    </a:lnTo>
                    <a:lnTo>
                      <a:pt x="47" y="1519"/>
                    </a:lnTo>
                    <a:lnTo>
                      <a:pt x="58" y="1519"/>
                    </a:lnTo>
                    <a:lnTo>
                      <a:pt x="71" y="1518"/>
                    </a:lnTo>
                    <a:lnTo>
                      <a:pt x="82" y="1517"/>
                    </a:lnTo>
                    <a:lnTo>
                      <a:pt x="93" y="1516"/>
                    </a:lnTo>
                    <a:lnTo>
                      <a:pt x="101" y="1457"/>
                    </a:lnTo>
                    <a:lnTo>
                      <a:pt x="137" y="1213"/>
                    </a:lnTo>
                    <a:lnTo>
                      <a:pt x="156" y="1084"/>
                    </a:lnTo>
                    <a:lnTo>
                      <a:pt x="177" y="950"/>
                    </a:lnTo>
                    <a:lnTo>
                      <a:pt x="197" y="813"/>
                    </a:lnTo>
                    <a:lnTo>
                      <a:pt x="220" y="676"/>
                    </a:lnTo>
                    <a:lnTo>
                      <a:pt x="243" y="538"/>
                    </a:lnTo>
                    <a:lnTo>
                      <a:pt x="266" y="400"/>
                    </a:lnTo>
                    <a:lnTo>
                      <a:pt x="289" y="264"/>
                    </a:lnTo>
                    <a:lnTo>
                      <a:pt x="315" y="131"/>
                    </a:lnTo>
                    <a:lnTo>
                      <a:pt x="338" y="1"/>
                    </a:lnTo>
                    <a:lnTo>
                      <a:pt x="338" y="0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3943440" y="3075120"/>
                <a:ext cx="226800" cy="507960"/>
              </a:xfrm>
              <a:custGeom>
                <a:avLst/>
                <a:gdLst/>
                <a:ahLst/>
                <a:rect l="l" t="t" r="r" b="b"/>
                <a:pathLst>
                  <a:path w="719" h="1599">
                    <a:moveTo>
                      <a:pt x="615" y="0"/>
                    </a:moveTo>
                    <a:lnTo>
                      <a:pt x="589" y="47"/>
                    </a:lnTo>
                    <a:lnTo>
                      <a:pt x="564" y="94"/>
                    </a:lnTo>
                    <a:lnTo>
                      <a:pt x="539" y="144"/>
                    </a:lnTo>
                    <a:lnTo>
                      <a:pt x="515" y="193"/>
                    </a:lnTo>
                    <a:lnTo>
                      <a:pt x="467" y="292"/>
                    </a:lnTo>
                    <a:lnTo>
                      <a:pt x="420" y="395"/>
                    </a:lnTo>
                    <a:lnTo>
                      <a:pt x="375" y="497"/>
                    </a:lnTo>
                    <a:lnTo>
                      <a:pt x="331" y="601"/>
                    </a:lnTo>
                    <a:lnTo>
                      <a:pt x="289" y="706"/>
                    </a:lnTo>
                    <a:lnTo>
                      <a:pt x="249" y="811"/>
                    </a:lnTo>
                    <a:lnTo>
                      <a:pt x="210" y="916"/>
                    </a:lnTo>
                    <a:lnTo>
                      <a:pt x="174" y="1020"/>
                    </a:lnTo>
                    <a:lnTo>
                      <a:pt x="140" y="1121"/>
                    </a:lnTo>
                    <a:lnTo>
                      <a:pt x="108" y="1223"/>
                    </a:lnTo>
                    <a:lnTo>
                      <a:pt x="77" y="1321"/>
                    </a:lnTo>
                    <a:lnTo>
                      <a:pt x="49" y="1417"/>
                    </a:lnTo>
                    <a:lnTo>
                      <a:pt x="23" y="1510"/>
                    </a:lnTo>
                    <a:lnTo>
                      <a:pt x="0" y="1599"/>
                    </a:lnTo>
                    <a:lnTo>
                      <a:pt x="17" y="1597"/>
                    </a:lnTo>
                    <a:lnTo>
                      <a:pt x="34" y="1595"/>
                    </a:lnTo>
                    <a:lnTo>
                      <a:pt x="51" y="1592"/>
                    </a:lnTo>
                    <a:lnTo>
                      <a:pt x="68" y="1589"/>
                    </a:lnTo>
                    <a:lnTo>
                      <a:pt x="84" y="1587"/>
                    </a:lnTo>
                    <a:lnTo>
                      <a:pt x="101" y="1584"/>
                    </a:lnTo>
                    <a:lnTo>
                      <a:pt x="117" y="1582"/>
                    </a:lnTo>
                    <a:lnTo>
                      <a:pt x="133" y="1580"/>
                    </a:lnTo>
                    <a:lnTo>
                      <a:pt x="197" y="1394"/>
                    </a:lnTo>
                    <a:lnTo>
                      <a:pt x="265" y="1197"/>
                    </a:lnTo>
                    <a:lnTo>
                      <a:pt x="338" y="991"/>
                    </a:lnTo>
                    <a:lnTo>
                      <a:pt x="413" y="784"/>
                    </a:lnTo>
                    <a:lnTo>
                      <a:pt x="490" y="577"/>
                    </a:lnTo>
                    <a:lnTo>
                      <a:pt x="567" y="374"/>
                    </a:lnTo>
                    <a:lnTo>
                      <a:pt x="606" y="276"/>
                    </a:lnTo>
                    <a:lnTo>
                      <a:pt x="644" y="181"/>
                    </a:lnTo>
                    <a:lnTo>
                      <a:pt x="681" y="89"/>
                    </a:lnTo>
                    <a:lnTo>
                      <a:pt x="719" y="0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>
                <a:off x="3925800" y="3075120"/>
                <a:ext cx="231840" cy="509400"/>
              </a:xfrm>
              <a:custGeom>
                <a:avLst/>
                <a:gdLst/>
                <a:ahLst/>
                <a:rect l="l" t="t" r="r" b="b"/>
                <a:pathLst>
                  <a:path w="731" h="1606">
                    <a:moveTo>
                      <a:pt x="106" y="1591"/>
                    </a:moveTo>
                    <a:lnTo>
                      <a:pt x="118" y="1550"/>
                    </a:lnTo>
                    <a:lnTo>
                      <a:pt x="147" y="1444"/>
                    </a:lnTo>
                    <a:lnTo>
                      <a:pt x="179" y="1333"/>
                    </a:lnTo>
                    <a:lnTo>
                      <a:pt x="214" y="1221"/>
                    </a:lnTo>
                    <a:lnTo>
                      <a:pt x="253" y="1104"/>
                    </a:lnTo>
                    <a:lnTo>
                      <a:pt x="293" y="987"/>
                    </a:lnTo>
                    <a:lnTo>
                      <a:pt x="336" y="868"/>
                    </a:lnTo>
                    <a:lnTo>
                      <a:pt x="382" y="748"/>
                    </a:lnTo>
                    <a:lnTo>
                      <a:pt x="430" y="628"/>
                    </a:lnTo>
                    <a:lnTo>
                      <a:pt x="455" y="569"/>
                    </a:lnTo>
                    <a:lnTo>
                      <a:pt x="480" y="510"/>
                    </a:lnTo>
                    <a:lnTo>
                      <a:pt x="506" y="452"/>
                    </a:lnTo>
                    <a:lnTo>
                      <a:pt x="532" y="392"/>
                    </a:lnTo>
                    <a:lnTo>
                      <a:pt x="559" y="335"/>
                    </a:lnTo>
                    <a:lnTo>
                      <a:pt x="586" y="278"/>
                    </a:lnTo>
                    <a:lnTo>
                      <a:pt x="615" y="221"/>
                    </a:lnTo>
                    <a:lnTo>
                      <a:pt x="642" y="165"/>
                    </a:lnTo>
                    <a:lnTo>
                      <a:pt x="670" y="110"/>
                    </a:lnTo>
                    <a:lnTo>
                      <a:pt x="700" y="57"/>
                    </a:lnTo>
                    <a:lnTo>
                      <a:pt x="730" y="3"/>
                    </a:lnTo>
                    <a:lnTo>
                      <a:pt x="731" y="0"/>
                    </a:lnTo>
                    <a:lnTo>
                      <a:pt x="604" y="0"/>
                    </a:lnTo>
                    <a:lnTo>
                      <a:pt x="589" y="29"/>
                    </a:lnTo>
                    <a:lnTo>
                      <a:pt x="561" y="84"/>
                    </a:lnTo>
                    <a:lnTo>
                      <a:pt x="532" y="140"/>
                    </a:lnTo>
                    <a:lnTo>
                      <a:pt x="504" y="196"/>
                    </a:lnTo>
                    <a:lnTo>
                      <a:pt x="477" y="254"/>
                    </a:lnTo>
                    <a:lnTo>
                      <a:pt x="450" y="311"/>
                    </a:lnTo>
                    <a:lnTo>
                      <a:pt x="424" y="369"/>
                    </a:lnTo>
                    <a:lnTo>
                      <a:pt x="398" y="429"/>
                    </a:lnTo>
                    <a:lnTo>
                      <a:pt x="373" y="488"/>
                    </a:lnTo>
                    <a:lnTo>
                      <a:pt x="348" y="547"/>
                    </a:lnTo>
                    <a:lnTo>
                      <a:pt x="300" y="667"/>
                    </a:lnTo>
                    <a:lnTo>
                      <a:pt x="254" y="787"/>
                    </a:lnTo>
                    <a:lnTo>
                      <a:pt x="211" y="906"/>
                    </a:lnTo>
                    <a:lnTo>
                      <a:pt x="171" y="1023"/>
                    </a:lnTo>
                    <a:lnTo>
                      <a:pt x="132" y="1140"/>
                    </a:lnTo>
                    <a:lnTo>
                      <a:pt x="97" y="1252"/>
                    </a:lnTo>
                    <a:lnTo>
                      <a:pt x="64" y="1363"/>
                    </a:lnTo>
                    <a:lnTo>
                      <a:pt x="35" y="1469"/>
                    </a:lnTo>
                    <a:lnTo>
                      <a:pt x="8" y="1571"/>
                    </a:lnTo>
                    <a:lnTo>
                      <a:pt x="0" y="1606"/>
                    </a:lnTo>
                    <a:lnTo>
                      <a:pt x="14" y="1604"/>
                    </a:lnTo>
                    <a:lnTo>
                      <a:pt x="26" y="1603"/>
                    </a:lnTo>
                    <a:lnTo>
                      <a:pt x="40" y="1600"/>
                    </a:lnTo>
                    <a:lnTo>
                      <a:pt x="54" y="1599"/>
                    </a:lnTo>
                    <a:lnTo>
                      <a:pt x="67" y="1597"/>
                    </a:lnTo>
                    <a:lnTo>
                      <a:pt x="80" y="1596"/>
                    </a:lnTo>
                    <a:lnTo>
                      <a:pt x="94" y="1594"/>
                    </a:lnTo>
                    <a:lnTo>
                      <a:pt x="106" y="159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3967200" y="3075120"/>
                <a:ext cx="222120" cy="504720"/>
              </a:xfrm>
              <a:custGeom>
                <a:avLst/>
                <a:gdLst/>
                <a:ahLst/>
                <a:rect l="l" t="t" r="r" b="b"/>
                <a:pathLst>
                  <a:path w="701" h="1588">
                    <a:moveTo>
                      <a:pt x="585" y="0"/>
                    </a:moveTo>
                    <a:lnTo>
                      <a:pt x="564" y="48"/>
                    </a:lnTo>
                    <a:lnTo>
                      <a:pt x="516" y="166"/>
                    </a:lnTo>
                    <a:lnTo>
                      <a:pt x="467" y="290"/>
                    </a:lnTo>
                    <a:lnTo>
                      <a:pt x="418" y="417"/>
                    </a:lnTo>
                    <a:lnTo>
                      <a:pt x="368" y="547"/>
                    </a:lnTo>
                    <a:lnTo>
                      <a:pt x="319" y="680"/>
                    </a:lnTo>
                    <a:lnTo>
                      <a:pt x="270" y="812"/>
                    </a:lnTo>
                    <a:lnTo>
                      <a:pt x="222" y="946"/>
                    </a:lnTo>
                    <a:lnTo>
                      <a:pt x="175" y="1077"/>
                    </a:lnTo>
                    <a:lnTo>
                      <a:pt x="130" y="1206"/>
                    </a:lnTo>
                    <a:lnTo>
                      <a:pt x="87" y="1331"/>
                    </a:lnTo>
                    <a:lnTo>
                      <a:pt x="46" y="1452"/>
                    </a:lnTo>
                    <a:lnTo>
                      <a:pt x="7" y="1569"/>
                    </a:lnTo>
                    <a:lnTo>
                      <a:pt x="0" y="1588"/>
                    </a:lnTo>
                    <a:lnTo>
                      <a:pt x="15" y="1586"/>
                    </a:lnTo>
                    <a:lnTo>
                      <a:pt x="30" y="1584"/>
                    </a:lnTo>
                    <a:lnTo>
                      <a:pt x="43" y="1582"/>
                    </a:lnTo>
                    <a:lnTo>
                      <a:pt x="58" y="1580"/>
                    </a:lnTo>
                    <a:lnTo>
                      <a:pt x="73" y="1578"/>
                    </a:lnTo>
                    <a:lnTo>
                      <a:pt x="87" y="1575"/>
                    </a:lnTo>
                    <a:lnTo>
                      <a:pt x="101" y="1573"/>
                    </a:lnTo>
                    <a:lnTo>
                      <a:pt x="115" y="1571"/>
                    </a:lnTo>
                    <a:lnTo>
                      <a:pt x="128" y="1533"/>
                    </a:lnTo>
                    <a:lnTo>
                      <a:pt x="169" y="1412"/>
                    </a:lnTo>
                    <a:lnTo>
                      <a:pt x="212" y="1287"/>
                    </a:lnTo>
                    <a:lnTo>
                      <a:pt x="258" y="1158"/>
                    </a:lnTo>
                    <a:lnTo>
                      <a:pt x="304" y="1027"/>
                    </a:lnTo>
                    <a:lnTo>
                      <a:pt x="352" y="893"/>
                    </a:lnTo>
                    <a:lnTo>
                      <a:pt x="401" y="761"/>
                    </a:lnTo>
                    <a:lnTo>
                      <a:pt x="450" y="628"/>
                    </a:lnTo>
                    <a:lnTo>
                      <a:pt x="500" y="498"/>
                    </a:lnTo>
                    <a:lnTo>
                      <a:pt x="549" y="371"/>
                    </a:lnTo>
                    <a:lnTo>
                      <a:pt x="598" y="247"/>
                    </a:lnTo>
                    <a:lnTo>
                      <a:pt x="646" y="129"/>
                    </a:lnTo>
                    <a:lnTo>
                      <a:pt x="693" y="17"/>
                    </a:lnTo>
                    <a:lnTo>
                      <a:pt x="701" y="0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>
                <a:off x="3838680" y="3075120"/>
                <a:ext cx="223560" cy="519120"/>
              </a:xfrm>
              <a:custGeom>
                <a:avLst/>
                <a:gdLst/>
                <a:ahLst/>
                <a:rect l="l" t="t" r="r" b="b"/>
                <a:pathLst>
                  <a:path w="702" h="1635">
                    <a:moveTo>
                      <a:pt x="582" y="0"/>
                    </a:moveTo>
                    <a:lnTo>
                      <a:pt x="557" y="51"/>
                    </a:lnTo>
                    <a:lnTo>
                      <a:pt x="531" y="102"/>
                    </a:lnTo>
                    <a:lnTo>
                      <a:pt x="507" y="155"/>
                    </a:lnTo>
                    <a:lnTo>
                      <a:pt x="482" y="207"/>
                    </a:lnTo>
                    <a:lnTo>
                      <a:pt x="434" y="315"/>
                    </a:lnTo>
                    <a:lnTo>
                      <a:pt x="388" y="423"/>
                    </a:lnTo>
                    <a:lnTo>
                      <a:pt x="344" y="531"/>
                    </a:lnTo>
                    <a:lnTo>
                      <a:pt x="302" y="641"/>
                    </a:lnTo>
                    <a:lnTo>
                      <a:pt x="262" y="749"/>
                    </a:lnTo>
                    <a:lnTo>
                      <a:pt x="223" y="858"/>
                    </a:lnTo>
                    <a:lnTo>
                      <a:pt x="186" y="965"/>
                    </a:lnTo>
                    <a:lnTo>
                      <a:pt x="152" y="1070"/>
                    </a:lnTo>
                    <a:lnTo>
                      <a:pt x="120" y="1173"/>
                    </a:lnTo>
                    <a:lnTo>
                      <a:pt x="92" y="1273"/>
                    </a:lnTo>
                    <a:lnTo>
                      <a:pt x="64" y="1369"/>
                    </a:lnTo>
                    <a:lnTo>
                      <a:pt x="41" y="1462"/>
                    </a:lnTo>
                    <a:lnTo>
                      <a:pt x="19" y="1551"/>
                    </a:lnTo>
                    <a:lnTo>
                      <a:pt x="0" y="1635"/>
                    </a:lnTo>
                    <a:lnTo>
                      <a:pt x="14" y="1634"/>
                    </a:lnTo>
                    <a:lnTo>
                      <a:pt x="28" y="1632"/>
                    </a:lnTo>
                    <a:lnTo>
                      <a:pt x="43" y="1631"/>
                    </a:lnTo>
                    <a:lnTo>
                      <a:pt x="58" y="1630"/>
                    </a:lnTo>
                    <a:lnTo>
                      <a:pt x="71" y="1629"/>
                    </a:lnTo>
                    <a:lnTo>
                      <a:pt x="85" y="1627"/>
                    </a:lnTo>
                    <a:lnTo>
                      <a:pt x="100" y="1626"/>
                    </a:lnTo>
                    <a:lnTo>
                      <a:pt x="114" y="1624"/>
                    </a:lnTo>
                    <a:lnTo>
                      <a:pt x="172" y="1449"/>
                    </a:lnTo>
                    <a:lnTo>
                      <a:pt x="237" y="1256"/>
                    </a:lnTo>
                    <a:lnTo>
                      <a:pt x="308" y="1051"/>
                    </a:lnTo>
                    <a:lnTo>
                      <a:pt x="384" y="838"/>
                    </a:lnTo>
                    <a:lnTo>
                      <a:pt x="462" y="623"/>
                    </a:lnTo>
                    <a:lnTo>
                      <a:pt x="542" y="407"/>
                    </a:lnTo>
                    <a:lnTo>
                      <a:pt x="582" y="302"/>
                    </a:lnTo>
                    <a:lnTo>
                      <a:pt x="623" y="198"/>
                    </a:lnTo>
                    <a:lnTo>
                      <a:pt x="663" y="98"/>
                    </a:lnTo>
                    <a:lnTo>
                      <a:pt x="702" y="0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>
                <a:off x="3822840" y="3075120"/>
                <a:ext cx="220680" cy="520560"/>
              </a:xfrm>
              <a:custGeom>
                <a:avLst/>
                <a:gdLst/>
                <a:ahLst/>
                <a:rect l="l" t="t" r="r" b="b"/>
                <a:pathLst>
                  <a:path w="695" h="1638">
                    <a:moveTo>
                      <a:pt x="102" y="1630"/>
                    </a:moveTo>
                    <a:lnTo>
                      <a:pt x="106" y="1608"/>
                    </a:lnTo>
                    <a:lnTo>
                      <a:pt x="130" y="1511"/>
                    </a:lnTo>
                    <a:lnTo>
                      <a:pt x="157" y="1410"/>
                    </a:lnTo>
                    <a:lnTo>
                      <a:pt x="186" y="1304"/>
                    </a:lnTo>
                    <a:lnTo>
                      <a:pt x="218" y="1193"/>
                    </a:lnTo>
                    <a:lnTo>
                      <a:pt x="253" y="1080"/>
                    </a:lnTo>
                    <a:lnTo>
                      <a:pt x="292" y="964"/>
                    </a:lnTo>
                    <a:lnTo>
                      <a:pt x="333" y="846"/>
                    </a:lnTo>
                    <a:lnTo>
                      <a:pt x="377" y="728"/>
                    </a:lnTo>
                    <a:lnTo>
                      <a:pt x="422" y="608"/>
                    </a:lnTo>
                    <a:lnTo>
                      <a:pt x="470" y="488"/>
                    </a:lnTo>
                    <a:lnTo>
                      <a:pt x="494" y="429"/>
                    </a:lnTo>
                    <a:lnTo>
                      <a:pt x="520" y="369"/>
                    </a:lnTo>
                    <a:lnTo>
                      <a:pt x="545" y="311"/>
                    </a:lnTo>
                    <a:lnTo>
                      <a:pt x="571" y="253"/>
                    </a:lnTo>
                    <a:lnTo>
                      <a:pt x="599" y="195"/>
                    </a:lnTo>
                    <a:lnTo>
                      <a:pt x="626" y="138"/>
                    </a:lnTo>
                    <a:lnTo>
                      <a:pt x="654" y="81"/>
                    </a:lnTo>
                    <a:lnTo>
                      <a:pt x="682" y="25"/>
                    </a:lnTo>
                    <a:lnTo>
                      <a:pt x="695" y="0"/>
                    </a:lnTo>
                    <a:lnTo>
                      <a:pt x="571" y="0"/>
                    </a:lnTo>
                    <a:lnTo>
                      <a:pt x="544" y="57"/>
                    </a:lnTo>
                    <a:lnTo>
                      <a:pt x="517" y="114"/>
                    </a:lnTo>
                    <a:lnTo>
                      <a:pt x="489" y="172"/>
                    </a:lnTo>
                    <a:lnTo>
                      <a:pt x="463" y="230"/>
                    </a:lnTo>
                    <a:lnTo>
                      <a:pt x="438" y="288"/>
                    </a:lnTo>
                    <a:lnTo>
                      <a:pt x="412" y="348"/>
                    </a:lnTo>
                    <a:lnTo>
                      <a:pt x="388" y="407"/>
                    </a:lnTo>
                    <a:lnTo>
                      <a:pt x="340" y="527"/>
                    </a:lnTo>
                    <a:lnTo>
                      <a:pt x="294" y="647"/>
                    </a:lnTo>
                    <a:lnTo>
                      <a:pt x="251" y="765"/>
                    </a:lnTo>
                    <a:lnTo>
                      <a:pt x="210" y="883"/>
                    </a:lnTo>
                    <a:lnTo>
                      <a:pt x="171" y="999"/>
                    </a:lnTo>
                    <a:lnTo>
                      <a:pt x="136" y="1112"/>
                    </a:lnTo>
                    <a:lnTo>
                      <a:pt x="104" y="1223"/>
                    </a:lnTo>
                    <a:lnTo>
                      <a:pt x="74" y="1329"/>
                    </a:lnTo>
                    <a:lnTo>
                      <a:pt x="47" y="1430"/>
                    </a:lnTo>
                    <a:lnTo>
                      <a:pt x="24" y="1527"/>
                    </a:lnTo>
                    <a:lnTo>
                      <a:pt x="4" y="1618"/>
                    </a:lnTo>
                    <a:lnTo>
                      <a:pt x="0" y="1638"/>
                    </a:lnTo>
                    <a:lnTo>
                      <a:pt x="13" y="1638"/>
                    </a:lnTo>
                    <a:lnTo>
                      <a:pt x="25" y="1637"/>
                    </a:lnTo>
                    <a:lnTo>
                      <a:pt x="39" y="1636"/>
                    </a:lnTo>
                    <a:lnTo>
                      <a:pt x="52" y="1635"/>
                    </a:lnTo>
                    <a:lnTo>
                      <a:pt x="64" y="1634"/>
                    </a:lnTo>
                    <a:lnTo>
                      <a:pt x="77" y="1632"/>
                    </a:lnTo>
                    <a:lnTo>
                      <a:pt x="89" y="1631"/>
                    </a:lnTo>
                    <a:lnTo>
                      <a:pt x="102" y="163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3857760" y="3075120"/>
                <a:ext cx="222120" cy="517320"/>
              </a:xfrm>
              <a:custGeom>
                <a:avLst/>
                <a:gdLst/>
                <a:ahLst/>
                <a:rect l="l" t="t" r="r" b="b"/>
                <a:pathLst>
                  <a:path w="701" h="1630">
                    <a:moveTo>
                      <a:pt x="587" y="0"/>
                    </a:moveTo>
                    <a:lnTo>
                      <a:pt x="575" y="26"/>
                    </a:lnTo>
                    <a:lnTo>
                      <a:pt x="526" y="149"/>
                    </a:lnTo>
                    <a:lnTo>
                      <a:pt x="477" y="277"/>
                    </a:lnTo>
                    <a:lnTo>
                      <a:pt x="428" y="407"/>
                    </a:lnTo>
                    <a:lnTo>
                      <a:pt x="378" y="539"/>
                    </a:lnTo>
                    <a:lnTo>
                      <a:pt x="330" y="672"/>
                    </a:lnTo>
                    <a:lnTo>
                      <a:pt x="282" y="805"/>
                    </a:lnTo>
                    <a:lnTo>
                      <a:pt x="234" y="936"/>
                    </a:lnTo>
                    <a:lnTo>
                      <a:pt x="190" y="1065"/>
                    </a:lnTo>
                    <a:lnTo>
                      <a:pt x="146" y="1191"/>
                    </a:lnTo>
                    <a:lnTo>
                      <a:pt x="105" y="1313"/>
                    </a:lnTo>
                    <a:lnTo>
                      <a:pt x="66" y="1428"/>
                    </a:lnTo>
                    <a:lnTo>
                      <a:pt x="29" y="1538"/>
                    </a:lnTo>
                    <a:lnTo>
                      <a:pt x="0" y="1630"/>
                    </a:lnTo>
                    <a:lnTo>
                      <a:pt x="13" y="1629"/>
                    </a:lnTo>
                    <a:lnTo>
                      <a:pt x="28" y="1627"/>
                    </a:lnTo>
                    <a:lnTo>
                      <a:pt x="42" y="1626"/>
                    </a:lnTo>
                    <a:lnTo>
                      <a:pt x="57" y="1624"/>
                    </a:lnTo>
                    <a:lnTo>
                      <a:pt x="70" y="1623"/>
                    </a:lnTo>
                    <a:lnTo>
                      <a:pt x="84" y="1621"/>
                    </a:lnTo>
                    <a:lnTo>
                      <a:pt x="98" y="1620"/>
                    </a:lnTo>
                    <a:lnTo>
                      <a:pt x="111" y="1619"/>
                    </a:lnTo>
                    <a:lnTo>
                      <a:pt x="148" y="1509"/>
                    </a:lnTo>
                    <a:lnTo>
                      <a:pt x="187" y="1394"/>
                    </a:lnTo>
                    <a:lnTo>
                      <a:pt x="228" y="1272"/>
                    </a:lnTo>
                    <a:lnTo>
                      <a:pt x="272" y="1146"/>
                    </a:lnTo>
                    <a:lnTo>
                      <a:pt x="317" y="1017"/>
                    </a:lnTo>
                    <a:lnTo>
                      <a:pt x="364" y="886"/>
                    </a:lnTo>
                    <a:lnTo>
                      <a:pt x="412" y="754"/>
                    </a:lnTo>
                    <a:lnTo>
                      <a:pt x="460" y="620"/>
                    </a:lnTo>
                    <a:lnTo>
                      <a:pt x="510" y="488"/>
                    </a:lnTo>
                    <a:lnTo>
                      <a:pt x="559" y="358"/>
                    </a:lnTo>
                    <a:lnTo>
                      <a:pt x="608" y="230"/>
                    </a:lnTo>
                    <a:lnTo>
                      <a:pt x="657" y="107"/>
                    </a:lnTo>
                    <a:lnTo>
                      <a:pt x="701" y="0"/>
                    </a:lnTo>
                    <a:lnTo>
                      <a:pt x="58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>
                <a:off x="3747960" y="3075120"/>
                <a:ext cx="204840" cy="523800"/>
              </a:xfrm>
              <a:custGeom>
                <a:avLst/>
                <a:gdLst/>
                <a:ahLst/>
                <a:rect l="l" t="t" r="r" b="b"/>
                <a:pathLst>
                  <a:path w="646" h="1651">
                    <a:moveTo>
                      <a:pt x="578" y="0"/>
                    </a:moveTo>
                    <a:lnTo>
                      <a:pt x="554" y="45"/>
                    </a:lnTo>
                    <a:lnTo>
                      <a:pt x="532" y="92"/>
                    </a:lnTo>
                    <a:lnTo>
                      <a:pt x="508" y="139"/>
                    </a:lnTo>
                    <a:lnTo>
                      <a:pt x="485" y="187"/>
                    </a:lnTo>
                    <a:lnTo>
                      <a:pt x="462" y="236"/>
                    </a:lnTo>
                    <a:lnTo>
                      <a:pt x="440" y="286"/>
                    </a:lnTo>
                    <a:lnTo>
                      <a:pt x="419" y="336"/>
                    </a:lnTo>
                    <a:lnTo>
                      <a:pt x="397" y="387"/>
                    </a:lnTo>
                    <a:lnTo>
                      <a:pt x="355" y="490"/>
                    </a:lnTo>
                    <a:lnTo>
                      <a:pt x="314" y="595"/>
                    </a:lnTo>
                    <a:lnTo>
                      <a:pt x="275" y="703"/>
                    </a:lnTo>
                    <a:lnTo>
                      <a:pt x="237" y="810"/>
                    </a:lnTo>
                    <a:lnTo>
                      <a:pt x="202" y="917"/>
                    </a:lnTo>
                    <a:lnTo>
                      <a:pt x="168" y="1025"/>
                    </a:lnTo>
                    <a:lnTo>
                      <a:pt x="135" y="1134"/>
                    </a:lnTo>
                    <a:lnTo>
                      <a:pt x="105" y="1240"/>
                    </a:lnTo>
                    <a:lnTo>
                      <a:pt x="76" y="1346"/>
                    </a:lnTo>
                    <a:lnTo>
                      <a:pt x="49" y="1450"/>
                    </a:lnTo>
                    <a:lnTo>
                      <a:pt x="24" y="1551"/>
                    </a:lnTo>
                    <a:lnTo>
                      <a:pt x="0" y="1651"/>
                    </a:lnTo>
                    <a:lnTo>
                      <a:pt x="19" y="1650"/>
                    </a:lnTo>
                    <a:lnTo>
                      <a:pt x="36" y="1650"/>
                    </a:lnTo>
                    <a:lnTo>
                      <a:pt x="53" y="1648"/>
                    </a:lnTo>
                    <a:lnTo>
                      <a:pt x="71" y="1648"/>
                    </a:lnTo>
                    <a:lnTo>
                      <a:pt x="88" y="1647"/>
                    </a:lnTo>
                    <a:lnTo>
                      <a:pt x="105" y="1646"/>
                    </a:lnTo>
                    <a:lnTo>
                      <a:pt x="121" y="1646"/>
                    </a:lnTo>
                    <a:lnTo>
                      <a:pt x="138" y="1645"/>
                    </a:lnTo>
                    <a:lnTo>
                      <a:pt x="196" y="1435"/>
                    </a:lnTo>
                    <a:lnTo>
                      <a:pt x="258" y="1218"/>
                    </a:lnTo>
                    <a:lnTo>
                      <a:pt x="322" y="998"/>
                    </a:lnTo>
                    <a:lnTo>
                      <a:pt x="388" y="779"/>
                    </a:lnTo>
                    <a:lnTo>
                      <a:pt x="421" y="672"/>
                    </a:lnTo>
                    <a:lnTo>
                      <a:pt x="454" y="566"/>
                    </a:lnTo>
                    <a:lnTo>
                      <a:pt x="487" y="462"/>
                    </a:lnTo>
                    <a:lnTo>
                      <a:pt x="520" y="361"/>
                    </a:lnTo>
                    <a:lnTo>
                      <a:pt x="552" y="264"/>
                    </a:lnTo>
                    <a:lnTo>
                      <a:pt x="584" y="172"/>
                    </a:lnTo>
                    <a:lnTo>
                      <a:pt x="616" y="83"/>
                    </a:lnTo>
                    <a:lnTo>
                      <a:pt x="646" y="0"/>
                    </a:lnTo>
                    <a:lnTo>
                      <a:pt x="57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3732120" y="3075120"/>
                <a:ext cx="219240" cy="523800"/>
              </a:xfrm>
              <a:custGeom>
                <a:avLst/>
                <a:gdLst/>
                <a:ahLst/>
                <a:rect l="l" t="t" r="r" b="b"/>
                <a:pathLst>
                  <a:path w="691" h="1652">
                    <a:moveTo>
                      <a:pt x="102" y="1648"/>
                    </a:moveTo>
                    <a:lnTo>
                      <a:pt x="109" y="1616"/>
                    </a:lnTo>
                    <a:lnTo>
                      <a:pt x="138" y="1499"/>
                    </a:lnTo>
                    <a:lnTo>
                      <a:pt x="169" y="1378"/>
                    </a:lnTo>
                    <a:lnTo>
                      <a:pt x="203" y="1256"/>
                    </a:lnTo>
                    <a:lnTo>
                      <a:pt x="238" y="1132"/>
                    </a:lnTo>
                    <a:lnTo>
                      <a:pt x="277" y="1007"/>
                    </a:lnTo>
                    <a:lnTo>
                      <a:pt x="318" y="882"/>
                    </a:lnTo>
                    <a:lnTo>
                      <a:pt x="339" y="819"/>
                    </a:lnTo>
                    <a:lnTo>
                      <a:pt x="362" y="756"/>
                    </a:lnTo>
                    <a:lnTo>
                      <a:pt x="383" y="695"/>
                    </a:lnTo>
                    <a:lnTo>
                      <a:pt x="406" y="633"/>
                    </a:lnTo>
                    <a:lnTo>
                      <a:pt x="429" y="573"/>
                    </a:lnTo>
                    <a:lnTo>
                      <a:pt x="453" y="511"/>
                    </a:lnTo>
                    <a:lnTo>
                      <a:pt x="478" y="452"/>
                    </a:lnTo>
                    <a:lnTo>
                      <a:pt x="503" y="392"/>
                    </a:lnTo>
                    <a:lnTo>
                      <a:pt x="528" y="334"/>
                    </a:lnTo>
                    <a:lnTo>
                      <a:pt x="553" y="276"/>
                    </a:lnTo>
                    <a:lnTo>
                      <a:pt x="579" y="220"/>
                    </a:lnTo>
                    <a:lnTo>
                      <a:pt x="607" y="164"/>
                    </a:lnTo>
                    <a:lnTo>
                      <a:pt x="633" y="109"/>
                    </a:lnTo>
                    <a:lnTo>
                      <a:pt x="660" y="57"/>
                    </a:lnTo>
                    <a:lnTo>
                      <a:pt x="689" y="4"/>
                    </a:lnTo>
                    <a:lnTo>
                      <a:pt x="691" y="0"/>
                    </a:lnTo>
                    <a:lnTo>
                      <a:pt x="566" y="0"/>
                    </a:lnTo>
                    <a:lnTo>
                      <a:pt x="551" y="28"/>
                    </a:lnTo>
                    <a:lnTo>
                      <a:pt x="525" y="83"/>
                    </a:lnTo>
                    <a:lnTo>
                      <a:pt x="497" y="139"/>
                    </a:lnTo>
                    <a:lnTo>
                      <a:pt x="471" y="195"/>
                    </a:lnTo>
                    <a:lnTo>
                      <a:pt x="446" y="253"/>
                    </a:lnTo>
                    <a:lnTo>
                      <a:pt x="421" y="311"/>
                    </a:lnTo>
                    <a:lnTo>
                      <a:pt x="396" y="371"/>
                    </a:lnTo>
                    <a:lnTo>
                      <a:pt x="371" y="430"/>
                    </a:lnTo>
                    <a:lnTo>
                      <a:pt x="347" y="492"/>
                    </a:lnTo>
                    <a:lnTo>
                      <a:pt x="324" y="552"/>
                    </a:lnTo>
                    <a:lnTo>
                      <a:pt x="301" y="614"/>
                    </a:lnTo>
                    <a:lnTo>
                      <a:pt x="278" y="675"/>
                    </a:lnTo>
                    <a:lnTo>
                      <a:pt x="257" y="738"/>
                    </a:lnTo>
                    <a:lnTo>
                      <a:pt x="236" y="801"/>
                    </a:lnTo>
                    <a:lnTo>
                      <a:pt x="195" y="925"/>
                    </a:lnTo>
                    <a:lnTo>
                      <a:pt x="156" y="1051"/>
                    </a:lnTo>
                    <a:lnTo>
                      <a:pt x="120" y="1175"/>
                    </a:lnTo>
                    <a:lnTo>
                      <a:pt x="87" y="1297"/>
                    </a:lnTo>
                    <a:lnTo>
                      <a:pt x="55" y="1418"/>
                    </a:lnTo>
                    <a:lnTo>
                      <a:pt x="26" y="1535"/>
                    </a:lnTo>
                    <a:lnTo>
                      <a:pt x="0" y="1650"/>
                    </a:lnTo>
                    <a:lnTo>
                      <a:pt x="0" y="1652"/>
                    </a:lnTo>
                    <a:lnTo>
                      <a:pt x="13" y="1652"/>
                    </a:lnTo>
                    <a:lnTo>
                      <a:pt x="25" y="1651"/>
                    </a:lnTo>
                    <a:lnTo>
                      <a:pt x="39" y="1651"/>
                    </a:lnTo>
                    <a:lnTo>
                      <a:pt x="52" y="1651"/>
                    </a:lnTo>
                    <a:lnTo>
                      <a:pt x="64" y="1650"/>
                    </a:lnTo>
                    <a:lnTo>
                      <a:pt x="77" y="1650"/>
                    </a:lnTo>
                    <a:lnTo>
                      <a:pt x="89" y="1650"/>
                    </a:lnTo>
                    <a:lnTo>
                      <a:pt x="102" y="16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3774960" y="3075120"/>
                <a:ext cx="196920" cy="522000"/>
              </a:xfrm>
              <a:custGeom>
                <a:avLst/>
                <a:gdLst/>
                <a:ahLst/>
                <a:rect l="l" t="t" r="r" b="b"/>
                <a:pathLst>
                  <a:path w="617" h="1647">
                    <a:moveTo>
                      <a:pt x="504" y="0"/>
                    </a:moveTo>
                    <a:lnTo>
                      <a:pt x="493" y="27"/>
                    </a:lnTo>
                    <a:lnTo>
                      <a:pt x="455" y="138"/>
                    </a:lnTo>
                    <a:lnTo>
                      <a:pt x="415" y="256"/>
                    </a:lnTo>
                    <a:lnTo>
                      <a:pt x="374" y="381"/>
                    </a:lnTo>
                    <a:lnTo>
                      <a:pt x="332" y="510"/>
                    </a:lnTo>
                    <a:lnTo>
                      <a:pt x="291" y="643"/>
                    </a:lnTo>
                    <a:lnTo>
                      <a:pt x="248" y="780"/>
                    </a:lnTo>
                    <a:lnTo>
                      <a:pt x="207" y="918"/>
                    </a:lnTo>
                    <a:lnTo>
                      <a:pt x="166" y="1056"/>
                    </a:lnTo>
                    <a:lnTo>
                      <a:pt x="126" y="1195"/>
                    </a:lnTo>
                    <a:lnTo>
                      <a:pt x="87" y="1332"/>
                    </a:lnTo>
                    <a:lnTo>
                      <a:pt x="49" y="1467"/>
                    </a:lnTo>
                    <a:lnTo>
                      <a:pt x="14" y="1597"/>
                    </a:lnTo>
                    <a:lnTo>
                      <a:pt x="0" y="1647"/>
                    </a:lnTo>
                    <a:lnTo>
                      <a:pt x="14" y="1647"/>
                    </a:lnTo>
                    <a:lnTo>
                      <a:pt x="26" y="1646"/>
                    </a:lnTo>
                    <a:lnTo>
                      <a:pt x="40" y="1645"/>
                    </a:lnTo>
                    <a:lnTo>
                      <a:pt x="53" y="1645"/>
                    </a:lnTo>
                    <a:lnTo>
                      <a:pt x="66" y="1644"/>
                    </a:lnTo>
                    <a:lnTo>
                      <a:pt x="80" y="1644"/>
                    </a:lnTo>
                    <a:lnTo>
                      <a:pt x="92" y="1643"/>
                    </a:lnTo>
                    <a:lnTo>
                      <a:pt x="106" y="1642"/>
                    </a:lnTo>
                    <a:lnTo>
                      <a:pt x="131" y="1548"/>
                    </a:lnTo>
                    <a:lnTo>
                      <a:pt x="169" y="1413"/>
                    </a:lnTo>
                    <a:lnTo>
                      <a:pt x="208" y="1276"/>
                    </a:lnTo>
                    <a:lnTo>
                      <a:pt x="248" y="1137"/>
                    </a:lnTo>
                    <a:lnTo>
                      <a:pt x="289" y="999"/>
                    </a:lnTo>
                    <a:lnTo>
                      <a:pt x="330" y="861"/>
                    </a:lnTo>
                    <a:lnTo>
                      <a:pt x="373" y="724"/>
                    </a:lnTo>
                    <a:lnTo>
                      <a:pt x="414" y="591"/>
                    </a:lnTo>
                    <a:lnTo>
                      <a:pt x="456" y="462"/>
                    </a:lnTo>
                    <a:lnTo>
                      <a:pt x="497" y="337"/>
                    </a:lnTo>
                    <a:lnTo>
                      <a:pt x="537" y="219"/>
                    </a:lnTo>
                    <a:lnTo>
                      <a:pt x="576" y="108"/>
                    </a:lnTo>
                    <a:lnTo>
                      <a:pt x="614" y="5"/>
                    </a:lnTo>
                    <a:lnTo>
                      <a:pt x="617" y="0"/>
                    </a:lnTo>
                    <a:lnTo>
                      <a:pt x="504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>
                <a:off x="3648240" y="3075120"/>
                <a:ext cx="199800" cy="525240"/>
              </a:xfrm>
              <a:custGeom>
                <a:avLst/>
                <a:gdLst/>
                <a:ahLst/>
                <a:rect l="l" t="t" r="r" b="b"/>
                <a:pathLst>
                  <a:path w="630" h="1653">
                    <a:moveTo>
                      <a:pt x="547" y="0"/>
                    </a:moveTo>
                    <a:lnTo>
                      <a:pt x="524" y="48"/>
                    </a:lnTo>
                    <a:lnTo>
                      <a:pt x="501" y="96"/>
                    </a:lnTo>
                    <a:lnTo>
                      <a:pt x="478" y="145"/>
                    </a:lnTo>
                    <a:lnTo>
                      <a:pt x="457" y="194"/>
                    </a:lnTo>
                    <a:lnTo>
                      <a:pt x="435" y="244"/>
                    </a:lnTo>
                    <a:lnTo>
                      <a:pt x="413" y="295"/>
                    </a:lnTo>
                    <a:lnTo>
                      <a:pt x="393" y="347"/>
                    </a:lnTo>
                    <a:lnTo>
                      <a:pt x="372" y="398"/>
                    </a:lnTo>
                    <a:lnTo>
                      <a:pt x="331" y="503"/>
                    </a:lnTo>
                    <a:lnTo>
                      <a:pt x="293" y="610"/>
                    </a:lnTo>
                    <a:lnTo>
                      <a:pt x="256" y="717"/>
                    </a:lnTo>
                    <a:lnTo>
                      <a:pt x="220" y="825"/>
                    </a:lnTo>
                    <a:lnTo>
                      <a:pt x="187" y="932"/>
                    </a:lnTo>
                    <a:lnTo>
                      <a:pt x="153" y="1039"/>
                    </a:lnTo>
                    <a:lnTo>
                      <a:pt x="124" y="1146"/>
                    </a:lnTo>
                    <a:lnTo>
                      <a:pt x="95" y="1251"/>
                    </a:lnTo>
                    <a:lnTo>
                      <a:pt x="68" y="1354"/>
                    </a:lnTo>
                    <a:lnTo>
                      <a:pt x="43" y="1456"/>
                    </a:lnTo>
                    <a:lnTo>
                      <a:pt x="20" y="1555"/>
                    </a:lnTo>
                    <a:lnTo>
                      <a:pt x="0" y="1651"/>
                    </a:lnTo>
                    <a:lnTo>
                      <a:pt x="16" y="1651"/>
                    </a:lnTo>
                    <a:lnTo>
                      <a:pt x="33" y="1651"/>
                    </a:lnTo>
                    <a:lnTo>
                      <a:pt x="49" y="1652"/>
                    </a:lnTo>
                    <a:lnTo>
                      <a:pt x="66" y="1652"/>
                    </a:lnTo>
                    <a:lnTo>
                      <a:pt x="82" y="1652"/>
                    </a:lnTo>
                    <a:lnTo>
                      <a:pt x="98" y="1652"/>
                    </a:lnTo>
                    <a:lnTo>
                      <a:pt x="114" y="1652"/>
                    </a:lnTo>
                    <a:lnTo>
                      <a:pt x="130" y="1653"/>
                    </a:lnTo>
                    <a:lnTo>
                      <a:pt x="184" y="1451"/>
                    </a:lnTo>
                    <a:lnTo>
                      <a:pt x="244" y="1239"/>
                    </a:lnTo>
                    <a:lnTo>
                      <a:pt x="306" y="1022"/>
                    </a:lnTo>
                    <a:lnTo>
                      <a:pt x="371" y="803"/>
                    </a:lnTo>
                    <a:lnTo>
                      <a:pt x="436" y="587"/>
                    </a:lnTo>
                    <a:lnTo>
                      <a:pt x="502" y="379"/>
                    </a:lnTo>
                    <a:lnTo>
                      <a:pt x="534" y="278"/>
                    </a:lnTo>
                    <a:lnTo>
                      <a:pt x="567" y="181"/>
                    </a:lnTo>
                    <a:lnTo>
                      <a:pt x="599" y="89"/>
                    </a:lnTo>
                    <a:lnTo>
                      <a:pt x="630" y="0"/>
                    </a:lnTo>
                    <a:lnTo>
                      <a:pt x="5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>
                <a:off x="3632040" y="3075120"/>
                <a:ext cx="209880" cy="523800"/>
              </a:xfrm>
              <a:custGeom>
                <a:avLst/>
                <a:gdLst/>
                <a:ahLst/>
                <a:rect l="l" t="t" r="r" b="b"/>
                <a:pathLst>
                  <a:path w="659" h="1652">
                    <a:moveTo>
                      <a:pt x="100" y="1652"/>
                    </a:moveTo>
                    <a:lnTo>
                      <a:pt x="104" y="1629"/>
                    </a:lnTo>
                    <a:lnTo>
                      <a:pt x="130" y="1515"/>
                    </a:lnTo>
                    <a:lnTo>
                      <a:pt x="159" y="1397"/>
                    </a:lnTo>
                    <a:lnTo>
                      <a:pt x="191" y="1276"/>
                    </a:lnTo>
                    <a:lnTo>
                      <a:pt x="224" y="1154"/>
                    </a:lnTo>
                    <a:lnTo>
                      <a:pt x="260" y="1030"/>
                    </a:lnTo>
                    <a:lnTo>
                      <a:pt x="299" y="906"/>
                    </a:lnTo>
                    <a:lnTo>
                      <a:pt x="340" y="780"/>
                    </a:lnTo>
                    <a:lnTo>
                      <a:pt x="361" y="717"/>
                    </a:lnTo>
                    <a:lnTo>
                      <a:pt x="382" y="656"/>
                    </a:lnTo>
                    <a:lnTo>
                      <a:pt x="405" y="593"/>
                    </a:lnTo>
                    <a:lnTo>
                      <a:pt x="428" y="531"/>
                    </a:lnTo>
                    <a:lnTo>
                      <a:pt x="451" y="471"/>
                    </a:lnTo>
                    <a:lnTo>
                      <a:pt x="475" y="411"/>
                    </a:lnTo>
                    <a:lnTo>
                      <a:pt x="500" y="350"/>
                    </a:lnTo>
                    <a:lnTo>
                      <a:pt x="524" y="291"/>
                    </a:lnTo>
                    <a:lnTo>
                      <a:pt x="549" y="233"/>
                    </a:lnTo>
                    <a:lnTo>
                      <a:pt x="575" y="174"/>
                    </a:lnTo>
                    <a:lnTo>
                      <a:pt x="601" y="118"/>
                    </a:lnTo>
                    <a:lnTo>
                      <a:pt x="627" y="63"/>
                    </a:lnTo>
                    <a:lnTo>
                      <a:pt x="655" y="9"/>
                    </a:lnTo>
                    <a:lnTo>
                      <a:pt x="659" y="0"/>
                    </a:lnTo>
                    <a:lnTo>
                      <a:pt x="537" y="0"/>
                    </a:lnTo>
                    <a:lnTo>
                      <a:pt x="519" y="37"/>
                    </a:lnTo>
                    <a:lnTo>
                      <a:pt x="493" y="93"/>
                    </a:lnTo>
                    <a:lnTo>
                      <a:pt x="468" y="152"/>
                    </a:lnTo>
                    <a:lnTo>
                      <a:pt x="442" y="210"/>
                    </a:lnTo>
                    <a:lnTo>
                      <a:pt x="418" y="269"/>
                    </a:lnTo>
                    <a:lnTo>
                      <a:pt x="393" y="328"/>
                    </a:lnTo>
                    <a:lnTo>
                      <a:pt x="369" y="390"/>
                    </a:lnTo>
                    <a:lnTo>
                      <a:pt x="346" y="450"/>
                    </a:lnTo>
                    <a:lnTo>
                      <a:pt x="323" y="512"/>
                    </a:lnTo>
                    <a:lnTo>
                      <a:pt x="300" y="575"/>
                    </a:lnTo>
                    <a:lnTo>
                      <a:pt x="279" y="636"/>
                    </a:lnTo>
                    <a:lnTo>
                      <a:pt x="258" y="699"/>
                    </a:lnTo>
                    <a:lnTo>
                      <a:pt x="217" y="825"/>
                    </a:lnTo>
                    <a:lnTo>
                      <a:pt x="178" y="949"/>
                    </a:lnTo>
                    <a:lnTo>
                      <a:pt x="142" y="1073"/>
                    </a:lnTo>
                    <a:lnTo>
                      <a:pt x="109" y="1195"/>
                    </a:lnTo>
                    <a:lnTo>
                      <a:pt x="77" y="1316"/>
                    </a:lnTo>
                    <a:lnTo>
                      <a:pt x="48" y="1434"/>
                    </a:lnTo>
                    <a:lnTo>
                      <a:pt x="22" y="1548"/>
                    </a:lnTo>
                    <a:lnTo>
                      <a:pt x="0" y="1648"/>
                    </a:lnTo>
                    <a:lnTo>
                      <a:pt x="13" y="1648"/>
                    </a:lnTo>
                    <a:lnTo>
                      <a:pt x="26" y="1650"/>
                    </a:lnTo>
                    <a:lnTo>
                      <a:pt x="38" y="1650"/>
                    </a:lnTo>
                    <a:lnTo>
                      <a:pt x="51" y="1651"/>
                    </a:lnTo>
                    <a:lnTo>
                      <a:pt x="63" y="1651"/>
                    </a:lnTo>
                    <a:lnTo>
                      <a:pt x="76" y="1651"/>
                    </a:lnTo>
                    <a:lnTo>
                      <a:pt x="87" y="1651"/>
                    </a:lnTo>
                    <a:lnTo>
                      <a:pt x="100" y="165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3673440" y="3075120"/>
                <a:ext cx="192240" cy="525240"/>
              </a:xfrm>
              <a:custGeom>
                <a:avLst/>
                <a:gdLst/>
                <a:ahLst/>
                <a:rect l="l" t="t" r="r" b="b"/>
                <a:pathLst>
                  <a:path w="608" h="1653">
                    <a:moveTo>
                      <a:pt x="496" y="0"/>
                    </a:moveTo>
                    <a:lnTo>
                      <a:pt x="484" y="36"/>
                    </a:lnTo>
                    <a:lnTo>
                      <a:pt x="444" y="155"/>
                    </a:lnTo>
                    <a:lnTo>
                      <a:pt x="403" y="279"/>
                    </a:lnTo>
                    <a:lnTo>
                      <a:pt x="360" y="408"/>
                    </a:lnTo>
                    <a:lnTo>
                      <a:pt x="318" y="542"/>
                    </a:lnTo>
                    <a:lnTo>
                      <a:pt x="277" y="679"/>
                    </a:lnTo>
                    <a:lnTo>
                      <a:pt x="235" y="817"/>
                    </a:lnTo>
                    <a:lnTo>
                      <a:pt x="195" y="955"/>
                    </a:lnTo>
                    <a:lnTo>
                      <a:pt x="154" y="1094"/>
                    </a:lnTo>
                    <a:lnTo>
                      <a:pt x="115" y="1231"/>
                    </a:lnTo>
                    <a:lnTo>
                      <a:pt x="78" y="1365"/>
                    </a:lnTo>
                    <a:lnTo>
                      <a:pt x="42" y="1497"/>
                    </a:lnTo>
                    <a:lnTo>
                      <a:pt x="8" y="1622"/>
                    </a:lnTo>
                    <a:lnTo>
                      <a:pt x="0" y="1652"/>
                    </a:lnTo>
                    <a:lnTo>
                      <a:pt x="13" y="1652"/>
                    </a:lnTo>
                    <a:lnTo>
                      <a:pt x="26" y="1652"/>
                    </a:lnTo>
                    <a:lnTo>
                      <a:pt x="39" y="1652"/>
                    </a:lnTo>
                    <a:lnTo>
                      <a:pt x="53" y="1653"/>
                    </a:lnTo>
                    <a:lnTo>
                      <a:pt x="65" y="1653"/>
                    </a:lnTo>
                    <a:lnTo>
                      <a:pt x="78" y="1653"/>
                    </a:lnTo>
                    <a:lnTo>
                      <a:pt x="90" y="1653"/>
                    </a:lnTo>
                    <a:lnTo>
                      <a:pt x="104" y="1653"/>
                    </a:lnTo>
                    <a:lnTo>
                      <a:pt x="125" y="1578"/>
                    </a:lnTo>
                    <a:lnTo>
                      <a:pt x="160" y="1446"/>
                    </a:lnTo>
                    <a:lnTo>
                      <a:pt x="197" y="1312"/>
                    </a:lnTo>
                    <a:lnTo>
                      <a:pt x="237" y="1175"/>
                    </a:lnTo>
                    <a:lnTo>
                      <a:pt x="277" y="1036"/>
                    </a:lnTo>
                    <a:lnTo>
                      <a:pt x="318" y="898"/>
                    </a:lnTo>
                    <a:lnTo>
                      <a:pt x="359" y="760"/>
                    </a:lnTo>
                    <a:lnTo>
                      <a:pt x="402" y="623"/>
                    </a:lnTo>
                    <a:lnTo>
                      <a:pt x="443" y="489"/>
                    </a:lnTo>
                    <a:lnTo>
                      <a:pt x="485" y="360"/>
                    </a:lnTo>
                    <a:lnTo>
                      <a:pt x="526" y="236"/>
                    </a:lnTo>
                    <a:lnTo>
                      <a:pt x="566" y="118"/>
                    </a:lnTo>
                    <a:lnTo>
                      <a:pt x="604" y="7"/>
                    </a:lnTo>
                    <a:lnTo>
                      <a:pt x="608" y="0"/>
                    </a:lnTo>
                    <a:lnTo>
                      <a:pt x="496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>
                <a:off x="3549600" y="3075120"/>
                <a:ext cx="193680" cy="520560"/>
              </a:xfrm>
              <a:custGeom>
                <a:avLst/>
                <a:gdLst/>
                <a:ahLst/>
                <a:rect l="l" t="t" r="r" b="b"/>
                <a:pathLst>
                  <a:path w="612" h="1642">
                    <a:moveTo>
                      <a:pt x="516" y="0"/>
                    </a:moveTo>
                    <a:lnTo>
                      <a:pt x="471" y="98"/>
                    </a:lnTo>
                    <a:lnTo>
                      <a:pt x="429" y="198"/>
                    </a:lnTo>
                    <a:lnTo>
                      <a:pt x="387" y="301"/>
                    </a:lnTo>
                    <a:lnTo>
                      <a:pt x="347" y="405"/>
                    </a:lnTo>
                    <a:lnTo>
                      <a:pt x="310" y="510"/>
                    </a:lnTo>
                    <a:lnTo>
                      <a:pt x="273" y="616"/>
                    </a:lnTo>
                    <a:lnTo>
                      <a:pt x="238" y="723"/>
                    </a:lnTo>
                    <a:lnTo>
                      <a:pt x="204" y="829"/>
                    </a:lnTo>
                    <a:lnTo>
                      <a:pt x="172" y="935"/>
                    </a:lnTo>
                    <a:lnTo>
                      <a:pt x="142" y="1041"/>
                    </a:lnTo>
                    <a:lnTo>
                      <a:pt x="114" y="1145"/>
                    </a:lnTo>
                    <a:lnTo>
                      <a:pt x="87" y="1248"/>
                    </a:lnTo>
                    <a:lnTo>
                      <a:pt x="62" y="1348"/>
                    </a:lnTo>
                    <a:lnTo>
                      <a:pt x="39" y="1446"/>
                    </a:lnTo>
                    <a:lnTo>
                      <a:pt x="19" y="1541"/>
                    </a:lnTo>
                    <a:lnTo>
                      <a:pt x="0" y="1632"/>
                    </a:lnTo>
                    <a:lnTo>
                      <a:pt x="15" y="1634"/>
                    </a:lnTo>
                    <a:lnTo>
                      <a:pt x="31" y="1635"/>
                    </a:lnTo>
                    <a:lnTo>
                      <a:pt x="46" y="1636"/>
                    </a:lnTo>
                    <a:lnTo>
                      <a:pt x="62" y="1637"/>
                    </a:lnTo>
                    <a:lnTo>
                      <a:pt x="77" y="1638"/>
                    </a:lnTo>
                    <a:lnTo>
                      <a:pt x="93" y="1639"/>
                    </a:lnTo>
                    <a:lnTo>
                      <a:pt x="108" y="1640"/>
                    </a:lnTo>
                    <a:lnTo>
                      <a:pt x="123" y="1642"/>
                    </a:lnTo>
                    <a:lnTo>
                      <a:pt x="175" y="1449"/>
                    </a:lnTo>
                    <a:lnTo>
                      <a:pt x="232" y="1243"/>
                    </a:lnTo>
                    <a:lnTo>
                      <a:pt x="291" y="1032"/>
                    </a:lnTo>
                    <a:lnTo>
                      <a:pt x="354" y="816"/>
                    </a:lnTo>
                    <a:lnTo>
                      <a:pt x="419" y="601"/>
                    </a:lnTo>
                    <a:lnTo>
                      <a:pt x="484" y="391"/>
                    </a:lnTo>
                    <a:lnTo>
                      <a:pt x="516" y="288"/>
                    </a:lnTo>
                    <a:lnTo>
                      <a:pt x="548" y="189"/>
                    </a:lnTo>
                    <a:lnTo>
                      <a:pt x="580" y="92"/>
                    </a:lnTo>
                    <a:lnTo>
                      <a:pt x="612" y="0"/>
                    </a:lnTo>
                    <a:lnTo>
                      <a:pt x="5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>
                <a:off x="3533760" y="3075120"/>
                <a:ext cx="198360" cy="519120"/>
              </a:xfrm>
              <a:custGeom>
                <a:avLst/>
                <a:gdLst/>
                <a:ahLst/>
                <a:rect l="l" t="t" r="r" b="b"/>
                <a:pathLst>
                  <a:path w="623" h="1636">
                    <a:moveTo>
                      <a:pt x="97" y="1636"/>
                    </a:moveTo>
                    <a:lnTo>
                      <a:pt x="97" y="1635"/>
                    </a:lnTo>
                    <a:lnTo>
                      <a:pt x="119" y="1525"/>
                    </a:lnTo>
                    <a:lnTo>
                      <a:pt x="146" y="1411"/>
                    </a:lnTo>
                    <a:lnTo>
                      <a:pt x="174" y="1294"/>
                    </a:lnTo>
                    <a:lnTo>
                      <a:pt x="206" y="1173"/>
                    </a:lnTo>
                    <a:lnTo>
                      <a:pt x="239" y="1051"/>
                    </a:lnTo>
                    <a:lnTo>
                      <a:pt x="276" y="926"/>
                    </a:lnTo>
                    <a:lnTo>
                      <a:pt x="314" y="802"/>
                    </a:lnTo>
                    <a:lnTo>
                      <a:pt x="355" y="676"/>
                    </a:lnTo>
                    <a:lnTo>
                      <a:pt x="376" y="614"/>
                    </a:lnTo>
                    <a:lnTo>
                      <a:pt x="397" y="552"/>
                    </a:lnTo>
                    <a:lnTo>
                      <a:pt x="420" y="489"/>
                    </a:lnTo>
                    <a:lnTo>
                      <a:pt x="443" y="428"/>
                    </a:lnTo>
                    <a:lnTo>
                      <a:pt x="466" y="367"/>
                    </a:lnTo>
                    <a:lnTo>
                      <a:pt x="490" y="307"/>
                    </a:lnTo>
                    <a:lnTo>
                      <a:pt x="514" y="246"/>
                    </a:lnTo>
                    <a:lnTo>
                      <a:pt x="539" y="187"/>
                    </a:lnTo>
                    <a:lnTo>
                      <a:pt x="564" y="129"/>
                    </a:lnTo>
                    <a:lnTo>
                      <a:pt x="590" y="71"/>
                    </a:lnTo>
                    <a:lnTo>
                      <a:pt x="616" y="15"/>
                    </a:lnTo>
                    <a:lnTo>
                      <a:pt x="623" y="0"/>
                    </a:lnTo>
                    <a:lnTo>
                      <a:pt x="504" y="0"/>
                    </a:lnTo>
                    <a:lnTo>
                      <a:pt x="482" y="48"/>
                    </a:lnTo>
                    <a:lnTo>
                      <a:pt x="457" y="106"/>
                    </a:lnTo>
                    <a:lnTo>
                      <a:pt x="433" y="165"/>
                    </a:lnTo>
                    <a:lnTo>
                      <a:pt x="408" y="225"/>
                    </a:lnTo>
                    <a:lnTo>
                      <a:pt x="384" y="286"/>
                    </a:lnTo>
                    <a:lnTo>
                      <a:pt x="361" y="347"/>
                    </a:lnTo>
                    <a:lnTo>
                      <a:pt x="338" y="408"/>
                    </a:lnTo>
                    <a:lnTo>
                      <a:pt x="315" y="470"/>
                    </a:lnTo>
                    <a:lnTo>
                      <a:pt x="294" y="533"/>
                    </a:lnTo>
                    <a:lnTo>
                      <a:pt x="273" y="595"/>
                    </a:lnTo>
                    <a:lnTo>
                      <a:pt x="232" y="721"/>
                    </a:lnTo>
                    <a:lnTo>
                      <a:pt x="193" y="845"/>
                    </a:lnTo>
                    <a:lnTo>
                      <a:pt x="157" y="970"/>
                    </a:lnTo>
                    <a:lnTo>
                      <a:pt x="124" y="1092"/>
                    </a:lnTo>
                    <a:lnTo>
                      <a:pt x="92" y="1213"/>
                    </a:lnTo>
                    <a:lnTo>
                      <a:pt x="63" y="1330"/>
                    </a:lnTo>
                    <a:lnTo>
                      <a:pt x="37" y="1444"/>
                    </a:lnTo>
                    <a:lnTo>
                      <a:pt x="14" y="1554"/>
                    </a:lnTo>
                    <a:lnTo>
                      <a:pt x="0" y="1629"/>
                    </a:lnTo>
                    <a:lnTo>
                      <a:pt x="12" y="1629"/>
                    </a:lnTo>
                    <a:lnTo>
                      <a:pt x="24" y="1630"/>
                    </a:lnTo>
                    <a:lnTo>
                      <a:pt x="36" y="1631"/>
                    </a:lnTo>
                    <a:lnTo>
                      <a:pt x="49" y="1632"/>
                    </a:lnTo>
                    <a:lnTo>
                      <a:pt x="60" y="1634"/>
                    </a:lnTo>
                    <a:lnTo>
                      <a:pt x="73" y="1635"/>
                    </a:lnTo>
                    <a:lnTo>
                      <a:pt x="84" y="1636"/>
                    </a:lnTo>
                    <a:lnTo>
                      <a:pt x="97" y="16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3571920" y="3075120"/>
                <a:ext cx="189000" cy="522000"/>
              </a:xfrm>
              <a:custGeom>
                <a:avLst/>
                <a:gdLst/>
                <a:ahLst/>
                <a:rect l="l" t="t" r="r" b="b"/>
                <a:pathLst>
                  <a:path w="594" h="1645">
                    <a:moveTo>
                      <a:pt x="485" y="0"/>
                    </a:moveTo>
                    <a:lnTo>
                      <a:pt x="468" y="51"/>
                    </a:lnTo>
                    <a:lnTo>
                      <a:pt x="426" y="175"/>
                    </a:lnTo>
                    <a:lnTo>
                      <a:pt x="385" y="304"/>
                    </a:lnTo>
                    <a:lnTo>
                      <a:pt x="342" y="438"/>
                    </a:lnTo>
                    <a:lnTo>
                      <a:pt x="301" y="575"/>
                    </a:lnTo>
                    <a:lnTo>
                      <a:pt x="259" y="713"/>
                    </a:lnTo>
                    <a:lnTo>
                      <a:pt x="219" y="851"/>
                    </a:lnTo>
                    <a:lnTo>
                      <a:pt x="178" y="990"/>
                    </a:lnTo>
                    <a:lnTo>
                      <a:pt x="140" y="1127"/>
                    </a:lnTo>
                    <a:lnTo>
                      <a:pt x="102" y="1262"/>
                    </a:lnTo>
                    <a:lnTo>
                      <a:pt x="67" y="1393"/>
                    </a:lnTo>
                    <a:lnTo>
                      <a:pt x="31" y="1518"/>
                    </a:lnTo>
                    <a:lnTo>
                      <a:pt x="0" y="1638"/>
                    </a:lnTo>
                    <a:lnTo>
                      <a:pt x="13" y="1639"/>
                    </a:lnTo>
                    <a:lnTo>
                      <a:pt x="26" y="1640"/>
                    </a:lnTo>
                    <a:lnTo>
                      <a:pt x="38" y="1640"/>
                    </a:lnTo>
                    <a:lnTo>
                      <a:pt x="52" y="1642"/>
                    </a:lnTo>
                    <a:lnTo>
                      <a:pt x="64" y="1643"/>
                    </a:lnTo>
                    <a:lnTo>
                      <a:pt x="77" y="1643"/>
                    </a:lnTo>
                    <a:lnTo>
                      <a:pt x="89" y="1644"/>
                    </a:lnTo>
                    <a:lnTo>
                      <a:pt x="102" y="1645"/>
                    </a:lnTo>
                    <a:lnTo>
                      <a:pt x="114" y="1599"/>
                    </a:lnTo>
                    <a:lnTo>
                      <a:pt x="149" y="1474"/>
                    </a:lnTo>
                    <a:lnTo>
                      <a:pt x="184" y="1343"/>
                    </a:lnTo>
                    <a:lnTo>
                      <a:pt x="222" y="1208"/>
                    </a:lnTo>
                    <a:lnTo>
                      <a:pt x="260" y="1071"/>
                    </a:lnTo>
                    <a:lnTo>
                      <a:pt x="301" y="932"/>
                    </a:lnTo>
                    <a:lnTo>
                      <a:pt x="342" y="794"/>
                    </a:lnTo>
                    <a:lnTo>
                      <a:pt x="384" y="656"/>
                    </a:lnTo>
                    <a:lnTo>
                      <a:pt x="425" y="519"/>
                    </a:lnTo>
                    <a:lnTo>
                      <a:pt x="467" y="385"/>
                    </a:lnTo>
                    <a:lnTo>
                      <a:pt x="508" y="256"/>
                    </a:lnTo>
                    <a:lnTo>
                      <a:pt x="550" y="132"/>
                    </a:lnTo>
                    <a:lnTo>
                      <a:pt x="590" y="15"/>
                    </a:lnTo>
                    <a:lnTo>
                      <a:pt x="594" y="0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>
                <a:off x="3452760" y="3075120"/>
                <a:ext cx="185760" cy="512640"/>
              </a:xfrm>
              <a:custGeom>
                <a:avLst/>
                <a:gdLst/>
                <a:ahLst/>
                <a:rect l="l" t="t" r="r" b="b"/>
                <a:pathLst>
                  <a:path w="588" h="1614">
                    <a:moveTo>
                      <a:pt x="480" y="0"/>
                    </a:moveTo>
                    <a:lnTo>
                      <a:pt x="439" y="98"/>
                    </a:lnTo>
                    <a:lnTo>
                      <a:pt x="399" y="197"/>
                    </a:lnTo>
                    <a:lnTo>
                      <a:pt x="360" y="299"/>
                    </a:lnTo>
                    <a:lnTo>
                      <a:pt x="323" y="401"/>
                    </a:lnTo>
                    <a:lnTo>
                      <a:pt x="287" y="505"/>
                    </a:lnTo>
                    <a:lnTo>
                      <a:pt x="252" y="609"/>
                    </a:lnTo>
                    <a:lnTo>
                      <a:pt x="220" y="713"/>
                    </a:lnTo>
                    <a:lnTo>
                      <a:pt x="188" y="816"/>
                    </a:lnTo>
                    <a:lnTo>
                      <a:pt x="158" y="918"/>
                    </a:lnTo>
                    <a:lnTo>
                      <a:pt x="131" y="1020"/>
                    </a:lnTo>
                    <a:lnTo>
                      <a:pt x="105" y="1120"/>
                    </a:lnTo>
                    <a:lnTo>
                      <a:pt x="80" y="1218"/>
                    </a:lnTo>
                    <a:lnTo>
                      <a:pt x="57" y="1315"/>
                    </a:lnTo>
                    <a:lnTo>
                      <a:pt x="36" y="1408"/>
                    </a:lnTo>
                    <a:lnTo>
                      <a:pt x="17" y="1499"/>
                    </a:lnTo>
                    <a:lnTo>
                      <a:pt x="0" y="1586"/>
                    </a:lnTo>
                    <a:lnTo>
                      <a:pt x="9" y="1588"/>
                    </a:lnTo>
                    <a:lnTo>
                      <a:pt x="17" y="1590"/>
                    </a:lnTo>
                    <a:lnTo>
                      <a:pt x="25" y="1594"/>
                    </a:lnTo>
                    <a:lnTo>
                      <a:pt x="33" y="1596"/>
                    </a:lnTo>
                    <a:lnTo>
                      <a:pt x="41" y="1599"/>
                    </a:lnTo>
                    <a:lnTo>
                      <a:pt x="49" y="1602"/>
                    </a:lnTo>
                    <a:lnTo>
                      <a:pt x="57" y="1605"/>
                    </a:lnTo>
                    <a:lnTo>
                      <a:pt x="65" y="1608"/>
                    </a:lnTo>
                    <a:lnTo>
                      <a:pt x="72" y="1608"/>
                    </a:lnTo>
                    <a:lnTo>
                      <a:pt x="78" y="1610"/>
                    </a:lnTo>
                    <a:lnTo>
                      <a:pt x="84" y="1611"/>
                    </a:lnTo>
                    <a:lnTo>
                      <a:pt x="90" y="1611"/>
                    </a:lnTo>
                    <a:lnTo>
                      <a:pt x="96" y="1612"/>
                    </a:lnTo>
                    <a:lnTo>
                      <a:pt x="103" y="1612"/>
                    </a:lnTo>
                    <a:lnTo>
                      <a:pt x="108" y="1613"/>
                    </a:lnTo>
                    <a:lnTo>
                      <a:pt x="115" y="1614"/>
                    </a:lnTo>
                    <a:lnTo>
                      <a:pt x="163" y="1430"/>
                    </a:lnTo>
                    <a:lnTo>
                      <a:pt x="217" y="1234"/>
                    </a:lnTo>
                    <a:lnTo>
                      <a:pt x="275" y="1029"/>
                    </a:lnTo>
                    <a:lnTo>
                      <a:pt x="335" y="818"/>
                    </a:lnTo>
                    <a:lnTo>
                      <a:pt x="398" y="606"/>
                    </a:lnTo>
                    <a:lnTo>
                      <a:pt x="462" y="396"/>
                    </a:lnTo>
                    <a:lnTo>
                      <a:pt x="494" y="293"/>
                    </a:lnTo>
                    <a:lnTo>
                      <a:pt x="526" y="193"/>
                    </a:lnTo>
                    <a:lnTo>
                      <a:pt x="556" y="94"/>
                    </a:lnTo>
                    <a:lnTo>
                      <a:pt x="588" y="0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>
                <a:off x="3438360" y="3075120"/>
                <a:ext cx="185760" cy="507960"/>
              </a:xfrm>
              <a:custGeom>
                <a:avLst/>
                <a:gdLst/>
                <a:ahLst/>
                <a:rect l="l" t="t" r="r" b="b"/>
                <a:pathLst>
                  <a:path w="585" h="1602">
                    <a:moveTo>
                      <a:pt x="93" y="1602"/>
                    </a:moveTo>
                    <a:lnTo>
                      <a:pt x="106" y="1531"/>
                    </a:lnTo>
                    <a:lnTo>
                      <a:pt x="129" y="1421"/>
                    </a:lnTo>
                    <a:lnTo>
                      <a:pt x="155" y="1307"/>
                    </a:lnTo>
                    <a:lnTo>
                      <a:pt x="184" y="1190"/>
                    </a:lnTo>
                    <a:lnTo>
                      <a:pt x="216" y="1069"/>
                    </a:lnTo>
                    <a:lnTo>
                      <a:pt x="249" y="947"/>
                    </a:lnTo>
                    <a:lnTo>
                      <a:pt x="285" y="822"/>
                    </a:lnTo>
                    <a:lnTo>
                      <a:pt x="324" y="698"/>
                    </a:lnTo>
                    <a:lnTo>
                      <a:pt x="364" y="573"/>
                    </a:lnTo>
                    <a:lnTo>
                      <a:pt x="386" y="510"/>
                    </a:lnTo>
                    <a:lnTo>
                      <a:pt x="407" y="448"/>
                    </a:lnTo>
                    <a:lnTo>
                      <a:pt x="430" y="385"/>
                    </a:lnTo>
                    <a:lnTo>
                      <a:pt x="453" y="324"/>
                    </a:lnTo>
                    <a:lnTo>
                      <a:pt x="476" y="263"/>
                    </a:lnTo>
                    <a:lnTo>
                      <a:pt x="500" y="203"/>
                    </a:lnTo>
                    <a:lnTo>
                      <a:pt x="524" y="142"/>
                    </a:lnTo>
                    <a:lnTo>
                      <a:pt x="549" y="83"/>
                    </a:lnTo>
                    <a:lnTo>
                      <a:pt x="574" y="25"/>
                    </a:lnTo>
                    <a:lnTo>
                      <a:pt x="585" y="0"/>
                    </a:lnTo>
                    <a:lnTo>
                      <a:pt x="468" y="0"/>
                    </a:lnTo>
                    <a:lnTo>
                      <a:pt x="467" y="2"/>
                    </a:lnTo>
                    <a:lnTo>
                      <a:pt x="442" y="61"/>
                    </a:lnTo>
                    <a:lnTo>
                      <a:pt x="418" y="121"/>
                    </a:lnTo>
                    <a:lnTo>
                      <a:pt x="394" y="182"/>
                    </a:lnTo>
                    <a:lnTo>
                      <a:pt x="371" y="243"/>
                    </a:lnTo>
                    <a:lnTo>
                      <a:pt x="348" y="304"/>
                    </a:lnTo>
                    <a:lnTo>
                      <a:pt x="325" y="366"/>
                    </a:lnTo>
                    <a:lnTo>
                      <a:pt x="304" y="429"/>
                    </a:lnTo>
                    <a:lnTo>
                      <a:pt x="282" y="492"/>
                    </a:lnTo>
                    <a:lnTo>
                      <a:pt x="242" y="617"/>
                    </a:lnTo>
                    <a:lnTo>
                      <a:pt x="203" y="741"/>
                    </a:lnTo>
                    <a:lnTo>
                      <a:pt x="167" y="866"/>
                    </a:lnTo>
                    <a:lnTo>
                      <a:pt x="134" y="988"/>
                    </a:lnTo>
                    <a:lnTo>
                      <a:pt x="102" y="1109"/>
                    </a:lnTo>
                    <a:lnTo>
                      <a:pt x="73" y="1226"/>
                    </a:lnTo>
                    <a:lnTo>
                      <a:pt x="47" y="1340"/>
                    </a:lnTo>
                    <a:lnTo>
                      <a:pt x="24" y="1450"/>
                    </a:lnTo>
                    <a:lnTo>
                      <a:pt x="4" y="1555"/>
                    </a:lnTo>
                    <a:lnTo>
                      <a:pt x="0" y="1571"/>
                    </a:lnTo>
                    <a:lnTo>
                      <a:pt x="12" y="1574"/>
                    </a:lnTo>
                    <a:lnTo>
                      <a:pt x="23" y="1578"/>
                    </a:lnTo>
                    <a:lnTo>
                      <a:pt x="35" y="1581"/>
                    </a:lnTo>
                    <a:lnTo>
                      <a:pt x="46" y="1586"/>
                    </a:lnTo>
                    <a:lnTo>
                      <a:pt x="57" y="1589"/>
                    </a:lnTo>
                    <a:lnTo>
                      <a:pt x="69" y="1592"/>
                    </a:lnTo>
                    <a:lnTo>
                      <a:pt x="81" y="1597"/>
                    </a:lnTo>
                    <a:lnTo>
                      <a:pt x="93" y="16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3473280" y="3075120"/>
                <a:ext cx="182880" cy="514080"/>
              </a:xfrm>
              <a:custGeom>
                <a:avLst/>
                <a:gdLst/>
                <a:ahLst/>
                <a:rect l="l" t="t" r="r" b="b"/>
                <a:pathLst>
                  <a:path w="578" h="1619">
                    <a:moveTo>
                      <a:pt x="469" y="0"/>
                    </a:moveTo>
                    <a:lnTo>
                      <a:pt x="445" y="72"/>
                    </a:lnTo>
                    <a:lnTo>
                      <a:pt x="404" y="201"/>
                    </a:lnTo>
                    <a:lnTo>
                      <a:pt x="361" y="334"/>
                    </a:lnTo>
                    <a:lnTo>
                      <a:pt x="320" y="471"/>
                    </a:lnTo>
                    <a:lnTo>
                      <a:pt x="278" y="609"/>
                    </a:lnTo>
                    <a:lnTo>
                      <a:pt x="237" y="747"/>
                    </a:lnTo>
                    <a:lnTo>
                      <a:pt x="197" y="886"/>
                    </a:lnTo>
                    <a:lnTo>
                      <a:pt x="158" y="1023"/>
                    </a:lnTo>
                    <a:lnTo>
                      <a:pt x="121" y="1158"/>
                    </a:lnTo>
                    <a:lnTo>
                      <a:pt x="84" y="1289"/>
                    </a:lnTo>
                    <a:lnTo>
                      <a:pt x="50" y="1414"/>
                    </a:lnTo>
                    <a:lnTo>
                      <a:pt x="18" y="1535"/>
                    </a:lnTo>
                    <a:lnTo>
                      <a:pt x="0" y="1607"/>
                    </a:lnTo>
                    <a:lnTo>
                      <a:pt x="0" y="1607"/>
                    </a:lnTo>
                    <a:lnTo>
                      <a:pt x="0" y="1607"/>
                    </a:lnTo>
                    <a:lnTo>
                      <a:pt x="0" y="1607"/>
                    </a:lnTo>
                    <a:lnTo>
                      <a:pt x="0" y="1607"/>
                    </a:lnTo>
                    <a:lnTo>
                      <a:pt x="0" y="1608"/>
                    </a:lnTo>
                    <a:lnTo>
                      <a:pt x="0" y="1608"/>
                    </a:lnTo>
                    <a:lnTo>
                      <a:pt x="0" y="1608"/>
                    </a:lnTo>
                    <a:lnTo>
                      <a:pt x="0" y="1608"/>
                    </a:lnTo>
                    <a:lnTo>
                      <a:pt x="13" y="1610"/>
                    </a:lnTo>
                    <a:lnTo>
                      <a:pt x="25" y="1611"/>
                    </a:lnTo>
                    <a:lnTo>
                      <a:pt x="38" y="1613"/>
                    </a:lnTo>
                    <a:lnTo>
                      <a:pt x="50" y="1614"/>
                    </a:lnTo>
                    <a:lnTo>
                      <a:pt x="63" y="1615"/>
                    </a:lnTo>
                    <a:lnTo>
                      <a:pt x="75" y="1616"/>
                    </a:lnTo>
                    <a:lnTo>
                      <a:pt x="88" y="1618"/>
                    </a:lnTo>
                    <a:lnTo>
                      <a:pt x="100" y="1619"/>
                    </a:lnTo>
                    <a:lnTo>
                      <a:pt x="100" y="1616"/>
                    </a:lnTo>
                    <a:lnTo>
                      <a:pt x="132" y="1495"/>
                    </a:lnTo>
                    <a:lnTo>
                      <a:pt x="166" y="1370"/>
                    </a:lnTo>
                    <a:lnTo>
                      <a:pt x="203" y="1239"/>
                    </a:lnTo>
                    <a:lnTo>
                      <a:pt x="241" y="1104"/>
                    </a:lnTo>
                    <a:lnTo>
                      <a:pt x="279" y="967"/>
                    </a:lnTo>
                    <a:lnTo>
                      <a:pt x="320" y="828"/>
                    </a:lnTo>
                    <a:lnTo>
                      <a:pt x="360" y="690"/>
                    </a:lnTo>
                    <a:lnTo>
                      <a:pt x="402" y="552"/>
                    </a:lnTo>
                    <a:lnTo>
                      <a:pt x="443" y="415"/>
                    </a:lnTo>
                    <a:lnTo>
                      <a:pt x="486" y="282"/>
                    </a:lnTo>
                    <a:lnTo>
                      <a:pt x="527" y="153"/>
                    </a:lnTo>
                    <a:lnTo>
                      <a:pt x="568" y="28"/>
                    </a:lnTo>
                    <a:lnTo>
                      <a:pt x="578" y="0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3357720" y="3075120"/>
                <a:ext cx="177480" cy="487080"/>
              </a:xfrm>
              <a:custGeom>
                <a:avLst/>
                <a:gdLst/>
                <a:ahLst/>
                <a:rect l="l" t="t" r="r" b="b"/>
                <a:pathLst>
                  <a:path w="561" h="1537">
                    <a:moveTo>
                      <a:pt x="444" y="0"/>
                    </a:moveTo>
                    <a:lnTo>
                      <a:pt x="405" y="96"/>
                    </a:lnTo>
                    <a:lnTo>
                      <a:pt x="368" y="193"/>
                    </a:lnTo>
                    <a:lnTo>
                      <a:pt x="332" y="291"/>
                    </a:lnTo>
                    <a:lnTo>
                      <a:pt x="297" y="390"/>
                    </a:lnTo>
                    <a:lnTo>
                      <a:pt x="264" y="490"/>
                    </a:lnTo>
                    <a:lnTo>
                      <a:pt x="232" y="590"/>
                    </a:lnTo>
                    <a:lnTo>
                      <a:pt x="202" y="689"/>
                    </a:lnTo>
                    <a:lnTo>
                      <a:pt x="174" y="788"/>
                    </a:lnTo>
                    <a:lnTo>
                      <a:pt x="145" y="886"/>
                    </a:lnTo>
                    <a:lnTo>
                      <a:pt x="120" y="982"/>
                    </a:lnTo>
                    <a:lnTo>
                      <a:pt x="96" y="1078"/>
                    </a:lnTo>
                    <a:lnTo>
                      <a:pt x="73" y="1170"/>
                    </a:lnTo>
                    <a:lnTo>
                      <a:pt x="53" y="1262"/>
                    </a:lnTo>
                    <a:lnTo>
                      <a:pt x="34" y="1349"/>
                    </a:lnTo>
                    <a:lnTo>
                      <a:pt x="16" y="1435"/>
                    </a:lnTo>
                    <a:lnTo>
                      <a:pt x="0" y="1516"/>
                    </a:lnTo>
                    <a:lnTo>
                      <a:pt x="15" y="1518"/>
                    </a:lnTo>
                    <a:lnTo>
                      <a:pt x="29" y="1521"/>
                    </a:lnTo>
                    <a:lnTo>
                      <a:pt x="44" y="1523"/>
                    </a:lnTo>
                    <a:lnTo>
                      <a:pt x="57" y="1525"/>
                    </a:lnTo>
                    <a:lnTo>
                      <a:pt x="72" y="1529"/>
                    </a:lnTo>
                    <a:lnTo>
                      <a:pt x="86" y="1531"/>
                    </a:lnTo>
                    <a:lnTo>
                      <a:pt x="101" y="1533"/>
                    </a:lnTo>
                    <a:lnTo>
                      <a:pt x="114" y="1537"/>
                    </a:lnTo>
                    <a:lnTo>
                      <a:pt x="160" y="1364"/>
                    </a:lnTo>
                    <a:lnTo>
                      <a:pt x="210" y="1179"/>
                    </a:lnTo>
                    <a:lnTo>
                      <a:pt x="264" y="987"/>
                    </a:lnTo>
                    <a:lnTo>
                      <a:pt x="321" y="787"/>
                    </a:lnTo>
                    <a:lnTo>
                      <a:pt x="379" y="586"/>
                    </a:lnTo>
                    <a:lnTo>
                      <a:pt x="439" y="385"/>
                    </a:lnTo>
                    <a:lnTo>
                      <a:pt x="500" y="189"/>
                    </a:lnTo>
                    <a:lnTo>
                      <a:pt x="561" y="0"/>
                    </a:lnTo>
                    <a:lnTo>
                      <a:pt x="44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>
                <a:off x="3343320" y="3075120"/>
                <a:ext cx="173160" cy="484200"/>
              </a:xfrm>
              <a:custGeom>
                <a:avLst/>
                <a:gdLst/>
                <a:ahLst/>
                <a:rect l="l" t="t" r="r" b="b"/>
                <a:pathLst>
                  <a:path w="547" h="1524">
                    <a:moveTo>
                      <a:pt x="93" y="1524"/>
                    </a:moveTo>
                    <a:lnTo>
                      <a:pt x="113" y="1429"/>
                    </a:lnTo>
                    <a:lnTo>
                      <a:pt x="135" y="1320"/>
                    </a:lnTo>
                    <a:lnTo>
                      <a:pt x="162" y="1206"/>
                    </a:lnTo>
                    <a:lnTo>
                      <a:pt x="190" y="1088"/>
                    </a:lnTo>
                    <a:lnTo>
                      <a:pt x="222" y="968"/>
                    </a:lnTo>
                    <a:lnTo>
                      <a:pt x="255" y="845"/>
                    </a:lnTo>
                    <a:lnTo>
                      <a:pt x="292" y="721"/>
                    </a:lnTo>
                    <a:lnTo>
                      <a:pt x="330" y="596"/>
                    </a:lnTo>
                    <a:lnTo>
                      <a:pt x="370" y="471"/>
                    </a:lnTo>
                    <a:lnTo>
                      <a:pt x="392" y="408"/>
                    </a:lnTo>
                    <a:lnTo>
                      <a:pt x="414" y="347"/>
                    </a:lnTo>
                    <a:lnTo>
                      <a:pt x="436" y="284"/>
                    </a:lnTo>
                    <a:lnTo>
                      <a:pt x="459" y="222"/>
                    </a:lnTo>
                    <a:lnTo>
                      <a:pt x="482" y="162"/>
                    </a:lnTo>
                    <a:lnTo>
                      <a:pt x="506" y="101"/>
                    </a:lnTo>
                    <a:lnTo>
                      <a:pt x="530" y="41"/>
                    </a:lnTo>
                    <a:lnTo>
                      <a:pt x="547" y="0"/>
                    </a:lnTo>
                    <a:lnTo>
                      <a:pt x="432" y="0"/>
                    </a:lnTo>
                    <a:lnTo>
                      <a:pt x="424" y="20"/>
                    </a:lnTo>
                    <a:lnTo>
                      <a:pt x="400" y="81"/>
                    </a:lnTo>
                    <a:lnTo>
                      <a:pt x="377" y="141"/>
                    </a:lnTo>
                    <a:lnTo>
                      <a:pt x="354" y="203"/>
                    </a:lnTo>
                    <a:lnTo>
                      <a:pt x="331" y="266"/>
                    </a:lnTo>
                    <a:lnTo>
                      <a:pt x="310" y="327"/>
                    </a:lnTo>
                    <a:lnTo>
                      <a:pt x="288" y="390"/>
                    </a:lnTo>
                    <a:lnTo>
                      <a:pt x="248" y="515"/>
                    </a:lnTo>
                    <a:lnTo>
                      <a:pt x="209" y="640"/>
                    </a:lnTo>
                    <a:lnTo>
                      <a:pt x="173" y="764"/>
                    </a:lnTo>
                    <a:lnTo>
                      <a:pt x="139" y="887"/>
                    </a:lnTo>
                    <a:lnTo>
                      <a:pt x="108" y="1007"/>
                    </a:lnTo>
                    <a:lnTo>
                      <a:pt x="80" y="1125"/>
                    </a:lnTo>
                    <a:lnTo>
                      <a:pt x="53" y="1239"/>
                    </a:lnTo>
                    <a:lnTo>
                      <a:pt x="29" y="1348"/>
                    </a:lnTo>
                    <a:lnTo>
                      <a:pt x="9" y="1453"/>
                    </a:lnTo>
                    <a:lnTo>
                      <a:pt x="0" y="1510"/>
                    </a:lnTo>
                    <a:lnTo>
                      <a:pt x="11" y="1511"/>
                    </a:lnTo>
                    <a:lnTo>
                      <a:pt x="23" y="1514"/>
                    </a:lnTo>
                    <a:lnTo>
                      <a:pt x="35" y="1515"/>
                    </a:lnTo>
                    <a:lnTo>
                      <a:pt x="46" y="1516"/>
                    </a:lnTo>
                    <a:lnTo>
                      <a:pt x="58" y="1518"/>
                    </a:lnTo>
                    <a:lnTo>
                      <a:pt x="70" y="1519"/>
                    </a:lnTo>
                    <a:lnTo>
                      <a:pt x="82" y="1522"/>
                    </a:lnTo>
                    <a:lnTo>
                      <a:pt x="93" y="15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3378240" y="3075120"/>
                <a:ext cx="174600" cy="490320"/>
              </a:xfrm>
              <a:custGeom>
                <a:avLst/>
                <a:gdLst/>
                <a:ahLst/>
                <a:rect l="l" t="t" r="r" b="b"/>
                <a:pathLst>
                  <a:path w="550" h="1547">
                    <a:moveTo>
                      <a:pt x="442" y="0"/>
                    </a:moveTo>
                    <a:lnTo>
                      <a:pt x="410" y="99"/>
                    </a:lnTo>
                    <a:lnTo>
                      <a:pt x="368" y="233"/>
                    </a:lnTo>
                    <a:lnTo>
                      <a:pt x="326" y="369"/>
                    </a:lnTo>
                    <a:lnTo>
                      <a:pt x="284" y="507"/>
                    </a:lnTo>
                    <a:lnTo>
                      <a:pt x="243" y="646"/>
                    </a:lnTo>
                    <a:lnTo>
                      <a:pt x="203" y="785"/>
                    </a:lnTo>
                    <a:lnTo>
                      <a:pt x="165" y="922"/>
                    </a:lnTo>
                    <a:lnTo>
                      <a:pt x="127" y="1056"/>
                    </a:lnTo>
                    <a:lnTo>
                      <a:pt x="90" y="1187"/>
                    </a:lnTo>
                    <a:lnTo>
                      <a:pt x="56" y="1313"/>
                    </a:lnTo>
                    <a:lnTo>
                      <a:pt x="24" y="1434"/>
                    </a:lnTo>
                    <a:lnTo>
                      <a:pt x="0" y="1526"/>
                    </a:lnTo>
                    <a:lnTo>
                      <a:pt x="12" y="1529"/>
                    </a:lnTo>
                    <a:lnTo>
                      <a:pt x="24" y="1531"/>
                    </a:lnTo>
                    <a:lnTo>
                      <a:pt x="37" y="1534"/>
                    </a:lnTo>
                    <a:lnTo>
                      <a:pt x="49" y="1537"/>
                    </a:lnTo>
                    <a:lnTo>
                      <a:pt x="62" y="1539"/>
                    </a:lnTo>
                    <a:lnTo>
                      <a:pt x="73" y="1541"/>
                    </a:lnTo>
                    <a:lnTo>
                      <a:pt x="86" y="1545"/>
                    </a:lnTo>
                    <a:lnTo>
                      <a:pt x="98" y="1547"/>
                    </a:lnTo>
                    <a:lnTo>
                      <a:pt x="106" y="1515"/>
                    </a:lnTo>
                    <a:lnTo>
                      <a:pt x="138" y="1394"/>
                    </a:lnTo>
                    <a:lnTo>
                      <a:pt x="173" y="1268"/>
                    </a:lnTo>
                    <a:lnTo>
                      <a:pt x="209" y="1137"/>
                    </a:lnTo>
                    <a:lnTo>
                      <a:pt x="247" y="1003"/>
                    </a:lnTo>
                    <a:lnTo>
                      <a:pt x="285" y="866"/>
                    </a:lnTo>
                    <a:lnTo>
                      <a:pt x="325" y="727"/>
                    </a:lnTo>
                    <a:lnTo>
                      <a:pt x="366" y="588"/>
                    </a:lnTo>
                    <a:lnTo>
                      <a:pt x="409" y="450"/>
                    </a:lnTo>
                    <a:lnTo>
                      <a:pt x="450" y="314"/>
                    </a:lnTo>
                    <a:lnTo>
                      <a:pt x="492" y="181"/>
                    </a:lnTo>
                    <a:lnTo>
                      <a:pt x="533" y="51"/>
                    </a:lnTo>
                    <a:lnTo>
                      <a:pt x="550" y="0"/>
                    </a:lnTo>
                    <a:lnTo>
                      <a:pt x="44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3294000" y="3075120"/>
                <a:ext cx="160560" cy="477720"/>
              </a:xfrm>
              <a:custGeom>
                <a:avLst/>
                <a:gdLst/>
                <a:ahLst/>
                <a:rect l="l" t="t" r="r" b="b"/>
                <a:pathLst>
                  <a:path w="505" h="1503">
                    <a:moveTo>
                      <a:pt x="368" y="0"/>
                    </a:moveTo>
                    <a:lnTo>
                      <a:pt x="332" y="105"/>
                    </a:lnTo>
                    <a:lnTo>
                      <a:pt x="296" y="211"/>
                    </a:lnTo>
                    <a:lnTo>
                      <a:pt x="263" y="316"/>
                    </a:lnTo>
                    <a:lnTo>
                      <a:pt x="233" y="421"/>
                    </a:lnTo>
                    <a:lnTo>
                      <a:pt x="203" y="525"/>
                    </a:lnTo>
                    <a:lnTo>
                      <a:pt x="174" y="627"/>
                    </a:lnTo>
                    <a:lnTo>
                      <a:pt x="149" y="729"/>
                    </a:lnTo>
                    <a:lnTo>
                      <a:pt x="124" y="828"/>
                    </a:lnTo>
                    <a:lnTo>
                      <a:pt x="101" y="924"/>
                    </a:lnTo>
                    <a:lnTo>
                      <a:pt x="81" y="1019"/>
                    </a:lnTo>
                    <a:lnTo>
                      <a:pt x="63" y="1109"/>
                    </a:lnTo>
                    <a:lnTo>
                      <a:pt x="46" y="1195"/>
                    </a:lnTo>
                    <a:lnTo>
                      <a:pt x="32" y="1279"/>
                    </a:lnTo>
                    <a:lnTo>
                      <a:pt x="19" y="1356"/>
                    </a:lnTo>
                    <a:lnTo>
                      <a:pt x="8" y="1430"/>
                    </a:lnTo>
                    <a:lnTo>
                      <a:pt x="0" y="1499"/>
                    </a:lnTo>
                    <a:lnTo>
                      <a:pt x="11" y="1499"/>
                    </a:lnTo>
                    <a:lnTo>
                      <a:pt x="22" y="1500"/>
                    </a:lnTo>
                    <a:lnTo>
                      <a:pt x="33" y="1500"/>
                    </a:lnTo>
                    <a:lnTo>
                      <a:pt x="43" y="1501"/>
                    </a:lnTo>
                    <a:lnTo>
                      <a:pt x="55" y="1501"/>
                    </a:lnTo>
                    <a:lnTo>
                      <a:pt x="65" y="1502"/>
                    </a:lnTo>
                    <a:lnTo>
                      <a:pt x="76" y="1503"/>
                    </a:lnTo>
                    <a:lnTo>
                      <a:pt x="88" y="1503"/>
                    </a:lnTo>
                    <a:lnTo>
                      <a:pt x="123" y="1360"/>
                    </a:lnTo>
                    <a:lnTo>
                      <a:pt x="165" y="1197"/>
                    </a:lnTo>
                    <a:lnTo>
                      <a:pt x="213" y="1016"/>
                    </a:lnTo>
                    <a:lnTo>
                      <a:pt x="266" y="824"/>
                    </a:lnTo>
                    <a:lnTo>
                      <a:pt x="323" y="622"/>
                    </a:lnTo>
                    <a:lnTo>
                      <a:pt x="382" y="415"/>
                    </a:lnTo>
                    <a:lnTo>
                      <a:pt x="443" y="206"/>
                    </a:lnTo>
                    <a:lnTo>
                      <a:pt x="505" y="0"/>
                    </a:lnTo>
                    <a:lnTo>
                      <a:pt x="36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3279600" y="3075120"/>
                <a:ext cx="149400" cy="476280"/>
              </a:xfrm>
              <a:custGeom>
                <a:avLst/>
                <a:gdLst/>
                <a:ahLst/>
                <a:rect l="l" t="t" r="r" b="b"/>
                <a:pathLst>
                  <a:path w="468" h="1501">
                    <a:moveTo>
                      <a:pt x="91" y="1501"/>
                    </a:moveTo>
                    <a:lnTo>
                      <a:pt x="92" y="1495"/>
                    </a:lnTo>
                    <a:lnTo>
                      <a:pt x="103" y="1409"/>
                    </a:lnTo>
                    <a:lnTo>
                      <a:pt x="118" y="1316"/>
                    </a:lnTo>
                    <a:lnTo>
                      <a:pt x="135" y="1217"/>
                    </a:lnTo>
                    <a:lnTo>
                      <a:pt x="156" y="1113"/>
                    </a:lnTo>
                    <a:lnTo>
                      <a:pt x="179" y="1004"/>
                    </a:lnTo>
                    <a:lnTo>
                      <a:pt x="206" y="890"/>
                    </a:lnTo>
                    <a:lnTo>
                      <a:pt x="234" y="772"/>
                    </a:lnTo>
                    <a:lnTo>
                      <a:pt x="265" y="651"/>
                    </a:lnTo>
                    <a:lnTo>
                      <a:pt x="299" y="529"/>
                    </a:lnTo>
                    <a:lnTo>
                      <a:pt x="335" y="405"/>
                    </a:lnTo>
                    <a:lnTo>
                      <a:pt x="373" y="280"/>
                    </a:lnTo>
                    <a:lnTo>
                      <a:pt x="414" y="155"/>
                    </a:lnTo>
                    <a:lnTo>
                      <a:pt x="436" y="92"/>
                    </a:lnTo>
                    <a:lnTo>
                      <a:pt x="458" y="29"/>
                    </a:lnTo>
                    <a:lnTo>
                      <a:pt x="468" y="0"/>
                    </a:lnTo>
                    <a:lnTo>
                      <a:pt x="357" y="0"/>
                    </a:lnTo>
                    <a:lnTo>
                      <a:pt x="353" y="11"/>
                    </a:lnTo>
                    <a:lnTo>
                      <a:pt x="332" y="74"/>
                    </a:lnTo>
                    <a:lnTo>
                      <a:pt x="291" y="198"/>
                    </a:lnTo>
                    <a:lnTo>
                      <a:pt x="252" y="324"/>
                    </a:lnTo>
                    <a:lnTo>
                      <a:pt x="217" y="448"/>
                    </a:lnTo>
                    <a:lnTo>
                      <a:pt x="183" y="570"/>
                    </a:lnTo>
                    <a:lnTo>
                      <a:pt x="152" y="691"/>
                    </a:lnTo>
                    <a:lnTo>
                      <a:pt x="122" y="809"/>
                    </a:lnTo>
                    <a:lnTo>
                      <a:pt x="96" y="923"/>
                    </a:lnTo>
                    <a:lnTo>
                      <a:pt x="73" y="1032"/>
                    </a:lnTo>
                    <a:lnTo>
                      <a:pt x="53" y="1137"/>
                    </a:lnTo>
                    <a:lnTo>
                      <a:pt x="36" y="1235"/>
                    </a:lnTo>
                    <a:lnTo>
                      <a:pt x="21" y="1329"/>
                    </a:lnTo>
                    <a:lnTo>
                      <a:pt x="10" y="1414"/>
                    </a:lnTo>
                    <a:lnTo>
                      <a:pt x="4" y="1454"/>
                    </a:lnTo>
                    <a:lnTo>
                      <a:pt x="0" y="1493"/>
                    </a:lnTo>
                    <a:lnTo>
                      <a:pt x="0" y="1497"/>
                    </a:lnTo>
                    <a:lnTo>
                      <a:pt x="11" y="1497"/>
                    </a:lnTo>
                    <a:lnTo>
                      <a:pt x="22" y="1498"/>
                    </a:lnTo>
                    <a:lnTo>
                      <a:pt x="34" y="1498"/>
                    </a:lnTo>
                    <a:lnTo>
                      <a:pt x="45" y="1499"/>
                    </a:lnTo>
                    <a:lnTo>
                      <a:pt x="56" y="1499"/>
                    </a:lnTo>
                    <a:lnTo>
                      <a:pt x="68" y="1500"/>
                    </a:lnTo>
                    <a:lnTo>
                      <a:pt x="79" y="1500"/>
                    </a:lnTo>
                    <a:lnTo>
                      <a:pt x="91" y="150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3306600" y="3075120"/>
                <a:ext cx="165240" cy="479160"/>
              </a:xfrm>
              <a:custGeom>
                <a:avLst/>
                <a:gdLst/>
                <a:ahLst/>
                <a:rect l="l" t="t" r="r" b="b"/>
                <a:pathLst>
                  <a:path w="521" h="1509">
                    <a:moveTo>
                      <a:pt x="413" y="0"/>
                    </a:moveTo>
                    <a:lnTo>
                      <a:pt x="397" y="53"/>
                    </a:lnTo>
                    <a:lnTo>
                      <a:pt x="356" y="191"/>
                    </a:lnTo>
                    <a:lnTo>
                      <a:pt x="315" y="330"/>
                    </a:lnTo>
                    <a:lnTo>
                      <a:pt x="275" y="469"/>
                    </a:lnTo>
                    <a:lnTo>
                      <a:pt x="236" y="606"/>
                    </a:lnTo>
                    <a:lnTo>
                      <a:pt x="198" y="740"/>
                    </a:lnTo>
                    <a:lnTo>
                      <a:pt x="163" y="870"/>
                    </a:lnTo>
                    <a:lnTo>
                      <a:pt x="128" y="997"/>
                    </a:lnTo>
                    <a:lnTo>
                      <a:pt x="96" y="1118"/>
                    </a:lnTo>
                    <a:lnTo>
                      <a:pt x="67" y="1231"/>
                    </a:lnTo>
                    <a:lnTo>
                      <a:pt x="39" y="1337"/>
                    </a:lnTo>
                    <a:lnTo>
                      <a:pt x="16" y="1434"/>
                    </a:lnTo>
                    <a:lnTo>
                      <a:pt x="0" y="1500"/>
                    </a:lnTo>
                    <a:lnTo>
                      <a:pt x="11" y="1501"/>
                    </a:lnTo>
                    <a:lnTo>
                      <a:pt x="24" y="1502"/>
                    </a:lnTo>
                    <a:lnTo>
                      <a:pt x="36" y="1503"/>
                    </a:lnTo>
                    <a:lnTo>
                      <a:pt x="49" y="1503"/>
                    </a:lnTo>
                    <a:lnTo>
                      <a:pt x="61" y="1505"/>
                    </a:lnTo>
                    <a:lnTo>
                      <a:pt x="74" y="1506"/>
                    </a:lnTo>
                    <a:lnTo>
                      <a:pt x="86" y="1507"/>
                    </a:lnTo>
                    <a:lnTo>
                      <a:pt x="99" y="1509"/>
                    </a:lnTo>
                    <a:lnTo>
                      <a:pt x="122" y="1418"/>
                    </a:lnTo>
                    <a:lnTo>
                      <a:pt x="149" y="1312"/>
                    </a:lnTo>
                    <a:lnTo>
                      <a:pt x="179" y="1199"/>
                    </a:lnTo>
                    <a:lnTo>
                      <a:pt x="210" y="1078"/>
                    </a:lnTo>
                    <a:lnTo>
                      <a:pt x="245" y="951"/>
                    </a:lnTo>
                    <a:lnTo>
                      <a:pt x="281" y="821"/>
                    </a:lnTo>
                    <a:lnTo>
                      <a:pt x="319" y="687"/>
                    </a:lnTo>
                    <a:lnTo>
                      <a:pt x="358" y="550"/>
                    </a:lnTo>
                    <a:lnTo>
                      <a:pt x="397" y="411"/>
                    </a:lnTo>
                    <a:lnTo>
                      <a:pt x="438" y="272"/>
                    </a:lnTo>
                    <a:lnTo>
                      <a:pt x="480" y="134"/>
                    </a:lnTo>
                    <a:lnTo>
                      <a:pt x="521" y="0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979720" y="3075120"/>
                <a:ext cx="166680" cy="501480"/>
              </a:xfrm>
              <a:custGeom>
                <a:avLst/>
                <a:gdLst/>
                <a:ahLst/>
                <a:rect l="l" t="t" r="r" b="b"/>
                <a:pathLst>
                  <a:path w="527" h="1581">
                    <a:moveTo>
                      <a:pt x="421" y="0"/>
                    </a:moveTo>
                    <a:lnTo>
                      <a:pt x="383" y="98"/>
                    </a:lnTo>
                    <a:lnTo>
                      <a:pt x="348" y="198"/>
                    </a:lnTo>
                    <a:lnTo>
                      <a:pt x="312" y="300"/>
                    </a:lnTo>
                    <a:lnTo>
                      <a:pt x="279" y="403"/>
                    </a:lnTo>
                    <a:lnTo>
                      <a:pt x="248" y="505"/>
                    </a:lnTo>
                    <a:lnTo>
                      <a:pt x="218" y="609"/>
                    </a:lnTo>
                    <a:lnTo>
                      <a:pt x="189" y="712"/>
                    </a:lnTo>
                    <a:lnTo>
                      <a:pt x="162" y="816"/>
                    </a:lnTo>
                    <a:lnTo>
                      <a:pt x="136" y="917"/>
                    </a:lnTo>
                    <a:lnTo>
                      <a:pt x="112" y="1019"/>
                    </a:lnTo>
                    <a:lnTo>
                      <a:pt x="89" y="1118"/>
                    </a:lnTo>
                    <a:lnTo>
                      <a:pt x="67" y="1216"/>
                    </a:lnTo>
                    <a:lnTo>
                      <a:pt x="48" y="1312"/>
                    </a:lnTo>
                    <a:lnTo>
                      <a:pt x="31" y="1404"/>
                    </a:lnTo>
                    <a:lnTo>
                      <a:pt x="15" y="1494"/>
                    </a:lnTo>
                    <a:lnTo>
                      <a:pt x="0" y="1581"/>
                    </a:lnTo>
                    <a:lnTo>
                      <a:pt x="16" y="1579"/>
                    </a:lnTo>
                    <a:lnTo>
                      <a:pt x="31" y="1578"/>
                    </a:lnTo>
                    <a:lnTo>
                      <a:pt x="47" y="1575"/>
                    </a:lnTo>
                    <a:lnTo>
                      <a:pt x="63" y="1573"/>
                    </a:lnTo>
                    <a:lnTo>
                      <a:pt x="77" y="1571"/>
                    </a:lnTo>
                    <a:lnTo>
                      <a:pt x="93" y="1569"/>
                    </a:lnTo>
                    <a:lnTo>
                      <a:pt x="109" y="1566"/>
                    </a:lnTo>
                    <a:lnTo>
                      <a:pt x="124" y="1564"/>
                    </a:lnTo>
                    <a:lnTo>
                      <a:pt x="166" y="1384"/>
                    </a:lnTo>
                    <a:lnTo>
                      <a:pt x="212" y="1192"/>
                    </a:lnTo>
                    <a:lnTo>
                      <a:pt x="261" y="992"/>
                    </a:lnTo>
                    <a:lnTo>
                      <a:pt x="312" y="789"/>
                    </a:lnTo>
                    <a:lnTo>
                      <a:pt x="365" y="585"/>
                    </a:lnTo>
                    <a:lnTo>
                      <a:pt x="419" y="383"/>
                    </a:lnTo>
                    <a:lnTo>
                      <a:pt x="473" y="187"/>
                    </a:lnTo>
                    <a:lnTo>
                      <a:pt x="527" y="0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2963880" y="3075120"/>
                <a:ext cx="166680" cy="504720"/>
              </a:xfrm>
              <a:custGeom>
                <a:avLst/>
                <a:gdLst/>
                <a:ahLst/>
                <a:rect l="l" t="t" r="r" b="b"/>
                <a:pathLst>
                  <a:path w="527" h="1588">
                    <a:moveTo>
                      <a:pt x="98" y="1574"/>
                    </a:moveTo>
                    <a:lnTo>
                      <a:pt x="101" y="1551"/>
                    </a:lnTo>
                    <a:lnTo>
                      <a:pt x="121" y="1440"/>
                    </a:lnTo>
                    <a:lnTo>
                      <a:pt x="143" y="1324"/>
                    </a:lnTo>
                    <a:lnTo>
                      <a:pt x="169" y="1205"/>
                    </a:lnTo>
                    <a:lnTo>
                      <a:pt x="196" y="1082"/>
                    </a:lnTo>
                    <a:lnTo>
                      <a:pt x="226" y="957"/>
                    </a:lnTo>
                    <a:lnTo>
                      <a:pt x="257" y="830"/>
                    </a:lnTo>
                    <a:lnTo>
                      <a:pt x="293" y="704"/>
                    </a:lnTo>
                    <a:lnTo>
                      <a:pt x="329" y="575"/>
                    </a:lnTo>
                    <a:lnTo>
                      <a:pt x="349" y="511"/>
                    </a:lnTo>
                    <a:lnTo>
                      <a:pt x="368" y="447"/>
                    </a:lnTo>
                    <a:lnTo>
                      <a:pt x="389" y="384"/>
                    </a:lnTo>
                    <a:lnTo>
                      <a:pt x="409" y="320"/>
                    </a:lnTo>
                    <a:lnTo>
                      <a:pt x="431" y="258"/>
                    </a:lnTo>
                    <a:lnTo>
                      <a:pt x="452" y="196"/>
                    </a:lnTo>
                    <a:lnTo>
                      <a:pt x="475" y="134"/>
                    </a:lnTo>
                    <a:lnTo>
                      <a:pt x="498" y="73"/>
                    </a:lnTo>
                    <a:lnTo>
                      <a:pt x="521" y="13"/>
                    </a:lnTo>
                    <a:lnTo>
                      <a:pt x="527" y="0"/>
                    </a:lnTo>
                    <a:lnTo>
                      <a:pt x="413" y="0"/>
                    </a:lnTo>
                    <a:lnTo>
                      <a:pt x="393" y="53"/>
                    </a:lnTo>
                    <a:lnTo>
                      <a:pt x="370" y="115"/>
                    </a:lnTo>
                    <a:lnTo>
                      <a:pt x="349" y="177"/>
                    </a:lnTo>
                    <a:lnTo>
                      <a:pt x="327" y="239"/>
                    </a:lnTo>
                    <a:lnTo>
                      <a:pt x="307" y="303"/>
                    </a:lnTo>
                    <a:lnTo>
                      <a:pt x="286" y="366"/>
                    </a:lnTo>
                    <a:lnTo>
                      <a:pt x="267" y="430"/>
                    </a:lnTo>
                    <a:lnTo>
                      <a:pt x="247" y="494"/>
                    </a:lnTo>
                    <a:lnTo>
                      <a:pt x="210" y="623"/>
                    </a:lnTo>
                    <a:lnTo>
                      <a:pt x="175" y="749"/>
                    </a:lnTo>
                    <a:lnTo>
                      <a:pt x="143" y="876"/>
                    </a:lnTo>
                    <a:lnTo>
                      <a:pt x="114" y="1001"/>
                    </a:lnTo>
                    <a:lnTo>
                      <a:pt x="86" y="1124"/>
                    </a:lnTo>
                    <a:lnTo>
                      <a:pt x="61" y="1243"/>
                    </a:lnTo>
                    <a:lnTo>
                      <a:pt x="39" y="1359"/>
                    </a:lnTo>
                    <a:lnTo>
                      <a:pt x="19" y="1470"/>
                    </a:lnTo>
                    <a:lnTo>
                      <a:pt x="2" y="1576"/>
                    </a:lnTo>
                    <a:lnTo>
                      <a:pt x="0" y="1588"/>
                    </a:lnTo>
                    <a:lnTo>
                      <a:pt x="12" y="1587"/>
                    </a:lnTo>
                    <a:lnTo>
                      <a:pt x="25" y="1584"/>
                    </a:lnTo>
                    <a:lnTo>
                      <a:pt x="36" y="1583"/>
                    </a:lnTo>
                    <a:lnTo>
                      <a:pt x="49" y="1581"/>
                    </a:lnTo>
                    <a:lnTo>
                      <a:pt x="61" y="1580"/>
                    </a:lnTo>
                    <a:lnTo>
                      <a:pt x="73" y="1578"/>
                    </a:lnTo>
                    <a:lnTo>
                      <a:pt x="85" y="1576"/>
                    </a:lnTo>
                    <a:lnTo>
                      <a:pt x="98" y="157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3002040" y="3075120"/>
                <a:ext cx="162000" cy="498240"/>
              </a:xfrm>
              <a:custGeom>
                <a:avLst/>
                <a:gdLst/>
                <a:ahLst/>
                <a:rect l="l" t="t" r="r" b="b"/>
                <a:pathLst>
                  <a:path w="508" h="1572">
                    <a:moveTo>
                      <a:pt x="402" y="0"/>
                    </a:moveTo>
                    <a:lnTo>
                      <a:pt x="386" y="56"/>
                    </a:lnTo>
                    <a:lnTo>
                      <a:pt x="349" y="188"/>
                    </a:lnTo>
                    <a:lnTo>
                      <a:pt x="311" y="324"/>
                    </a:lnTo>
                    <a:lnTo>
                      <a:pt x="273" y="463"/>
                    </a:lnTo>
                    <a:lnTo>
                      <a:pt x="237" y="603"/>
                    </a:lnTo>
                    <a:lnTo>
                      <a:pt x="200" y="745"/>
                    </a:lnTo>
                    <a:lnTo>
                      <a:pt x="164" y="886"/>
                    </a:lnTo>
                    <a:lnTo>
                      <a:pt x="130" y="1025"/>
                    </a:lnTo>
                    <a:lnTo>
                      <a:pt x="95" y="1163"/>
                    </a:lnTo>
                    <a:lnTo>
                      <a:pt x="65" y="1296"/>
                    </a:lnTo>
                    <a:lnTo>
                      <a:pt x="34" y="1425"/>
                    </a:lnTo>
                    <a:lnTo>
                      <a:pt x="5" y="1548"/>
                    </a:lnTo>
                    <a:lnTo>
                      <a:pt x="0" y="1572"/>
                    </a:lnTo>
                    <a:lnTo>
                      <a:pt x="13" y="1570"/>
                    </a:lnTo>
                    <a:lnTo>
                      <a:pt x="26" y="1567"/>
                    </a:lnTo>
                    <a:lnTo>
                      <a:pt x="40" y="1566"/>
                    </a:lnTo>
                    <a:lnTo>
                      <a:pt x="52" y="1564"/>
                    </a:lnTo>
                    <a:lnTo>
                      <a:pt x="66" y="1563"/>
                    </a:lnTo>
                    <a:lnTo>
                      <a:pt x="78" y="1561"/>
                    </a:lnTo>
                    <a:lnTo>
                      <a:pt x="91" y="1559"/>
                    </a:lnTo>
                    <a:lnTo>
                      <a:pt x="105" y="1557"/>
                    </a:lnTo>
                    <a:lnTo>
                      <a:pt x="116" y="1506"/>
                    </a:lnTo>
                    <a:lnTo>
                      <a:pt x="147" y="1377"/>
                    </a:lnTo>
                    <a:lnTo>
                      <a:pt x="179" y="1244"/>
                    </a:lnTo>
                    <a:lnTo>
                      <a:pt x="212" y="1106"/>
                    </a:lnTo>
                    <a:lnTo>
                      <a:pt x="246" y="967"/>
                    </a:lnTo>
                    <a:lnTo>
                      <a:pt x="282" y="826"/>
                    </a:lnTo>
                    <a:lnTo>
                      <a:pt x="319" y="684"/>
                    </a:lnTo>
                    <a:lnTo>
                      <a:pt x="355" y="544"/>
                    </a:lnTo>
                    <a:lnTo>
                      <a:pt x="393" y="405"/>
                    </a:lnTo>
                    <a:lnTo>
                      <a:pt x="431" y="269"/>
                    </a:lnTo>
                    <a:lnTo>
                      <a:pt x="468" y="137"/>
                    </a:lnTo>
                    <a:lnTo>
                      <a:pt x="505" y="9"/>
                    </a:lnTo>
                    <a:lnTo>
                      <a:pt x="508" y="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2639880" y="3075120"/>
                <a:ext cx="158760" cy="527040"/>
              </a:xfrm>
              <a:custGeom>
                <a:avLst/>
                <a:gdLst/>
                <a:ahLst/>
                <a:rect l="l" t="t" r="r" b="b"/>
                <a:pathLst>
                  <a:path w="500" h="1662">
                    <a:moveTo>
                      <a:pt x="386" y="0"/>
                    </a:moveTo>
                    <a:lnTo>
                      <a:pt x="352" y="102"/>
                    </a:lnTo>
                    <a:lnTo>
                      <a:pt x="319" y="205"/>
                    </a:lnTo>
                    <a:lnTo>
                      <a:pt x="287" y="310"/>
                    </a:lnTo>
                    <a:lnTo>
                      <a:pt x="257" y="416"/>
                    </a:lnTo>
                    <a:lnTo>
                      <a:pt x="229" y="523"/>
                    </a:lnTo>
                    <a:lnTo>
                      <a:pt x="200" y="631"/>
                    </a:lnTo>
                    <a:lnTo>
                      <a:pt x="174" y="738"/>
                    </a:lnTo>
                    <a:lnTo>
                      <a:pt x="150" y="845"/>
                    </a:lnTo>
                    <a:lnTo>
                      <a:pt x="126" y="951"/>
                    </a:lnTo>
                    <a:lnTo>
                      <a:pt x="104" y="1057"/>
                    </a:lnTo>
                    <a:lnTo>
                      <a:pt x="83" y="1162"/>
                    </a:lnTo>
                    <a:lnTo>
                      <a:pt x="64" y="1266"/>
                    </a:lnTo>
                    <a:lnTo>
                      <a:pt x="45" y="1368"/>
                    </a:lnTo>
                    <a:lnTo>
                      <a:pt x="29" y="1468"/>
                    </a:lnTo>
                    <a:lnTo>
                      <a:pt x="14" y="1565"/>
                    </a:lnTo>
                    <a:lnTo>
                      <a:pt x="0" y="1661"/>
                    </a:lnTo>
                    <a:lnTo>
                      <a:pt x="18" y="1661"/>
                    </a:lnTo>
                    <a:lnTo>
                      <a:pt x="36" y="1662"/>
                    </a:lnTo>
                    <a:lnTo>
                      <a:pt x="55" y="1662"/>
                    </a:lnTo>
                    <a:lnTo>
                      <a:pt x="73" y="1662"/>
                    </a:lnTo>
                    <a:lnTo>
                      <a:pt x="91" y="1662"/>
                    </a:lnTo>
                    <a:lnTo>
                      <a:pt x="108" y="1662"/>
                    </a:lnTo>
                    <a:lnTo>
                      <a:pt x="126" y="1662"/>
                    </a:lnTo>
                    <a:lnTo>
                      <a:pt x="145" y="1662"/>
                    </a:lnTo>
                    <a:lnTo>
                      <a:pt x="182" y="1464"/>
                    </a:lnTo>
                    <a:lnTo>
                      <a:pt x="223" y="1256"/>
                    </a:lnTo>
                    <a:lnTo>
                      <a:pt x="267" y="1044"/>
                    </a:lnTo>
                    <a:lnTo>
                      <a:pt x="311" y="828"/>
                    </a:lnTo>
                    <a:lnTo>
                      <a:pt x="358" y="614"/>
                    </a:lnTo>
                    <a:lnTo>
                      <a:pt x="405" y="401"/>
                    </a:lnTo>
                    <a:lnTo>
                      <a:pt x="452" y="196"/>
                    </a:lnTo>
                    <a:lnTo>
                      <a:pt x="500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2625840" y="3075120"/>
                <a:ext cx="153720" cy="527040"/>
              </a:xfrm>
              <a:custGeom>
                <a:avLst/>
                <a:gdLst/>
                <a:ahLst/>
                <a:rect l="l" t="t" r="r" b="b"/>
                <a:pathLst>
                  <a:path w="487" h="1662">
                    <a:moveTo>
                      <a:pt x="93" y="1662"/>
                    </a:moveTo>
                    <a:lnTo>
                      <a:pt x="110" y="1549"/>
                    </a:lnTo>
                    <a:lnTo>
                      <a:pt x="131" y="1413"/>
                    </a:lnTo>
                    <a:lnTo>
                      <a:pt x="156" y="1273"/>
                    </a:lnTo>
                    <a:lnTo>
                      <a:pt x="185" y="1132"/>
                    </a:lnTo>
                    <a:lnTo>
                      <a:pt x="215" y="987"/>
                    </a:lnTo>
                    <a:lnTo>
                      <a:pt x="231" y="914"/>
                    </a:lnTo>
                    <a:lnTo>
                      <a:pt x="248" y="841"/>
                    </a:lnTo>
                    <a:lnTo>
                      <a:pt x="265" y="766"/>
                    </a:lnTo>
                    <a:lnTo>
                      <a:pt x="282" y="693"/>
                    </a:lnTo>
                    <a:lnTo>
                      <a:pt x="301" y="620"/>
                    </a:lnTo>
                    <a:lnTo>
                      <a:pt x="319" y="547"/>
                    </a:lnTo>
                    <a:lnTo>
                      <a:pt x="340" y="474"/>
                    </a:lnTo>
                    <a:lnTo>
                      <a:pt x="360" y="401"/>
                    </a:lnTo>
                    <a:lnTo>
                      <a:pt x="381" y="330"/>
                    </a:lnTo>
                    <a:lnTo>
                      <a:pt x="403" y="258"/>
                    </a:lnTo>
                    <a:lnTo>
                      <a:pt x="424" y="186"/>
                    </a:lnTo>
                    <a:lnTo>
                      <a:pt x="447" y="116"/>
                    </a:lnTo>
                    <a:lnTo>
                      <a:pt x="471" y="47"/>
                    </a:lnTo>
                    <a:lnTo>
                      <a:pt x="487" y="0"/>
                    </a:lnTo>
                    <a:lnTo>
                      <a:pt x="378" y="0"/>
                    </a:lnTo>
                    <a:lnTo>
                      <a:pt x="365" y="35"/>
                    </a:lnTo>
                    <a:lnTo>
                      <a:pt x="342" y="105"/>
                    </a:lnTo>
                    <a:lnTo>
                      <a:pt x="321" y="177"/>
                    </a:lnTo>
                    <a:lnTo>
                      <a:pt x="299" y="248"/>
                    </a:lnTo>
                    <a:lnTo>
                      <a:pt x="278" y="320"/>
                    </a:lnTo>
                    <a:lnTo>
                      <a:pt x="258" y="393"/>
                    </a:lnTo>
                    <a:lnTo>
                      <a:pt x="237" y="466"/>
                    </a:lnTo>
                    <a:lnTo>
                      <a:pt x="218" y="539"/>
                    </a:lnTo>
                    <a:lnTo>
                      <a:pt x="200" y="612"/>
                    </a:lnTo>
                    <a:lnTo>
                      <a:pt x="183" y="685"/>
                    </a:lnTo>
                    <a:lnTo>
                      <a:pt x="164" y="760"/>
                    </a:lnTo>
                    <a:lnTo>
                      <a:pt x="148" y="833"/>
                    </a:lnTo>
                    <a:lnTo>
                      <a:pt x="132" y="906"/>
                    </a:lnTo>
                    <a:lnTo>
                      <a:pt x="102" y="1051"/>
                    </a:lnTo>
                    <a:lnTo>
                      <a:pt x="74" y="1193"/>
                    </a:lnTo>
                    <a:lnTo>
                      <a:pt x="49" y="1332"/>
                    </a:lnTo>
                    <a:lnTo>
                      <a:pt x="28" y="1468"/>
                    </a:lnTo>
                    <a:lnTo>
                      <a:pt x="8" y="1600"/>
                    </a:lnTo>
                    <a:lnTo>
                      <a:pt x="0" y="1659"/>
                    </a:lnTo>
                    <a:lnTo>
                      <a:pt x="12" y="1660"/>
                    </a:lnTo>
                    <a:lnTo>
                      <a:pt x="23" y="1660"/>
                    </a:lnTo>
                    <a:lnTo>
                      <a:pt x="34" y="1660"/>
                    </a:lnTo>
                    <a:lnTo>
                      <a:pt x="46" y="1661"/>
                    </a:lnTo>
                    <a:lnTo>
                      <a:pt x="58" y="1661"/>
                    </a:lnTo>
                    <a:lnTo>
                      <a:pt x="70" y="1661"/>
                    </a:lnTo>
                    <a:lnTo>
                      <a:pt x="81" y="1662"/>
                    </a:lnTo>
                    <a:lnTo>
                      <a:pt x="93" y="166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2670120" y="3075120"/>
                <a:ext cx="144360" cy="527040"/>
              </a:xfrm>
              <a:custGeom>
                <a:avLst/>
                <a:gdLst/>
                <a:ahLst/>
                <a:rect l="l" t="t" r="r" b="b"/>
                <a:pathLst>
                  <a:path w="454" h="1662">
                    <a:moveTo>
                      <a:pt x="353" y="0"/>
                    </a:moveTo>
                    <a:lnTo>
                      <a:pt x="329" y="97"/>
                    </a:lnTo>
                    <a:lnTo>
                      <a:pt x="294" y="247"/>
                    </a:lnTo>
                    <a:lnTo>
                      <a:pt x="257" y="404"/>
                    </a:lnTo>
                    <a:lnTo>
                      <a:pt x="222" y="563"/>
                    </a:lnTo>
                    <a:lnTo>
                      <a:pt x="188" y="724"/>
                    </a:lnTo>
                    <a:lnTo>
                      <a:pt x="153" y="886"/>
                    </a:lnTo>
                    <a:lnTo>
                      <a:pt x="120" y="1047"/>
                    </a:lnTo>
                    <a:lnTo>
                      <a:pt x="87" y="1207"/>
                    </a:lnTo>
                    <a:lnTo>
                      <a:pt x="57" y="1363"/>
                    </a:lnTo>
                    <a:lnTo>
                      <a:pt x="27" y="1515"/>
                    </a:lnTo>
                    <a:lnTo>
                      <a:pt x="0" y="1662"/>
                    </a:lnTo>
                    <a:lnTo>
                      <a:pt x="0" y="1662"/>
                    </a:lnTo>
                    <a:lnTo>
                      <a:pt x="12" y="1662"/>
                    </a:lnTo>
                    <a:lnTo>
                      <a:pt x="24" y="1662"/>
                    </a:lnTo>
                    <a:lnTo>
                      <a:pt x="36" y="1662"/>
                    </a:lnTo>
                    <a:lnTo>
                      <a:pt x="49" y="1662"/>
                    </a:lnTo>
                    <a:lnTo>
                      <a:pt x="60" y="1662"/>
                    </a:lnTo>
                    <a:lnTo>
                      <a:pt x="73" y="1662"/>
                    </a:lnTo>
                    <a:lnTo>
                      <a:pt x="85" y="1662"/>
                    </a:lnTo>
                    <a:lnTo>
                      <a:pt x="98" y="1662"/>
                    </a:lnTo>
                    <a:lnTo>
                      <a:pt x="109" y="1596"/>
                    </a:lnTo>
                    <a:lnTo>
                      <a:pt x="139" y="1444"/>
                    </a:lnTo>
                    <a:lnTo>
                      <a:pt x="171" y="1288"/>
                    </a:lnTo>
                    <a:lnTo>
                      <a:pt x="203" y="1128"/>
                    </a:lnTo>
                    <a:lnTo>
                      <a:pt x="236" y="966"/>
                    </a:lnTo>
                    <a:lnTo>
                      <a:pt x="270" y="805"/>
                    </a:lnTo>
                    <a:lnTo>
                      <a:pt x="305" y="643"/>
                    </a:lnTo>
                    <a:lnTo>
                      <a:pt x="340" y="485"/>
                    </a:lnTo>
                    <a:lnTo>
                      <a:pt x="376" y="328"/>
                    </a:lnTo>
                    <a:lnTo>
                      <a:pt x="411" y="178"/>
                    </a:lnTo>
                    <a:lnTo>
                      <a:pt x="446" y="32"/>
                    </a:lnTo>
                    <a:lnTo>
                      <a:pt x="454" y="0"/>
                    </a:lnTo>
                    <a:lnTo>
                      <a:pt x="35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585880" y="3075120"/>
                <a:ext cx="104760" cy="507960"/>
              </a:xfrm>
              <a:custGeom>
                <a:avLst/>
                <a:gdLst/>
                <a:ahLst/>
                <a:rect l="l" t="t" r="r" b="b"/>
                <a:pathLst>
                  <a:path w="331" h="1600">
                    <a:moveTo>
                      <a:pt x="200" y="0"/>
                    </a:moveTo>
                    <a:lnTo>
                      <a:pt x="171" y="97"/>
                    </a:lnTo>
                    <a:lnTo>
                      <a:pt x="143" y="195"/>
                    </a:lnTo>
                    <a:lnTo>
                      <a:pt x="116" y="293"/>
                    </a:lnTo>
                    <a:lnTo>
                      <a:pt x="91" y="391"/>
                    </a:lnTo>
                    <a:lnTo>
                      <a:pt x="66" y="490"/>
                    </a:lnTo>
                    <a:lnTo>
                      <a:pt x="43" y="590"/>
                    </a:lnTo>
                    <a:lnTo>
                      <a:pt x="20" y="688"/>
                    </a:lnTo>
                    <a:lnTo>
                      <a:pt x="0" y="786"/>
                    </a:lnTo>
                    <a:lnTo>
                      <a:pt x="0" y="1600"/>
                    </a:lnTo>
                    <a:lnTo>
                      <a:pt x="34" y="1417"/>
                    </a:lnTo>
                    <a:lnTo>
                      <a:pt x="70" y="1224"/>
                    </a:lnTo>
                    <a:lnTo>
                      <a:pt x="110" y="1023"/>
                    </a:lnTo>
                    <a:lnTo>
                      <a:pt x="152" y="818"/>
                    </a:lnTo>
                    <a:lnTo>
                      <a:pt x="196" y="610"/>
                    </a:lnTo>
                    <a:lnTo>
                      <a:pt x="240" y="403"/>
                    </a:lnTo>
                    <a:lnTo>
                      <a:pt x="286" y="198"/>
                    </a:lnTo>
                    <a:lnTo>
                      <a:pt x="331" y="0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585880" y="3075120"/>
                <a:ext cx="81000" cy="326880"/>
              </a:xfrm>
              <a:custGeom>
                <a:avLst/>
                <a:gdLst/>
                <a:ahLst/>
                <a:rect l="l" t="t" r="r" b="b"/>
                <a:pathLst>
                  <a:path w="254" h="1032">
                    <a:moveTo>
                      <a:pt x="0" y="1032"/>
                    </a:moveTo>
                    <a:lnTo>
                      <a:pt x="21" y="920"/>
                    </a:lnTo>
                    <a:lnTo>
                      <a:pt x="51" y="777"/>
                    </a:lnTo>
                    <a:lnTo>
                      <a:pt x="67" y="704"/>
                    </a:lnTo>
                    <a:lnTo>
                      <a:pt x="84" y="631"/>
                    </a:lnTo>
                    <a:lnTo>
                      <a:pt x="101" y="557"/>
                    </a:lnTo>
                    <a:lnTo>
                      <a:pt x="118" y="484"/>
                    </a:lnTo>
                    <a:lnTo>
                      <a:pt x="138" y="411"/>
                    </a:lnTo>
                    <a:lnTo>
                      <a:pt x="156" y="336"/>
                    </a:lnTo>
                    <a:lnTo>
                      <a:pt x="176" y="264"/>
                    </a:lnTo>
                    <a:lnTo>
                      <a:pt x="197" y="191"/>
                    </a:lnTo>
                    <a:lnTo>
                      <a:pt x="217" y="118"/>
                    </a:lnTo>
                    <a:lnTo>
                      <a:pt x="239" y="48"/>
                    </a:lnTo>
                    <a:lnTo>
                      <a:pt x="254" y="0"/>
                    </a:lnTo>
                    <a:lnTo>
                      <a:pt x="147" y="0"/>
                    </a:lnTo>
                    <a:lnTo>
                      <a:pt x="135" y="37"/>
                    </a:lnTo>
                    <a:lnTo>
                      <a:pt x="115" y="110"/>
                    </a:lnTo>
                    <a:lnTo>
                      <a:pt x="94" y="183"/>
                    </a:lnTo>
                    <a:lnTo>
                      <a:pt x="74" y="255"/>
                    </a:lnTo>
                    <a:lnTo>
                      <a:pt x="54" y="330"/>
                    </a:lnTo>
                    <a:lnTo>
                      <a:pt x="36" y="403"/>
                    </a:lnTo>
                    <a:lnTo>
                      <a:pt x="19" y="476"/>
                    </a:lnTo>
                    <a:lnTo>
                      <a:pt x="1" y="550"/>
                    </a:lnTo>
                    <a:lnTo>
                      <a:pt x="0" y="558"/>
                    </a:lnTo>
                    <a:lnTo>
                      <a:pt x="0" y="103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2585880" y="3075120"/>
                <a:ext cx="120960" cy="525240"/>
              </a:xfrm>
              <a:custGeom>
                <a:avLst/>
                <a:gdLst/>
                <a:ahLst/>
                <a:rect l="l" t="t" r="r" b="b"/>
                <a:pathLst>
                  <a:path w="382" h="1654">
                    <a:moveTo>
                      <a:pt x="281" y="0"/>
                    </a:moveTo>
                    <a:lnTo>
                      <a:pt x="272" y="37"/>
                    </a:lnTo>
                    <a:lnTo>
                      <a:pt x="237" y="194"/>
                    </a:lnTo>
                    <a:lnTo>
                      <a:pt x="201" y="352"/>
                    </a:lnTo>
                    <a:lnTo>
                      <a:pt x="166" y="514"/>
                    </a:lnTo>
                    <a:lnTo>
                      <a:pt x="132" y="675"/>
                    </a:lnTo>
                    <a:lnTo>
                      <a:pt x="99" y="837"/>
                    </a:lnTo>
                    <a:lnTo>
                      <a:pt x="66" y="997"/>
                    </a:lnTo>
                    <a:lnTo>
                      <a:pt x="35" y="1153"/>
                    </a:lnTo>
                    <a:lnTo>
                      <a:pt x="5" y="1305"/>
                    </a:lnTo>
                    <a:lnTo>
                      <a:pt x="0" y="1339"/>
                    </a:lnTo>
                    <a:lnTo>
                      <a:pt x="0" y="1652"/>
                    </a:lnTo>
                    <a:lnTo>
                      <a:pt x="4" y="1652"/>
                    </a:lnTo>
                    <a:lnTo>
                      <a:pt x="9" y="1652"/>
                    </a:lnTo>
                    <a:lnTo>
                      <a:pt x="13" y="1653"/>
                    </a:lnTo>
                    <a:lnTo>
                      <a:pt x="19" y="1653"/>
                    </a:lnTo>
                    <a:lnTo>
                      <a:pt x="24" y="1653"/>
                    </a:lnTo>
                    <a:lnTo>
                      <a:pt x="28" y="1653"/>
                    </a:lnTo>
                    <a:lnTo>
                      <a:pt x="33" y="1654"/>
                    </a:lnTo>
                    <a:lnTo>
                      <a:pt x="37" y="1654"/>
                    </a:lnTo>
                    <a:lnTo>
                      <a:pt x="60" y="1533"/>
                    </a:lnTo>
                    <a:lnTo>
                      <a:pt x="89" y="1386"/>
                    </a:lnTo>
                    <a:lnTo>
                      <a:pt x="117" y="1234"/>
                    </a:lnTo>
                    <a:lnTo>
                      <a:pt x="149" y="1078"/>
                    </a:lnTo>
                    <a:lnTo>
                      <a:pt x="181" y="918"/>
                    </a:lnTo>
                    <a:lnTo>
                      <a:pt x="214" y="756"/>
                    </a:lnTo>
                    <a:lnTo>
                      <a:pt x="248" y="595"/>
                    </a:lnTo>
                    <a:lnTo>
                      <a:pt x="284" y="433"/>
                    </a:lnTo>
                    <a:lnTo>
                      <a:pt x="319" y="275"/>
                    </a:lnTo>
                    <a:lnTo>
                      <a:pt x="354" y="118"/>
                    </a:lnTo>
                    <a:lnTo>
                      <a:pt x="382" y="0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4905360" y="3075120"/>
                <a:ext cx="211320" cy="465120"/>
              </a:xfrm>
              <a:custGeom>
                <a:avLst/>
                <a:gdLst/>
                <a:ahLst/>
                <a:rect l="l" t="t" r="r" b="b"/>
                <a:pathLst>
                  <a:path w="664" h="1466">
                    <a:moveTo>
                      <a:pt x="545" y="0"/>
                    </a:moveTo>
                    <a:lnTo>
                      <a:pt x="498" y="91"/>
                    </a:lnTo>
                    <a:lnTo>
                      <a:pt x="454" y="185"/>
                    </a:lnTo>
                    <a:lnTo>
                      <a:pt x="409" y="278"/>
                    </a:lnTo>
                    <a:lnTo>
                      <a:pt x="367" y="374"/>
                    </a:lnTo>
                    <a:lnTo>
                      <a:pt x="326" y="470"/>
                    </a:lnTo>
                    <a:lnTo>
                      <a:pt x="287" y="567"/>
                    </a:lnTo>
                    <a:lnTo>
                      <a:pt x="250" y="663"/>
                    </a:lnTo>
                    <a:lnTo>
                      <a:pt x="214" y="757"/>
                    </a:lnTo>
                    <a:lnTo>
                      <a:pt x="180" y="852"/>
                    </a:lnTo>
                    <a:lnTo>
                      <a:pt x="148" y="944"/>
                    </a:lnTo>
                    <a:lnTo>
                      <a:pt x="119" y="1036"/>
                    </a:lnTo>
                    <a:lnTo>
                      <a:pt x="90" y="1125"/>
                    </a:lnTo>
                    <a:lnTo>
                      <a:pt x="64" y="1210"/>
                    </a:lnTo>
                    <a:lnTo>
                      <a:pt x="41" y="1294"/>
                    </a:lnTo>
                    <a:lnTo>
                      <a:pt x="19" y="1372"/>
                    </a:lnTo>
                    <a:lnTo>
                      <a:pt x="0" y="1448"/>
                    </a:lnTo>
                    <a:lnTo>
                      <a:pt x="13" y="1450"/>
                    </a:lnTo>
                    <a:lnTo>
                      <a:pt x="25" y="1451"/>
                    </a:lnTo>
                    <a:lnTo>
                      <a:pt x="38" y="1453"/>
                    </a:lnTo>
                    <a:lnTo>
                      <a:pt x="50" y="1456"/>
                    </a:lnTo>
                    <a:lnTo>
                      <a:pt x="63" y="1458"/>
                    </a:lnTo>
                    <a:lnTo>
                      <a:pt x="76" y="1460"/>
                    </a:lnTo>
                    <a:lnTo>
                      <a:pt x="89" y="1462"/>
                    </a:lnTo>
                    <a:lnTo>
                      <a:pt x="102" y="1466"/>
                    </a:lnTo>
                    <a:lnTo>
                      <a:pt x="157" y="1307"/>
                    </a:lnTo>
                    <a:lnTo>
                      <a:pt x="220" y="1134"/>
                    </a:lnTo>
                    <a:lnTo>
                      <a:pt x="287" y="950"/>
                    </a:lnTo>
                    <a:lnTo>
                      <a:pt x="359" y="758"/>
                    </a:lnTo>
                    <a:lnTo>
                      <a:pt x="434" y="565"/>
                    </a:lnTo>
                    <a:lnTo>
                      <a:pt x="511" y="371"/>
                    </a:lnTo>
                    <a:lnTo>
                      <a:pt x="550" y="275"/>
                    </a:lnTo>
                    <a:lnTo>
                      <a:pt x="587" y="181"/>
                    </a:lnTo>
                    <a:lnTo>
                      <a:pt x="626" y="89"/>
                    </a:lnTo>
                    <a:lnTo>
                      <a:pt x="664" y="0"/>
                    </a:lnTo>
                    <a:lnTo>
                      <a:pt x="5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4889520" y="3075120"/>
                <a:ext cx="209520" cy="461880"/>
              </a:xfrm>
              <a:custGeom>
                <a:avLst/>
                <a:gdLst/>
                <a:ahLst/>
                <a:rect l="l" t="t" r="r" b="b"/>
                <a:pathLst>
                  <a:path w="657" h="1456">
                    <a:moveTo>
                      <a:pt x="99" y="1456"/>
                    </a:moveTo>
                    <a:lnTo>
                      <a:pt x="100" y="1449"/>
                    </a:lnTo>
                    <a:lnTo>
                      <a:pt x="124" y="1359"/>
                    </a:lnTo>
                    <a:lnTo>
                      <a:pt x="151" y="1264"/>
                    </a:lnTo>
                    <a:lnTo>
                      <a:pt x="180" y="1166"/>
                    </a:lnTo>
                    <a:lnTo>
                      <a:pt x="212" y="1063"/>
                    </a:lnTo>
                    <a:lnTo>
                      <a:pt x="247" y="958"/>
                    </a:lnTo>
                    <a:lnTo>
                      <a:pt x="285" y="851"/>
                    </a:lnTo>
                    <a:lnTo>
                      <a:pt x="325" y="741"/>
                    </a:lnTo>
                    <a:lnTo>
                      <a:pt x="367" y="632"/>
                    </a:lnTo>
                    <a:lnTo>
                      <a:pt x="413" y="521"/>
                    </a:lnTo>
                    <a:lnTo>
                      <a:pt x="459" y="411"/>
                    </a:lnTo>
                    <a:lnTo>
                      <a:pt x="483" y="356"/>
                    </a:lnTo>
                    <a:lnTo>
                      <a:pt x="509" y="301"/>
                    </a:lnTo>
                    <a:lnTo>
                      <a:pt x="534" y="246"/>
                    </a:lnTo>
                    <a:lnTo>
                      <a:pt x="559" y="193"/>
                    </a:lnTo>
                    <a:lnTo>
                      <a:pt x="585" y="139"/>
                    </a:lnTo>
                    <a:lnTo>
                      <a:pt x="611" y="86"/>
                    </a:lnTo>
                    <a:lnTo>
                      <a:pt x="638" y="34"/>
                    </a:lnTo>
                    <a:lnTo>
                      <a:pt x="657" y="0"/>
                    </a:lnTo>
                    <a:lnTo>
                      <a:pt x="532" y="0"/>
                    </a:lnTo>
                    <a:lnTo>
                      <a:pt x="529" y="5"/>
                    </a:lnTo>
                    <a:lnTo>
                      <a:pt x="503" y="58"/>
                    </a:lnTo>
                    <a:lnTo>
                      <a:pt x="477" y="112"/>
                    </a:lnTo>
                    <a:lnTo>
                      <a:pt x="452" y="165"/>
                    </a:lnTo>
                    <a:lnTo>
                      <a:pt x="426" y="220"/>
                    </a:lnTo>
                    <a:lnTo>
                      <a:pt x="401" y="275"/>
                    </a:lnTo>
                    <a:lnTo>
                      <a:pt x="377" y="330"/>
                    </a:lnTo>
                    <a:lnTo>
                      <a:pt x="331" y="440"/>
                    </a:lnTo>
                    <a:lnTo>
                      <a:pt x="285" y="551"/>
                    </a:lnTo>
                    <a:lnTo>
                      <a:pt x="243" y="660"/>
                    </a:lnTo>
                    <a:lnTo>
                      <a:pt x="203" y="770"/>
                    </a:lnTo>
                    <a:lnTo>
                      <a:pt x="165" y="877"/>
                    </a:lnTo>
                    <a:lnTo>
                      <a:pt x="130" y="982"/>
                    </a:lnTo>
                    <a:lnTo>
                      <a:pt x="98" y="1085"/>
                    </a:lnTo>
                    <a:lnTo>
                      <a:pt x="68" y="1183"/>
                    </a:lnTo>
                    <a:lnTo>
                      <a:pt x="42" y="1278"/>
                    </a:lnTo>
                    <a:lnTo>
                      <a:pt x="18" y="1368"/>
                    </a:lnTo>
                    <a:lnTo>
                      <a:pt x="0" y="1443"/>
                    </a:lnTo>
                    <a:lnTo>
                      <a:pt x="13" y="1444"/>
                    </a:lnTo>
                    <a:lnTo>
                      <a:pt x="24" y="1445"/>
                    </a:lnTo>
                    <a:lnTo>
                      <a:pt x="37" y="1446"/>
                    </a:lnTo>
                    <a:lnTo>
                      <a:pt x="49" y="1448"/>
                    </a:lnTo>
                    <a:lnTo>
                      <a:pt x="62" y="1450"/>
                    </a:lnTo>
                    <a:lnTo>
                      <a:pt x="74" y="1451"/>
                    </a:lnTo>
                    <a:lnTo>
                      <a:pt x="87" y="1453"/>
                    </a:lnTo>
                    <a:lnTo>
                      <a:pt x="99" y="145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4921200" y="3075120"/>
                <a:ext cx="214200" cy="469800"/>
              </a:xfrm>
              <a:custGeom>
                <a:avLst/>
                <a:gdLst/>
                <a:ahLst/>
                <a:rect l="l" t="t" r="r" b="b"/>
                <a:pathLst>
                  <a:path w="672" h="1478">
                    <a:moveTo>
                      <a:pt x="555" y="0"/>
                    </a:moveTo>
                    <a:lnTo>
                      <a:pt x="516" y="96"/>
                    </a:lnTo>
                    <a:lnTo>
                      <a:pt x="467" y="214"/>
                    </a:lnTo>
                    <a:lnTo>
                      <a:pt x="419" y="334"/>
                    </a:lnTo>
                    <a:lnTo>
                      <a:pt x="370" y="456"/>
                    </a:lnTo>
                    <a:lnTo>
                      <a:pt x="322" y="579"/>
                    </a:lnTo>
                    <a:lnTo>
                      <a:pt x="275" y="703"/>
                    </a:lnTo>
                    <a:lnTo>
                      <a:pt x="228" y="824"/>
                    </a:lnTo>
                    <a:lnTo>
                      <a:pt x="184" y="943"/>
                    </a:lnTo>
                    <a:lnTo>
                      <a:pt x="142" y="1060"/>
                    </a:lnTo>
                    <a:lnTo>
                      <a:pt x="62" y="1280"/>
                    </a:lnTo>
                    <a:lnTo>
                      <a:pt x="0" y="1456"/>
                    </a:lnTo>
                    <a:lnTo>
                      <a:pt x="13" y="1458"/>
                    </a:lnTo>
                    <a:lnTo>
                      <a:pt x="25" y="1460"/>
                    </a:lnTo>
                    <a:lnTo>
                      <a:pt x="38" y="1462"/>
                    </a:lnTo>
                    <a:lnTo>
                      <a:pt x="52" y="1466"/>
                    </a:lnTo>
                    <a:lnTo>
                      <a:pt x="64" y="1468"/>
                    </a:lnTo>
                    <a:lnTo>
                      <a:pt x="77" y="1472"/>
                    </a:lnTo>
                    <a:lnTo>
                      <a:pt x="90" y="1475"/>
                    </a:lnTo>
                    <a:lnTo>
                      <a:pt x="103" y="1478"/>
                    </a:lnTo>
                    <a:lnTo>
                      <a:pt x="144" y="1361"/>
                    </a:lnTo>
                    <a:lnTo>
                      <a:pt x="224" y="1141"/>
                    </a:lnTo>
                    <a:lnTo>
                      <a:pt x="266" y="1024"/>
                    </a:lnTo>
                    <a:lnTo>
                      <a:pt x="310" y="906"/>
                    </a:lnTo>
                    <a:lnTo>
                      <a:pt x="357" y="784"/>
                    </a:lnTo>
                    <a:lnTo>
                      <a:pt x="404" y="660"/>
                    </a:lnTo>
                    <a:lnTo>
                      <a:pt x="452" y="538"/>
                    </a:lnTo>
                    <a:lnTo>
                      <a:pt x="501" y="415"/>
                    </a:lnTo>
                    <a:lnTo>
                      <a:pt x="549" y="295"/>
                    </a:lnTo>
                    <a:lnTo>
                      <a:pt x="598" y="177"/>
                    </a:lnTo>
                    <a:lnTo>
                      <a:pt x="644" y="63"/>
                    </a:lnTo>
                    <a:lnTo>
                      <a:pt x="672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5424480" y="3075120"/>
                <a:ext cx="219240" cy="479160"/>
              </a:xfrm>
              <a:custGeom>
                <a:avLst/>
                <a:gdLst/>
                <a:ahLst/>
                <a:rect l="l" t="t" r="r" b="b"/>
                <a:pathLst>
                  <a:path w="687" h="1509">
                    <a:moveTo>
                      <a:pt x="576" y="0"/>
                    </a:moveTo>
                    <a:lnTo>
                      <a:pt x="551" y="47"/>
                    </a:lnTo>
                    <a:lnTo>
                      <a:pt x="527" y="93"/>
                    </a:lnTo>
                    <a:lnTo>
                      <a:pt x="503" y="141"/>
                    </a:lnTo>
                    <a:lnTo>
                      <a:pt x="479" y="189"/>
                    </a:lnTo>
                    <a:lnTo>
                      <a:pt x="432" y="287"/>
                    </a:lnTo>
                    <a:lnTo>
                      <a:pt x="388" y="387"/>
                    </a:lnTo>
                    <a:lnTo>
                      <a:pt x="343" y="487"/>
                    </a:lnTo>
                    <a:lnTo>
                      <a:pt x="302" y="587"/>
                    </a:lnTo>
                    <a:lnTo>
                      <a:pt x="262" y="687"/>
                    </a:lnTo>
                    <a:lnTo>
                      <a:pt x="225" y="787"/>
                    </a:lnTo>
                    <a:lnTo>
                      <a:pt x="188" y="885"/>
                    </a:lnTo>
                    <a:lnTo>
                      <a:pt x="155" y="983"/>
                    </a:lnTo>
                    <a:lnTo>
                      <a:pt x="123" y="1078"/>
                    </a:lnTo>
                    <a:lnTo>
                      <a:pt x="93" y="1171"/>
                    </a:lnTo>
                    <a:lnTo>
                      <a:pt x="66" y="1260"/>
                    </a:lnTo>
                    <a:lnTo>
                      <a:pt x="41" y="1347"/>
                    </a:lnTo>
                    <a:lnTo>
                      <a:pt x="19" y="1430"/>
                    </a:lnTo>
                    <a:lnTo>
                      <a:pt x="0" y="1509"/>
                    </a:lnTo>
                    <a:lnTo>
                      <a:pt x="14" y="1508"/>
                    </a:lnTo>
                    <a:lnTo>
                      <a:pt x="27" y="1508"/>
                    </a:lnTo>
                    <a:lnTo>
                      <a:pt x="41" y="1507"/>
                    </a:lnTo>
                    <a:lnTo>
                      <a:pt x="55" y="1506"/>
                    </a:lnTo>
                    <a:lnTo>
                      <a:pt x="68" y="1505"/>
                    </a:lnTo>
                    <a:lnTo>
                      <a:pt x="82" y="1505"/>
                    </a:lnTo>
                    <a:lnTo>
                      <a:pt x="96" y="1503"/>
                    </a:lnTo>
                    <a:lnTo>
                      <a:pt x="109" y="1502"/>
                    </a:lnTo>
                    <a:lnTo>
                      <a:pt x="168" y="1338"/>
                    </a:lnTo>
                    <a:lnTo>
                      <a:pt x="233" y="1158"/>
                    </a:lnTo>
                    <a:lnTo>
                      <a:pt x="302" y="967"/>
                    </a:lnTo>
                    <a:lnTo>
                      <a:pt x="377" y="771"/>
                    </a:lnTo>
                    <a:lnTo>
                      <a:pt x="454" y="571"/>
                    </a:lnTo>
                    <a:lnTo>
                      <a:pt x="532" y="374"/>
                    </a:lnTo>
                    <a:lnTo>
                      <a:pt x="571" y="277"/>
                    </a:lnTo>
                    <a:lnTo>
                      <a:pt x="611" y="182"/>
                    </a:lnTo>
                    <a:lnTo>
                      <a:pt x="650" y="90"/>
                    </a:lnTo>
                    <a:lnTo>
                      <a:pt x="687" y="0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5408640" y="3075120"/>
                <a:ext cx="218880" cy="480960"/>
              </a:xfrm>
              <a:custGeom>
                <a:avLst/>
                <a:gdLst/>
                <a:ahLst/>
                <a:rect l="l" t="t" r="r" b="b"/>
                <a:pathLst>
                  <a:path w="691" h="1513">
                    <a:moveTo>
                      <a:pt x="102" y="1506"/>
                    </a:moveTo>
                    <a:lnTo>
                      <a:pt x="126" y="1417"/>
                    </a:lnTo>
                    <a:lnTo>
                      <a:pt x="152" y="1322"/>
                    </a:lnTo>
                    <a:lnTo>
                      <a:pt x="182" y="1224"/>
                    </a:lnTo>
                    <a:lnTo>
                      <a:pt x="214" y="1121"/>
                    </a:lnTo>
                    <a:lnTo>
                      <a:pt x="249" y="1016"/>
                    </a:lnTo>
                    <a:lnTo>
                      <a:pt x="287" y="909"/>
                    </a:lnTo>
                    <a:lnTo>
                      <a:pt x="327" y="800"/>
                    </a:lnTo>
                    <a:lnTo>
                      <a:pt x="369" y="690"/>
                    </a:lnTo>
                    <a:lnTo>
                      <a:pt x="414" y="579"/>
                    </a:lnTo>
                    <a:lnTo>
                      <a:pt x="461" y="469"/>
                    </a:lnTo>
                    <a:lnTo>
                      <a:pt x="485" y="414"/>
                    </a:lnTo>
                    <a:lnTo>
                      <a:pt x="509" y="359"/>
                    </a:lnTo>
                    <a:lnTo>
                      <a:pt x="534" y="304"/>
                    </a:lnTo>
                    <a:lnTo>
                      <a:pt x="561" y="251"/>
                    </a:lnTo>
                    <a:lnTo>
                      <a:pt x="587" y="197"/>
                    </a:lnTo>
                    <a:lnTo>
                      <a:pt x="613" y="145"/>
                    </a:lnTo>
                    <a:lnTo>
                      <a:pt x="640" y="92"/>
                    </a:lnTo>
                    <a:lnTo>
                      <a:pt x="668" y="41"/>
                    </a:lnTo>
                    <a:lnTo>
                      <a:pt x="691" y="0"/>
                    </a:lnTo>
                    <a:lnTo>
                      <a:pt x="564" y="0"/>
                    </a:lnTo>
                    <a:lnTo>
                      <a:pt x="558" y="11"/>
                    </a:lnTo>
                    <a:lnTo>
                      <a:pt x="531" y="64"/>
                    </a:lnTo>
                    <a:lnTo>
                      <a:pt x="505" y="116"/>
                    </a:lnTo>
                    <a:lnTo>
                      <a:pt x="478" y="170"/>
                    </a:lnTo>
                    <a:lnTo>
                      <a:pt x="453" y="223"/>
                    </a:lnTo>
                    <a:lnTo>
                      <a:pt x="427" y="278"/>
                    </a:lnTo>
                    <a:lnTo>
                      <a:pt x="403" y="333"/>
                    </a:lnTo>
                    <a:lnTo>
                      <a:pt x="379" y="388"/>
                    </a:lnTo>
                    <a:lnTo>
                      <a:pt x="331" y="498"/>
                    </a:lnTo>
                    <a:lnTo>
                      <a:pt x="287" y="608"/>
                    </a:lnTo>
                    <a:lnTo>
                      <a:pt x="245" y="719"/>
                    </a:lnTo>
                    <a:lnTo>
                      <a:pt x="205" y="828"/>
                    </a:lnTo>
                    <a:lnTo>
                      <a:pt x="167" y="935"/>
                    </a:lnTo>
                    <a:lnTo>
                      <a:pt x="132" y="1040"/>
                    </a:lnTo>
                    <a:lnTo>
                      <a:pt x="100" y="1143"/>
                    </a:lnTo>
                    <a:lnTo>
                      <a:pt x="70" y="1241"/>
                    </a:lnTo>
                    <a:lnTo>
                      <a:pt x="43" y="1336"/>
                    </a:lnTo>
                    <a:lnTo>
                      <a:pt x="20" y="1425"/>
                    </a:lnTo>
                    <a:lnTo>
                      <a:pt x="0" y="1509"/>
                    </a:lnTo>
                    <a:lnTo>
                      <a:pt x="0" y="1513"/>
                    </a:lnTo>
                    <a:lnTo>
                      <a:pt x="12" y="1511"/>
                    </a:lnTo>
                    <a:lnTo>
                      <a:pt x="25" y="1510"/>
                    </a:lnTo>
                    <a:lnTo>
                      <a:pt x="37" y="1510"/>
                    </a:lnTo>
                    <a:lnTo>
                      <a:pt x="51" y="1509"/>
                    </a:lnTo>
                    <a:lnTo>
                      <a:pt x="64" y="1508"/>
                    </a:lnTo>
                    <a:lnTo>
                      <a:pt x="76" y="1508"/>
                    </a:lnTo>
                    <a:lnTo>
                      <a:pt x="90" y="1507"/>
                    </a:lnTo>
                    <a:lnTo>
                      <a:pt x="102" y="150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5442120" y="3075120"/>
                <a:ext cx="220320" cy="477720"/>
              </a:xfrm>
              <a:custGeom>
                <a:avLst/>
                <a:gdLst/>
                <a:ahLst/>
                <a:rect l="l" t="t" r="r" b="b"/>
                <a:pathLst>
                  <a:path w="693" h="1506">
                    <a:moveTo>
                      <a:pt x="575" y="0"/>
                    </a:moveTo>
                    <a:lnTo>
                      <a:pt x="558" y="40"/>
                    </a:lnTo>
                    <a:lnTo>
                      <a:pt x="510" y="154"/>
                    </a:lnTo>
                    <a:lnTo>
                      <a:pt x="462" y="271"/>
                    </a:lnTo>
                    <a:lnTo>
                      <a:pt x="413" y="392"/>
                    </a:lnTo>
                    <a:lnTo>
                      <a:pt x="366" y="514"/>
                    </a:lnTo>
                    <a:lnTo>
                      <a:pt x="318" y="638"/>
                    </a:lnTo>
                    <a:lnTo>
                      <a:pt x="271" y="761"/>
                    </a:lnTo>
                    <a:lnTo>
                      <a:pt x="224" y="882"/>
                    </a:lnTo>
                    <a:lnTo>
                      <a:pt x="180" y="1001"/>
                    </a:lnTo>
                    <a:lnTo>
                      <a:pt x="138" y="1118"/>
                    </a:lnTo>
                    <a:lnTo>
                      <a:pt x="58" y="1338"/>
                    </a:lnTo>
                    <a:lnTo>
                      <a:pt x="0" y="1506"/>
                    </a:lnTo>
                    <a:lnTo>
                      <a:pt x="13" y="1505"/>
                    </a:lnTo>
                    <a:lnTo>
                      <a:pt x="27" y="1505"/>
                    </a:lnTo>
                    <a:lnTo>
                      <a:pt x="42" y="1503"/>
                    </a:lnTo>
                    <a:lnTo>
                      <a:pt x="55" y="1502"/>
                    </a:lnTo>
                    <a:lnTo>
                      <a:pt x="69" y="1501"/>
                    </a:lnTo>
                    <a:lnTo>
                      <a:pt x="84" y="1500"/>
                    </a:lnTo>
                    <a:lnTo>
                      <a:pt x="98" y="1500"/>
                    </a:lnTo>
                    <a:lnTo>
                      <a:pt x="112" y="1499"/>
                    </a:lnTo>
                    <a:lnTo>
                      <a:pt x="140" y="1419"/>
                    </a:lnTo>
                    <a:lnTo>
                      <a:pt x="220" y="1199"/>
                    </a:lnTo>
                    <a:lnTo>
                      <a:pt x="262" y="1082"/>
                    </a:lnTo>
                    <a:lnTo>
                      <a:pt x="306" y="963"/>
                    </a:lnTo>
                    <a:lnTo>
                      <a:pt x="353" y="842"/>
                    </a:lnTo>
                    <a:lnTo>
                      <a:pt x="400" y="719"/>
                    </a:lnTo>
                    <a:lnTo>
                      <a:pt x="448" y="595"/>
                    </a:lnTo>
                    <a:lnTo>
                      <a:pt x="495" y="473"/>
                    </a:lnTo>
                    <a:lnTo>
                      <a:pt x="544" y="353"/>
                    </a:lnTo>
                    <a:lnTo>
                      <a:pt x="592" y="235"/>
                    </a:lnTo>
                    <a:lnTo>
                      <a:pt x="640" y="121"/>
                    </a:lnTo>
                    <a:lnTo>
                      <a:pt x="687" y="11"/>
                    </a:lnTo>
                    <a:lnTo>
                      <a:pt x="693" y="0"/>
                    </a:lnTo>
                    <a:lnTo>
                      <a:pt x="57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5904000" y="3075120"/>
                <a:ext cx="218880" cy="482400"/>
              </a:xfrm>
              <a:custGeom>
                <a:avLst/>
                <a:gdLst/>
                <a:ahLst/>
                <a:rect l="l" t="t" r="r" b="b"/>
                <a:pathLst>
                  <a:path w="688" h="1518">
                    <a:moveTo>
                      <a:pt x="576" y="0"/>
                    </a:moveTo>
                    <a:lnTo>
                      <a:pt x="527" y="92"/>
                    </a:lnTo>
                    <a:lnTo>
                      <a:pt x="479" y="188"/>
                    </a:lnTo>
                    <a:lnTo>
                      <a:pt x="433" y="285"/>
                    </a:lnTo>
                    <a:lnTo>
                      <a:pt x="388" y="382"/>
                    </a:lnTo>
                    <a:lnTo>
                      <a:pt x="346" y="481"/>
                    </a:lnTo>
                    <a:lnTo>
                      <a:pt x="303" y="580"/>
                    </a:lnTo>
                    <a:lnTo>
                      <a:pt x="265" y="680"/>
                    </a:lnTo>
                    <a:lnTo>
                      <a:pt x="226" y="779"/>
                    </a:lnTo>
                    <a:lnTo>
                      <a:pt x="191" y="877"/>
                    </a:lnTo>
                    <a:lnTo>
                      <a:pt x="156" y="974"/>
                    </a:lnTo>
                    <a:lnTo>
                      <a:pt x="124" y="1069"/>
                    </a:lnTo>
                    <a:lnTo>
                      <a:pt x="96" y="1161"/>
                    </a:lnTo>
                    <a:lnTo>
                      <a:pt x="69" y="1250"/>
                    </a:lnTo>
                    <a:lnTo>
                      <a:pt x="44" y="1337"/>
                    </a:lnTo>
                    <a:lnTo>
                      <a:pt x="21" y="1420"/>
                    </a:lnTo>
                    <a:lnTo>
                      <a:pt x="0" y="1499"/>
                    </a:lnTo>
                    <a:lnTo>
                      <a:pt x="13" y="1501"/>
                    </a:lnTo>
                    <a:lnTo>
                      <a:pt x="25" y="1503"/>
                    </a:lnTo>
                    <a:lnTo>
                      <a:pt x="38" y="1507"/>
                    </a:lnTo>
                    <a:lnTo>
                      <a:pt x="50" y="1509"/>
                    </a:lnTo>
                    <a:lnTo>
                      <a:pt x="64" y="1511"/>
                    </a:lnTo>
                    <a:lnTo>
                      <a:pt x="77" y="1514"/>
                    </a:lnTo>
                    <a:lnTo>
                      <a:pt x="89" y="1516"/>
                    </a:lnTo>
                    <a:lnTo>
                      <a:pt x="103" y="1518"/>
                    </a:lnTo>
                    <a:lnTo>
                      <a:pt x="161" y="1352"/>
                    </a:lnTo>
                    <a:lnTo>
                      <a:pt x="227" y="1171"/>
                    </a:lnTo>
                    <a:lnTo>
                      <a:pt x="298" y="979"/>
                    </a:lnTo>
                    <a:lnTo>
                      <a:pt x="373" y="780"/>
                    </a:lnTo>
                    <a:lnTo>
                      <a:pt x="451" y="578"/>
                    </a:lnTo>
                    <a:lnTo>
                      <a:pt x="530" y="379"/>
                    </a:lnTo>
                    <a:lnTo>
                      <a:pt x="570" y="280"/>
                    </a:lnTo>
                    <a:lnTo>
                      <a:pt x="609" y="183"/>
                    </a:lnTo>
                    <a:lnTo>
                      <a:pt x="649" y="90"/>
                    </a:lnTo>
                    <a:lnTo>
                      <a:pt x="688" y="0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5888160" y="3075120"/>
                <a:ext cx="218880" cy="479160"/>
              </a:xfrm>
              <a:custGeom>
                <a:avLst/>
                <a:gdLst/>
                <a:ahLst/>
                <a:rect l="l" t="t" r="r" b="b"/>
                <a:pathLst>
                  <a:path w="687" h="1508">
                    <a:moveTo>
                      <a:pt x="97" y="1508"/>
                    </a:moveTo>
                    <a:lnTo>
                      <a:pt x="120" y="1421"/>
                    </a:lnTo>
                    <a:lnTo>
                      <a:pt x="146" y="1327"/>
                    </a:lnTo>
                    <a:lnTo>
                      <a:pt x="176" y="1229"/>
                    </a:lnTo>
                    <a:lnTo>
                      <a:pt x="208" y="1126"/>
                    </a:lnTo>
                    <a:lnTo>
                      <a:pt x="243" y="1021"/>
                    </a:lnTo>
                    <a:lnTo>
                      <a:pt x="281" y="914"/>
                    </a:lnTo>
                    <a:lnTo>
                      <a:pt x="321" y="804"/>
                    </a:lnTo>
                    <a:lnTo>
                      <a:pt x="364" y="695"/>
                    </a:lnTo>
                    <a:lnTo>
                      <a:pt x="408" y="584"/>
                    </a:lnTo>
                    <a:lnTo>
                      <a:pt x="455" y="473"/>
                    </a:lnTo>
                    <a:lnTo>
                      <a:pt x="479" y="418"/>
                    </a:lnTo>
                    <a:lnTo>
                      <a:pt x="504" y="364"/>
                    </a:lnTo>
                    <a:lnTo>
                      <a:pt x="529" y="309"/>
                    </a:lnTo>
                    <a:lnTo>
                      <a:pt x="554" y="255"/>
                    </a:lnTo>
                    <a:lnTo>
                      <a:pt x="581" y="202"/>
                    </a:lnTo>
                    <a:lnTo>
                      <a:pt x="608" y="149"/>
                    </a:lnTo>
                    <a:lnTo>
                      <a:pt x="634" y="97"/>
                    </a:lnTo>
                    <a:lnTo>
                      <a:pt x="662" y="45"/>
                    </a:lnTo>
                    <a:lnTo>
                      <a:pt x="687" y="0"/>
                    </a:lnTo>
                    <a:lnTo>
                      <a:pt x="561" y="0"/>
                    </a:lnTo>
                    <a:lnTo>
                      <a:pt x="552" y="16"/>
                    </a:lnTo>
                    <a:lnTo>
                      <a:pt x="526" y="68"/>
                    </a:lnTo>
                    <a:lnTo>
                      <a:pt x="499" y="121"/>
                    </a:lnTo>
                    <a:lnTo>
                      <a:pt x="473" y="174"/>
                    </a:lnTo>
                    <a:lnTo>
                      <a:pt x="447" y="228"/>
                    </a:lnTo>
                    <a:lnTo>
                      <a:pt x="422" y="283"/>
                    </a:lnTo>
                    <a:lnTo>
                      <a:pt x="397" y="337"/>
                    </a:lnTo>
                    <a:lnTo>
                      <a:pt x="373" y="392"/>
                    </a:lnTo>
                    <a:lnTo>
                      <a:pt x="326" y="503"/>
                    </a:lnTo>
                    <a:lnTo>
                      <a:pt x="282" y="614"/>
                    </a:lnTo>
                    <a:lnTo>
                      <a:pt x="239" y="723"/>
                    </a:lnTo>
                    <a:lnTo>
                      <a:pt x="199" y="833"/>
                    </a:lnTo>
                    <a:lnTo>
                      <a:pt x="161" y="940"/>
                    </a:lnTo>
                    <a:lnTo>
                      <a:pt x="126" y="1045"/>
                    </a:lnTo>
                    <a:lnTo>
                      <a:pt x="94" y="1148"/>
                    </a:lnTo>
                    <a:lnTo>
                      <a:pt x="64" y="1246"/>
                    </a:lnTo>
                    <a:lnTo>
                      <a:pt x="38" y="1340"/>
                    </a:lnTo>
                    <a:lnTo>
                      <a:pt x="14" y="1430"/>
                    </a:lnTo>
                    <a:lnTo>
                      <a:pt x="0" y="1486"/>
                    </a:lnTo>
                    <a:lnTo>
                      <a:pt x="12" y="1490"/>
                    </a:lnTo>
                    <a:lnTo>
                      <a:pt x="24" y="1493"/>
                    </a:lnTo>
                    <a:lnTo>
                      <a:pt x="36" y="1495"/>
                    </a:lnTo>
                    <a:lnTo>
                      <a:pt x="48" y="1498"/>
                    </a:lnTo>
                    <a:lnTo>
                      <a:pt x="60" y="1501"/>
                    </a:lnTo>
                    <a:lnTo>
                      <a:pt x="72" y="1503"/>
                    </a:lnTo>
                    <a:lnTo>
                      <a:pt x="85" y="1506"/>
                    </a:lnTo>
                    <a:lnTo>
                      <a:pt x="97" y="150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5919840" y="3075120"/>
                <a:ext cx="220680" cy="484200"/>
              </a:xfrm>
              <a:custGeom>
                <a:avLst/>
                <a:gdLst/>
                <a:ahLst/>
                <a:rect l="l" t="t" r="r" b="b"/>
                <a:pathLst>
                  <a:path w="694" h="1525">
                    <a:moveTo>
                      <a:pt x="577" y="0"/>
                    </a:moveTo>
                    <a:lnTo>
                      <a:pt x="558" y="44"/>
                    </a:lnTo>
                    <a:lnTo>
                      <a:pt x="510" y="158"/>
                    </a:lnTo>
                    <a:lnTo>
                      <a:pt x="461" y="277"/>
                    </a:lnTo>
                    <a:lnTo>
                      <a:pt x="413" y="397"/>
                    </a:lnTo>
                    <a:lnTo>
                      <a:pt x="364" y="519"/>
                    </a:lnTo>
                    <a:lnTo>
                      <a:pt x="316" y="642"/>
                    </a:lnTo>
                    <a:lnTo>
                      <a:pt x="270" y="765"/>
                    </a:lnTo>
                    <a:lnTo>
                      <a:pt x="224" y="887"/>
                    </a:lnTo>
                    <a:lnTo>
                      <a:pt x="180" y="1006"/>
                    </a:lnTo>
                    <a:lnTo>
                      <a:pt x="136" y="1122"/>
                    </a:lnTo>
                    <a:lnTo>
                      <a:pt x="58" y="1343"/>
                    </a:lnTo>
                    <a:lnTo>
                      <a:pt x="0" y="1509"/>
                    </a:lnTo>
                    <a:lnTo>
                      <a:pt x="12" y="1511"/>
                    </a:lnTo>
                    <a:lnTo>
                      <a:pt x="25" y="1514"/>
                    </a:lnTo>
                    <a:lnTo>
                      <a:pt x="37" y="1516"/>
                    </a:lnTo>
                    <a:lnTo>
                      <a:pt x="51" y="1518"/>
                    </a:lnTo>
                    <a:lnTo>
                      <a:pt x="63" y="1519"/>
                    </a:lnTo>
                    <a:lnTo>
                      <a:pt x="77" y="1522"/>
                    </a:lnTo>
                    <a:lnTo>
                      <a:pt x="91" y="1524"/>
                    </a:lnTo>
                    <a:lnTo>
                      <a:pt x="103" y="1525"/>
                    </a:lnTo>
                    <a:lnTo>
                      <a:pt x="140" y="1424"/>
                    </a:lnTo>
                    <a:lnTo>
                      <a:pt x="218" y="1203"/>
                    </a:lnTo>
                    <a:lnTo>
                      <a:pt x="262" y="1087"/>
                    </a:lnTo>
                    <a:lnTo>
                      <a:pt x="306" y="968"/>
                    </a:lnTo>
                    <a:lnTo>
                      <a:pt x="352" y="846"/>
                    </a:lnTo>
                    <a:lnTo>
                      <a:pt x="399" y="723"/>
                    </a:lnTo>
                    <a:lnTo>
                      <a:pt x="446" y="601"/>
                    </a:lnTo>
                    <a:lnTo>
                      <a:pt x="495" y="478"/>
                    </a:lnTo>
                    <a:lnTo>
                      <a:pt x="543" y="358"/>
                    </a:lnTo>
                    <a:lnTo>
                      <a:pt x="592" y="239"/>
                    </a:lnTo>
                    <a:lnTo>
                      <a:pt x="640" y="125"/>
                    </a:lnTo>
                    <a:lnTo>
                      <a:pt x="687" y="16"/>
                    </a:lnTo>
                    <a:lnTo>
                      <a:pt x="694" y="0"/>
                    </a:lnTo>
                    <a:lnTo>
                      <a:pt x="57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6311880" y="3075120"/>
                <a:ext cx="103320" cy="479160"/>
              </a:xfrm>
              <a:custGeom>
                <a:avLst/>
                <a:gdLst/>
                <a:ahLst/>
                <a:rect l="l" t="t" r="r" b="b"/>
                <a:pathLst>
                  <a:path w="326" h="1508">
                    <a:moveTo>
                      <a:pt x="212" y="0"/>
                    </a:moveTo>
                    <a:lnTo>
                      <a:pt x="188" y="102"/>
                    </a:lnTo>
                    <a:lnTo>
                      <a:pt x="165" y="206"/>
                    </a:lnTo>
                    <a:lnTo>
                      <a:pt x="145" y="310"/>
                    </a:lnTo>
                    <a:lnTo>
                      <a:pt x="124" y="413"/>
                    </a:lnTo>
                    <a:lnTo>
                      <a:pt x="107" y="517"/>
                    </a:lnTo>
                    <a:lnTo>
                      <a:pt x="90" y="618"/>
                    </a:lnTo>
                    <a:lnTo>
                      <a:pt x="74" y="719"/>
                    </a:lnTo>
                    <a:lnTo>
                      <a:pt x="60" y="818"/>
                    </a:lnTo>
                    <a:lnTo>
                      <a:pt x="48" y="915"/>
                    </a:lnTo>
                    <a:lnTo>
                      <a:pt x="36" y="1009"/>
                    </a:lnTo>
                    <a:lnTo>
                      <a:pt x="27" y="1102"/>
                    </a:lnTo>
                    <a:lnTo>
                      <a:pt x="19" y="1190"/>
                    </a:lnTo>
                    <a:lnTo>
                      <a:pt x="13" y="1275"/>
                    </a:lnTo>
                    <a:lnTo>
                      <a:pt x="7" y="1357"/>
                    </a:lnTo>
                    <a:lnTo>
                      <a:pt x="2" y="1435"/>
                    </a:lnTo>
                    <a:lnTo>
                      <a:pt x="0" y="1508"/>
                    </a:lnTo>
                    <a:lnTo>
                      <a:pt x="11" y="1507"/>
                    </a:lnTo>
                    <a:lnTo>
                      <a:pt x="23" y="1506"/>
                    </a:lnTo>
                    <a:lnTo>
                      <a:pt x="35" y="1505"/>
                    </a:lnTo>
                    <a:lnTo>
                      <a:pt x="47" y="1503"/>
                    </a:lnTo>
                    <a:lnTo>
                      <a:pt x="58" y="1502"/>
                    </a:lnTo>
                    <a:lnTo>
                      <a:pt x="71" y="1501"/>
                    </a:lnTo>
                    <a:lnTo>
                      <a:pt x="82" y="1500"/>
                    </a:lnTo>
                    <a:lnTo>
                      <a:pt x="93" y="1499"/>
                    </a:lnTo>
                    <a:lnTo>
                      <a:pt x="114" y="1345"/>
                    </a:lnTo>
                    <a:lnTo>
                      <a:pt x="137" y="1175"/>
                    </a:lnTo>
                    <a:lnTo>
                      <a:pt x="164" y="992"/>
                    </a:lnTo>
                    <a:lnTo>
                      <a:pt x="193" y="800"/>
                    </a:lnTo>
                    <a:lnTo>
                      <a:pt x="223" y="601"/>
                    </a:lnTo>
                    <a:lnTo>
                      <a:pt x="256" y="399"/>
                    </a:lnTo>
                    <a:lnTo>
                      <a:pt x="291" y="197"/>
                    </a:lnTo>
                    <a:lnTo>
                      <a:pt x="326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6299280" y="3075120"/>
                <a:ext cx="95040" cy="479160"/>
              </a:xfrm>
              <a:custGeom>
                <a:avLst/>
                <a:gdLst/>
                <a:ahLst/>
                <a:rect l="l" t="t" r="r" b="b"/>
                <a:pathLst>
                  <a:path w="304" h="1511">
                    <a:moveTo>
                      <a:pt x="84" y="1503"/>
                    </a:moveTo>
                    <a:lnTo>
                      <a:pt x="86" y="1458"/>
                    </a:lnTo>
                    <a:lnTo>
                      <a:pt x="92" y="1362"/>
                    </a:lnTo>
                    <a:lnTo>
                      <a:pt x="100" y="1260"/>
                    </a:lnTo>
                    <a:lnTo>
                      <a:pt x="109" y="1153"/>
                    </a:lnTo>
                    <a:lnTo>
                      <a:pt x="121" y="1041"/>
                    </a:lnTo>
                    <a:lnTo>
                      <a:pt x="134" y="926"/>
                    </a:lnTo>
                    <a:lnTo>
                      <a:pt x="150" y="808"/>
                    </a:lnTo>
                    <a:lnTo>
                      <a:pt x="169" y="687"/>
                    </a:lnTo>
                    <a:lnTo>
                      <a:pt x="189" y="563"/>
                    </a:lnTo>
                    <a:lnTo>
                      <a:pt x="211" y="438"/>
                    </a:lnTo>
                    <a:lnTo>
                      <a:pt x="235" y="312"/>
                    </a:lnTo>
                    <a:lnTo>
                      <a:pt x="261" y="187"/>
                    </a:lnTo>
                    <a:lnTo>
                      <a:pt x="289" y="61"/>
                    </a:lnTo>
                    <a:lnTo>
                      <a:pt x="304" y="0"/>
                    </a:lnTo>
                    <a:lnTo>
                      <a:pt x="203" y="0"/>
                    </a:lnTo>
                    <a:lnTo>
                      <a:pt x="179" y="106"/>
                    </a:lnTo>
                    <a:lnTo>
                      <a:pt x="153" y="231"/>
                    </a:lnTo>
                    <a:lnTo>
                      <a:pt x="129" y="357"/>
                    </a:lnTo>
                    <a:lnTo>
                      <a:pt x="107" y="482"/>
                    </a:lnTo>
                    <a:lnTo>
                      <a:pt x="86" y="606"/>
                    </a:lnTo>
                    <a:lnTo>
                      <a:pt x="68" y="728"/>
                    </a:lnTo>
                    <a:lnTo>
                      <a:pt x="52" y="846"/>
                    </a:lnTo>
                    <a:lnTo>
                      <a:pt x="39" y="962"/>
                    </a:lnTo>
                    <a:lnTo>
                      <a:pt x="27" y="1073"/>
                    </a:lnTo>
                    <a:lnTo>
                      <a:pt x="17" y="1181"/>
                    </a:lnTo>
                    <a:lnTo>
                      <a:pt x="10" y="1282"/>
                    </a:lnTo>
                    <a:lnTo>
                      <a:pt x="4" y="1378"/>
                    </a:lnTo>
                    <a:lnTo>
                      <a:pt x="1" y="1467"/>
                    </a:lnTo>
                    <a:lnTo>
                      <a:pt x="0" y="1511"/>
                    </a:lnTo>
                    <a:lnTo>
                      <a:pt x="10" y="1510"/>
                    </a:lnTo>
                    <a:lnTo>
                      <a:pt x="21" y="1509"/>
                    </a:lnTo>
                    <a:lnTo>
                      <a:pt x="32" y="1509"/>
                    </a:lnTo>
                    <a:lnTo>
                      <a:pt x="42" y="1508"/>
                    </a:lnTo>
                    <a:lnTo>
                      <a:pt x="53" y="1507"/>
                    </a:lnTo>
                    <a:lnTo>
                      <a:pt x="64" y="1506"/>
                    </a:lnTo>
                    <a:lnTo>
                      <a:pt x="74" y="1505"/>
                    </a:lnTo>
                    <a:lnTo>
                      <a:pt x="84" y="150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6326280" y="3075120"/>
                <a:ext cx="104760" cy="477720"/>
              </a:xfrm>
              <a:custGeom>
                <a:avLst/>
                <a:gdLst/>
                <a:ahLst/>
                <a:rect l="l" t="t" r="r" b="b"/>
                <a:pathLst>
                  <a:path w="328" h="1503">
                    <a:moveTo>
                      <a:pt x="231" y="0"/>
                    </a:moveTo>
                    <a:lnTo>
                      <a:pt x="223" y="41"/>
                    </a:lnTo>
                    <a:lnTo>
                      <a:pt x="199" y="177"/>
                    </a:lnTo>
                    <a:lnTo>
                      <a:pt x="176" y="315"/>
                    </a:lnTo>
                    <a:lnTo>
                      <a:pt x="154" y="453"/>
                    </a:lnTo>
                    <a:lnTo>
                      <a:pt x="131" y="591"/>
                    </a:lnTo>
                    <a:lnTo>
                      <a:pt x="109" y="727"/>
                    </a:lnTo>
                    <a:lnTo>
                      <a:pt x="89" y="860"/>
                    </a:lnTo>
                    <a:lnTo>
                      <a:pt x="70" y="990"/>
                    </a:lnTo>
                    <a:lnTo>
                      <a:pt x="35" y="1234"/>
                    </a:lnTo>
                    <a:lnTo>
                      <a:pt x="7" y="1450"/>
                    </a:lnTo>
                    <a:lnTo>
                      <a:pt x="0" y="1503"/>
                    </a:lnTo>
                    <a:lnTo>
                      <a:pt x="11" y="1502"/>
                    </a:lnTo>
                    <a:lnTo>
                      <a:pt x="24" y="1501"/>
                    </a:lnTo>
                    <a:lnTo>
                      <a:pt x="35" y="1500"/>
                    </a:lnTo>
                    <a:lnTo>
                      <a:pt x="46" y="1499"/>
                    </a:lnTo>
                    <a:lnTo>
                      <a:pt x="59" y="1498"/>
                    </a:lnTo>
                    <a:lnTo>
                      <a:pt x="70" y="1497"/>
                    </a:lnTo>
                    <a:lnTo>
                      <a:pt x="82" y="1495"/>
                    </a:lnTo>
                    <a:lnTo>
                      <a:pt x="93" y="1494"/>
                    </a:lnTo>
                    <a:lnTo>
                      <a:pt x="117" y="1314"/>
                    </a:lnTo>
                    <a:lnTo>
                      <a:pt x="152" y="1070"/>
                    </a:lnTo>
                    <a:lnTo>
                      <a:pt x="172" y="941"/>
                    </a:lnTo>
                    <a:lnTo>
                      <a:pt x="192" y="808"/>
                    </a:lnTo>
                    <a:lnTo>
                      <a:pt x="213" y="671"/>
                    </a:lnTo>
                    <a:lnTo>
                      <a:pt x="236" y="534"/>
                    </a:lnTo>
                    <a:lnTo>
                      <a:pt x="259" y="396"/>
                    </a:lnTo>
                    <a:lnTo>
                      <a:pt x="281" y="258"/>
                    </a:lnTo>
                    <a:lnTo>
                      <a:pt x="305" y="122"/>
                    </a:lnTo>
                    <a:lnTo>
                      <a:pt x="328" y="0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4033800" y="3075120"/>
                <a:ext cx="222120" cy="493560"/>
              </a:xfrm>
              <a:custGeom>
                <a:avLst/>
                <a:gdLst/>
                <a:ahLst/>
                <a:rect l="l" t="t" r="r" b="b"/>
                <a:pathLst>
                  <a:path w="700" h="1555">
                    <a:moveTo>
                      <a:pt x="591" y="0"/>
                    </a:moveTo>
                    <a:lnTo>
                      <a:pt x="542" y="93"/>
                    </a:lnTo>
                    <a:lnTo>
                      <a:pt x="494" y="189"/>
                    </a:lnTo>
                    <a:lnTo>
                      <a:pt x="449" y="287"/>
                    </a:lnTo>
                    <a:lnTo>
                      <a:pt x="404" y="387"/>
                    </a:lnTo>
                    <a:lnTo>
                      <a:pt x="360" y="487"/>
                    </a:lnTo>
                    <a:lnTo>
                      <a:pt x="319" y="588"/>
                    </a:lnTo>
                    <a:lnTo>
                      <a:pt x="278" y="690"/>
                    </a:lnTo>
                    <a:lnTo>
                      <a:pt x="240" y="792"/>
                    </a:lnTo>
                    <a:lnTo>
                      <a:pt x="202" y="893"/>
                    </a:lnTo>
                    <a:lnTo>
                      <a:pt x="168" y="993"/>
                    </a:lnTo>
                    <a:lnTo>
                      <a:pt x="134" y="1093"/>
                    </a:lnTo>
                    <a:lnTo>
                      <a:pt x="103" y="1190"/>
                    </a:lnTo>
                    <a:lnTo>
                      <a:pt x="74" y="1286"/>
                    </a:lnTo>
                    <a:lnTo>
                      <a:pt x="47" y="1378"/>
                    </a:lnTo>
                    <a:lnTo>
                      <a:pt x="22" y="1468"/>
                    </a:lnTo>
                    <a:lnTo>
                      <a:pt x="0" y="1555"/>
                    </a:lnTo>
                    <a:lnTo>
                      <a:pt x="17" y="1553"/>
                    </a:lnTo>
                    <a:lnTo>
                      <a:pt x="34" y="1549"/>
                    </a:lnTo>
                    <a:lnTo>
                      <a:pt x="51" y="1547"/>
                    </a:lnTo>
                    <a:lnTo>
                      <a:pt x="68" y="1543"/>
                    </a:lnTo>
                    <a:lnTo>
                      <a:pt x="85" y="1541"/>
                    </a:lnTo>
                    <a:lnTo>
                      <a:pt x="101" y="1539"/>
                    </a:lnTo>
                    <a:lnTo>
                      <a:pt x="118" y="1535"/>
                    </a:lnTo>
                    <a:lnTo>
                      <a:pt x="134" y="1533"/>
                    </a:lnTo>
                    <a:lnTo>
                      <a:pt x="196" y="1353"/>
                    </a:lnTo>
                    <a:lnTo>
                      <a:pt x="262" y="1162"/>
                    </a:lnTo>
                    <a:lnTo>
                      <a:pt x="331" y="965"/>
                    </a:lnTo>
                    <a:lnTo>
                      <a:pt x="404" y="764"/>
                    </a:lnTo>
                    <a:lnTo>
                      <a:pt x="478" y="563"/>
                    </a:lnTo>
                    <a:lnTo>
                      <a:pt x="554" y="367"/>
                    </a:lnTo>
                    <a:lnTo>
                      <a:pt x="590" y="271"/>
                    </a:lnTo>
                    <a:lnTo>
                      <a:pt x="628" y="178"/>
                    </a:lnTo>
                    <a:lnTo>
                      <a:pt x="664" y="88"/>
                    </a:lnTo>
                    <a:lnTo>
                      <a:pt x="700" y="0"/>
                    </a:lnTo>
                    <a:lnTo>
                      <a:pt x="59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4016520" y="3075120"/>
                <a:ext cx="223560" cy="496800"/>
              </a:xfrm>
              <a:custGeom>
                <a:avLst/>
                <a:gdLst/>
                <a:ahLst/>
                <a:rect l="l" t="t" r="r" b="b"/>
                <a:pathLst>
                  <a:path w="708" h="1564">
                    <a:moveTo>
                      <a:pt x="107" y="1547"/>
                    </a:moveTo>
                    <a:lnTo>
                      <a:pt x="117" y="1507"/>
                    </a:lnTo>
                    <a:lnTo>
                      <a:pt x="147" y="1401"/>
                    </a:lnTo>
                    <a:lnTo>
                      <a:pt x="180" y="1290"/>
                    </a:lnTo>
                    <a:lnTo>
                      <a:pt x="215" y="1177"/>
                    </a:lnTo>
                    <a:lnTo>
                      <a:pt x="253" y="1061"/>
                    </a:lnTo>
                    <a:lnTo>
                      <a:pt x="294" y="943"/>
                    </a:lnTo>
                    <a:lnTo>
                      <a:pt x="337" y="825"/>
                    </a:lnTo>
                    <a:lnTo>
                      <a:pt x="383" y="705"/>
                    </a:lnTo>
                    <a:lnTo>
                      <a:pt x="431" y="585"/>
                    </a:lnTo>
                    <a:lnTo>
                      <a:pt x="456" y="526"/>
                    </a:lnTo>
                    <a:lnTo>
                      <a:pt x="481" y="466"/>
                    </a:lnTo>
                    <a:lnTo>
                      <a:pt x="507" y="408"/>
                    </a:lnTo>
                    <a:lnTo>
                      <a:pt x="533" y="349"/>
                    </a:lnTo>
                    <a:lnTo>
                      <a:pt x="560" y="292"/>
                    </a:lnTo>
                    <a:lnTo>
                      <a:pt x="587" y="234"/>
                    </a:lnTo>
                    <a:lnTo>
                      <a:pt x="614" y="178"/>
                    </a:lnTo>
                    <a:lnTo>
                      <a:pt x="643" y="122"/>
                    </a:lnTo>
                    <a:lnTo>
                      <a:pt x="671" y="67"/>
                    </a:lnTo>
                    <a:lnTo>
                      <a:pt x="701" y="13"/>
                    </a:lnTo>
                    <a:lnTo>
                      <a:pt x="708" y="0"/>
                    </a:lnTo>
                    <a:lnTo>
                      <a:pt x="583" y="0"/>
                    </a:lnTo>
                    <a:lnTo>
                      <a:pt x="561" y="41"/>
                    </a:lnTo>
                    <a:lnTo>
                      <a:pt x="532" y="97"/>
                    </a:lnTo>
                    <a:lnTo>
                      <a:pt x="505" y="153"/>
                    </a:lnTo>
                    <a:lnTo>
                      <a:pt x="478" y="211"/>
                    </a:lnTo>
                    <a:lnTo>
                      <a:pt x="451" y="268"/>
                    </a:lnTo>
                    <a:lnTo>
                      <a:pt x="425" y="326"/>
                    </a:lnTo>
                    <a:lnTo>
                      <a:pt x="399" y="385"/>
                    </a:lnTo>
                    <a:lnTo>
                      <a:pt x="374" y="445"/>
                    </a:lnTo>
                    <a:lnTo>
                      <a:pt x="349" y="504"/>
                    </a:lnTo>
                    <a:lnTo>
                      <a:pt x="301" y="624"/>
                    </a:lnTo>
                    <a:lnTo>
                      <a:pt x="255" y="744"/>
                    </a:lnTo>
                    <a:lnTo>
                      <a:pt x="212" y="862"/>
                    </a:lnTo>
                    <a:lnTo>
                      <a:pt x="171" y="980"/>
                    </a:lnTo>
                    <a:lnTo>
                      <a:pt x="133" y="1096"/>
                    </a:lnTo>
                    <a:lnTo>
                      <a:pt x="98" y="1209"/>
                    </a:lnTo>
                    <a:lnTo>
                      <a:pt x="65" y="1320"/>
                    </a:lnTo>
                    <a:lnTo>
                      <a:pt x="35" y="1426"/>
                    </a:lnTo>
                    <a:lnTo>
                      <a:pt x="9" y="1527"/>
                    </a:lnTo>
                    <a:lnTo>
                      <a:pt x="0" y="1564"/>
                    </a:lnTo>
                    <a:lnTo>
                      <a:pt x="14" y="1562"/>
                    </a:lnTo>
                    <a:lnTo>
                      <a:pt x="27" y="1559"/>
                    </a:lnTo>
                    <a:lnTo>
                      <a:pt x="41" y="1557"/>
                    </a:lnTo>
                    <a:lnTo>
                      <a:pt x="55" y="1555"/>
                    </a:lnTo>
                    <a:lnTo>
                      <a:pt x="67" y="1554"/>
                    </a:lnTo>
                    <a:lnTo>
                      <a:pt x="81" y="1551"/>
                    </a:lnTo>
                    <a:lnTo>
                      <a:pt x="95" y="1549"/>
                    </a:lnTo>
                    <a:lnTo>
                      <a:pt x="107" y="154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4057560" y="3075120"/>
                <a:ext cx="216000" cy="488880"/>
              </a:xfrm>
              <a:custGeom>
                <a:avLst/>
                <a:gdLst/>
                <a:ahLst/>
                <a:rect l="l" t="t" r="r" b="b"/>
                <a:pathLst>
                  <a:path w="682" h="1542">
                    <a:moveTo>
                      <a:pt x="567" y="0"/>
                    </a:moveTo>
                    <a:lnTo>
                      <a:pt x="564" y="4"/>
                    </a:lnTo>
                    <a:lnTo>
                      <a:pt x="516" y="123"/>
                    </a:lnTo>
                    <a:lnTo>
                      <a:pt x="467" y="246"/>
                    </a:lnTo>
                    <a:lnTo>
                      <a:pt x="418" y="374"/>
                    </a:lnTo>
                    <a:lnTo>
                      <a:pt x="368" y="504"/>
                    </a:lnTo>
                    <a:lnTo>
                      <a:pt x="319" y="636"/>
                    </a:lnTo>
                    <a:lnTo>
                      <a:pt x="270" y="769"/>
                    </a:lnTo>
                    <a:lnTo>
                      <a:pt x="222" y="901"/>
                    </a:lnTo>
                    <a:lnTo>
                      <a:pt x="175" y="1033"/>
                    </a:lnTo>
                    <a:lnTo>
                      <a:pt x="130" y="1162"/>
                    </a:lnTo>
                    <a:lnTo>
                      <a:pt x="87" y="1288"/>
                    </a:lnTo>
                    <a:lnTo>
                      <a:pt x="46" y="1409"/>
                    </a:lnTo>
                    <a:lnTo>
                      <a:pt x="6" y="1525"/>
                    </a:lnTo>
                    <a:lnTo>
                      <a:pt x="0" y="1542"/>
                    </a:lnTo>
                    <a:lnTo>
                      <a:pt x="15" y="1540"/>
                    </a:lnTo>
                    <a:lnTo>
                      <a:pt x="30" y="1538"/>
                    </a:lnTo>
                    <a:lnTo>
                      <a:pt x="44" y="1535"/>
                    </a:lnTo>
                    <a:lnTo>
                      <a:pt x="59" y="1533"/>
                    </a:lnTo>
                    <a:lnTo>
                      <a:pt x="73" y="1531"/>
                    </a:lnTo>
                    <a:lnTo>
                      <a:pt x="88" y="1529"/>
                    </a:lnTo>
                    <a:lnTo>
                      <a:pt x="101" y="1526"/>
                    </a:lnTo>
                    <a:lnTo>
                      <a:pt x="116" y="1523"/>
                    </a:lnTo>
                    <a:lnTo>
                      <a:pt x="128" y="1490"/>
                    </a:lnTo>
                    <a:lnTo>
                      <a:pt x="169" y="1369"/>
                    </a:lnTo>
                    <a:lnTo>
                      <a:pt x="212" y="1243"/>
                    </a:lnTo>
                    <a:lnTo>
                      <a:pt x="258" y="1114"/>
                    </a:lnTo>
                    <a:lnTo>
                      <a:pt x="304" y="982"/>
                    </a:lnTo>
                    <a:lnTo>
                      <a:pt x="352" y="850"/>
                    </a:lnTo>
                    <a:lnTo>
                      <a:pt x="401" y="717"/>
                    </a:lnTo>
                    <a:lnTo>
                      <a:pt x="450" y="585"/>
                    </a:lnTo>
                    <a:lnTo>
                      <a:pt x="500" y="455"/>
                    </a:lnTo>
                    <a:lnTo>
                      <a:pt x="549" y="327"/>
                    </a:lnTo>
                    <a:lnTo>
                      <a:pt x="598" y="204"/>
                    </a:lnTo>
                    <a:lnTo>
                      <a:pt x="646" y="85"/>
                    </a:lnTo>
                    <a:lnTo>
                      <a:pt x="682" y="0"/>
                    </a:lnTo>
                    <a:lnTo>
                      <a:pt x="56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3063960" y="3075120"/>
                <a:ext cx="162000" cy="490320"/>
              </a:xfrm>
              <a:custGeom>
                <a:avLst/>
                <a:gdLst/>
                <a:ahLst/>
                <a:rect l="l" t="t" r="r" b="b"/>
                <a:pathLst>
                  <a:path w="508" h="1545">
                    <a:moveTo>
                      <a:pt x="393" y="0"/>
                    </a:moveTo>
                    <a:lnTo>
                      <a:pt x="358" y="99"/>
                    </a:lnTo>
                    <a:lnTo>
                      <a:pt x="323" y="198"/>
                    </a:lnTo>
                    <a:lnTo>
                      <a:pt x="290" y="299"/>
                    </a:lnTo>
                    <a:lnTo>
                      <a:pt x="260" y="400"/>
                    </a:lnTo>
                    <a:lnTo>
                      <a:pt x="230" y="503"/>
                    </a:lnTo>
                    <a:lnTo>
                      <a:pt x="201" y="604"/>
                    </a:lnTo>
                    <a:lnTo>
                      <a:pt x="174" y="706"/>
                    </a:lnTo>
                    <a:lnTo>
                      <a:pt x="149" y="806"/>
                    </a:lnTo>
                    <a:lnTo>
                      <a:pt x="124" y="906"/>
                    </a:lnTo>
                    <a:lnTo>
                      <a:pt x="102" y="1004"/>
                    </a:lnTo>
                    <a:lnTo>
                      <a:pt x="81" y="1101"/>
                    </a:lnTo>
                    <a:lnTo>
                      <a:pt x="61" y="1195"/>
                    </a:lnTo>
                    <a:lnTo>
                      <a:pt x="44" y="1287"/>
                    </a:lnTo>
                    <a:lnTo>
                      <a:pt x="27" y="1377"/>
                    </a:lnTo>
                    <a:lnTo>
                      <a:pt x="13" y="1462"/>
                    </a:lnTo>
                    <a:lnTo>
                      <a:pt x="0" y="1545"/>
                    </a:lnTo>
                    <a:lnTo>
                      <a:pt x="16" y="1543"/>
                    </a:lnTo>
                    <a:lnTo>
                      <a:pt x="30" y="1541"/>
                    </a:lnTo>
                    <a:lnTo>
                      <a:pt x="45" y="1539"/>
                    </a:lnTo>
                    <a:lnTo>
                      <a:pt x="60" y="1538"/>
                    </a:lnTo>
                    <a:lnTo>
                      <a:pt x="75" y="1535"/>
                    </a:lnTo>
                    <a:lnTo>
                      <a:pt x="90" y="1533"/>
                    </a:lnTo>
                    <a:lnTo>
                      <a:pt x="105" y="1532"/>
                    </a:lnTo>
                    <a:lnTo>
                      <a:pt x="119" y="1530"/>
                    </a:lnTo>
                    <a:lnTo>
                      <a:pt x="159" y="1359"/>
                    </a:lnTo>
                    <a:lnTo>
                      <a:pt x="203" y="1174"/>
                    </a:lnTo>
                    <a:lnTo>
                      <a:pt x="249" y="982"/>
                    </a:lnTo>
                    <a:lnTo>
                      <a:pt x="298" y="784"/>
                    </a:lnTo>
                    <a:lnTo>
                      <a:pt x="350" y="584"/>
                    </a:lnTo>
                    <a:lnTo>
                      <a:pt x="402" y="384"/>
                    </a:lnTo>
                    <a:lnTo>
                      <a:pt x="454" y="189"/>
                    </a:lnTo>
                    <a:lnTo>
                      <a:pt x="508" y="0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3048120" y="3075120"/>
                <a:ext cx="158760" cy="492120"/>
              </a:xfrm>
              <a:custGeom>
                <a:avLst/>
                <a:gdLst/>
                <a:ahLst/>
                <a:rect l="l" t="t" r="r" b="b"/>
                <a:pathLst>
                  <a:path w="497" h="1551">
                    <a:moveTo>
                      <a:pt x="97" y="1539"/>
                    </a:moveTo>
                    <a:lnTo>
                      <a:pt x="110" y="1450"/>
                    </a:lnTo>
                    <a:lnTo>
                      <a:pt x="131" y="1338"/>
                    </a:lnTo>
                    <a:lnTo>
                      <a:pt x="153" y="1223"/>
                    </a:lnTo>
                    <a:lnTo>
                      <a:pt x="178" y="1103"/>
                    </a:lnTo>
                    <a:lnTo>
                      <a:pt x="205" y="981"/>
                    </a:lnTo>
                    <a:lnTo>
                      <a:pt x="235" y="855"/>
                    </a:lnTo>
                    <a:lnTo>
                      <a:pt x="268" y="730"/>
                    </a:lnTo>
                    <a:lnTo>
                      <a:pt x="302" y="602"/>
                    </a:lnTo>
                    <a:lnTo>
                      <a:pt x="338" y="473"/>
                    </a:lnTo>
                    <a:lnTo>
                      <a:pt x="358" y="409"/>
                    </a:lnTo>
                    <a:lnTo>
                      <a:pt x="377" y="347"/>
                    </a:lnTo>
                    <a:lnTo>
                      <a:pt x="398" y="283"/>
                    </a:lnTo>
                    <a:lnTo>
                      <a:pt x="418" y="220"/>
                    </a:lnTo>
                    <a:lnTo>
                      <a:pt x="440" y="157"/>
                    </a:lnTo>
                    <a:lnTo>
                      <a:pt x="461" y="94"/>
                    </a:lnTo>
                    <a:lnTo>
                      <a:pt x="484" y="33"/>
                    </a:lnTo>
                    <a:lnTo>
                      <a:pt x="497" y="0"/>
                    </a:lnTo>
                    <a:lnTo>
                      <a:pt x="385" y="0"/>
                    </a:lnTo>
                    <a:lnTo>
                      <a:pt x="379" y="13"/>
                    </a:lnTo>
                    <a:lnTo>
                      <a:pt x="358" y="75"/>
                    </a:lnTo>
                    <a:lnTo>
                      <a:pt x="336" y="138"/>
                    </a:lnTo>
                    <a:lnTo>
                      <a:pt x="316" y="202"/>
                    </a:lnTo>
                    <a:lnTo>
                      <a:pt x="295" y="266"/>
                    </a:lnTo>
                    <a:lnTo>
                      <a:pt x="276" y="328"/>
                    </a:lnTo>
                    <a:lnTo>
                      <a:pt x="256" y="392"/>
                    </a:lnTo>
                    <a:lnTo>
                      <a:pt x="220" y="521"/>
                    </a:lnTo>
                    <a:lnTo>
                      <a:pt x="186" y="649"/>
                    </a:lnTo>
                    <a:lnTo>
                      <a:pt x="153" y="776"/>
                    </a:lnTo>
                    <a:lnTo>
                      <a:pt x="123" y="900"/>
                    </a:lnTo>
                    <a:lnTo>
                      <a:pt x="96" y="1022"/>
                    </a:lnTo>
                    <a:lnTo>
                      <a:pt x="70" y="1142"/>
                    </a:lnTo>
                    <a:lnTo>
                      <a:pt x="49" y="1257"/>
                    </a:lnTo>
                    <a:lnTo>
                      <a:pt x="28" y="1369"/>
                    </a:lnTo>
                    <a:lnTo>
                      <a:pt x="11" y="1475"/>
                    </a:lnTo>
                    <a:lnTo>
                      <a:pt x="0" y="1551"/>
                    </a:lnTo>
                    <a:lnTo>
                      <a:pt x="12" y="1550"/>
                    </a:lnTo>
                    <a:lnTo>
                      <a:pt x="25" y="1548"/>
                    </a:lnTo>
                    <a:lnTo>
                      <a:pt x="36" y="1547"/>
                    </a:lnTo>
                    <a:lnTo>
                      <a:pt x="49" y="1545"/>
                    </a:lnTo>
                    <a:lnTo>
                      <a:pt x="60" y="1543"/>
                    </a:lnTo>
                    <a:lnTo>
                      <a:pt x="73" y="1542"/>
                    </a:lnTo>
                    <a:lnTo>
                      <a:pt x="84" y="1540"/>
                    </a:lnTo>
                    <a:lnTo>
                      <a:pt x="97" y="15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3086280" y="3075120"/>
                <a:ext cx="155520" cy="487080"/>
              </a:xfrm>
              <a:custGeom>
                <a:avLst/>
                <a:gdLst/>
                <a:ahLst/>
                <a:rect l="l" t="t" r="r" b="b"/>
                <a:pathLst>
                  <a:path w="493" h="1537">
                    <a:moveTo>
                      <a:pt x="388" y="0"/>
                    </a:moveTo>
                    <a:lnTo>
                      <a:pt x="363" y="86"/>
                    </a:lnTo>
                    <a:lnTo>
                      <a:pt x="325" y="222"/>
                    </a:lnTo>
                    <a:lnTo>
                      <a:pt x="287" y="361"/>
                    </a:lnTo>
                    <a:lnTo>
                      <a:pt x="251" y="502"/>
                    </a:lnTo>
                    <a:lnTo>
                      <a:pt x="214" y="643"/>
                    </a:lnTo>
                    <a:lnTo>
                      <a:pt x="179" y="785"/>
                    </a:lnTo>
                    <a:lnTo>
                      <a:pt x="144" y="925"/>
                    </a:lnTo>
                    <a:lnTo>
                      <a:pt x="111" y="1062"/>
                    </a:lnTo>
                    <a:lnTo>
                      <a:pt x="79" y="1195"/>
                    </a:lnTo>
                    <a:lnTo>
                      <a:pt x="48" y="1323"/>
                    </a:lnTo>
                    <a:lnTo>
                      <a:pt x="21" y="1446"/>
                    </a:lnTo>
                    <a:lnTo>
                      <a:pt x="0" y="1537"/>
                    </a:lnTo>
                    <a:lnTo>
                      <a:pt x="13" y="1535"/>
                    </a:lnTo>
                    <a:lnTo>
                      <a:pt x="25" y="1533"/>
                    </a:lnTo>
                    <a:lnTo>
                      <a:pt x="39" y="1532"/>
                    </a:lnTo>
                    <a:lnTo>
                      <a:pt x="51" y="1530"/>
                    </a:lnTo>
                    <a:lnTo>
                      <a:pt x="64" y="1529"/>
                    </a:lnTo>
                    <a:lnTo>
                      <a:pt x="78" y="1527"/>
                    </a:lnTo>
                    <a:lnTo>
                      <a:pt x="90" y="1525"/>
                    </a:lnTo>
                    <a:lnTo>
                      <a:pt x="103" y="1524"/>
                    </a:lnTo>
                    <a:lnTo>
                      <a:pt x="131" y="1404"/>
                    </a:lnTo>
                    <a:lnTo>
                      <a:pt x="161" y="1275"/>
                    </a:lnTo>
                    <a:lnTo>
                      <a:pt x="193" y="1143"/>
                    </a:lnTo>
                    <a:lnTo>
                      <a:pt x="226" y="1005"/>
                    </a:lnTo>
                    <a:lnTo>
                      <a:pt x="261" y="866"/>
                    </a:lnTo>
                    <a:lnTo>
                      <a:pt x="296" y="724"/>
                    </a:lnTo>
                    <a:lnTo>
                      <a:pt x="333" y="583"/>
                    </a:lnTo>
                    <a:lnTo>
                      <a:pt x="371" y="442"/>
                    </a:lnTo>
                    <a:lnTo>
                      <a:pt x="407" y="303"/>
                    </a:lnTo>
                    <a:lnTo>
                      <a:pt x="445" y="167"/>
                    </a:lnTo>
                    <a:lnTo>
                      <a:pt x="482" y="35"/>
                    </a:lnTo>
                    <a:lnTo>
                      <a:pt x="493" y="0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732040" y="3075120"/>
                <a:ext cx="154080" cy="527040"/>
              </a:xfrm>
              <a:custGeom>
                <a:avLst/>
                <a:gdLst/>
                <a:ahLst/>
                <a:rect l="l" t="t" r="r" b="b"/>
                <a:pathLst>
                  <a:path w="484" h="1660">
                    <a:moveTo>
                      <a:pt x="358" y="0"/>
                    </a:moveTo>
                    <a:lnTo>
                      <a:pt x="325" y="105"/>
                    </a:lnTo>
                    <a:lnTo>
                      <a:pt x="294" y="212"/>
                    </a:lnTo>
                    <a:lnTo>
                      <a:pt x="264" y="319"/>
                    </a:lnTo>
                    <a:lnTo>
                      <a:pt x="235" y="426"/>
                    </a:lnTo>
                    <a:lnTo>
                      <a:pt x="208" y="535"/>
                    </a:lnTo>
                    <a:lnTo>
                      <a:pt x="183" y="643"/>
                    </a:lnTo>
                    <a:lnTo>
                      <a:pt x="158" y="752"/>
                    </a:lnTo>
                    <a:lnTo>
                      <a:pt x="135" y="859"/>
                    </a:lnTo>
                    <a:lnTo>
                      <a:pt x="113" y="965"/>
                    </a:lnTo>
                    <a:lnTo>
                      <a:pt x="93" y="1071"/>
                    </a:lnTo>
                    <a:lnTo>
                      <a:pt x="73" y="1175"/>
                    </a:lnTo>
                    <a:lnTo>
                      <a:pt x="56" y="1276"/>
                    </a:lnTo>
                    <a:lnTo>
                      <a:pt x="40" y="1376"/>
                    </a:lnTo>
                    <a:lnTo>
                      <a:pt x="25" y="1474"/>
                    </a:lnTo>
                    <a:lnTo>
                      <a:pt x="12" y="1567"/>
                    </a:lnTo>
                    <a:lnTo>
                      <a:pt x="0" y="1660"/>
                    </a:lnTo>
                    <a:lnTo>
                      <a:pt x="17" y="1659"/>
                    </a:lnTo>
                    <a:lnTo>
                      <a:pt x="36" y="1657"/>
                    </a:lnTo>
                    <a:lnTo>
                      <a:pt x="53" y="1657"/>
                    </a:lnTo>
                    <a:lnTo>
                      <a:pt x="70" y="1656"/>
                    </a:lnTo>
                    <a:lnTo>
                      <a:pt x="87" y="1655"/>
                    </a:lnTo>
                    <a:lnTo>
                      <a:pt x="104" y="1654"/>
                    </a:lnTo>
                    <a:lnTo>
                      <a:pt x="121" y="1653"/>
                    </a:lnTo>
                    <a:lnTo>
                      <a:pt x="138" y="1652"/>
                    </a:lnTo>
                    <a:lnTo>
                      <a:pt x="175" y="1461"/>
                    </a:lnTo>
                    <a:lnTo>
                      <a:pt x="213" y="1260"/>
                    </a:lnTo>
                    <a:lnTo>
                      <a:pt x="254" y="1053"/>
                    </a:lnTo>
                    <a:lnTo>
                      <a:pt x="298" y="839"/>
                    </a:lnTo>
                    <a:lnTo>
                      <a:pt x="343" y="625"/>
                    </a:lnTo>
                    <a:lnTo>
                      <a:pt x="389" y="412"/>
                    </a:lnTo>
                    <a:lnTo>
                      <a:pt x="437" y="202"/>
                    </a:lnTo>
                    <a:lnTo>
                      <a:pt x="484" y="0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717640" y="3075120"/>
                <a:ext cx="144720" cy="527040"/>
              </a:xfrm>
              <a:custGeom>
                <a:avLst/>
                <a:gdLst/>
                <a:ahLst/>
                <a:rect l="l" t="t" r="r" b="b"/>
                <a:pathLst>
                  <a:path w="457" h="1661">
                    <a:moveTo>
                      <a:pt x="92" y="1657"/>
                    </a:moveTo>
                    <a:lnTo>
                      <a:pt x="107" y="1540"/>
                    </a:lnTo>
                    <a:lnTo>
                      <a:pt x="127" y="1409"/>
                    </a:lnTo>
                    <a:lnTo>
                      <a:pt x="149" y="1273"/>
                    </a:lnTo>
                    <a:lnTo>
                      <a:pt x="174" y="1134"/>
                    </a:lnTo>
                    <a:lnTo>
                      <a:pt x="201" y="991"/>
                    </a:lnTo>
                    <a:lnTo>
                      <a:pt x="232" y="846"/>
                    </a:lnTo>
                    <a:lnTo>
                      <a:pt x="248" y="773"/>
                    </a:lnTo>
                    <a:lnTo>
                      <a:pt x="264" y="700"/>
                    </a:lnTo>
                    <a:lnTo>
                      <a:pt x="281" y="627"/>
                    </a:lnTo>
                    <a:lnTo>
                      <a:pt x="299" y="553"/>
                    </a:lnTo>
                    <a:lnTo>
                      <a:pt x="318" y="480"/>
                    </a:lnTo>
                    <a:lnTo>
                      <a:pt x="337" y="407"/>
                    </a:lnTo>
                    <a:lnTo>
                      <a:pt x="358" y="334"/>
                    </a:lnTo>
                    <a:lnTo>
                      <a:pt x="377" y="261"/>
                    </a:lnTo>
                    <a:lnTo>
                      <a:pt x="399" y="189"/>
                    </a:lnTo>
                    <a:lnTo>
                      <a:pt x="420" y="117"/>
                    </a:lnTo>
                    <a:lnTo>
                      <a:pt x="442" y="47"/>
                    </a:lnTo>
                    <a:lnTo>
                      <a:pt x="457" y="0"/>
                    </a:lnTo>
                    <a:lnTo>
                      <a:pt x="350" y="0"/>
                    </a:lnTo>
                    <a:lnTo>
                      <a:pt x="338" y="36"/>
                    </a:lnTo>
                    <a:lnTo>
                      <a:pt x="317" y="108"/>
                    </a:lnTo>
                    <a:lnTo>
                      <a:pt x="295" y="180"/>
                    </a:lnTo>
                    <a:lnTo>
                      <a:pt x="274" y="253"/>
                    </a:lnTo>
                    <a:lnTo>
                      <a:pt x="255" y="326"/>
                    </a:lnTo>
                    <a:lnTo>
                      <a:pt x="236" y="399"/>
                    </a:lnTo>
                    <a:lnTo>
                      <a:pt x="217" y="472"/>
                    </a:lnTo>
                    <a:lnTo>
                      <a:pt x="199" y="546"/>
                    </a:lnTo>
                    <a:lnTo>
                      <a:pt x="182" y="619"/>
                    </a:lnTo>
                    <a:lnTo>
                      <a:pt x="166" y="692"/>
                    </a:lnTo>
                    <a:lnTo>
                      <a:pt x="150" y="765"/>
                    </a:lnTo>
                    <a:lnTo>
                      <a:pt x="119" y="910"/>
                    </a:lnTo>
                    <a:lnTo>
                      <a:pt x="92" y="1053"/>
                    </a:lnTo>
                    <a:lnTo>
                      <a:pt x="67" y="1192"/>
                    </a:lnTo>
                    <a:lnTo>
                      <a:pt x="44" y="1329"/>
                    </a:lnTo>
                    <a:lnTo>
                      <a:pt x="25" y="1460"/>
                    </a:lnTo>
                    <a:lnTo>
                      <a:pt x="8" y="1587"/>
                    </a:lnTo>
                    <a:lnTo>
                      <a:pt x="0" y="1661"/>
                    </a:lnTo>
                    <a:lnTo>
                      <a:pt x="11" y="1661"/>
                    </a:lnTo>
                    <a:lnTo>
                      <a:pt x="22" y="1660"/>
                    </a:lnTo>
                    <a:lnTo>
                      <a:pt x="34" y="1660"/>
                    </a:lnTo>
                    <a:lnTo>
                      <a:pt x="45" y="1660"/>
                    </a:lnTo>
                    <a:lnTo>
                      <a:pt x="57" y="1659"/>
                    </a:lnTo>
                    <a:lnTo>
                      <a:pt x="68" y="1659"/>
                    </a:lnTo>
                    <a:lnTo>
                      <a:pt x="81" y="1657"/>
                    </a:lnTo>
                    <a:lnTo>
                      <a:pt x="92" y="165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760840" y="3075120"/>
                <a:ext cx="141120" cy="525240"/>
              </a:xfrm>
              <a:custGeom>
                <a:avLst/>
                <a:gdLst/>
                <a:ahLst/>
                <a:rect l="l" t="t" r="r" b="b"/>
                <a:pathLst>
                  <a:path w="446" h="1655">
                    <a:moveTo>
                      <a:pt x="344" y="0"/>
                    </a:moveTo>
                    <a:lnTo>
                      <a:pt x="318" y="108"/>
                    </a:lnTo>
                    <a:lnTo>
                      <a:pt x="283" y="263"/>
                    </a:lnTo>
                    <a:lnTo>
                      <a:pt x="248" y="423"/>
                    </a:lnTo>
                    <a:lnTo>
                      <a:pt x="213" y="584"/>
                    </a:lnTo>
                    <a:lnTo>
                      <a:pt x="179" y="746"/>
                    </a:lnTo>
                    <a:lnTo>
                      <a:pt x="145" y="907"/>
                    </a:lnTo>
                    <a:lnTo>
                      <a:pt x="113" y="1067"/>
                    </a:lnTo>
                    <a:lnTo>
                      <a:pt x="82" y="1223"/>
                    </a:lnTo>
                    <a:lnTo>
                      <a:pt x="53" y="1376"/>
                    </a:lnTo>
                    <a:lnTo>
                      <a:pt x="25" y="1522"/>
                    </a:lnTo>
                    <a:lnTo>
                      <a:pt x="0" y="1655"/>
                    </a:lnTo>
                    <a:lnTo>
                      <a:pt x="13" y="1654"/>
                    </a:lnTo>
                    <a:lnTo>
                      <a:pt x="25" y="1654"/>
                    </a:lnTo>
                    <a:lnTo>
                      <a:pt x="37" y="1653"/>
                    </a:lnTo>
                    <a:lnTo>
                      <a:pt x="49" y="1652"/>
                    </a:lnTo>
                    <a:lnTo>
                      <a:pt x="62" y="1652"/>
                    </a:lnTo>
                    <a:lnTo>
                      <a:pt x="74" y="1651"/>
                    </a:lnTo>
                    <a:lnTo>
                      <a:pt x="87" y="1650"/>
                    </a:lnTo>
                    <a:lnTo>
                      <a:pt x="98" y="1648"/>
                    </a:lnTo>
                    <a:lnTo>
                      <a:pt x="107" y="1603"/>
                    </a:lnTo>
                    <a:lnTo>
                      <a:pt x="135" y="1457"/>
                    </a:lnTo>
                    <a:lnTo>
                      <a:pt x="164" y="1304"/>
                    </a:lnTo>
                    <a:lnTo>
                      <a:pt x="195" y="1148"/>
                    </a:lnTo>
                    <a:lnTo>
                      <a:pt x="228" y="988"/>
                    </a:lnTo>
                    <a:lnTo>
                      <a:pt x="261" y="827"/>
                    </a:lnTo>
                    <a:lnTo>
                      <a:pt x="295" y="665"/>
                    </a:lnTo>
                    <a:lnTo>
                      <a:pt x="330" y="504"/>
                    </a:lnTo>
                    <a:lnTo>
                      <a:pt x="365" y="344"/>
                    </a:lnTo>
                    <a:lnTo>
                      <a:pt x="401" y="188"/>
                    </a:lnTo>
                    <a:lnTo>
                      <a:pt x="437" y="37"/>
                    </a:lnTo>
                    <a:lnTo>
                      <a:pt x="446" y="0"/>
                    </a:lnTo>
                    <a:lnTo>
                      <a:pt x="344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4984920" y="3075120"/>
                <a:ext cx="212400" cy="479160"/>
              </a:xfrm>
              <a:custGeom>
                <a:avLst/>
                <a:gdLst/>
                <a:ahLst/>
                <a:rect l="l" t="t" r="r" b="b"/>
                <a:pathLst>
                  <a:path w="669" h="1511">
                    <a:moveTo>
                      <a:pt x="548" y="0"/>
                    </a:moveTo>
                    <a:lnTo>
                      <a:pt x="499" y="97"/>
                    </a:lnTo>
                    <a:lnTo>
                      <a:pt x="452" y="196"/>
                    </a:lnTo>
                    <a:lnTo>
                      <a:pt x="407" y="296"/>
                    </a:lnTo>
                    <a:lnTo>
                      <a:pt x="363" y="397"/>
                    </a:lnTo>
                    <a:lnTo>
                      <a:pt x="321" y="498"/>
                    </a:lnTo>
                    <a:lnTo>
                      <a:pt x="281" y="600"/>
                    </a:lnTo>
                    <a:lnTo>
                      <a:pt x="242" y="700"/>
                    </a:lnTo>
                    <a:lnTo>
                      <a:pt x="206" y="800"/>
                    </a:lnTo>
                    <a:lnTo>
                      <a:pt x="172" y="899"/>
                    </a:lnTo>
                    <a:lnTo>
                      <a:pt x="140" y="995"/>
                    </a:lnTo>
                    <a:lnTo>
                      <a:pt x="110" y="1088"/>
                    </a:lnTo>
                    <a:lnTo>
                      <a:pt x="83" y="1178"/>
                    </a:lnTo>
                    <a:lnTo>
                      <a:pt x="58" y="1266"/>
                    </a:lnTo>
                    <a:lnTo>
                      <a:pt x="36" y="1349"/>
                    </a:lnTo>
                    <a:lnTo>
                      <a:pt x="17" y="1428"/>
                    </a:lnTo>
                    <a:lnTo>
                      <a:pt x="0" y="1502"/>
                    </a:lnTo>
                    <a:lnTo>
                      <a:pt x="11" y="1503"/>
                    </a:lnTo>
                    <a:lnTo>
                      <a:pt x="24" y="1505"/>
                    </a:lnTo>
                    <a:lnTo>
                      <a:pt x="35" y="1507"/>
                    </a:lnTo>
                    <a:lnTo>
                      <a:pt x="46" y="1507"/>
                    </a:lnTo>
                    <a:lnTo>
                      <a:pt x="59" y="1509"/>
                    </a:lnTo>
                    <a:lnTo>
                      <a:pt x="70" y="1510"/>
                    </a:lnTo>
                    <a:lnTo>
                      <a:pt x="83" y="1510"/>
                    </a:lnTo>
                    <a:lnTo>
                      <a:pt x="94" y="1511"/>
                    </a:lnTo>
                    <a:lnTo>
                      <a:pt x="148" y="1356"/>
                    </a:lnTo>
                    <a:lnTo>
                      <a:pt x="211" y="1182"/>
                    </a:lnTo>
                    <a:lnTo>
                      <a:pt x="279" y="993"/>
                    </a:lnTo>
                    <a:lnTo>
                      <a:pt x="353" y="796"/>
                    </a:lnTo>
                    <a:lnTo>
                      <a:pt x="429" y="594"/>
                    </a:lnTo>
                    <a:lnTo>
                      <a:pt x="509" y="391"/>
                    </a:lnTo>
                    <a:lnTo>
                      <a:pt x="549" y="291"/>
                    </a:lnTo>
                    <a:lnTo>
                      <a:pt x="589" y="191"/>
                    </a:lnTo>
                    <a:lnTo>
                      <a:pt x="629" y="94"/>
                    </a:lnTo>
                    <a:lnTo>
                      <a:pt x="669" y="0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4968720" y="3075120"/>
                <a:ext cx="209880" cy="479160"/>
              </a:xfrm>
              <a:custGeom>
                <a:avLst/>
                <a:gdLst/>
                <a:ahLst/>
                <a:rect l="l" t="t" r="r" b="b"/>
                <a:pathLst>
                  <a:path w="658" h="1508">
                    <a:moveTo>
                      <a:pt x="97" y="1508"/>
                    </a:moveTo>
                    <a:lnTo>
                      <a:pt x="98" y="1501"/>
                    </a:lnTo>
                    <a:lnTo>
                      <a:pt x="118" y="1417"/>
                    </a:lnTo>
                    <a:lnTo>
                      <a:pt x="142" y="1328"/>
                    </a:lnTo>
                    <a:lnTo>
                      <a:pt x="168" y="1233"/>
                    </a:lnTo>
                    <a:lnTo>
                      <a:pt x="198" y="1134"/>
                    </a:lnTo>
                    <a:lnTo>
                      <a:pt x="230" y="1032"/>
                    </a:lnTo>
                    <a:lnTo>
                      <a:pt x="265" y="927"/>
                    </a:lnTo>
                    <a:lnTo>
                      <a:pt x="303" y="819"/>
                    </a:lnTo>
                    <a:lnTo>
                      <a:pt x="343" y="711"/>
                    </a:lnTo>
                    <a:lnTo>
                      <a:pt x="385" y="600"/>
                    </a:lnTo>
                    <a:lnTo>
                      <a:pt x="431" y="489"/>
                    </a:lnTo>
                    <a:lnTo>
                      <a:pt x="477" y="380"/>
                    </a:lnTo>
                    <a:lnTo>
                      <a:pt x="501" y="324"/>
                    </a:lnTo>
                    <a:lnTo>
                      <a:pt x="526" y="269"/>
                    </a:lnTo>
                    <a:lnTo>
                      <a:pt x="551" y="215"/>
                    </a:lnTo>
                    <a:lnTo>
                      <a:pt x="577" y="162"/>
                    </a:lnTo>
                    <a:lnTo>
                      <a:pt x="603" y="108"/>
                    </a:lnTo>
                    <a:lnTo>
                      <a:pt x="629" y="56"/>
                    </a:lnTo>
                    <a:lnTo>
                      <a:pt x="656" y="3"/>
                    </a:lnTo>
                    <a:lnTo>
                      <a:pt x="658" y="0"/>
                    </a:lnTo>
                    <a:lnTo>
                      <a:pt x="534" y="0"/>
                    </a:lnTo>
                    <a:lnTo>
                      <a:pt x="521" y="27"/>
                    </a:lnTo>
                    <a:lnTo>
                      <a:pt x="494" y="80"/>
                    </a:lnTo>
                    <a:lnTo>
                      <a:pt x="469" y="134"/>
                    </a:lnTo>
                    <a:lnTo>
                      <a:pt x="444" y="188"/>
                    </a:lnTo>
                    <a:lnTo>
                      <a:pt x="419" y="243"/>
                    </a:lnTo>
                    <a:lnTo>
                      <a:pt x="395" y="298"/>
                    </a:lnTo>
                    <a:lnTo>
                      <a:pt x="349" y="408"/>
                    </a:lnTo>
                    <a:lnTo>
                      <a:pt x="303" y="519"/>
                    </a:lnTo>
                    <a:lnTo>
                      <a:pt x="261" y="630"/>
                    </a:lnTo>
                    <a:lnTo>
                      <a:pt x="221" y="738"/>
                    </a:lnTo>
                    <a:lnTo>
                      <a:pt x="183" y="846"/>
                    </a:lnTo>
                    <a:lnTo>
                      <a:pt x="148" y="951"/>
                    </a:lnTo>
                    <a:lnTo>
                      <a:pt x="116" y="1053"/>
                    </a:lnTo>
                    <a:lnTo>
                      <a:pt x="86" y="1152"/>
                    </a:lnTo>
                    <a:lnTo>
                      <a:pt x="60" y="1247"/>
                    </a:lnTo>
                    <a:lnTo>
                      <a:pt x="36" y="1336"/>
                    </a:lnTo>
                    <a:lnTo>
                      <a:pt x="16" y="1420"/>
                    </a:lnTo>
                    <a:lnTo>
                      <a:pt x="0" y="1493"/>
                    </a:lnTo>
                    <a:lnTo>
                      <a:pt x="2" y="1494"/>
                    </a:lnTo>
                    <a:lnTo>
                      <a:pt x="4" y="1494"/>
                    </a:lnTo>
                    <a:lnTo>
                      <a:pt x="7" y="1495"/>
                    </a:lnTo>
                    <a:lnTo>
                      <a:pt x="9" y="1497"/>
                    </a:lnTo>
                    <a:lnTo>
                      <a:pt x="11" y="1497"/>
                    </a:lnTo>
                    <a:lnTo>
                      <a:pt x="13" y="1498"/>
                    </a:lnTo>
                    <a:lnTo>
                      <a:pt x="16" y="1499"/>
                    </a:lnTo>
                    <a:lnTo>
                      <a:pt x="18" y="1499"/>
                    </a:lnTo>
                    <a:lnTo>
                      <a:pt x="28" y="1500"/>
                    </a:lnTo>
                    <a:lnTo>
                      <a:pt x="37" y="1501"/>
                    </a:lnTo>
                    <a:lnTo>
                      <a:pt x="48" y="1502"/>
                    </a:lnTo>
                    <a:lnTo>
                      <a:pt x="58" y="1503"/>
                    </a:lnTo>
                    <a:lnTo>
                      <a:pt x="67" y="1505"/>
                    </a:lnTo>
                    <a:lnTo>
                      <a:pt x="77" y="1506"/>
                    </a:lnTo>
                    <a:lnTo>
                      <a:pt x="86" y="1507"/>
                    </a:lnTo>
                    <a:lnTo>
                      <a:pt x="97" y="150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4997520" y="3075120"/>
                <a:ext cx="217440" cy="480960"/>
              </a:xfrm>
              <a:custGeom>
                <a:avLst/>
                <a:gdLst/>
                <a:ahLst/>
                <a:rect l="l" t="t" r="r" b="b"/>
                <a:pathLst>
                  <a:path w="685" h="1516">
                    <a:moveTo>
                      <a:pt x="569" y="0"/>
                    </a:moveTo>
                    <a:lnTo>
                      <a:pt x="541" y="65"/>
                    </a:lnTo>
                    <a:lnTo>
                      <a:pt x="493" y="182"/>
                    </a:lnTo>
                    <a:lnTo>
                      <a:pt x="444" y="303"/>
                    </a:lnTo>
                    <a:lnTo>
                      <a:pt x="397" y="425"/>
                    </a:lnTo>
                    <a:lnTo>
                      <a:pt x="349" y="549"/>
                    </a:lnTo>
                    <a:lnTo>
                      <a:pt x="302" y="671"/>
                    </a:lnTo>
                    <a:lnTo>
                      <a:pt x="255" y="793"/>
                    </a:lnTo>
                    <a:lnTo>
                      <a:pt x="211" y="912"/>
                    </a:lnTo>
                    <a:lnTo>
                      <a:pt x="169" y="1029"/>
                    </a:lnTo>
                    <a:lnTo>
                      <a:pt x="89" y="1248"/>
                    </a:lnTo>
                    <a:lnTo>
                      <a:pt x="20" y="1444"/>
                    </a:lnTo>
                    <a:lnTo>
                      <a:pt x="0" y="1507"/>
                    </a:lnTo>
                    <a:lnTo>
                      <a:pt x="12" y="1508"/>
                    </a:lnTo>
                    <a:lnTo>
                      <a:pt x="26" y="1509"/>
                    </a:lnTo>
                    <a:lnTo>
                      <a:pt x="39" y="1510"/>
                    </a:lnTo>
                    <a:lnTo>
                      <a:pt x="52" y="1511"/>
                    </a:lnTo>
                    <a:lnTo>
                      <a:pt x="66" y="1513"/>
                    </a:lnTo>
                    <a:lnTo>
                      <a:pt x="80" y="1514"/>
                    </a:lnTo>
                    <a:lnTo>
                      <a:pt x="92" y="1515"/>
                    </a:lnTo>
                    <a:lnTo>
                      <a:pt x="106" y="1516"/>
                    </a:lnTo>
                    <a:lnTo>
                      <a:pt x="171" y="1329"/>
                    </a:lnTo>
                    <a:lnTo>
                      <a:pt x="251" y="1110"/>
                    </a:lnTo>
                    <a:lnTo>
                      <a:pt x="293" y="993"/>
                    </a:lnTo>
                    <a:lnTo>
                      <a:pt x="337" y="874"/>
                    </a:lnTo>
                    <a:lnTo>
                      <a:pt x="384" y="753"/>
                    </a:lnTo>
                    <a:lnTo>
                      <a:pt x="431" y="630"/>
                    </a:lnTo>
                    <a:lnTo>
                      <a:pt x="479" y="506"/>
                    </a:lnTo>
                    <a:lnTo>
                      <a:pt x="526" y="384"/>
                    </a:lnTo>
                    <a:lnTo>
                      <a:pt x="575" y="263"/>
                    </a:lnTo>
                    <a:lnTo>
                      <a:pt x="623" y="146"/>
                    </a:lnTo>
                    <a:lnTo>
                      <a:pt x="671" y="32"/>
                    </a:lnTo>
                    <a:lnTo>
                      <a:pt x="685" y="0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5508720" y="3075120"/>
                <a:ext cx="215640" cy="473040"/>
              </a:xfrm>
              <a:custGeom>
                <a:avLst/>
                <a:gdLst/>
                <a:ahLst/>
                <a:rect l="l" t="t" r="r" b="b"/>
                <a:pathLst>
                  <a:path w="679" h="1492">
                    <a:moveTo>
                      <a:pt x="562" y="0"/>
                    </a:moveTo>
                    <a:lnTo>
                      <a:pt x="514" y="93"/>
                    </a:lnTo>
                    <a:lnTo>
                      <a:pt x="467" y="189"/>
                    </a:lnTo>
                    <a:lnTo>
                      <a:pt x="421" y="287"/>
                    </a:lnTo>
                    <a:lnTo>
                      <a:pt x="378" y="385"/>
                    </a:lnTo>
                    <a:lnTo>
                      <a:pt x="335" y="485"/>
                    </a:lnTo>
                    <a:lnTo>
                      <a:pt x="294" y="584"/>
                    </a:lnTo>
                    <a:lnTo>
                      <a:pt x="256" y="683"/>
                    </a:lnTo>
                    <a:lnTo>
                      <a:pt x="218" y="782"/>
                    </a:lnTo>
                    <a:lnTo>
                      <a:pt x="184" y="879"/>
                    </a:lnTo>
                    <a:lnTo>
                      <a:pt x="151" y="975"/>
                    </a:lnTo>
                    <a:lnTo>
                      <a:pt x="120" y="1069"/>
                    </a:lnTo>
                    <a:lnTo>
                      <a:pt x="90" y="1160"/>
                    </a:lnTo>
                    <a:lnTo>
                      <a:pt x="64" y="1249"/>
                    </a:lnTo>
                    <a:lnTo>
                      <a:pt x="40" y="1333"/>
                    </a:lnTo>
                    <a:lnTo>
                      <a:pt x="19" y="1416"/>
                    </a:lnTo>
                    <a:lnTo>
                      <a:pt x="0" y="1492"/>
                    </a:lnTo>
                    <a:lnTo>
                      <a:pt x="14" y="1491"/>
                    </a:lnTo>
                    <a:lnTo>
                      <a:pt x="28" y="1490"/>
                    </a:lnTo>
                    <a:lnTo>
                      <a:pt x="41" y="1490"/>
                    </a:lnTo>
                    <a:lnTo>
                      <a:pt x="54" y="1489"/>
                    </a:lnTo>
                    <a:lnTo>
                      <a:pt x="68" y="1487"/>
                    </a:lnTo>
                    <a:lnTo>
                      <a:pt x="81" y="1486"/>
                    </a:lnTo>
                    <a:lnTo>
                      <a:pt x="95" y="1485"/>
                    </a:lnTo>
                    <a:lnTo>
                      <a:pt x="109" y="1484"/>
                    </a:lnTo>
                    <a:lnTo>
                      <a:pt x="164" y="1323"/>
                    </a:lnTo>
                    <a:lnTo>
                      <a:pt x="228" y="1148"/>
                    </a:lnTo>
                    <a:lnTo>
                      <a:pt x="298" y="960"/>
                    </a:lnTo>
                    <a:lnTo>
                      <a:pt x="371" y="766"/>
                    </a:lnTo>
                    <a:lnTo>
                      <a:pt x="446" y="569"/>
                    </a:lnTo>
                    <a:lnTo>
                      <a:pt x="524" y="373"/>
                    </a:lnTo>
                    <a:lnTo>
                      <a:pt x="562" y="277"/>
                    </a:lnTo>
                    <a:lnTo>
                      <a:pt x="601" y="182"/>
                    </a:lnTo>
                    <a:lnTo>
                      <a:pt x="640" y="90"/>
                    </a:lnTo>
                    <a:lnTo>
                      <a:pt x="679" y="0"/>
                    </a:lnTo>
                    <a:lnTo>
                      <a:pt x="56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5492880" y="3075120"/>
                <a:ext cx="214200" cy="474480"/>
              </a:xfrm>
              <a:custGeom>
                <a:avLst/>
                <a:gdLst/>
                <a:ahLst/>
                <a:rect l="l" t="t" r="r" b="b"/>
                <a:pathLst>
                  <a:path w="676" h="1495">
                    <a:moveTo>
                      <a:pt x="103" y="1489"/>
                    </a:moveTo>
                    <a:lnTo>
                      <a:pt x="107" y="1473"/>
                    </a:lnTo>
                    <a:lnTo>
                      <a:pt x="130" y="1383"/>
                    </a:lnTo>
                    <a:lnTo>
                      <a:pt x="157" y="1288"/>
                    </a:lnTo>
                    <a:lnTo>
                      <a:pt x="187" y="1190"/>
                    </a:lnTo>
                    <a:lnTo>
                      <a:pt x="219" y="1087"/>
                    </a:lnTo>
                    <a:lnTo>
                      <a:pt x="254" y="982"/>
                    </a:lnTo>
                    <a:lnTo>
                      <a:pt x="292" y="875"/>
                    </a:lnTo>
                    <a:lnTo>
                      <a:pt x="332" y="766"/>
                    </a:lnTo>
                    <a:lnTo>
                      <a:pt x="374" y="656"/>
                    </a:lnTo>
                    <a:lnTo>
                      <a:pt x="418" y="545"/>
                    </a:lnTo>
                    <a:lnTo>
                      <a:pt x="465" y="434"/>
                    </a:lnTo>
                    <a:lnTo>
                      <a:pt x="490" y="380"/>
                    </a:lnTo>
                    <a:lnTo>
                      <a:pt x="514" y="325"/>
                    </a:lnTo>
                    <a:lnTo>
                      <a:pt x="539" y="271"/>
                    </a:lnTo>
                    <a:lnTo>
                      <a:pt x="565" y="217"/>
                    </a:lnTo>
                    <a:lnTo>
                      <a:pt x="592" y="164"/>
                    </a:lnTo>
                    <a:lnTo>
                      <a:pt x="618" y="110"/>
                    </a:lnTo>
                    <a:lnTo>
                      <a:pt x="645" y="59"/>
                    </a:lnTo>
                    <a:lnTo>
                      <a:pt x="673" y="8"/>
                    </a:lnTo>
                    <a:lnTo>
                      <a:pt x="676" y="0"/>
                    </a:lnTo>
                    <a:lnTo>
                      <a:pt x="552" y="0"/>
                    </a:lnTo>
                    <a:lnTo>
                      <a:pt x="536" y="29"/>
                    </a:lnTo>
                    <a:lnTo>
                      <a:pt x="510" y="82"/>
                    </a:lnTo>
                    <a:lnTo>
                      <a:pt x="483" y="136"/>
                    </a:lnTo>
                    <a:lnTo>
                      <a:pt x="457" y="189"/>
                    </a:lnTo>
                    <a:lnTo>
                      <a:pt x="432" y="244"/>
                    </a:lnTo>
                    <a:lnTo>
                      <a:pt x="408" y="299"/>
                    </a:lnTo>
                    <a:lnTo>
                      <a:pt x="384" y="353"/>
                    </a:lnTo>
                    <a:lnTo>
                      <a:pt x="336" y="464"/>
                    </a:lnTo>
                    <a:lnTo>
                      <a:pt x="292" y="575"/>
                    </a:lnTo>
                    <a:lnTo>
                      <a:pt x="250" y="684"/>
                    </a:lnTo>
                    <a:lnTo>
                      <a:pt x="210" y="794"/>
                    </a:lnTo>
                    <a:lnTo>
                      <a:pt x="172" y="901"/>
                    </a:lnTo>
                    <a:lnTo>
                      <a:pt x="137" y="1006"/>
                    </a:lnTo>
                    <a:lnTo>
                      <a:pt x="104" y="1109"/>
                    </a:lnTo>
                    <a:lnTo>
                      <a:pt x="75" y="1207"/>
                    </a:lnTo>
                    <a:lnTo>
                      <a:pt x="48" y="1302"/>
                    </a:lnTo>
                    <a:lnTo>
                      <a:pt x="25" y="1392"/>
                    </a:lnTo>
                    <a:lnTo>
                      <a:pt x="5" y="1476"/>
                    </a:lnTo>
                    <a:lnTo>
                      <a:pt x="0" y="1495"/>
                    </a:lnTo>
                    <a:lnTo>
                      <a:pt x="13" y="1494"/>
                    </a:lnTo>
                    <a:lnTo>
                      <a:pt x="26" y="1494"/>
                    </a:lnTo>
                    <a:lnTo>
                      <a:pt x="39" y="1493"/>
                    </a:lnTo>
                    <a:lnTo>
                      <a:pt x="51" y="1492"/>
                    </a:lnTo>
                    <a:lnTo>
                      <a:pt x="65" y="1491"/>
                    </a:lnTo>
                    <a:lnTo>
                      <a:pt x="78" y="1490"/>
                    </a:lnTo>
                    <a:lnTo>
                      <a:pt x="90" y="1490"/>
                    </a:lnTo>
                    <a:lnTo>
                      <a:pt x="103" y="148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5524560" y="3075120"/>
                <a:ext cx="217440" cy="473040"/>
              </a:xfrm>
              <a:custGeom>
                <a:avLst/>
                <a:gdLst/>
                <a:ahLst/>
                <a:rect l="l" t="t" r="r" b="b"/>
                <a:pathLst>
                  <a:path w="685" h="1489">
                    <a:moveTo>
                      <a:pt x="567" y="0"/>
                    </a:moveTo>
                    <a:lnTo>
                      <a:pt x="565" y="5"/>
                    </a:lnTo>
                    <a:lnTo>
                      <a:pt x="517" y="121"/>
                    </a:lnTo>
                    <a:lnTo>
                      <a:pt x="469" y="238"/>
                    </a:lnTo>
                    <a:lnTo>
                      <a:pt x="420" y="358"/>
                    </a:lnTo>
                    <a:lnTo>
                      <a:pt x="372" y="481"/>
                    </a:lnTo>
                    <a:lnTo>
                      <a:pt x="325" y="603"/>
                    </a:lnTo>
                    <a:lnTo>
                      <a:pt x="277" y="727"/>
                    </a:lnTo>
                    <a:lnTo>
                      <a:pt x="231" y="849"/>
                    </a:lnTo>
                    <a:lnTo>
                      <a:pt x="187" y="967"/>
                    </a:lnTo>
                    <a:lnTo>
                      <a:pt x="143" y="1084"/>
                    </a:lnTo>
                    <a:lnTo>
                      <a:pt x="65" y="1304"/>
                    </a:lnTo>
                    <a:lnTo>
                      <a:pt x="0" y="1489"/>
                    </a:lnTo>
                    <a:lnTo>
                      <a:pt x="14" y="1487"/>
                    </a:lnTo>
                    <a:lnTo>
                      <a:pt x="28" y="1486"/>
                    </a:lnTo>
                    <a:lnTo>
                      <a:pt x="43" y="1485"/>
                    </a:lnTo>
                    <a:lnTo>
                      <a:pt x="57" y="1484"/>
                    </a:lnTo>
                    <a:lnTo>
                      <a:pt x="71" y="1484"/>
                    </a:lnTo>
                    <a:lnTo>
                      <a:pt x="85" y="1483"/>
                    </a:lnTo>
                    <a:lnTo>
                      <a:pt x="99" y="1482"/>
                    </a:lnTo>
                    <a:lnTo>
                      <a:pt x="114" y="1481"/>
                    </a:lnTo>
                    <a:lnTo>
                      <a:pt x="147" y="1385"/>
                    </a:lnTo>
                    <a:lnTo>
                      <a:pt x="225" y="1166"/>
                    </a:lnTo>
                    <a:lnTo>
                      <a:pt x="269" y="1049"/>
                    </a:lnTo>
                    <a:lnTo>
                      <a:pt x="313" y="930"/>
                    </a:lnTo>
                    <a:lnTo>
                      <a:pt x="359" y="808"/>
                    </a:lnTo>
                    <a:lnTo>
                      <a:pt x="407" y="684"/>
                    </a:lnTo>
                    <a:lnTo>
                      <a:pt x="454" y="562"/>
                    </a:lnTo>
                    <a:lnTo>
                      <a:pt x="502" y="440"/>
                    </a:lnTo>
                    <a:lnTo>
                      <a:pt x="551" y="319"/>
                    </a:lnTo>
                    <a:lnTo>
                      <a:pt x="599" y="202"/>
                    </a:lnTo>
                    <a:lnTo>
                      <a:pt x="647" y="88"/>
                    </a:lnTo>
                    <a:lnTo>
                      <a:pt x="685" y="0"/>
                    </a:lnTo>
                    <a:lnTo>
                      <a:pt x="56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5983200" y="3075120"/>
                <a:ext cx="219240" cy="488880"/>
              </a:xfrm>
              <a:custGeom>
                <a:avLst/>
                <a:gdLst/>
                <a:ahLst/>
                <a:rect l="l" t="t" r="r" b="b"/>
                <a:pathLst>
                  <a:path w="689" h="1542">
                    <a:moveTo>
                      <a:pt x="574" y="0"/>
                    </a:moveTo>
                    <a:lnTo>
                      <a:pt x="548" y="48"/>
                    </a:lnTo>
                    <a:lnTo>
                      <a:pt x="523" y="97"/>
                    </a:lnTo>
                    <a:lnTo>
                      <a:pt x="498" y="147"/>
                    </a:lnTo>
                    <a:lnTo>
                      <a:pt x="474" y="196"/>
                    </a:lnTo>
                    <a:lnTo>
                      <a:pt x="428" y="298"/>
                    </a:lnTo>
                    <a:lnTo>
                      <a:pt x="382" y="399"/>
                    </a:lnTo>
                    <a:lnTo>
                      <a:pt x="338" y="503"/>
                    </a:lnTo>
                    <a:lnTo>
                      <a:pt x="297" y="606"/>
                    </a:lnTo>
                    <a:lnTo>
                      <a:pt x="257" y="708"/>
                    </a:lnTo>
                    <a:lnTo>
                      <a:pt x="218" y="810"/>
                    </a:lnTo>
                    <a:lnTo>
                      <a:pt x="183" y="911"/>
                    </a:lnTo>
                    <a:lnTo>
                      <a:pt x="148" y="1009"/>
                    </a:lnTo>
                    <a:lnTo>
                      <a:pt x="118" y="1106"/>
                    </a:lnTo>
                    <a:lnTo>
                      <a:pt x="89" y="1200"/>
                    </a:lnTo>
                    <a:lnTo>
                      <a:pt x="63" y="1290"/>
                    </a:lnTo>
                    <a:lnTo>
                      <a:pt x="39" y="1377"/>
                    </a:lnTo>
                    <a:lnTo>
                      <a:pt x="17" y="1459"/>
                    </a:lnTo>
                    <a:lnTo>
                      <a:pt x="0" y="1535"/>
                    </a:lnTo>
                    <a:lnTo>
                      <a:pt x="12" y="1537"/>
                    </a:lnTo>
                    <a:lnTo>
                      <a:pt x="24" y="1538"/>
                    </a:lnTo>
                    <a:lnTo>
                      <a:pt x="37" y="1539"/>
                    </a:lnTo>
                    <a:lnTo>
                      <a:pt x="48" y="1540"/>
                    </a:lnTo>
                    <a:lnTo>
                      <a:pt x="61" y="1540"/>
                    </a:lnTo>
                    <a:lnTo>
                      <a:pt x="73" y="1541"/>
                    </a:lnTo>
                    <a:lnTo>
                      <a:pt x="86" y="1542"/>
                    </a:lnTo>
                    <a:lnTo>
                      <a:pt x="98" y="1542"/>
                    </a:lnTo>
                    <a:lnTo>
                      <a:pt x="155" y="1380"/>
                    </a:lnTo>
                    <a:lnTo>
                      <a:pt x="220" y="1200"/>
                    </a:lnTo>
                    <a:lnTo>
                      <a:pt x="291" y="1006"/>
                    </a:lnTo>
                    <a:lnTo>
                      <a:pt x="367" y="803"/>
                    </a:lnTo>
                    <a:lnTo>
                      <a:pt x="446" y="598"/>
                    </a:lnTo>
                    <a:lnTo>
                      <a:pt x="527" y="391"/>
                    </a:lnTo>
                    <a:lnTo>
                      <a:pt x="568" y="291"/>
                    </a:lnTo>
                    <a:lnTo>
                      <a:pt x="608" y="190"/>
                    </a:lnTo>
                    <a:lnTo>
                      <a:pt x="649" y="94"/>
                    </a:lnTo>
                    <a:lnTo>
                      <a:pt x="689" y="0"/>
                    </a:lnTo>
                    <a:lnTo>
                      <a:pt x="57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5969160" y="3075120"/>
                <a:ext cx="217440" cy="488880"/>
              </a:xfrm>
              <a:custGeom>
                <a:avLst/>
                <a:gdLst/>
                <a:ahLst/>
                <a:rect l="l" t="t" r="r" b="b"/>
                <a:pathLst>
                  <a:path w="685" h="1540">
                    <a:moveTo>
                      <a:pt x="98" y="1540"/>
                    </a:moveTo>
                    <a:lnTo>
                      <a:pt x="113" y="1477"/>
                    </a:lnTo>
                    <a:lnTo>
                      <a:pt x="137" y="1387"/>
                    </a:lnTo>
                    <a:lnTo>
                      <a:pt x="163" y="1294"/>
                    </a:lnTo>
                    <a:lnTo>
                      <a:pt x="193" y="1194"/>
                    </a:lnTo>
                    <a:lnTo>
                      <a:pt x="225" y="1093"/>
                    </a:lnTo>
                    <a:lnTo>
                      <a:pt x="260" y="988"/>
                    </a:lnTo>
                    <a:lnTo>
                      <a:pt x="298" y="879"/>
                    </a:lnTo>
                    <a:lnTo>
                      <a:pt x="338" y="771"/>
                    </a:lnTo>
                    <a:lnTo>
                      <a:pt x="381" y="660"/>
                    </a:lnTo>
                    <a:lnTo>
                      <a:pt x="425" y="550"/>
                    </a:lnTo>
                    <a:lnTo>
                      <a:pt x="472" y="439"/>
                    </a:lnTo>
                    <a:lnTo>
                      <a:pt x="496" y="384"/>
                    </a:lnTo>
                    <a:lnTo>
                      <a:pt x="521" y="330"/>
                    </a:lnTo>
                    <a:lnTo>
                      <a:pt x="546" y="276"/>
                    </a:lnTo>
                    <a:lnTo>
                      <a:pt x="571" y="222"/>
                    </a:lnTo>
                    <a:lnTo>
                      <a:pt x="597" y="169"/>
                    </a:lnTo>
                    <a:lnTo>
                      <a:pt x="624" y="115"/>
                    </a:lnTo>
                    <a:lnTo>
                      <a:pt x="651" y="64"/>
                    </a:lnTo>
                    <a:lnTo>
                      <a:pt x="678" y="12"/>
                    </a:lnTo>
                    <a:lnTo>
                      <a:pt x="685" y="0"/>
                    </a:lnTo>
                    <a:lnTo>
                      <a:pt x="560" y="0"/>
                    </a:lnTo>
                    <a:lnTo>
                      <a:pt x="543" y="34"/>
                    </a:lnTo>
                    <a:lnTo>
                      <a:pt x="515" y="88"/>
                    </a:lnTo>
                    <a:lnTo>
                      <a:pt x="489" y="140"/>
                    </a:lnTo>
                    <a:lnTo>
                      <a:pt x="464" y="195"/>
                    </a:lnTo>
                    <a:lnTo>
                      <a:pt x="439" y="248"/>
                    </a:lnTo>
                    <a:lnTo>
                      <a:pt x="414" y="303"/>
                    </a:lnTo>
                    <a:lnTo>
                      <a:pt x="390" y="358"/>
                    </a:lnTo>
                    <a:lnTo>
                      <a:pt x="343" y="469"/>
                    </a:lnTo>
                    <a:lnTo>
                      <a:pt x="299" y="579"/>
                    </a:lnTo>
                    <a:lnTo>
                      <a:pt x="255" y="690"/>
                    </a:lnTo>
                    <a:lnTo>
                      <a:pt x="216" y="798"/>
                    </a:lnTo>
                    <a:lnTo>
                      <a:pt x="178" y="906"/>
                    </a:lnTo>
                    <a:lnTo>
                      <a:pt x="143" y="1012"/>
                    </a:lnTo>
                    <a:lnTo>
                      <a:pt x="111" y="1113"/>
                    </a:lnTo>
                    <a:lnTo>
                      <a:pt x="81" y="1213"/>
                    </a:lnTo>
                    <a:lnTo>
                      <a:pt x="55" y="1306"/>
                    </a:lnTo>
                    <a:lnTo>
                      <a:pt x="31" y="1396"/>
                    </a:lnTo>
                    <a:lnTo>
                      <a:pt x="10" y="1481"/>
                    </a:lnTo>
                    <a:lnTo>
                      <a:pt x="0" y="1531"/>
                    </a:lnTo>
                    <a:lnTo>
                      <a:pt x="12" y="1532"/>
                    </a:lnTo>
                    <a:lnTo>
                      <a:pt x="24" y="1533"/>
                    </a:lnTo>
                    <a:lnTo>
                      <a:pt x="37" y="1534"/>
                    </a:lnTo>
                    <a:lnTo>
                      <a:pt x="49" y="1535"/>
                    </a:lnTo>
                    <a:lnTo>
                      <a:pt x="61" y="1537"/>
                    </a:lnTo>
                    <a:lnTo>
                      <a:pt x="73" y="1538"/>
                    </a:lnTo>
                    <a:lnTo>
                      <a:pt x="86" y="1539"/>
                    </a:lnTo>
                    <a:lnTo>
                      <a:pt x="98" y="154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5997600" y="3075120"/>
                <a:ext cx="223920" cy="490320"/>
              </a:xfrm>
              <a:custGeom>
                <a:avLst/>
                <a:gdLst/>
                <a:ahLst/>
                <a:rect l="l" t="t" r="r" b="b"/>
                <a:pathLst>
                  <a:path w="702" h="1545">
                    <a:moveTo>
                      <a:pt x="586" y="0"/>
                    </a:moveTo>
                    <a:lnTo>
                      <a:pt x="581" y="11"/>
                    </a:lnTo>
                    <a:lnTo>
                      <a:pt x="533" y="125"/>
                    </a:lnTo>
                    <a:lnTo>
                      <a:pt x="484" y="243"/>
                    </a:lnTo>
                    <a:lnTo>
                      <a:pt x="436" y="364"/>
                    </a:lnTo>
                    <a:lnTo>
                      <a:pt x="387" y="486"/>
                    </a:lnTo>
                    <a:lnTo>
                      <a:pt x="339" y="609"/>
                    </a:lnTo>
                    <a:lnTo>
                      <a:pt x="293" y="731"/>
                    </a:lnTo>
                    <a:lnTo>
                      <a:pt x="247" y="853"/>
                    </a:lnTo>
                    <a:lnTo>
                      <a:pt x="203" y="973"/>
                    </a:lnTo>
                    <a:lnTo>
                      <a:pt x="159" y="1089"/>
                    </a:lnTo>
                    <a:lnTo>
                      <a:pt x="81" y="1308"/>
                    </a:lnTo>
                    <a:lnTo>
                      <a:pt x="12" y="1503"/>
                    </a:lnTo>
                    <a:lnTo>
                      <a:pt x="0" y="1539"/>
                    </a:lnTo>
                    <a:lnTo>
                      <a:pt x="13" y="1540"/>
                    </a:lnTo>
                    <a:lnTo>
                      <a:pt x="26" y="1541"/>
                    </a:lnTo>
                    <a:lnTo>
                      <a:pt x="40" y="1542"/>
                    </a:lnTo>
                    <a:lnTo>
                      <a:pt x="53" y="1542"/>
                    </a:lnTo>
                    <a:lnTo>
                      <a:pt x="67" y="1543"/>
                    </a:lnTo>
                    <a:lnTo>
                      <a:pt x="81" y="1545"/>
                    </a:lnTo>
                    <a:lnTo>
                      <a:pt x="94" y="1545"/>
                    </a:lnTo>
                    <a:lnTo>
                      <a:pt x="108" y="1545"/>
                    </a:lnTo>
                    <a:lnTo>
                      <a:pt x="163" y="1389"/>
                    </a:lnTo>
                    <a:lnTo>
                      <a:pt x="241" y="1170"/>
                    </a:lnTo>
                    <a:lnTo>
                      <a:pt x="285" y="1054"/>
                    </a:lnTo>
                    <a:lnTo>
                      <a:pt x="329" y="934"/>
                    </a:lnTo>
                    <a:lnTo>
                      <a:pt x="375" y="812"/>
                    </a:lnTo>
                    <a:lnTo>
                      <a:pt x="421" y="690"/>
                    </a:lnTo>
                    <a:lnTo>
                      <a:pt x="469" y="567"/>
                    </a:lnTo>
                    <a:lnTo>
                      <a:pt x="518" y="445"/>
                    </a:lnTo>
                    <a:lnTo>
                      <a:pt x="566" y="324"/>
                    </a:lnTo>
                    <a:lnTo>
                      <a:pt x="615" y="206"/>
                    </a:lnTo>
                    <a:lnTo>
                      <a:pt x="663" y="92"/>
                    </a:lnTo>
                    <a:lnTo>
                      <a:pt x="702" y="0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4124160" y="3075120"/>
                <a:ext cx="216000" cy="479160"/>
              </a:xfrm>
              <a:custGeom>
                <a:avLst/>
                <a:gdLst/>
                <a:ahLst/>
                <a:rect l="l" t="t" r="r" b="b"/>
                <a:pathLst>
                  <a:path w="680" h="1509">
                    <a:moveTo>
                      <a:pt x="566" y="0"/>
                    </a:moveTo>
                    <a:lnTo>
                      <a:pt x="519" y="91"/>
                    </a:lnTo>
                    <a:lnTo>
                      <a:pt x="474" y="185"/>
                    </a:lnTo>
                    <a:lnTo>
                      <a:pt x="429" y="280"/>
                    </a:lnTo>
                    <a:lnTo>
                      <a:pt x="387" y="377"/>
                    </a:lnTo>
                    <a:lnTo>
                      <a:pt x="345" y="476"/>
                    </a:lnTo>
                    <a:lnTo>
                      <a:pt x="305" y="574"/>
                    </a:lnTo>
                    <a:lnTo>
                      <a:pt x="267" y="672"/>
                    </a:lnTo>
                    <a:lnTo>
                      <a:pt x="230" y="771"/>
                    </a:lnTo>
                    <a:lnTo>
                      <a:pt x="194" y="869"/>
                    </a:lnTo>
                    <a:lnTo>
                      <a:pt x="161" y="966"/>
                    </a:lnTo>
                    <a:lnTo>
                      <a:pt x="130" y="1062"/>
                    </a:lnTo>
                    <a:lnTo>
                      <a:pt x="100" y="1156"/>
                    </a:lnTo>
                    <a:lnTo>
                      <a:pt x="71" y="1248"/>
                    </a:lnTo>
                    <a:lnTo>
                      <a:pt x="45" y="1338"/>
                    </a:lnTo>
                    <a:lnTo>
                      <a:pt x="21" y="1425"/>
                    </a:lnTo>
                    <a:lnTo>
                      <a:pt x="0" y="1509"/>
                    </a:lnTo>
                    <a:lnTo>
                      <a:pt x="17" y="1507"/>
                    </a:lnTo>
                    <a:lnTo>
                      <a:pt x="34" y="1505"/>
                    </a:lnTo>
                    <a:lnTo>
                      <a:pt x="51" y="1502"/>
                    </a:lnTo>
                    <a:lnTo>
                      <a:pt x="67" y="1500"/>
                    </a:lnTo>
                    <a:lnTo>
                      <a:pt x="84" y="1498"/>
                    </a:lnTo>
                    <a:lnTo>
                      <a:pt x="100" y="1495"/>
                    </a:lnTo>
                    <a:lnTo>
                      <a:pt x="116" y="1493"/>
                    </a:lnTo>
                    <a:lnTo>
                      <a:pt x="132" y="1492"/>
                    </a:lnTo>
                    <a:lnTo>
                      <a:pt x="191" y="1318"/>
                    </a:lnTo>
                    <a:lnTo>
                      <a:pt x="255" y="1134"/>
                    </a:lnTo>
                    <a:lnTo>
                      <a:pt x="322" y="942"/>
                    </a:lnTo>
                    <a:lnTo>
                      <a:pt x="393" y="748"/>
                    </a:lnTo>
                    <a:lnTo>
                      <a:pt x="465" y="553"/>
                    </a:lnTo>
                    <a:lnTo>
                      <a:pt x="538" y="361"/>
                    </a:lnTo>
                    <a:lnTo>
                      <a:pt x="574" y="268"/>
                    </a:lnTo>
                    <a:lnTo>
                      <a:pt x="609" y="175"/>
                    </a:lnTo>
                    <a:lnTo>
                      <a:pt x="645" y="86"/>
                    </a:lnTo>
                    <a:lnTo>
                      <a:pt x="680" y="0"/>
                    </a:lnTo>
                    <a:lnTo>
                      <a:pt x="56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4106880" y="3075120"/>
                <a:ext cx="216000" cy="480960"/>
              </a:xfrm>
              <a:custGeom>
                <a:avLst/>
                <a:gdLst/>
                <a:ahLst/>
                <a:rect l="l" t="t" r="r" b="b"/>
                <a:pathLst>
                  <a:path w="683" h="1517">
                    <a:moveTo>
                      <a:pt x="107" y="1501"/>
                    </a:moveTo>
                    <a:lnTo>
                      <a:pt x="117" y="1460"/>
                    </a:lnTo>
                    <a:lnTo>
                      <a:pt x="147" y="1354"/>
                    </a:lnTo>
                    <a:lnTo>
                      <a:pt x="180" y="1244"/>
                    </a:lnTo>
                    <a:lnTo>
                      <a:pt x="215" y="1132"/>
                    </a:lnTo>
                    <a:lnTo>
                      <a:pt x="253" y="1015"/>
                    </a:lnTo>
                    <a:lnTo>
                      <a:pt x="294" y="898"/>
                    </a:lnTo>
                    <a:lnTo>
                      <a:pt x="337" y="778"/>
                    </a:lnTo>
                    <a:lnTo>
                      <a:pt x="383" y="659"/>
                    </a:lnTo>
                    <a:lnTo>
                      <a:pt x="431" y="539"/>
                    </a:lnTo>
                    <a:lnTo>
                      <a:pt x="456" y="480"/>
                    </a:lnTo>
                    <a:lnTo>
                      <a:pt x="481" y="421"/>
                    </a:lnTo>
                    <a:lnTo>
                      <a:pt x="506" y="361"/>
                    </a:lnTo>
                    <a:lnTo>
                      <a:pt x="532" y="303"/>
                    </a:lnTo>
                    <a:lnTo>
                      <a:pt x="560" y="245"/>
                    </a:lnTo>
                    <a:lnTo>
                      <a:pt x="587" y="188"/>
                    </a:lnTo>
                    <a:lnTo>
                      <a:pt x="614" y="132"/>
                    </a:lnTo>
                    <a:lnTo>
                      <a:pt x="643" y="76"/>
                    </a:lnTo>
                    <a:lnTo>
                      <a:pt x="671" y="21"/>
                    </a:lnTo>
                    <a:lnTo>
                      <a:pt x="683" y="0"/>
                    </a:lnTo>
                    <a:lnTo>
                      <a:pt x="559" y="0"/>
                    </a:lnTo>
                    <a:lnTo>
                      <a:pt x="532" y="50"/>
                    </a:lnTo>
                    <a:lnTo>
                      <a:pt x="505" y="107"/>
                    </a:lnTo>
                    <a:lnTo>
                      <a:pt x="478" y="164"/>
                    </a:lnTo>
                    <a:lnTo>
                      <a:pt x="450" y="222"/>
                    </a:lnTo>
                    <a:lnTo>
                      <a:pt x="424" y="280"/>
                    </a:lnTo>
                    <a:lnTo>
                      <a:pt x="399" y="340"/>
                    </a:lnTo>
                    <a:lnTo>
                      <a:pt x="374" y="399"/>
                    </a:lnTo>
                    <a:lnTo>
                      <a:pt x="349" y="458"/>
                    </a:lnTo>
                    <a:lnTo>
                      <a:pt x="301" y="577"/>
                    </a:lnTo>
                    <a:lnTo>
                      <a:pt x="255" y="697"/>
                    </a:lnTo>
                    <a:lnTo>
                      <a:pt x="212" y="817"/>
                    </a:lnTo>
                    <a:lnTo>
                      <a:pt x="171" y="934"/>
                    </a:lnTo>
                    <a:lnTo>
                      <a:pt x="133" y="1049"/>
                    </a:lnTo>
                    <a:lnTo>
                      <a:pt x="97" y="1163"/>
                    </a:lnTo>
                    <a:lnTo>
                      <a:pt x="65" y="1273"/>
                    </a:lnTo>
                    <a:lnTo>
                      <a:pt x="35" y="1379"/>
                    </a:lnTo>
                    <a:lnTo>
                      <a:pt x="9" y="1482"/>
                    </a:lnTo>
                    <a:lnTo>
                      <a:pt x="0" y="1517"/>
                    </a:lnTo>
                    <a:lnTo>
                      <a:pt x="14" y="1515"/>
                    </a:lnTo>
                    <a:lnTo>
                      <a:pt x="27" y="1513"/>
                    </a:lnTo>
                    <a:lnTo>
                      <a:pt x="41" y="1511"/>
                    </a:lnTo>
                    <a:lnTo>
                      <a:pt x="55" y="1509"/>
                    </a:lnTo>
                    <a:lnTo>
                      <a:pt x="67" y="1507"/>
                    </a:lnTo>
                    <a:lnTo>
                      <a:pt x="81" y="1505"/>
                    </a:lnTo>
                    <a:lnTo>
                      <a:pt x="93" y="1503"/>
                    </a:lnTo>
                    <a:lnTo>
                      <a:pt x="107" y="150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4148280" y="3075120"/>
                <a:ext cx="209520" cy="476280"/>
              </a:xfrm>
              <a:custGeom>
                <a:avLst/>
                <a:gdLst/>
                <a:ahLst/>
                <a:rect l="l" t="t" r="r" b="b"/>
                <a:pathLst>
                  <a:path w="663" h="1499">
                    <a:moveTo>
                      <a:pt x="548" y="0"/>
                    </a:moveTo>
                    <a:lnTo>
                      <a:pt x="516" y="77"/>
                    </a:lnTo>
                    <a:lnTo>
                      <a:pt x="468" y="201"/>
                    </a:lnTo>
                    <a:lnTo>
                      <a:pt x="418" y="327"/>
                    </a:lnTo>
                    <a:lnTo>
                      <a:pt x="369" y="458"/>
                    </a:lnTo>
                    <a:lnTo>
                      <a:pt x="320" y="590"/>
                    </a:lnTo>
                    <a:lnTo>
                      <a:pt x="271" y="723"/>
                    </a:lnTo>
                    <a:lnTo>
                      <a:pt x="223" y="855"/>
                    </a:lnTo>
                    <a:lnTo>
                      <a:pt x="176" y="987"/>
                    </a:lnTo>
                    <a:lnTo>
                      <a:pt x="131" y="1117"/>
                    </a:lnTo>
                    <a:lnTo>
                      <a:pt x="88" y="1242"/>
                    </a:lnTo>
                    <a:lnTo>
                      <a:pt x="45" y="1363"/>
                    </a:lnTo>
                    <a:lnTo>
                      <a:pt x="7" y="1480"/>
                    </a:lnTo>
                    <a:lnTo>
                      <a:pt x="0" y="1499"/>
                    </a:lnTo>
                    <a:lnTo>
                      <a:pt x="15" y="1497"/>
                    </a:lnTo>
                    <a:lnTo>
                      <a:pt x="29" y="1495"/>
                    </a:lnTo>
                    <a:lnTo>
                      <a:pt x="43" y="1493"/>
                    </a:lnTo>
                    <a:lnTo>
                      <a:pt x="58" y="1492"/>
                    </a:lnTo>
                    <a:lnTo>
                      <a:pt x="72" y="1491"/>
                    </a:lnTo>
                    <a:lnTo>
                      <a:pt x="85" y="1489"/>
                    </a:lnTo>
                    <a:lnTo>
                      <a:pt x="100" y="1487"/>
                    </a:lnTo>
                    <a:lnTo>
                      <a:pt x="114" y="1486"/>
                    </a:lnTo>
                    <a:lnTo>
                      <a:pt x="127" y="1444"/>
                    </a:lnTo>
                    <a:lnTo>
                      <a:pt x="170" y="1323"/>
                    </a:lnTo>
                    <a:lnTo>
                      <a:pt x="213" y="1198"/>
                    </a:lnTo>
                    <a:lnTo>
                      <a:pt x="259" y="1068"/>
                    </a:lnTo>
                    <a:lnTo>
                      <a:pt x="305" y="936"/>
                    </a:lnTo>
                    <a:lnTo>
                      <a:pt x="353" y="804"/>
                    </a:lnTo>
                    <a:lnTo>
                      <a:pt x="402" y="672"/>
                    </a:lnTo>
                    <a:lnTo>
                      <a:pt x="451" y="539"/>
                    </a:lnTo>
                    <a:lnTo>
                      <a:pt x="500" y="409"/>
                    </a:lnTo>
                    <a:lnTo>
                      <a:pt x="550" y="282"/>
                    </a:lnTo>
                    <a:lnTo>
                      <a:pt x="598" y="158"/>
                    </a:lnTo>
                    <a:lnTo>
                      <a:pt x="647" y="40"/>
                    </a:lnTo>
                    <a:lnTo>
                      <a:pt x="663" y="0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3149640" y="3075120"/>
                <a:ext cx="155520" cy="480960"/>
              </a:xfrm>
              <a:custGeom>
                <a:avLst/>
                <a:gdLst/>
                <a:ahLst/>
                <a:rect l="l" t="t" r="r" b="b"/>
                <a:pathLst>
                  <a:path w="489" h="1514">
                    <a:moveTo>
                      <a:pt x="366" y="0"/>
                    </a:moveTo>
                    <a:lnTo>
                      <a:pt x="333" y="99"/>
                    </a:lnTo>
                    <a:lnTo>
                      <a:pt x="300" y="199"/>
                    </a:lnTo>
                    <a:lnTo>
                      <a:pt x="269" y="300"/>
                    </a:lnTo>
                    <a:lnTo>
                      <a:pt x="239" y="400"/>
                    </a:lnTo>
                    <a:lnTo>
                      <a:pt x="211" y="502"/>
                    </a:lnTo>
                    <a:lnTo>
                      <a:pt x="184" y="602"/>
                    </a:lnTo>
                    <a:lnTo>
                      <a:pt x="159" y="701"/>
                    </a:lnTo>
                    <a:lnTo>
                      <a:pt x="135" y="801"/>
                    </a:lnTo>
                    <a:lnTo>
                      <a:pt x="113" y="898"/>
                    </a:lnTo>
                    <a:lnTo>
                      <a:pt x="92" y="993"/>
                    </a:lnTo>
                    <a:lnTo>
                      <a:pt x="73" y="1088"/>
                    </a:lnTo>
                    <a:lnTo>
                      <a:pt x="55" y="1179"/>
                    </a:lnTo>
                    <a:lnTo>
                      <a:pt x="39" y="1267"/>
                    </a:lnTo>
                    <a:lnTo>
                      <a:pt x="24" y="1353"/>
                    </a:lnTo>
                    <a:lnTo>
                      <a:pt x="11" y="1435"/>
                    </a:lnTo>
                    <a:lnTo>
                      <a:pt x="0" y="1514"/>
                    </a:lnTo>
                    <a:lnTo>
                      <a:pt x="13" y="1513"/>
                    </a:lnTo>
                    <a:lnTo>
                      <a:pt x="28" y="1511"/>
                    </a:lnTo>
                    <a:lnTo>
                      <a:pt x="42" y="1510"/>
                    </a:lnTo>
                    <a:lnTo>
                      <a:pt x="57" y="1509"/>
                    </a:lnTo>
                    <a:lnTo>
                      <a:pt x="70" y="1508"/>
                    </a:lnTo>
                    <a:lnTo>
                      <a:pt x="84" y="1507"/>
                    </a:lnTo>
                    <a:lnTo>
                      <a:pt x="98" y="1506"/>
                    </a:lnTo>
                    <a:lnTo>
                      <a:pt x="113" y="1505"/>
                    </a:lnTo>
                    <a:lnTo>
                      <a:pt x="149" y="1340"/>
                    </a:lnTo>
                    <a:lnTo>
                      <a:pt x="190" y="1163"/>
                    </a:lnTo>
                    <a:lnTo>
                      <a:pt x="236" y="978"/>
                    </a:lnTo>
                    <a:lnTo>
                      <a:pt x="283" y="784"/>
                    </a:lnTo>
                    <a:lnTo>
                      <a:pt x="333" y="586"/>
                    </a:lnTo>
                    <a:lnTo>
                      <a:pt x="384" y="388"/>
                    </a:lnTo>
                    <a:lnTo>
                      <a:pt x="436" y="191"/>
                    </a:lnTo>
                    <a:lnTo>
                      <a:pt x="489" y="0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3135240" y="3075120"/>
                <a:ext cx="147600" cy="482400"/>
              </a:xfrm>
              <a:custGeom>
                <a:avLst/>
                <a:gdLst/>
                <a:ahLst/>
                <a:rect l="l" t="t" r="r" b="b"/>
                <a:pathLst>
                  <a:path w="469" h="1518">
                    <a:moveTo>
                      <a:pt x="95" y="1509"/>
                    </a:moveTo>
                    <a:lnTo>
                      <a:pt x="103" y="1454"/>
                    </a:lnTo>
                    <a:lnTo>
                      <a:pt x="120" y="1348"/>
                    </a:lnTo>
                    <a:lnTo>
                      <a:pt x="139" y="1237"/>
                    </a:lnTo>
                    <a:lnTo>
                      <a:pt x="162" y="1121"/>
                    </a:lnTo>
                    <a:lnTo>
                      <a:pt x="187" y="1001"/>
                    </a:lnTo>
                    <a:lnTo>
                      <a:pt x="214" y="879"/>
                    </a:lnTo>
                    <a:lnTo>
                      <a:pt x="244" y="755"/>
                    </a:lnTo>
                    <a:lnTo>
                      <a:pt x="276" y="628"/>
                    </a:lnTo>
                    <a:lnTo>
                      <a:pt x="310" y="501"/>
                    </a:lnTo>
                    <a:lnTo>
                      <a:pt x="348" y="373"/>
                    </a:lnTo>
                    <a:lnTo>
                      <a:pt x="366" y="309"/>
                    </a:lnTo>
                    <a:lnTo>
                      <a:pt x="387" y="245"/>
                    </a:lnTo>
                    <a:lnTo>
                      <a:pt x="407" y="181"/>
                    </a:lnTo>
                    <a:lnTo>
                      <a:pt x="428" y="118"/>
                    </a:lnTo>
                    <a:lnTo>
                      <a:pt x="449" y="56"/>
                    </a:lnTo>
                    <a:lnTo>
                      <a:pt x="469" y="0"/>
                    </a:lnTo>
                    <a:lnTo>
                      <a:pt x="358" y="0"/>
                    </a:lnTo>
                    <a:lnTo>
                      <a:pt x="345" y="37"/>
                    </a:lnTo>
                    <a:lnTo>
                      <a:pt x="324" y="100"/>
                    </a:lnTo>
                    <a:lnTo>
                      <a:pt x="304" y="164"/>
                    </a:lnTo>
                    <a:lnTo>
                      <a:pt x="284" y="228"/>
                    </a:lnTo>
                    <a:lnTo>
                      <a:pt x="266" y="292"/>
                    </a:lnTo>
                    <a:lnTo>
                      <a:pt x="228" y="420"/>
                    </a:lnTo>
                    <a:lnTo>
                      <a:pt x="194" y="547"/>
                    </a:lnTo>
                    <a:lnTo>
                      <a:pt x="162" y="674"/>
                    </a:lnTo>
                    <a:lnTo>
                      <a:pt x="132" y="798"/>
                    </a:lnTo>
                    <a:lnTo>
                      <a:pt x="105" y="920"/>
                    </a:lnTo>
                    <a:lnTo>
                      <a:pt x="80" y="1040"/>
                    </a:lnTo>
                    <a:lnTo>
                      <a:pt x="57" y="1157"/>
                    </a:lnTo>
                    <a:lnTo>
                      <a:pt x="38" y="1267"/>
                    </a:lnTo>
                    <a:lnTo>
                      <a:pt x="21" y="1373"/>
                    </a:lnTo>
                    <a:lnTo>
                      <a:pt x="6" y="1474"/>
                    </a:lnTo>
                    <a:lnTo>
                      <a:pt x="0" y="1518"/>
                    </a:lnTo>
                    <a:lnTo>
                      <a:pt x="11" y="1517"/>
                    </a:lnTo>
                    <a:lnTo>
                      <a:pt x="24" y="1516"/>
                    </a:lnTo>
                    <a:lnTo>
                      <a:pt x="35" y="1515"/>
                    </a:lnTo>
                    <a:lnTo>
                      <a:pt x="47" y="1514"/>
                    </a:lnTo>
                    <a:lnTo>
                      <a:pt x="59" y="1513"/>
                    </a:lnTo>
                    <a:lnTo>
                      <a:pt x="71" y="1511"/>
                    </a:lnTo>
                    <a:lnTo>
                      <a:pt x="82" y="1510"/>
                    </a:lnTo>
                    <a:lnTo>
                      <a:pt x="95" y="150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3168720" y="3075120"/>
                <a:ext cx="152280" cy="479160"/>
              </a:xfrm>
              <a:custGeom>
                <a:avLst/>
                <a:gdLst/>
                <a:ahLst/>
                <a:rect l="l" t="t" r="r" b="b"/>
                <a:pathLst>
                  <a:path w="480" h="1508">
                    <a:moveTo>
                      <a:pt x="375" y="0"/>
                    </a:moveTo>
                    <a:lnTo>
                      <a:pt x="342" y="121"/>
                    </a:lnTo>
                    <a:lnTo>
                      <a:pt x="305" y="260"/>
                    </a:lnTo>
                    <a:lnTo>
                      <a:pt x="267" y="400"/>
                    </a:lnTo>
                    <a:lnTo>
                      <a:pt x="231" y="543"/>
                    </a:lnTo>
                    <a:lnTo>
                      <a:pt x="195" y="683"/>
                    </a:lnTo>
                    <a:lnTo>
                      <a:pt x="161" y="824"/>
                    </a:lnTo>
                    <a:lnTo>
                      <a:pt x="127" y="960"/>
                    </a:lnTo>
                    <a:lnTo>
                      <a:pt x="95" y="1094"/>
                    </a:lnTo>
                    <a:lnTo>
                      <a:pt x="65" y="1222"/>
                    </a:lnTo>
                    <a:lnTo>
                      <a:pt x="37" y="1345"/>
                    </a:lnTo>
                    <a:lnTo>
                      <a:pt x="11" y="1460"/>
                    </a:lnTo>
                    <a:lnTo>
                      <a:pt x="0" y="1508"/>
                    </a:lnTo>
                    <a:lnTo>
                      <a:pt x="13" y="1508"/>
                    </a:lnTo>
                    <a:lnTo>
                      <a:pt x="25" y="1507"/>
                    </a:lnTo>
                    <a:lnTo>
                      <a:pt x="38" y="1506"/>
                    </a:lnTo>
                    <a:lnTo>
                      <a:pt x="52" y="1505"/>
                    </a:lnTo>
                    <a:lnTo>
                      <a:pt x="64" y="1503"/>
                    </a:lnTo>
                    <a:lnTo>
                      <a:pt x="77" y="1503"/>
                    </a:lnTo>
                    <a:lnTo>
                      <a:pt x="89" y="1502"/>
                    </a:lnTo>
                    <a:lnTo>
                      <a:pt x="102" y="1501"/>
                    </a:lnTo>
                    <a:lnTo>
                      <a:pt x="119" y="1426"/>
                    </a:lnTo>
                    <a:lnTo>
                      <a:pt x="147" y="1303"/>
                    </a:lnTo>
                    <a:lnTo>
                      <a:pt x="178" y="1175"/>
                    </a:lnTo>
                    <a:lnTo>
                      <a:pt x="209" y="1041"/>
                    </a:lnTo>
                    <a:lnTo>
                      <a:pt x="243" y="905"/>
                    </a:lnTo>
                    <a:lnTo>
                      <a:pt x="277" y="764"/>
                    </a:lnTo>
                    <a:lnTo>
                      <a:pt x="314" y="623"/>
                    </a:lnTo>
                    <a:lnTo>
                      <a:pt x="350" y="481"/>
                    </a:lnTo>
                    <a:lnTo>
                      <a:pt x="387" y="341"/>
                    </a:lnTo>
                    <a:lnTo>
                      <a:pt x="424" y="202"/>
                    </a:lnTo>
                    <a:lnTo>
                      <a:pt x="462" y="66"/>
                    </a:lnTo>
                    <a:lnTo>
                      <a:pt x="480" y="0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824200" y="3075120"/>
                <a:ext cx="147600" cy="520560"/>
              </a:xfrm>
              <a:custGeom>
                <a:avLst/>
                <a:gdLst/>
                <a:ahLst/>
                <a:rect l="l" t="t" r="r" b="b"/>
                <a:pathLst>
                  <a:path w="464" h="1639">
                    <a:moveTo>
                      <a:pt x="327" y="0"/>
                    </a:moveTo>
                    <a:lnTo>
                      <a:pt x="297" y="107"/>
                    </a:lnTo>
                    <a:lnTo>
                      <a:pt x="267" y="215"/>
                    </a:lnTo>
                    <a:lnTo>
                      <a:pt x="238" y="324"/>
                    </a:lnTo>
                    <a:lnTo>
                      <a:pt x="212" y="432"/>
                    </a:lnTo>
                    <a:lnTo>
                      <a:pt x="186" y="541"/>
                    </a:lnTo>
                    <a:lnTo>
                      <a:pt x="162" y="649"/>
                    </a:lnTo>
                    <a:lnTo>
                      <a:pt x="139" y="756"/>
                    </a:lnTo>
                    <a:lnTo>
                      <a:pt x="119" y="863"/>
                    </a:lnTo>
                    <a:lnTo>
                      <a:pt x="98" y="968"/>
                    </a:lnTo>
                    <a:lnTo>
                      <a:pt x="80" y="1071"/>
                    </a:lnTo>
                    <a:lnTo>
                      <a:pt x="63" y="1173"/>
                    </a:lnTo>
                    <a:lnTo>
                      <a:pt x="47" y="1272"/>
                    </a:lnTo>
                    <a:lnTo>
                      <a:pt x="33" y="1369"/>
                    </a:lnTo>
                    <a:lnTo>
                      <a:pt x="21" y="1462"/>
                    </a:lnTo>
                    <a:lnTo>
                      <a:pt x="9" y="1553"/>
                    </a:lnTo>
                    <a:lnTo>
                      <a:pt x="0" y="1639"/>
                    </a:lnTo>
                    <a:lnTo>
                      <a:pt x="16" y="1638"/>
                    </a:lnTo>
                    <a:lnTo>
                      <a:pt x="32" y="1637"/>
                    </a:lnTo>
                    <a:lnTo>
                      <a:pt x="49" y="1635"/>
                    </a:lnTo>
                    <a:lnTo>
                      <a:pt x="65" y="1634"/>
                    </a:lnTo>
                    <a:lnTo>
                      <a:pt x="81" y="1632"/>
                    </a:lnTo>
                    <a:lnTo>
                      <a:pt x="98" y="1630"/>
                    </a:lnTo>
                    <a:lnTo>
                      <a:pt x="114" y="1629"/>
                    </a:lnTo>
                    <a:lnTo>
                      <a:pt x="130" y="1627"/>
                    </a:lnTo>
                    <a:lnTo>
                      <a:pt x="163" y="1445"/>
                    </a:lnTo>
                    <a:lnTo>
                      <a:pt x="200" y="1252"/>
                    </a:lnTo>
                    <a:lnTo>
                      <a:pt x="240" y="1051"/>
                    </a:lnTo>
                    <a:lnTo>
                      <a:pt x="282" y="842"/>
                    </a:lnTo>
                    <a:lnTo>
                      <a:pt x="325" y="630"/>
                    </a:lnTo>
                    <a:lnTo>
                      <a:pt x="371" y="416"/>
                    </a:lnTo>
                    <a:lnTo>
                      <a:pt x="416" y="206"/>
                    </a:lnTo>
                    <a:lnTo>
                      <a:pt x="464" y="0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809800" y="3075120"/>
                <a:ext cx="136440" cy="522000"/>
              </a:xfrm>
              <a:custGeom>
                <a:avLst/>
                <a:gdLst/>
                <a:ahLst/>
                <a:rect l="l" t="t" r="r" b="b"/>
                <a:pathLst>
                  <a:path w="426" h="1644">
                    <a:moveTo>
                      <a:pt x="91" y="1636"/>
                    </a:moveTo>
                    <a:lnTo>
                      <a:pt x="103" y="1524"/>
                    </a:lnTo>
                    <a:lnTo>
                      <a:pt x="120" y="1399"/>
                    </a:lnTo>
                    <a:lnTo>
                      <a:pt x="140" y="1266"/>
                    </a:lnTo>
                    <a:lnTo>
                      <a:pt x="163" y="1130"/>
                    </a:lnTo>
                    <a:lnTo>
                      <a:pt x="188" y="991"/>
                    </a:lnTo>
                    <a:lnTo>
                      <a:pt x="215" y="849"/>
                    </a:lnTo>
                    <a:lnTo>
                      <a:pt x="245" y="704"/>
                    </a:lnTo>
                    <a:lnTo>
                      <a:pt x="261" y="631"/>
                    </a:lnTo>
                    <a:lnTo>
                      <a:pt x="278" y="558"/>
                    </a:lnTo>
                    <a:lnTo>
                      <a:pt x="295" y="485"/>
                    </a:lnTo>
                    <a:lnTo>
                      <a:pt x="313" y="411"/>
                    </a:lnTo>
                    <a:lnTo>
                      <a:pt x="331" y="337"/>
                    </a:lnTo>
                    <a:lnTo>
                      <a:pt x="351" y="264"/>
                    </a:lnTo>
                    <a:lnTo>
                      <a:pt x="370" y="191"/>
                    </a:lnTo>
                    <a:lnTo>
                      <a:pt x="391" y="118"/>
                    </a:lnTo>
                    <a:lnTo>
                      <a:pt x="412" y="47"/>
                    </a:lnTo>
                    <a:lnTo>
                      <a:pt x="426" y="0"/>
                    </a:lnTo>
                    <a:lnTo>
                      <a:pt x="320" y="0"/>
                    </a:lnTo>
                    <a:lnTo>
                      <a:pt x="309" y="37"/>
                    </a:lnTo>
                    <a:lnTo>
                      <a:pt x="288" y="110"/>
                    </a:lnTo>
                    <a:lnTo>
                      <a:pt x="269" y="183"/>
                    </a:lnTo>
                    <a:lnTo>
                      <a:pt x="249" y="256"/>
                    </a:lnTo>
                    <a:lnTo>
                      <a:pt x="231" y="330"/>
                    </a:lnTo>
                    <a:lnTo>
                      <a:pt x="213" y="404"/>
                    </a:lnTo>
                    <a:lnTo>
                      <a:pt x="196" y="477"/>
                    </a:lnTo>
                    <a:lnTo>
                      <a:pt x="179" y="550"/>
                    </a:lnTo>
                    <a:lnTo>
                      <a:pt x="163" y="623"/>
                    </a:lnTo>
                    <a:lnTo>
                      <a:pt x="133" y="768"/>
                    </a:lnTo>
                    <a:lnTo>
                      <a:pt x="106" y="910"/>
                    </a:lnTo>
                    <a:lnTo>
                      <a:pt x="81" y="1049"/>
                    </a:lnTo>
                    <a:lnTo>
                      <a:pt x="58" y="1186"/>
                    </a:lnTo>
                    <a:lnTo>
                      <a:pt x="38" y="1318"/>
                    </a:lnTo>
                    <a:lnTo>
                      <a:pt x="21" y="1444"/>
                    </a:lnTo>
                    <a:lnTo>
                      <a:pt x="8" y="1564"/>
                    </a:lnTo>
                    <a:lnTo>
                      <a:pt x="0" y="1644"/>
                    </a:lnTo>
                    <a:lnTo>
                      <a:pt x="11" y="1643"/>
                    </a:lnTo>
                    <a:lnTo>
                      <a:pt x="22" y="1642"/>
                    </a:lnTo>
                    <a:lnTo>
                      <a:pt x="34" y="1640"/>
                    </a:lnTo>
                    <a:lnTo>
                      <a:pt x="45" y="1640"/>
                    </a:lnTo>
                    <a:lnTo>
                      <a:pt x="57" y="1639"/>
                    </a:lnTo>
                    <a:lnTo>
                      <a:pt x="68" y="1638"/>
                    </a:lnTo>
                    <a:lnTo>
                      <a:pt x="79" y="1637"/>
                    </a:lnTo>
                    <a:lnTo>
                      <a:pt x="91" y="16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2851200" y="3075120"/>
                <a:ext cx="136440" cy="517320"/>
              </a:xfrm>
              <a:custGeom>
                <a:avLst/>
                <a:gdLst/>
                <a:ahLst/>
                <a:rect l="l" t="t" r="r" b="b"/>
                <a:pathLst>
                  <a:path w="433" h="1632">
                    <a:moveTo>
                      <a:pt x="332" y="0"/>
                    </a:moveTo>
                    <a:lnTo>
                      <a:pt x="305" y="121"/>
                    </a:lnTo>
                    <a:lnTo>
                      <a:pt x="269" y="280"/>
                    </a:lnTo>
                    <a:lnTo>
                      <a:pt x="234" y="441"/>
                    </a:lnTo>
                    <a:lnTo>
                      <a:pt x="200" y="603"/>
                    </a:lnTo>
                    <a:lnTo>
                      <a:pt x="167" y="764"/>
                    </a:lnTo>
                    <a:lnTo>
                      <a:pt x="135" y="924"/>
                    </a:lnTo>
                    <a:lnTo>
                      <a:pt x="104" y="1080"/>
                    </a:lnTo>
                    <a:lnTo>
                      <a:pt x="74" y="1233"/>
                    </a:lnTo>
                    <a:lnTo>
                      <a:pt x="46" y="1379"/>
                    </a:lnTo>
                    <a:lnTo>
                      <a:pt x="21" y="1519"/>
                    </a:lnTo>
                    <a:lnTo>
                      <a:pt x="0" y="1632"/>
                    </a:lnTo>
                    <a:lnTo>
                      <a:pt x="13" y="1630"/>
                    </a:lnTo>
                    <a:lnTo>
                      <a:pt x="25" y="1629"/>
                    </a:lnTo>
                    <a:lnTo>
                      <a:pt x="37" y="1628"/>
                    </a:lnTo>
                    <a:lnTo>
                      <a:pt x="49" y="1627"/>
                    </a:lnTo>
                    <a:lnTo>
                      <a:pt x="62" y="1626"/>
                    </a:lnTo>
                    <a:lnTo>
                      <a:pt x="74" y="1624"/>
                    </a:lnTo>
                    <a:lnTo>
                      <a:pt x="87" y="1622"/>
                    </a:lnTo>
                    <a:lnTo>
                      <a:pt x="99" y="1621"/>
                    </a:lnTo>
                    <a:lnTo>
                      <a:pt x="103" y="1600"/>
                    </a:lnTo>
                    <a:lnTo>
                      <a:pt x="129" y="1460"/>
                    </a:lnTo>
                    <a:lnTo>
                      <a:pt x="156" y="1314"/>
                    </a:lnTo>
                    <a:lnTo>
                      <a:pt x="186" y="1161"/>
                    </a:lnTo>
                    <a:lnTo>
                      <a:pt x="217" y="1005"/>
                    </a:lnTo>
                    <a:lnTo>
                      <a:pt x="249" y="845"/>
                    </a:lnTo>
                    <a:lnTo>
                      <a:pt x="283" y="684"/>
                    </a:lnTo>
                    <a:lnTo>
                      <a:pt x="317" y="522"/>
                    </a:lnTo>
                    <a:lnTo>
                      <a:pt x="351" y="361"/>
                    </a:lnTo>
                    <a:lnTo>
                      <a:pt x="387" y="202"/>
                    </a:lnTo>
                    <a:lnTo>
                      <a:pt x="422" y="47"/>
                    </a:lnTo>
                    <a:lnTo>
                      <a:pt x="433" y="0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5065560" y="3075120"/>
                <a:ext cx="211320" cy="484200"/>
              </a:xfrm>
              <a:custGeom>
                <a:avLst/>
                <a:gdLst/>
                <a:ahLst/>
                <a:rect l="l" t="t" r="r" b="b"/>
                <a:pathLst>
                  <a:path w="666" h="1527">
                    <a:moveTo>
                      <a:pt x="543" y="0"/>
                    </a:moveTo>
                    <a:lnTo>
                      <a:pt x="493" y="100"/>
                    </a:lnTo>
                    <a:lnTo>
                      <a:pt x="446" y="203"/>
                    </a:lnTo>
                    <a:lnTo>
                      <a:pt x="399" y="306"/>
                    </a:lnTo>
                    <a:lnTo>
                      <a:pt x="355" y="409"/>
                    </a:lnTo>
                    <a:lnTo>
                      <a:pt x="312" y="514"/>
                    </a:lnTo>
                    <a:lnTo>
                      <a:pt x="273" y="618"/>
                    </a:lnTo>
                    <a:lnTo>
                      <a:pt x="234" y="721"/>
                    </a:lnTo>
                    <a:lnTo>
                      <a:pt x="198" y="822"/>
                    </a:lnTo>
                    <a:lnTo>
                      <a:pt x="164" y="923"/>
                    </a:lnTo>
                    <a:lnTo>
                      <a:pt x="133" y="1020"/>
                    </a:lnTo>
                    <a:lnTo>
                      <a:pt x="104" y="1114"/>
                    </a:lnTo>
                    <a:lnTo>
                      <a:pt x="78" y="1205"/>
                    </a:lnTo>
                    <a:lnTo>
                      <a:pt x="54" y="1292"/>
                    </a:lnTo>
                    <a:lnTo>
                      <a:pt x="33" y="1375"/>
                    </a:lnTo>
                    <a:lnTo>
                      <a:pt x="15" y="1452"/>
                    </a:lnTo>
                    <a:lnTo>
                      <a:pt x="0" y="1524"/>
                    </a:lnTo>
                    <a:lnTo>
                      <a:pt x="12" y="1524"/>
                    </a:lnTo>
                    <a:lnTo>
                      <a:pt x="22" y="1525"/>
                    </a:lnTo>
                    <a:lnTo>
                      <a:pt x="33" y="1525"/>
                    </a:lnTo>
                    <a:lnTo>
                      <a:pt x="45" y="1526"/>
                    </a:lnTo>
                    <a:lnTo>
                      <a:pt x="56" y="1526"/>
                    </a:lnTo>
                    <a:lnTo>
                      <a:pt x="67" y="1527"/>
                    </a:lnTo>
                    <a:lnTo>
                      <a:pt x="78" y="1527"/>
                    </a:lnTo>
                    <a:lnTo>
                      <a:pt x="89" y="1527"/>
                    </a:lnTo>
                    <a:lnTo>
                      <a:pt x="141" y="1376"/>
                    </a:lnTo>
                    <a:lnTo>
                      <a:pt x="202" y="1203"/>
                    </a:lnTo>
                    <a:lnTo>
                      <a:pt x="270" y="1015"/>
                    </a:lnTo>
                    <a:lnTo>
                      <a:pt x="344" y="816"/>
                    </a:lnTo>
                    <a:lnTo>
                      <a:pt x="422" y="610"/>
                    </a:lnTo>
                    <a:lnTo>
                      <a:pt x="503" y="403"/>
                    </a:lnTo>
                    <a:lnTo>
                      <a:pt x="544" y="299"/>
                    </a:lnTo>
                    <a:lnTo>
                      <a:pt x="585" y="197"/>
                    </a:lnTo>
                    <a:lnTo>
                      <a:pt x="626" y="98"/>
                    </a:lnTo>
                    <a:lnTo>
                      <a:pt x="666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5051520" y="3075120"/>
                <a:ext cx="206280" cy="484200"/>
              </a:xfrm>
              <a:custGeom>
                <a:avLst/>
                <a:gdLst/>
                <a:ahLst/>
                <a:rect l="l" t="t" r="r" b="b"/>
                <a:pathLst>
                  <a:path w="652" h="1526">
                    <a:moveTo>
                      <a:pt x="97" y="1526"/>
                    </a:moveTo>
                    <a:lnTo>
                      <a:pt x="110" y="1467"/>
                    </a:lnTo>
                    <a:lnTo>
                      <a:pt x="130" y="1383"/>
                    </a:lnTo>
                    <a:lnTo>
                      <a:pt x="154" y="1294"/>
                    </a:lnTo>
                    <a:lnTo>
                      <a:pt x="180" y="1199"/>
                    </a:lnTo>
                    <a:lnTo>
                      <a:pt x="210" y="1101"/>
                    </a:lnTo>
                    <a:lnTo>
                      <a:pt x="242" y="998"/>
                    </a:lnTo>
                    <a:lnTo>
                      <a:pt x="277" y="893"/>
                    </a:lnTo>
                    <a:lnTo>
                      <a:pt x="315" y="786"/>
                    </a:lnTo>
                    <a:lnTo>
                      <a:pt x="355" y="676"/>
                    </a:lnTo>
                    <a:lnTo>
                      <a:pt x="397" y="567"/>
                    </a:lnTo>
                    <a:lnTo>
                      <a:pt x="441" y="456"/>
                    </a:lnTo>
                    <a:lnTo>
                      <a:pt x="489" y="345"/>
                    </a:lnTo>
                    <a:lnTo>
                      <a:pt x="513" y="291"/>
                    </a:lnTo>
                    <a:lnTo>
                      <a:pt x="537" y="236"/>
                    </a:lnTo>
                    <a:lnTo>
                      <a:pt x="562" y="181"/>
                    </a:lnTo>
                    <a:lnTo>
                      <a:pt x="588" y="128"/>
                    </a:lnTo>
                    <a:lnTo>
                      <a:pt x="615" y="74"/>
                    </a:lnTo>
                    <a:lnTo>
                      <a:pt x="641" y="21"/>
                    </a:lnTo>
                    <a:lnTo>
                      <a:pt x="652" y="0"/>
                    </a:lnTo>
                    <a:lnTo>
                      <a:pt x="529" y="0"/>
                    </a:lnTo>
                    <a:lnTo>
                      <a:pt x="506" y="47"/>
                    </a:lnTo>
                    <a:lnTo>
                      <a:pt x="481" y="100"/>
                    </a:lnTo>
                    <a:lnTo>
                      <a:pt x="455" y="155"/>
                    </a:lnTo>
                    <a:lnTo>
                      <a:pt x="431" y="210"/>
                    </a:lnTo>
                    <a:lnTo>
                      <a:pt x="407" y="264"/>
                    </a:lnTo>
                    <a:lnTo>
                      <a:pt x="359" y="375"/>
                    </a:lnTo>
                    <a:lnTo>
                      <a:pt x="315" y="486"/>
                    </a:lnTo>
                    <a:lnTo>
                      <a:pt x="273" y="595"/>
                    </a:lnTo>
                    <a:lnTo>
                      <a:pt x="233" y="705"/>
                    </a:lnTo>
                    <a:lnTo>
                      <a:pt x="195" y="812"/>
                    </a:lnTo>
                    <a:lnTo>
                      <a:pt x="160" y="917"/>
                    </a:lnTo>
                    <a:lnTo>
                      <a:pt x="128" y="1020"/>
                    </a:lnTo>
                    <a:lnTo>
                      <a:pt x="98" y="1118"/>
                    </a:lnTo>
                    <a:lnTo>
                      <a:pt x="71" y="1213"/>
                    </a:lnTo>
                    <a:lnTo>
                      <a:pt x="48" y="1302"/>
                    </a:lnTo>
                    <a:lnTo>
                      <a:pt x="28" y="1386"/>
                    </a:lnTo>
                    <a:lnTo>
                      <a:pt x="10" y="1465"/>
                    </a:lnTo>
                    <a:lnTo>
                      <a:pt x="4" y="1501"/>
                    </a:lnTo>
                    <a:lnTo>
                      <a:pt x="0" y="1521"/>
                    </a:lnTo>
                    <a:lnTo>
                      <a:pt x="12" y="1522"/>
                    </a:lnTo>
                    <a:lnTo>
                      <a:pt x="24" y="1522"/>
                    </a:lnTo>
                    <a:lnTo>
                      <a:pt x="37" y="1523"/>
                    </a:lnTo>
                    <a:lnTo>
                      <a:pt x="48" y="1524"/>
                    </a:lnTo>
                    <a:lnTo>
                      <a:pt x="61" y="1524"/>
                    </a:lnTo>
                    <a:lnTo>
                      <a:pt x="73" y="1525"/>
                    </a:lnTo>
                    <a:lnTo>
                      <a:pt x="85" y="1525"/>
                    </a:lnTo>
                    <a:lnTo>
                      <a:pt x="97" y="152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5076720" y="3075120"/>
                <a:ext cx="219240" cy="485640"/>
              </a:xfrm>
              <a:custGeom>
                <a:avLst/>
                <a:gdLst/>
                <a:ahLst/>
                <a:rect l="l" t="t" r="r" b="b"/>
                <a:pathLst>
                  <a:path w="689" h="1530">
                    <a:moveTo>
                      <a:pt x="574" y="0"/>
                    </a:moveTo>
                    <a:lnTo>
                      <a:pt x="560" y="31"/>
                    </a:lnTo>
                    <a:lnTo>
                      <a:pt x="512" y="149"/>
                    </a:lnTo>
                    <a:lnTo>
                      <a:pt x="463" y="269"/>
                    </a:lnTo>
                    <a:lnTo>
                      <a:pt x="415" y="391"/>
                    </a:lnTo>
                    <a:lnTo>
                      <a:pt x="368" y="514"/>
                    </a:lnTo>
                    <a:lnTo>
                      <a:pt x="321" y="638"/>
                    </a:lnTo>
                    <a:lnTo>
                      <a:pt x="274" y="758"/>
                    </a:lnTo>
                    <a:lnTo>
                      <a:pt x="230" y="878"/>
                    </a:lnTo>
                    <a:lnTo>
                      <a:pt x="187" y="995"/>
                    </a:lnTo>
                    <a:lnTo>
                      <a:pt x="108" y="1215"/>
                    </a:lnTo>
                    <a:lnTo>
                      <a:pt x="39" y="1410"/>
                    </a:lnTo>
                    <a:lnTo>
                      <a:pt x="10" y="1497"/>
                    </a:lnTo>
                    <a:lnTo>
                      <a:pt x="0" y="1525"/>
                    </a:lnTo>
                    <a:lnTo>
                      <a:pt x="14" y="1526"/>
                    </a:lnTo>
                    <a:lnTo>
                      <a:pt x="28" y="1526"/>
                    </a:lnTo>
                    <a:lnTo>
                      <a:pt x="40" y="1527"/>
                    </a:lnTo>
                    <a:lnTo>
                      <a:pt x="54" y="1529"/>
                    </a:lnTo>
                    <a:lnTo>
                      <a:pt x="68" y="1529"/>
                    </a:lnTo>
                    <a:lnTo>
                      <a:pt x="81" y="1530"/>
                    </a:lnTo>
                    <a:lnTo>
                      <a:pt x="95" y="1530"/>
                    </a:lnTo>
                    <a:lnTo>
                      <a:pt x="109" y="1530"/>
                    </a:lnTo>
                    <a:lnTo>
                      <a:pt x="121" y="1491"/>
                    </a:lnTo>
                    <a:lnTo>
                      <a:pt x="190" y="1296"/>
                    </a:lnTo>
                    <a:lnTo>
                      <a:pt x="269" y="1076"/>
                    </a:lnTo>
                    <a:lnTo>
                      <a:pt x="312" y="959"/>
                    </a:lnTo>
                    <a:lnTo>
                      <a:pt x="356" y="839"/>
                    </a:lnTo>
                    <a:lnTo>
                      <a:pt x="403" y="719"/>
                    </a:lnTo>
                    <a:lnTo>
                      <a:pt x="450" y="595"/>
                    </a:lnTo>
                    <a:lnTo>
                      <a:pt x="497" y="472"/>
                    </a:lnTo>
                    <a:lnTo>
                      <a:pt x="545" y="350"/>
                    </a:lnTo>
                    <a:lnTo>
                      <a:pt x="594" y="230"/>
                    </a:lnTo>
                    <a:lnTo>
                      <a:pt x="642" y="112"/>
                    </a:lnTo>
                    <a:lnTo>
                      <a:pt x="689" y="0"/>
                    </a:lnTo>
                    <a:lnTo>
                      <a:pt x="574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5592600" y="3075120"/>
                <a:ext cx="212760" cy="468360"/>
              </a:xfrm>
              <a:custGeom>
                <a:avLst/>
                <a:gdLst/>
                <a:ahLst/>
                <a:rect l="l" t="t" r="r" b="b"/>
                <a:pathLst>
                  <a:path w="668" h="1474">
                    <a:moveTo>
                      <a:pt x="549" y="0"/>
                    </a:moveTo>
                    <a:lnTo>
                      <a:pt x="501" y="93"/>
                    </a:lnTo>
                    <a:lnTo>
                      <a:pt x="455" y="189"/>
                    </a:lnTo>
                    <a:lnTo>
                      <a:pt x="410" y="286"/>
                    </a:lnTo>
                    <a:lnTo>
                      <a:pt x="367" y="383"/>
                    </a:lnTo>
                    <a:lnTo>
                      <a:pt x="326" y="482"/>
                    </a:lnTo>
                    <a:lnTo>
                      <a:pt x="286" y="580"/>
                    </a:lnTo>
                    <a:lnTo>
                      <a:pt x="248" y="679"/>
                    </a:lnTo>
                    <a:lnTo>
                      <a:pt x="212" y="776"/>
                    </a:lnTo>
                    <a:lnTo>
                      <a:pt x="178" y="871"/>
                    </a:lnTo>
                    <a:lnTo>
                      <a:pt x="146" y="966"/>
                    </a:lnTo>
                    <a:lnTo>
                      <a:pt x="116" y="1059"/>
                    </a:lnTo>
                    <a:lnTo>
                      <a:pt x="88" y="1149"/>
                    </a:lnTo>
                    <a:lnTo>
                      <a:pt x="63" y="1235"/>
                    </a:lnTo>
                    <a:lnTo>
                      <a:pt x="39" y="1319"/>
                    </a:lnTo>
                    <a:lnTo>
                      <a:pt x="18" y="1399"/>
                    </a:lnTo>
                    <a:lnTo>
                      <a:pt x="0" y="1474"/>
                    </a:lnTo>
                    <a:lnTo>
                      <a:pt x="13" y="1473"/>
                    </a:lnTo>
                    <a:lnTo>
                      <a:pt x="27" y="1472"/>
                    </a:lnTo>
                    <a:lnTo>
                      <a:pt x="40" y="1470"/>
                    </a:lnTo>
                    <a:lnTo>
                      <a:pt x="53" y="1470"/>
                    </a:lnTo>
                    <a:lnTo>
                      <a:pt x="67" y="1469"/>
                    </a:lnTo>
                    <a:lnTo>
                      <a:pt x="80" y="1468"/>
                    </a:lnTo>
                    <a:lnTo>
                      <a:pt x="93" y="1467"/>
                    </a:lnTo>
                    <a:lnTo>
                      <a:pt x="107" y="1466"/>
                    </a:lnTo>
                    <a:lnTo>
                      <a:pt x="162" y="1308"/>
                    </a:lnTo>
                    <a:lnTo>
                      <a:pt x="224" y="1136"/>
                    </a:lnTo>
                    <a:lnTo>
                      <a:pt x="292" y="952"/>
                    </a:lnTo>
                    <a:lnTo>
                      <a:pt x="363" y="761"/>
                    </a:lnTo>
                    <a:lnTo>
                      <a:pt x="439" y="566"/>
                    </a:lnTo>
                    <a:lnTo>
                      <a:pt x="515" y="372"/>
                    </a:lnTo>
                    <a:lnTo>
                      <a:pt x="553" y="276"/>
                    </a:lnTo>
                    <a:lnTo>
                      <a:pt x="591" y="182"/>
                    </a:lnTo>
                    <a:lnTo>
                      <a:pt x="630" y="90"/>
                    </a:lnTo>
                    <a:lnTo>
                      <a:pt x="668" y="0"/>
                    </a:lnTo>
                    <a:lnTo>
                      <a:pt x="54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5576760" y="3075120"/>
                <a:ext cx="209520" cy="468360"/>
              </a:xfrm>
              <a:custGeom>
                <a:avLst/>
                <a:gdLst/>
                <a:ahLst/>
                <a:rect l="l" t="t" r="r" b="b"/>
                <a:pathLst>
                  <a:path w="661" h="1477">
                    <a:moveTo>
                      <a:pt x="102" y="1470"/>
                    </a:moveTo>
                    <a:lnTo>
                      <a:pt x="109" y="1441"/>
                    </a:lnTo>
                    <a:lnTo>
                      <a:pt x="132" y="1352"/>
                    </a:lnTo>
                    <a:lnTo>
                      <a:pt x="159" y="1257"/>
                    </a:lnTo>
                    <a:lnTo>
                      <a:pt x="188" y="1158"/>
                    </a:lnTo>
                    <a:lnTo>
                      <a:pt x="221" y="1056"/>
                    </a:lnTo>
                    <a:lnTo>
                      <a:pt x="255" y="951"/>
                    </a:lnTo>
                    <a:lnTo>
                      <a:pt x="294" y="844"/>
                    </a:lnTo>
                    <a:lnTo>
                      <a:pt x="334" y="735"/>
                    </a:lnTo>
                    <a:lnTo>
                      <a:pt x="376" y="624"/>
                    </a:lnTo>
                    <a:lnTo>
                      <a:pt x="420" y="514"/>
                    </a:lnTo>
                    <a:lnTo>
                      <a:pt x="467" y="404"/>
                    </a:lnTo>
                    <a:lnTo>
                      <a:pt x="492" y="349"/>
                    </a:lnTo>
                    <a:lnTo>
                      <a:pt x="516" y="294"/>
                    </a:lnTo>
                    <a:lnTo>
                      <a:pt x="541" y="239"/>
                    </a:lnTo>
                    <a:lnTo>
                      <a:pt x="567" y="186"/>
                    </a:lnTo>
                    <a:lnTo>
                      <a:pt x="594" y="132"/>
                    </a:lnTo>
                    <a:lnTo>
                      <a:pt x="620" y="80"/>
                    </a:lnTo>
                    <a:lnTo>
                      <a:pt x="646" y="27"/>
                    </a:lnTo>
                    <a:lnTo>
                      <a:pt x="661" y="0"/>
                    </a:lnTo>
                    <a:lnTo>
                      <a:pt x="537" y="0"/>
                    </a:lnTo>
                    <a:lnTo>
                      <a:pt x="512" y="51"/>
                    </a:lnTo>
                    <a:lnTo>
                      <a:pt x="485" y="105"/>
                    </a:lnTo>
                    <a:lnTo>
                      <a:pt x="459" y="158"/>
                    </a:lnTo>
                    <a:lnTo>
                      <a:pt x="434" y="212"/>
                    </a:lnTo>
                    <a:lnTo>
                      <a:pt x="410" y="267"/>
                    </a:lnTo>
                    <a:lnTo>
                      <a:pt x="385" y="323"/>
                    </a:lnTo>
                    <a:lnTo>
                      <a:pt x="338" y="432"/>
                    </a:lnTo>
                    <a:lnTo>
                      <a:pt x="294" y="543"/>
                    </a:lnTo>
                    <a:lnTo>
                      <a:pt x="252" y="654"/>
                    </a:lnTo>
                    <a:lnTo>
                      <a:pt x="212" y="763"/>
                    </a:lnTo>
                    <a:lnTo>
                      <a:pt x="173" y="870"/>
                    </a:lnTo>
                    <a:lnTo>
                      <a:pt x="139" y="975"/>
                    </a:lnTo>
                    <a:lnTo>
                      <a:pt x="106" y="1077"/>
                    </a:lnTo>
                    <a:lnTo>
                      <a:pt x="76" y="1176"/>
                    </a:lnTo>
                    <a:lnTo>
                      <a:pt x="50" y="1271"/>
                    </a:lnTo>
                    <a:lnTo>
                      <a:pt x="27" y="1360"/>
                    </a:lnTo>
                    <a:lnTo>
                      <a:pt x="6" y="1444"/>
                    </a:lnTo>
                    <a:lnTo>
                      <a:pt x="0" y="1477"/>
                    </a:lnTo>
                    <a:lnTo>
                      <a:pt x="12" y="1476"/>
                    </a:lnTo>
                    <a:lnTo>
                      <a:pt x="25" y="1475"/>
                    </a:lnTo>
                    <a:lnTo>
                      <a:pt x="37" y="1475"/>
                    </a:lnTo>
                    <a:lnTo>
                      <a:pt x="51" y="1474"/>
                    </a:lnTo>
                    <a:lnTo>
                      <a:pt x="63" y="1473"/>
                    </a:lnTo>
                    <a:lnTo>
                      <a:pt x="76" y="1472"/>
                    </a:lnTo>
                    <a:lnTo>
                      <a:pt x="89" y="1470"/>
                    </a:lnTo>
                    <a:lnTo>
                      <a:pt x="102" y="147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5608800" y="3075120"/>
                <a:ext cx="214200" cy="466560"/>
              </a:xfrm>
              <a:custGeom>
                <a:avLst/>
                <a:gdLst/>
                <a:ahLst/>
                <a:rect l="l" t="t" r="r" b="b"/>
                <a:pathLst>
                  <a:path w="676" h="1470">
                    <a:moveTo>
                      <a:pt x="560" y="0"/>
                    </a:moveTo>
                    <a:lnTo>
                      <a:pt x="522" y="89"/>
                    </a:lnTo>
                    <a:lnTo>
                      <a:pt x="474" y="206"/>
                    </a:lnTo>
                    <a:lnTo>
                      <a:pt x="425" y="327"/>
                    </a:lnTo>
                    <a:lnTo>
                      <a:pt x="377" y="449"/>
                    </a:lnTo>
                    <a:lnTo>
                      <a:pt x="329" y="573"/>
                    </a:lnTo>
                    <a:lnTo>
                      <a:pt x="282" y="696"/>
                    </a:lnTo>
                    <a:lnTo>
                      <a:pt x="236" y="817"/>
                    </a:lnTo>
                    <a:lnTo>
                      <a:pt x="191" y="936"/>
                    </a:lnTo>
                    <a:lnTo>
                      <a:pt x="148" y="1053"/>
                    </a:lnTo>
                    <a:lnTo>
                      <a:pt x="70" y="1272"/>
                    </a:lnTo>
                    <a:lnTo>
                      <a:pt x="1" y="1468"/>
                    </a:lnTo>
                    <a:lnTo>
                      <a:pt x="0" y="1470"/>
                    </a:lnTo>
                    <a:lnTo>
                      <a:pt x="15" y="1469"/>
                    </a:lnTo>
                    <a:lnTo>
                      <a:pt x="28" y="1468"/>
                    </a:lnTo>
                    <a:lnTo>
                      <a:pt x="43" y="1467"/>
                    </a:lnTo>
                    <a:lnTo>
                      <a:pt x="57" y="1466"/>
                    </a:lnTo>
                    <a:lnTo>
                      <a:pt x="71" y="1466"/>
                    </a:lnTo>
                    <a:lnTo>
                      <a:pt x="85" y="1465"/>
                    </a:lnTo>
                    <a:lnTo>
                      <a:pt x="99" y="1464"/>
                    </a:lnTo>
                    <a:lnTo>
                      <a:pt x="114" y="1462"/>
                    </a:lnTo>
                    <a:lnTo>
                      <a:pt x="152" y="1353"/>
                    </a:lnTo>
                    <a:lnTo>
                      <a:pt x="230" y="1134"/>
                    </a:lnTo>
                    <a:lnTo>
                      <a:pt x="274" y="1017"/>
                    </a:lnTo>
                    <a:lnTo>
                      <a:pt x="318" y="898"/>
                    </a:lnTo>
                    <a:lnTo>
                      <a:pt x="364" y="777"/>
                    </a:lnTo>
                    <a:lnTo>
                      <a:pt x="412" y="654"/>
                    </a:lnTo>
                    <a:lnTo>
                      <a:pt x="459" y="530"/>
                    </a:lnTo>
                    <a:lnTo>
                      <a:pt x="507" y="408"/>
                    </a:lnTo>
                    <a:lnTo>
                      <a:pt x="556" y="287"/>
                    </a:lnTo>
                    <a:lnTo>
                      <a:pt x="604" y="170"/>
                    </a:lnTo>
                    <a:lnTo>
                      <a:pt x="652" y="56"/>
                    </a:lnTo>
                    <a:lnTo>
                      <a:pt x="676" y="0"/>
                    </a:lnTo>
                    <a:lnTo>
                      <a:pt x="56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6066000" y="3075120"/>
                <a:ext cx="217440" cy="492120"/>
              </a:xfrm>
              <a:custGeom>
                <a:avLst/>
                <a:gdLst/>
                <a:ahLst/>
                <a:rect l="l" t="t" r="r" b="b"/>
                <a:pathLst>
                  <a:path w="685" h="1548">
                    <a:moveTo>
                      <a:pt x="566" y="0"/>
                    </a:moveTo>
                    <a:lnTo>
                      <a:pt x="541" y="50"/>
                    </a:lnTo>
                    <a:lnTo>
                      <a:pt x="516" y="99"/>
                    </a:lnTo>
                    <a:lnTo>
                      <a:pt x="491" y="150"/>
                    </a:lnTo>
                    <a:lnTo>
                      <a:pt x="467" y="201"/>
                    </a:lnTo>
                    <a:lnTo>
                      <a:pt x="419" y="304"/>
                    </a:lnTo>
                    <a:lnTo>
                      <a:pt x="374" y="408"/>
                    </a:lnTo>
                    <a:lnTo>
                      <a:pt x="330" y="513"/>
                    </a:lnTo>
                    <a:lnTo>
                      <a:pt x="288" y="618"/>
                    </a:lnTo>
                    <a:lnTo>
                      <a:pt x="248" y="722"/>
                    </a:lnTo>
                    <a:lnTo>
                      <a:pt x="212" y="825"/>
                    </a:lnTo>
                    <a:lnTo>
                      <a:pt x="176" y="926"/>
                    </a:lnTo>
                    <a:lnTo>
                      <a:pt x="143" y="1027"/>
                    </a:lnTo>
                    <a:lnTo>
                      <a:pt x="113" y="1122"/>
                    </a:lnTo>
                    <a:lnTo>
                      <a:pt x="84" y="1216"/>
                    </a:lnTo>
                    <a:lnTo>
                      <a:pt x="59" y="1306"/>
                    </a:lnTo>
                    <a:lnTo>
                      <a:pt x="36" y="1392"/>
                    </a:lnTo>
                    <a:lnTo>
                      <a:pt x="17" y="1473"/>
                    </a:lnTo>
                    <a:lnTo>
                      <a:pt x="0" y="1548"/>
                    </a:lnTo>
                    <a:lnTo>
                      <a:pt x="12" y="1548"/>
                    </a:lnTo>
                    <a:lnTo>
                      <a:pt x="24" y="1548"/>
                    </a:lnTo>
                    <a:lnTo>
                      <a:pt x="36" y="1548"/>
                    </a:lnTo>
                    <a:lnTo>
                      <a:pt x="48" y="1548"/>
                    </a:lnTo>
                    <a:lnTo>
                      <a:pt x="60" y="1548"/>
                    </a:lnTo>
                    <a:lnTo>
                      <a:pt x="72" y="1548"/>
                    </a:lnTo>
                    <a:lnTo>
                      <a:pt x="84" y="1548"/>
                    </a:lnTo>
                    <a:lnTo>
                      <a:pt x="96" y="1547"/>
                    </a:lnTo>
                    <a:lnTo>
                      <a:pt x="151" y="1388"/>
                    </a:lnTo>
                    <a:lnTo>
                      <a:pt x="214" y="1210"/>
                    </a:lnTo>
                    <a:lnTo>
                      <a:pt x="285" y="1016"/>
                    </a:lnTo>
                    <a:lnTo>
                      <a:pt x="360" y="814"/>
                    </a:lnTo>
                    <a:lnTo>
                      <a:pt x="440" y="607"/>
                    </a:lnTo>
                    <a:lnTo>
                      <a:pt x="522" y="398"/>
                    </a:lnTo>
                    <a:lnTo>
                      <a:pt x="563" y="295"/>
                    </a:lnTo>
                    <a:lnTo>
                      <a:pt x="604" y="195"/>
                    </a:lnTo>
                    <a:lnTo>
                      <a:pt x="645" y="96"/>
                    </a:lnTo>
                    <a:lnTo>
                      <a:pt x="685" y="0"/>
                    </a:lnTo>
                    <a:lnTo>
                      <a:pt x="56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6049800" y="3075120"/>
                <a:ext cx="216000" cy="492120"/>
              </a:xfrm>
              <a:custGeom>
                <a:avLst/>
                <a:gdLst/>
                <a:ahLst/>
                <a:rect l="l" t="t" r="r" b="b"/>
                <a:pathLst>
                  <a:path w="678" h="1548">
                    <a:moveTo>
                      <a:pt x="99" y="1548"/>
                    </a:moveTo>
                    <a:lnTo>
                      <a:pt x="104" y="1530"/>
                    </a:lnTo>
                    <a:lnTo>
                      <a:pt x="123" y="1445"/>
                    </a:lnTo>
                    <a:lnTo>
                      <a:pt x="147" y="1356"/>
                    </a:lnTo>
                    <a:lnTo>
                      <a:pt x="173" y="1262"/>
                    </a:lnTo>
                    <a:lnTo>
                      <a:pt x="203" y="1163"/>
                    </a:lnTo>
                    <a:lnTo>
                      <a:pt x="235" y="1061"/>
                    </a:lnTo>
                    <a:lnTo>
                      <a:pt x="270" y="956"/>
                    </a:lnTo>
                    <a:lnTo>
                      <a:pt x="308" y="849"/>
                    </a:lnTo>
                    <a:lnTo>
                      <a:pt x="347" y="739"/>
                    </a:lnTo>
                    <a:lnTo>
                      <a:pt x="391" y="630"/>
                    </a:lnTo>
                    <a:lnTo>
                      <a:pt x="435" y="519"/>
                    </a:lnTo>
                    <a:lnTo>
                      <a:pt x="482" y="408"/>
                    </a:lnTo>
                    <a:lnTo>
                      <a:pt x="506" y="353"/>
                    </a:lnTo>
                    <a:lnTo>
                      <a:pt x="531" y="299"/>
                    </a:lnTo>
                    <a:lnTo>
                      <a:pt x="556" y="244"/>
                    </a:lnTo>
                    <a:lnTo>
                      <a:pt x="581" y="190"/>
                    </a:lnTo>
                    <a:lnTo>
                      <a:pt x="607" y="137"/>
                    </a:lnTo>
                    <a:lnTo>
                      <a:pt x="634" y="84"/>
                    </a:lnTo>
                    <a:lnTo>
                      <a:pt x="661" y="32"/>
                    </a:lnTo>
                    <a:lnTo>
                      <a:pt x="678" y="0"/>
                    </a:lnTo>
                    <a:lnTo>
                      <a:pt x="554" y="0"/>
                    </a:lnTo>
                    <a:lnTo>
                      <a:pt x="553" y="3"/>
                    </a:lnTo>
                    <a:lnTo>
                      <a:pt x="525" y="56"/>
                    </a:lnTo>
                    <a:lnTo>
                      <a:pt x="499" y="109"/>
                    </a:lnTo>
                    <a:lnTo>
                      <a:pt x="474" y="163"/>
                    </a:lnTo>
                    <a:lnTo>
                      <a:pt x="449" y="218"/>
                    </a:lnTo>
                    <a:lnTo>
                      <a:pt x="424" y="272"/>
                    </a:lnTo>
                    <a:lnTo>
                      <a:pt x="400" y="327"/>
                    </a:lnTo>
                    <a:lnTo>
                      <a:pt x="353" y="438"/>
                    </a:lnTo>
                    <a:lnTo>
                      <a:pt x="308" y="549"/>
                    </a:lnTo>
                    <a:lnTo>
                      <a:pt x="265" y="658"/>
                    </a:lnTo>
                    <a:lnTo>
                      <a:pt x="225" y="768"/>
                    </a:lnTo>
                    <a:lnTo>
                      <a:pt x="188" y="875"/>
                    </a:lnTo>
                    <a:lnTo>
                      <a:pt x="153" y="980"/>
                    </a:lnTo>
                    <a:lnTo>
                      <a:pt x="121" y="1082"/>
                    </a:lnTo>
                    <a:lnTo>
                      <a:pt x="91" y="1181"/>
                    </a:lnTo>
                    <a:lnTo>
                      <a:pt x="65" y="1275"/>
                    </a:lnTo>
                    <a:lnTo>
                      <a:pt x="41" y="1365"/>
                    </a:lnTo>
                    <a:lnTo>
                      <a:pt x="20" y="1449"/>
                    </a:lnTo>
                    <a:lnTo>
                      <a:pt x="4" y="1527"/>
                    </a:lnTo>
                    <a:lnTo>
                      <a:pt x="0" y="1547"/>
                    </a:lnTo>
                    <a:lnTo>
                      <a:pt x="12" y="1547"/>
                    </a:lnTo>
                    <a:lnTo>
                      <a:pt x="25" y="1547"/>
                    </a:lnTo>
                    <a:lnTo>
                      <a:pt x="36" y="1547"/>
                    </a:lnTo>
                    <a:lnTo>
                      <a:pt x="49" y="1548"/>
                    </a:lnTo>
                    <a:lnTo>
                      <a:pt x="61" y="1548"/>
                    </a:lnTo>
                    <a:lnTo>
                      <a:pt x="74" y="1548"/>
                    </a:lnTo>
                    <a:lnTo>
                      <a:pt x="86" y="1548"/>
                    </a:lnTo>
                    <a:lnTo>
                      <a:pt x="99" y="15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6078600" y="3075120"/>
                <a:ext cx="223920" cy="492120"/>
              </a:xfrm>
              <a:custGeom>
                <a:avLst/>
                <a:gdLst/>
                <a:ahLst/>
                <a:rect l="l" t="t" r="r" b="b"/>
                <a:pathLst>
                  <a:path w="702" h="1548">
                    <a:moveTo>
                      <a:pt x="586" y="0"/>
                    </a:moveTo>
                    <a:lnTo>
                      <a:pt x="547" y="93"/>
                    </a:lnTo>
                    <a:lnTo>
                      <a:pt x="498" y="212"/>
                    </a:lnTo>
                    <a:lnTo>
                      <a:pt x="450" y="332"/>
                    </a:lnTo>
                    <a:lnTo>
                      <a:pt x="401" y="454"/>
                    </a:lnTo>
                    <a:lnTo>
                      <a:pt x="353" y="577"/>
                    </a:lnTo>
                    <a:lnTo>
                      <a:pt x="306" y="700"/>
                    </a:lnTo>
                    <a:lnTo>
                      <a:pt x="261" y="821"/>
                    </a:lnTo>
                    <a:lnTo>
                      <a:pt x="215" y="941"/>
                    </a:lnTo>
                    <a:lnTo>
                      <a:pt x="173" y="1057"/>
                    </a:lnTo>
                    <a:lnTo>
                      <a:pt x="93" y="1278"/>
                    </a:lnTo>
                    <a:lnTo>
                      <a:pt x="25" y="1473"/>
                    </a:lnTo>
                    <a:lnTo>
                      <a:pt x="0" y="1548"/>
                    </a:lnTo>
                    <a:lnTo>
                      <a:pt x="14" y="1548"/>
                    </a:lnTo>
                    <a:lnTo>
                      <a:pt x="27" y="1548"/>
                    </a:lnTo>
                    <a:lnTo>
                      <a:pt x="41" y="1548"/>
                    </a:lnTo>
                    <a:lnTo>
                      <a:pt x="55" y="1548"/>
                    </a:lnTo>
                    <a:lnTo>
                      <a:pt x="68" y="1547"/>
                    </a:lnTo>
                    <a:lnTo>
                      <a:pt x="82" y="1547"/>
                    </a:lnTo>
                    <a:lnTo>
                      <a:pt x="97" y="1547"/>
                    </a:lnTo>
                    <a:lnTo>
                      <a:pt x="110" y="1547"/>
                    </a:lnTo>
                    <a:lnTo>
                      <a:pt x="175" y="1359"/>
                    </a:lnTo>
                    <a:lnTo>
                      <a:pt x="255" y="1138"/>
                    </a:lnTo>
                    <a:lnTo>
                      <a:pt x="297" y="1022"/>
                    </a:lnTo>
                    <a:lnTo>
                      <a:pt x="343" y="903"/>
                    </a:lnTo>
                    <a:lnTo>
                      <a:pt x="389" y="781"/>
                    </a:lnTo>
                    <a:lnTo>
                      <a:pt x="435" y="658"/>
                    </a:lnTo>
                    <a:lnTo>
                      <a:pt x="483" y="535"/>
                    </a:lnTo>
                    <a:lnTo>
                      <a:pt x="532" y="413"/>
                    </a:lnTo>
                    <a:lnTo>
                      <a:pt x="580" y="293"/>
                    </a:lnTo>
                    <a:lnTo>
                      <a:pt x="629" y="174"/>
                    </a:lnTo>
                    <a:lnTo>
                      <a:pt x="677" y="60"/>
                    </a:lnTo>
                    <a:lnTo>
                      <a:pt x="702" y="0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4213080" y="3075120"/>
                <a:ext cx="211320" cy="471240"/>
              </a:xfrm>
              <a:custGeom>
                <a:avLst/>
                <a:gdLst/>
                <a:ahLst/>
                <a:rect l="l" t="t" r="r" b="b"/>
                <a:pathLst>
                  <a:path w="668" h="1487">
                    <a:moveTo>
                      <a:pt x="548" y="0"/>
                    </a:moveTo>
                    <a:lnTo>
                      <a:pt x="503" y="91"/>
                    </a:lnTo>
                    <a:lnTo>
                      <a:pt x="459" y="183"/>
                    </a:lnTo>
                    <a:lnTo>
                      <a:pt x="416" y="278"/>
                    </a:lnTo>
                    <a:lnTo>
                      <a:pt x="375" y="374"/>
                    </a:lnTo>
                    <a:lnTo>
                      <a:pt x="334" y="470"/>
                    </a:lnTo>
                    <a:lnTo>
                      <a:pt x="295" y="567"/>
                    </a:lnTo>
                    <a:lnTo>
                      <a:pt x="259" y="664"/>
                    </a:lnTo>
                    <a:lnTo>
                      <a:pt x="222" y="761"/>
                    </a:lnTo>
                    <a:lnTo>
                      <a:pt x="188" y="857"/>
                    </a:lnTo>
                    <a:lnTo>
                      <a:pt x="156" y="952"/>
                    </a:lnTo>
                    <a:lnTo>
                      <a:pt x="125" y="1046"/>
                    </a:lnTo>
                    <a:lnTo>
                      <a:pt x="97" y="1137"/>
                    </a:lnTo>
                    <a:lnTo>
                      <a:pt x="70" y="1227"/>
                    </a:lnTo>
                    <a:lnTo>
                      <a:pt x="44" y="1315"/>
                    </a:lnTo>
                    <a:lnTo>
                      <a:pt x="21" y="1401"/>
                    </a:lnTo>
                    <a:lnTo>
                      <a:pt x="0" y="1482"/>
                    </a:lnTo>
                    <a:lnTo>
                      <a:pt x="16" y="1482"/>
                    </a:lnTo>
                    <a:lnTo>
                      <a:pt x="32" y="1482"/>
                    </a:lnTo>
                    <a:lnTo>
                      <a:pt x="47" y="1483"/>
                    </a:lnTo>
                    <a:lnTo>
                      <a:pt x="63" y="1483"/>
                    </a:lnTo>
                    <a:lnTo>
                      <a:pt x="79" y="1484"/>
                    </a:lnTo>
                    <a:lnTo>
                      <a:pt x="93" y="1485"/>
                    </a:lnTo>
                    <a:lnTo>
                      <a:pt x="108" y="1486"/>
                    </a:lnTo>
                    <a:lnTo>
                      <a:pt x="124" y="1487"/>
                    </a:lnTo>
                    <a:lnTo>
                      <a:pt x="181" y="1316"/>
                    </a:lnTo>
                    <a:lnTo>
                      <a:pt x="244" y="1135"/>
                    </a:lnTo>
                    <a:lnTo>
                      <a:pt x="310" y="946"/>
                    </a:lnTo>
                    <a:lnTo>
                      <a:pt x="380" y="753"/>
                    </a:lnTo>
                    <a:lnTo>
                      <a:pt x="451" y="558"/>
                    </a:lnTo>
                    <a:lnTo>
                      <a:pt x="524" y="365"/>
                    </a:lnTo>
                    <a:lnTo>
                      <a:pt x="596" y="178"/>
                    </a:lnTo>
                    <a:lnTo>
                      <a:pt x="668" y="0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4195800" y="3075120"/>
                <a:ext cx="210960" cy="471240"/>
              </a:xfrm>
              <a:custGeom>
                <a:avLst/>
                <a:gdLst/>
                <a:ahLst/>
                <a:rect l="l" t="t" r="r" b="b"/>
                <a:pathLst>
                  <a:path w="661" h="1484">
                    <a:moveTo>
                      <a:pt x="102" y="1483"/>
                    </a:moveTo>
                    <a:lnTo>
                      <a:pt x="119" y="1417"/>
                    </a:lnTo>
                    <a:lnTo>
                      <a:pt x="149" y="1311"/>
                    </a:lnTo>
                    <a:lnTo>
                      <a:pt x="181" y="1201"/>
                    </a:lnTo>
                    <a:lnTo>
                      <a:pt x="216" y="1087"/>
                    </a:lnTo>
                    <a:lnTo>
                      <a:pt x="255" y="972"/>
                    </a:lnTo>
                    <a:lnTo>
                      <a:pt x="295" y="854"/>
                    </a:lnTo>
                    <a:lnTo>
                      <a:pt x="338" y="735"/>
                    </a:lnTo>
                    <a:lnTo>
                      <a:pt x="384" y="616"/>
                    </a:lnTo>
                    <a:lnTo>
                      <a:pt x="432" y="496"/>
                    </a:lnTo>
                    <a:lnTo>
                      <a:pt x="457" y="437"/>
                    </a:lnTo>
                    <a:lnTo>
                      <a:pt x="482" y="377"/>
                    </a:lnTo>
                    <a:lnTo>
                      <a:pt x="508" y="318"/>
                    </a:lnTo>
                    <a:lnTo>
                      <a:pt x="534" y="260"/>
                    </a:lnTo>
                    <a:lnTo>
                      <a:pt x="562" y="202"/>
                    </a:lnTo>
                    <a:lnTo>
                      <a:pt x="588" y="145"/>
                    </a:lnTo>
                    <a:lnTo>
                      <a:pt x="616" y="89"/>
                    </a:lnTo>
                    <a:lnTo>
                      <a:pt x="645" y="33"/>
                    </a:lnTo>
                    <a:lnTo>
                      <a:pt x="661" y="0"/>
                    </a:lnTo>
                    <a:lnTo>
                      <a:pt x="538" y="0"/>
                    </a:lnTo>
                    <a:lnTo>
                      <a:pt x="534" y="7"/>
                    </a:lnTo>
                    <a:lnTo>
                      <a:pt x="507" y="64"/>
                    </a:lnTo>
                    <a:lnTo>
                      <a:pt x="480" y="121"/>
                    </a:lnTo>
                    <a:lnTo>
                      <a:pt x="452" y="179"/>
                    </a:lnTo>
                    <a:lnTo>
                      <a:pt x="426" y="237"/>
                    </a:lnTo>
                    <a:lnTo>
                      <a:pt x="400" y="296"/>
                    </a:lnTo>
                    <a:lnTo>
                      <a:pt x="375" y="356"/>
                    </a:lnTo>
                    <a:lnTo>
                      <a:pt x="351" y="415"/>
                    </a:lnTo>
                    <a:lnTo>
                      <a:pt x="302" y="534"/>
                    </a:lnTo>
                    <a:lnTo>
                      <a:pt x="256" y="654"/>
                    </a:lnTo>
                    <a:lnTo>
                      <a:pt x="213" y="773"/>
                    </a:lnTo>
                    <a:lnTo>
                      <a:pt x="173" y="891"/>
                    </a:lnTo>
                    <a:lnTo>
                      <a:pt x="134" y="1006"/>
                    </a:lnTo>
                    <a:lnTo>
                      <a:pt x="99" y="1120"/>
                    </a:lnTo>
                    <a:lnTo>
                      <a:pt x="67" y="1230"/>
                    </a:lnTo>
                    <a:lnTo>
                      <a:pt x="37" y="1336"/>
                    </a:lnTo>
                    <a:lnTo>
                      <a:pt x="10" y="1438"/>
                    </a:lnTo>
                    <a:lnTo>
                      <a:pt x="0" y="1484"/>
                    </a:lnTo>
                    <a:lnTo>
                      <a:pt x="12" y="1484"/>
                    </a:lnTo>
                    <a:lnTo>
                      <a:pt x="26" y="1483"/>
                    </a:lnTo>
                    <a:lnTo>
                      <a:pt x="38" y="1483"/>
                    </a:lnTo>
                    <a:lnTo>
                      <a:pt x="51" y="1483"/>
                    </a:lnTo>
                    <a:lnTo>
                      <a:pt x="64" y="1482"/>
                    </a:lnTo>
                    <a:lnTo>
                      <a:pt x="77" y="1482"/>
                    </a:lnTo>
                    <a:lnTo>
                      <a:pt x="90" y="1483"/>
                    </a:lnTo>
                    <a:lnTo>
                      <a:pt x="102" y="148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4235400" y="3075120"/>
                <a:ext cx="208080" cy="474480"/>
              </a:xfrm>
              <a:custGeom>
                <a:avLst/>
                <a:gdLst/>
                <a:ahLst/>
                <a:rect l="l" t="t" r="r" b="b"/>
                <a:pathLst>
                  <a:path w="654" h="1495">
                    <a:moveTo>
                      <a:pt x="539" y="0"/>
                    </a:moveTo>
                    <a:lnTo>
                      <a:pt x="525" y="33"/>
                    </a:lnTo>
                    <a:lnTo>
                      <a:pt x="476" y="157"/>
                    </a:lnTo>
                    <a:lnTo>
                      <a:pt x="427" y="284"/>
                    </a:lnTo>
                    <a:lnTo>
                      <a:pt x="378" y="414"/>
                    </a:lnTo>
                    <a:lnTo>
                      <a:pt x="328" y="546"/>
                    </a:lnTo>
                    <a:lnTo>
                      <a:pt x="280" y="680"/>
                    </a:lnTo>
                    <a:lnTo>
                      <a:pt x="231" y="812"/>
                    </a:lnTo>
                    <a:lnTo>
                      <a:pt x="184" y="943"/>
                    </a:lnTo>
                    <a:lnTo>
                      <a:pt x="139" y="1072"/>
                    </a:lnTo>
                    <a:lnTo>
                      <a:pt x="95" y="1199"/>
                    </a:lnTo>
                    <a:lnTo>
                      <a:pt x="54" y="1320"/>
                    </a:lnTo>
                    <a:lnTo>
                      <a:pt x="16" y="1436"/>
                    </a:lnTo>
                    <a:lnTo>
                      <a:pt x="0" y="1483"/>
                    </a:lnTo>
                    <a:lnTo>
                      <a:pt x="13" y="1484"/>
                    </a:lnTo>
                    <a:lnTo>
                      <a:pt x="26" y="1485"/>
                    </a:lnTo>
                    <a:lnTo>
                      <a:pt x="40" y="1486"/>
                    </a:lnTo>
                    <a:lnTo>
                      <a:pt x="53" y="1487"/>
                    </a:lnTo>
                    <a:lnTo>
                      <a:pt x="66" y="1490"/>
                    </a:lnTo>
                    <a:lnTo>
                      <a:pt x="79" y="1491"/>
                    </a:lnTo>
                    <a:lnTo>
                      <a:pt x="92" y="1493"/>
                    </a:lnTo>
                    <a:lnTo>
                      <a:pt x="105" y="1495"/>
                    </a:lnTo>
                    <a:lnTo>
                      <a:pt x="136" y="1401"/>
                    </a:lnTo>
                    <a:lnTo>
                      <a:pt x="178" y="1280"/>
                    </a:lnTo>
                    <a:lnTo>
                      <a:pt x="222" y="1154"/>
                    </a:lnTo>
                    <a:lnTo>
                      <a:pt x="266" y="1024"/>
                    </a:lnTo>
                    <a:lnTo>
                      <a:pt x="313" y="893"/>
                    </a:lnTo>
                    <a:lnTo>
                      <a:pt x="362" y="761"/>
                    </a:lnTo>
                    <a:lnTo>
                      <a:pt x="410" y="627"/>
                    </a:lnTo>
                    <a:lnTo>
                      <a:pt x="460" y="496"/>
                    </a:lnTo>
                    <a:lnTo>
                      <a:pt x="509" y="365"/>
                    </a:lnTo>
                    <a:lnTo>
                      <a:pt x="558" y="238"/>
                    </a:lnTo>
                    <a:lnTo>
                      <a:pt x="607" y="115"/>
                    </a:lnTo>
                    <a:lnTo>
                      <a:pt x="654" y="0"/>
                    </a:lnTo>
                    <a:lnTo>
                      <a:pt x="539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3233880" y="3075120"/>
                <a:ext cx="150840" cy="474480"/>
              </a:xfrm>
              <a:custGeom>
                <a:avLst/>
                <a:gdLst/>
                <a:ahLst/>
                <a:rect l="l" t="t" r="r" b="b"/>
                <a:pathLst>
                  <a:path w="472" h="1497">
                    <a:moveTo>
                      <a:pt x="342" y="0"/>
                    </a:moveTo>
                    <a:lnTo>
                      <a:pt x="310" y="100"/>
                    </a:lnTo>
                    <a:lnTo>
                      <a:pt x="279" y="202"/>
                    </a:lnTo>
                    <a:lnTo>
                      <a:pt x="248" y="303"/>
                    </a:lnTo>
                    <a:lnTo>
                      <a:pt x="221" y="406"/>
                    </a:lnTo>
                    <a:lnTo>
                      <a:pt x="193" y="506"/>
                    </a:lnTo>
                    <a:lnTo>
                      <a:pt x="168" y="607"/>
                    </a:lnTo>
                    <a:lnTo>
                      <a:pt x="144" y="707"/>
                    </a:lnTo>
                    <a:lnTo>
                      <a:pt x="122" y="804"/>
                    </a:lnTo>
                    <a:lnTo>
                      <a:pt x="101" y="901"/>
                    </a:lnTo>
                    <a:lnTo>
                      <a:pt x="82" y="995"/>
                    </a:lnTo>
                    <a:lnTo>
                      <a:pt x="63" y="1087"/>
                    </a:lnTo>
                    <a:lnTo>
                      <a:pt x="47" y="1176"/>
                    </a:lnTo>
                    <a:lnTo>
                      <a:pt x="33" y="1262"/>
                    </a:lnTo>
                    <a:lnTo>
                      <a:pt x="20" y="1344"/>
                    </a:lnTo>
                    <a:lnTo>
                      <a:pt x="9" y="1422"/>
                    </a:lnTo>
                    <a:lnTo>
                      <a:pt x="0" y="1497"/>
                    </a:lnTo>
                    <a:lnTo>
                      <a:pt x="12" y="1497"/>
                    </a:lnTo>
                    <a:lnTo>
                      <a:pt x="26" y="1497"/>
                    </a:lnTo>
                    <a:lnTo>
                      <a:pt x="38" y="1497"/>
                    </a:lnTo>
                    <a:lnTo>
                      <a:pt x="51" y="1497"/>
                    </a:lnTo>
                    <a:lnTo>
                      <a:pt x="63" y="1497"/>
                    </a:lnTo>
                    <a:lnTo>
                      <a:pt x="77" y="1495"/>
                    </a:lnTo>
                    <a:lnTo>
                      <a:pt x="90" y="1497"/>
                    </a:lnTo>
                    <a:lnTo>
                      <a:pt x="102" y="1497"/>
                    </a:lnTo>
                    <a:lnTo>
                      <a:pt x="136" y="1340"/>
                    </a:lnTo>
                    <a:lnTo>
                      <a:pt x="176" y="1169"/>
                    </a:lnTo>
                    <a:lnTo>
                      <a:pt x="220" y="986"/>
                    </a:lnTo>
                    <a:lnTo>
                      <a:pt x="265" y="794"/>
                    </a:lnTo>
                    <a:lnTo>
                      <a:pt x="314" y="596"/>
                    </a:lnTo>
                    <a:lnTo>
                      <a:pt x="366" y="396"/>
                    </a:lnTo>
                    <a:lnTo>
                      <a:pt x="418" y="196"/>
                    </a:lnTo>
                    <a:lnTo>
                      <a:pt x="472" y="0"/>
                    </a:lnTo>
                    <a:lnTo>
                      <a:pt x="34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3219480" y="3075120"/>
                <a:ext cx="141120" cy="476280"/>
              </a:xfrm>
              <a:custGeom>
                <a:avLst/>
                <a:gdLst/>
                <a:ahLst/>
                <a:rect l="l" t="t" r="r" b="b"/>
                <a:pathLst>
                  <a:path w="442" h="1499">
                    <a:moveTo>
                      <a:pt x="92" y="1497"/>
                    </a:moveTo>
                    <a:lnTo>
                      <a:pt x="97" y="1453"/>
                    </a:lnTo>
                    <a:lnTo>
                      <a:pt x="112" y="1353"/>
                    </a:lnTo>
                    <a:lnTo>
                      <a:pt x="129" y="1247"/>
                    </a:lnTo>
                    <a:lnTo>
                      <a:pt x="149" y="1136"/>
                    </a:lnTo>
                    <a:lnTo>
                      <a:pt x="171" y="1020"/>
                    </a:lnTo>
                    <a:lnTo>
                      <a:pt x="196" y="901"/>
                    </a:lnTo>
                    <a:lnTo>
                      <a:pt x="223" y="778"/>
                    </a:lnTo>
                    <a:lnTo>
                      <a:pt x="253" y="654"/>
                    </a:lnTo>
                    <a:lnTo>
                      <a:pt x="286" y="527"/>
                    </a:lnTo>
                    <a:lnTo>
                      <a:pt x="320" y="399"/>
                    </a:lnTo>
                    <a:lnTo>
                      <a:pt x="357" y="271"/>
                    </a:lnTo>
                    <a:lnTo>
                      <a:pt x="376" y="207"/>
                    </a:lnTo>
                    <a:lnTo>
                      <a:pt x="396" y="144"/>
                    </a:lnTo>
                    <a:lnTo>
                      <a:pt x="416" y="80"/>
                    </a:lnTo>
                    <a:lnTo>
                      <a:pt x="437" y="17"/>
                    </a:lnTo>
                    <a:lnTo>
                      <a:pt x="442" y="0"/>
                    </a:lnTo>
                    <a:lnTo>
                      <a:pt x="334" y="0"/>
                    </a:lnTo>
                    <a:lnTo>
                      <a:pt x="313" y="63"/>
                    </a:lnTo>
                    <a:lnTo>
                      <a:pt x="294" y="126"/>
                    </a:lnTo>
                    <a:lnTo>
                      <a:pt x="275" y="190"/>
                    </a:lnTo>
                    <a:lnTo>
                      <a:pt x="238" y="318"/>
                    </a:lnTo>
                    <a:lnTo>
                      <a:pt x="203" y="446"/>
                    </a:lnTo>
                    <a:lnTo>
                      <a:pt x="171" y="573"/>
                    </a:lnTo>
                    <a:lnTo>
                      <a:pt x="141" y="697"/>
                    </a:lnTo>
                    <a:lnTo>
                      <a:pt x="114" y="820"/>
                    </a:lnTo>
                    <a:lnTo>
                      <a:pt x="89" y="939"/>
                    </a:lnTo>
                    <a:lnTo>
                      <a:pt x="66" y="1055"/>
                    </a:lnTo>
                    <a:lnTo>
                      <a:pt x="47" y="1166"/>
                    </a:lnTo>
                    <a:lnTo>
                      <a:pt x="30" y="1272"/>
                    </a:lnTo>
                    <a:lnTo>
                      <a:pt x="15" y="1372"/>
                    </a:lnTo>
                    <a:lnTo>
                      <a:pt x="3" y="1466"/>
                    </a:lnTo>
                    <a:lnTo>
                      <a:pt x="0" y="1499"/>
                    </a:lnTo>
                    <a:lnTo>
                      <a:pt x="11" y="1498"/>
                    </a:lnTo>
                    <a:lnTo>
                      <a:pt x="23" y="1498"/>
                    </a:lnTo>
                    <a:lnTo>
                      <a:pt x="34" y="1498"/>
                    </a:lnTo>
                    <a:lnTo>
                      <a:pt x="46" y="1497"/>
                    </a:lnTo>
                    <a:lnTo>
                      <a:pt x="57" y="1497"/>
                    </a:lnTo>
                    <a:lnTo>
                      <a:pt x="68" y="1497"/>
                    </a:lnTo>
                    <a:lnTo>
                      <a:pt x="81" y="1497"/>
                    </a:lnTo>
                    <a:lnTo>
                      <a:pt x="92" y="149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3251160" y="3075120"/>
                <a:ext cx="149400" cy="474480"/>
              </a:xfrm>
              <a:custGeom>
                <a:avLst/>
                <a:gdLst/>
                <a:ahLst/>
                <a:rect l="l" t="t" r="r" b="b"/>
                <a:pathLst>
                  <a:path w="472" h="1497">
                    <a:moveTo>
                      <a:pt x="367" y="0"/>
                    </a:moveTo>
                    <a:lnTo>
                      <a:pt x="361" y="19"/>
                    </a:lnTo>
                    <a:lnTo>
                      <a:pt x="324" y="158"/>
                    </a:lnTo>
                    <a:lnTo>
                      <a:pt x="287" y="300"/>
                    </a:lnTo>
                    <a:lnTo>
                      <a:pt x="251" y="441"/>
                    </a:lnTo>
                    <a:lnTo>
                      <a:pt x="214" y="582"/>
                    </a:lnTo>
                    <a:lnTo>
                      <a:pt x="180" y="722"/>
                    </a:lnTo>
                    <a:lnTo>
                      <a:pt x="147" y="859"/>
                    </a:lnTo>
                    <a:lnTo>
                      <a:pt x="115" y="992"/>
                    </a:lnTo>
                    <a:lnTo>
                      <a:pt x="84" y="1120"/>
                    </a:lnTo>
                    <a:lnTo>
                      <a:pt x="56" y="1243"/>
                    </a:lnTo>
                    <a:lnTo>
                      <a:pt x="31" y="1359"/>
                    </a:lnTo>
                    <a:lnTo>
                      <a:pt x="7" y="1466"/>
                    </a:lnTo>
                    <a:lnTo>
                      <a:pt x="0" y="1497"/>
                    </a:lnTo>
                    <a:lnTo>
                      <a:pt x="13" y="1497"/>
                    </a:lnTo>
                    <a:lnTo>
                      <a:pt x="25" y="1495"/>
                    </a:lnTo>
                    <a:lnTo>
                      <a:pt x="38" y="1497"/>
                    </a:lnTo>
                    <a:lnTo>
                      <a:pt x="50" y="1497"/>
                    </a:lnTo>
                    <a:lnTo>
                      <a:pt x="63" y="1497"/>
                    </a:lnTo>
                    <a:lnTo>
                      <a:pt x="75" y="1497"/>
                    </a:lnTo>
                    <a:lnTo>
                      <a:pt x="88" y="1497"/>
                    </a:lnTo>
                    <a:lnTo>
                      <a:pt x="100" y="1497"/>
                    </a:lnTo>
                    <a:lnTo>
                      <a:pt x="113" y="1440"/>
                    </a:lnTo>
                    <a:lnTo>
                      <a:pt x="139" y="1324"/>
                    </a:lnTo>
                    <a:lnTo>
                      <a:pt x="166" y="1201"/>
                    </a:lnTo>
                    <a:lnTo>
                      <a:pt x="197" y="1073"/>
                    </a:lnTo>
                    <a:lnTo>
                      <a:pt x="229" y="940"/>
                    </a:lnTo>
                    <a:lnTo>
                      <a:pt x="262" y="803"/>
                    </a:lnTo>
                    <a:lnTo>
                      <a:pt x="298" y="663"/>
                    </a:lnTo>
                    <a:lnTo>
                      <a:pt x="333" y="522"/>
                    </a:lnTo>
                    <a:lnTo>
                      <a:pt x="369" y="381"/>
                    </a:lnTo>
                    <a:lnTo>
                      <a:pt x="406" y="239"/>
                    </a:lnTo>
                    <a:lnTo>
                      <a:pt x="443" y="100"/>
                    </a:lnTo>
                    <a:lnTo>
                      <a:pt x="472" y="0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2917800" y="3075120"/>
                <a:ext cx="141480" cy="509400"/>
              </a:xfrm>
              <a:custGeom>
                <a:avLst/>
                <a:gdLst/>
                <a:ahLst/>
                <a:rect l="l" t="t" r="r" b="b"/>
                <a:pathLst>
                  <a:path w="443" h="1607">
                    <a:moveTo>
                      <a:pt x="298" y="0"/>
                    </a:moveTo>
                    <a:lnTo>
                      <a:pt x="270" y="108"/>
                    </a:lnTo>
                    <a:lnTo>
                      <a:pt x="241" y="217"/>
                    </a:lnTo>
                    <a:lnTo>
                      <a:pt x="215" y="326"/>
                    </a:lnTo>
                    <a:lnTo>
                      <a:pt x="190" y="434"/>
                    </a:lnTo>
                    <a:lnTo>
                      <a:pt x="166" y="542"/>
                    </a:lnTo>
                    <a:lnTo>
                      <a:pt x="144" y="649"/>
                    </a:lnTo>
                    <a:lnTo>
                      <a:pt x="122" y="755"/>
                    </a:lnTo>
                    <a:lnTo>
                      <a:pt x="103" y="860"/>
                    </a:lnTo>
                    <a:lnTo>
                      <a:pt x="86" y="963"/>
                    </a:lnTo>
                    <a:lnTo>
                      <a:pt x="69" y="1063"/>
                    </a:lnTo>
                    <a:lnTo>
                      <a:pt x="54" y="1161"/>
                    </a:lnTo>
                    <a:lnTo>
                      <a:pt x="40" y="1257"/>
                    </a:lnTo>
                    <a:lnTo>
                      <a:pt x="28" y="1351"/>
                    </a:lnTo>
                    <a:lnTo>
                      <a:pt x="18" y="1440"/>
                    </a:lnTo>
                    <a:lnTo>
                      <a:pt x="8" y="1525"/>
                    </a:lnTo>
                    <a:lnTo>
                      <a:pt x="0" y="1607"/>
                    </a:lnTo>
                    <a:lnTo>
                      <a:pt x="16" y="1605"/>
                    </a:lnTo>
                    <a:lnTo>
                      <a:pt x="31" y="1603"/>
                    </a:lnTo>
                    <a:lnTo>
                      <a:pt x="46" y="1600"/>
                    </a:lnTo>
                    <a:lnTo>
                      <a:pt x="62" y="1599"/>
                    </a:lnTo>
                    <a:lnTo>
                      <a:pt x="77" y="1597"/>
                    </a:lnTo>
                    <a:lnTo>
                      <a:pt x="93" y="1595"/>
                    </a:lnTo>
                    <a:lnTo>
                      <a:pt x="108" y="1592"/>
                    </a:lnTo>
                    <a:lnTo>
                      <a:pt x="122" y="1590"/>
                    </a:lnTo>
                    <a:lnTo>
                      <a:pt x="153" y="1420"/>
                    </a:lnTo>
                    <a:lnTo>
                      <a:pt x="187" y="1237"/>
                    </a:lnTo>
                    <a:lnTo>
                      <a:pt x="225" y="1041"/>
                    </a:lnTo>
                    <a:lnTo>
                      <a:pt x="265" y="838"/>
                    </a:lnTo>
                    <a:lnTo>
                      <a:pt x="307" y="630"/>
                    </a:lnTo>
                    <a:lnTo>
                      <a:pt x="352" y="418"/>
                    </a:lnTo>
                    <a:lnTo>
                      <a:pt x="396" y="207"/>
                    </a:lnTo>
                    <a:lnTo>
                      <a:pt x="443" y="0"/>
                    </a:lnTo>
                    <a:lnTo>
                      <a:pt x="29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2905200" y="3075120"/>
                <a:ext cx="123840" cy="512640"/>
              </a:xfrm>
              <a:custGeom>
                <a:avLst/>
                <a:gdLst/>
                <a:ahLst/>
                <a:rect l="l" t="t" r="r" b="b"/>
                <a:pathLst>
                  <a:path w="394" h="1613">
                    <a:moveTo>
                      <a:pt x="90" y="1600"/>
                    </a:moveTo>
                    <a:lnTo>
                      <a:pt x="99" y="1502"/>
                    </a:lnTo>
                    <a:lnTo>
                      <a:pt x="114" y="1381"/>
                    </a:lnTo>
                    <a:lnTo>
                      <a:pt x="131" y="1256"/>
                    </a:lnTo>
                    <a:lnTo>
                      <a:pt x="151" y="1125"/>
                    </a:lnTo>
                    <a:lnTo>
                      <a:pt x="173" y="988"/>
                    </a:lnTo>
                    <a:lnTo>
                      <a:pt x="198" y="849"/>
                    </a:lnTo>
                    <a:lnTo>
                      <a:pt x="226" y="706"/>
                    </a:lnTo>
                    <a:lnTo>
                      <a:pt x="255" y="561"/>
                    </a:lnTo>
                    <a:lnTo>
                      <a:pt x="271" y="488"/>
                    </a:lnTo>
                    <a:lnTo>
                      <a:pt x="288" y="415"/>
                    </a:lnTo>
                    <a:lnTo>
                      <a:pt x="306" y="342"/>
                    </a:lnTo>
                    <a:lnTo>
                      <a:pt x="324" y="269"/>
                    </a:lnTo>
                    <a:lnTo>
                      <a:pt x="342" y="195"/>
                    </a:lnTo>
                    <a:lnTo>
                      <a:pt x="361" y="122"/>
                    </a:lnTo>
                    <a:lnTo>
                      <a:pt x="381" y="49"/>
                    </a:lnTo>
                    <a:lnTo>
                      <a:pt x="394" y="0"/>
                    </a:lnTo>
                    <a:lnTo>
                      <a:pt x="290" y="0"/>
                    </a:lnTo>
                    <a:lnTo>
                      <a:pt x="279" y="41"/>
                    </a:lnTo>
                    <a:lnTo>
                      <a:pt x="260" y="114"/>
                    </a:lnTo>
                    <a:lnTo>
                      <a:pt x="242" y="188"/>
                    </a:lnTo>
                    <a:lnTo>
                      <a:pt x="223" y="261"/>
                    </a:lnTo>
                    <a:lnTo>
                      <a:pt x="206" y="334"/>
                    </a:lnTo>
                    <a:lnTo>
                      <a:pt x="189" y="407"/>
                    </a:lnTo>
                    <a:lnTo>
                      <a:pt x="173" y="480"/>
                    </a:lnTo>
                    <a:lnTo>
                      <a:pt x="144" y="625"/>
                    </a:lnTo>
                    <a:lnTo>
                      <a:pt x="115" y="768"/>
                    </a:lnTo>
                    <a:lnTo>
                      <a:pt x="91" y="908"/>
                    </a:lnTo>
                    <a:lnTo>
                      <a:pt x="68" y="1044"/>
                    </a:lnTo>
                    <a:lnTo>
                      <a:pt x="49" y="1175"/>
                    </a:lnTo>
                    <a:lnTo>
                      <a:pt x="32" y="1302"/>
                    </a:lnTo>
                    <a:lnTo>
                      <a:pt x="17" y="1421"/>
                    </a:lnTo>
                    <a:lnTo>
                      <a:pt x="6" y="1535"/>
                    </a:lnTo>
                    <a:lnTo>
                      <a:pt x="0" y="1613"/>
                    </a:lnTo>
                    <a:lnTo>
                      <a:pt x="11" y="1611"/>
                    </a:lnTo>
                    <a:lnTo>
                      <a:pt x="22" y="1610"/>
                    </a:lnTo>
                    <a:lnTo>
                      <a:pt x="33" y="1608"/>
                    </a:lnTo>
                    <a:lnTo>
                      <a:pt x="44" y="1607"/>
                    </a:lnTo>
                    <a:lnTo>
                      <a:pt x="56" y="1605"/>
                    </a:lnTo>
                    <a:lnTo>
                      <a:pt x="67" y="1604"/>
                    </a:lnTo>
                    <a:lnTo>
                      <a:pt x="79" y="1603"/>
                    </a:lnTo>
                    <a:lnTo>
                      <a:pt x="90" y="160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2941560" y="3075120"/>
                <a:ext cx="133560" cy="506160"/>
              </a:xfrm>
              <a:custGeom>
                <a:avLst/>
                <a:gdLst/>
                <a:ahLst/>
                <a:rect l="l" t="t" r="r" b="b"/>
                <a:pathLst>
                  <a:path w="420" h="1597">
                    <a:moveTo>
                      <a:pt x="320" y="0"/>
                    </a:moveTo>
                    <a:lnTo>
                      <a:pt x="289" y="138"/>
                    </a:lnTo>
                    <a:lnTo>
                      <a:pt x="254" y="299"/>
                    </a:lnTo>
                    <a:lnTo>
                      <a:pt x="219" y="461"/>
                    </a:lnTo>
                    <a:lnTo>
                      <a:pt x="186" y="623"/>
                    </a:lnTo>
                    <a:lnTo>
                      <a:pt x="154" y="781"/>
                    </a:lnTo>
                    <a:lnTo>
                      <a:pt x="122" y="939"/>
                    </a:lnTo>
                    <a:lnTo>
                      <a:pt x="93" y="1090"/>
                    </a:lnTo>
                    <a:lnTo>
                      <a:pt x="65" y="1238"/>
                    </a:lnTo>
                    <a:lnTo>
                      <a:pt x="39" y="1377"/>
                    </a:lnTo>
                    <a:lnTo>
                      <a:pt x="16" y="1509"/>
                    </a:lnTo>
                    <a:lnTo>
                      <a:pt x="0" y="1597"/>
                    </a:lnTo>
                    <a:lnTo>
                      <a:pt x="13" y="1596"/>
                    </a:lnTo>
                    <a:lnTo>
                      <a:pt x="26" y="1594"/>
                    </a:lnTo>
                    <a:lnTo>
                      <a:pt x="38" y="1592"/>
                    </a:lnTo>
                    <a:lnTo>
                      <a:pt x="49" y="1590"/>
                    </a:lnTo>
                    <a:lnTo>
                      <a:pt x="62" y="1589"/>
                    </a:lnTo>
                    <a:lnTo>
                      <a:pt x="75" y="1587"/>
                    </a:lnTo>
                    <a:lnTo>
                      <a:pt x="87" y="1586"/>
                    </a:lnTo>
                    <a:lnTo>
                      <a:pt x="100" y="1584"/>
                    </a:lnTo>
                    <a:lnTo>
                      <a:pt x="122" y="1458"/>
                    </a:lnTo>
                    <a:lnTo>
                      <a:pt x="148" y="1318"/>
                    </a:lnTo>
                    <a:lnTo>
                      <a:pt x="176" y="1171"/>
                    </a:lnTo>
                    <a:lnTo>
                      <a:pt x="206" y="1019"/>
                    </a:lnTo>
                    <a:lnTo>
                      <a:pt x="236" y="862"/>
                    </a:lnTo>
                    <a:lnTo>
                      <a:pt x="268" y="703"/>
                    </a:lnTo>
                    <a:lnTo>
                      <a:pt x="301" y="542"/>
                    </a:lnTo>
                    <a:lnTo>
                      <a:pt x="336" y="380"/>
                    </a:lnTo>
                    <a:lnTo>
                      <a:pt x="371" y="219"/>
                    </a:lnTo>
                    <a:lnTo>
                      <a:pt x="406" y="59"/>
                    </a:lnTo>
                    <a:lnTo>
                      <a:pt x="420" y="0"/>
                    </a:lnTo>
                    <a:lnTo>
                      <a:pt x="32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5148360" y="3075120"/>
                <a:ext cx="209520" cy="487080"/>
              </a:xfrm>
              <a:custGeom>
                <a:avLst/>
                <a:gdLst/>
                <a:ahLst/>
                <a:rect l="l" t="t" r="r" b="b"/>
                <a:pathLst>
                  <a:path w="661" h="1534">
                    <a:moveTo>
                      <a:pt x="535" y="0"/>
                    </a:moveTo>
                    <a:lnTo>
                      <a:pt x="510" y="51"/>
                    </a:lnTo>
                    <a:lnTo>
                      <a:pt x="485" y="102"/>
                    </a:lnTo>
                    <a:lnTo>
                      <a:pt x="461" y="155"/>
                    </a:lnTo>
                    <a:lnTo>
                      <a:pt x="437" y="207"/>
                    </a:lnTo>
                    <a:lnTo>
                      <a:pt x="390" y="312"/>
                    </a:lnTo>
                    <a:lnTo>
                      <a:pt x="347" y="418"/>
                    </a:lnTo>
                    <a:lnTo>
                      <a:pt x="304" y="525"/>
                    </a:lnTo>
                    <a:lnTo>
                      <a:pt x="263" y="631"/>
                    </a:lnTo>
                    <a:lnTo>
                      <a:pt x="226" y="735"/>
                    </a:lnTo>
                    <a:lnTo>
                      <a:pt x="190" y="837"/>
                    </a:lnTo>
                    <a:lnTo>
                      <a:pt x="156" y="938"/>
                    </a:lnTo>
                    <a:lnTo>
                      <a:pt x="127" y="1036"/>
                    </a:lnTo>
                    <a:lnTo>
                      <a:pt x="98" y="1130"/>
                    </a:lnTo>
                    <a:lnTo>
                      <a:pt x="73" y="1221"/>
                    </a:lnTo>
                    <a:lnTo>
                      <a:pt x="50" y="1307"/>
                    </a:lnTo>
                    <a:lnTo>
                      <a:pt x="30" y="1388"/>
                    </a:lnTo>
                    <a:lnTo>
                      <a:pt x="14" y="1464"/>
                    </a:lnTo>
                    <a:lnTo>
                      <a:pt x="0" y="1533"/>
                    </a:lnTo>
                    <a:lnTo>
                      <a:pt x="10" y="1533"/>
                    </a:lnTo>
                    <a:lnTo>
                      <a:pt x="22" y="1533"/>
                    </a:lnTo>
                    <a:lnTo>
                      <a:pt x="32" y="1534"/>
                    </a:lnTo>
                    <a:lnTo>
                      <a:pt x="42" y="1534"/>
                    </a:lnTo>
                    <a:lnTo>
                      <a:pt x="52" y="1534"/>
                    </a:lnTo>
                    <a:lnTo>
                      <a:pt x="63" y="1534"/>
                    </a:lnTo>
                    <a:lnTo>
                      <a:pt x="74" y="1534"/>
                    </a:lnTo>
                    <a:lnTo>
                      <a:pt x="84" y="1534"/>
                    </a:lnTo>
                    <a:lnTo>
                      <a:pt x="135" y="1387"/>
                    </a:lnTo>
                    <a:lnTo>
                      <a:pt x="194" y="1217"/>
                    </a:lnTo>
                    <a:lnTo>
                      <a:pt x="261" y="1029"/>
                    </a:lnTo>
                    <a:lnTo>
                      <a:pt x="335" y="829"/>
                    </a:lnTo>
                    <a:lnTo>
                      <a:pt x="414" y="622"/>
                    </a:lnTo>
                    <a:lnTo>
                      <a:pt x="495" y="411"/>
                    </a:lnTo>
                    <a:lnTo>
                      <a:pt x="537" y="306"/>
                    </a:lnTo>
                    <a:lnTo>
                      <a:pt x="578" y="202"/>
                    </a:lnTo>
                    <a:lnTo>
                      <a:pt x="620" y="100"/>
                    </a:lnTo>
                    <a:lnTo>
                      <a:pt x="661" y="0"/>
                    </a:lnTo>
                    <a:lnTo>
                      <a:pt x="53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5133960" y="3075120"/>
                <a:ext cx="203040" cy="487080"/>
              </a:xfrm>
              <a:custGeom>
                <a:avLst/>
                <a:gdLst/>
                <a:ahLst/>
                <a:rect l="l" t="t" r="r" b="b"/>
                <a:pathLst>
                  <a:path w="644" h="1534">
                    <a:moveTo>
                      <a:pt x="97" y="1534"/>
                    </a:moveTo>
                    <a:lnTo>
                      <a:pt x="100" y="1514"/>
                    </a:lnTo>
                    <a:lnTo>
                      <a:pt x="118" y="1436"/>
                    </a:lnTo>
                    <a:lnTo>
                      <a:pt x="138" y="1352"/>
                    </a:lnTo>
                    <a:lnTo>
                      <a:pt x="161" y="1262"/>
                    </a:lnTo>
                    <a:lnTo>
                      <a:pt x="188" y="1168"/>
                    </a:lnTo>
                    <a:lnTo>
                      <a:pt x="218" y="1069"/>
                    </a:lnTo>
                    <a:lnTo>
                      <a:pt x="250" y="967"/>
                    </a:lnTo>
                    <a:lnTo>
                      <a:pt x="285" y="862"/>
                    </a:lnTo>
                    <a:lnTo>
                      <a:pt x="323" y="754"/>
                    </a:lnTo>
                    <a:lnTo>
                      <a:pt x="363" y="646"/>
                    </a:lnTo>
                    <a:lnTo>
                      <a:pt x="405" y="535"/>
                    </a:lnTo>
                    <a:lnTo>
                      <a:pt x="449" y="424"/>
                    </a:lnTo>
                    <a:lnTo>
                      <a:pt x="496" y="314"/>
                    </a:lnTo>
                    <a:lnTo>
                      <a:pt x="521" y="259"/>
                    </a:lnTo>
                    <a:lnTo>
                      <a:pt x="545" y="204"/>
                    </a:lnTo>
                    <a:lnTo>
                      <a:pt x="570" y="150"/>
                    </a:lnTo>
                    <a:lnTo>
                      <a:pt x="596" y="96"/>
                    </a:lnTo>
                    <a:lnTo>
                      <a:pt x="623" y="43"/>
                    </a:lnTo>
                    <a:lnTo>
                      <a:pt x="644" y="0"/>
                    </a:lnTo>
                    <a:lnTo>
                      <a:pt x="521" y="0"/>
                    </a:lnTo>
                    <a:lnTo>
                      <a:pt x="514" y="15"/>
                    </a:lnTo>
                    <a:lnTo>
                      <a:pt x="488" y="69"/>
                    </a:lnTo>
                    <a:lnTo>
                      <a:pt x="463" y="123"/>
                    </a:lnTo>
                    <a:lnTo>
                      <a:pt x="439" y="178"/>
                    </a:lnTo>
                    <a:lnTo>
                      <a:pt x="415" y="233"/>
                    </a:lnTo>
                    <a:lnTo>
                      <a:pt x="367" y="343"/>
                    </a:lnTo>
                    <a:lnTo>
                      <a:pt x="323" y="454"/>
                    </a:lnTo>
                    <a:lnTo>
                      <a:pt x="281" y="565"/>
                    </a:lnTo>
                    <a:lnTo>
                      <a:pt x="241" y="673"/>
                    </a:lnTo>
                    <a:lnTo>
                      <a:pt x="203" y="780"/>
                    </a:lnTo>
                    <a:lnTo>
                      <a:pt x="168" y="886"/>
                    </a:lnTo>
                    <a:lnTo>
                      <a:pt x="135" y="988"/>
                    </a:lnTo>
                    <a:lnTo>
                      <a:pt x="106" y="1087"/>
                    </a:lnTo>
                    <a:lnTo>
                      <a:pt x="79" y="1181"/>
                    </a:lnTo>
                    <a:lnTo>
                      <a:pt x="56" y="1271"/>
                    </a:lnTo>
                    <a:lnTo>
                      <a:pt x="35" y="1355"/>
                    </a:lnTo>
                    <a:lnTo>
                      <a:pt x="18" y="1433"/>
                    </a:lnTo>
                    <a:lnTo>
                      <a:pt x="12" y="1469"/>
                    </a:lnTo>
                    <a:lnTo>
                      <a:pt x="5" y="1505"/>
                    </a:lnTo>
                    <a:lnTo>
                      <a:pt x="0" y="1532"/>
                    </a:lnTo>
                    <a:lnTo>
                      <a:pt x="13" y="1532"/>
                    </a:lnTo>
                    <a:lnTo>
                      <a:pt x="24" y="1533"/>
                    </a:lnTo>
                    <a:lnTo>
                      <a:pt x="37" y="1533"/>
                    </a:lnTo>
                    <a:lnTo>
                      <a:pt x="48" y="1533"/>
                    </a:lnTo>
                    <a:lnTo>
                      <a:pt x="61" y="1533"/>
                    </a:lnTo>
                    <a:lnTo>
                      <a:pt x="73" y="1533"/>
                    </a:lnTo>
                    <a:lnTo>
                      <a:pt x="85" y="1534"/>
                    </a:lnTo>
                    <a:lnTo>
                      <a:pt x="97" y="153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4" name=""/>
            <p:cNvSpPr/>
            <p:nvPr/>
          </p:nvSpPr>
          <p:spPr>
            <a:xfrm>
              <a:off x="5157720" y="3075120"/>
              <a:ext cx="219240" cy="487080"/>
            </a:xfrm>
            <a:custGeom>
              <a:avLst/>
              <a:gdLst/>
              <a:ahLst/>
              <a:rect l="l" t="t" r="r" b="b"/>
              <a:pathLst>
                <a:path w="689" h="1534">
                  <a:moveTo>
                    <a:pt x="573" y="0"/>
                  </a:moveTo>
                  <a:lnTo>
                    <a:pt x="525" y="117"/>
                  </a:lnTo>
                  <a:lnTo>
                    <a:pt x="476" y="238"/>
                  </a:lnTo>
                  <a:lnTo>
                    <a:pt x="428" y="360"/>
                  </a:lnTo>
                  <a:lnTo>
                    <a:pt x="380" y="484"/>
                  </a:lnTo>
                  <a:lnTo>
                    <a:pt x="334" y="606"/>
                  </a:lnTo>
                  <a:lnTo>
                    <a:pt x="287" y="728"/>
                  </a:lnTo>
                  <a:lnTo>
                    <a:pt x="242" y="847"/>
                  </a:lnTo>
                  <a:lnTo>
                    <a:pt x="199" y="964"/>
                  </a:lnTo>
                  <a:lnTo>
                    <a:pt x="121" y="1183"/>
                  </a:lnTo>
                  <a:lnTo>
                    <a:pt x="52" y="1378"/>
                  </a:lnTo>
                  <a:lnTo>
                    <a:pt x="22" y="1465"/>
                  </a:lnTo>
                  <a:lnTo>
                    <a:pt x="0" y="1533"/>
                  </a:lnTo>
                  <a:lnTo>
                    <a:pt x="13" y="1534"/>
                  </a:lnTo>
                  <a:lnTo>
                    <a:pt x="27" y="1534"/>
                  </a:lnTo>
                  <a:lnTo>
                    <a:pt x="41" y="1534"/>
                  </a:lnTo>
                  <a:lnTo>
                    <a:pt x="54" y="1534"/>
                  </a:lnTo>
                  <a:lnTo>
                    <a:pt x="68" y="1534"/>
                  </a:lnTo>
                  <a:lnTo>
                    <a:pt x="82" y="1534"/>
                  </a:lnTo>
                  <a:lnTo>
                    <a:pt x="95" y="1534"/>
                  </a:lnTo>
                  <a:lnTo>
                    <a:pt x="109" y="1534"/>
                  </a:lnTo>
                  <a:lnTo>
                    <a:pt x="134" y="1460"/>
                  </a:lnTo>
                  <a:lnTo>
                    <a:pt x="203" y="1264"/>
                  </a:lnTo>
                  <a:lnTo>
                    <a:pt x="282" y="1045"/>
                  </a:lnTo>
                  <a:lnTo>
                    <a:pt x="325" y="928"/>
                  </a:lnTo>
                  <a:lnTo>
                    <a:pt x="369" y="809"/>
                  </a:lnTo>
                  <a:lnTo>
                    <a:pt x="416" y="687"/>
                  </a:lnTo>
                  <a:lnTo>
                    <a:pt x="463" y="565"/>
                  </a:lnTo>
                  <a:lnTo>
                    <a:pt x="510" y="441"/>
                  </a:lnTo>
                  <a:lnTo>
                    <a:pt x="558" y="319"/>
                  </a:lnTo>
                  <a:lnTo>
                    <a:pt x="607" y="198"/>
                  </a:lnTo>
                  <a:lnTo>
                    <a:pt x="655" y="81"/>
                  </a:lnTo>
                  <a:lnTo>
                    <a:pt x="689" y="0"/>
                  </a:lnTo>
                  <a:lnTo>
                    <a:pt x="57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5676840" y="3075120"/>
              <a:ext cx="208080" cy="461880"/>
            </a:xfrm>
            <a:custGeom>
              <a:avLst/>
              <a:gdLst/>
              <a:ahLst/>
              <a:rect l="l" t="t" r="r" b="b"/>
              <a:pathLst>
                <a:path w="658" h="1456">
                  <a:moveTo>
                    <a:pt x="536" y="0"/>
                  </a:moveTo>
                  <a:lnTo>
                    <a:pt x="489" y="93"/>
                  </a:lnTo>
                  <a:lnTo>
                    <a:pt x="445" y="188"/>
                  </a:lnTo>
                  <a:lnTo>
                    <a:pt x="400" y="285"/>
                  </a:lnTo>
                  <a:lnTo>
                    <a:pt x="358" y="382"/>
                  </a:lnTo>
                  <a:lnTo>
                    <a:pt x="318" y="479"/>
                  </a:lnTo>
                  <a:lnTo>
                    <a:pt x="280" y="577"/>
                  </a:lnTo>
                  <a:lnTo>
                    <a:pt x="242" y="674"/>
                  </a:lnTo>
                  <a:lnTo>
                    <a:pt x="207" y="770"/>
                  </a:lnTo>
                  <a:lnTo>
                    <a:pt x="174" y="865"/>
                  </a:lnTo>
                  <a:lnTo>
                    <a:pt x="142" y="958"/>
                  </a:lnTo>
                  <a:lnTo>
                    <a:pt x="113" y="1048"/>
                  </a:lnTo>
                  <a:lnTo>
                    <a:pt x="86" y="1137"/>
                  </a:lnTo>
                  <a:lnTo>
                    <a:pt x="61" y="1223"/>
                  </a:lnTo>
                  <a:lnTo>
                    <a:pt x="38" y="1304"/>
                  </a:lnTo>
                  <a:lnTo>
                    <a:pt x="19" y="1383"/>
                  </a:lnTo>
                  <a:lnTo>
                    <a:pt x="0" y="1456"/>
                  </a:lnTo>
                  <a:lnTo>
                    <a:pt x="14" y="1456"/>
                  </a:lnTo>
                  <a:lnTo>
                    <a:pt x="27" y="1454"/>
                  </a:lnTo>
                  <a:lnTo>
                    <a:pt x="40" y="1453"/>
                  </a:lnTo>
                  <a:lnTo>
                    <a:pt x="53" y="1453"/>
                  </a:lnTo>
                  <a:lnTo>
                    <a:pt x="66" y="1452"/>
                  </a:lnTo>
                  <a:lnTo>
                    <a:pt x="79" y="1451"/>
                  </a:lnTo>
                  <a:lnTo>
                    <a:pt x="93" y="1451"/>
                  </a:lnTo>
                  <a:lnTo>
                    <a:pt x="105" y="1450"/>
                  </a:lnTo>
                  <a:lnTo>
                    <a:pt x="159" y="1296"/>
                  </a:lnTo>
                  <a:lnTo>
                    <a:pt x="220" y="1126"/>
                  </a:lnTo>
                  <a:lnTo>
                    <a:pt x="286" y="944"/>
                  </a:lnTo>
                  <a:lnTo>
                    <a:pt x="357" y="756"/>
                  </a:lnTo>
                  <a:lnTo>
                    <a:pt x="431" y="563"/>
                  </a:lnTo>
                  <a:lnTo>
                    <a:pt x="506" y="371"/>
                  </a:lnTo>
                  <a:lnTo>
                    <a:pt x="583" y="182"/>
                  </a:lnTo>
                  <a:lnTo>
                    <a:pt x="658" y="0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5661000" y="3075120"/>
              <a:ext cx="206280" cy="463320"/>
            </a:xfrm>
            <a:custGeom>
              <a:avLst/>
              <a:gdLst/>
              <a:ahLst/>
              <a:rect l="l" t="t" r="r" b="b"/>
              <a:pathLst>
                <a:path w="649" h="1459">
                  <a:moveTo>
                    <a:pt x="103" y="1453"/>
                  </a:moveTo>
                  <a:lnTo>
                    <a:pt x="113" y="1410"/>
                  </a:lnTo>
                  <a:lnTo>
                    <a:pt x="136" y="1320"/>
                  </a:lnTo>
                  <a:lnTo>
                    <a:pt x="162" y="1225"/>
                  </a:lnTo>
                  <a:lnTo>
                    <a:pt x="192" y="1127"/>
                  </a:lnTo>
                  <a:lnTo>
                    <a:pt x="225" y="1024"/>
                  </a:lnTo>
                  <a:lnTo>
                    <a:pt x="259" y="919"/>
                  </a:lnTo>
                  <a:lnTo>
                    <a:pt x="297" y="812"/>
                  </a:lnTo>
                  <a:lnTo>
                    <a:pt x="338" y="704"/>
                  </a:lnTo>
                  <a:lnTo>
                    <a:pt x="380" y="593"/>
                  </a:lnTo>
                  <a:lnTo>
                    <a:pt x="424" y="482"/>
                  </a:lnTo>
                  <a:lnTo>
                    <a:pt x="471" y="372"/>
                  </a:lnTo>
                  <a:lnTo>
                    <a:pt x="495" y="317"/>
                  </a:lnTo>
                  <a:lnTo>
                    <a:pt x="520" y="262"/>
                  </a:lnTo>
                  <a:lnTo>
                    <a:pt x="545" y="207"/>
                  </a:lnTo>
                  <a:lnTo>
                    <a:pt x="571" y="154"/>
                  </a:lnTo>
                  <a:lnTo>
                    <a:pt x="597" y="101"/>
                  </a:lnTo>
                  <a:lnTo>
                    <a:pt x="624" y="48"/>
                  </a:lnTo>
                  <a:lnTo>
                    <a:pt x="649" y="0"/>
                  </a:lnTo>
                  <a:lnTo>
                    <a:pt x="525" y="0"/>
                  </a:lnTo>
                  <a:lnTo>
                    <a:pt x="515" y="19"/>
                  </a:lnTo>
                  <a:lnTo>
                    <a:pt x="489" y="73"/>
                  </a:lnTo>
                  <a:lnTo>
                    <a:pt x="463" y="126"/>
                  </a:lnTo>
                  <a:lnTo>
                    <a:pt x="438" y="181"/>
                  </a:lnTo>
                  <a:lnTo>
                    <a:pt x="413" y="236"/>
                  </a:lnTo>
                  <a:lnTo>
                    <a:pt x="389" y="291"/>
                  </a:lnTo>
                  <a:lnTo>
                    <a:pt x="342" y="401"/>
                  </a:lnTo>
                  <a:lnTo>
                    <a:pt x="298" y="512"/>
                  </a:lnTo>
                  <a:lnTo>
                    <a:pt x="255" y="622"/>
                  </a:lnTo>
                  <a:lnTo>
                    <a:pt x="214" y="731"/>
                  </a:lnTo>
                  <a:lnTo>
                    <a:pt x="177" y="838"/>
                  </a:lnTo>
                  <a:lnTo>
                    <a:pt x="143" y="943"/>
                  </a:lnTo>
                  <a:lnTo>
                    <a:pt x="110" y="1046"/>
                  </a:lnTo>
                  <a:lnTo>
                    <a:pt x="80" y="1144"/>
                  </a:lnTo>
                  <a:lnTo>
                    <a:pt x="54" y="1239"/>
                  </a:lnTo>
                  <a:lnTo>
                    <a:pt x="31" y="1329"/>
                  </a:lnTo>
                  <a:lnTo>
                    <a:pt x="10" y="1413"/>
                  </a:lnTo>
                  <a:lnTo>
                    <a:pt x="0" y="1459"/>
                  </a:lnTo>
                  <a:lnTo>
                    <a:pt x="13" y="1458"/>
                  </a:lnTo>
                  <a:lnTo>
                    <a:pt x="25" y="1458"/>
                  </a:lnTo>
                  <a:lnTo>
                    <a:pt x="39" y="1457"/>
                  </a:lnTo>
                  <a:lnTo>
                    <a:pt x="51" y="1456"/>
                  </a:lnTo>
                  <a:lnTo>
                    <a:pt x="64" y="1456"/>
                  </a:lnTo>
                  <a:lnTo>
                    <a:pt x="77" y="1454"/>
                  </a:lnTo>
                  <a:lnTo>
                    <a:pt x="89" y="1453"/>
                  </a:lnTo>
                  <a:lnTo>
                    <a:pt x="103" y="145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5692680" y="3075120"/>
              <a:ext cx="211320" cy="461880"/>
            </a:xfrm>
            <a:custGeom>
              <a:avLst/>
              <a:gdLst/>
              <a:ahLst/>
              <a:rect l="l" t="t" r="r" b="b"/>
              <a:pathLst>
                <a:path w="667" h="1453">
                  <a:moveTo>
                    <a:pt x="551" y="0"/>
                  </a:moveTo>
                  <a:lnTo>
                    <a:pt x="527" y="57"/>
                  </a:lnTo>
                  <a:lnTo>
                    <a:pt x="479" y="175"/>
                  </a:lnTo>
                  <a:lnTo>
                    <a:pt x="430" y="295"/>
                  </a:lnTo>
                  <a:lnTo>
                    <a:pt x="382" y="418"/>
                  </a:lnTo>
                  <a:lnTo>
                    <a:pt x="334" y="541"/>
                  </a:lnTo>
                  <a:lnTo>
                    <a:pt x="286" y="664"/>
                  </a:lnTo>
                  <a:lnTo>
                    <a:pt x="241" y="786"/>
                  </a:lnTo>
                  <a:lnTo>
                    <a:pt x="196" y="905"/>
                  </a:lnTo>
                  <a:lnTo>
                    <a:pt x="153" y="1021"/>
                  </a:lnTo>
                  <a:lnTo>
                    <a:pt x="74" y="1241"/>
                  </a:lnTo>
                  <a:lnTo>
                    <a:pt x="6" y="1436"/>
                  </a:lnTo>
                  <a:lnTo>
                    <a:pt x="0" y="1453"/>
                  </a:lnTo>
                  <a:lnTo>
                    <a:pt x="14" y="1452"/>
                  </a:lnTo>
                  <a:lnTo>
                    <a:pt x="29" y="1451"/>
                  </a:lnTo>
                  <a:lnTo>
                    <a:pt x="42" y="1451"/>
                  </a:lnTo>
                  <a:lnTo>
                    <a:pt x="57" y="1450"/>
                  </a:lnTo>
                  <a:lnTo>
                    <a:pt x="71" y="1449"/>
                  </a:lnTo>
                  <a:lnTo>
                    <a:pt x="85" y="1449"/>
                  </a:lnTo>
                  <a:lnTo>
                    <a:pt x="98" y="1448"/>
                  </a:lnTo>
                  <a:lnTo>
                    <a:pt x="113" y="1446"/>
                  </a:lnTo>
                  <a:lnTo>
                    <a:pt x="156" y="1322"/>
                  </a:lnTo>
                  <a:lnTo>
                    <a:pt x="235" y="1103"/>
                  </a:lnTo>
                  <a:lnTo>
                    <a:pt x="278" y="987"/>
                  </a:lnTo>
                  <a:lnTo>
                    <a:pt x="323" y="867"/>
                  </a:lnTo>
                  <a:lnTo>
                    <a:pt x="369" y="745"/>
                  </a:lnTo>
                  <a:lnTo>
                    <a:pt x="416" y="622"/>
                  </a:lnTo>
                  <a:lnTo>
                    <a:pt x="464" y="499"/>
                  </a:lnTo>
                  <a:lnTo>
                    <a:pt x="512" y="377"/>
                  </a:lnTo>
                  <a:lnTo>
                    <a:pt x="561" y="256"/>
                  </a:lnTo>
                  <a:lnTo>
                    <a:pt x="609" y="139"/>
                  </a:lnTo>
                  <a:lnTo>
                    <a:pt x="657" y="25"/>
                  </a:lnTo>
                  <a:lnTo>
                    <a:pt x="667" y="0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5749920" y="3075120"/>
              <a:ext cx="208080" cy="458640"/>
            </a:xfrm>
            <a:custGeom>
              <a:avLst/>
              <a:gdLst/>
              <a:ahLst/>
              <a:rect l="l" t="t" r="r" b="b"/>
              <a:pathLst>
                <a:path w="654" h="1444">
                  <a:moveTo>
                    <a:pt x="532" y="0"/>
                  </a:moveTo>
                  <a:lnTo>
                    <a:pt x="486" y="92"/>
                  </a:lnTo>
                  <a:lnTo>
                    <a:pt x="441" y="186"/>
                  </a:lnTo>
                  <a:lnTo>
                    <a:pt x="397" y="282"/>
                  </a:lnTo>
                  <a:lnTo>
                    <a:pt x="356" y="377"/>
                  </a:lnTo>
                  <a:lnTo>
                    <a:pt x="315" y="474"/>
                  </a:lnTo>
                  <a:lnTo>
                    <a:pt x="278" y="570"/>
                  </a:lnTo>
                  <a:lnTo>
                    <a:pt x="240" y="666"/>
                  </a:lnTo>
                  <a:lnTo>
                    <a:pt x="206" y="762"/>
                  </a:lnTo>
                  <a:lnTo>
                    <a:pt x="172" y="855"/>
                  </a:lnTo>
                  <a:lnTo>
                    <a:pt x="141" y="948"/>
                  </a:lnTo>
                  <a:lnTo>
                    <a:pt x="111" y="1038"/>
                  </a:lnTo>
                  <a:lnTo>
                    <a:pt x="85" y="1126"/>
                  </a:lnTo>
                  <a:lnTo>
                    <a:pt x="60" y="1210"/>
                  </a:lnTo>
                  <a:lnTo>
                    <a:pt x="37" y="1292"/>
                  </a:lnTo>
                  <a:lnTo>
                    <a:pt x="17" y="1370"/>
                  </a:lnTo>
                  <a:lnTo>
                    <a:pt x="0" y="1444"/>
                  </a:lnTo>
                  <a:lnTo>
                    <a:pt x="12" y="1443"/>
                  </a:lnTo>
                  <a:lnTo>
                    <a:pt x="26" y="1443"/>
                  </a:lnTo>
                  <a:lnTo>
                    <a:pt x="39" y="1442"/>
                  </a:lnTo>
                  <a:lnTo>
                    <a:pt x="52" y="1442"/>
                  </a:lnTo>
                  <a:lnTo>
                    <a:pt x="66" y="1441"/>
                  </a:lnTo>
                  <a:lnTo>
                    <a:pt x="78" y="1441"/>
                  </a:lnTo>
                  <a:lnTo>
                    <a:pt x="92" y="1441"/>
                  </a:lnTo>
                  <a:lnTo>
                    <a:pt x="104" y="1440"/>
                  </a:lnTo>
                  <a:lnTo>
                    <a:pt x="158" y="1286"/>
                  </a:lnTo>
                  <a:lnTo>
                    <a:pt x="220" y="1117"/>
                  </a:lnTo>
                  <a:lnTo>
                    <a:pt x="286" y="936"/>
                  </a:lnTo>
                  <a:lnTo>
                    <a:pt x="355" y="749"/>
                  </a:lnTo>
                  <a:lnTo>
                    <a:pt x="428" y="559"/>
                  </a:lnTo>
                  <a:lnTo>
                    <a:pt x="503" y="367"/>
                  </a:lnTo>
                  <a:lnTo>
                    <a:pt x="579" y="180"/>
                  </a:lnTo>
                  <a:lnTo>
                    <a:pt x="654" y="0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5734080" y="3075120"/>
              <a:ext cx="204840" cy="458640"/>
            </a:xfrm>
            <a:custGeom>
              <a:avLst/>
              <a:gdLst/>
              <a:ahLst/>
              <a:rect l="l" t="t" r="r" b="b"/>
              <a:pathLst>
                <a:path w="646" h="1446">
                  <a:moveTo>
                    <a:pt x="103" y="1442"/>
                  </a:moveTo>
                  <a:lnTo>
                    <a:pt x="111" y="1410"/>
                  </a:lnTo>
                  <a:lnTo>
                    <a:pt x="134" y="1320"/>
                  </a:lnTo>
                  <a:lnTo>
                    <a:pt x="160" y="1225"/>
                  </a:lnTo>
                  <a:lnTo>
                    <a:pt x="190" y="1127"/>
                  </a:lnTo>
                  <a:lnTo>
                    <a:pt x="223" y="1024"/>
                  </a:lnTo>
                  <a:lnTo>
                    <a:pt x="257" y="919"/>
                  </a:lnTo>
                  <a:lnTo>
                    <a:pt x="294" y="812"/>
                  </a:lnTo>
                  <a:lnTo>
                    <a:pt x="335" y="704"/>
                  </a:lnTo>
                  <a:lnTo>
                    <a:pt x="378" y="593"/>
                  </a:lnTo>
                  <a:lnTo>
                    <a:pt x="422" y="482"/>
                  </a:lnTo>
                  <a:lnTo>
                    <a:pt x="469" y="372"/>
                  </a:lnTo>
                  <a:lnTo>
                    <a:pt x="493" y="317"/>
                  </a:lnTo>
                  <a:lnTo>
                    <a:pt x="518" y="262"/>
                  </a:lnTo>
                  <a:lnTo>
                    <a:pt x="543" y="207"/>
                  </a:lnTo>
                  <a:lnTo>
                    <a:pt x="569" y="154"/>
                  </a:lnTo>
                  <a:lnTo>
                    <a:pt x="594" y="101"/>
                  </a:lnTo>
                  <a:lnTo>
                    <a:pt x="622" y="48"/>
                  </a:lnTo>
                  <a:lnTo>
                    <a:pt x="646" y="0"/>
                  </a:lnTo>
                  <a:lnTo>
                    <a:pt x="522" y="0"/>
                  </a:lnTo>
                  <a:lnTo>
                    <a:pt x="513" y="19"/>
                  </a:lnTo>
                  <a:lnTo>
                    <a:pt x="487" y="73"/>
                  </a:lnTo>
                  <a:lnTo>
                    <a:pt x="461" y="126"/>
                  </a:lnTo>
                  <a:lnTo>
                    <a:pt x="436" y="181"/>
                  </a:lnTo>
                  <a:lnTo>
                    <a:pt x="411" y="236"/>
                  </a:lnTo>
                  <a:lnTo>
                    <a:pt x="387" y="291"/>
                  </a:lnTo>
                  <a:lnTo>
                    <a:pt x="340" y="401"/>
                  </a:lnTo>
                  <a:lnTo>
                    <a:pt x="296" y="512"/>
                  </a:lnTo>
                  <a:lnTo>
                    <a:pt x="253" y="622"/>
                  </a:lnTo>
                  <a:lnTo>
                    <a:pt x="212" y="731"/>
                  </a:lnTo>
                  <a:lnTo>
                    <a:pt x="175" y="838"/>
                  </a:lnTo>
                  <a:lnTo>
                    <a:pt x="140" y="943"/>
                  </a:lnTo>
                  <a:lnTo>
                    <a:pt x="107" y="1046"/>
                  </a:lnTo>
                  <a:lnTo>
                    <a:pt x="78" y="1144"/>
                  </a:lnTo>
                  <a:lnTo>
                    <a:pt x="52" y="1239"/>
                  </a:lnTo>
                  <a:lnTo>
                    <a:pt x="28" y="1329"/>
                  </a:lnTo>
                  <a:lnTo>
                    <a:pt x="8" y="1413"/>
                  </a:lnTo>
                  <a:lnTo>
                    <a:pt x="0" y="1446"/>
                  </a:lnTo>
                  <a:lnTo>
                    <a:pt x="14" y="1445"/>
                  </a:lnTo>
                  <a:lnTo>
                    <a:pt x="26" y="1445"/>
                  </a:lnTo>
                  <a:lnTo>
                    <a:pt x="39" y="1444"/>
                  </a:lnTo>
                  <a:lnTo>
                    <a:pt x="52" y="1444"/>
                  </a:lnTo>
                  <a:lnTo>
                    <a:pt x="64" y="1443"/>
                  </a:lnTo>
                  <a:lnTo>
                    <a:pt x="78" y="1443"/>
                  </a:lnTo>
                  <a:lnTo>
                    <a:pt x="90" y="1442"/>
                  </a:lnTo>
                  <a:lnTo>
                    <a:pt x="103" y="144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5765760" y="3075120"/>
              <a:ext cx="209520" cy="457200"/>
            </a:xfrm>
            <a:custGeom>
              <a:avLst/>
              <a:gdLst/>
              <a:ahLst/>
              <a:rect l="l" t="t" r="r" b="b"/>
              <a:pathLst>
                <a:path w="663" h="1442">
                  <a:moveTo>
                    <a:pt x="547" y="0"/>
                  </a:moveTo>
                  <a:lnTo>
                    <a:pt x="523" y="57"/>
                  </a:lnTo>
                  <a:lnTo>
                    <a:pt x="475" y="175"/>
                  </a:lnTo>
                  <a:lnTo>
                    <a:pt x="426" y="295"/>
                  </a:lnTo>
                  <a:lnTo>
                    <a:pt x="378" y="418"/>
                  </a:lnTo>
                  <a:lnTo>
                    <a:pt x="330" y="541"/>
                  </a:lnTo>
                  <a:lnTo>
                    <a:pt x="282" y="664"/>
                  </a:lnTo>
                  <a:lnTo>
                    <a:pt x="237" y="786"/>
                  </a:lnTo>
                  <a:lnTo>
                    <a:pt x="192" y="905"/>
                  </a:lnTo>
                  <a:lnTo>
                    <a:pt x="149" y="1021"/>
                  </a:lnTo>
                  <a:lnTo>
                    <a:pt x="70" y="1241"/>
                  </a:lnTo>
                  <a:lnTo>
                    <a:pt x="2" y="1436"/>
                  </a:lnTo>
                  <a:lnTo>
                    <a:pt x="0" y="1442"/>
                  </a:lnTo>
                  <a:lnTo>
                    <a:pt x="14" y="1441"/>
                  </a:lnTo>
                  <a:lnTo>
                    <a:pt x="28" y="1441"/>
                  </a:lnTo>
                  <a:lnTo>
                    <a:pt x="42" y="1441"/>
                  </a:lnTo>
                  <a:lnTo>
                    <a:pt x="55" y="1440"/>
                  </a:lnTo>
                  <a:lnTo>
                    <a:pt x="70" y="1440"/>
                  </a:lnTo>
                  <a:lnTo>
                    <a:pt x="84" y="1438"/>
                  </a:lnTo>
                  <a:lnTo>
                    <a:pt x="98" y="1438"/>
                  </a:lnTo>
                  <a:lnTo>
                    <a:pt x="111" y="1438"/>
                  </a:lnTo>
                  <a:lnTo>
                    <a:pt x="152" y="1322"/>
                  </a:lnTo>
                  <a:lnTo>
                    <a:pt x="231" y="1103"/>
                  </a:lnTo>
                  <a:lnTo>
                    <a:pt x="274" y="987"/>
                  </a:lnTo>
                  <a:lnTo>
                    <a:pt x="319" y="867"/>
                  </a:lnTo>
                  <a:lnTo>
                    <a:pt x="364" y="745"/>
                  </a:lnTo>
                  <a:lnTo>
                    <a:pt x="412" y="622"/>
                  </a:lnTo>
                  <a:lnTo>
                    <a:pt x="460" y="499"/>
                  </a:lnTo>
                  <a:lnTo>
                    <a:pt x="508" y="377"/>
                  </a:lnTo>
                  <a:lnTo>
                    <a:pt x="556" y="256"/>
                  </a:lnTo>
                  <a:lnTo>
                    <a:pt x="605" y="139"/>
                  </a:lnTo>
                  <a:lnTo>
                    <a:pt x="653" y="25"/>
                  </a:lnTo>
                  <a:lnTo>
                    <a:pt x="663" y="0"/>
                  </a:lnTo>
                  <a:lnTo>
                    <a:pt x="54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6148440" y="3075120"/>
              <a:ext cx="216000" cy="490320"/>
            </a:xfrm>
            <a:custGeom>
              <a:avLst/>
              <a:gdLst/>
              <a:ahLst/>
              <a:rect l="l" t="t" r="r" b="b"/>
              <a:pathLst>
                <a:path w="677" h="1543">
                  <a:moveTo>
                    <a:pt x="556" y="0"/>
                  </a:moveTo>
                  <a:lnTo>
                    <a:pt x="531" y="50"/>
                  </a:lnTo>
                  <a:lnTo>
                    <a:pt x="506" y="100"/>
                  </a:lnTo>
                  <a:lnTo>
                    <a:pt x="481" y="152"/>
                  </a:lnTo>
                  <a:lnTo>
                    <a:pt x="457" y="203"/>
                  </a:lnTo>
                  <a:lnTo>
                    <a:pt x="410" y="307"/>
                  </a:lnTo>
                  <a:lnTo>
                    <a:pt x="365" y="412"/>
                  </a:lnTo>
                  <a:lnTo>
                    <a:pt x="321" y="518"/>
                  </a:lnTo>
                  <a:lnTo>
                    <a:pt x="280" y="623"/>
                  </a:lnTo>
                  <a:lnTo>
                    <a:pt x="242" y="727"/>
                  </a:lnTo>
                  <a:lnTo>
                    <a:pt x="204" y="829"/>
                  </a:lnTo>
                  <a:lnTo>
                    <a:pt x="170" y="931"/>
                  </a:lnTo>
                  <a:lnTo>
                    <a:pt x="138" y="1029"/>
                  </a:lnTo>
                  <a:lnTo>
                    <a:pt x="108" y="1125"/>
                  </a:lnTo>
                  <a:lnTo>
                    <a:pt x="81" y="1218"/>
                  </a:lnTo>
                  <a:lnTo>
                    <a:pt x="56" y="1306"/>
                  </a:lnTo>
                  <a:lnTo>
                    <a:pt x="34" y="1391"/>
                  </a:lnTo>
                  <a:lnTo>
                    <a:pt x="16" y="1469"/>
                  </a:lnTo>
                  <a:lnTo>
                    <a:pt x="0" y="1543"/>
                  </a:lnTo>
                  <a:lnTo>
                    <a:pt x="11" y="1542"/>
                  </a:lnTo>
                  <a:lnTo>
                    <a:pt x="24" y="1542"/>
                  </a:lnTo>
                  <a:lnTo>
                    <a:pt x="35" y="1541"/>
                  </a:lnTo>
                  <a:lnTo>
                    <a:pt x="47" y="1541"/>
                  </a:lnTo>
                  <a:lnTo>
                    <a:pt x="58" y="1541"/>
                  </a:lnTo>
                  <a:lnTo>
                    <a:pt x="71" y="1540"/>
                  </a:lnTo>
                  <a:lnTo>
                    <a:pt x="82" y="1539"/>
                  </a:lnTo>
                  <a:lnTo>
                    <a:pt x="93" y="1539"/>
                  </a:lnTo>
                  <a:lnTo>
                    <a:pt x="147" y="1384"/>
                  </a:lnTo>
                  <a:lnTo>
                    <a:pt x="210" y="1208"/>
                  </a:lnTo>
                  <a:lnTo>
                    <a:pt x="279" y="1017"/>
                  </a:lnTo>
                  <a:lnTo>
                    <a:pt x="353" y="816"/>
                  </a:lnTo>
                  <a:lnTo>
                    <a:pt x="432" y="609"/>
                  </a:lnTo>
                  <a:lnTo>
                    <a:pt x="514" y="400"/>
                  </a:lnTo>
                  <a:lnTo>
                    <a:pt x="555" y="298"/>
                  </a:lnTo>
                  <a:lnTo>
                    <a:pt x="596" y="196"/>
                  </a:lnTo>
                  <a:lnTo>
                    <a:pt x="637" y="97"/>
                  </a:lnTo>
                  <a:lnTo>
                    <a:pt x="677" y="0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6134040" y="3075120"/>
              <a:ext cx="211320" cy="490320"/>
            </a:xfrm>
            <a:custGeom>
              <a:avLst/>
              <a:gdLst/>
              <a:ahLst/>
              <a:rect l="l" t="t" r="r" b="b"/>
              <a:pathLst>
                <a:path w="667" h="1545">
                  <a:moveTo>
                    <a:pt x="99" y="1541"/>
                  </a:moveTo>
                  <a:lnTo>
                    <a:pt x="108" y="1499"/>
                  </a:lnTo>
                  <a:lnTo>
                    <a:pt x="129" y="1414"/>
                  </a:lnTo>
                  <a:lnTo>
                    <a:pt x="153" y="1324"/>
                  </a:lnTo>
                  <a:lnTo>
                    <a:pt x="179" y="1231"/>
                  </a:lnTo>
                  <a:lnTo>
                    <a:pt x="209" y="1132"/>
                  </a:lnTo>
                  <a:lnTo>
                    <a:pt x="241" y="1030"/>
                  </a:lnTo>
                  <a:lnTo>
                    <a:pt x="276" y="925"/>
                  </a:lnTo>
                  <a:lnTo>
                    <a:pt x="313" y="817"/>
                  </a:lnTo>
                  <a:lnTo>
                    <a:pt x="353" y="708"/>
                  </a:lnTo>
                  <a:lnTo>
                    <a:pt x="396" y="598"/>
                  </a:lnTo>
                  <a:lnTo>
                    <a:pt x="441" y="487"/>
                  </a:lnTo>
                  <a:lnTo>
                    <a:pt x="488" y="376"/>
                  </a:lnTo>
                  <a:lnTo>
                    <a:pt x="512" y="322"/>
                  </a:lnTo>
                  <a:lnTo>
                    <a:pt x="537" y="267"/>
                  </a:lnTo>
                  <a:lnTo>
                    <a:pt x="562" y="213"/>
                  </a:lnTo>
                  <a:lnTo>
                    <a:pt x="587" y="160"/>
                  </a:lnTo>
                  <a:lnTo>
                    <a:pt x="613" y="106"/>
                  </a:lnTo>
                  <a:lnTo>
                    <a:pt x="640" y="52"/>
                  </a:lnTo>
                  <a:lnTo>
                    <a:pt x="667" y="1"/>
                  </a:lnTo>
                  <a:lnTo>
                    <a:pt x="667" y="0"/>
                  </a:lnTo>
                  <a:lnTo>
                    <a:pt x="544" y="0"/>
                  </a:lnTo>
                  <a:lnTo>
                    <a:pt x="531" y="25"/>
                  </a:lnTo>
                  <a:lnTo>
                    <a:pt x="505" y="77"/>
                  </a:lnTo>
                  <a:lnTo>
                    <a:pt x="480" y="132"/>
                  </a:lnTo>
                  <a:lnTo>
                    <a:pt x="455" y="186"/>
                  </a:lnTo>
                  <a:lnTo>
                    <a:pt x="430" y="241"/>
                  </a:lnTo>
                  <a:lnTo>
                    <a:pt x="406" y="295"/>
                  </a:lnTo>
                  <a:lnTo>
                    <a:pt x="359" y="406"/>
                  </a:lnTo>
                  <a:lnTo>
                    <a:pt x="313" y="517"/>
                  </a:lnTo>
                  <a:lnTo>
                    <a:pt x="271" y="627"/>
                  </a:lnTo>
                  <a:lnTo>
                    <a:pt x="231" y="736"/>
                  </a:lnTo>
                  <a:lnTo>
                    <a:pt x="194" y="843"/>
                  </a:lnTo>
                  <a:lnTo>
                    <a:pt x="158" y="949"/>
                  </a:lnTo>
                  <a:lnTo>
                    <a:pt x="127" y="1051"/>
                  </a:lnTo>
                  <a:lnTo>
                    <a:pt x="97" y="1150"/>
                  </a:lnTo>
                  <a:lnTo>
                    <a:pt x="71" y="1243"/>
                  </a:lnTo>
                  <a:lnTo>
                    <a:pt x="47" y="1333"/>
                  </a:lnTo>
                  <a:lnTo>
                    <a:pt x="26" y="1418"/>
                  </a:lnTo>
                  <a:lnTo>
                    <a:pt x="9" y="1495"/>
                  </a:lnTo>
                  <a:lnTo>
                    <a:pt x="2" y="1532"/>
                  </a:lnTo>
                  <a:lnTo>
                    <a:pt x="0" y="1545"/>
                  </a:lnTo>
                  <a:lnTo>
                    <a:pt x="13" y="1545"/>
                  </a:lnTo>
                  <a:lnTo>
                    <a:pt x="25" y="1545"/>
                  </a:lnTo>
                  <a:lnTo>
                    <a:pt x="38" y="1543"/>
                  </a:lnTo>
                  <a:lnTo>
                    <a:pt x="50" y="1543"/>
                  </a:lnTo>
                  <a:lnTo>
                    <a:pt x="62" y="1542"/>
                  </a:lnTo>
                  <a:lnTo>
                    <a:pt x="74" y="1542"/>
                  </a:lnTo>
                  <a:lnTo>
                    <a:pt x="87" y="1541"/>
                  </a:lnTo>
                  <a:lnTo>
                    <a:pt x="99" y="1541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6161040" y="3075120"/>
              <a:ext cx="220680" cy="488880"/>
            </a:xfrm>
            <a:custGeom>
              <a:avLst/>
              <a:gdLst/>
              <a:ahLst/>
              <a:rect l="l" t="t" r="r" b="b"/>
              <a:pathLst>
                <a:path w="696" h="1541">
                  <a:moveTo>
                    <a:pt x="580" y="0"/>
                  </a:moveTo>
                  <a:lnTo>
                    <a:pt x="555" y="63"/>
                  </a:lnTo>
                  <a:lnTo>
                    <a:pt x="506" y="180"/>
                  </a:lnTo>
                  <a:lnTo>
                    <a:pt x="458" y="301"/>
                  </a:lnTo>
                  <a:lnTo>
                    <a:pt x="409" y="423"/>
                  </a:lnTo>
                  <a:lnTo>
                    <a:pt x="361" y="546"/>
                  </a:lnTo>
                  <a:lnTo>
                    <a:pt x="314" y="668"/>
                  </a:lnTo>
                  <a:lnTo>
                    <a:pt x="268" y="790"/>
                  </a:lnTo>
                  <a:lnTo>
                    <a:pt x="223" y="910"/>
                  </a:lnTo>
                  <a:lnTo>
                    <a:pt x="181" y="1027"/>
                  </a:lnTo>
                  <a:lnTo>
                    <a:pt x="101" y="1246"/>
                  </a:lnTo>
                  <a:lnTo>
                    <a:pt x="33" y="1441"/>
                  </a:lnTo>
                  <a:lnTo>
                    <a:pt x="4" y="1527"/>
                  </a:lnTo>
                  <a:lnTo>
                    <a:pt x="0" y="1541"/>
                  </a:lnTo>
                  <a:lnTo>
                    <a:pt x="13" y="1541"/>
                  </a:lnTo>
                  <a:lnTo>
                    <a:pt x="27" y="1540"/>
                  </a:lnTo>
                  <a:lnTo>
                    <a:pt x="41" y="1540"/>
                  </a:lnTo>
                  <a:lnTo>
                    <a:pt x="56" y="1539"/>
                  </a:lnTo>
                  <a:lnTo>
                    <a:pt x="69" y="1538"/>
                  </a:lnTo>
                  <a:lnTo>
                    <a:pt x="83" y="1538"/>
                  </a:lnTo>
                  <a:lnTo>
                    <a:pt x="97" y="1537"/>
                  </a:lnTo>
                  <a:lnTo>
                    <a:pt x="110" y="1535"/>
                  </a:lnTo>
                  <a:lnTo>
                    <a:pt x="115" y="1523"/>
                  </a:lnTo>
                  <a:lnTo>
                    <a:pt x="183" y="1327"/>
                  </a:lnTo>
                  <a:lnTo>
                    <a:pt x="263" y="1108"/>
                  </a:lnTo>
                  <a:lnTo>
                    <a:pt x="305" y="991"/>
                  </a:lnTo>
                  <a:lnTo>
                    <a:pt x="350" y="871"/>
                  </a:lnTo>
                  <a:lnTo>
                    <a:pt x="396" y="749"/>
                  </a:lnTo>
                  <a:lnTo>
                    <a:pt x="443" y="627"/>
                  </a:lnTo>
                  <a:lnTo>
                    <a:pt x="491" y="504"/>
                  </a:lnTo>
                  <a:lnTo>
                    <a:pt x="540" y="382"/>
                  </a:lnTo>
                  <a:lnTo>
                    <a:pt x="588" y="261"/>
                  </a:lnTo>
                  <a:lnTo>
                    <a:pt x="636" y="144"/>
                  </a:lnTo>
                  <a:lnTo>
                    <a:pt x="684" y="29"/>
                  </a:lnTo>
                  <a:lnTo>
                    <a:pt x="696" y="0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6470640" y="3133800"/>
              <a:ext cx="38160" cy="404640"/>
            </a:xfrm>
            <a:custGeom>
              <a:avLst/>
              <a:gdLst/>
              <a:ahLst/>
              <a:rect l="l" t="t" r="r" b="b"/>
              <a:pathLst>
                <a:path w="118" h="1279">
                  <a:moveTo>
                    <a:pt x="118" y="0"/>
                  </a:moveTo>
                  <a:lnTo>
                    <a:pt x="101" y="100"/>
                  </a:lnTo>
                  <a:lnTo>
                    <a:pt x="85" y="198"/>
                  </a:lnTo>
                  <a:lnTo>
                    <a:pt x="71" y="295"/>
                  </a:lnTo>
                  <a:lnTo>
                    <a:pt x="57" y="390"/>
                  </a:lnTo>
                  <a:lnTo>
                    <a:pt x="46" y="483"/>
                  </a:lnTo>
                  <a:lnTo>
                    <a:pt x="36" y="574"/>
                  </a:lnTo>
                  <a:lnTo>
                    <a:pt x="27" y="662"/>
                  </a:lnTo>
                  <a:lnTo>
                    <a:pt x="20" y="747"/>
                  </a:lnTo>
                  <a:lnTo>
                    <a:pt x="13" y="829"/>
                  </a:lnTo>
                  <a:lnTo>
                    <a:pt x="8" y="906"/>
                  </a:lnTo>
                  <a:lnTo>
                    <a:pt x="4" y="980"/>
                  </a:lnTo>
                  <a:lnTo>
                    <a:pt x="2" y="1050"/>
                  </a:lnTo>
                  <a:lnTo>
                    <a:pt x="0" y="1115"/>
                  </a:lnTo>
                  <a:lnTo>
                    <a:pt x="0" y="1176"/>
                  </a:lnTo>
                  <a:lnTo>
                    <a:pt x="2" y="1230"/>
                  </a:lnTo>
                  <a:lnTo>
                    <a:pt x="5" y="1279"/>
                  </a:lnTo>
                  <a:lnTo>
                    <a:pt x="13" y="1279"/>
                  </a:lnTo>
                  <a:lnTo>
                    <a:pt x="21" y="1278"/>
                  </a:lnTo>
                  <a:lnTo>
                    <a:pt x="29" y="1278"/>
                  </a:lnTo>
                  <a:lnTo>
                    <a:pt x="37" y="1278"/>
                  </a:lnTo>
                  <a:lnTo>
                    <a:pt x="45" y="1277"/>
                  </a:lnTo>
                  <a:lnTo>
                    <a:pt x="52" y="1277"/>
                  </a:lnTo>
                  <a:lnTo>
                    <a:pt x="60" y="1277"/>
                  </a:lnTo>
                  <a:lnTo>
                    <a:pt x="67" y="1276"/>
                  </a:lnTo>
                  <a:lnTo>
                    <a:pt x="71" y="1237"/>
                  </a:lnTo>
                  <a:lnTo>
                    <a:pt x="76" y="1194"/>
                  </a:lnTo>
                  <a:lnTo>
                    <a:pt x="81" y="1148"/>
                  </a:lnTo>
                  <a:lnTo>
                    <a:pt x="87" y="1098"/>
                  </a:lnTo>
                  <a:lnTo>
                    <a:pt x="94" y="1046"/>
                  </a:lnTo>
                  <a:lnTo>
                    <a:pt x="102" y="990"/>
                  </a:lnTo>
                  <a:lnTo>
                    <a:pt x="109" y="931"/>
                  </a:lnTo>
                  <a:lnTo>
                    <a:pt x="118" y="871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6499080" y="3081240"/>
              <a:ext cx="9720" cy="265320"/>
            </a:xfrm>
            <a:custGeom>
              <a:avLst/>
              <a:gdLst/>
              <a:ahLst/>
              <a:rect l="l" t="t" r="r" b="b"/>
              <a:pathLst>
                <a:path w="26" h="837">
                  <a:moveTo>
                    <a:pt x="0" y="0"/>
                  </a:moveTo>
                  <a:lnTo>
                    <a:pt x="0" y="0"/>
                  </a:lnTo>
                  <a:lnTo>
                    <a:pt x="0" y="825"/>
                  </a:lnTo>
                  <a:lnTo>
                    <a:pt x="26" y="837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26" y="11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6454800" y="3081240"/>
              <a:ext cx="54000" cy="459000"/>
            </a:xfrm>
            <a:custGeom>
              <a:avLst/>
              <a:gdLst/>
              <a:ahLst/>
              <a:rect l="l" t="t" r="r" b="b"/>
              <a:pathLst>
                <a:path w="170" h="1448">
                  <a:moveTo>
                    <a:pt x="108" y="1442"/>
                  </a:moveTo>
                  <a:lnTo>
                    <a:pt x="108" y="1440"/>
                  </a:lnTo>
                  <a:lnTo>
                    <a:pt x="106" y="1400"/>
                  </a:lnTo>
                  <a:lnTo>
                    <a:pt x="106" y="1357"/>
                  </a:lnTo>
                  <a:lnTo>
                    <a:pt x="105" y="1311"/>
                  </a:lnTo>
                  <a:lnTo>
                    <a:pt x="106" y="1262"/>
                  </a:lnTo>
                  <a:lnTo>
                    <a:pt x="107" y="1211"/>
                  </a:lnTo>
                  <a:lnTo>
                    <a:pt x="109" y="1156"/>
                  </a:lnTo>
                  <a:lnTo>
                    <a:pt x="113" y="1099"/>
                  </a:lnTo>
                  <a:lnTo>
                    <a:pt x="116" y="1039"/>
                  </a:lnTo>
                  <a:lnTo>
                    <a:pt x="121" y="978"/>
                  </a:lnTo>
                  <a:lnTo>
                    <a:pt x="125" y="915"/>
                  </a:lnTo>
                  <a:lnTo>
                    <a:pt x="132" y="849"/>
                  </a:lnTo>
                  <a:lnTo>
                    <a:pt x="139" y="783"/>
                  </a:lnTo>
                  <a:lnTo>
                    <a:pt x="146" y="713"/>
                  </a:lnTo>
                  <a:lnTo>
                    <a:pt x="154" y="643"/>
                  </a:lnTo>
                  <a:lnTo>
                    <a:pt x="163" y="572"/>
                  </a:lnTo>
                  <a:lnTo>
                    <a:pt x="170" y="527"/>
                  </a:lnTo>
                  <a:lnTo>
                    <a:pt x="170" y="11"/>
                  </a:lnTo>
                  <a:lnTo>
                    <a:pt x="144" y="0"/>
                  </a:lnTo>
                  <a:lnTo>
                    <a:pt x="129" y="76"/>
                  </a:lnTo>
                  <a:lnTo>
                    <a:pt x="115" y="153"/>
                  </a:lnTo>
                  <a:lnTo>
                    <a:pt x="101" y="228"/>
                  </a:lnTo>
                  <a:lnTo>
                    <a:pt x="90" y="304"/>
                  </a:lnTo>
                  <a:lnTo>
                    <a:pt x="79" y="379"/>
                  </a:lnTo>
                  <a:lnTo>
                    <a:pt x="67" y="452"/>
                  </a:lnTo>
                  <a:lnTo>
                    <a:pt x="58" y="525"/>
                  </a:lnTo>
                  <a:lnTo>
                    <a:pt x="49" y="597"/>
                  </a:lnTo>
                  <a:lnTo>
                    <a:pt x="41" y="666"/>
                  </a:lnTo>
                  <a:lnTo>
                    <a:pt x="33" y="736"/>
                  </a:lnTo>
                  <a:lnTo>
                    <a:pt x="26" y="803"/>
                  </a:lnTo>
                  <a:lnTo>
                    <a:pt x="21" y="868"/>
                  </a:lnTo>
                  <a:lnTo>
                    <a:pt x="15" y="931"/>
                  </a:lnTo>
                  <a:lnTo>
                    <a:pt x="10" y="993"/>
                  </a:lnTo>
                  <a:lnTo>
                    <a:pt x="7" y="1052"/>
                  </a:lnTo>
                  <a:lnTo>
                    <a:pt x="5" y="1109"/>
                  </a:lnTo>
                  <a:lnTo>
                    <a:pt x="2" y="1164"/>
                  </a:lnTo>
                  <a:lnTo>
                    <a:pt x="0" y="1215"/>
                  </a:lnTo>
                  <a:lnTo>
                    <a:pt x="0" y="1264"/>
                  </a:lnTo>
                  <a:lnTo>
                    <a:pt x="0" y="1311"/>
                  </a:lnTo>
                  <a:lnTo>
                    <a:pt x="1" y="1353"/>
                  </a:lnTo>
                  <a:lnTo>
                    <a:pt x="2" y="1393"/>
                  </a:lnTo>
                  <a:lnTo>
                    <a:pt x="5" y="1430"/>
                  </a:lnTo>
                  <a:lnTo>
                    <a:pt x="7" y="1448"/>
                  </a:lnTo>
                  <a:lnTo>
                    <a:pt x="21" y="1448"/>
                  </a:lnTo>
                  <a:lnTo>
                    <a:pt x="33" y="1447"/>
                  </a:lnTo>
                  <a:lnTo>
                    <a:pt x="47" y="1446"/>
                  </a:lnTo>
                  <a:lnTo>
                    <a:pt x="59" y="1444"/>
                  </a:lnTo>
                  <a:lnTo>
                    <a:pt x="72" y="1443"/>
                  </a:lnTo>
                  <a:lnTo>
                    <a:pt x="84" y="1443"/>
                  </a:lnTo>
                  <a:lnTo>
                    <a:pt x="97" y="1442"/>
                  </a:lnTo>
                  <a:lnTo>
                    <a:pt x="108" y="144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6473880" y="3343320"/>
              <a:ext cx="34920" cy="195120"/>
            </a:xfrm>
            <a:custGeom>
              <a:avLst/>
              <a:gdLst/>
              <a:ahLst/>
              <a:rect l="l" t="t" r="r" b="b"/>
              <a:pathLst>
                <a:path w="106" h="619">
                  <a:moveTo>
                    <a:pt x="80" y="0"/>
                  </a:moveTo>
                  <a:lnTo>
                    <a:pt x="80" y="0"/>
                  </a:lnTo>
                  <a:lnTo>
                    <a:pt x="56" y="163"/>
                  </a:lnTo>
                  <a:lnTo>
                    <a:pt x="36" y="311"/>
                  </a:lnTo>
                  <a:lnTo>
                    <a:pt x="19" y="444"/>
                  </a:lnTo>
                  <a:lnTo>
                    <a:pt x="7" y="556"/>
                  </a:lnTo>
                  <a:lnTo>
                    <a:pt x="0" y="619"/>
                  </a:lnTo>
                  <a:lnTo>
                    <a:pt x="15" y="618"/>
                  </a:lnTo>
                  <a:lnTo>
                    <a:pt x="29" y="617"/>
                  </a:lnTo>
                  <a:lnTo>
                    <a:pt x="43" y="617"/>
                  </a:lnTo>
                  <a:lnTo>
                    <a:pt x="57" y="616"/>
                  </a:lnTo>
                  <a:lnTo>
                    <a:pt x="69" y="616"/>
                  </a:lnTo>
                  <a:lnTo>
                    <a:pt x="82" y="616"/>
                  </a:lnTo>
                  <a:lnTo>
                    <a:pt x="94" y="615"/>
                  </a:lnTo>
                  <a:lnTo>
                    <a:pt x="106" y="615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6391440" y="3075120"/>
              <a:ext cx="95040" cy="471240"/>
            </a:xfrm>
            <a:custGeom>
              <a:avLst/>
              <a:gdLst/>
              <a:ahLst/>
              <a:rect l="l" t="t" r="r" b="b"/>
              <a:pathLst>
                <a:path w="301" h="1484">
                  <a:moveTo>
                    <a:pt x="180" y="0"/>
                  </a:moveTo>
                  <a:lnTo>
                    <a:pt x="157" y="106"/>
                  </a:lnTo>
                  <a:lnTo>
                    <a:pt x="137" y="212"/>
                  </a:lnTo>
                  <a:lnTo>
                    <a:pt x="117" y="318"/>
                  </a:lnTo>
                  <a:lnTo>
                    <a:pt x="99" y="423"/>
                  </a:lnTo>
                  <a:lnTo>
                    <a:pt x="83" y="528"/>
                  </a:lnTo>
                  <a:lnTo>
                    <a:pt x="68" y="630"/>
                  </a:lnTo>
                  <a:lnTo>
                    <a:pt x="55" y="731"/>
                  </a:lnTo>
                  <a:lnTo>
                    <a:pt x="42" y="829"/>
                  </a:lnTo>
                  <a:lnTo>
                    <a:pt x="32" y="924"/>
                  </a:lnTo>
                  <a:lnTo>
                    <a:pt x="23" y="1016"/>
                  </a:lnTo>
                  <a:lnTo>
                    <a:pt x="16" y="1105"/>
                  </a:lnTo>
                  <a:lnTo>
                    <a:pt x="9" y="1191"/>
                  </a:lnTo>
                  <a:lnTo>
                    <a:pt x="4" y="1272"/>
                  </a:lnTo>
                  <a:lnTo>
                    <a:pt x="2" y="1347"/>
                  </a:lnTo>
                  <a:lnTo>
                    <a:pt x="0" y="1419"/>
                  </a:lnTo>
                  <a:lnTo>
                    <a:pt x="0" y="1484"/>
                  </a:lnTo>
                  <a:lnTo>
                    <a:pt x="10" y="1483"/>
                  </a:lnTo>
                  <a:lnTo>
                    <a:pt x="20" y="1482"/>
                  </a:lnTo>
                  <a:lnTo>
                    <a:pt x="31" y="1482"/>
                  </a:lnTo>
                  <a:lnTo>
                    <a:pt x="41" y="1481"/>
                  </a:lnTo>
                  <a:lnTo>
                    <a:pt x="51" y="1480"/>
                  </a:lnTo>
                  <a:lnTo>
                    <a:pt x="60" y="1478"/>
                  </a:lnTo>
                  <a:lnTo>
                    <a:pt x="70" y="1477"/>
                  </a:lnTo>
                  <a:lnTo>
                    <a:pt x="81" y="1477"/>
                  </a:lnTo>
                  <a:lnTo>
                    <a:pt x="98" y="1337"/>
                  </a:lnTo>
                  <a:lnTo>
                    <a:pt x="118" y="1177"/>
                  </a:lnTo>
                  <a:lnTo>
                    <a:pt x="142" y="1001"/>
                  </a:lnTo>
                  <a:lnTo>
                    <a:pt x="171" y="812"/>
                  </a:lnTo>
                  <a:lnTo>
                    <a:pt x="200" y="615"/>
                  </a:lnTo>
                  <a:lnTo>
                    <a:pt x="232" y="411"/>
                  </a:lnTo>
                  <a:lnTo>
                    <a:pt x="267" y="205"/>
                  </a:lnTo>
                  <a:lnTo>
                    <a:pt x="301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6375240" y="3075120"/>
              <a:ext cx="92160" cy="473040"/>
            </a:xfrm>
            <a:custGeom>
              <a:avLst/>
              <a:gdLst/>
              <a:ahLst/>
              <a:rect l="l" t="t" r="r" b="b"/>
              <a:pathLst>
                <a:path w="291" h="1489">
                  <a:moveTo>
                    <a:pt x="105" y="1480"/>
                  </a:moveTo>
                  <a:lnTo>
                    <a:pt x="106" y="1426"/>
                  </a:lnTo>
                  <a:lnTo>
                    <a:pt x="109" y="1353"/>
                  </a:lnTo>
                  <a:lnTo>
                    <a:pt x="112" y="1275"/>
                  </a:lnTo>
                  <a:lnTo>
                    <a:pt x="117" y="1193"/>
                  </a:lnTo>
                  <a:lnTo>
                    <a:pt x="123" y="1106"/>
                  </a:lnTo>
                  <a:lnTo>
                    <a:pt x="131" y="1015"/>
                  </a:lnTo>
                  <a:lnTo>
                    <a:pt x="141" y="922"/>
                  </a:lnTo>
                  <a:lnTo>
                    <a:pt x="151" y="825"/>
                  </a:lnTo>
                  <a:lnTo>
                    <a:pt x="163" y="725"/>
                  </a:lnTo>
                  <a:lnTo>
                    <a:pt x="178" y="623"/>
                  </a:lnTo>
                  <a:lnTo>
                    <a:pt x="193" y="520"/>
                  </a:lnTo>
                  <a:lnTo>
                    <a:pt x="210" y="414"/>
                  </a:lnTo>
                  <a:lnTo>
                    <a:pt x="228" y="308"/>
                  </a:lnTo>
                  <a:lnTo>
                    <a:pt x="249" y="202"/>
                  </a:lnTo>
                  <a:lnTo>
                    <a:pt x="271" y="94"/>
                  </a:lnTo>
                  <a:lnTo>
                    <a:pt x="291" y="0"/>
                  </a:lnTo>
                  <a:lnTo>
                    <a:pt x="175" y="0"/>
                  </a:lnTo>
                  <a:lnTo>
                    <a:pt x="165" y="48"/>
                  </a:lnTo>
                  <a:lnTo>
                    <a:pt x="143" y="155"/>
                  </a:lnTo>
                  <a:lnTo>
                    <a:pt x="123" y="261"/>
                  </a:lnTo>
                  <a:lnTo>
                    <a:pt x="105" y="367"/>
                  </a:lnTo>
                  <a:lnTo>
                    <a:pt x="88" y="473"/>
                  </a:lnTo>
                  <a:lnTo>
                    <a:pt x="72" y="576"/>
                  </a:lnTo>
                  <a:lnTo>
                    <a:pt x="58" y="679"/>
                  </a:lnTo>
                  <a:lnTo>
                    <a:pt x="46" y="778"/>
                  </a:lnTo>
                  <a:lnTo>
                    <a:pt x="35" y="875"/>
                  </a:lnTo>
                  <a:lnTo>
                    <a:pt x="25" y="968"/>
                  </a:lnTo>
                  <a:lnTo>
                    <a:pt x="17" y="1060"/>
                  </a:lnTo>
                  <a:lnTo>
                    <a:pt x="11" y="1146"/>
                  </a:lnTo>
                  <a:lnTo>
                    <a:pt x="6" y="1229"/>
                  </a:lnTo>
                  <a:lnTo>
                    <a:pt x="3" y="1306"/>
                  </a:lnTo>
                  <a:lnTo>
                    <a:pt x="0" y="1379"/>
                  </a:lnTo>
                  <a:lnTo>
                    <a:pt x="0" y="1446"/>
                  </a:lnTo>
                  <a:lnTo>
                    <a:pt x="0" y="1489"/>
                  </a:lnTo>
                  <a:lnTo>
                    <a:pt x="14" y="1487"/>
                  </a:lnTo>
                  <a:lnTo>
                    <a:pt x="28" y="1486"/>
                  </a:lnTo>
                  <a:lnTo>
                    <a:pt x="41" y="1485"/>
                  </a:lnTo>
                  <a:lnTo>
                    <a:pt x="54" y="1484"/>
                  </a:lnTo>
                  <a:lnTo>
                    <a:pt x="68" y="1483"/>
                  </a:lnTo>
                  <a:lnTo>
                    <a:pt x="80" y="1482"/>
                  </a:lnTo>
                  <a:lnTo>
                    <a:pt x="93" y="1481"/>
                  </a:lnTo>
                  <a:lnTo>
                    <a:pt x="105" y="148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6399360" y="3075120"/>
              <a:ext cx="106200" cy="469800"/>
            </a:xfrm>
            <a:custGeom>
              <a:avLst/>
              <a:gdLst/>
              <a:ahLst/>
              <a:rect l="l" t="t" r="r" b="b"/>
              <a:pathLst>
                <a:path w="333" h="1482">
                  <a:moveTo>
                    <a:pt x="220" y="0"/>
                  </a:moveTo>
                  <a:lnTo>
                    <a:pt x="213" y="35"/>
                  </a:lnTo>
                  <a:lnTo>
                    <a:pt x="181" y="227"/>
                  </a:lnTo>
                  <a:lnTo>
                    <a:pt x="149" y="418"/>
                  </a:lnTo>
                  <a:lnTo>
                    <a:pt x="120" y="609"/>
                  </a:lnTo>
                  <a:lnTo>
                    <a:pt x="92" y="794"/>
                  </a:lnTo>
                  <a:lnTo>
                    <a:pt x="66" y="970"/>
                  </a:lnTo>
                  <a:lnTo>
                    <a:pt x="43" y="1135"/>
                  </a:lnTo>
                  <a:lnTo>
                    <a:pt x="24" y="1287"/>
                  </a:lnTo>
                  <a:lnTo>
                    <a:pt x="7" y="1421"/>
                  </a:lnTo>
                  <a:lnTo>
                    <a:pt x="0" y="1482"/>
                  </a:lnTo>
                  <a:lnTo>
                    <a:pt x="15" y="1481"/>
                  </a:lnTo>
                  <a:lnTo>
                    <a:pt x="28" y="1480"/>
                  </a:lnTo>
                  <a:lnTo>
                    <a:pt x="43" y="1478"/>
                  </a:lnTo>
                  <a:lnTo>
                    <a:pt x="57" y="1476"/>
                  </a:lnTo>
                  <a:lnTo>
                    <a:pt x="71" y="1475"/>
                  </a:lnTo>
                  <a:lnTo>
                    <a:pt x="84" y="1474"/>
                  </a:lnTo>
                  <a:lnTo>
                    <a:pt x="98" y="1473"/>
                  </a:lnTo>
                  <a:lnTo>
                    <a:pt x="112" y="1472"/>
                  </a:lnTo>
                  <a:lnTo>
                    <a:pt x="112" y="1468"/>
                  </a:lnTo>
                  <a:lnTo>
                    <a:pt x="129" y="1333"/>
                  </a:lnTo>
                  <a:lnTo>
                    <a:pt x="149" y="1182"/>
                  </a:lnTo>
                  <a:lnTo>
                    <a:pt x="172" y="1016"/>
                  </a:lnTo>
                  <a:lnTo>
                    <a:pt x="197" y="841"/>
                  </a:lnTo>
                  <a:lnTo>
                    <a:pt x="226" y="656"/>
                  </a:lnTo>
                  <a:lnTo>
                    <a:pt x="255" y="465"/>
                  </a:lnTo>
                  <a:lnTo>
                    <a:pt x="286" y="274"/>
                  </a:lnTo>
                  <a:lnTo>
                    <a:pt x="319" y="82"/>
                  </a:lnTo>
                  <a:lnTo>
                    <a:pt x="333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2585880" y="3075120"/>
              <a:ext cx="3922920" cy="527040"/>
            </a:xfrm>
            <a:custGeom>
              <a:avLst/>
              <a:gdLst/>
              <a:ahLst/>
              <a:rect l="l" t="t" r="r" b="b"/>
              <a:pathLst>
                <a:path w="12354" h="1662">
                  <a:moveTo>
                    <a:pt x="0" y="0"/>
                  </a:moveTo>
                  <a:lnTo>
                    <a:pt x="12354" y="0"/>
                  </a:lnTo>
                  <a:lnTo>
                    <a:pt x="12354" y="1458"/>
                  </a:lnTo>
                  <a:lnTo>
                    <a:pt x="12316" y="1459"/>
                  </a:lnTo>
                  <a:lnTo>
                    <a:pt x="12275" y="1460"/>
                  </a:lnTo>
                  <a:lnTo>
                    <a:pt x="12230" y="1464"/>
                  </a:lnTo>
                  <a:lnTo>
                    <a:pt x="12179" y="1467"/>
                  </a:lnTo>
                  <a:lnTo>
                    <a:pt x="12069" y="1476"/>
                  </a:lnTo>
                  <a:lnTo>
                    <a:pt x="11945" y="1489"/>
                  </a:lnTo>
                  <a:lnTo>
                    <a:pt x="11810" y="1501"/>
                  </a:lnTo>
                  <a:lnTo>
                    <a:pt x="11666" y="1514"/>
                  </a:lnTo>
                  <a:lnTo>
                    <a:pt x="11517" y="1526"/>
                  </a:lnTo>
                  <a:lnTo>
                    <a:pt x="11363" y="1537"/>
                  </a:lnTo>
                  <a:lnTo>
                    <a:pt x="11286" y="1540"/>
                  </a:lnTo>
                  <a:lnTo>
                    <a:pt x="11208" y="1543"/>
                  </a:lnTo>
                  <a:lnTo>
                    <a:pt x="11131" y="1546"/>
                  </a:lnTo>
                  <a:lnTo>
                    <a:pt x="11053" y="1548"/>
                  </a:lnTo>
                  <a:lnTo>
                    <a:pt x="10977" y="1548"/>
                  </a:lnTo>
                  <a:lnTo>
                    <a:pt x="10902" y="1547"/>
                  </a:lnTo>
                  <a:lnTo>
                    <a:pt x="10827" y="1543"/>
                  </a:lnTo>
                  <a:lnTo>
                    <a:pt x="10754" y="1540"/>
                  </a:lnTo>
                  <a:lnTo>
                    <a:pt x="10683" y="1534"/>
                  </a:lnTo>
                  <a:lnTo>
                    <a:pt x="10614" y="1526"/>
                  </a:lnTo>
                  <a:lnTo>
                    <a:pt x="10548" y="1517"/>
                  </a:lnTo>
                  <a:lnTo>
                    <a:pt x="10484" y="1506"/>
                  </a:lnTo>
                  <a:lnTo>
                    <a:pt x="10424" y="1492"/>
                  </a:lnTo>
                  <a:lnTo>
                    <a:pt x="10366" y="1476"/>
                  </a:lnTo>
                  <a:lnTo>
                    <a:pt x="10312" y="1458"/>
                  </a:lnTo>
                  <a:lnTo>
                    <a:pt x="10262" y="1436"/>
                  </a:lnTo>
                  <a:lnTo>
                    <a:pt x="10191" y="1437"/>
                  </a:lnTo>
                  <a:lnTo>
                    <a:pt x="10118" y="1438"/>
                  </a:lnTo>
                  <a:lnTo>
                    <a:pt x="10044" y="1441"/>
                  </a:lnTo>
                  <a:lnTo>
                    <a:pt x="9968" y="1444"/>
                  </a:lnTo>
                  <a:lnTo>
                    <a:pt x="9812" y="1451"/>
                  </a:lnTo>
                  <a:lnTo>
                    <a:pt x="9651" y="1461"/>
                  </a:lnTo>
                  <a:lnTo>
                    <a:pt x="9315" y="1484"/>
                  </a:lnTo>
                  <a:lnTo>
                    <a:pt x="8966" y="1508"/>
                  </a:lnTo>
                  <a:lnTo>
                    <a:pt x="8787" y="1518"/>
                  </a:lnTo>
                  <a:lnTo>
                    <a:pt x="8607" y="1526"/>
                  </a:lnTo>
                  <a:lnTo>
                    <a:pt x="8517" y="1530"/>
                  </a:lnTo>
                  <a:lnTo>
                    <a:pt x="8425" y="1532"/>
                  </a:lnTo>
                  <a:lnTo>
                    <a:pt x="8335" y="1533"/>
                  </a:lnTo>
                  <a:lnTo>
                    <a:pt x="8244" y="1534"/>
                  </a:lnTo>
                  <a:lnTo>
                    <a:pt x="8154" y="1534"/>
                  </a:lnTo>
                  <a:lnTo>
                    <a:pt x="8063" y="1533"/>
                  </a:lnTo>
                  <a:lnTo>
                    <a:pt x="7973" y="1531"/>
                  </a:lnTo>
                  <a:lnTo>
                    <a:pt x="7883" y="1527"/>
                  </a:lnTo>
                  <a:lnTo>
                    <a:pt x="7793" y="1523"/>
                  </a:lnTo>
                  <a:lnTo>
                    <a:pt x="7704" y="1516"/>
                  </a:lnTo>
                  <a:lnTo>
                    <a:pt x="7615" y="1508"/>
                  </a:lnTo>
                  <a:lnTo>
                    <a:pt x="7526" y="1499"/>
                  </a:lnTo>
                  <a:lnTo>
                    <a:pt x="7470" y="1482"/>
                  </a:lnTo>
                  <a:lnTo>
                    <a:pt x="7417" y="1467"/>
                  </a:lnTo>
                  <a:lnTo>
                    <a:pt x="7364" y="1457"/>
                  </a:lnTo>
                  <a:lnTo>
                    <a:pt x="7313" y="1449"/>
                  </a:lnTo>
                  <a:lnTo>
                    <a:pt x="7264" y="1444"/>
                  </a:lnTo>
                  <a:lnTo>
                    <a:pt x="7215" y="1441"/>
                  </a:lnTo>
                  <a:lnTo>
                    <a:pt x="7167" y="1441"/>
                  </a:lnTo>
                  <a:lnTo>
                    <a:pt x="7119" y="1443"/>
                  </a:lnTo>
                  <a:lnTo>
                    <a:pt x="7072" y="1448"/>
                  </a:lnTo>
                  <a:lnTo>
                    <a:pt x="7024" y="1453"/>
                  </a:lnTo>
                  <a:lnTo>
                    <a:pt x="6975" y="1460"/>
                  </a:lnTo>
                  <a:lnTo>
                    <a:pt x="6926" y="1468"/>
                  </a:lnTo>
                  <a:lnTo>
                    <a:pt x="6825" y="1487"/>
                  </a:lnTo>
                  <a:lnTo>
                    <a:pt x="6717" y="1508"/>
                  </a:lnTo>
                  <a:lnTo>
                    <a:pt x="6658" y="1518"/>
                  </a:lnTo>
                  <a:lnTo>
                    <a:pt x="6599" y="1529"/>
                  </a:lnTo>
                  <a:lnTo>
                    <a:pt x="6536" y="1538"/>
                  </a:lnTo>
                  <a:lnTo>
                    <a:pt x="6470" y="1547"/>
                  </a:lnTo>
                  <a:lnTo>
                    <a:pt x="6401" y="1554"/>
                  </a:lnTo>
                  <a:lnTo>
                    <a:pt x="6328" y="1561"/>
                  </a:lnTo>
                  <a:lnTo>
                    <a:pt x="6251" y="1565"/>
                  </a:lnTo>
                  <a:lnTo>
                    <a:pt x="6171" y="1569"/>
                  </a:lnTo>
                  <a:lnTo>
                    <a:pt x="6084" y="1570"/>
                  </a:lnTo>
                  <a:lnTo>
                    <a:pt x="5994" y="1569"/>
                  </a:lnTo>
                  <a:lnTo>
                    <a:pt x="5898" y="1565"/>
                  </a:lnTo>
                  <a:lnTo>
                    <a:pt x="5797" y="1559"/>
                  </a:lnTo>
                  <a:lnTo>
                    <a:pt x="5691" y="1550"/>
                  </a:lnTo>
                  <a:lnTo>
                    <a:pt x="5578" y="1538"/>
                  </a:lnTo>
                  <a:lnTo>
                    <a:pt x="5459" y="1522"/>
                  </a:lnTo>
                  <a:lnTo>
                    <a:pt x="5334" y="1501"/>
                  </a:lnTo>
                  <a:lnTo>
                    <a:pt x="5288" y="1493"/>
                  </a:lnTo>
                  <a:lnTo>
                    <a:pt x="5241" y="1487"/>
                  </a:lnTo>
                  <a:lnTo>
                    <a:pt x="5194" y="1483"/>
                  </a:lnTo>
                  <a:lnTo>
                    <a:pt x="5145" y="1482"/>
                  </a:lnTo>
                  <a:lnTo>
                    <a:pt x="5094" y="1483"/>
                  </a:lnTo>
                  <a:lnTo>
                    <a:pt x="5043" y="1486"/>
                  </a:lnTo>
                  <a:lnTo>
                    <a:pt x="4989" y="1491"/>
                  </a:lnTo>
                  <a:lnTo>
                    <a:pt x="4934" y="1497"/>
                  </a:lnTo>
                  <a:lnTo>
                    <a:pt x="4877" y="1505"/>
                  </a:lnTo>
                  <a:lnTo>
                    <a:pt x="4817" y="1513"/>
                  </a:lnTo>
                  <a:lnTo>
                    <a:pt x="4757" y="1523"/>
                  </a:lnTo>
                  <a:lnTo>
                    <a:pt x="4693" y="1533"/>
                  </a:lnTo>
                  <a:lnTo>
                    <a:pt x="4560" y="1555"/>
                  </a:lnTo>
                  <a:lnTo>
                    <a:pt x="4415" y="1579"/>
                  </a:lnTo>
                  <a:lnTo>
                    <a:pt x="4340" y="1590"/>
                  </a:lnTo>
                  <a:lnTo>
                    <a:pt x="4260" y="1600"/>
                  </a:lnTo>
                  <a:lnTo>
                    <a:pt x="4179" y="1612"/>
                  </a:lnTo>
                  <a:lnTo>
                    <a:pt x="4093" y="1621"/>
                  </a:lnTo>
                  <a:lnTo>
                    <a:pt x="4006" y="1630"/>
                  </a:lnTo>
                  <a:lnTo>
                    <a:pt x="3914" y="1637"/>
                  </a:lnTo>
                  <a:lnTo>
                    <a:pt x="3820" y="1644"/>
                  </a:lnTo>
                  <a:lnTo>
                    <a:pt x="3721" y="1648"/>
                  </a:lnTo>
                  <a:lnTo>
                    <a:pt x="3619" y="1652"/>
                  </a:lnTo>
                  <a:lnTo>
                    <a:pt x="3513" y="1653"/>
                  </a:lnTo>
                  <a:lnTo>
                    <a:pt x="3404" y="1652"/>
                  </a:lnTo>
                  <a:lnTo>
                    <a:pt x="3291" y="1648"/>
                  </a:lnTo>
                  <a:lnTo>
                    <a:pt x="3173" y="1643"/>
                  </a:lnTo>
                  <a:lnTo>
                    <a:pt x="3051" y="1634"/>
                  </a:lnTo>
                  <a:lnTo>
                    <a:pt x="2926" y="1622"/>
                  </a:lnTo>
                  <a:lnTo>
                    <a:pt x="2795" y="1608"/>
                  </a:lnTo>
                  <a:lnTo>
                    <a:pt x="2719" y="1581"/>
                  </a:lnTo>
                  <a:lnTo>
                    <a:pt x="2641" y="1558"/>
                  </a:lnTo>
                  <a:lnTo>
                    <a:pt x="2564" y="1540"/>
                  </a:lnTo>
                  <a:lnTo>
                    <a:pt x="2485" y="1525"/>
                  </a:lnTo>
                  <a:lnTo>
                    <a:pt x="2406" y="1513"/>
                  </a:lnTo>
                  <a:lnTo>
                    <a:pt x="2328" y="1505"/>
                  </a:lnTo>
                  <a:lnTo>
                    <a:pt x="2248" y="1499"/>
                  </a:lnTo>
                  <a:lnTo>
                    <a:pt x="2168" y="1497"/>
                  </a:lnTo>
                  <a:lnTo>
                    <a:pt x="2087" y="1497"/>
                  </a:lnTo>
                  <a:lnTo>
                    <a:pt x="2005" y="1498"/>
                  </a:lnTo>
                  <a:lnTo>
                    <a:pt x="1923" y="1502"/>
                  </a:lnTo>
                  <a:lnTo>
                    <a:pt x="1841" y="1508"/>
                  </a:lnTo>
                  <a:lnTo>
                    <a:pt x="1758" y="1516"/>
                  </a:lnTo>
                  <a:lnTo>
                    <a:pt x="1673" y="1525"/>
                  </a:lnTo>
                  <a:lnTo>
                    <a:pt x="1588" y="1534"/>
                  </a:lnTo>
                  <a:lnTo>
                    <a:pt x="1502" y="1546"/>
                  </a:lnTo>
                  <a:lnTo>
                    <a:pt x="1328" y="1569"/>
                  </a:lnTo>
                  <a:lnTo>
                    <a:pt x="1151" y="1594"/>
                  </a:lnTo>
                  <a:lnTo>
                    <a:pt x="1061" y="1605"/>
                  </a:lnTo>
                  <a:lnTo>
                    <a:pt x="970" y="1616"/>
                  </a:lnTo>
                  <a:lnTo>
                    <a:pt x="877" y="1627"/>
                  </a:lnTo>
                  <a:lnTo>
                    <a:pt x="784" y="1637"/>
                  </a:lnTo>
                  <a:lnTo>
                    <a:pt x="691" y="1645"/>
                  </a:lnTo>
                  <a:lnTo>
                    <a:pt x="595" y="1652"/>
                  </a:lnTo>
                  <a:lnTo>
                    <a:pt x="498" y="1657"/>
                  </a:lnTo>
                  <a:lnTo>
                    <a:pt x="401" y="1661"/>
                  </a:lnTo>
                  <a:lnTo>
                    <a:pt x="302" y="1662"/>
                  </a:lnTo>
                  <a:lnTo>
                    <a:pt x="203" y="1661"/>
                  </a:lnTo>
                  <a:lnTo>
                    <a:pt x="101" y="1657"/>
                  </a:lnTo>
                  <a:lnTo>
                    <a:pt x="0" y="165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2592360" y="3060720"/>
              <a:ext cx="3952800" cy="44280"/>
            </a:xfrm>
            <a:custGeom>
              <a:avLst/>
              <a:gdLst/>
              <a:ahLst/>
              <a:rect l="l" t="t" r="r" b="b"/>
              <a:pathLst>
                <a:path w="12453" h="138">
                  <a:moveTo>
                    <a:pt x="12453" y="69"/>
                  </a:moveTo>
                  <a:lnTo>
                    <a:pt x="12385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2385" y="138"/>
                  </a:lnTo>
                  <a:lnTo>
                    <a:pt x="12453" y="69"/>
                  </a:lnTo>
                  <a:lnTo>
                    <a:pt x="12453" y="69"/>
                  </a:lnTo>
                  <a:lnTo>
                    <a:pt x="12453" y="0"/>
                  </a:lnTo>
                  <a:lnTo>
                    <a:pt x="12385" y="0"/>
                  </a:lnTo>
                  <a:lnTo>
                    <a:pt x="12453" y="6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6502320" y="3083040"/>
              <a:ext cx="42840" cy="2576520"/>
            </a:xfrm>
            <a:custGeom>
              <a:avLst/>
              <a:gdLst/>
              <a:ahLst/>
              <a:rect l="l" t="t" r="r" b="b"/>
              <a:pathLst>
                <a:path w="136" h="8116">
                  <a:moveTo>
                    <a:pt x="68" y="8116"/>
                  </a:moveTo>
                  <a:lnTo>
                    <a:pt x="136" y="8048"/>
                  </a:lnTo>
                  <a:lnTo>
                    <a:pt x="136" y="0"/>
                  </a:lnTo>
                  <a:lnTo>
                    <a:pt x="0" y="0"/>
                  </a:lnTo>
                  <a:lnTo>
                    <a:pt x="0" y="8048"/>
                  </a:lnTo>
                  <a:lnTo>
                    <a:pt x="68" y="8116"/>
                  </a:lnTo>
                  <a:lnTo>
                    <a:pt x="68" y="8116"/>
                  </a:lnTo>
                  <a:lnTo>
                    <a:pt x="136" y="8116"/>
                  </a:lnTo>
                  <a:lnTo>
                    <a:pt x="136" y="8048"/>
                  </a:lnTo>
                  <a:lnTo>
                    <a:pt x="68" y="811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2570040" y="5614920"/>
              <a:ext cx="3954600" cy="44640"/>
            </a:xfrm>
            <a:custGeom>
              <a:avLst/>
              <a:gdLst/>
              <a:ahLst/>
              <a:rect l="l" t="t" r="r" b="b"/>
              <a:pathLst>
                <a:path w="12454" h="138">
                  <a:moveTo>
                    <a:pt x="0" y="70"/>
                  </a:moveTo>
                  <a:lnTo>
                    <a:pt x="69" y="138"/>
                  </a:lnTo>
                  <a:lnTo>
                    <a:pt x="12454" y="138"/>
                  </a:lnTo>
                  <a:lnTo>
                    <a:pt x="12454" y="0"/>
                  </a:lnTo>
                  <a:lnTo>
                    <a:pt x="69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138"/>
                  </a:lnTo>
                  <a:lnTo>
                    <a:pt x="69" y="138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2570040" y="3060720"/>
              <a:ext cx="42840" cy="2576520"/>
            </a:xfrm>
            <a:custGeom>
              <a:avLst/>
              <a:gdLst/>
              <a:ahLst/>
              <a:rect l="l" t="t" r="r" b="b"/>
              <a:pathLst>
                <a:path w="137" h="8117">
                  <a:moveTo>
                    <a:pt x="69" y="0"/>
                  </a:moveTo>
                  <a:lnTo>
                    <a:pt x="0" y="69"/>
                  </a:lnTo>
                  <a:lnTo>
                    <a:pt x="0" y="8117"/>
                  </a:lnTo>
                  <a:lnTo>
                    <a:pt x="137" y="8117"/>
                  </a:lnTo>
                  <a:lnTo>
                    <a:pt x="137" y="69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0" y="0"/>
                  </a:lnTo>
                  <a:lnTo>
                    <a:pt x="0" y="6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4073400" y="3798720"/>
              <a:ext cx="317520" cy="95400"/>
            </a:xfrm>
            <a:custGeom>
              <a:avLst/>
              <a:gdLst/>
              <a:ahLst/>
              <a:rect l="l" t="t" r="r" b="b"/>
              <a:pathLst>
                <a:path w="1002" h="301">
                  <a:moveTo>
                    <a:pt x="500" y="0"/>
                  </a:moveTo>
                  <a:lnTo>
                    <a:pt x="551" y="1"/>
                  </a:lnTo>
                  <a:lnTo>
                    <a:pt x="601" y="4"/>
                  </a:lnTo>
                  <a:lnTo>
                    <a:pt x="649" y="7"/>
                  </a:lnTo>
                  <a:lnTo>
                    <a:pt x="696" y="13"/>
                  </a:lnTo>
                  <a:lnTo>
                    <a:pt x="739" y="19"/>
                  </a:lnTo>
                  <a:lnTo>
                    <a:pt x="781" y="27"/>
                  </a:lnTo>
                  <a:lnTo>
                    <a:pt x="819" y="36"/>
                  </a:lnTo>
                  <a:lnTo>
                    <a:pt x="855" y="46"/>
                  </a:lnTo>
                  <a:lnTo>
                    <a:pt x="887" y="56"/>
                  </a:lnTo>
                  <a:lnTo>
                    <a:pt x="916" y="68"/>
                  </a:lnTo>
                  <a:lnTo>
                    <a:pt x="929" y="74"/>
                  </a:lnTo>
                  <a:lnTo>
                    <a:pt x="941" y="80"/>
                  </a:lnTo>
                  <a:lnTo>
                    <a:pt x="952" y="87"/>
                  </a:lnTo>
                  <a:lnTo>
                    <a:pt x="962" y="94"/>
                  </a:lnTo>
                  <a:lnTo>
                    <a:pt x="972" y="101"/>
                  </a:lnTo>
                  <a:lnTo>
                    <a:pt x="979" y="108"/>
                  </a:lnTo>
                  <a:lnTo>
                    <a:pt x="986" y="114"/>
                  </a:lnTo>
                  <a:lnTo>
                    <a:pt x="992" y="122"/>
                  </a:lnTo>
                  <a:lnTo>
                    <a:pt x="995" y="129"/>
                  </a:lnTo>
                  <a:lnTo>
                    <a:pt x="999" y="137"/>
                  </a:lnTo>
                  <a:lnTo>
                    <a:pt x="1001" y="145"/>
                  </a:lnTo>
                  <a:lnTo>
                    <a:pt x="1002" y="152"/>
                  </a:lnTo>
                  <a:lnTo>
                    <a:pt x="1001" y="160"/>
                  </a:lnTo>
                  <a:lnTo>
                    <a:pt x="999" y="168"/>
                  </a:lnTo>
                  <a:lnTo>
                    <a:pt x="995" y="175"/>
                  </a:lnTo>
                  <a:lnTo>
                    <a:pt x="992" y="182"/>
                  </a:lnTo>
                  <a:lnTo>
                    <a:pt x="986" y="190"/>
                  </a:lnTo>
                  <a:lnTo>
                    <a:pt x="979" y="197"/>
                  </a:lnTo>
                  <a:lnTo>
                    <a:pt x="972" y="203"/>
                  </a:lnTo>
                  <a:lnTo>
                    <a:pt x="962" y="210"/>
                  </a:lnTo>
                  <a:lnTo>
                    <a:pt x="952" y="217"/>
                  </a:lnTo>
                  <a:lnTo>
                    <a:pt x="941" y="224"/>
                  </a:lnTo>
                  <a:lnTo>
                    <a:pt x="929" y="230"/>
                  </a:lnTo>
                  <a:lnTo>
                    <a:pt x="916" y="235"/>
                  </a:lnTo>
                  <a:lnTo>
                    <a:pt x="887" y="247"/>
                  </a:lnTo>
                  <a:lnTo>
                    <a:pt x="855" y="258"/>
                  </a:lnTo>
                  <a:lnTo>
                    <a:pt x="819" y="267"/>
                  </a:lnTo>
                  <a:lnTo>
                    <a:pt x="781" y="276"/>
                  </a:lnTo>
                  <a:lnTo>
                    <a:pt x="739" y="284"/>
                  </a:lnTo>
                  <a:lnTo>
                    <a:pt x="696" y="290"/>
                  </a:lnTo>
                  <a:lnTo>
                    <a:pt x="649" y="295"/>
                  </a:lnTo>
                  <a:lnTo>
                    <a:pt x="601" y="299"/>
                  </a:lnTo>
                  <a:lnTo>
                    <a:pt x="551" y="301"/>
                  </a:lnTo>
                  <a:lnTo>
                    <a:pt x="500" y="301"/>
                  </a:lnTo>
                  <a:lnTo>
                    <a:pt x="449" y="301"/>
                  </a:lnTo>
                  <a:lnTo>
                    <a:pt x="399" y="299"/>
                  </a:lnTo>
                  <a:lnTo>
                    <a:pt x="351" y="295"/>
                  </a:lnTo>
                  <a:lnTo>
                    <a:pt x="306" y="290"/>
                  </a:lnTo>
                  <a:lnTo>
                    <a:pt x="262" y="284"/>
                  </a:lnTo>
                  <a:lnTo>
                    <a:pt x="221" y="276"/>
                  </a:lnTo>
                  <a:lnTo>
                    <a:pt x="183" y="267"/>
                  </a:lnTo>
                  <a:lnTo>
                    <a:pt x="147" y="258"/>
                  </a:lnTo>
                  <a:lnTo>
                    <a:pt x="115" y="247"/>
                  </a:lnTo>
                  <a:lnTo>
                    <a:pt x="86" y="235"/>
                  </a:lnTo>
                  <a:lnTo>
                    <a:pt x="73" y="230"/>
                  </a:lnTo>
                  <a:lnTo>
                    <a:pt x="61" y="224"/>
                  </a:lnTo>
                  <a:lnTo>
                    <a:pt x="50" y="217"/>
                  </a:lnTo>
                  <a:lnTo>
                    <a:pt x="40" y="210"/>
                  </a:lnTo>
                  <a:lnTo>
                    <a:pt x="31" y="203"/>
                  </a:lnTo>
                  <a:lnTo>
                    <a:pt x="23" y="197"/>
                  </a:lnTo>
                  <a:lnTo>
                    <a:pt x="16" y="190"/>
                  </a:lnTo>
                  <a:lnTo>
                    <a:pt x="10" y="182"/>
                  </a:lnTo>
                  <a:lnTo>
                    <a:pt x="6" y="175"/>
                  </a:lnTo>
                  <a:lnTo>
                    <a:pt x="4" y="168"/>
                  </a:lnTo>
                  <a:lnTo>
                    <a:pt x="1" y="160"/>
                  </a:lnTo>
                  <a:lnTo>
                    <a:pt x="0" y="152"/>
                  </a:lnTo>
                  <a:lnTo>
                    <a:pt x="1" y="145"/>
                  </a:lnTo>
                  <a:lnTo>
                    <a:pt x="4" y="137"/>
                  </a:lnTo>
                  <a:lnTo>
                    <a:pt x="6" y="129"/>
                  </a:lnTo>
                  <a:lnTo>
                    <a:pt x="10" y="122"/>
                  </a:lnTo>
                  <a:lnTo>
                    <a:pt x="16" y="114"/>
                  </a:lnTo>
                  <a:lnTo>
                    <a:pt x="23" y="108"/>
                  </a:lnTo>
                  <a:lnTo>
                    <a:pt x="31" y="101"/>
                  </a:lnTo>
                  <a:lnTo>
                    <a:pt x="40" y="94"/>
                  </a:lnTo>
                  <a:lnTo>
                    <a:pt x="50" y="87"/>
                  </a:lnTo>
                  <a:lnTo>
                    <a:pt x="61" y="80"/>
                  </a:lnTo>
                  <a:lnTo>
                    <a:pt x="73" y="74"/>
                  </a:lnTo>
                  <a:lnTo>
                    <a:pt x="86" y="68"/>
                  </a:lnTo>
                  <a:lnTo>
                    <a:pt x="115" y="56"/>
                  </a:lnTo>
                  <a:lnTo>
                    <a:pt x="147" y="46"/>
                  </a:lnTo>
                  <a:lnTo>
                    <a:pt x="183" y="36"/>
                  </a:lnTo>
                  <a:lnTo>
                    <a:pt x="221" y="27"/>
                  </a:lnTo>
                  <a:lnTo>
                    <a:pt x="262" y="19"/>
                  </a:lnTo>
                  <a:lnTo>
                    <a:pt x="306" y="13"/>
                  </a:lnTo>
                  <a:lnTo>
                    <a:pt x="351" y="7"/>
                  </a:lnTo>
                  <a:lnTo>
                    <a:pt x="399" y="4"/>
                  </a:lnTo>
                  <a:lnTo>
                    <a:pt x="449" y="1"/>
                  </a:lnTo>
                  <a:lnTo>
                    <a:pt x="500" y="0"/>
                  </a:lnTo>
                  <a:close/>
                  <a:moveTo>
                    <a:pt x="495" y="97"/>
                  </a:moveTo>
                  <a:lnTo>
                    <a:pt x="519" y="97"/>
                  </a:lnTo>
                  <a:lnTo>
                    <a:pt x="542" y="98"/>
                  </a:lnTo>
                  <a:lnTo>
                    <a:pt x="565" y="100"/>
                  </a:lnTo>
                  <a:lnTo>
                    <a:pt x="585" y="102"/>
                  </a:lnTo>
                  <a:lnTo>
                    <a:pt x="606" y="104"/>
                  </a:lnTo>
                  <a:lnTo>
                    <a:pt x="625" y="108"/>
                  </a:lnTo>
                  <a:lnTo>
                    <a:pt x="642" y="112"/>
                  </a:lnTo>
                  <a:lnTo>
                    <a:pt x="659" y="116"/>
                  </a:lnTo>
                  <a:lnTo>
                    <a:pt x="674" y="120"/>
                  </a:lnTo>
                  <a:lnTo>
                    <a:pt x="688" y="126"/>
                  </a:lnTo>
                  <a:lnTo>
                    <a:pt x="699" y="130"/>
                  </a:lnTo>
                  <a:lnTo>
                    <a:pt x="708" y="136"/>
                  </a:lnTo>
                  <a:lnTo>
                    <a:pt x="716" y="143"/>
                  </a:lnTo>
                  <a:lnTo>
                    <a:pt x="722" y="149"/>
                  </a:lnTo>
                  <a:lnTo>
                    <a:pt x="725" y="155"/>
                  </a:lnTo>
                  <a:lnTo>
                    <a:pt x="726" y="162"/>
                  </a:lnTo>
                  <a:lnTo>
                    <a:pt x="725" y="168"/>
                  </a:lnTo>
                  <a:lnTo>
                    <a:pt x="722" y="175"/>
                  </a:lnTo>
                  <a:lnTo>
                    <a:pt x="716" y="181"/>
                  </a:lnTo>
                  <a:lnTo>
                    <a:pt x="708" y="186"/>
                  </a:lnTo>
                  <a:lnTo>
                    <a:pt x="699" y="192"/>
                  </a:lnTo>
                  <a:lnTo>
                    <a:pt x="688" y="197"/>
                  </a:lnTo>
                  <a:lnTo>
                    <a:pt x="674" y="201"/>
                  </a:lnTo>
                  <a:lnTo>
                    <a:pt x="659" y="206"/>
                  </a:lnTo>
                  <a:lnTo>
                    <a:pt x="642" y="210"/>
                  </a:lnTo>
                  <a:lnTo>
                    <a:pt x="625" y="214"/>
                  </a:lnTo>
                  <a:lnTo>
                    <a:pt x="606" y="217"/>
                  </a:lnTo>
                  <a:lnTo>
                    <a:pt x="585" y="219"/>
                  </a:lnTo>
                  <a:lnTo>
                    <a:pt x="565" y="222"/>
                  </a:lnTo>
                  <a:lnTo>
                    <a:pt x="542" y="224"/>
                  </a:lnTo>
                  <a:lnTo>
                    <a:pt x="519" y="224"/>
                  </a:lnTo>
                  <a:lnTo>
                    <a:pt x="495" y="225"/>
                  </a:lnTo>
                  <a:lnTo>
                    <a:pt x="471" y="224"/>
                  </a:lnTo>
                  <a:lnTo>
                    <a:pt x="447" y="224"/>
                  </a:lnTo>
                  <a:lnTo>
                    <a:pt x="424" y="222"/>
                  </a:lnTo>
                  <a:lnTo>
                    <a:pt x="403" y="219"/>
                  </a:lnTo>
                  <a:lnTo>
                    <a:pt x="381" y="217"/>
                  </a:lnTo>
                  <a:lnTo>
                    <a:pt x="362" y="214"/>
                  </a:lnTo>
                  <a:lnTo>
                    <a:pt x="343" y="210"/>
                  </a:lnTo>
                  <a:lnTo>
                    <a:pt x="327" y="206"/>
                  </a:lnTo>
                  <a:lnTo>
                    <a:pt x="313" y="201"/>
                  </a:lnTo>
                  <a:lnTo>
                    <a:pt x="299" y="197"/>
                  </a:lnTo>
                  <a:lnTo>
                    <a:pt x="286" y="192"/>
                  </a:lnTo>
                  <a:lnTo>
                    <a:pt x="277" y="186"/>
                  </a:lnTo>
                  <a:lnTo>
                    <a:pt x="269" y="181"/>
                  </a:lnTo>
                  <a:lnTo>
                    <a:pt x="264" y="175"/>
                  </a:lnTo>
                  <a:lnTo>
                    <a:pt x="261" y="171"/>
                  </a:lnTo>
                  <a:lnTo>
                    <a:pt x="260" y="168"/>
                  </a:lnTo>
                  <a:lnTo>
                    <a:pt x="259" y="165"/>
                  </a:lnTo>
                  <a:lnTo>
                    <a:pt x="259" y="162"/>
                  </a:lnTo>
                  <a:lnTo>
                    <a:pt x="259" y="159"/>
                  </a:lnTo>
                  <a:lnTo>
                    <a:pt x="260" y="155"/>
                  </a:lnTo>
                  <a:lnTo>
                    <a:pt x="261" y="152"/>
                  </a:lnTo>
                  <a:lnTo>
                    <a:pt x="264" y="149"/>
                  </a:lnTo>
                  <a:lnTo>
                    <a:pt x="269" y="143"/>
                  </a:lnTo>
                  <a:lnTo>
                    <a:pt x="277" y="136"/>
                  </a:lnTo>
                  <a:lnTo>
                    <a:pt x="286" y="130"/>
                  </a:lnTo>
                  <a:lnTo>
                    <a:pt x="299" y="126"/>
                  </a:lnTo>
                  <a:lnTo>
                    <a:pt x="313" y="120"/>
                  </a:lnTo>
                  <a:lnTo>
                    <a:pt x="327" y="116"/>
                  </a:lnTo>
                  <a:lnTo>
                    <a:pt x="343" y="112"/>
                  </a:lnTo>
                  <a:lnTo>
                    <a:pt x="362" y="108"/>
                  </a:lnTo>
                  <a:lnTo>
                    <a:pt x="381" y="104"/>
                  </a:lnTo>
                  <a:lnTo>
                    <a:pt x="403" y="102"/>
                  </a:lnTo>
                  <a:lnTo>
                    <a:pt x="424" y="100"/>
                  </a:lnTo>
                  <a:lnTo>
                    <a:pt x="447" y="98"/>
                  </a:lnTo>
                  <a:lnTo>
                    <a:pt x="471" y="97"/>
                  </a:lnTo>
                  <a:lnTo>
                    <a:pt x="495" y="97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4232160" y="3787920"/>
              <a:ext cx="169920" cy="58680"/>
            </a:xfrm>
            <a:custGeom>
              <a:avLst/>
              <a:gdLst/>
              <a:ahLst/>
              <a:rect l="l" t="t" r="r" b="b"/>
              <a:pathLst>
                <a:path w="535" h="186">
                  <a:moveTo>
                    <a:pt x="535" y="186"/>
                  </a:moveTo>
                  <a:lnTo>
                    <a:pt x="535" y="186"/>
                  </a:lnTo>
                  <a:lnTo>
                    <a:pt x="534" y="172"/>
                  </a:lnTo>
                  <a:lnTo>
                    <a:pt x="531" y="160"/>
                  </a:lnTo>
                  <a:lnTo>
                    <a:pt x="526" y="148"/>
                  </a:lnTo>
                  <a:lnTo>
                    <a:pt x="519" y="137"/>
                  </a:lnTo>
                  <a:lnTo>
                    <a:pt x="511" y="127"/>
                  </a:lnTo>
                  <a:lnTo>
                    <a:pt x="502" y="118"/>
                  </a:lnTo>
                  <a:lnTo>
                    <a:pt x="493" y="108"/>
                  </a:lnTo>
                  <a:lnTo>
                    <a:pt x="482" y="100"/>
                  </a:lnTo>
                  <a:lnTo>
                    <a:pt x="470" y="92"/>
                  </a:lnTo>
                  <a:lnTo>
                    <a:pt x="458" y="86"/>
                  </a:lnTo>
                  <a:lnTo>
                    <a:pt x="444" y="78"/>
                  </a:lnTo>
                  <a:lnTo>
                    <a:pt x="429" y="71"/>
                  </a:lnTo>
                  <a:lnTo>
                    <a:pt x="399" y="58"/>
                  </a:lnTo>
                  <a:lnTo>
                    <a:pt x="364" y="47"/>
                  </a:lnTo>
                  <a:lnTo>
                    <a:pt x="328" y="37"/>
                  </a:lnTo>
                  <a:lnTo>
                    <a:pt x="288" y="27"/>
                  </a:lnTo>
                  <a:lnTo>
                    <a:pt x="245" y="19"/>
                  </a:lnTo>
                  <a:lnTo>
                    <a:pt x="200" y="13"/>
                  </a:lnTo>
                  <a:lnTo>
                    <a:pt x="152" y="8"/>
                  </a:lnTo>
                  <a:lnTo>
                    <a:pt x="103" y="3"/>
                  </a:lnTo>
                  <a:lnTo>
                    <a:pt x="52" y="1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1" y="68"/>
                  </a:lnTo>
                  <a:lnTo>
                    <a:pt x="99" y="71"/>
                  </a:lnTo>
                  <a:lnTo>
                    <a:pt x="147" y="74"/>
                  </a:lnTo>
                  <a:lnTo>
                    <a:pt x="191" y="80"/>
                  </a:lnTo>
                  <a:lnTo>
                    <a:pt x="233" y="87"/>
                  </a:lnTo>
                  <a:lnTo>
                    <a:pt x="274" y="94"/>
                  </a:lnTo>
                  <a:lnTo>
                    <a:pt x="311" y="103"/>
                  </a:lnTo>
                  <a:lnTo>
                    <a:pt x="345" y="112"/>
                  </a:lnTo>
                  <a:lnTo>
                    <a:pt x="376" y="122"/>
                  </a:lnTo>
                  <a:lnTo>
                    <a:pt x="403" y="134"/>
                  </a:lnTo>
                  <a:lnTo>
                    <a:pt x="415" y="138"/>
                  </a:lnTo>
                  <a:lnTo>
                    <a:pt x="425" y="144"/>
                  </a:lnTo>
                  <a:lnTo>
                    <a:pt x="435" y="150"/>
                  </a:lnTo>
                  <a:lnTo>
                    <a:pt x="443" y="155"/>
                  </a:lnTo>
                  <a:lnTo>
                    <a:pt x="450" y="161"/>
                  </a:lnTo>
                  <a:lnTo>
                    <a:pt x="456" y="165"/>
                  </a:lnTo>
                  <a:lnTo>
                    <a:pt x="460" y="171"/>
                  </a:lnTo>
                  <a:lnTo>
                    <a:pt x="464" y="175"/>
                  </a:lnTo>
                  <a:lnTo>
                    <a:pt x="466" y="179"/>
                  </a:lnTo>
                  <a:lnTo>
                    <a:pt x="467" y="181"/>
                  </a:lnTo>
                  <a:lnTo>
                    <a:pt x="468" y="185"/>
                  </a:lnTo>
                  <a:lnTo>
                    <a:pt x="468" y="186"/>
                  </a:lnTo>
                  <a:lnTo>
                    <a:pt x="468" y="186"/>
                  </a:lnTo>
                  <a:lnTo>
                    <a:pt x="535" y="186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4232160" y="3846600"/>
              <a:ext cx="169920" cy="58680"/>
            </a:xfrm>
            <a:custGeom>
              <a:avLst/>
              <a:gdLst/>
              <a:ahLst/>
              <a:rect l="l" t="t" r="r" b="b"/>
              <a:pathLst>
                <a:path w="535" h="184">
                  <a:moveTo>
                    <a:pt x="0" y="184"/>
                  </a:moveTo>
                  <a:lnTo>
                    <a:pt x="0" y="184"/>
                  </a:lnTo>
                  <a:lnTo>
                    <a:pt x="52" y="183"/>
                  </a:lnTo>
                  <a:lnTo>
                    <a:pt x="103" y="180"/>
                  </a:lnTo>
                  <a:lnTo>
                    <a:pt x="152" y="177"/>
                  </a:lnTo>
                  <a:lnTo>
                    <a:pt x="200" y="171"/>
                  </a:lnTo>
                  <a:lnTo>
                    <a:pt x="245" y="165"/>
                  </a:lnTo>
                  <a:lnTo>
                    <a:pt x="287" y="157"/>
                  </a:lnTo>
                  <a:lnTo>
                    <a:pt x="327" y="148"/>
                  </a:lnTo>
                  <a:lnTo>
                    <a:pt x="364" y="138"/>
                  </a:lnTo>
                  <a:lnTo>
                    <a:pt x="399" y="127"/>
                  </a:lnTo>
                  <a:lnTo>
                    <a:pt x="429" y="115"/>
                  </a:lnTo>
                  <a:lnTo>
                    <a:pt x="444" y="108"/>
                  </a:lnTo>
                  <a:lnTo>
                    <a:pt x="458" y="100"/>
                  </a:lnTo>
                  <a:lnTo>
                    <a:pt x="470" y="94"/>
                  </a:lnTo>
                  <a:lnTo>
                    <a:pt x="482" y="86"/>
                  </a:lnTo>
                  <a:lnTo>
                    <a:pt x="493" y="78"/>
                  </a:lnTo>
                  <a:lnTo>
                    <a:pt x="502" y="68"/>
                  </a:lnTo>
                  <a:lnTo>
                    <a:pt x="511" y="59"/>
                  </a:lnTo>
                  <a:lnTo>
                    <a:pt x="519" y="49"/>
                  </a:lnTo>
                  <a:lnTo>
                    <a:pt x="526" y="39"/>
                  </a:lnTo>
                  <a:lnTo>
                    <a:pt x="531" y="26"/>
                  </a:lnTo>
                  <a:lnTo>
                    <a:pt x="534" y="14"/>
                  </a:lnTo>
                  <a:lnTo>
                    <a:pt x="535" y="0"/>
                  </a:lnTo>
                  <a:lnTo>
                    <a:pt x="468" y="0"/>
                  </a:lnTo>
                  <a:lnTo>
                    <a:pt x="468" y="2"/>
                  </a:lnTo>
                  <a:lnTo>
                    <a:pt x="467" y="5"/>
                  </a:lnTo>
                  <a:lnTo>
                    <a:pt x="466" y="8"/>
                  </a:lnTo>
                  <a:lnTo>
                    <a:pt x="464" y="11"/>
                  </a:lnTo>
                  <a:lnTo>
                    <a:pt x="460" y="16"/>
                  </a:lnTo>
                  <a:lnTo>
                    <a:pt x="456" y="21"/>
                  </a:lnTo>
                  <a:lnTo>
                    <a:pt x="450" y="25"/>
                  </a:lnTo>
                  <a:lnTo>
                    <a:pt x="443" y="31"/>
                  </a:lnTo>
                  <a:lnTo>
                    <a:pt x="435" y="37"/>
                  </a:lnTo>
                  <a:lnTo>
                    <a:pt x="425" y="42"/>
                  </a:lnTo>
                  <a:lnTo>
                    <a:pt x="415" y="48"/>
                  </a:lnTo>
                  <a:lnTo>
                    <a:pt x="403" y="52"/>
                  </a:lnTo>
                  <a:lnTo>
                    <a:pt x="376" y="64"/>
                  </a:lnTo>
                  <a:lnTo>
                    <a:pt x="345" y="73"/>
                  </a:lnTo>
                  <a:lnTo>
                    <a:pt x="311" y="83"/>
                  </a:lnTo>
                  <a:lnTo>
                    <a:pt x="274" y="91"/>
                  </a:lnTo>
                  <a:lnTo>
                    <a:pt x="234" y="98"/>
                  </a:lnTo>
                  <a:lnTo>
                    <a:pt x="191" y="105"/>
                  </a:lnTo>
                  <a:lnTo>
                    <a:pt x="147" y="110"/>
                  </a:lnTo>
                  <a:lnTo>
                    <a:pt x="99" y="113"/>
                  </a:lnTo>
                  <a:lnTo>
                    <a:pt x="51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4062240" y="3846600"/>
              <a:ext cx="169920" cy="58680"/>
            </a:xfrm>
            <a:custGeom>
              <a:avLst/>
              <a:gdLst/>
              <a:ahLst/>
              <a:rect l="l" t="t" r="r" b="b"/>
              <a:pathLst>
                <a:path w="533" h="184">
                  <a:moveTo>
                    <a:pt x="0" y="0"/>
                  </a:moveTo>
                  <a:lnTo>
                    <a:pt x="0" y="0"/>
                  </a:lnTo>
                  <a:lnTo>
                    <a:pt x="1" y="14"/>
                  </a:lnTo>
                  <a:lnTo>
                    <a:pt x="5" y="26"/>
                  </a:lnTo>
                  <a:lnTo>
                    <a:pt x="9" y="39"/>
                  </a:lnTo>
                  <a:lnTo>
                    <a:pt x="16" y="49"/>
                  </a:lnTo>
                  <a:lnTo>
                    <a:pt x="24" y="59"/>
                  </a:lnTo>
                  <a:lnTo>
                    <a:pt x="33" y="68"/>
                  </a:lnTo>
                  <a:lnTo>
                    <a:pt x="42" y="78"/>
                  </a:lnTo>
                  <a:lnTo>
                    <a:pt x="54" y="86"/>
                  </a:lnTo>
                  <a:lnTo>
                    <a:pt x="65" y="94"/>
                  </a:lnTo>
                  <a:lnTo>
                    <a:pt x="78" y="100"/>
                  </a:lnTo>
                  <a:lnTo>
                    <a:pt x="91" y="108"/>
                  </a:lnTo>
                  <a:lnTo>
                    <a:pt x="106" y="115"/>
                  </a:lnTo>
                  <a:lnTo>
                    <a:pt x="136" y="127"/>
                  </a:lnTo>
                  <a:lnTo>
                    <a:pt x="170" y="138"/>
                  </a:lnTo>
                  <a:lnTo>
                    <a:pt x="208" y="148"/>
                  </a:lnTo>
                  <a:lnTo>
                    <a:pt x="248" y="157"/>
                  </a:lnTo>
                  <a:lnTo>
                    <a:pt x="290" y="165"/>
                  </a:lnTo>
                  <a:lnTo>
                    <a:pt x="335" y="171"/>
                  </a:lnTo>
                  <a:lnTo>
                    <a:pt x="382" y="177"/>
                  </a:lnTo>
                  <a:lnTo>
                    <a:pt x="431" y="180"/>
                  </a:lnTo>
                  <a:lnTo>
                    <a:pt x="481" y="183"/>
                  </a:lnTo>
                  <a:lnTo>
                    <a:pt x="533" y="184"/>
                  </a:lnTo>
                  <a:lnTo>
                    <a:pt x="533" y="116"/>
                  </a:lnTo>
                  <a:lnTo>
                    <a:pt x="484" y="115"/>
                  </a:lnTo>
                  <a:lnTo>
                    <a:pt x="435" y="113"/>
                  </a:lnTo>
                  <a:lnTo>
                    <a:pt x="388" y="110"/>
                  </a:lnTo>
                  <a:lnTo>
                    <a:pt x="343" y="105"/>
                  </a:lnTo>
                  <a:lnTo>
                    <a:pt x="301" y="98"/>
                  </a:lnTo>
                  <a:lnTo>
                    <a:pt x="261" y="91"/>
                  </a:lnTo>
                  <a:lnTo>
                    <a:pt x="224" y="83"/>
                  </a:lnTo>
                  <a:lnTo>
                    <a:pt x="189" y="73"/>
                  </a:lnTo>
                  <a:lnTo>
                    <a:pt x="160" y="64"/>
                  </a:lnTo>
                  <a:lnTo>
                    <a:pt x="132" y="52"/>
                  </a:lnTo>
                  <a:lnTo>
                    <a:pt x="121" y="48"/>
                  </a:lnTo>
                  <a:lnTo>
                    <a:pt x="111" y="42"/>
                  </a:lnTo>
                  <a:lnTo>
                    <a:pt x="100" y="37"/>
                  </a:lnTo>
                  <a:lnTo>
                    <a:pt x="93" y="31"/>
                  </a:lnTo>
                  <a:lnTo>
                    <a:pt x="86" y="25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2" y="11"/>
                  </a:lnTo>
                  <a:lnTo>
                    <a:pt x="70" y="8"/>
                  </a:lnTo>
                  <a:lnTo>
                    <a:pt x="69" y="5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4062240" y="3787920"/>
              <a:ext cx="169920" cy="58680"/>
            </a:xfrm>
            <a:custGeom>
              <a:avLst/>
              <a:gdLst/>
              <a:ahLst/>
              <a:rect l="l" t="t" r="r" b="b"/>
              <a:pathLst>
                <a:path w="533" h="186">
                  <a:moveTo>
                    <a:pt x="533" y="0"/>
                  </a:moveTo>
                  <a:lnTo>
                    <a:pt x="533" y="0"/>
                  </a:lnTo>
                  <a:lnTo>
                    <a:pt x="481" y="1"/>
                  </a:lnTo>
                  <a:lnTo>
                    <a:pt x="430" y="3"/>
                  </a:lnTo>
                  <a:lnTo>
                    <a:pt x="382" y="8"/>
                  </a:lnTo>
                  <a:lnTo>
                    <a:pt x="334" y="13"/>
                  </a:lnTo>
                  <a:lnTo>
                    <a:pt x="290" y="19"/>
                  </a:lnTo>
                  <a:lnTo>
                    <a:pt x="248" y="27"/>
                  </a:lnTo>
                  <a:lnTo>
                    <a:pt x="208" y="37"/>
                  </a:lnTo>
                  <a:lnTo>
                    <a:pt x="170" y="47"/>
                  </a:lnTo>
                  <a:lnTo>
                    <a:pt x="136" y="58"/>
                  </a:lnTo>
                  <a:lnTo>
                    <a:pt x="106" y="71"/>
                  </a:lnTo>
                  <a:lnTo>
                    <a:pt x="91" y="78"/>
                  </a:lnTo>
                  <a:lnTo>
                    <a:pt x="78" y="86"/>
                  </a:lnTo>
                  <a:lnTo>
                    <a:pt x="65" y="92"/>
                  </a:lnTo>
                  <a:lnTo>
                    <a:pt x="54" y="100"/>
                  </a:lnTo>
                  <a:lnTo>
                    <a:pt x="42" y="108"/>
                  </a:lnTo>
                  <a:lnTo>
                    <a:pt x="33" y="118"/>
                  </a:lnTo>
                  <a:lnTo>
                    <a:pt x="24" y="127"/>
                  </a:lnTo>
                  <a:lnTo>
                    <a:pt x="16" y="137"/>
                  </a:lnTo>
                  <a:lnTo>
                    <a:pt x="9" y="148"/>
                  </a:lnTo>
                  <a:lnTo>
                    <a:pt x="5" y="161"/>
                  </a:lnTo>
                  <a:lnTo>
                    <a:pt x="1" y="173"/>
                  </a:lnTo>
                  <a:lnTo>
                    <a:pt x="0" y="186"/>
                  </a:lnTo>
                  <a:lnTo>
                    <a:pt x="67" y="186"/>
                  </a:lnTo>
                  <a:lnTo>
                    <a:pt x="67" y="184"/>
                  </a:lnTo>
                  <a:lnTo>
                    <a:pt x="69" y="181"/>
                  </a:lnTo>
                  <a:lnTo>
                    <a:pt x="70" y="179"/>
                  </a:lnTo>
                  <a:lnTo>
                    <a:pt x="72" y="175"/>
                  </a:lnTo>
                  <a:lnTo>
                    <a:pt x="75" y="171"/>
                  </a:lnTo>
                  <a:lnTo>
                    <a:pt x="80" y="165"/>
                  </a:lnTo>
                  <a:lnTo>
                    <a:pt x="86" y="161"/>
                  </a:lnTo>
                  <a:lnTo>
                    <a:pt x="93" y="155"/>
                  </a:lnTo>
                  <a:lnTo>
                    <a:pt x="100" y="150"/>
                  </a:lnTo>
                  <a:lnTo>
                    <a:pt x="111" y="144"/>
                  </a:lnTo>
                  <a:lnTo>
                    <a:pt x="121" y="138"/>
                  </a:lnTo>
                  <a:lnTo>
                    <a:pt x="132" y="134"/>
                  </a:lnTo>
                  <a:lnTo>
                    <a:pt x="160" y="122"/>
                  </a:lnTo>
                  <a:lnTo>
                    <a:pt x="191" y="112"/>
                  </a:lnTo>
                  <a:lnTo>
                    <a:pt x="224" y="103"/>
                  </a:lnTo>
                  <a:lnTo>
                    <a:pt x="261" y="94"/>
                  </a:lnTo>
                  <a:lnTo>
                    <a:pt x="301" y="87"/>
                  </a:lnTo>
                  <a:lnTo>
                    <a:pt x="343" y="80"/>
                  </a:lnTo>
                  <a:lnTo>
                    <a:pt x="388" y="74"/>
                  </a:lnTo>
                  <a:lnTo>
                    <a:pt x="435" y="71"/>
                  </a:lnTo>
                  <a:lnTo>
                    <a:pt x="484" y="68"/>
                  </a:lnTo>
                  <a:lnTo>
                    <a:pt x="533" y="67"/>
                  </a:lnTo>
                  <a:lnTo>
                    <a:pt x="533" y="67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4230720" y="3817800"/>
              <a:ext cx="84240" cy="33480"/>
            </a:xfrm>
            <a:custGeom>
              <a:avLst/>
              <a:gdLst/>
              <a:ahLst/>
              <a:rect l="l" t="t" r="r" b="b"/>
              <a:pathLst>
                <a:path w="266" h="105">
                  <a:moveTo>
                    <a:pt x="266" y="99"/>
                  </a:moveTo>
                  <a:lnTo>
                    <a:pt x="266" y="99"/>
                  </a:lnTo>
                  <a:lnTo>
                    <a:pt x="262" y="81"/>
                  </a:lnTo>
                  <a:lnTo>
                    <a:pt x="254" y="66"/>
                  </a:lnTo>
                  <a:lnTo>
                    <a:pt x="244" y="55"/>
                  </a:lnTo>
                  <a:lnTo>
                    <a:pt x="233" y="46"/>
                  </a:lnTo>
                  <a:lnTo>
                    <a:pt x="219" y="38"/>
                  </a:lnTo>
                  <a:lnTo>
                    <a:pt x="205" y="31"/>
                  </a:lnTo>
                  <a:lnTo>
                    <a:pt x="189" y="25"/>
                  </a:lnTo>
                  <a:lnTo>
                    <a:pt x="173" y="21"/>
                  </a:lnTo>
                  <a:lnTo>
                    <a:pt x="155" y="16"/>
                  </a:lnTo>
                  <a:lnTo>
                    <a:pt x="136" y="11"/>
                  </a:lnTo>
                  <a:lnTo>
                    <a:pt x="115" y="8"/>
                  </a:lnTo>
                  <a:lnTo>
                    <a:pt x="95" y="6"/>
                  </a:lnTo>
                  <a:lnTo>
                    <a:pt x="72" y="3"/>
                  </a:lnTo>
                  <a:lnTo>
                    <a:pt x="49" y="1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23" y="67"/>
                  </a:lnTo>
                  <a:lnTo>
                    <a:pt x="46" y="68"/>
                  </a:lnTo>
                  <a:lnTo>
                    <a:pt x="66" y="71"/>
                  </a:lnTo>
                  <a:lnTo>
                    <a:pt x="87" y="72"/>
                  </a:lnTo>
                  <a:lnTo>
                    <a:pt x="106" y="75"/>
                  </a:lnTo>
                  <a:lnTo>
                    <a:pt x="123" y="78"/>
                  </a:lnTo>
                  <a:lnTo>
                    <a:pt x="140" y="81"/>
                  </a:lnTo>
                  <a:lnTo>
                    <a:pt x="155" y="86"/>
                  </a:lnTo>
                  <a:lnTo>
                    <a:pt x="168" y="89"/>
                  </a:lnTo>
                  <a:lnTo>
                    <a:pt x="179" y="94"/>
                  </a:lnTo>
                  <a:lnTo>
                    <a:pt x="188" y="98"/>
                  </a:lnTo>
                  <a:lnTo>
                    <a:pt x="195" y="102"/>
                  </a:lnTo>
                  <a:lnTo>
                    <a:pt x="198" y="104"/>
                  </a:lnTo>
                  <a:lnTo>
                    <a:pt x="199" y="105"/>
                  </a:lnTo>
                  <a:lnTo>
                    <a:pt x="199" y="104"/>
                  </a:lnTo>
                  <a:lnTo>
                    <a:pt x="198" y="99"/>
                  </a:lnTo>
                  <a:lnTo>
                    <a:pt x="198" y="99"/>
                  </a:lnTo>
                  <a:lnTo>
                    <a:pt x="266" y="99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4230720" y="3848040"/>
              <a:ext cx="84240" cy="31680"/>
            </a:xfrm>
            <a:custGeom>
              <a:avLst/>
              <a:gdLst/>
              <a:ahLst/>
              <a:rect l="l" t="t" r="r" b="b"/>
              <a:pathLst>
                <a:path w="266" h="104">
                  <a:moveTo>
                    <a:pt x="0" y="104"/>
                  </a:moveTo>
                  <a:lnTo>
                    <a:pt x="0" y="104"/>
                  </a:lnTo>
                  <a:lnTo>
                    <a:pt x="25" y="104"/>
                  </a:lnTo>
                  <a:lnTo>
                    <a:pt x="49" y="103"/>
                  </a:lnTo>
                  <a:lnTo>
                    <a:pt x="72" y="102"/>
                  </a:lnTo>
                  <a:lnTo>
                    <a:pt x="95" y="100"/>
                  </a:lnTo>
                  <a:lnTo>
                    <a:pt x="115" y="96"/>
                  </a:lnTo>
                  <a:lnTo>
                    <a:pt x="136" y="93"/>
                  </a:lnTo>
                  <a:lnTo>
                    <a:pt x="155" y="89"/>
                  </a:lnTo>
                  <a:lnTo>
                    <a:pt x="173" y="85"/>
                  </a:lnTo>
                  <a:lnTo>
                    <a:pt x="189" y="80"/>
                  </a:lnTo>
                  <a:lnTo>
                    <a:pt x="205" y="74"/>
                  </a:lnTo>
                  <a:lnTo>
                    <a:pt x="219" y="68"/>
                  </a:lnTo>
                  <a:lnTo>
                    <a:pt x="231" y="61"/>
                  </a:lnTo>
                  <a:lnTo>
                    <a:pt x="244" y="52"/>
                  </a:lnTo>
                  <a:lnTo>
                    <a:pt x="254" y="41"/>
                  </a:lnTo>
                  <a:lnTo>
                    <a:pt x="262" y="27"/>
                  </a:lnTo>
                  <a:lnTo>
                    <a:pt x="266" y="8"/>
                  </a:lnTo>
                  <a:lnTo>
                    <a:pt x="198" y="8"/>
                  </a:lnTo>
                  <a:lnTo>
                    <a:pt x="199" y="3"/>
                  </a:lnTo>
                  <a:lnTo>
                    <a:pt x="201" y="0"/>
                  </a:lnTo>
                  <a:lnTo>
                    <a:pt x="199" y="0"/>
                  </a:lnTo>
                  <a:lnTo>
                    <a:pt x="196" y="4"/>
                  </a:lnTo>
                  <a:lnTo>
                    <a:pt x="189" y="7"/>
                  </a:lnTo>
                  <a:lnTo>
                    <a:pt x="180" y="12"/>
                  </a:lnTo>
                  <a:lnTo>
                    <a:pt x="169" y="15"/>
                  </a:lnTo>
                  <a:lnTo>
                    <a:pt x="155" y="20"/>
                  </a:lnTo>
                  <a:lnTo>
                    <a:pt x="140" y="23"/>
                  </a:lnTo>
                  <a:lnTo>
                    <a:pt x="123" y="27"/>
                  </a:lnTo>
                  <a:lnTo>
                    <a:pt x="106" y="30"/>
                  </a:lnTo>
                  <a:lnTo>
                    <a:pt x="87" y="32"/>
                  </a:lnTo>
                  <a:lnTo>
                    <a:pt x="66" y="35"/>
                  </a:lnTo>
                  <a:lnTo>
                    <a:pt x="46" y="36"/>
                  </a:lnTo>
                  <a:lnTo>
                    <a:pt x="23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4145040" y="3846600"/>
              <a:ext cx="85680" cy="33120"/>
            </a:xfrm>
            <a:custGeom>
              <a:avLst/>
              <a:gdLst/>
              <a:ahLst/>
              <a:rect l="l" t="t" r="r" b="b"/>
              <a:pathLst>
                <a:path w="270" h="106">
                  <a:moveTo>
                    <a:pt x="0" y="10"/>
                  </a:moveTo>
                  <a:lnTo>
                    <a:pt x="0" y="10"/>
                  </a:lnTo>
                  <a:lnTo>
                    <a:pt x="1" y="19"/>
                  </a:lnTo>
                  <a:lnTo>
                    <a:pt x="3" y="29"/>
                  </a:lnTo>
                  <a:lnTo>
                    <a:pt x="7" y="37"/>
                  </a:lnTo>
                  <a:lnTo>
                    <a:pt x="13" y="45"/>
                  </a:lnTo>
                  <a:lnTo>
                    <a:pt x="23" y="54"/>
                  </a:lnTo>
                  <a:lnTo>
                    <a:pt x="34" y="63"/>
                  </a:lnTo>
                  <a:lnTo>
                    <a:pt x="47" y="70"/>
                  </a:lnTo>
                  <a:lnTo>
                    <a:pt x="61" y="76"/>
                  </a:lnTo>
                  <a:lnTo>
                    <a:pt x="77" y="82"/>
                  </a:lnTo>
                  <a:lnTo>
                    <a:pt x="93" y="87"/>
                  </a:lnTo>
                  <a:lnTo>
                    <a:pt x="112" y="91"/>
                  </a:lnTo>
                  <a:lnTo>
                    <a:pt x="131" y="95"/>
                  </a:lnTo>
                  <a:lnTo>
                    <a:pt x="151" y="98"/>
                  </a:lnTo>
                  <a:lnTo>
                    <a:pt x="173" y="102"/>
                  </a:lnTo>
                  <a:lnTo>
                    <a:pt x="196" y="104"/>
                  </a:lnTo>
                  <a:lnTo>
                    <a:pt x="220" y="105"/>
                  </a:lnTo>
                  <a:lnTo>
                    <a:pt x="245" y="106"/>
                  </a:lnTo>
                  <a:lnTo>
                    <a:pt x="270" y="106"/>
                  </a:lnTo>
                  <a:lnTo>
                    <a:pt x="270" y="39"/>
                  </a:lnTo>
                  <a:lnTo>
                    <a:pt x="246" y="39"/>
                  </a:lnTo>
                  <a:lnTo>
                    <a:pt x="223" y="38"/>
                  </a:lnTo>
                  <a:lnTo>
                    <a:pt x="202" y="37"/>
                  </a:lnTo>
                  <a:lnTo>
                    <a:pt x="181" y="34"/>
                  </a:lnTo>
                  <a:lnTo>
                    <a:pt x="162" y="32"/>
                  </a:lnTo>
                  <a:lnTo>
                    <a:pt x="143" y="29"/>
                  </a:lnTo>
                  <a:lnTo>
                    <a:pt x="126" y="25"/>
                  </a:lnTo>
                  <a:lnTo>
                    <a:pt x="112" y="22"/>
                  </a:lnTo>
                  <a:lnTo>
                    <a:pt x="98" y="17"/>
                  </a:lnTo>
                  <a:lnTo>
                    <a:pt x="86" y="14"/>
                  </a:lnTo>
                  <a:lnTo>
                    <a:pt x="77" y="9"/>
                  </a:lnTo>
                  <a:lnTo>
                    <a:pt x="70" y="6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6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4145040" y="3817800"/>
              <a:ext cx="85680" cy="34920"/>
            </a:xfrm>
            <a:custGeom>
              <a:avLst/>
              <a:gdLst/>
              <a:ahLst/>
              <a:rect l="l" t="t" r="r" b="b"/>
              <a:pathLst>
                <a:path w="270" h="107">
                  <a:moveTo>
                    <a:pt x="270" y="0"/>
                  </a:moveTo>
                  <a:lnTo>
                    <a:pt x="270" y="0"/>
                  </a:lnTo>
                  <a:lnTo>
                    <a:pt x="245" y="0"/>
                  </a:lnTo>
                  <a:lnTo>
                    <a:pt x="220" y="1"/>
                  </a:lnTo>
                  <a:lnTo>
                    <a:pt x="196" y="3"/>
                  </a:lnTo>
                  <a:lnTo>
                    <a:pt x="173" y="6"/>
                  </a:lnTo>
                  <a:lnTo>
                    <a:pt x="151" y="8"/>
                  </a:lnTo>
                  <a:lnTo>
                    <a:pt x="131" y="11"/>
                  </a:lnTo>
                  <a:lnTo>
                    <a:pt x="112" y="16"/>
                  </a:lnTo>
                  <a:lnTo>
                    <a:pt x="93" y="21"/>
                  </a:lnTo>
                  <a:lnTo>
                    <a:pt x="76" y="25"/>
                  </a:lnTo>
                  <a:lnTo>
                    <a:pt x="61" y="31"/>
                  </a:lnTo>
                  <a:lnTo>
                    <a:pt x="47" y="38"/>
                  </a:lnTo>
                  <a:lnTo>
                    <a:pt x="34" y="46"/>
                  </a:lnTo>
                  <a:lnTo>
                    <a:pt x="21" y="55"/>
                  </a:lnTo>
                  <a:lnTo>
                    <a:pt x="12" y="64"/>
                  </a:lnTo>
                  <a:lnTo>
                    <a:pt x="7" y="73"/>
                  </a:lnTo>
                  <a:lnTo>
                    <a:pt x="3" y="81"/>
                  </a:lnTo>
                  <a:lnTo>
                    <a:pt x="1" y="90"/>
                  </a:lnTo>
                  <a:lnTo>
                    <a:pt x="0" y="99"/>
                  </a:lnTo>
                  <a:lnTo>
                    <a:pt x="67" y="99"/>
                  </a:lnTo>
                  <a:lnTo>
                    <a:pt x="67" y="102"/>
                  </a:lnTo>
                  <a:lnTo>
                    <a:pt x="67" y="104"/>
                  </a:lnTo>
                  <a:lnTo>
                    <a:pt x="66" y="105"/>
                  </a:lnTo>
                  <a:lnTo>
                    <a:pt x="65" y="107"/>
                  </a:lnTo>
                  <a:lnTo>
                    <a:pt x="67" y="105"/>
                  </a:lnTo>
                  <a:lnTo>
                    <a:pt x="70" y="102"/>
                  </a:lnTo>
                  <a:lnTo>
                    <a:pt x="77" y="98"/>
                  </a:lnTo>
                  <a:lnTo>
                    <a:pt x="86" y="94"/>
                  </a:lnTo>
                  <a:lnTo>
                    <a:pt x="98" y="89"/>
                  </a:lnTo>
                  <a:lnTo>
                    <a:pt x="112" y="86"/>
                  </a:lnTo>
                  <a:lnTo>
                    <a:pt x="126" y="81"/>
                  </a:lnTo>
                  <a:lnTo>
                    <a:pt x="143" y="78"/>
                  </a:lnTo>
                  <a:lnTo>
                    <a:pt x="162" y="75"/>
                  </a:lnTo>
                  <a:lnTo>
                    <a:pt x="181" y="72"/>
                  </a:lnTo>
                  <a:lnTo>
                    <a:pt x="202" y="71"/>
                  </a:lnTo>
                  <a:lnTo>
                    <a:pt x="223" y="68"/>
                  </a:lnTo>
                  <a:lnTo>
                    <a:pt x="246" y="67"/>
                  </a:lnTo>
                  <a:lnTo>
                    <a:pt x="270" y="67"/>
                  </a:lnTo>
                  <a:lnTo>
                    <a:pt x="270" y="67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3903840" y="5448240"/>
              <a:ext cx="369720" cy="165240"/>
            </a:xfrm>
            <a:custGeom>
              <a:avLst/>
              <a:gdLst/>
              <a:ahLst/>
              <a:rect l="l" t="t" r="r" b="b"/>
              <a:pathLst>
                <a:path w="1164" h="520">
                  <a:moveTo>
                    <a:pt x="1128" y="69"/>
                  </a:moveTo>
                  <a:lnTo>
                    <a:pt x="1136" y="116"/>
                  </a:lnTo>
                  <a:lnTo>
                    <a:pt x="1146" y="176"/>
                  </a:lnTo>
                  <a:lnTo>
                    <a:pt x="1151" y="209"/>
                  </a:lnTo>
                  <a:lnTo>
                    <a:pt x="1156" y="243"/>
                  </a:lnTo>
                  <a:lnTo>
                    <a:pt x="1159" y="277"/>
                  </a:lnTo>
                  <a:lnTo>
                    <a:pt x="1162" y="310"/>
                  </a:lnTo>
                  <a:lnTo>
                    <a:pt x="1164" y="343"/>
                  </a:lnTo>
                  <a:lnTo>
                    <a:pt x="1164" y="373"/>
                  </a:lnTo>
                  <a:lnTo>
                    <a:pt x="1164" y="388"/>
                  </a:lnTo>
                  <a:lnTo>
                    <a:pt x="1162" y="401"/>
                  </a:lnTo>
                  <a:lnTo>
                    <a:pt x="1160" y="414"/>
                  </a:lnTo>
                  <a:lnTo>
                    <a:pt x="1158" y="425"/>
                  </a:lnTo>
                  <a:lnTo>
                    <a:pt x="1156" y="436"/>
                  </a:lnTo>
                  <a:lnTo>
                    <a:pt x="1152" y="446"/>
                  </a:lnTo>
                  <a:lnTo>
                    <a:pt x="1149" y="454"/>
                  </a:lnTo>
                  <a:lnTo>
                    <a:pt x="1144" y="461"/>
                  </a:lnTo>
                  <a:lnTo>
                    <a:pt x="1138" y="466"/>
                  </a:lnTo>
                  <a:lnTo>
                    <a:pt x="1133" y="470"/>
                  </a:lnTo>
                  <a:lnTo>
                    <a:pt x="1126" y="472"/>
                  </a:lnTo>
                  <a:lnTo>
                    <a:pt x="1119" y="473"/>
                  </a:lnTo>
                  <a:lnTo>
                    <a:pt x="1057" y="477"/>
                  </a:lnTo>
                  <a:lnTo>
                    <a:pt x="995" y="481"/>
                  </a:lnTo>
                  <a:lnTo>
                    <a:pt x="931" y="487"/>
                  </a:lnTo>
                  <a:lnTo>
                    <a:pt x="866" y="494"/>
                  </a:lnTo>
                  <a:lnTo>
                    <a:pt x="800" y="501"/>
                  </a:lnTo>
                  <a:lnTo>
                    <a:pt x="733" y="506"/>
                  </a:lnTo>
                  <a:lnTo>
                    <a:pt x="665" y="512"/>
                  </a:lnTo>
                  <a:lnTo>
                    <a:pt x="597" y="517"/>
                  </a:lnTo>
                  <a:lnTo>
                    <a:pt x="529" y="519"/>
                  </a:lnTo>
                  <a:lnTo>
                    <a:pt x="460" y="520"/>
                  </a:lnTo>
                  <a:lnTo>
                    <a:pt x="426" y="520"/>
                  </a:lnTo>
                  <a:lnTo>
                    <a:pt x="391" y="519"/>
                  </a:lnTo>
                  <a:lnTo>
                    <a:pt x="356" y="517"/>
                  </a:lnTo>
                  <a:lnTo>
                    <a:pt x="322" y="514"/>
                  </a:lnTo>
                  <a:lnTo>
                    <a:pt x="287" y="510"/>
                  </a:lnTo>
                  <a:lnTo>
                    <a:pt x="253" y="506"/>
                  </a:lnTo>
                  <a:lnTo>
                    <a:pt x="218" y="501"/>
                  </a:lnTo>
                  <a:lnTo>
                    <a:pt x="184" y="495"/>
                  </a:lnTo>
                  <a:lnTo>
                    <a:pt x="150" y="487"/>
                  </a:lnTo>
                  <a:lnTo>
                    <a:pt x="116" y="479"/>
                  </a:lnTo>
                  <a:lnTo>
                    <a:pt x="82" y="469"/>
                  </a:lnTo>
                  <a:lnTo>
                    <a:pt x="47" y="458"/>
                  </a:lnTo>
                  <a:lnTo>
                    <a:pt x="35" y="449"/>
                  </a:lnTo>
                  <a:lnTo>
                    <a:pt x="25" y="439"/>
                  </a:lnTo>
                  <a:lnTo>
                    <a:pt x="17" y="428"/>
                  </a:lnTo>
                  <a:lnTo>
                    <a:pt x="10" y="416"/>
                  </a:lnTo>
                  <a:lnTo>
                    <a:pt x="4" y="405"/>
                  </a:lnTo>
                  <a:lnTo>
                    <a:pt x="1" y="391"/>
                  </a:lnTo>
                  <a:lnTo>
                    <a:pt x="0" y="377"/>
                  </a:lnTo>
                  <a:lnTo>
                    <a:pt x="1" y="364"/>
                  </a:lnTo>
                  <a:lnTo>
                    <a:pt x="3" y="348"/>
                  </a:lnTo>
                  <a:lnTo>
                    <a:pt x="6" y="333"/>
                  </a:lnTo>
                  <a:lnTo>
                    <a:pt x="12" y="316"/>
                  </a:lnTo>
                  <a:lnTo>
                    <a:pt x="20" y="299"/>
                  </a:lnTo>
                  <a:lnTo>
                    <a:pt x="29" y="282"/>
                  </a:lnTo>
                  <a:lnTo>
                    <a:pt x="41" y="263"/>
                  </a:lnTo>
                  <a:lnTo>
                    <a:pt x="54" y="244"/>
                  </a:lnTo>
                  <a:lnTo>
                    <a:pt x="69" y="225"/>
                  </a:lnTo>
                  <a:lnTo>
                    <a:pt x="115" y="221"/>
                  </a:lnTo>
                  <a:lnTo>
                    <a:pt x="159" y="217"/>
                  </a:lnTo>
                  <a:lnTo>
                    <a:pt x="205" y="210"/>
                  </a:lnTo>
                  <a:lnTo>
                    <a:pt x="248" y="202"/>
                  </a:lnTo>
                  <a:lnTo>
                    <a:pt x="334" y="182"/>
                  </a:lnTo>
                  <a:lnTo>
                    <a:pt x="416" y="163"/>
                  </a:lnTo>
                  <a:lnTo>
                    <a:pt x="454" y="153"/>
                  </a:lnTo>
                  <a:lnTo>
                    <a:pt x="493" y="145"/>
                  </a:lnTo>
                  <a:lnTo>
                    <a:pt x="530" y="137"/>
                  </a:lnTo>
                  <a:lnTo>
                    <a:pt x="564" y="130"/>
                  </a:lnTo>
                  <a:lnTo>
                    <a:pt x="598" y="127"/>
                  </a:lnTo>
                  <a:lnTo>
                    <a:pt x="629" y="124"/>
                  </a:lnTo>
                  <a:lnTo>
                    <a:pt x="645" y="124"/>
                  </a:lnTo>
                  <a:lnTo>
                    <a:pt x="658" y="124"/>
                  </a:lnTo>
                  <a:lnTo>
                    <a:pt x="673" y="125"/>
                  </a:lnTo>
                  <a:lnTo>
                    <a:pt x="687" y="128"/>
                  </a:lnTo>
                  <a:lnTo>
                    <a:pt x="701" y="112"/>
                  </a:lnTo>
                  <a:lnTo>
                    <a:pt x="713" y="96"/>
                  </a:lnTo>
                  <a:lnTo>
                    <a:pt x="727" y="80"/>
                  </a:lnTo>
                  <a:lnTo>
                    <a:pt x="739" y="64"/>
                  </a:lnTo>
                  <a:lnTo>
                    <a:pt x="753" y="48"/>
                  </a:lnTo>
                  <a:lnTo>
                    <a:pt x="766" y="32"/>
                  </a:lnTo>
                  <a:lnTo>
                    <a:pt x="779" y="16"/>
                  </a:lnTo>
                  <a:lnTo>
                    <a:pt x="793" y="0"/>
                  </a:lnTo>
                  <a:lnTo>
                    <a:pt x="828" y="9"/>
                  </a:lnTo>
                  <a:lnTo>
                    <a:pt x="869" y="18"/>
                  </a:lnTo>
                  <a:lnTo>
                    <a:pt x="914" y="27"/>
                  </a:lnTo>
                  <a:lnTo>
                    <a:pt x="961" y="35"/>
                  </a:lnTo>
                  <a:lnTo>
                    <a:pt x="1007" y="43"/>
                  </a:lnTo>
                  <a:lnTo>
                    <a:pt x="1052" y="51"/>
                  </a:lnTo>
                  <a:lnTo>
                    <a:pt x="1093" y="60"/>
                  </a:lnTo>
                  <a:lnTo>
                    <a:pt x="1128" y="6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4248000" y="5468760"/>
              <a:ext cx="36720" cy="140040"/>
            </a:xfrm>
            <a:custGeom>
              <a:avLst/>
              <a:gdLst/>
              <a:ahLst/>
              <a:rect l="l" t="t" r="r" b="b"/>
              <a:pathLst>
                <a:path w="113" h="442">
                  <a:moveTo>
                    <a:pt x="35" y="442"/>
                  </a:moveTo>
                  <a:lnTo>
                    <a:pt x="33" y="442"/>
                  </a:lnTo>
                  <a:lnTo>
                    <a:pt x="48" y="441"/>
                  </a:lnTo>
                  <a:lnTo>
                    <a:pt x="63" y="437"/>
                  </a:lnTo>
                  <a:lnTo>
                    <a:pt x="75" y="428"/>
                  </a:lnTo>
                  <a:lnTo>
                    <a:pt x="85" y="417"/>
                  </a:lnTo>
                  <a:lnTo>
                    <a:pt x="93" y="406"/>
                  </a:lnTo>
                  <a:lnTo>
                    <a:pt x="99" y="394"/>
                  </a:lnTo>
                  <a:lnTo>
                    <a:pt x="102" y="382"/>
                  </a:lnTo>
                  <a:lnTo>
                    <a:pt x="106" y="368"/>
                  </a:lnTo>
                  <a:lnTo>
                    <a:pt x="109" y="355"/>
                  </a:lnTo>
                  <a:lnTo>
                    <a:pt x="110" y="341"/>
                  </a:lnTo>
                  <a:lnTo>
                    <a:pt x="112" y="326"/>
                  </a:lnTo>
                  <a:lnTo>
                    <a:pt x="113" y="310"/>
                  </a:lnTo>
                  <a:lnTo>
                    <a:pt x="113" y="278"/>
                  </a:lnTo>
                  <a:lnTo>
                    <a:pt x="110" y="244"/>
                  </a:lnTo>
                  <a:lnTo>
                    <a:pt x="108" y="210"/>
                  </a:lnTo>
                  <a:lnTo>
                    <a:pt x="105" y="174"/>
                  </a:lnTo>
                  <a:lnTo>
                    <a:pt x="100" y="140"/>
                  </a:lnTo>
                  <a:lnTo>
                    <a:pt x="94" y="107"/>
                  </a:lnTo>
                  <a:lnTo>
                    <a:pt x="85" y="47"/>
                  </a:lnTo>
                  <a:lnTo>
                    <a:pt x="76" y="0"/>
                  </a:lnTo>
                  <a:lnTo>
                    <a:pt x="10" y="12"/>
                  </a:lnTo>
                  <a:lnTo>
                    <a:pt x="18" y="58"/>
                  </a:lnTo>
                  <a:lnTo>
                    <a:pt x="28" y="117"/>
                  </a:lnTo>
                  <a:lnTo>
                    <a:pt x="33" y="149"/>
                  </a:lnTo>
                  <a:lnTo>
                    <a:pt x="37" y="182"/>
                  </a:lnTo>
                  <a:lnTo>
                    <a:pt x="41" y="217"/>
                  </a:lnTo>
                  <a:lnTo>
                    <a:pt x="43" y="248"/>
                  </a:lnTo>
                  <a:lnTo>
                    <a:pt x="45" y="279"/>
                  </a:lnTo>
                  <a:lnTo>
                    <a:pt x="45" y="309"/>
                  </a:lnTo>
                  <a:lnTo>
                    <a:pt x="44" y="321"/>
                  </a:lnTo>
                  <a:lnTo>
                    <a:pt x="43" y="334"/>
                  </a:lnTo>
                  <a:lnTo>
                    <a:pt x="42" y="344"/>
                  </a:lnTo>
                  <a:lnTo>
                    <a:pt x="41" y="355"/>
                  </a:lnTo>
                  <a:lnTo>
                    <a:pt x="39" y="363"/>
                  </a:lnTo>
                  <a:lnTo>
                    <a:pt x="36" y="369"/>
                  </a:lnTo>
                  <a:lnTo>
                    <a:pt x="34" y="374"/>
                  </a:lnTo>
                  <a:lnTo>
                    <a:pt x="33" y="376"/>
                  </a:lnTo>
                  <a:lnTo>
                    <a:pt x="32" y="376"/>
                  </a:lnTo>
                  <a:lnTo>
                    <a:pt x="33" y="376"/>
                  </a:lnTo>
                  <a:lnTo>
                    <a:pt x="34" y="375"/>
                  </a:lnTo>
                  <a:lnTo>
                    <a:pt x="34" y="375"/>
                  </a:lnTo>
                  <a:lnTo>
                    <a:pt x="32" y="375"/>
                  </a:lnTo>
                  <a:lnTo>
                    <a:pt x="34" y="375"/>
                  </a:lnTo>
                  <a:lnTo>
                    <a:pt x="26" y="376"/>
                  </a:lnTo>
                  <a:lnTo>
                    <a:pt x="19" y="377"/>
                  </a:lnTo>
                  <a:lnTo>
                    <a:pt x="14" y="381"/>
                  </a:lnTo>
                  <a:lnTo>
                    <a:pt x="9" y="385"/>
                  </a:lnTo>
                  <a:lnTo>
                    <a:pt x="6" y="390"/>
                  </a:lnTo>
                  <a:lnTo>
                    <a:pt x="2" y="396"/>
                  </a:lnTo>
                  <a:lnTo>
                    <a:pt x="1" y="402"/>
                  </a:lnTo>
                  <a:lnTo>
                    <a:pt x="0" y="408"/>
                  </a:lnTo>
                  <a:lnTo>
                    <a:pt x="0" y="415"/>
                  </a:lnTo>
                  <a:lnTo>
                    <a:pt x="2" y="421"/>
                  </a:lnTo>
                  <a:lnTo>
                    <a:pt x="4" y="426"/>
                  </a:lnTo>
                  <a:lnTo>
                    <a:pt x="8" y="432"/>
                  </a:lnTo>
                  <a:lnTo>
                    <a:pt x="12" y="436"/>
                  </a:lnTo>
                  <a:lnTo>
                    <a:pt x="18" y="439"/>
                  </a:lnTo>
                  <a:lnTo>
                    <a:pt x="25" y="441"/>
                  </a:lnTo>
                  <a:lnTo>
                    <a:pt x="33" y="442"/>
                  </a:lnTo>
                  <a:lnTo>
                    <a:pt x="35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3908520" y="5583240"/>
              <a:ext cx="350640" cy="41400"/>
            </a:xfrm>
            <a:custGeom>
              <a:avLst/>
              <a:gdLst/>
              <a:ahLst/>
              <a:rect l="l" t="t" r="r" b="b"/>
              <a:pathLst>
                <a:path w="1107" h="130">
                  <a:moveTo>
                    <a:pt x="15" y="62"/>
                  </a:moveTo>
                  <a:lnTo>
                    <a:pt x="24" y="66"/>
                  </a:lnTo>
                  <a:lnTo>
                    <a:pt x="58" y="78"/>
                  </a:lnTo>
                  <a:lnTo>
                    <a:pt x="94" y="87"/>
                  </a:lnTo>
                  <a:lnTo>
                    <a:pt x="129" y="96"/>
                  </a:lnTo>
                  <a:lnTo>
                    <a:pt x="164" y="104"/>
                  </a:lnTo>
                  <a:lnTo>
                    <a:pt x="200" y="110"/>
                  </a:lnTo>
                  <a:lnTo>
                    <a:pt x="235" y="116"/>
                  </a:lnTo>
                  <a:lnTo>
                    <a:pt x="270" y="120"/>
                  </a:lnTo>
                  <a:lnTo>
                    <a:pt x="306" y="123"/>
                  </a:lnTo>
                  <a:lnTo>
                    <a:pt x="341" y="126"/>
                  </a:lnTo>
                  <a:lnTo>
                    <a:pt x="376" y="128"/>
                  </a:lnTo>
                  <a:lnTo>
                    <a:pt x="412" y="129"/>
                  </a:lnTo>
                  <a:lnTo>
                    <a:pt x="447" y="130"/>
                  </a:lnTo>
                  <a:lnTo>
                    <a:pt x="517" y="129"/>
                  </a:lnTo>
                  <a:lnTo>
                    <a:pt x="586" y="126"/>
                  </a:lnTo>
                  <a:lnTo>
                    <a:pt x="655" y="122"/>
                  </a:lnTo>
                  <a:lnTo>
                    <a:pt x="723" y="117"/>
                  </a:lnTo>
                  <a:lnTo>
                    <a:pt x="790" y="110"/>
                  </a:lnTo>
                  <a:lnTo>
                    <a:pt x="856" y="103"/>
                  </a:lnTo>
                  <a:lnTo>
                    <a:pt x="920" y="97"/>
                  </a:lnTo>
                  <a:lnTo>
                    <a:pt x="984" y="92"/>
                  </a:lnTo>
                  <a:lnTo>
                    <a:pt x="1047" y="86"/>
                  </a:lnTo>
                  <a:lnTo>
                    <a:pt x="1107" y="82"/>
                  </a:lnTo>
                  <a:lnTo>
                    <a:pt x="1104" y="15"/>
                  </a:lnTo>
                  <a:lnTo>
                    <a:pt x="1042" y="19"/>
                  </a:lnTo>
                  <a:lnTo>
                    <a:pt x="978" y="24"/>
                  </a:lnTo>
                  <a:lnTo>
                    <a:pt x="915" y="30"/>
                  </a:lnTo>
                  <a:lnTo>
                    <a:pt x="850" y="37"/>
                  </a:lnTo>
                  <a:lnTo>
                    <a:pt x="783" y="42"/>
                  </a:lnTo>
                  <a:lnTo>
                    <a:pt x="717" y="49"/>
                  </a:lnTo>
                  <a:lnTo>
                    <a:pt x="650" y="55"/>
                  </a:lnTo>
                  <a:lnTo>
                    <a:pt x="583" y="58"/>
                  </a:lnTo>
                  <a:lnTo>
                    <a:pt x="516" y="62"/>
                  </a:lnTo>
                  <a:lnTo>
                    <a:pt x="447" y="62"/>
                  </a:lnTo>
                  <a:lnTo>
                    <a:pt x="413" y="62"/>
                  </a:lnTo>
                  <a:lnTo>
                    <a:pt x="380" y="61"/>
                  </a:lnTo>
                  <a:lnTo>
                    <a:pt x="346" y="58"/>
                  </a:lnTo>
                  <a:lnTo>
                    <a:pt x="311" y="56"/>
                  </a:lnTo>
                  <a:lnTo>
                    <a:pt x="278" y="53"/>
                  </a:lnTo>
                  <a:lnTo>
                    <a:pt x="244" y="48"/>
                  </a:lnTo>
                  <a:lnTo>
                    <a:pt x="211" y="44"/>
                  </a:lnTo>
                  <a:lnTo>
                    <a:pt x="177" y="37"/>
                  </a:lnTo>
                  <a:lnTo>
                    <a:pt x="144" y="30"/>
                  </a:lnTo>
                  <a:lnTo>
                    <a:pt x="111" y="22"/>
                  </a:lnTo>
                  <a:lnTo>
                    <a:pt x="78" y="13"/>
                  </a:lnTo>
                  <a:lnTo>
                    <a:pt x="45" y="3"/>
                  </a:lnTo>
                  <a:lnTo>
                    <a:pt x="54" y="7"/>
                  </a:lnTo>
                  <a:lnTo>
                    <a:pt x="45" y="3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23" y="3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8" y="13"/>
                  </a:lnTo>
                  <a:lnTo>
                    <a:pt x="5" y="19"/>
                  </a:lnTo>
                  <a:lnTo>
                    <a:pt x="3" y="24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1" y="60"/>
                  </a:lnTo>
                  <a:lnTo>
                    <a:pt x="16" y="63"/>
                  </a:lnTo>
                  <a:lnTo>
                    <a:pt x="24" y="66"/>
                  </a:lnTo>
                  <a:lnTo>
                    <a:pt x="15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3894120" y="5508720"/>
              <a:ext cx="42840" cy="93600"/>
            </a:xfrm>
            <a:custGeom>
              <a:avLst/>
              <a:gdLst/>
              <a:ahLst/>
              <a:rect l="l" t="t" r="r" b="b"/>
              <a:pathLst>
                <a:path w="136" h="296">
                  <a:moveTo>
                    <a:pt x="101" y="0"/>
                  </a:moveTo>
                  <a:lnTo>
                    <a:pt x="76" y="13"/>
                  </a:lnTo>
                  <a:lnTo>
                    <a:pt x="60" y="35"/>
                  </a:lnTo>
                  <a:lnTo>
                    <a:pt x="46" y="54"/>
                  </a:lnTo>
                  <a:lnTo>
                    <a:pt x="34" y="75"/>
                  </a:lnTo>
                  <a:lnTo>
                    <a:pt x="23" y="94"/>
                  </a:lnTo>
                  <a:lnTo>
                    <a:pt x="14" y="113"/>
                  </a:lnTo>
                  <a:lnTo>
                    <a:pt x="7" y="133"/>
                  </a:lnTo>
                  <a:lnTo>
                    <a:pt x="3" y="151"/>
                  </a:lnTo>
                  <a:lnTo>
                    <a:pt x="0" y="170"/>
                  </a:lnTo>
                  <a:lnTo>
                    <a:pt x="0" y="189"/>
                  </a:lnTo>
                  <a:lnTo>
                    <a:pt x="1" y="207"/>
                  </a:lnTo>
                  <a:lnTo>
                    <a:pt x="5" y="225"/>
                  </a:lnTo>
                  <a:lnTo>
                    <a:pt x="12" y="241"/>
                  </a:lnTo>
                  <a:lnTo>
                    <a:pt x="21" y="257"/>
                  </a:lnTo>
                  <a:lnTo>
                    <a:pt x="33" y="272"/>
                  </a:lnTo>
                  <a:lnTo>
                    <a:pt x="46" y="284"/>
                  </a:lnTo>
                  <a:lnTo>
                    <a:pt x="61" y="296"/>
                  </a:lnTo>
                  <a:lnTo>
                    <a:pt x="100" y="241"/>
                  </a:lnTo>
                  <a:lnTo>
                    <a:pt x="90" y="233"/>
                  </a:lnTo>
                  <a:lnTo>
                    <a:pt x="83" y="226"/>
                  </a:lnTo>
                  <a:lnTo>
                    <a:pt x="77" y="219"/>
                  </a:lnTo>
                  <a:lnTo>
                    <a:pt x="72" y="211"/>
                  </a:lnTo>
                  <a:lnTo>
                    <a:pt x="69" y="203"/>
                  </a:lnTo>
                  <a:lnTo>
                    <a:pt x="68" y="195"/>
                  </a:lnTo>
                  <a:lnTo>
                    <a:pt x="67" y="186"/>
                  </a:lnTo>
                  <a:lnTo>
                    <a:pt x="67" y="176"/>
                  </a:lnTo>
                  <a:lnTo>
                    <a:pt x="69" y="165"/>
                  </a:lnTo>
                  <a:lnTo>
                    <a:pt x="71" y="152"/>
                  </a:lnTo>
                  <a:lnTo>
                    <a:pt x="77" y="138"/>
                  </a:lnTo>
                  <a:lnTo>
                    <a:pt x="84" y="124"/>
                  </a:lnTo>
                  <a:lnTo>
                    <a:pt x="92" y="108"/>
                  </a:lnTo>
                  <a:lnTo>
                    <a:pt x="102" y="92"/>
                  </a:lnTo>
                  <a:lnTo>
                    <a:pt x="115" y="73"/>
                  </a:lnTo>
                  <a:lnTo>
                    <a:pt x="128" y="55"/>
                  </a:lnTo>
                  <a:lnTo>
                    <a:pt x="103" y="68"/>
                  </a:lnTo>
                  <a:lnTo>
                    <a:pt x="128" y="55"/>
                  </a:lnTo>
                  <a:lnTo>
                    <a:pt x="133" y="48"/>
                  </a:lnTo>
                  <a:lnTo>
                    <a:pt x="135" y="41"/>
                  </a:lnTo>
                  <a:lnTo>
                    <a:pt x="136" y="36"/>
                  </a:lnTo>
                  <a:lnTo>
                    <a:pt x="136" y="29"/>
                  </a:lnTo>
                  <a:lnTo>
                    <a:pt x="134" y="23"/>
                  </a:lnTo>
                  <a:lnTo>
                    <a:pt x="132" y="18"/>
                  </a:lnTo>
                  <a:lnTo>
                    <a:pt x="127" y="12"/>
                  </a:lnTo>
                  <a:lnTo>
                    <a:pt x="123" y="8"/>
                  </a:lnTo>
                  <a:lnTo>
                    <a:pt x="118" y="5"/>
                  </a:lnTo>
                  <a:lnTo>
                    <a:pt x="112" y="2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3" y="2"/>
                  </a:lnTo>
                  <a:lnTo>
                    <a:pt x="87" y="4"/>
                  </a:lnTo>
                  <a:lnTo>
                    <a:pt x="82" y="7"/>
                  </a:lnTo>
                  <a:lnTo>
                    <a:pt x="76" y="13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3925800" y="5477040"/>
              <a:ext cx="206640" cy="53640"/>
            </a:xfrm>
            <a:custGeom>
              <a:avLst/>
              <a:gdLst/>
              <a:ahLst/>
              <a:rect l="l" t="t" r="r" b="b"/>
              <a:pathLst>
                <a:path w="652" h="168">
                  <a:moveTo>
                    <a:pt x="593" y="16"/>
                  </a:moveTo>
                  <a:lnTo>
                    <a:pt x="625" y="5"/>
                  </a:lnTo>
                  <a:lnTo>
                    <a:pt x="609" y="2"/>
                  </a:lnTo>
                  <a:lnTo>
                    <a:pt x="593" y="1"/>
                  </a:lnTo>
                  <a:lnTo>
                    <a:pt x="577" y="0"/>
                  </a:lnTo>
                  <a:lnTo>
                    <a:pt x="560" y="0"/>
                  </a:lnTo>
                  <a:lnTo>
                    <a:pt x="527" y="2"/>
                  </a:lnTo>
                  <a:lnTo>
                    <a:pt x="491" y="7"/>
                  </a:lnTo>
                  <a:lnTo>
                    <a:pt x="455" y="14"/>
                  </a:lnTo>
                  <a:lnTo>
                    <a:pt x="417" y="22"/>
                  </a:lnTo>
                  <a:lnTo>
                    <a:pt x="380" y="30"/>
                  </a:lnTo>
                  <a:lnTo>
                    <a:pt x="340" y="40"/>
                  </a:lnTo>
                  <a:lnTo>
                    <a:pt x="259" y="59"/>
                  </a:lnTo>
                  <a:lnTo>
                    <a:pt x="173" y="79"/>
                  </a:lnTo>
                  <a:lnTo>
                    <a:pt x="131" y="87"/>
                  </a:lnTo>
                  <a:lnTo>
                    <a:pt x="88" y="94"/>
                  </a:lnTo>
                  <a:lnTo>
                    <a:pt x="43" y="98"/>
                  </a:lnTo>
                  <a:lnTo>
                    <a:pt x="0" y="100"/>
                  </a:lnTo>
                  <a:lnTo>
                    <a:pt x="2" y="168"/>
                  </a:lnTo>
                  <a:lnTo>
                    <a:pt x="49" y="165"/>
                  </a:lnTo>
                  <a:lnTo>
                    <a:pt x="96" y="160"/>
                  </a:lnTo>
                  <a:lnTo>
                    <a:pt x="141" y="153"/>
                  </a:lnTo>
                  <a:lnTo>
                    <a:pt x="187" y="145"/>
                  </a:lnTo>
                  <a:lnTo>
                    <a:pt x="274" y="125"/>
                  </a:lnTo>
                  <a:lnTo>
                    <a:pt x="356" y="105"/>
                  </a:lnTo>
                  <a:lnTo>
                    <a:pt x="394" y="96"/>
                  </a:lnTo>
                  <a:lnTo>
                    <a:pt x="432" y="87"/>
                  </a:lnTo>
                  <a:lnTo>
                    <a:pt x="467" y="80"/>
                  </a:lnTo>
                  <a:lnTo>
                    <a:pt x="502" y="74"/>
                  </a:lnTo>
                  <a:lnTo>
                    <a:pt x="533" y="70"/>
                  </a:lnTo>
                  <a:lnTo>
                    <a:pt x="563" y="67"/>
                  </a:lnTo>
                  <a:lnTo>
                    <a:pt x="576" y="67"/>
                  </a:lnTo>
                  <a:lnTo>
                    <a:pt x="588" y="68"/>
                  </a:lnTo>
                  <a:lnTo>
                    <a:pt x="601" y="70"/>
                  </a:lnTo>
                  <a:lnTo>
                    <a:pt x="612" y="71"/>
                  </a:lnTo>
                  <a:lnTo>
                    <a:pt x="644" y="59"/>
                  </a:lnTo>
                  <a:lnTo>
                    <a:pt x="612" y="71"/>
                  </a:lnTo>
                  <a:lnTo>
                    <a:pt x="620" y="72"/>
                  </a:lnTo>
                  <a:lnTo>
                    <a:pt x="628" y="71"/>
                  </a:lnTo>
                  <a:lnTo>
                    <a:pt x="634" y="68"/>
                  </a:lnTo>
                  <a:lnTo>
                    <a:pt x="640" y="65"/>
                  </a:lnTo>
                  <a:lnTo>
                    <a:pt x="644" y="60"/>
                  </a:lnTo>
                  <a:lnTo>
                    <a:pt x="647" y="56"/>
                  </a:lnTo>
                  <a:lnTo>
                    <a:pt x="650" y="50"/>
                  </a:lnTo>
                  <a:lnTo>
                    <a:pt x="652" y="43"/>
                  </a:lnTo>
                  <a:lnTo>
                    <a:pt x="652" y="38"/>
                  </a:lnTo>
                  <a:lnTo>
                    <a:pt x="652" y="32"/>
                  </a:lnTo>
                  <a:lnTo>
                    <a:pt x="651" y="25"/>
                  </a:lnTo>
                  <a:lnTo>
                    <a:pt x="647" y="19"/>
                  </a:lnTo>
                  <a:lnTo>
                    <a:pt x="644" y="15"/>
                  </a:lnTo>
                  <a:lnTo>
                    <a:pt x="638" y="10"/>
                  </a:lnTo>
                  <a:lnTo>
                    <a:pt x="633" y="7"/>
                  </a:lnTo>
                  <a:lnTo>
                    <a:pt x="625" y="5"/>
                  </a:lnTo>
                  <a:lnTo>
                    <a:pt x="593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4113360" y="5437080"/>
              <a:ext cx="54000" cy="58680"/>
            </a:xfrm>
            <a:custGeom>
              <a:avLst/>
              <a:gdLst/>
              <a:ahLst/>
              <a:rect l="l" t="t" r="r" b="b"/>
              <a:pathLst>
                <a:path w="166" h="183">
                  <a:moveTo>
                    <a:pt x="142" y="2"/>
                  </a:moveTo>
                  <a:lnTo>
                    <a:pt x="106" y="12"/>
                  </a:lnTo>
                  <a:lnTo>
                    <a:pt x="92" y="28"/>
                  </a:lnTo>
                  <a:lnTo>
                    <a:pt x="80" y="44"/>
                  </a:lnTo>
                  <a:lnTo>
                    <a:pt x="66" y="60"/>
                  </a:lnTo>
                  <a:lnTo>
                    <a:pt x="53" y="76"/>
                  </a:lnTo>
                  <a:lnTo>
                    <a:pt x="40" y="92"/>
                  </a:lnTo>
                  <a:lnTo>
                    <a:pt x="26" y="108"/>
                  </a:lnTo>
                  <a:lnTo>
                    <a:pt x="13" y="124"/>
                  </a:lnTo>
                  <a:lnTo>
                    <a:pt x="0" y="140"/>
                  </a:lnTo>
                  <a:lnTo>
                    <a:pt x="51" y="183"/>
                  </a:lnTo>
                  <a:lnTo>
                    <a:pt x="65" y="167"/>
                  </a:lnTo>
                  <a:lnTo>
                    <a:pt x="78" y="151"/>
                  </a:lnTo>
                  <a:lnTo>
                    <a:pt x="92" y="135"/>
                  </a:lnTo>
                  <a:lnTo>
                    <a:pt x="105" y="119"/>
                  </a:lnTo>
                  <a:lnTo>
                    <a:pt x="118" y="103"/>
                  </a:lnTo>
                  <a:lnTo>
                    <a:pt x="131" y="87"/>
                  </a:lnTo>
                  <a:lnTo>
                    <a:pt x="145" y="72"/>
                  </a:lnTo>
                  <a:lnTo>
                    <a:pt x="158" y="56"/>
                  </a:lnTo>
                  <a:lnTo>
                    <a:pt x="122" y="66"/>
                  </a:lnTo>
                  <a:lnTo>
                    <a:pt x="158" y="56"/>
                  </a:lnTo>
                  <a:lnTo>
                    <a:pt x="162" y="49"/>
                  </a:lnTo>
                  <a:lnTo>
                    <a:pt x="165" y="42"/>
                  </a:lnTo>
                  <a:lnTo>
                    <a:pt x="166" y="36"/>
                  </a:lnTo>
                  <a:lnTo>
                    <a:pt x="166" y="29"/>
                  </a:lnTo>
                  <a:lnTo>
                    <a:pt x="164" y="24"/>
                  </a:lnTo>
                  <a:lnTo>
                    <a:pt x="162" y="18"/>
                  </a:lnTo>
                  <a:lnTo>
                    <a:pt x="158" y="12"/>
                  </a:lnTo>
                  <a:lnTo>
                    <a:pt x="154" y="8"/>
                  </a:lnTo>
                  <a:lnTo>
                    <a:pt x="148" y="4"/>
                  </a:lnTo>
                  <a:lnTo>
                    <a:pt x="142" y="2"/>
                  </a:lnTo>
                  <a:lnTo>
                    <a:pt x="137" y="1"/>
                  </a:lnTo>
                  <a:lnTo>
                    <a:pt x="130" y="0"/>
                  </a:lnTo>
                  <a:lnTo>
                    <a:pt x="124" y="1"/>
                  </a:lnTo>
                  <a:lnTo>
                    <a:pt x="117" y="3"/>
                  </a:lnTo>
                  <a:lnTo>
                    <a:pt x="111" y="6"/>
                  </a:lnTo>
                  <a:lnTo>
                    <a:pt x="106" y="12"/>
                  </a:lnTo>
                  <a:lnTo>
                    <a:pt x="14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4152960" y="5438880"/>
              <a:ext cx="120600" cy="42840"/>
            </a:xfrm>
            <a:custGeom>
              <a:avLst/>
              <a:gdLst/>
              <a:ahLst/>
              <a:rect l="l" t="t" r="r" b="b"/>
              <a:pathLst>
                <a:path w="379" h="136">
                  <a:moveTo>
                    <a:pt x="378" y="96"/>
                  </a:moveTo>
                  <a:lnTo>
                    <a:pt x="355" y="70"/>
                  </a:lnTo>
                  <a:lnTo>
                    <a:pt x="318" y="59"/>
                  </a:lnTo>
                  <a:lnTo>
                    <a:pt x="276" y="50"/>
                  </a:lnTo>
                  <a:lnTo>
                    <a:pt x="230" y="42"/>
                  </a:lnTo>
                  <a:lnTo>
                    <a:pt x="183" y="34"/>
                  </a:lnTo>
                  <a:lnTo>
                    <a:pt x="137" y="25"/>
                  </a:lnTo>
                  <a:lnTo>
                    <a:pt x="92" y="17"/>
                  </a:lnTo>
                  <a:lnTo>
                    <a:pt x="53" y="9"/>
                  </a:lnTo>
                  <a:lnTo>
                    <a:pt x="20" y="0"/>
                  </a:lnTo>
                  <a:lnTo>
                    <a:pt x="0" y="64"/>
                  </a:lnTo>
                  <a:lnTo>
                    <a:pt x="37" y="74"/>
                  </a:lnTo>
                  <a:lnTo>
                    <a:pt x="80" y="83"/>
                  </a:lnTo>
                  <a:lnTo>
                    <a:pt x="125" y="92"/>
                  </a:lnTo>
                  <a:lnTo>
                    <a:pt x="172" y="100"/>
                  </a:lnTo>
                  <a:lnTo>
                    <a:pt x="219" y="108"/>
                  </a:lnTo>
                  <a:lnTo>
                    <a:pt x="262" y="116"/>
                  </a:lnTo>
                  <a:lnTo>
                    <a:pt x="302" y="125"/>
                  </a:lnTo>
                  <a:lnTo>
                    <a:pt x="335" y="135"/>
                  </a:lnTo>
                  <a:lnTo>
                    <a:pt x="312" y="108"/>
                  </a:lnTo>
                  <a:lnTo>
                    <a:pt x="335" y="135"/>
                  </a:lnTo>
                  <a:lnTo>
                    <a:pt x="343" y="136"/>
                  </a:lnTo>
                  <a:lnTo>
                    <a:pt x="350" y="136"/>
                  </a:lnTo>
                  <a:lnTo>
                    <a:pt x="357" y="135"/>
                  </a:lnTo>
                  <a:lnTo>
                    <a:pt x="362" y="131"/>
                  </a:lnTo>
                  <a:lnTo>
                    <a:pt x="367" y="128"/>
                  </a:lnTo>
                  <a:lnTo>
                    <a:pt x="371" y="123"/>
                  </a:lnTo>
                  <a:lnTo>
                    <a:pt x="375" y="117"/>
                  </a:lnTo>
                  <a:lnTo>
                    <a:pt x="377" y="112"/>
                  </a:lnTo>
                  <a:lnTo>
                    <a:pt x="378" y="106"/>
                  </a:lnTo>
                  <a:lnTo>
                    <a:pt x="379" y="99"/>
                  </a:lnTo>
                  <a:lnTo>
                    <a:pt x="378" y="93"/>
                  </a:lnTo>
                  <a:lnTo>
                    <a:pt x="376" y="88"/>
                  </a:lnTo>
                  <a:lnTo>
                    <a:pt x="373" y="82"/>
                  </a:lnTo>
                  <a:lnTo>
                    <a:pt x="368" y="76"/>
                  </a:lnTo>
                  <a:lnTo>
                    <a:pt x="362" y="73"/>
                  </a:lnTo>
                  <a:lnTo>
                    <a:pt x="355" y="70"/>
                  </a:lnTo>
                  <a:lnTo>
                    <a:pt x="378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4300560" y="5452920"/>
              <a:ext cx="344520" cy="155880"/>
            </a:xfrm>
            <a:custGeom>
              <a:avLst/>
              <a:gdLst/>
              <a:ahLst/>
              <a:rect l="l" t="t" r="r" b="b"/>
              <a:pathLst>
                <a:path w="1082" h="490">
                  <a:moveTo>
                    <a:pt x="50" y="69"/>
                  </a:moveTo>
                  <a:lnTo>
                    <a:pt x="41" y="115"/>
                  </a:lnTo>
                  <a:lnTo>
                    <a:pt x="29" y="173"/>
                  </a:lnTo>
                  <a:lnTo>
                    <a:pt x="22" y="205"/>
                  </a:lnTo>
                  <a:lnTo>
                    <a:pt x="16" y="238"/>
                  </a:lnTo>
                  <a:lnTo>
                    <a:pt x="11" y="270"/>
                  </a:lnTo>
                  <a:lnTo>
                    <a:pt x="6" y="303"/>
                  </a:lnTo>
                  <a:lnTo>
                    <a:pt x="3" y="334"/>
                  </a:lnTo>
                  <a:lnTo>
                    <a:pt x="0" y="362"/>
                  </a:lnTo>
                  <a:lnTo>
                    <a:pt x="0" y="376"/>
                  </a:lnTo>
                  <a:lnTo>
                    <a:pt x="0" y="390"/>
                  </a:lnTo>
                  <a:lnTo>
                    <a:pt x="1" y="401"/>
                  </a:lnTo>
                  <a:lnTo>
                    <a:pt x="3" y="413"/>
                  </a:lnTo>
                  <a:lnTo>
                    <a:pt x="4" y="423"/>
                  </a:lnTo>
                  <a:lnTo>
                    <a:pt x="7" y="432"/>
                  </a:lnTo>
                  <a:lnTo>
                    <a:pt x="11" y="440"/>
                  </a:lnTo>
                  <a:lnTo>
                    <a:pt x="14" y="446"/>
                  </a:lnTo>
                  <a:lnTo>
                    <a:pt x="19" y="451"/>
                  </a:lnTo>
                  <a:lnTo>
                    <a:pt x="24" y="455"/>
                  </a:lnTo>
                  <a:lnTo>
                    <a:pt x="31" y="457"/>
                  </a:lnTo>
                  <a:lnTo>
                    <a:pt x="39" y="458"/>
                  </a:lnTo>
                  <a:lnTo>
                    <a:pt x="99" y="458"/>
                  </a:lnTo>
                  <a:lnTo>
                    <a:pt x="160" y="459"/>
                  </a:lnTo>
                  <a:lnTo>
                    <a:pt x="219" y="463"/>
                  </a:lnTo>
                  <a:lnTo>
                    <a:pt x="280" y="466"/>
                  </a:lnTo>
                  <a:lnTo>
                    <a:pt x="400" y="475"/>
                  </a:lnTo>
                  <a:lnTo>
                    <a:pt x="522" y="485"/>
                  </a:lnTo>
                  <a:lnTo>
                    <a:pt x="584" y="488"/>
                  </a:lnTo>
                  <a:lnTo>
                    <a:pt x="646" y="490"/>
                  </a:lnTo>
                  <a:lnTo>
                    <a:pt x="708" y="490"/>
                  </a:lnTo>
                  <a:lnTo>
                    <a:pt x="772" y="489"/>
                  </a:lnTo>
                  <a:lnTo>
                    <a:pt x="804" y="488"/>
                  </a:lnTo>
                  <a:lnTo>
                    <a:pt x="836" y="486"/>
                  </a:lnTo>
                  <a:lnTo>
                    <a:pt x="869" y="482"/>
                  </a:lnTo>
                  <a:lnTo>
                    <a:pt x="902" y="479"/>
                  </a:lnTo>
                  <a:lnTo>
                    <a:pt x="935" y="475"/>
                  </a:lnTo>
                  <a:lnTo>
                    <a:pt x="968" y="471"/>
                  </a:lnTo>
                  <a:lnTo>
                    <a:pt x="1001" y="465"/>
                  </a:lnTo>
                  <a:lnTo>
                    <a:pt x="1035" y="458"/>
                  </a:lnTo>
                  <a:lnTo>
                    <a:pt x="1047" y="448"/>
                  </a:lnTo>
                  <a:lnTo>
                    <a:pt x="1058" y="438"/>
                  </a:lnTo>
                  <a:lnTo>
                    <a:pt x="1066" y="426"/>
                  </a:lnTo>
                  <a:lnTo>
                    <a:pt x="1073" y="415"/>
                  </a:lnTo>
                  <a:lnTo>
                    <a:pt x="1078" y="402"/>
                  </a:lnTo>
                  <a:lnTo>
                    <a:pt x="1081" y="390"/>
                  </a:lnTo>
                  <a:lnTo>
                    <a:pt x="1082" y="376"/>
                  </a:lnTo>
                  <a:lnTo>
                    <a:pt x="1082" y="361"/>
                  </a:lnTo>
                  <a:lnTo>
                    <a:pt x="1080" y="347"/>
                  </a:lnTo>
                  <a:lnTo>
                    <a:pt x="1075" y="332"/>
                  </a:lnTo>
                  <a:lnTo>
                    <a:pt x="1070" y="316"/>
                  </a:lnTo>
                  <a:lnTo>
                    <a:pt x="1063" y="299"/>
                  </a:lnTo>
                  <a:lnTo>
                    <a:pt x="1053" y="280"/>
                  </a:lnTo>
                  <a:lnTo>
                    <a:pt x="1041" y="262"/>
                  </a:lnTo>
                  <a:lnTo>
                    <a:pt x="1029" y="244"/>
                  </a:lnTo>
                  <a:lnTo>
                    <a:pt x="1014" y="223"/>
                  </a:lnTo>
                  <a:lnTo>
                    <a:pt x="1002" y="219"/>
                  </a:lnTo>
                  <a:lnTo>
                    <a:pt x="985" y="212"/>
                  </a:lnTo>
                  <a:lnTo>
                    <a:pt x="964" y="205"/>
                  </a:lnTo>
                  <a:lnTo>
                    <a:pt x="936" y="197"/>
                  </a:lnTo>
                  <a:lnTo>
                    <a:pt x="872" y="182"/>
                  </a:lnTo>
                  <a:lnTo>
                    <a:pt x="798" y="165"/>
                  </a:lnTo>
                  <a:lnTo>
                    <a:pt x="758" y="158"/>
                  </a:lnTo>
                  <a:lnTo>
                    <a:pt x="717" y="151"/>
                  </a:lnTo>
                  <a:lnTo>
                    <a:pt x="677" y="145"/>
                  </a:lnTo>
                  <a:lnTo>
                    <a:pt x="636" y="139"/>
                  </a:lnTo>
                  <a:lnTo>
                    <a:pt x="598" y="134"/>
                  </a:lnTo>
                  <a:lnTo>
                    <a:pt x="560" y="131"/>
                  </a:lnTo>
                  <a:lnTo>
                    <a:pt x="525" y="129"/>
                  </a:lnTo>
                  <a:lnTo>
                    <a:pt x="493" y="127"/>
                  </a:lnTo>
                  <a:lnTo>
                    <a:pt x="479" y="112"/>
                  </a:lnTo>
                  <a:lnTo>
                    <a:pt x="465" y="94"/>
                  </a:lnTo>
                  <a:lnTo>
                    <a:pt x="452" y="78"/>
                  </a:lnTo>
                  <a:lnTo>
                    <a:pt x="438" y="62"/>
                  </a:lnTo>
                  <a:lnTo>
                    <a:pt x="426" y="46"/>
                  </a:lnTo>
                  <a:lnTo>
                    <a:pt x="412" y="30"/>
                  </a:lnTo>
                  <a:lnTo>
                    <a:pt x="399" y="15"/>
                  </a:lnTo>
                  <a:lnTo>
                    <a:pt x="387" y="0"/>
                  </a:lnTo>
                  <a:lnTo>
                    <a:pt x="351" y="9"/>
                  </a:lnTo>
                  <a:lnTo>
                    <a:pt x="310" y="18"/>
                  </a:lnTo>
                  <a:lnTo>
                    <a:pt x="265" y="26"/>
                  </a:lnTo>
                  <a:lnTo>
                    <a:pt x="218" y="34"/>
                  </a:lnTo>
                  <a:lnTo>
                    <a:pt x="171" y="42"/>
                  </a:lnTo>
                  <a:lnTo>
                    <a:pt x="127" y="50"/>
                  </a:lnTo>
                  <a:lnTo>
                    <a:pt x="106" y="54"/>
                  </a:lnTo>
                  <a:lnTo>
                    <a:pt x="86" y="59"/>
                  </a:lnTo>
                  <a:lnTo>
                    <a:pt x="68" y="65"/>
                  </a:lnTo>
                  <a:lnTo>
                    <a:pt x="50" y="6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4290840" y="5473800"/>
              <a:ext cx="36720" cy="135000"/>
            </a:xfrm>
            <a:custGeom>
              <a:avLst/>
              <a:gdLst/>
              <a:ahLst/>
              <a:rect l="l" t="t" r="r" b="b"/>
              <a:pathLst>
                <a:path w="118" h="427">
                  <a:moveTo>
                    <a:pt x="72" y="360"/>
                  </a:moveTo>
                  <a:lnTo>
                    <a:pt x="72" y="360"/>
                  </a:lnTo>
                  <a:lnTo>
                    <a:pt x="72" y="360"/>
                  </a:lnTo>
                  <a:lnTo>
                    <a:pt x="73" y="361"/>
                  </a:lnTo>
                  <a:lnTo>
                    <a:pt x="75" y="362"/>
                  </a:lnTo>
                  <a:lnTo>
                    <a:pt x="75" y="362"/>
                  </a:lnTo>
                  <a:lnTo>
                    <a:pt x="74" y="360"/>
                  </a:lnTo>
                  <a:lnTo>
                    <a:pt x="73" y="357"/>
                  </a:lnTo>
                  <a:lnTo>
                    <a:pt x="71" y="351"/>
                  </a:lnTo>
                  <a:lnTo>
                    <a:pt x="70" y="344"/>
                  </a:lnTo>
                  <a:lnTo>
                    <a:pt x="68" y="335"/>
                  </a:lnTo>
                  <a:lnTo>
                    <a:pt x="67" y="324"/>
                  </a:lnTo>
                  <a:lnTo>
                    <a:pt x="67" y="312"/>
                  </a:lnTo>
                  <a:lnTo>
                    <a:pt x="68" y="301"/>
                  </a:lnTo>
                  <a:lnTo>
                    <a:pt x="70" y="273"/>
                  </a:lnTo>
                  <a:lnTo>
                    <a:pt x="73" y="243"/>
                  </a:lnTo>
                  <a:lnTo>
                    <a:pt x="78" y="212"/>
                  </a:lnTo>
                  <a:lnTo>
                    <a:pt x="83" y="180"/>
                  </a:lnTo>
                  <a:lnTo>
                    <a:pt x="89" y="148"/>
                  </a:lnTo>
                  <a:lnTo>
                    <a:pt x="96" y="116"/>
                  </a:lnTo>
                  <a:lnTo>
                    <a:pt x="108" y="58"/>
                  </a:lnTo>
                  <a:lnTo>
                    <a:pt x="118" y="11"/>
                  </a:lnTo>
                  <a:lnTo>
                    <a:pt x="51" y="0"/>
                  </a:lnTo>
                  <a:lnTo>
                    <a:pt x="42" y="44"/>
                  </a:lnTo>
                  <a:lnTo>
                    <a:pt x="30" y="102"/>
                  </a:lnTo>
                  <a:lnTo>
                    <a:pt x="23" y="134"/>
                  </a:lnTo>
                  <a:lnTo>
                    <a:pt x="17" y="167"/>
                  </a:lnTo>
                  <a:lnTo>
                    <a:pt x="11" y="202"/>
                  </a:lnTo>
                  <a:lnTo>
                    <a:pt x="7" y="235"/>
                  </a:lnTo>
                  <a:lnTo>
                    <a:pt x="2" y="267"/>
                  </a:lnTo>
                  <a:lnTo>
                    <a:pt x="1" y="297"/>
                  </a:lnTo>
                  <a:lnTo>
                    <a:pt x="0" y="312"/>
                  </a:lnTo>
                  <a:lnTo>
                    <a:pt x="0" y="327"/>
                  </a:lnTo>
                  <a:lnTo>
                    <a:pt x="1" y="341"/>
                  </a:lnTo>
                  <a:lnTo>
                    <a:pt x="2" y="353"/>
                  </a:lnTo>
                  <a:lnTo>
                    <a:pt x="6" y="367"/>
                  </a:lnTo>
                  <a:lnTo>
                    <a:pt x="9" y="379"/>
                  </a:lnTo>
                  <a:lnTo>
                    <a:pt x="14" y="391"/>
                  </a:lnTo>
                  <a:lnTo>
                    <a:pt x="22" y="402"/>
                  </a:lnTo>
                  <a:lnTo>
                    <a:pt x="31" y="413"/>
                  </a:lnTo>
                  <a:lnTo>
                    <a:pt x="43" y="422"/>
                  </a:lnTo>
                  <a:lnTo>
                    <a:pt x="59" y="426"/>
                  </a:lnTo>
                  <a:lnTo>
                    <a:pt x="74" y="427"/>
                  </a:lnTo>
                  <a:lnTo>
                    <a:pt x="73" y="427"/>
                  </a:lnTo>
                  <a:lnTo>
                    <a:pt x="74" y="427"/>
                  </a:lnTo>
                  <a:lnTo>
                    <a:pt x="81" y="426"/>
                  </a:lnTo>
                  <a:lnTo>
                    <a:pt x="88" y="424"/>
                  </a:lnTo>
                  <a:lnTo>
                    <a:pt x="94" y="421"/>
                  </a:lnTo>
                  <a:lnTo>
                    <a:pt x="98" y="417"/>
                  </a:lnTo>
                  <a:lnTo>
                    <a:pt x="103" y="411"/>
                  </a:lnTo>
                  <a:lnTo>
                    <a:pt x="105" y="406"/>
                  </a:lnTo>
                  <a:lnTo>
                    <a:pt x="106" y="400"/>
                  </a:lnTo>
                  <a:lnTo>
                    <a:pt x="106" y="393"/>
                  </a:lnTo>
                  <a:lnTo>
                    <a:pt x="106" y="387"/>
                  </a:lnTo>
                  <a:lnTo>
                    <a:pt x="104" y="381"/>
                  </a:lnTo>
                  <a:lnTo>
                    <a:pt x="102" y="375"/>
                  </a:lnTo>
                  <a:lnTo>
                    <a:pt x="97" y="370"/>
                  </a:lnTo>
                  <a:lnTo>
                    <a:pt x="92" y="366"/>
                  </a:lnTo>
                  <a:lnTo>
                    <a:pt x="87" y="362"/>
                  </a:lnTo>
                  <a:lnTo>
                    <a:pt x="80" y="361"/>
                  </a:lnTo>
                  <a:lnTo>
                    <a:pt x="72" y="3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4313160" y="5587920"/>
              <a:ext cx="327240" cy="31680"/>
            </a:xfrm>
            <a:custGeom>
              <a:avLst/>
              <a:gdLst/>
              <a:ahLst/>
              <a:rect l="l" t="t" r="r" b="b"/>
              <a:pathLst>
                <a:path w="1030" h="101">
                  <a:moveTo>
                    <a:pt x="977" y="7"/>
                  </a:moveTo>
                  <a:lnTo>
                    <a:pt x="991" y="1"/>
                  </a:lnTo>
                  <a:lnTo>
                    <a:pt x="958" y="8"/>
                  </a:lnTo>
                  <a:lnTo>
                    <a:pt x="924" y="13"/>
                  </a:lnTo>
                  <a:lnTo>
                    <a:pt x="893" y="18"/>
                  </a:lnTo>
                  <a:lnTo>
                    <a:pt x="859" y="22"/>
                  </a:lnTo>
                  <a:lnTo>
                    <a:pt x="828" y="25"/>
                  </a:lnTo>
                  <a:lnTo>
                    <a:pt x="796" y="27"/>
                  </a:lnTo>
                  <a:lnTo>
                    <a:pt x="765" y="30"/>
                  </a:lnTo>
                  <a:lnTo>
                    <a:pt x="733" y="31"/>
                  </a:lnTo>
                  <a:lnTo>
                    <a:pt x="670" y="32"/>
                  </a:lnTo>
                  <a:lnTo>
                    <a:pt x="609" y="32"/>
                  </a:lnTo>
                  <a:lnTo>
                    <a:pt x="547" y="30"/>
                  </a:lnTo>
                  <a:lnTo>
                    <a:pt x="487" y="26"/>
                  </a:lnTo>
                  <a:lnTo>
                    <a:pt x="365" y="18"/>
                  </a:lnTo>
                  <a:lnTo>
                    <a:pt x="244" y="9"/>
                  </a:lnTo>
                  <a:lnTo>
                    <a:pt x="183" y="5"/>
                  </a:lnTo>
                  <a:lnTo>
                    <a:pt x="123" y="2"/>
                  </a:lnTo>
                  <a:lnTo>
                    <a:pt x="61" y="0"/>
                  </a:lnTo>
                  <a:lnTo>
                    <a:pt x="0" y="0"/>
                  </a:lnTo>
                  <a:lnTo>
                    <a:pt x="1" y="67"/>
                  </a:lnTo>
                  <a:lnTo>
                    <a:pt x="60" y="67"/>
                  </a:lnTo>
                  <a:lnTo>
                    <a:pt x="121" y="70"/>
                  </a:lnTo>
                  <a:lnTo>
                    <a:pt x="180" y="72"/>
                  </a:lnTo>
                  <a:lnTo>
                    <a:pt x="239" y="77"/>
                  </a:lnTo>
                  <a:lnTo>
                    <a:pt x="360" y="86"/>
                  </a:lnTo>
                  <a:lnTo>
                    <a:pt x="482" y="94"/>
                  </a:lnTo>
                  <a:lnTo>
                    <a:pt x="545" y="97"/>
                  </a:lnTo>
                  <a:lnTo>
                    <a:pt x="608" y="99"/>
                  </a:lnTo>
                  <a:lnTo>
                    <a:pt x="671" y="101"/>
                  </a:lnTo>
                  <a:lnTo>
                    <a:pt x="735" y="98"/>
                  </a:lnTo>
                  <a:lnTo>
                    <a:pt x="768" y="97"/>
                  </a:lnTo>
                  <a:lnTo>
                    <a:pt x="801" y="95"/>
                  </a:lnTo>
                  <a:lnTo>
                    <a:pt x="834" y="93"/>
                  </a:lnTo>
                  <a:lnTo>
                    <a:pt x="867" y="89"/>
                  </a:lnTo>
                  <a:lnTo>
                    <a:pt x="901" y="85"/>
                  </a:lnTo>
                  <a:lnTo>
                    <a:pt x="935" y="80"/>
                  </a:lnTo>
                  <a:lnTo>
                    <a:pt x="969" y="74"/>
                  </a:lnTo>
                  <a:lnTo>
                    <a:pt x="1004" y="67"/>
                  </a:lnTo>
                  <a:lnTo>
                    <a:pt x="1017" y="62"/>
                  </a:lnTo>
                  <a:lnTo>
                    <a:pt x="1004" y="67"/>
                  </a:lnTo>
                  <a:lnTo>
                    <a:pt x="1011" y="65"/>
                  </a:lnTo>
                  <a:lnTo>
                    <a:pt x="1018" y="62"/>
                  </a:lnTo>
                  <a:lnTo>
                    <a:pt x="1022" y="57"/>
                  </a:lnTo>
                  <a:lnTo>
                    <a:pt x="1026" y="51"/>
                  </a:lnTo>
                  <a:lnTo>
                    <a:pt x="1029" y="46"/>
                  </a:lnTo>
                  <a:lnTo>
                    <a:pt x="1030" y="40"/>
                  </a:lnTo>
                  <a:lnTo>
                    <a:pt x="1030" y="33"/>
                  </a:lnTo>
                  <a:lnTo>
                    <a:pt x="1030" y="27"/>
                  </a:lnTo>
                  <a:lnTo>
                    <a:pt x="1028" y="22"/>
                  </a:lnTo>
                  <a:lnTo>
                    <a:pt x="1026" y="16"/>
                  </a:lnTo>
                  <a:lnTo>
                    <a:pt x="1021" y="10"/>
                  </a:lnTo>
                  <a:lnTo>
                    <a:pt x="1017" y="7"/>
                  </a:lnTo>
                  <a:lnTo>
                    <a:pt x="1012" y="4"/>
                  </a:lnTo>
                  <a:lnTo>
                    <a:pt x="1005" y="1"/>
                  </a:lnTo>
                  <a:lnTo>
                    <a:pt x="999" y="0"/>
                  </a:lnTo>
                  <a:lnTo>
                    <a:pt x="991" y="1"/>
                  </a:lnTo>
                  <a:lnTo>
                    <a:pt x="97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4611600" y="5513400"/>
              <a:ext cx="44640" cy="93600"/>
            </a:xfrm>
            <a:custGeom>
              <a:avLst/>
              <a:gdLst/>
              <a:ahLst/>
              <a:rect l="l" t="t" r="r" b="b"/>
              <a:pathLst>
                <a:path w="136" h="296">
                  <a:moveTo>
                    <a:pt x="16" y="63"/>
                  </a:moveTo>
                  <a:lnTo>
                    <a:pt x="8" y="55"/>
                  </a:lnTo>
                  <a:lnTo>
                    <a:pt x="21" y="73"/>
                  </a:lnTo>
                  <a:lnTo>
                    <a:pt x="34" y="90"/>
                  </a:lnTo>
                  <a:lnTo>
                    <a:pt x="44" y="107"/>
                  </a:lnTo>
                  <a:lnTo>
                    <a:pt x="52" y="123"/>
                  </a:lnTo>
                  <a:lnTo>
                    <a:pt x="59" y="138"/>
                  </a:lnTo>
                  <a:lnTo>
                    <a:pt x="63" y="152"/>
                  </a:lnTo>
                  <a:lnTo>
                    <a:pt x="67" y="163"/>
                  </a:lnTo>
                  <a:lnTo>
                    <a:pt x="69" y="175"/>
                  </a:lnTo>
                  <a:lnTo>
                    <a:pt x="69" y="185"/>
                  </a:lnTo>
                  <a:lnTo>
                    <a:pt x="68" y="194"/>
                  </a:lnTo>
                  <a:lnTo>
                    <a:pt x="66" y="202"/>
                  </a:lnTo>
                  <a:lnTo>
                    <a:pt x="63" y="210"/>
                  </a:lnTo>
                  <a:lnTo>
                    <a:pt x="59" y="218"/>
                  </a:lnTo>
                  <a:lnTo>
                    <a:pt x="52" y="225"/>
                  </a:lnTo>
                  <a:lnTo>
                    <a:pt x="45" y="233"/>
                  </a:lnTo>
                  <a:lnTo>
                    <a:pt x="35" y="241"/>
                  </a:lnTo>
                  <a:lnTo>
                    <a:pt x="75" y="296"/>
                  </a:lnTo>
                  <a:lnTo>
                    <a:pt x="90" y="283"/>
                  </a:lnTo>
                  <a:lnTo>
                    <a:pt x="103" y="271"/>
                  </a:lnTo>
                  <a:lnTo>
                    <a:pt x="115" y="256"/>
                  </a:lnTo>
                  <a:lnTo>
                    <a:pt x="124" y="240"/>
                  </a:lnTo>
                  <a:lnTo>
                    <a:pt x="131" y="223"/>
                  </a:lnTo>
                  <a:lnTo>
                    <a:pt x="134" y="206"/>
                  </a:lnTo>
                  <a:lnTo>
                    <a:pt x="136" y="187"/>
                  </a:lnTo>
                  <a:lnTo>
                    <a:pt x="135" y="169"/>
                  </a:lnTo>
                  <a:lnTo>
                    <a:pt x="133" y="150"/>
                  </a:lnTo>
                  <a:lnTo>
                    <a:pt x="128" y="131"/>
                  </a:lnTo>
                  <a:lnTo>
                    <a:pt x="122" y="112"/>
                  </a:lnTo>
                  <a:lnTo>
                    <a:pt x="112" y="93"/>
                  </a:lnTo>
                  <a:lnTo>
                    <a:pt x="102" y="73"/>
                  </a:lnTo>
                  <a:lnTo>
                    <a:pt x="90" y="54"/>
                  </a:lnTo>
                  <a:lnTo>
                    <a:pt x="76" y="33"/>
                  </a:lnTo>
                  <a:lnTo>
                    <a:pt x="60" y="13"/>
                  </a:lnTo>
                  <a:lnTo>
                    <a:pt x="51" y="5"/>
                  </a:lnTo>
                  <a:lnTo>
                    <a:pt x="60" y="13"/>
                  </a:lnTo>
                  <a:lnTo>
                    <a:pt x="54" y="7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3" y="48"/>
                  </a:lnTo>
                  <a:lnTo>
                    <a:pt x="8" y="55"/>
                  </a:lnTo>
                  <a:lnTo>
                    <a:pt x="16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4446720" y="5483160"/>
              <a:ext cx="182520" cy="50760"/>
            </a:xfrm>
            <a:custGeom>
              <a:avLst/>
              <a:gdLst/>
              <a:ahLst/>
              <a:rect l="l" t="t" r="r" b="b"/>
              <a:pathLst>
                <a:path w="572" h="160">
                  <a:moveTo>
                    <a:pt x="8" y="56"/>
                  </a:moveTo>
                  <a:lnTo>
                    <a:pt x="34" y="68"/>
                  </a:lnTo>
                  <a:lnTo>
                    <a:pt x="65" y="69"/>
                  </a:lnTo>
                  <a:lnTo>
                    <a:pt x="99" y="71"/>
                  </a:lnTo>
                  <a:lnTo>
                    <a:pt x="135" y="74"/>
                  </a:lnTo>
                  <a:lnTo>
                    <a:pt x="174" y="79"/>
                  </a:lnTo>
                  <a:lnTo>
                    <a:pt x="213" y="85"/>
                  </a:lnTo>
                  <a:lnTo>
                    <a:pt x="254" y="92"/>
                  </a:lnTo>
                  <a:lnTo>
                    <a:pt x="294" y="98"/>
                  </a:lnTo>
                  <a:lnTo>
                    <a:pt x="332" y="105"/>
                  </a:lnTo>
                  <a:lnTo>
                    <a:pt x="407" y="121"/>
                  </a:lnTo>
                  <a:lnTo>
                    <a:pt x="469" y="137"/>
                  </a:lnTo>
                  <a:lnTo>
                    <a:pt x="494" y="144"/>
                  </a:lnTo>
                  <a:lnTo>
                    <a:pt x="516" y="151"/>
                  </a:lnTo>
                  <a:lnTo>
                    <a:pt x="530" y="157"/>
                  </a:lnTo>
                  <a:lnTo>
                    <a:pt x="537" y="160"/>
                  </a:lnTo>
                  <a:lnTo>
                    <a:pt x="572" y="102"/>
                  </a:lnTo>
                  <a:lnTo>
                    <a:pt x="556" y="94"/>
                  </a:lnTo>
                  <a:lnTo>
                    <a:pt x="538" y="87"/>
                  </a:lnTo>
                  <a:lnTo>
                    <a:pt x="514" y="80"/>
                  </a:lnTo>
                  <a:lnTo>
                    <a:pt x="486" y="72"/>
                  </a:lnTo>
                  <a:lnTo>
                    <a:pt x="421" y="56"/>
                  </a:lnTo>
                  <a:lnTo>
                    <a:pt x="346" y="40"/>
                  </a:lnTo>
                  <a:lnTo>
                    <a:pt x="305" y="32"/>
                  </a:lnTo>
                  <a:lnTo>
                    <a:pt x="264" y="24"/>
                  </a:lnTo>
                  <a:lnTo>
                    <a:pt x="223" y="19"/>
                  </a:lnTo>
                  <a:lnTo>
                    <a:pt x="182" y="13"/>
                  </a:lnTo>
                  <a:lnTo>
                    <a:pt x="142" y="7"/>
                  </a:lnTo>
                  <a:lnTo>
                    <a:pt x="103" y="4"/>
                  </a:lnTo>
                  <a:lnTo>
                    <a:pt x="67" y="1"/>
                  </a:lnTo>
                  <a:lnTo>
                    <a:pt x="34" y="0"/>
                  </a:lnTo>
                  <a:lnTo>
                    <a:pt x="59" y="1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4" y="16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2" y="47"/>
                  </a:lnTo>
                  <a:lnTo>
                    <a:pt x="4" y="53"/>
                  </a:lnTo>
                  <a:lnTo>
                    <a:pt x="8" y="57"/>
                  </a:lnTo>
                  <a:lnTo>
                    <a:pt x="13" y="62"/>
                  </a:lnTo>
                  <a:lnTo>
                    <a:pt x="19" y="65"/>
                  </a:lnTo>
                  <a:lnTo>
                    <a:pt x="26" y="68"/>
                  </a:lnTo>
                  <a:lnTo>
                    <a:pt x="34" y="68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4413240" y="5442120"/>
              <a:ext cx="52560" cy="58680"/>
            </a:xfrm>
            <a:custGeom>
              <a:avLst/>
              <a:gdLst/>
              <a:ahLst/>
              <a:rect l="l" t="t" r="r" b="b"/>
              <a:pathLst>
                <a:path w="167" h="184">
                  <a:moveTo>
                    <a:pt x="45" y="67"/>
                  </a:moveTo>
                  <a:lnTo>
                    <a:pt x="10" y="55"/>
                  </a:lnTo>
                  <a:lnTo>
                    <a:pt x="22" y="71"/>
                  </a:lnTo>
                  <a:lnTo>
                    <a:pt x="35" y="87"/>
                  </a:lnTo>
                  <a:lnTo>
                    <a:pt x="48" y="103"/>
                  </a:lnTo>
                  <a:lnTo>
                    <a:pt x="61" y="119"/>
                  </a:lnTo>
                  <a:lnTo>
                    <a:pt x="75" y="135"/>
                  </a:lnTo>
                  <a:lnTo>
                    <a:pt x="88" y="151"/>
                  </a:lnTo>
                  <a:lnTo>
                    <a:pt x="102" y="168"/>
                  </a:lnTo>
                  <a:lnTo>
                    <a:pt x="116" y="184"/>
                  </a:lnTo>
                  <a:lnTo>
                    <a:pt x="167" y="141"/>
                  </a:lnTo>
                  <a:lnTo>
                    <a:pt x="153" y="125"/>
                  </a:lnTo>
                  <a:lnTo>
                    <a:pt x="139" y="108"/>
                  </a:lnTo>
                  <a:lnTo>
                    <a:pt x="127" y="92"/>
                  </a:lnTo>
                  <a:lnTo>
                    <a:pt x="113" y="76"/>
                  </a:lnTo>
                  <a:lnTo>
                    <a:pt x="100" y="60"/>
                  </a:lnTo>
                  <a:lnTo>
                    <a:pt x="87" y="44"/>
                  </a:lnTo>
                  <a:lnTo>
                    <a:pt x="73" y="29"/>
                  </a:lnTo>
                  <a:lnTo>
                    <a:pt x="61" y="13"/>
                  </a:lnTo>
                  <a:lnTo>
                    <a:pt x="25" y="2"/>
                  </a:lnTo>
                  <a:lnTo>
                    <a:pt x="61" y="13"/>
                  </a:lnTo>
                  <a:lnTo>
                    <a:pt x="55" y="7"/>
                  </a:lnTo>
                  <a:lnTo>
                    <a:pt x="49" y="4"/>
                  </a:lnTo>
                  <a:lnTo>
                    <a:pt x="44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4" y="2"/>
                  </a:lnTo>
                  <a:lnTo>
                    <a:pt x="19" y="5"/>
                  </a:lnTo>
                  <a:lnTo>
                    <a:pt x="14" y="8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10" y="55"/>
                  </a:lnTo>
                  <a:lnTo>
                    <a:pt x="45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4307040" y="5442120"/>
              <a:ext cx="120600" cy="44280"/>
            </a:xfrm>
            <a:custGeom>
              <a:avLst/>
              <a:gdLst/>
              <a:ahLst/>
              <a:rect l="l" t="t" r="r" b="b"/>
              <a:pathLst>
                <a:path w="379" h="137">
                  <a:moveTo>
                    <a:pt x="67" y="108"/>
                  </a:moveTo>
                  <a:lnTo>
                    <a:pt x="45" y="134"/>
                  </a:lnTo>
                  <a:lnTo>
                    <a:pt x="60" y="130"/>
                  </a:lnTo>
                  <a:lnTo>
                    <a:pt x="77" y="125"/>
                  </a:lnTo>
                  <a:lnTo>
                    <a:pt x="96" y="121"/>
                  </a:lnTo>
                  <a:lnTo>
                    <a:pt x="117" y="116"/>
                  </a:lnTo>
                  <a:lnTo>
                    <a:pt x="161" y="108"/>
                  </a:lnTo>
                  <a:lnTo>
                    <a:pt x="207" y="100"/>
                  </a:lnTo>
                  <a:lnTo>
                    <a:pt x="253" y="92"/>
                  </a:lnTo>
                  <a:lnTo>
                    <a:pt x="299" y="84"/>
                  </a:lnTo>
                  <a:lnTo>
                    <a:pt x="341" y="75"/>
                  </a:lnTo>
                  <a:lnTo>
                    <a:pt x="379" y="65"/>
                  </a:lnTo>
                  <a:lnTo>
                    <a:pt x="359" y="0"/>
                  </a:lnTo>
                  <a:lnTo>
                    <a:pt x="326" y="9"/>
                  </a:lnTo>
                  <a:lnTo>
                    <a:pt x="287" y="17"/>
                  </a:lnTo>
                  <a:lnTo>
                    <a:pt x="242" y="26"/>
                  </a:lnTo>
                  <a:lnTo>
                    <a:pt x="196" y="33"/>
                  </a:lnTo>
                  <a:lnTo>
                    <a:pt x="149" y="42"/>
                  </a:lnTo>
                  <a:lnTo>
                    <a:pt x="103" y="50"/>
                  </a:lnTo>
                  <a:lnTo>
                    <a:pt x="81" y="54"/>
                  </a:lnTo>
                  <a:lnTo>
                    <a:pt x="61" y="59"/>
                  </a:lnTo>
                  <a:lnTo>
                    <a:pt x="41" y="65"/>
                  </a:lnTo>
                  <a:lnTo>
                    <a:pt x="23" y="70"/>
                  </a:lnTo>
                  <a:lnTo>
                    <a:pt x="0" y="97"/>
                  </a:lnTo>
                  <a:lnTo>
                    <a:pt x="23" y="70"/>
                  </a:lnTo>
                  <a:lnTo>
                    <a:pt x="15" y="74"/>
                  </a:lnTo>
                  <a:lnTo>
                    <a:pt x="10" y="78"/>
                  </a:lnTo>
                  <a:lnTo>
                    <a:pt x="5" y="83"/>
                  </a:lnTo>
                  <a:lnTo>
                    <a:pt x="3" y="89"/>
                  </a:lnTo>
                  <a:lnTo>
                    <a:pt x="0" y="94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2" y="114"/>
                  </a:lnTo>
                  <a:lnTo>
                    <a:pt x="5" y="119"/>
                  </a:lnTo>
                  <a:lnTo>
                    <a:pt x="8" y="124"/>
                  </a:lnTo>
                  <a:lnTo>
                    <a:pt x="12" y="129"/>
                  </a:lnTo>
                  <a:lnTo>
                    <a:pt x="17" y="133"/>
                  </a:lnTo>
                  <a:lnTo>
                    <a:pt x="23" y="135"/>
                  </a:lnTo>
                  <a:lnTo>
                    <a:pt x="30" y="137"/>
                  </a:lnTo>
                  <a:lnTo>
                    <a:pt x="37" y="137"/>
                  </a:lnTo>
                  <a:lnTo>
                    <a:pt x="45" y="134"/>
                  </a:lnTo>
                  <a:lnTo>
                    <a:pt x="67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3822840" y="3892680"/>
              <a:ext cx="1076040" cy="1612800"/>
            </a:xfrm>
            <a:custGeom>
              <a:avLst/>
              <a:gdLst/>
              <a:ahLst/>
              <a:rect l="l" t="t" r="r" b="b"/>
              <a:pathLst>
                <a:path w="3390" h="5079">
                  <a:moveTo>
                    <a:pt x="718" y="2268"/>
                  </a:moveTo>
                  <a:lnTo>
                    <a:pt x="714" y="2322"/>
                  </a:lnTo>
                  <a:lnTo>
                    <a:pt x="709" y="2375"/>
                  </a:lnTo>
                  <a:lnTo>
                    <a:pt x="702" y="2431"/>
                  </a:lnTo>
                  <a:lnTo>
                    <a:pt x="695" y="2487"/>
                  </a:lnTo>
                  <a:lnTo>
                    <a:pt x="681" y="2600"/>
                  </a:lnTo>
                  <a:lnTo>
                    <a:pt x="663" y="2711"/>
                  </a:lnTo>
                  <a:lnTo>
                    <a:pt x="649" y="2817"/>
                  </a:lnTo>
                  <a:lnTo>
                    <a:pt x="635" y="2913"/>
                  </a:lnTo>
                  <a:lnTo>
                    <a:pt x="630" y="2956"/>
                  </a:lnTo>
                  <a:lnTo>
                    <a:pt x="627" y="2996"/>
                  </a:lnTo>
                  <a:lnTo>
                    <a:pt x="625" y="3031"/>
                  </a:lnTo>
                  <a:lnTo>
                    <a:pt x="624" y="3063"/>
                  </a:lnTo>
                  <a:lnTo>
                    <a:pt x="626" y="3090"/>
                  </a:lnTo>
                  <a:lnTo>
                    <a:pt x="627" y="3115"/>
                  </a:lnTo>
                  <a:lnTo>
                    <a:pt x="626" y="3137"/>
                  </a:lnTo>
                  <a:lnTo>
                    <a:pt x="625" y="3159"/>
                  </a:lnTo>
                  <a:lnTo>
                    <a:pt x="622" y="3180"/>
                  </a:lnTo>
                  <a:lnTo>
                    <a:pt x="619" y="3198"/>
                  </a:lnTo>
                  <a:lnTo>
                    <a:pt x="614" y="3215"/>
                  </a:lnTo>
                  <a:lnTo>
                    <a:pt x="610" y="3230"/>
                  </a:lnTo>
                  <a:lnTo>
                    <a:pt x="604" y="3244"/>
                  </a:lnTo>
                  <a:lnTo>
                    <a:pt x="597" y="3256"/>
                  </a:lnTo>
                  <a:lnTo>
                    <a:pt x="590" y="3266"/>
                  </a:lnTo>
                  <a:lnTo>
                    <a:pt x="582" y="3276"/>
                  </a:lnTo>
                  <a:lnTo>
                    <a:pt x="574" y="3284"/>
                  </a:lnTo>
                  <a:lnTo>
                    <a:pt x="567" y="3289"/>
                  </a:lnTo>
                  <a:lnTo>
                    <a:pt x="557" y="3294"/>
                  </a:lnTo>
                  <a:lnTo>
                    <a:pt x="549" y="3296"/>
                  </a:lnTo>
                  <a:lnTo>
                    <a:pt x="540" y="3298"/>
                  </a:lnTo>
                  <a:lnTo>
                    <a:pt x="531" y="3297"/>
                  </a:lnTo>
                  <a:lnTo>
                    <a:pt x="521" y="3296"/>
                  </a:lnTo>
                  <a:lnTo>
                    <a:pt x="512" y="3293"/>
                  </a:lnTo>
                  <a:lnTo>
                    <a:pt x="503" y="3287"/>
                  </a:lnTo>
                  <a:lnTo>
                    <a:pt x="495" y="3280"/>
                  </a:lnTo>
                  <a:lnTo>
                    <a:pt x="486" y="3272"/>
                  </a:lnTo>
                  <a:lnTo>
                    <a:pt x="478" y="3263"/>
                  </a:lnTo>
                  <a:lnTo>
                    <a:pt x="470" y="3252"/>
                  </a:lnTo>
                  <a:lnTo>
                    <a:pt x="462" y="3238"/>
                  </a:lnTo>
                  <a:lnTo>
                    <a:pt x="455" y="3224"/>
                  </a:lnTo>
                  <a:lnTo>
                    <a:pt x="449" y="3208"/>
                  </a:lnTo>
                  <a:lnTo>
                    <a:pt x="443" y="3190"/>
                  </a:lnTo>
                  <a:lnTo>
                    <a:pt x="438" y="3172"/>
                  </a:lnTo>
                  <a:lnTo>
                    <a:pt x="434" y="3150"/>
                  </a:lnTo>
                  <a:lnTo>
                    <a:pt x="431" y="3128"/>
                  </a:lnTo>
                  <a:lnTo>
                    <a:pt x="431" y="3143"/>
                  </a:lnTo>
                  <a:lnTo>
                    <a:pt x="430" y="3159"/>
                  </a:lnTo>
                  <a:lnTo>
                    <a:pt x="427" y="3173"/>
                  </a:lnTo>
                  <a:lnTo>
                    <a:pt x="424" y="3188"/>
                  </a:lnTo>
                  <a:lnTo>
                    <a:pt x="419" y="3200"/>
                  </a:lnTo>
                  <a:lnTo>
                    <a:pt x="414" y="3213"/>
                  </a:lnTo>
                  <a:lnTo>
                    <a:pt x="408" y="3224"/>
                  </a:lnTo>
                  <a:lnTo>
                    <a:pt x="401" y="3236"/>
                  </a:lnTo>
                  <a:lnTo>
                    <a:pt x="394" y="3246"/>
                  </a:lnTo>
                  <a:lnTo>
                    <a:pt x="386" y="3254"/>
                  </a:lnTo>
                  <a:lnTo>
                    <a:pt x="378" y="3262"/>
                  </a:lnTo>
                  <a:lnTo>
                    <a:pt x="369" y="3269"/>
                  </a:lnTo>
                  <a:lnTo>
                    <a:pt x="360" y="3274"/>
                  </a:lnTo>
                  <a:lnTo>
                    <a:pt x="351" y="3279"/>
                  </a:lnTo>
                  <a:lnTo>
                    <a:pt x="341" y="3282"/>
                  </a:lnTo>
                  <a:lnTo>
                    <a:pt x="332" y="3285"/>
                  </a:lnTo>
                  <a:lnTo>
                    <a:pt x="321" y="3285"/>
                  </a:lnTo>
                  <a:lnTo>
                    <a:pt x="312" y="3285"/>
                  </a:lnTo>
                  <a:lnTo>
                    <a:pt x="302" y="3282"/>
                  </a:lnTo>
                  <a:lnTo>
                    <a:pt x="293" y="3278"/>
                  </a:lnTo>
                  <a:lnTo>
                    <a:pt x="284" y="3272"/>
                  </a:lnTo>
                  <a:lnTo>
                    <a:pt x="275" y="3265"/>
                  </a:lnTo>
                  <a:lnTo>
                    <a:pt x="266" y="3256"/>
                  </a:lnTo>
                  <a:lnTo>
                    <a:pt x="258" y="3246"/>
                  </a:lnTo>
                  <a:lnTo>
                    <a:pt x="250" y="3233"/>
                  </a:lnTo>
                  <a:lnTo>
                    <a:pt x="243" y="3218"/>
                  </a:lnTo>
                  <a:lnTo>
                    <a:pt x="236" y="3203"/>
                  </a:lnTo>
                  <a:lnTo>
                    <a:pt x="230" y="3184"/>
                  </a:lnTo>
                  <a:lnTo>
                    <a:pt x="226" y="3164"/>
                  </a:lnTo>
                  <a:lnTo>
                    <a:pt x="221" y="3141"/>
                  </a:lnTo>
                  <a:lnTo>
                    <a:pt x="218" y="3117"/>
                  </a:lnTo>
                  <a:lnTo>
                    <a:pt x="217" y="3090"/>
                  </a:lnTo>
                  <a:lnTo>
                    <a:pt x="214" y="3107"/>
                  </a:lnTo>
                  <a:lnTo>
                    <a:pt x="212" y="3123"/>
                  </a:lnTo>
                  <a:lnTo>
                    <a:pt x="207" y="3139"/>
                  </a:lnTo>
                  <a:lnTo>
                    <a:pt x="202" y="3152"/>
                  </a:lnTo>
                  <a:lnTo>
                    <a:pt x="194" y="3166"/>
                  </a:lnTo>
                  <a:lnTo>
                    <a:pt x="186" y="3177"/>
                  </a:lnTo>
                  <a:lnTo>
                    <a:pt x="177" y="3188"/>
                  </a:lnTo>
                  <a:lnTo>
                    <a:pt x="166" y="3198"/>
                  </a:lnTo>
                  <a:lnTo>
                    <a:pt x="155" y="3206"/>
                  </a:lnTo>
                  <a:lnTo>
                    <a:pt x="144" y="3214"/>
                  </a:lnTo>
                  <a:lnTo>
                    <a:pt x="132" y="3220"/>
                  </a:lnTo>
                  <a:lnTo>
                    <a:pt x="120" y="3224"/>
                  </a:lnTo>
                  <a:lnTo>
                    <a:pt x="107" y="3226"/>
                  </a:lnTo>
                  <a:lnTo>
                    <a:pt x="96" y="3229"/>
                  </a:lnTo>
                  <a:lnTo>
                    <a:pt x="83" y="3229"/>
                  </a:lnTo>
                  <a:lnTo>
                    <a:pt x="72" y="3228"/>
                  </a:lnTo>
                  <a:lnTo>
                    <a:pt x="60" y="3225"/>
                  </a:lnTo>
                  <a:lnTo>
                    <a:pt x="49" y="3221"/>
                  </a:lnTo>
                  <a:lnTo>
                    <a:pt x="39" y="3215"/>
                  </a:lnTo>
                  <a:lnTo>
                    <a:pt x="30" y="3207"/>
                  </a:lnTo>
                  <a:lnTo>
                    <a:pt x="22" y="3198"/>
                  </a:lnTo>
                  <a:lnTo>
                    <a:pt x="14" y="3188"/>
                  </a:lnTo>
                  <a:lnTo>
                    <a:pt x="8" y="3175"/>
                  </a:lnTo>
                  <a:lnTo>
                    <a:pt x="3" y="3160"/>
                  </a:lnTo>
                  <a:lnTo>
                    <a:pt x="1" y="3144"/>
                  </a:lnTo>
                  <a:lnTo>
                    <a:pt x="0" y="3127"/>
                  </a:lnTo>
                  <a:lnTo>
                    <a:pt x="0" y="3107"/>
                  </a:lnTo>
                  <a:lnTo>
                    <a:pt x="2" y="3085"/>
                  </a:lnTo>
                  <a:lnTo>
                    <a:pt x="7" y="3061"/>
                  </a:lnTo>
                  <a:lnTo>
                    <a:pt x="14" y="3036"/>
                  </a:lnTo>
                  <a:lnTo>
                    <a:pt x="24" y="3009"/>
                  </a:lnTo>
                  <a:lnTo>
                    <a:pt x="35" y="2979"/>
                  </a:lnTo>
                  <a:lnTo>
                    <a:pt x="51" y="2857"/>
                  </a:lnTo>
                  <a:lnTo>
                    <a:pt x="64" y="2756"/>
                  </a:lnTo>
                  <a:lnTo>
                    <a:pt x="75" y="2670"/>
                  </a:lnTo>
                  <a:lnTo>
                    <a:pt x="87" y="2591"/>
                  </a:lnTo>
                  <a:lnTo>
                    <a:pt x="95" y="2553"/>
                  </a:lnTo>
                  <a:lnTo>
                    <a:pt x="103" y="2516"/>
                  </a:lnTo>
                  <a:lnTo>
                    <a:pt x="112" y="2476"/>
                  </a:lnTo>
                  <a:lnTo>
                    <a:pt x="123" y="2435"/>
                  </a:lnTo>
                  <a:lnTo>
                    <a:pt x="137" y="2391"/>
                  </a:lnTo>
                  <a:lnTo>
                    <a:pt x="152" y="2345"/>
                  </a:lnTo>
                  <a:lnTo>
                    <a:pt x="169" y="2293"/>
                  </a:lnTo>
                  <a:lnTo>
                    <a:pt x="189" y="2237"/>
                  </a:lnTo>
                  <a:lnTo>
                    <a:pt x="194" y="2179"/>
                  </a:lnTo>
                  <a:lnTo>
                    <a:pt x="199" y="2115"/>
                  </a:lnTo>
                  <a:lnTo>
                    <a:pt x="207" y="2048"/>
                  </a:lnTo>
                  <a:lnTo>
                    <a:pt x="218" y="1977"/>
                  </a:lnTo>
                  <a:lnTo>
                    <a:pt x="229" y="1904"/>
                  </a:lnTo>
                  <a:lnTo>
                    <a:pt x="243" y="1830"/>
                  </a:lnTo>
                  <a:lnTo>
                    <a:pt x="259" y="1756"/>
                  </a:lnTo>
                  <a:lnTo>
                    <a:pt x="276" y="1682"/>
                  </a:lnTo>
                  <a:lnTo>
                    <a:pt x="285" y="1646"/>
                  </a:lnTo>
                  <a:lnTo>
                    <a:pt x="295" y="1610"/>
                  </a:lnTo>
                  <a:lnTo>
                    <a:pt x="305" y="1576"/>
                  </a:lnTo>
                  <a:lnTo>
                    <a:pt x="316" y="1541"/>
                  </a:lnTo>
                  <a:lnTo>
                    <a:pt x="327" y="1508"/>
                  </a:lnTo>
                  <a:lnTo>
                    <a:pt x="339" y="1475"/>
                  </a:lnTo>
                  <a:lnTo>
                    <a:pt x="351" y="1444"/>
                  </a:lnTo>
                  <a:lnTo>
                    <a:pt x="364" y="1415"/>
                  </a:lnTo>
                  <a:lnTo>
                    <a:pt x="377" y="1386"/>
                  </a:lnTo>
                  <a:lnTo>
                    <a:pt x="391" y="1359"/>
                  </a:lnTo>
                  <a:lnTo>
                    <a:pt x="405" y="1334"/>
                  </a:lnTo>
                  <a:lnTo>
                    <a:pt x="419" y="1311"/>
                  </a:lnTo>
                  <a:lnTo>
                    <a:pt x="434" y="1289"/>
                  </a:lnTo>
                  <a:lnTo>
                    <a:pt x="449" y="1270"/>
                  </a:lnTo>
                  <a:lnTo>
                    <a:pt x="465" y="1253"/>
                  </a:lnTo>
                  <a:lnTo>
                    <a:pt x="481" y="1238"/>
                  </a:lnTo>
                  <a:lnTo>
                    <a:pt x="500" y="1225"/>
                  </a:lnTo>
                  <a:lnTo>
                    <a:pt x="523" y="1215"/>
                  </a:lnTo>
                  <a:lnTo>
                    <a:pt x="547" y="1205"/>
                  </a:lnTo>
                  <a:lnTo>
                    <a:pt x="572" y="1196"/>
                  </a:lnTo>
                  <a:lnTo>
                    <a:pt x="598" y="1188"/>
                  </a:lnTo>
                  <a:lnTo>
                    <a:pt x="625" y="1180"/>
                  </a:lnTo>
                  <a:lnTo>
                    <a:pt x="651" y="1174"/>
                  </a:lnTo>
                  <a:lnTo>
                    <a:pt x="677" y="1167"/>
                  </a:lnTo>
                  <a:lnTo>
                    <a:pt x="726" y="1157"/>
                  </a:lnTo>
                  <a:lnTo>
                    <a:pt x="766" y="1149"/>
                  </a:lnTo>
                  <a:lnTo>
                    <a:pt x="781" y="1144"/>
                  </a:lnTo>
                  <a:lnTo>
                    <a:pt x="793" y="1141"/>
                  </a:lnTo>
                  <a:lnTo>
                    <a:pt x="798" y="1140"/>
                  </a:lnTo>
                  <a:lnTo>
                    <a:pt x="801" y="1138"/>
                  </a:lnTo>
                  <a:lnTo>
                    <a:pt x="804" y="1135"/>
                  </a:lnTo>
                  <a:lnTo>
                    <a:pt x="805" y="1134"/>
                  </a:lnTo>
                  <a:lnTo>
                    <a:pt x="804" y="1130"/>
                  </a:lnTo>
                  <a:lnTo>
                    <a:pt x="800" y="1126"/>
                  </a:lnTo>
                  <a:lnTo>
                    <a:pt x="796" y="1122"/>
                  </a:lnTo>
                  <a:lnTo>
                    <a:pt x="791" y="1117"/>
                  </a:lnTo>
                  <a:lnTo>
                    <a:pt x="777" y="1109"/>
                  </a:lnTo>
                  <a:lnTo>
                    <a:pt x="760" y="1100"/>
                  </a:lnTo>
                  <a:lnTo>
                    <a:pt x="741" y="1091"/>
                  </a:lnTo>
                  <a:lnTo>
                    <a:pt x="718" y="1082"/>
                  </a:lnTo>
                  <a:lnTo>
                    <a:pt x="694" y="1072"/>
                  </a:lnTo>
                  <a:lnTo>
                    <a:pt x="670" y="1063"/>
                  </a:lnTo>
                  <a:lnTo>
                    <a:pt x="663" y="1029"/>
                  </a:lnTo>
                  <a:lnTo>
                    <a:pt x="659" y="993"/>
                  </a:lnTo>
                  <a:lnTo>
                    <a:pt x="655" y="957"/>
                  </a:lnTo>
                  <a:lnTo>
                    <a:pt x="653" y="921"/>
                  </a:lnTo>
                  <a:lnTo>
                    <a:pt x="652" y="884"/>
                  </a:lnTo>
                  <a:lnTo>
                    <a:pt x="652" y="848"/>
                  </a:lnTo>
                  <a:lnTo>
                    <a:pt x="653" y="811"/>
                  </a:lnTo>
                  <a:lnTo>
                    <a:pt x="654" y="774"/>
                  </a:lnTo>
                  <a:lnTo>
                    <a:pt x="658" y="737"/>
                  </a:lnTo>
                  <a:lnTo>
                    <a:pt x="662" y="701"/>
                  </a:lnTo>
                  <a:lnTo>
                    <a:pt x="667" y="664"/>
                  </a:lnTo>
                  <a:lnTo>
                    <a:pt x="674" y="628"/>
                  </a:lnTo>
                  <a:lnTo>
                    <a:pt x="681" y="592"/>
                  </a:lnTo>
                  <a:lnTo>
                    <a:pt x="688" y="557"/>
                  </a:lnTo>
                  <a:lnTo>
                    <a:pt x="698" y="523"/>
                  </a:lnTo>
                  <a:lnTo>
                    <a:pt x="707" y="488"/>
                  </a:lnTo>
                  <a:lnTo>
                    <a:pt x="718" y="455"/>
                  </a:lnTo>
                  <a:lnTo>
                    <a:pt x="730" y="423"/>
                  </a:lnTo>
                  <a:lnTo>
                    <a:pt x="741" y="391"/>
                  </a:lnTo>
                  <a:lnTo>
                    <a:pt x="755" y="361"/>
                  </a:lnTo>
                  <a:lnTo>
                    <a:pt x="768" y="331"/>
                  </a:lnTo>
                  <a:lnTo>
                    <a:pt x="782" y="302"/>
                  </a:lnTo>
                  <a:lnTo>
                    <a:pt x="798" y="276"/>
                  </a:lnTo>
                  <a:lnTo>
                    <a:pt x="814" y="250"/>
                  </a:lnTo>
                  <a:lnTo>
                    <a:pt x="830" y="225"/>
                  </a:lnTo>
                  <a:lnTo>
                    <a:pt x="847" y="202"/>
                  </a:lnTo>
                  <a:lnTo>
                    <a:pt x="865" y="180"/>
                  </a:lnTo>
                  <a:lnTo>
                    <a:pt x="883" y="161"/>
                  </a:lnTo>
                  <a:lnTo>
                    <a:pt x="902" y="143"/>
                  </a:lnTo>
                  <a:lnTo>
                    <a:pt x="921" y="126"/>
                  </a:lnTo>
                  <a:lnTo>
                    <a:pt x="942" y="111"/>
                  </a:lnTo>
                  <a:lnTo>
                    <a:pt x="962" y="98"/>
                  </a:lnTo>
                  <a:lnTo>
                    <a:pt x="1008" y="72"/>
                  </a:lnTo>
                  <a:lnTo>
                    <a:pt x="1051" y="50"/>
                  </a:lnTo>
                  <a:lnTo>
                    <a:pt x="1070" y="41"/>
                  </a:lnTo>
                  <a:lnTo>
                    <a:pt x="1090" y="32"/>
                  </a:lnTo>
                  <a:lnTo>
                    <a:pt x="1108" y="25"/>
                  </a:lnTo>
                  <a:lnTo>
                    <a:pt x="1125" y="19"/>
                  </a:lnTo>
                  <a:lnTo>
                    <a:pt x="1142" y="14"/>
                  </a:lnTo>
                  <a:lnTo>
                    <a:pt x="1159" y="9"/>
                  </a:lnTo>
                  <a:lnTo>
                    <a:pt x="1175" y="6"/>
                  </a:lnTo>
                  <a:lnTo>
                    <a:pt x="1191" y="3"/>
                  </a:lnTo>
                  <a:lnTo>
                    <a:pt x="1206" y="1"/>
                  </a:lnTo>
                  <a:lnTo>
                    <a:pt x="1222" y="0"/>
                  </a:lnTo>
                  <a:lnTo>
                    <a:pt x="1237" y="0"/>
                  </a:lnTo>
                  <a:lnTo>
                    <a:pt x="1252" y="0"/>
                  </a:lnTo>
                  <a:lnTo>
                    <a:pt x="1266" y="1"/>
                  </a:lnTo>
                  <a:lnTo>
                    <a:pt x="1282" y="3"/>
                  </a:lnTo>
                  <a:lnTo>
                    <a:pt x="1297" y="6"/>
                  </a:lnTo>
                  <a:lnTo>
                    <a:pt x="1313" y="9"/>
                  </a:lnTo>
                  <a:lnTo>
                    <a:pt x="1345" y="18"/>
                  </a:lnTo>
                  <a:lnTo>
                    <a:pt x="1379" y="29"/>
                  </a:lnTo>
                  <a:lnTo>
                    <a:pt x="1457" y="57"/>
                  </a:lnTo>
                  <a:lnTo>
                    <a:pt x="1548" y="91"/>
                  </a:lnTo>
                  <a:lnTo>
                    <a:pt x="1564" y="116"/>
                  </a:lnTo>
                  <a:lnTo>
                    <a:pt x="1579" y="144"/>
                  </a:lnTo>
                  <a:lnTo>
                    <a:pt x="1594" y="170"/>
                  </a:lnTo>
                  <a:lnTo>
                    <a:pt x="1608" y="199"/>
                  </a:lnTo>
                  <a:lnTo>
                    <a:pt x="1621" y="226"/>
                  </a:lnTo>
                  <a:lnTo>
                    <a:pt x="1635" y="256"/>
                  </a:lnTo>
                  <a:lnTo>
                    <a:pt x="1647" y="284"/>
                  </a:lnTo>
                  <a:lnTo>
                    <a:pt x="1659" y="314"/>
                  </a:lnTo>
                  <a:lnTo>
                    <a:pt x="1681" y="374"/>
                  </a:lnTo>
                  <a:lnTo>
                    <a:pt x="1702" y="437"/>
                  </a:lnTo>
                  <a:lnTo>
                    <a:pt x="1721" y="500"/>
                  </a:lnTo>
                  <a:lnTo>
                    <a:pt x="1738" y="564"/>
                  </a:lnTo>
                  <a:lnTo>
                    <a:pt x="1754" y="629"/>
                  </a:lnTo>
                  <a:lnTo>
                    <a:pt x="1769" y="694"/>
                  </a:lnTo>
                  <a:lnTo>
                    <a:pt x="1783" y="760"/>
                  </a:lnTo>
                  <a:lnTo>
                    <a:pt x="1795" y="825"/>
                  </a:lnTo>
                  <a:lnTo>
                    <a:pt x="1817" y="955"/>
                  </a:lnTo>
                  <a:lnTo>
                    <a:pt x="1838" y="1080"/>
                  </a:lnTo>
                  <a:lnTo>
                    <a:pt x="1838" y="1084"/>
                  </a:lnTo>
                  <a:lnTo>
                    <a:pt x="1836" y="1087"/>
                  </a:lnTo>
                  <a:lnTo>
                    <a:pt x="1834" y="1090"/>
                  </a:lnTo>
                  <a:lnTo>
                    <a:pt x="1831" y="1093"/>
                  </a:lnTo>
                  <a:lnTo>
                    <a:pt x="1822" y="1099"/>
                  </a:lnTo>
                  <a:lnTo>
                    <a:pt x="1810" y="1103"/>
                  </a:lnTo>
                  <a:lnTo>
                    <a:pt x="1779" y="1115"/>
                  </a:lnTo>
                  <a:lnTo>
                    <a:pt x="1744" y="1124"/>
                  </a:lnTo>
                  <a:lnTo>
                    <a:pt x="1708" y="1134"/>
                  </a:lnTo>
                  <a:lnTo>
                    <a:pt x="1677" y="1143"/>
                  </a:lnTo>
                  <a:lnTo>
                    <a:pt x="1664" y="1149"/>
                  </a:lnTo>
                  <a:lnTo>
                    <a:pt x="1654" y="1153"/>
                  </a:lnTo>
                  <a:lnTo>
                    <a:pt x="1651" y="1157"/>
                  </a:lnTo>
                  <a:lnTo>
                    <a:pt x="1648" y="1159"/>
                  </a:lnTo>
                  <a:lnTo>
                    <a:pt x="1647" y="1163"/>
                  </a:lnTo>
                  <a:lnTo>
                    <a:pt x="1647" y="1165"/>
                  </a:lnTo>
                  <a:lnTo>
                    <a:pt x="1665" y="1164"/>
                  </a:lnTo>
                  <a:lnTo>
                    <a:pt x="1686" y="1164"/>
                  </a:lnTo>
                  <a:lnTo>
                    <a:pt x="1708" y="1164"/>
                  </a:lnTo>
                  <a:lnTo>
                    <a:pt x="1732" y="1165"/>
                  </a:lnTo>
                  <a:lnTo>
                    <a:pt x="1784" y="1168"/>
                  </a:lnTo>
                  <a:lnTo>
                    <a:pt x="1840" y="1175"/>
                  </a:lnTo>
                  <a:lnTo>
                    <a:pt x="1900" y="1183"/>
                  </a:lnTo>
                  <a:lnTo>
                    <a:pt x="1964" y="1193"/>
                  </a:lnTo>
                  <a:lnTo>
                    <a:pt x="2029" y="1205"/>
                  </a:lnTo>
                  <a:lnTo>
                    <a:pt x="2094" y="1216"/>
                  </a:lnTo>
                  <a:lnTo>
                    <a:pt x="2223" y="1242"/>
                  </a:lnTo>
                  <a:lnTo>
                    <a:pt x="2340" y="1266"/>
                  </a:lnTo>
                  <a:lnTo>
                    <a:pt x="2441" y="1287"/>
                  </a:lnTo>
                  <a:lnTo>
                    <a:pt x="2512" y="1301"/>
                  </a:lnTo>
                  <a:lnTo>
                    <a:pt x="2539" y="1309"/>
                  </a:lnTo>
                  <a:lnTo>
                    <a:pt x="2571" y="1318"/>
                  </a:lnTo>
                  <a:lnTo>
                    <a:pt x="2606" y="1327"/>
                  </a:lnTo>
                  <a:lnTo>
                    <a:pt x="2646" y="1337"/>
                  </a:lnTo>
                  <a:lnTo>
                    <a:pt x="2688" y="1346"/>
                  </a:lnTo>
                  <a:lnTo>
                    <a:pt x="2734" y="1357"/>
                  </a:lnTo>
                  <a:lnTo>
                    <a:pt x="2780" y="1366"/>
                  </a:lnTo>
                  <a:lnTo>
                    <a:pt x="2828" y="1375"/>
                  </a:lnTo>
                  <a:lnTo>
                    <a:pt x="2876" y="1383"/>
                  </a:lnTo>
                  <a:lnTo>
                    <a:pt x="2923" y="1390"/>
                  </a:lnTo>
                  <a:lnTo>
                    <a:pt x="2970" y="1395"/>
                  </a:lnTo>
                  <a:lnTo>
                    <a:pt x="3014" y="1399"/>
                  </a:lnTo>
                  <a:lnTo>
                    <a:pt x="3056" y="1401"/>
                  </a:lnTo>
                  <a:lnTo>
                    <a:pt x="3094" y="1401"/>
                  </a:lnTo>
                  <a:lnTo>
                    <a:pt x="3112" y="1401"/>
                  </a:lnTo>
                  <a:lnTo>
                    <a:pt x="3129" y="1399"/>
                  </a:lnTo>
                  <a:lnTo>
                    <a:pt x="3145" y="1398"/>
                  </a:lnTo>
                  <a:lnTo>
                    <a:pt x="3159" y="1394"/>
                  </a:lnTo>
                  <a:lnTo>
                    <a:pt x="3185" y="1393"/>
                  </a:lnTo>
                  <a:lnTo>
                    <a:pt x="3209" y="1392"/>
                  </a:lnTo>
                  <a:lnTo>
                    <a:pt x="3232" y="1393"/>
                  </a:lnTo>
                  <a:lnTo>
                    <a:pt x="3253" y="1396"/>
                  </a:lnTo>
                  <a:lnTo>
                    <a:pt x="3273" y="1400"/>
                  </a:lnTo>
                  <a:lnTo>
                    <a:pt x="3292" y="1406"/>
                  </a:lnTo>
                  <a:lnTo>
                    <a:pt x="3309" y="1412"/>
                  </a:lnTo>
                  <a:lnTo>
                    <a:pt x="3325" y="1419"/>
                  </a:lnTo>
                  <a:lnTo>
                    <a:pt x="3339" y="1428"/>
                  </a:lnTo>
                  <a:lnTo>
                    <a:pt x="3352" y="1438"/>
                  </a:lnTo>
                  <a:lnTo>
                    <a:pt x="3362" y="1447"/>
                  </a:lnTo>
                  <a:lnTo>
                    <a:pt x="3372" y="1457"/>
                  </a:lnTo>
                  <a:lnTo>
                    <a:pt x="3379" y="1468"/>
                  </a:lnTo>
                  <a:lnTo>
                    <a:pt x="3385" y="1480"/>
                  </a:lnTo>
                  <a:lnTo>
                    <a:pt x="3388" y="1491"/>
                  </a:lnTo>
                  <a:lnTo>
                    <a:pt x="3390" y="1503"/>
                  </a:lnTo>
                  <a:lnTo>
                    <a:pt x="3390" y="1514"/>
                  </a:lnTo>
                  <a:lnTo>
                    <a:pt x="3389" y="1525"/>
                  </a:lnTo>
                  <a:lnTo>
                    <a:pt x="3385" y="1537"/>
                  </a:lnTo>
                  <a:lnTo>
                    <a:pt x="3379" y="1548"/>
                  </a:lnTo>
                  <a:lnTo>
                    <a:pt x="3371" y="1558"/>
                  </a:lnTo>
                  <a:lnTo>
                    <a:pt x="3361" y="1569"/>
                  </a:lnTo>
                  <a:lnTo>
                    <a:pt x="3349" y="1578"/>
                  </a:lnTo>
                  <a:lnTo>
                    <a:pt x="3334" y="1587"/>
                  </a:lnTo>
                  <a:lnTo>
                    <a:pt x="3318" y="1595"/>
                  </a:lnTo>
                  <a:lnTo>
                    <a:pt x="3299" y="1601"/>
                  </a:lnTo>
                  <a:lnTo>
                    <a:pt x="3277" y="1606"/>
                  </a:lnTo>
                  <a:lnTo>
                    <a:pt x="3255" y="1611"/>
                  </a:lnTo>
                  <a:lnTo>
                    <a:pt x="3228" y="1614"/>
                  </a:lnTo>
                  <a:lnTo>
                    <a:pt x="3200" y="1616"/>
                  </a:lnTo>
                  <a:lnTo>
                    <a:pt x="3169" y="1616"/>
                  </a:lnTo>
                  <a:lnTo>
                    <a:pt x="3135" y="1614"/>
                  </a:lnTo>
                  <a:lnTo>
                    <a:pt x="3163" y="1617"/>
                  </a:lnTo>
                  <a:lnTo>
                    <a:pt x="3190" y="1621"/>
                  </a:lnTo>
                  <a:lnTo>
                    <a:pt x="3214" y="1626"/>
                  </a:lnTo>
                  <a:lnTo>
                    <a:pt x="3236" y="1632"/>
                  </a:lnTo>
                  <a:lnTo>
                    <a:pt x="3257" y="1639"/>
                  </a:lnTo>
                  <a:lnTo>
                    <a:pt x="3276" y="1647"/>
                  </a:lnTo>
                  <a:lnTo>
                    <a:pt x="3293" y="1655"/>
                  </a:lnTo>
                  <a:lnTo>
                    <a:pt x="3309" y="1665"/>
                  </a:lnTo>
                  <a:lnTo>
                    <a:pt x="3323" y="1675"/>
                  </a:lnTo>
                  <a:lnTo>
                    <a:pt x="3336" y="1685"/>
                  </a:lnTo>
                  <a:lnTo>
                    <a:pt x="3346" y="1695"/>
                  </a:lnTo>
                  <a:lnTo>
                    <a:pt x="3354" y="1707"/>
                  </a:lnTo>
                  <a:lnTo>
                    <a:pt x="3361" y="1717"/>
                  </a:lnTo>
                  <a:lnTo>
                    <a:pt x="3365" y="1728"/>
                  </a:lnTo>
                  <a:lnTo>
                    <a:pt x="3369" y="1740"/>
                  </a:lnTo>
                  <a:lnTo>
                    <a:pt x="3370" y="1751"/>
                  </a:lnTo>
                  <a:lnTo>
                    <a:pt x="3369" y="1762"/>
                  </a:lnTo>
                  <a:lnTo>
                    <a:pt x="3366" y="1773"/>
                  </a:lnTo>
                  <a:lnTo>
                    <a:pt x="3362" y="1783"/>
                  </a:lnTo>
                  <a:lnTo>
                    <a:pt x="3356" y="1792"/>
                  </a:lnTo>
                  <a:lnTo>
                    <a:pt x="3347" y="1802"/>
                  </a:lnTo>
                  <a:lnTo>
                    <a:pt x="3338" y="1811"/>
                  </a:lnTo>
                  <a:lnTo>
                    <a:pt x="3325" y="1819"/>
                  </a:lnTo>
                  <a:lnTo>
                    <a:pt x="3312" y="1825"/>
                  </a:lnTo>
                  <a:lnTo>
                    <a:pt x="3296" y="1831"/>
                  </a:lnTo>
                  <a:lnTo>
                    <a:pt x="3277" y="1836"/>
                  </a:lnTo>
                  <a:lnTo>
                    <a:pt x="3258" y="1840"/>
                  </a:lnTo>
                  <a:lnTo>
                    <a:pt x="3236" y="1843"/>
                  </a:lnTo>
                  <a:lnTo>
                    <a:pt x="3212" y="1844"/>
                  </a:lnTo>
                  <a:lnTo>
                    <a:pt x="3187" y="1844"/>
                  </a:lnTo>
                  <a:lnTo>
                    <a:pt x="3160" y="1843"/>
                  </a:lnTo>
                  <a:lnTo>
                    <a:pt x="3130" y="1839"/>
                  </a:lnTo>
                  <a:lnTo>
                    <a:pt x="3158" y="1846"/>
                  </a:lnTo>
                  <a:lnTo>
                    <a:pt x="3183" y="1853"/>
                  </a:lnTo>
                  <a:lnTo>
                    <a:pt x="3204" y="1862"/>
                  </a:lnTo>
                  <a:lnTo>
                    <a:pt x="3224" y="1871"/>
                  </a:lnTo>
                  <a:lnTo>
                    <a:pt x="3241" y="1883"/>
                  </a:lnTo>
                  <a:lnTo>
                    <a:pt x="3255" y="1893"/>
                  </a:lnTo>
                  <a:lnTo>
                    <a:pt x="3267" y="1904"/>
                  </a:lnTo>
                  <a:lnTo>
                    <a:pt x="3277" y="1917"/>
                  </a:lnTo>
                  <a:lnTo>
                    <a:pt x="3284" y="1929"/>
                  </a:lnTo>
                  <a:lnTo>
                    <a:pt x="3290" y="1942"/>
                  </a:lnTo>
                  <a:lnTo>
                    <a:pt x="3293" y="1954"/>
                  </a:lnTo>
                  <a:lnTo>
                    <a:pt x="3295" y="1968"/>
                  </a:lnTo>
                  <a:lnTo>
                    <a:pt x="3295" y="1981"/>
                  </a:lnTo>
                  <a:lnTo>
                    <a:pt x="3292" y="1994"/>
                  </a:lnTo>
                  <a:lnTo>
                    <a:pt x="3288" y="2007"/>
                  </a:lnTo>
                  <a:lnTo>
                    <a:pt x="3282" y="2019"/>
                  </a:lnTo>
                  <a:lnTo>
                    <a:pt x="3274" y="2031"/>
                  </a:lnTo>
                  <a:lnTo>
                    <a:pt x="3265" y="2042"/>
                  </a:lnTo>
                  <a:lnTo>
                    <a:pt x="3255" y="2054"/>
                  </a:lnTo>
                  <a:lnTo>
                    <a:pt x="3243" y="2064"/>
                  </a:lnTo>
                  <a:lnTo>
                    <a:pt x="3230" y="2074"/>
                  </a:lnTo>
                  <a:lnTo>
                    <a:pt x="3215" y="2082"/>
                  </a:lnTo>
                  <a:lnTo>
                    <a:pt x="3199" y="2090"/>
                  </a:lnTo>
                  <a:lnTo>
                    <a:pt x="3182" y="2097"/>
                  </a:lnTo>
                  <a:lnTo>
                    <a:pt x="3163" y="2102"/>
                  </a:lnTo>
                  <a:lnTo>
                    <a:pt x="3144" y="2106"/>
                  </a:lnTo>
                  <a:lnTo>
                    <a:pt x="3125" y="2110"/>
                  </a:lnTo>
                  <a:lnTo>
                    <a:pt x="3103" y="2111"/>
                  </a:lnTo>
                  <a:lnTo>
                    <a:pt x="3081" y="2111"/>
                  </a:lnTo>
                  <a:lnTo>
                    <a:pt x="3059" y="2108"/>
                  </a:lnTo>
                  <a:lnTo>
                    <a:pt x="3036" y="2105"/>
                  </a:lnTo>
                  <a:lnTo>
                    <a:pt x="3012" y="2099"/>
                  </a:lnTo>
                  <a:lnTo>
                    <a:pt x="2987" y="2099"/>
                  </a:lnTo>
                  <a:lnTo>
                    <a:pt x="2962" y="2097"/>
                  </a:lnTo>
                  <a:lnTo>
                    <a:pt x="2934" y="2094"/>
                  </a:lnTo>
                  <a:lnTo>
                    <a:pt x="2907" y="2089"/>
                  </a:lnTo>
                  <a:lnTo>
                    <a:pt x="2880" y="2083"/>
                  </a:lnTo>
                  <a:lnTo>
                    <a:pt x="2850" y="2076"/>
                  </a:lnTo>
                  <a:lnTo>
                    <a:pt x="2820" y="2067"/>
                  </a:lnTo>
                  <a:lnTo>
                    <a:pt x="2791" y="2058"/>
                  </a:lnTo>
                  <a:lnTo>
                    <a:pt x="2760" y="2047"/>
                  </a:lnTo>
                  <a:lnTo>
                    <a:pt x="2729" y="2035"/>
                  </a:lnTo>
                  <a:lnTo>
                    <a:pt x="2698" y="2022"/>
                  </a:lnTo>
                  <a:lnTo>
                    <a:pt x="2666" y="2008"/>
                  </a:lnTo>
                  <a:lnTo>
                    <a:pt x="2634" y="1993"/>
                  </a:lnTo>
                  <a:lnTo>
                    <a:pt x="2601" y="1976"/>
                  </a:lnTo>
                  <a:lnTo>
                    <a:pt x="2569" y="1959"/>
                  </a:lnTo>
                  <a:lnTo>
                    <a:pt x="2536" y="1941"/>
                  </a:lnTo>
                  <a:lnTo>
                    <a:pt x="2502" y="1929"/>
                  </a:lnTo>
                  <a:lnTo>
                    <a:pt x="2465" y="1917"/>
                  </a:lnTo>
                  <a:lnTo>
                    <a:pt x="2425" y="1903"/>
                  </a:lnTo>
                  <a:lnTo>
                    <a:pt x="2381" y="1887"/>
                  </a:lnTo>
                  <a:lnTo>
                    <a:pt x="2337" y="1871"/>
                  </a:lnTo>
                  <a:lnTo>
                    <a:pt x="2290" y="1855"/>
                  </a:lnTo>
                  <a:lnTo>
                    <a:pt x="2241" y="1839"/>
                  </a:lnTo>
                  <a:lnTo>
                    <a:pt x="2191" y="1824"/>
                  </a:lnTo>
                  <a:lnTo>
                    <a:pt x="2141" y="1809"/>
                  </a:lnTo>
                  <a:lnTo>
                    <a:pt x="2090" y="1797"/>
                  </a:lnTo>
                  <a:lnTo>
                    <a:pt x="2063" y="1791"/>
                  </a:lnTo>
                  <a:lnTo>
                    <a:pt x="2038" y="1786"/>
                  </a:lnTo>
                  <a:lnTo>
                    <a:pt x="2012" y="1781"/>
                  </a:lnTo>
                  <a:lnTo>
                    <a:pt x="1986" y="1778"/>
                  </a:lnTo>
                  <a:lnTo>
                    <a:pt x="1961" y="1774"/>
                  </a:lnTo>
                  <a:lnTo>
                    <a:pt x="1935" y="1772"/>
                  </a:lnTo>
                  <a:lnTo>
                    <a:pt x="1909" y="1770"/>
                  </a:lnTo>
                  <a:lnTo>
                    <a:pt x="1884" y="1770"/>
                  </a:lnTo>
                  <a:lnTo>
                    <a:pt x="1859" y="1770"/>
                  </a:lnTo>
                  <a:lnTo>
                    <a:pt x="1835" y="1771"/>
                  </a:lnTo>
                  <a:lnTo>
                    <a:pt x="1810" y="1773"/>
                  </a:lnTo>
                  <a:lnTo>
                    <a:pt x="1786" y="1776"/>
                  </a:lnTo>
                  <a:lnTo>
                    <a:pt x="1786" y="1831"/>
                  </a:lnTo>
                  <a:lnTo>
                    <a:pt x="1784" y="1887"/>
                  </a:lnTo>
                  <a:lnTo>
                    <a:pt x="1782" y="1944"/>
                  </a:lnTo>
                  <a:lnTo>
                    <a:pt x="1779" y="2002"/>
                  </a:lnTo>
                  <a:lnTo>
                    <a:pt x="1774" y="2119"/>
                  </a:lnTo>
                  <a:lnTo>
                    <a:pt x="1768" y="2234"/>
                  </a:lnTo>
                  <a:lnTo>
                    <a:pt x="1766" y="2291"/>
                  </a:lnTo>
                  <a:lnTo>
                    <a:pt x="1765" y="2347"/>
                  </a:lnTo>
                  <a:lnTo>
                    <a:pt x="1765" y="2400"/>
                  </a:lnTo>
                  <a:lnTo>
                    <a:pt x="1766" y="2453"/>
                  </a:lnTo>
                  <a:lnTo>
                    <a:pt x="1768" y="2503"/>
                  </a:lnTo>
                  <a:lnTo>
                    <a:pt x="1771" y="2551"/>
                  </a:lnTo>
                  <a:lnTo>
                    <a:pt x="1775" y="2574"/>
                  </a:lnTo>
                  <a:lnTo>
                    <a:pt x="1778" y="2596"/>
                  </a:lnTo>
                  <a:lnTo>
                    <a:pt x="1782" y="2617"/>
                  </a:lnTo>
                  <a:lnTo>
                    <a:pt x="1786" y="2638"/>
                  </a:lnTo>
                  <a:lnTo>
                    <a:pt x="1848" y="2804"/>
                  </a:lnTo>
                  <a:lnTo>
                    <a:pt x="1909" y="2973"/>
                  </a:lnTo>
                  <a:lnTo>
                    <a:pt x="1971" y="3145"/>
                  </a:lnTo>
                  <a:lnTo>
                    <a:pt x="2031" y="3319"/>
                  </a:lnTo>
                  <a:lnTo>
                    <a:pt x="2090" y="3491"/>
                  </a:lnTo>
                  <a:lnTo>
                    <a:pt x="2145" y="3662"/>
                  </a:lnTo>
                  <a:lnTo>
                    <a:pt x="2172" y="3748"/>
                  </a:lnTo>
                  <a:lnTo>
                    <a:pt x="2198" y="3831"/>
                  </a:lnTo>
                  <a:lnTo>
                    <a:pt x="2222" y="3913"/>
                  </a:lnTo>
                  <a:lnTo>
                    <a:pt x="2246" y="3994"/>
                  </a:lnTo>
                  <a:lnTo>
                    <a:pt x="2269" y="4074"/>
                  </a:lnTo>
                  <a:lnTo>
                    <a:pt x="2289" y="4153"/>
                  </a:lnTo>
                  <a:lnTo>
                    <a:pt x="2310" y="4229"/>
                  </a:lnTo>
                  <a:lnTo>
                    <a:pt x="2328" y="4303"/>
                  </a:lnTo>
                  <a:lnTo>
                    <a:pt x="2344" y="4375"/>
                  </a:lnTo>
                  <a:lnTo>
                    <a:pt x="2359" y="4446"/>
                  </a:lnTo>
                  <a:lnTo>
                    <a:pt x="2372" y="4513"/>
                  </a:lnTo>
                  <a:lnTo>
                    <a:pt x="2384" y="4577"/>
                  </a:lnTo>
                  <a:lnTo>
                    <a:pt x="2394" y="4640"/>
                  </a:lnTo>
                  <a:lnTo>
                    <a:pt x="2401" y="4698"/>
                  </a:lnTo>
                  <a:lnTo>
                    <a:pt x="2406" y="4754"/>
                  </a:lnTo>
                  <a:lnTo>
                    <a:pt x="2410" y="4807"/>
                  </a:lnTo>
                  <a:lnTo>
                    <a:pt x="2411" y="4856"/>
                  </a:lnTo>
                  <a:lnTo>
                    <a:pt x="2410" y="4901"/>
                  </a:lnTo>
                  <a:lnTo>
                    <a:pt x="2405" y="4942"/>
                  </a:lnTo>
                  <a:lnTo>
                    <a:pt x="2400" y="4980"/>
                  </a:lnTo>
                  <a:lnTo>
                    <a:pt x="2344" y="5001"/>
                  </a:lnTo>
                  <a:lnTo>
                    <a:pt x="2288" y="5019"/>
                  </a:lnTo>
                  <a:lnTo>
                    <a:pt x="2231" y="5034"/>
                  </a:lnTo>
                  <a:lnTo>
                    <a:pt x="2173" y="5046"/>
                  </a:lnTo>
                  <a:lnTo>
                    <a:pt x="2113" y="5058"/>
                  </a:lnTo>
                  <a:lnTo>
                    <a:pt x="2053" y="5066"/>
                  </a:lnTo>
                  <a:lnTo>
                    <a:pt x="1993" y="5071"/>
                  </a:lnTo>
                  <a:lnTo>
                    <a:pt x="1931" y="5076"/>
                  </a:lnTo>
                  <a:lnTo>
                    <a:pt x="1870" y="5078"/>
                  </a:lnTo>
                  <a:lnTo>
                    <a:pt x="1807" y="5079"/>
                  </a:lnTo>
                  <a:lnTo>
                    <a:pt x="1744" y="5079"/>
                  </a:lnTo>
                  <a:lnTo>
                    <a:pt x="1681" y="5078"/>
                  </a:lnTo>
                  <a:lnTo>
                    <a:pt x="1618" y="5075"/>
                  </a:lnTo>
                  <a:lnTo>
                    <a:pt x="1554" y="5071"/>
                  </a:lnTo>
                  <a:lnTo>
                    <a:pt x="1490" y="5067"/>
                  </a:lnTo>
                  <a:lnTo>
                    <a:pt x="1426" y="5062"/>
                  </a:lnTo>
                  <a:lnTo>
                    <a:pt x="1298" y="5051"/>
                  </a:lnTo>
                  <a:lnTo>
                    <a:pt x="1172" y="5039"/>
                  </a:lnTo>
                  <a:lnTo>
                    <a:pt x="1045" y="5028"/>
                  </a:lnTo>
                  <a:lnTo>
                    <a:pt x="921" y="5020"/>
                  </a:lnTo>
                  <a:lnTo>
                    <a:pt x="859" y="5017"/>
                  </a:lnTo>
                  <a:lnTo>
                    <a:pt x="799" y="5013"/>
                  </a:lnTo>
                  <a:lnTo>
                    <a:pt x="740" y="5012"/>
                  </a:lnTo>
                  <a:lnTo>
                    <a:pt x="681" y="5012"/>
                  </a:lnTo>
                  <a:lnTo>
                    <a:pt x="622" y="5014"/>
                  </a:lnTo>
                  <a:lnTo>
                    <a:pt x="565" y="5017"/>
                  </a:lnTo>
                  <a:lnTo>
                    <a:pt x="510" y="5021"/>
                  </a:lnTo>
                  <a:lnTo>
                    <a:pt x="455" y="5028"/>
                  </a:lnTo>
                  <a:lnTo>
                    <a:pt x="448" y="4953"/>
                  </a:lnTo>
                  <a:lnTo>
                    <a:pt x="445" y="4873"/>
                  </a:lnTo>
                  <a:lnTo>
                    <a:pt x="445" y="4791"/>
                  </a:lnTo>
                  <a:lnTo>
                    <a:pt x="447" y="4704"/>
                  </a:lnTo>
                  <a:lnTo>
                    <a:pt x="453" y="4615"/>
                  </a:lnTo>
                  <a:lnTo>
                    <a:pt x="459" y="4524"/>
                  </a:lnTo>
                  <a:lnTo>
                    <a:pt x="470" y="4430"/>
                  </a:lnTo>
                  <a:lnTo>
                    <a:pt x="481" y="4334"/>
                  </a:lnTo>
                  <a:lnTo>
                    <a:pt x="495" y="4236"/>
                  </a:lnTo>
                  <a:lnTo>
                    <a:pt x="510" y="4138"/>
                  </a:lnTo>
                  <a:lnTo>
                    <a:pt x="525" y="4038"/>
                  </a:lnTo>
                  <a:lnTo>
                    <a:pt x="543" y="3937"/>
                  </a:lnTo>
                  <a:lnTo>
                    <a:pt x="579" y="3736"/>
                  </a:lnTo>
                  <a:lnTo>
                    <a:pt x="617" y="3536"/>
                  </a:lnTo>
                  <a:lnTo>
                    <a:pt x="652" y="3338"/>
                  </a:lnTo>
                  <a:lnTo>
                    <a:pt x="686" y="3147"/>
                  </a:lnTo>
                  <a:lnTo>
                    <a:pt x="701" y="3054"/>
                  </a:lnTo>
                  <a:lnTo>
                    <a:pt x="715" y="2965"/>
                  </a:lnTo>
                  <a:lnTo>
                    <a:pt x="726" y="2877"/>
                  </a:lnTo>
                  <a:lnTo>
                    <a:pt x="736" y="2793"/>
                  </a:lnTo>
                  <a:lnTo>
                    <a:pt x="744" y="2712"/>
                  </a:lnTo>
                  <a:lnTo>
                    <a:pt x="749" y="2635"/>
                  </a:lnTo>
                  <a:lnTo>
                    <a:pt x="752" y="2562"/>
                  </a:lnTo>
                  <a:lnTo>
                    <a:pt x="752" y="2494"/>
                  </a:lnTo>
                  <a:lnTo>
                    <a:pt x="749" y="2430"/>
                  </a:lnTo>
                  <a:lnTo>
                    <a:pt x="742" y="2371"/>
                  </a:lnTo>
                  <a:lnTo>
                    <a:pt x="732" y="2317"/>
                  </a:lnTo>
                  <a:lnTo>
                    <a:pt x="718" y="226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4010040" y="4613400"/>
              <a:ext cx="50760" cy="263520"/>
            </a:xfrm>
            <a:custGeom>
              <a:avLst/>
              <a:gdLst/>
              <a:ahLst/>
              <a:rect l="l" t="t" r="r" b="b"/>
              <a:pathLst>
                <a:path w="161" h="829">
                  <a:moveTo>
                    <a:pt x="68" y="793"/>
                  </a:moveTo>
                  <a:lnTo>
                    <a:pt x="68" y="795"/>
                  </a:lnTo>
                  <a:lnTo>
                    <a:pt x="68" y="766"/>
                  </a:lnTo>
                  <a:lnTo>
                    <a:pt x="70" y="731"/>
                  </a:lnTo>
                  <a:lnTo>
                    <a:pt x="73" y="693"/>
                  </a:lnTo>
                  <a:lnTo>
                    <a:pt x="78" y="649"/>
                  </a:lnTo>
                  <a:lnTo>
                    <a:pt x="92" y="554"/>
                  </a:lnTo>
                  <a:lnTo>
                    <a:pt x="106" y="449"/>
                  </a:lnTo>
                  <a:lnTo>
                    <a:pt x="124" y="338"/>
                  </a:lnTo>
                  <a:lnTo>
                    <a:pt x="140" y="225"/>
                  </a:lnTo>
                  <a:lnTo>
                    <a:pt x="146" y="168"/>
                  </a:lnTo>
                  <a:lnTo>
                    <a:pt x="152" y="112"/>
                  </a:lnTo>
                  <a:lnTo>
                    <a:pt x="158" y="57"/>
                  </a:lnTo>
                  <a:lnTo>
                    <a:pt x="161" y="3"/>
                  </a:lnTo>
                  <a:lnTo>
                    <a:pt x="94" y="0"/>
                  </a:lnTo>
                  <a:lnTo>
                    <a:pt x="91" y="51"/>
                  </a:lnTo>
                  <a:lnTo>
                    <a:pt x="85" y="105"/>
                  </a:lnTo>
                  <a:lnTo>
                    <a:pt x="79" y="160"/>
                  </a:lnTo>
                  <a:lnTo>
                    <a:pt x="72" y="216"/>
                  </a:lnTo>
                  <a:lnTo>
                    <a:pt x="56" y="329"/>
                  </a:lnTo>
                  <a:lnTo>
                    <a:pt x="40" y="439"/>
                  </a:lnTo>
                  <a:lnTo>
                    <a:pt x="24" y="544"/>
                  </a:lnTo>
                  <a:lnTo>
                    <a:pt x="12" y="641"/>
                  </a:lnTo>
                  <a:lnTo>
                    <a:pt x="6" y="686"/>
                  </a:lnTo>
                  <a:lnTo>
                    <a:pt x="3" y="727"/>
                  </a:lnTo>
                  <a:lnTo>
                    <a:pt x="0" y="763"/>
                  </a:lnTo>
                  <a:lnTo>
                    <a:pt x="0" y="796"/>
                  </a:lnTo>
                  <a:lnTo>
                    <a:pt x="0" y="800"/>
                  </a:lnTo>
                  <a:lnTo>
                    <a:pt x="0" y="796"/>
                  </a:lnTo>
                  <a:lnTo>
                    <a:pt x="0" y="804"/>
                  </a:lnTo>
                  <a:lnTo>
                    <a:pt x="3" y="811"/>
                  </a:lnTo>
                  <a:lnTo>
                    <a:pt x="6" y="817"/>
                  </a:lnTo>
                  <a:lnTo>
                    <a:pt x="11" y="821"/>
                  </a:lnTo>
                  <a:lnTo>
                    <a:pt x="16" y="825"/>
                  </a:lnTo>
                  <a:lnTo>
                    <a:pt x="22" y="828"/>
                  </a:lnTo>
                  <a:lnTo>
                    <a:pt x="28" y="829"/>
                  </a:lnTo>
                  <a:lnTo>
                    <a:pt x="35" y="829"/>
                  </a:lnTo>
                  <a:lnTo>
                    <a:pt x="40" y="829"/>
                  </a:lnTo>
                  <a:lnTo>
                    <a:pt x="46" y="827"/>
                  </a:lnTo>
                  <a:lnTo>
                    <a:pt x="52" y="825"/>
                  </a:lnTo>
                  <a:lnTo>
                    <a:pt x="57" y="821"/>
                  </a:lnTo>
                  <a:lnTo>
                    <a:pt x="61" y="816"/>
                  </a:lnTo>
                  <a:lnTo>
                    <a:pt x="64" y="810"/>
                  </a:lnTo>
                  <a:lnTo>
                    <a:pt x="67" y="803"/>
                  </a:lnTo>
                  <a:lnTo>
                    <a:pt x="68" y="795"/>
                  </a:lnTo>
                  <a:lnTo>
                    <a:pt x="68" y="7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3948120" y="4863960"/>
              <a:ext cx="84240" cy="87480"/>
            </a:xfrm>
            <a:custGeom>
              <a:avLst/>
              <a:gdLst/>
              <a:ahLst/>
              <a:rect l="l" t="t" r="r" b="b"/>
              <a:pathLst>
                <a:path w="263" h="271">
                  <a:moveTo>
                    <a:pt x="67" y="67"/>
                  </a:moveTo>
                  <a:lnTo>
                    <a:pt x="1" y="72"/>
                  </a:lnTo>
                  <a:lnTo>
                    <a:pt x="4" y="96"/>
                  </a:lnTo>
                  <a:lnTo>
                    <a:pt x="8" y="119"/>
                  </a:lnTo>
                  <a:lnTo>
                    <a:pt x="13" y="139"/>
                  </a:lnTo>
                  <a:lnTo>
                    <a:pt x="20" y="160"/>
                  </a:lnTo>
                  <a:lnTo>
                    <a:pt x="27" y="178"/>
                  </a:lnTo>
                  <a:lnTo>
                    <a:pt x="35" y="194"/>
                  </a:lnTo>
                  <a:lnTo>
                    <a:pt x="44" y="210"/>
                  </a:lnTo>
                  <a:lnTo>
                    <a:pt x="53" y="224"/>
                  </a:lnTo>
                  <a:lnTo>
                    <a:pt x="63" y="235"/>
                  </a:lnTo>
                  <a:lnTo>
                    <a:pt x="76" y="246"/>
                  </a:lnTo>
                  <a:lnTo>
                    <a:pt x="87" y="255"/>
                  </a:lnTo>
                  <a:lnTo>
                    <a:pt x="101" y="262"/>
                  </a:lnTo>
                  <a:lnTo>
                    <a:pt x="115" y="268"/>
                  </a:lnTo>
                  <a:lnTo>
                    <a:pt x="130" y="271"/>
                  </a:lnTo>
                  <a:lnTo>
                    <a:pt x="144" y="271"/>
                  </a:lnTo>
                  <a:lnTo>
                    <a:pt x="159" y="269"/>
                  </a:lnTo>
                  <a:lnTo>
                    <a:pt x="174" y="265"/>
                  </a:lnTo>
                  <a:lnTo>
                    <a:pt x="187" y="258"/>
                  </a:lnTo>
                  <a:lnTo>
                    <a:pt x="199" y="250"/>
                  </a:lnTo>
                  <a:lnTo>
                    <a:pt x="211" y="238"/>
                  </a:lnTo>
                  <a:lnTo>
                    <a:pt x="221" y="227"/>
                  </a:lnTo>
                  <a:lnTo>
                    <a:pt x="230" y="213"/>
                  </a:lnTo>
                  <a:lnTo>
                    <a:pt x="238" y="198"/>
                  </a:lnTo>
                  <a:lnTo>
                    <a:pt x="245" y="181"/>
                  </a:lnTo>
                  <a:lnTo>
                    <a:pt x="250" y="164"/>
                  </a:lnTo>
                  <a:lnTo>
                    <a:pt x="255" y="145"/>
                  </a:lnTo>
                  <a:lnTo>
                    <a:pt x="258" y="124"/>
                  </a:lnTo>
                  <a:lnTo>
                    <a:pt x="262" y="103"/>
                  </a:lnTo>
                  <a:lnTo>
                    <a:pt x="263" y="79"/>
                  </a:lnTo>
                  <a:lnTo>
                    <a:pt x="263" y="54"/>
                  </a:lnTo>
                  <a:lnTo>
                    <a:pt x="263" y="27"/>
                  </a:lnTo>
                  <a:lnTo>
                    <a:pt x="261" y="0"/>
                  </a:lnTo>
                  <a:lnTo>
                    <a:pt x="193" y="7"/>
                  </a:lnTo>
                  <a:lnTo>
                    <a:pt x="196" y="31"/>
                  </a:lnTo>
                  <a:lnTo>
                    <a:pt x="196" y="55"/>
                  </a:lnTo>
                  <a:lnTo>
                    <a:pt x="196" y="76"/>
                  </a:lnTo>
                  <a:lnTo>
                    <a:pt x="195" y="96"/>
                  </a:lnTo>
                  <a:lnTo>
                    <a:pt x="192" y="114"/>
                  </a:lnTo>
                  <a:lnTo>
                    <a:pt x="189" y="131"/>
                  </a:lnTo>
                  <a:lnTo>
                    <a:pt x="185" y="146"/>
                  </a:lnTo>
                  <a:lnTo>
                    <a:pt x="181" y="158"/>
                  </a:lnTo>
                  <a:lnTo>
                    <a:pt x="176" y="170"/>
                  </a:lnTo>
                  <a:lnTo>
                    <a:pt x="172" y="179"/>
                  </a:lnTo>
                  <a:lnTo>
                    <a:pt x="166" y="187"/>
                  </a:lnTo>
                  <a:lnTo>
                    <a:pt x="162" y="193"/>
                  </a:lnTo>
                  <a:lnTo>
                    <a:pt x="157" y="197"/>
                  </a:lnTo>
                  <a:lnTo>
                    <a:pt x="152" y="201"/>
                  </a:lnTo>
                  <a:lnTo>
                    <a:pt x="148" y="203"/>
                  </a:lnTo>
                  <a:lnTo>
                    <a:pt x="144" y="204"/>
                  </a:lnTo>
                  <a:lnTo>
                    <a:pt x="141" y="204"/>
                  </a:lnTo>
                  <a:lnTo>
                    <a:pt x="138" y="204"/>
                  </a:lnTo>
                  <a:lnTo>
                    <a:pt x="134" y="203"/>
                  </a:lnTo>
                  <a:lnTo>
                    <a:pt x="130" y="202"/>
                  </a:lnTo>
                  <a:lnTo>
                    <a:pt x="124" y="198"/>
                  </a:lnTo>
                  <a:lnTo>
                    <a:pt x="119" y="195"/>
                  </a:lnTo>
                  <a:lnTo>
                    <a:pt x="113" y="189"/>
                  </a:lnTo>
                  <a:lnTo>
                    <a:pt x="107" y="182"/>
                  </a:lnTo>
                  <a:lnTo>
                    <a:pt x="101" y="173"/>
                  </a:lnTo>
                  <a:lnTo>
                    <a:pt x="94" y="163"/>
                  </a:lnTo>
                  <a:lnTo>
                    <a:pt x="89" y="150"/>
                  </a:lnTo>
                  <a:lnTo>
                    <a:pt x="83" y="137"/>
                  </a:lnTo>
                  <a:lnTo>
                    <a:pt x="78" y="121"/>
                  </a:lnTo>
                  <a:lnTo>
                    <a:pt x="74" y="104"/>
                  </a:lnTo>
                  <a:lnTo>
                    <a:pt x="70" y="84"/>
                  </a:lnTo>
                  <a:lnTo>
                    <a:pt x="67" y="64"/>
                  </a:lnTo>
                  <a:lnTo>
                    <a:pt x="0" y="69"/>
                  </a:lnTo>
                  <a:lnTo>
                    <a:pt x="67" y="64"/>
                  </a:lnTo>
                  <a:lnTo>
                    <a:pt x="66" y="57"/>
                  </a:lnTo>
                  <a:lnTo>
                    <a:pt x="62" y="50"/>
                  </a:lnTo>
                  <a:lnTo>
                    <a:pt x="59" y="44"/>
                  </a:lnTo>
                  <a:lnTo>
                    <a:pt x="54" y="40"/>
                  </a:lnTo>
                  <a:lnTo>
                    <a:pt x="49" y="38"/>
                  </a:lnTo>
                  <a:lnTo>
                    <a:pt x="43" y="35"/>
                  </a:lnTo>
                  <a:lnTo>
                    <a:pt x="36" y="34"/>
                  </a:lnTo>
                  <a:lnTo>
                    <a:pt x="30" y="34"/>
                  </a:lnTo>
                  <a:lnTo>
                    <a:pt x="24" y="36"/>
                  </a:lnTo>
                  <a:lnTo>
                    <a:pt x="18" y="39"/>
                  </a:lnTo>
                  <a:lnTo>
                    <a:pt x="12" y="41"/>
                  </a:lnTo>
                  <a:lnTo>
                    <a:pt x="8" y="46"/>
                  </a:lnTo>
                  <a:lnTo>
                    <a:pt x="4" y="51"/>
                  </a:lnTo>
                  <a:lnTo>
                    <a:pt x="2" y="57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3879720" y="4862520"/>
              <a:ext cx="88920" cy="842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68" y="36"/>
                  </a:moveTo>
                  <a:lnTo>
                    <a:pt x="0" y="37"/>
                  </a:lnTo>
                  <a:lnTo>
                    <a:pt x="3" y="65"/>
                  </a:lnTo>
                  <a:lnTo>
                    <a:pt x="6" y="92"/>
                  </a:lnTo>
                  <a:lnTo>
                    <a:pt x="11" y="116"/>
                  </a:lnTo>
                  <a:lnTo>
                    <a:pt x="16" y="138"/>
                  </a:lnTo>
                  <a:lnTo>
                    <a:pt x="22" y="159"/>
                  </a:lnTo>
                  <a:lnTo>
                    <a:pt x="30" y="177"/>
                  </a:lnTo>
                  <a:lnTo>
                    <a:pt x="38" y="194"/>
                  </a:lnTo>
                  <a:lnTo>
                    <a:pt x="47" y="209"/>
                  </a:lnTo>
                  <a:lnTo>
                    <a:pt x="58" y="223"/>
                  </a:lnTo>
                  <a:lnTo>
                    <a:pt x="70" y="235"/>
                  </a:lnTo>
                  <a:lnTo>
                    <a:pt x="82" y="246"/>
                  </a:lnTo>
                  <a:lnTo>
                    <a:pt x="96" y="254"/>
                  </a:lnTo>
                  <a:lnTo>
                    <a:pt x="110" y="259"/>
                  </a:lnTo>
                  <a:lnTo>
                    <a:pt x="125" y="263"/>
                  </a:lnTo>
                  <a:lnTo>
                    <a:pt x="139" y="264"/>
                  </a:lnTo>
                  <a:lnTo>
                    <a:pt x="154" y="263"/>
                  </a:lnTo>
                  <a:lnTo>
                    <a:pt x="168" y="260"/>
                  </a:lnTo>
                  <a:lnTo>
                    <a:pt x="182" y="256"/>
                  </a:lnTo>
                  <a:lnTo>
                    <a:pt x="194" y="249"/>
                  </a:lnTo>
                  <a:lnTo>
                    <a:pt x="207" y="242"/>
                  </a:lnTo>
                  <a:lnTo>
                    <a:pt x="218" y="233"/>
                  </a:lnTo>
                  <a:lnTo>
                    <a:pt x="228" y="223"/>
                  </a:lnTo>
                  <a:lnTo>
                    <a:pt x="239" y="211"/>
                  </a:lnTo>
                  <a:lnTo>
                    <a:pt x="248" y="199"/>
                  </a:lnTo>
                  <a:lnTo>
                    <a:pt x="256" y="186"/>
                  </a:lnTo>
                  <a:lnTo>
                    <a:pt x="263" y="173"/>
                  </a:lnTo>
                  <a:lnTo>
                    <a:pt x="269" y="157"/>
                  </a:lnTo>
                  <a:lnTo>
                    <a:pt x="274" y="142"/>
                  </a:lnTo>
                  <a:lnTo>
                    <a:pt x="278" y="125"/>
                  </a:lnTo>
                  <a:lnTo>
                    <a:pt x="281" y="108"/>
                  </a:lnTo>
                  <a:lnTo>
                    <a:pt x="282" y="90"/>
                  </a:lnTo>
                  <a:lnTo>
                    <a:pt x="282" y="72"/>
                  </a:lnTo>
                  <a:lnTo>
                    <a:pt x="215" y="74"/>
                  </a:lnTo>
                  <a:lnTo>
                    <a:pt x="215" y="87"/>
                  </a:lnTo>
                  <a:lnTo>
                    <a:pt x="214" y="100"/>
                  </a:lnTo>
                  <a:lnTo>
                    <a:pt x="212" y="112"/>
                  </a:lnTo>
                  <a:lnTo>
                    <a:pt x="209" y="124"/>
                  </a:lnTo>
                  <a:lnTo>
                    <a:pt x="206" y="134"/>
                  </a:lnTo>
                  <a:lnTo>
                    <a:pt x="202" y="144"/>
                  </a:lnTo>
                  <a:lnTo>
                    <a:pt x="196" y="153"/>
                  </a:lnTo>
                  <a:lnTo>
                    <a:pt x="192" y="161"/>
                  </a:lnTo>
                  <a:lnTo>
                    <a:pt x="186" y="169"/>
                  </a:lnTo>
                  <a:lnTo>
                    <a:pt x="180" y="176"/>
                  </a:lnTo>
                  <a:lnTo>
                    <a:pt x="174" y="182"/>
                  </a:lnTo>
                  <a:lnTo>
                    <a:pt x="168" y="186"/>
                  </a:lnTo>
                  <a:lnTo>
                    <a:pt x="162" y="191"/>
                  </a:lnTo>
                  <a:lnTo>
                    <a:pt x="157" y="193"/>
                  </a:lnTo>
                  <a:lnTo>
                    <a:pt x="151" y="195"/>
                  </a:lnTo>
                  <a:lnTo>
                    <a:pt x="145" y="195"/>
                  </a:lnTo>
                  <a:lnTo>
                    <a:pt x="141" y="197"/>
                  </a:lnTo>
                  <a:lnTo>
                    <a:pt x="135" y="195"/>
                  </a:lnTo>
                  <a:lnTo>
                    <a:pt x="130" y="194"/>
                  </a:lnTo>
                  <a:lnTo>
                    <a:pt x="126" y="193"/>
                  </a:lnTo>
                  <a:lnTo>
                    <a:pt x="120" y="190"/>
                  </a:lnTo>
                  <a:lnTo>
                    <a:pt x="115" y="185"/>
                  </a:lnTo>
                  <a:lnTo>
                    <a:pt x="109" y="179"/>
                  </a:lnTo>
                  <a:lnTo>
                    <a:pt x="103" y="171"/>
                  </a:lnTo>
                  <a:lnTo>
                    <a:pt x="97" y="162"/>
                  </a:lnTo>
                  <a:lnTo>
                    <a:pt x="92" y="150"/>
                  </a:lnTo>
                  <a:lnTo>
                    <a:pt x="86" y="136"/>
                  </a:lnTo>
                  <a:lnTo>
                    <a:pt x="81" y="120"/>
                  </a:lnTo>
                  <a:lnTo>
                    <a:pt x="77" y="102"/>
                  </a:lnTo>
                  <a:lnTo>
                    <a:pt x="72" y="81"/>
                  </a:lnTo>
                  <a:lnTo>
                    <a:pt x="70" y="59"/>
                  </a:lnTo>
                  <a:lnTo>
                    <a:pt x="68" y="32"/>
                  </a:lnTo>
                  <a:lnTo>
                    <a:pt x="0" y="33"/>
                  </a:lnTo>
                  <a:lnTo>
                    <a:pt x="68" y="32"/>
                  </a:lnTo>
                  <a:lnTo>
                    <a:pt x="66" y="24"/>
                  </a:lnTo>
                  <a:lnTo>
                    <a:pt x="64" y="19"/>
                  </a:lnTo>
                  <a:lnTo>
                    <a:pt x="61" y="13"/>
                  </a:lnTo>
                  <a:lnTo>
                    <a:pt x="56" y="8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9" y="1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3811680" y="4827600"/>
              <a:ext cx="90360" cy="101520"/>
            </a:xfrm>
            <a:custGeom>
              <a:avLst/>
              <a:gdLst/>
              <a:ahLst/>
              <a:rect l="l" t="t" r="r" b="b"/>
              <a:pathLst>
                <a:path w="284" h="318">
                  <a:moveTo>
                    <a:pt x="36" y="29"/>
                  </a:moveTo>
                  <a:lnTo>
                    <a:pt x="38" y="20"/>
                  </a:lnTo>
                  <a:lnTo>
                    <a:pt x="26" y="51"/>
                  </a:lnTo>
                  <a:lnTo>
                    <a:pt x="16" y="81"/>
                  </a:lnTo>
                  <a:lnTo>
                    <a:pt x="9" y="109"/>
                  </a:lnTo>
                  <a:lnTo>
                    <a:pt x="3" y="135"/>
                  </a:lnTo>
                  <a:lnTo>
                    <a:pt x="1" y="159"/>
                  </a:lnTo>
                  <a:lnTo>
                    <a:pt x="0" y="182"/>
                  </a:lnTo>
                  <a:lnTo>
                    <a:pt x="1" y="204"/>
                  </a:lnTo>
                  <a:lnTo>
                    <a:pt x="5" y="224"/>
                  </a:lnTo>
                  <a:lnTo>
                    <a:pt x="11" y="243"/>
                  </a:lnTo>
                  <a:lnTo>
                    <a:pt x="19" y="259"/>
                  </a:lnTo>
                  <a:lnTo>
                    <a:pt x="28" y="275"/>
                  </a:lnTo>
                  <a:lnTo>
                    <a:pt x="41" y="287"/>
                  </a:lnTo>
                  <a:lnTo>
                    <a:pt x="53" y="297"/>
                  </a:lnTo>
                  <a:lnTo>
                    <a:pt x="68" y="307"/>
                  </a:lnTo>
                  <a:lnTo>
                    <a:pt x="84" y="312"/>
                  </a:lnTo>
                  <a:lnTo>
                    <a:pt x="100" y="316"/>
                  </a:lnTo>
                  <a:lnTo>
                    <a:pt x="116" y="318"/>
                  </a:lnTo>
                  <a:lnTo>
                    <a:pt x="132" y="317"/>
                  </a:lnTo>
                  <a:lnTo>
                    <a:pt x="148" y="315"/>
                  </a:lnTo>
                  <a:lnTo>
                    <a:pt x="164" y="311"/>
                  </a:lnTo>
                  <a:lnTo>
                    <a:pt x="179" y="305"/>
                  </a:lnTo>
                  <a:lnTo>
                    <a:pt x="195" y="297"/>
                  </a:lnTo>
                  <a:lnTo>
                    <a:pt x="208" y="289"/>
                  </a:lnTo>
                  <a:lnTo>
                    <a:pt x="222" y="278"/>
                  </a:lnTo>
                  <a:lnTo>
                    <a:pt x="235" y="267"/>
                  </a:lnTo>
                  <a:lnTo>
                    <a:pt x="246" y="253"/>
                  </a:lnTo>
                  <a:lnTo>
                    <a:pt x="256" y="238"/>
                  </a:lnTo>
                  <a:lnTo>
                    <a:pt x="265" y="222"/>
                  </a:lnTo>
                  <a:lnTo>
                    <a:pt x="273" y="205"/>
                  </a:lnTo>
                  <a:lnTo>
                    <a:pt x="278" y="186"/>
                  </a:lnTo>
                  <a:lnTo>
                    <a:pt x="282" y="166"/>
                  </a:lnTo>
                  <a:lnTo>
                    <a:pt x="284" y="146"/>
                  </a:lnTo>
                  <a:lnTo>
                    <a:pt x="216" y="143"/>
                  </a:lnTo>
                  <a:lnTo>
                    <a:pt x="215" y="157"/>
                  </a:lnTo>
                  <a:lnTo>
                    <a:pt x="213" y="170"/>
                  </a:lnTo>
                  <a:lnTo>
                    <a:pt x="209" y="182"/>
                  </a:lnTo>
                  <a:lnTo>
                    <a:pt x="205" y="192"/>
                  </a:lnTo>
                  <a:lnTo>
                    <a:pt x="199" y="203"/>
                  </a:lnTo>
                  <a:lnTo>
                    <a:pt x="192" y="212"/>
                  </a:lnTo>
                  <a:lnTo>
                    <a:pt x="186" y="220"/>
                  </a:lnTo>
                  <a:lnTo>
                    <a:pt x="179" y="227"/>
                  </a:lnTo>
                  <a:lnTo>
                    <a:pt x="170" y="234"/>
                  </a:lnTo>
                  <a:lnTo>
                    <a:pt x="162" y="239"/>
                  </a:lnTo>
                  <a:lnTo>
                    <a:pt x="152" y="243"/>
                  </a:lnTo>
                  <a:lnTo>
                    <a:pt x="143" y="246"/>
                  </a:lnTo>
                  <a:lnTo>
                    <a:pt x="135" y="248"/>
                  </a:lnTo>
                  <a:lnTo>
                    <a:pt x="126" y="250"/>
                  </a:lnTo>
                  <a:lnTo>
                    <a:pt x="118" y="251"/>
                  </a:lnTo>
                  <a:lnTo>
                    <a:pt x="111" y="250"/>
                  </a:lnTo>
                  <a:lnTo>
                    <a:pt x="103" y="248"/>
                  </a:lnTo>
                  <a:lnTo>
                    <a:pt x="98" y="245"/>
                  </a:lnTo>
                  <a:lnTo>
                    <a:pt x="92" y="243"/>
                  </a:lnTo>
                  <a:lnTo>
                    <a:pt x="86" y="238"/>
                  </a:lnTo>
                  <a:lnTo>
                    <a:pt x="82" y="232"/>
                  </a:lnTo>
                  <a:lnTo>
                    <a:pt x="77" y="227"/>
                  </a:lnTo>
                  <a:lnTo>
                    <a:pt x="74" y="218"/>
                  </a:lnTo>
                  <a:lnTo>
                    <a:pt x="70" y="207"/>
                  </a:lnTo>
                  <a:lnTo>
                    <a:pt x="68" y="196"/>
                  </a:lnTo>
                  <a:lnTo>
                    <a:pt x="67" y="181"/>
                  </a:lnTo>
                  <a:lnTo>
                    <a:pt x="68" y="164"/>
                  </a:lnTo>
                  <a:lnTo>
                    <a:pt x="69" y="146"/>
                  </a:lnTo>
                  <a:lnTo>
                    <a:pt x="74" y="124"/>
                  </a:lnTo>
                  <a:lnTo>
                    <a:pt x="81" y="101"/>
                  </a:lnTo>
                  <a:lnTo>
                    <a:pt x="89" y="75"/>
                  </a:lnTo>
                  <a:lnTo>
                    <a:pt x="100" y="46"/>
                  </a:lnTo>
                  <a:lnTo>
                    <a:pt x="102" y="38"/>
                  </a:lnTo>
                  <a:lnTo>
                    <a:pt x="100" y="46"/>
                  </a:lnTo>
                  <a:lnTo>
                    <a:pt x="102" y="40"/>
                  </a:lnTo>
                  <a:lnTo>
                    <a:pt x="103" y="32"/>
                  </a:lnTo>
                  <a:lnTo>
                    <a:pt x="102" y="26"/>
                  </a:lnTo>
                  <a:lnTo>
                    <a:pt x="100" y="19"/>
                  </a:lnTo>
                  <a:lnTo>
                    <a:pt x="97" y="13"/>
                  </a:lnTo>
                  <a:lnTo>
                    <a:pt x="93" y="9"/>
                  </a:lnTo>
                  <a:lnTo>
                    <a:pt x="88" y="5"/>
                  </a:lnTo>
                  <a:lnTo>
                    <a:pt x="82" y="2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2" y="4"/>
                  </a:lnTo>
                  <a:lnTo>
                    <a:pt x="46" y="8"/>
                  </a:lnTo>
                  <a:lnTo>
                    <a:pt x="42" y="13"/>
                  </a:lnTo>
                  <a:lnTo>
                    <a:pt x="38" y="20"/>
                  </a:lnTo>
                  <a:lnTo>
                    <a:pt x="36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3822840" y="4592520"/>
              <a:ext cx="69840" cy="247680"/>
            </a:xfrm>
            <a:custGeom>
              <a:avLst/>
              <a:gdLst/>
              <a:ahLst/>
              <a:rect l="l" t="t" r="r" b="b"/>
              <a:pathLst>
                <a:path w="221" h="780">
                  <a:moveTo>
                    <a:pt x="154" y="32"/>
                  </a:moveTo>
                  <a:lnTo>
                    <a:pt x="156" y="23"/>
                  </a:lnTo>
                  <a:lnTo>
                    <a:pt x="136" y="79"/>
                  </a:lnTo>
                  <a:lnTo>
                    <a:pt x="118" y="131"/>
                  </a:lnTo>
                  <a:lnTo>
                    <a:pt x="102" y="178"/>
                  </a:lnTo>
                  <a:lnTo>
                    <a:pt x="89" y="223"/>
                  </a:lnTo>
                  <a:lnTo>
                    <a:pt x="78" y="265"/>
                  </a:lnTo>
                  <a:lnTo>
                    <a:pt x="67" y="305"/>
                  </a:lnTo>
                  <a:lnTo>
                    <a:pt x="59" y="343"/>
                  </a:lnTo>
                  <a:lnTo>
                    <a:pt x="52" y="383"/>
                  </a:lnTo>
                  <a:lnTo>
                    <a:pt x="39" y="462"/>
                  </a:lnTo>
                  <a:lnTo>
                    <a:pt x="28" y="549"/>
                  </a:lnTo>
                  <a:lnTo>
                    <a:pt x="15" y="649"/>
                  </a:lnTo>
                  <a:lnTo>
                    <a:pt x="0" y="771"/>
                  </a:lnTo>
                  <a:lnTo>
                    <a:pt x="66" y="780"/>
                  </a:lnTo>
                  <a:lnTo>
                    <a:pt x="82" y="658"/>
                  </a:lnTo>
                  <a:lnTo>
                    <a:pt x="95" y="557"/>
                  </a:lnTo>
                  <a:lnTo>
                    <a:pt x="106" y="471"/>
                  </a:lnTo>
                  <a:lnTo>
                    <a:pt x="119" y="394"/>
                  </a:lnTo>
                  <a:lnTo>
                    <a:pt x="126" y="357"/>
                  </a:lnTo>
                  <a:lnTo>
                    <a:pt x="134" y="320"/>
                  </a:lnTo>
                  <a:lnTo>
                    <a:pt x="143" y="282"/>
                  </a:lnTo>
                  <a:lnTo>
                    <a:pt x="154" y="242"/>
                  </a:lnTo>
                  <a:lnTo>
                    <a:pt x="167" y="199"/>
                  </a:lnTo>
                  <a:lnTo>
                    <a:pt x="181" y="152"/>
                  </a:lnTo>
                  <a:lnTo>
                    <a:pt x="199" y="102"/>
                  </a:lnTo>
                  <a:lnTo>
                    <a:pt x="219" y="46"/>
                  </a:lnTo>
                  <a:lnTo>
                    <a:pt x="221" y="35"/>
                  </a:lnTo>
                  <a:lnTo>
                    <a:pt x="219" y="46"/>
                  </a:lnTo>
                  <a:lnTo>
                    <a:pt x="221" y="38"/>
                  </a:lnTo>
                  <a:lnTo>
                    <a:pt x="221" y="31"/>
                  </a:lnTo>
                  <a:lnTo>
                    <a:pt x="220" y="24"/>
                  </a:lnTo>
                  <a:lnTo>
                    <a:pt x="218" y="18"/>
                  </a:lnTo>
                  <a:lnTo>
                    <a:pt x="215" y="14"/>
                  </a:lnTo>
                  <a:lnTo>
                    <a:pt x="210" y="9"/>
                  </a:lnTo>
                  <a:lnTo>
                    <a:pt x="205" y="6"/>
                  </a:lnTo>
                  <a:lnTo>
                    <a:pt x="200" y="2"/>
                  </a:lnTo>
                  <a:lnTo>
                    <a:pt x="193" y="1"/>
                  </a:lnTo>
                  <a:lnTo>
                    <a:pt x="187" y="0"/>
                  </a:lnTo>
                  <a:lnTo>
                    <a:pt x="180" y="1"/>
                  </a:lnTo>
                  <a:lnTo>
                    <a:pt x="175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60" y="15"/>
                  </a:lnTo>
                  <a:lnTo>
                    <a:pt x="156" y="23"/>
                  </a:lnTo>
                  <a:lnTo>
                    <a:pt x="154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3871800" y="4275000"/>
              <a:ext cx="114480" cy="328680"/>
            </a:xfrm>
            <a:custGeom>
              <a:avLst/>
              <a:gdLst/>
              <a:ahLst/>
              <a:rect l="l" t="t" r="r" b="b"/>
              <a:pathLst>
                <a:path w="359" h="1034">
                  <a:moveTo>
                    <a:pt x="307" y="7"/>
                  </a:moveTo>
                  <a:lnTo>
                    <a:pt x="303" y="8"/>
                  </a:lnTo>
                  <a:lnTo>
                    <a:pt x="285" y="25"/>
                  </a:lnTo>
                  <a:lnTo>
                    <a:pt x="268" y="44"/>
                  </a:lnTo>
                  <a:lnTo>
                    <a:pt x="251" y="66"/>
                  </a:lnTo>
                  <a:lnTo>
                    <a:pt x="235" y="89"/>
                  </a:lnTo>
                  <a:lnTo>
                    <a:pt x="219" y="114"/>
                  </a:lnTo>
                  <a:lnTo>
                    <a:pt x="204" y="140"/>
                  </a:lnTo>
                  <a:lnTo>
                    <a:pt x="190" y="167"/>
                  </a:lnTo>
                  <a:lnTo>
                    <a:pt x="177" y="197"/>
                  </a:lnTo>
                  <a:lnTo>
                    <a:pt x="164" y="228"/>
                  </a:lnTo>
                  <a:lnTo>
                    <a:pt x="152" y="260"/>
                  </a:lnTo>
                  <a:lnTo>
                    <a:pt x="139" y="293"/>
                  </a:lnTo>
                  <a:lnTo>
                    <a:pt x="128" y="327"/>
                  </a:lnTo>
                  <a:lnTo>
                    <a:pt x="118" y="361"/>
                  </a:lnTo>
                  <a:lnTo>
                    <a:pt x="106" y="397"/>
                  </a:lnTo>
                  <a:lnTo>
                    <a:pt x="97" y="433"/>
                  </a:lnTo>
                  <a:lnTo>
                    <a:pt x="87" y="470"/>
                  </a:lnTo>
                  <a:lnTo>
                    <a:pt x="70" y="545"/>
                  </a:lnTo>
                  <a:lnTo>
                    <a:pt x="54" y="620"/>
                  </a:lnTo>
                  <a:lnTo>
                    <a:pt x="40" y="694"/>
                  </a:lnTo>
                  <a:lnTo>
                    <a:pt x="29" y="769"/>
                  </a:lnTo>
                  <a:lnTo>
                    <a:pt x="18" y="841"/>
                  </a:lnTo>
                  <a:lnTo>
                    <a:pt x="10" y="908"/>
                  </a:lnTo>
                  <a:lnTo>
                    <a:pt x="4" y="973"/>
                  </a:lnTo>
                  <a:lnTo>
                    <a:pt x="0" y="1031"/>
                  </a:lnTo>
                  <a:lnTo>
                    <a:pt x="67" y="1034"/>
                  </a:lnTo>
                  <a:lnTo>
                    <a:pt x="71" y="977"/>
                  </a:lnTo>
                  <a:lnTo>
                    <a:pt x="78" y="916"/>
                  </a:lnTo>
                  <a:lnTo>
                    <a:pt x="84" y="848"/>
                  </a:lnTo>
                  <a:lnTo>
                    <a:pt x="95" y="779"/>
                  </a:lnTo>
                  <a:lnTo>
                    <a:pt x="106" y="706"/>
                  </a:lnTo>
                  <a:lnTo>
                    <a:pt x="120" y="633"/>
                  </a:lnTo>
                  <a:lnTo>
                    <a:pt x="136" y="559"/>
                  </a:lnTo>
                  <a:lnTo>
                    <a:pt x="153" y="486"/>
                  </a:lnTo>
                  <a:lnTo>
                    <a:pt x="162" y="450"/>
                  </a:lnTo>
                  <a:lnTo>
                    <a:pt x="171" y="416"/>
                  </a:lnTo>
                  <a:lnTo>
                    <a:pt x="181" y="381"/>
                  </a:lnTo>
                  <a:lnTo>
                    <a:pt x="192" y="348"/>
                  </a:lnTo>
                  <a:lnTo>
                    <a:pt x="203" y="315"/>
                  </a:lnTo>
                  <a:lnTo>
                    <a:pt x="214" y="284"/>
                  </a:lnTo>
                  <a:lnTo>
                    <a:pt x="227" y="253"/>
                  </a:lnTo>
                  <a:lnTo>
                    <a:pt x="238" y="224"/>
                  </a:lnTo>
                  <a:lnTo>
                    <a:pt x="251" y="197"/>
                  </a:lnTo>
                  <a:lnTo>
                    <a:pt x="265" y="171"/>
                  </a:lnTo>
                  <a:lnTo>
                    <a:pt x="277" y="147"/>
                  </a:lnTo>
                  <a:lnTo>
                    <a:pt x="291" y="125"/>
                  </a:lnTo>
                  <a:lnTo>
                    <a:pt x="304" y="106"/>
                  </a:lnTo>
                  <a:lnTo>
                    <a:pt x="319" y="88"/>
                  </a:lnTo>
                  <a:lnTo>
                    <a:pt x="333" y="73"/>
                  </a:lnTo>
                  <a:lnTo>
                    <a:pt x="347" y="59"/>
                  </a:lnTo>
                  <a:lnTo>
                    <a:pt x="344" y="61"/>
                  </a:lnTo>
                  <a:lnTo>
                    <a:pt x="347" y="59"/>
                  </a:lnTo>
                  <a:lnTo>
                    <a:pt x="352" y="54"/>
                  </a:lnTo>
                  <a:lnTo>
                    <a:pt x="357" y="48"/>
                  </a:lnTo>
                  <a:lnTo>
                    <a:pt x="359" y="42"/>
                  </a:lnTo>
                  <a:lnTo>
                    <a:pt x="359" y="35"/>
                  </a:lnTo>
                  <a:lnTo>
                    <a:pt x="359" y="29"/>
                  </a:lnTo>
                  <a:lnTo>
                    <a:pt x="358" y="22"/>
                  </a:lnTo>
                  <a:lnTo>
                    <a:pt x="355" y="17"/>
                  </a:lnTo>
                  <a:lnTo>
                    <a:pt x="351" y="12"/>
                  </a:lnTo>
                  <a:lnTo>
                    <a:pt x="347" y="8"/>
                  </a:lnTo>
                  <a:lnTo>
                    <a:pt x="342" y="4"/>
                  </a:lnTo>
                  <a:lnTo>
                    <a:pt x="336" y="1"/>
                  </a:lnTo>
                  <a:lnTo>
                    <a:pt x="330" y="0"/>
                  </a:lnTo>
                  <a:lnTo>
                    <a:pt x="324" y="0"/>
                  </a:lnTo>
                  <a:lnTo>
                    <a:pt x="317" y="1"/>
                  </a:lnTo>
                  <a:lnTo>
                    <a:pt x="310" y="3"/>
                  </a:lnTo>
                  <a:lnTo>
                    <a:pt x="303" y="8"/>
                  </a:lnTo>
                  <a:lnTo>
                    <a:pt x="30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3968640" y="4241880"/>
              <a:ext cx="119160" cy="52200"/>
            </a:xfrm>
            <a:custGeom>
              <a:avLst/>
              <a:gdLst/>
              <a:ahLst/>
              <a:rect l="l" t="t" r="r" b="b"/>
              <a:pathLst>
                <a:path w="376" h="165">
                  <a:moveTo>
                    <a:pt x="309" y="41"/>
                  </a:moveTo>
                  <a:lnTo>
                    <a:pt x="309" y="26"/>
                  </a:lnTo>
                  <a:lnTo>
                    <a:pt x="316" y="12"/>
                  </a:lnTo>
                  <a:lnTo>
                    <a:pt x="320" y="9"/>
                  </a:lnTo>
                  <a:lnTo>
                    <a:pt x="321" y="9"/>
                  </a:lnTo>
                  <a:lnTo>
                    <a:pt x="320" y="9"/>
                  </a:lnTo>
                  <a:lnTo>
                    <a:pt x="310" y="12"/>
                  </a:lnTo>
                  <a:lnTo>
                    <a:pt x="295" y="16"/>
                  </a:lnTo>
                  <a:lnTo>
                    <a:pt x="255" y="25"/>
                  </a:lnTo>
                  <a:lnTo>
                    <a:pt x="207" y="35"/>
                  </a:lnTo>
                  <a:lnTo>
                    <a:pt x="181" y="41"/>
                  </a:lnTo>
                  <a:lnTo>
                    <a:pt x="154" y="48"/>
                  </a:lnTo>
                  <a:lnTo>
                    <a:pt x="126" y="56"/>
                  </a:lnTo>
                  <a:lnTo>
                    <a:pt x="99" y="64"/>
                  </a:lnTo>
                  <a:lnTo>
                    <a:pt x="72" y="73"/>
                  </a:lnTo>
                  <a:lnTo>
                    <a:pt x="45" y="84"/>
                  </a:lnTo>
                  <a:lnTo>
                    <a:pt x="21" y="96"/>
                  </a:lnTo>
                  <a:lnTo>
                    <a:pt x="0" y="111"/>
                  </a:lnTo>
                  <a:lnTo>
                    <a:pt x="37" y="165"/>
                  </a:lnTo>
                  <a:lnTo>
                    <a:pt x="54" y="155"/>
                  </a:lnTo>
                  <a:lnTo>
                    <a:pt x="74" y="145"/>
                  </a:lnTo>
                  <a:lnTo>
                    <a:pt x="96" y="136"/>
                  </a:lnTo>
                  <a:lnTo>
                    <a:pt x="119" y="128"/>
                  </a:lnTo>
                  <a:lnTo>
                    <a:pt x="145" y="120"/>
                  </a:lnTo>
                  <a:lnTo>
                    <a:pt x="171" y="113"/>
                  </a:lnTo>
                  <a:lnTo>
                    <a:pt x="196" y="106"/>
                  </a:lnTo>
                  <a:lnTo>
                    <a:pt x="222" y="100"/>
                  </a:lnTo>
                  <a:lnTo>
                    <a:pt x="270" y="90"/>
                  </a:lnTo>
                  <a:lnTo>
                    <a:pt x="310" y="82"/>
                  </a:lnTo>
                  <a:lnTo>
                    <a:pt x="327" y="77"/>
                  </a:lnTo>
                  <a:lnTo>
                    <a:pt x="341" y="73"/>
                  </a:lnTo>
                  <a:lnTo>
                    <a:pt x="349" y="71"/>
                  </a:lnTo>
                  <a:lnTo>
                    <a:pt x="357" y="66"/>
                  </a:lnTo>
                  <a:lnTo>
                    <a:pt x="366" y="59"/>
                  </a:lnTo>
                  <a:lnTo>
                    <a:pt x="375" y="42"/>
                  </a:lnTo>
                  <a:lnTo>
                    <a:pt x="375" y="26"/>
                  </a:lnTo>
                  <a:lnTo>
                    <a:pt x="375" y="42"/>
                  </a:lnTo>
                  <a:lnTo>
                    <a:pt x="376" y="34"/>
                  </a:lnTo>
                  <a:lnTo>
                    <a:pt x="375" y="27"/>
                  </a:lnTo>
                  <a:lnTo>
                    <a:pt x="374" y="20"/>
                  </a:lnTo>
                  <a:lnTo>
                    <a:pt x="370" y="15"/>
                  </a:lnTo>
                  <a:lnTo>
                    <a:pt x="366" y="10"/>
                  </a:lnTo>
                  <a:lnTo>
                    <a:pt x="361" y="7"/>
                  </a:lnTo>
                  <a:lnTo>
                    <a:pt x="355" y="3"/>
                  </a:lnTo>
                  <a:lnTo>
                    <a:pt x="350" y="1"/>
                  </a:lnTo>
                  <a:lnTo>
                    <a:pt x="344" y="0"/>
                  </a:lnTo>
                  <a:lnTo>
                    <a:pt x="337" y="0"/>
                  </a:lnTo>
                  <a:lnTo>
                    <a:pt x="332" y="1"/>
                  </a:lnTo>
                  <a:lnTo>
                    <a:pt x="326" y="3"/>
                  </a:lnTo>
                  <a:lnTo>
                    <a:pt x="320" y="8"/>
                  </a:lnTo>
                  <a:lnTo>
                    <a:pt x="316" y="12"/>
                  </a:lnTo>
                  <a:lnTo>
                    <a:pt x="312" y="18"/>
                  </a:lnTo>
                  <a:lnTo>
                    <a:pt x="309" y="26"/>
                  </a:lnTo>
                  <a:lnTo>
                    <a:pt x="309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4024440" y="4219560"/>
              <a:ext cx="63360" cy="38160"/>
            </a:xfrm>
            <a:custGeom>
              <a:avLst/>
              <a:gdLst/>
              <a:ahLst/>
              <a:rect l="l" t="t" r="r" b="b"/>
              <a:pathLst>
                <a:path w="202" h="117">
                  <a:moveTo>
                    <a:pt x="0" y="40"/>
                  </a:moveTo>
                  <a:lnTo>
                    <a:pt x="23" y="65"/>
                  </a:lnTo>
                  <a:lnTo>
                    <a:pt x="47" y="74"/>
                  </a:lnTo>
                  <a:lnTo>
                    <a:pt x="71" y="84"/>
                  </a:lnTo>
                  <a:lnTo>
                    <a:pt x="91" y="92"/>
                  </a:lnTo>
                  <a:lnTo>
                    <a:pt x="111" y="101"/>
                  </a:lnTo>
                  <a:lnTo>
                    <a:pt x="124" y="108"/>
                  </a:lnTo>
                  <a:lnTo>
                    <a:pt x="136" y="114"/>
                  </a:lnTo>
                  <a:lnTo>
                    <a:pt x="137" y="117"/>
                  </a:lnTo>
                  <a:lnTo>
                    <a:pt x="138" y="117"/>
                  </a:lnTo>
                  <a:lnTo>
                    <a:pt x="138" y="115"/>
                  </a:lnTo>
                  <a:lnTo>
                    <a:pt x="136" y="111"/>
                  </a:lnTo>
                  <a:lnTo>
                    <a:pt x="202" y="96"/>
                  </a:lnTo>
                  <a:lnTo>
                    <a:pt x="196" y="84"/>
                  </a:lnTo>
                  <a:lnTo>
                    <a:pt x="190" y="74"/>
                  </a:lnTo>
                  <a:lnTo>
                    <a:pt x="184" y="66"/>
                  </a:lnTo>
                  <a:lnTo>
                    <a:pt x="174" y="60"/>
                  </a:lnTo>
                  <a:lnTo>
                    <a:pt x="159" y="49"/>
                  </a:lnTo>
                  <a:lnTo>
                    <a:pt x="139" y="39"/>
                  </a:lnTo>
                  <a:lnTo>
                    <a:pt x="117" y="30"/>
                  </a:lnTo>
                  <a:lnTo>
                    <a:pt x="95" y="21"/>
                  </a:lnTo>
                  <a:lnTo>
                    <a:pt x="71" y="12"/>
                  </a:lnTo>
                  <a:lnTo>
                    <a:pt x="45" y="1"/>
                  </a:lnTo>
                  <a:lnTo>
                    <a:pt x="67" y="28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7" y="4"/>
                  </a:lnTo>
                  <a:lnTo>
                    <a:pt x="13" y="7"/>
                  </a:lnTo>
                  <a:lnTo>
                    <a:pt x="8" y="12"/>
                  </a:lnTo>
                  <a:lnTo>
                    <a:pt x="5" y="16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5" y="53"/>
                  </a:lnTo>
                  <a:lnTo>
                    <a:pt x="9" y="58"/>
                  </a:lnTo>
                  <a:lnTo>
                    <a:pt x="15" y="62"/>
                  </a:lnTo>
                  <a:lnTo>
                    <a:pt x="23" y="6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4017960" y="3913200"/>
              <a:ext cx="120600" cy="318960"/>
            </a:xfrm>
            <a:custGeom>
              <a:avLst/>
              <a:gdLst/>
              <a:ahLst/>
              <a:rect l="l" t="t" r="r" b="b"/>
              <a:pathLst>
                <a:path w="377" h="1006">
                  <a:moveTo>
                    <a:pt x="327" y="4"/>
                  </a:moveTo>
                  <a:lnTo>
                    <a:pt x="327" y="4"/>
                  </a:lnTo>
                  <a:lnTo>
                    <a:pt x="304" y="19"/>
                  </a:lnTo>
                  <a:lnTo>
                    <a:pt x="283" y="35"/>
                  </a:lnTo>
                  <a:lnTo>
                    <a:pt x="261" y="54"/>
                  </a:lnTo>
                  <a:lnTo>
                    <a:pt x="241" y="73"/>
                  </a:lnTo>
                  <a:lnTo>
                    <a:pt x="221" y="95"/>
                  </a:lnTo>
                  <a:lnTo>
                    <a:pt x="203" y="117"/>
                  </a:lnTo>
                  <a:lnTo>
                    <a:pt x="184" y="141"/>
                  </a:lnTo>
                  <a:lnTo>
                    <a:pt x="167" y="168"/>
                  </a:lnTo>
                  <a:lnTo>
                    <a:pt x="150" y="195"/>
                  </a:lnTo>
                  <a:lnTo>
                    <a:pt x="134" y="224"/>
                  </a:lnTo>
                  <a:lnTo>
                    <a:pt x="120" y="252"/>
                  </a:lnTo>
                  <a:lnTo>
                    <a:pt x="106" y="283"/>
                  </a:lnTo>
                  <a:lnTo>
                    <a:pt x="92" y="315"/>
                  </a:lnTo>
                  <a:lnTo>
                    <a:pt x="80" y="348"/>
                  </a:lnTo>
                  <a:lnTo>
                    <a:pt x="68" y="381"/>
                  </a:lnTo>
                  <a:lnTo>
                    <a:pt x="57" y="415"/>
                  </a:lnTo>
                  <a:lnTo>
                    <a:pt x="47" y="449"/>
                  </a:lnTo>
                  <a:lnTo>
                    <a:pt x="37" y="485"/>
                  </a:lnTo>
                  <a:lnTo>
                    <a:pt x="29" y="521"/>
                  </a:lnTo>
                  <a:lnTo>
                    <a:pt x="23" y="558"/>
                  </a:lnTo>
                  <a:lnTo>
                    <a:pt x="16" y="595"/>
                  </a:lnTo>
                  <a:lnTo>
                    <a:pt x="11" y="632"/>
                  </a:lnTo>
                  <a:lnTo>
                    <a:pt x="7" y="670"/>
                  </a:lnTo>
                  <a:lnTo>
                    <a:pt x="3" y="707"/>
                  </a:lnTo>
                  <a:lnTo>
                    <a:pt x="1" y="745"/>
                  </a:lnTo>
                  <a:lnTo>
                    <a:pt x="0" y="783"/>
                  </a:lnTo>
                  <a:lnTo>
                    <a:pt x="0" y="820"/>
                  </a:lnTo>
                  <a:lnTo>
                    <a:pt x="1" y="858"/>
                  </a:lnTo>
                  <a:lnTo>
                    <a:pt x="3" y="896"/>
                  </a:lnTo>
                  <a:lnTo>
                    <a:pt x="8" y="933"/>
                  </a:lnTo>
                  <a:lnTo>
                    <a:pt x="12" y="970"/>
                  </a:lnTo>
                  <a:lnTo>
                    <a:pt x="18" y="1006"/>
                  </a:lnTo>
                  <a:lnTo>
                    <a:pt x="85" y="994"/>
                  </a:lnTo>
                  <a:lnTo>
                    <a:pt x="80" y="959"/>
                  </a:lnTo>
                  <a:lnTo>
                    <a:pt x="75" y="925"/>
                  </a:lnTo>
                  <a:lnTo>
                    <a:pt x="70" y="891"/>
                  </a:lnTo>
                  <a:lnTo>
                    <a:pt x="68" y="856"/>
                  </a:lnTo>
                  <a:lnTo>
                    <a:pt x="67" y="820"/>
                  </a:lnTo>
                  <a:lnTo>
                    <a:pt x="67" y="784"/>
                  </a:lnTo>
                  <a:lnTo>
                    <a:pt x="68" y="748"/>
                  </a:lnTo>
                  <a:lnTo>
                    <a:pt x="70" y="712"/>
                  </a:lnTo>
                  <a:lnTo>
                    <a:pt x="74" y="676"/>
                  </a:lnTo>
                  <a:lnTo>
                    <a:pt x="77" y="641"/>
                  </a:lnTo>
                  <a:lnTo>
                    <a:pt x="82" y="606"/>
                  </a:lnTo>
                  <a:lnTo>
                    <a:pt x="89" y="570"/>
                  </a:lnTo>
                  <a:lnTo>
                    <a:pt x="96" y="535"/>
                  </a:lnTo>
                  <a:lnTo>
                    <a:pt x="104" y="501"/>
                  </a:lnTo>
                  <a:lnTo>
                    <a:pt x="112" y="468"/>
                  </a:lnTo>
                  <a:lnTo>
                    <a:pt x="122" y="435"/>
                  </a:lnTo>
                  <a:lnTo>
                    <a:pt x="132" y="403"/>
                  </a:lnTo>
                  <a:lnTo>
                    <a:pt x="142" y="371"/>
                  </a:lnTo>
                  <a:lnTo>
                    <a:pt x="155" y="340"/>
                  </a:lnTo>
                  <a:lnTo>
                    <a:pt x="167" y="310"/>
                  </a:lnTo>
                  <a:lnTo>
                    <a:pt x="180" y="282"/>
                  </a:lnTo>
                  <a:lnTo>
                    <a:pt x="194" y="254"/>
                  </a:lnTo>
                  <a:lnTo>
                    <a:pt x="208" y="229"/>
                  </a:lnTo>
                  <a:lnTo>
                    <a:pt x="224" y="204"/>
                  </a:lnTo>
                  <a:lnTo>
                    <a:pt x="239" y="180"/>
                  </a:lnTo>
                  <a:lnTo>
                    <a:pt x="255" y="159"/>
                  </a:lnTo>
                  <a:lnTo>
                    <a:pt x="272" y="138"/>
                  </a:lnTo>
                  <a:lnTo>
                    <a:pt x="289" y="120"/>
                  </a:lnTo>
                  <a:lnTo>
                    <a:pt x="306" y="103"/>
                  </a:lnTo>
                  <a:lnTo>
                    <a:pt x="325" y="88"/>
                  </a:lnTo>
                  <a:lnTo>
                    <a:pt x="342" y="75"/>
                  </a:lnTo>
                  <a:lnTo>
                    <a:pt x="360" y="64"/>
                  </a:lnTo>
                  <a:lnTo>
                    <a:pt x="360" y="64"/>
                  </a:lnTo>
                  <a:lnTo>
                    <a:pt x="360" y="64"/>
                  </a:lnTo>
                  <a:lnTo>
                    <a:pt x="367" y="59"/>
                  </a:lnTo>
                  <a:lnTo>
                    <a:pt x="371" y="54"/>
                  </a:lnTo>
                  <a:lnTo>
                    <a:pt x="375" y="48"/>
                  </a:lnTo>
                  <a:lnTo>
                    <a:pt x="377" y="42"/>
                  </a:lnTo>
                  <a:lnTo>
                    <a:pt x="377" y="35"/>
                  </a:lnTo>
                  <a:lnTo>
                    <a:pt x="377" y="30"/>
                  </a:lnTo>
                  <a:lnTo>
                    <a:pt x="376" y="23"/>
                  </a:lnTo>
                  <a:lnTo>
                    <a:pt x="373" y="17"/>
                  </a:lnTo>
                  <a:lnTo>
                    <a:pt x="369" y="12"/>
                  </a:lnTo>
                  <a:lnTo>
                    <a:pt x="365" y="8"/>
                  </a:lnTo>
                  <a:lnTo>
                    <a:pt x="360" y="4"/>
                  </a:lnTo>
                  <a:lnTo>
                    <a:pt x="354" y="1"/>
                  </a:lnTo>
                  <a:lnTo>
                    <a:pt x="348" y="0"/>
                  </a:lnTo>
                  <a:lnTo>
                    <a:pt x="341" y="0"/>
                  </a:lnTo>
                  <a:lnTo>
                    <a:pt x="334" y="1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4122720" y="3882960"/>
              <a:ext cx="201600" cy="50760"/>
            </a:xfrm>
            <a:custGeom>
              <a:avLst/>
              <a:gdLst/>
              <a:ahLst/>
              <a:rect l="l" t="t" r="r" b="b"/>
              <a:pathLst>
                <a:path w="637" h="162">
                  <a:moveTo>
                    <a:pt x="632" y="107"/>
                  </a:moveTo>
                  <a:lnTo>
                    <a:pt x="614" y="93"/>
                  </a:lnTo>
                  <a:lnTo>
                    <a:pt x="523" y="59"/>
                  </a:lnTo>
                  <a:lnTo>
                    <a:pt x="446" y="31"/>
                  </a:lnTo>
                  <a:lnTo>
                    <a:pt x="410" y="19"/>
                  </a:lnTo>
                  <a:lnTo>
                    <a:pt x="376" y="11"/>
                  </a:lnTo>
                  <a:lnTo>
                    <a:pt x="359" y="7"/>
                  </a:lnTo>
                  <a:lnTo>
                    <a:pt x="342" y="4"/>
                  </a:lnTo>
                  <a:lnTo>
                    <a:pt x="326" y="2"/>
                  </a:lnTo>
                  <a:lnTo>
                    <a:pt x="309" y="1"/>
                  </a:lnTo>
                  <a:lnTo>
                    <a:pt x="292" y="0"/>
                  </a:lnTo>
                  <a:lnTo>
                    <a:pt x="275" y="1"/>
                  </a:lnTo>
                  <a:lnTo>
                    <a:pt x="259" y="2"/>
                  </a:lnTo>
                  <a:lnTo>
                    <a:pt x="242" y="3"/>
                  </a:lnTo>
                  <a:lnTo>
                    <a:pt x="223" y="7"/>
                  </a:lnTo>
                  <a:lnTo>
                    <a:pt x="206" y="10"/>
                  </a:lnTo>
                  <a:lnTo>
                    <a:pt x="188" y="15"/>
                  </a:lnTo>
                  <a:lnTo>
                    <a:pt x="170" y="21"/>
                  </a:lnTo>
                  <a:lnTo>
                    <a:pt x="150" y="27"/>
                  </a:lnTo>
                  <a:lnTo>
                    <a:pt x="131" y="35"/>
                  </a:lnTo>
                  <a:lnTo>
                    <a:pt x="112" y="44"/>
                  </a:lnTo>
                  <a:lnTo>
                    <a:pt x="90" y="53"/>
                  </a:lnTo>
                  <a:lnTo>
                    <a:pt x="47" y="76"/>
                  </a:lnTo>
                  <a:lnTo>
                    <a:pt x="0" y="102"/>
                  </a:lnTo>
                  <a:lnTo>
                    <a:pt x="33" y="162"/>
                  </a:lnTo>
                  <a:lnTo>
                    <a:pt x="79" y="136"/>
                  </a:lnTo>
                  <a:lnTo>
                    <a:pt x="121" y="114"/>
                  </a:lnTo>
                  <a:lnTo>
                    <a:pt x="139" y="106"/>
                  </a:lnTo>
                  <a:lnTo>
                    <a:pt x="157" y="98"/>
                  </a:lnTo>
                  <a:lnTo>
                    <a:pt x="174" y="91"/>
                  </a:lnTo>
                  <a:lnTo>
                    <a:pt x="192" y="85"/>
                  </a:lnTo>
                  <a:lnTo>
                    <a:pt x="206" y="80"/>
                  </a:lnTo>
                  <a:lnTo>
                    <a:pt x="222" y="76"/>
                  </a:lnTo>
                  <a:lnTo>
                    <a:pt x="237" y="73"/>
                  </a:lnTo>
                  <a:lnTo>
                    <a:pt x="251" y="71"/>
                  </a:lnTo>
                  <a:lnTo>
                    <a:pt x="264" y="68"/>
                  </a:lnTo>
                  <a:lnTo>
                    <a:pt x="278" y="68"/>
                  </a:lnTo>
                  <a:lnTo>
                    <a:pt x="292" y="67"/>
                  </a:lnTo>
                  <a:lnTo>
                    <a:pt x="306" y="68"/>
                  </a:lnTo>
                  <a:lnTo>
                    <a:pt x="318" y="69"/>
                  </a:lnTo>
                  <a:lnTo>
                    <a:pt x="332" y="71"/>
                  </a:lnTo>
                  <a:lnTo>
                    <a:pt x="347" y="74"/>
                  </a:lnTo>
                  <a:lnTo>
                    <a:pt x="360" y="76"/>
                  </a:lnTo>
                  <a:lnTo>
                    <a:pt x="391" y="84"/>
                  </a:lnTo>
                  <a:lnTo>
                    <a:pt x="424" y="95"/>
                  </a:lnTo>
                  <a:lnTo>
                    <a:pt x="499" y="122"/>
                  </a:lnTo>
                  <a:lnTo>
                    <a:pt x="592" y="156"/>
                  </a:lnTo>
                  <a:lnTo>
                    <a:pt x="575" y="142"/>
                  </a:lnTo>
                  <a:lnTo>
                    <a:pt x="592" y="156"/>
                  </a:lnTo>
                  <a:lnTo>
                    <a:pt x="598" y="158"/>
                  </a:lnTo>
                  <a:lnTo>
                    <a:pt x="606" y="158"/>
                  </a:lnTo>
                  <a:lnTo>
                    <a:pt x="612" y="157"/>
                  </a:lnTo>
                  <a:lnTo>
                    <a:pt x="619" y="155"/>
                  </a:lnTo>
                  <a:lnTo>
                    <a:pt x="624" y="152"/>
                  </a:lnTo>
                  <a:lnTo>
                    <a:pt x="628" y="147"/>
                  </a:lnTo>
                  <a:lnTo>
                    <a:pt x="632" y="142"/>
                  </a:lnTo>
                  <a:lnTo>
                    <a:pt x="635" y="137"/>
                  </a:lnTo>
                  <a:lnTo>
                    <a:pt x="636" y="130"/>
                  </a:lnTo>
                  <a:lnTo>
                    <a:pt x="637" y="124"/>
                  </a:lnTo>
                  <a:lnTo>
                    <a:pt x="636" y="117"/>
                  </a:lnTo>
                  <a:lnTo>
                    <a:pt x="635" y="112"/>
                  </a:lnTo>
                  <a:lnTo>
                    <a:pt x="632" y="106"/>
                  </a:lnTo>
                  <a:lnTo>
                    <a:pt x="627" y="101"/>
                  </a:lnTo>
                  <a:lnTo>
                    <a:pt x="621" y="97"/>
                  </a:lnTo>
                  <a:lnTo>
                    <a:pt x="614" y="93"/>
                  </a:lnTo>
                  <a:lnTo>
                    <a:pt x="63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4305240" y="3916440"/>
              <a:ext cx="111240" cy="330120"/>
            </a:xfrm>
            <a:custGeom>
              <a:avLst/>
              <a:gdLst/>
              <a:ahLst/>
              <a:rect l="l" t="t" r="r" b="b"/>
              <a:pathLst>
                <a:path w="351" h="1042">
                  <a:moveTo>
                    <a:pt x="351" y="1001"/>
                  </a:moveTo>
                  <a:lnTo>
                    <a:pt x="351" y="1003"/>
                  </a:lnTo>
                  <a:lnTo>
                    <a:pt x="330" y="876"/>
                  </a:lnTo>
                  <a:lnTo>
                    <a:pt x="308" y="746"/>
                  </a:lnTo>
                  <a:lnTo>
                    <a:pt x="296" y="680"/>
                  </a:lnTo>
                  <a:lnTo>
                    <a:pt x="282" y="614"/>
                  </a:lnTo>
                  <a:lnTo>
                    <a:pt x="267" y="548"/>
                  </a:lnTo>
                  <a:lnTo>
                    <a:pt x="251" y="483"/>
                  </a:lnTo>
                  <a:lnTo>
                    <a:pt x="233" y="418"/>
                  </a:lnTo>
                  <a:lnTo>
                    <a:pt x="215" y="354"/>
                  </a:lnTo>
                  <a:lnTo>
                    <a:pt x="193" y="291"/>
                  </a:lnTo>
                  <a:lnTo>
                    <a:pt x="171" y="229"/>
                  </a:lnTo>
                  <a:lnTo>
                    <a:pt x="158" y="199"/>
                  </a:lnTo>
                  <a:lnTo>
                    <a:pt x="145" y="169"/>
                  </a:lnTo>
                  <a:lnTo>
                    <a:pt x="132" y="139"/>
                  </a:lnTo>
                  <a:lnTo>
                    <a:pt x="118" y="111"/>
                  </a:lnTo>
                  <a:lnTo>
                    <a:pt x="103" y="82"/>
                  </a:lnTo>
                  <a:lnTo>
                    <a:pt x="88" y="54"/>
                  </a:lnTo>
                  <a:lnTo>
                    <a:pt x="73" y="26"/>
                  </a:lnTo>
                  <a:lnTo>
                    <a:pt x="57" y="0"/>
                  </a:lnTo>
                  <a:lnTo>
                    <a:pt x="0" y="35"/>
                  </a:lnTo>
                  <a:lnTo>
                    <a:pt x="14" y="61"/>
                  </a:lnTo>
                  <a:lnTo>
                    <a:pt x="29" y="87"/>
                  </a:lnTo>
                  <a:lnTo>
                    <a:pt x="44" y="113"/>
                  </a:lnTo>
                  <a:lnTo>
                    <a:pt x="58" y="140"/>
                  </a:lnTo>
                  <a:lnTo>
                    <a:pt x="71" y="168"/>
                  </a:lnTo>
                  <a:lnTo>
                    <a:pt x="84" y="196"/>
                  </a:lnTo>
                  <a:lnTo>
                    <a:pt x="96" y="225"/>
                  </a:lnTo>
                  <a:lnTo>
                    <a:pt x="108" y="253"/>
                  </a:lnTo>
                  <a:lnTo>
                    <a:pt x="130" y="313"/>
                  </a:lnTo>
                  <a:lnTo>
                    <a:pt x="150" y="374"/>
                  </a:lnTo>
                  <a:lnTo>
                    <a:pt x="168" y="436"/>
                  </a:lnTo>
                  <a:lnTo>
                    <a:pt x="187" y="500"/>
                  </a:lnTo>
                  <a:lnTo>
                    <a:pt x="201" y="564"/>
                  </a:lnTo>
                  <a:lnTo>
                    <a:pt x="216" y="629"/>
                  </a:lnTo>
                  <a:lnTo>
                    <a:pt x="230" y="693"/>
                  </a:lnTo>
                  <a:lnTo>
                    <a:pt x="242" y="758"/>
                  </a:lnTo>
                  <a:lnTo>
                    <a:pt x="264" y="887"/>
                  </a:lnTo>
                  <a:lnTo>
                    <a:pt x="283" y="1013"/>
                  </a:lnTo>
                  <a:lnTo>
                    <a:pt x="285" y="1014"/>
                  </a:lnTo>
                  <a:lnTo>
                    <a:pt x="283" y="1013"/>
                  </a:lnTo>
                  <a:lnTo>
                    <a:pt x="286" y="1020"/>
                  </a:lnTo>
                  <a:lnTo>
                    <a:pt x="289" y="1027"/>
                  </a:lnTo>
                  <a:lnTo>
                    <a:pt x="293" y="1033"/>
                  </a:lnTo>
                  <a:lnTo>
                    <a:pt x="298" y="1036"/>
                  </a:lnTo>
                  <a:lnTo>
                    <a:pt x="304" y="1039"/>
                  </a:lnTo>
                  <a:lnTo>
                    <a:pt x="310" y="1041"/>
                  </a:lnTo>
                  <a:lnTo>
                    <a:pt x="316" y="1042"/>
                  </a:lnTo>
                  <a:lnTo>
                    <a:pt x="322" y="1042"/>
                  </a:lnTo>
                  <a:lnTo>
                    <a:pt x="328" y="1039"/>
                  </a:lnTo>
                  <a:lnTo>
                    <a:pt x="335" y="1037"/>
                  </a:lnTo>
                  <a:lnTo>
                    <a:pt x="339" y="1034"/>
                  </a:lnTo>
                  <a:lnTo>
                    <a:pt x="344" y="1029"/>
                  </a:lnTo>
                  <a:lnTo>
                    <a:pt x="347" y="1025"/>
                  </a:lnTo>
                  <a:lnTo>
                    <a:pt x="350" y="1018"/>
                  </a:lnTo>
                  <a:lnTo>
                    <a:pt x="351" y="1011"/>
                  </a:lnTo>
                  <a:lnTo>
                    <a:pt x="351" y="1003"/>
                  </a:lnTo>
                  <a:lnTo>
                    <a:pt x="351" y="10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4334040" y="4232160"/>
              <a:ext cx="82440" cy="41400"/>
            </a:xfrm>
            <a:custGeom>
              <a:avLst/>
              <a:gdLst/>
              <a:ahLst/>
              <a:rect l="l" t="t" r="r" b="b"/>
              <a:pathLst>
                <a:path w="258" h="133">
                  <a:moveTo>
                    <a:pt x="31" y="66"/>
                  </a:moveTo>
                  <a:lnTo>
                    <a:pt x="67" y="97"/>
                  </a:lnTo>
                  <a:lnTo>
                    <a:pt x="66" y="106"/>
                  </a:lnTo>
                  <a:lnTo>
                    <a:pt x="63" y="113"/>
                  </a:lnTo>
                  <a:lnTo>
                    <a:pt x="60" y="116"/>
                  </a:lnTo>
                  <a:lnTo>
                    <a:pt x="59" y="117"/>
                  </a:lnTo>
                  <a:lnTo>
                    <a:pt x="65" y="114"/>
                  </a:lnTo>
                  <a:lnTo>
                    <a:pt x="74" y="109"/>
                  </a:lnTo>
                  <a:lnTo>
                    <a:pt x="104" y="100"/>
                  </a:lnTo>
                  <a:lnTo>
                    <a:pt x="139" y="91"/>
                  </a:lnTo>
                  <a:lnTo>
                    <a:pt x="177" y="81"/>
                  </a:lnTo>
                  <a:lnTo>
                    <a:pt x="209" y="69"/>
                  </a:lnTo>
                  <a:lnTo>
                    <a:pt x="225" y="62"/>
                  </a:lnTo>
                  <a:lnTo>
                    <a:pt x="237" y="54"/>
                  </a:lnTo>
                  <a:lnTo>
                    <a:pt x="246" y="46"/>
                  </a:lnTo>
                  <a:lnTo>
                    <a:pt x="253" y="36"/>
                  </a:lnTo>
                  <a:lnTo>
                    <a:pt x="258" y="24"/>
                  </a:lnTo>
                  <a:lnTo>
                    <a:pt x="258" y="8"/>
                  </a:lnTo>
                  <a:lnTo>
                    <a:pt x="192" y="21"/>
                  </a:lnTo>
                  <a:lnTo>
                    <a:pt x="192" y="12"/>
                  </a:lnTo>
                  <a:lnTo>
                    <a:pt x="194" y="5"/>
                  </a:lnTo>
                  <a:lnTo>
                    <a:pt x="196" y="2"/>
                  </a:lnTo>
                  <a:lnTo>
                    <a:pt x="198" y="0"/>
                  </a:lnTo>
                  <a:lnTo>
                    <a:pt x="194" y="3"/>
                  </a:lnTo>
                  <a:lnTo>
                    <a:pt x="186" y="6"/>
                  </a:lnTo>
                  <a:lnTo>
                    <a:pt x="156" y="16"/>
                  </a:lnTo>
                  <a:lnTo>
                    <a:pt x="122" y="25"/>
                  </a:lnTo>
                  <a:lnTo>
                    <a:pt x="86" y="35"/>
                  </a:lnTo>
                  <a:lnTo>
                    <a:pt x="52" y="45"/>
                  </a:lnTo>
                  <a:lnTo>
                    <a:pt x="37" y="52"/>
                  </a:lnTo>
                  <a:lnTo>
                    <a:pt x="24" y="59"/>
                  </a:lnTo>
                  <a:lnTo>
                    <a:pt x="15" y="66"/>
                  </a:lnTo>
                  <a:lnTo>
                    <a:pt x="8" y="74"/>
                  </a:lnTo>
                  <a:lnTo>
                    <a:pt x="2" y="86"/>
                  </a:lnTo>
                  <a:lnTo>
                    <a:pt x="0" y="101"/>
                  </a:lnTo>
                  <a:lnTo>
                    <a:pt x="38" y="133"/>
                  </a:lnTo>
                  <a:lnTo>
                    <a:pt x="0" y="101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8" y="122"/>
                  </a:lnTo>
                  <a:lnTo>
                    <a:pt x="13" y="126"/>
                  </a:lnTo>
                  <a:lnTo>
                    <a:pt x="18" y="130"/>
                  </a:lnTo>
                  <a:lnTo>
                    <a:pt x="24" y="132"/>
                  </a:lnTo>
                  <a:lnTo>
                    <a:pt x="30" y="133"/>
                  </a:lnTo>
                  <a:lnTo>
                    <a:pt x="37" y="133"/>
                  </a:lnTo>
                  <a:lnTo>
                    <a:pt x="42" y="132"/>
                  </a:lnTo>
                  <a:lnTo>
                    <a:pt x="48" y="130"/>
                  </a:lnTo>
                  <a:lnTo>
                    <a:pt x="54" y="127"/>
                  </a:lnTo>
                  <a:lnTo>
                    <a:pt x="58" y="123"/>
                  </a:lnTo>
                  <a:lnTo>
                    <a:pt x="63" y="118"/>
                  </a:lnTo>
                  <a:lnTo>
                    <a:pt x="65" y="111"/>
                  </a:lnTo>
                  <a:lnTo>
                    <a:pt x="67" y="105"/>
                  </a:lnTo>
                  <a:lnTo>
                    <a:pt x="67" y="97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4343400" y="4251240"/>
              <a:ext cx="287280" cy="65160"/>
            </a:xfrm>
            <a:custGeom>
              <a:avLst/>
              <a:gdLst/>
              <a:ahLst/>
              <a:rect l="l" t="t" r="r" b="b"/>
              <a:pathLst>
                <a:path w="903" h="204">
                  <a:moveTo>
                    <a:pt x="879" y="139"/>
                  </a:moveTo>
                  <a:lnTo>
                    <a:pt x="874" y="138"/>
                  </a:lnTo>
                  <a:lnTo>
                    <a:pt x="802" y="124"/>
                  </a:lnTo>
                  <a:lnTo>
                    <a:pt x="703" y="103"/>
                  </a:lnTo>
                  <a:lnTo>
                    <a:pt x="585" y="79"/>
                  </a:lnTo>
                  <a:lnTo>
                    <a:pt x="457" y="53"/>
                  </a:lnTo>
                  <a:lnTo>
                    <a:pt x="391" y="42"/>
                  </a:lnTo>
                  <a:lnTo>
                    <a:pt x="326" y="30"/>
                  </a:lnTo>
                  <a:lnTo>
                    <a:pt x="262" y="20"/>
                  </a:lnTo>
                  <a:lnTo>
                    <a:pt x="200" y="11"/>
                  </a:lnTo>
                  <a:lnTo>
                    <a:pt x="142" y="5"/>
                  </a:lnTo>
                  <a:lnTo>
                    <a:pt x="90" y="1"/>
                  </a:lnTo>
                  <a:lnTo>
                    <a:pt x="65" y="0"/>
                  </a:lnTo>
                  <a:lnTo>
                    <a:pt x="42" y="0"/>
                  </a:lnTo>
                  <a:lnTo>
                    <a:pt x="19" y="1"/>
                  </a:lnTo>
                  <a:lnTo>
                    <a:pt x="0" y="2"/>
                  </a:lnTo>
                  <a:lnTo>
                    <a:pt x="7" y="69"/>
                  </a:lnTo>
                  <a:lnTo>
                    <a:pt x="23" y="68"/>
                  </a:lnTo>
                  <a:lnTo>
                    <a:pt x="42" y="67"/>
                  </a:lnTo>
                  <a:lnTo>
                    <a:pt x="64" y="67"/>
                  </a:lnTo>
                  <a:lnTo>
                    <a:pt x="85" y="68"/>
                  </a:lnTo>
                  <a:lnTo>
                    <a:pt x="137" y="73"/>
                  </a:lnTo>
                  <a:lnTo>
                    <a:pt x="192" y="78"/>
                  </a:lnTo>
                  <a:lnTo>
                    <a:pt x="252" y="86"/>
                  </a:lnTo>
                  <a:lnTo>
                    <a:pt x="314" y="96"/>
                  </a:lnTo>
                  <a:lnTo>
                    <a:pt x="378" y="108"/>
                  </a:lnTo>
                  <a:lnTo>
                    <a:pt x="444" y="119"/>
                  </a:lnTo>
                  <a:lnTo>
                    <a:pt x="572" y="146"/>
                  </a:lnTo>
                  <a:lnTo>
                    <a:pt x="690" y="170"/>
                  </a:lnTo>
                  <a:lnTo>
                    <a:pt x="790" y="190"/>
                  </a:lnTo>
                  <a:lnTo>
                    <a:pt x="864" y="204"/>
                  </a:lnTo>
                  <a:lnTo>
                    <a:pt x="858" y="203"/>
                  </a:lnTo>
                  <a:lnTo>
                    <a:pt x="864" y="204"/>
                  </a:lnTo>
                  <a:lnTo>
                    <a:pt x="872" y="204"/>
                  </a:lnTo>
                  <a:lnTo>
                    <a:pt x="879" y="204"/>
                  </a:lnTo>
                  <a:lnTo>
                    <a:pt x="884" y="200"/>
                  </a:lnTo>
                  <a:lnTo>
                    <a:pt x="890" y="197"/>
                  </a:lnTo>
                  <a:lnTo>
                    <a:pt x="895" y="192"/>
                  </a:lnTo>
                  <a:lnTo>
                    <a:pt x="898" y="188"/>
                  </a:lnTo>
                  <a:lnTo>
                    <a:pt x="900" y="182"/>
                  </a:lnTo>
                  <a:lnTo>
                    <a:pt x="902" y="175"/>
                  </a:lnTo>
                  <a:lnTo>
                    <a:pt x="903" y="170"/>
                  </a:lnTo>
                  <a:lnTo>
                    <a:pt x="902" y="163"/>
                  </a:lnTo>
                  <a:lnTo>
                    <a:pt x="900" y="157"/>
                  </a:lnTo>
                  <a:lnTo>
                    <a:pt x="897" y="151"/>
                  </a:lnTo>
                  <a:lnTo>
                    <a:pt x="894" y="147"/>
                  </a:lnTo>
                  <a:lnTo>
                    <a:pt x="888" y="142"/>
                  </a:lnTo>
                  <a:lnTo>
                    <a:pt x="882" y="139"/>
                  </a:lnTo>
                  <a:lnTo>
                    <a:pt x="874" y="138"/>
                  </a:lnTo>
                  <a:lnTo>
                    <a:pt x="879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4616280" y="4295880"/>
              <a:ext cx="219240" cy="52200"/>
            </a:xfrm>
            <a:custGeom>
              <a:avLst/>
              <a:gdLst/>
              <a:ahLst/>
              <a:rect l="l" t="t" r="r" b="b"/>
              <a:pathLst>
                <a:path w="691" h="166">
                  <a:moveTo>
                    <a:pt x="653" y="92"/>
                  </a:moveTo>
                  <a:lnTo>
                    <a:pt x="650" y="92"/>
                  </a:lnTo>
                  <a:lnTo>
                    <a:pt x="637" y="94"/>
                  </a:lnTo>
                  <a:lnTo>
                    <a:pt x="624" y="97"/>
                  </a:lnTo>
                  <a:lnTo>
                    <a:pt x="608" y="98"/>
                  </a:lnTo>
                  <a:lnTo>
                    <a:pt x="592" y="99"/>
                  </a:lnTo>
                  <a:lnTo>
                    <a:pt x="554" y="99"/>
                  </a:lnTo>
                  <a:lnTo>
                    <a:pt x="514" y="97"/>
                  </a:lnTo>
                  <a:lnTo>
                    <a:pt x="471" y="92"/>
                  </a:lnTo>
                  <a:lnTo>
                    <a:pt x="425" y="88"/>
                  </a:lnTo>
                  <a:lnTo>
                    <a:pt x="379" y="81"/>
                  </a:lnTo>
                  <a:lnTo>
                    <a:pt x="332" y="73"/>
                  </a:lnTo>
                  <a:lnTo>
                    <a:pt x="284" y="64"/>
                  </a:lnTo>
                  <a:lnTo>
                    <a:pt x="238" y="54"/>
                  </a:lnTo>
                  <a:lnTo>
                    <a:pt x="194" y="45"/>
                  </a:lnTo>
                  <a:lnTo>
                    <a:pt x="152" y="35"/>
                  </a:lnTo>
                  <a:lnTo>
                    <a:pt x="113" y="26"/>
                  </a:lnTo>
                  <a:lnTo>
                    <a:pt x="78" y="16"/>
                  </a:lnTo>
                  <a:lnTo>
                    <a:pt x="47" y="8"/>
                  </a:lnTo>
                  <a:lnTo>
                    <a:pt x="21" y="0"/>
                  </a:lnTo>
                  <a:lnTo>
                    <a:pt x="0" y="64"/>
                  </a:lnTo>
                  <a:lnTo>
                    <a:pt x="28" y="72"/>
                  </a:lnTo>
                  <a:lnTo>
                    <a:pt x="60" y="81"/>
                  </a:lnTo>
                  <a:lnTo>
                    <a:pt x="96" y="91"/>
                  </a:lnTo>
                  <a:lnTo>
                    <a:pt x="136" y="100"/>
                  </a:lnTo>
                  <a:lnTo>
                    <a:pt x="179" y="110"/>
                  </a:lnTo>
                  <a:lnTo>
                    <a:pt x="225" y="121"/>
                  </a:lnTo>
                  <a:lnTo>
                    <a:pt x="272" y="130"/>
                  </a:lnTo>
                  <a:lnTo>
                    <a:pt x="321" y="139"/>
                  </a:lnTo>
                  <a:lnTo>
                    <a:pt x="368" y="147"/>
                  </a:lnTo>
                  <a:lnTo>
                    <a:pt x="416" y="154"/>
                  </a:lnTo>
                  <a:lnTo>
                    <a:pt x="464" y="159"/>
                  </a:lnTo>
                  <a:lnTo>
                    <a:pt x="510" y="164"/>
                  </a:lnTo>
                  <a:lnTo>
                    <a:pt x="553" y="166"/>
                  </a:lnTo>
                  <a:lnTo>
                    <a:pt x="593" y="166"/>
                  </a:lnTo>
                  <a:lnTo>
                    <a:pt x="612" y="165"/>
                  </a:lnTo>
                  <a:lnTo>
                    <a:pt x="631" y="164"/>
                  </a:lnTo>
                  <a:lnTo>
                    <a:pt x="648" y="162"/>
                  </a:lnTo>
                  <a:lnTo>
                    <a:pt x="665" y="158"/>
                  </a:lnTo>
                  <a:lnTo>
                    <a:pt x="661" y="159"/>
                  </a:lnTo>
                  <a:lnTo>
                    <a:pt x="665" y="158"/>
                  </a:lnTo>
                  <a:lnTo>
                    <a:pt x="672" y="156"/>
                  </a:lnTo>
                  <a:lnTo>
                    <a:pt x="679" y="153"/>
                  </a:lnTo>
                  <a:lnTo>
                    <a:pt x="683" y="148"/>
                  </a:lnTo>
                  <a:lnTo>
                    <a:pt x="687" y="143"/>
                  </a:lnTo>
                  <a:lnTo>
                    <a:pt x="689" y="138"/>
                  </a:lnTo>
                  <a:lnTo>
                    <a:pt x="691" y="131"/>
                  </a:lnTo>
                  <a:lnTo>
                    <a:pt x="691" y="125"/>
                  </a:lnTo>
                  <a:lnTo>
                    <a:pt x="690" y="118"/>
                  </a:lnTo>
                  <a:lnTo>
                    <a:pt x="689" y="113"/>
                  </a:lnTo>
                  <a:lnTo>
                    <a:pt x="685" y="107"/>
                  </a:lnTo>
                  <a:lnTo>
                    <a:pt x="682" y="102"/>
                  </a:lnTo>
                  <a:lnTo>
                    <a:pt x="677" y="98"/>
                  </a:lnTo>
                  <a:lnTo>
                    <a:pt x="672" y="94"/>
                  </a:lnTo>
                  <a:lnTo>
                    <a:pt x="665" y="92"/>
                  </a:lnTo>
                  <a:lnTo>
                    <a:pt x="658" y="92"/>
                  </a:lnTo>
                  <a:lnTo>
                    <a:pt x="650" y="92"/>
                  </a:lnTo>
                  <a:lnTo>
                    <a:pt x="653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4807080" y="4324320"/>
              <a:ext cx="101520" cy="9216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35" y="221"/>
                  </a:moveTo>
                  <a:lnTo>
                    <a:pt x="31" y="288"/>
                  </a:lnTo>
                  <a:lnTo>
                    <a:pt x="66" y="291"/>
                  </a:lnTo>
                  <a:lnTo>
                    <a:pt x="98" y="291"/>
                  </a:lnTo>
                  <a:lnTo>
                    <a:pt x="129" y="288"/>
                  </a:lnTo>
                  <a:lnTo>
                    <a:pt x="157" y="286"/>
                  </a:lnTo>
                  <a:lnTo>
                    <a:pt x="183" y="280"/>
                  </a:lnTo>
                  <a:lnTo>
                    <a:pt x="207" y="275"/>
                  </a:lnTo>
                  <a:lnTo>
                    <a:pt x="229" y="267"/>
                  </a:lnTo>
                  <a:lnTo>
                    <a:pt x="248" y="258"/>
                  </a:lnTo>
                  <a:lnTo>
                    <a:pt x="265" y="247"/>
                  </a:lnTo>
                  <a:lnTo>
                    <a:pt x="281" y="235"/>
                  </a:lnTo>
                  <a:lnTo>
                    <a:pt x="295" y="222"/>
                  </a:lnTo>
                  <a:lnTo>
                    <a:pt x="305" y="207"/>
                  </a:lnTo>
                  <a:lnTo>
                    <a:pt x="315" y="192"/>
                  </a:lnTo>
                  <a:lnTo>
                    <a:pt x="319" y="174"/>
                  </a:lnTo>
                  <a:lnTo>
                    <a:pt x="322" y="158"/>
                  </a:lnTo>
                  <a:lnTo>
                    <a:pt x="322" y="140"/>
                  </a:lnTo>
                  <a:lnTo>
                    <a:pt x="319" y="124"/>
                  </a:lnTo>
                  <a:lnTo>
                    <a:pt x="313" y="107"/>
                  </a:lnTo>
                  <a:lnTo>
                    <a:pt x="305" y="92"/>
                  </a:lnTo>
                  <a:lnTo>
                    <a:pt x="296" y="77"/>
                  </a:lnTo>
                  <a:lnTo>
                    <a:pt x="284" y="64"/>
                  </a:lnTo>
                  <a:lnTo>
                    <a:pt x="271" y="52"/>
                  </a:lnTo>
                  <a:lnTo>
                    <a:pt x="255" y="41"/>
                  </a:lnTo>
                  <a:lnTo>
                    <a:pt x="238" y="31"/>
                  </a:lnTo>
                  <a:lnTo>
                    <a:pt x="220" y="22"/>
                  </a:lnTo>
                  <a:lnTo>
                    <a:pt x="201" y="15"/>
                  </a:lnTo>
                  <a:lnTo>
                    <a:pt x="179" y="9"/>
                  </a:lnTo>
                  <a:lnTo>
                    <a:pt x="156" y="4"/>
                  </a:lnTo>
                  <a:lnTo>
                    <a:pt x="132" y="1"/>
                  </a:lnTo>
                  <a:lnTo>
                    <a:pt x="107" y="0"/>
                  </a:lnTo>
                  <a:lnTo>
                    <a:pt x="81" y="0"/>
                  </a:lnTo>
                  <a:lnTo>
                    <a:pt x="53" y="2"/>
                  </a:lnTo>
                  <a:lnTo>
                    <a:pt x="61" y="69"/>
                  </a:lnTo>
                  <a:lnTo>
                    <a:pt x="84" y="67"/>
                  </a:lnTo>
                  <a:lnTo>
                    <a:pt x="106" y="67"/>
                  </a:lnTo>
                  <a:lnTo>
                    <a:pt x="126" y="68"/>
                  </a:lnTo>
                  <a:lnTo>
                    <a:pt x="146" y="71"/>
                  </a:lnTo>
                  <a:lnTo>
                    <a:pt x="163" y="74"/>
                  </a:lnTo>
                  <a:lnTo>
                    <a:pt x="180" y="79"/>
                  </a:lnTo>
                  <a:lnTo>
                    <a:pt x="194" y="84"/>
                  </a:lnTo>
                  <a:lnTo>
                    <a:pt x="207" y="90"/>
                  </a:lnTo>
                  <a:lnTo>
                    <a:pt x="219" y="97"/>
                  </a:lnTo>
                  <a:lnTo>
                    <a:pt x="228" y="104"/>
                  </a:lnTo>
                  <a:lnTo>
                    <a:pt x="236" y="112"/>
                  </a:lnTo>
                  <a:lnTo>
                    <a:pt x="243" y="120"/>
                  </a:lnTo>
                  <a:lnTo>
                    <a:pt x="248" y="126"/>
                  </a:lnTo>
                  <a:lnTo>
                    <a:pt x="252" y="133"/>
                  </a:lnTo>
                  <a:lnTo>
                    <a:pt x="254" y="140"/>
                  </a:lnTo>
                  <a:lnTo>
                    <a:pt x="255" y="147"/>
                  </a:lnTo>
                  <a:lnTo>
                    <a:pt x="255" y="153"/>
                  </a:lnTo>
                  <a:lnTo>
                    <a:pt x="254" y="158"/>
                  </a:lnTo>
                  <a:lnTo>
                    <a:pt x="252" y="165"/>
                  </a:lnTo>
                  <a:lnTo>
                    <a:pt x="248" y="171"/>
                  </a:lnTo>
                  <a:lnTo>
                    <a:pt x="244" y="178"/>
                  </a:lnTo>
                  <a:lnTo>
                    <a:pt x="237" y="185"/>
                  </a:lnTo>
                  <a:lnTo>
                    <a:pt x="228" y="192"/>
                  </a:lnTo>
                  <a:lnTo>
                    <a:pt x="218" y="198"/>
                  </a:lnTo>
                  <a:lnTo>
                    <a:pt x="203" y="204"/>
                  </a:lnTo>
                  <a:lnTo>
                    <a:pt x="187" y="210"/>
                  </a:lnTo>
                  <a:lnTo>
                    <a:pt x="169" y="215"/>
                  </a:lnTo>
                  <a:lnTo>
                    <a:pt x="147" y="219"/>
                  </a:lnTo>
                  <a:lnTo>
                    <a:pt x="123" y="221"/>
                  </a:lnTo>
                  <a:lnTo>
                    <a:pt x="97" y="223"/>
                  </a:lnTo>
                  <a:lnTo>
                    <a:pt x="67" y="223"/>
                  </a:lnTo>
                  <a:lnTo>
                    <a:pt x="35" y="221"/>
                  </a:lnTo>
                  <a:lnTo>
                    <a:pt x="31" y="288"/>
                  </a:lnTo>
                  <a:lnTo>
                    <a:pt x="35" y="221"/>
                  </a:lnTo>
                  <a:lnTo>
                    <a:pt x="27" y="222"/>
                  </a:lnTo>
                  <a:lnTo>
                    <a:pt x="20" y="223"/>
                  </a:lnTo>
                  <a:lnTo>
                    <a:pt x="15" y="227"/>
                  </a:lnTo>
                  <a:lnTo>
                    <a:pt x="9" y="230"/>
                  </a:lnTo>
                  <a:lnTo>
                    <a:pt x="6" y="235"/>
                  </a:lnTo>
                  <a:lnTo>
                    <a:pt x="2" y="241"/>
                  </a:lnTo>
                  <a:lnTo>
                    <a:pt x="1" y="246"/>
                  </a:lnTo>
                  <a:lnTo>
                    <a:pt x="0" y="253"/>
                  </a:lnTo>
                  <a:lnTo>
                    <a:pt x="0" y="259"/>
                  </a:lnTo>
                  <a:lnTo>
                    <a:pt x="1" y="266"/>
                  </a:lnTo>
                  <a:lnTo>
                    <a:pt x="3" y="271"/>
                  </a:lnTo>
                  <a:lnTo>
                    <a:pt x="7" y="277"/>
                  </a:lnTo>
                  <a:lnTo>
                    <a:pt x="10" y="282"/>
                  </a:lnTo>
                  <a:lnTo>
                    <a:pt x="16" y="285"/>
                  </a:lnTo>
                  <a:lnTo>
                    <a:pt x="23" y="287"/>
                  </a:lnTo>
                  <a:lnTo>
                    <a:pt x="31" y="288"/>
                  </a:lnTo>
                  <a:lnTo>
                    <a:pt x="35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4805280" y="4394160"/>
              <a:ext cx="96840" cy="95400"/>
            </a:xfrm>
            <a:custGeom>
              <a:avLst/>
              <a:gdLst/>
              <a:ahLst/>
              <a:rect l="l" t="t" r="r" b="b"/>
              <a:pathLst>
                <a:path w="308" h="298">
                  <a:moveTo>
                    <a:pt x="41" y="226"/>
                  </a:moveTo>
                  <a:lnTo>
                    <a:pt x="30" y="292"/>
                  </a:lnTo>
                  <a:lnTo>
                    <a:pt x="61" y="296"/>
                  </a:lnTo>
                  <a:lnTo>
                    <a:pt x="90" y="298"/>
                  </a:lnTo>
                  <a:lnTo>
                    <a:pt x="118" y="298"/>
                  </a:lnTo>
                  <a:lnTo>
                    <a:pt x="144" y="297"/>
                  </a:lnTo>
                  <a:lnTo>
                    <a:pt x="168" y="293"/>
                  </a:lnTo>
                  <a:lnTo>
                    <a:pt x="189" y="289"/>
                  </a:lnTo>
                  <a:lnTo>
                    <a:pt x="210" y="283"/>
                  </a:lnTo>
                  <a:lnTo>
                    <a:pt x="229" y="276"/>
                  </a:lnTo>
                  <a:lnTo>
                    <a:pt x="246" y="267"/>
                  </a:lnTo>
                  <a:lnTo>
                    <a:pt x="261" y="258"/>
                  </a:lnTo>
                  <a:lnTo>
                    <a:pt x="275" y="247"/>
                  </a:lnTo>
                  <a:lnTo>
                    <a:pt x="286" y="233"/>
                  </a:lnTo>
                  <a:lnTo>
                    <a:pt x="295" y="219"/>
                  </a:lnTo>
                  <a:lnTo>
                    <a:pt x="302" y="203"/>
                  </a:lnTo>
                  <a:lnTo>
                    <a:pt x="307" y="187"/>
                  </a:lnTo>
                  <a:lnTo>
                    <a:pt x="308" y="170"/>
                  </a:lnTo>
                  <a:lnTo>
                    <a:pt x="306" y="154"/>
                  </a:lnTo>
                  <a:lnTo>
                    <a:pt x="301" y="138"/>
                  </a:lnTo>
                  <a:lnTo>
                    <a:pt x="294" y="122"/>
                  </a:lnTo>
                  <a:lnTo>
                    <a:pt x="286" y="107"/>
                  </a:lnTo>
                  <a:lnTo>
                    <a:pt x="275" y="94"/>
                  </a:lnTo>
                  <a:lnTo>
                    <a:pt x="262" y="80"/>
                  </a:lnTo>
                  <a:lnTo>
                    <a:pt x="248" y="67"/>
                  </a:lnTo>
                  <a:lnTo>
                    <a:pt x="232" y="56"/>
                  </a:lnTo>
                  <a:lnTo>
                    <a:pt x="213" y="46"/>
                  </a:lnTo>
                  <a:lnTo>
                    <a:pt x="194" y="37"/>
                  </a:lnTo>
                  <a:lnTo>
                    <a:pt x="173" y="28"/>
                  </a:lnTo>
                  <a:lnTo>
                    <a:pt x="150" y="20"/>
                  </a:lnTo>
                  <a:lnTo>
                    <a:pt x="126" y="13"/>
                  </a:lnTo>
                  <a:lnTo>
                    <a:pt x="99" y="8"/>
                  </a:lnTo>
                  <a:lnTo>
                    <a:pt x="71" y="4"/>
                  </a:lnTo>
                  <a:lnTo>
                    <a:pt x="41" y="0"/>
                  </a:lnTo>
                  <a:lnTo>
                    <a:pt x="37" y="67"/>
                  </a:lnTo>
                  <a:lnTo>
                    <a:pt x="63" y="71"/>
                  </a:lnTo>
                  <a:lnTo>
                    <a:pt x="87" y="74"/>
                  </a:lnTo>
                  <a:lnTo>
                    <a:pt x="110" y="79"/>
                  </a:lnTo>
                  <a:lnTo>
                    <a:pt x="130" y="85"/>
                  </a:lnTo>
                  <a:lnTo>
                    <a:pt x="150" y="90"/>
                  </a:lnTo>
                  <a:lnTo>
                    <a:pt x="167" y="98"/>
                  </a:lnTo>
                  <a:lnTo>
                    <a:pt x="181" y="105"/>
                  </a:lnTo>
                  <a:lnTo>
                    <a:pt x="195" y="113"/>
                  </a:lnTo>
                  <a:lnTo>
                    <a:pt x="207" y="121"/>
                  </a:lnTo>
                  <a:lnTo>
                    <a:pt x="217" y="129"/>
                  </a:lnTo>
                  <a:lnTo>
                    <a:pt x="225" y="138"/>
                  </a:lnTo>
                  <a:lnTo>
                    <a:pt x="230" y="145"/>
                  </a:lnTo>
                  <a:lnTo>
                    <a:pt x="235" y="153"/>
                  </a:lnTo>
                  <a:lnTo>
                    <a:pt x="237" y="160"/>
                  </a:lnTo>
                  <a:lnTo>
                    <a:pt x="240" y="167"/>
                  </a:lnTo>
                  <a:lnTo>
                    <a:pt x="240" y="171"/>
                  </a:lnTo>
                  <a:lnTo>
                    <a:pt x="240" y="177"/>
                  </a:lnTo>
                  <a:lnTo>
                    <a:pt x="238" y="182"/>
                  </a:lnTo>
                  <a:lnTo>
                    <a:pt x="236" y="187"/>
                  </a:lnTo>
                  <a:lnTo>
                    <a:pt x="233" y="192"/>
                  </a:lnTo>
                  <a:lnTo>
                    <a:pt x="228" y="198"/>
                  </a:lnTo>
                  <a:lnTo>
                    <a:pt x="221" y="203"/>
                  </a:lnTo>
                  <a:lnTo>
                    <a:pt x="212" y="209"/>
                  </a:lnTo>
                  <a:lnTo>
                    <a:pt x="202" y="215"/>
                  </a:lnTo>
                  <a:lnTo>
                    <a:pt x="189" y="219"/>
                  </a:lnTo>
                  <a:lnTo>
                    <a:pt x="175" y="224"/>
                  </a:lnTo>
                  <a:lnTo>
                    <a:pt x="157" y="227"/>
                  </a:lnTo>
                  <a:lnTo>
                    <a:pt x="138" y="229"/>
                  </a:lnTo>
                  <a:lnTo>
                    <a:pt x="116" y="231"/>
                  </a:lnTo>
                  <a:lnTo>
                    <a:pt x="93" y="231"/>
                  </a:lnTo>
                  <a:lnTo>
                    <a:pt x="66" y="228"/>
                  </a:lnTo>
                  <a:lnTo>
                    <a:pt x="39" y="225"/>
                  </a:lnTo>
                  <a:lnTo>
                    <a:pt x="28" y="292"/>
                  </a:lnTo>
                  <a:lnTo>
                    <a:pt x="39" y="225"/>
                  </a:lnTo>
                  <a:lnTo>
                    <a:pt x="31" y="225"/>
                  </a:lnTo>
                  <a:lnTo>
                    <a:pt x="24" y="226"/>
                  </a:lnTo>
                  <a:lnTo>
                    <a:pt x="17" y="229"/>
                  </a:lnTo>
                  <a:lnTo>
                    <a:pt x="13" y="233"/>
                  </a:lnTo>
                  <a:lnTo>
                    <a:pt x="8" y="237"/>
                  </a:lnTo>
                  <a:lnTo>
                    <a:pt x="5" y="242"/>
                  </a:lnTo>
                  <a:lnTo>
                    <a:pt x="2" y="249"/>
                  </a:lnTo>
                  <a:lnTo>
                    <a:pt x="1" y="255"/>
                  </a:lnTo>
                  <a:lnTo>
                    <a:pt x="0" y="261"/>
                  </a:lnTo>
                  <a:lnTo>
                    <a:pt x="1" y="267"/>
                  </a:lnTo>
                  <a:lnTo>
                    <a:pt x="4" y="273"/>
                  </a:lnTo>
                  <a:lnTo>
                    <a:pt x="6" y="279"/>
                  </a:lnTo>
                  <a:lnTo>
                    <a:pt x="10" y="283"/>
                  </a:lnTo>
                  <a:lnTo>
                    <a:pt x="16" y="288"/>
                  </a:lnTo>
                  <a:lnTo>
                    <a:pt x="22" y="290"/>
                  </a:lnTo>
                  <a:lnTo>
                    <a:pt x="30" y="292"/>
                  </a:lnTo>
                  <a:lnTo>
                    <a:pt x="41" y="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4767120" y="4467240"/>
              <a:ext cx="111240" cy="106200"/>
            </a:xfrm>
            <a:custGeom>
              <a:avLst/>
              <a:gdLst/>
              <a:ahLst/>
              <a:rect l="l" t="t" r="r" b="b"/>
              <a:pathLst>
                <a:path w="350" h="338">
                  <a:moveTo>
                    <a:pt x="33" y="327"/>
                  </a:moveTo>
                  <a:lnTo>
                    <a:pt x="25" y="326"/>
                  </a:lnTo>
                  <a:lnTo>
                    <a:pt x="50" y="332"/>
                  </a:lnTo>
                  <a:lnTo>
                    <a:pt x="76" y="337"/>
                  </a:lnTo>
                  <a:lnTo>
                    <a:pt x="101" y="338"/>
                  </a:lnTo>
                  <a:lnTo>
                    <a:pt x="125" y="338"/>
                  </a:lnTo>
                  <a:lnTo>
                    <a:pt x="148" y="337"/>
                  </a:lnTo>
                  <a:lnTo>
                    <a:pt x="171" y="333"/>
                  </a:lnTo>
                  <a:lnTo>
                    <a:pt x="192" y="329"/>
                  </a:lnTo>
                  <a:lnTo>
                    <a:pt x="214" y="323"/>
                  </a:lnTo>
                  <a:lnTo>
                    <a:pt x="233" y="315"/>
                  </a:lnTo>
                  <a:lnTo>
                    <a:pt x="252" y="306"/>
                  </a:lnTo>
                  <a:lnTo>
                    <a:pt x="269" y="296"/>
                  </a:lnTo>
                  <a:lnTo>
                    <a:pt x="285" y="284"/>
                  </a:lnTo>
                  <a:lnTo>
                    <a:pt x="298" y="273"/>
                  </a:lnTo>
                  <a:lnTo>
                    <a:pt x="312" y="259"/>
                  </a:lnTo>
                  <a:lnTo>
                    <a:pt x="324" y="244"/>
                  </a:lnTo>
                  <a:lnTo>
                    <a:pt x="333" y="229"/>
                  </a:lnTo>
                  <a:lnTo>
                    <a:pt x="341" y="213"/>
                  </a:lnTo>
                  <a:lnTo>
                    <a:pt x="346" y="196"/>
                  </a:lnTo>
                  <a:lnTo>
                    <a:pt x="349" y="179"/>
                  </a:lnTo>
                  <a:lnTo>
                    <a:pt x="350" y="161"/>
                  </a:lnTo>
                  <a:lnTo>
                    <a:pt x="347" y="143"/>
                  </a:lnTo>
                  <a:lnTo>
                    <a:pt x="343" y="124"/>
                  </a:lnTo>
                  <a:lnTo>
                    <a:pt x="336" y="107"/>
                  </a:lnTo>
                  <a:lnTo>
                    <a:pt x="326" y="91"/>
                  </a:lnTo>
                  <a:lnTo>
                    <a:pt x="313" y="75"/>
                  </a:lnTo>
                  <a:lnTo>
                    <a:pt x="297" y="62"/>
                  </a:lnTo>
                  <a:lnTo>
                    <a:pt x="280" y="48"/>
                  </a:lnTo>
                  <a:lnTo>
                    <a:pt x="261" y="35"/>
                  </a:lnTo>
                  <a:lnTo>
                    <a:pt x="239" y="25"/>
                  </a:lnTo>
                  <a:lnTo>
                    <a:pt x="214" y="16"/>
                  </a:lnTo>
                  <a:lnTo>
                    <a:pt x="188" y="7"/>
                  </a:lnTo>
                  <a:lnTo>
                    <a:pt x="158" y="0"/>
                  </a:lnTo>
                  <a:lnTo>
                    <a:pt x="145" y="66"/>
                  </a:lnTo>
                  <a:lnTo>
                    <a:pt x="170" y="72"/>
                  </a:lnTo>
                  <a:lnTo>
                    <a:pt x="192" y="79"/>
                  </a:lnTo>
                  <a:lnTo>
                    <a:pt x="212" y="87"/>
                  </a:lnTo>
                  <a:lnTo>
                    <a:pt x="229" y="95"/>
                  </a:lnTo>
                  <a:lnTo>
                    <a:pt x="243" y="104"/>
                  </a:lnTo>
                  <a:lnTo>
                    <a:pt x="254" y="113"/>
                  </a:lnTo>
                  <a:lnTo>
                    <a:pt x="263" y="122"/>
                  </a:lnTo>
                  <a:lnTo>
                    <a:pt x="271" y="130"/>
                  </a:lnTo>
                  <a:lnTo>
                    <a:pt x="276" y="138"/>
                  </a:lnTo>
                  <a:lnTo>
                    <a:pt x="279" y="147"/>
                  </a:lnTo>
                  <a:lnTo>
                    <a:pt x="281" y="155"/>
                  </a:lnTo>
                  <a:lnTo>
                    <a:pt x="282" y="163"/>
                  </a:lnTo>
                  <a:lnTo>
                    <a:pt x="282" y="171"/>
                  </a:lnTo>
                  <a:lnTo>
                    <a:pt x="280" y="179"/>
                  </a:lnTo>
                  <a:lnTo>
                    <a:pt x="278" y="188"/>
                  </a:lnTo>
                  <a:lnTo>
                    <a:pt x="273" y="197"/>
                  </a:lnTo>
                  <a:lnTo>
                    <a:pt x="268" y="205"/>
                  </a:lnTo>
                  <a:lnTo>
                    <a:pt x="261" y="215"/>
                  </a:lnTo>
                  <a:lnTo>
                    <a:pt x="253" y="224"/>
                  </a:lnTo>
                  <a:lnTo>
                    <a:pt x="243" y="232"/>
                  </a:lnTo>
                  <a:lnTo>
                    <a:pt x="232" y="240"/>
                  </a:lnTo>
                  <a:lnTo>
                    <a:pt x="220" y="246"/>
                  </a:lnTo>
                  <a:lnTo>
                    <a:pt x="206" y="253"/>
                  </a:lnTo>
                  <a:lnTo>
                    <a:pt x="191" y="259"/>
                  </a:lnTo>
                  <a:lnTo>
                    <a:pt x="176" y="264"/>
                  </a:lnTo>
                  <a:lnTo>
                    <a:pt x="159" y="267"/>
                  </a:lnTo>
                  <a:lnTo>
                    <a:pt x="142" y="269"/>
                  </a:lnTo>
                  <a:lnTo>
                    <a:pt x="123" y="270"/>
                  </a:lnTo>
                  <a:lnTo>
                    <a:pt x="103" y="270"/>
                  </a:lnTo>
                  <a:lnTo>
                    <a:pt x="84" y="269"/>
                  </a:lnTo>
                  <a:lnTo>
                    <a:pt x="64" y="266"/>
                  </a:lnTo>
                  <a:lnTo>
                    <a:pt x="42" y="261"/>
                  </a:lnTo>
                  <a:lnTo>
                    <a:pt x="33" y="260"/>
                  </a:lnTo>
                  <a:lnTo>
                    <a:pt x="42" y="261"/>
                  </a:lnTo>
                  <a:lnTo>
                    <a:pt x="34" y="260"/>
                  </a:lnTo>
                  <a:lnTo>
                    <a:pt x="27" y="260"/>
                  </a:lnTo>
                  <a:lnTo>
                    <a:pt x="20" y="261"/>
                  </a:lnTo>
                  <a:lnTo>
                    <a:pt x="15" y="265"/>
                  </a:lnTo>
                  <a:lnTo>
                    <a:pt x="10" y="269"/>
                  </a:lnTo>
                  <a:lnTo>
                    <a:pt x="5" y="274"/>
                  </a:lnTo>
                  <a:lnTo>
                    <a:pt x="3" y="280"/>
                  </a:lnTo>
                  <a:lnTo>
                    <a:pt x="1" y="285"/>
                  </a:lnTo>
                  <a:lnTo>
                    <a:pt x="0" y="291"/>
                  </a:lnTo>
                  <a:lnTo>
                    <a:pt x="0" y="298"/>
                  </a:lnTo>
                  <a:lnTo>
                    <a:pt x="1" y="304"/>
                  </a:lnTo>
                  <a:lnTo>
                    <a:pt x="3" y="309"/>
                  </a:lnTo>
                  <a:lnTo>
                    <a:pt x="7" y="315"/>
                  </a:lnTo>
                  <a:lnTo>
                    <a:pt x="11" y="320"/>
                  </a:lnTo>
                  <a:lnTo>
                    <a:pt x="17" y="323"/>
                  </a:lnTo>
                  <a:lnTo>
                    <a:pt x="25" y="326"/>
                  </a:lnTo>
                  <a:lnTo>
                    <a:pt x="33" y="3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4616280" y="4498920"/>
              <a:ext cx="162000" cy="71640"/>
            </a:xfrm>
            <a:custGeom>
              <a:avLst/>
              <a:gdLst/>
              <a:ahLst/>
              <a:rect l="l" t="t" r="r" b="b"/>
              <a:pathLst>
                <a:path w="510" h="227">
                  <a:moveTo>
                    <a:pt x="25" y="67"/>
                  </a:moveTo>
                  <a:lnTo>
                    <a:pt x="17" y="63"/>
                  </a:lnTo>
                  <a:lnTo>
                    <a:pt x="52" y="83"/>
                  </a:lnTo>
                  <a:lnTo>
                    <a:pt x="85" y="100"/>
                  </a:lnTo>
                  <a:lnTo>
                    <a:pt x="118" y="117"/>
                  </a:lnTo>
                  <a:lnTo>
                    <a:pt x="150" y="133"/>
                  </a:lnTo>
                  <a:lnTo>
                    <a:pt x="183" y="148"/>
                  </a:lnTo>
                  <a:lnTo>
                    <a:pt x="215" y="160"/>
                  </a:lnTo>
                  <a:lnTo>
                    <a:pt x="246" y="173"/>
                  </a:lnTo>
                  <a:lnTo>
                    <a:pt x="278" y="184"/>
                  </a:lnTo>
                  <a:lnTo>
                    <a:pt x="309" y="194"/>
                  </a:lnTo>
                  <a:lnTo>
                    <a:pt x="340" y="202"/>
                  </a:lnTo>
                  <a:lnTo>
                    <a:pt x="370" y="210"/>
                  </a:lnTo>
                  <a:lnTo>
                    <a:pt x="399" y="216"/>
                  </a:lnTo>
                  <a:lnTo>
                    <a:pt x="428" y="221"/>
                  </a:lnTo>
                  <a:lnTo>
                    <a:pt x="456" y="224"/>
                  </a:lnTo>
                  <a:lnTo>
                    <a:pt x="484" y="226"/>
                  </a:lnTo>
                  <a:lnTo>
                    <a:pt x="510" y="227"/>
                  </a:lnTo>
                  <a:lnTo>
                    <a:pt x="510" y="160"/>
                  </a:lnTo>
                  <a:lnTo>
                    <a:pt x="487" y="159"/>
                  </a:lnTo>
                  <a:lnTo>
                    <a:pt x="463" y="158"/>
                  </a:lnTo>
                  <a:lnTo>
                    <a:pt x="438" y="154"/>
                  </a:lnTo>
                  <a:lnTo>
                    <a:pt x="412" y="150"/>
                  </a:lnTo>
                  <a:lnTo>
                    <a:pt x="384" y="144"/>
                  </a:lnTo>
                  <a:lnTo>
                    <a:pt x="357" y="137"/>
                  </a:lnTo>
                  <a:lnTo>
                    <a:pt x="329" y="129"/>
                  </a:lnTo>
                  <a:lnTo>
                    <a:pt x="299" y="120"/>
                  </a:lnTo>
                  <a:lnTo>
                    <a:pt x="269" y="110"/>
                  </a:lnTo>
                  <a:lnTo>
                    <a:pt x="240" y="97"/>
                  </a:lnTo>
                  <a:lnTo>
                    <a:pt x="209" y="85"/>
                  </a:lnTo>
                  <a:lnTo>
                    <a:pt x="178" y="71"/>
                  </a:lnTo>
                  <a:lnTo>
                    <a:pt x="147" y="56"/>
                  </a:lnTo>
                  <a:lnTo>
                    <a:pt x="115" y="40"/>
                  </a:lnTo>
                  <a:lnTo>
                    <a:pt x="83" y="23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9" y="12"/>
                  </a:lnTo>
                  <a:lnTo>
                    <a:pt x="6" y="18"/>
                  </a:lnTo>
                  <a:lnTo>
                    <a:pt x="3" y="23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3"/>
                  </a:lnTo>
                  <a:lnTo>
                    <a:pt x="12" y="59"/>
                  </a:lnTo>
                  <a:lnTo>
                    <a:pt x="17" y="63"/>
                  </a:lnTo>
                  <a:lnTo>
                    <a:pt x="25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4378320" y="4443480"/>
              <a:ext cx="252360" cy="75960"/>
            </a:xfrm>
            <a:custGeom>
              <a:avLst/>
              <a:gdLst/>
              <a:ahLst/>
              <a:rect l="l" t="t" r="r" b="b"/>
              <a:pathLst>
                <a:path w="794" h="238">
                  <a:moveTo>
                    <a:pt x="68" y="41"/>
                  </a:moveTo>
                  <a:lnTo>
                    <a:pt x="39" y="74"/>
                  </a:lnTo>
                  <a:lnTo>
                    <a:pt x="61" y="71"/>
                  </a:lnTo>
                  <a:lnTo>
                    <a:pt x="85" y="69"/>
                  </a:lnTo>
                  <a:lnTo>
                    <a:pt x="107" y="68"/>
                  </a:lnTo>
                  <a:lnTo>
                    <a:pt x="131" y="68"/>
                  </a:lnTo>
                  <a:lnTo>
                    <a:pt x="155" y="69"/>
                  </a:lnTo>
                  <a:lnTo>
                    <a:pt x="179" y="70"/>
                  </a:lnTo>
                  <a:lnTo>
                    <a:pt x="204" y="72"/>
                  </a:lnTo>
                  <a:lnTo>
                    <a:pt x="228" y="76"/>
                  </a:lnTo>
                  <a:lnTo>
                    <a:pt x="253" y="79"/>
                  </a:lnTo>
                  <a:lnTo>
                    <a:pt x="278" y="84"/>
                  </a:lnTo>
                  <a:lnTo>
                    <a:pt x="303" y="89"/>
                  </a:lnTo>
                  <a:lnTo>
                    <a:pt x="329" y="94"/>
                  </a:lnTo>
                  <a:lnTo>
                    <a:pt x="379" y="108"/>
                  </a:lnTo>
                  <a:lnTo>
                    <a:pt x="429" y="121"/>
                  </a:lnTo>
                  <a:lnTo>
                    <a:pt x="478" y="136"/>
                  </a:lnTo>
                  <a:lnTo>
                    <a:pt x="526" y="152"/>
                  </a:lnTo>
                  <a:lnTo>
                    <a:pt x="573" y="168"/>
                  </a:lnTo>
                  <a:lnTo>
                    <a:pt x="618" y="184"/>
                  </a:lnTo>
                  <a:lnTo>
                    <a:pt x="660" y="200"/>
                  </a:lnTo>
                  <a:lnTo>
                    <a:pt x="701" y="214"/>
                  </a:lnTo>
                  <a:lnTo>
                    <a:pt x="739" y="226"/>
                  </a:lnTo>
                  <a:lnTo>
                    <a:pt x="774" y="238"/>
                  </a:lnTo>
                  <a:lnTo>
                    <a:pt x="794" y="173"/>
                  </a:lnTo>
                  <a:lnTo>
                    <a:pt x="759" y="162"/>
                  </a:lnTo>
                  <a:lnTo>
                    <a:pt x="723" y="150"/>
                  </a:lnTo>
                  <a:lnTo>
                    <a:pt x="683" y="136"/>
                  </a:lnTo>
                  <a:lnTo>
                    <a:pt x="640" y="120"/>
                  </a:lnTo>
                  <a:lnTo>
                    <a:pt x="595" y="104"/>
                  </a:lnTo>
                  <a:lnTo>
                    <a:pt x="547" y="88"/>
                  </a:lnTo>
                  <a:lnTo>
                    <a:pt x="498" y="72"/>
                  </a:lnTo>
                  <a:lnTo>
                    <a:pt x="448" y="56"/>
                  </a:lnTo>
                  <a:lnTo>
                    <a:pt x="397" y="41"/>
                  </a:lnTo>
                  <a:lnTo>
                    <a:pt x="345" y="29"/>
                  </a:lnTo>
                  <a:lnTo>
                    <a:pt x="317" y="23"/>
                  </a:lnTo>
                  <a:lnTo>
                    <a:pt x="291" y="17"/>
                  </a:lnTo>
                  <a:lnTo>
                    <a:pt x="265" y="13"/>
                  </a:lnTo>
                  <a:lnTo>
                    <a:pt x="237" y="9"/>
                  </a:lnTo>
                  <a:lnTo>
                    <a:pt x="211" y="6"/>
                  </a:lnTo>
                  <a:lnTo>
                    <a:pt x="185" y="3"/>
                  </a:lnTo>
                  <a:lnTo>
                    <a:pt x="158" y="1"/>
                  </a:lnTo>
                  <a:lnTo>
                    <a:pt x="131" y="0"/>
                  </a:lnTo>
                  <a:lnTo>
                    <a:pt x="105" y="0"/>
                  </a:lnTo>
                  <a:lnTo>
                    <a:pt x="80" y="1"/>
                  </a:lnTo>
                  <a:lnTo>
                    <a:pt x="54" y="4"/>
                  </a:lnTo>
                  <a:lnTo>
                    <a:pt x="29" y="8"/>
                  </a:lnTo>
                  <a:lnTo>
                    <a:pt x="0" y="41"/>
                  </a:lnTo>
                  <a:lnTo>
                    <a:pt x="29" y="8"/>
                  </a:lnTo>
                  <a:lnTo>
                    <a:pt x="21" y="9"/>
                  </a:lnTo>
                  <a:lnTo>
                    <a:pt x="14" y="13"/>
                  </a:lnTo>
                  <a:lnTo>
                    <a:pt x="9" y="17"/>
                  </a:lnTo>
                  <a:lnTo>
                    <a:pt x="5" y="22"/>
                  </a:lnTo>
                  <a:lnTo>
                    <a:pt x="3" y="28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" y="53"/>
                  </a:lnTo>
                  <a:lnTo>
                    <a:pt x="5" y="59"/>
                  </a:lnTo>
                  <a:lnTo>
                    <a:pt x="8" y="63"/>
                  </a:lnTo>
                  <a:lnTo>
                    <a:pt x="13" y="68"/>
                  </a:lnTo>
                  <a:lnTo>
                    <a:pt x="17" y="71"/>
                  </a:lnTo>
                  <a:lnTo>
                    <a:pt x="24" y="73"/>
                  </a:lnTo>
                  <a:lnTo>
                    <a:pt x="31" y="74"/>
                  </a:lnTo>
                  <a:lnTo>
                    <a:pt x="39" y="74"/>
                  </a:lnTo>
                  <a:lnTo>
                    <a:pt x="68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4371840" y="4457880"/>
              <a:ext cx="28800" cy="284040"/>
            </a:xfrm>
            <a:custGeom>
              <a:avLst/>
              <a:gdLst/>
              <a:ahLst/>
              <a:rect l="l" t="t" r="r" b="b"/>
              <a:pathLst>
                <a:path w="91" h="896">
                  <a:moveTo>
                    <a:pt x="88" y="850"/>
                  </a:moveTo>
                  <a:lnTo>
                    <a:pt x="89" y="854"/>
                  </a:lnTo>
                  <a:lnTo>
                    <a:pt x="85" y="834"/>
                  </a:lnTo>
                  <a:lnTo>
                    <a:pt x="81" y="815"/>
                  </a:lnTo>
                  <a:lnTo>
                    <a:pt x="78" y="793"/>
                  </a:lnTo>
                  <a:lnTo>
                    <a:pt x="76" y="772"/>
                  </a:lnTo>
                  <a:lnTo>
                    <a:pt x="71" y="725"/>
                  </a:lnTo>
                  <a:lnTo>
                    <a:pt x="69" y="676"/>
                  </a:lnTo>
                  <a:lnTo>
                    <a:pt x="68" y="624"/>
                  </a:lnTo>
                  <a:lnTo>
                    <a:pt x="68" y="571"/>
                  </a:lnTo>
                  <a:lnTo>
                    <a:pt x="69" y="516"/>
                  </a:lnTo>
                  <a:lnTo>
                    <a:pt x="71" y="460"/>
                  </a:lnTo>
                  <a:lnTo>
                    <a:pt x="77" y="344"/>
                  </a:lnTo>
                  <a:lnTo>
                    <a:pt x="84" y="227"/>
                  </a:lnTo>
                  <a:lnTo>
                    <a:pt x="86" y="169"/>
                  </a:lnTo>
                  <a:lnTo>
                    <a:pt x="88" y="112"/>
                  </a:lnTo>
                  <a:lnTo>
                    <a:pt x="89" y="55"/>
                  </a:lnTo>
                  <a:lnTo>
                    <a:pt x="91" y="0"/>
                  </a:lnTo>
                  <a:lnTo>
                    <a:pt x="23" y="0"/>
                  </a:lnTo>
                  <a:lnTo>
                    <a:pt x="22" y="54"/>
                  </a:lnTo>
                  <a:lnTo>
                    <a:pt x="21" y="110"/>
                  </a:lnTo>
                  <a:lnTo>
                    <a:pt x="19" y="167"/>
                  </a:lnTo>
                  <a:lnTo>
                    <a:pt x="16" y="224"/>
                  </a:lnTo>
                  <a:lnTo>
                    <a:pt x="10" y="340"/>
                  </a:lnTo>
                  <a:lnTo>
                    <a:pt x="4" y="457"/>
                  </a:lnTo>
                  <a:lnTo>
                    <a:pt x="2" y="514"/>
                  </a:lnTo>
                  <a:lnTo>
                    <a:pt x="0" y="571"/>
                  </a:lnTo>
                  <a:lnTo>
                    <a:pt x="0" y="626"/>
                  </a:lnTo>
                  <a:lnTo>
                    <a:pt x="2" y="678"/>
                  </a:lnTo>
                  <a:lnTo>
                    <a:pt x="4" y="729"/>
                  </a:lnTo>
                  <a:lnTo>
                    <a:pt x="8" y="778"/>
                  </a:lnTo>
                  <a:lnTo>
                    <a:pt x="12" y="802"/>
                  </a:lnTo>
                  <a:lnTo>
                    <a:pt x="15" y="825"/>
                  </a:lnTo>
                  <a:lnTo>
                    <a:pt x="19" y="848"/>
                  </a:lnTo>
                  <a:lnTo>
                    <a:pt x="23" y="870"/>
                  </a:lnTo>
                  <a:lnTo>
                    <a:pt x="26" y="874"/>
                  </a:lnTo>
                  <a:lnTo>
                    <a:pt x="23" y="870"/>
                  </a:lnTo>
                  <a:lnTo>
                    <a:pt x="27" y="878"/>
                  </a:lnTo>
                  <a:lnTo>
                    <a:pt x="30" y="883"/>
                  </a:lnTo>
                  <a:lnTo>
                    <a:pt x="35" y="888"/>
                  </a:lnTo>
                  <a:lnTo>
                    <a:pt x="39" y="891"/>
                  </a:lnTo>
                  <a:lnTo>
                    <a:pt x="46" y="895"/>
                  </a:lnTo>
                  <a:lnTo>
                    <a:pt x="52" y="896"/>
                  </a:lnTo>
                  <a:lnTo>
                    <a:pt x="57" y="896"/>
                  </a:lnTo>
                  <a:lnTo>
                    <a:pt x="64" y="895"/>
                  </a:lnTo>
                  <a:lnTo>
                    <a:pt x="70" y="893"/>
                  </a:lnTo>
                  <a:lnTo>
                    <a:pt x="76" y="890"/>
                  </a:lnTo>
                  <a:lnTo>
                    <a:pt x="80" y="886"/>
                  </a:lnTo>
                  <a:lnTo>
                    <a:pt x="85" y="881"/>
                  </a:lnTo>
                  <a:lnTo>
                    <a:pt x="88" y="875"/>
                  </a:lnTo>
                  <a:lnTo>
                    <a:pt x="89" y="870"/>
                  </a:lnTo>
                  <a:lnTo>
                    <a:pt x="91" y="862"/>
                  </a:lnTo>
                  <a:lnTo>
                    <a:pt x="89" y="854"/>
                  </a:lnTo>
                  <a:lnTo>
                    <a:pt x="88" y="8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4379760" y="4727520"/>
              <a:ext cx="217800" cy="757440"/>
            </a:xfrm>
            <a:custGeom>
              <a:avLst/>
              <a:gdLst/>
              <a:ahLst/>
              <a:rect l="l" t="t" r="r" b="b"/>
              <a:pathLst>
                <a:path w="688" h="2388">
                  <a:moveTo>
                    <a:pt x="656" y="2385"/>
                  </a:moveTo>
                  <a:lnTo>
                    <a:pt x="677" y="2361"/>
                  </a:lnTo>
                  <a:lnTo>
                    <a:pt x="680" y="2341"/>
                  </a:lnTo>
                  <a:lnTo>
                    <a:pt x="684" y="2321"/>
                  </a:lnTo>
                  <a:lnTo>
                    <a:pt x="686" y="2299"/>
                  </a:lnTo>
                  <a:lnTo>
                    <a:pt x="687" y="2278"/>
                  </a:lnTo>
                  <a:lnTo>
                    <a:pt x="688" y="2254"/>
                  </a:lnTo>
                  <a:lnTo>
                    <a:pt x="688" y="2230"/>
                  </a:lnTo>
                  <a:lnTo>
                    <a:pt x="688" y="2206"/>
                  </a:lnTo>
                  <a:lnTo>
                    <a:pt x="688" y="2179"/>
                  </a:lnTo>
                  <a:lnTo>
                    <a:pt x="685" y="2126"/>
                  </a:lnTo>
                  <a:lnTo>
                    <a:pt x="679" y="2069"/>
                  </a:lnTo>
                  <a:lnTo>
                    <a:pt x="671" y="2009"/>
                  </a:lnTo>
                  <a:lnTo>
                    <a:pt x="661" y="1947"/>
                  </a:lnTo>
                  <a:lnTo>
                    <a:pt x="649" y="1881"/>
                  </a:lnTo>
                  <a:lnTo>
                    <a:pt x="636" y="1813"/>
                  </a:lnTo>
                  <a:lnTo>
                    <a:pt x="621" y="1742"/>
                  </a:lnTo>
                  <a:lnTo>
                    <a:pt x="604" y="1669"/>
                  </a:lnTo>
                  <a:lnTo>
                    <a:pt x="585" y="1595"/>
                  </a:lnTo>
                  <a:lnTo>
                    <a:pt x="566" y="1518"/>
                  </a:lnTo>
                  <a:lnTo>
                    <a:pt x="544" y="1439"/>
                  </a:lnTo>
                  <a:lnTo>
                    <a:pt x="523" y="1359"/>
                  </a:lnTo>
                  <a:lnTo>
                    <a:pt x="499" y="1278"/>
                  </a:lnTo>
                  <a:lnTo>
                    <a:pt x="474" y="1195"/>
                  </a:lnTo>
                  <a:lnTo>
                    <a:pt x="448" y="1112"/>
                  </a:lnTo>
                  <a:lnTo>
                    <a:pt x="421" y="1026"/>
                  </a:lnTo>
                  <a:lnTo>
                    <a:pt x="365" y="855"/>
                  </a:lnTo>
                  <a:lnTo>
                    <a:pt x="307" y="681"/>
                  </a:lnTo>
                  <a:lnTo>
                    <a:pt x="247" y="508"/>
                  </a:lnTo>
                  <a:lnTo>
                    <a:pt x="185" y="336"/>
                  </a:lnTo>
                  <a:lnTo>
                    <a:pt x="124" y="166"/>
                  </a:lnTo>
                  <a:lnTo>
                    <a:pt x="62" y="0"/>
                  </a:lnTo>
                  <a:lnTo>
                    <a:pt x="0" y="24"/>
                  </a:lnTo>
                  <a:lnTo>
                    <a:pt x="60" y="190"/>
                  </a:lnTo>
                  <a:lnTo>
                    <a:pt x="123" y="359"/>
                  </a:lnTo>
                  <a:lnTo>
                    <a:pt x="183" y="531"/>
                  </a:lnTo>
                  <a:lnTo>
                    <a:pt x="243" y="703"/>
                  </a:lnTo>
                  <a:lnTo>
                    <a:pt x="302" y="877"/>
                  </a:lnTo>
                  <a:lnTo>
                    <a:pt x="357" y="1047"/>
                  </a:lnTo>
                  <a:lnTo>
                    <a:pt x="384" y="1131"/>
                  </a:lnTo>
                  <a:lnTo>
                    <a:pt x="409" y="1214"/>
                  </a:lnTo>
                  <a:lnTo>
                    <a:pt x="434" y="1296"/>
                  </a:lnTo>
                  <a:lnTo>
                    <a:pt x="458" y="1377"/>
                  </a:lnTo>
                  <a:lnTo>
                    <a:pt x="479" y="1457"/>
                  </a:lnTo>
                  <a:lnTo>
                    <a:pt x="501" y="1535"/>
                  </a:lnTo>
                  <a:lnTo>
                    <a:pt x="521" y="1611"/>
                  </a:lnTo>
                  <a:lnTo>
                    <a:pt x="539" y="1685"/>
                  </a:lnTo>
                  <a:lnTo>
                    <a:pt x="555" y="1757"/>
                  </a:lnTo>
                  <a:lnTo>
                    <a:pt x="571" y="1826"/>
                  </a:lnTo>
                  <a:lnTo>
                    <a:pt x="583" y="1893"/>
                  </a:lnTo>
                  <a:lnTo>
                    <a:pt x="595" y="1957"/>
                  </a:lnTo>
                  <a:lnTo>
                    <a:pt x="604" y="2019"/>
                  </a:lnTo>
                  <a:lnTo>
                    <a:pt x="612" y="2077"/>
                  </a:lnTo>
                  <a:lnTo>
                    <a:pt x="617" y="2132"/>
                  </a:lnTo>
                  <a:lnTo>
                    <a:pt x="621" y="2183"/>
                  </a:lnTo>
                  <a:lnTo>
                    <a:pt x="621" y="2207"/>
                  </a:lnTo>
                  <a:lnTo>
                    <a:pt x="621" y="2230"/>
                  </a:lnTo>
                  <a:lnTo>
                    <a:pt x="621" y="2252"/>
                  </a:lnTo>
                  <a:lnTo>
                    <a:pt x="620" y="2273"/>
                  </a:lnTo>
                  <a:lnTo>
                    <a:pt x="619" y="2294"/>
                  </a:lnTo>
                  <a:lnTo>
                    <a:pt x="616" y="2313"/>
                  </a:lnTo>
                  <a:lnTo>
                    <a:pt x="614" y="2330"/>
                  </a:lnTo>
                  <a:lnTo>
                    <a:pt x="611" y="2347"/>
                  </a:lnTo>
                  <a:lnTo>
                    <a:pt x="631" y="2323"/>
                  </a:lnTo>
                  <a:lnTo>
                    <a:pt x="611" y="2347"/>
                  </a:lnTo>
                  <a:lnTo>
                    <a:pt x="609" y="2355"/>
                  </a:lnTo>
                  <a:lnTo>
                    <a:pt x="611" y="2362"/>
                  </a:lnTo>
                  <a:lnTo>
                    <a:pt x="612" y="2368"/>
                  </a:lnTo>
                  <a:lnTo>
                    <a:pt x="615" y="2373"/>
                  </a:lnTo>
                  <a:lnTo>
                    <a:pt x="620" y="2378"/>
                  </a:lnTo>
                  <a:lnTo>
                    <a:pt x="624" y="2383"/>
                  </a:lnTo>
                  <a:lnTo>
                    <a:pt x="630" y="2385"/>
                  </a:lnTo>
                  <a:lnTo>
                    <a:pt x="636" y="2387"/>
                  </a:lnTo>
                  <a:lnTo>
                    <a:pt x="642" y="2388"/>
                  </a:lnTo>
                  <a:lnTo>
                    <a:pt x="648" y="2387"/>
                  </a:lnTo>
                  <a:lnTo>
                    <a:pt x="655" y="2386"/>
                  </a:lnTo>
                  <a:lnTo>
                    <a:pt x="661" y="2384"/>
                  </a:lnTo>
                  <a:lnTo>
                    <a:pt x="666" y="2380"/>
                  </a:lnTo>
                  <a:lnTo>
                    <a:pt x="670" y="2375"/>
                  </a:lnTo>
                  <a:lnTo>
                    <a:pt x="674" y="2369"/>
                  </a:lnTo>
                  <a:lnTo>
                    <a:pt x="677" y="2361"/>
                  </a:lnTo>
                  <a:lnTo>
                    <a:pt x="656" y="23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3956040" y="5464080"/>
              <a:ext cx="631800" cy="52560"/>
            </a:xfrm>
            <a:custGeom>
              <a:avLst/>
              <a:gdLst/>
              <a:ahLst/>
              <a:rect l="l" t="t" r="r" b="b"/>
              <a:pathLst>
                <a:path w="1990" h="164">
                  <a:moveTo>
                    <a:pt x="0" y="83"/>
                  </a:moveTo>
                  <a:lnTo>
                    <a:pt x="37" y="113"/>
                  </a:lnTo>
                  <a:lnTo>
                    <a:pt x="91" y="106"/>
                  </a:lnTo>
                  <a:lnTo>
                    <a:pt x="146" y="102"/>
                  </a:lnTo>
                  <a:lnTo>
                    <a:pt x="202" y="98"/>
                  </a:lnTo>
                  <a:lnTo>
                    <a:pt x="260" y="97"/>
                  </a:lnTo>
                  <a:lnTo>
                    <a:pt x="318" y="97"/>
                  </a:lnTo>
                  <a:lnTo>
                    <a:pt x="377" y="98"/>
                  </a:lnTo>
                  <a:lnTo>
                    <a:pt x="436" y="101"/>
                  </a:lnTo>
                  <a:lnTo>
                    <a:pt x="497" y="104"/>
                  </a:lnTo>
                  <a:lnTo>
                    <a:pt x="621" y="113"/>
                  </a:lnTo>
                  <a:lnTo>
                    <a:pt x="746" y="123"/>
                  </a:lnTo>
                  <a:lnTo>
                    <a:pt x="873" y="136"/>
                  </a:lnTo>
                  <a:lnTo>
                    <a:pt x="1002" y="146"/>
                  </a:lnTo>
                  <a:lnTo>
                    <a:pt x="1066" y="152"/>
                  </a:lnTo>
                  <a:lnTo>
                    <a:pt x="1131" y="157"/>
                  </a:lnTo>
                  <a:lnTo>
                    <a:pt x="1194" y="160"/>
                  </a:lnTo>
                  <a:lnTo>
                    <a:pt x="1258" y="162"/>
                  </a:lnTo>
                  <a:lnTo>
                    <a:pt x="1322" y="163"/>
                  </a:lnTo>
                  <a:lnTo>
                    <a:pt x="1386" y="164"/>
                  </a:lnTo>
                  <a:lnTo>
                    <a:pt x="1449" y="163"/>
                  </a:lnTo>
                  <a:lnTo>
                    <a:pt x="1511" y="160"/>
                  </a:lnTo>
                  <a:lnTo>
                    <a:pt x="1574" y="157"/>
                  </a:lnTo>
                  <a:lnTo>
                    <a:pt x="1636" y="150"/>
                  </a:lnTo>
                  <a:lnTo>
                    <a:pt x="1666" y="146"/>
                  </a:lnTo>
                  <a:lnTo>
                    <a:pt x="1696" y="142"/>
                  </a:lnTo>
                  <a:lnTo>
                    <a:pt x="1727" y="136"/>
                  </a:lnTo>
                  <a:lnTo>
                    <a:pt x="1758" y="130"/>
                  </a:lnTo>
                  <a:lnTo>
                    <a:pt x="1787" y="125"/>
                  </a:lnTo>
                  <a:lnTo>
                    <a:pt x="1817" y="118"/>
                  </a:lnTo>
                  <a:lnTo>
                    <a:pt x="1847" y="110"/>
                  </a:lnTo>
                  <a:lnTo>
                    <a:pt x="1875" y="102"/>
                  </a:lnTo>
                  <a:lnTo>
                    <a:pt x="1905" y="93"/>
                  </a:lnTo>
                  <a:lnTo>
                    <a:pt x="1933" y="83"/>
                  </a:lnTo>
                  <a:lnTo>
                    <a:pt x="1962" y="73"/>
                  </a:lnTo>
                  <a:lnTo>
                    <a:pt x="1990" y="62"/>
                  </a:lnTo>
                  <a:lnTo>
                    <a:pt x="1965" y="0"/>
                  </a:lnTo>
                  <a:lnTo>
                    <a:pt x="1938" y="10"/>
                  </a:lnTo>
                  <a:lnTo>
                    <a:pt x="1912" y="20"/>
                  </a:lnTo>
                  <a:lnTo>
                    <a:pt x="1884" y="29"/>
                  </a:lnTo>
                  <a:lnTo>
                    <a:pt x="1857" y="37"/>
                  </a:lnTo>
                  <a:lnTo>
                    <a:pt x="1828" y="45"/>
                  </a:lnTo>
                  <a:lnTo>
                    <a:pt x="1801" y="53"/>
                  </a:lnTo>
                  <a:lnTo>
                    <a:pt x="1772" y="58"/>
                  </a:lnTo>
                  <a:lnTo>
                    <a:pt x="1744" y="64"/>
                  </a:lnTo>
                  <a:lnTo>
                    <a:pt x="1715" y="70"/>
                  </a:lnTo>
                  <a:lnTo>
                    <a:pt x="1686" y="74"/>
                  </a:lnTo>
                  <a:lnTo>
                    <a:pt x="1657" y="79"/>
                  </a:lnTo>
                  <a:lnTo>
                    <a:pt x="1628" y="82"/>
                  </a:lnTo>
                  <a:lnTo>
                    <a:pt x="1568" y="89"/>
                  </a:lnTo>
                  <a:lnTo>
                    <a:pt x="1508" y="93"/>
                  </a:lnTo>
                  <a:lnTo>
                    <a:pt x="1446" y="96"/>
                  </a:lnTo>
                  <a:lnTo>
                    <a:pt x="1385" y="97"/>
                  </a:lnTo>
                  <a:lnTo>
                    <a:pt x="1323" y="96"/>
                  </a:lnTo>
                  <a:lnTo>
                    <a:pt x="1261" y="95"/>
                  </a:lnTo>
                  <a:lnTo>
                    <a:pt x="1198" y="93"/>
                  </a:lnTo>
                  <a:lnTo>
                    <a:pt x="1134" y="89"/>
                  </a:lnTo>
                  <a:lnTo>
                    <a:pt x="1070" y="85"/>
                  </a:lnTo>
                  <a:lnTo>
                    <a:pt x="1007" y="79"/>
                  </a:lnTo>
                  <a:lnTo>
                    <a:pt x="880" y="69"/>
                  </a:lnTo>
                  <a:lnTo>
                    <a:pt x="752" y="57"/>
                  </a:lnTo>
                  <a:lnTo>
                    <a:pt x="626" y="46"/>
                  </a:lnTo>
                  <a:lnTo>
                    <a:pt x="501" y="37"/>
                  </a:lnTo>
                  <a:lnTo>
                    <a:pt x="440" y="33"/>
                  </a:lnTo>
                  <a:lnTo>
                    <a:pt x="378" y="31"/>
                  </a:lnTo>
                  <a:lnTo>
                    <a:pt x="318" y="30"/>
                  </a:lnTo>
                  <a:lnTo>
                    <a:pt x="259" y="30"/>
                  </a:lnTo>
                  <a:lnTo>
                    <a:pt x="199" y="31"/>
                  </a:lnTo>
                  <a:lnTo>
                    <a:pt x="141" y="34"/>
                  </a:lnTo>
                  <a:lnTo>
                    <a:pt x="84" y="39"/>
                  </a:lnTo>
                  <a:lnTo>
                    <a:pt x="28" y="46"/>
                  </a:lnTo>
                  <a:lnTo>
                    <a:pt x="67" y="76"/>
                  </a:lnTo>
                  <a:lnTo>
                    <a:pt x="28" y="46"/>
                  </a:lnTo>
                  <a:lnTo>
                    <a:pt x="20" y="48"/>
                  </a:lnTo>
                  <a:lnTo>
                    <a:pt x="15" y="50"/>
                  </a:lnTo>
                  <a:lnTo>
                    <a:pt x="9" y="55"/>
                  </a:lnTo>
                  <a:lnTo>
                    <a:pt x="4" y="60"/>
                  </a:lnTo>
                  <a:lnTo>
                    <a:pt x="2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7" y="102"/>
                  </a:lnTo>
                  <a:lnTo>
                    <a:pt x="11" y="105"/>
                  </a:lnTo>
                  <a:lnTo>
                    <a:pt x="17" y="110"/>
                  </a:lnTo>
                  <a:lnTo>
                    <a:pt x="23" y="112"/>
                  </a:lnTo>
                  <a:lnTo>
                    <a:pt x="29" y="113"/>
                  </a:lnTo>
                  <a:lnTo>
                    <a:pt x="37" y="11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3952800" y="4602240"/>
              <a:ext cx="119160" cy="888840"/>
            </a:xfrm>
            <a:custGeom>
              <a:avLst/>
              <a:gdLst/>
              <a:ahLst/>
              <a:rect l="l" t="t" r="r" b="b"/>
              <a:pathLst>
                <a:path w="377" h="2797">
                  <a:moveTo>
                    <a:pt x="341" y="35"/>
                  </a:moveTo>
                  <a:lnTo>
                    <a:pt x="276" y="45"/>
                  </a:lnTo>
                  <a:lnTo>
                    <a:pt x="283" y="66"/>
                  </a:lnTo>
                  <a:lnTo>
                    <a:pt x="289" y="89"/>
                  </a:lnTo>
                  <a:lnTo>
                    <a:pt x="294" y="114"/>
                  </a:lnTo>
                  <a:lnTo>
                    <a:pt x="299" y="140"/>
                  </a:lnTo>
                  <a:lnTo>
                    <a:pt x="302" y="168"/>
                  </a:lnTo>
                  <a:lnTo>
                    <a:pt x="305" y="197"/>
                  </a:lnTo>
                  <a:lnTo>
                    <a:pt x="307" y="228"/>
                  </a:lnTo>
                  <a:lnTo>
                    <a:pt x="308" y="259"/>
                  </a:lnTo>
                  <a:lnTo>
                    <a:pt x="308" y="292"/>
                  </a:lnTo>
                  <a:lnTo>
                    <a:pt x="308" y="326"/>
                  </a:lnTo>
                  <a:lnTo>
                    <a:pt x="307" y="362"/>
                  </a:lnTo>
                  <a:lnTo>
                    <a:pt x="306" y="398"/>
                  </a:lnTo>
                  <a:lnTo>
                    <a:pt x="300" y="475"/>
                  </a:lnTo>
                  <a:lnTo>
                    <a:pt x="292" y="555"/>
                  </a:lnTo>
                  <a:lnTo>
                    <a:pt x="283" y="638"/>
                  </a:lnTo>
                  <a:lnTo>
                    <a:pt x="271" y="725"/>
                  </a:lnTo>
                  <a:lnTo>
                    <a:pt x="258" y="815"/>
                  </a:lnTo>
                  <a:lnTo>
                    <a:pt x="242" y="906"/>
                  </a:lnTo>
                  <a:lnTo>
                    <a:pt x="209" y="1098"/>
                  </a:lnTo>
                  <a:lnTo>
                    <a:pt x="174" y="1294"/>
                  </a:lnTo>
                  <a:lnTo>
                    <a:pt x="136" y="1495"/>
                  </a:lnTo>
                  <a:lnTo>
                    <a:pt x="100" y="1697"/>
                  </a:lnTo>
                  <a:lnTo>
                    <a:pt x="82" y="1798"/>
                  </a:lnTo>
                  <a:lnTo>
                    <a:pt x="66" y="1897"/>
                  </a:lnTo>
                  <a:lnTo>
                    <a:pt x="52" y="1997"/>
                  </a:lnTo>
                  <a:lnTo>
                    <a:pt x="38" y="2095"/>
                  </a:lnTo>
                  <a:lnTo>
                    <a:pt x="27" y="2191"/>
                  </a:lnTo>
                  <a:lnTo>
                    <a:pt x="16" y="2285"/>
                  </a:lnTo>
                  <a:lnTo>
                    <a:pt x="12" y="2332"/>
                  </a:lnTo>
                  <a:lnTo>
                    <a:pt x="8" y="2378"/>
                  </a:lnTo>
                  <a:lnTo>
                    <a:pt x="6" y="2423"/>
                  </a:lnTo>
                  <a:lnTo>
                    <a:pt x="4" y="2468"/>
                  </a:lnTo>
                  <a:lnTo>
                    <a:pt x="1" y="2512"/>
                  </a:lnTo>
                  <a:lnTo>
                    <a:pt x="0" y="2554"/>
                  </a:lnTo>
                  <a:lnTo>
                    <a:pt x="0" y="2598"/>
                  </a:lnTo>
                  <a:lnTo>
                    <a:pt x="1" y="2639"/>
                  </a:lnTo>
                  <a:lnTo>
                    <a:pt x="3" y="2680"/>
                  </a:lnTo>
                  <a:lnTo>
                    <a:pt x="5" y="2720"/>
                  </a:lnTo>
                  <a:lnTo>
                    <a:pt x="7" y="2759"/>
                  </a:lnTo>
                  <a:lnTo>
                    <a:pt x="12" y="2797"/>
                  </a:lnTo>
                  <a:lnTo>
                    <a:pt x="79" y="2790"/>
                  </a:lnTo>
                  <a:lnTo>
                    <a:pt x="74" y="2753"/>
                  </a:lnTo>
                  <a:lnTo>
                    <a:pt x="72" y="2715"/>
                  </a:lnTo>
                  <a:lnTo>
                    <a:pt x="70" y="2677"/>
                  </a:lnTo>
                  <a:lnTo>
                    <a:pt x="69" y="2638"/>
                  </a:lnTo>
                  <a:lnTo>
                    <a:pt x="68" y="2597"/>
                  </a:lnTo>
                  <a:lnTo>
                    <a:pt x="68" y="2556"/>
                  </a:lnTo>
                  <a:lnTo>
                    <a:pt x="69" y="2513"/>
                  </a:lnTo>
                  <a:lnTo>
                    <a:pt x="71" y="2471"/>
                  </a:lnTo>
                  <a:lnTo>
                    <a:pt x="73" y="2427"/>
                  </a:lnTo>
                  <a:lnTo>
                    <a:pt x="76" y="2382"/>
                  </a:lnTo>
                  <a:lnTo>
                    <a:pt x="79" y="2338"/>
                  </a:lnTo>
                  <a:lnTo>
                    <a:pt x="84" y="2292"/>
                  </a:lnTo>
                  <a:lnTo>
                    <a:pt x="93" y="2199"/>
                  </a:lnTo>
                  <a:lnTo>
                    <a:pt x="105" y="2104"/>
                  </a:lnTo>
                  <a:lnTo>
                    <a:pt x="118" y="2007"/>
                  </a:lnTo>
                  <a:lnTo>
                    <a:pt x="133" y="1908"/>
                  </a:lnTo>
                  <a:lnTo>
                    <a:pt x="149" y="1808"/>
                  </a:lnTo>
                  <a:lnTo>
                    <a:pt x="167" y="1708"/>
                  </a:lnTo>
                  <a:lnTo>
                    <a:pt x="202" y="1507"/>
                  </a:lnTo>
                  <a:lnTo>
                    <a:pt x="240" y="1306"/>
                  </a:lnTo>
                  <a:lnTo>
                    <a:pt x="275" y="1109"/>
                  </a:lnTo>
                  <a:lnTo>
                    <a:pt x="309" y="917"/>
                  </a:lnTo>
                  <a:lnTo>
                    <a:pt x="324" y="825"/>
                  </a:lnTo>
                  <a:lnTo>
                    <a:pt x="338" y="735"/>
                  </a:lnTo>
                  <a:lnTo>
                    <a:pt x="349" y="647"/>
                  </a:lnTo>
                  <a:lnTo>
                    <a:pt x="359" y="561"/>
                  </a:lnTo>
                  <a:lnTo>
                    <a:pt x="367" y="480"/>
                  </a:lnTo>
                  <a:lnTo>
                    <a:pt x="373" y="403"/>
                  </a:lnTo>
                  <a:lnTo>
                    <a:pt x="374" y="365"/>
                  </a:lnTo>
                  <a:lnTo>
                    <a:pt x="375" y="327"/>
                  </a:lnTo>
                  <a:lnTo>
                    <a:pt x="377" y="292"/>
                  </a:lnTo>
                  <a:lnTo>
                    <a:pt x="375" y="258"/>
                  </a:lnTo>
                  <a:lnTo>
                    <a:pt x="374" y="225"/>
                  </a:lnTo>
                  <a:lnTo>
                    <a:pt x="372" y="192"/>
                  </a:lnTo>
                  <a:lnTo>
                    <a:pt x="370" y="161"/>
                  </a:lnTo>
                  <a:lnTo>
                    <a:pt x="365" y="131"/>
                  </a:lnTo>
                  <a:lnTo>
                    <a:pt x="361" y="102"/>
                  </a:lnTo>
                  <a:lnTo>
                    <a:pt x="355" y="74"/>
                  </a:lnTo>
                  <a:lnTo>
                    <a:pt x="348" y="48"/>
                  </a:lnTo>
                  <a:lnTo>
                    <a:pt x="340" y="23"/>
                  </a:lnTo>
                  <a:lnTo>
                    <a:pt x="274" y="32"/>
                  </a:lnTo>
                  <a:lnTo>
                    <a:pt x="340" y="23"/>
                  </a:lnTo>
                  <a:lnTo>
                    <a:pt x="337" y="15"/>
                  </a:lnTo>
                  <a:lnTo>
                    <a:pt x="332" y="9"/>
                  </a:lnTo>
                  <a:lnTo>
                    <a:pt x="326" y="5"/>
                  </a:lnTo>
                  <a:lnTo>
                    <a:pt x="322" y="2"/>
                  </a:lnTo>
                  <a:lnTo>
                    <a:pt x="315" y="0"/>
                  </a:lnTo>
                  <a:lnTo>
                    <a:pt x="309" y="0"/>
                  </a:lnTo>
                  <a:lnTo>
                    <a:pt x="302" y="0"/>
                  </a:lnTo>
                  <a:lnTo>
                    <a:pt x="297" y="2"/>
                  </a:lnTo>
                  <a:lnTo>
                    <a:pt x="291" y="5"/>
                  </a:lnTo>
                  <a:lnTo>
                    <a:pt x="285" y="8"/>
                  </a:lnTo>
                  <a:lnTo>
                    <a:pt x="281" y="13"/>
                  </a:lnTo>
                  <a:lnTo>
                    <a:pt x="277" y="17"/>
                  </a:lnTo>
                  <a:lnTo>
                    <a:pt x="275" y="23"/>
                  </a:lnTo>
                  <a:lnTo>
                    <a:pt x="274" y="30"/>
                  </a:lnTo>
                  <a:lnTo>
                    <a:pt x="274" y="38"/>
                  </a:lnTo>
                  <a:lnTo>
                    <a:pt x="276" y="45"/>
                  </a:lnTo>
                  <a:lnTo>
                    <a:pt x="341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3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7318440" cy="4349880"/>
          </a:xfrm>
          <a:prstGeom prst="rect">
            <a:avLst/>
          </a:prstGeom>
          <a:ln w="0">
            <a:noFill/>
          </a:ln>
        </p:spPr>
      </p:pic>
      <p:sp>
        <p:nvSpPr>
          <p:cNvPr id="7504" name=""/>
          <p:cNvSpPr/>
          <p:nvPr/>
        </p:nvSpPr>
        <p:spPr>
          <a:xfrm>
            <a:off x="250920" y="620640"/>
            <a:ext cx="8640720" cy="1191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Imprint MT Shadow"/>
              </a:rPr>
              <a:t>TESTIMONIALS OF HEALING SHOULD BE MEDICALLY CONFIRM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507840" y="633240"/>
            <a:ext cx="21664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HIV TES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1254240"/>
            <a:ext cx="320400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LOOKS ONL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98760" y="1873080"/>
            <a:ext cx="42130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FOR ANTIBODI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1040" y="2494080"/>
            <a:ext cx="372096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NOT HIV VIRU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56160" y="3276720"/>
            <a:ext cx="1857960" cy="1944000"/>
            <a:chOff x="4556160" y="3276720"/>
            <a:chExt cx="1857960" cy="1944000"/>
          </a:xfrm>
        </p:grpSpPr>
        <p:sp>
          <p:nvSpPr>
            <p:cNvPr id="119" name=""/>
            <p:cNvSpPr/>
            <p:nvPr/>
          </p:nvSpPr>
          <p:spPr>
            <a:xfrm>
              <a:off x="5240160" y="3663720"/>
              <a:ext cx="63000" cy="633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150"/>
                  </a:moveTo>
                  <a:lnTo>
                    <a:pt x="0" y="0"/>
                  </a:lnTo>
                  <a:lnTo>
                    <a:pt x="21" y="18"/>
                  </a:lnTo>
                  <a:lnTo>
                    <a:pt x="41" y="36"/>
                  </a:lnTo>
                  <a:lnTo>
                    <a:pt x="61" y="55"/>
                  </a:lnTo>
                  <a:lnTo>
                    <a:pt x="80" y="72"/>
                  </a:lnTo>
                  <a:lnTo>
                    <a:pt x="99" y="92"/>
                  </a:lnTo>
                  <a:lnTo>
                    <a:pt x="116" y="111"/>
                  </a:lnTo>
                  <a:lnTo>
                    <a:pt x="133" y="130"/>
                  </a:lnTo>
                  <a:lnTo>
                    <a:pt x="150" y="15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95520" y="3632040"/>
              <a:ext cx="139320" cy="13680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326"/>
                  </a:moveTo>
                  <a:lnTo>
                    <a:pt x="0" y="0"/>
                  </a:lnTo>
                  <a:lnTo>
                    <a:pt x="27" y="18"/>
                  </a:lnTo>
                  <a:lnTo>
                    <a:pt x="52" y="36"/>
                  </a:lnTo>
                  <a:lnTo>
                    <a:pt x="76" y="55"/>
                  </a:lnTo>
                  <a:lnTo>
                    <a:pt x="100" y="74"/>
                  </a:lnTo>
                  <a:lnTo>
                    <a:pt x="123" y="93"/>
                  </a:lnTo>
                  <a:lnTo>
                    <a:pt x="145" y="113"/>
                  </a:lnTo>
                  <a:lnTo>
                    <a:pt x="166" y="133"/>
                  </a:lnTo>
                  <a:lnTo>
                    <a:pt x="187" y="153"/>
                  </a:lnTo>
                  <a:lnTo>
                    <a:pt x="206" y="174"/>
                  </a:lnTo>
                  <a:lnTo>
                    <a:pt x="226" y="195"/>
                  </a:lnTo>
                  <a:lnTo>
                    <a:pt x="244" y="216"/>
                  </a:lnTo>
                  <a:lnTo>
                    <a:pt x="261" y="238"/>
                  </a:lnTo>
                  <a:lnTo>
                    <a:pt x="278" y="259"/>
                  </a:lnTo>
                  <a:lnTo>
                    <a:pt x="295" y="281"/>
                  </a:lnTo>
                  <a:lnTo>
                    <a:pt x="311" y="304"/>
                  </a:lnTo>
                  <a:lnTo>
                    <a:pt x="326" y="326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66720" y="3613320"/>
              <a:ext cx="185040" cy="185040"/>
            </a:xfrm>
            <a:custGeom>
              <a:avLst/>
              <a:gdLst/>
              <a:ahLst/>
              <a:rect l="l" t="t" r="r" b="b"/>
              <a:pathLst>
                <a:path w="437" h="439">
                  <a:moveTo>
                    <a:pt x="173" y="120"/>
                  </a:moveTo>
                  <a:lnTo>
                    <a:pt x="323" y="270"/>
                  </a:lnTo>
                  <a:lnTo>
                    <a:pt x="339" y="290"/>
                  </a:lnTo>
                  <a:lnTo>
                    <a:pt x="354" y="311"/>
                  </a:lnTo>
                  <a:lnTo>
                    <a:pt x="370" y="332"/>
                  </a:lnTo>
                  <a:lnTo>
                    <a:pt x="385" y="353"/>
                  </a:lnTo>
                  <a:lnTo>
                    <a:pt x="398" y="374"/>
                  </a:lnTo>
                  <a:lnTo>
                    <a:pt x="412" y="395"/>
                  </a:lnTo>
                  <a:lnTo>
                    <a:pt x="425" y="417"/>
                  </a:lnTo>
                  <a:lnTo>
                    <a:pt x="437" y="439"/>
                  </a:lnTo>
                  <a:lnTo>
                    <a:pt x="0" y="0"/>
                  </a:lnTo>
                  <a:lnTo>
                    <a:pt x="23" y="14"/>
                  </a:lnTo>
                  <a:lnTo>
                    <a:pt x="46" y="29"/>
                  </a:lnTo>
                  <a:lnTo>
                    <a:pt x="69" y="43"/>
                  </a:lnTo>
                  <a:lnTo>
                    <a:pt x="91" y="58"/>
                  </a:lnTo>
                  <a:lnTo>
                    <a:pt x="112" y="73"/>
                  </a:lnTo>
                  <a:lnTo>
                    <a:pt x="133" y="88"/>
                  </a:lnTo>
                  <a:lnTo>
                    <a:pt x="153" y="104"/>
                  </a:lnTo>
                  <a:lnTo>
                    <a:pt x="173" y="12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41160" y="3598560"/>
              <a:ext cx="222840" cy="22284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130" y="76"/>
                  </a:moveTo>
                  <a:lnTo>
                    <a:pt x="456" y="402"/>
                  </a:lnTo>
                  <a:lnTo>
                    <a:pt x="466" y="418"/>
                  </a:lnTo>
                  <a:lnTo>
                    <a:pt x="475" y="433"/>
                  </a:lnTo>
                  <a:lnTo>
                    <a:pt x="485" y="448"/>
                  </a:lnTo>
                  <a:lnTo>
                    <a:pt x="494" y="464"/>
                  </a:lnTo>
                  <a:lnTo>
                    <a:pt x="502" y="480"/>
                  </a:lnTo>
                  <a:lnTo>
                    <a:pt x="511" y="495"/>
                  </a:lnTo>
                  <a:lnTo>
                    <a:pt x="519" y="512"/>
                  </a:lnTo>
                  <a:lnTo>
                    <a:pt x="528" y="528"/>
                  </a:lnTo>
                  <a:lnTo>
                    <a:pt x="0" y="0"/>
                  </a:lnTo>
                  <a:lnTo>
                    <a:pt x="18" y="9"/>
                  </a:lnTo>
                  <a:lnTo>
                    <a:pt x="35" y="18"/>
                  </a:lnTo>
                  <a:lnTo>
                    <a:pt x="52" y="28"/>
                  </a:lnTo>
                  <a:lnTo>
                    <a:pt x="67" y="37"/>
                  </a:lnTo>
                  <a:lnTo>
                    <a:pt x="84" y="47"/>
                  </a:lnTo>
                  <a:lnTo>
                    <a:pt x="100" y="56"/>
                  </a:lnTo>
                  <a:lnTo>
                    <a:pt x="115" y="66"/>
                  </a:lnTo>
                  <a:lnTo>
                    <a:pt x="130" y="76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20280" y="3588120"/>
              <a:ext cx="254160" cy="254160"/>
            </a:xfrm>
            <a:custGeom>
              <a:avLst/>
              <a:gdLst/>
              <a:ahLst/>
              <a:rect l="l" t="t" r="r" b="b"/>
              <a:pathLst>
                <a:path w="604" h="604">
                  <a:moveTo>
                    <a:pt x="112" y="58"/>
                  </a:moveTo>
                  <a:lnTo>
                    <a:pt x="549" y="497"/>
                  </a:lnTo>
                  <a:lnTo>
                    <a:pt x="557" y="510"/>
                  </a:lnTo>
                  <a:lnTo>
                    <a:pt x="564" y="524"/>
                  </a:lnTo>
                  <a:lnTo>
                    <a:pt x="571" y="537"/>
                  </a:lnTo>
                  <a:lnTo>
                    <a:pt x="578" y="550"/>
                  </a:lnTo>
                  <a:lnTo>
                    <a:pt x="584" y="563"/>
                  </a:lnTo>
                  <a:lnTo>
                    <a:pt x="591" y="577"/>
                  </a:lnTo>
                  <a:lnTo>
                    <a:pt x="597" y="591"/>
                  </a:lnTo>
                  <a:lnTo>
                    <a:pt x="604" y="604"/>
                  </a:lnTo>
                  <a:lnTo>
                    <a:pt x="0" y="0"/>
                  </a:lnTo>
                  <a:lnTo>
                    <a:pt x="15" y="7"/>
                  </a:lnTo>
                  <a:lnTo>
                    <a:pt x="29" y="14"/>
                  </a:lnTo>
                  <a:lnTo>
                    <a:pt x="43" y="21"/>
                  </a:lnTo>
                  <a:lnTo>
                    <a:pt x="58" y="29"/>
                  </a:lnTo>
                  <a:lnTo>
                    <a:pt x="71" y="36"/>
                  </a:lnTo>
                  <a:lnTo>
                    <a:pt x="85" y="43"/>
                  </a:lnTo>
                  <a:lnTo>
                    <a:pt x="99" y="51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13440" y="3588120"/>
              <a:ext cx="269640" cy="275040"/>
            </a:xfrm>
            <a:custGeom>
              <a:avLst/>
              <a:gdLst/>
              <a:ahLst/>
              <a:rect l="l" t="t" r="r" b="b"/>
              <a:pathLst>
                <a:path w="638" h="654">
                  <a:moveTo>
                    <a:pt x="66" y="28"/>
                  </a:moveTo>
                  <a:lnTo>
                    <a:pt x="594" y="556"/>
                  </a:lnTo>
                  <a:lnTo>
                    <a:pt x="599" y="568"/>
                  </a:lnTo>
                  <a:lnTo>
                    <a:pt x="605" y="580"/>
                  </a:lnTo>
                  <a:lnTo>
                    <a:pt x="610" y="592"/>
                  </a:lnTo>
                  <a:lnTo>
                    <a:pt x="617" y="604"/>
                  </a:lnTo>
                  <a:lnTo>
                    <a:pt x="622" y="617"/>
                  </a:lnTo>
                  <a:lnTo>
                    <a:pt x="627" y="629"/>
                  </a:lnTo>
                  <a:lnTo>
                    <a:pt x="632" y="641"/>
                  </a:lnTo>
                  <a:lnTo>
                    <a:pt x="638" y="654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3"/>
                  </a:lnTo>
                  <a:lnTo>
                    <a:pt x="24" y="7"/>
                  </a:lnTo>
                  <a:lnTo>
                    <a:pt x="32" y="11"/>
                  </a:lnTo>
                  <a:lnTo>
                    <a:pt x="39" y="14"/>
                  </a:lnTo>
                  <a:lnTo>
                    <a:pt x="45" y="17"/>
                  </a:lnTo>
                  <a:lnTo>
                    <a:pt x="53" y="21"/>
                  </a:lnTo>
                  <a:lnTo>
                    <a:pt x="60" y="24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09840" y="3588120"/>
              <a:ext cx="279720" cy="292320"/>
            </a:xfrm>
            <a:custGeom>
              <a:avLst/>
              <a:gdLst/>
              <a:ahLst/>
              <a:rect l="l" t="t" r="r" b="b"/>
              <a:pathLst>
                <a:path w="664" h="698">
                  <a:moveTo>
                    <a:pt x="24" y="2"/>
                  </a:moveTo>
                  <a:lnTo>
                    <a:pt x="628" y="606"/>
                  </a:lnTo>
                  <a:lnTo>
                    <a:pt x="632" y="618"/>
                  </a:lnTo>
                  <a:lnTo>
                    <a:pt x="637" y="630"/>
                  </a:lnTo>
                  <a:lnTo>
                    <a:pt x="642" y="640"/>
                  </a:lnTo>
                  <a:lnTo>
                    <a:pt x="647" y="652"/>
                  </a:lnTo>
                  <a:lnTo>
                    <a:pt x="651" y="663"/>
                  </a:lnTo>
                  <a:lnTo>
                    <a:pt x="656" y="675"/>
                  </a:lnTo>
                  <a:lnTo>
                    <a:pt x="660" y="686"/>
                  </a:lnTo>
                  <a:lnTo>
                    <a:pt x="664" y="698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3"/>
                  </a:lnTo>
                  <a:lnTo>
                    <a:pt x="7" y="20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05520" y="3594240"/>
              <a:ext cx="290160" cy="304920"/>
            </a:xfrm>
            <a:custGeom>
              <a:avLst/>
              <a:gdLst/>
              <a:ahLst/>
              <a:rect l="l" t="t" r="r" b="b"/>
              <a:pathLst>
                <a:path w="690" h="724">
                  <a:moveTo>
                    <a:pt x="21" y="0"/>
                  </a:moveTo>
                  <a:lnTo>
                    <a:pt x="659" y="639"/>
                  </a:lnTo>
                  <a:lnTo>
                    <a:pt x="663" y="649"/>
                  </a:lnTo>
                  <a:lnTo>
                    <a:pt x="667" y="660"/>
                  </a:lnTo>
                  <a:lnTo>
                    <a:pt x="671" y="670"/>
                  </a:lnTo>
                  <a:lnTo>
                    <a:pt x="674" y="681"/>
                  </a:lnTo>
                  <a:lnTo>
                    <a:pt x="679" y="692"/>
                  </a:lnTo>
                  <a:lnTo>
                    <a:pt x="683" y="703"/>
                  </a:lnTo>
                  <a:lnTo>
                    <a:pt x="687" y="713"/>
                  </a:lnTo>
                  <a:lnTo>
                    <a:pt x="690" y="724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4" y="13"/>
                  </a:lnTo>
                  <a:lnTo>
                    <a:pt x="16" y="8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01200" y="3600720"/>
              <a:ext cx="300960" cy="315720"/>
            </a:xfrm>
            <a:custGeom>
              <a:avLst/>
              <a:gdLst/>
              <a:ahLst/>
              <a:rect l="l" t="t" r="r" b="b"/>
              <a:pathLst>
                <a:path w="714" h="748">
                  <a:moveTo>
                    <a:pt x="21" y="0"/>
                  </a:moveTo>
                  <a:lnTo>
                    <a:pt x="685" y="666"/>
                  </a:lnTo>
                  <a:lnTo>
                    <a:pt x="689" y="675"/>
                  </a:lnTo>
                  <a:lnTo>
                    <a:pt x="693" y="686"/>
                  </a:lnTo>
                  <a:lnTo>
                    <a:pt x="696" y="696"/>
                  </a:lnTo>
                  <a:lnTo>
                    <a:pt x="700" y="706"/>
                  </a:lnTo>
                  <a:lnTo>
                    <a:pt x="703" y="716"/>
                  </a:lnTo>
                  <a:lnTo>
                    <a:pt x="706" y="727"/>
                  </a:lnTo>
                  <a:lnTo>
                    <a:pt x="710" y="737"/>
                  </a:lnTo>
                  <a:lnTo>
                    <a:pt x="714" y="748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6" y="7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96880" y="3606840"/>
              <a:ext cx="309240" cy="326160"/>
            </a:xfrm>
            <a:custGeom>
              <a:avLst/>
              <a:gdLst/>
              <a:ahLst/>
              <a:rect l="l" t="t" r="r" b="b"/>
              <a:pathLst>
                <a:path w="736" h="771">
                  <a:moveTo>
                    <a:pt x="21" y="0"/>
                  </a:moveTo>
                  <a:lnTo>
                    <a:pt x="711" y="691"/>
                  </a:lnTo>
                  <a:lnTo>
                    <a:pt x="714" y="701"/>
                  </a:lnTo>
                  <a:lnTo>
                    <a:pt x="717" y="711"/>
                  </a:lnTo>
                  <a:lnTo>
                    <a:pt x="721" y="721"/>
                  </a:lnTo>
                  <a:lnTo>
                    <a:pt x="724" y="731"/>
                  </a:lnTo>
                  <a:lnTo>
                    <a:pt x="727" y="740"/>
                  </a:lnTo>
                  <a:lnTo>
                    <a:pt x="730" y="751"/>
                  </a:lnTo>
                  <a:lnTo>
                    <a:pt x="733" y="760"/>
                  </a:lnTo>
                  <a:lnTo>
                    <a:pt x="736" y="771"/>
                  </a:lnTo>
                  <a:lnTo>
                    <a:pt x="0" y="32"/>
                  </a:lnTo>
                  <a:lnTo>
                    <a:pt x="3" y="28"/>
                  </a:lnTo>
                  <a:lnTo>
                    <a:pt x="6" y="24"/>
                  </a:lnTo>
                  <a:lnTo>
                    <a:pt x="8" y="21"/>
                  </a:lnTo>
                  <a:lnTo>
                    <a:pt x="11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92560" y="3615480"/>
              <a:ext cx="317880" cy="332280"/>
            </a:xfrm>
            <a:custGeom>
              <a:avLst/>
              <a:gdLst/>
              <a:ahLst/>
              <a:rect l="l" t="t" r="r" b="b"/>
              <a:pathLst>
                <a:path w="757" h="791">
                  <a:moveTo>
                    <a:pt x="21" y="0"/>
                  </a:moveTo>
                  <a:lnTo>
                    <a:pt x="735" y="716"/>
                  </a:lnTo>
                  <a:lnTo>
                    <a:pt x="738" y="725"/>
                  </a:lnTo>
                  <a:lnTo>
                    <a:pt x="740" y="735"/>
                  </a:lnTo>
                  <a:lnTo>
                    <a:pt x="743" y="744"/>
                  </a:lnTo>
                  <a:lnTo>
                    <a:pt x="746" y="754"/>
                  </a:lnTo>
                  <a:lnTo>
                    <a:pt x="748" y="763"/>
                  </a:lnTo>
                  <a:lnTo>
                    <a:pt x="751" y="773"/>
                  </a:lnTo>
                  <a:lnTo>
                    <a:pt x="755" y="782"/>
                  </a:lnTo>
                  <a:lnTo>
                    <a:pt x="757" y="791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88600" y="3621600"/>
              <a:ext cx="325800" cy="340920"/>
            </a:xfrm>
            <a:custGeom>
              <a:avLst/>
              <a:gdLst/>
              <a:ahLst/>
              <a:rect l="l" t="t" r="r" b="b"/>
              <a:pathLst>
                <a:path w="778" h="812">
                  <a:moveTo>
                    <a:pt x="21" y="0"/>
                  </a:moveTo>
                  <a:lnTo>
                    <a:pt x="757" y="739"/>
                  </a:lnTo>
                  <a:lnTo>
                    <a:pt x="760" y="747"/>
                  </a:lnTo>
                  <a:lnTo>
                    <a:pt x="762" y="757"/>
                  </a:lnTo>
                  <a:lnTo>
                    <a:pt x="766" y="766"/>
                  </a:lnTo>
                  <a:lnTo>
                    <a:pt x="768" y="775"/>
                  </a:lnTo>
                  <a:lnTo>
                    <a:pt x="771" y="785"/>
                  </a:lnTo>
                  <a:lnTo>
                    <a:pt x="773" y="794"/>
                  </a:lnTo>
                  <a:lnTo>
                    <a:pt x="775" y="804"/>
                  </a:lnTo>
                  <a:lnTo>
                    <a:pt x="778" y="812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84280" y="3627720"/>
              <a:ext cx="334440" cy="351360"/>
            </a:xfrm>
            <a:custGeom>
              <a:avLst/>
              <a:gdLst/>
              <a:ahLst/>
              <a:rect l="l" t="t" r="r" b="b"/>
              <a:pathLst>
                <a:path w="797" h="832">
                  <a:moveTo>
                    <a:pt x="21" y="0"/>
                  </a:moveTo>
                  <a:lnTo>
                    <a:pt x="778" y="758"/>
                  </a:lnTo>
                  <a:lnTo>
                    <a:pt x="781" y="768"/>
                  </a:lnTo>
                  <a:lnTo>
                    <a:pt x="783" y="777"/>
                  </a:lnTo>
                  <a:lnTo>
                    <a:pt x="785" y="786"/>
                  </a:lnTo>
                  <a:lnTo>
                    <a:pt x="788" y="795"/>
                  </a:lnTo>
                  <a:lnTo>
                    <a:pt x="790" y="805"/>
                  </a:lnTo>
                  <a:lnTo>
                    <a:pt x="792" y="813"/>
                  </a:lnTo>
                  <a:lnTo>
                    <a:pt x="795" y="823"/>
                  </a:lnTo>
                  <a:lnTo>
                    <a:pt x="797" y="832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6" y="7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78160" y="3634560"/>
              <a:ext cx="344880" cy="359640"/>
            </a:xfrm>
            <a:custGeom>
              <a:avLst/>
              <a:gdLst/>
              <a:ahLst/>
              <a:rect l="l" t="t" r="r" b="b"/>
              <a:pathLst>
                <a:path w="817" h="851">
                  <a:moveTo>
                    <a:pt x="22" y="0"/>
                  </a:moveTo>
                  <a:lnTo>
                    <a:pt x="800" y="779"/>
                  </a:lnTo>
                  <a:lnTo>
                    <a:pt x="802" y="789"/>
                  </a:lnTo>
                  <a:lnTo>
                    <a:pt x="804" y="797"/>
                  </a:lnTo>
                  <a:lnTo>
                    <a:pt x="807" y="807"/>
                  </a:lnTo>
                  <a:lnTo>
                    <a:pt x="809" y="815"/>
                  </a:lnTo>
                  <a:lnTo>
                    <a:pt x="811" y="824"/>
                  </a:lnTo>
                  <a:lnTo>
                    <a:pt x="813" y="833"/>
                  </a:lnTo>
                  <a:lnTo>
                    <a:pt x="815" y="842"/>
                  </a:lnTo>
                  <a:lnTo>
                    <a:pt x="817" y="851"/>
                  </a:lnTo>
                  <a:lnTo>
                    <a:pt x="0" y="32"/>
                  </a:lnTo>
                  <a:lnTo>
                    <a:pt x="4" y="28"/>
                  </a:lnTo>
                  <a:lnTo>
                    <a:pt x="6" y="25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73840" y="3642480"/>
              <a:ext cx="351000" cy="363960"/>
            </a:xfrm>
            <a:custGeom>
              <a:avLst/>
              <a:gdLst/>
              <a:ahLst/>
              <a:rect l="l" t="t" r="r" b="b"/>
              <a:pathLst>
                <a:path w="835" h="869">
                  <a:moveTo>
                    <a:pt x="22" y="0"/>
                  </a:moveTo>
                  <a:lnTo>
                    <a:pt x="819" y="800"/>
                  </a:lnTo>
                  <a:lnTo>
                    <a:pt x="821" y="808"/>
                  </a:lnTo>
                  <a:lnTo>
                    <a:pt x="823" y="817"/>
                  </a:lnTo>
                  <a:lnTo>
                    <a:pt x="825" y="826"/>
                  </a:lnTo>
                  <a:lnTo>
                    <a:pt x="827" y="835"/>
                  </a:lnTo>
                  <a:lnTo>
                    <a:pt x="829" y="843"/>
                  </a:lnTo>
                  <a:lnTo>
                    <a:pt x="831" y="853"/>
                  </a:lnTo>
                  <a:lnTo>
                    <a:pt x="833" y="861"/>
                  </a:lnTo>
                  <a:lnTo>
                    <a:pt x="835" y="869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8" y="20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7" y="9"/>
                  </a:lnTo>
                  <a:lnTo>
                    <a:pt x="19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69520" y="3649320"/>
              <a:ext cx="359640" cy="371880"/>
            </a:xfrm>
            <a:custGeom>
              <a:avLst/>
              <a:gdLst/>
              <a:ahLst/>
              <a:rect l="l" t="t" r="r" b="b"/>
              <a:pathLst>
                <a:path w="853" h="888">
                  <a:moveTo>
                    <a:pt x="20" y="0"/>
                  </a:moveTo>
                  <a:lnTo>
                    <a:pt x="837" y="819"/>
                  </a:lnTo>
                  <a:lnTo>
                    <a:pt x="839" y="827"/>
                  </a:lnTo>
                  <a:lnTo>
                    <a:pt x="841" y="837"/>
                  </a:lnTo>
                  <a:lnTo>
                    <a:pt x="843" y="845"/>
                  </a:lnTo>
                  <a:lnTo>
                    <a:pt x="845" y="853"/>
                  </a:lnTo>
                  <a:lnTo>
                    <a:pt x="847" y="862"/>
                  </a:lnTo>
                  <a:lnTo>
                    <a:pt x="849" y="871"/>
                  </a:lnTo>
                  <a:lnTo>
                    <a:pt x="851" y="880"/>
                  </a:lnTo>
                  <a:lnTo>
                    <a:pt x="853" y="888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65200" y="3655440"/>
              <a:ext cx="366120" cy="380520"/>
            </a:xfrm>
            <a:custGeom>
              <a:avLst/>
              <a:gdLst/>
              <a:ahLst/>
              <a:rect l="l" t="t" r="r" b="b"/>
              <a:pathLst>
                <a:path w="870" h="905">
                  <a:moveTo>
                    <a:pt x="21" y="0"/>
                  </a:moveTo>
                  <a:lnTo>
                    <a:pt x="856" y="836"/>
                  </a:lnTo>
                  <a:lnTo>
                    <a:pt x="857" y="845"/>
                  </a:lnTo>
                  <a:lnTo>
                    <a:pt x="860" y="853"/>
                  </a:lnTo>
                  <a:lnTo>
                    <a:pt x="862" y="863"/>
                  </a:lnTo>
                  <a:lnTo>
                    <a:pt x="864" y="871"/>
                  </a:lnTo>
                  <a:lnTo>
                    <a:pt x="865" y="879"/>
                  </a:lnTo>
                  <a:lnTo>
                    <a:pt x="867" y="888"/>
                  </a:lnTo>
                  <a:lnTo>
                    <a:pt x="869" y="896"/>
                  </a:lnTo>
                  <a:lnTo>
                    <a:pt x="870" y="905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6" y="8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60880" y="3663720"/>
              <a:ext cx="372600" cy="387360"/>
            </a:xfrm>
            <a:custGeom>
              <a:avLst/>
              <a:gdLst/>
              <a:ahLst/>
              <a:rect l="l" t="t" r="r" b="b"/>
              <a:pathLst>
                <a:path w="887" h="921">
                  <a:moveTo>
                    <a:pt x="21" y="0"/>
                  </a:moveTo>
                  <a:lnTo>
                    <a:pt x="874" y="854"/>
                  </a:lnTo>
                  <a:lnTo>
                    <a:pt x="876" y="862"/>
                  </a:lnTo>
                  <a:lnTo>
                    <a:pt x="877" y="871"/>
                  </a:lnTo>
                  <a:lnTo>
                    <a:pt x="879" y="879"/>
                  </a:lnTo>
                  <a:lnTo>
                    <a:pt x="880" y="888"/>
                  </a:lnTo>
                  <a:lnTo>
                    <a:pt x="882" y="896"/>
                  </a:lnTo>
                  <a:lnTo>
                    <a:pt x="884" y="904"/>
                  </a:lnTo>
                  <a:lnTo>
                    <a:pt x="885" y="913"/>
                  </a:lnTo>
                  <a:lnTo>
                    <a:pt x="887" y="921"/>
                  </a:lnTo>
                  <a:lnTo>
                    <a:pt x="0" y="32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5" y="7"/>
                  </a:lnTo>
                  <a:lnTo>
                    <a:pt x="18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56920" y="3670200"/>
              <a:ext cx="381240" cy="395280"/>
            </a:xfrm>
            <a:custGeom>
              <a:avLst/>
              <a:gdLst/>
              <a:ahLst/>
              <a:rect l="l" t="t" r="r" b="b"/>
              <a:pathLst>
                <a:path w="904" h="939">
                  <a:moveTo>
                    <a:pt x="20" y="0"/>
                  </a:moveTo>
                  <a:lnTo>
                    <a:pt x="890" y="872"/>
                  </a:lnTo>
                  <a:lnTo>
                    <a:pt x="892" y="880"/>
                  </a:lnTo>
                  <a:lnTo>
                    <a:pt x="894" y="888"/>
                  </a:lnTo>
                  <a:lnTo>
                    <a:pt x="895" y="897"/>
                  </a:lnTo>
                  <a:lnTo>
                    <a:pt x="897" y="905"/>
                  </a:lnTo>
                  <a:lnTo>
                    <a:pt x="898" y="914"/>
                  </a:lnTo>
                  <a:lnTo>
                    <a:pt x="900" y="922"/>
                  </a:lnTo>
                  <a:lnTo>
                    <a:pt x="902" y="930"/>
                  </a:lnTo>
                  <a:lnTo>
                    <a:pt x="904" y="939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7" y="21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52960" y="3676320"/>
              <a:ext cx="387000" cy="401760"/>
            </a:xfrm>
            <a:custGeom>
              <a:avLst/>
              <a:gdLst/>
              <a:ahLst/>
              <a:rect l="l" t="t" r="r" b="b"/>
              <a:pathLst>
                <a:path w="920" h="955">
                  <a:moveTo>
                    <a:pt x="20" y="0"/>
                  </a:moveTo>
                  <a:lnTo>
                    <a:pt x="907" y="889"/>
                  </a:lnTo>
                  <a:lnTo>
                    <a:pt x="908" y="898"/>
                  </a:lnTo>
                  <a:lnTo>
                    <a:pt x="910" y="906"/>
                  </a:lnTo>
                  <a:lnTo>
                    <a:pt x="912" y="914"/>
                  </a:lnTo>
                  <a:lnTo>
                    <a:pt x="914" y="923"/>
                  </a:lnTo>
                  <a:lnTo>
                    <a:pt x="915" y="930"/>
                  </a:lnTo>
                  <a:lnTo>
                    <a:pt x="917" y="939"/>
                  </a:lnTo>
                  <a:lnTo>
                    <a:pt x="918" y="947"/>
                  </a:lnTo>
                  <a:lnTo>
                    <a:pt x="920" y="955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7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48640" y="3682800"/>
              <a:ext cx="393120" cy="410040"/>
            </a:xfrm>
            <a:custGeom>
              <a:avLst/>
              <a:gdLst/>
              <a:ahLst/>
              <a:rect l="l" t="t" r="r" b="b"/>
              <a:pathLst>
                <a:path w="936" h="972">
                  <a:moveTo>
                    <a:pt x="21" y="0"/>
                  </a:moveTo>
                  <a:lnTo>
                    <a:pt x="925" y="907"/>
                  </a:lnTo>
                  <a:lnTo>
                    <a:pt x="926" y="914"/>
                  </a:lnTo>
                  <a:lnTo>
                    <a:pt x="928" y="923"/>
                  </a:lnTo>
                  <a:lnTo>
                    <a:pt x="929" y="931"/>
                  </a:lnTo>
                  <a:lnTo>
                    <a:pt x="931" y="939"/>
                  </a:lnTo>
                  <a:lnTo>
                    <a:pt x="932" y="948"/>
                  </a:lnTo>
                  <a:lnTo>
                    <a:pt x="933" y="956"/>
                  </a:lnTo>
                  <a:lnTo>
                    <a:pt x="935" y="964"/>
                  </a:lnTo>
                  <a:lnTo>
                    <a:pt x="936" y="972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44320" y="3691080"/>
              <a:ext cx="399960" cy="414000"/>
            </a:xfrm>
            <a:custGeom>
              <a:avLst/>
              <a:gdLst/>
              <a:ahLst/>
              <a:rect l="l" t="t" r="r" b="b"/>
              <a:pathLst>
                <a:path w="952" h="988">
                  <a:moveTo>
                    <a:pt x="21" y="0"/>
                  </a:moveTo>
                  <a:lnTo>
                    <a:pt x="941" y="922"/>
                  </a:lnTo>
                  <a:lnTo>
                    <a:pt x="942" y="931"/>
                  </a:lnTo>
                  <a:lnTo>
                    <a:pt x="943" y="939"/>
                  </a:lnTo>
                  <a:lnTo>
                    <a:pt x="945" y="947"/>
                  </a:lnTo>
                  <a:lnTo>
                    <a:pt x="946" y="955"/>
                  </a:lnTo>
                  <a:lnTo>
                    <a:pt x="948" y="963"/>
                  </a:lnTo>
                  <a:lnTo>
                    <a:pt x="949" y="972"/>
                  </a:lnTo>
                  <a:lnTo>
                    <a:pt x="950" y="980"/>
                  </a:lnTo>
                  <a:lnTo>
                    <a:pt x="952" y="988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40000" y="3697560"/>
              <a:ext cx="406080" cy="422640"/>
            </a:xfrm>
            <a:custGeom>
              <a:avLst/>
              <a:gdLst/>
              <a:ahLst/>
              <a:rect l="l" t="t" r="r" b="b"/>
              <a:pathLst>
                <a:path w="969" h="1003">
                  <a:moveTo>
                    <a:pt x="21" y="0"/>
                  </a:moveTo>
                  <a:lnTo>
                    <a:pt x="957" y="938"/>
                  </a:lnTo>
                  <a:lnTo>
                    <a:pt x="959" y="946"/>
                  </a:lnTo>
                  <a:lnTo>
                    <a:pt x="960" y="955"/>
                  </a:lnTo>
                  <a:lnTo>
                    <a:pt x="961" y="963"/>
                  </a:lnTo>
                  <a:lnTo>
                    <a:pt x="963" y="971"/>
                  </a:lnTo>
                  <a:lnTo>
                    <a:pt x="964" y="979"/>
                  </a:lnTo>
                  <a:lnTo>
                    <a:pt x="966" y="987"/>
                  </a:lnTo>
                  <a:lnTo>
                    <a:pt x="968" y="996"/>
                  </a:lnTo>
                  <a:lnTo>
                    <a:pt x="969" y="1003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1" y="16"/>
                  </a:lnTo>
                  <a:lnTo>
                    <a:pt x="13" y="11"/>
                  </a:lnTo>
                  <a:lnTo>
                    <a:pt x="16" y="7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35680" y="3703680"/>
              <a:ext cx="412920" cy="429480"/>
            </a:xfrm>
            <a:custGeom>
              <a:avLst/>
              <a:gdLst/>
              <a:ahLst/>
              <a:rect l="l" t="t" r="r" b="b"/>
              <a:pathLst>
                <a:path w="984" h="1020">
                  <a:moveTo>
                    <a:pt x="21" y="0"/>
                  </a:moveTo>
                  <a:lnTo>
                    <a:pt x="973" y="955"/>
                  </a:lnTo>
                  <a:lnTo>
                    <a:pt x="974" y="963"/>
                  </a:lnTo>
                  <a:lnTo>
                    <a:pt x="976" y="971"/>
                  </a:lnTo>
                  <a:lnTo>
                    <a:pt x="978" y="980"/>
                  </a:lnTo>
                  <a:lnTo>
                    <a:pt x="979" y="987"/>
                  </a:lnTo>
                  <a:lnTo>
                    <a:pt x="980" y="996"/>
                  </a:lnTo>
                  <a:lnTo>
                    <a:pt x="982" y="1004"/>
                  </a:lnTo>
                  <a:lnTo>
                    <a:pt x="983" y="1012"/>
                  </a:lnTo>
                  <a:lnTo>
                    <a:pt x="984" y="1020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29560" y="3709800"/>
              <a:ext cx="422640" cy="437760"/>
            </a:xfrm>
            <a:custGeom>
              <a:avLst/>
              <a:gdLst/>
              <a:ahLst/>
              <a:rect l="l" t="t" r="r" b="b"/>
              <a:pathLst>
                <a:path w="1001" h="1036">
                  <a:moveTo>
                    <a:pt x="21" y="0"/>
                  </a:moveTo>
                  <a:lnTo>
                    <a:pt x="990" y="971"/>
                  </a:lnTo>
                  <a:lnTo>
                    <a:pt x="991" y="980"/>
                  </a:lnTo>
                  <a:lnTo>
                    <a:pt x="993" y="988"/>
                  </a:lnTo>
                  <a:lnTo>
                    <a:pt x="994" y="996"/>
                  </a:lnTo>
                  <a:lnTo>
                    <a:pt x="995" y="1004"/>
                  </a:lnTo>
                  <a:lnTo>
                    <a:pt x="997" y="1012"/>
                  </a:lnTo>
                  <a:lnTo>
                    <a:pt x="998" y="1021"/>
                  </a:lnTo>
                  <a:lnTo>
                    <a:pt x="999" y="1028"/>
                  </a:lnTo>
                  <a:lnTo>
                    <a:pt x="1001" y="1036"/>
                  </a:lnTo>
                  <a:lnTo>
                    <a:pt x="0" y="33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8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25240" y="3718440"/>
              <a:ext cx="429480" cy="441720"/>
            </a:xfrm>
            <a:custGeom>
              <a:avLst/>
              <a:gdLst/>
              <a:ahLst/>
              <a:rect l="l" t="t" r="r" b="b"/>
              <a:pathLst>
                <a:path w="1016" h="1052">
                  <a:moveTo>
                    <a:pt x="21" y="0"/>
                  </a:moveTo>
                  <a:lnTo>
                    <a:pt x="1005" y="987"/>
                  </a:lnTo>
                  <a:lnTo>
                    <a:pt x="1007" y="995"/>
                  </a:lnTo>
                  <a:lnTo>
                    <a:pt x="1008" y="1004"/>
                  </a:lnTo>
                  <a:lnTo>
                    <a:pt x="1009" y="1012"/>
                  </a:lnTo>
                  <a:lnTo>
                    <a:pt x="1011" y="1019"/>
                  </a:lnTo>
                  <a:lnTo>
                    <a:pt x="1012" y="1028"/>
                  </a:lnTo>
                  <a:lnTo>
                    <a:pt x="1013" y="1036"/>
                  </a:lnTo>
                  <a:lnTo>
                    <a:pt x="1015" y="1043"/>
                  </a:lnTo>
                  <a:lnTo>
                    <a:pt x="1016" y="1052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0920" y="3724560"/>
              <a:ext cx="435600" cy="450360"/>
            </a:xfrm>
            <a:custGeom>
              <a:avLst/>
              <a:gdLst/>
              <a:ahLst/>
              <a:rect l="l" t="t" r="r" b="b"/>
              <a:pathLst>
                <a:path w="1033" h="1068">
                  <a:moveTo>
                    <a:pt x="21" y="0"/>
                  </a:moveTo>
                  <a:lnTo>
                    <a:pt x="1022" y="1003"/>
                  </a:lnTo>
                  <a:lnTo>
                    <a:pt x="1023" y="1012"/>
                  </a:lnTo>
                  <a:lnTo>
                    <a:pt x="1024" y="1020"/>
                  </a:lnTo>
                  <a:lnTo>
                    <a:pt x="1026" y="1027"/>
                  </a:lnTo>
                  <a:lnTo>
                    <a:pt x="1027" y="1036"/>
                  </a:lnTo>
                  <a:lnTo>
                    <a:pt x="1029" y="1044"/>
                  </a:lnTo>
                  <a:lnTo>
                    <a:pt x="1031" y="1053"/>
                  </a:lnTo>
                  <a:lnTo>
                    <a:pt x="1032" y="1060"/>
                  </a:lnTo>
                  <a:lnTo>
                    <a:pt x="1033" y="1068"/>
                  </a:lnTo>
                  <a:lnTo>
                    <a:pt x="0" y="34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14" y="13"/>
                  </a:lnTo>
                  <a:lnTo>
                    <a:pt x="16" y="8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16960" y="3730680"/>
              <a:ext cx="441720" cy="456480"/>
            </a:xfrm>
            <a:custGeom>
              <a:avLst/>
              <a:gdLst/>
              <a:ahLst/>
              <a:rect l="l" t="t" r="r" b="b"/>
              <a:pathLst>
                <a:path w="1048" h="1084">
                  <a:moveTo>
                    <a:pt x="20" y="0"/>
                  </a:moveTo>
                  <a:lnTo>
                    <a:pt x="1036" y="1019"/>
                  </a:lnTo>
                  <a:lnTo>
                    <a:pt x="1038" y="1027"/>
                  </a:lnTo>
                  <a:lnTo>
                    <a:pt x="1040" y="1036"/>
                  </a:lnTo>
                  <a:lnTo>
                    <a:pt x="1041" y="1043"/>
                  </a:lnTo>
                  <a:lnTo>
                    <a:pt x="1042" y="1051"/>
                  </a:lnTo>
                  <a:lnTo>
                    <a:pt x="1044" y="1060"/>
                  </a:lnTo>
                  <a:lnTo>
                    <a:pt x="1045" y="1068"/>
                  </a:lnTo>
                  <a:lnTo>
                    <a:pt x="1047" y="1076"/>
                  </a:lnTo>
                  <a:lnTo>
                    <a:pt x="1048" y="1084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13000" y="3739320"/>
              <a:ext cx="448200" cy="462600"/>
            </a:xfrm>
            <a:custGeom>
              <a:avLst/>
              <a:gdLst/>
              <a:ahLst/>
              <a:rect l="l" t="t" r="r" b="b"/>
              <a:pathLst>
                <a:path w="1064" h="1100">
                  <a:moveTo>
                    <a:pt x="20" y="0"/>
                  </a:moveTo>
                  <a:lnTo>
                    <a:pt x="1053" y="1034"/>
                  </a:lnTo>
                  <a:lnTo>
                    <a:pt x="1055" y="1043"/>
                  </a:lnTo>
                  <a:lnTo>
                    <a:pt x="1056" y="1051"/>
                  </a:lnTo>
                  <a:lnTo>
                    <a:pt x="1058" y="1059"/>
                  </a:lnTo>
                  <a:lnTo>
                    <a:pt x="1059" y="1067"/>
                  </a:lnTo>
                  <a:lnTo>
                    <a:pt x="1060" y="1075"/>
                  </a:lnTo>
                  <a:lnTo>
                    <a:pt x="1062" y="1084"/>
                  </a:lnTo>
                  <a:lnTo>
                    <a:pt x="1063" y="1091"/>
                  </a:lnTo>
                  <a:lnTo>
                    <a:pt x="1064" y="1100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08680" y="3745800"/>
              <a:ext cx="454320" cy="469440"/>
            </a:xfrm>
            <a:custGeom>
              <a:avLst/>
              <a:gdLst/>
              <a:ahLst/>
              <a:rect l="l" t="t" r="r" b="b"/>
              <a:pathLst>
                <a:path w="1081" h="1117">
                  <a:moveTo>
                    <a:pt x="21" y="0"/>
                  </a:moveTo>
                  <a:lnTo>
                    <a:pt x="1069" y="1051"/>
                  </a:lnTo>
                  <a:lnTo>
                    <a:pt x="1070" y="1059"/>
                  </a:lnTo>
                  <a:lnTo>
                    <a:pt x="1072" y="1068"/>
                  </a:lnTo>
                  <a:lnTo>
                    <a:pt x="1073" y="1075"/>
                  </a:lnTo>
                  <a:lnTo>
                    <a:pt x="1074" y="1084"/>
                  </a:lnTo>
                  <a:lnTo>
                    <a:pt x="1076" y="1092"/>
                  </a:lnTo>
                  <a:lnTo>
                    <a:pt x="1077" y="1100"/>
                  </a:lnTo>
                  <a:lnTo>
                    <a:pt x="1079" y="1109"/>
                  </a:lnTo>
                  <a:lnTo>
                    <a:pt x="1081" y="1117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6" y="9"/>
                  </a:lnTo>
                  <a:lnTo>
                    <a:pt x="18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04360" y="3752280"/>
              <a:ext cx="462960" cy="477360"/>
            </a:xfrm>
            <a:custGeom>
              <a:avLst/>
              <a:gdLst/>
              <a:ahLst/>
              <a:rect l="l" t="t" r="r" b="b"/>
              <a:pathLst>
                <a:path w="1098" h="1133">
                  <a:moveTo>
                    <a:pt x="21" y="0"/>
                  </a:moveTo>
                  <a:lnTo>
                    <a:pt x="1085" y="1067"/>
                  </a:lnTo>
                  <a:lnTo>
                    <a:pt x="1087" y="1075"/>
                  </a:lnTo>
                  <a:lnTo>
                    <a:pt x="1088" y="1083"/>
                  </a:lnTo>
                  <a:lnTo>
                    <a:pt x="1090" y="1092"/>
                  </a:lnTo>
                  <a:lnTo>
                    <a:pt x="1092" y="1100"/>
                  </a:lnTo>
                  <a:lnTo>
                    <a:pt x="1094" y="1109"/>
                  </a:lnTo>
                  <a:lnTo>
                    <a:pt x="1095" y="1116"/>
                  </a:lnTo>
                  <a:lnTo>
                    <a:pt x="1097" y="1124"/>
                  </a:lnTo>
                  <a:lnTo>
                    <a:pt x="1098" y="1133"/>
                  </a:lnTo>
                  <a:lnTo>
                    <a:pt x="0" y="33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9" y="20"/>
                  </a:lnTo>
                  <a:lnTo>
                    <a:pt x="11" y="16"/>
                  </a:lnTo>
                  <a:lnTo>
                    <a:pt x="14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00040" y="3760560"/>
              <a:ext cx="469440" cy="483840"/>
            </a:xfrm>
            <a:custGeom>
              <a:avLst/>
              <a:gdLst/>
              <a:ahLst/>
              <a:rect l="l" t="t" r="r" b="b"/>
              <a:pathLst>
                <a:path w="1113" h="1150">
                  <a:moveTo>
                    <a:pt x="20" y="0"/>
                  </a:moveTo>
                  <a:lnTo>
                    <a:pt x="1101" y="1084"/>
                  </a:lnTo>
                  <a:lnTo>
                    <a:pt x="1103" y="1092"/>
                  </a:lnTo>
                  <a:lnTo>
                    <a:pt x="1104" y="1100"/>
                  </a:lnTo>
                  <a:lnTo>
                    <a:pt x="1106" y="1108"/>
                  </a:lnTo>
                  <a:lnTo>
                    <a:pt x="1107" y="1117"/>
                  </a:lnTo>
                  <a:lnTo>
                    <a:pt x="1109" y="1125"/>
                  </a:lnTo>
                  <a:lnTo>
                    <a:pt x="1110" y="1134"/>
                  </a:lnTo>
                  <a:lnTo>
                    <a:pt x="1112" y="1142"/>
                  </a:lnTo>
                  <a:lnTo>
                    <a:pt x="1113" y="1150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96080" y="3766680"/>
              <a:ext cx="475200" cy="490320"/>
            </a:xfrm>
            <a:custGeom>
              <a:avLst/>
              <a:gdLst/>
              <a:ahLst/>
              <a:rect l="l" t="t" r="r" b="b"/>
              <a:pathLst>
                <a:path w="1131" h="1167">
                  <a:moveTo>
                    <a:pt x="20" y="0"/>
                  </a:moveTo>
                  <a:lnTo>
                    <a:pt x="1118" y="1100"/>
                  </a:lnTo>
                  <a:lnTo>
                    <a:pt x="1120" y="1108"/>
                  </a:lnTo>
                  <a:lnTo>
                    <a:pt x="1121" y="1117"/>
                  </a:lnTo>
                  <a:lnTo>
                    <a:pt x="1123" y="1125"/>
                  </a:lnTo>
                  <a:lnTo>
                    <a:pt x="1124" y="1133"/>
                  </a:lnTo>
                  <a:lnTo>
                    <a:pt x="1126" y="1142"/>
                  </a:lnTo>
                  <a:lnTo>
                    <a:pt x="1127" y="1150"/>
                  </a:lnTo>
                  <a:lnTo>
                    <a:pt x="1129" y="1159"/>
                  </a:lnTo>
                  <a:lnTo>
                    <a:pt x="1131" y="1167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91760" y="3773160"/>
              <a:ext cx="483840" cy="498600"/>
            </a:xfrm>
            <a:custGeom>
              <a:avLst/>
              <a:gdLst/>
              <a:ahLst/>
              <a:rect l="l" t="t" r="r" b="b"/>
              <a:pathLst>
                <a:path w="1149" h="1184">
                  <a:moveTo>
                    <a:pt x="21" y="0"/>
                  </a:moveTo>
                  <a:lnTo>
                    <a:pt x="1134" y="1116"/>
                  </a:lnTo>
                  <a:lnTo>
                    <a:pt x="1136" y="1125"/>
                  </a:lnTo>
                  <a:lnTo>
                    <a:pt x="1137" y="1133"/>
                  </a:lnTo>
                  <a:lnTo>
                    <a:pt x="1139" y="1142"/>
                  </a:lnTo>
                  <a:lnTo>
                    <a:pt x="1141" y="1150"/>
                  </a:lnTo>
                  <a:lnTo>
                    <a:pt x="1142" y="1158"/>
                  </a:lnTo>
                  <a:lnTo>
                    <a:pt x="1145" y="1167"/>
                  </a:lnTo>
                  <a:lnTo>
                    <a:pt x="1147" y="1175"/>
                  </a:lnTo>
                  <a:lnTo>
                    <a:pt x="1149" y="1184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8" y="21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87440" y="3781440"/>
              <a:ext cx="489960" cy="505080"/>
            </a:xfrm>
            <a:custGeom>
              <a:avLst/>
              <a:gdLst/>
              <a:ahLst/>
              <a:rect l="l" t="t" r="r" b="b"/>
              <a:pathLst>
                <a:path w="1165" h="1202">
                  <a:moveTo>
                    <a:pt x="19" y="0"/>
                  </a:moveTo>
                  <a:lnTo>
                    <a:pt x="1150" y="1134"/>
                  </a:lnTo>
                  <a:lnTo>
                    <a:pt x="1151" y="1142"/>
                  </a:lnTo>
                  <a:lnTo>
                    <a:pt x="1154" y="1151"/>
                  </a:lnTo>
                  <a:lnTo>
                    <a:pt x="1156" y="1159"/>
                  </a:lnTo>
                  <a:lnTo>
                    <a:pt x="1158" y="1168"/>
                  </a:lnTo>
                  <a:lnTo>
                    <a:pt x="1159" y="1177"/>
                  </a:lnTo>
                  <a:lnTo>
                    <a:pt x="1161" y="1185"/>
                  </a:lnTo>
                  <a:lnTo>
                    <a:pt x="1163" y="1194"/>
                  </a:lnTo>
                  <a:lnTo>
                    <a:pt x="1165" y="1202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2" y="13"/>
                  </a:lnTo>
                  <a:lnTo>
                    <a:pt x="14" y="9"/>
                  </a:lnTo>
                  <a:lnTo>
                    <a:pt x="17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83120" y="3788280"/>
              <a:ext cx="498600" cy="513360"/>
            </a:xfrm>
            <a:custGeom>
              <a:avLst/>
              <a:gdLst/>
              <a:ahLst/>
              <a:rect l="l" t="t" r="r" b="b"/>
              <a:pathLst>
                <a:path w="1183" h="1220">
                  <a:moveTo>
                    <a:pt x="20" y="0"/>
                  </a:moveTo>
                  <a:lnTo>
                    <a:pt x="1169" y="1151"/>
                  </a:lnTo>
                  <a:lnTo>
                    <a:pt x="1170" y="1160"/>
                  </a:lnTo>
                  <a:lnTo>
                    <a:pt x="1172" y="1168"/>
                  </a:lnTo>
                  <a:lnTo>
                    <a:pt x="1174" y="1177"/>
                  </a:lnTo>
                  <a:lnTo>
                    <a:pt x="1176" y="1185"/>
                  </a:lnTo>
                  <a:lnTo>
                    <a:pt x="1178" y="1195"/>
                  </a:lnTo>
                  <a:lnTo>
                    <a:pt x="1180" y="1203"/>
                  </a:lnTo>
                  <a:lnTo>
                    <a:pt x="1181" y="1212"/>
                  </a:lnTo>
                  <a:lnTo>
                    <a:pt x="1183" y="1220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78800" y="3794400"/>
              <a:ext cx="507240" cy="521280"/>
            </a:xfrm>
            <a:custGeom>
              <a:avLst/>
              <a:gdLst/>
              <a:ahLst/>
              <a:rect l="l" t="t" r="r" b="b"/>
              <a:pathLst>
                <a:path w="1202" h="1239">
                  <a:moveTo>
                    <a:pt x="20" y="0"/>
                  </a:moveTo>
                  <a:lnTo>
                    <a:pt x="1185" y="1168"/>
                  </a:lnTo>
                  <a:lnTo>
                    <a:pt x="1187" y="1177"/>
                  </a:lnTo>
                  <a:lnTo>
                    <a:pt x="1188" y="1186"/>
                  </a:lnTo>
                  <a:lnTo>
                    <a:pt x="1190" y="1195"/>
                  </a:lnTo>
                  <a:lnTo>
                    <a:pt x="1193" y="1204"/>
                  </a:lnTo>
                  <a:lnTo>
                    <a:pt x="1196" y="1212"/>
                  </a:lnTo>
                  <a:lnTo>
                    <a:pt x="1198" y="1221"/>
                  </a:lnTo>
                  <a:lnTo>
                    <a:pt x="1200" y="1230"/>
                  </a:lnTo>
                  <a:lnTo>
                    <a:pt x="1202" y="1239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74480" y="3802320"/>
              <a:ext cx="513360" cy="528120"/>
            </a:xfrm>
            <a:custGeom>
              <a:avLst/>
              <a:gdLst/>
              <a:ahLst/>
              <a:rect l="l" t="t" r="r" b="b"/>
              <a:pathLst>
                <a:path w="1222" h="1258">
                  <a:moveTo>
                    <a:pt x="20" y="0"/>
                  </a:moveTo>
                  <a:lnTo>
                    <a:pt x="1203" y="1186"/>
                  </a:lnTo>
                  <a:lnTo>
                    <a:pt x="1206" y="1195"/>
                  </a:lnTo>
                  <a:lnTo>
                    <a:pt x="1209" y="1205"/>
                  </a:lnTo>
                  <a:lnTo>
                    <a:pt x="1211" y="1213"/>
                  </a:lnTo>
                  <a:lnTo>
                    <a:pt x="1213" y="1223"/>
                  </a:lnTo>
                  <a:lnTo>
                    <a:pt x="1215" y="1231"/>
                  </a:lnTo>
                  <a:lnTo>
                    <a:pt x="1217" y="1241"/>
                  </a:lnTo>
                  <a:lnTo>
                    <a:pt x="1219" y="1249"/>
                  </a:lnTo>
                  <a:lnTo>
                    <a:pt x="1222" y="1258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70880" y="3809160"/>
              <a:ext cx="521640" cy="538560"/>
            </a:xfrm>
            <a:custGeom>
              <a:avLst/>
              <a:gdLst/>
              <a:ahLst/>
              <a:rect l="l" t="t" r="r" b="b"/>
              <a:pathLst>
                <a:path w="1242" h="1278">
                  <a:moveTo>
                    <a:pt x="21" y="0"/>
                  </a:moveTo>
                  <a:lnTo>
                    <a:pt x="1223" y="1205"/>
                  </a:lnTo>
                  <a:lnTo>
                    <a:pt x="1225" y="1214"/>
                  </a:lnTo>
                  <a:lnTo>
                    <a:pt x="1227" y="1224"/>
                  </a:lnTo>
                  <a:lnTo>
                    <a:pt x="1229" y="1233"/>
                  </a:lnTo>
                  <a:lnTo>
                    <a:pt x="1232" y="1241"/>
                  </a:lnTo>
                  <a:lnTo>
                    <a:pt x="1234" y="1251"/>
                  </a:lnTo>
                  <a:lnTo>
                    <a:pt x="1238" y="1260"/>
                  </a:lnTo>
                  <a:lnTo>
                    <a:pt x="1240" y="1269"/>
                  </a:lnTo>
                  <a:lnTo>
                    <a:pt x="1242" y="1278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8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66560" y="3815280"/>
              <a:ext cx="532080" cy="546840"/>
            </a:xfrm>
            <a:custGeom>
              <a:avLst/>
              <a:gdLst/>
              <a:ahLst/>
              <a:rect l="l" t="t" r="r" b="b"/>
              <a:pathLst>
                <a:path w="1263" h="1300">
                  <a:moveTo>
                    <a:pt x="20" y="0"/>
                  </a:moveTo>
                  <a:lnTo>
                    <a:pt x="1242" y="1225"/>
                  </a:lnTo>
                  <a:lnTo>
                    <a:pt x="1244" y="1235"/>
                  </a:lnTo>
                  <a:lnTo>
                    <a:pt x="1248" y="1244"/>
                  </a:lnTo>
                  <a:lnTo>
                    <a:pt x="1250" y="1254"/>
                  </a:lnTo>
                  <a:lnTo>
                    <a:pt x="1253" y="1263"/>
                  </a:lnTo>
                  <a:lnTo>
                    <a:pt x="1255" y="1273"/>
                  </a:lnTo>
                  <a:lnTo>
                    <a:pt x="1258" y="1282"/>
                  </a:lnTo>
                  <a:lnTo>
                    <a:pt x="1260" y="1291"/>
                  </a:lnTo>
                  <a:lnTo>
                    <a:pt x="1263" y="1300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62240" y="3823920"/>
              <a:ext cx="540720" cy="555120"/>
            </a:xfrm>
            <a:custGeom>
              <a:avLst/>
              <a:gdLst/>
              <a:ahLst/>
              <a:rect l="l" t="t" r="r" b="b"/>
              <a:pathLst>
                <a:path w="1286" h="1323">
                  <a:moveTo>
                    <a:pt x="20" y="0"/>
                  </a:moveTo>
                  <a:lnTo>
                    <a:pt x="1262" y="1245"/>
                  </a:lnTo>
                  <a:lnTo>
                    <a:pt x="1265" y="1255"/>
                  </a:lnTo>
                  <a:lnTo>
                    <a:pt x="1268" y="1265"/>
                  </a:lnTo>
                  <a:lnTo>
                    <a:pt x="1271" y="1275"/>
                  </a:lnTo>
                  <a:lnTo>
                    <a:pt x="1273" y="1284"/>
                  </a:lnTo>
                  <a:lnTo>
                    <a:pt x="1276" y="1294"/>
                  </a:lnTo>
                  <a:lnTo>
                    <a:pt x="1280" y="1304"/>
                  </a:lnTo>
                  <a:lnTo>
                    <a:pt x="1283" y="1314"/>
                  </a:lnTo>
                  <a:lnTo>
                    <a:pt x="1286" y="1323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57920" y="3830040"/>
              <a:ext cx="551520" cy="567720"/>
            </a:xfrm>
            <a:custGeom>
              <a:avLst/>
              <a:gdLst/>
              <a:ahLst/>
              <a:rect l="l" t="t" r="r" b="b"/>
              <a:pathLst>
                <a:path w="1309" h="1347">
                  <a:moveTo>
                    <a:pt x="20" y="0"/>
                  </a:moveTo>
                  <a:lnTo>
                    <a:pt x="1283" y="1266"/>
                  </a:lnTo>
                  <a:lnTo>
                    <a:pt x="1286" y="1277"/>
                  </a:lnTo>
                  <a:lnTo>
                    <a:pt x="1290" y="1287"/>
                  </a:lnTo>
                  <a:lnTo>
                    <a:pt x="1293" y="1297"/>
                  </a:lnTo>
                  <a:lnTo>
                    <a:pt x="1296" y="1307"/>
                  </a:lnTo>
                  <a:lnTo>
                    <a:pt x="1300" y="1316"/>
                  </a:lnTo>
                  <a:lnTo>
                    <a:pt x="1303" y="1327"/>
                  </a:lnTo>
                  <a:lnTo>
                    <a:pt x="1306" y="1336"/>
                  </a:lnTo>
                  <a:lnTo>
                    <a:pt x="1309" y="1347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3" y="13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53600" y="3838320"/>
              <a:ext cx="562320" cy="576720"/>
            </a:xfrm>
            <a:custGeom>
              <a:avLst/>
              <a:gdLst/>
              <a:ahLst/>
              <a:rect l="l" t="t" r="r" b="b"/>
              <a:pathLst>
                <a:path w="1336" h="1373">
                  <a:moveTo>
                    <a:pt x="20" y="0"/>
                  </a:moveTo>
                  <a:lnTo>
                    <a:pt x="1306" y="1289"/>
                  </a:lnTo>
                  <a:lnTo>
                    <a:pt x="1309" y="1299"/>
                  </a:lnTo>
                  <a:lnTo>
                    <a:pt x="1313" y="1310"/>
                  </a:lnTo>
                  <a:lnTo>
                    <a:pt x="1316" y="1320"/>
                  </a:lnTo>
                  <a:lnTo>
                    <a:pt x="1321" y="1331"/>
                  </a:lnTo>
                  <a:lnTo>
                    <a:pt x="1324" y="1342"/>
                  </a:lnTo>
                  <a:lnTo>
                    <a:pt x="1328" y="1352"/>
                  </a:lnTo>
                  <a:lnTo>
                    <a:pt x="1332" y="1363"/>
                  </a:lnTo>
                  <a:lnTo>
                    <a:pt x="1336" y="1373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49640" y="3844800"/>
              <a:ext cx="574200" cy="588600"/>
            </a:xfrm>
            <a:custGeom>
              <a:avLst/>
              <a:gdLst/>
              <a:ahLst/>
              <a:rect l="l" t="t" r="r" b="b"/>
              <a:pathLst>
                <a:path w="1364" h="1401">
                  <a:moveTo>
                    <a:pt x="20" y="0"/>
                  </a:moveTo>
                  <a:lnTo>
                    <a:pt x="1329" y="1313"/>
                  </a:lnTo>
                  <a:lnTo>
                    <a:pt x="1334" y="1323"/>
                  </a:lnTo>
                  <a:lnTo>
                    <a:pt x="1338" y="1335"/>
                  </a:lnTo>
                  <a:lnTo>
                    <a:pt x="1342" y="1347"/>
                  </a:lnTo>
                  <a:lnTo>
                    <a:pt x="1346" y="1357"/>
                  </a:lnTo>
                  <a:lnTo>
                    <a:pt x="1350" y="1368"/>
                  </a:lnTo>
                  <a:lnTo>
                    <a:pt x="1355" y="1379"/>
                  </a:lnTo>
                  <a:lnTo>
                    <a:pt x="1360" y="1390"/>
                  </a:lnTo>
                  <a:lnTo>
                    <a:pt x="1364" y="1401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45680" y="3850920"/>
              <a:ext cx="839520" cy="849600"/>
            </a:xfrm>
            <a:custGeom>
              <a:avLst/>
              <a:gdLst/>
              <a:ahLst/>
              <a:rect l="l" t="t" r="r" b="b"/>
              <a:pathLst>
                <a:path w="1993" h="2019">
                  <a:moveTo>
                    <a:pt x="19" y="0"/>
                  </a:moveTo>
                  <a:lnTo>
                    <a:pt x="1355" y="1340"/>
                  </a:lnTo>
                  <a:lnTo>
                    <a:pt x="1359" y="1352"/>
                  </a:lnTo>
                  <a:lnTo>
                    <a:pt x="1364" y="1363"/>
                  </a:lnTo>
                  <a:lnTo>
                    <a:pt x="1369" y="1375"/>
                  </a:lnTo>
                  <a:lnTo>
                    <a:pt x="1374" y="1386"/>
                  </a:lnTo>
                  <a:lnTo>
                    <a:pt x="1379" y="1399"/>
                  </a:lnTo>
                  <a:lnTo>
                    <a:pt x="1384" y="1410"/>
                  </a:lnTo>
                  <a:lnTo>
                    <a:pt x="1389" y="1422"/>
                  </a:lnTo>
                  <a:lnTo>
                    <a:pt x="1395" y="1434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7" y="23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5" y="10"/>
                  </a:lnTo>
                  <a:lnTo>
                    <a:pt x="17" y="5"/>
                  </a:lnTo>
                  <a:lnTo>
                    <a:pt x="19" y="0"/>
                  </a:lnTo>
                  <a:close/>
                  <a:moveTo>
                    <a:pt x="1979" y="2019"/>
                  </a:moveTo>
                  <a:lnTo>
                    <a:pt x="1964" y="2004"/>
                  </a:lnTo>
                  <a:lnTo>
                    <a:pt x="1967" y="2006"/>
                  </a:lnTo>
                  <a:lnTo>
                    <a:pt x="1971" y="2007"/>
                  </a:lnTo>
                  <a:lnTo>
                    <a:pt x="1975" y="2009"/>
                  </a:lnTo>
                  <a:lnTo>
                    <a:pt x="1978" y="2011"/>
                  </a:lnTo>
                  <a:lnTo>
                    <a:pt x="1981" y="2012"/>
                  </a:lnTo>
                  <a:lnTo>
                    <a:pt x="1985" y="2015"/>
                  </a:lnTo>
                  <a:lnTo>
                    <a:pt x="1988" y="2016"/>
                  </a:lnTo>
                  <a:lnTo>
                    <a:pt x="1993" y="2018"/>
                  </a:lnTo>
                  <a:lnTo>
                    <a:pt x="1990" y="2018"/>
                  </a:lnTo>
                  <a:lnTo>
                    <a:pt x="1988" y="2018"/>
                  </a:lnTo>
                  <a:lnTo>
                    <a:pt x="1987" y="2018"/>
                  </a:lnTo>
                  <a:lnTo>
                    <a:pt x="1985" y="2018"/>
                  </a:lnTo>
                  <a:lnTo>
                    <a:pt x="1983" y="2018"/>
                  </a:lnTo>
                  <a:lnTo>
                    <a:pt x="1982" y="2019"/>
                  </a:lnTo>
                  <a:lnTo>
                    <a:pt x="1980" y="2019"/>
                  </a:lnTo>
                  <a:lnTo>
                    <a:pt x="1979" y="201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41360" y="3859200"/>
              <a:ext cx="843840" cy="841680"/>
            </a:xfrm>
            <a:custGeom>
              <a:avLst/>
              <a:gdLst/>
              <a:ahLst/>
              <a:rect l="l" t="t" r="r" b="b"/>
              <a:pathLst>
                <a:path w="2004" h="2002">
                  <a:moveTo>
                    <a:pt x="20" y="0"/>
                  </a:moveTo>
                  <a:lnTo>
                    <a:pt x="1384" y="1367"/>
                  </a:lnTo>
                  <a:lnTo>
                    <a:pt x="1389" y="1380"/>
                  </a:lnTo>
                  <a:lnTo>
                    <a:pt x="1396" y="1392"/>
                  </a:lnTo>
                  <a:lnTo>
                    <a:pt x="1401" y="1405"/>
                  </a:lnTo>
                  <a:lnTo>
                    <a:pt x="1407" y="1418"/>
                  </a:lnTo>
                  <a:lnTo>
                    <a:pt x="1412" y="1430"/>
                  </a:lnTo>
                  <a:lnTo>
                    <a:pt x="1419" y="1443"/>
                  </a:lnTo>
                  <a:lnTo>
                    <a:pt x="1425" y="1455"/>
                  </a:lnTo>
                  <a:lnTo>
                    <a:pt x="1431" y="1468"/>
                  </a:lnTo>
                  <a:lnTo>
                    <a:pt x="0" y="34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5"/>
                  </a:lnTo>
                  <a:lnTo>
                    <a:pt x="20" y="0"/>
                  </a:lnTo>
                  <a:close/>
                  <a:moveTo>
                    <a:pt x="1964" y="2002"/>
                  </a:moveTo>
                  <a:lnTo>
                    <a:pt x="1920" y="1958"/>
                  </a:lnTo>
                  <a:lnTo>
                    <a:pt x="1930" y="1963"/>
                  </a:lnTo>
                  <a:lnTo>
                    <a:pt x="1940" y="1968"/>
                  </a:lnTo>
                  <a:lnTo>
                    <a:pt x="1950" y="1973"/>
                  </a:lnTo>
                  <a:lnTo>
                    <a:pt x="1961" y="1979"/>
                  </a:lnTo>
                  <a:lnTo>
                    <a:pt x="1971" y="1984"/>
                  </a:lnTo>
                  <a:lnTo>
                    <a:pt x="1982" y="1989"/>
                  </a:lnTo>
                  <a:lnTo>
                    <a:pt x="1992" y="1994"/>
                  </a:lnTo>
                  <a:lnTo>
                    <a:pt x="2004" y="2000"/>
                  </a:lnTo>
                  <a:lnTo>
                    <a:pt x="1998" y="2000"/>
                  </a:lnTo>
                  <a:lnTo>
                    <a:pt x="1993" y="2001"/>
                  </a:lnTo>
                  <a:lnTo>
                    <a:pt x="1989" y="2001"/>
                  </a:lnTo>
                  <a:lnTo>
                    <a:pt x="1984" y="2001"/>
                  </a:lnTo>
                  <a:lnTo>
                    <a:pt x="1978" y="2001"/>
                  </a:lnTo>
                  <a:lnTo>
                    <a:pt x="1973" y="2002"/>
                  </a:lnTo>
                  <a:lnTo>
                    <a:pt x="1969" y="2002"/>
                  </a:lnTo>
                  <a:lnTo>
                    <a:pt x="1964" y="2002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37040" y="3866040"/>
              <a:ext cx="842040" cy="834840"/>
            </a:xfrm>
            <a:custGeom>
              <a:avLst/>
              <a:gdLst/>
              <a:ahLst/>
              <a:rect l="l" t="t" r="r" b="b"/>
              <a:pathLst>
                <a:path w="1999" h="1986">
                  <a:moveTo>
                    <a:pt x="20" y="0"/>
                  </a:moveTo>
                  <a:lnTo>
                    <a:pt x="1415" y="1399"/>
                  </a:lnTo>
                  <a:lnTo>
                    <a:pt x="1421" y="1413"/>
                  </a:lnTo>
                  <a:lnTo>
                    <a:pt x="1429" y="1428"/>
                  </a:lnTo>
                  <a:lnTo>
                    <a:pt x="1436" y="1442"/>
                  </a:lnTo>
                  <a:lnTo>
                    <a:pt x="1443" y="1456"/>
                  </a:lnTo>
                  <a:lnTo>
                    <a:pt x="1451" y="1471"/>
                  </a:lnTo>
                  <a:lnTo>
                    <a:pt x="1459" y="1485"/>
                  </a:lnTo>
                  <a:lnTo>
                    <a:pt x="1467" y="1499"/>
                  </a:lnTo>
                  <a:lnTo>
                    <a:pt x="1476" y="1513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20" y="0"/>
                  </a:lnTo>
                  <a:close/>
                  <a:moveTo>
                    <a:pt x="1984" y="1969"/>
                  </a:moveTo>
                  <a:lnTo>
                    <a:pt x="1999" y="1984"/>
                  </a:lnTo>
                  <a:lnTo>
                    <a:pt x="1992" y="1984"/>
                  </a:lnTo>
                  <a:lnTo>
                    <a:pt x="1985" y="1984"/>
                  </a:lnTo>
                  <a:lnTo>
                    <a:pt x="1979" y="1985"/>
                  </a:lnTo>
                  <a:lnTo>
                    <a:pt x="1973" y="1985"/>
                  </a:lnTo>
                  <a:lnTo>
                    <a:pt x="1966" y="1985"/>
                  </a:lnTo>
                  <a:lnTo>
                    <a:pt x="1960" y="1986"/>
                  </a:lnTo>
                  <a:lnTo>
                    <a:pt x="1954" y="1986"/>
                  </a:lnTo>
                  <a:lnTo>
                    <a:pt x="1948" y="1986"/>
                  </a:lnTo>
                  <a:lnTo>
                    <a:pt x="1866" y="1905"/>
                  </a:lnTo>
                  <a:lnTo>
                    <a:pt x="1879" y="1913"/>
                  </a:lnTo>
                  <a:lnTo>
                    <a:pt x="1894" y="1922"/>
                  </a:lnTo>
                  <a:lnTo>
                    <a:pt x="1909" y="1929"/>
                  </a:lnTo>
                  <a:lnTo>
                    <a:pt x="1923" y="1937"/>
                  </a:lnTo>
                  <a:lnTo>
                    <a:pt x="1938" y="1946"/>
                  </a:lnTo>
                  <a:lnTo>
                    <a:pt x="1953" y="1953"/>
                  </a:lnTo>
                  <a:lnTo>
                    <a:pt x="1969" y="1962"/>
                  </a:lnTo>
                  <a:lnTo>
                    <a:pt x="1984" y="196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32720" y="3873960"/>
              <a:ext cx="835560" cy="829080"/>
            </a:xfrm>
            <a:custGeom>
              <a:avLst/>
              <a:gdLst/>
              <a:ahLst/>
              <a:rect l="l" t="t" r="r" b="b"/>
              <a:pathLst>
                <a:path w="1982" h="1970">
                  <a:moveTo>
                    <a:pt x="18" y="0"/>
                  </a:moveTo>
                  <a:lnTo>
                    <a:pt x="1449" y="1434"/>
                  </a:lnTo>
                  <a:lnTo>
                    <a:pt x="1459" y="1452"/>
                  </a:lnTo>
                  <a:lnTo>
                    <a:pt x="1469" y="1470"/>
                  </a:lnTo>
                  <a:lnTo>
                    <a:pt x="1480" y="1488"/>
                  </a:lnTo>
                  <a:lnTo>
                    <a:pt x="1490" y="1506"/>
                  </a:lnTo>
                  <a:lnTo>
                    <a:pt x="1501" y="1522"/>
                  </a:lnTo>
                  <a:lnTo>
                    <a:pt x="1512" y="1539"/>
                  </a:lnTo>
                  <a:lnTo>
                    <a:pt x="1524" y="1557"/>
                  </a:lnTo>
                  <a:lnTo>
                    <a:pt x="1535" y="1574"/>
                  </a:lnTo>
                  <a:lnTo>
                    <a:pt x="0" y="35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8" y="0"/>
                  </a:lnTo>
                  <a:close/>
                  <a:moveTo>
                    <a:pt x="1938" y="1924"/>
                  </a:moveTo>
                  <a:lnTo>
                    <a:pt x="1982" y="1968"/>
                  </a:lnTo>
                  <a:lnTo>
                    <a:pt x="1975" y="1968"/>
                  </a:lnTo>
                  <a:lnTo>
                    <a:pt x="1969" y="1969"/>
                  </a:lnTo>
                  <a:lnTo>
                    <a:pt x="1963" y="1969"/>
                  </a:lnTo>
                  <a:lnTo>
                    <a:pt x="1957" y="1969"/>
                  </a:lnTo>
                  <a:lnTo>
                    <a:pt x="1950" y="1970"/>
                  </a:lnTo>
                  <a:lnTo>
                    <a:pt x="1944" y="1970"/>
                  </a:lnTo>
                  <a:lnTo>
                    <a:pt x="1938" y="1970"/>
                  </a:lnTo>
                  <a:lnTo>
                    <a:pt x="1931" y="1970"/>
                  </a:lnTo>
                  <a:lnTo>
                    <a:pt x="1795" y="1834"/>
                  </a:lnTo>
                  <a:lnTo>
                    <a:pt x="1812" y="1846"/>
                  </a:lnTo>
                  <a:lnTo>
                    <a:pt x="1829" y="1857"/>
                  </a:lnTo>
                  <a:lnTo>
                    <a:pt x="1845" y="1869"/>
                  </a:lnTo>
                  <a:lnTo>
                    <a:pt x="1863" y="1881"/>
                  </a:lnTo>
                  <a:lnTo>
                    <a:pt x="1881" y="1891"/>
                  </a:lnTo>
                  <a:lnTo>
                    <a:pt x="1900" y="1903"/>
                  </a:lnTo>
                  <a:lnTo>
                    <a:pt x="1919" y="1913"/>
                  </a:lnTo>
                  <a:lnTo>
                    <a:pt x="1938" y="1924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28400" y="3880800"/>
              <a:ext cx="829440" cy="822600"/>
            </a:xfrm>
            <a:custGeom>
              <a:avLst/>
              <a:gdLst/>
              <a:ahLst/>
              <a:rect l="l" t="t" r="r" b="b"/>
              <a:pathLst>
                <a:path w="1968" h="1955">
                  <a:moveTo>
                    <a:pt x="20" y="0"/>
                  </a:moveTo>
                  <a:lnTo>
                    <a:pt x="1496" y="1479"/>
                  </a:lnTo>
                  <a:lnTo>
                    <a:pt x="1513" y="1506"/>
                  </a:lnTo>
                  <a:lnTo>
                    <a:pt x="1530" y="1534"/>
                  </a:lnTo>
                  <a:lnTo>
                    <a:pt x="1549" y="1561"/>
                  </a:lnTo>
                  <a:lnTo>
                    <a:pt x="1569" y="1587"/>
                  </a:lnTo>
                  <a:lnTo>
                    <a:pt x="1589" y="1614"/>
                  </a:lnTo>
                  <a:lnTo>
                    <a:pt x="1611" y="1640"/>
                  </a:lnTo>
                  <a:lnTo>
                    <a:pt x="1633" y="1665"/>
                  </a:lnTo>
                  <a:lnTo>
                    <a:pt x="1657" y="1689"/>
                  </a:lnTo>
                  <a:lnTo>
                    <a:pt x="1681" y="1714"/>
                  </a:lnTo>
                  <a:lnTo>
                    <a:pt x="1708" y="1738"/>
                  </a:lnTo>
                  <a:lnTo>
                    <a:pt x="1735" y="1762"/>
                  </a:lnTo>
                  <a:lnTo>
                    <a:pt x="1762" y="1784"/>
                  </a:lnTo>
                  <a:lnTo>
                    <a:pt x="1791" y="1807"/>
                  </a:lnTo>
                  <a:lnTo>
                    <a:pt x="1822" y="1829"/>
                  </a:lnTo>
                  <a:lnTo>
                    <a:pt x="1853" y="1850"/>
                  </a:lnTo>
                  <a:lnTo>
                    <a:pt x="1886" y="1871"/>
                  </a:lnTo>
                  <a:lnTo>
                    <a:pt x="1968" y="1952"/>
                  </a:lnTo>
                  <a:lnTo>
                    <a:pt x="1961" y="1953"/>
                  </a:lnTo>
                  <a:lnTo>
                    <a:pt x="1955" y="1953"/>
                  </a:lnTo>
                  <a:lnTo>
                    <a:pt x="1948" y="1953"/>
                  </a:lnTo>
                  <a:lnTo>
                    <a:pt x="1941" y="1953"/>
                  </a:lnTo>
                  <a:lnTo>
                    <a:pt x="1935" y="1954"/>
                  </a:lnTo>
                  <a:lnTo>
                    <a:pt x="1929" y="1954"/>
                  </a:lnTo>
                  <a:lnTo>
                    <a:pt x="1922" y="1954"/>
                  </a:lnTo>
                  <a:lnTo>
                    <a:pt x="1916" y="1955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11" y="18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24440" y="3888720"/>
              <a:ext cx="822960" cy="814320"/>
            </a:xfrm>
            <a:custGeom>
              <a:avLst/>
              <a:gdLst/>
              <a:ahLst/>
              <a:rect l="l" t="t" r="r" b="b"/>
              <a:pathLst>
                <a:path w="1951" h="1938">
                  <a:moveTo>
                    <a:pt x="20" y="0"/>
                  </a:moveTo>
                  <a:lnTo>
                    <a:pt x="1555" y="1539"/>
                  </a:lnTo>
                  <a:lnTo>
                    <a:pt x="1581" y="1573"/>
                  </a:lnTo>
                  <a:lnTo>
                    <a:pt x="1609" y="1608"/>
                  </a:lnTo>
                  <a:lnTo>
                    <a:pt x="1639" y="1643"/>
                  </a:lnTo>
                  <a:lnTo>
                    <a:pt x="1670" y="1675"/>
                  </a:lnTo>
                  <a:lnTo>
                    <a:pt x="1703" y="1708"/>
                  </a:lnTo>
                  <a:lnTo>
                    <a:pt x="1739" y="1739"/>
                  </a:lnTo>
                  <a:lnTo>
                    <a:pt x="1776" y="1770"/>
                  </a:lnTo>
                  <a:lnTo>
                    <a:pt x="1815" y="1799"/>
                  </a:lnTo>
                  <a:lnTo>
                    <a:pt x="1951" y="1935"/>
                  </a:lnTo>
                  <a:lnTo>
                    <a:pt x="1944" y="1936"/>
                  </a:lnTo>
                  <a:lnTo>
                    <a:pt x="1938" y="1936"/>
                  </a:lnTo>
                  <a:lnTo>
                    <a:pt x="1931" y="1936"/>
                  </a:lnTo>
                  <a:lnTo>
                    <a:pt x="1925" y="1937"/>
                  </a:lnTo>
                  <a:lnTo>
                    <a:pt x="1919" y="1937"/>
                  </a:lnTo>
                  <a:lnTo>
                    <a:pt x="1913" y="1937"/>
                  </a:lnTo>
                  <a:lnTo>
                    <a:pt x="1906" y="1938"/>
                  </a:lnTo>
                  <a:lnTo>
                    <a:pt x="1900" y="1938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20120" y="3894840"/>
              <a:ext cx="814320" cy="808200"/>
            </a:xfrm>
            <a:custGeom>
              <a:avLst/>
              <a:gdLst/>
              <a:ahLst/>
              <a:rect l="l" t="t" r="r" b="b"/>
              <a:pathLst>
                <a:path w="1935" h="1923">
                  <a:moveTo>
                    <a:pt x="19" y="0"/>
                  </a:moveTo>
                  <a:lnTo>
                    <a:pt x="1935" y="1921"/>
                  </a:lnTo>
                  <a:lnTo>
                    <a:pt x="1929" y="1921"/>
                  </a:lnTo>
                  <a:lnTo>
                    <a:pt x="1923" y="1921"/>
                  </a:lnTo>
                  <a:lnTo>
                    <a:pt x="1916" y="1922"/>
                  </a:lnTo>
                  <a:lnTo>
                    <a:pt x="1910" y="1922"/>
                  </a:lnTo>
                  <a:lnTo>
                    <a:pt x="1904" y="1922"/>
                  </a:lnTo>
                  <a:lnTo>
                    <a:pt x="1897" y="1923"/>
                  </a:lnTo>
                  <a:lnTo>
                    <a:pt x="1891" y="1923"/>
                  </a:lnTo>
                  <a:lnTo>
                    <a:pt x="1884" y="1923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7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17960" y="3901680"/>
              <a:ext cx="806040" cy="803520"/>
            </a:xfrm>
            <a:custGeom>
              <a:avLst/>
              <a:gdLst/>
              <a:ahLst/>
              <a:rect l="l" t="t" r="r" b="b"/>
              <a:pathLst>
                <a:path w="1919" h="1907">
                  <a:moveTo>
                    <a:pt x="19" y="0"/>
                  </a:moveTo>
                  <a:lnTo>
                    <a:pt x="1919" y="1905"/>
                  </a:lnTo>
                  <a:lnTo>
                    <a:pt x="1913" y="1905"/>
                  </a:lnTo>
                  <a:lnTo>
                    <a:pt x="1906" y="1906"/>
                  </a:lnTo>
                  <a:lnTo>
                    <a:pt x="1899" y="1906"/>
                  </a:lnTo>
                  <a:lnTo>
                    <a:pt x="1893" y="1906"/>
                  </a:lnTo>
                  <a:lnTo>
                    <a:pt x="1887" y="1907"/>
                  </a:lnTo>
                  <a:lnTo>
                    <a:pt x="1880" y="1907"/>
                  </a:lnTo>
                  <a:lnTo>
                    <a:pt x="1874" y="1907"/>
                  </a:lnTo>
                  <a:lnTo>
                    <a:pt x="1868" y="1907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11480" y="3909960"/>
              <a:ext cx="801720" cy="795240"/>
            </a:xfrm>
            <a:custGeom>
              <a:avLst/>
              <a:gdLst/>
              <a:ahLst/>
              <a:rect l="l" t="t" r="r" b="b"/>
              <a:pathLst>
                <a:path w="1904" h="1892">
                  <a:moveTo>
                    <a:pt x="20" y="0"/>
                  </a:moveTo>
                  <a:lnTo>
                    <a:pt x="1904" y="1889"/>
                  </a:lnTo>
                  <a:lnTo>
                    <a:pt x="1898" y="1890"/>
                  </a:lnTo>
                  <a:lnTo>
                    <a:pt x="1891" y="1890"/>
                  </a:lnTo>
                  <a:lnTo>
                    <a:pt x="1885" y="1890"/>
                  </a:lnTo>
                  <a:lnTo>
                    <a:pt x="1879" y="1890"/>
                  </a:lnTo>
                  <a:lnTo>
                    <a:pt x="1872" y="1891"/>
                  </a:lnTo>
                  <a:lnTo>
                    <a:pt x="1866" y="1891"/>
                  </a:lnTo>
                  <a:lnTo>
                    <a:pt x="1860" y="1891"/>
                  </a:lnTo>
                  <a:lnTo>
                    <a:pt x="1854" y="1892"/>
                  </a:lnTo>
                  <a:lnTo>
                    <a:pt x="0" y="35"/>
                  </a:lnTo>
                  <a:lnTo>
                    <a:pt x="4" y="31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3" y="14"/>
                  </a:lnTo>
                  <a:lnTo>
                    <a:pt x="15" y="10"/>
                  </a:lnTo>
                  <a:lnTo>
                    <a:pt x="17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09680" y="3916440"/>
              <a:ext cx="793080" cy="788760"/>
            </a:xfrm>
            <a:custGeom>
              <a:avLst/>
              <a:gdLst/>
              <a:ahLst/>
              <a:rect l="l" t="t" r="r" b="b"/>
              <a:pathLst>
                <a:path w="1888" h="1875">
                  <a:moveTo>
                    <a:pt x="20" y="0"/>
                  </a:moveTo>
                  <a:lnTo>
                    <a:pt x="1888" y="1872"/>
                  </a:lnTo>
                  <a:lnTo>
                    <a:pt x="1881" y="1873"/>
                  </a:lnTo>
                  <a:lnTo>
                    <a:pt x="1875" y="1873"/>
                  </a:lnTo>
                  <a:lnTo>
                    <a:pt x="1869" y="1873"/>
                  </a:lnTo>
                  <a:lnTo>
                    <a:pt x="1863" y="1874"/>
                  </a:lnTo>
                  <a:lnTo>
                    <a:pt x="1856" y="1874"/>
                  </a:lnTo>
                  <a:lnTo>
                    <a:pt x="1850" y="1874"/>
                  </a:lnTo>
                  <a:lnTo>
                    <a:pt x="1843" y="1875"/>
                  </a:lnTo>
                  <a:lnTo>
                    <a:pt x="1836" y="1875"/>
                  </a:lnTo>
                  <a:lnTo>
                    <a:pt x="0" y="35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05360" y="3924720"/>
              <a:ext cx="786960" cy="780480"/>
            </a:xfrm>
            <a:custGeom>
              <a:avLst/>
              <a:gdLst/>
              <a:ahLst/>
              <a:rect l="l" t="t" r="r" b="b"/>
              <a:pathLst>
                <a:path w="1873" h="1859">
                  <a:moveTo>
                    <a:pt x="19" y="0"/>
                  </a:moveTo>
                  <a:lnTo>
                    <a:pt x="1873" y="1857"/>
                  </a:lnTo>
                  <a:lnTo>
                    <a:pt x="1866" y="1857"/>
                  </a:lnTo>
                  <a:lnTo>
                    <a:pt x="1860" y="1857"/>
                  </a:lnTo>
                  <a:lnTo>
                    <a:pt x="1853" y="1858"/>
                  </a:lnTo>
                  <a:lnTo>
                    <a:pt x="1846" y="1858"/>
                  </a:lnTo>
                  <a:lnTo>
                    <a:pt x="1840" y="1858"/>
                  </a:lnTo>
                  <a:lnTo>
                    <a:pt x="1834" y="1859"/>
                  </a:lnTo>
                  <a:lnTo>
                    <a:pt x="1827" y="1859"/>
                  </a:lnTo>
                  <a:lnTo>
                    <a:pt x="1821" y="1859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01040" y="3930840"/>
              <a:ext cx="780840" cy="776880"/>
            </a:xfrm>
            <a:custGeom>
              <a:avLst/>
              <a:gdLst/>
              <a:ahLst/>
              <a:rect l="l" t="t" r="r" b="b"/>
              <a:pathLst>
                <a:path w="1855" h="1842">
                  <a:moveTo>
                    <a:pt x="19" y="0"/>
                  </a:moveTo>
                  <a:lnTo>
                    <a:pt x="1855" y="1840"/>
                  </a:lnTo>
                  <a:lnTo>
                    <a:pt x="1849" y="1840"/>
                  </a:lnTo>
                  <a:lnTo>
                    <a:pt x="1843" y="1841"/>
                  </a:lnTo>
                  <a:lnTo>
                    <a:pt x="1836" y="1841"/>
                  </a:lnTo>
                  <a:lnTo>
                    <a:pt x="1830" y="1841"/>
                  </a:lnTo>
                  <a:lnTo>
                    <a:pt x="1824" y="1842"/>
                  </a:lnTo>
                  <a:lnTo>
                    <a:pt x="1818" y="1842"/>
                  </a:lnTo>
                  <a:lnTo>
                    <a:pt x="1811" y="1842"/>
                  </a:lnTo>
                  <a:lnTo>
                    <a:pt x="1805" y="1842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96720" y="3937320"/>
              <a:ext cx="774720" cy="770040"/>
            </a:xfrm>
            <a:custGeom>
              <a:avLst/>
              <a:gdLst/>
              <a:ahLst/>
              <a:rect l="l" t="t" r="r" b="b"/>
              <a:pathLst>
                <a:path w="1839" h="1828">
                  <a:moveTo>
                    <a:pt x="18" y="0"/>
                  </a:moveTo>
                  <a:lnTo>
                    <a:pt x="1839" y="1825"/>
                  </a:lnTo>
                  <a:lnTo>
                    <a:pt x="1833" y="1826"/>
                  </a:lnTo>
                  <a:lnTo>
                    <a:pt x="1827" y="1826"/>
                  </a:lnTo>
                  <a:lnTo>
                    <a:pt x="1820" y="1826"/>
                  </a:lnTo>
                  <a:lnTo>
                    <a:pt x="1814" y="1826"/>
                  </a:lnTo>
                  <a:lnTo>
                    <a:pt x="1808" y="1827"/>
                  </a:lnTo>
                  <a:lnTo>
                    <a:pt x="1801" y="1827"/>
                  </a:lnTo>
                  <a:lnTo>
                    <a:pt x="1795" y="1827"/>
                  </a:lnTo>
                  <a:lnTo>
                    <a:pt x="1789" y="1828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4" y="9"/>
                  </a:lnTo>
                  <a:lnTo>
                    <a:pt x="16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400" y="3945600"/>
              <a:ext cx="768240" cy="761760"/>
            </a:xfrm>
            <a:custGeom>
              <a:avLst/>
              <a:gdLst/>
              <a:ahLst/>
              <a:rect l="l" t="t" r="r" b="b"/>
              <a:pathLst>
                <a:path w="1824" h="1812">
                  <a:moveTo>
                    <a:pt x="19" y="0"/>
                  </a:moveTo>
                  <a:lnTo>
                    <a:pt x="1824" y="1808"/>
                  </a:lnTo>
                  <a:lnTo>
                    <a:pt x="1818" y="1809"/>
                  </a:lnTo>
                  <a:lnTo>
                    <a:pt x="1811" y="1809"/>
                  </a:lnTo>
                  <a:lnTo>
                    <a:pt x="1804" y="1809"/>
                  </a:lnTo>
                  <a:lnTo>
                    <a:pt x="1798" y="1810"/>
                  </a:lnTo>
                  <a:lnTo>
                    <a:pt x="1792" y="1810"/>
                  </a:lnTo>
                  <a:lnTo>
                    <a:pt x="1785" y="1810"/>
                  </a:lnTo>
                  <a:lnTo>
                    <a:pt x="1779" y="1812"/>
                  </a:lnTo>
                  <a:lnTo>
                    <a:pt x="1773" y="1812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5" y="27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88800" y="3952080"/>
              <a:ext cx="761760" cy="757080"/>
            </a:xfrm>
            <a:custGeom>
              <a:avLst/>
              <a:gdLst/>
              <a:ahLst/>
              <a:rect l="l" t="t" r="r" b="b"/>
              <a:pathLst>
                <a:path w="1808" h="1796">
                  <a:moveTo>
                    <a:pt x="19" y="0"/>
                  </a:moveTo>
                  <a:lnTo>
                    <a:pt x="1808" y="1793"/>
                  </a:lnTo>
                  <a:lnTo>
                    <a:pt x="1801" y="1793"/>
                  </a:lnTo>
                  <a:lnTo>
                    <a:pt x="1794" y="1793"/>
                  </a:lnTo>
                  <a:lnTo>
                    <a:pt x="1788" y="1795"/>
                  </a:lnTo>
                  <a:lnTo>
                    <a:pt x="1782" y="1795"/>
                  </a:lnTo>
                  <a:lnTo>
                    <a:pt x="1775" y="1795"/>
                  </a:lnTo>
                  <a:lnTo>
                    <a:pt x="1769" y="1796"/>
                  </a:lnTo>
                  <a:lnTo>
                    <a:pt x="1763" y="1796"/>
                  </a:lnTo>
                  <a:lnTo>
                    <a:pt x="1756" y="1796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84480" y="3960360"/>
              <a:ext cx="755640" cy="749160"/>
            </a:xfrm>
            <a:custGeom>
              <a:avLst/>
              <a:gdLst/>
              <a:ahLst/>
              <a:rect l="l" t="t" r="r" b="b"/>
              <a:pathLst>
                <a:path w="1792" h="1780">
                  <a:moveTo>
                    <a:pt x="19" y="0"/>
                  </a:moveTo>
                  <a:lnTo>
                    <a:pt x="1792" y="1777"/>
                  </a:lnTo>
                  <a:lnTo>
                    <a:pt x="1785" y="1777"/>
                  </a:lnTo>
                  <a:lnTo>
                    <a:pt x="1779" y="1778"/>
                  </a:lnTo>
                  <a:lnTo>
                    <a:pt x="1773" y="1778"/>
                  </a:lnTo>
                  <a:lnTo>
                    <a:pt x="1766" y="1778"/>
                  </a:lnTo>
                  <a:lnTo>
                    <a:pt x="1760" y="1779"/>
                  </a:lnTo>
                  <a:lnTo>
                    <a:pt x="1754" y="1779"/>
                  </a:lnTo>
                  <a:lnTo>
                    <a:pt x="1748" y="1779"/>
                  </a:lnTo>
                  <a:lnTo>
                    <a:pt x="1741" y="1780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4" y="8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80160" y="3966480"/>
              <a:ext cx="747000" cy="742680"/>
            </a:xfrm>
            <a:custGeom>
              <a:avLst/>
              <a:gdLst/>
              <a:ahLst/>
              <a:rect l="l" t="t" r="r" b="b"/>
              <a:pathLst>
                <a:path w="1775" h="1764">
                  <a:moveTo>
                    <a:pt x="19" y="0"/>
                  </a:moveTo>
                  <a:lnTo>
                    <a:pt x="1775" y="1761"/>
                  </a:lnTo>
                  <a:lnTo>
                    <a:pt x="1769" y="1762"/>
                  </a:lnTo>
                  <a:lnTo>
                    <a:pt x="1763" y="1762"/>
                  </a:lnTo>
                  <a:lnTo>
                    <a:pt x="1757" y="1762"/>
                  </a:lnTo>
                  <a:lnTo>
                    <a:pt x="1750" y="1763"/>
                  </a:lnTo>
                  <a:lnTo>
                    <a:pt x="1743" y="1763"/>
                  </a:lnTo>
                  <a:lnTo>
                    <a:pt x="1737" y="1763"/>
                  </a:lnTo>
                  <a:lnTo>
                    <a:pt x="1730" y="1764"/>
                  </a:lnTo>
                  <a:lnTo>
                    <a:pt x="1724" y="1764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75840" y="3975120"/>
              <a:ext cx="740880" cy="734400"/>
            </a:xfrm>
            <a:custGeom>
              <a:avLst/>
              <a:gdLst/>
              <a:ahLst/>
              <a:rect l="l" t="t" r="r" b="b"/>
              <a:pathLst>
                <a:path w="1760" h="1747">
                  <a:moveTo>
                    <a:pt x="19" y="0"/>
                  </a:moveTo>
                  <a:lnTo>
                    <a:pt x="1760" y="1745"/>
                  </a:lnTo>
                  <a:lnTo>
                    <a:pt x="1754" y="1745"/>
                  </a:lnTo>
                  <a:lnTo>
                    <a:pt x="1747" y="1745"/>
                  </a:lnTo>
                  <a:lnTo>
                    <a:pt x="1740" y="1746"/>
                  </a:lnTo>
                  <a:lnTo>
                    <a:pt x="1734" y="1746"/>
                  </a:lnTo>
                  <a:lnTo>
                    <a:pt x="1728" y="1746"/>
                  </a:lnTo>
                  <a:lnTo>
                    <a:pt x="1722" y="1747"/>
                  </a:lnTo>
                  <a:lnTo>
                    <a:pt x="1715" y="1747"/>
                  </a:lnTo>
                  <a:lnTo>
                    <a:pt x="1709" y="1747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4040" y="3981240"/>
              <a:ext cx="732240" cy="730080"/>
            </a:xfrm>
            <a:custGeom>
              <a:avLst/>
              <a:gdLst/>
              <a:ahLst/>
              <a:rect l="l" t="t" r="r" b="b"/>
              <a:pathLst>
                <a:path w="1743" h="1732">
                  <a:moveTo>
                    <a:pt x="19" y="0"/>
                  </a:moveTo>
                  <a:lnTo>
                    <a:pt x="1743" y="1729"/>
                  </a:lnTo>
                  <a:lnTo>
                    <a:pt x="1737" y="1729"/>
                  </a:lnTo>
                  <a:lnTo>
                    <a:pt x="1731" y="1730"/>
                  </a:lnTo>
                  <a:lnTo>
                    <a:pt x="1724" y="1730"/>
                  </a:lnTo>
                  <a:lnTo>
                    <a:pt x="1718" y="1730"/>
                  </a:lnTo>
                  <a:lnTo>
                    <a:pt x="1712" y="1731"/>
                  </a:lnTo>
                  <a:lnTo>
                    <a:pt x="1705" y="1731"/>
                  </a:lnTo>
                  <a:lnTo>
                    <a:pt x="1699" y="1731"/>
                  </a:lnTo>
                  <a:lnTo>
                    <a:pt x="1693" y="1732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7" y="23"/>
                  </a:lnTo>
                  <a:lnTo>
                    <a:pt x="9" y="17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7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69720" y="3989880"/>
              <a:ext cx="725760" cy="721440"/>
            </a:xfrm>
            <a:custGeom>
              <a:avLst/>
              <a:gdLst/>
              <a:ahLst/>
              <a:rect l="l" t="t" r="r" b="b"/>
              <a:pathLst>
                <a:path w="1726" h="1716">
                  <a:moveTo>
                    <a:pt x="17" y="0"/>
                  </a:moveTo>
                  <a:lnTo>
                    <a:pt x="1726" y="1713"/>
                  </a:lnTo>
                  <a:lnTo>
                    <a:pt x="1720" y="1714"/>
                  </a:lnTo>
                  <a:lnTo>
                    <a:pt x="1713" y="1714"/>
                  </a:lnTo>
                  <a:lnTo>
                    <a:pt x="1707" y="1714"/>
                  </a:lnTo>
                  <a:lnTo>
                    <a:pt x="1701" y="1715"/>
                  </a:lnTo>
                  <a:lnTo>
                    <a:pt x="1695" y="1715"/>
                  </a:lnTo>
                  <a:lnTo>
                    <a:pt x="1688" y="1716"/>
                  </a:lnTo>
                  <a:lnTo>
                    <a:pt x="1682" y="1716"/>
                  </a:lnTo>
                  <a:lnTo>
                    <a:pt x="1676" y="171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65400" y="3996000"/>
              <a:ext cx="719640" cy="715320"/>
            </a:xfrm>
            <a:custGeom>
              <a:avLst/>
              <a:gdLst/>
              <a:ahLst/>
              <a:rect l="l" t="t" r="r" b="b"/>
              <a:pathLst>
                <a:path w="1711" h="1700">
                  <a:moveTo>
                    <a:pt x="18" y="0"/>
                  </a:moveTo>
                  <a:lnTo>
                    <a:pt x="1711" y="1697"/>
                  </a:lnTo>
                  <a:lnTo>
                    <a:pt x="1705" y="1697"/>
                  </a:lnTo>
                  <a:lnTo>
                    <a:pt x="1698" y="1697"/>
                  </a:lnTo>
                  <a:lnTo>
                    <a:pt x="1692" y="1698"/>
                  </a:lnTo>
                  <a:lnTo>
                    <a:pt x="1686" y="1698"/>
                  </a:lnTo>
                  <a:lnTo>
                    <a:pt x="1679" y="1699"/>
                  </a:lnTo>
                  <a:lnTo>
                    <a:pt x="1673" y="1699"/>
                  </a:lnTo>
                  <a:lnTo>
                    <a:pt x="1667" y="1699"/>
                  </a:lnTo>
                  <a:lnTo>
                    <a:pt x="1660" y="1700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4" y="9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61080" y="4004640"/>
              <a:ext cx="713520" cy="708840"/>
            </a:xfrm>
            <a:custGeom>
              <a:avLst/>
              <a:gdLst/>
              <a:ahLst/>
              <a:rect l="l" t="t" r="r" b="b"/>
              <a:pathLst>
                <a:path w="1695" h="1683">
                  <a:moveTo>
                    <a:pt x="19" y="0"/>
                  </a:moveTo>
                  <a:lnTo>
                    <a:pt x="1695" y="1680"/>
                  </a:lnTo>
                  <a:lnTo>
                    <a:pt x="1688" y="1681"/>
                  </a:lnTo>
                  <a:lnTo>
                    <a:pt x="1682" y="1681"/>
                  </a:lnTo>
                  <a:lnTo>
                    <a:pt x="1676" y="1681"/>
                  </a:lnTo>
                  <a:lnTo>
                    <a:pt x="1668" y="1682"/>
                  </a:lnTo>
                  <a:lnTo>
                    <a:pt x="1662" y="1682"/>
                  </a:lnTo>
                  <a:lnTo>
                    <a:pt x="1656" y="1682"/>
                  </a:lnTo>
                  <a:lnTo>
                    <a:pt x="1650" y="1683"/>
                  </a:lnTo>
                  <a:lnTo>
                    <a:pt x="1643" y="1683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9" y="18"/>
                  </a:lnTo>
                  <a:lnTo>
                    <a:pt x="11" y="13"/>
                  </a:lnTo>
                  <a:lnTo>
                    <a:pt x="13" y="8"/>
                  </a:lnTo>
                  <a:lnTo>
                    <a:pt x="16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56760" y="4012920"/>
              <a:ext cx="707400" cy="700920"/>
            </a:xfrm>
            <a:custGeom>
              <a:avLst/>
              <a:gdLst/>
              <a:ahLst/>
              <a:rect l="l" t="t" r="r" b="b"/>
              <a:pathLst>
                <a:path w="1679" h="1666">
                  <a:moveTo>
                    <a:pt x="19" y="0"/>
                  </a:moveTo>
                  <a:lnTo>
                    <a:pt x="1679" y="1664"/>
                  </a:lnTo>
                  <a:lnTo>
                    <a:pt x="1672" y="1664"/>
                  </a:lnTo>
                  <a:lnTo>
                    <a:pt x="1666" y="1664"/>
                  </a:lnTo>
                  <a:lnTo>
                    <a:pt x="1660" y="1665"/>
                  </a:lnTo>
                  <a:lnTo>
                    <a:pt x="1653" y="1665"/>
                  </a:lnTo>
                  <a:lnTo>
                    <a:pt x="1647" y="1665"/>
                  </a:lnTo>
                  <a:lnTo>
                    <a:pt x="1641" y="1666"/>
                  </a:lnTo>
                  <a:lnTo>
                    <a:pt x="1634" y="1666"/>
                  </a:lnTo>
                  <a:lnTo>
                    <a:pt x="1628" y="1666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52800" y="4019400"/>
              <a:ext cx="700560" cy="694080"/>
            </a:xfrm>
            <a:custGeom>
              <a:avLst/>
              <a:gdLst/>
              <a:ahLst/>
              <a:rect l="l" t="t" r="r" b="b"/>
              <a:pathLst>
                <a:path w="1662" h="1651">
                  <a:moveTo>
                    <a:pt x="19" y="0"/>
                  </a:moveTo>
                  <a:lnTo>
                    <a:pt x="1662" y="1648"/>
                  </a:lnTo>
                  <a:lnTo>
                    <a:pt x="1656" y="1648"/>
                  </a:lnTo>
                  <a:lnTo>
                    <a:pt x="1650" y="1649"/>
                  </a:lnTo>
                  <a:lnTo>
                    <a:pt x="1643" y="1649"/>
                  </a:lnTo>
                  <a:lnTo>
                    <a:pt x="1637" y="1650"/>
                  </a:lnTo>
                  <a:lnTo>
                    <a:pt x="1631" y="1650"/>
                  </a:lnTo>
                  <a:lnTo>
                    <a:pt x="1625" y="1650"/>
                  </a:lnTo>
                  <a:lnTo>
                    <a:pt x="1618" y="1651"/>
                  </a:lnTo>
                  <a:lnTo>
                    <a:pt x="1612" y="1651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3"/>
                  </a:lnTo>
                  <a:lnTo>
                    <a:pt x="14" y="9"/>
                  </a:lnTo>
                  <a:lnTo>
                    <a:pt x="17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50640" y="4027680"/>
              <a:ext cx="692640" cy="687960"/>
            </a:xfrm>
            <a:custGeom>
              <a:avLst/>
              <a:gdLst/>
              <a:ahLst/>
              <a:rect l="l" t="t" r="r" b="b"/>
              <a:pathLst>
                <a:path w="1645" h="1635">
                  <a:moveTo>
                    <a:pt x="17" y="0"/>
                  </a:moveTo>
                  <a:lnTo>
                    <a:pt x="1645" y="1631"/>
                  </a:lnTo>
                  <a:lnTo>
                    <a:pt x="1639" y="1632"/>
                  </a:lnTo>
                  <a:lnTo>
                    <a:pt x="1633" y="1632"/>
                  </a:lnTo>
                  <a:lnTo>
                    <a:pt x="1626" y="1633"/>
                  </a:lnTo>
                  <a:lnTo>
                    <a:pt x="1620" y="1633"/>
                  </a:lnTo>
                  <a:lnTo>
                    <a:pt x="1614" y="1633"/>
                  </a:lnTo>
                  <a:lnTo>
                    <a:pt x="1607" y="1634"/>
                  </a:lnTo>
                  <a:lnTo>
                    <a:pt x="1601" y="1634"/>
                  </a:lnTo>
                  <a:lnTo>
                    <a:pt x="1595" y="1635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46320" y="4033800"/>
              <a:ext cx="686160" cy="681840"/>
            </a:xfrm>
            <a:custGeom>
              <a:avLst/>
              <a:gdLst/>
              <a:ahLst/>
              <a:rect l="l" t="t" r="r" b="b"/>
              <a:pathLst>
                <a:path w="1630" h="1619">
                  <a:moveTo>
                    <a:pt x="18" y="0"/>
                  </a:moveTo>
                  <a:lnTo>
                    <a:pt x="1630" y="1616"/>
                  </a:lnTo>
                  <a:lnTo>
                    <a:pt x="1624" y="1616"/>
                  </a:lnTo>
                  <a:lnTo>
                    <a:pt x="1617" y="1617"/>
                  </a:lnTo>
                  <a:lnTo>
                    <a:pt x="1611" y="1617"/>
                  </a:lnTo>
                  <a:lnTo>
                    <a:pt x="1605" y="1618"/>
                  </a:lnTo>
                  <a:lnTo>
                    <a:pt x="1599" y="1618"/>
                  </a:lnTo>
                  <a:lnTo>
                    <a:pt x="1592" y="1618"/>
                  </a:lnTo>
                  <a:lnTo>
                    <a:pt x="1586" y="1619"/>
                  </a:lnTo>
                  <a:lnTo>
                    <a:pt x="1580" y="1619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7" y="22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6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42360" y="4042440"/>
              <a:ext cx="679680" cy="673200"/>
            </a:xfrm>
            <a:custGeom>
              <a:avLst/>
              <a:gdLst/>
              <a:ahLst/>
              <a:rect l="l" t="t" r="r" b="b"/>
              <a:pathLst>
                <a:path w="1614" h="1603">
                  <a:moveTo>
                    <a:pt x="19" y="0"/>
                  </a:moveTo>
                  <a:lnTo>
                    <a:pt x="1614" y="1600"/>
                  </a:lnTo>
                  <a:lnTo>
                    <a:pt x="1608" y="1600"/>
                  </a:lnTo>
                  <a:lnTo>
                    <a:pt x="1601" y="1600"/>
                  </a:lnTo>
                  <a:lnTo>
                    <a:pt x="1595" y="1601"/>
                  </a:lnTo>
                  <a:lnTo>
                    <a:pt x="1589" y="1601"/>
                  </a:lnTo>
                  <a:lnTo>
                    <a:pt x="1582" y="1602"/>
                  </a:lnTo>
                  <a:lnTo>
                    <a:pt x="1576" y="1602"/>
                  </a:lnTo>
                  <a:lnTo>
                    <a:pt x="1570" y="1602"/>
                  </a:lnTo>
                  <a:lnTo>
                    <a:pt x="1564" y="1603"/>
                  </a:lnTo>
                  <a:lnTo>
                    <a:pt x="0" y="36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9"/>
                  </a:lnTo>
                  <a:lnTo>
                    <a:pt x="16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38040" y="4048560"/>
              <a:ext cx="673560" cy="669240"/>
            </a:xfrm>
            <a:custGeom>
              <a:avLst/>
              <a:gdLst/>
              <a:ahLst/>
              <a:rect l="l" t="t" r="r" b="b"/>
              <a:pathLst>
                <a:path w="1598" h="1587">
                  <a:moveTo>
                    <a:pt x="18" y="0"/>
                  </a:moveTo>
                  <a:lnTo>
                    <a:pt x="1598" y="1583"/>
                  </a:lnTo>
                  <a:lnTo>
                    <a:pt x="1591" y="1584"/>
                  </a:lnTo>
                  <a:lnTo>
                    <a:pt x="1585" y="1584"/>
                  </a:lnTo>
                  <a:lnTo>
                    <a:pt x="1579" y="1584"/>
                  </a:lnTo>
                  <a:lnTo>
                    <a:pt x="1573" y="1585"/>
                  </a:lnTo>
                  <a:lnTo>
                    <a:pt x="1566" y="1585"/>
                  </a:lnTo>
                  <a:lnTo>
                    <a:pt x="1560" y="1587"/>
                  </a:lnTo>
                  <a:lnTo>
                    <a:pt x="1554" y="1587"/>
                  </a:lnTo>
                  <a:lnTo>
                    <a:pt x="1547" y="1587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4" y="9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33720" y="4057200"/>
              <a:ext cx="667080" cy="660600"/>
            </a:xfrm>
            <a:custGeom>
              <a:avLst/>
              <a:gdLst/>
              <a:ahLst/>
              <a:rect l="l" t="t" r="r" b="b"/>
              <a:pathLst>
                <a:path w="1582" h="1571">
                  <a:moveTo>
                    <a:pt x="18" y="0"/>
                  </a:moveTo>
                  <a:lnTo>
                    <a:pt x="1582" y="1567"/>
                  </a:lnTo>
                  <a:lnTo>
                    <a:pt x="1575" y="1567"/>
                  </a:lnTo>
                  <a:lnTo>
                    <a:pt x="1569" y="1569"/>
                  </a:lnTo>
                  <a:lnTo>
                    <a:pt x="1563" y="1569"/>
                  </a:lnTo>
                  <a:lnTo>
                    <a:pt x="1556" y="1569"/>
                  </a:lnTo>
                  <a:lnTo>
                    <a:pt x="1550" y="1570"/>
                  </a:lnTo>
                  <a:lnTo>
                    <a:pt x="1544" y="1570"/>
                  </a:lnTo>
                  <a:lnTo>
                    <a:pt x="1537" y="1571"/>
                  </a:lnTo>
                  <a:lnTo>
                    <a:pt x="1532" y="1571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8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31920" y="4063320"/>
              <a:ext cx="658440" cy="654480"/>
            </a:xfrm>
            <a:custGeom>
              <a:avLst/>
              <a:gdLst/>
              <a:ahLst/>
              <a:rect l="l" t="t" r="r" b="b"/>
              <a:pathLst>
                <a:path w="1565" h="1555">
                  <a:moveTo>
                    <a:pt x="18" y="0"/>
                  </a:moveTo>
                  <a:lnTo>
                    <a:pt x="1565" y="1551"/>
                  </a:lnTo>
                  <a:lnTo>
                    <a:pt x="1559" y="1552"/>
                  </a:lnTo>
                  <a:lnTo>
                    <a:pt x="1553" y="1552"/>
                  </a:lnTo>
                  <a:lnTo>
                    <a:pt x="1546" y="1553"/>
                  </a:lnTo>
                  <a:lnTo>
                    <a:pt x="1540" y="1553"/>
                  </a:lnTo>
                  <a:lnTo>
                    <a:pt x="1534" y="1554"/>
                  </a:lnTo>
                  <a:lnTo>
                    <a:pt x="1529" y="1554"/>
                  </a:lnTo>
                  <a:lnTo>
                    <a:pt x="1522" y="1554"/>
                  </a:lnTo>
                  <a:lnTo>
                    <a:pt x="1516" y="1555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27600" y="4071960"/>
              <a:ext cx="652320" cy="648000"/>
            </a:xfrm>
            <a:custGeom>
              <a:avLst/>
              <a:gdLst/>
              <a:ahLst/>
              <a:rect l="l" t="t" r="r" b="b"/>
              <a:pathLst>
                <a:path w="1550" h="1539">
                  <a:moveTo>
                    <a:pt x="18" y="0"/>
                  </a:moveTo>
                  <a:lnTo>
                    <a:pt x="1550" y="1535"/>
                  </a:lnTo>
                  <a:lnTo>
                    <a:pt x="1543" y="1536"/>
                  </a:lnTo>
                  <a:lnTo>
                    <a:pt x="1537" y="1536"/>
                  </a:lnTo>
                  <a:lnTo>
                    <a:pt x="1531" y="1537"/>
                  </a:lnTo>
                  <a:lnTo>
                    <a:pt x="1525" y="1537"/>
                  </a:lnTo>
                  <a:lnTo>
                    <a:pt x="1519" y="1537"/>
                  </a:lnTo>
                  <a:lnTo>
                    <a:pt x="1513" y="1538"/>
                  </a:lnTo>
                  <a:lnTo>
                    <a:pt x="1506" y="1538"/>
                  </a:lnTo>
                  <a:lnTo>
                    <a:pt x="1500" y="1539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3"/>
                  </a:lnTo>
                  <a:lnTo>
                    <a:pt x="14" y="9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23280" y="4080600"/>
              <a:ext cx="646200" cy="639360"/>
            </a:xfrm>
            <a:custGeom>
              <a:avLst/>
              <a:gdLst/>
              <a:ahLst/>
              <a:rect l="l" t="t" r="r" b="b"/>
              <a:pathLst>
                <a:path w="1533" h="1522">
                  <a:moveTo>
                    <a:pt x="17" y="0"/>
                  </a:moveTo>
                  <a:lnTo>
                    <a:pt x="1533" y="1519"/>
                  </a:lnTo>
                  <a:lnTo>
                    <a:pt x="1527" y="1519"/>
                  </a:lnTo>
                  <a:lnTo>
                    <a:pt x="1521" y="1520"/>
                  </a:lnTo>
                  <a:lnTo>
                    <a:pt x="1514" y="1520"/>
                  </a:lnTo>
                  <a:lnTo>
                    <a:pt x="1508" y="1521"/>
                  </a:lnTo>
                  <a:lnTo>
                    <a:pt x="1502" y="1521"/>
                  </a:lnTo>
                  <a:lnTo>
                    <a:pt x="1495" y="1522"/>
                  </a:lnTo>
                  <a:lnTo>
                    <a:pt x="1489" y="1522"/>
                  </a:lnTo>
                  <a:lnTo>
                    <a:pt x="1483" y="1522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18960" y="4086720"/>
              <a:ext cx="640080" cy="633240"/>
            </a:xfrm>
            <a:custGeom>
              <a:avLst/>
              <a:gdLst/>
              <a:ahLst/>
              <a:rect l="l" t="t" r="r" b="b"/>
              <a:pathLst>
                <a:path w="1517" h="1507">
                  <a:moveTo>
                    <a:pt x="17" y="0"/>
                  </a:moveTo>
                  <a:lnTo>
                    <a:pt x="1517" y="1504"/>
                  </a:lnTo>
                  <a:lnTo>
                    <a:pt x="1511" y="1504"/>
                  </a:lnTo>
                  <a:lnTo>
                    <a:pt x="1504" y="1505"/>
                  </a:lnTo>
                  <a:lnTo>
                    <a:pt x="1498" y="1505"/>
                  </a:lnTo>
                  <a:lnTo>
                    <a:pt x="1492" y="1506"/>
                  </a:lnTo>
                  <a:lnTo>
                    <a:pt x="1485" y="1506"/>
                  </a:lnTo>
                  <a:lnTo>
                    <a:pt x="1479" y="1507"/>
                  </a:lnTo>
                  <a:lnTo>
                    <a:pt x="1473" y="1507"/>
                  </a:lnTo>
                  <a:lnTo>
                    <a:pt x="1467" y="1507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7" y="24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17160" y="4095000"/>
              <a:ext cx="631440" cy="626760"/>
            </a:xfrm>
            <a:custGeom>
              <a:avLst/>
              <a:gdLst/>
              <a:ahLst/>
              <a:rect l="l" t="t" r="r" b="b"/>
              <a:pathLst>
                <a:path w="1501" h="1491">
                  <a:moveTo>
                    <a:pt x="18" y="0"/>
                  </a:moveTo>
                  <a:lnTo>
                    <a:pt x="1501" y="1487"/>
                  </a:lnTo>
                  <a:lnTo>
                    <a:pt x="1494" y="1488"/>
                  </a:lnTo>
                  <a:lnTo>
                    <a:pt x="1488" y="1489"/>
                  </a:lnTo>
                  <a:lnTo>
                    <a:pt x="1482" y="1489"/>
                  </a:lnTo>
                  <a:lnTo>
                    <a:pt x="1476" y="1489"/>
                  </a:lnTo>
                  <a:lnTo>
                    <a:pt x="1469" y="1490"/>
                  </a:lnTo>
                  <a:lnTo>
                    <a:pt x="1464" y="1490"/>
                  </a:lnTo>
                  <a:lnTo>
                    <a:pt x="1458" y="1491"/>
                  </a:lnTo>
                  <a:lnTo>
                    <a:pt x="1452" y="1491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6" y="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12840" y="4101480"/>
              <a:ext cx="625320" cy="620280"/>
            </a:xfrm>
            <a:custGeom>
              <a:avLst/>
              <a:gdLst/>
              <a:ahLst/>
              <a:rect l="l" t="t" r="r" b="b"/>
              <a:pathLst>
                <a:path w="1485" h="1475">
                  <a:moveTo>
                    <a:pt x="18" y="0"/>
                  </a:moveTo>
                  <a:lnTo>
                    <a:pt x="1485" y="1471"/>
                  </a:lnTo>
                  <a:lnTo>
                    <a:pt x="1478" y="1472"/>
                  </a:lnTo>
                  <a:lnTo>
                    <a:pt x="1473" y="1472"/>
                  </a:lnTo>
                  <a:lnTo>
                    <a:pt x="1467" y="1473"/>
                  </a:lnTo>
                  <a:lnTo>
                    <a:pt x="1461" y="1473"/>
                  </a:lnTo>
                  <a:lnTo>
                    <a:pt x="1454" y="1474"/>
                  </a:lnTo>
                  <a:lnTo>
                    <a:pt x="1448" y="1474"/>
                  </a:lnTo>
                  <a:lnTo>
                    <a:pt x="1442" y="1475"/>
                  </a:lnTo>
                  <a:lnTo>
                    <a:pt x="1435" y="1475"/>
                  </a:lnTo>
                  <a:lnTo>
                    <a:pt x="0" y="37"/>
                  </a:lnTo>
                  <a:lnTo>
                    <a:pt x="3" y="33"/>
                  </a:lnTo>
                  <a:lnTo>
                    <a:pt x="5" y="27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08520" y="4109760"/>
              <a:ext cx="618840" cy="614520"/>
            </a:xfrm>
            <a:custGeom>
              <a:avLst/>
              <a:gdLst/>
              <a:ahLst/>
              <a:rect l="l" t="t" r="r" b="b"/>
              <a:pathLst>
                <a:path w="1469" h="1458">
                  <a:moveTo>
                    <a:pt x="17" y="0"/>
                  </a:moveTo>
                  <a:lnTo>
                    <a:pt x="1469" y="1454"/>
                  </a:lnTo>
                  <a:lnTo>
                    <a:pt x="1462" y="1455"/>
                  </a:lnTo>
                  <a:lnTo>
                    <a:pt x="1456" y="1455"/>
                  </a:lnTo>
                  <a:lnTo>
                    <a:pt x="1450" y="1456"/>
                  </a:lnTo>
                  <a:lnTo>
                    <a:pt x="1443" y="1456"/>
                  </a:lnTo>
                  <a:lnTo>
                    <a:pt x="1437" y="1457"/>
                  </a:lnTo>
                  <a:lnTo>
                    <a:pt x="1431" y="1457"/>
                  </a:lnTo>
                  <a:lnTo>
                    <a:pt x="1426" y="1458"/>
                  </a:lnTo>
                  <a:lnTo>
                    <a:pt x="1419" y="1458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04200" y="4118400"/>
              <a:ext cx="612360" cy="605880"/>
            </a:xfrm>
            <a:custGeom>
              <a:avLst/>
              <a:gdLst/>
              <a:ahLst/>
              <a:rect l="l" t="t" r="r" b="b"/>
              <a:pathLst>
                <a:path w="1452" h="1443">
                  <a:moveTo>
                    <a:pt x="17" y="0"/>
                  </a:moveTo>
                  <a:lnTo>
                    <a:pt x="1452" y="1438"/>
                  </a:lnTo>
                  <a:lnTo>
                    <a:pt x="1446" y="1439"/>
                  </a:lnTo>
                  <a:lnTo>
                    <a:pt x="1440" y="1439"/>
                  </a:lnTo>
                  <a:lnTo>
                    <a:pt x="1433" y="1440"/>
                  </a:lnTo>
                  <a:lnTo>
                    <a:pt x="1428" y="1441"/>
                  </a:lnTo>
                  <a:lnTo>
                    <a:pt x="1422" y="1441"/>
                  </a:lnTo>
                  <a:lnTo>
                    <a:pt x="1416" y="1442"/>
                  </a:lnTo>
                  <a:lnTo>
                    <a:pt x="1409" y="1442"/>
                  </a:lnTo>
                  <a:lnTo>
                    <a:pt x="1403" y="1443"/>
                  </a:lnTo>
                  <a:lnTo>
                    <a:pt x="0" y="37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2400" y="4124520"/>
              <a:ext cx="603720" cy="601560"/>
            </a:xfrm>
            <a:custGeom>
              <a:avLst/>
              <a:gdLst/>
              <a:ahLst/>
              <a:rect l="l" t="t" r="r" b="b"/>
              <a:pathLst>
                <a:path w="1437" h="1428">
                  <a:moveTo>
                    <a:pt x="18" y="0"/>
                  </a:moveTo>
                  <a:lnTo>
                    <a:pt x="1437" y="1422"/>
                  </a:lnTo>
                  <a:lnTo>
                    <a:pt x="1431" y="1423"/>
                  </a:lnTo>
                  <a:lnTo>
                    <a:pt x="1425" y="1424"/>
                  </a:lnTo>
                  <a:lnTo>
                    <a:pt x="1418" y="1424"/>
                  </a:lnTo>
                  <a:lnTo>
                    <a:pt x="1412" y="1425"/>
                  </a:lnTo>
                  <a:lnTo>
                    <a:pt x="1406" y="1425"/>
                  </a:lnTo>
                  <a:lnTo>
                    <a:pt x="1401" y="1427"/>
                  </a:lnTo>
                  <a:lnTo>
                    <a:pt x="1394" y="1427"/>
                  </a:lnTo>
                  <a:lnTo>
                    <a:pt x="1388" y="1428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98080" y="4133160"/>
              <a:ext cx="597600" cy="592920"/>
            </a:xfrm>
            <a:custGeom>
              <a:avLst/>
              <a:gdLst/>
              <a:ahLst/>
              <a:rect l="l" t="t" r="r" b="b"/>
              <a:pathLst>
                <a:path w="1420" h="1411">
                  <a:moveTo>
                    <a:pt x="17" y="0"/>
                  </a:moveTo>
                  <a:lnTo>
                    <a:pt x="1420" y="1406"/>
                  </a:lnTo>
                  <a:lnTo>
                    <a:pt x="1414" y="1406"/>
                  </a:lnTo>
                  <a:lnTo>
                    <a:pt x="1409" y="1408"/>
                  </a:lnTo>
                  <a:lnTo>
                    <a:pt x="1402" y="1408"/>
                  </a:lnTo>
                  <a:lnTo>
                    <a:pt x="1396" y="1409"/>
                  </a:lnTo>
                  <a:lnTo>
                    <a:pt x="1390" y="1409"/>
                  </a:lnTo>
                  <a:lnTo>
                    <a:pt x="1383" y="1410"/>
                  </a:lnTo>
                  <a:lnTo>
                    <a:pt x="1377" y="1411"/>
                  </a:lnTo>
                  <a:lnTo>
                    <a:pt x="1372" y="1411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93760" y="4141080"/>
              <a:ext cx="591120" cy="587160"/>
            </a:xfrm>
            <a:custGeom>
              <a:avLst/>
              <a:gdLst/>
              <a:ahLst/>
              <a:rect l="l" t="t" r="r" b="b"/>
              <a:pathLst>
                <a:path w="1405" h="1395">
                  <a:moveTo>
                    <a:pt x="17" y="0"/>
                  </a:moveTo>
                  <a:lnTo>
                    <a:pt x="1405" y="1391"/>
                  </a:lnTo>
                  <a:lnTo>
                    <a:pt x="1399" y="1391"/>
                  </a:lnTo>
                  <a:lnTo>
                    <a:pt x="1392" y="1392"/>
                  </a:lnTo>
                  <a:lnTo>
                    <a:pt x="1386" y="1393"/>
                  </a:lnTo>
                  <a:lnTo>
                    <a:pt x="1381" y="1393"/>
                  </a:lnTo>
                  <a:lnTo>
                    <a:pt x="1375" y="1394"/>
                  </a:lnTo>
                  <a:lnTo>
                    <a:pt x="1368" y="1394"/>
                  </a:lnTo>
                  <a:lnTo>
                    <a:pt x="1362" y="1395"/>
                  </a:lnTo>
                  <a:lnTo>
                    <a:pt x="1356" y="1395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7" y="23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91960" y="4147920"/>
              <a:ext cx="582840" cy="580680"/>
            </a:xfrm>
            <a:custGeom>
              <a:avLst/>
              <a:gdLst/>
              <a:ahLst/>
              <a:rect l="l" t="t" r="r" b="b"/>
              <a:pathLst>
                <a:path w="1389" h="1381">
                  <a:moveTo>
                    <a:pt x="17" y="0"/>
                  </a:moveTo>
                  <a:lnTo>
                    <a:pt x="1389" y="1376"/>
                  </a:lnTo>
                  <a:lnTo>
                    <a:pt x="1383" y="1377"/>
                  </a:lnTo>
                  <a:lnTo>
                    <a:pt x="1376" y="1377"/>
                  </a:lnTo>
                  <a:lnTo>
                    <a:pt x="1370" y="1378"/>
                  </a:lnTo>
                  <a:lnTo>
                    <a:pt x="1364" y="1378"/>
                  </a:lnTo>
                  <a:lnTo>
                    <a:pt x="1357" y="1379"/>
                  </a:lnTo>
                  <a:lnTo>
                    <a:pt x="1352" y="1380"/>
                  </a:lnTo>
                  <a:lnTo>
                    <a:pt x="1346" y="1380"/>
                  </a:lnTo>
                  <a:lnTo>
                    <a:pt x="1340" y="1381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87640" y="4156200"/>
              <a:ext cx="576360" cy="574200"/>
            </a:xfrm>
            <a:custGeom>
              <a:avLst/>
              <a:gdLst/>
              <a:ahLst/>
              <a:rect l="l" t="t" r="r" b="b"/>
              <a:pathLst>
                <a:path w="1373" h="1364">
                  <a:moveTo>
                    <a:pt x="17" y="0"/>
                  </a:moveTo>
                  <a:lnTo>
                    <a:pt x="1373" y="1359"/>
                  </a:lnTo>
                  <a:lnTo>
                    <a:pt x="1367" y="1360"/>
                  </a:lnTo>
                  <a:lnTo>
                    <a:pt x="1361" y="1361"/>
                  </a:lnTo>
                  <a:lnTo>
                    <a:pt x="1355" y="1361"/>
                  </a:lnTo>
                  <a:lnTo>
                    <a:pt x="1349" y="1362"/>
                  </a:lnTo>
                  <a:lnTo>
                    <a:pt x="1342" y="1363"/>
                  </a:lnTo>
                  <a:lnTo>
                    <a:pt x="1337" y="1363"/>
                  </a:lnTo>
                  <a:lnTo>
                    <a:pt x="1331" y="1364"/>
                  </a:lnTo>
                  <a:lnTo>
                    <a:pt x="1325" y="1364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83320" y="4162320"/>
              <a:ext cx="572760" cy="568080"/>
            </a:xfrm>
            <a:custGeom>
              <a:avLst/>
              <a:gdLst/>
              <a:ahLst/>
              <a:rect l="l" t="t" r="r" b="b"/>
              <a:pathLst>
                <a:path w="1358" h="1349">
                  <a:moveTo>
                    <a:pt x="18" y="0"/>
                  </a:moveTo>
                  <a:lnTo>
                    <a:pt x="1358" y="1344"/>
                  </a:lnTo>
                  <a:lnTo>
                    <a:pt x="1351" y="1345"/>
                  </a:lnTo>
                  <a:lnTo>
                    <a:pt x="1346" y="1345"/>
                  </a:lnTo>
                  <a:lnTo>
                    <a:pt x="1340" y="1346"/>
                  </a:lnTo>
                  <a:lnTo>
                    <a:pt x="1334" y="1346"/>
                  </a:lnTo>
                  <a:lnTo>
                    <a:pt x="1327" y="1347"/>
                  </a:lnTo>
                  <a:lnTo>
                    <a:pt x="1322" y="1348"/>
                  </a:lnTo>
                  <a:lnTo>
                    <a:pt x="1316" y="1348"/>
                  </a:lnTo>
                  <a:lnTo>
                    <a:pt x="1309" y="1349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79000" y="4170960"/>
              <a:ext cx="566640" cy="561960"/>
            </a:xfrm>
            <a:custGeom>
              <a:avLst/>
              <a:gdLst/>
              <a:ahLst/>
              <a:rect l="l" t="t" r="r" b="b"/>
              <a:pathLst>
                <a:path w="1342" h="1333">
                  <a:moveTo>
                    <a:pt x="17" y="0"/>
                  </a:moveTo>
                  <a:lnTo>
                    <a:pt x="1342" y="1327"/>
                  </a:lnTo>
                  <a:lnTo>
                    <a:pt x="1335" y="1328"/>
                  </a:lnTo>
                  <a:lnTo>
                    <a:pt x="1330" y="1329"/>
                  </a:lnTo>
                  <a:lnTo>
                    <a:pt x="1324" y="1329"/>
                  </a:lnTo>
                  <a:lnTo>
                    <a:pt x="1317" y="1330"/>
                  </a:lnTo>
                  <a:lnTo>
                    <a:pt x="1311" y="1331"/>
                  </a:lnTo>
                  <a:lnTo>
                    <a:pt x="1306" y="1331"/>
                  </a:lnTo>
                  <a:lnTo>
                    <a:pt x="1300" y="1332"/>
                  </a:lnTo>
                  <a:lnTo>
                    <a:pt x="1293" y="1333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2" y="10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76840" y="4179240"/>
              <a:ext cx="558000" cy="553320"/>
            </a:xfrm>
            <a:custGeom>
              <a:avLst/>
              <a:gdLst/>
              <a:ahLst/>
              <a:rect l="l" t="t" r="r" b="b"/>
              <a:pathLst>
                <a:path w="1326" h="1317">
                  <a:moveTo>
                    <a:pt x="17" y="0"/>
                  </a:moveTo>
                  <a:lnTo>
                    <a:pt x="1326" y="1312"/>
                  </a:lnTo>
                  <a:lnTo>
                    <a:pt x="1320" y="1313"/>
                  </a:lnTo>
                  <a:lnTo>
                    <a:pt x="1315" y="1313"/>
                  </a:lnTo>
                  <a:lnTo>
                    <a:pt x="1309" y="1314"/>
                  </a:lnTo>
                  <a:lnTo>
                    <a:pt x="1302" y="1315"/>
                  </a:lnTo>
                  <a:lnTo>
                    <a:pt x="1296" y="1315"/>
                  </a:lnTo>
                  <a:lnTo>
                    <a:pt x="1291" y="1316"/>
                  </a:lnTo>
                  <a:lnTo>
                    <a:pt x="1284" y="1317"/>
                  </a:lnTo>
                  <a:lnTo>
                    <a:pt x="1278" y="1317"/>
                  </a:lnTo>
                  <a:lnTo>
                    <a:pt x="0" y="38"/>
                  </a:lnTo>
                  <a:lnTo>
                    <a:pt x="3" y="33"/>
                  </a:lnTo>
                  <a:lnTo>
                    <a:pt x="5" y="28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5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72880" y="4187520"/>
              <a:ext cx="551160" cy="547200"/>
            </a:xfrm>
            <a:custGeom>
              <a:avLst/>
              <a:gdLst/>
              <a:ahLst/>
              <a:rect l="l" t="t" r="r" b="b"/>
              <a:pathLst>
                <a:path w="1309" h="1302">
                  <a:moveTo>
                    <a:pt x="16" y="0"/>
                  </a:moveTo>
                  <a:lnTo>
                    <a:pt x="1309" y="1296"/>
                  </a:lnTo>
                  <a:lnTo>
                    <a:pt x="1304" y="1296"/>
                  </a:lnTo>
                  <a:lnTo>
                    <a:pt x="1298" y="1297"/>
                  </a:lnTo>
                  <a:lnTo>
                    <a:pt x="1291" y="1298"/>
                  </a:lnTo>
                  <a:lnTo>
                    <a:pt x="1285" y="1299"/>
                  </a:lnTo>
                  <a:lnTo>
                    <a:pt x="1280" y="1299"/>
                  </a:lnTo>
                  <a:lnTo>
                    <a:pt x="1274" y="1301"/>
                  </a:lnTo>
                  <a:lnTo>
                    <a:pt x="1267" y="1302"/>
                  </a:lnTo>
                  <a:lnTo>
                    <a:pt x="1262" y="1302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3"/>
                  </a:lnTo>
                  <a:lnTo>
                    <a:pt x="7" y="19"/>
                  </a:lnTo>
                  <a:lnTo>
                    <a:pt x="10" y="14"/>
                  </a:lnTo>
                  <a:lnTo>
                    <a:pt x="12" y="9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70720" y="4194360"/>
              <a:ext cx="542520" cy="542520"/>
            </a:xfrm>
            <a:custGeom>
              <a:avLst/>
              <a:gdLst/>
              <a:ahLst/>
              <a:rect l="l" t="t" r="r" b="b"/>
              <a:pathLst>
                <a:path w="1293" h="1286">
                  <a:moveTo>
                    <a:pt x="15" y="0"/>
                  </a:moveTo>
                  <a:lnTo>
                    <a:pt x="1293" y="1279"/>
                  </a:lnTo>
                  <a:lnTo>
                    <a:pt x="1288" y="1280"/>
                  </a:lnTo>
                  <a:lnTo>
                    <a:pt x="1282" y="1282"/>
                  </a:lnTo>
                  <a:lnTo>
                    <a:pt x="1275" y="1283"/>
                  </a:lnTo>
                  <a:lnTo>
                    <a:pt x="1270" y="1283"/>
                  </a:lnTo>
                  <a:lnTo>
                    <a:pt x="1264" y="1284"/>
                  </a:lnTo>
                  <a:lnTo>
                    <a:pt x="1258" y="1285"/>
                  </a:lnTo>
                  <a:lnTo>
                    <a:pt x="1252" y="1286"/>
                  </a:lnTo>
                  <a:lnTo>
                    <a:pt x="1246" y="1286"/>
                  </a:lnTo>
                  <a:lnTo>
                    <a:pt x="0" y="37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66400" y="4202280"/>
              <a:ext cx="538920" cy="534240"/>
            </a:xfrm>
            <a:custGeom>
              <a:avLst/>
              <a:gdLst/>
              <a:ahLst/>
              <a:rect l="l" t="t" r="r" b="b"/>
              <a:pathLst>
                <a:path w="1279" h="1271">
                  <a:moveTo>
                    <a:pt x="17" y="0"/>
                  </a:moveTo>
                  <a:lnTo>
                    <a:pt x="1279" y="1265"/>
                  </a:lnTo>
                  <a:lnTo>
                    <a:pt x="1273" y="1266"/>
                  </a:lnTo>
                  <a:lnTo>
                    <a:pt x="1267" y="1267"/>
                  </a:lnTo>
                  <a:lnTo>
                    <a:pt x="1261" y="1268"/>
                  </a:lnTo>
                  <a:lnTo>
                    <a:pt x="1255" y="1268"/>
                  </a:lnTo>
                  <a:lnTo>
                    <a:pt x="1249" y="1269"/>
                  </a:lnTo>
                  <a:lnTo>
                    <a:pt x="1243" y="1270"/>
                  </a:lnTo>
                  <a:lnTo>
                    <a:pt x="1237" y="1271"/>
                  </a:lnTo>
                  <a:lnTo>
                    <a:pt x="1232" y="1271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5" y="28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4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62080" y="4210920"/>
              <a:ext cx="532440" cy="528120"/>
            </a:xfrm>
            <a:custGeom>
              <a:avLst/>
              <a:gdLst/>
              <a:ahLst/>
              <a:rect l="l" t="t" r="r" b="b"/>
              <a:pathLst>
                <a:path w="1263" h="1256">
                  <a:moveTo>
                    <a:pt x="17" y="0"/>
                  </a:moveTo>
                  <a:lnTo>
                    <a:pt x="1263" y="1249"/>
                  </a:lnTo>
                  <a:lnTo>
                    <a:pt x="1257" y="1250"/>
                  </a:lnTo>
                  <a:lnTo>
                    <a:pt x="1251" y="1251"/>
                  </a:lnTo>
                  <a:lnTo>
                    <a:pt x="1245" y="1252"/>
                  </a:lnTo>
                  <a:lnTo>
                    <a:pt x="1240" y="1252"/>
                  </a:lnTo>
                  <a:lnTo>
                    <a:pt x="1234" y="1253"/>
                  </a:lnTo>
                  <a:lnTo>
                    <a:pt x="1227" y="1254"/>
                  </a:lnTo>
                  <a:lnTo>
                    <a:pt x="1222" y="1255"/>
                  </a:lnTo>
                  <a:lnTo>
                    <a:pt x="1216" y="125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60280" y="4217040"/>
              <a:ext cx="524160" cy="523800"/>
            </a:xfrm>
            <a:custGeom>
              <a:avLst/>
              <a:gdLst/>
              <a:ahLst/>
              <a:rect l="l" t="t" r="r" b="b"/>
              <a:pathLst>
                <a:path w="1248" h="1241">
                  <a:moveTo>
                    <a:pt x="16" y="0"/>
                  </a:moveTo>
                  <a:lnTo>
                    <a:pt x="1248" y="1234"/>
                  </a:lnTo>
                  <a:lnTo>
                    <a:pt x="1242" y="1235"/>
                  </a:lnTo>
                  <a:lnTo>
                    <a:pt x="1235" y="1236"/>
                  </a:lnTo>
                  <a:lnTo>
                    <a:pt x="1230" y="1237"/>
                  </a:lnTo>
                  <a:lnTo>
                    <a:pt x="1224" y="1238"/>
                  </a:lnTo>
                  <a:lnTo>
                    <a:pt x="1219" y="1238"/>
                  </a:lnTo>
                  <a:lnTo>
                    <a:pt x="1212" y="1239"/>
                  </a:lnTo>
                  <a:lnTo>
                    <a:pt x="1206" y="1240"/>
                  </a:lnTo>
                  <a:lnTo>
                    <a:pt x="1201" y="1241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2" y="10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55960" y="4225680"/>
              <a:ext cx="517680" cy="515160"/>
            </a:xfrm>
            <a:custGeom>
              <a:avLst/>
              <a:gdLst/>
              <a:ahLst/>
              <a:rect l="l" t="t" r="r" b="b"/>
              <a:pathLst>
                <a:path w="1232" h="1226">
                  <a:moveTo>
                    <a:pt x="16" y="0"/>
                  </a:moveTo>
                  <a:lnTo>
                    <a:pt x="1232" y="1220"/>
                  </a:lnTo>
                  <a:lnTo>
                    <a:pt x="1227" y="1220"/>
                  </a:lnTo>
                  <a:lnTo>
                    <a:pt x="1220" y="1221"/>
                  </a:lnTo>
                  <a:lnTo>
                    <a:pt x="1214" y="1222"/>
                  </a:lnTo>
                  <a:lnTo>
                    <a:pt x="1209" y="1223"/>
                  </a:lnTo>
                  <a:lnTo>
                    <a:pt x="1203" y="1224"/>
                  </a:lnTo>
                  <a:lnTo>
                    <a:pt x="1197" y="1225"/>
                  </a:lnTo>
                  <a:lnTo>
                    <a:pt x="1191" y="1226"/>
                  </a:lnTo>
                  <a:lnTo>
                    <a:pt x="1186" y="1226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0"/>
                  </a:lnTo>
                  <a:lnTo>
                    <a:pt x="14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51640" y="4233960"/>
              <a:ext cx="513360" cy="509400"/>
            </a:xfrm>
            <a:custGeom>
              <a:avLst/>
              <a:gdLst/>
              <a:ahLst/>
              <a:rect l="l" t="t" r="r" b="b"/>
              <a:pathLst>
                <a:path w="1217" h="1212">
                  <a:moveTo>
                    <a:pt x="16" y="0"/>
                  </a:moveTo>
                  <a:lnTo>
                    <a:pt x="1217" y="1204"/>
                  </a:lnTo>
                  <a:lnTo>
                    <a:pt x="1211" y="1205"/>
                  </a:lnTo>
                  <a:lnTo>
                    <a:pt x="1205" y="1206"/>
                  </a:lnTo>
                  <a:lnTo>
                    <a:pt x="1199" y="1207"/>
                  </a:lnTo>
                  <a:lnTo>
                    <a:pt x="1194" y="1207"/>
                  </a:lnTo>
                  <a:lnTo>
                    <a:pt x="1187" y="1208"/>
                  </a:lnTo>
                  <a:lnTo>
                    <a:pt x="1182" y="1209"/>
                  </a:lnTo>
                  <a:lnTo>
                    <a:pt x="1176" y="1211"/>
                  </a:lnTo>
                  <a:lnTo>
                    <a:pt x="1171" y="121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9" y="15"/>
                  </a:lnTo>
                  <a:lnTo>
                    <a:pt x="11" y="10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49840" y="4242240"/>
              <a:ext cx="504720" cy="502920"/>
            </a:xfrm>
            <a:custGeom>
              <a:avLst/>
              <a:gdLst/>
              <a:ahLst/>
              <a:rect l="l" t="t" r="r" b="b"/>
              <a:pathLst>
                <a:path w="1203" h="1196">
                  <a:moveTo>
                    <a:pt x="17" y="0"/>
                  </a:moveTo>
                  <a:lnTo>
                    <a:pt x="1203" y="1188"/>
                  </a:lnTo>
                  <a:lnTo>
                    <a:pt x="1196" y="1189"/>
                  </a:lnTo>
                  <a:lnTo>
                    <a:pt x="1191" y="1190"/>
                  </a:lnTo>
                  <a:lnTo>
                    <a:pt x="1185" y="1192"/>
                  </a:lnTo>
                  <a:lnTo>
                    <a:pt x="1180" y="1193"/>
                  </a:lnTo>
                  <a:lnTo>
                    <a:pt x="1173" y="1194"/>
                  </a:lnTo>
                  <a:lnTo>
                    <a:pt x="1168" y="1195"/>
                  </a:lnTo>
                  <a:lnTo>
                    <a:pt x="1162" y="1196"/>
                  </a:lnTo>
                  <a:lnTo>
                    <a:pt x="1157" y="1196"/>
                  </a:lnTo>
                  <a:lnTo>
                    <a:pt x="0" y="38"/>
                  </a:lnTo>
                  <a:lnTo>
                    <a:pt x="3" y="34"/>
                  </a:lnTo>
                  <a:lnTo>
                    <a:pt x="5" y="28"/>
                  </a:lnTo>
                  <a:lnTo>
                    <a:pt x="7" y="24"/>
                  </a:lnTo>
                  <a:lnTo>
                    <a:pt x="9" y="19"/>
                  </a:lnTo>
                  <a:lnTo>
                    <a:pt x="11" y="15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5520" y="4248720"/>
              <a:ext cx="500760" cy="498600"/>
            </a:xfrm>
            <a:custGeom>
              <a:avLst/>
              <a:gdLst/>
              <a:ahLst/>
              <a:rect l="l" t="t" r="r" b="b"/>
              <a:pathLst>
                <a:path w="1187" h="1181">
                  <a:moveTo>
                    <a:pt x="16" y="0"/>
                  </a:moveTo>
                  <a:lnTo>
                    <a:pt x="1187" y="1174"/>
                  </a:lnTo>
                  <a:lnTo>
                    <a:pt x="1180" y="1175"/>
                  </a:lnTo>
                  <a:lnTo>
                    <a:pt x="1175" y="1176"/>
                  </a:lnTo>
                  <a:lnTo>
                    <a:pt x="1169" y="1177"/>
                  </a:lnTo>
                  <a:lnTo>
                    <a:pt x="1164" y="1178"/>
                  </a:lnTo>
                  <a:lnTo>
                    <a:pt x="1157" y="1178"/>
                  </a:lnTo>
                  <a:lnTo>
                    <a:pt x="1152" y="1179"/>
                  </a:lnTo>
                  <a:lnTo>
                    <a:pt x="1146" y="1180"/>
                  </a:lnTo>
                  <a:lnTo>
                    <a:pt x="1141" y="1181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43000" y="4257360"/>
              <a:ext cx="492480" cy="489960"/>
            </a:xfrm>
            <a:custGeom>
              <a:avLst/>
              <a:gdLst/>
              <a:ahLst/>
              <a:rect l="l" t="t" r="r" b="b"/>
              <a:pathLst>
                <a:path w="1172" h="1166">
                  <a:moveTo>
                    <a:pt x="15" y="0"/>
                  </a:moveTo>
                  <a:lnTo>
                    <a:pt x="1172" y="1158"/>
                  </a:lnTo>
                  <a:lnTo>
                    <a:pt x="1165" y="1159"/>
                  </a:lnTo>
                  <a:lnTo>
                    <a:pt x="1160" y="1160"/>
                  </a:lnTo>
                  <a:lnTo>
                    <a:pt x="1154" y="1161"/>
                  </a:lnTo>
                  <a:lnTo>
                    <a:pt x="1149" y="1162"/>
                  </a:lnTo>
                  <a:lnTo>
                    <a:pt x="1142" y="1163"/>
                  </a:lnTo>
                  <a:lnTo>
                    <a:pt x="1137" y="1164"/>
                  </a:lnTo>
                  <a:lnTo>
                    <a:pt x="1132" y="1165"/>
                  </a:lnTo>
                  <a:lnTo>
                    <a:pt x="1125" y="1166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39400" y="4265640"/>
              <a:ext cx="485640" cy="483840"/>
            </a:xfrm>
            <a:custGeom>
              <a:avLst/>
              <a:gdLst/>
              <a:ahLst/>
              <a:rect l="l" t="t" r="r" b="b"/>
              <a:pathLst>
                <a:path w="1157" h="1151">
                  <a:moveTo>
                    <a:pt x="16" y="0"/>
                  </a:moveTo>
                  <a:lnTo>
                    <a:pt x="1157" y="1143"/>
                  </a:lnTo>
                  <a:lnTo>
                    <a:pt x="1150" y="1144"/>
                  </a:lnTo>
                  <a:lnTo>
                    <a:pt x="1145" y="1145"/>
                  </a:lnTo>
                  <a:lnTo>
                    <a:pt x="1140" y="1146"/>
                  </a:lnTo>
                  <a:lnTo>
                    <a:pt x="1133" y="1147"/>
                  </a:lnTo>
                  <a:lnTo>
                    <a:pt x="1128" y="1148"/>
                  </a:lnTo>
                  <a:lnTo>
                    <a:pt x="1122" y="1149"/>
                  </a:lnTo>
                  <a:lnTo>
                    <a:pt x="1117" y="1150"/>
                  </a:lnTo>
                  <a:lnTo>
                    <a:pt x="1111" y="1151"/>
                  </a:lnTo>
                  <a:lnTo>
                    <a:pt x="0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35080" y="4273920"/>
              <a:ext cx="482040" cy="477360"/>
            </a:xfrm>
            <a:custGeom>
              <a:avLst/>
              <a:gdLst/>
              <a:ahLst/>
              <a:rect l="l" t="t" r="r" b="b"/>
              <a:pathLst>
                <a:path w="1141" h="1137">
                  <a:moveTo>
                    <a:pt x="16" y="0"/>
                  </a:moveTo>
                  <a:lnTo>
                    <a:pt x="1141" y="1128"/>
                  </a:lnTo>
                  <a:lnTo>
                    <a:pt x="1136" y="1129"/>
                  </a:lnTo>
                  <a:lnTo>
                    <a:pt x="1130" y="1130"/>
                  </a:lnTo>
                  <a:lnTo>
                    <a:pt x="1125" y="1131"/>
                  </a:lnTo>
                  <a:lnTo>
                    <a:pt x="1119" y="1132"/>
                  </a:lnTo>
                  <a:lnTo>
                    <a:pt x="1113" y="1133"/>
                  </a:lnTo>
                  <a:lnTo>
                    <a:pt x="1108" y="1134"/>
                  </a:lnTo>
                  <a:lnTo>
                    <a:pt x="1102" y="1135"/>
                  </a:lnTo>
                  <a:lnTo>
                    <a:pt x="1096" y="1137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560" y="4282560"/>
              <a:ext cx="473760" cy="471240"/>
            </a:xfrm>
            <a:custGeom>
              <a:avLst/>
              <a:gdLst/>
              <a:ahLst/>
              <a:rect l="l" t="t" r="r" b="b"/>
              <a:pathLst>
                <a:path w="1126" h="1123">
                  <a:moveTo>
                    <a:pt x="15" y="0"/>
                  </a:moveTo>
                  <a:lnTo>
                    <a:pt x="1126" y="1113"/>
                  </a:lnTo>
                  <a:lnTo>
                    <a:pt x="1120" y="1114"/>
                  </a:lnTo>
                  <a:lnTo>
                    <a:pt x="1115" y="1115"/>
                  </a:lnTo>
                  <a:lnTo>
                    <a:pt x="1109" y="1116"/>
                  </a:lnTo>
                  <a:lnTo>
                    <a:pt x="1103" y="1118"/>
                  </a:lnTo>
                  <a:lnTo>
                    <a:pt x="1098" y="1119"/>
                  </a:lnTo>
                  <a:lnTo>
                    <a:pt x="1092" y="1120"/>
                  </a:lnTo>
                  <a:lnTo>
                    <a:pt x="1087" y="1121"/>
                  </a:lnTo>
                  <a:lnTo>
                    <a:pt x="1081" y="112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28960" y="4288680"/>
              <a:ext cx="469080" cy="466920"/>
            </a:xfrm>
            <a:custGeom>
              <a:avLst/>
              <a:gdLst/>
              <a:ahLst/>
              <a:rect l="l" t="t" r="r" b="b"/>
              <a:pathLst>
                <a:path w="1112" h="1108">
                  <a:moveTo>
                    <a:pt x="16" y="0"/>
                  </a:moveTo>
                  <a:lnTo>
                    <a:pt x="1112" y="1099"/>
                  </a:lnTo>
                  <a:lnTo>
                    <a:pt x="1107" y="1100"/>
                  </a:lnTo>
                  <a:lnTo>
                    <a:pt x="1101" y="1101"/>
                  </a:lnTo>
                  <a:lnTo>
                    <a:pt x="1096" y="1103"/>
                  </a:lnTo>
                  <a:lnTo>
                    <a:pt x="1090" y="1104"/>
                  </a:lnTo>
                  <a:lnTo>
                    <a:pt x="1084" y="1105"/>
                  </a:lnTo>
                  <a:lnTo>
                    <a:pt x="1079" y="1106"/>
                  </a:lnTo>
                  <a:lnTo>
                    <a:pt x="1074" y="1107"/>
                  </a:lnTo>
                  <a:lnTo>
                    <a:pt x="1068" y="1108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5" y="29"/>
                  </a:lnTo>
                  <a:lnTo>
                    <a:pt x="7" y="24"/>
                  </a:lnTo>
                  <a:lnTo>
                    <a:pt x="9" y="19"/>
                  </a:lnTo>
                  <a:lnTo>
                    <a:pt x="11" y="14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26440" y="4297320"/>
              <a:ext cx="460800" cy="460440"/>
            </a:xfrm>
            <a:custGeom>
              <a:avLst/>
              <a:gdLst/>
              <a:ahLst/>
              <a:rect l="l" t="t" r="r" b="b"/>
              <a:pathLst>
                <a:path w="1097" h="1094">
                  <a:moveTo>
                    <a:pt x="16" y="0"/>
                  </a:moveTo>
                  <a:lnTo>
                    <a:pt x="1097" y="1085"/>
                  </a:lnTo>
                  <a:lnTo>
                    <a:pt x="1092" y="1086"/>
                  </a:lnTo>
                  <a:lnTo>
                    <a:pt x="1086" y="1087"/>
                  </a:lnTo>
                  <a:lnTo>
                    <a:pt x="1081" y="1088"/>
                  </a:lnTo>
                  <a:lnTo>
                    <a:pt x="1075" y="1089"/>
                  </a:lnTo>
                  <a:lnTo>
                    <a:pt x="1069" y="1090"/>
                  </a:lnTo>
                  <a:lnTo>
                    <a:pt x="1064" y="1091"/>
                  </a:lnTo>
                  <a:lnTo>
                    <a:pt x="1059" y="1092"/>
                  </a:lnTo>
                  <a:lnTo>
                    <a:pt x="1053" y="1094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2" y="10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22120" y="4305240"/>
              <a:ext cx="456840" cy="454680"/>
            </a:xfrm>
            <a:custGeom>
              <a:avLst/>
              <a:gdLst/>
              <a:ahLst/>
              <a:rect l="l" t="t" r="r" b="b"/>
              <a:pathLst>
                <a:path w="1082" h="1079">
                  <a:moveTo>
                    <a:pt x="14" y="0"/>
                  </a:moveTo>
                  <a:lnTo>
                    <a:pt x="1082" y="1070"/>
                  </a:lnTo>
                  <a:lnTo>
                    <a:pt x="1076" y="1071"/>
                  </a:lnTo>
                  <a:lnTo>
                    <a:pt x="1071" y="1072"/>
                  </a:lnTo>
                  <a:lnTo>
                    <a:pt x="1066" y="1073"/>
                  </a:lnTo>
                  <a:lnTo>
                    <a:pt x="1060" y="1075"/>
                  </a:lnTo>
                  <a:lnTo>
                    <a:pt x="1054" y="1076"/>
                  </a:lnTo>
                  <a:lnTo>
                    <a:pt x="1049" y="1077"/>
                  </a:lnTo>
                  <a:lnTo>
                    <a:pt x="1044" y="1078"/>
                  </a:lnTo>
                  <a:lnTo>
                    <a:pt x="1038" y="1079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3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20320" y="4313880"/>
              <a:ext cx="448200" cy="447840"/>
            </a:xfrm>
            <a:custGeom>
              <a:avLst/>
              <a:gdLst/>
              <a:ahLst/>
              <a:rect l="l" t="t" r="r" b="b"/>
              <a:pathLst>
                <a:path w="1068" h="1066">
                  <a:moveTo>
                    <a:pt x="15" y="0"/>
                  </a:moveTo>
                  <a:lnTo>
                    <a:pt x="1068" y="1056"/>
                  </a:lnTo>
                  <a:lnTo>
                    <a:pt x="1062" y="1057"/>
                  </a:lnTo>
                  <a:lnTo>
                    <a:pt x="1057" y="1058"/>
                  </a:lnTo>
                  <a:lnTo>
                    <a:pt x="1052" y="1059"/>
                  </a:lnTo>
                  <a:lnTo>
                    <a:pt x="1046" y="1060"/>
                  </a:lnTo>
                  <a:lnTo>
                    <a:pt x="1041" y="1063"/>
                  </a:lnTo>
                  <a:lnTo>
                    <a:pt x="1035" y="1064"/>
                  </a:lnTo>
                  <a:lnTo>
                    <a:pt x="1030" y="1065"/>
                  </a:lnTo>
                  <a:lnTo>
                    <a:pt x="1024" y="1066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1" y="10"/>
                  </a:lnTo>
                  <a:lnTo>
                    <a:pt x="13" y="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16000" y="4322520"/>
              <a:ext cx="443880" cy="441720"/>
            </a:xfrm>
            <a:custGeom>
              <a:avLst/>
              <a:gdLst/>
              <a:ahLst/>
              <a:rect l="l" t="t" r="r" b="b"/>
              <a:pathLst>
                <a:path w="1054" h="1052">
                  <a:moveTo>
                    <a:pt x="16" y="0"/>
                  </a:moveTo>
                  <a:lnTo>
                    <a:pt x="1054" y="1041"/>
                  </a:lnTo>
                  <a:lnTo>
                    <a:pt x="1049" y="1044"/>
                  </a:lnTo>
                  <a:lnTo>
                    <a:pt x="1043" y="1045"/>
                  </a:lnTo>
                  <a:lnTo>
                    <a:pt x="1038" y="1046"/>
                  </a:lnTo>
                  <a:lnTo>
                    <a:pt x="1032" y="1047"/>
                  </a:lnTo>
                  <a:lnTo>
                    <a:pt x="1027" y="1048"/>
                  </a:lnTo>
                  <a:lnTo>
                    <a:pt x="1022" y="1050"/>
                  </a:lnTo>
                  <a:lnTo>
                    <a:pt x="1017" y="1051"/>
                  </a:lnTo>
                  <a:lnTo>
                    <a:pt x="1010" y="1052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4" y="30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9" y="15"/>
                  </a:lnTo>
                  <a:lnTo>
                    <a:pt x="11" y="10"/>
                  </a:lnTo>
                  <a:lnTo>
                    <a:pt x="14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13840" y="4330800"/>
              <a:ext cx="437400" cy="435600"/>
            </a:xfrm>
            <a:custGeom>
              <a:avLst/>
              <a:gdLst/>
              <a:ahLst/>
              <a:rect l="l" t="t" r="r" b="b"/>
              <a:pathLst>
                <a:path w="1039" h="1037">
                  <a:moveTo>
                    <a:pt x="15" y="0"/>
                  </a:moveTo>
                  <a:lnTo>
                    <a:pt x="1039" y="1027"/>
                  </a:lnTo>
                  <a:lnTo>
                    <a:pt x="1034" y="1028"/>
                  </a:lnTo>
                  <a:lnTo>
                    <a:pt x="1029" y="1030"/>
                  </a:lnTo>
                  <a:lnTo>
                    <a:pt x="1024" y="1031"/>
                  </a:lnTo>
                  <a:lnTo>
                    <a:pt x="1017" y="1032"/>
                  </a:lnTo>
                  <a:lnTo>
                    <a:pt x="1012" y="1033"/>
                  </a:lnTo>
                  <a:lnTo>
                    <a:pt x="1007" y="1035"/>
                  </a:lnTo>
                  <a:lnTo>
                    <a:pt x="1002" y="1036"/>
                  </a:lnTo>
                  <a:lnTo>
                    <a:pt x="996" y="1037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09520" y="4336920"/>
              <a:ext cx="431280" cy="431280"/>
            </a:xfrm>
            <a:custGeom>
              <a:avLst/>
              <a:gdLst/>
              <a:ahLst/>
              <a:rect l="l" t="t" r="r" b="b"/>
              <a:pathLst>
                <a:path w="1025" h="1025">
                  <a:moveTo>
                    <a:pt x="15" y="0"/>
                  </a:moveTo>
                  <a:lnTo>
                    <a:pt x="1025" y="1013"/>
                  </a:lnTo>
                  <a:lnTo>
                    <a:pt x="1020" y="1014"/>
                  </a:lnTo>
                  <a:lnTo>
                    <a:pt x="1015" y="1016"/>
                  </a:lnTo>
                  <a:lnTo>
                    <a:pt x="1010" y="1017"/>
                  </a:lnTo>
                  <a:lnTo>
                    <a:pt x="1004" y="1018"/>
                  </a:lnTo>
                  <a:lnTo>
                    <a:pt x="999" y="1020"/>
                  </a:lnTo>
                  <a:lnTo>
                    <a:pt x="994" y="1021"/>
                  </a:lnTo>
                  <a:lnTo>
                    <a:pt x="989" y="1022"/>
                  </a:lnTo>
                  <a:lnTo>
                    <a:pt x="983" y="1025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4" y="30"/>
                  </a:lnTo>
                  <a:lnTo>
                    <a:pt x="7" y="24"/>
                  </a:lnTo>
                  <a:lnTo>
                    <a:pt x="8" y="20"/>
                  </a:lnTo>
                  <a:lnTo>
                    <a:pt x="10" y="15"/>
                  </a:lnTo>
                  <a:lnTo>
                    <a:pt x="12" y="10"/>
                  </a:lnTo>
                  <a:lnTo>
                    <a:pt x="1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07360" y="4345560"/>
              <a:ext cx="425160" cy="425160"/>
            </a:xfrm>
            <a:custGeom>
              <a:avLst/>
              <a:gdLst/>
              <a:ahLst/>
              <a:rect l="l" t="t" r="r" b="b"/>
              <a:pathLst>
                <a:path w="1011" h="1011">
                  <a:moveTo>
                    <a:pt x="15" y="0"/>
                  </a:moveTo>
                  <a:lnTo>
                    <a:pt x="1011" y="999"/>
                  </a:lnTo>
                  <a:lnTo>
                    <a:pt x="1006" y="1001"/>
                  </a:lnTo>
                  <a:lnTo>
                    <a:pt x="1001" y="1002"/>
                  </a:lnTo>
                  <a:lnTo>
                    <a:pt x="996" y="1003"/>
                  </a:lnTo>
                  <a:lnTo>
                    <a:pt x="990" y="1006"/>
                  </a:lnTo>
                  <a:lnTo>
                    <a:pt x="985" y="1007"/>
                  </a:lnTo>
                  <a:lnTo>
                    <a:pt x="980" y="1008"/>
                  </a:lnTo>
                  <a:lnTo>
                    <a:pt x="975" y="1010"/>
                  </a:lnTo>
                  <a:lnTo>
                    <a:pt x="969" y="1011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4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03400" y="4354200"/>
              <a:ext cx="420840" cy="420840"/>
            </a:xfrm>
            <a:custGeom>
              <a:avLst/>
              <a:gdLst/>
              <a:ahLst/>
              <a:rect l="l" t="t" r="r" b="b"/>
              <a:pathLst>
                <a:path w="997" h="997">
                  <a:moveTo>
                    <a:pt x="14" y="0"/>
                  </a:moveTo>
                  <a:lnTo>
                    <a:pt x="997" y="986"/>
                  </a:lnTo>
                  <a:lnTo>
                    <a:pt x="992" y="987"/>
                  </a:lnTo>
                  <a:lnTo>
                    <a:pt x="987" y="988"/>
                  </a:lnTo>
                  <a:lnTo>
                    <a:pt x="982" y="990"/>
                  </a:lnTo>
                  <a:lnTo>
                    <a:pt x="976" y="991"/>
                  </a:lnTo>
                  <a:lnTo>
                    <a:pt x="971" y="992"/>
                  </a:lnTo>
                  <a:lnTo>
                    <a:pt x="966" y="994"/>
                  </a:lnTo>
                  <a:lnTo>
                    <a:pt x="961" y="995"/>
                  </a:lnTo>
                  <a:lnTo>
                    <a:pt x="956" y="997"/>
                  </a:lnTo>
                  <a:lnTo>
                    <a:pt x="0" y="39"/>
                  </a:lnTo>
                  <a:lnTo>
                    <a:pt x="2" y="35"/>
                  </a:lnTo>
                  <a:lnTo>
                    <a:pt x="4" y="29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9" y="15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01240" y="4362120"/>
              <a:ext cx="414720" cy="414360"/>
            </a:xfrm>
            <a:custGeom>
              <a:avLst/>
              <a:gdLst/>
              <a:ahLst/>
              <a:rect l="l" t="t" r="r" b="b"/>
              <a:pathLst>
                <a:path w="984" h="982">
                  <a:moveTo>
                    <a:pt x="15" y="0"/>
                  </a:moveTo>
                  <a:lnTo>
                    <a:pt x="984" y="971"/>
                  </a:lnTo>
                  <a:lnTo>
                    <a:pt x="979" y="972"/>
                  </a:lnTo>
                  <a:lnTo>
                    <a:pt x="974" y="974"/>
                  </a:lnTo>
                  <a:lnTo>
                    <a:pt x="969" y="975"/>
                  </a:lnTo>
                  <a:lnTo>
                    <a:pt x="964" y="977"/>
                  </a:lnTo>
                  <a:lnTo>
                    <a:pt x="958" y="978"/>
                  </a:lnTo>
                  <a:lnTo>
                    <a:pt x="953" y="980"/>
                  </a:lnTo>
                  <a:lnTo>
                    <a:pt x="948" y="981"/>
                  </a:lnTo>
                  <a:lnTo>
                    <a:pt x="943" y="982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5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9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96920" y="4370760"/>
              <a:ext cx="410400" cy="408240"/>
            </a:xfrm>
            <a:custGeom>
              <a:avLst/>
              <a:gdLst/>
              <a:ahLst/>
              <a:rect l="l" t="t" r="r" b="b"/>
              <a:pathLst>
                <a:path w="971" h="970">
                  <a:moveTo>
                    <a:pt x="15" y="0"/>
                  </a:moveTo>
                  <a:lnTo>
                    <a:pt x="971" y="958"/>
                  </a:lnTo>
                  <a:lnTo>
                    <a:pt x="965" y="959"/>
                  </a:lnTo>
                  <a:lnTo>
                    <a:pt x="960" y="961"/>
                  </a:lnTo>
                  <a:lnTo>
                    <a:pt x="955" y="962"/>
                  </a:lnTo>
                  <a:lnTo>
                    <a:pt x="950" y="963"/>
                  </a:lnTo>
                  <a:lnTo>
                    <a:pt x="944" y="965"/>
                  </a:lnTo>
                  <a:lnTo>
                    <a:pt x="939" y="966"/>
                  </a:lnTo>
                  <a:lnTo>
                    <a:pt x="934" y="969"/>
                  </a:lnTo>
                  <a:lnTo>
                    <a:pt x="929" y="970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4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9" y="15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4760" y="4379400"/>
              <a:ext cx="401760" cy="401760"/>
            </a:xfrm>
            <a:custGeom>
              <a:avLst/>
              <a:gdLst/>
              <a:ahLst/>
              <a:rect l="l" t="t" r="r" b="b"/>
              <a:pathLst>
                <a:path w="956" h="956">
                  <a:moveTo>
                    <a:pt x="13" y="0"/>
                  </a:moveTo>
                  <a:lnTo>
                    <a:pt x="956" y="943"/>
                  </a:lnTo>
                  <a:lnTo>
                    <a:pt x="950" y="945"/>
                  </a:lnTo>
                  <a:lnTo>
                    <a:pt x="945" y="946"/>
                  </a:lnTo>
                  <a:lnTo>
                    <a:pt x="940" y="949"/>
                  </a:lnTo>
                  <a:lnTo>
                    <a:pt x="935" y="950"/>
                  </a:lnTo>
                  <a:lnTo>
                    <a:pt x="929" y="952"/>
                  </a:lnTo>
                  <a:lnTo>
                    <a:pt x="924" y="953"/>
                  </a:lnTo>
                  <a:lnTo>
                    <a:pt x="919" y="955"/>
                  </a:lnTo>
                  <a:lnTo>
                    <a:pt x="915" y="956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3" y="29"/>
                  </a:lnTo>
                  <a:lnTo>
                    <a:pt x="5" y="24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10" y="9"/>
                  </a:lnTo>
                  <a:lnTo>
                    <a:pt x="1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92960" y="4387320"/>
              <a:ext cx="395640" cy="397800"/>
            </a:xfrm>
            <a:custGeom>
              <a:avLst/>
              <a:gdLst/>
              <a:ahLst/>
              <a:rect l="l" t="t" r="r" b="b"/>
              <a:pathLst>
                <a:path w="943" h="943">
                  <a:moveTo>
                    <a:pt x="14" y="0"/>
                  </a:moveTo>
                  <a:lnTo>
                    <a:pt x="943" y="930"/>
                  </a:lnTo>
                  <a:lnTo>
                    <a:pt x="937" y="932"/>
                  </a:lnTo>
                  <a:lnTo>
                    <a:pt x="932" y="933"/>
                  </a:lnTo>
                  <a:lnTo>
                    <a:pt x="927" y="935"/>
                  </a:lnTo>
                  <a:lnTo>
                    <a:pt x="923" y="936"/>
                  </a:lnTo>
                  <a:lnTo>
                    <a:pt x="917" y="938"/>
                  </a:lnTo>
                  <a:lnTo>
                    <a:pt x="912" y="940"/>
                  </a:lnTo>
                  <a:lnTo>
                    <a:pt x="907" y="941"/>
                  </a:lnTo>
                  <a:lnTo>
                    <a:pt x="902" y="943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3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9" y="15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88640" y="4395960"/>
              <a:ext cx="391320" cy="390960"/>
            </a:xfrm>
            <a:custGeom>
              <a:avLst/>
              <a:gdLst/>
              <a:ahLst/>
              <a:rect l="l" t="t" r="r" b="b"/>
              <a:pathLst>
                <a:path w="930" h="931">
                  <a:moveTo>
                    <a:pt x="15" y="0"/>
                  </a:moveTo>
                  <a:lnTo>
                    <a:pt x="930" y="917"/>
                  </a:lnTo>
                  <a:lnTo>
                    <a:pt x="924" y="919"/>
                  </a:lnTo>
                  <a:lnTo>
                    <a:pt x="919" y="920"/>
                  </a:lnTo>
                  <a:lnTo>
                    <a:pt x="914" y="922"/>
                  </a:lnTo>
                  <a:lnTo>
                    <a:pt x="909" y="924"/>
                  </a:lnTo>
                  <a:lnTo>
                    <a:pt x="903" y="925"/>
                  </a:lnTo>
                  <a:lnTo>
                    <a:pt x="899" y="927"/>
                  </a:lnTo>
                  <a:lnTo>
                    <a:pt x="894" y="928"/>
                  </a:lnTo>
                  <a:lnTo>
                    <a:pt x="889" y="931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86480" y="4404600"/>
              <a:ext cx="385200" cy="384840"/>
            </a:xfrm>
            <a:custGeom>
              <a:avLst/>
              <a:gdLst/>
              <a:ahLst/>
              <a:rect l="l" t="t" r="r" b="b"/>
              <a:pathLst>
                <a:path w="916" h="918">
                  <a:moveTo>
                    <a:pt x="14" y="0"/>
                  </a:moveTo>
                  <a:lnTo>
                    <a:pt x="916" y="904"/>
                  </a:lnTo>
                  <a:lnTo>
                    <a:pt x="912" y="905"/>
                  </a:lnTo>
                  <a:lnTo>
                    <a:pt x="906" y="907"/>
                  </a:lnTo>
                  <a:lnTo>
                    <a:pt x="901" y="910"/>
                  </a:lnTo>
                  <a:lnTo>
                    <a:pt x="896" y="911"/>
                  </a:lnTo>
                  <a:lnTo>
                    <a:pt x="891" y="913"/>
                  </a:lnTo>
                  <a:lnTo>
                    <a:pt x="886" y="914"/>
                  </a:lnTo>
                  <a:lnTo>
                    <a:pt x="881" y="916"/>
                  </a:lnTo>
                  <a:lnTo>
                    <a:pt x="876" y="918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9" y="14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82160" y="4412880"/>
              <a:ext cx="381240" cy="380520"/>
            </a:xfrm>
            <a:custGeom>
              <a:avLst/>
              <a:gdLst/>
              <a:ahLst/>
              <a:rect l="l" t="t" r="r" b="b"/>
              <a:pathLst>
                <a:path w="903" h="904">
                  <a:moveTo>
                    <a:pt x="14" y="0"/>
                  </a:moveTo>
                  <a:lnTo>
                    <a:pt x="903" y="891"/>
                  </a:lnTo>
                  <a:lnTo>
                    <a:pt x="898" y="893"/>
                  </a:lnTo>
                  <a:lnTo>
                    <a:pt x="893" y="894"/>
                  </a:lnTo>
                  <a:lnTo>
                    <a:pt x="888" y="896"/>
                  </a:lnTo>
                  <a:lnTo>
                    <a:pt x="883" y="898"/>
                  </a:lnTo>
                  <a:lnTo>
                    <a:pt x="878" y="899"/>
                  </a:lnTo>
                  <a:lnTo>
                    <a:pt x="873" y="901"/>
                  </a:lnTo>
                  <a:lnTo>
                    <a:pt x="868" y="903"/>
                  </a:lnTo>
                  <a:lnTo>
                    <a:pt x="863" y="904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7" y="20"/>
                  </a:lnTo>
                  <a:lnTo>
                    <a:pt x="9" y="14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80000" y="4421520"/>
              <a:ext cx="374400" cy="374400"/>
            </a:xfrm>
            <a:custGeom>
              <a:avLst/>
              <a:gdLst/>
              <a:ahLst/>
              <a:rect l="l" t="t" r="r" b="b"/>
              <a:pathLst>
                <a:path w="890" h="892">
                  <a:moveTo>
                    <a:pt x="14" y="0"/>
                  </a:moveTo>
                  <a:lnTo>
                    <a:pt x="890" y="878"/>
                  </a:lnTo>
                  <a:lnTo>
                    <a:pt x="885" y="879"/>
                  </a:lnTo>
                  <a:lnTo>
                    <a:pt x="880" y="881"/>
                  </a:lnTo>
                  <a:lnTo>
                    <a:pt x="875" y="883"/>
                  </a:lnTo>
                  <a:lnTo>
                    <a:pt x="870" y="884"/>
                  </a:lnTo>
                  <a:lnTo>
                    <a:pt x="866" y="886"/>
                  </a:lnTo>
                  <a:lnTo>
                    <a:pt x="861" y="888"/>
                  </a:lnTo>
                  <a:lnTo>
                    <a:pt x="855" y="891"/>
                  </a:lnTo>
                  <a:lnTo>
                    <a:pt x="851" y="892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8" y="14"/>
                  </a:lnTo>
                  <a:lnTo>
                    <a:pt x="10" y="9"/>
                  </a:lnTo>
                  <a:lnTo>
                    <a:pt x="13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78200" y="4429800"/>
              <a:ext cx="367920" cy="370080"/>
            </a:xfrm>
            <a:custGeom>
              <a:avLst/>
              <a:gdLst/>
              <a:ahLst/>
              <a:rect l="l" t="t" r="r" b="b"/>
              <a:pathLst>
                <a:path w="876" h="879">
                  <a:moveTo>
                    <a:pt x="13" y="0"/>
                  </a:moveTo>
                  <a:lnTo>
                    <a:pt x="876" y="864"/>
                  </a:lnTo>
                  <a:lnTo>
                    <a:pt x="872" y="866"/>
                  </a:lnTo>
                  <a:lnTo>
                    <a:pt x="867" y="868"/>
                  </a:lnTo>
                  <a:lnTo>
                    <a:pt x="861" y="871"/>
                  </a:lnTo>
                  <a:lnTo>
                    <a:pt x="857" y="872"/>
                  </a:lnTo>
                  <a:lnTo>
                    <a:pt x="852" y="874"/>
                  </a:lnTo>
                  <a:lnTo>
                    <a:pt x="847" y="876"/>
                  </a:lnTo>
                  <a:lnTo>
                    <a:pt x="842" y="878"/>
                  </a:lnTo>
                  <a:lnTo>
                    <a:pt x="837" y="879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73880" y="4438080"/>
              <a:ext cx="363960" cy="363960"/>
            </a:xfrm>
            <a:custGeom>
              <a:avLst/>
              <a:gdLst/>
              <a:ahLst/>
              <a:rect l="l" t="t" r="r" b="b"/>
              <a:pathLst>
                <a:path w="865" h="867">
                  <a:moveTo>
                    <a:pt x="14" y="0"/>
                  </a:moveTo>
                  <a:lnTo>
                    <a:pt x="865" y="852"/>
                  </a:lnTo>
                  <a:lnTo>
                    <a:pt x="860" y="854"/>
                  </a:lnTo>
                  <a:lnTo>
                    <a:pt x="855" y="856"/>
                  </a:lnTo>
                  <a:lnTo>
                    <a:pt x="850" y="858"/>
                  </a:lnTo>
                  <a:lnTo>
                    <a:pt x="845" y="859"/>
                  </a:lnTo>
                  <a:lnTo>
                    <a:pt x="841" y="861"/>
                  </a:lnTo>
                  <a:lnTo>
                    <a:pt x="836" y="863"/>
                  </a:lnTo>
                  <a:lnTo>
                    <a:pt x="831" y="865"/>
                  </a:lnTo>
                  <a:lnTo>
                    <a:pt x="826" y="867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0"/>
                  </a:lnTo>
                  <a:lnTo>
                    <a:pt x="9" y="14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71360" y="4446720"/>
              <a:ext cx="357840" cy="359640"/>
            </a:xfrm>
            <a:custGeom>
              <a:avLst/>
              <a:gdLst/>
              <a:ahLst/>
              <a:rect l="l" t="t" r="r" b="b"/>
              <a:pathLst>
                <a:path w="851" h="855">
                  <a:moveTo>
                    <a:pt x="14" y="0"/>
                  </a:moveTo>
                  <a:lnTo>
                    <a:pt x="851" y="839"/>
                  </a:lnTo>
                  <a:lnTo>
                    <a:pt x="846" y="841"/>
                  </a:lnTo>
                  <a:lnTo>
                    <a:pt x="842" y="843"/>
                  </a:lnTo>
                  <a:lnTo>
                    <a:pt x="837" y="845"/>
                  </a:lnTo>
                  <a:lnTo>
                    <a:pt x="832" y="847"/>
                  </a:lnTo>
                  <a:lnTo>
                    <a:pt x="827" y="848"/>
                  </a:lnTo>
                  <a:lnTo>
                    <a:pt x="823" y="851"/>
                  </a:lnTo>
                  <a:lnTo>
                    <a:pt x="818" y="853"/>
                  </a:lnTo>
                  <a:lnTo>
                    <a:pt x="813" y="855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3" y="30"/>
                  </a:lnTo>
                  <a:lnTo>
                    <a:pt x="4" y="25"/>
                  </a:lnTo>
                  <a:lnTo>
                    <a:pt x="6" y="19"/>
                  </a:lnTo>
                  <a:lnTo>
                    <a:pt x="8" y="14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69560" y="4454640"/>
              <a:ext cx="351000" cy="353520"/>
            </a:xfrm>
            <a:custGeom>
              <a:avLst/>
              <a:gdLst/>
              <a:ahLst/>
              <a:rect l="l" t="t" r="r" b="b"/>
              <a:pathLst>
                <a:path w="839" h="844">
                  <a:moveTo>
                    <a:pt x="13" y="0"/>
                  </a:moveTo>
                  <a:lnTo>
                    <a:pt x="839" y="828"/>
                  </a:lnTo>
                  <a:lnTo>
                    <a:pt x="834" y="830"/>
                  </a:lnTo>
                  <a:lnTo>
                    <a:pt x="830" y="832"/>
                  </a:lnTo>
                  <a:lnTo>
                    <a:pt x="825" y="834"/>
                  </a:lnTo>
                  <a:lnTo>
                    <a:pt x="820" y="836"/>
                  </a:lnTo>
                  <a:lnTo>
                    <a:pt x="815" y="838"/>
                  </a:lnTo>
                  <a:lnTo>
                    <a:pt x="811" y="840"/>
                  </a:lnTo>
                  <a:lnTo>
                    <a:pt x="806" y="842"/>
                  </a:lnTo>
                  <a:lnTo>
                    <a:pt x="802" y="844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7" y="20"/>
                  </a:lnTo>
                  <a:lnTo>
                    <a:pt x="8" y="15"/>
                  </a:lnTo>
                  <a:lnTo>
                    <a:pt x="10" y="10"/>
                  </a:lnTo>
                  <a:lnTo>
                    <a:pt x="11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65240" y="4463280"/>
              <a:ext cx="349200" cy="349200"/>
            </a:xfrm>
            <a:custGeom>
              <a:avLst/>
              <a:gdLst/>
              <a:ahLst/>
              <a:rect l="l" t="t" r="r" b="b"/>
              <a:pathLst>
                <a:path w="827" h="831">
                  <a:moveTo>
                    <a:pt x="14" y="0"/>
                  </a:moveTo>
                  <a:lnTo>
                    <a:pt x="827" y="816"/>
                  </a:lnTo>
                  <a:lnTo>
                    <a:pt x="822" y="818"/>
                  </a:lnTo>
                  <a:lnTo>
                    <a:pt x="817" y="820"/>
                  </a:lnTo>
                  <a:lnTo>
                    <a:pt x="813" y="822"/>
                  </a:lnTo>
                  <a:lnTo>
                    <a:pt x="809" y="824"/>
                  </a:lnTo>
                  <a:lnTo>
                    <a:pt x="803" y="826"/>
                  </a:lnTo>
                  <a:lnTo>
                    <a:pt x="799" y="827"/>
                  </a:lnTo>
                  <a:lnTo>
                    <a:pt x="794" y="829"/>
                  </a:lnTo>
                  <a:lnTo>
                    <a:pt x="790" y="831"/>
                  </a:lnTo>
                  <a:lnTo>
                    <a:pt x="0" y="41"/>
                  </a:lnTo>
                  <a:lnTo>
                    <a:pt x="3" y="36"/>
                  </a:lnTo>
                  <a:lnTo>
                    <a:pt x="4" y="31"/>
                  </a:lnTo>
                  <a:lnTo>
                    <a:pt x="6" y="26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63440" y="4471920"/>
              <a:ext cx="343080" cy="344880"/>
            </a:xfrm>
            <a:custGeom>
              <a:avLst/>
              <a:gdLst/>
              <a:ahLst/>
              <a:rect l="l" t="t" r="r" b="b"/>
              <a:pathLst>
                <a:path w="815" h="820">
                  <a:moveTo>
                    <a:pt x="13" y="0"/>
                  </a:moveTo>
                  <a:lnTo>
                    <a:pt x="815" y="804"/>
                  </a:lnTo>
                  <a:lnTo>
                    <a:pt x="809" y="806"/>
                  </a:lnTo>
                  <a:lnTo>
                    <a:pt x="805" y="807"/>
                  </a:lnTo>
                  <a:lnTo>
                    <a:pt x="800" y="809"/>
                  </a:lnTo>
                  <a:lnTo>
                    <a:pt x="796" y="811"/>
                  </a:lnTo>
                  <a:lnTo>
                    <a:pt x="790" y="814"/>
                  </a:lnTo>
                  <a:lnTo>
                    <a:pt x="786" y="816"/>
                  </a:lnTo>
                  <a:lnTo>
                    <a:pt x="781" y="818"/>
                  </a:lnTo>
                  <a:lnTo>
                    <a:pt x="777" y="820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4" y="26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60920" y="4480200"/>
              <a:ext cx="336960" cy="338760"/>
            </a:xfrm>
            <a:custGeom>
              <a:avLst/>
              <a:gdLst/>
              <a:ahLst/>
              <a:rect l="l" t="t" r="r" b="b"/>
              <a:pathLst>
                <a:path w="802" h="807">
                  <a:moveTo>
                    <a:pt x="12" y="0"/>
                  </a:moveTo>
                  <a:lnTo>
                    <a:pt x="802" y="790"/>
                  </a:lnTo>
                  <a:lnTo>
                    <a:pt x="796" y="793"/>
                  </a:lnTo>
                  <a:lnTo>
                    <a:pt x="792" y="795"/>
                  </a:lnTo>
                  <a:lnTo>
                    <a:pt x="787" y="797"/>
                  </a:lnTo>
                  <a:lnTo>
                    <a:pt x="783" y="799"/>
                  </a:lnTo>
                  <a:lnTo>
                    <a:pt x="779" y="801"/>
                  </a:lnTo>
                  <a:lnTo>
                    <a:pt x="773" y="803"/>
                  </a:lnTo>
                  <a:lnTo>
                    <a:pt x="769" y="805"/>
                  </a:lnTo>
                  <a:lnTo>
                    <a:pt x="764" y="807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7" y="15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57320" y="4488480"/>
              <a:ext cx="331920" cy="334440"/>
            </a:xfrm>
            <a:custGeom>
              <a:avLst/>
              <a:gdLst/>
              <a:ahLst/>
              <a:rect l="l" t="t" r="r" b="b"/>
              <a:pathLst>
                <a:path w="790" h="797">
                  <a:moveTo>
                    <a:pt x="13" y="0"/>
                  </a:moveTo>
                  <a:lnTo>
                    <a:pt x="790" y="779"/>
                  </a:lnTo>
                  <a:lnTo>
                    <a:pt x="786" y="781"/>
                  </a:lnTo>
                  <a:lnTo>
                    <a:pt x="780" y="783"/>
                  </a:lnTo>
                  <a:lnTo>
                    <a:pt x="776" y="785"/>
                  </a:lnTo>
                  <a:lnTo>
                    <a:pt x="772" y="787"/>
                  </a:lnTo>
                  <a:lnTo>
                    <a:pt x="767" y="789"/>
                  </a:lnTo>
                  <a:lnTo>
                    <a:pt x="763" y="791"/>
                  </a:lnTo>
                  <a:lnTo>
                    <a:pt x="757" y="795"/>
                  </a:lnTo>
                  <a:lnTo>
                    <a:pt x="753" y="797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4800" y="4497120"/>
              <a:ext cx="328320" cy="330120"/>
            </a:xfrm>
            <a:custGeom>
              <a:avLst/>
              <a:gdLst/>
              <a:ahLst/>
              <a:rect l="l" t="t" r="r" b="b"/>
              <a:pathLst>
                <a:path w="778" h="785">
                  <a:moveTo>
                    <a:pt x="14" y="0"/>
                  </a:moveTo>
                  <a:lnTo>
                    <a:pt x="778" y="767"/>
                  </a:lnTo>
                  <a:lnTo>
                    <a:pt x="774" y="769"/>
                  </a:lnTo>
                  <a:lnTo>
                    <a:pt x="770" y="771"/>
                  </a:lnTo>
                  <a:lnTo>
                    <a:pt x="764" y="774"/>
                  </a:lnTo>
                  <a:lnTo>
                    <a:pt x="760" y="777"/>
                  </a:lnTo>
                  <a:lnTo>
                    <a:pt x="756" y="779"/>
                  </a:lnTo>
                  <a:lnTo>
                    <a:pt x="752" y="781"/>
                  </a:lnTo>
                  <a:lnTo>
                    <a:pt x="747" y="783"/>
                  </a:lnTo>
                  <a:lnTo>
                    <a:pt x="742" y="785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53000" y="4505400"/>
              <a:ext cx="321480" cy="326160"/>
            </a:xfrm>
            <a:custGeom>
              <a:avLst/>
              <a:gdLst/>
              <a:ahLst/>
              <a:rect l="l" t="t" r="r" b="b"/>
              <a:pathLst>
                <a:path w="766" h="774">
                  <a:moveTo>
                    <a:pt x="13" y="0"/>
                  </a:moveTo>
                  <a:lnTo>
                    <a:pt x="766" y="756"/>
                  </a:lnTo>
                  <a:lnTo>
                    <a:pt x="762" y="758"/>
                  </a:lnTo>
                  <a:lnTo>
                    <a:pt x="758" y="760"/>
                  </a:lnTo>
                  <a:lnTo>
                    <a:pt x="753" y="762"/>
                  </a:lnTo>
                  <a:lnTo>
                    <a:pt x="748" y="764"/>
                  </a:lnTo>
                  <a:lnTo>
                    <a:pt x="744" y="766"/>
                  </a:lnTo>
                  <a:lnTo>
                    <a:pt x="739" y="768"/>
                  </a:lnTo>
                  <a:lnTo>
                    <a:pt x="735" y="770"/>
                  </a:lnTo>
                  <a:lnTo>
                    <a:pt x="731" y="774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9" y="11"/>
                  </a:lnTo>
                  <a:lnTo>
                    <a:pt x="11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50480" y="4514040"/>
              <a:ext cx="315720" cy="319680"/>
            </a:xfrm>
            <a:custGeom>
              <a:avLst/>
              <a:gdLst/>
              <a:ahLst/>
              <a:rect l="l" t="t" r="r" b="b"/>
              <a:pathLst>
                <a:path w="754" h="762">
                  <a:moveTo>
                    <a:pt x="12" y="0"/>
                  </a:moveTo>
                  <a:lnTo>
                    <a:pt x="754" y="744"/>
                  </a:lnTo>
                  <a:lnTo>
                    <a:pt x="750" y="746"/>
                  </a:lnTo>
                  <a:lnTo>
                    <a:pt x="745" y="748"/>
                  </a:lnTo>
                  <a:lnTo>
                    <a:pt x="741" y="750"/>
                  </a:lnTo>
                  <a:lnTo>
                    <a:pt x="737" y="753"/>
                  </a:lnTo>
                  <a:lnTo>
                    <a:pt x="732" y="756"/>
                  </a:lnTo>
                  <a:lnTo>
                    <a:pt x="727" y="758"/>
                  </a:lnTo>
                  <a:lnTo>
                    <a:pt x="723" y="760"/>
                  </a:lnTo>
                  <a:lnTo>
                    <a:pt x="719" y="762"/>
                  </a:lnTo>
                  <a:lnTo>
                    <a:pt x="0" y="41"/>
                  </a:lnTo>
                  <a:lnTo>
                    <a:pt x="2" y="37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9" y="11"/>
                  </a:lnTo>
                  <a:lnTo>
                    <a:pt x="11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46520" y="4522680"/>
              <a:ext cx="313560" cy="315360"/>
            </a:xfrm>
            <a:custGeom>
              <a:avLst/>
              <a:gdLst/>
              <a:ahLst/>
              <a:rect l="l" t="t" r="r" b="b"/>
              <a:pathLst>
                <a:path w="744" h="750">
                  <a:moveTo>
                    <a:pt x="13" y="0"/>
                  </a:moveTo>
                  <a:lnTo>
                    <a:pt x="744" y="733"/>
                  </a:lnTo>
                  <a:lnTo>
                    <a:pt x="739" y="735"/>
                  </a:lnTo>
                  <a:lnTo>
                    <a:pt x="735" y="737"/>
                  </a:lnTo>
                  <a:lnTo>
                    <a:pt x="730" y="739"/>
                  </a:lnTo>
                  <a:lnTo>
                    <a:pt x="726" y="741"/>
                  </a:lnTo>
                  <a:lnTo>
                    <a:pt x="722" y="743"/>
                  </a:lnTo>
                  <a:lnTo>
                    <a:pt x="717" y="746"/>
                  </a:lnTo>
                  <a:lnTo>
                    <a:pt x="713" y="748"/>
                  </a:lnTo>
                  <a:lnTo>
                    <a:pt x="708" y="750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6" y="26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44360" y="4530600"/>
              <a:ext cx="307080" cy="311400"/>
            </a:xfrm>
            <a:custGeom>
              <a:avLst/>
              <a:gdLst/>
              <a:ahLst/>
              <a:rect l="l" t="t" r="r" b="b"/>
              <a:pathLst>
                <a:path w="731" h="740">
                  <a:moveTo>
                    <a:pt x="12" y="0"/>
                  </a:moveTo>
                  <a:lnTo>
                    <a:pt x="731" y="721"/>
                  </a:lnTo>
                  <a:lnTo>
                    <a:pt x="727" y="723"/>
                  </a:lnTo>
                  <a:lnTo>
                    <a:pt x="722" y="726"/>
                  </a:lnTo>
                  <a:lnTo>
                    <a:pt x="718" y="728"/>
                  </a:lnTo>
                  <a:lnTo>
                    <a:pt x="713" y="730"/>
                  </a:lnTo>
                  <a:lnTo>
                    <a:pt x="709" y="733"/>
                  </a:lnTo>
                  <a:lnTo>
                    <a:pt x="704" y="736"/>
                  </a:lnTo>
                  <a:lnTo>
                    <a:pt x="700" y="738"/>
                  </a:lnTo>
                  <a:lnTo>
                    <a:pt x="696" y="740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9" y="11"/>
                  </a:lnTo>
                  <a:lnTo>
                    <a:pt x="11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2560" y="4539240"/>
              <a:ext cx="303120" cy="307080"/>
            </a:xfrm>
            <a:custGeom>
              <a:avLst/>
              <a:gdLst/>
              <a:ahLst/>
              <a:rect l="l" t="t" r="r" b="b"/>
              <a:pathLst>
                <a:path w="719" h="728">
                  <a:moveTo>
                    <a:pt x="11" y="0"/>
                  </a:moveTo>
                  <a:lnTo>
                    <a:pt x="719" y="709"/>
                  </a:lnTo>
                  <a:lnTo>
                    <a:pt x="715" y="712"/>
                  </a:lnTo>
                  <a:lnTo>
                    <a:pt x="710" y="715"/>
                  </a:lnTo>
                  <a:lnTo>
                    <a:pt x="706" y="717"/>
                  </a:lnTo>
                  <a:lnTo>
                    <a:pt x="702" y="719"/>
                  </a:lnTo>
                  <a:lnTo>
                    <a:pt x="698" y="721"/>
                  </a:lnTo>
                  <a:lnTo>
                    <a:pt x="694" y="724"/>
                  </a:lnTo>
                  <a:lnTo>
                    <a:pt x="688" y="726"/>
                  </a:lnTo>
                  <a:lnTo>
                    <a:pt x="684" y="728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0040" y="4549680"/>
              <a:ext cx="296640" cy="300600"/>
            </a:xfrm>
            <a:custGeom>
              <a:avLst/>
              <a:gdLst/>
              <a:ahLst/>
              <a:rect l="l" t="t" r="r" b="b"/>
              <a:pathLst>
                <a:path w="708" h="718">
                  <a:moveTo>
                    <a:pt x="12" y="0"/>
                  </a:moveTo>
                  <a:lnTo>
                    <a:pt x="708" y="698"/>
                  </a:lnTo>
                  <a:lnTo>
                    <a:pt x="704" y="700"/>
                  </a:lnTo>
                  <a:lnTo>
                    <a:pt x="700" y="703"/>
                  </a:lnTo>
                  <a:lnTo>
                    <a:pt x="694" y="705"/>
                  </a:lnTo>
                  <a:lnTo>
                    <a:pt x="690" y="707"/>
                  </a:lnTo>
                  <a:lnTo>
                    <a:pt x="686" y="711"/>
                  </a:lnTo>
                  <a:lnTo>
                    <a:pt x="682" y="713"/>
                  </a:lnTo>
                  <a:lnTo>
                    <a:pt x="678" y="715"/>
                  </a:lnTo>
                  <a:lnTo>
                    <a:pt x="674" y="718"/>
                  </a:lnTo>
                  <a:lnTo>
                    <a:pt x="0" y="41"/>
                  </a:lnTo>
                  <a:lnTo>
                    <a:pt x="1" y="37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9" y="11"/>
                  </a:lnTo>
                  <a:lnTo>
                    <a:pt x="1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35720" y="4558320"/>
              <a:ext cx="294840" cy="296280"/>
            </a:xfrm>
            <a:custGeom>
              <a:avLst/>
              <a:gdLst/>
              <a:ahLst/>
              <a:rect l="l" t="t" r="r" b="b"/>
              <a:pathLst>
                <a:path w="697" h="706">
                  <a:moveTo>
                    <a:pt x="13" y="0"/>
                  </a:moveTo>
                  <a:lnTo>
                    <a:pt x="697" y="686"/>
                  </a:lnTo>
                  <a:lnTo>
                    <a:pt x="693" y="690"/>
                  </a:lnTo>
                  <a:lnTo>
                    <a:pt x="689" y="692"/>
                  </a:lnTo>
                  <a:lnTo>
                    <a:pt x="685" y="694"/>
                  </a:lnTo>
                  <a:lnTo>
                    <a:pt x="681" y="697"/>
                  </a:lnTo>
                  <a:lnTo>
                    <a:pt x="676" y="699"/>
                  </a:lnTo>
                  <a:lnTo>
                    <a:pt x="672" y="701"/>
                  </a:lnTo>
                  <a:lnTo>
                    <a:pt x="668" y="704"/>
                  </a:lnTo>
                  <a:lnTo>
                    <a:pt x="664" y="706"/>
                  </a:lnTo>
                  <a:lnTo>
                    <a:pt x="0" y="41"/>
                  </a:lnTo>
                  <a:lnTo>
                    <a:pt x="2" y="37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7" y="21"/>
                  </a:lnTo>
                  <a:lnTo>
                    <a:pt x="8" y="16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33920" y="4566600"/>
              <a:ext cx="290520" cy="292320"/>
            </a:xfrm>
            <a:custGeom>
              <a:avLst/>
              <a:gdLst/>
              <a:ahLst/>
              <a:rect l="l" t="t" r="r" b="b"/>
              <a:pathLst>
                <a:path w="686" h="697">
                  <a:moveTo>
                    <a:pt x="12" y="0"/>
                  </a:moveTo>
                  <a:lnTo>
                    <a:pt x="686" y="677"/>
                  </a:lnTo>
                  <a:lnTo>
                    <a:pt x="681" y="679"/>
                  </a:lnTo>
                  <a:lnTo>
                    <a:pt x="677" y="681"/>
                  </a:lnTo>
                  <a:lnTo>
                    <a:pt x="673" y="684"/>
                  </a:lnTo>
                  <a:lnTo>
                    <a:pt x="669" y="686"/>
                  </a:lnTo>
                  <a:lnTo>
                    <a:pt x="665" y="689"/>
                  </a:lnTo>
                  <a:lnTo>
                    <a:pt x="660" y="692"/>
                  </a:lnTo>
                  <a:lnTo>
                    <a:pt x="656" y="694"/>
                  </a:lnTo>
                  <a:lnTo>
                    <a:pt x="652" y="697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1760" y="4574880"/>
              <a:ext cx="284040" cy="288000"/>
            </a:xfrm>
            <a:custGeom>
              <a:avLst/>
              <a:gdLst/>
              <a:ahLst/>
              <a:rect l="l" t="t" r="r" b="b"/>
              <a:pathLst>
                <a:path w="675" h="686">
                  <a:moveTo>
                    <a:pt x="11" y="0"/>
                  </a:moveTo>
                  <a:lnTo>
                    <a:pt x="675" y="665"/>
                  </a:lnTo>
                  <a:lnTo>
                    <a:pt x="671" y="668"/>
                  </a:lnTo>
                  <a:lnTo>
                    <a:pt x="666" y="671"/>
                  </a:lnTo>
                  <a:lnTo>
                    <a:pt x="662" y="673"/>
                  </a:lnTo>
                  <a:lnTo>
                    <a:pt x="658" y="676"/>
                  </a:lnTo>
                  <a:lnTo>
                    <a:pt x="654" y="678"/>
                  </a:lnTo>
                  <a:lnTo>
                    <a:pt x="650" y="681"/>
                  </a:lnTo>
                  <a:lnTo>
                    <a:pt x="645" y="683"/>
                  </a:lnTo>
                  <a:lnTo>
                    <a:pt x="641" y="686"/>
                  </a:lnTo>
                  <a:lnTo>
                    <a:pt x="0" y="42"/>
                  </a:lnTo>
                  <a:lnTo>
                    <a:pt x="2" y="37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9" y="11"/>
                  </a:lnTo>
                  <a:lnTo>
                    <a:pt x="1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29600" y="4583160"/>
              <a:ext cx="280080" cy="284400"/>
            </a:xfrm>
            <a:custGeom>
              <a:avLst/>
              <a:gdLst/>
              <a:ahLst/>
              <a:rect l="l" t="t" r="r" b="b"/>
              <a:pathLst>
                <a:path w="664" h="676">
                  <a:moveTo>
                    <a:pt x="12" y="0"/>
                  </a:moveTo>
                  <a:lnTo>
                    <a:pt x="664" y="655"/>
                  </a:lnTo>
                  <a:lnTo>
                    <a:pt x="660" y="657"/>
                  </a:lnTo>
                  <a:lnTo>
                    <a:pt x="656" y="660"/>
                  </a:lnTo>
                  <a:lnTo>
                    <a:pt x="651" y="662"/>
                  </a:lnTo>
                  <a:lnTo>
                    <a:pt x="647" y="665"/>
                  </a:lnTo>
                  <a:lnTo>
                    <a:pt x="643" y="667"/>
                  </a:lnTo>
                  <a:lnTo>
                    <a:pt x="639" y="671"/>
                  </a:lnTo>
                  <a:lnTo>
                    <a:pt x="636" y="673"/>
                  </a:lnTo>
                  <a:lnTo>
                    <a:pt x="631" y="676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5" y="28"/>
                  </a:lnTo>
                  <a:lnTo>
                    <a:pt x="6" y="22"/>
                  </a:lnTo>
                  <a:lnTo>
                    <a:pt x="8" y="17"/>
                  </a:lnTo>
                  <a:lnTo>
                    <a:pt x="9" y="12"/>
                  </a:lnTo>
                  <a:lnTo>
                    <a:pt x="10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27440" y="4591800"/>
              <a:ext cx="273240" cy="280080"/>
            </a:xfrm>
            <a:custGeom>
              <a:avLst/>
              <a:gdLst/>
              <a:ahLst/>
              <a:rect l="l" t="t" r="r" b="b"/>
              <a:pathLst>
                <a:path w="653" h="665">
                  <a:moveTo>
                    <a:pt x="12" y="0"/>
                  </a:moveTo>
                  <a:lnTo>
                    <a:pt x="653" y="644"/>
                  </a:lnTo>
                  <a:lnTo>
                    <a:pt x="649" y="646"/>
                  </a:lnTo>
                  <a:lnTo>
                    <a:pt x="645" y="649"/>
                  </a:lnTo>
                  <a:lnTo>
                    <a:pt x="641" y="652"/>
                  </a:lnTo>
                  <a:lnTo>
                    <a:pt x="637" y="654"/>
                  </a:lnTo>
                  <a:lnTo>
                    <a:pt x="633" y="657"/>
                  </a:lnTo>
                  <a:lnTo>
                    <a:pt x="629" y="659"/>
                  </a:lnTo>
                  <a:lnTo>
                    <a:pt x="625" y="662"/>
                  </a:lnTo>
                  <a:lnTo>
                    <a:pt x="621" y="665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6" y="22"/>
                  </a:lnTo>
                  <a:lnTo>
                    <a:pt x="8" y="17"/>
                  </a:lnTo>
                  <a:lnTo>
                    <a:pt x="9" y="12"/>
                  </a:lnTo>
                  <a:lnTo>
                    <a:pt x="11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25280" y="4602240"/>
              <a:ext cx="269640" cy="275760"/>
            </a:xfrm>
            <a:custGeom>
              <a:avLst/>
              <a:gdLst/>
              <a:ahLst/>
              <a:rect l="l" t="t" r="r" b="b"/>
              <a:pathLst>
                <a:path w="642" h="654">
                  <a:moveTo>
                    <a:pt x="11" y="0"/>
                  </a:moveTo>
                  <a:lnTo>
                    <a:pt x="642" y="633"/>
                  </a:lnTo>
                  <a:lnTo>
                    <a:pt x="638" y="635"/>
                  </a:lnTo>
                  <a:lnTo>
                    <a:pt x="634" y="638"/>
                  </a:lnTo>
                  <a:lnTo>
                    <a:pt x="630" y="640"/>
                  </a:lnTo>
                  <a:lnTo>
                    <a:pt x="626" y="643"/>
                  </a:lnTo>
                  <a:lnTo>
                    <a:pt x="622" y="645"/>
                  </a:lnTo>
                  <a:lnTo>
                    <a:pt x="617" y="649"/>
                  </a:lnTo>
                  <a:lnTo>
                    <a:pt x="614" y="651"/>
                  </a:lnTo>
                  <a:lnTo>
                    <a:pt x="610" y="654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23120" y="4610880"/>
              <a:ext cx="265320" cy="271440"/>
            </a:xfrm>
            <a:custGeom>
              <a:avLst/>
              <a:gdLst/>
              <a:ahLst/>
              <a:rect l="l" t="t" r="r" b="b"/>
              <a:pathLst>
                <a:path w="631" h="643">
                  <a:moveTo>
                    <a:pt x="10" y="0"/>
                  </a:moveTo>
                  <a:lnTo>
                    <a:pt x="631" y="622"/>
                  </a:lnTo>
                  <a:lnTo>
                    <a:pt x="627" y="624"/>
                  </a:lnTo>
                  <a:lnTo>
                    <a:pt x="622" y="628"/>
                  </a:lnTo>
                  <a:lnTo>
                    <a:pt x="619" y="630"/>
                  </a:lnTo>
                  <a:lnTo>
                    <a:pt x="615" y="633"/>
                  </a:lnTo>
                  <a:lnTo>
                    <a:pt x="611" y="635"/>
                  </a:lnTo>
                  <a:lnTo>
                    <a:pt x="607" y="638"/>
                  </a:lnTo>
                  <a:lnTo>
                    <a:pt x="602" y="641"/>
                  </a:lnTo>
                  <a:lnTo>
                    <a:pt x="599" y="643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21320" y="4618800"/>
              <a:ext cx="260640" cy="267120"/>
            </a:xfrm>
            <a:custGeom>
              <a:avLst/>
              <a:gdLst/>
              <a:ahLst/>
              <a:rect l="l" t="t" r="r" b="b"/>
              <a:pathLst>
                <a:path w="621" h="634">
                  <a:moveTo>
                    <a:pt x="11" y="0"/>
                  </a:moveTo>
                  <a:lnTo>
                    <a:pt x="621" y="612"/>
                  </a:lnTo>
                  <a:lnTo>
                    <a:pt x="617" y="614"/>
                  </a:lnTo>
                  <a:lnTo>
                    <a:pt x="613" y="617"/>
                  </a:lnTo>
                  <a:lnTo>
                    <a:pt x="608" y="620"/>
                  </a:lnTo>
                  <a:lnTo>
                    <a:pt x="605" y="622"/>
                  </a:lnTo>
                  <a:lnTo>
                    <a:pt x="601" y="626"/>
                  </a:lnTo>
                  <a:lnTo>
                    <a:pt x="597" y="628"/>
                  </a:lnTo>
                  <a:lnTo>
                    <a:pt x="593" y="631"/>
                  </a:lnTo>
                  <a:lnTo>
                    <a:pt x="589" y="634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17000" y="4627440"/>
              <a:ext cx="258480" cy="262800"/>
            </a:xfrm>
            <a:custGeom>
              <a:avLst/>
              <a:gdLst/>
              <a:ahLst/>
              <a:rect l="l" t="t" r="r" b="b"/>
              <a:pathLst>
                <a:path w="611" h="623">
                  <a:moveTo>
                    <a:pt x="12" y="0"/>
                  </a:moveTo>
                  <a:lnTo>
                    <a:pt x="611" y="601"/>
                  </a:lnTo>
                  <a:lnTo>
                    <a:pt x="607" y="605"/>
                  </a:lnTo>
                  <a:lnTo>
                    <a:pt x="603" y="607"/>
                  </a:lnTo>
                  <a:lnTo>
                    <a:pt x="599" y="610"/>
                  </a:lnTo>
                  <a:lnTo>
                    <a:pt x="595" y="613"/>
                  </a:lnTo>
                  <a:lnTo>
                    <a:pt x="591" y="615"/>
                  </a:lnTo>
                  <a:lnTo>
                    <a:pt x="587" y="618"/>
                  </a:lnTo>
                  <a:lnTo>
                    <a:pt x="583" y="621"/>
                  </a:lnTo>
                  <a:lnTo>
                    <a:pt x="579" y="623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5" y="22"/>
                  </a:lnTo>
                  <a:lnTo>
                    <a:pt x="8" y="17"/>
                  </a:lnTo>
                  <a:lnTo>
                    <a:pt x="9" y="12"/>
                  </a:lnTo>
                  <a:lnTo>
                    <a:pt x="1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14840" y="4637880"/>
              <a:ext cx="252720" cy="256680"/>
            </a:xfrm>
            <a:custGeom>
              <a:avLst/>
              <a:gdLst/>
              <a:ahLst/>
              <a:rect l="l" t="t" r="r" b="b"/>
              <a:pathLst>
                <a:path w="600" h="613">
                  <a:moveTo>
                    <a:pt x="11" y="0"/>
                  </a:moveTo>
                  <a:lnTo>
                    <a:pt x="600" y="591"/>
                  </a:lnTo>
                  <a:lnTo>
                    <a:pt x="596" y="593"/>
                  </a:lnTo>
                  <a:lnTo>
                    <a:pt x="592" y="596"/>
                  </a:lnTo>
                  <a:lnTo>
                    <a:pt x="588" y="599"/>
                  </a:lnTo>
                  <a:lnTo>
                    <a:pt x="585" y="601"/>
                  </a:lnTo>
                  <a:lnTo>
                    <a:pt x="581" y="605"/>
                  </a:lnTo>
                  <a:lnTo>
                    <a:pt x="576" y="608"/>
                  </a:lnTo>
                  <a:lnTo>
                    <a:pt x="572" y="610"/>
                  </a:lnTo>
                  <a:lnTo>
                    <a:pt x="569" y="613"/>
                  </a:lnTo>
                  <a:lnTo>
                    <a:pt x="0" y="44"/>
                  </a:lnTo>
                  <a:lnTo>
                    <a:pt x="2" y="38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12680" y="4646520"/>
              <a:ext cx="248040" cy="254160"/>
            </a:xfrm>
            <a:custGeom>
              <a:avLst/>
              <a:gdLst/>
              <a:ahLst/>
              <a:rect l="l" t="t" r="r" b="b"/>
              <a:pathLst>
                <a:path w="589" h="604">
                  <a:moveTo>
                    <a:pt x="10" y="0"/>
                  </a:moveTo>
                  <a:lnTo>
                    <a:pt x="589" y="580"/>
                  </a:lnTo>
                  <a:lnTo>
                    <a:pt x="586" y="584"/>
                  </a:lnTo>
                  <a:lnTo>
                    <a:pt x="581" y="587"/>
                  </a:lnTo>
                  <a:lnTo>
                    <a:pt x="577" y="589"/>
                  </a:lnTo>
                  <a:lnTo>
                    <a:pt x="574" y="592"/>
                  </a:lnTo>
                  <a:lnTo>
                    <a:pt x="570" y="595"/>
                  </a:lnTo>
                  <a:lnTo>
                    <a:pt x="566" y="598"/>
                  </a:lnTo>
                  <a:lnTo>
                    <a:pt x="563" y="600"/>
                  </a:lnTo>
                  <a:lnTo>
                    <a:pt x="558" y="604"/>
                  </a:lnTo>
                  <a:lnTo>
                    <a:pt x="0" y="44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5" y="23"/>
                  </a:lnTo>
                  <a:lnTo>
                    <a:pt x="7" y="17"/>
                  </a:lnTo>
                  <a:lnTo>
                    <a:pt x="8" y="12"/>
                  </a:lnTo>
                  <a:lnTo>
                    <a:pt x="9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10880" y="4656960"/>
              <a:ext cx="243720" cy="248040"/>
            </a:xfrm>
            <a:custGeom>
              <a:avLst/>
              <a:gdLst/>
              <a:ahLst/>
              <a:rect l="l" t="t" r="r" b="b"/>
              <a:pathLst>
                <a:path w="580" h="592">
                  <a:moveTo>
                    <a:pt x="11" y="0"/>
                  </a:moveTo>
                  <a:lnTo>
                    <a:pt x="580" y="569"/>
                  </a:lnTo>
                  <a:lnTo>
                    <a:pt x="576" y="572"/>
                  </a:lnTo>
                  <a:lnTo>
                    <a:pt x="572" y="575"/>
                  </a:lnTo>
                  <a:lnTo>
                    <a:pt x="569" y="577"/>
                  </a:lnTo>
                  <a:lnTo>
                    <a:pt x="564" y="581"/>
                  </a:lnTo>
                  <a:lnTo>
                    <a:pt x="560" y="584"/>
                  </a:lnTo>
                  <a:lnTo>
                    <a:pt x="557" y="586"/>
                  </a:lnTo>
                  <a:lnTo>
                    <a:pt x="553" y="589"/>
                  </a:lnTo>
                  <a:lnTo>
                    <a:pt x="549" y="592"/>
                  </a:lnTo>
                  <a:lnTo>
                    <a:pt x="0" y="43"/>
                  </a:lnTo>
                  <a:lnTo>
                    <a:pt x="3" y="37"/>
                  </a:lnTo>
                  <a:lnTo>
                    <a:pt x="4" y="32"/>
                  </a:lnTo>
                  <a:lnTo>
                    <a:pt x="5" y="27"/>
                  </a:lnTo>
                  <a:lnTo>
                    <a:pt x="6" y="21"/>
                  </a:lnTo>
                  <a:lnTo>
                    <a:pt x="8" y="15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08360" y="4665240"/>
              <a:ext cx="240120" cy="244080"/>
            </a:xfrm>
            <a:custGeom>
              <a:avLst/>
              <a:gdLst/>
              <a:ahLst/>
              <a:rect l="l" t="t" r="r" b="b"/>
              <a:pathLst>
                <a:path w="568" h="583">
                  <a:moveTo>
                    <a:pt x="10" y="0"/>
                  </a:moveTo>
                  <a:lnTo>
                    <a:pt x="568" y="560"/>
                  </a:lnTo>
                  <a:lnTo>
                    <a:pt x="564" y="563"/>
                  </a:lnTo>
                  <a:lnTo>
                    <a:pt x="561" y="565"/>
                  </a:lnTo>
                  <a:lnTo>
                    <a:pt x="557" y="568"/>
                  </a:lnTo>
                  <a:lnTo>
                    <a:pt x="553" y="571"/>
                  </a:lnTo>
                  <a:lnTo>
                    <a:pt x="550" y="574"/>
                  </a:lnTo>
                  <a:lnTo>
                    <a:pt x="545" y="577"/>
                  </a:lnTo>
                  <a:lnTo>
                    <a:pt x="542" y="580"/>
                  </a:lnTo>
                  <a:lnTo>
                    <a:pt x="538" y="583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06560" y="4673880"/>
              <a:ext cx="235800" cy="241920"/>
            </a:xfrm>
            <a:custGeom>
              <a:avLst/>
              <a:gdLst/>
              <a:ahLst/>
              <a:rect l="l" t="t" r="r" b="b"/>
              <a:pathLst>
                <a:path w="558" h="572">
                  <a:moveTo>
                    <a:pt x="9" y="0"/>
                  </a:moveTo>
                  <a:lnTo>
                    <a:pt x="558" y="549"/>
                  </a:lnTo>
                  <a:lnTo>
                    <a:pt x="555" y="552"/>
                  </a:lnTo>
                  <a:lnTo>
                    <a:pt x="550" y="555"/>
                  </a:lnTo>
                  <a:lnTo>
                    <a:pt x="546" y="558"/>
                  </a:lnTo>
                  <a:lnTo>
                    <a:pt x="543" y="561"/>
                  </a:lnTo>
                  <a:lnTo>
                    <a:pt x="539" y="564"/>
                  </a:lnTo>
                  <a:lnTo>
                    <a:pt x="536" y="567"/>
                  </a:lnTo>
                  <a:lnTo>
                    <a:pt x="531" y="570"/>
                  </a:lnTo>
                  <a:lnTo>
                    <a:pt x="528" y="572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5" y="22"/>
                  </a:lnTo>
                  <a:lnTo>
                    <a:pt x="6" y="16"/>
                  </a:lnTo>
                  <a:lnTo>
                    <a:pt x="7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04040" y="4684320"/>
              <a:ext cx="231480" cy="235440"/>
            </a:xfrm>
            <a:custGeom>
              <a:avLst/>
              <a:gdLst/>
              <a:ahLst/>
              <a:rect l="l" t="t" r="r" b="b"/>
              <a:pathLst>
                <a:path w="548" h="563">
                  <a:moveTo>
                    <a:pt x="10" y="0"/>
                  </a:moveTo>
                  <a:lnTo>
                    <a:pt x="548" y="539"/>
                  </a:lnTo>
                  <a:lnTo>
                    <a:pt x="544" y="542"/>
                  </a:lnTo>
                  <a:lnTo>
                    <a:pt x="541" y="545"/>
                  </a:lnTo>
                  <a:lnTo>
                    <a:pt x="536" y="548"/>
                  </a:lnTo>
                  <a:lnTo>
                    <a:pt x="533" y="550"/>
                  </a:lnTo>
                  <a:lnTo>
                    <a:pt x="529" y="553"/>
                  </a:lnTo>
                  <a:lnTo>
                    <a:pt x="526" y="557"/>
                  </a:lnTo>
                  <a:lnTo>
                    <a:pt x="522" y="560"/>
                  </a:lnTo>
                  <a:lnTo>
                    <a:pt x="518" y="563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5" y="22"/>
                  </a:lnTo>
                  <a:lnTo>
                    <a:pt x="6" y="15"/>
                  </a:lnTo>
                  <a:lnTo>
                    <a:pt x="7" y="10"/>
                  </a:lnTo>
                  <a:lnTo>
                    <a:pt x="8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04040" y="4692960"/>
              <a:ext cx="225000" cy="231120"/>
            </a:xfrm>
            <a:custGeom>
              <a:avLst/>
              <a:gdLst/>
              <a:ahLst/>
              <a:rect l="l" t="t" r="r" b="b"/>
              <a:pathLst>
                <a:path w="537" h="552">
                  <a:moveTo>
                    <a:pt x="9" y="0"/>
                  </a:moveTo>
                  <a:lnTo>
                    <a:pt x="537" y="528"/>
                  </a:lnTo>
                  <a:lnTo>
                    <a:pt x="533" y="531"/>
                  </a:lnTo>
                  <a:lnTo>
                    <a:pt x="530" y="535"/>
                  </a:lnTo>
                  <a:lnTo>
                    <a:pt x="526" y="538"/>
                  </a:lnTo>
                  <a:lnTo>
                    <a:pt x="522" y="541"/>
                  </a:lnTo>
                  <a:lnTo>
                    <a:pt x="518" y="544"/>
                  </a:lnTo>
                  <a:lnTo>
                    <a:pt x="514" y="547"/>
                  </a:lnTo>
                  <a:lnTo>
                    <a:pt x="511" y="549"/>
                  </a:lnTo>
                  <a:lnTo>
                    <a:pt x="507" y="552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4" y="21"/>
                  </a:lnTo>
                  <a:lnTo>
                    <a:pt x="5" y="16"/>
                  </a:lnTo>
                  <a:lnTo>
                    <a:pt x="6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00440" y="4700880"/>
              <a:ext cx="222840" cy="229320"/>
            </a:xfrm>
            <a:custGeom>
              <a:avLst/>
              <a:gdLst/>
              <a:ahLst/>
              <a:rect l="l" t="t" r="r" b="b"/>
              <a:pathLst>
                <a:path w="528" h="543">
                  <a:moveTo>
                    <a:pt x="10" y="0"/>
                  </a:moveTo>
                  <a:lnTo>
                    <a:pt x="528" y="519"/>
                  </a:lnTo>
                  <a:lnTo>
                    <a:pt x="524" y="522"/>
                  </a:lnTo>
                  <a:lnTo>
                    <a:pt x="520" y="525"/>
                  </a:lnTo>
                  <a:lnTo>
                    <a:pt x="517" y="527"/>
                  </a:lnTo>
                  <a:lnTo>
                    <a:pt x="513" y="530"/>
                  </a:lnTo>
                  <a:lnTo>
                    <a:pt x="510" y="534"/>
                  </a:lnTo>
                  <a:lnTo>
                    <a:pt x="506" y="537"/>
                  </a:lnTo>
                  <a:lnTo>
                    <a:pt x="502" y="540"/>
                  </a:lnTo>
                  <a:lnTo>
                    <a:pt x="498" y="543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7" y="16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00440" y="4711320"/>
              <a:ext cx="216720" cy="225000"/>
            </a:xfrm>
            <a:custGeom>
              <a:avLst/>
              <a:gdLst/>
              <a:ahLst/>
              <a:rect l="l" t="t" r="r" b="b"/>
              <a:pathLst>
                <a:path w="517" h="535">
                  <a:moveTo>
                    <a:pt x="10" y="0"/>
                  </a:moveTo>
                  <a:lnTo>
                    <a:pt x="517" y="509"/>
                  </a:lnTo>
                  <a:lnTo>
                    <a:pt x="514" y="513"/>
                  </a:lnTo>
                  <a:lnTo>
                    <a:pt x="510" y="516"/>
                  </a:lnTo>
                  <a:lnTo>
                    <a:pt x="506" y="519"/>
                  </a:lnTo>
                  <a:lnTo>
                    <a:pt x="502" y="522"/>
                  </a:lnTo>
                  <a:lnTo>
                    <a:pt x="499" y="525"/>
                  </a:lnTo>
                  <a:lnTo>
                    <a:pt x="495" y="528"/>
                  </a:lnTo>
                  <a:lnTo>
                    <a:pt x="492" y="531"/>
                  </a:lnTo>
                  <a:lnTo>
                    <a:pt x="489" y="535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6" y="11"/>
                  </a:lnTo>
                  <a:lnTo>
                    <a:pt x="8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7920" y="4719960"/>
              <a:ext cx="212400" cy="220680"/>
            </a:xfrm>
            <a:custGeom>
              <a:avLst/>
              <a:gdLst/>
              <a:ahLst/>
              <a:rect l="l" t="t" r="r" b="b"/>
              <a:pathLst>
                <a:path w="507" h="524">
                  <a:moveTo>
                    <a:pt x="9" y="0"/>
                  </a:moveTo>
                  <a:lnTo>
                    <a:pt x="507" y="500"/>
                  </a:lnTo>
                  <a:lnTo>
                    <a:pt x="504" y="503"/>
                  </a:lnTo>
                  <a:lnTo>
                    <a:pt x="500" y="506"/>
                  </a:lnTo>
                  <a:lnTo>
                    <a:pt x="497" y="509"/>
                  </a:lnTo>
                  <a:lnTo>
                    <a:pt x="494" y="513"/>
                  </a:lnTo>
                  <a:lnTo>
                    <a:pt x="489" y="516"/>
                  </a:lnTo>
                  <a:lnTo>
                    <a:pt x="486" y="519"/>
                  </a:lnTo>
                  <a:lnTo>
                    <a:pt x="482" y="522"/>
                  </a:lnTo>
                  <a:lnTo>
                    <a:pt x="479" y="524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3" y="28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7" y="11"/>
                  </a:lnTo>
                  <a:lnTo>
                    <a:pt x="8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96120" y="4730400"/>
              <a:ext cx="208080" cy="216360"/>
            </a:xfrm>
            <a:custGeom>
              <a:avLst/>
              <a:gdLst/>
              <a:ahLst/>
              <a:rect l="l" t="t" r="r" b="b"/>
              <a:pathLst>
                <a:path w="498" h="515">
                  <a:moveTo>
                    <a:pt x="9" y="0"/>
                  </a:moveTo>
                  <a:lnTo>
                    <a:pt x="498" y="490"/>
                  </a:lnTo>
                  <a:lnTo>
                    <a:pt x="493" y="493"/>
                  </a:lnTo>
                  <a:lnTo>
                    <a:pt x="490" y="496"/>
                  </a:lnTo>
                  <a:lnTo>
                    <a:pt x="486" y="499"/>
                  </a:lnTo>
                  <a:lnTo>
                    <a:pt x="483" y="502"/>
                  </a:lnTo>
                  <a:lnTo>
                    <a:pt x="479" y="505"/>
                  </a:lnTo>
                  <a:lnTo>
                    <a:pt x="476" y="509"/>
                  </a:lnTo>
                  <a:lnTo>
                    <a:pt x="472" y="512"/>
                  </a:lnTo>
                  <a:lnTo>
                    <a:pt x="468" y="515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2" y="33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5" y="17"/>
                  </a:lnTo>
                  <a:lnTo>
                    <a:pt x="6" y="1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93600" y="4739040"/>
              <a:ext cx="204120" cy="212040"/>
            </a:xfrm>
            <a:custGeom>
              <a:avLst/>
              <a:gdLst/>
              <a:ahLst/>
              <a:rect l="l" t="t" r="r" b="b"/>
              <a:pathLst>
                <a:path w="487" h="505">
                  <a:moveTo>
                    <a:pt x="8" y="0"/>
                  </a:moveTo>
                  <a:lnTo>
                    <a:pt x="487" y="479"/>
                  </a:lnTo>
                  <a:lnTo>
                    <a:pt x="483" y="483"/>
                  </a:lnTo>
                  <a:lnTo>
                    <a:pt x="480" y="485"/>
                  </a:lnTo>
                  <a:lnTo>
                    <a:pt x="476" y="489"/>
                  </a:lnTo>
                  <a:lnTo>
                    <a:pt x="472" y="492"/>
                  </a:lnTo>
                  <a:lnTo>
                    <a:pt x="469" y="496"/>
                  </a:lnTo>
                  <a:lnTo>
                    <a:pt x="465" y="499"/>
                  </a:lnTo>
                  <a:lnTo>
                    <a:pt x="462" y="502"/>
                  </a:lnTo>
                  <a:lnTo>
                    <a:pt x="459" y="505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2" y="34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5" y="17"/>
                  </a:lnTo>
                  <a:lnTo>
                    <a:pt x="6" y="12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91800" y="4747320"/>
              <a:ext cx="199800" cy="210240"/>
            </a:xfrm>
            <a:custGeom>
              <a:avLst/>
              <a:gdLst/>
              <a:ahLst/>
              <a:rect l="l" t="t" r="r" b="b"/>
              <a:pathLst>
                <a:path w="478" h="496">
                  <a:moveTo>
                    <a:pt x="10" y="0"/>
                  </a:moveTo>
                  <a:lnTo>
                    <a:pt x="478" y="471"/>
                  </a:lnTo>
                  <a:lnTo>
                    <a:pt x="475" y="474"/>
                  </a:lnTo>
                  <a:lnTo>
                    <a:pt x="471" y="477"/>
                  </a:lnTo>
                  <a:lnTo>
                    <a:pt x="468" y="480"/>
                  </a:lnTo>
                  <a:lnTo>
                    <a:pt x="465" y="483"/>
                  </a:lnTo>
                  <a:lnTo>
                    <a:pt x="460" y="487"/>
                  </a:lnTo>
                  <a:lnTo>
                    <a:pt x="457" y="490"/>
                  </a:lnTo>
                  <a:lnTo>
                    <a:pt x="454" y="493"/>
                  </a:lnTo>
                  <a:lnTo>
                    <a:pt x="450" y="496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6" y="22"/>
                  </a:lnTo>
                  <a:lnTo>
                    <a:pt x="7" y="17"/>
                  </a:lnTo>
                  <a:lnTo>
                    <a:pt x="8" y="12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89280" y="4757760"/>
              <a:ext cx="198000" cy="204120"/>
            </a:xfrm>
            <a:custGeom>
              <a:avLst/>
              <a:gdLst/>
              <a:ahLst/>
              <a:rect l="l" t="t" r="r" b="b"/>
              <a:pathLst>
                <a:path w="469" h="487">
                  <a:moveTo>
                    <a:pt x="10" y="0"/>
                  </a:moveTo>
                  <a:lnTo>
                    <a:pt x="469" y="461"/>
                  </a:lnTo>
                  <a:lnTo>
                    <a:pt x="464" y="465"/>
                  </a:lnTo>
                  <a:lnTo>
                    <a:pt x="461" y="468"/>
                  </a:lnTo>
                  <a:lnTo>
                    <a:pt x="458" y="471"/>
                  </a:lnTo>
                  <a:lnTo>
                    <a:pt x="454" y="474"/>
                  </a:lnTo>
                  <a:lnTo>
                    <a:pt x="451" y="477"/>
                  </a:lnTo>
                  <a:lnTo>
                    <a:pt x="448" y="480"/>
                  </a:lnTo>
                  <a:lnTo>
                    <a:pt x="443" y="483"/>
                  </a:lnTo>
                  <a:lnTo>
                    <a:pt x="440" y="487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5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2"/>
                  </a:lnTo>
                  <a:lnTo>
                    <a:pt x="7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87480" y="4766400"/>
              <a:ext cx="193680" cy="201600"/>
            </a:xfrm>
            <a:custGeom>
              <a:avLst/>
              <a:gdLst/>
              <a:ahLst/>
              <a:rect l="l" t="t" r="r" b="b"/>
              <a:pathLst>
                <a:path w="458" h="476">
                  <a:moveTo>
                    <a:pt x="8" y="0"/>
                  </a:moveTo>
                  <a:lnTo>
                    <a:pt x="458" y="451"/>
                  </a:lnTo>
                  <a:lnTo>
                    <a:pt x="455" y="454"/>
                  </a:lnTo>
                  <a:lnTo>
                    <a:pt x="452" y="457"/>
                  </a:lnTo>
                  <a:lnTo>
                    <a:pt x="447" y="460"/>
                  </a:lnTo>
                  <a:lnTo>
                    <a:pt x="444" y="464"/>
                  </a:lnTo>
                  <a:lnTo>
                    <a:pt x="441" y="467"/>
                  </a:lnTo>
                  <a:lnTo>
                    <a:pt x="437" y="470"/>
                  </a:lnTo>
                  <a:lnTo>
                    <a:pt x="434" y="473"/>
                  </a:lnTo>
                  <a:lnTo>
                    <a:pt x="431" y="476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2"/>
                  </a:lnTo>
                  <a:lnTo>
                    <a:pt x="5" y="17"/>
                  </a:lnTo>
                  <a:lnTo>
                    <a:pt x="6" y="12"/>
                  </a:lnTo>
                  <a:lnTo>
                    <a:pt x="7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85680" y="4776840"/>
              <a:ext cx="189360" cy="195480"/>
            </a:xfrm>
            <a:custGeom>
              <a:avLst/>
              <a:gdLst/>
              <a:ahLst/>
              <a:rect l="l" t="t" r="r" b="b"/>
              <a:pathLst>
                <a:path w="448" h="468">
                  <a:moveTo>
                    <a:pt x="8" y="0"/>
                  </a:moveTo>
                  <a:lnTo>
                    <a:pt x="448" y="442"/>
                  </a:lnTo>
                  <a:lnTo>
                    <a:pt x="445" y="445"/>
                  </a:lnTo>
                  <a:lnTo>
                    <a:pt x="441" y="448"/>
                  </a:lnTo>
                  <a:lnTo>
                    <a:pt x="438" y="451"/>
                  </a:lnTo>
                  <a:lnTo>
                    <a:pt x="435" y="454"/>
                  </a:lnTo>
                  <a:lnTo>
                    <a:pt x="431" y="458"/>
                  </a:lnTo>
                  <a:lnTo>
                    <a:pt x="427" y="462"/>
                  </a:lnTo>
                  <a:lnTo>
                    <a:pt x="424" y="465"/>
                  </a:lnTo>
                  <a:lnTo>
                    <a:pt x="421" y="468"/>
                  </a:lnTo>
                  <a:lnTo>
                    <a:pt x="0" y="47"/>
                  </a:lnTo>
                  <a:lnTo>
                    <a:pt x="1" y="40"/>
                  </a:lnTo>
                  <a:lnTo>
                    <a:pt x="2" y="35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2"/>
                  </a:lnTo>
                  <a:lnTo>
                    <a:pt x="7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85680" y="4785480"/>
              <a:ext cx="182520" cy="192960"/>
            </a:xfrm>
            <a:custGeom>
              <a:avLst/>
              <a:gdLst/>
              <a:ahLst/>
              <a:rect l="l" t="t" r="r" b="b"/>
              <a:pathLst>
                <a:path w="438" h="458">
                  <a:moveTo>
                    <a:pt x="7" y="0"/>
                  </a:moveTo>
                  <a:lnTo>
                    <a:pt x="438" y="431"/>
                  </a:lnTo>
                  <a:lnTo>
                    <a:pt x="434" y="434"/>
                  </a:lnTo>
                  <a:lnTo>
                    <a:pt x="430" y="439"/>
                  </a:lnTo>
                  <a:lnTo>
                    <a:pt x="427" y="442"/>
                  </a:lnTo>
                  <a:lnTo>
                    <a:pt x="424" y="445"/>
                  </a:lnTo>
                  <a:lnTo>
                    <a:pt x="420" y="448"/>
                  </a:lnTo>
                  <a:lnTo>
                    <a:pt x="417" y="451"/>
                  </a:lnTo>
                  <a:lnTo>
                    <a:pt x="414" y="454"/>
                  </a:lnTo>
                  <a:lnTo>
                    <a:pt x="410" y="458"/>
                  </a:lnTo>
                  <a:lnTo>
                    <a:pt x="0" y="46"/>
                  </a:lnTo>
                  <a:lnTo>
                    <a:pt x="1" y="40"/>
                  </a:lnTo>
                  <a:lnTo>
                    <a:pt x="2" y="35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6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83160" y="4795920"/>
              <a:ext cx="180720" cy="189360"/>
            </a:xfrm>
            <a:custGeom>
              <a:avLst/>
              <a:gdLst/>
              <a:ahLst/>
              <a:rect l="l" t="t" r="r" b="b"/>
              <a:pathLst>
                <a:path w="429" h="447">
                  <a:moveTo>
                    <a:pt x="8" y="0"/>
                  </a:moveTo>
                  <a:lnTo>
                    <a:pt x="429" y="421"/>
                  </a:lnTo>
                  <a:lnTo>
                    <a:pt x="425" y="424"/>
                  </a:lnTo>
                  <a:lnTo>
                    <a:pt x="422" y="427"/>
                  </a:lnTo>
                  <a:lnTo>
                    <a:pt x="419" y="430"/>
                  </a:lnTo>
                  <a:lnTo>
                    <a:pt x="415" y="434"/>
                  </a:lnTo>
                  <a:lnTo>
                    <a:pt x="411" y="438"/>
                  </a:lnTo>
                  <a:lnTo>
                    <a:pt x="408" y="441"/>
                  </a:lnTo>
                  <a:lnTo>
                    <a:pt x="405" y="444"/>
                  </a:lnTo>
                  <a:lnTo>
                    <a:pt x="402" y="447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3"/>
                  </a:lnTo>
                  <a:lnTo>
                    <a:pt x="4" y="28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7" y="1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81360" y="4806360"/>
              <a:ext cx="176400" cy="183240"/>
            </a:xfrm>
            <a:custGeom>
              <a:avLst/>
              <a:gdLst/>
              <a:ahLst/>
              <a:rect l="l" t="t" r="r" b="b"/>
              <a:pathLst>
                <a:path w="419" h="439">
                  <a:moveTo>
                    <a:pt x="9" y="0"/>
                  </a:moveTo>
                  <a:lnTo>
                    <a:pt x="419" y="412"/>
                  </a:lnTo>
                  <a:lnTo>
                    <a:pt x="415" y="416"/>
                  </a:lnTo>
                  <a:lnTo>
                    <a:pt x="412" y="419"/>
                  </a:lnTo>
                  <a:lnTo>
                    <a:pt x="409" y="422"/>
                  </a:lnTo>
                  <a:lnTo>
                    <a:pt x="406" y="425"/>
                  </a:lnTo>
                  <a:lnTo>
                    <a:pt x="403" y="428"/>
                  </a:lnTo>
                  <a:lnTo>
                    <a:pt x="398" y="433"/>
                  </a:lnTo>
                  <a:lnTo>
                    <a:pt x="395" y="436"/>
                  </a:lnTo>
                  <a:lnTo>
                    <a:pt x="392" y="439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1"/>
                  </a:lnTo>
                  <a:lnTo>
                    <a:pt x="8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8840" y="4815000"/>
              <a:ext cx="172800" cy="180720"/>
            </a:xfrm>
            <a:custGeom>
              <a:avLst/>
              <a:gdLst/>
              <a:ahLst/>
              <a:rect l="l" t="t" r="r" b="b"/>
              <a:pathLst>
                <a:path w="409" h="429">
                  <a:moveTo>
                    <a:pt x="7" y="0"/>
                  </a:moveTo>
                  <a:lnTo>
                    <a:pt x="409" y="402"/>
                  </a:lnTo>
                  <a:lnTo>
                    <a:pt x="405" y="405"/>
                  </a:lnTo>
                  <a:lnTo>
                    <a:pt x="401" y="410"/>
                  </a:lnTo>
                  <a:lnTo>
                    <a:pt x="398" y="413"/>
                  </a:lnTo>
                  <a:lnTo>
                    <a:pt x="395" y="416"/>
                  </a:lnTo>
                  <a:lnTo>
                    <a:pt x="392" y="419"/>
                  </a:lnTo>
                  <a:lnTo>
                    <a:pt x="388" y="422"/>
                  </a:lnTo>
                  <a:lnTo>
                    <a:pt x="385" y="426"/>
                  </a:lnTo>
                  <a:lnTo>
                    <a:pt x="382" y="429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2" y="34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5" y="11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8840" y="4825440"/>
              <a:ext cx="166320" cy="176400"/>
            </a:xfrm>
            <a:custGeom>
              <a:avLst/>
              <a:gdLst/>
              <a:ahLst/>
              <a:rect l="l" t="t" r="r" b="b"/>
              <a:pathLst>
                <a:path w="399" h="420">
                  <a:moveTo>
                    <a:pt x="7" y="0"/>
                  </a:moveTo>
                  <a:lnTo>
                    <a:pt x="399" y="393"/>
                  </a:lnTo>
                  <a:lnTo>
                    <a:pt x="396" y="396"/>
                  </a:lnTo>
                  <a:lnTo>
                    <a:pt x="393" y="399"/>
                  </a:lnTo>
                  <a:lnTo>
                    <a:pt x="389" y="403"/>
                  </a:lnTo>
                  <a:lnTo>
                    <a:pt x="386" y="406"/>
                  </a:lnTo>
                  <a:lnTo>
                    <a:pt x="382" y="410"/>
                  </a:lnTo>
                  <a:lnTo>
                    <a:pt x="379" y="413"/>
                  </a:lnTo>
                  <a:lnTo>
                    <a:pt x="376" y="416"/>
                  </a:lnTo>
                  <a:lnTo>
                    <a:pt x="373" y="420"/>
                  </a:lnTo>
                  <a:lnTo>
                    <a:pt x="0" y="47"/>
                  </a:lnTo>
                  <a:lnTo>
                    <a:pt x="1" y="41"/>
                  </a:lnTo>
                  <a:lnTo>
                    <a:pt x="2" y="35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1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7040" y="4833720"/>
              <a:ext cx="164160" cy="174600"/>
            </a:xfrm>
            <a:custGeom>
              <a:avLst/>
              <a:gdLst/>
              <a:ahLst/>
              <a:rect l="l" t="t" r="r" b="b"/>
              <a:pathLst>
                <a:path w="389" h="411">
                  <a:moveTo>
                    <a:pt x="7" y="0"/>
                  </a:moveTo>
                  <a:lnTo>
                    <a:pt x="389" y="383"/>
                  </a:lnTo>
                  <a:lnTo>
                    <a:pt x="385" y="387"/>
                  </a:lnTo>
                  <a:lnTo>
                    <a:pt x="382" y="390"/>
                  </a:lnTo>
                  <a:lnTo>
                    <a:pt x="379" y="393"/>
                  </a:lnTo>
                  <a:lnTo>
                    <a:pt x="376" y="397"/>
                  </a:lnTo>
                  <a:lnTo>
                    <a:pt x="372" y="400"/>
                  </a:lnTo>
                  <a:lnTo>
                    <a:pt x="369" y="403"/>
                  </a:lnTo>
                  <a:lnTo>
                    <a:pt x="366" y="407"/>
                  </a:lnTo>
                  <a:lnTo>
                    <a:pt x="362" y="411"/>
                  </a:lnTo>
                  <a:lnTo>
                    <a:pt x="0" y="47"/>
                  </a:lnTo>
                  <a:lnTo>
                    <a:pt x="1" y="41"/>
                  </a:lnTo>
                  <a:lnTo>
                    <a:pt x="2" y="36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18"/>
                  </a:lnTo>
                  <a:lnTo>
                    <a:pt x="5" y="13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5240" y="4844160"/>
              <a:ext cx="159840" cy="168120"/>
            </a:xfrm>
            <a:custGeom>
              <a:avLst/>
              <a:gdLst/>
              <a:ahLst/>
              <a:rect l="l" t="t" r="r" b="b"/>
              <a:pathLst>
                <a:path w="379" h="400">
                  <a:moveTo>
                    <a:pt x="6" y="0"/>
                  </a:moveTo>
                  <a:lnTo>
                    <a:pt x="379" y="373"/>
                  </a:lnTo>
                  <a:lnTo>
                    <a:pt x="375" y="376"/>
                  </a:lnTo>
                  <a:lnTo>
                    <a:pt x="372" y="379"/>
                  </a:lnTo>
                  <a:lnTo>
                    <a:pt x="369" y="383"/>
                  </a:lnTo>
                  <a:lnTo>
                    <a:pt x="365" y="387"/>
                  </a:lnTo>
                  <a:lnTo>
                    <a:pt x="362" y="390"/>
                  </a:lnTo>
                  <a:lnTo>
                    <a:pt x="359" y="393"/>
                  </a:lnTo>
                  <a:lnTo>
                    <a:pt x="356" y="397"/>
                  </a:lnTo>
                  <a:lnTo>
                    <a:pt x="352" y="400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75240" y="4854600"/>
              <a:ext cx="153360" cy="163800"/>
            </a:xfrm>
            <a:custGeom>
              <a:avLst/>
              <a:gdLst/>
              <a:ahLst/>
              <a:rect l="l" t="t" r="r" b="b"/>
              <a:pathLst>
                <a:path w="369" h="391">
                  <a:moveTo>
                    <a:pt x="7" y="0"/>
                  </a:moveTo>
                  <a:lnTo>
                    <a:pt x="369" y="364"/>
                  </a:lnTo>
                  <a:lnTo>
                    <a:pt x="366" y="367"/>
                  </a:lnTo>
                  <a:lnTo>
                    <a:pt x="363" y="370"/>
                  </a:lnTo>
                  <a:lnTo>
                    <a:pt x="360" y="374"/>
                  </a:lnTo>
                  <a:lnTo>
                    <a:pt x="356" y="377"/>
                  </a:lnTo>
                  <a:lnTo>
                    <a:pt x="353" y="381"/>
                  </a:lnTo>
                  <a:lnTo>
                    <a:pt x="349" y="384"/>
                  </a:lnTo>
                  <a:lnTo>
                    <a:pt x="346" y="388"/>
                  </a:lnTo>
                  <a:lnTo>
                    <a:pt x="343" y="391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0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2720" y="4863240"/>
              <a:ext cx="151560" cy="161640"/>
            </a:xfrm>
            <a:custGeom>
              <a:avLst/>
              <a:gdLst/>
              <a:ahLst/>
              <a:rect l="l" t="t" r="r" b="b"/>
              <a:pathLst>
                <a:path w="359" h="382">
                  <a:moveTo>
                    <a:pt x="7" y="0"/>
                  </a:moveTo>
                  <a:lnTo>
                    <a:pt x="359" y="354"/>
                  </a:lnTo>
                  <a:lnTo>
                    <a:pt x="356" y="358"/>
                  </a:lnTo>
                  <a:lnTo>
                    <a:pt x="352" y="361"/>
                  </a:lnTo>
                  <a:lnTo>
                    <a:pt x="349" y="365"/>
                  </a:lnTo>
                  <a:lnTo>
                    <a:pt x="346" y="368"/>
                  </a:lnTo>
                  <a:lnTo>
                    <a:pt x="343" y="371"/>
                  </a:lnTo>
                  <a:lnTo>
                    <a:pt x="340" y="375"/>
                  </a:lnTo>
                  <a:lnTo>
                    <a:pt x="337" y="379"/>
                  </a:lnTo>
                  <a:lnTo>
                    <a:pt x="334" y="382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2" y="30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70920" y="4873680"/>
              <a:ext cx="146880" cy="157680"/>
            </a:xfrm>
            <a:custGeom>
              <a:avLst/>
              <a:gdLst/>
              <a:ahLst/>
              <a:rect l="l" t="t" r="r" b="b"/>
              <a:pathLst>
                <a:path w="349" h="372">
                  <a:moveTo>
                    <a:pt x="6" y="0"/>
                  </a:moveTo>
                  <a:lnTo>
                    <a:pt x="349" y="344"/>
                  </a:lnTo>
                  <a:lnTo>
                    <a:pt x="346" y="347"/>
                  </a:lnTo>
                  <a:lnTo>
                    <a:pt x="343" y="351"/>
                  </a:lnTo>
                  <a:lnTo>
                    <a:pt x="340" y="355"/>
                  </a:lnTo>
                  <a:lnTo>
                    <a:pt x="337" y="358"/>
                  </a:lnTo>
                  <a:lnTo>
                    <a:pt x="333" y="362"/>
                  </a:lnTo>
                  <a:lnTo>
                    <a:pt x="330" y="365"/>
                  </a:lnTo>
                  <a:lnTo>
                    <a:pt x="326" y="368"/>
                  </a:lnTo>
                  <a:lnTo>
                    <a:pt x="323" y="37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3" y="17"/>
                  </a:lnTo>
                  <a:lnTo>
                    <a:pt x="4" y="12"/>
                  </a:lnTo>
                  <a:lnTo>
                    <a:pt x="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70920" y="4884120"/>
              <a:ext cx="142920" cy="151560"/>
            </a:xfrm>
            <a:custGeom>
              <a:avLst/>
              <a:gdLst/>
              <a:ahLst/>
              <a:rect l="l" t="t" r="r" b="b"/>
              <a:pathLst>
                <a:path w="340" h="362">
                  <a:moveTo>
                    <a:pt x="6" y="0"/>
                  </a:moveTo>
                  <a:lnTo>
                    <a:pt x="340" y="334"/>
                  </a:lnTo>
                  <a:lnTo>
                    <a:pt x="336" y="338"/>
                  </a:lnTo>
                  <a:lnTo>
                    <a:pt x="333" y="341"/>
                  </a:lnTo>
                  <a:lnTo>
                    <a:pt x="330" y="344"/>
                  </a:lnTo>
                  <a:lnTo>
                    <a:pt x="327" y="348"/>
                  </a:lnTo>
                  <a:lnTo>
                    <a:pt x="323" y="352"/>
                  </a:lnTo>
                  <a:lnTo>
                    <a:pt x="320" y="355"/>
                  </a:lnTo>
                  <a:lnTo>
                    <a:pt x="317" y="359"/>
                  </a:lnTo>
                  <a:lnTo>
                    <a:pt x="313" y="362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3" y="18"/>
                  </a:lnTo>
                  <a:lnTo>
                    <a:pt x="4" y="11"/>
                  </a:lnTo>
                  <a:lnTo>
                    <a:pt x="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68400" y="4894560"/>
              <a:ext cx="138600" cy="147240"/>
            </a:xfrm>
            <a:custGeom>
              <a:avLst/>
              <a:gdLst/>
              <a:ahLst/>
              <a:rect l="l" t="t" r="r" b="b"/>
              <a:pathLst>
                <a:path w="329" h="353">
                  <a:moveTo>
                    <a:pt x="6" y="0"/>
                  </a:moveTo>
                  <a:lnTo>
                    <a:pt x="329" y="324"/>
                  </a:lnTo>
                  <a:lnTo>
                    <a:pt x="326" y="328"/>
                  </a:lnTo>
                  <a:lnTo>
                    <a:pt x="323" y="331"/>
                  </a:lnTo>
                  <a:lnTo>
                    <a:pt x="320" y="335"/>
                  </a:lnTo>
                  <a:lnTo>
                    <a:pt x="316" y="338"/>
                  </a:lnTo>
                  <a:lnTo>
                    <a:pt x="313" y="341"/>
                  </a:lnTo>
                  <a:lnTo>
                    <a:pt x="310" y="346"/>
                  </a:lnTo>
                  <a:lnTo>
                    <a:pt x="307" y="349"/>
                  </a:lnTo>
                  <a:lnTo>
                    <a:pt x="304" y="353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4" y="11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68400" y="4903200"/>
              <a:ext cx="132480" cy="144720"/>
            </a:xfrm>
            <a:custGeom>
              <a:avLst/>
              <a:gdLst/>
              <a:ahLst/>
              <a:rect l="l" t="t" r="r" b="b"/>
              <a:pathLst>
                <a:path w="319" h="344">
                  <a:moveTo>
                    <a:pt x="6" y="0"/>
                  </a:moveTo>
                  <a:lnTo>
                    <a:pt x="319" y="315"/>
                  </a:lnTo>
                  <a:lnTo>
                    <a:pt x="316" y="318"/>
                  </a:lnTo>
                  <a:lnTo>
                    <a:pt x="313" y="323"/>
                  </a:lnTo>
                  <a:lnTo>
                    <a:pt x="310" y="326"/>
                  </a:lnTo>
                  <a:lnTo>
                    <a:pt x="307" y="330"/>
                  </a:lnTo>
                  <a:lnTo>
                    <a:pt x="304" y="333"/>
                  </a:lnTo>
                  <a:lnTo>
                    <a:pt x="301" y="336"/>
                  </a:lnTo>
                  <a:lnTo>
                    <a:pt x="297" y="340"/>
                  </a:lnTo>
                  <a:lnTo>
                    <a:pt x="294" y="344"/>
                  </a:lnTo>
                  <a:lnTo>
                    <a:pt x="0" y="48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2" y="30"/>
                  </a:lnTo>
                  <a:lnTo>
                    <a:pt x="3" y="24"/>
                  </a:lnTo>
                  <a:lnTo>
                    <a:pt x="3" y="19"/>
                  </a:lnTo>
                  <a:lnTo>
                    <a:pt x="4" y="13"/>
                  </a:lnTo>
                  <a:lnTo>
                    <a:pt x="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66600" y="4914000"/>
              <a:ext cx="130320" cy="140760"/>
            </a:xfrm>
            <a:custGeom>
              <a:avLst/>
              <a:gdLst/>
              <a:ahLst/>
              <a:rect l="l" t="t" r="r" b="b"/>
              <a:pathLst>
                <a:path w="309" h="334">
                  <a:moveTo>
                    <a:pt x="5" y="0"/>
                  </a:moveTo>
                  <a:lnTo>
                    <a:pt x="309" y="306"/>
                  </a:lnTo>
                  <a:lnTo>
                    <a:pt x="306" y="309"/>
                  </a:lnTo>
                  <a:lnTo>
                    <a:pt x="303" y="312"/>
                  </a:lnTo>
                  <a:lnTo>
                    <a:pt x="299" y="316"/>
                  </a:lnTo>
                  <a:lnTo>
                    <a:pt x="296" y="320"/>
                  </a:lnTo>
                  <a:lnTo>
                    <a:pt x="293" y="323"/>
                  </a:lnTo>
                  <a:lnTo>
                    <a:pt x="290" y="327"/>
                  </a:lnTo>
                  <a:lnTo>
                    <a:pt x="287" y="330"/>
                  </a:lnTo>
                  <a:lnTo>
                    <a:pt x="284" y="33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2" y="24"/>
                  </a:lnTo>
                  <a:lnTo>
                    <a:pt x="3" y="18"/>
                  </a:lnTo>
                  <a:lnTo>
                    <a:pt x="4" y="13"/>
                  </a:lnTo>
                  <a:lnTo>
                    <a:pt x="4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64440" y="4924440"/>
              <a:ext cx="126000" cy="136440"/>
            </a:xfrm>
            <a:custGeom>
              <a:avLst/>
              <a:gdLst/>
              <a:ahLst/>
              <a:rect l="l" t="t" r="r" b="b"/>
              <a:pathLst>
                <a:path w="300" h="324">
                  <a:moveTo>
                    <a:pt x="6" y="0"/>
                  </a:moveTo>
                  <a:lnTo>
                    <a:pt x="300" y="296"/>
                  </a:lnTo>
                  <a:lnTo>
                    <a:pt x="297" y="299"/>
                  </a:lnTo>
                  <a:lnTo>
                    <a:pt x="294" y="303"/>
                  </a:lnTo>
                  <a:lnTo>
                    <a:pt x="291" y="306"/>
                  </a:lnTo>
                  <a:lnTo>
                    <a:pt x="288" y="310"/>
                  </a:lnTo>
                  <a:lnTo>
                    <a:pt x="285" y="313"/>
                  </a:lnTo>
                  <a:lnTo>
                    <a:pt x="281" y="318"/>
                  </a:lnTo>
                  <a:lnTo>
                    <a:pt x="278" y="321"/>
                  </a:lnTo>
                  <a:lnTo>
                    <a:pt x="275" y="324"/>
                  </a:lnTo>
                  <a:lnTo>
                    <a:pt x="0" y="49"/>
                  </a:lnTo>
                  <a:lnTo>
                    <a:pt x="2" y="43"/>
                  </a:lnTo>
                  <a:lnTo>
                    <a:pt x="2" y="37"/>
                  </a:lnTo>
                  <a:lnTo>
                    <a:pt x="3" y="31"/>
                  </a:lnTo>
                  <a:lnTo>
                    <a:pt x="4" y="24"/>
                  </a:lnTo>
                  <a:lnTo>
                    <a:pt x="4" y="18"/>
                  </a:lnTo>
                  <a:lnTo>
                    <a:pt x="5" y="13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64440" y="4934880"/>
              <a:ext cx="121680" cy="132480"/>
            </a:xfrm>
            <a:custGeom>
              <a:avLst/>
              <a:gdLst/>
              <a:ahLst/>
              <a:rect l="l" t="t" r="r" b="b"/>
              <a:pathLst>
                <a:path w="290" h="315">
                  <a:moveTo>
                    <a:pt x="6" y="0"/>
                  </a:moveTo>
                  <a:lnTo>
                    <a:pt x="290" y="286"/>
                  </a:lnTo>
                  <a:lnTo>
                    <a:pt x="287" y="289"/>
                  </a:lnTo>
                  <a:lnTo>
                    <a:pt x="283" y="294"/>
                  </a:lnTo>
                  <a:lnTo>
                    <a:pt x="280" y="297"/>
                  </a:lnTo>
                  <a:lnTo>
                    <a:pt x="277" y="300"/>
                  </a:lnTo>
                  <a:lnTo>
                    <a:pt x="274" y="304"/>
                  </a:lnTo>
                  <a:lnTo>
                    <a:pt x="271" y="307"/>
                  </a:lnTo>
                  <a:lnTo>
                    <a:pt x="268" y="311"/>
                  </a:lnTo>
                  <a:lnTo>
                    <a:pt x="266" y="315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64440" y="4945320"/>
              <a:ext cx="115200" cy="128160"/>
            </a:xfrm>
            <a:custGeom>
              <a:avLst/>
              <a:gdLst/>
              <a:ahLst/>
              <a:rect l="l" t="t" r="r" b="b"/>
              <a:pathLst>
                <a:path w="279" h="304">
                  <a:moveTo>
                    <a:pt x="4" y="0"/>
                  </a:moveTo>
                  <a:lnTo>
                    <a:pt x="279" y="275"/>
                  </a:lnTo>
                  <a:lnTo>
                    <a:pt x="276" y="279"/>
                  </a:lnTo>
                  <a:lnTo>
                    <a:pt x="273" y="282"/>
                  </a:lnTo>
                  <a:lnTo>
                    <a:pt x="270" y="286"/>
                  </a:lnTo>
                  <a:lnTo>
                    <a:pt x="268" y="290"/>
                  </a:lnTo>
                  <a:lnTo>
                    <a:pt x="264" y="294"/>
                  </a:lnTo>
                  <a:lnTo>
                    <a:pt x="261" y="297"/>
                  </a:lnTo>
                  <a:lnTo>
                    <a:pt x="258" y="301"/>
                  </a:lnTo>
                  <a:lnTo>
                    <a:pt x="255" y="304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1" y="36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3" y="12"/>
                  </a:lnTo>
                  <a:lnTo>
                    <a:pt x="4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62280" y="4955760"/>
              <a:ext cx="113400" cy="123840"/>
            </a:xfrm>
            <a:custGeom>
              <a:avLst/>
              <a:gdLst/>
              <a:ahLst/>
              <a:rect l="l" t="t" r="r" b="b"/>
              <a:pathLst>
                <a:path w="270" h="294">
                  <a:moveTo>
                    <a:pt x="4" y="0"/>
                  </a:moveTo>
                  <a:lnTo>
                    <a:pt x="270" y="265"/>
                  </a:lnTo>
                  <a:lnTo>
                    <a:pt x="266" y="269"/>
                  </a:lnTo>
                  <a:lnTo>
                    <a:pt x="263" y="272"/>
                  </a:lnTo>
                  <a:lnTo>
                    <a:pt x="260" y="276"/>
                  </a:lnTo>
                  <a:lnTo>
                    <a:pt x="257" y="279"/>
                  </a:lnTo>
                  <a:lnTo>
                    <a:pt x="254" y="284"/>
                  </a:lnTo>
                  <a:lnTo>
                    <a:pt x="251" y="287"/>
                  </a:lnTo>
                  <a:lnTo>
                    <a:pt x="248" y="290"/>
                  </a:lnTo>
                  <a:lnTo>
                    <a:pt x="244" y="29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1" y="37"/>
                  </a:lnTo>
                  <a:lnTo>
                    <a:pt x="1" y="30"/>
                  </a:lnTo>
                  <a:lnTo>
                    <a:pt x="2" y="24"/>
                  </a:lnTo>
                  <a:lnTo>
                    <a:pt x="2" y="18"/>
                  </a:lnTo>
                  <a:lnTo>
                    <a:pt x="3" y="11"/>
                  </a:lnTo>
                  <a:lnTo>
                    <a:pt x="3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62280" y="4966200"/>
              <a:ext cx="109080" cy="119520"/>
            </a:xfrm>
            <a:custGeom>
              <a:avLst/>
              <a:gdLst/>
              <a:ahLst/>
              <a:rect l="l" t="t" r="r" b="b"/>
              <a:pathLst>
                <a:path w="259" h="285">
                  <a:moveTo>
                    <a:pt x="4" y="0"/>
                  </a:moveTo>
                  <a:lnTo>
                    <a:pt x="259" y="255"/>
                  </a:lnTo>
                  <a:lnTo>
                    <a:pt x="256" y="260"/>
                  </a:lnTo>
                  <a:lnTo>
                    <a:pt x="253" y="263"/>
                  </a:lnTo>
                  <a:lnTo>
                    <a:pt x="250" y="266"/>
                  </a:lnTo>
                  <a:lnTo>
                    <a:pt x="246" y="270"/>
                  </a:lnTo>
                  <a:lnTo>
                    <a:pt x="243" y="273"/>
                  </a:lnTo>
                  <a:lnTo>
                    <a:pt x="240" y="277"/>
                  </a:lnTo>
                  <a:lnTo>
                    <a:pt x="237" y="281"/>
                  </a:lnTo>
                  <a:lnTo>
                    <a:pt x="234" y="285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1" y="37"/>
                  </a:lnTo>
                  <a:lnTo>
                    <a:pt x="1" y="30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60120" y="4974840"/>
              <a:ext cx="104760" cy="115200"/>
            </a:xfrm>
            <a:custGeom>
              <a:avLst/>
              <a:gdLst/>
              <a:ahLst/>
              <a:rect l="l" t="t" r="r" b="b"/>
              <a:pathLst>
                <a:path w="248" h="275">
                  <a:moveTo>
                    <a:pt x="4" y="0"/>
                  </a:moveTo>
                  <a:lnTo>
                    <a:pt x="248" y="246"/>
                  </a:lnTo>
                  <a:lnTo>
                    <a:pt x="245" y="249"/>
                  </a:lnTo>
                  <a:lnTo>
                    <a:pt x="242" y="253"/>
                  </a:lnTo>
                  <a:lnTo>
                    <a:pt x="239" y="257"/>
                  </a:lnTo>
                  <a:lnTo>
                    <a:pt x="236" y="261"/>
                  </a:lnTo>
                  <a:lnTo>
                    <a:pt x="234" y="264"/>
                  </a:lnTo>
                  <a:lnTo>
                    <a:pt x="231" y="268"/>
                  </a:lnTo>
                  <a:lnTo>
                    <a:pt x="227" y="272"/>
                  </a:lnTo>
                  <a:lnTo>
                    <a:pt x="224" y="275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60120" y="4985280"/>
              <a:ext cx="100440" cy="110880"/>
            </a:xfrm>
            <a:custGeom>
              <a:avLst/>
              <a:gdLst/>
              <a:ahLst/>
              <a:rect l="l" t="t" r="r" b="b"/>
              <a:pathLst>
                <a:path w="238" h="265">
                  <a:moveTo>
                    <a:pt x="4" y="0"/>
                  </a:moveTo>
                  <a:lnTo>
                    <a:pt x="238" y="236"/>
                  </a:lnTo>
                  <a:lnTo>
                    <a:pt x="236" y="239"/>
                  </a:lnTo>
                  <a:lnTo>
                    <a:pt x="233" y="243"/>
                  </a:lnTo>
                  <a:lnTo>
                    <a:pt x="229" y="246"/>
                  </a:lnTo>
                  <a:lnTo>
                    <a:pt x="226" y="250"/>
                  </a:lnTo>
                  <a:lnTo>
                    <a:pt x="223" y="254"/>
                  </a:lnTo>
                  <a:lnTo>
                    <a:pt x="220" y="258"/>
                  </a:lnTo>
                  <a:lnTo>
                    <a:pt x="217" y="262"/>
                  </a:lnTo>
                  <a:lnTo>
                    <a:pt x="214" y="265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6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60120" y="4997880"/>
              <a:ext cx="94320" cy="105120"/>
            </a:xfrm>
            <a:custGeom>
              <a:avLst/>
              <a:gdLst/>
              <a:ahLst/>
              <a:rect l="l" t="t" r="r" b="b"/>
              <a:pathLst>
                <a:path w="228" h="254">
                  <a:moveTo>
                    <a:pt x="4" y="0"/>
                  </a:moveTo>
                  <a:lnTo>
                    <a:pt x="228" y="224"/>
                  </a:lnTo>
                  <a:lnTo>
                    <a:pt x="225" y="228"/>
                  </a:lnTo>
                  <a:lnTo>
                    <a:pt x="222" y="232"/>
                  </a:lnTo>
                  <a:lnTo>
                    <a:pt x="219" y="236"/>
                  </a:lnTo>
                  <a:lnTo>
                    <a:pt x="216" y="239"/>
                  </a:lnTo>
                  <a:lnTo>
                    <a:pt x="214" y="243"/>
                  </a:lnTo>
                  <a:lnTo>
                    <a:pt x="210" y="246"/>
                  </a:lnTo>
                  <a:lnTo>
                    <a:pt x="207" y="251"/>
                  </a:lnTo>
                  <a:lnTo>
                    <a:pt x="204" y="254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1" y="37"/>
                  </a:lnTo>
                  <a:lnTo>
                    <a:pt x="1" y="31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3" y="12"/>
                  </a:lnTo>
                  <a:lnTo>
                    <a:pt x="3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7960" y="5008320"/>
              <a:ext cx="92520" cy="101160"/>
            </a:xfrm>
            <a:custGeom>
              <a:avLst/>
              <a:gdLst/>
              <a:ahLst/>
              <a:rect l="l" t="t" r="r" b="b"/>
              <a:pathLst>
                <a:path w="217" h="244">
                  <a:moveTo>
                    <a:pt x="3" y="0"/>
                  </a:moveTo>
                  <a:lnTo>
                    <a:pt x="217" y="214"/>
                  </a:lnTo>
                  <a:lnTo>
                    <a:pt x="214" y="218"/>
                  </a:lnTo>
                  <a:lnTo>
                    <a:pt x="211" y="221"/>
                  </a:lnTo>
                  <a:lnTo>
                    <a:pt x="208" y="226"/>
                  </a:lnTo>
                  <a:lnTo>
                    <a:pt x="205" y="229"/>
                  </a:lnTo>
                  <a:lnTo>
                    <a:pt x="202" y="233"/>
                  </a:lnTo>
                  <a:lnTo>
                    <a:pt x="199" y="236"/>
                  </a:lnTo>
                  <a:lnTo>
                    <a:pt x="196" y="240"/>
                  </a:lnTo>
                  <a:lnTo>
                    <a:pt x="194" y="244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1" y="25"/>
                  </a:lnTo>
                  <a:lnTo>
                    <a:pt x="2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57960" y="5018760"/>
              <a:ext cx="86400" cy="96840"/>
            </a:xfrm>
            <a:custGeom>
              <a:avLst/>
              <a:gdLst/>
              <a:ahLst/>
              <a:rect l="l" t="t" r="r" b="b"/>
              <a:pathLst>
                <a:path w="207" h="234">
                  <a:moveTo>
                    <a:pt x="3" y="0"/>
                  </a:moveTo>
                  <a:lnTo>
                    <a:pt x="207" y="204"/>
                  </a:lnTo>
                  <a:lnTo>
                    <a:pt x="204" y="208"/>
                  </a:lnTo>
                  <a:lnTo>
                    <a:pt x="201" y="211"/>
                  </a:lnTo>
                  <a:lnTo>
                    <a:pt x="198" y="215"/>
                  </a:lnTo>
                  <a:lnTo>
                    <a:pt x="196" y="219"/>
                  </a:lnTo>
                  <a:lnTo>
                    <a:pt x="193" y="223"/>
                  </a:lnTo>
                  <a:lnTo>
                    <a:pt x="189" y="226"/>
                  </a:lnTo>
                  <a:lnTo>
                    <a:pt x="186" y="230"/>
                  </a:lnTo>
                  <a:lnTo>
                    <a:pt x="183" y="234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57960" y="5027400"/>
              <a:ext cx="82080" cy="94320"/>
            </a:xfrm>
            <a:custGeom>
              <a:avLst/>
              <a:gdLst/>
              <a:ahLst/>
              <a:rect l="l" t="t" r="r" b="b"/>
              <a:pathLst>
                <a:path w="197" h="225">
                  <a:moveTo>
                    <a:pt x="3" y="0"/>
                  </a:moveTo>
                  <a:lnTo>
                    <a:pt x="197" y="195"/>
                  </a:lnTo>
                  <a:lnTo>
                    <a:pt x="194" y="199"/>
                  </a:lnTo>
                  <a:lnTo>
                    <a:pt x="190" y="202"/>
                  </a:lnTo>
                  <a:lnTo>
                    <a:pt x="187" y="206"/>
                  </a:lnTo>
                  <a:lnTo>
                    <a:pt x="184" y="210"/>
                  </a:lnTo>
                  <a:lnTo>
                    <a:pt x="181" y="213"/>
                  </a:lnTo>
                  <a:lnTo>
                    <a:pt x="179" y="218"/>
                  </a:lnTo>
                  <a:lnTo>
                    <a:pt x="176" y="221"/>
                  </a:lnTo>
                  <a:lnTo>
                    <a:pt x="173" y="225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2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57960" y="5039640"/>
              <a:ext cx="77760" cy="88560"/>
            </a:xfrm>
            <a:custGeom>
              <a:avLst/>
              <a:gdLst/>
              <a:ahLst/>
              <a:rect l="l" t="t" r="r" b="b"/>
              <a:pathLst>
                <a:path w="185" h="214">
                  <a:moveTo>
                    <a:pt x="2" y="0"/>
                  </a:moveTo>
                  <a:lnTo>
                    <a:pt x="185" y="184"/>
                  </a:lnTo>
                  <a:lnTo>
                    <a:pt x="182" y="187"/>
                  </a:lnTo>
                  <a:lnTo>
                    <a:pt x="180" y="192"/>
                  </a:lnTo>
                  <a:lnTo>
                    <a:pt x="177" y="195"/>
                  </a:lnTo>
                  <a:lnTo>
                    <a:pt x="174" y="199"/>
                  </a:lnTo>
                  <a:lnTo>
                    <a:pt x="170" y="202"/>
                  </a:lnTo>
                  <a:lnTo>
                    <a:pt x="167" y="206"/>
                  </a:lnTo>
                  <a:lnTo>
                    <a:pt x="164" y="211"/>
                  </a:lnTo>
                  <a:lnTo>
                    <a:pt x="162" y="214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19"/>
                  </a:lnTo>
                  <a:lnTo>
                    <a:pt x="2" y="13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56160" y="5050440"/>
              <a:ext cx="73440" cy="84240"/>
            </a:xfrm>
            <a:custGeom>
              <a:avLst/>
              <a:gdLst/>
              <a:ahLst/>
              <a:rect l="l" t="t" r="r" b="b"/>
              <a:pathLst>
                <a:path w="175" h="203">
                  <a:moveTo>
                    <a:pt x="2" y="0"/>
                  </a:moveTo>
                  <a:lnTo>
                    <a:pt x="175" y="173"/>
                  </a:lnTo>
                  <a:lnTo>
                    <a:pt x="171" y="177"/>
                  </a:lnTo>
                  <a:lnTo>
                    <a:pt x="168" y="180"/>
                  </a:lnTo>
                  <a:lnTo>
                    <a:pt x="165" y="185"/>
                  </a:lnTo>
                  <a:lnTo>
                    <a:pt x="163" y="188"/>
                  </a:lnTo>
                  <a:lnTo>
                    <a:pt x="160" y="192"/>
                  </a:lnTo>
                  <a:lnTo>
                    <a:pt x="157" y="195"/>
                  </a:lnTo>
                  <a:lnTo>
                    <a:pt x="154" y="199"/>
                  </a:lnTo>
                  <a:lnTo>
                    <a:pt x="150" y="203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2" y="12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56160" y="5060880"/>
              <a:ext cx="69120" cy="79920"/>
            </a:xfrm>
            <a:custGeom>
              <a:avLst/>
              <a:gdLst/>
              <a:ahLst/>
              <a:rect l="l" t="t" r="r" b="b"/>
              <a:pathLst>
                <a:path w="165" h="193">
                  <a:moveTo>
                    <a:pt x="3" y="0"/>
                  </a:moveTo>
                  <a:lnTo>
                    <a:pt x="165" y="163"/>
                  </a:lnTo>
                  <a:lnTo>
                    <a:pt x="162" y="167"/>
                  </a:lnTo>
                  <a:lnTo>
                    <a:pt x="159" y="170"/>
                  </a:lnTo>
                  <a:lnTo>
                    <a:pt x="156" y="174"/>
                  </a:lnTo>
                  <a:lnTo>
                    <a:pt x="153" y="178"/>
                  </a:lnTo>
                  <a:lnTo>
                    <a:pt x="150" y="182"/>
                  </a:lnTo>
                  <a:lnTo>
                    <a:pt x="147" y="186"/>
                  </a:lnTo>
                  <a:lnTo>
                    <a:pt x="144" y="190"/>
                  </a:lnTo>
                  <a:lnTo>
                    <a:pt x="141" y="193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56160" y="5071320"/>
              <a:ext cx="63000" cy="78120"/>
            </a:xfrm>
            <a:custGeom>
              <a:avLst/>
              <a:gdLst/>
              <a:ahLst/>
              <a:rect l="l" t="t" r="r" b="b"/>
              <a:pathLst>
                <a:path w="153" h="183">
                  <a:moveTo>
                    <a:pt x="3" y="0"/>
                  </a:moveTo>
                  <a:lnTo>
                    <a:pt x="153" y="152"/>
                  </a:lnTo>
                  <a:lnTo>
                    <a:pt x="151" y="156"/>
                  </a:lnTo>
                  <a:lnTo>
                    <a:pt x="148" y="160"/>
                  </a:lnTo>
                  <a:lnTo>
                    <a:pt x="145" y="164"/>
                  </a:lnTo>
                  <a:lnTo>
                    <a:pt x="142" y="167"/>
                  </a:lnTo>
                  <a:lnTo>
                    <a:pt x="140" y="171"/>
                  </a:lnTo>
                  <a:lnTo>
                    <a:pt x="137" y="175"/>
                  </a:lnTo>
                  <a:lnTo>
                    <a:pt x="134" y="179"/>
                  </a:lnTo>
                  <a:lnTo>
                    <a:pt x="130" y="183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3" y="14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56160" y="5082120"/>
              <a:ext cx="58680" cy="73440"/>
            </a:xfrm>
            <a:custGeom>
              <a:avLst/>
              <a:gdLst/>
              <a:ahLst/>
              <a:rect l="l" t="t" r="r" b="b"/>
              <a:pathLst>
                <a:path w="142" h="172">
                  <a:moveTo>
                    <a:pt x="1" y="0"/>
                  </a:moveTo>
                  <a:lnTo>
                    <a:pt x="142" y="141"/>
                  </a:lnTo>
                  <a:lnTo>
                    <a:pt x="140" y="145"/>
                  </a:lnTo>
                  <a:lnTo>
                    <a:pt x="137" y="149"/>
                  </a:lnTo>
                  <a:lnTo>
                    <a:pt x="134" y="153"/>
                  </a:lnTo>
                  <a:lnTo>
                    <a:pt x="130" y="157"/>
                  </a:lnTo>
                  <a:lnTo>
                    <a:pt x="127" y="160"/>
                  </a:lnTo>
                  <a:lnTo>
                    <a:pt x="125" y="164"/>
                  </a:lnTo>
                  <a:lnTo>
                    <a:pt x="122" y="169"/>
                  </a:lnTo>
                  <a:lnTo>
                    <a:pt x="119" y="172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1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56160" y="5094720"/>
              <a:ext cx="54720" cy="66960"/>
            </a:xfrm>
            <a:custGeom>
              <a:avLst/>
              <a:gdLst/>
              <a:ahLst/>
              <a:rect l="l" t="t" r="r" b="b"/>
              <a:pathLst>
                <a:path w="131" h="160">
                  <a:moveTo>
                    <a:pt x="1" y="0"/>
                  </a:moveTo>
                  <a:lnTo>
                    <a:pt x="131" y="130"/>
                  </a:lnTo>
                  <a:lnTo>
                    <a:pt x="129" y="133"/>
                  </a:lnTo>
                  <a:lnTo>
                    <a:pt x="126" y="137"/>
                  </a:lnTo>
                  <a:lnTo>
                    <a:pt x="123" y="142"/>
                  </a:lnTo>
                  <a:lnTo>
                    <a:pt x="120" y="145"/>
                  </a:lnTo>
                  <a:lnTo>
                    <a:pt x="117" y="149"/>
                  </a:lnTo>
                  <a:lnTo>
                    <a:pt x="115" y="153"/>
                  </a:lnTo>
                  <a:lnTo>
                    <a:pt x="111" y="156"/>
                  </a:lnTo>
                  <a:lnTo>
                    <a:pt x="108" y="160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39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1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56160" y="5105160"/>
              <a:ext cx="50400" cy="62640"/>
            </a:xfrm>
            <a:custGeom>
              <a:avLst/>
              <a:gdLst/>
              <a:ahLst/>
              <a:rect l="l" t="t" r="r" b="b"/>
              <a:pathLst>
                <a:path w="120" h="149">
                  <a:moveTo>
                    <a:pt x="1" y="0"/>
                  </a:moveTo>
                  <a:lnTo>
                    <a:pt x="120" y="119"/>
                  </a:lnTo>
                  <a:lnTo>
                    <a:pt x="117" y="123"/>
                  </a:lnTo>
                  <a:lnTo>
                    <a:pt x="115" y="126"/>
                  </a:lnTo>
                  <a:lnTo>
                    <a:pt x="111" y="130"/>
                  </a:lnTo>
                  <a:lnTo>
                    <a:pt x="108" y="134"/>
                  </a:lnTo>
                  <a:lnTo>
                    <a:pt x="105" y="138"/>
                  </a:lnTo>
                  <a:lnTo>
                    <a:pt x="103" y="142"/>
                  </a:lnTo>
                  <a:lnTo>
                    <a:pt x="100" y="146"/>
                  </a:lnTo>
                  <a:lnTo>
                    <a:pt x="97" y="149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1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56160" y="5115600"/>
              <a:ext cx="44280" cy="59040"/>
            </a:xfrm>
            <a:custGeom>
              <a:avLst/>
              <a:gdLst/>
              <a:ahLst/>
              <a:rect l="l" t="t" r="r" b="b"/>
              <a:pathLst>
                <a:path w="108" h="139">
                  <a:moveTo>
                    <a:pt x="0" y="0"/>
                  </a:moveTo>
                  <a:lnTo>
                    <a:pt x="108" y="108"/>
                  </a:lnTo>
                  <a:lnTo>
                    <a:pt x="105" y="112"/>
                  </a:lnTo>
                  <a:lnTo>
                    <a:pt x="103" y="116"/>
                  </a:lnTo>
                  <a:lnTo>
                    <a:pt x="100" y="120"/>
                  </a:lnTo>
                  <a:lnTo>
                    <a:pt x="97" y="123"/>
                  </a:lnTo>
                  <a:lnTo>
                    <a:pt x="95" y="127"/>
                  </a:lnTo>
                  <a:lnTo>
                    <a:pt x="92" y="132"/>
                  </a:lnTo>
                  <a:lnTo>
                    <a:pt x="88" y="135"/>
                  </a:lnTo>
                  <a:lnTo>
                    <a:pt x="85" y="139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56160" y="5126040"/>
              <a:ext cx="39960" cy="54720"/>
            </a:xfrm>
            <a:custGeom>
              <a:avLst/>
              <a:gdLst/>
              <a:ahLst/>
              <a:rect l="l" t="t" r="r" b="b"/>
              <a:pathLst>
                <a:path w="97" h="129">
                  <a:moveTo>
                    <a:pt x="0" y="0"/>
                  </a:moveTo>
                  <a:lnTo>
                    <a:pt x="97" y="97"/>
                  </a:lnTo>
                  <a:lnTo>
                    <a:pt x="95" y="101"/>
                  </a:lnTo>
                  <a:lnTo>
                    <a:pt x="92" y="106"/>
                  </a:lnTo>
                  <a:lnTo>
                    <a:pt x="88" y="109"/>
                  </a:lnTo>
                  <a:lnTo>
                    <a:pt x="85" y="113"/>
                  </a:lnTo>
                  <a:lnTo>
                    <a:pt x="83" y="117"/>
                  </a:lnTo>
                  <a:lnTo>
                    <a:pt x="80" y="120"/>
                  </a:lnTo>
                  <a:lnTo>
                    <a:pt x="77" y="124"/>
                  </a:lnTo>
                  <a:lnTo>
                    <a:pt x="75" y="129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56160" y="5139000"/>
              <a:ext cx="35640" cy="47880"/>
            </a:xfrm>
            <a:custGeom>
              <a:avLst/>
              <a:gdLst/>
              <a:ahLst/>
              <a:rect l="l" t="t" r="r" b="b"/>
              <a:pathLst>
                <a:path w="85" h="116">
                  <a:moveTo>
                    <a:pt x="0" y="0"/>
                  </a:moveTo>
                  <a:lnTo>
                    <a:pt x="85" y="85"/>
                  </a:lnTo>
                  <a:lnTo>
                    <a:pt x="83" y="89"/>
                  </a:lnTo>
                  <a:lnTo>
                    <a:pt x="80" y="92"/>
                  </a:lnTo>
                  <a:lnTo>
                    <a:pt x="77" y="96"/>
                  </a:lnTo>
                  <a:lnTo>
                    <a:pt x="75" y="101"/>
                  </a:lnTo>
                  <a:lnTo>
                    <a:pt x="72" y="105"/>
                  </a:lnTo>
                  <a:lnTo>
                    <a:pt x="68" y="108"/>
                  </a:lnTo>
                  <a:lnTo>
                    <a:pt x="65" y="112"/>
                  </a:lnTo>
                  <a:lnTo>
                    <a:pt x="63" y="116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56160" y="5149440"/>
              <a:ext cx="31320" cy="43560"/>
            </a:xfrm>
            <a:custGeom>
              <a:avLst/>
              <a:gdLst/>
              <a:ahLst/>
              <a:rect l="l" t="t" r="r" b="b"/>
              <a:pathLst>
                <a:path w="75" h="105">
                  <a:moveTo>
                    <a:pt x="0" y="0"/>
                  </a:moveTo>
                  <a:lnTo>
                    <a:pt x="75" y="75"/>
                  </a:lnTo>
                  <a:lnTo>
                    <a:pt x="72" y="79"/>
                  </a:lnTo>
                  <a:lnTo>
                    <a:pt x="68" y="82"/>
                  </a:lnTo>
                  <a:lnTo>
                    <a:pt x="65" y="86"/>
                  </a:lnTo>
                  <a:lnTo>
                    <a:pt x="63" y="90"/>
                  </a:lnTo>
                  <a:lnTo>
                    <a:pt x="60" y="94"/>
                  </a:lnTo>
                  <a:lnTo>
                    <a:pt x="57" y="98"/>
                  </a:lnTo>
                  <a:lnTo>
                    <a:pt x="55" y="102"/>
                  </a:lnTo>
                  <a:lnTo>
                    <a:pt x="52" y="105"/>
                  </a:lnTo>
                  <a:lnTo>
                    <a:pt x="0" y="55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56160" y="5160240"/>
              <a:ext cx="25200" cy="39600"/>
            </a:xfrm>
            <a:custGeom>
              <a:avLst/>
              <a:gdLst/>
              <a:ahLst/>
              <a:rect l="l" t="t" r="r" b="b"/>
              <a:pathLst>
                <a:path w="63" h="94">
                  <a:moveTo>
                    <a:pt x="0" y="0"/>
                  </a:moveTo>
                  <a:lnTo>
                    <a:pt x="63" y="63"/>
                  </a:lnTo>
                  <a:lnTo>
                    <a:pt x="60" y="67"/>
                  </a:lnTo>
                  <a:lnTo>
                    <a:pt x="57" y="71"/>
                  </a:lnTo>
                  <a:lnTo>
                    <a:pt x="55" y="75"/>
                  </a:lnTo>
                  <a:lnTo>
                    <a:pt x="52" y="78"/>
                  </a:lnTo>
                  <a:lnTo>
                    <a:pt x="49" y="82"/>
                  </a:lnTo>
                  <a:lnTo>
                    <a:pt x="46" y="87"/>
                  </a:lnTo>
                  <a:lnTo>
                    <a:pt x="43" y="91"/>
                  </a:lnTo>
                  <a:lnTo>
                    <a:pt x="40" y="94"/>
                  </a:lnTo>
                  <a:lnTo>
                    <a:pt x="1" y="55"/>
                  </a:lnTo>
                  <a:lnTo>
                    <a:pt x="1" y="48"/>
                  </a:lnTo>
                  <a:lnTo>
                    <a:pt x="1" y="41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4556160" y="3276720"/>
              <a:ext cx="1857960" cy="1944000"/>
              <a:chOff x="4556160" y="3276720"/>
              <a:chExt cx="1857960" cy="1944000"/>
            </a:xfrm>
          </p:grpSpPr>
          <p:sp>
            <p:nvSpPr>
              <p:cNvPr id="316" name=""/>
              <p:cNvSpPr/>
              <p:nvPr/>
            </p:nvSpPr>
            <p:spPr>
              <a:xfrm>
                <a:off x="4556160" y="5172120"/>
                <a:ext cx="20880" cy="33840"/>
              </a:xfrm>
              <a:custGeom>
                <a:avLst/>
                <a:gdLst/>
                <a:ahLst/>
                <a:rect l="l" t="t" r="r" b="b"/>
                <a:pathLst>
                  <a:path w="52" h="82">
                    <a:moveTo>
                      <a:pt x="0" y="0"/>
                    </a:moveTo>
                    <a:lnTo>
                      <a:pt x="52" y="50"/>
                    </a:lnTo>
                    <a:lnTo>
                      <a:pt x="49" y="54"/>
                    </a:lnTo>
                    <a:lnTo>
                      <a:pt x="46" y="59"/>
                    </a:lnTo>
                    <a:lnTo>
                      <a:pt x="43" y="63"/>
                    </a:lnTo>
                    <a:lnTo>
                      <a:pt x="40" y="66"/>
                    </a:lnTo>
                    <a:lnTo>
                      <a:pt x="38" y="70"/>
                    </a:lnTo>
                    <a:lnTo>
                      <a:pt x="35" y="74"/>
                    </a:lnTo>
                    <a:lnTo>
                      <a:pt x="32" y="78"/>
                    </a:lnTo>
                    <a:lnTo>
                      <a:pt x="30" y="82"/>
                    </a:lnTo>
                    <a:lnTo>
                      <a:pt x="2" y="54"/>
                    </a:lnTo>
                    <a:lnTo>
                      <a:pt x="1" y="48"/>
                    </a:lnTo>
                    <a:lnTo>
                      <a:pt x="1" y="41"/>
                    </a:lnTo>
                    <a:lnTo>
                      <a:pt x="1" y="34"/>
                    </a:lnTo>
                    <a:lnTo>
                      <a:pt x="1" y="27"/>
                    </a:lnTo>
                    <a:lnTo>
                      <a:pt x="1" y="21"/>
                    </a:lnTo>
                    <a:lnTo>
                      <a:pt x="1" y="13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556160" y="5182560"/>
                <a:ext cx="16560" cy="29520"/>
              </a:xfrm>
              <a:custGeom>
                <a:avLst/>
                <a:gdLst/>
                <a:ahLst/>
                <a:rect l="l" t="t" r="r" b="b"/>
                <a:pathLst>
                  <a:path w="39" h="70">
                    <a:moveTo>
                      <a:pt x="0" y="0"/>
                    </a:moveTo>
                    <a:lnTo>
                      <a:pt x="39" y="39"/>
                    </a:lnTo>
                    <a:lnTo>
                      <a:pt x="37" y="43"/>
                    </a:lnTo>
                    <a:lnTo>
                      <a:pt x="34" y="47"/>
                    </a:lnTo>
                    <a:lnTo>
                      <a:pt x="31" y="51"/>
                    </a:lnTo>
                    <a:lnTo>
                      <a:pt x="29" y="55"/>
                    </a:lnTo>
                    <a:lnTo>
                      <a:pt x="26" y="59"/>
                    </a:lnTo>
                    <a:lnTo>
                      <a:pt x="22" y="63"/>
                    </a:lnTo>
                    <a:lnTo>
                      <a:pt x="20" y="66"/>
                    </a:lnTo>
                    <a:lnTo>
                      <a:pt x="17" y="70"/>
                    </a:lnTo>
                    <a:lnTo>
                      <a:pt x="1" y="56"/>
                    </a:lnTo>
                    <a:lnTo>
                      <a:pt x="1" y="48"/>
                    </a:lnTo>
                    <a:lnTo>
                      <a:pt x="1" y="41"/>
                    </a:lnTo>
                    <a:lnTo>
                      <a:pt x="1" y="35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56160" y="5195520"/>
                <a:ext cx="12240" cy="2520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0" y="0"/>
                    </a:moveTo>
                    <a:lnTo>
                      <a:pt x="28" y="28"/>
                    </a:lnTo>
                    <a:lnTo>
                      <a:pt x="25" y="32"/>
                    </a:lnTo>
                    <a:lnTo>
                      <a:pt x="21" y="36"/>
                    </a:lnTo>
                    <a:lnTo>
                      <a:pt x="19" y="39"/>
                    </a:lnTo>
                    <a:lnTo>
                      <a:pt x="16" y="43"/>
                    </a:lnTo>
                    <a:lnTo>
                      <a:pt x="13" y="48"/>
                    </a:lnTo>
                    <a:lnTo>
                      <a:pt x="11" y="52"/>
                    </a:lnTo>
                    <a:lnTo>
                      <a:pt x="8" y="55"/>
                    </a:lnTo>
                    <a:lnTo>
                      <a:pt x="5" y="59"/>
                    </a:lnTo>
                    <a:lnTo>
                      <a:pt x="2" y="56"/>
                    </a:lnTo>
                    <a:lnTo>
                      <a:pt x="2" y="50"/>
                    </a:lnTo>
                    <a:lnTo>
                      <a:pt x="2" y="42"/>
                    </a:lnTo>
                    <a:lnTo>
                      <a:pt x="2" y="35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556160" y="520776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16" y="14"/>
                    </a:lnTo>
                    <a:lnTo>
                      <a:pt x="14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5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4" y="32"/>
                    </a:lnTo>
                    <a:lnTo>
                      <a:pt x="3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56160" y="52185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89240" y="3276720"/>
                <a:ext cx="1424880" cy="1428480"/>
              </a:xfrm>
              <a:custGeom>
                <a:avLst/>
                <a:gdLst/>
                <a:ahLst/>
                <a:rect l="l" t="t" r="r" b="b"/>
                <a:pathLst>
                  <a:path w="3387" h="3395">
                    <a:moveTo>
                      <a:pt x="28" y="1388"/>
                    </a:moveTo>
                    <a:lnTo>
                      <a:pt x="46" y="1302"/>
                    </a:lnTo>
                    <a:lnTo>
                      <a:pt x="68" y="1219"/>
                    </a:lnTo>
                    <a:lnTo>
                      <a:pt x="94" y="1138"/>
                    </a:lnTo>
                    <a:lnTo>
                      <a:pt x="124" y="1059"/>
                    </a:lnTo>
                    <a:lnTo>
                      <a:pt x="158" y="982"/>
                    </a:lnTo>
                    <a:lnTo>
                      <a:pt x="195" y="906"/>
                    </a:lnTo>
                    <a:lnTo>
                      <a:pt x="236" y="834"/>
                    </a:lnTo>
                    <a:lnTo>
                      <a:pt x="280" y="763"/>
                    </a:lnTo>
                    <a:lnTo>
                      <a:pt x="327" y="696"/>
                    </a:lnTo>
                    <a:lnTo>
                      <a:pt x="376" y="631"/>
                    </a:lnTo>
                    <a:lnTo>
                      <a:pt x="429" y="569"/>
                    </a:lnTo>
                    <a:lnTo>
                      <a:pt x="486" y="509"/>
                    </a:lnTo>
                    <a:lnTo>
                      <a:pt x="544" y="452"/>
                    </a:lnTo>
                    <a:lnTo>
                      <a:pt x="606" y="398"/>
                    </a:lnTo>
                    <a:lnTo>
                      <a:pt x="669" y="347"/>
                    </a:lnTo>
                    <a:lnTo>
                      <a:pt x="734" y="299"/>
                    </a:lnTo>
                    <a:lnTo>
                      <a:pt x="803" y="255"/>
                    </a:lnTo>
                    <a:lnTo>
                      <a:pt x="873" y="214"/>
                    </a:lnTo>
                    <a:lnTo>
                      <a:pt x="945" y="176"/>
                    </a:lnTo>
                    <a:lnTo>
                      <a:pt x="1020" y="141"/>
                    </a:lnTo>
                    <a:lnTo>
                      <a:pt x="1095" y="110"/>
                    </a:lnTo>
                    <a:lnTo>
                      <a:pt x="1172" y="83"/>
                    </a:lnTo>
                    <a:lnTo>
                      <a:pt x="1250" y="59"/>
                    </a:lnTo>
                    <a:lnTo>
                      <a:pt x="1331" y="39"/>
                    </a:lnTo>
                    <a:lnTo>
                      <a:pt x="1412" y="24"/>
                    </a:lnTo>
                    <a:lnTo>
                      <a:pt x="1494" y="12"/>
                    </a:lnTo>
                    <a:lnTo>
                      <a:pt x="1577" y="4"/>
                    </a:lnTo>
                    <a:lnTo>
                      <a:pt x="1661" y="0"/>
                    </a:lnTo>
                    <a:lnTo>
                      <a:pt x="1746" y="1"/>
                    </a:lnTo>
                    <a:lnTo>
                      <a:pt x="1831" y="5"/>
                    </a:lnTo>
                    <a:lnTo>
                      <a:pt x="1916" y="14"/>
                    </a:lnTo>
                    <a:lnTo>
                      <a:pt x="2002" y="28"/>
                    </a:lnTo>
                    <a:lnTo>
                      <a:pt x="2088" y="46"/>
                    </a:lnTo>
                    <a:lnTo>
                      <a:pt x="2170" y="68"/>
                    </a:lnTo>
                    <a:lnTo>
                      <a:pt x="2251" y="94"/>
                    </a:lnTo>
                    <a:lnTo>
                      <a:pt x="2331" y="125"/>
                    </a:lnTo>
                    <a:lnTo>
                      <a:pt x="2407" y="158"/>
                    </a:lnTo>
                    <a:lnTo>
                      <a:pt x="2483" y="195"/>
                    </a:lnTo>
                    <a:lnTo>
                      <a:pt x="2555" y="236"/>
                    </a:lnTo>
                    <a:lnTo>
                      <a:pt x="2625" y="280"/>
                    </a:lnTo>
                    <a:lnTo>
                      <a:pt x="2692" y="327"/>
                    </a:lnTo>
                    <a:lnTo>
                      <a:pt x="2757" y="378"/>
                    </a:lnTo>
                    <a:lnTo>
                      <a:pt x="2819" y="430"/>
                    </a:lnTo>
                    <a:lnTo>
                      <a:pt x="2879" y="487"/>
                    </a:lnTo>
                    <a:lnTo>
                      <a:pt x="2936" y="546"/>
                    </a:lnTo>
                    <a:lnTo>
                      <a:pt x="2990" y="607"/>
                    </a:lnTo>
                    <a:lnTo>
                      <a:pt x="3040" y="671"/>
                    </a:lnTo>
                    <a:lnTo>
                      <a:pt x="3089" y="737"/>
                    </a:lnTo>
                    <a:lnTo>
                      <a:pt x="3133" y="805"/>
                    </a:lnTo>
                    <a:lnTo>
                      <a:pt x="3174" y="876"/>
                    </a:lnTo>
                    <a:lnTo>
                      <a:pt x="3211" y="947"/>
                    </a:lnTo>
                    <a:lnTo>
                      <a:pt x="3246" y="1022"/>
                    </a:lnTo>
                    <a:lnTo>
                      <a:pt x="3277" y="1097"/>
                    </a:lnTo>
                    <a:lnTo>
                      <a:pt x="3305" y="1175"/>
                    </a:lnTo>
                    <a:lnTo>
                      <a:pt x="3328" y="1254"/>
                    </a:lnTo>
                    <a:lnTo>
                      <a:pt x="3348" y="1334"/>
                    </a:lnTo>
                    <a:lnTo>
                      <a:pt x="3363" y="1415"/>
                    </a:lnTo>
                    <a:lnTo>
                      <a:pt x="3375" y="1498"/>
                    </a:lnTo>
                    <a:lnTo>
                      <a:pt x="3383" y="1581"/>
                    </a:lnTo>
                    <a:lnTo>
                      <a:pt x="3387" y="1665"/>
                    </a:lnTo>
                    <a:lnTo>
                      <a:pt x="3386" y="1750"/>
                    </a:lnTo>
                    <a:lnTo>
                      <a:pt x="3381" y="1835"/>
                    </a:lnTo>
                    <a:lnTo>
                      <a:pt x="3373" y="1921"/>
                    </a:lnTo>
                    <a:lnTo>
                      <a:pt x="3359" y="2007"/>
                    </a:lnTo>
                    <a:lnTo>
                      <a:pt x="3341" y="2092"/>
                    </a:lnTo>
                    <a:lnTo>
                      <a:pt x="3318" y="2175"/>
                    </a:lnTo>
                    <a:lnTo>
                      <a:pt x="3293" y="2257"/>
                    </a:lnTo>
                    <a:lnTo>
                      <a:pt x="3263" y="2336"/>
                    </a:lnTo>
                    <a:lnTo>
                      <a:pt x="3229" y="2414"/>
                    </a:lnTo>
                    <a:lnTo>
                      <a:pt x="3192" y="2488"/>
                    </a:lnTo>
                    <a:lnTo>
                      <a:pt x="3152" y="2561"/>
                    </a:lnTo>
                    <a:lnTo>
                      <a:pt x="3107" y="2631"/>
                    </a:lnTo>
                    <a:lnTo>
                      <a:pt x="3060" y="2699"/>
                    </a:lnTo>
                    <a:lnTo>
                      <a:pt x="3010" y="2764"/>
                    </a:lnTo>
                    <a:lnTo>
                      <a:pt x="2958" y="2827"/>
                    </a:lnTo>
                    <a:lnTo>
                      <a:pt x="2901" y="2886"/>
                    </a:lnTo>
                    <a:lnTo>
                      <a:pt x="2842" y="2943"/>
                    </a:lnTo>
                    <a:lnTo>
                      <a:pt x="2782" y="2997"/>
                    </a:lnTo>
                    <a:lnTo>
                      <a:pt x="2718" y="3047"/>
                    </a:lnTo>
                    <a:lnTo>
                      <a:pt x="2652" y="3096"/>
                    </a:lnTo>
                    <a:lnTo>
                      <a:pt x="2583" y="3140"/>
                    </a:lnTo>
                    <a:lnTo>
                      <a:pt x="2513" y="3181"/>
                    </a:lnTo>
                    <a:lnTo>
                      <a:pt x="2442" y="3220"/>
                    </a:lnTo>
                    <a:lnTo>
                      <a:pt x="2367" y="3253"/>
                    </a:lnTo>
                    <a:lnTo>
                      <a:pt x="2292" y="3285"/>
                    </a:lnTo>
                    <a:lnTo>
                      <a:pt x="2214" y="3312"/>
                    </a:lnTo>
                    <a:lnTo>
                      <a:pt x="2136" y="3335"/>
                    </a:lnTo>
                    <a:lnTo>
                      <a:pt x="2056" y="3355"/>
                    </a:lnTo>
                    <a:lnTo>
                      <a:pt x="1975" y="3371"/>
                    </a:lnTo>
                    <a:lnTo>
                      <a:pt x="1893" y="3384"/>
                    </a:lnTo>
                    <a:lnTo>
                      <a:pt x="1810" y="3391"/>
                    </a:lnTo>
                    <a:lnTo>
                      <a:pt x="1726" y="3395"/>
                    </a:lnTo>
                    <a:lnTo>
                      <a:pt x="1641" y="3394"/>
                    </a:lnTo>
                    <a:lnTo>
                      <a:pt x="1556" y="3390"/>
                    </a:lnTo>
                    <a:lnTo>
                      <a:pt x="1470" y="3380"/>
                    </a:lnTo>
                    <a:lnTo>
                      <a:pt x="1385" y="3367"/>
                    </a:lnTo>
                    <a:lnTo>
                      <a:pt x="1299" y="3349"/>
                    </a:lnTo>
                    <a:lnTo>
                      <a:pt x="1217" y="3327"/>
                    </a:lnTo>
                    <a:lnTo>
                      <a:pt x="1135" y="3301"/>
                    </a:lnTo>
                    <a:lnTo>
                      <a:pt x="1056" y="3270"/>
                    </a:lnTo>
                    <a:lnTo>
                      <a:pt x="979" y="3236"/>
                    </a:lnTo>
                    <a:lnTo>
                      <a:pt x="904" y="3200"/>
                    </a:lnTo>
                    <a:lnTo>
                      <a:pt x="832" y="3159"/>
                    </a:lnTo>
                    <a:lnTo>
                      <a:pt x="762" y="3115"/>
                    </a:lnTo>
                    <a:lnTo>
                      <a:pt x="695" y="3067"/>
                    </a:lnTo>
                    <a:lnTo>
                      <a:pt x="630" y="3018"/>
                    </a:lnTo>
                    <a:lnTo>
                      <a:pt x="567" y="2964"/>
                    </a:lnTo>
                    <a:lnTo>
                      <a:pt x="508" y="2908"/>
                    </a:lnTo>
                    <a:lnTo>
                      <a:pt x="451" y="2850"/>
                    </a:lnTo>
                    <a:lnTo>
                      <a:pt x="397" y="2788"/>
                    </a:lnTo>
                    <a:lnTo>
                      <a:pt x="347" y="2725"/>
                    </a:lnTo>
                    <a:lnTo>
                      <a:pt x="298" y="2659"/>
                    </a:lnTo>
                    <a:lnTo>
                      <a:pt x="254" y="2590"/>
                    </a:lnTo>
                    <a:lnTo>
                      <a:pt x="214" y="2520"/>
                    </a:lnTo>
                    <a:lnTo>
                      <a:pt x="175" y="2447"/>
                    </a:lnTo>
                    <a:lnTo>
                      <a:pt x="141" y="2373"/>
                    </a:lnTo>
                    <a:lnTo>
                      <a:pt x="110" y="2297"/>
                    </a:lnTo>
                    <a:lnTo>
                      <a:pt x="83" y="2221"/>
                    </a:lnTo>
                    <a:lnTo>
                      <a:pt x="59" y="2142"/>
                    </a:lnTo>
                    <a:lnTo>
                      <a:pt x="40" y="2061"/>
                    </a:lnTo>
                    <a:lnTo>
                      <a:pt x="24" y="1980"/>
                    </a:lnTo>
                    <a:lnTo>
                      <a:pt x="11" y="1897"/>
                    </a:lnTo>
                    <a:lnTo>
                      <a:pt x="4" y="1814"/>
                    </a:lnTo>
                    <a:lnTo>
                      <a:pt x="0" y="1730"/>
                    </a:lnTo>
                    <a:lnTo>
                      <a:pt x="1" y="1645"/>
                    </a:lnTo>
                    <a:lnTo>
                      <a:pt x="5" y="1560"/>
                    </a:lnTo>
                    <a:lnTo>
                      <a:pt x="14" y="1475"/>
                    </a:lnTo>
                    <a:lnTo>
                      <a:pt x="28" y="138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059080" y="4282200"/>
                <a:ext cx="132480" cy="41760"/>
              </a:xfrm>
              <a:custGeom>
                <a:avLst/>
                <a:gdLst/>
                <a:ahLst/>
                <a:rect l="l" t="t" r="r" b="b"/>
                <a:pathLst>
                  <a:path w="313" h="101">
                    <a:moveTo>
                      <a:pt x="110" y="93"/>
                    </a:moveTo>
                    <a:lnTo>
                      <a:pt x="100" y="89"/>
                    </a:lnTo>
                    <a:lnTo>
                      <a:pt x="31" y="91"/>
                    </a:lnTo>
                    <a:lnTo>
                      <a:pt x="28" y="94"/>
                    </a:lnTo>
                    <a:lnTo>
                      <a:pt x="25" y="87"/>
                    </a:lnTo>
                    <a:lnTo>
                      <a:pt x="21" y="81"/>
                    </a:lnTo>
                    <a:lnTo>
                      <a:pt x="17" y="74"/>
                    </a:lnTo>
                    <a:lnTo>
                      <a:pt x="14" y="67"/>
                    </a:lnTo>
                    <a:lnTo>
                      <a:pt x="11" y="61"/>
                    </a:lnTo>
                    <a:lnTo>
                      <a:pt x="8" y="53"/>
                    </a:lnTo>
                    <a:lnTo>
                      <a:pt x="5" y="47"/>
                    </a:lnTo>
                    <a:lnTo>
                      <a:pt x="0" y="40"/>
                    </a:lnTo>
                    <a:lnTo>
                      <a:pt x="115" y="40"/>
                    </a:lnTo>
                    <a:lnTo>
                      <a:pt x="121" y="42"/>
                    </a:lnTo>
                    <a:lnTo>
                      <a:pt x="122" y="43"/>
                    </a:lnTo>
                    <a:lnTo>
                      <a:pt x="152" y="43"/>
                    </a:lnTo>
                    <a:lnTo>
                      <a:pt x="151" y="29"/>
                    </a:lnTo>
                    <a:lnTo>
                      <a:pt x="147" y="29"/>
                    </a:lnTo>
                    <a:lnTo>
                      <a:pt x="147" y="16"/>
                    </a:lnTo>
                    <a:lnTo>
                      <a:pt x="139" y="16"/>
                    </a:lnTo>
                    <a:lnTo>
                      <a:pt x="120" y="39"/>
                    </a:lnTo>
                    <a:lnTo>
                      <a:pt x="120" y="42"/>
                    </a:lnTo>
                    <a:lnTo>
                      <a:pt x="121" y="42"/>
                    </a:lnTo>
                    <a:lnTo>
                      <a:pt x="115" y="40"/>
                    </a:lnTo>
                    <a:lnTo>
                      <a:pt x="142" y="2"/>
                    </a:lnTo>
                    <a:lnTo>
                      <a:pt x="147" y="0"/>
                    </a:lnTo>
                    <a:lnTo>
                      <a:pt x="152" y="2"/>
                    </a:lnTo>
                    <a:lnTo>
                      <a:pt x="157" y="6"/>
                    </a:lnTo>
                    <a:lnTo>
                      <a:pt x="160" y="52"/>
                    </a:lnTo>
                    <a:lnTo>
                      <a:pt x="234" y="52"/>
                    </a:lnTo>
                    <a:lnTo>
                      <a:pt x="243" y="48"/>
                    </a:lnTo>
                    <a:lnTo>
                      <a:pt x="295" y="47"/>
                    </a:lnTo>
                    <a:lnTo>
                      <a:pt x="300" y="39"/>
                    </a:lnTo>
                    <a:lnTo>
                      <a:pt x="310" y="39"/>
                    </a:lnTo>
                    <a:lnTo>
                      <a:pt x="310" y="47"/>
                    </a:lnTo>
                    <a:lnTo>
                      <a:pt x="313" y="47"/>
                    </a:lnTo>
                    <a:lnTo>
                      <a:pt x="313" y="69"/>
                    </a:lnTo>
                    <a:lnTo>
                      <a:pt x="299" y="69"/>
                    </a:lnTo>
                    <a:lnTo>
                      <a:pt x="292" y="65"/>
                    </a:lnTo>
                    <a:lnTo>
                      <a:pt x="160" y="65"/>
                    </a:lnTo>
                    <a:lnTo>
                      <a:pt x="160" y="71"/>
                    </a:lnTo>
                    <a:lnTo>
                      <a:pt x="147" y="71"/>
                    </a:lnTo>
                    <a:lnTo>
                      <a:pt x="147" y="69"/>
                    </a:lnTo>
                    <a:lnTo>
                      <a:pt x="125" y="69"/>
                    </a:lnTo>
                    <a:lnTo>
                      <a:pt x="125" y="81"/>
                    </a:lnTo>
                    <a:lnTo>
                      <a:pt x="117" y="81"/>
                    </a:lnTo>
                    <a:lnTo>
                      <a:pt x="110" y="93"/>
                    </a:lnTo>
                    <a:close/>
                    <a:moveTo>
                      <a:pt x="29" y="95"/>
                    </a:moveTo>
                    <a:lnTo>
                      <a:pt x="103" y="99"/>
                    </a:lnTo>
                    <a:lnTo>
                      <a:pt x="98" y="101"/>
                    </a:lnTo>
                    <a:lnTo>
                      <a:pt x="32" y="101"/>
                    </a:lnTo>
                    <a:lnTo>
                      <a:pt x="31" y="101"/>
                    </a:lnTo>
                    <a:lnTo>
                      <a:pt x="31" y="100"/>
                    </a:lnTo>
                    <a:lnTo>
                      <a:pt x="31" y="99"/>
                    </a:lnTo>
                    <a:lnTo>
                      <a:pt x="30" y="99"/>
                    </a:lnTo>
                    <a:lnTo>
                      <a:pt x="30" y="97"/>
                    </a:lnTo>
                    <a:lnTo>
                      <a:pt x="30" y="96"/>
                    </a:lnTo>
                    <a:lnTo>
                      <a:pt x="29" y="96"/>
                    </a:lnTo>
                    <a:lnTo>
                      <a:pt x="29" y="9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55920" y="3369240"/>
                <a:ext cx="363960" cy="363960"/>
              </a:xfrm>
              <a:custGeom>
                <a:avLst/>
                <a:gdLst/>
                <a:ahLst/>
                <a:rect l="l" t="t" r="r" b="b"/>
                <a:pathLst>
                  <a:path w="865" h="862">
                    <a:moveTo>
                      <a:pt x="458" y="348"/>
                    </a:moveTo>
                    <a:lnTo>
                      <a:pt x="474" y="337"/>
                    </a:lnTo>
                    <a:lnTo>
                      <a:pt x="488" y="327"/>
                    </a:lnTo>
                    <a:lnTo>
                      <a:pt x="502" y="320"/>
                    </a:lnTo>
                    <a:lnTo>
                      <a:pt x="518" y="312"/>
                    </a:lnTo>
                    <a:lnTo>
                      <a:pt x="489" y="295"/>
                    </a:lnTo>
                    <a:lnTo>
                      <a:pt x="476" y="285"/>
                    </a:lnTo>
                    <a:lnTo>
                      <a:pt x="461" y="275"/>
                    </a:lnTo>
                    <a:lnTo>
                      <a:pt x="463" y="293"/>
                    </a:lnTo>
                    <a:lnTo>
                      <a:pt x="460" y="310"/>
                    </a:lnTo>
                    <a:lnTo>
                      <a:pt x="458" y="348"/>
                    </a:lnTo>
                    <a:close/>
                    <a:moveTo>
                      <a:pt x="27" y="351"/>
                    </a:moveTo>
                    <a:lnTo>
                      <a:pt x="30" y="348"/>
                    </a:lnTo>
                    <a:lnTo>
                      <a:pt x="32" y="345"/>
                    </a:lnTo>
                    <a:lnTo>
                      <a:pt x="36" y="342"/>
                    </a:lnTo>
                    <a:lnTo>
                      <a:pt x="39" y="339"/>
                    </a:lnTo>
                    <a:lnTo>
                      <a:pt x="41" y="335"/>
                    </a:lnTo>
                    <a:lnTo>
                      <a:pt x="44" y="332"/>
                    </a:lnTo>
                    <a:lnTo>
                      <a:pt x="47" y="329"/>
                    </a:lnTo>
                    <a:lnTo>
                      <a:pt x="49" y="326"/>
                    </a:lnTo>
                    <a:lnTo>
                      <a:pt x="60" y="326"/>
                    </a:lnTo>
                    <a:lnTo>
                      <a:pt x="60" y="331"/>
                    </a:lnTo>
                    <a:lnTo>
                      <a:pt x="62" y="331"/>
                    </a:lnTo>
                    <a:lnTo>
                      <a:pt x="64" y="333"/>
                    </a:lnTo>
                    <a:lnTo>
                      <a:pt x="66" y="339"/>
                    </a:lnTo>
                    <a:lnTo>
                      <a:pt x="67" y="347"/>
                    </a:lnTo>
                    <a:lnTo>
                      <a:pt x="67" y="354"/>
                    </a:lnTo>
                    <a:lnTo>
                      <a:pt x="66" y="360"/>
                    </a:lnTo>
                    <a:lnTo>
                      <a:pt x="63" y="363"/>
                    </a:lnTo>
                    <a:lnTo>
                      <a:pt x="67" y="365"/>
                    </a:lnTo>
                    <a:lnTo>
                      <a:pt x="72" y="365"/>
                    </a:lnTo>
                    <a:lnTo>
                      <a:pt x="76" y="363"/>
                    </a:lnTo>
                    <a:lnTo>
                      <a:pt x="80" y="359"/>
                    </a:lnTo>
                    <a:lnTo>
                      <a:pt x="78" y="353"/>
                    </a:lnTo>
                    <a:lnTo>
                      <a:pt x="67" y="354"/>
                    </a:lnTo>
                    <a:lnTo>
                      <a:pt x="67" y="347"/>
                    </a:lnTo>
                    <a:lnTo>
                      <a:pt x="81" y="345"/>
                    </a:lnTo>
                    <a:lnTo>
                      <a:pt x="84" y="347"/>
                    </a:lnTo>
                    <a:lnTo>
                      <a:pt x="88" y="348"/>
                    </a:lnTo>
                    <a:lnTo>
                      <a:pt x="92" y="351"/>
                    </a:lnTo>
                    <a:lnTo>
                      <a:pt x="89" y="335"/>
                    </a:lnTo>
                    <a:lnTo>
                      <a:pt x="85" y="320"/>
                    </a:lnTo>
                    <a:lnTo>
                      <a:pt x="95" y="279"/>
                    </a:lnTo>
                    <a:lnTo>
                      <a:pt x="136" y="239"/>
                    </a:lnTo>
                    <a:lnTo>
                      <a:pt x="178" y="200"/>
                    </a:lnTo>
                    <a:lnTo>
                      <a:pt x="222" y="163"/>
                    </a:lnTo>
                    <a:lnTo>
                      <a:pt x="266" y="127"/>
                    </a:lnTo>
                    <a:lnTo>
                      <a:pt x="312" y="94"/>
                    </a:lnTo>
                    <a:lnTo>
                      <a:pt x="359" y="61"/>
                    </a:lnTo>
                    <a:lnTo>
                      <a:pt x="408" y="30"/>
                    </a:lnTo>
                    <a:lnTo>
                      <a:pt x="457" y="0"/>
                    </a:lnTo>
                    <a:lnTo>
                      <a:pt x="458" y="11"/>
                    </a:lnTo>
                    <a:lnTo>
                      <a:pt x="458" y="22"/>
                    </a:lnTo>
                    <a:lnTo>
                      <a:pt x="466" y="25"/>
                    </a:lnTo>
                    <a:lnTo>
                      <a:pt x="479" y="47"/>
                    </a:lnTo>
                    <a:lnTo>
                      <a:pt x="568" y="141"/>
                    </a:lnTo>
                    <a:lnTo>
                      <a:pt x="572" y="148"/>
                    </a:lnTo>
                    <a:lnTo>
                      <a:pt x="573" y="155"/>
                    </a:lnTo>
                    <a:lnTo>
                      <a:pt x="572" y="161"/>
                    </a:lnTo>
                    <a:lnTo>
                      <a:pt x="568" y="165"/>
                    </a:lnTo>
                    <a:lnTo>
                      <a:pt x="564" y="166"/>
                    </a:lnTo>
                    <a:lnTo>
                      <a:pt x="564" y="173"/>
                    </a:lnTo>
                    <a:lnTo>
                      <a:pt x="562" y="180"/>
                    </a:lnTo>
                    <a:lnTo>
                      <a:pt x="558" y="183"/>
                    </a:lnTo>
                    <a:lnTo>
                      <a:pt x="562" y="187"/>
                    </a:lnTo>
                    <a:lnTo>
                      <a:pt x="564" y="193"/>
                    </a:lnTo>
                    <a:lnTo>
                      <a:pt x="569" y="201"/>
                    </a:lnTo>
                    <a:lnTo>
                      <a:pt x="580" y="207"/>
                    </a:lnTo>
                    <a:lnTo>
                      <a:pt x="588" y="213"/>
                    </a:lnTo>
                    <a:lnTo>
                      <a:pt x="595" y="219"/>
                    </a:lnTo>
                    <a:lnTo>
                      <a:pt x="604" y="224"/>
                    </a:lnTo>
                    <a:lnTo>
                      <a:pt x="625" y="218"/>
                    </a:lnTo>
                    <a:lnTo>
                      <a:pt x="636" y="216"/>
                    </a:lnTo>
                    <a:lnTo>
                      <a:pt x="648" y="213"/>
                    </a:lnTo>
                    <a:lnTo>
                      <a:pt x="656" y="209"/>
                    </a:lnTo>
                    <a:lnTo>
                      <a:pt x="689" y="187"/>
                    </a:lnTo>
                    <a:lnTo>
                      <a:pt x="731" y="141"/>
                    </a:lnTo>
                    <a:lnTo>
                      <a:pt x="737" y="142"/>
                    </a:lnTo>
                    <a:lnTo>
                      <a:pt x="760" y="116"/>
                    </a:lnTo>
                    <a:lnTo>
                      <a:pt x="761" y="110"/>
                    </a:lnTo>
                    <a:lnTo>
                      <a:pt x="765" y="103"/>
                    </a:lnTo>
                    <a:lnTo>
                      <a:pt x="771" y="95"/>
                    </a:lnTo>
                    <a:lnTo>
                      <a:pt x="865" y="93"/>
                    </a:lnTo>
                    <a:lnTo>
                      <a:pt x="803" y="129"/>
                    </a:lnTo>
                    <a:lnTo>
                      <a:pt x="791" y="141"/>
                    </a:lnTo>
                    <a:lnTo>
                      <a:pt x="773" y="172"/>
                    </a:lnTo>
                    <a:lnTo>
                      <a:pt x="776" y="180"/>
                    </a:lnTo>
                    <a:lnTo>
                      <a:pt x="728" y="260"/>
                    </a:lnTo>
                    <a:lnTo>
                      <a:pt x="714" y="302"/>
                    </a:lnTo>
                    <a:lnTo>
                      <a:pt x="696" y="317"/>
                    </a:lnTo>
                    <a:lnTo>
                      <a:pt x="677" y="328"/>
                    </a:lnTo>
                    <a:lnTo>
                      <a:pt x="654" y="339"/>
                    </a:lnTo>
                    <a:lnTo>
                      <a:pt x="637" y="342"/>
                    </a:lnTo>
                    <a:lnTo>
                      <a:pt x="624" y="343"/>
                    </a:lnTo>
                    <a:lnTo>
                      <a:pt x="626" y="383"/>
                    </a:lnTo>
                    <a:lnTo>
                      <a:pt x="626" y="429"/>
                    </a:lnTo>
                    <a:lnTo>
                      <a:pt x="620" y="483"/>
                    </a:lnTo>
                    <a:lnTo>
                      <a:pt x="611" y="534"/>
                    </a:lnTo>
                    <a:lnTo>
                      <a:pt x="599" y="586"/>
                    </a:lnTo>
                    <a:lnTo>
                      <a:pt x="589" y="621"/>
                    </a:lnTo>
                    <a:lnTo>
                      <a:pt x="580" y="628"/>
                    </a:lnTo>
                    <a:lnTo>
                      <a:pt x="569" y="635"/>
                    </a:lnTo>
                    <a:lnTo>
                      <a:pt x="562" y="673"/>
                    </a:lnTo>
                    <a:lnTo>
                      <a:pt x="562" y="679"/>
                    </a:lnTo>
                    <a:lnTo>
                      <a:pt x="566" y="685"/>
                    </a:lnTo>
                    <a:lnTo>
                      <a:pt x="566" y="692"/>
                    </a:lnTo>
                    <a:lnTo>
                      <a:pt x="561" y="700"/>
                    </a:lnTo>
                    <a:lnTo>
                      <a:pt x="568" y="706"/>
                    </a:lnTo>
                    <a:lnTo>
                      <a:pt x="573" y="714"/>
                    </a:lnTo>
                    <a:lnTo>
                      <a:pt x="577" y="723"/>
                    </a:lnTo>
                    <a:lnTo>
                      <a:pt x="585" y="726"/>
                    </a:lnTo>
                    <a:lnTo>
                      <a:pt x="589" y="731"/>
                    </a:lnTo>
                    <a:lnTo>
                      <a:pt x="593" y="737"/>
                    </a:lnTo>
                    <a:lnTo>
                      <a:pt x="597" y="743"/>
                    </a:lnTo>
                    <a:lnTo>
                      <a:pt x="601" y="750"/>
                    </a:lnTo>
                    <a:lnTo>
                      <a:pt x="624" y="762"/>
                    </a:lnTo>
                    <a:lnTo>
                      <a:pt x="638" y="768"/>
                    </a:lnTo>
                    <a:lnTo>
                      <a:pt x="645" y="774"/>
                    </a:lnTo>
                    <a:lnTo>
                      <a:pt x="647" y="781"/>
                    </a:lnTo>
                    <a:lnTo>
                      <a:pt x="647" y="793"/>
                    </a:lnTo>
                    <a:lnTo>
                      <a:pt x="635" y="795"/>
                    </a:lnTo>
                    <a:lnTo>
                      <a:pt x="619" y="798"/>
                    </a:lnTo>
                    <a:lnTo>
                      <a:pt x="594" y="797"/>
                    </a:lnTo>
                    <a:lnTo>
                      <a:pt x="572" y="793"/>
                    </a:lnTo>
                    <a:lnTo>
                      <a:pt x="547" y="784"/>
                    </a:lnTo>
                    <a:lnTo>
                      <a:pt x="529" y="775"/>
                    </a:lnTo>
                    <a:lnTo>
                      <a:pt x="514" y="766"/>
                    </a:lnTo>
                    <a:lnTo>
                      <a:pt x="500" y="764"/>
                    </a:lnTo>
                    <a:lnTo>
                      <a:pt x="488" y="763"/>
                    </a:lnTo>
                    <a:lnTo>
                      <a:pt x="476" y="760"/>
                    </a:lnTo>
                    <a:lnTo>
                      <a:pt x="465" y="755"/>
                    </a:lnTo>
                    <a:lnTo>
                      <a:pt x="463" y="742"/>
                    </a:lnTo>
                    <a:lnTo>
                      <a:pt x="464" y="732"/>
                    </a:lnTo>
                    <a:lnTo>
                      <a:pt x="465" y="721"/>
                    </a:lnTo>
                    <a:lnTo>
                      <a:pt x="468" y="712"/>
                    </a:lnTo>
                    <a:lnTo>
                      <a:pt x="472" y="703"/>
                    </a:lnTo>
                    <a:lnTo>
                      <a:pt x="476" y="694"/>
                    </a:lnTo>
                    <a:lnTo>
                      <a:pt x="481" y="685"/>
                    </a:lnTo>
                    <a:lnTo>
                      <a:pt x="481" y="676"/>
                    </a:lnTo>
                    <a:lnTo>
                      <a:pt x="481" y="666"/>
                    </a:lnTo>
                    <a:lnTo>
                      <a:pt x="484" y="660"/>
                    </a:lnTo>
                    <a:lnTo>
                      <a:pt x="488" y="654"/>
                    </a:lnTo>
                    <a:lnTo>
                      <a:pt x="488" y="622"/>
                    </a:lnTo>
                    <a:lnTo>
                      <a:pt x="476" y="617"/>
                    </a:lnTo>
                    <a:lnTo>
                      <a:pt x="477" y="609"/>
                    </a:lnTo>
                    <a:lnTo>
                      <a:pt x="480" y="601"/>
                    </a:lnTo>
                    <a:lnTo>
                      <a:pt x="480" y="591"/>
                    </a:lnTo>
                    <a:lnTo>
                      <a:pt x="477" y="579"/>
                    </a:lnTo>
                    <a:lnTo>
                      <a:pt x="480" y="561"/>
                    </a:lnTo>
                    <a:lnTo>
                      <a:pt x="484" y="538"/>
                    </a:lnTo>
                    <a:lnTo>
                      <a:pt x="490" y="514"/>
                    </a:lnTo>
                    <a:lnTo>
                      <a:pt x="500" y="489"/>
                    </a:lnTo>
                    <a:lnTo>
                      <a:pt x="484" y="508"/>
                    </a:lnTo>
                    <a:lnTo>
                      <a:pt x="466" y="526"/>
                    </a:lnTo>
                    <a:lnTo>
                      <a:pt x="453" y="540"/>
                    </a:lnTo>
                    <a:lnTo>
                      <a:pt x="435" y="556"/>
                    </a:lnTo>
                    <a:lnTo>
                      <a:pt x="421" y="568"/>
                    </a:lnTo>
                    <a:lnTo>
                      <a:pt x="402" y="583"/>
                    </a:lnTo>
                    <a:lnTo>
                      <a:pt x="386" y="596"/>
                    </a:lnTo>
                    <a:lnTo>
                      <a:pt x="365" y="608"/>
                    </a:lnTo>
                    <a:lnTo>
                      <a:pt x="345" y="619"/>
                    </a:lnTo>
                    <a:lnTo>
                      <a:pt x="326" y="627"/>
                    </a:lnTo>
                    <a:lnTo>
                      <a:pt x="308" y="634"/>
                    </a:lnTo>
                    <a:lnTo>
                      <a:pt x="290" y="639"/>
                    </a:lnTo>
                    <a:lnTo>
                      <a:pt x="275" y="701"/>
                    </a:lnTo>
                    <a:lnTo>
                      <a:pt x="274" y="719"/>
                    </a:lnTo>
                    <a:lnTo>
                      <a:pt x="270" y="737"/>
                    </a:lnTo>
                    <a:lnTo>
                      <a:pt x="268" y="752"/>
                    </a:lnTo>
                    <a:lnTo>
                      <a:pt x="264" y="766"/>
                    </a:lnTo>
                    <a:lnTo>
                      <a:pt x="259" y="781"/>
                    </a:lnTo>
                    <a:lnTo>
                      <a:pt x="250" y="797"/>
                    </a:lnTo>
                    <a:lnTo>
                      <a:pt x="243" y="808"/>
                    </a:lnTo>
                    <a:lnTo>
                      <a:pt x="234" y="819"/>
                    </a:lnTo>
                    <a:lnTo>
                      <a:pt x="232" y="829"/>
                    </a:lnTo>
                    <a:lnTo>
                      <a:pt x="225" y="840"/>
                    </a:lnTo>
                    <a:lnTo>
                      <a:pt x="215" y="849"/>
                    </a:lnTo>
                    <a:lnTo>
                      <a:pt x="199" y="857"/>
                    </a:lnTo>
                    <a:lnTo>
                      <a:pt x="176" y="862"/>
                    </a:lnTo>
                    <a:lnTo>
                      <a:pt x="156" y="862"/>
                    </a:lnTo>
                    <a:lnTo>
                      <a:pt x="137" y="859"/>
                    </a:lnTo>
                    <a:lnTo>
                      <a:pt x="123" y="852"/>
                    </a:lnTo>
                    <a:lnTo>
                      <a:pt x="111" y="844"/>
                    </a:lnTo>
                    <a:lnTo>
                      <a:pt x="103" y="836"/>
                    </a:lnTo>
                    <a:lnTo>
                      <a:pt x="93" y="833"/>
                    </a:lnTo>
                    <a:lnTo>
                      <a:pt x="83" y="816"/>
                    </a:lnTo>
                    <a:lnTo>
                      <a:pt x="76" y="797"/>
                    </a:lnTo>
                    <a:lnTo>
                      <a:pt x="71" y="779"/>
                    </a:lnTo>
                    <a:lnTo>
                      <a:pt x="67" y="758"/>
                    </a:lnTo>
                    <a:lnTo>
                      <a:pt x="67" y="739"/>
                    </a:lnTo>
                    <a:lnTo>
                      <a:pt x="64" y="704"/>
                    </a:lnTo>
                    <a:lnTo>
                      <a:pt x="74" y="684"/>
                    </a:lnTo>
                    <a:lnTo>
                      <a:pt x="80" y="659"/>
                    </a:lnTo>
                    <a:lnTo>
                      <a:pt x="87" y="649"/>
                    </a:lnTo>
                    <a:lnTo>
                      <a:pt x="84" y="634"/>
                    </a:lnTo>
                    <a:lnTo>
                      <a:pt x="82" y="621"/>
                    </a:lnTo>
                    <a:lnTo>
                      <a:pt x="60" y="604"/>
                    </a:lnTo>
                    <a:lnTo>
                      <a:pt x="70" y="589"/>
                    </a:lnTo>
                    <a:lnTo>
                      <a:pt x="82" y="556"/>
                    </a:lnTo>
                    <a:lnTo>
                      <a:pt x="72" y="557"/>
                    </a:lnTo>
                    <a:lnTo>
                      <a:pt x="64" y="555"/>
                    </a:lnTo>
                    <a:lnTo>
                      <a:pt x="60" y="553"/>
                    </a:lnTo>
                    <a:lnTo>
                      <a:pt x="56" y="546"/>
                    </a:lnTo>
                    <a:lnTo>
                      <a:pt x="53" y="540"/>
                    </a:lnTo>
                    <a:lnTo>
                      <a:pt x="47" y="541"/>
                    </a:lnTo>
                    <a:lnTo>
                      <a:pt x="40" y="540"/>
                    </a:lnTo>
                    <a:lnTo>
                      <a:pt x="32" y="536"/>
                    </a:lnTo>
                    <a:lnTo>
                      <a:pt x="26" y="531"/>
                    </a:lnTo>
                    <a:lnTo>
                      <a:pt x="21" y="523"/>
                    </a:lnTo>
                    <a:lnTo>
                      <a:pt x="16" y="514"/>
                    </a:lnTo>
                    <a:lnTo>
                      <a:pt x="14" y="505"/>
                    </a:lnTo>
                    <a:lnTo>
                      <a:pt x="7" y="503"/>
                    </a:lnTo>
                    <a:lnTo>
                      <a:pt x="1" y="450"/>
                    </a:lnTo>
                    <a:lnTo>
                      <a:pt x="6" y="448"/>
                    </a:lnTo>
                    <a:lnTo>
                      <a:pt x="6" y="426"/>
                    </a:lnTo>
                    <a:lnTo>
                      <a:pt x="0" y="425"/>
                    </a:lnTo>
                    <a:lnTo>
                      <a:pt x="1" y="411"/>
                    </a:lnTo>
                    <a:lnTo>
                      <a:pt x="5" y="401"/>
                    </a:lnTo>
                    <a:lnTo>
                      <a:pt x="6" y="394"/>
                    </a:lnTo>
                    <a:lnTo>
                      <a:pt x="10" y="389"/>
                    </a:lnTo>
                    <a:lnTo>
                      <a:pt x="14" y="380"/>
                    </a:lnTo>
                    <a:lnTo>
                      <a:pt x="15" y="374"/>
                    </a:lnTo>
                    <a:lnTo>
                      <a:pt x="17" y="369"/>
                    </a:lnTo>
                    <a:lnTo>
                      <a:pt x="31" y="365"/>
                    </a:lnTo>
                    <a:lnTo>
                      <a:pt x="26" y="354"/>
                    </a:lnTo>
                    <a:lnTo>
                      <a:pt x="27" y="351"/>
                    </a:lnTo>
                    <a:close/>
                    <a:moveTo>
                      <a:pt x="91" y="366"/>
                    </a:moveTo>
                    <a:lnTo>
                      <a:pt x="84" y="371"/>
                    </a:lnTo>
                    <a:lnTo>
                      <a:pt x="87" y="376"/>
                    </a:lnTo>
                    <a:lnTo>
                      <a:pt x="89" y="381"/>
                    </a:lnTo>
                    <a:lnTo>
                      <a:pt x="91" y="376"/>
                    </a:lnTo>
                    <a:lnTo>
                      <a:pt x="92" y="370"/>
                    </a:lnTo>
                    <a:lnTo>
                      <a:pt x="91" y="3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155920" y="3514320"/>
                <a:ext cx="273240" cy="218880"/>
              </a:xfrm>
              <a:custGeom>
                <a:avLst/>
                <a:gdLst/>
                <a:ahLst/>
                <a:rect l="l" t="t" r="r" b="b"/>
                <a:pathLst>
                  <a:path w="647" h="519">
                    <a:moveTo>
                      <a:pt x="624" y="0"/>
                    </a:moveTo>
                    <a:lnTo>
                      <a:pt x="626" y="40"/>
                    </a:lnTo>
                    <a:lnTo>
                      <a:pt x="626" y="86"/>
                    </a:lnTo>
                    <a:lnTo>
                      <a:pt x="620" y="140"/>
                    </a:lnTo>
                    <a:lnTo>
                      <a:pt x="611" y="191"/>
                    </a:lnTo>
                    <a:lnTo>
                      <a:pt x="599" y="243"/>
                    </a:lnTo>
                    <a:lnTo>
                      <a:pt x="589" y="278"/>
                    </a:lnTo>
                    <a:lnTo>
                      <a:pt x="580" y="285"/>
                    </a:lnTo>
                    <a:lnTo>
                      <a:pt x="569" y="292"/>
                    </a:lnTo>
                    <a:lnTo>
                      <a:pt x="562" y="330"/>
                    </a:lnTo>
                    <a:lnTo>
                      <a:pt x="562" y="336"/>
                    </a:lnTo>
                    <a:lnTo>
                      <a:pt x="566" y="342"/>
                    </a:lnTo>
                    <a:lnTo>
                      <a:pt x="566" y="349"/>
                    </a:lnTo>
                    <a:lnTo>
                      <a:pt x="561" y="357"/>
                    </a:lnTo>
                    <a:lnTo>
                      <a:pt x="568" y="363"/>
                    </a:lnTo>
                    <a:lnTo>
                      <a:pt x="573" y="371"/>
                    </a:lnTo>
                    <a:lnTo>
                      <a:pt x="577" y="380"/>
                    </a:lnTo>
                    <a:lnTo>
                      <a:pt x="585" y="383"/>
                    </a:lnTo>
                    <a:lnTo>
                      <a:pt x="589" y="388"/>
                    </a:lnTo>
                    <a:lnTo>
                      <a:pt x="593" y="394"/>
                    </a:lnTo>
                    <a:lnTo>
                      <a:pt x="597" y="400"/>
                    </a:lnTo>
                    <a:lnTo>
                      <a:pt x="601" y="407"/>
                    </a:lnTo>
                    <a:lnTo>
                      <a:pt x="624" y="419"/>
                    </a:lnTo>
                    <a:lnTo>
                      <a:pt x="638" y="425"/>
                    </a:lnTo>
                    <a:lnTo>
                      <a:pt x="645" y="431"/>
                    </a:lnTo>
                    <a:lnTo>
                      <a:pt x="647" y="438"/>
                    </a:lnTo>
                    <a:lnTo>
                      <a:pt x="647" y="450"/>
                    </a:lnTo>
                    <a:lnTo>
                      <a:pt x="635" y="452"/>
                    </a:lnTo>
                    <a:lnTo>
                      <a:pt x="619" y="455"/>
                    </a:lnTo>
                    <a:lnTo>
                      <a:pt x="594" y="454"/>
                    </a:lnTo>
                    <a:lnTo>
                      <a:pt x="572" y="450"/>
                    </a:lnTo>
                    <a:lnTo>
                      <a:pt x="547" y="441"/>
                    </a:lnTo>
                    <a:lnTo>
                      <a:pt x="529" y="432"/>
                    </a:lnTo>
                    <a:lnTo>
                      <a:pt x="514" y="423"/>
                    </a:lnTo>
                    <a:lnTo>
                      <a:pt x="500" y="421"/>
                    </a:lnTo>
                    <a:lnTo>
                      <a:pt x="488" y="420"/>
                    </a:lnTo>
                    <a:lnTo>
                      <a:pt x="476" y="417"/>
                    </a:lnTo>
                    <a:lnTo>
                      <a:pt x="465" y="412"/>
                    </a:lnTo>
                    <a:lnTo>
                      <a:pt x="463" y="399"/>
                    </a:lnTo>
                    <a:lnTo>
                      <a:pt x="464" y="389"/>
                    </a:lnTo>
                    <a:lnTo>
                      <a:pt x="465" y="378"/>
                    </a:lnTo>
                    <a:lnTo>
                      <a:pt x="468" y="369"/>
                    </a:lnTo>
                    <a:lnTo>
                      <a:pt x="472" y="360"/>
                    </a:lnTo>
                    <a:lnTo>
                      <a:pt x="476" y="351"/>
                    </a:lnTo>
                    <a:lnTo>
                      <a:pt x="481" y="342"/>
                    </a:lnTo>
                    <a:lnTo>
                      <a:pt x="481" y="333"/>
                    </a:lnTo>
                    <a:lnTo>
                      <a:pt x="481" y="323"/>
                    </a:lnTo>
                    <a:lnTo>
                      <a:pt x="484" y="317"/>
                    </a:lnTo>
                    <a:lnTo>
                      <a:pt x="488" y="311"/>
                    </a:lnTo>
                    <a:lnTo>
                      <a:pt x="488" y="279"/>
                    </a:lnTo>
                    <a:lnTo>
                      <a:pt x="476" y="274"/>
                    </a:lnTo>
                    <a:lnTo>
                      <a:pt x="477" y="266"/>
                    </a:lnTo>
                    <a:lnTo>
                      <a:pt x="480" y="258"/>
                    </a:lnTo>
                    <a:lnTo>
                      <a:pt x="480" y="248"/>
                    </a:lnTo>
                    <a:lnTo>
                      <a:pt x="477" y="236"/>
                    </a:lnTo>
                    <a:lnTo>
                      <a:pt x="480" y="218"/>
                    </a:lnTo>
                    <a:lnTo>
                      <a:pt x="484" y="195"/>
                    </a:lnTo>
                    <a:lnTo>
                      <a:pt x="490" y="171"/>
                    </a:lnTo>
                    <a:lnTo>
                      <a:pt x="500" y="146"/>
                    </a:lnTo>
                    <a:lnTo>
                      <a:pt x="484" y="165"/>
                    </a:lnTo>
                    <a:lnTo>
                      <a:pt x="466" y="183"/>
                    </a:lnTo>
                    <a:lnTo>
                      <a:pt x="453" y="197"/>
                    </a:lnTo>
                    <a:lnTo>
                      <a:pt x="435" y="213"/>
                    </a:lnTo>
                    <a:lnTo>
                      <a:pt x="421" y="225"/>
                    </a:lnTo>
                    <a:lnTo>
                      <a:pt x="402" y="240"/>
                    </a:lnTo>
                    <a:lnTo>
                      <a:pt x="386" y="253"/>
                    </a:lnTo>
                    <a:lnTo>
                      <a:pt x="365" y="265"/>
                    </a:lnTo>
                    <a:lnTo>
                      <a:pt x="345" y="276"/>
                    </a:lnTo>
                    <a:lnTo>
                      <a:pt x="326" y="284"/>
                    </a:lnTo>
                    <a:lnTo>
                      <a:pt x="308" y="291"/>
                    </a:lnTo>
                    <a:lnTo>
                      <a:pt x="290" y="296"/>
                    </a:lnTo>
                    <a:lnTo>
                      <a:pt x="275" y="358"/>
                    </a:lnTo>
                    <a:lnTo>
                      <a:pt x="274" y="376"/>
                    </a:lnTo>
                    <a:lnTo>
                      <a:pt x="270" y="394"/>
                    </a:lnTo>
                    <a:lnTo>
                      <a:pt x="268" y="409"/>
                    </a:lnTo>
                    <a:lnTo>
                      <a:pt x="264" y="423"/>
                    </a:lnTo>
                    <a:lnTo>
                      <a:pt x="259" y="438"/>
                    </a:lnTo>
                    <a:lnTo>
                      <a:pt x="250" y="454"/>
                    </a:lnTo>
                    <a:lnTo>
                      <a:pt x="243" y="465"/>
                    </a:lnTo>
                    <a:lnTo>
                      <a:pt x="234" y="476"/>
                    </a:lnTo>
                    <a:lnTo>
                      <a:pt x="232" y="486"/>
                    </a:lnTo>
                    <a:lnTo>
                      <a:pt x="225" y="497"/>
                    </a:lnTo>
                    <a:lnTo>
                      <a:pt x="215" y="506"/>
                    </a:lnTo>
                    <a:lnTo>
                      <a:pt x="199" y="514"/>
                    </a:lnTo>
                    <a:lnTo>
                      <a:pt x="176" y="519"/>
                    </a:lnTo>
                    <a:lnTo>
                      <a:pt x="156" y="519"/>
                    </a:lnTo>
                    <a:lnTo>
                      <a:pt x="137" y="516"/>
                    </a:lnTo>
                    <a:lnTo>
                      <a:pt x="123" y="509"/>
                    </a:lnTo>
                    <a:lnTo>
                      <a:pt x="111" y="501"/>
                    </a:lnTo>
                    <a:lnTo>
                      <a:pt x="103" y="493"/>
                    </a:lnTo>
                    <a:lnTo>
                      <a:pt x="93" y="490"/>
                    </a:lnTo>
                    <a:lnTo>
                      <a:pt x="83" y="473"/>
                    </a:lnTo>
                    <a:lnTo>
                      <a:pt x="76" y="454"/>
                    </a:lnTo>
                    <a:lnTo>
                      <a:pt x="71" y="436"/>
                    </a:lnTo>
                    <a:lnTo>
                      <a:pt x="67" y="415"/>
                    </a:lnTo>
                    <a:lnTo>
                      <a:pt x="67" y="396"/>
                    </a:lnTo>
                    <a:lnTo>
                      <a:pt x="64" y="361"/>
                    </a:lnTo>
                    <a:lnTo>
                      <a:pt x="74" y="341"/>
                    </a:lnTo>
                    <a:lnTo>
                      <a:pt x="80" y="316"/>
                    </a:lnTo>
                    <a:lnTo>
                      <a:pt x="87" y="306"/>
                    </a:lnTo>
                    <a:lnTo>
                      <a:pt x="84" y="291"/>
                    </a:lnTo>
                    <a:lnTo>
                      <a:pt x="82" y="278"/>
                    </a:lnTo>
                    <a:lnTo>
                      <a:pt x="60" y="261"/>
                    </a:lnTo>
                    <a:lnTo>
                      <a:pt x="70" y="246"/>
                    </a:lnTo>
                    <a:lnTo>
                      <a:pt x="82" y="213"/>
                    </a:lnTo>
                    <a:lnTo>
                      <a:pt x="72" y="214"/>
                    </a:lnTo>
                    <a:lnTo>
                      <a:pt x="64" y="212"/>
                    </a:lnTo>
                    <a:lnTo>
                      <a:pt x="60" y="210"/>
                    </a:lnTo>
                    <a:lnTo>
                      <a:pt x="56" y="203"/>
                    </a:lnTo>
                    <a:lnTo>
                      <a:pt x="53" y="197"/>
                    </a:lnTo>
                    <a:lnTo>
                      <a:pt x="47" y="198"/>
                    </a:lnTo>
                    <a:lnTo>
                      <a:pt x="40" y="197"/>
                    </a:lnTo>
                    <a:lnTo>
                      <a:pt x="32" y="193"/>
                    </a:lnTo>
                    <a:lnTo>
                      <a:pt x="26" y="188"/>
                    </a:lnTo>
                    <a:lnTo>
                      <a:pt x="21" y="180"/>
                    </a:lnTo>
                    <a:lnTo>
                      <a:pt x="16" y="171"/>
                    </a:lnTo>
                    <a:lnTo>
                      <a:pt x="14" y="162"/>
                    </a:lnTo>
                    <a:lnTo>
                      <a:pt x="7" y="160"/>
                    </a:lnTo>
                    <a:lnTo>
                      <a:pt x="1" y="107"/>
                    </a:lnTo>
                    <a:lnTo>
                      <a:pt x="6" y="105"/>
                    </a:lnTo>
                    <a:lnTo>
                      <a:pt x="6" y="83"/>
                    </a:lnTo>
                    <a:lnTo>
                      <a:pt x="0" y="82"/>
                    </a:lnTo>
                    <a:lnTo>
                      <a:pt x="1" y="68"/>
                    </a:lnTo>
                    <a:lnTo>
                      <a:pt x="5" y="58"/>
                    </a:lnTo>
                    <a:lnTo>
                      <a:pt x="6" y="51"/>
                    </a:lnTo>
                    <a:lnTo>
                      <a:pt x="10" y="46"/>
                    </a:lnTo>
                    <a:lnTo>
                      <a:pt x="14" y="37"/>
                    </a:lnTo>
                    <a:lnTo>
                      <a:pt x="15" y="31"/>
                    </a:lnTo>
                    <a:lnTo>
                      <a:pt x="17" y="26"/>
                    </a:lnTo>
                    <a:lnTo>
                      <a:pt x="31" y="22"/>
                    </a:lnTo>
                    <a:lnTo>
                      <a:pt x="26" y="11"/>
                    </a:lnTo>
                    <a:lnTo>
                      <a:pt x="27" y="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349240" y="3369240"/>
                <a:ext cx="170640" cy="144720"/>
              </a:xfrm>
              <a:custGeom>
                <a:avLst/>
                <a:gdLst/>
                <a:ahLst/>
                <a:rect l="l" t="t" r="r" b="b"/>
                <a:pathLst>
                  <a:path w="408" h="343">
                    <a:moveTo>
                      <a:pt x="0" y="0"/>
                    </a:moveTo>
                    <a:lnTo>
                      <a:pt x="1" y="11"/>
                    </a:lnTo>
                    <a:lnTo>
                      <a:pt x="1" y="22"/>
                    </a:lnTo>
                    <a:lnTo>
                      <a:pt x="9" y="25"/>
                    </a:lnTo>
                    <a:lnTo>
                      <a:pt x="22" y="47"/>
                    </a:lnTo>
                    <a:lnTo>
                      <a:pt x="111" y="141"/>
                    </a:lnTo>
                    <a:lnTo>
                      <a:pt x="115" y="148"/>
                    </a:lnTo>
                    <a:lnTo>
                      <a:pt x="116" y="155"/>
                    </a:lnTo>
                    <a:lnTo>
                      <a:pt x="115" y="161"/>
                    </a:lnTo>
                    <a:lnTo>
                      <a:pt x="111" y="165"/>
                    </a:lnTo>
                    <a:lnTo>
                      <a:pt x="107" y="166"/>
                    </a:lnTo>
                    <a:lnTo>
                      <a:pt x="107" y="173"/>
                    </a:lnTo>
                    <a:lnTo>
                      <a:pt x="105" y="180"/>
                    </a:lnTo>
                    <a:lnTo>
                      <a:pt x="101" y="183"/>
                    </a:lnTo>
                    <a:lnTo>
                      <a:pt x="105" y="187"/>
                    </a:lnTo>
                    <a:lnTo>
                      <a:pt x="107" y="193"/>
                    </a:lnTo>
                    <a:lnTo>
                      <a:pt x="112" y="201"/>
                    </a:lnTo>
                    <a:lnTo>
                      <a:pt x="123" y="207"/>
                    </a:lnTo>
                    <a:lnTo>
                      <a:pt x="131" y="213"/>
                    </a:lnTo>
                    <a:lnTo>
                      <a:pt x="138" y="219"/>
                    </a:lnTo>
                    <a:lnTo>
                      <a:pt x="147" y="224"/>
                    </a:lnTo>
                    <a:lnTo>
                      <a:pt x="168" y="218"/>
                    </a:lnTo>
                    <a:lnTo>
                      <a:pt x="179" y="216"/>
                    </a:lnTo>
                    <a:lnTo>
                      <a:pt x="191" y="213"/>
                    </a:lnTo>
                    <a:lnTo>
                      <a:pt x="199" y="209"/>
                    </a:lnTo>
                    <a:lnTo>
                      <a:pt x="232" y="187"/>
                    </a:lnTo>
                    <a:lnTo>
                      <a:pt x="274" y="141"/>
                    </a:lnTo>
                    <a:lnTo>
                      <a:pt x="280" y="142"/>
                    </a:lnTo>
                    <a:lnTo>
                      <a:pt x="303" y="116"/>
                    </a:lnTo>
                    <a:lnTo>
                      <a:pt x="304" y="110"/>
                    </a:lnTo>
                    <a:lnTo>
                      <a:pt x="308" y="103"/>
                    </a:lnTo>
                    <a:lnTo>
                      <a:pt x="314" y="95"/>
                    </a:lnTo>
                    <a:lnTo>
                      <a:pt x="408" y="93"/>
                    </a:lnTo>
                    <a:lnTo>
                      <a:pt x="346" y="129"/>
                    </a:lnTo>
                    <a:lnTo>
                      <a:pt x="334" y="141"/>
                    </a:lnTo>
                    <a:lnTo>
                      <a:pt x="316" y="172"/>
                    </a:lnTo>
                    <a:lnTo>
                      <a:pt x="319" y="180"/>
                    </a:lnTo>
                    <a:lnTo>
                      <a:pt x="271" y="260"/>
                    </a:lnTo>
                    <a:lnTo>
                      <a:pt x="257" y="302"/>
                    </a:lnTo>
                    <a:lnTo>
                      <a:pt x="239" y="317"/>
                    </a:lnTo>
                    <a:lnTo>
                      <a:pt x="220" y="328"/>
                    </a:lnTo>
                    <a:lnTo>
                      <a:pt x="197" y="339"/>
                    </a:lnTo>
                    <a:lnTo>
                      <a:pt x="180" y="342"/>
                    </a:lnTo>
                    <a:lnTo>
                      <a:pt x="167" y="34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57880" y="3367080"/>
                <a:ext cx="286200" cy="79560"/>
              </a:xfrm>
              <a:custGeom>
                <a:avLst/>
                <a:gdLst/>
                <a:ahLst/>
                <a:rect l="l" t="t" r="r" b="b"/>
                <a:pathLst>
                  <a:path w="681" h="194">
                    <a:moveTo>
                      <a:pt x="479" y="93"/>
                    </a:moveTo>
                    <a:lnTo>
                      <a:pt x="468" y="89"/>
                    </a:lnTo>
                    <a:lnTo>
                      <a:pt x="398" y="92"/>
                    </a:lnTo>
                    <a:lnTo>
                      <a:pt x="395" y="97"/>
                    </a:lnTo>
                    <a:lnTo>
                      <a:pt x="471" y="99"/>
                    </a:lnTo>
                    <a:lnTo>
                      <a:pt x="465" y="102"/>
                    </a:lnTo>
                    <a:lnTo>
                      <a:pt x="387" y="102"/>
                    </a:lnTo>
                    <a:lnTo>
                      <a:pt x="293" y="104"/>
                    </a:lnTo>
                    <a:lnTo>
                      <a:pt x="271" y="104"/>
                    </a:lnTo>
                    <a:lnTo>
                      <a:pt x="194" y="135"/>
                    </a:lnTo>
                    <a:lnTo>
                      <a:pt x="194" y="182"/>
                    </a:lnTo>
                    <a:lnTo>
                      <a:pt x="139" y="194"/>
                    </a:lnTo>
                    <a:lnTo>
                      <a:pt x="139" y="150"/>
                    </a:lnTo>
                    <a:lnTo>
                      <a:pt x="136" y="139"/>
                    </a:lnTo>
                    <a:lnTo>
                      <a:pt x="136" y="128"/>
                    </a:lnTo>
                    <a:lnTo>
                      <a:pt x="134" y="124"/>
                    </a:lnTo>
                    <a:lnTo>
                      <a:pt x="132" y="121"/>
                    </a:lnTo>
                    <a:lnTo>
                      <a:pt x="129" y="120"/>
                    </a:lnTo>
                    <a:lnTo>
                      <a:pt x="127" y="120"/>
                    </a:lnTo>
                    <a:lnTo>
                      <a:pt x="107" y="119"/>
                    </a:lnTo>
                    <a:lnTo>
                      <a:pt x="113" y="129"/>
                    </a:lnTo>
                    <a:lnTo>
                      <a:pt x="114" y="134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08" y="144"/>
                    </a:lnTo>
                    <a:lnTo>
                      <a:pt x="130" y="144"/>
                    </a:lnTo>
                    <a:lnTo>
                      <a:pt x="133" y="144"/>
                    </a:lnTo>
                    <a:lnTo>
                      <a:pt x="134" y="141"/>
                    </a:lnTo>
                    <a:lnTo>
                      <a:pt x="136" y="139"/>
                    </a:lnTo>
                    <a:lnTo>
                      <a:pt x="139" y="150"/>
                    </a:lnTo>
                    <a:lnTo>
                      <a:pt x="90" y="150"/>
                    </a:lnTo>
                    <a:lnTo>
                      <a:pt x="0" y="56"/>
                    </a:lnTo>
                    <a:lnTo>
                      <a:pt x="35" y="56"/>
                    </a:lnTo>
                    <a:lnTo>
                      <a:pt x="35" y="43"/>
                    </a:lnTo>
                    <a:lnTo>
                      <a:pt x="46" y="43"/>
                    </a:lnTo>
                    <a:lnTo>
                      <a:pt x="52" y="20"/>
                    </a:lnTo>
                    <a:lnTo>
                      <a:pt x="57" y="20"/>
                    </a:lnTo>
                    <a:lnTo>
                      <a:pt x="60" y="10"/>
                    </a:lnTo>
                    <a:lnTo>
                      <a:pt x="65" y="5"/>
                    </a:lnTo>
                    <a:lnTo>
                      <a:pt x="72" y="4"/>
                    </a:lnTo>
                    <a:lnTo>
                      <a:pt x="196" y="15"/>
                    </a:lnTo>
                    <a:lnTo>
                      <a:pt x="201" y="17"/>
                    </a:lnTo>
                    <a:lnTo>
                      <a:pt x="206" y="21"/>
                    </a:lnTo>
                    <a:lnTo>
                      <a:pt x="210" y="26"/>
                    </a:lnTo>
                    <a:lnTo>
                      <a:pt x="210" y="32"/>
                    </a:lnTo>
                    <a:lnTo>
                      <a:pt x="209" y="38"/>
                    </a:lnTo>
                    <a:lnTo>
                      <a:pt x="206" y="41"/>
                    </a:lnTo>
                    <a:lnTo>
                      <a:pt x="199" y="41"/>
                    </a:lnTo>
                    <a:lnTo>
                      <a:pt x="200" y="37"/>
                    </a:lnTo>
                    <a:lnTo>
                      <a:pt x="202" y="31"/>
                    </a:lnTo>
                    <a:lnTo>
                      <a:pt x="202" y="26"/>
                    </a:lnTo>
                    <a:lnTo>
                      <a:pt x="199" y="22"/>
                    </a:lnTo>
                    <a:lnTo>
                      <a:pt x="194" y="20"/>
                    </a:lnTo>
                    <a:lnTo>
                      <a:pt x="101" y="20"/>
                    </a:lnTo>
                    <a:lnTo>
                      <a:pt x="96" y="25"/>
                    </a:lnTo>
                    <a:lnTo>
                      <a:pt x="93" y="30"/>
                    </a:lnTo>
                    <a:lnTo>
                      <a:pt x="92" y="36"/>
                    </a:lnTo>
                    <a:lnTo>
                      <a:pt x="92" y="40"/>
                    </a:lnTo>
                    <a:lnTo>
                      <a:pt x="93" y="42"/>
                    </a:lnTo>
                    <a:lnTo>
                      <a:pt x="97" y="43"/>
                    </a:lnTo>
                    <a:lnTo>
                      <a:pt x="194" y="43"/>
                    </a:lnTo>
                    <a:lnTo>
                      <a:pt x="199" y="41"/>
                    </a:lnTo>
                    <a:lnTo>
                      <a:pt x="206" y="41"/>
                    </a:lnTo>
                    <a:lnTo>
                      <a:pt x="483" y="41"/>
                    </a:lnTo>
                    <a:lnTo>
                      <a:pt x="489" y="42"/>
                    </a:lnTo>
                    <a:lnTo>
                      <a:pt x="490" y="43"/>
                    </a:lnTo>
                    <a:lnTo>
                      <a:pt x="521" y="43"/>
                    </a:lnTo>
                    <a:lnTo>
                      <a:pt x="520" y="30"/>
                    </a:lnTo>
                    <a:lnTo>
                      <a:pt x="516" y="30"/>
                    </a:lnTo>
                    <a:lnTo>
                      <a:pt x="516" y="16"/>
                    </a:lnTo>
                    <a:lnTo>
                      <a:pt x="506" y="16"/>
                    </a:lnTo>
                    <a:lnTo>
                      <a:pt x="488" y="40"/>
                    </a:lnTo>
                    <a:lnTo>
                      <a:pt x="488" y="42"/>
                    </a:lnTo>
                    <a:lnTo>
                      <a:pt x="489" y="42"/>
                    </a:lnTo>
                    <a:lnTo>
                      <a:pt x="483" y="41"/>
                    </a:lnTo>
                    <a:lnTo>
                      <a:pt x="510" y="3"/>
                    </a:lnTo>
                    <a:lnTo>
                      <a:pt x="516" y="0"/>
                    </a:lnTo>
                    <a:lnTo>
                      <a:pt x="521" y="3"/>
                    </a:lnTo>
                    <a:lnTo>
                      <a:pt x="525" y="6"/>
                    </a:lnTo>
                    <a:lnTo>
                      <a:pt x="527" y="52"/>
                    </a:lnTo>
                    <a:lnTo>
                      <a:pt x="603" y="52"/>
                    </a:lnTo>
                    <a:lnTo>
                      <a:pt x="610" y="48"/>
                    </a:lnTo>
                    <a:lnTo>
                      <a:pt x="662" y="47"/>
                    </a:lnTo>
                    <a:lnTo>
                      <a:pt x="669" y="40"/>
                    </a:lnTo>
                    <a:lnTo>
                      <a:pt x="677" y="40"/>
                    </a:lnTo>
                    <a:lnTo>
                      <a:pt x="677" y="47"/>
                    </a:lnTo>
                    <a:lnTo>
                      <a:pt x="681" y="47"/>
                    </a:lnTo>
                    <a:lnTo>
                      <a:pt x="681" y="70"/>
                    </a:lnTo>
                    <a:lnTo>
                      <a:pt x="667" y="70"/>
                    </a:lnTo>
                    <a:lnTo>
                      <a:pt x="660" y="66"/>
                    </a:lnTo>
                    <a:lnTo>
                      <a:pt x="527" y="66"/>
                    </a:lnTo>
                    <a:lnTo>
                      <a:pt x="527" y="72"/>
                    </a:lnTo>
                    <a:lnTo>
                      <a:pt x="516" y="72"/>
                    </a:lnTo>
                    <a:lnTo>
                      <a:pt x="516" y="70"/>
                    </a:lnTo>
                    <a:lnTo>
                      <a:pt x="494" y="70"/>
                    </a:lnTo>
                    <a:lnTo>
                      <a:pt x="494" y="82"/>
                    </a:lnTo>
                    <a:lnTo>
                      <a:pt x="485" y="82"/>
                    </a:lnTo>
                    <a:lnTo>
                      <a:pt x="479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89240" y="3766680"/>
                <a:ext cx="252360" cy="397800"/>
              </a:xfrm>
              <a:custGeom>
                <a:avLst/>
                <a:gdLst/>
                <a:ahLst/>
                <a:rect l="l" t="t" r="r" b="b"/>
                <a:pathLst>
                  <a:path w="601" h="945">
                    <a:moveTo>
                      <a:pt x="195" y="496"/>
                    </a:moveTo>
                    <a:lnTo>
                      <a:pt x="210" y="483"/>
                    </a:lnTo>
                    <a:lnTo>
                      <a:pt x="225" y="475"/>
                    </a:lnTo>
                    <a:lnTo>
                      <a:pt x="239" y="466"/>
                    </a:lnTo>
                    <a:lnTo>
                      <a:pt x="254" y="460"/>
                    </a:lnTo>
                    <a:lnTo>
                      <a:pt x="226" y="442"/>
                    </a:lnTo>
                    <a:lnTo>
                      <a:pt x="212" y="433"/>
                    </a:lnTo>
                    <a:lnTo>
                      <a:pt x="199" y="422"/>
                    </a:lnTo>
                    <a:lnTo>
                      <a:pt x="200" y="440"/>
                    </a:lnTo>
                    <a:lnTo>
                      <a:pt x="197" y="458"/>
                    </a:lnTo>
                    <a:lnTo>
                      <a:pt x="195" y="496"/>
                    </a:lnTo>
                    <a:close/>
                    <a:moveTo>
                      <a:pt x="28" y="223"/>
                    </a:moveTo>
                    <a:lnTo>
                      <a:pt x="33" y="195"/>
                    </a:lnTo>
                    <a:lnTo>
                      <a:pt x="40" y="167"/>
                    </a:lnTo>
                    <a:lnTo>
                      <a:pt x="46" y="139"/>
                    </a:lnTo>
                    <a:lnTo>
                      <a:pt x="52" y="112"/>
                    </a:lnTo>
                    <a:lnTo>
                      <a:pt x="59" y="85"/>
                    </a:lnTo>
                    <a:lnTo>
                      <a:pt x="68" y="57"/>
                    </a:lnTo>
                    <a:lnTo>
                      <a:pt x="75" y="30"/>
                    </a:lnTo>
                    <a:lnTo>
                      <a:pt x="84" y="4"/>
                    </a:lnTo>
                    <a:lnTo>
                      <a:pt x="89" y="3"/>
                    </a:lnTo>
                    <a:lnTo>
                      <a:pt x="109" y="0"/>
                    </a:lnTo>
                    <a:lnTo>
                      <a:pt x="123" y="0"/>
                    </a:lnTo>
                    <a:lnTo>
                      <a:pt x="139" y="3"/>
                    </a:lnTo>
                    <a:lnTo>
                      <a:pt x="151" y="6"/>
                    </a:lnTo>
                    <a:lnTo>
                      <a:pt x="161" y="12"/>
                    </a:lnTo>
                    <a:lnTo>
                      <a:pt x="172" y="22"/>
                    </a:lnTo>
                    <a:lnTo>
                      <a:pt x="181" y="35"/>
                    </a:lnTo>
                    <a:lnTo>
                      <a:pt x="195" y="62"/>
                    </a:lnTo>
                    <a:lnTo>
                      <a:pt x="208" y="93"/>
                    </a:lnTo>
                    <a:lnTo>
                      <a:pt x="216" y="102"/>
                    </a:lnTo>
                    <a:lnTo>
                      <a:pt x="218" y="108"/>
                    </a:lnTo>
                    <a:lnTo>
                      <a:pt x="217" y="113"/>
                    </a:lnTo>
                    <a:lnTo>
                      <a:pt x="210" y="118"/>
                    </a:lnTo>
                    <a:lnTo>
                      <a:pt x="190" y="125"/>
                    </a:lnTo>
                    <a:lnTo>
                      <a:pt x="193" y="143"/>
                    </a:lnTo>
                    <a:lnTo>
                      <a:pt x="195" y="158"/>
                    </a:lnTo>
                    <a:lnTo>
                      <a:pt x="195" y="170"/>
                    </a:lnTo>
                    <a:lnTo>
                      <a:pt x="203" y="171"/>
                    </a:lnTo>
                    <a:lnTo>
                      <a:pt x="216" y="194"/>
                    </a:lnTo>
                    <a:lnTo>
                      <a:pt x="305" y="289"/>
                    </a:lnTo>
                    <a:lnTo>
                      <a:pt x="309" y="295"/>
                    </a:lnTo>
                    <a:lnTo>
                      <a:pt x="310" y="301"/>
                    </a:lnTo>
                    <a:lnTo>
                      <a:pt x="309" y="309"/>
                    </a:lnTo>
                    <a:lnTo>
                      <a:pt x="305" y="312"/>
                    </a:lnTo>
                    <a:lnTo>
                      <a:pt x="301" y="314"/>
                    </a:lnTo>
                    <a:lnTo>
                      <a:pt x="301" y="320"/>
                    </a:lnTo>
                    <a:lnTo>
                      <a:pt x="298" y="326"/>
                    </a:lnTo>
                    <a:lnTo>
                      <a:pt x="294" y="331"/>
                    </a:lnTo>
                    <a:lnTo>
                      <a:pt x="298" y="335"/>
                    </a:lnTo>
                    <a:lnTo>
                      <a:pt x="301" y="340"/>
                    </a:lnTo>
                    <a:lnTo>
                      <a:pt x="306" y="347"/>
                    </a:lnTo>
                    <a:lnTo>
                      <a:pt x="316" y="355"/>
                    </a:lnTo>
                    <a:lnTo>
                      <a:pt x="325" y="360"/>
                    </a:lnTo>
                    <a:lnTo>
                      <a:pt x="332" y="366"/>
                    </a:lnTo>
                    <a:lnTo>
                      <a:pt x="340" y="372"/>
                    </a:lnTo>
                    <a:lnTo>
                      <a:pt x="361" y="365"/>
                    </a:lnTo>
                    <a:lnTo>
                      <a:pt x="373" y="362"/>
                    </a:lnTo>
                    <a:lnTo>
                      <a:pt x="385" y="360"/>
                    </a:lnTo>
                    <a:lnTo>
                      <a:pt x="393" y="357"/>
                    </a:lnTo>
                    <a:lnTo>
                      <a:pt x="425" y="335"/>
                    </a:lnTo>
                    <a:lnTo>
                      <a:pt x="468" y="289"/>
                    </a:lnTo>
                    <a:lnTo>
                      <a:pt x="473" y="290"/>
                    </a:lnTo>
                    <a:lnTo>
                      <a:pt x="497" y="263"/>
                    </a:lnTo>
                    <a:lnTo>
                      <a:pt x="498" y="257"/>
                    </a:lnTo>
                    <a:lnTo>
                      <a:pt x="502" y="251"/>
                    </a:lnTo>
                    <a:lnTo>
                      <a:pt x="508" y="242"/>
                    </a:lnTo>
                    <a:lnTo>
                      <a:pt x="601" y="240"/>
                    </a:lnTo>
                    <a:lnTo>
                      <a:pt x="541" y="275"/>
                    </a:lnTo>
                    <a:lnTo>
                      <a:pt x="528" y="289"/>
                    </a:lnTo>
                    <a:lnTo>
                      <a:pt x="510" y="319"/>
                    </a:lnTo>
                    <a:lnTo>
                      <a:pt x="512" y="326"/>
                    </a:lnTo>
                    <a:lnTo>
                      <a:pt x="465" y="407"/>
                    </a:lnTo>
                    <a:lnTo>
                      <a:pt x="450" y="449"/>
                    </a:lnTo>
                    <a:lnTo>
                      <a:pt x="433" y="464"/>
                    </a:lnTo>
                    <a:lnTo>
                      <a:pt x="414" y="476"/>
                    </a:lnTo>
                    <a:lnTo>
                      <a:pt x="391" y="486"/>
                    </a:lnTo>
                    <a:lnTo>
                      <a:pt x="375" y="489"/>
                    </a:lnTo>
                    <a:lnTo>
                      <a:pt x="360" y="490"/>
                    </a:lnTo>
                    <a:lnTo>
                      <a:pt x="362" y="530"/>
                    </a:lnTo>
                    <a:lnTo>
                      <a:pt x="362" y="575"/>
                    </a:lnTo>
                    <a:lnTo>
                      <a:pt x="357" y="630"/>
                    </a:lnTo>
                    <a:lnTo>
                      <a:pt x="348" y="682"/>
                    </a:lnTo>
                    <a:lnTo>
                      <a:pt x="336" y="732"/>
                    </a:lnTo>
                    <a:lnTo>
                      <a:pt x="326" y="768"/>
                    </a:lnTo>
                    <a:lnTo>
                      <a:pt x="316" y="775"/>
                    </a:lnTo>
                    <a:lnTo>
                      <a:pt x="306" y="782"/>
                    </a:lnTo>
                    <a:lnTo>
                      <a:pt x="298" y="819"/>
                    </a:lnTo>
                    <a:lnTo>
                      <a:pt x="298" y="826"/>
                    </a:lnTo>
                    <a:lnTo>
                      <a:pt x="303" y="833"/>
                    </a:lnTo>
                    <a:lnTo>
                      <a:pt x="303" y="839"/>
                    </a:lnTo>
                    <a:lnTo>
                      <a:pt x="297" y="848"/>
                    </a:lnTo>
                    <a:lnTo>
                      <a:pt x="305" y="854"/>
                    </a:lnTo>
                    <a:lnTo>
                      <a:pt x="310" y="860"/>
                    </a:lnTo>
                    <a:lnTo>
                      <a:pt x="314" y="871"/>
                    </a:lnTo>
                    <a:lnTo>
                      <a:pt x="323" y="874"/>
                    </a:lnTo>
                    <a:lnTo>
                      <a:pt x="326" y="877"/>
                    </a:lnTo>
                    <a:lnTo>
                      <a:pt x="330" y="884"/>
                    </a:lnTo>
                    <a:lnTo>
                      <a:pt x="334" y="891"/>
                    </a:lnTo>
                    <a:lnTo>
                      <a:pt x="337" y="897"/>
                    </a:lnTo>
                    <a:lnTo>
                      <a:pt x="360" y="909"/>
                    </a:lnTo>
                    <a:lnTo>
                      <a:pt x="375" y="916"/>
                    </a:lnTo>
                    <a:lnTo>
                      <a:pt x="381" y="921"/>
                    </a:lnTo>
                    <a:lnTo>
                      <a:pt x="383" y="927"/>
                    </a:lnTo>
                    <a:lnTo>
                      <a:pt x="383" y="940"/>
                    </a:lnTo>
                    <a:lnTo>
                      <a:pt x="372" y="942"/>
                    </a:lnTo>
                    <a:lnTo>
                      <a:pt x="356" y="945"/>
                    </a:lnTo>
                    <a:lnTo>
                      <a:pt x="331" y="943"/>
                    </a:lnTo>
                    <a:lnTo>
                      <a:pt x="309" y="940"/>
                    </a:lnTo>
                    <a:lnTo>
                      <a:pt x="284" y="932"/>
                    </a:lnTo>
                    <a:lnTo>
                      <a:pt x="266" y="922"/>
                    </a:lnTo>
                    <a:lnTo>
                      <a:pt x="251" y="914"/>
                    </a:lnTo>
                    <a:lnTo>
                      <a:pt x="237" y="912"/>
                    </a:lnTo>
                    <a:lnTo>
                      <a:pt x="225" y="911"/>
                    </a:lnTo>
                    <a:lnTo>
                      <a:pt x="212" y="906"/>
                    </a:lnTo>
                    <a:lnTo>
                      <a:pt x="202" y="902"/>
                    </a:lnTo>
                    <a:lnTo>
                      <a:pt x="200" y="890"/>
                    </a:lnTo>
                    <a:lnTo>
                      <a:pt x="201" y="879"/>
                    </a:lnTo>
                    <a:lnTo>
                      <a:pt x="202" y="869"/>
                    </a:lnTo>
                    <a:lnTo>
                      <a:pt x="205" y="859"/>
                    </a:lnTo>
                    <a:lnTo>
                      <a:pt x="208" y="850"/>
                    </a:lnTo>
                    <a:lnTo>
                      <a:pt x="212" y="840"/>
                    </a:lnTo>
                    <a:lnTo>
                      <a:pt x="218" y="833"/>
                    </a:lnTo>
                    <a:lnTo>
                      <a:pt x="218" y="823"/>
                    </a:lnTo>
                    <a:lnTo>
                      <a:pt x="218" y="814"/>
                    </a:lnTo>
                    <a:lnTo>
                      <a:pt x="221" y="808"/>
                    </a:lnTo>
                    <a:lnTo>
                      <a:pt x="225" y="801"/>
                    </a:lnTo>
                    <a:lnTo>
                      <a:pt x="225" y="770"/>
                    </a:lnTo>
                    <a:lnTo>
                      <a:pt x="212" y="765"/>
                    </a:lnTo>
                    <a:lnTo>
                      <a:pt x="215" y="756"/>
                    </a:lnTo>
                    <a:lnTo>
                      <a:pt x="217" y="749"/>
                    </a:lnTo>
                    <a:lnTo>
                      <a:pt x="217" y="738"/>
                    </a:lnTo>
                    <a:lnTo>
                      <a:pt x="215" y="727"/>
                    </a:lnTo>
                    <a:lnTo>
                      <a:pt x="217" y="709"/>
                    </a:lnTo>
                    <a:lnTo>
                      <a:pt x="221" y="686"/>
                    </a:lnTo>
                    <a:lnTo>
                      <a:pt x="227" y="662"/>
                    </a:lnTo>
                    <a:lnTo>
                      <a:pt x="237" y="636"/>
                    </a:lnTo>
                    <a:lnTo>
                      <a:pt x="221" y="654"/>
                    </a:lnTo>
                    <a:lnTo>
                      <a:pt x="204" y="673"/>
                    </a:lnTo>
                    <a:lnTo>
                      <a:pt x="189" y="688"/>
                    </a:lnTo>
                    <a:lnTo>
                      <a:pt x="172" y="704"/>
                    </a:lnTo>
                    <a:lnTo>
                      <a:pt x="158" y="715"/>
                    </a:lnTo>
                    <a:lnTo>
                      <a:pt x="139" y="730"/>
                    </a:lnTo>
                    <a:lnTo>
                      <a:pt x="122" y="743"/>
                    </a:lnTo>
                    <a:lnTo>
                      <a:pt x="101" y="755"/>
                    </a:lnTo>
                    <a:lnTo>
                      <a:pt x="81" y="767"/>
                    </a:lnTo>
                    <a:lnTo>
                      <a:pt x="63" y="774"/>
                    </a:lnTo>
                    <a:lnTo>
                      <a:pt x="45" y="781"/>
                    </a:lnTo>
                    <a:lnTo>
                      <a:pt x="27" y="787"/>
                    </a:lnTo>
                    <a:lnTo>
                      <a:pt x="22" y="807"/>
                    </a:lnTo>
                    <a:lnTo>
                      <a:pt x="16" y="772"/>
                    </a:lnTo>
                    <a:lnTo>
                      <a:pt x="12" y="736"/>
                    </a:lnTo>
                    <a:lnTo>
                      <a:pt x="8" y="700"/>
                    </a:lnTo>
                    <a:lnTo>
                      <a:pt x="5" y="664"/>
                    </a:lnTo>
                    <a:lnTo>
                      <a:pt x="3" y="628"/>
                    </a:lnTo>
                    <a:lnTo>
                      <a:pt x="1" y="592"/>
                    </a:lnTo>
                    <a:lnTo>
                      <a:pt x="0" y="555"/>
                    </a:lnTo>
                    <a:lnTo>
                      <a:pt x="0" y="519"/>
                    </a:lnTo>
                    <a:lnTo>
                      <a:pt x="1" y="482"/>
                    </a:lnTo>
                    <a:lnTo>
                      <a:pt x="2" y="445"/>
                    </a:lnTo>
                    <a:lnTo>
                      <a:pt x="4" y="408"/>
                    </a:lnTo>
                    <a:lnTo>
                      <a:pt x="7" y="372"/>
                    </a:lnTo>
                    <a:lnTo>
                      <a:pt x="11" y="335"/>
                    </a:lnTo>
                    <a:lnTo>
                      <a:pt x="16" y="297"/>
                    </a:lnTo>
                    <a:lnTo>
                      <a:pt x="22" y="260"/>
                    </a:lnTo>
                    <a:lnTo>
                      <a:pt x="28" y="2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997880" y="3972960"/>
                <a:ext cx="151200" cy="191160"/>
              </a:xfrm>
              <a:custGeom>
                <a:avLst/>
                <a:gdLst/>
                <a:ahLst/>
                <a:rect l="l" t="t" r="r" b="b"/>
                <a:pathLst>
                  <a:path w="361" h="455">
                    <a:moveTo>
                      <a:pt x="338" y="0"/>
                    </a:moveTo>
                    <a:lnTo>
                      <a:pt x="340" y="40"/>
                    </a:lnTo>
                    <a:lnTo>
                      <a:pt x="340" y="85"/>
                    </a:lnTo>
                    <a:lnTo>
                      <a:pt x="335" y="140"/>
                    </a:lnTo>
                    <a:lnTo>
                      <a:pt x="326" y="192"/>
                    </a:lnTo>
                    <a:lnTo>
                      <a:pt x="314" y="242"/>
                    </a:lnTo>
                    <a:lnTo>
                      <a:pt x="304" y="278"/>
                    </a:lnTo>
                    <a:lnTo>
                      <a:pt x="294" y="285"/>
                    </a:lnTo>
                    <a:lnTo>
                      <a:pt x="284" y="292"/>
                    </a:lnTo>
                    <a:lnTo>
                      <a:pt x="276" y="329"/>
                    </a:lnTo>
                    <a:lnTo>
                      <a:pt x="276" y="336"/>
                    </a:lnTo>
                    <a:lnTo>
                      <a:pt x="281" y="343"/>
                    </a:lnTo>
                    <a:lnTo>
                      <a:pt x="281" y="349"/>
                    </a:lnTo>
                    <a:lnTo>
                      <a:pt x="275" y="358"/>
                    </a:lnTo>
                    <a:lnTo>
                      <a:pt x="283" y="364"/>
                    </a:lnTo>
                    <a:lnTo>
                      <a:pt x="288" y="370"/>
                    </a:lnTo>
                    <a:lnTo>
                      <a:pt x="292" y="381"/>
                    </a:lnTo>
                    <a:lnTo>
                      <a:pt x="301" y="384"/>
                    </a:lnTo>
                    <a:lnTo>
                      <a:pt x="304" y="387"/>
                    </a:lnTo>
                    <a:lnTo>
                      <a:pt x="308" y="394"/>
                    </a:lnTo>
                    <a:lnTo>
                      <a:pt x="312" y="401"/>
                    </a:lnTo>
                    <a:lnTo>
                      <a:pt x="315" y="407"/>
                    </a:lnTo>
                    <a:lnTo>
                      <a:pt x="338" y="419"/>
                    </a:lnTo>
                    <a:lnTo>
                      <a:pt x="353" y="426"/>
                    </a:lnTo>
                    <a:lnTo>
                      <a:pt x="359" y="431"/>
                    </a:lnTo>
                    <a:lnTo>
                      <a:pt x="361" y="437"/>
                    </a:lnTo>
                    <a:lnTo>
                      <a:pt x="361" y="450"/>
                    </a:lnTo>
                    <a:lnTo>
                      <a:pt x="350" y="452"/>
                    </a:lnTo>
                    <a:lnTo>
                      <a:pt x="334" y="455"/>
                    </a:lnTo>
                    <a:lnTo>
                      <a:pt x="309" y="453"/>
                    </a:lnTo>
                    <a:lnTo>
                      <a:pt x="287" y="450"/>
                    </a:lnTo>
                    <a:lnTo>
                      <a:pt x="262" y="442"/>
                    </a:lnTo>
                    <a:lnTo>
                      <a:pt x="244" y="432"/>
                    </a:lnTo>
                    <a:lnTo>
                      <a:pt x="229" y="424"/>
                    </a:lnTo>
                    <a:lnTo>
                      <a:pt x="215" y="422"/>
                    </a:lnTo>
                    <a:lnTo>
                      <a:pt x="203" y="421"/>
                    </a:lnTo>
                    <a:lnTo>
                      <a:pt x="190" y="416"/>
                    </a:lnTo>
                    <a:lnTo>
                      <a:pt x="180" y="412"/>
                    </a:lnTo>
                    <a:lnTo>
                      <a:pt x="178" y="400"/>
                    </a:lnTo>
                    <a:lnTo>
                      <a:pt x="179" y="389"/>
                    </a:lnTo>
                    <a:lnTo>
                      <a:pt x="180" y="379"/>
                    </a:lnTo>
                    <a:lnTo>
                      <a:pt x="183" y="369"/>
                    </a:lnTo>
                    <a:lnTo>
                      <a:pt x="186" y="360"/>
                    </a:lnTo>
                    <a:lnTo>
                      <a:pt x="190" y="350"/>
                    </a:lnTo>
                    <a:lnTo>
                      <a:pt x="196" y="343"/>
                    </a:lnTo>
                    <a:lnTo>
                      <a:pt x="196" y="333"/>
                    </a:lnTo>
                    <a:lnTo>
                      <a:pt x="196" y="324"/>
                    </a:lnTo>
                    <a:lnTo>
                      <a:pt x="199" y="318"/>
                    </a:lnTo>
                    <a:lnTo>
                      <a:pt x="203" y="311"/>
                    </a:lnTo>
                    <a:lnTo>
                      <a:pt x="203" y="280"/>
                    </a:lnTo>
                    <a:lnTo>
                      <a:pt x="190" y="275"/>
                    </a:lnTo>
                    <a:lnTo>
                      <a:pt x="193" y="266"/>
                    </a:lnTo>
                    <a:lnTo>
                      <a:pt x="195" y="259"/>
                    </a:lnTo>
                    <a:lnTo>
                      <a:pt x="195" y="248"/>
                    </a:lnTo>
                    <a:lnTo>
                      <a:pt x="193" y="237"/>
                    </a:lnTo>
                    <a:lnTo>
                      <a:pt x="195" y="219"/>
                    </a:lnTo>
                    <a:lnTo>
                      <a:pt x="199" y="196"/>
                    </a:lnTo>
                    <a:lnTo>
                      <a:pt x="205" y="172"/>
                    </a:lnTo>
                    <a:lnTo>
                      <a:pt x="215" y="146"/>
                    </a:lnTo>
                    <a:lnTo>
                      <a:pt x="199" y="164"/>
                    </a:lnTo>
                    <a:lnTo>
                      <a:pt x="182" y="183"/>
                    </a:lnTo>
                    <a:lnTo>
                      <a:pt x="167" y="198"/>
                    </a:lnTo>
                    <a:lnTo>
                      <a:pt x="150" y="214"/>
                    </a:lnTo>
                    <a:lnTo>
                      <a:pt x="136" y="225"/>
                    </a:lnTo>
                    <a:lnTo>
                      <a:pt x="117" y="240"/>
                    </a:lnTo>
                    <a:lnTo>
                      <a:pt x="100" y="253"/>
                    </a:lnTo>
                    <a:lnTo>
                      <a:pt x="79" y="265"/>
                    </a:lnTo>
                    <a:lnTo>
                      <a:pt x="59" y="277"/>
                    </a:lnTo>
                    <a:lnTo>
                      <a:pt x="41" y="284"/>
                    </a:lnTo>
                    <a:lnTo>
                      <a:pt x="23" y="291"/>
                    </a:lnTo>
                    <a:lnTo>
                      <a:pt x="5" y="297"/>
                    </a:lnTo>
                    <a:lnTo>
                      <a:pt x="0" y="31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25240" y="3766680"/>
                <a:ext cx="216360" cy="206280"/>
              </a:xfrm>
              <a:custGeom>
                <a:avLst/>
                <a:gdLst/>
                <a:ahLst/>
                <a:rect l="l" t="t" r="r" b="b"/>
                <a:pathLst>
                  <a:path w="517" h="490">
                    <a:moveTo>
                      <a:pt x="0" y="4"/>
                    </a:moveTo>
                    <a:lnTo>
                      <a:pt x="5" y="3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55" y="3"/>
                    </a:lnTo>
                    <a:lnTo>
                      <a:pt x="67" y="6"/>
                    </a:lnTo>
                    <a:lnTo>
                      <a:pt x="77" y="12"/>
                    </a:lnTo>
                    <a:lnTo>
                      <a:pt x="88" y="22"/>
                    </a:lnTo>
                    <a:lnTo>
                      <a:pt x="97" y="35"/>
                    </a:lnTo>
                    <a:lnTo>
                      <a:pt x="111" y="62"/>
                    </a:lnTo>
                    <a:lnTo>
                      <a:pt x="124" y="93"/>
                    </a:lnTo>
                    <a:lnTo>
                      <a:pt x="132" y="102"/>
                    </a:lnTo>
                    <a:lnTo>
                      <a:pt x="134" y="108"/>
                    </a:lnTo>
                    <a:lnTo>
                      <a:pt x="133" y="113"/>
                    </a:lnTo>
                    <a:lnTo>
                      <a:pt x="126" y="118"/>
                    </a:lnTo>
                    <a:lnTo>
                      <a:pt x="106" y="125"/>
                    </a:lnTo>
                    <a:lnTo>
                      <a:pt x="109" y="143"/>
                    </a:lnTo>
                    <a:lnTo>
                      <a:pt x="111" y="158"/>
                    </a:lnTo>
                    <a:lnTo>
                      <a:pt x="111" y="170"/>
                    </a:lnTo>
                    <a:lnTo>
                      <a:pt x="119" y="171"/>
                    </a:lnTo>
                    <a:lnTo>
                      <a:pt x="132" y="194"/>
                    </a:lnTo>
                    <a:lnTo>
                      <a:pt x="221" y="289"/>
                    </a:lnTo>
                    <a:lnTo>
                      <a:pt x="225" y="295"/>
                    </a:lnTo>
                    <a:lnTo>
                      <a:pt x="226" y="301"/>
                    </a:lnTo>
                    <a:lnTo>
                      <a:pt x="225" y="309"/>
                    </a:lnTo>
                    <a:lnTo>
                      <a:pt x="221" y="312"/>
                    </a:lnTo>
                    <a:lnTo>
                      <a:pt x="217" y="314"/>
                    </a:lnTo>
                    <a:lnTo>
                      <a:pt x="217" y="320"/>
                    </a:lnTo>
                    <a:lnTo>
                      <a:pt x="214" y="326"/>
                    </a:lnTo>
                    <a:lnTo>
                      <a:pt x="210" y="331"/>
                    </a:lnTo>
                    <a:lnTo>
                      <a:pt x="214" y="335"/>
                    </a:lnTo>
                    <a:lnTo>
                      <a:pt x="217" y="340"/>
                    </a:lnTo>
                    <a:lnTo>
                      <a:pt x="222" y="347"/>
                    </a:lnTo>
                    <a:lnTo>
                      <a:pt x="232" y="355"/>
                    </a:lnTo>
                    <a:lnTo>
                      <a:pt x="241" y="360"/>
                    </a:lnTo>
                    <a:lnTo>
                      <a:pt x="248" y="366"/>
                    </a:lnTo>
                    <a:lnTo>
                      <a:pt x="256" y="372"/>
                    </a:lnTo>
                    <a:lnTo>
                      <a:pt x="277" y="365"/>
                    </a:lnTo>
                    <a:lnTo>
                      <a:pt x="289" y="362"/>
                    </a:lnTo>
                    <a:lnTo>
                      <a:pt x="301" y="360"/>
                    </a:lnTo>
                    <a:lnTo>
                      <a:pt x="309" y="357"/>
                    </a:lnTo>
                    <a:lnTo>
                      <a:pt x="341" y="335"/>
                    </a:lnTo>
                    <a:lnTo>
                      <a:pt x="384" y="289"/>
                    </a:lnTo>
                    <a:lnTo>
                      <a:pt x="389" y="290"/>
                    </a:lnTo>
                    <a:lnTo>
                      <a:pt x="413" y="263"/>
                    </a:lnTo>
                    <a:lnTo>
                      <a:pt x="414" y="257"/>
                    </a:lnTo>
                    <a:lnTo>
                      <a:pt x="418" y="251"/>
                    </a:lnTo>
                    <a:lnTo>
                      <a:pt x="424" y="242"/>
                    </a:lnTo>
                    <a:lnTo>
                      <a:pt x="517" y="240"/>
                    </a:lnTo>
                    <a:lnTo>
                      <a:pt x="457" y="275"/>
                    </a:lnTo>
                    <a:lnTo>
                      <a:pt x="444" y="289"/>
                    </a:lnTo>
                    <a:lnTo>
                      <a:pt x="426" y="319"/>
                    </a:lnTo>
                    <a:lnTo>
                      <a:pt x="428" y="326"/>
                    </a:lnTo>
                    <a:lnTo>
                      <a:pt x="381" y="407"/>
                    </a:lnTo>
                    <a:lnTo>
                      <a:pt x="366" y="449"/>
                    </a:lnTo>
                    <a:lnTo>
                      <a:pt x="349" y="464"/>
                    </a:lnTo>
                    <a:lnTo>
                      <a:pt x="330" y="476"/>
                    </a:lnTo>
                    <a:lnTo>
                      <a:pt x="307" y="486"/>
                    </a:lnTo>
                    <a:lnTo>
                      <a:pt x="291" y="489"/>
                    </a:lnTo>
                    <a:lnTo>
                      <a:pt x="276" y="4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079960" y="3823920"/>
                <a:ext cx="286200" cy="81720"/>
              </a:xfrm>
              <a:custGeom>
                <a:avLst/>
                <a:gdLst/>
                <a:ahLst/>
                <a:rect l="l" t="t" r="r" b="b"/>
                <a:pathLst>
                  <a:path w="681" h="194">
                    <a:moveTo>
                      <a:pt x="479" y="94"/>
                    </a:moveTo>
                    <a:lnTo>
                      <a:pt x="468" y="90"/>
                    </a:lnTo>
                    <a:lnTo>
                      <a:pt x="398" y="93"/>
                    </a:lnTo>
                    <a:lnTo>
                      <a:pt x="395" y="96"/>
                    </a:lnTo>
                    <a:lnTo>
                      <a:pt x="471" y="99"/>
                    </a:lnTo>
                    <a:lnTo>
                      <a:pt x="465" y="101"/>
                    </a:lnTo>
                    <a:lnTo>
                      <a:pt x="386" y="101"/>
                    </a:lnTo>
                    <a:lnTo>
                      <a:pt x="293" y="104"/>
                    </a:lnTo>
                    <a:lnTo>
                      <a:pt x="271" y="104"/>
                    </a:lnTo>
                    <a:lnTo>
                      <a:pt x="194" y="136"/>
                    </a:lnTo>
                    <a:lnTo>
                      <a:pt x="194" y="182"/>
                    </a:lnTo>
                    <a:lnTo>
                      <a:pt x="139" y="194"/>
                    </a:lnTo>
                    <a:lnTo>
                      <a:pt x="139" y="151"/>
                    </a:lnTo>
                    <a:lnTo>
                      <a:pt x="136" y="138"/>
                    </a:lnTo>
                    <a:lnTo>
                      <a:pt x="136" y="127"/>
                    </a:lnTo>
                    <a:lnTo>
                      <a:pt x="134" y="124"/>
                    </a:lnTo>
                    <a:lnTo>
                      <a:pt x="132" y="121"/>
                    </a:lnTo>
                    <a:lnTo>
                      <a:pt x="129" y="120"/>
                    </a:lnTo>
                    <a:lnTo>
                      <a:pt x="126" y="120"/>
                    </a:lnTo>
                    <a:lnTo>
                      <a:pt x="107" y="119"/>
                    </a:lnTo>
                    <a:lnTo>
                      <a:pt x="113" y="130"/>
                    </a:lnTo>
                    <a:lnTo>
                      <a:pt x="114" y="135"/>
                    </a:lnTo>
                    <a:lnTo>
                      <a:pt x="114" y="138"/>
                    </a:lnTo>
                    <a:lnTo>
                      <a:pt x="112" y="141"/>
                    </a:lnTo>
                    <a:lnTo>
                      <a:pt x="108" y="144"/>
                    </a:lnTo>
                    <a:lnTo>
                      <a:pt x="131" y="144"/>
                    </a:lnTo>
                    <a:lnTo>
                      <a:pt x="133" y="144"/>
                    </a:lnTo>
                    <a:lnTo>
                      <a:pt x="134" y="141"/>
                    </a:lnTo>
                    <a:lnTo>
                      <a:pt x="136" y="138"/>
                    </a:lnTo>
                    <a:lnTo>
                      <a:pt x="139" y="151"/>
                    </a:lnTo>
                    <a:lnTo>
                      <a:pt x="90" y="151"/>
                    </a:lnTo>
                    <a:lnTo>
                      <a:pt x="0" y="55"/>
                    </a:lnTo>
                    <a:lnTo>
                      <a:pt x="34" y="55"/>
                    </a:lnTo>
                    <a:lnTo>
                      <a:pt x="34" y="43"/>
                    </a:lnTo>
                    <a:lnTo>
                      <a:pt x="46" y="43"/>
                    </a:lnTo>
                    <a:lnTo>
                      <a:pt x="53" y="20"/>
                    </a:lnTo>
                    <a:lnTo>
                      <a:pt x="56" y="20"/>
                    </a:lnTo>
                    <a:lnTo>
                      <a:pt x="59" y="11"/>
                    </a:lnTo>
                    <a:lnTo>
                      <a:pt x="65" y="6"/>
                    </a:lnTo>
                    <a:lnTo>
                      <a:pt x="72" y="5"/>
                    </a:lnTo>
                    <a:lnTo>
                      <a:pt x="196" y="15"/>
                    </a:lnTo>
                    <a:lnTo>
                      <a:pt x="201" y="17"/>
                    </a:lnTo>
                    <a:lnTo>
                      <a:pt x="206" y="21"/>
                    </a:lnTo>
                    <a:lnTo>
                      <a:pt x="209" y="27"/>
                    </a:lnTo>
                    <a:lnTo>
                      <a:pt x="209" y="33"/>
                    </a:lnTo>
                    <a:lnTo>
                      <a:pt x="208" y="38"/>
                    </a:lnTo>
                    <a:lnTo>
                      <a:pt x="206" y="41"/>
                    </a:lnTo>
                    <a:lnTo>
                      <a:pt x="199" y="41"/>
                    </a:lnTo>
                    <a:lnTo>
                      <a:pt x="200" y="37"/>
                    </a:lnTo>
                    <a:lnTo>
                      <a:pt x="203" y="32"/>
                    </a:lnTo>
                    <a:lnTo>
                      <a:pt x="203" y="27"/>
                    </a:lnTo>
                    <a:lnTo>
                      <a:pt x="199" y="22"/>
                    </a:lnTo>
                    <a:lnTo>
                      <a:pt x="194" y="20"/>
                    </a:lnTo>
                    <a:lnTo>
                      <a:pt x="100" y="20"/>
                    </a:lnTo>
                    <a:lnTo>
                      <a:pt x="96" y="26"/>
                    </a:lnTo>
                    <a:lnTo>
                      <a:pt x="93" y="31"/>
                    </a:lnTo>
                    <a:lnTo>
                      <a:pt x="92" y="36"/>
                    </a:lnTo>
                    <a:lnTo>
                      <a:pt x="92" y="39"/>
                    </a:lnTo>
                    <a:lnTo>
                      <a:pt x="93" y="42"/>
                    </a:lnTo>
                    <a:lnTo>
                      <a:pt x="97" y="43"/>
                    </a:lnTo>
                    <a:lnTo>
                      <a:pt x="194" y="43"/>
                    </a:lnTo>
                    <a:lnTo>
                      <a:pt x="199" y="41"/>
                    </a:lnTo>
                    <a:lnTo>
                      <a:pt x="206" y="41"/>
                    </a:lnTo>
                    <a:lnTo>
                      <a:pt x="483" y="41"/>
                    </a:lnTo>
                    <a:lnTo>
                      <a:pt x="489" y="42"/>
                    </a:lnTo>
                    <a:lnTo>
                      <a:pt x="490" y="43"/>
                    </a:lnTo>
                    <a:lnTo>
                      <a:pt x="521" y="43"/>
                    </a:lnTo>
                    <a:lnTo>
                      <a:pt x="520" y="31"/>
                    </a:lnTo>
                    <a:lnTo>
                      <a:pt x="515" y="31"/>
                    </a:lnTo>
                    <a:lnTo>
                      <a:pt x="515" y="16"/>
                    </a:lnTo>
                    <a:lnTo>
                      <a:pt x="506" y="16"/>
                    </a:lnTo>
                    <a:lnTo>
                      <a:pt x="488" y="39"/>
                    </a:lnTo>
                    <a:lnTo>
                      <a:pt x="488" y="42"/>
                    </a:lnTo>
                    <a:lnTo>
                      <a:pt x="489" y="42"/>
                    </a:lnTo>
                    <a:lnTo>
                      <a:pt x="483" y="41"/>
                    </a:lnTo>
                    <a:lnTo>
                      <a:pt x="510" y="2"/>
                    </a:lnTo>
                    <a:lnTo>
                      <a:pt x="515" y="0"/>
                    </a:lnTo>
                    <a:lnTo>
                      <a:pt x="521" y="2"/>
                    </a:lnTo>
                    <a:lnTo>
                      <a:pt x="525" y="7"/>
                    </a:lnTo>
                    <a:lnTo>
                      <a:pt x="527" y="53"/>
                    </a:lnTo>
                    <a:lnTo>
                      <a:pt x="602" y="53"/>
                    </a:lnTo>
                    <a:lnTo>
                      <a:pt x="610" y="49"/>
                    </a:lnTo>
                    <a:lnTo>
                      <a:pt x="663" y="48"/>
                    </a:lnTo>
                    <a:lnTo>
                      <a:pt x="668" y="39"/>
                    </a:lnTo>
                    <a:lnTo>
                      <a:pt x="677" y="39"/>
                    </a:lnTo>
                    <a:lnTo>
                      <a:pt x="677" y="48"/>
                    </a:lnTo>
                    <a:lnTo>
                      <a:pt x="681" y="48"/>
                    </a:lnTo>
                    <a:lnTo>
                      <a:pt x="681" y="70"/>
                    </a:lnTo>
                    <a:lnTo>
                      <a:pt x="666" y="70"/>
                    </a:lnTo>
                    <a:lnTo>
                      <a:pt x="660" y="65"/>
                    </a:lnTo>
                    <a:lnTo>
                      <a:pt x="527" y="65"/>
                    </a:lnTo>
                    <a:lnTo>
                      <a:pt x="527" y="73"/>
                    </a:lnTo>
                    <a:lnTo>
                      <a:pt x="515" y="73"/>
                    </a:lnTo>
                    <a:lnTo>
                      <a:pt x="515" y="70"/>
                    </a:lnTo>
                    <a:lnTo>
                      <a:pt x="493" y="70"/>
                    </a:lnTo>
                    <a:lnTo>
                      <a:pt x="493" y="82"/>
                    </a:lnTo>
                    <a:lnTo>
                      <a:pt x="485" y="82"/>
                    </a:lnTo>
                    <a:lnTo>
                      <a:pt x="479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157720" y="4223160"/>
                <a:ext cx="362160" cy="397800"/>
              </a:xfrm>
              <a:custGeom>
                <a:avLst/>
                <a:gdLst/>
                <a:ahLst/>
                <a:rect l="l" t="t" r="r" b="b"/>
                <a:pathLst>
                  <a:path w="859" h="945">
                    <a:moveTo>
                      <a:pt x="452" y="496"/>
                    </a:moveTo>
                    <a:lnTo>
                      <a:pt x="468" y="483"/>
                    </a:lnTo>
                    <a:lnTo>
                      <a:pt x="482" y="474"/>
                    </a:lnTo>
                    <a:lnTo>
                      <a:pt x="496" y="467"/>
                    </a:lnTo>
                    <a:lnTo>
                      <a:pt x="512" y="460"/>
                    </a:lnTo>
                    <a:lnTo>
                      <a:pt x="483" y="441"/>
                    </a:lnTo>
                    <a:lnTo>
                      <a:pt x="470" y="432"/>
                    </a:lnTo>
                    <a:lnTo>
                      <a:pt x="455" y="421"/>
                    </a:lnTo>
                    <a:lnTo>
                      <a:pt x="457" y="440"/>
                    </a:lnTo>
                    <a:lnTo>
                      <a:pt x="454" y="457"/>
                    </a:lnTo>
                    <a:lnTo>
                      <a:pt x="452" y="496"/>
                    </a:lnTo>
                    <a:close/>
                    <a:moveTo>
                      <a:pt x="280" y="806"/>
                    </a:moveTo>
                    <a:lnTo>
                      <a:pt x="241" y="777"/>
                    </a:lnTo>
                    <a:lnTo>
                      <a:pt x="205" y="746"/>
                    </a:lnTo>
                    <a:lnTo>
                      <a:pt x="168" y="715"/>
                    </a:lnTo>
                    <a:lnTo>
                      <a:pt x="132" y="682"/>
                    </a:lnTo>
                    <a:lnTo>
                      <a:pt x="98" y="648"/>
                    </a:lnTo>
                    <a:lnTo>
                      <a:pt x="64" y="614"/>
                    </a:lnTo>
                    <a:lnTo>
                      <a:pt x="32" y="579"/>
                    </a:lnTo>
                    <a:lnTo>
                      <a:pt x="0" y="542"/>
                    </a:lnTo>
                    <a:lnTo>
                      <a:pt x="0" y="541"/>
                    </a:lnTo>
                    <a:lnTo>
                      <a:pt x="4" y="537"/>
                    </a:lnTo>
                    <a:lnTo>
                      <a:pt x="8" y="528"/>
                    </a:lnTo>
                    <a:lnTo>
                      <a:pt x="9" y="521"/>
                    </a:lnTo>
                    <a:lnTo>
                      <a:pt x="11" y="517"/>
                    </a:lnTo>
                    <a:lnTo>
                      <a:pt x="25" y="513"/>
                    </a:lnTo>
                    <a:lnTo>
                      <a:pt x="20" y="502"/>
                    </a:lnTo>
                    <a:lnTo>
                      <a:pt x="24" y="485"/>
                    </a:lnTo>
                    <a:lnTo>
                      <a:pt x="25" y="481"/>
                    </a:lnTo>
                    <a:lnTo>
                      <a:pt x="26" y="478"/>
                    </a:lnTo>
                    <a:lnTo>
                      <a:pt x="31" y="478"/>
                    </a:lnTo>
                    <a:lnTo>
                      <a:pt x="31" y="473"/>
                    </a:lnTo>
                    <a:lnTo>
                      <a:pt x="54" y="473"/>
                    </a:lnTo>
                    <a:lnTo>
                      <a:pt x="54" y="478"/>
                    </a:lnTo>
                    <a:lnTo>
                      <a:pt x="56" y="478"/>
                    </a:lnTo>
                    <a:lnTo>
                      <a:pt x="58" y="481"/>
                    </a:lnTo>
                    <a:lnTo>
                      <a:pt x="60" y="487"/>
                    </a:lnTo>
                    <a:lnTo>
                      <a:pt x="61" y="494"/>
                    </a:lnTo>
                    <a:lnTo>
                      <a:pt x="61" y="502"/>
                    </a:lnTo>
                    <a:lnTo>
                      <a:pt x="60" y="508"/>
                    </a:lnTo>
                    <a:lnTo>
                      <a:pt x="57" y="510"/>
                    </a:lnTo>
                    <a:lnTo>
                      <a:pt x="61" y="513"/>
                    </a:lnTo>
                    <a:lnTo>
                      <a:pt x="66" y="513"/>
                    </a:lnTo>
                    <a:lnTo>
                      <a:pt x="70" y="510"/>
                    </a:lnTo>
                    <a:lnTo>
                      <a:pt x="74" y="507"/>
                    </a:lnTo>
                    <a:lnTo>
                      <a:pt x="72" y="500"/>
                    </a:lnTo>
                    <a:lnTo>
                      <a:pt x="61" y="502"/>
                    </a:lnTo>
                    <a:lnTo>
                      <a:pt x="61" y="494"/>
                    </a:lnTo>
                    <a:lnTo>
                      <a:pt x="75" y="493"/>
                    </a:lnTo>
                    <a:lnTo>
                      <a:pt x="78" y="494"/>
                    </a:lnTo>
                    <a:lnTo>
                      <a:pt x="82" y="496"/>
                    </a:lnTo>
                    <a:lnTo>
                      <a:pt x="86" y="498"/>
                    </a:lnTo>
                    <a:lnTo>
                      <a:pt x="83" y="482"/>
                    </a:lnTo>
                    <a:lnTo>
                      <a:pt x="79" y="467"/>
                    </a:lnTo>
                    <a:lnTo>
                      <a:pt x="103" y="367"/>
                    </a:lnTo>
                    <a:lnTo>
                      <a:pt x="108" y="349"/>
                    </a:lnTo>
                    <a:lnTo>
                      <a:pt x="113" y="337"/>
                    </a:lnTo>
                    <a:lnTo>
                      <a:pt x="122" y="327"/>
                    </a:lnTo>
                    <a:lnTo>
                      <a:pt x="114" y="303"/>
                    </a:lnTo>
                    <a:lnTo>
                      <a:pt x="112" y="287"/>
                    </a:lnTo>
                    <a:lnTo>
                      <a:pt x="113" y="273"/>
                    </a:lnTo>
                    <a:lnTo>
                      <a:pt x="119" y="255"/>
                    </a:lnTo>
                    <a:lnTo>
                      <a:pt x="130" y="234"/>
                    </a:lnTo>
                    <a:lnTo>
                      <a:pt x="143" y="218"/>
                    </a:lnTo>
                    <a:lnTo>
                      <a:pt x="160" y="202"/>
                    </a:lnTo>
                    <a:lnTo>
                      <a:pt x="176" y="191"/>
                    </a:lnTo>
                    <a:lnTo>
                      <a:pt x="187" y="181"/>
                    </a:lnTo>
                    <a:lnTo>
                      <a:pt x="197" y="175"/>
                    </a:lnTo>
                    <a:lnTo>
                      <a:pt x="209" y="171"/>
                    </a:lnTo>
                    <a:lnTo>
                      <a:pt x="219" y="171"/>
                    </a:lnTo>
                    <a:lnTo>
                      <a:pt x="231" y="175"/>
                    </a:lnTo>
                    <a:lnTo>
                      <a:pt x="257" y="169"/>
                    </a:lnTo>
                    <a:lnTo>
                      <a:pt x="259" y="160"/>
                    </a:lnTo>
                    <a:lnTo>
                      <a:pt x="256" y="144"/>
                    </a:lnTo>
                    <a:lnTo>
                      <a:pt x="258" y="142"/>
                    </a:lnTo>
                    <a:lnTo>
                      <a:pt x="256" y="125"/>
                    </a:lnTo>
                    <a:lnTo>
                      <a:pt x="254" y="108"/>
                    </a:lnTo>
                    <a:lnTo>
                      <a:pt x="254" y="89"/>
                    </a:lnTo>
                    <a:lnTo>
                      <a:pt x="258" y="72"/>
                    </a:lnTo>
                    <a:lnTo>
                      <a:pt x="264" y="52"/>
                    </a:lnTo>
                    <a:lnTo>
                      <a:pt x="275" y="37"/>
                    </a:lnTo>
                    <a:lnTo>
                      <a:pt x="284" y="27"/>
                    </a:lnTo>
                    <a:lnTo>
                      <a:pt x="309" y="15"/>
                    </a:lnTo>
                    <a:lnTo>
                      <a:pt x="328" y="7"/>
                    </a:lnTo>
                    <a:lnTo>
                      <a:pt x="346" y="2"/>
                    </a:lnTo>
                    <a:lnTo>
                      <a:pt x="366" y="0"/>
                    </a:lnTo>
                    <a:lnTo>
                      <a:pt x="381" y="0"/>
                    </a:lnTo>
                    <a:lnTo>
                      <a:pt x="396" y="2"/>
                    </a:lnTo>
                    <a:lnTo>
                      <a:pt x="408" y="6"/>
                    </a:lnTo>
                    <a:lnTo>
                      <a:pt x="418" y="12"/>
                    </a:lnTo>
                    <a:lnTo>
                      <a:pt x="429" y="22"/>
                    </a:lnTo>
                    <a:lnTo>
                      <a:pt x="438" y="36"/>
                    </a:lnTo>
                    <a:lnTo>
                      <a:pt x="452" y="62"/>
                    </a:lnTo>
                    <a:lnTo>
                      <a:pt x="466" y="94"/>
                    </a:lnTo>
                    <a:lnTo>
                      <a:pt x="473" y="101"/>
                    </a:lnTo>
                    <a:lnTo>
                      <a:pt x="475" y="108"/>
                    </a:lnTo>
                    <a:lnTo>
                      <a:pt x="474" y="114"/>
                    </a:lnTo>
                    <a:lnTo>
                      <a:pt x="468" y="119"/>
                    </a:lnTo>
                    <a:lnTo>
                      <a:pt x="448" y="125"/>
                    </a:lnTo>
                    <a:lnTo>
                      <a:pt x="450" y="142"/>
                    </a:lnTo>
                    <a:lnTo>
                      <a:pt x="452" y="159"/>
                    </a:lnTo>
                    <a:lnTo>
                      <a:pt x="452" y="170"/>
                    </a:lnTo>
                    <a:lnTo>
                      <a:pt x="460" y="171"/>
                    </a:lnTo>
                    <a:lnTo>
                      <a:pt x="473" y="193"/>
                    </a:lnTo>
                    <a:lnTo>
                      <a:pt x="562" y="289"/>
                    </a:lnTo>
                    <a:lnTo>
                      <a:pt x="566" y="295"/>
                    </a:lnTo>
                    <a:lnTo>
                      <a:pt x="567" y="302"/>
                    </a:lnTo>
                    <a:lnTo>
                      <a:pt x="566" y="308"/>
                    </a:lnTo>
                    <a:lnTo>
                      <a:pt x="562" y="312"/>
                    </a:lnTo>
                    <a:lnTo>
                      <a:pt x="558" y="313"/>
                    </a:lnTo>
                    <a:lnTo>
                      <a:pt x="558" y="321"/>
                    </a:lnTo>
                    <a:lnTo>
                      <a:pt x="556" y="327"/>
                    </a:lnTo>
                    <a:lnTo>
                      <a:pt x="552" y="331"/>
                    </a:lnTo>
                    <a:lnTo>
                      <a:pt x="556" y="335"/>
                    </a:lnTo>
                    <a:lnTo>
                      <a:pt x="558" y="341"/>
                    </a:lnTo>
                    <a:lnTo>
                      <a:pt x="563" y="348"/>
                    </a:lnTo>
                    <a:lnTo>
                      <a:pt x="574" y="354"/>
                    </a:lnTo>
                    <a:lnTo>
                      <a:pt x="582" y="359"/>
                    </a:lnTo>
                    <a:lnTo>
                      <a:pt x="589" y="367"/>
                    </a:lnTo>
                    <a:lnTo>
                      <a:pt x="598" y="372"/>
                    </a:lnTo>
                    <a:lnTo>
                      <a:pt x="619" y="365"/>
                    </a:lnTo>
                    <a:lnTo>
                      <a:pt x="630" y="363"/>
                    </a:lnTo>
                    <a:lnTo>
                      <a:pt x="642" y="359"/>
                    </a:lnTo>
                    <a:lnTo>
                      <a:pt x="650" y="357"/>
                    </a:lnTo>
                    <a:lnTo>
                      <a:pt x="683" y="335"/>
                    </a:lnTo>
                    <a:lnTo>
                      <a:pt x="725" y="289"/>
                    </a:lnTo>
                    <a:lnTo>
                      <a:pt x="731" y="290"/>
                    </a:lnTo>
                    <a:lnTo>
                      <a:pt x="754" y="264"/>
                    </a:lnTo>
                    <a:lnTo>
                      <a:pt x="755" y="258"/>
                    </a:lnTo>
                    <a:lnTo>
                      <a:pt x="759" y="250"/>
                    </a:lnTo>
                    <a:lnTo>
                      <a:pt x="765" y="243"/>
                    </a:lnTo>
                    <a:lnTo>
                      <a:pt x="859" y="240"/>
                    </a:lnTo>
                    <a:lnTo>
                      <a:pt x="797" y="275"/>
                    </a:lnTo>
                    <a:lnTo>
                      <a:pt x="785" y="289"/>
                    </a:lnTo>
                    <a:lnTo>
                      <a:pt x="767" y="319"/>
                    </a:lnTo>
                    <a:lnTo>
                      <a:pt x="770" y="327"/>
                    </a:lnTo>
                    <a:lnTo>
                      <a:pt x="722" y="408"/>
                    </a:lnTo>
                    <a:lnTo>
                      <a:pt x="708" y="450"/>
                    </a:lnTo>
                    <a:lnTo>
                      <a:pt x="690" y="463"/>
                    </a:lnTo>
                    <a:lnTo>
                      <a:pt x="671" y="476"/>
                    </a:lnTo>
                    <a:lnTo>
                      <a:pt x="648" y="487"/>
                    </a:lnTo>
                    <a:lnTo>
                      <a:pt x="631" y="489"/>
                    </a:lnTo>
                    <a:lnTo>
                      <a:pt x="618" y="491"/>
                    </a:lnTo>
                    <a:lnTo>
                      <a:pt x="620" y="530"/>
                    </a:lnTo>
                    <a:lnTo>
                      <a:pt x="620" y="576"/>
                    </a:lnTo>
                    <a:lnTo>
                      <a:pt x="614" y="629"/>
                    </a:lnTo>
                    <a:lnTo>
                      <a:pt x="605" y="682"/>
                    </a:lnTo>
                    <a:lnTo>
                      <a:pt x="593" y="732"/>
                    </a:lnTo>
                    <a:lnTo>
                      <a:pt x="583" y="768"/>
                    </a:lnTo>
                    <a:lnTo>
                      <a:pt x="574" y="774"/>
                    </a:lnTo>
                    <a:lnTo>
                      <a:pt x="563" y="783"/>
                    </a:lnTo>
                    <a:lnTo>
                      <a:pt x="556" y="820"/>
                    </a:lnTo>
                    <a:lnTo>
                      <a:pt x="556" y="826"/>
                    </a:lnTo>
                    <a:lnTo>
                      <a:pt x="560" y="833"/>
                    </a:lnTo>
                    <a:lnTo>
                      <a:pt x="560" y="840"/>
                    </a:lnTo>
                    <a:lnTo>
                      <a:pt x="555" y="848"/>
                    </a:lnTo>
                    <a:lnTo>
                      <a:pt x="562" y="854"/>
                    </a:lnTo>
                    <a:lnTo>
                      <a:pt x="567" y="861"/>
                    </a:lnTo>
                    <a:lnTo>
                      <a:pt x="571" y="871"/>
                    </a:lnTo>
                    <a:lnTo>
                      <a:pt x="579" y="873"/>
                    </a:lnTo>
                    <a:lnTo>
                      <a:pt x="583" y="877"/>
                    </a:lnTo>
                    <a:lnTo>
                      <a:pt x="587" y="884"/>
                    </a:lnTo>
                    <a:lnTo>
                      <a:pt x="591" y="891"/>
                    </a:lnTo>
                    <a:lnTo>
                      <a:pt x="595" y="897"/>
                    </a:lnTo>
                    <a:lnTo>
                      <a:pt x="618" y="909"/>
                    </a:lnTo>
                    <a:lnTo>
                      <a:pt x="632" y="916"/>
                    </a:lnTo>
                    <a:lnTo>
                      <a:pt x="639" y="922"/>
                    </a:lnTo>
                    <a:lnTo>
                      <a:pt x="641" y="928"/>
                    </a:lnTo>
                    <a:lnTo>
                      <a:pt x="641" y="939"/>
                    </a:lnTo>
                    <a:lnTo>
                      <a:pt x="629" y="943"/>
                    </a:lnTo>
                    <a:lnTo>
                      <a:pt x="613" y="945"/>
                    </a:lnTo>
                    <a:lnTo>
                      <a:pt x="588" y="944"/>
                    </a:lnTo>
                    <a:lnTo>
                      <a:pt x="566" y="939"/>
                    </a:lnTo>
                    <a:lnTo>
                      <a:pt x="541" y="932"/>
                    </a:lnTo>
                    <a:lnTo>
                      <a:pt x="523" y="923"/>
                    </a:lnTo>
                    <a:lnTo>
                      <a:pt x="508" y="913"/>
                    </a:lnTo>
                    <a:lnTo>
                      <a:pt x="494" y="912"/>
                    </a:lnTo>
                    <a:lnTo>
                      <a:pt x="482" y="911"/>
                    </a:lnTo>
                    <a:lnTo>
                      <a:pt x="470" y="907"/>
                    </a:lnTo>
                    <a:lnTo>
                      <a:pt x="459" y="903"/>
                    </a:lnTo>
                    <a:lnTo>
                      <a:pt x="457" y="890"/>
                    </a:lnTo>
                    <a:lnTo>
                      <a:pt x="458" y="879"/>
                    </a:lnTo>
                    <a:lnTo>
                      <a:pt x="459" y="869"/>
                    </a:lnTo>
                    <a:lnTo>
                      <a:pt x="462" y="860"/>
                    </a:lnTo>
                    <a:lnTo>
                      <a:pt x="466" y="850"/>
                    </a:lnTo>
                    <a:lnTo>
                      <a:pt x="470" y="841"/>
                    </a:lnTo>
                    <a:lnTo>
                      <a:pt x="475" y="833"/>
                    </a:lnTo>
                    <a:lnTo>
                      <a:pt x="475" y="824"/>
                    </a:lnTo>
                    <a:lnTo>
                      <a:pt x="475" y="814"/>
                    </a:lnTo>
                    <a:lnTo>
                      <a:pt x="478" y="808"/>
                    </a:lnTo>
                    <a:lnTo>
                      <a:pt x="482" y="802"/>
                    </a:lnTo>
                    <a:lnTo>
                      <a:pt x="482" y="770"/>
                    </a:lnTo>
                    <a:lnTo>
                      <a:pt x="470" y="764"/>
                    </a:lnTo>
                    <a:lnTo>
                      <a:pt x="471" y="757"/>
                    </a:lnTo>
                    <a:lnTo>
                      <a:pt x="474" y="748"/>
                    </a:lnTo>
                    <a:lnTo>
                      <a:pt x="474" y="738"/>
                    </a:lnTo>
                    <a:lnTo>
                      <a:pt x="471" y="726"/>
                    </a:lnTo>
                    <a:lnTo>
                      <a:pt x="474" y="709"/>
                    </a:lnTo>
                    <a:lnTo>
                      <a:pt x="478" y="685"/>
                    </a:lnTo>
                    <a:lnTo>
                      <a:pt x="484" y="662"/>
                    </a:lnTo>
                    <a:lnTo>
                      <a:pt x="494" y="637"/>
                    </a:lnTo>
                    <a:lnTo>
                      <a:pt x="478" y="655"/>
                    </a:lnTo>
                    <a:lnTo>
                      <a:pt x="460" y="674"/>
                    </a:lnTo>
                    <a:lnTo>
                      <a:pt x="447" y="688"/>
                    </a:lnTo>
                    <a:lnTo>
                      <a:pt x="429" y="704"/>
                    </a:lnTo>
                    <a:lnTo>
                      <a:pt x="415" y="716"/>
                    </a:lnTo>
                    <a:lnTo>
                      <a:pt x="396" y="730"/>
                    </a:lnTo>
                    <a:lnTo>
                      <a:pt x="380" y="743"/>
                    </a:lnTo>
                    <a:lnTo>
                      <a:pt x="359" y="756"/>
                    </a:lnTo>
                    <a:lnTo>
                      <a:pt x="339" y="767"/>
                    </a:lnTo>
                    <a:lnTo>
                      <a:pt x="320" y="773"/>
                    </a:lnTo>
                    <a:lnTo>
                      <a:pt x="302" y="782"/>
                    </a:lnTo>
                    <a:lnTo>
                      <a:pt x="284" y="787"/>
                    </a:lnTo>
                    <a:lnTo>
                      <a:pt x="280" y="806"/>
                    </a:lnTo>
                    <a:close/>
                    <a:moveTo>
                      <a:pt x="85" y="513"/>
                    </a:moveTo>
                    <a:lnTo>
                      <a:pt x="78" y="519"/>
                    </a:lnTo>
                    <a:lnTo>
                      <a:pt x="81" y="523"/>
                    </a:lnTo>
                    <a:lnTo>
                      <a:pt x="83" y="529"/>
                    </a:lnTo>
                    <a:lnTo>
                      <a:pt x="85" y="523"/>
                    </a:lnTo>
                    <a:lnTo>
                      <a:pt x="86" y="518"/>
                    </a:lnTo>
                    <a:lnTo>
                      <a:pt x="85" y="5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275800" y="4429800"/>
                <a:ext cx="153360" cy="191160"/>
              </a:xfrm>
              <a:custGeom>
                <a:avLst/>
                <a:gdLst/>
                <a:ahLst/>
                <a:rect l="l" t="t" r="r" b="b"/>
                <a:pathLst>
                  <a:path w="361" h="454">
                    <a:moveTo>
                      <a:pt x="338" y="0"/>
                    </a:moveTo>
                    <a:lnTo>
                      <a:pt x="340" y="39"/>
                    </a:lnTo>
                    <a:lnTo>
                      <a:pt x="340" y="85"/>
                    </a:lnTo>
                    <a:lnTo>
                      <a:pt x="334" y="138"/>
                    </a:lnTo>
                    <a:lnTo>
                      <a:pt x="325" y="191"/>
                    </a:lnTo>
                    <a:lnTo>
                      <a:pt x="313" y="241"/>
                    </a:lnTo>
                    <a:lnTo>
                      <a:pt x="303" y="277"/>
                    </a:lnTo>
                    <a:lnTo>
                      <a:pt x="294" y="283"/>
                    </a:lnTo>
                    <a:lnTo>
                      <a:pt x="283" y="292"/>
                    </a:lnTo>
                    <a:lnTo>
                      <a:pt x="276" y="329"/>
                    </a:lnTo>
                    <a:lnTo>
                      <a:pt x="276" y="335"/>
                    </a:lnTo>
                    <a:lnTo>
                      <a:pt x="280" y="342"/>
                    </a:lnTo>
                    <a:lnTo>
                      <a:pt x="280" y="349"/>
                    </a:lnTo>
                    <a:lnTo>
                      <a:pt x="275" y="357"/>
                    </a:lnTo>
                    <a:lnTo>
                      <a:pt x="282" y="363"/>
                    </a:lnTo>
                    <a:lnTo>
                      <a:pt x="287" y="370"/>
                    </a:lnTo>
                    <a:lnTo>
                      <a:pt x="291" y="380"/>
                    </a:lnTo>
                    <a:lnTo>
                      <a:pt x="299" y="382"/>
                    </a:lnTo>
                    <a:lnTo>
                      <a:pt x="303" y="386"/>
                    </a:lnTo>
                    <a:lnTo>
                      <a:pt x="307" y="393"/>
                    </a:lnTo>
                    <a:lnTo>
                      <a:pt x="311" y="400"/>
                    </a:lnTo>
                    <a:lnTo>
                      <a:pt x="315" y="406"/>
                    </a:lnTo>
                    <a:lnTo>
                      <a:pt x="338" y="418"/>
                    </a:lnTo>
                    <a:lnTo>
                      <a:pt x="352" y="425"/>
                    </a:lnTo>
                    <a:lnTo>
                      <a:pt x="359" y="431"/>
                    </a:lnTo>
                    <a:lnTo>
                      <a:pt x="361" y="437"/>
                    </a:lnTo>
                    <a:lnTo>
                      <a:pt x="361" y="448"/>
                    </a:lnTo>
                    <a:lnTo>
                      <a:pt x="349" y="452"/>
                    </a:lnTo>
                    <a:lnTo>
                      <a:pt x="333" y="454"/>
                    </a:lnTo>
                    <a:lnTo>
                      <a:pt x="308" y="453"/>
                    </a:lnTo>
                    <a:lnTo>
                      <a:pt x="286" y="448"/>
                    </a:lnTo>
                    <a:lnTo>
                      <a:pt x="261" y="441"/>
                    </a:lnTo>
                    <a:lnTo>
                      <a:pt x="243" y="432"/>
                    </a:lnTo>
                    <a:lnTo>
                      <a:pt x="228" y="422"/>
                    </a:lnTo>
                    <a:lnTo>
                      <a:pt x="214" y="421"/>
                    </a:lnTo>
                    <a:lnTo>
                      <a:pt x="202" y="420"/>
                    </a:lnTo>
                    <a:lnTo>
                      <a:pt x="190" y="416"/>
                    </a:lnTo>
                    <a:lnTo>
                      <a:pt x="179" y="412"/>
                    </a:lnTo>
                    <a:lnTo>
                      <a:pt x="177" y="399"/>
                    </a:lnTo>
                    <a:lnTo>
                      <a:pt x="178" y="388"/>
                    </a:lnTo>
                    <a:lnTo>
                      <a:pt x="179" y="378"/>
                    </a:lnTo>
                    <a:lnTo>
                      <a:pt x="182" y="369"/>
                    </a:lnTo>
                    <a:lnTo>
                      <a:pt x="186" y="359"/>
                    </a:lnTo>
                    <a:lnTo>
                      <a:pt x="190" y="350"/>
                    </a:lnTo>
                    <a:lnTo>
                      <a:pt x="195" y="342"/>
                    </a:lnTo>
                    <a:lnTo>
                      <a:pt x="195" y="333"/>
                    </a:lnTo>
                    <a:lnTo>
                      <a:pt x="195" y="323"/>
                    </a:lnTo>
                    <a:lnTo>
                      <a:pt x="198" y="317"/>
                    </a:lnTo>
                    <a:lnTo>
                      <a:pt x="202" y="311"/>
                    </a:lnTo>
                    <a:lnTo>
                      <a:pt x="202" y="279"/>
                    </a:lnTo>
                    <a:lnTo>
                      <a:pt x="190" y="273"/>
                    </a:lnTo>
                    <a:lnTo>
                      <a:pt x="191" y="266"/>
                    </a:lnTo>
                    <a:lnTo>
                      <a:pt x="194" y="257"/>
                    </a:lnTo>
                    <a:lnTo>
                      <a:pt x="194" y="247"/>
                    </a:lnTo>
                    <a:lnTo>
                      <a:pt x="191" y="235"/>
                    </a:lnTo>
                    <a:lnTo>
                      <a:pt x="194" y="218"/>
                    </a:lnTo>
                    <a:lnTo>
                      <a:pt x="198" y="194"/>
                    </a:lnTo>
                    <a:lnTo>
                      <a:pt x="204" y="171"/>
                    </a:lnTo>
                    <a:lnTo>
                      <a:pt x="214" y="146"/>
                    </a:lnTo>
                    <a:lnTo>
                      <a:pt x="198" y="164"/>
                    </a:lnTo>
                    <a:lnTo>
                      <a:pt x="180" y="183"/>
                    </a:lnTo>
                    <a:lnTo>
                      <a:pt x="167" y="197"/>
                    </a:lnTo>
                    <a:lnTo>
                      <a:pt x="149" y="213"/>
                    </a:lnTo>
                    <a:lnTo>
                      <a:pt x="135" y="225"/>
                    </a:lnTo>
                    <a:lnTo>
                      <a:pt x="116" y="239"/>
                    </a:lnTo>
                    <a:lnTo>
                      <a:pt x="100" y="252"/>
                    </a:lnTo>
                    <a:lnTo>
                      <a:pt x="79" y="265"/>
                    </a:lnTo>
                    <a:lnTo>
                      <a:pt x="59" y="276"/>
                    </a:lnTo>
                    <a:lnTo>
                      <a:pt x="40" y="282"/>
                    </a:lnTo>
                    <a:lnTo>
                      <a:pt x="22" y="291"/>
                    </a:lnTo>
                    <a:lnTo>
                      <a:pt x="4" y="296"/>
                    </a:lnTo>
                    <a:lnTo>
                      <a:pt x="0" y="3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57720" y="4223160"/>
                <a:ext cx="362160" cy="229320"/>
              </a:xfrm>
              <a:custGeom>
                <a:avLst/>
                <a:gdLst/>
                <a:ahLst/>
                <a:rect l="l" t="t" r="r" b="b"/>
                <a:pathLst>
                  <a:path w="859" h="542">
                    <a:moveTo>
                      <a:pt x="0" y="542"/>
                    </a:moveTo>
                    <a:lnTo>
                      <a:pt x="0" y="541"/>
                    </a:lnTo>
                    <a:lnTo>
                      <a:pt x="4" y="537"/>
                    </a:lnTo>
                    <a:lnTo>
                      <a:pt x="8" y="528"/>
                    </a:lnTo>
                    <a:lnTo>
                      <a:pt x="9" y="521"/>
                    </a:lnTo>
                    <a:lnTo>
                      <a:pt x="11" y="517"/>
                    </a:lnTo>
                    <a:lnTo>
                      <a:pt x="25" y="513"/>
                    </a:lnTo>
                    <a:lnTo>
                      <a:pt x="20" y="502"/>
                    </a:lnTo>
                    <a:lnTo>
                      <a:pt x="24" y="485"/>
                    </a:lnTo>
                    <a:lnTo>
                      <a:pt x="25" y="481"/>
                    </a:lnTo>
                    <a:lnTo>
                      <a:pt x="26" y="478"/>
                    </a:lnTo>
                    <a:lnTo>
                      <a:pt x="31" y="478"/>
                    </a:lnTo>
                    <a:lnTo>
                      <a:pt x="31" y="473"/>
                    </a:lnTo>
                    <a:lnTo>
                      <a:pt x="54" y="473"/>
                    </a:lnTo>
                    <a:lnTo>
                      <a:pt x="54" y="478"/>
                    </a:lnTo>
                    <a:lnTo>
                      <a:pt x="56" y="478"/>
                    </a:lnTo>
                    <a:lnTo>
                      <a:pt x="58" y="481"/>
                    </a:lnTo>
                    <a:lnTo>
                      <a:pt x="60" y="487"/>
                    </a:lnTo>
                    <a:lnTo>
                      <a:pt x="61" y="494"/>
                    </a:lnTo>
                    <a:lnTo>
                      <a:pt x="61" y="502"/>
                    </a:lnTo>
                    <a:lnTo>
                      <a:pt x="60" y="508"/>
                    </a:lnTo>
                    <a:lnTo>
                      <a:pt x="57" y="510"/>
                    </a:lnTo>
                    <a:lnTo>
                      <a:pt x="61" y="513"/>
                    </a:lnTo>
                    <a:lnTo>
                      <a:pt x="66" y="513"/>
                    </a:lnTo>
                    <a:lnTo>
                      <a:pt x="70" y="510"/>
                    </a:lnTo>
                    <a:lnTo>
                      <a:pt x="74" y="507"/>
                    </a:lnTo>
                    <a:lnTo>
                      <a:pt x="72" y="500"/>
                    </a:lnTo>
                    <a:lnTo>
                      <a:pt x="61" y="502"/>
                    </a:lnTo>
                    <a:lnTo>
                      <a:pt x="61" y="494"/>
                    </a:lnTo>
                    <a:lnTo>
                      <a:pt x="75" y="493"/>
                    </a:lnTo>
                    <a:lnTo>
                      <a:pt x="78" y="494"/>
                    </a:lnTo>
                    <a:lnTo>
                      <a:pt x="82" y="496"/>
                    </a:lnTo>
                    <a:lnTo>
                      <a:pt x="86" y="498"/>
                    </a:lnTo>
                    <a:lnTo>
                      <a:pt x="83" y="482"/>
                    </a:lnTo>
                    <a:lnTo>
                      <a:pt x="79" y="467"/>
                    </a:lnTo>
                    <a:lnTo>
                      <a:pt x="103" y="367"/>
                    </a:lnTo>
                    <a:lnTo>
                      <a:pt x="108" y="349"/>
                    </a:lnTo>
                    <a:lnTo>
                      <a:pt x="113" y="337"/>
                    </a:lnTo>
                    <a:lnTo>
                      <a:pt x="122" y="327"/>
                    </a:lnTo>
                    <a:lnTo>
                      <a:pt x="114" y="303"/>
                    </a:lnTo>
                    <a:lnTo>
                      <a:pt x="112" y="287"/>
                    </a:lnTo>
                    <a:lnTo>
                      <a:pt x="113" y="273"/>
                    </a:lnTo>
                    <a:lnTo>
                      <a:pt x="119" y="255"/>
                    </a:lnTo>
                    <a:lnTo>
                      <a:pt x="130" y="234"/>
                    </a:lnTo>
                    <a:lnTo>
                      <a:pt x="143" y="218"/>
                    </a:lnTo>
                    <a:lnTo>
                      <a:pt x="160" y="202"/>
                    </a:lnTo>
                    <a:lnTo>
                      <a:pt x="176" y="191"/>
                    </a:lnTo>
                    <a:lnTo>
                      <a:pt x="187" y="181"/>
                    </a:lnTo>
                    <a:lnTo>
                      <a:pt x="197" y="175"/>
                    </a:lnTo>
                    <a:lnTo>
                      <a:pt x="209" y="171"/>
                    </a:lnTo>
                    <a:lnTo>
                      <a:pt x="219" y="171"/>
                    </a:lnTo>
                    <a:lnTo>
                      <a:pt x="231" y="175"/>
                    </a:lnTo>
                    <a:lnTo>
                      <a:pt x="257" y="169"/>
                    </a:lnTo>
                    <a:lnTo>
                      <a:pt x="259" y="160"/>
                    </a:lnTo>
                    <a:lnTo>
                      <a:pt x="256" y="144"/>
                    </a:lnTo>
                    <a:lnTo>
                      <a:pt x="258" y="142"/>
                    </a:lnTo>
                    <a:lnTo>
                      <a:pt x="256" y="125"/>
                    </a:lnTo>
                    <a:lnTo>
                      <a:pt x="254" y="108"/>
                    </a:lnTo>
                    <a:lnTo>
                      <a:pt x="254" y="89"/>
                    </a:lnTo>
                    <a:lnTo>
                      <a:pt x="258" y="72"/>
                    </a:lnTo>
                    <a:lnTo>
                      <a:pt x="264" y="52"/>
                    </a:lnTo>
                    <a:lnTo>
                      <a:pt x="275" y="37"/>
                    </a:lnTo>
                    <a:lnTo>
                      <a:pt x="284" y="27"/>
                    </a:lnTo>
                    <a:lnTo>
                      <a:pt x="309" y="15"/>
                    </a:lnTo>
                    <a:lnTo>
                      <a:pt x="328" y="7"/>
                    </a:lnTo>
                    <a:lnTo>
                      <a:pt x="346" y="2"/>
                    </a:lnTo>
                    <a:lnTo>
                      <a:pt x="366" y="0"/>
                    </a:lnTo>
                    <a:lnTo>
                      <a:pt x="381" y="0"/>
                    </a:lnTo>
                    <a:lnTo>
                      <a:pt x="396" y="2"/>
                    </a:lnTo>
                    <a:lnTo>
                      <a:pt x="408" y="6"/>
                    </a:lnTo>
                    <a:lnTo>
                      <a:pt x="418" y="12"/>
                    </a:lnTo>
                    <a:lnTo>
                      <a:pt x="429" y="22"/>
                    </a:lnTo>
                    <a:lnTo>
                      <a:pt x="438" y="36"/>
                    </a:lnTo>
                    <a:lnTo>
                      <a:pt x="452" y="62"/>
                    </a:lnTo>
                    <a:lnTo>
                      <a:pt x="466" y="94"/>
                    </a:lnTo>
                    <a:lnTo>
                      <a:pt x="473" y="101"/>
                    </a:lnTo>
                    <a:lnTo>
                      <a:pt x="475" y="108"/>
                    </a:lnTo>
                    <a:lnTo>
                      <a:pt x="474" y="114"/>
                    </a:lnTo>
                    <a:lnTo>
                      <a:pt x="468" y="119"/>
                    </a:lnTo>
                    <a:lnTo>
                      <a:pt x="448" y="125"/>
                    </a:lnTo>
                    <a:lnTo>
                      <a:pt x="450" y="142"/>
                    </a:lnTo>
                    <a:lnTo>
                      <a:pt x="452" y="159"/>
                    </a:lnTo>
                    <a:lnTo>
                      <a:pt x="452" y="170"/>
                    </a:lnTo>
                    <a:lnTo>
                      <a:pt x="460" y="171"/>
                    </a:lnTo>
                    <a:lnTo>
                      <a:pt x="473" y="193"/>
                    </a:lnTo>
                    <a:lnTo>
                      <a:pt x="562" y="289"/>
                    </a:lnTo>
                    <a:lnTo>
                      <a:pt x="566" y="295"/>
                    </a:lnTo>
                    <a:lnTo>
                      <a:pt x="567" y="302"/>
                    </a:lnTo>
                    <a:lnTo>
                      <a:pt x="566" y="308"/>
                    </a:lnTo>
                    <a:lnTo>
                      <a:pt x="562" y="312"/>
                    </a:lnTo>
                    <a:lnTo>
                      <a:pt x="558" y="313"/>
                    </a:lnTo>
                    <a:lnTo>
                      <a:pt x="558" y="321"/>
                    </a:lnTo>
                    <a:lnTo>
                      <a:pt x="556" y="327"/>
                    </a:lnTo>
                    <a:lnTo>
                      <a:pt x="552" y="331"/>
                    </a:lnTo>
                    <a:lnTo>
                      <a:pt x="556" y="335"/>
                    </a:lnTo>
                    <a:lnTo>
                      <a:pt x="558" y="341"/>
                    </a:lnTo>
                    <a:lnTo>
                      <a:pt x="563" y="348"/>
                    </a:lnTo>
                    <a:lnTo>
                      <a:pt x="574" y="354"/>
                    </a:lnTo>
                    <a:lnTo>
                      <a:pt x="582" y="359"/>
                    </a:lnTo>
                    <a:lnTo>
                      <a:pt x="589" y="367"/>
                    </a:lnTo>
                    <a:lnTo>
                      <a:pt x="598" y="372"/>
                    </a:lnTo>
                    <a:lnTo>
                      <a:pt x="619" y="365"/>
                    </a:lnTo>
                    <a:lnTo>
                      <a:pt x="630" y="363"/>
                    </a:lnTo>
                    <a:lnTo>
                      <a:pt x="642" y="359"/>
                    </a:lnTo>
                    <a:lnTo>
                      <a:pt x="650" y="357"/>
                    </a:lnTo>
                    <a:lnTo>
                      <a:pt x="683" y="335"/>
                    </a:lnTo>
                    <a:lnTo>
                      <a:pt x="725" y="289"/>
                    </a:lnTo>
                    <a:lnTo>
                      <a:pt x="731" y="290"/>
                    </a:lnTo>
                    <a:lnTo>
                      <a:pt x="754" y="264"/>
                    </a:lnTo>
                    <a:lnTo>
                      <a:pt x="755" y="258"/>
                    </a:lnTo>
                    <a:lnTo>
                      <a:pt x="759" y="250"/>
                    </a:lnTo>
                    <a:lnTo>
                      <a:pt x="765" y="243"/>
                    </a:lnTo>
                    <a:lnTo>
                      <a:pt x="859" y="240"/>
                    </a:lnTo>
                    <a:lnTo>
                      <a:pt x="797" y="275"/>
                    </a:lnTo>
                    <a:lnTo>
                      <a:pt x="785" y="289"/>
                    </a:lnTo>
                    <a:lnTo>
                      <a:pt x="767" y="319"/>
                    </a:lnTo>
                    <a:lnTo>
                      <a:pt x="770" y="327"/>
                    </a:lnTo>
                    <a:lnTo>
                      <a:pt x="722" y="408"/>
                    </a:lnTo>
                    <a:lnTo>
                      <a:pt x="708" y="450"/>
                    </a:lnTo>
                    <a:lnTo>
                      <a:pt x="690" y="463"/>
                    </a:lnTo>
                    <a:lnTo>
                      <a:pt x="671" y="476"/>
                    </a:lnTo>
                    <a:lnTo>
                      <a:pt x="648" y="487"/>
                    </a:lnTo>
                    <a:lnTo>
                      <a:pt x="631" y="489"/>
                    </a:lnTo>
                    <a:lnTo>
                      <a:pt x="618" y="4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357880" y="4282200"/>
                <a:ext cx="286200" cy="81720"/>
              </a:xfrm>
              <a:custGeom>
                <a:avLst/>
                <a:gdLst/>
                <a:ahLst/>
                <a:rect l="l" t="t" r="r" b="b"/>
                <a:pathLst>
                  <a:path w="681" h="193">
                    <a:moveTo>
                      <a:pt x="479" y="93"/>
                    </a:moveTo>
                    <a:lnTo>
                      <a:pt x="468" y="89"/>
                    </a:lnTo>
                    <a:lnTo>
                      <a:pt x="398" y="91"/>
                    </a:lnTo>
                    <a:lnTo>
                      <a:pt x="395" y="95"/>
                    </a:lnTo>
                    <a:lnTo>
                      <a:pt x="471" y="99"/>
                    </a:lnTo>
                    <a:lnTo>
                      <a:pt x="465" y="101"/>
                    </a:lnTo>
                    <a:lnTo>
                      <a:pt x="387" y="101"/>
                    </a:lnTo>
                    <a:lnTo>
                      <a:pt x="293" y="104"/>
                    </a:lnTo>
                    <a:lnTo>
                      <a:pt x="271" y="104"/>
                    </a:lnTo>
                    <a:lnTo>
                      <a:pt x="194" y="135"/>
                    </a:lnTo>
                    <a:lnTo>
                      <a:pt x="194" y="182"/>
                    </a:lnTo>
                    <a:lnTo>
                      <a:pt x="139" y="193"/>
                    </a:lnTo>
                    <a:lnTo>
                      <a:pt x="139" y="150"/>
                    </a:lnTo>
                    <a:lnTo>
                      <a:pt x="136" y="137"/>
                    </a:lnTo>
                    <a:lnTo>
                      <a:pt x="136" y="127"/>
                    </a:lnTo>
                    <a:lnTo>
                      <a:pt x="134" y="123"/>
                    </a:lnTo>
                    <a:lnTo>
                      <a:pt x="132" y="121"/>
                    </a:lnTo>
                    <a:lnTo>
                      <a:pt x="129" y="120"/>
                    </a:lnTo>
                    <a:lnTo>
                      <a:pt x="127" y="120"/>
                    </a:lnTo>
                    <a:lnTo>
                      <a:pt x="107" y="117"/>
                    </a:lnTo>
                    <a:lnTo>
                      <a:pt x="113" y="128"/>
                    </a:lnTo>
                    <a:lnTo>
                      <a:pt x="114" y="133"/>
                    </a:lnTo>
                    <a:lnTo>
                      <a:pt x="114" y="137"/>
                    </a:lnTo>
                    <a:lnTo>
                      <a:pt x="112" y="141"/>
                    </a:lnTo>
                    <a:lnTo>
                      <a:pt x="108" y="143"/>
                    </a:lnTo>
                    <a:lnTo>
                      <a:pt x="130" y="143"/>
                    </a:lnTo>
                    <a:lnTo>
                      <a:pt x="133" y="143"/>
                    </a:lnTo>
                    <a:lnTo>
                      <a:pt x="134" y="141"/>
                    </a:lnTo>
                    <a:lnTo>
                      <a:pt x="136" y="137"/>
                    </a:lnTo>
                    <a:lnTo>
                      <a:pt x="139" y="150"/>
                    </a:lnTo>
                    <a:lnTo>
                      <a:pt x="90" y="150"/>
                    </a:lnTo>
                    <a:lnTo>
                      <a:pt x="0" y="54"/>
                    </a:lnTo>
                    <a:lnTo>
                      <a:pt x="35" y="54"/>
                    </a:lnTo>
                    <a:lnTo>
                      <a:pt x="35" y="43"/>
                    </a:lnTo>
                    <a:lnTo>
                      <a:pt x="46" y="43"/>
                    </a:lnTo>
                    <a:lnTo>
                      <a:pt x="52" y="19"/>
                    </a:lnTo>
                    <a:lnTo>
                      <a:pt x="57" y="19"/>
                    </a:lnTo>
                    <a:lnTo>
                      <a:pt x="60" y="10"/>
                    </a:lnTo>
                    <a:lnTo>
                      <a:pt x="65" y="4"/>
                    </a:lnTo>
                    <a:lnTo>
                      <a:pt x="72" y="3"/>
                    </a:lnTo>
                    <a:lnTo>
                      <a:pt x="196" y="13"/>
                    </a:lnTo>
                    <a:lnTo>
                      <a:pt x="201" y="17"/>
                    </a:lnTo>
                    <a:lnTo>
                      <a:pt x="206" y="21"/>
                    </a:lnTo>
                    <a:lnTo>
                      <a:pt x="210" y="26"/>
                    </a:lnTo>
                    <a:lnTo>
                      <a:pt x="210" y="32"/>
                    </a:lnTo>
                    <a:lnTo>
                      <a:pt x="209" y="38"/>
                    </a:lnTo>
                    <a:lnTo>
                      <a:pt x="206" y="40"/>
                    </a:lnTo>
                    <a:lnTo>
                      <a:pt x="199" y="40"/>
                    </a:lnTo>
                    <a:lnTo>
                      <a:pt x="200" y="37"/>
                    </a:lnTo>
                    <a:lnTo>
                      <a:pt x="202" y="31"/>
                    </a:lnTo>
                    <a:lnTo>
                      <a:pt x="202" y="26"/>
                    </a:lnTo>
                    <a:lnTo>
                      <a:pt x="199" y="22"/>
                    </a:lnTo>
                    <a:lnTo>
                      <a:pt x="194" y="19"/>
                    </a:lnTo>
                    <a:lnTo>
                      <a:pt x="101" y="19"/>
                    </a:lnTo>
                    <a:lnTo>
                      <a:pt x="96" y="24"/>
                    </a:lnTo>
                    <a:lnTo>
                      <a:pt x="93" y="29"/>
                    </a:lnTo>
                    <a:lnTo>
                      <a:pt x="92" y="34"/>
                    </a:lnTo>
                    <a:lnTo>
                      <a:pt x="92" y="39"/>
                    </a:lnTo>
                    <a:lnTo>
                      <a:pt x="93" y="42"/>
                    </a:lnTo>
                    <a:lnTo>
                      <a:pt x="97" y="43"/>
                    </a:lnTo>
                    <a:lnTo>
                      <a:pt x="194" y="43"/>
                    </a:lnTo>
                    <a:lnTo>
                      <a:pt x="199" y="40"/>
                    </a:lnTo>
                    <a:lnTo>
                      <a:pt x="206" y="40"/>
                    </a:lnTo>
                    <a:lnTo>
                      <a:pt x="483" y="40"/>
                    </a:lnTo>
                    <a:lnTo>
                      <a:pt x="489" y="42"/>
                    </a:lnTo>
                    <a:lnTo>
                      <a:pt x="490" y="43"/>
                    </a:lnTo>
                    <a:lnTo>
                      <a:pt x="521" y="43"/>
                    </a:lnTo>
                    <a:lnTo>
                      <a:pt x="520" y="29"/>
                    </a:lnTo>
                    <a:lnTo>
                      <a:pt x="516" y="29"/>
                    </a:lnTo>
                    <a:lnTo>
                      <a:pt x="516" y="16"/>
                    </a:lnTo>
                    <a:lnTo>
                      <a:pt x="506" y="16"/>
                    </a:lnTo>
                    <a:lnTo>
                      <a:pt x="488" y="39"/>
                    </a:lnTo>
                    <a:lnTo>
                      <a:pt x="488" y="42"/>
                    </a:lnTo>
                    <a:lnTo>
                      <a:pt x="489" y="42"/>
                    </a:lnTo>
                    <a:lnTo>
                      <a:pt x="483" y="40"/>
                    </a:lnTo>
                    <a:lnTo>
                      <a:pt x="510" y="2"/>
                    </a:lnTo>
                    <a:lnTo>
                      <a:pt x="516" y="0"/>
                    </a:lnTo>
                    <a:lnTo>
                      <a:pt x="521" y="2"/>
                    </a:lnTo>
                    <a:lnTo>
                      <a:pt x="525" y="6"/>
                    </a:lnTo>
                    <a:lnTo>
                      <a:pt x="527" y="52"/>
                    </a:lnTo>
                    <a:lnTo>
                      <a:pt x="603" y="52"/>
                    </a:lnTo>
                    <a:lnTo>
                      <a:pt x="610" y="48"/>
                    </a:lnTo>
                    <a:lnTo>
                      <a:pt x="662" y="47"/>
                    </a:lnTo>
                    <a:lnTo>
                      <a:pt x="669" y="39"/>
                    </a:lnTo>
                    <a:lnTo>
                      <a:pt x="677" y="39"/>
                    </a:lnTo>
                    <a:lnTo>
                      <a:pt x="677" y="47"/>
                    </a:lnTo>
                    <a:lnTo>
                      <a:pt x="681" y="47"/>
                    </a:lnTo>
                    <a:lnTo>
                      <a:pt x="681" y="69"/>
                    </a:lnTo>
                    <a:lnTo>
                      <a:pt x="667" y="69"/>
                    </a:lnTo>
                    <a:lnTo>
                      <a:pt x="660" y="65"/>
                    </a:lnTo>
                    <a:lnTo>
                      <a:pt x="527" y="65"/>
                    </a:lnTo>
                    <a:lnTo>
                      <a:pt x="527" y="71"/>
                    </a:lnTo>
                    <a:lnTo>
                      <a:pt x="516" y="71"/>
                    </a:lnTo>
                    <a:lnTo>
                      <a:pt x="516" y="69"/>
                    </a:lnTo>
                    <a:lnTo>
                      <a:pt x="494" y="69"/>
                    </a:lnTo>
                    <a:lnTo>
                      <a:pt x="494" y="81"/>
                    </a:lnTo>
                    <a:lnTo>
                      <a:pt x="485" y="81"/>
                    </a:lnTo>
                    <a:lnTo>
                      <a:pt x="479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610240" y="3308040"/>
                <a:ext cx="363960" cy="424800"/>
              </a:xfrm>
              <a:custGeom>
                <a:avLst/>
                <a:gdLst/>
                <a:ahLst/>
                <a:rect l="l" t="t" r="r" b="b"/>
                <a:pathLst>
                  <a:path w="865" h="1009">
                    <a:moveTo>
                      <a:pt x="457" y="495"/>
                    </a:moveTo>
                    <a:lnTo>
                      <a:pt x="473" y="484"/>
                    </a:lnTo>
                    <a:lnTo>
                      <a:pt x="488" y="474"/>
                    </a:lnTo>
                    <a:lnTo>
                      <a:pt x="503" y="467"/>
                    </a:lnTo>
                    <a:lnTo>
                      <a:pt x="518" y="459"/>
                    </a:lnTo>
                    <a:lnTo>
                      <a:pt x="489" y="442"/>
                    </a:lnTo>
                    <a:lnTo>
                      <a:pt x="476" y="432"/>
                    </a:lnTo>
                    <a:lnTo>
                      <a:pt x="462" y="422"/>
                    </a:lnTo>
                    <a:lnTo>
                      <a:pt x="463" y="440"/>
                    </a:lnTo>
                    <a:lnTo>
                      <a:pt x="461" y="457"/>
                    </a:lnTo>
                    <a:lnTo>
                      <a:pt x="457" y="495"/>
                    </a:lnTo>
                    <a:close/>
                    <a:moveTo>
                      <a:pt x="624" y="490"/>
                    </a:moveTo>
                    <a:lnTo>
                      <a:pt x="626" y="530"/>
                    </a:lnTo>
                    <a:lnTo>
                      <a:pt x="626" y="576"/>
                    </a:lnTo>
                    <a:lnTo>
                      <a:pt x="621" y="630"/>
                    </a:lnTo>
                    <a:lnTo>
                      <a:pt x="612" y="681"/>
                    </a:lnTo>
                    <a:lnTo>
                      <a:pt x="600" y="733"/>
                    </a:lnTo>
                    <a:lnTo>
                      <a:pt x="590" y="768"/>
                    </a:lnTo>
                    <a:lnTo>
                      <a:pt x="580" y="775"/>
                    </a:lnTo>
                    <a:lnTo>
                      <a:pt x="570" y="782"/>
                    </a:lnTo>
                    <a:lnTo>
                      <a:pt x="562" y="820"/>
                    </a:lnTo>
                    <a:lnTo>
                      <a:pt x="562" y="826"/>
                    </a:lnTo>
                    <a:lnTo>
                      <a:pt x="565" y="832"/>
                    </a:lnTo>
                    <a:lnTo>
                      <a:pt x="565" y="839"/>
                    </a:lnTo>
                    <a:lnTo>
                      <a:pt x="560" y="847"/>
                    </a:lnTo>
                    <a:lnTo>
                      <a:pt x="569" y="853"/>
                    </a:lnTo>
                    <a:lnTo>
                      <a:pt x="574" y="861"/>
                    </a:lnTo>
                    <a:lnTo>
                      <a:pt x="577" y="870"/>
                    </a:lnTo>
                    <a:lnTo>
                      <a:pt x="585" y="873"/>
                    </a:lnTo>
                    <a:lnTo>
                      <a:pt x="590" y="878"/>
                    </a:lnTo>
                    <a:lnTo>
                      <a:pt x="594" y="884"/>
                    </a:lnTo>
                    <a:lnTo>
                      <a:pt x="597" y="890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8" y="915"/>
                    </a:lnTo>
                    <a:lnTo>
                      <a:pt x="644" y="921"/>
                    </a:lnTo>
                    <a:lnTo>
                      <a:pt x="647" y="928"/>
                    </a:lnTo>
                    <a:lnTo>
                      <a:pt x="647" y="940"/>
                    </a:lnTo>
                    <a:lnTo>
                      <a:pt x="636" y="942"/>
                    </a:lnTo>
                    <a:lnTo>
                      <a:pt x="620" y="945"/>
                    </a:lnTo>
                    <a:lnTo>
                      <a:pt x="595" y="944"/>
                    </a:lnTo>
                    <a:lnTo>
                      <a:pt x="573" y="940"/>
                    </a:lnTo>
                    <a:lnTo>
                      <a:pt x="548" y="931"/>
                    </a:lnTo>
                    <a:lnTo>
                      <a:pt x="529" y="922"/>
                    </a:lnTo>
                    <a:lnTo>
                      <a:pt x="514" y="913"/>
                    </a:lnTo>
                    <a:lnTo>
                      <a:pt x="499" y="911"/>
                    </a:lnTo>
                    <a:lnTo>
                      <a:pt x="488" y="910"/>
                    </a:lnTo>
                    <a:lnTo>
                      <a:pt x="476" y="907"/>
                    </a:lnTo>
                    <a:lnTo>
                      <a:pt x="466" y="902"/>
                    </a:lnTo>
                    <a:lnTo>
                      <a:pt x="463" y="889"/>
                    </a:lnTo>
                    <a:lnTo>
                      <a:pt x="465" y="879"/>
                    </a:lnTo>
                    <a:lnTo>
                      <a:pt x="466" y="868"/>
                    </a:lnTo>
                    <a:lnTo>
                      <a:pt x="468" y="859"/>
                    </a:lnTo>
                    <a:lnTo>
                      <a:pt x="472" y="850"/>
                    </a:lnTo>
                    <a:lnTo>
                      <a:pt x="476" y="841"/>
                    </a:lnTo>
                    <a:lnTo>
                      <a:pt x="482" y="832"/>
                    </a:lnTo>
                    <a:lnTo>
                      <a:pt x="482" y="823"/>
                    </a:lnTo>
                    <a:lnTo>
                      <a:pt x="482" y="813"/>
                    </a:lnTo>
                    <a:lnTo>
                      <a:pt x="485" y="807"/>
                    </a:lnTo>
                    <a:lnTo>
                      <a:pt x="488" y="801"/>
                    </a:lnTo>
                    <a:lnTo>
                      <a:pt x="488" y="769"/>
                    </a:lnTo>
                    <a:lnTo>
                      <a:pt x="476" y="764"/>
                    </a:lnTo>
                    <a:lnTo>
                      <a:pt x="477" y="756"/>
                    </a:lnTo>
                    <a:lnTo>
                      <a:pt x="481" y="748"/>
                    </a:lnTo>
                    <a:lnTo>
                      <a:pt x="481" y="738"/>
                    </a:lnTo>
                    <a:lnTo>
                      <a:pt x="477" y="726"/>
                    </a:lnTo>
                    <a:lnTo>
                      <a:pt x="481" y="708"/>
                    </a:lnTo>
                    <a:lnTo>
                      <a:pt x="485" y="685"/>
                    </a:lnTo>
                    <a:lnTo>
                      <a:pt x="491" y="661"/>
                    </a:lnTo>
                    <a:lnTo>
                      <a:pt x="499" y="636"/>
                    </a:lnTo>
                    <a:lnTo>
                      <a:pt x="485" y="655"/>
                    </a:lnTo>
                    <a:lnTo>
                      <a:pt x="467" y="673"/>
                    </a:lnTo>
                    <a:lnTo>
                      <a:pt x="452" y="687"/>
                    </a:lnTo>
                    <a:lnTo>
                      <a:pt x="435" y="703"/>
                    </a:lnTo>
                    <a:lnTo>
                      <a:pt x="421" y="715"/>
                    </a:lnTo>
                    <a:lnTo>
                      <a:pt x="403" y="730"/>
                    </a:lnTo>
                    <a:lnTo>
                      <a:pt x="385" y="743"/>
                    </a:lnTo>
                    <a:lnTo>
                      <a:pt x="364" y="755"/>
                    </a:lnTo>
                    <a:lnTo>
                      <a:pt x="344" y="766"/>
                    </a:lnTo>
                    <a:lnTo>
                      <a:pt x="326" y="774"/>
                    </a:lnTo>
                    <a:lnTo>
                      <a:pt x="308" y="781"/>
                    </a:lnTo>
                    <a:lnTo>
                      <a:pt x="291" y="786"/>
                    </a:lnTo>
                    <a:lnTo>
                      <a:pt x="275" y="848"/>
                    </a:lnTo>
                    <a:lnTo>
                      <a:pt x="274" y="866"/>
                    </a:lnTo>
                    <a:lnTo>
                      <a:pt x="271" y="884"/>
                    </a:lnTo>
                    <a:lnTo>
                      <a:pt x="269" y="899"/>
                    </a:lnTo>
                    <a:lnTo>
                      <a:pt x="265" y="913"/>
                    </a:lnTo>
                    <a:lnTo>
                      <a:pt x="259" y="928"/>
                    </a:lnTo>
                    <a:lnTo>
                      <a:pt x="251" y="944"/>
                    </a:lnTo>
                    <a:lnTo>
                      <a:pt x="244" y="955"/>
                    </a:lnTo>
                    <a:lnTo>
                      <a:pt x="234" y="966"/>
                    </a:lnTo>
                    <a:lnTo>
                      <a:pt x="232" y="976"/>
                    </a:lnTo>
                    <a:lnTo>
                      <a:pt x="225" y="987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7" y="1009"/>
                    </a:lnTo>
                    <a:lnTo>
                      <a:pt x="157" y="1009"/>
                    </a:lnTo>
                    <a:lnTo>
                      <a:pt x="137" y="1006"/>
                    </a:lnTo>
                    <a:lnTo>
                      <a:pt x="123" y="999"/>
                    </a:lnTo>
                    <a:lnTo>
                      <a:pt x="111" y="991"/>
                    </a:lnTo>
                    <a:lnTo>
                      <a:pt x="103" y="983"/>
                    </a:lnTo>
                    <a:lnTo>
                      <a:pt x="94" y="980"/>
                    </a:lnTo>
                    <a:lnTo>
                      <a:pt x="83" y="963"/>
                    </a:lnTo>
                    <a:lnTo>
                      <a:pt x="77" y="944"/>
                    </a:lnTo>
                    <a:lnTo>
                      <a:pt x="71" y="926"/>
                    </a:lnTo>
                    <a:lnTo>
                      <a:pt x="68" y="905"/>
                    </a:lnTo>
                    <a:lnTo>
                      <a:pt x="68" y="886"/>
                    </a:lnTo>
                    <a:lnTo>
                      <a:pt x="64" y="851"/>
                    </a:lnTo>
                    <a:lnTo>
                      <a:pt x="75" y="831"/>
                    </a:lnTo>
                    <a:lnTo>
                      <a:pt x="79" y="806"/>
                    </a:lnTo>
                    <a:lnTo>
                      <a:pt x="87" y="796"/>
                    </a:lnTo>
                    <a:lnTo>
                      <a:pt x="84" y="781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70" y="736"/>
                    </a:lnTo>
                    <a:lnTo>
                      <a:pt x="81" y="703"/>
                    </a:lnTo>
                    <a:lnTo>
                      <a:pt x="73" y="704"/>
                    </a:lnTo>
                    <a:lnTo>
                      <a:pt x="64" y="702"/>
                    </a:lnTo>
                    <a:lnTo>
                      <a:pt x="59" y="700"/>
                    </a:lnTo>
                    <a:lnTo>
                      <a:pt x="56" y="693"/>
                    </a:lnTo>
                    <a:lnTo>
                      <a:pt x="54" y="687"/>
                    </a:lnTo>
                    <a:lnTo>
                      <a:pt x="48" y="688"/>
                    </a:lnTo>
                    <a:lnTo>
                      <a:pt x="39" y="687"/>
                    </a:lnTo>
                    <a:lnTo>
                      <a:pt x="33" y="683"/>
                    </a:lnTo>
                    <a:lnTo>
                      <a:pt x="27" y="678"/>
                    </a:lnTo>
                    <a:lnTo>
                      <a:pt x="21" y="670"/>
                    </a:lnTo>
                    <a:lnTo>
                      <a:pt x="16" y="661"/>
                    </a:lnTo>
                    <a:lnTo>
                      <a:pt x="13" y="652"/>
                    </a:lnTo>
                    <a:lnTo>
                      <a:pt x="8" y="650"/>
                    </a:lnTo>
                    <a:lnTo>
                      <a:pt x="2" y="597"/>
                    </a:lnTo>
                    <a:lnTo>
                      <a:pt x="7" y="595"/>
                    </a:lnTo>
                    <a:lnTo>
                      <a:pt x="7" y="573"/>
                    </a:lnTo>
                    <a:lnTo>
                      <a:pt x="0" y="572"/>
                    </a:lnTo>
                    <a:lnTo>
                      <a:pt x="2" y="558"/>
                    </a:lnTo>
                    <a:lnTo>
                      <a:pt x="6" y="548"/>
                    </a:lnTo>
                    <a:lnTo>
                      <a:pt x="7" y="541"/>
                    </a:lnTo>
                    <a:lnTo>
                      <a:pt x="11" y="536"/>
                    </a:lnTo>
                    <a:lnTo>
                      <a:pt x="13" y="527"/>
                    </a:lnTo>
                    <a:lnTo>
                      <a:pt x="15" y="521"/>
                    </a:lnTo>
                    <a:lnTo>
                      <a:pt x="17" y="516"/>
                    </a:lnTo>
                    <a:lnTo>
                      <a:pt x="32" y="512"/>
                    </a:lnTo>
                    <a:lnTo>
                      <a:pt x="27" y="501"/>
                    </a:lnTo>
                    <a:lnTo>
                      <a:pt x="31" y="485"/>
                    </a:lnTo>
                    <a:lnTo>
                      <a:pt x="32" y="480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0"/>
                    </a:lnTo>
                    <a:lnTo>
                      <a:pt x="66" y="486"/>
                    </a:lnTo>
                    <a:lnTo>
                      <a:pt x="68" y="494"/>
                    </a:lnTo>
                    <a:lnTo>
                      <a:pt x="68" y="501"/>
                    </a:lnTo>
                    <a:lnTo>
                      <a:pt x="66" y="507"/>
                    </a:lnTo>
                    <a:lnTo>
                      <a:pt x="63" y="510"/>
                    </a:lnTo>
                    <a:lnTo>
                      <a:pt x="68" y="512"/>
                    </a:lnTo>
                    <a:lnTo>
                      <a:pt x="73" y="512"/>
                    </a:lnTo>
                    <a:lnTo>
                      <a:pt x="77" y="510"/>
                    </a:lnTo>
                    <a:lnTo>
                      <a:pt x="79" y="506"/>
                    </a:lnTo>
                    <a:lnTo>
                      <a:pt x="78" y="500"/>
                    </a:lnTo>
                    <a:lnTo>
                      <a:pt x="68" y="501"/>
                    </a:lnTo>
                    <a:lnTo>
                      <a:pt x="68" y="494"/>
                    </a:lnTo>
                    <a:lnTo>
                      <a:pt x="80" y="492"/>
                    </a:lnTo>
                    <a:lnTo>
                      <a:pt x="84" y="494"/>
                    </a:lnTo>
                    <a:lnTo>
                      <a:pt x="89" y="495"/>
                    </a:lnTo>
                    <a:lnTo>
                      <a:pt x="92" y="498"/>
                    </a:lnTo>
                    <a:lnTo>
                      <a:pt x="90" y="482"/>
                    </a:lnTo>
                    <a:lnTo>
                      <a:pt x="85" y="467"/>
                    </a:lnTo>
                    <a:lnTo>
                      <a:pt x="109" y="366"/>
                    </a:lnTo>
                    <a:lnTo>
                      <a:pt x="115" y="349"/>
                    </a:lnTo>
                    <a:lnTo>
                      <a:pt x="120" y="338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9" y="287"/>
                    </a:lnTo>
                    <a:lnTo>
                      <a:pt x="120" y="272"/>
                    </a:lnTo>
                    <a:lnTo>
                      <a:pt x="125" y="256"/>
                    </a:lnTo>
                    <a:lnTo>
                      <a:pt x="137" y="235"/>
                    </a:lnTo>
                    <a:lnTo>
                      <a:pt x="148" y="217"/>
                    </a:lnTo>
                    <a:lnTo>
                      <a:pt x="166" y="201"/>
                    </a:lnTo>
                    <a:lnTo>
                      <a:pt x="183" y="190"/>
                    </a:lnTo>
                    <a:lnTo>
                      <a:pt x="193" y="180"/>
                    </a:lnTo>
                    <a:lnTo>
                      <a:pt x="204" y="174"/>
                    </a:lnTo>
                    <a:lnTo>
                      <a:pt x="214" y="172"/>
                    </a:lnTo>
                    <a:lnTo>
                      <a:pt x="225" y="172"/>
                    </a:lnTo>
                    <a:lnTo>
                      <a:pt x="237" y="174"/>
                    </a:lnTo>
                    <a:lnTo>
                      <a:pt x="264" y="168"/>
                    </a:lnTo>
                    <a:lnTo>
                      <a:pt x="266" y="159"/>
                    </a:lnTo>
                    <a:lnTo>
                      <a:pt x="261" y="143"/>
                    </a:lnTo>
                    <a:lnTo>
                      <a:pt x="265" y="142"/>
                    </a:lnTo>
                    <a:lnTo>
                      <a:pt x="261" y="125"/>
                    </a:lnTo>
                    <a:lnTo>
                      <a:pt x="260" y="107"/>
                    </a:lnTo>
                    <a:lnTo>
                      <a:pt x="260" y="90"/>
                    </a:lnTo>
                    <a:lnTo>
                      <a:pt x="265" y="71"/>
                    </a:lnTo>
                    <a:lnTo>
                      <a:pt x="271" y="51"/>
                    </a:lnTo>
                    <a:lnTo>
                      <a:pt x="281" y="37"/>
                    </a:lnTo>
                    <a:lnTo>
                      <a:pt x="291" y="28"/>
                    </a:lnTo>
                    <a:lnTo>
                      <a:pt x="316" y="14"/>
                    </a:lnTo>
                    <a:lnTo>
                      <a:pt x="334" y="8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87" y="0"/>
                    </a:lnTo>
                    <a:lnTo>
                      <a:pt x="403" y="2"/>
                    </a:lnTo>
                    <a:lnTo>
                      <a:pt x="414" y="7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5"/>
                    </a:lnTo>
                    <a:lnTo>
                      <a:pt x="457" y="61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2" y="107"/>
                    </a:lnTo>
                    <a:lnTo>
                      <a:pt x="481" y="113"/>
                    </a:lnTo>
                    <a:lnTo>
                      <a:pt x="473" y="118"/>
                    </a:lnTo>
                    <a:lnTo>
                      <a:pt x="454" y="125"/>
                    </a:lnTo>
                    <a:lnTo>
                      <a:pt x="456" y="142"/>
                    </a:lnTo>
                    <a:lnTo>
                      <a:pt x="457" y="158"/>
                    </a:lnTo>
                    <a:lnTo>
                      <a:pt x="457" y="169"/>
                    </a:lnTo>
                    <a:lnTo>
                      <a:pt x="467" y="172"/>
                    </a:lnTo>
                    <a:lnTo>
                      <a:pt x="478" y="194"/>
                    </a:lnTo>
                    <a:lnTo>
                      <a:pt x="569" y="288"/>
                    </a:lnTo>
                    <a:lnTo>
                      <a:pt x="573" y="295"/>
                    </a:lnTo>
                    <a:lnTo>
                      <a:pt x="574" y="302"/>
                    </a:lnTo>
                    <a:lnTo>
                      <a:pt x="573" y="308"/>
                    </a:lnTo>
                    <a:lnTo>
                      <a:pt x="569" y="312"/>
                    </a:lnTo>
                    <a:lnTo>
                      <a:pt x="564" y="313"/>
                    </a:lnTo>
                    <a:lnTo>
                      <a:pt x="564" y="320"/>
                    </a:lnTo>
                    <a:lnTo>
                      <a:pt x="561" y="327"/>
                    </a:lnTo>
                    <a:lnTo>
                      <a:pt x="558" y="330"/>
                    </a:lnTo>
                    <a:lnTo>
                      <a:pt x="561" y="334"/>
                    </a:lnTo>
                    <a:lnTo>
                      <a:pt x="564" y="340"/>
                    </a:lnTo>
                    <a:lnTo>
                      <a:pt x="570" y="348"/>
                    </a:lnTo>
                    <a:lnTo>
                      <a:pt x="580" y="354"/>
                    </a:lnTo>
                    <a:lnTo>
                      <a:pt x="587" y="360"/>
                    </a:lnTo>
                    <a:lnTo>
                      <a:pt x="596" y="366"/>
                    </a:lnTo>
                    <a:lnTo>
                      <a:pt x="603" y="371"/>
                    </a:lnTo>
                    <a:lnTo>
                      <a:pt x="625" y="365"/>
                    </a:lnTo>
                    <a:lnTo>
                      <a:pt x="637" y="363"/>
                    </a:lnTo>
                    <a:lnTo>
                      <a:pt x="648" y="360"/>
                    </a:lnTo>
                    <a:lnTo>
                      <a:pt x="657" y="356"/>
                    </a:lnTo>
                    <a:lnTo>
                      <a:pt x="689" y="334"/>
                    </a:lnTo>
                    <a:lnTo>
                      <a:pt x="731" y="288"/>
                    </a:lnTo>
                    <a:lnTo>
                      <a:pt x="736" y="289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6" y="250"/>
                    </a:lnTo>
                    <a:lnTo>
                      <a:pt x="772" y="242"/>
                    </a:lnTo>
                    <a:lnTo>
                      <a:pt x="865" y="240"/>
                    </a:lnTo>
                    <a:lnTo>
                      <a:pt x="803" y="276"/>
                    </a:lnTo>
                    <a:lnTo>
                      <a:pt x="792" y="288"/>
                    </a:lnTo>
                    <a:lnTo>
                      <a:pt x="773" y="319"/>
                    </a:lnTo>
                    <a:lnTo>
                      <a:pt x="776" y="327"/>
                    </a:lnTo>
                    <a:lnTo>
                      <a:pt x="729" y="407"/>
                    </a:lnTo>
                    <a:lnTo>
                      <a:pt x="714" y="449"/>
                    </a:lnTo>
                    <a:lnTo>
                      <a:pt x="695" y="464"/>
                    </a:lnTo>
                    <a:lnTo>
                      <a:pt x="678" y="475"/>
                    </a:lnTo>
                    <a:lnTo>
                      <a:pt x="653" y="486"/>
                    </a:lnTo>
                    <a:lnTo>
                      <a:pt x="638" y="489"/>
                    </a:lnTo>
                    <a:lnTo>
                      <a:pt x="624" y="490"/>
                    </a:lnTo>
                    <a:close/>
                    <a:moveTo>
                      <a:pt x="91" y="513"/>
                    </a:moveTo>
                    <a:lnTo>
                      <a:pt x="84" y="518"/>
                    </a:lnTo>
                    <a:lnTo>
                      <a:pt x="87" y="523"/>
                    </a:lnTo>
                    <a:lnTo>
                      <a:pt x="90" y="528"/>
                    </a:lnTo>
                    <a:lnTo>
                      <a:pt x="91" y="523"/>
                    </a:lnTo>
                    <a:lnTo>
                      <a:pt x="93" y="517"/>
                    </a:lnTo>
                    <a:lnTo>
                      <a:pt x="91" y="5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10240" y="3308040"/>
                <a:ext cx="363960" cy="424800"/>
              </a:xfrm>
              <a:custGeom>
                <a:avLst/>
                <a:gdLst/>
                <a:ahLst/>
                <a:rect l="l" t="t" r="r" b="b"/>
                <a:pathLst>
                  <a:path w="865" h="1009">
                    <a:moveTo>
                      <a:pt x="624" y="490"/>
                    </a:moveTo>
                    <a:lnTo>
                      <a:pt x="626" y="530"/>
                    </a:lnTo>
                    <a:lnTo>
                      <a:pt x="626" y="576"/>
                    </a:lnTo>
                    <a:lnTo>
                      <a:pt x="621" y="630"/>
                    </a:lnTo>
                    <a:lnTo>
                      <a:pt x="612" y="681"/>
                    </a:lnTo>
                    <a:lnTo>
                      <a:pt x="600" y="733"/>
                    </a:lnTo>
                    <a:lnTo>
                      <a:pt x="590" y="768"/>
                    </a:lnTo>
                    <a:lnTo>
                      <a:pt x="580" y="775"/>
                    </a:lnTo>
                    <a:lnTo>
                      <a:pt x="570" y="782"/>
                    </a:lnTo>
                    <a:lnTo>
                      <a:pt x="562" y="820"/>
                    </a:lnTo>
                    <a:lnTo>
                      <a:pt x="562" y="826"/>
                    </a:lnTo>
                    <a:lnTo>
                      <a:pt x="565" y="832"/>
                    </a:lnTo>
                    <a:lnTo>
                      <a:pt x="565" y="839"/>
                    </a:lnTo>
                    <a:lnTo>
                      <a:pt x="560" y="847"/>
                    </a:lnTo>
                    <a:lnTo>
                      <a:pt x="569" y="853"/>
                    </a:lnTo>
                    <a:lnTo>
                      <a:pt x="574" y="861"/>
                    </a:lnTo>
                    <a:lnTo>
                      <a:pt x="577" y="870"/>
                    </a:lnTo>
                    <a:lnTo>
                      <a:pt x="585" y="873"/>
                    </a:lnTo>
                    <a:lnTo>
                      <a:pt x="590" y="878"/>
                    </a:lnTo>
                    <a:lnTo>
                      <a:pt x="594" y="884"/>
                    </a:lnTo>
                    <a:lnTo>
                      <a:pt x="597" y="890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8" y="915"/>
                    </a:lnTo>
                    <a:lnTo>
                      <a:pt x="644" y="921"/>
                    </a:lnTo>
                    <a:lnTo>
                      <a:pt x="647" y="928"/>
                    </a:lnTo>
                    <a:lnTo>
                      <a:pt x="647" y="940"/>
                    </a:lnTo>
                    <a:lnTo>
                      <a:pt x="636" y="942"/>
                    </a:lnTo>
                    <a:lnTo>
                      <a:pt x="620" y="945"/>
                    </a:lnTo>
                    <a:lnTo>
                      <a:pt x="595" y="944"/>
                    </a:lnTo>
                    <a:lnTo>
                      <a:pt x="573" y="940"/>
                    </a:lnTo>
                    <a:lnTo>
                      <a:pt x="548" y="931"/>
                    </a:lnTo>
                    <a:lnTo>
                      <a:pt x="529" y="922"/>
                    </a:lnTo>
                    <a:lnTo>
                      <a:pt x="514" y="913"/>
                    </a:lnTo>
                    <a:lnTo>
                      <a:pt x="499" y="911"/>
                    </a:lnTo>
                    <a:lnTo>
                      <a:pt x="488" y="910"/>
                    </a:lnTo>
                    <a:lnTo>
                      <a:pt x="476" y="907"/>
                    </a:lnTo>
                    <a:lnTo>
                      <a:pt x="466" y="902"/>
                    </a:lnTo>
                    <a:lnTo>
                      <a:pt x="463" y="889"/>
                    </a:lnTo>
                    <a:lnTo>
                      <a:pt x="465" y="879"/>
                    </a:lnTo>
                    <a:lnTo>
                      <a:pt x="466" y="868"/>
                    </a:lnTo>
                    <a:lnTo>
                      <a:pt x="468" y="859"/>
                    </a:lnTo>
                    <a:lnTo>
                      <a:pt x="472" y="850"/>
                    </a:lnTo>
                    <a:lnTo>
                      <a:pt x="476" y="841"/>
                    </a:lnTo>
                    <a:lnTo>
                      <a:pt x="482" y="832"/>
                    </a:lnTo>
                    <a:lnTo>
                      <a:pt x="482" y="823"/>
                    </a:lnTo>
                    <a:lnTo>
                      <a:pt x="482" y="813"/>
                    </a:lnTo>
                    <a:lnTo>
                      <a:pt x="485" y="807"/>
                    </a:lnTo>
                    <a:lnTo>
                      <a:pt x="488" y="801"/>
                    </a:lnTo>
                    <a:lnTo>
                      <a:pt x="488" y="769"/>
                    </a:lnTo>
                    <a:lnTo>
                      <a:pt x="476" y="764"/>
                    </a:lnTo>
                    <a:lnTo>
                      <a:pt x="477" y="756"/>
                    </a:lnTo>
                    <a:lnTo>
                      <a:pt x="481" y="748"/>
                    </a:lnTo>
                    <a:lnTo>
                      <a:pt x="481" y="738"/>
                    </a:lnTo>
                    <a:lnTo>
                      <a:pt x="477" y="726"/>
                    </a:lnTo>
                    <a:lnTo>
                      <a:pt x="481" y="708"/>
                    </a:lnTo>
                    <a:lnTo>
                      <a:pt x="485" y="685"/>
                    </a:lnTo>
                    <a:lnTo>
                      <a:pt x="491" y="661"/>
                    </a:lnTo>
                    <a:lnTo>
                      <a:pt x="499" y="636"/>
                    </a:lnTo>
                    <a:lnTo>
                      <a:pt x="485" y="655"/>
                    </a:lnTo>
                    <a:lnTo>
                      <a:pt x="467" y="673"/>
                    </a:lnTo>
                    <a:lnTo>
                      <a:pt x="452" y="687"/>
                    </a:lnTo>
                    <a:lnTo>
                      <a:pt x="435" y="703"/>
                    </a:lnTo>
                    <a:lnTo>
                      <a:pt x="421" y="715"/>
                    </a:lnTo>
                    <a:lnTo>
                      <a:pt x="403" y="730"/>
                    </a:lnTo>
                    <a:lnTo>
                      <a:pt x="385" y="743"/>
                    </a:lnTo>
                    <a:lnTo>
                      <a:pt x="364" y="755"/>
                    </a:lnTo>
                    <a:lnTo>
                      <a:pt x="344" y="766"/>
                    </a:lnTo>
                    <a:lnTo>
                      <a:pt x="326" y="774"/>
                    </a:lnTo>
                    <a:lnTo>
                      <a:pt x="308" y="781"/>
                    </a:lnTo>
                    <a:lnTo>
                      <a:pt x="291" y="786"/>
                    </a:lnTo>
                    <a:lnTo>
                      <a:pt x="275" y="848"/>
                    </a:lnTo>
                    <a:lnTo>
                      <a:pt x="274" y="866"/>
                    </a:lnTo>
                    <a:lnTo>
                      <a:pt x="271" y="884"/>
                    </a:lnTo>
                    <a:lnTo>
                      <a:pt x="269" y="899"/>
                    </a:lnTo>
                    <a:lnTo>
                      <a:pt x="265" y="913"/>
                    </a:lnTo>
                    <a:lnTo>
                      <a:pt x="259" y="928"/>
                    </a:lnTo>
                    <a:lnTo>
                      <a:pt x="251" y="944"/>
                    </a:lnTo>
                    <a:lnTo>
                      <a:pt x="244" y="955"/>
                    </a:lnTo>
                    <a:lnTo>
                      <a:pt x="234" y="966"/>
                    </a:lnTo>
                    <a:lnTo>
                      <a:pt x="232" y="976"/>
                    </a:lnTo>
                    <a:lnTo>
                      <a:pt x="225" y="987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7" y="1009"/>
                    </a:lnTo>
                    <a:lnTo>
                      <a:pt x="157" y="1009"/>
                    </a:lnTo>
                    <a:lnTo>
                      <a:pt x="137" y="1006"/>
                    </a:lnTo>
                    <a:lnTo>
                      <a:pt x="123" y="999"/>
                    </a:lnTo>
                    <a:lnTo>
                      <a:pt x="111" y="991"/>
                    </a:lnTo>
                    <a:lnTo>
                      <a:pt x="103" y="983"/>
                    </a:lnTo>
                    <a:lnTo>
                      <a:pt x="94" y="980"/>
                    </a:lnTo>
                    <a:lnTo>
                      <a:pt x="83" y="963"/>
                    </a:lnTo>
                    <a:lnTo>
                      <a:pt x="77" y="944"/>
                    </a:lnTo>
                    <a:lnTo>
                      <a:pt x="71" y="926"/>
                    </a:lnTo>
                    <a:lnTo>
                      <a:pt x="68" y="905"/>
                    </a:lnTo>
                    <a:lnTo>
                      <a:pt x="68" y="886"/>
                    </a:lnTo>
                    <a:lnTo>
                      <a:pt x="64" y="851"/>
                    </a:lnTo>
                    <a:lnTo>
                      <a:pt x="75" y="831"/>
                    </a:lnTo>
                    <a:lnTo>
                      <a:pt x="79" y="806"/>
                    </a:lnTo>
                    <a:lnTo>
                      <a:pt x="87" y="796"/>
                    </a:lnTo>
                    <a:lnTo>
                      <a:pt x="84" y="781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70" y="736"/>
                    </a:lnTo>
                    <a:lnTo>
                      <a:pt x="81" y="703"/>
                    </a:lnTo>
                    <a:lnTo>
                      <a:pt x="73" y="704"/>
                    </a:lnTo>
                    <a:lnTo>
                      <a:pt x="64" y="702"/>
                    </a:lnTo>
                    <a:lnTo>
                      <a:pt x="59" y="700"/>
                    </a:lnTo>
                    <a:lnTo>
                      <a:pt x="56" y="693"/>
                    </a:lnTo>
                    <a:lnTo>
                      <a:pt x="54" y="687"/>
                    </a:lnTo>
                    <a:lnTo>
                      <a:pt x="48" y="688"/>
                    </a:lnTo>
                    <a:lnTo>
                      <a:pt x="39" y="687"/>
                    </a:lnTo>
                    <a:lnTo>
                      <a:pt x="33" y="683"/>
                    </a:lnTo>
                    <a:lnTo>
                      <a:pt x="27" y="678"/>
                    </a:lnTo>
                    <a:lnTo>
                      <a:pt x="21" y="670"/>
                    </a:lnTo>
                    <a:lnTo>
                      <a:pt x="16" y="661"/>
                    </a:lnTo>
                    <a:lnTo>
                      <a:pt x="13" y="652"/>
                    </a:lnTo>
                    <a:lnTo>
                      <a:pt x="8" y="650"/>
                    </a:lnTo>
                    <a:lnTo>
                      <a:pt x="2" y="597"/>
                    </a:lnTo>
                    <a:lnTo>
                      <a:pt x="7" y="595"/>
                    </a:lnTo>
                    <a:lnTo>
                      <a:pt x="7" y="573"/>
                    </a:lnTo>
                    <a:lnTo>
                      <a:pt x="0" y="572"/>
                    </a:lnTo>
                    <a:lnTo>
                      <a:pt x="2" y="558"/>
                    </a:lnTo>
                    <a:lnTo>
                      <a:pt x="6" y="548"/>
                    </a:lnTo>
                    <a:lnTo>
                      <a:pt x="7" y="541"/>
                    </a:lnTo>
                    <a:lnTo>
                      <a:pt x="11" y="536"/>
                    </a:lnTo>
                    <a:lnTo>
                      <a:pt x="13" y="527"/>
                    </a:lnTo>
                    <a:lnTo>
                      <a:pt x="15" y="521"/>
                    </a:lnTo>
                    <a:lnTo>
                      <a:pt x="17" y="516"/>
                    </a:lnTo>
                    <a:lnTo>
                      <a:pt x="32" y="512"/>
                    </a:lnTo>
                    <a:lnTo>
                      <a:pt x="27" y="501"/>
                    </a:lnTo>
                    <a:lnTo>
                      <a:pt x="31" y="485"/>
                    </a:lnTo>
                    <a:lnTo>
                      <a:pt x="32" y="480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0"/>
                    </a:lnTo>
                    <a:lnTo>
                      <a:pt x="66" y="486"/>
                    </a:lnTo>
                    <a:lnTo>
                      <a:pt x="68" y="494"/>
                    </a:lnTo>
                    <a:lnTo>
                      <a:pt x="68" y="501"/>
                    </a:lnTo>
                    <a:lnTo>
                      <a:pt x="66" y="507"/>
                    </a:lnTo>
                    <a:lnTo>
                      <a:pt x="63" y="510"/>
                    </a:lnTo>
                    <a:lnTo>
                      <a:pt x="68" y="512"/>
                    </a:lnTo>
                    <a:lnTo>
                      <a:pt x="73" y="512"/>
                    </a:lnTo>
                    <a:lnTo>
                      <a:pt x="77" y="510"/>
                    </a:lnTo>
                    <a:lnTo>
                      <a:pt x="79" y="506"/>
                    </a:lnTo>
                    <a:lnTo>
                      <a:pt x="78" y="500"/>
                    </a:lnTo>
                    <a:lnTo>
                      <a:pt x="68" y="501"/>
                    </a:lnTo>
                    <a:lnTo>
                      <a:pt x="68" y="494"/>
                    </a:lnTo>
                    <a:lnTo>
                      <a:pt x="80" y="492"/>
                    </a:lnTo>
                    <a:lnTo>
                      <a:pt x="84" y="494"/>
                    </a:lnTo>
                    <a:lnTo>
                      <a:pt x="89" y="495"/>
                    </a:lnTo>
                    <a:lnTo>
                      <a:pt x="92" y="498"/>
                    </a:lnTo>
                    <a:lnTo>
                      <a:pt x="90" y="482"/>
                    </a:lnTo>
                    <a:lnTo>
                      <a:pt x="85" y="467"/>
                    </a:lnTo>
                    <a:lnTo>
                      <a:pt x="109" y="366"/>
                    </a:lnTo>
                    <a:lnTo>
                      <a:pt x="115" y="349"/>
                    </a:lnTo>
                    <a:lnTo>
                      <a:pt x="120" y="338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9" y="287"/>
                    </a:lnTo>
                    <a:lnTo>
                      <a:pt x="120" y="272"/>
                    </a:lnTo>
                    <a:lnTo>
                      <a:pt x="125" y="256"/>
                    </a:lnTo>
                    <a:lnTo>
                      <a:pt x="137" y="235"/>
                    </a:lnTo>
                    <a:lnTo>
                      <a:pt x="148" y="217"/>
                    </a:lnTo>
                    <a:lnTo>
                      <a:pt x="166" y="201"/>
                    </a:lnTo>
                    <a:lnTo>
                      <a:pt x="183" y="190"/>
                    </a:lnTo>
                    <a:lnTo>
                      <a:pt x="193" y="180"/>
                    </a:lnTo>
                    <a:lnTo>
                      <a:pt x="204" y="174"/>
                    </a:lnTo>
                    <a:lnTo>
                      <a:pt x="214" y="172"/>
                    </a:lnTo>
                    <a:lnTo>
                      <a:pt x="225" y="172"/>
                    </a:lnTo>
                    <a:lnTo>
                      <a:pt x="237" y="174"/>
                    </a:lnTo>
                    <a:lnTo>
                      <a:pt x="264" y="168"/>
                    </a:lnTo>
                    <a:lnTo>
                      <a:pt x="266" y="159"/>
                    </a:lnTo>
                    <a:lnTo>
                      <a:pt x="261" y="143"/>
                    </a:lnTo>
                    <a:lnTo>
                      <a:pt x="265" y="142"/>
                    </a:lnTo>
                    <a:lnTo>
                      <a:pt x="261" y="125"/>
                    </a:lnTo>
                    <a:lnTo>
                      <a:pt x="260" y="107"/>
                    </a:lnTo>
                    <a:lnTo>
                      <a:pt x="260" y="90"/>
                    </a:lnTo>
                    <a:lnTo>
                      <a:pt x="265" y="71"/>
                    </a:lnTo>
                    <a:lnTo>
                      <a:pt x="271" y="51"/>
                    </a:lnTo>
                    <a:lnTo>
                      <a:pt x="281" y="37"/>
                    </a:lnTo>
                    <a:lnTo>
                      <a:pt x="291" y="28"/>
                    </a:lnTo>
                    <a:lnTo>
                      <a:pt x="316" y="14"/>
                    </a:lnTo>
                    <a:lnTo>
                      <a:pt x="334" y="8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87" y="0"/>
                    </a:lnTo>
                    <a:lnTo>
                      <a:pt x="403" y="2"/>
                    </a:lnTo>
                    <a:lnTo>
                      <a:pt x="414" y="7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5"/>
                    </a:lnTo>
                    <a:lnTo>
                      <a:pt x="457" y="61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2" y="107"/>
                    </a:lnTo>
                    <a:lnTo>
                      <a:pt x="481" y="113"/>
                    </a:lnTo>
                    <a:lnTo>
                      <a:pt x="473" y="118"/>
                    </a:lnTo>
                    <a:lnTo>
                      <a:pt x="454" y="125"/>
                    </a:lnTo>
                    <a:lnTo>
                      <a:pt x="456" y="142"/>
                    </a:lnTo>
                    <a:lnTo>
                      <a:pt x="457" y="158"/>
                    </a:lnTo>
                    <a:lnTo>
                      <a:pt x="457" y="169"/>
                    </a:lnTo>
                    <a:lnTo>
                      <a:pt x="467" y="172"/>
                    </a:lnTo>
                    <a:lnTo>
                      <a:pt x="478" y="194"/>
                    </a:lnTo>
                    <a:lnTo>
                      <a:pt x="569" y="288"/>
                    </a:lnTo>
                    <a:lnTo>
                      <a:pt x="573" y="295"/>
                    </a:lnTo>
                    <a:lnTo>
                      <a:pt x="574" y="302"/>
                    </a:lnTo>
                    <a:lnTo>
                      <a:pt x="573" y="308"/>
                    </a:lnTo>
                    <a:lnTo>
                      <a:pt x="569" y="312"/>
                    </a:lnTo>
                    <a:lnTo>
                      <a:pt x="564" y="313"/>
                    </a:lnTo>
                    <a:lnTo>
                      <a:pt x="564" y="320"/>
                    </a:lnTo>
                    <a:lnTo>
                      <a:pt x="561" y="327"/>
                    </a:lnTo>
                    <a:lnTo>
                      <a:pt x="558" y="330"/>
                    </a:lnTo>
                    <a:lnTo>
                      <a:pt x="561" y="334"/>
                    </a:lnTo>
                    <a:lnTo>
                      <a:pt x="564" y="340"/>
                    </a:lnTo>
                    <a:lnTo>
                      <a:pt x="570" y="348"/>
                    </a:lnTo>
                    <a:lnTo>
                      <a:pt x="580" y="354"/>
                    </a:lnTo>
                    <a:lnTo>
                      <a:pt x="587" y="360"/>
                    </a:lnTo>
                    <a:lnTo>
                      <a:pt x="596" y="366"/>
                    </a:lnTo>
                    <a:lnTo>
                      <a:pt x="603" y="371"/>
                    </a:lnTo>
                    <a:lnTo>
                      <a:pt x="625" y="365"/>
                    </a:lnTo>
                    <a:lnTo>
                      <a:pt x="637" y="363"/>
                    </a:lnTo>
                    <a:lnTo>
                      <a:pt x="648" y="360"/>
                    </a:lnTo>
                    <a:lnTo>
                      <a:pt x="657" y="356"/>
                    </a:lnTo>
                    <a:lnTo>
                      <a:pt x="689" y="334"/>
                    </a:lnTo>
                    <a:lnTo>
                      <a:pt x="731" y="288"/>
                    </a:lnTo>
                    <a:lnTo>
                      <a:pt x="736" y="289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6" y="250"/>
                    </a:lnTo>
                    <a:lnTo>
                      <a:pt x="772" y="242"/>
                    </a:lnTo>
                    <a:lnTo>
                      <a:pt x="865" y="240"/>
                    </a:lnTo>
                    <a:lnTo>
                      <a:pt x="803" y="276"/>
                    </a:lnTo>
                    <a:lnTo>
                      <a:pt x="792" y="288"/>
                    </a:lnTo>
                    <a:lnTo>
                      <a:pt x="773" y="319"/>
                    </a:lnTo>
                    <a:lnTo>
                      <a:pt x="776" y="327"/>
                    </a:lnTo>
                    <a:lnTo>
                      <a:pt x="729" y="407"/>
                    </a:lnTo>
                    <a:lnTo>
                      <a:pt x="714" y="449"/>
                    </a:lnTo>
                    <a:lnTo>
                      <a:pt x="695" y="464"/>
                    </a:lnTo>
                    <a:lnTo>
                      <a:pt x="678" y="475"/>
                    </a:lnTo>
                    <a:lnTo>
                      <a:pt x="653" y="486"/>
                    </a:lnTo>
                    <a:lnTo>
                      <a:pt x="638" y="489"/>
                    </a:lnTo>
                    <a:lnTo>
                      <a:pt x="624" y="4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810400" y="3367080"/>
                <a:ext cx="286200" cy="79560"/>
              </a:xfrm>
              <a:custGeom>
                <a:avLst/>
                <a:gdLst/>
                <a:ahLst/>
                <a:rect l="l" t="t" r="r" b="b"/>
                <a:pathLst>
                  <a:path w="679" h="194">
                    <a:moveTo>
                      <a:pt x="479" y="93"/>
                    </a:moveTo>
                    <a:lnTo>
                      <a:pt x="469" y="89"/>
                    </a:lnTo>
                    <a:lnTo>
                      <a:pt x="399" y="92"/>
                    </a:lnTo>
                    <a:lnTo>
                      <a:pt x="395" y="97"/>
                    </a:lnTo>
                    <a:lnTo>
                      <a:pt x="471" y="99"/>
                    </a:lnTo>
                    <a:lnTo>
                      <a:pt x="466" y="102"/>
                    </a:lnTo>
                    <a:lnTo>
                      <a:pt x="387" y="102"/>
                    </a:lnTo>
                    <a:lnTo>
                      <a:pt x="294" y="104"/>
                    </a:lnTo>
                    <a:lnTo>
                      <a:pt x="271" y="104"/>
                    </a:lnTo>
                    <a:lnTo>
                      <a:pt x="193" y="135"/>
                    </a:lnTo>
                    <a:lnTo>
                      <a:pt x="193" y="182"/>
                    </a:lnTo>
                    <a:lnTo>
                      <a:pt x="140" y="194"/>
                    </a:lnTo>
                    <a:lnTo>
                      <a:pt x="140" y="150"/>
                    </a:lnTo>
                    <a:lnTo>
                      <a:pt x="136" y="139"/>
                    </a:lnTo>
                    <a:lnTo>
                      <a:pt x="136" y="128"/>
                    </a:lnTo>
                    <a:lnTo>
                      <a:pt x="135" y="124"/>
                    </a:lnTo>
                    <a:lnTo>
                      <a:pt x="131" y="121"/>
                    </a:lnTo>
                    <a:lnTo>
                      <a:pt x="129" y="120"/>
                    </a:lnTo>
                    <a:lnTo>
                      <a:pt x="126" y="120"/>
                    </a:lnTo>
                    <a:lnTo>
                      <a:pt x="107" y="119"/>
                    </a:lnTo>
                    <a:lnTo>
                      <a:pt x="114" y="129"/>
                    </a:lnTo>
                    <a:lnTo>
                      <a:pt x="115" y="134"/>
                    </a:lnTo>
                    <a:lnTo>
                      <a:pt x="115" y="139"/>
                    </a:lnTo>
                    <a:lnTo>
                      <a:pt x="113" y="141"/>
                    </a:lnTo>
                    <a:lnTo>
                      <a:pt x="108" y="144"/>
                    </a:lnTo>
                    <a:lnTo>
                      <a:pt x="130" y="144"/>
                    </a:lnTo>
                    <a:lnTo>
                      <a:pt x="134" y="144"/>
                    </a:lnTo>
                    <a:lnTo>
                      <a:pt x="135" y="141"/>
                    </a:lnTo>
                    <a:lnTo>
                      <a:pt x="136" y="139"/>
                    </a:lnTo>
                    <a:lnTo>
                      <a:pt x="140" y="150"/>
                    </a:lnTo>
                    <a:lnTo>
                      <a:pt x="90" y="150"/>
                    </a:lnTo>
                    <a:lnTo>
                      <a:pt x="0" y="56"/>
                    </a:lnTo>
                    <a:lnTo>
                      <a:pt x="35" y="56"/>
                    </a:lnTo>
                    <a:lnTo>
                      <a:pt x="35" y="43"/>
                    </a:lnTo>
                    <a:lnTo>
                      <a:pt x="47" y="43"/>
                    </a:lnTo>
                    <a:lnTo>
                      <a:pt x="53" y="20"/>
                    </a:lnTo>
                    <a:lnTo>
                      <a:pt x="57" y="20"/>
                    </a:lnTo>
                    <a:lnTo>
                      <a:pt x="59" y="10"/>
                    </a:lnTo>
                    <a:lnTo>
                      <a:pt x="64" y="5"/>
                    </a:lnTo>
                    <a:lnTo>
                      <a:pt x="73" y="4"/>
                    </a:lnTo>
                    <a:lnTo>
                      <a:pt x="196" y="15"/>
                    </a:lnTo>
                    <a:lnTo>
                      <a:pt x="202" y="17"/>
                    </a:lnTo>
                    <a:lnTo>
                      <a:pt x="207" y="21"/>
                    </a:lnTo>
                    <a:lnTo>
                      <a:pt x="209" y="26"/>
                    </a:lnTo>
                    <a:lnTo>
                      <a:pt x="209" y="32"/>
                    </a:lnTo>
                    <a:lnTo>
                      <a:pt x="208" y="38"/>
                    </a:lnTo>
                    <a:lnTo>
                      <a:pt x="207" y="41"/>
                    </a:lnTo>
                    <a:lnTo>
                      <a:pt x="199" y="41"/>
                    </a:lnTo>
                    <a:lnTo>
                      <a:pt x="201" y="37"/>
                    </a:lnTo>
                    <a:lnTo>
                      <a:pt x="203" y="31"/>
                    </a:lnTo>
                    <a:lnTo>
                      <a:pt x="203" y="26"/>
                    </a:lnTo>
                    <a:lnTo>
                      <a:pt x="199" y="22"/>
                    </a:lnTo>
                    <a:lnTo>
                      <a:pt x="193" y="20"/>
                    </a:lnTo>
                    <a:lnTo>
                      <a:pt x="100" y="20"/>
                    </a:lnTo>
                    <a:lnTo>
                      <a:pt x="97" y="25"/>
                    </a:lnTo>
                    <a:lnTo>
                      <a:pt x="94" y="30"/>
                    </a:lnTo>
                    <a:lnTo>
                      <a:pt x="93" y="36"/>
                    </a:lnTo>
                    <a:lnTo>
                      <a:pt x="93" y="40"/>
                    </a:lnTo>
                    <a:lnTo>
                      <a:pt x="94" y="42"/>
                    </a:lnTo>
                    <a:lnTo>
                      <a:pt x="98" y="43"/>
                    </a:lnTo>
                    <a:lnTo>
                      <a:pt x="193" y="43"/>
                    </a:lnTo>
                    <a:lnTo>
                      <a:pt x="199" y="41"/>
                    </a:lnTo>
                    <a:lnTo>
                      <a:pt x="207" y="41"/>
                    </a:lnTo>
                    <a:lnTo>
                      <a:pt x="483" y="41"/>
                    </a:lnTo>
                    <a:lnTo>
                      <a:pt x="490" y="42"/>
                    </a:lnTo>
                    <a:lnTo>
                      <a:pt x="491" y="43"/>
                    </a:lnTo>
                    <a:lnTo>
                      <a:pt x="521" y="43"/>
                    </a:lnTo>
                    <a:lnTo>
                      <a:pt x="520" y="30"/>
                    </a:lnTo>
                    <a:lnTo>
                      <a:pt x="516" y="30"/>
                    </a:lnTo>
                    <a:lnTo>
                      <a:pt x="516" y="16"/>
                    </a:lnTo>
                    <a:lnTo>
                      <a:pt x="507" y="16"/>
                    </a:lnTo>
                    <a:lnTo>
                      <a:pt x="488" y="40"/>
                    </a:lnTo>
                    <a:lnTo>
                      <a:pt x="488" y="42"/>
                    </a:lnTo>
                    <a:lnTo>
                      <a:pt x="490" y="42"/>
                    </a:lnTo>
                    <a:lnTo>
                      <a:pt x="483" y="41"/>
                    </a:lnTo>
                    <a:lnTo>
                      <a:pt x="511" y="3"/>
                    </a:lnTo>
                    <a:lnTo>
                      <a:pt x="516" y="0"/>
                    </a:lnTo>
                    <a:lnTo>
                      <a:pt x="521" y="3"/>
                    </a:lnTo>
                    <a:lnTo>
                      <a:pt x="526" y="6"/>
                    </a:lnTo>
                    <a:lnTo>
                      <a:pt x="528" y="52"/>
                    </a:lnTo>
                    <a:lnTo>
                      <a:pt x="603" y="52"/>
                    </a:lnTo>
                    <a:lnTo>
                      <a:pt x="610" y="48"/>
                    </a:lnTo>
                    <a:lnTo>
                      <a:pt x="645" y="48"/>
                    </a:lnTo>
                    <a:lnTo>
                      <a:pt x="649" y="50"/>
                    </a:lnTo>
                    <a:lnTo>
                      <a:pt x="653" y="53"/>
                    </a:lnTo>
                    <a:lnTo>
                      <a:pt x="658" y="56"/>
                    </a:lnTo>
                    <a:lnTo>
                      <a:pt x="662" y="59"/>
                    </a:lnTo>
                    <a:lnTo>
                      <a:pt x="666" y="62"/>
                    </a:lnTo>
                    <a:lnTo>
                      <a:pt x="670" y="64"/>
                    </a:lnTo>
                    <a:lnTo>
                      <a:pt x="674" y="67"/>
                    </a:lnTo>
                    <a:lnTo>
                      <a:pt x="679" y="70"/>
                    </a:lnTo>
                    <a:lnTo>
                      <a:pt x="667" y="70"/>
                    </a:lnTo>
                    <a:lnTo>
                      <a:pt x="661" y="66"/>
                    </a:lnTo>
                    <a:lnTo>
                      <a:pt x="528" y="66"/>
                    </a:lnTo>
                    <a:lnTo>
                      <a:pt x="528" y="72"/>
                    </a:lnTo>
                    <a:lnTo>
                      <a:pt x="516" y="72"/>
                    </a:lnTo>
                    <a:lnTo>
                      <a:pt x="516" y="70"/>
                    </a:lnTo>
                    <a:lnTo>
                      <a:pt x="493" y="70"/>
                    </a:lnTo>
                    <a:lnTo>
                      <a:pt x="493" y="82"/>
                    </a:lnTo>
                    <a:lnTo>
                      <a:pt x="486" y="82"/>
                    </a:lnTo>
                    <a:lnTo>
                      <a:pt x="479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332680" y="3766680"/>
                <a:ext cx="363960" cy="423000"/>
              </a:xfrm>
              <a:custGeom>
                <a:avLst/>
                <a:gdLst/>
                <a:ahLst/>
                <a:rect l="l" t="t" r="r" b="b"/>
                <a:pathLst>
                  <a:path w="865" h="1009">
                    <a:moveTo>
                      <a:pt x="457" y="496"/>
                    </a:moveTo>
                    <a:lnTo>
                      <a:pt x="474" y="483"/>
                    </a:lnTo>
                    <a:lnTo>
                      <a:pt x="488" y="475"/>
                    </a:lnTo>
                    <a:lnTo>
                      <a:pt x="502" y="466"/>
                    </a:lnTo>
                    <a:lnTo>
                      <a:pt x="518" y="460"/>
                    </a:lnTo>
                    <a:lnTo>
                      <a:pt x="489" y="442"/>
                    </a:lnTo>
                    <a:lnTo>
                      <a:pt x="476" y="433"/>
                    </a:lnTo>
                    <a:lnTo>
                      <a:pt x="461" y="422"/>
                    </a:lnTo>
                    <a:lnTo>
                      <a:pt x="462" y="440"/>
                    </a:lnTo>
                    <a:lnTo>
                      <a:pt x="460" y="458"/>
                    </a:lnTo>
                    <a:lnTo>
                      <a:pt x="457" y="496"/>
                    </a:lnTo>
                    <a:close/>
                    <a:moveTo>
                      <a:pt x="624" y="490"/>
                    </a:moveTo>
                    <a:lnTo>
                      <a:pt x="626" y="530"/>
                    </a:lnTo>
                    <a:lnTo>
                      <a:pt x="626" y="575"/>
                    </a:lnTo>
                    <a:lnTo>
                      <a:pt x="621" y="630"/>
                    </a:lnTo>
                    <a:lnTo>
                      <a:pt x="611" y="682"/>
                    </a:lnTo>
                    <a:lnTo>
                      <a:pt x="600" y="732"/>
                    </a:lnTo>
                    <a:lnTo>
                      <a:pt x="589" y="768"/>
                    </a:lnTo>
                    <a:lnTo>
                      <a:pt x="580" y="775"/>
                    </a:lnTo>
                    <a:lnTo>
                      <a:pt x="569" y="782"/>
                    </a:lnTo>
                    <a:lnTo>
                      <a:pt x="562" y="819"/>
                    </a:lnTo>
                    <a:lnTo>
                      <a:pt x="562" y="826"/>
                    </a:lnTo>
                    <a:lnTo>
                      <a:pt x="565" y="833"/>
                    </a:lnTo>
                    <a:lnTo>
                      <a:pt x="565" y="839"/>
                    </a:lnTo>
                    <a:lnTo>
                      <a:pt x="560" y="848"/>
                    </a:lnTo>
                    <a:lnTo>
                      <a:pt x="568" y="854"/>
                    </a:lnTo>
                    <a:lnTo>
                      <a:pt x="573" y="860"/>
                    </a:lnTo>
                    <a:lnTo>
                      <a:pt x="577" y="871"/>
                    </a:lnTo>
                    <a:lnTo>
                      <a:pt x="585" y="874"/>
                    </a:lnTo>
                    <a:lnTo>
                      <a:pt x="589" y="877"/>
                    </a:lnTo>
                    <a:lnTo>
                      <a:pt x="593" y="884"/>
                    </a:lnTo>
                    <a:lnTo>
                      <a:pt x="597" y="891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7" y="916"/>
                    </a:lnTo>
                    <a:lnTo>
                      <a:pt x="644" y="921"/>
                    </a:lnTo>
                    <a:lnTo>
                      <a:pt x="647" y="927"/>
                    </a:lnTo>
                    <a:lnTo>
                      <a:pt x="647" y="940"/>
                    </a:lnTo>
                    <a:lnTo>
                      <a:pt x="635" y="942"/>
                    </a:lnTo>
                    <a:lnTo>
                      <a:pt x="620" y="945"/>
                    </a:lnTo>
                    <a:lnTo>
                      <a:pt x="594" y="943"/>
                    </a:lnTo>
                    <a:lnTo>
                      <a:pt x="572" y="940"/>
                    </a:lnTo>
                    <a:lnTo>
                      <a:pt x="547" y="932"/>
                    </a:lnTo>
                    <a:lnTo>
                      <a:pt x="528" y="922"/>
                    </a:lnTo>
                    <a:lnTo>
                      <a:pt x="514" y="914"/>
                    </a:lnTo>
                    <a:lnTo>
                      <a:pt x="500" y="912"/>
                    </a:lnTo>
                    <a:lnTo>
                      <a:pt x="488" y="911"/>
                    </a:lnTo>
                    <a:lnTo>
                      <a:pt x="476" y="906"/>
                    </a:lnTo>
                    <a:lnTo>
                      <a:pt x="465" y="902"/>
                    </a:lnTo>
                    <a:lnTo>
                      <a:pt x="463" y="890"/>
                    </a:lnTo>
                    <a:lnTo>
                      <a:pt x="464" y="879"/>
                    </a:lnTo>
                    <a:lnTo>
                      <a:pt x="465" y="869"/>
                    </a:lnTo>
                    <a:lnTo>
                      <a:pt x="468" y="859"/>
                    </a:lnTo>
                    <a:lnTo>
                      <a:pt x="472" y="850"/>
                    </a:lnTo>
                    <a:lnTo>
                      <a:pt x="476" y="840"/>
                    </a:lnTo>
                    <a:lnTo>
                      <a:pt x="481" y="833"/>
                    </a:lnTo>
                    <a:lnTo>
                      <a:pt x="481" y="823"/>
                    </a:lnTo>
                    <a:lnTo>
                      <a:pt x="481" y="814"/>
                    </a:lnTo>
                    <a:lnTo>
                      <a:pt x="484" y="808"/>
                    </a:lnTo>
                    <a:lnTo>
                      <a:pt x="488" y="801"/>
                    </a:lnTo>
                    <a:lnTo>
                      <a:pt x="488" y="770"/>
                    </a:lnTo>
                    <a:lnTo>
                      <a:pt x="476" y="765"/>
                    </a:lnTo>
                    <a:lnTo>
                      <a:pt x="477" y="756"/>
                    </a:lnTo>
                    <a:lnTo>
                      <a:pt x="480" y="749"/>
                    </a:lnTo>
                    <a:lnTo>
                      <a:pt x="480" y="738"/>
                    </a:lnTo>
                    <a:lnTo>
                      <a:pt x="477" y="727"/>
                    </a:lnTo>
                    <a:lnTo>
                      <a:pt x="480" y="709"/>
                    </a:lnTo>
                    <a:lnTo>
                      <a:pt x="484" y="686"/>
                    </a:lnTo>
                    <a:lnTo>
                      <a:pt x="491" y="662"/>
                    </a:lnTo>
                    <a:lnTo>
                      <a:pt x="500" y="636"/>
                    </a:lnTo>
                    <a:lnTo>
                      <a:pt x="484" y="654"/>
                    </a:lnTo>
                    <a:lnTo>
                      <a:pt x="467" y="673"/>
                    </a:lnTo>
                    <a:lnTo>
                      <a:pt x="453" y="688"/>
                    </a:lnTo>
                    <a:lnTo>
                      <a:pt x="435" y="704"/>
                    </a:lnTo>
                    <a:lnTo>
                      <a:pt x="420" y="715"/>
                    </a:lnTo>
                    <a:lnTo>
                      <a:pt x="403" y="730"/>
                    </a:lnTo>
                    <a:lnTo>
                      <a:pt x="386" y="743"/>
                    </a:lnTo>
                    <a:lnTo>
                      <a:pt x="365" y="755"/>
                    </a:lnTo>
                    <a:lnTo>
                      <a:pt x="345" y="767"/>
                    </a:lnTo>
                    <a:lnTo>
                      <a:pt x="326" y="774"/>
                    </a:lnTo>
                    <a:lnTo>
                      <a:pt x="308" y="781"/>
                    </a:lnTo>
                    <a:lnTo>
                      <a:pt x="290" y="787"/>
                    </a:lnTo>
                    <a:lnTo>
                      <a:pt x="275" y="849"/>
                    </a:lnTo>
                    <a:lnTo>
                      <a:pt x="274" y="865"/>
                    </a:lnTo>
                    <a:lnTo>
                      <a:pt x="271" y="884"/>
                    </a:lnTo>
                    <a:lnTo>
                      <a:pt x="268" y="898"/>
                    </a:lnTo>
                    <a:lnTo>
                      <a:pt x="264" y="914"/>
                    </a:lnTo>
                    <a:lnTo>
                      <a:pt x="259" y="927"/>
                    </a:lnTo>
                    <a:lnTo>
                      <a:pt x="251" y="943"/>
                    </a:lnTo>
                    <a:lnTo>
                      <a:pt x="243" y="956"/>
                    </a:lnTo>
                    <a:lnTo>
                      <a:pt x="234" y="965"/>
                    </a:lnTo>
                    <a:lnTo>
                      <a:pt x="232" y="976"/>
                    </a:lnTo>
                    <a:lnTo>
                      <a:pt x="224" y="987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6" y="1009"/>
                    </a:lnTo>
                    <a:lnTo>
                      <a:pt x="156" y="1009"/>
                    </a:lnTo>
                    <a:lnTo>
                      <a:pt x="136" y="1005"/>
                    </a:lnTo>
                    <a:lnTo>
                      <a:pt x="123" y="1000"/>
                    </a:lnTo>
                    <a:lnTo>
                      <a:pt x="110" y="991"/>
                    </a:lnTo>
                    <a:lnTo>
                      <a:pt x="103" y="983"/>
                    </a:lnTo>
                    <a:lnTo>
                      <a:pt x="93" y="981"/>
                    </a:lnTo>
                    <a:lnTo>
                      <a:pt x="83" y="963"/>
                    </a:lnTo>
                    <a:lnTo>
                      <a:pt x="77" y="943"/>
                    </a:lnTo>
                    <a:lnTo>
                      <a:pt x="71" y="926"/>
                    </a:lnTo>
                    <a:lnTo>
                      <a:pt x="67" y="905"/>
                    </a:lnTo>
                    <a:lnTo>
                      <a:pt x="67" y="885"/>
                    </a:lnTo>
                    <a:lnTo>
                      <a:pt x="64" y="852"/>
                    </a:lnTo>
                    <a:lnTo>
                      <a:pt x="75" y="832"/>
                    </a:lnTo>
                    <a:lnTo>
                      <a:pt x="79" y="807"/>
                    </a:lnTo>
                    <a:lnTo>
                      <a:pt x="87" y="796"/>
                    </a:lnTo>
                    <a:lnTo>
                      <a:pt x="84" y="781"/>
                    </a:lnTo>
                    <a:lnTo>
                      <a:pt x="82" y="768"/>
                    </a:lnTo>
                    <a:lnTo>
                      <a:pt x="59" y="751"/>
                    </a:lnTo>
                    <a:lnTo>
                      <a:pt x="69" y="736"/>
                    </a:lnTo>
                    <a:lnTo>
                      <a:pt x="82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9" y="699"/>
                    </a:lnTo>
                    <a:lnTo>
                      <a:pt x="56" y="693"/>
                    </a:lnTo>
                    <a:lnTo>
                      <a:pt x="54" y="688"/>
                    </a:lnTo>
                    <a:lnTo>
                      <a:pt x="47" y="689"/>
                    </a:lnTo>
                    <a:lnTo>
                      <a:pt x="39" y="688"/>
                    </a:lnTo>
                    <a:lnTo>
                      <a:pt x="33" y="684"/>
                    </a:lnTo>
                    <a:lnTo>
                      <a:pt x="26" y="678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4" y="652"/>
                    </a:lnTo>
                    <a:lnTo>
                      <a:pt x="7" y="650"/>
                    </a:lnTo>
                    <a:lnTo>
                      <a:pt x="1" y="597"/>
                    </a:lnTo>
                    <a:lnTo>
                      <a:pt x="6" y="595"/>
                    </a:lnTo>
                    <a:lnTo>
                      <a:pt x="6" y="573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8"/>
                    </a:lnTo>
                    <a:lnTo>
                      <a:pt x="6" y="542"/>
                    </a:lnTo>
                    <a:lnTo>
                      <a:pt x="11" y="537"/>
                    </a:lnTo>
                    <a:lnTo>
                      <a:pt x="14" y="527"/>
                    </a:lnTo>
                    <a:lnTo>
                      <a:pt x="15" y="522"/>
                    </a:lnTo>
                    <a:lnTo>
                      <a:pt x="17" y="517"/>
                    </a:lnTo>
                    <a:lnTo>
                      <a:pt x="32" y="512"/>
                    </a:lnTo>
                    <a:lnTo>
                      <a:pt x="26" y="502"/>
                    </a:lnTo>
                    <a:lnTo>
                      <a:pt x="31" y="485"/>
                    </a:lnTo>
                    <a:lnTo>
                      <a:pt x="32" y="481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6" y="486"/>
                    </a:lnTo>
                    <a:lnTo>
                      <a:pt x="67" y="494"/>
                    </a:lnTo>
                    <a:lnTo>
                      <a:pt x="67" y="502"/>
                    </a:lnTo>
                    <a:lnTo>
                      <a:pt x="66" y="507"/>
                    </a:lnTo>
                    <a:lnTo>
                      <a:pt x="63" y="510"/>
                    </a:lnTo>
                    <a:lnTo>
                      <a:pt x="67" y="512"/>
                    </a:lnTo>
                    <a:lnTo>
                      <a:pt x="72" y="512"/>
                    </a:lnTo>
                    <a:lnTo>
                      <a:pt x="77" y="510"/>
                    </a:lnTo>
                    <a:lnTo>
                      <a:pt x="79" y="506"/>
                    </a:lnTo>
                    <a:lnTo>
                      <a:pt x="78" y="501"/>
                    </a:lnTo>
                    <a:lnTo>
                      <a:pt x="67" y="502"/>
                    </a:lnTo>
                    <a:lnTo>
                      <a:pt x="67" y="494"/>
                    </a:lnTo>
                    <a:lnTo>
                      <a:pt x="80" y="492"/>
                    </a:lnTo>
                    <a:lnTo>
                      <a:pt x="84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6"/>
                    </a:lnTo>
                    <a:lnTo>
                      <a:pt x="109" y="366"/>
                    </a:lnTo>
                    <a:lnTo>
                      <a:pt x="114" y="350"/>
                    </a:lnTo>
                    <a:lnTo>
                      <a:pt x="120" y="337"/>
                    </a:lnTo>
                    <a:lnTo>
                      <a:pt x="127" y="326"/>
                    </a:lnTo>
                    <a:lnTo>
                      <a:pt x="121" y="303"/>
                    </a:lnTo>
                    <a:lnTo>
                      <a:pt x="119" y="288"/>
                    </a:lnTo>
                    <a:lnTo>
                      <a:pt x="120" y="273"/>
                    </a:lnTo>
                    <a:lnTo>
                      <a:pt x="125" y="256"/>
                    </a:lnTo>
                    <a:lnTo>
                      <a:pt x="136" y="234"/>
                    </a:lnTo>
                    <a:lnTo>
                      <a:pt x="149" y="217"/>
                    </a:lnTo>
                    <a:lnTo>
                      <a:pt x="166" y="201"/>
                    </a:lnTo>
                    <a:lnTo>
                      <a:pt x="182" y="191"/>
                    </a:lnTo>
                    <a:lnTo>
                      <a:pt x="193" y="180"/>
                    </a:lnTo>
                    <a:lnTo>
                      <a:pt x="203" y="174"/>
                    </a:lnTo>
                    <a:lnTo>
                      <a:pt x="214" y="171"/>
                    </a:lnTo>
                    <a:lnTo>
                      <a:pt x="224" y="171"/>
                    </a:lnTo>
                    <a:lnTo>
                      <a:pt x="237" y="174"/>
                    </a:lnTo>
                    <a:lnTo>
                      <a:pt x="263" y="169"/>
                    </a:lnTo>
                    <a:lnTo>
                      <a:pt x="265" y="159"/>
                    </a:lnTo>
                    <a:lnTo>
                      <a:pt x="262" y="144"/>
                    </a:lnTo>
                    <a:lnTo>
                      <a:pt x="264" y="143"/>
                    </a:lnTo>
                    <a:lnTo>
                      <a:pt x="262" y="125"/>
                    </a:lnTo>
                    <a:lnTo>
                      <a:pt x="260" y="108"/>
                    </a:lnTo>
                    <a:lnTo>
                      <a:pt x="260" y="90"/>
                    </a:lnTo>
                    <a:lnTo>
                      <a:pt x="264" y="71"/>
                    </a:lnTo>
                    <a:lnTo>
                      <a:pt x="271" y="51"/>
                    </a:lnTo>
                    <a:lnTo>
                      <a:pt x="281" y="36"/>
                    </a:lnTo>
                    <a:lnTo>
                      <a:pt x="290" y="28"/>
                    </a:lnTo>
                    <a:lnTo>
                      <a:pt x="316" y="14"/>
                    </a:lnTo>
                    <a:lnTo>
                      <a:pt x="333" y="8"/>
                    </a:lnTo>
                    <a:lnTo>
                      <a:pt x="352" y="3"/>
                    </a:lnTo>
                    <a:lnTo>
                      <a:pt x="372" y="0"/>
                    </a:lnTo>
                    <a:lnTo>
                      <a:pt x="387" y="0"/>
                    </a:lnTo>
                    <a:lnTo>
                      <a:pt x="403" y="3"/>
                    </a:lnTo>
                    <a:lnTo>
                      <a:pt x="414" y="6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5"/>
                    </a:lnTo>
                    <a:lnTo>
                      <a:pt x="457" y="62"/>
                    </a:lnTo>
                    <a:lnTo>
                      <a:pt x="472" y="93"/>
                    </a:lnTo>
                    <a:lnTo>
                      <a:pt x="478" y="102"/>
                    </a:lnTo>
                    <a:lnTo>
                      <a:pt x="481" y="108"/>
                    </a:lnTo>
                    <a:lnTo>
                      <a:pt x="480" y="113"/>
                    </a:lnTo>
                    <a:lnTo>
                      <a:pt x="473" y="118"/>
                    </a:lnTo>
                    <a:lnTo>
                      <a:pt x="454" y="125"/>
                    </a:lnTo>
                    <a:lnTo>
                      <a:pt x="456" y="143"/>
                    </a:lnTo>
                    <a:lnTo>
                      <a:pt x="457" y="158"/>
                    </a:lnTo>
                    <a:lnTo>
                      <a:pt x="457" y="170"/>
                    </a:lnTo>
                    <a:lnTo>
                      <a:pt x="467" y="171"/>
                    </a:lnTo>
                    <a:lnTo>
                      <a:pt x="478" y="194"/>
                    </a:lnTo>
                    <a:lnTo>
                      <a:pt x="568" y="289"/>
                    </a:lnTo>
                    <a:lnTo>
                      <a:pt x="572" y="295"/>
                    </a:lnTo>
                    <a:lnTo>
                      <a:pt x="573" y="301"/>
                    </a:lnTo>
                    <a:lnTo>
                      <a:pt x="572" y="309"/>
                    </a:lnTo>
                    <a:lnTo>
                      <a:pt x="568" y="312"/>
                    </a:lnTo>
                    <a:lnTo>
                      <a:pt x="564" y="314"/>
                    </a:lnTo>
                    <a:lnTo>
                      <a:pt x="564" y="320"/>
                    </a:lnTo>
                    <a:lnTo>
                      <a:pt x="561" y="326"/>
                    </a:lnTo>
                    <a:lnTo>
                      <a:pt x="558" y="331"/>
                    </a:lnTo>
                    <a:lnTo>
                      <a:pt x="561" y="335"/>
                    </a:lnTo>
                    <a:lnTo>
                      <a:pt x="564" y="340"/>
                    </a:lnTo>
                    <a:lnTo>
                      <a:pt x="569" y="347"/>
                    </a:lnTo>
                    <a:lnTo>
                      <a:pt x="580" y="355"/>
                    </a:lnTo>
                    <a:lnTo>
                      <a:pt x="588" y="360"/>
                    </a:lnTo>
                    <a:lnTo>
                      <a:pt x="595" y="366"/>
                    </a:lnTo>
                    <a:lnTo>
                      <a:pt x="604" y="372"/>
                    </a:lnTo>
                    <a:lnTo>
                      <a:pt x="625" y="365"/>
                    </a:lnTo>
                    <a:lnTo>
                      <a:pt x="636" y="362"/>
                    </a:lnTo>
                    <a:lnTo>
                      <a:pt x="648" y="360"/>
                    </a:lnTo>
                    <a:lnTo>
                      <a:pt x="656" y="357"/>
                    </a:lnTo>
                    <a:lnTo>
                      <a:pt x="689" y="335"/>
                    </a:lnTo>
                    <a:lnTo>
                      <a:pt x="731" y="289"/>
                    </a:lnTo>
                    <a:lnTo>
                      <a:pt x="736" y="290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5" y="251"/>
                    </a:lnTo>
                    <a:lnTo>
                      <a:pt x="772" y="242"/>
                    </a:lnTo>
                    <a:lnTo>
                      <a:pt x="865" y="240"/>
                    </a:lnTo>
                    <a:lnTo>
                      <a:pt x="803" y="275"/>
                    </a:lnTo>
                    <a:lnTo>
                      <a:pt x="791" y="289"/>
                    </a:lnTo>
                    <a:lnTo>
                      <a:pt x="773" y="319"/>
                    </a:lnTo>
                    <a:lnTo>
                      <a:pt x="776" y="326"/>
                    </a:lnTo>
                    <a:lnTo>
                      <a:pt x="729" y="407"/>
                    </a:lnTo>
                    <a:lnTo>
                      <a:pt x="714" y="449"/>
                    </a:lnTo>
                    <a:lnTo>
                      <a:pt x="696" y="464"/>
                    </a:lnTo>
                    <a:lnTo>
                      <a:pt x="677" y="476"/>
                    </a:lnTo>
                    <a:lnTo>
                      <a:pt x="653" y="486"/>
                    </a:lnTo>
                    <a:lnTo>
                      <a:pt x="637" y="489"/>
                    </a:lnTo>
                    <a:lnTo>
                      <a:pt x="624" y="490"/>
                    </a:lnTo>
                    <a:close/>
                    <a:moveTo>
                      <a:pt x="90" y="512"/>
                    </a:moveTo>
                    <a:lnTo>
                      <a:pt x="84" y="519"/>
                    </a:lnTo>
                    <a:lnTo>
                      <a:pt x="87" y="523"/>
                    </a:lnTo>
                    <a:lnTo>
                      <a:pt x="89" y="528"/>
                    </a:lnTo>
                    <a:lnTo>
                      <a:pt x="90" y="523"/>
                    </a:lnTo>
                    <a:lnTo>
                      <a:pt x="92" y="518"/>
                    </a:lnTo>
                    <a:lnTo>
                      <a:pt x="90" y="51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32680" y="3766680"/>
                <a:ext cx="363960" cy="423000"/>
              </a:xfrm>
              <a:custGeom>
                <a:avLst/>
                <a:gdLst/>
                <a:ahLst/>
                <a:rect l="l" t="t" r="r" b="b"/>
                <a:pathLst>
                  <a:path w="865" h="1009">
                    <a:moveTo>
                      <a:pt x="624" y="490"/>
                    </a:moveTo>
                    <a:lnTo>
                      <a:pt x="626" y="530"/>
                    </a:lnTo>
                    <a:lnTo>
                      <a:pt x="626" y="575"/>
                    </a:lnTo>
                    <a:lnTo>
                      <a:pt x="621" y="630"/>
                    </a:lnTo>
                    <a:lnTo>
                      <a:pt x="611" y="682"/>
                    </a:lnTo>
                    <a:lnTo>
                      <a:pt x="600" y="732"/>
                    </a:lnTo>
                    <a:lnTo>
                      <a:pt x="589" y="768"/>
                    </a:lnTo>
                    <a:lnTo>
                      <a:pt x="580" y="775"/>
                    </a:lnTo>
                    <a:lnTo>
                      <a:pt x="569" y="782"/>
                    </a:lnTo>
                    <a:lnTo>
                      <a:pt x="562" y="819"/>
                    </a:lnTo>
                    <a:lnTo>
                      <a:pt x="562" y="826"/>
                    </a:lnTo>
                    <a:lnTo>
                      <a:pt x="565" y="833"/>
                    </a:lnTo>
                    <a:lnTo>
                      <a:pt x="565" y="839"/>
                    </a:lnTo>
                    <a:lnTo>
                      <a:pt x="560" y="848"/>
                    </a:lnTo>
                    <a:lnTo>
                      <a:pt x="568" y="854"/>
                    </a:lnTo>
                    <a:lnTo>
                      <a:pt x="573" y="860"/>
                    </a:lnTo>
                    <a:lnTo>
                      <a:pt x="577" y="871"/>
                    </a:lnTo>
                    <a:lnTo>
                      <a:pt x="585" y="874"/>
                    </a:lnTo>
                    <a:lnTo>
                      <a:pt x="589" y="877"/>
                    </a:lnTo>
                    <a:lnTo>
                      <a:pt x="593" y="884"/>
                    </a:lnTo>
                    <a:lnTo>
                      <a:pt x="597" y="891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7" y="916"/>
                    </a:lnTo>
                    <a:lnTo>
                      <a:pt x="644" y="921"/>
                    </a:lnTo>
                    <a:lnTo>
                      <a:pt x="647" y="927"/>
                    </a:lnTo>
                    <a:lnTo>
                      <a:pt x="647" y="940"/>
                    </a:lnTo>
                    <a:lnTo>
                      <a:pt x="635" y="942"/>
                    </a:lnTo>
                    <a:lnTo>
                      <a:pt x="620" y="945"/>
                    </a:lnTo>
                    <a:lnTo>
                      <a:pt x="594" y="943"/>
                    </a:lnTo>
                    <a:lnTo>
                      <a:pt x="572" y="940"/>
                    </a:lnTo>
                    <a:lnTo>
                      <a:pt x="547" y="932"/>
                    </a:lnTo>
                    <a:lnTo>
                      <a:pt x="528" y="922"/>
                    </a:lnTo>
                    <a:lnTo>
                      <a:pt x="514" y="914"/>
                    </a:lnTo>
                    <a:lnTo>
                      <a:pt x="500" y="912"/>
                    </a:lnTo>
                    <a:lnTo>
                      <a:pt x="488" y="911"/>
                    </a:lnTo>
                    <a:lnTo>
                      <a:pt x="476" y="906"/>
                    </a:lnTo>
                    <a:lnTo>
                      <a:pt x="465" y="902"/>
                    </a:lnTo>
                    <a:lnTo>
                      <a:pt x="463" y="890"/>
                    </a:lnTo>
                    <a:lnTo>
                      <a:pt x="464" y="879"/>
                    </a:lnTo>
                    <a:lnTo>
                      <a:pt x="465" y="869"/>
                    </a:lnTo>
                    <a:lnTo>
                      <a:pt x="468" y="859"/>
                    </a:lnTo>
                    <a:lnTo>
                      <a:pt x="472" y="850"/>
                    </a:lnTo>
                    <a:lnTo>
                      <a:pt x="476" y="840"/>
                    </a:lnTo>
                    <a:lnTo>
                      <a:pt x="481" y="833"/>
                    </a:lnTo>
                    <a:lnTo>
                      <a:pt x="481" y="823"/>
                    </a:lnTo>
                    <a:lnTo>
                      <a:pt x="481" y="814"/>
                    </a:lnTo>
                    <a:lnTo>
                      <a:pt x="484" y="808"/>
                    </a:lnTo>
                    <a:lnTo>
                      <a:pt x="488" y="801"/>
                    </a:lnTo>
                    <a:lnTo>
                      <a:pt x="488" y="770"/>
                    </a:lnTo>
                    <a:lnTo>
                      <a:pt x="476" y="765"/>
                    </a:lnTo>
                    <a:lnTo>
                      <a:pt x="477" y="756"/>
                    </a:lnTo>
                    <a:lnTo>
                      <a:pt x="480" y="749"/>
                    </a:lnTo>
                    <a:lnTo>
                      <a:pt x="480" y="738"/>
                    </a:lnTo>
                    <a:lnTo>
                      <a:pt x="477" y="727"/>
                    </a:lnTo>
                    <a:lnTo>
                      <a:pt x="480" y="709"/>
                    </a:lnTo>
                    <a:lnTo>
                      <a:pt x="484" y="686"/>
                    </a:lnTo>
                    <a:lnTo>
                      <a:pt x="491" y="662"/>
                    </a:lnTo>
                    <a:lnTo>
                      <a:pt x="500" y="636"/>
                    </a:lnTo>
                    <a:lnTo>
                      <a:pt x="484" y="654"/>
                    </a:lnTo>
                    <a:lnTo>
                      <a:pt x="467" y="673"/>
                    </a:lnTo>
                    <a:lnTo>
                      <a:pt x="453" y="688"/>
                    </a:lnTo>
                    <a:lnTo>
                      <a:pt x="435" y="704"/>
                    </a:lnTo>
                    <a:lnTo>
                      <a:pt x="420" y="715"/>
                    </a:lnTo>
                    <a:lnTo>
                      <a:pt x="403" y="730"/>
                    </a:lnTo>
                    <a:lnTo>
                      <a:pt x="386" y="743"/>
                    </a:lnTo>
                    <a:lnTo>
                      <a:pt x="365" y="755"/>
                    </a:lnTo>
                    <a:lnTo>
                      <a:pt x="345" y="767"/>
                    </a:lnTo>
                    <a:lnTo>
                      <a:pt x="326" y="774"/>
                    </a:lnTo>
                    <a:lnTo>
                      <a:pt x="308" y="781"/>
                    </a:lnTo>
                    <a:lnTo>
                      <a:pt x="290" y="787"/>
                    </a:lnTo>
                    <a:lnTo>
                      <a:pt x="275" y="849"/>
                    </a:lnTo>
                    <a:lnTo>
                      <a:pt x="274" y="865"/>
                    </a:lnTo>
                    <a:lnTo>
                      <a:pt x="271" y="884"/>
                    </a:lnTo>
                    <a:lnTo>
                      <a:pt x="268" y="898"/>
                    </a:lnTo>
                    <a:lnTo>
                      <a:pt x="264" y="914"/>
                    </a:lnTo>
                    <a:lnTo>
                      <a:pt x="259" y="927"/>
                    </a:lnTo>
                    <a:lnTo>
                      <a:pt x="251" y="943"/>
                    </a:lnTo>
                    <a:lnTo>
                      <a:pt x="243" y="956"/>
                    </a:lnTo>
                    <a:lnTo>
                      <a:pt x="234" y="965"/>
                    </a:lnTo>
                    <a:lnTo>
                      <a:pt x="232" y="976"/>
                    </a:lnTo>
                    <a:lnTo>
                      <a:pt x="224" y="987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6" y="1009"/>
                    </a:lnTo>
                    <a:lnTo>
                      <a:pt x="156" y="1009"/>
                    </a:lnTo>
                    <a:lnTo>
                      <a:pt x="136" y="1005"/>
                    </a:lnTo>
                    <a:lnTo>
                      <a:pt x="123" y="1000"/>
                    </a:lnTo>
                    <a:lnTo>
                      <a:pt x="110" y="991"/>
                    </a:lnTo>
                    <a:lnTo>
                      <a:pt x="103" y="983"/>
                    </a:lnTo>
                    <a:lnTo>
                      <a:pt x="93" y="981"/>
                    </a:lnTo>
                    <a:lnTo>
                      <a:pt x="83" y="963"/>
                    </a:lnTo>
                    <a:lnTo>
                      <a:pt x="77" y="943"/>
                    </a:lnTo>
                    <a:lnTo>
                      <a:pt x="71" y="926"/>
                    </a:lnTo>
                    <a:lnTo>
                      <a:pt x="67" y="905"/>
                    </a:lnTo>
                    <a:lnTo>
                      <a:pt x="67" y="885"/>
                    </a:lnTo>
                    <a:lnTo>
                      <a:pt x="64" y="852"/>
                    </a:lnTo>
                    <a:lnTo>
                      <a:pt x="75" y="832"/>
                    </a:lnTo>
                    <a:lnTo>
                      <a:pt x="79" y="807"/>
                    </a:lnTo>
                    <a:lnTo>
                      <a:pt x="87" y="796"/>
                    </a:lnTo>
                    <a:lnTo>
                      <a:pt x="84" y="781"/>
                    </a:lnTo>
                    <a:lnTo>
                      <a:pt x="82" y="768"/>
                    </a:lnTo>
                    <a:lnTo>
                      <a:pt x="59" y="751"/>
                    </a:lnTo>
                    <a:lnTo>
                      <a:pt x="69" y="736"/>
                    </a:lnTo>
                    <a:lnTo>
                      <a:pt x="82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9" y="699"/>
                    </a:lnTo>
                    <a:lnTo>
                      <a:pt x="56" y="693"/>
                    </a:lnTo>
                    <a:lnTo>
                      <a:pt x="54" y="688"/>
                    </a:lnTo>
                    <a:lnTo>
                      <a:pt x="47" y="689"/>
                    </a:lnTo>
                    <a:lnTo>
                      <a:pt x="39" y="688"/>
                    </a:lnTo>
                    <a:lnTo>
                      <a:pt x="33" y="684"/>
                    </a:lnTo>
                    <a:lnTo>
                      <a:pt x="26" y="678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4" y="652"/>
                    </a:lnTo>
                    <a:lnTo>
                      <a:pt x="7" y="650"/>
                    </a:lnTo>
                    <a:lnTo>
                      <a:pt x="1" y="597"/>
                    </a:lnTo>
                    <a:lnTo>
                      <a:pt x="6" y="595"/>
                    </a:lnTo>
                    <a:lnTo>
                      <a:pt x="6" y="573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8"/>
                    </a:lnTo>
                    <a:lnTo>
                      <a:pt x="6" y="542"/>
                    </a:lnTo>
                    <a:lnTo>
                      <a:pt x="11" y="537"/>
                    </a:lnTo>
                    <a:lnTo>
                      <a:pt x="14" y="527"/>
                    </a:lnTo>
                    <a:lnTo>
                      <a:pt x="15" y="522"/>
                    </a:lnTo>
                    <a:lnTo>
                      <a:pt x="17" y="517"/>
                    </a:lnTo>
                    <a:lnTo>
                      <a:pt x="32" y="512"/>
                    </a:lnTo>
                    <a:lnTo>
                      <a:pt x="26" y="502"/>
                    </a:lnTo>
                    <a:lnTo>
                      <a:pt x="31" y="485"/>
                    </a:lnTo>
                    <a:lnTo>
                      <a:pt x="32" y="481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6" y="486"/>
                    </a:lnTo>
                    <a:lnTo>
                      <a:pt x="67" y="494"/>
                    </a:lnTo>
                    <a:lnTo>
                      <a:pt x="67" y="502"/>
                    </a:lnTo>
                    <a:lnTo>
                      <a:pt x="66" y="507"/>
                    </a:lnTo>
                    <a:lnTo>
                      <a:pt x="63" y="510"/>
                    </a:lnTo>
                    <a:lnTo>
                      <a:pt x="67" y="512"/>
                    </a:lnTo>
                    <a:lnTo>
                      <a:pt x="72" y="512"/>
                    </a:lnTo>
                    <a:lnTo>
                      <a:pt x="77" y="510"/>
                    </a:lnTo>
                    <a:lnTo>
                      <a:pt x="79" y="506"/>
                    </a:lnTo>
                    <a:lnTo>
                      <a:pt x="78" y="501"/>
                    </a:lnTo>
                    <a:lnTo>
                      <a:pt x="67" y="502"/>
                    </a:lnTo>
                    <a:lnTo>
                      <a:pt x="67" y="494"/>
                    </a:lnTo>
                    <a:lnTo>
                      <a:pt x="80" y="492"/>
                    </a:lnTo>
                    <a:lnTo>
                      <a:pt x="84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6"/>
                    </a:lnTo>
                    <a:lnTo>
                      <a:pt x="109" y="366"/>
                    </a:lnTo>
                    <a:lnTo>
                      <a:pt x="114" y="350"/>
                    </a:lnTo>
                    <a:lnTo>
                      <a:pt x="120" y="337"/>
                    </a:lnTo>
                    <a:lnTo>
                      <a:pt x="127" y="326"/>
                    </a:lnTo>
                    <a:lnTo>
                      <a:pt x="121" y="303"/>
                    </a:lnTo>
                    <a:lnTo>
                      <a:pt x="119" y="288"/>
                    </a:lnTo>
                    <a:lnTo>
                      <a:pt x="120" y="273"/>
                    </a:lnTo>
                    <a:lnTo>
                      <a:pt x="125" y="256"/>
                    </a:lnTo>
                    <a:lnTo>
                      <a:pt x="136" y="234"/>
                    </a:lnTo>
                    <a:lnTo>
                      <a:pt x="149" y="217"/>
                    </a:lnTo>
                    <a:lnTo>
                      <a:pt x="166" y="201"/>
                    </a:lnTo>
                    <a:lnTo>
                      <a:pt x="182" y="191"/>
                    </a:lnTo>
                    <a:lnTo>
                      <a:pt x="193" y="180"/>
                    </a:lnTo>
                    <a:lnTo>
                      <a:pt x="203" y="174"/>
                    </a:lnTo>
                    <a:lnTo>
                      <a:pt x="214" y="171"/>
                    </a:lnTo>
                    <a:lnTo>
                      <a:pt x="224" y="171"/>
                    </a:lnTo>
                    <a:lnTo>
                      <a:pt x="237" y="174"/>
                    </a:lnTo>
                    <a:lnTo>
                      <a:pt x="263" y="169"/>
                    </a:lnTo>
                    <a:lnTo>
                      <a:pt x="265" y="159"/>
                    </a:lnTo>
                    <a:lnTo>
                      <a:pt x="262" y="144"/>
                    </a:lnTo>
                    <a:lnTo>
                      <a:pt x="264" y="143"/>
                    </a:lnTo>
                    <a:lnTo>
                      <a:pt x="262" y="125"/>
                    </a:lnTo>
                    <a:lnTo>
                      <a:pt x="260" y="108"/>
                    </a:lnTo>
                    <a:lnTo>
                      <a:pt x="260" y="90"/>
                    </a:lnTo>
                    <a:lnTo>
                      <a:pt x="264" y="71"/>
                    </a:lnTo>
                    <a:lnTo>
                      <a:pt x="271" y="51"/>
                    </a:lnTo>
                    <a:lnTo>
                      <a:pt x="281" y="36"/>
                    </a:lnTo>
                    <a:lnTo>
                      <a:pt x="290" y="28"/>
                    </a:lnTo>
                    <a:lnTo>
                      <a:pt x="316" y="14"/>
                    </a:lnTo>
                    <a:lnTo>
                      <a:pt x="333" y="8"/>
                    </a:lnTo>
                    <a:lnTo>
                      <a:pt x="352" y="3"/>
                    </a:lnTo>
                    <a:lnTo>
                      <a:pt x="372" y="0"/>
                    </a:lnTo>
                    <a:lnTo>
                      <a:pt x="387" y="0"/>
                    </a:lnTo>
                    <a:lnTo>
                      <a:pt x="403" y="3"/>
                    </a:lnTo>
                    <a:lnTo>
                      <a:pt x="414" y="6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5"/>
                    </a:lnTo>
                    <a:lnTo>
                      <a:pt x="457" y="62"/>
                    </a:lnTo>
                    <a:lnTo>
                      <a:pt x="472" y="93"/>
                    </a:lnTo>
                    <a:lnTo>
                      <a:pt x="478" y="102"/>
                    </a:lnTo>
                    <a:lnTo>
                      <a:pt x="481" y="108"/>
                    </a:lnTo>
                    <a:lnTo>
                      <a:pt x="480" y="113"/>
                    </a:lnTo>
                    <a:lnTo>
                      <a:pt x="473" y="118"/>
                    </a:lnTo>
                    <a:lnTo>
                      <a:pt x="454" y="125"/>
                    </a:lnTo>
                    <a:lnTo>
                      <a:pt x="456" y="143"/>
                    </a:lnTo>
                    <a:lnTo>
                      <a:pt x="457" y="158"/>
                    </a:lnTo>
                    <a:lnTo>
                      <a:pt x="457" y="170"/>
                    </a:lnTo>
                    <a:lnTo>
                      <a:pt x="467" y="171"/>
                    </a:lnTo>
                    <a:lnTo>
                      <a:pt x="478" y="194"/>
                    </a:lnTo>
                    <a:lnTo>
                      <a:pt x="568" y="289"/>
                    </a:lnTo>
                    <a:lnTo>
                      <a:pt x="572" y="295"/>
                    </a:lnTo>
                    <a:lnTo>
                      <a:pt x="573" y="301"/>
                    </a:lnTo>
                    <a:lnTo>
                      <a:pt x="572" y="309"/>
                    </a:lnTo>
                    <a:lnTo>
                      <a:pt x="568" y="312"/>
                    </a:lnTo>
                    <a:lnTo>
                      <a:pt x="564" y="314"/>
                    </a:lnTo>
                    <a:lnTo>
                      <a:pt x="564" y="320"/>
                    </a:lnTo>
                    <a:lnTo>
                      <a:pt x="561" y="326"/>
                    </a:lnTo>
                    <a:lnTo>
                      <a:pt x="558" y="331"/>
                    </a:lnTo>
                    <a:lnTo>
                      <a:pt x="561" y="335"/>
                    </a:lnTo>
                    <a:lnTo>
                      <a:pt x="564" y="340"/>
                    </a:lnTo>
                    <a:lnTo>
                      <a:pt x="569" y="347"/>
                    </a:lnTo>
                    <a:lnTo>
                      <a:pt x="580" y="355"/>
                    </a:lnTo>
                    <a:lnTo>
                      <a:pt x="588" y="360"/>
                    </a:lnTo>
                    <a:lnTo>
                      <a:pt x="595" y="366"/>
                    </a:lnTo>
                    <a:lnTo>
                      <a:pt x="604" y="372"/>
                    </a:lnTo>
                    <a:lnTo>
                      <a:pt x="625" y="365"/>
                    </a:lnTo>
                    <a:lnTo>
                      <a:pt x="636" y="362"/>
                    </a:lnTo>
                    <a:lnTo>
                      <a:pt x="648" y="360"/>
                    </a:lnTo>
                    <a:lnTo>
                      <a:pt x="656" y="357"/>
                    </a:lnTo>
                    <a:lnTo>
                      <a:pt x="689" y="335"/>
                    </a:lnTo>
                    <a:lnTo>
                      <a:pt x="731" y="289"/>
                    </a:lnTo>
                    <a:lnTo>
                      <a:pt x="736" y="290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5" y="251"/>
                    </a:lnTo>
                    <a:lnTo>
                      <a:pt x="772" y="242"/>
                    </a:lnTo>
                    <a:lnTo>
                      <a:pt x="865" y="240"/>
                    </a:lnTo>
                    <a:lnTo>
                      <a:pt x="803" y="275"/>
                    </a:lnTo>
                    <a:lnTo>
                      <a:pt x="791" y="289"/>
                    </a:lnTo>
                    <a:lnTo>
                      <a:pt x="773" y="319"/>
                    </a:lnTo>
                    <a:lnTo>
                      <a:pt x="776" y="326"/>
                    </a:lnTo>
                    <a:lnTo>
                      <a:pt x="729" y="407"/>
                    </a:lnTo>
                    <a:lnTo>
                      <a:pt x="714" y="449"/>
                    </a:lnTo>
                    <a:lnTo>
                      <a:pt x="696" y="464"/>
                    </a:lnTo>
                    <a:lnTo>
                      <a:pt x="677" y="476"/>
                    </a:lnTo>
                    <a:lnTo>
                      <a:pt x="653" y="486"/>
                    </a:lnTo>
                    <a:lnTo>
                      <a:pt x="637" y="489"/>
                    </a:lnTo>
                    <a:lnTo>
                      <a:pt x="624" y="4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32480" y="3823920"/>
                <a:ext cx="288000" cy="81720"/>
              </a:xfrm>
              <a:custGeom>
                <a:avLst/>
                <a:gdLst/>
                <a:ahLst/>
                <a:rect l="l" t="t" r="r" b="b"/>
                <a:pathLst>
                  <a:path w="681" h="194">
                    <a:moveTo>
                      <a:pt x="479" y="94"/>
                    </a:moveTo>
                    <a:lnTo>
                      <a:pt x="469" y="90"/>
                    </a:lnTo>
                    <a:lnTo>
                      <a:pt x="398" y="93"/>
                    </a:lnTo>
                    <a:lnTo>
                      <a:pt x="394" y="96"/>
                    </a:lnTo>
                    <a:lnTo>
                      <a:pt x="471" y="99"/>
                    </a:lnTo>
                    <a:lnTo>
                      <a:pt x="466" y="101"/>
                    </a:lnTo>
                    <a:lnTo>
                      <a:pt x="387" y="101"/>
                    </a:lnTo>
                    <a:lnTo>
                      <a:pt x="294" y="104"/>
                    </a:lnTo>
                    <a:lnTo>
                      <a:pt x="272" y="104"/>
                    </a:lnTo>
                    <a:lnTo>
                      <a:pt x="193" y="136"/>
                    </a:lnTo>
                    <a:lnTo>
                      <a:pt x="193" y="182"/>
                    </a:lnTo>
                    <a:lnTo>
                      <a:pt x="140" y="194"/>
                    </a:lnTo>
                    <a:lnTo>
                      <a:pt x="140" y="151"/>
                    </a:lnTo>
                    <a:lnTo>
                      <a:pt x="135" y="138"/>
                    </a:lnTo>
                    <a:lnTo>
                      <a:pt x="135" y="127"/>
                    </a:lnTo>
                    <a:lnTo>
                      <a:pt x="134" y="124"/>
                    </a:lnTo>
                    <a:lnTo>
                      <a:pt x="132" y="121"/>
                    </a:lnTo>
                    <a:lnTo>
                      <a:pt x="129" y="120"/>
                    </a:lnTo>
                    <a:lnTo>
                      <a:pt x="127" y="120"/>
                    </a:lnTo>
                    <a:lnTo>
                      <a:pt x="107" y="119"/>
                    </a:lnTo>
                    <a:lnTo>
                      <a:pt x="113" y="130"/>
                    </a:lnTo>
                    <a:lnTo>
                      <a:pt x="114" y="135"/>
                    </a:lnTo>
                    <a:lnTo>
                      <a:pt x="114" y="138"/>
                    </a:lnTo>
                    <a:lnTo>
                      <a:pt x="112" y="141"/>
                    </a:lnTo>
                    <a:lnTo>
                      <a:pt x="108" y="144"/>
                    </a:lnTo>
                    <a:lnTo>
                      <a:pt x="130" y="144"/>
                    </a:lnTo>
                    <a:lnTo>
                      <a:pt x="133" y="144"/>
                    </a:lnTo>
                    <a:lnTo>
                      <a:pt x="134" y="141"/>
                    </a:lnTo>
                    <a:lnTo>
                      <a:pt x="135" y="138"/>
                    </a:lnTo>
                    <a:lnTo>
                      <a:pt x="140" y="151"/>
                    </a:lnTo>
                    <a:lnTo>
                      <a:pt x="89" y="151"/>
                    </a:lnTo>
                    <a:lnTo>
                      <a:pt x="0" y="55"/>
                    </a:lnTo>
                    <a:lnTo>
                      <a:pt x="35" y="55"/>
                    </a:lnTo>
                    <a:lnTo>
                      <a:pt x="35" y="43"/>
                    </a:lnTo>
                    <a:lnTo>
                      <a:pt x="46" y="43"/>
                    </a:lnTo>
                    <a:lnTo>
                      <a:pt x="53" y="20"/>
                    </a:lnTo>
                    <a:lnTo>
                      <a:pt x="57" y="20"/>
                    </a:lnTo>
                    <a:lnTo>
                      <a:pt x="60" y="11"/>
                    </a:lnTo>
                    <a:lnTo>
                      <a:pt x="65" y="6"/>
                    </a:lnTo>
                    <a:lnTo>
                      <a:pt x="72" y="5"/>
                    </a:lnTo>
                    <a:lnTo>
                      <a:pt x="196" y="15"/>
                    </a:lnTo>
                    <a:lnTo>
                      <a:pt x="201" y="17"/>
                    </a:lnTo>
                    <a:lnTo>
                      <a:pt x="207" y="21"/>
                    </a:lnTo>
                    <a:lnTo>
                      <a:pt x="210" y="27"/>
                    </a:lnTo>
                    <a:lnTo>
                      <a:pt x="210" y="33"/>
                    </a:lnTo>
                    <a:lnTo>
                      <a:pt x="208" y="38"/>
                    </a:lnTo>
                    <a:lnTo>
                      <a:pt x="207" y="41"/>
                    </a:lnTo>
                    <a:lnTo>
                      <a:pt x="199" y="41"/>
                    </a:lnTo>
                    <a:lnTo>
                      <a:pt x="200" y="37"/>
                    </a:lnTo>
                    <a:lnTo>
                      <a:pt x="202" y="32"/>
                    </a:lnTo>
                    <a:lnTo>
                      <a:pt x="202" y="27"/>
                    </a:lnTo>
                    <a:lnTo>
                      <a:pt x="199" y="22"/>
                    </a:lnTo>
                    <a:lnTo>
                      <a:pt x="193" y="20"/>
                    </a:lnTo>
                    <a:lnTo>
                      <a:pt x="100" y="20"/>
                    </a:lnTo>
                    <a:lnTo>
                      <a:pt x="97" y="26"/>
                    </a:lnTo>
                    <a:lnTo>
                      <a:pt x="93" y="31"/>
                    </a:lnTo>
                    <a:lnTo>
                      <a:pt x="92" y="36"/>
                    </a:lnTo>
                    <a:lnTo>
                      <a:pt x="92" y="39"/>
                    </a:lnTo>
                    <a:lnTo>
                      <a:pt x="93" y="42"/>
                    </a:lnTo>
                    <a:lnTo>
                      <a:pt x="98" y="43"/>
                    </a:lnTo>
                    <a:lnTo>
                      <a:pt x="193" y="43"/>
                    </a:lnTo>
                    <a:lnTo>
                      <a:pt x="199" y="41"/>
                    </a:lnTo>
                    <a:lnTo>
                      <a:pt x="207" y="41"/>
                    </a:lnTo>
                    <a:lnTo>
                      <a:pt x="482" y="41"/>
                    </a:lnTo>
                    <a:lnTo>
                      <a:pt x="490" y="42"/>
                    </a:lnTo>
                    <a:lnTo>
                      <a:pt x="491" y="43"/>
                    </a:lnTo>
                    <a:lnTo>
                      <a:pt x="521" y="43"/>
                    </a:lnTo>
                    <a:lnTo>
                      <a:pt x="520" y="31"/>
                    </a:lnTo>
                    <a:lnTo>
                      <a:pt x="516" y="31"/>
                    </a:lnTo>
                    <a:lnTo>
                      <a:pt x="516" y="16"/>
                    </a:lnTo>
                    <a:lnTo>
                      <a:pt x="506" y="16"/>
                    </a:lnTo>
                    <a:lnTo>
                      <a:pt x="488" y="39"/>
                    </a:lnTo>
                    <a:lnTo>
                      <a:pt x="488" y="42"/>
                    </a:lnTo>
                    <a:lnTo>
                      <a:pt x="490" y="42"/>
                    </a:lnTo>
                    <a:lnTo>
                      <a:pt x="482" y="41"/>
                    </a:lnTo>
                    <a:lnTo>
                      <a:pt x="511" y="2"/>
                    </a:lnTo>
                    <a:lnTo>
                      <a:pt x="516" y="0"/>
                    </a:lnTo>
                    <a:lnTo>
                      <a:pt x="521" y="2"/>
                    </a:lnTo>
                    <a:lnTo>
                      <a:pt x="525" y="7"/>
                    </a:lnTo>
                    <a:lnTo>
                      <a:pt x="527" y="53"/>
                    </a:lnTo>
                    <a:lnTo>
                      <a:pt x="603" y="53"/>
                    </a:lnTo>
                    <a:lnTo>
                      <a:pt x="610" y="49"/>
                    </a:lnTo>
                    <a:lnTo>
                      <a:pt x="663" y="48"/>
                    </a:lnTo>
                    <a:lnTo>
                      <a:pt x="668" y="39"/>
                    </a:lnTo>
                    <a:lnTo>
                      <a:pt x="677" y="39"/>
                    </a:lnTo>
                    <a:lnTo>
                      <a:pt x="677" y="48"/>
                    </a:lnTo>
                    <a:lnTo>
                      <a:pt x="681" y="48"/>
                    </a:lnTo>
                    <a:lnTo>
                      <a:pt x="681" y="70"/>
                    </a:lnTo>
                    <a:lnTo>
                      <a:pt x="667" y="70"/>
                    </a:lnTo>
                    <a:lnTo>
                      <a:pt x="660" y="65"/>
                    </a:lnTo>
                    <a:lnTo>
                      <a:pt x="527" y="65"/>
                    </a:lnTo>
                    <a:lnTo>
                      <a:pt x="527" y="73"/>
                    </a:lnTo>
                    <a:lnTo>
                      <a:pt x="516" y="73"/>
                    </a:lnTo>
                    <a:lnTo>
                      <a:pt x="516" y="70"/>
                    </a:lnTo>
                    <a:lnTo>
                      <a:pt x="494" y="70"/>
                    </a:lnTo>
                    <a:lnTo>
                      <a:pt x="494" y="82"/>
                    </a:lnTo>
                    <a:lnTo>
                      <a:pt x="485" y="82"/>
                    </a:lnTo>
                    <a:lnTo>
                      <a:pt x="479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10240" y="4223160"/>
                <a:ext cx="363960" cy="424800"/>
              </a:xfrm>
              <a:custGeom>
                <a:avLst/>
                <a:gdLst/>
                <a:ahLst/>
                <a:rect l="l" t="t" r="r" b="b"/>
                <a:pathLst>
                  <a:path w="865" h="1010">
                    <a:moveTo>
                      <a:pt x="457" y="496"/>
                    </a:moveTo>
                    <a:lnTo>
                      <a:pt x="473" y="483"/>
                    </a:lnTo>
                    <a:lnTo>
                      <a:pt x="488" y="474"/>
                    </a:lnTo>
                    <a:lnTo>
                      <a:pt x="503" y="467"/>
                    </a:lnTo>
                    <a:lnTo>
                      <a:pt x="518" y="460"/>
                    </a:lnTo>
                    <a:lnTo>
                      <a:pt x="489" y="441"/>
                    </a:lnTo>
                    <a:lnTo>
                      <a:pt x="476" y="432"/>
                    </a:lnTo>
                    <a:lnTo>
                      <a:pt x="462" y="421"/>
                    </a:lnTo>
                    <a:lnTo>
                      <a:pt x="463" y="440"/>
                    </a:lnTo>
                    <a:lnTo>
                      <a:pt x="461" y="457"/>
                    </a:lnTo>
                    <a:lnTo>
                      <a:pt x="457" y="496"/>
                    </a:lnTo>
                    <a:close/>
                    <a:moveTo>
                      <a:pt x="624" y="491"/>
                    </a:moveTo>
                    <a:lnTo>
                      <a:pt x="626" y="530"/>
                    </a:lnTo>
                    <a:lnTo>
                      <a:pt x="626" y="576"/>
                    </a:lnTo>
                    <a:lnTo>
                      <a:pt x="621" y="629"/>
                    </a:lnTo>
                    <a:lnTo>
                      <a:pt x="612" y="682"/>
                    </a:lnTo>
                    <a:lnTo>
                      <a:pt x="600" y="732"/>
                    </a:lnTo>
                    <a:lnTo>
                      <a:pt x="590" y="768"/>
                    </a:lnTo>
                    <a:lnTo>
                      <a:pt x="580" y="774"/>
                    </a:lnTo>
                    <a:lnTo>
                      <a:pt x="570" y="783"/>
                    </a:lnTo>
                    <a:lnTo>
                      <a:pt x="562" y="820"/>
                    </a:lnTo>
                    <a:lnTo>
                      <a:pt x="562" y="826"/>
                    </a:lnTo>
                    <a:lnTo>
                      <a:pt x="565" y="833"/>
                    </a:lnTo>
                    <a:lnTo>
                      <a:pt x="565" y="840"/>
                    </a:lnTo>
                    <a:lnTo>
                      <a:pt x="560" y="848"/>
                    </a:lnTo>
                    <a:lnTo>
                      <a:pt x="569" y="854"/>
                    </a:lnTo>
                    <a:lnTo>
                      <a:pt x="574" y="861"/>
                    </a:lnTo>
                    <a:lnTo>
                      <a:pt x="577" y="871"/>
                    </a:lnTo>
                    <a:lnTo>
                      <a:pt x="585" y="873"/>
                    </a:lnTo>
                    <a:lnTo>
                      <a:pt x="590" y="877"/>
                    </a:lnTo>
                    <a:lnTo>
                      <a:pt x="594" y="884"/>
                    </a:lnTo>
                    <a:lnTo>
                      <a:pt x="597" y="891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8" y="916"/>
                    </a:lnTo>
                    <a:lnTo>
                      <a:pt x="644" y="922"/>
                    </a:lnTo>
                    <a:lnTo>
                      <a:pt x="647" y="928"/>
                    </a:lnTo>
                    <a:lnTo>
                      <a:pt x="647" y="939"/>
                    </a:lnTo>
                    <a:lnTo>
                      <a:pt x="636" y="943"/>
                    </a:lnTo>
                    <a:lnTo>
                      <a:pt x="620" y="945"/>
                    </a:lnTo>
                    <a:lnTo>
                      <a:pt x="595" y="944"/>
                    </a:lnTo>
                    <a:lnTo>
                      <a:pt x="573" y="939"/>
                    </a:lnTo>
                    <a:lnTo>
                      <a:pt x="548" y="932"/>
                    </a:lnTo>
                    <a:lnTo>
                      <a:pt x="529" y="923"/>
                    </a:lnTo>
                    <a:lnTo>
                      <a:pt x="514" y="913"/>
                    </a:lnTo>
                    <a:lnTo>
                      <a:pt x="499" y="912"/>
                    </a:lnTo>
                    <a:lnTo>
                      <a:pt x="488" y="911"/>
                    </a:lnTo>
                    <a:lnTo>
                      <a:pt x="476" y="907"/>
                    </a:lnTo>
                    <a:lnTo>
                      <a:pt x="466" y="903"/>
                    </a:lnTo>
                    <a:lnTo>
                      <a:pt x="463" y="890"/>
                    </a:lnTo>
                    <a:lnTo>
                      <a:pt x="465" y="879"/>
                    </a:lnTo>
                    <a:lnTo>
                      <a:pt x="466" y="869"/>
                    </a:lnTo>
                    <a:lnTo>
                      <a:pt x="468" y="860"/>
                    </a:lnTo>
                    <a:lnTo>
                      <a:pt x="472" y="850"/>
                    </a:lnTo>
                    <a:lnTo>
                      <a:pt x="476" y="841"/>
                    </a:lnTo>
                    <a:lnTo>
                      <a:pt x="482" y="833"/>
                    </a:lnTo>
                    <a:lnTo>
                      <a:pt x="482" y="824"/>
                    </a:lnTo>
                    <a:lnTo>
                      <a:pt x="482" y="814"/>
                    </a:lnTo>
                    <a:lnTo>
                      <a:pt x="485" y="808"/>
                    </a:lnTo>
                    <a:lnTo>
                      <a:pt x="488" y="802"/>
                    </a:lnTo>
                    <a:lnTo>
                      <a:pt x="488" y="770"/>
                    </a:lnTo>
                    <a:lnTo>
                      <a:pt x="476" y="764"/>
                    </a:lnTo>
                    <a:lnTo>
                      <a:pt x="477" y="757"/>
                    </a:lnTo>
                    <a:lnTo>
                      <a:pt x="481" y="748"/>
                    </a:lnTo>
                    <a:lnTo>
                      <a:pt x="481" y="738"/>
                    </a:lnTo>
                    <a:lnTo>
                      <a:pt x="477" y="726"/>
                    </a:lnTo>
                    <a:lnTo>
                      <a:pt x="481" y="709"/>
                    </a:lnTo>
                    <a:lnTo>
                      <a:pt x="485" y="685"/>
                    </a:lnTo>
                    <a:lnTo>
                      <a:pt x="491" y="662"/>
                    </a:lnTo>
                    <a:lnTo>
                      <a:pt x="499" y="637"/>
                    </a:lnTo>
                    <a:lnTo>
                      <a:pt x="485" y="655"/>
                    </a:lnTo>
                    <a:lnTo>
                      <a:pt x="467" y="674"/>
                    </a:lnTo>
                    <a:lnTo>
                      <a:pt x="452" y="688"/>
                    </a:lnTo>
                    <a:lnTo>
                      <a:pt x="435" y="704"/>
                    </a:lnTo>
                    <a:lnTo>
                      <a:pt x="421" y="716"/>
                    </a:lnTo>
                    <a:lnTo>
                      <a:pt x="403" y="730"/>
                    </a:lnTo>
                    <a:lnTo>
                      <a:pt x="385" y="743"/>
                    </a:lnTo>
                    <a:lnTo>
                      <a:pt x="364" y="756"/>
                    </a:lnTo>
                    <a:lnTo>
                      <a:pt x="344" y="767"/>
                    </a:lnTo>
                    <a:lnTo>
                      <a:pt x="326" y="773"/>
                    </a:lnTo>
                    <a:lnTo>
                      <a:pt x="308" y="782"/>
                    </a:lnTo>
                    <a:lnTo>
                      <a:pt x="291" y="787"/>
                    </a:lnTo>
                    <a:lnTo>
                      <a:pt x="275" y="849"/>
                    </a:lnTo>
                    <a:lnTo>
                      <a:pt x="274" y="866"/>
                    </a:lnTo>
                    <a:lnTo>
                      <a:pt x="271" y="884"/>
                    </a:lnTo>
                    <a:lnTo>
                      <a:pt x="269" y="898"/>
                    </a:lnTo>
                    <a:lnTo>
                      <a:pt x="265" y="913"/>
                    </a:lnTo>
                    <a:lnTo>
                      <a:pt x="259" y="928"/>
                    </a:lnTo>
                    <a:lnTo>
                      <a:pt x="251" y="944"/>
                    </a:lnTo>
                    <a:lnTo>
                      <a:pt x="244" y="956"/>
                    </a:lnTo>
                    <a:lnTo>
                      <a:pt x="234" y="966"/>
                    </a:lnTo>
                    <a:lnTo>
                      <a:pt x="232" y="976"/>
                    </a:lnTo>
                    <a:lnTo>
                      <a:pt x="225" y="988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7" y="1010"/>
                    </a:lnTo>
                    <a:lnTo>
                      <a:pt x="157" y="1010"/>
                    </a:lnTo>
                    <a:lnTo>
                      <a:pt x="137" y="1006"/>
                    </a:lnTo>
                    <a:lnTo>
                      <a:pt x="123" y="1000"/>
                    </a:lnTo>
                    <a:lnTo>
                      <a:pt x="111" y="991"/>
                    </a:lnTo>
                    <a:lnTo>
                      <a:pt x="103" y="983"/>
                    </a:lnTo>
                    <a:lnTo>
                      <a:pt x="94" y="980"/>
                    </a:lnTo>
                    <a:lnTo>
                      <a:pt x="83" y="964"/>
                    </a:lnTo>
                    <a:lnTo>
                      <a:pt x="77" y="944"/>
                    </a:lnTo>
                    <a:lnTo>
                      <a:pt x="71" y="927"/>
                    </a:lnTo>
                    <a:lnTo>
                      <a:pt x="68" y="906"/>
                    </a:lnTo>
                    <a:lnTo>
                      <a:pt x="68" y="886"/>
                    </a:lnTo>
                    <a:lnTo>
                      <a:pt x="64" y="851"/>
                    </a:lnTo>
                    <a:lnTo>
                      <a:pt x="75" y="831"/>
                    </a:lnTo>
                    <a:lnTo>
                      <a:pt x="79" y="806"/>
                    </a:lnTo>
                    <a:lnTo>
                      <a:pt x="87" y="795"/>
                    </a:lnTo>
                    <a:lnTo>
                      <a:pt x="84" y="782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70" y="737"/>
                    </a:lnTo>
                    <a:lnTo>
                      <a:pt x="81" y="704"/>
                    </a:lnTo>
                    <a:lnTo>
                      <a:pt x="73" y="705"/>
                    </a:lnTo>
                    <a:lnTo>
                      <a:pt x="64" y="703"/>
                    </a:lnTo>
                    <a:lnTo>
                      <a:pt x="59" y="700"/>
                    </a:lnTo>
                    <a:lnTo>
                      <a:pt x="56" y="694"/>
                    </a:lnTo>
                    <a:lnTo>
                      <a:pt x="54" y="688"/>
                    </a:lnTo>
                    <a:lnTo>
                      <a:pt x="48" y="689"/>
                    </a:lnTo>
                    <a:lnTo>
                      <a:pt x="39" y="688"/>
                    </a:lnTo>
                    <a:lnTo>
                      <a:pt x="33" y="684"/>
                    </a:lnTo>
                    <a:lnTo>
                      <a:pt x="27" y="679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3" y="653"/>
                    </a:lnTo>
                    <a:lnTo>
                      <a:pt x="8" y="649"/>
                    </a:lnTo>
                    <a:lnTo>
                      <a:pt x="2" y="597"/>
                    </a:lnTo>
                    <a:lnTo>
                      <a:pt x="7" y="596"/>
                    </a:lnTo>
                    <a:lnTo>
                      <a:pt x="7" y="574"/>
                    </a:lnTo>
                    <a:lnTo>
                      <a:pt x="0" y="572"/>
                    </a:lnTo>
                    <a:lnTo>
                      <a:pt x="2" y="559"/>
                    </a:lnTo>
                    <a:lnTo>
                      <a:pt x="6" y="549"/>
                    </a:lnTo>
                    <a:lnTo>
                      <a:pt x="7" y="541"/>
                    </a:lnTo>
                    <a:lnTo>
                      <a:pt x="11" y="537"/>
                    </a:lnTo>
                    <a:lnTo>
                      <a:pt x="13" y="528"/>
                    </a:lnTo>
                    <a:lnTo>
                      <a:pt x="15" y="521"/>
                    </a:lnTo>
                    <a:lnTo>
                      <a:pt x="17" y="517"/>
                    </a:lnTo>
                    <a:lnTo>
                      <a:pt x="32" y="513"/>
                    </a:lnTo>
                    <a:lnTo>
                      <a:pt x="27" y="502"/>
                    </a:lnTo>
                    <a:lnTo>
                      <a:pt x="31" y="485"/>
                    </a:lnTo>
                    <a:lnTo>
                      <a:pt x="32" y="481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6" y="487"/>
                    </a:lnTo>
                    <a:lnTo>
                      <a:pt x="68" y="494"/>
                    </a:lnTo>
                    <a:lnTo>
                      <a:pt x="68" y="502"/>
                    </a:lnTo>
                    <a:lnTo>
                      <a:pt x="66" y="508"/>
                    </a:lnTo>
                    <a:lnTo>
                      <a:pt x="63" y="510"/>
                    </a:lnTo>
                    <a:lnTo>
                      <a:pt x="68" y="513"/>
                    </a:lnTo>
                    <a:lnTo>
                      <a:pt x="73" y="513"/>
                    </a:lnTo>
                    <a:lnTo>
                      <a:pt x="77" y="510"/>
                    </a:lnTo>
                    <a:lnTo>
                      <a:pt x="79" y="507"/>
                    </a:lnTo>
                    <a:lnTo>
                      <a:pt x="78" y="500"/>
                    </a:lnTo>
                    <a:lnTo>
                      <a:pt x="68" y="502"/>
                    </a:lnTo>
                    <a:lnTo>
                      <a:pt x="68" y="494"/>
                    </a:lnTo>
                    <a:lnTo>
                      <a:pt x="80" y="493"/>
                    </a:lnTo>
                    <a:lnTo>
                      <a:pt x="84" y="494"/>
                    </a:lnTo>
                    <a:lnTo>
                      <a:pt x="89" y="496"/>
                    </a:lnTo>
                    <a:lnTo>
                      <a:pt x="92" y="498"/>
                    </a:lnTo>
                    <a:lnTo>
                      <a:pt x="90" y="482"/>
                    </a:lnTo>
                    <a:lnTo>
                      <a:pt x="85" y="467"/>
                    </a:lnTo>
                    <a:lnTo>
                      <a:pt x="109" y="367"/>
                    </a:lnTo>
                    <a:lnTo>
                      <a:pt x="115" y="349"/>
                    </a:lnTo>
                    <a:lnTo>
                      <a:pt x="120" y="337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9" y="287"/>
                    </a:lnTo>
                    <a:lnTo>
                      <a:pt x="120" y="273"/>
                    </a:lnTo>
                    <a:lnTo>
                      <a:pt x="125" y="255"/>
                    </a:lnTo>
                    <a:lnTo>
                      <a:pt x="137" y="234"/>
                    </a:lnTo>
                    <a:lnTo>
                      <a:pt x="148" y="218"/>
                    </a:lnTo>
                    <a:lnTo>
                      <a:pt x="166" y="202"/>
                    </a:lnTo>
                    <a:lnTo>
                      <a:pt x="183" y="191"/>
                    </a:lnTo>
                    <a:lnTo>
                      <a:pt x="193" y="181"/>
                    </a:lnTo>
                    <a:lnTo>
                      <a:pt x="204" y="175"/>
                    </a:lnTo>
                    <a:lnTo>
                      <a:pt x="214" y="171"/>
                    </a:lnTo>
                    <a:lnTo>
                      <a:pt x="225" y="171"/>
                    </a:lnTo>
                    <a:lnTo>
                      <a:pt x="237" y="175"/>
                    </a:lnTo>
                    <a:lnTo>
                      <a:pt x="264" y="169"/>
                    </a:lnTo>
                    <a:lnTo>
                      <a:pt x="266" y="160"/>
                    </a:lnTo>
                    <a:lnTo>
                      <a:pt x="261" y="144"/>
                    </a:lnTo>
                    <a:lnTo>
                      <a:pt x="265" y="142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89"/>
                    </a:lnTo>
                    <a:lnTo>
                      <a:pt x="265" y="72"/>
                    </a:lnTo>
                    <a:lnTo>
                      <a:pt x="271" y="52"/>
                    </a:lnTo>
                    <a:lnTo>
                      <a:pt x="281" y="37"/>
                    </a:lnTo>
                    <a:lnTo>
                      <a:pt x="291" y="27"/>
                    </a:lnTo>
                    <a:lnTo>
                      <a:pt x="316" y="15"/>
                    </a:lnTo>
                    <a:lnTo>
                      <a:pt x="334" y="7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87" y="0"/>
                    </a:lnTo>
                    <a:lnTo>
                      <a:pt x="403" y="2"/>
                    </a:lnTo>
                    <a:lnTo>
                      <a:pt x="414" y="6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6"/>
                    </a:lnTo>
                    <a:lnTo>
                      <a:pt x="457" y="62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2" y="108"/>
                    </a:lnTo>
                    <a:lnTo>
                      <a:pt x="481" y="114"/>
                    </a:lnTo>
                    <a:lnTo>
                      <a:pt x="473" y="119"/>
                    </a:lnTo>
                    <a:lnTo>
                      <a:pt x="454" y="125"/>
                    </a:lnTo>
                    <a:lnTo>
                      <a:pt x="456" y="142"/>
                    </a:lnTo>
                    <a:lnTo>
                      <a:pt x="457" y="159"/>
                    </a:lnTo>
                    <a:lnTo>
                      <a:pt x="457" y="170"/>
                    </a:lnTo>
                    <a:lnTo>
                      <a:pt x="467" y="171"/>
                    </a:lnTo>
                    <a:lnTo>
                      <a:pt x="478" y="193"/>
                    </a:lnTo>
                    <a:lnTo>
                      <a:pt x="569" y="289"/>
                    </a:lnTo>
                    <a:lnTo>
                      <a:pt x="573" y="295"/>
                    </a:lnTo>
                    <a:lnTo>
                      <a:pt x="574" y="302"/>
                    </a:lnTo>
                    <a:lnTo>
                      <a:pt x="573" y="308"/>
                    </a:lnTo>
                    <a:lnTo>
                      <a:pt x="569" y="312"/>
                    </a:lnTo>
                    <a:lnTo>
                      <a:pt x="564" y="313"/>
                    </a:lnTo>
                    <a:lnTo>
                      <a:pt x="564" y="321"/>
                    </a:lnTo>
                    <a:lnTo>
                      <a:pt x="561" y="327"/>
                    </a:lnTo>
                    <a:lnTo>
                      <a:pt x="558" y="331"/>
                    </a:lnTo>
                    <a:lnTo>
                      <a:pt x="561" y="335"/>
                    </a:lnTo>
                    <a:lnTo>
                      <a:pt x="564" y="341"/>
                    </a:lnTo>
                    <a:lnTo>
                      <a:pt x="570" y="348"/>
                    </a:lnTo>
                    <a:lnTo>
                      <a:pt x="580" y="354"/>
                    </a:lnTo>
                    <a:lnTo>
                      <a:pt x="587" y="359"/>
                    </a:lnTo>
                    <a:lnTo>
                      <a:pt x="596" y="367"/>
                    </a:lnTo>
                    <a:lnTo>
                      <a:pt x="603" y="372"/>
                    </a:lnTo>
                    <a:lnTo>
                      <a:pt x="625" y="365"/>
                    </a:lnTo>
                    <a:lnTo>
                      <a:pt x="637" y="363"/>
                    </a:lnTo>
                    <a:lnTo>
                      <a:pt x="648" y="359"/>
                    </a:lnTo>
                    <a:lnTo>
                      <a:pt x="657" y="357"/>
                    </a:lnTo>
                    <a:lnTo>
                      <a:pt x="689" y="335"/>
                    </a:lnTo>
                    <a:lnTo>
                      <a:pt x="731" y="289"/>
                    </a:lnTo>
                    <a:lnTo>
                      <a:pt x="736" y="290"/>
                    </a:lnTo>
                    <a:lnTo>
                      <a:pt x="760" y="264"/>
                    </a:lnTo>
                    <a:lnTo>
                      <a:pt x="761" y="258"/>
                    </a:lnTo>
                    <a:lnTo>
                      <a:pt x="766" y="250"/>
                    </a:lnTo>
                    <a:lnTo>
                      <a:pt x="772" y="243"/>
                    </a:lnTo>
                    <a:lnTo>
                      <a:pt x="865" y="240"/>
                    </a:lnTo>
                    <a:lnTo>
                      <a:pt x="803" y="275"/>
                    </a:lnTo>
                    <a:lnTo>
                      <a:pt x="792" y="289"/>
                    </a:lnTo>
                    <a:lnTo>
                      <a:pt x="773" y="319"/>
                    </a:lnTo>
                    <a:lnTo>
                      <a:pt x="776" y="327"/>
                    </a:lnTo>
                    <a:lnTo>
                      <a:pt x="729" y="408"/>
                    </a:lnTo>
                    <a:lnTo>
                      <a:pt x="714" y="450"/>
                    </a:lnTo>
                    <a:lnTo>
                      <a:pt x="695" y="463"/>
                    </a:lnTo>
                    <a:lnTo>
                      <a:pt x="678" y="476"/>
                    </a:lnTo>
                    <a:lnTo>
                      <a:pt x="653" y="487"/>
                    </a:lnTo>
                    <a:lnTo>
                      <a:pt x="638" y="489"/>
                    </a:lnTo>
                    <a:lnTo>
                      <a:pt x="624" y="491"/>
                    </a:lnTo>
                    <a:close/>
                    <a:moveTo>
                      <a:pt x="91" y="513"/>
                    </a:moveTo>
                    <a:lnTo>
                      <a:pt x="84" y="519"/>
                    </a:lnTo>
                    <a:lnTo>
                      <a:pt x="87" y="523"/>
                    </a:lnTo>
                    <a:lnTo>
                      <a:pt x="90" y="529"/>
                    </a:lnTo>
                    <a:lnTo>
                      <a:pt x="91" y="523"/>
                    </a:lnTo>
                    <a:lnTo>
                      <a:pt x="93" y="518"/>
                    </a:lnTo>
                    <a:lnTo>
                      <a:pt x="91" y="5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610240" y="4223160"/>
                <a:ext cx="363960" cy="424800"/>
              </a:xfrm>
              <a:custGeom>
                <a:avLst/>
                <a:gdLst/>
                <a:ahLst/>
                <a:rect l="l" t="t" r="r" b="b"/>
                <a:pathLst>
                  <a:path w="865" h="1010">
                    <a:moveTo>
                      <a:pt x="624" y="491"/>
                    </a:moveTo>
                    <a:lnTo>
                      <a:pt x="626" y="530"/>
                    </a:lnTo>
                    <a:lnTo>
                      <a:pt x="626" y="576"/>
                    </a:lnTo>
                    <a:lnTo>
                      <a:pt x="621" y="629"/>
                    </a:lnTo>
                    <a:lnTo>
                      <a:pt x="612" y="682"/>
                    </a:lnTo>
                    <a:lnTo>
                      <a:pt x="600" y="732"/>
                    </a:lnTo>
                    <a:lnTo>
                      <a:pt x="590" y="768"/>
                    </a:lnTo>
                    <a:lnTo>
                      <a:pt x="580" y="774"/>
                    </a:lnTo>
                    <a:lnTo>
                      <a:pt x="570" y="783"/>
                    </a:lnTo>
                    <a:lnTo>
                      <a:pt x="562" y="820"/>
                    </a:lnTo>
                    <a:lnTo>
                      <a:pt x="562" y="826"/>
                    </a:lnTo>
                    <a:lnTo>
                      <a:pt x="565" y="833"/>
                    </a:lnTo>
                    <a:lnTo>
                      <a:pt x="565" y="840"/>
                    </a:lnTo>
                    <a:lnTo>
                      <a:pt x="560" y="848"/>
                    </a:lnTo>
                    <a:lnTo>
                      <a:pt x="569" y="854"/>
                    </a:lnTo>
                    <a:lnTo>
                      <a:pt x="574" y="861"/>
                    </a:lnTo>
                    <a:lnTo>
                      <a:pt x="577" y="871"/>
                    </a:lnTo>
                    <a:lnTo>
                      <a:pt x="585" y="873"/>
                    </a:lnTo>
                    <a:lnTo>
                      <a:pt x="590" y="877"/>
                    </a:lnTo>
                    <a:lnTo>
                      <a:pt x="594" y="884"/>
                    </a:lnTo>
                    <a:lnTo>
                      <a:pt x="597" y="891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8" y="916"/>
                    </a:lnTo>
                    <a:lnTo>
                      <a:pt x="644" y="922"/>
                    </a:lnTo>
                    <a:lnTo>
                      <a:pt x="647" y="928"/>
                    </a:lnTo>
                    <a:lnTo>
                      <a:pt x="647" y="939"/>
                    </a:lnTo>
                    <a:lnTo>
                      <a:pt x="636" y="943"/>
                    </a:lnTo>
                    <a:lnTo>
                      <a:pt x="620" y="945"/>
                    </a:lnTo>
                    <a:lnTo>
                      <a:pt x="595" y="944"/>
                    </a:lnTo>
                    <a:lnTo>
                      <a:pt x="573" y="939"/>
                    </a:lnTo>
                    <a:lnTo>
                      <a:pt x="548" y="932"/>
                    </a:lnTo>
                    <a:lnTo>
                      <a:pt x="529" y="923"/>
                    </a:lnTo>
                    <a:lnTo>
                      <a:pt x="514" y="913"/>
                    </a:lnTo>
                    <a:lnTo>
                      <a:pt x="499" y="912"/>
                    </a:lnTo>
                    <a:lnTo>
                      <a:pt x="488" y="911"/>
                    </a:lnTo>
                    <a:lnTo>
                      <a:pt x="476" y="907"/>
                    </a:lnTo>
                    <a:lnTo>
                      <a:pt x="466" y="903"/>
                    </a:lnTo>
                    <a:lnTo>
                      <a:pt x="463" y="890"/>
                    </a:lnTo>
                    <a:lnTo>
                      <a:pt x="465" y="879"/>
                    </a:lnTo>
                    <a:lnTo>
                      <a:pt x="466" y="869"/>
                    </a:lnTo>
                    <a:lnTo>
                      <a:pt x="468" y="860"/>
                    </a:lnTo>
                    <a:lnTo>
                      <a:pt x="472" y="850"/>
                    </a:lnTo>
                    <a:lnTo>
                      <a:pt x="476" y="841"/>
                    </a:lnTo>
                    <a:lnTo>
                      <a:pt x="482" y="833"/>
                    </a:lnTo>
                    <a:lnTo>
                      <a:pt x="482" y="824"/>
                    </a:lnTo>
                    <a:lnTo>
                      <a:pt x="482" y="814"/>
                    </a:lnTo>
                    <a:lnTo>
                      <a:pt x="485" y="808"/>
                    </a:lnTo>
                    <a:lnTo>
                      <a:pt x="488" y="802"/>
                    </a:lnTo>
                    <a:lnTo>
                      <a:pt x="488" y="770"/>
                    </a:lnTo>
                    <a:lnTo>
                      <a:pt x="476" y="764"/>
                    </a:lnTo>
                    <a:lnTo>
                      <a:pt x="477" y="757"/>
                    </a:lnTo>
                    <a:lnTo>
                      <a:pt x="481" y="748"/>
                    </a:lnTo>
                    <a:lnTo>
                      <a:pt x="481" y="738"/>
                    </a:lnTo>
                    <a:lnTo>
                      <a:pt x="477" y="726"/>
                    </a:lnTo>
                    <a:lnTo>
                      <a:pt x="481" y="709"/>
                    </a:lnTo>
                    <a:lnTo>
                      <a:pt x="485" y="685"/>
                    </a:lnTo>
                    <a:lnTo>
                      <a:pt x="491" y="662"/>
                    </a:lnTo>
                    <a:lnTo>
                      <a:pt x="499" y="637"/>
                    </a:lnTo>
                    <a:lnTo>
                      <a:pt x="485" y="655"/>
                    </a:lnTo>
                    <a:lnTo>
                      <a:pt x="467" y="674"/>
                    </a:lnTo>
                    <a:lnTo>
                      <a:pt x="452" y="688"/>
                    </a:lnTo>
                    <a:lnTo>
                      <a:pt x="435" y="704"/>
                    </a:lnTo>
                    <a:lnTo>
                      <a:pt x="421" y="716"/>
                    </a:lnTo>
                    <a:lnTo>
                      <a:pt x="403" y="730"/>
                    </a:lnTo>
                    <a:lnTo>
                      <a:pt x="385" y="743"/>
                    </a:lnTo>
                    <a:lnTo>
                      <a:pt x="364" y="756"/>
                    </a:lnTo>
                    <a:lnTo>
                      <a:pt x="344" y="767"/>
                    </a:lnTo>
                    <a:lnTo>
                      <a:pt x="326" y="773"/>
                    </a:lnTo>
                    <a:lnTo>
                      <a:pt x="308" y="782"/>
                    </a:lnTo>
                    <a:lnTo>
                      <a:pt x="291" y="787"/>
                    </a:lnTo>
                    <a:lnTo>
                      <a:pt x="275" y="849"/>
                    </a:lnTo>
                    <a:lnTo>
                      <a:pt x="274" y="866"/>
                    </a:lnTo>
                    <a:lnTo>
                      <a:pt x="271" y="884"/>
                    </a:lnTo>
                    <a:lnTo>
                      <a:pt x="269" y="898"/>
                    </a:lnTo>
                    <a:lnTo>
                      <a:pt x="265" y="913"/>
                    </a:lnTo>
                    <a:lnTo>
                      <a:pt x="259" y="928"/>
                    </a:lnTo>
                    <a:lnTo>
                      <a:pt x="251" y="944"/>
                    </a:lnTo>
                    <a:lnTo>
                      <a:pt x="244" y="956"/>
                    </a:lnTo>
                    <a:lnTo>
                      <a:pt x="234" y="966"/>
                    </a:lnTo>
                    <a:lnTo>
                      <a:pt x="232" y="976"/>
                    </a:lnTo>
                    <a:lnTo>
                      <a:pt x="225" y="988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7" y="1010"/>
                    </a:lnTo>
                    <a:lnTo>
                      <a:pt x="157" y="1010"/>
                    </a:lnTo>
                    <a:lnTo>
                      <a:pt x="137" y="1006"/>
                    </a:lnTo>
                    <a:lnTo>
                      <a:pt x="123" y="1000"/>
                    </a:lnTo>
                    <a:lnTo>
                      <a:pt x="111" y="991"/>
                    </a:lnTo>
                    <a:lnTo>
                      <a:pt x="103" y="983"/>
                    </a:lnTo>
                    <a:lnTo>
                      <a:pt x="94" y="980"/>
                    </a:lnTo>
                    <a:lnTo>
                      <a:pt x="83" y="964"/>
                    </a:lnTo>
                    <a:lnTo>
                      <a:pt x="77" y="944"/>
                    </a:lnTo>
                    <a:lnTo>
                      <a:pt x="71" y="927"/>
                    </a:lnTo>
                    <a:lnTo>
                      <a:pt x="68" y="906"/>
                    </a:lnTo>
                    <a:lnTo>
                      <a:pt x="68" y="886"/>
                    </a:lnTo>
                    <a:lnTo>
                      <a:pt x="64" y="851"/>
                    </a:lnTo>
                    <a:lnTo>
                      <a:pt x="75" y="831"/>
                    </a:lnTo>
                    <a:lnTo>
                      <a:pt x="79" y="806"/>
                    </a:lnTo>
                    <a:lnTo>
                      <a:pt x="87" y="795"/>
                    </a:lnTo>
                    <a:lnTo>
                      <a:pt x="84" y="782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70" y="737"/>
                    </a:lnTo>
                    <a:lnTo>
                      <a:pt x="81" y="704"/>
                    </a:lnTo>
                    <a:lnTo>
                      <a:pt x="73" y="705"/>
                    </a:lnTo>
                    <a:lnTo>
                      <a:pt x="64" y="703"/>
                    </a:lnTo>
                    <a:lnTo>
                      <a:pt x="59" y="700"/>
                    </a:lnTo>
                    <a:lnTo>
                      <a:pt x="56" y="694"/>
                    </a:lnTo>
                    <a:lnTo>
                      <a:pt x="54" y="688"/>
                    </a:lnTo>
                    <a:lnTo>
                      <a:pt x="48" y="689"/>
                    </a:lnTo>
                    <a:lnTo>
                      <a:pt x="39" y="688"/>
                    </a:lnTo>
                    <a:lnTo>
                      <a:pt x="33" y="684"/>
                    </a:lnTo>
                    <a:lnTo>
                      <a:pt x="27" y="679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3" y="653"/>
                    </a:lnTo>
                    <a:lnTo>
                      <a:pt x="8" y="649"/>
                    </a:lnTo>
                    <a:lnTo>
                      <a:pt x="2" y="597"/>
                    </a:lnTo>
                    <a:lnTo>
                      <a:pt x="7" y="596"/>
                    </a:lnTo>
                    <a:lnTo>
                      <a:pt x="7" y="574"/>
                    </a:lnTo>
                    <a:lnTo>
                      <a:pt x="0" y="572"/>
                    </a:lnTo>
                    <a:lnTo>
                      <a:pt x="2" y="559"/>
                    </a:lnTo>
                    <a:lnTo>
                      <a:pt x="6" y="549"/>
                    </a:lnTo>
                    <a:lnTo>
                      <a:pt x="7" y="541"/>
                    </a:lnTo>
                    <a:lnTo>
                      <a:pt x="11" y="537"/>
                    </a:lnTo>
                    <a:lnTo>
                      <a:pt x="13" y="528"/>
                    </a:lnTo>
                    <a:lnTo>
                      <a:pt x="15" y="521"/>
                    </a:lnTo>
                    <a:lnTo>
                      <a:pt x="17" y="517"/>
                    </a:lnTo>
                    <a:lnTo>
                      <a:pt x="32" y="513"/>
                    </a:lnTo>
                    <a:lnTo>
                      <a:pt x="27" y="502"/>
                    </a:lnTo>
                    <a:lnTo>
                      <a:pt x="31" y="485"/>
                    </a:lnTo>
                    <a:lnTo>
                      <a:pt x="32" y="481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6" y="487"/>
                    </a:lnTo>
                    <a:lnTo>
                      <a:pt x="68" y="494"/>
                    </a:lnTo>
                    <a:lnTo>
                      <a:pt x="68" y="502"/>
                    </a:lnTo>
                    <a:lnTo>
                      <a:pt x="66" y="508"/>
                    </a:lnTo>
                    <a:lnTo>
                      <a:pt x="63" y="510"/>
                    </a:lnTo>
                    <a:lnTo>
                      <a:pt x="68" y="513"/>
                    </a:lnTo>
                    <a:lnTo>
                      <a:pt x="73" y="513"/>
                    </a:lnTo>
                    <a:lnTo>
                      <a:pt x="77" y="510"/>
                    </a:lnTo>
                    <a:lnTo>
                      <a:pt x="79" y="507"/>
                    </a:lnTo>
                    <a:lnTo>
                      <a:pt x="78" y="500"/>
                    </a:lnTo>
                    <a:lnTo>
                      <a:pt x="68" y="502"/>
                    </a:lnTo>
                    <a:lnTo>
                      <a:pt x="68" y="494"/>
                    </a:lnTo>
                    <a:lnTo>
                      <a:pt x="80" y="493"/>
                    </a:lnTo>
                    <a:lnTo>
                      <a:pt x="84" y="494"/>
                    </a:lnTo>
                    <a:lnTo>
                      <a:pt x="89" y="496"/>
                    </a:lnTo>
                    <a:lnTo>
                      <a:pt x="92" y="498"/>
                    </a:lnTo>
                    <a:lnTo>
                      <a:pt x="90" y="482"/>
                    </a:lnTo>
                    <a:lnTo>
                      <a:pt x="85" y="467"/>
                    </a:lnTo>
                    <a:lnTo>
                      <a:pt x="109" y="367"/>
                    </a:lnTo>
                    <a:lnTo>
                      <a:pt x="115" y="349"/>
                    </a:lnTo>
                    <a:lnTo>
                      <a:pt x="120" y="337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9" y="287"/>
                    </a:lnTo>
                    <a:lnTo>
                      <a:pt x="120" y="273"/>
                    </a:lnTo>
                    <a:lnTo>
                      <a:pt x="125" y="255"/>
                    </a:lnTo>
                    <a:lnTo>
                      <a:pt x="137" y="234"/>
                    </a:lnTo>
                    <a:lnTo>
                      <a:pt x="148" y="218"/>
                    </a:lnTo>
                    <a:lnTo>
                      <a:pt x="166" y="202"/>
                    </a:lnTo>
                    <a:lnTo>
                      <a:pt x="183" y="191"/>
                    </a:lnTo>
                    <a:lnTo>
                      <a:pt x="193" y="181"/>
                    </a:lnTo>
                    <a:lnTo>
                      <a:pt x="204" y="175"/>
                    </a:lnTo>
                    <a:lnTo>
                      <a:pt x="214" y="171"/>
                    </a:lnTo>
                    <a:lnTo>
                      <a:pt x="225" y="171"/>
                    </a:lnTo>
                    <a:lnTo>
                      <a:pt x="237" y="175"/>
                    </a:lnTo>
                    <a:lnTo>
                      <a:pt x="264" y="169"/>
                    </a:lnTo>
                    <a:lnTo>
                      <a:pt x="266" y="160"/>
                    </a:lnTo>
                    <a:lnTo>
                      <a:pt x="261" y="144"/>
                    </a:lnTo>
                    <a:lnTo>
                      <a:pt x="265" y="142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89"/>
                    </a:lnTo>
                    <a:lnTo>
                      <a:pt x="265" y="72"/>
                    </a:lnTo>
                    <a:lnTo>
                      <a:pt x="271" y="52"/>
                    </a:lnTo>
                    <a:lnTo>
                      <a:pt x="281" y="37"/>
                    </a:lnTo>
                    <a:lnTo>
                      <a:pt x="291" y="27"/>
                    </a:lnTo>
                    <a:lnTo>
                      <a:pt x="316" y="15"/>
                    </a:lnTo>
                    <a:lnTo>
                      <a:pt x="334" y="7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87" y="0"/>
                    </a:lnTo>
                    <a:lnTo>
                      <a:pt x="403" y="2"/>
                    </a:lnTo>
                    <a:lnTo>
                      <a:pt x="414" y="6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6"/>
                    </a:lnTo>
                    <a:lnTo>
                      <a:pt x="457" y="62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2" y="108"/>
                    </a:lnTo>
                    <a:lnTo>
                      <a:pt x="481" y="114"/>
                    </a:lnTo>
                    <a:lnTo>
                      <a:pt x="473" y="119"/>
                    </a:lnTo>
                    <a:lnTo>
                      <a:pt x="454" y="125"/>
                    </a:lnTo>
                    <a:lnTo>
                      <a:pt x="456" y="142"/>
                    </a:lnTo>
                    <a:lnTo>
                      <a:pt x="457" y="159"/>
                    </a:lnTo>
                    <a:lnTo>
                      <a:pt x="457" y="170"/>
                    </a:lnTo>
                    <a:lnTo>
                      <a:pt x="467" y="171"/>
                    </a:lnTo>
                    <a:lnTo>
                      <a:pt x="478" y="193"/>
                    </a:lnTo>
                    <a:lnTo>
                      <a:pt x="569" y="289"/>
                    </a:lnTo>
                    <a:lnTo>
                      <a:pt x="573" y="295"/>
                    </a:lnTo>
                    <a:lnTo>
                      <a:pt x="574" y="302"/>
                    </a:lnTo>
                    <a:lnTo>
                      <a:pt x="573" y="308"/>
                    </a:lnTo>
                    <a:lnTo>
                      <a:pt x="569" y="312"/>
                    </a:lnTo>
                    <a:lnTo>
                      <a:pt x="564" y="313"/>
                    </a:lnTo>
                    <a:lnTo>
                      <a:pt x="564" y="321"/>
                    </a:lnTo>
                    <a:lnTo>
                      <a:pt x="561" y="327"/>
                    </a:lnTo>
                    <a:lnTo>
                      <a:pt x="558" y="331"/>
                    </a:lnTo>
                    <a:lnTo>
                      <a:pt x="561" y="335"/>
                    </a:lnTo>
                    <a:lnTo>
                      <a:pt x="564" y="341"/>
                    </a:lnTo>
                    <a:lnTo>
                      <a:pt x="570" y="348"/>
                    </a:lnTo>
                    <a:lnTo>
                      <a:pt x="580" y="354"/>
                    </a:lnTo>
                    <a:lnTo>
                      <a:pt x="587" y="359"/>
                    </a:lnTo>
                    <a:lnTo>
                      <a:pt x="596" y="367"/>
                    </a:lnTo>
                    <a:lnTo>
                      <a:pt x="603" y="372"/>
                    </a:lnTo>
                    <a:lnTo>
                      <a:pt x="625" y="365"/>
                    </a:lnTo>
                    <a:lnTo>
                      <a:pt x="637" y="363"/>
                    </a:lnTo>
                    <a:lnTo>
                      <a:pt x="648" y="359"/>
                    </a:lnTo>
                    <a:lnTo>
                      <a:pt x="657" y="357"/>
                    </a:lnTo>
                    <a:lnTo>
                      <a:pt x="689" y="335"/>
                    </a:lnTo>
                    <a:lnTo>
                      <a:pt x="731" y="289"/>
                    </a:lnTo>
                    <a:lnTo>
                      <a:pt x="736" y="290"/>
                    </a:lnTo>
                    <a:lnTo>
                      <a:pt x="760" y="264"/>
                    </a:lnTo>
                    <a:lnTo>
                      <a:pt x="761" y="258"/>
                    </a:lnTo>
                    <a:lnTo>
                      <a:pt x="766" y="250"/>
                    </a:lnTo>
                    <a:lnTo>
                      <a:pt x="772" y="243"/>
                    </a:lnTo>
                    <a:lnTo>
                      <a:pt x="865" y="240"/>
                    </a:lnTo>
                    <a:lnTo>
                      <a:pt x="803" y="275"/>
                    </a:lnTo>
                    <a:lnTo>
                      <a:pt x="792" y="289"/>
                    </a:lnTo>
                    <a:lnTo>
                      <a:pt x="773" y="319"/>
                    </a:lnTo>
                    <a:lnTo>
                      <a:pt x="776" y="327"/>
                    </a:lnTo>
                    <a:lnTo>
                      <a:pt x="729" y="408"/>
                    </a:lnTo>
                    <a:lnTo>
                      <a:pt x="714" y="450"/>
                    </a:lnTo>
                    <a:lnTo>
                      <a:pt x="695" y="463"/>
                    </a:lnTo>
                    <a:lnTo>
                      <a:pt x="678" y="476"/>
                    </a:lnTo>
                    <a:lnTo>
                      <a:pt x="653" y="487"/>
                    </a:lnTo>
                    <a:lnTo>
                      <a:pt x="638" y="489"/>
                    </a:lnTo>
                    <a:lnTo>
                      <a:pt x="624" y="4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810400" y="4282200"/>
                <a:ext cx="288000" cy="81720"/>
              </a:xfrm>
              <a:custGeom>
                <a:avLst/>
                <a:gdLst/>
                <a:ahLst/>
                <a:rect l="l" t="t" r="r" b="b"/>
                <a:pathLst>
                  <a:path w="682" h="193">
                    <a:moveTo>
                      <a:pt x="479" y="93"/>
                    </a:moveTo>
                    <a:lnTo>
                      <a:pt x="469" y="89"/>
                    </a:lnTo>
                    <a:lnTo>
                      <a:pt x="399" y="91"/>
                    </a:lnTo>
                    <a:lnTo>
                      <a:pt x="395" y="95"/>
                    </a:lnTo>
                    <a:lnTo>
                      <a:pt x="471" y="99"/>
                    </a:lnTo>
                    <a:lnTo>
                      <a:pt x="466" y="101"/>
                    </a:lnTo>
                    <a:lnTo>
                      <a:pt x="387" y="101"/>
                    </a:lnTo>
                    <a:lnTo>
                      <a:pt x="294" y="104"/>
                    </a:lnTo>
                    <a:lnTo>
                      <a:pt x="271" y="104"/>
                    </a:lnTo>
                    <a:lnTo>
                      <a:pt x="193" y="135"/>
                    </a:lnTo>
                    <a:lnTo>
                      <a:pt x="193" y="182"/>
                    </a:lnTo>
                    <a:lnTo>
                      <a:pt x="140" y="193"/>
                    </a:lnTo>
                    <a:lnTo>
                      <a:pt x="140" y="150"/>
                    </a:lnTo>
                    <a:lnTo>
                      <a:pt x="136" y="137"/>
                    </a:lnTo>
                    <a:lnTo>
                      <a:pt x="136" y="127"/>
                    </a:lnTo>
                    <a:lnTo>
                      <a:pt x="135" y="123"/>
                    </a:lnTo>
                    <a:lnTo>
                      <a:pt x="131" y="121"/>
                    </a:lnTo>
                    <a:lnTo>
                      <a:pt x="129" y="120"/>
                    </a:lnTo>
                    <a:lnTo>
                      <a:pt x="126" y="120"/>
                    </a:lnTo>
                    <a:lnTo>
                      <a:pt x="107" y="117"/>
                    </a:lnTo>
                    <a:lnTo>
                      <a:pt x="114" y="128"/>
                    </a:lnTo>
                    <a:lnTo>
                      <a:pt x="115" y="133"/>
                    </a:lnTo>
                    <a:lnTo>
                      <a:pt x="115" y="137"/>
                    </a:lnTo>
                    <a:lnTo>
                      <a:pt x="113" y="141"/>
                    </a:lnTo>
                    <a:lnTo>
                      <a:pt x="108" y="143"/>
                    </a:lnTo>
                    <a:lnTo>
                      <a:pt x="130" y="143"/>
                    </a:lnTo>
                    <a:lnTo>
                      <a:pt x="134" y="143"/>
                    </a:lnTo>
                    <a:lnTo>
                      <a:pt x="135" y="141"/>
                    </a:lnTo>
                    <a:lnTo>
                      <a:pt x="136" y="137"/>
                    </a:lnTo>
                    <a:lnTo>
                      <a:pt x="140" y="150"/>
                    </a:lnTo>
                    <a:lnTo>
                      <a:pt x="90" y="150"/>
                    </a:lnTo>
                    <a:lnTo>
                      <a:pt x="0" y="54"/>
                    </a:lnTo>
                    <a:lnTo>
                      <a:pt x="35" y="54"/>
                    </a:lnTo>
                    <a:lnTo>
                      <a:pt x="35" y="43"/>
                    </a:lnTo>
                    <a:lnTo>
                      <a:pt x="47" y="43"/>
                    </a:lnTo>
                    <a:lnTo>
                      <a:pt x="53" y="19"/>
                    </a:lnTo>
                    <a:lnTo>
                      <a:pt x="57" y="19"/>
                    </a:lnTo>
                    <a:lnTo>
                      <a:pt x="59" y="10"/>
                    </a:lnTo>
                    <a:lnTo>
                      <a:pt x="64" y="4"/>
                    </a:lnTo>
                    <a:lnTo>
                      <a:pt x="73" y="3"/>
                    </a:lnTo>
                    <a:lnTo>
                      <a:pt x="196" y="13"/>
                    </a:lnTo>
                    <a:lnTo>
                      <a:pt x="202" y="17"/>
                    </a:lnTo>
                    <a:lnTo>
                      <a:pt x="207" y="21"/>
                    </a:lnTo>
                    <a:lnTo>
                      <a:pt x="209" y="26"/>
                    </a:lnTo>
                    <a:lnTo>
                      <a:pt x="209" y="32"/>
                    </a:lnTo>
                    <a:lnTo>
                      <a:pt x="208" y="38"/>
                    </a:lnTo>
                    <a:lnTo>
                      <a:pt x="207" y="40"/>
                    </a:lnTo>
                    <a:lnTo>
                      <a:pt x="199" y="40"/>
                    </a:lnTo>
                    <a:lnTo>
                      <a:pt x="201" y="37"/>
                    </a:lnTo>
                    <a:lnTo>
                      <a:pt x="203" y="31"/>
                    </a:lnTo>
                    <a:lnTo>
                      <a:pt x="203" y="26"/>
                    </a:lnTo>
                    <a:lnTo>
                      <a:pt x="199" y="22"/>
                    </a:lnTo>
                    <a:lnTo>
                      <a:pt x="193" y="19"/>
                    </a:lnTo>
                    <a:lnTo>
                      <a:pt x="100" y="19"/>
                    </a:lnTo>
                    <a:lnTo>
                      <a:pt x="97" y="24"/>
                    </a:lnTo>
                    <a:lnTo>
                      <a:pt x="94" y="29"/>
                    </a:lnTo>
                    <a:lnTo>
                      <a:pt x="93" y="34"/>
                    </a:lnTo>
                    <a:lnTo>
                      <a:pt x="93" y="39"/>
                    </a:lnTo>
                    <a:lnTo>
                      <a:pt x="94" y="42"/>
                    </a:lnTo>
                    <a:lnTo>
                      <a:pt x="98" y="43"/>
                    </a:lnTo>
                    <a:lnTo>
                      <a:pt x="193" y="43"/>
                    </a:lnTo>
                    <a:lnTo>
                      <a:pt x="199" y="40"/>
                    </a:lnTo>
                    <a:lnTo>
                      <a:pt x="207" y="40"/>
                    </a:lnTo>
                    <a:lnTo>
                      <a:pt x="483" y="40"/>
                    </a:lnTo>
                    <a:lnTo>
                      <a:pt x="490" y="42"/>
                    </a:lnTo>
                    <a:lnTo>
                      <a:pt x="491" y="43"/>
                    </a:lnTo>
                    <a:lnTo>
                      <a:pt x="521" y="43"/>
                    </a:lnTo>
                    <a:lnTo>
                      <a:pt x="520" y="29"/>
                    </a:lnTo>
                    <a:lnTo>
                      <a:pt x="516" y="29"/>
                    </a:lnTo>
                    <a:lnTo>
                      <a:pt x="516" y="16"/>
                    </a:lnTo>
                    <a:lnTo>
                      <a:pt x="507" y="16"/>
                    </a:lnTo>
                    <a:lnTo>
                      <a:pt x="488" y="39"/>
                    </a:lnTo>
                    <a:lnTo>
                      <a:pt x="488" y="42"/>
                    </a:lnTo>
                    <a:lnTo>
                      <a:pt x="490" y="42"/>
                    </a:lnTo>
                    <a:lnTo>
                      <a:pt x="483" y="40"/>
                    </a:lnTo>
                    <a:lnTo>
                      <a:pt x="511" y="2"/>
                    </a:lnTo>
                    <a:lnTo>
                      <a:pt x="516" y="0"/>
                    </a:lnTo>
                    <a:lnTo>
                      <a:pt x="521" y="2"/>
                    </a:lnTo>
                    <a:lnTo>
                      <a:pt x="526" y="6"/>
                    </a:lnTo>
                    <a:lnTo>
                      <a:pt x="528" y="52"/>
                    </a:lnTo>
                    <a:lnTo>
                      <a:pt x="603" y="52"/>
                    </a:lnTo>
                    <a:lnTo>
                      <a:pt x="610" y="48"/>
                    </a:lnTo>
                    <a:lnTo>
                      <a:pt x="663" y="47"/>
                    </a:lnTo>
                    <a:lnTo>
                      <a:pt x="668" y="39"/>
                    </a:lnTo>
                    <a:lnTo>
                      <a:pt x="678" y="39"/>
                    </a:lnTo>
                    <a:lnTo>
                      <a:pt x="678" y="47"/>
                    </a:lnTo>
                    <a:lnTo>
                      <a:pt x="682" y="47"/>
                    </a:lnTo>
                    <a:lnTo>
                      <a:pt x="682" y="69"/>
                    </a:lnTo>
                    <a:lnTo>
                      <a:pt x="667" y="69"/>
                    </a:lnTo>
                    <a:lnTo>
                      <a:pt x="661" y="65"/>
                    </a:lnTo>
                    <a:lnTo>
                      <a:pt x="528" y="65"/>
                    </a:lnTo>
                    <a:lnTo>
                      <a:pt x="528" y="71"/>
                    </a:lnTo>
                    <a:lnTo>
                      <a:pt x="516" y="71"/>
                    </a:lnTo>
                    <a:lnTo>
                      <a:pt x="516" y="69"/>
                    </a:lnTo>
                    <a:lnTo>
                      <a:pt x="493" y="69"/>
                    </a:lnTo>
                    <a:lnTo>
                      <a:pt x="493" y="81"/>
                    </a:lnTo>
                    <a:lnTo>
                      <a:pt x="486" y="81"/>
                    </a:lnTo>
                    <a:lnTo>
                      <a:pt x="479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062760" y="3411000"/>
                <a:ext cx="273960" cy="321840"/>
              </a:xfrm>
              <a:custGeom>
                <a:avLst/>
                <a:gdLst/>
                <a:ahLst/>
                <a:rect l="l" t="t" r="r" b="b"/>
                <a:pathLst>
                  <a:path w="647" h="766">
                    <a:moveTo>
                      <a:pt x="131" y="0"/>
                    </a:moveTo>
                    <a:lnTo>
                      <a:pt x="166" y="26"/>
                    </a:lnTo>
                    <a:lnTo>
                      <a:pt x="200" y="54"/>
                    </a:lnTo>
                    <a:lnTo>
                      <a:pt x="234" y="81"/>
                    </a:lnTo>
                    <a:lnTo>
                      <a:pt x="266" y="109"/>
                    </a:lnTo>
                    <a:lnTo>
                      <a:pt x="298" y="139"/>
                    </a:lnTo>
                    <a:lnTo>
                      <a:pt x="329" y="169"/>
                    </a:lnTo>
                    <a:lnTo>
                      <a:pt x="359" y="200"/>
                    </a:lnTo>
                    <a:lnTo>
                      <a:pt x="389" y="231"/>
                    </a:lnTo>
                    <a:lnTo>
                      <a:pt x="417" y="264"/>
                    </a:lnTo>
                    <a:lnTo>
                      <a:pt x="445" y="296"/>
                    </a:lnTo>
                    <a:lnTo>
                      <a:pt x="472" y="330"/>
                    </a:lnTo>
                    <a:lnTo>
                      <a:pt x="498" y="363"/>
                    </a:lnTo>
                    <a:lnTo>
                      <a:pt x="523" y="399"/>
                    </a:lnTo>
                    <a:lnTo>
                      <a:pt x="548" y="434"/>
                    </a:lnTo>
                    <a:lnTo>
                      <a:pt x="571" y="471"/>
                    </a:lnTo>
                    <a:lnTo>
                      <a:pt x="594" y="507"/>
                    </a:lnTo>
                    <a:lnTo>
                      <a:pt x="589" y="525"/>
                    </a:lnTo>
                    <a:lnTo>
                      <a:pt x="580" y="532"/>
                    </a:lnTo>
                    <a:lnTo>
                      <a:pt x="569" y="539"/>
                    </a:lnTo>
                    <a:lnTo>
                      <a:pt x="561" y="577"/>
                    </a:lnTo>
                    <a:lnTo>
                      <a:pt x="561" y="583"/>
                    </a:lnTo>
                    <a:lnTo>
                      <a:pt x="565" y="589"/>
                    </a:lnTo>
                    <a:lnTo>
                      <a:pt x="565" y="596"/>
                    </a:lnTo>
                    <a:lnTo>
                      <a:pt x="560" y="604"/>
                    </a:lnTo>
                    <a:lnTo>
                      <a:pt x="568" y="610"/>
                    </a:lnTo>
                    <a:lnTo>
                      <a:pt x="572" y="618"/>
                    </a:lnTo>
                    <a:lnTo>
                      <a:pt x="576" y="627"/>
                    </a:lnTo>
                    <a:lnTo>
                      <a:pt x="585" y="630"/>
                    </a:lnTo>
                    <a:lnTo>
                      <a:pt x="589" y="635"/>
                    </a:lnTo>
                    <a:lnTo>
                      <a:pt x="592" y="641"/>
                    </a:lnTo>
                    <a:lnTo>
                      <a:pt x="596" y="647"/>
                    </a:lnTo>
                    <a:lnTo>
                      <a:pt x="601" y="654"/>
                    </a:lnTo>
                    <a:lnTo>
                      <a:pt x="623" y="666"/>
                    </a:lnTo>
                    <a:lnTo>
                      <a:pt x="637" y="672"/>
                    </a:lnTo>
                    <a:lnTo>
                      <a:pt x="644" y="678"/>
                    </a:lnTo>
                    <a:lnTo>
                      <a:pt x="647" y="685"/>
                    </a:lnTo>
                    <a:lnTo>
                      <a:pt x="647" y="697"/>
                    </a:lnTo>
                    <a:lnTo>
                      <a:pt x="635" y="699"/>
                    </a:lnTo>
                    <a:lnTo>
                      <a:pt x="618" y="702"/>
                    </a:lnTo>
                    <a:lnTo>
                      <a:pt x="593" y="701"/>
                    </a:lnTo>
                    <a:lnTo>
                      <a:pt x="571" y="697"/>
                    </a:lnTo>
                    <a:lnTo>
                      <a:pt x="546" y="688"/>
                    </a:lnTo>
                    <a:lnTo>
                      <a:pt x="528" y="679"/>
                    </a:lnTo>
                    <a:lnTo>
                      <a:pt x="514" y="670"/>
                    </a:lnTo>
                    <a:lnTo>
                      <a:pt x="499" y="668"/>
                    </a:lnTo>
                    <a:lnTo>
                      <a:pt x="487" y="667"/>
                    </a:lnTo>
                    <a:lnTo>
                      <a:pt x="476" y="664"/>
                    </a:lnTo>
                    <a:lnTo>
                      <a:pt x="465" y="659"/>
                    </a:lnTo>
                    <a:lnTo>
                      <a:pt x="462" y="646"/>
                    </a:lnTo>
                    <a:lnTo>
                      <a:pt x="463" y="636"/>
                    </a:lnTo>
                    <a:lnTo>
                      <a:pt x="465" y="625"/>
                    </a:lnTo>
                    <a:lnTo>
                      <a:pt x="467" y="616"/>
                    </a:lnTo>
                    <a:lnTo>
                      <a:pt x="472" y="607"/>
                    </a:lnTo>
                    <a:lnTo>
                      <a:pt x="476" y="598"/>
                    </a:lnTo>
                    <a:lnTo>
                      <a:pt x="481" y="589"/>
                    </a:lnTo>
                    <a:lnTo>
                      <a:pt x="481" y="580"/>
                    </a:lnTo>
                    <a:lnTo>
                      <a:pt x="481" y="570"/>
                    </a:lnTo>
                    <a:lnTo>
                      <a:pt x="483" y="564"/>
                    </a:lnTo>
                    <a:lnTo>
                      <a:pt x="487" y="558"/>
                    </a:lnTo>
                    <a:lnTo>
                      <a:pt x="487" y="526"/>
                    </a:lnTo>
                    <a:lnTo>
                      <a:pt x="476" y="521"/>
                    </a:lnTo>
                    <a:lnTo>
                      <a:pt x="477" y="513"/>
                    </a:lnTo>
                    <a:lnTo>
                      <a:pt x="480" y="505"/>
                    </a:lnTo>
                    <a:lnTo>
                      <a:pt x="480" y="495"/>
                    </a:lnTo>
                    <a:lnTo>
                      <a:pt x="477" y="483"/>
                    </a:lnTo>
                    <a:lnTo>
                      <a:pt x="480" y="465"/>
                    </a:lnTo>
                    <a:lnTo>
                      <a:pt x="483" y="442"/>
                    </a:lnTo>
                    <a:lnTo>
                      <a:pt x="491" y="418"/>
                    </a:lnTo>
                    <a:lnTo>
                      <a:pt x="499" y="393"/>
                    </a:lnTo>
                    <a:lnTo>
                      <a:pt x="483" y="412"/>
                    </a:lnTo>
                    <a:lnTo>
                      <a:pt x="466" y="430"/>
                    </a:lnTo>
                    <a:lnTo>
                      <a:pt x="452" y="444"/>
                    </a:lnTo>
                    <a:lnTo>
                      <a:pt x="435" y="460"/>
                    </a:lnTo>
                    <a:lnTo>
                      <a:pt x="420" y="472"/>
                    </a:lnTo>
                    <a:lnTo>
                      <a:pt x="402" y="487"/>
                    </a:lnTo>
                    <a:lnTo>
                      <a:pt x="385" y="500"/>
                    </a:lnTo>
                    <a:lnTo>
                      <a:pt x="364" y="512"/>
                    </a:lnTo>
                    <a:lnTo>
                      <a:pt x="344" y="523"/>
                    </a:lnTo>
                    <a:lnTo>
                      <a:pt x="326" y="531"/>
                    </a:lnTo>
                    <a:lnTo>
                      <a:pt x="307" y="538"/>
                    </a:lnTo>
                    <a:lnTo>
                      <a:pt x="290" y="543"/>
                    </a:lnTo>
                    <a:lnTo>
                      <a:pt x="275" y="605"/>
                    </a:lnTo>
                    <a:lnTo>
                      <a:pt x="274" y="623"/>
                    </a:lnTo>
                    <a:lnTo>
                      <a:pt x="270" y="641"/>
                    </a:lnTo>
                    <a:lnTo>
                      <a:pt x="268" y="656"/>
                    </a:lnTo>
                    <a:lnTo>
                      <a:pt x="264" y="670"/>
                    </a:lnTo>
                    <a:lnTo>
                      <a:pt x="259" y="685"/>
                    </a:lnTo>
                    <a:lnTo>
                      <a:pt x="250" y="701"/>
                    </a:lnTo>
                    <a:lnTo>
                      <a:pt x="243" y="712"/>
                    </a:lnTo>
                    <a:lnTo>
                      <a:pt x="234" y="723"/>
                    </a:lnTo>
                    <a:lnTo>
                      <a:pt x="231" y="733"/>
                    </a:lnTo>
                    <a:lnTo>
                      <a:pt x="224" y="744"/>
                    </a:lnTo>
                    <a:lnTo>
                      <a:pt x="214" y="753"/>
                    </a:lnTo>
                    <a:lnTo>
                      <a:pt x="198" y="761"/>
                    </a:lnTo>
                    <a:lnTo>
                      <a:pt x="176" y="766"/>
                    </a:lnTo>
                    <a:lnTo>
                      <a:pt x="156" y="766"/>
                    </a:lnTo>
                    <a:lnTo>
                      <a:pt x="136" y="763"/>
                    </a:lnTo>
                    <a:lnTo>
                      <a:pt x="122" y="756"/>
                    </a:lnTo>
                    <a:lnTo>
                      <a:pt x="110" y="748"/>
                    </a:lnTo>
                    <a:lnTo>
                      <a:pt x="102" y="740"/>
                    </a:lnTo>
                    <a:lnTo>
                      <a:pt x="92" y="737"/>
                    </a:lnTo>
                    <a:lnTo>
                      <a:pt x="83" y="720"/>
                    </a:lnTo>
                    <a:lnTo>
                      <a:pt x="75" y="701"/>
                    </a:lnTo>
                    <a:lnTo>
                      <a:pt x="70" y="683"/>
                    </a:lnTo>
                    <a:lnTo>
                      <a:pt x="66" y="662"/>
                    </a:lnTo>
                    <a:lnTo>
                      <a:pt x="66" y="643"/>
                    </a:lnTo>
                    <a:lnTo>
                      <a:pt x="64" y="608"/>
                    </a:lnTo>
                    <a:lnTo>
                      <a:pt x="74" y="588"/>
                    </a:lnTo>
                    <a:lnTo>
                      <a:pt x="79" y="563"/>
                    </a:lnTo>
                    <a:lnTo>
                      <a:pt x="86" y="553"/>
                    </a:lnTo>
                    <a:lnTo>
                      <a:pt x="84" y="538"/>
                    </a:lnTo>
                    <a:lnTo>
                      <a:pt x="81" y="525"/>
                    </a:lnTo>
                    <a:lnTo>
                      <a:pt x="59" y="508"/>
                    </a:lnTo>
                    <a:lnTo>
                      <a:pt x="69" y="493"/>
                    </a:lnTo>
                    <a:lnTo>
                      <a:pt x="81" y="460"/>
                    </a:lnTo>
                    <a:lnTo>
                      <a:pt x="72" y="461"/>
                    </a:lnTo>
                    <a:lnTo>
                      <a:pt x="64" y="459"/>
                    </a:lnTo>
                    <a:lnTo>
                      <a:pt x="59" y="457"/>
                    </a:lnTo>
                    <a:lnTo>
                      <a:pt x="54" y="450"/>
                    </a:lnTo>
                    <a:lnTo>
                      <a:pt x="53" y="444"/>
                    </a:lnTo>
                    <a:lnTo>
                      <a:pt x="47" y="445"/>
                    </a:lnTo>
                    <a:lnTo>
                      <a:pt x="39" y="444"/>
                    </a:lnTo>
                    <a:lnTo>
                      <a:pt x="32" y="440"/>
                    </a:lnTo>
                    <a:lnTo>
                      <a:pt x="25" y="435"/>
                    </a:lnTo>
                    <a:lnTo>
                      <a:pt x="21" y="427"/>
                    </a:lnTo>
                    <a:lnTo>
                      <a:pt x="16" y="418"/>
                    </a:lnTo>
                    <a:lnTo>
                      <a:pt x="13" y="409"/>
                    </a:lnTo>
                    <a:lnTo>
                      <a:pt x="7" y="407"/>
                    </a:lnTo>
                    <a:lnTo>
                      <a:pt x="1" y="354"/>
                    </a:lnTo>
                    <a:lnTo>
                      <a:pt x="6" y="352"/>
                    </a:lnTo>
                    <a:lnTo>
                      <a:pt x="6" y="330"/>
                    </a:lnTo>
                    <a:lnTo>
                      <a:pt x="0" y="329"/>
                    </a:lnTo>
                    <a:lnTo>
                      <a:pt x="1" y="315"/>
                    </a:lnTo>
                    <a:lnTo>
                      <a:pt x="5" y="305"/>
                    </a:lnTo>
                    <a:lnTo>
                      <a:pt x="6" y="298"/>
                    </a:lnTo>
                    <a:lnTo>
                      <a:pt x="10" y="293"/>
                    </a:lnTo>
                    <a:lnTo>
                      <a:pt x="13" y="284"/>
                    </a:lnTo>
                    <a:lnTo>
                      <a:pt x="14" y="278"/>
                    </a:lnTo>
                    <a:lnTo>
                      <a:pt x="17" y="273"/>
                    </a:lnTo>
                    <a:lnTo>
                      <a:pt x="31" y="269"/>
                    </a:lnTo>
                    <a:lnTo>
                      <a:pt x="25" y="258"/>
                    </a:lnTo>
                    <a:lnTo>
                      <a:pt x="30" y="242"/>
                    </a:lnTo>
                    <a:lnTo>
                      <a:pt x="31" y="237"/>
                    </a:lnTo>
                    <a:lnTo>
                      <a:pt x="32" y="235"/>
                    </a:lnTo>
                    <a:lnTo>
                      <a:pt x="37" y="235"/>
                    </a:lnTo>
                    <a:lnTo>
                      <a:pt x="37" y="230"/>
                    </a:lnTo>
                    <a:lnTo>
                      <a:pt x="59" y="230"/>
                    </a:lnTo>
                    <a:lnTo>
                      <a:pt x="59" y="235"/>
                    </a:lnTo>
                    <a:lnTo>
                      <a:pt x="62" y="235"/>
                    </a:lnTo>
                    <a:lnTo>
                      <a:pt x="64" y="237"/>
                    </a:lnTo>
                    <a:lnTo>
                      <a:pt x="65" y="243"/>
                    </a:lnTo>
                    <a:lnTo>
                      <a:pt x="66" y="251"/>
                    </a:lnTo>
                    <a:lnTo>
                      <a:pt x="66" y="258"/>
                    </a:lnTo>
                    <a:lnTo>
                      <a:pt x="65" y="264"/>
                    </a:lnTo>
                    <a:lnTo>
                      <a:pt x="63" y="267"/>
                    </a:lnTo>
                    <a:lnTo>
                      <a:pt x="66" y="269"/>
                    </a:lnTo>
                    <a:lnTo>
                      <a:pt x="72" y="269"/>
                    </a:lnTo>
                    <a:lnTo>
                      <a:pt x="75" y="267"/>
                    </a:lnTo>
                    <a:lnTo>
                      <a:pt x="79" y="263"/>
                    </a:lnTo>
                    <a:lnTo>
                      <a:pt x="78" y="257"/>
                    </a:lnTo>
                    <a:lnTo>
                      <a:pt x="66" y="258"/>
                    </a:lnTo>
                    <a:lnTo>
                      <a:pt x="66" y="251"/>
                    </a:lnTo>
                    <a:lnTo>
                      <a:pt x="80" y="249"/>
                    </a:lnTo>
                    <a:lnTo>
                      <a:pt x="84" y="251"/>
                    </a:lnTo>
                    <a:lnTo>
                      <a:pt x="88" y="252"/>
                    </a:lnTo>
                    <a:lnTo>
                      <a:pt x="91" y="255"/>
                    </a:lnTo>
                    <a:lnTo>
                      <a:pt x="89" y="239"/>
                    </a:lnTo>
                    <a:lnTo>
                      <a:pt x="85" y="224"/>
                    </a:lnTo>
                    <a:lnTo>
                      <a:pt x="108" y="123"/>
                    </a:lnTo>
                    <a:lnTo>
                      <a:pt x="114" y="106"/>
                    </a:lnTo>
                    <a:lnTo>
                      <a:pt x="119" y="95"/>
                    </a:lnTo>
                    <a:lnTo>
                      <a:pt x="127" y="84"/>
                    </a:lnTo>
                    <a:lnTo>
                      <a:pt x="121" y="60"/>
                    </a:lnTo>
                    <a:lnTo>
                      <a:pt x="117" y="44"/>
                    </a:lnTo>
                    <a:lnTo>
                      <a:pt x="119" y="29"/>
                    </a:lnTo>
                    <a:lnTo>
                      <a:pt x="124" y="13"/>
                    </a:lnTo>
                    <a:lnTo>
                      <a:pt x="131" y="0"/>
                    </a:lnTo>
                    <a:close/>
                    <a:moveTo>
                      <a:pt x="90" y="270"/>
                    </a:moveTo>
                    <a:lnTo>
                      <a:pt x="84" y="275"/>
                    </a:lnTo>
                    <a:lnTo>
                      <a:pt x="86" y="280"/>
                    </a:lnTo>
                    <a:lnTo>
                      <a:pt x="89" y="285"/>
                    </a:lnTo>
                    <a:lnTo>
                      <a:pt x="90" y="280"/>
                    </a:lnTo>
                    <a:lnTo>
                      <a:pt x="91" y="274"/>
                    </a:lnTo>
                    <a:lnTo>
                      <a:pt x="90" y="27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062760" y="3411000"/>
                <a:ext cx="273960" cy="321840"/>
              </a:xfrm>
              <a:custGeom>
                <a:avLst/>
                <a:gdLst/>
                <a:ahLst/>
                <a:rect l="l" t="t" r="r" b="b"/>
                <a:pathLst>
                  <a:path w="647" h="766">
                    <a:moveTo>
                      <a:pt x="594" y="507"/>
                    </a:moveTo>
                    <a:lnTo>
                      <a:pt x="589" y="525"/>
                    </a:lnTo>
                    <a:lnTo>
                      <a:pt x="580" y="532"/>
                    </a:lnTo>
                    <a:lnTo>
                      <a:pt x="569" y="539"/>
                    </a:lnTo>
                    <a:lnTo>
                      <a:pt x="561" y="577"/>
                    </a:lnTo>
                    <a:lnTo>
                      <a:pt x="561" y="583"/>
                    </a:lnTo>
                    <a:lnTo>
                      <a:pt x="565" y="589"/>
                    </a:lnTo>
                    <a:lnTo>
                      <a:pt x="565" y="596"/>
                    </a:lnTo>
                    <a:lnTo>
                      <a:pt x="560" y="604"/>
                    </a:lnTo>
                    <a:lnTo>
                      <a:pt x="568" y="610"/>
                    </a:lnTo>
                    <a:lnTo>
                      <a:pt x="572" y="618"/>
                    </a:lnTo>
                    <a:lnTo>
                      <a:pt x="576" y="627"/>
                    </a:lnTo>
                    <a:lnTo>
                      <a:pt x="585" y="630"/>
                    </a:lnTo>
                    <a:lnTo>
                      <a:pt x="589" y="635"/>
                    </a:lnTo>
                    <a:lnTo>
                      <a:pt x="592" y="641"/>
                    </a:lnTo>
                    <a:lnTo>
                      <a:pt x="596" y="647"/>
                    </a:lnTo>
                    <a:lnTo>
                      <a:pt x="601" y="654"/>
                    </a:lnTo>
                    <a:lnTo>
                      <a:pt x="623" y="666"/>
                    </a:lnTo>
                    <a:lnTo>
                      <a:pt x="637" y="672"/>
                    </a:lnTo>
                    <a:lnTo>
                      <a:pt x="644" y="678"/>
                    </a:lnTo>
                    <a:lnTo>
                      <a:pt x="647" y="685"/>
                    </a:lnTo>
                    <a:lnTo>
                      <a:pt x="647" y="697"/>
                    </a:lnTo>
                    <a:lnTo>
                      <a:pt x="635" y="699"/>
                    </a:lnTo>
                    <a:lnTo>
                      <a:pt x="618" y="702"/>
                    </a:lnTo>
                    <a:lnTo>
                      <a:pt x="593" y="701"/>
                    </a:lnTo>
                    <a:lnTo>
                      <a:pt x="571" y="697"/>
                    </a:lnTo>
                    <a:lnTo>
                      <a:pt x="546" y="688"/>
                    </a:lnTo>
                    <a:lnTo>
                      <a:pt x="528" y="679"/>
                    </a:lnTo>
                    <a:lnTo>
                      <a:pt x="514" y="670"/>
                    </a:lnTo>
                    <a:lnTo>
                      <a:pt x="499" y="668"/>
                    </a:lnTo>
                    <a:lnTo>
                      <a:pt x="487" y="667"/>
                    </a:lnTo>
                    <a:lnTo>
                      <a:pt x="476" y="664"/>
                    </a:lnTo>
                    <a:lnTo>
                      <a:pt x="465" y="659"/>
                    </a:lnTo>
                    <a:lnTo>
                      <a:pt x="462" y="646"/>
                    </a:lnTo>
                    <a:lnTo>
                      <a:pt x="463" y="636"/>
                    </a:lnTo>
                    <a:lnTo>
                      <a:pt x="465" y="625"/>
                    </a:lnTo>
                    <a:lnTo>
                      <a:pt x="467" y="616"/>
                    </a:lnTo>
                    <a:lnTo>
                      <a:pt x="472" y="607"/>
                    </a:lnTo>
                    <a:lnTo>
                      <a:pt x="476" y="598"/>
                    </a:lnTo>
                    <a:lnTo>
                      <a:pt x="481" y="589"/>
                    </a:lnTo>
                    <a:lnTo>
                      <a:pt x="481" y="580"/>
                    </a:lnTo>
                    <a:lnTo>
                      <a:pt x="481" y="570"/>
                    </a:lnTo>
                    <a:lnTo>
                      <a:pt x="483" y="564"/>
                    </a:lnTo>
                    <a:lnTo>
                      <a:pt x="487" y="558"/>
                    </a:lnTo>
                    <a:lnTo>
                      <a:pt x="487" y="526"/>
                    </a:lnTo>
                    <a:lnTo>
                      <a:pt x="476" y="521"/>
                    </a:lnTo>
                    <a:lnTo>
                      <a:pt x="477" y="513"/>
                    </a:lnTo>
                    <a:lnTo>
                      <a:pt x="480" y="505"/>
                    </a:lnTo>
                    <a:lnTo>
                      <a:pt x="480" y="495"/>
                    </a:lnTo>
                    <a:lnTo>
                      <a:pt x="477" y="483"/>
                    </a:lnTo>
                    <a:lnTo>
                      <a:pt x="480" y="465"/>
                    </a:lnTo>
                    <a:lnTo>
                      <a:pt x="483" y="442"/>
                    </a:lnTo>
                    <a:lnTo>
                      <a:pt x="491" y="418"/>
                    </a:lnTo>
                    <a:lnTo>
                      <a:pt x="499" y="393"/>
                    </a:lnTo>
                    <a:lnTo>
                      <a:pt x="483" y="412"/>
                    </a:lnTo>
                    <a:lnTo>
                      <a:pt x="466" y="430"/>
                    </a:lnTo>
                    <a:lnTo>
                      <a:pt x="452" y="444"/>
                    </a:lnTo>
                    <a:lnTo>
                      <a:pt x="435" y="460"/>
                    </a:lnTo>
                    <a:lnTo>
                      <a:pt x="420" y="472"/>
                    </a:lnTo>
                    <a:lnTo>
                      <a:pt x="402" y="487"/>
                    </a:lnTo>
                    <a:lnTo>
                      <a:pt x="385" y="500"/>
                    </a:lnTo>
                    <a:lnTo>
                      <a:pt x="364" y="512"/>
                    </a:lnTo>
                    <a:lnTo>
                      <a:pt x="344" y="523"/>
                    </a:lnTo>
                    <a:lnTo>
                      <a:pt x="326" y="531"/>
                    </a:lnTo>
                    <a:lnTo>
                      <a:pt x="307" y="538"/>
                    </a:lnTo>
                    <a:lnTo>
                      <a:pt x="290" y="543"/>
                    </a:lnTo>
                    <a:lnTo>
                      <a:pt x="275" y="605"/>
                    </a:lnTo>
                    <a:lnTo>
                      <a:pt x="274" y="623"/>
                    </a:lnTo>
                    <a:lnTo>
                      <a:pt x="270" y="641"/>
                    </a:lnTo>
                    <a:lnTo>
                      <a:pt x="268" y="656"/>
                    </a:lnTo>
                    <a:lnTo>
                      <a:pt x="264" y="670"/>
                    </a:lnTo>
                    <a:lnTo>
                      <a:pt x="259" y="685"/>
                    </a:lnTo>
                    <a:lnTo>
                      <a:pt x="250" y="701"/>
                    </a:lnTo>
                    <a:lnTo>
                      <a:pt x="243" y="712"/>
                    </a:lnTo>
                    <a:lnTo>
                      <a:pt x="234" y="723"/>
                    </a:lnTo>
                    <a:lnTo>
                      <a:pt x="231" y="733"/>
                    </a:lnTo>
                    <a:lnTo>
                      <a:pt x="224" y="744"/>
                    </a:lnTo>
                    <a:lnTo>
                      <a:pt x="214" y="753"/>
                    </a:lnTo>
                    <a:lnTo>
                      <a:pt x="198" y="761"/>
                    </a:lnTo>
                    <a:lnTo>
                      <a:pt x="176" y="766"/>
                    </a:lnTo>
                    <a:lnTo>
                      <a:pt x="156" y="766"/>
                    </a:lnTo>
                    <a:lnTo>
                      <a:pt x="136" y="763"/>
                    </a:lnTo>
                    <a:lnTo>
                      <a:pt x="122" y="756"/>
                    </a:lnTo>
                    <a:lnTo>
                      <a:pt x="110" y="748"/>
                    </a:lnTo>
                    <a:lnTo>
                      <a:pt x="102" y="740"/>
                    </a:lnTo>
                    <a:lnTo>
                      <a:pt x="92" y="737"/>
                    </a:lnTo>
                    <a:lnTo>
                      <a:pt x="83" y="720"/>
                    </a:lnTo>
                    <a:lnTo>
                      <a:pt x="75" y="701"/>
                    </a:lnTo>
                    <a:lnTo>
                      <a:pt x="70" y="683"/>
                    </a:lnTo>
                    <a:lnTo>
                      <a:pt x="66" y="662"/>
                    </a:lnTo>
                    <a:lnTo>
                      <a:pt x="66" y="643"/>
                    </a:lnTo>
                    <a:lnTo>
                      <a:pt x="64" y="608"/>
                    </a:lnTo>
                    <a:lnTo>
                      <a:pt x="74" y="588"/>
                    </a:lnTo>
                    <a:lnTo>
                      <a:pt x="79" y="563"/>
                    </a:lnTo>
                    <a:lnTo>
                      <a:pt x="86" y="553"/>
                    </a:lnTo>
                    <a:lnTo>
                      <a:pt x="84" y="538"/>
                    </a:lnTo>
                    <a:lnTo>
                      <a:pt x="81" y="525"/>
                    </a:lnTo>
                    <a:lnTo>
                      <a:pt x="59" y="508"/>
                    </a:lnTo>
                    <a:lnTo>
                      <a:pt x="69" y="493"/>
                    </a:lnTo>
                    <a:lnTo>
                      <a:pt x="81" y="460"/>
                    </a:lnTo>
                    <a:lnTo>
                      <a:pt x="72" y="461"/>
                    </a:lnTo>
                    <a:lnTo>
                      <a:pt x="64" y="459"/>
                    </a:lnTo>
                    <a:lnTo>
                      <a:pt x="59" y="457"/>
                    </a:lnTo>
                    <a:lnTo>
                      <a:pt x="54" y="450"/>
                    </a:lnTo>
                    <a:lnTo>
                      <a:pt x="53" y="444"/>
                    </a:lnTo>
                    <a:lnTo>
                      <a:pt x="47" y="445"/>
                    </a:lnTo>
                    <a:lnTo>
                      <a:pt x="39" y="444"/>
                    </a:lnTo>
                    <a:lnTo>
                      <a:pt x="32" y="440"/>
                    </a:lnTo>
                    <a:lnTo>
                      <a:pt x="25" y="435"/>
                    </a:lnTo>
                    <a:lnTo>
                      <a:pt x="21" y="427"/>
                    </a:lnTo>
                    <a:lnTo>
                      <a:pt x="16" y="418"/>
                    </a:lnTo>
                    <a:lnTo>
                      <a:pt x="13" y="409"/>
                    </a:lnTo>
                    <a:lnTo>
                      <a:pt x="7" y="407"/>
                    </a:lnTo>
                    <a:lnTo>
                      <a:pt x="1" y="354"/>
                    </a:lnTo>
                    <a:lnTo>
                      <a:pt x="6" y="352"/>
                    </a:lnTo>
                    <a:lnTo>
                      <a:pt x="6" y="330"/>
                    </a:lnTo>
                    <a:lnTo>
                      <a:pt x="0" y="329"/>
                    </a:lnTo>
                    <a:lnTo>
                      <a:pt x="1" y="315"/>
                    </a:lnTo>
                    <a:lnTo>
                      <a:pt x="5" y="305"/>
                    </a:lnTo>
                    <a:lnTo>
                      <a:pt x="6" y="298"/>
                    </a:lnTo>
                    <a:lnTo>
                      <a:pt x="10" y="293"/>
                    </a:lnTo>
                    <a:lnTo>
                      <a:pt x="13" y="284"/>
                    </a:lnTo>
                    <a:lnTo>
                      <a:pt x="14" y="278"/>
                    </a:lnTo>
                    <a:lnTo>
                      <a:pt x="17" y="273"/>
                    </a:lnTo>
                    <a:lnTo>
                      <a:pt x="31" y="269"/>
                    </a:lnTo>
                    <a:lnTo>
                      <a:pt x="25" y="258"/>
                    </a:lnTo>
                    <a:lnTo>
                      <a:pt x="30" y="242"/>
                    </a:lnTo>
                    <a:lnTo>
                      <a:pt x="31" y="237"/>
                    </a:lnTo>
                    <a:lnTo>
                      <a:pt x="32" y="235"/>
                    </a:lnTo>
                    <a:lnTo>
                      <a:pt x="37" y="235"/>
                    </a:lnTo>
                    <a:lnTo>
                      <a:pt x="37" y="230"/>
                    </a:lnTo>
                    <a:lnTo>
                      <a:pt x="59" y="230"/>
                    </a:lnTo>
                    <a:lnTo>
                      <a:pt x="59" y="235"/>
                    </a:lnTo>
                    <a:lnTo>
                      <a:pt x="62" y="235"/>
                    </a:lnTo>
                    <a:lnTo>
                      <a:pt x="64" y="237"/>
                    </a:lnTo>
                    <a:lnTo>
                      <a:pt x="65" y="243"/>
                    </a:lnTo>
                    <a:lnTo>
                      <a:pt x="66" y="251"/>
                    </a:lnTo>
                    <a:lnTo>
                      <a:pt x="66" y="258"/>
                    </a:lnTo>
                    <a:lnTo>
                      <a:pt x="65" y="264"/>
                    </a:lnTo>
                    <a:lnTo>
                      <a:pt x="63" y="267"/>
                    </a:lnTo>
                    <a:lnTo>
                      <a:pt x="66" y="269"/>
                    </a:lnTo>
                    <a:lnTo>
                      <a:pt x="72" y="269"/>
                    </a:lnTo>
                    <a:lnTo>
                      <a:pt x="75" y="267"/>
                    </a:lnTo>
                    <a:lnTo>
                      <a:pt x="79" y="263"/>
                    </a:lnTo>
                    <a:lnTo>
                      <a:pt x="78" y="257"/>
                    </a:lnTo>
                    <a:lnTo>
                      <a:pt x="66" y="258"/>
                    </a:lnTo>
                    <a:lnTo>
                      <a:pt x="66" y="251"/>
                    </a:lnTo>
                    <a:lnTo>
                      <a:pt x="80" y="249"/>
                    </a:lnTo>
                    <a:lnTo>
                      <a:pt x="84" y="251"/>
                    </a:lnTo>
                    <a:lnTo>
                      <a:pt x="88" y="252"/>
                    </a:lnTo>
                    <a:lnTo>
                      <a:pt x="91" y="255"/>
                    </a:lnTo>
                    <a:lnTo>
                      <a:pt x="89" y="239"/>
                    </a:lnTo>
                    <a:lnTo>
                      <a:pt x="85" y="224"/>
                    </a:lnTo>
                    <a:lnTo>
                      <a:pt x="108" y="123"/>
                    </a:lnTo>
                    <a:lnTo>
                      <a:pt x="114" y="106"/>
                    </a:lnTo>
                    <a:lnTo>
                      <a:pt x="119" y="95"/>
                    </a:lnTo>
                    <a:lnTo>
                      <a:pt x="127" y="84"/>
                    </a:lnTo>
                    <a:lnTo>
                      <a:pt x="121" y="60"/>
                    </a:lnTo>
                    <a:lnTo>
                      <a:pt x="117" y="44"/>
                    </a:lnTo>
                    <a:lnTo>
                      <a:pt x="119" y="29"/>
                    </a:lnTo>
                    <a:lnTo>
                      <a:pt x="124" y="13"/>
                    </a:lnTo>
                    <a:lnTo>
                      <a:pt x="1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84840" y="3766680"/>
                <a:ext cx="363960" cy="423000"/>
              </a:xfrm>
              <a:custGeom>
                <a:avLst/>
                <a:gdLst/>
                <a:ahLst/>
                <a:rect l="l" t="t" r="r" b="b"/>
                <a:pathLst>
                  <a:path w="864" h="1009">
                    <a:moveTo>
                      <a:pt x="457" y="496"/>
                    </a:moveTo>
                    <a:lnTo>
                      <a:pt x="472" y="483"/>
                    </a:lnTo>
                    <a:lnTo>
                      <a:pt x="487" y="475"/>
                    </a:lnTo>
                    <a:lnTo>
                      <a:pt x="502" y="466"/>
                    </a:lnTo>
                    <a:lnTo>
                      <a:pt x="517" y="460"/>
                    </a:lnTo>
                    <a:lnTo>
                      <a:pt x="488" y="442"/>
                    </a:lnTo>
                    <a:lnTo>
                      <a:pt x="475" y="433"/>
                    </a:lnTo>
                    <a:lnTo>
                      <a:pt x="461" y="422"/>
                    </a:lnTo>
                    <a:lnTo>
                      <a:pt x="462" y="440"/>
                    </a:lnTo>
                    <a:lnTo>
                      <a:pt x="460" y="458"/>
                    </a:lnTo>
                    <a:lnTo>
                      <a:pt x="457" y="496"/>
                    </a:lnTo>
                    <a:close/>
                    <a:moveTo>
                      <a:pt x="623" y="490"/>
                    </a:moveTo>
                    <a:lnTo>
                      <a:pt x="625" y="530"/>
                    </a:lnTo>
                    <a:lnTo>
                      <a:pt x="625" y="575"/>
                    </a:lnTo>
                    <a:lnTo>
                      <a:pt x="620" y="630"/>
                    </a:lnTo>
                    <a:lnTo>
                      <a:pt x="611" y="682"/>
                    </a:lnTo>
                    <a:lnTo>
                      <a:pt x="599" y="732"/>
                    </a:lnTo>
                    <a:lnTo>
                      <a:pt x="589" y="768"/>
                    </a:lnTo>
                    <a:lnTo>
                      <a:pt x="579" y="775"/>
                    </a:lnTo>
                    <a:lnTo>
                      <a:pt x="569" y="782"/>
                    </a:lnTo>
                    <a:lnTo>
                      <a:pt x="560" y="819"/>
                    </a:lnTo>
                    <a:lnTo>
                      <a:pt x="560" y="826"/>
                    </a:lnTo>
                    <a:lnTo>
                      <a:pt x="565" y="833"/>
                    </a:lnTo>
                    <a:lnTo>
                      <a:pt x="565" y="839"/>
                    </a:lnTo>
                    <a:lnTo>
                      <a:pt x="559" y="848"/>
                    </a:lnTo>
                    <a:lnTo>
                      <a:pt x="568" y="854"/>
                    </a:lnTo>
                    <a:lnTo>
                      <a:pt x="572" y="860"/>
                    </a:lnTo>
                    <a:lnTo>
                      <a:pt x="576" y="871"/>
                    </a:lnTo>
                    <a:lnTo>
                      <a:pt x="584" y="874"/>
                    </a:lnTo>
                    <a:lnTo>
                      <a:pt x="589" y="877"/>
                    </a:lnTo>
                    <a:lnTo>
                      <a:pt x="592" y="884"/>
                    </a:lnTo>
                    <a:lnTo>
                      <a:pt x="596" y="891"/>
                    </a:lnTo>
                    <a:lnTo>
                      <a:pt x="600" y="897"/>
                    </a:lnTo>
                    <a:lnTo>
                      <a:pt x="622" y="909"/>
                    </a:lnTo>
                    <a:lnTo>
                      <a:pt x="637" y="916"/>
                    </a:lnTo>
                    <a:lnTo>
                      <a:pt x="643" y="921"/>
                    </a:lnTo>
                    <a:lnTo>
                      <a:pt x="646" y="927"/>
                    </a:lnTo>
                    <a:lnTo>
                      <a:pt x="646" y="940"/>
                    </a:lnTo>
                    <a:lnTo>
                      <a:pt x="635" y="942"/>
                    </a:lnTo>
                    <a:lnTo>
                      <a:pt x="618" y="945"/>
                    </a:lnTo>
                    <a:lnTo>
                      <a:pt x="594" y="943"/>
                    </a:lnTo>
                    <a:lnTo>
                      <a:pt x="571" y="940"/>
                    </a:lnTo>
                    <a:lnTo>
                      <a:pt x="547" y="932"/>
                    </a:lnTo>
                    <a:lnTo>
                      <a:pt x="528" y="922"/>
                    </a:lnTo>
                    <a:lnTo>
                      <a:pt x="513" y="914"/>
                    </a:lnTo>
                    <a:lnTo>
                      <a:pt x="499" y="912"/>
                    </a:lnTo>
                    <a:lnTo>
                      <a:pt x="487" y="911"/>
                    </a:lnTo>
                    <a:lnTo>
                      <a:pt x="475" y="906"/>
                    </a:lnTo>
                    <a:lnTo>
                      <a:pt x="465" y="902"/>
                    </a:lnTo>
                    <a:lnTo>
                      <a:pt x="462" y="890"/>
                    </a:lnTo>
                    <a:lnTo>
                      <a:pt x="463" y="879"/>
                    </a:lnTo>
                    <a:lnTo>
                      <a:pt x="465" y="869"/>
                    </a:lnTo>
                    <a:lnTo>
                      <a:pt x="467" y="859"/>
                    </a:lnTo>
                    <a:lnTo>
                      <a:pt x="471" y="850"/>
                    </a:lnTo>
                    <a:lnTo>
                      <a:pt x="475" y="840"/>
                    </a:lnTo>
                    <a:lnTo>
                      <a:pt x="481" y="833"/>
                    </a:lnTo>
                    <a:lnTo>
                      <a:pt x="481" y="823"/>
                    </a:lnTo>
                    <a:lnTo>
                      <a:pt x="481" y="814"/>
                    </a:lnTo>
                    <a:lnTo>
                      <a:pt x="483" y="808"/>
                    </a:lnTo>
                    <a:lnTo>
                      <a:pt x="487" y="801"/>
                    </a:lnTo>
                    <a:lnTo>
                      <a:pt x="487" y="770"/>
                    </a:lnTo>
                    <a:lnTo>
                      <a:pt x="475" y="765"/>
                    </a:lnTo>
                    <a:lnTo>
                      <a:pt x="477" y="756"/>
                    </a:lnTo>
                    <a:lnTo>
                      <a:pt x="480" y="749"/>
                    </a:lnTo>
                    <a:lnTo>
                      <a:pt x="480" y="738"/>
                    </a:lnTo>
                    <a:lnTo>
                      <a:pt x="477" y="727"/>
                    </a:lnTo>
                    <a:lnTo>
                      <a:pt x="480" y="709"/>
                    </a:lnTo>
                    <a:lnTo>
                      <a:pt x="483" y="686"/>
                    </a:lnTo>
                    <a:lnTo>
                      <a:pt x="490" y="662"/>
                    </a:lnTo>
                    <a:lnTo>
                      <a:pt x="499" y="636"/>
                    </a:lnTo>
                    <a:lnTo>
                      <a:pt x="483" y="654"/>
                    </a:lnTo>
                    <a:lnTo>
                      <a:pt x="466" y="673"/>
                    </a:lnTo>
                    <a:lnTo>
                      <a:pt x="451" y="688"/>
                    </a:lnTo>
                    <a:lnTo>
                      <a:pt x="435" y="704"/>
                    </a:lnTo>
                    <a:lnTo>
                      <a:pt x="420" y="715"/>
                    </a:lnTo>
                    <a:lnTo>
                      <a:pt x="402" y="730"/>
                    </a:lnTo>
                    <a:lnTo>
                      <a:pt x="384" y="743"/>
                    </a:lnTo>
                    <a:lnTo>
                      <a:pt x="363" y="755"/>
                    </a:lnTo>
                    <a:lnTo>
                      <a:pt x="343" y="767"/>
                    </a:lnTo>
                    <a:lnTo>
                      <a:pt x="326" y="774"/>
                    </a:lnTo>
                    <a:lnTo>
                      <a:pt x="307" y="781"/>
                    </a:lnTo>
                    <a:lnTo>
                      <a:pt x="290" y="787"/>
                    </a:lnTo>
                    <a:lnTo>
                      <a:pt x="274" y="849"/>
                    </a:lnTo>
                    <a:lnTo>
                      <a:pt x="273" y="865"/>
                    </a:lnTo>
                    <a:lnTo>
                      <a:pt x="270" y="884"/>
                    </a:lnTo>
                    <a:lnTo>
                      <a:pt x="268" y="898"/>
                    </a:lnTo>
                    <a:lnTo>
                      <a:pt x="264" y="914"/>
                    </a:lnTo>
                    <a:lnTo>
                      <a:pt x="259" y="927"/>
                    </a:lnTo>
                    <a:lnTo>
                      <a:pt x="250" y="943"/>
                    </a:lnTo>
                    <a:lnTo>
                      <a:pt x="243" y="956"/>
                    </a:lnTo>
                    <a:lnTo>
                      <a:pt x="233" y="965"/>
                    </a:lnTo>
                    <a:lnTo>
                      <a:pt x="230" y="976"/>
                    </a:lnTo>
                    <a:lnTo>
                      <a:pt x="224" y="987"/>
                    </a:lnTo>
                    <a:lnTo>
                      <a:pt x="213" y="996"/>
                    </a:lnTo>
                    <a:lnTo>
                      <a:pt x="198" y="1004"/>
                    </a:lnTo>
                    <a:lnTo>
                      <a:pt x="176" y="1009"/>
                    </a:lnTo>
                    <a:lnTo>
                      <a:pt x="156" y="1009"/>
                    </a:lnTo>
                    <a:lnTo>
                      <a:pt x="136" y="1005"/>
                    </a:lnTo>
                    <a:lnTo>
                      <a:pt x="121" y="1000"/>
                    </a:lnTo>
                    <a:lnTo>
                      <a:pt x="110" y="991"/>
                    </a:lnTo>
                    <a:lnTo>
                      <a:pt x="101" y="983"/>
                    </a:lnTo>
                    <a:lnTo>
                      <a:pt x="92" y="981"/>
                    </a:lnTo>
                    <a:lnTo>
                      <a:pt x="82" y="963"/>
                    </a:lnTo>
                    <a:lnTo>
                      <a:pt x="75" y="943"/>
                    </a:lnTo>
                    <a:lnTo>
                      <a:pt x="70" y="926"/>
                    </a:lnTo>
                    <a:lnTo>
                      <a:pt x="67" y="905"/>
                    </a:lnTo>
                    <a:lnTo>
                      <a:pt x="67" y="885"/>
                    </a:lnTo>
                    <a:lnTo>
                      <a:pt x="64" y="852"/>
                    </a:lnTo>
                    <a:lnTo>
                      <a:pt x="74" y="832"/>
                    </a:lnTo>
                    <a:lnTo>
                      <a:pt x="78" y="807"/>
                    </a:lnTo>
                    <a:lnTo>
                      <a:pt x="87" y="796"/>
                    </a:lnTo>
                    <a:lnTo>
                      <a:pt x="83" y="781"/>
                    </a:lnTo>
                    <a:lnTo>
                      <a:pt x="80" y="768"/>
                    </a:lnTo>
                    <a:lnTo>
                      <a:pt x="58" y="751"/>
                    </a:lnTo>
                    <a:lnTo>
                      <a:pt x="69" y="736"/>
                    </a:lnTo>
                    <a:lnTo>
                      <a:pt x="80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8" y="699"/>
                    </a:lnTo>
                    <a:lnTo>
                      <a:pt x="54" y="693"/>
                    </a:lnTo>
                    <a:lnTo>
                      <a:pt x="53" y="688"/>
                    </a:lnTo>
                    <a:lnTo>
                      <a:pt x="47" y="689"/>
                    </a:lnTo>
                    <a:lnTo>
                      <a:pt x="38" y="688"/>
                    </a:lnTo>
                    <a:lnTo>
                      <a:pt x="32" y="684"/>
                    </a:lnTo>
                    <a:lnTo>
                      <a:pt x="26" y="678"/>
                    </a:lnTo>
                    <a:lnTo>
                      <a:pt x="21" y="669"/>
                    </a:lnTo>
                    <a:lnTo>
                      <a:pt x="15" y="662"/>
                    </a:lnTo>
                    <a:lnTo>
                      <a:pt x="12" y="652"/>
                    </a:lnTo>
                    <a:lnTo>
                      <a:pt x="7" y="650"/>
                    </a:lnTo>
                    <a:lnTo>
                      <a:pt x="1" y="597"/>
                    </a:lnTo>
                    <a:lnTo>
                      <a:pt x="6" y="595"/>
                    </a:lnTo>
                    <a:lnTo>
                      <a:pt x="6" y="573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8"/>
                    </a:lnTo>
                    <a:lnTo>
                      <a:pt x="6" y="542"/>
                    </a:lnTo>
                    <a:lnTo>
                      <a:pt x="10" y="537"/>
                    </a:lnTo>
                    <a:lnTo>
                      <a:pt x="12" y="527"/>
                    </a:lnTo>
                    <a:lnTo>
                      <a:pt x="13" y="522"/>
                    </a:lnTo>
                    <a:lnTo>
                      <a:pt x="16" y="517"/>
                    </a:lnTo>
                    <a:lnTo>
                      <a:pt x="31" y="512"/>
                    </a:lnTo>
                    <a:lnTo>
                      <a:pt x="26" y="502"/>
                    </a:lnTo>
                    <a:lnTo>
                      <a:pt x="30" y="485"/>
                    </a:lnTo>
                    <a:lnTo>
                      <a:pt x="31" y="481"/>
                    </a:lnTo>
                    <a:lnTo>
                      <a:pt x="32" y="478"/>
                    </a:lnTo>
                    <a:lnTo>
                      <a:pt x="36" y="478"/>
                    </a:lnTo>
                    <a:lnTo>
                      <a:pt x="36" y="473"/>
                    </a:lnTo>
                    <a:lnTo>
                      <a:pt x="58" y="473"/>
                    </a:lnTo>
                    <a:lnTo>
                      <a:pt x="58" y="478"/>
                    </a:lnTo>
                    <a:lnTo>
                      <a:pt x="61" y="478"/>
                    </a:lnTo>
                    <a:lnTo>
                      <a:pt x="64" y="481"/>
                    </a:lnTo>
                    <a:lnTo>
                      <a:pt x="65" y="486"/>
                    </a:lnTo>
                    <a:lnTo>
                      <a:pt x="67" y="494"/>
                    </a:lnTo>
                    <a:lnTo>
                      <a:pt x="67" y="502"/>
                    </a:lnTo>
                    <a:lnTo>
                      <a:pt x="65" y="507"/>
                    </a:lnTo>
                    <a:lnTo>
                      <a:pt x="63" y="510"/>
                    </a:lnTo>
                    <a:lnTo>
                      <a:pt x="67" y="512"/>
                    </a:lnTo>
                    <a:lnTo>
                      <a:pt x="72" y="512"/>
                    </a:lnTo>
                    <a:lnTo>
                      <a:pt x="75" y="510"/>
                    </a:lnTo>
                    <a:lnTo>
                      <a:pt x="78" y="506"/>
                    </a:lnTo>
                    <a:lnTo>
                      <a:pt x="77" y="501"/>
                    </a:lnTo>
                    <a:lnTo>
                      <a:pt x="67" y="502"/>
                    </a:lnTo>
                    <a:lnTo>
                      <a:pt x="67" y="494"/>
                    </a:lnTo>
                    <a:lnTo>
                      <a:pt x="79" y="492"/>
                    </a:lnTo>
                    <a:lnTo>
                      <a:pt x="83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6"/>
                    </a:lnTo>
                    <a:lnTo>
                      <a:pt x="109" y="366"/>
                    </a:lnTo>
                    <a:lnTo>
                      <a:pt x="114" y="350"/>
                    </a:lnTo>
                    <a:lnTo>
                      <a:pt x="119" y="337"/>
                    </a:lnTo>
                    <a:lnTo>
                      <a:pt x="126" y="326"/>
                    </a:lnTo>
                    <a:lnTo>
                      <a:pt x="120" y="303"/>
                    </a:lnTo>
                    <a:lnTo>
                      <a:pt x="117" y="288"/>
                    </a:lnTo>
                    <a:lnTo>
                      <a:pt x="119" y="273"/>
                    </a:lnTo>
                    <a:lnTo>
                      <a:pt x="124" y="256"/>
                    </a:lnTo>
                    <a:lnTo>
                      <a:pt x="136" y="234"/>
                    </a:lnTo>
                    <a:lnTo>
                      <a:pt x="147" y="217"/>
                    </a:lnTo>
                    <a:lnTo>
                      <a:pt x="165" y="201"/>
                    </a:lnTo>
                    <a:lnTo>
                      <a:pt x="182" y="191"/>
                    </a:lnTo>
                    <a:lnTo>
                      <a:pt x="192" y="180"/>
                    </a:lnTo>
                    <a:lnTo>
                      <a:pt x="203" y="174"/>
                    </a:lnTo>
                    <a:lnTo>
                      <a:pt x="213" y="171"/>
                    </a:lnTo>
                    <a:lnTo>
                      <a:pt x="224" y="171"/>
                    </a:lnTo>
                    <a:lnTo>
                      <a:pt x="235" y="174"/>
                    </a:lnTo>
                    <a:lnTo>
                      <a:pt x="262" y="169"/>
                    </a:lnTo>
                    <a:lnTo>
                      <a:pt x="265" y="159"/>
                    </a:lnTo>
                    <a:lnTo>
                      <a:pt x="261" y="144"/>
                    </a:lnTo>
                    <a:lnTo>
                      <a:pt x="264" y="143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90"/>
                    </a:lnTo>
                    <a:lnTo>
                      <a:pt x="264" y="71"/>
                    </a:lnTo>
                    <a:lnTo>
                      <a:pt x="270" y="51"/>
                    </a:lnTo>
                    <a:lnTo>
                      <a:pt x="281" y="36"/>
                    </a:lnTo>
                    <a:lnTo>
                      <a:pt x="290" y="28"/>
                    </a:lnTo>
                    <a:lnTo>
                      <a:pt x="315" y="14"/>
                    </a:lnTo>
                    <a:lnTo>
                      <a:pt x="333" y="8"/>
                    </a:lnTo>
                    <a:lnTo>
                      <a:pt x="352" y="3"/>
                    </a:lnTo>
                    <a:lnTo>
                      <a:pt x="371" y="0"/>
                    </a:lnTo>
                    <a:lnTo>
                      <a:pt x="385" y="0"/>
                    </a:lnTo>
                    <a:lnTo>
                      <a:pt x="401" y="3"/>
                    </a:lnTo>
                    <a:lnTo>
                      <a:pt x="414" y="6"/>
                    </a:lnTo>
                    <a:lnTo>
                      <a:pt x="424" y="12"/>
                    </a:lnTo>
                    <a:lnTo>
                      <a:pt x="435" y="22"/>
                    </a:lnTo>
                    <a:lnTo>
                      <a:pt x="444" y="35"/>
                    </a:lnTo>
                    <a:lnTo>
                      <a:pt x="457" y="62"/>
                    </a:lnTo>
                    <a:lnTo>
                      <a:pt x="471" y="93"/>
                    </a:lnTo>
                    <a:lnTo>
                      <a:pt x="478" y="102"/>
                    </a:lnTo>
                    <a:lnTo>
                      <a:pt x="481" y="108"/>
                    </a:lnTo>
                    <a:lnTo>
                      <a:pt x="479" y="113"/>
                    </a:lnTo>
                    <a:lnTo>
                      <a:pt x="472" y="118"/>
                    </a:lnTo>
                    <a:lnTo>
                      <a:pt x="452" y="125"/>
                    </a:lnTo>
                    <a:lnTo>
                      <a:pt x="456" y="143"/>
                    </a:lnTo>
                    <a:lnTo>
                      <a:pt x="457" y="158"/>
                    </a:lnTo>
                    <a:lnTo>
                      <a:pt x="457" y="170"/>
                    </a:lnTo>
                    <a:lnTo>
                      <a:pt x="466" y="171"/>
                    </a:lnTo>
                    <a:lnTo>
                      <a:pt x="478" y="194"/>
                    </a:lnTo>
                    <a:lnTo>
                      <a:pt x="567" y="289"/>
                    </a:lnTo>
                    <a:lnTo>
                      <a:pt x="571" y="295"/>
                    </a:lnTo>
                    <a:lnTo>
                      <a:pt x="572" y="301"/>
                    </a:lnTo>
                    <a:lnTo>
                      <a:pt x="571" y="309"/>
                    </a:lnTo>
                    <a:lnTo>
                      <a:pt x="567" y="312"/>
                    </a:lnTo>
                    <a:lnTo>
                      <a:pt x="564" y="314"/>
                    </a:lnTo>
                    <a:lnTo>
                      <a:pt x="564" y="320"/>
                    </a:lnTo>
                    <a:lnTo>
                      <a:pt x="560" y="326"/>
                    </a:lnTo>
                    <a:lnTo>
                      <a:pt x="556" y="331"/>
                    </a:lnTo>
                    <a:lnTo>
                      <a:pt x="560" y="335"/>
                    </a:lnTo>
                    <a:lnTo>
                      <a:pt x="564" y="340"/>
                    </a:lnTo>
                    <a:lnTo>
                      <a:pt x="569" y="347"/>
                    </a:lnTo>
                    <a:lnTo>
                      <a:pt x="579" y="355"/>
                    </a:lnTo>
                    <a:lnTo>
                      <a:pt x="587" y="360"/>
                    </a:lnTo>
                    <a:lnTo>
                      <a:pt x="595" y="366"/>
                    </a:lnTo>
                    <a:lnTo>
                      <a:pt x="602" y="372"/>
                    </a:lnTo>
                    <a:lnTo>
                      <a:pt x="623" y="365"/>
                    </a:lnTo>
                    <a:lnTo>
                      <a:pt x="636" y="362"/>
                    </a:lnTo>
                    <a:lnTo>
                      <a:pt x="647" y="360"/>
                    </a:lnTo>
                    <a:lnTo>
                      <a:pt x="655" y="357"/>
                    </a:lnTo>
                    <a:lnTo>
                      <a:pt x="688" y="335"/>
                    </a:lnTo>
                    <a:lnTo>
                      <a:pt x="730" y="289"/>
                    </a:lnTo>
                    <a:lnTo>
                      <a:pt x="735" y="290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5" y="251"/>
                    </a:lnTo>
                    <a:lnTo>
                      <a:pt x="771" y="242"/>
                    </a:lnTo>
                    <a:lnTo>
                      <a:pt x="864" y="240"/>
                    </a:lnTo>
                    <a:lnTo>
                      <a:pt x="803" y="275"/>
                    </a:lnTo>
                    <a:lnTo>
                      <a:pt x="791" y="289"/>
                    </a:lnTo>
                    <a:lnTo>
                      <a:pt x="772" y="319"/>
                    </a:lnTo>
                    <a:lnTo>
                      <a:pt x="775" y="326"/>
                    </a:lnTo>
                    <a:lnTo>
                      <a:pt x="727" y="407"/>
                    </a:lnTo>
                    <a:lnTo>
                      <a:pt x="713" y="449"/>
                    </a:lnTo>
                    <a:lnTo>
                      <a:pt x="695" y="464"/>
                    </a:lnTo>
                    <a:lnTo>
                      <a:pt x="677" y="476"/>
                    </a:lnTo>
                    <a:lnTo>
                      <a:pt x="653" y="486"/>
                    </a:lnTo>
                    <a:lnTo>
                      <a:pt x="637" y="489"/>
                    </a:lnTo>
                    <a:lnTo>
                      <a:pt x="623" y="490"/>
                    </a:lnTo>
                    <a:close/>
                    <a:moveTo>
                      <a:pt x="90" y="512"/>
                    </a:moveTo>
                    <a:lnTo>
                      <a:pt x="83" y="519"/>
                    </a:lnTo>
                    <a:lnTo>
                      <a:pt x="87" y="523"/>
                    </a:lnTo>
                    <a:lnTo>
                      <a:pt x="89" y="528"/>
                    </a:lnTo>
                    <a:lnTo>
                      <a:pt x="90" y="523"/>
                    </a:lnTo>
                    <a:lnTo>
                      <a:pt x="91" y="518"/>
                    </a:lnTo>
                    <a:lnTo>
                      <a:pt x="90" y="51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84840" y="3766680"/>
                <a:ext cx="363960" cy="423000"/>
              </a:xfrm>
              <a:custGeom>
                <a:avLst/>
                <a:gdLst/>
                <a:ahLst/>
                <a:rect l="l" t="t" r="r" b="b"/>
                <a:pathLst>
                  <a:path w="864" h="1009">
                    <a:moveTo>
                      <a:pt x="623" y="490"/>
                    </a:moveTo>
                    <a:lnTo>
                      <a:pt x="625" y="530"/>
                    </a:lnTo>
                    <a:lnTo>
                      <a:pt x="625" y="575"/>
                    </a:lnTo>
                    <a:lnTo>
                      <a:pt x="620" y="630"/>
                    </a:lnTo>
                    <a:lnTo>
                      <a:pt x="611" y="682"/>
                    </a:lnTo>
                    <a:lnTo>
                      <a:pt x="599" y="732"/>
                    </a:lnTo>
                    <a:lnTo>
                      <a:pt x="589" y="768"/>
                    </a:lnTo>
                    <a:lnTo>
                      <a:pt x="579" y="775"/>
                    </a:lnTo>
                    <a:lnTo>
                      <a:pt x="569" y="782"/>
                    </a:lnTo>
                    <a:lnTo>
                      <a:pt x="560" y="819"/>
                    </a:lnTo>
                    <a:lnTo>
                      <a:pt x="560" y="826"/>
                    </a:lnTo>
                    <a:lnTo>
                      <a:pt x="565" y="833"/>
                    </a:lnTo>
                    <a:lnTo>
                      <a:pt x="565" y="839"/>
                    </a:lnTo>
                    <a:lnTo>
                      <a:pt x="559" y="848"/>
                    </a:lnTo>
                    <a:lnTo>
                      <a:pt x="568" y="854"/>
                    </a:lnTo>
                    <a:lnTo>
                      <a:pt x="572" y="860"/>
                    </a:lnTo>
                    <a:lnTo>
                      <a:pt x="576" y="871"/>
                    </a:lnTo>
                    <a:lnTo>
                      <a:pt x="584" y="874"/>
                    </a:lnTo>
                    <a:lnTo>
                      <a:pt x="589" y="877"/>
                    </a:lnTo>
                    <a:lnTo>
                      <a:pt x="592" y="884"/>
                    </a:lnTo>
                    <a:lnTo>
                      <a:pt x="596" y="891"/>
                    </a:lnTo>
                    <a:lnTo>
                      <a:pt x="600" y="897"/>
                    </a:lnTo>
                    <a:lnTo>
                      <a:pt x="622" y="909"/>
                    </a:lnTo>
                    <a:lnTo>
                      <a:pt x="637" y="916"/>
                    </a:lnTo>
                    <a:lnTo>
                      <a:pt x="643" y="921"/>
                    </a:lnTo>
                    <a:lnTo>
                      <a:pt x="646" y="927"/>
                    </a:lnTo>
                    <a:lnTo>
                      <a:pt x="646" y="940"/>
                    </a:lnTo>
                    <a:lnTo>
                      <a:pt x="635" y="942"/>
                    </a:lnTo>
                    <a:lnTo>
                      <a:pt x="618" y="945"/>
                    </a:lnTo>
                    <a:lnTo>
                      <a:pt x="594" y="943"/>
                    </a:lnTo>
                    <a:lnTo>
                      <a:pt x="571" y="940"/>
                    </a:lnTo>
                    <a:lnTo>
                      <a:pt x="547" y="932"/>
                    </a:lnTo>
                    <a:lnTo>
                      <a:pt x="528" y="922"/>
                    </a:lnTo>
                    <a:lnTo>
                      <a:pt x="513" y="914"/>
                    </a:lnTo>
                    <a:lnTo>
                      <a:pt x="499" y="912"/>
                    </a:lnTo>
                    <a:lnTo>
                      <a:pt x="487" y="911"/>
                    </a:lnTo>
                    <a:lnTo>
                      <a:pt x="475" y="906"/>
                    </a:lnTo>
                    <a:lnTo>
                      <a:pt x="465" y="902"/>
                    </a:lnTo>
                    <a:lnTo>
                      <a:pt x="462" y="890"/>
                    </a:lnTo>
                    <a:lnTo>
                      <a:pt x="463" y="879"/>
                    </a:lnTo>
                    <a:lnTo>
                      <a:pt x="465" y="869"/>
                    </a:lnTo>
                    <a:lnTo>
                      <a:pt x="467" y="859"/>
                    </a:lnTo>
                    <a:lnTo>
                      <a:pt x="471" y="850"/>
                    </a:lnTo>
                    <a:lnTo>
                      <a:pt x="475" y="840"/>
                    </a:lnTo>
                    <a:lnTo>
                      <a:pt x="481" y="833"/>
                    </a:lnTo>
                    <a:lnTo>
                      <a:pt x="481" y="823"/>
                    </a:lnTo>
                    <a:lnTo>
                      <a:pt x="481" y="814"/>
                    </a:lnTo>
                    <a:lnTo>
                      <a:pt x="483" y="808"/>
                    </a:lnTo>
                    <a:lnTo>
                      <a:pt x="487" y="801"/>
                    </a:lnTo>
                    <a:lnTo>
                      <a:pt x="487" y="770"/>
                    </a:lnTo>
                    <a:lnTo>
                      <a:pt x="475" y="765"/>
                    </a:lnTo>
                    <a:lnTo>
                      <a:pt x="477" y="756"/>
                    </a:lnTo>
                    <a:lnTo>
                      <a:pt x="480" y="749"/>
                    </a:lnTo>
                    <a:lnTo>
                      <a:pt x="480" y="738"/>
                    </a:lnTo>
                    <a:lnTo>
                      <a:pt x="477" y="727"/>
                    </a:lnTo>
                    <a:lnTo>
                      <a:pt x="480" y="709"/>
                    </a:lnTo>
                    <a:lnTo>
                      <a:pt x="483" y="686"/>
                    </a:lnTo>
                    <a:lnTo>
                      <a:pt x="490" y="662"/>
                    </a:lnTo>
                    <a:lnTo>
                      <a:pt x="499" y="636"/>
                    </a:lnTo>
                    <a:lnTo>
                      <a:pt x="483" y="654"/>
                    </a:lnTo>
                    <a:lnTo>
                      <a:pt x="466" y="673"/>
                    </a:lnTo>
                    <a:lnTo>
                      <a:pt x="451" y="688"/>
                    </a:lnTo>
                    <a:lnTo>
                      <a:pt x="435" y="704"/>
                    </a:lnTo>
                    <a:lnTo>
                      <a:pt x="420" y="715"/>
                    </a:lnTo>
                    <a:lnTo>
                      <a:pt x="402" y="730"/>
                    </a:lnTo>
                    <a:lnTo>
                      <a:pt x="384" y="743"/>
                    </a:lnTo>
                    <a:lnTo>
                      <a:pt x="363" y="755"/>
                    </a:lnTo>
                    <a:lnTo>
                      <a:pt x="343" y="767"/>
                    </a:lnTo>
                    <a:lnTo>
                      <a:pt x="326" y="774"/>
                    </a:lnTo>
                    <a:lnTo>
                      <a:pt x="307" y="781"/>
                    </a:lnTo>
                    <a:lnTo>
                      <a:pt x="290" y="787"/>
                    </a:lnTo>
                    <a:lnTo>
                      <a:pt x="274" y="849"/>
                    </a:lnTo>
                    <a:lnTo>
                      <a:pt x="273" y="865"/>
                    </a:lnTo>
                    <a:lnTo>
                      <a:pt x="270" y="884"/>
                    </a:lnTo>
                    <a:lnTo>
                      <a:pt x="268" y="898"/>
                    </a:lnTo>
                    <a:lnTo>
                      <a:pt x="264" y="914"/>
                    </a:lnTo>
                    <a:lnTo>
                      <a:pt x="259" y="927"/>
                    </a:lnTo>
                    <a:lnTo>
                      <a:pt x="250" y="943"/>
                    </a:lnTo>
                    <a:lnTo>
                      <a:pt x="243" y="956"/>
                    </a:lnTo>
                    <a:lnTo>
                      <a:pt x="233" y="965"/>
                    </a:lnTo>
                    <a:lnTo>
                      <a:pt x="230" y="976"/>
                    </a:lnTo>
                    <a:lnTo>
                      <a:pt x="224" y="987"/>
                    </a:lnTo>
                    <a:lnTo>
                      <a:pt x="213" y="996"/>
                    </a:lnTo>
                    <a:lnTo>
                      <a:pt x="198" y="1004"/>
                    </a:lnTo>
                    <a:lnTo>
                      <a:pt x="176" y="1009"/>
                    </a:lnTo>
                    <a:lnTo>
                      <a:pt x="156" y="1009"/>
                    </a:lnTo>
                    <a:lnTo>
                      <a:pt x="136" y="1005"/>
                    </a:lnTo>
                    <a:lnTo>
                      <a:pt x="121" y="1000"/>
                    </a:lnTo>
                    <a:lnTo>
                      <a:pt x="110" y="991"/>
                    </a:lnTo>
                    <a:lnTo>
                      <a:pt x="101" y="983"/>
                    </a:lnTo>
                    <a:lnTo>
                      <a:pt x="92" y="981"/>
                    </a:lnTo>
                    <a:lnTo>
                      <a:pt x="82" y="963"/>
                    </a:lnTo>
                    <a:lnTo>
                      <a:pt x="75" y="943"/>
                    </a:lnTo>
                    <a:lnTo>
                      <a:pt x="70" y="926"/>
                    </a:lnTo>
                    <a:lnTo>
                      <a:pt x="67" y="905"/>
                    </a:lnTo>
                    <a:lnTo>
                      <a:pt x="67" y="885"/>
                    </a:lnTo>
                    <a:lnTo>
                      <a:pt x="64" y="852"/>
                    </a:lnTo>
                    <a:lnTo>
                      <a:pt x="74" y="832"/>
                    </a:lnTo>
                    <a:lnTo>
                      <a:pt x="78" y="807"/>
                    </a:lnTo>
                    <a:lnTo>
                      <a:pt x="87" y="796"/>
                    </a:lnTo>
                    <a:lnTo>
                      <a:pt x="83" y="781"/>
                    </a:lnTo>
                    <a:lnTo>
                      <a:pt x="80" y="768"/>
                    </a:lnTo>
                    <a:lnTo>
                      <a:pt x="58" y="751"/>
                    </a:lnTo>
                    <a:lnTo>
                      <a:pt x="69" y="736"/>
                    </a:lnTo>
                    <a:lnTo>
                      <a:pt x="80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8" y="699"/>
                    </a:lnTo>
                    <a:lnTo>
                      <a:pt x="54" y="693"/>
                    </a:lnTo>
                    <a:lnTo>
                      <a:pt x="53" y="688"/>
                    </a:lnTo>
                    <a:lnTo>
                      <a:pt x="47" y="689"/>
                    </a:lnTo>
                    <a:lnTo>
                      <a:pt x="38" y="688"/>
                    </a:lnTo>
                    <a:lnTo>
                      <a:pt x="32" y="684"/>
                    </a:lnTo>
                    <a:lnTo>
                      <a:pt x="26" y="678"/>
                    </a:lnTo>
                    <a:lnTo>
                      <a:pt x="21" y="669"/>
                    </a:lnTo>
                    <a:lnTo>
                      <a:pt x="15" y="662"/>
                    </a:lnTo>
                    <a:lnTo>
                      <a:pt x="12" y="652"/>
                    </a:lnTo>
                    <a:lnTo>
                      <a:pt x="7" y="650"/>
                    </a:lnTo>
                    <a:lnTo>
                      <a:pt x="1" y="597"/>
                    </a:lnTo>
                    <a:lnTo>
                      <a:pt x="6" y="595"/>
                    </a:lnTo>
                    <a:lnTo>
                      <a:pt x="6" y="573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8"/>
                    </a:lnTo>
                    <a:lnTo>
                      <a:pt x="6" y="542"/>
                    </a:lnTo>
                    <a:lnTo>
                      <a:pt x="10" y="537"/>
                    </a:lnTo>
                    <a:lnTo>
                      <a:pt x="12" y="527"/>
                    </a:lnTo>
                    <a:lnTo>
                      <a:pt x="13" y="522"/>
                    </a:lnTo>
                    <a:lnTo>
                      <a:pt x="16" y="517"/>
                    </a:lnTo>
                    <a:lnTo>
                      <a:pt x="31" y="512"/>
                    </a:lnTo>
                    <a:lnTo>
                      <a:pt x="26" y="502"/>
                    </a:lnTo>
                    <a:lnTo>
                      <a:pt x="30" y="485"/>
                    </a:lnTo>
                    <a:lnTo>
                      <a:pt x="31" y="481"/>
                    </a:lnTo>
                    <a:lnTo>
                      <a:pt x="32" y="478"/>
                    </a:lnTo>
                    <a:lnTo>
                      <a:pt x="36" y="478"/>
                    </a:lnTo>
                    <a:lnTo>
                      <a:pt x="36" y="473"/>
                    </a:lnTo>
                    <a:lnTo>
                      <a:pt x="58" y="473"/>
                    </a:lnTo>
                    <a:lnTo>
                      <a:pt x="58" y="478"/>
                    </a:lnTo>
                    <a:lnTo>
                      <a:pt x="61" y="478"/>
                    </a:lnTo>
                    <a:lnTo>
                      <a:pt x="64" y="481"/>
                    </a:lnTo>
                    <a:lnTo>
                      <a:pt x="65" y="486"/>
                    </a:lnTo>
                    <a:lnTo>
                      <a:pt x="67" y="494"/>
                    </a:lnTo>
                    <a:lnTo>
                      <a:pt x="67" y="502"/>
                    </a:lnTo>
                    <a:lnTo>
                      <a:pt x="65" y="507"/>
                    </a:lnTo>
                    <a:lnTo>
                      <a:pt x="63" y="510"/>
                    </a:lnTo>
                    <a:lnTo>
                      <a:pt x="67" y="512"/>
                    </a:lnTo>
                    <a:lnTo>
                      <a:pt x="72" y="512"/>
                    </a:lnTo>
                    <a:lnTo>
                      <a:pt x="75" y="510"/>
                    </a:lnTo>
                    <a:lnTo>
                      <a:pt x="78" y="506"/>
                    </a:lnTo>
                    <a:lnTo>
                      <a:pt x="77" y="501"/>
                    </a:lnTo>
                    <a:lnTo>
                      <a:pt x="67" y="502"/>
                    </a:lnTo>
                    <a:lnTo>
                      <a:pt x="67" y="494"/>
                    </a:lnTo>
                    <a:lnTo>
                      <a:pt x="79" y="492"/>
                    </a:lnTo>
                    <a:lnTo>
                      <a:pt x="83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6"/>
                    </a:lnTo>
                    <a:lnTo>
                      <a:pt x="109" y="366"/>
                    </a:lnTo>
                    <a:lnTo>
                      <a:pt x="114" y="350"/>
                    </a:lnTo>
                    <a:lnTo>
                      <a:pt x="119" y="337"/>
                    </a:lnTo>
                    <a:lnTo>
                      <a:pt x="126" y="326"/>
                    </a:lnTo>
                    <a:lnTo>
                      <a:pt x="120" y="303"/>
                    </a:lnTo>
                    <a:lnTo>
                      <a:pt x="117" y="288"/>
                    </a:lnTo>
                    <a:lnTo>
                      <a:pt x="119" y="273"/>
                    </a:lnTo>
                    <a:lnTo>
                      <a:pt x="124" y="256"/>
                    </a:lnTo>
                    <a:lnTo>
                      <a:pt x="136" y="234"/>
                    </a:lnTo>
                    <a:lnTo>
                      <a:pt x="147" y="217"/>
                    </a:lnTo>
                    <a:lnTo>
                      <a:pt x="165" y="201"/>
                    </a:lnTo>
                    <a:lnTo>
                      <a:pt x="182" y="191"/>
                    </a:lnTo>
                    <a:lnTo>
                      <a:pt x="192" y="180"/>
                    </a:lnTo>
                    <a:lnTo>
                      <a:pt x="203" y="174"/>
                    </a:lnTo>
                    <a:lnTo>
                      <a:pt x="213" y="171"/>
                    </a:lnTo>
                    <a:lnTo>
                      <a:pt x="224" y="171"/>
                    </a:lnTo>
                    <a:lnTo>
                      <a:pt x="235" y="174"/>
                    </a:lnTo>
                    <a:lnTo>
                      <a:pt x="262" y="169"/>
                    </a:lnTo>
                    <a:lnTo>
                      <a:pt x="265" y="159"/>
                    </a:lnTo>
                    <a:lnTo>
                      <a:pt x="261" y="144"/>
                    </a:lnTo>
                    <a:lnTo>
                      <a:pt x="264" y="143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90"/>
                    </a:lnTo>
                    <a:lnTo>
                      <a:pt x="264" y="71"/>
                    </a:lnTo>
                    <a:lnTo>
                      <a:pt x="270" y="51"/>
                    </a:lnTo>
                    <a:lnTo>
                      <a:pt x="281" y="36"/>
                    </a:lnTo>
                    <a:lnTo>
                      <a:pt x="290" y="28"/>
                    </a:lnTo>
                    <a:lnTo>
                      <a:pt x="315" y="14"/>
                    </a:lnTo>
                    <a:lnTo>
                      <a:pt x="333" y="8"/>
                    </a:lnTo>
                    <a:lnTo>
                      <a:pt x="352" y="3"/>
                    </a:lnTo>
                    <a:lnTo>
                      <a:pt x="371" y="0"/>
                    </a:lnTo>
                    <a:lnTo>
                      <a:pt x="385" y="0"/>
                    </a:lnTo>
                    <a:lnTo>
                      <a:pt x="401" y="3"/>
                    </a:lnTo>
                    <a:lnTo>
                      <a:pt x="414" y="6"/>
                    </a:lnTo>
                    <a:lnTo>
                      <a:pt x="424" y="12"/>
                    </a:lnTo>
                    <a:lnTo>
                      <a:pt x="435" y="22"/>
                    </a:lnTo>
                    <a:lnTo>
                      <a:pt x="444" y="35"/>
                    </a:lnTo>
                    <a:lnTo>
                      <a:pt x="457" y="62"/>
                    </a:lnTo>
                    <a:lnTo>
                      <a:pt x="471" y="93"/>
                    </a:lnTo>
                    <a:lnTo>
                      <a:pt x="478" y="102"/>
                    </a:lnTo>
                    <a:lnTo>
                      <a:pt x="481" y="108"/>
                    </a:lnTo>
                    <a:lnTo>
                      <a:pt x="479" y="113"/>
                    </a:lnTo>
                    <a:lnTo>
                      <a:pt x="472" y="118"/>
                    </a:lnTo>
                    <a:lnTo>
                      <a:pt x="452" y="125"/>
                    </a:lnTo>
                    <a:lnTo>
                      <a:pt x="456" y="143"/>
                    </a:lnTo>
                    <a:lnTo>
                      <a:pt x="457" y="158"/>
                    </a:lnTo>
                    <a:lnTo>
                      <a:pt x="457" y="170"/>
                    </a:lnTo>
                    <a:lnTo>
                      <a:pt x="466" y="171"/>
                    </a:lnTo>
                    <a:lnTo>
                      <a:pt x="478" y="194"/>
                    </a:lnTo>
                    <a:lnTo>
                      <a:pt x="567" y="289"/>
                    </a:lnTo>
                    <a:lnTo>
                      <a:pt x="571" y="295"/>
                    </a:lnTo>
                    <a:lnTo>
                      <a:pt x="572" y="301"/>
                    </a:lnTo>
                    <a:lnTo>
                      <a:pt x="571" y="309"/>
                    </a:lnTo>
                    <a:lnTo>
                      <a:pt x="567" y="312"/>
                    </a:lnTo>
                    <a:lnTo>
                      <a:pt x="564" y="314"/>
                    </a:lnTo>
                    <a:lnTo>
                      <a:pt x="564" y="320"/>
                    </a:lnTo>
                    <a:lnTo>
                      <a:pt x="560" y="326"/>
                    </a:lnTo>
                    <a:lnTo>
                      <a:pt x="556" y="331"/>
                    </a:lnTo>
                    <a:lnTo>
                      <a:pt x="560" y="335"/>
                    </a:lnTo>
                    <a:lnTo>
                      <a:pt x="564" y="340"/>
                    </a:lnTo>
                    <a:lnTo>
                      <a:pt x="569" y="347"/>
                    </a:lnTo>
                    <a:lnTo>
                      <a:pt x="579" y="355"/>
                    </a:lnTo>
                    <a:lnTo>
                      <a:pt x="587" y="360"/>
                    </a:lnTo>
                    <a:lnTo>
                      <a:pt x="595" y="366"/>
                    </a:lnTo>
                    <a:lnTo>
                      <a:pt x="602" y="372"/>
                    </a:lnTo>
                    <a:lnTo>
                      <a:pt x="623" y="365"/>
                    </a:lnTo>
                    <a:lnTo>
                      <a:pt x="636" y="362"/>
                    </a:lnTo>
                    <a:lnTo>
                      <a:pt x="647" y="360"/>
                    </a:lnTo>
                    <a:lnTo>
                      <a:pt x="655" y="357"/>
                    </a:lnTo>
                    <a:lnTo>
                      <a:pt x="688" y="335"/>
                    </a:lnTo>
                    <a:lnTo>
                      <a:pt x="730" y="289"/>
                    </a:lnTo>
                    <a:lnTo>
                      <a:pt x="735" y="290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5" y="251"/>
                    </a:lnTo>
                    <a:lnTo>
                      <a:pt x="771" y="242"/>
                    </a:lnTo>
                    <a:lnTo>
                      <a:pt x="864" y="240"/>
                    </a:lnTo>
                    <a:lnTo>
                      <a:pt x="803" y="275"/>
                    </a:lnTo>
                    <a:lnTo>
                      <a:pt x="791" y="289"/>
                    </a:lnTo>
                    <a:lnTo>
                      <a:pt x="772" y="319"/>
                    </a:lnTo>
                    <a:lnTo>
                      <a:pt x="775" y="326"/>
                    </a:lnTo>
                    <a:lnTo>
                      <a:pt x="727" y="407"/>
                    </a:lnTo>
                    <a:lnTo>
                      <a:pt x="713" y="449"/>
                    </a:lnTo>
                    <a:lnTo>
                      <a:pt x="695" y="464"/>
                    </a:lnTo>
                    <a:lnTo>
                      <a:pt x="677" y="476"/>
                    </a:lnTo>
                    <a:lnTo>
                      <a:pt x="653" y="486"/>
                    </a:lnTo>
                    <a:lnTo>
                      <a:pt x="637" y="489"/>
                    </a:lnTo>
                    <a:lnTo>
                      <a:pt x="623" y="4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987520" y="3823920"/>
                <a:ext cx="285840" cy="81720"/>
              </a:xfrm>
              <a:custGeom>
                <a:avLst/>
                <a:gdLst/>
                <a:ahLst/>
                <a:rect l="l" t="t" r="r" b="b"/>
                <a:pathLst>
                  <a:path w="681" h="194">
                    <a:moveTo>
                      <a:pt x="478" y="94"/>
                    </a:moveTo>
                    <a:lnTo>
                      <a:pt x="467" y="90"/>
                    </a:lnTo>
                    <a:lnTo>
                      <a:pt x="398" y="93"/>
                    </a:lnTo>
                    <a:lnTo>
                      <a:pt x="394" y="96"/>
                    </a:lnTo>
                    <a:lnTo>
                      <a:pt x="470" y="99"/>
                    </a:lnTo>
                    <a:lnTo>
                      <a:pt x="465" y="101"/>
                    </a:lnTo>
                    <a:lnTo>
                      <a:pt x="386" y="101"/>
                    </a:lnTo>
                    <a:lnTo>
                      <a:pt x="293" y="104"/>
                    </a:lnTo>
                    <a:lnTo>
                      <a:pt x="270" y="104"/>
                    </a:lnTo>
                    <a:lnTo>
                      <a:pt x="192" y="136"/>
                    </a:lnTo>
                    <a:lnTo>
                      <a:pt x="192" y="182"/>
                    </a:lnTo>
                    <a:lnTo>
                      <a:pt x="139" y="194"/>
                    </a:lnTo>
                    <a:lnTo>
                      <a:pt x="139" y="151"/>
                    </a:lnTo>
                    <a:lnTo>
                      <a:pt x="135" y="138"/>
                    </a:lnTo>
                    <a:lnTo>
                      <a:pt x="135" y="127"/>
                    </a:lnTo>
                    <a:lnTo>
                      <a:pt x="134" y="124"/>
                    </a:lnTo>
                    <a:lnTo>
                      <a:pt x="131" y="121"/>
                    </a:lnTo>
                    <a:lnTo>
                      <a:pt x="129" y="120"/>
                    </a:lnTo>
                    <a:lnTo>
                      <a:pt x="125" y="120"/>
                    </a:lnTo>
                    <a:lnTo>
                      <a:pt x="105" y="119"/>
                    </a:lnTo>
                    <a:lnTo>
                      <a:pt x="113" y="130"/>
                    </a:lnTo>
                    <a:lnTo>
                      <a:pt x="114" y="135"/>
                    </a:lnTo>
                    <a:lnTo>
                      <a:pt x="114" y="138"/>
                    </a:lnTo>
                    <a:lnTo>
                      <a:pt x="111" y="141"/>
                    </a:lnTo>
                    <a:lnTo>
                      <a:pt x="108" y="144"/>
                    </a:lnTo>
                    <a:lnTo>
                      <a:pt x="130" y="144"/>
                    </a:lnTo>
                    <a:lnTo>
                      <a:pt x="133" y="144"/>
                    </a:lnTo>
                    <a:lnTo>
                      <a:pt x="134" y="141"/>
                    </a:lnTo>
                    <a:lnTo>
                      <a:pt x="135" y="138"/>
                    </a:lnTo>
                    <a:lnTo>
                      <a:pt x="139" y="151"/>
                    </a:lnTo>
                    <a:lnTo>
                      <a:pt x="89" y="151"/>
                    </a:lnTo>
                    <a:lnTo>
                      <a:pt x="0" y="55"/>
                    </a:lnTo>
                    <a:lnTo>
                      <a:pt x="33" y="55"/>
                    </a:lnTo>
                    <a:lnTo>
                      <a:pt x="33" y="43"/>
                    </a:lnTo>
                    <a:lnTo>
                      <a:pt x="46" y="43"/>
                    </a:lnTo>
                    <a:lnTo>
                      <a:pt x="52" y="20"/>
                    </a:lnTo>
                    <a:lnTo>
                      <a:pt x="56" y="20"/>
                    </a:lnTo>
                    <a:lnTo>
                      <a:pt x="58" y="11"/>
                    </a:lnTo>
                    <a:lnTo>
                      <a:pt x="64" y="6"/>
                    </a:lnTo>
                    <a:lnTo>
                      <a:pt x="72" y="5"/>
                    </a:lnTo>
                    <a:lnTo>
                      <a:pt x="196" y="15"/>
                    </a:lnTo>
                    <a:lnTo>
                      <a:pt x="201" y="17"/>
                    </a:lnTo>
                    <a:lnTo>
                      <a:pt x="206" y="21"/>
                    </a:lnTo>
                    <a:lnTo>
                      <a:pt x="208" y="27"/>
                    </a:lnTo>
                    <a:lnTo>
                      <a:pt x="208" y="33"/>
                    </a:lnTo>
                    <a:lnTo>
                      <a:pt x="207" y="38"/>
                    </a:lnTo>
                    <a:lnTo>
                      <a:pt x="206" y="41"/>
                    </a:lnTo>
                    <a:lnTo>
                      <a:pt x="198" y="41"/>
                    </a:lnTo>
                    <a:lnTo>
                      <a:pt x="199" y="37"/>
                    </a:lnTo>
                    <a:lnTo>
                      <a:pt x="202" y="32"/>
                    </a:lnTo>
                    <a:lnTo>
                      <a:pt x="202" y="27"/>
                    </a:lnTo>
                    <a:lnTo>
                      <a:pt x="198" y="22"/>
                    </a:lnTo>
                    <a:lnTo>
                      <a:pt x="192" y="20"/>
                    </a:lnTo>
                    <a:lnTo>
                      <a:pt x="99" y="20"/>
                    </a:lnTo>
                    <a:lnTo>
                      <a:pt x="95" y="26"/>
                    </a:lnTo>
                    <a:lnTo>
                      <a:pt x="93" y="31"/>
                    </a:lnTo>
                    <a:lnTo>
                      <a:pt x="92" y="36"/>
                    </a:lnTo>
                    <a:lnTo>
                      <a:pt x="92" y="39"/>
                    </a:lnTo>
                    <a:lnTo>
                      <a:pt x="93" y="42"/>
                    </a:lnTo>
                    <a:lnTo>
                      <a:pt x="97" y="43"/>
                    </a:lnTo>
                    <a:lnTo>
                      <a:pt x="192" y="43"/>
                    </a:lnTo>
                    <a:lnTo>
                      <a:pt x="198" y="41"/>
                    </a:lnTo>
                    <a:lnTo>
                      <a:pt x="206" y="41"/>
                    </a:lnTo>
                    <a:lnTo>
                      <a:pt x="482" y="41"/>
                    </a:lnTo>
                    <a:lnTo>
                      <a:pt x="488" y="42"/>
                    </a:lnTo>
                    <a:lnTo>
                      <a:pt x="490" y="43"/>
                    </a:lnTo>
                    <a:lnTo>
                      <a:pt x="521" y="43"/>
                    </a:lnTo>
                    <a:lnTo>
                      <a:pt x="518" y="31"/>
                    </a:lnTo>
                    <a:lnTo>
                      <a:pt x="515" y="31"/>
                    </a:lnTo>
                    <a:lnTo>
                      <a:pt x="515" y="16"/>
                    </a:lnTo>
                    <a:lnTo>
                      <a:pt x="506" y="16"/>
                    </a:lnTo>
                    <a:lnTo>
                      <a:pt x="487" y="39"/>
                    </a:lnTo>
                    <a:lnTo>
                      <a:pt x="487" y="42"/>
                    </a:lnTo>
                    <a:lnTo>
                      <a:pt x="488" y="42"/>
                    </a:lnTo>
                    <a:lnTo>
                      <a:pt x="482" y="41"/>
                    </a:lnTo>
                    <a:lnTo>
                      <a:pt x="510" y="2"/>
                    </a:lnTo>
                    <a:lnTo>
                      <a:pt x="515" y="0"/>
                    </a:lnTo>
                    <a:lnTo>
                      <a:pt x="521" y="2"/>
                    </a:lnTo>
                    <a:lnTo>
                      <a:pt x="524" y="7"/>
                    </a:lnTo>
                    <a:lnTo>
                      <a:pt x="527" y="53"/>
                    </a:lnTo>
                    <a:lnTo>
                      <a:pt x="601" y="53"/>
                    </a:lnTo>
                    <a:lnTo>
                      <a:pt x="610" y="49"/>
                    </a:lnTo>
                    <a:lnTo>
                      <a:pt x="662" y="48"/>
                    </a:lnTo>
                    <a:lnTo>
                      <a:pt x="667" y="39"/>
                    </a:lnTo>
                    <a:lnTo>
                      <a:pt x="677" y="39"/>
                    </a:lnTo>
                    <a:lnTo>
                      <a:pt x="677" y="48"/>
                    </a:lnTo>
                    <a:lnTo>
                      <a:pt x="681" y="48"/>
                    </a:lnTo>
                    <a:lnTo>
                      <a:pt x="681" y="70"/>
                    </a:lnTo>
                    <a:lnTo>
                      <a:pt x="666" y="70"/>
                    </a:lnTo>
                    <a:lnTo>
                      <a:pt x="660" y="65"/>
                    </a:lnTo>
                    <a:lnTo>
                      <a:pt x="527" y="65"/>
                    </a:lnTo>
                    <a:lnTo>
                      <a:pt x="527" y="73"/>
                    </a:lnTo>
                    <a:lnTo>
                      <a:pt x="515" y="73"/>
                    </a:lnTo>
                    <a:lnTo>
                      <a:pt x="515" y="70"/>
                    </a:lnTo>
                    <a:lnTo>
                      <a:pt x="492" y="70"/>
                    </a:lnTo>
                    <a:lnTo>
                      <a:pt x="492" y="82"/>
                    </a:lnTo>
                    <a:lnTo>
                      <a:pt x="485" y="82"/>
                    </a:lnTo>
                    <a:lnTo>
                      <a:pt x="478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62760" y="4223160"/>
                <a:ext cx="241920" cy="363960"/>
              </a:xfrm>
              <a:custGeom>
                <a:avLst/>
                <a:gdLst/>
                <a:ahLst/>
                <a:rect l="l" t="t" r="r" b="b"/>
                <a:pathLst>
                  <a:path w="573" h="866">
                    <a:moveTo>
                      <a:pt x="457" y="496"/>
                    </a:moveTo>
                    <a:lnTo>
                      <a:pt x="473" y="483"/>
                    </a:lnTo>
                    <a:lnTo>
                      <a:pt x="486" y="475"/>
                    </a:lnTo>
                    <a:lnTo>
                      <a:pt x="464" y="503"/>
                    </a:lnTo>
                    <a:lnTo>
                      <a:pt x="441" y="532"/>
                    </a:lnTo>
                    <a:lnTo>
                      <a:pt x="417" y="559"/>
                    </a:lnTo>
                    <a:lnTo>
                      <a:pt x="393" y="586"/>
                    </a:lnTo>
                    <a:lnTo>
                      <a:pt x="369" y="613"/>
                    </a:lnTo>
                    <a:lnTo>
                      <a:pt x="344" y="639"/>
                    </a:lnTo>
                    <a:lnTo>
                      <a:pt x="318" y="664"/>
                    </a:lnTo>
                    <a:lnTo>
                      <a:pt x="291" y="688"/>
                    </a:lnTo>
                    <a:lnTo>
                      <a:pt x="265" y="713"/>
                    </a:lnTo>
                    <a:lnTo>
                      <a:pt x="238" y="737"/>
                    </a:lnTo>
                    <a:lnTo>
                      <a:pt x="210" y="760"/>
                    </a:lnTo>
                    <a:lnTo>
                      <a:pt x="182" y="782"/>
                    </a:lnTo>
                    <a:lnTo>
                      <a:pt x="153" y="804"/>
                    </a:lnTo>
                    <a:lnTo>
                      <a:pt x="125" y="825"/>
                    </a:lnTo>
                    <a:lnTo>
                      <a:pt x="94" y="846"/>
                    </a:lnTo>
                    <a:lnTo>
                      <a:pt x="65" y="866"/>
                    </a:lnTo>
                    <a:lnTo>
                      <a:pt x="64" y="851"/>
                    </a:lnTo>
                    <a:lnTo>
                      <a:pt x="74" y="831"/>
                    </a:lnTo>
                    <a:lnTo>
                      <a:pt x="79" y="806"/>
                    </a:lnTo>
                    <a:lnTo>
                      <a:pt x="86" y="795"/>
                    </a:lnTo>
                    <a:lnTo>
                      <a:pt x="84" y="782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69" y="737"/>
                    </a:lnTo>
                    <a:lnTo>
                      <a:pt x="81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9" y="700"/>
                    </a:lnTo>
                    <a:lnTo>
                      <a:pt x="54" y="694"/>
                    </a:lnTo>
                    <a:lnTo>
                      <a:pt x="53" y="688"/>
                    </a:lnTo>
                    <a:lnTo>
                      <a:pt x="47" y="689"/>
                    </a:lnTo>
                    <a:lnTo>
                      <a:pt x="39" y="688"/>
                    </a:lnTo>
                    <a:lnTo>
                      <a:pt x="32" y="684"/>
                    </a:lnTo>
                    <a:lnTo>
                      <a:pt x="25" y="679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3" y="653"/>
                    </a:lnTo>
                    <a:lnTo>
                      <a:pt x="7" y="649"/>
                    </a:lnTo>
                    <a:lnTo>
                      <a:pt x="1" y="597"/>
                    </a:lnTo>
                    <a:lnTo>
                      <a:pt x="6" y="596"/>
                    </a:lnTo>
                    <a:lnTo>
                      <a:pt x="6" y="574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9"/>
                    </a:lnTo>
                    <a:lnTo>
                      <a:pt x="6" y="541"/>
                    </a:lnTo>
                    <a:lnTo>
                      <a:pt x="10" y="537"/>
                    </a:lnTo>
                    <a:lnTo>
                      <a:pt x="13" y="528"/>
                    </a:lnTo>
                    <a:lnTo>
                      <a:pt x="14" y="521"/>
                    </a:lnTo>
                    <a:lnTo>
                      <a:pt x="17" y="517"/>
                    </a:lnTo>
                    <a:lnTo>
                      <a:pt x="31" y="513"/>
                    </a:lnTo>
                    <a:lnTo>
                      <a:pt x="25" y="502"/>
                    </a:lnTo>
                    <a:lnTo>
                      <a:pt x="30" y="485"/>
                    </a:lnTo>
                    <a:lnTo>
                      <a:pt x="31" y="481"/>
                    </a:lnTo>
                    <a:lnTo>
                      <a:pt x="32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5" y="487"/>
                    </a:lnTo>
                    <a:lnTo>
                      <a:pt x="66" y="494"/>
                    </a:lnTo>
                    <a:lnTo>
                      <a:pt x="66" y="502"/>
                    </a:lnTo>
                    <a:lnTo>
                      <a:pt x="65" y="508"/>
                    </a:lnTo>
                    <a:lnTo>
                      <a:pt x="63" y="510"/>
                    </a:lnTo>
                    <a:lnTo>
                      <a:pt x="66" y="513"/>
                    </a:lnTo>
                    <a:lnTo>
                      <a:pt x="72" y="513"/>
                    </a:lnTo>
                    <a:lnTo>
                      <a:pt x="75" y="510"/>
                    </a:lnTo>
                    <a:lnTo>
                      <a:pt x="79" y="507"/>
                    </a:lnTo>
                    <a:lnTo>
                      <a:pt x="78" y="500"/>
                    </a:lnTo>
                    <a:lnTo>
                      <a:pt x="66" y="502"/>
                    </a:lnTo>
                    <a:lnTo>
                      <a:pt x="66" y="494"/>
                    </a:lnTo>
                    <a:lnTo>
                      <a:pt x="80" y="493"/>
                    </a:lnTo>
                    <a:lnTo>
                      <a:pt x="84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7"/>
                    </a:lnTo>
                    <a:lnTo>
                      <a:pt x="108" y="367"/>
                    </a:lnTo>
                    <a:lnTo>
                      <a:pt x="114" y="349"/>
                    </a:lnTo>
                    <a:lnTo>
                      <a:pt x="119" y="337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7" y="287"/>
                    </a:lnTo>
                    <a:lnTo>
                      <a:pt x="119" y="273"/>
                    </a:lnTo>
                    <a:lnTo>
                      <a:pt x="124" y="255"/>
                    </a:lnTo>
                    <a:lnTo>
                      <a:pt x="136" y="234"/>
                    </a:lnTo>
                    <a:lnTo>
                      <a:pt x="148" y="218"/>
                    </a:lnTo>
                    <a:lnTo>
                      <a:pt x="166" y="202"/>
                    </a:lnTo>
                    <a:lnTo>
                      <a:pt x="182" y="191"/>
                    </a:lnTo>
                    <a:lnTo>
                      <a:pt x="193" y="181"/>
                    </a:lnTo>
                    <a:lnTo>
                      <a:pt x="203" y="175"/>
                    </a:lnTo>
                    <a:lnTo>
                      <a:pt x="214" y="171"/>
                    </a:lnTo>
                    <a:lnTo>
                      <a:pt x="224" y="171"/>
                    </a:lnTo>
                    <a:lnTo>
                      <a:pt x="236" y="175"/>
                    </a:lnTo>
                    <a:lnTo>
                      <a:pt x="262" y="169"/>
                    </a:lnTo>
                    <a:lnTo>
                      <a:pt x="265" y="160"/>
                    </a:lnTo>
                    <a:lnTo>
                      <a:pt x="261" y="144"/>
                    </a:lnTo>
                    <a:lnTo>
                      <a:pt x="264" y="142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89"/>
                    </a:lnTo>
                    <a:lnTo>
                      <a:pt x="264" y="72"/>
                    </a:lnTo>
                    <a:lnTo>
                      <a:pt x="270" y="52"/>
                    </a:lnTo>
                    <a:lnTo>
                      <a:pt x="281" y="37"/>
                    </a:lnTo>
                    <a:lnTo>
                      <a:pt x="290" y="27"/>
                    </a:lnTo>
                    <a:lnTo>
                      <a:pt x="315" y="15"/>
                    </a:lnTo>
                    <a:lnTo>
                      <a:pt x="333" y="7"/>
                    </a:lnTo>
                    <a:lnTo>
                      <a:pt x="352" y="2"/>
                    </a:lnTo>
                    <a:lnTo>
                      <a:pt x="371" y="0"/>
                    </a:lnTo>
                    <a:lnTo>
                      <a:pt x="386" y="0"/>
                    </a:lnTo>
                    <a:lnTo>
                      <a:pt x="401" y="2"/>
                    </a:lnTo>
                    <a:lnTo>
                      <a:pt x="414" y="6"/>
                    </a:lnTo>
                    <a:lnTo>
                      <a:pt x="424" y="12"/>
                    </a:lnTo>
                    <a:lnTo>
                      <a:pt x="435" y="22"/>
                    </a:lnTo>
                    <a:lnTo>
                      <a:pt x="444" y="36"/>
                    </a:lnTo>
                    <a:lnTo>
                      <a:pt x="457" y="62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1" y="108"/>
                    </a:lnTo>
                    <a:lnTo>
                      <a:pt x="479" y="114"/>
                    </a:lnTo>
                    <a:lnTo>
                      <a:pt x="473" y="119"/>
                    </a:lnTo>
                    <a:lnTo>
                      <a:pt x="453" y="125"/>
                    </a:lnTo>
                    <a:lnTo>
                      <a:pt x="456" y="142"/>
                    </a:lnTo>
                    <a:lnTo>
                      <a:pt x="457" y="159"/>
                    </a:lnTo>
                    <a:lnTo>
                      <a:pt x="457" y="170"/>
                    </a:lnTo>
                    <a:lnTo>
                      <a:pt x="466" y="171"/>
                    </a:lnTo>
                    <a:lnTo>
                      <a:pt x="478" y="193"/>
                    </a:lnTo>
                    <a:lnTo>
                      <a:pt x="567" y="289"/>
                    </a:lnTo>
                    <a:lnTo>
                      <a:pt x="571" y="295"/>
                    </a:lnTo>
                    <a:lnTo>
                      <a:pt x="572" y="302"/>
                    </a:lnTo>
                    <a:lnTo>
                      <a:pt x="571" y="308"/>
                    </a:lnTo>
                    <a:lnTo>
                      <a:pt x="567" y="312"/>
                    </a:lnTo>
                    <a:lnTo>
                      <a:pt x="564" y="313"/>
                    </a:lnTo>
                    <a:lnTo>
                      <a:pt x="564" y="321"/>
                    </a:lnTo>
                    <a:lnTo>
                      <a:pt x="561" y="327"/>
                    </a:lnTo>
                    <a:lnTo>
                      <a:pt x="557" y="331"/>
                    </a:lnTo>
                    <a:lnTo>
                      <a:pt x="561" y="335"/>
                    </a:lnTo>
                    <a:lnTo>
                      <a:pt x="564" y="341"/>
                    </a:lnTo>
                    <a:lnTo>
                      <a:pt x="569" y="348"/>
                    </a:lnTo>
                    <a:lnTo>
                      <a:pt x="573" y="351"/>
                    </a:lnTo>
                    <a:lnTo>
                      <a:pt x="565" y="364"/>
                    </a:lnTo>
                    <a:lnTo>
                      <a:pt x="557" y="376"/>
                    </a:lnTo>
                    <a:lnTo>
                      <a:pt x="548" y="389"/>
                    </a:lnTo>
                    <a:lnTo>
                      <a:pt x="540" y="401"/>
                    </a:lnTo>
                    <a:lnTo>
                      <a:pt x="530" y="414"/>
                    </a:lnTo>
                    <a:lnTo>
                      <a:pt x="522" y="427"/>
                    </a:lnTo>
                    <a:lnTo>
                      <a:pt x="513" y="439"/>
                    </a:lnTo>
                    <a:lnTo>
                      <a:pt x="504" y="452"/>
                    </a:lnTo>
                    <a:lnTo>
                      <a:pt x="488" y="441"/>
                    </a:lnTo>
                    <a:lnTo>
                      <a:pt x="476" y="432"/>
                    </a:lnTo>
                    <a:lnTo>
                      <a:pt x="461" y="421"/>
                    </a:lnTo>
                    <a:lnTo>
                      <a:pt x="462" y="440"/>
                    </a:lnTo>
                    <a:lnTo>
                      <a:pt x="460" y="457"/>
                    </a:lnTo>
                    <a:lnTo>
                      <a:pt x="457" y="496"/>
                    </a:lnTo>
                    <a:close/>
                    <a:moveTo>
                      <a:pt x="90" y="513"/>
                    </a:moveTo>
                    <a:lnTo>
                      <a:pt x="84" y="519"/>
                    </a:lnTo>
                    <a:lnTo>
                      <a:pt x="86" y="523"/>
                    </a:lnTo>
                    <a:lnTo>
                      <a:pt x="89" y="529"/>
                    </a:lnTo>
                    <a:lnTo>
                      <a:pt x="90" y="523"/>
                    </a:lnTo>
                    <a:lnTo>
                      <a:pt x="91" y="518"/>
                    </a:lnTo>
                    <a:lnTo>
                      <a:pt x="90" y="5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62760" y="4223160"/>
                <a:ext cx="241920" cy="363960"/>
              </a:xfrm>
              <a:custGeom>
                <a:avLst/>
                <a:gdLst/>
                <a:ahLst/>
                <a:rect l="l" t="t" r="r" b="b"/>
                <a:pathLst>
                  <a:path w="573" h="866">
                    <a:moveTo>
                      <a:pt x="65" y="866"/>
                    </a:moveTo>
                    <a:lnTo>
                      <a:pt x="64" y="851"/>
                    </a:lnTo>
                    <a:lnTo>
                      <a:pt x="74" y="831"/>
                    </a:lnTo>
                    <a:lnTo>
                      <a:pt x="79" y="806"/>
                    </a:lnTo>
                    <a:lnTo>
                      <a:pt x="86" y="795"/>
                    </a:lnTo>
                    <a:lnTo>
                      <a:pt x="84" y="782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69" y="737"/>
                    </a:lnTo>
                    <a:lnTo>
                      <a:pt x="81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9" y="700"/>
                    </a:lnTo>
                    <a:lnTo>
                      <a:pt x="54" y="694"/>
                    </a:lnTo>
                    <a:lnTo>
                      <a:pt x="53" y="688"/>
                    </a:lnTo>
                    <a:lnTo>
                      <a:pt x="47" y="689"/>
                    </a:lnTo>
                    <a:lnTo>
                      <a:pt x="39" y="688"/>
                    </a:lnTo>
                    <a:lnTo>
                      <a:pt x="32" y="684"/>
                    </a:lnTo>
                    <a:lnTo>
                      <a:pt x="25" y="679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3" y="653"/>
                    </a:lnTo>
                    <a:lnTo>
                      <a:pt x="7" y="649"/>
                    </a:lnTo>
                    <a:lnTo>
                      <a:pt x="1" y="597"/>
                    </a:lnTo>
                    <a:lnTo>
                      <a:pt x="6" y="596"/>
                    </a:lnTo>
                    <a:lnTo>
                      <a:pt x="6" y="574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9"/>
                    </a:lnTo>
                    <a:lnTo>
                      <a:pt x="6" y="541"/>
                    </a:lnTo>
                    <a:lnTo>
                      <a:pt x="10" y="537"/>
                    </a:lnTo>
                    <a:lnTo>
                      <a:pt x="13" y="528"/>
                    </a:lnTo>
                    <a:lnTo>
                      <a:pt x="14" y="521"/>
                    </a:lnTo>
                    <a:lnTo>
                      <a:pt x="17" y="517"/>
                    </a:lnTo>
                    <a:lnTo>
                      <a:pt x="31" y="513"/>
                    </a:lnTo>
                    <a:lnTo>
                      <a:pt x="25" y="502"/>
                    </a:lnTo>
                    <a:lnTo>
                      <a:pt x="30" y="485"/>
                    </a:lnTo>
                    <a:lnTo>
                      <a:pt x="31" y="481"/>
                    </a:lnTo>
                    <a:lnTo>
                      <a:pt x="32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5" y="487"/>
                    </a:lnTo>
                    <a:lnTo>
                      <a:pt x="66" y="494"/>
                    </a:lnTo>
                    <a:lnTo>
                      <a:pt x="66" y="502"/>
                    </a:lnTo>
                    <a:lnTo>
                      <a:pt x="65" y="508"/>
                    </a:lnTo>
                    <a:lnTo>
                      <a:pt x="63" y="510"/>
                    </a:lnTo>
                    <a:lnTo>
                      <a:pt x="66" y="513"/>
                    </a:lnTo>
                    <a:lnTo>
                      <a:pt x="72" y="513"/>
                    </a:lnTo>
                    <a:lnTo>
                      <a:pt x="75" y="510"/>
                    </a:lnTo>
                    <a:lnTo>
                      <a:pt x="79" y="507"/>
                    </a:lnTo>
                    <a:lnTo>
                      <a:pt x="78" y="500"/>
                    </a:lnTo>
                    <a:lnTo>
                      <a:pt x="66" y="502"/>
                    </a:lnTo>
                    <a:lnTo>
                      <a:pt x="66" y="494"/>
                    </a:lnTo>
                    <a:lnTo>
                      <a:pt x="80" y="493"/>
                    </a:lnTo>
                    <a:lnTo>
                      <a:pt x="84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7"/>
                    </a:lnTo>
                    <a:lnTo>
                      <a:pt x="108" y="367"/>
                    </a:lnTo>
                    <a:lnTo>
                      <a:pt x="114" y="349"/>
                    </a:lnTo>
                    <a:lnTo>
                      <a:pt x="119" y="337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7" y="287"/>
                    </a:lnTo>
                    <a:lnTo>
                      <a:pt x="119" y="273"/>
                    </a:lnTo>
                    <a:lnTo>
                      <a:pt x="124" y="255"/>
                    </a:lnTo>
                    <a:lnTo>
                      <a:pt x="136" y="234"/>
                    </a:lnTo>
                    <a:lnTo>
                      <a:pt x="148" y="218"/>
                    </a:lnTo>
                    <a:lnTo>
                      <a:pt x="166" y="202"/>
                    </a:lnTo>
                    <a:lnTo>
                      <a:pt x="182" y="191"/>
                    </a:lnTo>
                    <a:lnTo>
                      <a:pt x="193" y="181"/>
                    </a:lnTo>
                    <a:lnTo>
                      <a:pt x="203" y="175"/>
                    </a:lnTo>
                    <a:lnTo>
                      <a:pt x="214" y="171"/>
                    </a:lnTo>
                    <a:lnTo>
                      <a:pt x="224" y="171"/>
                    </a:lnTo>
                    <a:lnTo>
                      <a:pt x="236" y="175"/>
                    </a:lnTo>
                    <a:lnTo>
                      <a:pt x="262" y="169"/>
                    </a:lnTo>
                    <a:lnTo>
                      <a:pt x="265" y="160"/>
                    </a:lnTo>
                    <a:lnTo>
                      <a:pt x="261" y="144"/>
                    </a:lnTo>
                    <a:lnTo>
                      <a:pt x="264" y="142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89"/>
                    </a:lnTo>
                    <a:lnTo>
                      <a:pt x="264" y="72"/>
                    </a:lnTo>
                    <a:lnTo>
                      <a:pt x="270" y="52"/>
                    </a:lnTo>
                    <a:lnTo>
                      <a:pt x="281" y="37"/>
                    </a:lnTo>
                    <a:lnTo>
                      <a:pt x="290" y="27"/>
                    </a:lnTo>
                    <a:lnTo>
                      <a:pt x="315" y="15"/>
                    </a:lnTo>
                    <a:lnTo>
                      <a:pt x="333" y="7"/>
                    </a:lnTo>
                    <a:lnTo>
                      <a:pt x="352" y="2"/>
                    </a:lnTo>
                    <a:lnTo>
                      <a:pt x="371" y="0"/>
                    </a:lnTo>
                    <a:lnTo>
                      <a:pt x="386" y="0"/>
                    </a:lnTo>
                    <a:lnTo>
                      <a:pt x="401" y="2"/>
                    </a:lnTo>
                    <a:lnTo>
                      <a:pt x="414" y="6"/>
                    </a:lnTo>
                    <a:lnTo>
                      <a:pt x="424" y="12"/>
                    </a:lnTo>
                    <a:lnTo>
                      <a:pt x="435" y="22"/>
                    </a:lnTo>
                    <a:lnTo>
                      <a:pt x="444" y="36"/>
                    </a:lnTo>
                    <a:lnTo>
                      <a:pt x="457" y="62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1" y="108"/>
                    </a:lnTo>
                    <a:lnTo>
                      <a:pt x="479" y="114"/>
                    </a:lnTo>
                    <a:lnTo>
                      <a:pt x="473" y="119"/>
                    </a:lnTo>
                    <a:lnTo>
                      <a:pt x="453" y="125"/>
                    </a:lnTo>
                    <a:lnTo>
                      <a:pt x="456" y="142"/>
                    </a:lnTo>
                    <a:lnTo>
                      <a:pt x="457" y="159"/>
                    </a:lnTo>
                    <a:lnTo>
                      <a:pt x="457" y="170"/>
                    </a:lnTo>
                    <a:lnTo>
                      <a:pt x="466" y="171"/>
                    </a:lnTo>
                    <a:lnTo>
                      <a:pt x="478" y="193"/>
                    </a:lnTo>
                    <a:lnTo>
                      <a:pt x="567" y="289"/>
                    </a:lnTo>
                    <a:lnTo>
                      <a:pt x="571" y="295"/>
                    </a:lnTo>
                    <a:lnTo>
                      <a:pt x="572" y="302"/>
                    </a:lnTo>
                    <a:lnTo>
                      <a:pt x="571" y="308"/>
                    </a:lnTo>
                    <a:lnTo>
                      <a:pt x="567" y="312"/>
                    </a:lnTo>
                    <a:lnTo>
                      <a:pt x="564" y="313"/>
                    </a:lnTo>
                    <a:lnTo>
                      <a:pt x="564" y="321"/>
                    </a:lnTo>
                    <a:lnTo>
                      <a:pt x="561" y="327"/>
                    </a:lnTo>
                    <a:lnTo>
                      <a:pt x="557" y="331"/>
                    </a:lnTo>
                    <a:lnTo>
                      <a:pt x="561" y="335"/>
                    </a:lnTo>
                    <a:lnTo>
                      <a:pt x="564" y="341"/>
                    </a:lnTo>
                    <a:lnTo>
                      <a:pt x="569" y="348"/>
                    </a:lnTo>
                    <a:lnTo>
                      <a:pt x="573" y="35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65080" y="4284360"/>
                <a:ext cx="83880" cy="6084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36" y="139"/>
                    </a:moveTo>
                    <a:lnTo>
                      <a:pt x="135" y="134"/>
                    </a:lnTo>
                    <a:lnTo>
                      <a:pt x="135" y="124"/>
                    </a:lnTo>
                    <a:lnTo>
                      <a:pt x="134" y="120"/>
                    </a:lnTo>
                    <a:lnTo>
                      <a:pt x="131" y="118"/>
                    </a:lnTo>
                    <a:lnTo>
                      <a:pt x="129" y="117"/>
                    </a:lnTo>
                    <a:lnTo>
                      <a:pt x="126" y="117"/>
                    </a:lnTo>
                    <a:lnTo>
                      <a:pt x="106" y="114"/>
                    </a:lnTo>
                    <a:lnTo>
                      <a:pt x="113" y="125"/>
                    </a:lnTo>
                    <a:lnTo>
                      <a:pt x="114" y="130"/>
                    </a:lnTo>
                    <a:lnTo>
                      <a:pt x="114" y="134"/>
                    </a:lnTo>
                    <a:lnTo>
                      <a:pt x="111" y="138"/>
                    </a:lnTo>
                    <a:lnTo>
                      <a:pt x="108" y="140"/>
                    </a:lnTo>
                    <a:lnTo>
                      <a:pt x="130" y="140"/>
                    </a:lnTo>
                    <a:lnTo>
                      <a:pt x="132" y="140"/>
                    </a:lnTo>
                    <a:lnTo>
                      <a:pt x="134" y="138"/>
                    </a:lnTo>
                    <a:lnTo>
                      <a:pt x="135" y="134"/>
                    </a:lnTo>
                    <a:lnTo>
                      <a:pt x="136" y="139"/>
                    </a:lnTo>
                    <a:lnTo>
                      <a:pt x="135" y="140"/>
                    </a:lnTo>
                    <a:lnTo>
                      <a:pt x="135" y="141"/>
                    </a:lnTo>
                    <a:lnTo>
                      <a:pt x="134" y="142"/>
                    </a:lnTo>
                    <a:lnTo>
                      <a:pt x="134" y="143"/>
                    </a:lnTo>
                    <a:lnTo>
                      <a:pt x="133" y="144"/>
                    </a:lnTo>
                    <a:lnTo>
                      <a:pt x="133" y="145"/>
                    </a:lnTo>
                    <a:lnTo>
                      <a:pt x="132" y="146"/>
                    </a:lnTo>
                    <a:lnTo>
                      <a:pt x="132" y="147"/>
                    </a:lnTo>
                    <a:lnTo>
                      <a:pt x="89" y="147"/>
                    </a:lnTo>
                    <a:lnTo>
                      <a:pt x="0" y="51"/>
                    </a:lnTo>
                    <a:lnTo>
                      <a:pt x="34" y="51"/>
                    </a:lnTo>
                    <a:lnTo>
                      <a:pt x="34" y="40"/>
                    </a:lnTo>
                    <a:lnTo>
                      <a:pt x="46" y="40"/>
                    </a:lnTo>
                    <a:lnTo>
                      <a:pt x="52" y="16"/>
                    </a:lnTo>
                    <a:lnTo>
                      <a:pt x="57" y="16"/>
                    </a:lnTo>
                    <a:lnTo>
                      <a:pt x="59" y="7"/>
                    </a:lnTo>
                    <a:lnTo>
                      <a:pt x="64" y="1"/>
                    </a:lnTo>
                    <a:lnTo>
                      <a:pt x="72" y="0"/>
                    </a:lnTo>
                    <a:lnTo>
                      <a:pt x="196" y="10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5"/>
                    </a:lnTo>
                    <a:lnTo>
                      <a:pt x="199" y="16"/>
                    </a:lnTo>
                    <a:lnTo>
                      <a:pt x="199" y="16"/>
                    </a:lnTo>
                    <a:lnTo>
                      <a:pt x="199" y="17"/>
                    </a:lnTo>
                    <a:lnTo>
                      <a:pt x="198" y="17"/>
                    </a:lnTo>
                    <a:lnTo>
                      <a:pt x="198" y="18"/>
                    </a:lnTo>
                    <a:lnTo>
                      <a:pt x="198" y="19"/>
                    </a:lnTo>
                    <a:lnTo>
                      <a:pt x="193" y="16"/>
                    </a:lnTo>
                    <a:lnTo>
                      <a:pt x="100" y="16"/>
                    </a:lnTo>
                    <a:lnTo>
                      <a:pt x="95" y="21"/>
                    </a:lnTo>
                    <a:lnTo>
                      <a:pt x="93" y="26"/>
                    </a:lnTo>
                    <a:lnTo>
                      <a:pt x="92" y="31"/>
                    </a:lnTo>
                    <a:lnTo>
                      <a:pt x="92" y="36"/>
                    </a:lnTo>
                    <a:lnTo>
                      <a:pt x="93" y="39"/>
                    </a:lnTo>
                    <a:lnTo>
                      <a:pt x="97" y="40"/>
                    </a:lnTo>
                    <a:lnTo>
                      <a:pt x="188" y="40"/>
                    </a:lnTo>
                    <a:lnTo>
                      <a:pt x="181" y="52"/>
                    </a:lnTo>
                    <a:lnTo>
                      <a:pt x="175" y="65"/>
                    </a:lnTo>
                    <a:lnTo>
                      <a:pt x="169" y="78"/>
                    </a:lnTo>
                    <a:lnTo>
                      <a:pt x="162" y="89"/>
                    </a:lnTo>
                    <a:lnTo>
                      <a:pt x="156" y="102"/>
                    </a:lnTo>
                    <a:lnTo>
                      <a:pt x="150" y="114"/>
                    </a:lnTo>
                    <a:lnTo>
                      <a:pt x="144" y="126"/>
                    </a:lnTo>
                    <a:lnTo>
                      <a:pt x="136" y="13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65080" y="4284360"/>
                <a:ext cx="83880" cy="6084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32" y="147"/>
                    </a:moveTo>
                    <a:lnTo>
                      <a:pt x="89" y="147"/>
                    </a:lnTo>
                    <a:lnTo>
                      <a:pt x="0" y="51"/>
                    </a:lnTo>
                    <a:lnTo>
                      <a:pt x="34" y="51"/>
                    </a:lnTo>
                    <a:lnTo>
                      <a:pt x="34" y="40"/>
                    </a:lnTo>
                    <a:lnTo>
                      <a:pt x="46" y="40"/>
                    </a:lnTo>
                    <a:lnTo>
                      <a:pt x="52" y="16"/>
                    </a:lnTo>
                    <a:lnTo>
                      <a:pt x="57" y="16"/>
                    </a:lnTo>
                    <a:lnTo>
                      <a:pt x="59" y="7"/>
                    </a:lnTo>
                    <a:lnTo>
                      <a:pt x="64" y="1"/>
                    </a:lnTo>
                    <a:lnTo>
                      <a:pt x="72" y="0"/>
                    </a:lnTo>
                    <a:lnTo>
                      <a:pt x="196" y="10"/>
                    </a:lnTo>
                    <a:lnTo>
                      <a:pt x="200" y="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37360" y="3768840"/>
                <a:ext cx="176760" cy="420480"/>
              </a:xfrm>
              <a:custGeom>
                <a:avLst/>
                <a:gdLst/>
                <a:ahLst/>
                <a:rect l="l" t="t" r="r" b="b"/>
                <a:pathLst>
                  <a:path w="419" h="1002">
                    <a:moveTo>
                      <a:pt x="335" y="0"/>
                    </a:moveTo>
                    <a:lnTo>
                      <a:pt x="348" y="43"/>
                    </a:lnTo>
                    <a:lnTo>
                      <a:pt x="361" y="86"/>
                    </a:lnTo>
                    <a:lnTo>
                      <a:pt x="372" y="129"/>
                    </a:lnTo>
                    <a:lnTo>
                      <a:pt x="382" y="173"/>
                    </a:lnTo>
                    <a:lnTo>
                      <a:pt x="391" y="217"/>
                    </a:lnTo>
                    <a:lnTo>
                      <a:pt x="398" y="262"/>
                    </a:lnTo>
                    <a:lnTo>
                      <a:pt x="405" y="307"/>
                    </a:lnTo>
                    <a:lnTo>
                      <a:pt x="410" y="351"/>
                    </a:lnTo>
                    <a:lnTo>
                      <a:pt x="414" y="397"/>
                    </a:lnTo>
                    <a:lnTo>
                      <a:pt x="417" y="442"/>
                    </a:lnTo>
                    <a:lnTo>
                      <a:pt x="418" y="487"/>
                    </a:lnTo>
                    <a:lnTo>
                      <a:pt x="419" y="534"/>
                    </a:lnTo>
                    <a:lnTo>
                      <a:pt x="418" y="580"/>
                    </a:lnTo>
                    <a:lnTo>
                      <a:pt x="416" y="626"/>
                    </a:lnTo>
                    <a:lnTo>
                      <a:pt x="413" y="672"/>
                    </a:lnTo>
                    <a:lnTo>
                      <a:pt x="408" y="719"/>
                    </a:lnTo>
                    <a:lnTo>
                      <a:pt x="403" y="723"/>
                    </a:lnTo>
                    <a:lnTo>
                      <a:pt x="386" y="736"/>
                    </a:lnTo>
                    <a:lnTo>
                      <a:pt x="365" y="748"/>
                    </a:lnTo>
                    <a:lnTo>
                      <a:pt x="345" y="760"/>
                    </a:lnTo>
                    <a:lnTo>
                      <a:pt x="327" y="767"/>
                    </a:lnTo>
                    <a:lnTo>
                      <a:pt x="308" y="774"/>
                    </a:lnTo>
                    <a:lnTo>
                      <a:pt x="291" y="780"/>
                    </a:lnTo>
                    <a:lnTo>
                      <a:pt x="275" y="842"/>
                    </a:lnTo>
                    <a:lnTo>
                      <a:pt x="274" y="858"/>
                    </a:lnTo>
                    <a:lnTo>
                      <a:pt x="272" y="877"/>
                    </a:lnTo>
                    <a:lnTo>
                      <a:pt x="269" y="891"/>
                    </a:lnTo>
                    <a:lnTo>
                      <a:pt x="264" y="907"/>
                    </a:lnTo>
                    <a:lnTo>
                      <a:pt x="260" y="920"/>
                    </a:lnTo>
                    <a:lnTo>
                      <a:pt x="252" y="936"/>
                    </a:lnTo>
                    <a:lnTo>
                      <a:pt x="243" y="949"/>
                    </a:lnTo>
                    <a:lnTo>
                      <a:pt x="235" y="958"/>
                    </a:lnTo>
                    <a:lnTo>
                      <a:pt x="232" y="969"/>
                    </a:lnTo>
                    <a:lnTo>
                      <a:pt x="225" y="980"/>
                    </a:lnTo>
                    <a:lnTo>
                      <a:pt x="215" y="989"/>
                    </a:lnTo>
                    <a:lnTo>
                      <a:pt x="199" y="997"/>
                    </a:lnTo>
                    <a:lnTo>
                      <a:pt x="176" y="1002"/>
                    </a:lnTo>
                    <a:lnTo>
                      <a:pt x="156" y="1002"/>
                    </a:lnTo>
                    <a:lnTo>
                      <a:pt x="137" y="998"/>
                    </a:lnTo>
                    <a:lnTo>
                      <a:pt x="123" y="993"/>
                    </a:lnTo>
                    <a:lnTo>
                      <a:pt x="111" y="984"/>
                    </a:lnTo>
                    <a:lnTo>
                      <a:pt x="103" y="976"/>
                    </a:lnTo>
                    <a:lnTo>
                      <a:pt x="93" y="974"/>
                    </a:lnTo>
                    <a:lnTo>
                      <a:pt x="84" y="956"/>
                    </a:lnTo>
                    <a:lnTo>
                      <a:pt x="77" y="936"/>
                    </a:lnTo>
                    <a:lnTo>
                      <a:pt x="71" y="919"/>
                    </a:lnTo>
                    <a:lnTo>
                      <a:pt x="67" y="898"/>
                    </a:lnTo>
                    <a:lnTo>
                      <a:pt x="67" y="878"/>
                    </a:lnTo>
                    <a:lnTo>
                      <a:pt x="65" y="845"/>
                    </a:lnTo>
                    <a:lnTo>
                      <a:pt x="76" y="825"/>
                    </a:lnTo>
                    <a:lnTo>
                      <a:pt x="80" y="800"/>
                    </a:lnTo>
                    <a:lnTo>
                      <a:pt x="87" y="789"/>
                    </a:lnTo>
                    <a:lnTo>
                      <a:pt x="85" y="774"/>
                    </a:lnTo>
                    <a:lnTo>
                      <a:pt x="82" y="761"/>
                    </a:lnTo>
                    <a:lnTo>
                      <a:pt x="60" y="744"/>
                    </a:lnTo>
                    <a:lnTo>
                      <a:pt x="70" y="729"/>
                    </a:lnTo>
                    <a:lnTo>
                      <a:pt x="82" y="697"/>
                    </a:lnTo>
                    <a:lnTo>
                      <a:pt x="73" y="698"/>
                    </a:lnTo>
                    <a:lnTo>
                      <a:pt x="65" y="696"/>
                    </a:lnTo>
                    <a:lnTo>
                      <a:pt x="60" y="692"/>
                    </a:lnTo>
                    <a:lnTo>
                      <a:pt x="56" y="686"/>
                    </a:lnTo>
                    <a:lnTo>
                      <a:pt x="55" y="681"/>
                    </a:lnTo>
                    <a:lnTo>
                      <a:pt x="48" y="682"/>
                    </a:lnTo>
                    <a:lnTo>
                      <a:pt x="40" y="681"/>
                    </a:lnTo>
                    <a:lnTo>
                      <a:pt x="34" y="677"/>
                    </a:lnTo>
                    <a:lnTo>
                      <a:pt x="26" y="671"/>
                    </a:lnTo>
                    <a:lnTo>
                      <a:pt x="21" y="662"/>
                    </a:lnTo>
                    <a:lnTo>
                      <a:pt x="17" y="655"/>
                    </a:lnTo>
                    <a:lnTo>
                      <a:pt x="14" y="645"/>
                    </a:lnTo>
                    <a:lnTo>
                      <a:pt x="8" y="643"/>
                    </a:lnTo>
                    <a:lnTo>
                      <a:pt x="1" y="590"/>
                    </a:lnTo>
                    <a:lnTo>
                      <a:pt x="7" y="588"/>
                    </a:lnTo>
                    <a:lnTo>
                      <a:pt x="7" y="566"/>
                    </a:lnTo>
                    <a:lnTo>
                      <a:pt x="0" y="565"/>
                    </a:lnTo>
                    <a:lnTo>
                      <a:pt x="1" y="552"/>
                    </a:lnTo>
                    <a:lnTo>
                      <a:pt x="6" y="541"/>
                    </a:lnTo>
                    <a:lnTo>
                      <a:pt x="7" y="535"/>
                    </a:lnTo>
                    <a:lnTo>
                      <a:pt x="11" y="530"/>
                    </a:lnTo>
                    <a:lnTo>
                      <a:pt x="14" y="520"/>
                    </a:lnTo>
                    <a:lnTo>
                      <a:pt x="15" y="515"/>
                    </a:lnTo>
                    <a:lnTo>
                      <a:pt x="18" y="510"/>
                    </a:lnTo>
                    <a:lnTo>
                      <a:pt x="32" y="505"/>
                    </a:lnTo>
                    <a:lnTo>
                      <a:pt x="26" y="495"/>
                    </a:lnTo>
                    <a:lnTo>
                      <a:pt x="30" y="478"/>
                    </a:lnTo>
                    <a:lnTo>
                      <a:pt x="32" y="474"/>
                    </a:lnTo>
                    <a:lnTo>
                      <a:pt x="34" y="471"/>
                    </a:lnTo>
                    <a:lnTo>
                      <a:pt x="38" y="471"/>
                    </a:lnTo>
                    <a:lnTo>
                      <a:pt x="38" y="466"/>
                    </a:lnTo>
                    <a:lnTo>
                      <a:pt x="60" y="466"/>
                    </a:lnTo>
                    <a:lnTo>
                      <a:pt x="60" y="471"/>
                    </a:lnTo>
                    <a:lnTo>
                      <a:pt x="62" y="471"/>
                    </a:lnTo>
                    <a:lnTo>
                      <a:pt x="65" y="474"/>
                    </a:lnTo>
                    <a:lnTo>
                      <a:pt x="66" y="479"/>
                    </a:lnTo>
                    <a:lnTo>
                      <a:pt x="67" y="487"/>
                    </a:lnTo>
                    <a:lnTo>
                      <a:pt x="67" y="495"/>
                    </a:lnTo>
                    <a:lnTo>
                      <a:pt x="66" y="500"/>
                    </a:lnTo>
                    <a:lnTo>
                      <a:pt x="64" y="503"/>
                    </a:lnTo>
                    <a:lnTo>
                      <a:pt x="67" y="505"/>
                    </a:lnTo>
                    <a:lnTo>
                      <a:pt x="73" y="505"/>
                    </a:lnTo>
                    <a:lnTo>
                      <a:pt x="77" y="503"/>
                    </a:lnTo>
                    <a:lnTo>
                      <a:pt x="80" y="499"/>
                    </a:lnTo>
                    <a:lnTo>
                      <a:pt x="78" y="494"/>
                    </a:lnTo>
                    <a:lnTo>
                      <a:pt x="67" y="495"/>
                    </a:lnTo>
                    <a:lnTo>
                      <a:pt x="67" y="487"/>
                    </a:lnTo>
                    <a:lnTo>
                      <a:pt x="81" y="485"/>
                    </a:lnTo>
                    <a:lnTo>
                      <a:pt x="85" y="487"/>
                    </a:lnTo>
                    <a:lnTo>
                      <a:pt x="88" y="489"/>
                    </a:lnTo>
                    <a:lnTo>
                      <a:pt x="92" y="491"/>
                    </a:lnTo>
                    <a:lnTo>
                      <a:pt x="89" y="475"/>
                    </a:lnTo>
                    <a:lnTo>
                      <a:pt x="86" y="459"/>
                    </a:lnTo>
                    <a:lnTo>
                      <a:pt x="109" y="359"/>
                    </a:lnTo>
                    <a:lnTo>
                      <a:pt x="114" y="343"/>
                    </a:lnTo>
                    <a:lnTo>
                      <a:pt x="120" y="330"/>
                    </a:lnTo>
                    <a:lnTo>
                      <a:pt x="128" y="319"/>
                    </a:lnTo>
                    <a:lnTo>
                      <a:pt x="122" y="296"/>
                    </a:lnTo>
                    <a:lnTo>
                      <a:pt x="119" y="281"/>
                    </a:lnTo>
                    <a:lnTo>
                      <a:pt x="120" y="266"/>
                    </a:lnTo>
                    <a:lnTo>
                      <a:pt x="125" y="249"/>
                    </a:lnTo>
                    <a:lnTo>
                      <a:pt x="137" y="227"/>
                    </a:lnTo>
                    <a:lnTo>
                      <a:pt x="149" y="210"/>
                    </a:lnTo>
                    <a:lnTo>
                      <a:pt x="166" y="194"/>
                    </a:lnTo>
                    <a:lnTo>
                      <a:pt x="184" y="184"/>
                    </a:lnTo>
                    <a:lnTo>
                      <a:pt x="194" y="173"/>
                    </a:lnTo>
                    <a:lnTo>
                      <a:pt x="204" y="167"/>
                    </a:lnTo>
                    <a:lnTo>
                      <a:pt x="215" y="164"/>
                    </a:lnTo>
                    <a:lnTo>
                      <a:pt x="225" y="164"/>
                    </a:lnTo>
                    <a:lnTo>
                      <a:pt x="237" y="167"/>
                    </a:lnTo>
                    <a:lnTo>
                      <a:pt x="263" y="162"/>
                    </a:lnTo>
                    <a:lnTo>
                      <a:pt x="266" y="152"/>
                    </a:lnTo>
                    <a:lnTo>
                      <a:pt x="262" y="137"/>
                    </a:lnTo>
                    <a:lnTo>
                      <a:pt x="264" y="136"/>
                    </a:lnTo>
                    <a:lnTo>
                      <a:pt x="262" y="118"/>
                    </a:lnTo>
                    <a:lnTo>
                      <a:pt x="261" y="101"/>
                    </a:lnTo>
                    <a:lnTo>
                      <a:pt x="261" y="83"/>
                    </a:lnTo>
                    <a:lnTo>
                      <a:pt x="264" y="64"/>
                    </a:lnTo>
                    <a:lnTo>
                      <a:pt x="272" y="44"/>
                    </a:lnTo>
                    <a:lnTo>
                      <a:pt x="282" y="29"/>
                    </a:lnTo>
                    <a:lnTo>
                      <a:pt x="291" y="21"/>
                    </a:lnTo>
                    <a:lnTo>
                      <a:pt x="316" y="7"/>
                    </a:lnTo>
                    <a:lnTo>
                      <a:pt x="334" y="1"/>
                    </a:lnTo>
                    <a:lnTo>
                      <a:pt x="335" y="0"/>
                    </a:lnTo>
                    <a:close/>
                    <a:moveTo>
                      <a:pt x="91" y="505"/>
                    </a:moveTo>
                    <a:lnTo>
                      <a:pt x="85" y="512"/>
                    </a:lnTo>
                    <a:lnTo>
                      <a:pt x="87" y="516"/>
                    </a:lnTo>
                    <a:lnTo>
                      <a:pt x="89" y="521"/>
                    </a:lnTo>
                    <a:lnTo>
                      <a:pt x="91" y="516"/>
                    </a:lnTo>
                    <a:lnTo>
                      <a:pt x="92" y="511"/>
                    </a:lnTo>
                    <a:lnTo>
                      <a:pt x="91" y="50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37360" y="3768840"/>
                <a:ext cx="172440" cy="420480"/>
              </a:xfrm>
              <a:custGeom>
                <a:avLst/>
                <a:gdLst/>
                <a:ahLst/>
                <a:rect l="l" t="t" r="r" b="b"/>
                <a:pathLst>
                  <a:path w="408" h="1002">
                    <a:moveTo>
                      <a:pt x="408" y="719"/>
                    </a:moveTo>
                    <a:lnTo>
                      <a:pt x="403" y="723"/>
                    </a:lnTo>
                    <a:lnTo>
                      <a:pt x="386" y="736"/>
                    </a:lnTo>
                    <a:lnTo>
                      <a:pt x="365" y="748"/>
                    </a:lnTo>
                    <a:lnTo>
                      <a:pt x="345" y="760"/>
                    </a:lnTo>
                    <a:lnTo>
                      <a:pt x="327" y="767"/>
                    </a:lnTo>
                    <a:lnTo>
                      <a:pt x="308" y="774"/>
                    </a:lnTo>
                    <a:lnTo>
                      <a:pt x="291" y="780"/>
                    </a:lnTo>
                    <a:lnTo>
                      <a:pt x="275" y="842"/>
                    </a:lnTo>
                    <a:lnTo>
                      <a:pt x="274" y="858"/>
                    </a:lnTo>
                    <a:lnTo>
                      <a:pt x="272" y="877"/>
                    </a:lnTo>
                    <a:lnTo>
                      <a:pt x="269" y="891"/>
                    </a:lnTo>
                    <a:lnTo>
                      <a:pt x="264" y="907"/>
                    </a:lnTo>
                    <a:lnTo>
                      <a:pt x="260" y="920"/>
                    </a:lnTo>
                    <a:lnTo>
                      <a:pt x="252" y="936"/>
                    </a:lnTo>
                    <a:lnTo>
                      <a:pt x="243" y="949"/>
                    </a:lnTo>
                    <a:lnTo>
                      <a:pt x="235" y="958"/>
                    </a:lnTo>
                    <a:lnTo>
                      <a:pt x="232" y="969"/>
                    </a:lnTo>
                    <a:lnTo>
                      <a:pt x="225" y="980"/>
                    </a:lnTo>
                    <a:lnTo>
                      <a:pt x="215" y="989"/>
                    </a:lnTo>
                    <a:lnTo>
                      <a:pt x="199" y="997"/>
                    </a:lnTo>
                    <a:lnTo>
                      <a:pt x="176" y="1002"/>
                    </a:lnTo>
                    <a:lnTo>
                      <a:pt x="156" y="1002"/>
                    </a:lnTo>
                    <a:lnTo>
                      <a:pt x="137" y="998"/>
                    </a:lnTo>
                    <a:lnTo>
                      <a:pt x="123" y="993"/>
                    </a:lnTo>
                    <a:lnTo>
                      <a:pt x="111" y="984"/>
                    </a:lnTo>
                    <a:lnTo>
                      <a:pt x="103" y="976"/>
                    </a:lnTo>
                    <a:lnTo>
                      <a:pt x="93" y="974"/>
                    </a:lnTo>
                    <a:lnTo>
                      <a:pt x="84" y="956"/>
                    </a:lnTo>
                    <a:lnTo>
                      <a:pt x="77" y="936"/>
                    </a:lnTo>
                    <a:lnTo>
                      <a:pt x="71" y="919"/>
                    </a:lnTo>
                    <a:lnTo>
                      <a:pt x="67" y="898"/>
                    </a:lnTo>
                    <a:lnTo>
                      <a:pt x="67" y="878"/>
                    </a:lnTo>
                    <a:lnTo>
                      <a:pt x="65" y="845"/>
                    </a:lnTo>
                    <a:lnTo>
                      <a:pt x="76" y="825"/>
                    </a:lnTo>
                    <a:lnTo>
                      <a:pt x="80" y="800"/>
                    </a:lnTo>
                    <a:lnTo>
                      <a:pt x="87" y="789"/>
                    </a:lnTo>
                    <a:lnTo>
                      <a:pt x="85" y="774"/>
                    </a:lnTo>
                    <a:lnTo>
                      <a:pt x="82" y="761"/>
                    </a:lnTo>
                    <a:lnTo>
                      <a:pt x="60" y="744"/>
                    </a:lnTo>
                    <a:lnTo>
                      <a:pt x="70" y="729"/>
                    </a:lnTo>
                    <a:lnTo>
                      <a:pt x="82" y="697"/>
                    </a:lnTo>
                    <a:lnTo>
                      <a:pt x="73" y="698"/>
                    </a:lnTo>
                    <a:lnTo>
                      <a:pt x="65" y="696"/>
                    </a:lnTo>
                    <a:lnTo>
                      <a:pt x="60" y="692"/>
                    </a:lnTo>
                    <a:lnTo>
                      <a:pt x="56" y="686"/>
                    </a:lnTo>
                    <a:lnTo>
                      <a:pt x="55" y="681"/>
                    </a:lnTo>
                    <a:lnTo>
                      <a:pt x="48" y="682"/>
                    </a:lnTo>
                    <a:lnTo>
                      <a:pt x="40" y="681"/>
                    </a:lnTo>
                    <a:lnTo>
                      <a:pt x="34" y="677"/>
                    </a:lnTo>
                    <a:lnTo>
                      <a:pt x="26" y="671"/>
                    </a:lnTo>
                    <a:lnTo>
                      <a:pt x="21" y="662"/>
                    </a:lnTo>
                    <a:lnTo>
                      <a:pt x="17" y="655"/>
                    </a:lnTo>
                    <a:lnTo>
                      <a:pt x="14" y="645"/>
                    </a:lnTo>
                    <a:lnTo>
                      <a:pt x="8" y="643"/>
                    </a:lnTo>
                    <a:lnTo>
                      <a:pt x="1" y="590"/>
                    </a:lnTo>
                    <a:lnTo>
                      <a:pt x="7" y="588"/>
                    </a:lnTo>
                    <a:lnTo>
                      <a:pt x="7" y="566"/>
                    </a:lnTo>
                    <a:lnTo>
                      <a:pt x="0" y="565"/>
                    </a:lnTo>
                    <a:lnTo>
                      <a:pt x="1" y="552"/>
                    </a:lnTo>
                    <a:lnTo>
                      <a:pt x="6" y="541"/>
                    </a:lnTo>
                    <a:lnTo>
                      <a:pt x="7" y="535"/>
                    </a:lnTo>
                    <a:lnTo>
                      <a:pt x="11" y="530"/>
                    </a:lnTo>
                    <a:lnTo>
                      <a:pt x="14" y="520"/>
                    </a:lnTo>
                    <a:lnTo>
                      <a:pt x="15" y="515"/>
                    </a:lnTo>
                    <a:lnTo>
                      <a:pt x="18" y="510"/>
                    </a:lnTo>
                    <a:lnTo>
                      <a:pt x="32" y="505"/>
                    </a:lnTo>
                    <a:lnTo>
                      <a:pt x="26" y="495"/>
                    </a:lnTo>
                    <a:lnTo>
                      <a:pt x="30" y="478"/>
                    </a:lnTo>
                    <a:lnTo>
                      <a:pt x="32" y="474"/>
                    </a:lnTo>
                    <a:lnTo>
                      <a:pt x="34" y="471"/>
                    </a:lnTo>
                    <a:lnTo>
                      <a:pt x="38" y="471"/>
                    </a:lnTo>
                    <a:lnTo>
                      <a:pt x="38" y="466"/>
                    </a:lnTo>
                    <a:lnTo>
                      <a:pt x="60" y="466"/>
                    </a:lnTo>
                    <a:lnTo>
                      <a:pt x="60" y="471"/>
                    </a:lnTo>
                    <a:lnTo>
                      <a:pt x="62" y="471"/>
                    </a:lnTo>
                    <a:lnTo>
                      <a:pt x="65" y="474"/>
                    </a:lnTo>
                    <a:lnTo>
                      <a:pt x="66" y="479"/>
                    </a:lnTo>
                    <a:lnTo>
                      <a:pt x="67" y="487"/>
                    </a:lnTo>
                    <a:lnTo>
                      <a:pt x="67" y="495"/>
                    </a:lnTo>
                    <a:lnTo>
                      <a:pt x="66" y="500"/>
                    </a:lnTo>
                    <a:lnTo>
                      <a:pt x="64" y="503"/>
                    </a:lnTo>
                    <a:lnTo>
                      <a:pt x="67" y="505"/>
                    </a:lnTo>
                    <a:lnTo>
                      <a:pt x="73" y="505"/>
                    </a:lnTo>
                    <a:lnTo>
                      <a:pt x="77" y="503"/>
                    </a:lnTo>
                    <a:lnTo>
                      <a:pt x="80" y="499"/>
                    </a:lnTo>
                    <a:lnTo>
                      <a:pt x="78" y="494"/>
                    </a:lnTo>
                    <a:lnTo>
                      <a:pt x="67" y="495"/>
                    </a:lnTo>
                    <a:lnTo>
                      <a:pt x="67" y="487"/>
                    </a:lnTo>
                    <a:lnTo>
                      <a:pt x="81" y="485"/>
                    </a:lnTo>
                    <a:lnTo>
                      <a:pt x="85" y="487"/>
                    </a:lnTo>
                    <a:lnTo>
                      <a:pt x="88" y="489"/>
                    </a:lnTo>
                    <a:lnTo>
                      <a:pt x="92" y="491"/>
                    </a:lnTo>
                    <a:lnTo>
                      <a:pt x="89" y="475"/>
                    </a:lnTo>
                    <a:lnTo>
                      <a:pt x="86" y="459"/>
                    </a:lnTo>
                    <a:lnTo>
                      <a:pt x="109" y="359"/>
                    </a:lnTo>
                    <a:lnTo>
                      <a:pt x="114" y="343"/>
                    </a:lnTo>
                    <a:lnTo>
                      <a:pt x="120" y="330"/>
                    </a:lnTo>
                    <a:lnTo>
                      <a:pt x="128" y="319"/>
                    </a:lnTo>
                    <a:lnTo>
                      <a:pt x="122" y="296"/>
                    </a:lnTo>
                    <a:lnTo>
                      <a:pt x="119" y="281"/>
                    </a:lnTo>
                    <a:lnTo>
                      <a:pt x="120" y="266"/>
                    </a:lnTo>
                    <a:lnTo>
                      <a:pt x="125" y="249"/>
                    </a:lnTo>
                    <a:lnTo>
                      <a:pt x="137" y="227"/>
                    </a:lnTo>
                    <a:lnTo>
                      <a:pt x="149" y="210"/>
                    </a:lnTo>
                    <a:lnTo>
                      <a:pt x="166" y="194"/>
                    </a:lnTo>
                    <a:lnTo>
                      <a:pt x="184" y="184"/>
                    </a:lnTo>
                    <a:lnTo>
                      <a:pt x="194" y="173"/>
                    </a:lnTo>
                    <a:lnTo>
                      <a:pt x="204" y="167"/>
                    </a:lnTo>
                    <a:lnTo>
                      <a:pt x="215" y="164"/>
                    </a:lnTo>
                    <a:lnTo>
                      <a:pt x="225" y="164"/>
                    </a:lnTo>
                    <a:lnTo>
                      <a:pt x="237" y="167"/>
                    </a:lnTo>
                    <a:lnTo>
                      <a:pt x="263" y="162"/>
                    </a:lnTo>
                    <a:lnTo>
                      <a:pt x="266" y="152"/>
                    </a:lnTo>
                    <a:lnTo>
                      <a:pt x="262" y="137"/>
                    </a:lnTo>
                    <a:lnTo>
                      <a:pt x="264" y="136"/>
                    </a:lnTo>
                    <a:lnTo>
                      <a:pt x="262" y="118"/>
                    </a:lnTo>
                    <a:lnTo>
                      <a:pt x="261" y="101"/>
                    </a:lnTo>
                    <a:lnTo>
                      <a:pt x="261" y="83"/>
                    </a:lnTo>
                    <a:lnTo>
                      <a:pt x="264" y="64"/>
                    </a:lnTo>
                    <a:lnTo>
                      <a:pt x="272" y="44"/>
                    </a:lnTo>
                    <a:lnTo>
                      <a:pt x="282" y="29"/>
                    </a:lnTo>
                    <a:lnTo>
                      <a:pt x="291" y="21"/>
                    </a:lnTo>
                    <a:lnTo>
                      <a:pt x="316" y="7"/>
                    </a:lnTo>
                    <a:lnTo>
                      <a:pt x="334" y="1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989240" y="3276720"/>
                <a:ext cx="1424880" cy="1428480"/>
              </a:xfrm>
              <a:custGeom>
                <a:avLst/>
                <a:gdLst/>
                <a:ahLst/>
                <a:rect l="l" t="t" r="r" b="b"/>
                <a:pathLst>
                  <a:path w="3387" h="3395">
                    <a:moveTo>
                      <a:pt x="28" y="1388"/>
                    </a:moveTo>
                    <a:lnTo>
                      <a:pt x="46" y="1302"/>
                    </a:lnTo>
                    <a:lnTo>
                      <a:pt x="68" y="1219"/>
                    </a:lnTo>
                    <a:lnTo>
                      <a:pt x="94" y="1138"/>
                    </a:lnTo>
                    <a:lnTo>
                      <a:pt x="124" y="1059"/>
                    </a:lnTo>
                    <a:lnTo>
                      <a:pt x="158" y="982"/>
                    </a:lnTo>
                    <a:lnTo>
                      <a:pt x="195" y="906"/>
                    </a:lnTo>
                    <a:lnTo>
                      <a:pt x="236" y="834"/>
                    </a:lnTo>
                    <a:lnTo>
                      <a:pt x="280" y="763"/>
                    </a:lnTo>
                    <a:lnTo>
                      <a:pt x="327" y="696"/>
                    </a:lnTo>
                    <a:lnTo>
                      <a:pt x="376" y="631"/>
                    </a:lnTo>
                    <a:lnTo>
                      <a:pt x="429" y="569"/>
                    </a:lnTo>
                    <a:lnTo>
                      <a:pt x="486" y="509"/>
                    </a:lnTo>
                    <a:lnTo>
                      <a:pt x="544" y="452"/>
                    </a:lnTo>
                    <a:lnTo>
                      <a:pt x="606" y="398"/>
                    </a:lnTo>
                    <a:lnTo>
                      <a:pt x="669" y="347"/>
                    </a:lnTo>
                    <a:lnTo>
                      <a:pt x="734" y="299"/>
                    </a:lnTo>
                    <a:lnTo>
                      <a:pt x="803" y="255"/>
                    </a:lnTo>
                    <a:lnTo>
                      <a:pt x="873" y="214"/>
                    </a:lnTo>
                    <a:lnTo>
                      <a:pt x="945" y="176"/>
                    </a:lnTo>
                    <a:lnTo>
                      <a:pt x="1020" y="141"/>
                    </a:lnTo>
                    <a:lnTo>
                      <a:pt x="1095" y="110"/>
                    </a:lnTo>
                    <a:lnTo>
                      <a:pt x="1172" y="83"/>
                    </a:lnTo>
                    <a:lnTo>
                      <a:pt x="1250" y="59"/>
                    </a:lnTo>
                    <a:lnTo>
                      <a:pt x="1331" y="39"/>
                    </a:lnTo>
                    <a:lnTo>
                      <a:pt x="1412" y="24"/>
                    </a:lnTo>
                    <a:lnTo>
                      <a:pt x="1494" y="12"/>
                    </a:lnTo>
                    <a:lnTo>
                      <a:pt x="1577" y="4"/>
                    </a:lnTo>
                    <a:lnTo>
                      <a:pt x="1661" y="0"/>
                    </a:lnTo>
                    <a:lnTo>
                      <a:pt x="1746" y="1"/>
                    </a:lnTo>
                    <a:lnTo>
                      <a:pt x="1831" y="5"/>
                    </a:lnTo>
                    <a:lnTo>
                      <a:pt x="1916" y="14"/>
                    </a:lnTo>
                    <a:lnTo>
                      <a:pt x="2002" y="28"/>
                    </a:lnTo>
                    <a:lnTo>
                      <a:pt x="2088" y="46"/>
                    </a:lnTo>
                    <a:lnTo>
                      <a:pt x="2170" y="68"/>
                    </a:lnTo>
                    <a:lnTo>
                      <a:pt x="2251" y="94"/>
                    </a:lnTo>
                    <a:lnTo>
                      <a:pt x="2331" y="125"/>
                    </a:lnTo>
                    <a:lnTo>
                      <a:pt x="2407" y="158"/>
                    </a:lnTo>
                    <a:lnTo>
                      <a:pt x="2483" y="195"/>
                    </a:lnTo>
                    <a:lnTo>
                      <a:pt x="2555" y="236"/>
                    </a:lnTo>
                    <a:lnTo>
                      <a:pt x="2625" y="280"/>
                    </a:lnTo>
                    <a:lnTo>
                      <a:pt x="2692" y="327"/>
                    </a:lnTo>
                    <a:lnTo>
                      <a:pt x="2757" y="378"/>
                    </a:lnTo>
                    <a:lnTo>
                      <a:pt x="2819" y="430"/>
                    </a:lnTo>
                    <a:lnTo>
                      <a:pt x="2879" y="487"/>
                    </a:lnTo>
                    <a:lnTo>
                      <a:pt x="2936" y="546"/>
                    </a:lnTo>
                    <a:lnTo>
                      <a:pt x="2990" y="607"/>
                    </a:lnTo>
                    <a:lnTo>
                      <a:pt x="3040" y="671"/>
                    </a:lnTo>
                    <a:lnTo>
                      <a:pt x="3089" y="737"/>
                    </a:lnTo>
                    <a:lnTo>
                      <a:pt x="3133" y="805"/>
                    </a:lnTo>
                    <a:lnTo>
                      <a:pt x="3174" y="876"/>
                    </a:lnTo>
                    <a:lnTo>
                      <a:pt x="3211" y="947"/>
                    </a:lnTo>
                    <a:lnTo>
                      <a:pt x="3246" y="1022"/>
                    </a:lnTo>
                    <a:lnTo>
                      <a:pt x="3277" y="1097"/>
                    </a:lnTo>
                    <a:lnTo>
                      <a:pt x="3305" y="1175"/>
                    </a:lnTo>
                    <a:lnTo>
                      <a:pt x="3328" y="1254"/>
                    </a:lnTo>
                    <a:lnTo>
                      <a:pt x="3348" y="1334"/>
                    </a:lnTo>
                    <a:lnTo>
                      <a:pt x="3363" y="1415"/>
                    </a:lnTo>
                    <a:lnTo>
                      <a:pt x="3375" y="1498"/>
                    </a:lnTo>
                    <a:lnTo>
                      <a:pt x="3383" y="1581"/>
                    </a:lnTo>
                    <a:lnTo>
                      <a:pt x="3387" y="1665"/>
                    </a:lnTo>
                    <a:lnTo>
                      <a:pt x="3386" y="1750"/>
                    </a:lnTo>
                    <a:lnTo>
                      <a:pt x="3381" y="1835"/>
                    </a:lnTo>
                    <a:lnTo>
                      <a:pt x="3373" y="1921"/>
                    </a:lnTo>
                    <a:lnTo>
                      <a:pt x="3359" y="2007"/>
                    </a:lnTo>
                    <a:lnTo>
                      <a:pt x="3341" y="2092"/>
                    </a:lnTo>
                    <a:lnTo>
                      <a:pt x="3318" y="2175"/>
                    </a:lnTo>
                    <a:lnTo>
                      <a:pt x="3293" y="2257"/>
                    </a:lnTo>
                    <a:lnTo>
                      <a:pt x="3263" y="2336"/>
                    </a:lnTo>
                    <a:lnTo>
                      <a:pt x="3229" y="2414"/>
                    </a:lnTo>
                    <a:lnTo>
                      <a:pt x="3192" y="2488"/>
                    </a:lnTo>
                    <a:lnTo>
                      <a:pt x="3152" y="2561"/>
                    </a:lnTo>
                    <a:lnTo>
                      <a:pt x="3107" y="2631"/>
                    </a:lnTo>
                    <a:lnTo>
                      <a:pt x="3060" y="2699"/>
                    </a:lnTo>
                    <a:lnTo>
                      <a:pt x="3010" y="2764"/>
                    </a:lnTo>
                    <a:lnTo>
                      <a:pt x="2958" y="2827"/>
                    </a:lnTo>
                    <a:lnTo>
                      <a:pt x="2901" y="2886"/>
                    </a:lnTo>
                    <a:lnTo>
                      <a:pt x="2842" y="2943"/>
                    </a:lnTo>
                    <a:lnTo>
                      <a:pt x="2782" y="2997"/>
                    </a:lnTo>
                    <a:lnTo>
                      <a:pt x="2718" y="3047"/>
                    </a:lnTo>
                    <a:lnTo>
                      <a:pt x="2652" y="3096"/>
                    </a:lnTo>
                    <a:lnTo>
                      <a:pt x="2583" y="3140"/>
                    </a:lnTo>
                    <a:lnTo>
                      <a:pt x="2513" y="3181"/>
                    </a:lnTo>
                    <a:lnTo>
                      <a:pt x="2442" y="3220"/>
                    </a:lnTo>
                    <a:lnTo>
                      <a:pt x="2367" y="3253"/>
                    </a:lnTo>
                    <a:lnTo>
                      <a:pt x="2292" y="3285"/>
                    </a:lnTo>
                    <a:lnTo>
                      <a:pt x="2214" y="3312"/>
                    </a:lnTo>
                    <a:lnTo>
                      <a:pt x="2136" y="3335"/>
                    </a:lnTo>
                    <a:lnTo>
                      <a:pt x="2056" y="3355"/>
                    </a:lnTo>
                    <a:lnTo>
                      <a:pt x="1975" y="3371"/>
                    </a:lnTo>
                    <a:lnTo>
                      <a:pt x="1893" y="3384"/>
                    </a:lnTo>
                    <a:lnTo>
                      <a:pt x="1810" y="3391"/>
                    </a:lnTo>
                    <a:lnTo>
                      <a:pt x="1726" y="3395"/>
                    </a:lnTo>
                    <a:lnTo>
                      <a:pt x="1641" y="3394"/>
                    </a:lnTo>
                    <a:lnTo>
                      <a:pt x="1556" y="3390"/>
                    </a:lnTo>
                    <a:lnTo>
                      <a:pt x="1470" y="3380"/>
                    </a:lnTo>
                    <a:lnTo>
                      <a:pt x="1385" y="3367"/>
                    </a:lnTo>
                    <a:lnTo>
                      <a:pt x="1299" y="3349"/>
                    </a:lnTo>
                    <a:lnTo>
                      <a:pt x="1217" y="3327"/>
                    </a:lnTo>
                    <a:lnTo>
                      <a:pt x="1135" y="3301"/>
                    </a:lnTo>
                    <a:lnTo>
                      <a:pt x="1056" y="3270"/>
                    </a:lnTo>
                    <a:lnTo>
                      <a:pt x="979" y="3236"/>
                    </a:lnTo>
                    <a:lnTo>
                      <a:pt x="904" y="3200"/>
                    </a:lnTo>
                    <a:lnTo>
                      <a:pt x="832" y="3159"/>
                    </a:lnTo>
                    <a:lnTo>
                      <a:pt x="762" y="3115"/>
                    </a:lnTo>
                    <a:lnTo>
                      <a:pt x="695" y="3067"/>
                    </a:lnTo>
                    <a:lnTo>
                      <a:pt x="630" y="3018"/>
                    </a:lnTo>
                    <a:lnTo>
                      <a:pt x="567" y="2964"/>
                    </a:lnTo>
                    <a:lnTo>
                      <a:pt x="508" y="2908"/>
                    </a:lnTo>
                    <a:lnTo>
                      <a:pt x="451" y="2850"/>
                    </a:lnTo>
                    <a:lnTo>
                      <a:pt x="397" y="2788"/>
                    </a:lnTo>
                    <a:lnTo>
                      <a:pt x="347" y="2725"/>
                    </a:lnTo>
                    <a:lnTo>
                      <a:pt x="298" y="2659"/>
                    </a:lnTo>
                    <a:lnTo>
                      <a:pt x="254" y="2590"/>
                    </a:lnTo>
                    <a:lnTo>
                      <a:pt x="214" y="2520"/>
                    </a:lnTo>
                    <a:lnTo>
                      <a:pt x="175" y="2447"/>
                    </a:lnTo>
                    <a:lnTo>
                      <a:pt x="141" y="2373"/>
                    </a:lnTo>
                    <a:lnTo>
                      <a:pt x="110" y="2297"/>
                    </a:lnTo>
                    <a:lnTo>
                      <a:pt x="83" y="2221"/>
                    </a:lnTo>
                    <a:lnTo>
                      <a:pt x="59" y="2142"/>
                    </a:lnTo>
                    <a:lnTo>
                      <a:pt x="40" y="2061"/>
                    </a:lnTo>
                    <a:lnTo>
                      <a:pt x="24" y="1980"/>
                    </a:lnTo>
                    <a:lnTo>
                      <a:pt x="11" y="1897"/>
                    </a:lnTo>
                    <a:lnTo>
                      <a:pt x="4" y="1814"/>
                    </a:lnTo>
                    <a:lnTo>
                      <a:pt x="0" y="1730"/>
                    </a:lnTo>
                    <a:lnTo>
                      <a:pt x="1" y="1645"/>
                    </a:lnTo>
                    <a:lnTo>
                      <a:pt x="5" y="1560"/>
                    </a:lnTo>
                    <a:lnTo>
                      <a:pt x="14" y="1475"/>
                    </a:lnTo>
                    <a:lnTo>
                      <a:pt x="28" y="1388"/>
                    </a:lnTo>
                  </a:path>
                </a:pathLst>
              </a:custGeom>
              <a:noFill/>
              <a:ln w="237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3112920" y="3295800"/>
            <a:ext cx="2305080" cy="2800080"/>
            <a:chOff x="3112920" y="3295800"/>
            <a:chExt cx="2305080" cy="2800080"/>
          </a:xfrm>
        </p:grpSpPr>
        <p:sp>
          <p:nvSpPr>
            <p:cNvPr id="357" name=""/>
            <p:cNvSpPr/>
            <p:nvPr/>
          </p:nvSpPr>
          <p:spPr>
            <a:xfrm>
              <a:off x="3184560" y="4130640"/>
              <a:ext cx="973080" cy="1604880"/>
            </a:xfrm>
            <a:custGeom>
              <a:avLst/>
              <a:gdLst/>
              <a:ahLst/>
              <a:rect l="l" t="t" r="r" b="b"/>
              <a:pathLst>
                <a:path w="3063" h="5053">
                  <a:moveTo>
                    <a:pt x="2731" y="5037"/>
                  </a:moveTo>
                  <a:lnTo>
                    <a:pt x="3019" y="5053"/>
                  </a:lnTo>
                  <a:lnTo>
                    <a:pt x="3063" y="4357"/>
                  </a:lnTo>
                  <a:lnTo>
                    <a:pt x="2837" y="4342"/>
                  </a:lnTo>
                  <a:lnTo>
                    <a:pt x="2640" y="4297"/>
                  </a:lnTo>
                  <a:lnTo>
                    <a:pt x="2278" y="4205"/>
                  </a:lnTo>
                  <a:lnTo>
                    <a:pt x="1916" y="4039"/>
                  </a:lnTo>
                  <a:lnTo>
                    <a:pt x="1584" y="3842"/>
                  </a:lnTo>
                  <a:lnTo>
                    <a:pt x="1343" y="3584"/>
                  </a:lnTo>
                  <a:lnTo>
                    <a:pt x="1132" y="3283"/>
                  </a:lnTo>
                  <a:lnTo>
                    <a:pt x="935" y="2965"/>
                  </a:lnTo>
                  <a:lnTo>
                    <a:pt x="845" y="2648"/>
                  </a:lnTo>
                  <a:lnTo>
                    <a:pt x="800" y="2285"/>
                  </a:lnTo>
                  <a:lnTo>
                    <a:pt x="845" y="1966"/>
                  </a:lnTo>
                  <a:lnTo>
                    <a:pt x="935" y="1634"/>
                  </a:lnTo>
                  <a:lnTo>
                    <a:pt x="1132" y="1287"/>
                  </a:lnTo>
                  <a:lnTo>
                    <a:pt x="1327" y="1029"/>
                  </a:lnTo>
                  <a:lnTo>
                    <a:pt x="1584" y="773"/>
                  </a:lnTo>
                  <a:lnTo>
                    <a:pt x="1765" y="651"/>
                  </a:lnTo>
                  <a:lnTo>
                    <a:pt x="1871" y="591"/>
                  </a:lnTo>
                  <a:lnTo>
                    <a:pt x="1478" y="0"/>
                  </a:lnTo>
                  <a:lnTo>
                    <a:pt x="1282" y="106"/>
                  </a:lnTo>
                  <a:lnTo>
                    <a:pt x="1057" y="257"/>
                  </a:lnTo>
                  <a:lnTo>
                    <a:pt x="678" y="606"/>
                  </a:lnTo>
                  <a:lnTo>
                    <a:pt x="421" y="968"/>
                  </a:lnTo>
                  <a:lnTo>
                    <a:pt x="196" y="1408"/>
                  </a:lnTo>
                  <a:lnTo>
                    <a:pt x="45" y="1847"/>
                  </a:lnTo>
                  <a:lnTo>
                    <a:pt x="0" y="2285"/>
                  </a:lnTo>
                  <a:lnTo>
                    <a:pt x="75" y="2768"/>
                  </a:lnTo>
                  <a:lnTo>
                    <a:pt x="196" y="3177"/>
                  </a:lnTo>
                  <a:lnTo>
                    <a:pt x="421" y="3615"/>
                  </a:lnTo>
                  <a:lnTo>
                    <a:pt x="755" y="4039"/>
                  </a:lnTo>
                  <a:lnTo>
                    <a:pt x="1057" y="4342"/>
                  </a:lnTo>
                  <a:lnTo>
                    <a:pt x="1494" y="4615"/>
                  </a:lnTo>
                  <a:lnTo>
                    <a:pt x="1946" y="4841"/>
                  </a:lnTo>
                  <a:lnTo>
                    <a:pt x="2444" y="4977"/>
                  </a:lnTo>
                  <a:lnTo>
                    <a:pt x="2731" y="5037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84560" y="4130640"/>
              <a:ext cx="973080" cy="1604880"/>
            </a:xfrm>
            <a:custGeom>
              <a:avLst/>
              <a:gdLst/>
              <a:ahLst/>
              <a:rect l="l" t="t" r="r" b="b"/>
              <a:pathLst>
                <a:path w="3063" h="5053">
                  <a:moveTo>
                    <a:pt x="2731" y="5037"/>
                  </a:moveTo>
                  <a:lnTo>
                    <a:pt x="3019" y="5053"/>
                  </a:lnTo>
                  <a:lnTo>
                    <a:pt x="3063" y="4357"/>
                  </a:lnTo>
                  <a:lnTo>
                    <a:pt x="2837" y="4342"/>
                  </a:lnTo>
                  <a:lnTo>
                    <a:pt x="2640" y="4297"/>
                  </a:lnTo>
                  <a:lnTo>
                    <a:pt x="2278" y="4205"/>
                  </a:lnTo>
                  <a:lnTo>
                    <a:pt x="1916" y="4039"/>
                  </a:lnTo>
                  <a:lnTo>
                    <a:pt x="1584" y="3842"/>
                  </a:lnTo>
                  <a:lnTo>
                    <a:pt x="1343" y="3584"/>
                  </a:lnTo>
                  <a:lnTo>
                    <a:pt x="1132" y="3283"/>
                  </a:lnTo>
                  <a:lnTo>
                    <a:pt x="935" y="2965"/>
                  </a:lnTo>
                  <a:lnTo>
                    <a:pt x="845" y="2648"/>
                  </a:lnTo>
                  <a:lnTo>
                    <a:pt x="800" y="2285"/>
                  </a:lnTo>
                  <a:lnTo>
                    <a:pt x="845" y="1966"/>
                  </a:lnTo>
                  <a:lnTo>
                    <a:pt x="935" y="1634"/>
                  </a:lnTo>
                  <a:lnTo>
                    <a:pt x="1132" y="1287"/>
                  </a:lnTo>
                  <a:lnTo>
                    <a:pt x="1327" y="1029"/>
                  </a:lnTo>
                  <a:lnTo>
                    <a:pt x="1584" y="773"/>
                  </a:lnTo>
                  <a:lnTo>
                    <a:pt x="1765" y="651"/>
                  </a:lnTo>
                  <a:lnTo>
                    <a:pt x="1871" y="591"/>
                  </a:lnTo>
                  <a:lnTo>
                    <a:pt x="1478" y="0"/>
                  </a:lnTo>
                  <a:lnTo>
                    <a:pt x="1282" y="106"/>
                  </a:lnTo>
                  <a:lnTo>
                    <a:pt x="1057" y="257"/>
                  </a:lnTo>
                  <a:lnTo>
                    <a:pt x="678" y="606"/>
                  </a:lnTo>
                  <a:lnTo>
                    <a:pt x="421" y="968"/>
                  </a:lnTo>
                  <a:lnTo>
                    <a:pt x="196" y="1408"/>
                  </a:lnTo>
                  <a:lnTo>
                    <a:pt x="45" y="1847"/>
                  </a:lnTo>
                  <a:lnTo>
                    <a:pt x="0" y="2285"/>
                  </a:lnTo>
                  <a:lnTo>
                    <a:pt x="75" y="2768"/>
                  </a:lnTo>
                  <a:lnTo>
                    <a:pt x="196" y="3177"/>
                  </a:lnTo>
                  <a:lnTo>
                    <a:pt x="421" y="3615"/>
                  </a:lnTo>
                  <a:lnTo>
                    <a:pt x="755" y="4039"/>
                  </a:lnTo>
                  <a:lnTo>
                    <a:pt x="1057" y="4342"/>
                  </a:lnTo>
                  <a:lnTo>
                    <a:pt x="1494" y="4615"/>
                  </a:lnTo>
                  <a:lnTo>
                    <a:pt x="1946" y="4841"/>
                  </a:lnTo>
                  <a:lnTo>
                    <a:pt x="2444" y="4977"/>
                  </a:lnTo>
                  <a:lnTo>
                    <a:pt x="2731" y="503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2920" y="3295800"/>
              <a:ext cx="1486080" cy="1622160"/>
            </a:xfrm>
            <a:custGeom>
              <a:avLst/>
              <a:gdLst/>
              <a:ahLst/>
              <a:rect l="l" t="t" r="r" b="b"/>
              <a:pathLst>
                <a:path w="4678" h="5113">
                  <a:moveTo>
                    <a:pt x="3953" y="3238"/>
                  </a:moveTo>
                  <a:lnTo>
                    <a:pt x="3409" y="2542"/>
                  </a:lnTo>
                  <a:lnTo>
                    <a:pt x="3289" y="2603"/>
                  </a:lnTo>
                  <a:lnTo>
                    <a:pt x="1810" y="773"/>
                  </a:lnTo>
                  <a:lnTo>
                    <a:pt x="1659" y="893"/>
                  </a:lnTo>
                  <a:lnTo>
                    <a:pt x="1553" y="695"/>
                  </a:lnTo>
                  <a:lnTo>
                    <a:pt x="1433" y="756"/>
                  </a:lnTo>
                  <a:lnTo>
                    <a:pt x="844" y="0"/>
                  </a:lnTo>
                  <a:lnTo>
                    <a:pt x="0" y="516"/>
                  </a:lnTo>
                  <a:lnTo>
                    <a:pt x="572" y="1256"/>
                  </a:lnTo>
                  <a:lnTo>
                    <a:pt x="513" y="1316"/>
                  </a:lnTo>
                  <a:lnTo>
                    <a:pt x="647" y="1469"/>
                  </a:lnTo>
                  <a:lnTo>
                    <a:pt x="496" y="1589"/>
                  </a:lnTo>
                  <a:lnTo>
                    <a:pt x="1991" y="3405"/>
                  </a:lnTo>
                  <a:lnTo>
                    <a:pt x="1856" y="3464"/>
                  </a:lnTo>
                  <a:lnTo>
                    <a:pt x="2428" y="4176"/>
                  </a:lnTo>
                  <a:lnTo>
                    <a:pt x="2519" y="4100"/>
                  </a:lnTo>
                  <a:lnTo>
                    <a:pt x="3364" y="5113"/>
                  </a:lnTo>
                  <a:lnTo>
                    <a:pt x="4678" y="4342"/>
                  </a:lnTo>
                  <a:lnTo>
                    <a:pt x="3862" y="3328"/>
                  </a:lnTo>
                  <a:lnTo>
                    <a:pt x="3953" y="323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12920" y="3295800"/>
              <a:ext cx="1486080" cy="1622160"/>
            </a:xfrm>
            <a:custGeom>
              <a:avLst/>
              <a:gdLst/>
              <a:ahLst/>
              <a:rect l="l" t="t" r="r" b="b"/>
              <a:pathLst>
                <a:path w="4678" h="5113">
                  <a:moveTo>
                    <a:pt x="3953" y="3238"/>
                  </a:moveTo>
                  <a:lnTo>
                    <a:pt x="3409" y="2542"/>
                  </a:lnTo>
                  <a:lnTo>
                    <a:pt x="3289" y="2603"/>
                  </a:lnTo>
                  <a:lnTo>
                    <a:pt x="1810" y="773"/>
                  </a:lnTo>
                  <a:lnTo>
                    <a:pt x="1659" y="893"/>
                  </a:lnTo>
                  <a:lnTo>
                    <a:pt x="1553" y="695"/>
                  </a:lnTo>
                  <a:lnTo>
                    <a:pt x="1433" y="756"/>
                  </a:lnTo>
                  <a:lnTo>
                    <a:pt x="844" y="0"/>
                  </a:lnTo>
                  <a:lnTo>
                    <a:pt x="0" y="516"/>
                  </a:lnTo>
                  <a:lnTo>
                    <a:pt x="572" y="1256"/>
                  </a:lnTo>
                  <a:lnTo>
                    <a:pt x="513" y="1316"/>
                  </a:lnTo>
                  <a:lnTo>
                    <a:pt x="647" y="1469"/>
                  </a:lnTo>
                  <a:lnTo>
                    <a:pt x="496" y="1589"/>
                  </a:lnTo>
                  <a:lnTo>
                    <a:pt x="1991" y="3405"/>
                  </a:lnTo>
                  <a:lnTo>
                    <a:pt x="1856" y="3464"/>
                  </a:lnTo>
                  <a:lnTo>
                    <a:pt x="2428" y="4176"/>
                  </a:lnTo>
                  <a:lnTo>
                    <a:pt x="2519" y="4100"/>
                  </a:lnTo>
                  <a:lnTo>
                    <a:pt x="3364" y="5113"/>
                  </a:lnTo>
                  <a:lnTo>
                    <a:pt x="4678" y="4342"/>
                  </a:lnTo>
                  <a:lnTo>
                    <a:pt x="3862" y="3328"/>
                  </a:lnTo>
                  <a:lnTo>
                    <a:pt x="3953" y="323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35280" y="5211720"/>
              <a:ext cx="1782720" cy="884160"/>
            </a:xfrm>
            <a:custGeom>
              <a:avLst/>
              <a:gdLst/>
              <a:ahLst/>
              <a:rect l="l" t="t" r="r" b="b"/>
              <a:pathLst>
                <a:path w="5614" h="2784">
                  <a:moveTo>
                    <a:pt x="5191" y="2435"/>
                  </a:moveTo>
                  <a:lnTo>
                    <a:pt x="4406" y="681"/>
                  </a:lnTo>
                  <a:lnTo>
                    <a:pt x="3184" y="681"/>
                  </a:lnTo>
                  <a:lnTo>
                    <a:pt x="3184" y="317"/>
                  </a:lnTo>
                  <a:lnTo>
                    <a:pt x="5191" y="317"/>
                  </a:lnTo>
                  <a:lnTo>
                    <a:pt x="5191" y="0"/>
                  </a:lnTo>
                  <a:lnTo>
                    <a:pt x="408" y="0"/>
                  </a:lnTo>
                  <a:lnTo>
                    <a:pt x="408" y="317"/>
                  </a:lnTo>
                  <a:lnTo>
                    <a:pt x="2370" y="317"/>
                  </a:lnTo>
                  <a:lnTo>
                    <a:pt x="2370" y="681"/>
                  </a:lnTo>
                  <a:lnTo>
                    <a:pt x="1208" y="681"/>
                  </a:lnTo>
                  <a:lnTo>
                    <a:pt x="408" y="2435"/>
                  </a:lnTo>
                  <a:lnTo>
                    <a:pt x="0" y="2435"/>
                  </a:lnTo>
                  <a:lnTo>
                    <a:pt x="0" y="2784"/>
                  </a:lnTo>
                  <a:lnTo>
                    <a:pt x="5614" y="2784"/>
                  </a:lnTo>
                  <a:lnTo>
                    <a:pt x="5614" y="2435"/>
                  </a:lnTo>
                  <a:lnTo>
                    <a:pt x="5191" y="24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35280" y="5211720"/>
              <a:ext cx="1782720" cy="884160"/>
            </a:xfrm>
            <a:custGeom>
              <a:avLst/>
              <a:gdLst/>
              <a:ahLst/>
              <a:rect l="l" t="t" r="r" b="b"/>
              <a:pathLst>
                <a:path w="5614" h="2784">
                  <a:moveTo>
                    <a:pt x="5191" y="2435"/>
                  </a:moveTo>
                  <a:lnTo>
                    <a:pt x="4406" y="681"/>
                  </a:lnTo>
                  <a:lnTo>
                    <a:pt x="3184" y="681"/>
                  </a:lnTo>
                  <a:lnTo>
                    <a:pt x="3184" y="317"/>
                  </a:lnTo>
                  <a:lnTo>
                    <a:pt x="5191" y="317"/>
                  </a:lnTo>
                  <a:lnTo>
                    <a:pt x="5191" y="0"/>
                  </a:lnTo>
                  <a:lnTo>
                    <a:pt x="408" y="0"/>
                  </a:lnTo>
                  <a:lnTo>
                    <a:pt x="408" y="317"/>
                  </a:lnTo>
                  <a:lnTo>
                    <a:pt x="2370" y="317"/>
                  </a:lnTo>
                  <a:lnTo>
                    <a:pt x="2370" y="681"/>
                  </a:lnTo>
                  <a:lnTo>
                    <a:pt x="1208" y="681"/>
                  </a:lnTo>
                  <a:lnTo>
                    <a:pt x="408" y="2435"/>
                  </a:lnTo>
                  <a:lnTo>
                    <a:pt x="0" y="2435"/>
                  </a:lnTo>
                  <a:lnTo>
                    <a:pt x="0" y="2784"/>
                  </a:lnTo>
                  <a:lnTo>
                    <a:pt x="5614" y="2784"/>
                  </a:lnTo>
                  <a:lnTo>
                    <a:pt x="5614" y="2435"/>
                  </a:lnTo>
                  <a:lnTo>
                    <a:pt x="5191" y="243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34040" y="5553000"/>
              <a:ext cx="379080" cy="378000"/>
            </a:xfrm>
            <a:custGeom>
              <a:avLst/>
              <a:gdLst/>
              <a:ahLst/>
              <a:rect l="l" t="t" r="r" b="b"/>
              <a:pathLst>
                <a:path w="1193" h="1193">
                  <a:moveTo>
                    <a:pt x="0" y="589"/>
                  </a:moveTo>
                  <a:lnTo>
                    <a:pt x="0" y="558"/>
                  </a:lnTo>
                  <a:lnTo>
                    <a:pt x="15" y="498"/>
                  </a:lnTo>
                  <a:lnTo>
                    <a:pt x="31" y="438"/>
                  </a:lnTo>
                  <a:lnTo>
                    <a:pt x="45" y="392"/>
                  </a:lnTo>
                  <a:lnTo>
                    <a:pt x="61" y="332"/>
                  </a:lnTo>
                  <a:lnTo>
                    <a:pt x="92" y="286"/>
                  </a:lnTo>
                  <a:lnTo>
                    <a:pt x="121" y="240"/>
                  </a:lnTo>
                  <a:lnTo>
                    <a:pt x="167" y="195"/>
                  </a:lnTo>
                  <a:lnTo>
                    <a:pt x="195" y="150"/>
                  </a:lnTo>
                  <a:lnTo>
                    <a:pt x="243" y="119"/>
                  </a:lnTo>
                  <a:lnTo>
                    <a:pt x="301" y="89"/>
                  </a:lnTo>
                  <a:lnTo>
                    <a:pt x="348" y="58"/>
                  </a:lnTo>
                  <a:lnTo>
                    <a:pt x="392" y="30"/>
                  </a:lnTo>
                  <a:lnTo>
                    <a:pt x="452" y="14"/>
                  </a:lnTo>
                  <a:lnTo>
                    <a:pt x="513" y="0"/>
                  </a:lnTo>
                  <a:lnTo>
                    <a:pt x="604" y="0"/>
                  </a:lnTo>
                  <a:lnTo>
                    <a:pt x="633" y="0"/>
                  </a:lnTo>
                  <a:lnTo>
                    <a:pt x="694" y="0"/>
                  </a:lnTo>
                  <a:lnTo>
                    <a:pt x="755" y="14"/>
                  </a:lnTo>
                  <a:lnTo>
                    <a:pt x="815" y="30"/>
                  </a:lnTo>
                  <a:lnTo>
                    <a:pt x="861" y="58"/>
                  </a:lnTo>
                  <a:lnTo>
                    <a:pt x="906" y="89"/>
                  </a:lnTo>
                  <a:lnTo>
                    <a:pt x="967" y="119"/>
                  </a:lnTo>
                  <a:lnTo>
                    <a:pt x="1012" y="150"/>
                  </a:lnTo>
                  <a:lnTo>
                    <a:pt x="1042" y="195"/>
                  </a:lnTo>
                  <a:lnTo>
                    <a:pt x="1087" y="240"/>
                  </a:lnTo>
                  <a:lnTo>
                    <a:pt x="1118" y="286"/>
                  </a:lnTo>
                  <a:lnTo>
                    <a:pt x="1148" y="332"/>
                  </a:lnTo>
                  <a:lnTo>
                    <a:pt x="1163" y="392"/>
                  </a:lnTo>
                  <a:lnTo>
                    <a:pt x="1176" y="438"/>
                  </a:lnTo>
                  <a:lnTo>
                    <a:pt x="1193" y="498"/>
                  </a:lnTo>
                  <a:lnTo>
                    <a:pt x="1193" y="589"/>
                  </a:lnTo>
                  <a:lnTo>
                    <a:pt x="1193" y="619"/>
                  </a:lnTo>
                  <a:lnTo>
                    <a:pt x="1193" y="679"/>
                  </a:lnTo>
                  <a:lnTo>
                    <a:pt x="1176" y="740"/>
                  </a:lnTo>
                  <a:lnTo>
                    <a:pt x="1163" y="801"/>
                  </a:lnTo>
                  <a:lnTo>
                    <a:pt x="1148" y="861"/>
                  </a:lnTo>
                  <a:lnTo>
                    <a:pt x="1118" y="907"/>
                  </a:lnTo>
                  <a:lnTo>
                    <a:pt x="1087" y="952"/>
                  </a:lnTo>
                  <a:lnTo>
                    <a:pt x="1042" y="997"/>
                  </a:lnTo>
                  <a:lnTo>
                    <a:pt x="1012" y="1042"/>
                  </a:lnTo>
                  <a:lnTo>
                    <a:pt x="967" y="1072"/>
                  </a:lnTo>
                  <a:lnTo>
                    <a:pt x="906" y="1103"/>
                  </a:lnTo>
                  <a:lnTo>
                    <a:pt x="861" y="1133"/>
                  </a:lnTo>
                  <a:lnTo>
                    <a:pt x="815" y="1164"/>
                  </a:lnTo>
                  <a:lnTo>
                    <a:pt x="755" y="1178"/>
                  </a:lnTo>
                  <a:lnTo>
                    <a:pt x="694" y="1193"/>
                  </a:lnTo>
                  <a:lnTo>
                    <a:pt x="604" y="1193"/>
                  </a:lnTo>
                  <a:lnTo>
                    <a:pt x="574" y="1193"/>
                  </a:lnTo>
                  <a:lnTo>
                    <a:pt x="513" y="1193"/>
                  </a:lnTo>
                  <a:lnTo>
                    <a:pt x="452" y="1178"/>
                  </a:lnTo>
                  <a:lnTo>
                    <a:pt x="392" y="1164"/>
                  </a:lnTo>
                  <a:lnTo>
                    <a:pt x="348" y="1133"/>
                  </a:lnTo>
                  <a:lnTo>
                    <a:pt x="301" y="1103"/>
                  </a:lnTo>
                  <a:lnTo>
                    <a:pt x="243" y="1072"/>
                  </a:lnTo>
                  <a:lnTo>
                    <a:pt x="195" y="1042"/>
                  </a:lnTo>
                  <a:lnTo>
                    <a:pt x="167" y="997"/>
                  </a:lnTo>
                  <a:lnTo>
                    <a:pt x="121" y="952"/>
                  </a:lnTo>
                  <a:lnTo>
                    <a:pt x="92" y="907"/>
                  </a:lnTo>
                  <a:lnTo>
                    <a:pt x="61" y="861"/>
                  </a:lnTo>
                  <a:lnTo>
                    <a:pt x="45" y="801"/>
                  </a:lnTo>
                  <a:lnTo>
                    <a:pt x="31" y="740"/>
                  </a:lnTo>
                  <a:lnTo>
                    <a:pt x="15" y="679"/>
                  </a:lnTo>
                  <a:lnTo>
                    <a:pt x="0" y="589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34040" y="5553000"/>
              <a:ext cx="379080" cy="378000"/>
            </a:xfrm>
            <a:custGeom>
              <a:avLst/>
              <a:gdLst/>
              <a:ahLst/>
              <a:rect l="l" t="t" r="r" b="b"/>
              <a:pathLst>
                <a:path w="1193" h="1193">
                  <a:moveTo>
                    <a:pt x="0" y="589"/>
                  </a:moveTo>
                  <a:lnTo>
                    <a:pt x="0" y="558"/>
                  </a:lnTo>
                  <a:lnTo>
                    <a:pt x="15" y="498"/>
                  </a:lnTo>
                  <a:lnTo>
                    <a:pt x="31" y="438"/>
                  </a:lnTo>
                  <a:lnTo>
                    <a:pt x="45" y="392"/>
                  </a:lnTo>
                  <a:lnTo>
                    <a:pt x="61" y="332"/>
                  </a:lnTo>
                  <a:lnTo>
                    <a:pt x="92" y="286"/>
                  </a:lnTo>
                  <a:lnTo>
                    <a:pt x="121" y="240"/>
                  </a:lnTo>
                  <a:lnTo>
                    <a:pt x="167" y="195"/>
                  </a:lnTo>
                  <a:lnTo>
                    <a:pt x="195" y="150"/>
                  </a:lnTo>
                  <a:lnTo>
                    <a:pt x="243" y="119"/>
                  </a:lnTo>
                  <a:lnTo>
                    <a:pt x="301" y="89"/>
                  </a:lnTo>
                  <a:lnTo>
                    <a:pt x="348" y="58"/>
                  </a:lnTo>
                  <a:lnTo>
                    <a:pt x="392" y="30"/>
                  </a:lnTo>
                  <a:lnTo>
                    <a:pt x="452" y="14"/>
                  </a:lnTo>
                  <a:lnTo>
                    <a:pt x="513" y="0"/>
                  </a:lnTo>
                  <a:lnTo>
                    <a:pt x="604" y="0"/>
                  </a:lnTo>
                  <a:lnTo>
                    <a:pt x="633" y="0"/>
                  </a:lnTo>
                  <a:lnTo>
                    <a:pt x="694" y="0"/>
                  </a:lnTo>
                  <a:lnTo>
                    <a:pt x="755" y="14"/>
                  </a:lnTo>
                  <a:lnTo>
                    <a:pt x="815" y="30"/>
                  </a:lnTo>
                  <a:lnTo>
                    <a:pt x="861" y="58"/>
                  </a:lnTo>
                  <a:lnTo>
                    <a:pt x="906" y="89"/>
                  </a:lnTo>
                  <a:lnTo>
                    <a:pt x="967" y="119"/>
                  </a:lnTo>
                  <a:lnTo>
                    <a:pt x="1012" y="150"/>
                  </a:lnTo>
                  <a:lnTo>
                    <a:pt x="1042" y="195"/>
                  </a:lnTo>
                  <a:lnTo>
                    <a:pt x="1087" y="240"/>
                  </a:lnTo>
                  <a:lnTo>
                    <a:pt x="1118" y="286"/>
                  </a:lnTo>
                  <a:lnTo>
                    <a:pt x="1148" y="332"/>
                  </a:lnTo>
                  <a:lnTo>
                    <a:pt x="1163" y="392"/>
                  </a:lnTo>
                  <a:lnTo>
                    <a:pt x="1176" y="438"/>
                  </a:lnTo>
                  <a:lnTo>
                    <a:pt x="1193" y="498"/>
                  </a:lnTo>
                  <a:lnTo>
                    <a:pt x="1193" y="589"/>
                  </a:lnTo>
                  <a:lnTo>
                    <a:pt x="1193" y="619"/>
                  </a:lnTo>
                  <a:lnTo>
                    <a:pt x="1193" y="679"/>
                  </a:lnTo>
                  <a:lnTo>
                    <a:pt x="1176" y="740"/>
                  </a:lnTo>
                  <a:lnTo>
                    <a:pt x="1163" y="801"/>
                  </a:lnTo>
                  <a:lnTo>
                    <a:pt x="1148" y="861"/>
                  </a:lnTo>
                  <a:lnTo>
                    <a:pt x="1118" y="907"/>
                  </a:lnTo>
                  <a:lnTo>
                    <a:pt x="1087" y="952"/>
                  </a:lnTo>
                  <a:lnTo>
                    <a:pt x="1042" y="997"/>
                  </a:lnTo>
                  <a:lnTo>
                    <a:pt x="1012" y="1042"/>
                  </a:lnTo>
                  <a:lnTo>
                    <a:pt x="967" y="1072"/>
                  </a:lnTo>
                  <a:lnTo>
                    <a:pt x="906" y="1103"/>
                  </a:lnTo>
                  <a:lnTo>
                    <a:pt x="861" y="1133"/>
                  </a:lnTo>
                  <a:lnTo>
                    <a:pt x="815" y="1164"/>
                  </a:lnTo>
                  <a:lnTo>
                    <a:pt x="755" y="1178"/>
                  </a:lnTo>
                  <a:lnTo>
                    <a:pt x="694" y="1193"/>
                  </a:lnTo>
                  <a:lnTo>
                    <a:pt x="604" y="1193"/>
                  </a:lnTo>
                  <a:lnTo>
                    <a:pt x="574" y="1193"/>
                  </a:lnTo>
                  <a:lnTo>
                    <a:pt x="513" y="1193"/>
                  </a:lnTo>
                  <a:lnTo>
                    <a:pt x="452" y="1178"/>
                  </a:lnTo>
                  <a:lnTo>
                    <a:pt x="392" y="1164"/>
                  </a:lnTo>
                  <a:lnTo>
                    <a:pt x="348" y="1133"/>
                  </a:lnTo>
                  <a:lnTo>
                    <a:pt x="301" y="1103"/>
                  </a:lnTo>
                  <a:lnTo>
                    <a:pt x="243" y="1072"/>
                  </a:lnTo>
                  <a:lnTo>
                    <a:pt x="195" y="1042"/>
                  </a:lnTo>
                  <a:lnTo>
                    <a:pt x="167" y="997"/>
                  </a:lnTo>
                  <a:lnTo>
                    <a:pt x="121" y="952"/>
                  </a:lnTo>
                  <a:lnTo>
                    <a:pt x="92" y="907"/>
                  </a:lnTo>
                  <a:lnTo>
                    <a:pt x="61" y="861"/>
                  </a:lnTo>
                  <a:lnTo>
                    <a:pt x="45" y="801"/>
                  </a:lnTo>
                  <a:lnTo>
                    <a:pt x="31" y="740"/>
                  </a:lnTo>
                  <a:lnTo>
                    <a:pt x="15" y="679"/>
                  </a:lnTo>
                  <a:lnTo>
                    <a:pt x="0" y="58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22840" y="4227480"/>
              <a:ext cx="425160" cy="273240"/>
            </a:xfrm>
            <a:custGeom>
              <a:avLst/>
              <a:gdLst/>
              <a:ahLst/>
              <a:rect l="l" t="t" r="r" b="b"/>
              <a:pathLst>
                <a:path w="1343" h="862">
                  <a:moveTo>
                    <a:pt x="14" y="847"/>
                  </a:moveTo>
                  <a:lnTo>
                    <a:pt x="0" y="831"/>
                  </a:lnTo>
                  <a:lnTo>
                    <a:pt x="1327" y="0"/>
                  </a:lnTo>
                  <a:lnTo>
                    <a:pt x="1343" y="46"/>
                  </a:lnTo>
                  <a:lnTo>
                    <a:pt x="14" y="862"/>
                  </a:lnTo>
                  <a:lnTo>
                    <a:pt x="14" y="84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52680" y="3597120"/>
              <a:ext cx="254160" cy="144720"/>
            </a:xfrm>
            <a:custGeom>
              <a:avLst/>
              <a:gdLst/>
              <a:ahLst/>
              <a:rect l="l" t="t" r="r" b="b"/>
              <a:pathLst>
                <a:path w="800" h="454">
                  <a:moveTo>
                    <a:pt x="16" y="439"/>
                  </a:moveTo>
                  <a:lnTo>
                    <a:pt x="0" y="423"/>
                  </a:lnTo>
                  <a:lnTo>
                    <a:pt x="785" y="0"/>
                  </a:lnTo>
                  <a:lnTo>
                    <a:pt x="800" y="29"/>
                  </a:lnTo>
                  <a:lnTo>
                    <a:pt x="16" y="454"/>
                  </a:lnTo>
                  <a:lnTo>
                    <a:pt x="16" y="4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36960" y="4381560"/>
              <a:ext cx="368280" cy="216000"/>
            </a:xfrm>
            <a:custGeom>
              <a:avLst/>
              <a:gdLst/>
              <a:ahLst/>
              <a:rect l="l" t="t" r="r" b="b"/>
              <a:pathLst>
                <a:path w="1162" h="680">
                  <a:moveTo>
                    <a:pt x="0" y="665"/>
                  </a:moveTo>
                  <a:lnTo>
                    <a:pt x="1162" y="0"/>
                  </a:lnTo>
                  <a:lnTo>
                    <a:pt x="1162" y="13"/>
                  </a:lnTo>
                  <a:lnTo>
                    <a:pt x="0" y="680"/>
                  </a:lnTo>
                  <a:lnTo>
                    <a:pt x="0" y="6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22720" y="3425760"/>
              <a:ext cx="191880" cy="100080"/>
            </a:xfrm>
            <a:custGeom>
              <a:avLst/>
              <a:gdLst/>
              <a:ahLst/>
              <a:rect l="l" t="t" r="r" b="b"/>
              <a:pathLst>
                <a:path w="603" h="316">
                  <a:moveTo>
                    <a:pt x="0" y="316"/>
                  </a:moveTo>
                  <a:lnTo>
                    <a:pt x="603" y="0"/>
                  </a:lnTo>
                  <a:lnTo>
                    <a:pt x="603" y="14"/>
                  </a:lnTo>
                  <a:lnTo>
                    <a:pt x="15" y="316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24400" y="3836880"/>
              <a:ext cx="341280" cy="177840"/>
            </a:xfrm>
            <a:custGeom>
              <a:avLst/>
              <a:gdLst/>
              <a:ahLst/>
              <a:rect l="l" t="t" r="r" b="b"/>
              <a:pathLst>
                <a:path w="1072" h="560">
                  <a:moveTo>
                    <a:pt x="0" y="560"/>
                  </a:moveTo>
                  <a:lnTo>
                    <a:pt x="1072" y="0"/>
                  </a:lnTo>
                  <a:lnTo>
                    <a:pt x="1072" y="17"/>
                  </a:lnTo>
                  <a:lnTo>
                    <a:pt x="0" y="56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43240" y="4626000"/>
              <a:ext cx="392400" cy="225360"/>
            </a:xfrm>
            <a:custGeom>
              <a:avLst/>
              <a:gdLst/>
              <a:ahLst/>
              <a:rect l="l" t="t" r="r" b="b"/>
              <a:pathLst>
                <a:path w="1235" h="710">
                  <a:moveTo>
                    <a:pt x="13" y="695"/>
                  </a:moveTo>
                  <a:lnTo>
                    <a:pt x="0" y="695"/>
                  </a:lnTo>
                  <a:lnTo>
                    <a:pt x="1235" y="0"/>
                  </a:lnTo>
                  <a:lnTo>
                    <a:pt x="1235" y="15"/>
                  </a:lnTo>
                  <a:lnTo>
                    <a:pt x="13" y="710"/>
                  </a:lnTo>
                  <a:lnTo>
                    <a:pt x="13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01960" y="4154400"/>
              <a:ext cx="336600" cy="196920"/>
            </a:xfrm>
            <a:custGeom>
              <a:avLst/>
              <a:gdLst/>
              <a:ahLst/>
              <a:rect l="l" t="t" r="r" b="b"/>
              <a:pathLst>
                <a:path w="1056" h="621">
                  <a:moveTo>
                    <a:pt x="16" y="607"/>
                  </a:moveTo>
                  <a:lnTo>
                    <a:pt x="0" y="607"/>
                  </a:lnTo>
                  <a:lnTo>
                    <a:pt x="1042" y="0"/>
                  </a:lnTo>
                  <a:lnTo>
                    <a:pt x="1056" y="16"/>
                  </a:lnTo>
                  <a:lnTo>
                    <a:pt x="16" y="621"/>
                  </a:lnTo>
                  <a:lnTo>
                    <a:pt x="16" y="60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295000" y="557280"/>
            <a:ext cx="456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WINDOW PERIO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84360" y="1465200"/>
            <a:ext cx="4164120" cy="4714560"/>
            <a:chOff x="2484360" y="1465200"/>
            <a:chExt cx="4164120" cy="4714560"/>
          </a:xfrm>
        </p:grpSpPr>
        <p:sp>
          <p:nvSpPr>
            <p:cNvPr id="374" name=""/>
            <p:cNvSpPr/>
            <p:nvPr/>
          </p:nvSpPr>
          <p:spPr>
            <a:xfrm>
              <a:off x="3498840" y="1762200"/>
              <a:ext cx="3149640" cy="386712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37080" y="1882800"/>
              <a:ext cx="2873160" cy="362592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76760" y="2004840"/>
              <a:ext cx="2597040" cy="1741680"/>
            </a:xfrm>
            <a:prstGeom prst="rect">
              <a:avLst/>
            </a:pr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76760" y="2004840"/>
              <a:ext cx="2597040" cy="174168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76760" y="3863880"/>
              <a:ext cx="2597040" cy="1522440"/>
            </a:xfrm>
            <a:prstGeom prst="rect">
              <a:avLst/>
            </a:pr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76760" y="3863880"/>
              <a:ext cx="2597040" cy="152244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76760" y="2844720"/>
              <a:ext cx="2611440" cy="1800"/>
            </a:xfrm>
            <a:custGeom>
              <a:avLst/>
              <a:gdLst/>
              <a:ahLst/>
              <a:rect l="l" t="t" r="r" b="b"/>
              <a:pathLst>
                <a:path w="8227" h="0">
                  <a:moveTo>
                    <a:pt x="0" y="0"/>
                  </a:moveTo>
                  <a:lnTo>
                    <a:pt x="8227" y="0"/>
                  </a:lnTo>
                  <a:lnTo>
                    <a:pt x="8172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92600" y="4546440"/>
              <a:ext cx="257796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1648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1648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7528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7528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2940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2940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962440" y="1782720"/>
              <a:ext cx="21240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62440" y="242712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62440" y="307008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62440" y="371628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62440" y="4361040"/>
              <a:ext cx="212400" cy="144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62440" y="5005440"/>
              <a:ext cx="212400" cy="144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2962440" y="5649840"/>
              <a:ext cx="21240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46320" y="1766880"/>
              <a:ext cx="1800" cy="388296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35440" y="5697360"/>
              <a:ext cx="58680" cy="63720"/>
            </a:xfrm>
            <a:custGeom>
              <a:avLst/>
              <a:gdLst/>
              <a:ahLst/>
              <a:rect l="l" t="t" r="r" b="b"/>
              <a:pathLst>
                <a:path w="183" h="202">
                  <a:moveTo>
                    <a:pt x="97" y="1"/>
                  </a:moveTo>
                  <a:lnTo>
                    <a:pt x="97" y="0"/>
                  </a:lnTo>
                  <a:lnTo>
                    <a:pt x="84" y="8"/>
                  </a:lnTo>
                  <a:lnTo>
                    <a:pt x="71" y="15"/>
                  </a:lnTo>
                  <a:lnTo>
                    <a:pt x="59" y="24"/>
                  </a:lnTo>
                  <a:lnTo>
                    <a:pt x="46" y="33"/>
                  </a:lnTo>
                  <a:lnTo>
                    <a:pt x="34" y="41"/>
                  </a:lnTo>
                  <a:lnTo>
                    <a:pt x="23" y="51"/>
                  </a:lnTo>
                  <a:lnTo>
                    <a:pt x="12" y="61"/>
                  </a:lnTo>
                  <a:lnTo>
                    <a:pt x="0" y="70"/>
                  </a:lnTo>
                  <a:lnTo>
                    <a:pt x="122" y="202"/>
                  </a:lnTo>
                  <a:lnTo>
                    <a:pt x="128" y="196"/>
                  </a:lnTo>
                  <a:lnTo>
                    <a:pt x="136" y="190"/>
                  </a:lnTo>
                  <a:lnTo>
                    <a:pt x="143" y="184"/>
                  </a:lnTo>
                  <a:lnTo>
                    <a:pt x="151" y="178"/>
                  </a:lnTo>
                  <a:lnTo>
                    <a:pt x="160" y="173"/>
                  </a:lnTo>
                  <a:lnTo>
                    <a:pt x="167" y="168"/>
                  </a:lnTo>
                  <a:lnTo>
                    <a:pt x="176" y="162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67120" y="5695920"/>
              <a:ext cx="55440" cy="50760"/>
            </a:xfrm>
            <a:custGeom>
              <a:avLst/>
              <a:gdLst/>
              <a:ahLst/>
              <a:rect l="l" t="t" r="r" b="b"/>
              <a:pathLst>
                <a:path w="176" h="162">
                  <a:moveTo>
                    <a:pt x="130" y="33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86" y="162"/>
                  </a:lnTo>
                  <a:lnTo>
                    <a:pt x="95" y="156"/>
                  </a:lnTo>
                  <a:lnTo>
                    <a:pt x="130" y="33"/>
                  </a:lnTo>
                  <a:lnTo>
                    <a:pt x="95" y="156"/>
                  </a:lnTo>
                  <a:lnTo>
                    <a:pt x="176" y="112"/>
                  </a:lnTo>
                  <a:lnTo>
                    <a:pt x="13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51280" y="5697360"/>
              <a:ext cx="56880" cy="38160"/>
            </a:xfrm>
            <a:custGeom>
              <a:avLst/>
              <a:gdLst/>
              <a:ahLst/>
              <a:rect l="l" t="t" r="r" b="b"/>
              <a:pathLst>
                <a:path w="177" h="117">
                  <a:moveTo>
                    <a:pt x="0" y="65"/>
                  </a:moveTo>
                  <a:lnTo>
                    <a:pt x="2" y="71"/>
                  </a:lnTo>
                  <a:lnTo>
                    <a:pt x="3" y="73"/>
                  </a:lnTo>
                  <a:lnTo>
                    <a:pt x="4" y="75"/>
                  </a:lnTo>
                  <a:lnTo>
                    <a:pt x="5" y="79"/>
                  </a:lnTo>
                  <a:lnTo>
                    <a:pt x="7" y="85"/>
                  </a:lnTo>
                  <a:lnTo>
                    <a:pt x="9" y="90"/>
                  </a:lnTo>
                  <a:lnTo>
                    <a:pt x="13" y="99"/>
                  </a:lnTo>
                  <a:lnTo>
                    <a:pt x="17" y="108"/>
                  </a:lnTo>
                  <a:lnTo>
                    <a:pt x="21" y="117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6" y="24"/>
                  </a:lnTo>
                  <a:lnTo>
                    <a:pt x="174" y="20"/>
                  </a:lnTo>
                  <a:lnTo>
                    <a:pt x="172" y="14"/>
                  </a:lnTo>
                  <a:lnTo>
                    <a:pt x="170" y="8"/>
                  </a:lnTo>
                  <a:lnTo>
                    <a:pt x="167" y="0"/>
                  </a:lnTo>
                  <a:lnTo>
                    <a:pt x="169" y="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48040" y="5670720"/>
              <a:ext cx="57240" cy="52200"/>
            </a:xfrm>
            <a:custGeom>
              <a:avLst/>
              <a:gdLst/>
              <a:ahLst/>
              <a:rect l="l" t="t" r="r" b="b"/>
              <a:pathLst>
                <a:path w="180" h="165">
                  <a:moveTo>
                    <a:pt x="61" y="0"/>
                  </a:moveTo>
                  <a:lnTo>
                    <a:pt x="59" y="1"/>
                  </a:lnTo>
                  <a:lnTo>
                    <a:pt x="24" y="28"/>
                  </a:lnTo>
                  <a:lnTo>
                    <a:pt x="6" y="60"/>
                  </a:lnTo>
                  <a:lnTo>
                    <a:pt x="1" y="86"/>
                  </a:lnTo>
                  <a:lnTo>
                    <a:pt x="0" y="105"/>
                  </a:lnTo>
                  <a:lnTo>
                    <a:pt x="2" y="120"/>
                  </a:lnTo>
                  <a:lnTo>
                    <a:pt x="5" y="133"/>
                  </a:lnTo>
                  <a:lnTo>
                    <a:pt x="7" y="143"/>
                  </a:lnTo>
                  <a:lnTo>
                    <a:pt x="11" y="153"/>
                  </a:lnTo>
                  <a:lnTo>
                    <a:pt x="180" y="93"/>
                  </a:lnTo>
                  <a:lnTo>
                    <a:pt x="180" y="93"/>
                  </a:lnTo>
                  <a:lnTo>
                    <a:pt x="179" y="92"/>
                  </a:lnTo>
                  <a:lnTo>
                    <a:pt x="180" y="92"/>
                  </a:lnTo>
                  <a:lnTo>
                    <a:pt x="180" y="95"/>
                  </a:lnTo>
                  <a:lnTo>
                    <a:pt x="180" y="101"/>
                  </a:lnTo>
                  <a:lnTo>
                    <a:pt x="177" y="118"/>
                  </a:lnTo>
                  <a:lnTo>
                    <a:pt x="162" y="142"/>
                  </a:lnTo>
                  <a:lnTo>
                    <a:pt x="134" y="164"/>
                  </a:lnTo>
                  <a:lnTo>
                    <a:pt x="131" y="16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63880" y="5667480"/>
              <a:ext cx="57240" cy="83880"/>
            </a:xfrm>
            <a:custGeom>
              <a:avLst/>
              <a:gdLst/>
              <a:ahLst/>
              <a:rect l="l" t="t" r="r" b="b"/>
              <a:pathLst>
                <a:path w="181" h="269">
                  <a:moveTo>
                    <a:pt x="64" y="70"/>
                  </a:moveTo>
                  <a:lnTo>
                    <a:pt x="181" y="110"/>
                  </a:lnTo>
                  <a:lnTo>
                    <a:pt x="175" y="97"/>
                  </a:lnTo>
                  <a:lnTo>
                    <a:pt x="169" y="84"/>
                  </a:lnTo>
                  <a:lnTo>
                    <a:pt x="162" y="70"/>
                  </a:lnTo>
                  <a:lnTo>
                    <a:pt x="154" y="55"/>
                  </a:lnTo>
                  <a:lnTo>
                    <a:pt x="143" y="41"/>
                  </a:lnTo>
                  <a:lnTo>
                    <a:pt x="132" y="29"/>
                  </a:lnTo>
                  <a:lnTo>
                    <a:pt x="117" y="17"/>
                  </a:lnTo>
                  <a:lnTo>
                    <a:pt x="96" y="7"/>
                  </a:lnTo>
                  <a:lnTo>
                    <a:pt x="72" y="1"/>
                  </a:lnTo>
                  <a:lnTo>
                    <a:pt x="50" y="0"/>
                  </a:lnTo>
                  <a:lnTo>
                    <a:pt x="29" y="4"/>
                  </a:lnTo>
                  <a:lnTo>
                    <a:pt x="13" y="10"/>
                  </a:lnTo>
                  <a:lnTo>
                    <a:pt x="83" y="175"/>
                  </a:lnTo>
                  <a:lnTo>
                    <a:pt x="77" y="177"/>
                  </a:lnTo>
                  <a:lnTo>
                    <a:pt x="65" y="180"/>
                  </a:lnTo>
                  <a:lnTo>
                    <a:pt x="51" y="179"/>
                  </a:lnTo>
                  <a:lnTo>
                    <a:pt x="34" y="175"/>
                  </a:lnTo>
                  <a:lnTo>
                    <a:pt x="20" y="169"/>
                  </a:lnTo>
                  <a:lnTo>
                    <a:pt x="10" y="161"/>
                  </a:lnTo>
                  <a:lnTo>
                    <a:pt x="5" y="156"/>
                  </a:lnTo>
                  <a:lnTo>
                    <a:pt x="0" y="148"/>
                  </a:lnTo>
                  <a:lnTo>
                    <a:pt x="2" y="152"/>
                  </a:lnTo>
                  <a:lnTo>
                    <a:pt x="7" y="161"/>
                  </a:lnTo>
                  <a:lnTo>
                    <a:pt x="13" y="175"/>
                  </a:lnTo>
                  <a:lnTo>
                    <a:pt x="23" y="193"/>
                  </a:lnTo>
                  <a:lnTo>
                    <a:pt x="140" y="233"/>
                  </a:lnTo>
                  <a:lnTo>
                    <a:pt x="23" y="193"/>
                  </a:lnTo>
                  <a:lnTo>
                    <a:pt x="62" y="269"/>
                  </a:lnTo>
                  <a:lnTo>
                    <a:pt x="140" y="233"/>
                  </a:lnTo>
                  <a:lnTo>
                    <a:pt x="64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84400" y="5686560"/>
              <a:ext cx="27000" cy="54000"/>
            </a:xfrm>
            <a:custGeom>
              <a:avLst/>
              <a:gdLst/>
              <a:ahLst/>
              <a:rect l="l" t="t" r="r" b="b"/>
              <a:pathLst>
                <a:path w="87" h="171">
                  <a:moveTo>
                    <a:pt x="19" y="0"/>
                  </a:moveTo>
                  <a:lnTo>
                    <a:pt x="13" y="3"/>
                  </a:lnTo>
                  <a:lnTo>
                    <a:pt x="0" y="8"/>
                  </a:lnTo>
                  <a:lnTo>
                    <a:pt x="76" y="171"/>
                  </a:lnTo>
                  <a:lnTo>
                    <a:pt x="87" y="16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89440" y="5675400"/>
              <a:ext cx="58680" cy="65160"/>
            </a:xfrm>
            <a:custGeom>
              <a:avLst/>
              <a:gdLst/>
              <a:ahLst/>
              <a:rect l="l" t="t" r="r" b="b"/>
              <a:pathLst>
                <a:path w="184" h="201">
                  <a:moveTo>
                    <a:pt x="184" y="0"/>
                  </a:moveTo>
                  <a:lnTo>
                    <a:pt x="184" y="0"/>
                  </a:lnTo>
                  <a:lnTo>
                    <a:pt x="160" y="0"/>
                  </a:lnTo>
                  <a:lnTo>
                    <a:pt x="137" y="2"/>
                  </a:lnTo>
                  <a:lnTo>
                    <a:pt x="113" y="5"/>
                  </a:lnTo>
                  <a:lnTo>
                    <a:pt x="90" y="9"/>
                  </a:lnTo>
                  <a:lnTo>
                    <a:pt x="66" y="13"/>
                  </a:lnTo>
                  <a:lnTo>
                    <a:pt x="45" y="19"/>
                  </a:lnTo>
                  <a:lnTo>
                    <a:pt x="22" y="25"/>
                  </a:lnTo>
                  <a:lnTo>
                    <a:pt x="0" y="33"/>
                  </a:lnTo>
                  <a:lnTo>
                    <a:pt x="62" y="201"/>
                  </a:lnTo>
                  <a:lnTo>
                    <a:pt x="76" y="197"/>
                  </a:lnTo>
                  <a:lnTo>
                    <a:pt x="91" y="192"/>
                  </a:lnTo>
                  <a:lnTo>
                    <a:pt x="106" y="188"/>
                  </a:lnTo>
                  <a:lnTo>
                    <a:pt x="121" y="185"/>
                  </a:lnTo>
                  <a:lnTo>
                    <a:pt x="137" y="183"/>
                  </a:lnTo>
                  <a:lnTo>
                    <a:pt x="153" y="181"/>
                  </a:lnTo>
                  <a:lnTo>
                    <a:pt x="168" y="180"/>
                  </a:lnTo>
                  <a:lnTo>
                    <a:pt x="184" y="180"/>
                  </a:lnTo>
                  <a:lnTo>
                    <a:pt x="184" y="18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48120" y="5675400"/>
              <a:ext cx="52200" cy="60120"/>
            </a:xfrm>
            <a:custGeom>
              <a:avLst/>
              <a:gdLst/>
              <a:ahLst/>
              <a:rect l="l" t="t" r="r" b="b"/>
              <a:pathLst>
                <a:path w="165" h="190">
                  <a:moveTo>
                    <a:pt x="165" y="30"/>
                  </a:moveTo>
                  <a:lnTo>
                    <a:pt x="132" y="16"/>
                  </a:lnTo>
                  <a:lnTo>
                    <a:pt x="116" y="12"/>
                  </a:lnTo>
                  <a:lnTo>
                    <a:pt x="99" y="9"/>
                  </a:lnTo>
                  <a:lnTo>
                    <a:pt x="83" y="7"/>
                  </a:lnTo>
                  <a:lnTo>
                    <a:pt x="67" y="5"/>
                  </a:lnTo>
                  <a:lnTo>
                    <a:pt x="50" y="2"/>
                  </a:lnTo>
                  <a:lnTo>
                    <a:pt x="33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11" y="180"/>
                  </a:lnTo>
                  <a:lnTo>
                    <a:pt x="23" y="181"/>
                  </a:lnTo>
                  <a:lnTo>
                    <a:pt x="33" y="181"/>
                  </a:lnTo>
                  <a:lnTo>
                    <a:pt x="45" y="183"/>
                  </a:lnTo>
                  <a:lnTo>
                    <a:pt x="56" y="184"/>
                  </a:lnTo>
                  <a:lnTo>
                    <a:pt x="67" y="186"/>
                  </a:lnTo>
                  <a:lnTo>
                    <a:pt x="79" y="188"/>
                  </a:lnTo>
                  <a:lnTo>
                    <a:pt x="90" y="190"/>
                  </a:lnTo>
                  <a:lnTo>
                    <a:pt x="56" y="175"/>
                  </a:lnTo>
                  <a:lnTo>
                    <a:pt x="165" y="30"/>
                  </a:lnTo>
                  <a:lnTo>
                    <a:pt x="150" y="21"/>
                  </a:lnTo>
                  <a:lnTo>
                    <a:pt x="132" y="16"/>
                  </a:lnTo>
                  <a:lnTo>
                    <a:pt x="165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65400" y="5684760"/>
              <a:ext cx="47520" cy="74520"/>
            </a:xfrm>
            <a:custGeom>
              <a:avLst/>
              <a:gdLst/>
              <a:ahLst/>
              <a:rect l="l" t="t" r="r" b="b"/>
              <a:pathLst>
                <a:path w="146" h="234">
                  <a:moveTo>
                    <a:pt x="146" y="94"/>
                  </a:moveTo>
                  <a:lnTo>
                    <a:pt x="112" y="4"/>
                  </a:lnTo>
                  <a:lnTo>
                    <a:pt x="109" y="0"/>
                  </a:lnTo>
                  <a:lnTo>
                    <a:pt x="0" y="145"/>
                  </a:lnTo>
                  <a:lnTo>
                    <a:pt x="4" y="148"/>
                  </a:lnTo>
                  <a:lnTo>
                    <a:pt x="146" y="94"/>
                  </a:lnTo>
                  <a:lnTo>
                    <a:pt x="4" y="148"/>
                  </a:lnTo>
                  <a:lnTo>
                    <a:pt x="117" y="234"/>
                  </a:lnTo>
                  <a:lnTo>
                    <a:pt x="146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57480" y="5691240"/>
              <a:ext cx="58680" cy="23760"/>
            </a:xfrm>
            <a:custGeom>
              <a:avLst/>
              <a:gdLst/>
              <a:ahLst/>
              <a:rect l="l" t="t" r="r" b="b"/>
              <a:pathLst>
                <a:path w="187" h="77">
                  <a:moveTo>
                    <a:pt x="12" y="0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175" y="77"/>
                  </a:lnTo>
                  <a:lnTo>
                    <a:pt x="175" y="77"/>
                  </a:lnTo>
                  <a:lnTo>
                    <a:pt x="176" y="77"/>
                  </a:lnTo>
                  <a:lnTo>
                    <a:pt x="176" y="76"/>
                  </a:lnTo>
                  <a:lnTo>
                    <a:pt x="177" y="73"/>
                  </a:lnTo>
                  <a:lnTo>
                    <a:pt x="179" y="68"/>
                  </a:lnTo>
                  <a:lnTo>
                    <a:pt x="181" y="61"/>
                  </a:lnTo>
                  <a:lnTo>
                    <a:pt x="185" y="52"/>
                  </a:lnTo>
                  <a:lnTo>
                    <a:pt x="187" y="42"/>
                  </a:lnTo>
                  <a:lnTo>
                    <a:pt x="185" y="4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60720" y="5659560"/>
              <a:ext cx="55440" cy="56880"/>
            </a:xfrm>
            <a:custGeom>
              <a:avLst/>
              <a:gdLst/>
              <a:ahLst/>
              <a:rect l="l" t="t" r="r" b="b"/>
              <a:pathLst>
                <a:path w="174" h="179">
                  <a:moveTo>
                    <a:pt x="121" y="0"/>
                  </a:moveTo>
                  <a:lnTo>
                    <a:pt x="126" y="0"/>
                  </a:lnTo>
                  <a:lnTo>
                    <a:pt x="78" y="5"/>
                  </a:lnTo>
                  <a:lnTo>
                    <a:pt x="46" y="22"/>
                  </a:lnTo>
                  <a:lnTo>
                    <a:pt x="29" y="39"/>
                  </a:lnTo>
                  <a:lnTo>
                    <a:pt x="19" y="53"/>
                  </a:lnTo>
                  <a:lnTo>
                    <a:pt x="12" y="66"/>
                  </a:lnTo>
                  <a:lnTo>
                    <a:pt x="7" y="78"/>
                  </a:lnTo>
                  <a:lnTo>
                    <a:pt x="3" y="89"/>
                  </a:lnTo>
                  <a:lnTo>
                    <a:pt x="0" y="99"/>
                  </a:lnTo>
                  <a:lnTo>
                    <a:pt x="173" y="148"/>
                  </a:lnTo>
                  <a:lnTo>
                    <a:pt x="173" y="147"/>
                  </a:lnTo>
                  <a:lnTo>
                    <a:pt x="173" y="146"/>
                  </a:lnTo>
                  <a:lnTo>
                    <a:pt x="174" y="146"/>
                  </a:lnTo>
                  <a:lnTo>
                    <a:pt x="173" y="147"/>
                  </a:lnTo>
                  <a:lnTo>
                    <a:pt x="169" y="152"/>
                  </a:lnTo>
                  <a:lnTo>
                    <a:pt x="160" y="161"/>
                  </a:lnTo>
                  <a:lnTo>
                    <a:pt x="135" y="175"/>
                  </a:lnTo>
                  <a:lnTo>
                    <a:pt x="95" y="178"/>
                  </a:lnTo>
                  <a:lnTo>
                    <a:pt x="100" y="17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62160" y="5659560"/>
              <a:ext cx="68400" cy="79200"/>
            </a:xfrm>
            <a:custGeom>
              <a:avLst/>
              <a:gdLst/>
              <a:ahLst/>
              <a:rect l="l" t="t" r="r" b="b"/>
              <a:pathLst>
                <a:path w="214" h="252">
                  <a:moveTo>
                    <a:pt x="145" y="88"/>
                  </a:moveTo>
                  <a:lnTo>
                    <a:pt x="196" y="197"/>
                  </a:lnTo>
                  <a:lnTo>
                    <a:pt x="201" y="180"/>
                  </a:lnTo>
                  <a:lnTo>
                    <a:pt x="207" y="162"/>
                  </a:lnTo>
                  <a:lnTo>
                    <a:pt x="211" y="142"/>
                  </a:lnTo>
                  <a:lnTo>
                    <a:pt x="214" y="121"/>
                  </a:lnTo>
                  <a:lnTo>
                    <a:pt x="214" y="102"/>
                  </a:lnTo>
                  <a:lnTo>
                    <a:pt x="211" y="84"/>
                  </a:lnTo>
                  <a:lnTo>
                    <a:pt x="204" y="63"/>
                  </a:lnTo>
                  <a:lnTo>
                    <a:pt x="192" y="41"/>
                  </a:lnTo>
                  <a:lnTo>
                    <a:pt x="172" y="23"/>
                  </a:lnTo>
                  <a:lnTo>
                    <a:pt x="152" y="10"/>
                  </a:lnTo>
                  <a:lnTo>
                    <a:pt x="132" y="4"/>
                  </a:lnTo>
                  <a:lnTo>
                    <a:pt x="114" y="0"/>
                  </a:lnTo>
                  <a:lnTo>
                    <a:pt x="93" y="179"/>
                  </a:lnTo>
                  <a:lnTo>
                    <a:pt x="87" y="178"/>
                  </a:lnTo>
                  <a:lnTo>
                    <a:pt x="76" y="173"/>
                  </a:lnTo>
                  <a:lnTo>
                    <a:pt x="63" y="166"/>
                  </a:lnTo>
                  <a:lnTo>
                    <a:pt x="50" y="153"/>
                  </a:lnTo>
                  <a:lnTo>
                    <a:pt x="41" y="139"/>
                  </a:lnTo>
                  <a:lnTo>
                    <a:pt x="36" y="126"/>
                  </a:lnTo>
                  <a:lnTo>
                    <a:pt x="35" y="116"/>
                  </a:lnTo>
                  <a:lnTo>
                    <a:pt x="35" y="106"/>
                  </a:lnTo>
                  <a:lnTo>
                    <a:pt x="35" y="108"/>
                  </a:lnTo>
                  <a:lnTo>
                    <a:pt x="33" y="115"/>
                  </a:lnTo>
                  <a:lnTo>
                    <a:pt x="30" y="127"/>
                  </a:lnTo>
                  <a:lnTo>
                    <a:pt x="24" y="143"/>
                  </a:lnTo>
                  <a:lnTo>
                    <a:pt x="75" y="252"/>
                  </a:lnTo>
                  <a:lnTo>
                    <a:pt x="24" y="143"/>
                  </a:lnTo>
                  <a:lnTo>
                    <a:pt x="0" y="221"/>
                  </a:lnTo>
                  <a:lnTo>
                    <a:pt x="75" y="252"/>
                  </a:lnTo>
                  <a:lnTo>
                    <a:pt x="145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86280" y="5688000"/>
              <a:ext cx="25200" cy="52560"/>
            </a:xfrm>
            <a:custGeom>
              <a:avLst/>
              <a:gdLst/>
              <a:ahLst/>
              <a:rect l="l" t="t" r="r" b="b"/>
              <a:pathLst>
                <a:path w="78" h="168">
                  <a:moveTo>
                    <a:pt x="9" y="168"/>
                  </a:moveTo>
                  <a:lnTo>
                    <a:pt x="78" y="2"/>
                  </a:lnTo>
                  <a:lnTo>
                    <a:pt x="70" y="0"/>
                  </a:lnTo>
                  <a:lnTo>
                    <a:pt x="0" y="164"/>
                  </a:lnTo>
                  <a:lnTo>
                    <a:pt x="7" y="167"/>
                  </a:lnTo>
                  <a:lnTo>
                    <a:pt x="9" y="168"/>
                  </a:lnTo>
                  <a:lnTo>
                    <a:pt x="7" y="167"/>
                  </a:lnTo>
                  <a:lnTo>
                    <a:pt x="9" y="167"/>
                  </a:lnTo>
                  <a:lnTo>
                    <a:pt x="9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89160" y="5688000"/>
              <a:ext cx="119160" cy="122400"/>
            </a:xfrm>
            <a:custGeom>
              <a:avLst/>
              <a:gdLst/>
              <a:ahLst/>
              <a:rect l="l" t="t" r="r" b="b"/>
              <a:pathLst>
                <a:path w="374" h="385">
                  <a:moveTo>
                    <a:pt x="374" y="333"/>
                  </a:moveTo>
                  <a:lnTo>
                    <a:pt x="373" y="329"/>
                  </a:lnTo>
                  <a:lnTo>
                    <a:pt x="363" y="301"/>
                  </a:lnTo>
                  <a:lnTo>
                    <a:pt x="352" y="274"/>
                  </a:lnTo>
                  <a:lnTo>
                    <a:pt x="340" y="248"/>
                  </a:lnTo>
                  <a:lnTo>
                    <a:pt x="326" y="224"/>
                  </a:lnTo>
                  <a:lnTo>
                    <a:pt x="309" y="199"/>
                  </a:lnTo>
                  <a:lnTo>
                    <a:pt x="293" y="175"/>
                  </a:lnTo>
                  <a:lnTo>
                    <a:pt x="275" y="152"/>
                  </a:lnTo>
                  <a:lnTo>
                    <a:pt x="257" y="131"/>
                  </a:lnTo>
                  <a:lnTo>
                    <a:pt x="236" y="110"/>
                  </a:lnTo>
                  <a:lnTo>
                    <a:pt x="214" y="91"/>
                  </a:lnTo>
                  <a:lnTo>
                    <a:pt x="193" y="72"/>
                  </a:lnTo>
                  <a:lnTo>
                    <a:pt x="169" y="55"/>
                  </a:lnTo>
                  <a:lnTo>
                    <a:pt x="144" y="39"/>
                  </a:lnTo>
                  <a:lnTo>
                    <a:pt x="119" y="25"/>
                  </a:lnTo>
                  <a:lnTo>
                    <a:pt x="93" y="12"/>
                  </a:lnTo>
                  <a:lnTo>
                    <a:pt x="67" y="0"/>
                  </a:lnTo>
                  <a:lnTo>
                    <a:pt x="0" y="166"/>
                  </a:lnTo>
                  <a:lnTo>
                    <a:pt x="17" y="174"/>
                  </a:lnTo>
                  <a:lnTo>
                    <a:pt x="34" y="183"/>
                  </a:lnTo>
                  <a:lnTo>
                    <a:pt x="51" y="192"/>
                  </a:lnTo>
                  <a:lnTo>
                    <a:pt x="68" y="202"/>
                  </a:lnTo>
                  <a:lnTo>
                    <a:pt x="83" y="214"/>
                  </a:lnTo>
                  <a:lnTo>
                    <a:pt x="98" y="226"/>
                  </a:lnTo>
                  <a:lnTo>
                    <a:pt x="112" y="239"/>
                  </a:lnTo>
                  <a:lnTo>
                    <a:pt x="125" y="253"/>
                  </a:lnTo>
                  <a:lnTo>
                    <a:pt x="138" y="267"/>
                  </a:lnTo>
                  <a:lnTo>
                    <a:pt x="150" y="282"/>
                  </a:lnTo>
                  <a:lnTo>
                    <a:pt x="160" y="297"/>
                  </a:lnTo>
                  <a:lnTo>
                    <a:pt x="170" y="313"/>
                  </a:lnTo>
                  <a:lnTo>
                    <a:pt x="180" y="331"/>
                  </a:lnTo>
                  <a:lnTo>
                    <a:pt x="188" y="348"/>
                  </a:lnTo>
                  <a:lnTo>
                    <a:pt x="195" y="366"/>
                  </a:lnTo>
                  <a:lnTo>
                    <a:pt x="203" y="385"/>
                  </a:lnTo>
                  <a:lnTo>
                    <a:pt x="200" y="381"/>
                  </a:lnTo>
                  <a:lnTo>
                    <a:pt x="374" y="333"/>
                  </a:lnTo>
                  <a:lnTo>
                    <a:pt x="373" y="331"/>
                  </a:lnTo>
                  <a:lnTo>
                    <a:pt x="373" y="329"/>
                  </a:lnTo>
                  <a:lnTo>
                    <a:pt x="374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52880" y="5794200"/>
              <a:ext cx="55440" cy="47880"/>
            </a:xfrm>
            <a:custGeom>
              <a:avLst/>
              <a:gdLst/>
              <a:ahLst/>
              <a:rect l="l" t="t" r="r" b="b"/>
              <a:pathLst>
                <a:path w="176" h="150">
                  <a:moveTo>
                    <a:pt x="121" y="114"/>
                  </a:moveTo>
                  <a:lnTo>
                    <a:pt x="176" y="6"/>
                  </a:lnTo>
                  <a:lnTo>
                    <a:pt x="174" y="0"/>
                  </a:lnTo>
                  <a:lnTo>
                    <a:pt x="0" y="48"/>
                  </a:lnTo>
                  <a:lnTo>
                    <a:pt x="3" y="55"/>
                  </a:lnTo>
                  <a:lnTo>
                    <a:pt x="121" y="114"/>
                  </a:lnTo>
                  <a:lnTo>
                    <a:pt x="3" y="55"/>
                  </a:lnTo>
                  <a:lnTo>
                    <a:pt x="30" y="150"/>
                  </a:lnTo>
                  <a:lnTo>
                    <a:pt x="121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71960" y="5773680"/>
              <a:ext cx="23760" cy="5724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63" y="0"/>
                  </a:moveTo>
                  <a:lnTo>
                    <a:pt x="63" y="0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47" y="1"/>
                  </a:lnTo>
                  <a:lnTo>
                    <a:pt x="38" y="2"/>
                  </a:lnTo>
                  <a:lnTo>
                    <a:pt x="30" y="3"/>
                  </a:lnTo>
                  <a:lnTo>
                    <a:pt x="21" y="5"/>
                  </a:lnTo>
                  <a:lnTo>
                    <a:pt x="10" y="9"/>
                  </a:lnTo>
                  <a:lnTo>
                    <a:pt x="0" y="12"/>
                  </a:lnTo>
                  <a:lnTo>
                    <a:pt x="63" y="179"/>
                  </a:lnTo>
                  <a:lnTo>
                    <a:pt x="62" y="180"/>
                  </a:lnTo>
                  <a:lnTo>
                    <a:pt x="61" y="180"/>
                  </a:lnTo>
                  <a:lnTo>
                    <a:pt x="60" y="180"/>
                  </a:lnTo>
                  <a:lnTo>
                    <a:pt x="61" y="180"/>
                  </a:lnTo>
                  <a:lnTo>
                    <a:pt x="61" y="180"/>
                  </a:lnTo>
                  <a:lnTo>
                    <a:pt x="65" y="180"/>
                  </a:lnTo>
                  <a:lnTo>
                    <a:pt x="70" y="180"/>
                  </a:lnTo>
                  <a:lnTo>
                    <a:pt x="75" y="179"/>
                  </a:lnTo>
                  <a:lnTo>
                    <a:pt x="75" y="17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76640" y="5772240"/>
              <a:ext cx="55440" cy="57240"/>
            </a:xfrm>
            <a:custGeom>
              <a:avLst/>
              <a:gdLst/>
              <a:ahLst/>
              <a:rect l="l" t="t" r="r" b="b"/>
              <a:pathLst>
                <a:path w="175" h="181">
                  <a:moveTo>
                    <a:pt x="175" y="76"/>
                  </a:moveTo>
                  <a:lnTo>
                    <a:pt x="175" y="73"/>
                  </a:lnTo>
                  <a:lnTo>
                    <a:pt x="155" y="36"/>
                  </a:lnTo>
                  <a:lnTo>
                    <a:pt x="124" y="12"/>
                  </a:lnTo>
                  <a:lnTo>
                    <a:pt x="95" y="2"/>
                  </a:lnTo>
                  <a:lnTo>
                    <a:pt x="76" y="0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60" y="181"/>
                  </a:lnTo>
                  <a:lnTo>
                    <a:pt x="69" y="181"/>
                  </a:lnTo>
                  <a:lnTo>
                    <a:pt x="75" y="180"/>
                  </a:lnTo>
                  <a:lnTo>
                    <a:pt x="77" y="180"/>
                  </a:lnTo>
                  <a:lnTo>
                    <a:pt x="74" y="180"/>
                  </a:lnTo>
                  <a:lnTo>
                    <a:pt x="63" y="179"/>
                  </a:lnTo>
                  <a:lnTo>
                    <a:pt x="42" y="171"/>
                  </a:lnTo>
                  <a:lnTo>
                    <a:pt x="17" y="150"/>
                  </a:lnTo>
                  <a:lnTo>
                    <a:pt x="1" y="121"/>
                  </a:lnTo>
                  <a:lnTo>
                    <a:pt x="0" y="117"/>
                  </a:lnTo>
                  <a:lnTo>
                    <a:pt x="175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57560" y="5786280"/>
              <a:ext cx="76320" cy="59040"/>
            </a:xfrm>
            <a:custGeom>
              <a:avLst/>
              <a:gdLst/>
              <a:ahLst/>
              <a:rect l="l" t="t" r="r" b="b"/>
              <a:pathLst>
                <a:path w="239" h="183">
                  <a:moveTo>
                    <a:pt x="178" y="106"/>
                  </a:moveTo>
                  <a:lnTo>
                    <a:pt x="113" y="183"/>
                  </a:lnTo>
                  <a:lnTo>
                    <a:pt x="128" y="178"/>
                  </a:lnTo>
                  <a:lnTo>
                    <a:pt x="144" y="174"/>
                  </a:lnTo>
                  <a:lnTo>
                    <a:pt x="161" y="168"/>
                  </a:lnTo>
                  <a:lnTo>
                    <a:pt x="178" y="161"/>
                  </a:lnTo>
                  <a:lnTo>
                    <a:pt x="196" y="149"/>
                  </a:lnTo>
                  <a:lnTo>
                    <a:pt x="210" y="137"/>
                  </a:lnTo>
                  <a:lnTo>
                    <a:pt x="224" y="120"/>
                  </a:lnTo>
                  <a:lnTo>
                    <a:pt x="234" y="98"/>
                  </a:lnTo>
                  <a:lnTo>
                    <a:pt x="238" y="79"/>
                  </a:lnTo>
                  <a:lnTo>
                    <a:pt x="239" y="60"/>
                  </a:lnTo>
                  <a:lnTo>
                    <a:pt x="237" y="46"/>
                  </a:lnTo>
                  <a:lnTo>
                    <a:pt x="235" y="32"/>
                  </a:lnTo>
                  <a:lnTo>
                    <a:pt x="60" y="73"/>
                  </a:lnTo>
                  <a:lnTo>
                    <a:pt x="60" y="69"/>
                  </a:lnTo>
                  <a:lnTo>
                    <a:pt x="59" y="64"/>
                  </a:lnTo>
                  <a:lnTo>
                    <a:pt x="60" y="54"/>
                  </a:lnTo>
                  <a:lnTo>
                    <a:pt x="62" y="41"/>
                  </a:lnTo>
                  <a:lnTo>
                    <a:pt x="69" y="27"/>
                  </a:lnTo>
                  <a:lnTo>
                    <a:pt x="78" y="15"/>
                  </a:lnTo>
                  <a:lnTo>
                    <a:pt x="87" y="6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94" y="1"/>
                  </a:lnTo>
                  <a:lnTo>
                    <a:pt x="82" y="4"/>
                  </a:lnTo>
                  <a:lnTo>
                    <a:pt x="66" y="9"/>
                  </a:lnTo>
                  <a:lnTo>
                    <a:pt x="0" y="85"/>
                  </a:lnTo>
                  <a:lnTo>
                    <a:pt x="66" y="9"/>
                  </a:lnTo>
                  <a:lnTo>
                    <a:pt x="7" y="25"/>
                  </a:lnTo>
                  <a:lnTo>
                    <a:pt x="0" y="85"/>
                  </a:lnTo>
                  <a:lnTo>
                    <a:pt x="178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56120" y="5813280"/>
              <a:ext cx="56880" cy="11160"/>
            </a:xfrm>
            <a:custGeom>
              <a:avLst/>
              <a:gdLst/>
              <a:ahLst/>
              <a:rect l="l" t="t" r="r" b="b"/>
              <a:pathLst>
                <a:path w="181" h="35">
                  <a:moveTo>
                    <a:pt x="3" y="35"/>
                  </a:moveTo>
                  <a:lnTo>
                    <a:pt x="180" y="28"/>
                  </a:lnTo>
                  <a:lnTo>
                    <a:pt x="181" y="21"/>
                  </a:lnTo>
                  <a:lnTo>
                    <a:pt x="3" y="0"/>
                  </a:lnTo>
                  <a:lnTo>
                    <a:pt x="2" y="8"/>
                  </a:lnTo>
                  <a:lnTo>
                    <a:pt x="3" y="35"/>
                  </a:lnTo>
                  <a:lnTo>
                    <a:pt x="2" y="8"/>
                  </a:lnTo>
                  <a:lnTo>
                    <a:pt x="0" y="21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57560" y="5813280"/>
              <a:ext cx="58680" cy="30240"/>
            </a:xfrm>
            <a:custGeom>
              <a:avLst/>
              <a:gdLst/>
              <a:ahLst/>
              <a:rect l="l" t="t" r="r" b="b"/>
              <a:pathLst>
                <a:path w="185" h="93">
                  <a:moveTo>
                    <a:pt x="185" y="93"/>
                  </a:moveTo>
                  <a:lnTo>
                    <a:pt x="185" y="93"/>
                  </a:lnTo>
                  <a:lnTo>
                    <a:pt x="185" y="81"/>
                  </a:lnTo>
                  <a:lnTo>
                    <a:pt x="185" y="71"/>
                  </a:lnTo>
                  <a:lnTo>
                    <a:pt x="184" y="59"/>
                  </a:lnTo>
                  <a:lnTo>
                    <a:pt x="183" y="47"/>
                  </a:lnTo>
                  <a:lnTo>
                    <a:pt x="182" y="35"/>
                  </a:lnTo>
                  <a:lnTo>
                    <a:pt x="180" y="24"/>
                  </a:lnTo>
                  <a:lnTo>
                    <a:pt x="178" y="12"/>
                  </a:lnTo>
                  <a:lnTo>
                    <a:pt x="176" y="0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2" y="48"/>
                  </a:lnTo>
                  <a:lnTo>
                    <a:pt x="4" y="55"/>
                  </a:lnTo>
                  <a:lnTo>
                    <a:pt x="4" y="62"/>
                  </a:lnTo>
                  <a:lnTo>
                    <a:pt x="5" y="70"/>
                  </a:lnTo>
                  <a:lnTo>
                    <a:pt x="5" y="77"/>
                  </a:lnTo>
                  <a:lnTo>
                    <a:pt x="5" y="86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185" y="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44960" y="5843520"/>
              <a:ext cx="71280" cy="82440"/>
            </a:xfrm>
            <a:custGeom>
              <a:avLst/>
              <a:gdLst/>
              <a:ahLst/>
              <a:rect l="l" t="t" r="r" b="b"/>
              <a:pathLst>
                <a:path w="224" h="261">
                  <a:moveTo>
                    <a:pt x="155" y="261"/>
                  </a:moveTo>
                  <a:lnTo>
                    <a:pt x="157" y="256"/>
                  </a:lnTo>
                  <a:lnTo>
                    <a:pt x="172" y="227"/>
                  </a:lnTo>
                  <a:lnTo>
                    <a:pt x="185" y="198"/>
                  </a:lnTo>
                  <a:lnTo>
                    <a:pt x="196" y="167"/>
                  </a:lnTo>
                  <a:lnTo>
                    <a:pt x="206" y="134"/>
                  </a:lnTo>
                  <a:lnTo>
                    <a:pt x="214" y="102"/>
                  </a:lnTo>
                  <a:lnTo>
                    <a:pt x="219" y="68"/>
                  </a:lnTo>
                  <a:lnTo>
                    <a:pt x="223" y="35"/>
                  </a:lnTo>
                  <a:lnTo>
                    <a:pt x="224" y="0"/>
                  </a:lnTo>
                  <a:lnTo>
                    <a:pt x="44" y="0"/>
                  </a:lnTo>
                  <a:lnTo>
                    <a:pt x="44" y="23"/>
                  </a:lnTo>
                  <a:lnTo>
                    <a:pt x="41" y="46"/>
                  </a:lnTo>
                  <a:lnTo>
                    <a:pt x="37" y="67"/>
                  </a:lnTo>
                  <a:lnTo>
                    <a:pt x="33" y="89"/>
                  </a:lnTo>
                  <a:lnTo>
                    <a:pt x="26" y="109"/>
                  </a:lnTo>
                  <a:lnTo>
                    <a:pt x="19" y="130"/>
                  </a:lnTo>
                  <a:lnTo>
                    <a:pt x="10" y="150"/>
                  </a:lnTo>
                  <a:lnTo>
                    <a:pt x="0" y="169"/>
                  </a:lnTo>
                  <a:lnTo>
                    <a:pt x="3" y="164"/>
                  </a:lnTo>
                  <a:lnTo>
                    <a:pt x="155" y="261"/>
                  </a:lnTo>
                  <a:lnTo>
                    <a:pt x="156" y="258"/>
                  </a:lnTo>
                  <a:lnTo>
                    <a:pt x="157" y="256"/>
                  </a:lnTo>
                  <a:lnTo>
                    <a:pt x="155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24080" y="5896080"/>
              <a:ext cx="69840" cy="46080"/>
            </a:xfrm>
            <a:custGeom>
              <a:avLst/>
              <a:gdLst/>
              <a:ahLst/>
              <a:rect l="l" t="t" r="r" b="b"/>
              <a:pathLst>
                <a:path w="221" h="145">
                  <a:moveTo>
                    <a:pt x="112" y="145"/>
                  </a:moveTo>
                  <a:lnTo>
                    <a:pt x="213" y="107"/>
                  </a:lnTo>
                  <a:lnTo>
                    <a:pt x="221" y="97"/>
                  </a:lnTo>
                  <a:lnTo>
                    <a:pt x="69" y="0"/>
                  </a:lnTo>
                  <a:lnTo>
                    <a:pt x="62" y="11"/>
                  </a:lnTo>
                  <a:lnTo>
                    <a:pt x="112" y="145"/>
                  </a:lnTo>
                  <a:lnTo>
                    <a:pt x="62" y="11"/>
                  </a:lnTo>
                  <a:lnTo>
                    <a:pt x="0" y="111"/>
                  </a:lnTo>
                  <a:lnTo>
                    <a:pt x="112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57560" y="5886360"/>
              <a:ext cx="34920" cy="58680"/>
            </a:xfrm>
            <a:custGeom>
              <a:avLst/>
              <a:gdLst/>
              <a:ahLst/>
              <a:rect l="l" t="t" r="r" b="b"/>
              <a:pathLst>
                <a:path w="112" h="184">
                  <a:moveTo>
                    <a:pt x="112" y="27"/>
                  </a:moveTo>
                  <a:lnTo>
                    <a:pt x="112" y="27"/>
                  </a:lnTo>
                  <a:lnTo>
                    <a:pt x="109" y="26"/>
                  </a:lnTo>
                  <a:lnTo>
                    <a:pt x="107" y="25"/>
                  </a:lnTo>
                  <a:lnTo>
                    <a:pt x="104" y="23"/>
                  </a:lnTo>
                  <a:lnTo>
                    <a:pt x="99" y="19"/>
                  </a:lnTo>
                  <a:lnTo>
                    <a:pt x="91" y="14"/>
                  </a:lnTo>
                  <a:lnTo>
                    <a:pt x="82" y="10"/>
                  </a:lnTo>
                  <a:lnTo>
                    <a:pt x="72" y="5"/>
                  </a:lnTo>
                  <a:lnTo>
                    <a:pt x="59" y="0"/>
                  </a:lnTo>
                  <a:lnTo>
                    <a:pt x="7" y="172"/>
                  </a:lnTo>
                  <a:lnTo>
                    <a:pt x="2" y="171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4" y="172"/>
                  </a:lnTo>
                  <a:lnTo>
                    <a:pt x="8" y="175"/>
                  </a:lnTo>
                  <a:lnTo>
                    <a:pt x="14" y="180"/>
                  </a:lnTo>
                  <a:lnTo>
                    <a:pt x="23" y="184"/>
                  </a:lnTo>
                  <a:lnTo>
                    <a:pt x="22" y="184"/>
                  </a:lnTo>
                  <a:lnTo>
                    <a:pt x="11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57560" y="5896080"/>
              <a:ext cx="55440" cy="48960"/>
            </a:xfrm>
            <a:custGeom>
              <a:avLst/>
              <a:gdLst/>
              <a:ahLst/>
              <a:rect l="l" t="t" r="r" b="b"/>
              <a:pathLst>
                <a:path w="179" h="158">
                  <a:moveTo>
                    <a:pt x="171" y="143"/>
                  </a:moveTo>
                  <a:lnTo>
                    <a:pt x="172" y="139"/>
                  </a:lnTo>
                  <a:lnTo>
                    <a:pt x="179" y="103"/>
                  </a:lnTo>
                  <a:lnTo>
                    <a:pt x="175" y="70"/>
                  </a:lnTo>
                  <a:lnTo>
                    <a:pt x="163" y="46"/>
                  </a:lnTo>
                  <a:lnTo>
                    <a:pt x="150" y="30"/>
                  </a:lnTo>
                  <a:lnTo>
                    <a:pt x="140" y="19"/>
                  </a:lnTo>
                  <a:lnTo>
                    <a:pt x="129" y="11"/>
                  </a:lnTo>
                  <a:lnTo>
                    <a:pt x="120" y="6"/>
                  </a:lnTo>
                  <a:lnTo>
                    <a:pt x="113" y="0"/>
                  </a:lnTo>
                  <a:lnTo>
                    <a:pt x="23" y="157"/>
                  </a:lnTo>
                  <a:lnTo>
                    <a:pt x="25" y="158"/>
                  </a:lnTo>
                  <a:lnTo>
                    <a:pt x="26" y="158"/>
                  </a:lnTo>
                  <a:lnTo>
                    <a:pt x="24" y="157"/>
                  </a:lnTo>
                  <a:lnTo>
                    <a:pt x="20" y="153"/>
                  </a:lnTo>
                  <a:lnTo>
                    <a:pt x="12" y="143"/>
                  </a:lnTo>
                  <a:lnTo>
                    <a:pt x="3" y="126"/>
                  </a:lnTo>
                  <a:lnTo>
                    <a:pt x="0" y="100"/>
                  </a:lnTo>
                  <a:lnTo>
                    <a:pt x="6" y="72"/>
                  </a:lnTo>
                  <a:lnTo>
                    <a:pt x="8" y="67"/>
                  </a:lnTo>
                  <a:lnTo>
                    <a:pt x="171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149640" y="5897520"/>
              <a:ext cx="61920" cy="65160"/>
            </a:xfrm>
            <a:custGeom>
              <a:avLst/>
              <a:gdLst/>
              <a:ahLst/>
              <a:rect l="l" t="t" r="r" b="b"/>
              <a:pathLst>
                <a:path w="193" h="204">
                  <a:moveTo>
                    <a:pt x="35" y="180"/>
                  </a:moveTo>
                  <a:lnTo>
                    <a:pt x="0" y="173"/>
                  </a:lnTo>
                  <a:lnTo>
                    <a:pt x="13" y="178"/>
                  </a:lnTo>
                  <a:lnTo>
                    <a:pt x="25" y="185"/>
                  </a:lnTo>
                  <a:lnTo>
                    <a:pt x="42" y="192"/>
                  </a:lnTo>
                  <a:lnTo>
                    <a:pt x="58" y="199"/>
                  </a:lnTo>
                  <a:lnTo>
                    <a:pt x="76" y="202"/>
                  </a:lnTo>
                  <a:lnTo>
                    <a:pt x="95" y="204"/>
                  </a:lnTo>
                  <a:lnTo>
                    <a:pt x="118" y="201"/>
                  </a:lnTo>
                  <a:lnTo>
                    <a:pt x="141" y="192"/>
                  </a:lnTo>
                  <a:lnTo>
                    <a:pt x="160" y="179"/>
                  </a:lnTo>
                  <a:lnTo>
                    <a:pt x="176" y="163"/>
                  </a:lnTo>
                  <a:lnTo>
                    <a:pt x="185" y="149"/>
                  </a:lnTo>
                  <a:lnTo>
                    <a:pt x="193" y="136"/>
                  </a:lnTo>
                  <a:lnTo>
                    <a:pt x="30" y="60"/>
                  </a:lnTo>
                  <a:lnTo>
                    <a:pt x="32" y="57"/>
                  </a:lnTo>
                  <a:lnTo>
                    <a:pt x="36" y="51"/>
                  </a:lnTo>
                  <a:lnTo>
                    <a:pt x="45" y="41"/>
                  </a:lnTo>
                  <a:lnTo>
                    <a:pt x="59" y="31"/>
                  </a:lnTo>
                  <a:lnTo>
                    <a:pt x="75" y="26"/>
                  </a:lnTo>
                  <a:lnTo>
                    <a:pt x="91" y="24"/>
                  </a:lnTo>
                  <a:lnTo>
                    <a:pt x="102" y="25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2" y="23"/>
                  </a:lnTo>
                  <a:lnTo>
                    <a:pt x="89" y="16"/>
                  </a:lnTo>
                  <a:lnTo>
                    <a:pt x="71" y="9"/>
                  </a:lnTo>
                  <a:lnTo>
                    <a:pt x="35" y="0"/>
                  </a:lnTo>
                  <a:lnTo>
                    <a:pt x="71" y="9"/>
                  </a:lnTo>
                  <a:lnTo>
                    <a:pt x="54" y="0"/>
                  </a:lnTo>
                  <a:lnTo>
                    <a:pt x="35" y="0"/>
                  </a:lnTo>
                  <a:lnTo>
                    <a:pt x="35" y="1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37040" y="5897520"/>
              <a:ext cx="23760" cy="5724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0" y="38"/>
                  </a:moveTo>
                  <a:lnTo>
                    <a:pt x="72" y="180"/>
                  </a:lnTo>
                  <a:lnTo>
                    <a:pt x="75" y="18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0" y="38"/>
                  </a:lnTo>
                  <a:lnTo>
                    <a:pt x="72" y="0"/>
                  </a:lnTo>
                  <a:lnTo>
                    <a:pt x="27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06800" y="5910120"/>
              <a:ext cx="75960" cy="76320"/>
            </a:xfrm>
            <a:custGeom>
              <a:avLst/>
              <a:gdLst/>
              <a:ahLst/>
              <a:rect l="l" t="t" r="r" b="b"/>
              <a:pathLst>
                <a:path w="239" h="241">
                  <a:moveTo>
                    <a:pt x="91" y="241"/>
                  </a:moveTo>
                  <a:lnTo>
                    <a:pt x="96" y="237"/>
                  </a:lnTo>
                  <a:lnTo>
                    <a:pt x="116" y="224"/>
                  </a:lnTo>
                  <a:lnTo>
                    <a:pt x="136" y="210"/>
                  </a:lnTo>
                  <a:lnTo>
                    <a:pt x="155" y="195"/>
                  </a:lnTo>
                  <a:lnTo>
                    <a:pt x="173" y="179"/>
                  </a:lnTo>
                  <a:lnTo>
                    <a:pt x="191" y="162"/>
                  </a:lnTo>
                  <a:lnTo>
                    <a:pt x="208" y="143"/>
                  </a:lnTo>
                  <a:lnTo>
                    <a:pt x="223" y="125"/>
                  </a:lnTo>
                  <a:lnTo>
                    <a:pt x="239" y="106"/>
                  </a:lnTo>
                  <a:lnTo>
                    <a:pt x="95" y="0"/>
                  </a:lnTo>
                  <a:lnTo>
                    <a:pt x="85" y="12"/>
                  </a:lnTo>
                  <a:lnTo>
                    <a:pt x="74" y="23"/>
                  </a:lnTo>
                  <a:lnTo>
                    <a:pt x="63" y="35"/>
                  </a:lnTo>
                  <a:lnTo>
                    <a:pt x="51" y="46"/>
                  </a:lnTo>
                  <a:lnTo>
                    <a:pt x="40" y="57"/>
                  </a:lnTo>
                  <a:lnTo>
                    <a:pt x="27" y="68"/>
                  </a:lnTo>
                  <a:lnTo>
                    <a:pt x="14" y="77"/>
                  </a:lnTo>
                  <a:lnTo>
                    <a:pt x="0" y="86"/>
                  </a:lnTo>
                  <a:lnTo>
                    <a:pt x="5" y="83"/>
                  </a:lnTo>
                  <a:lnTo>
                    <a:pt x="91" y="241"/>
                  </a:lnTo>
                  <a:lnTo>
                    <a:pt x="94" y="239"/>
                  </a:lnTo>
                  <a:lnTo>
                    <a:pt x="96" y="237"/>
                  </a:lnTo>
                  <a:lnTo>
                    <a:pt x="91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81240" y="5935680"/>
              <a:ext cx="54000" cy="52200"/>
            </a:xfrm>
            <a:custGeom>
              <a:avLst/>
              <a:gdLst/>
              <a:ahLst/>
              <a:rect l="l" t="t" r="r" b="b"/>
              <a:pathLst>
                <a:path w="172" h="164">
                  <a:moveTo>
                    <a:pt x="37" y="125"/>
                  </a:moveTo>
                  <a:lnTo>
                    <a:pt x="162" y="164"/>
                  </a:lnTo>
                  <a:lnTo>
                    <a:pt x="172" y="158"/>
                  </a:lnTo>
                  <a:lnTo>
                    <a:pt x="86" y="0"/>
                  </a:lnTo>
                  <a:lnTo>
                    <a:pt x="75" y="6"/>
                  </a:lnTo>
                  <a:lnTo>
                    <a:pt x="37" y="125"/>
                  </a:lnTo>
                  <a:lnTo>
                    <a:pt x="75" y="6"/>
                  </a:lnTo>
                  <a:lnTo>
                    <a:pt x="0" y="48"/>
                  </a:lnTo>
                  <a:lnTo>
                    <a:pt x="37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92400" y="5950080"/>
              <a:ext cx="57240" cy="37800"/>
            </a:xfrm>
            <a:custGeom>
              <a:avLst/>
              <a:gdLst/>
              <a:ahLst/>
              <a:rect l="l" t="t" r="r" b="b"/>
              <a:pathLst>
                <a:path w="176" h="120">
                  <a:moveTo>
                    <a:pt x="175" y="27"/>
                  </a:moveTo>
                  <a:lnTo>
                    <a:pt x="176" y="28"/>
                  </a:lnTo>
                  <a:lnTo>
                    <a:pt x="174" y="26"/>
                  </a:lnTo>
                  <a:lnTo>
                    <a:pt x="173" y="23"/>
                  </a:lnTo>
                  <a:lnTo>
                    <a:pt x="172" y="21"/>
                  </a:lnTo>
                  <a:lnTo>
                    <a:pt x="170" y="16"/>
                  </a:lnTo>
                  <a:lnTo>
                    <a:pt x="169" y="13"/>
                  </a:lnTo>
                  <a:lnTo>
                    <a:pt x="167" y="9"/>
                  </a:lnTo>
                  <a:lnTo>
                    <a:pt x="165" y="5"/>
                  </a:lnTo>
                  <a:lnTo>
                    <a:pt x="161" y="0"/>
                  </a:lnTo>
                  <a:lnTo>
                    <a:pt x="0" y="80"/>
                  </a:lnTo>
                  <a:lnTo>
                    <a:pt x="3" y="83"/>
                  </a:lnTo>
                  <a:lnTo>
                    <a:pt x="5" y="88"/>
                  </a:lnTo>
                  <a:lnTo>
                    <a:pt x="7" y="93"/>
                  </a:lnTo>
                  <a:lnTo>
                    <a:pt x="9" y="97"/>
                  </a:lnTo>
                  <a:lnTo>
                    <a:pt x="11" y="102"/>
                  </a:lnTo>
                  <a:lnTo>
                    <a:pt x="14" y="108"/>
                  </a:lnTo>
                  <a:lnTo>
                    <a:pt x="18" y="114"/>
                  </a:lnTo>
                  <a:lnTo>
                    <a:pt x="21" y="119"/>
                  </a:lnTo>
                  <a:lnTo>
                    <a:pt x="22" y="120"/>
                  </a:lnTo>
                  <a:lnTo>
                    <a:pt x="175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00320" y="5959440"/>
              <a:ext cx="57240" cy="46080"/>
            </a:xfrm>
            <a:custGeom>
              <a:avLst/>
              <a:gdLst/>
              <a:ahLst/>
              <a:rect l="l" t="t" r="r" b="b"/>
              <a:pathLst>
                <a:path w="181" h="148">
                  <a:moveTo>
                    <a:pt x="152" y="148"/>
                  </a:moveTo>
                  <a:lnTo>
                    <a:pt x="154" y="147"/>
                  </a:lnTo>
                  <a:lnTo>
                    <a:pt x="178" y="106"/>
                  </a:lnTo>
                  <a:lnTo>
                    <a:pt x="181" y="67"/>
                  </a:lnTo>
                  <a:lnTo>
                    <a:pt x="176" y="43"/>
                  </a:lnTo>
                  <a:lnTo>
                    <a:pt x="170" y="27"/>
                  </a:lnTo>
                  <a:lnTo>
                    <a:pt x="163" y="16"/>
                  </a:lnTo>
                  <a:lnTo>
                    <a:pt x="159" y="9"/>
                  </a:lnTo>
                  <a:lnTo>
                    <a:pt x="155" y="3"/>
                  </a:lnTo>
                  <a:lnTo>
                    <a:pt x="153" y="0"/>
                  </a:lnTo>
                  <a:lnTo>
                    <a:pt x="0" y="93"/>
                  </a:lnTo>
                  <a:lnTo>
                    <a:pt x="4" y="101"/>
                  </a:lnTo>
                  <a:lnTo>
                    <a:pt x="8" y="105"/>
                  </a:lnTo>
                  <a:lnTo>
                    <a:pt x="10" y="108"/>
                  </a:lnTo>
                  <a:lnTo>
                    <a:pt x="9" y="107"/>
                  </a:lnTo>
                  <a:lnTo>
                    <a:pt x="7" y="102"/>
                  </a:lnTo>
                  <a:lnTo>
                    <a:pt x="3" y="86"/>
                  </a:lnTo>
                  <a:lnTo>
                    <a:pt x="7" y="54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152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83040" y="5935680"/>
              <a:ext cx="64800" cy="81000"/>
            </a:xfrm>
            <a:custGeom>
              <a:avLst/>
              <a:gdLst/>
              <a:ahLst/>
              <a:rect l="l" t="t" r="r" b="b"/>
              <a:pathLst>
                <a:path w="205" h="257">
                  <a:moveTo>
                    <a:pt x="108" y="193"/>
                  </a:moveTo>
                  <a:lnTo>
                    <a:pt x="0" y="159"/>
                  </a:lnTo>
                  <a:lnTo>
                    <a:pt x="10" y="174"/>
                  </a:lnTo>
                  <a:lnTo>
                    <a:pt x="21" y="189"/>
                  </a:lnTo>
                  <a:lnTo>
                    <a:pt x="33" y="205"/>
                  </a:lnTo>
                  <a:lnTo>
                    <a:pt x="45" y="220"/>
                  </a:lnTo>
                  <a:lnTo>
                    <a:pt x="60" y="233"/>
                  </a:lnTo>
                  <a:lnTo>
                    <a:pt x="75" y="243"/>
                  </a:lnTo>
                  <a:lnTo>
                    <a:pt x="94" y="251"/>
                  </a:lnTo>
                  <a:lnTo>
                    <a:pt x="119" y="257"/>
                  </a:lnTo>
                  <a:lnTo>
                    <a:pt x="146" y="255"/>
                  </a:lnTo>
                  <a:lnTo>
                    <a:pt x="171" y="247"/>
                  </a:lnTo>
                  <a:lnTo>
                    <a:pt x="190" y="236"/>
                  </a:lnTo>
                  <a:lnTo>
                    <a:pt x="205" y="223"/>
                  </a:lnTo>
                  <a:lnTo>
                    <a:pt x="81" y="95"/>
                  </a:lnTo>
                  <a:lnTo>
                    <a:pt x="88" y="89"/>
                  </a:lnTo>
                  <a:lnTo>
                    <a:pt x="98" y="83"/>
                  </a:lnTo>
                  <a:lnTo>
                    <a:pt x="115" y="77"/>
                  </a:lnTo>
                  <a:lnTo>
                    <a:pt x="133" y="76"/>
                  </a:lnTo>
                  <a:lnTo>
                    <a:pt x="150" y="80"/>
                  </a:lnTo>
                  <a:lnTo>
                    <a:pt x="162" y="85"/>
                  </a:lnTo>
                  <a:lnTo>
                    <a:pt x="169" y="90"/>
                  </a:lnTo>
                  <a:lnTo>
                    <a:pt x="174" y="96"/>
                  </a:lnTo>
                  <a:lnTo>
                    <a:pt x="172" y="93"/>
                  </a:lnTo>
                  <a:lnTo>
                    <a:pt x="166" y="85"/>
                  </a:lnTo>
                  <a:lnTo>
                    <a:pt x="159" y="74"/>
                  </a:lnTo>
                  <a:lnTo>
                    <a:pt x="148" y="59"/>
                  </a:lnTo>
                  <a:lnTo>
                    <a:pt x="41" y="26"/>
                  </a:lnTo>
                  <a:lnTo>
                    <a:pt x="148" y="59"/>
                  </a:lnTo>
                  <a:lnTo>
                    <a:pt x="108" y="0"/>
                  </a:lnTo>
                  <a:lnTo>
                    <a:pt x="41" y="26"/>
                  </a:lnTo>
                  <a:lnTo>
                    <a:pt x="108" y="1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92400" y="5943600"/>
              <a:ext cx="25560" cy="54000"/>
            </a:xfrm>
            <a:custGeom>
              <a:avLst/>
              <a:gdLst/>
              <a:ahLst/>
              <a:rect l="l" t="t" r="r" b="b"/>
              <a:pathLst>
                <a:path w="79" h="170">
                  <a:moveTo>
                    <a:pt x="0" y="5"/>
                  </a:moveTo>
                  <a:lnTo>
                    <a:pt x="69" y="170"/>
                  </a:lnTo>
                  <a:lnTo>
                    <a:pt x="79" y="167"/>
                  </a:lnTo>
                  <a:lnTo>
                    <a:pt x="12" y="0"/>
                  </a:lnTo>
                  <a:lnTo>
                    <a:pt x="2" y="4"/>
                  </a:lnTo>
                  <a:lnTo>
                    <a:pt x="0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48120" y="5945040"/>
              <a:ext cx="66600" cy="65160"/>
            </a:xfrm>
            <a:custGeom>
              <a:avLst/>
              <a:gdLst/>
              <a:ahLst/>
              <a:rect l="l" t="t" r="r" b="b"/>
              <a:pathLst>
                <a:path w="211" h="208">
                  <a:moveTo>
                    <a:pt x="0" y="208"/>
                  </a:moveTo>
                  <a:lnTo>
                    <a:pt x="0" y="208"/>
                  </a:lnTo>
                  <a:lnTo>
                    <a:pt x="27" y="207"/>
                  </a:lnTo>
                  <a:lnTo>
                    <a:pt x="55" y="205"/>
                  </a:lnTo>
                  <a:lnTo>
                    <a:pt x="82" y="202"/>
                  </a:lnTo>
                  <a:lnTo>
                    <a:pt x="108" y="197"/>
                  </a:lnTo>
                  <a:lnTo>
                    <a:pt x="135" y="191"/>
                  </a:lnTo>
                  <a:lnTo>
                    <a:pt x="161" y="184"/>
                  </a:lnTo>
                  <a:lnTo>
                    <a:pt x="186" y="174"/>
                  </a:lnTo>
                  <a:lnTo>
                    <a:pt x="211" y="164"/>
                  </a:lnTo>
                  <a:lnTo>
                    <a:pt x="139" y="0"/>
                  </a:lnTo>
                  <a:lnTo>
                    <a:pt x="123" y="6"/>
                  </a:lnTo>
                  <a:lnTo>
                    <a:pt x="107" y="12"/>
                  </a:lnTo>
                  <a:lnTo>
                    <a:pt x="90" y="17"/>
                  </a:lnTo>
                  <a:lnTo>
                    <a:pt x="72" y="22"/>
                  </a:lnTo>
                  <a:lnTo>
                    <a:pt x="55" y="24"/>
                  </a:lnTo>
                  <a:lnTo>
                    <a:pt x="37" y="27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70360" y="5942160"/>
              <a:ext cx="77760" cy="68040"/>
            </a:xfrm>
            <a:custGeom>
              <a:avLst/>
              <a:gdLst/>
              <a:ahLst/>
              <a:rect l="l" t="t" r="r" b="b"/>
              <a:pathLst>
                <a:path w="245" h="218">
                  <a:moveTo>
                    <a:pt x="0" y="158"/>
                  </a:moveTo>
                  <a:lnTo>
                    <a:pt x="3" y="159"/>
                  </a:lnTo>
                  <a:lnTo>
                    <a:pt x="30" y="173"/>
                  </a:lnTo>
                  <a:lnTo>
                    <a:pt x="59" y="184"/>
                  </a:lnTo>
                  <a:lnTo>
                    <a:pt x="88" y="195"/>
                  </a:lnTo>
                  <a:lnTo>
                    <a:pt x="119" y="202"/>
                  </a:lnTo>
                  <a:lnTo>
                    <a:pt x="149" y="209"/>
                  </a:lnTo>
                  <a:lnTo>
                    <a:pt x="181" y="214"/>
                  </a:lnTo>
                  <a:lnTo>
                    <a:pt x="213" y="217"/>
                  </a:lnTo>
                  <a:lnTo>
                    <a:pt x="245" y="218"/>
                  </a:lnTo>
                  <a:lnTo>
                    <a:pt x="245" y="38"/>
                  </a:lnTo>
                  <a:lnTo>
                    <a:pt x="223" y="38"/>
                  </a:lnTo>
                  <a:lnTo>
                    <a:pt x="202" y="36"/>
                  </a:lnTo>
                  <a:lnTo>
                    <a:pt x="181" y="33"/>
                  </a:lnTo>
                  <a:lnTo>
                    <a:pt x="161" y="28"/>
                  </a:lnTo>
                  <a:lnTo>
                    <a:pt x="141" y="23"/>
                  </a:lnTo>
                  <a:lnTo>
                    <a:pt x="122" y="16"/>
                  </a:lnTo>
                  <a:lnTo>
                    <a:pt x="104" y="9"/>
                  </a:lnTo>
                  <a:lnTo>
                    <a:pt x="85" y="0"/>
                  </a:lnTo>
                  <a:lnTo>
                    <a:pt x="87" y="1"/>
                  </a:lnTo>
                  <a:lnTo>
                    <a:pt x="0" y="158"/>
                  </a:lnTo>
                  <a:lnTo>
                    <a:pt x="2" y="159"/>
                  </a:lnTo>
                  <a:lnTo>
                    <a:pt x="3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55960" y="5925960"/>
              <a:ext cx="42840" cy="65160"/>
            </a:xfrm>
            <a:custGeom>
              <a:avLst/>
              <a:gdLst/>
              <a:ahLst/>
              <a:rect l="l" t="t" r="r" b="b"/>
              <a:pathLst>
                <a:path w="133" h="209">
                  <a:moveTo>
                    <a:pt x="0" y="88"/>
                  </a:moveTo>
                  <a:lnTo>
                    <a:pt x="37" y="204"/>
                  </a:lnTo>
                  <a:lnTo>
                    <a:pt x="46" y="209"/>
                  </a:lnTo>
                  <a:lnTo>
                    <a:pt x="133" y="52"/>
                  </a:lnTo>
                  <a:lnTo>
                    <a:pt x="125" y="47"/>
                  </a:lnTo>
                  <a:lnTo>
                    <a:pt x="0" y="88"/>
                  </a:lnTo>
                  <a:lnTo>
                    <a:pt x="125" y="47"/>
                  </a:lnTo>
                  <a:lnTo>
                    <a:pt x="41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52720" y="5952960"/>
              <a:ext cx="55440" cy="39960"/>
            </a:xfrm>
            <a:custGeom>
              <a:avLst/>
              <a:gdLst/>
              <a:ahLst/>
              <a:rect l="l" t="t" r="r" b="b"/>
              <a:pathLst>
                <a:path w="174" h="122">
                  <a:moveTo>
                    <a:pt x="150" y="121"/>
                  </a:moveTo>
                  <a:lnTo>
                    <a:pt x="150" y="122"/>
                  </a:lnTo>
                  <a:lnTo>
                    <a:pt x="154" y="114"/>
                  </a:lnTo>
                  <a:lnTo>
                    <a:pt x="158" y="108"/>
                  </a:lnTo>
                  <a:lnTo>
                    <a:pt x="162" y="100"/>
                  </a:lnTo>
                  <a:lnTo>
                    <a:pt x="165" y="94"/>
                  </a:lnTo>
                  <a:lnTo>
                    <a:pt x="167" y="89"/>
                  </a:lnTo>
                  <a:lnTo>
                    <a:pt x="169" y="84"/>
                  </a:lnTo>
                  <a:lnTo>
                    <a:pt x="171" y="80"/>
                  </a:lnTo>
                  <a:lnTo>
                    <a:pt x="174" y="76"/>
                  </a:lnTo>
                  <a:lnTo>
                    <a:pt x="11" y="0"/>
                  </a:lnTo>
                  <a:lnTo>
                    <a:pt x="8" y="5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50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51280" y="5956200"/>
              <a:ext cx="48960" cy="57240"/>
            </a:xfrm>
            <a:custGeom>
              <a:avLst/>
              <a:gdLst/>
              <a:ahLst/>
              <a:rect l="l" t="t" r="r" b="b"/>
              <a:pathLst>
                <a:path w="155" h="179">
                  <a:moveTo>
                    <a:pt x="17" y="173"/>
                  </a:moveTo>
                  <a:lnTo>
                    <a:pt x="24" y="176"/>
                  </a:lnTo>
                  <a:lnTo>
                    <a:pt x="58" y="179"/>
                  </a:lnTo>
                  <a:lnTo>
                    <a:pt x="87" y="172"/>
                  </a:lnTo>
                  <a:lnTo>
                    <a:pt x="108" y="162"/>
                  </a:lnTo>
                  <a:lnTo>
                    <a:pt x="123" y="150"/>
                  </a:lnTo>
                  <a:lnTo>
                    <a:pt x="134" y="139"/>
                  </a:lnTo>
                  <a:lnTo>
                    <a:pt x="143" y="129"/>
                  </a:lnTo>
                  <a:lnTo>
                    <a:pt x="149" y="119"/>
                  </a:lnTo>
                  <a:lnTo>
                    <a:pt x="155" y="112"/>
                  </a:lnTo>
                  <a:lnTo>
                    <a:pt x="5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4" y="17"/>
                  </a:lnTo>
                  <a:lnTo>
                    <a:pt x="10" y="11"/>
                  </a:lnTo>
                  <a:lnTo>
                    <a:pt x="24" y="5"/>
                  </a:lnTo>
                  <a:lnTo>
                    <a:pt x="46" y="0"/>
                  </a:lnTo>
                  <a:lnTo>
                    <a:pt x="72" y="2"/>
                  </a:lnTo>
                  <a:lnTo>
                    <a:pt x="78" y="5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32200" y="5932440"/>
              <a:ext cx="77760" cy="79560"/>
            </a:xfrm>
            <a:custGeom>
              <a:avLst/>
              <a:gdLst/>
              <a:ahLst/>
              <a:rect l="l" t="t" r="r" b="b"/>
              <a:pathLst>
                <a:path w="243" h="246">
                  <a:moveTo>
                    <a:pt x="76" y="157"/>
                  </a:moveTo>
                  <a:lnTo>
                    <a:pt x="42" y="34"/>
                  </a:lnTo>
                  <a:lnTo>
                    <a:pt x="33" y="49"/>
                  </a:lnTo>
                  <a:lnTo>
                    <a:pt x="25" y="65"/>
                  </a:lnTo>
                  <a:lnTo>
                    <a:pt x="15" y="82"/>
                  </a:lnTo>
                  <a:lnTo>
                    <a:pt x="8" y="102"/>
                  </a:lnTo>
                  <a:lnTo>
                    <a:pt x="2" y="120"/>
                  </a:lnTo>
                  <a:lnTo>
                    <a:pt x="0" y="138"/>
                  </a:lnTo>
                  <a:lnTo>
                    <a:pt x="2" y="160"/>
                  </a:lnTo>
                  <a:lnTo>
                    <a:pt x="9" y="185"/>
                  </a:lnTo>
                  <a:lnTo>
                    <a:pt x="23" y="208"/>
                  </a:lnTo>
                  <a:lnTo>
                    <a:pt x="40" y="226"/>
                  </a:lnTo>
                  <a:lnTo>
                    <a:pt x="58" y="239"/>
                  </a:lnTo>
                  <a:lnTo>
                    <a:pt x="76" y="246"/>
                  </a:lnTo>
                  <a:lnTo>
                    <a:pt x="137" y="78"/>
                  </a:lnTo>
                  <a:lnTo>
                    <a:pt x="144" y="80"/>
                  </a:lnTo>
                  <a:lnTo>
                    <a:pt x="153" y="88"/>
                  </a:lnTo>
                  <a:lnTo>
                    <a:pt x="165" y="100"/>
                  </a:lnTo>
                  <a:lnTo>
                    <a:pt x="175" y="115"/>
                  </a:lnTo>
                  <a:lnTo>
                    <a:pt x="179" y="132"/>
                  </a:lnTo>
                  <a:lnTo>
                    <a:pt x="180" y="145"/>
                  </a:lnTo>
                  <a:lnTo>
                    <a:pt x="179" y="154"/>
                  </a:lnTo>
                  <a:lnTo>
                    <a:pt x="177" y="161"/>
                  </a:lnTo>
                  <a:lnTo>
                    <a:pt x="178" y="158"/>
                  </a:lnTo>
                  <a:lnTo>
                    <a:pt x="182" y="150"/>
                  </a:lnTo>
                  <a:lnTo>
                    <a:pt x="189" y="138"/>
                  </a:lnTo>
                  <a:lnTo>
                    <a:pt x="198" y="123"/>
                  </a:lnTo>
                  <a:lnTo>
                    <a:pt x="164" y="0"/>
                  </a:lnTo>
                  <a:lnTo>
                    <a:pt x="198" y="123"/>
                  </a:lnTo>
                  <a:lnTo>
                    <a:pt x="243" y="45"/>
                  </a:lnTo>
                  <a:lnTo>
                    <a:pt x="164" y="0"/>
                  </a:lnTo>
                  <a:lnTo>
                    <a:pt x="76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52720" y="5932440"/>
              <a:ext cx="31680" cy="5076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152"/>
                  </a:moveTo>
                  <a:lnTo>
                    <a:pt x="6" y="157"/>
                  </a:lnTo>
                  <a:lnTo>
                    <a:pt x="13" y="161"/>
                  </a:lnTo>
                  <a:lnTo>
                    <a:pt x="101" y="4"/>
                  </a:lnTo>
                  <a:lnTo>
                    <a:pt x="95" y="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3" y="154"/>
                  </a:lnTo>
                  <a:lnTo>
                    <a:pt x="6" y="157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84320" y="5862600"/>
              <a:ext cx="100080" cy="117360"/>
            </a:xfrm>
            <a:custGeom>
              <a:avLst/>
              <a:gdLst/>
              <a:ahLst/>
              <a:rect l="l" t="t" r="r" b="b"/>
              <a:pathLst>
                <a:path w="314" h="368">
                  <a:moveTo>
                    <a:pt x="3" y="60"/>
                  </a:moveTo>
                  <a:lnTo>
                    <a:pt x="0" y="49"/>
                  </a:lnTo>
                  <a:lnTo>
                    <a:pt x="5" y="73"/>
                  </a:lnTo>
                  <a:lnTo>
                    <a:pt x="13" y="97"/>
                  </a:lnTo>
                  <a:lnTo>
                    <a:pt x="21" y="121"/>
                  </a:lnTo>
                  <a:lnTo>
                    <a:pt x="30" y="144"/>
                  </a:lnTo>
                  <a:lnTo>
                    <a:pt x="40" y="166"/>
                  </a:lnTo>
                  <a:lnTo>
                    <a:pt x="51" y="188"/>
                  </a:lnTo>
                  <a:lnTo>
                    <a:pt x="63" y="209"/>
                  </a:lnTo>
                  <a:lnTo>
                    <a:pt x="77" y="230"/>
                  </a:lnTo>
                  <a:lnTo>
                    <a:pt x="90" y="249"/>
                  </a:lnTo>
                  <a:lnTo>
                    <a:pt x="105" y="269"/>
                  </a:lnTo>
                  <a:lnTo>
                    <a:pt x="121" y="288"/>
                  </a:lnTo>
                  <a:lnTo>
                    <a:pt x="137" y="306"/>
                  </a:lnTo>
                  <a:lnTo>
                    <a:pt x="154" y="323"/>
                  </a:lnTo>
                  <a:lnTo>
                    <a:pt x="173" y="339"/>
                  </a:lnTo>
                  <a:lnTo>
                    <a:pt x="191" y="354"/>
                  </a:lnTo>
                  <a:lnTo>
                    <a:pt x="212" y="368"/>
                  </a:lnTo>
                  <a:lnTo>
                    <a:pt x="314" y="221"/>
                  </a:lnTo>
                  <a:lnTo>
                    <a:pt x="301" y="212"/>
                  </a:lnTo>
                  <a:lnTo>
                    <a:pt x="288" y="202"/>
                  </a:lnTo>
                  <a:lnTo>
                    <a:pt x="276" y="191"/>
                  </a:lnTo>
                  <a:lnTo>
                    <a:pt x="266" y="180"/>
                  </a:lnTo>
                  <a:lnTo>
                    <a:pt x="255" y="168"/>
                  </a:lnTo>
                  <a:lnTo>
                    <a:pt x="245" y="157"/>
                  </a:lnTo>
                  <a:lnTo>
                    <a:pt x="234" y="144"/>
                  </a:lnTo>
                  <a:lnTo>
                    <a:pt x="226" y="131"/>
                  </a:lnTo>
                  <a:lnTo>
                    <a:pt x="217" y="117"/>
                  </a:lnTo>
                  <a:lnTo>
                    <a:pt x="209" y="104"/>
                  </a:lnTo>
                  <a:lnTo>
                    <a:pt x="202" y="88"/>
                  </a:lnTo>
                  <a:lnTo>
                    <a:pt x="194" y="73"/>
                  </a:lnTo>
                  <a:lnTo>
                    <a:pt x="189" y="59"/>
                  </a:lnTo>
                  <a:lnTo>
                    <a:pt x="184" y="43"/>
                  </a:lnTo>
                  <a:lnTo>
                    <a:pt x="179" y="28"/>
                  </a:lnTo>
                  <a:lnTo>
                    <a:pt x="175" y="12"/>
                  </a:lnTo>
                  <a:lnTo>
                    <a:pt x="172" y="0"/>
                  </a:lnTo>
                  <a:lnTo>
                    <a:pt x="175" y="12"/>
                  </a:lnTo>
                  <a:lnTo>
                    <a:pt x="174" y="5"/>
                  </a:lnTo>
                  <a:lnTo>
                    <a:pt x="172" y="0"/>
                  </a:lnTo>
                  <a:lnTo>
                    <a:pt x="3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84320" y="5834160"/>
              <a:ext cx="55800" cy="47520"/>
            </a:xfrm>
            <a:custGeom>
              <a:avLst/>
              <a:gdLst/>
              <a:ahLst/>
              <a:rect l="l" t="t" r="r" b="b"/>
              <a:pathLst>
                <a:path w="172" h="150">
                  <a:moveTo>
                    <a:pt x="59" y="23"/>
                  </a:moveTo>
                  <a:lnTo>
                    <a:pt x="0" y="140"/>
                  </a:lnTo>
                  <a:lnTo>
                    <a:pt x="3" y="150"/>
                  </a:lnTo>
                  <a:lnTo>
                    <a:pt x="172" y="90"/>
                  </a:lnTo>
                  <a:lnTo>
                    <a:pt x="168" y="79"/>
                  </a:lnTo>
                  <a:lnTo>
                    <a:pt x="59" y="23"/>
                  </a:lnTo>
                  <a:lnTo>
                    <a:pt x="168" y="79"/>
                  </a:lnTo>
                  <a:lnTo>
                    <a:pt x="139" y="0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97280" y="5842080"/>
              <a:ext cx="21960" cy="58680"/>
            </a:xfrm>
            <a:custGeom>
              <a:avLst/>
              <a:gdLst/>
              <a:ahLst/>
              <a:rect l="l" t="t" r="r" b="b"/>
              <a:pathLst>
                <a:path w="70" h="185">
                  <a:moveTo>
                    <a:pt x="18" y="185"/>
                  </a:moveTo>
                  <a:lnTo>
                    <a:pt x="26" y="184"/>
                  </a:lnTo>
                  <a:lnTo>
                    <a:pt x="32" y="182"/>
                  </a:lnTo>
                  <a:lnTo>
                    <a:pt x="39" y="181"/>
                  </a:lnTo>
                  <a:lnTo>
                    <a:pt x="45" y="180"/>
                  </a:lnTo>
                  <a:lnTo>
                    <a:pt x="51" y="178"/>
                  </a:lnTo>
                  <a:lnTo>
                    <a:pt x="56" y="177"/>
                  </a:lnTo>
                  <a:lnTo>
                    <a:pt x="61" y="176"/>
                  </a:lnTo>
                  <a:lnTo>
                    <a:pt x="67" y="174"/>
                  </a:lnTo>
                  <a:lnTo>
                    <a:pt x="70" y="173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0" y="5"/>
                  </a:lnTo>
                  <a:lnTo>
                    <a:pt x="7" y="4"/>
                  </a:lnTo>
                  <a:lnTo>
                    <a:pt x="18" y="1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60560" y="5843520"/>
              <a:ext cx="54000" cy="57240"/>
            </a:xfrm>
            <a:custGeom>
              <a:avLst/>
              <a:gdLst/>
              <a:ahLst/>
              <a:rect l="l" t="t" r="r" b="b"/>
              <a:pathLst>
                <a:path w="167" h="182">
                  <a:moveTo>
                    <a:pt x="0" y="115"/>
                  </a:moveTo>
                  <a:lnTo>
                    <a:pt x="1" y="121"/>
                  </a:lnTo>
                  <a:lnTo>
                    <a:pt x="27" y="155"/>
                  </a:lnTo>
                  <a:lnTo>
                    <a:pt x="55" y="172"/>
                  </a:lnTo>
                  <a:lnTo>
                    <a:pt x="77" y="180"/>
                  </a:lnTo>
                  <a:lnTo>
                    <a:pt x="95" y="182"/>
                  </a:lnTo>
                  <a:lnTo>
                    <a:pt x="107" y="182"/>
                  </a:lnTo>
                  <a:lnTo>
                    <a:pt x="117" y="181"/>
                  </a:lnTo>
                  <a:lnTo>
                    <a:pt x="125" y="181"/>
                  </a:lnTo>
                  <a:lnTo>
                    <a:pt x="130" y="181"/>
                  </a:lnTo>
                  <a:lnTo>
                    <a:pt x="119" y="0"/>
                  </a:lnTo>
                  <a:lnTo>
                    <a:pt x="113" y="1"/>
                  </a:lnTo>
                  <a:lnTo>
                    <a:pt x="107" y="1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11" y="2"/>
                  </a:lnTo>
                  <a:lnTo>
                    <a:pt x="124" y="6"/>
                  </a:lnTo>
                  <a:lnTo>
                    <a:pt x="145" y="20"/>
                  </a:lnTo>
                  <a:lnTo>
                    <a:pt x="165" y="47"/>
                  </a:lnTo>
                  <a:lnTo>
                    <a:pt x="167" y="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59120" y="5827680"/>
              <a:ext cx="93600" cy="58680"/>
            </a:xfrm>
            <a:custGeom>
              <a:avLst/>
              <a:gdLst/>
              <a:ahLst/>
              <a:rect l="l" t="t" r="r" b="b"/>
              <a:pathLst>
                <a:path w="298" h="184">
                  <a:moveTo>
                    <a:pt x="84" y="128"/>
                  </a:moveTo>
                  <a:lnTo>
                    <a:pt x="149" y="0"/>
                  </a:lnTo>
                  <a:lnTo>
                    <a:pt x="132" y="2"/>
                  </a:lnTo>
                  <a:lnTo>
                    <a:pt x="113" y="5"/>
                  </a:lnTo>
                  <a:lnTo>
                    <a:pt x="94" y="11"/>
                  </a:lnTo>
                  <a:lnTo>
                    <a:pt x="74" y="17"/>
                  </a:lnTo>
                  <a:lnTo>
                    <a:pt x="58" y="25"/>
                  </a:lnTo>
                  <a:lnTo>
                    <a:pt x="43" y="34"/>
                  </a:lnTo>
                  <a:lnTo>
                    <a:pt x="27" y="49"/>
                  </a:lnTo>
                  <a:lnTo>
                    <a:pt x="13" y="70"/>
                  </a:lnTo>
                  <a:lnTo>
                    <a:pt x="3" y="95"/>
                  </a:lnTo>
                  <a:lnTo>
                    <a:pt x="0" y="121"/>
                  </a:lnTo>
                  <a:lnTo>
                    <a:pt x="2" y="143"/>
                  </a:lnTo>
                  <a:lnTo>
                    <a:pt x="9" y="162"/>
                  </a:lnTo>
                  <a:lnTo>
                    <a:pt x="176" y="99"/>
                  </a:lnTo>
                  <a:lnTo>
                    <a:pt x="178" y="107"/>
                  </a:lnTo>
                  <a:lnTo>
                    <a:pt x="179" y="120"/>
                  </a:lnTo>
                  <a:lnTo>
                    <a:pt x="178" y="137"/>
                  </a:lnTo>
                  <a:lnTo>
                    <a:pt x="172" y="154"/>
                  </a:lnTo>
                  <a:lnTo>
                    <a:pt x="162" y="168"/>
                  </a:lnTo>
                  <a:lnTo>
                    <a:pt x="151" y="177"/>
                  </a:lnTo>
                  <a:lnTo>
                    <a:pt x="145" y="182"/>
                  </a:lnTo>
                  <a:lnTo>
                    <a:pt x="138" y="184"/>
                  </a:lnTo>
                  <a:lnTo>
                    <a:pt x="141" y="183"/>
                  </a:lnTo>
                  <a:lnTo>
                    <a:pt x="150" y="182"/>
                  </a:lnTo>
                  <a:lnTo>
                    <a:pt x="163" y="179"/>
                  </a:lnTo>
                  <a:lnTo>
                    <a:pt x="181" y="176"/>
                  </a:lnTo>
                  <a:lnTo>
                    <a:pt x="245" y="47"/>
                  </a:lnTo>
                  <a:lnTo>
                    <a:pt x="181" y="176"/>
                  </a:lnTo>
                  <a:lnTo>
                    <a:pt x="298" y="154"/>
                  </a:lnTo>
                  <a:lnTo>
                    <a:pt x="245" y="47"/>
                  </a:lnTo>
                  <a:lnTo>
                    <a:pt x="84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81440" y="5842080"/>
              <a:ext cx="55440" cy="27000"/>
            </a:xfrm>
            <a:custGeom>
              <a:avLst/>
              <a:gdLst/>
              <a:ahLst/>
              <a:rect l="l" t="t" r="r" b="b"/>
              <a:pathLst>
                <a:path w="173" h="86">
                  <a:moveTo>
                    <a:pt x="0" y="47"/>
                  </a:moveTo>
                  <a:lnTo>
                    <a:pt x="10" y="80"/>
                  </a:lnTo>
                  <a:lnTo>
                    <a:pt x="12" y="86"/>
                  </a:lnTo>
                  <a:lnTo>
                    <a:pt x="173" y="5"/>
                  </a:lnTo>
                  <a:lnTo>
                    <a:pt x="17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" y="65"/>
                  </a:lnTo>
                  <a:lnTo>
                    <a:pt x="10" y="8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81440" y="5843520"/>
              <a:ext cx="56880" cy="12600"/>
            </a:xfrm>
            <a:custGeom>
              <a:avLst/>
              <a:gdLst/>
              <a:ahLst/>
              <a:rect l="l" t="t" r="r" b="b"/>
              <a:pathLst>
                <a:path w="180" h="4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180" y="27"/>
                  </a:lnTo>
                  <a:lnTo>
                    <a:pt x="180" y="24"/>
                  </a:lnTo>
                  <a:lnTo>
                    <a:pt x="180" y="22"/>
                  </a:lnTo>
                  <a:lnTo>
                    <a:pt x="180" y="20"/>
                  </a:lnTo>
                  <a:lnTo>
                    <a:pt x="179" y="15"/>
                  </a:lnTo>
                  <a:lnTo>
                    <a:pt x="179" y="12"/>
                  </a:lnTo>
                  <a:lnTo>
                    <a:pt x="179" y="9"/>
                  </a:lnTo>
                  <a:lnTo>
                    <a:pt x="179" y="5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81440" y="5734080"/>
              <a:ext cx="91800" cy="109440"/>
            </a:xfrm>
            <a:custGeom>
              <a:avLst/>
              <a:gdLst/>
              <a:ahLst/>
              <a:rect l="l" t="t" r="r" b="b"/>
              <a:pathLst>
                <a:path w="289" h="344">
                  <a:moveTo>
                    <a:pt x="107" y="69"/>
                  </a:moveTo>
                  <a:lnTo>
                    <a:pt x="128" y="0"/>
                  </a:lnTo>
                  <a:lnTo>
                    <a:pt x="114" y="17"/>
                  </a:lnTo>
                  <a:lnTo>
                    <a:pt x="99" y="35"/>
                  </a:lnTo>
                  <a:lnTo>
                    <a:pt x="87" y="55"/>
                  </a:lnTo>
                  <a:lnTo>
                    <a:pt x="74" y="74"/>
                  </a:lnTo>
                  <a:lnTo>
                    <a:pt x="63" y="94"/>
                  </a:lnTo>
                  <a:lnTo>
                    <a:pt x="52" y="115"/>
                  </a:lnTo>
                  <a:lnTo>
                    <a:pt x="42" y="136"/>
                  </a:lnTo>
                  <a:lnTo>
                    <a:pt x="34" y="157"/>
                  </a:lnTo>
                  <a:lnTo>
                    <a:pt x="26" y="180"/>
                  </a:lnTo>
                  <a:lnTo>
                    <a:pt x="20" y="202"/>
                  </a:lnTo>
                  <a:lnTo>
                    <a:pt x="14" y="225"/>
                  </a:lnTo>
                  <a:lnTo>
                    <a:pt x="9" y="248"/>
                  </a:lnTo>
                  <a:lnTo>
                    <a:pt x="6" y="272"/>
                  </a:lnTo>
                  <a:lnTo>
                    <a:pt x="2" y="296"/>
                  </a:lnTo>
                  <a:lnTo>
                    <a:pt x="1" y="319"/>
                  </a:lnTo>
                  <a:lnTo>
                    <a:pt x="0" y="344"/>
                  </a:lnTo>
                  <a:lnTo>
                    <a:pt x="179" y="344"/>
                  </a:lnTo>
                  <a:lnTo>
                    <a:pt x="179" y="328"/>
                  </a:lnTo>
                  <a:lnTo>
                    <a:pt x="180" y="312"/>
                  </a:lnTo>
                  <a:lnTo>
                    <a:pt x="183" y="296"/>
                  </a:lnTo>
                  <a:lnTo>
                    <a:pt x="185" y="281"/>
                  </a:lnTo>
                  <a:lnTo>
                    <a:pt x="188" y="265"/>
                  </a:lnTo>
                  <a:lnTo>
                    <a:pt x="192" y="250"/>
                  </a:lnTo>
                  <a:lnTo>
                    <a:pt x="197" y="235"/>
                  </a:lnTo>
                  <a:lnTo>
                    <a:pt x="202" y="221"/>
                  </a:lnTo>
                  <a:lnTo>
                    <a:pt x="207" y="206"/>
                  </a:lnTo>
                  <a:lnTo>
                    <a:pt x="214" y="193"/>
                  </a:lnTo>
                  <a:lnTo>
                    <a:pt x="220" y="179"/>
                  </a:lnTo>
                  <a:lnTo>
                    <a:pt x="229" y="166"/>
                  </a:lnTo>
                  <a:lnTo>
                    <a:pt x="237" y="153"/>
                  </a:lnTo>
                  <a:lnTo>
                    <a:pt x="245" y="140"/>
                  </a:lnTo>
                  <a:lnTo>
                    <a:pt x="254" y="128"/>
                  </a:lnTo>
                  <a:lnTo>
                    <a:pt x="264" y="117"/>
                  </a:lnTo>
                  <a:lnTo>
                    <a:pt x="285" y="47"/>
                  </a:lnTo>
                  <a:lnTo>
                    <a:pt x="264" y="117"/>
                  </a:lnTo>
                  <a:lnTo>
                    <a:pt x="289" y="87"/>
                  </a:lnTo>
                  <a:lnTo>
                    <a:pt x="285" y="47"/>
                  </a:lnTo>
                  <a:lnTo>
                    <a:pt x="107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14560" y="5727600"/>
              <a:ext cx="57240" cy="28800"/>
            </a:xfrm>
            <a:custGeom>
              <a:avLst/>
              <a:gdLst/>
              <a:ahLst/>
              <a:rect l="l" t="t" r="r" b="b"/>
              <a:pathLst>
                <a:path w="179" h="91">
                  <a:moveTo>
                    <a:pt x="141" y="0"/>
                  </a:moveTo>
                  <a:lnTo>
                    <a:pt x="0" y="83"/>
                  </a:lnTo>
                  <a:lnTo>
                    <a:pt x="1" y="91"/>
                  </a:lnTo>
                  <a:lnTo>
                    <a:pt x="179" y="69"/>
                  </a:lnTo>
                  <a:lnTo>
                    <a:pt x="178" y="62"/>
                  </a:lnTo>
                  <a:lnTo>
                    <a:pt x="141" y="0"/>
                  </a:lnTo>
                  <a:lnTo>
                    <a:pt x="178" y="62"/>
                  </a:lnTo>
                  <a:lnTo>
                    <a:pt x="174" y="23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13120" y="5722920"/>
              <a:ext cx="46080" cy="50760"/>
            </a:xfrm>
            <a:custGeom>
              <a:avLst/>
              <a:gdLst/>
              <a:ahLst/>
              <a:rect l="l" t="t" r="r" b="b"/>
              <a:pathLst>
                <a:path w="146" h="158">
                  <a:moveTo>
                    <a:pt x="1" y="121"/>
                  </a:moveTo>
                  <a:lnTo>
                    <a:pt x="0" y="120"/>
                  </a:lnTo>
                  <a:lnTo>
                    <a:pt x="4" y="124"/>
                  </a:lnTo>
                  <a:lnTo>
                    <a:pt x="8" y="130"/>
                  </a:lnTo>
                  <a:lnTo>
                    <a:pt x="13" y="134"/>
                  </a:lnTo>
                  <a:lnTo>
                    <a:pt x="18" y="138"/>
                  </a:lnTo>
                  <a:lnTo>
                    <a:pt x="22" y="144"/>
                  </a:lnTo>
                  <a:lnTo>
                    <a:pt x="29" y="149"/>
                  </a:lnTo>
                  <a:lnTo>
                    <a:pt x="35" y="154"/>
                  </a:lnTo>
                  <a:lnTo>
                    <a:pt x="42" y="158"/>
                  </a:lnTo>
                  <a:lnTo>
                    <a:pt x="146" y="13"/>
                  </a:lnTo>
                  <a:lnTo>
                    <a:pt x="144" y="11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9"/>
                  </a:lnTo>
                  <a:lnTo>
                    <a:pt x="140" y="7"/>
                  </a:lnTo>
                  <a:lnTo>
                    <a:pt x="138" y="5"/>
                  </a:lnTo>
                  <a:lnTo>
                    <a:pt x="137" y="3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98720" y="5716440"/>
              <a:ext cx="57240" cy="446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13" y="0"/>
                  </a:moveTo>
                  <a:lnTo>
                    <a:pt x="11" y="4"/>
                  </a:lnTo>
                  <a:lnTo>
                    <a:pt x="0" y="48"/>
                  </a:lnTo>
                  <a:lnTo>
                    <a:pt x="7" y="84"/>
                  </a:lnTo>
                  <a:lnTo>
                    <a:pt x="18" y="105"/>
                  </a:lnTo>
                  <a:lnTo>
                    <a:pt x="27" y="119"/>
                  </a:lnTo>
                  <a:lnTo>
                    <a:pt x="36" y="127"/>
                  </a:lnTo>
                  <a:lnTo>
                    <a:pt x="41" y="133"/>
                  </a:lnTo>
                  <a:lnTo>
                    <a:pt x="45" y="137"/>
                  </a:lnTo>
                  <a:lnTo>
                    <a:pt x="48" y="139"/>
                  </a:lnTo>
                  <a:lnTo>
                    <a:pt x="180" y="18"/>
                  </a:lnTo>
                  <a:lnTo>
                    <a:pt x="174" y="11"/>
                  </a:lnTo>
                  <a:lnTo>
                    <a:pt x="170" y="6"/>
                  </a:lnTo>
                  <a:lnTo>
                    <a:pt x="166" y="4"/>
                  </a:lnTo>
                  <a:lnTo>
                    <a:pt x="166" y="4"/>
                  </a:lnTo>
                  <a:lnTo>
                    <a:pt x="169" y="8"/>
                  </a:lnTo>
                  <a:lnTo>
                    <a:pt x="175" y="20"/>
                  </a:lnTo>
                  <a:lnTo>
                    <a:pt x="180" y="47"/>
                  </a:lnTo>
                  <a:lnTo>
                    <a:pt x="172" y="85"/>
                  </a:lnTo>
                  <a:lnTo>
                    <a:pt x="170" y="8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01960" y="5699160"/>
              <a:ext cx="68400" cy="69840"/>
            </a:xfrm>
            <a:custGeom>
              <a:avLst/>
              <a:gdLst/>
              <a:ahLst/>
              <a:rect l="l" t="t" r="r" b="b"/>
              <a:pathLst>
                <a:path w="216" h="220">
                  <a:moveTo>
                    <a:pt x="158" y="41"/>
                  </a:moveTo>
                  <a:lnTo>
                    <a:pt x="216" y="62"/>
                  </a:lnTo>
                  <a:lnTo>
                    <a:pt x="202" y="50"/>
                  </a:lnTo>
                  <a:lnTo>
                    <a:pt x="188" y="38"/>
                  </a:lnTo>
                  <a:lnTo>
                    <a:pt x="172" y="27"/>
                  </a:lnTo>
                  <a:lnTo>
                    <a:pt x="154" y="16"/>
                  </a:lnTo>
                  <a:lnTo>
                    <a:pt x="137" y="7"/>
                  </a:lnTo>
                  <a:lnTo>
                    <a:pt x="120" y="3"/>
                  </a:lnTo>
                  <a:lnTo>
                    <a:pt x="99" y="0"/>
                  </a:lnTo>
                  <a:lnTo>
                    <a:pt x="73" y="2"/>
                  </a:lnTo>
                  <a:lnTo>
                    <a:pt x="48" y="11"/>
                  </a:lnTo>
                  <a:lnTo>
                    <a:pt x="26" y="25"/>
                  </a:lnTo>
                  <a:lnTo>
                    <a:pt x="11" y="42"/>
                  </a:lnTo>
                  <a:lnTo>
                    <a:pt x="0" y="58"/>
                  </a:lnTo>
                  <a:lnTo>
                    <a:pt x="157" y="146"/>
                  </a:lnTo>
                  <a:lnTo>
                    <a:pt x="152" y="153"/>
                  </a:lnTo>
                  <a:lnTo>
                    <a:pt x="144" y="163"/>
                  </a:lnTo>
                  <a:lnTo>
                    <a:pt x="130" y="171"/>
                  </a:lnTo>
                  <a:lnTo>
                    <a:pt x="111" y="178"/>
                  </a:lnTo>
                  <a:lnTo>
                    <a:pt x="94" y="180"/>
                  </a:lnTo>
                  <a:lnTo>
                    <a:pt x="82" y="178"/>
                  </a:lnTo>
                  <a:lnTo>
                    <a:pt x="73" y="176"/>
                  </a:lnTo>
                  <a:lnTo>
                    <a:pt x="67" y="172"/>
                  </a:lnTo>
                  <a:lnTo>
                    <a:pt x="70" y="174"/>
                  </a:lnTo>
                  <a:lnTo>
                    <a:pt x="77" y="179"/>
                  </a:lnTo>
                  <a:lnTo>
                    <a:pt x="86" y="189"/>
                  </a:lnTo>
                  <a:lnTo>
                    <a:pt x="100" y="199"/>
                  </a:lnTo>
                  <a:lnTo>
                    <a:pt x="158" y="220"/>
                  </a:lnTo>
                  <a:lnTo>
                    <a:pt x="100" y="199"/>
                  </a:lnTo>
                  <a:lnTo>
                    <a:pt x="125" y="220"/>
                  </a:lnTo>
                  <a:lnTo>
                    <a:pt x="158" y="220"/>
                  </a:lnTo>
                  <a:lnTo>
                    <a:pt x="158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52720" y="5711760"/>
              <a:ext cx="22320" cy="57240"/>
            </a:xfrm>
            <a:custGeom>
              <a:avLst/>
              <a:gdLst/>
              <a:ahLst/>
              <a:rect l="l" t="t" r="r" b="b"/>
              <a:pathLst>
                <a:path w="70" h="179">
                  <a:moveTo>
                    <a:pt x="70" y="155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179"/>
                  </a:lnTo>
                  <a:lnTo>
                    <a:pt x="8" y="179"/>
                  </a:lnTo>
                  <a:lnTo>
                    <a:pt x="70" y="155"/>
                  </a:lnTo>
                  <a:lnTo>
                    <a:pt x="8" y="179"/>
                  </a:lnTo>
                  <a:lnTo>
                    <a:pt x="43" y="179"/>
                  </a:lnTo>
                  <a:lnTo>
                    <a:pt x="70" y="1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97360" y="5781600"/>
              <a:ext cx="98280" cy="8568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64" y="0"/>
                  </a:moveTo>
                  <a:lnTo>
                    <a:pt x="0" y="265"/>
                  </a:lnTo>
                  <a:lnTo>
                    <a:pt x="309" y="268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7360" y="5781600"/>
              <a:ext cx="98280" cy="8568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64" y="0"/>
                  </a:moveTo>
                  <a:lnTo>
                    <a:pt x="0" y="265"/>
                  </a:lnTo>
                  <a:lnTo>
                    <a:pt x="309" y="268"/>
                  </a:lnTo>
                  <a:lnTo>
                    <a:pt x="164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49560" y="5781600"/>
              <a:ext cx="87480" cy="85680"/>
            </a:xfrm>
            <a:custGeom>
              <a:avLst/>
              <a:gdLst/>
              <a:ahLst/>
              <a:rect l="l" t="t" r="r" b="b"/>
              <a:pathLst>
                <a:path w="275" h="268">
                  <a:moveTo>
                    <a:pt x="0" y="0"/>
                  </a:moveTo>
                  <a:lnTo>
                    <a:pt x="275" y="39"/>
                  </a:lnTo>
                  <a:lnTo>
                    <a:pt x="145" y="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560" y="5781600"/>
              <a:ext cx="87480" cy="85680"/>
            </a:xfrm>
            <a:custGeom>
              <a:avLst/>
              <a:gdLst/>
              <a:ahLst/>
              <a:rect l="l" t="t" r="r" b="b"/>
              <a:pathLst>
                <a:path w="275" h="268">
                  <a:moveTo>
                    <a:pt x="0" y="0"/>
                  </a:moveTo>
                  <a:lnTo>
                    <a:pt x="275" y="39"/>
                  </a:lnTo>
                  <a:lnTo>
                    <a:pt x="145" y="268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95640" y="5794200"/>
              <a:ext cx="41400" cy="100080"/>
            </a:xfrm>
            <a:custGeom>
              <a:avLst/>
              <a:gdLst/>
              <a:ahLst/>
              <a:rect l="l" t="t" r="r" b="b"/>
              <a:pathLst>
                <a:path w="130" h="316">
                  <a:moveTo>
                    <a:pt x="130" y="0"/>
                  </a:moveTo>
                  <a:lnTo>
                    <a:pt x="119" y="316"/>
                  </a:lnTo>
                  <a:lnTo>
                    <a:pt x="0" y="22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95640" y="5794200"/>
              <a:ext cx="41400" cy="100080"/>
            </a:xfrm>
            <a:custGeom>
              <a:avLst/>
              <a:gdLst/>
              <a:ahLst/>
              <a:rect l="l" t="t" r="r" b="b"/>
              <a:pathLst>
                <a:path w="130" h="316">
                  <a:moveTo>
                    <a:pt x="130" y="0"/>
                  </a:moveTo>
                  <a:lnTo>
                    <a:pt x="119" y="316"/>
                  </a:lnTo>
                  <a:lnTo>
                    <a:pt x="0" y="229"/>
                  </a:lnTo>
                  <a:lnTo>
                    <a:pt x="130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560" y="5738760"/>
              <a:ext cx="87480" cy="55440"/>
            </a:xfrm>
            <a:custGeom>
              <a:avLst/>
              <a:gdLst/>
              <a:ahLst/>
              <a:rect l="l" t="t" r="r" b="b"/>
              <a:pathLst>
                <a:path w="275" h="174">
                  <a:moveTo>
                    <a:pt x="6" y="0"/>
                  </a:moveTo>
                  <a:lnTo>
                    <a:pt x="275" y="174"/>
                  </a:lnTo>
                  <a:lnTo>
                    <a:pt x="0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9560" y="5738760"/>
              <a:ext cx="87480" cy="55440"/>
            </a:xfrm>
            <a:custGeom>
              <a:avLst/>
              <a:gdLst/>
              <a:ahLst/>
              <a:rect l="l" t="t" r="r" b="b"/>
              <a:pathLst>
                <a:path w="275" h="174">
                  <a:moveTo>
                    <a:pt x="6" y="0"/>
                  </a:moveTo>
                  <a:lnTo>
                    <a:pt x="275" y="174"/>
                  </a:lnTo>
                  <a:lnTo>
                    <a:pt x="0" y="135"/>
                  </a:lnTo>
                  <a:lnTo>
                    <a:pt x="6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63880" y="5738760"/>
              <a:ext cx="87120" cy="4932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0" y="151"/>
                  </a:moveTo>
                  <a:lnTo>
                    <a:pt x="278" y="0"/>
                  </a:lnTo>
                  <a:lnTo>
                    <a:pt x="272" y="135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63880" y="5738760"/>
              <a:ext cx="87120" cy="4932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0" y="151"/>
                  </a:moveTo>
                  <a:lnTo>
                    <a:pt x="278" y="0"/>
                  </a:lnTo>
                  <a:lnTo>
                    <a:pt x="272" y="135"/>
                  </a:lnTo>
                  <a:lnTo>
                    <a:pt x="0" y="151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63880" y="5781600"/>
              <a:ext cx="85680" cy="8424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108" y="265"/>
                  </a:moveTo>
                  <a:lnTo>
                    <a:pt x="0" y="16"/>
                  </a:lnTo>
                  <a:lnTo>
                    <a:pt x="272" y="0"/>
                  </a:lnTo>
                  <a:lnTo>
                    <a:pt x="108" y="265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63880" y="5781600"/>
              <a:ext cx="85680" cy="8424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108" y="265"/>
                  </a:moveTo>
                  <a:lnTo>
                    <a:pt x="0" y="16"/>
                  </a:lnTo>
                  <a:lnTo>
                    <a:pt x="272" y="0"/>
                  </a:lnTo>
                  <a:lnTo>
                    <a:pt x="108" y="265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60640" y="5788080"/>
              <a:ext cx="36720" cy="95040"/>
            </a:xfrm>
            <a:custGeom>
              <a:avLst/>
              <a:gdLst/>
              <a:ahLst/>
              <a:rect l="l" t="t" r="r" b="b"/>
              <a:pathLst>
                <a:path w="116" h="300">
                  <a:moveTo>
                    <a:pt x="0" y="300"/>
                  </a:moveTo>
                  <a:lnTo>
                    <a:pt x="8" y="0"/>
                  </a:lnTo>
                  <a:lnTo>
                    <a:pt x="116" y="249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60640" y="5788080"/>
              <a:ext cx="36720" cy="95040"/>
            </a:xfrm>
            <a:custGeom>
              <a:avLst/>
              <a:gdLst/>
              <a:ahLst/>
              <a:rect l="l" t="t" r="r" b="b"/>
              <a:pathLst>
                <a:path w="116" h="300">
                  <a:moveTo>
                    <a:pt x="0" y="300"/>
                  </a:moveTo>
                  <a:lnTo>
                    <a:pt x="8" y="0"/>
                  </a:lnTo>
                  <a:lnTo>
                    <a:pt x="116" y="249"/>
                  </a:lnTo>
                  <a:lnTo>
                    <a:pt x="0" y="30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97360" y="5865840"/>
              <a:ext cx="98280" cy="7632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151" y="236"/>
                  </a:moveTo>
                  <a:lnTo>
                    <a:pt x="0" y="0"/>
                  </a:lnTo>
                  <a:lnTo>
                    <a:pt x="309" y="3"/>
                  </a:lnTo>
                  <a:lnTo>
                    <a:pt x="151" y="236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97360" y="5865840"/>
              <a:ext cx="98280" cy="7632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151" y="236"/>
                  </a:moveTo>
                  <a:lnTo>
                    <a:pt x="0" y="0"/>
                  </a:lnTo>
                  <a:lnTo>
                    <a:pt x="309" y="3"/>
                  </a:lnTo>
                  <a:lnTo>
                    <a:pt x="151" y="236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4880" y="5867280"/>
              <a:ext cx="88920" cy="748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7" y="87"/>
                  </a:moveTo>
                  <a:lnTo>
                    <a:pt x="0" y="233"/>
                  </a:lnTo>
                  <a:lnTo>
                    <a:pt x="158" y="0"/>
                  </a:lnTo>
                  <a:lnTo>
                    <a:pt x="277" y="87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4880" y="5867280"/>
              <a:ext cx="88920" cy="748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7" y="87"/>
                  </a:moveTo>
                  <a:lnTo>
                    <a:pt x="0" y="233"/>
                  </a:lnTo>
                  <a:lnTo>
                    <a:pt x="158" y="0"/>
                  </a:lnTo>
                  <a:lnTo>
                    <a:pt x="277" y="87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60640" y="5865840"/>
              <a:ext cx="84240" cy="76320"/>
            </a:xfrm>
            <a:custGeom>
              <a:avLst/>
              <a:gdLst/>
              <a:ahLst/>
              <a:rect l="l" t="t" r="r" b="b"/>
              <a:pathLst>
                <a:path w="267" h="236">
                  <a:moveTo>
                    <a:pt x="0" y="51"/>
                  </a:moveTo>
                  <a:lnTo>
                    <a:pt x="116" y="0"/>
                  </a:lnTo>
                  <a:lnTo>
                    <a:pt x="267" y="23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60640" y="5865840"/>
              <a:ext cx="84240" cy="76320"/>
            </a:xfrm>
            <a:custGeom>
              <a:avLst/>
              <a:gdLst/>
              <a:ahLst/>
              <a:rect l="l" t="t" r="r" b="b"/>
              <a:pathLst>
                <a:path w="267" h="236">
                  <a:moveTo>
                    <a:pt x="0" y="51"/>
                  </a:moveTo>
                  <a:lnTo>
                    <a:pt x="116" y="0"/>
                  </a:lnTo>
                  <a:lnTo>
                    <a:pt x="267" y="236"/>
                  </a:lnTo>
                  <a:lnTo>
                    <a:pt x="0" y="51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86120" y="5688000"/>
              <a:ext cx="317520" cy="299880"/>
            </a:xfrm>
            <a:custGeom>
              <a:avLst/>
              <a:gdLst/>
              <a:ahLst/>
              <a:rect l="l" t="t" r="r" b="b"/>
              <a:pathLst>
                <a:path w="1000" h="946">
                  <a:moveTo>
                    <a:pt x="215" y="165"/>
                  </a:moveTo>
                  <a:lnTo>
                    <a:pt x="225" y="158"/>
                  </a:lnTo>
                  <a:lnTo>
                    <a:pt x="235" y="149"/>
                  </a:lnTo>
                  <a:lnTo>
                    <a:pt x="244" y="141"/>
                  </a:lnTo>
                  <a:lnTo>
                    <a:pt x="254" y="134"/>
                  </a:lnTo>
                  <a:lnTo>
                    <a:pt x="264" y="127"/>
                  </a:lnTo>
                  <a:lnTo>
                    <a:pt x="275" y="121"/>
                  </a:lnTo>
                  <a:lnTo>
                    <a:pt x="284" y="114"/>
                  </a:lnTo>
                  <a:lnTo>
                    <a:pt x="295" y="108"/>
                  </a:lnTo>
                  <a:lnTo>
                    <a:pt x="304" y="104"/>
                  </a:lnTo>
                  <a:lnTo>
                    <a:pt x="302" y="99"/>
                  </a:lnTo>
                  <a:lnTo>
                    <a:pt x="300" y="95"/>
                  </a:lnTo>
                  <a:lnTo>
                    <a:pt x="297" y="91"/>
                  </a:lnTo>
                  <a:lnTo>
                    <a:pt x="296" y="86"/>
                  </a:lnTo>
                  <a:lnTo>
                    <a:pt x="295" y="82"/>
                  </a:lnTo>
                  <a:lnTo>
                    <a:pt x="293" y="77"/>
                  </a:lnTo>
                  <a:lnTo>
                    <a:pt x="291" y="72"/>
                  </a:lnTo>
                  <a:lnTo>
                    <a:pt x="290" y="67"/>
                  </a:lnTo>
                  <a:lnTo>
                    <a:pt x="288" y="62"/>
                  </a:lnTo>
                  <a:lnTo>
                    <a:pt x="286" y="56"/>
                  </a:lnTo>
                  <a:lnTo>
                    <a:pt x="284" y="50"/>
                  </a:lnTo>
                  <a:lnTo>
                    <a:pt x="284" y="43"/>
                  </a:lnTo>
                  <a:lnTo>
                    <a:pt x="284" y="38"/>
                  </a:lnTo>
                  <a:lnTo>
                    <a:pt x="286" y="33"/>
                  </a:lnTo>
                  <a:lnTo>
                    <a:pt x="287" y="29"/>
                  </a:lnTo>
                  <a:lnTo>
                    <a:pt x="291" y="27"/>
                  </a:lnTo>
                  <a:lnTo>
                    <a:pt x="295" y="25"/>
                  </a:lnTo>
                  <a:lnTo>
                    <a:pt x="300" y="24"/>
                  </a:lnTo>
                  <a:lnTo>
                    <a:pt x="304" y="24"/>
                  </a:lnTo>
                  <a:lnTo>
                    <a:pt x="307" y="25"/>
                  </a:lnTo>
                  <a:lnTo>
                    <a:pt x="310" y="27"/>
                  </a:lnTo>
                  <a:lnTo>
                    <a:pt x="314" y="29"/>
                  </a:lnTo>
                  <a:lnTo>
                    <a:pt x="316" y="32"/>
                  </a:lnTo>
                  <a:lnTo>
                    <a:pt x="319" y="36"/>
                  </a:lnTo>
                  <a:lnTo>
                    <a:pt x="324" y="45"/>
                  </a:lnTo>
                  <a:lnTo>
                    <a:pt x="330" y="57"/>
                  </a:lnTo>
                  <a:lnTo>
                    <a:pt x="336" y="70"/>
                  </a:lnTo>
                  <a:lnTo>
                    <a:pt x="344" y="85"/>
                  </a:lnTo>
                  <a:lnTo>
                    <a:pt x="357" y="80"/>
                  </a:lnTo>
                  <a:lnTo>
                    <a:pt x="374" y="73"/>
                  </a:lnTo>
                  <a:lnTo>
                    <a:pt x="392" y="68"/>
                  </a:lnTo>
                  <a:lnTo>
                    <a:pt x="412" y="64"/>
                  </a:lnTo>
                  <a:lnTo>
                    <a:pt x="430" y="59"/>
                  </a:lnTo>
                  <a:lnTo>
                    <a:pt x="450" y="57"/>
                  </a:lnTo>
                  <a:lnTo>
                    <a:pt x="469" y="55"/>
                  </a:lnTo>
                  <a:lnTo>
                    <a:pt x="488" y="53"/>
                  </a:lnTo>
                  <a:lnTo>
                    <a:pt x="509" y="53"/>
                  </a:lnTo>
                  <a:lnTo>
                    <a:pt x="523" y="53"/>
                  </a:lnTo>
                  <a:lnTo>
                    <a:pt x="537" y="54"/>
                  </a:lnTo>
                  <a:lnTo>
                    <a:pt x="551" y="55"/>
                  </a:lnTo>
                  <a:lnTo>
                    <a:pt x="565" y="56"/>
                  </a:lnTo>
                  <a:lnTo>
                    <a:pt x="579" y="58"/>
                  </a:lnTo>
                  <a:lnTo>
                    <a:pt x="592" y="60"/>
                  </a:lnTo>
                  <a:lnTo>
                    <a:pt x="606" y="64"/>
                  </a:lnTo>
                  <a:lnTo>
                    <a:pt x="619" y="66"/>
                  </a:lnTo>
                  <a:lnTo>
                    <a:pt x="623" y="69"/>
                  </a:lnTo>
                  <a:lnTo>
                    <a:pt x="625" y="65"/>
                  </a:lnTo>
                  <a:lnTo>
                    <a:pt x="626" y="60"/>
                  </a:lnTo>
                  <a:lnTo>
                    <a:pt x="628" y="56"/>
                  </a:lnTo>
                  <a:lnTo>
                    <a:pt x="629" y="52"/>
                  </a:lnTo>
                  <a:lnTo>
                    <a:pt x="630" y="49"/>
                  </a:lnTo>
                  <a:lnTo>
                    <a:pt x="632" y="44"/>
                  </a:lnTo>
                  <a:lnTo>
                    <a:pt x="633" y="40"/>
                  </a:lnTo>
                  <a:lnTo>
                    <a:pt x="634" y="35"/>
                  </a:lnTo>
                  <a:lnTo>
                    <a:pt x="636" y="29"/>
                  </a:lnTo>
                  <a:lnTo>
                    <a:pt x="639" y="23"/>
                  </a:lnTo>
                  <a:lnTo>
                    <a:pt x="641" y="17"/>
                  </a:lnTo>
                  <a:lnTo>
                    <a:pt x="644" y="12"/>
                  </a:lnTo>
                  <a:lnTo>
                    <a:pt x="647" y="6"/>
                  </a:lnTo>
                  <a:lnTo>
                    <a:pt x="650" y="3"/>
                  </a:lnTo>
                  <a:lnTo>
                    <a:pt x="655" y="1"/>
                  </a:lnTo>
                  <a:lnTo>
                    <a:pt x="658" y="0"/>
                  </a:lnTo>
                  <a:lnTo>
                    <a:pt x="664" y="1"/>
                  </a:lnTo>
                  <a:lnTo>
                    <a:pt x="669" y="3"/>
                  </a:lnTo>
                  <a:lnTo>
                    <a:pt x="673" y="5"/>
                  </a:lnTo>
                  <a:lnTo>
                    <a:pt x="675" y="9"/>
                  </a:lnTo>
                  <a:lnTo>
                    <a:pt x="677" y="12"/>
                  </a:lnTo>
                  <a:lnTo>
                    <a:pt x="679" y="15"/>
                  </a:lnTo>
                  <a:lnTo>
                    <a:pt x="680" y="20"/>
                  </a:lnTo>
                  <a:lnTo>
                    <a:pt x="680" y="25"/>
                  </a:lnTo>
                  <a:lnTo>
                    <a:pt x="679" y="37"/>
                  </a:lnTo>
                  <a:lnTo>
                    <a:pt x="675" y="50"/>
                  </a:lnTo>
                  <a:lnTo>
                    <a:pt x="671" y="65"/>
                  </a:lnTo>
                  <a:lnTo>
                    <a:pt x="666" y="81"/>
                  </a:lnTo>
                  <a:lnTo>
                    <a:pt x="672" y="84"/>
                  </a:lnTo>
                  <a:lnTo>
                    <a:pt x="695" y="94"/>
                  </a:lnTo>
                  <a:lnTo>
                    <a:pt x="716" y="105"/>
                  </a:lnTo>
                  <a:lnTo>
                    <a:pt x="737" y="117"/>
                  </a:lnTo>
                  <a:lnTo>
                    <a:pt x="757" y="130"/>
                  </a:lnTo>
                  <a:lnTo>
                    <a:pt x="777" y="144"/>
                  </a:lnTo>
                  <a:lnTo>
                    <a:pt x="795" y="159"/>
                  </a:lnTo>
                  <a:lnTo>
                    <a:pt x="812" y="175"/>
                  </a:lnTo>
                  <a:lnTo>
                    <a:pt x="830" y="192"/>
                  </a:lnTo>
                  <a:lnTo>
                    <a:pt x="846" y="211"/>
                  </a:lnTo>
                  <a:lnTo>
                    <a:pt x="860" y="229"/>
                  </a:lnTo>
                  <a:lnTo>
                    <a:pt x="874" y="249"/>
                  </a:lnTo>
                  <a:lnTo>
                    <a:pt x="887" y="269"/>
                  </a:lnTo>
                  <a:lnTo>
                    <a:pt x="899" y="290"/>
                  </a:lnTo>
                  <a:lnTo>
                    <a:pt x="910" y="312"/>
                  </a:lnTo>
                  <a:lnTo>
                    <a:pt x="918" y="335"/>
                  </a:lnTo>
                  <a:lnTo>
                    <a:pt x="927" y="357"/>
                  </a:lnTo>
                  <a:lnTo>
                    <a:pt x="929" y="365"/>
                  </a:lnTo>
                  <a:lnTo>
                    <a:pt x="933" y="363"/>
                  </a:lnTo>
                  <a:lnTo>
                    <a:pt x="938" y="362"/>
                  </a:lnTo>
                  <a:lnTo>
                    <a:pt x="942" y="361"/>
                  </a:lnTo>
                  <a:lnTo>
                    <a:pt x="946" y="361"/>
                  </a:lnTo>
                  <a:lnTo>
                    <a:pt x="952" y="360"/>
                  </a:lnTo>
                  <a:lnTo>
                    <a:pt x="956" y="360"/>
                  </a:lnTo>
                  <a:lnTo>
                    <a:pt x="961" y="360"/>
                  </a:lnTo>
                  <a:lnTo>
                    <a:pt x="967" y="359"/>
                  </a:lnTo>
                  <a:lnTo>
                    <a:pt x="972" y="359"/>
                  </a:lnTo>
                  <a:lnTo>
                    <a:pt x="978" y="357"/>
                  </a:lnTo>
                  <a:lnTo>
                    <a:pt x="982" y="357"/>
                  </a:lnTo>
                  <a:lnTo>
                    <a:pt x="987" y="356"/>
                  </a:lnTo>
                  <a:lnTo>
                    <a:pt x="992" y="357"/>
                  </a:lnTo>
                  <a:lnTo>
                    <a:pt x="995" y="359"/>
                  </a:lnTo>
                  <a:lnTo>
                    <a:pt x="998" y="361"/>
                  </a:lnTo>
                  <a:lnTo>
                    <a:pt x="999" y="364"/>
                  </a:lnTo>
                  <a:lnTo>
                    <a:pt x="1000" y="369"/>
                  </a:lnTo>
                  <a:lnTo>
                    <a:pt x="1000" y="374"/>
                  </a:lnTo>
                  <a:lnTo>
                    <a:pt x="1000" y="377"/>
                  </a:lnTo>
                  <a:lnTo>
                    <a:pt x="999" y="381"/>
                  </a:lnTo>
                  <a:lnTo>
                    <a:pt x="998" y="384"/>
                  </a:lnTo>
                  <a:lnTo>
                    <a:pt x="996" y="387"/>
                  </a:lnTo>
                  <a:lnTo>
                    <a:pt x="994" y="389"/>
                  </a:lnTo>
                  <a:lnTo>
                    <a:pt x="991" y="391"/>
                  </a:lnTo>
                  <a:lnTo>
                    <a:pt x="982" y="395"/>
                  </a:lnTo>
                  <a:lnTo>
                    <a:pt x="971" y="398"/>
                  </a:lnTo>
                  <a:lnTo>
                    <a:pt x="957" y="402"/>
                  </a:lnTo>
                  <a:lnTo>
                    <a:pt x="941" y="406"/>
                  </a:lnTo>
                  <a:lnTo>
                    <a:pt x="940" y="415"/>
                  </a:lnTo>
                  <a:lnTo>
                    <a:pt x="942" y="423"/>
                  </a:lnTo>
                  <a:lnTo>
                    <a:pt x="943" y="433"/>
                  </a:lnTo>
                  <a:lnTo>
                    <a:pt x="944" y="443"/>
                  </a:lnTo>
                  <a:lnTo>
                    <a:pt x="945" y="451"/>
                  </a:lnTo>
                  <a:lnTo>
                    <a:pt x="946" y="461"/>
                  </a:lnTo>
                  <a:lnTo>
                    <a:pt x="946" y="471"/>
                  </a:lnTo>
                  <a:lnTo>
                    <a:pt x="947" y="481"/>
                  </a:lnTo>
                  <a:lnTo>
                    <a:pt x="947" y="490"/>
                  </a:lnTo>
                  <a:lnTo>
                    <a:pt x="946" y="518"/>
                  </a:lnTo>
                  <a:lnTo>
                    <a:pt x="943" y="548"/>
                  </a:lnTo>
                  <a:lnTo>
                    <a:pt x="939" y="575"/>
                  </a:lnTo>
                  <a:lnTo>
                    <a:pt x="932" y="602"/>
                  </a:lnTo>
                  <a:lnTo>
                    <a:pt x="925" y="629"/>
                  </a:lnTo>
                  <a:lnTo>
                    <a:pt x="915" y="653"/>
                  </a:lnTo>
                  <a:lnTo>
                    <a:pt x="904" y="678"/>
                  </a:lnTo>
                  <a:lnTo>
                    <a:pt x="891" y="703"/>
                  </a:lnTo>
                  <a:lnTo>
                    <a:pt x="885" y="714"/>
                  </a:lnTo>
                  <a:lnTo>
                    <a:pt x="889" y="715"/>
                  </a:lnTo>
                  <a:lnTo>
                    <a:pt x="893" y="717"/>
                  </a:lnTo>
                  <a:lnTo>
                    <a:pt x="898" y="719"/>
                  </a:lnTo>
                  <a:lnTo>
                    <a:pt x="901" y="721"/>
                  </a:lnTo>
                  <a:lnTo>
                    <a:pt x="905" y="725"/>
                  </a:lnTo>
                  <a:lnTo>
                    <a:pt x="910" y="727"/>
                  </a:lnTo>
                  <a:lnTo>
                    <a:pt x="914" y="730"/>
                  </a:lnTo>
                  <a:lnTo>
                    <a:pt x="919" y="733"/>
                  </a:lnTo>
                  <a:lnTo>
                    <a:pt x="924" y="735"/>
                  </a:lnTo>
                  <a:lnTo>
                    <a:pt x="928" y="739"/>
                  </a:lnTo>
                  <a:lnTo>
                    <a:pt x="932" y="742"/>
                  </a:lnTo>
                  <a:lnTo>
                    <a:pt x="937" y="745"/>
                  </a:lnTo>
                  <a:lnTo>
                    <a:pt x="939" y="748"/>
                  </a:lnTo>
                  <a:lnTo>
                    <a:pt x="941" y="752"/>
                  </a:lnTo>
                  <a:lnTo>
                    <a:pt x="941" y="756"/>
                  </a:lnTo>
                  <a:lnTo>
                    <a:pt x="940" y="759"/>
                  </a:lnTo>
                  <a:lnTo>
                    <a:pt x="938" y="764"/>
                  </a:lnTo>
                  <a:lnTo>
                    <a:pt x="934" y="768"/>
                  </a:lnTo>
                  <a:lnTo>
                    <a:pt x="932" y="771"/>
                  </a:lnTo>
                  <a:lnTo>
                    <a:pt x="929" y="773"/>
                  </a:lnTo>
                  <a:lnTo>
                    <a:pt x="926" y="774"/>
                  </a:lnTo>
                  <a:lnTo>
                    <a:pt x="923" y="774"/>
                  </a:lnTo>
                  <a:lnTo>
                    <a:pt x="918" y="774"/>
                  </a:lnTo>
                  <a:lnTo>
                    <a:pt x="914" y="773"/>
                  </a:lnTo>
                  <a:lnTo>
                    <a:pt x="904" y="770"/>
                  </a:lnTo>
                  <a:lnTo>
                    <a:pt x="893" y="765"/>
                  </a:lnTo>
                  <a:lnTo>
                    <a:pt x="880" y="758"/>
                  </a:lnTo>
                  <a:lnTo>
                    <a:pt x="864" y="752"/>
                  </a:lnTo>
                  <a:lnTo>
                    <a:pt x="861" y="752"/>
                  </a:lnTo>
                  <a:lnTo>
                    <a:pt x="848" y="768"/>
                  </a:lnTo>
                  <a:lnTo>
                    <a:pt x="835" y="783"/>
                  </a:lnTo>
                  <a:lnTo>
                    <a:pt x="821" y="798"/>
                  </a:lnTo>
                  <a:lnTo>
                    <a:pt x="806" y="812"/>
                  </a:lnTo>
                  <a:lnTo>
                    <a:pt x="791" y="825"/>
                  </a:lnTo>
                  <a:lnTo>
                    <a:pt x="776" y="838"/>
                  </a:lnTo>
                  <a:lnTo>
                    <a:pt x="758" y="850"/>
                  </a:lnTo>
                  <a:lnTo>
                    <a:pt x="742" y="861"/>
                  </a:lnTo>
                  <a:lnTo>
                    <a:pt x="731" y="867"/>
                  </a:lnTo>
                  <a:lnTo>
                    <a:pt x="734" y="872"/>
                  </a:lnTo>
                  <a:lnTo>
                    <a:pt x="736" y="876"/>
                  </a:lnTo>
                  <a:lnTo>
                    <a:pt x="738" y="880"/>
                  </a:lnTo>
                  <a:lnTo>
                    <a:pt x="740" y="883"/>
                  </a:lnTo>
                  <a:lnTo>
                    <a:pt x="742" y="888"/>
                  </a:lnTo>
                  <a:lnTo>
                    <a:pt x="744" y="892"/>
                  </a:lnTo>
                  <a:lnTo>
                    <a:pt x="747" y="896"/>
                  </a:lnTo>
                  <a:lnTo>
                    <a:pt x="749" y="901"/>
                  </a:lnTo>
                  <a:lnTo>
                    <a:pt x="752" y="906"/>
                  </a:lnTo>
                  <a:lnTo>
                    <a:pt x="755" y="911"/>
                  </a:lnTo>
                  <a:lnTo>
                    <a:pt x="758" y="916"/>
                  </a:lnTo>
                  <a:lnTo>
                    <a:pt x="762" y="921"/>
                  </a:lnTo>
                  <a:lnTo>
                    <a:pt x="764" y="927"/>
                  </a:lnTo>
                  <a:lnTo>
                    <a:pt x="765" y="931"/>
                  </a:lnTo>
                  <a:lnTo>
                    <a:pt x="765" y="934"/>
                  </a:lnTo>
                  <a:lnTo>
                    <a:pt x="763" y="937"/>
                  </a:lnTo>
                  <a:lnTo>
                    <a:pt x="758" y="942"/>
                  </a:lnTo>
                  <a:lnTo>
                    <a:pt x="754" y="944"/>
                  </a:lnTo>
                  <a:lnTo>
                    <a:pt x="750" y="945"/>
                  </a:lnTo>
                  <a:lnTo>
                    <a:pt x="745" y="946"/>
                  </a:lnTo>
                  <a:lnTo>
                    <a:pt x="741" y="945"/>
                  </a:lnTo>
                  <a:lnTo>
                    <a:pt x="737" y="943"/>
                  </a:lnTo>
                  <a:lnTo>
                    <a:pt x="734" y="941"/>
                  </a:lnTo>
                  <a:lnTo>
                    <a:pt x="729" y="936"/>
                  </a:lnTo>
                  <a:lnTo>
                    <a:pt x="721" y="928"/>
                  </a:lnTo>
                  <a:lnTo>
                    <a:pt x="712" y="916"/>
                  </a:lnTo>
                  <a:lnTo>
                    <a:pt x="703" y="903"/>
                  </a:lnTo>
                  <a:lnTo>
                    <a:pt x="694" y="889"/>
                  </a:lnTo>
                  <a:lnTo>
                    <a:pt x="684" y="892"/>
                  </a:lnTo>
                  <a:lnTo>
                    <a:pt x="663" y="901"/>
                  </a:lnTo>
                  <a:lnTo>
                    <a:pt x="643" y="907"/>
                  </a:lnTo>
                  <a:lnTo>
                    <a:pt x="621" y="914"/>
                  </a:lnTo>
                  <a:lnTo>
                    <a:pt x="600" y="919"/>
                  </a:lnTo>
                  <a:lnTo>
                    <a:pt x="577" y="923"/>
                  </a:lnTo>
                  <a:lnTo>
                    <a:pt x="555" y="926"/>
                  </a:lnTo>
                  <a:lnTo>
                    <a:pt x="532" y="928"/>
                  </a:lnTo>
                  <a:lnTo>
                    <a:pt x="509" y="928"/>
                  </a:lnTo>
                  <a:lnTo>
                    <a:pt x="482" y="928"/>
                  </a:lnTo>
                  <a:lnTo>
                    <a:pt x="456" y="924"/>
                  </a:lnTo>
                  <a:lnTo>
                    <a:pt x="429" y="921"/>
                  </a:lnTo>
                  <a:lnTo>
                    <a:pt x="404" y="916"/>
                  </a:lnTo>
                  <a:lnTo>
                    <a:pt x="379" y="908"/>
                  </a:lnTo>
                  <a:lnTo>
                    <a:pt x="355" y="901"/>
                  </a:lnTo>
                  <a:lnTo>
                    <a:pt x="331" y="891"/>
                  </a:lnTo>
                  <a:lnTo>
                    <a:pt x="308" y="879"/>
                  </a:lnTo>
                  <a:lnTo>
                    <a:pt x="300" y="875"/>
                  </a:lnTo>
                  <a:lnTo>
                    <a:pt x="297" y="879"/>
                  </a:lnTo>
                  <a:lnTo>
                    <a:pt x="295" y="883"/>
                  </a:lnTo>
                  <a:lnTo>
                    <a:pt x="293" y="888"/>
                  </a:lnTo>
                  <a:lnTo>
                    <a:pt x="291" y="892"/>
                  </a:lnTo>
                  <a:lnTo>
                    <a:pt x="289" y="896"/>
                  </a:lnTo>
                  <a:lnTo>
                    <a:pt x="287" y="901"/>
                  </a:lnTo>
                  <a:lnTo>
                    <a:pt x="284" y="904"/>
                  </a:lnTo>
                  <a:lnTo>
                    <a:pt x="281" y="908"/>
                  </a:lnTo>
                  <a:lnTo>
                    <a:pt x="278" y="915"/>
                  </a:lnTo>
                  <a:lnTo>
                    <a:pt x="274" y="920"/>
                  </a:lnTo>
                  <a:lnTo>
                    <a:pt x="269" y="926"/>
                  </a:lnTo>
                  <a:lnTo>
                    <a:pt x="266" y="929"/>
                  </a:lnTo>
                  <a:lnTo>
                    <a:pt x="262" y="932"/>
                  </a:lnTo>
                  <a:lnTo>
                    <a:pt x="257" y="934"/>
                  </a:lnTo>
                  <a:lnTo>
                    <a:pt x="253" y="935"/>
                  </a:lnTo>
                  <a:lnTo>
                    <a:pt x="250" y="935"/>
                  </a:lnTo>
                  <a:lnTo>
                    <a:pt x="244" y="933"/>
                  </a:lnTo>
                  <a:lnTo>
                    <a:pt x="240" y="930"/>
                  </a:lnTo>
                  <a:lnTo>
                    <a:pt x="237" y="927"/>
                  </a:lnTo>
                  <a:lnTo>
                    <a:pt x="235" y="923"/>
                  </a:lnTo>
                  <a:lnTo>
                    <a:pt x="234" y="919"/>
                  </a:lnTo>
                  <a:lnTo>
                    <a:pt x="234" y="915"/>
                  </a:lnTo>
                  <a:lnTo>
                    <a:pt x="234" y="909"/>
                  </a:lnTo>
                  <a:lnTo>
                    <a:pt x="235" y="905"/>
                  </a:lnTo>
                  <a:lnTo>
                    <a:pt x="240" y="893"/>
                  </a:lnTo>
                  <a:lnTo>
                    <a:pt x="247" y="880"/>
                  </a:lnTo>
                  <a:lnTo>
                    <a:pt x="254" y="866"/>
                  </a:lnTo>
                  <a:lnTo>
                    <a:pt x="263" y="851"/>
                  </a:lnTo>
                  <a:lnTo>
                    <a:pt x="256" y="848"/>
                  </a:lnTo>
                  <a:lnTo>
                    <a:pt x="240" y="836"/>
                  </a:lnTo>
                  <a:lnTo>
                    <a:pt x="225" y="823"/>
                  </a:lnTo>
                  <a:lnTo>
                    <a:pt x="210" y="810"/>
                  </a:lnTo>
                  <a:lnTo>
                    <a:pt x="196" y="796"/>
                  </a:lnTo>
                  <a:lnTo>
                    <a:pt x="182" y="781"/>
                  </a:lnTo>
                  <a:lnTo>
                    <a:pt x="169" y="766"/>
                  </a:lnTo>
                  <a:lnTo>
                    <a:pt x="156" y="749"/>
                  </a:lnTo>
                  <a:lnTo>
                    <a:pt x="145" y="733"/>
                  </a:lnTo>
                  <a:lnTo>
                    <a:pt x="134" y="716"/>
                  </a:lnTo>
                  <a:lnTo>
                    <a:pt x="124" y="699"/>
                  </a:lnTo>
                  <a:lnTo>
                    <a:pt x="115" y="680"/>
                  </a:lnTo>
                  <a:lnTo>
                    <a:pt x="106" y="662"/>
                  </a:lnTo>
                  <a:lnTo>
                    <a:pt x="99" y="643"/>
                  </a:lnTo>
                  <a:lnTo>
                    <a:pt x="92" y="623"/>
                  </a:lnTo>
                  <a:lnTo>
                    <a:pt x="87" y="604"/>
                  </a:lnTo>
                  <a:lnTo>
                    <a:pt x="81" y="583"/>
                  </a:lnTo>
                  <a:lnTo>
                    <a:pt x="78" y="572"/>
                  </a:lnTo>
                  <a:lnTo>
                    <a:pt x="73" y="573"/>
                  </a:lnTo>
                  <a:lnTo>
                    <a:pt x="69" y="576"/>
                  </a:lnTo>
                  <a:lnTo>
                    <a:pt x="65" y="577"/>
                  </a:lnTo>
                  <a:lnTo>
                    <a:pt x="61" y="577"/>
                  </a:lnTo>
                  <a:lnTo>
                    <a:pt x="58" y="578"/>
                  </a:lnTo>
                  <a:lnTo>
                    <a:pt x="53" y="579"/>
                  </a:lnTo>
                  <a:lnTo>
                    <a:pt x="49" y="580"/>
                  </a:lnTo>
                  <a:lnTo>
                    <a:pt x="45" y="580"/>
                  </a:lnTo>
                  <a:lnTo>
                    <a:pt x="39" y="581"/>
                  </a:lnTo>
                  <a:lnTo>
                    <a:pt x="33" y="581"/>
                  </a:lnTo>
                  <a:lnTo>
                    <a:pt x="26" y="581"/>
                  </a:lnTo>
                  <a:lnTo>
                    <a:pt x="20" y="581"/>
                  </a:lnTo>
                  <a:lnTo>
                    <a:pt x="15" y="581"/>
                  </a:lnTo>
                  <a:lnTo>
                    <a:pt x="9" y="579"/>
                  </a:lnTo>
                  <a:lnTo>
                    <a:pt x="6" y="577"/>
                  </a:lnTo>
                  <a:lnTo>
                    <a:pt x="3" y="573"/>
                  </a:lnTo>
                  <a:lnTo>
                    <a:pt x="2" y="568"/>
                  </a:lnTo>
                  <a:lnTo>
                    <a:pt x="0" y="563"/>
                  </a:lnTo>
                  <a:lnTo>
                    <a:pt x="2" y="559"/>
                  </a:lnTo>
                  <a:lnTo>
                    <a:pt x="3" y="555"/>
                  </a:lnTo>
                  <a:lnTo>
                    <a:pt x="5" y="552"/>
                  </a:lnTo>
                  <a:lnTo>
                    <a:pt x="8" y="549"/>
                  </a:lnTo>
                  <a:lnTo>
                    <a:pt x="12" y="546"/>
                  </a:lnTo>
                  <a:lnTo>
                    <a:pt x="17" y="544"/>
                  </a:lnTo>
                  <a:lnTo>
                    <a:pt x="29" y="540"/>
                  </a:lnTo>
                  <a:lnTo>
                    <a:pt x="43" y="537"/>
                  </a:lnTo>
                  <a:lnTo>
                    <a:pt x="59" y="533"/>
                  </a:lnTo>
                  <a:lnTo>
                    <a:pt x="76" y="530"/>
                  </a:lnTo>
                  <a:lnTo>
                    <a:pt x="73" y="525"/>
                  </a:lnTo>
                  <a:lnTo>
                    <a:pt x="73" y="521"/>
                  </a:lnTo>
                  <a:lnTo>
                    <a:pt x="72" y="516"/>
                  </a:lnTo>
                  <a:lnTo>
                    <a:pt x="72" y="512"/>
                  </a:lnTo>
                  <a:lnTo>
                    <a:pt x="72" y="508"/>
                  </a:lnTo>
                  <a:lnTo>
                    <a:pt x="72" y="503"/>
                  </a:lnTo>
                  <a:lnTo>
                    <a:pt x="72" y="499"/>
                  </a:lnTo>
                  <a:lnTo>
                    <a:pt x="72" y="495"/>
                  </a:lnTo>
                  <a:lnTo>
                    <a:pt x="72" y="490"/>
                  </a:lnTo>
                  <a:lnTo>
                    <a:pt x="72" y="470"/>
                  </a:lnTo>
                  <a:lnTo>
                    <a:pt x="74" y="449"/>
                  </a:lnTo>
                  <a:lnTo>
                    <a:pt x="76" y="430"/>
                  </a:lnTo>
                  <a:lnTo>
                    <a:pt x="79" y="410"/>
                  </a:lnTo>
                  <a:lnTo>
                    <a:pt x="83" y="391"/>
                  </a:lnTo>
                  <a:lnTo>
                    <a:pt x="88" y="373"/>
                  </a:lnTo>
                  <a:lnTo>
                    <a:pt x="93" y="353"/>
                  </a:lnTo>
                  <a:lnTo>
                    <a:pt x="100" y="335"/>
                  </a:lnTo>
                  <a:lnTo>
                    <a:pt x="107" y="317"/>
                  </a:lnTo>
                  <a:lnTo>
                    <a:pt x="115" y="300"/>
                  </a:lnTo>
                  <a:lnTo>
                    <a:pt x="124" y="283"/>
                  </a:lnTo>
                  <a:lnTo>
                    <a:pt x="133" y="266"/>
                  </a:lnTo>
                  <a:lnTo>
                    <a:pt x="143" y="249"/>
                  </a:lnTo>
                  <a:lnTo>
                    <a:pt x="154" y="234"/>
                  </a:lnTo>
                  <a:lnTo>
                    <a:pt x="166" y="219"/>
                  </a:lnTo>
                  <a:lnTo>
                    <a:pt x="178" y="204"/>
                  </a:lnTo>
                  <a:lnTo>
                    <a:pt x="176" y="197"/>
                  </a:lnTo>
                  <a:lnTo>
                    <a:pt x="173" y="193"/>
                  </a:lnTo>
                  <a:lnTo>
                    <a:pt x="169" y="191"/>
                  </a:lnTo>
                  <a:lnTo>
                    <a:pt x="166" y="188"/>
                  </a:lnTo>
                  <a:lnTo>
                    <a:pt x="162" y="185"/>
                  </a:lnTo>
                  <a:lnTo>
                    <a:pt x="159" y="181"/>
                  </a:lnTo>
                  <a:lnTo>
                    <a:pt x="156" y="178"/>
                  </a:lnTo>
                  <a:lnTo>
                    <a:pt x="153" y="175"/>
                  </a:lnTo>
                  <a:lnTo>
                    <a:pt x="149" y="172"/>
                  </a:lnTo>
                  <a:lnTo>
                    <a:pt x="145" y="167"/>
                  </a:lnTo>
                  <a:lnTo>
                    <a:pt x="141" y="163"/>
                  </a:lnTo>
                  <a:lnTo>
                    <a:pt x="137" y="159"/>
                  </a:lnTo>
                  <a:lnTo>
                    <a:pt x="133" y="154"/>
                  </a:lnTo>
                  <a:lnTo>
                    <a:pt x="130" y="150"/>
                  </a:lnTo>
                  <a:lnTo>
                    <a:pt x="127" y="146"/>
                  </a:lnTo>
                  <a:lnTo>
                    <a:pt x="127" y="141"/>
                  </a:lnTo>
                  <a:lnTo>
                    <a:pt x="127" y="137"/>
                  </a:lnTo>
                  <a:lnTo>
                    <a:pt x="130" y="133"/>
                  </a:lnTo>
                  <a:lnTo>
                    <a:pt x="134" y="128"/>
                  </a:lnTo>
                  <a:lnTo>
                    <a:pt x="138" y="126"/>
                  </a:lnTo>
                  <a:lnTo>
                    <a:pt x="142" y="125"/>
                  </a:lnTo>
                  <a:lnTo>
                    <a:pt x="145" y="125"/>
                  </a:lnTo>
                  <a:lnTo>
                    <a:pt x="149" y="125"/>
                  </a:lnTo>
                  <a:lnTo>
                    <a:pt x="155" y="126"/>
                  </a:lnTo>
                  <a:lnTo>
                    <a:pt x="159" y="128"/>
                  </a:lnTo>
                  <a:lnTo>
                    <a:pt x="170" y="135"/>
                  </a:lnTo>
                  <a:lnTo>
                    <a:pt x="181" y="144"/>
                  </a:lnTo>
                  <a:lnTo>
                    <a:pt x="194" y="154"/>
                  </a:lnTo>
                  <a:lnTo>
                    <a:pt x="207" y="165"/>
                  </a:lnTo>
                  <a:lnTo>
                    <a:pt x="215" y="165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12240" y="601200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1f1a17"/>
                  </a:solidFill>
                  <a:latin typeface="Geometr231 Hv BT"/>
                </a:rPr>
                <a:t>Expos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38520" y="1631880"/>
              <a:ext cx="195120" cy="322200"/>
            </a:xfrm>
            <a:custGeom>
              <a:avLst/>
              <a:gdLst/>
              <a:ahLst/>
              <a:rect l="l" t="t" r="r" b="b"/>
              <a:pathLst>
                <a:path w="615" h="1014">
                  <a:moveTo>
                    <a:pt x="67" y="1011"/>
                  </a:moveTo>
                  <a:lnTo>
                    <a:pt x="8" y="1014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3"/>
                  </a:lnTo>
                  <a:lnTo>
                    <a:pt x="231" y="810"/>
                  </a:lnTo>
                  <a:lnTo>
                    <a:pt x="297" y="771"/>
                  </a:lnTo>
                  <a:lnTo>
                    <a:pt x="345" y="719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1"/>
                  </a:lnTo>
                  <a:lnTo>
                    <a:pt x="454" y="459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5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1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4"/>
                  </a:lnTo>
                  <a:lnTo>
                    <a:pt x="576" y="283"/>
                  </a:lnTo>
                  <a:lnTo>
                    <a:pt x="607" y="370"/>
                  </a:lnTo>
                  <a:lnTo>
                    <a:pt x="615" y="459"/>
                  </a:lnTo>
                  <a:lnTo>
                    <a:pt x="600" y="555"/>
                  </a:lnTo>
                  <a:lnTo>
                    <a:pt x="576" y="637"/>
                  </a:lnTo>
                  <a:lnTo>
                    <a:pt x="531" y="726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5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1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38520" y="1631880"/>
              <a:ext cx="195120" cy="322200"/>
            </a:xfrm>
            <a:custGeom>
              <a:avLst/>
              <a:gdLst/>
              <a:ahLst/>
              <a:rect l="l" t="t" r="r" b="b"/>
              <a:pathLst>
                <a:path w="615" h="1014">
                  <a:moveTo>
                    <a:pt x="67" y="1011"/>
                  </a:moveTo>
                  <a:lnTo>
                    <a:pt x="8" y="1014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3"/>
                  </a:lnTo>
                  <a:lnTo>
                    <a:pt x="231" y="810"/>
                  </a:lnTo>
                  <a:lnTo>
                    <a:pt x="297" y="771"/>
                  </a:lnTo>
                  <a:lnTo>
                    <a:pt x="345" y="719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1"/>
                  </a:lnTo>
                  <a:lnTo>
                    <a:pt x="454" y="459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5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1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4"/>
                  </a:lnTo>
                  <a:lnTo>
                    <a:pt x="576" y="283"/>
                  </a:lnTo>
                  <a:lnTo>
                    <a:pt x="607" y="370"/>
                  </a:lnTo>
                  <a:lnTo>
                    <a:pt x="615" y="459"/>
                  </a:lnTo>
                  <a:lnTo>
                    <a:pt x="600" y="555"/>
                  </a:lnTo>
                  <a:lnTo>
                    <a:pt x="576" y="637"/>
                  </a:lnTo>
                  <a:lnTo>
                    <a:pt x="531" y="726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5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49600" y="146520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5">
                  <a:moveTo>
                    <a:pt x="146" y="649"/>
                  </a:moveTo>
                  <a:lnTo>
                    <a:pt x="255" y="510"/>
                  </a:lnTo>
                  <a:lnTo>
                    <a:pt x="279" y="521"/>
                  </a:lnTo>
                  <a:lnTo>
                    <a:pt x="576" y="154"/>
                  </a:lnTo>
                  <a:lnTo>
                    <a:pt x="606" y="179"/>
                  </a:lnTo>
                  <a:lnTo>
                    <a:pt x="628" y="139"/>
                  </a:lnTo>
                  <a:lnTo>
                    <a:pt x="652" y="151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1"/>
                  </a:lnTo>
                  <a:lnTo>
                    <a:pt x="837" y="263"/>
                  </a:lnTo>
                  <a:lnTo>
                    <a:pt x="810" y="294"/>
                  </a:lnTo>
                  <a:lnTo>
                    <a:pt x="840" y="318"/>
                  </a:lnTo>
                  <a:lnTo>
                    <a:pt x="540" y="682"/>
                  </a:lnTo>
                  <a:lnTo>
                    <a:pt x="567" y="694"/>
                  </a:lnTo>
                  <a:lnTo>
                    <a:pt x="452" y="837"/>
                  </a:lnTo>
                  <a:lnTo>
                    <a:pt x="433" y="822"/>
                  </a:lnTo>
                  <a:lnTo>
                    <a:pt x="264" y="1025"/>
                  </a:lnTo>
                  <a:lnTo>
                    <a:pt x="0" y="870"/>
                  </a:lnTo>
                  <a:lnTo>
                    <a:pt x="164" y="667"/>
                  </a:lnTo>
                  <a:lnTo>
                    <a:pt x="146" y="649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49600" y="146520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5">
                  <a:moveTo>
                    <a:pt x="146" y="649"/>
                  </a:moveTo>
                  <a:lnTo>
                    <a:pt x="255" y="510"/>
                  </a:lnTo>
                  <a:lnTo>
                    <a:pt x="279" y="521"/>
                  </a:lnTo>
                  <a:lnTo>
                    <a:pt x="576" y="154"/>
                  </a:lnTo>
                  <a:lnTo>
                    <a:pt x="606" y="179"/>
                  </a:lnTo>
                  <a:lnTo>
                    <a:pt x="628" y="139"/>
                  </a:lnTo>
                  <a:lnTo>
                    <a:pt x="652" y="151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1"/>
                  </a:lnTo>
                  <a:lnTo>
                    <a:pt x="837" y="263"/>
                  </a:lnTo>
                  <a:lnTo>
                    <a:pt x="810" y="294"/>
                  </a:lnTo>
                  <a:lnTo>
                    <a:pt x="840" y="318"/>
                  </a:lnTo>
                  <a:lnTo>
                    <a:pt x="540" y="682"/>
                  </a:lnTo>
                  <a:lnTo>
                    <a:pt x="567" y="694"/>
                  </a:lnTo>
                  <a:lnTo>
                    <a:pt x="452" y="837"/>
                  </a:lnTo>
                  <a:lnTo>
                    <a:pt x="433" y="822"/>
                  </a:lnTo>
                  <a:lnTo>
                    <a:pt x="264" y="1025"/>
                  </a:lnTo>
                  <a:lnTo>
                    <a:pt x="0" y="870"/>
                  </a:lnTo>
                  <a:lnTo>
                    <a:pt x="164" y="667"/>
                  </a:lnTo>
                  <a:lnTo>
                    <a:pt x="146" y="64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84360" y="184932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9">
                  <a:moveTo>
                    <a:pt x="85" y="490"/>
                  </a:moveTo>
                  <a:lnTo>
                    <a:pt x="243" y="138"/>
                  </a:lnTo>
                  <a:lnTo>
                    <a:pt x="489" y="138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8"/>
                  </a:lnTo>
                  <a:lnTo>
                    <a:pt x="886" y="138"/>
                  </a:lnTo>
                  <a:lnTo>
                    <a:pt x="1046" y="490"/>
                  </a:lnTo>
                  <a:lnTo>
                    <a:pt x="1128" y="490"/>
                  </a:lnTo>
                  <a:lnTo>
                    <a:pt x="1128" y="559"/>
                  </a:lnTo>
                  <a:lnTo>
                    <a:pt x="0" y="559"/>
                  </a:lnTo>
                  <a:lnTo>
                    <a:pt x="0" y="490"/>
                  </a:lnTo>
                  <a:lnTo>
                    <a:pt x="85" y="4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360" y="184932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9">
                  <a:moveTo>
                    <a:pt x="85" y="490"/>
                  </a:moveTo>
                  <a:lnTo>
                    <a:pt x="243" y="138"/>
                  </a:lnTo>
                  <a:lnTo>
                    <a:pt x="489" y="138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8"/>
                  </a:lnTo>
                  <a:lnTo>
                    <a:pt x="886" y="138"/>
                  </a:lnTo>
                  <a:lnTo>
                    <a:pt x="1046" y="490"/>
                  </a:lnTo>
                  <a:lnTo>
                    <a:pt x="1128" y="490"/>
                  </a:lnTo>
                  <a:lnTo>
                    <a:pt x="1128" y="559"/>
                  </a:lnTo>
                  <a:lnTo>
                    <a:pt x="0" y="559"/>
                  </a:lnTo>
                  <a:lnTo>
                    <a:pt x="0" y="490"/>
                  </a:lnTo>
                  <a:lnTo>
                    <a:pt x="85" y="49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25840" y="1917720"/>
              <a:ext cx="75960" cy="763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240" y="118"/>
                  </a:moveTo>
                  <a:lnTo>
                    <a:pt x="240" y="113"/>
                  </a:lnTo>
                  <a:lnTo>
                    <a:pt x="237" y="100"/>
                  </a:lnTo>
                  <a:lnTo>
                    <a:pt x="234" y="88"/>
                  </a:lnTo>
                  <a:lnTo>
                    <a:pt x="231" y="79"/>
                  </a:lnTo>
                  <a:lnTo>
                    <a:pt x="228" y="67"/>
                  </a:lnTo>
                  <a:lnTo>
                    <a:pt x="221" y="58"/>
                  </a:lnTo>
                  <a:lnTo>
                    <a:pt x="216" y="49"/>
                  </a:lnTo>
                  <a:lnTo>
                    <a:pt x="206" y="39"/>
                  </a:lnTo>
                  <a:lnTo>
                    <a:pt x="201" y="31"/>
                  </a:lnTo>
                  <a:lnTo>
                    <a:pt x="191" y="24"/>
                  </a:lnTo>
                  <a:lnTo>
                    <a:pt x="179" y="19"/>
                  </a:lnTo>
                  <a:lnTo>
                    <a:pt x="170" y="12"/>
                  </a:lnTo>
                  <a:lnTo>
                    <a:pt x="161" y="7"/>
                  </a:lnTo>
                  <a:lnTo>
                    <a:pt x="149" y="4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4"/>
                  </a:lnTo>
                  <a:lnTo>
                    <a:pt x="77" y="7"/>
                  </a:lnTo>
                  <a:lnTo>
                    <a:pt x="67" y="12"/>
                  </a:lnTo>
                  <a:lnTo>
                    <a:pt x="58" y="19"/>
                  </a:lnTo>
                  <a:lnTo>
                    <a:pt x="45" y="24"/>
                  </a:lnTo>
                  <a:lnTo>
                    <a:pt x="37" y="31"/>
                  </a:lnTo>
                  <a:lnTo>
                    <a:pt x="30" y="39"/>
                  </a:lnTo>
                  <a:lnTo>
                    <a:pt x="21" y="49"/>
                  </a:lnTo>
                  <a:lnTo>
                    <a:pt x="15" y="58"/>
                  </a:lnTo>
                  <a:lnTo>
                    <a:pt x="10" y="67"/>
                  </a:lnTo>
                  <a:lnTo>
                    <a:pt x="6" y="79"/>
                  </a:lnTo>
                  <a:lnTo>
                    <a:pt x="3" y="88"/>
                  </a:lnTo>
                  <a:lnTo>
                    <a:pt x="0" y="100"/>
                  </a:lnTo>
                  <a:lnTo>
                    <a:pt x="0" y="118"/>
                  </a:lnTo>
                  <a:lnTo>
                    <a:pt x="0" y="125"/>
                  </a:lnTo>
                  <a:lnTo>
                    <a:pt x="0" y="137"/>
                  </a:lnTo>
                  <a:lnTo>
                    <a:pt x="3" y="148"/>
                  </a:lnTo>
                  <a:lnTo>
                    <a:pt x="6" y="161"/>
                  </a:lnTo>
                  <a:lnTo>
                    <a:pt x="10" y="173"/>
                  </a:lnTo>
                  <a:lnTo>
                    <a:pt x="15" y="182"/>
                  </a:lnTo>
                  <a:lnTo>
                    <a:pt x="21" y="192"/>
                  </a:lnTo>
                  <a:lnTo>
                    <a:pt x="30" y="200"/>
                  </a:lnTo>
                  <a:lnTo>
                    <a:pt x="37" y="210"/>
                  </a:lnTo>
                  <a:lnTo>
                    <a:pt x="45" y="215"/>
                  </a:lnTo>
                  <a:lnTo>
                    <a:pt x="58" y="222"/>
                  </a:lnTo>
                  <a:lnTo>
                    <a:pt x="67" y="228"/>
                  </a:lnTo>
                  <a:lnTo>
                    <a:pt x="77" y="234"/>
                  </a:lnTo>
                  <a:lnTo>
                    <a:pt x="88" y="237"/>
                  </a:lnTo>
                  <a:lnTo>
                    <a:pt x="100" y="240"/>
                  </a:lnTo>
                  <a:lnTo>
                    <a:pt x="119" y="240"/>
                  </a:lnTo>
                  <a:lnTo>
                    <a:pt x="124" y="240"/>
                  </a:lnTo>
                  <a:lnTo>
                    <a:pt x="137" y="240"/>
                  </a:lnTo>
                  <a:lnTo>
                    <a:pt x="149" y="237"/>
                  </a:lnTo>
                  <a:lnTo>
                    <a:pt x="161" y="234"/>
                  </a:lnTo>
                  <a:lnTo>
                    <a:pt x="170" y="228"/>
                  </a:lnTo>
                  <a:lnTo>
                    <a:pt x="179" y="222"/>
                  </a:lnTo>
                  <a:lnTo>
                    <a:pt x="191" y="215"/>
                  </a:lnTo>
                  <a:lnTo>
                    <a:pt x="201" y="210"/>
                  </a:lnTo>
                  <a:lnTo>
                    <a:pt x="206" y="200"/>
                  </a:lnTo>
                  <a:lnTo>
                    <a:pt x="216" y="192"/>
                  </a:lnTo>
                  <a:lnTo>
                    <a:pt x="221" y="182"/>
                  </a:lnTo>
                  <a:lnTo>
                    <a:pt x="228" y="173"/>
                  </a:lnTo>
                  <a:lnTo>
                    <a:pt x="231" y="161"/>
                  </a:lnTo>
                  <a:lnTo>
                    <a:pt x="234" y="148"/>
                  </a:lnTo>
                  <a:lnTo>
                    <a:pt x="237" y="137"/>
                  </a:lnTo>
                  <a:lnTo>
                    <a:pt x="240" y="11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19440" y="1652760"/>
              <a:ext cx="85680" cy="5364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66" y="170"/>
                  </a:moveTo>
                  <a:lnTo>
                    <a:pt x="270" y="167"/>
                  </a:lnTo>
                  <a:lnTo>
                    <a:pt x="3" y="0"/>
                  </a:lnTo>
                  <a:lnTo>
                    <a:pt x="0" y="9"/>
                  </a:lnTo>
                  <a:lnTo>
                    <a:pt x="266" y="173"/>
                  </a:lnTo>
                  <a:lnTo>
                    <a:pt x="266" y="1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47960" y="1525680"/>
              <a:ext cx="50760" cy="2844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7" y="87"/>
                  </a:moveTo>
                  <a:lnTo>
                    <a:pt x="160" y="84"/>
                  </a:lnTo>
                  <a:lnTo>
                    <a:pt x="3" y="0"/>
                  </a:lnTo>
                  <a:lnTo>
                    <a:pt x="0" y="5"/>
                  </a:lnTo>
                  <a:lnTo>
                    <a:pt x="157" y="91"/>
                  </a:lnTo>
                  <a:lnTo>
                    <a:pt x="157" y="8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08280" y="1682640"/>
              <a:ext cx="73080" cy="42840"/>
            </a:xfrm>
            <a:custGeom>
              <a:avLst/>
              <a:gdLst/>
              <a:ahLst/>
              <a:rect l="l" t="t" r="r" b="b"/>
              <a:pathLst>
                <a:path w="233" h="136">
                  <a:moveTo>
                    <a:pt x="233" y="1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33" y="136"/>
                  </a:lnTo>
                  <a:lnTo>
                    <a:pt x="233" y="1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86120" y="1490760"/>
              <a:ext cx="39600" cy="20520"/>
            </a:xfrm>
            <a:custGeom>
              <a:avLst/>
              <a:gdLst/>
              <a:ahLst/>
              <a:rect l="l" t="t" r="r" b="b"/>
              <a:pathLst>
                <a:path w="122" h="64">
                  <a:moveTo>
                    <a:pt x="122" y="6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19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95760" y="1573200"/>
              <a:ext cx="69840" cy="36360"/>
            </a:xfrm>
            <a:custGeom>
              <a:avLst/>
              <a:gdLst/>
              <a:ahLst/>
              <a:rect l="l" t="t" r="r" b="b"/>
              <a:pathLst>
                <a:path w="216" h="113">
                  <a:moveTo>
                    <a:pt x="216" y="11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6" y="1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62200" y="1731960"/>
              <a:ext cx="77760" cy="4608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6" y="139"/>
                  </a:moveTo>
                  <a:lnTo>
                    <a:pt x="248" y="139"/>
                  </a:lnTo>
                  <a:lnTo>
                    <a:pt x="0" y="0"/>
                  </a:lnTo>
                  <a:lnTo>
                    <a:pt x="0" y="3"/>
                  </a:lnTo>
                  <a:lnTo>
                    <a:pt x="246" y="143"/>
                  </a:lnTo>
                  <a:lnTo>
                    <a:pt x="246" y="1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41760" y="1638360"/>
              <a:ext cx="66600" cy="38160"/>
            </a:xfrm>
            <a:custGeom>
              <a:avLst/>
              <a:gdLst/>
              <a:ahLst/>
              <a:rect l="l" t="t" r="r" b="b"/>
              <a:pathLst>
                <a:path w="212" h="124">
                  <a:moveTo>
                    <a:pt x="209" y="121"/>
                  </a:moveTo>
                  <a:lnTo>
                    <a:pt x="212" y="121"/>
                  </a:lnTo>
                  <a:lnTo>
                    <a:pt x="3" y="0"/>
                  </a:lnTo>
                  <a:lnTo>
                    <a:pt x="0" y="2"/>
                  </a:lnTo>
                  <a:lnTo>
                    <a:pt x="209" y="124"/>
                  </a:lnTo>
                  <a:lnTo>
                    <a:pt x="209" y="1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38520" y="3559320"/>
              <a:ext cx="195120" cy="320400"/>
            </a:xfrm>
            <a:custGeom>
              <a:avLst/>
              <a:gdLst/>
              <a:ahLst/>
              <a:rect l="l" t="t" r="r" b="b"/>
              <a:pathLst>
                <a:path w="615" h="1013">
                  <a:moveTo>
                    <a:pt x="67" y="1010"/>
                  </a:moveTo>
                  <a:lnTo>
                    <a:pt x="8" y="1013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4"/>
                  </a:lnTo>
                  <a:lnTo>
                    <a:pt x="231" y="810"/>
                  </a:lnTo>
                  <a:lnTo>
                    <a:pt x="297" y="770"/>
                  </a:lnTo>
                  <a:lnTo>
                    <a:pt x="345" y="720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2"/>
                  </a:lnTo>
                  <a:lnTo>
                    <a:pt x="454" y="458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6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2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5"/>
                  </a:lnTo>
                  <a:lnTo>
                    <a:pt x="576" y="282"/>
                  </a:lnTo>
                  <a:lnTo>
                    <a:pt x="607" y="371"/>
                  </a:lnTo>
                  <a:lnTo>
                    <a:pt x="615" y="458"/>
                  </a:lnTo>
                  <a:lnTo>
                    <a:pt x="600" y="555"/>
                  </a:lnTo>
                  <a:lnTo>
                    <a:pt x="576" y="638"/>
                  </a:lnTo>
                  <a:lnTo>
                    <a:pt x="531" y="725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6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0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38520" y="3559320"/>
              <a:ext cx="195120" cy="320400"/>
            </a:xfrm>
            <a:custGeom>
              <a:avLst/>
              <a:gdLst/>
              <a:ahLst/>
              <a:rect l="l" t="t" r="r" b="b"/>
              <a:pathLst>
                <a:path w="615" h="1013">
                  <a:moveTo>
                    <a:pt x="67" y="1010"/>
                  </a:moveTo>
                  <a:lnTo>
                    <a:pt x="8" y="1013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4"/>
                  </a:lnTo>
                  <a:lnTo>
                    <a:pt x="231" y="810"/>
                  </a:lnTo>
                  <a:lnTo>
                    <a:pt x="297" y="770"/>
                  </a:lnTo>
                  <a:lnTo>
                    <a:pt x="345" y="720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2"/>
                  </a:lnTo>
                  <a:lnTo>
                    <a:pt x="454" y="458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6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2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5"/>
                  </a:lnTo>
                  <a:lnTo>
                    <a:pt x="576" y="282"/>
                  </a:lnTo>
                  <a:lnTo>
                    <a:pt x="607" y="371"/>
                  </a:lnTo>
                  <a:lnTo>
                    <a:pt x="615" y="458"/>
                  </a:lnTo>
                  <a:lnTo>
                    <a:pt x="600" y="555"/>
                  </a:lnTo>
                  <a:lnTo>
                    <a:pt x="576" y="638"/>
                  </a:lnTo>
                  <a:lnTo>
                    <a:pt x="531" y="725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6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49600" y="339084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6">
                  <a:moveTo>
                    <a:pt x="146" y="650"/>
                  </a:moveTo>
                  <a:lnTo>
                    <a:pt x="255" y="510"/>
                  </a:lnTo>
                  <a:lnTo>
                    <a:pt x="279" y="523"/>
                  </a:lnTo>
                  <a:lnTo>
                    <a:pt x="576" y="156"/>
                  </a:lnTo>
                  <a:lnTo>
                    <a:pt x="606" y="179"/>
                  </a:lnTo>
                  <a:lnTo>
                    <a:pt x="628" y="141"/>
                  </a:lnTo>
                  <a:lnTo>
                    <a:pt x="652" y="152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3"/>
                  </a:lnTo>
                  <a:lnTo>
                    <a:pt x="837" y="265"/>
                  </a:lnTo>
                  <a:lnTo>
                    <a:pt x="810" y="295"/>
                  </a:lnTo>
                  <a:lnTo>
                    <a:pt x="840" y="319"/>
                  </a:lnTo>
                  <a:lnTo>
                    <a:pt x="540" y="684"/>
                  </a:lnTo>
                  <a:lnTo>
                    <a:pt x="567" y="696"/>
                  </a:lnTo>
                  <a:lnTo>
                    <a:pt x="452" y="838"/>
                  </a:lnTo>
                  <a:lnTo>
                    <a:pt x="433" y="823"/>
                  </a:lnTo>
                  <a:lnTo>
                    <a:pt x="264" y="1026"/>
                  </a:lnTo>
                  <a:lnTo>
                    <a:pt x="0" y="871"/>
                  </a:lnTo>
                  <a:lnTo>
                    <a:pt x="164" y="668"/>
                  </a:lnTo>
                  <a:lnTo>
                    <a:pt x="146" y="650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49600" y="339084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6">
                  <a:moveTo>
                    <a:pt x="146" y="650"/>
                  </a:moveTo>
                  <a:lnTo>
                    <a:pt x="255" y="510"/>
                  </a:lnTo>
                  <a:lnTo>
                    <a:pt x="279" y="523"/>
                  </a:lnTo>
                  <a:lnTo>
                    <a:pt x="576" y="156"/>
                  </a:lnTo>
                  <a:lnTo>
                    <a:pt x="606" y="179"/>
                  </a:lnTo>
                  <a:lnTo>
                    <a:pt x="628" y="141"/>
                  </a:lnTo>
                  <a:lnTo>
                    <a:pt x="652" y="152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3"/>
                  </a:lnTo>
                  <a:lnTo>
                    <a:pt x="837" y="265"/>
                  </a:lnTo>
                  <a:lnTo>
                    <a:pt x="810" y="295"/>
                  </a:lnTo>
                  <a:lnTo>
                    <a:pt x="840" y="319"/>
                  </a:lnTo>
                  <a:lnTo>
                    <a:pt x="540" y="684"/>
                  </a:lnTo>
                  <a:lnTo>
                    <a:pt x="567" y="696"/>
                  </a:lnTo>
                  <a:lnTo>
                    <a:pt x="452" y="838"/>
                  </a:lnTo>
                  <a:lnTo>
                    <a:pt x="433" y="823"/>
                  </a:lnTo>
                  <a:lnTo>
                    <a:pt x="264" y="1026"/>
                  </a:lnTo>
                  <a:lnTo>
                    <a:pt x="0" y="871"/>
                  </a:lnTo>
                  <a:lnTo>
                    <a:pt x="164" y="668"/>
                  </a:lnTo>
                  <a:lnTo>
                    <a:pt x="146" y="65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484360" y="377496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8">
                  <a:moveTo>
                    <a:pt x="85" y="488"/>
                  </a:moveTo>
                  <a:lnTo>
                    <a:pt x="243" y="136"/>
                  </a:lnTo>
                  <a:lnTo>
                    <a:pt x="489" y="136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6"/>
                  </a:lnTo>
                  <a:lnTo>
                    <a:pt x="886" y="136"/>
                  </a:lnTo>
                  <a:lnTo>
                    <a:pt x="1046" y="488"/>
                  </a:lnTo>
                  <a:lnTo>
                    <a:pt x="1128" y="488"/>
                  </a:lnTo>
                  <a:lnTo>
                    <a:pt x="1128" y="558"/>
                  </a:lnTo>
                  <a:lnTo>
                    <a:pt x="0" y="558"/>
                  </a:lnTo>
                  <a:lnTo>
                    <a:pt x="0" y="488"/>
                  </a:lnTo>
                  <a:lnTo>
                    <a:pt x="85" y="48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84360" y="377496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8">
                  <a:moveTo>
                    <a:pt x="85" y="488"/>
                  </a:moveTo>
                  <a:lnTo>
                    <a:pt x="243" y="136"/>
                  </a:lnTo>
                  <a:lnTo>
                    <a:pt x="489" y="136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6"/>
                  </a:lnTo>
                  <a:lnTo>
                    <a:pt x="886" y="136"/>
                  </a:lnTo>
                  <a:lnTo>
                    <a:pt x="1046" y="488"/>
                  </a:lnTo>
                  <a:lnTo>
                    <a:pt x="1128" y="488"/>
                  </a:lnTo>
                  <a:lnTo>
                    <a:pt x="1128" y="558"/>
                  </a:lnTo>
                  <a:lnTo>
                    <a:pt x="0" y="558"/>
                  </a:lnTo>
                  <a:lnTo>
                    <a:pt x="0" y="488"/>
                  </a:lnTo>
                  <a:lnTo>
                    <a:pt x="85" y="4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25840" y="3844800"/>
              <a:ext cx="75960" cy="74880"/>
            </a:xfrm>
            <a:custGeom>
              <a:avLst/>
              <a:gdLst/>
              <a:ahLst/>
              <a:rect l="l" t="t" r="r" b="b"/>
              <a:pathLst>
                <a:path w="240" h="239">
                  <a:moveTo>
                    <a:pt x="240" y="118"/>
                  </a:moveTo>
                  <a:lnTo>
                    <a:pt x="240" y="111"/>
                  </a:lnTo>
                  <a:lnTo>
                    <a:pt x="237" y="99"/>
                  </a:lnTo>
                  <a:lnTo>
                    <a:pt x="234" y="87"/>
                  </a:lnTo>
                  <a:lnTo>
                    <a:pt x="231" y="79"/>
                  </a:lnTo>
                  <a:lnTo>
                    <a:pt x="228" y="66"/>
                  </a:lnTo>
                  <a:lnTo>
                    <a:pt x="221" y="57"/>
                  </a:lnTo>
                  <a:lnTo>
                    <a:pt x="216" y="47"/>
                  </a:lnTo>
                  <a:lnTo>
                    <a:pt x="206" y="39"/>
                  </a:lnTo>
                  <a:lnTo>
                    <a:pt x="201" y="30"/>
                  </a:lnTo>
                  <a:lnTo>
                    <a:pt x="191" y="24"/>
                  </a:lnTo>
                  <a:lnTo>
                    <a:pt x="179" y="17"/>
                  </a:lnTo>
                  <a:lnTo>
                    <a:pt x="170" y="12"/>
                  </a:lnTo>
                  <a:lnTo>
                    <a:pt x="161" y="5"/>
                  </a:lnTo>
                  <a:lnTo>
                    <a:pt x="149" y="2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2"/>
                  </a:lnTo>
                  <a:lnTo>
                    <a:pt x="77" y="5"/>
                  </a:lnTo>
                  <a:lnTo>
                    <a:pt x="67" y="12"/>
                  </a:lnTo>
                  <a:lnTo>
                    <a:pt x="58" y="17"/>
                  </a:lnTo>
                  <a:lnTo>
                    <a:pt x="45" y="24"/>
                  </a:lnTo>
                  <a:lnTo>
                    <a:pt x="37" y="30"/>
                  </a:lnTo>
                  <a:lnTo>
                    <a:pt x="30" y="39"/>
                  </a:lnTo>
                  <a:lnTo>
                    <a:pt x="21" y="47"/>
                  </a:lnTo>
                  <a:lnTo>
                    <a:pt x="15" y="57"/>
                  </a:lnTo>
                  <a:lnTo>
                    <a:pt x="10" y="66"/>
                  </a:lnTo>
                  <a:lnTo>
                    <a:pt x="6" y="79"/>
                  </a:lnTo>
                  <a:lnTo>
                    <a:pt x="3" y="87"/>
                  </a:lnTo>
                  <a:lnTo>
                    <a:pt x="0" y="99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36"/>
                  </a:lnTo>
                  <a:lnTo>
                    <a:pt x="3" y="148"/>
                  </a:lnTo>
                  <a:lnTo>
                    <a:pt x="6" y="160"/>
                  </a:lnTo>
                  <a:lnTo>
                    <a:pt x="10" y="172"/>
                  </a:lnTo>
                  <a:lnTo>
                    <a:pt x="15" y="181"/>
                  </a:lnTo>
                  <a:lnTo>
                    <a:pt x="21" y="190"/>
                  </a:lnTo>
                  <a:lnTo>
                    <a:pt x="30" y="200"/>
                  </a:lnTo>
                  <a:lnTo>
                    <a:pt x="37" y="208"/>
                  </a:lnTo>
                  <a:lnTo>
                    <a:pt x="45" y="215"/>
                  </a:lnTo>
                  <a:lnTo>
                    <a:pt x="58" y="220"/>
                  </a:lnTo>
                  <a:lnTo>
                    <a:pt x="67" y="227"/>
                  </a:lnTo>
                  <a:lnTo>
                    <a:pt x="77" y="233"/>
                  </a:lnTo>
                  <a:lnTo>
                    <a:pt x="88" y="235"/>
                  </a:lnTo>
                  <a:lnTo>
                    <a:pt x="100" y="239"/>
                  </a:lnTo>
                  <a:lnTo>
                    <a:pt x="119" y="239"/>
                  </a:lnTo>
                  <a:lnTo>
                    <a:pt x="124" y="239"/>
                  </a:lnTo>
                  <a:lnTo>
                    <a:pt x="137" y="239"/>
                  </a:lnTo>
                  <a:lnTo>
                    <a:pt x="149" y="235"/>
                  </a:lnTo>
                  <a:lnTo>
                    <a:pt x="161" y="233"/>
                  </a:lnTo>
                  <a:lnTo>
                    <a:pt x="170" y="227"/>
                  </a:lnTo>
                  <a:lnTo>
                    <a:pt x="179" y="220"/>
                  </a:lnTo>
                  <a:lnTo>
                    <a:pt x="191" y="215"/>
                  </a:lnTo>
                  <a:lnTo>
                    <a:pt x="201" y="208"/>
                  </a:lnTo>
                  <a:lnTo>
                    <a:pt x="206" y="200"/>
                  </a:lnTo>
                  <a:lnTo>
                    <a:pt x="216" y="190"/>
                  </a:lnTo>
                  <a:lnTo>
                    <a:pt x="221" y="181"/>
                  </a:lnTo>
                  <a:lnTo>
                    <a:pt x="228" y="172"/>
                  </a:lnTo>
                  <a:lnTo>
                    <a:pt x="231" y="160"/>
                  </a:lnTo>
                  <a:lnTo>
                    <a:pt x="234" y="148"/>
                  </a:lnTo>
                  <a:lnTo>
                    <a:pt x="237" y="136"/>
                  </a:lnTo>
                  <a:lnTo>
                    <a:pt x="240" y="11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19440" y="3578400"/>
              <a:ext cx="85680" cy="5544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66" y="170"/>
                  </a:moveTo>
                  <a:lnTo>
                    <a:pt x="270" y="167"/>
                  </a:lnTo>
                  <a:lnTo>
                    <a:pt x="3" y="0"/>
                  </a:lnTo>
                  <a:lnTo>
                    <a:pt x="0" y="10"/>
                  </a:lnTo>
                  <a:lnTo>
                    <a:pt x="266" y="173"/>
                  </a:lnTo>
                  <a:lnTo>
                    <a:pt x="266" y="1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47960" y="3452760"/>
              <a:ext cx="50760" cy="2880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7" y="88"/>
                  </a:moveTo>
                  <a:lnTo>
                    <a:pt x="160" y="85"/>
                  </a:lnTo>
                  <a:lnTo>
                    <a:pt x="3" y="0"/>
                  </a:lnTo>
                  <a:lnTo>
                    <a:pt x="0" y="6"/>
                  </a:lnTo>
                  <a:lnTo>
                    <a:pt x="157" y="91"/>
                  </a:lnTo>
                  <a:lnTo>
                    <a:pt x="157" y="8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08280" y="3608280"/>
              <a:ext cx="73080" cy="44640"/>
            </a:xfrm>
            <a:custGeom>
              <a:avLst/>
              <a:gdLst/>
              <a:ahLst/>
              <a:rect l="l" t="t" r="r" b="b"/>
              <a:pathLst>
                <a:path w="233" h="137">
                  <a:moveTo>
                    <a:pt x="233" y="13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33" y="137"/>
                  </a:lnTo>
                  <a:lnTo>
                    <a:pt x="233" y="1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86120" y="3417840"/>
              <a:ext cx="39600" cy="19080"/>
            </a:xfrm>
            <a:custGeom>
              <a:avLst/>
              <a:gdLst/>
              <a:ahLst/>
              <a:rect l="l" t="t" r="r" b="b"/>
              <a:pathLst>
                <a:path w="122" h="64">
                  <a:moveTo>
                    <a:pt x="122" y="6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19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95760" y="3500280"/>
              <a:ext cx="69840" cy="34920"/>
            </a:xfrm>
            <a:custGeom>
              <a:avLst/>
              <a:gdLst/>
              <a:ahLst/>
              <a:rect l="l" t="t" r="r" b="b"/>
              <a:pathLst>
                <a:path w="216" h="112">
                  <a:moveTo>
                    <a:pt x="216" y="112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6" y="1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62200" y="3657600"/>
              <a:ext cx="77760" cy="4608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6" y="141"/>
                  </a:moveTo>
                  <a:lnTo>
                    <a:pt x="248" y="141"/>
                  </a:lnTo>
                  <a:lnTo>
                    <a:pt x="0" y="0"/>
                  </a:lnTo>
                  <a:lnTo>
                    <a:pt x="0" y="4"/>
                  </a:lnTo>
                  <a:lnTo>
                    <a:pt x="246" y="143"/>
                  </a:lnTo>
                  <a:lnTo>
                    <a:pt x="246" y="1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41760" y="3564000"/>
              <a:ext cx="66600" cy="39600"/>
            </a:xfrm>
            <a:custGeom>
              <a:avLst/>
              <a:gdLst/>
              <a:ahLst/>
              <a:rect l="l" t="t" r="r" b="b"/>
              <a:pathLst>
                <a:path w="212" h="125">
                  <a:moveTo>
                    <a:pt x="209" y="122"/>
                  </a:moveTo>
                  <a:lnTo>
                    <a:pt x="212" y="122"/>
                  </a:lnTo>
                  <a:lnTo>
                    <a:pt x="3" y="0"/>
                  </a:lnTo>
                  <a:lnTo>
                    <a:pt x="0" y="4"/>
                  </a:lnTo>
                  <a:lnTo>
                    <a:pt x="209" y="125"/>
                  </a:lnTo>
                  <a:lnTo>
                    <a:pt x="209" y="1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295000" y="557280"/>
            <a:ext cx="456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WINDOW PERIO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484360" y="1465200"/>
            <a:ext cx="4164120" cy="4714560"/>
            <a:chOff x="2484360" y="1465200"/>
            <a:chExt cx="4164120" cy="4714560"/>
          </a:xfrm>
        </p:grpSpPr>
        <p:sp>
          <p:nvSpPr>
            <p:cNvPr id="500" name=""/>
            <p:cNvSpPr/>
            <p:nvPr/>
          </p:nvSpPr>
          <p:spPr>
            <a:xfrm>
              <a:off x="3498840" y="1762200"/>
              <a:ext cx="3149640" cy="386712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37080" y="1882800"/>
              <a:ext cx="2873160" cy="362592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76760" y="2004840"/>
              <a:ext cx="2597040" cy="1741680"/>
            </a:xfrm>
            <a:prstGeom prst="rect">
              <a:avLst/>
            </a:pr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76760" y="2004840"/>
              <a:ext cx="2597040" cy="174168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76760" y="3863880"/>
              <a:ext cx="2597040" cy="1522440"/>
            </a:xfrm>
            <a:prstGeom prst="rect">
              <a:avLst/>
            </a:pr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76760" y="3863880"/>
              <a:ext cx="2597040" cy="152244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76760" y="2844720"/>
              <a:ext cx="2611440" cy="1800"/>
            </a:xfrm>
            <a:custGeom>
              <a:avLst/>
              <a:gdLst/>
              <a:ahLst/>
              <a:rect l="l" t="t" r="r" b="b"/>
              <a:pathLst>
                <a:path w="8227" h="0">
                  <a:moveTo>
                    <a:pt x="0" y="0"/>
                  </a:moveTo>
                  <a:lnTo>
                    <a:pt x="8227" y="0"/>
                  </a:lnTo>
                  <a:lnTo>
                    <a:pt x="8172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92600" y="4546440"/>
              <a:ext cx="257796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335280" y="3863880"/>
              <a:ext cx="17316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637080" y="3863880"/>
              <a:ext cx="13968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1648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41648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7528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7528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940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2940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962440" y="1782720"/>
              <a:ext cx="21240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62440" y="242712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62440" y="307008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62440" y="371628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62440" y="4361040"/>
              <a:ext cx="212400" cy="144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62440" y="5005440"/>
              <a:ext cx="212400" cy="144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962440" y="5649840"/>
              <a:ext cx="21240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46320" y="1766880"/>
              <a:ext cx="1800" cy="388296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35440" y="5697360"/>
              <a:ext cx="58680" cy="63720"/>
            </a:xfrm>
            <a:custGeom>
              <a:avLst/>
              <a:gdLst/>
              <a:ahLst/>
              <a:rect l="l" t="t" r="r" b="b"/>
              <a:pathLst>
                <a:path w="183" h="202">
                  <a:moveTo>
                    <a:pt x="97" y="1"/>
                  </a:moveTo>
                  <a:lnTo>
                    <a:pt x="97" y="0"/>
                  </a:lnTo>
                  <a:lnTo>
                    <a:pt x="84" y="8"/>
                  </a:lnTo>
                  <a:lnTo>
                    <a:pt x="71" y="15"/>
                  </a:lnTo>
                  <a:lnTo>
                    <a:pt x="59" y="24"/>
                  </a:lnTo>
                  <a:lnTo>
                    <a:pt x="46" y="33"/>
                  </a:lnTo>
                  <a:lnTo>
                    <a:pt x="34" y="41"/>
                  </a:lnTo>
                  <a:lnTo>
                    <a:pt x="23" y="51"/>
                  </a:lnTo>
                  <a:lnTo>
                    <a:pt x="12" y="61"/>
                  </a:lnTo>
                  <a:lnTo>
                    <a:pt x="0" y="70"/>
                  </a:lnTo>
                  <a:lnTo>
                    <a:pt x="122" y="202"/>
                  </a:lnTo>
                  <a:lnTo>
                    <a:pt x="128" y="196"/>
                  </a:lnTo>
                  <a:lnTo>
                    <a:pt x="136" y="190"/>
                  </a:lnTo>
                  <a:lnTo>
                    <a:pt x="143" y="184"/>
                  </a:lnTo>
                  <a:lnTo>
                    <a:pt x="151" y="178"/>
                  </a:lnTo>
                  <a:lnTo>
                    <a:pt x="160" y="173"/>
                  </a:lnTo>
                  <a:lnTo>
                    <a:pt x="167" y="168"/>
                  </a:lnTo>
                  <a:lnTo>
                    <a:pt x="176" y="162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67120" y="5695920"/>
              <a:ext cx="55440" cy="50760"/>
            </a:xfrm>
            <a:custGeom>
              <a:avLst/>
              <a:gdLst/>
              <a:ahLst/>
              <a:rect l="l" t="t" r="r" b="b"/>
              <a:pathLst>
                <a:path w="176" h="162">
                  <a:moveTo>
                    <a:pt x="130" y="33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86" y="162"/>
                  </a:lnTo>
                  <a:lnTo>
                    <a:pt x="95" y="156"/>
                  </a:lnTo>
                  <a:lnTo>
                    <a:pt x="130" y="33"/>
                  </a:lnTo>
                  <a:lnTo>
                    <a:pt x="95" y="156"/>
                  </a:lnTo>
                  <a:lnTo>
                    <a:pt x="176" y="112"/>
                  </a:lnTo>
                  <a:lnTo>
                    <a:pt x="13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51280" y="5697360"/>
              <a:ext cx="56880" cy="38160"/>
            </a:xfrm>
            <a:custGeom>
              <a:avLst/>
              <a:gdLst/>
              <a:ahLst/>
              <a:rect l="l" t="t" r="r" b="b"/>
              <a:pathLst>
                <a:path w="177" h="117">
                  <a:moveTo>
                    <a:pt x="0" y="65"/>
                  </a:moveTo>
                  <a:lnTo>
                    <a:pt x="2" y="71"/>
                  </a:lnTo>
                  <a:lnTo>
                    <a:pt x="3" y="73"/>
                  </a:lnTo>
                  <a:lnTo>
                    <a:pt x="4" y="75"/>
                  </a:lnTo>
                  <a:lnTo>
                    <a:pt x="5" y="79"/>
                  </a:lnTo>
                  <a:lnTo>
                    <a:pt x="7" y="85"/>
                  </a:lnTo>
                  <a:lnTo>
                    <a:pt x="9" y="90"/>
                  </a:lnTo>
                  <a:lnTo>
                    <a:pt x="13" y="99"/>
                  </a:lnTo>
                  <a:lnTo>
                    <a:pt x="17" y="108"/>
                  </a:lnTo>
                  <a:lnTo>
                    <a:pt x="21" y="117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6" y="24"/>
                  </a:lnTo>
                  <a:lnTo>
                    <a:pt x="174" y="20"/>
                  </a:lnTo>
                  <a:lnTo>
                    <a:pt x="172" y="14"/>
                  </a:lnTo>
                  <a:lnTo>
                    <a:pt x="170" y="8"/>
                  </a:lnTo>
                  <a:lnTo>
                    <a:pt x="167" y="0"/>
                  </a:lnTo>
                  <a:lnTo>
                    <a:pt x="169" y="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48040" y="5670720"/>
              <a:ext cx="57240" cy="52200"/>
            </a:xfrm>
            <a:custGeom>
              <a:avLst/>
              <a:gdLst/>
              <a:ahLst/>
              <a:rect l="l" t="t" r="r" b="b"/>
              <a:pathLst>
                <a:path w="180" h="165">
                  <a:moveTo>
                    <a:pt x="61" y="0"/>
                  </a:moveTo>
                  <a:lnTo>
                    <a:pt x="59" y="1"/>
                  </a:lnTo>
                  <a:lnTo>
                    <a:pt x="24" y="28"/>
                  </a:lnTo>
                  <a:lnTo>
                    <a:pt x="6" y="60"/>
                  </a:lnTo>
                  <a:lnTo>
                    <a:pt x="1" y="86"/>
                  </a:lnTo>
                  <a:lnTo>
                    <a:pt x="0" y="105"/>
                  </a:lnTo>
                  <a:lnTo>
                    <a:pt x="2" y="120"/>
                  </a:lnTo>
                  <a:lnTo>
                    <a:pt x="5" y="133"/>
                  </a:lnTo>
                  <a:lnTo>
                    <a:pt x="7" y="143"/>
                  </a:lnTo>
                  <a:lnTo>
                    <a:pt x="11" y="153"/>
                  </a:lnTo>
                  <a:lnTo>
                    <a:pt x="180" y="93"/>
                  </a:lnTo>
                  <a:lnTo>
                    <a:pt x="180" y="93"/>
                  </a:lnTo>
                  <a:lnTo>
                    <a:pt x="179" y="92"/>
                  </a:lnTo>
                  <a:lnTo>
                    <a:pt x="180" y="92"/>
                  </a:lnTo>
                  <a:lnTo>
                    <a:pt x="180" y="95"/>
                  </a:lnTo>
                  <a:lnTo>
                    <a:pt x="180" y="101"/>
                  </a:lnTo>
                  <a:lnTo>
                    <a:pt x="177" y="118"/>
                  </a:lnTo>
                  <a:lnTo>
                    <a:pt x="162" y="142"/>
                  </a:lnTo>
                  <a:lnTo>
                    <a:pt x="134" y="164"/>
                  </a:lnTo>
                  <a:lnTo>
                    <a:pt x="131" y="16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63880" y="5667480"/>
              <a:ext cx="57240" cy="83880"/>
            </a:xfrm>
            <a:custGeom>
              <a:avLst/>
              <a:gdLst/>
              <a:ahLst/>
              <a:rect l="l" t="t" r="r" b="b"/>
              <a:pathLst>
                <a:path w="181" h="269">
                  <a:moveTo>
                    <a:pt x="64" y="70"/>
                  </a:moveTo>
                  <a:lnTo>
                    <a:pt x="181" y="110"/>
                  </a:lnTo>
                  <a:lnTo>
                    <a:pt x="175" y="97"/>
                  </a:lnTo>
                  <a:lnTo>
                    <a:pt x="169" y="84"/>
                  </a:lnTo>
                  <a:lnTo>
                    <a:pt x="162" y="70"/>
                  </a:lnTo>
                  <a:lnTo>
                    <a:pt x="154" y="55"/>
                  </a:lnTo>
                  <a:lnTo>
                    <a:pt x="143" y="41"/>
                  </a:lnTo>
                  <a:lnTo>
                    <a:pt x="132" y="29"/>
                  </a:lnTo>
                  <a:lnTo>
                    <a:pt x="117" y="17"/>
                  </a:lnTo>
                  <a:lnTo>
                    <a:pt x="96" y="7"/>
                  </a:lnTo>
                  <a:lnTo>
                    <a:pt x="72" y="1"/>
                  </a:lnTo>
                  <a:lnTo>
                    <a:pt x="50" y="0"/>
                  </a:lnTo>
                  <a:lnTo>
                    <a:pt x="29" y="4"/>
                  </a:lnTo>
                  <a:lnTo>
                    <a:pt x="13" y="10"/>
                  </a:lnTo>
                  <a:lnTo>
                    <a:pt x="83" y="175"/>
                  </a:lnTo>
                  <a:lnTo>
                    <a:pt x="77" y="177"/>
                  </a:lnTo>
                  <a:lnTo>
                    <a:pt x="65" y="180"/>
                  </a:lnTo>
                  <a:lnTo>
                    <a:pt x="51" y="179"/>
                  </a:lnTo>
                  <a:lnTo>
                    <a:pt x="34" y="175"/>
                  </a:lnTo>
                  <a:lnTo>
                    <a:pt x="20" y="169"/>
                  </a:lnTo>
                  <a:lnTo>
                    <a:pt x="10" y="161"/>
                  </a:lnTo>
                  <a:lnTo>
                    <a:pt x="5" y="156"/>
                  </a:lnTo>
                  <a:lnTo>
                    <a:pt x="0" y="148"/>
                  </a:lnTo>
                  <a:lnTo>
                    <a:pt x="2" y="152"/>
                  </a:lnTo>
                  <a:lnTo>
                    <a:pt x="7" y="161"/>
                  </a:lnTo>
                  <a:lnTo>
                    <a:pt x="13" y="175"/>
                  </a:lnTo>
                  <a:lnTo>
                    <a:pt x="23" y="193"/>
                  </a:lnTo>
                  <a:lnTo>
                    <a:pt x="140" y="233"/>
                  </a:lnTo>
                  <a:lnTo>
                    <a:pt x="23" y="193"/>
                  </a:lnTo>
                  <a:lnTo>
                    <a:pt x="62" y="269"/>
                  </a:lnTo>
                  <a:lnTo>
                    <a:pt x="140" y="233"/>
                  </a:lnTo>
                  <a:lnTo>
                    <a:pt x="64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84400" y="5686560"/>
              <a:ext cx="27000" cy="54000"/>
            </a:xfrm>
            <a:custGeom>
              <a:avLst/>
              <a:gdLst/>
              <a:ahLst/>
              <a:rect l="l" t="t" r="r" b="b"/>
              <a:pathLst>
                <a:path w="87" h="171">
                  <a:moveTo>
                    <a:pt x="19" y="0"/>
                  </a:moveTo>
                  <a:lnTo>
                    <a:pt x="13" y="3"/>
                  </a:lnTo>
                  <a:lnTo>
                    <a:pt x="0" y="8"/>
                  </a:lnTo>
                  <a:lnTo>
                    <a:pt x="76" y="171"/>
                  </a:lnTo>
                  <a:lnTo>
                    <a:pt x="87" y="16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89440" y="5675400"/>
              <a:ext cx="58680" cy="65160"/>
            </a:xfrm>
            <a:custGeom>
              <a:avLst/>
              <a:gdLst/>
              <a:ahLst/>
              <a:rect l="l" t="t" r="r" b="b"/>
              <a:pathLst>
                <a:path w="184" h="201">
                  <a:moveTo>
                    <a:pt x="184" y="0"/>
                  </a:moveTo>
                  <a:lnTo>
                    <a:pt x="184" y="0"/>
                  </a:lnTo>
                  <a:lnTo>
                    <a:pt x="160" y="0"/>
                  </a:lnTo>
                  <a:lnTo>
                    <a:pt x="137" y="2"/>
                  </a:lnTo>
                  <a:lnTo>
                    <a:pt x="113" y="5"/>
                  </a:lnTo>
                  <a:lnTo>
                    <a:pt x="90" y="9"/>
                  </a:lnTo>
                  <a:lnTo>
                    <a:pt x="66" y="13"/>
                  </a:lnTo>
                  <a:lnTo>
                    <a:pt x="45" y="19"/>
                  </a:lnTo>
                  <a:lnTo>
                    <a:pt x="22" y="25"/>
                  </a:lnTo>
                  <a:lnTo>
                    <a:pt x="0" y="33"/>
                  </a:lnTo>
                  <a:lnTo>
                    <a:pt x="62" y="201"/>
                  </a:lnTo>
                  <a:lnTo>
                    <a:pt x="76" y="197"/>
                  </a:lnTo>
                  <a:lnTo>
                    <a:pt x="91" y="192"/>
                  </a:lnTo>
                  <a:lnTo>
                    <a:pt x="106" y="188"/>
                  </a:lnTo>
                  <a:lnTo>
                    <a:pt x="121" y="185"/>
                  </a:lnTo>
                  <a:lnTo>
                    <a:pt x="137" y="183"/>
                  </a:lnTo>
                  <a:lnTo>
                    <a:pt x="153" y="181"/>
                  </a:lnTo>
                  <a:lnTo>
                    <a:pt x="168" y="180"/>
                  </a:lnTo>
                  <a:lnTo>
                    <a:pt x="184" y="180"/>
                  </a:lnTo>
                  <a:lnTo>
                    <a:pt x="184" y="18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8120" y="5675400"/>
              <a:ext cx="52200" cy="60120"/>
            </a:xfrm>
            <a:custGeom>
              <a:avLst/>
              <a:gdLst/>
              <a:ahLst/>
              <a:rect l="l" t="t" r="r" b="b"/>
              <a:pathLst>
                <a:path w="165" h="190">
                  <a:moveTo>
                    <a:pt x="165" y="30"/>
                  </a:moveTo>
                  <a:lnTo>
                    <a:pt x="132" y="16"/>
                  </a:lnTo>
                  <a:lnTo>
                    <a:pt x="116" y="12"/>
                  </a:lnTo>
                  <a:lnTo>
                    <a:pt x="99" y="9"/>
                  </a:lnTo>
                  <a:lnTo>
                    <a:pt x="83" y="7"/>
                  </a:lnTo>
                  <a:lnTo>
                    <a:pt x="67" y="5"/>
                  </a:lnTo>
                  <a:lnTo>
                    <a:pt x="50" y="2"/>
                  </a:lnTo>
                  <a:lnTo>
                    <a:pt x="33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11" y="180"/>
                  </a:lnTo>
                  <a:lnTo>
                    <a:pt x="23" y="181"/>
                  </a:lnTo>
                  <a:lnTo>
                    <a:pt x="33" y="181"/>
                  </a:lnTo>
                  <a:lnTo>
                    <a:pt x="45" y="183"/>
                  </a:lnTo>
                  <a:lnTo>
                    <a:pt x="56" y="184"/>
                  </a:lnTo>
                  <a:lnTo>
                    <a:pt x="67" y="186"/>
                  </a:lnTo>
                  <a:lnTo>
                    <a:pt x="79" y="188"/>
                  </a:lnTo>
                  <a:lnTo>
                    <a:pt x="90" y="190"/>
                  </a:lnTo>
                  <a:lnTo>
                    <a:pt x="56" y="175"/>
                  </a:lnTo>
                  <a:lnTo>
                    <a:pt x="165" y="30"/>
                  </a:lnTo>
                  <a:lnTo>
                    <a:pt x="150" y="21"/>
                  </a:lnTo>
                  <a:lnTo>
                    <a:pt x="132" y="16"/>
                  </a:lnTo>
                  <a:lnTo>
                    <a:pt x="165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65400" y="5684760"/>
              <a:ext cx="47520" cy="74520"/>
            </a:xfrm>
            <a:custGeom>
              <a:avLst/>
              <a:gdLst/>
              <a:ahLst/>
              <a:rect l="l" t="t" r="r" b="b"/>
              <a:pathLst>
                <a:path w="146" h="234">
                  <a:moveTo>
                    <a:pt x="146" y="94"/>
                  </a:moveTo>
                  <a:lnTo>
                    <a:pt x="112" y="4"/>
                  </a:lnTo>
                  <a:lnTo>
                    <a:pt x="109" y="0"/>
                  </a:lnTo>
                  <a:lnTo>
                    <a:pt x="0" y="145"/>
                  </a:lnTo>
                  <a:lnTo>
                    <a:pt x="4" y="148"/>
                  </a:lnTo>
                  <a:lnTo>
                    <a:pt x="146" y="94"/>
                  </a:lnTo>
                  <a:lnTo>
                    <a:pt x="4" y="148"/>
                  </a:lnTo>
                  <a:lnTo>
                    <a:pt x="117" y="234"/>
                  </a:lnTo>
                  <a:lnTo>
                    <a:pt x="146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57480" y="5691240"/>
              <a:ext cx="58680" cy="23760"/>
            </a:xfrm>
            <a:custGeom>
              <a:avLst/>
              <a:gdLst/>
              <a:ahLst/>
              <a:rect l="l" t="t" r="r" b="b"/>
              <a:pathLst>
                <a:path w="187" h="77">
                  <a:moveTo>
                    <a:pt x="12" y="0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175" y="77"/>
                  </a:lnTo>
                  <a:lnTo>
                    <a:pt x="175" y="77"/>
                  </a:lnTo>
                  <a:lnTo>
                    <a:pt x="176" y="77"/>
                  </a:lnTo>
                  <a:lnTo>
                    <a:pt x="176" y="76"/>
                  </a:lnTo>
                  <a:lnTo>
                    <a:pt x="177" y="73"/>
                  </a:lnTo>
                  <a:lnTo>
                    <a:pt x="179" y="68"/>
                  </a:lnTo>
                  <a:lnTo>
                    <a:pt x="181" y="61"/>
                  </a:lnTo>
                  <a:lnTo>
                    <a:pt x="185" y="52"/>
                  </a:lnTo>
                  <a:lnTo>
                    <a:pt x="187" y="42"/>
                  </a:lnTo>
                  <a:lnTo>
                    <a:pt x="185" y="4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60720" y="5659560"/>
              <a:ext cx="55440" cy="56880"/>
            </a:xfrm>
            <a:custGeom>
              <a:avLst/>
              <a:gdLst/>
              <a:ahLst/>
              <a:rect l="l" t="t" r="r" b="b"/>
              <a:pathLst>
                <a:path w="174" h="179">
                  <a:moveTo>
                    <a:pt x="121" y="0"/>
                  </a:moveTo>
                  <a:lnTo>
                    <a:pt x="126" y="0"/>
                  </a:lnTo>
                  <a:lnTo>
                    <a:pt x="78" y="5"/>
                  </a:lnTo>
                  <a:lnTo>
                    <a:pt x="46" y="22"/>
                  </a:lnTo>
                  <a:lnTo>
                    <a:pt x="29" y="39"/>
                  </a:lnTo>
                  <a:lnTo>
                    <a:pt x="19" y="53"/>
                  </a:lnTo>
                  <a:lnTo>
                    <a:pt x="12" y="66"/>
                  </a:lnTo>
                  <a:lnTo>
                    <a:pt x="7" y="78"/>
                  </a:lnTo>
                  <a:lnTo>
                    <a:pt x="3" y="89"/>
                  </a:lnTo>
                  <a:lnTo>
                    <a:pt x="0" y="99"/>
                  </a:lnTo>
                  <a:lnTo>
                    <a:pt x="173" y="148"/>
                  </a:lnTo>
                  <a:lnTo>
                    <a:pt x="173" y="147"/>
                  </a:lnTo>
                  <a:lnTo>
                    <a:pt x="173" y="146"/>
                  </a:lnTo>
                  <a:lnTo>
                    <a:pt x="174" y="146"/>
                  </a:lnTo>
                  <a:lnTo>
                    <a:pt x="173" y="147"/>
                  </a:lnTo>
                  <a:lnTo>
                    <a:pt x="169" y="152"/>
                  </a:lnTo>
                  <a:lnTo>
                    <a:pt x="160" y="161"/>
                  </a:lnTo>
                  <a:lnTo>
                    <a:pt x="135" y="175"/>
                  </a:lnTo>
                  <a:lnTo>
                    <a:pt x="95" y="178"/>
                  </a:lnTo>
                  <a:lnTo>
                    <a:pt x="100" y="17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62160" y="5659560"/>
              <a:ext cx="68400" cy="79200"/>
            </a:xfrm>
            <a:custGeom>
              <a:avLst/>
              <a:gdLst/>
              <a:ahLst/>
              <a:rect l="l" t="t" r="r" b="b"/>
              <a:pathLst>
                <a:path w="214" h="252">
                  <a:moveTo>
                    <a:pt x="145" y="88"/>
                  </a:moveTo>
                  <a:lnTo>
                    <a:pt x="196" y="197"/>
                  </a:lnTo>
                  <a:lnTo>
                    <a:pt x="201" y="180"/>
                  </a:lnTo>
                  <a:lnTo>
                    <a:pt x="207" y="162"/>
                  </a:lnTo>
                  <a:lnTo>
                    <a:pt x="211" y="142"/>
                  </a:lnTo>
                  <a:lnTo>
                    <a:pt x="214" y="121"/>
                  </a:lnTo>
                  <a:lnTo>
                    <a:pt x="214" y="102"/>
                  </a:lnTo>
                  <a:lnTo>
                    <a:pt x="211" y="84"/>
                  </a:lnTo>
                  <a:lnTo>
                    <a:pt x="204" y="63"/>
                  </a:lnTo>
                  <a:lnTo>
                    <a:pt x="192" y="41"/>
                  </a:lnTo>
                  <a:lnTo>
                    <a:pt x="172" y="23"/>
                  </a:lnTo>
                  <a:lnTo>
                    <a:pt x="152" y="10"/>
                  </a:lnTo>
                  <a:lnTo>
                    <a:pt x="132" y="4"/>
                  </a:lnTo>
                  <a:lnTo>
                    <a:pt x="114" y="0"/>
                  </a:lnTo>
                  <a:lnTo>
                    <a:pt x="93" y="179"/>
                  </a:lnTo>
                  <a:lnTo>
                    <a:pt x="87" y="178"/>
                  </a:lnTo>
                  <a:lnTo>
                    <a:pt x="76" y="173"/>
                  </a:lnTo>
                  <a:lnTo>
                    <a:pt x="63" y="166"/>
                  </a:lnTo>
                  <a:lnTo>
                    <a:pt x="50" y="153"/>
                  </a:lnTo>
                  <a:lnTo>
                    <a:pt x="41" y="139"/>
                  </a:lnTo>
                  <a:lnTo>
                    <a:pt x="36" y="126"/>
                  </a:lnTo>
                  <a:lnTo>
                    <a:pt x="35" y="116"/>
                  </a:lnTo>
                  <a:lnTo>
                    <a:pt x="35" y="106"/>
                  </a:lnTo>
                  <a:lnTo>
                    <a:pt x="35" y="108"/>
                  </a:lnTo>
                  <a:lnTo>
                    <a:pt x="33" y="115"/>
                  </a:lnTo>
                  <a:lnTo>
                    <a:pt x="30" y="127"/>
                  </a:lnTo>
                  <a:lnTo>
                    <a:pt x="24" y="143"/>
                  </a:lnTo>
                  <a:lnTo>
                    <a:pt x="75" y="252"/>
                  </a:lnTo>
                  <a:lnTo>
                    <a:pt x="24" y="143"/>
                  </a:lnTo>
                  <a:lnTo>
                    <a:pt x="0" y="221"/>
                  </a:lnTo>
                  <a:lnTo>
                    <a:pt x="75" y="252"/>
                  </a:lnTo>
                  <a:lnTo>
                    <a:pt x="145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86280" y="5688000"/>
              <a:ext cx="25200" cy="52560"/>
            </a:xfrm>
            <a:custGeom>
              <a:avLst/>
              <a:gdLst/>
              <a:ahLst/>
              <a:rect l="l" t="t" r="r" b="b"/>
              <a:pathLst>
                <a:path w="78" h="168">
                  <a:moveTo>
                    <a:pt x="9" y="168"/>
                  </a:moveTo>
                  <a:lnTo>
                    <a:pt x="78" y="2"/>
                  </a:lnTo>
                  <a:lnTo>
                    <a:pt x="70" y="0"/>
                  </a:lnTo>
                  <a:lnTo>
                    <a:pt x="0" y="164"/>
                  </a:lnTo>
                  <a:lnTo>
                    <a:pt x="7" y="167"/>
                  </a:lnTo>
                  <a:lnTo>
                    <a:pt x="9" y="168"/>
                  </a:lnTo>
                  <a:lnTo>
                    <a:pt x="7" y="167"/>
                  </a:lnTo>
                  <a:lnTo>
                    <a:pt x="9" y="167"/>
                  </a:lnTo>
                  <a:lnTo>
                    <a:pt x="9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89160" y="5688000"/>
              <a:ext cx="119160" cy="122400"/>
            </a:xfrm>
            <a:custGeom>
              <a:avLst/>
              <a:gdLst/>
              <a:ahLst/>
              <a:rect l="l" t="t" r="r" b="b"/>
              <a:pathLst>
                <a:path w="374" h="385">
                  <a:moveTo>
                    <a:pt x="374" y="333"/>
                  </a:moveTo>
                  <a:lnTo>
                    <a:pt x="373" y="329"/>
                  </a:lnTo>
                  <a:lnTo>
                    <a:pt x="363" y="301"/>
                  </a:lnTo>
                  <a:lnTo>
                    <a:pt x="352" y="274"/>
                  </a:lnTo>
                  <a:lnTo>
                    <a:pt x="340" y="248"/>
                  </a:lnTo>
                  <a:lnTo>
                    <a:pt x="326" y="224"/>
                  </a:lnTo>
                  <a:lnTo>
                    <a:pt x="309" y="199"/>
                  </a:lnTo>
                  <a:lnTo>
                    <a:pt x="293" y="175"/>
                  </a:lnTo>
                  <a:lnTo>
                    <a:pt x="275" y="152"/>
                  </a:lnTo>
                  <a:lnTo>
                    <a:pt x="257" y="131"/>
                  </a:lnTo>
                  <a:lnTo>
                    <a:pt x="236" y="110"/>
                  </a:lnTo>
                  <a:lnTo>
                    <a:pt x="214" y="91"/>
                  </a:lnTo>
                  <a:lnTo>
                    <a:pt x="193" y="72"/>
                  </a:lnTo>
                  <a:lnTo>
                    <a:pt x="169" y="55"/>
                  </a:lnTo>
                  <a:lnTo>
                    <a:pt x="144" y="39"/>
                  </a:lnTo>
                  <a:lnTo>
                    <a:pt x="119" y="25"/>
                  </a:lnTo>
                  <a:lnTo>
                    <a:pt x="93" y="12"/>
                  </a:lnTo>
                  <a:lnTo>
                    <a:pt x="67" y="0"/>
                  </a:lnTo>
                  <a:lnTo>
                    <a:pt x="0" y="166"/>
                  </a:lnTo>
                  <a:lnTo>
                    <a:pt x="17" y="174"/>
                  </a:lnTo>
                  <a:lnTo>
                    <a:pt x="34" y="183"/>
                  </a:lnTo>
                  <a:lnTo>
                    <a:pt x="51" y="192"/>
                  </a:lnTo>
                  <a:lnTo>
                    <a:pt x="68" y="202"/>
                  </a:lnTo>
                  <a:lnTo>
                    <a:pt x="83" y="214"/>
                  </a:lnTo>
                  <a:lnTo>
                    <a:pt x="98" y="226"/>
                  </a:lnTo>
                  <a:lnTo>
                    <a:pt x="112" y="239"/>
                  </a:lnTo>
                  <a:lnTo>
                    <a:pt x="125" y="253"/>
                  </a:lnTo>
                  <a:lnTo>
                    <a:pt x="138" y="267"/>
                  </a:lnTo>
                  <a:lnTo>
                    <a:pt x="150" y="282"/>
                  </a:lnTo>
                  <a:lnTo>
                    <a:pt x="160" y="297"/>
                  </a:lnTo>
                  <a:lnTo>
                    <a:pt x="170" y="313"/>
                  </a:lnTo>
                  <a:lnTo>
                    <a:pt x="180" y="331"/>
                  </a:lnTo>
                  <a:lnTo>
                    <a:pt x="188" y="348"/>
                  </a:lnTo>
                  <a:lnTo>
                    <a:pt x="195" y="366"/>
                  </a:lnTo>
                  <a:lnTo>
                    <a:pt x="203" y="385"/>
                  </a:lnTo>
                  <a:lnTo>
                    <a:pt x="200" y="381"/>
                  </a:lnTo>
                  <a:lnTo>
                    <a:pt x="374" y="333"/>
                  </a:lnTo>
                  <a:lnTo>
                    <a:pt x="373" y="331"/>
                  </a:lnTo>
                  <a:lnTo>
                    <a:pt x="373" y="329"/>
                  </a:lnTo>
                  <a:lnTo>
                    <a:pt x="374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152880" y="5794200"/>
              <a:ext cx="55440" cy="47880"/>
            </a:xfrm>
            <a:custGeom>
              <a:avLst/>
              <a:gdLst/>
              <a:ahLst/>
              <a:rect l="l" t="t" r="r" b="b"/>
              <a:pathLst>
                <a:path w="176" h="150">
                  <a:moveTo>
                    <a:pt x="121" y="114"/>
                  </a:moveTo>
                  <a:lnTo>
                    <a:pt x="176" y="6"/>
                  </a:lnTo>
                  <a:lnTo>
                    <a:pt x="174" y="0"/>
                  </a:lnTo>
                  <a:lnTo>
                    <a:pt x="0" y="48"/>
                  </a:lnTo>
                  <a:lnTo>
                    <a:pt x="3" y="55"/>
                  </a:lnTo>
                  <a:lnTo>
                    <a:pt x="121" y="114"/>
                  </a:lnTo>
                  <a:lnTo>
                    <a:pt x="3" y="55"/>
                  </a:lnTo>
                  <a:lnTo>
                    <a:pt x="30" y="150"/>
                  </a:lnTo>
                  <a:lnTo>
                    <a:pt x="121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71960" y="5773680"/>
              <a:ext cx="23760" cy="5724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63" y="0"/>
                  </a:moveTo>
                  <a:lnTo>
                    <a:pt x="63" y="0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47" y="1"/>
                  </a:lnTo>
                  <a:lnTo>
                    <a:pt x="38" y="2"/>
                  </a:lnTo>
                  <a:lnTo>
                    <a:pt x="30" y="3"/>
                  </a:lnTo>
                  <a:lnTo>
                    <a:pt x="21" y="5"/>
                  </a:lnTo>
                  <a:lnTo>
                    <a:pt x="10" y="9"/>
                  </a:lnTo>
                  <a:lnTo>
                    <a:pt x="0" y="12"/>
                  </a:lnTo>
                  <a:lnTo>
                    <a:pt x="63" y="179"/>
                  </a:lnTo>
                  <a:lnTo>
                    <a:pt x="62" y="180"/>
                  </a:lnTo>
                  <a:lnTo>
                    <a:pt x="61" y="180"/>
                  </a:lnTo>
                  <a:lnTo>
                    <a:pt x="60" y="180"/>
                  </a:lnTo>
                  <a:lnTo>
                    <a:pt x="61" y="180"/>
                  </a:lnTo>
                  <a:lnTo>
                    <a:pt x="61" y="180"/>
                  </a:lnTo>
                  <a:lnTo>
                    <a:pt x="65" y="180"/>
                  </a:lnTo>
                  <a:lnTo>
                    <a:pt x="70" y="180"/>
                  </a:lnTo>
                  <a:lnTo>
                    <a:pt x="75" y="179"/>
                  </a:lnTo>
                  <a:lnTo>
                    <a:pt x="75" y="17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76640" y="5772240"/>
              <a:ext cx="55440" cy="57240"/>
            </a:xfrm>
            <a:custGeom>
              <a:avLst/>
              <a:gdLst/>
              <a:ahLst/>
              <a:rect l="l" t="t" r="r" b="b"/>
              <a:pathLst>
                <a:path w="175" h="181">
                  <a:moveTo>
                    <a:pt x="175" y="76"/>
                  </a:moveTo>
                  <a:lnTo>
                    <a:pt x="175" y="73"/>
                  </a:lnTo>
                  <a:lnTo>
                    <a:pt x="155" y="36"/>
                  </a:lnTo>
                  <a:lnTo>
                    <a:pt x="124" y="12"/>
                  </a:lnTo>
                  <a:lnTo>
                    <a:pt x="95" y="2"/>
                  </a:lnTo>
                  <a:lnTo>
                    <a:pt x="76" y="0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60" y="181"/>
                  </a:lnTo>
                  <a:lnTo>
                    <a:pt x="69" y="181"/>
                  </a:lnTo>
                  <a:lnTo>
                    <a:pt x="75" y="180"/>
                  </a:lnTo>
                  <a:lnTo>
                    <a:pt x="77" y="180"/>
                  </a:lnTo>
                  <a:lnTo>
                    <a:pt x="74" y="180"/>
                  </a:lnTo>
                  <a:lnTo>
                    <a:pt x="63" y="179"/>
                  </a:lnTo>
                  <a:lnTo>
                    <a:pt x="42" y="171"/>
                  </a:lnTo>
                  <a:lnTo>
                    <a:pt x="17" y="150"/>
                  </a:lnTo>
                  <a:lnTo>
                    <a:pt x="1" y="121"/>
                  </a:lnTo>
                  <a:lnTo>
                    <a:pt x="0" y="117"/>
                  </a:lnTo>
                  <a:lnTo>
                    <a:pt x="175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57560" y="5786280"/>
              <a:ext cx="76320" cy="59040"/>
            </a:xfrm>
            <a:custGeom>
              <a:avLst/>
              <a:gdLst/>
              <a:ahLst/>
              <a:rect l="l" t="t" r="r" b="b"/>
              <a:pathLst>
                <a:path w="239" h="183">
                  <a:moveTo>
                    <a:pt x="178" y="106"/>
                  </a:moveTo>
                  <a:lnTo>
                    <a:pt x="113" y="183"/>
                  </a:lnTo>
                  <a:lnTo>
                    <a:pt x="128" y="178"/>
                  </a:lnTo>
                  <a:lnTo>
                    <a:pt x="144" y="174"/>
                  </a:lnTo>
                  <a:lnTo>
                    <a:pt x="161" y="168"/>
                  </a:lnTo>
                  <a:lnTo>
                    <a:pt x="178" y="161"/>
                  </a:lnTo>
                  <a:lnTo>
                    <a:pt x="196" y="149"/>
                  </a:lnTo>
                  <a:lnTo>
                    <a:pt x="210" y="137"/>
                  </a:lnTo>
                  <a:lnTo>
                    <a:pt x="224" y="120"/>
                  </a:lnTo>
                  <a:lnTo>
                    <a:pt x="234" y="98"/>
                  </a:lnTo>
                  <a:lnTo>
                    <a:pt x="238" y="79"/>
                  </a:lnTo>
                  <a:lnTo>
                    <a:pt x="239" y="60"/>
                  </a:lnTo>
                  <a:lnTo>
                    <a:pt x="237" y="46"/>
                  </a:lnTo>
                  <a:lnTo>
                    <a:pt x="235" y="32"/>
                  </a:lnTo>
                  <a:lnTo>
                    <a:pt x="60" y="73"/>
                  </a:lnTo>
                  <a:lnTo>
                    <a:pt x="60" y="69"/>
                  </a:lnTo>
                  <a:lnTo>
                    <a:pt x="59" y="64"/>
                  </a:lnTo>
                  <a:lnTo>
                    <a:pt x="60" y="54"/>
                  </a:lnTo>
                  <a:lnTo>
                    <a:pt x="62" y="41"/>
                  </a:lnTo>
                  <a:lnTo>
                    <a:pt x="69" y="27"/>
                  </a:lnTo>
                  <a:lnTo>
                    <a:pt x="78" y="15"/>
                  </a:lnTo>
                  <a:lnTo>
                    <a:pt x="87" y="6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94" y="1"/>
                  </a:lnTo>
                  <a:lnTo>
                    <a:pt x="82" y="4"/>
                  </a:lnTo>
                  <a:lnTo>
                    <a:pt x="66" y="9"/>
                  </a:lnTo>
                  <a:lnTo>
                    <a:pt x="0" y="85"/>
                  </a:lnTo>
                  <a:lnTo>
                    <a:pt x="66" y="9"/>
                  </a:lnTo>
                  <a:lnTo>
                    <a:pt x="7" y="25"/>
                  </a:lnTo>
                  <a:lnTo>
                    <a:pt x="0" y="85"/>
                  </a:lnTo>
                  <a:lnTo>
                    <a:pt x="178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56120" y="5813280"/>
              <a:ext cx="56880" cy="11160"/>
            </a:xfrm>
            <a:custGeom>
              <a:avLst/>
              <a:gdLst/>
              <a:ahLst/>
              <a:rect l="l" t="t" r="r" b="b"/>
              <a:pathLst>
                <a:path w="181" h="35">
                  <a:moveTo>
                    <a:pt x="3" y="35"/>
                  </a:moveTo>
                  <a:lnTo>
                    <a:pt x="180" y="28"/>
                  </a:lnTo>
                  <a:lnTo>
                    <a:pt x="181" y="21"/>
                  </a:lnTo>
                  <a:lnTo>
                    <a:pt x="3" y="0"/>
                  </a:lnTo>
                  <a:lnTo>
                    <a:pt x="2" y="8"/>
                  </a:lnTo>
                  <a:lnTo>
                    <a:pt x="3" y="35"/>
                  </a:lnTo>
                  <a:lnTo>
                    <a:pt x="2" y="8"/>
                  </a:lnTo>
                  <a:lnTo>
                    <a:pt x="0" y="21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57560" y="5813280"/>
              <a:ext cx="58680" cy="30240"/>
            </a:xfrm>
            <a:custGeom>
              <a:avLst/>
              <a:gdLst/>
              <a:ahLst/>
              <a:rect l="l" t="t" r="r" b="b"/>
              <a:pathLst>
                <a:path w="185" h="93">
                  <a:moveTo>
                    <a:pt x="185" y="93"/>
                  </a:moveTo>
                  <a:lnTo>
                    <a:pt x="185" y="93"/>
                  </a:lnTo>
                  <a:lnTo>
                    <a:pt x="185" y="81"/>
                  </a:lnTo>
                  <a:lnTo>
                    <a:pt x="185" y="71"/>
                  </a:lnTo>
                  <a:lnTo>
                    <a:pt x="184" y="59"/>
                  </a:lnTo>
                  <a:lnTo>
                    <a:pt x="183" y="47"/>
                  </a:lnTo>
                  <a:lnTo>
                    <a:pt x="182" y="35"/>
                  </a:lnTo>
                  <a:lnTo>
                    <a:pt x="180" y="24"/>
                  </a:lnTo>
                  <a:lnTo>
                    <a:pt x="178" y="12"/>
                  </a:lnTo>
                  <a:lnTo>
                    <a:pt x="176" y="0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2" y="48"/>
                  </a:lnTo>
                  <a:lnTo>
                    <a:pt x="4" y="55"/>
                  </a:lnTo>
                  <a:lnTo>
                    <a:pt x="4" y="62"/>
                  </a:lnTo>
                  <a:lnTo>
                    <a:pt x="5" y="70"/>
                  </a:lnTo>
                  <a:lnTo>
                    <a:pt x="5" y="77"/>
                  </a:lnTo>
                  <a:lnTo>
                    <a:pt x="5" y="86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185" y="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44960" y="5843520"/>
              <a:ext cx="71280" cy="82440"/>
            </a:xfrm>
            <a:custGeom>
              <a:avLst/>
              <a:gdLst/>
              <a:ahLst/>
              <a:rect l="l" t="t" r="r" b="b"/>
              <a:pathLst>
                <a:path w="224" h="261">
                  <a:moveTo>
                    <a:pt x="155" y="261"/>
                  </a:moveTo>
                  <a:lnTo>
                    <a:pt x="157" y="256"/>
                  </a:lnTo>
                  <a:lnTo>
                    <a:pt x="172" y="227"/>
                  </a:lnTo>
                  <a:lnTo>
                    <a:pt x="185" y="198"/>
                  </a:lnTo>
                  <a:lnTo>
                    <a:pt x="196" y="167"/>
                  </a:lnTo>
                  <a:lnTo>
                    <a:pt x="206" y="134"/>
                  </a:lnTo>
                  <a:lnTo>
                    <a:pt x="214" y="102"/>
                  </a:lnTo>
                  <a:lnTo>
                    <a:pt x="219" y="68"/>
                  </a:lnTo>
                  <a:lnTo>
                    <a:pt x="223" y="35"/>
                  </a:lnTo>
                  <a:lnTo>
                    <a:pt x="224" y="0"/>
                  </a:lnTo>
                  <a:lnTo>
                    <a:pt x="44" y="0"/>
                  </a:lnTo>
                  <a:lnTo>
                    <a:pt x="44" y="23"/>
                  </a:lnTo>
                  <a:lnTo>
                    <a:pt x="41" y="46"/>
                  </a:lnTo>
                  <a:lnTo>
                    <a:pt x="37" y="67"/>
                  </a:lnTo>
                  <a:lnTo>
                    <a:pt x="33" y="89"/>
                  </a:lnTo>
                  <a:lnTo>
                    <a:pt x="26" y="109"/>
                  </a:lnTo>
                  <a:lnTo>
                    <a:pt x="19" y="130"/>
                  </a:lnTo>
                  <a:lnTo>
                    <a:pt x="10" y="150"/>
                  </a:lnTo>
                  <a:lnTo>
                    <a:pt x="0" y="169"/>
                  </a:lnTo>
                  <a:lnTo>
                    <a:pt x="3" y="164"/>
                  </a:lnTo>
                  <a:lnTo>
                    <a:pt x="155" y="261"/>
                  </a:lnTo>
                  <a:lnTo>
                    <a:pt x="156" y="258"/>
                  </a:lnTo>
                  <a:lnTo>
                    <a:pt x="157" y="256"/>
                  </a:lnTo>
                  <a:lnTo>
                    <a:pt x="155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24080" y="5896080"/>
              <a:ext cx="69840" cy="46080"/>
            </a:xfrm>
            <a:custGeom>
              <a:avLst/>
              <a:gdLst/>
              <a:ahLst/>
              <a:rect l="l" t="t" r="r" b="b"/>
              <a:pathLst>
                <a:path w="221" h="145">
                  <a:moveTo>
                    <a:pt x="112" y="145"/>
                  </a:moveTo>
                  <a:lnTo>
                    <a:pt x="213" y="107"/>
                  </a:lnTo>
                  <a:lnTo>
                    <a:pt x="221" y="97"/>
                  </a:lnTo>
                  <a:lnTo>
                    <a:pt x="69" y="0"/>
                  </a:lnTo>
                  <a:lnTo>
                    <a:pt x="62" y="11"/>
                  </a:lnTo>
                  <a:lnTo>
                    <a:pt x="112" y="145"/>
                  </a:lnTo>
                  <a:lnTo>
                    <a:pt x="62" y="11"/>
                  </a:lnTo>
                  <a:lnTo>
                    <a:pt x="0" y="111"/>
                  </a:lnTo>
                  <a:lnTo>
                    <a:pt x="112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57560" y="5886360"/>
              <a:ext cx="34920" cy="58680"/>
            </a:xfrm>
            <a:custGeom>
              <a:avLst/>
              <a:gdLst/>
              <a:ahLst/>
              <a:rect l="l" t="t" r="r" b="b"/>
              <a:pathLst>
                <a:path w="112" h="184">
                  <a:moveTo>
                    <a:pt x="112" y="27"/>
                  </a:moveTo>
                  <a:lnTo>
                    <a:pt x="112" y="27"/>
                  </a:lnTo>
                  <a:lnTo>
                    <a:pt x="109" y="26"/>
                  </a:lnTo>
                  <a:lnTo>
                    <a:pt x="107" y="25"/>
                  </a:lnTo>
                  <a:lnTo>
                    <a:pt x="104" y="23"/>
                  </a:lnTo>
                  <a:lnTo>
                    <a:pt x="99" y="19"/>
                  </a:lnTo>
                  <a:lnTo>
                    <a:pt x="91" y="14"/>
                  </a:lnTo>
                  <a:lnTo>
                    <a:pt x="82" y="10"/>
                  </a:lnTo>
                  <a:lnTo>
                    <a:pt x="72" y="5"/>
                  </a:lnTo>
                  <a:lnTo>
                    <a:pt x="59" y="0"/>
                  </a:lnTo>
                  <a:lnTo>
                    <a:pt x="7" y="172"/>
                  </a:lnTo>
                  <a:lnTo>
                    <a:pt x="2" y="171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4" y="172"/>
                  </a:lnTo>
                  <a:lnTo>
                    <a:pt x="8" y="175"/>
                  </a:lnTo>
                  <a:lnTo>
                    <a:pt x="14" y="180"/>
                  </a:lnTo>
                  <a:lnTo>
                    <a:pt x="23" y="184"/>
                  </a:lnTo>
                  <a:lnTo>
                    <a:pt x="22" y="184"/>
                  </a:lnTo>
                  <a:lnTo>
                    <a:pt x="11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57560" y="5896080"/>
              <a:ext cx="55440" cy="48960"/>
            </a:xfrm>
            <a:custGeom>
              <a:avLst/>
              <a:gdLst/>
              <a:ahLst/>
              <a:rect l="l" t="t" r="r" b="b"/>
              <a:pathLst>
                <a:path w="179" h="158">
                  <a:moveTo>
                    <a:pt x="171" y="143"/>
                  </a:moveTo>
                  <a:lnTo>
                    <a:pt x="172" y="139"/>
                  </a:lnTo>
                  <a:lnTo>
                    <a:pt x="179" y="103"/>
                  </a:lnTo>
                  <a:lnTo>
                    <a:pt x="175" y="70"/>
                  </a:lnTo>
                  <a:lnTo>
                    <a:pt x="163" y="46"/>
                  </a:lnTo>
                  <a:lnTo>
                    <a:pt x="150" y="30"/>
                  </a:lnTo>
                  <a:lnTo>
                    <a:pt x="140" y="19"/>
                  </a:lnTo>
                  <a:lnTo>
                    <a:pt x="129" y="11"/>
                  </a:lnTo>
                  <a:lnTo>
                    <a:pt x="120" y="6"/>
                  </a:lnTo>
                  <a:lnTo>
                    <a:pt x="113" y="0"/>
                  </a:lnTo>
                  <a:lnTo>
                    <a:pt x="23" y="157"/>
                  </a:lnTo>
                  <a:lnTo>
                    <a:pt x="25" y="158"/>
                  </a:lnTo>
                  <a:lnTo>
                    <a:pt x="26" y="158"/>
                  </a:lnTo>
                  <a:lnTo>
                    <a:pt x="24" y="157"/>
                  </a:lnTo>
                  <a:lnTo>
                    <a:pt x="20" y="153"/>
                  </a:lnTo>
                  <a:lnTo>
                    <a:pt x="12" y="143"/>
                  </a:lnTo>
                  <a:lnTo>
                    <a:pt x="3" y="126"/>
                  </a:lnTo>
                  <a:lnTo>
                    <a:pt x="0" y="100"/>
                  </a:lnTo>
                  <a:lnTo>
                    <a:pt x="6" y="72"/>
                  </a:lnTo>
                  <a:lnTo>
                    <a:pt x="8" y="67"/>
                  </a:lnTo>
                  <a:lnTo>
                    <a:pt x="171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49640" y="5897520"/>
              <a:ext cx="61920" cy="65160"/>
            </a:xfrm>
            <a:custGeom>
              <a:avLst/>
              <a:gdLst/>
              <a:ahLst/>
              <a:rect l="l" t="t" r="r" b="b"/>
              <a:pathLst>
                <a:path w="193" h="204">
                  <a:moveTo>
                    <a:pt x="35" y="180"/>
                  </a:moveTo>
                  <a:lnTo>
                    <a:pt x="0" y="173"/>
                  </a:lnTo>
                  <a:lnTo>
                    <a:pt x="13" y="178"/>
                  </a:lnTo>
                  <a:lnTo>
                    <a:pt x="25" y="185"/>
                  </a:lnTo>
                  <a:lnTo>
                    <a:pt x="42" y="192"/>
                  </a:lnTo>
                  <a:lnTo>
                    <a:pt x="58" y="199"/>
                  </a:lnTo>
                  <a:lnTo>
                    <a:pt x="76" y="202"/>
                  </a:lnTo>
                  <a:lnTo>
                    <a:pt x="95" y="204"/>
                  </a:lnTo>
                  <a:lnTo>
                    <a:pt x="118" y="201"/>
                  </a:lnTo>
                  <a:lnTo>
                    <a:pt x="141" y="192"/>
                  </a:lnTo>
                  <a:lnTo>
                    <a:pt x="160" y="179"/>
                  </a:lnTo>
                  <a:lnTo>
                    <a:pt x="176" y="163"/>
                  </a:lnTo>
                  <a:lnTo>
                    <a:pt x="185" y="149"/>
                  </a:lnTo>
                  <a:lnTo>
                    <a:pt x="193" y="136"/>
                  </a:lnTo>
                  <a:lnTo>
                    <a:pt x="30" y="60"/>
                  </a:lnTo>
                  <a:lnTo>
                    <a:pt x="32" y="57"/>
                  </a:lnTo>
                  <a:lnTo>
                    <a:pt x="36" y="51"/>
                  </a:lnTo>
                  <a:lnTo>
                    <a:pt x="45" y="41"/>
                  </a:lnTo>
                  <a:lnTo>
                    <a:pt x="59" y="31"/>
                  </a:lnTo>
                  <a:lnTo>
                    <a:pt x="75" y="26"/>
                  </a:lnTo>
                  <a:lnTo>
                    <a:pt x="91" y="24"/>
                  </a:lnTo>
                  <a:lnTo>
                    <a:pt x="102" y="25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2" y="23"/>
                  </a:lnTo>
                  <a:lnTo>
                    <a:pt x="89" y="16"/>
                  </a:lnTo>
                  <a:lnTo>
                    <a:pt x="71" y="9"/>
                  </a:lnTo>
                  <a:lnTo>
                    <a:pt x="35" y="0"/>
                  </a:lnTo>
                  <a:lnTo>
                    <a:pt x="71" y="9"/>
                  </a:lnTo>
                  <a:lnTo>
                    <a:pt x="54" y="0"/>
                  </a:lnTo>
                  <a:lnTo>
                    <a:pt x="35" y="0"/>
                  </a:lnTo>
                  <a:lnTo>
                    <a:pt x="35" y="1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37040" y="5897520"/>
              <a:ext cx="23760" cy="5724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0" y="38"/>
                  </a:moveTo>
                  <a:lnTo>
                    <a:pt x="72" y="180"/>
                  </a:lnTo>
                  <a:lnTo>
                    <a:pt x="75" y="18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0" y="38"/>
                  </a:lnTo>
                  <a:lnTo>
                    <a:pt x="72" y="0"/>
                  </a:lnTo>
                  <a:lnTo>
                    <a:pt x="27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06800" y="5910120"/>
              <a:ext cx="75960" cy="76320"/>
            </a:xfrm>
            <a:custGeom>
              <a:avLst/>
              <a:gdLst/>
              <a:ahLst/>
              <a:rect l="l" t="t" r="r" b="b"/>
              <a:pathLst>
                <a:path w="239" h="241">
                  <a:moveTo>
                    <a:pt x="91" y="241"/>
                  </a:moveTo>
                  <a:lnTo>
                    <a:pt x="96" y="237"/>
                  </a:lnTo>
                  <a:lnTo>
                    <a:pt x="116" y="224"/>
                  </a:lnTo>
                  <a:lnTo>
                    <a:pt x="136" y="210"/>
                  </a:lnTo>
                  <a:lnTo>
                    <a:pt x="155" y="195"/>
                  </a:lnTo>
                  <a:lnTo>
                    <a:pt x="173" y="179"/>
                  </a:lnTo>
                  <a:lnTo>
                    <a:pt x="191" y="162"/>
                  </a:lnTo>
                  <a:lnTo>
                    <a:pt x="208" y="143"/>
                  </a:lnTo>
                  <a:lnTo>
                    <a:pt x="223" y="125"/>
                  </a:lnTo>
                  <a:lnTo>
                    <a:pt x="239" y="106"/>
                  </a:lnTo>
                  <a:lnTo>
                    <a:pt x="95" y="0"/>
                  </a:lnTo>
                  <a:lnTo>
                    <a:pt x="85" y="12"/>
                  </a:lnTo>
                  <a:lnTo>
                    <a:pt x="74" y="23"/>
                  </a:lnTo>
                  <a:lnTo>
                    <a:pt x="63" y="35"/>
                  </a:lnTo>
                  <a:lnTo>
                    <a:pt x="51" y="46"/>
                  </a:lnTo>
                  <a:lnTo>
                    <a:pt x="40" y="57"/>
                  </a:lnTo>
                  <a:lnTo>
                    <a:pt x="27" y="68"/>
                  </a:lnTo>
                  <a:lnTo>
                    <a:pt x="14" y="77"/>
                  </a:lnTo>
                  <a:lnTo>
                    <a:pt x="0" y="86"/>
                  </a:lnTo>
                  <a:lnTo>
                    <a:pt x="5" y="83"/>
                  </a:lnTo>
                  <a:lnTo>
                    <a:pt x="91" y="241"/>
                  </a:lnTo>
                  <a:lnTo>
                    <a:pt x="94" y="239"/>
                  </a:lnTo>
                  <a:lnTo>
                    <a:pt x="96" y="237"/>
                  </a:lnTo>
                  <a:lnTo>
                    <a:pt x="91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81240" y="5935680"/>
              <a:ext cx="54000" cy="52200"/>
            </a:xfrm>
            <a:custGeom>
              <a:avLst/>
              <a:gdLst/>
              <a:ahLst/>
              <a:rect l="l" t="t" r="r" b="b"/>
              <a:pathLst>
                <a:path w="172" h="164">
                  <a:moveTo>
                    <a:pt x="37" y="125"/>
                  </a:moveTo>
                  <a:lnTo>
                    <a:pt x="162" y="164"/>
                  </a:lnTo>
                  <a:lnTo>
                    <a:pt x="172" y="158"/>
                  </a:lnTo>
                  <a:lnTo>
                    <a:pt x="86" y="0"/>
                  </a:lnTo>
                  <a:lnTo>
                    <a:pt x="75" y="6"/>
                  </a:lnTo>
                  <a:lnTo>
                    <a:pt x="37" y="125"/>
                  </a:lnTo>
                  <a:lnTo>
                    <a:pt x="75" y="6"/>
                  </a:lnTo>
                  <a:lnTo>
                    <a:pt x="0" y="48"/>
                  </a:lnTo>
                  <a:lnTo>
                    <a:pt x="37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92400" y="5950080"/>
              <a:ext cx="57240" cy="37800"/>
            </a:xfrm>
            <a:custGeom>
              <a:avLst/>
              <a:gdLst/>
              <a:ahLst/>
              <a:rect l="l" t="t" r="r" b="b"/>
              <a:pathLst>
                <a:path w="176" h="120">
                  <a:moveTo>
                    <a:pt x="175" y="27"/>
                  </a:moveTo>
                  <a:lnTo>
                    <a:pt x="176" y="28"/>
                  </a:lnTo>
                  <a:lnTo>
                    <a:pt x="174" y="26"/>
                  </a:lnTo>
                  <a:lnTo>
                    <a:pt x="173" y="23"/>
                  </a:lnTo>
                  <a:lnTo>
                    <a:pt x="172" y="21"/>
                  </a:lnTo>
                  <a:lnTo>
                    <a:pt x="170" y="16"/>
                  </a:lnTo>
                  <a:lnTo>
                    <a:pt x="169" y="13"/>
                  </a:lnTo>
                  <a:lnTo>
                    <a:pt x="167" y="9"/>
                  </a:lnTo>
                  <a:lnTo>
                    <a:pt x="165" y="5"/>
                  </a:lnTo>
                  <a:lnTo>
                    <a:pt x="161" y="0"/>
                  </a:lnTo>
                  <a:lnTo>
                    <a:pt x="0" y="80"/>
                  </a:lnTo>
                  <a:lnTo>
                    <a:pt x="3" y="83"/>
                  </a:lnTo>
                  <a:lnTo>
                    <a:pt x="5" y="88"/>
                  </a:lnTo>
                  <a:lnTo>
                    <a:pt x="7" y="93"/>
                  </a:lnTo>
                  <a:lnTo>
                    <a:pt x="9" y="97"/>
                  </a:lnTo>
                  <a:lnTo>
                    <a:pt x="11" y="102"/>
                  </a:lnTo>
                  <a:lnTo>
                    <a:pt x="14" y="108"/>
                  </a:lnTo>
                  <a:lnTo>
                    <a:pt x="18" y="114"/>
                  </a:lnTo>
                  <a:lnTo>
                    <a:pt x="21" y="119"/>
                  </a:lnTo>
                  <a:lnTo>
                    <a:pt x="22" y="120"/>
                  </a:lnTo>
                  <a:lnTo>
                    <a:pt x="175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00320" y="5959440"/>
              <a:ext cx="57240" cy="46080"/>
            </a:xfrm>
            <a:custGeom>
              <a:avLst/>
              <a:gdLst/>
              <a:ahLst/>
              <a:rect l="l" t="t" r="r" b="b"/>
              <a:pathLst>
                <a:path w="181" h="148">
                  <a:moveTo>
                    <a:pt x="152" y="148"/>
                  </a:moveTo>
                  <a:lnTo>
                    <a:pt x="154" y="147"/>
                  </a:lnTo>
                  <a:lnTo>
                    <a:pt x="178" y="106"/>
                  </a:lnTo>
                  <a:lnTo>
                    <a:pt x="181" y="67"/>
                  </a:lnTo>
                  <a:lnTo>
                    <a:pt x="176" y="43"/>
                  </a:lnTo>
                  <a:lnTo>
                    <a:pt x="170" y="27"/>
                  </a:lnTo>
                  <a:lnTo>
                    <a:pt x="163" y="16"/>
                  </a:lnTo>
                  <a:lnTo>
                    <a:pt x="159" y="9"/>
                  </a:lnTo>
                  <a:lnTo>
                    <a:pt x="155" y="3"/>
                  </a:lnTo>
                  <a:lnTo>
                    <a:pt x="153" y="0"/>
                  </a:lnTo>
                  <a:lnTo>
                    <a:pt x="0" y="93"/>
                  </a:lnTo>
                  <a:lnTo>
                    <a:pt x="4" y="101"/>
                  </a:lnTo>
                  <a:lnTo>
                    <a:pt x="8" y="105"/>
                  </a:lnTo>
                  <a:lnTo>
                    <a:pt x="10" y="108"/>
                  </a:lnTo>
                  <a:lnTo>
                    <a:pt x="9" y="107"/>
                  </a:lnTo>
                  <a:lnTo>
                    <a:pt x="7" y="102"/>
                  </a:lnTo>
                  <a:lnTo>
                    <a:pt x="3" y="86"/>
                  </a:lnTo>
                  <a:lnTo>
                    <a:pt x="7" y="54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152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83040" y="5935680"/>
              <a:ext cx="64800" cy="81000"/>
            </a:xfrm>
            <a:custGeom>
              <a:avLst/>
              <a:gdLst/>
              <a:ahLst/>
              <a:rect l="l" t="t" r="r" b="b"/>
              <a:pathLst>
                <a:path w="205" h="257">
                  <a:moveTo>
                    <a:pt x="108" y="193"/>
                  </a:moveTo>
                  <a:lnTo>
                    <a:pt x="0" y="159"/>
                  </a:lnTo>
                  <a:lnTo>
                    <a:pt x="10" y="174"/>
                  </a:lnTo>
                  <a:lnTo>
                    <a:pt x="21" y="189"/>
                  </a:lnTo>
                  <a:lnTo>
                    <a:pt x="33" y="205"/>
                  </a:lnTo>
                  <a:lnTo>
                    <a:pt x="45" y="220"/>
                  </a:lnTo>
                  <a:lnTo>
                    <a:pt x="60" y="233"/>
                  </a:lnTo>
                  <a:lnTo>
                    <a:pt x="75" y="243"/>
                  </a:lnTo>
                  <a:lnTo>
                    <a:pt x="94" y="251"/>
                  </a:lnTo>
                  <a:lnTo>
                    <a:pt x="119" y="257"/>
                  </a:lnTo>
                  <a:lnTo>
                    <a:pt x="146" y="255"/>
                  </a:lnTo>
                  <a:lnTo>
                    <a:pt x="171" y="247"/>
                  </a:lnTo>
                  <a:lnTo>
                    <a:pt x="190" y="236"/>
                  </a:lnTo>
                  <a:lnTo>
                    <a:pt x="205" y="223"/>
                  </a:lnTo>
                  <a:lnTo>
                    <a:pt x="81" y="95"/>
                  </a:lnTo>
                  <a:lnTo>
                    <a:pt x="88" y="89"/>
                  </a:lnTo>
                  <a:lnTo>
                    <a:pt x="98" y="83"/>
                  </a:lnTo>
                  <a:lnTo>
                    <a:pt x="115" y="77"/>
                  </a:lnTo>
                  <a:lnTo>
                    <a:pt x="133" y="76"/>
                  </a:lnTo>
                  <a:lnTo>
                    <a:pt x="150" y="80"/>
                  </a:lnTo>
                  <a:lnTo>
                    <a:pt x="162" y="85"/>
                  </a:lnTo>
                  <a:lnTo>
                    <a:pt x="169" y="90"/>
                  </a:lnTo>
                  <a:lnTo>
                    <a:pt x="174" y="96"/>
                  </a:lnTo>
                  <a:lnTo>
                    <a:pt x="172" y="93"/>
                  </a:lnTo>
                  <a:lnTo>
                    <a:pt x="166" y="85"/>
                  </a:lnTo>
                  <a:lnTo>
                    <a:pt x="159" y="74"/>
                  </a:lnTo>
                  <a:lnTo>
                    <a:pt x="148" y="59"/>
                  </a:lnTo>
                  <a:lnTo>
                    <a:pt x="41" y="26"/>
                  </a:lnTo>
                  <a:lnTo>
                    <a:pt x="148" y="59"/>
                  </a:lnTo>
                  <a:lnTo>
                    <a:pt x="108" y="0"/>
                  </a:lnTo>
                  <a:lnTo>
                    <a:pt x="41" y="26"/>
                  </a:lnTo>
                  <a:lnTo>
                    <a:pt x="108" y="1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92400" y="5943600"/>
              <a:ext cx="25560" cy="54000"/>
            </a:xfrm>
            <a:custGeom>
              <a:avLst/>
              <a:gdLst/>
              <a:ahLst/>
              <a:rect l="l" t="t" r="r" b="b"/>
              <a:pathLst>
                <a:path w="79" h="170">
                  <a:moveTo>
                    <a:pt x="0" y="5"/>
                  </a:moveTo>
                  <a:lnTo>
                    <a:pt x="69" y="170"/>
                  </a:lnTo>
                  <a:lnTo>
                    <a:pt x="79" y="167"/>
                  </a:lnTo>
                  <a:lnTo>
                    <a:pt x="12" y="0"/>
                  </a:lnTo>
                  <a:lnTo>
                    <a:pt x="2" y="4"/>
                  </a:lnTo>
                  <a:lnTo>
                    <a:pt x="0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8120" y="5945040"/>
              <a:ext cx="66600" cy="65160"/>
            </a:xfrm>
            <a:custGeom>
              <a:avLst/>
              <a:gdLst/>
              <a:ahLst/>
              <a:rect l="l" t="t" r="r" b="b"/>
              <a:pathLst>
                <a:path w="211" h="208">
                  <a:moveTo>
                    <a:pt x="0" y="208"/>
                  </a:moveTo>
                  <a:lnTo>
                    <a:pt x="0" y="208"/>
                  </a:lnTo>
                  <a:lnTo>
                    <a:pt x="27" y="207"/>
                  </a:lnTo>
                  <a:lnTo>
                    <a:pt x="55" y="205"/>
                  </a:lnTo>
                  <a:lnTo>
                    <a:pt x="82" y="202"/>
                  </a:lnTo>
                  <a:lnTo>
                    <a:pt x="108" y="197"/>
                  </a:lnTo>
                  <a:lnTo>
                    <a:pt x="135" y="191"/>
                  </a:lnTo>
                  <a:lnTo>
                    <a:pt x="161" y="184"/>
                  </a:lnTo>
                  <a:lnTo>
                    <a:pt x="186" y="174"/>
                  </a:lnTo>
                  <a:lnTo>
                    <a:pt x="211" y="164"/>
                  </a:lnTo>
                  <a:lnTo>
                    <a:pt x="139" y="0"/>
                  </a:lnTo>
                  <a:lnTo>
                    <a:pt x="123" y="6"/>
                  </a:lnTo>
                  <a:lnTo>
                    <a:pt x="107" y="12"/>
                  </a:lnTo>
                  <a:lnTo>
                    <a:pt x="90" y="17"/>
                  </a:lnTo>
                  <a:lnTo>
                    <a:pt x="72" y="22"/>
                  </a:lnTo>
                  <a:lnTo>
                    <a:pt x="55" y="24"/>
                  </a:lnTo>
                  <a:lnTo>
                    <a:pt x="37" y="27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70360" y="5942160"/>
              <a:ext cx="77760" cy="68040"/>
            </a:xfrm>
            <a:custGeom>
              <a:avLst/>
              <a:gdLst/>
              <a:ahLst/>
              <a:rect l="l" t="t" r="r" b="b"/>
              <a:pathLst>
                <a:path w="245" h="218">
                  <a:moveTo>
                    <a:pt x="0" y="158"/>
                  </a:moveTo>
                  <a:lnTo>
                    <a:pt x="3" y="159"/>
                  </a:lnTo>
                  <a:lnTo>
                    <a:pt x="30" y="173"/>
                  </a:lnTo>
                  <a:lnTo>
                    <a:pt x="59" y="184"/>
                  </a:lnTo>
                  <a:lnTo>
                    <a:pt x="88" y="195"/>
                  </a:lnTo>
                  <a:lnTo>
                    <a:pt x="119" y="202"/>
                  </a:lnTo>
                  <a:lnTo>
                    <a:pt x="149" y="209"/>
                  </a:lnTo>
                  <a:lnTo>
                    <a:pt x="181" y="214"/>
                  </a:lnTo>
                  <a:lnTo>
                    <a:pt x="213" y="217"/>
                  </a:lnTo>
                  <a:lnTo>
                    <a:pt x="245" y="218"/>
                  </a:lnTo>
                  <a:lnTo>
                    <a:pt x="245" y="38"/>
                  </a:lnTo>
                  <a:lnTo>
                    <a:pt x="223" y="38"/>
                  </a:lnTo>
                  <a:lnTo>
                    <a:pt x="202" y="36"/>
                  </a:lnTo>
                  <a:lnTo>
                    <a:pt x="181" y="33"/>
                  </a:lnTo>
                  <a:lnTo>
                    <a:pt x="161" y="28"/>
                  </a:lnTo>
                  <a:lnTo>
                    <a:pt x="141" y="23"/>
                  </a:lnTo>
                  <a:lnTo>
                    <a:pt x="122" y="16"/>
                  </a:lnTo>
                  <a:lnTo>
                    <a:pt x="104" y="9"/>
                  </a:lnTo>
                  <a:lnTo>
                    <a:pt x="85" y="0"/>
                  </a:lnTo>
                  <a:lnTo>
                    <a:pt x="87" y="1"/>
                  </a:lnTo>
                  <a:lnTo>
                    <a:pt x="0" y="158"/>
                  </a:lnTo>
                  <a:lnTo>
                    <a:pt x="2" y="159"/>
                  </a:lnTo>
                  <a:lnTo>
                    <a:pt x="3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55960" y="5925960"/>
              <a:ext cx="42840" cy="65160"/>
            </a:xfrm>
            <a:custGeom>
              <a:avLst/>
              <a:gdLst/>
              <a:ahLst/>
              <a:rect l="l" t="t" r="r" b="b"/>
              <a:pathLst>
                <a:path w="133" h="209">
                  <a:moveTo>
                    <a:pt x="0" y="88"/>
                  </a:moveTo>
                  <a:lnTo>
                    <a:pt x="37" y="204"/>
                  </a:lnTo>
                  <a:lnTo>
                    <a:pt x="46" y="209"/>
                  </a:lnTo>
                  <a:lnTo>
                    <a:pt x="133" y="52"/>
                  </a:lnTo>
                  <a:lnTo>
                    <a:pt x="125" y="47"/>
                  </a:lnTo>
                  <a:lnTo>
                    <a:pt x="0" y="88"/>
                  </a:lnTo>
                  <a:lnTo>
                    <a:pt x="125" y="47"/>
                  </a:lnTo>
                  <a:lnTo>
                    <a:pt x="41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52720" y="5952960"/>
              <a:ext cx="55440" cy="39960"/>
            </a:xfrm>
            <a:custGeom>
              <a:avLst/>
              <a:gdLst/>
              <a:ahLst/>
              <a:rect l="l" t="t" r="r" b="b"/>
              <a:pathLst>
                <a:path w="174" h="122">
                  <a:moveTo>
                    <a:pt x="150" y="121"/>
                  </a:moveTo>
                  <a:lnTo>
                    <a:pt x="150" y="122"/>
                  </a:lnTo>
                  <a:lnTo>
                    <a:pt x="154" y="114"/>
                  </a:lnTo>
                  <a:lnTo>
                    <a:pt x="158" y="108"/>
                  </a:lnTo>
                  <a:lnTo>
                    <a:pt x="162" y="100"/>
                  </a:lnTo>
                  <a:lnTo>
                    <a:pt x="165" y="94"/>
                  </a:lnTo>
                  <a:lnTo>
                    <a:pt x="167" y="89"/>
                  </a:lnTo>
                  <a:lnTo>
                    <a:pt x="169" y="84"/>
                  </a:lnTo>
                  <a:lnTo>
                    <a:pt x="171" y="80"/>
                  </a:lnTo>
                  <a:lnTo>
                    <a:pt x="174" y="76"/>
                  </a:lnTo>
                  <a:lnTo>
                    <a:pt x="11" y="0"/>
                  </a:lnTo>
                  <a:lnTo>
                    <a:pt x="8" y="5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50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51280" y="5956200"/>
              <a:ext cx="48960" cy="57240"/>
            </a:xfrm>
            <a:custGeom>
              <a:avLst/>
              <a:gdLst/>
              <a:ahLst/>
              <a:rect l="l" t="t" r="r" b="b"/>
              <a:pathLst>
                <a:path w="155" h="179">
                  <a:moveTo>
                    <a:pt x="17" y="173"/>
                  </a:moveTo>
                  <a:lnTo>
                    <a:pt x="24" y="176"/>
                  </a:lnTo>
                  <a:lnTo>
                    <a:pt x="58" y="179"/>
                  </a:lnTo>
                  <a:lnTo>
                    <a:pt x="87" y="172"/>
                  </a:lnTo>
                  <a:lnTo>
                    <a:pt x="108" y="162"/>
                  </a:lnTo>
                  <a:lnTo>
                    <a:pt x="123" y="150"/>
                  </a:lnTo>
                  <a:lnTo>
                    <a:pt x="134" y="139"/>
                  </a:lnTo>
                  <a:lnTo>
                    <a:pt x="143" y="129"/>
                  </a:lnTo>
                  <a:lnTo>
                    <a:pt x="149" y="119"/>
                  </a:lnTo>
                  <a:lnTo>
                    <a:pt x="155" y="112"/>
                  </a:lnTo>
                  <a:lnTo>
                    <a:pt x="5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4" y="17"/>
                  </a:lnTo>
                  <a:lnTo>
                    <a:pt x="10" y="11"/>
                  </a:lnTo>
                  <a:lnTo>
                    <a:pt x="24" y="5"/>
                  </a:lnTo>
                  <a:lnTo>
                    <a:pt x="46" y="0"/>
                  </a:lnTo>
                  <a:lnTo>
                    <a:pt x="72" y="2"/>
                  </a:lnTo>
                  <a:lnTo>
                    <a:pt x="78" y="5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32200" y="5932440"/>
              <a:ext cx="77760" cy="79560"/>
            </a:xfrm>
            <a:custGeom>
              <a:avLst/>
              <a:gdLst/>
              <a:ahLst/>
              <a:rect l="l" t="t" r="r" b="b"/>
              <a:pathLst>
                <a:path w="243" h="246">
                  <a:moveTo>
                    <a:pt x="76" y="157"/>
                  </a:moveTo>
                  <a:lnTo>
                    <a:pt x="42" y="34"/>
                  </a:lnTo>
                  <a:lnTo>
                    <a:pt x="33" y="49"/>
                  </a:lnTo>
                  <a:lnTo>
                    <a:pt x="25" y="65"/>
                  </a:lnTo>
                  <a:lnTo>
                    <a:pt x="15" y="82"/>
                  </a:lnTo>
                  <a:lnTo>
                    <a:pt x="8" y="102"/>
                  </a:lnTo>
                  <a:lnTo>
                    <a:pt x="2" y="120"/>
                  </a:lnTo>
                  <a:lnTo>
                    <a:pt x="0" y="138"/>
                  </a:lnTo>
                  <a:lnTo>
                    <a:pt x="2" y="160"/>
                  </a:lnTo>
                  <a:lnTo>
                    <a:pt x="9" y="185"/>
                  </a:lnTo>
                  <a:lnTo>
                    <a:pt x="23" y="208"/>
                  </a:lnTo>
                  <a:lnTo>
                    <a:pt x="40" y="226"/>
                  </a:lnTo>
                  <a:lnTo>
                    <a:pt x="58" y="239"/>
                  </a:lnTo>
                  <a:lnTo>
                    <a:pt x="76" y="246"/>
                  </a:lnTo>
                  <a:lnTo>
                    <a:pt x="137" y="78"/>
                  </a:lnTo>
                  <a:lnTo>
                    <a:pt x="144" y="80"/>
                  </a:lnTo>
                  <a:lnTo>
                    <a:pt x="153" y="88"/>
                  </a:lnTo>
                  <a:lnTo>
                    <a:pt x="165" y="100"/>
                  </a:lnTo>
                  <a:lnTo>
                    <a:pt x="175" y="115"/>
                  </a:lnTo>
                  <a:lnTo>
                    <a:pt x="179" y="132"/>
                  </a:lnTo>
                  <a:lnTo>
                    <a:pt x="180" y="145"/>
                  </a:lnTo>
                  <a:lnTo>
                    <a:pt x="179" y="154"/>
                  </a:lnTo>
                  <a:lnTo>
                    <a:pt x="177" y="161"/>
                  </a:lnTo>
                  <a:lnTo>
                    <a:pt x="178" y="158"/>
                  </a:lnTo>
                  <a:lnTo>
                    <a:pt x="182" y="150"/>
                  </a:lnTo>
                  <a:lnTo>
                    <a:pt x="189" y="138"/>
                  </a:lnTo>
                  <a:lnTo>
                    <a:pt x="198" y="123"/>
                  </a:lnTo>
                  <a:lnTo>
                    <a:pt x="164" y="0"/>
                  </a:lnTo>
                  <a:lnTo>
                    <a:pt x="198" y="123"/>
                  </a:lnTo>
                  <a:lnTo>
                    <a:pt x="243" y="45"/>
                  </a:lnTo>
                  <a:lnTo>
                    <a:pt x="164" y="0"/>
                  </a:lnTo>
                  <a:lnTo>
                    <a:pt x="76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52720" y="5932440"/>
              <a:ext cx="31680" cy="5076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152"/>
                  </a:moveTo>
                  <a:lnTo>
                    <a:pt x="6" y="157"/>
                  </a:lnTo>
                  <a:lnTo>
                    <a:pt x="13" y="161"/>
                  </a:lnTo>
                  <a:lnTo>
                    <a:pt x="101" y="4"/>
                  </a:lnTo>
                  <a:lnTo>
                    <a:pt x="95" y="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3" y="154"/>
                  </a:lnTo>
                  <a:lnTo>
                    <a:pt x="6" y="157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84320" y="5862600"/>
              <a:ext cx="100080" cy="117360"/>
            </a:xfrm>
            <a:custGeom>
              <a:avLst/>
              <a:gdLst/>
              <a:ahLst/>
              <a:rect l="l" t="t" r="r" b="b"/>
              <a:pathLst>
                <a:path w="314" h="368">
                  <a:moveTo>
                    <a:pt x="3" y="60"/>
                  </a:moveTo>
                  <a:lnTo>
                    <a:pt x="0" y="49"/>
                  </a:lnTo>
                  <a:lnTo>
                    <a:pt x="5" y="73"/>
                  </a:lnTo>
                  <a:lnTo>
                    <a:pt x="13" y="97"/>
                  </a:lnTo>
                  <a:lnTo>
                    <a:pt x="21" y="121"/>
                  </a:lnTo>
                  <a:lnTo>
                    <a:pt x="30" y="144"/>
                  </a:lnTo>
                  <a:lnTo>
                    <a:pt x="40" y="166"/>
                  </a:lnTo>
                  <a:lnTo>
                    <a:pt x="51" y="188"/>
                  </a:lnTo>
                  <a:lnTo>
                    <a:pt x="63" y="209"/>
                  </a:lnTo>
                  <a:lnTo>
                    <a:pt x="77" y="230"/>
                  </a:lnTo>
                  <a:lnTo>
                    <a:pt x="90" y="249"/>
                  </a:lnTo>
                  <a:lnTo>
                    <a:pt x="105" y="269"/>
                  </a:lnTo>
                  <a:lnTo>
                    <a:pt x="121" y="288"/>
                  </a:lnTo>
                  <a:lnTo>
                    <a:pt x="137" y="306"/>
                  </a:lnTo>
                  <a:lnTo>
                    <a:pt x="154" y="323"/>
                  </a:lnTo>
                  <a:lnTo>
                    <a:pt x="173" y="339"/>
                  </a:lnTo>
                  <a:lnTo>
                    <a:pt x="191" y="354"/>
                  </a:lnTo>
                  <a:lnTo>
                    <a:pt x="212" y="368"/>
                  </a:lnTo>
                  <a:lnTo>
                    <a:pt x="314" y="221"/>
                  </a:lnTo>
                  <a:lnTo>
                    <a:pt x="301" y="212"/>
                  </a:lnTo>
                  <a:lnTo>
                    <a:pt x="288" y="202"/>
                  </a:lnTo>
                  <a:lnTo>
                    <a:pt x="276" y="191"/>
                  </a:lnTo>
                  <a:lnTo>
                    <a:pt x="266" y="180"/>
                  </a:lnTo>
                  <a:lnTo>
                    <a:pt x="255" y="168"/>
                  </a:lnTo>
                  <a:lnTo>
                    <a:pt x="245" y="157"/>
                  </a:lnTo>
                  <a:lnTo>
                    <a:pt x="234" y="144"/>
                  </a:lnTo>
                  <a:lnTo>
                    <a:pt x="226" y="131"/>
                  </a:lnTo>
                  <a:lnTo>
                    <a:pt x="217" y="117"/>
                  </a:lnTo>
                  <a:lnTo>
                    <a:pt x="209" y="104"/>
                  </a:lnTo>
                  <a:lnTo>
                    <a:pt x="202" y="88"/>
                  </a:lnTo>
                  <a:lnTo>
                    <a:pt x="194" y="73"/>
                  </a:lnTo>
                  <a:lnTo>
                    <a:pt x="189" y="59"/>
                  </a:lnTo>
                  <a:lnTo>
                    <a:pt x="184" y="43"/>
                  </a:lnTo>
                  <a:lnTo>
                    <a:pt x="179" y="28"/>
                  </a:lnTo>
                  <a:lnTo>
                    <a:pt x="175" y="12"/>
                  </a:lnTo>
                  <a:lnTo>
                    <a:pt x="172" y="0"/>
                  </a:lnTo>
                  <a:lnTo>
                    <a:pt x="175" y="12"/>
                  </a:lnTo>
                  <a:lnTo>
                    <a:pt x="174" y="5"/>
                  </a:lnTo>
                  <a:lnTo>
                    <a:pt x="172" y="0"/>
                  </a:lnTo>
                  <a:lnTo>
                    <a:pt x="3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84320" y="5834160"/>
              <a:ext cx="55800" cy="47520"/>
            </a:xfrm>
            <a:custGeom>
              <a:avLst/>
              <a:gdLst/>
              <a:ahLst/>
              <a:rect l="l" t="t" r="r" b="b"/>
              <a:pathLst>
                <a:path w="172" h="150">
                  <a:moveTo>
                    <a:pt x="59" y="23"/>
                  </a:moveTo>
                  <a:lnTo>
                    <a:pt x="0" y="140"/>
                  </a:lnTo>
                  <a:lnTo>
                    <a:pt x="3" y="150"/>
                  </a:lnTo>
                  <a:lnTo>
                    <a:pt x="172" y="90"/>
                  </a:lnTo>
                  <a:lnTo>
                    <a:pt x="168" y="79"/>
                  </a:lnTo>
                  <a:lnTo>
                    <a:pt x="59" y="23"/>
                  </a:lnTo>
                  <a:lnTo>
                    <a:pt x="168" y="79"/>
                  </a:lnTo>
                  <a:lnTo>
                    <a:pt x="139" y="0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97280" y="5842080"/>
              <a:ext cx="21960" cy="58680"/>
            </a:xfrm>
            <a:custGeom>
              <a:avLst/>
              <a:gdLst/>
              <a:ahLst/>
              <a:rect l="l" t="t" r="r" b="b"/>
              <a:pathLst>
                <a:path w="70" h="185">
                  <a:moveTo>
                    <a:pt x="18" y="185"/>
                  </a:moveTo>
                  <a:lnTo>
                    <a:pt x="26" y="184"/>
                  </a:lnTo>
                  <a:lnTo>
                    <a:pt x="32" y="182"/>
                  </a:lnTo>
                  <a:lnTo>
                    <a:pt x="39" y="181"/>
                  </a:lnTo>
                  <a:lnTo>
                    <a:pt x="45" y="180"/>
                  </a:lnTo>
                  <a:lnTo>
                    <a:pt x="51" y="178"/>
                  </a:lnTo>
                  <a:lnTo>
                    <a:pt x="56" y="177"/>
                  </a:lnTo>
                  <a:lnTo>
                    <a:pt x="61" y="176"/>
                  </a:lnTo>
                  <a:lnTo>
                    <a:pt x="67" y="174"/>
                  </a:lnTo>
                  <a:lnTo>
                    <a:pt x="70" y="173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0" y="5"/>
                  </a:lnTo>
                  <a:lnTo>
                    <a:pt x="7" y="4"/>
                  </a:lnTo>
                  <a:lnTo>
                    <a:pt x="18" y="1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60560" y="5843520"/>
              <a:ext cx="54000" cy="57240"/>
            </a:xfrm>
            <a:custGeom>
              <a:avLst/>
              <a:gdLst/>
              <a:ahLst/>
              <a:rect l="l" t="t" r="r" b="b"/>
              <a:pathLst>
                <a:path w="167" h="182">
                  <a:moveTo>
                    <a:pt x="0" y="115"/>
                  </a:moveTo>
                  <a:lnTo>
                    <a:pt x="1" y="121"/>
                  </a:lnTo>
                  <a:lnTo>
                    <a:pt x="27" y="155"/>
                  </a:lnTo>
                  <a:lnTo>
                    <a:pt x="55" y="172"/>
                  </a:lnTo>
                  <a:lnTo>
                    <a:pt x="77" y="180"/>
                  </a:lnTo>
                  <a:lnTo>
                    <a:pt x="95" y="182"/>
                  </a:lnTo>
                  <a:lnTo>
                    <a:pt x="107" y="182"/>
                  </a:lnTo>
                  <a:lnTo>
                    <a:pt x="117" y="181"/>
                  </a:lnTo>
                  <a:lnTo>
                    <a:pt x="125" y="181"/>
                  </a:lnTo>
                  <a:lnTo>
                    <a:pt x="130" y="181"/>
                  </a:lnTo>
                  <a:lnTo>
                    <a:pt x="119" y="0"/>
                  </a:lnTo>
                  <a:lnTo>
                    <a:pt x="113" y="1"/>
                  </a:lnTo>
                  <a:lnTo>
                    <a:pt x="107" y="1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11" y="2"/>
                  </a:lnTo>
                  <a:lnTo>
                    <a:pt x="124" y="6"/>
                  </a:lnTo>
                  <a:lnTo>
                    <a:pt x="145" y="20"/>
                  </a:lnTo>
                  <a:lnTo>
                    <a:pt x="165" y="47"/>
                  </a:lnTo>
                  <a:lnTo>
                    <a:pt x="167" y="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59120" y="5827680"/>
              <a:ext cx="93600" cy="58680"/>
            </a:xfrm>
            <a:custGeom>
              <a:avLst/>
              <a:gdLst/>
              <a:ahLst/>
              <a:rect l="l" t="t" r="r" b="b"/>
              <a:pathLst>
                <a:path w="298" h="184">
                  <a:moveTo>
                    <a:pt x="84" y="128"/>
                  </a:moveTo>
                  <a:lnTo>
                    <a:pt x="149" y="0"/>
                  </a:lnTo>
                  <a:lnTo>
                    <a:pt x="132" y="2"/>
                  </a:lnTo>
                  <a:lnTo>
                    <a:pt x="113" y="5"/>
                  </a:lnTo>
                  <a:lnTo>
                    <a:pt x="94" y="11"/>
                  </a:lnTo>
                  <a:lnTo>
                    <a:pt x="74" y="17"/>
                  </a:lnTo>
                  <a:lnTo>
                    <a:pt x="58" y="25"/>
                  </a:lnTo>
                  <a:lnTo>
                    <a:pt x="43" y="34"/>
                  </a:lnTo>
                  <a:lnTo>
                    <a:pt x="27" y="49"/>
                  </a:lnTo>
                  <a:lnTo>
                    <a:pt x="13" y="70"/>
                  </a:lnTo>
                  <a:lnTo>
                    <a:pt x="3" y="95"/>
                  </a:lnTo>
                  <a:lnTo>
                    <a:pt x="0" y="121"/>
                  </a:lnTo>
                  <a:lnTo>
                    <a:pt x="2" y="143"/>
                  </a:lnTo>
                  <a:lnTo>
                    <a:pt x="9" y="162"/>
                  </a:lnTo>
                  <a:lnTo>
                    <a:pt x="176" y="99"/>
                  </a:lnTo>
                  <a:lnTo>
                    <a:pt x="178" y="107"/>
                  </a:lnTo>
                  <a:lnTo>
                    <a:pt x="179" y="120"/>
                  </a:lnTo>
                  <a:lnTo>
                    <a:pt x="178" y="137"/>
                  </a:lnTo>
                  <a:lnTo>
                    <a:pt x="172" y="154"/>
                  </a:lnTo>
                  <a:lnTo>
                    <a:pt x="162" y="168"/>
                  </a:lnTo>
                  <a:lnTo>
                    <a:pt x="151" y="177"/>
                  </a:lnTo>
                  <a:lnTo>
                    <a:pt x="145" y="182"/>
                  </a:lnTo>
                  <a:lnTo>
                    <a:pt x="138" y="184"/>
                  </a:lnTo>
                  <a:lnTo>
                    <a:pt x="141" y="183"/>
                  </a:lnTo>
                  <a:lnTo>
                    <a:pt x="150" y="182"/>
                  </a:lnTo>
                  <a:lnTo>
                    <a:pt x="163" y="179"/>
                  </a:lnTo>
                  <a:lnTo>
                    <a:pt x="181" y="176"/>
                  </a:lnTo>
                  <a:lnTo>
                    <a:pt x="245" y="47"/>
                  </a:lnTo>
                  <a:lnTo>
                    <a:pt x="181" y="176"/>
                  </a:lnTo>
                  <a:lnTo>
                    <a:pt x="298" y="154"/>
                  </a:lnTo>
                  <a:lnTo>
                    <a:pt x="245" y="47"/>
                  </a:lnTo>
                  <a:lnTo>
                    <a:pt x="84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81440" y="5842080"/>
              <a:ext cx="55440" cy="27000"/>
            </a:xfrm>
            <a:custGeom>
              <a:avLst/>
              <a:gdLst/>
              <a:ahLst/>
              <a:rect l="l" t="t" r="r" b="b"/>
              <a:pathLst>
                <a:path w="173" h="86">
                  <a:moveTo>
                    <a:pt x="0" y="47"/>
                  </a:moveTo>
                  <a:lnTo>
                    <a:pt x="10" y="80"/>
                  </a:lnTo>
                  <a:lnTo>
                    <a:pt x="12" y="86"/>
                  </a:lnTo>
                  <a:lnTo>
                    <a:pt x="173" y="5"/>
                  </a:lnTo>
                  <a:lnTo>
                    <a:pt x="17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" y="65"/>
                  </a:lnTo>
                  <a:lnTo>
                    <a:pt x="10" y="8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81440" y="5843520"/>
              <a:ext cx="56880" cy="12600"/>
            </a:xfrm>
            <a:custGeom>
              <a:avLst/>
              <a:gdLst/>
              <a:ahLst/>
              <a:rect l="l" t="t" r="r" b="b"/>
              <a:pathLst>
                <a:path w="180" h="4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180" y="27"/>
                  </a:lnTo>
                  <a:lnTo>
                    <a:pt x="180" y="24"/>
                  </a:lnTo>
                  <a:lnTo>
                    <a:pt x="180" y="22"/>
                  </a:lnTo>
                  <a:lnTo>
                    <a:pt x="180" y="20"/>
                  </a:lnTo>
                  <a:lnTo>
                    <a:pt x="179" y="15"/>
                  </a:lnTo>
                  <a:lnTo>
                    <a:pt x="179" y="12"/>
                  </a:lnTo>
                  <a:lnTo>
                    <a:pt x="179" y="9"/>
                  </a:lnTo>
                  <a:lnTo>
                    <a:pt x="179" y="5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81440" y="5734080"/>
              <a:ext cx="91800" cy="109440"/>
            </a:xfrm>
            <a:custGeom>
              <a:avLst/>
              <a:gdLst/>
              <a:ahLst/>
              <a:rect l="l" t="t" r="r" b="b"/>
              <a:pathLst>
                <a:path w="289" h="344">
                  <a:moveTo>
                    <a:pt x="107" y="69"/>
                  </a:moveTo>
                  <a:lnTo>
                    <a:pt x="128" y="0"/>
                  </a:lnTo>
                  <a:lnTo>
                    <a:pt x="114" y="17"/>
                  </a:lnTo>
                  <a:lnTo>
                    <a:pt x="99" y="35"/>
                  </a:lnTo>
                  <a:lnTo>
                    <a:pt x="87" y="55"/>
                  </a:lnTo>
                  <a:lnTo>
                    <a:pt x="74" y="74"/>
                  </a:lnTo>
                  <a:lnTo>
                    <a:pt x="63" y="94"/>
                  </a:lnTo>
                  <a:lnTo>
                    <a:pt x="52" y="115"/>
                  </a:lnTo>
                  <a:lnTo>
                    <a:pt x="42" y="136"/>
                  </a:lnTo>
                  <a:lnTo>
                    <a:pt x="34" y="157"/>
                  </a:lnTo>
                  <a:lnTo>
                    <a:pt x="26" y="180"/>
                  </a:lnTo>
                  <a:lnTo>
                    <a:pt x="20" y="202"/>
                  </a:lnTo>
                  <a:lnTo>
                    <a:pt x="14" y="225"/>
                  </a:lnTo>
                  <a:lnTo>
                    <a:pt x="9" y="248"/>
                  </a:lnTo>
                  <a:lnTo>
                    <a:pt x="6" y="272"/>
                  </a:lnTo>
                  <a:lnTo>
                    <a:pt x="2" y="296"/>
                  </a:lnTo>
                  <a:lnTo>
                    <a:pt x="1" y="319"/>
                  </a:lnTo>
                  <a:lnTo>
                    <a:pt x="0" y="344"/>
                  </a:lnTo>
                  <a:lnTo>
                    <a:pt x="179" y="344"/>
                  </a:lnTo>
                  <a:lnTo>
                    <a:pt x="179" y="328"/>
                  </a:lnTo>
                  <a:lnTo>
                    <a:pt x="180" y="312"/>
                  </a:lnTo>
                  <a:lnTo>
                    <a:pt x="183" y="296"/>
                  </a:lnTo>
                  <a:lnTo>
                    <a:pt x="185" y="281"/>
                  </a:lnTo>
                  <a:lnTo>
                    <a:pt x="188" y="265"/>
                  </a:lnTo>
                  <a:lnTo>
                    <a:pt x="192" y="250"/>
                  </a:lnTo>
                  <a:lnTo>
                    <a:pt x="197" y="235"/>
                  </a:lnTo>
                  <a:lnTo>
                    <a:pt x="202" y="221"/>
                  </a:lnTo>
                  <a:lnTo>
                    <a:pt x="207" y="206"/>
                  </a:lnTo>
                  <a:lnTo>
                    <a:pt x="214" y="193"/>
                  </a:lnTo>
                  <a:lnTo>
                    <a:pt x="220" y="179"/>
                  </a:lnTo>
                  <a:lnTo>
                    <a:pt x="229" y="166"/>
                  </a:lnTo>
                  <a:lnTo>
                    <a:pt x="237" y="153"/>
                  </a:lnTo>
                  <a:lnTo>
                    <a:pt x="245" y="140"/>
                  </a:lnTo>
                  <a:lnTo>
                    <a:pt x="254" y="128"/>
                  </a:lnTo>
                  <a:lnTo>
                    <a:pt x="264" y="117"/>
                  </a:lnTo>
                  <a:lnTo>
                    <a:pt x="285" y="47"/>
                  </a:lnTo>
                  <a:lnTo>
                    <a:pt x="264" y="117"/>
                  </a:lnTo>
                  <a:lnTo>
                    <a:pt x="289" y="87"/>
                  </a:lnTo>
                  <a:lnTo>
                    <a:pt x="285" y="47"/>
                  </a:lnTo>
                  <a:lnTo>
                    <a:pt x="107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14560" y="5727600"/>
              <a:ext cx="57240" cy="28800"/>
            </a:xfrm>
            <a:custGeom>
              <a:avLst/>
              <a:gdLst/>
              <a:ahLst/>
              <a:rect l="l" t="t" r="r" b="b"/>
              <a:pathLst>
                <a:path w="179" h="91">
                  <a:moveTo>
                    <a:pt x="141" y="0"/>
                  </a:moveTo>
                  <a:lnTo>
                    <a:pt x="0" y="83"/>
                  </a:lnTo>
                  <a:lnTo>
                    <a:pt x="1" y="91"/>
                  </a:lnTo>
                  <a:lnTo>
                    <a:pt x="179" y="69"/>
                  </a:lnTo>
                  <a:lnTo>
                    <a:pt x="178" y="62"/>
                  </a:lnTo>
                  <a:lnTo>
                    <a:pt x="141" y="0"/>
                  </a:lnTo>
                  <a:lnTo>
                    <a:pt x="178" y="62"/>
                  </a:lnTo>
                  <a:lnTo>
                    <a:pt x="174" y="23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13120" y="5722920"/>
              <a:ext cx="46080" cy="50760"/>
            </a:xfrm>
            <a:custGeom>
              <a:avLst/>
              <a:gdLst/>
              <a:ahLst/>
              <a:rect l="l" t="t" r="r" b="b"/>
              <a:pathLst>
                <a:path w="146" h="158">
                  <a:moveTo>
                    <a:pt x="1" y="121"/>
                  </a:moveTo>
                  <a:lnTo>
                    <a:pt x="0" y="120"/>
                  </a:lnTo>
                  <a:lnTo>
                    <a:pt x="4" y="124"/>
                  </a:lnTo>
                  <a:lnTo>
                    <a:pt x="8" y="130"/>
                  </a:lnTo>
                  <a:lnTo>
                    <a:pt x="13" y="134"/>
                  </a:lnTo>
                  <a:lnTo>
                    <a:pt x="18" y="138"/>
                  </a:lnTo>
                  <a:lnTo>
                    <a:pt x="22" y="144"/>
                  </a:lnTo>
                  <a:lnTo>
                    <a:pt x="29" y="149"/>
                  </a:lnTo>
                  <a:lnTo>
                    <a:pt x="35" y="154"/>
                  </a:lnTo>
                  <a:lnTo>
                    <a:pt x="42" y="158"/>
                  </a:lnTo>
                  <a:lnTo>
                    <a:pt x="146" y="13"/>
                  </a:lnTo>
                  <a:lnTo>
                    <a:pt x="144" y="11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9"/>
                  </a:lnTo>
                  <a:lnTo>
                    <a:pt x="140" y="7"/>
                  </a:lnTo>
                  <a:lnTo>
                    <a:pt x="138" y="5"/>
                  </a:lnTo>
                  <a:lnTo>
                    <a:pt x="137" y="3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98720" y="5716440"/>
              <a:ext cx="57240" cy="446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13" y="0"/>
                  </a:moveTo>
                  <a:lnTo>
                    <a:pt x="11" y="4"/>
                  </a:lnTo>
                  <a:lnTo>
                    <a:pt x="0" y="48"/>
                  </a:lnTo>
                  <a:lnTo>
                    <a:pt x="7" y="84"/>
                  </a:lnTo>
                  <a:lnTo>
                    <a:pt x="18" y="105"/>
                  </a:lnTo>
                  <a:lnTo>
                    <a:pt x="27" y="119"/>
                  </a:lnTo>
                  <a:lnTo>
                    <a:pt x="36" y="127"/>
                  </a:lnTo>
                  <a:lnTo>
                    <a:pt x="41" y="133"/>
                  </a:lnTo>
                  <a:lnTo>
                    <a:pt x="45" y="137"/>
                  </a:lnTo>
                  <a:lnTo>
                    <a:pt x="48" y="139"/>
                  </a:lnTo>
                  <a:lnTo>
                    <a:pt x="180" y="18"/>
                  </a:lnTo>
                  <a:lnTo>
                    <a:pt x="174" y="11"/>
                  </a:lnTo>
                  <a:lnTo>
                    <a:pt x="170" y="6"/>
                  </a:lnTo>
                  <a:lnTo>
                    <a:pt x="166" y="4"/>
                  </a:lnTo>
                  <a:lnTo>
                    <a:pt x="166" y="4"/>
                  </a:lnTo>
                  <a:lnTo>
                    <a:pt x="169" y="8"/>
                  </a:lnTo>
                  <a:lnTo>
                    <a:pt x="175" y="20"/>
                  </a:lnTo>
                  <a:lnTo>
                    <a:pt x="180" y="47"/>
                  </a:lnTo>
                  <a:lnTo>
                    <a:pt x="172" y="85"/>
                  </a:lnTo>
                  <a:lnTo>
                    <a:pt x="170" y="8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01960" y="5699160"/>
              <a:ext cx="68400" cy="69840"/>
            </a:xfrm>
            <a:custGeom>
              <a:avLst/>
              <a:gdLst/>
              <a:ahLst/>
              <a:rect l="l" t="t" r="r" b="b"/>
              <a:pathLst>
                <a:path w="216" h="220">
                  <a:moveTo>
                    <a:pt x="158" y="41"/>
                  </a:moveTo>
                  <a:lnTo>
                    <a:pt x="216" y="62"/>
                  </a:lnTo>
                  <a:lnTo>
                    <a:pt x="202" y="50"/>
                  </a:lnTo>
                  <a:lnTo>
                    <a:pt x="188" y="38"/>
                  </a:lnTo>
                  <a:lnTo>
                    <a:pt x="172" y="27"/>
                  </a:lnTo>
                  <a:lnTo>
                    <a:pt x="154" y="16"/>
                  </a:lnTo>
                  <a:lnTo>
                    <a:pt x="137" y="7"/>
                  </a:lnTo>
                  <a:lnTo>
                    <a:pt x="120" y="3"/>
                  </a:lnTo>
                  <a:lnTo>
                    <a:pt x="99" y="0"/>
                  </a:lnTo>
                  <a:lnTo>
                    <a:pt x="73" y="2"/>
                  </a:lnTo>
                  <a:lnTo>
                    <a:pt x="48" y="11"/>
                  </a:lnTo>
                  <a:lnTo>
                    <a:pt x="26" y="25"/>
                  </a:lnTo>
                  <a:lnTo>
                    <a:pt x="11" y="42"/>
                  </a:lnTo>
                  <a:lnTo>
                    <a:pt x="0" y="58"/>
                  </a:lnTo>
                  <a:lnTo>
                    <a:pt x="157" y="146"/>
                  </a:lnTo>
                  <a:lnTo>
                    <a:pt x="152" y="153"/>
                  </a:lnTo>
                  <a:lnTo>
                    <a:pt x="144" y="163"/>
                  </a:lnTo>
                  <a:lnTo>
                    <a:pt x="130" y="171"/>
                  </a:lnTo>
                  <a:lnTo>
                    <a:pt x="111" y="178"/>
                  </a:lnTo>
                  <a:lnTo>
                    <a:pt x="94" y="180"/>
                  </a:lnTo>
                  <a:lnTo>
                    <a:pt x="82" y="178"/>
                  </a:lnTo>
                  <a:lnTo>
                    <a:pt x="73" y="176"/>
                  </a:lnTo>
                  <a:lnTo>
                    <a:pt x="67" y="172"/>
                  </a:lnTo>
                  <a:lnTo>
                    <a:pt x="70" y="174"/>
                  </a:lnTo>
                  <a:lnTo>
                    <a:pt x="77" y="179"/>
                  </a:lnTo>
                  <a:lnTo>
                    <a:pt x="86" y="189"/>
                  </a:lnTo>
                  <a:lnTo>
                    <a:pt x="100" y="199"/>
                  </a:lnTo>
                  <a:lnTo>
                    <a:pt x="158" y="220"/>
                  </a:lnTo>
                  <a:lnTo>
                    <a:pt x="100" y="199"/>
                  </a:lnTo>
                  <a:lnTo>
                    <a:pt x="125" y="220"/>
                  </a:lnTo>
                  <a:lnTo>
                    <a:pt x="158" y="220"/>
                  </a:lnTo>
                  <a:lnTo>
                    <a:pt x="158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52720" y="5711760"/>
              <a:ext cx="22320" cy="57240"/>
            </a:xfrm>
            <a:custGeom>
              <a:avLst/>
              <a:gdLst/>
              <a:ahLst/>
              <a:rect l="l" t="t" r="r" b="b"/>
              <a:pathLst>
                <a:path w="70" h="179">
                  <a:moveTo>
                    <a:pt x="70" y="155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179"/>
                  </a:lnTo>
                  <a:lnTo>
                    <a:pt x="8" y="179"/>
                  </a:lnTo>
                  <a:lnTo>
                    <a:pt x="70" y="155"/>
                  </a:lnTo>
                  <a:lnTo>
                    <a:pt x="8" y="179"/>
                  </a:lnTo>
                  <a:lnTo>
                    <a:pt x="43" y="179"/>
                  </a:lnTo>
                  <a:lnTo>
                    <a:pt x="70" y="1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97360" y="5781600"/>
              <a:ext cx="98280" cy="8568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64" y="0"/>
                  </a:moveTo>
                  <a:lnTo>
                    <a:pt x="0" y="265"/>
                  </a:lnTo>
                  <a:lnTo>
                    <a:pt x="309" y="268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97360" y="5781600"/>
              <a:ext cx="98280" cy="8568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64" y="0"/>
                  </a:moveTo>
                  <a:lnTo>
                    <a:pt x="0" y="265"/>
                  </a:lnTo>
                  <a:lnTo>
                    <a:pt x="309" y="268"/>
                  </a:lnTo>
                  <a:lnTo>
                    <a:pt x="164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49560" y="5781600"/>
              <a:ext cx="87480" cy="85680"/>
            </a:xfrm>
            <a:custGeom>
              <a:avLst/>
              <a:gdLst/>
              <a:ahLst/>
              <a:rect l="l" t="t" r="r" b="b"/>
              <a:pathLst>
                <a:path w="275" h="268">
                  <a:moveTo>
                    <a:pt x="0" y="0"/>
                  </a:moveTo>
                  <a:lnTo>
                    <a:pt x="275" y="39"/>
                  </a:lnTo>
                  <a:lnTo>
                    <a:pt x="145" y="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49560" y="5781600"/>
              <a:ext cx="87480" cy="85680"/>
            </a:xfrm>
            <a:custGeom>
              <a:avLst/>
              <a:gdLst/>
              <a:ahLst/>
              <a:rect l="l" t="t" r="r" b="b"/>
              <a:pathLst>
                <a:path w="275" h="268">
                  <a:moveTo>
                    <a:pt x="0" y="0"/>
                  </a:moveTo>
                  <a:lnTo>
                    <a:pt x="275" y="39"/>
                  </a:lnTo>
                  <a:lnTo>
                    <a:pt x="145" y="268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095640" y="5794200"/>
              <a:ext cx="41400" cy="100080"/>
            </a:xfrm>
            <a:custGeom>
              <a:avLst/>
              <a:gdLst/>
              <a:ahLst/>
              <a:rect l="l" t="t" r="r" b="b"/>
              <a:pathLst>
                <a:path w="130" h="316">
                  <a:moveTo>
                    <a:pt x="130" y="0"/>
                  </a:moveTo>
                  <a:lnTo>
                    <a:pt x="119" y="316"/>
                  </a:lnTo>
                  <a:lnTo>
                    <a:pt x="0" y="22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095640" y="5794200"/>
              <a:ext cx="41400" cy="100080"/>
            </a:xfrm>
            <a:custGeom>
              <a:avLst/>
              <a:gdLst/>
              <a:ahLst/>
              <a:rect l="l" t="t" r="r" b="b"/>
              <a:pathLst>
                <a:path w="130" h="316">
                  <a:moveTo>
                    <a:pt x="130" y="0"/>
                  </a:moveTo>
                  <a:lnTo>
                    <a:pt x="119" y="316"/>
                  </a:lnTo>
                  <a:lnTo>
                    <a:pt x="0" y="229"/>
                  </a:lnTo>
                  <a:lnTo>
                    <a:pt x="130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49560" y="5738760"/>
              <a:ext cx="87480" cy="55440"/>
            </a:xfrm>
            <a:custGeom>
              <a:avLst/>
              <a:gdLst/>
              <a:ahLst/>
              <a:rect l="l" t="t" r="r" b="b"/>
              <a:pathLst>
                <a:path w="275" h="174">
                  <a:moveTo>
                    <a:pt x="6" y="0"/>
                  </a:moveTo>
                  <a:lnTo>
                    <a:pt x="275" y="174"/>
                  </a:lnTo>
                  <a:lnTo>
                    <a:pt x="0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49560" y="5738760"/>
              <a:ext cx="87480" cy="55440"/>
            </a:xfrm>
            <a:custGeom>
              <a:avLst/>
              <a:gdLst/>
              <a:ahLst/>
              <a:rect l="l" t="t" r="r" b="b"/>
              <a:pathLst>
                <a:path w="275" h="174">
                  <a:moveTo>
                    <a:pt x="6" y="0"/>
                  </a:moveTo>
                  <a:lnTo>
                    <a:pt x="275" y="174"/>
                  </a:lnTo>
                  <a:lnTo>
                    <a:pt x="0" y="135"/>
                  </a:lnTo>
                  <a:lnTo>
                    <a:pt x="6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963880" y="5738760"/>
              <a:ext cx="87120" cy="4932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0" y="151"/>
                  </a:moveTo>
                  <a:lnTo>
                    <a:pt x="278" y="0"/>
                  </a:lnTo>
                  <a:lnTo>
                    <a:pt x="272" y="135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63880" y="5738760"/>
              <a:ext cx="87120" cy="4932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0" y="151"/>
                  </a:moveTo>
                  <a:lnTo>
                    <a:pt x="278" y="0"/>
                  </a:lnTo>
                  <a:lnTo>
                    <a:pt x="272" y="135"/>
                  </a:lnTo>
                  <a:lnTo>
                    <a:pt x="0" y="151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63880" y="5781600"/>
              <a:ext cx="85680" cy="8424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108" y="265"/>
                  </a:moveTo>
                  <a:lnTo>
                    <a:pt x="0" y="16"/>
                  </a:lnTo>
                  <a:lnTo>
                    <a:pt x="272" y="0"/>
                  </a:lnTo>
                  <a:lnTo>
                    <a:pt x="108" y="265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963880" y="5781600"/>
              <a:ext cx="85680" cy="8424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108" y="265"/>
                  </a:moveTo>
                  <a:lnTo>
                    <a:pt x="0" y="16"/>
                  </a:lnTo>
                  <a:lnTo>
                    <a:pt x="272" y="0"/>
                  </a:lnTo>
                  <a:lnTo>
                    <a:pt x="108" y="265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60640" y="5788080"/>
              <a:ext cx="36720" cy="95040"/>
            </a:xfrm>
            <a:custGeom>
              <a:avLst/>
              <a:gdLst/>
              <a:ahLst/>
              <a:rect l="l" t="t" r="r" b="b"/>
              <a:pathLst>
                <a:path w="116" h="300">
                  <a:moveTo>
                    <a:pt x="0" y="300"/>
                  </a:moveTo>
                  <a:lnTo>
                    <a:pt x="8" y="0"/>
                  </a:lnTo>
                  <a:lnTo>
                    <a:pt x="116" y="249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960640" y="5788080"/>
              <a:ext cx="36720" cy="95040"/>
            </a:xfrm>
            <a:custGeom>
              <a:avLst/>
              <a:gdLst/>
              <a:ahLst/>
              <a:rect l="l" t="t" r="r" b="b"/>
              <a:pathLst>
                <a:path w="116" h="300">
                  <a:moveTo>
                    <a:pt x="0" y="300"/>
                  </a:moveTo>
                  <a:lnTo>
                    <a:pt x="8" y="0"/>
                  </a:lnTo>
                  <a:lnTo>
                    <a:pt x="116" y="249"/>
                  </a:lnTo>
                  <a:lnTo>
                    <a:pt x="0" y="30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997360" y="5865840"/>
              <a:ext cx="98280" cy="7632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151" y="236"/>
                  </a:moveTo>
                  <a:lnTo>
                    <a:pt x="0" y="0"/>
                  </a:lnTo>
                  <a:lnTo>
                    <a:pt x="309" y="3"/>
                  </a:lnTo>
                  <a:lnTo>
                    <a:pt x="151" y="236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97360" y="5865840"/>
              <a:ext cx="98280" cy="7632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151" y="236"/>
                  </a:moveTo>
                  <a:lnTo>
                    <a:pt x="0" y="0"/>
                  </a:lnTo>
                  <a:lnTo>
                    <a:pt x="309" y="3"/>
                  </a:lnTo>
                  <a:lnTo>
                    <a:pt x="151" y="236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44880" y="5867280"/>
              <a:ext cx="88920" cy="748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7" y="87"/>
                  </a:moveTo>
                  <a:lnTo>
                    <a:pt x="0" y="233"/>
                  </a:lnTo>
                  <a:lnTo>
                    <a:pt x="158" y="0"/>
                  </a:lnTo>
                  <a:lnTo>
                    <a:pt x="277" y="87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44880" y="5867280"/>
              <a:ext cx="88920" cy="748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7" y="87"/>
                  </a:moveTo>
                  <a:lnTo>
                    <a:pt x="0" y="233"/>
                  </a:lnTo>
                  <a:lnTo>
                    <a:pt x="158" y="0"/>
                  </a:lnTo>
                  <a:lnTo>
                    <a:pt x="277" y="87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60640" y="5865840"/>
              <a:ext cx="84240" cy="76320"/>
            </a:xfrm>
            <a:custGeom>
              <a:avLst/>
              <a:gdLst/>
              <a:ahLst/>
              <a:rect l="l" t="t" r="r" b="b"/>
              <a:pathLst>
                <a:path w="267" h="236">
                  <a:moveTo>
                    <a:pt x="0" y="51"/>
                  </a:moveTo>
                  <a:lnTo>
                    <a:pt x="116" y="0"/>
                  </a:lnTo>
                  <a:lnTo>
                    <a:pt x="267" y="23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60640" y="5865840"/>
              <a:ext cx="84240" cy="76320"/>
            </a:xfrm>
            <a:custGeom>
              <a:avLst/>
              <a:gdLst/>
              <a:ahLst/>
              <a:rect l="l" t="t" r="r" b="b"/>
              <a:pathLst>
                <a:path w="267" h="236">
                  <a:moveTo>
                    <a:pt x="0" y="51"/>
                  </a:moveTo>
                  <a:lnTo>
                    <a:pt x="116" y="0"/>
                  </a:lnTo>
                  <a:lnTo>
                    <a:pt x="267" y="236"/>
                  </a:lnTo>
                  <a:lnTo>
                    <a:pt x="0" y="51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886120" y="5688000"/>
              <a:ext cx="317520" cy="299880"/>
            </a:xfrm>
            <a:custGeom>
              <a:avLst/>
              <a:gdLst/>
              <a:ahLst/>
              <a:rect l="l" t="t" r="r" b="b"/>
              <a:pathLst>
                <a:path w="1000" h="946">
                  <a:moveTo>
                    <a:pt x="215" y="165"/>
                  </a:moveTo>
                  <a:lnTo>
                    <a:pt x="225" y="158"/>
                  </a:lnTo>
                  <a:lnTo>
                    <a:pt x="235" y="149"/>
                  </a:lnTo>
                  <a:lnTo>
                    <a:pt x="244" y="141"/>
                  </a:lnTo>
                  <a:lnTo>
                    <a:pt x="254" y="134"/>
                  </a:lnTo>
                  <a:lnTo>
                    <a:pt x="264" y="127"/>
                  </a:lnTo>
                  <a:lnTo>
                    <a:pt x="275" y="121"/>
                  </a:lnTo>
                  <a:lnTo>
                    <a:pt x="284" y="114"/>
                  </a:lnTo>
                  <a:lnTo>
                    <a:pt x="295" y="108"/>
                  </a:lnTo>
                  <a:lnTo>
                    <a:pt x="304" y="104"/>
                  </a:lnTo>
                  <a:lnTo>
                    <a:pt x="302" y="99"/>
                  </a:lnTo>
                  <a:lnTo>
                    <a:pt x="300" y="95"/>
                  </a:lnTo>
                  <a:lnTo>
                    <a:pt x="297" y="91"/>
                  </a:lnTo>
                  <a:lnTo>
                    <a:pt x="296" y="86"/>
                  </a:lnTo>
                  <a:lnTo>
                    <a:pt x="295" y="82"/>
                  </a:lnTo>
                  <a:lnTo>
                    <a:pt x="293" y="77"/>
                  </a:lnTo>
                  <a:lnTo>
                    <a:pt x="291" y="72"/>
                  </a:lnTo>
                  <a:lnTo>
                    <a:pt x="290" y="67"/>
                  </a:lnTo>
                  <a:lnTo>
                    <a:pt x="288" y="62"/>
                  </a:lnTo>
                  <a:lnTo>
                    <a:pt x="286" y="56"/>
                  </a:lnTo>
                  <a:lnTo>
                    <a:pt x="284" y="50"/>
                  </a:lnTo>
                  <a:lnTo>
                    <a:pt x="284" y="43"/>
                  </a:lnTo>
                  <a:lnTo>
                    <a:pt x="284" y="38"/>
                  </a:lnTo>
                  <a:lnTo>
                    <a:pt x="286" y="33"/>
                  </a:lnTo>
                  <a:lnTo>
                    <a:pt x="287" y="29"/>
                  </a:lnTo>
                  <a:lnTo>
                    <a:pt x="291" y="27"/>
                  </a:lnTo>
                  <a:lnTo>
                    <a:pt x="295" y="25"/>
                  </a:lnTo>
                  <a:lnTo>
                    <a:pt x="300" y="24"/>
                  </a:lnTo>
                  <a:lnTo>
                    <a:pt x="304" y="24"/>
                  </a:lnTo>
                  <a:lnTo>
                    <a:pt x="307" y="25"/>
                  </a:lnTo>
                  <a:lnTo>
                    <a:pt x="310" y="27"/>
                  </a:lnTo>
                  <a:lnTo>
                    <a:pt x="314" y="29"/>
                  </a:lnTo>
                  <a:lnTo>
                    <a:pt x="316" y="32"/>
                  </a:lnTo>
                  <a:lnTo>
                    <a:pt x="319" y="36"/>
                  </a:lnTo>
                  <a:lnTo>
                    <a:pt x="324" y="45"/>
                  </a:lnTo>
                  <a:lnTo>
                    <a:pt x="330" y="57"/>
                  </a:lnTo>
                  <a:lnTo>
                    <a:pt x="336" y="70"/>
                  </a:lnTo>
                  <a:lnTo>
                    <a:pt x="344" y="85"/>
                  </a:lnTo>
                  <a:lnTo>
                    <a:pt x="357" y="80"/>
                  </a:lnTo>
                  <a:lnTo>
                    <a:pt x="374" y="73"/>
                  </a:lnTo>
                  <a:lnTo>
                    <a:pt x="392" y="68"/>
                  </a:lnTo>
                  <a:lnTo>
                    <a:pt x="412" y="64"/>
                  </a:lnTo>
                  <a:lnTo>
                    <a:pt x="430" y="59"/>
                  </a:lnTo>
                  <a:lnTo>
                    <a:pt x="450" y="57"/>
                  </a:lnTo>
                  <a:lnTo>
                    <a:pt x="469" y="55"/>
                  </a:lnTo>
                  <a:lnTo>
                    <a:pt x="488" y="53"/>
                  </a:lnTo>
                  <a:lnTo>
                    <a:pt x="509" y="53"/>
                  </a:lnTo>
                  <a:lnTo>
                    <a:pt x="523" y="53"/>
                  </a:lnTo>
                  <a:lnTo>
                    <a:pt x="537" y="54"/>
                  </a:lnTo>
                  <a:lnTo>
                    <a:pt x="551" y="55"/>
                  </a:lnTo>
                  <a:lnTo>
                    <a:pt x="565" y="56"/>
                  </a:lnTo>
                  <a:lnTo>
                    <a:pt x="579" y="58"/>
                  </a:lnTo>
                  <a:lnTo>
                    <a:pt x="592" y="60"/>
                  </a:lnTo>
                  <a:lnTo>
                    <a:pt x="606" y="64"/>
                  </a:lnTo>
                  <a:lnTo>
                    <a:pt x="619" y="66"/>
                  </a:lnTo>
                  <a:lnTo>
                    <a:pt x="623" y="69"/>
                  </a:lnTo>
                  <a:lnTo>
                    <a:pt x="625" y="65"/>
                  </a:lnTo>
                  <a:lnTo>
                    <a:pt x="626" y="60"/>
                  </a:lnTo>
                  <a:lnTo>
                    <a:pt x="628" y="56"/>
                  </a:lnTo>
                  <a:lnTo>
                    <a:pt x="629" y="52"/>
                  </a:lnTo>
                  <a:lnTo>
                    <a:pt x="630" y="49"/>
                  </a:lnTo>
                  <a:lnTo>
                    <a:pt x="632" y="44"/>
                  </a:lnTo>
                  <a:lnTo>
                    <a:pt x="633" y="40"/>
                  </a:lnTo>
                  <a:lnTo>
                    <a:pt x="634" y="35"/>
                  </a:lnTo>
                  <a:lnTo>
                    <a:pt x="636" y="29"/>
                  </a:lnTo>
                  <a:lnTo>
                    <a:pt x="639" y="23"/>
                  </a:lnTo>
                  <a:lnTo>
                    <a:pt x="641" y="17"/>
                  </a:lnTo>
                  <a:lnTo>
                    <a:pt x="644" y="12"/>
                  </a:lnTo>
                  <a:lnTo>
                    <a:pt x="647" y="6"/>
                  </a:lnTo>
                  <a:lnTo>
                    <a:pt x="650" y="3"/>
                  </a:lnTo>
                  <a:lnTo>
                    <a:pt x="655" y="1"/>
                  </a:lnTo>
                  <a:lnTo>
                    <a:pt x="658" y="0"/>
                  </a:lnTo>
                  <a:lnTo>
                    <a:pt x="664" y="1"/>
                  </a:lnTo>
                  <a:lnTo>
                    <a:pt x="669" y="3"/>
                  </a:lnTo>
                  <a:lnTo>
                    <a:pt x="673" y="5"/>
                  </a:lnTo>
                  <a:lnTo>
                    <a:pt x="675" y="9"/>
                  </a:lnTo>
                  <a:lnTo>
                    <a:pt x="677" y="12"/>
                  </a:lnTo>
                  <a:lnTo>
                    <a:pt x="679" y="15"/>
                  </a:lnTo>
                  <a:lnTo>
                    <a:pt x="680" y="20"/>
                  </a:lnTo>
                  <a:lnTo>
                    <a:pt x="680" y="25"/>
                  </a:lnTo>
                  <a:lnTo>
                    <a:pt x="679" y="37"/>
                  </a:lnTo>
                  <a:lnTo>
                    <a:pt x="675" y="50"/>
                  </a:lnTo>
                  <a:lnTo>
                    <a:pt x="671" y="65"/>
                  </a:lnTo>
                  <a:lnTo>
                    <a:pt x="666" y="81"/>
                  </a:lnTo>
                  <a:lnTo>
                    <a:pt x="672" y="84"/>
                  </a:lnTo>
                  <a:lnTo>
                    <a:pt x="695" y="94"/>
                  </a:lnTo>
                  <a:lnTo>
                    <a:pt x="716" y="105"/>
                  </a:lnTo>
                  <a:lnTo>
                    <a:pt x="737" y="117"/>
                  </a:lnTo>
                  <a:lnTo>
                    <a:pt x="757" y="130"/>
                  </a:lnTo>
                  <a:lnTo>
                    <a:pt x="777" y="144"/>
                  </a:lnTo>
                  <a:lnTo>
                    <a:pt x="795" y="159"/>
                  </a:lnTo>
                  <a:lnTo>
                    <a:pt x="812" y="175"/>
                  </a:lnTo>
                  <a:lnTo>
                    <a:pt x="830" y="192"/>
                  </a:lnTo>
                  <a:lnTo>
                    <a:pt x="846" y="211"/>
                  </a:lnTo>
                  <a:lnTo>
                    <a:pt x="860" y="229"/>
                  </a:lnTo>
                  <a:lnTo>
                    <a:pt x="874" y="249"/>
                  </a:lnTo>
                  <a:lnTo>
                    <a:pt x="887" y="269"/>
                  </a:lnTo>
                  <a:lnTo>
                    <a:pt x="899" y="290"/>
                  </a:lnTo>
                  <a:lnTo>
                    <a:pt x="910" y="312"/>
                  </a:lnTo>
                  <a:lnTo>
                    <a:pt x="918" y="335"/>
                  </a:lnTo>
                  <a:lnTo>
                    <a:pt x="927" y="357"/>
                  </a:lnTo>
                  <a:lnTo>
                    <a:pt x="929" y="365"/>
                  </a:lnTo>
                  <a:lnTo>
                    <a:pt x="933" y="363"/>
                  </a:lnTo>
                  <a:lnTo>
                    <a:pt x="938" y="362"/>
                  </a:lnTo>
                  <a:lnTo>
                    <a:pt x="942" y="361"/>
                  </a:lnTo>
                  <a:lnTo>
                    <a:pt x="946" y="361"/>
                  </a:lnTo>
                  <a:lnTo>
                    <a:pt x="952" y="360"/>
                  </a:lnTo>
                  <a:lnTo>
                    <a:pt x="956" y="360"/>
                  </a:lnTo>
                  <a:lnTo>
                    <a:pt x="961" y="360"/>
                  </a:lnTo>
                  <a:lnTo>
                    <a:pt x="967" y="359"/>
                  </a:lnTo>
                  <a:lnTo>
                    <a:pt x="972" y="359"/>
                  </a:lnTo>
                  <a:lnTo>
                    <a:pt x="978" y="357"/>
                  </a:lnTo>
                  <a:lnTo>
                    <a:pt x="982" y="357"/>
                  </a:lnTo>
                  <a:lnTo>
                    <a:pt x="987" y="356"/>
                  </a:lnTo>
                  <a:lnTo>
                    <a:pt x="992" y="357"/>
                  </a:lnTo>
                  <a:lnTo>
                    <a:pt x="995" y="359"/>
                  </a:lnTo>
                  <a:lnTo>
                    <a:pt x="998" y="361"/>
                  </a:lnTo>
                  <a:lnTo>
                    <a:pt x="999" y="364"/>
                  </a:lnTo>
                  <a:lnTo>
                    <a:pt x="1000" y="369"/>
                  </a:lnTo>
                  <a:lnTo>
                    <a:pt x="1000" y="374"/>
                  </a:lnTo>
                  <a:lnTo>
                    <a:pt x="1000" y="377"/>
                  </a:lnTo>
                  <a:lnTo>
                    <a:pt x="999" y="381"/>
                  </a:lnTo>
                  <a:lnTo>
                    <a:pt x="998" y="384"/>
                  </a:lnTo>
                  <a:lnTo>
                    <a:pt x="996" y="387"/>
                  </a:lnTo>
                  <a:lnTo>
                    <a:pt x="994" y="389"/>
                  </a:lnTo>
                  <a:lnTo>
                    <a:pt x="991" y="391"/>
                  </a:lnTo>
                  <a:lnTo>
                    <a:pt x="982" y="395"/>
                  </a:lnTo>
                  <a:lnTo>
                    <a:pt x="971" y="398"/>
                  </a:lnTo>
                  <a:lnTo>
                    <a:pt x="957" y="402"/>
                  </a:lnTo>
                  <a:lnTo>
                    <a:pt x="941" y="406"/>
                  </a:lnTo>
                  <a:lnTo>
                    <a:pt x="940" y="415"/>
                  </a:lnTo>
                  <a:lnTo>
                    <a:pt x="942" y="423"/>
                  </a:lnTo>
                  <a:lnTo>
                    <a:pt x="943" y="433"/>
                  </a:lnTo>
                  <a:lnTo>
                    <a:pt x="944" y="443"/>
                  </a:lnTo>
                  <a:lnTo>
                    <a:pt x="945" y="451"/>
                  </a:lnTo>
                  <a:lnTo>
                    <a:pt x="946" y="461"/>
                  </a:lnTo>
                  <a:lnTo>
                    <a:pt x="946" y="471"/>
                  </a:lnTo>
                  <a:lnTo>
                    <a:pt x="947" y="481"/>
                  </a:lnTo>
                  <a:lnTo>
                    <a:pt x="947" y="490"/>
                  </a:lnTo>
                  <a:lnTo>
                    <a:pt x="946" y="518"/>
                  </a:lnTo>
                  <a:lnTo>
                    <a:pt x="943" y="548"/>
                  </a:lnTo>
                  <a:lnTo>
                    <a:pt x="939" y="575"/>
                  </a:lnTo>
                  <a:lnTo>
                    <a:pt x="932" y="602"/>
                  </a:lnTo>
                  <a:lnTo>
                    <a:pt x="925" y="629"/>
                  </a:lnTo>
                  <a:lnTo>
                    <a:pt x="915" y="653"/>
                  </a:lnTo>
                  <a:lnTo>
                    <a:pt x="904" y="678"/>
                  </a:lnTo>
                  <a:lnTo>
                    <a:pt x="891" y="703"/>
                  </a:lnTo>
                  <a:lnTo>
                    <a:pt x="885" y="714"/>
                  </a:lnTo>
                  <a:lnTo>
                    <a:pt x="889" y="715"/>
                  </a:lnTo>
                  <a:lnTo>
                    <a:pt x="893" y="717"/>
                  </a:lnTo>
                  <a:lnTo>
                    <a:pt x="898" y="719"/>
                  </a:lnTo>
                  <a:lnTo>
                    <a:pt x="901" y="721"/>
                  </a:lnTo>
                  <a:lnTo>
                    <a:pt x="905" y="725"/>
                  </a:lnTo>
                  <a:lnTo>
                    <a:pt x="910" y="727"/>
                  </a:lnTo>
                  <a:lnTo>
                    <a:pt x="914" y="730"/>
                  </a:lnTo>
                  <a:lnTo>
                    <a:pt x="919" y="733"/>
                  </a:lnTo>
                  <a:lnTo>
                    <a:pt x="924" y="735"/>
                  </a:lnTo>
                  <a:lnTo>
                    <a:pt x="928" y="739"/>
                  </a:lnTo>
                  <a:lnTo>
                    <a:pt x="932" y="742"/>
                  </a:lnTo>
                  <a:lnTo>
                    <a:pt x="937" y="745"/>
                  </a:lnTo>
                  <a:lnTo>
                    <a:pt x="939" y="748"/>
                  </a:lnTo>
                  <a:lnTo>
                    <a:pt x="941" y="752"/>
                  </a:lnTo>
                  <a:lnTo>
                    <a:pt x="941" y="756"/>
                  </a:lnTo>
                  <a:lnTo>
                    <a:pt x="940" y="759"/>
                  </a:lnTo>
                  <a:lnTo>
                    <a:pt x="938" y="764"/>
                  </a:lnTo>
                  <a:lnTo>
                    <a:pt x="934" y="768"/>
                  </a:lnTo>
                  <a:lnTo>
                    <a:pt x="932" y="771"/>
                  </a:lnTo>
                  <a:lnTo>
                    <a:pt x="929" y="773"/>
                  </a:lnTo>
                  <a:lnTo>
                    <a:pt x="926" y="774"/>
                  </a:lnTo>
                  <a:lnTo>
                    <a:pt x="923" y="774"/>
                  </a:lnTo>
                  <a:lnTo>
                    <a:pt x="918" y="774"/>
                  </a:lnTo>
                  <a:lnTo>
                    <a:pt x="914" y="773"/>
                  </a:lnTo>
                  <a:lnTo>
                    <a:pt x="904" y="770"/>
                  </a:lnTo>
                  <a:lnTo>
                    <a:pt x="893" y="765"/>
                  </a:lnTo>
                  <a:lnTo>
                    <a:pt x="880" y="758"/>
                  </a:lnTo>
                  <a:lnTo>
                    <a:pt x="864" y="752"/>
                  </a:lnTo>
                  <a:lnTo>
                    <a:pt x="861" y="752"/>
                  </a:lnTo>
                  <a:lnTo>
                    <a:pt x="848" y="768"/>
                  </a:lnTo>
                  <a:lnTo>
                    <a:pt x="835" y="783"/>
                  </a:lnTo>
                  <a:lnTo>
                    <a:pt x="821" y="798"/>
                  </a:lnTo>
                  <a:lnTo>
                    <a:pt x="806" y="812"/>
                  </a:lnTo>
                  <a:lnTo>
                    <a:pt x="791" y="825"/>
                  </a:lnTo>
                  <a:lnTo>
                    <a:pt x="776" y="838"/>
                  </a:lnTo>
                  <a:lnTo>
                    <a:pt x="758" y="850"/>
                  </a:lnTo>
                  <a:lnTo>
                    <a:pt x="742" y="861"/>
                  </a:lnTo>
                  <a:lnTo>
                    <a:pt x="731" y="867"/>
                  </a:lnTo>
                  <a:lnTo>
                    <a:pt x="734" y="872"/>
                  </a:lnTo>
                  <a:lnTo>
                    <a:pt x="736" y="876"/>
                  </a:lnTo>
                  <a:lnTo>
                    <a:pt x="738" y="880"/>
                  </a:lnTo>
                  <a:lnTo>
                    <a:pt x="740" y="883"/>
                  </a:lnTo>
                  <a:lnTo>
                    <a:pt x="742" y="888"/>
                  </a:lnTo>
                  <a:lnTo>
                    <a:pt x="744" y="892"/>
                  </a:lnTo>
                  <a:lnTo>
                    <a:pt x="747" y="896"/>
                  </a:lnTo>
                  <a:lnTo>
                    <a:pt x="749" y="901"/>
                  </a:lnTo>
                  <a:lnTo>
                    <a:pt x="752" y="906"/>
                  </a:lnTo>
                  <a:lnTo>
                    <a:pt x="755" y="911"/>
                  </a:lnTo>
                  <a:lnTo>
                    <a:pt x="758" y="916"/>
                  </a:lnTo>
                  <a:lnTo>
                    <a:pt x="762" y="921"/>
                  </a:lnTo>
                  <a:lnTo>
                    <a:pt x="764" y="927"/>
                  </a:lnTo>
                  <a:lnTo>
                    <a:pt x="765" y="931"/>
                  </a:lnTo>
                  <a:lnTo>
                    <a:pt x="765" y="934"/>
                  </a:lnTo>
                  <a:lnTo>
                    <a:pt x="763" y="937"/>
                  </a:lnTo>
                  <a:lnTo>
                    <a:pt x="758" y="942"/>
                  </a:lnTo>
                  <a:lnTo>
                    <a:pt x="754" y="944"/>
                  </a:lnTo>
                  <a:lnTo>
                    <a:pt x="750" y="945"/>
                  </a:lnTo>
                  <a:lnTo>
                    <a:pt x="745" y="946"/>
                  </a:lnTo>
                  <a:lnTo>
                    <a:pt x="741" y="945"/>
                  </a:lnTo>
                  <a:lnTo>
                    <a:pt x="737" y="943"/>
                  </a:lnTo>
                  <a:lnTo>
                    <a:pt x="734" y="941"/>
                  </a:lnTo>
                  <a:lnTo>
                    <a:pt x="729" y="936"/>
                  </a:lnTo>
                  <a:lnTo>
                    <a:pt x="721" y="928"/>
                  </a:lnTo>
                  <a:lnTo>
                    <a:pt x="712" y="916"/>
                  </a:lnTo>
                  <a:lnTo>
                    <a:pt x="703" y="903"/>
                  </a:lnTo>
                  <a:lnTo>
                    <a:pt x="694" y="889"/>
                  </a:lnTo>
                  <a:lnTo>
                    <a:pt x="684" y="892"/>
                  </a:lnTo>
                  <a:lnTo>
                    <a:pt x="663" y="901"/>
                  </a:lnTo>
                  <a:lnTo>
                    <a:pt x="643" y="907"/>
                  </a:lnTo>
                  <a:lnTo>
                    <a:pt x="621" y="914"/>
                  </a:lnTo>
                  <a:lnTo>
                    <a:pt x="600" y="919"/>
                  </a:lnTo>
                  <a:lnTo>
                    <a:pt x="577" y="923"/>
                  </a:lnTo>
                  <a:lnTo>
                    <a:pt x="555" y="926"/>
                  </a:lnTo>
                  <a:lnTo>
                    <a:pt x="532" y="928"/>
                  </a:lnTo>
                  <a:lnTo>
                    <a:pt x="509" y="928"/>
                  </a:lnTo>
                  <a:lnTo>
                    <a:pt x="482" y="928"/>
                  </a:lnTo>
                  <a:lnTo>
                    <a:pt x="456" y="924"/>
                  </a:lnTo>
                  <a:lnTo>
                    <a:pt x="429" y="921"/>
                  </a:lnTo>
                  <a:lnTo>
                    <a:pt x="404" y="916"/>
                  </a:lnTo>
                  <a:lnTo>
                    <a:pt x="379" y="908"/>
                  </a:lnTo>
                  <a:lnTo>
                    <a:pt x="355" y="901"/>
                  </a:lnTo>
                  <a:lnTo>
                    <a:pt x="331" y="891"/>
                  </a:lnTo>
                  <a:lnTo>
                    <a:pt x="308" y="879"/>
                  </a:lnTo>
                  <a:lnTo>
                    <a:pt x="300" y="875"/>
                  </a:lnTo>
                  <a:lnTo>
                    <a:pt x="297" y="879"/>
                  </a:lnTo>
                  <a:lnTo>
                    <a:pt x="295" y="883"/>
                  </a:lnTo>
                  <a:lnTo>
                    <a:pt x="293" y="888"/>
                  </a:lnTo>
                  <a:lnTo>
                    <a:pt x="291" y="892"/>
                  </a:lnTo>
                  <a:lnTo>
                    <a:pt x="289" y="896"/>
                  </a:lnTo>
                  <a:lnTo>
                    <a:pt x="287" y="901"/>
                  </a:lnTo>
                  <a:lnTo>
                    <a:pt x="284" y="904"/>
                  </a:lnTo>
                  <a:lnTo>
                    <a:pt x="281" y="908"/>
                  </a:lnTo>
                  <a:lnTo>
                    <a:pt x="278" y="915"/>
                  </a:lnTo>
                  <a:lnTo>
                    <a:pt x="274" y="920"/>
                  </a:lnTo>
                  <a:lnTo>
                    <a:pt x="269" y="926"/>
                  </a:lnTo>
                  <a:lnTo>
                    <a:pt x="266" y="929"/>
                  </a:lnTo>
                  <a:lnTo>
                    <a:pt x="262" y="932"/>
                  </a:lnTo>
                  <a:lnTo>
                    <a:pt x="257" y="934"/>
                  </a:lnTo>
                  <a:lnTo>
                    <a:pt x="253" y="935"/>
                  </a:lnTo>
                  <a:lnTo>
                    <a:pt x="250" y="935"/>
                  </a:lnTo>
                  <a:lnTo>
                    <a:pt x="244" y="933"/>
                  </a:lnTo>
                  <a:lnTo>
                    <a:pt x="240" y="930"/>
                  </a:lnTo>
                  <a:lnTo>
                    <a:pt x="237" y="927"/>
                  </a:lnTo>
                  <a:lnTo>
                    <a:pt x="235" y="923"/>
                  </a:lnTo>
                  <a:lnTo>
                    <a:pt x="234" y="919"/>
                  </a:lnTo>
                  <a:lnTo>
                    <a:pt x="234" y="915"/>
                  </a:lnTo>
                  <a:lnTo>
                    <a:pt x="234" y="909"/>
                  </a:lnTo>
                  <a:lnTo>
                    <a:pt x="235" y="905"/>
                  </a:lnTo>
                  <a:lnTo>
                    <a:pt x="240" y="893"/>
                  </a:lnTo>
                  <a:lnTo>
                    <a:pt x="247" y="880"/>
                  </a:lnTo>
                  <a:lnTo>
                    <a:pt x="254" y="866"/>
                  </a:lnTo>
                  <a:lnTo>
                    <a:pt x="263" y="851"/>
                  </a:lnTo>
                  <a:lnTo>
                    <a:pt x="256" y="848"/>
                  </a:lnTo>
                  <a:lnTo>
                    <a:pt x="240" y="836"/>
                  </a:lnTo>
                  <a:lnTo>
                    <a:pt x="225" y="823"/>
                  </a:lnTo>
                  <a:lnTo>
                    <a:pt x="210" y="810"/>
                  </a:lnTo>
                  <a:lnTo>
                    <a:pt x="196" y="796"/>
                  </a:lnTo>
                  <a:lnTo>
                    <a:pt x="182" y="781"/>
                  </a:lnTo>
                  <a:lnTo>
                    <a:pt x="169" y="766"/>
                  </a:lnTo>
                  <a:lnTo>
                    <a:pt x="156" y="749"/>
                  </a:lnTo>
                  <a:lnTo>
                    <a:pt x="145" y="733"/>
                  </a:lnTo>
                  <a:lnTo>
                    <a:pt x="134" y="716"/>
                  </a:lnTo>
                  <a:lnTo>
                    <a:pt x="124" y="699"/>
                  </a:lnTo>
                  <a:lnTo>
                    <a:pt x="115" y="680"/>
                  </a:lnTo>
                  <a:lnTo>
                    <a:pt x="106" y="662"/>
                  </a:lnTo>
                  <a:lnTo>
                    <a:pt x="99" y="643"/>
                  </a:lnTo>
                  <a:lnTo>
                    <a:pt x="92" y="623"/>
                  </a:lnTo>
                  <a:lnTo>
                    <a:pt x="87" y="604"/>
                  </a:lnTo>
                  <a:lnTo>
                    <a:pt x="81" y="583"/>
                  </a:lnTo>
                  <a:lnTo>
                    <a:pt x="78" y="572"/>
                  </a:lnTo>
                  <a:lnTo>
                    <a:pt x="73" y="573"/>
                  </a:lnTo>
                  <a:lnTo>
                    <a:pt x="69" y="576"/>
                  </a:lnTo>
                  <a:lnTo>
                    <a:pt x="65" y="577"/>
                  </a:lnTo>
                  <a:lnTo>
                    <a:pt x="61" y="577"/>
                  </a:lnTo>
                  <a:lnTo>
                    <a:pt x="58" y="578"/>
                  </a:lnTo>
                  <a:lnTo>
                    <a:pt x="53" y="579"/>
                  </a:lnTo>
                  <a:lnTo>
                    <a:pt x="49" y="580"/>
                  </a:lnTo>
                  <a:lnTo>
                    <a:pt x="45" y="580"/>
                  </a:lnTo>
                  <a:lnTo>
                    <a:pt x="39" y="581"/>
                  </a:lnTo>
                  <a:lnTo>
                    <a:pt x="33" y="581"/>
                  </a:lnTo>
                  <a:lnTo>
                    <a:pt x="26" y="581"/>
                  </a:lnTo>
                  <a:lnTo>
                    <a:pt x="20" y="581"/>
                  </a:lnTo>
                  <a:lnTo>
                    <a:pt x="15" y="581"/>
                  </a:lnTo>
                  <a:lnTo>
                    <a:pt x="9" y="579"/>
                  </a:lnTo>
                  <a:lnTo>
                    <a:pt x="6" y="577"/>
                  </a:lnTo>
                  <a:lnTo>
                    <a:pt x="3" y="573"/>
                  </a:lnTo>
                  <a:lnTo>
                    <a:pt x="2" y="568"/>
                  </a:lnTo>
                  <a:lnTo>
                    <a:pt x="0" y="563"/>
                  </a:lnTo>
                  <a:lnTo>
                    <a:pt x="2" y="559"/>
                  </a:lnTo>
                  <a:lnTo>
                    <a:pt x="3" y="555"/>
                  </a:lnTo>
                  <a:lnTo>
                    <a:pt x="5" y="552"/>
                  </a:lnTo>
                  <a:lnTo>
                    <a:pt x="8" y="549"/>
                  </a:lnTo>
                  <a:lnTo>
                    <a:pt x="12" y="546"/>
                  </a:lnTo>
                  <a:lnTo>
                    <a:pt x="17" y="544"/>
                  </a:lnTo>
                  <a:lnTo>
                    <a:pt x="29" y="540"/>
                  </a:lnTo>
                  <a:lnTo>
                    <a:pt x="43" y="537"/>
                  </a:lnTo>
                  <a:lnTo>
                    <a:pt x="59" y="533"/>
                  </a:lnTo>
                  <a:lnTo>
                    <a:pt x="76" y="530"/>
                  </a:lnTo>
                  <a:lnTo>
                    <a:pt x="73" y="525"/>
                  </a:lnTo>
                  <a:lnTo>
                    <a:pt x="73" y="521"/>
                  </a:lnTo>
                  <a:lnTo>
                    <a:pt x="72" y="516"/>
                  </a:lnTo>
                  <a:lnTo>
                    <a:pt x="72" y="512"/>
                  </a:lnTo>
                  <a:lnTo>
                    <a:pt x="72" y="508"/>
                  </a:lnTo>
                  <a:lnTo>
                    <a:pt x="72" y="503"/>
                  </a:lnTo>
                  <a:lnTo>
                    <a:pt x="72" y="499"/>
                  </a:lnTo>
                  <a:lnTo>
                    <a:pt x="72" y="495"/>
                  </a:lnTo>
                  <a:lnTo>
                    <a:pt x="72" y="490"/>
                  </a:lnTo>
                  <a:lnTo>
                    <a:pt x="72" y="470"/>
                  </a:lnTo>
                  <a:lnTo>
                    <a:pt x="74" y="449"/>
                  </a:lnTo>
                  <a:lnTo>
                    <a:pt x="76" y="430"/>
                  </a:lnTo>
                  <a:lnTo>
                    <a:pt x="79" y="410"/>
                  </a:lnTo>
                  <a:lnTo>
                    <a:pt x="83" y="391"/>
                  </a:lnTo>
                  <a:lnTo>
                    <a:pt x="88" y="373"/>
                  </a:lnTo>
                  <a:lnTo>
                    <a:pt x="93" y="353"/>
                  </a:lnTo>
                  <a:lnTo>
                    <a:pt x="100" y="335"/>
                  </a:lnTo>
                  <a:lnTo>
                    <a:pt x="107" y="317"/>
                  </a:lnTo>
                  <a:lnTo>
                    <a:pt x="115" y="300"/>
                  </a:lnTo>
                  <a:lnTo>
                    <a:pt x="124" y="283"/>
                  </a:lnTo>
                  <a:lnTo>
                    <a:pt x="133" y="266"/>
                  </a:lnTo>
                  <a:lnTo>
                    <a:pt x="143" y="249"/>
                  </a:lnTo>
                  <a:lnTo>
                    <a:pt x="154" y="234"/>
                  </a:lnTo>
                  <a:lnTo>
                    <a:pt x="166" y="219"/>
                  </a:lnTo>
                  <a:lnTo>
                    <a:pt x="178" y="204"/>
                  </a:lnTo>
                  <a:lnTo>
                    <a:pt x="176" y="197"/>
                  </a:lnTo>
                  <a:lnTo>
                    <a:pt x="173" y="193"/>
                  </a:lnTo>
                  <a:lnTo>
                    <a:pt x="169" y="191"/>
                  </a:lnTo>
                  <a:lnTo>
                    <a:pt x="166" y="188"/>
                  </a:lnTo>
                  <a:lnTo>
                    <a:pt x="162" y="185"/>
                  </a:lnTo>
                  <a:lnTo>
                    <a:pt x="159" y="181"/>
                  </a:lnTo>
                  <a:lnTo>
                    <a:pt x="156" y="178"/>
                  </a:lnTo>
                  <a:lnTo>
                    <a:pt x="153" y="175"/>
                  </a:lnTo>
                  <a:lnTo>
                    <a:pt x="149" y="172"/>
                  </a:lnTo>
                  <a:lnTo>
                    <a:pt x="145" y="167"/>
                  </a:lnTo>
                  <a:lnTo>
                    <a:pt x="141" y="163"/>
                  </a:lnTo>
                  <a:lnTo>
                    <a:pt x="137" y="159"/>
                  </a:lnTo>
                  <a:lnTo>
                    <a:pt x="133" y="154"/>
                  </a:lnTo>
                  <a:lnTo>
                    <a:pt x="130" y="150"/>
                  </a:lnTo>
                  <a:lnTo>
                    <a:pt x="127" y="146"/>
                  </a:lnTo>
                  <a:lnTo>
                    <a:pt x="127" y="141"/>
                  </a:lnTo>
                  <a:lnTo>
                    <a:pt x="127" y="137"/>
                  </a:lnTo>
                  <a:lnTo>
                    <a:pt x="130" y="133"/>
                  </a:lnTo>
                  <a:lnTo>
                    <a:pt x="134" y="128"/>
                  </a:lnTo>
                  <a:lnTo>
                    <a:pt x="138" y="126"/>
                  </a:lnTo>
                  <a:lnTo>
                    <a:pt x="142" y="125"/>
                  </a:lnTo>
                  <a:lnTo>
                    <a:pt x="145" y="125"/>
                  </a:lnTo>
                  <a:lnTo>
                    <a:pt x="149" y="125"/>
                  </a:lnTo>
                  <a:lnTo>
                    <a:pt x="155" y="126"/>
                  </a:lnTo>
                  <a:lnTo>
                    <a:pt x="159" y="128"/>
                  </a:lnTo>
                  <a:lnTo>
                    <a:pt x="170" y="135"/>
                  </a:lnTo>
                  <a:lnTo>
                    <a:pt x="181" y="144"/>
                  </a:lnTo>
                  <a:lnTo>
                    <a:pt x="194" y="154"/>
                  </a:lnTo>
                  <a:lnTo>
                    <a:pt x="207" y="165"/>
                  </a:lnTo>
                  <a:lnTo>
                    <a:pt x="215" y="165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12240" y="601200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1f1a17"/>
                  </a:solidFill>
                  <a:latin typeface="Geometr231 Hv BT"/>
                </a:rPr>
                <a:t>Expos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38520" y="1631880"/>
              <a:ext cx="195120" cy="322200"/>
            </a:xfrm>
            <a:custGeom>
              <a:avLst/>
              <a:gdLst/>
              <a:ahLst/>
              <a:rect l="l" t="t" r="r" b="b"/>
              <a:pathLst>
                <a:path w="615" h="1014">
                  <a:moveTo>
                    <a:pt x="67" y="1011"/>
                  </a:moveTo>
                  <a:lnTo>
                    <a:pt x="8" y="1014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3"/>
                  </a:lnTo>
                  <a:lnTo>
                    <a:pt x="231" y="810"/>
                  </a:lnTo>
                  <a:lnTo>
                    <a:pt x="297" y="771"/>
                  </a:lnTo>
                  <a:lnTo>
                    <a:pt x="345" y="719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1"/>
                  </a:lnTo>
                  <a:lnTo>
                    <a:pt x="454" y="459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5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1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4"/>
                  </a:lnTo>
                  <a:lnTo>
                    <a:pt x="576" y="283"/>
                  </a:lnTo>
                  <a:lnTo>
                    <a:pt x="607" y="370"/>
                  </a:lnTo>
                  <a:lnTo>
                    <a:pt x="615" y="459"/>
                  </a:lnTo>
                  <a:lnTo>
                    <a:pt x="600" y="555"/>
                  </a:lnTo>
                  <a:lnTo>
                    <a:pt x="576" y="637"/>
                  </a:lnTo>
                  <a:lnTo>
                    <a:pt x="531" y="726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5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1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38520" y="1631880"/>
              <a:ext cx="195120" cy="322200"/>
            </a:xfrm>
            <a:custGeom>
              <a:avLst/>
              <a:gdLst/>
              <a:ahLst/>
              <a:rect l="l" t="t" r="r" b="b"/>
              <a:pathLst>
                <a:path w="615" h="1014">
                  <a:moveTo>
                    <a:pt x="67" y="1011"/>
                  </a:moveTo>
                  <a:lnTo>
                    <a:pt x="8" y="1014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3"/>
                  </a:lnTo>
                  <a:lnTo>
                    <a:pt x="231" y="810"/>
                  </a:lnTo>
                  <a:lnTo>
                    <a:pt x="297" y="771"/>
                  </a:lnTo>
                  <a:lnTo>
                    <a:pt x="345" y="719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1"/>
                  </a:lnTo>
                  <a:lnTo>
                    <a:pt x="454" y="459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5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1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4"/>
                  </a:lnTo>
                  <a:lnTo>
                    <a:pt x="576" y="283"/>
                  </a:lnTo>
                  <a:lnTo>
                    <a:pt x="607" y="370"/>
                  </a:lnTo>
                  <a:lnTo>
                    <a:pt x="615" y="459"/>
                  </a:lnTo>
                  <a:lnTo>
                    <a:pt x="600" y="555"/>
                  </a:lnTo>
                  <a:lnTo>
                    <a:pt x="576" y="637"/>
                  </a:lnTo>
                  <a:lnTo>
                    <a:pt x="531" y="726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5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649600" y="146520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5">
                  <a:moveTo>
                    <a:pt x="146" y="649"/>
                  </a:moveTo>
                  <a:lnTo>
                    <a:pt x="255" y="510"/>
                  </a:lnTo>
                  <a:lnTo>
                    <a:pt x="279" y="521"/>
                  </a:lnTo>
                  <a:lnTo>
                    <a:pt x="576" y="154"/>
                  </a:lnTo>
                  <a:lnTo>
                    <a:pt x="606" y="179"/>
                  </a:lnTo>
                  <a:lnTo>
                    <a:pt x="628" y="139"/>
                  </a:lnTo>
                  <a:lnTo>
                    <a:pt x="652" y="151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1"/>
                  </a:lnTo>
                  <a:lnTo>
                    <a:pt x="837" y="263"/>
                  </a:lnTo>
                  <a:lnTo>
                    <a:pt x="810" y="294"/>
                  </a:lnTo>
                  <a:lnTo>
                    <a:pt x="840" y="318"/>
                  </a:lnTo>
                  <a:lnTo>
                    <a:pt x="540" y="682"/>
                  </a:lnTo>
                  <a:lnTo>
                    <a:pt x="567" y="694"/>
                  </a:lnTo>
                  <a:lnTo>
                    <a:pt x="452" y="837"/>
                  </a:lnTo>
                  <a:lnTo>
                    <a:pt x="433" y="822"/>
                  </a:lnTo>
                  <a:lnTo>
                    <a:pt x="264" y="1025"/>
                  </a:lnTo>
                  <a:lnTo>
                    <a:pt x="0" y="870"/>
                  </a:lnTo>
                  <a:lnTo>
                    <a:pt x="164" y="667"/>
                  </a:lnTo>
                  <a:lnTo>
                    <a:pt x="146" y="649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49600" y="146520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5">
                  <a:moveTo>
                    <a:pt x="146" y="649"/>
                  </a:moveTo>
                  <a:lnTo>
                    <a:pt x="255" y="510"/>
                  </a:lnTo>
                  <a:lnTo>
                    <a:pt x="279" y="521"/>
                  </a:lnTo>
                  <a:lnTo>
                    <a:pt x="576" y="154"/>
                  </a:lnTo>
                  <a:lnTo>
                    <a:pt x="606" y="179"/>
                  </a:lnTo>
                  <a:lnTo>
                    <a:pt x="628" y="139"/>
                  </a:lnTo>
                  <a:lnTo>
                    <a:pt x="652" y="151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1"/>
                  </a:lnTo>
                  <a:lnTo>
                    <a:pt x="837" y="263"/>
                  </a:lnTo>
                  <a:lnTo>
                    <a:pt x="810" y="294"/>
                  </a:lnTo>
                  <a:lnTo>
                    <a:pt x="840" y="318"/>
                  </a:lnTo>
                  <a:lnTo>
                    <a:pt x="540" y="682"/>
                  </a:lnTo>
                  <a:lnTo>
                    <a:pt x="567" y="694"/>
                  </a:lnTo>
                  <a:lnTo>
                    <a:pt x="452" y="837"/>
                  </a:lnTo>
                  <a:lnTo>
                    <a:pt x="433" y="822"/>
                  </a:lnTo>
                  <a:lnTo>
                    <a:pt x="264" y="1025"/>
                  </a:lnTo>
                  <a:lnTo>
                    <a:pt x="0" y="870"/>
                  </a:lnTo>
                  <a:lnTo>
                    <a:pt x="164" y="667"/>
                  </a:lnTo>
                  <a:lnTo>
                    <a:pt x="146" y="64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84360" y="184932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9">
                  <a:moveTo>
                    <a:pt x="85" y="490"/>
                  </a:moveTo>
                  <a:lnTo>
                    <a:pt x="243" y="138"/>
                  </a:lnTo>
                  <a:lnTo>
                    <a:pt x="489" y="138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8"/>
                  </a:lnTo>
                  <a:lnTo>
                    <a:pt x="886" y="138"/>
                  </a:lnTo>
                  <a:lnTo>
                    <a:pt x="1046" y="490"/>
                  </a:lnTo>
                  <a:lnTo>
                    <a:pt x="1128" y="490"/>
                  </a:lnTo>
                  <a:lnTo>
                    <a:pt x="1128" y="559"/>
                  </a:lnTo>
                  <a:lnTo>
                    <a:pt x="0" y="559"/>
                  </a:lnTo>
                  <a:lnTo>
                    <a:pt x="0" y="490"/>
                  </a:lnTo>
                  <a:lnTo>
                    <a:pt x="85" y="4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84360" y="184932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9">
                  <a:moveTo>
                    <a:pt x="85" y="490"/>
                  </a:moveTo>
                  <a:lnTo>
                    <a:pt x="243" y="138"/>
                  </a:lnTo>
                  <a:lnTo>
                    <a:pt x="489" y="138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8"/>
                  </a:lnTo>
                  <a:lnTo>
                    <a:pt x="886" y="138"/>
                  </a:lnTo>
                  <a:lnTo>
                    <a:pt x="1046" y="490"/>
                  </a:lnTo>
                  <a:lnTo>
                    <a:pt x="1128" y="490"/>
                  </a:lnTo>
                  <a:lnTo>
                    <a:pt x="1128" y="559"/>
                  </a:lnTo>
                  <a:lnTo>
                    <a:pt x="0" y="559"/>
                  </a:lnTo>
                  <a:lnTo>
                    <a:pt x="0" y="490"/>
                  </a:lnTo>
                  <a:lnTo>
                    <a:pt x="85" y="49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25840" y="1917720"/>
              <a:ext cx="75960" cy="763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240" y="118"/>
                  </a:moveTo>
                  <a:lnTo>
                    <a:pt x="240" y="113"/>
                  </a:lnTo>
                  <a:lnTo>
                    <a:pt x="237" y="100"/>
                  </a:lnTo>
                  <a:lnTo>
                    <a:pt x="234" y="88"/>
                  </a:lnTo>
                  <a:lnTo>
                    <a:pt x="231" y="79"/>
                  </a:lnTo>
                  <a:lnTo>
                    <a:pt x="228" y="67"/>
                  </a:lnTo>
                  <a:lnTo>
                    <a:pt x="221" y="58"/>
                  </a:lnTo>
                  <a:lnTo>
                    <a:pt x="216" y="49"/>
                  </a:lnTo>
                  <a:lnTo>
                    <a:pt x="206" y="39"/>
                  </a:lnTo>
                  <a:lnTo>
                    <a:pt x="201" y="31"/>
                  </a:lnTo>
                  <a:lnTo>
                    <a:pt x="191" y="24"/>
                  </a:lnTo>
                  <a:lnTo>
                    <a:pt x="179" y="19"/>
                  </a:lnTo>
                  <a:lnTo>
                    <a:pt x="170" y="12"/>
                  </a:lnTo>
                  <a:lnTo>
                    <a:pt x="161" y="7"/>
                  </a:lnTo>
                  <a:lnTo>
                    <a:pt x="149" y="4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4"/>
                  </a:lnTo>
                  <a:lnTo>
                    <a:pt x="77" y="7"/>
                  </a:lnTo>
                  <a:lnTo>
                    <a:pt x="67" y="12"/>
                  </a:lnTo>
                  <a:lnTo>
                    <a:pt x="58" y="19"/>
                  </a:lnTo>
                  <a:lnTo>
                    <a:pt x="45" y="24"/>
                  </a:lnTo>
                  <a:lnTo>
                    <a:pt x="37" y="31"/>
                  </a:lnTo>
                  <a:lnTo>
                    <a:pt x="30" y="39"/>
                  </a:lnTo>
                  <a:lnTo>
                    <a:pt x="21" y="49"/>
                  </a:lnTo>
                  <a:lnTo>
                    <a:pt x="15" y="58"/>
                  </a:lnTo>
                  <a:lnTo>
                    <a:pt x="10" y="67"/>
                  </a:lnTo>
                  <a:lnTo>
                    <a:pt x="6" y="79"/>
                  </a:lnTo>
                  <a:lnTo>
                    <a:pt x="3" y="88"/>
                  </a:lnTo>
                  <a:lnTo>
                    <a:pt x="0" y="100"/>
                  </a:lnTo>
                  <a:lnTo>
                    <a:pt x="0" y="118"/>
                  </a:lnTo>
                  <a:lnTo>
                    <a:pt x="0" y="125"/>
                  </a:lnTo>
                  <a:lnTo>
                    <a:pt x="0" y="137"/>
                  </a:lnTo>
                  <a:lnTo>
                    <a:pt x="3" y="148"/>
                  </a:lnTo>
                  <a:lnTo>
                    <a:pt x="6" y="161"/>
                  </a:lnTo>
                  <a:lnTo>
                    <a:pt x="10" y="173"/>
                  </a:lnTo>
                  <a:lnTo>
                    <a:pt x="15" y="182"/>
                  </a:lnTo>
                  <a:lnTo>
                    <a:pt x="21" y="192"/>
                  </a:lnTo>
                  <a:lnTo>
                    <a:pt x="30" y="200"/>
                  </a:lnTo>
                  <a:lnTo>
                    <a:pt x="37" y="210"/>
                  </a:lnTo>
                  <a:lnTo>
                    <a:pt x="45" y="215"/>
                  </a:lnTo>
                  <a:lnTo>
                    <a:pt x="58" y="222"/>
                  </a:lnTo>
                  <a:lnTo>
                    <a:pt x="67" y="228"/>
                  </a:lnTo>
                  <a:lnTo>
                    <a:pt x="77" y="234"/>
                  </a:lnTo>
                  <a:lnTo>
                    <a:pt x="88" y="237"/>
                  </a:lnTo>
                  <a:lnTo>
                    <a:pt x="100" y="240"/>
                  </a:lnTo>
                  <a:lnTo>
                    <a:pt x="119" y="240"/>
                  </a:lnTo>
                  <a:lnTo>
                    <a:pt x="124" y="240"/>
                  </a:lnTo>
                  <a:lnTo>
                    <a:pt x="137" y="240"/>
                  </a:lnTo>
                  <a:lnTo>
                    <a:pt x="149" y="237"/>
                  </a:lnTo>
                  <a:lnTo>
                    <a:pt x="161" y="234"/>
                  </a:lnTo>
                  <a:lnTo>
                    <a:pt x="170" y="228"/>
                  </a:lnTo>
                  <a:lnTo>
                    <a:pt x="179" y="222"/>
                  </a:lnTo>
                  <a:lnTo>
                    <a:pt x="191" y="215"/>
                  </a:lnTo>
                  <a:lnTo>
                    <a:pt x="201" y="210"/>
                  </a:lnTo>
                  <a:lnTo>
                    <a:pt x="206" y="200"/>
                  </a:lnTo>
                  <a:lnTo>
                    <a:pt x="216" y="192"/>
                  </a:lnTo>
                  <a:lnTo>
                    <a:pt x="221" y="182"/>
                  </a:lnTo>
                  <a:lnTo>
                    <a:pt x="228" y="173"/>
                  </a:lnTo>
                  <a:lnTo>
                    <a:pt x="231" y="161"/>
                  </a:lnTo>
                  <a:lnTo>
                    <a:pt x="234" y="148"/>
                  </a:lnTo>
                  <a:lnTo>
                    <a:pt x="237" y="137"/>
                  </a:lnTo>
                  <a:lnTo>
                    <a:pt x="240" y="11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719440" y="1652760"/>
              <a:ext cx="85680" cy="5364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66" y="170"/>
                  </a:moveTo>
                  <a:lnTo>
                    <a:pt x="270" y="167"/>
                  </a:lnTo>
                  <a:lnTo>
                    <a:pt x="3" y="0"/>
                  </a:lnTo>
                  <a:lnTo>
                    <a:pt x="0" y="9"/>
                  </a:lnTo>
                  <a:lnTo>
                    <a:pt x="266" y="173"/>
                  </a:lnTo>
                  <a:lnTo>
                    <a:pt x="266" y="1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47960" y="1525680"/>
              <a:ext cx="50760" cy="2844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7" y="87"/>
                  </a:moveTo>
                  <a:lnTo>
                    <a:pt x="160" y="84"/>
                  </a:lnTo>
                  <a:lnTo>
                    <a:pt x="3" y="0"/>
                  </a:lnTo>
                  <a:lnTo>
                    <a:pt x="0" y="5"/>
                  </a:lnTo>
                  <a:lnTo>
                    <a:pt x="157" y="91"/>
                  </a:lnTo>
                  <a:lnTo>
                    <a:pt x="157" y="8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08280" y="1682640"/>
              <a:ext cx="73080" cy="42840"/>
            </a:xfrm>
            <a:custGeom>
              <a:avLst/>
              <a:gdLst/>
              <a:ahLst/>
              <a:rect l="l" t="t" r="r" b="b"/>
              <a:pathLst>
                <a:path w="233" h="136">
                  <a:moveTo>
                    <a:pt x="233" y="1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33" y="136"/>
                  </a:lnTo>
                  <a:lnTo>
                    <a:pt x="233" y="1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886120" y="1490760"/>
              <a:ext cx="39600" cy="20520"/>
            </a:xfrm>
            <a:custGeom>
              <a:avLst/>
              <a:gdLst/>
              <a:ahLst/>
              <a:rect l="l" t="t" r="r" b="b"/>
              <a:pathLst>
                <a:path w="122" h="64">
                  <a:moveTo>
                    <a:pt x="122" y="6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19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795760" y="1573200"/>
              <a:ext cx="69840" cy="36360"/>
            </a:xfrm>
            <a:custGeom>
              <a:avLst/>
              <a:gdLst/>
              <a:ahLst/>
              <a:rect l="l" t="t" r="r" b="b"/>
              <a:pathLst>
                <a:path w="216" h="113">
                  <a:moveTo>
                    <a:pt x="216" y="11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6" y="1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62200" y="1731960"/>
              <a:ext cx="77760" cy="4608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6" y="139"/>
                  </a:moveTo>
                  <a:lnTo>
                    <a:pt x="248" y="139"/>
                  </a:lnTo>
                  <a:lnTo>
                    <a:pt x="0" y="0"/>
                  </a:lnTo>
                  <a:lnTo>
                    <a:pt x="0" y="3"/>
                  </a:lnTo>
                  <a:lnTo>
                    <a:pt x="246" y="143"/>
                  </a:lnTo>
                  <a:lnTo>
                    <a:pt x="246" y="1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41760" y="1638360"/>
              <a:ext cx="66600" cy="38160"/>
            </a:xfrm>
            <a:custGeom>
              <a:avLst/>
              <a:gdLst/>
              <a:ahLst/>
              <a:rect l="l" t="t" r="r" b="b"/>
              <a:pathLst>
                <a:path w="212" h="124">
                  <a:moveTo>
                    <a:pt x="209" y="121"/>
                  </a:moveTo>
                  <a:lnTo>
                    <a:pt x="212" y="121"/>
                  </a:lnTo>
                  <a:lnTo>
                    <a:pt x="3" y="0"/>
                  </a:lnTo>
                  <a:lnTo>
                    <a:pt x="0" y="2"/>
                  </a:lnTo>
                  <a:lnTo>
                    <a:pt x="209" y="124"/>
                  </a:lnTo>
                  <a:lnTo>
                    <a:pt x="209" y="1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38520" y="3559320"/>
              <a:ext cx="195120" cy="320400"/>
            </a:xfrm>
            <a:custGeom>
              <a:avLst/>
              <a:gdLst/>
              <a:ahLst/>
              <a:rect l="l" t="t" r="r" b="b"/>
              <a:pathLst>
                <a:path w="615" h="1013">
                  <a:moveTo>
                    <a:pt x="67" y="1010"/>
                  </a:moveTo>
                  <a:lnTo>
                    <a:pt x="8" y="1013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4"/>
                  </a:lnTo>
                  <a:lnTo>
                    <a:pt x="231" y="810"/>
                  </a:lnTo>
                  <a:lnTo>
                    <a:pt x="297" y="770"/>
                  </a:lnTo>
                  <a:lnTo>
                    <a:pt x="345" y="720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2"/>
                  </a:lnTo>
                  <a:lnTo>
                    <a:pt x="454" y="458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6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2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5"/>
                  </a:lnTo>
                  <a:lnTo>
                    <a:pt x="576" y="282"/>
                  </a:lnTo>
                  <a:lnTo>
                    <a:pt x="607" y="371"/>
                  </a:lnTo>
                  <a:lnTo>
                    <a:pt x="615" y="458"/>
                  </a:lnTo>
                  <a:lnTo>
                    <a:pt x="600" y="555"/>
                  </a:lnTo>
                  <a:lnTo>
                    <a:pt x="576" y="638"/>
                  </a:lnTo>
                  <a:lnTo>
                    <a:pt x="531" y="725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6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0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738520" y="3559320"/>
              <a:ext cx="195120" cy="320400"/>
            </a:xfrm>
            <a:custGeom>
              <a:avLst/>
              <a:gdLst/>
              <a:ahLst/>
              <a:rect l="l" t="t" r="r" b="b"/>
              <a:pathLst>
                <a:path w="615" h="1013">
                  <a:moveTo>
                    <a:pt x="67" y="1010"/>
                  </a:moveTo>
                  <a:lnTo>
                    <a:pt x="8" y="1013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4"/>
                  </a:lnTo>
                  <a:lnTo>
                    <a:pt x="231" y="810"/>
                  </a:lnTo>
                  <a:lnTo>
                    <a:pt x="297" y="770"/>
                  </a:lnTo>
                  <a:lnTo>
                    <a:pt x="345" y="720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2"/>
                  </a:lnTo>
                  <a:lnTo>
                    <a:pt x="454" y="458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6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2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5"/>
                  </a:lnTo>
                  <a:lnTo>
                    <a:pt x="576" y="282"/>
                  </a:lnTo>
                  <a:lnTo>
                    <a:pt x="607" y="371"/>
                  </a:lnTo>
                  <a:lnTo>
                    <a:pt x="615" y="458"/>
                  </a:lnTo>
                  <a:lnTo>
                    <a:pt x="600" y="555"/>
                  </a:lnTo>
                  <a:lnTo>
                    <a:pt x="576" y="638"/>
                  </a:lnTo>
                  <a:lnTo>
                    <a:pt x="531" y="725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6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649600" y="339084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6">
                  <a:moveTo>
                    <a:pt x="146" y="650"/>
                  </a:moveTo>
                  <a:lnTo>
                    <a:pt x="255" y="510"/>
                  </a:lnTo>
                  <a:lnTo>
                    <a:pt x="279" y="523"/>
                  </a:lnTo>
                  <a:lnTo>
                    <a:pt x="576" y="156"/>
                  </a:lnTo>
                  <a:lnTo>
                    <a:pt x="606" y="179"/>
                  </a:lnTo>
                  <a:lnTo>
                    <a:pt x="628" y="141"/>
                  </a:lnTo>
                  <a:lnTo>
                    <a:pt x="652" y="152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3"/>
                  </a:lnTo>
                  <a:lnTo>
                    <a:pt x="837" y="265"/>
                  </a:lnTo>
                  <a:lnTo>
                    <a:pt x="810" y="295"/>
                  </a:lnTo>
                  <a:lnTo>
                    <a:pt x="840" y="319"/>
                  </a:lnTo>
                  <a:lnTo>
                    <a:pt x="540" y="684"/>
                  </a:lnTo>
                  <a:lnTo>
                    <a:pt x="567" y="696"/>
                  </a:lnTo>
                  <a:lnTo>
                    <a:pt x="452" y="838"/>
                  </a:lnTo>
                  <a:lnTo>
                    <a:pt x="433" y="823"/>
                  </a:lnTo>
                  <a:lnTo>
                    <a:pt x="264" y="1026"/>
                  </a:lnTo>
                  <a:lnTo>
                    <a:pt x="0" y="871"/>
                  </a:lnTo>
                  <a:lnTo>
                    <a:pt x="164" y="668"/>
                  </a:lnTo>
                  <a:lnTo>
                    <a:pt x="146" y="650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649600" y="339084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6">
                  <a:moveTo>
                    <a:pt x="146" y="650"/>
                  </a:moveTo>
                  <a:lnTo>
                    <a:pt x="255" y="510"/>
                  </a:lnTo>
                  <a:lnTo>
                    <a:pt x="279" y="523"/>
                  </a:lnTo>
                  <a:lnTo>
                    <a:pt x="576" y="156"/>
                  </a:lnTo>
                  <a:lnTo>
                    <a:pt x="606" y="179"/>
                  </a:lnTo>
                  <a:lnTo>
                    <a:pt x="628" y="141"/>
                  </a:lnTo>
                  <a:lnTo>
                    <a:pt x="652" y="152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3"/>
                  </a:lnTo>
                  <a:lnTo>
                    <a:pt x="837" y="265"/>
                  </a:lnTo>
                  <a:lnTo>
                    <a:pt x="810" y="295"/>
                  </a:lnTo>
                  <a:lnTo>
                    <a:pt x="840" y="319"/>
                  </a:lnTo>
                  <a:lnTo>
                    <a:pt x="540" y="684"/>
                  </a:lnTo>
                  <a:lnTo>
                    <a:pt x="567" y="696"/>
                  </a:lnTo>
                  <a:lnTo>
                    <a:pt x="452" y="838"/>
                  </a:lnTo>
                  <a:lnTo>
                    <a:pt x="433" y="823"/>
                  </a:lnTo>
                  <a:lnTo>
                    <a:pt x="264" y="1026"/>
                  </a:lnTo>
                  <a:lnTo>
                    <a:pt x="0" y="871"/>
                  </a:lnTo>
                  <a:lnTo>
                    <a:pt x="164" y="668"/>
                  </a:lnTo>
                  <a:lnTo>
                    <a:pt x="146" y="65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84360" y="377496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8">
                  <a:moveTo>
                    <a:pt x="85" y="488"/>
                  </a:moveTo>
                  <a:lnTo>
                    <a:pt x="243" y="136"/>
                  </a:lnTo>
                  <a:lnTo>
                    <a:pt x="489" y="136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6"/>
                  </a:lnTo>
                  <a:lnTo>
                    <a:pt x="886" y="136"/>
                  </a:lnTo>
                  <a:lnTo>
                    <a:pt x="1046" y="488"/>
                  </a:lnTo>
                  <a:lnTo>
                    <a:pt x="1128" y="488"/>
                  </a:lnTo>
                  <a:lnTo>
                    <a:pt x="1128" y="558"/>
                  </a:lnTo>
                  <a:lnTo>
                    <a:pt x="0" y="558"/>
                  </a:lnTo>
                  <a:lnTo>
                    <a:pt x="0" y="488"/>
                  </a:lnTo>
                  <a:lnTo>
                    <a:pt x="85" y="48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84360" y="377496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8">
                  <a:moveTo>
                    <a:pt x="85" y="488"/>
                  </a:moveTo>
                  <a:lnTo>
                    <a:pt x="243" y="136"/>
                  </a:lnTo>
                  <a:lnTo>
                    <a:pt x="489" y="136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6"/>
                  </a:lnTo>
                  <a:lnTo>
                    <a:pt x="886" y="136"/>
                  </a:lnTo>
                  <a:lnTo>
                    <a:pt x="1046" y="488"/>
                  </a:lnTo>
                  <a:lnTo>
                    <a:pt x="1128" y="488"/>
                  </a:lnTo>
                  <a:lnTo>
                    <a:pt x="1128" y="558"/>
                  </a:lnTo>
                  <a:lnTo>
                    <a:pt x="0" y="558"/>
                  </a:lnTo>
                  <a:lnTo>
                    <a:pt x="0" y="488"/>
                  </a:lnTo>
                  <a:lnTo>
                    <a:pt x="85" y="4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25840" y="3844800"/>
              <a:ext cx="75960" cy="74880"/>
            </a:xfrm>
            <a:custGeom>
              <a:avLst/>
              <a:gdLst/>
              <a:ahLst/>
              <a:rect l="l" t="t" r="r" b="b"/>
              <a:pathLst>
                <a:path w="240" h="239">
                  <a:moveTo>
                    <a:pt x="240" y="118"/>
                  </a:moveTo>
                  <a:lnTo>
                    <a:pt x="240" y="111"/>
                  </a:lnTo>
                  <a:lnTo>
                    <a:pt x="237" y="99"/>
                  </a:lnTo>
                  <a:lnTo>
                    <a:pt x="234" y="87"/>
                  </a:lnTo>
                  <a:lnTo>
                    <a:pt x="231" y="79"/>
                  </a:lnTo>
                  <a:lnTo>
                    <a:pt x="228" y="66"/>
                  </a:lnTo>
                  <a:lnTo>
                    <a:pt x="221" y="57"/>
                  </a:lnTo>
                  <a:lnTo>
                    <a:pt x="216" y="47"/>
                  </a:lnTo>
                  <a:lnTo>
                    <a:pt x="206" y="39"/>
                  </a:lnTo>
                  <a:lnTo>
                    <a:pt x="201" y="30"/>
                  </a:lnTo>
                  <a:lnTo>
                    <a:pt x="191" y="24"/>
                  </a:lnTo>
                  <a:lnTo>
                    <a:pt x="179" y="17"/>
                  </a:lnTo>
                  <a:lnTo>
                    <a:pt x="170" y="12"/>
                  </a:lnTo>
                  <a:lnTo>
                    <a:pt x="161" y="5"/>
                  </a:lnTo>
                  <a:lnTo>
                    <a:pt x="149" y="2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2"/>
                  </a:lnTo>
                  <a:lnTo>
                    <a:pt x="77" y="5"/>
                  </a:lnTo>
                  <a:lnTo>
                    <a:pt x="67" y="12"/>
                  </a:lnTo>
                  <a:lnTo>
                    <a:pt x="58" y="17"/>
                  </a:lnTo>
                  <a:lnTo>
                    <a:pt x="45" y="24"/>
                  </a:lnTo>
                  <a:lnTo>
                    <a:pt x="37" y="30"/>
                  </a:lnTo>
                  <a:lnTo>
                    <a:pt x="30" y="39"/>
                  </a:lnTo>
                  <a:lnTo>
                    <a:pt x="21" y="47"/>
                  </a:lnTo>
                  <a:lnTo>
                    <a:pt x="15" y="57"/>
                  </a:lnTo>
                  <a:lnTo>
                    <a:pt x="10" y="66"/>
                  </a:lnTo>
                  <a:lnTo>
                    <a:pt x="6" y="79"/>
                  </a:lnTo>
                  <a:lnTo>
                    <a:pt x="3" y="87"/>
                  </a:lnTo>
                  <a:lnTo>
                    <a:pt x="0" y="99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36"/>
                  </a:lnTo>
                  <a:lnTo>
                    <a:pt x="3" y="148"/>
                  </a:lnTo>
                  <a:lnTo>
                    <a:pt x="6" y="160"/>
                  </a:lnTo>
                  <a:lnTo>
                    <a:pt x="10" y="172"/>
                  </a:lnTo>
                  <a:lnTo>
                    <a:pt x="15" y="181"/>
                  </a:lnTo>
                  <a:lnTo>
                    <a:pt x="21" y="190"/>
                  </a:lnTo>
                  <a:lnTo>
                    <a:pt x="30" y="200"/>
                  </a:lnTo>
                  <a:lnTo>
                    <a:pt x="37" y="208"/>
                  </a:lnTo>
                  <a:lnTo>
                    <a:pt x="45" y="215"/>
                  </a:lnTo>
                  <a:lnTo>
                    <a:pt x="58" y="220"/>
                  </a:lnTo>
                  <a:lnTo>
                    <a:pt x="67" y="227"/>
                  </a:lnTo>
                  <a:lnTo>
                    <a:pt x="77" y="233"/>
                  </a:lnTo>
                  <a:lnTo>
                    <a:pt x="88" y="235"/>
                  </a:lnTo>
                  <a:lnTo>
                    <a:pt x="100" y="239"/>
                  </a:lnTo>
                  <a:lnTo>
                    <a:pt x="119" y="239"/>
                  </a:lnTo>
                  <a:lnTo>
                    <a:pt x="124" y="239"/>
                  </a:lnTo>
                  <a:lnTo>
                    <a:pt x="137" y="239"/>
                  </a:lnTo>
                  <a:lnTo>
                    <a:pt x="149" y="235"/>
                  </a:lnTo>
                  <a:lnTo>
                    <a:pt x="161" y="233"/>
                  </a:lnTo>
                  <a:lnTo>
                    <a:pt x="170" y="227"/>
                  </a:lnTo>
                  <a:lnTo>
                    <a:pt x="179" y="220"/>
                  </a:lnTo>
                  <a:lnTo>
                    <a:pt x="191" y="215"/>
                  </a:lnTo>
                  <a:lnTo>
                    <a:pt x="201" y="208"/>
                  </a:lnTo>
                  <a:lnTo>
                    <a:pt x="206" y="200"/>
                  </a:lnTo>
                  <a:lnTo>
                    <a:pt x="216" y="190"/>
                  </a:lnTo>
                  <a:lnTo>
                    <a:pt x="221" y="181"/>
                  </a:lnTo>
                  <a:lnTo>
                    <a:pt x="228" y="172"/>
                  </a:lnTo>
                  <a:lnTo>
                    <a:pt x="231" y="160"/>
                  </a:lnTo>
                  <a:lnTo>
                    <a:pt x="234" y="148"/>
                  </a:lnTo>
                  <a:lnTo>
                    <a:pt x="237" y="136"/>
                  </a:lnTo>
                  <a:lnTo>
                    <a:pt x="240" y="11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719440" y="3578400"/>
              <a:ext cx="85680" cy="5544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66" y="170"/>
                  </a:moveTo>
                  <a:lnTo>
                    <a:pt x="270" y="167"/>
                  </a:lnTo>
                  <a:lnTo>
                    <a:pt x="3" y="0"/>
                  </a:lnTo>
                  <a:lnTo>
                    <a:pt x="0" y="10"/>
                  </a:lnTo>
                  <a:lnTo>
                    <a:pt x="266" y="173"/>
                  </a:lnTo>
                  <a:lnTo>
                    <a:pt x="266" y="1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47960" y="3452760"/>
              <a:ext cx="50760" cy="2880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7" y="88"/>
                  </a:moveTo>
                  <a:lnTo>
                    <a:pt x="160" y="85"/>
                  </a:lnTo>
                  <a:lnTo>
                    <a:pt x="3" y="0"/>
                  </a:lnTo>
                  <a:lnTo>
                    <a:pt x="0" y="6"/>
                  </a:lnTo>
                  <a:lnTo>
                    <a:pt x="157" y="91"/>
                  </a:lnTo>
                  <a:lnTo>
                    <a:pt x="157" y="8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708280" y="3608280"/>
              <a:ext cx="73080" cy="44640"/>
            </a:xfrm>
            <a:custGeom>
              <a:avLst/>
              <a:gdLst/>
              <a:ahLst/>
              <a:rect l="l" t="t" r="r" b="b"/>
              <a:pathLst>
                <a:path w="233" h="137">
                  <a:moveTo>
                    <a:pt x="233" y="13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33" y="137"/>
                  </a:lnTo>
                  <a:lnTo>
                    <a:pt x="233" y="1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86120" y="3417840"/>
              <a:ext cx="39600" cy="19080"/>
            </a:xfrm>
            <a:custGeom>
              <a:avLst/>
              <a:gdLst/>
              <a:ahLst/>
              <a:rect l="l" t="t" r="r" b="b"/>
              <a:pathLst>
                <a:path w="122" h="64">
                  <a:moveTo>
                    <a:pt x="122" y="6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19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95760" y="3500280"/>
              <a:ext cx="69840" cy="34920"/>
            </a:xfrm>
            <a:custGeom>
              <a:avLst/>
              <a:gdLst/>
              <a:ahLst/>
              <a:rect l="l" t="t" r="r" b="b"/>
              <a:pathLst>
                <a:path w="216" h="112">
                  <a:moveTo>
                    <a:pt x="216" y="112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6" y="1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62200" y="3657600"/>
              <a:ext cx="77760" cy="4608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6" y="141"/>
                  </a:moveTo>
                  <a:lnTo>
                    <a:pt x="248" y="141"/>
                  </a:lnTo>
                  <a:lnTo>
                    <a:pt x="0" y="0"/>
                  </a:lnTo>
                  <a:lnTo>
                    <a:pt x="0" y="4"/>
                  </a:lnTo>
                  <a:lnTo>
                    <a:pt x="246" y="143"/>
                  </a:lnTo>
                  <a:lnTo>
                    <a:pt x="246" y="1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41760" y="3564000"/>
              <a:ext cx="66600" cy="39600"/>
            </a:xfrm>
            <a:custGeom>
              <a:avLst/>
              <a:gdLst/>
              <a:ahLst/>
              <a:rect l="l" t="t" r="r" b="b"/>
              <a:pathLst>
                <a:path w="212" h="125">
                  <a:moveTo>
                    <a:pt x="209" y="122"/>
                  </a:moveTo>
                  <a:lnTo>
                    <a:pt x="212" y="122"/>
                  </a:lnTo>
                  <a:lnTo>
                    <a:pt x="3" y="0"/>
                  </a:lnTo>
                  <a:lnTo>
                    <a:pt x="0" y="4"/>
                  </a:lnTo>
                  <a:lnTo>
                    <a:pt x="209" y="125"/>
                  </a:lnTo>
                  <a:lnTo>
                    <a:pt x="209" y="1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59200" y="5342040"/>
              <a:ext cx="360" cy="360"/>
            </a:xfrm>
            <a:prstGeom prst="rect">
              <a:avLst/>
            </a:prstGeom>
            <a:noFill/>
            <a:ln w="9360">
              <a:solidFill>
                <a:srgbClr val="c2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84760" y="4871880"/>
              <a:ext cx="384120" cy="44784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639" y="690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2" y="650"/>
                  </a:lnTo>
                  <a:lnTo>
                    <a:pt x="723" y="640"/>
                  </a:lnTo>
                  <a:lnTo>
                    <a:pt x="683" y="615"/>
                  </a:lnTo>
                  <a:lnTo>
                    <a:pt x="665" y="602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39" y="690"/>
                  </a:lnTo>
                  <a:close/>
                  <a:moveTo>
                    <a:pt x="872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199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29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4" y="1196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6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1" y="1314"/>
                  </a:lnTo>
                  <a:lnTo>
                    <a:pt x="339" y="1331"/>
                  </a:lnTo>
                  <a:lnTo>
                    <a:pt x="327" y="1345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8" y="1398"/>
                  </a:lnTo>
                  <a:lnTo>
                    <a:pt x="246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7" y="1026"/>
                  </a:lnTo>
                  <a:lnTo>
                    <a:pt x="114" y="980"/>
                  </a:lnTo>
                  <a:lnTo>
                    <a:pt x="102" y="982"/>
                  </a:lnTo>
                  <a:lnTo>
                    <a:pt x="90" y="978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6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1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0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0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6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7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0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8"/>
                  </a:lnTo>
                  <a:lnTo>
                    <a:pt x="314" y="238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0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3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3" y="16"/>
                  </a:lnTo>
                  <a:lnTo>
                    <a:pt x="608" y="31"/>
                  </a:lnTo>
                  <a:lnTo>
                    <a:pt x="621" y="49"/>
                  </a:lnTo>
                  <a:lnTo>
                    <a:pt x="639" y="86"/>
                  </a:lnTo>
                  <a:lnTo>
                    <a:pt x="659" y="130"/>
                  </a:lnTo>
                  <a:lnTo>
                    <a:pt x="669" y="141"/>
                  </a:lnTo>
                  <a:lnTo>
                    <a:pt x="672" y="150"/>
                  </a:lnTo>
                  <a:lnTo>
                    <a:pt x="671" y="157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1" y="238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3" y="508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6" y="663"/>
                  </a:lnTo>
                  <a:lnTo>
                    <a:pt x="913" y="677"/>
                  </a:lnTo>
                  <a:lnTo>
                    <a:pt x="891" y="681"/>
                  </a:lnTo>
                  <a:lnTo>
                    <a:pt x="872" y="683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1" y="729"/>
                  </a:lnTo>
                  <a:lnTo>
                    <a:pt x="124" y="735"/>
                  </a:lnTo>
                  <a:lnTo>
                    <a:pt x="127" y="729"/>
                  </a:lnTo>
                  <a:lnTo>
                    <a:pt x="129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84760" y="4871880"/>
              <a:ext cx="384120" cy="44784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872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199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29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4" y="1196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6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1" y="1314"/>
                  </a:lnTo>
                  <a:lnTo>
                    <a:pt x="339" y="1331"/>
                  </a:lnTo>
                  <a:lnTo>
                    <a:pt x="327" y="1345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8" y="1398"/>
                  </a:lnTo>
                  <a:lnTo>
                    <a:pt x="246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7" y="1026"/>
                  </a:lnTo>
                  <a:lnTo>
                    <a:pt x="114" y="980"/>
                  </a:lnTo>
                  <a:lnTo>
                    <a:pt x="102" y="982"/>
                  </a:lnTo>
                  <a:lnTo>
                    <a:pt x="90" y="978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6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1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0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0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6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7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0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8"/>
                  </a:lnTo>
                  <a:lnTo>
                    <a:pt x="314" y="238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0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3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3" y="16"/>
                  </a:lnTo>
                  <a:lnTo>
                    <a:pt x="608" y="31"/>
                  </a:lnTo>
                  <a:lnTo>
                    <a:pt x="621" y="49"/>
                  </a:lnTo>
                  <a:lnTo>
                    <a:pt x="639" y="86"/>
                  </a:lnTo>
                  <a:lnTo>
                    <a:pt x="659" y="130"/>
                  </a:lnTo>
                  <a:lnTo>
                    <a:pt x="669" y="141"/>
                  </a:lnTo>
                  <a:lnTo>
                    <a:pt x="672" y="150"/>
                  </a:lnTo>
                  <a:lnTo>
                    <a:pt x="671" y="157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1" y="238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3" y="508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6" y="663"/>
                  </a:lnTo>
                  <a:lnTo>
                    <a:pt x="913" y="677"/>
                  </a:lnTo>
                  <a:lnTo>
                    <a:pt x="891" y="681"/>
                  </a:lnTo>
                  <a:lnTo>
                    <a:pt x="872" y="683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97160" y="4933800"/>
              <a:ext cx="301680" cy="8604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1" y="134"/>
                  </a:lnTo>
                  <a:lnTo>
                    <a:pt x="657" y="138"/>
                  </a:lnTo>
                  <a:lnTo>
                    <a:pt x="649" y="142"/>
                  </a:lnTo>
                  <a:lnTo>
                    <a:pt x="539" y="142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8" y="193"/>
                  </a:lnTo>
                  <a:lnTo>
                    <a:pt x="188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7" y="168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59" y="188"/>
                  </a:lnTo>
                  <a:lnTo>
                    <a:pt x="159" y="193"/>
                  </a:lnTo>
                  <a:lnTo>
                    <a:pt x="156" y="197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7" y="197"/>
                  </a:lnTo>
                  <a:lnTo>
                    <a:pt x="188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1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6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097160" y="4933800"/>
              <a:ext cx="301680" cy="8604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1" y="134"/>
                  </a:lnTo>
                  <a:lnTo>
                    <a:pt x="657" y="138"/>
                  </a:lnTo>
                  <a:lnTo>
                    <a:pt x="649" y="142"/>
                  </a:lnTo>
                  <a:lnTo>
                    <a:pt x="539" y="142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8" y="193"/>
                  </a:lnTo>
                  <a:lnTo>
                    <a:pt x="188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7" y="168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59" y="188"/>
                  </a:lnTo>
                  <a:lnTo>
                    <a:pt x="159" y="193"/>
                  </a:lnTo>
                  <a:lnTo>
                    <a:pt x="156" y="197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7" y="197"/>
                  </a:lnTo>
                  <a:lnTo>
                    <a:pt x="188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1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6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714920" y="4667400"/>
              <a:ext cx="360" cy="360"/>
            </a:xfrm>
            <a:prstGeom prst="rect">
              <a:avLst/>
            </a:prstGeom>
            <a:noFill/>
            <a:ln w="9360">
              <a:solidFill>
                <a:srgbClr val="c2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38680" y="4195800"/>
              <a:ext cx="384120" cy="44748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1"/>
                  </a:moveTo>
                  <a:lnTo>
                    <a:pt x="662" y="674"/>
                  </a:lnTo>
                  <a:lnTo>
                    <a:pt x="681" y="661"/>
                  </a:lnTo>
                  <a:lnTo>
                    <a:pt x="702" y="650"/>
                  </a:lnTo>
                  <a:lnTo>
                    <a:pt x="723" y="642"/>
                  </a:lnTo>
                  <a:lnTo>
                    <a:pt x="683" y="616"/>
                  </a:lnTo>
                  <a:lnTo>
                    <a:pt x="665" y="603"/>
                  </a:lnTo>
                  <a:lnTo>
                    <a:pt x="644" y="588"/>
                  </a:lnTo>
                  <a:lnTo>
                    <a:pt x="647" y="613"/>
                  </a:lnTo>
                  <a:lnTo>
                    <a:pt x="643" y="637"/>
                  </a:lnTo>
                  <a:lnTo>
                    <a:pt x="639" y="691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6" y="1091"/>
                  </a:lnTo>
                  <a:lnTo>
                    <a:pt x="785" y="1143"/>
                  </a:lnTo>
                  <a:lnTo>
                    <a:pt x="785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2"/>
                  </a:lnTo>
                  <a:lnTo>
                    <a:pt x="793" y="1190"/>
                  </a:lnTo>
                  <a:lnTo>
                    <a:pt x="801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2"/>
                  </a:lnTo>
                  <a:lnTo>
                    <a:pt x="833" y="1241"/>
                  </a:lnTo>
                  <a:lnTo>
                    <a:pt x="840" y="1251"/>
                  </a:lnTo>
                  <a:lnTo>
                    <a:pt x="871" y="1267"/>
                  </a:lnTo>
                  <a:lnTo>
                    <a:pt x="891" y="1277"/>
                  </a:lnTo>
                  <a:lnTo>
                    <a:pt x="899" y="1284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7" y="1313"/>
                  </a:lnTo>
                  <a:lnTo>
                    <a:pt x="865" y="1318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1" y="1258"/>
                  </a:lnTo>
                  <a:lnTo>
                    <a:pt x="647" y="1240"/>
                  </a:lnTo>
                  <a:lnTo>
                    <a:pt x="649" y="1225"/>
                  </a:lnTo>
                  <a:lnTo>
                    <a:pt x="651" y="1211"/>
                  </a:lnTo>
                  <a:lnTo>
                    <a:pt x="654" y="1198"/>
                  </a:lnTo>
                  <a:lnTo>
                    <a:pt x="660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9"/>
                  </a:lnTo>
                  <a:lnTo>
                    <a:pt x="633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9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1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2" y="1206"/>
                  </a:lnTo>
                  <a:lnTo>
                    <a:pt x="379" y="1232"/>
                  </a:lnTo>
                  <a:lnTo>
                    <a:pt x="376" y="1253"/>
                  </a:lnTo>
                  <a:lnTo>
                    <a:pt x="369" y="1273"/>
                  </a:lnTo>
                  <a:lnTo>
                    <a:pt x="363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300" y="1389"/>
                  </a:lnTo>
                  <a:lnTo>
                    <a:pt x="277" y="1400"/>
                  </a:lnTo>
                  <a:lnTo>
                    <a:pt x="246" y="1407"/>
                  </a:lnTo>
                  <a:lnTo>
                    <a:pt x="219" y="1407"/>
                  </a:lnTo>
                  <a:lnTo>
                    <a:pt x="191" y="1402"/>
                  </a:lnTo>
                  <a:lnTo>
                    <a:pt x="172" y="1394"/>
                  </a:lnTo>
                  <a:lnTo>
                    <a:pt x="155" y="1381"/>
                  </a:lnTo>
                  <a:lnTo>
                    <a:pt x="143" y="1371"/>
                  </a:lnTo>
                  <a:lnTo>
                    <a:pt x="131" y="1366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1" y="1187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8" y="1089"/>
                  </a:lnTo>
                  <a:lnTo>
                    <a:pt x="114" y="1070"/>
                  </a:lnTo>
                  <a:lnTo>
                    <a:pt x="83" y="1048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3"/>
                  </a:lnTo>
                  <a:lnTo>
                    <a:pt x="91" y="980"/>
                  </a:lnTo>
                  <a:lnTo>
                    <a:pt x="83" y="975"/>
                  </a:lnTo>
                  <a:lnTo>
                    <a:pt x="78" y="967"/>
                  </a:lnTo>
                  <a:lnTo>
                    <a:pt x="75" y="959"/>
                  </a:lnTo>
                  <a:lnTo>
                    <a:pt x="67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2" y="906"/>
                  </a:lnTo>
                  <a:lnTo>
                    <a:pt x="2" y="833"/>
                  </a:lnTo>
                  <a:lnTo>
                    <a:pt x="10" y="831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9" y="765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5" y="720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1" y="671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1"/>
                  </a:lnTo>
                  <a:lnTo>
                    <a:pt x="94" y="715"/>
                  </a:lnTo>
                  <a:lnTo>
                    <a:pt x="101" y="715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1"/>
                  </a:lnTo>
                  <a:lnTo>
                    <a:pt x="128" y="694"/>
                  </a:lnTo>
                  <a:lnTo>
                    <a:pt x="125" y="673"/>
                  </a:lnTo>
                  <a:lnTo>
                    <a:pt x="120" y="650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5" y="356"/>
                  </a:lnTo>
                  <a:lnTo>
                    <a:pt x="191" y="327"/>
                  </a:lnTo>
                  <a:lnTo>
                    <a:pt x="207" y="304"/>
                  </a:lnTo>
                  <a:lnTo>
                    <a:pt x="232" y="281"/>
                  </a:lnTo>
                  <a:lnTo>
                    <a:pt x="256" y="267"/>
                  </a:lnTo>
                  <a:lnTo>
                    <a:pt x="270" y="252"/>
                  </a:lnTo>
                  <a:lnTo>
                    <a:pt x="285" y="243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3"/>
                  </a:lnTo>
                  <a:lnTo>
                    <a:pt x="366" y="201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69" y="99"/>
                  </a:lnTo>
                  <a:lnTo>
                    <a:pt x="379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1"/>
                  </a:lnTo>
                  <a:lnTo>
                    <a:pt x="466" y="11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60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8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2"/>
                  </a:lnTo>
                  <a:lnTo>
                    <a:pt x="801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4"/>
                  </a:lnTo>
                  <a:lnTo>
                    <a:pt x="796" y="485"/>
                  </a:lnTo>
                  <a:lnTo>
                    <a:pt x="810" y="495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3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5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4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2"/>
                  </a:lnTo>
                  <a:lnTo>
                    <a:pt x="871" y="684"/>
                  </a:lnTo>
                  <a:close/>
                  <a:moveTo>
                    <a:pt x="127" y="715"/>
                  </a:moveTo>
                  <a:lnTo>
                    <a:pt x="118" y="724"/>
                  </a:lnTo>
                  <a:lnTo>
                    <a:pt x="122" y="729"/>
                  </a:lnTo>
                  <a:lnTo>
                    <a:pt x="125" y="737"/>
                  </a:lnTo>
                  <a:lnTo>
                    <a:pt x="127" y="729"/>
                  </a:lnTo>
                  <a:lnTo>
                    <a:pt x="128" y="723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38680" y="4195800"/>
              <a:ext cx="384120" cy="44748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6" y="1091"/>
                  </a:lnTo>
                  <a:lnTo>
                    <a:pt x="785" y="1143"/>
                  </a:lnTo>
                  <a:lnTo>
                    <a:pt x="785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2"/>
                  </a:lnTo>
                  <a:lnTo>
                    <a:pt x="793" y="1190"/>
                  </a:lnTo>
                  <a:lnTo>
                    <a:pt x="801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2"/>
                  </a:lnTo>
                  <a:lnTo>
                    <a:pt x="833" y="1241"/>
                  </a:lnTo>
                  <a:lnTo>
                    <a:pt x="840" y="1251"/>
                  </a:lnTo>
                  <a:lnTo>
                    <a:pt x="871" y="1267"/>
                  </a:lnTo>
                  <a:lnTo>
                    <a:pt x="891" y="1277"/>
                  </a:lnTo>
                  <a:lnTo>
                    <a:pt x="899" y="1284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7" y="1313"/>
                  </a:lnTo>
                  <a:lnTo>
                    <a:pt x="865" y="1318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1" y="1258"/>
                  </a:lnTo>
                  <a:lnTo>
                    <a:pt x="647" y="1240"/>
                  </a:lnTo>
                  <a:lnTo>
                    <a:pt x="649" y="1225"/>
                  </a:lnTo>
                  <a:lnTo>
                    <a:pt x="651" y="1211"/>
                  </a:lnTo>
                  <a:lnTo>
                    <a:pt x="654" y="1198"/>
                  </a:lnTo>
                  <a:lnTo>
                    <a:pt x="660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9"/>
                  </a:lnTo>
                  <a:lnTo>
                    <a:pt x="633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9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1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2" y="1206"/>
                  </a:lnTo>
                  <a:lnTo>
                    <a:pt x="379" y="1232"/>
                  </a:lnTo>
                  <a:lnTo>
                    <a:pt x="376" y="1253"/>
                  </a:lnTo>
                  <a:lnTo>
                    <a:pt x="369" y="1273"/>
                  </a:lnTo>
                  <a:lnTo>
                    <a:pt x="363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300" y="1389"/>
                  </a:lnTo>
                  <a:lnTo>
                    <a:pt x="277" y="1400"/>
                  </a:lnTo>
                  <a:lnTo>
                    <a:pt x="246" y="1407"/>
                  </a:lnTo>
                  <a:lnTo>
                    <a:pt x="219" y="1407"/>
                  </a:lnTo>
                  <a:lnTo>
                    <a:pt x="191" y="1402"/>
                  </a:lnTo>
                  <a:lnTo>
                    <a:pt x="172" y="1394"/>
                  </a:lnTo>
                  <a:lnTo>
                    <a:pt x="155" y="1381"/>
                  </a:lnTo>
                  <a:lnTo>
                    <a:pt x="143" y="1371"/>
                  </a:lnTo>
                  <a:lnTo>
                    <a:pt x="131" y="1366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1" y="1187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8" y="1089"/>
                  </a:lnTo>
                  <a:lnTo>
                    <a:pt x="114" y="1070"/>
                  </a:lnTo>
                  <a:lnTo>
                    <a:pt x="83" y="1048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3"/>
                  </a:lnTo>
                  <a:lnTo>
                    <a:pt x="91" y="980"/>
                  </a:lnTo>
                  <a:lnTo>
                    <a:pt x="83" y="975"/>
                  </a:lnTo>
                  <a:lnTo>
                    <a:pt x="78" y="967"/>
                  </a:lnTo>
                  <a:lnTo>
                    <a:pt x="75" y="959"/>
                  </a:lnTo>
                  <a:lnTo>
                    <a:pt x="67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2" y="906"/>
                  </a:lnTo>
                  <a:lnTo>
                    <a:pt x="2" y="833"/>
                  </a:lnTo>
                  <a:lnTo>
                    <a:pt x="10" y="831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9" y="765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5" y="720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1" y="671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1"/>
                  </a:lnTo>
                  <a:lnTo>
                    <a:pt x="94" y="715"/>
                  </a:lnTo>
                  <a:lnTo>
                    <a:pt x="101" y="715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1"/>
                  </a:lnTo>
                  <a:lnTo>
                    <a:pt x="128" y="694"/>
                  </a:lnTo>
                  <a:lnTo>
                    <a:pt x="125" y="673"/>
                  </a:lnTo>
                  <a:lnTo>
                    <a:pt x="120" y="650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5" y="356"/>
                  </a:lnTo>
                  <a:lnTo>
                    <a:pt x="191" y="327"/>
                  </a:lnTo>
                  <a:lnTo>
                    <a:pt x="207" y="304"/>
                  </a:lnTo>
                  <a:lnTo>
                    <a:pt x="232" y="281"/>
                  </a:lnTo>
                  <a:lnTo>
                    <a:pt x="256" y="267"/>
                  </a:lnTo>
                  <a:lnTo>
                    <a:pt x="270" y="252"/>
                  </a:lnTo>
                  <a:lnTo>
                    <a:pt x="285" y="243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3"/>
                  </a:lnTo>
                  <a:lnTo>
                    <a:pt x="366" y="201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69" y="99"/>
                  </a:lnTo>
                  <a:lnTo>
                    <a:pt x="379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1"/>
                  </a:lnTo>
                  <a:lnTo>
                    <a:pt x="466" y="11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60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8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2"/>
                  </a:lnTo>
                  <a:lnTo>
                    <a:pt x="801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4"/>
                  </a:lnTo>
                  <a:lnTo>
                    <a:pt x="796" y="485"/>
                  </a:lnTo>
                  <a:lnTo>
                    <a:pt x="810" y="495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3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5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4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2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951440" y="42577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6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9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6"/>
                  </a:lnTo>
                  <a:lnTo>
                    <a:pt x="378" y="146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9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4"/>
                  </a:lnTo>
                  <a:lnTo>
                    <a:pt x="156" y="197"/>
                  </a:lnTo>
                  <a:lnTo>
                    <a:pt x="150" y="201"/>
                  </a:lnTo>
                  <a:lnTo>
                    <a:pt x="182" y="201"/>
                  </a:lnTo>
                  <a:lnTo>
                    <a:pt x="186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8" y="30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4"/>
                  </a:lnTo>
                  <a:lnTo>
                    <a:pt x="288" y="58"/>
                  </a:lnTo>
                  <a:lnTo>
                    <a:pt x="278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8"/>
                  </a:lnTo>
                  <a:lnTo>
                    <a:pt x="139" y="28"/>
                  </a:lnTo>
                  <a:lnTo>
                    <a:pt x="134" y="36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8"/>
                  </a:lnTo>
                  <a:lnTo>
                    <a:pt x="288" y="58"/>
                  </a:lnTo>
                  <a:lnTo>
                    <a:pt x="674" y="58"/>
                  </a:lnTo>
                  <a:lnTo>
                    <a:pt x="682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4" y="58"/>
                  </a:lnTo>
                  <a:lnTo>
                    <a:pt x="713" y="5"/>
                  </a:lnTo>
                  <a:lnTo>
                    <a:pt x="719" y="0"/>
                  </a:lnTo>
                  <a:lnTo>
                    <a:pt x="727" y="5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7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1" y="98"/>
                  </a:lnTo>
                  <a:lnTo>
                    <a:pt x="921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8"/>
                  </a:lnTo>
                  <a:lnTo>
                    <a:pt x="689" y="98"/>
                  </a:lnTo>
                  <a:lnTo>
                    <a:pt x="689" y="115"/>
                  </a:lnTo>
                  <a:lnTo>
                    <a:pt x="677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951440" y="42577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6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9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6"/>
                  </a:lnTo>
                  <a:lnTo>
                    <a:pt x="378" y="146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9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4"/>
                  </a:lnTo>
                  <a:lnTo>
                    <a:pt x="156" y="197"/>
                  </a:lnTo>
                  <a:lnTo>
                    <a:pt x="150" y="201"/>
                  </a:lnTo>
                  <a:lnTo>
                    <a:pt x="182" y="201"/>
                  </a:lnTo>
                  <a:lnTo>
                    <a:pt x="186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8" y="30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4"/>
                  </a:lnTo>
                  <a:lnTo>
                    <a:pt x="288" y="58"/>
                  </a:lnTo>
                  <a:lnTo>
                    <a:pt x="278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8"/>
                  </a:lnTo>
                  <a:lnTo>
                    <a:pt x="139" y="28"/>
                  </a:lnTo>
                  <a:lnTo>
                    <a:pt x="134" y="36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8"/>
                  </a:lnTo>
                  <a:lnTo>
                    <a:pt x="288" y="58"/>
                  </a:lnTo>
                  <a:lnTo>
                    <a:pt x="674" y="58"/>
                  </a:lnTo>
                  <a:lnTo>
                    <a:pt x="682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4" y="58"/>
                  </a:lnTo>
                  <a:lnTo>
                    <a:pt x="713" y="5"/>
                  </a:lnTo>
                  <a:lnTo>
                    <a:pt x="719" y="0"/>
                  </a:lnTo>
                  <a:lnTo>
                    <a:pt x="727" y="5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7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1" y="98"/>
                  </a:lnTo>
                  <a:lnTo>
                    <a:pt x="921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8"/>
                  </a:lnTo>
                  <a:lnTo>
                    <a:pt x="689" y="98"/>
                  </a:lnTo>
                  <a:lnTo>
                    <a:pt x="689" y="115"/>
                  </a:lnTo>
                  <a:lnTo>
                    <a:pt x="677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59080" y="4826160"/>
              <a:ext cx="360" cy="360"/>
            </a:xfrm>
            <a:prstGeom prst="rect">
              <a:avLst/>
            </a:prstGeom>
            <a:noFill/>
            <a:ln w="9360">
              <a:solidFill>
                <a:srgbClr val="c2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184640" y="4354560"/>
              <a:ext cx="382680" cy="44748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639" y="690"/>
                  </a:moveTo>
                  <a:lnTo>
                    <a:pt x="661" y="673"/>
                  </a:lnTo>
                  <a:lnTo>
                    <a:pt x="681" y="661"/>
                  </a:lnTo>
                  <a:lnTo>
                    <a:pt x="702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5" y="602"/>
                  </a:lnTo>
                  <a:lnTo>
                    <a:pt x="644" y="588"/>
                  </a:lnTo>
                  <a:lnTo>
                    <a:pt x="645" y="614"/>
                  </a:lnTo>
                  <a:lnTo>
                    <a:pt x="642" y="637"/>
                  </a:lnTo>
                  <a:lnTo>
                    <a:pt x="639" y="690"/>
                  </a:lnTo>
                  <a:close/>
                  <a:moveTo>
                    <a:pt x="871" y="683"/>
                  </a:moveTo>
                  <a:lnTo>
                    <a:pt x="873" y="738"/>
                  </a:lnTo>
                  <a:lnTo>
                    <a:pt x="873" y="803"/>
                  </a:lnTo>
                  <a:lnTo>
                    <a:pt x="867" y="877"/>
                  </a:lnTo>
                  <a:lnTo>
                    <a:pt x="854" y="949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79"/>
                  </a:lnTo>
                  <a:lnTo>
                    <a:pt x="794" y="1090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89" y="1160"/>
                  </a:lnTo>
                  <a:lnTo>
                    <a:pt x="789" y="1169"/>
                  </a:lnTo>
                  <a:lnTo>
                    <a:pt x="783" y="1181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5" y="1213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1"/>
                  </a:lnTo>
                  <a:lnTo>
                    <a:pt x="833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6"/>
                  </a:lnTo>
                  <a:lnTo>
                    <a:pt x="899" y="1283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6" y="1312"/>
                  </a:lnTo>
                  <a:lnTo>
                    <a:pt x="865" y="1317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2"/>
                  </a:lnTo>
                  <a:lnTo>
                    <a:pt x="697" y="1270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7"/>
                  </a:lnTo>
                  <a:lnTo>
                    <a:pt x="647" y="1239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8" y="1185"/>
                  </a:lnTo>
                  <a:lnTo>
                    <a:pt x="665" y="1171"/>
                  </a:lnTo>
                  <a:lnTo>
                    <a:pt x="671" y="1160"/>
                  </a:lnTo>
                  <a:lnTo>
                    <a:pt x="671" y="1147"/>
                  </a:lnTo>
                  <a:lnTo>
                    <a:pt x="671" y="1134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1" y="958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5"/>
                  </a:lnTo>
                  <a:lnTo>
                    <a:pt x="508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3" y="1183"/>
                  </a:lnTo>
                  <a:lnTo>
                    <a:pt x="382" y="1206"/>
                  </a:lnTo>
                  <a:lnTo>
                    <a:pt x="378" y="1231"/>
                  </a:lnTo>
                  <a:lnTo>
                    <a:pt x="374" y="1252"/>
                  </a:lnTo>
                  <a:lnTo>
                    <a:pt x="369" y="1272"/>
                  </a:lnTo>
                  <a:lnTo>
                    <a:pt x="362" y="1293"/>
                  </a:lnTo>
                  <a:lnTo>
                    <a:pt x="351" y="1314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3" y="1360"/>
                  </a:lnTo>
                  <a:lnTo>
                    <a:pt x="314" y="1375"/>
                  </a:lnTo>
                  <a:lnTo>
                    <a:pt x="299" y="1388"/>
                  </a:lnTo>
                  <a:lnTo>
                    <a:pt x="277" y="1399"/>
                  </a:lnTo>
                  <a:lnTo>
                    <a:pt x="246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0" y="1393"/>
                  </a:lnTo>
                  <a:lnTo>
                    <a:pt x="154" y="1380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5" y="1343"/>
                  </a:lnTo>
                  <a:lnTo>
                    <a:pt x="107" y="1314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3"/>
                  </a:lnTo>
                  <a:lnTo>
                    <a:pt x="89" y="1186"/>
                  </a:lnTo>
                  <a:lnTo>
                    <a:pt x="105" y="1158"/>
                  </a:lnTo>
                  <a:lnTo>
                    <a:pt x="110" y="1123"/>
                  </a:lnTo>
                  <a:lnTo>
                    <a:pt x="121" y="1108"/>
                  </a:lnTo>
                  <a:lnTo>
                    <a:pt x="118" y="1089"/>
                  </a:lnTo>
                  <a:lnTo>
                    <a:pt x="113" y="1070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89" y="979"/>
                  </a:lnTo>
                  <a:lnTo>
                    <a:pt x="83" y="975"/>
                  </a:lnTo>
                  <a:lnTo>
                    <a:pt x="78" y="966"/>
                  </a:lnTo>
                  <a:lnTo>
                    <a:pt x="75" y="958"/>
                  </a:lnTo>
                  <a:lnTo>
                    <a:pt x="67" y="960"/>
                  </a:lnTo>
                  <a:lnTo>
                    <a:pt x="55" y="958"/>
                  </a:lnTo>
                  <a:lnTo>
                    <a:pt x="45" y="953"/>
                  </a:lnTo>
                  <a:lnTo>
                    <a:pt x="37" y="945"/>
                  </a:lnTo>
                  <a:lnTo>
                    <a:pt x="29" y="932"/>
                  </a:lnTo>
                  <a:lnTo>
                    <a:pt x="23" y="921"/>
                  </a:lnTo>
                  <a:lnTo>
                    <a:pt x="18" y="908"/>
                  </a:lnTo>
                  <a:lnTo>
                    <a:pt x="11" y="905"/>
                  </a:lnTo>
                  <a:lnTo>
                    <a:pt x="2" y="832"/>
                  </a:lnTo>
                  <a:lnTo>
                    <a:pt x="10" y="830"/>
                  </a:lnTo>
                  <a:lnTo>
                    <a:pt x="10" y="798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4"/>
                  </a:lnTo>
                  <a:lnTo>
                    <a:pt x="10" y="754"/>
                  </a:lnTo>
                  <a:lnTo>
                    <a:pt x="15" y="747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4" y="719"/>
                  </a:lnTo>
                  <a:lnTo>
                    <a:pt x="44" y="714"/>
                  </a:lnTo>
                  <a:lnTo>
                    <a:pt x="37" y="700"/>
                  </a:lnTo>
                  <a:lnTo>
                    <a:pt x="42" y="675"/>
                  </a:lnTo>
                  <a:lnTo>
                    <a:pt x="44" y="670"/>
                  </a:lnTo>
                  <a:lnTo>
                    <a:pt x="45" y="666"/>
                  </a:lnTo>
                  <a:lnTo>
                    <a:pt x="52" y="666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6"/>
                  </a:lnTo>
                  <a:lnTo>
                    <a:pt x="86" y="666"/>
                  </a:lnTo>
                  <a:lnTo>
                    <a:pt x="89" y="670"/>
                  </a:lnTo>
                  <a:lnTo>
                    <a:pt x="92" y="677"/>
                  </a:lnTo>
                  <a:lnTo>
                    <a:pt x="94" y="688"/>
                  </a:lnTo>
                  <a:lnTo>
                    <a:pt x="94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8"/>
                  </a:lnTo>
                  <a:lnTo>
                    <a:pt x="112" y="686"/>
                  </a:lnTo>
                  <a:lnTo>
                    <a:pt x="118" y="688"/>
                  </a:lnTo>
                  <a:lnTo>
                    <a:pt x="123" y="690"/>
                  </a:lnTo>
                  <a:lnTo>
                    <a:pt x="128" y="693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2" y="510"/>
                  </a:lnTo>
                  <a:lnTo>
                    <a:pt x="160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8" y="422"/>
                  </a:lnTo>
                  <a:lnTo>
                    <a:pt x="165" y="400"/>
                  </a:lnTo>
                  <a:lnTo>
                    <a:pt x="167" y="380"/>
                  </a:lnTo>
                  <a:lnTo>
                    <a:pt x="174" y="356"/>
                  </a:lnTo>
                  <a:lnTo>
                    <a:pt x="191" y="326"/>
                  </a:lnTo>
                  <a:lnTo>
                    <a:pt x="207" y="302"/>
                  </a:lnTo>
                  <a:lnTo>
                    <a:pt x="231" y="281"/>
                  </a:lnTo>
                  <a:lnTo>
                    <a:pt x="255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2"/>
                  </a:lnTo>
                  <a:lnTo>
                    <a:pt x="367" y="234"/>
                  </a:lnTo>
                  <a:lnTo>
                    <a:pt x="370" y="221"/>
                  </a:lnTo>
                  <a:lnTo>
                    <a:pt x="365" y="200"/>
                  </a:lnTo>
                  <a:lnTo>
                    <a:pt x="369" y="198"/>
                  </a:lnTo>
                  <a:lnTo>
                    <a:pt x="365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69" y="98"/>
                  </a:lnTo>
                  <a:lnTo>
                    <a:pt x="378" y="71"/>
                  </a:lnTo>
                  <a:lnTo>
                    <a:pt x="393" y="51"/>
                  </a:lnTo>
                  <a:lnTo>
                    <a:pt x="406" y="39"/>
                  </a:lnTo>
                  <a:lnTo>
                    <a:pt x="440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1" y="3"/>
                  </a:lnTo>
                  <a:lnTo>
                    <a:pt x="579" y="9"/>
                  </a:lnTo>
                  <a:lnTo>
                    <a:pt x="593" y="16"/>
                  </a:lnTo>
                  <a:lnTo>
                    <a:pt x="608" y="30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58" y="130"/>
                  </a:lnTo>
                  <a:lnTo>
                    <a:pt x="668" y="142"/>
                  </a:lnTo>
                  <a:lnTo>
                    <a:pt x="671" y="150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4" y="174"/>
                  </a:lnTo>
                  <a:lnTo>
                    <a:pt x="637" y="198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6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3"/>
                  </a:lnTo>
                  <a:lnTo>
                    <a:pt x="794" y="485"/>
                  </a:lnTo>
                  <a:lnTo>
                    <a:pt x="810" y="494"/>
                  </a:lnTo>
                  <a:lnTo>
                    <a:pt x="820" y="501"/>
                  </a:lnTo>
                  <a:lnTo>
                    <a:pt x="831" y="510"/>
                  </a:lnTo>
                  <a:lnTo>
                    <a:pt x="842" y="517"/>
                  </a:lnTo>
                  <a:lnTo>
                    <a:pt x="872" y="509"/>
                  </a:lnTo>
                  <a:lnTo>
                    <a:pt x="888" y="504"/>
                  </a:lnTo>
                  <a:lnTo>
                    <a:pt x="905" y="501"/>
                  </a:lnTo>
                  <a:lnTo>
                    <a:pt x="915" y="497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7" y="337"/>
                  </a:lnTo>
                  <a:lnTo>
                    <a:pt x="1208" y="334"/>
                  </a:lnTo>
                  <a:lnTo>
                    <a:pt x="1122" y="383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6" y="625"/>
                  </a:lnTo>
                  <a:lnTo>
                    <a:pt x="972" y="646"/>
                  </a:lnTo>
                  <a:lnTo>
                    <a:pt x="946" y="663"/>
                  </a:lnTo>
                  <a:lnTo>
                    <a:pt x="912" y="677"/>
                  </a:lnTo>
                  <a:lnTo>
                    <a:pt x="891" y="682"/>
                  </a:lnTo>
                  <a:lnTo>
                    <a:pt x="871" y="683"/>
                  </a:lnTo>
                  <a:close/>
                  <a:moveTo>
                    <a:pt x="126" y="714"/>
                  </a:moveTo>
                  <a:lnTo>
                    <a:pt x="118" y="723"/>
                  </a:lnTo>
                  <a:lnTo>
                    <a:pt x="121" y="729"/>
                  </a:lnTo>
                  <a:lnTo>
                    <a:pt x="124" y="736"/>
                  </a:lnTo>
                  <a:lnTo>
                    <a:pt x="126" y="729"/>
                  </a:lnTo>
                  <a:lnTo>
                    <a:pt x="128" y="722"/>
                  </a:lnTo>
                  <a:lnTo>
                    <a:pt x="126" y="71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84640" y="4354560"/>
              <a:ext cx="382680" cy="44748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871" y="683"/>
                  </a:moveTo>
                  <a:lnTo>
                    <a:pt x="873" y="738"/>
                  </a:lnTo>
                  <a:lnTo>
                    <a:pt x="873" y="803"/>
                  </a:lnTo>
                  <a:lnTo>
                    <a:pt x="867" y="877"/>
                  </a:lnTo>
                  <a:lnTo>
                    <a:pt x="854" y="949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79"/>
                  </a:lnTo>
                  <a:lnTo>
                    <a:pt x="794" y="1090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89" y="1160"/>
                  </a:lnTo>
                  <a:lnTo>
                    <a:pt x="789" y="1169"/>
                  </a:lnTo>
                  <a:lnTo>
                    <a:pt x="783" y="1181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5" y="1213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1"/>
                  </a:lnTo>
                  <a:lnTo>
                    <a:pt x="833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6"/>
                  </a:lnTo>
                  <a:lnTo>
                    <a:pt x="899" y="1283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6" y="1312"/>
                  </a:lnTo>
                  <a:lnTo>
                    <a:pt x="865" y="1317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2"/>
                  </a:lnTo>
                  <a:lnTo>
                    <a:pt x="697" y="1270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7"/>
                  </a:lnTo>
                  <a:lnTo>
                    <a:pt x="647" y="1239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8" y="1185"/>
                  </a:lnTo>
                  <a:lnTo>
                    <a:pt x="665" y="1171"/>
                  </a:lnTo>
                  <a:lnTo>
                    <a:pt x="671" y="1160"/>
                  </a:lnTo>
                  <a:lnTo>
                    <a:pt x="671" y="1147"/>
                  </a:lnTo>
                  <a:lnTo>
                    <a:pt x="671" y="1134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1" y="958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5"/>
                  </a:lnTo>
                  <a:lnTo>
                    <a:pt x="508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3" y="1183"/>
                  </a:lnTo>
                  <a:lnTo>
                    <a:pt x="382" y="1206"/>
                  </a:lnTo>
                  <a:lnTo>
                    <a:pt x="378" y="1231"/>
                  </a:lnTo>
                  <a:lnTo>
                    <a:pt x="374" y="1252"/>
                  </a:lnTo>
                  <a:lnTo>
                    <a:pt x="369" y="1272"/>
                  </a:lnTo>
                  <a:lnTo>
                    <a:pt x="362" y="1293"/>
                  </a:lnTo>
                  <a:lnTo>
                    <a:pt x="351" y="1314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3" y="1360"/>
                  </a:lnTo>
                  <a:lnTo>
                    <a:pt x="314" y="1375"/>
                  </a:lnTo>
                  <a:lnTo>
                    <a:pt x="299" y="1388"/>
                  </a:lnTo>
                  <a:lnTo>
                    <a:pt x="277" y="1399"/>
                  </a:lnTo>
                  <a:lnTo>
                    <a:pt x="246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0" y="1393"/>
                  </a:lnTo>
                  <a:lnTo>
                    <a:pt x="154" y="1380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5" y="1343"/>
                  </a:lnTo>
                  <a:lnTo>
                    <a:pt x="107" y="1314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3"/>
                  </a:lnTo>
                  <a:lnTo>
                    <a:pt x="89" y="1186"/>
                  </a:lnTo>
                  <a:lnTo>
                    <a:pt x="105" y="1158"/>
                  </a:lnTo>
                  <a:lnTo>
                    <a:pt x="110" y="1123"/>
                  </a:lnTo>
                  <a:lnTo>
                    <a:pt x="121" y="1108"/>
                  </a:lnTo>
                  <a:lnTo>
                    <a:pt x="118" y="1089"/>
                  </a:lnTo>
                  <a:lnTo>
                    <a:pt x="113" y="1070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89" y="979"/>
                  </a:lnTo>
                  <a:lnTo>
                    <a:pt x="83" y="975"/>
                  </a:lnTo>
                  <a:lnTo>
                    <a:pt x="78" y="966"/>
                  </a:lnTo>
                  <a:lnTo>
                    <a:pt x="75" y="958"/>
                  </a:lnTo>
                  <a:lnTo>
                    <a:pt x="67" y="960"/>
                  </a:lnTo>
                  <a:lnTo>
                    <a:pt x="55" y="958"/>
                  </a:lnTo>
                  <a:lnTo>
                    <a:pt x="45" y="953"/>
                  </a:lnTo>
                  <a:lnTo>
                    <a:pt x="37" y="945"/>
                  </a:lnTo>
                  <a:lnTo>
                    <a:pt x="29" y="932"/>
                  </a:lnTo>
                  <a:lnTo>
                    <a:pt x="23" y="921"/>
                  </a:lnTo>
                  <a:lnTo>
                    <a:pt x="18" y="908"/>
                  </a:lnTo>
                  <a:lnTo>
                    <a:pt x="11" y="905"/>
                  </a:lnTo>
                  <a:lnTo>
                    <a:pt x="2" y="832"/>
                  </a:lnTo>
                  <a:lnTo>
                    <a:pt x="10" y="830"/>
                  </a:lnTo>
                  <a:lnTo>
                    <a:pt x="10" y="798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4"/>
                  </a:lnTo>
                  <a:lnTo>
                    <a:pt x="10" y="754"/>
                  </a:lnTo>
                  <a:lnTo>
                    <a:pt x="15" y="747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4" y="719"/>
                  </a:lnTo>
                  <a:lnTo>
                    <a:pt x="44" y="714"/>
                  </a:lnTo>
                  <a:lnTo>
                    <a:pt x="37" y="700"/>
                  </a:lnTo>
                  <a:lnTo>
                    <a:pt x="42" y="675"/>
                  </a:lnTo>
                  <a:lnTo>
                    <a:pt x="44" y="670"/>
                  </a:lnTo>
                  <a:lnTo>
                    <a:pt x="45" y="666"/>
                  </a:lnTo>
                  <a:lnTo>
                    <a:pt x="52" y="666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6"/>
                  </a:lnTo>
                  <a:lnTo>
                    <a:pt x="86" y="666"/>
                  </a:lnTo>
                  <a:lnTo>
                    <a:pt x="89" y="670"/>
                  </a:lnTo>
                  <a:lnTo>
                    <a:pt x="92" y="677"/>
                  </a:lnTo>
                  <a:lnTo>
                    <a:pt x="94" y="688"/>
                  </a:lnTo>
                  <a:lnTo>
                    <a:pt x="94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8"/>
                  </a:lnTo>
                  <a:lnTo>
                    <a:pt x="112" y="686"/>
                  </a:lnTo>
                  <a:lnTo>
                    <a:pt x="118" y="688"/>
                  </a:lnTo>
                  <a:lnTo>
                    <a:pt x="123" y="690"/>
                  </a:lnTo>
                  <a:lnTo>
                    <a:pt x="128" y="693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2" y="510"/>
                  </a:lnTo>
                  <a:lnTo>
                    <a:pt x="160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8" y="422"/>
                  </a:lnTo>
                  <a:lnTo>
                    <a:pt x="165" y="400"/>
                  </a:lnTo>
                  <a:lnTo>
                    <a:pt x="167" y="380"/>
                  </a:lnTo>
                  <a:lnTo>
                    <a:pt x="174" y="356"/>
                  </a:lnTo>
                  <a:lnTo>
                    <a:pt x="191" y="326"/>
                  </a:lnTo>
                  <a:lnTo>
                    <a:pt x="207" y="302"/>
                  </a:lnTo>
                  <a:lnTo>
                    <a:pt x="231" y="281"/>
                  </a:lnTo>
                  <a:lnTo>
                    <a:pt x="255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2"/>
                  </a:lnTo>
                  <a:lnTo>
                    <a:pt x="367" y="234"/>
                  </a:lnTo>
                  <a:lnTo>
                    <a:pt x="370" y="221"/>
                  </a:lnTo>
                  <a:lnTo>
                    <a:pt x="365" y="200"/>
                  </a:lnTo>
                  <a:lnTo>
                    <a:pt x="369" y="198"/>
                  </a:lnTo>
                  <a:lnTo>
                    <a:pt x="365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69" y="98"/>
                  </a:lnTo>
                  <a:lnTo>
                    <a:pt x="378" y="71"/>
                  </a:lnTo>
                  <a:lnTo>
                    <a:pt x="393" y="51"/>
                  </a:lnTo>
                  <a:lnTo>
                    <a:pt x="406" y="39"/>
                  </a:lnTo>
                  <a:lnTo>
                    <a:pt x="440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1" y="3"/>
                  </a:lnTo>
                  <a:lnTo>
                    <a:pt x="579" y="9"/>
                  </a:lnTo>
                  <a:lnTo>
                    <a:pt x="593" y="16"/>
                  </a:lnTo>
                  <a:lnTo>
                    <a:pt x="608" y="30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58" y="130"/>
                  </a:lnTo>
                  <a:lnTo>
                    <a:pt x="668" y="142"/>
                  </a:lnTo>
                  <a:lnTo>
                    <a:pt x="671" y="150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4" y="174"/>
                  </a:lnTo>
                  <a:lnTo>
                    <a:pt x="637" y="198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6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3"/>
                  </a:lnTo>
                  <a:lnTo>
                    <a:pt x="794" y="485"/>
                  </a:lnTo>
                  <a:lnTo>
                    <a:pt x="810" y="494"/>
                  </a:lnTo>
                  <a:lnTo>
                    <a:pt x="820" y="501"/>
                  </a:lnTo>
                  <a:lnTo>
                    <a:pt x="831" y="510"/>
                  </a:lnTo>
                  <a:lnTo>
                    <a:pt x="842" y="517"/>
                  </a:lnTo>
                  <a:lnTo>
                    <a:pt x="872" y="509"/>
                  </a:lnTo>
                  <a:lnTo>
                    <a:pt x="888" y="504"/>
                  </a:lnTo>
                  <a:lnTo>
                    <a:pt x="905" y="501"/>
                  </a:lnTo>
                  <a:lnTo>
                    <a:pt x="915" y="497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7" y="337"/>
                  </a:lnTo>
                  <a:lnTo>
                    <a:pt x="1208" y="334"/>
                  </a:lnTo>
                  <a:lnTo>
                    <a:pt x="1122" y="383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6" y="625"/>
                  </a:lnTo>
                  <a:lnTo>
                    <a:pt x="972" y="646"/>
                  </a:lnTo>
                  <a:lnTo>
                    <a:pt x="946" y="663"/>
                  </a:lnTo>
                  <a:lnTo>
                    <a:pt x="912" y="677"/>
                  </a:lnTo>
                  <a:lnTo>
                    <a:pt x="891" y="682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95960" y="441648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0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2" y="134"/>
                  </a:lnTo>
                  <a:lnTo>
                    <a:pt x="658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90" y="193"/>
                  </a:lnTo>
                  <a:lnTo>
                    <a:pt x="190" y="179"/>
                  </a:lnTo>
                  <a:lnTo>
                    <a:pt x="188" y="173"/>
                  </a:lnTo>
                  <a:lnTo>
                    <a:pt x="185" y="169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6"/>
                  </a:lnTo>
                  <a:lnTo>
                    <a:pt x="159" y="180"/>
                  </a:lnTo>
                  <a:lnTo>
                    <a:pt x="160" y="187"/>
                  </a:lnTo>
                  <a:lnTo>
                    <a:pt x="160" y="193"/>
                  </a:lnTo>
                  <a:lnTo>
                    <a:pt x="157" y="197"/>
                  </a:lnTo>
                  <a:lnTo>
                    <a:pt x="151" y="200"/>
                  </a:lnTo>
                  <a:lnTo>
                    <a:pt x="183" y="200"/>
                  </a:lnTo>
                  <a:lnTo>
                    <a:pt x="186" y="200"/>
                  </a:lnTo>
                  <a:lnTo>
                    <a:pt x="188" y="197"/>
                  </a:lnTo>
                  <a:lnTo>
                    <a:pt x="190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7"/>
                  </a:lnTo>
                  <a:lnTo>
                    <a:pt x="49" y="77"/>
                  </a:lnTo>
                  <a:lnTo>
                    <a:pt x="49" y="61"/>
                  </a:lnTo>
                  <a:lnTo>
                    <a:pt x="65" y="61"/>
                  </a:lnTo>
                  <a:lnTo>
                    <a:pt x="75" y="27"/>
                  </a:lnTo>
                  <a:lnTo>
                    <a:pt x="80" y="27"/>
                  </a:lnTo>
                  <a:lnTo>
                    <a:pt x="83" y="14"/>
                  </a:lnTo>
                  <a:lnTo>
                    <a:pt x="91" y="7"/>
                  </a:lnTo>
                  <a:lnTo>
                    <a:pt x="102" y="6"/>
                  </a:lnTo>
                  <a:lnTo>
                    <a:pt x="274" y="20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93" y="37"/>
                  </a:lnTo>
                  <a:lnTo>
                    <a:pt x="293" y="46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8" y="57"/>
                  </a:lnTo>
                  <a:lnTo>
                    <a:pt x="280" y="51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4" y="35"/>
                  </a:lnTo>
                  <a:lnTo>
                    <a:pt x="131" y="43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59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7"/>
                  </a:lnTo>
                  <a:lnTo>
                    <a:pt x="288" y="57"/>
                  </a:lnTo>
                  <a:lnTo>
                    <a:pt x="674" y="57"/>
                  </a:lnTo>
                  <a:lnTo>
                    <a:pt x="683" y="59"/>
                  </a:lnTo>
                  <a:lnTo>
                    <a:pt x="686" y="61"/>
                  </a:lnTo>
                  <a:lnTo>
                    <a:pt x="728" y="61"/>
                  </a:lnTo>
                  <a:lnTo>
                    <a:pt x="726" y="43"/>
                  </a:lnTo>
                  <a:lnTo>
                    <a:pt x="720" y="43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5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4" y="57"/>
                  </a:lnTo>
                  <a:lnTo>
                    <a:pt x="713" y="4"/>
                  </a:lnTo>
                  <a:lnTo>
                    <a:pt x="720" y="0"/>
                  </a:lnTo>
                  <a:lnTo>
                    <a:pt x="728" y="4"/>
                  </a:lnTo>
                  <a:lnTo>
                    <a:pt x="733" y="9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8"/>
                  </a:lnTo>
                  <a:lnTo>
                    <a:pt x="931" y="98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1"/>
                  </a:lnTo>
                  <a:lnTo>
                    <a:pt x="720" y="101"/>
                  </a:lnTo>
                  <a:lnTo>
                    <a:pt x="720" y="98"/>
                  </a:lnTo>
                  <a:lnTo>
                    <a:pt x="689" y="98"/>
                  </a:lnTo>
                  <a:lnTo>
                    <a:pt x="689" y="114"/>
                  </a:lnTo>
                  <a:lnTo>
                    <a:pt x="678" y="114"/>
                  </a:lnTo>
                  <a:lnTo>
                    <a:pt x="668" y="13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395960" y="441648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0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2" y="134"/>
                  </a:lnTo>
                  <a:lnTo>
                    <a:pt x="658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90" y="193"/>
                  </a:lnTo>
                  <a:lnTo>
                    <a:pt x="190" y="179"/>
                  </a:lnTo>
                  <a:lnTo>
                    <a:pt x="188" y="173"/>
                  </a:lnTo>
                  <a:lnTo>
                    <a:pt x="185" y="169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6"/>
                  </a:lnTo>
                  <a:lnTo>
                    <a:pt x="159" y="180"/>
                  </a:lnTo>
                  <a:lnTo>
                    <a:pt x="160" y="187"/>
                  </a:lnTo>
                  <a:lnTo>
                    <a:pt x="160" y="193"/>
                  </a:lnTo>
                  <a:lnTo>
                    <a:pt x="157" y="197"/>
                  </a:lnTo>
                  <a:lnTo>
                    <a:pt x="151" y="200"/>
                  </a:lnTo>
                  <a:lnTo>
                    <a:pt x="183" y="200"/>
                  </a:lnTo>
                  <a:lnTo>
                    <a:pt x="186" y="200"/>
                  </a:lnTo>
                  <a:lnTo>
                    <a:pt x="188" y="197"/>
                  </a:lnTo>
                  <a:lnTo>
                    <a:pt x="190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7"/>
                  </a:lnTo>
                  <a:lnTo>
                    <a:pt x="49" y="77"/>
                  </a:lnTo>
                  <a:lnTo>
                    <a:pt x="49" y="61"/>
                  </a:lnTo>
                  <a:lnTo>
                    <a:pt x="65" y="61"/>
                  </a:lnTo>
                  <a:lnTo>
                    <a:pt x="75" y="27"/>
                  </a:lnTo>
                  <a:lnTo>
                    <a:pt x="80" y="27"/>
                  </a:lnTo>
                  <a:lnTo>
                    <a:pt x="83" y="14"/>
                  </a:lnTo>
                  <a:lnTo>
                    <a:pt x="91" y="7"/>
                  </a:lnTo>
                  <a:lnTo>
                    <a:pt x="102" y="6"/>
                  </a:lnTo>
                  <a:lnTo>
                    <a:pt x="274" y="20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93" y="37"/>
                  </a:lnTo>
                  <a:lnTo>
                    <a:pt x="293" y="46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8" y="57"/>
                  </a:lnTo>
                  <a:lnTo>
                    <a:pt x="280" y="51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4" y="35"/>
                  </a:lnTo>
                  <a:lnTo>
                    <a:pt x="131" y="43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59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7"/>
                  </a:lnTo>
                  <a:lnTo>
                    <a:pt x="288" y="57"/>
                  </a:lnTo>
                  <a:lnTo>
                    <a:pt x="674" y="57"/>
                  </a:lnTo>
                  <a:lnTo>
                    <a:pt x="683" y="59"/>
                  </a:lnTo>
                  <a:lnTo>
                    <a:pt x="686" y="61"/>
                  </a:lnTo>
                  <a:lnTo>
                    <a:pt x="728" y="61"/>
                  </a:lnTo>
                  <a:lnTo>
                    <a:pt x="726" y="43"/>
                  </a:lnTo>
                  <a:lnTo>
                    <a:pt x="720" y="43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5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4" y="57"/>
                  </a:lnTo>
                  <a:lnTo>
                    <a:pt x="713" y="4"/>
                  </a:lnTo>
                  <a:lnTo>
                    <a:pt x="720" y="0"/>
                  </a:lnTo>
                  <a:lnTo>
                    <a:pt x="728" y="4"/>
                  </a:lnTo>
                  <a:lnTo>
                    <a:pt x="733" y="9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8"/>
                  </a:lnTo>
                  <a:lnTo>
                    <a:pt x="931" y="98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1"/>
                  </a:lnTo>
                  <a:lnTo>
                    <a:pt x="720" y="101"/>
                  </a:lnTo>
                  <a:lnTo>
                    <a:pt x="720" y="98"/>
                  </a:lnTo>
                  <a:lnTo>
                    <a:pt x="689" y="98"/>
                  </a:lnTo>
                  <a:lnTo>
                    <a:pt x="689" y="114"/>
                  </a:lnTo>
                  <a:lnTo>
                    <a:pt x="678" y="114"/>
                  </a:lnTo>
                  <a:lnTo>
                    <a:pt x="668" y="130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02040" y="4351320"/>
              <a:ext cx="360" cy="360"/>
            </a:xfrm>
            <a:prstGeom prst="rect">
              <a:avLst/>
            </a:prstGeom>
            <a:noFill/>
            <a:ln w="9360">
              <a:solidFill>
                <a:srgbClr val="838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27600" y="3879720"/>
              <a:ext cx="382320" cy="447840"/>
            </a:xfrm>
            <a:custGeom>
              <a:avLst/>
              <a:gdLst/>
              <a:ahLst/>
              <a:rect l="l" t="t" r="r" b="b"/>
              <a:pathLst>
                <a:path w="1208" h="1408">
                  <a:moveTo>
                    <a:pt x="639" y="690"/>
                  </a:moveTo>
                  <a:lnTo>
                    <a:pt x="661" y="674"/>
                  </a:lnTo>
                  <a:lnTo>
                    <a:pt x="681" y="661"/>
                  </a:lnTo>
                  <a:lnTo>
                    <a:pt x="701" y="651"/>
                  </a:lnTo>
                  <a:lnTo>
                    <a:pt x="722" y="641"/>
                  </a:lnTo>
                  <a:lnTo>
                    <a:pt x="683" y="616"/>
                  </a:lnTo>
                  <a:lnTo>
                    <a:pt x="664" y="603"/>
                  </a:lnTo>
                  <a:lnTo>
                    <a:pt x="645" y="588"/>
                  </a:lnTo>
                  <a:lnTo>
                    <a:pt x="646" y="614"/>
                  </a:lnTo>
                  <a:lnTo>
                    <a:pt x="643" y="638"/>
                  </a:lnTo>
                  <a:lnTo>
                    <a:pt x="639" y="690"/>
                  </a:lnTo>
                  <a:close/>
                  <a:moveTo>
                    <a:pt x="870" y="684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3" y="1071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3" y="1181"/>
                  </a:lnTo>
                  <a:lnTo>
                    <a:pt x="794" y="1191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8"/>
                  </a:lnTo>
                  <a:lnTo>
                    <a:pt x="823" y="1223"/>
                  </a:lnTo>
                  <a:lnTo>
                    <a:pt x="828" y="1233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7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4"/>
                  </a:lnTo>
                  <a:lnTo>
                    <a:pt x="865" y="1317"/>
                  </a:lnTo>
                  <a:lnTo>
                    <a:pt x="829" y="1315"/>
                  </a:lnTo>
                  <a:lnTo>
                    <a:pt x="799" y="1309"/>
                  </a:lnTo>
                  <a:lnTo>
                    <a:pt x="764" y="1299"/>
                  </a:lnTo>
                  <a:lnTo>
                    <a:pt x="739" y="1286"/>
                  </a:lnTo>
                  <a:lnTo>
                    <a:pt x="718" y="1274"/>
                  </a:lnTo>
                  <a:lnTo>
                    <a:pt x="698" y="1272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3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4"/>
                  </a:lnTo>
                  <a:lnTo>
                    <a:pt x="671" y="1029"/>
                  </a:lnTo>
                  <a:lnTo>
                    <a:pt x="666" y="1012"/>
                  </a:lnTo>
                  <a:lnTo>
                    <a:pt x="671" y="989"/>
                  </a:lnTo>
                  <a:lnTo>
                    <a:pt x="676" y="955"/>
                  </a:lnTo>
                  <a:lnTo>
                    <a:pt x="685" y="923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2" y="939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70"/>
                  </a:lnTo>
                  <a:lnTo>
                    <a:pt x="456" y="1078"/>
                  </a:lnTo>
                  <a:lnTo>
                    <a:pt x="430" y="1089"/>
                  </a:lnTo>
                  <a:lnTo>
                    <a:pt x="406" y="1097"/>
                  </a:lnTo>
                  <a:lnTo>
                    <a:pt x="383" y="1183"/>
                  </a:lnTo>
                  <a:lnTo>
                    <a:pt x="382" y="1207"/>
                  </a:lnTo>
                  <a:lnTo>
                    <a:pt x="378" y="1233"/>
                  </a:lnTo>
                  <a:lnTo>
                    <a:pt x="375" y="1252"/>
                  </a:lnTo>
                  <a:lnTo>
                    <a:pt x="369" y="1274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6" y="1408"/>
                  </a:lnTo>
                  <a:lnTo>
                    <a:pt x="218" y="1408"/>
                  </a:lnTo>
                  <a:lnTo>
                    <a:pt x="191" y="1401"/>
                  </a:lnTo>
                  <a:lnTo>
                    <a:pt x="171" y="1394"/>
                  </a:lnTo>
                  <a:lnTo>
                    <a:pt x="155" y="1382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6" y="1343"/>
                  </a:lnTo>
                  <a:lnTo>
                    <a:pt x="107" y="1315"/>
                  </a:lnTo>
                  <a:lnTo>
                    <a:pt x="100" y="1291"/>
                  </a:lnTo>
                  <a:lnTo>
                    <a:pt x="94" y="1262"/>
                  </a:lnTo>
                  <a:lnTo>
                    <a:pt x="94" y="1235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10"/>
                  </a:lnTo>
                  <a:lnTo>
                    <a:pt x="118" y="1089"/>
                  </a:lnTo>
                  <a:lnTo>
                    <a:pt x="114" y="1071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4" y="981"/>
                  </a:lnTo>
                  <a:lnTo>
                    <a:pt x="102" y="982"/>
                  </a:lnTo>
                  <a:lnTo>
                    <a:pt x="90" y="979"/>
                  </a:lnTo>
                  <a:lnTo>
                    <a:pt x="83" y="976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3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30"/>
                  </a:lnTo>
                  <a:lnTo>
                    <a:pt x="9" y="800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5" y="748"/>
                  </a:lnTo>
                  <a:lnTo>
                    <a:pt x="19" y="735"/>
                  </a:lnTo>
                  <a:lnTo>
                    <a:pt x="21" y="727"/>
                  </a:lnTo>
                  <a:lnTo>
                    <a:pt x="24" y="721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4" y="671"/>
                  </a:lnTo>
                  <a:lnTo>
                    <a:pt x="46" y="667"/>
                  </a:lnTo>
                  <a:lnTo>
                    <a:pt x="52" y="667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1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0" y="706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5"/>
                  </a:lnTo>
                  <a:lnTo>
                    <a:pt x="124" y="672"/>
                  </a:lnTo>
                  <a:lnTo>
                    <a:pt x="119" y="651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3"/>
                  </a:lnTo>
                  <a:lnTo>
                    <a:pt x="165" y="401"/>
                  </a:lnTo>
                  <a:lnTo>
                    <a:pt x="168" y="381"/>
                  </a:lnTo>
                  <a:lnTo>
                    <a:pt x="174" y="357"/>
                  </a:lnTo>
                  <a:lnTo>
                    <a:pt x="191" y="328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5"/>
                  </a:lnTo>
                  <a:lnTo>
                    <a:pt x="364" y="150"/>
                  </a:lnTo>
                  <a:lnTo>
                    <a:pt x="364" y="126"/>
                  </a:lnTo>
                  <a:lnTo>
                    <a:pt x="369" y="100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1"/>
                  </a:lnTo>
                  <a:lnTo>
                    <a:pt x="467" y="11"/>
                  </a:lnTo>
                  <a:lnTo>
                    <a:pt x="491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9"/>
                  </a:lnTo>
                  <a:lnTo>
                    <a:pt x="593" y="17"/>
                  </a:lnTo>
                  <a:lnTo>
                    <a:pt x="608" y="32"/>
                  </a:lnTo>
                  <a:lnTo>
                    <a:pt x="621" y="50"/>
                  </a:lnTo>
                  <a:lnTo>
                    <a:pt x="639" y="87"/>
                  </a:lnTo>
                  <a:lnTo>
                    <a:pt x="659" y="131"/>
                  </a:lnTo>
                  <a:lnTo>
                    <a:pt x="668" y="142"/>
                  </a:lnTo>
                  <a:lnTo>
                    <a:pt x="672" y="150"/>
                  </a:lnTo>
                  <a:lnTo>
                    <a:pt x="671" y="158"/>
                  </a:lnTo>
                  <a:lnTo>
                    <a:pt x="661" y="166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8"/>
                  </a:lnTo>
                  <a:lnTo>
                    <a:pt x="651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2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6"/>
                  </a:lnTo>
                  <a:lnTo>
                    <a:pt x="787" y="438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2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9"/>
                  </a:lnTo>
                  <a:lnTo>
                    <a:pt x="871" y="509"/>
                  </a:lnTo>
                  <a:lnTo>
                    <a:pt x="889" y="506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0" y="403"/>
                  </a:lnTo>
                  <a:lnTo>
                    <a:pt x="1028" y="404"/>
                  </a:lnTo>
                  <a:lnTo>
                    <a:pt x="1061" y="368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4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7" y="627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9"/>
                  </a:lnTo>
                  <a:lnTo>
                    <a:pt x="891" y="682"/>
                  </a:lnTo>
                  <a:lnTo>
                    <a:pt x="870" y="684"/>
                  </a:lnTo>
                  <a:close/>
                  <a:moveTo>
                    <a:pt x="127" y="715"/>
                  </a:moveTo>
                  <a:lnTo>
                    <a:pt x="118" y="724"/>
                  </a:lnTo>
                  <a:lnTo>
                    <a:pt x="121" y="729"/>
                  </a:lnTo>
                  <a:lnTo>
                    <a:pt x="124" y="736"/>
                  </a:lnTo>
                  <a:lnTo>
                    <a:pt x="127" y="729"/>
                  </a:lnTo>
                  <a:lnTo>
                    <a:pt x="129" y="722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27600" y="3879720"/>
              <a:ext cx="382320" cy="447840"/>
            </a:xfrm>
            <a:custGeom>
              <a:avLst/>
              <a:gdLst/>
              <a:ahLst/>
              <a:rect l="l" t="t" r="r" b="b"/>
              <a:pathLst>
                <a:path w="1208" h="1408">
                  <a:moveTo>
                    <a:pt x="870" y="684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3" y="1071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3" y="1181"/>
                  </a:lnTo>
                  <a:lnTo>
                    <a:pt x="794" y="1191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8"/>
                  </a:lnTo>
                  <a:lnTo>
                    <a:pt x="823" y="1223"/>
                  </a:lnTo>
                  <a:lnTo>
                    <a:pt x="828" y="1233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7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4"/>
                  </a:lnTo>
                  <a:lnTo>
                    <a:pt x="865" y="1317"/>
                  </a:lnTo>
                  <a:lnTo>
                    <a:pt x="829" y="1315"/>
                  </a:lnTo>
                  <a:lnTo>
                    <a:pt x="799" y="1309"/>
                  </a:lnTo>
                  <a:lnTo>
                    <a:pt x="764" y="1299"/>
                  </a:lnTo>
                  <a:lnTo>
                    <a:pt x="739" y="1286"/>
                  </a:lnTo>
                  <a:lnTo>
                    <a:pt x="718" y="1274"/>
                  </a:lnTo>
                  <a:lnTo>
                    <a:pt x="698" y="1272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3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4"/>
                  </a:lnTo>
                  <a:lnTo>
                    <a:pt x="671" y="1029"/>
                  </a:lnTo>
                  <a:lnTo>
                    <a:pt x="666" y="1012"/>
                  </a:lnTo>
                  <a:lnTo>
                    <a:pt x="671" y="989"/>
                  </a:lnTo>
                  <a:lnTo>
                    <a:pt x="676" y="955"/>
                  </a:lnTo>
                  <a:lnTo>
                    <a:pt x="685" y="923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2" y="939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70"/>
                  </a:lnTo>
                  <a:lnTo>
                    <a:pt x="456" y="1078"/>
                  </a:lnTo>
                  <a:lnTo>
                    <a:pt x="430" y="1089"/>
                  </a:lnTo>
                  <a:lnTo>
                    <a:pt x="406" y="1097"/>
                  </a:lnTo>
                  <a:lnTo>
                    <a:pt x="383" y="1183"/>
                  </a:lnTo>
                  <a:lnTo>
                    <a:pt x="382" y="1207"/>
                  </a:lnTo>
                  <a:lnTo>
                    <a:pt x="378" y="1233"/>
                  </a:lnTo>
                  <a:lnTo>
                    <a:pt x="375" y="1252"/>
                  </a:lnTo>
                  <a:lnTo>
                    <a:pt x="369" y="1274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6" y="1408"/>
                  </a:lnTo>
                  <a:lnTo>
                    <a:pt x="218" y="1408"/>
                  </a:lnTo>
                  <a:lnTo>
                    <a:pt x="191" y="1401"/>
                  </a:lnTo>
                  <a:lnTo>
                    <a:pt x="171" y="1394"/>
                  </a:lnTo>
                  <a:lnTo>
                    <a:pt x="155" y="1382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6" y="1343"/>
                  </a:lnTo>
                  <a:lnTo>
                    <a:pt x="107" y="1315"/>
                  </a:lnTo>
                  <a:lnTo>
                    <a:pt x="100" y="1291"/>
                  </a:lnTo>
                  <a:lnTo>
                    <a:pt x="94" y="1262"/>
                  </a:lnTo>
                  <a:lnTo>
                    <a:pt x="94" y="1235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10"/>
                  </a:lnTo>
                  <a:lnTo>
                    <a:pt x="118" y="1089"/>
                  </a:lnTo>
                  <a:lnTo>
                    <a:pt x="114" y="1071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4" y="981"/>
                  </a:lnTo>
                  <a:lnTo>
                    <a:pt x="102" y="982"/>
                  </a:lnTo>
                  <a:lnTo>
                    <a:pt x="90" y="979"/>
                  </a:lnTo>
                  <a:lnTo>
                    <a:pt x="83" y="976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3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30"/>
                  </a:lnTo>
                  <a:lnTo>
                    <a:pt x="9" y="800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5" y="748"/>
                  </a:lnTo>
                  <a:lnTo>
                    <a:pt x="19" y="735"/>
                  </a:lnTo>
                  <a:lnTo>
                    <a:pt x="21" y="727"/>
                  </a:lnTo>
                  <a:lnTo>
                    <a:pt x="24" y="721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4" y="671"/>
                  </a:lnTo>
                  <a:lnTo>
                    <a:pt x="46" y="667"/>
                  </a:lnTo>
                  <a:lnTo>
                    <a:pt x="52" y="667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1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0" y="706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5"/>
                  </a:lnTo>
                  <a:lnTo>
                    <a:pt x="124" y="672"/>
                  </a:lnTo>
                  <a:lnTo>
                    <a:pt x="119" y="651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3"/>
                  </a:lnTo>
                  <a:lnTo>
                    <a:pt x="165" y="401"/>
                  </a:lnTo>
                  <a:lnTo>
                    <a:pt x="168" y="381"/>
                  </a:lnTo>
                  <a:lnTo>
                    <a:pt x="174" y="357"/>
                  </a:lnTo>
                  <a:lnTo>
                    <a:pt x="191" y="328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5"/>
                  </a:lnTo>
                  <a:lnTo>
                    <a:pt x="364" y="150"/>
                  </a:lnTo>
                  <a:lnTo>
                    <a:pt x="364" y="126"/>
                  </a:lnTo>
                  <a:lnTo>
                    <a:pt x="369" y="100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1"/>
                  </a:lnTo>
                  <a:lnTo>
                    <a:pt x="467" y="11"/>
                  </a:lnTo>
                  <a:lnTo>
                    <a:pt x="491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9"/>
                  </a:lnTo>
                  <a:lnTo>
                    <a:pt x="593" y="17"/>
                  </a:lnTo>
                  <a:lnTo>
                    <a:pt x="608" y="32"/>
                  </a:lnTo>
                  <a:lnTo>
                    <a:pt x="621" y="50"/>
                  </a:lnTo>
                  <a:lnTo>
                    <a:pt x="639" y="87"/>
                  </a:lnTo>
                  <a:lnTo>
                    <a:pt x="659" y="131"/>
                  </a:lnTo>
                  <a:lnTo>
                    <a:pt x="668" y="142"/>
                  </a:lnTo>
                  <a:lnTo>
                    <a:pt x="672" y="150"/>
                  </a:lnTo>
                  <a:lnTo>
                    <a:pt x="671" y="158"/>
                  </a:lnTo>
                  <a:lnTo>
                    <a:pt x="661" y="166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8"/>
                  </a:lnTo>
                  <a:lnTo>
                    <a:pt x="651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2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6"/>
                  </a:lnTo>
                  <a:lnTo>
                    <a:pt x="787" y="438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2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9"/>
                  </a:lnTo>
                  <a:lnTo>
                    <a:pt x="871" y="509"/>
                  </a:lnTo>
                  <a:lnTo>
                    <a:pt x="889" y="506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0" y="403"/>
                  </a:lnTo>
                  <a:lnTo>
                    <a:pt x="1028" y="404"/>
                  </a:lnTo>
                  <a:lnTo>
                    <a:pt x="1061" y="368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4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7" y="627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9"/>
                  </a:lnTo>
                  <a:lnTo>
                    <a:pt x="891" y="682"/>
                  </a:lnTo>
                  <a:lnTo>
                    <a:pt x="870" y="684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38560" y="3941640"/>
              <a:ext cx="303120" cy="85680"/>
            </a:xfrm>
            <a:custGeom>
              <a:avLst/>
              <a:gdLst/>
              <a:ahLst/>
              <a:rect l="l" t="t" r="r" b="b"/>
              <a:pathLst>
                <a:path w="952" h="270">
                  <a:moveTo>
                    <a:pt x="669" y="130"/>
                  </a:moveTo>
                  <a:lnTo>
                    <a:pt x="655" y="125"/>
                  </a:lnTo>
                  <a:lnTo>
                    <a:pt x="558" y="128"/>
                  </a:lnTo>
                  <a:lnTo>
                    <a:pt x="551" y="134"/>
                  </a:lnTo>
                  <a:lnTo>
                    <a:pt x="658" y="138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1" y="144"/>
                  </a:lnTo>
                  <a:lnTo>
                    <a:pt x="379" y="144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8" y="172"/>
                  </a:lnTo>
                  <a:lnTo>
                    <a:pt x="184" y="169"/>
                  </a:lnTo>
                  <a:lnTo>
                    <a:pt x="181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9" y="180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7" y="196"/>
                  </a:lnTo>
                  <a:lnTo>
                    <a:pt x="152" y="201"/>
                  </a:lnTo>
                  <a:lnTo>
                    <a:pt x="183" y="201"/>
                  </a:lnTo>
                  <a:lnTo>
                    <a:pt x="186" y="201"/>
                  </a:lnTo>
                  <a:lnTo>
                    <a:pt x="188" y="196"/>
                  </a:lnTo>
                  <a:lnTo>
                    <a:pt x="189" y="193"/>
                  </a:lnTo>
                  <a:lnTo>
                    <a:pt x="195" y="209"/>
                  </a:lnTo>
                  <a:lnTo>
                    <a:pt x="126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4" y="15"/>
                  </a:lnTo>
                  <a:lnTo>
                    <a:pt x="91" y="7"/>
                  </a:lnTo>
                  <a:lnTo>
                    <a:pt x="102" y="5"/>
                  </a:lnTo>
                  <a:lnTo>
                    <a:pt x="275" y="20"/>
                  </a:lnTo>
                  <a:lnTo>
                    <a:pt x="281" y="23"/>
                  </a:lnTo>
                  <a:lnTo>
                    <a:pt x="289" y="29"/>
                  </a:lnTo>
                  <a:lnTo>
                    <a:pt x="293" y="36"/>
                  </a:lnTo>
                  <a:lnTo>
                    <a:pt x="293" y="46"/>
                  </a:lnTo>
                  <a:lnTo>
                    <a:pt x="291" y="54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80" y="52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1" y="28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31" y="59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4" y="59"/>
                  </a:lnTo>
                  <a:lnTo>
                    <a:pt x="686" y="60"/>
                  </a:lnTo>
                  <a:lnTo>
                    <a:pt x="728" y="60"/>
                  </a:lnTo>
                  <a:lnTo>
                    <a:pt x="726" y="42"/>
                  </a:lnTo>
                  <a:lnTo>
                    <a:pt x="721" y="42"/>
                  </a:lnTo>
                  <a:lnTo>
                    <a:pt x="721" y="22"/>
                  </a:lnTo>
                  <a:lnTo>
                    <a:pt x="708" y="22"/>
                  </a:lnTo>
                  <a:lnTo>
                    <a:pt x="682" y="55"/>
                  </a:lnTo>
                  <a:lnTo>
                    <a:pt x="682" y="59"/>
                  </a:lnTo>
                  <a:lnTo>
                    <a:pt x="684" y="59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21" y="0"/>
                  </a:lnTo>
                  <a:lnTo>
                    <a:pt x="728" y="3"/>
                  </a:lnTo>
                  <a:lnTo>
                    <a:pt x="733" y="9"/>
                  </a:lnTo>
                  <a:lnTo>
                    <a:pt x="737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6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2" y="66"/>
                  </a:lnTo>
                  <a:lnTo>
                    <a:pt x="952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7" y="91"/>
                  </a:lnTo>
                  <a:lnTo>
                    <a:pt x="737" y="101"/>
                  </a:lnTo>
                  <a:lnTo>
                    <a:pt x="721" y="101"/>
                  </a:lnTo>
                  <a:lnTo>
                    <a:pt x="721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8" y="114"/>
                  </a:lnTo>
                  <a:lnTo>
                    <a:pt x="669" y="13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138560" y="3941640"/>
              <a:ext cx="303120" cy="85680"/>
            </a:xfrm>
            <a:custGeom>
              <a:avLst/>
              <a:gdLst/>
              <a:ahLst/>
              <a:rect l="l" t="t" r="r" b="b"/>
              <a:pathLst>
                <a:path w="952" h="270">
                  <a:moveTo>
                    <a:pt x="669" y="130"/>
                  </a:moveTo>
                  <a:lnTo>
                    <a:pt x="655" y="125"/>
                  </a:lnTo>
                  <a:lnTo>
                    <a:pt x="558" y="128"/>
                  </a:lnTo>
                  <a:lnTo>
                    <a:pt x="551" y="134"/>
                  </a:lnTo>
                  <a:lnTo>
                    <a:pt x="658" y="138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1" y="144"/>
                  </a:lnTo>
                  <a:lnTo>
                    <a:pt x="379" y="144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8" y="172"/>
                  </a:lnTo>
                  <a:lnTo>
                    <a:pt x="184" y="169"/>
                  </a:lnTo>
                  <a:lnTo>
                    <a:pt x="181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9" y="180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7" y="196"/>
                  </a:lnTo>
                  <a:lnTo>
                    <a:pt x="152" y="201"/>
                  </a:lnTo>
                  <a:lnTo>
                    <a:pt x="183" y="201"/>
                  </a:lnTo>
                  <a:lnTo>
                    <a:pt x="186" y="201"/>
                  </a:lnTo>
                  <a:lnTo>
                    <a:pt x="188" y="196"/>
                  </a:lnTo>
                  <a:lnTo>
                    <a:pt x="189" y="193"/>
                  </a:lnTo>
                  <a:lnTo>
                    <a:pt x="195" y="209"/>
                  </a:lnTo>
                  <a:lnTo>
                    <a:pt x="126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4" y="15"/>
                  </a:lnTo>
                  <a:lnTo>
                    <a:pt x="91" y="7"/>
                  </a:lnTo>
                  <a:lnTo>
                    <a:pt x="102" y="5"/>
                  </a:lnTo>
                  <a:lnTo>
                    <a:pt x="275" y="20"/>
                  </a:lnTo>
                  <a:lnTo>
                    <a:pt x="281" y="23"/>
                  </a:lnTo>
                  <a:lnTo>
                    <a:pt x="289" y="29"/>
                  </a:lnTo>
                  <a:lnTo>
                    <a:pt x="293" y="36"/>
                  </a:lnTo>
                  <a:lnTo>
                    <a:pt x="293" y="46"/>
                  </a:lnTo>
                  <a:lnTo>
                    <a:pt x="291" y="54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80" y="52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1" y="28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31" y="59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4" y="59"/>
                  </a:lnTo>
                  <a:lnTo>
                    <a:pt x="686" y="60"/>
                  </a:lnTo>
                  <a:lnTo>
                    <a:pt x="728" y="60"/>
                  </a:lnTo>
                  <a:lnTo>
                    <a:pt x="726" y="42"/>
                  </a:lnTo>
                  <a:lnTo>
                    <a:pt x="721" y="42"/>
                  </a:lnTo>
                  <a:lnTo>
                    <a:pt x="721" y="22"/>
                  </a:lnTo>
                  <a:lnTo>
                    <a:pt x="708" y="22"/>
                  </a:lnTo>
                  <a:lnTo>
                    <a:pt x="682" y="55"/>
                  </a:lnTo>
                  <a:lnTo>
                    <a:pt x="682" y="59"/>
                  </a:lnTo>
                  <a:lnTo>
                    <a:pt x="684" y="59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21" y="0"/>
                  </a:lnTo>
                  <a:lnTo>
                    <a:pt x="728" y="3"/>
                  </a:lnTo>
                  <a:lnTo>
                    <a:pt x="733" y="9"/>
                  </a:lnTo>
                  <a:lnTo>
                    <a:pt x="737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6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2" y="66"/>
                  </a:lnTo>
                  <a:lnTo>
                    <a:pt x="952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7" y="91"/>
                  </a:lnTo>
                  <a:lnTo>
                    <a:pt x="737" y="101"/>
                  </a:lnTo>
                  <a:lnTo>
                    <a:pt x="721" y="101"/>
                  </a:lnTo>
                  <a:lnTo>
                    <a:pt x="721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8" y="114"/>
                  </a:lnTo>
                  <a:lnTo>
                    <a:pt x="669" y="130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29160" y="4221000"/>
              <a:ext cx="360" cy="360"/>
            </a:xfrm>
            <a:prstGeom prst="rect">
              <a:avLst/>
            </a:prstGeom>
            <a:noFill/>
            <a:ln w="9360">
              <a:solidFill>
                <a:srgbClr val="838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52920" y="3751200"/>
              <a:ext cx="384120" cy="44604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639" y="690"/>
                  </a:moveTo>
                  <a:lnTo>
                    <a:pt x="662" y="673"/>
                  </a:lnTo>
                  <a:lnTo>
                    <a:pt x="681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5" y="602"/>
                  </a:lnTo>
                  <a:lnTo>
                    <a:pt x="644" y="588"/>
                  </a:lnTo>
                  <a:lnTo>
                    <a:pt x="646" y="614"/>
                  </a:lnTo>
                  <a:lnTo>
                    <a:pt x="643" y="637"/>
                  </a:lnTo>
                  <a:lnTo>
                    <a:pt x="639" y="690"/>
                  </a:lnTo>
                  <a:close/>
                  <a:moveTo>
                    <a:pt x="871" y="683"/>
                  </a:moveTo>
                  <a:lnTo>
                    <a:pt x="874" y="738"/>
                  </a:lnTo>
                  <a:lnTo>
                    <a:pt x="874" y="803"/>
                  </a:lnTo>
                  <a:lnTo>
                    <a:pt x="867" y="877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2" y="1070"/>
                  </a:lnTo>
                  <a:lnTo>
                    <a:pt x="809" y="1079"/>
                  </a:lnTo>
                  <a:lnTo>
                    <a:pt x="795" y="1090"/>
                  </a:lnTo>
                  <a:lnTo>
                    <a:pt x="785" y="1142"/>
                  </a:lnTo>
                  <a:lnTo>
                    <a:pt x="785" y="1151"/>
                  </a:lnTo>
                  <a:lnTo>
                    <a:pt x="790" y="1160"/>
                  </a:lnTo>
                  <a:lnTo>
                    <a:pt x="790" y="1169"/>
                  </a:lnTo>
                  <a:lnTo>
                    <a:pt x="782" y="1181"/>
                  </a:lnTo>
                  <a:lnTo>
                    <a:pt x="793" y="1190"/>
                  </a:lnTo>
                  <a:lnTo>
                    <a:pt x="801" y="1199"/>
                  </a:lnTo>
                  <a:lnTo>
                    <a:pt x="806" y="1213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8" y="1231"/>
                  </a:lnTo>
                  <a:lnTo>
                    <a:pt x="834" y="1241"/>
                  </a:lnTo>
                  <a:lnTo>
                    <a:pt x="840" y="1251"/>
                  </a:lnTo>
                  <a:lnTo>
                    <a:pt x="871" y="1267"/>
                  </a:lnTo>
                  <a:lnTo>
                    <a:pt x="890" y="1276"/>
                  </a:lnTo>
                  <a:lnTo>
                    <a:pt x="899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2"/>
                  </a:lnTo>
                  <a:lnTo>
                    <a:pt x="864" y="1317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2"/>
                  </a:lnTo>
                  <a:lnTo>
                    <a:pt x="698" y="1270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1" y="1257"/>
                  </a:lnTo>
                  <a:lnTo>
                    <a:pt x="646" y="1239"/>
                  </a:lnTo>
                  <a:lnTo>
                    <a:pt x="649" y="1225"/>
                  </a:lnTo>
                  <a:lnTo>
                    <a:pt x="651" y="1210"/>
                  </a:lnTo>
                  <a:lnTo>
                    <a:pt x="654" y="1197"/>
                  </a:lnTo>
                  <a:lnTo>
                    <a:pt x="659" y="1185"/>
                  </a:lnTo>
                  <a:lnTo>
                    <a:pt x="665" y="1171"/>
                  </a:lnTo>
                  <a:lnTo>
                    <a:pt x="672" y="1160"/>
                  </a:lnTo>
                  <a:lnTo>
                    <a:pt x="672" y="1147"/>
                  </a:lnTo>
                  <a:lnTo>
                    <a:pt x="672" y="1134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2" y="958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5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2" y="1207"/>
                  </a:lnTo>
                  <a:lnTo>
                    <a:pt x="379" y="1231"/>
                  </a:lnTo>
                  <a:lnTo>
                    <a:pt x="375" y="1252"/>
                  </a:lnTo>
                  <a:lnTo>
                    <a:pt x="369" y="1272"/>
                  </a:lnTo>
                  <a:lnTo>
                    <a:pt x="362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4" y="1360"/>
                  </a:lnTo>
                  <a:lnTo>
                    <a:pt x="314" y="1375"/>
                  </a:lnTo>
                  <a:lnTo>
                    <a:pt x="300" y="1388"/>
                  </a:lnTo>
                  <a:lnTo>
                    <a:pt x="277" y="1399"/>
                  </a:lnTo>
                  <a:lnTo>
                    <a:pt x="246" y="1406"/>
                  </a:lnTo>
                  <a:lnTo>
                    <a:pt x="219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0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3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4" y="1158"/>
                  </a:lnTo>
                  <a:lnTo>
                    <a:pt x="111" y="1123"/>
                  </a:lnTo>
                  <a:lnTo>
                    <a:pt x="122" y="1109"/>
                  </a:lnTo>
                  <a:lnTo>
                    <a:pt x="117" y="1089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7" y="966"/>
                  </a:lnTo>
                  <a:lnTo>
                    <a:pt x="75" y="958"/>
                  </a:lnTo>
                  <a:lnTo>
                    <a:pt x="67" y="960"/>
                  </a:lnTo>
                  <a:lnTo>
                    <a:pt x="55" y="958"/>
                  </a:lnTo>
                  <a:lnTo>
                    <a:pt x="46" y="953"/>
                  </a:lnTo>
                  <a:lnTo>
                    <a:pt x="36" y="945"/>
                  </a:lnTo>
                  <a:lnTo>
                    <a:pt x="30" y="932"/>
                  </a:lnTo>
                  <a:lnTo>
                    <a:pt x="22" y="921"/>
                  </a:lnTo>
                  <a:lnTo>
                    <a:pt x="19" y="908"/>
                  </a:lnTo>
                  <a:lnTo>
                    <a:pt x="12" y="905"/>
                  </a:lnTo>
                  <a:lnTo>
                    <a:pt x="2" y="832"/>
                  </a:lnTo>
                  <a:lnTo>
                    <a:pt x="9" y="830"/>
                  </a:lnTo>
                  <a:lnTo>
                    <a:pt x="9" y="798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8" y="764"/>
                  </a:lnTo>
                  <a:lnTo>
                    <a:pt x="9" y="754"/>
                  </a:lnTo>
                  <a:lnTo>
                    <a:pt x="15" y="748"/>
                  </a:lnTo>
                  <a:lnTo>
                    <a:pt x="19" y="735"/>
                  </a:lnTo>
                  <a:lnTo>
                    <a:pt x="20" y="727"/>
                  </a:lnTo>
                  <a:lnTo>
                    <a:pt x="25" y="719"/>
                  </a:lnTo>
                  <a:lnTo>
                    <a:pt x="44" y="714"/>
                  </a:lnTo>
                  <a:lnTo>
                    <a:pt x="36" y="700"/>
                  </a:lnTo>
                  <a:lnTo>
                    <a:pt x="43" y="675"/>
                  </a:lnTo>
                  <a:lnTo>
                    <a:pt x="44" y="670"/>
                  </a:lnTo>
                  <a:lnTo>
                    <a:pt x="46" y="667"/>
                  </a:lnTo>
                  <a:lnTo>
                    <a:pt x="52" y="667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0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6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5" y="672"/>
                  </a:lnTo>
                  <a:lnTo>
                    <a:pt x="120" y="650"/>
                  </a:lnTo>
                  <a:lnTo>
                    <a:pt x="152" y="510"/>
                  </a:lnTo>
                  <a:lnTo>
                    <a:pt x="159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0"/>
                  </a:lnTo>
                  <a:lnTo>
                    <a:pt x="167" y="380"/>
                  </a:lnTo>
                  <a:lnTo>
                    <a:pt x="175" y="357"/>
                  </a:lnTo>
                  <a:lnTo>
                    <a:pt x="191" y="326"/>
                  </a:lnTo>
                  <a:lnTo>
                    <a:pt x="207" y="303"/>
                  </a:lnTo>
                  <a:lnTo>
                    <a:pt x="232" y="281"/>
                  </a:lnTo>
                  <a:lnTo>
                    <a:pt x="256" y="266"/>
                  </a:lnTo>
                  <a:lnTo>
                    <a:pt x="270" y="252"/>
                  </a:lnTo>
                  <a:lnTo>
                    <a:pt x="285" y="242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2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6" y="200"/>
                  </a:lnTo>
                  <a:lnTo>
                    <a:pt x="369" y="198"/>
                  </a:lnTo>
                  <a:lnTo>
                    <a:pt x="366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69" y="100"/>
                  </a:lnTo>
                  <a:lnTo>
                    <a:pt x="379" y="71"/>
                  </a:lnTo>
                  <a:lnTo>
                    <a:pt x="393" y="51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4" y="16"/>
                  </a:lnTo>
                  <a:lnTo>
                    <a:pt x="608" y="32"/>
                  </a:lnTo>
                  <a:lnTo>
                    <a:pt x="620" y="50"/>
                  </a:lnTo>
                  <a:lnTo>
                    <a:pt x="639" y="87"/>
                  </a:lnTo>
                  <a:lnTo>
                    <a:pt x="659" y="130"/>
                  </a:lnTo>
                  <a:lnTo>
                    <a:pt x="668" y="142"/>
                  </a:lnTo>
                  <a:lnTo>
                    <a:pt x="672" y="150"/>
                  </a:lnTo>
                  <a:lnTo>
                    <a:pt x="670" y="158"/>
                  </a:lnTo>
                  <a:lnTo>
                    <a:pt x="662" y="165"/>
                  </a:lnTo>
                  <a:lnTo>
                    <a:pt x="633" y="174"/>
                  </a:lnTo>
                  <a:lnTo>
                    <a:pt x="637" y="198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1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3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0" y="501"/>
                  </a:lnTo>
                  <a:lnTo>
                    <a:pt x="832" y="510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6" y="497"/>
                  </a:lnTo>
                  <a:lnTo>
                    <a:pt x="962" y="467"/>
                  </a:lnTo>
                  <a:lnTo>
                    <a:pt x="1021" y="402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7"/>
                  </a:lnTo>
                  <a:lnTo>
                    <a:pt x="1208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4" y="456"/>
                  </a:lnTo>
                  <a:lnTo>
                    <a:pt x="1017" y="567"/>
                  </a:lnTo>
                  <a:lnTo>
                    <a:pt x="997" y="627"/>
                  </a:lnTo>
                  <a:lnTo>
                    <a:pt x="971" y="646"/>
                  </a:lnTo>
                  <a:lnTo>
                    <a:pt x="945" y="663"/>
                  </a:lnTo>
                  <a:lnTo>
                    <a:pt x="913" y="677"/>
                  </a:lnTo>
                  <a:lnTo>
                    <a:pt x="890" y="682"/>
                  </a:lnTo>
                  <a:lnTo>
                    <a:pt x="871" y="683"/>
                  </a:lnTo>
                  <a:close/>
                  <a:moveTo>
                    <a:pt x="127" y="714"/>
                  </a:moveTo>
                  <a:lnTo>
                    <a:pt x="117" y="723"/>
                  </a:lnTo>
                  <a:lnTo>
                    <a:pt x="122" y="729"/>
                  </a:lnTo>
                  <a:lnTo>
                    <a:pt x="125" y="736"/>
                  </a:lnTo>
                  <a:lnTo>
                    <a:pt x="127" y="729"/>
                  </a:lnTo>
                  <a:lnTo>
                    <a:pt x="128" y="722"/>
                  </a:lnTo>
                  <a:lnTo>
                    <a:pt x="127" y="714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52920" y="3751200"/>
              <a:ext cx="384120" cy="44604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871" y="683"/>
                  </a:moveTo>
                  <a:lnTo>
                    <a:pt x="874" y="738"/>
                  </a:lnTo>
                  <a:lnTo>
                    <a:pt x="874" y="803"/>
                  </a:lnTo>
                  <a:lnTo>
                    <a:pt x="867" y="877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2" y="1070"/>
                  </a:lnTo>
                  <a:lnTo>
                    <a:pt x="809" y="1079"/>
                  </a:lnTo>
                  <a:lnTo>
                    <a:pt x="795" y="1090"/>
                  </a:lnTo>
                  <a:lnTo>
                    <a:pt x="785" y="1142"/>
                  </a:lnTo>
                  <a:lnTo>
                    <a:pt x="785" y="1151"/>
                  </a:lnTo>
                  <a:lnTo>
                    <a:pt x="790" y="1160"/>
                  </a:lnTo>
                  <a:lnTo>
                    <a:pt x="790" y="1169"/>
                  </a:lnTo>
                  <a:lnTo>
                    <a:pt x="782" y="1181"/>
                  </a:lnTo>
                  <a:lnTo>
                    <a:pt x="793" y="1190"/>
                  </a:lnTo>
                  <a:lnTo>
                    <a:pt x="801" y="1199"/>
                  </a:lnTo>
                  <a:lnTo>
                    <a:pt x="806" y="1213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8" y="1231"/>
                  </a:lnTo>
                  <a:lnTo>
                    <a:pt x="834" y="1241"/>
                  </a:lnTo>
                  <a:lnTo>
                    <a:pt x="840" y="1251"/>
                  </a:lnTo>
                  <a:lnTo>
                    <a:pt x="871" y="1267"/>
                  </a:lnTo>
                  <a:lnTo>
                    <a:pt x="890" y="1276"/>
                  </a:lnTo>
                  <a:lnTo>
                    <a:pt x="899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2"/>
                  </a:lnTo>
                  <a:lnTo>
                    <a:pt x="864" y="1317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2"/>
                  </a:lnTo>
                  <a:lnTo>
                    <a:pt x="698" y="1270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1" y="1257"/>
                  </a:lnTo>
                  <a:lnTo>
                    <a:pt x="646" y="1239"/>
                  </a:lnTo>
                  <a:lnTo>
                    <a:pt x="649" y="1225"/>
                  </a:lnTo>
                  <a:lnTo>
                    <a:pt x="651" y="1210"/>
                  </a:lnTo>
                  <a:lnTo>
                    <a:pt x="654" y="1197"/>
                  </a:lnTo>
                  <a:lnTo>
                    <a:pt x="659" y="1185"/>
                  </a:lnTo>
                  <a:lnTo>
                    <a:pt x="665" y="1171"/>
                  </a:lnTo>
                  <a:lnTo>
                    <a:pt x="672" y="1160"/>
                  </a:lnTo>
                  <a:lnTo>
                    <a:pt x="672" y="1147"/>
                  </a:lnTo>
                  <a:lnTo>
                    <a:pt x="672" y="1134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2" y="958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5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2" y="1207"/>
                  </a:lnTo>
                  <a:lnTo>
                    <a:pt x="379" y="1231"/>
                  </a:lnTo>
                  <a:lnTo>
                    <a:pt x="375" y="1252"/>
                  </a:lnTo>
                  <a:lnTo>
                    <a:pt x="369" y="1272"/>
                  </a:lnTo>
                  <a:lnTo>
                    <a:pt x="362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4" y="1360"/>
                  </a:lnTo>
                  <a:lnTo>
                    <a:pt x="314" y="1375"/>
                  </a:lnTo>
                  <a:lnTo>
                    <a:pt x="300" y="1388"/>
                  </a:lnTo>
                  <a:lnTo>
                    <a:pt x="277" y="1399"/>
                  </a:lnTo>
                  <a:lnTo>
                    <a:pt x="246" y="1406"/>
                  </a:lnTo>
                  <a:lnTo>
                    <a:pt x="219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0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3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4" y="1158"/>
                  </a:lnTo>
                  <a:lnTo>
                    <a:pt x="111" y="1123"/>
                  </a:lnTo>
                  <a:lnTo>
                    <a:pt x="122" y="1109"/>
                  </a:lnTo>
                  <a:lnTo>
                    <a:pt x="117" y="1089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7" y="966"/>
                  </a:lnTo>
                  <a:lnTo>
                    <a:pt x="75" y="958"/>
                  </a:lnTo>
                  <a:lnTo>
                    <a:pt x="67" y="960"/>
                  </a:lnTo>
                  <a:lnTo>
                    <a:pt x="55" y="958"/>
                  </a:lnTo>
                  <a:lnTo>
                    <a:pt x="46" y="953"/>
                  </a:lnTo>
                  <a:lnTo>
                    <a:pt x="36" y="945"/>
                  </a:lnTo>
                  <a:lnTo>
                    <a:pt x="30" y="932"/>
                  </a:lnTo>
                  <a:lnTo>
                    <a:pt x="22" y="921"/>
                  </a:lnTo>
                  <a:lnTo>
                    <a:pt x="19" y="908"/>
                  </a:lnTo>
                  <a:lnTo>
                    <a:pt x="12" y="905"/>
                  </a:lnTo>
                  <a:lnTo>
                    <a:pt x="2" y="832"/>
                  </a:lnTo>
                  <a:lnTo>
                    <a:pt x="9" y="830"/>
                  </a:lnTo>
                  <a:lnTo>
                    <a:pt x="9" y="798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8" y="764"/>
                  </a:lnTo>
                  <a:lnTo>
                    <a:pt x="9" y="754"/>
                  </a:lnTo>
                  <a:lnTo>
                    <a:pt x="15" y="748"/>
                  </a:lnTo>
                  <a:lnTo>
                    <a:pt x="19" y="735"/>
                  </a:lnTo>
                  <a:lnTo>
                    <a:pt x="20" y="727"/>
                  </a:lnTo>
                  <a:lnTo>
                    <a:pt x="25" y="719"/>
                  </a:lnTo>
                  <a:lnTo>
                    <a:pt x="44" y="714"/>
                  </a:lnTo>
                  <a:lnTo>
                    <a:pt x="36" y="700"/>
                  </a:lnTo>
                  <a:lnTo>
                    <a:pt x="43" y="675"/>
                  </a:lnTo>
                  <a:lnTo>
                    <a:pt x="44" y="670"/>
                  </a:lnTo>
                  <a:lnTo>
                    <a:pt x="46" y="667"/>
                  </a:lnTo>
                  <a:lnTo>
                    <a:pt x="52" y="667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0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6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5" y="672"/>
                  </a:lnTo>
                  <a:lnTo>
                    <a:pt x="120" y="650"/>
                  </a:lnTo>
                  <a:lnTo>
                    <a:pt x="152" y="510"/>
                  </a:lnTo>
                  <a:lnTo>
                    <a:pt x="159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0"/>
                  </a:lnTo>
                  <a:lnTo>
                    <a:pt x="167" y="380"/>
                  </a:lnTo>
                  <a:lnTo>
                    <a:pt x="175" y="357"/>
                  </a:lnTo>
                  <a:lnTo>
                    <a:pt x="191" y="326"/>
                  </a:lnTo>
                  <a:lnTo>
                    <a:pt x="207" y="303"/>
                  </a:lnTo>
                  <a:lnTo>
                    <a:pt x="232" y="281"/>
                  </a:lnTo>
                  <a:lnTo>
                    <a:pt x="256" y="266"/>
                  </a:lnTo>
                  <a:lnTo>
                    <a:pt x="270" y="252"/>
                  </a:lnTo>
                  <a:lnTo>
                    <a:pt x="285" y="242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2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6" y="200"/>
                  </a:lnTo>
                  <a:lnTo>
                    <a:pt x="369" y="198"/>
                  </a:lnTo>
                  <a:lnTo>
                    <a:pt x="366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69" y="100"/>
                  </a:lnTo>
                  <a:lnTo>
                    <a:pt x="379" y="71"/>
                  </a:lnTo>
                  <a:lnTo>
                    <a:pt x="393" y="51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4" y="16"/>
                  </a:lnTo>
                  <a:lnTo>
                    <a:pt x="608" y="32"/>
                  </a:lnTo>
                  <a:lnTo>
                    <a:pt x="620" y="50"/>
                  </a:lnTo>
                  <a:lnTo>
                    <a:pt x="639" y="87"/>
                  </a:lnTo>
                  <a:lnTo>
                    <a:pt x="659" y="130"/>
                  </a:lnTo>
                  <a:lnTo>
                    <a:pt x="668" y="142"/>
                  </a:lnTo>
                  <a:lnTo>
                    <a:pt x="672" y="150"/>
                  </a:lnTo>
                  <a:lnTo>
                    <a:pt x="670" y="158"/>
                  </a:lnTo>
                  <a:lnTo>
                    <a:pt x="662" y="165"/>
                  </a:lnTo>
                  <a:lnTo>
                    <a:pt x="633" y="174"/>
                  </a:lnTo>
                  <a:lnTo>
                    <a:pt x="637" y="198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1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3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0" y="501"/>
                  </a:lnTo>
                  <a:lnTo>
                    <a:pt x="832" y="510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6" y="497"/>
                  </a:lnTo>
                  <a:lnTo>
                    <a:pt x="962" y="467"/>
                  </a:lnTo>
                  <a:lnTo>
                    <a:pt x="1021" y="402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7"/>
                  </a:lnTo>
                  <a:lnTo>
                    <a:pt x="1208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4" y="456"/>
                  </a:lnTo>
                  <a:lnTo>
                    <a:pt x="1017" y="567"/>
                  </a:lnTo>
                  <a:lnTo>
                    <a:pt x="997" y="627"/>
                  </a:lnTo>
                  <a:lnTo>
                    <a:pt x="971" y="646"/>
                  </a:lnTo>
                  <a:lnTo>
                    <a:pt x="945" y="663"/>
                  </a:lnTo>
                  <a:lnTo>
                    <a:pt x="913" y="677"/>
                  </a:lnTo>
                  <a:lnTo>
                    <a:pt x="890" y="682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765680" y="38131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29"/>
                  </a:moveTo>
                  <a:lnTo>
                    <a:pt x="653" y="124"/>
                  </a:lnTo>
                  <a:lnTo>
                    <a:pt x="556" y="128"/>
                  </a:lnTo>
                  <a:lnTo>
                    <a:pt x="551" y="133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09" y="144"/>
                  </a:lnTo>
                  <a:lnTo>
                    <a:pt x="378" y="144"/>
                  </a:lnTo>
                  <a:lnTo>
                    <a:pt x="270" y="189"/>
                  </a:lnTo>
                  <a:lnTo>
                    <a:pt x="270" y="252"/>
                  </a:lnTo>
                  <a:lnTo>
                    <a:pt x="194" y="270"/>
                  </a:lnTo>
                  <a:lnTo>
                    <a:pt x="194" y="209"/>
                  </a:lnTo>
                  <a:lnTo>
                    <a:pt x="189" y="192"/>
                  </a:lnTo>
                  <a:lnTo>
                    <a:pt x="189" y="178"/>
                  </a:lnTo>
                  <a:lnTo>
                    <a:pt x="187" y="172"/>
                  </a:lnTo>
                  <a:lnTo>
                    <a:pt x="184" y="168"/>
                  </a:lnTo>
                  <a:lnTo>
                    <a:pt x="180" y="166"/>
                  </a:lnTo>
                  <a:lnTo>
                    <a:pt x="176" y="166"/>
                  </a:lnTo>
                  <a:lnTo>
                    <a:pt x="149" y="165"/>
                  </a:lnTo>
                  <a:lnTo>
                    <a:pt x="158" y="179"/>
                  </a:lnTo>
                  <a:lnTo>
                    <a:pt x="160" y="186"/>
                  </a:lnTo>
                  <a:lnTo>
                    <a:pt x="160" y="192"/>
                  </a:lnTo>
                  <a:lnTo>
                    <a:pt x="155" y="196"/>
                  </a:lnTo>
                  <a:lnTo>
                    <a:pt x="150" y="199"/>
                  </a:lnTo>
                  <a:lnTo>
                    <a:pt x="181" y="199"/>
                  </a:lnTo>
                  <a:lnTo>
                    <a:pt x="186" y="199"/>
                  </a:lnTo>
                  <a:lnTo>
                    <a:pt x="187" y="196"/>
                  </a:lnTo>
                  <a:lnTo>
                    <a:pt x="189" y="192"/>
                  </a:lnTo>
                  <a:lnTo>
                    <a:pt x="194" y="209"/>
                  </a:lnTo>
                  <a:lnTo>
                    <a:pt x="124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2" y="14"/>
                  </a:lnTo>
                  <a:lnTo>
                    <a:pt x="90" y="7"/>
                  </a:lnTo>
                  <a:lnTo>
                    <a:pt x="100" y="5"/>
                  </a:lnTo>
                  <a:lnTo>
                    <a:pt x="273" y="19"/>
                  </a:lnTo>
                  <a:lnTo>
                    <a:pt x="281" y="23"/>
                  </a:lnTo>
                  <a:lnTo>
                    <a:pt x="288" y="29"/>
                  </a:lnTo>
                  <a:lnTo>
                    <a:pt x="291" y="36"/>
                  </a:lnTo>
                  <a:lnTo>
                    <a:pt x="291" y="45"/>
                  </a:lnTo>
                  <a:lnTo>
                    <a:pt x="290" y="52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0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39" y="27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31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4" y="56"/>
                  </a:lnTo>
                  <a:lnTo>
                    <a:pt x="682" y="58"/>
                  </a:lnTo>
                  <a:lnTo>
                    <a:pt x="684" y="60"/>
                  </a:lnTo>
                  <a:lnTo>
                    <a:pt x="727" y="60"/>
                  </a:lnTo>
                  <a:lnTo>
                    <a:pt x="726" y="42"/>
                  </a:lnTo>
                  <a:lnTo>
                    <a:pt x="719" y="42"/>
                  </a:lnTo>
                  <a:lnTo>
                    <a:pt x="719" y="21"/>
                  </a:lnTo>
                  <a:lnTo>
                    <a:pt x="707" y="21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2" y="58"/>
                  </a:lnTo>
                  <a:lnTo>
                    <a:pt x="674" y="56"/>
                  </a:lnTo>
                  <a:lnTo>
                    <a:pt x="713" y="3"/>
                  </a:lnTo>
                  <a:lnTo>
                    <a:pt x="719" y="0"/>
                  </a:lnTo>
                  <a:lnTo>
                    <a:pt x="727" y="3"/>
                  </a:lnTo>
                  <a:lnTo>
                    <a:pt x="732" y="8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5" y="65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5"/>
                  </a:lnTo>
                  <a:lnTo>
                    <a:pt x="951" y="65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1" y="91"/>
                  </a:lnTo>
                  <a:lnTo>
                    <a:pt x="736" y="91"/>
                  </a:lnTo>
                  <a:lnTo>
                    <a:pt x="736" y="100"/>
                  </a:lnTo>
                  <a:lnTo>
                    <a:pt x="719" y="100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7" y="113"/>
                  </a:lnTo>
                  <a:lnTo>
                    <a:pt x="668" y="12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65680" y="38131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29"/>
                  </a:moveTo>
                  <a:lnTo>
                    <a:pt x="653" y="124"/>
                  </a:lnTo>
                  <a:lnTo>
                    <a:pt x="556" y="128"/>
                  </a:lnTo>
                  <a:lnTo>
                    <a:pt x="551" y="133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09" y="144"/>
                  </a:lnTo>
                  <a:lnTo>
                    <a:pt x="378" y="144"/>
                  </a:lnTo>
                  <a:lnTo>
                    <a:pt x="270" y="189"/>
                  </a:lnTo>
                  <a:lnTo>
                    <a:pt x="270" y="252"/>
                  </a:lnTo>
                  <a:lnTo>
                    <a:pt x="194" y="270"/>
                  </a:lnTo>
                  <a:lnTo>
                    <a:pt x="194" y="209"/>
                  </a:lnTo>
                  <a:lnTo>
                    <a:pt x="189" y="192"/>
                  </a:lnTo>
                  <a:lnTo>
                    <a:pt x="189" y="178"/>
                  </a:lnTo>
                  <a:lnTo>
                    <a:pt x="187" y="172"/>
                  </a:lnTo>
                  <a:lnTo>
                    <a:pt x="184" y="168"/>
                  </a:lnTo>
                  <a:lnTo>
                    <a:pt x="180" y="166"/>
                  </a:lnTo>
                  <a:lnTo>
                    <a:pt x="176" y="166"/>
                  </a:lnTo>
                  <a:lnTo>
                    <a:pt x="149" y="165"/>
                  </a:lnTo>
                  <a:lnTo>
                    <a:pt x="158" y="179"/>
                  </a:lnTo>
                  <a:lnTo>
                    <a:pt x="160" y="186"/>
                  </a:lnTo>
                  <a:lnTo>
                    <a:pt x="160" y="192"/>
                  </a:lnTo>
                  <a:lnTo>
                    <a:pt x="155" y="196"/>
                  </a:lnTo>
                  <a:lnTo>
                    <a:pt x="150" y="199"/>
                  </a:lnTo>
                  <a:lnTo>
                    <a:pt x="181" y="199"/>
                  </a:lnTo>
                  <a:lnTo>
                    <a:pt x="186" y="199"/>
                  </a:lnTo>
                  <a:lnTo>
                    <a:pt x="187" y="196"/>
                  </a:lnTo>
                  <a:lnTo>
                    <a:pt x="189" y="192"/>
                  </a:lnTo>
                  <a:lnTo>
                    <a:pt x="194" y="209"/>
                  </a:lnTo>
                  <a:lnTo>
                    <a:pt x="124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2" y="14"/>
                  </a:lnTo>
                  <a:lnTo>
                    <a:pt x="90" y="7"/>
                  </a:lnTo>
                  <a:lnTo>
                    <a:pt x="100" y="5"/>
                  </a:lnTo>
                  <a:lnTo>
                    <a:pt x="273" y="19"/>
                  </a:lnTo>
                  <a:lnTo>
                    <a:pt x="281" y="23"/>
                  </a:lnTo>
                  <a:lnTo>
                    <a:pt x="288" y="29"/>
                  </a:lnTo>
                  <a:lnTo>
                    <a:pt x="291" y="36"/>
                  </a:lnTo>
                  <a:lnTo>
                    <a:pt x="291" y="45"/>
                  </a:lnTo>
                  <a:lnTo>
                    <a:pt x="290" y="52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0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39" y="27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31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4" y="56"/>
                  </a:lnTo>
                  <a:lnTo>
                    <a:pt x="682" y="58"/>
                  </a:lnTo>
                  <a:lnTo>
                    <a:pt x="684" y="60"/>
                  </a:lnTo>
                  <a:lnTo>
                    <a:pt x="727" y="60"/>
                  </a:lnTo>
                  <a:lnTo>
                    <a:pt x="726" y="42"/>
                  </a:lnTo>
                  <a:lnTo>
                    <a:pt x="719" y="42"/>
                  </a:lnTo>
                  <a:lnTo>
                    <a:pt x="719" y="21"/>
                  </a:lnTo>
                  <a:lnTo>
                    <a:pt x="707" y="21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2" y="58"/>
                  </a:lnTo>
                  <a:lnTo>
                    <a:pt x="674" y="56"/>
                  </a:lnTo>
                  <a:lnTo>
                    <a:pt x="713" y="3"/>
                  </a:lnTo>
                  <a:lnTo>
                    <a:pt x="719" y="0"/>
                  </a:lnTo>
                  <a:lnTo>
                    <a:pt x="727" y="3"/>
                  </a:lnTo>
                  <a:lnTo>
                    <a:pt x="732" y="8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5" y="65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5"/>
                  </a:lnTo>
                  <a:lnTo>
                    <a:pt x="951" y="65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1" y="91"/>
                  </a:lnTo>
                  <a:lnTo>
                    <a:pt x="736" y="91"/>
                  </a:lnTo>
                  <a:lnTo>
                    <a:pt x="736" y="100"/>
                  </a:lnTo>
                  <a:lnTo>
                    <a:pt x="719" y="100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7" y="113"/>
                  </a:lnTo>
                  <a:lnTo>
                    <a:pt x="668" y="129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56280" y="4092480"/>
              <a:ext cx="360" cy="360"/>
            </a:xfrm>
            <a:prstGeom prst="rect">
              <a:avLst/>
            </a:prstGeom>
            <a:noFill/>
            <a:ln w="9360">
              <a:solidFill>
                <a:srgbClr val="838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180040" y="3621240"/>
              <a:ext cx="384120" cy="447480"/>
            </a:xfrm>
            <a:custGeom>
              <a:avLst/>
              <a:gdLst/>
              <a:ahLst/>
              <a:rect l="l" t="t" r="r" b="b"/>
              <a:pathLst>
                <a:path w="1209" h="1407">
                  <a:moveTo>
                    <a:pt x="640" y="691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6"/>
                  </a:lnTo>
                  <a:lnTo>
                    <a:pt x="664" y="603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8"/>
                  </a:lnTo>
                  <a:lnTo>
                    <a:pt x="640" y="691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7" y="1022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1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4"/>
                  </a:lnTo>
                  <a:lnTo>
                    <a:pt x="829" y="1232"/>
                  </a:lnTo>
                  <a:lnTo>
                    <a:pt x="834" y="1242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1" y="1277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10"/>
                  </a:lnTo>
                  <a:lnTo>
                    <a:pt x="887" y="1313"/>
                  </a:lnTo>
                  <a:lnTo>
                    <a:pt x="865" y="1318"/>
                  </a:lnTo>
                  <a:lnTo>
                    <a:pt x="830" y="1315"/>
                  </a:lnTo>
                  <a:lnTo>
                    <a:pt x="799" y="1310"/>
                  </a:lnTo>
                  <a:lnTo>
                    <a:pt x="764" y="1299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4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6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1" y="1043"/>
                  </a:lnTo>
                  <a:lnTo>
                    <a:pt x="671" y="1029"/>
                  </a:lnTo>
                  <a:lnTo>
                    <a:pt x="667" y="1012"/>
                  </a:lnTo>
                  <a:lnTo>
                    <a:pt x="671" y="988"/>
                  </a:lnTo>
                  <a:lnTo>
                    <a:pt x="676" y="956"/>
                  </a:lnTo>
                  <a:lnTo>
                    <a:pt x="685" y="922"/>
                  </a:lnTo>
                  <a:lnTo>
                    <a:pt x="698" y="888"/>
                  </a:lnTo>
                  <a:lnTo>
                    <a:pt x="676" y="913"/>
                  </a:lnTo>
                  <a:lnTo>
                    <a:pt x="653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90"/>
                  </a:lnTo>
                  <a:lnTo>
                    <a:pt x="406" y="1097"/>
                  </a:lnTo>
                  <a:lnTo>
                    <a:pt x="384" y="1183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8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9"/>
                  </a:lnTo>
                  <a:lnTo>
                    <a:pt x="278" y="1400"/>
                  </a:lnTo>
                  <a:lnTo>
                    <a:pt x="247" y="1407"/>
                  </a:lnTo>
                  <a:lnTo>
                    <a:pt x="219" y="1407"/>
                  </a:lnTo>
                  <a:lnTo>
                    <a:pt x="192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7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100" y="1291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1" y="1109"/>
                  </a:lnTo>
                  <a:lnTo>
                    <a:pt x="118" y="1090"/>
                  </a:lnTo>
                  <a:lnTo>
                    <a:pt x="114" y="1070"/>
                  </a:lnTo>
                  <a:lnTo>
                    <a:pt x="84" y="1048"/>
                  </a:lnTo>
                  <a:lnTo>
                    <a:pt x="98" y="1027"/>
                  </a:lnTo>
                  <a:lnTo>
                    <a:pt x="114" y="981"/>
                  </a:lnTo>
                  <a:lnTo>
                    <a:pt x="102" y="983"/>
                  </a:lnTo>
                  <a:lnTo>
                    <a:pt x="90" y="980"/>
                  </a:lnTo>
                  <a:lnTo>
                    <a:pt x="84" y="975"/>
                  </a:lnTo>
                  <a:lnTo>
                    <a:pt x="77" y="967"/>
                  </a:lnTo>
                  <a:lnTo>
                    <a:pt x="75" y="959"/>
                  </a:lnTo>
                  <a:lnTo>
                    <a:pt x="66" y="961"/>
                  </a:lnTo>
                  <a:lnTo>
                    <a:pt x="56" y="959"/>
                  </a:lnTo>
                  <a:lnTo>
                    <a:pt x="46" y="954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6"/>
                  </a:lnTo>
                  <a:lnTo>
                    <a:pt x="2" y="833"/>
                  </a:lnTo>
                  <a:lnTo>
                    <a:pt x="10" y="830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8" y="765"/>
                  </a:lnTo>
                  <a:lnTo>
                    <a:pt x="10" y="755"/>
                  </a:lnTo>
                  <a:lnTo>
                    <a:pt x="16" y="748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4" y="660"/>
                  </a:lnTo>
                  <a:lnTo>
                    <a:pt x="84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4" y="691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1"/>
                  </a:lnTo>
                  <a:lnTo>
                    <a:pt x="179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2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8" y="235"/>
                  </a:lnTo>
                  <a:lnTo>
                    <a:pt x="371" y="222"/>
                  </a:lnTo>
                  <a:lnTo>
                    <a:pt x="365" y="201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2"/>
                  </a:lnTo>
                  <a:lnTo>
                    <a:pt x="492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0" y="159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40" y="221"/>
                  </a:lnTo>
                  <a:lnTo>
                    <a:pt x="640" y="238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7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5"/>
                  </a:lnTo>
                  <a:lnTo>
                    <a:pt x="821" y="502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2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8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9" y="335"/>
                  </a:lnTo>
                  <a:lnTo>
                    <a:pt x="1122" y="384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4"/>
                  </a:lnTo>
                  <a:close/>
                  <a:moveTo>
                    <a:pt x="127" y="715"/>
                  </a:moveTo>
                  <a:lnTo>
                    <a:pt x="118" y="724"/>
                  </a:lnTo>
                  <a:lnTo>
                    <a:pt x="121" y="729"/>
                  </a:lnTo>
                  <a:lnTo>
                    <a:pt x="125" y="737"/>
                  </a:lnTo>
                  <a:lnTo>
                    <a:pt x="127" y="729"/>
                  </a:lnTo>
                  <a:lnTo>
                    <a:pt x="129" y="722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80040" y="3621240"/>
              <a:ext cx="384120" cy="447480"/>
            </a:xfrm>
            <a:custGeom>
              <a:avLst/>
              <a:gdLst/>
              <a:ahLst/>
              <a:rect l="l" t="t" r="r" b="b"/>
              <a:pathLst>
                <a:path w="1209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7" y="1022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1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4"/>
                  </a:lnTo>
                  <a:lnTo>
                    <a:pt x="829" y="1232"/>
                  </a:lnTo>
                  <a:lnTo>
                    <a:pt x="834" y="1242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1" y="1277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10"/>
                  </a:lnTo>
                  <a:lnTo>
                    <a:pt x="887" y="1313"/>
                  </a:lnTo>
                  <a:lnTo>
                    <a:pt x="865" y="1318"/>
                  </a:lnTo>
                  <a:lnTo>
                    <a:pt x="830" y="1315"/>
                  </a:lnTo>
                  <a:lnTo>
                    <a:pt x="799" y="1310"/>
                  </a:lnTo>
                  <a:lnTo>
                    <a:pt x="764" y="1299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4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6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1" y="1043"/>
                  </a:lnTo>
                  <a:lnTo>
                    <a:pt x="671" y="1029"/>
                  </a:lnTo>
                  <a:lnTo>
                    <a:pt x="667" y="1012"/>
                  </a:lnTo>
                  <a:lnTo>
                    <a:pt x="671" y="988"/>
                  </a:lnTo>
                  <a:lnTo>
                    <a:pt x="676" y="956"/>
                  </a:lnTo>
                  <a:lnTo>
                    <a:pt x="685" y="922"/>
                  </a:lnTo>
                  <a:lnTo>
                    <a:pt x="698" y="888"/>
                  </a:lnTo>
                  <a:lnTo>
                    <a:pt x="676" y="913"/>
                  </a:lnTo>
                  <a:lnTo>
                    <a:pt x="653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90"/>
                  </a:lnTo>
                  <a:lnTo>
                    <a:pt x="406" y="1097"/>
                  </a:lnTo>
                  <a:lnTo>
                    <a:pt x="384" y="1183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8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9"/>
                  </a:lnTo>
                  <a:lnTo>
                    <a:pt x="278" y="1400"/>
                  </a:lnTo>
                  <a:lnTo>
                    <a:pt x="247" y="1407"/>
                  </a:lnTo>
                  <a:lnTo>
                    <a:pt x="219" y="1407"/>
                  </a:lnTo>
                  <a:lnTo>
                    <a:pt x="192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7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100" y="1291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1" y="1109"/>
                  </a:lnTo>
                  <a:lnTo>
                    <a:pt x="118" y="1090"/>
                  </a:lnTo>
                  <a:lnTo>
                    <a:pt x="114" y="1070"/>
                  </a:lnTo>
                  <a:lnTo>
                    <a:pt x="84" y="1048"/>
                  </a:lnTo>
                  <a:lnTo>
                    <a:pt x="98" y="1027"/>
                  </a:lnTo>
                  <a:lnTo>
                    <a:pt x="114" y="981"/>
                  </a:lnTo>
                  <a:lnTo>
                    <a:pt x="102" y="983"/>
                  </a:lnTo>
                  <a:lnTo>
                    <a:pt x="90" y="980"/>
                  </a:lnTo>
                  <a:lnTo>
                    <a:pt x="84" y="975"/>
                  </a:lnTo>
                  <a:lnTo>
                    <a:pt x="77" y="967"/>
                  </a:lnTo>
                  <a:lnTo>
                    <a:pt x="75" y="959"/>
                  </a:lnTo>
                  <a:lnTo>
                    <a:pt x="66" y="961"/>
                  </a:lnTo>
                  <a:lnTo>
                    <a:pt x="56" y="959"/>
                  </a:lnTo>
                  <a:lnTo>
                    <a:pt x="46" y="954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6"/>
                  </a:lnTo>
                  <a:lnTo>
                    <a:pt x="2" y="833"/>
                  </a:lnTo>
                  <a:lnTo>
                    <a:pt x="10" y="830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8" y="765"/>
                  </a:lnTo>
                  <a:lnTo>
                    <a:pt x="10" y="755"/>
                  </a:lnTo>
                  <a:lnTo>
                    <a:pt x="16" y="748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4" y="660"/>
                  </a:lnTo>
                  <a:lnTo>
                    <a:pt x="84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4" y="691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1"/>
                  </a:lnTo>
                  <a:lnTo>
                    <a:pt x="179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2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8" y="235"/>
                  </a:lnTo>
                  <a:lnTo>
                    <a:pt x="371" y="222"/>
                  </a:lnTo>
                  <a:lnTo>
                    <a:pt x="365" y="201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2"/>
                  </a:lnTo>
                  <a:lnTo>
                    <a:pt x="492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0" y="159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40" y="221"/>
                  </a:lnTo>
                  <a:lnTo>
                    <a:pt x="640" y="238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7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5"/>
                  </a:lnTo>
                  <a:lnTo>
                    <a:pt x="821" y="502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2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8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9" y="335"/>
                  </a:lnTo>
                  <a:lnTo>
                    <a:pt x="1122" y="384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92800" y="368316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6"/>
                  </a:lnTo>
                  <a:lnTo>
                    <a:pt x="557" y="130"/>
                  </a:lnTo>
                  <a:lnTo>
                    <a:pt x="550" y="135"/>
                  </a:lnTo>
                  <a:lnTo>
                    <a:pt x="657" y="139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10" y="146"/>
                  </a:lnTo>
                  <a:lnTo>
                    <a:pt x="379" y="146"/>
                  </a:lnTo>
                  <a:lnTo>
                    <a:pt x="270" y="190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8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7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8" y="197"/>
                  </a:lnTo>
                  <a:lnTo>
                    <a:pt x="189" y="194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7"/>
                  </a:lnTo>
                  <a:lnTo>
                    <a:pt x="274" y="21"/>
                  </a:lnTo>
                  <a:lnTo>
                    <a:pt x="281" y="25"/>
                  </a:lnTo>
                  <a:lnTo>
                    <a:pt x="288" y="31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4"/>
                  </a:lnTo>
                  <a:lnTo>
                    <a:pt x="288" y="58"/>
                  </a:lnTo>
                  <a:lnTo>
                    <a:pt x="277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7" y="32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6"/>
                  </a:lnTo>
                  <a:lnTo>
                    <a:pt x="130" y="43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7" y="58"/>
                  </a:lnTo>
                  <a:lnTo>
                    <a:pt x="288" y="58"/>
                  </a:lnTo>
                  <a:lnTo>
                    <a:pt x="673" y="58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3"/>
                  </a:lnTo>
                  <a:lnTo>
                    <a:pt x="720" y="43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8"/>
                  </a:lnTo>
                  <a:lnTo>
                    <a:pt x="712" y="5"/>
                  </a:lnTo>
                  <a:lnTo>
                    <a:pt x="720" y="0"/>
                  </a:lnTo>
                  <a:lnTo>
                    <a:pt x="727" y="5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9"/>
                  </a:lnTo>
                  <a:lnTo>
                    <a:pt x="930" y="99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9"/>
                  </a:lnTo>
                  <a:lnTo>
                    <a:pt x="688" y="99"/>
                  </a:lnTo>
                  <a:lnTo>
                    <a:pt x="688" y="115"/>
                  </a:lnTo>
                  <a:lnTo>
                    <a:pt x="678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392800" y="368316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6"/>
                  </a:lnTo>
                  <a:lnTo>
                    <a:pt x="557" y="130"/>
                  </a:lnTo>
                  <a:lnTo>
                    <a:pt x="550" y="135"/>
                  </a:lnTo>
                  <a:lnTo>
                    <a:pt x="657" y="139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10" y="146"/>
                  </a:lnTo>
                  <a:lnTo>
                    <a:pt x="379" y="146"/>
                  </a:lnTo>
                  <a:lnTo>
                    <a:pt x="270" y="190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8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7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8" y="197"/>
                  </a:lnTo>
                  <a:lnTo>
                    <a:pt x="189" y="194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7"/>
                  </a:lnTo>
                  <a:lnTo>
                    <a:pt x="274" y="21"/>
                  </a:lnTo>
                  <a:lnTo>
                    <a:pt x="281" y="25"/>
                  </a:lnTo>
                  <a:lnTo>
                    <a:pt x="288" y="31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4"/>
                  </a:lnTo>
                  <a:lnTo>
                    <a:pt x="288" y="58"/>
                  </a:lnTo>
                  <a:lnTo>
                    <a:pt x="277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7" y="32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6"/>
                  </a:lnTo>
                  <a:lnTo>
                    <a:pt x="130" y="43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7" y="58"/>
                  </a:lnTo>
                  <a:lnTo>
                    <a:pt x="288" y="58"/>
                  </a:lnTo>
                  <a:lnTo>
                    <a:pt x="673" y="58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3"/>
                  </a:lnTo>
                  <a:lnTo>
                    <a:pt x="720" y="43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8"/>
                  </a:lnTo>
                  <a:lnTo>
                    <a:pt x="712" y="5"/>
                  </a:lnTo>
                  <a:lnTo>
                    <a:pt x="720" y="0"/>
                  </a:lnTo>
                  <a:lnTo>
                    <a:pt x="727" y="5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9"/>
                  </a:lnTo>
                  <a:lnTo>
                    <a:pt x="930" y="99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9"/>
                  </a:lnTo>
                  <a:lnTo>
                    <a:pt x="688" y="99"/>
                  </a:lnTo>
                  <a:lnTo>
                    <a:pt x="688" y="115"/>
                  </a:lnTo>
                  <a:lnTo>
                    <a:pt x="678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87720" y="3646440"/>
              <a:ext cx="360" cy="360"/>
            </a:xfrm>
            <a:prstGeom prst="rect">
              <a:avLst/>
            </a:prstGeom>
            <a:noFill/>
            <a:ln w="9360">
              <a:solidFill>
                <a:srgbClr val="605d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13280" y="317664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638" y="690"/>
                  </a:moveTo>
                  <a:lnTo>
                    <a:pt x="661" y="674"/>
                  </a:lnTo>
                  <a:lnTo>
                    <a:pt x="681" y="661"/>
                  </a:lnTo>
                  <a:lnTo>
                    <a:pt x="701" y="650"/>
                  </a:lnTo>
                  <a:lnTo>
                    <a:pt x="722" y="640"/>
                  </a:lnTo>
                  <a:lnTo>
                    <a:pt x="682" y="616"/>
                  </a:lnTo>
                  <a:lnTo>
                    <a:pt x="664" y="603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2" y="637"/>
                  </a:lnTo>
                  <a:lnTo>
                    <a:pt x="638" y="690"/>
                  </a:lnTo>
                  <a:close/>
                  <a:moveTo>
                    <a:pt x="870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6" y="878"/>
                  </a:lnTo>
                  <a:lnTo>
                    <a:pt x="853" y="949"/>
                  </a:lnTo>
                  <a:lnTo>
                    <a:pt x="837" y="1021"/>
                  </a:lnTo>
                  <a:lnTo>
                    <a:pt x="823" y="1070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0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6" y="1313"/>
                  </a:lnTo>
                  <a:lnTo>
                    <a:pt x="864" y="1316"/>
                  </a:lnTo>
                  <a:lnTo>
                    <a:pt x="829" y="1314"/>
                  </a:lnTo>
                  <a:lnTo>
                    <a:pt x="798" y="1309"/>
                  </a:lnTo>
                  <a:lnTo>
                    <a:pt x="763" y="1298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8" y="1270"/>
                  </a:lnTo>
                  <a:lnTo>
                    <a:pt x="681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3" y="1197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69" y="1043"/>
                  </a:lnTo>
                  <a:lnTo>
                    <a:pt x="669" y="1028"/>
                  </a:lnTo>
                  <a:lnTo>
                    <a:pt x="666" y="1012"/>
                  </a:lnTo>
                  <a:lnTo>
                    <a:pt x="669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1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3" y="1183"/>
                  </a:lnTo>
                  <a:lnTo>
                    <a:pt x="381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68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4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6" y="1314"/>
                  </a:lnTo>
                  <a:lnTo>
                    <a:pt x="98" y="1291"/>
                  </a:lnTo>
                  <a:lnTo>
                    <a:pt x="93" y="1261"/>
                  </a:lnTo>
                  <a:lnTo>
                    <a:pt x="93" y="1234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3" y="1070"/>
                  </a:lnTo>
                  <a:lnTo>
                    <a:pt x="82" y="1046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90" y="978"/>
                  </a:lnTo>
                  <a:lnTo>
                    <a:pt x="82" y="975"/>
                  </a:lnTo>
                  <a:lnTo>
                    <a:pt x="77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5" y="953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1"/>
                  </a:lnTo>
                  <a:lnTo>
                    <a:pt x="18" y="908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7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3" y="714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3" y="671"/>
                  </a:lnTo>
                  <a:lnTo>
                    <a:pt x="45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6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3" y="714"/>
                  </a:lnTo>
                  <a:lnTo>
                    <a:pt x="101" y="714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1" y="687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60" y="487"/>
                  </a:lnTo>
                  <a:lnTo>
                    <a:pt x="166" y="470"/>
                  </a:lnTo>
                  <a:lnTo>
                    <a:pt x="177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6" y="380"/>
                  </a:lnTo>
                  <a:lnTo>
                    <a:pt x="174" y="356"/>
                  </a:lnTo>
                  <a:lnTo>
                    <a:pt x="190" y="327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0" y="243"/>
                  </a:lnTo>
                  <a:lnTo>
                    <a:pt x="367" y="235"/>
                  </a:lnTo>
                  <a:lnTo>
                    <a:pt x="370" y="222"/>
                  </a:lnTo>
                  <a:lnTo>
                    <a:pt x="365" y="200"/>
                  </a:lnTo>
                  <a:lnTo>
                    <a:pt x="368" y="199"/>
                  </a:lnTo>
                  <a:lnTo>
                    <a:pt x="365" y="175"/>
                  </a:lnTo>
                  <a:lnTo>
                    <a:pt x="363" y="150"/>
                  </a:lnTo>
                  <a:lnTo>
                    <a:pt x="363" y="125"/>
                  </a:lnTo>
                  <a:lnTo>
                    <a:pt x="368" y="99"/>
                  </a:lnTo>
                  <a:lnTo>
                    <a:pt x="378" y="71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1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6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8" y="86"/>
                  </a:lnTo>
                  <a:lnTo>
                    <a:pt x="659" y="131"/>
                  </a:lnTo>
                  <a:lnTo>
                    <a:pt x="667" y="141"/>
                  </a:lnTo>
                  <a:lnTo>
                    <a:pt x="672" y="150"/>
                  </a:lnTo>
                  <a:lnTo>
                    <a:pt x="669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38" y="220"/>
                  </a:lnTo>
                  <a:lnTo>
                    <a:pt x="638" y="238"/>
                  </a:lnTo>
                  <a:lnTo>
                    <a:pt x="651" y="239"/>
                  </a:lnTo>
                  <a:lnTo>
                    <a:pt x="667" y="270"/>
                  </a:lnTo>
                  <a:lnTo>
                    <a:pt x="793" y="402"/>
                  </a:lnTo>
                  <a:lnTo>
                    <a:pt x="798" y="411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1" y="501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1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0" y="367"/>
                  </a:lnTo>
                  <a:lnTo>
                    <a:pt x="1062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5"/>
                  </a:lnTo>
                  <a:lnTo>
                    <a:pt x="1121" y="383"/>
                  </a:lnTo>
                  <a:lnTo>
                    <a:pt x="1105" y="402"/>
                  </a:lnTo>
                  <a:lnTo>
                    <a:pt x="1079" y="445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7"/>
                  </a:lnTo>
                  <a:lnTo>
                    <a:pt x="890" y="681"/>
                  </a:lnTo>
                  <a:lnTo>
                    <a:pt x="870" y="684"/>
                  </a:lnTo>
                  <a:close/>
                  <a:moveTo>
                    <a:pt x="126" y="715"/>
                  </a:moveTo>
                  <a:lnTo>
                    <a:pt x="117" y="724"/>
                  </a:lnTo>
                  <a:lnTo>
                    <a:pt x="121" y="729"/>
                  </a:lnTo>
                  <a:lnTo>
                    <a:pt x="124" y="735"/>
                  </a:lnTo>
                  <a:lnTo>
                    <a:pt x="126" y="729"/>
                  </a:lnTo>
                  <a:lnTo>
                    <a:pt x="129" y="721"/>
                  </a:lnTo>
                  <a:lnTo>
                    <a:pt x="126" y="715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13280" y="317664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870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6" y="878"/>
                  </a:lnTo>
                  <a:lnTo>
                    <a:pt x="853" y="949"/>
                  </a:lnTo>
                  <a:lnTo>
                    <a:pt x="837" y="1021"/>
                  </a:lnTo>
                  <a:lnTo>
                    <a:pt x="823" y="1070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0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6" y="1313"/>
                  </a:lnTo>
                  <a:lnTo>
                    <a:pt x="864" y="1316"/>
                  </a:lnTo>
                  <a:lnTo>
                    <a:pt x="829" y="1314"/>
                  </a:lnTo>
                  <a:lnTo>
                    <a:pt x="798" y="1309"/>
                  </a:lnTo>
                  <a:lnTo>
                    <a:pt x="763" y="1298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8" y="1270"/>
                  </a:lnTo>
                  <a:lnTo>
                    <a:pt x="681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3" y="1197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69" y="1043"/>
                  </a:lnTo>
                  <a:lnTo>
                    <a:pt x="669" y="1028"/>
                  </a:lnTo>
                  <a:lnTo>
                    <a:pt x="666" y="1012"/>
                  </a:lnTo>
                  <a:lnTo>
                    <a:pt x="669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1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3" y="1183"/>
                  </a:lnTo>
                  <a:lnTo>
                    <a:pt x="381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68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4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6" y="1314"/>
                  </a:lnTo>
                  <a:lnTo>
                    <a:pt x="98" y="1291"/>
                  </a:lnTo>
                  <a:lnTo>
                    <a:pt x="93" y="1261"/>
                  </a:lnTo>
                  <a:lnTo>
                    <a:pt x="93" y="1234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3" y="1070"/>
                  </a:lnTo>
                  <a:lnTo>
                    <a:pt x="82" y="1046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90" y="978"/>
                  </a:lnTo>
                  <a:lnTo>
                    <a:pt x="82" y="975"/>
                  </a:lnTo>
                  <a:lnTo>
                    <a:pt x="77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5" y="953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1"/>
                  </a:lnTo>
                  <a:lnTo>
                    <a:pt x="18" y="908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7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3" y="714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3" y="671"/>
                  </a:lnTo>
                  <a:lnTo>
                    <a:pt x="45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6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3" y="714"/>
                  </a:lnTo>
                  <a:lnTo>
                    <a:pt x="101" y="714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1" y="687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60" y="487"/>
                  </a:lnTo>
                  <a:lnTo>
                    <a:pt x="166" y="470"/>
                  </a:lnTo>
                  <a:lnTo>
                    <a:pt x="177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6" y="380"/>
                  </a:lnTo>
                  <a:lnTo>
                    <a:pt x="174" y="356"/>
                  </a:lnTo>
                  <a:lnTo>
                    <a:pt x="190" y="327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0" y="243"/>
                  </a:lnTo>
                  <a:lnTo>
                    <a:pt x="367" y="235"/>
                  </a:lnTo>
                  <a:lnTo>
                    <a:pt x="370" y="222"/>
                  </a:lnTo>
                  <a:lnTo>
                    <a:pt x="365" y="200"/>
                  </a:lnTo>
                  <a:lnTo>
                    <a:pt x="368" y="199"/>
                  </a:lnTo>
                  <a:lnTo>
                    <a:pt x="365" y="175"/>
                  </a:lnTo>
                  <a:lnTo>
                    <a:pt x="363" y="150"/>
                  </a:lnTo>
                  <a:lnTo>
                    <a:pt x="363" y="125"/>
                  </a:lnTo>
                  <a:lnTo>
                    <a:pt x="368" y="99"/>
                  </a:lnTo>
                  <a:lnTo>
                    <a:pt x="378" y="71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1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6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8" y="86"/>
                  </a:lnTo>
                  <a:lnTo>
                    <a:pt x="659" y="131"/>
                  </a:lnTo>
                  <a:lnTo>
                    <a:pt x="667" y="141"/>
                  </a:lnTo>
                  <a:lnTo>
                    <a:pt x="672" y="150"/>
                  </a:lnTo>
                  <a:lnTo>
                    <a:pt x="669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38" y="220"/>
                  </a:lnTo>
                  <a:lnTo>
                    <a:pt x="638" y="238"/>
                  </a:lnTo>
                  <a:lnTo>
                    <a:pt x="651" y="239"/>
                  </a:lnTo>
                  <a:lnTo>
                    <a:pt x="667" y="270"/>
                  </a:lnTo>
                  <a:lnTo>
                    <a:pt x="793" y="402"/>
                  </a:lnTo>
                  <a:lnTo>
                    <a:pt x="798" y="411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1" y="501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1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0" y="367"/>
                  </a:lnTo>
                  <a:lnTo>
                    <a:pt x="1062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5"/>
                  </a:lnTo>
                  <a:lnTo>
                    <a:pt x="1121" y="383"/>
                  </a:lnTo>
                  <a:lnTo>
                    <a:pt x="1105" y="402"/>
                  </a:lnTo>
                  <a:lnTo>
                    <a:pt x="1079" y="445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7"/>
                  </a:lnTo>
                  <a:lnTo>
                    <a:pt x="890" y="681"/>
                  </a:lnTo>
                  <a:lnTo>
                    <a:pt x="870" y="684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24240" y="3236760"/>
              <a:ext cx="301680" cy="8604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9" y="131"/>
                  </a:moveTo>
                  <a:lnTo>
                    <a:pt x="654" y="126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9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1" y="168"/>
                  </a:lnTo>
                  <a:lnTo>
                    <a:pt x="176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4"/>
                  </a:lnTo>
                  <a:lnTo>
                    <a:pt x="156" y="197"/>
                  </a:lnTo>
                  <a:lnTo>
                    <a:pt x="150" y="200"/>
                  </a:lnTo>
                  <a:lnTo>
                    <a:pt x="182" y="200"/>
                  </a:lnTo>
                  <a:lnTo>
                    <a:pt x="186" y="200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5" y="210"/>
                  </a:lnTo>
                  <a:lnTo>
                    <a:pt x="126" y="210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1"/>
                  </a:lnTo>
                  <a:lnTo>
                    <a:pt x="65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2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3"/>
                  </a:lnTo>
                  <a:lnTo>
                    <a:pt x="289" y="58"/>
                  </a:lnTo>
                  <a:lnTo>
                    <a:pt x="278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5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8"/>
                  </a:lnTo>
                  <a:lnTo>
                    <a:pt x="289" y="58"/>
                  </a:lnTo>
                  <a:lnTo>
                    <a:pt x="674" y="58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6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2" y="55"/>
                  </a:lnTo>
                  <a:lnTo>
                    <a:pt x="682" y="60"/>
                  </a:lnTo>
                  <a:lnTo>
                    <a:pt x="683" y="60"/>
                  </a:lnTo>
                  <a:lnTo>
                    <a:pt x="674" y="58"/>
                  </a:lnTo>
                  <a:lnTo>
                    <a:pt x="713" y="4"/>
                  </a:lnTo>
                  <a:lnTo>
                    <a:pt x="720" y="0"/>
                  </a:lnTo>
                  <a:lnTo>
                    <a:pt x="727" y="4"/>
                  </a:lnTo>
                  <a:lnTo>
                    <a:pt x="733" y="10"/>
                  </a:lnTo>
                  <a:lnTo>
                    <a:pt x="737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6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2"/>
                  </a:lnTo>
                  <a:lnTo>
                    <a:pt x="737" y="92"/>
                  </a:lnTo>
                  <a:lnTo>
                    <a:pt x="737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7" y="114"/>
                  </a:lnTo>
                  <a:lnTo>
                    <a:pt x="669" y="13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4240" y="3236760"/>
              <a:ext cx="301680" cy="8604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9" y="131"/>
                  </a:moveTo>
                  <a:lnTo>
                    <a:pt x="654" y="126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9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1" y="168"/>
                  </a:lnTo>
                  <a:lnTo>
                    <a:pt x="176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4"/>
                  </a:lnTo>
                  <a:lnTo>
                    <a:pt x="156" y="197"/>
                  </a:lnTo>
                  <a:lnTo>
                    <a:pt x="150" y="200"/>
                  </a:lnTo>
                  <a:lnTo>
                    <a:pt x="182" y="200"/>
                  </a:lnTo>
                  <a:lnTo>
                    <a:pt x="186" y="200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5" y="210"/>
                  </a:lnTo>
                  <a:lnTo>
                    <a:pt x="126" y="210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1"/>
                  </a:lnTo>
                  <a:lnTo>
                    <a:pt x="65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2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3"/>
                  </a:lnTo>
                  <a:lnTo>
                    <a:pt x="289" y="58"/>
                  </a:lnTo>
                  <a:lnTo>
                    <a:pt x="278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5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8"/>
                  </a:lnTo>
                  <a:lnTo>
                    <a:pt x="289" y="58"/>
                  </a:lnTo>
                  <a:lnTo>
                    <a:pt x="674" y="58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6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2" y="55"/>
                  </a:lnTo>
                  <a:lnTo>
                    <a:pt x="682" y="60"/>
                  </a:lnTo>
                  <a:lnTo>
                    <a:pt x="683" y="60"/>
                  </a:lnTo>
                  <a:lnTo>
                    <a:pt x="674" y="58"/>
                  </a:lnTo>
                  <a:lnTo>
                    <a:pt x="713" y="4"/>
                  </a:lnTo>
                  <a:lnTo>
                    <a:pt x="720" y="0"/>
                  </a:lnTo>
                  <a:lnTo>
                    <a:pt x="727" y="4"/>
                  </a:lnTo>
                  <a:lnTo>
                    <a:pt x="733" y="10"/>
                  </a:lnTo>
                  <a:lnTo>
                    <a:pt x="737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6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2"/>
                  </a:lnTo>
                  <a:lnTo>
                    <a:pt x="737" y="92"/>
                  </a:lnTo>
                  <a:lnTo>
                    <a:pt x="737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7" y="114"/>
                  </a:lnTo>
                  <a:lnTo>
                    <a:pt x="669" y="131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73680" y="301320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998880" y="2543040"/>
              <a:ext cx="38268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1"/>
                  </a:moveTo>
                  <a:lnTo>
                    <a:pt x="660" y="674"/>
                  </a:lnTo>
                  <a:lnTo>
                    <a:pt x="681" y="661"/>
                  </a:lnTo>
                  <a:lnTo>
                    <a:pt x="701" y="651"/>
                  </a:lnTo>
                  <a:lnTo>
                    <a:pt x="723" y="641"/>
                  </a:lnTo>
                  <a:lnTo>
                    <a:pt x="683" y="616"/>
                  </a:lnTo>
                  <a:lnTo>
                    <a:pt x="665" y="602"/>
                  </a:lnTo>
                  <a:lnTo>
                    <a:pt x="644" y="588"/>
                  </a:lnTo>
                  <a:lnTo>
                    <a:pt x="645" y="614"/>
                  </a:lnTo>
                  <a:lnTo>
                    <a:pt x="642" y="638"/>
                  </a:lnTo>
                  <a:lnTo>
                    <a:pt x="639" y="691"/>
                  </a:lnTo>
                  <a:close/>
                  <a:moveTo>
                    <a:pt x="871" y="683"/>
                  </a:moveTo>
                  <a:lnTo>
                    <a:pt x="873" y="738"/>
                  </a:lnTo>
                  <a:lnTo>
                    <a:pt x="873" y="803"/>
                  </a:lnTo>
                  <a:lnTo>
                    <a:pt x="867" y="877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2" y="1071"/>
                  </a:lnTo>
                  <a:lnTo>
                    <a:pt x="809" y="1079"/>
                  </a:lnTo>
                  <a:lnTo>
                    <a:pt x="794" y="1091"/>
                  </a:lnTo>
                  <a:lnTo>
                    <a:pt x="784" y="1142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1"/>
                  </a:lnTo>
                  <a:lnTo>
                    <a:pt x="793" y="1191"/>
                  </a:lnTo>
                  <a:lnTo>
                    <a:pt x="800" y="1199"/>
                  </a:lnTo>
                  <a:lnTo>
                    <a:pt x="805" y="1213"/>
                  </a:lnTo>
                  <a:lnTo>
                    <a:pt x="817" y="1218"/>
                  </a:lnTo>
                  <a:lnTo>
                    <a:pt x="822" y="1223"/>
                  </a:lnTo>
                  <a:lnTo>
                    <a:pt x="828" y="1233"/>
                  </a:lnTo>
                  <a:lnTo>
                    <a:pt x="833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0" y="1276"/>
                  </a:lnTo>
                  <a:lnTo>
                    <a:pt x="899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6" y="1314"/>
                  </a:lnTo>
                  <a:lnTo>
                    <a:pt x="864" y="1317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9"/>
                  </a:lnTo>
                  <a:lnTo>
                    <a:pt x="738" y="1286"/>
                  </a:lnTo>
                  <a:lnTo>
                    <a:pt x="718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8"/>
                  </a:lnTo>
                  <a:lnTo>
                    <a:pt x="646" y="1240"/>
                  </a:lnTo>
                  <a:lnTo>
                    <a:pt x="647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8" y="1185"/>
                  </a:lnTo>
                  <a:lnTo>
                    <a:pt x="665" y="1172"/>
                  </a:lnTo>
                  <a:lnTo>
                    <a:pt x="671" y="1161"/>
                  </a:lnTo>
                  <a:lnTo>
                    <a:pt x="671" y="1147"/>
                  </a:lnTo>
                  <a:lnTo>
                    <a:pt x="671" y="1134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5"/>
                  </a:lnTo>
                  <a:lnTo>
                    <a:pt x="670" y="1044"/>
                  </a:lnTo>
                  <a:lnTo>
                    <a:pt x="670" y="1029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1" y="959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8"/>
                  </a:lnTo>
                  <a:lnTo>
                    <a:pt x="537" y="1036"/>
                  </a:lnTo>
                  <a:lnTo>
                    <a:pt x="508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29" y="1089"/>
                  </a:lnTo>
                  <a:lnTo>
                    <a:pt x="406" y="1097"/>
                  </a:lnTo>
                  <a:lnTo>
                    <a:pt x="383" y="1183"/>
                  </a:lnTo>
                  <a:lnTo>
                    <a:pt x="382" y="1207"/>
                  </a:lnTo>
                  <a:lnTo>
                    <a:pt x="378" y="1233"/>
                  </a:lnTo>
                  <a:lnTo>
                    <a:pt x="374" y="1252"/>
                  </a:lnTo>
                  <a:lnTo>
                    <a:pt x="369" y="1273"/>
                  </a:lnTo>
                  <a:lnTo>
                    <a:pt x="361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2" y="1360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7" y="1399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1"/>
                  </a:lnTo>
                  <a:lnTo>
                    <a:pt x="170" y="1394"/>
                  </a:lnTo>
                  <a:lnTo>
                    <a:pt x="154" y="1382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5" y="1343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5"/>
                  </a:lnTo>
                  <a:lnTo>
                    <a:pt x="89" y="1186"/>
                  </a:lnTo>
                  <a:lnTo>
                    <a:pt x="104" y="1159"/>
                  </a:lnTo>
                  <a:lnTo>
                    <a:pt x="110" y="1124"/>
                  </a:lnTo>
                  <a:lnTo>
                    <a:pt x="121" y="1110"/>
                  </a:lnTo>
                  <a:lnTo>
                    <a:pt x="117" y="1089"/>
                  </a:lnTo>
                  <a:lnTo>
                    <a:pt x="113" y="1071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89" y="979"/>
                  </a:lnTo>
                  <a:lnTo>
                    <a:pt x="83" y="976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7" y="961"/>
                  </a:lnTo>
                  <a:lnTo>
                    <a:pt x="55" y="959"/>
                  </a:lnTo>
                  <a:lnTo>
                    <a:pt x="45" y="953"/>
                  </a:lnTo>
                  <a:lnTo>
                    <a:pt x="36" y="945"/>
                  </a:lnTo>
                  <a:lnTo>
                    <a:pt x="29" y="932"/>
                  </a:lnTo>
                  <a:lnTo>
                    <a:pt x="22" y="922"/>
                  </a:lnTo>
                  <a:lnTo>
                    <a:pt x="18" y="909"/>
                  </a:lnTo>
                  <a:lnTo>
                    <a:pt x="10" y="905"/>
                  </a:lnTo>
                  <a:lnTo>
                    <a:pt x="2" y="832"/>
                  </a:lnTo>
                  <a:lnTo>
                    <a:pt x="9" y="830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4"/>
                  </a:lnTo>
                  <a:lnTo>
                    <a:pt x="9" y="755"/>
                  </a:lnTo>
                  <a:lnTo>
                    <a:pt x="15" y="748"/>
                  </a:lnTo>
                  <a:lnTo>
                    <a:pt x="18" y="735"/>
                  </a:lnTo>
                  <a:lnTo>
                    <a:pt x="20" y="727"/>
                  </a:lnTo>
                  <a:lnTo>
                    <a:pt x="23" y="720"/>
                  </a:lnTo>
                  <a:lnTo>
                    <a:pt x="44" y="714"/>
                  </a:lnTo>
                  <a:lnTo>
                    <a:pt x="36" y="700"/>
                  </a:lnTo>
                  <a:lnTo>
                    <a:pt x="42" y="677"/>
                  </a:lnTo>
                  <a:lnTo>
                    <a:pt x="44" y="670"/>
                  </a:lnTo>
                  <a:lnTo>
                    <a:pt x="45" y="667"/>
                  </a:lnTo>
                  <a:lnTo>
                    <a:pt x="52" y="667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7"/>
                  </a:lnTo>
                  <a:lnTo>
                    <a:pt x="86" y="667"/>
                  </a:lnTo>
                  <a:lnTo>
                    <a:pt x="89" y="670"/>
                  </a:lnTo>
                  <a:lnTo>
                    <a:pt x="91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1" y="707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0" y="706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3" y="691"/>
                  </a:lnTo>
                  <a:lnTo>
                    <a:pt x="128" y="694"/>
                  </a:lnTo>
                  <a:lnTo>
                    <a:pt x="124" y="672"/>
                  </a:lnTo>
                  <a:lnTo>
                    <a:pt x="118" y="651"/>
                  </a:lnTo>
                  <a:lnTo>
                    <a:pt x="152" y="511"/>
                  </a:lnTo>
                  <a:lnTo>
                    <a:pt x="159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8" y="423"/>
                  </a:lnTo>
                  <a:lnTo>
                    <a:pt x="165" y="401"/>
                  </a:lnTo>
                  <a:lnTo>
                    <a:pt x="167" y="381"/>
                  </a:lnTo>
                  <a:lnTo>
                    <a:pt x="174" y="357"/>
                  </a:lnTo>
                  <a:lnTo>
                    <a:pt x="191" y="328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4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2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4"/>
                  </a:lnTo>
                  <a:lnTo>
                    <a:pt x="364" y="151"/>
                  </a:lnTo>
                  <a:lnTo>
                    <a:pt x="364" y="126"/>
                  </a:lnTo>
                  <a:lnTo>
                    <a:pt x="369" y="100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0" y="21"/>
                  </a:lnTo>
                  <a:lnTo>
                    <a:pt x="466" y="11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1" y="4"/>
                  </a:lnTo>
                  <a:lnTo>
                    <a:pt x="578" y="9"/>
                  </a:lnTo>
                  <a:lnTo>
                    <a:pt x="592" y="17"/>
                  </a:lnTo>
                  <a:lnTo>
                    <a:pt x="608" y="32"/>
                  </a:lnTo>
                  <a:lnTo>
                    <a:pt x="620" y="50"/>
                  </a:lnTo>
                  <a:lnTo>
                    <a:pt x="639" y="87"/>
                  </a:lnTo>
                  <a:lnTo>
                    <a:pt x="658" y="131"/>
                  </a:lnTo>
                  <a:lnTo>
                    <a:pt x="668" y="142"/>
                  </a:lnTo>
                  <a:lnTo>
                    <a:pt x="671" y="151"/>
                  </a:lnTo>
                  <a:lnTo>
                    <a:pt x="670" y="158"/>
                  </a:lnTo>
                  <a:lnTo>
                    <a:pt x="660" y="166"/>
                  </a:lnTo>
                  <a:lnTo>
                    <a:pt x="633" y="174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6"/>
                  </a:lnTo>
                  <a:lnTo>
                    <a:pt x="788" y="438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2"/>
                  </a:lnTo>
                  <a:lnTo>
                    <a:pt x="784" y="467"/>
                  </a:lnTo>
                  <a:lnTo>
                    <a:pt x="788" y="475"/>
                  </a:lnTo>
                  <a:lnTo>
                    <a:pt x="794" y="485"/>
                  </a:lnTo>
                  <a:lnTo>
                    <a:pt x="809" y="494"/>
                  </a:lnTo>
                  <a:lnTo>
                    <a:pt x="820" y="502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8" y="506"/>
                  </a:lnTo>
                  <a:lnTo>
                    <a:pt x="904" y="502"/>
                  </a:lnTo>
                  <a:lnTo>
                    <a:pt x="915" y="497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1" y="368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7" y="338"/>
                  </a:lnTo>
                  <a:lnTo>
                    <a:pt x="1208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6" y="627"/>
                  </a:lnTo>
                  <a:lnTo>
                    <a:pt x="971" y="646"/>
                  </a:lnTo>
                  <a:lnTo>
                    <a:pt x="945" y="664"/>
                  </a:lnTo>
                  <a:lnTo>
                    <a:pt x="912" y="678"/>
                  </a:lnTo>
                  <a:lnTo>
                    <a:pt x="890" y="682"/>
                  </a:lnTo>
                  <a:lnTo>
                    <a:pt x="871" y="683"/>
                  </a:lnTo>
                  <a:close/>
                  <a:moveTo>
                    <a:pt x="126" y="715"/>
                  </a:moveTo>
                  <a:lnTo>
                    <a:pt x="117" y="723"/>
                  </a:lnTo>
                  <a:lnTo>
                    <a:pt x="121" y="729"/>
                  </a:lnTo>
                  <a:lnTo>
                    <a:pt x="124" y="736"/>
                  </a:lnTo>
                  <a:lnTo>
                    <a:pt x="126" y="729"/>
                  </a:lnTo>
                  <a:lnTo>
                    <a:pt x="128" y="722"/>
                  </a:lnTo>
                  <a:lnTo>
                    <a:pt x="126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98880" y="2543040"/>
              <a:ext cx="38268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3"/>
                  </a:moveTo>
                  <a:lnTo>
                    <a:pt x="873" y="738"/>
                  </a:lnTo>
                  <a:lnTo>
                    <a:pt x="873" y="803"/>
                  </a:lnTo>
                  <a:lnTo>
                    <a:pt x="867" y="877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2" y="1071"/>
                  </a:lnTo>
                  <a:lnTo>
                    <a:pt x="809" y="1079"/>
                  </a:lnTo>
                  <a:lnTo>
                    <a:pt x="794" y="1091"/>
                  </a:lnTo>
                  <a:lnTo>
                    <a:pt x="784" y="1142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1"/>
                  </a:lnTo>
                  <a:lnTo>
                    <a:pt x="793" y="1191"/>
                  </a:lnTo>
                  <a:lnTo>
                    <a:pt x="800" y="1199"/>
                  </a:lnTo>
                  <a:lnTo>
                    <a:pt x="805" y="1213"/>
                  </a:lnTo>
                  <a:lnTo>
                    <a:pt x="817" y="1218"/>
                  </a:lnTo>
                  <a:lnTo>
                    <a:pt x="822" y="1223"/>
                  </a:lnTo>
                  <a:lnTo>
                    <a:pt x="828" y="1233"/>
                  </a:lnTo>
                  <a:lnTo>
                    <a:pt x="833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0" y="1276"/>
                  </a:lnTo>
                  <a:lnTo>
                    <a:pt x="899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6" y="1314"/>
                  </a:lnTo>
                  <a:lnTo>
                    <a:pt x="864" y="1317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9"/>
                  </a:lnTo>
                  <a:lnTo>
                    <a:pt x="738" y="1286"/>
                  </a:lnTo>
                  <a:lnTo>
                    <a:pt x="718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8"/>
                  </a:lnTo>
                  <a:lnTo>
                    <a:pt x="646" y="1240"/>
                  </a:lnTo>
                  <a:lnTo>
                    <a:pt x="647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8" y="1185"/>
                  </a:lnTo>
                  <a:lnTo>
                    <a:pt x="665" y="1172"/>
                  </a:lnTo>
                  <a:lnTo>
                    <a:pt x="671" y="1161"/>
                  </a:lnTo>
                  <a:lnTo>
                    <a:pt x="671" y="1147"/>
                  </a:lnTo>
                  <a:lnTo>
                    <a:pt x="671" y="1134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5"/>
                  </a:lnTo>
                  <a:lnTo>
                    <a:pt x="670" y="1044"/>
                  </a:lnTo>
                  <a:lnTo>
                    <a:pt x="670" y="1029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1" y="959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8"/>
                  </a:lnTo>
                  <a:lnTo>
                    <a:pt x="537" y="1036"/>
                  </a:lnTo>
                  <a:lnTo>
                    <a:pt x="508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29" y="1089"/>
                  </a:lnTo>
                  <a:lnTo>
                    <a:pt x="406" y="1097"/>
                  </a:lnTo>
                  <a:lnTo>
                    <a:pt x="383" y="1183"/>
                  </a:lnTo>
                  <a:lnTo>
                    <a:pt x="382" y="1207"/>
                  </a:lnTo>
                  <a:lnTo>
                    <a:pt x="378" y="1233"/>
                  </a:lnTo>
                  <a:lnTo>
                    <a:pt x="374" y="1252"/>
                  </a:lnTo>
                  <a:lnTo>
                    <a:pt x="369" y="1273"/>
                  </a:lnTo>
                  <a:lnTo>
                    <a:pt x="361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2" y="1360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7" y="1399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1"/>
                  </a:lnTo>
                  <a:lnTo>
                    <a:pt x="170" y="1394"/>
                  </a:lnTo>
                  <a:lnTo>
                    <a:pt x="154" y="1382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5" y="1343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5"/>
                  </a:lnTo>
                  <a:lnTo>
                    <a:pt x="89" y="1186"/>
                  </a:lnTo>
                  <a:lnTo>
                    <a:pt x="104" y="1159"/>
                  </a:lnTo>
                  <a:lnTo>
                    <a:pt x="110" y="1124"/>
                  </a:lnTo>
                  <a:lnTo>
                    <a:pt x="121" y="1110"/>
                  </a:lnTo>
                  <a:lnTo>
                    <a:pt x="117" y="1089"/>
                  </a:lnTo>
                  <a:lnTo>
                    <a:pt x="113" y="1071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89" y="979"/>
                  </a:lnTo>
                  <a:lnTo>
                    <a:pt x="83" y="976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7" y="961"/>
                  </a:lnTo>
                  <a:lnTo>
                    <a:pt x="55" y="959"/>
                  </a:lnTo>
                  <a:lnTo>
                    <a:pt x="45" y="953"/>
                  </a:lnTo>
                  <a:lnTo>
                    <a:pt x="36" y="945"/>
                  </a:lnTo>
                  <a:lnTo>
                    <a:pt x="29" y="932"/>
                  </a:lnTo>
                  <a:lnTo>
                    <a:pt x="22" y="922"/>
                  </a:lnTo>
                  <a:lnTo>
                    <a:pt x="18" y="909"/>
                  </a:lnTo>
                  <a:lnTo>
                    <a:pt x="10" y="905"/>
                  </a:lnTo>
                  <a:lnTo>
                    <a:pt x="2" y="832"/>
                  </a:lnTo>
                  <a:lnTo>
                    <a:pt x="9" y="830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4"/>
                  </a:lnTo>
                  <a:lnTo>
                    <a:pt x="9" y="755"/>
                  </a:lnTo>
                  <a:lnTo>
                    <a:pt x="15" y="748"/>
                  </a:lnTo>
                  <a:lnTo>
                    <a:pt x="18" y="735"/>
                  </a:lnTo>
                  <a:lnTo>
                    <a:pt x="20" y="727"/>
                  </a:lnTo>
                  <a:lnTo>
                    <a:pt x="23" y="720"/>
                  </a:lnTo>
                  <a:lnTo>
                    <a:pt x="44" y="714"/>
                  </a:lnTo>
                  <a:lnTo>
                    <a:pt x="36" y="700"/>
                  </a:lnTo>
                  <a:lnTo>
                    <a:pt x="42" y="677"/>
                  </a:lnTo>
                  <a:lnTo>
                    <a:pt x="44" y="670"/>
                  </a:lnTo>
                  <a:lnTo>
                    <a:pt x="45" y="667"/>
                  </a:lnTo>
                  <a:lnTo>
                    <a:pt x="52" y="667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7"/>
                  </a:lnTo>
                  <a:lnTo>
                    <a:pt x="86" y="667"/>
                  </a:lnTo>
                  <a:lnTo>
                    <a:pt x="89" y="670"/>
                  </a:lnTo>
                  <a:lnTo>
                    <a:pt x="91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1" y="707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0" y="706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3" y="691"/>
                  </a:lnTo>
                  <a:lnTo>
                    <a:pt x="128" y="694"/>
                  </a:lnTo>
                  <a:lnTo>
                    <a:pt x="124" y="672"/>
                  </a:lnTo>
                  <a:lnTo>
                    <a:pt x="118" y="651"/>
                  </a:lnTo>
                  <a:lnTo>
                    <a:pt x="152" y="511"/>
                  </a:lnTo>
                  <a:lnTo>
                    <a:pt x="159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8" y="423"/>
                  </a:lnTo>
                  <a:lnTo>
                    <a:pt x="165" y="401"/>
                  </a:lnTo>
                  <a:lnTo>
                    <a:pt x="167" y="381"/>
                  </a:lnTo>
                  <a:lnTo>
                    <a:pt x="174" y="357"/>
                  </a:lnTo>
                  <a:lnTo>
                    <a:pt x="191" y="328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4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2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4"/>
                  </a:lnTo>
                  <a:lnTo>
                    <a:pt x="364" y="151"/>
                  </a:lnTo>
                  <a:lnTo>
                    <a:pt x="364" y="126"/>
                  </a:lnTo>
                  <a:lnTo>
                    <a:pt x="369" y="100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0" y="21"/>
                  </a:lnTo>
                  <a:lnTo>
                    <a:pt x="466" y="11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1" y="4"/>
                  </a:lnTo>
                  <a:lnTo>
                    <a:pt x="578" y="9"/>
                  </a:lnTo>
                  <a:lnTo>
                    <a:pt x="592" y="17"/>
                  </a:lnTo>
                  <a:lnTo>
                    <a:pt x="608" y="32"/>
                  </a:lnTo>
                  <a:lnTo>
                    <a:pt x="620" y="50"/>
                  </a:lnTo>
                  <a:lnTo>
                    <a:pt x="639" y="87"/>
                  </a:lnTo>
                  <a:lnTo>
                    <a:pt x="658" y="131"/>
                  </a:lnTo>
                  <a:lnTo>
                    <a:pt x="668" y="142"/>
                  </a:lnTo>
                  <a:lnTo>
                    <a:pt x="671" y="151"/>
                  </a:lnTo>
                  <a:lnTo>
                    <a:pt x="670" y="158"/>
                  </a:lnTo>
                  <a:lnTo>
                    <a:pt x="660" y="166"/>
                  </a:lnTo>
                  <a:lnTo>
                    <a:pt x="633" y="174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6"/>
                  </a:lnTo>
                  <a:lnTo>
                    <a:pt x="788" y="438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2"/>
                  </a:lnTo>
                  <a:lnTo>
                    <a:pt x="784" y="467"/>
                  </a:lnTo>
                  <a:lnTo>
                    <a:pt x="788" y="475"/>
                  </a:lnTo>
                  <a:lnTo>
                    <a:pt x="794" y="485"/>
                  </a:lnTo>
                  <a:lnTo>
                    <a:pt x="809" y="494"/>
                  </a:lnTo>
                  <a:lnTo>
                    <a:pt x="820" y="502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8" y="506"/>
                  </a:lnTo>
                  <a:lnTo>
                    <a:pt x="904" y="502"/>
                  </a:lnTo>
                  <a:lnTo>
                    <a:pt x="915" y="497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1" y="368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7" y="338"/>
                  </a:lnTo>
                  <a:lnTo>
                    <a:pt x="1208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6" y="627"/>
                  </a:lnTo>
                  <a:lnTo>
                    <a:pt x="971" y="646"/>
                  </a:lnTo>
                  <a:lnTo>
                    <a:pt x="945" y="664"/>
                  </a:lnTo>
                  <a:lnTo>
                    <a:pt x="912" y="678"/>
                  </a:lnTo>
                  <a:lnTo>
                    <a:pt x="890" y="682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10200" y="260496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0"/>
                  </a:moveTo>
                  <a:lnTo>
                    <a:pt x="654" y="125"/>
                  </a:lnTo>
                  <a:lnTo>
                    <a:pt x="557" y="128"/>
                  </a:lnTo>
                  <a:lnTo>
                    <a:pt x="552" y="134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4"/>
                  </a:lnTo>
                  <a:lnTo>
                    <a:pt x="379" y="144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90" y="192"/>
                  </a:lnTo>
                  <a:lnTo>
                    <a:pt x="190" y="178"/>
                  </a:lnTo>
                  <a:lnTo>
                    <a:pt x="188" y="173"/>
                  </a:lnTo>
                  <a:lnTo>
                    <a:pt x="185" y="168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9" y="180"/>
                  </a:lnTo>
                  <a:lnTo>
                    <a:pt x="160" y="187"/>
                  </a:lnTo>
                  <a:lnTo>
                    <a:pt x="160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6" y="200"/>
                  </a:lnTo>
                  <a:lnTo>
                    <a:pt x="188" y="196"/>
                  </a:lnTo>
                  <a:lnTo>
                    <a:pt x="190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7"/>
                  </a:lnTo>
                  <a:lnTo>
                    <a:pt x="80" y="27"/>
                  </a:lnTo>
                  <a:lnTo>
                    <a:pt x="83" y="15"/>
                  </a:lnTo>
                  <a:lnTo>
                    <a:pt x="91" y="7"/>
                  </a:lnTo>
                  <a:lnTo>
                    <a:pt x="101" y="5"/>
                  </a:lnTo>
                  <a:lnTo>
                    <a:pt x="274" y="20"/>
                  </a:lnTo>
                  <a:lnTo>
                    <a:pt x="282" y="24"/>
                  </a:lnTo>
                  <a:lnTo>
                    <a:pt x="288" y="29"/>
                  </a:lnTo>
                  <a:lnTo>
                    <a:pt x="292" y="36"/>
                  </a:lnTo>
                  <a:lnTo>
                    <a:pt x="292" y="45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80" y="51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5" y="34"/>
                  </a:lnTo>
                  <a:lnTo>
                    <a:pt x="131" y="42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31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4" y="57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8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1"/>
                  </a:lnTo>
                  <a:lnTo>
                    <a:pt x="707" y="21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3" y="58"/>
                  </a:lnTo>
                  <a:lnTo>
                    <a:pt x="674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8" y="3"/>
                  </a:lnTo>
                  <a:lnTo>
                    <a:pt x="733" y="8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3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0"/>
                  </a:lnTo>
                  <a:lnTo>
                    <a:pt x="720" y="100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8" y="113"/>
                  </a:lnTo>
                  <a:lnTo>
                    <a:pt x="668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210200" y="260496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0"/>
                  </a:moveTo>
                  <a:lnTo>
                    <a:pt x="654" y="125"/>
                  </a:lnTo>
                  <a:lnTo>
                    <a:pt x="557" y="128"/>
                  </a:lnTo>
                  <a:lnTo>
                    <a:pt x="552" y="134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4"/>
                  </a:lnTo>
                  <a:lnTo>
                    <a:pt x="379" y="144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90" y="192"/>
                  </a:lnTo>
                  <a:lnTo>
                    <a:pt x="190" y="178"/>
                  </a:lnTo>
                  <a:lnTo>
                    <a:pt x="188" y="173"/>
                  </a:lnTo>
                  <a:lnTo>
                    <a:pt x="185" y="168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9" y="180"/>
                  </a:lnTo>
                  <a:lnTo>
                    <a:pt x="160" y="187"/>
                  </a:lnTo>
                  <a:lnTo>
                    <a:pt x="160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6" y="200"/>
                  </a:lnTo>
                  <a:lnTo>
                    <a:pt x="188" y="196"/>
                  </a:lnTo>
                  <a:lnTo>
                    <a:pt x="190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7"/>
                  </a:lnTo>
                  <a:lnTo>
                    <a:pt x="80" y="27"/>
                  </a:lnTo>
                  <a:lnTo>
                    <a:pt x="83" y="15"/>
                  </a:lnTo>
                  <a:lnTo>
                    <a:pt x="91" y="7"/>
                  </a:lnTo>
                  <a:lnTo>
                    <a:pt x="101" y="5"/>
                  </a:lnTo>
                  <a:lnTo>
                    <a:pt x="274" y="20"/>
                  </a:lnTo>
                  <a:lnTo>
                    <a:pt x="282" y="24"/>
                  </a:lnTo>
                  <a:lnTo>
                    <a:pt x="288" y="29"/>
                  </a:lnTo>
                  <a:lnTo>
                    <a:pt x="292" y="36"/>
                  </a:lnTo>
                  <a:lnTo>
                    <a:pt x="292" y="45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80" y="51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5" y="34"/>
                  </a:lnTo>
                  <a:lnTo>
                    <a:pt x="131" y="42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31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4" y="57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8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1"/>
                  </a:lnTo>
                  <a:lnTo>
                    <a:pt x="707" y="21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3" y="58"/>
                  </a:lnTo>
                  <a:lnTo>
                    <a:pt x="674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8" y="3"/>
                  </a:lnTo>
                  <a:lnTo>
                    <a:pt x="733" y="8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3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0"/>
                  </a:lnTo>
                  <a:lnTo>
                    <a:pt x="720" y="100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8" y="113"/>
                  </a:lnTo>
                  <a:lnTo>
                    <a:pt x="668" y="13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257720" y="255276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82920" y="2082960"/>
              <a:ext cx="384480" cy="4460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0"/>
                  </a:moveTo>
                  <a:lnTo>
                    <a:pt x="662" y="674"/>
                  </a:lnTo>
                  <a:lnTo>
                    <a:pt x="681" y="661"/>
                  </a:lnTo>
                  <a:lnTo>
                    <a:pt x="702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5" y="602"/>
                  </a:lnTo>
                  <a:lnTo>
                    <a:pt x="644" y="587"/>
                  </a:lnTo>
                  <a:lnTo>
                    <a:pt x="647" y="613"/>
                  </a:lnTo>
                  <a:lnTo>
                    <a:pt x="643" y="637"/>
                  </a:lnTo>
                  <a:lnTo>
                    <a:pt x="639" y="690"/>
                  </a:lnTo>
                  <a:close/>
                  <a:moveTo>
                    <a:pt x="871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6" y="1091"/>
                  </a:lnTo>
                  <a:lnTo>
                    <a:pt x="785" y="1142"/>
                  </a:lnTo>
                  <a:lnTo>
                    <a:pt x="785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3" y="1190"/>
                  </a:lnTo>
                  <a:lnTo>
                    <a:pt x="801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5" y="1241"/>
                  </a:lnTo>
                  <a:lnTo>
                    <a:pt x="840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899" y="1284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1" y="1269"/>
                  </a:lnTo>
                  <a:lnTo>
                    <a:pt x="665" y="1263"/>
                  </a:lnTo>
                  <a:lnTo>
                    <a:pt x="651" y="1257"/>
                  </a:lnTo>
                  <a:lnTo>
                    <a:pt x="647" y="1240"/>
                  </a:lnTo>
                  <a:lnTo>
                    <a:pt x="649" y="1225"/>
                  </a:lnTo>
                  <a:lnTo>
                    <a:pt x="651" y="1211"/>
                  </a:lnTo>
                  <a:lnTo>
                    <a:pt x="654" y="1198"/>
                  </a:lnTo>
                  <a:lnTo>
                    <a:pt x="660" y="1185"/>
                  </a:lnTo>
                  <a:lnTo>
                    <a:pt x="665" y="1172"/>
                  </a:lnTo>
                  <a:lnTo>
                    <a:pt x="673" y="1161"/>
                  </a:lnTo>
                  <a:lnTo>
                    <a:pt x="673" y="1148"/>
                  </a:lnTo>
                  <a:lnTo>
                    <a:pt x="673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6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3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9" y="1036"/>
                  </a:lnTo>
                  <a:lnTo>
                    <a:pt x="510" y="1052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1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2" y="1206"/>
                  </a:lnTo>
                  <a:lnTo>
                    <a:pt x="379" y="1232"/>
                  </a:lnTo>
                  <a:lnTo>
                    <a:pt x="376" y="1252"/>
                  </a:lnTo>
                  <a:lnTo>
                    <a:pt x="369" y="1273"/>
                  </a:lnTo>
                  <a:lnTo>
                    <a:pt x="363" y="1293"/>
                  </a:lnTo>
                  <a:lnTo>
                    <a:pt x="351" y="1314"/>
                  </a:lnTo>
                  <a:lnTo>
                    <a:pt x="340" y="1331"/>
                  </a:lnTo>
                  <a:lnTo>
                    <a:pt x="327" y="1346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300" y="1388"/>
                  </a:lnTo>
                  <a:lnTo>
                    <a:pt x="277" y="1398"/>
                  </a:lnTo>
                  <a:lnTo>
                    <a:pt x="246" y="1407"/>
                  </a:lnTo>
                  <a:lnTo>
                    <a:pt x="219" y="1407"/>
                  </a:lnTo>
                  <a:lnTo>
                    <a:pt x="191" y="1402"/>
                  </a:lnTo>
                  <a:lnTo>
                    <a:pt x="172" y="1393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1" y="1366"/>
                  </a:lnTo>
                  <a:lnTo>
                    <a:pt x="117" y="1342"/>
                  </a:lnTo>
                  <a:lnTo>
                    <a:pt x="107" y="1314"/>
                  </a:lnTo>
                  <a:lnTo>
                    <a:pt x="99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1" y="1186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8" y="1026"/>
                  </a:lnTo>
                  <a:lnTo>
                    <a:pt x="114" y="980"/>
                  </a:lnTo>
                  <a:lnTo>
                    <a:pt x="101" y="982"/>
                  </a:lnTo>
                  <a:lnTo>
                    <a:pt x="91" y="978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6" y="959"/>
                  </a:lnTo>
                  <a:lnTo>
                    <a:pt x="67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8"/>
                  </a:lnTo>
                  <a:lnTo>
                    <a:pt x="12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9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5" y="720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1" y="671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0"/>
                  </a:lnTo>
                  <a:lnTo>
                    <a:pt x="94" y="715"/>
                  </a:lnTo>
                  <a:lnTo>
                    <a:pt x="101" y="715"/>
                  </a:lnTo>
                  <a:lnTo>
                    <a:pt x="107" y="710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5" y="673"/>
                  </a:lnTo>
                  <a:lnTo>
                    <a:pt x="120" y="650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5" y="356"/>
                  </a:lnTo>
                  <a:lnTo>
                    <a:pt x="191" y="327"/>
                  </a:lnTo>
                  <a:lnTo>
                    <a:pt x="207" y="303"/>
                  </a:lnTo>
                  <a:lnTo>
                    <a:pt x="232" y="281"/>
                  </a:lnTo>
                  <a:lnTo>
                    <a:pt x="256" y="267"/>
                  </a:lnTo>
                  <a:lnTo>
                    <a:pt x="270" y="251"/>
                  </a:lnTo>
                  <a:lnTo>
                    <a:pt x="285" y="243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6" y="200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69" y="99"/>
                  </a:lnTo>
                  <a:lnTo>
                    <a:pt x="379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2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4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60" y="131"/>
                  </a:lnTo>
                  <a:lnTo>
                    <a:pt x="668" y="141"/>
                  </a:lnTo>
                  <a:lnTo>
                    <a:pt x="673" y="151"/>
                  </a:lnTo>
                  <a:lnTo>
                    <a:pt x="670" y="158"/>
                  </a:lnTo>
                  <a:lnTo>
                    <a:pt x="662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1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6"/>
                  </a:lnTo>
                  <a:lnTo>
                    <a:pt x="788" y="474"/>
                  </a:lnTo>
                  <a:lnTo>
                    <a:pt x="796" y="485"/>
                  </a:lnTo>
                  <a:lnTo>
                    <a:pt x="810" y="493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7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9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4" y="456"/>
                  </a:lnTo>
                  <a:lnTo>
                    <a:pt x="1017" y="568"/>
                  </a:lnTo>
                  <a:lnTo>
                    <a:pt x="998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3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2" y="729"/>
                  </a:lnTo>
                  <a:lnTo>
                    <a:pt x="125" y="735"/>
                  </a:lnTo>
                  <a:lnTo>
                    <a:pt x="127" y="729"/>
                  </a:lnTo>
                  <a:lnTo>
                    <a:pt x="128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282920" y="2082960"/>
              <a:ext cx="384480" cy="4460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6" y="1091"/>
                  </a:lnTo>
                  <a:lnTo>
                    <a:pt x="785" y="1142"/>
                  </a:lnTo>
                  <a:lnTo>
                    <a:pt x="785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3" y="1190"/>
                  </a:lnTo>
                  <a:lnTo>
                    <a:pt x="801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5" y="1241"/>
                  </a:lnTo>
                  <a:lnTo>
                    <a:pt x="840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899" y="1284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1" y="1269"/>
                  </a:lnTo>
                  <a:lnTo>
                    <a:pt x="665" y="1263"/>
                  </a:lnTo>
                  <a:lnTo>
                    <a:pt x="651" y="1257"/>
                  </a:lnTo>
                  <a:lnTo>
                    <a:pt x="647" y="1240"/>
                  </a:lnTo>
                  <a:lnTo>
                    <a:pt x="649" y="1225"/>
                  </a:lnTo>
                  <a:lnTo>
                    <a:pt x="651" y="1211"/>
                  </a:lnTo>
                  <a:lnTo>
                    <a:pt x="654" y="1198"/>
                  </a:lnTo>
                  <a:lnTo>
                    <a:pt x="660" y="1185"/>
                  </a:lnTo>
                  <a:lnTo>
                    <a:pt x="665" y="1172"/>
                  </a:lnTo>
                  <a:lnTo>
                    <a:pt x="673" y="1161"/>
                  </a:lnTo>
                  <a:lnTo>
                    <a:pt x="673" y="1148"/>
                  </a:lnTo>
                  <a:lnTo>
                    <a:pt x="673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6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3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9" y="1036"/>
                  </a:lnTo>
                  <a:lnTo>
                    <a:pt x="510" y="1052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1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2" y="1206"/>
                  </a:lnTo>
                  <a:lnTo>
                    <a:pt x="379" y="1232"/>
                  </a:lnTo>
                  <a:lnTo>
                    <a:pt x="376" y="1252"/>
                  </a:lnTo>
                  <a:lnTo>
                    <a:pt x="369" y="1273"/>
                  </a:lnTo>
                  <a:lnTo>
                    <a:pt x="363" y="1293"/>
                  </a:lnTo>
                  <a:lnTo>
                    <a:pt x="351" y="1314"/>
                  </a:lnTo>
                  <a:lnTo>
                    <a:pt x="340" y="1331"/>
                  </a:lnTo>
                  <a:lnTo>
                    <a:pt x="327" y="1346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300" y="1388"/>
                  </a:lnTo>
                  <a:lnTo>
                    <a:pt x="277" y="1398"/>
                  </a:lnTo>
                  <a:lnTo>
                    <a:pt x="246" y="1407"/>
                  </a:lnTo>
                  <a:lnTo>
                    <a:pt x="219" y="1407"/>
                  </a:lnTo>
                  <a:lnTo>
                    <a:pt x="191" y="1402"/>
                  </a:lnTo>
                  <a:lnTo>
                    <a:pt x="172" y="1393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1" y="1366"/>
                  </a:lnTo>
                  <a:lnTo>
                    <a:pt x="117" y="1342"/>
                  </a:lnTo>
                  <a:lnTo>
                    <a:pt x="107" y="1314"/>
                  </a:lnTo>
                  <a:lnTo>
                    <a:pt x="99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1" y="1186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8" y="1026"/>
                  </a:lnTo>
                  <a:lnTo>
                    <a:pt x="114" y="980"/>
                  </a:lnTo>
                  <a:lnTo>
                    <a:pt x="101" y="982"/>
                  </a:lnTo>
                  <a:lnTo>
                    <a:pt x="91" y="978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6" y="959"/>
                  </a:lnTo>
                  <a:lnTo>
                    <a:pt x="67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8"/>
                  </a:lnTo>
                  <a:lnTo>
                    <a:pt x="12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9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5" y="720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1" y="671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0"/>
                  </a:lnTo>
                  <a:lnTo>
                    <a:pt x="94" y="715"/>
                  </a:lnTo>
                  <a:lnTo>
                    <a:pt x="101" y="715"/>
                  </a:lnTo>
                  <a:lnTo>
                    <a:pt x="107" y="710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5" y="673"/>
                  </a:lnTo>
                  <a:lnTo>
                    <a:pt x="120" y="650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5" y="356"/>
                  </a:lnTo>
                  <a:lnTo>
                    <a:pt x="191" y="327"/>
                  </a:lnTo>
                  <a:lnTo>
                    <a:pt x="207" y="303"/>
                  </a:lnTo>
                  <a:lnTo>
                    <a:pt x="232" y="281"/>
                  </a:lnTo>
                  <a:lnTo>
                    <a:pt x="256" y="267"/>
                  </a:lnTo>
                  <a:lnTo>
                    <a:pt x="270" y="251"/>
                  </a:lnTo>
                  <a:lnTo>
                    <a:pt x="285" y="243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6" y="200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69" y="99"/>
                  </a:lnTo>
                  <a:lnTo>
                    <a:pt x="379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2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4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60" y="131"/>
                  </a:lnTo>
                  <a:lnTo>
                    <a:pt x="668" y="141"/>
                  </a:lnTo>
                  <a:lnTo>
                    <a:pt x="673" y="151"/>
                  </a:lnTo>
                  <a:lnTo>
                    <a:pt x="670" y="158"/>
                  </a:lnTo>
                  <a:lnTo>
                    <a:pt x="662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1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6"/>
                  </a:lnTo>
                  <a:lnTo>
                    <a:pt x="788" y="474"/>
                  </a:lnTo>
                  <a:lnTo>
                    <a:pt x="796" y="485"/>
                  </a:lnTo>
                  <a:lnTo>
                    <a:pt x="810" y="493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7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9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4" y="456"/>
                  </a:lnTo>
                  <a:lnTo>
                    <a:pt x="1017" y="568"/>
                  </a:lnTo>
                  <a:lnTo>
                    <a:pt x="998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95680" y="214308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9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1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6" y="197"/>
                  </a:lnTo>
                  <a:lnTo>
                    <a:pt x="150" y="201"/>
                  </a:lnTo>
                  <a:lnTo>
                    <a:pt x="182" y="201"/>
                  </a:lnTo>
                  <a:lnTo>
                    <a:pt x="186" y="201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5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4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79" y="52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5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6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19" y="0"/>
                  </a:lnTo>
                  <a:lnTo>
                    <a:pt x="727" y="3"/>
                  </a:lnTo>
                  <a:lnTo>
                    <a:pt x="732" y="10"/>
                  </a:lnTo>
                  <a:lnTo>
                    <a:pt x="737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1" y="92"/>
                  </a:lnTo>
                  <a:lnTo>
                    <a:pt x="737" y="92"/>
                  </a:lnTo>
                  <a:lnTo>
                    <a:pt x="737" y="102"/>
                  </a:lnTo>
                  <a:lnTo>
                    <a:pt x="719" y="102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5"/>
                  </a:lnTo>
                  <a:lnTo>
                    <a:pt x="677" y="115"/>
                  </a:lnTo>
                  <a:lnTo>
                    <a:pt x="669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95680" y="214308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9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1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6" y="197"/>
                  </a:lnTo>
                  <a:lnTo>
                    <a:pt x="150" y="201"/>
                  </a:lnTo>
                  <a:lnTo>
                    <a:pt x="182" y="201"/>
                  </a:lnTo>
                  <a:lnTo>
                    <a:pt x="186" y="201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5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4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79" y="52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5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6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19" y="0"/>
                  </a:lnTo>
                  <a:lnTo>
                    <a:pt x="727" y="3"/>
                  </a:lnTo>
                  <a:lnTo>
                    <a:pt x="732" y="10"/>
                  </a:lnTo>
                  <a:lnTo>
                    <a:pt x="737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1" y="92"/>
                  </a:lnTo>
                  <a:lnTo>
                    <a:pt x="737" y="92"/>
                  </a:lnTo>
                  <a:lnTo>
                    <a:pt x="737" y="102"/>
                  </a:lnTo>
                  <a:lnTo>
                    <a:pt x="719" y="102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5"/>
                  </a:lnTo>
                  <a:lnTo>
                    <a:pt x="677" y="115"/>
                  </a:lnTo>
                  <a:lnTo>
                    <a:pt x="669" y="13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13320" y="3632040"/>
              <a:ext cx="360" cy="360"/>
            </a:xfrm>
            <a:prstGeom prst="rect">
              <a:avLst/>
            </a:prstGeom>
            <a:noFill/>
            <a:ln w="9360">
              <a:solidFill>
                <a:srgbClr val="605d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38520" y="3162240"/>
              <a:ext cx="38448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40" y="690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4" y="602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40" y="690"/>
                  </a:lnTo>
                  <a:close/>
                  <a:moveTo>
                    <a:pt x="871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7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1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8"/>
                  </a:lnTo>
                  <a:lnTo>
                    <a:pt x="278" y="1400"/>
                  </a:lnTo>
                  <a:lnTo>
                    <a:pt x="247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8" y="1026"/>
                  </a:lnTo>
                  <a:lnTo>
                    <a:pt x="114" y="980"/>
                  </a:lnTo>
                  <a:lnTo>
                    <a:pt x="102" y="983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2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1" y="158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40" y="220"/>
                  </a:lnTo>
                  <a:lnTo>
                    <a:pt x="640" y="237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3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1" y="729"/>
                  </a:lnTo>
                  <a:lnTo>
                    <a:pt x="125" y="736"/>
                  </a:lnTo>
                  <a:lnTo>
                    <a:pt x="127" y="729"/>
                  </a:lnTo>
                  <a:lnTo>
                    <a:pt x="129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38520" y="3162240"/>
              <a:ext cx="38448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7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1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8"/>
                  </a:lnTo>
                  <a:lnTo>
                    <a:pt x="278" y="1400"/>
                  </a:lnTo>
                  <a:lnTo>
                    <a:pt x="247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8" y="1026"/>
                  </a:lnTo>
                  <a:lnTo>
                    <a:pt x="114" y="980"/>
                  </a:lnTo>
                  <a:lnTo>
                    <a:pt x="102" y="983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2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1" y="158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40" y="220"/>
                  </a:lnTo>
                  <a:lnTo>
                    <a:pt x="640" y="237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51280" y="32227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1" y="135"/>
                  </a:lnTo>
                  <a:lnTo>
                    <a:pt x="657" y="138"/>
                  </a:lnTo>
                  <a:lnTo>
                    <a:pt x="650" y="141"/>
                  </a:lnTo>
                  <a:lnTo>
                    <a:pt x="539" y="141"/>
                  </a:lnTo>
                  <a:lnTo>
                    <a:pt x="410" y="146"/>
                  </a:lnTo>
                  <a:lnTo>
                    <a:pt x="379" y="146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59" y="188"/>
                  </a:lnTo>
                  <a:lnTo>
                    <a:pt x="159" y="193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1" y="25"/>
                  </a:lnTo>
                  <a:lnTo>
                    <a:pt x="288" y="30"/>
                  </a:lnTo>
                  <a:lnTo>
                    <a:pt x="292" y="37"/>
                  </a:lnTo>
                  <a:lnTo>
                    <a:pt x="292" y="46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1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6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59"/>
                  </a:lnTo>
                  <a:lnTo>
                    <a:pt x="136" y="60"/>
                  </a:lnTo>
                  <a:lnTo>
                    <a:pt x="269" y="60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59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3" y="57"/>
                  </a:lnTo>
                  <a:lnTo>
                    <a:pt x="712" y="4"/>
                  </a:lnTo>
                  <a:lnTo>
                    <a:pt x="720" y="0"/>
                  </a:lnTo>
                  <a:lnTo>
                    <a:pt x="727" y="4"/>
                  </a:lnTo>
                  <a:lnTo>
                    <a:pt x="733" y="10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0" y="98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8"/>
                  </a:lnTo>
                  <a:lnTo>
                    <a:pt x="688" y="98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51280" y="32227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1" y="135"/>
                  </a:lnTo>
                  <a:lnTo>
                    <a:pt x="657" y="138"/>
                  </a:lnTo>
                  <a:lnTo>
                    <a:pt x="650" y="141"/>
                  </a:lnTo>
                  <a:lnTo>
                    <a:pt x="539" y="141"/>
                  </a:lnTo>
                  <a:lnTo>
                    <a:pt x="410" y="146"/>
                  </a:lnTo>
                  <a:lnTo>
                    <a:pt x="379" y="146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59" y="188"/>
                  </a:lnTo>
                  <a:lnTo>
                    <a:pt x="159" y="193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1" y="25"/>
                  </a:lnTo>
                  <a:lnTo>
                    <a:pt x="288" y="30"/>
                  </a:lnTo>
                  <a:lnTo>
                    <a:pt x="292" y="37"/>
                  </a:lnTo>
                  <a:lnTo>
                    <a:pt x="292" y="46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1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6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59"/>
                  </a:lnTo>
                  <a:lnTo>
                    <a:pt x="136" y="60"/>
                  </a:lnTo>
                  <a:lnTo>
                    <a:pt x="269" y="60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59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3" y="57"/>
                  </a:lnTo>
                  <a:lnTo>
                    <a:pt x="712" y="4"/>
                  </a:lnTo>
                  <a:lnTo>
                    <a:pt x="720" y="0"/>
                  </a:lnTo>
                  <a:lnTo>
                    <a:pt x="727" y="4"/>
                  </a:lnTo>
                  <a:lnTo>
                    <a:pt x="733" y="10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0" y="98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8"/>
                  </a:lnTo>
                  <a:lnTo>
                    <a:pt x="688" y="98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70480" y="302724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2557440"/>
              <a:ext cx="38412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1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2" y="650"/>
                  </a:lnTo>
                  <a:lnTo>
                    <a:pt x="724" y="641"/>
                  </a:lnTo>
                  <a:lnTo>
                    <a:pt x="684" y="615"/>
                  </a:lnTo>
                  <a:lnTo>
                    <a:pt x="665" y="602"/>
                  </a:lnTo>
                  <a:lnTo>
                    <a:pt x="645" y="587"/>
                  </a:lnTo>
                  <a:lnTo>
                    <a:pt x="647" y="613"/>
                  </a:lnTo>
                  <a:lnTo>
                    <a:pt x="643" y="638"/>
                  </a:lnTo>
                  <a:lnTo>
                    <a:pt x="639" y="691"/>
                  </a:lnTo>
                  <a:close/>
                  <a:moveTo>
                    <a:pt x="872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1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2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4" y="1294"/>
                  </a:lnTo>
                  <a:lnTo>
                    <a:pt x="904" y="1310"/>
                  </a:lnTo>
                  <a:lnTo>
                    <a:pt x="888" y="1313"/>
                  </a:lnTo>
                  <a:lnTo>
                    <a:pt x="865" y="1317"/>
                  </a:lnTo>
                  <a:lnTo>
                    <a:pt x="831" y="1315"/>
                  </a:lnTo>
                  <a:lnTo>
                    <a:pt x="799" y="1310"/>
                  </a:lnTo>
                  <a:lnTo>
                    <a:pt x="765" y="1299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6"/>
                  </a:lnTo>
                  <a:lnTo>
                    <a:pt x="650" y="1210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3" y="1161"/>
                  </a:lnTo>
                  <a:lnTo>
                    <a:pt x="673" y="1148"/>
                  </a:lnTo>
                  <a:lnTo>
                    <a:pt x="673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9"/>
                  </a:lnTo>
                  <a:lnTo>
                    <a:pt x="666" y="1013"/>
                  </a:lnTo>
                  <a:lnTo>
                    <a:pt x="671" y="988"/>
                  </a:lnTo>
                  <a:lnTo>
                    <a:pt x="676" y="956"/>
                  </a:lnTo>
                  <a:lnTo>
                    <a:pt x="686" y="922"/>
                  </a:lnTo>
                  <a:lnTo>
                    <a:pt x="698" y="888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8"/>
                  </a:lnTo>
                  <a:lnTo>
                    <a:pt x="539" y="1036"/>
                  </a:lnTo>
                  <a:lnTo>
                    <a:pt x="509" y="1053"/>
                  </a:lnTo>
                  <a:lnTo>
                    <a:pt x="482" y="1069"/>
                  </a:lnTo>
                  <a:lnTo>
                    <a:pt x="456" y="1078"/>
                  </a:lnTo>
                  <a:lnTo>
                    <a:pt x="430" y="1090"/>
                  </a:lnTo>
                  <a:lnTo>
                    <a:pt x="406" y="1097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4"/>
                  </a:lnTo>
                  <a:lnTo>
                    <a:pt x="351" y="1315"/>
                  </a:lnTo>
                  <a:lnTo>
                    <a:pt x="340" y="1331"/>
                  </a:lnTo>
                  <a:lnTo>
                    <a:pt x="327" y="1345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299" y="1389"/>
                  </a:lnTo>
                  <a:lnTo>
                    <a:pt x="278" y="1399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1" y="1367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2" y="1109"/>
                  </a:lnTo>
                  <a:lnTo>
                    <a:pt x="118" y="1090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7" y="1027"/>
                  </a:lnTo>
                  <a:lnTo>
                    <a:pt x="114" y="980"/>
                  </a:lnTo>
                  <a:lnTo>
                    <a:pt x="102" y="983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8" y="966"/>
                  </a:lnTo>
                  <a:lnTo>
                    <a:pt x="76" y="959"/>
                  </a:lnTo>
                  <a:lnTo>
                    <a:pt x="67" y="961"/>
                  </a:lnTo>
                  <a:lnTo>
                    <a:pt x="55" y="959"/>
                  </a:lnTo>
                  <a:lnTo>
                    <a:pt x="47" y="953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6"/>
                  </a:lnTo>
                  <a:lnTo>
                    <a:pt x="2" y="832"/>
                  </a:lnTo>
                  <a:lnTo>
                    <a:pt x="10" y="830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4"/>
                  </a:lnTo>
                  <a:lnTo>
                    <a:pt x="10" y="755"/>
                  </a:lnTo>
                  <a:lnTo>
                    <a:pt x="15" y="748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0"/>
                  </a:lnTo>
                  <a:lnTo>
                    <a:pt x="47" y="667"/>
                  </a:lnTo>
                  <a:lnTo>
                    <a:pt x="52" y="667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0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7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1"/>
                  </a:lnTo>
                  <a:lnTo>
                    <a:pt x="129" y="694"/>
                  </a:lnTo>
                  <a:lnTo>
                    <a:pt x="126" y="673"/>
                  </a:lnTo>
                  <a:lnTo>
                    <a:pt x="120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1"/>
                  </a:lnTo>
                  <a:lnTo>
                    <a:pt x="178" y="456"/>
                  </a:lnTo>
                  <a:lnTo>
                    <a:pt x="169" y="423"/>
                  </a:lnTo>
                  <a:lnTo>
                    <a:pt x="166" y="400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6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8"/>
                  </a:lnTo>
                  <a:lnTo>
                    <a:pt x="314" y="238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2" y="222"/>
                  </a:lnTo>
                  <a:lnTo>
                    <a:pt x="366" y="201"/>
                  </a:lnTo>
                  <a:lnTo>
                    <a:pt x="370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2"/>
                  </a:lnTo>
                  <a:lnTo>
                    <a:pt x="493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49"/>
                  </a:lnTo>
                  <a:lnTo>
                    <a:pt x="639" y="86"/>
                  </a:lnTo>
                  <a:lnTo>
                    <a:pt x="659" y="130"/>
                  </a:lnTo>
                  <a:lnTo>
                    <a:pt x="669" y="141"/>
                  </a:lnTo>
                  <a:lnTo>
                    <a:pt x="673" y="151"/>
                  </a:lnTo>
                  <a:lnTo>
                    <a:pt x="671" y="159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8"/>
                  </a:lnTo>
                  <a:lnTo>
                    <a:pt x="669" y="270"/>
                  </a:lnTo>
                  <a:lnTo>
                    <a:pt x="794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4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8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2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3" y="508"/>
                  </a:lnTo>
                  <a:lnTo>
                    <a:pt x="889" y="505"/>
                  </a:lnTo>
                  <a:lnTo>
                    <a:pt x="905" y="502"/>
                  </a:lnTo>
                  <a:lnTo>
                    <a:pt x="917" y="498"/>
                  </a:lnTo>
                  <a:lnTo>
                    <a:pt x="962" y="466"/>
                  </a:lnTo>
                  <a:lnTo>
                    <a:pt x="1022" y="403"/>
                  </a:lnTo>
                  <a:lnTo>
                    <a:pt x="1028" y="404"/>
                  </a:lnTo>
                  <a:lnTo>
                    <a:pt x="1062" y="368"/>
                  </a:lnTo>
                  <a:lnTo>
                    <a:pt x="1064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4"/>
                  </a:lnTo>
                  <a:lnTo>
                    <a:pt x="1106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2" y="683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2" y="729"/>
                  </a:lnTo>
                  <a:lnTo>
                    <a:pt x="126" y="736"/>
                  </a:lnTo>
                  <a:lnTo>
                    <a:pt x="127" y="729"/>
                  </a:lnTo>
                  <a:lnTo>
                    <a:pt x="129" y="722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2557440"/>
              <a:ext cx="38412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2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1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2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4" y="1294"/>
                  </a:lnTo>
                  <a:lnTo>
                    <a:pt x="904" y="1310"/>
                  </a:lnTo>
                  <a:lnTo>
                    <a:pt x="888" y="1313"/>
                  </a:lnTo>
                  <a:lnTo>
                    <a:pt x="865" y="1317"/>
                  </a:lnTo>
                  <a:lnTo>
                    <a:pt x="831" y="1315"/>
                  </a:lnTo>
                  <a:lnTo>
                    <a:pt x="799" y="1310"/>
                  </a:lnTo>
                  <a:lnTo>
                    <a:pt x="765" y="1299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6"/>
                  </a:lnTo>
                  <a:lnTo>
                    <a:pt x="650" y="1210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3" y="1161"/>
                  </a:lnTo>
                  <a:lnTo>
                    <a:pt x="673" y="1148"/>
                  </a:lnTo>
                  <a:lnTo>
                    <a:pt x="673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9"/>
                  </a:lnTo>
                  <a:lnTo>
                    <a:pt x="666" y="1013"/>
                  </a:lnTo>
                  <a:lnTo>
                    <a:pt x="671" y="988"/>
                  </a:lnTo>
                  <a:lnTo>
                    <a:pt x="676" y="956"/>
                  </a:lnTo>
                  <a:lnTo>
                    <a:pt x="686" y="922"/>
                  </a:lnTo>
                  <a:lnTo>
                    <a:pt x="698" y="888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8"/>
                  </a:lnTo>
                  <a:lnTo>
                    <a:pt x="539" y="1036"/>
                  </a:lnTo>
                  <a:lnTo>
                    <a:pt x="509" y="1053"/>
                  </a:lnTo>
                  <a:lnTo>
                    <a:pt x="482" y="1069"/>
                  </a:lnTo>
                  <a:lnTo>
                    <a:pt x="456" y="1078"/>
                  </a:lnTo>
                  <a:lnTo>
                    <a:pt x="430" y="1090"/>
                  </a:lnTo>
                  <a:lnTo>
                    <a:pt x="406" y="1097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4"/>
                  </a:lnTo>
                  <a:lnTo>
                    <a:pt x="351" y="1315"/>
                  </a:lnTo>
                  <a:lnTo>
                    <a:pt x="340" y="1331"/>
                  </a:lnTo>
                  <a:lnTo>
                    <a:pt x="327" y="1345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299" y="1389"/>
                  </a:lnTo>
                  <a:lnTo>
                    <a:pt x="278" y="1399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1" y="1367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2" y="1109"/>
                  </a:lnTo>
                  <a:lnTo>
                    <a:pt x="118" y="1090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7" y="1027"/>
                  </a:lnTo>
                  <a:lnTo>
                    <a:pt x="114" y="980"/>
                  </a:lnTo>
                  <a:lnTo>
                    <a:pt x="102" y="983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8" y="966"/>
                  </a:lnTo>
                  <a:lnTo>
                    <a:pt x="76" y="959"/>
                  </a:lnTo>
                  <a:lnTo>
                    <a:pt x="67" y="961"/>
                  </a:lnTo>
                  <a:lnTo>
                    <a:pt x="55" y="959"/>
                  </a:lnTo>
                  <a:lnTo>
                    <a:pt x="47" y="953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6"/>
                  </a:lnTo>
                  <a:lnTo>
                    <a:pt x="2" y="832"/>
                  </a:lnTo>
                  <a:lnTo>
                    <a:pt x="10" y="830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4"/>
                  </a:lnTo>
                  <a:lnTo>
                    <a:pt x="10" y="755"/>
                  </a:lnTo>
                  <a:lnTo>
                    <a:pt x="15" y="748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0"/>
                  </a:lnTo>
                  <a:lnTo>
                    <a:pt x="47" y="667"/>
                  </a:lnTo>
                  <a:lnTo>
                    <a:pt x="52" y="667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0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7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1"/>
                  </a:lnTo>
                  <a:lnTo>
                    <a:pt x="129" y="694"/>
                  </a:lnTo>
                  <a:lnTo>
                    <a:pt x="126" y="673"/>
                  </a:lnTo>
                  <a:lnTo>
                    <a:pt x="120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1"/>
                  </a:lnTo>
                  <a:lnTo>
                    <a:pt x="178" y="456"/>
                  </a:lnTo>
                  <a:lnTo>
                    <a:pt x="169" y="423"/>
                  </a:lnTo>
                  <a:lnTo>
                    <a:pt x="166" y="400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6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8"/>
                  </a:lnTo>
                  <a:lnTo>
                    <a:pt x="314" y="238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2" y="222"/>
                  </a:lnTo>
                  <a:lnTo>
                    <a:pt x="366" y="201"/>
                  </a:lnTo>
                  <a:lnTo>
                    <a:pt x="370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2"/>
                  </a:lnTo>
                  <a:lnTo>
                    <a:pt x="493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49"/>
                  </a:lnTo>
                  <a:lnTo>
                    <a:pt x="639" y="86"/>
                  </a:lnTo>
                  <a:lnTo>
                    <a:pt x="659" y="130"/>
                  </a:lnTo>
                  <a:lnTo>
                    <a:pt x="669" y="141"/>
                  </a:lnTo>
                  <a:lnTo>
                    <a:pt x="673" y="151"/>
                  </a:lnTo>
                  <a:lnTo>
                    <a:pt x="671" y="159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8"/>
                  </a:lnTo>
                  <a:lnTo>
                    <a:pt x="669" y="270"/>
                  </a:lnTo>
                  <a:lnTo>
                    <a:pt x="794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4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8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2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3" y="508"/>
                  </a:lnTo>
                  <a:lnTo>
                    <a:pt x="889" y="505"/>
                  </a:lnTo>
                  <a:lnTo>
                    <a:pt x="905" y="502"/>
                  </a:lnTo>
                  <a:lnTo>
                    <a:pt x="917" y="498"/>
                  </a:lnTo>
                  <a:lnTo>
                    <a:pt x="962" y="466"/>
                  </a:lnTo>
                  <a:lnTo>
                    <a:pt x="1022" y="403"/>
                  </a:lnTo>
                  <a:lnTo>
                    <a:pt x="1028" y="404"/>
                  </a:lnTo>
                  <a:lnTo>
                    <a:pt x="1062" y="368"/>
                  </a:lnTo>
                  <a:lnTo>
                    <a:pt x="1064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4"/>
                  </a:lnTo>
                  <a:lnTo>
                    <a:pt x="1106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2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08440" y="261936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69">
                  <a:moveTo>
                    <a:pt x="668" y="130"/>
                  </a:moveTo>
                  <a:lnTo>
                    <a:pt x="654" y="124"/>
                  </a:lnTo>
                  <a:lnTo>
                    <a:pt x="557" y="129"/>
                  </a:lnTo>
                  <a:lnTo>
                    <a:pt x="551" y="134"/>
                  </a:lnTo>
                  <a:lnTo>
                    <a:pt x="657" y="137"/>
                  </a:lnTo>
                  <a:lnTo>
                    <a:pt x="649" y="141"/>
                  </a:lnTo>
                  <a:lnTo>
                    <a:pt x="539" y="141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69" y="189"/>
                  </a:lnTo>
                  <a:lnTo>
                    <a:pt x="269" y="253"/>
                  </a:lnTo>
                  <a:lnTo>
                    <a:pt x="195" y="269"/>
                  </a:lnTo>
                  <a:lnTo>
                    <a:pt x="195" y="209"/>
                  </a:lnTo>
                  <a:lnTo>
                    <a:pt x="190" y="192"/>
                  </a:lnTo>
                  <a:lnTo>
                    <a:pt x="190" y="177"/>
                  </a:lnTo>
                  <a:lnTo>
                    <a:pt x="187" y="172"/>
                  </a:lnTo>
                  <a:lnTo>
                    <a:pt x="184" y="169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4"/>
                  </a:lnTo>
                  <a:lnTo>
                    <a:pt x="158" y="179"/>
                  </a:lnTo>
                  <a:lnTo>
                    <a:pt x="159" y="187"/>
                  </a:lnTo>
                  <a:lnTo>
                    <a:pt x="159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7" y="196"/>
                  </a:lnTo>
                  <a:lnTo>
                    <a:pt x="190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7"/>
                  </a:lnTo>
                  <a:lnTo>
                    <a:pt x="79" y="27"/>
                  </a:lnTo>
                  <a:lnTo>
                    <a:pt x="83" y="14"/>
                  </a:lnTo>
                  <a:lnTo>
                    <a:pt x="90" y="7"/>
                  </a:lnTo>
                  <a:lnTo>
                    <a:pt x="101" y="6"/>
                  </a:lnTo>
                  <a:lnTo>
                    <a:pt x="274" y="20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6"/>
                  </a:lnTo>
                  <a:lnTo>
                    <a:pt x="292" y="46"/>
                  </a:lnTo>
                  <a:lnTo>
                    <a:pt x="290" y="53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1"/>
                  </a:lnTo>
                  <a:lnTo>
                    <a:pt x="282" y="43"/>
                  </a:lnTo>
                  <a:lnTo>
                    <a:pt x="282" y="36"/>
                  </a:lnTo>
                  <a:lnTo>
                    <a:pt x="277" y="30"/>
                  </a:lnTo>
                  <a:lnTo>
                    <a:pt x="269" y="27"/>
                  </a:lnTo>
                  <a:lnTo>
                    <a:pt x="140" y="27"/>
                  </a:lnTo>
                  <a:lnTo>
                    <a:pt x="134" y="35"/>
                  </a:lnTo>
                  <a:lnTo>
                    <a:pt x="130" y="42"/>
                  </a:lnTo>
                  <a:lnTo>
                    <a:pt x="129" y="49"/>
                  </a:lnTo>
                  <a:lnTo>
                    <a:pt x="129" y="54"/>
                  </a:lnTo>
                  <a:lnTo>
                    <a:pt x="130" y="59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4" y="56"/>
                  </a:lnTo>
                  <a:lnTo>
                    <a:pt x="683" y="59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4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4" y="56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7"/>
                  </a:lnTo>
                  <a:lnTo>
                    <a:pt x="925" y="66"/>
                  </a:lnTo>
                  <a:lnTo>
                    <a:pt x="932" y="54"/>
                  </a:lnTo>
                  <a:lnTo>
                    <a:pt x="945" y="54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6" y="91"/>
                  </a:lnTo>
                  <a:lnTo>
                    <a:pt x="736" y="101"/>
                  </a:lnTo>
                  <a:lnTo>
                    <a:pt x="720" y="101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08440" y="261936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69">
                  <a:moveTo>
                    <a:pt x="668" y="130"/>
                  </a:moveTo>
                  <a:lnTo>
                    <a:pt x="654" y="124"/>
                  </a:lnTo>
                  <a:lnTo>
                    <a:pt x="557" y="129"/>
                  </a:lnTo>
                  <a:lnTo>
                    <a:pt x="551" y="134"/>
                  </a:lnTo>
                  <a:lnTo>
                    <a:pt x="657" y="137"/>
                  </a:lnTo>
                  <a:lnTo>
                    <a:pt x="649" y="141"/>
                  </a:lnTo>
                  <a:lnTo>
                    <a:pt x="539" y="141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69" y="189"/>
                  </a:lnTo>
                  <a:lnTo>
                    <a:pt x="269" y="253"/>
                  </a:lnTo>
                  <a:lnTo>
                    <a:pt x="195" y="269"/>
                  </a:lnTo>
                  <a:lnTo>
                    <a:pt x="195" y="209"/>
                  </a:lnTo>
                  <a:lnTo>
                    <a:pt x="190" y="192"/>
                  </a:lnTo>
                  <a:lnTo>
                    <a:pt x="190" y="177"/>
                  </a:lnTo>
                  <a:lnTo>
                    <a:pt x="187" y="172"/>
                  </a:lnTo>
                  <a:lnTo>
                    <a:pt x="184" y="169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4"/>
                  </a:lnTo>
                  <a:lnTo>
                    <a:pt x="158" y="179"/>
                  </a:lnTo>
                  <a:lnTo>
                    <a:pt x="159" y="187"/>
                  </a:lnTo>
                  <a:lnTo>
                    <a:pt x="159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7" y="196"/>
                  </a:lnTo>
                  <a:lnTo>
                    <a:pt x="190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7"/>
                  </a:lnTo>
                  <a:lnTo>
                    <a:pt x="79" y="27"/>
                  </a:lnTo>
                  <a:lnTo>
                    <a:pt x="83" y="14"/>
                  </a:lnTo>
                  <a:lnTo>
                    <a:pt x="90" y="7"/>
                  </a:lnTo>
                  <a:lnTo>
                    <a:pt x="101" y="6"/>
                  </a:lnTo>
                  <a:lnTo>
                    <a:pt x="274" y="20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6"/>
                  </a:lnTo>
                  <a:lnTo>
                    <a:pt x="292" y="46"/>
                  </a:lnTo>
                  <a:lnTo>
                    <a:pt x="290" y="53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1"/>
                  </a:lnTo>
                  <a:lnTo>
                    <a:pt x="282" y="43"/>
                  </a:lnTo>
                  <a:lnTo>
                    <a:pt x="282" y="36"/>
                  </a:lnTo>
                  <a:lnTo>
                    <a:pt x="277" y="30"/>
                  </a:lnTo>
                  <a:lnTo>
                    <a:pt x="269" y="27"/>
                  </a:lnTo>
                  <a:lnTo>
                    <a:pt x="140" y="27"/>
                  </a:lnTo>
                  <a:lnTo>
                    <a:pt x="134" y="35"/>
                  </a:lnTo>
                  <a:lnTo>
                    <a:pt x="130" y="42"/>
                  </a:lnTo>
                  <a:lnTo>
                    <a:pt x="129" y="49"/>
                  </a:lnTo>
                  <a:lnTo>
                    <a:pt x="129" y="54"/>
                  </a:lnTo>
                  <a:lnTo>
                    <a:pt x="130" y="59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4" y="56"/>
                  </a:lnTo>
                  <a:lnTo>
                    <a:pt x="683" y="59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4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4" y="56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7"/>
                  </a:lnTo>
                  <a:lnTo>
                    <a:pt x="925" y="66"/>
                  </a:lnTo>
                  <a:lnTo>
                    <a:pt x="932" y="54"/>
                  </a:lnTo>
                  <a:lnTo>
                    <a:pt x="945" y="54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6" y="91"/>
                  </a:lnTo>
                  <a:lnTo>
                    <a:pt x="736" y="101"/>
                  </a:lnTo>
                  <a:lnTo>
                    <a:pt x="720" y="101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99160" y="258300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24360" y="211284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638" y="690"/>
                  </a:moveTo>
                  <a:lnTo>
                    <a:pt x="660" y="674"/>
                  </a:lnTo>
                  <a:lnTo>
                    <a:pt x="680" y="661"/>
                  </a:lnTo>
                  <a:lnTo>
                    <a:pt x="700" y="650"/>
                  </a:lnTo>
                  <a:lnTo>
                    <a:pt x="722" y="640"/>
                  </a:lnTo>
                  <a:lnTo>
                    <a:pt x="682" y="615"/>
                  </a:lnTo>
                  <a:lnTo>
                    <a:pt x="664" y="602"/>
                  </a:lnTo>
                  <a:lnTo>
                    <a:pt x="643" y="587"/>
                  </a:lnTo>
                  <a:lnTo>
                    <a:pt x="645" y="613"/>
                  </a:lnTo>
                  <a:lnTo>
                    <a:pt x="642" y="637"/>
                  </a:lnTo>
                  <a:lnTo>
                    <a:pt x="638" y="690"/>
                  </a:lnTo>
                  <a:close/>
                  <a:moveTo>
                    <a:pt x="870" y="683"/>
                  </a:moveTo>
                  <a:lnTo>
                    <a:pt x="873" y="739"/>
                  </a:lnTo>
                  <a:lnTo>
                    <a:pt x="873" y="802"/>
                  </a:lnTo>
                  <a:lnTo>
                    <a:pt x="865" y="878"/>
                  </a:lnTo>
                  <a:lnTo>
                    <a:pt x="852" y="949"/>
                  </a:lnTo>
                  <a:lnTo>
                    <a:pt x="836" y="1020"/>
                  </a:lnTo>
                  <a:lnTo>
                    <a:pt x="821" y="1070"/>
                  </a:lnTo>
                  <a:lnTo>
                    <a:pt x="808" y="1080"/>
                  </a:lnTo>
                  <a:lnTo>
                    <a:pt x="794" y="1091"/>
                  </a:lnTo>
                  <a:lnTo>
                    <a:pt x="783" y="1142"/>
                  </a:lnTo>
                  <a:lnTo>
                    <a:pt x="783" y="1151"/>
                  </a:lnTo>
                  <a:lnTo>
                    <a:pt x="789" y="1161"/>
                  </a:lnTo>
                  <a:lnTo>
                    <a:pt x="789" y="1169"/>
                  </a:lnTo>
                  <a:lnTo>
                    <a:pt x="781" y="1180"/>
                  </a:lnTo>
                  <a:lnTo>
                    <a:pt x="792" y="1190"/>
                  </a:lnTo>
                  <a:lnTo>
                    <a:pt x="800" y="1199"/>
                  </a:lnTo>
                  <a:lnTo>
                    <a:pt x="805" y="1214"/>
                  </a:lnTo>
                  <a:lnTo>
                    <a:pt x="816" y="1217"/>
                  </a:lnTo>
                  <a:lnTo>
                    <a:pt x="821" y="1222"/>
                  </a:lnTo>
                  <a:lnTo>
                    <a:pt x="827" y="1232"/>
                  </a:lnTo>
                  <a:lnTo>
                    <a:pt x="833" y="1241"/>
                  </a:lnTo>
                  <a:lnTo>
                    <a:pt x="838" y="1250"/>
                  </a:lnTo>
                  <a:lnTo>
                    <a:pt x="870" y="1267"/>
                  </a:lnTo>
                  <a:lnTo>
                    <a:pt x="889" y="1276"/>
                  </a:lnTo>
                  <a:lnTo>
                    <a:pt x="898" y="1284"/>
                  </a:lnTo>
                  <a:lnTo>
                    <a:pt x="902" y="1293"/>
                  </a:lnTo>
                  <a:lnTo>
                    <a:pt x="902" y="1309"/>
                  </a:lnTo>
                  <a:lnTo>
                    <a:pt x="886" y="1313"/>
                  </a:lnTo>
                  <a:lnTo>
                    <a:pt x="863" y="1316"/>
                  </a:lnTo>
                  <a:lnTo>
                    <a:pt x="829" y="1314"/>
                  </a:lnTo>
                  <a:lnTo>
                    <a:pt x="797" y="1309"/>
                  </a:lnTo>
                  <a:lnTo>
                    <a:pt x="763" y="1298"/>
                  </a:lnTo>
                  <a:lnTo>
                    <a:pt x="737" y="1285"/>
                  </a:lnTo>
                  <a:lnTo>
                    <a:pt x="716" y="1273"/>
                  </a:lnTo>
                  <a:lnTo>
                    <a:pt x="697" y="1271"/>
                  </a:lnTo>
                  <a:lnTo>
                    <a:pt x="680" y="1269"/>
                  </a:lnTo>
                  <a:lnTo>
                    <a:pt x="664" y="1263"/>
                  </a:lnTo>
                  <a:lnTo>
                    <a:pt x="649" y="1257"/>
                  </a:lnTo>
                  <a:lnTo>
                    <a:pt x="645" y="1240"/>
                  </a:lnTo>
                  <a:lnTo>
                    <a:pt x="647" y="1225"/>
                  </a:lnTo>
                  <a:lnTo>
                    <a:pt x="649" y="1210"/>
                  </a:lnTo>
                  <a:lnTo>
                    <a:pt x="653" y="1196"/>
                  </a:lnTo>
                  <a:lnTo>
                    <a:pt x="658" y="1185"/>
                  </a:lnTo>
                  <a:lnTo>
                    <a:pt x="664" y="1172"/>
                  </a:lnTo>
                  <a:lnTo>
                    <a:pt x="671" y="1161"/>
                  </a:lnTo>
                  <a:lnTo>
                    <a:pt x="671" y="1148"/>
                  </a:lnTo>
                  <a:lnTo>
                    <a:pt x="671" y="1135"/>
                  </a:lnTo>
                  <a:lnTo>
                    <a:pt x="674" y="1125"/>
                  </a:lnTo>
                  <a:lnTo>
                    <a:pt x="680" y="1117"/>
                  </a:lnTo>
                  <a:lnTo>
                    <a:pt x="680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69" y="1043"/>
                  </a:lnTo>
                  <a:lnTo>
                    <a:pt x="669" y="1028"/>
                  </a:lnTo>
                  <a:lnTo>
                    <a:pt x="666" y="1012"/>
                  </a:lnTo>
                  <a:lnTo>
                    <a:pt x="669" y="987"/>
                  </a:lnTo>
                  <a:lnTo>
                    <a:pt x="674" y="955"/>
                  </a:lnTo>
                  <a:lnTo>
                    <a:pt x="684" y="921"/>
                  </a:lnTo>
                  <a:lnTo>
                    <a:pt x="697" y="886"/>
                  </a:lnTo>
                  <a:lnTo>
                    <a:pt x="674" y="912"/>
                  </a:lnTo>
                  <a:lnTo>
                    <a:pt x="651" y="938"/>
                  </a:lnTo>
                  <a:lnTo>
                    <a:pt x="631" y="959"/>
                  </a:lnTo>
                  <a:lnTo>
                    <a:pt x="606" y="980"/>
                  </a:lnTo>
                  <a:lnTo>
                    <a:pt x="587" y="997"/>
                  </a:lnTo>
                  <a:lnTo>
                    <a:pt x="561" y="1017"/>
                  </a:lnTo>
                  <a:lnTo>
                    <a:pt x="537" y="1036"/>
                  </a:lnTo>
                  <a:lnTo>
                    <a:pt x="508" y="1052"/>
                  </a:lnTo>
                  <a:lnTo>
                    <a:pt x="480" y="1069"/>
                  </a:lnTo>
                  <a:lnTo>
                    <a:pt x="454" y="1078"/>
                  </a:lnTo>
                  <a:lnTo>
                    <a:pt x="429" y="1088"/>
                  </a:lnTo>
                  <a:lnTo>
                    <a:pt x="404" y="1096"/>
                  </a:lnTo>
                  <a:lnTo>
                    <a:pt x="383" y="1182"/>
                  </a:lnTo>
                  <a:lnTo>
                    <a:pt x="381" y="1206"/>
                  </a:lnTo>
                  <a:lnTo>
                    <a:pt x="377" y="1232"/>
                  </a:lnTo>
                  <a:lnTo>
                    <a:pt x="374" y="1252"/>
                  </a:lnTo>
                  <a:lnTo>
                    <a:pt x="368" y="1273"/>
                  </a:lnTo>
                  <a:lnTo>
                    <a:pt x="361" y="1293"/>
                  </a:lnTo>
                  <a:lnTo>
                    <a:pt x="349" y="1314"/>
                  </a:lnTo>
                  <a:lnTo>
                    <a:pt x="339" y="1331"/>
                  </a:lnTo>
                  <a:lnTo>
                    <a:pt x="326" y="1345"/>
                  </a:lnTo>
                  <a:lnTo>
                    <a:pt x="322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7" y="1398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0" y="1401"/>
                  </a:lnTo>
                  <a:lnTo>
                    <a:pt x="170" y="1393"/>
                  </a:lnTo>
                  <a:lnTo>
                    <a:pt x="154" y="1381"/>
                  </a:lnTo>
                  <a:lnTo>
                    <a:pt x="142" y="1370"/>
                  </a:lnTo>
                  <a:lnTo>
                    <a:pt x="129" y="1366"/>
                  </a:lnTo>
                  <a:lnTo>
                    <a:pt x="115" y="1342"/>
                  </a:lnTo>
                  <a:lnTo>
                    <a:pt x="105" y="1314"/>
                  </a:lnTo>
                  <a:lnTo>
                    <a:pt x="98" y="1290"/>
                  </a:lnTo>
                  <a:lnTo>
                    <a:pt x="92" y="1261"/>
                  </a:lnTo>
                  <a:lnTo>
                    <a:pt x="92" y="1234"/>
                  </a:lnTo>
                  <a:lnTo>
                    <a:pt x="89" y="1186"/>
                  </a:lnTo>
                  <a:lnTo>
                    <a:pt x="103" y="1159"/>
                  </a:lnTo>
                  <a:lnTo>
                    <a:pt x="110" y="1123"/>
                  </a:lnTo>
                  <a:lnTo>
                    <a:pt x="120" y="1109"/>
                  </a:lnTo>
                  <a:lnTo>
                    <a:pt x="116" y="1088"/>
                  </a:lnTo>
                  <a:lnTo>
                    <a:pt x="113" y="1070"/>
                  </a:lnTo>
                  <a:lnTo>
                    <a:pt x="82" y="1046"/>
                  </a:lnTo>
                  <a:lnTo>
                    <a:pt x="97" y="1026"/>
                  </a:lnTo>
                  <a:lnTo>
                    <a:pt x="113" y="980"/>
                  </a:lnTo>
                  <a:lnTo>
                    <a:pt x="100" y="982"/>
                  </a:lnTo>
                  <a:lnTo>
                    <a:pt x="89" y="978"/>
                  </a:lnTo>
                  <a:lnTo>
                    <a:pt x="82" y="975"/>
                  </a:lnTo>
                  <a:lnTo>
                    <a:pt x="76" y="965"/>
                  </a:lnTo>
                  <a:lnTo>
                    <a:pt x="74" y="959"/>
                  </a:lnTo>
                  <a:lnTo>
                    <a:pt x="65" y="960"/>
                  </a:lnTo>
                  <a:lnTo>
                    <a:pt x="54" y="959"/>
                  </a:lnTo>
                  <a:lnTo>
                    <a:pt x="45" y="952"/>
                  </a:lnTo>
                  <a:lnTo>
                    <a:pt x="35" y="946"/>
                  </a:lnTo>
                  <a:lnTo>
                    <a:pt x="29" y="933"/>
                  </a:lnTo>
                  <a:lnTo>
                    <a:pt x="21" y="921"/>
                  </a:lnTo>
                  <a:lnTo>
                    <a:pt x="18" y="908"/>
                  </a:lnTo>
                  <a:lnTo>
                    <a:pt x="10" y="905"/>
                  </a:lnTo>
                  <a:lnTo>
                    <a:pt x="1" y="831"/>
                  </a:lnTo>
                  <a:lnTo>
                    <a:pt x="8" y="829"/>
                  </a:lnTo>
                  <a:lnTo>
                    <a:pt x="8" y="799"/>
                  </a:lnTo>
                  <a:lnTo>
                    <a:pt x="0" y="797"/>
                  </a:lnTo>
                  <a:lnTo>
                    <a:pt x="1" y="778"/>
                  </a:lnTo>
                  <a:lnTo>
                    <a:pt x="7" y="763"/>
                  </a:lnTo>
                  <a:lnTo>
                    <a:pt x="8" y="755"/>
                  </a:lnTo>
                  <a:lnTo>
                    <a:pt x="14" y="747"/>
                  </a:lnTo>
                  <a:lnTo>
                    <a:pt x="18" y="734"/>
                  </a:lnTo>
                  <a:lnTo>
                    <a:pt x="19" y="727"/>
                  </a:lnTo>
                  <a:lnTo>
                    <a:pt x="23" y="720"/>
                  </a:lnTo>
                  <a:lnTo>
                    <a:pt x="43" y="714"/>
                  </a:lnTo>
                  <a:lnTo>
                    <a:pt x="35" y="700"/>
                  </a:lnTo>
                  <a:lnTo>
                    <a:pt x="42" y="676"/>
                  </a:lnTo>
                  <a:lnTo>
                    <a:pt x="43" y="670"/>
                  </a:lnTo>
                  <a:lnTo>
                    <a:pt x="45" y="666"/>
                  </a:lnTo>
                  <a:lnTo>
                    <a:pt x="50" y="666"/>
                  </a:lnTo>
                  <a:lnTo>
                    <a:pt x="50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6" y="666"/>
                  </a:lnTo>
                  <a:lnTo>
                    <a:pt x="89" y="670"/>
                  </a:lnTo>
                  <a:lnTo>
                    <a:pt x="91" y="677"/>
                  </a:lnTo>
                  <a:lnTo>
                    <a:pt x="92" y="689"/>
                  </a:lnTo>
                  <a:lnTo>
                    <a:pt x="92" y="700"/>
                  </a:lnTo>
                  <a:lnTo>
                    <a:pt x="91" y="706"/>
                  </a:lnTo>
                  <a:lnTo>
                    <a:pt x="87" y="710"/>
                  </a:lnTo>
                  <a:lnTo>
                    <a:pt x="92" y="714"/>
                  </a:lnTo>
                  <a:lnTo>
                    <a:pt x="100" y="714"/>
                  </a:lnTo>
                  <a:lnTo>
                    <a:pt x="105" y="710"/>
                  </a:lnTo>
                  <a:lnTo>
                    <a:pt x="110" y="705"/>
                  </a:lnTo>
                  <a:lnTo>
                    <a:pt x="107" y="697"/>
                  </a:lnTo>
                  <a:lnTo>
                    <a:pt x="92" y="700"/>
                  </a:lnTo>
                  <a:lnTo>
                    <a:pt x="92" y="689"/>
                  </a:lnTo>
                  <a:lnTo>
                    <a:pt x="111" y="687"/>
                  </a:lnTo>
                  <a:lnTo>
                    <a:pt x="116" y="689"/>
                  </a:lnTo>
                  <a:lnTo>
                    <a:pt x="122" y="690"/>
                  </a:lnTo>
                  <a:lnTo>
                    <a:pt x="127" y="694"/>
                  </a:lnTo>
                  <a:lnTo>
                    <a:pt x="124" y="672"/>
                  </a:lnTo>
                  <a:lnTo>
                    <a:pt x="118" y="650"/>
                  </a:lnTo>
                  <a:lnTo>
                    <a:pt x="151" y="511"/>
                  </a:lnTo>
                  <a:lnTo>
                    <a:pt x="158" y="487"/>
                  </a:lnTo>
                  <a:lnTo>
                    <a:pt x="166" y="470"/>
                  </a:lnTo>
                  <a:lnTo>
                    <a:pt x="177" y="456"/>
                  </a:lnTo>
                  <a:lnTo>
                    <a:pt x="168" y="422"/>
                  </a:lnTo>
                  <a:lnTo>
                    <a:pt x="164" y="400"/>
                  </a:lnTo>
                  <a:lnTo>
                    <a:pt x="166" y="380"/>
                  </a:lnTo>
                  <a:lnTo>
                    <a:pt x="173" y="356"/>
                  </a:lnTo>
                  <a:lnTo>
                    <a:pt x="190" y="327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4" y="267"/>
                  </a:lnTo>
                  <a:lnTo>
                    <a:pt x="268" y="251"/>
                  </a:lnTo>
                  <a:lnTo>
                    <a:pt x="283" y="243"/>
                  </a:lnTo>
                  <a:lnTo>
                    <a:pt x="299" y="238"/>
                  </a:lnTo>
                  <a:lnTo>
                    <a:pt x="313" y="238"/>
                  </a:lnTo>
                  <a:lnTo>
                    <a:pt x="330" y="243"/>
                  </a:lnTo>
                  <a:lnTo>
                    <a:pt x="366" y="235"/>
                  </a:lnTo>
                  <a:lnTo>
                    <a:pt x="370" y="222"/>
                  </a:lnTo>
                  <a:lnTo>
                    <a:pt x="364" y="200"/>
                  </a:lnTo>
                  <a:lnTo>
                    <a:pt x="368" y="199"/>
                  </a:lnTo>
                  <a:lnTo>
                    <a:pt x="364" y="175"/>
                  </a:lnTo>
                  <a:lnTo>
                    <a:pt x="362" y="150"/>
                  </a:lnTo>
                  <a:lnTo>
                    <a:pt x="362" y="125"/>
                  </a:lnTo>
                  <a:lnTo>
                    <a:pt x="368" y="99"/>
                  </a:lnTo>
                  <a:lnTo>
                    <a:pt x="377" y="71"/>
                  </a:lnTo>
                  <a:lnTo>
                    <a:pt x="391" y="52"/>
                  </a:lnTo>
                  <a:lnTo>
                    <a:pt x="404" y="39"/>
                  </a:lnTo>
                  <a:lnTo>
                    <a:pt x="440" y="20"/>
                  </a:lnTo>
                  <a:lnTo>
                    <a:pt x="465" y="11"/>
                  </a:lnTo>
                  <a:lnTo>
                    <a:pt x="491" y="3"/>
                  </a:lnTo>
                  <a:lnTo>
                    <a:pt x="518" y="0"/>
                  </a:lnTo>
                  <a:lnTo>
                    <a:pt x="538" y="0"/>
                  </a:lnTo>
                  <a:lnTo>
                    <a:pt x="561" y="3"/>
                  </a:lnTo>
                  <a:lnTo>
                    <a:pt x="577" y="8"/>
                  </a:lnTo>
                  <a:lnTo>
                    <a:pt x="592" y="16"/>
                  </a:lnTo>
                  <a:lnTo>
                    <a:pt x="606" y="31"/>
                  </a:lnTo>
                  <a:lnTo>
                    <a:pt x="619" y="49"/>
                  </a:lnTo>
                  <a:lnTo>
                    <a:pt x="638" y="86"/>
                  </a:lnTo>
                  <a:lnTo>
                    <a:pt x="658" y="130"/>
                  </a:lnTo>
                  <a:lnTo>
                    <a:pt x="667" y="141"/>
                  </a:lnTo>
                  <a:lnTo>
                    <a:pt x="671" y="150"/>
                  </a:lnTo>
                  <a:lnTo>
                    <a:pt x="669" y="157"/>
                  </a:lnTo>
                  <a:lnTo>
                    <a:pt x="660" y="165"/>
                  </a:lnTo>
                  <a:lnTo>
                    <a:pt x="632" y="175"/>
                  </a:lnTo>
                  <a:lnTo>
                    <a:pt x="635" y="199"/>
                  </a:lnTo>
                  <a:lnTo>
                    <a:pt x="638" y="220"/>
                  </a:lnTo>
                  <a:lnTo>
                    <a:pt x="638" y="237"/>
                  </a:lnTo>
                  <a:lnTo>
                    <a:pt x="651" y="238"/>
                  </a:lnTo>
                  <a:lnTo>
                    <a:pt x="667" y="270"/>
                  </a:lnTo>
                  <a:lnTo>
                    <a:pt x="792" y="402"/>
                  </a:lnTo>
                  <a:lnTo>
                    <a:pt x="797" y="411"/>
                  </a:lnTo>
                  <a:lnTo>
                    <a:pt x="800" y="420"/>
                  </a:lnTo>
                  <a:lnTo>
                    <a:pt x="797" y="430"/>
                  </a:lnTo>
                  <a:lnTo>
                    <a:pt x="792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2" y="456"/>
                  </a:lnTo>
                  <a:lnTo>
                    <a:pt x="777" y="461"/>
                  </a:lnTo>
                  <a:lnTo>
                    <a:pt x="782" y="466"/>
                  </a:lnTo>
                  <a:lnTo>
                    <a:pt x="787" y="474"/>
                  </a:lnTo>
                  <a:lnTo>
                    <a:pt x="794" y="485"/>
                  </a:lnTo>
                  <a:lnTo>
                    <a:pt x="808" y="493"/>
                  </a:lnTo>
                  <a:lnTo>
                    <a:pt x="819" y="501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1" y="508"/>
                  </a:lnTo>
                  <a:lnTo>
                    <a:pt x="887" y="505"/>
                  </a:lnTo>
                  <a:lnTo>
                    <a:pt x="904" y="501"/>
                  </a:lnTo>
                  <a:lnTo>
                    <a:pt x="915" y="498"/>
                  </a:lnTo>
                  <a:lnTo>
                    <a:pt x="960" y="466"/>
                  </a:lnTo>
                  <a:lnTo>
                    <a:pt x="1020" y="402"/>
                  </a:lnTo>
                  <a:lnTo>
                    <a:pt x="1027" y="404"/>
                  </a:lnTo>
                  <a:lnTo>
                    <a:pt x="1060" y="367"/>
                  </a:lnTo>
                  <a:lnTo>
                    <a:pt x="1062" y="358"/>
                  </a:lnTo>
                  <a:lnTo>
                    <a:pt x="1067" y="349"/>
                  </a:lnTo>
                  <a:lnTo>
                    <a:pt x="1077" y="338"/>
                  </a:lnTo>
                  <a:lnTo>
                    <a:pt x="1207" y="334"/>
                  </a:lnTo>
                  <a:lnTo>
                    <a:pt x="1120" y="383"/>
                  </a:lnTo>
                  <a:lnTo>
                    <a:pt x="1104" y="402"/>
                  </a:lnTo>
                  <a:lnTo>
                    <a:pt x="1078" y="445"/>
                  </a:lnTo>
                  <a:lnTo>
                    <a:pt x="1082" y="456"/>
                  </a:lnTo>
                  <a:lnTo>
                    <a:pt x="1015" y="567"/>
                  </a:lnTo>
                  <a:lnTo>
                    <a:pt x="996" y="626"/>
                  </a:lnTo>
                  <a:lnTo>
                    <a:pt x="970" y="646"/>
                  </a:lnTo>
                  <a:lnTo>
                    <a:pt x="944" y="663"/>
                  </a:lnTo>
                  <a:lnTo>
                    <a:pt x="912" y="677"/>
                  </a:lnTo>
                  <a:lnTo>
                    <a:pt x="889" y="681"/>
                  </a:lnTo>
                  <a:lnTo>
                    <a:pt x="870" y="683"/>
                  </a:lnTo>
                  <a:close/>
                  <a:moveTo>
                    <a:pt x="126" y="715"/>
                  </a:moveTo>
                  <a:lnTo>
                    <a:pt x="116" y="723"/>
                  </a:lnTo>
                  <a:lnTo>
                    <a:pt x="120" y="729"/>
                  </a:lnTo>
                  <a:lnTo>
                    <a:pt x="124" y="735"/>
                  </a:lnTo>
                  <a:lnTo>
                    <a:pt x="126" y="729"/>
                  </a:lnTo>
                  <a:lnTo>
                    <a:pt x="127" y="721"/>
                  </a:lnTo>
                  <a:lnTo>
                    <a:pt x="126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824360" y="211284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870" y="683"/>
                  </a:moveTo>
                  <a:lnTo>
                    <a:pt x="873" y="739"/>
                  </a:lnTo>
                  <a:lnTo>
                    <a:pt x="873" y="802"/>
                  </a:lnTo>
                  <a:lnTo>
                    <a:pt x="865" y="878"/>
                  </a:lnTo>
                  <a:lnTo>
                    <a:pt x="852" y="949"/>
                  </a:lnTo>
                  <a:lnTo>
                    <a:pt x="836" y="1020"/>
                  </a:lnTo>
                  <a:lnTo>
                    <a:pt x="821" y="1070"/>
                  </a:lnTo>
                  <a:lnTo>
                    <a:pt x="808" y="1080"/>
                  </a:lnTo>
                  <a:lnTo>
                    <a:pt x="794" y="1091"/>
                  </a:lnTo>
                  <a:lnTo>
                    <a:pt x="783" y="1142"/>
                  </a:lnTo>
                  <a:lnTo>
                    <a:pt x="783" y="1151"/>
                  </a:lnTo>
                  <a:lnTo>
                    <a:pt x="789" y="1161"/>
                  </a:lnTo>
                  <a:lnTo>
                    <a:pt x="789" y="1169"/>
                  </a:lnTo>
                  <a:lnTo>
                    <a:pt x="781" y="1180"/>
                  </a:lnTo>
                  <a:lnTo>
                    <a:pt x="792" y="1190"/>
                  </a:lnTo>
                  <a:lnTo>
                    <a:pt x="800" y="1199"/>
                  </a:lnTo>
                  <a:lnTo>
                    <a:pt x="805" y="1214"/>
                  </a:lnTo>
                  <a:lnTo>
                    <a:pt x="816" y="1217"/>
                  </a:lnTo>
                  <a:lnTo>
                    <a:pt x="821" y="1222"/>
                  </a:lnTo>
                  <a:lnTo>
                    <a:pt x="827" y="1232"/>
                  </a:lnTo>
                  <a:lnTo>
                    <a:pt x="833" y="1241"/>
                  </a:lnTo>
                  <a:lnTo>
                    <a:pt x="838" y="1250"/>
                  </a:lnTo>
                  <a:lnTo>
                    <a:pt x="870" y="1267"/>
                  </a:lnTo>
                  <a:lnTo>
                    <a:pt x="889" y="1276"/>
                  </a:lnTo>
                  <a:lnTo>
                    <a:pt x="898" y="1284"/>
                  </a:lnTo>
                  <a:lnTo>
                    <a:pt x="902" y="1293"/>
                  </a:lnTo>
                  <a:lnTo>
                    <a:pt x="902" y="1309"/>
                  </a:lnTo>
                  <a:lnTo>
                    <a:pt x="886" y="1313"/>
                  </a:lnTo>
                  <a:lnTo>
                    <a:pt x="863" y="1316"/>
                  </a:lnTo>
                  <a:lnTo>
                    <a:pt x="829" y="1314"/>
                  </a:lnTo>
                  <a:lnTo>
                    <a:pt x="797" y="1309"/>
                  </a:lnTo>
                  <a:lnTo>
                    <a:pt x="763" y="1298"/>
                  </a:lnTo>
                  <a:lnTo>
                    <a:pt x="737" y="1285"/>
                  </a:lnTo>
                  <a:lnTo>
                    <a:pt x="716" y="1273"/>
                  </a:lnTo>
                  <a:lnTo>
                    <a:pt x="697" y="1271"/>
                  </a:lnTo>
                  <a:lnTo>
                    <a:pt x="680" y="1269"/>
                  </a:lnTo>
                  <a:lnTo>
                    <a:pt x="664" y="1263"/>
                  </a:lnTo>
                  <a:lnTo>
                    <a:pt x="649" y="1257"/>
                  </a:lnTo>
                  <a:lnTo>
                    <a:pt x="645" y="1240"/>
                  </a:lnTo>
                  <a:lnTo>
                    <a:pt x="647" y="1225"/>
                  </a:lnTo>
                  <a:lnTo>
                    <a:pt x="649" y="1210"/>
                  </a:lnTo>
                  <a:lnTo>
                    <a:pt x="653" y="1196"/>
                  </a:lnTo>
                  <a:lnTo>
                    <a:pt x="658" y="1185"/>
                  </a:lnTo>
                  <a:lnTo>
                    <a:pt x="664" y="1172"/>
                  </a:lnTo>
                  <a:lnTo>
                    <a:pt x="671" y="1161"/>
                  </a:lnTo>
                  <a:lnTo>
                    <a:pt x="671" y="1148"/>
                  </a:lnTo>
                  <a:lnTo>
                    <a:pt x="671" y="1135"/>
                  </a:lnTo>
                  <a:lnTo>
                    <a:pt x="674" y="1125"/>
                  </a:lnTo>
                  <a:lnTo>
                    <a:pt x="680" y="1117"/>
                  </a:lnTo>
                  <a:lnTo>
                    <a:pt x="680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69" y="1043"/>
                  </a:lnTo>
                  <a:lnTo>
                    <a:pt x="669" y="1028"/>
                  </a:lnTo>
                  <a:lnTo>
                    <a:pt x="666" y="1012"/>
                  </a:lnTo>
                  <a:lnTo>
                    <a:pt x="669" y="987"/>
                  </a:lnTo>
                  <a:lnTo>
                    <a:pt x="674" y="955"/>
                  </a:lnTo>
                  <a:lnTo>
                    <a:pt x="684" y="921"/>
                  </a:lnTo>
                  <a:lnTo>
                    <a:pt x="697" y="886"/>
                  </a:lnTo>
                  <a:lnTo>
                    <a:pt x="674" y="912"/>
                  </a:lnTo>
                  <a:lnTo>
                    <a:pt x="651" y="938"/>
                  </a:lnTo>
                  <a:lnTo>
                    <a:pt x="631" y="959"/>
                  </a:lnTo>
                  <a:lnTo>
                    <a:pt x="606" y="980"/>
                  </a:lnTo>
                  <a:lnTo>
                    <a:pt x="587" y="997"/>
                  </a:lnTo>
                  <a:lnTo>
                    <a:pt x="561" y="1017"/>
                  </a:lnTo>
                  <a:lnTo>
                    <a:pt x="537" y="1036"/>
                  </a:lnTo>
                  <a:lnTo>
                    <a:pt x="508" y="1052"/>
                  </a:lnTo>
                  <a:lnTo>
                    <a:pt x="480" y="1069"/>
                  </a:lnTo>
                  <a:lnTo>
                    <a:pt x="454" y="1078"/>
                  </a:lnTo>
                  <a:lnTo>
                    <a:pt x="429" y="1088"/>
                  </a:lnTo>
                  <a:lnTo>
                    <a:pt x="404" y="1096"/>
                  </a:lnTo>
                  <a:lnTo>
                    <a:pt x="383" y="1182"/>
                  </a:lnTo>
                  <a:lnTo>
                    <a:pt x="381" y="1206"/>
                  </a:lnTo>
                  <a:lnTo>
                    <a:pt x="377" y="1232"/>
                  </a:lnTo>
                  <a:lnTo>
                    <a:pt x="374" y="1252"/>
                  </a:lnTo>
                  <a:lnTo>
                    <a:pt x="368" y="1273"/>
                  </a:lnTo>
                  <a:lnTo>
                    <a:pt x="361" y="1293"/>
                  </a:lnTo>
                  <a:lnTo>
                    <a:pt x="349" y="1314"/>
                  </a:lnTo>
                  <a:lnTo>
                    <a:pt x="339" y="1331"/>
                  </a:lnTo>
                  <a:lnTo>
                    <a:pt x="326" y="1345"/>
                  </a:lnTo>
                  <a:lnTo>
                    <a:pt x="322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7" y="1398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0" y="1401"/>
                  </a:lnTo>
                  <a:lnTo>
                    <a:pt x="170" y="1393"/>
                  </a:lnTo>
                  <a:lnTo>
                    <a:pt x="154" y="1381"/>
                  </a:lnTo>
                  <a:lnTo>
                    <a:pt x="142" y="1370"/>
                  </a:lnTo>
                  <a:lnTo>
                    <a:pt x="129" y="1366"/>
                  </a:lnTo>
                  <a:lnTo>
                    <a:pt x="115" y="1342"/>
                  </a:lnTo>
                  <a:lnTo>
                    <a:pt x="105" y="1314"/>
                  </a:lnTo>
                  <a:lnTo>
                    <a:pt x="98" y="1290"/>
                  </a:lnTo>
                  <a:lnTo>
                    <a:pt x="92" y="1261"/>
                  </a:lnTo>
                  <a:lnTo>
                    <a:pt x="92" y="1234"/>
                  </a:lnTo>
                  <a:lnTo>
                    <a:pt x="89" y="1186"/>
                  </a:lnTo>
                  <a:lnTo>
                    <a:pt x="103" y="1159"/>
                  </a:lnTo>
                  <a:lnTo>
                    <a:pt x="110" y="1123"/>
                  </a:lnTo>
                  <a:lnTo>
                    <a:pt x="120" y="1109"/>
                  </a:lnTo>
                  <a:lnTo>
                    <a:pt x="116" y="1088"/>
                  </a:lnTo>
                  <a:lnTo>
                    <a:pt x="113" y="1070"/>
                  </a:lnTo>
                  <a:lnTo>
                    <a:pt x="82" y="1046"/>
                  </a:lnTo>
                  <a:lnTo>
                    <a:pt x="97" y="1026"/>
                  </a:lnTo>
                  <a:lnTo>
                    <a:pt x="113" y="980"/>
                  </a:lnTo>
                  <a:lnTo>
                    <a:pt x="100" y="982"/>
                  </a:lnTo>
                  <a:lnTo>
                    <a:pt x="89" y="978"/>
                  </a:lnTo>
                  <a:lnTo>
                    <a:pt x="82" y="975"/>
                  </a:lnTo>
                  <a:lnTo>
                    <a:pt x="76" y="965"/>
                  </a:lnTo>
                  <a:lnTo>
                    <a:pt x="74" y="959"/>
                  </a:lnTo>
                  <a:lnTo>
                    <a:pt x="65" y="960"/>
                  </a:lnTo>
                  <a:lnTo>
                    <a:pt x="54" y="959"/>
                  </a:lnTo>
                  <a:lnTo>
                    <a:pt x="45" y="952"/>
                  </a:lnTo>
                  <a:lnTo>
                    <a:pt x="35" y="946"/>
                  </a:lnTo>
                  <a:lnTo>
                    <a:pt x="29" y="933"/>
                  </a:lnTo>
                  <a:lnTo>
                    <a:pt x="21" y="921"/>
                  </a:lnTo>
                  <a:lnTo>
                    <a:pt x="18" y="908"/>
                  </a:lnTo>
                  <a:lnTo>
                    <a:pt x="10" y="905"/>
                  </a:lnTo>
                  <a:lnTo>
                    <a:pt x="1" y="831"/>
                  </a:lnTo>
                  <a:lnTo>
                    <a:pt x="8" y="829"/>
                  </a:lnTo>
                  <a:lnTo>
                    <a:pt x="8" y="799"/>
                  </a:lnTo>
                  <a:lnTo>
                    <a:pt x="0" y="797"/>
                  </a:lnTo>
                  <a:lnTo>
                    <a:pt x="1" y="778"/>
                  </a:lnTo>
                  <a:lnTo>
                    <a:pt x="7" y="763"/>
                  </a:lnTo>
                  <a:lnTo>
                    <a:pt x="8" y="755"/>
                  </a:lnTo>
                  <a:lnTo>
                    <a:pt x="14" y="747"/>
                  </a:lnTo>
                  <a:lnTo>
                    <a:pt x="18" y="734"/>
                  </a:lnTo>
                  <a:lnTo>
                    <a:pt x="19" y="727"/>
                  </a:lnTo>
                  <a:lnTo>
                    <a:pt x="23" y="720"/>
                  </a:lnTo>
                  <a:lnTo>
                    <a:pt x="43" y="714"/>
                  </a:lnTo>
                  <a:lnTo>
                    <a:pt x="35" y="700"/>
                  </a:lnTo>
                  <a:lnTo>
                    <a:pt x="42" y="676"/>
                  </a:lnTo>
                  <a:lnTo>
                    <a:pt x="43" y="670"/>
                  </a:lnTo>
                  <a:lnTo>
                    <a:pt x="45" y="666"/>
                  </a:lnTo>
                  <a:lnTo>
                    <a:pt x="50" y="666"/>
                  </a:lnTo>
                  <a:lnTo>
                    <a:pt x="50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6" y="666"/>
                  </a:lnTo>
                  <a:lnTo>
                    <a:pt x="89" y="670"/>
                  </a:lnTo>
                  <a:lnTo>
                    <a:pt x="91" y="677"/>
                  </a:lnTo>
                  <a:lnTo>
                    <a:pt x="92" y="689"/>
                  </a:lnTo>
                  <a:lnTo>
                    <a:pt x="92" y="700"/>
                  </a:lnTo>
                  <a:lnTo>
                    <a:pt x="91" y="706"/>
                  </a:lnTo>
                  <a:lnTo>
                    <a:pt x="87" y="710"/>
                  </a:lnTo>
                  <a:lnTo>
                    <a:pt x="92" y="714"/>
                  </a:lnTo>
                  <a:lnTo>
                    <a:pt x="100" y="714"/>
                  </a:lnTo>
                  <a:lnTo>
                    <a:pt x="105" y="710"/>
                  </a:lnTo>
                  <a:lnTo>
                    <a:pt x="110" y="705"/>
                  </a:lnTo>
                  <a:lnTo>
                    <a:pt x="107" y="697"/>
                  </a:lnTo>
                  <a:lnTo>
                    <a:pt x="92" y="700"/>
                  </a:lnTo>
                  <a:lnTo>
                    <a:pt x="92" y="689"/>
                  </a:lnTo>
                  <a:lnTo>
                    <a:pt x="111" y="687"/>
                  </a:lnTo>
                  <a:lnTo>
                    <a:pt x="116" y="689"/>
                  </a:lnTo>
                  <a:lnTo>
                    <a:pt x="122" y="690"/>
                  </a:lnTo>
                  <a:lnTo>
                    <a:pt x="127" y="694"/>
                  </a:lnTo>
                  <a:lnTo>
                    <a:pt x="124" y="672"/>
                  </a:lnTo>
                  <a:lnTo>
                    <a:pt x="118" y="650"/>
                  </a:lnTo>
                  <a:lnTo>
                    <a:pt x="151" y="511"/>
                  </a:lnTo>
                  <a:lnTo>
                    <a:pt x="158" y="487"/>
                  </a:lnTo>
                  <a:lnTo>
                    <a:pt x="166" y="470"/>
                  </a:lnTo>
                  <a:lnTo>
                    <a:pt x="177" y="456"/>
                  </a:lnTo>
                  <a:lnTo>
                    <a:pt x="168" y="422"/>
                  </a:lnTo>
                  <a:lnTo>
                    <a:pt x="164" y="400"/>
                  </a:lnTo>
                  <a:lnTo>
                    <a:pt x="166" y="380"/>
                  </a:lnTo>
                  <a:lnTo>
                    <a:pt x="173" y="356"/>
                  </a:lnTo>
                  <a:lnTo>
                    <a:pt x="190" y="327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4" y="267"/>
                  </a:lnTo>
                  <a:lnTo>
                    <a:pt x="268" y="251"/>
                  </a:lnTo>
                  <a:lnTo>
                    <a:pt x="283" y="243"/>
                  </a:lnTo>
                  <a:lnTo>
                    <a:pt x="299" y="238"/>
                  </a:lnTo>
                  <a:lnTo>
                    <a:pt x="313" y="238"/>
                  </a:lnTo>
                  <a:lnTo>
                    <a:pt x="330" y="243"/>
                  </a:lnTo>
                  <a:lnTo>
                    <a:pt x="366" y="235"/>
                  </a:lnTo>
                  <a:lnTo>
                    <a:pt x="370" y="222"/>
                  </a:lnTo>
                  <a:lnTo>
                    <a:pt x="364" y="200"/>
                  </a:lnTo>
                  <a:lnTo>
                    <a:pt x="368" y="199"/>
                  </a:lnTo>
                  <a:lnTo>
                    <a:pt x="364" y="175"/>
                  </a:lnTo>
                  <a:lnTo>
                    <a:pt x="362" y="150"/>
                  </a:lnTo>
                  <a:lnTo>
                    <a:pt x="362" y="125"/>
                  </a:lnTo>
                  <a:lnTo>
                    <a:pt x="368" y="99"/>
                  </a:lnTo>
                  <a:lnTo>
                    <a:pt x="377" y="71"/>
                  </a:lnTo>
                  <a:lnTo>
                    <a:pt x="391" y="52"/>
                  </a:lnTo>
                  <a:lnTo>
                    <a:pt x="404" y="39"/>
                  </a:lnTo>
                  <a:lnTo>
                    <a:pt x="440" y="20"/>
                  </a:lnTo>
                  <a:lnTo>
                    <a:pt x="465" y="11"/>
                  </a:lnTo>
                  <a:lnTo>
                    <a:pt x="491" y="3"/>
                  </a:lnTo>
                  <a:lnTo>
                    <a:pt x="518" y="0"/>
                  </a:lnTo>
                  <a:lnTo>
                    <a:pt x="538" y="0"/>
                  </a:lnTo>
                  <a:lnTo>
                    <a:pt x="561" y="3"/>
                  </a:lnTo>
                  <a:lnTo>
                    <a:pt x="577" y="8"/>
                  </a:lnTo>
                  <a:lnTo>
                    <a:pt x="592" y="16"/>
                  </a:lnTo>
                  <a:lnTo>
                    <a:pt x="606" y="31"/>
                  </a:lnTo>
                  <a:lnTo>
                    <a:pt x="619" y="49"/>
                  </a:lnTo>
                  <a:lnTo>
                    <a:pt x="638" y="86"/>
                  </a:lnTo>
                  <a:lnTo>
                    <a:pt x="658" y="130"/>
                  </a:lnTo>
                  <a:lnTo>
                    <a:pt x="667" y="141"/>
                  </a:lnTo>
                  <a:lnTo>
                    <a:pt x="671" y="150"/>
                  </a:lnTo>
                  <a:lnTo>
                    <a:pt x="669" y="157"/>
                  </a:lnTo>
                  <a:lnTo>
                    <a:pt x="660" y="165"/>
                  </a:lnTo>
                  <a:lnTo>
                    <a:pt x="632" y="175"/>
                  </a:lnTo>
                  <a:lnTo>
                    <a:pt x="635" y="199"/>
                  </a:lnTo>
                  <a:lnTo>
                    <a:pt x="638" y="220"/>
                  </a:lnTo>
                  <a:lnTo>
                    <a:pt x="638" y="237"/>
                  </a:lnTo>
                  <a:lnTo>
                    <a:pt x="651" y="238"/>
                  </a:lnTo>
                  <a:lnTo>
                    <a:pt x="667" y="270"/>
                  </a:lnTo>
                  <a:lnTo>
                    <a:pt x="792" y="402"/>
                  </a:lnTo>
                  <a:lnTo>
                    <a:pt x="797" y="411"/>
                  </a:lnTo>
                  <a:lnTo>
                    <a:pt x="800" y="420"/>
                  </a:lnTo>
                  <a:lnTo>
                    <a:pt x="797" y="430"/>
                  </a:lnTo>
                  <a:lnTo>
                    <a:pt x="792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2" y="456"/>
                  </a:lnTo>
                  <a:lnTo>
                    <a:pt x="777" y="461"/>
                  </a:lnTo>
                  <a:lnTo>
                    <a:pt x="782" y="466"/>
                  </a:lnTo>
                  <a:lnTo>
                    <a:pt x="787" y="474"/>
                  </a:lnTo>
                  <a:lnTo>
                    <a:pt x="794" y="485"/>
                  </a:lnTo>
                  <a:lnTo>
                    <a:pt x="808" y="493"/>
                  </a:lnTo>
                  <a:lnTo>
                    <a:pt x="819" y="501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1" y="508"/>
                  </a:lnTo>
                  <a:lnTo>
                    <a:pt x="887" y="505"/>
                  </a:lnTo>
                  <a:lnTo>
                    <a:pt x="904" y="501"/>
                  </a:lnTo>
                  <a:lnTo>
                    <a:pt x="915" y="498"/>
                  </a:lnTo>
                  <a:lnTo>
                    <a:pt x="960" y="466"/>
                  </a:lnTo>
                  <a:lnTo>
                    <a:pt x="1020" y="402"/>
                  </a:lnTo>
                  <a:lnTo>
                    <a:pt x="1027" y="404"/>
                  </a:lnTo>
                  <a:lnTo>
                    <a:pt x="1060" y="367"/>
                  </a:lnTo>
                  <a:lnTo>
                    <a:pt x="1062" y="358"/>
                  </a:lnTo>
                  <a:lnTo>
                    <a:pt x="1067" y="349"/>
                  </a:lnTo>
                  <a:lnTo>
                    <a:pt x="1077" y="338"/>
                  </a:lnTo>
                  <a:lnTo>
                    <a:pt x="1207" y="334"/>
                  </a:lnTo>
                  <a:lnTo>
                    <a:pt x="1120" y="383"/>
                  </a:lnTo>
                  <a:lnTo>
                    <a:pt x="1104" y="402"/>
                  </a:lnTo>
                  <a:lnTo>
                    <a:pt x="1078" y="445"/>
                  </a:lnTo>
                  <a:lnTo>
                    <a:pt x="1082" y="456"/>
                  </a:lnTo>
                  <a:lnTo>
                    <a:pt x="1015" y="567"/>
                  </a:lnTo>
                  <a:lnTo>
                    <a:pt x="996" y="626"/>
                  </a:lnTo>
                  <a:lnTo>
                    <a:pt x="970" y="646"/>
                  </a:lnTo>
                  <a:lnTo>
                    <a:pt x="944" y="663"/>
                  </a:lnTo>
                  <a:lnTo>
                    <a:pt x="912" y="677"/>
                  </a:lnTo>
                  <a:lnTo>
                    <a:pt x="889" y="681"/>
                  </a:lnTo>
                  <a:lnTo>
                    <a:pt x="870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35680" y="217332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7" y="180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5" y="197"/>
                  </a:lnTo>
                  <a:lnTo>
                    <a:pt x="150" y="200"/>
                  </a:lnTo>
                  <a:lnTo>
                    <a:pt x="181" y="200"/>
                  </a:lnTo>
                  <a:lnTo>
                    <a:pt x="185" y="200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3" y="61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89" y="8"/>
                  </a:lnTo>
                  <a:lnTo>
                    <a:pt x="100" y="6"/>
                  </a:lnTo>
                  <a:lnTo>
                    <a:pt x="273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8" y="52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7" y="31"/>
                  </a:lnTo>
                  <a:lnTo>
                    <a:pt x="270" y="28"/>
                  </a:lnTo>
                  <a:lnTo>
                    <a:pt x="139" y="28"/>
                  </a:lnTo>
                  <a:lnTo>
                    <a:pt x="134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19" y="0"/>
                  </a:lnTo>
                  <a:lnTo>
                    <a:pt x="726" y="3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1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7" y="114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035680" y="217332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7" y="180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5" y="197"/>
                  </a:lnTo>
                  <a:lnTo>
                    <a:pt x="150" y="200"/>
                  </a:lnTo>
                  <a:lnTo>
                    <a:pt x="181" y="200"/>
                  </a:lnTo>
                  <a:lnTo>
                    <a:pt x="185" y="200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3" y="61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89" y="8"/>
                  </a:lnTo>
                  <a:lnTo>
                    <a:pt x="100" y="6"/>
                  </a:lnTo>
                  <a:lnTo>
                    <a:pt x="273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8" y="52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7" y="31"/>
                  </a:lnTo>
                  <a:lnTo>
                    <a:pt x="270" y="28"/>
                  </a:lnTo>
                  <a:lnTo>
                    <a:pt x="139" y="28"/>
                  </a:lnTo>
                  <a:lnTo>
                    <a:pt x="134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19" y="0"/>
                  </a:lnTo>
                  <a:lnTo>
                    <a:pt x="726" y="3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1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7" y="114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56200" y="3603600"/>
              <a:ext cx="360" cy="360"/>
            </a:xfrm>
            <a:prstGeom prst="rect">
              <a:avLst/>
            </a:prstGeom>
            <a:noFill/>
            <a:ln w="9360">
              <a:solidFill>
                <a:srgbClr val="605d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81760" y="3133800"/>
              <a:ext cx="382320" cy="446040"/>
            </a:xfrm>
            <a:custGeom>
              <a:avLst/>
              <a:gdLst/>
              <a:ahLst/>
              <a:rect l="l" t="t" r="r" b="b"/>
              <a:pathLst>
                <a:path w="1207" h="1407">
                  <a:moveTo>
                    <a:pt x="638" y="690"/>
                  </a:moveTo>
                  <a:lnTo>
                    <a:pt x="661" y="674"/>
                  </a:lnTo>
                  <a:lnTo>
                    <a:pt x="681" y="661"/>
                  </a:lnTo>
                  <a:lnTo>
                    <a:pt x="701" y="650"/>
                  </a:lnTo>
                  <a:lnTo>
                    <a:pt x="723" y="642"/>
                  </a:lnTo>
                  <a:lnTo>
                    <a:pt x="683" y="616"/>
                  </a:lnTo>
                  <a:lnTo>
                    <a:pt x="664" y="603"/>
                  </a:lnTo>
                  <a:lnTo>
                    <a:pt x="644" y="588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38" y="690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6" y="878"/>
                  </a:lnTo>
                  <a:lnTo>
                    <a:pt x="853" y="949"/>
                  </a:lnTo>
                  <a:lnTo>
                    <a:pt x="837" y="1021"/>
                  </a:lnTo>
                  <a:lnTo>
                    <a:pt x="822" y="1070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2" y="1180"/>
                  </a:lnTo>
                  <a:lnTo>
                    <a:pt x="793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7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0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4" y="1317"/>
                  </a:lnTo>
                  <a:lnTo>
                    <a:pt x="830" y="1314"/>
                  </a:lnTo>
                  <a:lnTo>
                    <a:pt x="798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8" y="1271"/>
                  </a:lnTo>
                  <a:lnTo>
                    <a:pt x="681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5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5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5" y="913"/>
                  </a:lnTo>
                  <a:lnTo>
                    <a:pt x="651" y="939"/>
                  </a:lnTo>
                  <a:lnTo>
                    <a:pt x="632" y="959"/>
                  </a:lnTo>
                  <a:lnTo>
                    <a:pt x="607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5" y="1096"/>
                  </a:lnTo>
                  <a:lnTo>
                    <a:pt x="384" y="1183"/>
                  </a:lnTo>
                  <a:lnTo>
                    <a:pt x="381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69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7"/>
                  </a:lnTo>
                  <a:lnTo>
                    <a:pt x="218" y="1407"/>
                  </a:lnTo>
                  <a:lnTo>
                    <a:pt x="190" y="1401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3" y="1371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6" y="1314"/>
                  </a:lnTo>
                  <a:lnTo>
                    <a:pt x="99" y="1291"/>
                  </a:lnTo>
                  <a:lnTo>
                    <a:pt x="93" y="1261"/>
                  </a:lnTo>
                  <a:lnTo>
                    <a:pt x="93" y="1234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4" y="1070"/>
                  </a:lnTo>
                  <a:lnTo>
                    <a:pt x="82" y="1047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2" y="975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4" y="959"/>
                  </a:lnTo>
                  <a:lnTo>
                    <a:pt x="46" y="953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2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4" y="715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3" y="715"/>
                  </a:lnTo>
                  <a:lnTo>
                    <a:pt x="101" y="715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2" y="690"/>
                  </a:lnTo>
                  <a:lnTo>
                    <a:pt x="128" y="694"/>
                  </a:lnTo>
                  <a:lnTo>
                    <a:pt x="125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59" y="487"/>
                  </a:lnTo>
                  <a:lnTo>
                    <a:pt x="167" y="470"/>
                  </a:lnTo>
                  <a:lnTo>
                    <a:pt x="177" y="456"/>
                  </a:lnTo>
                  <a:lnTo>
                    <a:pt x="169" y="422"/>
                  </a:lnTo>
                  <a:lnTo>
                    <a:pt x="164" y="401"/>
                  </a:lnTo>
                  <a:lnTo>
                    <a:pt x="167" y="380"/>
                  </a:lnTo>
                  <a:lnTo>
                    <a:pt x="174" y="356"/>
                  </a:lnTo>
                  <a:lnTo>
                    <a:pt x="190" y="327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69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1" y="243"/>
                  </a:lnTo>
                  <a:lnTo>
                    <a:pt x="366" y="235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5"/>
                  </a:lnTo>
                  <a:lnTo>
                    <a:pt x="363" y="151"/>
                  </a:lnTo>
                  <a:lnTo>
                    <a:pt x="363" y="125"/>
                  </a:lnTo>
                  <a:lnTo>
                    <a:pt x="369" y="99"/>
                  </a:lnTo>
                  <a:lnTo>
                    <a:pt x="378" y="71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1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7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8" y="86"/>
                  </a:lnTo>
                  <a:lnTo>
                    <a:pt x="659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6" y="199"/>
                  </a:lnTo>
                  <a:lnTo>
                    <a:pt x="638" y="220"/>
                  </a:lnTo>
                  <a:lnTo>
                    <a:pt x="638" y="238"/>
                  </a:lnTo>
                  <a:lnTo>
                    <a:pt x="651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8" y="412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3" y="456"/>
                  </a:lnTo>
                  <a:lnTo>
                    <a:pt x="778" y="461"/>
                  </a:lnTo>
                  <a:lnTo>
                    <a:pt x="783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1" y="467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1" y="367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5"/>
                  </a:lnTo>
                  <a:lnTo>
                    <a:pt x="1121" y="383"/>
                  </a:lnTo>
                  <a:lnTo>
                    <a:pt x="1105" y="403"/>
                  </a:lnTo>
                  <a:lnTo>
                    <a:pt x="1079" y="445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0" y="682"/>
                  </a:lnTo>
                  <a:lnTo>
                    <a:pt x="871" y="684"/>
                  </a:lnTo>
                  <a:close/>
                  <a:moveTo>
                    <a:pt x="127" y="715"/>
                  </a:moveTo>
                  <a:lnTo>
                    <a:pt x="117" y="724"/>
                  </a:lnTo>
                  <a:lnTo>
                    <a:pt x="121" y="729"/>
                  </a:lnTo>
                  <a:lnTo>
                    <a:pt x="125" y="736"/>
                  </a:lnTo>
                  <a:lnTo>
                    <a:pt x="127" y="729"/>
                  </a:lnTo>
                  <a:lnTo>
                    <a:pt x="128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081760" y="3133800"/>
              <a:ext cx="382320" cy="446040"/>
            </a:xfrm>
            <a:custGeom>
              <a:avLst/>
              <a:gdLst/>
              <a:ahLst/>
              <a:rect l="l" t="t" r="r" b="b"/>
              <a:pathLst>
                <a:path w="1207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6" y="878"/>
                  </a:lnTo>
                  <a:lnTo>
                    <a:pt x="853" y="949"/>
                  </a:lnTo>
                  <a:lnTo>
                    <a:pt x="837" y="1021"/>
                  </a:lnTo>
                  <a:lnTo>
                    <a:pt x="822" y="1070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2" y="1180"/>
                  </a:lnTo>
                  <a:lnTo>
                    <a:pt x="793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7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0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4" y="1317"/>
                  </a:lnTo>
                  <a:lnTo>
                    <a:pt x="830" y="1314"/>
                  </a:lnTo>
                  <a:lnTo>
                    <a:pt x="798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8" y="1271"/>
                  </a:lnTo>
                  <a:lnTo>
                    <a:pt x="681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5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5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5" y="913"/>
                  </a:lnTo>
                  <a:lnTo>
                    <a:pt x="651" y="939"/>
                  </a:lnTo>
                  <a:lnTo>
                    <a:pt x="632" y="959"/>
                  </a:lnTo>
                  <a:lnTo>
                    <a:pt x="607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5" y="1096"/>
                  </a:lnTo>
                  <a:lnTo>
                    <a:pt x="384" y="1183"/>
                  </a:lnTo>
                  <a:lnTo>
                    <a:pt x="381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69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7"/>
                  </a:lnTo>
                  <a:lnTo>
                    <a:pt x="218" y="1407"/>
                  </a:lnTo>
                  <a:lnTo>
                    <a:pt x="190" y="1401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3" y="1371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6" y="1314"/>
                  </a:lnTo>
                  <a:lnTo>
                    <a:pt x="99" y="1291"/>
                  </a:lnTo>
                  <a:lnTo>
                    <a:pt x="93" y="1261"/>
                  </a:lnTo>
                  <a:lnTo>
                    <a:pt x="93" y="1234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4" y="1070"/>
                  </a:lnTo>
                  <a:lnTo>
                    <a:pt x="82" y="1047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2" y="975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4" y="959"/>
                  </a:lnTo>
                  <a:lnTo>
                    <a:pt x="46" y="953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2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4" y="715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3" y="715"/>
                  </a:lnTo>
                  <a:lnTo>
                    <a:pt x="101" y="715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2" y="690"/>
                  </a:lnTo>
                  <a:lnTo>
                    <a:pt x="128" y="694"/>
                  </a:lnTo>
                  <a:lnTo>
                    <a:pt x="125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59" y="487"/>
                  </a:lnTo>
                  <a:lnTo>
                    <a:pt x="167" y="470"/>
                  </a:lnTo>
                  <a:lnTo>
                    <a:pt x="177" y="456"/>
                  </a:lnTo>
                  <a:lnTo>
                    <a:pt x="169" y="422"/>
                  </a:lnTo>
                  <a:lnTo>
                    <a:pt x="164" y="401"/>
                  </a:lnTo>
                  <a:lnTo>
                    <a:pt x="167" y="380"/>
                  </a:lnTo>
                  <a:lnTo>
                    <a:pt x="174" y="356"/>
                  </a:lnTo>
                  <a:lnTo>
                    <a:pt x="190" y="327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69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1" y="243"/>
                  </a:lnTo>
                  <a:lnTo>
                    <a:pt x="366" y="235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5"/>
                  </a:lnTo>
                  <a:lnTo>
                    <a:pt x="363" y="151"/>
                  </a:lnTo>
                  <a:lnTo>
                    <a:pt x="363" y="125"/>
                  </a:lnTo>
                  <a:lnTo>
                    <a:pt x="369" y="99"/>
                  </a:lnTo>
                  <a:lnTo>
                    <a:pt x="378" y="71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1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7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8" y="86"/>
                  </a:lnTo>
                  <a:lnTo>
                    <a:pt x="659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6" y="199"/>
                  </a:lnTo>
                  <a:lnTo>
                    <a:pt x="638" y="220"/>
                  </a:lnTo>
                  <a:lnTo>
                    <a:pt x="638" y="238"/>
                  </a:lnTo>
                  <a:lnTo>
                    <a:pt x="651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8" y="412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3" y="456"/>
                  </a:lnTo>
                  <a:lnTo>
                    <a:pt x="778" y="461"/>
                  </a:lnTo>
                  <a:lnTo>
                    <a:pt x="783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1" y="467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1" y="367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5"/>
                  </a:lnTo>
                  <a:lnTo>
                    <a:pt x="1121" y="383"/>
                  </a:lnTo>
                  <a:lnTo>
                    <a:pt x="1105" y="403"/>
                  </a:lnTo>
                  <a:lnTo>
                    <a:pt x="1079" y="445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0" y="682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292720" y="3193920"/>
              <a:ext cx="3031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09" y="146"/>
                  </a:lnTo>
                  <a:lnTo>
                    <a:pt x="377" y="146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8" y="194"/>
                  </a:lnTo>
                  <a:lnTo>
                    <a:pt x="188" y="178"/>
                  </a:lnTo>
                  <a:lnTo>
                    <a:pt x="186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7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5" y="197"/>
                  </a:lnTo>
                  <a:lnTo>
                    <a:pt x="150" y="201"/>
                  </a:lnTo>
                  <a:lnTo>
                    <a:pt x="181" y="201"/>
                  </a:lnTo>
                  <a:lnTo>
                    <a:pt x="185" y="201"/>
                  </a:lnTo>
                  <a:lnTo>
                    <a:pt x="186" y="197"/>
                  </a:lnTo>
                  <a:lnTo>
                    <a:pt x="188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3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2" y="15"/>
                  </a:lnTo>
                  <a:lnTo>
                    <a:pt x="89" y="8"/>
                  </a:lnTo>
                  <a:lnTo>
                    <a:pt x="100" y="6"/>
                  </a:lnTo>
                  <a:lnTo>
                    <a:pt x="273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8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2"/>
                  </a:lnTo>
                  <a:lnTo>
                    <a:pt x="269" y="28"/>
                  </a:lnTo>
                  <a:lnTo>
                    <a:pt x="139" y="28"/>
                  </a:lnTo>
                  <a:lnTo>
                    <a:pt x="133" y="36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3" y="57"/>
                  </a:lnTo>
                  <a:lnTo>
                    <a:pt x="712" y="5"/>
                  </a:lnTo>
                  <a:lnTo>
                    <a:pt x="719" y="0"/>
                  </a:lnTo>
                  <a:lnTo>
                    <a:pt x="726" y="5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0" y="98"/>
                  </a:lnTo>
                  <a:lnTo>
                    <a:pt x="920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8"/>
                  </a:lnTo>
                  <a:lnTo>
                    <a:pt x="688" y="98"/>
                  </a:lnTo>
                  <a:lnTo>
                    <a:pt x="688" y="115"/>
                  </a:lnTo>
                  <a:lnTo>
                    <a:pt x="676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92720" y="3193920"/>
              <a:ext cx="3031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09" y="146"/>
                  </a:lnTo>
                  <a:lnTo>
                    <a:pt x="377" y="146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8" y="194"/>
                  </a:lnTo>
                  <a:lnTo>
                    <a:pt x="188" y="178"/>
                  </a:lnTo>
                  <a:lnTo>
                    <a:pt x="186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7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5" y="197"/>
                  </a:lnTo>
                  <a:lnTo>
                    <a:pt x="150" y="201"/>
                  </a:lnTo>
                  <a:lnTo>
                    <a:pt x="181" y="201"/>
                  </a:lnTo>
                  <a:lnTo>
                    <a:pt x="185" y="201"/>
                  </a:lnTo>
                  <a:lnTo>
                    <a:pt x="186" y="197"/>
                  </a:lnTo>
                  <a:lnTo>
                    <a:pt x="188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3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2" y="15"/>
                  </a:lnTo>
                  <a:lnTo>
                    <a:pt x="89" y="8"/>
                  </a:lnTo>
                  <a:lnTo>
                    <a:pt x="100" y="6"/>
                  </a:lnTo>
                  <a:lnTo>
                    <a:pt x="273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8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2"/>
                  </a:lnTo>
                  <a:lnTo>
                    <a:pt x="269" y="28"/>
                  </a:lnTo>
                  <a:lnTo>
                    <a:pt x="139" y="28"/>
                  </a:lnTo>
                  <a:lnTo>
                    <a:pt x="133" y="36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3" y="57"/>
                  </a:lnTo>
                  <a:lnTo>
                    <a:pt x="712" y="5"/>
                  </a:lnTo>
                  <a:lnTo>
                    <a:pt x="719" y="0"/>
                  </a:lnTo>
                  <a:lnTo>
                    <a:pt x="726" y="5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0" y="98"/>
                  </a:lnTo>
                  <a:lnTo>
                    <a:pt x="920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8"/>
                  </a:lnTo>
                  <a:lnTo>
                    <a:pt x="688" y="98"/>
                  </a:lnTo>
                  <a:lnTo>
                    <a:pt x="688" y="115"/>
                  </a:lnTo>
                  <a:lnTo>
                    <a:pt x="676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70600" y="295596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95800" y="2486160"/>
              <a:ext cx="382680" cy="44748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1"/>
                  </a:moveTo>
                  <a:lnTo>
                    <a:pt x="660" y="674"/>
                  </a:lnTo>
                  <a:lnTo>
                    <a:pt x="681" y="661"/>
                  </a:lnTo>
                  <a:lnTo>
                    <a:pt x="701" y="650"/>
                  </a:lnTo>
                  <a:lnTo>
                    <a:pt x="723" y="642"/>
                  </a:lnTo>
                  <a:lnTo>
                    <a:pt x="683" y="616"/>
                  </a:lnTo>
                  <a:lnTo>
                    <a:pt x="665" y="603"/>
                  </a:lnTo>
                  <a:lnTo>
                    <a:pt x="644" y="588"/>
                  </a:lnTo>
                  <a:lnTo>
                    <a:pt x="646" y="614"/>
                  </a:lnTo>
                  <a:lnTo>
                    <a:pt x="642" y="638"/>
                  </a:lnTo>
                  <a:lnTo>
                    <a:pt x="639" y="691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6" y="878"/>
                  </a:lnTo>
                  <a:lnTo>
                    <a:pt x="854" y="950"/>
                  </a:lnTo>
                  <a:lnTo>
                    <a:pt x="837" y="1022"/>
                  </a:lnTo>
                  <a:lnTo>
                    <a:pt x="822" y="1070"/>
                  </a:lnTo>
                  <a:lnTo>
                    <a:pt x="809" y="1080"/>
                  </a:lnTo>
                  <a:lnTo>
                    <a:pt x="794" y="1091"/>
                  </a:lnTo>
                  <a:lnTo>
                    <a:pt x="783" y="1143"/>
                  </a:lnTo>
                  <a:lnTo>
                    <a:pt x="783" y="1151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2"/>
                  </a:lnTo>
                  <a:lnTo>
                    <a:pt x="793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8" y="1232"/>
                  </a:lnTo>
                  <a:lnTo>
                    <a:pt x="833" y="1242"/>
                  </a:lnTo>
                  <a:lnTo>
                    <a:pt x="838" y="1251"/>
                  </a:lnTo>
                  <a:lnTo>
                    <a:pt x="870" y="1267"/>
                  </a:lnTo>
                  <a:lnTo>
                    <a:pt x="890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10"/>
                  </a:lnTo>
                  <a:lnTo>
                    <a:pt x="887" y="1313"/>
                  </a:lnTo>
                  <a:lnTo>
                    <a:pt x="864" y="1318"/>
                  </a:lnTo>
                  <a:lnTo>
                    <a:pt x="830" y="1316"/>
                  </a:lnTo>
                  <a:lnTo>
                    <a:pt x="798" y="1310"/>
                  </a:lnTo>
                  <a:lnTo>
                    <a:pt x="764" y="1299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49" y="1258"/>
                  </a:lnTo>
                  <a:lnTo>
                    <a:pt x="646" y="1240"/>
                  </a:lnTo>
                  <a:lnTo>
                    <a:pt x="647" y="1225"/>
                  </a:lnTo>
                  <a:lnTo>
                    <a:pt x="649" y="1211"/>
                  </a:lnTo>
                  <a:lnTo>
                    <a:pt x="653" y="1198"/>
                  </a:lnTo>
                  <a:lnTo>
                    <a:pt x="658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5" y="1125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9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5" y="956"/>
                  </a:lnTo>
                  <a:lnTo>
                    <a:pt x="685" y="922"/>
                  </a:lnTo>
                  <a:lnTo>
                    <a:pt x="697" y="888"/>
                  </a:lnTo>
                  <a:lnTo>
                    <a:pt x="675" y="913"/>
                  </a:lnTo>
                  <a:lnTo>
                    <a:pt x="652" y="939"/>
                  </a:lnTo>
                  <a:lnTo>
                    <a:pt x="631" y="959"/>
                  </a:lnTo>
                  <a:lnTo>
                    <a:pt x="607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8" y="1053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29" y="1090"/>
                  </a:lnTo>
                  <a:lnTo>
                    <a:pt x="405" y="1097"/>
                  </a:lnTo>
                  <a:lnTo>
                    <a:pt x="383" y="1183"/>
                  </a:lnTo>
                  <a:lnTo>
                    <a:pt x="382" y="1206"/>
                  </a:lnTo>
                  <a:lnTo>
                    <a:pt x="377" y="1232"/>
                  </a:lnTo>
                  <a:lnTo>
                    <a:pt x="374" y="1253"/>
                  </a:lnTo>
                  <a:lnTo>
                    <a:pt x="369" y="1273"/>
                  </a:lnTo>
                  <a:lnTo>
                    <a:pt x="361" y="1293"/>
                  </a:lnTo>
                  <a:lnTo>
                    <a:pt x="350" y="1316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9"/>
                  </a:lnTo>
                  <a:lnTo>
                    <a:pt x="277" y="1400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0" y="1394"/>
                  </a:lnTo>
                  <a:lnTo>
                    <a:pt x="154" y="1381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6" y="1343"/>
                  </a:lnTo>
                  <a:lnTo>
                    <a:pt x="106" y="1316"/>
                  </a:lnTo>
                  <a:lnTo>
                    <a:pt x="99" y="1291"/>
                  </a:lnTo>
                  <a:lnTo>
                    <a:pt x="93" y="1262"/>
                  </a:lnTo>
                  <a:lnTo>
                    <a:pt x="93" y="1235"/>
                  </a:lnTo>
                  <a:lnTo>
                    <a:pt x="89" y="1187"/>
                  </a:lnTo>
                  <a:lnTo>
                    <a:pt x="104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7" y="1090"/>
                  </a:lnTo>
                  <a:lnTo>
                    <a:pt x="114" y="1070"/>
                  </a:lnTo>
                  <a:lnTo>
                    <a:pt x="83" y="1048"/>
                  </a:lnTo>
                  <a:lnTo>
                    <a:pt x="97" y="1027"/>
                  </a:lnTo>
                  <a:lnTo>
                    <a:pt x="114" y="981"/>
                  </a:lnTo>
                  <a:lnTo>
                    <a:pt x="101" y="983"/>
                  </a:lnTo>
                  <a:lnTo>
                    <a:pt x="89" y="980"/>
                  </a:lnTo>
                  <a:lnTo>
                    <a:pt x="83" y="975"/>
                  </a:lnTo>
                  <a:lnTo>
                    <a:pt x="77" y="967"/>
                  </a:lnTo>
                  <a:lnTo>
                    <a:pt x="75" y="959"/>
                  </a:lnTo>
                  <a:lnTo>
                    <a:pt x="66" y="961"/>
                  </a:lnTo>
                  <a:lnTo>
                    <a:pt x="55" y="959"/>
                  </a:lnTo>
                  <a:lnTo>
                    <a:pt x="46" y="954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2"/>
                  </a:lnTo>
                  <a:lnTo>
                    <a:pt x="18" y="909"/>
                  </a:lnTo>
                  <a:lnTo>
                    <a:pt x="10" y="906"/>
                  </a:lnTo>
                  <a:lnTo>
                    <a:pt x="2" y="833"/>
                  </a:lnTo>
                  <a:lnTo>
                    <a:pt x="9" y="831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5"/>
                  </a:lnTo>
                  <a:lnTo>
                    <a:pt x="9" y="755"/>
                  </a:lnTo>
                  <a:lnTo>
                    <a:pt x="15" y="749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3" y="720"/>
                  </a:lnTo>
                  <a:lnTo>
                    <a:pt x="44" y="715"/>
                  </a:lnTo>
                  <a:lnTo>
                    <a:pt x="36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6" y="666"/>
                  </a:lnTo>
                  <a:lnTo>
                    <a:pt x="89" y="671"/>
                  </a:lnTo>
                  <a:lnTo>
                    <a:pt x="91" y="678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1" y="707"/>
                  </a:lnTo>
                  <a:lnTo>
                    <a:pt x="88" y="711"/>
                  </a:lnTo>
                  <a:lnTo>
                    <a:pt x="93" y="715"/>
                  </a:lnTo>
                  <a:lnTo>
                    <a:pt x="101" y="715"/>
                  </a:lnTo>
                  <a:lnTo>
                    <a:pt x="106" y="711"/>
                  </a:lnTo>
                  <a:lnTo>
                    <a:pt x="111" y="705"/>
                  </a:lnTo>
                  <a:lnTo>
                    <a:pt x="107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3" y="691"/>
                  </a:lnTo>
                  <a:lnTo>
                    <a:pt x="128" y="695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2" y="511"/>
                  </a:lnTo>
                  <a:lnTo>
                    <a:pt x="159" y="487"/>
                  </a:lnTo>
                  <a:lnTo>
                    <a:pt x="167" y="471"/>
                  </a:lnTo>
                  <a:lnTo>
                    <a:pt x="178" y="456"/>
                  </a:lnTo>
                  <a:lnTo>
                    <a:pt x="168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3" y="356"/>
                  </a:lnTo>
                  <a:lnTo>
                    <a:pt x="191" y="327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69" y="252"/>
                  </a:lnTo>
                  <a:lnTo>
                    <a:pt x="283" y="243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3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6" y="201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3" y="151"/>
                  </a:lnTo>
                  <a:lnTo>
                    <a:pt x="363" y="125"/>
                  </a:lnTo>
                  <a:lnTo>
                    <a:pt x="369" y="99"/>
                  </a:lnTo>
                  <a:lnTo>
                    <a:pt x="377" y="72"/>
                  </a:lnTo>
                  <a:lnTo>
                    <a:pt x="393" y="52"/>
                  </a:lnTo>
                  <a:lnTo>
                    <a:pt x="405" y="39"/>
                  </a:lnTo>
                  <a:lnTo>
                    <a:pt x="440" y="21"/>
                  </a:lnTo>
                  <a:lnTo>
                    <a:pt x="466" y="12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61" y="4"/>
                  </a:lnTo>
                  <a:lnTo>
                    <a:pt x="578" y="10"/>
                  </a:lnTo>
                  <a:lnTo>
                    <a:pt x="592" y="17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9" y="86"/>
                  </a:lnTo>
                  <a:lnTo>
                    <a:pt x="658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9"/>
                  </a:lnTo>
                  <a:lnTo>
                    <a:pt x="660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8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8" y="412"/>
                  </a:lnTo>
                  <a:lnTo>
                    <a:pt x="800" y="421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3" y="456"/>
                  </a:lnTo>
                  <a:lnTo>
                    <a:pt x="778" y="461"/>
                  </a:lnTo>
                  <a:lnTo>
                    <a:pt x="783" y="467"/>
                  </a:lnTo>
                  <a:lnTo>
                    <a:pt x="788" y="474"/>
                  </a:lnTo>
                  <a:lnTo>
                    <a:pt x="794" y="485"/>
                  </a:lnTo>
                  <a:lnTo>
                    <a:pt x="809" y="495"/>
                  </a:lnTo>
                  <a:lnTo>
                    <a:pt x="820" y="502"/>
                  </a:lnTo>
                  <a:lnTo>
                    <a:pt x="831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6"/>
                  </a:lnTo>
                  <a:lnTo>
                    <a:pt x="904" y="502"/>
                  </a:lnTo>
                  <a:lnTo>
                    <a:pt x="916" y="498"/>
                  </a:lnTo>
                  <a:lnTo>
                    <a:pt x="961" y="467"/>
                  </a:lnTo>
                  <a:lnTo>
                    <a:pt x="1021" y="403"/>
                  </a:lnTo>
                  <a:lnTo>
                    <a:pt x="1027" y="404"/>
                  </a:lnTo>
                  <a:lnTo>
                    <a:pt x="1061" y="368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7" y="338"/>
                  </a:lnTo>
                  <a:lnTo>
                    <a:pt x="1208" y="335"/>
                  </a:lnTo>
                  <a:lnTo>
                    <a:pt x="1121" y="385"/>
                  </a:lnTo>
                  <a:lnTo>
                    <a:pt x="1105" y="403"/>
                  </a:lnTo>
                  <a:lnTo>
                    <a:pt x="1079" y="445"/>
                  </a:lnTo>
                  <a:lnTo>
                    <a:pt x="1082" y="456"/>
                  </a:lnTo>
                  <a:lnTo>
                    <a:pt x="1017" y="568"/>
                  </a:lnTo>
                  <a:lnTo>
                    <a:pt x="996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8"/>
                  </a:lnTo>
                  <a:lnTo>
                    <a:pt x="890" y="682"/>
                  </a:lnTo>
                  <a:lnTo>
                    <a:pt x="871" y="684"/>
                  </a:lnTo>
                  <a:close/>
                  <a:moveTo>
                    <a:pt x="126" y="715"/>
                  </a:moveTo>
                  <a:lnTo>
                    <a:pt x="117" y="724"/>
                  </a:lnTo>
                  <a:lnTo>
                    <a:pt x="122" y="729"/>
                  </a:lnTo>
                  <a:lnTo>
                    <a:pt x="125" y="737"/>
                  </a:lnTo>
                  <a:lnTo>
                    <a:pt x="126" y="729"/>
                  </a:lnTo>
                  <a:lnTo>
                    <a:pt x="128" y="723"/>
                  </a:lnTo>
                  <a:lnTo>
                    <a:pt x="126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95800" y="2486160"/>
              <a:ext cx="382680" cy="44748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6" y="878"/>
                  </a:lnTo>
                  <a:lnTo>
                    <a:pt x="854" y="950"/>
                  </a:lnTo>
                  <a:lnTo>
                    <a:pt x="837" y="1022"/>
                  </a:lnTo>
                  <a:lnTo>
                    <a:pt x="822" y="1070"/>
                  </a:lnTo>
                  <a:lnTo>
                    <a:pt x="809" y="1080"/>
                  </a:lnTo>
                  <a:lnTo>
                    <a:pt x="794" y="1091"/>
                  </a:lnTo>
                  <a:lnTo>
                    <a:pt x="783" y="1143"/>
                  </a:lnTo>
                  <a:lnTo>
                    <a:pt x="783" y="1151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2"/>
                  </a:lnTo>
                  <a:lnTo>
                    <a:pt x="793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8" y="1232"/>
                  </a:lnTo>
                  <a:lnTo>
                    <a:pt x="833" y="1242"/>
                  </a:lnTo>
                  <a:lnTo>
                    <a:pt x="838" y="1251"/>
                  </a:lnTo>
                  <a:lnTo>
                    <a:pt x="870" y="1267"/>
                  </a:lnTo>
                  <a:lnTo>
                    <a:pt x="890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10"/>
                  </a:lnTo>
                  <a:lnTo>
                    <a:pt x="887" y="1313"/>
                  </a:lnTo>
                  <a:lnTo>
                    <a:pt x="864" y="1318"/>
                  </a:lnTo>
                  <a:lnTo>
                    <a:pt x="830" y="1316"/>
                  </a:lnTo>
                  <a:lnTo>
                    <a:pt x="798" y="1310"/>
                  </a:lnTo>
                  <a:lnTo>
                    <a:pt x="764" y="1299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49" y="1258"/>
                  </a:lnTo>
                  <a:lnTo>
                    <a:pt x="646" y="1240"/>
                  </a:lnTo>
                  <a:lnTo>
                    <a:pt x="647" y="1225"/>
                  </a:lnTo>
                  <a:lnTo>
                    <a:pt x="649" y="1211"/>
                  </a:lnTo>
                  <a:lnTo>
                    <a:pt x="653" y="1198"/>
                  </a:lnTo>
                  <a:lnTo>
                    <a:pt x="658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5" y="1125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9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5" y="956"/>
                  </a:lnTo>
                  <a:lnTo>
                    <a:pt x="685" y="922"/>
                  </a:lnTo>
                  <a:lnTo>
                    <a:pt x="697" y="888"/>
                  </a:lnTo>
                  <a:lnTo>
                    <a:pt x="675" y="913"/>
                  </a:lnTo>
                  <a:lnTo>
                    <a:pt x="652" y="939"/>
                  </a:lnTo>
                  <a:lnTo>
                    <a:pt x="631" y="959"/>
                  </a:lnTo>
                  <a:lnTo>
                    <a:pt x="607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8" y="1053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29" y="1090"/>
                  </a:lnTo>
                  <a:lnTo>
                    <a:pt x="405" y="1097"/>
                  </a:lnTo>
                  <a:lnTo>
                    <a:pt x="383" y="1183"/>
                  </a:lnTo>
                  <a:lnTo>
                    <a:pt x="382" y="1206"/>
                  </a:lnTo>
                  <a:lnTo>
                    <a:pt x="377" y="1232"/>
                  </a:lnTo>
                  <a:lnTo>
                    <a:pt x="374" y="1253"/>
                  </a:lnTo>
                  <a:lnTo>
                    <a:pt x="369" y="1273"/>
                  </a:lnTo>
                  <a:lnTo>
                    <a:pt x="361" y="1293"/>
                  </a:lnTo>
                  <a:lnTo>
                    <a:pt x="350" y="1316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9"/>
                  </a:lnTo>
                  <a:lnTo>
                    <a:pt x="277" y="1400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0" y="1394"/>
                  </a:lnTo>
                  <a:lnTo>
                    <a:pt x="154" y="1381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6" y="1343"/>
                  </a:lnTo>
                  <a:lnTo>
                    <a:pt x="106" y="1316"/>
                  </a:lnTo>
                  <a:lnTo>
                    <a:pt x="99" y="1291"/>
                  </a:lnTo>
                  <a:lnTo>
                    <a:pt x="93" y="1262"/>
                  </a:lnTo>
                  <a:lnTo>
                    <a:pt x="93" y="1235"/>
                  </a:lnTo>
                  <a:lnTo>
                    <a:pt x="89" y="1187"/>
                  </a:lnTo>
                  <a:lnTo>
                    <a:pt x="104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7" y="1090"/>
                  </a:lnTo>
                  <a:lnTo>
                    <a:pt x="114" y="1070"/>
                  </a:lnTo>
                  <a:lnTo>
                    <a:pt x="83" y="1048"/>
                  </a:lnTo>
                  <a:lnTo>
                    <a:pt x="97" y="1027"/>
                  </a:lnTo>
                  <a:lnTo>
                    <a:pt x="114" y="981"/>
                  </a:lnTo>
                  <a:lnTo>
                    <a:pt x="101" y="983"/>
                  </a:lnTo>
                  <a:lnTo>
                    <a:pt x="89" y="980"/>
                  </a:lnTo>
                  <a:lnTo>
                    <a:pt x="83" y="975"/>
                  </a:lnTo>
                  <a:lnTo>
                    <a:pt x="77" y="967"/>
                  </a:lnTo>
                  <a:lnTo>
                    <a:pt x="75" y="959"/>
                  </a:lnTo>
                  <a:lnTo>
                    <a:pt x="66" y="961"/>
                  </a:lnTo>
                  <a:lnTo>
                    <a:pt x="55" y="959"/>
                  </a:lnTo>
                  <a:lnTo>
                    <a:pt x="46" y="954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2"/>
                  </a:lnTo>
                  <a:lnTo>
                    <a:pt x="18" y="909"/>
                  </a:lnTo>
                  <a:lnTo>
                    <a:pt x="10" y="906"/>
                  </a:lnTo>
                  <a:lnTo>
                    <a:pt x="2" y="833"/>
                  </a:lnTo>
                  <a:lnTo>
                    <a:pt x="9" y="831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5"/>
                  </a:lnTo>
                  <a:lnTo>
                    <a:pt x="9" y="755"/>
                  </a:lnTo>
                  <a:lnTo>
                    <a:pt x="15" y="749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3" y="720"/>
                  </a:lnTo>
                  <a:lnTo>
                    <a:pt x="44" y="715"/>
                  </a:lnTo>
                  <a:lnTo>
                    <a:pt x="36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6" y="666"/>
                  </a:lnTo>
                  <a:lnTo>
                    <a:pt x="89" y="671"/>
                  </a:lnTo>
                  <a:lnTo>
                    <a:pt x="91" y="678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1" y="707"/>
                  </a:lnTo>
                  <a:lnTo>
                    <a:pt x="88" y="711"/>
                  </a:lnTo>
                  <a:lnTo>
                    <a:pt x="93" y="715"/>
                  </a:lnTo>
                  <a:lnTo>
                    <a:pt x="101" y="715"/>
                  </a:lnTo>
                  <a:lnTo>
                    <a:pt x="106" y="711"/>
                  </a:lnTo>
                  <a:lnTo>
                    <a:pt x="111" y="705"/>
                  </a:lnTo>
                  <a:lnTo>
                    <a:pt x="107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3" y="691"/>
                  </a:lnTo>
                  <a:lnTo>
                    <a:pt x="128" y="695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2" y="511"/>
                  </a:lnTo>
                  <a:lnTo>
                    <a:pt x="159" y="487"/>
                  </a:lnTo>
                  <a:lnTo>
                    <a:pt x="167" y="471"/>
                  </a:lnTo>
                  <a:lnTo>
                    <a:pt x="178" y="456"/>
                  </a:lnTo>
                  <a:lnTo>
                    <a:pt x="168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3" y="356"/>
                  </a:lnTo>
                  <a:lnTo>
                    <a:pt x="191" y="327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69" y="252"/>
                  </a:lnTo>
                  <a:lnTo>
                    <a:pt x="283" y="243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3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6" y="201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3" y="151"/>
                  </a:lnTo>
                  <a:lnTo>
                    <a:pt x="363" y="125"/>
                  </a:lnTo>
                  <a:lnTo>
                    <a:pt x="369" y="99"/>
                  </a:lnTo>
                  <a:lnTo>
                    <a:pt x="377" y="72"/>
                  </a:lnTo>
                  <a:lnTo>
                    <a:pt x="393" y="52"/>
                  </a:lnTo>
                  <a:lnTo>
                    <a:pt x="405" y="39"/>
                  </a:lnTo>
                  <a:lnTo>
                    <a:pt x="440" y="21"/>
                  </a:lnTo>
                  <a:lnTo>
                    <a:pt x="466" y="12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61" y="4"/>
                  </a:lnTo>
                  <a:lnTo>
                    <a:pt x="578" y="10"/>
                  </a:lnTo>
                  <a:lnTo>
                    <a:pt x="592" y="17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9" y="86"/>
                  </a:lnTo>
                  <a:lnTo>
                    <a:pt x="658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9"/>
                  </a:lnTo>
                  <a:lnTo>
                    <a:pt x="660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8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8" y="412"/>
                  </a:lnTo>
                  <a:lnTo>
                    <a:pt x="800" y="421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3" y="456"/>
                  </a:lnTo>
                  <a:lnTo>
                    <a:pt x="778" y="461"/>
                  </a:lnTo>
                  <a:lnTo>
                    <a:pt x="783" y="467"/>
                  </a:lnTo>
                  <a:lnTo>
                    <a:pt x="788" y="474"/>
                  </a:lnTo>
                  <a:lnTo>
                    <a:pt x="794" y="485"/>
                  </a:lnTo>
                  <a:lnTo>
                    <a:pt x="809" y="495"/>
                  </a:lnTo>
                  <a:lnTo>
                    <a:pt x="820" y="502"/>
                  </a:lnTo>
                  <a:lnTo>
                    <a:pt x="831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6"/>
                  </a:lnTo>
                  <a:lnTo>
                    <a:pt x="904" y="502"/>
                  </a:lnTo>
                  <a:lnTo>
                    <a:pt x="916" y="498"/>
                  </a:lnTo>
                  <a:lnTo>
                    <a:pt x="961" y="467"/>
                  </a:lnTo>
                  <a:lnTo>
                    <a:pt x="1021" y="403"/>
                  </a:lnTo>
                  <a:lnTo>
                    <a:pt x="1027" y="404"/>
                  </a:lnTo>
                  <a:lnTo>
                    <a:pt x="1061" y="368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7" y="338"/>
                  </a:lnTo>
                  <a:lnTo>
                    <a:pt x="1208" y="335"/>
                  </a:lnTo>
                  <a:lnTo>
                    <a:pt x="1121" y="385"/>
                  </a:lnTo>
                  <a:lnTo>
                    <a:pt x="1105" y="403"/>
                  </a:lnTo>
                  <a:lnTo>
                    <a:pt x="1079" y="445"/>
                  </a:lnTo>
                  <a:lnTo>
                    <a:pt x="1082" y="456"/>
                  </a:lnTo>
                  <a:lnTo>
                    <a:pt x="1017" y="568"/>
                  </a:lnTo>
                  <a:lnTo>
                    <a:pt x="996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8"/>
                  </a:lnTo>
                  <a:lnTo>
                    <a:pt x="890" y="682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07120" y="2548080"/>
              <a:ext cx="301680" cy="85680"/>
            </a:xfrm>
            <a:custGeom>
              <a:avLst/>
              <a:gdLst/>
              <a:ahLst/>
              <a:rect l="l" t="t" r="r" b="b"/>
              <a:pathLst>
                <a:path w="950" h="270">
                  <a:moveTo>
                    <a:pt x="668" y="131"/>
                  </a:moveTo>
                  <a:lnTo>
                    <a:pt x="653" y="126"/>
                  </a:lnTo>
                  <a:lnTo>
                    <a:pt x="556" y="130"/>
                  </a:lnTo>
                  <a:lnTo>
                    <a:pt x="550" y="135"/>
                  </a:lnTo>
                  <a:lnTo>
                    <a:pt x="656" y="139"/>
                  </a:lnTo>
                  <a:lnTo>
                    <a:pt x="649" y="142"/>
                  </a:lnTo>
                  <a:lnTo>
                    <a:pt x="539" y="142"/>
                  </a:lnTo>
                  <a:lnTo>
                    <a:pt x="409" y="146"/>
                  </a:lnTo>
                  <a:lnTo>
                    <a:pt x="378" y="146"/>
                  </a:lnTo>
                  <a:lnTo>
                    <a:pt x="269" y="190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9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79" y="168"/>
                  </a:lnTo>
                  <a:lnTo>
                    <a:pt x="176" y="168"/>
                  </a:lnTo>
                  <a:lnTo>
                    <a:pt x="148" y="166"/>
                  </a:lnTo>
                  <a:lnTo>
                    <a:pt x="157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5" y="197"/>
                  </a:lnTo>
                  <a:lnTo>
                    <a:pt x="150" y="201"/>
                  </a:lnTo>
                  <a:lnTo>
                    <a:pt x="181" y="201"/>
                  </a:lnTo>
                  <a:lnTo>
                    <a:pt x="184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82" y="16"/>
                  </a:lnTo>
                  <a:lnTo>
                    <a:pt x="89" y="8"/>
                  </a:lnTo>
                  <a:lnTo>
                    <a:pt x="100" y="7"/>
                  </a:lnTo>
                  <a:lnTo>
                    <a:pt x="273" y="21"/>
                  </a:lnTo>
                  <a:lnTo>
                    <a:pt x="281" y="25"/>
                  </a:lnTo>
                  <a:lnTo>
                    <a:pt x="287" y="31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89" y="54"/>
                  </a:lnTo>
                  <a:lnTo>
                    <a:pt x="287" y="58"/>
                  </a:lnTo>
                  <a:lnTo>
                    <a:pt x="276" y="58"/>
                  </a:lnTo>
                  <a:lnTo>
                    <a:pt x="278" y="52"/>
                  </a:lnTo>
                  <a:lnTo>
                    <a:pt x="282" y="45"/>
                  </a:lnTo>
                  <a:lnTo>
                    <a:pt x="282" y="37"/>
                  </a:lnTo>
                  <a:lnTo>
                    <a:pt x="276" y="32"/>
                  </a:lnTo>
                  <a:lnTo>
                    <a:pt x="269" y="28"/>
                  </a:lnTo>
                  <a:lnTo>
                    <a:pt x="139" y="28"/>
                  </a:lnTo>
                  <a:lnTo>
                    <a:pt x="134" y="36"/>
                  </a:lnTo>
                  <a:lnTo>
                    <a:pt x="129" y="44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29" y="60"/>
                  </a:lnTo>
                  <a:lnTo>
                    <a:pt x="135" y="61"/>
                  </a:lnTo>
                  <a:lnTo>
                    <a:pt x="269" y="61"/>
                  </a:lnTo>
                  <a:lnTo>
                    <a:pt x="276" y="58"/>
                  </a:lnTo>
                  <a:lnTo>
                    <a:pt x="287" y="58"/>
                  </a:lnTo>
                  <a:lnTo>
                    <a:pt x="674" y="58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4" y="44"/>
                  </a:lnTo>
                  <a:lnTo>
                    <a:pt x="719" y="44"/>
                  </a:lnTo>
                  <a:lnTo>
                    <a:pt x="719" y="23"/>
                  </a:lnTo>
                  <a:lnTo>
                    <a:pt x="706" y="23"/>
                  </a:lnTo>
                  <a:lnTo>
                    <a:pt x="680" y="55"/>
                  </a:lnTo>
                  <a:lnTo>
                    <a:pt x="680" y="60"/>
                  </a:lnTo>
                  <a:lnTo>
                    <a:pt x="682" y="60"/>
                  </a:lnTo>
                  <a:lnTo>
                    <a:pt x="674" y="58"/>
                  </a:lnTo>
                  <a:lnTo>
                    <a:pt x="711" y="5"/>
                  </a:lnTo>
                  <a:lnTo>
                    <a:pt x="719" y="0"/>
                  </a:lnTo>
                  <a:lnTo>
                    <a:pt x="726" y="5"/>
                  </a:lnTo>
                  <a:lnTo>
                    <a:pt x="732" y="10"/>
                  </a:lnTo>
                  <a:lnTo>
                    <a:pt x="735" y="74"/>
                  </a:lnTo>
                  <a:lnTo>
                    <a:pt x="840" y="74"/>
                  </a:lnTo>
                  <a:lnTo>
                    <a:pt x="852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0" y="67"/>
                  </a:lnTo>
                  <a:lnTo>
                    <a:pt x="950" y="99"/>
                  </a:lnTo>
                  <a:lnTo>
                    <a:pt x="930" y="99"/>
                  </a:lnTo>
                  <a:lnTo>
                    <a:pt x="921" y="92"/>
                  </a:lnTo>
                  <a:lnTo>
                    <a:pt x="735" y="92"/>
                  </a:lnTo>
                  <a:lnTo>
                    <a:pt x="735" y="102"/>
                  </a:lnTo>
                  <a:lnTo>
                    <a:pt x="719" y="102"/>
                  </a:lnTo>
                  <a:lnTo>
                    <a:pt x="719" y="99"/>
                  </a:lnTo>
                  <a:lnTo>
                    <a:pt x="688" y="99"/>
                  </a:lnTo>
                  <a:lnTo>
                    <a:pt x="688" y="115"/>
                  </a:lnTo>
                  <a:lnTo>
                    <a:pt x="677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307120" y="2548080"/>
              <a:ext cx="301680" cy="85680"/>
            </a:xfrm>
            <a:custGeom>
              <a:avLst/>
              <a:gdLst/>
              <a:ahLst/>
              <a:rect l="l" t="t" r="r" b="b"/>
              <a:pathLst>
                <a:path w="950" h="270">
                  <a:moveTo>
                    <a:pt x="668" y="131"/>
                  </a:moveTo>
                  <a:lnTo>
                    <a:pt x="653" y="126"/>
                  </a:lnTo>
                  <a:lnTo>
                    <a:pt x="556" y="130"/>
                  </a:lnTo>
                  <a:lnTo>
                    <a:pt x="550" y="135"/>
                  </a:lnTo>
                  <a:lnTo>
                    <a:pt x="656" y="139"/>
                  </a:lnTo>
                  <a:lnTo>
                    <a:pt x="649" y="142"/>
                  </a:lnTo>
                  <a:lnTo>
                    <a:pt x="539" y="142"/>
                  </a:lnTo>
                  <a:lnTo>
                    <a:pt x="409" y="146"/>
                  </a:lnTo>
                  <a:lnTo>
                    <a:pt x="378" y="146"/>
                  </a:lnTo>
                  <a:lnTo>
                    <a:pt x="269" y="190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9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79" y="168"/>
                  </a:lnTo>
                  <a:lnTo>
                    <a:pt x="176" y="168"/>
                  </a:lnTo>
                  <a:lnTo>
                    <a:pt x="148" y="166"/>
                  </a:lnTo>
                  <a:lnTo>
                    <a:pt x="157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5" y="197"/>
                  </a:lnTo>
                  <a:lnTo>
                    <a:pt x="150" y="201"/>
                  </a:lnTo>
                  <a:lnTo>
                    <a:pt x="181" y="201"/>
                  </a:lnTo>
                  <a:lnTo>
                    <a:pt x="184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82" y="16"/>
                  </a:lnTo>
                  <a:lnTo>
                    <a:pt x="89" y="8"/>
                  </a:lnTo>
                  <a:lnTo>
                    <a:pt x="100" y="7"/>
                  </a:lnTo>
                  <a:lnTo>
                    <a:pt x="273" y="21"/>
                  </a:lnTo>
                  <a:lnTo>
                    <a:pt x="281" y="25"/>
                  </a:lnTo>
                  <a:lnTo>
                    <a:pt x="287" y="31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89" y="54"/>
                  </a:lnTo>
                  <a:lnTo>
                    <a:pt x="287" y="58"/>
                  </a:lnTo>
                  <a:lnTo>
                    <a:pt x="276" y="58"/>
                  </a:lnTo>
                  <a:lnTo>
                    <a:pt x="278" y="52"/>
                  </a:lnTo>
                  <a:lnTo>
                    <a:pt x="282" y="45"/>
                  </a:lnTo>
                  <a:lnTo>
                    <a:pt x="282" y="37"/>
                  </a:lnTo>
                  <a:lnTo>
                    <a:pt x="276" y="32"/>
                  </a:lnTo>
                  <a:lnTo>
                    <a:pt x="269" y="28"/>
                  </a:lnTo>
                  <a:lnTo>
                    <a:pt x="139" y="28"/>
                  </a:lnTo>
                  <a:lnTo>
                    <a:pt x="134" y="36"/>
                  </a:lnTo>
                  <a:lnTo>
                    <a:pt x="129" y="44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29" y="60"/>
                  </a:lnTo>
                  <a:lnTo>
                    <a:pt x="135" y="61"/>
                  </a:lnTo>
                  <a:lnTo>
                    <a:pt x="269" y="61"/>
                  </a:lnTo>
                  <a:lnTo>
                    <a:pt x="276" y="58"/>
                  </a:lnTo>
                  <a:lnTo>
                    <a:pt x="287" y="58"/>
                  </a:lnTo>
                  <a:lnTo>
                    <a:pt x="674" y="58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4" y="44"/>
                  </a:lnTo>
                  <a:lnTo>
                    <a:pt x="719" y="44"/>
                  </a:lnTo>
                  <a:lnTo>
                    <a:pt x="719" y="23"/>
                  </a:lnTo>
                  <a:lnTo>
                    <a:pt x="706" y="23"/>
                  </a:lnTo>
                  <a:lnTo>
                    <a:pt x="680" y="55"/>
                  </a:lnTo>
                  <a:lnTo>
                    <a:pt x="680" y="60"/>
                  </a:lnTo>
                  <a:lnTo>
                    <a:pt x="682" y="60"/>
                  </a:lnTo>
                  <a:lnTo>
                    <a:pt x="674" y="58"/>
                  </a:lnTo>
                  <a:lnTo>
                    <a:pt x="711" y="5"/>
                  </a:lnTo>
                  <a:lnTo>
                    <a:pt x="719" y="0"/>
                  </a:lnTo>
                  <a:lnTo>
                    <a:pt x="726" y="5"/>
                  </a:lnTo>
                  <a:lnTo>
                    <a:pt x="732" y="10"/>
                  </a:lnTo>
                  <a:lnTo>
                    <a:pt x="735" y="74"/>
                  </a:lnTo>
                  <a:lnTo>
                    <a:pt x="840" y="74"/>
                  </a:lnTo>
                  <a:lnTo>
                    <a:pt x="852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0" y="67"/>
                  </a:lnTo>
                  <a:lnTo>
                    <a:pt x="950" y="99"/>
                  </a:lnTo>
                  <a:lnTo>
                    <a:pt x="930" y="99"/>
                  </a:lnTo>
                  <a:lnTo>
                    <a:pt x="921" y="92"/>
                  </a:lnTo>
                  <a:lnTo>
                    <a:pt x="735" y="92"/>
                  </a:lnTo>
                  <a:lnTo>
                    <a:pt x="735" y="102"/>
                  </a:lnTo>
                  <a:lnTo>
                    <a:pt x="719" y="102"/>
                  </a:lnTo>
                  <a:lnTo>
                    <a:pt x="719" y="99"/>
                  </a:lnTo>
                  <a:lnTo>
                    <a:pt x="688" y="99"/>
                  </a:lnTo>
                  <a:lnTo>
                    <a:pt x="688" y="115"/>
                  </a:lnTo>
                  <a:lnTo>
                    <a:pt x="677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68840" y="3546360"/>
              <a:ext cx="360" cy="360"/>
            </a:xfrm>
            <a:prstGeom prst="rect">
              <a:avLst/>
            </a:prstGeom>
            <a:noFill/>
            <a:ln w="9360">
              <a:solidFill>
                <a:srgbClr val="605d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94400" y="3076560"/>
              <a:ext cx="384120" cy="446040"/>
            </a:xfrm>
            <a:custGeom>
              <a:avLst/>
              <a:gdLst/>
              <a:ahLst/>
              <a:rect l="l" t="t" r="r" b="b"/>
              <a:pathLst>
                <a:path w="1209" h="1406">
                  <a:moveTo>
                    <a:pt x="640" y="690"/>
                  </a:moveTo>
                  <a:lnTo>
                    <a:pt x="661" y="673"/>
                  </a:lnTo>
                  <a:lnTo>
                    <a:pt x="682" y="661"/>
                  </a:lnTo>
                  <a:lnTo>
                    <a:pt x="702" y="650"/>
                  </a:lnTo>
                  <a:lnTo>
                    <a:pt x="723" y="640"/>
                  </a:lnTo>
                  <a:lnTo>
                    <a:pt x="683" y="614"/>
                  </a:lnTo>
                  <a:lnTo>
                    <a:pt x="666" y="601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40" y="690"/>
                  </a:lnTo>
                  <a:close/>
                  <a:moveTo>
                    <a:pt x="872" y="682"/>
                  </a:moveTo>
                  <a:lnTo>
                    <a:pt x="874" y="737"/>
                  </a:lnTo>
                  <a:lnTo>
                    <a:pt x="874" y="802"/>
                  </a:lnTo>
                  <a:lnTo>
                    <a:pt x="867" y="877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79"/>
                  </a:lnTo>
                  <a:lnTo>
                    <a:pt x="795" y="1089"/>
                  </a:lnTo>
                  <a:lnTo>
                    <a:pt x="784" y="1141"/>
                  </a:lnTo>
                  <a:lnTo>
                    <a:pt x="784" y="1151"/>
                  </a:lnTo>
                  <a:lnTo>
                    <a:pt x="790" y="1160"/>
                  </a:lnTo>
                  <a:lnTo>
                    <a:pt x="790" y="1168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199"/>
                  </a:lnTo>
                  <a:lnTo>
                    <a:pt x="806" y="1213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9" y="1231"/>
                  </a:lnTo>
                  <a:lnTo>
                    <a:pt x="834" y="1241"/>
                  </a:lnTo>
                  <a:lnTo>
                    <a:pt x="839" y="1249"/>
                  </a:lnTo>
                  <a:lnTo>
                    <a:pt x="871" y="1267"/>
                  </a:lnTo>
                  <a:lnTo>
                    <a:pt x="891" y="1275"/>
                  </a:lnTo>
                  <a:lnTo>
                    <a:pt x="900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2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2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6" y="1263"/>
                  </a:lnTo>
                  <a:lnTo>
                    <a:pt x="650" y="1257"/>
                  </a:lnTo>
                  <a:lnTo>
                    <a:pt x="647" y="1239"/>
                  </a:lnTo>
                  <a:lnTo>
                    <a:pt x="648" y="1224"/>
                  </a:lnTo>
                  <a:lnTo>
                    <a:pt x="650" y="1209"/>
                  </a:lnTo>
                  <a:lnTo>
                    <a:pt x="654" y="1196"/>
                  </a:lnTo>
                  <a:lnTo>
                    <a:pt x="659" y="1183"/>
                  </a:lnTo>
                  <a:lnTo>
                    <a:pt x="666" y="1170"/>
                  </a:lnTo>
                  <a:lnTo>
                    <a:pt x="672" y="1160"/>
                  </a:lnTo>
                  <a:lnTo>
                    <a:pt x="672" y="1147"/>
                  </a:lnTo>
                  <a:lnTo>
                    <a:pt x="672" y="1134"/>
                  </a:lnTo>
                  <a:lnTo>
                    <a:pt x="676" y="1125"/>
                  </a:lnTo>
                  <a:lnTo>
                    <a:pt x="682" y="1115"/>
                  </a:lnTo>
                  <a:lnTo>
                    <a:pt x="682" y="1072"/>
                  </a:lnTo>
                  <a:lnTo>
                    <a:pt x="666" y="1065"/>
                  </a:lnTo>
                  <a:lnTo>
                    <a:pt x="667" y="1054"/>
                  </a:lnTo>
                  <a:lnTo>
                    <a:pt x="671" y="1042"/>
                  </a:lnTo>
                  <a:lnTo>
                    <a:pt x="671" y="1028"/>
                  </a:lnTo>
                  <a:lnTo>
                    <a:pt x="667" y="1012"/>
                  </a:lnTo>
                  <a:lnTo>
                    <a:pt x="671" y="987"/>
                  </a:lnTo>
                  <a:lnTo>
                    <a:pt x="676" y="954"/>
                  </a:lnTo>
                  <a:lnTo>
                    <a:pt x="685" y="921"/>
                  </a:lnTo>
                  <a:lnTo>
                    <a:pt x="698" y="886"/>
                  </a:lnTo>
                  <a:lnTo>
                    <a:pt x="676" y="912"/>
                  </a:lnTo>
                  <a:lnTo>
                    <a:pt x="653" y="937"/>
                  </a:lnTo>
                  <a:lnTo>
                    <a:pt x="632" y="958"/>
                  </a:lnTo>
                  <a:lnTo>
                    <a:pt x="608" y="979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4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1"/>
                  </a:lnTo>
                  <a:lnTo>
                    <a:pt x="383" y="1206"/>
                  </a:lnTo>
                  <a:lnTo>
                    <a:pt x="378" y="1231"/>
                  </a:lnTo>
                  <a:lnTo>
                    <a:pt x="375" y="1251"/>
                  </a:lnTo>
                  <a:lnTo>
                    <a:pt x="370" y="1272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1"/>
                  </a:lnTo>
                  <a:lnTo>
                    <a:pt x="328" y="1345"/>
                  </a:lnTo>
                  <a:lnTo>
                    <a:pt x="323" y="1359"/>
                  </a:lnTo>
                  <a:lnTo>
                    <a:pt x="315" y="1375"/>
                  </a:lnTo>
                  <a:lnTo>
                    <a:pt x="300" y="1388"/>
                  </a:lnTo>
                  <a:lnTo>
                    <a:pt x="278" y="1398"/>
                  </a:lnTo>
                  <a:lnTo>
                    <a:pt x="247" y="1406"/>
                  </a:lnTo>
                  <a:lnTo>
                    <a:pt x="219" y="1406"/>
                  </a:lnTo>
                  <a:lnTo>
                    <a:pt x="192" y="1401"/>
                  </a:lnTo>
                  <a:lnTo>
                    <a:pt x="171" y="1393"/>
                  </a:lnTo>
                  <a:lnTo>
                    <a:pt x="155" y="1380"/>
                  </a:lnTo>
                  <a:lnTo>
                    <a:pt x="144" y="1369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0"/>
                  </a:lnTo>
                  <a:lnTo>
                    <a:pt x="94" y="1233"/>
                  </a:lnTo>
                  <a:lnTo>
                    <a:pt x="90" y="1186"/>
                  </a:lnTo>
                  <a:lnTo>
                    <a:pt x="105" y="1158"/>
                  </a:lnTo>
                  <a:lnTo>
                    <a:pt x="111" y="1123"/>
                  </a:lnTo>
                  <a:lnTo>
                    <a:pt x="121" y="1108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4" y="1046"/>
                  </a:lnTo>
                  <a:lnTo>
                    <a:pt x="98" y="1026"/>
                  </a:lnTo>
                  <a:lnTo>
                    <a:pt x="114" y="979"/>
                  </a:lnTo>
                  <a:lnTo>
                    <a:pt x="102" y="981"/>
                  </a:lnTo>
                  <a:lnTo>
                    <a:pt x="90" y="978"/>
                  </a:lnTo>
                  <a:lnTo>
                    <a:pt x="84" y="974"/>
                  </a:lnTo>
                  <a:lnTo>
                    <a:pt x="78" y="965"/>
                  </a:lnTo>
                  <a:lnTo>
                    <a:pt x="76" y="958"/>
                  </a:lnTo>
                  <a:lnTo>
                    <a:pt x="66" y="960"/>
                  </a:lnTo>
                  <a:lnTo>
                    <a:pt x="56" y="958"/>
                  </a:lnTo>
                  <a:lnTo>
                    <a:pt x="46" y="952"/>
                  </a:lnTo>
                  <a:lnTo>
                    <a:pt x="37" y="945"/>
                  </a:lnTo>
                  <a:lnTo>
                    <a:pt x="30" y="932"/>
                  </a:lnTo>
                  <a:lnTo>
                    <a:pt x="23" y="921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8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3"/>
                  </a:lnTo>
                  <a:lnTo>
                    <a:pt x="10" y="754"/>
                  </a:lnTo>
                  <a:lnTo>
                    <a:pt x="16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19"/>
                  </a:lnTo>
                  <a:lnTo>
                    <a:pt x="45" y="714"/>
                  </a:lnTo>
                  <a:lnTo>
                    <a:pt x="37" y="699"/>
                  </a:lnTo>
                  <a:lnTo>
                    <a:pt x="43" y="675"/>
                  </a:lnTo>
                  <a:lnTo>
                    <a:pt x="45" y="669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59"/>
                  </a:lnTo>
                  <a:lnTo>
                    <a:pt x="84" y="659"/>
                  </a:lnTo>
                  <a:lnTo>
                    <a:pt x="84" y="666"/>
                  </a:lnTo>
                  <a:lnTo>
                    <a:pt x="87" y="666"/>
                  </a:lnTo>
                  <a:lnTo>
                    <a:pt x="90" y="669"/>
                  </a:lnTo>
                  <a:lnTo>
                    <a:pt x="92" y="677"/>
                  </a:lnTo>
                  <a:lnTo>
                    <a:pt x="94" y="688"/>
                  </a:lnTo>
                  <a:lnTo>
                    <a:pt x="94" y="699"/>
                  </a:lnTo>
                  <a:lnTo>
                    <a:pt x="92" y="706"/>
                  </a:lnTo>
                  <a:lnTo>
                    <a:pt x="89" y="710"/>
                  </a:lnTo>
                  <a:lnTo>
                    <a:pt x="94" y="714"/>
                  </a:lnTo>
                  <a:lnTo>
                    <a:pt x="102" y="714"/>
                  </a:lnTo>
                  <a:lnTo>
                    <a:pt x="107" y="710"/>
                  </a:lnTo>
                  <a:lnTo>
                    <a:pt x="111" y="705"/>
                  </a:lnTo>
                  <a:lnTo>
                    <a:pt x="108" y="696"/>
                  </a:lnTo>
                  <a:lnTo>
                    <a:pt x="94" y="699"/>
                  </a:lnTo>
                  <a:lnTo>
                    <a:pt x="94" y="688"/>
                  </a:lnTo>
                  <a:lnTo>
                    <a:pt x="113" y="686"/>
                  </a:lnTo>
                  <a:lnTo>
                    <a:pt x="118" y="688"/>
                  </a:lnTo>
                  <a:lnTo>
                    <a:pt x="124" y="690"/>
                  </a:lnTo>
                  <a:lnTo>
                    <a:pt x="129" y="693"/>
                  </a:lnTo>
                  <a:lnTo>
                    <a:pt x="125" y="672"/>
                  </a:lnTo>
                  <a:lnTo>
                    <a:pt x="119" y="650"/>
                  </a:lnTo>
                  <a:lnTo>
                    <a:pt x="153" y="510"/>
                  </a:lnTo>
                  <a:lnTo>
                    <a:pt x="160" y="486"/>
                  </a:lnTo>
                  <a:lnTo>
                    <a:pt x="168" y="470"/>
                  </a:lnTo>
                  <a:lnTo>
                    <a:pt x="179" y="454"/>
                  </a:lnTo>
                  <a:lnTo>
                    <a:pt x="169" y="422"/>
                  </a:lnTo>
                  <a:lnTo>
                    <a:pt x="166" y="399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2" y="326"/>
                  </a:lnTo>
                  <a:lnTo>
                    <a:pt x="208" y="302"/>
                  </a:lnTo>
                  <a:lnTo>
                    <a:pt x="232" y="281"/>
                  </a:lnTo>
                  <a:lnTo>
                    <a:pt x="255" y="265"/>
                  </a:lnTo>
                  <a:lnTo>
                    <a:pt x="270" y="251"/>
                  </a:lnTo>
                  <a:lnTo>
                    <a:pt x="284" y="242"/>
                  </a:lnTo>
                  <a:lnTo>
                    <a:pt x="300" y="238"/>
                  </a:lnTo>
                  <a:lnTo>
                    <a:pt x="315" y="238"/>
                  </a:lnTo>
                  <a:lnTo>
                    <a:pt x="331" y="242"/>
                  </a:lnTo>
                  <a:lnTo>
                    <a:pt x="368" y="234"/>
                  </a:lnTo>
                  <a:lnTo>
                    <a:pt x="371" y="221"/>
                  </a:lnTo>
                  <a:lnTo>
                    <a:pt x="365" y="200"/>
                  </a:lnTo>
                  <a:lnTo>
                    <a:pt x="370" y="197"/>
                  </a:lnTo>
                  <a:lnTo>
                    <a:pt x="365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70" y="98"/>
                  </a:lnTo>
                  <a:lnTo>
                    <a:pt x="378" y="71"/>
                  </a:lnTo>
                  <a:lnTo>
                    <a:pt x="393" y="51"/>
                  </a:lnTo>
                  <a:lnTo>
                    <a:pt x="406" y="38"/>
                  </a:lnTo>
                  <a:lnTo>
                    <a:pt x="441" y="19"/>
                  </a:lnTo>
                  <a:lnTo>
                    <a:pt x="467" y="11"/>
                  </a:lnTo>
                  <a:lnTo>
                    <a:pt x="493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3" y="16"/>
                  </a:lnTo>
                  <a:lnTo>
                    <a:pt x="608" y="30"/>
                  </a:lnTo>
                  <a:lnTo>
                    <a:pt x="621" y="49"/>
                  </a:lnTo>
                  <a:lnTo>
                    <a:pt x="640" y="86"/>
                  </a:lnTo>
                  <a:lnTo>
                    <a:pt x="659" y="129"/>
                  </a:lnTo>
                  <a:lnTo>
                    <a:pt x="669" y="140"/>
                  </a:lnTo>
                  <a:lnTo>
                    <a:pt x="672" y="150"/>
                  </a:lnTo>
                  <a:lnTo>
                    <a:pt x="671" y="157"/>
                  </a:lnTo>
                  <a:lnTo>
                    <a:pt x="661" y="165"/>
                  </a:lnTo>
                  <a:lnTo>
                    <a:pt x="634" y="174"/>
                  </a:lnTo>
                  <a:lnTo>
                    <a:pt x="637" y="197"/>
                  </a:lnTo>
                  <a:lnTo>
                    <a:pt x="640" y="220"/>
                  </a:lnTo>
                  <a:lnTo>
                    <a:pt x="640" y="236"/>
                  </a:lnTo>
                  <a:lnTo>
                    <a:pt x="652" y="238"/>
                  </a:lnTo>
                  <a:lnTo>
                    <a:pt x="669" y="270"/>
                  </a:lnTo>
                  <a:lnTo>
                    <a:pt x="793" y="402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6"/>
                  </a:lnTo>
                  <a:lnTo>
                    <a:pt x="788" y="446"/>
                  </a:lnTo>
                  <a:lnTo>
                    <a:pt x="784" y="454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8" y="473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0"/>
                  </a:lnTo>
                  <a:lnTo>
                    <a:pt x="843" y="517"/>
                  </a:lnTo>
                  <a:lnTo>
                    <a:pt x="873" y="508"/>
                  </a:lnTo>
                  <a:lnTo>
                    <a:pt x="889" y="504"/>
                  </a:lnTo>
                  <a:lnTo>
                    <a:pt x="905" y="501"/>
                  </a:lnTo>
                  <a:lnTo>
                    <a:pt x="916" y="497"/>
                  </a:lnTo>
                  <a:lnTo>
                    <a:pt x="962" y="466"/>
                  </a:lnTo>
                  <a:lnTo>
                    <a:pt x="1021" y="402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7"/>
                  </a:lnTo>
                  <a:lnTo>
                    <a:pt x="1069" y="349"/>
                  </a:lnTo>
                  <a:lnTo>
                    <a:pt x="1078" y="337"/>
                  </a:lnTo>
                  <a:lnTo>
                    <a:pt x="1209" y="333"/>
                  </a:lnTo>
                  <a:lnTo>
                    <a:pt x="1122" y="383"/>
                  </a:lnTo>
                  <a:lnTo>
                    <a:pt x="1105" y="402"/>
                  </a:lnTo>
                  <a:lnTo>
                    <a:pt x="1080" y="444"/>
                  </a:lnTo>
                  <a:lnTo>
                    <a:pt x="1083" y="454"/>
                  </a:lnTo>
                  <a:lnTo>
                    <a:pt x="1018" y="567"/>
                  </a:lnTo>
                  <a:lnTo>
                    <a:pt x="997" y="625"/>
                  </a:lnTo>
                  <a:lnTo>
                    <a:pt x="971" y="646"/>
                  </a:lnTo>
                  <a:lnTo>
                    <a:pt x="946" y="662"/>
                  </a:lnTo>
                  <a:lnTo>
                    <a:pt x="913" y="677"/>
                  </a:lnTo>
                  <a:lnTo>
                    <a:pt x="891" y="681"/>
                  </a:lnTo>
                  <a:lnTo>
                    <a:pt x="872" y="682"/>
                  </a:lnTo>
                  <a:close/>
                  <a:moveTo>
                    <a:pt x="127" y="714"/>
                  </a:moveTo>
                  <a:lnTo>
                    <a:pt x="118" y="722"/>
                  </a:lnTo>
                  <a:lnTo>
                    <a:pt x="121" y="729"/>
                  </a:lnTo>
                  <a:lnTo>
                    <a:pt x="125" y="735"/>
                  </a:lnTo>
                  <a:lnTo>
                    <a:pt x="127" y="729"/>
                  </a:lnTo>
                  <a:lnTo>
                    <a:pt x="129" y="721"/>
                  </a:lnTo>
                  <a:lnTo>
                    <a:pt x="127" y="714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94400" y="3076560"/>
              <a:ext cx="384120" cy="446040"/>
            </a:xfrm>
            <a:custGeom>
              <a:avLst/>
              <a:gdLst/>
              <a:ahLst/>
              <a:rect l="l" t="t" r="r" b="b"/>
              <a:pathLst>
                <a:path w="1209" h="1406">
                  <a:moveTo>
                    <a:pt x="872" y="682"/>
                  </a:moveTo>
                  <a:lnTo>
                    <a:pt x="874" y="737"/>
                  </a:lnTo>
                  <a:lnTo>
                    <a:pt x="874" y="802"/>
                  </a:lnTo>
                  <a:lnTo>
                    <a:pt x="867" y="877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79"/>
                  </a:lnTo>
                  <a:lnTo>
                    <a:pt x="795" y="1089"/>
                  </a:lnTo>
                  <a:lnTo>
                    <a:pt x="784" y="1141"/>
                  </a:lnTo>
                  <a:lnTo>
                    <a:pt x="784" y="1151"/>
                  </a:lnTo>
                  <a:lnTo>
                    <a:pt x="790" y="1160"/>
                  </a:lnTo>
                  <a:lnTo>
                    <a:pt x="790" y="1168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199"/>
                  </a:lnTo>
                  <a:lnTo>
                    <a:pt x="806" y="1213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9" y="1231"/>
                  </a:lnTo>
                  <a:lnTo>
                    <a:pt x="834" y="1241"/>
                  </a:lnTo>
                  <a:lnTo>
                    <a:pt x="839" y="1249"/>
                  </a:lnTo>
                  <a:lnTo>
                    <a:pt x="871" y="1267"/>
                  </a:lnTo>
                  <a:lnTo>
                    <a:pt x="891" y="1275"/>
                  </a:lnTo>
                  <a:lnTo>
                    <a:pt x="900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2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2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6" y="1263"/>
                  </a:lnTo>
                  <a:lnTo>
                    <a:pt x="650" y="1257"/>
                  </a:lnTo>
                  <a:lnTo>
                    <a:pt x="647" y="1239"/>
                  </a:lnTo>
                  <a:lnTo>
                    <a:pt x="648" y="1224"/>
                  </a:lnTo>
                  <a:lnTo>
                    <a:pt x="650" y="1209"/>
                  </a:lnTo>
                  <a:lnTo>
                    <a:pt x="654" y="1196"/>
                  </a:lnTo>
                  <a:lnTo>
                    <a:pt x="659" y="1183"/>
                  </a:lnTo>
                  <a:lnTo>
                    <a:pt x="666" y="1170"/>
                  </a:lnTo>
                  <a:lnTo>
                    <a:pt x="672" y="1160"/>
                  </a:lnTo>
                  <a:lnTo>
                    <a:pt x="672" y="1147"/>
                  </a:lnTo>
                  <a:lnTo>
                    <a:pt x="672" y="1134"/>
                  </a:lnTo>
                  <a:lnTo>
                    <a:pt x="676" y="1125"/>
                  </a:lnTo>
                  <a:lnTo>
                    <a:pt x="682" y="1115"/>
                  </a:lnTo>
                  <a:lnTo>
                    <a:pt x="682" y="1072"/>
                  </a:lnTo>
                  <a:lnTo>
                    <a:pt x="666" y="1065"/>
                  </a:lnTo>
                  <a:lnTo>
                    <a:pt x="667" y="1054"/>
                  </a:lnTo>
                  <a:lnTo>
                    <a:pt x="671" y="1042"/>
                  </a:lnTo>
                  <a:lnTo>
                    <a:pt x="671" y="1028"/>
                  </a:lnTo>
                  <a:lnTo>
                    <a:pt x="667" y="1012"/>
                  </a:lnTo>
                  <a:lnTo>
                    <a:pt x="671" y="987"/>
                  </a:lnTo>
                  <a:lnTo>
                    <a:pt x="676" y="954"/>
                  </a:lnTo>
                  <a:lnTo>
                    <a:pt x="685" y="921"/>
                  </a:lnTo>
                  <a:lnTo>
                    <a:pt x="698" y="886"/>
                  </a:lnTo>
                  <a:lnTo>
                    <a:pt x="676" y="912"/>
                  </a:lnTo>
                  <a:lnTo>
                    <a:pt x="653" y="937"/>
                  </a:lnTo>
                  <a:lnTo>
                    <a:pt x="632" y="958"/>
                  </a:lnTo>
                  <a:lnTo>
                    <a:pt x="608" y="979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4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1"/>
                  </a:lnTo>
                  <a:lnTo>
                    <a:pt x="383" y="1206"/>
                  </a:lnTo>
                  <a:lnTo>
                    <a:pt x="378" y="1231"/>
                  </a:lnTo>
                  <a:lnTo>
                    <a:pt x="375" y="1251"/>
                  </a:lnTo>
                  <a:lnTo>
                    <a:pt x="370" y="1272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1"/>
                  </a:lnTo>
                  <a:lnTo>
                    <a:pt x="328" y="1345"/>
                  </a:lnTo>
                  <a:lnTo>
                    <a:pt x="323" y="1359"/>
                  </a:lnTo>
                  <a:lnTo>
                    <a:pt x="315" y="1375"/>
                  </a:lnTo>
                  <a:lnTo>
                    <a:pt x="300" y="1388"/>
                  </a:lnTo>
                  <a:lnTo>
                    <a:pt x="278" y="1398"/>
                  </a:lnTo>
                  <a:lnTo>
                    <a:pt x="247" y="1406"/>
                  </a:lnTo>
                  <a:lnTo>
                    <a:pt x="219" y="1406"/>
                  </a:lnTo>
                  <a:lnTo>
                    <a:pt x="192" y="1401"/>
                  </a:lnTo>
                  <a:lnTo>
                    <a:pt x="171" y="1393"/>
                  </a:lnTo>
                  <a:lnTo>
                    <a:pt x="155" y="1380"/>
                  </a:lnTo>
                  <a:lnTo>
                    <a:pt x="144" y="1369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0"/>
                  </a:lnTo>
                  <a:lnTo>
                    <a:pt x="94" y="1233"/>
                  </a:lnTo>
                  <a:lnTo>
                    <a:pt x="90" y="1186"/>
                  </a:lnTo>
                  <a:lnTo>
                    <a:pt x="105" y="1158"/>
                  </a:lnTo>
                  <a:lnTo>
                    <a:pt x="111" y="1123"/>
                  </a:lnTo>
                  <a:lnTo>
                    <a:pt x="121" y="1108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4" y="1046"/>
                  </a:lnTo>
                  <a:lnTo>
                    <a:pt x="98" y="1026"/>
                  </a:lnTo>
                  <a:lnTo>
                    <a:pt x="114" y="979"/>
                  </a:lnTo>
                  <a:lnTo>
                    <a:pt x="102" y="981"/>
                  </a:lnTo>
                  <a:lnTo>
                    <a:pt x="90" y="978"/>
                  </a:lnTo>
                  <a:lnTo>
                    <a:pt x="84" y="974"/>
                  </a:lnTo>
                  <a:lnTo>
                    <a:pt x="78" y="965"/>
                  </a:lnTo>
                  <a:lnTo>
                    <a:pt x="76" y="958"/>
                  </a:lnTo>
                  <a:lnTo>
                    <a:pt x="66" y="960"/>
                  </a:lnTo>
                  <a:lnTo>
                    <a:pt x="56" y="958"/>
                  </a:lnTo>
                  <a:lnTo>
                    <a:pt x="46" y="952"/>
                  </a:lnTo>
                  <a:lnTo>
                    <a:pt x="37" y="945"/>
                  </a:lnTo>
                  <a:lnTo>
                    <a:pt x="30" y="932"/>
                  </a:lnTo>
                  <a:lnTo>
                    <a:pt x="23" y="921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8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3"/>
                  </a:lnTo>
                  <a:lnTo>
                    <a:pt x="10" y="754"/>
                  </a:lnTo>
                  <a:lnTo>
                    <a:pt x="16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19"/>
                  </a:lnTo>
                  <a:lnTo>
                    <a:pt x="45" y="714"/>
                  </a:lnTo>
                  <a:lnTo>
                    <a:pt x="37" y="699"/>
                  </a:lnTo>
                  <a:lnTo>
                    <a:pt x="43" y="675"/>
                  </a:lnTo>
                  <a:lnTo>
                    <a:pt x="45" y="669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59"/>
                  </a:lnTo>
                  <a:lnTo>
                    <a:pt x="84" y="659"/>
                  </a:lnTo>
                  <a:lnTo>
                    <a:pt x="84" y="666"/>
                  </a:lnTo>
                  <a:lnTo>
                    <a:pt x="87" y="666"/>
                  </a:lnTo>
                  <a:lnTo>
                    <a:pt x="90" y="669"/>
                  </a:lnTo>
                  <a:lnTo>
                    <a:pt x="92" y="677"/>
                  </a:lnTo>
                  <a:lnTo>
                    <a:pt x="94" y="688"/>
                  </a:lnTo>
                  <a:lnTo>
                    <a:pt x="94" y="699"/>
                  </a:lnTo>
                  <a:lnTo>
                    <a:pt x="92" y="706"/>
                  </a:lnTo>
                  <a:lnTo>
                    <a:pt x="89" y="710"/>
                  </a:lnTo>
                  <a:lnTo>
                    <a:pt x="94" y="714"/>
                  </a:lnTo>
                  <a:lnTo>
                    <a:pt x="102" y="714"/>
                  </a:lnTo>
                  <a:lnTo>
                    <a:pt x="107" y="710"/>
                  </a:lnTo>
                  <a:lnTo>
                    <a:pt x="111" y="705"/>
                  </a:lnTo>
                  <a:lnTo>
                    <a:pt x="108" y="696"/>
                  </a:lnTo>
                  <a:lnTo>
                    <a:pt x="94" y="699"/>
                  </a:lnTo>
                  <a:lnTo>
                    <a:pt x="94" y="688"/>
                  </a:lnTo>
                  <a:lnTo>
                    <a:pt x="113" y="686"/>
                  </a:lnTo>
                  <a:lnTo>
                    <a:pt x="118" y="688"/>
                  </a:lnTo>
                  <a:lnTo>
                    <a:pt x="124" y="690"/>
                  </a:lnTo>
                  <a:lnTo>
                    <a:pt x="129" y="693"/>
                  </a:lnTo>
                  <a:lnTo>
                    <a:pt x="125" y="672"/>
                  </a:lnTo>
                  <a:lnTo>
                    <a:pt x="119" y="650"/>
                  </a:lnTo>
                  <a:lnTo>
                    <a:pt x="153" y="510"/>
                  </a:lnTo>
                  <a:lnTo>
                    <a:pt x="160" y="486"/>
                  </a:lnTo>
                  <a:lnTo>
                    <a:pt x="168" y="470"/>
                  </a:lnTo>
                  <a:lnTo>
                    <a:pt x="179" y="454"/>
                  </a:lnTo>
                  <a:lnTo>
                    <a:pt x="169" y="422"/>
                  </a:lnTo>
                  <a:lnTo>
                    <a:pt x="166" y="399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2" y="326"/>
                  </a:lnTo>
                  <a:lnTo>
                    <a:pt x="208" y="302"/>
                  </a:lnTo>
                  <a:lnTo>
                    <a:pt x="232" y="281"/>
                  </a:lnTo>
                  <a:lnTo>
                    <a:pt x="255" y="265"/>
                  </a:lnTo>
                  <a:lnTo>
                    <a:pt x="270" y="251"/>
                  </a:lnTo>
                  <a:lnTo>
                    <a:pt x="284" y="242"/>
                  </a:lnTo>
                  <a:lnTo>
                    <a:pt x="300" y="238"/>
                  </a:lnTo>
                  <a:lnTo>
                    <a:pt x="315" y="238"/>
                  </a:lnTo>
                  <a:lnTo>
                    <a:pt x="331" y="242"/>
                  </a:lnTo>
                  <a:lnTo>
                    <a:pt x="368" y="234"/>
                  </a:lnTo>
                  <a:lnTo>
                    <a:pt x="371" y="221"/>
                  </a:lnTo>
                  <a:lnTo>
                    <a:pt x="365" y="200"/>
                  </a:lnTo>
                  <a:lnTo>
                    <a:pt x="370" y="197"/>
                  </a:lnTo>
                  <a:lnTo>
                    <a:pt x="365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70" y="98"/>
                  </a:lnTo>
                  <a:lnTo>
                    <a:pt x="378" y="71"/>
                  </a:lnTo>
                  <a:lnTo>
                    <a:pt x="393" y="51"/>
                  </a:lnTo>
                  <a:lnTo>
                    <a:pt x="406" y="38"/>
                  </a:lnTo>
                  <a:lnTo>
                    <a:pt x="441" y="19"/>
                  </a:lnTo>
                  <a:lnTo>
                    <a:pt x="467" y="11"/>
                  </a:lnTo>
                  <a:lnTo>
                    <a:pt x="493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3" y="16"/>
                  </a:lnTo>
                  <a:lnTo>
                    <a:pt x="608" y="30"/>
                  </a:lnTo>
                  <a:lnTo>
                    <a:pt x="621" y="49"/>
                  </a:lnTo>
                  <a:lnTo>
                    <a:pt x="640" y="86"/>
                  </a:lnTo>
                  <a:lnTo>
                    <a:pt x="659" y="129"/>
                  </a:lnTo>
                  <a:lnTo>
                    <a:pt x="669" y="140"/>
                  </a:lnTo>
                  <a:lnTo>
                    <a:pt x="672" y="150"/>
                  </a:lnTo>
                  <a:lnTo>
                    <a:pt x="671" y="157"/>
                  </a:lnTo>
                  <a:lnTo>
                    <a:pt x="661" y="165"/>
                  </a:lnTo>
                  <a:lnTo>
                    <a:pt x="634" y="174"/>
                  </a:lnTo>
                  <a:lnTo>
                    <a:pt x="637" y="197"/>
                  </a:lnTo>
                  <a:lnTo>
                    <a:pt x="640" y="220"/>
                  </a:lnTo>
                  <a:lnTo>
                    <a:pt x="640" y="236"/>
                  </a:lnTo>
                  <a:lnTo>
                    <a:pt x="652" y="238"/>
                  </a:lnTo>
                  <a:lnTo>
                    <a:pt x="669" y="270"/>
                  </a:lnTo>
                  <a:lnTo>
                    <a:pt x="793" y="402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6"/>
                  </a:lnTo>
                  <a:lnTo>
                    <a:pt x="788" y="446"/>
                  </a:lnTo>
                  <a:lnTo>
                    <a:pt x="784" y="454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8" y="473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0"/>
                  </a:lnTo>
                  <a:lnTo>
                    <a:pt x="843" y="517"/>
                  </a:lnTo>
                  <a:lnTo>
                    <a:pt x="873" y="508"/>
                  </a:lnTo>
                  <a:lnTo>
                    <a:pt x="889" y="504"/>
                  </a:lnTo>
                  <a:lnTo>
                    <a:pt x="905" y="501"/>
                  </a:lnTo>
                  <a:lnTo>
                    <a:pt x="916" y="497"/>
                  </a:lnTo>
                  <a:lnTo>
                    <a:pt x="962" y="466"/>
                  </a:lnTo>
                  <a:lnTo>
                    <a:pt x="1021" y="402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7"/>
                  </a:lnTo>
                  <a:lnTo>
                    <a:pt x="1069" y="349"/>
                  </a:lnTo>
                  <a:lnTo>
                    <a:pt x="1078" y="337"/>
                  </a:lnTo>
                  <a:lnTo>
                    <a:pt x="1209" y="333"/>
                  </a:lnTo>
                  <a:lnTo>
                    <a:pt x="1122" y="383"/>
                  </a:lnTo>
                  <a:lnTo>
                    <a:pt x="1105" y="402"/>
                  </a:lnTo>
                  <a:lnTo>
                    <a:pt x="1080" y="444"/>
                  </a:lnTo>
                  <a:lnTo>
                    <a:pt x="1083" y="454"/>
                  </a:lnTo>
                  <a:lnTo>
                    <a:pt x="1018" y="567"/>
                  </a:lnTo>
                  <a:lnTo>
                    <a:pt x="997" y="625"/>
                  </a:lnTo>
                  <a:lnTo>
                    <a:pt x="971" y="646"/>
                  </a:lnTo>
                  <a:lnTo>
                    <a:pt x="946" y="662"/>
                  </a:lnTo>
                  <a:lnTo>
                    <a:pt x="913" y="677"/>
                  </a:lnTo>
                  <a:lnTo>
                    <a:pt x="891" y="681"/>
                  </a:lnTo>
                  <a:lnTo>
                    <a:pt x="872" y="682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05360" y="3137040"/>
              <a:ext cx="3034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4"/>
                  </a:lnTo>
                  <a:lnTo>
                    <a:pt x="557" y="128"/>
                  </a:lnTo>
                  <a:lnTo>
                    <a:pt x="551" y="134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2"/>
                  </a:lnTo>
                  <a:lnTo>
                    <a:pt x="189" y="178"/>
                  </a:lnTo>
                  <a:lnTo>
                    <a:pt x="188" y="173"/>
                  </a:lnTo>
                  <a:lnTo>
                    <a:pt x="183" y="168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8" y="179"/>
                  </a:lnTo>
                  <a:lnTo>
                    <a:pt x="159" y="187"/>
                  </a:lnTo>
                  <a:lnTo>
                    <a:pt x="159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8" y="196"/>
                  </a:lnTo>
                  <a:lnTo>
                    <a:pt x="189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3" y="14"/>
                  </a:lnTo>
                  <a:lnTo>
                    <a:pt x="90" y="7"/>
                  </a:lnTo>
                  <a:lnTo>
                    <a:pt x="101" y="5"/>
                  </a:lnTo>
                  <a:lnTo>
                    <a:pt x="274" y="20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5"/>
                  </a:lnTo>
                  <a:lnTo>
                    <a:pt x="290" y="53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1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4" y="34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3" y="56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3" y="58"/>
                  </a:lnTo>
                  <a:lnTo>
                    <a:pt x="673" y="56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0"/>
                  </a:lnTo>
                  <a:lnTo>
                    <a:pt x="720" y="100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8" y="113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05360" y="3137040"/>
              <a:ext cx="3034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4"/>
                  </a:lnTo>
                  <a:lnTo>
                    <a:pt x="557" y="128"/>
                  </a:lnTo>
                  <a:lnTo>
                    <a:pt x="551" y="134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2"/>
                  </a:lnTo>
                  <a:lnTo>
                    <a:pt x="189" y="178"/>
                  </a:lnTo>
                  <a:lnTo>
                    <a:pt x="188" y="173"/>
                  </a:lnTo>
                  <a:lnTo>
                    <a:pt x="183" y="168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8" y="179"/>
                  </a:lnTo>
                  <a:lnTo>
                    <a:pt x="159" y="187"/>
                  </a:lnTo>
                  <a:lnTo>
                    <a:pt x="159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8" y="196"/>
                  </a:lnTo>
                  <a:lnTo>
                    <a:pt x="189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3" y="14"/>
                  </a:lnTo>
                  <a:lnTo>
                    <a:pt x="90" y="7"/>
                  </a:lnTo>
                  <a:lnTo>
                    <a:pt x="101" y="5"/>
                  </a:lnTo>
                  <a:lnTo>
                    <a:pt x="274" y="20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5"/>
                  </a:lnTo>
                  <a:lnTo>
                    <a:pt x="290" y="53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1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4" y="34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3" y="56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3" y="58"/>
                  </a:lnTo>
                  <a:lnTo>
                    <a:pt x="673" y="56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0"/>
                  </a:lnTo>
                  <a:lnTo>
                    <a:pt x="720" y="100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8" y="113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97360" y="304308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22920" y="257328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638" y="690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6"/>
                  </a:lnTo>
                  <a:lnTo>
                    <a:pt x="664" y="603"/>
                  </a:lnTo>
                  <a:lnTo>
                    <a:pt x="645" y="588"/>
                  </a:lnTo>
                  <a:lnTo>
                    <a:pt x="646" y="614"/>
                  </a:lnTo>
                  <a:lnTo>
                    <a:pt x="643" y="637"/>
                  </a:lnTo>
                  <a:lnTo>
                    <a:pt x="638" y="690"/>
                  </a:lnTo>
                  <a:close/>
                  <a:moveTo>
                    <a:pt x="870" y="683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6" y="878"/>
                  </a:lnTo>
                  <a:lnTo>
                    <a:pt x="853" y="950"/>
                  </a:lnTo>
                  <a:lnTo>
                    <a:pt x="837" y="1021"/>
                  </a:lnTo>
                  <a:lnTo>
                    <a:pt x="823" y="1071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1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6" y="1213"/>
                  </a:lnTo>
                  <a:lnTo>
                    <a:pt x="818" y="1217"/>
                  </a:lnTo>
                  <a:lnTo>
                    <a:pt x="823" y="1223"/>
                  </a:lnTo>
                  <a:lnTo>
                    <a:pt x="828" y="1233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6"/>
                  </a:lnTo>
                  <a:lnTo>
                    <a:pt x="900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4"/>
                  </a:lnTo>
                  <a:lnTo>
                    <a:pt x="864" y="1317"/>
                  </a:lnTo>
                  <a:lnTo>
                    <a:pt x="829" y="1315"/>
                  </a:lnTo>
                  <a:lnTo>
                    <a:pt x="798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7" y="1272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4"/>
                  </a:lnTo>
                  <a:lnTo>
                    <a:pt x="676" y="1126"/>
                  </a:lnTo>
                  <a:lnTo>
                    <a:pt x="682" y="1117"/>
                  </a:lnTo>
                  <a:lnTo>
                    <a:pt x="682" y="1073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70" y="1044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1" y="939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1" y="1207"/>
                  </a:lnTo>
                  <a:lnTo>
                    <a:pt x="378" y="1233"/>
                  </a:lnTo>
                  <a:lnTo>
                    <a:pt x="375" y="1252"/>
                  </a:lnTo>
                  <a:lnTo>
                    <a:pt x="368" y="1272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2"/>
                  </a:lnTo>
                  <a:lnTo>
                    <a:pt x="143" y="1371"/>
                  </a:lnTo>
                  <a:lnTo>
                    <a:pt x="130" y="1366"/>
                  </a:lnTo>
                  <a:lnTo>
                    <a:pt x="116" y="1343"/>
                  </a:lnTo>
                  <a:lnTo>
                    <a:pt x="106" y="1315"/>
                  </a:lnTo>
                  <a:lnTo>
                    <a:pt x="99" y="1291"/>
                  </a:lnTo>
                  <a:lnTo>
                    <a:pt x="93" y="1262"/>
                  </a:lnTo>
                  <a:lnTo>
                    <a:pt x="93" y="1235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4" y="1071"/>
                  </a:lnTo>
                  <a:lnTo>
                    <a:pt x="82" y="1047"/>
                  </a:lnTo>
                  <a:lnTo>
                    <a:pt x="97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2" y="975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6" y="946"/>
                  </a:lnTo>
                  <a:lnTo>
                    <a:pt x="29" y="932"/>
                  </a:lnTo>
                  <a:lnTo>
                    <a:pt x="22" y="921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30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8"/>
                  </a:lnTo>
                  <a:lnTo>
                    <a:pt x="19" y="735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3" y="714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3" y="671"/>
                  </a:lnTo>
                  <a:lnTo>
                    <a:pt x="46" y="667"/>
                  </a:lnTo>
                  <a:lnTo>
                    <a:pt x="51" y="667"/>
                  </a:lnTo>
                  <a:lnTo>
                    <a:pt x="51" y="659"/>
                  </a:lnTo>
                  <a:lnTo>
                    <a:pt x="82" y="659"/>
                  </a:lnTo>
                  <a:lnTo>
                    <a:pt x="82" y="667"/>
                  </a:lnTo>
                  <a:lnTo>
                    <a:pt x="87" y="667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7"/>
                  </a:lnTo>
                  <a:lnTo>
                    <a:pt x="88" y="711"/>
                  </a:lnTo>
                  <a:lnTo>
                    <a:pt x="93" y="714"/>
                  </a:lnTo>
                  <a:lnTo>
                    <a:pt x="101" y="714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1" y="687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5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7" y="456"/>
                  </a:lnTo>
                  <a:lnTo>
                    <a:pt x="169" y="423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4" y="357"/>
                  </a:lnTo>
                  <a:lnTo>
                    <a:pt x="190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1" y="242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8" y="199"/>
                  </a:lnTo>
                  <a:lnTo>
                    <a:pt x="365" y="175"/>
                  </a:lnTo>
                  <a:lnTo>
                    <a:pt x="363" y="150"/>
                  </a:lnTo>
                  <a:lnTo>
                    <a:pt x="363" y="126"/>
                  </a:lnTo>
                  <a:lnTo>
                    <a:pt x="368" y="100"/>
                  </a:lnTo>
                  <a:lnTo>
                    <a:pt x="378" y="72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1"/>
                  </a:lnTo>
                  <a:lnTo>
                    <a:pt x="467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6"/>
                  </a:lnTo>
                  <a:lnTo>
                    <a:pt x="607" y="32"/>
                  </a:lnTo>
                  <a:lnTo>
                    <a:pt x="620" y="50"/>
                  </a:lnTo>
                  <a:lnTo>
                    <a:pt x="638" y="87"/>
                  </a:lnTo>
                  <a:lnTo>
                    <a:pt x="659" y="131"/>
                  </a:lnTo>
                  <a:lnTo>
                    <a:pt x="667" y="142"/>
                  </a:lnTo>
                  <a:lnTo>
                    <a:pt x="672" y="150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6" y="199"/>
                  </a:lnTo>
                  <a:lnTo>
                    <a:pt x="638" y="221"/>
                  </a:lnTo>
                  <a:lnTo>
                    <a:pt x="638" y="237"/>
                  </a:lnTo>
                  <a:lnTo>
                    <a:pt x="651" y="239"/>
                  </a:lnTo>
                  <a:lnTo>
                    <a:pt x="667" y="270"/>
                  </a:lnTo>
                  <a:lnTo>
                    <a:pt x="793" y="402"/>
                  </a:lnTo>
                  <a:lnTo>
                    <a:pt x="798" y="412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8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6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2"/>
                  </a:lnTo>
                  <a:lnTo>
                    <a:pt x="1028" y="404"/>
                  </a:lnTo>
                  <a:lnTo>
                    <a:pt x="1060" y="367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7"/>
                  </a:lnTo>
                  <a:lnTo>
                    <a:pt x="971" y="646"/>
                  </a:lnTo>
                  <a:lnTo>
                    <a:pt x="945" y="663"/>
                  </a:lnTo>
                  <a:lnTo>
                    <a:pt x="913" y="677"/>
                  </a:lnTo>
                  <a:lnTo>
                    <a:pt x="890" y="682"/>
                  </a:lnTo>
                  <a:lnTo>
                    <a:pt x="870" y="683"/>
                  </a:lnTo>
                  <a:close/>
                  <a:moveTo>
                    <a:pt x="127" y="715"/>
                  </a:moveTo>
                  <a:lnTo>
                    <a:pt x="117" y="723"/>
                  </a:lnTo>
                  <a:lnTo>
                    <a:pt x="121" y="729"/>
                  </a:lnTo>
                  <a:lnTo>
                    <a:pt x="124" y="736"/>
                  </a:lnTo>
                  <a:lnTo>
                    <a:pt x="127" y="729"/>
                  </a:lnTo>
                  <a:lnTo>
                    <a:pt x="129" y="722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722920" y="257328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870" y="683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6" y="878"/>
                  </a:lnTo>
                  <a:lnTo>
                    <a:pt x="853" y="950"/>
                  </a:lnTo>
                  <a:lnTo>
                    <a:pt x="837" y="1021"/>
                  </a:lnTo>
                  <a:lnTo>
                    <a:pt x="823" y="1071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1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6" y="1213"/>
                  </a:lnTo>
                  <a:lnTo>
                    <a:pt x="818" y="1217"/>
                  </a:lnTo>
                  <a:lnTo>
                    <a:pt x="823" y="1223"/>
                  </a:lnTo>
                  <a:lnTo>
                    <a:pt x="828" y="1233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6"/>
                  </a:lnTo>
                  <a:lnTo>
                    <a:pt x="900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4"/>
                  </a:lnTo>
                  <a:lnTo>
                    <a:pt x="864" y="1317"/>
                  </a:lnTo>
                  <a:lnTo>
                    <a:pt x="829" y="1315"/>
                  </a:lnTo>
                  <a:lnTo>
                    <a:pt x="798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7" y="1272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4"/>
                  </a:lnTo>
                  <a:lnTo>
                    <a:pt x="676" y="1126"/>
                  </a:lnTo>
                  <a:lnTo>
                    <a:pt x="682" y="1117"/>
                  </a:lnTo>
                  <a:lnTo>
                    <a:pt x="682" y="1073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70" y="1044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1" y="939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1" y="1207"/>
                  </a:lnTo>
                  <a:lnTo>
                    <a:pt x="378" y="1233"/>
                  </a:lnTo>
                  <a:lnTo>
                    <a:pt x="375" y="1252"/>
                  </a:lnTo>
                  <a:lnTo>
                    <a:pt x="368" y="1272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2"/>
                  </a:lnTo>
                  <a:lnTo>
                    <a:pt x="143" y="1371"/>
                  </a:lnTo>
                  <a:lnTo>
                    <a:pt x="130" y="1366"/>
                  </a:lnTo>
                  <a:lnTo>
                    <a:pt x="116" y="1343"/>
                  </a:lnTo>
                  <a:lnTo>
                    <a:pt x="106" y="1315"/>
                  </a:lnTo>
                  <a:lnTo>
                    <a:pt x="99" y="1291"/>
                  </a:lnTo>
                  <a:lnTo>
                    <a:pt x="93" y="1262"/>
                  </a:lnTo>
                  <a:lnTo>
                    <a:pt x="93" y="1235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4" y="1071"/>
                  </a:lnTo>
                  <a:lnTo>
                    <a:pt x="82" y="1047"/>
                  </a:lnTo>
                  <a:lnTo>
                    <a:pt x="97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2" y="975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6" y="946"/>
                  </a:lnTo>
                  <a:lnTo>
                    <a:pt x="29" y="932"/>
                  </a:lnTo>
                  <a:lnTo>
                    <a:pt x="22" y="921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30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8"/>
                  </a:lnTo>
                  <a:lnTo>
                    <a:pt x="19" y="735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3" y="714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3" y="671"/>
                  </a:lnTo>
                  <a:lnTo>
                    <a:pt x="46" y="667"/>
                  </a:lnTo>
                  <a:lnTo>
                    <a:pt x="51" y="667"/>
                  </a:lnTo>
                  <a:lnTo>
                    <a:pt x="51" y="659"/>
                  </a:lnTo>
                  <a:lnTo>
                    <a:pt x="82" y="659"/>
                  </a:lnTo>
                  <a:lnTo>
                    <a:pt x="82" y="667"/>
                  </a:lnTo>
                  <a:lnTo>
                    <a:pt x="87" y="667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7"/>
                  </a:lnTo>
                  <a:lnTo>
                    <a:pt x="88" y="711"/>
                  </a:lnTo>
                  <a:lnTo>
                    <a:pt x="93" y="714"/>
                  </a:lnTo>
                  <a:lnTo>
                    <a:pt x="101" y="714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1" y="687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5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7" y="456"/>
                  </a:lnTo>
                  <a:lnTo>
                    <a:pt x="169" y="423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4" y="357"/>
                  </a:lnTo>
                  <a:lnTo>
                    <a:pt x="190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1" y="242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8" y="199"/>
                  </a:lnTo>
                  <a:lnTo>
                    <a:pt x="365" y="175"/>
                  </a:lnTo>
                  <a:lnTo>
                    <a:pt x="363" y="150"/>
                  </a:lnTo>
                  <a:lnTo>
                    <a:pt x="363" y="126"/>
                  </a:lnTo>
                  <a:lnTo>
                    <a:pt x="368" y="100"/>
                  </a:lnTo>
                  <a:lnTo>
                    <a:pt x="378" y="72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1"/>
                  </a:lnTo>
                  <a:lnTo>
                    <a:pt x="467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6"/>
                  </a:lnTo>
                  <a:lnTo>
                    <a:pt x="607" y="32"/>
                  </a:lnTo>
                  <a:lnTo>
                    <a:pt x="620" y="50"/>
                  </a:lnTo>
                  <a:lnTo>
                    <a:pt x="638" y="87"/>
                  </a:lnTo>
                  <a:lnTo>
                    <a:pt x="659" y="131"/>
                  </a:lnTo>
                  <a:lnTo>
                    <a:pt x="667" y="142"/>
                  </a:lnTo>
                  <a:lnTo>
                    <a:pt x="672" y="150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6" y="199"/>
                  </a:lnTo>
                  <a:lnTo>
                    <a:pt x="638" y="221"/>
                  </a:lnTo>
                  <a:lnTo>
                    <a:pt x="638" y="237"/>
                  </a:lnTo>
                  <a:lnTo>
                    <a:pt x="651" y="239"/>
                  </a:lnTo>
                  <a:lnTo>
                    <a:pt x="667" y="270"/>
                  </a:lnTo>
                  <a:lnTo>
                    <a:pt x="793" y="402"/>
                  </a:lnTo>
                  <a:lnTo>
                    <a:pt x="798" y="412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8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6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2"/>
                  </a:lnTo>
                  <a:lnTo>
                    <a:pt x="1028" y="404"/>
                  </a:lnTo>
                  <a:lnTo>
                    <a:pt x="1060" y="367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7"/>
                  </a:lnTo>
                  <a:lnTo>
                    <a:pt x="971" y="646"/>
                  </a:lnTo>
                  <a:lnTo>
                    <a:pt x="945" y="663"/>
                  </a:lnTo>
                  <a:lnTo>
                    <a:pt x="913" y="677"/>
                  </a:lnTo>
                  <a:lnTo>
                    <a:pt x="890" y="682"/>
                  </a:lnTo>
                  <a:lnTo>
                    <a:pt x="870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34240" y="2633760"/>
              <a:ext cx="301320" cy="85680"/>
            </a:xfrm>
            <a:custGeom>
              <a:avLst/>
              <a:gdLst/>
              <a:ahLst/>
              <a:rect l="l" t="t" r="r" b="b"/>
              <a:pathLst>
                <a:path w="952" h="270">
                  <a:moveTo>
                    <a:pt x="669" y="130"/>
                  </a:moveTo>
                  <a:lnTo>
                    <a:pt x="654" y="125"/>
                  </a:lnTo>
                  <a:lnTo>
                    <a:pt x="556" y="128"/>
                  </a:lnTo>
                  <a:lnTo>
                    <a:pt x="551" y="133"/>
                  </a:lnTo>
                  <a:lnTo>
                    <a:pt x="658" y="138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4"/>
                  </a:lnTo>
                  <a:lnTo>
                    <a:pt x="378" y="144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2"/>
                  </a:lnTo>
                  <a:lnTo>
                    <a:pt x="184" y="168"/>
                  </a:lnTo>
                  <a:lnTo>
                    <a:pt x="181" y="167"/>
                  </a:lnTo>
                  <a:lnTo>
                    <a:pt x="176" y="167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60" y="186"/>
                  </a:lnTo>
                  <a:lnTo>
                    <a:pt x="160" y="193"/>
                  </a:lnTo>
                  <a:lnTo>
                    <a:pt x="156" y="196"/>
                  </a:lnTo>
                  <a:lnTo>
                    <a:pt x="151" y="199"/>
                  </a:lnTo>
                  <a:lnTo>
                    <a:pt x="182" y="199"/>
                  </a:lnTo>
                  <a:lnTo>
                    <a:pt x="186" y="199"/>
                  </a:lnTo>
                  <a:lnTo>
                    <a:pt x="187" y="196"/>
                  </a:lnTo>
                  <a:lnTo>
                    <a:pt x="189" y="193"/>
                  </a:lnTo>
                  <a:lnTo>
                    <a:pt x="195" y="209"/>
                  </a:lnTo>
                  <a:lnTo>
                    <a:pt x="126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4" y="15"/>
                  </a:lnTo>
                  <a:lnTo>
                    <a:pt x="90" y="7"/>
                  </a:lnTo>
                  <a:lnTo>
                    <a:pt x="102" y="5"/>
                  </a:lnTo>
                  <a:lnTo>
                    <a:pt x="274" y="20"/>
                  </a:lnTo>
                  <a:lnTo>
                    <a:pt x="281" y="23"/>
                  </a:lnTo>
                  <a:lnTo>
                    <a:pt x="289" y="29"/>
                  </a:lnTo>
                  <a:lnTo>
                    <a:pt x="292" y="36"/>
                  </a:lnTo>
                  <a:lnTo>
                    <a:pt x="292" y="46"/>
                  </a:lnTo>
                  <a:lnTo>
                    <a:pt x="291" y="52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79" y="51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31" y="58"/>
                  </a:lnTo>
                  <a:lnTo>
                    <a:pt x="137" y="60"/>
                  </a:lnTo>
                  <a:lnTo>
                    <a:pt x="270" y="60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6" y="42"/>
                  </a:lnTo>
                  <a:lnTo>
                    <a:pt x="721" y="42"/>
                  </a:lnTo>
                  <a:lnTo>
                    <a:pt x="721" y="21"/>
                  </a:lnTo>
                  <a:lnTo>
                    <a:pt x="708" y="21"/>
                  </a:lnTo>
                  <a:lnTo>
                    <a:pt x="682" y="55"/>
                  </a:lnTo>
                  <a:lnTo>
                    <a:pt x="682" y="58"/>
                  </a:lnTo>
                  <a:lnTo>
                    <a:pt x="683" y="58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21" y="0"/>
                  </a:lnTo>
                  <a:lnTo>
                    <a:pt x="727" y="3"/>
                  </a:lnTo>
                  <a:lnTo>
                    <a:pt x="732" y="9"/>
                  </a:lnTo>
                  <a:lnTo>
                    <a:pt x="737" y="73"/>
                  </a:lnTo>
                  <a:lnTo>
                    <a:pt x="842" y="73"/>
                  </a:lnTo>
                  <a:lnTo>
                    <a:pt x="852" y="68"/>
                  </a:lnTo>
                  <a:lnTo>
                    <a:pt x="926" y="65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5"/>
                  </a:lnTo>
                  <a:lnTo>
                    <a:pt x="952" y="65"/>
                  </a:lnTo>
                  <a:lnTo>
                    <a:pt x="952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7" y="91"/>
                  </a:lnTo>
                  <a:lnTo>
                    <a:pt x="737" y="100"/>
                  </a:lnTo>
                  <a:lnTo>
                    <a:pt x="721" y="100"/>
                  </a:lnTo>
                  <a:lnTo>
                    <a:pt x="721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7" y="113"/>
                  </a:lnTo>
                  <a:lnTo>
                    <a:pt x="669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34240" y="2633760"/>
              <a:ext cx="301320" cy="85680"/>
            </a:xfrm>
            <a:custGeom>
              <a:avLst/>
              <a:gdLst/>
              <a:ahLst/>
              <a:rect l="l" t="t" r="r" b="b"/>
              <a:pathLst>
                <a:path w="952" h="270">
                  <a:moveTo>
                    <a:pt x="669" y="130"/>
                  </a:moveTo>
                  <a:lnTo>
                    <a:pt x="654" y="125"/>
                  </a:lnTo>
                  <a:lnTo>
                    <a:pt x="556" y="128"/>
                  </a:lnTo>
                  <a:lnTo>
                    <a:pt x="551" y="133"/>
                  </a:lnTo>
                  <a:lnTo>
                    <a:pt x="658" y="138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4"/>
                  </a:lnTo>
                  <a:lnTo>
                    <a:pt x="378" y="144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2"/>
                  </a:lnTo>
                  <a:lnTo>
                    <a:pt x="184" y="168"/>
                  </a:lnTo>
                  <a:lnTo>
                    <a:pt x="181" y="167"/>
                  </a:lnTo>
                  <a:lnTo>
                    <a:pt x="176" y="167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60" y="186"/>
                  </a:lnTo>
                  <a:lnTo>
                    <a:pt x="160" y="193"/>
                  </a:lnTo>
                  <a:lnTo>
                    <a:pt x="156" y="196"/>
                  </a:lnTo>
                  <a:lnTo>
                    <a:pt x="151" y="199"/>
                  </a:lnTo>
                  <a:lnTo>
                    <a:pt x="182" y="199"/>
                  </a:lnTo>
                  <a:lnTo>
                    <a:pt x="186" y="199"/>
                  </a:lnTo>
                  <a:lnTo>
                    <a:pt x="187" y="196"/>
                  </a:lnTo>
                  <a:lnTo>
                    <a:pt x="189" y="193"/>
                  </a:lnTo>
                  <a:lnTo>
                    <a:pt x="195" y="209"/>
                  </a:lnTo>
                  <a:lnTo>
                    <a:pt x="126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4" y="15"/>
                  </a:lnTo>
                  <a:lnTo>
                    <a:pt x="90" y="7"/>
                  </a:lnTo>
                  <a:lnTo>
                    <a:pt x="102" y="5"/>
                  </a:lnTo>
                  <a:lnTo>
                    <a:pt x="274" y="20"/>
                  </a:lnTo>
                  <a:lnTo>
                    <a:pt x="281" y="23"/>
                  </a:lnTo>
                  <a:lnTo>
                    <a:pt x="289" y="29"/>
                  </a:lnTo>
                  <a:lnTo>
                    <a:pt x="292" y="36"/>
                  </a:lnTo>
                  <a:lnTo>
                    <a:pt x="292" y="46"/>
                  </a:lnTo>
                  <a:lnTo>
                    <a:pt x="291" y="52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79" y="51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31" y="58"/>
                  </a:lnTo>
                  <a:lnTo>
                    <a:pt x="137" y="60"/>
                  </a:lnTo>
                  <a:lnTo>
                    <a:pt x="270" y="60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6" y="42"/>
                  </a:lnTo>
                  <a:lnTo>
                    <a:pt x="721" y="42"/>
                  </a:lnTo>
                  <a:lnTo>
                    <a:pt x="721" y="21"/>
                  </a:lnTo>
                  <a:lnTo>
                    <a:pt x="708" y="21"/>
                  </a:lnTo>
                  <a:lnTo>
                    <a:pt x="682" y="55"/>
                  </a:lnTo>
                  <a:lnTo>
                    <a:pt x="682" y="58"/>
                  </a:lnTo>
                  <a:lnTo>
                    <a:pt x="683" y="58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21" y="0"/>
                  </a:lnTo>
                  <a:lnTo>
                    <a:pt x="727" y="3"/>
                  </a:lnTo>
                  <a:lnTo>
                    <a:pt x="732" y="9"/>
                  </a:lnTo>
                  <a:lnTo>
                    <a:pt x="737" y="73"/>
                  </a:lnTo>
                  <a:lnTo>
                    <a:pt x="842" y="73"/>
                  </a:lnTo>
                  <a:lnTo>
                    <a:pt x="852" y="68"/>
                  </a:lnTo>
                  <a:lnTo>
                    <a:pt x="926" y="65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5"/>
                  </a:lnTo>
                  <a:lnTo>
                    <a:pt x="952" y="65"/>
                  </a:lnTo>
                  <a:lnTo>
                    <a:pt x="952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7" y="91"/>
                  </a:lnTo>
                  <a:lnTo>
                    <a:pt x="737" y="100"/>
                  </a:lnTo>
                  <a:lnTo>
                    <a:pt x="721" y="100"/>
                  </a:lnTo>
                  <a:lnTo>
                    <a:pt x="721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7" y="113"/>
                  </a:lnTo>
                  <a:lnTo>
                    <a:pt x="669" y="13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611680" y="254016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637240" y="2070000"/>
              <a:ext cx="382680" cy="4460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40" y="690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4" y="603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40" y="690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7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8"/>
                  </a:lnTo>
                  <a:lnTo>
                    <a:pt x="278" y="1398"/>
                  </a:lnTo>
                  <a:lnTo>
                    <a:pt x="247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09"/>
                  </a:lnTo>
                  <a:lnTo>
                    <a:pt x="118" y="1089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2" y="982"/>
                  </a:lnTo>
                  <a:lnTo>
                    <a:pt x="90" y="978"/>
                  </a:lnTo>
                  <a:lnTo>
                    <a:pt x="83" y="975"/>
                  </a:lnTo>
                  <a:lnTo>
                    <a:pt x="77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1" y="831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3"/>
                  </a:lnTo>
                  <a:lnTo>
                    <a:pt x="9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9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1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40" y="220"/>
                  </a:lnTo>
                  <a:lnTo>
                    <a:pt x="640" y="237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4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1" y="729"/>
                  </a:lnTo>
                  <a:lnTo>
                    <a:pt x="125" y="735"/>
                  </a:lnTo>
                  <a:lnTo>
                    <a:pt x="127" y="729"/>
                  </a:lnTo>
                  <a:lnTo>
                    <a:pt x="129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637240" y="2070000"/>
              <a:ext cx="382680" cy="4460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7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8"/>
                  </a:lnTo>
                  <a:lnTo>
                    <a:pt x="278" y="1398"/>
                  </a:lnTo>
                  <a:lnTo>
                    <a:pt x="247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09"/>
                  </a:lnTo>
                  <a:lnTo>
                    <a:pt x="118" y="1089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2" y="982"/>
                  </a:lnTo>
                  <a:lnTo>
                    <a:pt x="90" y="978"/>
                  </a:lnTo>
                  <a:lnTo>
                    <a:pt x="83" y="975"/>
                  </a:lnTo>
                  <a:lnTo>
                    <a:pt x="77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1" y="831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3"/>
                  </a:lnTo>
                  <a:lnTo>
                    <a:pt x="9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9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1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40" y="220"/>
                  </a:lnTo>
                  <a:lnTo>
                    <a:pt x="640" y="237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48200" y="213048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8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89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2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6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5"/>
                  </a:lnTo>
                  <a:lnTo>
                    <a:pt x="678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848200" y="213048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8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89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2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6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5"/>
                  </a:lnTo>
                  <a:lnTo>
                    <a:pt x="678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042920" y="98100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Imprint MT Shadow"/>
              </a:rPr>
              <a:t>HIV TES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Imprint MT Shadow"/>
              </a:rPr>
              <a:t>SHOULD HA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835280" y="28526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Imprint MT Shadow"/>
              </a:rPr>
              <a:t>2 TESTS             3 – 6 MONTH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059280" y="4941720"/>
            <a:ext cx="32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Imprint MT Shadow"/>
              </a:rPr>
              <a:t>AP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1901880" y="1176480"/>
            <a:ext cx="5337000" cy="4505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092760" y="54756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1f1a17"/>
                </a:solidFill>
                <a:latin typeface="Geometr231 Hv BT"/>
              </a:rPr>
              <a:t>HIV TESTING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85600" y="1193760"/>
            <a:ext cx="220140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b0e72"/>
                </a:solidFill>
                <a:latin typeface="Geometr231 Hv BT"/>
              </a:rPr>
              <a:t>HOW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2427120" y="2327400"/>
            <a:ext cx="4660200" cy="3215880"/>
            <a:chOff x="2427120" y="2327400"/>
            <a:chExt cx="4660200" cy="3215880"/>
          </a:xfrm>
        </p:grpSpPr>
        <p:sp>
          <p:nvSpPr>
            <p:cNvPr id="718" name=""/>
            <p:cNvSpPr/>
            <p:nvPr/>
          </p:nvSpPr>
          <p:spPr>
            <a:xfrm>
              <a:off x="2533320" y="2327400"/>
              <a:ext cx="388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Only after informed consen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01640" y="2963880"/>
              <a:ext cx="4418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Always with pre-test counselling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555640" y="3600360"/>
              <a:ext cx="4531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1 Tube of blood taken by nurse /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572560" y="3917880"/>
              <a:ext cx="3057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Doctor and sent to lab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538000" y="4556160"/>
              <a:ext cx="4481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2-10 Days before result availabl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75720" y="5192640"/>
              <a:ext cx="4319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Post-test counselling importan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27120" y="2411280"/>
              <a:ext cx="196920" cy="155880"/>
            </a:xfrm>
            <a:custGeom>
              <a:avLst/>
              <a:gdLst/>
              <a:ahLst/>
              <a:rect l="l" t="t" r="r" b="b"/>
              <a:pathLst>
                <a:path w="496" h="392">
                  <a:moveTo>
                    <a:pt x="0" y="392"/>
                  </a:moveTo>
                  <a:lnTo>
                    <a:pt x="0" y="0"/>
                  </a:lnTo>
                  <a:lnTo>
                    <a:pt x="496" y="196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27120" y="3062160"/>
              <a:ext cx="196920" cy="154080"/>
            </a:xfrm>
            <a:custGeom>
              <a:avLst/>
              <a:gdLst/>
              <a:ahLst/>
              <a:rect l="l" t="t" r="r" b="b"/>
              <a:pathLst>
                <a:path w="496" h="391">
                  <a:moveTo>
                    <a:pt x="0" y="391"/>
                  </a:moveTo>
                  <a:lnTo>
                    <a:pt x="0" y="0"/>
                  </a:lnTo>
                  <a:lnTo>
                    <a:pt x="496" y="195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27120" y="3699000"/>
              <a:ext cx="196920" cy="155520"/>
            </a:xfrm>
            <a:custGeom>
              <a:avLst/>
              <a:gdLst/>
              <a:ahLst/>
              <a:rect l="l" t="t" r="r" b="b"/>
              <a:pathLst>
                <a:path w="496" h="392">
                  <a:moveTo>
                    <a:pt x="0" y="392"/>
                  </a:moveTo>
                  <a:lnTo>
                    <a:pt x="0" y="0"/>
                  </a:lnTo>
                  <a:lnTo>
                    <a:pt x="496" y="196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27120" y="4660920"/>
              <a:ext cx="196920" cy="155520"/>
            </a:xfrm>
            <a:custGeom>
              <a:avLst/>
              <a:gdLst/>
              <a:ahLst/>
              <a:rect l="l" t="t" r="r" b="b"/>
              <a:pathLst>
                <a:path w="496" h="391">
                  <a:moveTo>
                    <a:pt x="0" y="391"/>
                  </a:moveTo>
                  <a:lnTo>
                    <a:pt x="0" y="0"/>
                  </a:lnTo>
                  <a:lnTo>
                    <a:pt x="496" y="195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427120" y="5272200"/>
              <a:ext cx="196920" cy="153720"/>
            </a:xfrm>
            <a:custGeom>
              <a:avLst/>
              <a:gdLst/>
              <a:ahLst/>
              <a:rect l="l" t="t" r="r" b="b"/>
              <a:pathLst>
                <a:path w="496" h="391">
                  <a:moveTo>
                    <a:pt x="0" y="391"/>
                  </a:moveTo>
                  <a:lnTo>
                    <a:pt x="0" y="0"/>
                  </a:lnTo>
                  <a:lnTo>
                    <a:pt x="496" y="195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22T09:37:59Z</dcterms:modified>
  <cp:revision>233</cp:revision>
  <dc:subject/>
  <dc:title>No Slide Title</dc:title>
</cp:coreProperties>
</file>